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6.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1.png" ContentType="image/png"/>
  <Override PartName="/ppt/media/image6.wmf" ContentType="image/x-wmf"/>
  <Override PartName="/ppt/media/image9.wmf" ContentType="image/x-wmf"/>
  <Override PartName="/ppt/media/image12.png" ContentType="image/png"/>
  <Override PartName="/ppt/media/image19.wmf" ContentType="image/x-wmf"/>
  <Override PartName="/ppt/media/image18.png" ContentType="image/png"/>
  <Override PartName="/ppt/media/image17.wmf" ContentType="image/x-wmf"/>
  <Override PartName="/ppt/media/image16.png" ContentType="image/png"/>
  <Override PartName="/ppt/media/image14.wmf" ContentType="image/x-wmf"/>
  <Override PartName="/ppt/media/image1.png" ContentType="image/png"/>
  <Override PartName="/ppt/media/image2.jpeg" ContentType="image/jpeg"/>
  <Override PartName="/ppt/media/image15.jpeg" ContentType="image/jpeg"/>
  <Override PartName="/ppt/media/image3.wmf" ContentType="image/x-wmf"/>
  <Override PartName="/ppt/media/image4.wmf" ContentType="image/x-wmf"/>
  <Override PartName="/ppt/media/image5.png" ContentType="image/png"/>
  <Override PartName="/ppt/media/image10.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lick to move the slide</a:t>
            </a:r>
            <a:endParaRPr b="0" lang="en-US" sz="2400" spc="-1" strike="noStrike">
              <a:solidFill>
                <a:srgbClr val="000096"/>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11AA-414D-41A4-A801-FC45CFB09AF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DF70-3076-4160-9A54-C2AEF65C21E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06" name="PlaceHolder 1"/>
          <p:cNvSpPr>
            <a:spLocks noGrp="1"/>
          </p:cNvSpPr>
          <p:nvPr>
            <p:ph type="sldImg"/>
          </p:nvPr>
        </p:nvSpPr>
        <p:spPr>
          <a:xfrm>
            <a:off x="1192320" y="706320"/>
            <a:ext cx="4519440" cy="3389400"/>
          </a:xfrm>
          <a:prstGeom prst="rect">
            <a:avLst/>
          </a:prstGeom>
          <a:ln w="0">
            <a:noFill/>
          </a:ln>
        </p:spPr>
      </p:sp>
      <p:sp>
        <p:nvSpPr>
          <p:cNvPr id="6107" name="PlaceHolder 2"/>
          <p:cNvSpPr>
            <a:spLocks noGrp="1"/>
          </p:cNvSpPr>
          <p:nvPr>
            <p:ph type="body"/>
          </p:nvPr>
        </p:nvSpPr>
        <p:spPr>
          <a:xfrm>
            <a:off x="941400" y="4377960"/>
            <a:ext cx="501984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AEFE-4E62-42FA-B78F-0E8EF016F84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12" name="PlaceHolder 1"/>
          <p:cNvSpPr>
            <a:spLocks noGrp="1"/>
          </p:cNvSpPr>
          <p:nvPr>
            <p:ph type="sldImg"/>
          </p:nvPr>
        </p:nvSpPr>
        <p:spPr>
          <a:xfrm>
            <a:off x="1192320" y="706320"/>
            <a:ext cx="4519440" cy="3389400"/>
          </a:xfrm>
          <a:prstGeom prst="rect">
            <a:avLst/>
          </a:prstGeom>
          <a:ln w="0">
            <a:noFill/>
          </a:ln>
        </p:spPr>
      </p:sp>
      <p:sp>
        <p:nvSpPr>
          <p:cNvPr id="6113" name="PlaceHolder 2"/>
          <p:cNvSpPr>
            <a:spLocks noGrp="1"/>
          </p:cNvSpPr>
          <p:nvPr>
            <p:ph type="body"/>
          </p:nvPr>
        </p:nvSpPr>
        <p:spPr>
          <a:xfrm>
            <a:off x="941400" y="4377960"/>
            <a:ext cx="501984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4282-5C92-4521-8220-D5A3ACCF57E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18" name="PlaceHolder 1"/>
          <p:cNvSpPr>
            <a:spLocks noGrp="1"/>
          </p:cNvSpPr>
          <p:nvPr>
            <p:ph type="sldImg"/>
          </p:nvPr>
        </p:nvSpPr>
        <p:spPr>
          <a:xfrm>
            <a:off x="1192320" y="706320"/>
            <a:ext cx="4519440" cy="3389400"/>
          </a:xfrm>
          <a:prstGeom prst="rect">
            <a:avLst/>
          </a:prstGeom>
          <a:ln w="0">
            <a:noFill/>
          </a:ln>
        </p:spPr>
      </p:sp>
      <p:sp>
        <p:nvSpPr>
          <p:cNvPr id="6119" name="PlaceHolder 2"/>
          <p:cNvSpPr>
            <a:spLocks noGrp="1"/>
          </p:cNvSpPr>
          <p:nvPr>
            <p:ph type="body"/>
          </p:nvPr>
        </p:nvSpPr>
        <p:spPr>
          <a:xfrm>
            <a:off x="941400" y="4377960"/>
            <a:ext cx="5019840" cy="409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m processo de negócio é algo perene e que se mantém atualizado. Já um projeto é um empreendimento temporário, com um fim único. Este slide mostra as principais diferenças: repetibilidade, temporalidade e objetivo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7F54-D1BB-4C13-BBDF-CB5FD344FAB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24" name="PlaceHolder 1"/>
          <p:cNvSpPr>
            <a:spLocks noGrp="1"/>
          </p:cNvSpPr>
          <p:nvPr>
            <p:ph type="sldImg"/>
          </p:nvPr>
        </p:nvSpPr>
        <p:spPr>
          <a:xfrm>
            <a:off x="1192320" y="706320"/>
            <a:ext cx="4519440" cy="3389400"/>
          </a:xfrm>
          <a:prstGeom prst="rect">
            <a:avLst/>
          </a:prstGeom>
          <a:ln w="0">
            <a:noFill/>
          </a:ln>
        </p:spPr>
      </p:sp>
      <p:sp>
        <p:nvSpPr>
          <p:cNvPr id="6125" name="PlaceHolder 2"/>
          <p:cNvSpPr>
            <a:spLocks noGrp="1"/>
          </p:cNvSpPr>
          <p:nvPr>
            <p:ph type="body"/>
          </p:nvPr>
        </p:nvSpPr>
        <p:spPr>
          <a:xfrm>
            <a:off x="941400" y="4377960"/>
            <a:ext cx="5019840" cy="409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iderando as definições anteriores, tem-se que, a melhor forma de uma empresa organizar o seu setor de desenvolvimento de produtos atualmente é a partir da visão de processos de negócio. A idéia é a seguinte: criar um processo de negócio, desenvolver produto, que sirva como um padrão geral para todos os produtos da empresa. Este processo tem métricas e objetivos relacionados ao conjunto de projetos e é descrito por meio de um Modelo de Referência padrão, divulgado para todas da empresa. O lançamento de cada produto, por sua vez, é gerenciado como um projeto, que tem metas, objetivos e características únicas. Apesar de ser único, ele deverá reutilizar as etapas e atividades-padrão especificadas no modelo de tal forma que os documentos e especificações (do produto e do empreendimento para desenvolvê-lo) mantenham um linguajar comum e possam reutilizar elementos desenvolvidos em outros projetos. Esta figura demonstra esta idéia, apresentado o processo e três exemplos de projetos. Note que o número de atividades é diferente em cada projeto, conforme a complexida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CF10-8F7B-4D9E-9DCC-F06563EEA41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30" name="PlaceHolder 1"/>
          <p:cNvSpPr>
            <a:spLocks noGrp="1"/>
          </p:cNvSpPr>
          <p:nvPr>
            <p:ph type="sldImg"/>
          </p:nvPr>
        </p:nvSpPr>
        <p:spPr>
          <a:xfrm>
            <a:off x="1192320" y="706320"/>
            <a:ext cx="4519440" cy="3389400"/>
          </a:xfrm>
          <a:prstGeom prst="rect">
            <a:avLst/>
          </a:prstGeom>
          <a:ln w="0">
            <a:noFill/>
          </a:ln>
        </p:spPr>
      </p:sp>
      <p:sp>
        <p:nvSpPr>
          <p:cNvPr id="6131" name="PlaceHolder 2"/>
          <p:cNvSpPr>
            <a:spLocks noGrp="1"/>
          </p:cNvSpPr>
          <p:nvPr>
            <p:ph type="body"/>
          </p:nvPr>
        </p:nvSpPr>
        <p:spPr>
          <a:xfrm>
            <a:off x="941400" y="4377960"/>
            <a:ext cx="501984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ED80-15A2-4E4A-B3F1-1428FB07FD7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36" name="PlaceHolder 1"/>
          <p:cNvSpPr>
            <a:spLocks noGrp="1"/>
          </p:cNvSpPr>
          <p:nvPr>
            <p:ph type="sldImg"/>
          </p:nvPr>
        </p:nvSpPr>
        <p:spPr>
          <a:xfrm>
            <a:off x="1192320" y="706320"/>
            <a:ext cx="4519440" cy="3389400"/>
          </a:xfrm>
          <a:prstGeom prst="rect">
            <a:avLst/>
          </a:prstGeom>
          <a:ln w="0">
            <a:noFill/>
          </a:ln>
        </p:spPr>
      </p:sp>
      <p:sp>
        <p:nvSpPr>
          <p:cNvPr id="6137" name="PlaceHolder 2"/>
          <p:cNvSpPr>
            <a:spLocks noGrp="1"/>
          </p:cNvSpPr>
          <p:nvPr>
            <p:ph type="body"/>
          </p:nvPr>
        </p:nvSpPr>
        <p:spPr>
          <a:xfrm>
            <a:off x="941400" y="4377960"/>
            <a:ext cx="501984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8" name="PlaceHolder 1"/>
          <p:cNvSpPr>
            <a:spLocks noGrp="1"/>
          </p:cNvSpPr>
          <p:nvPr>
            <p:ph type="sldImg"/>
          </p:nvPr>
        </p:nvSpPr>
        <p:spPr>
          <a:xfrm>
            <a:off x="1143000" y="685800"/>
            <a:ext cx="4572000" cy="3429000"/>
          </a:xfrm>
          <a:prstGeom prst="rect">
            <a:avLst/>
          </a:prstGeom>
          <a:ln w="0">
            <a:noFill/>
          </a:ln>
        </p:spPr>
      </p:sp>
      <p:sp>
        <p:nvSpPr>
          <p:cNvPr id="6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conceito muito importante é o de fase. Leia  a página 44 e 45 do livro e explique a figura e o exemplo. Uma fase é um momento do projeto em que há um avanço no desenvolvimento do produt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71F9-F6CB-4B64-B225-0A0B106BB23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44" name="PlaceHolder 1"/>
          <p:cNvSpPr>
            <a:spLocks noGrp="1"/>
          </p:cNvSpPr>
          <p:nvPr>
            <p:ph type="sldImg"/>
          </p:nvPr>
        </p:nvSpPr>
        <p:spPr>
          <a:xfrm>
            <a:off x="1144440" y="685800"/>
            <a:ext cx="4572000" cy="3429000"/>
          </a:xfrm>
          <a:prstGeom prst="rect">
            <a:avLst/>
          </a:prstGeom>
          <a:ln w="0">
            <a:noFill/>
          </a:ln>
        </p:spPr>
      </p:sp>
      <p:sp>
        <p:nvSpPr>
          <p:cNvPr id="6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que as três macro-fases do modelo, conforme apresentado nas páginas 47, 48 e 49 do livr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A0CA-F8B0-4A75-AD6A-897F9890F44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50" name="PlaceHolder 1"/>
          <p:cNvSpPr>
            <a:spLocks noGrp="1"/>
          </p:cNvSpPr>
          <p:nvPr>
            <p:ph type="sldImg"/>
          </p:nvPr>
        </p:nvSpPr>
        <p:spPr>
          <a:xfrm>
            <a:off x="1143000" y="685800"/>
            <a:ext cx="4572000" cy="3429000"/>
          </a:xfrm>
          <a:prstGeom prst="rect">
            <a:avLst/>
          </a:prstGeom>
          <a:ln w="0">
            <a:noFill/>
          </a:ln>
        </p:spPr>
      </p:sp>
      <p:sp>
        <p:nvSpPr>
          <p:cNvPr id="6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2" name="PlaceHolder 1"/>
          <p:cNvSpPr>
            <a:spLocks noGrp="1"/>
          </p:cNvSpPr>
          <p:nvPr>
            <p:ph type="sldImg"/>
          </p:nvPr>
        </p:nvSpPr>
        <p:spPr>
          <a:xfrm>
            <a:off x="1143000" y="685800"/>
            <a:ext cx="4572000" cy="3429000"/>
          </a:xfrm>
          <a:prstGeom prst="rect">
            <a:avLst/>
          </a:prstGeom>
          <a:ln w="0">
            <a:noFill/>
          </a:ln>
        </p:spPr>
      </p:sp>
      <p:sp>
        <p:nvSpPr>
          <p:cNvPr id="6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ação na página 61 do livr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4" name="PlaceHolder 1"/>
          <p:cNvSpPr>
            <a:spLocks noGrp="1"/>
          </p:cNvSpPr>
          <p:nvPr>
            <p:ph type="sldImg"/>
          </p:nvPr>
        </p:nvSpPr>
        <p:spPr>
          <a:xfrm>
            <a:off x="1143000" y="685800"/>
            <a:ext cx="4572000" cy="3429000"/>
          </a:xfrm>
          <a:prstGeom prst="rect">
            <a:avLst/>
          </a:prstGeom>
          <a:ln w="0">
            <a:noFill/>
          </a:ln>
        </p:spPr>
      </p:sp>
      <p:sp>
        <p:nvSpPr>
          <p:cNvPr id="6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ntar a diferença da duração das fases. Consulte as páginas 47 e 67-69.</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263B-D150-44F5-B2F3-50F81DD19E5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60" name="PlaceHolder 1"/>
          <p:cNvSpPr>
            <a:spLocks noGrp="1"/>
          </p:cNvSpPr>
          <p:nvPr>
            <p:ph type="sldImg"/>
          </p:nvPr>
        </p:nvSpPr>
        <p:spPr>
          <a:xfrm>
            <a:off x="1143000" y="685800"/>
            <a:ext cx="4572000" cy="3429000"/>
          </a:xfrm>
          <a:prstGeom prst="rect">
            <a:avLst/>
          </a:prstGeom>
          <a:ln w="0">
            <a:noFill/>
          </a:ln>
        </p:spPr>
      </p:sp>
      <p:sp>
        <p:nvSpPr>
          <p:cNvPr id="6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plicar o processo de realização dos gates, apresentado entre as páginas 70 e 75.</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2" name="PlaceHolder 1"/>
          <p:cNvSpPr>
            <a:spLocks noGrp="1"/>
          </p:cNvSpPr>
          <p:nvPr>
            <p:ph type="sldImg"/>
          </p:nvPr>
        </p:nvSpPr>
        <p:spPr>
          <a:xfrm>
            <a:off x="1143000" y="685800"/>
            <a:ext cx="4572000" cy="3429000"/>
          </a:xfrm>
          <a:prstGeom prst="rect">
            <a:avLst/>
          </a:prstGeom>
          <a:ln w="0">
            <a:noFill/>
          </a:ln>
        </p:spPr>
      </p:sp>
      <p:sp>
        <p:nvSpPr>
          <p:cNvPr id="6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esentar os itens do quadro 2.4, página 7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6" name="PlaceHolder 1"/>
          <p:cNvSpPr>
            <a:spLocks noGrp="1"/>
          </p:cNvSpPr>
          <p:nvPr>
            <p:ph type="sldImg"/>
          </p:nvPr>
        </p:nvSpPr>
        <p:spPr>
          <a:xfrm>
            <a:off x="1143000" y="685800"/>
            <a:ext cx="4572000" cy="3429000"/>
          </a:xfrm>
          <a:prstGeom prst="rect">
            <a:avLst/>
          </a:prstGeom>
          <a:ln w="0">
            <a:noFill/>
          </a:ln>
        </p:spPr>
      </p:sp>
      <p:sp>
        <p:nvSpPr>
          <p:cNvPr id="60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ender o que é um Modelo de Referência para o Processo de Desenvolvimento de Produto é fundamental, pois é a principal contribuição do livro. Para explicar no detalhes o que isso significa explicaremos a definição de processos de negócio, o que é modelo de referência e a diferença entre PROCEssos de Negócio e Projetos. Por fim, une-se os trÊS concietos para explicar a definição fundamental.</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40F7-C3F9-44B8-BFBB-7AC61FD7F0A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68" name="PlaceHolder 1"/>
          <p:cNvSpPr>
            <a:spLocks noGrp="1"/>
          </p:cNvSpPr>
          <p:nvPr>
            <p:ph type="sldImg"/>
          </p:nvPr>
        </p:nvSpPr>
        <p:spPr>
          <a:xfrm>
            <a:off x="1192320" y="706320"/>
            <a:ext cx="4519440" cy="3389400"/>
          </a:xfrm>
          <a:prstGeom prst="rect">
            <a:avLst/>
          </a:prstGeom>
          <a:ln w="0">
            <a:noFill/>
          </a:ln>
        </p:spPr>
      </p:sp>
      <p:sp>
        <p:nvSpPr>
          <p:cNvPr id="6169" name="PlaceHolder 2"/>
          <p:cNvSpPr>
            <a:spLocks noGrp="1"/>
          </p:cNvSpPr>
          <p:nvPr>
            <p:ph type="body"/>
          </p:nvPr>
        </p:nvSpPr>
        <p:spPr>
          <a:xfrm>
            <a:off x="941400" y="4377960"/>
            <a:ext cx="5019840" cy="4095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tir o quadro 2-5 da página 77.</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0" name="PlaceHolder 1"/>
          <p:cNvSpPr>
            <a:spLocks noGrp="1"/>
          </p:cNvSpPr>
          <p:nvPr>
            <p:ph type="sldImg"/>
          </p:nvPr>
        </p:nvSpPr>
        <p:spPr>
          <a:xfrm>
            <a:off x="1143000" y="685800"/>
            <a:ext cx="4572000" cy="3429000"/>
          </a:xfrm>
          <a:prstGeom prst="rect">
            <a:avLst/>
          </a:prstGeom>
          <a:ln w="0">
            <a:noFill/>
          </a:ln>
        </p:spPr>
      </p:sp>
      <p:sp>
        <p:nvSpPr>
          <p:cNvPr id="6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ar a página 83-84</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8403-538A-4510-B07F-B1791280D3D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76" name="PlaceHolder 1"/>
          <p:cNvSpPr>
            <a:spLocks noGrp="1"/>
          </p:cNvSpPr>
          <p:nvPr>
            <p:ph type="sldImg"/>
          </p:nvPr>
        </p:nvSpPr>
        <p:spPr>
          <a:xfrm>
            <a:off x="1192320" y="706320"/>
            <a:ext cx="4519440" cy="3389400"/>
          </a:xfrm>
          <a:prstGeom prst="rect">
            <a:avLst/>
          </a:prstGeom>
          <a:ln w="0">
            <a:noFill/>
          </a:ln>
        </p:spPr>
      </p:sp>
      <p:sp>
        <p:nvSpPr>
          <p:cNvPr id="6177" name="PlaceHolder 2"/>
          <p:cNvSpPr>
            <a:spLocks noGrp="1"/>
          </p:cNvSpPr>
          <p:nvPr>
            <p:ph type="body"/>
          </p:nvPr>
        </p:nvSpPr>
        <p:spPr>
          <a:xfrm>
            <a:off x="941400" y="4377960"/>
            <a:ext cx="501984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8" name="PlaceHolder 1"/>
          <p:cNvSpPr>
            <a:spLocks noGrp="1"/>
          </p:cNvSpPr>
          <p:nvPr>
            <p:ph type="sldImg"/>
          </p:nvPr>
        </p:nvSpPr>
        <p:spPr>
          <a:xfrm>
            <a:off x="1143000" y="685800"/>
            <a:ext cx="4572000" cy="3429000"/>
          </a:xfrm>
          <a:prstGeom prst="rect">
            <a:avLst/>
          </a:prstGeom>
          <a:ln w="0">
            <a:noFill/>
          </a:ln>
        </p:spPr>
      </p:sp>
      <p:sp>
        <p:nvSpPr>
          <p:cNvPr id="6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ar Quadro 2.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559D-4A0A-4F51-A80E-7E162FE7D1C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0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0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0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082" name="PlaceHolder 1"/>
          <p:cNvSpPr>
            <a:spLocks noGrp="1"/>
          </p:cNvSpPr>
          <p:nvPr>
            <p:ph type="sldImg"/>
          </p:nvPr>
        </p:nvSpPr>
        <p:spPr>
          <a:xfrm>
            <a:off x="1192320" y="706320"/>
            <a:ext cx="4519440" cy="3389400"/>
          </a:xfrm>
          <a:prstGeom prst="rect">
            <a:avLst/>
          </a:prstGeom>
          <a:ln w="0">
            <a:noFill/>
          </a:ln>
        </p:spPr>
      </p:sp>
      <p:sp>
        <p:nvSpPr>
          <p:cNvPr id="6083" name="PlaceHolder 2"/>
          <p:cNvSpPr>
            <a:spLocks noGrp="1"/>
          </p:cNvSpPr>
          <p:nvPr>
            <p:ph type="body"/>
          </p:nvPr>
        </p:nvSpPr>
        <p:spPr>
          <a:xfrm>
            <a:off x="941400" y="4377960"/>
            <a:ext cx="5019840" cy="409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o apresentar este slide deve-se alertar os leitores que esta é a definição clássica de Processos de Negócio, na visão da gestão por processos. Nesta definição não é qualquer conjunto de atividades que pode ser chamada de processo e sim aquelas que levam a um resultado experimentado pelos clientes. Exemplos: processo de desenvolvimento de novos produtos; processo de atendimento ao cliente, etc.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E57A-CE2C-40C1-AE53-82D676FF380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84" name="PlaceHolder 1"/>
          <p:cNvSpPr>
            <a:spLocks noGrp="1"/>
          </p:cNvSpPr>
          <p:nvPr>
            <p:ph type="sldImg"/>
          </p:nvPr>
        </p:nvSpPr>
        <p:spPr>
          <a:xfrm>
            <a:off x="1192320" y="706320"/>
            <a:ext cx="4519440" cy="3389400"/>
          </a:xfrm>
          <a:prstGeom prst="rect">
            <a:avLst/>
          </a:prstGeom>
          <a:ln w="0">
            <a:noFill/>
          </a:ln>
        </p:spPr>
      </p:sp>
      <p:sp>
        <p:nvSpPr>
          <p:cNvPr id="6185" name="PlaceHolder 2"/>
          <p:cNvSpPr>
            <a:spLocks noGrp="1"/>
          </p:cNvSpPr>
          <p:nvPr>
            <p:ph type="body"/>
          </p:nvPr>
        </p:nvSpPr>
        <p:spPr>
          <a:xfrm>
            <a:off x="941400" y="4377960"/>
            <a:ext cx="5019840" cy="409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perfis podem ser variados. É só clicar e selecionar “editar pontos”. Este seria um perfil típico, que mudaria conforme o tipo de PD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ão deveríamos acrescentar uma área de conhecimento</a:t>
            </a:r>
            <a:r>
              <a:rPr b="0" lang="en-US" sz="1200" spc="-1" strike="noStrike">
                <a:solidFill>
                  <a:srgbClr val="000000"/>
                </a:solidFill>
                <a:latin typeface="Arial"/>
              </a:rPr>
              <a:t> chamada “gestão do conhecimento” (que englobaria a aprendizagem). Não considero que seja um processo de apoio, pois o que caracteriza um processo de apoio é o seu acionamento esporádico, quando necessário. E uma área de conhecimento é uma agregação de atividades de um tema afim, que estão distribuídas pelas f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quem aqui as criticas de você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6" name="PlaceHolder 1"/>
          <p:cNvSpPr>
            <a:spLocks noGrp="1"/>
          </p:cNvSpPr>
          <p:nvPr>
            <p:ph type="sldImg"/>
          </p:nvPr>
        </p:nvSpPr>
        <p:spPr>
          <a:xfrm>
            <a:off x="1143000" y="685800"/>
            <a:ext cx="4572000" cy="3429000"/>
          </a:xfrm>
          <a:prstGeom prst="rect">
            <a:avLst/>
          </a:prstGeom>
          <a:ln w="0">
            <a:noFill/>
          </a:ln>
        </p:spPr>
      </p:sp>
      <p:sp>
        <p:nvSpPr>
          <p:cNvPr id="6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ar a importância da GC para o PDP conforme quadro 2.8 e depois definir o que é gestão do conhecimento (página 91).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8" name="PlaceHolder 1"/>
          <p:cNvSpPr>
            <a:spLocks noGrp="1"/>
          </p:cNvSpPr>
          <p:nvPr>
            <p:ph type="sldImg"/>
          </p:nvPr>
        </p:nvSpPr>
        <p:spPr>
          <a:xfrm>
            <a:off x="1143000" y="685800"/>
            <a:ext cx="4572000" cy="3429000"/>
          </a:xfrm>
          <a:prstGeom prst="rect">
            <a:avLst/>
          </a:prstGeom>
          <a:ln w="0">
            <a:noFill/>
          </a:ln>
        </p:spPr>
      </p:sp>
      <p:sp>
        <p:nvSpPr>
          <p:cNvPr id="6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ar as diferença entre modelos de referência genéricos e modelos de referência específicos, páginas 92 e 93.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0" name="PlaceHolder 1"/>
          <p:cNvSpPr>
            <a:spLocks noGrp="1"/>
          </p:cNvSpPr>
          <p:nvPr>
            <p:ph type="sldImg"/>
          </p:nvPr>
        </p:nvSpPr>
        <p:spPr>
          <a:xfrm>
            <a:off x="1143000" y="685800"/>
            <a:ext cx="4572000" cy="3429000"/>
          </a:xfrm>
          <a:prstGeom prst="rect">
            <a:avLst/>
          </a:prstGeom>
          <a:ln w="0">
            <a:noFill/>
          </a:ln>
        </p:spPr>
      </p:sp>
      <p:sp>
        <p:nvSpPr>
          <p:cNvPr id="6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ar o que foi visto na apresentação, que está dividida em três partes:1) conceitos básicos; 2) descrição do modelo; e Limitações do model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5D07-4F3E-49DF-BC96-32324786831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0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0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0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088" name="PlaceHolder 1"/>
          <p:cNvSpPr>
            <a:spLocks noGrp="1"/>
          </p:cNvSpPr>
          <p:nvPr>
            <p:ph type="sldImg"/>
          </p:nvPr>
        </p:nvSpPr>
        <p:spPr>
          <a:xfrm>
            <a:off x="1192320" y="706320"/>
            <a:ext cx="4519440" cy="3389400"/>
          </a:xfrm>
          <a:prstGeom prst="rect">
            <a:avLst/>
          </a:prstGeom>
          <a:ln w="0">
            <a:noFill/>
          </a:ln>
        </p:spPr>
      </p:sp>
      <p:sp>
        <p:nvSpPr>
          <p:cNvPr id="6089" name="PlaceHolder 2"/>
          <p:cNvSpPr>
            <a:spLocks noGrp="1"/>
          </p:cNvSpPr>
          <p:nvPr>
            <p:ph type="body"/>
          </p:nvPr>
        </p:nvSpPr>
        <p:spPr>
          <a:xfrm>
            <a:off x="941400" y="4377960"/>
            <a:ext cx="5019840" cy="409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objetivo deste slide é comparar a definição anterior com a definição de processos da ISO 9000. Muitos dos ouvintes (alunos ou profissionais de empresa) estão acostumados com a definição de processos das normas ISO, que, embora parecida, conceitualmente é bastante diferente. Pela Isso qualquer conjunto de atividades, mesmo que simples, podem ser considerados processos. Por exemplo, pela isso poderia existir o processo de desenvolvimento do protótipo, que nunca seria um processo de negócio.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6F03-8E41-4A56-AA5E-85AF236B372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1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1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1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96" name="PlaceHolder 1"/>
          <p:cNvSpPr>
            <a:spLocks noGrp="1"/>
          </p:cNvSpPr>
          <p:nvPr>
            <p:ph type="sldImg"/>
          </p:nvPr>
        </p:nvSpPr>
        <p:spPr>
          <a:xfrm>
            <a:off x="1192320" y="706320"/>
            <a:ext cx="4519440" cy="3389400"/>
          </a:xfrm>
          <a:prstGeom prst="rect">
            <a:avLst/>
          </a:prstGeom>
          <a:ln w="0">
            <a:noFill/>
          </a:ln>
        </p:spPr>
      </p:sp>
      <p:sp>
        <p:nvSpPr>
          <p:cNvPr id="6197" name="PlaceHolder 2"/>
          <p:cNvSpPr>
            <a:spLocks noGrp="1"/>
          </p:cNvSpPr>
          <p:nvPr>
            <p:ph type="body"/>
          </p:nvPr>
        </p:nvSpPr>
        <p:spPr>
          <a:xfrm>
            <a:off x="941400" y="4377960"/>
            <a:ext cx="501984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3E66-9144-43CA-8DC5-B1A826535D9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0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0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0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094" name="PlaceHolder 1"/>
          <p:cNvSpPr>
            <a:spLocks noGrp="1"/>
          </p:cNvSpPr>
          <p:nvPr>
            <p:ph type="sldImg"/>
          </p:nvPr>
        </p:nvSpPr>
        <p:spPr>
          <a:xfrm>
            <a:off x="1192320" y="706320"/>
            <a:ext cx="4519440" cy="3389400"/>
          </a:xfrm>
          <a:prstGeom prst="rect">
            <a:avLst/>
          </a:prstGeom>
          <a:ln w="0">
            <a:noFill/>
          </a:ln>
        </p:spPr>
      </p:sp>
      <p:sp>
        <p:nvSpPr>
          <p:cNvPr id="6095" name="PlaceHolder 2"/>
          <p:cNvSpPr>
            <a:spLocks noGrp="1"/>
          </p:cNvSpPr>
          <p:nvPr>
            <p:ph type="body"/>
          </p:nvPr>
        </p:nvSpPr>
        <p:spPr>
          <a:xfrm>
            <a:off x="941400" y="4377960"/>
            <a:ext cx="5019840" cy="409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processo de negócio (representado pelo símbolo da flecha, acima) é formado por um conjunto de atividades que transformam informações por meio da ação de recursos (métodos, técnicas, ferramentas e equipamentos), com o apoio de pesso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E53A-E1CA-43F9-A77E-C0098D46685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60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60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60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6100" name="PlaceHolder 1"/>
          <p:cNvSpPr>
            <a:spLocks noGrp="1"/>
          </p:cNvSpPr>
          <p:nvPr>
            <p:ph type="sldImg"/>
          </p:nvPr>
        </p:nvSpPr>
        <p:spPr>
          <a:xfrm>
            <a:off x="1144440" y="685800"/>
            <a:ext cx="4572000" cy="3429000"/>
          </a:xfrm>
          <a:prstGeom prst="rect">
            <a:avLst/>
          </a:prstGeom>
          <a:ln w="0">
            <a:noFill/>
          </a:ln>
        </p:spPr>
      </p:sp>
      <p:sp>
        <p:nvSpPr>
          <p:cNvPr id="6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ar que gerenciar a empresa por processos de negócio é algo difícil pois envolve uma mudança radical em relação ao paradigma da administração por funções. Um processo de negócio envolve atividades de diferentes departamentos ou áreas da empresa. Uma primeira barreira é conseguir uma padronização do linguajar destas áreas e obter uma integração das atividades e recursos físicos e materiais. O instrumento básico para isso é o modelo de referência, que serve como um mapa do processo e permite que todos na empresa tenham uma referência única sobre o seu funcionamento: permitindo a padronização e a integração entre as áreas. Neste slide apresenta-se ainda as principais dimensões que um modelo de referência pode contempla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437A3-CD22-441F-92E1-C78C57B49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29" name="PlaceHolder 2"/>
          <p:cNvSpPr>
            <a:spLocks noGrp="1"/>
          </p:cNvSpPr>
          <p:nvPr>
            <p:ph/>
          </p:nvPr>
        </p:nvSpPr>
        <p:spPr>
          <a:xfrm>
            <a:off x="112320" y="887400"/>
            <a:ext cx="85741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12320" y="3623760"/>
            <a:ext cx="85741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093FF-3971-4761-A461-06DD2138F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32" name="PlaceHolder 2"/>
          <p:cNvSpPr>
            <a:spLocks noGrp="1"/>
          </p:cNvSpPr>
          <p:nvPr>
            <p:ph/>
          </p:nvPr>
        </p:nvSpPr>
        <p:spPr>
          <a:xfrm>
            <a:off x="11232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0576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1232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0576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F0FB9-9218-420F-A410-124405A10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37" name="PlaceHolder 2"/>
          <p:cNvSpPr>
            <a:spLocks noGrp="1"/>
          </p:cNvSpPr>
          <p:nvPr>
            <p:ph/>
          </p:nvPr>
        </p:nvSpPr>
        <p:spPr>
          <a:xfrm>
            <a:off x="112320" y="88740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011040" y="88740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10120" y="88740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12320" y="362376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011040" y="362376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10120" y="362376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5E1C2-8277-483B-9D3D-FCC754163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8" name="PlaceHolder 2"/>
          <p:cNvSpPr>
            <a:spLocks noGrp="1"/>
          </p:cNvSpPr>
          <p:nvPr>
            <p:ph type="subTitle"/>
          </p:nvPr>
        </p:nvSpPr>
        <p:spPr>
          <a:xfrm>
            <a:off x="112320" y="887400"/>
            <a:ext cx="8574120" cy="523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CFA0B-EAC5-4BF5-89E1-01748A8AA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10" name="PlaceHolder 2"/>
          <p:cNvSpPr>
            <a:spLocks noGrp="1"/>
          </p:cNvSpPr>
          <p:nvPr>
            <p:ph/>
          </p:nvPr>
        </p:nvSpPr>
        <p:spPr>
          <a:xfrm>
            <a:off x="112320" y="887400"/>
            <a:ext cx="85741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73525-BB7E-4373-A136-06A44A158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12" name="PlaceHolder 2"/>
          <p:cNvSpPr>
            <a:spLocks noGrp="1"/>
          </p:cNvSpPr>
          <p:nvPr>
            <p:ph/>
          </p:nvPr>
        </p:nvSpPr>
        <p:spPr>
          <a:xfrm>
            <a:off x="11232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0576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172A5-2A89-4011-821E-60824C09A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59BA6-3E10-4E80-B9E9-5E844F4E2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0"/>
            <a:ext cx="738828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0D333-6E71-4EFD-B9C9-0FB0248EF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17" name="PlaceHolder 2"/>
          <p:cNvSpPr>
            <a:spLocks noGrp="1"/>
          </p:cNvSpPr>
          <p:nvPr>
            <p:ph/>
          </p:nvPr>
        </p:nvSpPr>
        <p:spPr>
          <a:xfrm>
            <a:off x="11232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0576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1232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8D2E-F2F0-47DF-8FAD-730DEFA5C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21" name="PlaceHolder 2"/>
          <p:cNvSpPr>
            <a:spLocks noGrp="1"/>
          </p:cNvSpPr>
          <p:nvPr>
            <p:ph/>
          </p:nvPr>
        </p:nvSpPr>
        <p:spPr>
          <a:xfrm>
            <a:off x="11232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0576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0576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BACA0-DA91-4962-B8D0-CEE30E4F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25" name="PlaceHolder 2"/>
          <p:cNvSpPr>
            <a:spLocks noGrp="1"/>
          </p:cNvSpPr>
          <p:nvPr>
            <p:ph/>
          </p:nvPr>
        </p:nvSpPr>
        <p:spPr>
          <a:xfrm>
            <a:off x="11232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0576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12320" y="3623760"/>
            <a:ext cx="85741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C32C-2352-4213-962D-224E8A2AF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lick to edit the title text format</a:t>
            </a:r>
            <a:endParaRPr b="0" lang="en-US" sz="2400" spc="-1" strike="noStrike">
              <a:solidFill>
                <a:srgbClr val="000096"/>
              </a:solidFill>
              <a:latin typeface="Arial"/>
            </a:endParaRPr>
          </a:p>
        </p:txBody>
      </p:sp>
      <p:sp>
        <p:nvSpPr>
          <p:cNvPr id="1" name="PlaceHolder 2"/>
          <p:cNvSpPr>
            <a:spLocks noGrp="1"/>
          </p:cNvSpPr>
          <p:nvPr>
            <p:ph type="body"/>
          </p:nvPr>
        </p:nvSpPr>
        <p:spPr>
          <a:xfrm>
            <a:off x="112320" y="887400"/>
            <a:ext cx="8574120" cy="523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4F10-0558-461F-A140-3C662C95F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25280" y="808200"/>
            <a:ext cx="7861320" cy="47520"/>
          </a:xfrm>
          <a:prstGeom prst="rect">
            <a:avLst/>
          </a:prstGeom>
          <a:gradFill rotWithShape="0">
            <a:gsLst>
              <a:gs pos="0">
                <a:srgbClr val="000096"/>
              </a:gs>
              <a:gs pos="100000">
                <a:srgbClr val="6363be"/>
              </a:gs>
            </a:gsLst>
            <a:lin ang="10800000"/>
          </a:gradFill>
          <a:ln w="0">
            <a:noFill/>
          </a:ln>
        </p:spPr>
        <p:style>
          <a:lnRef idx="0"/>
          <a:fillRef idx="0"/>
          <a:effectRef idx="0"/>
          <a:fontRef idx="minor"/>
        </p:style>
        <p:txBody>
          <a:bodyPr lIns="90000" rIns="90000" tIns="720" bIns="720" anchor="ctr">
            <a:sp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043840" y="0"/>
            <a:ext cx="1100160" cy="85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image" Target="../media/image4.wmf"/><Relationship Id="rId6" Type="http://schemas.openxmlformats.org/officeDocument/2006/relationships/slideLayout" Target="../slideLayouts/slideLayout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98360" y="257040"/>
            <a:ext cx="4386240" cy="6350040"/>
          </a:xfrm>
          <a:prstGeom prst="rect">
            <a:avLst/>
          </a:prstGeom>
          <a:ln w="0">
            <a:noFill/>
          </a:ln>
        </p:spPr>
      </p:pic>
      <p:sp>
        <p:nvSpPr>
          <p:cNvPr id="51" name=""/>
          <p:cNvSpPr/>
          <p:nvPr/>
        </p:nvSpPr>
        <p:spPr>
          <a:xfrm>
            <a:off x="4932360" y="304920"/>
            <a:ext cx="3979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O modelo unificado do PDP</a:t>
            </a:r>
            <a:r>
              <a:rPr b="0" lang="en-US" sz="3600" spc="-1" strike="noStrike">
                <a:solidFill>
                  <a:srgbClr val="333399"/>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pítulo 2)</a:t>
            </a:r>
            <a:endParaRPr b="0" lang="en-US" sz="1800" spc="-1" strike="noStrike">
              <a:solidFill>
                <a:srgbClr val="000000"/>
              </a:solidFill>
              <a:latin typeface="Arial"/>
            </a:endParaRPr>
          </a:p>
        </p:txBody>
      </p:sp>
      <p:sp>
        <p:nvSpPr>
          <p:cNvPr id="52" name=""/>
          <p:cNvSpPr/>
          <p:nvPr/>
        </p:nvSpPr>
        <p:spPr>
          <a:xfrm>
            <a:off x="5414040" y="4183200"/>
            <a:ext cx="32943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Henrique Rozenfel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Fernando Antônio Forcelli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Daniel Capaldo Amar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José Carlos Tole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Sergio Luis da Sil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Dário Henrique Alliprandi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Régis Kovacs Scalice</a:t>
            </a:r>
            <a:endParaRPr b="0" lang="en-US" sz="2000" spc="-1" strike="noStrike">
              <a:solidFill>
                <a:srgbClr val="000000"/>
              </a:solidFill>
              <a:latin typeface="Arial"/>
            </a:endParaRPr>
          </a:p>
        </p:txBody>
      </p:sp>
      <p:pic>
        <p:nvPicPr>
          <p:cNvPr id="53" name="" descr=""/>
          <p:cNvPicPr/>
          <p:nvPr/>
        </p:nvPicPr>
        <p:blipFill>
          <a:blip r:embed="rId2"/>
          <a:stretch/>
        </p:blipFill>
        <p:spPr>
          <a:xfrm>
            <a:off x="4786200" y="2297160"/>
            <a:ext cx="4127760" cy="155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6320" y="76320"/>
            <a:ext cx="779616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modelo de referência de processo como mapa comum na empresa</a:t>
            </a:r>
            <a:endParaRPr b="0" lang="en-US" sz="2400" spc="-1" strike="noStrike">
              <a:solidFill>
                <a:srgbClr val="000096"/>
              </a:solidFill>
              <a:latin typeface="Arial"/>
            </a:endParaRPr>
          </a:p>
        </p:txBody>
      </p:sp>
      <p:grpSp>
        <p:nvGrpSpPr>
          <p:cNvPr id="481" name=""/>
          <p:cNvGrpSpPr/>
          <p:nvPr/>
        </p:nvGrpSpPr>
        <p:grpSpPr>
          <a:xfrm>
            <a:off x="120600" y="635040"/>
            <a:ext cx="8918640" cy="6194520"/>
            <a:chOff x="120600" y="635040"/>
            <a:chExt cx="8918640" cy="6194520"/>
          </a:xfrm>
        </p:grpSpPr>
        <p:sp>
          <p:nvSpPr>
            <p:cNvPr id="482" name=""/>
            <p:cNvSpPr/>
            <p:nvPr/>
          </p:nvSpPr>
          <p:spPr>
            <a:xfrm>
              <a:off x="5562720" y="2357280"/>
              <a:ext cx="3352680" cy="4419720"/>
            </a:xfrm>
            <a:custGeom>
              <a:avLst/>
              <a:gdLst/>
              <a:ahLst/>
              <a:rect l="l" t="t" r="r" b="b"/>
              <a:pathLst>
                <a:path w="2112" h="2784">
                  <a:moveTo>
                    <a:pt x="0" y="0"/>
                  </a:moveTo>
                  <a:lnTo>
                    <a:pt x="384" y="96"/>
                  </a:lnTo>
                  <a:lnTo>
                    <a:pt x="432" y="1392"/>
                  </a:lnTo>
                  <a:lnTo>
                    <a:pt x="2112" y="2400"/>
                  </a:lnTo>
                  <a:lnTo>
                    <a:pt x="672" y="2784"/>
                  </a:lnTo>
                  <a:lnTo>
                    <a:pt x="48" y="1392"/>
                  </a:lnTo>
                  <a:lnTo>
                    <a:pt x="0" y="0"/>
                  </a:lnTo>
                  <a:close/>
                </a:path>
              </a:pathLst>
            </a:custGeom>
            <a:blipFill rotWithShape="0">
              <a:blip r:embed="rId1"/>
              <a:srcRect/>
              <a:stretch/>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483" name=""/>
            <p:cNvGrpSpPr/>
            <p:nvPr/>
          </p:nvGrpSpPr>
          <p:grpSpPr>
            <a:xfrm>
              <a:off x="6567480" y="4437000"/>
              <a:ext cx="2452680" cy="2392560"/>
              <a:chOff x="6567480" y="4437000"/>
              <a:chExt cx="2452680" cy="2392560"/>
            </a:xfrm>
          </p:grpSpPr>
          <p:sp>
            <p:nvSpPr>
              <p:cNvPr id="484" name=""/>
              <p:cNvSpPr/>
              <p:nvPr/>
            </p:nvSpPr>
            <p:spPr>
              <a:xfrm>
                <a:off x="7313760" y="4881600"/>
                <a:ext cx="1547640" cy="1944720"/>
              </a:xfrm>
              <a:custGeom>
                <a:avLst/>
                <a:gdLst/>
                <a:ahLst/>
                <a:rect l="l" t="t" r="r" b="b"/>
                <a:pathLst>
                  <a:path w="7795" h="9801">
                    <a:moveTo>
                      <a:pt x="0" y="3149"/>
                    </a:moveTo>
                    <a:lnTo>
                      <a:pt x="419" y="2490"/>
                    </a:lnTo>
                    <a:lnTo>
                      <a:pt x="853" y="1954"/>
                    </a:lnTo>
                    <a:lnTo>
                      <a:pt x="955" y="1704"/>
                    </a:lnTo>
                    <a:lnTo>
                      <a:pt x="1127" y="1262"/>
                    </a:lnTo>
                    <a:lnTo>
                      <a:pt x="1199" y="1233"/>
                    </a:lnTo>
                    <a:lnTo>
                      <a:pt x="1222" y="884"/>
                    </a:lnTo>
                    <a:lnTo>
                      <a:pt x="1321" y="664"/>
                    </a:lnTo>
                    <a:lnTo>
                      <a:pt x="1833" y="445"/>
                    </a:lnTo>
                    <a:lnTo>
                      <a:pt x="2276" y="350"/>
                    </a:lnTo>
                    <a:lnTo>
                      <a:pt x="2739" y="128"/>
                    </a:lnTo>
                    <a:lnTo>
                      <a:pt x="3887" y="0"/>
                    </a:lnTo>
                    <a:lnTo>
                      <a:pt x="4279" y="222"/>
                    </a:lnTo>
                    <a:lnTo>
                      <a:pt x="5350" y="445"/>
                    </a:lnTo>
                    <a:lnTo>
                      <a:pt x="6524" y="3055"/>
                    </a:lnTo>
                    <a:lnTo>
                      <a:pt x="6716" y="3149"/>
                    </a:lnTo>
                    <a:lnTo>
                      <a:pt x="6866" y="3466"/>
                    </a:lnTo>
                    <a:lnTo>
                      <a:pt x="7163" y="3624"/>
                    </a:lnTo>
                    <a:lnTo>
                      <a:pt x="7548" y="4030"/>
                    </a:lnTo>
                    <a:lnTo>
                      <a:pt x="7795" y="4540"/>
                    </a:lnTo>
                    <a:lnTo>
                      <a:pt x="6963" y="9801"/>
                    </a:lnTo>
                    <a:lnTo>
                      <a:pt x="2054" y="9801"/>
                    </a:lnTo>
                    <a:lnTo>
                      <a:pt x="1662" y="3180"/>
                    </a:lnTo>
                    <a:lnTo>
                      <a:pt x="1561" y="2840"/>
                    </a:lnTo>
                    <a:lnTo>
                      <a:pt x="1298" y="3149"/>
                    </a:lnTo>
                    <a:lnTo>
                      <a:pt x="0" y="3149"/>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692760" y="4913280"/>
                <a:ext cx="811440" cy="1401840"/>
              </a:xfrm>
              <a:custGeom>
                <a:avLst/>
                <a:gdLst/>
                <a:ahLst/>
                <a:rect l="l" t="t" r="r" b="b"/>
                <a:pathLst>
                  <a:path w="4085" h="7064">
                    <a:moveTo>
                      <a:pt x="1703" y="0"/>
                    </a:moveTo>
                    <a:lnTo>
                      <a:pt x="1628" y="0"/>
                    </a:lnTo>
                    <a:lnTo>
                      <a:pt x="1500" y="307"/>
                    </a:lnTo>
                    <a:lnTo>
                      <a:pt x="1500" y="399"/>
                    </a:lnTo>
                    <a:lnTo>
                      <a:pt x="841" y="685"/>
                    </a:lnTo>
                    <a:lnTo>
                      <a:pt x="329" y="729"/>
                    </a:lnTo>
                    <a:lnTo>
                      <a:pt x="90" y="874"/>
                    </a:lnTo>
                    <a:lnTo>
                      <a:pt x="13" y="2813"/>
                    </a:lnTo>
                    <a:lnTo>
                      <a:pt x="0" y="3025"/>
                    </a:lnTo>
                    <a:lnTo>
                      <a:pt x="103" y="3382"/>
                    </a:lnTo>
                    <a:lnTo>
                      <a:pt x="1044" y="3523"/>
                    </a:lnTo>
                    <a:lnTo>
                      <a:pt x="638" y="4562"/>
                    </a:lnTo>
                    <a:lnTo>
                      <a:pt x="546" y="5012"/>
                    </a:lnTo>
                    <a:lnTo>
                      <a:pt x="419" y="7064"/>
                    </a:lnTo>
                    <a:lnTo>
                      <a:pt x="967" y="6970"/>
                    </a:lnTo>
                    <a:lnTo>
                      <a:pt x="2819" y="6970"/>
                    </a:lnTo>
                    <a:lnTo>
                      <a:pt x="2819" y="2977"/>
                    </a:lnTo>
                    <a:lnTo>
                      <a:pt x="3865" y="1964"/>
                    </a:lnTo>
                    <a:lnTo>
                      <a:pt x="4085" y="1536"/>
                    </a:lnTo>
                    <a:lnTo>
                      <a:pt x="4085" y="920"/>
                    </a:lnTo>
                    <a:lnTo>
                      <a:pt x="3973" y="758"/>
                    </a:lnTo>
                    <a:lnTo>
                      <a:pt x="3773" y="664"/>
                    </a:lnTo>
                    <a:lnTo>
                      <a:pt x="3515" y="664"/>
                    </a:lnTo>
                    <a:lnTo>
                      <a:pt x="2674" y="452"/>
                    </a:lnTo>
                    <a:lnTo>
                      <a:pt x="2597" y="164"/>
                    </a:lnTo>
                    <a:lnTo>
                      <a:pt x="1703" y="0"/>
                    </a:lnTo>
                    <a:close/>
                  </a:path>
                </a:pathLst>
              </a:cu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8443800" y="6081840"/>
                <a:ext cx="560520" cy="747720"/>
              </a:xfrm>
              <a:custGeom>
                <a:avLst/>
                <a:gdLst/>
                <a:ahLst/>
                <a:rect l="l" t="t" r="r" b="b"/>
                <a:pathLst>
                  <a:path w="2824" h="3774">
                    <a:moveTo>
                      <a:pt x="0" y="2697"/>
                    </a:moveTo>
                    <a:lnTo>
                      <a:pt x="13" y="2974"/>
                    </a:lnTo>
                    <a:lnTo>
                      <a:pt x="31" y="3421"/>
                    </a:lnTo>
                    <a:lnTo>
                      <a:pt x="73" y="3615"/>
                    </a:lnTo>
                    <a:lnTo>
                      <a:pt x="123" y="3774"/>
                    </a:lnTo>
                    <a:lnTo>
                      <a:pt x="2012" y="3774"/>
                    </a:lnTo>
                    <a:lnTo>
                      <a:pt x="2284" y="3615"/>
                    </a:lnTo>
                    <a:lnTo>
                      <a:pt x="2545" y="3354"/>
                    </a:lnTo>
                    <a:lnTo>
                      <a:pt x="2639" y="3193"/>
                    </a:lnTo>
                    <a:lnTo>
                      <a:pt x="2749" y="2697"/>
                    </a:lnTo>
                    <a:lnTo>
                      <a:pt x="2824" y="1966"/>
                    </a:lnTo>
                    <a:lnTo>
                      <a:pt x="2824" y="1141"/>
                    </a:lnTo>
                    <a:lnTo>
                      <a:pt x="2806" y="572"/>
                    </a:lnTo>
                    <a:lnTo>
                      <a:pt x="2736" y="231"/>
                    </a:lnTo>
                    <a:lnTo>
                      <a:pt x="2617" y="78"/>
                    </a:lnTo>
                    <a:lnTo>
                      <a:pt x="2411" y="0"/>
                    </a:lnTo>
                    <a:lnTo>
                      <a:pt x="2228" y="0"/>
                    </a:lnTo>
                    <a:lnTo>
                      <a:pt x="1903" y="0"/>
                    </a:lnTo>
                    <a:lnTo>
                      <a:pt x="1484" y="120"/>
                    </a:lnTo>
                    <a:lnTo>
                      <a:pt x="1013" y="344"/>
                    </a:lnTo>
                    <a:lnTo>
                      <a:pt x="613" y="684"/>
                    </a:lnTo>
                    <a:lnTo>
                      <a:pt x="345" y="1053"/>
                    </a:lnTo>
                    <a:lnTo>
                      <a:pt x="59" y="1874"/>
                    </a:lnTo>
                    <a:lnTo>
                      <a:pt x="13" y="2266"/>
                    </a:lnTo>
                    <a:lnTo>
                      <a:pt x="0" y="2697"/>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332920" y="5442120"/>
                <a:ext cx="288720" cy="215640"/>
              </a:xfrm>
              <a:custGeom>
                <a:avLst/>
                <a:gdLst/>
                <a:ahLst/>
                <a:rect l="l" t="t" r="r" b="b"/>
                <a:pathLst>
                  <a:path w="1462" h="1088">
                    <a:moveTo>
                      <a:pt x="1337" y="0"/>
                    </a:moveTo>
                    <a:lnTo>
                      <a:pt x="1462" y="251"/>
                    </a:lnTo>
                    <a:lnTo>
                      <a:pt x="1121" y="251"/>
                    </a:lnTo>
                    <a:lnTo>
                      <a:pt x="883" y="334"/>
                    </a:lnTo>
                    <a:lnTo>
                      <a:pt x="544" y="530"/>
                    </a:lnTo>
                    <a:lnTo>
                      <a:pt x="343" y="719"/>
                    </a:lnTo>
                    <a:lnTo>
                      <a:pt x="0" y="1088"/>
                    </a:lnTo>
                    <a:lnTo>
                      <a:pt x="42" y="959"/>
                    </a:lnTo>
                    <a:lnTo>
                      <a:pt x="170" y="567"/>
                    </a:lnTo>
                    <a:lnTo>
                      <a:pt x="383" y="353"/>
                    </a:lnTo>
                    <a:lnTo>
                      <a:pt x="596" y="207"/>
                    </a:lnTo>
                    <a:lnTo>
                      <a:pt x="897" y="95"/>
                    </a:lnTo>
                    <a:lnTo>
                      <a:pt x="13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630840" y="6121440"/>
                <a:ext cx="1494000" cy="704880"/>
              </a:xfrm>
              <a:custGeom>
                <a:avLst/>
                <a:gdLst/>
                <a:ahLst/>
                <a:rect l="l" t="t" r="r" b="b"/>
                <a:pathLst>
                  <a:path w="7528" h="3549">
                    <a:moveTo>
                      <a:pt x="0" y="1125"/>
                    </a:moveTo>
                    <a:lnTo>
                      <a:pt x="6893" y="0"/>
                    </a:lnTo>
                    <a:lnTo>
                      <a:pt x="7198" y="24"/>
                    </a:lnTo>
                    <a:lnTo>
                      <a:pt x="7469" y="119"/>
                    </a:lnTo>
                    <a:lnTo>
                      <a:pt x="7433" y="330"/>
                    </a:lnTo>
                    <a:lnTo>
                      <a:pt x="7528" y="400"/>
                    </a:lnTo>
                    <a:lnTo>
                      <a:pt x="7091" y="1337"/>
                    </a:lnTo>
                    <a:lnTo>
                      <a:pt x="6799" y="1337"/>
                    </a:lnTo>
                    <a:lnTo>
                      <a:pt x="6688" y="1289"/>
                    </a:lnTo>
                    <a:lnTo>
                      <a:pt x="6328" y="1266"/>
                    </a:lnTo>
                    <a:lnTo>
                      <a:pt x="6168" y="1266"/>
                    </a:lnTo>
                    <a:lnTo>
                      <a:pt x="5964" y="1479"/>
                    </a:lnTo>
                    <a:lnTo>
                      <a:pt x="5874" y="1759"/>
                    </a:lnTo>
                    <a:lnTo>
                      <a:pt x="6654" y="2343"/>
                    </a:lnTo>
                    <a:lnTo>
                      <a:pt x="6204" y="3549"/>
                    </a:lnTo>
                    <a:lnTo>
                      <a:pt x="11" y="3549"/>
                    </a:lnTo>
                    <a:lnTo>
                      <a:pt x="0" y="1125"/>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886440" y="5505480"/>
                <a:ext cx="1204920" cy="941400"/>
              </a:xfrm>
              <a:custGeom>
                <a:avLst/>
                <a:gdLst/>
                <a:ahLst/>
                <a:rect l="l" t="t" r="r" b="b"/>
                <a:pathLst>
                  <a:path w="6072" h="4744">
                    <a:moveTo>
                      <a:pt x="682" y="580"/>
                    </a:moveTo>
                    <a:lnTo>
                      <a:pt x="1526" y="0"/>
                    </a:lnTo>
                    <a:lnTo>
                      <a:pt x="4725" y="0"/>
                    </a:lnTo>
                    <a:lnTo>
                      <a:pt x="4771" y="15"/>
                    </a:lnTo>
                    <a:lnTo>
                      <a:pt x="4783" y="71"/>
                    </a:lnTo>
                    <a:lnTo>
                      <a:pt x="4783" y="2817"/>
                    </a:lnTo>
                    <a:lnTo>
                      <a:pt x="4725" y="2890"/>
                    </a:lnTo>
                    <a:lnTo>
                      <a:pt x="4239" y="2943"/>
                    </a:lnTo>
                    <a:lnTo>
                      <a:pt x="5205" y="3013"/>
                    </a:lnTo>
                    <a:lnTo>
                      <a:pt x="5205" y="3782"/>
                    </a:lnTo>
                    <a:lnTo>
                      <a:pt x="5567" y="3744"/>
                    </a:lnTo>
                    <a:lnTo>
                      <a:pt x="6072" y="3889"/>
                    </a:lnTo>
                    <a:lnTo>
                      <a:pt x="5855" y="4359"/>
                    </a:lnTo>
                    <a:lnTo>
                      <a:pt x="5486" y="4410"/>
                    </a:lnTo>
                    <a:lnTo>
                      <a:pt x="4942" y="4380"/>
                    </a:lnTo>
                    <a:lnTo>
                      <a:pt x="4783" y="4447"/>
                    </a:lnTo>
                    <a:lnTo>
                      <a:pt x="4631" y="4603"/>
                    </a:lnTo>
                    <a:lnTo>
                      <a:pt x="3563" y="4744"/>
                    </a:lnTo>
                    <a:lnTo>
                      <a:pt x="2296" y="4447"/>
                    </a:lnTo>
                    <a:lnTo>
                      <a:pt x="2310" y="4324"/>
                    </a:lnTo>
                    <a:lnTo>
                      <a:pt x="2268" y="4324"/>
                    </a:lnTo>
                    <a:lnTo>
                      <a:pt x="0" y="4027"/>
                    </a:lnTo>
                    <a:lnTo>
                      <a:pt x="0" y="3133"/>
                    </a:lnTo>
                    <a:lnTo>
                      <a:pt x="1018" y="2992"/>
                    </a:lnTo>
                    <a:lnTo>
                      <a:pt x="682" y="2962"/>
                    </a:lnTo>
                    <a:lnTo>
                      <a:pt x="682" y="5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872400" y="5221440"/>
                <a:ext cx="361800" cy="136440"/>
              </a:xfrm>
              <a:custGeom>
                <a:avLst/>
                <a:gdLst/>
                <a:ahLst/>
                <a:rect l="l" t="t" r="r" b="b"/>
                <a:pathLst>
                  <a:path w="1826" h="695">
                    <a:moveTo>
                      <a:pt x="0" y="593"/>
                    </a:moveTo>
                    <a:lnTo>
                      <a:pt x="1771" y="0"/>
                    </a:lnTo>
                    <a:lnTo>
                      <a:pt x="1826" y="130"/>
                    </a:lnTo>
                    <a:lnTo>
                      <a:pt x="35" y="695"/>
                    </a:lnTo>
                    <a:lnTo>
                      <a:pt x="0" y="5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607080" y="5218200"/>
                <a:ext cx="265320" cy="199800"/>
              </a:xfrm>
              <a:custGeom>
                <a:avLst/>
                <a:gdLst/>
                <a:ahLst/>
                <a:rect l="l" t="t" r="r" b="b"/>
                <a:pathLst>
                  <a:path w="1339" h="1006">
                    <a:moveTo>
                      <a:pt x="0" y="196"/>
                    </a:moveTo>
                    <a:lnTo>
                      <a:pt x="154" y="0"/>
                    </a:lnTo>
                    <a:lnTo>
                      <a:pt x="1339" y="778"/>
                    </a:lnTo>
                    <a:lnTo>
                      <a:pt x="1196" y="1006"/>
                    </a:lnTo>
                    <a:lnTo>
                      <a:pt x="0"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567480" y="5230800"/>
                <a:ext cx="765360" cy="355680"/>
              </a:xfrm>
              <a:custGeom>
                <a:avLst/>
                <a:gdLst/>
                <a:ahLst/>
                <a:rect l="l" t="t" r="r" b="b"/>
                <a:pathLst>
                  <a:path w="3860" h="1788">
                    <a:moveTo>
                      <a:pt x="0" y="0"/>
                    </a:moveTo>
                    <a:lnTo>
                      <a:pt x="646" y="1163"/>
                    </a:lnTo>
                    <a:lnTo>
                      <a:pt x="1455" y="1788"/>
                    </a:lnTo>
                    <a:lnTo>
                      <a:pt x="1923" y="1626"/>
                    </a:lnTo>
                    <a:lnTo>
                      <a:pt x="3860" y="1077"/>
                    </a:lnTo>
                    <a:lnTo>
                      <a:pt x="3518" y="0"/>
                    </a:lnTo>
                    <a:lnTo>
                      <a:pt x="1589" y="628"/>
                    </a:lnTo>
                    <a:lnTo>
                      <a:pt x="1393" y="936"/>
                    </a:lnTo>
                    <a:lnTo>
                      <a:pt x="0"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845480" y="4898880"/>
                <a:ext cx="225360" cy="419400"/>
              </a:xfrm>
              <a:custGeom>
                <a:avLst/>
                <a:gdLst/>
                <a:ahLst/>
                <a:rect l="l" t="t" r="r" b="b"/>
                <a:pathLst>
                  <a:path w="1135" h="2112">
                    <a:moveTo>
                      <a:pt x="74" y="0"/>
                    </a:moveTo>
                    <a:lnTo>
                      <a:pt x="0" y="103"/>
                    </a:lnTo>
                    <a:lnTo>
                      <a:pt x="0" y="398"/>
                    </a:lnTo>
                    <a:lnTo>
                      <a:pt x="109" y="943"/>
                    </a:lnTo>
                    <a:lnTo>
                      <a:pt x="109" y="1215"/>
                    </a:lnTo>
                    <a:lnTo>
                      <a:pt x="195" y="1365"/>
                    </a:lnTo>
                    <a:lnTo>
                      <a:pt x="365" y="1719"/>
                    </a:lnTo>
                    <a:lnTo>
                      <a:pt x="522" y="1932"/>
                    </a:lnTo>
                    <a:lnTo>
                      <a:pt x="637" y="2112"/>
                    </a:lnTo>
                    <a:lnTo>
                      <a:pt x="885" y="1429"/>
                    </a:lnTo>
                    <a:lnTo>
                      <a:pt x="999" y="956"/>
                    </a:lnTo>
                    <a:lnTo>
                      <a:pt x="1075" y="495"/>
                    </a:lnTo>
                    <a:lnTo>
                      <a:pt x="1135" y="136"/>
                    </a:lnTo>
                    <a:lnTo>
                      <a:pt x="1135" y="46"/>
                    </a:lnTo>
                    <a:lnTo>
                      <a:pt x="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932600" y="5021280"/>
                <a:ext cx="86040" cy="307800"/>
              </a:xfrm>
              <a:custGeom>
                <a:avLst/>
                <a:gdLst/>
                <a:ahLst/>
                <a:rect l="l" t="t" r="r" b="b"/>
                <a:pathLst>
                  <a:path w="437" h="1553">
                    <a:moveTo>
                      <a:pt x="347" y="90"/>
                    </a:moveTo>
                    <a:lnTo>
                      <a:pt x="310" y="241"/>
                    </a:lnTo>
                    <a:lnTo>
                      <a:pt x="251" y="369"/>
                    </a:lnTo>
                    <a:lnTo>
                      <a:pt x="360" y="564"/>
                    </a:lnTo>
                    <a:lnTo>
                      <a:pt x="437" y="864"/>
                    </a:lnTo>
                    <a:lnTo>
                      <a:pt x="279" y="1338"/>
                    </a:lnTo>
                    <a:lnTo>
                      <a:pt x="202" y="1553"/>
                    </a:lnTo>
                    <a:lnTo>
                      <a:pt x="97" y="1334"/>
                    </a:lnTo>
                    <a:lnTo>
                      <a:pt x="0" y="1221"/>
                    </a:lnTo>
                    <a:lnTo>
                      <a:pt x="35" y="564"/>
                    </a:lnTo>
                    <a:lnTo>
                      <a:pt x="108" y="329"/>
                    </a:lnTo>
                    <a:lnTo>
                      <a:pt x="39" y="24"/>
                    </a:lnTo>
                    <a:lnTo>
                      <a:pt x="165" y="0"/>
                    </a:lnTo>
                    <a:lnTo>
                      <a:pt x="290" y="37"/>
                    </a:lnTo>
                    <a:lnTo>
                      <a:pt x="347" y="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929720" y="5019840"/>
                <a:ext cx="75960" cy="263520"/>
              </a:xfrm>
              <a:custGeom>
                <a:avLst/>
                <a:gdLst/>
                <a:ahLst/>
                <a:rect l="l" t="t" r="r" b="b"/>
                <a:pathLst>
                  <a:path w="387" h="1332">
                    <a:moveTo>
                      <a:pt x="233" y="33"/>
                    </a:moveTo>
                    <a:lnTo>
                      <a:pt x="212" y="312"/>
                    </a:lnTo>
                    <a:lnTo>
                      <a:pt x="387" y="646"/>
                    </a:lnTo>
                    <a:lnTo>
                      <a:pt x="280" y="506"/>
                    </a:lnTo>
                    <a:lnTo>
                      <a:pt x="318" y="646"/>
                    </a:lnTo>
                    <a:lnTo>
                      <a:pt x="159" y="793"/>
                    </a:lnTo>
                    <a:lnTo>
                      <a:pt x="122" y="637"/>
                    </a:lnTo>
                    <a:lnTo>
                      <a:pt x="87" y="1037"/>
                    </a:lnTo>
                    <a:lnTo>
                      <a:pt x="111" y="1332"/>
                    </a:lnTo>
                    <a:lnTo>
                      <a:pt x="9" y="1189"/>
                    </a:lnTo>
                    <a:lnTo>
                      <a:pt x="14" y="615"/>
                    </a:lnTo>
                    <a:lnTo>
                      <a:pt x="97" y="338"/>
                    </a:lnTo>
                    <a:lnTo>
                      <a:pt x="0" y="108"/>
                    </a:lnTo>
                    <a:lnTo>
                      <a:pt x="80" y="33"/>
                    </a:lnTo>
                    <a:lnTo>
                      <a:pt x="152" y="0"/>
                    </a:lnTo>
                    <a:lnTo>
                      <a:pt x="233" y="33"/>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607160" y="6200640"/>
                <a:ext cx="277920" cy="290520"/>
              </a:xfrm>
              <a:custGeom>
                <a:avLst/>
                <a:gdLst/>
                <a:ahLst/>
                <a:rect l="l" t="t" r="r" b="b"/>
                <a:pathLst>
                  <a:path w="1406" h="1462">
                    <a:moveTo>
                      <a:pt x="936" y="1452"/>
                    </a:moveTo>
                    <a:lnTo>
                      <a:pt x="1019" y="1100"/>
                    </a:lnTo>
                    <a:lnTo>
                      <a:pt x="1140" y="939"/>
                    </a:lnTo>
                    <a:lnTo>
                      <a:pt x="1298" y="858"/>
                    </a:lnTo>
                    <a:lnTo>
                      <a:pt x="1406" y="566"/>
                    </a:lnTo>
                    <a:lnTo>
                      <a:pt x="1298" y="282"/>
                    </a:lnTo>
                    <a:lnTo>
                      <a:pt x="1274" y="0"/>
                    </a:lnTo>
                    <a:lnTo>
                      <a:pt x="1221" y="0"/>
                    </a:lnTo>
                    <a:lnTo>
                      <a:pt x="1122" y="111"/>
                    </a:lnTo>
                    <a:lnTo>
                      <a:pt x="1107" y="364"/>
                    </a:lnTo>
                    <a:lnTo>
                      <a:pt x="892" y="148"/>
                    </a:lnTo>
                    <a:lnTo>
                      <a:pt x="692" y="180"/>
                    </a:lnTo>
                    <a:lnTo>
                      <a:pt x="465" y="122"/>
                    </a:lnTo>
                    <a:lnTo>
                      <a:pt x="400" y="129"/>
                    </a:lnTo>
                    <a:lnTo>
                      <a:pt x="345" y="233"/>
                    </a:lnTo>
                    <a:lnTo>
                      <a:pt x="276" y="217"/>
                    </a:lnTo>
                    <a:lnTo>
                      <a:pt x="173" y="270"/>
                    </a:lnTo>
                    <a:lnTo>
                      <a:pt x="163" y="325"/>
                    </a:lnTo>
                    <a:lnTo>
                      <a:pt x="83" y="328"/>
                    </a:lnTo>
                    <a:lnTo>
                      <a:pt x="22" y="369"/>
                    </a:lnTo>
                    <a:lnTo>
                      <a:pt x="0" y="447"/>
                    </a:lnTo>
                    <a:lnTo>
                      <a:pt x="22" y="566"/>
                    </a:lnTo>
                    <a:lnTo>
                      <a:pt x="186" y="713"/>
                    </a:lnTo>
                    <a:lnTo>
                      <a:pt x="267" y="858"/>
                    </a:lnTo>
                    <a:lnTo>
                      <a:pt x="382" y="1082"/>
                    </a:lnTo>
                    <a:lnTo>
                      <a:pt x="562" y="1291"/>
                    </a:lnTo>
                    <a:lnTo>
                      <a:pt x="742" y="1434"/>
                    </a:lnTo>
                    <a:lnTo>
                      <a:pt x="903" y="1462"/>
                    </a:lnTo>
                    <a:lnTo>
                      <a:pt x="936" y="1452"/>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786800" y="5854680"/>
                <a:ext cx="365040" cy="293760"/>
              </a:xfrm>
              <a:custGeom>
                <a:avLst/>
                <a:gdLst/>
                <a:ahLst/>
                <a:rect l="l" t="t" r="r" b="b"/>
                <a:pathLst>
                  <a:path w="1842" h="1478">
                    <a:moveTo>
                      <a:pt x="1661" y="1478"/>
                    </a:moveTo>
                    <a:lnTo>
                      <a:pt x="1842" y="943"/>
                    </a:lnTo>
                    <a:lnTo>
                      <a:pt x="1525" y="722"/>
                    </a:lnTo>
                    <a:lnTo>
                      <a:pt x="1255" y="419"/>
                    </a:lnTo>
                    <a:lnTo>
                      <a:pt x="903" y="235"/>
                    </a:lnTo>
                    <a:lnTo>
                      <a:pt x="341" y="32"/>
                    </a:lnTo>
                    <a:lnTo>
                      <a:pt x="53" y="0"/>
                    </a:lnTo>
                    <a:lnTo>
                      <a:pt x="19" y="0"/>
                    </a:lnTo>
                    <a:lnTo>
                      <a:pt x="0" y="19"/>
                    </a:lnTo>
                    <a:lnTo>
                      <a:pt x="0" y="63"/>
                    </a:lnTo>
                    <a:lnTo>
                      <a:pt x="68" y="140"/>
                    </a:lnTo>
                    <a:lnTo>
                      <a:pt x="512" y="316"/>
                    </a:lnTo>
                    <a:lnTo>
                      <a:pt x="606" y="399"/>
                    </a:lnTo>
                    <a:lnTo>
                      <a:pt x="635" y="507"/>
                    </a:lnTo>
                    <a:lnTo>
                      <a:pt x="399" y="436"/>
                    </a:lnTo>
                    <a:lnTo>
                      <a:pt x="360" y="436"/>
                    </a:lnTo>
                    <a:lnTo>
                      <a:pt x="314" y="465"/>
                    </a:lnTo>
                    <a:lnTo>
                      <a:pt x="305" y="540"/>
                    </a:lnTo>
                    <a:lnTo>
                      <a:pt x="334" y="634"/>
                    </a:lnTo>
                    <a:lnTo>
                      <a:pt x="341" y="756"/>
                    </a:lnTo>
                    <a:lnTo>
                      <a:pt x="392" y="828"/>
                    </a:lnTo>
                    <a:lnTo>
                      <a:pt x="588" y="894"/>
                    </a:lnTo>
                    <a:lnTo>
                      <a:pt x="389" y="1001"/>
                    </a:lnTo>
                    <a:lnTo>
                      <a:pt x="417" y="1109"/>
                    </a:lnTo>
                    <a:lnTo>
                      <a:pt x="542" y="1109"/>
                    </a:lnTo>
                    <a:lnTo>
                      <a:pt x="867" y="1217"/>
                    </a:lnTo>
                    <a:lnTo>
                      <a:pt x="1083" y="1331"/>
                    </a:lnTo>
                    <a:lnTo>
                      <a:pt x="1248" y="1367"/>
                    </a:lnTo>
                    <a:lnTo>
                      <a:pt x="1377" y="1370"/>
                    </a:lnTo>
                    <a:lnTo>
                      <a:pt x="1428" y="1367"/>
                    </a:lnTo>
                    <a:lnTo>
                      <a:pt x="1661" y="147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161200" y="5068800"/>
                <a:ext cx="416160" cy="513000"/>
              </a:xfrm>
              <a:custGeom>
                <a:avLst/>
                <a:gdLst/>
                <a:ahLst/>
                <a:rect l="l" t="t" r="r" b="b"/>
                <a:pathLst>
                  <a:path w="2096" h="2582">
                    <a:moveTo>
                      <a:pt x="533" y="0"/>
                    </a:moveTo>
                    <a:lnTo>
                      <a:pt x="441" y="77"/>
                    </a:lnTo>
                    <a:lnTo>
                      <a:pt x="376" y="240"/>
                    </a:lnTo>
                    <a:lnTo>
                      <a:pt x="314" y="450"/>
                    </a:lnTo>
                    <a:lnTo>
                      <a:pt x="307" y="517"/>
                    </a:lnTo>
                    <a:lnTo>
                      <a:pt x="254" y="622"/>
                    </a:lnTo>
                    <a:lnTo>
                      <a:pt x="254" y="675"/>
                    </a:lnTo>
                    <a:lnTo>
                      <a:pt x="281" y="756"/>
                    </a:lnTo>
                    <a:lnTo>
                      <a:pt x="281" y="816"/>
                    </a:lnTo>
                    <a:lnTo>
                      <a:pt x="173" y="941"/>
                    </a:lnTo>
                    <a:lnTo>
                      <a:pt x="92" y="1066"/>
                    </a:lnTo>
                    <a:lnTo>
                      <a:pt x="0" y="1255"/>
                    </a:lnTo>
                    <a:lnTo>
                      <a:pt x="15" y="1291"/>
                    </a:lnTo>
                    <a:lnTo>
                      <a:pt x="193" y="1345"/>
                    </a:lnTo>
                    <a:lnTo>
                      <a:pt x="238" y="1418"/>
                    </a:lnTo>
                    <a:lnTo>
                      <a:pt x="238" y="1448"/>
                    </a:lnTo>
                    <a:lnTo>
                      <a:pt x="193" y="1575"/>
                    </a:lnTo>
                    <a:lnTo>
                      <a:pt x="229" y="1609"/>
                    </a:lnTo>
                    <a:lnTo>
                      <a:pt x="217" y="1666"/>
                    </a:lnTo>
                    <a:lnTo>
                      <a:pt x="254" y="1732"/>
                    </a:lnTo>
                    <a:lnTo>
                      <a:pt x="289" y="1824"/>
                    </a:lnTo>
                    <a:lnTo>
                      <a:pt x="281" y="1870"/>
                    </a:lnTo>
                    <a:lnTo>
                      <a:pt x="254" y="1950"/>
                    </a:lnTo>
                    <a:lnTo>
                      <a:pt x="254" y="2006"/>
                    </a:lnTo>
                    <a:lnTo>
                      <a:pt x="298" y="2094"/>
                    </a:lnTo>
                    <a:lnTo>
                      <a:pt x="395" y="2165"/>
                    </a:lnTo>
                    <a:lnTo>
                      <a:pt x="604" y="2188"/>
                    </a:lnTo>
                    <a:lnTo>
                      <a:pt x="755" y="2229"/>
                    </a:lnTo>
                    <a:lnTo>
                      <a:pt x="844" y="2312"/>
                    </a:lnTo>
                    <a:lnTo>
                      <a:pt x="923" y="2446"/>
                    </a:lnTo>
                    <a:lnTo>
                      <a:pt x="955" y="2582"/>
                    </a:lnTo>
                    <a:lnTo>
                      <a:pt x="1043" y="2421"/>
                    </a:lnTo>
                    <a:lnTo>
                      <a:pt x="1237" y="2241"/>
                    </a:lnTo>
                    <a:lnTo>
                      <a:pt x="1457" y="2094"/>
                    </a:lnTo>
                    <a:lnTo>
                      <a:pt x="1714" y="1996"/>
                    </a:lnTo>
                    <a:lnTo>
                      <a:pt x="2096" y="1905"/>
                    </a:lnTo>
                    <a:lnTo>
                      <a:pt x="1176" y="240"/>
                    </a:lnTo>
                    <a:lnTo>
                      <a:pt x="533"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278920" y="4950000"/>
                <a:ext cx="293760" cy="66600"/>
              </a:xfrm>
              <a:custGeom>
                <a:avLst/>
                <a:gdLst/>
                <a:ahLst/>
                <a:rect l="l" t="t" r="r" b="b"/>
                <a:pathLst>
                  <a:path w="1483" h="339">
                    <a:moveTo>
                      <a:pt x="0" y="330"/>
                    </a:moveTo>
                    <a:lnTo>
                      <a:pt x="72" y="261"/>
                    </a:lnTo>
                    <a:lnTo>
                      <a:pt x="251" y="127"/>
                    </a:lnTo>
                    <a:lnTo>
                      <a:pt x="450" y="58"/>
                    </a:lnTo>
                    <a:lnTo>
                      <a:pt x="784" y="0"/>
                    </a:lnTo>
                    <a:lnTo>
                      <a:pt x="1022" y="0"/>
                    </a:lnTo>
                    <a:lnTo>
                      <a:pt x="1242" y="37"/>
                    </a:lnTo>
                    <a:lnTo>
                      <a:pt x="1400" y="81"/>
                    </a:lnTo>
                    <a:lnTo>
                      <a:pt x="1483" y="152"/>
                    </a:lnTo>
                    <a:lnTo>
                      <a:pt x="872" y="310"/>
                    </a:lnTo>
                    <a:lnTo>
                      <a:pt x="64" y="339"/>
                    </a:lnTo>
                    <a:lnTo>
                      <a:pt x="0" y="330"/>
                    </a:lnTo>
                    <a:close/>
                  </a:path>
                </a:pathLst>
              </a:custGeom>
              <a:solidFill>
                <a:srgbClr val="70230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00" name=""/>
              <p:cNvSpPr/>
              <p:nvPr/>
            </p:nvSpPr>
            <p:spPr>
              <a:xfrm>
                <a:off x="7132680" y="5398920"/>
                <a:ext cx="285840" cy="216000"/>
              </a:xfrm>
              <a:custGeom>
                <a:avLst/>
                <a:gdLst/>
                <a:ahLst/>
                <a:rect l="l" t="t" r="r" b="b"/>
                <a:pathLst>
                  <a:path w="1443" h="1092">
                    <a:moveTo>
                      <a:pt x="1259" y="584"/>
                    </a:moveTo>
                    <a:lnTo>
                      <a:pt x="1215" y="566"/>
                    </a:lnTo>
                    <a:lnTo>
                      <a:pt x="1153" y="527"/>
                    </a:lnTo>
                    <a:lnTo>
                      <a:pt x="716" y="527"/>
                    </a:lnTo>
                    <a:lnTo>
                      <a:pt x="689" y="657"/>
                    </a:lnTo>
                    <a:lnTo>
                      <a:pt x="659" y="771"/>
                    </a:lnTo>
                    <a:lnTo>
                      <a:pt x="582" y="888"/>
                    </a:lnTo>
                    <a:lnTo>
                      <a:pt x="518" y="905"/>
                    </a:lnTo>
                    <a:lnTo>
                      <a:pt x="518" y="999"/>
                    </a:lnTo>
                    <a:lnTo>
                      <a:pt x="461" y="1092"/>
                    </a:lnTo>
                    <a:lnTo>
                      <a:pt x="389" y="1057"/>
                    </a:lnTo>
                    <a:lnTo>
                      <a:pt x="375" y="1020"/>
                    </a:lnTo>
                    <a:lnTo>
                      <a:pt x="336" y="1037"/>
                    </a:lnTo>
                    <a:lnTo>
                      <a:pt x="259" y="1008"/>
                    </a:lnTo>
                    <a:lnTo>
                      <a:pt x="202" y="875"/>
                    </a:lnTo>
                    <a:lnTo>
                      <a:pt x="0" y="612"/>
                    </a:lnTo>
                    <a:lnTo>
                      <a:pt x="0" y="435"/>
                    </a:lnTo>
                    <a:lnTo>
                      <a:pt x="92" y="349"/>
                    </a:lnTo>
                    <a:lnTo>
                      <a:pt x="292" y="266"/>
                    </a:lnTo>
                    <a:lnTo>
                      <a:pt x="373" y="204"/>
                    </a:lnTo>
                    <a:lnTo>
                      <a:pt x="558" y="105"/>
                    </a:lnTo>
                    <a:lnTo>
                      <a:pt x="677" y="77"/>
                    </a:lnTo>
                    <a:lnTo>
                      <a:pt x="804" y="0"/>
                    </a:lnTo>
                    <a:lnTo>
                      <a:pt x="1044" y="0"/>
                    </a:lnTo>
                    <a:lnTo>
                      <a:pt x="1136" y="24"/>
                    </a:lnTo>
                    <a:lnTo>
                      <a:pt x="1252" y="103"/>
                    </a:lnTo>
                    <a:lnTo>
                      <a:pt x="1277" y="144"/>
                    </a:lnTo>
                    <a:lnTo>
                      <a:pt x="1428" y="236"/>
                    </a:lnTo>
                    <a:lnTo>
                      <a:pt x="1443" y="294"/>
                    </a:lnTo>
                    <a:lnTo>
                      <a:pt x="1395" y="402"/>
                    </a:lnTo>
                    <a:lnTo>
                      <a:pt x="1351" y="545"/>
                    </a:lnTo>
                    <a:lnTo>
                      <a:pt x="1259" y="584"/>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804080" y="4581360"/>
                <a:ext cx="327240" cy="439920"/>
              </a:xfrm>
              <a:custGeom>
                <a:avLst/>
                <a:gdLst/>
                <a:ahLst/>
                <a:rect l="l" t="t" r="r" b="b"/>
                <a:pathLst>
                  <a:path w="1648" h="2211">
                    <a:moveTo>
                      <a:pt x="30" y="608"/>
                    </a:moveTo>
                    <a:lnTo>
                      <a:pt x="0" y="648"/>
                    </a:lnTo>
                    <a:lnTo>
                      <a:pt x="0" y="734"/>
                    </a:lnTo>
                    <a:lnTo>
                      <a:pt x="37" y="972"/>
                    </a:lnTo>
                    <a:lnTo>
                      <a:pt x="96" y="1106"/>
                    </a:lnTo>
                    <a:lnTo>
                      <a:pt x="180" y="1134"/>
                    </a:lnTo>
                    <a:lnTo>
                      <a:pt x="302" y="1657"/>
                    </a:lnTo>
                    <a:lnTo>
                      <a:pt x="302" y="1784"/>
                    </a:lnTo>
                    <a:lnTo>
                      <a:pt x="390" y="1991"/>
                    </a:lnTo>
                    <a:lnTo>
                      <a:pt x="760" y="2211"/>
                    </a:lnTo>
                    <a:lnTo>
                      <a:pt x="1151" y="1966"/>
                    </a:lnTo>
                    <a:lnTo>
                      <a:pt x="1353" y="1639"/>
                    </a:lnTo>
                    <a:lnTo>
                      <a:pt x="1386" y="1583"/>
                    </a:lnTo>
                    <a:lnTo>
                      <a:pt x="1482" y="1097"/>
                    </a:lnTo>
                    <a:lnTo>
                      <a:pt x="1551" y="1039"/>
                    </a:lnTo>
                    <a:lnTo>
                      <a:pt x="1602" y="862"/>
                    </a:lnTo>
                    <a:lnTo>
                      <a:pt x="1648" y="742"/>
                    </a:lnTo>
                    <a:lnTo>
                      <a:pt x="1648" y="686"/>
                    </a:lnTo>
                    <a:lnTo>
                      <a:pt x="1630" y="657"/>
                    </a:lnTo>
                    <a:lnTo>
                      <a:pt x="1593" y="640"/>
                    </a:lnTo>
                    <a:lnTo>
                      <a:pt x="1498" y="270"/>
                    </a:lnTo>
                    <a:lnTo>
                      <a:pt x="1424" y="0"/>
                    </a:lnTo>
                    <a:lnTo>
                      <a:pt x="237" y="136"/>
                    </a:lnTo>
                    <a:lnTo>
                      <a:pt x="133" y="334"/>
                    </a:lnTo>
                    <a:lnTo>
                      <a:pt x="30" y="60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19920" y="4478400"/>
                <a:ext cx="314280" cy="244440"/>
              </a:xfrm>
              <a:custGeom>
                <a:avLst/>
                <a:gdLst/>
                <a:ahLst/>
                <a:rect l="l" t="t" r="r" b="b"/>
                <a:pathLst>
                  <a:path w="1584" h="1228">
                    <a:moveTo>
                      <a:pt x="152" y="714"/>
                    </a:moveTo>
                    <a:lnTo>
                      <a:pt x="226" y="677"/>
                    </a:lnTo>
                    <a:lnTo>
                      <a:pt x="444" y="772"/>
                    </a:lnTo>
                    <a:lnTo>
                      <a:pt x="551" y="772"/>
                    </a:lnTo>
                    <a:lnTo>
                      <a:pt x="745" y="677"/>
                    </a:lnTo>
                    <a:lnTo>
                      <a:pt x="802" y="684"/>
                    </a:lnTo>
                    <a:lnTo>
                      <a:pt x="897" y="783"/>
                    </a:lnTo>
                    <a:lnTo>
                      <a:pt x="1319" y="521"/>
                    </a:lnTo>
                    <a:lnTo>
                      <a:pt x="1354" y="598"/>
                    </a:lnTo>
                    <a:lnTo>
                      <a:pt x="1422" y="912"/>
                    </a:lnTo>
                    <a:lnTo>
                      <a:pt x="1406" y="1066"/>
                    </a:lnTo>
                    <a:lnTo>
                      <a:pt x="1446" y="1228"/>
                    </a:lnTo>
                    <a:lnTo>
                      <a:pt x="1584" y="868"/>
                    </a:lnTo>
                    <a:lnTo>
                      <a:pt x="1540" y="620"/>
                    </a:lnTo>
                    <a:lnTo>
                      <a:pt x="1413" y="435"/>
                    </a:lnTo>
                    <a:lnTo>
                      <a:pt x="1348" y="389"/>
                    </a:lnTo>
                    <a:lnTo>
                      <a:pt x="1222" y="161"/>
                    </a:lnTo>
                    <a:lnTo>
                      <a:pt x="943" y="0"/>
                    </a:lnTo>
                    <a:lnTo>
                      <a:pt x="827" y="0"/>
                    </a:lnTo>
                    <a:lnTo>
                      <a:pt x="541" y="69"/>
                    </a:lnTo>
                    <a:lnTo>
                      <a:pt x="205" y="267"/>
                    </a:lnTo>
                    <a:lnTo>
                      <a:pt x="0" y="811"/>
                    </a:lnTo>
                    <a:lnTo>
                      <a:pt x="80" y="846"/>
                    </a:lnTo>
                    <a:lnTo>
                      <a:pt x="152" y="714"/>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710400" y="5392800"/>
                <a:ext cx="279360" cy="304560"/>
              </a:xfrm>
              <a:custGeom>
                <a:avLst/>
                <a:gdLst/>
                <a:ahLst/>
                <a:rect l="l" t="t" r="r" b="b"/>
                <a:pathLst>
                  <a:path w="1409" h="1537">
                    <a:moveTo>
                      <a:pt x="7" y="0"/>
                    </a:moveTo>
                    <a:lnTo>
                      <a:pt x="93" y="152"/>
                    </a:lnTo>
                    <a:lnTo>
                      <a:pt x="175" y="350"/>
                    </a:lnTo>
                    <a:lnTo>
                      <a:pt x="196" y="488"/>
                    </a:lnTo>
                    <a:lnTo>
                      <a:pt x="231" y="694"/>
                    </a:lnTo>
                    <a:lnTo>
                      <a:pt x="16" y="921"/>
                    </a:lnTo>
                    <a:lnTo>
                      <a:pt x="0" y="1062"/>
                    </a:lnTo>
                    <a:lnTo>
                      <a:pt x="55" y="1205"/>
                    </a:lnTo>
                    <a:lnTo>
                      <a:pt x="196" y="1360"/>
                    </a:lnTo>
                    <a:lnTo>
                      <a:pt x="332" y="1537"/>
                    </a:lnTo>
                    <a:lnTo>
                      <a:pt x="408" y="1537"/>
                    </a:lnTo>
                    <a:lnTo>
                      <a:pt x="521" y="1521"/>
                    </a:lnTo>
                    <a:lnTo>
                      <a:pt x="627" y="1373"/>
                    </a:lnTo>
                    <a:lnTo>
                      <a:pt x="708" y="1249"/>
                    </a:lnTo>
                    <a:lnTo>
                      <a:pt x="789" y="1120"/>
                    </a:lnTo>
                    <a:lnTo>
                      <a:pt x="1023" y="1097"/>
                    </a:lnTo>
                    <a:lnTo>
                      <a:pt x="1106" y="975"/>
                    </a:lnTo>
                    <a:lnTo>
                      <a:pt x="1277" y="672"/>
                    </a:lnTo>
                    <a:lnTo>
                      <a:pt x="1409" y="281"/>
                    </a:lnTo>
                    <a:lnTo>
                      <a:pt x="1341" y="294"/>
                    </a:lnTo>
                    <a:lnTo>
                      <a:pt x="1397" y="110"/>
                    </a:lnTo>
                    <a:lnTo>
                      <a:pt x="1275" y="170"/>
                    </a:lnTo>
                    <a:lnTo>
                      <a:pt x="1106" y="431"/>
                    </a:lnTo>
                    <a:lnTo>
                      <a:pt x="791" y="714"/>
                    </a:lnTo>
                    <a:lnTo>
                      <a:pt x="722" y="714"/>
                    </a:lnTo>
                    <a:lnTo>
                      <a:pt x="961" y="488"/>
                    </a:lnTo>
                    <a:lnTo>
                      <a:pt x="1060" y="152"/>
                    </a:lnTo>
                    <a:lnTo>
                      <a:pt x="985" y="195"/>
                    </a:lnTo>
                    <a:lnTo>
                      <a:pt x="858" y="431"/>
                    </a:lnTo>
                    <a:lnTo>
                      <a:pt x="570" y="518"/>
                    </a:lnTo>
                    <a:lnTo>
                      <a:pt x="484" y="505"/>
                    </a:lnTo>
                    <a:lnTo>
                      <a:pt x="376" y="380"/>
                    </a:lnTo>
                    <a:lnTo>
                      <a:pt x="231" y="152"/>
                    </a:lnTo>
                    <a:lnTo>
                      <a:pt x="93" y="33"/>
                    </a:lnTo>
                    <a:lnTo>
                      <a:pt x="7"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975360" y="4599000"/>
                <a:ext cx="301680" cy="407880"/>
              </a:xfrm>
              <a:custGeom>
                <a:avLst/>
                <a:gdLst/>
                <a:ahLst/>
                <a:rect l="l" t="t" r="r" b="b"/>
                <a:pathLst>
                  <a:path w="1520" h="2056">
                    <a:moveTo>
                      <a:pt x="0" y="777"/>
                    </a:moveTo>
                    <a:lnTo>
                      <a:pt x="0" y="922"/>
                    </a:lnTo>
                    <a:lnTo>
                      <a:pt x="318" y="1361"/>
                    </a:lnTo>
                    <a:lnTo>
                      <a:pt x="237" y="1664"/>
                    </a:lnTo>
                    <a:lnTo>
                      <a:pt x="341" y="1816"/>
                    </a:lnTo>
                    <a:lnTo>
                      <a:pt x="523" y="1923"/>
                    </a:lnTo>
                    <a:lnTo>
                      <a:pt x="821" y="2056"/>
                    </a:lnTo>
                    <a:lnTo>
                      <a:pt x="1003" y="1964"/>
                    </a:lnTo>
                    <a:lnTo>
                      <a:pt x="1140" y="1803"/>
                    </a:lnTo>
                    <a:lnTo>
                      <a:pt x="1151" y="1602"/>
                    </a:lnTo>
                    <a:lnTo>
                      <a:pt x="1335" y="1554"/>
                    </a:lnTo>
                    <a:lnTo>
                      <a:pt x="1367" y="1440"/>
                    </a:lnTo>
                    <a:lnTo>
                      <a:pt x="1415" y="1203"/>
                    </a:lnTo>
                    <a:lnTo>
                      <a:pt x="1505" y="972"/>
                    </a:lnTo>
                    <a:lnTo>
                      <a:pt x="1520" y="864"/>
                    </a:lnTo>
                    <a:lnTo>
                      <a:pt x="1520" y="763"/>
                    </a:lnTo>
                    <a:lnTo>
                      <a:pt x="1496" y="666"/>
                    </a:lnTo>
                    <a:lnTo>
                      <a:pt x="1450" y="546"/>
                    </a:lnTo>
                    <a:lnTo>
                      <a:pt x="1450" y="410"/>
                    </a:lnTo>
                    <a:lnTo>
                      <a:pt x="1330" y="90"/>
                    </a:lnTo>
                    <a:lnTo>
                      <a:pt x="1222" y="42"/>
                    </a:lnTo>
                    <a:lnTo>
                      <a:pt x="670" y="0"/>
                    </a:lnTo>
                    <a:lnTo>
                      <a:pt x="62" y="647"/>
                    </a:lnTo>
                    <a:lnTo>
                      <a:pt x="0" y="77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986520" y="4448160"/>
                <a:ext cx="285840" cy="171360"/>
              </a:xfrm>
              <a:custGeom>
                <a:avLst/>
                <a:gdLst/>
                <a:ahLst/>
                <a:rect l="l" t="t" r="r" b="b"/>
                <a:pathLst>
                  <a:path w="1441" h="863">
                    <a:moveTo>
                      <a:pt x="44" y="593"/>
                    </a:moveTo>
                    <a:lnTo>
                      <a:pt x="0" y="505"/>
                    </a:lnTo>
                    <a:lnTo>
                      <a:pt x="153" y="353"/>
                    </a:lnTo>
                    <a:lnTo>
                      <a:pt x="116" y="208"/>
                    </a:lnTo>
                    <a:lnTo>
                      <a:pt x="494" y="0"/>
                    </a:lnTo>
                    <a:lnTo>
                      <a:pt x="874" y="90"/>
                    </a:lnTo>
                    <a:lnTo>
                      <a:pt x="1441" y="613"/>
                    </a:lnTo>
                    <a:lnTo>
                      <a:pt x="1441" y="863"/>
                    </a:lnTo>
                    <a:lnTo>
                      <a:pt x="913" y="733"/>
                    </a:lnTo>
                    <a:lnTo>
                      <a:pt x="913" y="650"/>
                    </a:lnTo>
                    <a:lnTo>
                      <a:pt x="617" y="634"/>
                    </a:lnTo>
                    <a:lnTo>
                      <a:pt x="625" y="466"/>
                    </a:lnTo>
                    <a:lnTo>
                      <a:pt x="44" y="593"/>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172280" y="4832280"/>
                <a:ext cx="74520" cy="17640"/>
              </a:xfrm>
              <a:custGeom>
                <a:avLst/>
                <a:gdLst/>
                <a:ahLst/>
                <a:rect l="l" t="t" r="r" b="b"/>
                <a:pathLst>
                  <a:path w="380" h="94">
                    <a:moveTo>
                      <a:pt x="380" y="0"/>
                    </a:moveTo>
                    <a:lnTo>
                      <a:pt x="342" y="55"/>
                    </a:lnTo>
                    <a:lnTo>
                      <a:pt x="263" y="94"/>
                    </a:lnTo>
                    <a:lnTo>
                      <a:pt x="136" y="94"/>
                    </a:lnTo>
                    <a:lnTo>
                      <a:pt x="61" y="55"/>
                    </a:lnTo>
                    <a:lnTo>
                      <a:pt x="0" y="18"/>
                    </a:lnTo>
                    <a:lnTo>
                      <a:pt x="158" y="40"/>
                    </a:lnTo>
                    <a:lnTo>
                      <a:pt x="288" y="40"/>
                    </a:lnTo>
                    <a:lnTo>
                      <a:pt x="380" y="0"/>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7" name=""/>
              <p:cNvSpPr/>
              <p:nvPr/>
            </p:nvSpPr>
            <p:spPr>
              <a:xfrm>
                <a:off x="7172280" y="4821120"/>
                <a:ext cx="74520" cy="17640"/>
              </a:xfrm>
              <a:custGeom>
                <a:avLst/>
                <a:gdLst/>
                <a:ahLst/>
                <a:rect l="l" t="t" r="r" b="b"/>
                <a:pathLst>
                  <a:path w="380" h="88">
                    <a:moveTo>
                      <a:pt x="0" y="66"/>
                    </a:moveTo>
                    <a:lnTo>
                      <a:pt x="147" y="88"/>
                    </a:lnTo>
                    <a:lnTo>
                      <a:pt x="288" y="88"/>
                    </a:lnTo>
                    <a:lnTo>
                      <a:pt x="380" y="57"/>
                    </a:lnTo>
                    <a:lnTo>
                      <a:pt x="380" y="26"/>
                    </a:lnTo>
                    <a:lnTo>
                      <a:pt x="337" y="0"/>
                    </a:lnTo>
                    <a:lnTo>
                      <a:pt x="173" y="0"/>
                    </a:lnTo>
                    <a:lnTo>
                      <a:pt x="0" y="6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8" name=""/>
              <p:cNvSpPr/>
              <p:nvPr/>
            </p:nvSpPr>
            <p:spPr>
              <a:xfrm>
                <a:off x="7140600" y="4719600"/>
                <a:ext cx="33480" cy="14400"/>
              </a:xfrm>
              <a:custGeom>
                <a:avLst/>
                <a:gdLst/>
                <a:ahLst/>
                <a:rect l="l" t="t" r="r" b="b"/>
                <a:pathLst>
                  <a:path w="169" h="69">
                    <a:moveTo>
                      <a:pt x="0" y="41"/>
                    </a:moveTo>
                    <a:lnTo>
                      <a:pt x="42" y="69"/>
                    </a:lnTo>
                    <a:lnTo>
                      <a:pt x="102" y="69"/>
                    </a:lnTo>
                    <a:lnTo>
                      <a:pt x="169" y="30"/>
                    </a:lnTo>
                    <a:lnTo>
                      <a:pt x="102" y="0"/>
                    </a:lnTo>
                    <a:lnTo>
                      <a:pt x="0" y="4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9" name=""/>
              <p:cNvSpPr/>
              <p:nvPr/>
            </p:nvSpPr>
            <p:spPr>
              <a:xfrm>
                <a:off x="7229520" y="4716360"/>
                <a:ext cx="28440" cy="11160"/>
              </a:xfrm>
              <a:custGeom>
                <a:avLst/>
                <a:gdLst/>
                <a:ahLst/>
                <a:rect l="l" t="t" r="r" b="b"/>
                <a:pathLst>
                  <a:path w="143" h="53">
                    <a:moveTo>
                      <a:pt x="0" y="33"/>
                    </a:moveTo>
                    <a:lnTo>
                      <a:pt x="98" y="53"/>
                    </a:lnTo>
                    <a:lnTo>
                      <a:pt x="143" y="0"/>
                    </a:lnTo>
                    <a:lnTo>
                      <a:pt x="54" y="0"/>
                    </a:lnTo>
                    <a:lnTo>
                      <a:pt x="0" y="3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7365960" y="5524560"/>
                <a:ext cx="450720" cy="579240"/>
              </a:xfrm>
              <a:custGeom>
                <a:avLst/>
                <a:gdLst/>
                <a:ahLst/>
                <a:rect l="l" t="t" r="r" b="b"/>
                <a:pathLst>
                  <a:path w="2268" h="2923">
                    <a:moveTo>
                      <a:pt x="2254" y="1819"/>
                    </a:moveTo>
                    <a:lnTo>
                      <a:pt x="2169" y="1775"/>
                    </a:lnTo>
                    <a:lnTo>
                      <a:pt x="2127" y="1701"/>
                    </a:lnTo>
                    <a:lnTo>
                      <a:pt x="2127" y="1650"/>
                    </a:lnTo>
                    <a:lnTo>
                      <a:pt x="2254" y="1650"/>
                    </a:lnTo>
                    <a:lnTo>
                      <a:pt x="2268" y="1659"/>
                    </a:lnTo>
                    <a:lnTo>
                      <a:pt x="2268" y="0"/>
                    </a:lnTo>
                    <a:lnTo>
                      <a:pt x="0" y="0"/>
                    </a:lnTo>
                    <a:lnTo>
                      <a:pt x="0" y="2902"/>
                    </a:lnTo>
                    <a:lnTo>
                      <a:pt x="23" y="2923"/>
                    </a:lnTo>
                    <a:lnTo>
                      <a:pt x="2268" y="2685"/>
                    </a:lnTo>
                    <a:lnTo>
                      <a:pt x="2268" y="1844"/>
                    </a:lnTo>
                    <a:lnTo>
                      <a:pt x="2254" y="1819"/>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437600" y="5557680"/>
                <a:ext cx="331560" cy="487440"/>
              </a:xfrm>
              <a:custGeom>
                <a:avLst/>
                <a:gdLst/>
                <a:ahLst/>
                <a:rect l="l" t="t" r="r" b="b"/>
                <a:pathLst>
                  <a:path w="1678" h="2453">
                    <a:moveTo>
                      <a:pt x="1678" y="1227"/>
                    </a:moveTo>
                    <a:lnTo>
                      <a:pt x="1673" y="1141"/>
                    </a:lnTo>
                    <a:lnTo>
                      <a:pt x="1667" y="1056"/>
                    </a:lnTo>
                    <a:lnTo>
                      <a:pt x="1658" y="973"/>
                    </a:lnTo>
                    <a:lnTo>
                      <a:pt x="1646" y="887"/>
                    </a:lnTo>
                    <a:lnTo>
                      <a:pt x="1623" y="805"/>
                    </a:lnTo>
                    <a:lnTo>
                      <a:pt x="1600" y="726"/>
                    </a:lnTo>
                    <a:lnTo>
                      <a:pt x="1577" y="650"/>
                    </a:lnTo>
                    <a:lnTo>
                      <a:pt x="1550" y="572"/>
                    </a:lnTo>
                    <a:lnTo>
                      <a:pt x="1515" y="502"/>
                    </a:lnTo>
                    <a:lnTo>
                      <a:pt x="1478" y="436"/>
                    </a:lnTo>
                    <a:lnTo>
                      <a:pt x="1440" y="371"/>
                    </a:lnTo>
                    <a:lnTo>
                      <a:pt x="1401" y="313"/>
                    </a:lnTo>
                    <a:lnTo>
                      <a:pt x="1354" y="258"/>
                    </a:lnTo>
                    <a:lnTo>
                      <a:pt x="1307" y="210"/>
                    </a:lnTo>
                    <a:lnTo>
                      <a:pt x="1251" y="164"/>
                    </a:lnTo>
                    <a:lnTo>
                      <a:pt x="1201" y="122"/>
                    </a:lnTo>
                    <a:lnTo>
                      <a:pt x="1148" y="87"/>
                    </a:lnTo>
                    <a:lnTo>
                      <a:pt x="1088" y="56"/>
                    </a:lnTo>
                    <a:lnTo>
                      <a:pt x="1031" y="39"/>
                    </a:lnTo>
                    <a:lnTo>
                      <a:pt x="978" y="21"/>
                    </a:lnTo>
                    <a:lnTo>
                      <a:pt x="917" y="9"/>
                    </a:lnTo>
                    <a:lnTo>
                      <a:pt x="858" y="0"/>
                    </a:lnTo>
                    <a:lnTo>
                      <a:pt x="805" y="5"/>
                    </a:lnTo>
                    <a:lnTo>
                      <a:pt x="742" y="12"/>
                    </a:lnTo>
                    <a:lnTo>
                      <a:pt x="687" y="25"/>
                    </a:lnTo>
                    <a:lnTo>
                      <a:pt x="625" y="41"/>
                    </a:lnTo>
                    <a:lnTo>
                      <a:pt x="567" y="65"/>
                    </a:lnTo>
                    <a:lnTo>
                      <a:pt x="514" y="97"/>
                    </a:lnTo>
                    <a:lnTo>
                      <a:pt x="460" y="133"/>
                    </a:lnTo>
                    <a:lnTo>
                      <a:pt x="408" y="177"/>
                    </a:lnTo>
                    <a:lnTo>
                      <a:pt x="359" y="221"/>
                    </a:lnTo>
                    <a:lnTo>
                      <a:pt x="311" y="276"/>
                    </a:lnTo>
                    <a:lnTo>
                      <a:pt x="267" y="329"/>
                    </a:lnTo>
                    <a:lnTo>
                      <a:pt x="225" y="390"/>
                    </a:lnTo>
                    <a:lnTo>
                      <a:pt x="187" y="456"/>
                    </a:lnTo>
                    <a:lnTo>
                      <a:pt x="152" y="524"/>
                    </a:lnTo>
                    <a:lnTo>
                      <a:pt x="122" y="597"/>
                    </a:lnTo>
                    <a:lnTo>
                      <a:pt x="90" y="671"/>
                    </a:lnTo>
                    <a:lnTo>
                      <a:pt x="64" y="752"/>
                    </a:lnTo>
                    <a:lnTo>
                      <a:pt x="44" y="830"/>
                    </a:lnTo>
                    <a:lnTo>
                      <a:pt x="30" y="913"/>
                    </a:lnTo>
                    <a:lnTo>
                      <a:pt x="16" y="996"/>
                    </a:lnTo>
                    <a:lnTo>
                      <a:pt x="7" y="1082"/>
                    </a:lnTo>
                    <a:lnTo>
                      <a:pt x="0" y="1166"/>
                    </a:lnTo>
                    <a:lnTo>
                      <a:pt x="0" y="1254"/>
                    </a:lnTo>
                    <a:lnTo>
                      <a:pt x="0" y="1342"/>
                    </a:lnTo>
                    <a:lnTo>
                      <a:pt x="7" y="1423"/>
                    </a:lnTo>
                    <a:lnTo>
                      <a:pt x="23" y="1508"/>
                    </a:lnTo>
                    <a:lnTo>
                      <a:pt x="39" y="1592"/>
                    </a:lnTo>
                    <a:lnTo>
                      <a:pt x="58" y="1676"/>
                    </a:lnTo>
                    <a:lnTo>
                      <a:pt x="80" y="1750"/>
                    </a:lnTo>
                    <a:lnTo>
                      <a:pt x="108" y="1830"/>
                    </a:lnTo>
                    <a:lnTo>
                      <a:pt x="141" y="1902"/>
                    </a:lnTo>
                    <a:lnTo>
                      <a:pt x="172" y="1970"/>
                    </a:lnTo>
                    <a:lnTo>
                      <a:pt x="210" y="2036"/>
                    </a:lnTo>
                    <a:lnTo>
                      <a:pt x="249" y="2100"/>
                    </a:lnTo>
                    <a:lnTo>
                      <a:pt x="295" y="2157"/>
                    </a:lnTo>
                    <a:lnTo>
                      <a:pt x="339" y="2209"/>
                    </a:lnTo>
                    <a:lnTo>
                      <a:pt x="387" y="2260"/>
                    </a:lnTo>
                    <a:lnTo>
                      <a:pt x="438" y="2303"/>
                    </a:lnTo>
                    <a:lnTo>
                      <a:pt x="493" y="2344"/>
                    </a:lnTo>
                    <a:lnTo>
                      <a:pt x="546" y="2379"/>
                    </a:lnTo>
                    <a:lnTo>
                      <a:pt x="602" y="2402"/>
                    </a:lnTo>
                    <a:lnTo>
                      <a:pt x="657" y="2423"/>
                    </a:lnTo>
                    <a:lnTo>
                      <a:pt x="717" y="2439"/>
                    </a:lnTo>
                    <a:lnTo>
                      <a:pt x="777" y="2446"/>
                    </a:lnTo>
                    <a:lnTo>
                      <a:pt x="834" y="2453"/>
                    </a:lnTo>
                    <a:lnTo>
                      <a:pt x="895" y="2446"/>
                    </a:lnTo>
                    <a:lnTo>
                      <a:pt x="954" y="2439"/>
                    </a:lnTo>
                    <a:lnTo>
                      <a:pt x="1012" y="2423"/>
                    </a:lnTo>
                    <a:lnTo>
                      <a:pt x="1067" y="2409"/>
                    </a:lnTo>
                    <a:lnTo>
                      <a:pt x="1123" y="2379"/>
                    </a:lnTo>
                    <a:lnTo>
                      <a:pt x="1178" y="2346"/>
                    </a:lnTo>
                    <a:lnTo>
                      <a:pt x="1231" y="2310"/>
                    </a:lnTo>
                    <a:lnTo>
                      <a:pt x="1282" y="2266"/>
                    </a:lnTo>
                    <a:lnTo>
                      <a:pt x="1332" y="2218"/>
                    </a:lnTo>
                    <a:lnTo>
                      <a:pt x="1379" y="2163"/>
                    </a:lnTo>
                    <a:lnTo>
                      <a:pt x="1420" y="2104"/>
                    </a:lnTo>
                    <a:lnTo>
                      <a:pt x="1464" y="2045"/>
                    </a:lnTo>
                    <a:lnTo>
                      <a:pt x="1499" y="1981"/>
                    </a:lnTo>
                    <a:lnTo>
                      <a:pt x="1535" y="1911"/>
                    </a:lnTo>
                    <a:lnTo>
                      <a:pt x="1568" y="1838"/>
                    </a:lnTo>
                    <a:lnTo>
                      <a:pt x="1589" y="1761"/>
                    </a:lnTo>
                    <a:lnTo>
                      <a:pt x="1614" y="1685"/>
                    </a:lnTo>
                    <a:lnTo>
                      <a:pt x="1636" y="1600"/>
                    </a:lnTo>
                    <a:lnTo>
                      <a:pt x="1651" y="1519"/>
                    </a:lnTo>
                    <a:lnTo>
                      <a:pt x="1660" y="1434"/>
                    </a:lnTo>
                    <a:lnTo>
                      <a:pt x="1671" y="1351"/>
                    </a:lnTo>
                    <a:lnTo>
                      <a:pt x="1678" y="1265"/>
                    </a:lnTo>
                    <a:lnTo>
                      <a:pt x="1678" y="1227"/>
                    </a:lnTo>
                    <a:close/>
                  </a:path>
                </a:pathLst>
              </a:cu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7602480" y="5559480"/>
                <a:ext cx="166680" cy="407880"/>
              </a:xfrm>
              <a:custGeom>
                <a:avLst/>
                <a:gdLst/>
                <a:ahLst/>
                <a:rect l="l" t="t" r="r" b="b"/>
                <a:pathLst>
                  <a:path w="841" h="2058">
                    <a:moveTo>
                      <a:pt x="616" y="2058"/>
                    </a:moveTo>
                    <a:lnTo>
                      <a:pt x="654" y="1996"/>
                    </a:lnTo>
                    <a:lnTo>
                      <a:pt x="689" y="1927"/>
                    </a:lnTo>
                    <a:lnTo>
                      <a:pt x="722" y="1853"/>
                    </a:lnTo>
                    <a:lnTo>
                      <a:pt x="749" y="1776"/>
                    </a:lnTo>
                    <a:lnTo>
                      <a:pt x="772" y="1697"/>
                    </a:lnTo>
                    <a:lnTo>
                      <a:pt x="797" y="1618"/>
                    </a:lnTo>
                    <a:lnTo>
                      <a:pt x="809" y="1537"/>
                    </a:lnTo>
                    <a:lnTo>
                      <a:pt x="823" y="1452"/>
                    </a:lnTo>
                    <a:lnTo>
                      <a:pt x="834" y="1367"/>
                    </a:lnTo>
                    <a:lnTo>
                      <a:pt x="841" y="1284"/>
                    </a:lnTo>
                    <a:lnTo>
                      <a:pt x="841" y="1198"/>
                    </a:lnTo>
                    <a:lnTo>
                      <a:pt x="836" y="1110"/>
                    </a:lnTo>
                    <a:lnTo>
                      <a:pt x="830" y="1025"/>
                    </a:lnTo>
                    <a:lnTo>
                      <a:pt x="818" y="943"/>
                    </a:lnTo>
                    <a:lnTo>
                      <a:pt x="799" y="857"/>
                    </a:lnTo>
                    <a:lnTo>
                      <a:pt x="783" y="776"/>
                    </a:lnTo>
                    <a:lnTo>
                      <a:pt x="761" y="698"/>
                    </a:lnTo>
                    <a:lnTo>
                      <a:pt x="735" y="622"/>
                    </a:lnTo>
                    <a:lnTo>
                      <a:pt x="702" y="546"/>
                    </a:lnTo>
                    <a:lnTo>
                      <a:pt x="666" y="477"/>
                    </a:lnTo>
                    <a:lnTo>
                      <a:pt x="629" y="410"/>
                    </a:lnTo>
                    <a:lnTo>
                      <a:pt x="592" y="352"/>
                    </a:lnTo>
                    <a:lnTo>
                      <a:pt x="551" y="290"/>
                    </a:lnTo>
                    <a:lnTo>
                      <a:pt x="500" y="237"/>
                    </a:lnTo>
                    <a:lnTo>
                      <a:pt x="452" y="189"/>
                    </a:lnTo>
                    <a:lnTo>
                      <a:pt x="401" y="145"/>
                    </a:lnTo>
                    <a:lnTo>
                      <a:pt x="348" y="108"/>
                    </a:lnTo>
                    <a:lnTo>
                      <a:pt x="293" y="78"/>
                    </a:lnTo>
                    <a:lnTo>
                      <a:pt x="236" y="44"/>
                    </a:lnTo>
                    <a:lnTo>
                      <a:pt x="179" y="27"/>
                    </a:lnTo>
                    <a:lnTo>
                      <a:pt x="122" y="13"/>
                    </a:lnTo>
                    <a:lnTo>
                      <a:pt x="64" y="4"/>
                    </a:lnTo>
                    <a:lnTo>
                      <a:pt x="3" y="0"/>
                    </a:lnTo>
                    <a:lnTo>
                      <a:pt x="0" y="0"/>
                    </a:lnTo>
                    <a:lnTo>
                      <a:pt x="0" y="1226"/>
                    </a:lnTo>
                    <a:lnTo>
                      <a:pt x="616" y="20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7551720" y="5802480"/>
                <a:ext cx="173160" cy="241200"/>
              </a:xfrm>
              <a:custGeom>
                <a:avLst/>
                <a:gdLst/>
                <a:ahLst/>
                <a:rect l="l" t="t" r="r" b="b"/>
                <a:pathLst>
                  <a:path w="872" h="1220">
                    <a:moveTo>
                      <a:pt x="0" y="1165"/>
                    </a:moveTo>
                    <a:lnTo>
                      <a:pt x="59" y="1187"/>
                    </a:lnTo>
                    <a:lnTo>
                      <a:pt x="118" y="1205"/>
                    </a:lnTo>
                    <a:lnTo>
                      <a:pt x="178" y="1213"/>
                    </a:lnTo>
                    <a:lnTo>
                      <a:pt x="237" y="1220"/>
                    </a:lnTo>
                    <a:lnTo>
                      <a:pt x="299" y="1215"/>
                    </a:lnTo>
                    <a:lnTo>
                      <a:pt x="353" y="1211"/>
                    </a:lnTo>
                    <a:lnTo>
                      <a:pt x="411" y="1198"/>
                    </a:lnTo>
                    <a:lnTo>
                      <a:pt x="470" y="1178"/>
                    </a:lnTo>
                    <a:lnTo>
                      <a:pt x="528" y="1152"/>
                    </a:lnTo>
                    <a:lnTo>
                      <a:pt x="583" y="1125"/>
                    </a:lnTo>
                    <a:lnTo>
                      <a:pt x="634" y="1086"/>
                    </a:lnTo>
                    <a:lnTo>
                      <a:pt x="687" y="1044"/>
                    </a:lnTo>
                    <a:lnTo>
                      <a:pt x="738" y="994"/>
                    </a:lnTo>
                    <a:lnTo>
                      <a:pt x="786" y="943"/>
                    </a:lnTo>
                    <a:lnTo>
                      <a:pt x="835" y="890"/>
                    </a:lnTo>
                    <a:lnTo>
                      <a:pt x="872" y="832"/>
                    </a:lnTo>
                    <a:lnTo>
                      <a:pt x="256" y="0"/>
                    </a:lnTo>
                    <a:lnTo>
                      <a:pt x="0" y="1165"/>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481880" y="5802480"/>
                <a:ext cx="120600" cy="231480"/>
              </a:xfrm>
              <a:custGeom>
                <a:avLst/>
                <a:gdLst/>
                <a:ahLst/>
                <a:rect l="l" t="t" r="r" b="b"/>
                <a:pathLst>
                  <a:path w="608" h="1165">
                    <a:moveTo>
                      <a:pt x="0" y="840"/>
                    </a:moveTo>
                    <a:lnTo>
                      <a:pt x="42" y="899"/>
                    </a:lnTo>
                    <a:lnTo>
                      <a:pt x="91" y="957"/>
                    </a:lnTo>
                    <a:lnTo>
                      <a:pt x="143" y="1007"/>
                    </a:lnTo>
                    <a:lnTo>
                      <a:pt x="191" y="1053"/>
                    </a:lnTo>
                    <a:lnTo>
                      <a:pt x="244" y="1102"/>
                    </a:lnTo>
                    <a:lnTo>
                      <a:pt x="299" y="1134"/>
                    </a:lnTo>
                    <a:lnTo>
                      <a:pt x="352" y="1165"/>
                    </a:lnTo>
                    <a:lnTo>
                      <a:pt x="608" y="0"/>
                    </a:lnTo>
                    <a:lnTo>
                      <a:pt x="0" y="84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437600" y="5726160"/>
                <a:ext cx="164880" cy="243000"/>
              </a:xfrm>
              <a:custGeom>
                <a:avLst/>
                <a:gdLst/>
                <a:ahLst/>
                <a:rect l="l" t="t" r="r" b="b"/>
                <a:pathLst>
                  <a:path w="837" h="1222">
                    <a:moveTo>
                      <a:pt x="42" y="0"/>
                    </a:moveTo>
                    <a:lnTo>
                      <a:pt x="25" y="86"/>
                    </a:lnTo>
                    <a:lnTo>
                      <a:pt x="14" y="172"/>
                    </a:lnTo>
                    <a:lnTo>
                      <a:pt x="7" y="257"/>
                    </a:lnTo>
                    <a:lnTo>
                      <a:pt x="0" y="345"/>
                    </a:lnTo>
                    <a:lnTo>
                      <a:pt x="0" y="435"/>
                    </a:lnTo>
                    <a:lnTo>
                      <a:pt x="7" y="518"/>
                    </a:lnTo>
                    <a:lnTo>
                      <a:pt x="18" y="606"/>
                    </a:lnTo>
                    <a:lnTo>
                      <a:pt x="32" y="688"/>
                    </a:lnTo>
                    <a:lnTo>
                      <a:pt x="44" y="769"/>
                    </a:lnTo>
                    <a:lnTo>
                      <a:pt x="64" y="853"/>
                    </a:lnTo>
                    <a:lnTo>
                      <a:pt x="90" y="936"/>
                    </a:lnTo>
                    <a:lnTo>
                      <a:pt x="124" y="1009"/>
                    </a:lnTo>
                    <a:lnTo>
                      <a:pt x="157" y="1085"/>
                    </a:lnTo>
                    <a:lnTo>
                      <a:pt x="189" y="1154"/>
                    </a:lnTo>
                    <a:lnTo>
                      <a:pt x="225" y="1217"/>
                    </a:lnTo>
                    <a:lnTo>
                      <a:pt x="229" y="1222"/>
                    </a:lnTo>
                    <a:lnTo>
                      <a:pt x="837" y="382"/>
                    </a:lnTo>
                    <a:lnTo>
                      <a:pt x="42"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7007400" y="4794120"/>
                <a:ext cx="23760" cy="24120"/>
              </a:xfrm>
              <a:custGeom>
                <a:avLst/>
                <a:gdLst/>
                <a:ahLst/>
                <a:rect l="l" t="t" r="r" b="b"/>
                <a:pathLst>
                  <a:path w="122" h="119">
                    <a:moveTo>
                      <a:pt x="122" y="57"/>
                    </a:moveTo>
                    <a:lnTo>
                      <a:pt x="117" y="44"/>
                    </a:lnTo>
                    <a:lnTo>
                      <a:pt x="106" y="25"/>
                    </a:lnTo>
                    <a:lnTo>
                      <a:pt x="95" y="13"/>
                    </a:lnTo>
                    <a:lnTo>
                      <a:pt x="76" y="4"/>
                    </a:lnTo>
                    <a:lnTo>
                      <a:pt x="60" y="0"/>
                    </a:lnTo>
                    <a:lnTo>
                      <a:pt x="41" y="4"/>
                    </a:lnTo>
                    <a:lnTo>
                      <a:pt x="25" y="13"/>
                    </a:lnTo>
                    <a:lnTo>
                      <a:pt x="12" y="29"/>
                    </a:lnTo>
                    <a:lnTo>
                      <a:pt x="0" y="44"/>
                    </a:lnTo>
                    <a:lnTo>
                      <a:pt x="0" y="64"/>
                    </a:lnTo>
                    <a:lnTo>
                      <a:pt x="5" y="82"/>
                    </a:lnTo>
                    <a:lnTo>
                      <a:pt x="14" y="99"/>
                    </a:lnTo>
                    <a:lnTo>
                      <a:pt x="27" y="110"/>
                    </a:lnTo>
                    <a:lnTo>
                      <a:pt x="47" y="119"/>
                    </a:lnTo>
                    <a:lnTo>
                      <a:pt x="62" y="119"/>
                    </a:lnTo>
                    <a:lnTo>
                      <a:pt x="83" y="115"/>
                    </a:lnTo>
                    <a:lnTo>
                      <a:pt x="99" y="106"/>
                    </a:lnTo>
                    <a:lnTo>
                      <a:pt x="113" y="92"/>
                    </a:lnTo>
                    <a:lnTo>
                      <a:pt x="120" y="69"/>
                    </a:lnTo>
                    <a:lnTo>
                      <a:pt x="122" y="57"/>
                    </a:lnTo>
                    <a:close/>
                  </a:path>
                </a:pathLst>
              </a:custGeom>
              <a:solidFill>
                <a:srgbClr val="ff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7" name=""/>
              <p:cNvSpPr/>
              <p:nvPr/>
            </p:nvSpPr>
            <p:spPr>
              <a:xfrm>
                <a:off x="7991640" y="4730760"/>
                <a:ext cx="90360" cy="90360"/>
              </a:xfrm>
              <a:custGeom>
                <a:avLst/>
                <a:gdLst/>
                <a:ahLst/>
                <a:rect l="l" t="t" r="r" b="b"/>
                <a:pathLst>
                  <a:path w="457" h="451">
                    <a:moveTo>
                      <a:pt x="429" y="260"/>
                    </a:moveTo>
                    <a:lnTo>
                      <a:pt x="373" y="176"/>
                    </a:lnTo>
                    <a:lnTo>
                      <a:pt x="323" y="176"/>
                    </a:lnTo>
                    <a:lnTo>
                      <a:pt x="145" y="120"/>
                    </a:lnTo>
                    <a:lnTo>
                      <a:pt x="222" y="76"/>
                    </a:lnTo>
                    <a:lnTo>
                      <a:pt x="292" y="76"/>
                    </a:lnTo>
                    <a:lnTo>
                      <a:pt x="323" y="95"/>
                    </a:lnTo>
                    <a:lnTo>
                      <a:pt x="373" y="95"/>
                    </a:lnTo>
                    <a:lnTo>
                      <a:pt x="457" y="141"/>
                    </a:lnTo>
                    <a:lnTo>
                      <a:pt x="457" y="99"/>
                    </a:lnTo>
                    <a:lnTo>
                      <a:pt x="323" y="0"/>
                    </a:lnTo>
                    <a:lnTo>
                      <a:pt x="175" y="46"/>
                    </a:lnTo>
                    <a:lnTo>
                      <a:pt x="103" y="9"/>
                    </a:lnTo>
                    <a:lnTo>
                      <a:pt x="125" y="69"/>
                    </a:lnTo>
                    <a:lnTo>
                      <a:pt x="39" y="170"/>
                    </a:lnTo>
                    <a:lnTo>
                      <a:pt x="39" y="270"/>
                    </a:lnTo>
                    <a:lnTo>
                      <a:pt x="0" y="451"/>
                    </a:lnTo>
                    <a:lnTo>
                      <a:pt x="57" y="260"/>
                    </a:lnTo>
                    <a:lnTo>
                      <a:pt x="81" y="219"/>
                    </a:lnTo>
                    <a:lnTo>
                      <a:pt x="184" y="309"/>
                    </a:lnTo>
                    <a:lnTo>
                      <a:pt x="277" y="309"/>
                    </a:lnTo>
                    <a:lnTo>
                      <a:pt x="145" y="242"/>
                    </a:lnTo>
                    <a:lnTo>
                      <a:pt x="152" y="185"/>
                    </a:lnTo>
                    <a:lnTo>
                      <a:pt x="235" y="226"/>
                    </a:lnTo>
                    <a:lnTo>
                      <a:pt x="292" y="226"/>
                    </a:lnTo>
                    <a:lnTo>
                      <a:pt x="349" y="196"/>
                    </a:lnTo>
                    <a:lnTo>
                      <a:pt x="429" y="26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8" name=""/>
              <p:cNvSpPr/>
              <p:nvPr/>
            </p:nvSpPr>
            <p:spPr>
              <a:xfrm>
                <a:off x="7872480" y="4726080"/>
                <a:ext cx="90360" cy="58680"/>
              </a:xfrm>
              <a:custGeom>
                <a:avLst/>
                <a:gdLst/>
                <a:ahLst/>
                <a:rect l="l" t="t" r="r" b="b"/>
                <a:pathLst>
                  <a:path w="455" h="296">
                    <a:moveTo>
                      <a:pt x="70" y="236"/>
                    </a:moveTo>
                    <a:lnTo>
                      <a:pt x="141" y="167"/>
                    </a:lnTo>
                    <a:lnTo>
                      <a:pt x="298" y="152"/>
                    </a:lnTo>
                    <a:lnTo>
                      <a:pt x="402" y="112"/>
                    </a:lnTo>
                    <a:lnTo>
                      <a:pt x="330" y="72"/>
                    </a:lnTo>
                    <a:lnTo>
                      <a:pt x="182" y="72"/>
                    </a:lnTo>
                    <a:lnTo>
                      <a:pt x="0" y="125"/>
                    </a:lnTo>
                    <a:lnTo>
                      <a:pt x="0" y="112"/>
                    </a:lnTo>
                    <a:lnTo>
                      <a:pt x="105" y="17"/>
                    </a:lnTo>
                    <a:lnTo>
                      <a:pt x="220" y="0"/>
                    </a:lnTo>
                    <a:lnTo>
                      <a:pt x="342" y="53"/>
                    </a:lnTo>
                    <a:lnTo>
                      <a:pt x="411" y="53"/>
                    </a:lnTo>
                    <a:lnTo>
                      <a:pt x="424" y="121"/>
                    </a:lnTo>
                    <a:lnTo>
                      <a:pt x="360" y="167"/>
                    </a:lnTo>
                    <a:lnTo>
                      <a:pt x="386" y="222"/>
                    </a:lnTo>
                    <a:lnTo>
                      <a:pt x="455" y="202"/>
                    </a:lnTo>
                    <a:lnTo>
                      <a:pt x="420" y="268"/>
                    </a:lnTo>
                    <a:lnTo>
                      <a:pt x="286" y="296"/>
                    </a:lnTo>
                    <a:lnTo>
                      <a:pt x="238" y="296"/>
                    </a:lnTo>
                    <a:lnTo>
                      <a:pt x="376" y="245"/>
                    </a:lnTo>
                    <a:lnTo>
                      <a:pt x="342" y="206"/>
                    </a:lnTo>
                    <a:lnTo>
                      <a:pt x="263" y="211"/>
                    </a:lnTo>
                    <a:lnTo>
                      <a:pt x="215" y="220"/>
                    </a:lnTo>
                    <a:lnTo>
                      <a:pt x="162" y="196"/>
                    </a:lnTo>
                    <a:lnTo>
                      <a:pt x="70" y="2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9" name=""/>
              <p:cNvSpPr/>
              <p:nvPr/>
            </p:nvSpPr>
            <p:spPr>
              <a:xfrm>
                <a:off x="7918560" y="4842000"/>
                <a:ext cx="126720" cy="58680"/>
              </a:xfrm>
              <a:custGeom>
                <a:avLst/>
                <a:gdLst/>
                <a:ahLst/>
                <a:rect l="l" t="t" r="r" b="b"/>
                <a:pathLst>
                  <a:path w="634" h="294">
                    <a:moveTo>
                      <a:pt x="97" y="0"/>
                    </a:moveTo>
                    <a:lnTo>
                      <a:pt x="173" y="22"/>
                    </a:lnTo>
                    <a:lnTo>
                      <a:pt x="226" y="71"/>
                    </a:lnTo>
                    <a:lnTo>
                      <a:pt x="270" y="96"/>
                    </a:lnTo>
                    <a:lnTo>
                      <a:pt x="344" y="96"/>
                    </a:lnTo>
                    <a:lnTo>
                      <a:pt x="470" y="22"/>
                    </a:lnTo>
                    <a:lnTo>
                      <a:pt x="412" y="87"/>
                    </a:lnTo>
                    <a:lnTo>
                      <a:pt x="412" y="158"/>
                    </a:lnTo>
                    <a:lnTo>
                      <a:pt x="355" y="228"/>
                    </a:lnTo>
                    <a:lnTo>
                      <a:pt x="584" y="228"/>
                    </a:lnTo>
                    <a:lnTo>
                      <a:pt x="621" y="209"/>
                    </a:lnTo>
                    <a:lnTo>
                      <a:pt x="634" y="260"/>
                    </a:lnTo>
                    <a:lnTo>
                      <a:pt x="606" y="294"/>
                    </a:lnTo>
                    <a:lnTo>
                      <a:pt x="568" y="251"/>
                    </a:lnTo>
                    <a:lnTo>
                      <a:pt x="355" y="251"/>
                    </a:lnTo>
                    <a:lnTo>
                      <a:pt x="307" y="269"/>
                    </a:lnTo>
                    <a:lnTo>
                      <a:pt x="199" y="237"/>
                    </a:lnTo>
                    <a:lnTo>
                      <a:pt x="32" y="237"/>
                    </a:lnTo>
                    <a:lnTo>
                      <a:pt x="7" y="260"/>
                    </a:lnTo>
                    <a:lnTo>
                      <a:pt x="0" y="209"/>
                    </a:lnTo>
                    <a:lnTo>
                      <a:pt x="54" y="191"/>
                    </a:lnTo>
                    <a:lnTo>
                      <a:pt x="32" y="228"/>
                    </a:lnTo>
                    <a:lnTo>
                      <a:pt x="217" y="228"/>
                    </a:lnTo>
                    <a:lnTo>
                      <a:pt x="307" y="237"/>
                    </a:lnTo>
                    <a:lnTo>
                      <a:pt x="194" y="134"/>
                    </a:lnTo>
                    <a:lnTo>
                      <a:pt x="148" y="39"/>
                    </a:lnTo>
                    <a:lnTo>
                      <a:pt x="9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0" name=""/>
              <p:cNvSpPr/>
              <p:nvPr/>
            </p:nvSpPr>
            <p:spPr>
              <a:xfrm>
                <a:off x="7953480" y="4906800"/>
                <a:ext cx="63360" cy="14400"/>
              </a:xfrm>
              <a:custGeom>
                <a:avLst/>
                <a:gdLst/>
                <a:ahLst/>
                <a:rect l="l" t="t" r="r" b="b"/>
                <a:pathLst>
                  <a:path w="323" h="73">
                    <a:moveTo>
                      <a:pt x="0" y="0"/>
                    </a:moveTo>
                    <a:lnTo>
                      <a:pt x="97" y="46"/>
                    </a:lnTo>
                    <a:lnTo>
                      <a:pt x="208" y="46"/>
                    </a:lnTo>
                    <a:lnTo>
                      <a:pt x="323" y="0"/>
                    </a:lnTo>
                    <a:lnTo>
                      <a:pt x="230" y="73"/>
                    </a:lnTo>
                    <a:lnTo>
                      <a:pt x="90" y="73"/>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1" name=""/>
              <p:cNvSpPr/>
              <p:nvPr/>
            </p:nvSpPr>
            <p:spPr>
              <a:xfrm>
                <a:off x="8024760" y="4834080"/>
                <a:ext cx="25560" cy="41040"/>
              </a:xfrm>
              <a:custGeom>
                <a:avLst/>
                <a:gdLst/>
                <a:ahLst/>
                <a:rect l="l" t="t" r="r" b="b"/>
                <a:pathLst>
                  <a:path w="129" h="211">
                    <a:moveTo>
                      <a:pt x="0" y="0"/>
                    </a:moveTo>
                    <a:lnTo>
                      <a:pt x="51" y="103"/>
                    </a:lnTo>
                    <a:lnTo>
                      <a:pt x="129" y="211"/>
                    </a:lnTo>
                    <a:lnTo>
                      <a:pt x="20" y="103"/>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2" name=""/>
              <p:cNvSpPr/>
              <p:nvPr/>
            </p:nvSpPr>
            <p:spPr>
              <a:xfrm>
                <a:off x="7902720" y="4827600"/>
                <a:ext cx="31680" cy="49320"/>
              </a:xfrm>
              <a:custGeom>
                <a:avLst/>
                <a:gdLst/>
                <a:ahLst/>
                <a:rect l="l" t="t" r="r" b="b"/>
                <a:pathLst>
                  <a:path w="159" h="242">
                    <a:moveTo>
                      <a:pt x="159" y="0"/>
                    </a:moveTo>
                    <a:lnTo>
                      <a:pt x="74" y="103"/>
                    </a:lnTo>
                    <a:lnTo>
                      <a:pt x="0" y="143"/>
                    </a:lnTo>
                    <a:lnTo>
                      <a:pt x="0" y="242"/>
                    </a:lnTo>
                    <a:lnTo>
                      <a:pt x="102" y="83"/>
                    </a:lnTo>
                    <a:lnTo>
                      <a:pt x="15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23" name=""/>
              <p:cNvSpPr/>
              <p:nvPr/>
            </p:nvSpPr>
            <p:spPr>
              <a:xfrm>
                <a:off x="7804080" y="4481640"/>
                <a:ext cx="196920" cy="534960"/>
              </a:xfrm>
              <a:custGeom>
                <a:avLst/>
                <a:gdLst/>
                <a:ahLst/>
                <a:rect l="l" t="t" r="r" b="b"/>
                <a:pathLst>
                  <a:path w="991" h="2692">
                    <a:moveTo>
                      <a:pt x="176" y="465"/>
                    </a:moveTo>
                    <a:lnTo>
                      <a:pt x="60" y="615"/>
                    </a:lnTo>
                    <a:lnTo>
                      <a:pt x="0" y="975"/>
                    </a:lnTo>
                    <a:lnTo>
                      <a:pt x="31" y="1102"/>
                    </a:lnTo>
                    <a:lnTo>
                      <a:pt x="5" y="1171"/>
                    </a:lnTo>
                    <a:lnTo>
                      <a:pt x="60" y="1151"/>
                    </a:lnTo>
                    <a:lnTo>
                      <a:pt x="125" y="1256"/>
                    </a:lnTo>
                    <a:lnTo>
                      <a:pt x="176" y="1630"/>
                    </a:lnTo>
                    <a:lnTo>
                      <a:pt x="251" y="2035"/>
                    </a:lnTo>
                    <a:lnTo>
                      <a:pt x="293" y="2111"/>
                    </a:lnTo>
                    <a:lnTo>
                      <a:pt x="293" y="2259"/>
                    </a:lnTo>
                    <a:lnTo>
                      <a:pt x="393" y="2513"/>
                    </a:lnTo>
                    <a:lnTo>
                      <a:pt x="727" y="2692"/>
                    </a:lnTo>
                    <a:lnTo>
                      <a:pt x="400" y="2480"/>
                    </a:lnTo>
                    <a:lnTo>
                      <a:pt x="330" y="2250"/>
                    </a:lnTo>
                    <a:lnTo>
                      <a:pt x="330" y="2158"/>
                    </a:lnTo>
                    <a:lnTo>
                      <a:pt x="535" y="2375"/>
                    </a:lnTo>
                    <a:lnTo>
                      <a:pt x="743" y="2485"/>
                    </a:lnTo>
                    <a:lnTo>
                      <a:pt x="899" y="2527"/>
                    </a:lnTo>
                    <a:lnTo>
                      <a:pt x="980" y="2485"/>
                    </a:lnTo>
                    <a:lnTo>
                      <a:pt x="811" y="2485"/>
                    </a:lnTo>
                    <a:lnTo>
                      <a:pt x="639" y="2413"/>
                    </a:lnTo>
                    <a:lnTo>
                      <a:pt x="519" y="2316"/>
                    </a:lnTo>
                    <a:lnTo>
                      <a:pt x="316" y="2086"/>
                    </a:lnTo>
                    <a:lnTo>
                      <a:pt x="307" y="1931"/>
                    </a:lnTo>
                    <a:lnTo>
                      <a:pt x="213" y="1650"/>
                    </a:lnTo>
                    <a:lnTo>
                      <a:pt x="220" y="1441"/>
                    </a:lnTo>
                    <a:lnTo>
                      <a:pt x="183" y="1283"/>
                    </a:lnTo>
                    <a:lnTo>
                      <a:pt x="251" y="1019"/>
                    </a:lnTo>
                    <a:lnTo>
                      <a:pt x="220" y="809"/>
                    </a:lnTo>
                    <a:lnTo>
                      <a:pt x="266" y="703"/>
                    </a:lnTo>
                    <a:lnTo>
                      <a:pt x="341" y="694"/>
                    </a:lnTo>
                    <a:lnTo>
                      <a:pt x="284" y="818"/>
                    </a:lnTo>
                    <a:lnTo>
                      <a:pt x="363" y="784"/>
                    </a:lnTo>
                    <a:lnTo>
                      <a:pt x="316" y="852"/>
                    </a:lnTo>
                    <a:lnTo>
                      <a:pt x="334" y="918"/>
                    </a:lnTo>
                    <a:lnTo>
                      <a:pt x="496" y="784"/>
                    </a:lnTo>
                    <a:lnTo>
                      <a:pt x="639" y="784"/>
                    </a:lnTo>
                    <a:lnTo>
                      <a:pt x="743" y="719"/>
                    </a:lnTo>
                    <a:lnTo>
                      <a:pt x="826" y="672"/>
                    </a:lnTo>
                    <a:lnTo>
                      <a:pt x="874" y="672"/>
                    </a:lnTo>
                    <a:lnTo>
                      <a:pt x="991" y="775"/>
                    </a:lnTo>
                    <a:lnTo>
                      <a:pt x="890" y="663"/>
                    </a:lnTo>
                    <a:lnTo>
                      <a:pt x="828" y="654"/>
                    </a:lnTo>
                    <a:lnTo>
                      <a:pt x="778" y="663"/>
                    </a:lnTo>
                    <a:lnTo>
                      <a:pt x="620" y="749"/>
                    </a:lnTo>
                    <a:lnTo>
                      <a:pt x="545" y="749"/>
                    </a:lnTo>
                    <a:lnTo>
                      <a:pt x="400" y="663"/>
                    </a:lnTo>
                    <a:lnTo>
                      <a:pt x="316" y="654"/>
                    </a:lnTo>
                    <a:lnTo>
                      <a:pt x="266" y="663"/>
                    </a:lnTo>
                    <a:lnTo>
                      <a:pt x="159" y="771"/>
                    </a:lnTo>
                    <a:lnTo>
                      <a:pt x="316" y="514"/>
                    </a:lnTo>
                    <a:lnTo>
                      <a:pt x="183" y="599"/>
                    </a:lnTo>
                    <a:lnTo>
                      <a:pt x="378" y="305"/>
                    </a:lnTo>
                    <a:lnTo>
                      <a:pt x="266" y="362"/>
                    </a:lnTo>
                    <a:lnTo>
                      <a:pt x="390" y="219"/>
                    </a:lnTo>
                    <a:lnTo>
                      <a:pt x="671" y="66"/>
                    </a:lnTo>
                    <a:lnTo>
                      <a:pt x="912" y="0"/>
                    </a:lnTo>
                    <a:lnTo>
                      <a:pt x="648" y="53"/>
                    </a:lnTo>
                    <a:lnTo>
                      <a:pt x="307" y="219"/>
                    </a:lnTo>
                    <a:lnTo>
                      <a:pt x="198" y="334"/>
                    </a:lnTo>
                    <a:lnTo>
                      <a:pt x="176" y="419"/>
                    </a:lnTo>
                    <a:lnTo>
                      <a:pt x="176"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7986600" y="4481640"/>
                <a:ext cx="106560" cy="160200"/>
              </a:xfrm>
              <a:custGeom>
                <a:avLst/>
                <a:gdLst/>
                <a:ahLst/>
                <a:rect l="l" t="t" r="r" b="b"/>
                <a:pathLst>
                  <a:path w="530" h="809">
                    <a:moveTo>
                      <a:pt x="4" y="636"/>
                    </a:moveTo>
                    <a:lnTo>
                      <a:pt x="75" y="809"/>
                    </a:lnTo>
                    <a:lnTo>
                      <a:pt x="362" y="636"/>
                    </a:lnTo>
                    <a:lnTo>
                      <a:pt x="362" y="578"/>
                    </a:lnTo>
                    <a:lnTo>
                      <a:pt x="400" y="650"/>
                    </a:lnTo>
                    <a:lnTo>
                      <a:pt x="447" y="564"/>
                    </a:lnTo>
                    <a:lnTo>
                      <a:pt x="495" y="567"/>
                    </a:lnTo>
                    <a:lnTo>
                      <a:pt x="512" y="564"/>
                    </a:lnTo>
                    <a:lnTo>
                      <a:pt x="530" y="440"/>
                    </a:lnTo>
                    <a:lnTo>
                      <a:pt x="523" y="325"/>
                    </a:lnTo>
                    <a:lnTo>
                      <a:pt x="447" y="189"/>
                    </a:lnTo>
                    <a:lnTo>
                      <a:pt x="295" y="81"/>
                    </a:lnTo>
                    <a:lnTo>
                      <a:pt x="121" y="0"/>
                    </a:lnTo>
                    <a:lnTo>
                      <a:pt x="325" y="127"/>
                    </a:lnTo>
                    <a:lnTo>
                      <a:pt x="413" y="230"/>
                    </a:lnTo>
                    <a:lnTo>
                      <a:pt x="246" y="136"/>
                    </a:lnTo>
                    <a:lnTo>
                      <a:pt x="382" y="251"/>
                    </a:lnTo>
                    <a:lnTo>
                      <a:pt x="417" y="334"/>
                    </a:lnTo>
                    <a:lnTo>
                      <a:pt x="341" y="258"/>
                    </a:lnTo>
                    <a:lnTo>
                      <a:pt x="209" y="219"/>
                    </a:lnTo>
                    <a:lnTo>
                      <a:pt x="348" y="334"/>
                    </a:lnTo>
                    <a:lnTo>
                      <a:pt x="373" y="465"/>
                    </a:lnTo>
                    <a:lnTo>
                      <a:pt x="253" y="351"/>
                    </a:lnTo>
                    <a:lnTo>
                      <a:pt x="295" y="465"/>
                    </a:lnTo>
                    <a:lnTo>
                      <a:pt x="170" y="465"/>
                    </a:lnTo>
                    <a:lnTo>
                      <a:pt x="202" y="608"/>
                    </a:lnTo>
                    <a:lnTo>
                      <a:pt x="180" y="703"/>
                    </a:lnTo>
                    <a:lnTo>
                      <a:pt x="0" y="514"/>
                    </a:lnTo>
                    <a:lnTo>
                      <a:pt x="99" y="760"/>
                    </a:lnTo>
                    <a:lnTo>
                      <a:pt x="4" y="6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7964640" y="4567320"/>
                <a:ext cx="176040" cy="453960"/>
              </a:xfrm>
              <a:custGeom>
                <a:avLst/>
                <a:gdLst/>
                <a:ahLst/>
                <a:rect l="l" t="t" r="r" b="b"/>
                <a:pathLst>
                  <a:path w="887" h="2288">
                    <a:moveTo>
                      <a:pt x="641" y="139"/>
                    </a:moveTo>
                    <a:lnTo>
                      <a:pt x="698" y="480"/>
                    </a:lnTo>
                    <a:lnTo>
                      <a:pt x="669" y="669"/>
                    </a:lnTo>
                    <a:lnTo>
                      <a:pt x="698" y="874"/>
                    </a:lnTo>
                    <a:lnTo>
                      <a:pt x="669" y="1250"/>
                    </a:lnTo>
                    <a:lnTo>
                      <a:pt x="588" y="1668"/>
                    </a:lnTo>
                    <a:lnTo>
                      <a:pt x="470" y="1806"/>
                    </a:lnTo>
                    <a:lnTo>
                      <a:pt x="239" y="2057"/>
                    </a:lnTo>
                    <a:lnTo>
                      <a:pt x="358" y="1993"/>
                    </a:lnTo>
                    <a:lnTo>
                      <a:pt x="342" y="2052"/>
                    </a:lnTo>
                    <a:lnTo>
                      <a:pt x="0" y="2288"/>
                    </a:lnTo>
                    <a:lnTo>
                      <a:pt x="385" y="2052"/>
                    </a:lnTo>
                    <a:lnTo>
                      <a:pt x="535" y="1815"/>
                    </a:lnTo>
                    <a:lnTo>
                      <a:pt x="565" y="1716"/>
                    </a:lnTo>
                    <a:lnTo>
                      <a:pt x="613" y="1658"/>
                    </a:lnTo>
                    <a:lnTo>
                      <a:pt x="705" y="1202"/>
                    </a:lnTo>
                    <a:lnTo>
                      <a:pt x="768" y="1137"/>
                    </a:lnTo>
                    <a:lnTo>
                      <a:pt x="786" y="1070"/>
                    </a:lnTo>
                    <a:lnTo>
                      <a:pt x="768" y="1119"/>
                    </a:lnTo>
                    <a:lnTo>
                      <a:pt x="705" y="1174"/>
                    </a:lnTo>
                    <a:lnTo>
                      <a:pt x="736" y="982"/>
                    </a:lnTo>
                    <a:lnTo>
                      <a:pt x="821" y="669"/>
                    </a:lnTo>
                    <a:lnTo>
                      <a:pt x="887" y="490"/>
                    </a:lnTo>
                    <a:lnTo>
                      <a:pt x="887" y="347"/>
                    </a:lnTo>
                    <a:lnTo>
                      <a:pt x="846" y="187"/>
                    </a:lnTo>
                    <a:lnTo>
                      <a:pt x="705" y="0"/>
                    </a:lnTo>
                    <a:lnTo>
                      <a:pt x="821" y="198"/>
                    </a:lnTo>
                    <a:lnTo>
                      <a:pt x="835" y="291"/>
                    </a:lnTo>
                    <a:lnTo>
                      <a:pt x="786" y="235"/>
                    </a:lnTo>
                    <a:lnTo>
                      <a:pt x="821" y="424"/>
                    </a:lnTo>
                    <a:lnTo>
                      <a:pt x="749" y="406"/>
                    </a:lnTo>
                    <a:lnTo>
                      <a:pt x="764" y="600"/>
                    </a:lnTo>
                    <a:lnTo>
                      <a:pt x="724" y="717"/>
                    </a:lnTo>
                    <a:lnTo>
                      <a:pt x="705" y="611"/>
                    </a:lnTo>
                    <a:lnTo>
                      <a:pt x="714" y="439"/>
                    </a:lnTo>
                    <a:lnTo>
                      <a:pt x="64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120160" y="4714920"/>
                <a:ext cx="15840" cy="61920"/>
              </a:xfrm>
              <a:custGeom>
                <a:avLst/>
                <a:gdLst/>
                <a:ahLst/>
                <a:rect l="l" t="t" r="r" b="b"/>
                <a:pathLst>
                  <a:path w="81" h="311">
                    <a:moveTo>
                      <a:pt x="60" y="0"/>
                    </a:moveTo>
                    <a:lnTo>
                      <a:pt x="72" y="37"/>
                    </a:lnTo>
                    <a:lnTo>
                      <a:pt x="64" y="103"/>
                    </a:lnTo>
                    <a:lnTo>
                      <a:pt x="24" y="180"/>
                    </a:lnTo>
                    <a:lnTo>
                      <a:pt x="0" y="311"/>
                    </a:lnTo>
                    <a:lnTo>
                      <a:pt x="40" y="180"/>
                    </a:lnTo>
                    <a:lnTo>
                      <a:pt x="81" y="94"/>
                    </a:lnTo>
                    <a:lnTo>
                      <a:pt x="81" y="37"/>
                    </a:lnTo>
                    <a:lnTo>
                      <a:pt x="6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7" name=""/>
              <p:cNvSpPr/>
              <p:nvPr/>
            </p:nvSpPr>
            <p:spPr>
              <a:xfrm>
                <a:off x="7805880" y="4711680"/>
                <a:ext cx="36360" cy="101520"/>
              </a:xfrm>
              <a:custGeom>
                <a:avLst/>
                <a:gdLst/>
                <a:ahLst/>
                <a:rect l="l" t="t" r="r" b="b"/>
                <a:pathLst>
                  <a:path w="189" h="509">
                    <a:moveTo>
                      <a:pt x="0" y="0"/>
                    </a:moveTo>
                    <a:lnTo>
                      <a:pt x="7" y="151"/>
                    </a:lnTo>
                    <a:lnTo>
                      <a:pt x="41" y="315"/>
                    </a:lnTo>
                    <a:lnTo>
                      <a:pt x="67" y="424"/>
                    </a:lnTo>
                    <a:lnTo>
                      <a:pt x="136" y="490"/>
                    </a:lnTo>
                    <a:lnTo>
                      <a:pt x="189" y="509"/>
                    </a:lnTo>
                    <a:lnTo>
                      <a:pt x="178" y="461"/>
                    </a:lnTo>
                    <a:lnTo>
                      <a:pt x="111" y="442"/>
                    </a:lnTo>
                    <a:lnTo>
                      <a:pt x="74" y="387"/>
                    </a:lnTo>
                    <a:lnTo>
                      <a:pt x="30" y="216"/>
                    </a:lnTo>
                    <a:lnTo>
                      <a:pt x="7"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209080" y="5072040"/>
                <a:ext cx="58680" cy="201600"/>
              </a:xfrm>
              <a:custGeom>
                <a:avLst/>
                <a:gdLst/>
                <a:ahLst/>
                <a:rect l="l" t="t" r="r" b="b"/>
                <a:pathLst>
                  <a:path w="293" h="1015">
                    <a:moveTo>
                      <a:pt x="293" y="0"/>
                    </a:moveTo>
                    <a:lnTo>
                      <a:pt x="212" y="63"/>
                    </a:lnTo>
                    <a:lnTo>
                      <a:pt x="152" y="167"/>
                    </a:lnTo>
                    <a:lnTo>
                      <a:pt x="82" y="420"/>
                    </a:lnTo>
                    <a:lnTo>
                      <a:pt x="78" y="499"/>
                    </a:lnTo>
                    <a:lnTo>
                      <a:pt x="0" y="609"/>
                    </a:lnTo>
                    <a:lnTo>
                      <a:pt x="0" y="683"/>
                    </a:lnTo>
                    <a:lnTo>
                      <a:pt x="82" y="784"/>
                    </a:lnTo>
                    <a:lnTo>
                      <a:pt x="82" y="1015"/>
                    </a:lnTo>
                    <a:lnTo>
                      <a:pt x="168" y="900"/>
                    </a:lnTo>
                    <a:lnTo>
                      <a:pt x="101" y="951"/>
                    </a:lnTo>
                    <a:lnTo>
                      <a:pt x="101" y="800"/>
                    </a:lnTo>
                    <a:lnTo>
                      <a:pt x="230" y="837"/>
                    </a:lnTo>
                    <a:lnTo>
                      <a:pt x="29" y="621"/>
                    </a:lnTo>
                    <a:lnTo>
                      <a:pt x="43" y="569"/>
                    </a:lnTo>
                    <a:lnTo>
                      <a:pt x="82" y="499"/>
                    </a:lnTo>
                    <a:lnTo>
                      <a:pt x="108" y="340"/>
                    </a:lnTo>
                    <a:lnTo>
                      <a:pt x="161" y="180"/>
                    </a:lnTo>
                    <a:lnTo>
                      <a:pt x="221" y="63"/>
                    </a:lnTo>
                    <a:lnTo>
                      <a:pt x="2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182080" y="5200560"/>
                <a:ext cx="44280" cy="112680"/>
              </a:xfrm>
              <a:custGeom>
                <a:avLst/>
                <a:gdLst/>
                <a:ahLst/>
                <a:rect l="l" t="t" r="r" b="b"/>
                <a:pathLst>
                  <a:path w="220" h="567">
                    <a:moveTo>
                      <a:pt x="138" y="0"/>
                    </a:moveTo>
                    <a:lnTo>
                      <a:pt x="90" y="0"/>
                    </a:lnTo>
                    <a:lnTo>
                      <a:pt x="13" y="46"/>
                    </a:lnTo>
                    <a:lnTo>
                      <a:pt x="0" y="136"/>
                    </a:lnTo>
                    <a:lnTo>
                      <a:pt x="31" y="420"/>
                    </a:lnTo>
                    <a:lnTo>
                      <a:pt x="112" y="567"/>
                    </a:lnTo>
                    <a:lnTo>
                      <a:pt x="181" y="567"/>
                    </a:lnTo>
                    <a:lnTo>
                      <a:pt x="220" y="441"/>
                    </a:lnTo>
                    <a:lnTo>
                      <a:pt x="161" y="532"/>
                    </a:lnTo>
                    <a:lnTo>
                      <a:pt x="124" y="532"/>
                    </a:lnTo>
                    <a:lnTo>
                      <a:pt x="64" y="409"/>
                    </a:lnTo>
                    <a:lnTo>
                      <a:pt x="31" y="101"/>
                    </a:lnTo>
                    <a:lnTo>
                      <a:pt x="53" y="46"/>
                    </a:lnTo>
                    <a:lnTo>
                      <a:pt x="101" y="22"/>
                    </a:lnTo>
                    <a:lnTo>
                      <a:pt x="149" y="22"/>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8188200" y="5202360"/>
                <a:ext cx="263520" cy="75960"/>
              </a:xfrm>
              <a:custGeom>
                <a:avLst/>
                <a:gdLst/>
                <a:ahLst/>
                <a:rect l="l" t="t" r="r" b="b"/>
                <a:pathLst>
                  <a:path w="1329" h="384">
                    <a:moveTo>
                      <a:pt x="13" y="114"/>
                    </a:moveTo>
                    <a:lnTo>
                      <a:pt x="1200" y="0"/>
                    </a:lnTo>
                    <a:lnTo>
                      <a:pt x="1285" y="54"/>
                    </a:lnTo>
                    <a:lnTo>
                      <a:pt x="1329" y="194"/>
                    </a:lnTo>
                    <a:lnTo>
                      <a:pt x="1248" y="114"/>
                    </a:lnTo>
                    <a:lnTo>
                      <a:pt x="1160" y="105"/>
                    </a:lnTo>
                    <a:lnTo>
                      <a:pt x="1114" y="105"/>
                    </a:lnTo>
                    <a:lnTo>
                      <a:pt x="1052" y="180"/>
                    </a:lnTo>
                    <a:lnTo>
                      <a:pt x="1026" y="286"/>
                    </a:lnTo>
                    <a:lnTo>
                      <a:pt x="1026" y="384"/>
                    </a:lnTo>
                    <a:lnTo>
                      <a:pt x="1015" y="268"/>
                    </a:lnTo>
                    <a:lnTo>
                      <a:pt x="1040" y="153"/>
                    </a:lnTo>
                    <a:lnTo>
                      <a:pt x="1114" y="68"/>
                    </a:lnTo>
                    <a:lnTo>
                      <a:pt x="0" y="171"/>
                    </a:lnTo>
                    <a:lnTo>
                      <a:pt x="13" y="1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31" name=""/>
              <p:cNvSpPr/>
              <p:nvPr/>
            </p:nvSpPr>
            <p:spPr>
              <a:xfrm>
                <a:off x="8158320" y="5230800"/>
                <a:ext cx="60120" cy="150840"/>
              </a:xfrm>
              <a:custGeom>
                <a:avLst/>
                <a:gdLst/>
                <a:ahLst/>
                <a:rect l="l" t="t" r="r" b="b"/>
                <a:pathLst>
                  <a:path w="297" h="757">
                    <a:moveTo>
                      <a:pt x="297" y="0"/>
                    </a:moveTo>
                    <a:lnTo>
                      <a:pt x="169" y="143"/>
                    </a:lnTo>
                    <a:lnTo>
                      <a:pt x="0" y="441"/>
                    </a:lnTo>
                    <a:lnTo>
                      <a:pt x="21" y="496"/>
                    </a:lnTo>
                    <a:lnTo>
                      <a:pt x="206" y="551"/>
                    </a:lnTo>
                    <a:lnTo>
                      <a:pt x="249" y="609"/>
                    </a:lnTo>
                    <a:lnTo>
                      <a:pt x="217" y="757"/>
                    </a:lnTo>
                    <a:lnTo>
                      <a:pt x="265" y="619"/>
                    </a:lnTo>
                    <a:lnTo>
                      <a:pt x="254" y="551"/>
                    </a:lnTo>
                    <a:lnTo>
                      <a:pt x="206" y="521"/>
                    </a:lnTo>
                    <a:lnTo>
                      <a:pt x="39" y="468"/>
                    </a:lnTo>
                    <a:lnTo>
                      <a:pt x="30" y="428"/>
                    </a:lnTo>
                    <a:lnTo>
                      <a:pt x="189" y="143"/>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205840" y="5386320"/>
                <a:ext cx="39600" cy="44640"/>
              </a:xfrm>
              <a:custGeom>
                <a:avLst/>
                <a:gdLst/>
                <a:ahLst/>
                <a:rect l="l" t="t" r="r" b="b"/>
                <a:pathLst>
                  <a:path w="195" h="223">
                    <a:moveTo>
                      <a:pt x="106" y="23"/>
                    </a:moveTo>
                    <a:lnTo>
                      <a:pt x="195" y="223"/>
                    </a:lnTo>
                    <a:lnTo>
                      <a:pt x="106" y="111"/>
                    </a:lnTo>
                    <a:lnTo>
                      <a:pt x="92" y="61"/>
                    </a:lnTo>
                    <a:lnTo>
                      <a:pt x="0" y="0"/>
                    </a:lnTo>
                    <a:lnTo>
                      <a:pt x="96" y="50"/>
                    </a:lnTo>
                    <a:lnTo>
                      <a:pt x="106" y="2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3" name=""/>
              <p:cNvSpPr/>
              <p:nvPr/>
            </p:nvSpPr>
            <p:spPr>
              <a:xfrm>
                <a:off x="8209080" y="5407200"/>
                <a:ext cx="17280" cy="47520"/>
              </a:xfrm>
              <a:custGeom>
                <a:avLst/>
                <a:gdLst/>
                <a:ahLst/>
                <a:rect l="l" t="t" r="r" b="b"/>
                <a:pathLst>
                  <a:path w="82" h="239">
                    <a:moveTo>
                      <a:pt x="0" y="0"/>
                    </a:moveTo>
                    <a:lnTo>
                      <a:pt x="82" y="103"/>
                    </a:lnTo>
                    <a:lnTo>
                      <a:pt x="23" y="239"/>
                    </a:lnTo>
                    <a:lnTo>
                      <a:pt x="51" y="124"/>
                    </a:lnTo>
                    <a:lnTo>
                      <a:pt x="0" y="39"/>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34" name=""/>
              <p:cNvSpPr/>
              <p:nvPr/>
            </p:nvSpPr>
            <p:spPr>
              <a:xfrm>
                <a:off x="8213760" y="5408640"/>
                <a:ext cx="236520" cy="231840"/>
              </a:xfrm>
              <a:custGeom>
                <a:avLst/>
                <a:gdLst/>
                <a:ahLst/>
                <a:rect l="l" t="t" r="r" b="b"/>
                <a:pathLst>
                  <a:path w="1191" h="1166">
                    <a:moveTo>
                      <a:pt x="0" y="280"/>
                    </a:moveTo>
                    <a:lnTo>
                      <a:pt x="0" y="357"/>
                    </a:lnTo>
                    <a:lnTo>
                      <a:pt x="41" y="447"/>
                    </a:lnTo>
                    <a:lnTo>
                      <a:pt x="118" y="508"/>
                    </a:lnTo>
                    <a:lnTo>
                      <a:pt x="224" y="532"/>
                    </a:lnTo>
                    <a:lnTo>
                      <a:pt x="396" y="559"/>
                    </a:lnTo>
                    <a:lnTo>
                      <a:pt x="491" y="618"/>
                    </a:lnTo>
                    <a:lnTo>
                      <a:pt x="582" y="735"/>
                    </a:lnTo>
                    <a:lnTo>
                      <a:pt x="670" y="1018"/>
                    </a:lnTo>
                    <a:lnTo>
                      <a:pt x="639" y="1166"/>
                    </a:lnTo>
                    <a:lnTo>
                      <a:pt x="775" y="776"/>
                    </a:lnTo>
                    <a:lnTo>
                      <a:pt x="951" y="571"/>
                    </a:lnTo>
                    <a:lnTo>
                      <a:pt x="1191" y="391"/>
                    </a:lnTo>
                    <a:lnTo>
                      <a:pt x="959" y="532"/>
                    </a:lnTo>
                    <a:lnTo>
                      <a:pt x="815" y="661"/>
                    </a:lnTo>
                    <a:lnTo>
                      <a:pt x="738" y="750"/>
                    </a:lnTo>
                    <a:lnTo>
                      <a:pt x="738" y="378"/>
                    </a:lnTo>
                    <a:lnTo>
                      <a:pt x="767" y="202"/>
                    </a:lnTo>
                    <a:lnTo>
                      <a:pt x="855" y="0"/>
                    </a:lnTo>
                    <a:lnTo>
                      <a:pt x="738" y="53"/>
                    </a:lnTo>
                    <a:lnTo>
                      <a:pt x="639" y="154"/>
                    </a:lnTo>
                    <a:lnTo>
                      <a:pt x="540" y="267"/>
                    </a:lnTo>
                    <a:lnTo>
                      <a:pt x="483" y="290"/>
                    </a:lnTo>
                    <a:lnTo>
                      <a:pt x="424" y="290"/>
                    </a:lnTo>
                    <a:lnTo>
                      <a:pt x="351" y="253"/>
                    </a:lnTo>
                    <a:lnTo>
                      <a:pt x="270" y="202"/>
                    </a:lnTo>
                    <a:lnTo>
                      <a:pt x="270" y="290"/>
                    </a:lnTo>
                    <a:lnTo>
                      <a:pt x="244" y="370"/>
                    </a:lnTo>
                    <a:lnTo>
                      <a:pt x="207" y="391"/>
                    </a:lnTo>
                    <a:lnTo>
                      <a:pt x="138" y="391"/>
                    </a:lnTo>
                    <a:lnTo>
                      <a:pt x="69" y="378"/>
                    </a:lnTo>
                    <a:lnTo>
                      <a:pt x="20" y="330"/>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8426520" y="5245200"/>
                <a:ext cx="19080" cy="98280"/>
              </a:xfrm>
              <a:custGeom>
                <a:avLst/>
                <a:gdLst/>
                <a:ahLst/>
                <a:rect l="l" t="t" r="r" b="b"/>
                <a:pathLst>
                  <a:path w="99" h="494">
                    <a:moveTo>
                      <a:pt x="0" y="0"/>
                    </a:moveTo>
                    <a:lnTo>
                      <a:pt x="77" y="117"/>
                    </a:lnTo>
                    <a:lnTo>
                      <a:pt x="99" y="240"/>
                    </a:lnTo>
                    <a:lnTo>
                      <a:pt x="85" y="341"/>
                    </a:lnTo>
                    <a:lnTo>
                      <a:pt x="20" y="494"/>
                    </a:lnTo>
                    <a:lnTo>
                      <a:pt x="68" y="332"/>
                    </a:lnTo>
                    <a:lnTo>
                      <a:pt x="68" y="231"/>
                    </a:lnTo>
                    <a:lnTo>
                      <a:pt x="59" y="1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8264520" y="4970520"/>
                <a:ext cx="426960" cy="496800"/>
              </a:xfrm>
              <a:custGeom>
                <a:avLst/>
                <a:gdLst/>
                <a:ahLst/>
                <a:rect l="l" t="t" r="r" b="b"/>
                <a:pathLst>
                  <a:path w="2158" h="2496">
                    <a:moveTo>
                      <a:pt x="975" y="1433"/>
                    </a:moveTo>
                    <a:lnTo>
                      <a:pt x="1006" y="1576"/>
                    </a:lnTo>
                    <a:lnTo>
                      <a:pt x="1006" y="1701"/>
                    </a:lnTo>
                    <a:lnTo>
                      <a:pt x="964" y="1818"/>
                    </a:lnTo>
                    <a:lnTo>
                      <a:pt x="865" y="1954"/>
                    </a:lnTo>
                    <a:lnTo>
                      <a:pt x="749" y="2053"/>
                    </a:lnTo>
                    <a:lnTo>
                      <a:pt x="706" y="2053"/>
                    </a:lnTo>
                    <a:lnTo>
                      <a:pt x="657" y="2053"/>
                    </a:lnTo>
                    <a:lnTo>
                      <a:pt x="632" y="2028"/>
                    </a:lnTo>
                    <a:lnTo>
                      <a:pt x="652" y="2081"/>
                    </a:lnTo>
                    <a:lnTo>
                      <a:pt x="731" y="2081"/>
                    </a:lnTo>
                    <a:lnTo>
                      <a:pt x="786" y="2053"/>
                    </a:lnTo>
                    <a:lnTo>
                      <a:pt x="894" y="2039"/>
                    </a:lnTo>
                    <a:lnTo>
                      <a:pt x="984" y="1954"/>
                    </a:lnTo>
                    <a:lnTo>
                      <a:pt x="1061" y="1829"/>
                    </a:lnTo>
                    <a:lnTo>
                      <a:pt x="1107" y="1675"/>
                    </a:lnTo>
                    <a:lnTo>
                      <a:pt x="1201" y="2018"/>
                    </a:lnTo>
                    <a:lnTo>
                      <a:pt x="1307" y="2156"/>
                    </a:lnTo>
                    <a:lnTo>
                      <a:pt x="1474" y="2288"/>
                    </a:lnTo>
                    <a:lnTo>
                      <a:pt x="1338" y="2270"/>
                    </a:lnTo>
                    <a:lnTo>
                      <a:pt x="1538" y="2397"/>
                    </a:lnTo>
                    <a:lnTo>
                      <a:pt x="1169" y="2496"/>
                    </a:lnTo>
                    <a:lnTo>
                      <a:pt x="1693" y="2387"/>
                    </a:lnTo>
                    <a:lnTo>
                      <a:pt x="1725" y="2433"/>
                    </a:lnTo>
                    <a:lnTo>
                      <a:pt x="1819" y="2206"/>
                    </a:lnTo>
                    <a:lnTo>
                      <a:pt x="2023" y="1839"/>
                    </a:lnTo>
                    <a:lnTo>
                      <a:pt x="2135" y="1459"/>
                    </a:lnTo>
                    <a:lnTo>
                      <a:pt x="2158" y="1147"/>
                    </a:lnTo>
                    <a:lnTo>
                      <a:pt x="2115" y="892"/>
                    </a:lnTo>
                    <a:lnTo>
                      <a:pt x="2065" y="714"/>
                    </a:lnTo>
                    <a:lnTo>
                      <a:pt x="1966" y="442"/>
                    </a:lnTo>
                    <a:lnTo>
                      <a:pt x="1792" y="202"/>
                    </a:lnTo>
                    <a:lnTo>
                      <a:pt x="1564" y="31"/>
                    </a:lnTo>
                    <a:lnTo>
                      <a:pt x="1326" y="0"/>
                    </a:lnTo>
                    <a:lnTo>
                      <a:pt x="1192" y="31"/>
                    </a:lnTo>
                    <a:lnTo>
                      <a:pt x="955" y="114"/>
                    </a:lnTo>
                    <a:lnTo>
                      <a:pt x="894" y="31"/>
                    </a:lnTo>
                    <a:lnTo>
                      <a:pt x="740" y="80"/>
                    </a:lnTo>
                    <a:lnTo>
                      <a:pt x="386" y="154"/>
                    </a:lnTo>
                    <a:lnTo>
                      <a:pt x="187" y="181"/>
                    </a:lnTo>
                    <a:lnTo>
                      <a:pt x="98" y="231"/>
                    </a:lnTo>
                    <a:lnTo>
                      <a:pt x="17" y="327"/>
                    </a:lnTo>
                    <a:lnTo>
                      <a:pt x="0" y="442"/>
                    </a:lnTo>
                    <a:lnTo>
                      <a:pt x="30" y="497"/>
                    </a:lnTo>
                    <a:lnTo>
                      <a:pt x="98" y="622"/>
                    </a:lnTo>
                    <a:lnTo>
                      <a:pt x="107" y="751"/>
                    </a:lnTo>
                    <a:lnTo>
                      <a:pt x="92" y="976"/>
                    </a:lnTo>
                    <a:lnTo>
                      <a:pt x="129" y="1106"/>
                    </a:lnTo>
                    <a:lnTo>
                      <a:pt x="279" y="1270"/>
                    </a:lnTo>
                    <a:lnTo>
                      <a:pt x="287" y="1477"/>
                    </a:lnTo>
                    <a:lnTo>
                      <a:pt x="395" y="1723"/>
                    </a:lnTo>
                    <a:lnTo>
                      <a:pt x="505" y="1661"/>
                    </a:lnTo>
                    <a:lnTo>
                      <a:pt x="505" y="1537"/>
                    </a:lnTo>
                    <a:lnTo>
                      <a:pt x="652" y="1382"/>
                    </a:lnTo>
                    <a:lnTo>
                      <a:pt x="731" y="1257"/>
                    </a:lnTo>
                    <a:lnTo>
                      <a:pt x="876" y="1270"/>
                    </a:lnTo>
                    <a:lnTo>
                      <a:pt x="946" y="1359"/>
                    </a:lnTo>
                    <a:lnTo>
                      <a:pt x="975" y="1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8267760" y="4946760"/>
                <a:ext cx="336600" cy="87120"/>
              </a:xfrm>
              <a:custGeom>
                <a:avLst/>
                <a:gdLst/>
                <a:ahLst/>
                <a:rect l="l" t="t" r="r" b="b"/>
                <a:pathLst>
                  <a:path w="1696" h="446">
                    <a:moveTo>
                      <a:pt x="0" y="446"/>
                    </a:moveTo>
                    <a:lnTo>
                      <a:pt x="103" y="297"/>
                    </a:lnTo>
                    <a:lnTo>
                      <a:pt x="327" y="119"/>
                    </a:lnTo>
                    <a:lnTo>
                      <a:pt x="681" y="29"/>
                    </a:lnTo>
                    <a:lnTo>
                      <a:pt x="1009" y="0"/>
                    </a:lnTo>
                    <a:lnTo>
                      <a:pt x="1290" y="29"/>
                    </a:lnTo>
                    <a:lnTo>
                      <a:pt x="1547" y="142"/>
                    </a:lnTo>
                    <a:lnTo>
                      <a:pt x="1696" y="267"/>
                    </a:lnTo>
                    <a:lnTo>
                      <a:pt x="1422" y="105"/>
                    </a:lnTo>
                    <a:lnTo>
                      <a:pt x="1224" y="52"/>
                    </a:lnTo>
                    <a:lnTo>
                      <a:pt x="1009" y="41"/>
                    </a:lnTo>
                    <a:lnTo>
                      <a:pt x="740" y="52"/>
                    </a:lnTo>
                    <a:lnTo>
                      <a:pt x="468" y="105"/>
                    </a:lnTo>
                    <a:lnTo>
                      <a:pt x="292" y="167"/>
                    </a:lnTo>
                    <a:lnTo>
                      <a:pt x="112" y="308"/>
                    </a:lnTo>
                    <a:lnTo>
                      <a:pt x="0" y="44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8" name=""/>
              <p:cNvSpPr/>
              <p:nvPr/>
            </p:nvSpPr>
            <p:spPr>
              <a:xfrm>
                <a:off x="8407440" y="5245200"/>
                <a:ext cx="12600" cy="54000"/>
              </a:xfrm>
              <a:custGeom>
                <a:avLst/>
                <a:gdLst/>
                <a:ahLst/>
                <a:rect l="l" t="t" r="r" b="b"/>
                <a:pathLst>
                  <a:path w="66" h="268">
                    <a:moveTo>
                      <a:pt x="57" y="0"/>
                    </a:moveTo>
                    <a:lnTo>
                      <a:pt x="0" y="26"/>
                    </a:lnTo>
                    <a:lnTo>
                      <a:pt x="0" y="128"/>
                    </a:lnTo>
                    <a:lnTo>
                      <a:pt x="66" y="268"/>
                    </a:lnTo>
                    <a:lnTo>
                      <a:pt x="29" y="128"/>
                    </a:lnTo>
                    <a:lnTo>
                      <a:pt x="29" y="40"/>
                    </a:lnTo>
                    <a:lnTo>
                      <a:pt x="5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9" name=""/>
              <p:cNvSpPr/>
              <p:nvPr/>
            </p:nvSpPr>
            <p:spPr>
              <a:xfrm>
                <a:off x="8386920" y="5297400"/>
                <a:ext cx="41040" cy="42840"/>
              </a:xfrm>
              <a:custGeom>
                <a:avLst/>
                <a:gdLst/>
                <a:ahLst/>
                <a:rect l="l" t="t" r="r" b="b"/>
                <a:pathLst>
                  <a:path w="207" h="219">
                    <a:moveTo>
                      <a:pt x="156" y="0"/>
                    </a:moveTo>
                    <a:lnTo>
                      <a:pt x="128" y="35"/>
                    </a:lnTo>
                    <a:lnTo>
                      <a:pt x="68" y="21"/>
                    </a:lnTo>
                    <a:lnTo>
                      <a:pt x="48" y="136"/>
                    </a:lnTo>
                    <a:lnTo>
                      <a:pt x="0" y="219"/>
                    </a:lnTo>
                    <a:lnTo>
                      <a:pt x="85" y="136"/>
                    </a:lnTo>
                    <a:lnTo>
                      <a:pt x="165" y="136"/>
                    </a:lnTo>
                    <a:lnTo>
                      <a:pt x="207" y="74"/>
                    </a:lnTo>
                    <a:lnTo>
                      <a:pt x="156"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7088040" y="4686480"/>
                <a:ext cx="111240" cy="20520"/>
              </a:xfrm>
              <a:custGeom>
                <a:avLst/>
                <a:gdLst/>
                <a:ahLst/>
                <a:rect l="l" t="t" r="r" b="b"/>
                <a:pathLst>
                  <a:path w="558" h="104">
                    <a:moveTo>
                      <a:pt x="525" y="104"/>
                    </a:moveTo>
                    <a:lnTo>
                      <a:pt x="236" y="44"/>
                    </a:lnTo>
                    <a:lnTo>
                      <a:pt x="149" y="44"/>
                    </a:lnTo>
                    <a:lnTo>
                      <a:pt x="0" y="104"/>
                    </a:lnTo>
                    <a:lnTo>
                      <a:pt x="149" y="12"/>
                    </a:lnTo>
                    <a:lnTo>
                      <a:pt x="224" y="0"/>
                    </a:lnTo>
                    <a:lnTo>
                      <a:pt x="545" y="44"/>
                    </a:lnTo>
                    <a:lnTo>
                      <a:pt x="558" y="79"/>
                    </a:lnTo>
                    <a:lnTo>
                      <a:pt x="525" y="10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1" name=""/>
              <p:cNvSpPr/>
              <p:nvPr/>
            </p:nvSpPr>
            <p:spPr>
              <a:xfrm>
                <a:off x="7167600" y="4816440"/>
                <a:ext cx="82440" cy="17640"/>
              </a:xfrm>
              <a:custGeom>
                <a:avLst/>
                <a:gdLst/>
                <a:ahLst/>
                <a:rect l="l" t="t" r="r" b="b"/>
                <a:pathLst>
                  <a:path w="420" h="88">
                    <a:moveTo>
                      <a:pt x="0" y="88"/>
                    </a:moveTo>
                    <a:lnTo>
                      <a:pt x="240" y="0"/>
                    </a:lnTo>
                    <a:lnTo>
                      <a:pt x="362" y="0"/>
                    </a:lnTo>
                    <a:lnTo>
                      <a:pt x="420" y="58"/>
                    </a:lnTo>
                    <a:lnTo>
                      <a:pt x="362" y="23"/>
                    </a:lnTo>
                    <a:lnTo>
                      <a:pt x="231" y="23"/>
                    </a:lnTo>
                    <a:lnTo>
                      <a:pt x="0" y="8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2" name=""/>
              <p:cNvSpPr/>
              <p:nvPr/>
            </p:nvSpPr>
            <p:spPr>
              <a:xfrm>
                <a:off x="7167600" y="4832280"/>
                <a:ext cx="81000" cy="22320"/>
              </a:xfrm>
              <a:custGeom>
                <a:avLst/>
                <a:gdLst/>
                <a:ahLst/>
                <a:rect l="l" t="t" r="r" b="b"/>
                <a:pathLst>
                  <a:path w="411" h="108">
                    <a:moveTo>
                      <a:pt x="27" y="9"/>
                    </a:moveTo>
                    <a:lnTo>
                      <a:pt x="216" y="36"/>
                    </a:lnTo>
                    <a:lnTo>
                      <a:pt x="326" y="36"/>
                    </a:lnTo>
                    <a:lnTo>
                      <a:pt x="411" y="0"/>
                    </a:lnTo>
                    <a:lnTo>
                      <a:pt x="326" y="42"/>
                    </a:lnTo>
                    <a:lnTo>
                      <a:pt x="189" y="42"/>
                    </a:lnTo>
                    <a:lnTo>
                      <a:pt x="106" y="62"/>
                    </a:lnTo>
                    <a:lnTo>
                      <a:pt x="183" y="95"/>
                    </a:lnTo>
                    <a:lnTo>
                      <a:pt x="309" y="95"/>
                    </a:lnTo>
                    <a:lnTo>
                      <a:pt x="387" y="51"/>
                    </a:lnTo>
                    <a:lnTo>
                      <a:pt x="309" y="108"/>
                    </a:lnTo>
                    <a:lnTo>
                      <a:pt x="163" y="108"/>
                    </a:lnTo>
                    <a:lnTo>
                      <a:pt x="0" y="9"/>
                    </a:lnTo>
                    <a:lnTo>
                      <a:pt x="27"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3" name=""/>
              <p:cNvSpPr/>
              <p:nvPr/>
            </p:nvSpPr>
            <p:spPr>
              <a:xfrm>
                <a:off x="7234200" y="4678200"/>
                <a:ext cx="31680" cy="28800"/>
              </a:xfrm>
              <a:custGeom>
                <a:avLst/>
                <a:gdLst/>
                <a:ahLst/>
                <a:rect l="l" t="t" r="r" b="b"/>
                <a:pathLst>
                  <a:path w="160" h="145">
                    <a:moveTo>
                      <a:pt x="20" y="145"/>
                    </a:moveTo>
                    <a:lnTo>
                      <a:pt x="0" y="111"/>
                    </a:lnTo>
                    <a:lnTo>
                      <a:pt x="34" y="53"/>
                    </a:lnTo>
                    <a:lnTo>
                      <a:pt x="142" y="0"/>
                    </a:lnTo>
                    <a:lnTo>
                      <a:pt x="160" y="9"/>
                    </a:lnTo>
                    <a:lnTo>
                      <a:pt x="68" y="85"/>
                    </a:lnTo>
                    <a:lnTo>
                      <a:pt x="43" y="134"/>
                    </a:lnTo>
                    <a:lnTo>
                      <a:pt x="20" y="14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44" name=""/>
              <p:cNvSpPr/>
              <p:nvPr/>
            </p:nvSpPr>
            <p:spPr>
              <a:xfrm>
                <a:off x="7230960" y="4708440"/>
                <a:ext cx="19080" cy="79560"/>
              </a:xfrm>
              <a:custGeom>
                <a:avLst/>
                <a:gdLst/>
                <a:ahLst/>
                <a:rect l="l" t="t" r="r" b="b"/>
                <a:pathLst>
                  <a:path w="99" h="399">
                    <a:moveTo>
                      <a:pt x="14" y="0"/>
                    </a:moveTo>
                    <a:lnTo>
                      <a:pt x="0" y="81"/>
                    </a:lnTo>
                    <a:lnTo>
                      <a:pt x="0" y="114"/>
                    </a:lnTo>
                    <a:lnTo>
                      <a:pt x="99" y="344"/>
                    </a:lnTo>
                    <a:lnTo>
                      <a:pt x="90" y="378"/>
                    </a:lnTo>
                    <a:lnTo>
                      <a:pt x="41" y="39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5" name=""/>
              <p:cNvSpPr/>
              <p:nvPr/>
            </p:nvSpPr>
            <p:spPr>
              <a:xfrm>
                <a:off x="7192800" y="4784760"/>
                <a:ext cx="46080" cy="23760"/>
              </a:xfrm>
              <a:custGeom>
                <a:avLst/>
                <a:gdLst/>
                <a:ahLst/>
                <a:rect l="l" t="t" r="r" b="b"/>
                <a:pathLst>
                  <a:path w="232" h="123">
                    <a:moveTo>
                      <a:pt x="232" y="21"/>
                    </a:moveTo>
                    <a:lnTo>
                      <a:pt x="191" y="8"/>
                    </a:lnTo>
                    <a:lnTo>
                      <a:pt x="119" y="0"/>
                    </a:lnTo>
                    <a:lnTo>
                      <a:pt x="24" y="21"/>
                    </a:lnTo>
                    <a:lnTo>
                      <a:pt x="0" y="0"/>
                    </a:lnTo>
                    <a:lnTo>
                      <a:pt x="20" y="42"/>
                    </a:lnTo>
                    <a:lnTo>
                      <a:pt x="77" y="76"/>
                    </a:lnTo>
                    <a:lnTo>
                      <a:pt x="130" y="67"/>
                    </a:lnTo>
                    <a:lnTo>
                      <a:pt x="205" y="123"/>
                    </a:lnTo>
                    <a:lnTo>
                      <a:pt x="232" y="33"/>
                    </a:lnTo>
                    <a:lnTo>
                      <a:pt x="232"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6" name=""/>
              <p:cNvSpPr/>
              <p:nvPr/>
            </p:nvSpPr>
            <p:spPr>
              <a:xfrm>
                <a:off x="7230960" y="4711680"/>
                <a:ext cx="39960" cy="20520"/>
              </a:xfrm>
              <a:custGeom>
                <a:avLst/>
                <a:gdLst/>
                <a:ahLst/>
                <a:rect l="l" t="t" r="r" b="b"/>
                <a:pathLst>
                  <a:path w="205" h="102">
                    <a:moveTo>
                      <a:pt x="0" y="78"/>
                    </a:moveTo>
                    <a:lnTo>
                      <a:pt x="48" y="34"/>
                    </a:lnTo>
                    <a:lnTo>
                      <a:pt x="90" y="69"/>
                    </a:lnTo>
                    <a:lnTo>
                      <a:pt x="48" y="78"/>
                    </a:lnTo>
                    <a:lnTo>
                      <a:pt x="119" y="102"/>
                    </a:lnTo>
                    <a:lnTo>
                      <a:pt x="156" y="55"/>
                    </a:lnTo>
                    <a:lnTo>
                      <a:pt x="205" y="55"/>
                    </a:lnTo>
                    <a:lnTo>
                      <a:pt x="170" y="34"/>
                    </a:lnTo>
                    <a:lnTo>
                      <a:pt x="183" y="0"/>
                    </a:lnTo>
                    <a:lnTo>
                      <a:pt x="135" y="23"/>
                    </a:lnTo>
                    <a:lnTo>
                      <a:pt x="48" y="23"/>
                    </a:lnTo>
                    <a:lnTo>
                      <a:pt x="0" y="7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7" name=""/>
              <p:cNvSpPr/>
              <p:nvPr/>
            </p:nvSpPr>
            <p:spPr>
              <a:xfrm>
                <a:off x="7118280" y="4716360"/>
                <a:ext cx="66600" cy="23760"/>
              </a:xfrm>
              <a:custGeom>
                <a:avLst/>
                <a:gdLst/>
                <a:ahLst/>
                <a:rect l="l" t="t" r="r" b="b"/>
                <a:pathLst>
                  <a:path w="334" h="122">
                    <a:moveTo>
                      <a:pt x="328" y="32"/>
                    </a:moveTo>
                    <a:lnTo>
                      <a:pt x="237" y="0"/>
                    </a:lnTo>
                    <a:lnTo>
                      <a:pt x="69" y="55"/>
                    </a:lnTo>
                    <a:lnTo>
                      <a:pt x="0" y="55"/>
                    </a:lnTo>
                    <a:lnTo>
                      <a:pt x="48" y="79"/>
                    </a:lnTo>
                    <a:lnTo>
                      <a:pt x="135" y="67"/>
                    </a:lnTo>
                    <a:lnTo>
                      <a:pt x="143" y="88"/>
                    </a:lnTo>
                    <a:lnTo>
                      <a:pt x="119" y="122"/>
                    </a:lnTo>
                    <a:lnTo>
                      <a:pt x="172" y="101"/>
                    </a:lnTo>
                    <a:lnTo>
                      <a:pt x="154" y="55"/>
                    </a:lnTo>
                    <a:lnTo>
                      <a:pt x="196" y="23"/>
                    </a:lnTo>
                    <a:lnTo>
                      <a:pt x="196" y="88"/>
                    </a:lnTo>
                    <a:lnTo>
                      <a:pt x="246" y="88"/>
                    </a:lnTo>
                    <a:lnTo>
                      <a:pt x="273" y="55"/>
                    </a:lnTo>
                    <a:lnTo>
                      <a:pt x="334" y="55"/>
                    </a:lnTo>
                    <a:lnTo>
                      <a:pt x="328"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8" name=""/>
              <p:cNvSpPr/>
              <p:nvPr/>
            </p:nvSpPr>
            <p:spPr>
              <a:xfrm>
                <a:off x="7053120" y="4745160"/>
                <a:ext cx="1296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9" name=""/>
              <p:cNvSpPr/>
              <p:nvPr/>
            </p:nvSpPr>
            <p:spPr>
              <a:xfrm>
                <a:off x="7064280" y="4748040"/>
                <a:ext cx="144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50" name=""/>
              <p:cNvSpPr/>
              <p:nvPr/>
            </p:nvSpPr>
            <p:spPr>
              <a:xfrm>
                <a:off x="7078680" y="4762440"/>
                <a:ext cx="172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
              <p:cNvSpPr/>
              <p:nvPr/>
            </p:nvSpPr>
            <p:spPr>
              <a:xfrm>
                <a:off x="7097760" y="4784760"/>
                <a:ext cx="936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2" name=""/>
              <p:cNvSpPr/>
              <p:nvPr/>
            </p:nvSpPr>
            <p:spPr>
              <a:xfrm>
                <a:off x="7042320" y="4781520"/>
                <a:ext cx="215640" cy="225360"/>
              </a:xfrm>
              <a:custGeom>
                <a:avLst/>
                <a:gdLst/>
                <a:ahLst/>
                <a:rect l="l" t="t" r="r" b="b"/>
                <a:pathLst>
                  <a:path w="1088" h="1136">
                    <a:moveTo>
                      <a:pt x="0" y="0"/>
                    </a:moveTo>
                    <a:lnTo>
                      <a:pt x="189" y="450"/>
                    </a:lnTo>
                    <a:lnTo>
                      <a:pt x="248" y="487"/>
                    </a:lnTo>
                    <a:lnTo>
                      <a:pt x="747" y="637"/>
                    </a:lnTo>
                    <a:lnTo>
                      <a:pt x="839" y="637"/>
                    </a:lnTo>
                    <a:lnTo>
                      <a:pt x="994" y="637"/>
                    </a:lnTo>
                    <a:lnTo>
                      <a:pt x="1026" y="565"/>
                    </a:lnTo>
                    <a:lnTo>
                      <a:pt x="1088" y="290"/>
                    </a:lnTo>
                    <a:lnTo>
                      <a:pt x="1043" y="551"/>
                    </a:lnTo>
                    <a:lnTo>
                      <a:pt x="1010" y="659"/>
                    </a:lnTo>
                    <a:lnTo>
                      <a:pt x="848" y="714"/>
                    </a:lnTo>
                    <a:lnTo>
                      <a:pt x="821" y="938"/>
                    </a:lnTo>
                    <a:lnTo>
                      <a:pt x="701" y="1045"/>
                    </a:lnTo>
                    <a:lnTo>
                      <a:pt x="521" y="1136"/>
                    </a:lnTo>
                    <a:lnTo>
                      <a:pt x="768" y="903"/>
                    </a:lnTo>
                    <a:lnTo>
                      <a:pt x="804" y="714"/>
                    </a:lnTo>
                    <a:lnTo>
                      <a:pt x="667" y="669"/>
                    </a:lnTo>
                    <a:lnTo>
                      <a:pt x="441" y="1114"/>
                    </a:lnTo>
                    <a:lnTo>
                      <a:pt x="189" y="1001"/>
                    </a:lnTo>
                    <a:lnTo>
                      <a:pt x="378" y="1067"/>
                    </a:lnTo>
                    <a:lnTo>
                      <a:pt x="597" y="650"/>
                    </a:lnTo>
                    <a:lnTo>
                      <a:pt x="171" y="4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021440" y="4805280"/>
                <a:ext cx="44640" cy="168480"/>
              </a:xfrm>
              <a:custGeom>
                <a:avLst/>
                <a:gdLst/>
                <a:ahLst/>
                <a:rect l="l" t="t" r="r" b="b"/>
                <a:pathLst>
                  <a:path w="226" h="842">
                    <a:moveTo>
                      <a:pt x="120" y="0"/>
                    </a:moveTo>
                    <a:lnTo>
                      <a:pt x="120" y="78"/>
                    </a:lnTo>
                    <a:lnTo>
                      <a:pt x="78" y="152"/>
                    </a:lnTo>
                    <a:lnTo>
                      <a:pt x="198" y="627"/>
                    </a:lnTo>
                    <a:lnTo>
                      <a:pt x="226" y="842"/>
                    </a:lnTo>
                    <a:lnTo>
                      <a:pt x="103" y="783"/>
                    </a:lnTo>
                    <a:lnTo>
                      <a:pt x="25" y="640"/>
                    </a:lnTo>
                    <a:lnTo>
                      <a:pt x="120" y="774"/>
                    </a:lnTo>
                    <a:lnTo>
                      <a:pt x="158" y="783"/>
                    </a:lnTo>
                    <a:lnTo>
                      <a:pt x="96" y="308"/>
                    </a:lnTo>
                    <a:lnTo>
                      <a:pt x="32" y="572"/>
                    </a:lnTo>
                    <a:lnTo>
                      <a:pt x="78" y="265"/>
                    </a:lnTo>
                    <a:lnTo>
                      <a:pt x="43" y="78"/>
                    </a:lnTo>
                    <a:lnTo>
                      <a:pt x="0" y="69"/>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242120" y="4619520"/>
                <a:ext cx="36720" cy="214560"/>
              </a:xfrm>
              <a:custGeom>
                <a:avLst/>
                <a:gdLst/>
                <a:ahLst/>
                <a:rect l="l" t="t" r="r" b="b"/>
                <a:pathLst>
                  <a:path w="187" h="1081">
                    <a:moveTo>
                      <a:pt x="86" y="1081"/>
                    </a:moveTo>
                    <a:lnTo>
                      <a:pt x="170" y="871"/>
                    </a:lnTo>
                    <a:lnTo>
                      <a:pt x="187" y="760"/>
                    </a:lnTo>
                    <a:lnTo>
                      <a:pt x="187" y="675"/>
                    </a:lnTo>
                    <a:lnTo>
                      <a:pt x="170" y="587"/>
                    </a:lnTo>
                    <a:lnTo>
                      <a:pt x="117" y="451"/>
                    </a:lnTo>
                    <a:lnTo>
                      <a:pt x="117" y="338"/>
                    </a:lnTo>
                    <a:lnTo>
                      <a:pt x="113" y="29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897600" y="4437000"/>
                <a:ext cx="395280" cy="460440"/>
              </a:xfrm>
              <a:custGeom>
                <a:avLst/>
                <a:gdLst/>
                <a:ahLst/>
                <a:rect l="l" t="t" r="r" b="b"/>
                <a:pathLst>
                  <a:path w="1994" h="2320">
                    <a:moveTo>
                      <a:pt x="598" y="597"/>
                    </a:moveTo>
                    <a:lnTo>
                      <a:pt x="823" y="443"/>
                    </a:lnTo>
                    <a:lnTo>
                      <a:pt x="904" y="443"/>
                    </a:lnTo>
                    <a:lnTo>
                      <a:pt x="1031" y="318"/>
                    </a:lnTo>
                    <a:lnTo>
                      <a:pt x="1106" y="397"/>
                    </a:lnTo>
                    <a:lnTo>
                      <a:pt x="1201" y="369"/>
                    </a:lnTo>
                    <a:lnTo>
                      <a:pt x="1130" y="475"/>
                    </a:lnTo>
                    <a:lnTo>
                      <a:pt x="1277" y="487"/>
                    </a:lnTo>
                    <a:lnTo>
                      <a:pt x="1145" y="652"/>
                    </a:lnTo>
                    <a:lnTo>
                      <a:pt x="1378" y="575"/>
                    </a:lnTo>
                    <a:lnTo>
                      <a:pt x="1319" y="671"/>
                    </a:lnTo>
                    <a:lnTo>
                      <a:pt x="1490" y="671"/>
                    </a:lnTo>
                    <a:lnTo>
                      <a:pt x="1457" y="754"/>
                    </a:lnTo>
                    <a:lnTo>
                      <a:pt x="1543" y="795"/>
                    </a:lnTo>
                    <a:lnTo>
                      <a:pt x="1669" y="729"/>
                    </a:lnTo>
                    <a:lnTo>
                      <a:pt x="1895" y="839"/>
                    </a:lnTo>
                    <a:lnTo>
                      <a:pt x="1800" y="696"/>
                    </a:lnTo>
                    <a:lnTo>
                      <a:pt x="1627" y="696"/>
                    </a:lnTo>
                    <a:lnTo>
                      <a:pt x="1627" y="608"/>
                    </a:lnTo>
                    <a:lnTo>
                      <a:pt x="1514" y="586"/>
                    </a:lnTo>
                    <a:lnTo>
                      <a:pt x="1701" y="540"/>
                    </a:lnTo>
                    <a:lnTo>
                      <a:pt x="1490" y="521"/>
                    </a:lnTo>
                    <a:lnTo>
                      <a:pt x="1543" y="417"/>
                    </a:lnTo>
                    <a:lnTo>
                      <a:pt x="1360" y="461"/>
                    </a:lnTo>
                    <a:lnTo>
                      <a:pt x="1387" y="290"/>
                    </a:lnTo>
                    <a:lnTo>
                      <a:pt x="1240" y="338"/>
                    </a:lnTo>
                    <a:lnTo>
                      <a:pt x="1240" y="203"/>
                    </a:lnTo>
                    <a:lnTo>
                      <a:pt x="1145" y="305"/>
                    </a:lnTo>
                    <a:lnTo>
                      <a:pt x="1106" y="0"/>
                    </a:lnTo>
                    <a:lnTo>
                      <a:pt x="1339" y="81"/>
                    </a:lnTo>
                    <a:lnTo>
                      <a:pt x="1484" y="203"/>
                    </a:lnTo>
                    <a:lnTo>
                      <a:pt x="1653" y="247"/>
                    </a:lnTo>
                    <a:lnTo>
                      <a:pt x="1771" y="397"/>
                    </a:lnTo>
                    <a:lnTo>
                      <a:pt x="1875" y="461"/>
                    </a:lnTo>
                    <a:lnTo>
                      <a:pt x="1960" y="664"/>
                    </a:lnTo>
                    <a:lnTo>
                      <a:pt x="1994" y="839"/>
                    </a:lnTo>
                    <a:lnTo>
                      <a:pt x="1969" y="950"/>
                    </a:lnTo>
                    <a:lnTo>
                      <a:pt x="1886" y="1042"/>
                    </a:lnTo>
                    <a:lnTo>
                      <a:pt x="1789" y="1042"/>
                    </a:lnTo>
                    <a:lnTo>
                      <a:pt x="1729" y="918"/>
                    </a:lnTo>
                    <a:lnTo>
                      <a:pt x="1627" y="874"/>
                    </a:lnTo>
                    <a:lnTo>
                      <a:pt x="1532" y="874"/>
                    </a:lnTo>
                    <a:lnTo>
                      <a:pt x="1420" y="927"/>
                    </a:lnTo>
                    <a:lnTo>
                      <a:pt x="1325" y="918"/>
                    </a:lnTo>
                    <a:lnTo>
                      <a:pt x="1130" y="874"/>
                    </a:lnTo>
                    <a:lnTo>
                      <a:pt x="1077" y="885"/>
                    </a:lnTo>
                    <a:lnTo>
                      <a:pt x="994" y="997"/>
                    </a:lnTo>
                    <a:lnTo>
                      <a:pt x="842" y="1072"/>
                    </a:lnTo>
                    <a:lnTo>
                      <a:pt x="823" y="1224"/>
                    </a:lnTo>
                    <a:lnTo>
                      <a:pt x="728" y="1381"/>
                    </a:lnTo>
                    <a:lnTo>
                      <a:pt x="737" y="1566"/>
                    </a:lnTo>
                    <a:lnTo>
                      <a:pt x="712" y="1702"/>
                    </a:lnTo>
                    <a:lnTo>
                      <a:pt x="611" y="1593"/>
                    </a:lnTo>
                    <a:lnTo>
                      <a:pt x="411" y="1593"/>
                    </a:lnTo>
                    <a:lnTo>
                      <a:pt x="418" y="1692"/>
                    </a:lnTo>
                    <a:lnTo>
                      <a:pt x="497" y="1845"/>
                    </a:lnTo>
                    <a:lnTo>
                      <a:pt x="592" y="1925"/>
                    </a:lnTo>
                    <a:lnTo>
                      <a:pt x="650" y="1925"/>
                    </a:lnTo>
                    <a:lnTo>
                      <a:pt x="689" y="1969"/>
                    </a:lnTo>
                    <a:lnTo>
                      <a:pt x="712" y="2121"/>
                    </a:lnTo>
                    <a:lnTo>
                      <a:pt x="689" y="2278"/>
                    </a:lnTo>
                    <a:lnTo>
                      <a:pt x="576" y="2320"/>
                    </a:lnTo>
                    <a:lnTo>
                      <a:pt x="505" y="2128"/>
                    </a:lnTo>
                    <a:lnTo>
                      <a:pt x="352" y="2026"/>
                    </a:lnTo>
                    <a:lnTo>
                      <a:pt x="200" y="1747"/>
                    </a:lnTo>
                    <a:lnTo>
                      <a:pt x="86" y="1579"/>
                    </a:lnTo>
                    <a:lnTo>
                      <a:pt x="9" y="1291"/>
                    </a:lnTo>
                    <a:lnTo>
                      <a:pt x="0" y="1049"/>
                    </a:lnTo>
                    <a:lnTo>
                      <a:pt x="42" y="761"/>
                    </a:lnTo>
                    <a:lnTo>
                      <a:pt x="130" y="540"/>
                    </a:lnTo>
                    <a:lnTo>
                      <a:pt x="233" y="417"/>
                    </a:lnTo>
                    <a:lnTo>
                      <a:pt x="479" y="212"/>
                    </a:lnTo>
                    <a:lnTo>
                      <a:pt x="592" y="178"/>
                    </a:lnTo>
                    <a:lnTo>
                      <a:pt x="805" y="386"/>
                    </a:lnTo>
                    <a:lnTo>
                      <a:pt x="625" y="338"/>
                    </a:lnTo>
                    <a:lnTo>
                      <a:pt x="721" y="443"/>
                    </a:lnTo>
                    <a:lnTo>
                      <a:pt x="583" y="540"/>
                    </a:lnTo>
                    <a:lnTo>
                      <a:pt x="598" y="5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012080" y="4437000"/>
                <a:ext cx="110880" cy="71640"/>
              </a:xfrm>
              <a:custGeom>
                <a:avLst/>
                <a:gdLst/>
                <a:ahLst/>
                <a:rect l="l" t="t" r="r" b="b"/>
                <a:pathLst>
                  <a:path w="563" h="353">
                    <a:moveTo>
                      <a:pt x="196" y="353"/>
                    </a:moveTo>
                    <a:lnTo>
                      <a:pt x="187" y="224"/>
                    </a:lnTo>
                    <a:lnTo>
                      <a:pt x="303" y="353"/>
                    </a:lnTo>
                    <a:lnTo>
                      <a:pt x="351" y="122"/>
                    </a:lnTo>
                    <a:lnTo>
                      <a:pt x="385" y="270"/>
                    </a:lnTo>
                    <a:lnTo>
                      <a:pt x="433" y="203"/>
                    </a:lnTo>
                    <a:lnTo>
                      <a:pt x="479" y="247"/>
                    </a:lnTo>
                    <a:lnTo>
                      <a:pt x="563" y="113"/>
                    </a:lnTo>
                    <a:lnTo>
                      <a:pt x="538" y="0"/>
                    </a:lnTo>
                    <a:lnTo>
                      <a:pt x="323" y="0"/>
                    </a:lnTo>
                    <a:lnTo>
                      <a:pt x="207" y="46"/>
                    </a:lnTo>
                    <a:lnTo>
                      <a:pt x="116" y="122"/>
                    </a:lnTo>
                    <a:lnTo>
                      <a:pt x="0" y="191"/>
                    </a:lnTo>
                    <a:lnTo>
                      <a:pt x="196" y="35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57" name=""/>
              <p:cNvSpPr/>
              <p:nvPr/>
            </p:nvSpPr>
            <p:spPr>
              <a:xfrm>
                <a:off x="6711840" y="5394240"/>
                <a:ext cx="281160" cy="304920"/>
              </a:xfrm>
              <a:custGeom>
                <a:avLst/>
                <a:gdLst/>
                <a:ahLst/>
                <a:rect l="l" t="t" r="r" b="b"/>
                <a:pathLst>
                  <a:path w="1413" h="1538">
                    <a:moveTo>
                      <a:pt x="0" y="0"/>
                    </a:moveTo>
                    <a:lnTo>
                      <a:pt x="86" y="150"/>
                    </a:lnTo>
                    <a:lnTo>
                      <a:pt x="176" y="335"/>
                    </a:lnTo>
                    <a:lnTo>
                      <a:pt x="205" y="468"/>
                    </a:lnTo>
                    <a:lnTo>
                      <a:pt x="233" y="695"/>
                    </a:lnTo>
                    <a:lnTo>
                      <a:pt x="12" y="920"/>
                    </a:lnTo>
                    <a:lnTo>
                      <a:pt x="0" y="1070"/>
                    </a:lnTo>
                    <a:lnTo>
                      <a:pt x="58" y="1204"/>
                    </a:lnTo>
                    <a:lnTo>
                      <a:pt x="187" y="1352"/>
                    </a:lnTo>
                    <a:lnTo>
                      <a:pt x="277" y="1469"/>
                    </a:lnTo>
                    <a:lnTo>
                      <a:pt x="337" y="1538"/>
                    </a:lnTo>
                    <a:lnTo>
                      <a:pt x="394" y="1538"/>
                    </a:lnTo>
                    <a:lnTo>
                      <a:pt x="519" y="1522"/>
                    </a:lnTo>
                    <a:lnTo>
                      <a:pt x="671" y="1315"/>
                    </a:lnTo>
                    <a:lnTo>
                      <a:pt x="803" y="1106"/>
                    </a:lnTo>
                    <a:lnTo>
                      <a:pt x="1033" y="1091"/>
                    </a:lnTo>
                    <a:lnTo>
                      <a:pt x="1280" y="675"/>
                    </a:lnTo>
                    <a:lnTo>
                      <a:pt x="1413" y="279"/>
                    </a:lnTo>
                    <a:lnTo>
                      <a:pt x="1341" y="302"/>
                    </a:lnTo>
                    <a:lnTo>
                      <a:pt x="1400" y="113"/>
                    </a:lnTo>
                    <a:lnTo>
                      <a:pt x="1280" y="174"/>
                    </a:lnTo>
                    <a:lnTo>
                      <a:pt x="1110" y="434"/>
                    </a:lnTo>
                    <a:lnTo>
                      <a:pt x="803" y="713"/>
                    </a:lnTo>
                    <a:lnTo>
                      <a:pt x="731" y="713"/>
                    </a:lnTo>
                    <a:lnTo>
                      <a:pt x="963" y="489"/>
                    </a:lnTo>
                    <a:lnTo>
                      <a:pt x="1064" y="150"/>
                    </a:lnTo>
                    <a:lnTo>
                      <a:pt x="996" y="187"/>
                    </a:lnTo>
                    <a:lnTo>
                      <a:pt x="860" y="434"/>
                    </a:lnTo>
                    <a:lnTo>
                      <a:pt x="567" y="526"/>
                    </a:lnTo>
                    <a:lnTo>
                      <a:pt x="493" y="508"/>
                    </a:lnTo>
                    <a:lnTo>
                      <a:pt x="381" y="374"/>
                    </a:lnTo>
                    <a:lnTo>
                      <a:pt x="233" y="150"/>
                    </a:lnTo>
                    <a:lnTo>
                      <a:pt x="102" y="38"/>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815160" y="5560920"/>
                <a:ext cx="154080" cy="85680"/>
              </a:xfrm>
              <a:custGeom>
                <a:avLst/>
                <a:gdLst/>
                <a:ahLst/>
                <a:rect l="l" t="t" r="r" b="b"/>
                <a:pathLst>
                  <a:path w="776" h="431">
                    <a:moveTo>
                      <a:pt x="0" y="260"/>
                    </a:moveTo>
                    <a:lnTo>
                      <a:pt x="297" y="260"/>
                    </a:lnTo>
                    <a:lnTo>
                      <a:pt x="505" y="245"/>
                    </a:lnTo>
                    <a:lnTo>
                      <a:pt x="578" y="152"/>
                    </a:lnTo>
                    <a:lnTo>
                      <a:pt x="636" y="224"/>
                    </a:lnTo>
                    <a:lnTo>
                      <a:pt x="776" y="0"/>
                    </a:lnTo>
                    <a:lnTo>
                      <a:pt x="648" y="317"/>
                    </a:lnTo>
                    <a:lnTo>
                      <a:pt x="330" y="431"/>
                    </a:lnTo>
                    <a:lnTo>
                      <a:pt x="330" y="286"/>
                    </a:lnTo>
                    <a:lnTo>
                      <a:pt x="0" y="26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9" name=""/>
              <p:cNvSpPr/>
              <p:nvPr/>
            </p:nvSpPr>
            <p:spPr>
              <a:xfrm>
                <a:off x="6691320" y="5456160"/>
                <a:ext cx="25560" cy="149400"/>
              </a:xfrm>
              <a:custGeom>
                <a:avLst/>
                <a:gdLst/>
                <a:ahLst/>
                <a:rect l="l" t="t" r="r" b="b"/>
                <a:pathLst>
                  <a:path w="132" h="751">
                    <a:moveTo>
                      <a:pt x="132" y="583"/>
                    </a:moveTo>
                    <a:lnTo>
                      <a:pt x="31" y="223"/>
                    </a:lnTo>
                    <a:lnTo>
                      <a:pt x="31" y="0"/>
                    </a:lnTo>
                    <a:lnTo>
                      <a:pt x="0" y="262"/>
                    </a:lnTo>
                    <a:lnTo>
                      <a:pt x="105" y="751"/>
                    </a:lnTo>
                    <a:lnTo>
                      <a:pt x="132" y="5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568920" y="5232240"/>
                <a:ext cx="754200" cy="273240"/>
              </a:xfrm>
              <a:custGeom>
                <a:avLst/>
                <a:gdLst/>
                <a:ahLst/>
                <a:rect l="l" t="t" r="r" b="b"/>
                <a:pathLst>
                  <a:path w="3797" h="1374">
                    <a:moveTo>
                      <a:pt x="921" y="1374"/>
                    </a:moveTo>
                    <a:lnTo>
                      <a:pt x="642" y="1146"/>
                    </a:lnTo>
                    <a:lnTo>
                      <a:pt x="0" y="0"/>
                    </a:lnTo>
                    <a:lnTo>
                      <a:pt x="1387" y="941"/>
                    </a:lnTo>
                    <a:lnTo>
                      <a:pt x="1591" y="620"/>
                    </a:lnTo>
                    <a:lnTo>
                      <a:pt x="3514" y="0"/>
                    </a:lnTo>
                    <a:lnTo>
                      <a:pt x="3797" y="8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848640" y="5419800"/>
                <a:ext cx="252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2" name=""/>
              <p:cNvSpPr/>
              <p:nvPr/>
            </p:nvSpPr>
            <p:spPr>
              <a:xfrm>
                <a:off x="6881760" y="5359320"/>
                <a:ext cx="28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3" name=""/>
              <p:cNvSpPr/>
              <p:nvPr/>
            </p:nvSpPr>
            <p:spPr>
              <a:xfrm>
                <a:off x="6916680" y="5450040"/>
                <a:ext cx="972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4" name=""/>
              <p:cNvSpPr/>
              <p:nvPr/>
            </p:nvSpPr>
            <p:spPr>
              <a:xfrm flipV="1">
                <a:off x="6966000" y="5505120"/>
                <a:ext cx="15876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5" name=""/>
              <p:cNvSpPr/>
              <p:nvPr/>
            </p:nvSpPr>
            <p:spPr>
              <a:xfrm>
                <a:off x="6608880" y="5218200"/>
                <a:ext cx="261720" cy="154080"/>
              </a:xfrm>
              <a:custGeom>
                <a:avLst/>
                <a:gdLst/>
                <a:ahLst/>
                <a:rect l="l" t="t" r="r" b="b"/>
                <a:pathLst>
                  <a:path w="1326" h="772">
                    <a:moveTo>
                      <a:pt x="0" y="187"/>
                    </a:moveTo>
                    <a:lnTo>
                      <a:pt x="157" y="0"/>
                    </a:lnTo>
                    <a:lnTo>
                      <a:pt x="1326" y="7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877080" y="5222880"/>
                <a:ext cx="357120" cy="133200"/>
              </a:xfrm>
              <a:custGeom>
                <a:avLst/>
                <a:gdLst/>
                <a:ahLst/>
                <a:rect l="l" t="t" r="r" b="b"/>
                <a:pathLst>
                  <a:path w="1807" h="674">
                    <a:moveTo>
                      <a:pt x="32" y="674"/>
                    </a:moveTo>
                    <a:lnTo>
                      <a:pt x="0" y="580"/>
                    </a:lnTo>
                    <a:lnTo>
                      <a:pt x="1768" y="0"/>
                    </a:lnTo>
                    <a:lnTo>
                      <a:pt x="1807" y="9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772320" y="4919760"/>
                <a:ext cx="393480" cy="156960"/>
              </a:xfrm>
              <a:custGeom>
                <a:avLst/>
                <a:gdLst/>
                <a:ahLst/>
                <a:rect l="l" t="t" r="r" b="b"/>
                <a:pathLst>
                  <a:path w="1984" h="791">
                    <a:moveTo>
                      <a:pt x="1226" y="0"/>
                    </a:moveTo>
                    <a:lnTo>
                      <a:pt x="1077" y="323"/>
                    </a:lnTo>
                    <a:lnTo>
                      <a:pt x="333" y="657"/>
                    </a:lnTo>
                    <a:lnTo>
                      <a:pt x="0" y="701"/>
                    </a:lnTo>
                    <a:lnTo>
                      <a:pt x="522" y="679"/>
                    </a:lnTo>
                    <a:lnTo>
                      <a:pt x="1121" y="398"/>
                    </a:lnTo>
                    <a:lnTo>
                      <a:pt x="1400" y="679"/>
                    </a:lnTo>
                    <a:lnTo>
                      <a:pt x="1795" y="791"/>
                    </a:lnTo>
                    <a:lnTo>
                      <a:pt x="1863" y="774"/>
                    </a:lnTo>
                    <a:lnTo>
                      <a:pt x="1912" y="679"/>
                    </a:lnTo>
                    <a:lnTo>
                      <a:pt x="1984" y="657"/>
                    </a:lnTo>
                    <a:lnTo>
                      <a:pt x="1969" y="492"/>
                    </a:lnTo>
                    <a:lnTo>
                      <a:pt x="1898" y="492"/>
                    </a:lnTo>
                    <a:lnTo>
                      <a:pt x="1806" y="719"/>
                    </a:lnTo>
                    <a:lnTo>
                      <a:pt x="1604" y="701"/>
                    </a:lnTo>
                    <a:lnTo>
                      <a:pt x="1400" y="624"/>
                    </a:lnTo>
                    <a:lnTo>
                      <a:pt x="1121" y="341"/>
                    </a:lnTo>
                    <a:lnTo>
                      <a:pt x="1136" y="267"/>
                    </a:lnTo>
                    <a:lnTo>
                      <a:pt x="1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669000" y="5062680"/>
                <a:ext cx="216000" cy="312480"/>
              </a:xfrm>
              <a:custGeom>
                <a:avLst/>
                <a:gdLst/>
                <a:ahLst/>
                <a:rect l="l" t="t" r="r" b="b"/>
                <a:pathLst>
                  <a:path w="1094" h="1577">
                    <a:moveTo>
                      <a:pt x="436" y="0"/>
                    </a:moveTo>
                    <a:lnTo>
                      <a:pt x="173" y="129"/>
                    </a:lnTo>
                    <a:lnTo>
                      <a:pt x="0" y="581"/>
                    </a:lnTo>
                    <a:lnTo>
                      <a:pt x="17" y="901"/>
                    </a:lnTo>
                    <a:lnTo>
                      <a:pt x="1035" y="1577"/>
                    </a:lnTo>
                    <a:lnTo>
                      <a:pt x="1094" y="1480"/>
                    </a:lnTo>
                    <a:lnTo>
                      <a:pt x="1035" y="1371"/>
                    </a:lnTo>
                    <a:lnTo>
                      <a:pt x="978" y="1238"/>
                    </a:lnTo>
                    <a:lnTo>
                      <a:pt x="950" y="975"/>
                    </a:lnTo>
                    <a:lnTo>
                      <a:pt x="932" y="707"/>
                    </a:lnTo>
                    <a:lnTo>
                      <a:pt x="842" y="562"/>
                    </a:lnTo>
                    <a:lnTo>
                      <a:pt x="768" y="788"/>
                    </a:lnTo>
                    <a:lnTo>
                      <a:pt x="768" y="1074"/>
                    </a:lnTo>
                    <a:lnTo>
                      <a:pt x="890" y="1351"/>
                    </a:lnTo>
                    <a:lnTo>
                      <a:pt x="858" y="1408"/>
                    </a:lnTo>
                    <a:lnTo>
                      <a:pt x="712" y="1296"/>
                    </a:lnTo>
                    <a:lnTo>
                      <a:pt x="657" y="1107"/>
                    </a:lnTo>
                    <a:lnTo>
                      <a:pt x="685" y="881"/>
                    </a:lnTo>
                    <a:lnTo>
                      <a:pt x="582" y="1107"/>
                    </a:lnTo>
                    <a:lnTo>
                      <a:pt x="538" y="975"/>
                    </a:lnTo>
                    <a:lnTo>
                      <a:pt x="567" y="823"/>
                    </a:lnTo>
                    <a:lnTo>
                      <a:pt x="600" y="450"/>
                    </a:lnTo>
                    <a:lnTo>
                      <a:pt x="538" y="244"/>
                    </a:lnTo>
                    <a:lnTo>
                      <a:pt x="436" y="145"/>
                    </a:lnTo>
                    <a:lnTo>
                      <a:pt x="277" y="129"/>
                    </a:lnTo>
                    <a:lnTo>
                      <a:pt x="4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859440" y="5091120"/>
                <a:ext cx="28800" cy="228600"/>
              </a:xfrm>
              <a:custGeom>
                <a:avLst/>
                <a:gdLst/>
                <a:ahLst/>
                <a:rect l="l" t="t" r="r" b="b"/>
                <a:pathLst>
                  <a:path w="145" h="1151">
                    <a:moveTo>
                      <a:pt x="0" y="0"/>
                    </a:moveTo>
                    <a:lnTo>
                      <a:pt x="83" y="285"/>
                    </a:lnTo>
                    <a:lnTo>
                      <a:pt x="115" y="621"/>
                    </a:lnTo>
                    <a:lnTo>
                      <a:pt x="115" y="907"/>
                    </a:lnTo>
                    <a:lnTo>
                      <a:pt x="104" y="1151"/>
                    </a:lnTo>
                    <a:lnTo>
                      <a:pt x="145" y="830"/>
                    </a:lnTo>
                    <a:lnTo>
                      <a:pt x="130" y="494"/>
                    </a:lnTo>
                    <a:lnTo>
                      <a:pt x="83" y="2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169040" y="4946760"/>
                <a:ext cx="225360" cy="115920"/>
              </a:xfrm>
              <a:custGeom>
                <a:avLst/>
                <a:gdLst/>
                <a:ahLst/>
                <a:rect l="l" t="t" r="r" b="b"/>
                <a:pathLst>
                  <a:path w="1136" h="585">
                    <a:moveTo>
                      <a:pt x="0" y="567"/>
                    </a:moveTo>
                    <a:lnTo>
                      <a:pt x="70" y="567"/>
                    </a:lnTo>
                    <a:lnTo>
                      <a:pt x="186" y="453"/>
                    </a:lnTo>
                    <a:lnTo>
                      <a:pt x="272" y="281"/>
                    </a:lnTo>
                    <a:lnTo>
                      <a:pt x="204" y="0"/>
                    </a:lnTo>
                    <a:lnTo>
                      <a:pt x="305" y="264"/>
                    </a:lnTo>
                    <a:lnTo>
                      <a:pt x="698" y="338"/>
                    </a:lnTo>
                    <a:lnTo>
                      <a:pt x="1136" y="505"/>
                    </a:lnTo>
                    <a:lnTo>
                      <a:pt x="857" y="453"/>
                    </a:lnTo>
                    <a:lnTo>
                      <a:pt x="740" y="585"/>
                    </a:lnTo>
                    <a:lnTo>
                      <a:pt x="540" y="453"/>
                    </a:lnTo>
                    <a:lnTo>
                      <a:pt x="272" y="585"/>
                    </a:lnTo>
                    <a:lnTo>
                      <a:pt x="248" y="472"/>
                    </a:lnTo>
                    <a:lnTo>
                      <a:pt x="85" y="585"/>
                    </a:lnTo>
                    <a:lnTo>
                      <a:pt x="0" y="5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240680" y="5046840"/>
                <a:ext cx="349200" cy="376200"/>
              </a:xfrm>
              <a:custGeom>
                <a:avLst/>
                <a:gdLst/>
                <a:ahLst/>
                <a:rect l="l" t="t" r="r" b="b"/>
                <a:pathLst>
                  <a:path w="1754" h="1901">
                    <a:moveTo>
                      <a:pt x="1007" y="0"/>
                    </a:moveTo>
                    <a:lnTo>
                      <a:pt x="1255" y="80"/>
                    </a:lnTo>
                    <a:lnTo>
                      <a:pt x="1475" y="435"/>
                    </a:lnTo>
                    <a:lnTo>
                      <a:pt x="1431" y="697"/>
                    </a:lnTo>
                    <a:lnTo>
                      <a:pt x="1754" y="1094"/>
                    </a:lnTo>
                    <a:lnTo>
                      <a:pt x="1622" y="1037"/>
                    </a:lnTo>
                    <a:lnTo>
                      <a:pt x="1415" y="829"/>
                    </a:lnTo>
                    <a:lnTo>
                      <a:pt x="1312" y="981"/>
                    </a:lnTo>
                    <a:lnTo>
                      <a:pt x="1312" y="1094"/>
                    </a:lnTo>
                    <a:lnTo>
                      <a:pt x="1222" y="1187"/>
                    </a:lnTo>
                    <a:lnTo>
                      <a:pt x="1083" y="1358"/>
                    </a:lnTo>
                    <a:lnTo>
                      <a:pt x="1023" y="1525"/>
                    </a:lnTo>
                    <a:lnTo>
                      <a:pt x="714" y="1881"/>
                    </a:lnTo>
                    <a:lnTo>
                      <a:pt x="585" y="1811"/>
                    </a:lnTo>
                    <a:lnTo>
                      <a:pt x="468" y="1789"/>
                    </a:lnTo>
                    <a:lnTo>
                      <a:pt x="274" y="1789"/>
                    </a:lnTo>
                    <a:lnTo>
                      <a:pt x="103" y="1901"/>
                    </a:lnTo>
                    <a:lnTo>
                      <a:pt x="0" y="1901"/>
                    </a:lnTo>
                    <a:lnTo>
                      <a:pt x="90" y="1864"/>
                    </a:lnTo>
                    <a:lnTo>
                      <a:pt x="274" y="1751"/>
                    </a:lnTo>
                    <a:lnTo>
                      <a:pt x="394" y="1733"/>
                    </a:lnTo>
                    <a:lnTo>
                      <a:pt x="440" y="1413"/>
                    </a:lnTo>
                    <a:lnTo>
                      <a:pt x="541" y="1244"/>
                    </a:lnTo>
                    <a:lnTo>
                      <a:pt x="613" y="1358"/>
                    </a:lnTo>
                    <a:lnTo>
                      <a:pt x="714" y="1244"/>
                    </a:lnTo>
                    <a:lnTo>
                      <a:pt x="714" y="719"/>
                    </a:lnTo>
                    <a:lnTo>
                      <a:pt x="949" y="1389"/>
                    </a:lnTo>
                    <a:lnTo>
                      <a:pt x="1083" y="1264"/>
                    </a:lnTo>
                    <a:lnTo>
                      <a:pt x="820" y="530"/>
                    </a:lnTo>
                    <a:lnTo>
                      <a:pt x="1023" y="756"/>
                    </a:lnTo>
                    <a:lnTo>
                      <a:pt x="1198" y="1055"/>
                    </a:lnTo>
                    <a:lnTo>
                      <a:pt x="1299" y="620"/>
                    </a:lnTo>
                    <a:lnTo>
                      <a:pt x="1299" y="209"/>
                    </a:lnTo>
                    <a:lnTo>
                      <a:pt x="1222" y="99"/>
                    </a:lnTo>
                    <a:lnTo>
                      <a:pt x="10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365960" y="5427720"/>
                <a:ext cx="60480" cy="88920"/>
              </a:xfrm>
              <a:custGeom>
                <a:avLst/>
                <a:gdLst/>
                <a:ahLst/>
                <a:rect l="l" t="t" r="r" b="b"/>
                <a:pathLst>
                  <a:path w="298" h="450">
                    <a:moveTo>
                      <a:pt x="0" y="0"/>
                    </a:moveTo>
                    <a:lnTo>
                      <a:pt x="114" y="8"/>
                    </a:lnTo>
                    <a:lnTo>
                      <a:pt x="275" y="90"/>
                    </a:lnTo>
                    <a:lnTo>
                      <a:pt x="298" y="151"/>
                    </a:lnTo>
                    <a:lnTo>
                      <a:pt x="233" y="259"/>
                    </a:lnTo>
                    <a:lnTo>
                      <a:pt x="194" y="413"/>
                    </a:lnTo>
                    <a:lnTo>
                      <a:pt x="83" y="450"/>
                    </a:lnTo>
                    <a:lnTo>
                      <a:pt x="171" y="393"/>
                    </a:lnTo>
                    <a:lnTo>
                      <a:pt x="210" y="305"/>
                    </a:lnTo>
                    <a:lnTo>
                      <a:pt x="210" y="217"/>
                    </a:lnTo>
                    <a:lnTo>
                      <a:pt x="261" y="129"/>
                    </a:lnTo>
                    <a:lnTo>
                      <a:pt x="210" y="79"/>
                    </a:lnTo>
                    <a:lnTo>
                      <a:pt x="95" y="1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3" name=""/>
              <p:cNvSpPr/>
              <p:nvPr/>
            </p:nvSpPr>
            <p:spPr>
              <a:xfrm>
                <a:off x="7354800" y="5443560"/>
                <a:ext cx="23760" cy="69840"/>
              </a:xfrm>
              <a:custGeom>
                <a:avLst/>
                <a:gdLst/>
                <a:ahLst/>
                <a:rect l="l" t="t" r="r" b="b"/>
                <a:pathLst>
                  <a:path w="122" h="353">
                    <a:moveTo>
                      <a:pt x="122" y="348"/>
                    </a:moveTo>
                    <a:lnTo>
                      <a:pt x="27" y="193"/>
                    </a:lnTo>
                    <a:lnTo>
                      <a:pt x="56" y="48"/>
                    </a:lnTo>
                    <a:lnTo>
                      <a:pt x="104" y="0"/>
                    </a:lnTo>
                    <a:lnTo>
                      <a:pt x="25" y="43"/>
                    </a:lnTo>
                    <a:lnTo>
                      <a:pt x="0" y="219"/>
                    </a:lnTo>
                    <a:lnTo>
                      <a:pt x="104" y="353"/>
                    </a:lnTo>
                    <a:lnTo>
                      <a:pt x="122" y="34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7226280" y="5472000"/>
                <a:ext cx="128520" cy="146160"/>
              </a:xfrm>
              <a:custGeom>
                <a:avLst/>
                <a:gdLst/>
                <a:ahLst/>
                <a:rect l="l" t="t" r="r" b="b"/>
                <a:pathLst>
                  <a:path w="653" h="740">
                    <a:moveTo>
                      <a:pt x="653" y="81"/>
                    </a:moveTo>
                    <a:lnTo>
                      <a:pt x="551" y="81"/>
                    </a:lnTo>
                    <a:lnTo>
                      <a:pt x="413" y="48"/>
                    </a:lnTo>
                    <a:lnTo>
                      <a:pt x="249" y="132"/>
                    </a:lnTo>
                    <a:lnTo>
                      <a:pt x="242" y="281"/>
                    </a:lnTo>
                    <a:lnTo>
                      <a:pt x="207" y="420"/>
                    </a:lnTo>
                    <a:lnTo>
                      <a:pt x="130" y="540"/>
                    </a:lnTo>
                    <a:lnTo>
                      <a:pt x="67" y="558"/>
                    </a:lnTo>
                    <a:lnTo>
                      <a:pt x="67" y="646"/>
                    </a:lnTo>
                    <a:lnTo>
                      <a:pt x="0" y="740"/>
                    </a:lnTo>
                    <a:lnTo>
                      <a:pt x="53" y="618"/>
                    </a:lnTo>
                    <a:lnTo>
                      <a:pt x="0" y="390"/>
                    </a:lnTo>
                    <a:lnTo>
                      <a:pt x="60" y="48"/>
                    </a:lnTo>
                    <a:lnTo>
                      <a:pt x="40" y="415"/>
                    </a:lnTo>
                    <a:lnTo>
                      <a:pt x="60" y="533"/>
                    </a:lnTo>
                    <a:lnTo>
                      <a:pt x="123" y="514"/>
                    </a:lnTo>
                    <a:lnTo>
                      <a:pt x="196" y="404"/>
                    </a:lnTo>
                    <a:lnTo>
                      <a:pt x="231" y="226"/>
                    </a:lnTo>
                    <a:lnTo>
                      <a:pt x="235" y="120"/>
                    </a:lnTo>
                    <a:lnTo>
                      <a:pt x="436" y="0"/>
                    </a:lnTo>
                    <a:lnTo>
                      <a:pt x="572" y="76"/>
                    </a:lnTo>
                    <a:lnTo>
                      <a:pt x="653"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240680" y="5423040"/>
                <a:ext cx="48960" cy="45720"/>
              </a:xfrm>
              <a:custGeom>
                <a:avLst/>
                <a:gdLst/>
                <a:ahLst/>
                <a:rect l="l" t="t" r="r" b="b"/>
                <a:pathLst>
                  <a:path w="249" h="228">
                    <a:moveTo>
                      <a:pt x="0" y="228"/>
                    </a:moveTo>
                    <a:lnTo>
                      <a:pt x="78" y="138"/>
                    </a:lnTo>
                    <a:lnTo>
                      <a:pt x="249" y="0"/>
                    </a:lnTo>
                    <a:lnTo>
                      <a:pt x="42" y="129"/>
                    </a:lnTo>
                    <a:lnTo>
                      <a:pt x="0" y="205"/>
                    </a:lnTo>
                    <a:lnTo>
                      <a:pt x="0" y="22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76" name=""/>
              <p:cNvSpPr/>
              <p:nvPr/>
            </p:nvSpPr>
            <p:spPr>
              <a:xfrm>
                <a:off x="7156440" y="5423040"/>
                <a:ext cx="87480" cy="191880"/>
              </a:xfrm>
              <a:custGeom>
                <a:avLst/>
                <a:gdLst/>
                <a:ahLst/>
                <a:rect l="l" t="t" r="r" b="b"/>
                <a:pathLst>
                  <a:path w="440" h="969">
                    <a:moveTo>
                      <a:pt x="440" y="0"/>
                    </a:moveTo>
                    <a:lnTo>
                      <a:pt x="320" y="138"/>
                    </a:lnTo>
                    <a:lnTo>
                      <a:pt x="181" y="389"/>
                    </a:lnTo>
                    <a:lnTo>
                      <a:pt x="187" y="468"/>
                    </a:lnTo>
                    <a:lnTo>
                      <a:pt x="288" y="934"/>
                    </a:lnTo>
                    <a:lnTo>
                      <a:pt x="334" y="969"/>
                    </a:lnTo>
                    <a:lnTo>
                      <a:pt x="276" y="945"/>
                    </a:lnTo>
                    <a:lnTo>
                      <a:pt x="269" y="914"/>
                    </a:lnTo>
                    <a:lnTo>
                      <a:pt x="229" y="941"/>
                    </a:lnTo>
                    <a:lnTo>
                      <a:pt x="147" y="894"/>
                    </a:lnTo>
                    <a:lnTo>
                      <a:pt x="103" y="791"/>
                    </a:lnTo>
                    <a:lnTo>
                      <a:pt x="161" y="888"/>
                    </a:lnTo>
                    <a:lnTo>
                      <a:pt x="229" y="914"/>
                    </a:lnTo>
                    <a:lnTo>
                      <a:pt x="255" y="894"/>
                    </a:lnTo>
                    <a:lnTo>
                      <a:pt x="147" y="422"/>
                    </a:lnTo>
                    <a:lnTo>
                      <a:pt x="147" y="362"/>
                    </a:lnTo>
                    <a:lnTo>
                      <a:pt x="352" y="62"/>
                    </a:lnTo>
                    <a:lnTo>
                      <a:pt x="246" y="116"/>
                    </a:lnTo>
                    <a:lnTo>
                      <a:pt x="163" y="228"/>
                    </a:lnTo>
                    <a:lnTo>
                      <a:pt x="172" y="185"/>
                    </a:lnTo>
                    <a:lnTo>
                      <a:pt x="0" y="228"/>
                    </a:lnTo>
                    <a:lnTo>
                      <a:pt x="207" y="127"/>
                    </a:lnTo>
                    <a:lnTo>
                      <a:pt x="255" y="83"/>
                    </a:lnTo>
                    <a:lnTo>
                      <a:pt x="419" y="9"/>
                    </a:lnTo>
                    <a:lnTo>
                      <a:pt x="4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132680" y="5472000"/>
                <a:ext cx="50760" cy="108000"/>
              </a:xfrm>
              <a:custGeom>
                <a:avLst/>
                <a:gdLst/>
                <a:ahLst/>
                <a:rect l="l" t="t" r="r" b="b"/>
                <a:pathLst>
                  <a:path w="253" h="542">
                    <a:moveTo>
                      <a:pt x="253" y="17"/>
                    </a:moveTo>
                    <a:lnTo>
                      <a:pt x="171" y="118"/>
                    </a:lnTo>
                    <a:lnTo>
                      <a:pt x="145" y="186"/>
                    </a:lnTo>
                    <a:lnTo>
                      <a:pt x="150" y="289"/>
                    </a:lnTo>
                    <a:lnTo>
                      <a:pt x="217" y="542"/>
                    </a:lnTo>
                    <a:lnTo>
                      <a:pt x="104" y="404"/>
                    </a:lnTo>
                    <a:lnTo>
                      <a:pt x="12" y="334"/>
                    </a:lnTo>
                    <a:lnTo>
                      <a:pt x="0" y="240"/>
                    </a:lnTo>
                    <a:lnTo>
                      <a:pt x="0" y="69"/>
                    </a:lnTo>
                    <a:lnTo>
                      <a:pt x="81" y="0"/>
                    </a:lnTo>
                    <a:lnTo>
                      <a:pt x="12" y="74"/>
                    </a:lnTo>
                    <a:lnTo>
                      <a:pt x="12" y="219"/>
                    </a:lnTo>
                    <a:lnTo>
                      <a:pt x="46" y="296"/>
                    </a:lnTo>
                    <a:lnTo>
                      <a:pt x="145" y="362"/>
                    </a:lnTo>
                    <a:lnTo>
                      <a:pt x="127" y="208"/>
                    </a:lnTo>
                    <a:lnTo>
                      <a:pt x="159" y="109"/>
                    </a:lnTo>
                    <a:lnTo>
                      <a:pt x="25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385040" y="5381640"/>
                <a:ext cx="257040" cy="122400"/>
              </a:xfrm>
              <a:custGeom>
                <a:avLst/>
                <a:gdLst/>
                <a:ahLst/>
                <a:rect l="l" t="t" r="r" b="b"/>
                <a:pathLst>
                  <a:path w="1296" h="618">
                    <a:moveTo>
                      <a:pt x="493" y="618"/>
                    </a:moveTo>
                    <a:lnTo>
                      <a:pt x="311" y="332"/>
                    </a:lnTo>
                    <a:lnTo>
                      <a:pt x="340" y="311"/>
                    </a:lnTo>
                    <a:lnTo>
                      <a:pt x="924" y="572"/>
                    </a:lnTo>
                    <a:lnTo>
                      <a:pt x="940" y="511"/>
                    </a:lnTo>
                    <a:lnTo>
                      <a:pt x="581" y="286"/>
                    </a:lnTo>
                    <a:lnTo>
                      <a:pt x="0" y="177"/>
                    </a:lnTo>
                    <a:lnTo>
                      <a:pt x="617" y="247"/>
                    </a:lnTo>
                    <a:lnTo>
                      <a:pt x="786" y="352"/>
                    </a:lnTo>
                    <a:lnTo>
                      <a:pt x="995" y="177"/>
                    </a:lnTo>
                    <a:lnTo>
                      <a:pt x="1144" y="115"/>
                    </a:lnTo>
                    <a:lnTo>
                      <a:pt x="1212" y="0"/>
                    </a:lnTo>
                    <a:lnTo>
                      <a:pt x="1296" y="618"/>
                    </a:lnTo>
                    <a:lnTo>
                      <a:pt x="1212" y="399"/>
                    </a:lnTo>
                    <a:lnTo>
                      <a:pt x="995" y="618"/>
                    </a:lnTo>
                    <a:lnTo>
                      <a:pt x="493" y="6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531200" y="5084640"/>
                <a:ext cx="91800" cy="304920"/>
              </a:xfrm>
              <a:custGeom>
                <a:avLst/>
                <a:gdLst/>
                <a:ahLst/>
                <a:rect l="l" t="t" r="r" b="b"/>
                <a:pathLst>
                  <a:path w="463" h="1540">
                    <a:moveTo>
                      <a:pt x="463" y="1494"/>
                    </a:moveTo>
                    <a:lnTo>
                      <a:pt x="193" y="1540"/>
                    </a:lnTo>
                    <a:lnTo>
                      <a:pt x="0" y="1427"/>
                    </a:lnTo>
                    <a:lnTo>
                      <a:pt x="174" y="1427"/>
                    </a:lnTo>
                    <a:lnTo>
                      <a:pt x="431" y="1258"/>
                    </a:lnTo>
                    <a:lnTo>
                      <a:pt x="313" y="1117"/>
                    </a:lnTo>
                    <a:lnTo>
                      <a:pt x="431" y="1185"/>
                    </a:lnTo>
                    <a:lnTo>
                      <a:pt x="431" y="860"/>
                    </a:lnTo>
                    <a:lnTo>
                      <a:pt x="413" y="357"/>
                    </a:lnTo>
                    <a:lnTo>
                      <a:pt x="361" y="0"/>
                    </a:lnTo>
                    <a:lnTo>
                      <a:pt x="431" y="308"/>
                    </a:lnTo>
                    <a:lnTo>
                      <a:pt x="463" y="1233"/>
                    </a:lnTo>
                    <a:lnTo>
                      <a:pt x="463" y="14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45240" y="5011560"/>
                <a:ext cx="38160" cy="158760"/>
              </a:xfrm>
              <a:custGeom>
                <a:avLst/>
                <a:gdLst/>
                <a:ahLst/>
                <a:rect l="l" t="t" r="r" b="b"/>
                <a:pathLst>
                  <a:path w="189" h="805">
                    <a:moveTo>
                      <a:pt x="0" y="636"/>
                    </a:moveTo>
                    <a:lnTo>
                      <a:pt x="171" y="805"/>
                    </a:lnTo>
                    <a:lnTo>
                      <a:pt x="65" y="636"/>
                    </a:lnTo>
                    <a:lnTo>
                      <a:pt x="65" y="348"/>
                    </a:lnTo>
                    <a:lnTo>
                      <a:pt x="151" y="411"/>
                    </a:lnTo>
                    <a:lnTo>
                      <a:pt x="99" y="240"/>
                    </a:lnTo>
                    <a:lnTo>
                      <a:pt x="189" y="0"/>
                    </a:lnTo>
                    <a:lnTo>
                      <a:pt x="53" y="216"/>
                    </a:lnTo>
                    <a:lnTo>
                      <a:pt x="53" y="279"/>
                    </a:lnTo>
                    <a:lnTo>
                      <a:pt x="17" y="348"/>
                    </a:lnTo>
                    <a:lnTo>
                      <a:pt x="17" y="611"/>
                    </a:lnTo>
                    <a:lnTo>
                      <a:pt x="0" y="6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718400" y="5106960"/>
                <a:ext cx="93600" cy="397080"/>
              </a:xfrm>
              <a:custGeom>
                <a:avLst/>
                <a:gdLst/>
                <a:ahLst/>
                <a:rect l="l" t="t" r="r" b="b"/>
                <a:pathLst>
                  <a:path w="475" h="2002">
                    <a:moveTo>
                      <a:pt x="475" y="2002"/>
                    </a:moveTo>
                    <a:lnTo>
                      <a:pt x="81" y="572"/>
                    </a:lnTo>
                    <a:lnTo>
                      <a:pt x="0" y="0"/>
                    </a:lnTo>
                    <a:lnTo>
                      <a:pt x="48" y="552"/>
                    </a:lnTo>
                    <a:lnTo>
                      <a:pt x="408" y="2002"/>
                    </a:lnTo>
                    <a:lnTo>
                      <a:pt x="475" y="20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839000" y="5581800"/>
                <a:ext cx="33480" cy="266400"/>
              </a:xfrm>
              <a:custGeom>
                <a:avLst/>
                <a:gdLst/>
                <a:ahLst/>
                <a:rect l="l" t="t" r="r" b="b"/>
                <a:pathLst>
                  <a:path w="171" h="1340">
                    <a:moveTo>
                      <a:pt x="18" y="42"/>
                    </a:moveTo>
                    <a:lnTo>
                      <a:pt x="171" y="528"/>
                    </a:lnTo>
                    <a:lnTo>
                      <a:pt x="171" y="725"/>
                    </a:lnTo>
                    <a:lnTo>
                      <a:pt x="0" y="1340"/>
                    </a:lnTo>
                    <a:lnTo>
                      <a:pt x="0" y="0"/>
                    </a:lnTo>
                    <a:lnTo>
                      <a:pt x="1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845480" y="4919760"/>
                <a:ext cx="112680" cy="563400"/>
              </a:xfrm>
              <a:custGeom>
                <a:avLst/>
                <a:gdLst/>
                <a:ahLst/>
                <a:rect l="l" t="t" r="r" b="b"/>
                <a:pathLst>
                  <a:path w="562" h="2840">
                    <a:moveTo>
                      <a:pt x="0" y="0"/>
                    </a:moveTo>
                    <a:lnTo>
                      <a:pt x="0" y="330"/>
                    </a:lnTo>
                    <a:lnTo>
                      <a:pt x="103" y="904"/>
                    </a:lnTo>
                    <a:lnTo>
                      <a:pt x="103" y="1451"/>
                    </a:lnTo>
                    <a:lnTo>
                      <a:pt x="73" y="1741"/>
                    </a:lnTo>
                    <a:lnTo>
                      <a:pt x="136" y="2154"/>
                    </a:lnTo>
                    <a:lnTo>
                      <a:pt x="136" y="2796"/>
                    </a:lnTo>
                    <a:lnTo>
                      <a:pt x="189" y="2576"/>
                    </a:lnTo>
                    <a:lnTo>
                      <a:pt x="562" y="2840"/>
                    </a:lnTo>
                    <a:lnTo>
                      <a:pt x="189" y="2329"/>
                    </a:lnTo>
                    <a:lnTo>
                      <a:pt x="119" y="1849"/>
                    </a:lnTo>
                    <a:lnTo>
                      <a:pt x="136" y="1385"/>
                    </a:lnTo>
                    <a:lnTo>
                      <a:pt x="119" y="835"/>
                    </a:lnTo>
                    <a:lnTo>
                      <a:pt x="20" y="3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799400" y="5473800"/>
                <a:ext cx="236520" cy="466560"/>
              </a:xfrm>
              <a:custGeom>
                <a:avLst/>
                <a:gdLst/>
                <a:ahLst/>
                <a:rect l="l" t="t" r="r" b="b"/>
                <a:pathLst>
                  <a:path w="1192" h="2349">
                    <a:moveTo>
                      <a:pt x="374" y="130"/>
                    </a:moveTo>
                    <a:lnTo>
                      <a:pt x="357" y="1075"/>
                    </a:lnTo>
                    <a:lnTo>
                      <a:pt x="203" y="1931"/>
                    </a:lnTo>
                    <a:lnTo>
                      <a:pt x="0" y="1931"/>
                    </a:lnTo>
                    <a:lnTo>
                      <a:pt x="311" y="1975"/>
                    </a:lnTo>
                    <a:lnTo>
                      <a:pt x="853" y="2173"/>
                    </a:lnTo>
                    <a:lnTo>
                      <a:pt x="1192" y="2349"/>
                    </a:lnTo>
                    <a:lnTo>
                      <a:pt x="1143" y="2020"/>
                    </a:lnTo>
                    <a:lnTo>
                      <a:pt x="1007" y="1778"/>
                    </a:lnTo>
                    <a:lnTo>
                      <a:pt x="987" y="1494"/>
                    </a:lnTo>
                    <a:lnTo>
                      <a:pt x="682" y="1165"/>
                    </a:lnTo>
                    <a:lnTo>
                      <a:pt x="1040" y="1101"/>
                    </a:lnTo>
                    <a:lnTo>
                      <a:pt x="698" y="874"/>
                    </a:lnTo>
                    <a:lnTo>
                      <a:pt x="546" y="679"/>
                    </a:lnTo>
                    <a:lnTo>
                      <a:pt x="579" y="566"/>
                    </a:lnTo>
                    <a:lnTo>
                      <a:pt x="1007" y="787"/>
                    </a:lnTo>
                    <a:lnTo>
                      <a:pt x="800" y="547"/>
                    </a:lnTo>
                    <a:lnTo>
                      <a:pt x="460" y="215"/>
                    </a:lnTo>
                    <a:lnTo>
                      <a:pt x="374" y="0"/>
                    </a:lnTo>
                    <a:lnTo>
                      <a:pt x="374"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035920" y="5861160"/>
                <a:ext cx="125280" cy="183960"/>
              </a:xfrm>
              <a:custGeom>
                <a:avLst/>
                <a:gdLst/>
                <a:ahLst/>
                <a:rect l="l" t="t" r="r" b="b"/>
                <a:pathLst>
                  <a:path w="633" h="925">
                    <a:moveTo>
                      <a:pt x="613" y="925"/>
                    </a:moveTo>
                    <a:lnTo>
                      <a:pt x="292" y="681"/>
                    </a:lnTo>
                    <a:lnTo>
                      <a:pt x="205" y="526"/>
                    </a:lnTo>
                    <a:lnTo>
                      <a:pt x="327" y="113"/>
                    </a:lnTo>
                    <a:lnTo>
                      <a:pt x="633" y="176"/>
                    </a:lnTo>
                    <a:lnTo>
                      <a:pt x="219" y="0"/>
                    </a:lnTo>
                    <a:lnTo>
                      <a:pt x="0" y="376"/>
                    </a:lnTo>
                    <a:lnTo>
                      <a:pt x="274" y="724"/>
                    </a:lnTo>
                    <a:lnTo>
                      <a:pt x="613" y="9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724880" y="5041800"/>
                <a:ext cx="55440" cy="33480"/>
              </a:xfrm>
              <a:custGeom>
                <a:avLst/>
                <a:gdLst/>
                <a:ahLst/>
                <a:rect l="l" t="t" r="r" b="b"/>
                <a:pathLst>
                  <a:path w="277" h="162">
                    <a:moveTo>
                      <a:pt x="242" y="162"/>
                    </a:moveTo>
                    <a:lnTo>
                      <a:pt x="277" y="138"/>
                    </a:lnTo>
                    <a:lnTo>
                      <a:pt x="0" y="0"/>
                    </a:lnTo>
                    <a:lnTo>
                      <a:pt x="242" y="1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87" name=""/>
              <p:cNvSpPr/>
              <p:nvPr/>
            </p:nvSpPr>
            <p:spPr>
              <a:xfrm>
                <a:off x="7602480" y="4916520"/>
                <a:ext cx="236520" cy="96840"/>
              </a:xfrm>
              <a:custGeom>
                <a:avLst/>
                <a:gdLst/>
                <a:ahLst/>
                <a:rect l="l" t="t" r="r" b="b"/>
                <a:pathLst>
                  <a:path w="1195" h="484">
                    <a:moveTo>
                      <a:pt x="0" y="484"/>
                    </a:moveTo>
                    <a:lnTo>
                      <a:pt x="173" y="348"/>
                    </a:lnTo>
                    <a:lnTo>
                      <a:pt x="386" y="247"/>
                    </a:lnTo>
                    <a:lnTo>
                      <a:pt x="812" y="175"/>
                    </a:lnTo>
                    <a:lnTo>
                      <a:pt x="1195" y="0"/>
                    </a:lnTo>
                    <a:lnTo>
                      <a:pt x="826" y="187"/>
                    </a:lnTo>
                    <a:lnTo>
                      <a:pt x="674" y="223"/>
                    </a:lnTo>
                    <a:lnTo>
                      <a:pt x="386" y="288"/>
                    </a:lnTo>
                    <a:lnTo>
                      <a:pt x="164" y="383"/>
                    </a:lnTo>
                    <a:lnTo>
                      <a:pt x="0"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8086680" y="4884840"/>
                <a:ext cx="252360" cy="74520"/>
              </a:xfrm>
              <a:custGeom>
                <a:avLst/>
                <a:gdLst/>
                <a:ahLst/>
                <a:rect l="l" t="t" r="r" b="b"/>
                <a:pathLst>
                  <a:path w="1275" h="369">
                    <a:moveTo>
                      <a:pt x="13" y="0"/>
                    </a:moveTo>
                    <a:lnTo>
                      <a:pt x="413" y="197"/>
                    </a:lnTo>
                    <a:lnTo>
                      <a:pt x="802" y="283"/>
                    </a:lnTo>
                    <a:lnTo>
                      <a:pt x="1086" y="318"/>
                    </a:lnTo>
                    <a:lnTo>
                      <a:pt x="1275" y="369"/>
                    </a:lnTo>
                    <a:lnTo>
                      <a:pt x="1081" y="334"/>
                    </a:lnTo>
                    <a:lnTo>
                      <a:pt x="740" y="293"/>
                    </a:lnTo>
                    <a:lnTo>
                      <a:pt x="384" y="208"/>
                    </a:lnTo>
                    <a:lnTo>
                      <a:pt x="0" y="21"/>
                    </a:lnTo>
                    <a:lnTo>
                      <a:pt x="1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9" name=""/>
              <p:cNvSpPr/>
              <p:nvPr/>
            </p:nvSpPr>
            <p:spPr>
              <a:xfrm>
                <a:off x="8147160" y="4995720"/>
                <a:ext cx="39600" cy="36720"/>
              </a:xfrm>
              <a:custGeom>
                <a:avLst/>
                <a:gdLst/>
                <a:ahLst/>
                <a:rect l="l" t="t" r="r" b="b"/>
                <a:pathLst>
                  <a:path w="203" h="187">
                    <a:moveTo>
                      <a:pt x="203" y="0"/>
                    </a:moveTo>
                    <a:lnTo>
                      <a:pt x="0" y="176"/>
                    </a:lnTo>
                    <a:lnTo>
                      <a:pt x="49" y="187"/>
                    </a:lnTo>
                    <a:lnTo>
                      <a:pt x="20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0" name=""/>
              <p:cNvSpPr/>
              <p:nvPr/>
            </p:nvSpPr>
            <p:spPr>
              <a:xfrm>
                <a:off x="7872480" y="4923000"/>
                <a:ext cx="201600" cy="401400"/>
              </a:xfrm>
              <a:custGeom>
                <a:avLst/>
                <a:gdLst/>
                <a:ahLst/>
                <a:rect l="l" t="t" r="r" b="b"/>
                <a:pathLst>
                  <a:path w="1015" h="2024">
                    <a:moveTo>
                      <a:pt x="441" y="499"/>
                    </a:moveTo>
                    <a:lnTo>
                      <a:pt x="335" y="533"/>
                    </a:lnTo>
                    <a:lnTo>
                      <a:pt x="263" y="607"/>
                    </a:lnTo>
                    <a:lnTo>
                      <a:pt x="182" y="720"/>
                    </a:lnTo>
                    <a:lnTo>
                      <a:pt x="145" y="870"/>
                    </a:lnTo>
                    <a:lnTo>
                      <a:pt x="37" y="1193"/>
                    </a:lnTo>
                    <a:lnTo>
                      <a:pt x="0" y="1130"/>
                    </a:lnTo>
                    <a:lnTo>
                      <a:pt x="88" y="1365"/>
                    </a:lnTo>
                    <a:lnTo>
                      <a:pt x="204" y="1591"/>
                    </a:lnTo>
                    <a:lnTo>
                      <a:pt x="356" y="1780"/>
                    </a:lnTo>
                    <a:lnTo>
                      <a:pt x="483" y="1971"/>
                    </a:lnTo>
                    <a:lnTo>
                      <a:pt x="514" y="2024"/>
                    </a:lnTo>
                    <a:lnTo>
                      <a:pt x="406" y="1813"/>
                    </a:lnTo>
                    <a:lnTo>
                      <a:pt x="279" y="1639"/>
                    </a:lnTo>
                    <a:lnTo>
                      <a:pt x="204" y="1516"/>
                    </a:lnTo>
                    <a:lnTo>
                      <a:pt x="59" y="1206"/>
                    </a:lnTo>
                    <a:lnTo>
                      <a:pt x="211" y="729"/>
                    </a:lnTo>
                    <a:lnTo>
                      <a:pt x="250" y="692"/>
                    </a:lnTo>
                    <a:lnTo>
                      <a:pt x="376" y="833"/>
                    </a:lnTo>
                    <a:lnTo>
                      <a:pt x="307" y="1105"/>
                    </a:lnTo>
                    <a:lnTo>
                      <a:pt x="307" y="1554"/>
                    </a:lnTo>
                    <a:lnTo>
                      <a:pt x="330" y="1118"/>
                    </a:lnTo>
                    <a:lnTo>
                      <a:pt x="415" y="859"/>
                    </a:lnTo>
                    <a:lnTo>
                      <a:pt x="487" y="1105"/>
                    </a:lnTo>
                    <a:lnTo>
                      <a:pt x="558" y="1079"/>
                    </a:lnTo>
                    <a:lnTo>
                      <a:pt x="514" y="833"/>
                    </a:lnTo>
                    <a:lnTo>
                      <a:pt x="672" y="1105"/>
                    </a:lnTo>
                    <a:lnTo>
                      <a:pt x="734" y="1354"/>
                    </a:lnTo>
                    <a:lnTo>
                      <a:pt x="549" y="1971"/>
                    </a:lnTo>
                    <a:lnTo>
                      <a:pt x="780" y="1365"/>
                    </a:lnTo>
                    <a:lnTo>
                      <a:pt x="897" y="859"/>
                    </a:lnTo>
                    <a:lnTo>
                      <a:pt x="1015" y="0"/>
                    </a:lnTo>
                    <a:lnTo>
                      <a:pt x="877" y="756"/>
                    </a:lnTo>
                    <a:lnTo>
                      <a:pt x="828" y="892"/>
                    </a:lnTo>
                    <a:lnTo>
                      <a:pt x="771" y="778"/>
                    </a:lnTo>
                    <a:lnTo>
                      <a:pt x="734" y="595"/>
                    </a:lnTo>
                    <a:lnTo>
                      <a:pt x="655" y="547"/>
                    </a:lnTo>
                    <a:lnTo>
                      <a:pt x="521" y="510"/>
                    </a:lnTo>
                    <a:lnTo>
                      <a:pt x="639" y="595"/>
                    </a:lnTo>
                    <a:lnTo>
                      <a:pt x="626" y="720"/>
                    </a:lnTo>
                    <a:lnTo>
                      <a:pt x="600" y="819"/>
                    </a:lnTo>
                    <a:lnTo>
                      <a:pt x="692" y="607"/>
                    </a:lnTo>
                    <a:lnTo>
                      <a:pt x="720" y="657"/>
                    </a:lnTo>
                    <a:lnTo>
                      <a:pt x="762" y="819"/>
                    </a:lnTo>
                    <a:lnTo>
                      <a:pt x="828" y="945"/>
                    </a:lnTo>
                    <a:lnTo>
                      <a:pt x="762" y="1226"/>
                    </a:lnTo>
                    <a:lnTo>
                      <a:pt x="685" y="1031"/>
                    </a:lnTo>
                    <a:lnTo>
                      <a:pt x="514" y="793"/>
                    </a:lnTo>
                    <a:lnTo>
                      <a:pt x="464" y="793"/>
                    </a:lnTo>
                    <a:lnTo>
                      <a:pt x="424" y="807"/>
                    </a:lnTo>
                    <a:lnTo>
                      <a:pt x="384" y="720"/>
                    </a:lnTo>
                    <a:lnTo>
                      <a:pt x="406" y="692"/>
                    </a:lnTo>
                    <a:lnTo>
                      <a:pt x="483" y="756"/>
                    </a:lnTo>
                    <a:lnTo>
                      <a:pt x="356" y="558"/>
                    </a:lnTo>
                    <a:lnTo>
                      <a:pt x="44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8048520" y="5016600"/>
                <a:ext cx="125640" cy="915840"/>
              </a:xfrm>
              <a:custGeom>
                <a:avLst/>
                <a:gdLst/>
                <a:ahLst/>
                <a:rect l="l" t="t" r="r" b="b"/>
                <a:pathLst>
                  <a:path w="632" h="4620">
                    <a:moveTo>
                      <a:pt x="56" y="0"/>
                    </a:moveTo>
                    <a:lnTo>
                      <a:pt x="28" y="487"/>
                    </a:lnTo>
                    <a:lnTo>
                      <a:pt x="28" y="901"/>
                    </a:lnTo>
                    <a:lnTo>
                      <a:pt x="94" y="2683"/>
                    </a:lnTo>
                    <a:lnTo>
                      <a:pt x="155" y="3133"/>
                    </a:lnTo>
                    <a:lnTo>
                      <a:pt x="240" y="2577"/>
                    </a:lnTo>
                    <a:lnTo>
                      <a:pt x="512" y="1660"/>
                    </a:lnTo>
                    <a:lnTo>
                      <a:pt x="431" y="2063"/>
                    </a:lnTo>
                    <a:lnTo>
                      <a:pt x="296" y="2806"/>
                    </a:lnTo>
                    <a:lnTo>
                      <a:pt x="272" y="3340"/>
                    </a:lnTo>
                    <a:lnTo>
                      <a:pt x="312" y="3684"/>
                    </a:lnTo>
                    <a:lnTo>
                      <a:pt x="632" y="4620"/>
                    </a:lnTo>
                    <a:lnTo>
                      <a:pt x="240" y="3705"/>
                    </a:lnTo>
                    <a:lnTo>
                      <a:pt x="83" y="3045"/>
                    </a:lnTo>
                    <a:lnTo>
                      <a:pt x="46" y="2421"/>
                    </a:lnTo>
                    <a:lnTo>
                      <a:pt x="0" y="45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966080" y="5388120"/>
                <a:ext cx="27000" cy="27000"/>
              </a:xfrm>
              <a:custGeom>
                <a:avLst/>
                <a:gdLst/>
                <a:ahLst/>
                <a:rect l="l" t="t" r="r" b="b"/>
                <a:pathLst>
                  <a:path w="137" h="136">
                    <a:moveTo>
                      <a:pt x="137" y="67"/>
                    </a:moveTo>
                    <a:lnTo>
                      <a:pt x="134" y="46"/>
                    </a:lnTo>
                    <a:lnTo>
                      <a:pt x="125" y="23"/>
                    </a:lnTo>
                    <a:lnTo>
                      <a:pt x="112" y="11"/>
                    </a:lnTo>
                    <a:lnTo>
                      <a:pt x="95" y="2"/>
                    </a:lnTo>
                    <a:lnTo>
                      <a:pt x="70" y="0"/>
                    </a:lnTo>
                    <a:lnTo>
                      <a:pt x="49" y="0"/>
                    </a:lnTo>
                    <a:lnTo>
                      <a:pt x="31" y="11"/>
                    </a:lnTo>
                    <a:lnTo>
                      <a:pt x="15" y="23"/>
                    </a:lnTo>
                    <a:lnTo>
                      <a:pt x="3" y="41"/>
                    </a:lnTo>
                    <a:lnTo>
                      <a:pt x="0" y="67"/>
                    </a:lnTo>
                    <a:lnTo>
                      <a:pt x="3" y="85"/>
                    </a:lnTo>
                    <a:lnTo>
                      <a:pt x="13" y="106"/>
                    </a:lnTo>
                    <a:lnTo>
                      <a:pt x="26" y="120"/>
                    </a:lnTo>
                    <a:lnTo>
                      <a:pt x="44" y="131"/>
                    </a:lnTo>
                    <a:lnTo>
                      <a:pt x="66" y="136"/>
                    </a:lnTo>
                    <a:lnTo>
                      <a:pt x="88" y="134"/>
                    </a:lnTo>
                    <a:lnTo>
                      <a:pt x="112" y="125"/>
                    </a:lnTo>
                    <a:lnTo>
                      <a:pt x="123" y="109"/>
                    </a:lnTo>
                    <a:lnTo>
                      <a:pt x="134" y="92"/>
                    </a:lnTo>
                    <a:lnTo>
                      <a:pt x="137" y="70"/>
                    </a:lnTo>
                    <a:lnTo>
                      <a:pt x="137" y="67"/>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3" name=""/>
              <p:cNvSpPr/>
              <p:nvPr/>
            </p:nvSpPr>
            <p:spPr>
              <a:xfrm>
                <a:off x="7983360" y="5486400"/>
                <a:ext cx="28800" cy="27000"/>
              </a:xfrm>
              <a:custGeom>
                <a:avLst/>
                <a:gdLst/>
                <a:ahLst/>
                <a:rect l="l" t="t" r="r" b="b"/>
                <a:pathLst>
                  <a:path w="138" h="138">
                    <a:moveTo>
                      <a:pt x="138" y="69"/>
                    </a:moveTo>
                    <a:lnTo>
                      <a:pt x="129" y="48"/>
                    </a:lnTo>
                    <a:lnTo>
                      <a:pt x="120" y="27"/>
                    </a:lnTo>
                    <a:lnTo>
                      <a:pt x="107" y="9"/>
                    </a:lnTo>
                    <a:lnTo>
                      <a:pt x="90" y="4"/>
                    </a:lnTo>
                    <a:lnTo>
                      <a:pt x="65" y="0"/>
                    </a:lnTo>
                    <a:lnTo>
                      <a:pt x="44" y="4"/>
                    </a:lnTo>
                    <a:lnTo>
                      <a:pt x="28" y="9"/>
                    </a:lnTo>
                    <a:lnTo>
                      <a:pt x="12" y="27"/>
                    </a:lnTo>
                    <a:lnTo>
                      <a:pt x="4" y="44"/>
                    </a:lnTo>
                    <a:lnTo>
                      <a:pt x="0" y="69"/>
                    </a:lnTo>
                    <a:lnTo>
                      <a:pt x="0" y="90"/>
                    </a:lnTo>
                    <a:lnTo>
                      <a:pt x="8" y="108"/>
                    </a:lnTo>
                    <a:lnTo>
                      <a:pt x="26" y="124"/>
                    </a:lnTo>
                    <a:lnTo>
                      <a:pt x="39" y="134"/>
                    </a:lnTo>
                    <a:lnTo>
                      <a:pt x="65" y="138"/>
                    </a:lnTo>
                    <a:lnTo>
                      <a:pt x="85" y="138"/>
                    </a:lnTo>
                    <a:lnTo>
                      <a:pt x="107" y="126"/>
                    </a:lnTo>
                    <a:lnTo>
                      <a:pt x="120" y="110"/>
                    </a:lnTo>
                    <a:lnTo>
                      <a:pt x="129" y="94"/>
                    </a:lnTo>
                    <a:lnTo>
                      <a:pt x="138" y="73"/>
                    </a:lnTo>
                    <a:lnTo>
                      <a:pt x="138" y="69"/>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4" name=""/>
              <p:cNvSpPr/>
              <p:nvPr/>
            </p:nvSpPr>
            <p:spPr>
              <a:xfrm>
                <a:off x="8002440" y="5578560"/>
                <a:ext cx="27000" cy="27000"/>
              </a:xfrm>
              <a:custGeom>
                <a:avLst/>
                <a:gdLst/>
                <a:ahLst/>
                <a:rect l="l" t="t" r="r" b="b"/>
                <a:pathLst>
                  <a:path w="136" h="136">
                    <a:moveTo>
                      <a:pt x="136" y="67"/>
                    </a:moveTo>
                    <a:lnTo>
                      <a:pt x="134" y="44"/>
                    </a:lnTo>
                    <a:lnTo>
                      <a:pt x="123" y="25"/>
                    </a:lnTo>
                    <a:lnTo>
                      <a:pt x="109" y="14"/>
                    </a:lnTo>
                    <a:lnTo>
                      <a:pt x="88" y="0"/>
                    </a:lnTo>
                    <a:lnTo>
                      <a:pt x="70" y="0"/>
                    </a:lnTo>
                    <a:lnTo>
                      <a:pt x="46" y="0"/>
                    </a:lnTo>
                    <a:lnTo>
                      <a:pt x="28" y="9"/>
                    </a:lnTo>
                    <a:lnTo>
                      <a:pt x="15" y="25"/>
                    </a:lnTo>
                    <a:lnTo>
                      <a:pt x="2" y="42"/>
                    </a:lnTo>
                    <a:lnTo>
                      <a:pt x="0" y="64"/>
                    </a:lnTo>
                    <a:lnTo>
                      <a:pt x="0" y="86"/>
                    </a:lnTo>
                    <a:lnTo>
                      <a:pt x="10" y="104"/>
                    </a:lnTo>
                    <a:lnTo>
                      <a:pt x="28" y="122"/>
                    </a:lnTo>
                    <a:lnTo>
                      <a:pt x="46" y="130"/>
                    </a:lnTo>
                    <a:lnTo>
                      <a:pt x="63" y="136"/>
                    </a:lnTo>
                    <a:lnTo>
                      <a:pt x="86" y="134"/>
                    </a:lnTo>
                    <a:lnTo>
                      <a:pt x="107" y="126"/>
                    </a:lnTo>
                    <a:lnTo>
                      <a:pt x="121" y="110"/>
                    </a:lnTo>
                    <a:lnTo>
                      <a:pt x="132" y="92"/>
                    </a:lnTo>
                    <a:lnTo>
                      <a:pt x="136" y="71"/>
                    </a:lnTo>
                    <a:lnTo>
                      <a:pt x="136" y="67"/>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5" name=""/>
              <p:cNvSpPr/>
              <p:nvPr/>
            </p:nvSpPr>
            <p:spPr>
              <a:xfrm>
                <a:off x="8029440" y="5684760"/>
                <a:ext cx="28800" cy="28800"/>
              </a:xfrm>
              <a:custGeom>
                <a:avLst/>
                <a:gdLst/>
                <a:ahLst/>
                <a:rect l="l" t="t" r="r" b="b"/>
                <a:pathLst>
                  <a:path w="141" h="138">
                    <a:moveTo>
                      <a:pt x="141" y="65"/>
                    </a:moveTo>
                    <a:lnTo>
                      <a:pt x="132" y="50"/>
                    </a:lnTo>
                    <a:lnTo>
                      <a:pt x="123" y="30"/>
                    </a:lnTo>
                    <a:lnTo>
                      <a:pt x="112" y="15"/>
                    </a:lnTo>
                    <a:lnTo>
                      <a:pt x="90" y="4"/>
                    </a:lnTo>
                    <a:lnTo>
                      <a:pt x="68" y="0"/>
                    </a:lnTo>
                    <a:lnTo>
                      <a:pt x="51" y="0"/>
                    </a:lnTo>
                    <a:lnTo>
                      <a:pt x="29" y="13"/>
                    </a:lnTo>
                    <a:lnTo>
                      <a:pt x="13" y="26"/>
                    </a:lnTo>
                    <a:lnTo>
                      <a:pt x="5" y="46"/>
                    </a:lnTo>
                    <a:lnTo>
                      <a:pt x="0" y="65"/>
                    </a:lnTo>
                    <a:lnTo>
                      <a:pt x="0" y="87"/>
                    </a:lnTo>
                    <a:lnTo>
                      <a:pt x="9" y="103"/>
                    </a:lnTo>
                    <a:lnTo>
                      <a:pt x="26" y="122"/>
                    </a:lnTo>
                    <a:lnTo>
                      <a:pt x="44" y="136"/>
                    </a:lnTo>
                    <a:lnTo>
                      <a:pt x="66" y="138"/>
                    </a:lnTo>
                    <a:lnTo>
                      <a:pt x="84" y="136"/>
                    </a:lnTo>
                    <a:lnTo>
                      <a:pt x="107" y="125"/>
                    </a:lnTo>
                    <a:lnTo>
                      <a:pt x="123" y="113"/>
                    </a:lnTo>
                    <a:lnTo>
                      <a:pt x="130" y="90"/>
                    </a:lnTo>
                    <a:lnTo>
                      <a:pt x="141" y="69"/>
                    </a:lnTo>
                    <a:lnTo>
                      <a:pt x="141" y="65"/>
                    </a:lnTo>
                    <a:close/>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6" name=""/>
              <p:cNvSpPr/>
              <p:nvPr/>
            </p:nvSpPr>
            <p:spPr>
              <a:xfrm>
                <a:off x="8344080" y="5489640"/>
                <a:ext cx="342720" cy="162000"/>
              </a:xfrm>
              <a:custGeom>
                <a:avLst/>
                <a:gdLst/>
                <a:ahLst/>
                <a:rect l="l" t="t" r="r" b="b"/>
                <a:pathLst>
                  <a:path w="1722" h="816">
                    <a:moveTo>
                      <a:pt x="0" y="816"/>
                    </a:moveTo>
                    <a:lnTo>
                      <a:pt x="307" y="452"/>
                    </a:lnTo>
                    <a:lnTo>
                      <a:pt x="560" y="226"/>
                    </a:lnTo>
                    <a:lnTo>
                      <a:pt x="846" y="72"/>
                    </a:lnTo>
                    <a:lnTo>
                      <a:pt x="1090" y="0"/>
                    </a:lnTo>
                    <a:lnTo>
                      <a:pt x="1397" y="0"/>
                    </a:lnTo>
                    <a:lnTo>
                      <a:pt x="1556" y="72"/>
                    </a:lnTo>
                    <a:lnTo>
                      <a:pt x="1722" y="433"/>
                    </a:lnTo>
                    <a:lnTo>
                      <a:pt x="1466" y="486"/>
                    </a:lnTo>
                    <a:lnTo>
                      <a:pt x="1208" y="452"/>
                    </a:lnTo>
                    <a:lnTo>
                      <a:pt x="980" y="433"/>
                    </a:lnTo>
                    <a:lnTo>
                      <a:pt x="832" y="452"/>
                    </a:lnTo>
                    <a:lnTo>
                      <a:pt x="228" y="675"/>
                    </a:lnTo>
                    <a:lnTo>
                      <a:pt x="912" y="346"/>
                    </a:lnTo>
                    <a:lnTo>
                      <a:pt x="1151" y="346"/>
                    </a:lnTo>
                    <a:lnTo>
                      <a:pt x="1661" y="395"/>
                    </a:lnTo>
                    <a:lnTo>
                      <a:pt x="1529" y="103"/>
                    </a:lnTo>
                    <a:lnTo>
                      <a:pt x="1340" y="55"/>
                    </a:lnTo>
                    <a:lnTo>
                      <a:pt x="1090" y="55"/>
                    </a:lnTo>
                    <a:lnTo>
                      <a:pt x="832" y="125"/>
                    </a:lnTo>
                    <a:lnTo>
                      <a:pt x="481" y="314"/>
                    </a:lnTo>
                    <a:lnTo>
                      <a:pt x="253" y="538"/>
                    </a:lnTo>
                    <a:lnTo>
                      <a:pt x="0" y="8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846920" y="5929200"/>
                <a:ext cx="166680" cy="146160"/>
              </a:xfrm>
              <a:custGeom>
                <a:avLst/>
                <a:gdLst/>
                <a:ahLst/>
                <a:rect l="l" t="t" r="r" b="b"/>
                <a:pathLst>
                  <a:path w="844" h="734">
                    <a:moveTo>
                      <a:pt x="844" y="0"/>
                    </a:moveTo>
                    <a:lnTo>
                      <a:pt x="237" y="292"/>
                    </a:lnTo>
                    <a:lnTo>
                      <a:pt x="31" y="233"/>
                    </a:lnTo>
                    <a:lnTo>
                      <a:pt x="29" y="160"/>
                    </a:lnTo>
                    <a:lnTo>
                      <a:pt x="53" y="81"/>
                    </a:lnTo>
                    <a:lnTo>
                      <a:pt x="124" y="68"/>
                    </a:lnTo>
                    <a:lnTo>
                      <a:pt x="55" y="63"/>
                    </a:lnTo>
                    <a:lnTo>
                      <a:pt x="4" y="97"/>
                    </a:lnTo>
                    <a:lnTo>
                      <a:pt x="0" y="174"/>
                    </a:lnTo>
                    <a:lnTo>
                      <a:pt x="29" y="266"/>
                    </a:lnTo>
                    <a:lnTo>
                      <a:pt x="31" y="400"/>
                    </a:lnTo>
                    <a:lnTo>
                      <a:pt x="87" y="462"/>
                    </a:lnTo>
                    <a:lnTo>
                      <a:pt x="242" y="519"/>
                    </a:lnTo>
                    <a:lnTo>
                      <a:pt x="94" y="596"/>
                    </a:lnTo>
                    <a:lnTo>
                      <a:pt x="84" y="635"/>
                    </a:lnTo>
                    <a:lnTo>
                      <a:pt x="117" y="734"/>
                    </a:lnTo>
                    <a:lnTo>
                      <a:pt x="112" y="631"/>
                    </a:lnTo>
                    <a:lnTo>
                      <a:pt x="286" y="561"/>
                    </a:lnTo>
                    <a:lnTo>
                      <a:pt x="453" y="568"/>
                    </a:lnTo>
                    <a:lnTo>
                      <a:pt x="488" y="531"/>
                    </a:lnTo>
                    <a:lnTo>
                      <a:pt x="504" y="453"/>
                    </a:lnTo>
                    <a:lnTo>
                      <a:pt x="444" y="531"/>
                    </a:lnTo>
                    <a:lnTo>
                      <a:pt x="405" y="540"/>
                    </a:lnTo>
                    <a:lnTo>
                      <a:pt x="87" y="430"/>
                    </a:lnTo>
                    <a:lnTo>
                      <a:pt x="53" y="372"/>
                    </a:lnTo>
                    <a:lnTo>
                      <a:pt x="53" y="266"/>
                    </a:lnTo>
                    <a:lnTo>
                      <a:pt x="237" y="319"/>
                    </a:lnTo>
                    <a:lnTo>
                      <a:pt x="290" y="404"/>
                    </a:lnTo>
                    <a:lnTo>
                      <a:pt x="258" y="303"/>
                    </a:lnTo>
                    <a:lnTo>
                      <a:pt x="596" y="139"/>
                    </a:lnTo>
                    <a:lnTo>
                      <a:pt x="8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910640" y="5973840"/>
                <a:ext cx="180720" cy="81000"/>
              </a:xfrm>
              <a:custGeom>
                <a:avLst/>
                <a:gdLst/>
                <a:ahLst/>
                <a:rect l="l" t="t" r="r" b="b"/>
                <a:pathLst>
                  <a:path w="910" h="407">
                    <a:moveTo>
                      <a:pt x="0" y="176"/>
                    </a:moveTo>
                    <a:lnTo>
                      <a:pt x="75" y="176"/>
                    </a:lnTo>
                    <a:lnTo>
                      <a:pt x="460" y="0"/>
                    </a:lnTo>
                    <a:lnTo>
                      <a:pt x="405" y="77"/>
                    </a:lnTo>
                    <a:lnTo>
                      <a:pt x="486" y="238"/>
                    </a:lnTo>
                    <a:lnTo>
                      <a:pt x="605" y="337"/>
                    </a:lnTo>
                    <a:lnTo>
                      <a:pt x="739" y="378"/>
                    </a:lnTo>
                    <a:lnTo>
                      <a:pt x="910" y="378"/>
                    </a:lnTo>
                    <a:lnTo>
                      <a:pt x="702" y="407"/>
                    </a:lnTo>
                    <a:lnTo>
                      <a:pt x="580" y="381"/>
                    </a:lnTo>
                    <a:lnTo>
                      <a:pt x="490" y="307"/>
                    </a:lnTo>
                    <a:lnTo>
                      <a:pt x="455" y="238"/>
                    </a:lnTo>
                    <a:lnTo>
                      <a:pt x="387" y="79"/>
                    </a:lnTo>
                    <a:lnTo>
                      <a:pt x="84" y="180"/>
                    </a:lnTo>
                    <a:lnTo>
                      <a:pt x="0" y="17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9" name=""/>
              <p:cNvSpPr/>
              <p:nvPr/>
            </p:nvSpPr>
            <p:spPr>
              <a:xfrm>
                <a:off x="7870680" y="6040440"/>
                <a:ext cx="49320" cy="36360"/>
              </a:xfrm>
              <a:custGeom>
                <a:avLst/>
                <a:gdLst/>
                <a:ahLst/>
                <a:rect l="l" t="t" r="r" b="b"/>
                <a:pathLst>
                  <a:path w="249" h="187">
                    <a:moveTo>
                      <a:pt x="233" y="0"/>
                    </a:moveTo>
                    <a:lnTo>
                      <a:pt x="228" y="74"/>
                    </a:lnTo>
                    <a:lnTo>
                      <a:pt x="134" y="149"/>
                    </a:lnTo>
                    <a:lnTo>
                      <a:pt x="0" y="180"/>
                    </a:lnTo>
                    <a:lnTo>
                      <a:pt x="127" y="187"/>
                    </a:lnTo>
                    <a:lnTo>
                      <a:pt x="233" y="136"/>
                    </a:lnTo>
                    <a:lnTo>
                      <a:pt x="249" y="85"/>
                    </a:lnTo>
                    <a:lnTo>
                      <a:pt x="249" y="0"/>
                    </a:lnTo>
                    <a:lnTo>
                      <a:pt x="233"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0" name=""/>
              <p:cNvSpPr/>
              <p:nvPr/>
            </p:nvSpPr>
            <p:spPr>
              <a:xfrm>
                <a:off x="7900920" y="6078600"/>
                <a:ext cx="219240" cy="74520"/>
              </a:xfrm>
              <a:custGeom>
                <a:avLst/>
                <a:gdLst/>
                <a:ahLst/>
                <a:rect l="l" t="t" r="r" b="b"/>
                <a:pathLst>
                  <a:path w="1104" h="376">
                    <a:moveTo>
                      <a:pt x="0" y="0"/>
                    </a:moveTo>
                    <a:lnTo>
                      <a:pt x="288" y="86"/>
                    </a:lnTo>
                    <a:lnTo>
                      <a:pt x="539" y="206"/>
                    </a:lnTo>
                    <a:lnTo>
                      <a:pt x="698" y="226"/>
                    </a:lnTo>
                    <a:lnTo>
                      <a:pt x="832" y="211"/>
                    </a:lnTo>
                    <a:lnTo>
                      <a:pt x="970" y="121"/>
                    </a:lnTo>
                    <a:lnTo>
                      <a:pt x="959" y="176"/>
                    </a:lnTo>
                    <a:lnTo>
                      <a:pt x="1104" y="246"/>
                    </a:lnTo>
                    <a:lnTo>
                      <a:pt x="1069" y="376"/>
                    </a:lnTo>
                    <a:lnTo>
                      <a:pt x="836" y="266"/>
                    </a:lnTo>
                    <a:lnTo>
                      <a:pt x="654" y="252"/>
                    </a:lnTo>
                    <a:lnTo>
                      <a:pt x="493" y="217"/>
                    </a:lnTo>
                    <a:lnTo>
                      <a:pt x="302" y="105"/>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1" name=""/>
              <p:cNvSpPr/>
              <p:nvPr/>
            </p:nvSpPr>
            <p:spPr>
              <a:xfrm>
                <a:off x="7786800" y="5857920"/>
                <a:ext cx="147600" cy="111240"/>
              </a:xfrm>
              <a:custGeom>
                <a:avLst/>
                <a:gdLst/>
                <a:ahLst/>
                <a:rect l="l" t="t" r="r" b="b"/>
                <a:pathLst>
                  <a:path w="749" h="556">
                    <a:moveTo>
                      <a:pt x="11" y="0"/>
                    </a:moveTo>
                    <a:lnTo>
                      <a:pt x="11" y="44"/>
                    </a:lnTo>
                    <a:lnTo>
                      <a:pt x="70" y="108"/>
                    </a:lnTo>
                    <a:lnTo>
                      <a:pt x="263" y="189"/>
                    </a:lnTo>
                    <a:lnTo>
                      <a:pt x="538" y="288"/>
                    </a:lnTo>
                    <a:lnTo>
                      <a:pt x="641" y="382"/>
                    </a:lnTo>
                    <a:lnTo>
                      <a:pt x="657" y="477"/>
                    </a:lnTo>
                    <a:lnTo>
                      <a:pt x="749" y="556"/>
                    </a:lnTo>
                    <a:lnTo>
                      <a:pt x="648" y="504"/>
                    </a:lnTo>
                    <a:lnTo>
                      <a:pt x="367" y="419"/>
                    </a:lnTo>
                    <a:lnTo>
                      <a:pt x="429" y="419"/>
                    </a:lnTo>
                    <a:lnTo>
                      <a:pt x="628" y="468"/>
                    </a:lnTo>
                    <a:lnTo>
                      <a:pt x="595" y="373"/>
                    </a:lnTo>
                    <a:lnTo>
                      <a:pt x="433" y="283"/>
                    </a:lnTo>
                    <a:lnTo>
                      <a:pt x="68" y="126"/>
                    </a:lnTo>
                    <a:lnTo>
                      <a:pt x="0" y="44"/>
                    </a:lnTo>
                    <a:lnTo>
                      <a:pt x="7" y="16"/>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8105760" y="6029280"/>
                <a:ext cx="55440" cy="176400"/>
              </a:xfrm>
              <a:custGeom>
                <a:avLst/>
                <a:gdLst/>
                <a:ahLst/>
                <a:rect l="l" t="t" r="r" b="b"/>
                <a:pathLst>
                  <a:path w="279" h="883">
                    <a:moveTo>
                      <a:pt x="279" y="19"/>
                    </a:moveTo>
                    <a:lnTo>
                      <a:pt x="33" y="802"/>
                    </a:lnTo>
                    <a:lnTo>
                      <a:pt x="132" y="883"/>
                    </a:lnTo>
                    <a:lnTo>
                      <a:pt x="0" y="802"/>
                    </a:lnTo>
                    <a:lnTo>
                      <a:pt x="33" y="588"/>
                    </a:lnTo>
                    <a:lnTo>
                      <a:pt x="259" y="0"/>
                    </a:lnTo>
                    <a:lnTo>
                      <a:pt x="27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8121600" y="5656320"/>
                <a:ext cx="216000" cy="706320"/>
              </a:xfrm>
              <a:custGeom>
                <a:avLst/>
                <a:gdLst/>
                <a:ahLst/>
                <a:rect l="l" t="t" r="r" b="b"/>
                <a:pathLst>
                  <a:path w="1088" h="3562">
                    <a:moveTo>
                      <a:pt x="1088" y="0"/>
                    </a:moveTo>
                    <a:lnTo>
                      <a:pt x="826" y="270"/>
                    </a:lnTo>
                    <a:lnTo>
                      <a:pt x="620" y="589"/>
                    </a:lnTo>
                    <a:lnTo>
                      <a:pt x="536" y="877"/>
                    </a:lnTo>
                    <a:lnTo>
                      <a:pt x="404" y="1536"/>
                    </a:lnTo>
                    <a:lnTo>
                      <a:pt x="310" y="2497"/>
                    </a:lnTo>
                    <a:lnTo>
                      <a:pt x="176" y="2808"/>
                    </a:lnTo>
                    <a:lnTo>
                      <a:pt x="110" y="3267"/>
                    </a:lnTo>
                    <a:lnTo>
                      <a:pt x="13" y="3442"/>
                    </a:lnTo>
                    <a:lnTo>
                      <a:pt x="0" y="3562"/>
                    </a:lnTo>
                    <a:lnTo>
                      <a:pt x="29" y="3442"/>
                    </a:lnTo>
                    <a:lnTo>
                      <a:pt x="125" y="3267"/>
                    </a:lnTo>
                    <a:lnTo>
                      <a:pt x="229" y="2789"/>
                    </a:lnTo>
                    <a:lnTo>
                      <a:pt x="389" y="2407"/>
                    </a:lnTo>
                    <a:lnTo>
                      <a:pt x="697" y="1736"/>
                    </a:lnTo>
                    <a:lnTo>
                      <a:pt x="943" y="648"/>
                    </a:lnTo>
                    <a:lnTo>
                      <a:pt x="651" y="1238"/>
                    </a:lnTo>
                    <a:lnTo>
                      <a:pt x="549" y="1949"/>
                    </a:lnTo>
                    <a:lnTo>
                      <a:pt x="389" y="2327"/>
                    </a:lnTo>
                    <a:lnTo>
                      <a:pt x="455" y="1466"/>
                    </a:lnTo>
                    <a:lnTo>
                      <a:pt x="633" y="629"/>
                    </a:lnTo>
                    <a:lnTo>
                      <a:pt x="844" y="297"/>
                    </a:lnTo>
                    <a:lnTo>
                      <a:pt x="960" y="148"/>
                    </a:lnTo>
                    <a:lnTo>
                      <a:pt x="10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791480" y="5597640"/>
                <a:ext cx="1163520" cy="1231920"/>
              </a:xfrm>
              <a:custGeom>
                <a:avLst/>
                <a:gdLst/>
                <a:ahLst/>
                <a:rect l="l" t="t" r="r" b="b"/>
                <a:pathLst>
                  <a:path w="5859" h="6211">
                    <a:moveTo>
                      <a:pt x="3728" y="1425"/>
                    </a:moveTo>
                    <a:lnTo>
                      <a:pt x="3795" y="2031"/>
                    </a:lnTo>
                    <a:lnTo>
                      <a:pt x="3781" y="2460"/>
                    </a:lnTo>
                    <a:lnTo>
                      <a:pt x="3682" y="2811"/>
                    </a:lnTo>
                    <a:lnTo>
                      <a:pt x="3516" y="3145"/>
                    </a:lnTo>
                    <a:lnTo>
                      <a:pt x="3728" y="2875"/>
                    </a:lnTo>
                    <a:lnTo>
                      <a:pt x="3956" y="2414"/>
                    </a:lnTo>
                    <a:lnTo>
                      <a:pt x="4007" y="2013"/>
                    </a:lnTo>
                    <a:lnTo>
                      <a:pt x="3956" y="1552"/>
                    </a:lnTo>
                    <a:lnTo>
                      <a:pt x="3781" y="1091"/>
                    </a:lnTo>
                    <a:lnTo>
                      <a:pt x="3453" y="544"/>
                    </a:lnTo>
                    <a:lnTo>
                      <a:pt x="3747" y="482"/>
                    </a:lnTo>
                    <a:lnTo>
                      <a:pt x="4284" y="669"/>
                    </a:lnTo>
                    <a:lnTo>
                      <a:pt x="4754" y="505"/>
                    </a:lnTo>
                    <a:lnTo>
                      <a:pt x="5148" y="669"/>
                    </a:lnTo>
                    <a:lnTo>
                      <a:pt x="5063" y="379"/>
                    </a:lnTo>
                    <a:lnTo>
                      <a:pt x="4705" y="0"/>
                    </a:lnTo>
                    <a:lnTo>
                      <a:pt x="5293" y="482"/>
                    </a:lnTo>
                    <a:lnTo>
                      <a:pt x="5584" y="924"/>
                    </a:lnTo>
                    <a:lnTo>
                      <a:pt x="5778" y="1722"/>
                    </a:lnTo>
                    <a:lnTo>
                      <a:pt x="5859" y="2499"/>
                    </a:lnTo>
                    <a:lnTo>
                      <a:pt x="5679" y="2460"/>
                    </a:lnTo>
                    <a:lnTo>
                      <a:pt x="5378" y="2460"/>
                    </a:lnTo>
                    <a:lnTo>
                      <a:pt x="4855" y="2583"/>
                    </a:lnTo>
                    <a:lnTo>
                      <a:pt x="4348" y="2811"/>
                    </a:lnTo>
                    <a:lnTo>
                      <a:pt x="4057" y="3043"/>
                    </a:lnTo>
                    <a:lnTo>
                      <a:pt x="3839" y="3292"/>
                    </a:lnTo>
                    <a:lnTo>
                      <a:pt x="3633" y="3712"/>
                    </a:lnTo>
                    <a:lnTo>
                      <a:pt x="3420" y="4222"/>
                    </a:lnTo>
                    <a:lnTo>
                      <a:pt x="3341" y="4657"/>
                    </a:lnTo>
                    <a:lnTo>
                      <a:pt x="3292" y="5139"/>
                    </a:lnTo>
                    <a:lnTo>
                      <a:pt x="3292" y="4173"/>
                    </a:lnTo>
                    <a:lnTo>
                      <a:pt x="3011" y="4973"/>
                    </a:lnTo>
                    <a:lnTo>
                      <a:pt x="2737" y="6211"/>
                    </a:lnTo>
                    <a:lnTo>
                      <a:pt x="2638" y="5980"/>
                    </a:lnTo>
                    <a:lnTo>
                      <a:pt x="2539" y="6020"/>
                    </a:lnTo>
                    <a:lnTo>
                      <a:pt x="2539" y="5162"/>
                    </a:lnTo>
                    <a:lnTo>
                      <a:pt x="2405" y="5079"/>
                    </a:lnTo>
                    <a:lnTo>
                      <a:pt x="2284" y="5139"/>
                    </a:lnTo>
                    <a:lnTo>
                      <a:pt x="2379" y="5791"/>
                    </a:lnTo>
                    <a:lnTo>
                      <a:pt x="2269" y="5831"/>
                    </a:lnTo>
                    <a:lnTo>
                      <a:pt x="1677" y="5060"/>
                    </a:lnTo>
                    <a:lnTo>
                      <a:pt x="1268" y="5060"/>
                    </a:lnTo>
                    <a:lnTo>
                      <a:pt x="1187" y="5455"/>
                    </a:lnTo>
                    <a:lnTo>
                      <a:pt x="1372" y="5936"/>
                    </a:lnTo>
                    <a:lnTo>
                      <a:pt x="1119" y="5455"/>
                    </a:lnTo>
                    <a:lnTo>
                      <a:pt x="1155" y="5060"/>
                    </a:lnTo>
                    <a:lnTo>
                      <a:pt x="862" y="5014"/>
                    </a:lnTo>
                    <a:lnTo>
                      <a:pt x="16" y="4996"/>
                    </a:lnTo>
                    <a:lnTo>
                      <a:pt x="0" y="4427"/>
                    </a:lnTo>
                    <a:lnTo>
                      <a:pt x="65" y="4154"/>
                    </a:lnTo>
                    <a:lnTo>
                      <a:pt x="198" y="3982"/>
                    </a:lnTo>
                    <a:lnTo>
                      <a:pt x="376" y="3906"/>
                    </a:lnTo>
                    <a:lnTo>
                      <a:pt x="212" y="4030"/>
                    </a:lnTo>
                    <a:lnTo>
                      <a:pt x="117" y="4198"/>
                    </a:lnTo>
                    <a:lnTo>
                      <a:pt x="117" y="4380"/>
                    </a:lnTo>
                    <a:lnTo>
                      <a:pt x="245" y="4323"/>
                    </a:lnTo>
                    <a:lnTo>
                      <a:pt x="376" y="4427"/>
                    </a:lnTo>
                    <a:lnTo>
                      <a:pt x="585" y="4427"/>
                    </a:lnTo>
                    <a:lnTo>
                      <a:pt x="765" y="4784"/>
                    </a:lnTo>
                    <a:lnTo>
                      <a:pt x="961" y="4932"/>
                    </a:lnTo>
                    <a:lnTo>
                      <a:pt x="781" y="4302"/>
                    </a:lnTo>
                    <a:lnTo>
                      <a:pt x="1464" y="4932"/>
                    </a:lnTo>
                    <a:lnTo>
                      <a:pt x="1565" y="4910"/>
                    </a:lnTo>
                    <a:lnTo>
                      <a:pt x="1225" y="4362"/>
                    </a:lnTo>
                    <a:lnTo>
                      <a:pt x="1268" y="4302"/>
                    </a:lnTo>
                    <a:lnTo>
                      <a:pt x="1565" y="4743"/>
                    </a:lnTo>
                    <a:lnTo>
                      <a:pt x="1893" y="4869"/>
                    </a:lnTo>
                    <a:lnTo>
                      <a:pt x="1789" y="4551"/>
                    </a:lnTo>
                    <a:lnTo>
                      <a:pt x="2101" y="4825"/>
                    </a:lnTo>
                    <a:lnTo>
                      <a:pt x="2361" y="4636"/>
                    </a:lnTo>
                    <a:lnTo>
                      <a:pt x="2624" y="4611"/>
                    </a:lnTo>
                    <a:lnTo>
                      <a:pt x="2798" y="4279"/>
                    </a:lnTo>
                    <a:lnTo>
                      <a:pt x="2638" y="4721"/>
                    </a:lnTo>
                    <a:lnTo>
                      <a:pt x="2523" y="4869"/>
                    </a:lnTo>
                    <a:lnTo>
                      <a:pt x="2752" y="4761"/>
                    </a:lnTo>
                    <a:lnTo>
                      <a:pt x="3077" y="4154"/>
                    </a:lnTo>
                    <a:lnTo>
                      <a:pt x="3110" y="3965"/>
                    </a:lnTo>
                    <a:lnTo>
                      <a:pt x="2866" y="4115"/>
                    </a:lnTo>
                    <a:lnTo>
                      <a:pt x="2995" y="3820"/>
                    </a:lnTo>
                    <a:lnTo>
                      <a:pt x="2995" y="3481"/>
                    </a:lnTo>
                    <a:lnTo>
                      <a:pt x="2831" y="3546"/>
                    </a:lnTo>
                    <a:lnTo>
                      <a:pt x="3062" y="3103"/>
                    </a:lnTo>
                    <a:lnTo>
                      <a:pt x="3240" y="2601"/>
                    </a:lnTo>
                    <a:lnTo>
                      <a:pt x="3341" y="2013"/>
                    </a:lnTo>
                    <a:lnTo>
                      <a:pt x="3420" y="1448"/>
                    </a:lnTo>
                    <a:lnTo>
                      <a:pt x="3387" y="1992"/>
                    </a:lnTo>
                    <a:lnTo>
                      <a:pt x="3420" y="2269"/>
                    </a:lnTo>
                    <a:lnTo>
                      <a:pt x="3497" y="2478"/>
                    </a:lnTo>
                    <a:lnTo>
                      <a:pt x="3633" y="2200"/>
                    </a:lnTo>
                    <a:lnTo>
                      <a:pt x="3714" y="1743"/>
                    </a:lnTo>
                    <a:lnTo>
                      <a:pt x="3728"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8118360" y="6367320"/>
                <a:ext cx="87480" cy="182880"/>
              </a:xfrm>
              <a:custGeom>
                <a:avLst/>
                <a:gdLst/>
                <a:ahLst/>
                <a:rect l="l" t="t" r="r" b="b"/>
                <a:pathLst>
                  <a:path w="445" h="921">
                    <a:moveTo>
                      <a:pt x="0" y="0"/>
                    </a:moveTo>
                    <a:lnTo>
                      <a:pt x="81" y="231"/>
                    </a:lnTo>
                    <a:lnTo>
                      <a:pt x="445" y="921"/>
                    </a:lnTo>
                    <a:lnTo>
                      <a:pt x="49" y="28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862760" y="6346800"/>
                <a:ext cx="262080" cy="108000"/>
              </a:xfrm>
              <a:custGeom>
                <a:avLst/>
                <a:gdLst/>
                <a:ahLst/>
                <a:rect l="l" t="t" r="r" b="b"/>
                <a:pathLst>
                  <a:path w="1318" h="549">
                    <a:moveTo>
                      <a:pt x="1272" y="46"/>
                    </a:moveTo>
                    <a:lnTo>
                      <a:pt x="1156" y="0"/>
                    </a:lnTo>
                    <a:lnTo>
                      <a:pt x="1059" y="66"/>
                    </a:lnTo>
                    <a:lnTo>
                      <a:pt x="1043" y="191"/>
                    </a:lnTo>
                    <a:lnTo>
                      <a:pt x="815" y="191"/>
                    </a:lnTo>
                    <a:lnTo>
                      <a:pt x="648" y="83"/>
                    </a:lnTo>
                    <a:lnTo>
                      <a:pt x="522" y="150"/>
                    </a:lnTo>
                    <a:lnTo>
                      <a:pt x="0" y="150"/>
                    </a:lnTo>
                    <a:lnTo>
                      <a:pt x="540" y="191"/>
                    </a:lnTo>
                    <a:lnTo>
                      <a:pt x="602" y="274"/>
                    </a:lnTo>
                    <a:lnTo>
                      <a:pt x="750" y="256"/>
                    </a:lnTo>
                    <a:lnTo>
                      <a:pt x="621" y="486"/>
                    </a:lnTo>
                    <a:lnTo>
                      <a:pt x="637" y="549"/>
                    </a:lnTo>
                    <a:lnTo>
                      <a:pt x="846" y="235"/>
                    </a:lnTo>
                    <a:lnTo>
                      <a:pt x="1059" y="256"/>
                    </a:lnTo>
                    <a:lnTo>
                      <a:pt x="1156" y="83"/>
                    </a:lnTo>
                    <a:lnTo>
                      <a:pt x="1318" y="169"/>
                    </a:lnTo>
                    <a:lnTo>
                      <a:pt x="1272"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8043840" y="6051600"/>
                <a:ext cx="152280" cy="333360"/>
              </a:xfrm>
              <a:custGeom>
                <a:avLst/>
                <a:gdLst/>
                <a:ahLst/>
                <a:rect l="l" t="t" r="r" b="b"/>
                <a:pathLst>
                  <a:path w="768" h="1678">
                    <a:moveTo>
                      <a:pt x="0" y="1678"/>
                    </a:moveTo>
                    <a:lnTo>
                      <a:pt x="313" y="944"/>
                    </a:lnTo>
                    <a:lnTo>
                      <a:pt x="768" y="0"/>
                    </a:lnTo>
                    <a:lnTo>
                      <a:pt x="363" y="1005"/>
                    </a:lnTo>
                    <a:lnTo>
                      <a:pt x="641" y="654"/>
                    </a:lnTo>
                    <a:lnTo>
                      <a:pt x="572" y="944"/>
                    </a:lnTo>
                    <a:lnTo>
                      <a:pt x="164" y="1379"/>
                    </a:lnTo>
                    <a:lnTo>
                      <a:pt x="0" y="16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7872480" y="6585120"/>
                <a:ext cx="84240" cy="218880"/>
              </a:xfrm>
              <a:custGeom>
                <a:avLst/>
                <a:gdLst/>
                <a:ahLst/>
                <a:rect l="l" t="t" r="r" b="b"/>
                <a:pathLst>
                  <a:path w="426" h="1111">
                    <a:moveTo>
                      <a:pt x="426" y="41"/>
                    </a:moveTo>
                    <a:lnTo>
                      <a:pt x="0" y="1111"/>
                    </a:lnTo>
                    <a:lnTo>
                      <a:pt x="180" y="502"/>
                    </a:lnTo>
                    <a:lnTo>
                      <a:pt x="376" y="0"/>
                    </a:lnTo>
                    <a:lnTo>
                      <a:pt x="426"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8886960" y="6080040"/>
                <a:ext cx="133200" cy="728640"/>
              </a:xfrm>
              <a:custGeom>
                <a:avLst/>
                <a:gdLst/>
                <a:ahLst/>
                <a:rect l="l" t="t" r="r" b="b"/>
                <a:pathLst>
                  <a:path w="669" h="3670">
                    <a:moveTo>
                      <a:pt x="143" y="27"/>
                    </a:moveTo>
                    <a:lnTo>
                      <a:pt x="390" y="103"/>
                    </a:lnTo>
                    <a:lnTo>
                      <a:pt x="507" y="255"/>
                    </a:lnTo>
                    <a:lnTo>
                      <a:pt x="571" y="631"/>
                    </a:lnTo>
                    <a:lnTo>
                      <a:pt x="590" y="1597"/>
                    </a:lnTo>
                    <a:lnTo>
                      <a:pt x="540" y="2328"/>
                    </a:lnTo>
                    <a:lnTo>
                      <a:pt x="459" y="2914"/>
                    </a:lnTo>
                    <a:lnTo>
                      <a:pt x="342" y="3294"/>
                    </a:lnTo>
                    <a:lnTo>
                      <a:pt x="261" y="3420"/>
                    </a:lnTo>
                    <a:lnTo>
                      <a:pt x="0" y="3670"/>
                    </a:lnTo>
                    <a:lnTo>
                      <a:pt x="296" y="3441"/>
                    </a:lnTo>
                    <a:lnTo>
                      <a:pt x="426" y="3255"/>
                    </a:lnTo>
                    <a:lnTo>
                      <a:pt x="521" y="2892"/>
                    </a:lnTo>
                    <a:lnTo>
                      <a:pt x="625" y="2162"/>
                    </a:lnTo>
                    <a:lnTo>
                      <a:pt x="669" y="1365"/>
                    </a:lnTo>
                    <a:lnTo>
                      <a:pt x="639" y="739"/>
                    </a:lnTo>
                    <a:lnTo>
                      <a:pt x="571" y="315"/>
                    </a:lnTo>
                    <a:lnTo>
                      <a:pt x="507" y="168"/>
                    </a:lnTo>
                    <a:lnTo>
                      <a:pt x="378" y="45"/>
                    </a:lnTo>
                    <a:lnTo>
                      <a:pt x="162" y="0"/>
                    </a:lnTo>
                    <a:lnTo>
                      <a:pt x="14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861320" y="6203880"/>
                <a:ext cx="28440" cy="171360"/>
              </a:xfrm>
              <a:custGeom>
                <a:avLst/>
                <a:gdLst/>
                <a:ahLst/>
                <a:rect l="l" t="t" r="r" b="b"/>
                <a:pathLst>
                  <a:path w="149" h="864">
                    <a:moveTo>
                      <a:pt x="57" y="864"/>
                    </a:moveTo>
                    <a:lnTo>
                      <a:pt x="149" y="558"/>
                    </a:lnTo>
                    <a:lnTo>
                      <a:pt x="44" y="281"/>
                    </a:lnTo>
                    <a:lnTo>
                      <a:pt x="9" y="0"/>
                    </a:lnTo>
                    <a:lnTo>
                      <a:pt x="19" y="281"/>
                    </a:lnTo>
                    <a:lnTo>
                      <a:pt x="127" y="567"/>
                    </a:lnTo>
                    <a:lnTo>
                      <a:pt x="0" y="864"/>
                    </a:lnTo>
                    <a:lnTo>
                      <a:pt x="57" y="8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678800" y="6202440"/>
                <a:ext cx="185760" cy="122040"/>
              </a:xfrm>
              <a:custGeom>
                <a:avLst/>
                <a:gdLst/>
                <a:ahLst/>
                <a:rect l="l" t="t" r="r" b="b"/>
                <a:pathLst>
                  <a:path w="933" h="616">
                    <a:moveTo>
                      <a:pt x="873" y="0"/>
                    </a:moveTo>
                    <a:lnTo>
                      <a:pt x="758" y="106"/>
                    </a:lnTo>
                    <a:lnTo>
                      <a:pt x="737" y="337"/>
                    </a:lnTo>
                    <a:lnTo>
                      <a:pt x="548" y="131"/>
                    </a:lnTo>
                    <a:lnTo>
                      <a:pt x="458" y="131"/>
                    </a:lnTo>
                    <a:lnTo>
                      <a:pt x="325" y="166"/>
                    </a:lnTo>
                    <a:lnTo>
                      <a:pt x="94" y="106"/>
                    </a:lnTo>
                    <a:lnTo>
                      <a:pt x="31" y="124"/>
                    </a:lnTo>
                    <a:lnTo>
                      <a:pt x="0" y="235"/>
                    </a:lnTo>
                    <a:lnTo>
                      <a:pt x="62" y="131"/>
                    </a:lnTo>
                    <a:lnTo>
                      <a:pt x="126" y="131"/>
                    </a:lnTo>
                    <a:lnTo>
                      <a:pt x="352" y="210"/>
                    </a:lnTo>
                    <a:lnTo>
                      <a:pt x="508" y="154"/>
                    </a:lnTo>
                    <a:lnTo>
                      <a:pt x="548" y="154"/>
                    </a:lnTo>
                    <a:lnTo>
                      <a:pt x="816" y="438"/>
                    </a:lnTo>
                    <a:lnTo>
                      <a:pt x="933" y="616"/>
                    </a:lnTo>
                    <a:lnTo>
                      <a:pt x="822" y="381"/>
                    </a:lnTo>
                    <a:lnTo>
                      <a:pt x="790" y="106"/>
                    </a:lnTo>
                    <a:lnTo>
                      <a:pt x="8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607160" y="6242040"/>
                <a:ext cx="108000" cy="98280"/>
              </a:xfrm>
              <a:custGeom>
                <a:avLst/>
                <a:gdLst/>
                <a:ahLst/>
                <a:rect l="l" t="t" r="r" b="b"/>
                <a:pathLst>
                  <a:path w="544" h="497">
                    <a:moveTo>
                      <a:pt x="544" y="124"/>
                    </a:moveTo>
                    <a:lnTo>
                      <a:pt x="380" y="27"/>
                    </a:lnTo>
                    <a:lnTo>
                      <a:pt x="265" y="0"/>
                    </a:lnTo>
                    <a:lnTo>
                      <a:pt x="173" y="64"/>
                    </a:lnTo>
                    <a:lnTo>
                      <a:pt x="165" y="112"/>
                    </a:lnTo>
                    <a:lnTo>
                      <a:pt x="96" y="110"/>
                    </a:lnTo>
                    <a:lnTo>
                      <a:pt x="11" y="173"/>
                    </a:lnTo>
                    <a:lnTo>
                      <a:pt x="0" y="313"/>
                    </a:lnTo>
                    <a:lnTo>
                      <a:pt x="59" y="456"/>
                    </a:lnTo>
                    <a:lnTo>
                      <a:pt x="182" y="497"/>
                    </a:lnTo>
                    <a:lnTo>
                      <a:pt x="43" y="354"/>
                    </a:lnTo>
                    <a:lnTo>
                      <a:pt x="22" y="228"/>
                    </a:lnTo>
                    <a:lnTo>
                      <a:pt x="43" y="167"/>
                    </a:lnTo>
                    <a:lnTo>
                      <a:pt x="117" y="136"/>
                    </a:lnTo>
                    <a:lnTo>
                      <a:pt x="177" y="142"/>
                    </a:lnTo>
                    <a:lnTo>
                      <a:pt x="371" y="270"/>
                    </a:lnTo>
                    <a:lnTo>
                      <a:pt x="182" y="110"/>
                    </a:lnTo>
                    <a:lnTo>
                      <a:pt x="195" y="64"/>
                    </a:lnTo>
                    <a:lnTo>
                      <a:pt x="288" y="20"/>
                    </a:lnTo>
                    <a:lnTo>
                      <a:pt x="456" y="110"/>
                    </a:lnTo>
                    <a:lnTo>
                      <a:pt x="544"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647120" y="6343560"/>
                <a:ext cx="147600" cy="149400"/>
              </a:xfrm>
              <a:custGeom>
                <a:avLst/>
                <a:gdLst/>
                <a:ahLst/>
                <a:rect l="l" t="t" r="r" b="b"/>
                <a:pathLst>
                  <a:path w="742" h="757">
                    <a:moveTo>
                      <a:pt x="0" y="0"/>
                    </a:moveTo>
                    <a:lnTo>
                      <a:pt x="65" y="99"/>
                    </a:lnTo>
                    <a:lnTo>
                      <a:pt x="152" y="279"/>
                    </a:lnTo>
                    <a:lnTo>
                      <a:pt x="277" y="462"/>
                    </a:lnTo>
                    <a:lnTo>
                      <a:pt x="399" y="583"/>
                    </a:lnTo>
                    <a:lnTo>
                      <a:pt x="501" y="667"/>
                    </a:lnTo>
                    <a:lnTo>
                      <a:pt x="588" y="722"/>
                    </a:lnTo>
                    <a:lnTo>
                      <a:pt x="666" y="735"/>
                    </a:lnTo>
                    <a:lnTo>
                      <a:pt x="742" y="735"/>
                    </a:lnTo>
                    <a:lnTo>
                      <a:pt x="742" y="757"/>
                    </a:lnTo>
                    <a:lnTo>
                      <a:pt x="565" y="754"/>
                    </a:lnTo>
                    <a:lnTo>
                      <a:pt x="441" y="682"/>
                    </a:lnTo>
                    <a:lnTo>
                      <a:pt x="296" y="533"/>
                    </a:lnTo>
                    <a:lnTo>
                      <a:pt x="162" y="355"/>
                    </a:lnTo>
                    <a:lnTo>
                      <a:pt x="101" y="21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796080" y="5592600"/>
                <a:ext cx="231840" cy="487440"/>
              </a:xfrm>
              <a:custGeom>
                <a:avLst/>
                <a:gdLst/>
                <a:ahLst/>
                <a:rect l="l" t="t" r="r" b="b"/>
                <a:pathLst>
                  <a:path w="1164" h="2451">
                    <a:moveTo>
                      <a:pt x="1164" y="0"/>
                    </a:moveTo>
                    <a:lnTo>
                      <a:pt x="963" y="402"/>
                    </a:lnTo>
                    <a:lnTo>
                      <a:pt x="977" y="2030"/>
                    </a:lnTo>
                    <a:lnTo>
                      <a:pt x="910" y="1877"/>
                    </a:lnTo>
                    <a:lnTo>
                      <a:pt x="949" y="1718"/>
                    </a:lnTo>
                    <a:lnTo>
                      <a:pt x="853" y="821"/>
                    </a:lnTo>
                    <a:lnTo>
                      <a:pt x="426" y="2451"/>
                    </a:lnTo>
                    <a:lnTo>
                      <a:pt x="779" y="439"/>
                    </a:lnTo>
                    <a:lnTo>
                      <a:pt x="670" y="584"/>
                    </a:lnTo>
                    <a:lnTo>
                      <a:pt x="525" y="1061"/>
                    </a:lnTo>
                    <a:lnTo>
                      <a:pt x="571" y="620"/>
                    </a:lnTo>
                    <a:lnTo>
                      <a:pt x="637" y="402"/>
                    </a:lnTo>
                    <a:lnTo>
                      <a:pt x="466" y="584"/>
                    </a:lnTo>
                    <a:lnTo>
                      <a:pt x="399" y="510"/>
                    </a:lnTo>
                    <a:lnTo>
                      <a:pt x="140" y="1116"/>
                    </a:lnTo>
                    <a:lnTo>
                      <a:pt x="0" y="1702"/>
                    </a:lnTo>
                    <a:lnTo>
                      <a:pt x="122" y="951"/>
                    </a:lnTo>
                    <a:lnTo>
                      <a:pt x="426" y="254"/>
                    </a:lnTo>
                    <a:lnTo>
                      <a:pt x="910" y="17"/>
                    </a:lnTo>
                    <a:lnTo>
                      <a:pt x="11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762600" y="5883120"/>
                <a:ext cx="123840" cy="438480"/>
              </a:xfrm>
              <a:custGeom>
                <a:avLst/>
                <a:gdLst/>
                <a:ahLst/>
                <a:rect l="l" t="t" r="r" b="b"/>
                <a:pathLst>
                  <a:path w="621" h="2209">
                    <a:moveTo>
                      <a:pt x="240" y="0"/>
                    </a:moveTo>
                    <a:lnTo>
                      <a:pt x="169" y="1441"/>
                    </a:lnTo>
                    <a:lnTo>
                      <a:pt x="397" y="692"/>
                    </a:lnTo>
                    <a:lnTo>
                      <a:pt x="340" y="1291"/>
                    </a:lnTo>
                    <a:lnTo>
                      <a:pt x="184" y="2117"/>
                    </a:lnTo>
                    <a:lnTo>
                      <a:pt x="595" y="1021"/>
                    </a:lnTo>
                    <a:lnTo>
                      <a:pt x="397" y="2100"/>
                    </a:lnTo>
                    <a:lnTo>
                      <a:pt x="621" y="1863"/>
                    </a:lnTo>
                    <a:lnTo>
                      <a:pt x="621" y="2117"/>
                    </a:lnTo>
                    <a:lnTo>
                      <a:pt x="0" y="2209"/>
                    </a:lnTo>
                    <a:lnTo>
                      <a:pt x="56" y="1151"/>
                    </a:lnTo>
                    <a:lnTo>
                      <a:pt x="169" y="199"/>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405560" y="5505480"/>
                <a:ext cx="433440" cy="98280"/>
              </a:xfrm>
              <a:custGeom>
                <a:avLst/>
                <a:gdLst/>
                <a:ahLst/>
                <a:rect l="l" t="t" r="r" b="b"/>
                <a:pathLst>
                  <a:path w="2183" h="497">
                    <a:moveTo>
                      <a:pt x="2183" y="497"/>
                    </a:moveTo>
                    <a:lnTo>
                      <a:pt x="2183" y="55"/>
                    </a:lnTo>
                    <a:lnTo>
                      <a:pt x="2139"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a:off x="7275600" y="5505480"/>
                <a:ext cx="9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
              <p:cNvSpPr/>
              <p:nvPr/>
            </p:nvSpPr>
            <p:spPr>
              <a:xfrm>
                <a:off x="7024680" y="5541840"/>
                <a:ext cx="814320" cy="587520"/>
              </a:xfrm>
              <a:custGeom>
                <a:avLst/>
                <a:gdLst/>
                <a:ahLst/>
                <a:rect l="l" t="t" r="r" b="b"/>
                <a:pathLst>
                  <a:path w="4099" h="2963">
                    <a:moveTo>
                      <a:pt x="581" y="0"/>
                    </a:moveTo>
                    <a:lnTo>
                      <a:pt x="0" y="401"/>
                    </a:lnTo>
                    <a:lnTo>
                      <a:pt x="0" y="2778"/>
                    </a:lnTo>
                    <a:lnTo>
                      <a:pt x="1702" y="2963"/>
                    </a:lnTo>
                    <a:lnTo>
                      <a:pt x="4032" y="2709"/>
                    </a:lnTo>
                    <a:lnTo>
                      <a:pt x="4055" y="2691"/>
                    </a:lnTo>
                    <a:lnTo>
                      <a:pt x="4099" y="2617"/>
                    </a:lnTo>
                    <a:lnTo>
                      <a:pt x="4099" y="18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348680" y="5505480"/>
                <a:ext cx="14040" cy="623880"/>
              </a:xfrm>
              <a:custGeom>
                <a:avLst/>
                <a:gdLst/>
                <a:ahLst/>
                <a:rect l="l" t="t" r="r" b="b"/>
                <a:pathLst>
                  <a:path w="70" h="3147">
                    <a:moveTo>
                      <a:pt x="70" y="0"/>
                    </a:moveTo>
                    <a:lnTo>
                      <a:pt x="0" y="92"/>
                    </a:lnTo>
                    <a:lnTo>
                      <a:pt x="0" y="3035"/>
                    </a:lnTo>
                    <a:lnTo>
                      <a:pt x="70" y="31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729560" y="6089760"/>
                <a:ext cx="190440" cy="166680"/>
              </a:xfrm>
              <a:custGeom>
                <a:avLst/>
                <a:gdLst/>
                <a:ahLst/>
                <a:rect l="l" t="t" r="r" b="b"/>
                <a:pathLst>
                  <a:path w="962" h="840">
                    <a:moveTo>
                      <a:pt x="0" y="0"/>
                    </a:moveTo>
                    <a:lnTo>
                      <a:pt x="962" y="73"/>
                    </a:lnTo>
                    <a:lnTo>
                      <a:pt x="962" y="8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889680" y="6100920"/>
                <a:ext cx="1030320" cy="80640"/>
              </a:xfrm>
              <a:custGeom>
                <a:avLst/>
                <a:gdLst/>
                <a:ahLst/>
                <a:rect l="l" t="t" r="r" b="b"/>
                <a:pathLst>
                  <a:path w="5194" h="407">
                    <a:moveTo>
                      <a:pt x="5194" y="23"/>
                    </a:moveTo>
                    <a:lnTo>
                      <a:pt x="2270" y="407"/>
                    </a:lnTo>
                    <a:lnTo>
                      <a:pt x="0" y="150"/>
                    </a:lnTo>
                    <a:lnTo>
                      <a:pt x="1026"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2" name=""/>
              <p:cNvSpPr/>
              <p:nvPr/>
            </p:nvSpPr>
            <p:spPr>
              <a:xfrm>
                <a:off x="6889680" y="6129360"/>
                <a:ext cx="449280" cy="236520"/>
              </a:xfrm>
              <a:custGeom>
                <a:avLst/>
                <a:gdLst/>
                <a:ahLst/>
                <a:rect l="l" t="t" r="r" b="b"/>
                <a:pathLst>
                  <a:path w="2270" h="1187">
                    <a:moveTo>
                      <a:pt x="0" y="0"/>
                    </a:moveTo>
                    <a:lnTo>
                      <a:pt x="0" y="876"/>
                    </a:lnTo>
                    <a:lnTo>
                      <a:pt x="2270" y="1187"/>
                    </a:lnTo>
                    <a:lnTo>
                      <a:pt x="2270" y="2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H="1">
                <a:off x="7908480" y="6354720"/>
                <a:ext cx="1494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4" name=""/>
              <p:cNvSpPr/>
              <p:nvPr/>
            </p:nvSpPr>
            <p:spPr>
              <a:xfrm>
                <a:off x="7354800" y="6300720"/>
                <a:ext cx="325440" cy="122400"/>
              </a:xfrm>
              <a:custGeom>
                <a:avLst/>
                <a:gdLst/>
                <a:ahLst/>
                <a:rect l="l" t="t" r="r" b="b"/>
                <a:pathLst>
                  <a:path w="1644" h="620">
                    <a:moveTo>
                      <a:pt x="1644" y="567"/>
                    </a:moveTo>
                    <a:lnTo>
                      <a:pt x="1245" y="620"/>
                    </a:lnTo>
                    <a:lnTo>
                      <a:pt x="0" y="183"/>
                    </a:lnTo>
                    <a:lnTo>
                      <a:pt x="13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869240" y="6249960"/>
                <a:ext cx="225360" cy="28440"/>
              </a:xfrm>
              <a:custGeom>
                <a:avLst/>
                <a:gdLst/>
                <a:ahLst/>
                <a:rect l="l" t="t" r="r" b="b"/>
                <a:pathLst>
                  <a:path w="1134" h="143">
                    <a:moveTo>
                      <a:pt x="0" y="73"/>
                    </a:moveTo>
                    <a:lnTo>
                      <a:pt x="620" y="0"/>
                    </a:lnTo>
                    <a:lnTo>
                      <a:pt x="1134" y="143"/>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6" name=""/>
              <p:cNvSpPr/>
              <p:nvPr/>
            </p:nvSpPr>
            <p:spPr>
              <a:xfrm>
                <a:off x="7345440" y="6337440"/>
                <a:ext cx="258840" cy="110880"/>
              </a:xfrm>
              <a:custGeom>
                <a:avLst/>
                <a:gdLst/>
                <a:ahLst/>
                <a:rect l="l" t="t" r="r" b="b"/>
                <a:pathLst>
                  <a:path w="1305" h="567">
                    <a:moveTo>
                      <a:pt x="28" y="0"/>
                    </a:moveTo>
                    <a:lnTo>
                      <a:pt x="0" y="255"/>
                    </a:lnTo>
                    <a:lnTo>
                      <a:pt x="1277" y="567"/>
                    </a:lnTo>
                    <a:lnTo>
                      <a:pt x="1305" y="4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V="1">
                <a:off x="7599240" y="6435360"/>
                <a:ext cx="954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8" name=""/>
              <p:cNvSpPr/>
              <p:nvPr/>
            </p:nvSpPr>
            <p:spPr>
              <a:xfrm>
                <a:off x="6634080" y="6302520"/>
                <a:ext cx="257400" cy="514080"/>
              </a:xfrm>
              <a:custGeom>
                <a:avLst/>
                <a:gdLst/>
                <a:ahLst/>
                <a:rect l="l" t="t" r="r" b="b"/>
                <a:pathLst>
                  <a:path w="1293" h="2592">
                    <a:moveTo>
                      <a:pt x="1293" y="0"/>
                    </a:moveTo>
                    <a:lnTo>
                      <a:pt x="0" y="235"/>
                    </a:lnTo>
                    <a:lnTo>
                      <a:pt x="0" y="25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634080" y="6348240"/>
                <a:ext cx="1085760" cy="144720"/>
              </a:xfrm>
              <a:custGeom>
                <a:avLst/>
                <a:gdLst/>
                <a:ahLst/>
                <a:rect l="l" t="t" r="r" b="b"/>
                <a:pathLst>
                  <a:path w="5474" h="732">
                    <a:moveTo>
                      <a:pt x="0" y="0"/>
                    </a:moveTo>
                    <a:lnTo>
                      <a:pt x="4553" y="732"/>
                    </a:lnTo>
                    <a:lnTo>
                      <a:pt x="5474" y="5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537320" y="6497640"/>
                <a:ext cx="1800" cy="31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007400" y="4794120"/>
                <a:ext cx="23760" cy="24120"/>
              </a:xfrm>
              <a:custGeom>
                <a:avLst/>
                <a:gdLst/>
                <a:ahLst/>
                <a:rect l="l" t="t" r="r" b="b"/>
                <a:pathLst>
                  <a:path w="122" h="119">
                    <a:moveTo>
                      <a:pt x="122" y="57"/>
                    </a:moveTo>
                    <a:lnTo>
                      <a:pt x="117" y="44"/>
                    </a:lnTo>
                    <a:lnTo>
                      <a:pt x="106" y="25"/>
                    </a:lnTo>
                    <a:lnTo>
                      <a:pt x="95" y="13"/>
                    </a:lnTo>
                    <a:lnTo>
                      <a:pt x="76" y="4"/>
                    </a:lnTo>
                    <a:lnTo>
                      <a:pt x="60" y="0"/>
                    </a:lnTo>
                    <a:lnTo>
                      <a:pt x="41" y="4"/>
                    </a:lnTo>
                    <a:lnTo>
                      <a:pt x="25" y="13"/>
                    </a:lnTo>
                    <a:lnTo>
                      <a:pt x="12" y="29"/>
                    </a:lnTo>
                    <a:lnTo>
                      <a:pt x="0" y="44"/>
                    </a:lnTo>
                    <a:lnTo>
                      <a:pt x="0" y="64"/>
                    </a:lnTo>
                    <a:lnTo>
                      <a:pt x="5" y="82"/>
                    </a:lnTo>
                    <a:lnTo>
                      <a:pt x="14" y="99"/>
                    </a:lnTo>
                    <a:lnTo>
                      <a:pt x="27" y="110"/>
                    </a:lnTo>
                    <a:lnTo>
                      <a:pt x="47" y="119"/>
                    </a:lnTo>
                    <a:lnTo>
                      <a:pt x="62" y="119"/>
                    </a:lnTo>
                    <a:lnTo>
                      <a:pt x="83" y="115"/>
                    </a:lnTo>
                    <a:lnTo>
                      <a:pt x="99" y="106"/>
                    </a:lnTo>
                    <a:lnTo>
                      <a:pt x="113" y="92"/>
                    </a:lnTo>
                    <a:lnTo>
                      <a:pt x="120" y="69"/>
                    </a:lnTo>
                    <a:lnTo>
                      <a:pt x="122" y="57"/>
                    </a:lnTo>
                    <a:close/>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32" name=""/>
              <p:cNvSpPr/>
              <p:nvPr/>
            </p:nvSpPr>
            <p:spPr>
              <a:xfrm>
                <a:off x="7369200" y="5527800"/>
                <a:ext cx="449280" cy="579240"/>
              </a:xfrm>
              <a:custGeom>
                <a:avLst/>
                <a:gdLst/>
                <a:ahLst/>
                <a:rect l="l" t="t" r="r" b="b"/>
                <a:pathLst>
                  <a:path w="2269" h="2925">
                    <a:moveTo>
                      <a:pt x="2257" y="1826"/>
                    </a:moveTo>
                    <a:lnTo>
                      <a:pt x="2170" y="1778"/>
                    </a:lnTo>
                    <a:lnTo>
                      <a:pt x="2129" y="1705"/>
                    </a:lnTo>
                    <a:lnTo>
                      <a:pt x="2129" y="1655"/>
                    </a:lnTo>
                    <a:lnTo>
                      <a:pt x="2257" y="1655"/>
                    </a:lnTo>
                    <a:lnTo>
                      <a:pt x="2269" y="1663"/>
                    </a:lnTo>
                    <a:lnTo>
                      <a:pt x="2269" y="0"/>
                    </a:lnTo>
                    <a:lnTo>
                      <a:pt x="0" y="0"/>
                    </a:lnTo>
                    <a:lnTo>
                      <a:pt x="0" y="2910"/>
                    </a:lnTo>
                    <a:lnTo>
                      <a:pt x="26" y="2925"/>
                    </a:lnTo>
                    <a:lnTo>
                      <a:pt x="2269" y="2691"/>
                    </a:lnTo>
                    <a:lnTo>
                      <a:pt x="2269" y="1848"/>
                    </a:lnTo>
                    <a:lnTo>
                      <a:pt x="2257" y="18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435800" y="5559480"/>
                <a:ext cx="331920" cy="485640"/>
              </a:xfrm>
              <a:custGeom>
                <a:avLst/>
                <a:gdLst/>
                <a:ahLst/>
                <a:rect l="l" t="t" r="r" b="b"/>
                <a:pathLst>
                  <a:path w="1679" h="2450">
                    <a:moveTo>
                      <a:pt x="1679" y="1226"/>
                    </a:moveTo>
                    <a:lnTo>
                      <a:pt x="1672" y="1139"/>
                    </a:lnTo>
                    <a:lnTo>
                      <a:pt x="1666" y="1053"/>
                    </a:lnTo>
                    <a:lnTo>
                      <a:pt x="1654" y="970"/>
                    </a:lnTo>
                    <a:lnTo>
                      <a:pt x="1644" y="887"/>
                    </a:lnTo>
                    <a:lnTo>
                      <a:pt x="1622" y="802"/>
                    </a:lnTo>
                    <a:lnTo>
                      <a:pt x="1597" y="723"/>
                    </a:lnTo>
                    <a:lnTo>
                      <a:pt x="1576" y="649"/>
                    </a:lnTo>
                    <a:lnTo>
                      <a:pt x="1547" y="572"/>
                    </a:lnTo>
                    <a:lnTo>
                      <a:pt x="1511" y="500"/>
                    </a:lnTo>
                    <a:lnTo>
                      <a:pt x="1477" y="431"/>
                    </a:lnTo>
                    <a:lnTo>
                      <a:pt x="1439" y="371"/>
                    </a:lnTo>
                    <a:lnTo>
                      <a:pt x="1396" y="308"/>
                    </a:lnTo>
                    <a:lnTo>
                      <a:pt x="1349" y="258"/>
                    </a:lnTo>
                    <a:lnTo>
                      <a:pt x="1303" y="205"/>
                    </a:lnTo>
                    <a:lnTo>
                      <a:pt x="1253" y="159"/>
                    </a:lnTo>
                    <a:lnTo>
                      <a:pt x="1200" y="117"/>
                    </a:lnTo>
                    <a:lnTo>
                      <a:pt x="1145" y="87"/>
                    </a:lnTo>
                    <a:lnTo>
                      <a:pt x="1085" y="55"/>
                    </a:lnTo>
                    <a:lnTo>
                      <a:pt x="1031" y="36"/>
                    </a:lnTo>
                    <a:lnTo>
                      <a:pt x="974" y="20"/>
                    </a:lnTo>
                    <a:lnTo>
                      <a:pt x="914" y="7"/>
                    </a:lnTo>
                    <a:lnTo>
                      <a:pt x="857" y="0"/>
                    </a:lnTo>
                    <a:lnTo>
                      <a:pt x="804" y="4"/>
                    </a:lnTo>
                    <a:lnTo>
                      <a:pt x="741" y="9"/>
                    </a:lnTo>
                    <a:lnTo>
                      <a:pt x="683" y="20"/>
                    </a:lnTo>
                    <a:lnTo>
                      <a:pt x="621" y="40"/>
                    </a:lnTo>
                    <a:lnTo>
                      <a:pt x="566" y="64"/>
                    </a:lnTo>
                    <a:lnTo>
                      <a:pt x="512" y="92"/>
                    </a:lnTo>
                    <a:lnTo>
                      <a:pt x="459" y="130"/>
                    </a:lnTo>
                    <a:lnTo>
                      <a:pt x="404" y="172"/>
                    </a:lnTo>
                    <a:lnTo>
                      <a:pt x="356" y="216"/>
                    </a:lnTo>
                    <a:lnTo>
                      <a:pt x="310" y="273"/>
                    </a:lnTo>
                    <a:lnTo>
                      <a:pt x="266" y="325"/>
                    </a:lnTo>
                    <a:lnTo>
                      <a:pt x="224" y="387"/>
                    </a:lnTo>
                    <a:lnTo>
                      <a:pt x="185" y="451"/>
                    </a:lnTo>
                    <a:lnTo>
                      <a:pt x="151" y="521"/>
                    </a:lnTo>
                    <a:lnTo>
                      <a:pt x="119" y="594"/>
                    </a:lnTo>
                    <a:lnTo>
                      <a:pt x="88" y="671"/>
                    </a:lnTo>
                    <a:lnTo>
                      <a:pt x="63" y="749"/>
                    </a:lnTo>
                    <a:lnTo>
                      <a:pt x="47" y="829"/>
                    </a:lnTo>
                    <a:lnTo>
                      <a:pt x="26" y="908"/>
                    </a:lnTo>
                    <a:lnTo>
                      <a:pt x="15" y="993"/>
                    </a:lnTo>
                    <a:lnTo>
                      <a:pt x="4" y="1079"/>
                    </a:lnTo>
                    <a:lnTo>
                      <a:pt x="0" y="1168"/>
                    </a:lnTo>
                    <a:lnTo>
                      <a:pt x="0" y="1251"/>
                    </a:lnTo>
                    <a:lnTo>
                      <a:pt x="0" y="1339"/>
                    </a:lnTo>
                    <a:lnTo>
                      <a:pt x="4" y="1418"/>
                    </a:lnTo>
                    <a:lnTo>
                      <a:pt x="22" y="1508"/>
                    </a:lnTo>
                    <a:lnTo>
                      <a:pt x="38" y="1590"/>
                    </a:lnTo>
                    <a:lnTo>
                      <a:pt x="57" y="1671"/>
                    </a:lnTo>
                    <a:lnTo>
                      <a:pt x="79" y="1747"/>
                    </a:lnTo>
                    <a:lnTo>
                      <a:pt x="107" y="1826"/>
                    </a:lnTo>
                    <a:lnTo>
                      <a:pt x="139" y="1899"/>
                    </a:lnTo>
                    <a:lnTo>
                      <a:pt x="171" y="1969"/>
                    </a:lnTo>
                    <a:lnTo>
                      <a:pt x="209" y="2035"/>
                    </a:lnTo>
                    <a:lnTo>
                      <a:pt x="246" y="2097"/>
                    </a:lnTo>
                    <a:lnTo>
                      <a:pt x="290" y="2156"/>
                    </a:lnTo>
                    <a:lnTo>
                      <a:pt x="338" y="2206"/>
                    </a:lnTo>
                    <a:lnTo>
                      <a:pt x="389" y="2259"/>
                    </a:lnTo>
                    <a:lnTo>
                      <a:pt x="437" y="2303"/>
                    </a:lnTo>
                    <a:lnTo>
                      <a:pt x="490" y="2339"/>
                    </a:lnTo>
                    <a:lnTo>
                      <a:pt x="545" y="2374"/>
                    </a:lnTo>
                    <a:lnTo>
                      <a:pt x="602" y="2400"/>
                    </a:lnTo>
                    <a:lnTo>
                      <a:pt x="657" y="2422"/>
                    </a:lnTo>
                    <a:lnTo>
                      <a:pt x="716" y="2437"/>
                    </a:lnTo>
                    <a:lnTo>
                      <a:pt x="776" y="2446"/>
                    </a:lnTo>
                    <a:lnTo>
                      <a:pt x="833" y="2450"/>
                    </a:lnTo>
                    <a:lnTo>
                      <a:pt x="894" y="2446"/>
                    </a:lnTo>
                    <a:lnTo>
                      <a:pt x="949" y="2437"/>
                    </a:lnTo>
                    <a:lnTo>
                      <a:pt x="1006" y="2422"/>
                    </a:lnTo>
                    <a:lnTo>
                      <a:pt x="1066" y="2406"/>
                    </a:lnTo>
                    <a:lnTo>
                      <a:pt x="1121" y="2376"/>
                    </a:lnTo>
                    <a:lnTo>
                      <a:pt x="1177" y="2345"/>
                    </a:lnTo>
                    <a:lnTo>
                      <a:pt x="1228" y="2305"/>
                    </a:lnTo>
                    <a:lnTo>
                      <a:pt x="1281" y="2266"/>
                    </a:lnTo>
                    <a:lnTo>
                      <a:pt x="1331" y="2213"/>
                    </a:lnTo>
                    <a:lnTo>
                      <a:pt x="1375" y="2160"/>
                    </a:lnTo>
                    <a:lnTo>
                      <a:pt x="1419" y="2104"/>
                    </a:lnTo>
                    <a:lnTo>
                      <a:pt x="1461" y="2040"/>
                    </a:lnTo>
                    <a:lnTo>
                      <a:pt x="1499" y="1978"/>
                    </a:lnTo>
                    <a:lnTo>
                      <a:pt x="1534" y="1910"/>
                    </a:lnTo>
                    <a:lnTo>
                      <a:pt x="1567" y="1835"/>
                    </a:lnTo>
                    <a:lnTo>
                      <a:pt x="1589" y="1756"/>
                    </a:lnTo>
                    <a:lnTo>
                      <a:pt x="1615" y="1680"/>
                    </a:lnTo>
                    <a:lnTo>
                      <a:pt x="1631" y="1598"/>
                    </a:lnTo>
                    <a:lnTo>
                      <a:pt x="1650" y="1517"/>
                    </a:lnTo>
                    <a:lnTo>
                      <a:pt x="1659" y="1431"/>
                    </a:lnTo>
                    <a:lnTo>
                      <a:pt x="1668" y="1348"/>
                    </a:lnTo>
                    <a:lnTo>
                      <a:pt x="1675" y="1260"/>
                    </a:lnTo>
                    <a:lnTo>
                      <a:pt x="1679" y="12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601040" y="5559480"/>
                <a:ext cx="166680" cy="407880"/>
              </a:xfrm>
              <a:custGeom>
                <a:avLst/>
                <a:gdLst/>
                <a:ahLst/>
                <a:rect l="l" t="t" r="r" b="b"/>
                <a:pathLst>
                  <a:path w="842" h="2056">
                    <a:moveTo>
                      <a:pt x="616" y="2056"/>
                    </a:moveTo>
                    <a:lnTo>
                      <a:pt x="653" y="1994"/>
                    </a:lnTo>
                    <a:lnTo>
                      <a:pt x="686" y="1925"/>
                    </a:lnTo>
                    <a:lnTo>
                      <a:pt x="716" y="1851"/>
                    </a:lnTo>
                    <a:lnTo>
                      <a:pt x="748" y="1776"/>
                    </a:lnTo>
                    <a:lnTo>
                      <a:pt x="771" y="1695"/>
                    </a:lnTo>
                    <a:lnTo>
                      <a:pt x="794" y="1618"/>
                    </a:lnTo>
                    <a:lnTo>
                      <a:pt x="807" y="1535"/>
                    </a:lnTo>
                    <a:lnTo>
                      <a:pt x="822" y="1448"/>
                    </a:lnTo>
                    <a:lnTo>
                      <a:pt x="831" y="1367"/>
                    </a:lnTo>
                    <a:lnTo>
                      <a:pt x="842" y="1280"/>
                    </a:lnTo>
                    <a:lnTo>
                      <a:pt x="842" y="1196"/>
                    </a:lnTo>
                    <a:lnTo>
                      <a:pt x="835" y="1109"/>
                    </a:lnTo>
                    <a:lnTo>
                      <a:pt x="829" y="1024"/>
                    </a:lnTo>
                    <a:lnTo>
                      <a:pt x="817" y="939"/>
                    </a:lnTo>
                    <a:lnTo>
                      <a:pt x="800" y="856"/>
                    </a:lnTo>
                    <a:lnTo>
                      <a:pt x="780" y="777"/>
                    </a:lnTo>
                    <a:lnTo>
                      <a:pt x="760" y="696"/>
                    </a:lnTo>
                    <a:lnTo>
                      <a:pt x="732" y="618"/>
                    </a:lnTo>
                    <a:lnTo>
                      <a:pt x="701" y="546"/>
                    </a:lnTo>
                    <a:lnTo>
                      <a:pt x="667" y="473"/>
                    </a:lnTo>
                    <a:lnTo>
                      <a:pt x="628" y="410"/>
                    </a:lnTo>
                    <a:lnTo>
                      <a:pt x="591" y="348"/>
                    </a:lnTo>
                    <a:lnTo>
                      <a:pt x="545" y="291"/>
                    </a:lnTo>
                    <a:lnTo>
                      <a:pt x="501" y="236"/>
                    </a:lnTo>
                    <a:lnTo>
                      <a:pt x="451" y="189"/>
                    </a:lnTo>
                    <a:lnTo>
                      <a:pt x="400" y="141"/>
                    </a:lnTo>
                    <a:lnTo>
                      <a:pt x="345" y="106"/>
                    </a:lnTo>
                    <a:lnTo>
                      <a:pt x="292" y="78"/>
                    </a:lnTo>
                    <a:lnTo>
                      <a:pt x="236" y="44"/>
                    </a:lnTo>
                    <a:lnTo>
                      <a:pt x="178" y="27"/>
                    </a:lnTo>
                    <a:lnTo>
                      <a:pt x="121" y="12"/>
                    </a:lnTo>
                    <a:lnTo>
                      <a:pt x="63" y="3"/>
                    </a:lnTo>
                    <a:lnTo>
                      <a:pt x="3" y="0"/>
                    </a:lnTo>
                    <a:lnTo>
                      <a:pt x="0" y="0"/>
                    </a:lnTo>
                    <a:lnTo>
                      <a:pt x="0" y="1225"/>
                    </a:lnTo>
                    <a:lnTo>
                      <a:pt x="616" y="205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550280" y="5802480"/>
                <a:ext cx="172800" cy="242640"/>
              </a:xfrm>
              <a:custGeom>
                <a:avLst/>
                <a:gdLst/>
                <a:ahLst/>
                <a:rect l="l" t="t" r="r" b="b"/>
                <a:pathLst>
                  <a:path w="873" h="1219">
                    <a:moveTo>
                      <a:pt x="0" y="1164"/>
                    </a:moveTo>
                    <a:lnTo>
                      <a:pt x="59" y="1184"/>
                    </a:lnTo>
                    <a:lnTo>
                      <a:pt x="117" y="1202"/>
                    </a:lnTo>
                    <a:lnTo>
                      <a:pt x="175" y="1212"/>
                    </a:lnTo>
                    <a:lnTo>
                      <a:pt x="237" y="1219"/>
                    </a:lnTo>
                    <a:lnTo>
                      <a:pt x="297" y="1217"/>
                    </a:lnTo>
                    <a:lnTo>
                      <a:pt x="354" y="1210"/>
                    </a:lnTo>
                    <a:lnTo>
                      <a:pt x="411" y="1198"/>
                    </a:lnTo>
                    <a:lnTo>
                      <a:pt x="468" y="1177"/>
                    </a:lnTo>
                    <a:lnTo>
                      <a:pt x="528" y="1154"/>
                    </a:lnTo>
                    <a:lnTo>
                      <a:pt x="583" y="1122"/>
                    </a:lnTo>
                    <a:lnTo>
                      <a:pt x="636" y="1085"/>
                    </a:lnTo>
                    <a:lnTo>
                      <a:pt x="688" y="1041"/>
                    </a:lnTo>
                    <a:lnTo>
                      <a:pt x="738" y="995"/>
                    </a:lnTo>
                    <a:lnTo>
                      <a:pt x="786" y="945"/>
                    </a:lnTo>
                    <a:lnTo>
                      <a:pt x="832" y="889"/>
                    </a:lnTo>
                    <a:lnTo>
                      <a:pt x="873" y="831"/>
                    </a:lnTo>
                    <a:lnTo>
                      <a:pt x="257" y="0"/>
                    </a:lnTo>
                    <a:lnTo>
                      <a:pt x="0" y="11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480440" y="5802480"/>
                <a:ext cx="120600" cy="231480"/>
              </a:xfrm>
              <a:custGeom>
                <a:avLst/>
                <a:gdLst/>
                <a:ahLst/>
                <a:rect l="l" t="t" r="r" b="b"/>
                <a:pathLst>
                  <a:path w="608" h="1164">
                    <a:moveTo>
                      <a:pt x="0" y="837"/>
                    </a:moveTo>
                    <a:lnTo>
                      <a:pt x="41" y="896"/>
                    </a:lnTo>
                    <a:lnTo>
                      <a:pt x="90" y="956"/>
                    </a:lnTo>
                    <a:lnTo>
                      <a:pt x="140" y="1004"/>
                    </a:lnTo>
                    <a:lnTo>
                      <a:pt x="189" y="1050"/>
                    </a:lnTo>
                    <a:lnTo>
                      <a:pt x="245" y="1099"/>
                    </a:lnTo>
                    <a:lnTo>
                      <a:pt x="298" y="1131"/>
                    </a:lnTo>
                    <a:lnTo>
                      <a:pt x="351" y="1164"/>
                    </a:lnTo>
                    <a:lnTo>
                      <a:pt x="608" y="0"/>
                    </a:lnTo>
                    <a:lnTo>
                      <a:pt x="0" y="83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435800" y="5727600"/>
                <a:ext cx="165240" cy="241560"/>
              </a:xfrm>
              <a:custGeom>
                <a:avLst/>
                <a:gdLst/>
                <a:ahLst/>
                <a:rect l="l" t="t" r="r" b="b"/>
                <a:pathLst>
                  <a:path w="837" h="1220">
                    <a:moveTo>
                      <a:pt x="40" y="0"/>
                    </a:moveTo>
                    <a:lnTo>
                      <a:pt x="24" y="87"/>
                    </a:lnTo>
                    <a:lnTo>
                      <a:pt x="15" y="172"/>
                    </a:lnTo>
                    <a:lnTo>
                      <a:pt x="4" y="258"/>
                    </a:lnTo>
                    <a:lnTo>
                      <a:pt x="0" y="345"/>
                    </a:lnTo>
                    <a:lnTo>
                      <a:pt x="0" y="433"/>
                    </a:lnTo>
                    <a:lnTo>
                      <a:pt x="4" y="516"/>
                    </a:lnTo>
                    <a:lnTo>
                      <a:pt x="15" y="606"/>
                    </a:lnTo>
                    <a:lnTo>
                      <a:pt x="31" y="691"/>
                    </a:lnTo>
                    <a:lnTo>
                      <a:pt x="47" y="772"/>
                    </a:lnTo>
                    <a:lnTo>
                      <a:pt x="63" y="853"/>
                    </a:lnTo>
                    <a:lnTo>
                      <a:pt x="90" y="936"/>
                    </a:lnTo>
                    <a:lnTo>
                      <a:pt x="123" y="1009"/>
                    </a:lnTo>
                    <a:lnTo>
                      <a:pt x="151" y="1083"/>
                    </a:lnTo>
                    <a:lnTo>
                      <a:pt x="185" y="1154"/>
                    </a:lnTo>
                    <a:lnTo>
                      <a:pt x="224" y="1220"/>
                    </a:lnTo>
                    <a:lnTo>
                      <a:pt x="229" y="1220"/>
                    </a:lnTo>
                    <a:lnTo>
                      <a:pt x="837" y="383"/>
                    </a:lnTo>
                    <a:lnTo>
                      <a:pt x="4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
            <p:cNvGrpSpPr/>
            <p:nvPr/>
          </p:nvGrpSpPr>
          <p:grpSpPr>
            <a:xfrm>
              <a:off x="4135320" y="635040"/>
              <a:ext cx="3318120" cy="1898640"/>
              <a:chOff x="4135320" y="635040"/>
              <a:chExt cx="3318120" cy="1898640"/>
            </a:xfrm>
          </p:grpSpPr>
          <p:sp>
            <p:nvSpPr>
              <p:cNvPr id="639" name=""/>
              <p:cNvSpPr/>
              <p:nvPr/>
            </p:nvSpPr>
            <p:spPr>
              <a:xfrm>
                <a:off x="5557680" y="2119320"/>
                <a:ext cx="936720" cy="355680"/>
              </a:xfrm>
              <a:custGeom>
                <a:avLst/>
                <a:gdLst/>
                <a:ahLst/>
                <a:rect l="l" t="t" r="r" b="b"/>
                <a:pathLst>
                  <a:path w="4719" h="1793">
                    <a:moveTo>
                      <a:pt x="0" y="1092"/>
                    </a:moveTo>
                    <a:lnTo>
                      <a:pt x="1754" y="0"/>
                    </a:lnTo>
                    <a:lnTo>
                      <a:pt x="4719" y="540"/>
                    </a:lnTo>
                    <a:lnTo>
                      <a:pt x="3152" y="1793"/>
                    </a:lnTo>
                    <a:lnTo>
                      <a:pt x="0" y="1092"/>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648480" y="1547640"/>
                <a:ext cx="723960" cy="828720"/>
              </a:xfrm>
              <a:custGeom>
                <a:avLst/>
                <a:gdLst/>
                <a:ahLst/>
                <a:rect l="l" t="t" r="r" b="b"/>
                <a:pathLst>
                  <a:path w="3652" h="4180">
                    <a:moveTo>
                      <a:pt x="0" y="3426"/>
                    </a:moveTo>
                    <a:lnTo>
                      <a:pt x="336" y="3237"/>
                    </a:lnTo>
                    <a:lnTo>
                      <a:pt x="811" y="2928"/>
                    </a:lnTo>
                    <a:lnTo>
                      <a:pt x="1169" y="2730"/>
                    </a:lnTo>
                    <a:lnTo>
                      <a:pt x="1246" y="1547"/>
                    </a:lnTo>
                    <a:lnTo>
                      <a:pt x="1387" y="1005"/>
                    </a:lnTo>
                    <a:lnTo>
                      <a:pt x="2134" y="0"/>
                    </a:lnTo>
                    <a:lnTo>
                      <a:pt x="2758" y="173"/>
                    </a:lnTo>
                    <a:lnTo>
                      <a:pt x="3057" y="297"/>
                    </a:lnTo>
                    <a:lnTo>
                      <a:pt x="3331" y="470"/>
                    </a:lnTo>
                    <a:lnTo>
                      <a:pt x="3505" y="668"/>
                    </a:lnTo>
                    <a:lnTo>
                      <a:pt x="3568" y="805"/>
                    </a:lnTo>
                    <a:lnTo>
                      <a:pt x="3652" y="1485"/>
                    </a:lnTo>
                    <a:lnTo>
                      <a:pt x="3220" y="2817"/>
                    </a:lnTo>
                    <a:lnTo>
                      <a:pt x="2008" y="3597"/>
                    </a:lnTo>
                    <a:lnTo>
                      <a:pt x="1448" y="3922"/>
                    </a:lnTo>
                    <a:lnTo>
                      <a:pt x="589" y="4180"/>
                    </a:lnTo>
                    <a:lnTo>
                      <a:pt x="87" y="3659"/>
                    </a:lnTo>
                    <a:lnTo>
                      <a:pt x="0" y="3426"/>
                    </a:lnTo>
                    <a:close/>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232680" y="2166840"/>
                <a:ext cx="407880" cy="308160"/>
              </a:xfrm>
              <a:custGeom>
                <a:avLst/>
                <a:gdLst/>
                <a:ahLst/>
                <a:rect l="l" t="t" r="r" b="b"/>
                <a:pathLst>
                  <a:path w="2062" h="1554">
                    <a:moveTo>
                      <a:pt x="796" y="0"/>
                    </a:moveTo>
                    <a:lnTo>
                      <a:pt x="780" y="8"/>
                    </a:lnTo>
                    <a:lnTo>
                      <a:pt x="807" y="136"/>
                    </a:lnTo>
                    <a:lnTo>
                      <a:pt x="858" y="230"/>
                    </a:lnTo>
                    <a:lnTo>
                      <a:pt x="906" y="293"/>
                    </a:lnTo>
                    <a:lnTo>
                      <a:pt x="952" y="327"/>
                    </a:lnTo>
                    <a:lnTo>
                      <a:pt x="1093" y="342"/>
                    </a:lnTo>
                    <a:lnTo>
                      <a:pt x="1117" y="373"/>
                    </a:lnTo>
                    <a:lnTo>
                      <a:pt x="1144" y="413"/>
                    </a:lnTo>
                    <a:lnTo>
                      <a:pt x="994" y="487"/>
                    </a:lnTo>
                    <a:lnTo>
                      <a:pt x="858" y="542"/>
                    </a:lnTo>
                    <a:lnTo>
                      <a:pt x="614" y="597"/>
                    </a:lnTo>
                    <a:lnTo>
                      <a:pt x="187" y="678"/>
                    </a:lnTo>
                    <a:lnTo>
                      <a:pt x="93" y="720"/>
                    </a:lnTo>
                    <a:lnTo>
                      <a:pt x="86" y="762"/>
                    </a:lnTo>
                    <a:lnTo>
                      <a:pt x="108" y="771"/>
                    </a:lnTo>
                    <a:lnTo>
                      <a:pt x="868" y="733"/>
                    </a:lnTo>
                    <a:lnTo>
                      <a:pt x="614" y="844"/>
                    </a:lnTo>
                    <a:lnTo>
                      <a:pt x="471" y="879"/>
                    </a:lnTo>
                    <a:lnTo>
                      <a:pt x="157" y="929"/>
                    </a:lnTo>
                    <a:lnTo>
                      <a:pt x="68" y="964"/>
                    </a:lnTo>
                    <a:lnTo>
                      <a:pt x="0" y="1012"/>
                    </a:lnTo>
                    <a:lnTo>
                      <a:pt x="0" y="1021"/>
                    </a:lnTo>
                    <a:lnTo>
                      <a:pt x="65" y="1077"/>
                    </a:lnTo>
                    <a:lnTo>
                      <a:pt x="948" y="943"/>
                    </a:lnTo>
                    <a:lnTo>
                      <a:pt x="906" y="1012"/>
                    </a:lnTo>
                    <a:lnTo>
                      <a:pt x="734" y="1105"/>
                    </a:lnTo>
                    <a:lnTo>
                      <a:pt x="528" y="1199"/>
                    </a:lnTo>
                    <a:lnTo>
                      <a:pt x="273" y="1287"/>
                    </a:lnTo>
                    <a:lnTo>
                      <a:pt x="259" y="1307"/>
                    </a:lnTo>
                    <a:lnTo>
                      <a:pt x="261" y="1342"/>
                    </a:lnTo>
                    <a:lnTo>
                      <a:pt x="295" y="1370"/>
                    </a:lnTo>
                    <a:lnTo>
                      <a:pt x="363" y="1370"/>
                    </a:lnTo>
                    <a:lnTo>
                      <a:pt x="491" y="1342"/>
                    </a:lnTo>
                    <a:lnTo>
                      <a:pt x="796" y="1241"/>
                    </a:lnTo>
                    <a:lnTo>
                      <a:pt x="994" y="1186"/>
                    </a:lnTo>
                    <a:lnTo>
                      <a:pt x="1117" y="1176"/>
                    </a:lnTo>
                    <a:lnTo>
                      <a:pt x="1105" y="1192"/>
                    </a:lnTo>
                    <a:lnTo>
                      <a:pt x="1011" y="1331"/>
                    </a:lnTo>
                    <a:lnTo>
                      <a:pt x="923" y="1423"/>
                    </a:lnTo>
                    <a:lnTo>
                      <a:pt x="662" y="1520"/>
                    </a:lnTo>
                    <a:lnTo>
                      <a:pt x="664" y="1536"/>
                    </a:lnTo>
                    <a:lnTo>
                      <a:pt x="710" y="1554"/>
                    </a:lnTo>
                    <a:lnTo>
                      <a:pt x="868" y="1522"/>
                    </a:lnTo>
                    <a:lnTo>
                      <a:pt x="1093" y="1467"/>
                    </a:lnTo>
                    <a:lnTo>
                      <a:pt x="1148" y="1437"/>
                    </a:lnTo>
                    <a:lnTo>
                      <a:pt x="1244" y="1316"/>
                    </a:lnTo>
                    <a:lnTo>
                      <a:pt x="1529" y="1186"/>
                    </a:lnTo>
                    <a:lnTo>
                      <a:pt x="1708" y="1087"/>
                    </a:lnTo>
                    <a:lnTo>
                      <a:pt x="1849" y="1028"/>
                    </a:lnTo>
                    <a:lnTo>
                      <a:pt x="1974" y="997"/>
                    </a:lnTo>
                    <a:lnTo>
                      <a:pt x="2062" y="975"/>
                    </a:lnTo>
                    <a:lnTo>
                      <a:pt x="2062" y="929"/>
                    </a:lnTo>
                    <a:lnTo>
                      <a:pt x="2022" y="771"/>
                    </a:lnTo>
                    <a:lnTo>
                      <a:pt x="1997" y="661"/>
                    </a:lnTo>
                    <a:lnTo>
                      <a:pt x="1849" y="501"/>
                    </a:lnTo>
                    <a:lnTo>
                      <a:pt x="1677" y="402"/>
                    </a:lnTo>
                    <a:lnTo>
                      <a:pt x="1486" y="286"/>
                    </a:lnTo>
                    <a:lnTo>
                      <a:pt x="1266" y="194"/>
                    </a:lnTo>
                    <a:lnTo>
                      <a:pt x="1097" y="184"/>
                    </a:lnTo>
                    <a:lnTo>
                      <a:pt x="957" y="153"/>
                    </a:lnTo>
                    <a:lnTo>
                      <a:pt x="881" y="92"/>
                    </a:lnTo>
                    <a:lnTo>
                      <a:pt x="796"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591240" y="2232000"/>
                <a:ext cx="171360" cy="150840"/>
              </a:xfrm>
              <a:custGeom>
                <a:avLst/>
                <a:gdLst/>
                <a:ahLst/>
                <a:rect l="l" t="t" r="r" b="b"/>
                <a:pathLst>
                  <a:path w="864" h="764">
                    <a:moveTo>
                      <a:pt x="357" y="0"/>
                    </a:moveTo>
                    <a:lnTo>
                      <a:pt x="477" y="70"/>
                    </a:lnTo>
                    <a:lnTo>
                      <a:pt x="640" y="211"/>
                    </a:lnTo>
                    <a:lnTo>
                      <a:pt x="754" y="321"/>
                    </a:lnTo>
                    <a:lnTo>
                      <a:pt x="841" y="444"/>
                    </a:lnTo>
                    <a:lnTo>
                      <a:pt x="864" y="527"/>
                    </a:lnTo>
                    <a:lnTo>
                      <a:pt x="864" y="602"/>
                    </a:lnTo>
                    <a:lnTo>
                      <a:pt x="850" y="663"/>
                    </a:lnTo>
                    <a:lnTo>
                      <a:pt x="249" y="764"/>
                    </a:lnTo>
                    <a:lnTo>
                      <a:pt x="244" y="624"/>
                    </a:lnTo>
                    <a:lnTo>
                      <a:pt x="225" y="464"/>
                    </a:lnTo>
                    <a:lnTo>
                      <a:pt x="184" y="345"/>
                    </a:lnTo>
                    <a:lnTo>
                      <a:pt x="0" y="112"/>
                    </a:lnTo>
                    <a:lnTo>
                      <a:pt x="3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6791400" y="1512720"/>
                <a:ext cx="225360" cy="608040"/>
              </a:xfrm>
              <a:custGeom>
                <a:avLst/>
                <a:gdLst/>
                <a:ahLst/>
                <a:rect l="l" t="t" r="r" b="b"/>
                <a:pathLst>
                  <a:path w="1136" h="3065">
                    <a:moveTo>
                      <a:pt x="1063" y="0"/>
                    </a:moveTo>
                    <a:lnTo>
                      <a:pt x="1136" y="102"/>
                    </a:lnTo>
                    <a:lnTo>
                      <a:pt x="1044" y="516"/>
                    </a:lnTo>
                    <a:lnTo>
                      <a:pt x="710" y="1153"/>
                    </a:lnTo>
                    <a:lnTo>
                      <a:pt x="629" y="1377"/>
                    </a:lnTo>
                    <a:lnTo>
                      <a:pt x="560" y="1644"/>
                    </a:lnTo>
                    <a:lnTo>
                      <a:pt x="525" y="1868"/>
                    </a:lnTo>
                    <a:lnTo>
                      <a:pt x="537" y="2091"/>
                    </a:lnTo>
                    <a:lnTo>
                      <a:pt x="571" y="2370"/>
                    </a:lnTo>
                    <a:lnTo>
                      <a:pt x="629" y="2829"/>
                    </a:lnTo>
                    <a:lnTo>
                      <a:pt x="177" y="3065"/>
                    </a:lnTo>
                    <a:lnTo>
                      <a:pt x="122" y="2404"/>
                    </a:lnTo>
                    <a:lnTo>
                      <a:pt x="134" y="1935"/>
                    </a:lnTo>
                    <a:lnTo>
                      <a:pt x="177" y="1676"/>
                    </a:lnTo>
                    <a:lnTo>
                      <a:pt x="210" y="1443"/>
                    </a:lnTo>
                    <a:lnTo>
                      <a:pt x="0" y="715"/>
                    </a:lnTo>
                    <a:lnTo>
                      <a:pt x="617" y="138"/>
                    </a:lnTo>
                    <a:lnTo>
                      <a:pt x="10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656400" y="1278000"/>
                <a:ext cx="355680" cy="384120"/>
              </a:xfrm>
              <a:custGeom>
                <a:avLst/>
                <a:gdLst/>
                <a:ahLst/>
                <a:rect l="l" t="t" r="r" b="b"/>
                <a:pathLst>
                  <a:path w="1786" h="1939">
                    <a:moveTo>
                      <a:pt x="68" y="136"/>
                    </a:moveTo>
                    <a:lnTo>
                      <a:pt x="0" y="741"/>
                    </a:lnTo>
                    <a:lnTo>
                      <a:pt x="68" y="899"/>
                    </a:lnTo>
                    <a:lnTo>
                      <a:pt x="68" y="960"/>
                    </a:lnTo>
                    <a:lnTo>
                      <a:pt x="68" y="1066"/>
                    </a:lnTo>
                    <a:lnTo>
                      <a:pt x="43" y="1165"/>
                    </a:lnTo>
                    <a:lnTo>
                      <a:pt x="87" y="1287"/>
                    </a:lnTo>
                    <a:lnTo>
                      <a:pt x="202" y="1432"/>
                    </a:lnTo>
                    <a:lnTo>
                      <a:pt x="244" y="1512"/>
                    </a:lnTo>
                    <a:lnTo>
                      <a:pt x="327" y="1655"/>
                    </a:lnTo>
                    <a:lnTo>
                      <a:pt x="391" y="1884"/>
                    </a:lnTo>
                    <a:lnTo>
                      <a:pt x="448" y="1939"/>
                    </a:lnTo>
                    <a:lnTo>
                      <a:pt x="596" y="1939"/>
                    </a:lnTo>
                    <a:lnTo>
                      <a:pt x="833" y="1900"/>
                    </a:lnTo>
                    <a:lnTo>
                      <a:pt x="991" y="1866"/>
                    </a:lnTo>
                    <a:lnTo>
                      <a:pt x="1178" y="1923"/>
                    </a:lnTo>
                    <a:lnTo>
                      <a:pt x="1311" y="1859"/>
                    </a:lnTo>
                    <a:lnTo>
                      <a:pt x="1448" y="1701"/>
                    </a:lnTo>
                    <a:lnTo>
                      <a:pt x="1639" y="1512"/>
                    </a:lnTo>
                    <a:lnTo>
                      <a:pt x="1696" y="1398"/>
                    </a:lnTo>
                    <a:lnTo>
                      <a:pt x="1728" y="1277"/>
                    </a:lnTo>
                    <a:lnTo>
                      <a:pt x="1719" y="1121"/>
                    </a:lnTo>
                    <a:lnTo>
                      <a:pt x="1705" y="918"/>
                    </a:lnTo>
                    <a:lnTo>
                      <a:pt x="1749" y="828"/>
                    </a:lnTo>
                    <a:lnTo>
                      <a:pt x="1786" y="639"/>
                    </a:lnTo>
                    <a:lnTo>
                      <a:pt x="1774" y="563"/>
                    </a:lnTo>
                    <a:lnTo>
                      <a:pt x="1719" y="517"/>
                    </a:lnTo>
                    <a:lnTo>
                      <a:pt x="741" y="0"/>
                    </a:lnTo>
                    <a:lnTo>
                      <a:pt x="573" y="0"/>
                    </a:lnTo>
                    <a:lnTo>
                      <a:pt x="169" y="123"/>
                    </a:lnTo>
                    <a:lnTo>
                      <a:pt x="68" y="136"/>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818400" y="1695600"/>
                <a:ext cx="96840" cy="423720"/>
              </a:xfrm>
              <a:custGeom>
                <a:avLst/>
                <a:gdLst/>
                <a:ahLst/>
                <a:rect l="l" t="t" r="r" b="b"/>
                <a:pathLst>
                  <a:path w="495" h="2134">
                    <a:moveTo>
                      <a:pt x="221" y="0"/>
                    </a:moveTo>
                    <a:lnTo>
                      <a:pt x="158" y="99"/>
                    </a:lnTo>
                    <a:lnTo>
                      <a:pt x="133" y="224"/>
                    </a:lnTo>
                    <a:lnTo>
                      <a:pt x="133" y="325"/>
                    </a:lnTo>
                    <a:lnTo>
                      <a:pt x="142" y="389"/>
                    </a:lnTo>
                    <a:lnTo>
                      <a:pt x="68" y="602"/>
                    </a:lnTo>
                    <a:lnTo>
                      <a:pt x="24" y="795"/>
                    </a:lnTo>
                    <a:lnTo>
                      <a:pt x="0" y="1127"/>
                    </a:lnTo>
                    <a:lnTo>
                      <a:pt x="0" y="1418"/>
                    </a:lnTo>
                    <a:lnTo>
                      <a:pt x="11" y="1699"/>
                    </a:lnTo>
                    <a:lnTo>
                      <a:pt x="68" y="2134"/>
                    </a:lnTo>
                    <a:lnTo>
                      <a:pt x="495" y="1911"/>
                    </a:lnTo>
                    <a:lnTo>
                      <a:pt x="426" y="1409"/>
                    </a:lnTo>
                    <a:lnTo>
                      <a:pt x="403" y="1072"/>
                    </a:lnTo>
                    <a:lnTo>
                      <a:pt x="369" y="682"/>
                    </a:lnTo>
                    <a:lnTo>
                      <a:pt x="357" y="512"/>
                    </a:lnTo>
                    <a:lnTo>
                      <a:pt x="313" y="350"/>
                    </a:lnTo>
                    <a:lnTo>
                      <a:pt x="235" y="124"/>
                    </a:lnTo>
                    <a:lnTo>
                      <a:pt x="221" y="0"/>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719760" y="1573200"/>
                <a:ext cx="63720" cy="22320"/>
              </a:xfrm>
              <a:custGeom>
                <a:avLst/>
                <a:gdLst/>
                <a:ahLst/>
                <a:rect l="l" t="t" r="r" b="b"/>
                <a:pathLst>
                  <a:path w="316" h="112">
                    <a:moveTo>
                      <a:pt x="0" y="24"/>
                    </a:moveTo>
                    <a:lnTo>
                      <a:pt x="50" y="24"/>
                    </a:lnTo>
                    <a:lnTo>
                      <a:pt x="113" y="13"/>
                    </a:lnTo>
                    <a:lnTo>
                      <a:pt x="316" y="0"/>
                    </a:lnTo>
                    <a:lnTo>
                      <a:pt x="305" y="43"/>
                    </a:lnTo>
                    <a:lnTo>
                      <a:pt x="184" y="112"/>
                    </a:lnTo>
                    <a:lnTo>
                      <a:pt x="61" y="112"/>
                    </a:lnTo>
                    <a:lnTo>
                      <a:pt x="0" y="24"/>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7" name=""/>
              <p:cNvSpPr/>
              <p:nvPr/>
            </p:nvSpPr>
            <p:spPr>
              <a:xfrm>
                <a:off x="5883120" y="1494000"/>
                <a:ext cx="762120" cy="660240"/>
              </a:xfrm>
              <a:custGeom>
                <a:avLst/>
                <a:gdLst/>
                <a:ahLst/>
                <a:rect l="l" t="t" r="r" b="b"/>
                <a:pathLst>
                  <a:path w="3840" h="3333">
                    <a:moveTo>
                      <a:pt x="3670" y="3333"/>
                    </a:moveTo>
                    <a:lnTo>
                      <a:pt x="3840" y="1946"/>
                    </a:lnTo>
                    <a:lnTo>
                      <a:pt x="3785" y="1118"/>
                    </a:lnTo>
                    <a:lnTo>
                      <a:pt x="3659" y="707"/>
                    </a:lnTo>
                    <a:lnTo>
                      <a:pt x="3635" y="463"/>
                    </a:lnTo>
                    <a:lnTo>
                      <a:pt x="3197" y="300"/>
                    </a:lnTo>
                    <a:lnTo>
                      <a:pt x="2674" y="168"/>
                    </a:lnTo>
                    <a:lnTo>
                      <a:pt x="2358" y="0"/>
                    </a:lnTo>
                    <a:lnTo>
                      <a:pt x="1281" y="159"/>
                    </a:lnTo>
                    <a:lnTo>
                      <a:pt x="938" y="300"/>
                    </a:lnTo>
                    <a:lnTo>
                      <a:pt x="581" y="391"/>
                    </a:lnTo>
                    <a:lnTo>
                      <a:pt x="558" y="463"/>
                    </a:lnTo>
                    <a:lnTo>
                      <a:pt x="581" y="816"/>
                    </a:lnTo>
                    <a:lnTo>
                      <a:pt x="539" y="1019"/>
                    </a:lnTo>
                    <a:lnTo>
                      <a:pt x="516" y="1164"/>
                    </a:lnTo>
                    <a:lnTo>
                      <a:pt x="539" y="1261"/>
                    </a:lnTo>
                    <a:lnTo>
                      <a:pt x="581" y="1355"/>
                    </a:lnTo>
                    <a:lnTo>
                      <a:pt x="525" y="1509"/>
                    </a:lnTo>
                    <a:lnTo>
                      <a:pt x="539" y="1646"/>
                    </a:lnTo>
                    <a:lnTo>
                      <a:pt x="412" y="1892"/>
                    </a:lnTo>
                    <a:lnTo>
                      <a:pt x="315" y="2146"/>
                    </a:lnTo>
                    <a:lnTo>
                      <a:pt x="189" y="2259"/>
                    </a:lnTo>
                    <a:lnTo>
                      <a:pt x="0" y="2672"/>
                    </a:lnTo>
                    <a:lnTo>
                      <a:pt x="3670" y="3333"/>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265800" y="1612800"/>
                <a:ext cx="568440" cy="425520"/>
              </a:xfrm>
              <a:custGeom>
                <a:avLst/>
                <a:gdLst/>
                <a:ahLst/>
                <a:rect l="l" t="t" r="r" b="b"/>
                <a:pathLst>
                  <a:path w="2866" h="2144">
                    <a:moveTo>
                      <a:pt x="2704" y="222"/>
                    </a:moveTo>
                    <a:lnTo>
                      <a:pt x="2719" y="325"/>
                    </a:lnTo>
                    <a:lnTo>
                      <a:pt x="2743" y="413"/>
                    </a:lnTo>
                    <a:lnTo>
                      <a:pt x="2796" y="537"/>
                    </a:lnTo>
                    <a:lnTo>
                      <a:pt x="2820" y="678"/>
                    </a:lnTo>
                    <a:lnTo>
                      <a:pt x="2842" y="848"/>
                    </a:lnTo>
                    <a:lnTo>
                      <a:pt x="2866" y="959"/>
                    </a:lnTo>
                    <a:lnTo>
                      <a:pt x="2808" y="1151"/>
                    </a:lnTo>
                    <a:lnTo>
                      <a:pt x="2787" y="1376"/>
                    </a:lnTo>
                    <a:lnTo>
                      <a:pt x="2774" y="1609"/>
                    </a:lnTo>
                    <a:lnTo>
                      <a:pt x="2517" y="2002"/>
                    </a:lnTo>
                    <a:lnTo>
                      <a:pt x="2102" y="1756"/>
                    </a:lnTo>
                    <a:lnTo>
                      <a:pt x="47" y="2144"/>
                    </a:lnTo>
                    <a:lnTo>
                      <a:pt x="0" y="1653"/>
                    </a:lnTo>
                    <a:lnTo>
                      <a:pt x="493" y="1439"/>
                    </a:lnTo>
                    <a:lnTo>
                      <a:pt x="1462" y="971"/>
                    </a:lnTo>
                    <a:lnTo>
                      <a:pt x="1482" y="749"/>
                    </a:lnTo>
                    <a:lnTo>
                      <a:pt x="1720" y="615"/>
                    </a:lnTo>
                    <a:lnTo>
                      <a:pt x="1934" y="233"/>
                    </a:lnTo>
                    <a:lnTo>
                      <a:pt x="2066" y="101"/>
                    </a:lnTo>
                    <a:lnTo>
                      <a:pt x="2289" y="0"/>
                    </a:lnTo>
                    <a:lnTo>
                      <a:pt x="2383" y="194"/>
                    </a:lnTo>
                    <a:lnTo>
                      <a:pt x="2460" y="249"/>
                    </a:lnTo>
                    <a:lnTo>
                      <a:pt x="2651" y="249"/>
                    </a:lnTo>
                    <a:lnTo>
                      <a:pt x="2704" y="222"/>
                    </a:lnTo>
                    <a:close/>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216480" y="1946160"/>
                <a:ext cx="109800" cy="142920"/>
              </a:xfrm>
              <a:custGeom>
                <a:avLst/>
                <a:gdLst/>
                <a:ahLst/>
                <a:rect l="l" t="t" r="r" b="b"/>
                <a:pathLst>
                  <a:path w="551" h="726">
                    <a:moveTo>
                      <a:pt x="261" y="0"/>
                    </a:moveTo>
                    <a:lnTo>
                      <a:pt x="0" y="82"/>
                    </a:lnTo>
                    <a:lnTo>
                      <a:pt x="283" y="726"/>
                    </a:lnTo>
                    <a:lnTo>
                      <a:pt x="459" y="717"/>
                    </a:lnTo>
                    <a:lnTo>
                      <a:pt x="517" y="671"/>
                    </a:lnTo>
                    <a:lnTo>
                      <a:pt x="551" y="560"/>
                    </a:lnTo>
                    <a:lnTo>
                      <a:pt x="551" y="380"/>
                    </a:lnTo>
                    <a:lnTo>
                      <a:pt x="517" y="225"/>
                    </a:lnTo>
                    <a:lnTo>
                      <a:pt x="448" y="104"/>
                    </a:lnTo>
                    <a:lnTo>
                      <a:pt x="369" y="37"/>
                    </a:lnTo>
                    <a:lnTo>
                      <a:pt x="2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996160" y="1967040"/>
                <a:ext cx="277560" cy="204840"/>
              </a:xfrm>
              <a:custGeom>
                <a:avLst/>
                <a:gdLst/>
                <a:ahLst/>
                <a:rect l="l" t="t" r="r" b="b"/>
                <a:pathLst>
                  <a:path w="1395" h="1031">
                    <a:moveTo>
                      <a:pt x="57" y="662"/>
                    </a:moveTo>
                    <a:lnTo>
                      <a:pt x="0" y="295"/>
                    </a:lnTo>
                    <a:lnTo>
                      <a:pt x="514" y="115"/>
                    </a:lnTo>
                    <a:lnTo>
                      <a:pt x="1032" y="0"/>
                    </a:lnTo>
                    <a:lnTo>
                      <a:pt x="1147" y="16"/>
                    </a:lnTo>
                    <a:lnTo>
                      <a:pt x="1267" y="81"/>
                    </a:lnTo>
                    <a:lnTo>
                      <a:pt x="1347" y="203"/>
                    </a:lnTo>
                    <a:lnTo>
                      <a:pt x="1395" y="339"/>
                    </a:lnTo>
                    <a:lnTo>
                      <a:pt x="1380" y="385"/>
                    </a:lnTo>
                    <a:lnTo>
                      <a:pt x="1256" y="450"/>
                    </a:lnTo>
                    <a:lnTo>
                      <a:pt x="1156" y="632"/>
                    </a:lnTo>
                    <a:lnTo>
                      <a:pt x="1147" y="692"/>
                    </a:lnTo>
                    <a:lnTo>
                      <a:pt x="751" y="918"/>
                    </a:lnTo>
                    <a:lnTo>
                      <a:pt x="751" y="853"/>
                    </a:lnTo>
                    <a:lnTo>
                      <a:pt x="786" y="706"/>
                    </a:lnTo>
                    <a:lnTo>
                      <a:pt x="931" y="607"/>
                    </a:lnTo>
                    <a:lnTo>
                      <a:pt x="905" y="506"/>
                    </a:lnTo>
                    <a:lnTo>
                      <a:pt x="631" y="462"/>
                    </a:lnTo>
                    <a:lnTo>
                      <a:pt x="525" y="616"/>
                    </a:lnTo>
                    <a:lnTo>
                      <a:pt x="415" y="776"/>
                    </a:lnTo>
                    <a:lnTo>
                      <a:pt x="316" y="875"/>
                    </a:lnTo>
                    <a:lnTo>
                      <a:pt x="209" y="976"/>
                    </a:lnTo>
                    <a:lnTo>
                      <a:pt x="136" y="1020"/>
                    </a:lnTo>
                    <a:lnTo>
                      <a:pt x="68" y="1031"/>
                    </a:lnTo>
                    <a:lnTo>
                      <a:pt x="33" y="1007"/>
                    </a:lnTo>
                    <a:lnTo>
                      <a:pt x="147" y="875"/>
                    </a:lnTo>
                    <a:lnTo>
                      <a:pt x="202" y="782"/>
                    </a:lnTo>
                    <a:lnTo>
                      <a:pt x="147" y="717"/>
                    </a:lnTo>
                    <a:lnTo>
                      <a:pt x="57" y="662"/>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100920" y="1349280"/>
                <a:ext cx="234720" cy="419040"/>
              </a:xfrm>
              <a:custGeom>
                <a:avLst/>
                <a:gdLst/>
                <a:ahLst/>
                <a:rect l="l" t="t" r="r" b="b"/>
                <a:pathLst>
                  <a:path w="1180" h="2108">
                    <a:moveTo>
                      <a:pt x="37" y="56"/>
                    </a:moveTo>
                    <a:lnTo>
                      <a:pt x="13" y="155"/>
                    </a:lnTo>
                    <a:lnTo>
                      <a:pt x="0" y="268"/>
                    </a:lnTo>
                    <a:lnTo>
                      <a:pt x="13" y="392"/>
                    </a:lnTo>
                    <a:lnTo>
                      <a:pt x="37" y="598"/>
                    </a:lnTo>
                    <a:lnTo>
                      <a:pt x="106" y="735"/>
                    </a:lnTo>
                    <a:lnTo>
                      <a:pt x="226" y="925"/>
                    </a:lnTo>
                    <a:lnTo>
                      <a:pt x="417" y="1160"/>
                    </a:lnTo>
                    <a:lnTo>
                      <a:pt x="542" y="1271"/>
                    </a:lnTo>
                    <a:lnTo>
                      <a:pt x="798" y="2108"/>
                    </a:lnTo>
                    <a:lnTo>
                      <a:pt x="1169" y="1451"/>
                    </a:lnTo>
                    <a:lnTo>
                      <a:pt x="1180" y="546"/>
                    </a:lnTo>
                    <a:lnTo>
                      <a:pt x="1158" y="344"/>
                    </a:lnTo>
                    <a:lnTo>
                      <a:pt x="1138" y="222"/>
                    </a:lnTo>
                    <a:lnTo>
                      <a:pt x="956" y="21"/>
                    </a:lnTo>
                    <a:lnTo>
                      <a:pt x="90" y="0"/>
                    </a:lnTo>
                    <a:lnTo>
                      <a:pt x="37" y="56"/>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054840" y="1236600"/>
                <a:ext cx="263520" cy="222480"/>
              </a:xfrm>
              <a:custGeom>
                <a:avLst/>
                <a:gdLst/>
                <a:ahLst/>
                <a:rect l="l" t="t" r="r" b="b"/>
                <a:pathLst>
                  <a:path w="1325" h="1119">
                    <a:moveTo>
                      <a:pt x="270" y="672"/>
                    </a:moveTo>
                    <a:lnTo>
                      <a:pt x="314" y="605"/>
                    </a:lnTo>
                    <a:lnTo>
                      <a:pt x="402" y="594"/>
                    </a:lnTo>
                    <a:lnTo>
                      <a:pt x="560" y="672"/>
                    </a:lnTo>
                    <a:lnTo>
                      <a:pt x="719" y="719"/>
                    </a:lnTo>
                    <a:lnTo>
                      <a:pt x="855" y="681"/>
                    </a:lnTo>
                    <a:lnTo>
                      <a:pt x="1022" y="629"/>
                    </a:lnTo>
                    <a:lnTo>
                      <a:pt x="1155" y="638"/>
                    </a:lnTo>
                    <a:lnTo>
                      <a:pt x="1325" y="693"/>
                    </a:lnTo>
                    <a:lnTo>
                      <a:pt x="1325" y="372"/>
                    </a:lnTo>
                    <a:lnTo>
                      <a:pt x="1189" y="156"/>
                    </a:lnTo>
                    <a:lnTo>
                      <a:pt x="1022" y="36"/>
                    </a:lnTo>
                    <a:lnTo>
                      <a:pt x="685" y="0"/>
                    </a:lnTo>
                    <a:lnTo>
                      <a:pt x="369" y="55"/>
                    </a:lnTo>
                    <a:lnTo>
                      <a:pt x="222" y="167"/>
                    </a:lnTo>
                    <a:lnTo>
                      <a:pt x="113" y="310"/>
                    </a:lnTo>
                    <a:lnTo>
                      <a:pt x="88" y="451"/>
                    </a:lnTo>
                    <a:lnTo>
                      <a:pt x="88" y="492"/>
                    </a:lnTo>
                    <a:lnTo>
                      <a:pt x="136" y="613"/>
                    </a:lnTo>
                    <a:lnTo>
                      <a:pt x="69" y="629"/>
                    </a:lnTo>
                    <a:lnTo>
                      <a:pt x="0" y="850"/>
                    </a:lnTo>
                    <a:lnTo>
                      <a:pt x="55" y="998"/>
                    </a:lnTo>
                    <a:lnTo>
                      <a:pt x="233" y="1119"/>
                    </a:lnTo>
                    <a:lnTo>
                      <a:pt x="233" y="905"/>
                    </a:lnTo>
                    <a:lnTo>
                      <a:pt x="246" y="728"/>
                    </a:lnTo>
                    <a:lnTo>
                      <a:pt x="270" y="672"/>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226200" y="1522440"/>
                <a:ext cx="49320" cy="34920"/>
              </a:xfrm>
              <a:custGeom>
                <a:avLst/>
                <a:gdLst/>
                <a:ahLst/>
                <a:rect l="l" t="t" r="r" b="b"/>
                <a:pathLst>
                  <a:path w="248" h="180">
                    <a:moveTo>
                      <a:pt x="0" y="149"/>
                    </a:moveTo>
                    <a:lnTo>
                      <a:pt x="79" y="180"/>
                    </a:lnTo>
                    <a:lnTo>
                      <a:pt x="158" y="169"/>
                    </a:lnTo>
                    <a:lnTo>
                      <a:pt x="224" y="125"/>
                    </a:lnTo>
                    <a:lnTo>
                      <a:pt x="248" y="0"/>
                    </a:lnTo>
                    <a:lnTo>
                      <a:pt x="111" y="113"/>
                    </a:lnTo>
                    <a:lnTo>
                      <a:pt x="0" y="113"/>
                    </a:lnTo>
                    <a:lnTo>
                      <a:pt x="0" y="149"/>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54" name=""/>
              <p:cNvSpPr/>
              <p:nvPr/>
            </p:nvSpPr>
            <p:spPr>
              <a:xfrm>
                <a:off x="6330960" y="1438200"/>
                <a:ext cx="23760" cy="41400"/>
              </a:xfrm>
              <a:custGeom>
                <a:avLst/>
                <a:gdLst/>
                <a:ahLst/>
                <a:rect l="l" t="t" r="r" b="b"/>
                <a:pathLst>
                  <a:path w="126" h="208">
                    <a:moveTo>
                      <a:pt x="11" y="19"/>
                    </a:moveTo>
                    <a:lnTo>
                      <a:pt x="0" y="164"/>
                    </a:lnTo>
                    <a:lnTo>
                      <a:pt x="68" y="208"/>
                    </a:lnTo>
                    <a:lnTo>
                      <a:pt x="126" y="143"/>
                    </a:lnTo>
                    <a:lnTo>
                      <a:pt x="126" y="77"/>
                    </a:lnTo>
                    <a:lnTo>
                      <a:pt x="82" y="0"/>
                    </a:lnTo>
                    <a:lnTo>
                      <a:pt x="11" y="19"/>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55" name=""/>
              <p:cNvSpPr/>
              <p:nvPr/>
            </p:nvSpPr>
            <p:spPr>
              <a:xfrm>
                <a:off x="6114960" y="1490760"/>
                <a:ext cx="22320" cy="38160"/>
              </a:xfrm>
              <a:custGeom>
                <a:avLst/>
                <a:gdLst/>
                <a:ahLst/>
                <a:rect l="l" t="t" r="r" b="b"/>
                <a:pathLst>
                  <a:path w="113" h="189">
                    <a:moveTo>
                      <a:pt x="19" y="0"/>
                    </a:moveTo>
                    <a:lnTo>
                      <a:pt x="0" y="22"/>
                    </a:lnTo>
                    <a:lnTo>
                      <a:pt x="0" y="145"/>
                    </a:lnTo>
                    <a:lnTo>
                      <a:pt x="52" y="189"/>
                    </a:lnTo>
                    <a:lnTo>
                      <a:pt x="113" y="154"/>
                    </a:lnTo>
                    <a:lnTo>
                      <a:pt x="19" y="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6" name=""/>
              <p:cNvSpPr/>
              <p:nvPr/>
            </p:nvSpPr>
            <p:spPr>
              <a:xfrm>
                <a:off x="5129280" y="1882800"/>
                <a:ext cx="573120" cy="322200"/>
              </a:xfrm>
              <a:custGeom>
                <a:avLst/>
                <a:gdLst/>
                <a:ahLst/>
                <a:rect l="l" t="t" r="r" b="b"/>
                <a:pathLst>
                  <a:path w="2891" h="1625">
                    <a:moveTo>
                      <a:pt x="0" y="435"/>
                    </a:moveTo>
                    <a:lnTo>
                      <a:pt x="269" y="1060"/>
                    </a:lnTo>
                    <a:lnTo>
                      <a:pt x="410" y="1295"/>
                    </a:lnTo>
                    <a:lnTo>
                      <a:pt x="643" y="1483"/>
                    </a:lnTo>
                    <a:lnTo>
                      <a:pt x="939" y="1602"/>
                    </a:lnTo>
                    <a:lnTo>
                      <a:pt x="1212" y="1625"/>
                    </a:lnTo>
                    <a:lnTo>
                      <a:pt x="1519" y="1620"/>
                    </a:lnTo>
                    <a:lnTo>
                      <a:pt x="1791" y="1595"/>
                    </a:lnTo>
                    <a:lnTo>
                      <a:pt x="2027" y="1549"/>
                    </a:lnTo>
                    <a:lnTo>
                      <a:pt x="2231" y="1505"/>
                    </a:lnTo>
                    <a:lnTo>
                      <a:pt x="2398" y="1470"/>
                    </a:lnTo>
                    <a:lnTo>
                      <a:pt x="2566" y="1445"/>
                    </a:lnTo>
                    <a:lnTo>
                      <a:pt x="2764" y="1433"/>
                    </a:lnTo>
                    <a:lnTo>
                      <a:pt x="2891" y="1436"/>
                    </a:lnTo>
                    <a:lnTo>
                      <a:pt x="2677" y="1371"/>
                    </a:lnTo>
                    <a:lnTo>
                      <a:pt x="2515" y="1290"/>
                    </a:lnTo>
                    <a:lnTo>
                      <a:pt x="2379" y="1193"/>
                    </a:lnTo>
                    <a:lnTo>
                      <a:pt x="2240" y="1060"/>
                    </a:lnTo>
                    <a:lnTo>
                      <a:pt x="2130" y="914"/>
                    </a:lnTo>
                    <a:lnTo>
                      <a:pt x="2061" y="793"/>
                    </a:lnTo>
                    <a:lnTo>
                      <a:pt x="1955" y="587"/>
                    </a:lnTo>
                    <a:lnTo>
                      <a:pt x="1824" y="338"/>
                    </a:lnTo>
                    <a:lnTo>
                      <a:pt x="1688" y="0"/>
                    </a:lnTo>
                    <a:lnTo>
                      <a:pt x="1533" y="81"/>
                    </a:lnTo>
                    <a:lnTo>
                      <a:pt x="1289" y="136"/>
                    </a:lnTo>
                    <a:lnTo>
                      <a:pt x="1044" y="191"/>
                    </a:lnTo>
                    <a:lnTo>
                      <a:pt x="812" y="251"/>
                    </a:lnTo>
                    <a:lnTo>
                      <a:pt x="443" y="347"/>
                    </a:lnTo>
                    <a:lnTo>
                      <a:pt x="242" y="410"/>
                    </a:lnTo>
                    <a:lnTo>
                      <a:pt x="0" y="4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337000" y="1411200"/>
                <a:ext cx="274680" cy="560520"/>
              </a:xfrm>
              <a:custGeom>
                <a:avLst/>
                <a:gdLst/>
                <a:ahLst/>
                <a:rect l="l" t="t" r="r" b="b"/>
                <a:pathLst>
                  <a:path w="1386" h="2827">
                    <a:moveTo>
                      <a:pt x="58" y="29"/>
                    </a:moveTo>
                    <a:lnTo>
                      <a:pt x="0" y="844"/>
                    </a:lnTo>
                    <a:lnTo>
                      <a:pt x="154" y="2622"/>
                    </a:lnTo>
                    <a:lnTo>
                      <a:pt x="1347" y="2827"/>
                    </a:lnTo>
                    <a:lnTo>
                      <a:pt x="1386" y="1889"/>
                    </a:lnTo>
                    <a:lnTo>
                      <a:pt x="1328" y="1352"/>
                    </a:lnTo>
                    <a:lnTo>
                      <a:pt x="1288" y="965"/>
                    </a:lnTo>
                    <a:lnTo>
                      <a:pt x="1192" y="619"/>
                    </a:lnTo>
                    <a:lnTo>
                      <a:pt x="943" y="0"/>
                    </a:lnTo>
                    <a:lnTo>
                      <a:pt x="58"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200560" y="1801800"/>
                <a:ext cx="136440" cy="173160"/>
              </a:xfrm>
              <a:custGeom>
                <a:avLst/>
                <a:gdLst/>
                <a:ahLst/>
                <a:rect l="l" t="t" r="r" b="b"/>
                <a:pathLst>
                  <a:path w="692" h="869">
                    <a:moveTo>
                      <a:pt x="0" y="441"/>
                    </a:moveTo>
                    <a:lnTo>
                      <a:pt x="0" y="595"/>
                    </a:lnTo>
                    <a:lnTo>
                      <a:pt x="70" y="720"/>
                    </a:lnTo>
                    <a:lnTo>
                      <a:pt x="386" y="756"/>
                    </a:lnTo>
                    <a:lnTo>
                      <a:pt x="499" y="869"/>
                    </a:lnTo>
                    <a:lnTo>
                      <a:pt x="527" y="869"/>
                    </a:lnTo>
                    <a:lnTo>
                      <a:pt x="517" y="579"/>
                    </a:lnTo>
                    <a:lnTo>
                      <a:pt x="609" y="687"/>
                    </a:lnTo>
                    <a:lnTo>
                      <a:pt x="676" y="720"/>
                    </a:lnTo>
                    <a:lnTo>
                      <a:pt x="692" y="720"/>
                    </a:lnTo>
                    <a:lnTo>
                      <a:pt x="676" y="537"/>
                    </a:lnTo>
                    <a:lnTo>
                      <a:pt x="666" y="426"/>
                    </a:lnTo>
                    <a:lnTo>
                      <a:pt x="554" y="43"/>
                    </a:lnTo>
                    <a:lnTo>
                      <a:pt x="429" y="0"/>
                    </a:lnTo>
                    <a:lnTo>
                      <a:pt x="109" y="166"/>
                    </a:lnTo>
                    <a:lnTo>
                      <a:pt x="10" y="316"/>
                    </a:lnTo>
                    <a:lnTo>
                      <a:pt x="0" y="441"/>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299200" y="1235160"/>
                <a:ext cx="260280" cy="279360"/>
              </a:xfrm>
              <a:custGeom>
                <a:avLst/>
                <a:gdLst/>
                <a:ahLst/>
                <a:rect l="l" t="t" r="r" b="b"/>
                <a:pathLst>
                  <a:path w="1314" h="1406">
                    <a:moveTo>
                      <a:pt x="0" y="581"/>
                    </a:moveTo>
                    <a:lnTo>
                      <a:pt x="55" y="803"/>
                    </a:lnTo>
                    <a:lnTo>
                      <a:pt x="152" y="952"/>
                    </a:lnTo>
                    <a:lnTo>
                      <a:pt x="276" y="952"/>
                    </a:lnTo>
                    <a:lnTo>
                      <a:pt x="470" y="1227"/>
                    </a:lnTo>
                    <a:lnTo>
                      <a:pt x="701" y="1367"/>
                    </a:lnTo>
                    <a:lnTo>
                      <a:pt x="1037" y="1406"/>
                    </a:lnTo>
                    <a:lnTo>
                      <a:pt x="1248" y="1353"/>
                    </a:lnTo>
                    <a:lnTo>
                      <a:pt x="1314" y="1148"/>
                    </a:lnTo>
                    <a:lnTo>
                      <a:pt x="1288" y="830"/>
                    </a:lnTo>
                    <a:lnTo>
                      <a:pt x="1259" y="625"/>
                    </a:lnTo>
                    <a:lnTo>
                      <a:pt x="1233" y="509"/>
                    </a:lnTo>
                    <a:lnTo>
                      <a:pt x="1189" y="401"/>
                    </a:lnTo>
                    <a:lnTo>
                      <a:pt x="1136" y="265"/>
                    </a:lnTo>
                    <a:lnTo>
                      <a:pt x="1055" y="85"/>
                    </a:lnTo>
                    <a:lnTo>
                      <a:pt x="28" y="0"/>
                    </a:lnTo>
                    <a:lnTo>
                      <a:pt x="0" y="581"/>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445000" y="1509840"/>
                <a:ext cx="114480" cy="457200"/>
              </a:xfrm>
              <a:custGeom>
                <a:avLst/>
                <a:gdLst/>
                <a:ahLst/>
                <a:rect l="l" t="t" r="r" b="b"/>
                <a:pathLst>
                  <a:path w="576" h="2303">
                    <a:moveTo>
                      <a:pt x="0" y="57"/>
                    </a:moveTo>
                    <a:lnTo>
                      <a:pt x="92" y="167"/>
                    </a:lnTo>
                    <a:lnTo>
                      <a:pt x="108" y="237"/>
                    </a:lnTo>
                    <a:lnTo>
                      <a:pt x="24" y="541"/>
                    </a:lnTo>
                    <a:lnTo>
                      <a:pt x="9" y="815"/>
                    </a:lnTo>
                    <a:lnTo>
                      <a:pt x="0" y="1035"/>
                    </a:lnTo>
                    <a:lnTo>
                      <a:pt x="24" y="1309"/>
                    </a:lnTo>
                    <a:lnTo>
                      <a:pt x="50" y="1916"/>
                    </a:lnTo>
                    <a:lnTo>
                      <a:pt x="92" y="1890"/>
                    </a:lnTo>
                    <a:lnTo>
                      <a:pt x="158" y="2054"/>
                    </a:lnTo>
                    <a:lnTo>
                      <a:pt x="255" y="2248"/>
                    </a:lnTo>
                    <a:lnTo>
                      <a:pt x="576" y="2303"/>
                    </a:lnTo>
                    <a:lnTo>
                      <a:pt x="474" y="1931"/>
                    </a:lnTo>
                    <a:lnTo>
                      <a:pt x="398" y="1461"/>
                    </a:lnTo>
                    <a:lnTo>
                      <a:pt x="368" y="1079"/>
                    </a:lnTo>
                    <a:lnTo>
                      <a:pt x="368" y="733"/>
                    </a:lnTo>
                    <a:lnTo>
                      <a:pt x="317" y="428"/>
                    </a:lnTo>
                    <a:lnTo>
                      <a:pt x="255" y="209"/>
                    </a:lnTo>
                    <a:lnTo>
                      <a:pt x="191" y="41"/>
                    </a:lnTo>
                    <a:lnTo>
                      <a:pt x="24" y="0"/>
                    </a:lnTo>
                    <a:lnTo>
                      <a:pt x="0" y="57"/>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268960" y="1165320"/>
                <a:ext cx="185760" cy="230040"/>
              </a:xfrm>
              <a:custGeom>
                <a:avLst/>
                <a:gdLst/>
                <a:ahLst/>
                <a:rect l="l" t="t" r="r" b="b"/>
                <a:pathLst>
                  <a:path w="938" h="1158">
                    <a:moveTo>
                      <a:pt x="0" y="413"/>
                    </a:moveTo>
                    <a:lnTo>
                      <a:pt x="0" y="687"/>
                    </a:lnTo>
                    <a:lnTo>
                      <a:pt x="110" y="922"/>
                    </a:lnTo>
                    <a:lnTo>
                      <a:pt x="260" y="1019"/>
                    </a:lnTo>
                    <a:lnTo>
                      <a:pt x="413" y="1158"/>
                    </a:lnTo>
                    <a:lnTo>
                      <a:pt x="413" y="1044"/>
                    </a:lnTo>
                    <a:lnTo>
                      <a:pt x="275" y="756"/>
                    </a:lnTo>
                    <a:lnTo>
                      <a:pt x="231" y="537"/>
                    </a:lnTo>
                    <a:lnTo>
                      <a:pt x="290" y="452"/>
                    </a:lnTo>
                    <a:lnTo>
                      <a:pt x="401" y="424"/>
                    </a:lnTo>
                    <a:lnTo>
                      <a:pt x="677" y="496"/>
                    </a:lnTo>
                    <a:lnTo>
                      <a:pt x="938" y="440"/>
                    </a:lnTo>
                    <a:lnTo>
                      <a:pt x="633" y="11"/>
                    </a:lnTo>
                    <a:lnTo>
                      <a:pt x="290" y="0"/>
                    </a:lnTo>
                    <a:lnTo>
                      <a:pt x="134" y="152"/>
                    </a:lnTo>
                    <a:lnTo>
                      <a:pt x="53" y="260"/>
                    </a:lnTo>
                    <a:lnTo>
                      <a:pt x="11" y="355"/>
                    </a:lnTo>
                    <a:lnTo>
                      <a:pt x="0" y="413"/>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272120" y="851040"/>
                <a:ext cx="988920" cy="669960"/>
              </a:xfrm>
              <a:custGeom>
                <a:avLst/>
                <a:gdLst/>
                <a:ahLst/>
                <a:rect l="l" t="t" r="r" b="b"/>
                <a:pathLst>
                  <a:path w="4986" h="3377">
                    <a:moveTo>
                      <a:pt x="0" y="2990"/>
                    </a:moveTo>
                    <a:lnTo>
                      <a:pt x="221" y="2372"/>
                    </a:lnTo>
                    <a:lnTo>
                      <a:pt x="567" y="1973"/>
                    </a:lnTo>
                    <a:lnTo>
                      <a:pt x="829" y="1445"/>
                    </a:lnTo>
                    <a:lnTo>
                      <a:pt x="1229" y="1035"/>
                    </a:lnTo>
                    <a:lnTo>
                      <a:pt x="1535" y="940"/>
                    </a:lnTo>
                    <a:lnTo>
                      <a:pt x="1759" y="700"/>
                    </a:lnTo>
                    <a:lnTo>
                      <a:pt x="1741" y="581"/>
                    </a:lnTo>
                    <a:lnTo>
                      <a:pt x="2422" y="0"/>
                    </a:lnTo>
                    <a:lnTo>
                      <a:pt x="2851" y="67"/>
                    </a:lnTo>
                    <a:lnTo>
                      <a:pt x="3088" y="111"/>
                    </a:lnTo>
                    <a:lnTo>
                      <a:pt x="3464" y="25"/>
                    </a:lnTo>
                    <a:lnTo>
                      <a:pt x="3670" y="0"/>
                    </a:lnTo>
                    <a:lnTo>
                      <a:pt x="4431" y="355"/>
                    </a:lnTo>
                    <a:lnTo>
                      <a:pt x="4986" y="1270"/>
                    </a:lnTo>
                    <a:lnTo>
                      <a:pt x="2842" y="3377"/>
                    </a:lnTo>
                    <a:lnTo>
                      <a:pt x="2116" y="1724"/>
                    </a:lnTo>
                    <a:lnTo>
                      <a:pt x="2132" y="1311"/>
                    </a:lnTo>
                    <a:lnTo>
                      <a:pt x="1883" y="1533"/>
                    </a:lnTo>
                    <a:lnTo>
                      <a:pt x="1662" y="1863"/>
                    </a:lnTo>
                    <a:lnTo>
                      <a:pt x="1148" y="2179"/>
                    </a:lnTo>
                    <a:lnTo>
                      <a:pt x="456" y="3199"/>
                    </a:lnTo>
                    <a:lnTo>
                      <a:pt x="150" y="3186"/>
                    </a:lnTo>
                    <a:lnTo>
                      <a:pt x="0" y="299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156200" y="1527120"/>
                <a:ext cx="457200" cy="379440"/>
              </a:xfrm>
              <a:custGeom>
                <a:avLst/>
                <a:gdLst/>
                <a:ahLst/>
                <a:rect l="l" t="t" r="r" b="b"/>
                <a:pathLst>
                  <a:path w="2298" h="1910">
                    <a:moveTo>
                      <a:pt x="2298" y="0"/>
                    </a:moveTo>
                    <a:lnTo>
                      <a:pt x="0" y="0"/>
                    </a:lnTo>
                    <a:lnTo>
                      <a:pt x="0" y="1910"/>
                    </a:lnTo>
                    <a:lnTo>
                      <a:pt x="2298" y="0"/>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157640" y="1554120"/>
                <a:ext cx="906480" cy="774720"/>
              </a:xfrm>
              <a:custGeom>
                <a:avLst/>
                <a:gdLst/>
                <a:ahLst/>
                <a:rect l="l" t="t" r="r" b="b"/>
                <a:pathLst>
                  <a:path w="4566" h="3907">
                    <a:moveTo>
                      <a:pt x="511" y="3907"/>
                    </a:moveTo>
                    <a:lnTo>
                      <a:pt x="693" y="3877"/>
                    </a:lnTo>
                    <a:lnTo>
                      <a:pt x="905" y="3826"/>
                    </a:lnTo>
                    <a:lnTo>
                      <a:pt x="1178" y="3711"/>
                    </a:lnTo>
                    <a:lnTo>
                      <a:pt x="1354" y="3626"/>
                    </a:lnTo>
                    <a:lnTo>
                      <a:pt x="1519" y="3503"/>
                    </a:lnTo>
                    <a:lnTo>
                      <a:pt x="1763" y="3250"/>
                    </a:lnTo>
                    <a:lnTo>
                      <a:pt x="1455" y="2773"/>
                    </a:lnTo>
                    <a:lnTo>
                      <a:pt x="3611" y="2085"/>
                    </a:lnTo>
                    <a:lnTo>
                      <a:pt x="3328" y="2461"/>
                    </a:lnTo>
                    <a:lnTo>
                      <a:pt x="3611" y="2591"/>
                    </a:lnTo>
                    <a:lnTo>
                      <a:pt x="4474" y="2501"/>
                    </a:lnTo>
                    <a:lnTo>
                      <a:pt x="4566" y="1903"/>
                    </a:lnTo>
                    <a:lnTo>
                      <a:pt x="4545" y="1793"/>
                    </a:lnTo>
                    <a:lnTo>
                      <a:pt x="4483" y="1541"/>
                    </a:lnTo>
                    <a:lnTo>
                      <a:pt x="4352" y="1152"/>
                    </a:lnTo>
                    <a:lnTo>
                      <a:pt x="4281" y="1103"/>
                    </a:lnTo>
                    <a:lnTo>
                      <a:pt x="4191" y="1090"/>
                    </a:lnTo>
                    <a:lnTo>
                      <a:pt x="3936" y="0"/>
                    </a:lnTo>
                    <a:lnTo>
                      <a:pt x="1921" y="9"/>
                    </a:lnTo>
                    <a:lnTo>
                      <a:pt x="1747" y="244"/>
                    </a:lnTo>
                    <a:lnTo>
                      <a:pt x="1415" y="356"/>
                    </a:lnTo>
                    <a:lnTo>
                      <a:pt x="1037" y="619"/>
                    </a:lnTo>
                    <a:lnTo>
                      <a:pt x="894" y="739"/>
                    </a:lnTo>
                    <a:lnTo>
                      <a:pt x="772" y="923"/>
                    </a:lnTo>
                    <a:lnTo>
                      <a:pt x="693" y="1114"/>
                    </a:lnTo>
                    <a:lnTo>
                      <a:pt x="0" y="2512"/>
                    </a:lnTo>
                    <a:lnTo>
                      <a:pt x="73" y="2717"/>
                    </a:lnTo>
                    <a:lnTo>
                      <a:pt x="22" y="2998"/>
                    </a:lnTo>
                    <a:lnTo>
                      <a:pt x="479" y="3845"/>
                    </a:lnTo>
                    <a:lnTo>
                      <a:pt x="511" y="39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424400" y="2098800"/>
                <a:ext cx="450720" cy="350640"/>
              </a:xfrm>
              <a:custGeom>
                <a:avLst/>
                <a:gdLst/>
                <a:ahLst/>
                <a:rect l="l" t="t" r="r" b="b"/>
                <a:pathLst>
                  <a:path w="2279" h="1769">
                    <a:moveTo>
                      <a:pt x="268" y="281"/>
                    </a:moveTo>
                    <a:lnTo>
                      <a:pt x="1154" y="0"/>
                    </a:lnTo>
                    <a:lnTo>
                      <a:pt x="2279" y="1072"/>
                    </a:lnTo>
                    <a:lnTo>
                      <a:pt x="774" y="1769"/>
                    </a:lnTo>
                    <a:lnTo>
                      <a:pt x="0" y="863"/>
                    </a:lnTo>
                    <a:lnTo>
                      <a:pt x="268"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691160" y="2036880"/>
                <a:ext cx="209520" cy="133200"/>
              </a:xfrm>
              <a:custGeom>
                <a:avLst/>
                <a:gdLst/>
                <a:ahLst/>
                <a:rect l="l" t="t" r="r" b="b"/>
                <a:pathLst>
                  <a:path w="1055" h="675">
                    <a:moveTo>
                      <a:pt x="0" y="627"/>
                    </a:moveTo>
                    <a:lnTo>
                      <a:pt x="64" y="339"/>
                    </a:lnTo>
                    <a:lnTo>
                      <a:pt x="87" y="274"/>
                    </a:lnTo>
                    <a:lnTo>
                      <a:pt x="290" y="16"/>
                    </a:lnTo>
                    <a:lnTo>
                      <a:pt x="352" y="0"/>
                    </a:lnTo>
                    <a:lnTo>
                      <a:pt x="703" y="43"/>
                    </a:lnTo>
                    <a:lnTo>
                      <a:pt x="783" y="58"/>
                    </a:lnTo>
                    <a:lnTo>
                      <a:pt x="986" y="131"/>
                    </a:lnTo>
                    <a:lnTo>
                      <a:pt x="1044" y="181"/>
                    </a:lnTo>
                    <a:lnTo>
                      <a:pt x="1055" y="234"/>
                    </a:lnTo>
                    <a:lnTo>
                      <a:pt x="1055" y="297"/>
                    </a:lnTo>
                    <a:lnTo>
                      <a:pt x="1030" y="339"/>
                    </a:lnTo>
                    <a:lnTo>
                      <a:pt x="975" y="368"/>
                    </a:lnTo>
                    <a:lnTo>
                      <a:pt x="896" y="376"/>
                    </a:lnTo>
                    <a:lnTo>
                      <a:pt x="811" y="427"/>
                    </a:lnTo>
                    <a:lnTo>
                      <a:pt x="712" y="493"/>
                    </a:lnTo>
                    <a:lnTo>
                      <a:pt x="615" y="581"/>
                    </a:lnTo>
                    <a:lnTo>
                      <a:pt x="532" y="603"/>
                    </a:lnTo>
                    <a:lnTo>
                      <a:pt x="440" y="610"/>
                    </a:lnTo>
                    <a:lnTo>
                      <a:pt x="400" y="613"/>
                    </a:lnTo>
                    <a:lnTo>
                      <a:pt x="327" y="658"/>
                    </a:lnTo>
                    <a:lnTo>
                      <a:pt x="248" y="675"/>
                    </a:lnTo>
                    <a:lnTo>
                      <a:pt x="228" y="610"/>
                    </a:lnTo>
                    <a:lnTo>
                      <a:pt x="184" y="647"/>
                    </a:lnTo>
                    <a:lnTo>
                      <a:pt x="128" y="671"/>
                    </a:lnTo>
                    <a:lnTo>
                      <a:pt x="117" y="581"/>
                    </a:lnTo>
                    <a:lnTo>
                      <a:pt x="46" y="610"/>
                    </a:lnTo>
                    <a:lnTo>
                      <a:pt x="0" y="62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603680" y="2092320"/>
                <a:ext cx="14400" cy="235080"/>
              </a:xfrm>
              <a:custGeom>
                <a:avLst/>
                <a:gdLst/>
                <a:ahLst/>
                <a:rect l="l" t="t" r="r" b="b"/>
                <a:pathLst>
                  <a:path w="75" h="1182">
                    <a:moveTo>
                      <a:pt x="0" y="1182"/>
                    </a:moveTo>
                    <a:lnTo>
                      <a:pt x="0" y="17"/>
                    </a:lnTo>
                    <a:lnTo>
                      <a:pt x="24" y="0"/>
                    </a:lnTo>
                    <a:lnTo>
                      <a:pt x="49" y="0"/>
                    </a:lnTo>
                    <a:lnTo>
                      <a:pt x="75" y="17"/>
                    </a:lnTo>
                    <a:lnTo>
                      <a:pt x="75" y="1182"/>
                    </a:lnTo>
                    <a:lnTo>
                      <a:pt x="0" y="1182"/>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4432320" y="2157480"/>
                <a:ext cx="258840" cy="144360"/>
              </a:xfrm>
              <a:custGeom>
                <a:avLst/>
                <a:gdLst/>
                <a:ahLst/>
                <a:rect l="l" t="t" r="r" b="b"/>
                <a:pathLst>
                  <a:path w="1308" h="729">
                    <a:moveTo>
                      <a:pt x="858" y="441"/>
                    </a:moveTo>
                    <a:lnTo>
                      <a:pt x="1040" y="464"/>
                    </a:lnTo>
                    <a:lnTo>
                      <a:pt x="1257" y="496"/>
                    </a:lnTo>
                    <a:lnTo>
                      <a:pt x="1294" y="487"/>
                    </a:lnTo>
                    <a:lnTo>
                      <a:pt x="1308" y="480"/>
                    </a:lnTo>
                    <a:lnTo>
                      <a:pt x="1301" y="446"/>
                    </a:lnTo>
                    <a:lnTo>
                      <a:pt x="1270" y="408"/>
                    </a:lnTo>
                    <a:lnTo>
                      <a:pt x="1176" y="371"/>
                    </a:lnTo>
                    <a:lnTo>
                      <a:pt x="1038" y="330"/>
                    </a:lnTo>
                    <a:lnTo>
                      <a:pt x="918" y="268"/>
                    </a:lnTo>
                    <a:lnTo>
                      <a:pt x="858" y="219"/>
                    </a:lnTo>
                    <a:lnTo>
                      <a:pt x="858" y="52"/>
                    </a:lnTo>
                    <a:lnTo>
                      <a:pt x="782" y="0"/>
                    </a:lnTo>
                    <a:lnTo>
                      <a:pt x="264" y="65"/>
                    </a:lnTo>
                    <a:lnTo>
                      <a:pt x="73" y="171"/>
                    </a:lnTo>
                    <a:lnTo>
                      <a:pt x="0" y="283"/>
                    </a:lnTo>
                    <a:lnTo>
                      <a:pt x="139" y="376"/>
                    </a:lnTo>
                    <a:lnTo>
                      <a:pt x="224" y="455"/>
                    </a:lnTo>
                    <a:lnTo>
                      <a:pt x="310" y="540"/>
                    </a:lnTo>
                    <a:lnTo>
                      <a:pt x="367" y="619"/>
                    </a:lnTo>
                    <a:lnTo>
                      <a:pt x="406" y="663"/>
                    </a:lnTo>
                    <a:lnTo>
                      <a:pt x="440" y="681"/>
                    </a:lnTo>
                    <a:lnTo>
                      <a:pt x="703" y="729"/>
                    </a:lnTo>
                    <a:lnTo>
                      <a:pt x="747" y="727"/>
                    </a:lnTo>
                    <a:lnTo>
                      <a:pt x="858" y="588"/>
                    </a:lnTo>
                    <a:lnTo>
                      <a:pt x="858" y="441"/>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603680" y="2324160"/>
                <a:ext cx="14400" cy="31680"/>
              </a:xfrm>
              <a:custGeom>
                <a:avLst/>
                <a:gdLst/>
                <a:ahLst/>
                <a:rect l="l" t="t" r="r" b="b"/>
                <a:pathLst>
                  <a:path w="75" h="166">
                    <a:moveTo>
                      <a:pt x="0" y="23"/>
                    </a:moveTo>
                    <a:lnTo>
                      <a:pt x="31" y="166"/>
                    </a:lnTo>
                    <a:lnTo>
                      <a:pt x="75" y="23"/>
                    </a:lnTo>
                    <a:lnTo>
                      <a:pt x="61" y="7"/>
                    </a:lnTo>
                    <a:lnTo>
                      <a:pt x="17" y="0"/>
                    </a:lnTo>
                    <a:lnTo>
                      <a:pt x="0" y="23"/>
                    </a:lnTo>
                    <a:close/>
                  </a:path>
                </a:pathLst>
              </a:custGeom>
              <a:solidFill>
                <a:srgbClr val="ffc98e"/>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70" name=""/>
              <p:cNvSpPr/>
              <p:nvPr/>
            </p:nvSpPr>
            <p:spPr>
              <a:xfrm>
                <a:off x="4608360" y="1542960"/>
                <a:ext cx="216000" cy="519120"/>
              </a:xfrm>
              <a:custGeom>
                <a:avLst/>
                <a:gdLst/>
                <a:ahLst/>
                <a:rect l="l" t="t" r="r" b="b"/>
                <a:pathLst>
                  <a:path w="1092" h="2615">
                    <a:moveTo>
                      <a:pt x="126" y="195"/>
                    </a:moveTo>
                    <a:lnTo>
                      <a:pt x="170" y="382"/>
                    </a:lnTo>
                    <a:lnTo>
                      <a:pt x="226" y="732"/>
                    </a:lnTo>
                    <a:lnTo>
                      <a:pt x="266" y="1002"/>
                    </a:lnTo>
                    <a:lnTo>
                      <a:pt x="255" y="1301"/>
                    </a:lnTo>
                    <a:lnTo>
                      <a:pt x="226" y="1609"/>
                    </a:lnTo>
                    <a:lnTo>
                      <a:pt x="140" y="2053"/>
                    </a:lnTo>
                    <a:lnTo>
                      <a:pt x="0" y="2615"/>
                    </a:lnTo>
                    <a:lnTo>
                      <a:pt x="744" y="2369"/>
                    </a:lnTo>
                    <a:lnTo>
                      <a:pt x="931" y="1924"/>
                    </a:lnTo>
                    <a:lnTo>
                      <a:pt x="1026" y="1546"/>
                    </a:lnTo>
                    <a:lnTo>
                      <a:pt x="1085" y="1126"/>
                    </a:lnTo>
                    <a:lnTo>
                      <a:pt x="1092" y="824"/>
                    </a:lnTo>
                    <a:lnTo>
                      <a:pt x="1072" y="562"/>
                    </a:lnTo>
                    <a:lnTo>
                      <a:pt x="1026" y="343"/>
                    </a:lnTo>
                    <a:lnTo>
                      <a:pt x="961" y="170"/>
                    </a:lnTo>
                    <a:lnTo>
                      <a:pt x="905" y="73"/>
                    </a:lnTo>
                    <a:lnTo>
                      <a:pt x="387" y="0"/>
                    </a:lnTo>
                    <a:lnTo>
                      <a:pt x="126"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670280" y="1654200"/>
                <a:ext cx="192240" cy="282600"/>
              </a:xfrm>
              <a:custGeom>
                <a:avLst/>
                <a:gdLst/>
                <a:ahLst/>
                <a:rect l="l" t="t" r="r" b="b"/>
                <a:pathLst>
                  <a:path w="971" h="1425">
                    <a:moveTo>
                      <a:pt x="452" y="0"/>
                    </a:moveTo>
                    <a:lnTo>
                      <a:pt x="434" y="101"/>
                    </a:lnTo>
                    <a:lnTo>
                      <a:pt x="369" y="251"/>
                    </a:lnTo>
                    <a:lnTo>
                      <a:pt x="303" y="346"/>
                    </a:lnTo>
                    <a:lnTo>
                      <a:pt x="226" y="412"/>
                    </a:lnTo>
                    <a:lnTo>
                      <a:pt x="0" y="1161"/>
                    </a:lnTo>
                    <a:lnTo>
                      <a:pt x="206" y="1302"/>
                    </a:lnTo>
                    <a:lnTo>
                      <a:pt x="206" y="1376"/>
                    </a:lnTo>
                    <a:lnTo>
                      <a:pt x="292" y="1425"/>
                    </a:lnTo>
                    <a:lnTo>
                      <a:pt x="483" y="1418"/>
                    </a:lnTo>
                    <a:lnTo>
                      <a:pt x="604" y="1425"/>
                    </a:lnTo>
                    <a:lnTo>
                      <a:pt x="791" y="1313"/>
                    </a:lnTo>
                    <a:lnTo>
                      <a:pt x="934" y="1170"/>
                    </a:lnTo>
                    <a:lnTo>
                      <a:pt x="971" y="1095"/>
                    </a:lnTo>
                    <a:lnTo>
                      <a:pt x="813" y="919"/>
                    </a:lnTo>
                    <a:lnTo>
                      <a:pt x="727" y="657"/>
                    </a:lnTo>
                    <a:lnTo>
                      <a:pt x="709" y="479"/>
                    </a:lnTo>
                    <a:lnTo>
                      <a:pt x="662" y="346"/>
                    </a:lnTo>
                    <a:lnTo>
                      <a:pt x="568" y="235"/>
                    </a:lnTo>
                    <a:lnTo>
                      <a:pt x="595" y="150"/>
                    </a:lnTo>
                    <a:lnTo>
                      <a:pt x="604" y="73"/>
                    </a:lnTo>
                    <a:lnTo>
                      <a:pt x="584" y="41"/>
                    </a:lnTo>
                    <a:lnTo>
                      <a:pt x="452" y="0"/>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603680" y="1257480"/>
                <a:ext cx="281160" cy="392040"/>
              </a:xfrm>
              <a:custGeom>
                <a:avLst/>
                <a:gdLst/>
                <a:ahLst/>
                <a:rect l="l" t="t" r="r" b="b"/>
                <a:pathLst>
                  <a:path w="1419" h="1976">
                    <a:moveTo>
                      <a:pt x="1197" y="0"/>
                    </a:moveTo>
                    <a:lnTo>
                      <a:pt x="1278" y="159"/>
                    </a:lnTo>
                    <a:lnTo>
                      <a:pt x="1352" y="355"/>
                    </a:lnTo>
                    <a:lnTo>
                      <a:pt x="1361" y="493"/>
                    </a:lnTo>
                    <a:lnTo>
                      <a:pt x="1400" y="581"/>
                    </a:lnTo>
                    <a:lnTo>
                      <a:pt x="1419" y="662"/>
                    </a:lnTo>
                    <a:lnTo>
                      <a:pt x="1413" y="749"/>
                    </a:lnTo>
                    <a:lnTo>
                      <a:pt x="1389" y="919"/>
                    </a:lnTo>
                    <a:lnTo>
                      <a:pt x="1375" y="1102"/>
                    </a:lnTo>
                    <a:lnTo>
                      <a:pt x="1361" y="1297"/>
                    </a:lnTo>
                    <a:lnTo>
                      <a:pt x="1340" y="1392"/>
                    </a:lnTo>
                    <a:lnTo>
                      <a:pt x="1308" y="1457"/>
                    </a:lnTo>
                    <a:lnTo>
                      <a:pt x="1227" y="1510"/>
                    </a:lnTo>
                    <a:lnTo>
                      <a:pt x="1094" y="1538"/>
                    </a:lnTo>
                    <a:lnTo>
                      <a:pt x="978" y="1517"/>
                    </a:lnTo>
                    <a:lnTo>
                      <a:pt x="921" y="1530"/>
                    </a:lnTo>
                    <a:lnTo>
                      <a:pt x="844" y="1679"/>
                    </a:lnTo>
                    <a:lnTo>
                      <a:pt x="802" y="1831"/>
                    </a:lnTo>
                    <a:lnTo>
                      <a:pt x="766" y="1976"/>
                    </a:lnTo>
                    <a:lnTo>
                      <a:pt x="391" y="1734"/>
                    </a:lnTo>
                    <a:lnTo>
                      <a:pt x="199" y="1620"/>
                    </a:lnTo>
                    <a:lnTo>
                      <a:pt x="0" y="972"/>
                    </a:lnTo>
                    <a:lnTo>
                      <a:pt x="84" y="558"/>
                    </a:lnTo>
                    <a:lnTo>
                      <a:pt x="890" y="27"/>
                    </a:lnTo>
                    <a:lnTo>
                      <a:pt x="1197"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641840" y="1468440"/>
                <a:ext cx="38160" cy="36360"/>
              </a:xfrm>
              <a:custGeom>
                <a:avLst/>
                <a:gdLst/>
                <a:ahLst/>
                <a:rect l="l" t="t" r="r" b="b"/>
                <a:pathLst>
                  <a:path w="189" h="186">
                    <a:moveTo>
                      <a:pt x="30" y="27"/>
                    </a:moveTo>
                    <a:lnTo>
                      <a:pt x="76" y="0"/>
                    </a:lnTo>
                    <a:lnTo>
                      <a:pt x="131" y="7"/>
                    </a:lnTo>
                    <a:lnTo>
                      <a:pt x="184" y="57"/>
                    </a:lnTo>
                    <a:lnTo>
                      <a:pt x="189" y="121"/>
                    </a:lnTo>
                    <a:lnTo>
                      <a:pt x="164" y="163"/>
                    </a:lnTo>
                    <a:lnTo>
                      <a:pt x="111" y="186"/>
                    </a:lnTo>
                    <a:lnTo>
                      <a:pt x="43" y="181"/>
                    </a:lnTo>
                    <a:lnTo>
                      <a:pt x="0" y="159"/>
                    </a:lnTo>
                    <a:lnTo>
                      <a:pt x="0" y="71"/>
                    </a:lnTo>
                    <a:lnTo>
                      <a:pt x="30" y="27"/>
                    </a:lnTo>
                    <a:close/>
                  </a:path>
                </a:pathLst>
              </a:custGeom>
              <a:solidFill>
                <a:srgbClr val="ff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4" name=""/>
              <p:cNvSpPr/>
              <p:nvPr/>
            </p:nvSpPr>
            <p:spPr>
              <a:xfrm>
                <a:off x="4572000" y="1190520"/>
                <a:ext cx="212760" cy="133560"/>
              </a:xfrm>
              <a:custGeom>
                <a:avLst/>
                <a:gdLst/>
                <a:ahLst/>
                <a:rect l="l" t="t" r="r" b="b"/>
                <a:pathLst>
                  <a:path w="1068" h="668">
                    <a:moveTo>
                      <a:pt x="1068" y="294"/>
                    </a:moveTo>
                    <a:lnTo>
                      <a:pt x="745" y="668"/>
                    </a:lnTo>
                    <a:lnTo>
                      <a:pt x="0" y="622"/>
                    </a:lnTo>
                    <a:lnTo>
                      <a:pt x="16" y="334"/>
                    </a:lnTo>
                    <a:lnTo>
                      <a:pt x="94" y="160"/>
                    </a:lnTo>
                    <a:lnTo>
                      <a:pt x="209" y="59"/>
                    </a:lnTo>
                    <a:lnTo>
                      <a:pt x="396" y="0"/>
                    </a:lnTo>
                    <a:lnTo>
                      <a:pt x="1068" y="294"/>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924440" y="844560"/>
                <a:ext cx="230040" cy="487440"/>
              </a:xfrm>
              <a:custGeom>
                <a:avLst/>
                <a:gdLst/>
                <a:ahLst/>
                <a:rect l="l" t="t" r="r" b="b"/>
                <a:pathLst>
                  <a:path w="1155" h="2453">
                    <a:moveTo>
                      <a:pt x="387" y="0"/>
                    </a:moveTo>
                    <a:lnTo>
                      <a:pt x="313" y="49"/>
                    </a:lnTo>
                    <a:lnTo>
                      <a:pt x="242" y="187"/>
                    </a:lnTo>
                    <a:lnTo>
                      <a:pt x="194" y="357"/>
                    </a:lnTo>
                    <a:lnTo>
                      <a:pt x="170" y="541"/>
                    </a:lnTo>
                    <a:lnTo>
                      <a:pt x="163" y="855"/>
                    </a:lnTo>
                    <a:lnTo>
                      <a:pt x="126" y="1268"/>
                    </a:lnTo>
                    <a:lnTo>
                      <a:pt x="99" y="1583"/>
                    </a:lnTo>
                    <a:lnTo>
                      <a:pt x="73" y="1899"/>
                    </a:lnTo>
                    <a:lnTo>
                      <a:pt x="44" y="2137"/>
                    </a:lnTo>
                    <a:lnTo>
                      <a:pt x="0" y="2453"/>
                    </a:lnTo>
                    <a:lnTo>
                      <a:pt x="152" y="2356"/>
                    </a:lnTo>
                    <a:lnTo>
                      <a:pt x="297" y="2238"/>
                    </a:lnTo>
                    <a:lnTo>
                      <a:pt x="401" y="2130"/>
                    </a:lnTo>
                    <a:lnTo>
                      <a:pt x="539" y="1939"/>
                    </a:lnTo>
                    <a:lnTo>
                      <a:pt x="699" y="1687"/>
                    </a:lnTo>
                    <a:lnTo>
                      <a:pt x="823" y="1473"/>
                    </a:lnTo>
                    <a:lnTo>
                      <a:pt x="936" y="1192"/>
                    </a:lnTo>
                    <a:lnTo>
                      <a:pt x="1044" y="911"/>
                    </a:lnTo>
                    <a:lnTo>
                      <a:pt x="1104" y="638"/>
                    </a:lnTo>
                    <a:lnTo>
                      <a:pt x="1128" y="419"/>
                    </a:lnTo>
                    <a:lnTo>
                      <a:pt x="1155" y="111"/>
                    </a:lnTo>
                    <a:lnTo>
                      <a:pt x="3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4924440" y="1020600"/>
                <a:ext cx="128520" cy="312840"/>
              </a:xfrm>
              <a:custGeom>
                <a:avLst/>
                <a:gdLst/>
                <a:ahLst/>
                <a:rect l="l" t="t" r="r" b="b"/>
                <a:pathLst>
                  <a:path w="649" h="1577">
                    <a:moveTo>
                      <a:pt x="649" y="0"/>
                    </a:moveTo>
                    <a:lnTo>
                      <a:pt x="511" y="112"/>
                    </a:lnTo>
                    <a:lnTo>
                      <a:pt x="511" y="193"/>
                    </a:lnTo>
                    <a:lnTo>
                      <a:pt x="361" y="501"/>
                    </a:lnTo>
                    <a:lnTo>
                      <a:pt x="200" y="808"/>
                    </a:lnTo>
                    <a:lnTo>
                      <a:pt x="79" y="976"/>
                    </a:lnTo>
                    <a:lnTo>
                      <a:pt x="55" y="1280"/>
                    </a:lnTo>
                    <a:lnTo>
                      <a:pt x="0" y="1577"/>
                    </a:lnTo>
                    <a:lnTo>
                      <a:pt x="90" y="1520"/>
                    </a:lnTo>
                    <a:lnTo>
                      <a:pt x="228" y="1315"/>
                    </a:lnTo>
                    <a:lnTo>
                      <a:pt x="345" y="1089"/>
                    </a:lnTo>
                    <a:lnTo>
                      <a:pt x="421" y="865"/>
                    </a:lnTo>
                    <a:lnTo>
                      <a:pt x="495" y="617"/>
                    </a:lnTo>
                    <a:lnTo>
                      <a:pt x="560" y="358"/>
                    </a:lnTo>
                    <a:lnTo>
                      <a:pt x="591" y="204"/>
                    </a:lnTo>
                    <a:lnTo>
                      <a:pt x="608" y="107"/>
                    </a:lnTo>
                    <a:lnTo>
                      <a:pt x="64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260960" y="1442880"/>
                <a:ext cx="83880" cy="65160"/>
              </a:xfrm>
              <a:custGeom>
                <a:avLst/>
                <a:gdLst/>
                <a:ahLst/>
                <a:rect l="l" t="t" r="r" b="b"/>
                <a:pathLst>
                  <a:path w="425" h="334">
                    <a:moveTo>
                      <a:pt x="46" y="0"/>
                    </a:moveTo>
                    <a:lnTo>
                      <a:pt x="0" y="145"/>
                    </a:lnTo>
                    <a:lnTo>
                      <a:pt x="353" y="334"/>
                    </a:lnTo>
                    <a:lnTo>
                      <a:pt x="425" y="238"/>
                    </a:lnTo>
                    <a:lnTo>
                      <a:pt x="390" y="157"/>
                    </a:lnTo>
                    <a:lnTo>
                      <a:pt x="228" y="46"/>
                    </a:lnTo>
                    <a:lnTo>
                      <a:pt x="46"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8" name=""/>
              <p:cNvSpPr/>
              <p:nvPr/>
            </p:nvSpPr>
            <p:spPr>
              <a:xfrm>
                <a:off x="4138560" y="1471680"/>
                <a:ext cx="165240" cy="106200"/>
              </a:xfrm>
              <a:custGeom>
                <a:avLst/>
                <a:gdLst/>
                <a:ahLst/>
                <a:rect l="l" t="t" r="r" b="b"/>
                <a:pathLst>
                  <a:path w="834" h="530">
                    <a:moveTo>
                      <a:pt x="613" y="0"/>
                    </a:moveTo>
                    <a:lnTo>
                      <a:pt x="173" y="46"/>
                    </a:lnTo>
                    <a:lnTo>
                      <a:pt x="0" y="358"/>
                    </a:lnTo>
                    <a:lnTo>
                      <a:pt x="51" y="525"/>
                    </a:lnTo>
                    <a:lnTo>
                      <a:pt x="69" y="530"/>
                    </a:lnTo>
                    <a:lnTo>
                      <a:pt x="100" y="358"/>
                    </a:lnTo>
                    <a:lnTo>
                      <a:pt x="332" y="228"/>
                    </a:lnTo>
                    <a:lnTo>
                      <a:pt x="424" y="286"/>
                    </a:lnTo>
                    <a:lnTo>
                      <a:pt x="417" y="382"/>
                    </a:lnTo>
                    <a:lnTo>
                      <a:pt x="468" y="420"/>
                    </a:lnTo>
                    <a:lnTo>
                      <a:pt x="584" y="367"/>
                    </a:lnTo>
                    <a:lnTo>
                      <a:pt x="834" y="103"/>
                    </a:lnTo>
                    <a:lnTo>
                      <a:pt x="613"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976640" y="677880"/>
                <a:ext cx="193680" cy="311040"/>
              </a:xfrm>
              <a:custGeom>
                <a:avLst/>
                <a:gdLst/>
                <a:ahLst/>
                <a:rect l="l" t="t" r="r" b="b"/>
                <a:pathLst>
                  <a:path w="975" h="1565">
                    <a:moveTo>
                      <a:pt x="436" y="1565"/>
                    </a:moveTo>
                    <a:lnTo>
                      <a:pt x="533" y="1501"/>
                    </a:lnTo>
                    <a:lnTo>
                      <a:pt x="803" y="1350"/>
                    </a:lnTo>
                    <a:lnTo>
                      <a:pt x="975" y="779"/>
                    </a:lnTo>
                    <a:lnTo>
                      <a:pt x="766" y="0"/>
                    </a:lnTo>
                    <a:lnTo>
                      <a:pt x="221" y="3"/>
                    </a:lnTo>
                    <a:lnTo>
                      <a:pt x="100" y="456"/>
                    </a:lnTo>
                    <a:lnTo>
                      <a:pt x="21" y="489"/>
                    </a:lnTo>
                    <a:lnTo>
                      <a:pt x="0" y="532"/>
                    </a:lnTo>
                    <a:lnTo>
                      <a:pt x="0" y="600"/>
                    </a:lnTo>
                    <a:lnTo>
                      <a:pt x="194" y="849"/>
                    </a:lnTo>
                    <a:lnTo>
                      <a:pt x="422" y="1524"/>
                    </a:lnTo>
                    <a:lnTo>
                      <a:pt x="436" y="1565"/>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640560" y="1170000"/>
                <a:ext cx="379440" cy="341280"/>
              </a:xfrm>
              <a:custGeom>
                <a:avLst/>
                <a:gdLst/>
                <a:ahLst/>
                <a:rect l="l" t="t" r="r" b="b"/>
                <a:pathLst>
                  <a:path w="1909" h="1725">
                    <a:moveTo>
                      <a:pt x="101" y="1046"/>
                    </a:moveTo>
                    <a:lnTo>
                      <a:pt x="131" y="725"/>
                    </a:lnTo>
                    <a:lnTo>
                      <a:pt x="52" y="646"/>
                    </a:lnTo>
                    <a:lnTo>
                      <a:pt x="9" y="569"/>
                    </a:lnTo>
                    <a:lnTo>
                      <a:pt x="0" y="519"/>
                    </a:lnTo>
                    <a:lnTo>
                      <a:pt x="9" y="448"/>
                    </a:lnTo>
                    <a:lnTo>
                      <a:pt x="81" y="360"/>
                    </a:lnTo>
                    <a:lnTo>
                      <a:pt x="362" y="209"/>
                    </a:lnTo>
                    <a:lnTo>
                      <a:pt x="661" y="88"/>
                    </a:lnTo>
                    <a:lnTo>
                      <a:pt x="1092" y="0"/>
                    </a:lnTo>
                    <a:lnTo>
                      <a:pt x="1434" y="20"/>
                    </a:lnTo>
                    <a:lnTo>
                      <a:pt x="1698" y="97"/>
                    </a:lnTo>
                    <a:lnTo>
                      <a:pt x="1855" y="282"/>
                    </a:lnTo>
                    <a:lnTo>
                      <a:pt x="1909" y="561"/>
                    </a:lnTo>
                    <a:lnTo>
                      <a:pt x="1909" y="912"/>
                    </a:lnTo>
                    <a:lnTo>
                      <a:pt x="1892" y="1204"/>
                    </a:lnTo>
                    <a:lnTo>
                      <a:pt x="1839" y="1437"/>
                    </a:lnTo>
                    <a:lnTo>
                      <a:pt x="1802" y="1626"/>
                    </a:lnTo>
                    <a:lnTo>
                      <a:pt x="1802" y="1725"/>
                    </a:lnTo>
                    <a:lnTo>
                      <a:pt x="1766" y="1527"/>
                    </a:lnTo>
                    <a:lnTo>
                      <a:pt x="1661" y="1626"/>
                    </a:lnTo>
                    <a:lnTo>
                      <a:pt x="1588" y="1661"/>
                    </a:lnTo>
                    <a:lnTo>
                      <a:pt x="1544" y="1640"/>
                    </a:lnTo>
                    <a:lnTo>
                      <a:pt x="1523" y="1560"/>
                    </a:lnTo>
                    <a:lnTo>
                      <a:pt x="1595" y="1604"/>
                    </a:lnTo>
                    <a:lnTo>
                      <a:pt x="1650" y="1598"/>
                    </a:lnTo>
                    <a:lnTo>
                      <a:pt x="1716" y="1547"/>
                    </a:lnTo>
                    <a:lnTo>
                      <a:pt x="1795" y="1437"/>
                    </a:lnTo>
                    <a:lnTo>
                      <a:pt x="1839" y="1310"/>
                    </a:lnTo>
                    <a:lnTo>
                      <a:pt x="1855" y="1197"/>
                    </a:lnTo>
                    <a:lnTo>
                      <a:pt x="1830" y="1110"/>
                    </a:lnTo>
                    <a:lnTo>
                      <a:pt x="1758" y="1070"/>
                    </a:lnTo>
                    <a:lnTo>
                      <a:pt x="1678" y="1070"/>
                    </a:lnTo>
                    <a:lnTo>
                      <a:pt x="1617" y="1110"/>
                    </a:lnTo>
                    <a:lnTo>
                      <a:pt x="1544" y="1197"/>
                    </a:lnTo>
                    <a:lnTo>
                      <a:pt x="1523" y="1253"/>
                    </a:lnTo>
                    <a:lnTo>
                      <a:pt x="1472" y="1259"/>
                    </a:lnTo>
                    <a:lnTo>
                      <a:pt x="1424" y="1315"/>
                    </a:lnTo>
                    <a:lnTo>
                      <a:pt x="1401" y="1363"/>
                    </a:lnTo>
                    <a:lnTo>
                      <a:pt x="1300" y="1366"/>
                    </a:lnTo>
                    <a:lnTo>
                      <a:pt x="1233" y="1179"/>
                    </a:lnTo>
                    <a:lnTo>
                      <a:pt x="1162" y="1096"/>
                    </a:lnTo>
                    <a:lnTo>
                      <a:pt x="1079" y="1055"/>
                    </a:lnTo>
                    <a:lnTo>
                      <a:pt x="1048" y="983"/>
                    </a:lnTo>
                    <a:lnTo>
                      <a:pt x="1028" y="840"/>
                    </a:lnTo>
                    <a:lnTo>
                      <a:pt x="984" y="745"/>
                    </a:lnTo>
                    <a:lnTo>
                      <a:pt x="918" y="670"/>
                    </a:lnTo>
                    <a:lnTo>
                      <a:pt x="811" y="639"/>
                    </a:lnTo>
                    <a:lnTo>
                      <a:pt x="677" y="646"/>
                    </a:lnTo>
                    <a:lnTo>
                      <a:pt x="534" y="683"/>
                    </a:lnTo>
                    <a:lnTo>
                      <a:pt x="389" y="709"/>
                    </a:lnTo>
                    <a:lnTo>
                      <a:pt x="279" y="743"/>
                    </a:lnTo>
                    <a:lnTo>
                      <a:pt x="142" y="743"/>
                    </a:lnTo>
                    <a:lnTo>
                      <a:pt x="101" y="10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950160" y="1397160"/>
                <a:ext cx="57240" cy="61920"/>
              </a:xfrm>
              <a:custGeom>
                <a:avLst/>
                <a:gdLst/>
                <a:ahLst/>
                <a:rect l="l" t="t" r="r" b="b"/>
                <a:pathLst>
                  <a:path w="286" h="310">
                    <a:moveTo>
                      <a:pt x="7" y="182"/>
                    </a:moveTo>
                    <a:lnTo>
                      <a:pt x="59" y="123"/>
                    </a:lnTo>
                    <a:lnTo>
                      <a:pt x="129" y="59"/>
                    </a:lnTo>
                    <a:lnTo>
                      <a:pt x="200" y="22"/>
                    </a:lnTo>
                    <a:lnTo>
                      <a:pt x="286" y="0"/>
                    </a:lnTo>
                    <a:lnTo>
                      <a:pt x="187" y="52"/>
                    </a:lnTo>
                    <a:lnTo>
                      <a:pt x="70" y="131"/>
                    </a:lnTo>
                    <a:lnTo>
                      <a:pt x="103" y="211"/>
                    </a:lnTo>
                    <a:lnTo>
                      <a:pt x="103" y="266"/>
                    </a:lnTo>
                    <a:lnTo>
                      <a:pt x="37" y="301"/>
                    </a:lnTo>
                    <a:lnTo>
                      <a:pt x="0" y="310"/>
                    </a:lnTo>
                    <a:lnTo>
                      <a:pt x="21" y="276"/>
                    </a:lnTo>
                    <a:lnTo>
                      <a:pt x="21" y="237"/>
                    </a:lnTo>
                    <a:lnTo>
                      <a:pt x="0" y="211"/>
                    </a:lnTo>
                    <a:lnTo>
                      <a:pt x="7" y="18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82" name=""/>
              <p:cNvSpPr/>
              <p:nvPr/>
            </p:nvSpPr>
            <p:spPr>
              <a:xfrm>
                <a:off x="6972480" y="1406520"/>
                <a:ext cx="17280" cy="54000"/>
              </a:xfrm>
              <a:custGeom>
                <a:avLst/>
                <a:gdLst/>
                <a:ahLst/>
                <a:rect l="l" t="t" r="r" b="b"/>
                <a:pathLst>
                  <a:path w="92" h="271">
                    <a:moveTo>
                      <a:pt x="21" y="35"/>
                    </a:moveTo>
                    <a:lnTo>
                      <a:pt x="50" y="79"/>
                    </a:lnTo>
                    <a:lnTo>
                      <a:pt x="54" y="150"/>
                    </a:lnTo>
                    <a:lnTo>
                      <a:pt x="32" y="224"/>
                    </a:lnTo>
                    <a:lnTo>
                      <a:pt x="0" y="271"/>
                    </a:lnTo>
                    <a:lnTo>
                      <a:pt x="72" y="192"/>
                    </a:lnTo>
                    <a:lnTo>
                      <a:pt x="88" y="130"/>
                    </a:lnTo>
                    <a:lnTo>
                      <a:pt x="88" y="62"/>
                    </a:lnTo>
                    <a:lnTo>
                      <a:pt x="92" y="18"/>
                    </a:lnTo>
                    <a:lnTo>
                      <a:pt x="72" y="0"/>
                    </a:lnTo>
                    <a:lnTo>
                      <a:pt x="21" y="3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3" name=""/>
              <p:cNvSpPr/>
              <p:nvPr/>
            </p:nvSpPr>
            <p:spPr>
              <a:xfrm>
                <a:off x="6665760" y="1481040"/>
                <a:ext cx="341640" cy="209520"/>
              </a:xfrm>
              <a:custGeom>
                <a:avLst/>
                <a:gdLst/>
                <a:ahLst/>
                <a:rect l="l" t="t" r="r" b="b"/>
                <a:pathLst>
                  <a:path w="1722" h="1055">
                    <a:moveTo>
                      <a:pt x="20" y="9"/>
                    </a:moveTo>
                    <a:lnTo>
                      <a:pt x="0" y="163"/>
                    </a:lnTo>
                    <a:lnTo>
                      <a:pt x="9" y="233"/>
                    </a:lnTo>
                    <a:lnTo>
                      <a:pt x="58" y="320"/>
                    </a:lnTo>
                    <a:lnTo>
                      <a:pt x="172" y="451"/>
                    </a:lnTo>
                    <a:lnTo>
                      <a:pt x="279" y="641"/>
                    </a:lnTo>
                    <a:lnTo>
                      <a:pt x="337" y="841"/>
                    </a:lnTo>
                    <a:lnTo>
                      <a:pt x="350" y="899"/>
                    </a:lnTo>
                    <a:lnTo>
                      <a:pt x="385" y="917"/>
                    </a:lnTo>
                    <a:lnTo>
                      <a:pt x="467" y="934"/>
                    </a:lnTo>
                    <a:lnTo>
                      <a:pt x="572" y="934"/>
                    </a:lnTo>
                    <a:lnTo>
                      <a:pt x="759" y="919"/>
                    </a:lnTo>
                    <a:lnTo>
                      <a:pt x="844" y="917"/>
                    </a:lnTo>
                    <a:lnTo>
                      <a:pt x="970" y="1055"/>
                    </a:lnTo>
                    <a:lnTo>
                      <a:pt x="1176" y="934"/>
                    </a:lnTo>
                    <a:lnTo>
                      <a:pt x="1328" y="784"/>
                    </a:lnTo>
                    <a:lnTo>
                      <a:pt x="1515" y="597"/>
                    </a:lnTo>
                    <a:lnTo>
                      <a:pt x="1623" y="451"/>
                    </a:lnTo>
                    <a:lnTo>
                      <a:pt x="1722" y="211"/>
                    </a:lnTo>
                    <a:lnTo>
                      <a:pt x="1588" y="475"/>
                    </a:lnTo>
                    <a:lnTo>
                      <a:pt x="1464" y="604"/>
                    </a:lnTo>
                    <a:lnTo>
                      <a:pt x="1293" y="747"/>
                    </a:lnTo>
                    <a:lnTo>
                      <a:pt x="1155" y="732"/>
                    </a:lnTo>
                    <a:lnTo>
                      <a:pt x="1284" y="622"/>
                    </a:lnTo>
                    <a:lnTo>
                      <a:pt x="1344" y="373"/>
                    </a:lnTo>
                    <a:lnTo>
                      <a:pt x="1344" y="0"/>
                    </a:lnTo>
                    <a:lnTo>
                      <a:pt x="1319" y="200"/>
                    </a:lnTo>
                    <a:lnTo>
                      <a:pt x="939" y="778"/>
                    </a:lnTo>
                    <a:lnTo>
                      <a:pt x="759" y="862"/>
                    </a:lnTo>
                    <a:lnTo>
                      <a:pt x="530" y="890"/>
                    </a:lnTo>
                    <a:lnTo>
                      <a:pt x="431" y="881"/>
                    </a:lnTo>
                    <a:lnTo>
                      <a:pt x="364" y="862"/>
                    </a:lnTo>
                    <a:lnTo>
                      <a:pt x="302" y="668"/>
                    </a:lnTo>
                    <a:lnTo>
                      <a:pt x="227" y="523"/>
                    </a:lnTo>
                    <a:lnTo>
                      <a:pt x="179" y="422"/>
                    </a:lnTo>
                    <a:lnTo>
                      <a:pt x="154" y="327"/>
                    </a:lnTo>
                    <a:lnTo>
                      <a:pt x="99" y="277"/>
                    </a:lnTo>
                    <a:lnTo>
                      <a:pt x="44" y="233"/>
                    </a:lnTo>
                    <a:lnTo>
                      <a:pt x="9" y="156"/>
                    </a:lnTo>
                    <a:lnTo>
                      <a:pt x="20" y="71"/>
                    </a:lnTo>
                    <a:lnTo>
                      <a:pt x="2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676920" y="1603440"/>
                <a:ext cx="47880" cy="30240"/>
              </a:xfrm>
              <a:custGeom>
                <a:avLst/>
                <a:gdLst/>
                <a:ahLst/>
                <a:rect l="l" t="t" r="r" b="b"/>
                <a:pathLst>
                  <a:path w="239" h="152">
                    <a:moveTo>
                      <a:pt x="205" y="0"/>
                    </a:moveTo>
                    <a:lnTo>
                      <a:pt x="0" y="152"/>
                    </a:lnTo>
                    <a:lnTo>
                      <a:pt x="239" y="83"/>
                    </a:lnTo>
                    <a:lnTo>
                      <a:pt x="20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5" name=""/>
              <p:cNvSpPr/>
              <p:nvPr/>
            </p:nvSpPr>
            <p:spPr>
              <a:xfrm>
                <a:off x="6737400" y="1415880"/>
                <a:ext cx="95040" cy="34920"/>
              </a:xfrm>
              <a:custGeom>
                <a:avLst/>
                <a:gdLst/>
                <a:ahLst/>
                <a:rect l="l" t="t" r="r" b="b"/>
                <a:pathLst>
                  <a:path w="485" h="177">
                    <a:moveTo>
                      <a:pt x="0" y="147"/>
                    </a:moveTo>
                    <a:lnTo>
                      <a:pt x="28" y="92"/>
                    </a:lnTo>
                    <a:lnTo>
                      <a:pt x="150" y="32"/>
                    </a:lnTo>
                    <a:lnTo>
                      <a:pt x="284" y="0"/>
                    </a:lnTo>
                    <a:lnTo>
                      <a:pt x="485" y="27"/>
                    </a:lnTo>
                    <a:lnTo>
                      <a:pt x="301" y="57"/>
                    </a:lnTo>
                    <a:lnTo>
                      <a:pt x="19" y="177"/>
                    </a:lnTo>
                    <a:lnTo>
                      <a:pt x="0" y="14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6" name=""/>
              <p:cNvSpPr/>
              <p:nvPr/>
            </p:nvSpPr>
            <p:spPr>
              <a:xfrm>
                <a:off x="6654960" y="1422360"/>
                <a:ext cx="44280" cy="25560"/>
              </a:xfrm>
              <a:custGeom>
                <a:avLst/>
                <a:gdLst/>
                <a:ahLst/>
                <a:rect l="l" t="t" r="r" b="b"/>
                <a:pathLst>
                  <a:path w="221" h="124">
                    <a:moveTo>
                      <a:pt x="221" y="124"/>
                    </a:moveTo>
                    <a:lnTo>
                      <a:pt x="201" y="89"/>
                    </a:lnTo>
                    <a:lnTo>
                      <a:pt x="141" y="46"/>
                    </a:lnTo>
                    <a:lnTo>
                      <a:pt x="21" y="0"/>
                    </a:lnTo>
                    <a:lnTo>
                      <a:pt x="0" y="16"/>
                    </a:lnTo>
                    <a:lnTo>
                      <a:pt x="35" y="60"/>
                    </a:lnTo>
                    <a:lnTo>
                      <a:pt x="180" y="115"/>
                    </a:lnTo>
                    <a:lnTo>
                      <a:pt x="221" y="1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87" name=""/>
              <p:cNvSpPr/>
              <p:nvPr/>
            </p:nvSpPr>
            <p:spPr>
              <a:xfrm>
                <a:off x="6683400" y="1449360"/>
                <a:ext cx="87120" cy="109440"/>
              </a:xfrm>
              <a:custGeom>
                <a:avLst/>
                <a:gdLst/>
                <a:ahLst/>
                <a:rect l="l" t="t" r="r" b="b"/>
                <a:pathLst>
                  <a:path w="443" h="558">
                    <a:moveTo>
                      <a:pt x="114" y="39"/>
                    </a:moveTo>
                    <a:lnTo>
                      <a:pt x="125" y="85"/>
                    </a:lnTo>
                    <a:lnTo>
                      <a:pt x="114" y="166"/>
                    </a:lnTo>
                    <a:lnTo>
                      <a:pt x="63" y="293"/>
                    </a:lnTo>
                    <a:lnTo>
                      <a:pt x="17" y="404"/>
                    </a:lnTo>
                    <a:lnTo>
                      <a:pt x="28" y="441"/>
                    </a:lnTo>
                    <a:lnTo>
                      <a:pt x="68" y="476"/>
                    </a:lnTo>
                    <a:lnTo>
                      <a:pt x="125" y="491"/>
                    </a:lnTo>
                    <a:lnTo>
                      <a:pt x="199" y="450"/>
                    </a:lnTo>
                    <a:lnTo>
                      <a:pt x="281" y="441"/>
                    </a:lnTo>
                    <a:lnTo>
                      <a:pt x="356" y="457"/>
                    </a:lnTo>
                    <a:lnTo>
                      <a:pt x="395" y="457"/>
                    </a:lnTo>
                    <a:lnTo>
                      <a:pt x="422" y="436"/>
                    </a:lnTo>
                    <a:lnTo>
                      <a:pt x="422" y="415"/>
                    </a:lnTo>
                    <a:lnTo>
                      <a:pt x="406" y="386"/>
                    </a:lnTo>
                    <a:lnTo>
                      <a:pt x="356" y="335"/>
                    </a:lnTo>
                    <a:lnTo>
                      <a:pt x="430" y="386"/>
                    </a:lnTo>
                    <a:lnTo>
                      <a:pt x="443" y="415"/>
                    </a:lnTo>
                    <a:lnTo>
                      <a:pt x="443" y="441"/>
                    </a:lnTo>
                    <a:lnTo>
                      <a:pt x="430" y="476"/>
                    </a:lnTo>
                    <a:lnTo>
                      <a:pt x="399" y="491"/>
                    </a:lnTo>
                    <a:lnTo>
                      <a:pt x="371" y="485"/>
                    </a:lnTo>
                    <a:lnTo>
                      <a:pt x="307" y="485"/>
                    </a:lnTo>
                    <a:lnTo>
                      <a:pt x="272" y="507"/>
                    </a:lnTo>
                    <a:lnTo>
                      <a:pt x="204" y="558"/>
                    </a:lnTo>
                    <a:lnTo>
                      <a:pt x="187" y="558"/>
                    </a:lnTo>
                    <a:lnTo>
                      <a:pt x="151" y="542"/>
                    </a:lnTo>
                    <a:lnTo>
                      <a:pt x="125" y="514"/>
                    </a:lnTo>
                    <a:lnTo>
                      <a:pt x="56" y="491"/>
                    </a:lnTo>
                    <a:lnTo>
                      <a:pt x="17" y="457"/>
                    </a:lnTo>
                    <a:lnTo>
                      <a:pt x="0" y="427"/>
                    </a:lnTo>
                    <a:lnTo>
                      <a:pt x="0" y="401"/>
                    </a:lnTo>
                    <a:lnTo>
                      <a:pt x="83" y="166"/>
                    </a:lnTo>
                    <a:lnTo>
                      <a:pt x="107" y="100"/>
                    </a:lnTo>
                    <a:lnTo>
                      <a:pt x="100" y="56"/>
                    </a:lnTo>
                    <a:lnTo>
                      <a:pt x="90" y="0"/>
                    </a:lnTo>
                    <a:lnTo>
                      <a:pt x="114"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670800" y="1457280"/>
                <a:ext cx="33120" cy="15840"/>
              </a:xfrm>
              <a:custGeom>
                <a:avLst/>
                <a:gdLst/>
                <a:ahLst/>
                <a:rect l="l" t="t" r="r" b="b"/>
                <a:pathLst>
                  <a:path w="167" h="86">
                    <a:moveTo>
                      <a:pt x="0" y="0"/>
                    </a:moveTo>
                    <a:lnTo>
                      <a:pt x="167" y="56"/>
                    </a:lnTo>
                    <a:lnTo>
                      <a:pt x="150" y="86"/>
                    </a:lnTo>
                    <a:lnTo>
                      <a:pt x="102" y="81"/>
                    </a:lnTo>
                    <a:lnTo>
                      <a:pt x="60" y="56"/>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89" name=""/>
              <p:cNvSpPr/>
              <p:nvPr/>
            </p:nvSpPr>
            <p:spPr>
              <a:xfrm>
                <a:off x="6751800" y="1449360"/>
                <a:ext cx="64800" cy="20520"/>
              </a:xfrm>
              <a:custGeom>
                <a:avLst/>
                <a:gdLst/>
                <a:ahLst/>
                <a:rect l="l" t="t" r="r" b="b"/>
                <a:pathLst>
                  <a:path w="328" h="107">
                    <a:moveTo>
                      <a:pt x="0" y="74"/>
                    </a:moveTo>
                    <a:lnTo>
                      <a:pt x="86" y="63"/>
                    </a:lnTo>
                    <a:lnTo>
                      <a:pt x="192" y="39"/>
                    </a:lnTo>
                    <a:lnTo>
                      <a:pt x="328" y="0"/>
                    </a:lnTo>
                    <a:lnTo>
                      <a:pt x="201" y="63"/>
                    </a:lnTo>
                    <a:lnTo>
                      <a:pt x="127" y="100"/>
                    </a:lnTo>
                    <a:lnTo>
                      <a:pt x="62" y="107"/>
                    </a:lnTo>
                    <a:lnTo>
                      <a:pt x="12" y="100"/>
                    </a:lnTo>
                    <a:lnTo>
                      <a:pt x="0" y="97"/>
                    </a:lnTo>
                    <a:lnTo>
                      <a:pt x="0" y="7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90" name=""/>
              <p:cNvSpPr/>
              <p:nvPr/>
            </p:nvSpPr>
            <p:spPr>
              <a:xfrm>
                <a:off x="6719760" y="1573200"/>
                <a:ext cx="77760" cy="22320"/>
              </a:xfrm>
              <a:custGeom>
                <a:avLst/>
                <a:gdLst/>
                <a:ahLst/>
                <a:rect l="l" t="t" r="r" b="b"/>
                <a:pathLst>
                  <a:path w="390" h="113">
                    <a:moveTo>
                      <a:pt x="0" y="0"/>
                    </a:moveTo>
                    <a:lnTo>
                      <a:pt x="41" y="11"/>
                    </a:lnTo>
                    <a:lnTo>
                      <a:pt x="136" y="0"/>
                    </a:lnTo>
                    <a:lnTo>
                      <a:pt x="307" y="5"/>
                    </a:lnTo>
                    <a:lnTo>
                      <a:pt x="390" y="20"/>
                    </a:lnTo>
                    <a:lnTo>
                      <a:pt x="279" y="73"/>
                    </a:lnTo>
                    <a:lnTo>
                      <a:pt x="184" y="113"/>
                    </a:lnTo>
                    <a:lnTo>
                      <a:pt x="300" y="48"/>
                    </a:lnTo>
                    <a:lnTo>
                      <a:pt x="291" y="20"/>
                    </a:lnTo>
                    <a:lnTo>
                      <a:pt x="164" y="20"/>
                    </a:lnTo>
                    <a:lnTo>
                      <a:pt x="50" y="25"/>
                    </a:lnTo>
                    <a:lnTo>
                      <a:pt x="17" y="25"/>
                    </a:lnTo>
                    <a:lnTo>
                      <a:pt x="35" y="84"/>
                    </a:lnTo>
                    <a:lnTo>
                      <a:pt x="0" y="25"/>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1" name=""/>
              <p:cNvSpPr/>
              <p:nvPr/>
            </p:nvSpPr>
            <p:spPr>
              <a:xfrm>
                <a:off x="6738840" y="1609560"/>
                <a:ext cx="27000" cy="11160"/>
              </a:xfrm>
              <a:custGeom>
                <a:avLst/>
                <a:gdLst/>
                <a:ahLst/>
                <a:rect l="l" t="t" r="r" b="b"/>
                <a:pathLst>
                  <a:path w="133" h="57">
                    <a:moveTo>
                      <a:pt x="0" y="0"/>
                    </a:moveTo>
                    <a:lnTo>
                      <a:pt x="23" y="57"/>
                    </a:lnTo>
                    <a:lnTo>
                      <a:pt x="133" y="57"/>
                    </a:lnTo>
                    <a:lnTo>
                      <a:pt x="81" y="4"/>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2" name=""/>
              <p:cNvSpPr/>
              <p:nvPr/>
            </p:nvSpPr>
            <p:spPr>
              <a:xfrm>
                <a:off x="6764400" y="1471680"/>
                <a:ext cx="46080" cy="11160"/>
              </a:xfrm>
              <a:custGeom>
                <a:avLst/>
                <a:gdLst/>
                <a:ahLst/>
                <a:rect l="l" t="t" r="r" b="b"/>
                <a:pathLst>
                  <a:path w="238" h="60">
                    <a:moveTo>
                      <a:pt x="0" y="53"/>
                    </a:moveTo>
                    <a:lnTo>
                      <a:pt x="60" y="60"/>
                    </a:lnTo>
                    <a:lnTo>
                      <a:pt x="123" y="60"/>
                    </a:lnTo>
                    <a:lnTo>
                      <a:pt x="182" y="32"/>
                    </a:lnTo>
                    <a:lnTo>
                      <a:pt x="238" y="0"/>
                    </a:lnTo>
                    <a:lnTo>
                      <a:pt x="160" y="35"/>
                    </a:lnTo>
                    <a:lnTo>
                      <a:pt x="97" y="53"/>
                    </a:lnTo>
                    <a:lnTo>
                      <a:pt x="51" y="53"/>
                    </a:lnTo>
                    <a:lnTo>
                      <a:pt x="0" y="5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3" name=""/>
              <p:cNvSpPr/>
              <p:nvPr/>
            </p:nvSpPr>
            <p:spPr>
              <a:xfrm>
                <a:off x="6675480" y="1474920"/>
                <a:ext cx="19080" cy="9360"/>
              </a:xfrm>
              <a:custGeom>
                <a:avLst/>
                <a:gdLst/>
                <a:ahLst/>
                <a:rect l="l" t="t" r="r" b="b"/>
                <a:pathLst>
                  <a:path w="92" h="44">
                    <a:moveTo>
                      <a:pt x="92" y="32"/>
                    </a:moveTo>
                    <a:lnTo>
                      <a:pt x="53" y="39"/>
                    </a:lnTo>
                    <a:lnTo>
                      <a:pt x="0" y="0"/>
                    </a:lnTo>
                    <a:lnTo>
                      <a:pt x="39" y="44"/>
                    </a:lnTo>
                    <a:lnTo>
                      <a:pt x="73" y="44"/>
                    </a:lnTo>
                    <a:lnTo>
                      <a:pt x="92" y="3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4" name=""/>
              <p:cNvSpPr/>
              <p:nvPr/>
            </p:nvSpPr>
            <p:spPr>
              <a:xfrm>
                <a:off x="6135840" y="1440000"/>
                <a:ext cx="42840" cy="21960"/>
              </a:xfrm>
              <a:custGeom>
                <a:avLst/>
                <a:gdLst/>
                <a:ahLst/>
                <a:rect l="l" t="t" r="r" b="b"/>
                <a:pathLst>
                  <a:path w="221" h="107">
                    <a:moveTo>
                      <a:pt x="0" y="42"/>
                    </a:moveTo>
                    <a:lnTo>
                      <a:pt x="93" y="0"/>
                    </a:lnTo>
                    <a:lnTo>
                      <a:pt x="214" y="33"/>
                    </a:lnTo>
                    <a:lnTo>
                      <a:pt x="221" y="107"/>
                    </a:lnTo>
                    <a:lnTo>
                      <a:pt x="86" y="37"/>
                    </a:lnTo>
                    <a:lnTo>
                      <a:pt x="0" y="4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95" name=""/>
              <p:cNvSpPr/>
              <p:nvPr/>
            </p:nvSpPr>
            <p:spPr>
              <a:xfrm>
                <a:off x="6140520" y="1454040"/>
                <a:ext cx="30240" cy="25560"/>
              </a:xfrm>
              <a:custGeom>
                <a:avLst/>
                <a:gdLst/>
                <a:ahLst/>
                <a:rect l="l" t="t" r="r" b="b"/>
                <a:pathLst>
                  <a:path w="155" h="129">
                    <a:moveTo>
                      <a:pt x="125" y="0"/>
                    </a:moveTo>
                    <a:lnTo>
                      <a:pt x="83" y="28"/>
                    </a:lnTo>
                    <a:lnTo>
                      <a:pt x="15" y="50"/>
                    </a:lnTo>
                    <a:lnTo>
                      <a:pt x="0" y="81"/>
                    </a:lnTo>
                    <a:lnTo>
                      <a:pt x="0" y="122"/>
                    </a:lnTo>
                    <a:lnTo>
                      <a:pt x="31" y="108"/>
                    </a:lnTo>
                    <a:lnTo>
                      <a:pt x="61" y="129"/>
                    </a:lnTo>
                    <a:lnTo>
                      <a:pt x="65" y="64"/>
                    </a:lnTo>
                    <a:lnTo>
                      <a:pt x="107" y="50"/>
                    </a:lnTo>
                    <a:lnTo>
                      <a:pt x="155" y="13"/>
                    </a:lnTo>
                    <a:lnTo>
                      <a:pt x="12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96" name=""/>
              <p:cNvSpPr/>
              <p:nvPr/>
            </p:nvSpPr>
            <p:spPr>
              <a:xfrm>
                <a:off x="6216480" y="1392120"/>
                <a:ext cx="71640" cy="123840"/>
              </a:xfrm>
              <a:custGeom>
                <a:avLst/>
                <a:gdLst/>
                <a:ahLst/>
                <a:rect l="l" t="t" r="r" b="b"/>
                <a:pathLst>
                  <a:path w="367" h="624">
                    <a:moveTo>
                      <a:pt x="0" y="192"/>
                    </a:moveTo>
                    <a:lnTo>
                      <a:pt x="123" y="19"/>
                    </a:lnTo>
                    <a:lnTo>
                      <a:pt x="367" y="0"/>
                    </a:lnTo>
                    <a:lnTo>
                      <a:pt x="162" y="33"/>
                    </a:lnTo>
                    <a:lnTo>
                      <a:pt x="125" y="107"/>
                    </a:lnTo>
                    <a:lnTo>
                      <a:pt x="35" y="224"/>
                    </a:lnTo>
                    <a:lnTo>
                      <a:pt x="35" y="332"/>
                    </a:lnTo>
                    <a:lnTo>
                      <a:pt x="99" y="450"/>
                    </a:lnTo>
                    <a:lnTo>
                      <a:pt x="143" y="473"/>
                    </a:lnTo>
                    <a:lnTo>
                      <a:pt x="143" y="536"/>
                    </a:lnTo>
                    <a:lnTo>
                      <a:pt x="174" y="501"/>
                    </a:lnTo>
                    <a:lnTo>
                      <a:pt x="218" y="492"/>
                    </a:lnTo>
                    <a:lnTo>
                      <a:pt x="209" y="521"/>
                    </a:lnTo>
                    <a:lnTo>
                      <a:pt x="143" y="567"/>
                    </a:lnTo>
                    <a:lnTo>
                      <a:pt x="105" y="624"/>
                    </a:lnTo>
                    <a:lnTo>
                      <a:pt x="26" y="613"/>
                    </a:lnTo>
                    <a:lnTo>
                      <a:pt x="81" y="598"/>
                    </a:lnTo>
                    <a:lnTo>
                      <a:pt x="99" y="492"/>
                    </a:lnTo>
                    <a:lnTo>
                      <a:pt x="0" y="298"/>
                    </a:lnTo>
                    <a:lnTo>
                      <a:pt x="0"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224760" y="1415880"/>
                <a:ext cx="66600" cy="28800"/>
              </a:xfrm>
              <a:custGeom>
                <a:avLst/>
                <a:gdLst/>
                <a:ahLst/>
                <a:rect l="l" t="t" r="r" b="b"/>
                <a:pathLst>
                  <a:path w="339" h="143">
                    <a:moveTo>
                      <a:pt x="39" y="41"/>
                    </a:moveTo>
                    <a:lnTo>
                      <a:pt x="109" y="35"/>
                    </a:lnTo>
                    <a:lnTo>
                      <a:pt x="215" y="0"/>
                    </a:lnTo>
                    <a:lnTo>
                      <a:pt x="339" y="0"/>
                    </a:lnTo>
                    <a:lnTo>
                      <a:pt x="252" y="50"/>
                    </a:lnTo>
                    <a:lnTo>
                      <a:pt x="194" y="64"/>
                    </a:lnTo>
                    <a:lnTo>
                      <a:pt x="88" y="83"/>
                    </a:lnTo>
                    <a:lnTo>
                      <a:pt x="63" y="143"/>
                    </a:lnTo>
                    <a:lnTo>
                      <a:pt x="0" y="68"/>
                    </a:lnTo>
                    <a:lnTo>
                      <a:pt x="39"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98" name=""/>
              <p:cNvSpPr/>
              <p:nvPr/>
            </p:nvSpPr>
            <p:spPr>
              <a:xfrm>
                <a:off x="6067440" y="1230480"/>
                <a:ext cx="274680" cy="214200"/>
              </a:xfrm>
              <a:custGeom>
                <a:avLst/>
                <a:gdLst/>
                <a:ahLst/>
                <a:rect l="l" t="t" r="r" b="b"/>
                <a:pathLst>
                  <a:path w="1390" h="1077">
                    <a:moveTo>
                      <a:pt x="193" y="703"/>
                    </a:moveTo>
                    <a:lnTo>
                      <a:pt x="127" y="620"/>
                    </a:lnTo>
                    <a:lnTo>
                      <a:pt x="160" y="551"/>
                    </a:lnTo>
                    <a:lnTo>
                      <a:pt x="270" y="536"/>
                    </a:lnTo>
                    <a:lnTo>
                      <a:pt x="386" y="622"/>
                    </a:lnTo>
                    <a:lnTo>
                      <a:pt x="560" y="698"/>
                    </a:lnTo>
                    <a:lnTo>
                      <a:pt x="705" y="712"/>
                    </a:lnTo>
                    <a:lnTo>
                      <a:pt x="837" y="675"/>
                    </a:lnTo>
                    <a:lnTo>
                      <a:pt x="1008" y="648"/>
                    </a:lnTo>
                    <a:lnTo>
                      <a:pt x="1142" y="670"/>
                    </a:lnTo>
                    <a:lnTo>
                      <a:pt x="1056" y="606"/>
                    </a:lnTo>
                    <a:lnTo>
                      <a:pt x="925" y="578"/>
                    </a:lnTo>
                    <a:lnTo>
                      <a:pt x="786" y="567"/>
                    </a:lnTo>
                    <a:lnTo>
                      <a:pt x="661" y="547"/>
                    </a:lnTo>
                    <a:lnTo>
                      <a:pt x="850" y="542"/>
                    </a:lnTo>
                    <a:lnTo>
                      <a:pt x="712" y="468"/>
                    </a:lnTo>
                    <a:lnTo>
                      <a:pt x="602" y="385"/>
                    </a:lnTo>
                    <a:lnTo>
                      <a:pt x="494" y="345"/>
                    </a:lnTo>
                    <a:lnTo>
                      <a:pt x="360" y="325"/>
                    </a:lnTo>
                    <a:lnTo>
                      <a:pt x="226" y="364"/>
                    </a:lnTo>
                    <a:lnTo>
                      <a:pt x="367" y="311"/>
                    </a:lnTo>
                    <a:lnTo>
                      <a:pt x="507" y="311"/>
                    </a:lnTo>
                    <a:lnTo>
                      <a:pt x="731" y="360"/>
                    </a:lnTo>
                    <a:lnTo>
                      <a:pt x="625" y="277"/>
                    </a:lnTo>
                    <a:lnTo>
                      <a:pt x="503" y="237"/>
                    </a:lnTo>
                    <a:lnTo>
                      <a:pt x="630" y="237"/>
                    </a:lnTo>
                    <a:lnTo>
                      <a:pt x="810" y="270"/>
                    </a:lnTo>
                    <a:lnTo>
                      <a:pt x="999" y="336"/>
                    </a:lnTo>
                    <a:lnTo>
                      <a:pt x="892" y="228"/>
                    </a:lnTo>
                    <a:lnTo>
                      <a:pt x="786" y="182"/>
                    </a:lnTo>
                    <a:lnTo>
                      <a:pt x="1003" y="212"/>
                    </a:lnTo>
                    <a:lnTo>
                      <a:pt x="1132" y="277"/>
                    </a:lnTo>
                    <a:lnTo>
                      <a:pt x="1213" y="351"/>
                    </a:lnTo>
                    <a:lnTo>
                      <a:pt x="1118" y="189"/>
                    </a:lnTo>
                    <a:lnTo>
                      <a:pt x="920" y="70"/>
                    </a:lnTo>
                    <a:lnTo>
                      <a:pt x="731" y="44"/>
                    </a:lnTo>
                    <a:lnTo>
                      <a:pt x="480" y="59"/>
                    </a:lnTo>
                    <a:lnTo>
                      <a:pt x="281" y="118"/>
                    </a:lnTo>
                    <a:lnTo>
                      <a:pt x="184" y="202"/>
                    </a:lnTo>
                    <a:lnTo>
                      <a:pt x="111" y="292"/>
                    </a:lnTo>
                    <a:lnTo>
                      <a:pt x="33" y="435"/>
                    </a:lnTo>
                    <a:lnTo>
                      <a:pt x="26" y="486"/>
                    </a:lnTo>
                    <a:lnTo>
                      <a:pt x="51" y="542"/>
                    </a:lnTo>
                    <a:lnTo>
                      <a:pt x="74" y="613"/>
                    </a:lnTo>
                    <a:lnTo>
                      <a:pt x="12" y="530"/>
                    </a:lnTo>
                    <a:lnTo>
                      <a:pt x="0" y="457"/>
                    </a:lnTo>
                    <a:lnTo>
                      <a:pt x="33" y="371"/>
                    </a:lnTo>
                    <a:lnTo>
                      <a:pt x="162" y="178"/>
                    </a:lnTo>
                    <a:lnTo>
                      <a:pt x="330" y="59"/>
                    </a:lnTo>
                    <a:lnTo>
                      <a:pt x="643" y="0"/>
                    </a:lnTo>
                    <a:lnTo>
                      <a:pt x="955" y="44"/>
                    </a:lnTo>
                    <a:lnTo>
                      <a:pt x="1182" y="202"/>
                    </a:lnTo>
                    <a:lnTo>
                      <a:pt x="1335" y="399"/>
                    </a:lnTo>
                    <a:lnTo>
                      <a:pt x="1377" y="586"/>
                    </a:lnTo>
                    <a:lnTo>
                      <a:pt x="1390" y="830"/>
                    </a:lnTo>
                    <a:lnTo>
                      <a:pt x="1362" y="943"/>
                    </a:lnTo>
                    <a:lnTo>
                      <a:pt x="1347" y="1077"/>
                    </a:lnTo>
                    <a:lnTo>
                      <a:pt x="1335" y="912"/>
                    </a:lnTo>
                    <a:lnTo>
                      <a:pt x="1270" y="837"/>
                    </a:lnTo>
                    <a:lnTo>
                      <a:pt x="1182" y="703"/>
                    </a:lnTo>
                    <a:lnTo>
                      <a:pt x="1086" y="675"/>
                    </a:lnTo>
                    <a:lnTo>
                      <a:pt x="1003" y="664"/>
                    </a:lnTo>
                    <a:lnTo>
                      <a:pt x="856" y="687"/>
                    </a:lnTo>
                    <a:lnTo>
                      <a:pt x="758" y="738"/>
                    </a:lnTo>
                    <a:lnTo>
                      <a:pt x="674" y="754"/>
                    </a:lnTo>
                    <a:lnTo>
                      <a:pt x="604" y="749"/>
                    </a:lnTo>
                    <a:lnTo>
                      <a:pt x="452" y="703"/>
                    </a:lnTo>
                    <a:lnTo>
                      <a:pt x="330" y="639"/>
                    </a:lnTo>
                    <a:lnTo>
                      <a:pt x="201" y="712"/>
                    </a:lnTo>
                    <a:lnTo>
                      <a:pt x="193" y="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048360" y="1352520"/>
                <a:ext cx="69840" cy="135000"/>
              </a:xfrm>
              <a:custGeom>
                <a:avLst/>
                <a:gdLst/>
                <a:ahLst/>
                <a:rect l="l" t="t" r="r" b="b"/>
                <a:pathLst>
                  <a:path w="349" h="683">
                    <a:moveTo>
                      <a:pt x="283" y="106"/>
                    </a:moveTo>
                    <a:lnTo>
                      <a:pt x="252" y="81"/>
                    </a:lnTo>
                    <a:lnTo>
                      <a:pt x="217" y="74"/>
                    </a:lnTo>
                    <a:lnTo>
                      <a:pt x="201" y="112"/>
                    </a:lnTo>
                    <a:lnTo>
                      <a:pt x="199" y="171"/>
                    </a:lnTo>
                    <a:lnTo>
                      <a:pt x="192" y="246"/>
                    </a:lnTo>
                    <a:lnTo>
                      <a:pt x="164" y="307"/>
                    </a:lnTo>
                    <a:lnTo>
                      <a:pt x="141" y="353"/>
                    </a:lnTo>
                    <a:lnTo>
                      <a:pt x="141" y="411"/>
                    </a:lnTo>
                    <a:lnTo>
                      <a:pt x="141" y="442"/>
                    </a:lnTo>
                    <a:lnTo>
                      <a:pt x="79" y="399"/>
                    </a:lnTo>
                    <a:lnTo>
                      <a:pt x="56" y="330"/>
                    </a:lnTo>
                    <a:lnTo>
                      <a:pt x="98" y="237"/>
                    </a:lnTo>
                    <a:lnTo>
                      <a:pt x="123" y="141"/>
                    </a:lnTo>
                    <a:lnTo>
                      <a:pt x="123" y="62"/>
                    </a:lnTo>
                    <a:lnTo>
                      <a:pt x="141" y="30"/>
                    </a:lnTo>
                    <a:lnTo>
                      <a:pt x="164" y="26"/>
                    </a:lnTo>
                    <a:lnTo>
                      <a:pt x="123" y="0"/>
                    </a:lnTo>
                    <a:lnTo>
                      <a:pt x="52" y="18"/>
                    </a:lnTo>
                    <a:lnTo>
                      <a:pt x="17" y="70"/>
                    </a:lnTo>
                    <a:lnTo>
                      <a:pt x="0" y="178"/>
                    </a:lnTo>
                    <a:lnTo>
                      <a:pt x="6" y="274"/>
                    </a:lnTo>
                    <a:lnTo>
                      <a:pt x="30" y="343"/>
                    </a:lnTo>
                    <a:lnTo>
                      <a:pt x="58" y="404"/>
                    </a:lnTo>
                    <a:lnTo>
                      <a:pt x="123" y="464"/>
                    </a:lnTo>
                    <a:lnTo>
                      <a:pt x="187" y="505"/>
                    </a:lnTo>
                    <a:lnTo>
                      <a:pt x="213" y="545"/>
                    </a:lnTo>
                    <a:lnTo>
                      <a:pt x="243" y="593"/>
                    </a:lnTo>
                    <a:lnTo>
                      <a:pt x="274" y="629"/>
                    </a:lnTo>
                    <a:lnTo>
                      <a:pt x="309" y="646"/>
                    </a:lnTo>
                    <a:lnTo>
                      <a:pt x="349" y="683"/>
                    </a:lnTo>
                    <a:lnTo>
                      <a:pt x="309" y="569"/>
                    </a:lnTo>
                    <a:lnTo>
                      <a:pt x="279" y="290"/>
                    </a:lnTo>
                    <a:lnTo>
                      <a:pt x="305" y="81"/>
                    </a:lnTo>
                    <a:lnTo>
                      <a:pt x="28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114960" y="1467000"/>
                <a:ext cx="219240" cy="139680"/>
              </a:xfrm>
              <a:custGeom>
                <a:avLst/>
                <a:gdLst/>
                <a:ahLst/>
                <a:rect l="l" t="t" r="r" b="b"/>
                <a:pathLst>
                  <a:path w="1105" h="705">
                    <a:moveTo>
                      <a:pt x="35" y="131"/>
                    </a:moveTo>
                    <a:lnTo>
                      <a:pt x="113" y="270"/>
                    </a:lnTo>
                    <a:lnTo>
                      <a:pt x="228" y="386"/>
                    </a:lnTo>
                    <a:lnTo>
                      <a:pt x="388" y="572"/>
                    </a:lnTo>
                    <a:lnTo>
                      <a:pt x="526" y="611"/>
                    </a:lnTo>
                    <a:lnTo>
                      <a:pt x="632" y="652"/>
                    </a:lnTo>
                    <a:lnTo>
                      <a:pt x="706" y="646"/>
                    </a:lnTo>
                    <a:lnTo>
                      <a:pt x="925" y="572"/>
                    </a:lnTo>
                    <a:lnTo>
                      <a:pt x="948" y="518"/>
                    </a:lnTo>
                    <a:lnTo>
                      <a:pt x="1017" y="334"/>
                    </a:lnTo>
                    <a:lnTo>
                      <a:pt x="1079" y="180"/>
                    </a:lnTo>
                    <a:lnTo>
                      <a:pt x="1093" y="0"/>
                    </a:lnTo>
                    <a:lnTo>
                      <a:pt x="1105" y="252"/>
                    </a:lnTo>
                    <a:lnTo>
                      <a:pt x="1010" y="448"/>
                    </a:lnTo>
                    <a:lnTo>
                      <a:pt x="957" y="606"/>
                    </a:lnTo>
                    <a:lnTo>
                      <a:pt x="925" y="632"/>
                    </a:lnTo>
                    <a:lnTo>
                      <a:pt x="667" y="705"/>
                    </a:lnTo>
                    <a:lnTo>
                      <a:pt x="595" y="669"/>
                    </a:lnTo>
                    <a:lnTo>
                      <a:pt x="360" y="604"/>
                    </a:lnTo>
                    <a:lnTo>
                      <a:pt x="293" y="533"/>
                    </a:lnTo>
                    <a:lnTo>
                      <a:pt x="125" y="314"/>
                    </a:lnTo>
                    <a:lnTo>
                      <a:pt x="83" y="337"/>
                    </a:lnTo>
                    <a:lnTo>
                      <a:pt x="39" y="325"/>
                    </a:lnTo>
                    <a:lnTo>
                      <a:pt x="1" y="279"/>
                    </a:lnTo>
                    <a:lnTo>
                      <a:pt x="1" y="203"/>
                    </a:lnTo>
                    <a:lnTo>
                      <a:pt x="17" y="270"/>
                    </a:lnTo>
                    <a:lnTo>
                      <a:pt x="52" y="302"/>
                    </a:lnTo>
                    <a:lnTo>
                      <a:pt x="76" y="261"/>
                    </a:lnTo>
                    <a:lnTo>
                      <a:pt x="17" y="138"/>
                    </a:lnTo>
                    <a:lnTo>
                      <a:pt x="0" y="153"/>
                    </a:lnTo>
                    <a:lnTo>
                      <a:pt x="8" y="118"/>
                    </a:lnTo>
                    <a:lnTo>
                      <a:pt x="1" y="65"/>
                    </a:lnTo>
                    <a:lnTo>
                      <a:pt x="35"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6221520" y="1517760"/>
                <a:ext cx="71280" cy="48960"/>
              </a:xfrm>
              <a:custGeom>
                <a:avLst/>
                <a:gdLst/>
                <a:ahLst/>
                <a:rect l="l" t="t" r="r" b="b"/>
                <a:pathLst>
                  <a:path w="365" h="246">
                    <a:moveTo>
                      <a:pt x="0" y="151"/>
                    </a:moveTo>
                    <a:lnTo>
                      <a:pt x="33" y="136"/>
                    </a:lnTo>
                    <a:lnTo>
                      <a:pt x="93" y="127"/>
                    </a:lnTo>
                    <a:lnTo>
                      <a:pt x="150" y="127"/>
                    </a:lnTo>
                    <a:lnTo>
                      <a:pt x="210" y="75"/>
                    </a:lnTo>
                    <a:lnTo>
                      <a:pt x="242" y="68"/>
                    </a:lnTo>
                    <a:lnTo>
                      <a:pt x="242" y="140"/>
                    </a:lnTo>
                    <a:lnTo>
                      <a:pt x="183" y="195"/>
                    </a:lnTo>
                    <a:lnTo>
                      <a:pt x="97" y="207"/>
                    </a:lnTo>
                    <a:lnTo>
                      <a:pt x="143" y="246"/>
                    </a:lnTo>
                    <a:lnTo>
                      <a:pt x="192" y="216"/>
                    </a:lnTo>
                    <a:lnTo>
                      <a:pt x="258" y="213"/>
                    </a:lnTo>
                    <a:lnTo>
                      <a:pt x="291" y="213"/>
                    </a:lnTo>
                    <a:lnTo>
                      <a:pt x="293" y="136"/>
                    </a:lnTo>
                    <a:lnTo>
                      <a:pt x="300" y="66"/>
                    </a:lnTo>
                    <a:lnTo>
                      <a:pt x="365" y="34"/>
                    </a:lnTo>
                    <a:lnTo>
                      <a:pt x="323" y="2"/>
                    </a:lnTo>
                    <a:lnTo>
                      <a:pt x="242" y="0"/>
                    </a:lnTo>
                    <a:lnTo>
                      <a:pt x="178" y="20"/>
                    </a:lnTo>
                    <a:lnTo>
                      <a:pt x="122" y="83"/>
                    </a:lnTo>
                    <a:lnTo>
                      <a:pt x="73" y="96"/>
                    </a:lnTo>
                    <a:lnTo>
                      <a:pt x="25" y="126"/>
                    </a:lnTo>
                    <a:lnTo>
                      <a:pt x="0" y="15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2" name=""/>
              <p:cNvSpPr/>
              <p:nvPr/>
            </p:nvSpPr>
            <p:spPr>
              <a:xfrm>
                <a:off x="6332400" y="1436760"/>
                <a:ext cx="25560" cy="50760"/>
              </a:xfrm>
              <a:custGeom>
                <a:avLst/>
                <a:gdLst/>
                <a:ahLst/>
                <a:rect l="l" t="t" r="r" b="b"/>
                <a:pathLst>
                  <a:path w="132" h="251">
                    <a:moveTo>
                      <a:pt x="3" y="157"/>
                    </a:moveTo>
                    <a:lnTo>
                      <a:pt x="51" y="189"/>
                    </a:lnTo>
                    <a:lnTo>
                      <a:pt x="86" y="160"/>
                    </a:lnTo>
                    <a:lnTo>
                      <a:pt x="115" y="114"/>
                    </a:lnTo>
                    <a:lnTo>
                      <a:pt x="111" y="74"/>
                    </a:lnTo>
                    <a:lnTo>
                      <a:pt x="71" y="16"/>
                    </a:lnTo>
                    <a:lnTo>
                      <a:pt x="34" y="18"/>
                    </a:lnTo>
                    <a:lnTo>
                      <a:pt x="23" y="35"/>
                    </a:lnTo>
                    <a:lnTo>
                      <a:pt x="27" y="5"/>
                    </a:lnTo>
                    <a:lnTo>
                      <a:pt x="62" y="0"/>
                    </a:lnTo>
                    <a:lnTo>
                      <a:pt x="106" y="18"/>
                    </a:lnTo>
                    <a:lnTo>
                      <a:pt x="132" y="86"/>
                    </a:lnTo>
                    <a:lnTo>
                      <a:pt x="129" y="150"/>
                    </a:lnTo>
                    <a:lnTo>
                      <a:pt x="106" y="222"/>
                    </a:lnTo>
                    <a:lnTo>
                      <a:pt x="64" y="251"/>
                    </a:lnTo>
                    <a:lnTo>
                      <a:pt x="34" y="249"/>
                    </a:lnTo>
                    <a:lnTo>
                      <a:pt x="0" y="233"/>
                    </a:lnTo>
                    <a:lnTo>
                      <a:pt x="3" y="15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3" name=""/>
              <p:cNvSpPr/>
              <p:nvPr/>
            </p:nvSpPr>
            <p:spPr>
              <a:xfrm>
                <a:off x="6135840" y="1476360"/>
                <a:ext cx="263520" cy="422280"/>
              </a:xfrm>
              <a:custGeom>
                <a:avLst/>
                <a:gdLst/>
                <a:ahLst/>
                <a:rect l="l" t="t" r="r" b="b"/>
                <a:pathLst>
                  <a:path w="1327" h="2133">
                    <a:moveTo>
                      <a:pt x="449" y="595"/>
                    </a:moveTo>
                    <a:lnTo>
                      <a:pt x="582" y="973"/>
                    </a:lnTo>
                    <a:lnTo>
                      <a:pt x="472" y="782"/>
                    </a:lnTo>
                    <a:lnTo>
                      <a:pt x="428" y="817"/>
                    </a:lnTo>
                    <a:lnTo>
                      <a:pt x="631" y="1395"/>
                    </a:lnTo>
                    <a:lnTo>
                      <a:pt x="899" y="916"/>
                    </a:lnTo>
                    <a:lnTo>
                      <a:pt x="1013" y="637"/>
                    </a:lnTo>
                    <a:lnTo>
                      <a:pt x="1064" y="459"/>
                    </a:lnTo>
                    <a:lnTo>
                      <a:pt x="1064" y="382"/>
                    </a:lnTo>
                    <a:lnTo>
                      <a:pt x="1064" y="336"/>
                    </a:lnTo>
                    <a:lnTo>
                      <a:pt x="986" y="169"/>
                    </a:lnTo>
                    <a:lnTo>
                      <a:pt x="986" y="0"/>
                    </a:lnTo>
                    <a:lnTo>
                      <a:pt x="1064" y="0"/>
                    </a:lnTo>
                    <a:lnTo>
                      <a:pt x="1235" y="402"/>
                    </a:lnTo>
                    <a:lnTo>
                      <a:pt x="1327" y="904"/>
                    </a:lnTo>
                    <a:lnTo>
                      <a:pt x="974" y="888"/>
                    </a:lnTo>
                    <a:lnTo>
                      <a:pt x="974" y="1231"/>
                    </a:lnTo>
                    <a:lnTo>
                      <a:pt x="719" y="1372"/>
                    </a:lnTo>
                    <a:lnTo>
                      <a:pt x="472" y="1734"/>
                    </a:lnTo>
                    <a:lnTo>
                      <a:pt x="472" y="2133"/>
                    </a:lnTo>
                    <a:lnTo>
                      <a:pt x="435" y="1734"/>
                    </a:lnTo>
                    <a:lnTo>
                      <a:pt x="177" y="1318"/>
                    </a:lnTo>
                    <a:lnTo>
                      <a:pt x="356" y="1019"/>
                    </a:lnTo>
                    <a:lnTo>
                      <a:pt x="0" y="863"/>
                    </a:lnTo>
                    <a:lnTo>
                      <a:pt x="177" y="560"/>
                    </a:lnTo>
                    <a:lnTo>
                      <a:pt x="235" y="526"/>
                    </a:lnTo>
                    <a:lnTo>
                      <a:pt x="449" y="5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245280" y="1509840"/>
                <a:ext cx="106200" cy="134640"/>
              </a:xfrm>
              <a:custGeom>
                <a:avLst/>
                <a:gdLst/>
                <a:ahLst/>
                <a:rect l="l" t="t" r="r" b="b"/>
                <a:pathLst>
                  <a:path w="535" h="681">
                    <a:moveTo>
                      <a:pt x="0" y="479"/>
                    </a:moveTo>
                    <a:lnTo>
                      <a:pt x="201" y="604"/>
                    </a:lnTo>
                    <a:lnTo>
                      <a:pt x="401" y="681"/>
                    </a:lnTo>
                    <a:lnTo>
                      <a:pt x="535" y="327"/>
                    </a:lnTo>
                    <a:lnTo>
                      <a:pt x="535" y="112"/>
                    </a:lnTo>
                    <a:lnTo>
                      <a:pt x="415" y="0"/>
                    </a:lnTo>
                    <a:lnTo>
                      <a:pt x="281" y="391"/>
                    </a:lnTo>
                    <a:lnTo>
                      <a:pt x="0"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370560" y="1504800"/>
                <a:ext cx="223920" cy="228600"/>
              </a:xfrm>
              <a:custGeom>
                <a:avLst/>
                <a:gdLst/>
                <a:ahLst/>
                <a:rect l="l" t="t" r="r" b="b"/>
                <a:pathLst>
                  <a:path w="1132" h="1151">
                    <a:moveTo>
                      <a:pt x="301" y="1151"/>
                    </a:moveTo>
                    <a:lnTo>
                      <a:pt x="288" y="501"/>
                    </a:lnTo>
                    <a:lnTo>
                      <a:pt x="403" y="379"/>
                    </a:lnTo>
                    <a:lnTo>
                      <a:pt x="560" y="301"/>
                    </a:lnTo>
                    <a:lnTo>
                      <a:pt x="786" y="266"/>
                    </a:lnTo>
                    <a:lnTo>
                      <a:pt x="1132" y="379"/>
                    </a:lnTo>
                    <a:lnTo>
                      <a:pt x="751" y="224"/>
                    </a:lnTo>
                    <a:lnTo>
                      <a:pt x="369" y="109"/>
                    </a:lnTo>
                    <a:lnTo>
                      <a:pt x="200" y="90"/>
                    </a:lnTo>
                    <a:lnTo>
                      <a:pt x="0" y="0"/>
                    </a:lnTo>
                    <a:lnTo>
                      <a:pt x="209" y="134"/>
                    </a:lnTo>
                    <a:lnTo>
                      <a:pt x="244" y="255"/>
                    </a:lnTo>
                    <a:lnTo>
                      <a:pt x="268" y="558"/>
                    </a:lnTo>
                    <a:lnTo>
                      <a:pt x="301" y="1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273720" y="1751040"/>
                <a:ext cx="123840" cy="165240"/>
              </a:xfrm>
              <a:custGeom>
                <a:avLst/>
                <a:gdLst/>
                <a:ahLst/>
                <a:rect l="l" t="t" r="r" b="b"/>
                <a:pathLst>
                  <a:path w="620" h="829">
                    <a:moveTo>
                      <a:pt x="449" y="0"/>
                    </a:moveTo>
                    <a:lnTo>
                      <a:pt x="525" y="224"/>
                    </a:lnTo>
                    <a:lnTo>
                      <a:pt x="339" y="371"/>
                    </a:lnTo>
                    <a:lnTo>
                      <a:pt x="189" y="503"/>
                    </a:lnTo>
                    <a:lnTo>
                      <a:pt x="110" y="615"/>
                    </a:lnTo>
                    <a:lnTo>
                      <a:pt x="0" y="829"/>
                    </a:lnTo>
                    <a:lnTo>
                      <a:pt x="145" y="578"/>
                    </a:lnTo>
                    <a:lnTo>
                      <a:pt x="255" y="459"/>
                    </a:lnTo>
                    <a:lnTo>
                      <a:pt x="416" y="357"/>
                    </a:lnTo>
                    <a:lnTo>
                      <a:pt x="620" y="258"/>
                    </a:lnTo>
                    <a:lnTo>
                      <a:pt x="4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979960" y="1528920"/>
                <a:ext cx="160560" cy="463320"/>
              </a:xfrm>
              <a:custGeom>
                <a:avLst/>
                <a:gdLst/>
                <a:ahLst/>
                <a:rect l="l" t="t" r="r" b="b"/>
                <a:pathLst>
                  <a:path w="807" h="2335">
                    <a:moveTo>
                      <a:pt x="717" y="0"/>
                    </a:moveTo>
                    <a:lnTo>
                      <a:pt x="448" y="103"/>
                    </a:lnTo>
                    <a:lnTo>
                      <a:pt x="77" y="191"/>
                    </a:lnTo>
                    <a:lnTo>
                      <a:pt x="21" y="258"/>
                    </a:lnTo>
                    <a:lnTo>
                      <a:pt x="56" y="620"/>
                    </a:lnTo>
                    <a:lnTo>
                      <a:pt x="0" y="973"/>
                    </a:lnTo>
                    <a:lnTo>
                      <a:pt x="31" y="1104"/>
                    </a:lnTo>
                    <a:lnTo>
                      <a:pt x="132" y="1265"/>
                    </a:lnTo>
                    <a:lnTo>
                      <a:pt x="358" y="1542"/>
                    </a:lnTo>
                    <a:lnTo>
                      <a:pt x="67" y="1127"/>
                    </a:lnTo>
                    <a:lnTo>
                      <a:pt x="21" y="1009"/>
                    </a:lnTo>
                    <a:lnTo>
                      <a:pt x="109" y="675"/>
                    </a:lnTo>
                    <a:lnTo>
                      <a:pt x="256" y="963"/>
                    </a:lnTo>
                    <a:lnTo>
                      <a:pt x="425" y="1364"/>
                    </a:lnTo>
                    <a:lnTo>
                      <a:pt x="503" y="1821"/>
                    </a:lnTo>
                    <a:lnTo>
                      <a:pt x="583" y="1991"/>
                    </a:lnTo>
                    <a:lnTo>
                      <a:pt x="618" y="2335"/>
                    </a:lnTo>
                    <a:lnTo>
                      <a:pt x="618" y="1955"/>
                    </a:lnTo>
                    <a:lnTo>
                      <a:pt x="535" y="1747"/>
                    </a:lnTo>
                    <a:lnTo>
                      <a:pt x="390" y="973"/>
                    </a:lnTo>
                    <a:lnTo>
                      <a:pt x="372" y="1099"/>
                    </a:lnTo>
                    <a:lnTo>
                      <a:pt x="88" y="303"/>
                    </a:lnTo>
                    <a:lnTo>
                      <a:pt x="100" y="228"/>
                    </a:lnTo>
                    <a:lnTo>
                      <a:pt x="448" y="134"/>
                    </a:lnTo>
                    <a:lnTo>
                      <a:pt x="807" y="13"/>
                    </a:lnTo>
                    <a:lnTo>
                      <a:pt x="7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269040" y="1751040"/>
                <a:ext cx="465120" cy="420840"/>
              </a:xfrm>
              <a:custGeom>
                <a:avLst/>
                <a:gdLst/>
                <a:ahLst/>
                <a:rect l="l" t="t" r="r" b="b"/>
                <a:pathLst>
                  <a:path w="2345" h="2123">
                    <a:moveTo>
                      <a:pt x="1992" y="0"/>
                    </a:moveTo>
                    <a:lnTo>
                      <a:pt x="2123" y="853"/>
                    </a:lnTo>
                    <a:lnTo>
                      <a:pt x="2222" y="1464"/>
                    </a:lnTo>
                    <a:lnTo>
                      <a:pt x="2345" y="2123"/>
                    </a:lnTo>
                    <a:lnTo>
                      <a:pt x="2323" y="2123"/>
                    </a:lnTo>
                    <a:lnTo>
                      <a:pt x="2123" y="1152"/>
                    </a:lnTo>
                    <a:lnTo>
                      <a:pt x="1718" y="1362"/>
                    </a:lnTo>
                    <a:lnTo>
                      <a:pt x="1036" y="1542"/>
                    </a:lnTo>
                    <a:lnTo>
                      <a:pt x="159" y="1745"/>
                    </a:lnTo>
                    <a:lnTo>
                      <a:pt x="134" y="1699"/>
                    </a:lnTo>
                    <a:lnTo>
                      <a:pt x="227" y="1675"/>
                    </a:lnTo>
                    <a:lnTo>
                      <a:pt x="257" y="1532"/>
                    </a:lnTo>
                    <a:lnTo>
                      <a:pt x="257" y="1387"/>
                    </a:lnTo>
                    <a:lnTo>
                      <a:pt x="227" y="1251"/>
                    </a:lnTo>
                    <a:lnTo>
                      <a:pt x="159" y="1097"/>
                    </a:lnTo>
                    <a:lnTo>
                      <a:pt x="56" y="1007"/>
                    </a:lnTo>
                    <a:lnTo>
                      <a:pt x="0" y="984"/>
                    </a:lnTo>
                    <a:lnTo>
                      <a:pt x="111" y="1007"/>
                    </a:lnTo>
                    <a:lnTo>
                      <a:pt x="227" y="1097"/>
                    </a:lnTo>
                    <a:lnTo>
                      <a:pt x="257" y="1116"/>
                    </a:lnTo>
                    <a:lnTo>
                      <a:pt x="987" y="929"/>
                    </a:lnTo>
                    <a:lnTo>
                      <a:pt x="766" y="853"/>
                    </a:lnTo>
                    <a:lnTo>
                      <a:pt x="572" y="829"/>
                    </a:lnTo>
                    <a:lnTo>
                      <a:pt x="374" y="829"/>
                    </a:lnTo>
                    <a:lnTo>
                      <a:pt x="630" y="816"/>
                    </a:lnTo>
                    <a:lnTo>
                      <a:pt x="820" y="837"/>
                    </a:lnTo>
                    <a:lnTo>
                      <a:pt x="1009" y="873"/>
                    </a:lnTo>
                    <a:lnTo>
                      <a:pt x="1091" y="917"/>
                    </a:lnTo>
                    <a:lnTo>
                      <a:pt x="1866" y="638"/>
                    </a:lnTo>
                    <a:lnTo>
                      <a:pt x="1225" y="615"/>
                    </a:lnTo>
                    <a:lnTo>
                      <a:pt x="1213" y="569"/>
                    </a:lnTo>
                    <a:lnTo>
                      <a:pt x="1626" y="560"/>
                    </a:lnTo>
                    <a:lnTo>
                      <a:pt x="1877" y="482"/>
                    </a:lnTo>
                    <a:lnTo>
                      <a:pt x="2022" y="482"/>
                    </a:lnTo>
                    <a:lnTo>
                      <a:pt x="19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273720" y="1593720"/>
                <a:ext cx="374760" cy="343080"/>
              </a:xfrm>
              <a:custGeom>
                <a:avLst/>
                <a:gdLst/>
                <a:ahLst/>
                <a:rect l="l" t="t" r="r" b="b"/>
                <a:pathLst>
                  <a:path w="1886" h="1732">
                    <a:moveTo>
                      <a:pt x="1664" y="0"/>
                    </a:moveTo>
                    <a:lnTo>
                      <a:pt x="1703" y="231"/>
                    </a:lnTo>
                    <a:lnTo>
                      <a:pt x="1809" y="503"/>
                    </a:lnTo>
                    <a:lnTo>
                      <a:pt x="1886" y="348"/>
                    </a:lnTo>
                    <a:lnTo>
                      <a:pt x="1833" y="556"/>
                    </a:lnTo>
                    <a:lnTo>
                      <a:pt x="1684" y="736"/>
                    </a:lnTo>
                    <a:lnTo>
                      <a:pt x="1447" y="883"/>
                    </a:lnTo>
                    <a:lnTo>
                      <a:pt x="1457" y="1037"/>
                    </a:lnTo>
                    <a:lnTo>
                      <a:pt x="1648" y="971"/>
                    </a:lnTo>
                    <a:lnTo>
                      <a:pt x="1853" y="1106"/>
                    </a:lnTo>
                    <a:lnTo>
                      <a:pt x="1427" y="1127"/>
                    </a:lnTo>
                    <a:lnTo>
                      <a:pt x="1067" y="1307"/>
                    </a:lnTo>
                    <a:lnTo>
                      <a:pt x="684" y="1450"/>
                    </a:lnTo>
                    <a:lnTo>
                      <a:pt x="0" y="1732"/>
                    </a:lnTo>
                    <a:lnTo>
                      <a:pt x="640" y="1420"/>
                    </a:lnTo>
                    <a:lnTo>
                      <a:pt x="895" y="1273"/>
                    </a:lnTo>
                    <a:lnTo>
                      <a:pt x="919" y="1070"/>
                    </a:lnTo>
                    <a:lnTo>
                      <a:pt x="1111" y="556"/>
                    </a:lnTo>
                    <a:lnTo>
                      <a:pt x="1258" y="447"/>
                    </a:lnTo>
                    <a:lnTo>
                      <a:pt x="1367" y="309"/>
                    </a:lnTo>
                    <a:lnTo>
                      <a:pt x="1471" y="134"/>
                    </a:lnTo>
                    <a:lnTo>
                      <a:pt x="1358" y="354"/>
                    </a:lnTo>
                    <a:lnTo>
                      <a:pt x="1247" y="503"/>
                    </a:lnTo>
                    <a:lnTo>
                      <a:pt x="1123" y="611"/>
                    </a:lnTo>
                    <a:lnTo>
                      <a:pt x="977" y="1070"/>
                    </a:lnTo>
                    <a:lnTo>
                      <a:pt x="1025" y="1215"/>
                    </a:lnTo>
                    <a:lnTo>
                      <a:pt x="1358" y="1058"/>
                    </a:lnTo>
                    <a:lnTo>
                      <a:pt x="1427" y="824"/>
                    </a:lnTo>
                    <a:lnTo>
                      <a:pt x="1664" y="703"/>
                    </a:lnTo>
                    <a:lnTo>
                      <a:pt x="1750" y="547"/>
                    </a:lnTo>
                    <a:lnTo>
                      <a:pt x="1694" y="268"/>
                    </a:lnTo>
                    <a:lnTo>
                      <a:pt x="16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611760" y="1984320"/>
                <a:ext cx="51120" cy="165240"/>
              </a:xfrm>
              <a:custGeom>
                <a:avLst/>
                <a:gdLst/>
                <a:ahLst/>
                <a:rect l="l" t="t" r="r" b="b"/>
                <a:pathLst>
                  <a:path w="254" h="837">
                    <a:moveTo>
                      <a:pt x="254" y="0"/>
                    </a:moveTo>
                    <a:lnTo>
                      <a:pt x="139" y="328"/>
                    </a:lnTo>
                    <a:lnTo>
                      <a:pt x="0" y="837"/>
                    </a:lnTo>
                    <a:lnTo>
                      <a:pt x="25" y="416"/>
                    </a:lnTo>
                    <a:lnTo>
                      <a:pt x="106" y="88"/>
                    </a:lnTo>
                    <a:lnTo>
                      <a:pt x="2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986440" y="1828800"/>
                <a:ext cx="293760" cy="260280"/>
              </a:xfrm>
              <a:custGeom>
                <a:avLst/>
                <a:gdLst/>
                <a:ahLst/>
                <a:rect l="l" t="t" r="r" b="b"/>
                <a:pathLst>
                  <a:path w="1482" h="1316">
                    <a:moveTo>
                      <a:pt x="461" y="131"/>
                    </a:moveTo>
                    <a:lnTo>
                      <a:pt x="341" y="55"/>
                    </a:lnTo>
                    <a:lnTo>
                      <a:pt x="417" y="177"/>
                    </a:lnTo>
                    <a:lnTo>
                      <a:pt x="156" y="32"/>
                    </a:lnTo>
                    <a:lnTo>
                      <a:pt x="0" y="0"/>
                    </a:lnTo>
                    <a:lnTo>
                      <a:pt x="271" y="267"/>
                    </a:lnTo>
                    <a:lnTo>
                      <a:pt x="417" y="300"/>
                    </a:lnTo>
                    <a:lnTo>
                      <a:pt x="484" y="445"/>
                    </a:lnTo>
                    <a:lnTo>
                      <a:pt x="304" y="415"/>
                    </a:lnTo>
                    <a:lnTo>
                      <a:pt x="46" y="279"/>
                    </a:lnTo>
                    <a:lnTo>
                      <a:pt x="260" y="537"/>
                    </a:lnTo>
                    <a:lnTo>
                      <a:pt x="46" y="1003"/>
                    </a:lnTo>
                    <a:lnTo>
                      <a:pt x="541" y="850"/>
                    </a:lnTo>
                    <a:lnTo>
                      <a:pt x="885" y="760"/>
                    </a:lnTo>
                    <a:lnTo>
                      <a:pt x="1079" y="718"/>
                    </a:lnTo>
                    <a:lnTo>
                      <a:pt x="1226" y="738"/>
                    </a:lnTo>
                    <a:lnTo>
                      <a:pt x="1350" y="859"/>
                    </a:lnTo>
                    <a:lnTo>
                      <a:pt x="1404" y="1003"/>
                    </a:lnTo>
                    <a:lnTo>
                      <a:pt x="1413" y="1060"/>
                    </a:lnTo>
                    <a:lnTo>
                      <a:pt x="1371" y="1096"/>
                    </a:lnTo>
                    <a:lnTo>
                      <a:pt x="1304" y="1162"/>
                    </a:lnTo>
                    <a:lnTo>
                      <a:pt x="1371" y="1283"/>
                    </a:lnTo>
                    <a:lnTo>
                      <a:pt x="1413" y="1316"/>
                    </a:lnTo>
                    <a:lnTo>
                      <a:pt x="1461" y="1307"/>
                    </a:lnTo>
                    <a:lnTo>
                      <a:pt x="1482" y="1230"/>
                    </a:lnTo>
                    <a:lnTo>
                      <a:pt x="1482" y="1109"/>
                    </a:lnTo>
                    <a:lnTo>
                      <a:pt x="1450" y="970"/>
                    </a:lnTo>
                    <a:lnTo>
                      <a:pt x="1385" y="825"/>
                    </a:lnTo>
                    <a:lnTo>
                      <a:pt x="1281" y="738"/>
                    </a:lnTo>
                    <a:lnTo>
                      <a:pt x="1203" y="682"/>
                    </a:lnTo>
                    <a:lnTo>
                      <a:pt x="1066" y="682"/>
                    </a:lnTo>
                    <a:lnTo>
                      <a:pt x="587" y="793"/>
                    </a:lnTo>
                    <a:lnTo>
                      <a:pt x="574" y="481"/>
                    </a:lnTo>
                    <a:lnTo>
                      <a:pt x="472" y="246"/>
                    </a:lnTo>
                    <a:lnTo>
                      <a:pt x="461"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897520" y="1766880"/>
                <a:ext cx="98640" cy="231840"/>
              </a:xfrm>
              <a:custGeom>
                <a:avLst/>
                <a:gdLst/>
                <a:ahLst/>
                <a:rect l="l" t="t" r="r" b="b"/>
                <a:pathLst>
                  <a:path w="496" h="1171">
                    <a:moveTo>
                      <a:pt x="496" y="0"/>
                    </a:moveTo>
                    <a:lnTo>
                      <a:pt x="406" y="153"/>
                    </a:lnTo>
                    <a:lnTo>
                      <a:pt x="428" y="268"/>
                    </a:lnTo>
                    <a:lnTo>
                      <a:pt x="292" y="612"/>
                    </a:lnTo>
                    <a:lnTo>
                      <a:pt x="215" y="782"/>
                    </a:lnTo>
                    <a:lnTo>
                      <a:pt x="94" y="828"/>
                    </a:lnTo>
                    <a:lnTo>
                      <a:pt x="0" y="1171"/>
                    </a:lnTo>
                    <a:lnTo>
                      <a:pt x="125" y="904"/>
                    </a:lnTo>
                    <a:lnTo>
                      <a:pt x="358" y="861"/>
                    </a:lnTo>
                    <a:lnTo>
                      <a:pt x="272" y="757"/>
                    </a:lnTo>
                    <a:lnTo>
                      <a:pt x="486" y="224"/>
                    </a:lnTo>
                    <a:lnTo>
                      <a:pt x="475" y="100"/>
                    </a:lnTo>
                    <a:lnTo>
                      <a:pt x="4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6140520" y="2035080"/>
                <a:ext cx="127080" cy="127080"/>
              </a:xfrm>
              <a:custGeom>
                <a:avLst/>
                <a:gdLst/>
                <a:ahLst/>
                <a:rect l="l" t="t" r="r" b="b"/>
                <a:pathLst>
                  <a:path w="637" h="646">
                    <a:moveTo>
                      <a:pt x="90" y="46"/>
                    </a:moveTo>
                    <a:lnTo>
                      <a:pt x="167" y="201"/>
                    </a:lnTo>
                    <a:lnTo>
                      <a:pt x="180" y="268"/>
                    </a:lnTo>
                    <a:lnTo>
                      <a:pt x="33" y="344"/>
                    </a:lnTo>
                    <a:lnTo>
                      <a:pt x="0" y="477"/>
                    </a:lnTo>
                    <a:lnTo>
                      <a:pt x="0" y="593"/>
                    </a:lnTo>
                    <a:lnTo>
                      <a:pt x="44" y="646"/>
                    </a:lnTo>
                    <a:lnTo>
                      <a:pt x="79" y="604"/>
                    </a:lnTo>
                    <a:lnTo>
                      <a:pt x="213" y="477"/>
                    </a:lnTo>
                    <a:lnTo>
                      <a:pt x="371" y="402"/>
                    </a:lnTo>
                    <a:lnTo>
                      <a:pt x="437" y="378"/>
                    </a:lnTo>
                    <a:lnTo>
                      <a:pt x="437" y="300"/>
                    </a:lnTo>
                    <a:lnTo>
                      <a:pt x="549" y="123"/>
                    </a:lnTo>
                    <a:lnTo>
                      <a:pt x="637" y="10"/>
                    </a:lnTo>
                    <a:lnTo>
                      <a:pt x="560" y="46"/>
                    </a:lnTo>
                    <a:lnTo>
                      <a:pt x="406" y="268"/>
                    </a:lnTo>
                    <a:lnTo>
                      <a:pt x="391" y="336"/>
                    </a:lnTo>
                    <a:lnTo>
                      <a:pt x="272" y="426"/>
                    </a:lnTo>
                    <a:lnTo>
                      <a:pt x="132" y="503"/>
                    </a:lnTo>
                    <a:lnTo>
                      <a:pt x="58" y="549"/>
                    </a:lnTo>
                    <a:lnTo>
                      <a:pt x="33" y="536"/>
                    </a:lnTo>
                    <a:lnTo>
                      <a:pt x="68" y="378"/>
                    </a:lnTo>
                    <a:lnTo>
                      <a:pt x="213" y="277"/>
                    </a:lnTo>
                    <a:lnTo>
                      <a:pt x="281" y="0"/>
                    </a:lnTo>
                    <a:lnTo>
                      <a:pt x="222" y="101"/>
                    </a:lnTo>
                    <a:lnTo>
                      <a:pt x="68" y="10"/>
                    </a:lnTo>
                    <a:lnTo>
                      <a:pt x="9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000840" y="2054160"/>
                <a:ext cx="172800" cy="122400"/>
              </a:xfrm>
              <a:custGeom>
                <a:avLst/>
                <a:gdLst/>
                <a:ahLst/>
                <a:rect l="l" t="t" r="r" b="b"/>
                <a:pathLst>
                  <a:path w="874" h="615">
                    <a:moveTo>
                      <a:pt x="874" y="79"/>
                    </a:moveTo>
                    <a:lnTo>
                      <a:pt x="627" y="33"/>
                    </a:lnTo>
                    <a:lnTo>
                      <a:pt x="527" y="199"/>
                    </a:lnTo>
                    <a:lnTo>
                      <a:pt x="371" y="391"/>
                    </a:lnTo>
                    <a:lnTo>
                      <a:pt x="228" y="545"/>
                    </a:lnTo>
                    <a:lnTo>
                      <a:pt x="131" y="604"/>
                    </a:lnTo>
                    <a:lnTo>
                      <a:pt x="46" y="615"/>
                    </a:lnTo>
                    <a:lnTo>
                      <a:pt x="0" y="582"/>
                    </a:lnTo>
                    <a:lnTo>
                      <a:pt x="87" y="591"/>
                    </a:lnTo>
                    <a:lnTo>
                      <a:pt x="180" y="558"/>
                    </a:lnTo>
                    <a:lnTo>
                      <a:pt x="279" y="448"/>
                    </a:lnTo>
                    <a:lnTo>
                      <a:pt x="426" y="277"/>
                    </a:lnTo>
                    <a:lnTo>
                      <a:pt x="592" y="10"/>
                    </a:lnTo>
                    <a:lnTo>
                      <a:pt x="850" y="0"/>
                    </a:lnTo>
                    <a:lnTo>
                      <a:pt x="874"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004080" y="2052720"/>
                <a:ext cx="63360" cy="109440"/>
              </a:xfrm>
              <a:custGeom>
                <a:avLst/>
                <a:gdLst/>
                <a:ahLst/>
                <a:rect l="l" t="t" r="r" b="b"/>
                <a:pathLst>
                  <a:path w="315" h="556">
                    <a:moveTo>
                      <a:pt x="304" y="0"/>
                    </a:moveTo>
                    <a:lnTo>
                      <a:pt x="237" y="203"/>
                    </a:lnTo>
                    <a:lnTo>
                      <a:pt x="145" y="371"/>
                    </a:lnTo>
                    <a:lnTo>
                      <a:pt x="0" y="556"/>
                    </a:lnTo>
                    <a:lnTo>
                      <a:pt x="145" y="402"/>
                    </a:lnTo>
                    <a:lnTo>
                      <a:pt x="258" y="235"/>
                    </a:lnTo>
                    <a:lnTo>
                      <a:pt x="315" y="68"/>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996160" y="2025720"/>
                <a:ext cx="44280" cy="100080"/>
              </a:xfrm>
              <a:custGeom>
                <a:avLst/>
                <a:gdLst/>
                <a:ahLst/>
                <a:rect l="l" t="t" r="r" b="b"/>
                <a:pathLst>
                  <a:path w="225" h="505">
                    <a:moveTo>
                      <a:pt x="0" y="33"/>
                    </a:moveTo>
                    <a:lnTo>
                      <a:pt x="44" y="321"/>
                    </a:lnTo>
                    <a:lnTo>
                      <a:pt x="44" y="388"/>
                    </a:lnTo>
                    <a:lnTo>
                      <a:pt x="154" y="446"/>
                    </a:lnTo>
                    <a:lnTo>
                      <a:pt x="179" y="490"/>
                    </a:lnTo>
                    <a:lnTo>
                      <a:pt x="214" y="505"/>
                    </a:lnTo>
                    <a:lnTo>
                      <a:pt x="225" y="459"/>
                    </a:lnTo>
                    <a:lnTo>
                      <a:pt x="179" y="422"/>
                    </a:lnTo>
                    <a:lnTo>
                      <a:pt x="214" y="33"/>
                    </a:lnTo>
                    <a:lnTo>
                      <a:pt x="145" y="411"/>
                    </a:lnTo>
                    <a:lnTo>
                      <a:pt x="92" y="369"/>
                    </a:lnTo>
                    <a:lnTo>
                      <a:pt x="80" y="288"/>
                    </a:lnTo>
                    <a:lnTo>
                      <a:pt x="134" y="22"/>
                    </a:lnTo>
                    <a:lnTo>
                      <a:pt x="69" y="167"/>
                    </a:lnTo>
                    <a:lnTo>
                      <a:pt x="11"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6073920" y="2114640"/>
                <a:ext cx="37800" cy="27000"/>
              </a:xfrm>
              <a:custGeom>
                <a:avLst/>
                <a:gdLst/>
                <a:ahLst/>
                <a:rect l="l" t="t" r="r" b="b"/>
                <a:pathLst>
                  <a:path w="191" h="134">
                    <a:moveTo>
                      <a:pt x="0" y="90"/>
                    </a:moveTo>
                    <a:lnTo>
                      <a:pt x="178" y="134"/>
                    </a:lnTo>
                    <a:lnTo>
                      <a:pt x="191" y="101"/>
                    </a:lnTo>
                    <a:lnTo>
                      <a:pt x="55" y="0"/>
                    </a:lnTo>
                    <a:lnTo>
                      <a:pt x="0" y="9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8" name=""/>
              <p:cNvSpPr/>
              <p:nvPr/>
            </p:nvSpPr>
            <p:spPr>
              <a:xfrm>
                <a:off x="6892920" y="1515960"/>
                <a:ext cx="371520" cy="560520"/>
              </a:xfrm>
              <a:custGeom>
                <a:avLst/>
                <a:gdLst/>
                <a:ahLst/>
                <a:rect l="l" t="t" r="r" b="b"/>
                <a:pathLst>
                  <a:path w="1868" h="2819">
                    <a:moveTo>
                      <a:pt x="637" y="0"/>
                    </a:moveTo>
                    <a:lnTo>
                      <a:pt x="729" y="62"/>
                    </a:lnTo>
                    <a:lnTo>
                      <a:pt x="1233" y="182"/>
                    </a:lnTo>
                    <a:lnTo>
                      <a:pt x="1563" y="317"/>
                    </a:lnTo>
                    <a:lnTo>
                      <a:pt x="1868" y="488"/>
                    </a:lnTo>
                    <a:lnTo>
                      <a:pt x="1563" y="354"/>
                    </a:lnTo>
                    <a:lnTo>
                      <a:pt x="1367" y="354"/>
                    </a:lnTo>
                    <a:lnTo>
                      <a:pt x="1220" y="394"/>
                    </a:lnTo>
                    <a:lnTo>
                      <a:pt x="1049" y="499"/>
                    </a:lnTo>
                    <a:lnTo>
                      <a:pt x="872" y="673"/>
                    </a:lnTo>
                    <a:lnTo>
                      <a:pt x="664" y="1161"/>
                    </a:lnTo>
                    <a:lnTo>
                      <a:pt x="821" y="1106"/>
                    </a:lnTo>
                    <a:lnTo>
                      <a:pt x="837" y="1119"/>
                    </a:lnTo>
                    <a:lnTo>
                      <a:pt x="519" y="2042"/>
                    </a:lnTo>
                    <a:lnTo>
                      <a:pt x="503" y="2319"/>
                    </a:lnTo>
                    <a:lnTo>
                      <a:pt x="558" y="2424"/>
                    </a:lnTo>
                    <a:lnTo>
                      <a:pt x="383" y="2595"/>
                    </a:lnTo>
                    <a:lnTo>
                      <a:pt x="200" y="2807"/>
                    </a:lnTo>
                    <a:lnTo>
                      <a:pt x="251" y="2490"/>
                    </a:lnTo>
                    <a:lnTo>
                      <a:pt x="330" y="2187"/>
                    </a:lnTo>
                    <a:lnTo>
                      <a:pt x="171" y="1910"/>
                    </a:lnTo>
                    <a:lnTo>
                      <a:pt x="371" y="1728"/>
                    </a:lnTo>
                    <a:lnTo>
                      <a:pt x="466" y="1011"/>
                    </a:lnTo>
                    <a:lnTo>
                      <a:pt x="316" y="1119"/>
                    </a:lnTo>
                    <a:lnTo>
                      <a:pt x="171" y="1263"/>
                    </a:lnTo>
                    <a:lnTo>
                      <a:pt x="83" y="1659"/>
                    </a:lnTo>
                    <a:lnTo>
                      <a:pt x="53" y="2015"/>
                    </a:lnTo>
                    <a:lnTo>
                      <a:pt x="83" y="2360"/>
                    </a:lnTo>
                    <a:lnTo>
                      <a:pt x="132" y="2819"/>
                    </a:lnTo>
                    <a:lnTo>
                      <a:pt x="95" y="2819"/>
                    </a:lnTo>
                    <a:lnTo>
                      <a:pt x="42" y="2424"/>
                    </a:lnTo>
                    <a:lnTo>
                      <a:pt x="0" y="2015"/>
                    </a:lnTo>
                    <a:lnTo>
                      <a:pt x="16" y="1620"/>
                    </a:lnTo>
                    <a:lnTo>
                      <a:pt x="95" y="1304"/>
                    </a:lnTo>
                    <a:lnTo>
                      <a:pt x="185" y="1042"/>
                    </a:lnTo>
                    <a:lnTo>
                      <a:pt x="371" y="721"/>
                    </a:lnTo>
                    <a:lnTo>
                      <a:pt x="488" y="488"/>
                    </a:lnTo>
                    <a:lnTo>
                      <a:pt x="558" y="301"/>
                    </a:lnTo>
                    <a:lnTo>
                      <a:pt x="620" y="50"/>
                    </a:lnTo>
                    <a:lnTo>
                      <a:pt x="6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016760" y="1682640"/>
                <a:ext cx="307800" cy="301680"/>
              </a:xfrm>
              <a:custGeom>
                <a:avLst/>
                <a:gdLst/>
                <a:ahLst/>
                <a:rect l="l" t="t" r="r" b="b"/>
                <a:pathLst>
                  <a:path w="1554" h="1521">
                    <a:moveTo>
                      <a:pt x="26" y="1521"/>
                    </a:moveTo>
                    <a:lnTo>
                      <a:pt x="439" y="1219"/>
                    </a:lnTo>
                    <a:lnTo>
                      <a:pt x="413" y="1044"/>
                    </a:lnTo>
                    <a:lnTo>
                      <a:pt x="429" y="901"/>
                    </a:lnTo>
                    <a:lnTo>
                      <a:pt x="492" y="765"/>
                    </a:lnTo>
                    <a:lnTo>
                      <a:pt x="625" y="569"/>
                    </a:lnTo>
                    <a:lnTo>
                      <a:pt x="798" y="401"/>
                    </a:lnTo>
                    <a:lnTo>
                      <a:pt x="971" y="322"/>
                    </a:lnTo>
                    <a:lnTo>
                      <a:pt x="1155" y="267"/>
                    </a:lnTo>
                    <a:lnTo>
                      <a:pt x="1353" y="240"/>
                    </a:lnTo>
                    <a:lnTo>
                      <a:pt x="1474" y="172"/>
                    </a:lnTo>
                    <a:lnTo>
                      <a:pt x="1529" y="108"/>
                    </a:lnTo>
                    <a:lnTo>
                      <a:pt x="1554" y="0"/>
                    </a:lnTo>
                    <a:lnTo>
                      <a:pt x="1379" y="16"/>
                    </a:lnTo>
                    <a:lnTo>
                      <a:pt x="1142" y="95"/>
                    </a:lnTo>
                    <a:lnTo>
                      <a:pt x="931" y="189"/>
                    </a:lnTo>
                    <a:lnTo>
                      <a:pt x="773" y="304"/>
                    </a:lnTo>
                    <a:lnTo>
                      <a:pt x="613" y="424"/>
                    </a:lnTo>
                    <a:lnTo>
                      <a:pt x="492" y="559"/>
                    </a:lnTo>
                    <a:lnTo>
                      <a:pt x="454" y="475"/>
                    </a:lnTo>
                    <a:lnTo>
                      <a:pt x="439" y="189"/>
                    </a:lnTo>
                    <a:lnTo>
                      <a:pt x="268" y="438"/>
                    </a:lnTo>
                    <a:lnTo>
                      <a:pt x="109" y="832"/>
                    </a:lnTo>
                    <a:lnTo>
                      <a:pt x="26" y="1219"/>
                    </a:lnTo>
                    <a:lnTo>
                      <a:pt x="0" y="1454"/>
                    </a:lnTo>
                    <a:lnTo>
                      <a:pt x="26" y="1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654960" y="1698480"/>
                <a:ext cx="798480" cy="835200"/>
              </a:xfrm>
              <a:custGeom>
                <a:avLst/>
                <a:gdLst/>
                <a:ahLst/>
                <a:rect l="l" t="t" r="r" b="b"/>
                <a:pathLst>
                  <a:path w="4030" h="4205">
                    <a:moveTo>
                      <a:pt x="3498" y="0"/>
                    </a:moveTo>
                    <a:lnTo>
                      <a:pt x="3443" y="147"/>
                    </a:lnTo>
                    <a:lnTo>
                      <a:pt x="3344" y="242"/>
                    </a:lnTo>
                    <a:lnTo>
                      <a:pt x="3142" y="344"/>
                    </a:lnTo>
                    <a:lnTo>
                      <a:pt x="2940" y="466"/>
                    </a:lnTo>
                    <a:lnTo>
                      <a:pt x="2929" y="542"/>
                    </a:lnTo>
                    <a:lnTo>
                      <a:pt x="3101" y="528"/>
                    </a:lnTo>
                    <a:lnTo>
                      <a:pt x="3392" y="479"/>
                    </a:lnTo>
                    <a:lnTo>
                      <a:pt x="3380" y="553"/>
                    </a:lnTo>
                    <a:lnTo>
                      <a:pt x="3205" y="674"/>
                    </a:lnTo>
                    <a:lnTo>
                      <a:pt x="3011" y="752"/>
                    </a:lnTo>
                    <a:lnTo>
                      <a:pt x="2878" y="833"/>
                    </a:lnTo>
                    <a:lnTo>
                      <a:pt x="3152" y="833"/>
                    </a:lnTo>
                    <a:lnTo>
                      <a:pt x="3403" y="766"/>
                    </a:lnTo>
                    <a:lnTo>
                      <a:pt x="3300" y="911"/>
                    </a:lnTo>
                    <a:lnTo>
                      <a:pt x="3089" y="1019"/>
                    </a:lnTo>
                    <a:lnTo>
                      <a:pt x="2834" y="1079"/>
                    </a:lnTo>
                    <a:lnTo>
                      <a:pt x="2573" y="1139"/>
                    </a:lnTo>
                    <a:lnTo>
                      <a:pt x="2414" y="1202"/>
                    </a:lnTo>
                    <a:lnTo>
                      <a:pt x="2265" y="1292"/>
                    </a:lnTo>
                    <a:lnTo>
                      <a:pt x="2599" y="1241"/>
                    </a:lnTo>
                    <a:lnTo>
                      <a:pt x="2956" y="1215"/>
                    </a:lnTo>
                    <a:lnTo>
                      <a:pt x="3170" y="1178"/>
                    </a:lnTo>
                    <a:lnTo>
                      <a:pt x="3300" y="1109"/>
                    </a:lnTo>
                    <a:lnTo>
                      <a:pt x="3235" y="1257"/>
                    </a:lnTo>
                    <a:lnTo>
                      <a:pt x="3074" y="1384"/>
                    </a:lnTo>
                    <a:lnTo>
                      <a:pt x="2797" y="1492"/>
                    </a:lnTo>
                    <a:lnTo>
                      <a:pt x="2465" y="1545"/>
                    </a:lnTo>
                    <a:lnTo>
                      <a:pt x="2414" y="1556"/>
                    </a:lnTo>
                    <a:lnTo>
                      <a:pt x="2426" y="1584"/>
                    </a:lnTo>
                    <a:lnTo>
                      <a:pt x="2956" y="1808"/>
                    </a:lnTo>
                    <a:lnTo>
                      <a:pt x="2744" y="1888"/>
                    </a:lnTo>
                    <a:lnTo>
                      <a:pt x="2584" y="1863"/>
                    </a:lnTo>
                    <a:lnTo>
                      <a:pt x="2414" y="1782"/>
                    </a:lnTo>
                    <a:lnTo>
                      <a:pt x="2239" y="1665"/>
                    </a:lnTo>
                    <a:lnTo>
                      <a:pt x="2144" y="1584"/>
                    </a:lnTo>
                    <a:lnTo>
                      <a:pt x="2133" y="1584"/>
                    </a:lnTo>
                    <a:lnTo>
                      <a:pt x="2225" y="1769"/>
                    </a:lnTo>
                    <a:lnTo>
                      <a:pt x="2318" y="1955"/>
                    </a:lnTo>
                    <a:lnTo>
                      <a:pt x="2414" y="2096"/>
                    </a:lnTo>
                    <a:lnTo>
                      <a:pt x="2225" y="2008"/>
                    </a:lnTo>
                    <a:lnTo>
                      <a:pt x="2118" y="1911"/>
                    </a:lnTo>
                    <a:lnTo>
                      <a:pt x="2109" y="1927"/>
                    </a:lnTo>
                    <a:lnTo>
                      <a:pt x="2175" y="2070"/>
                    </a:lnTo>
                    <a:lnTo>
                      <a:pt x="2292" y="2312"/>
                    </a:lnTo>
                    <a:lnTo>
                      <a:pt x="2359" y="2391"/>
                    </a:lnTo>
                    <a:lnTo>
                      <a:pt x="2109" y="2414"/>
                    </a:lnTo>
                    <a:lnTo>
                      <a:pt x="1949" y="2483"/>
                    </a:lnTo>
                    <a:lnTo>
                      <a:pt x="1709" y="2507"/>
                    </a:lnTo>
                    <a:lnTo>
                      <a:pt x="1485" y="2499"/>
                    </a:lnTo>
                    <a:lnTo>
                      <a:pt x="1272" y="2467"/>
                    </a:lnTo>
                    <a:lnTo>
                      <a:pt x="1061" y="2428"/>
                    </a:lnTo>
                    <a:lnTo>
                      <a:pt x="885" y="2391"/>
                    </a:lnTo>
                    <a:lnTo>
                      <a:pt x="848" y="2444"/>
                    </a:lnTo>
                    <a:lnTo>
                      <a:pt x="1006" y="2624"/>
                    </a:lnTo>
                    <a:lnTo>
                      <a:pt x="1259" y="2810"/>
                    </a:lnTo>
                    <a:lnTo>
                      <a:pt x="1499" y="2929"/>
                    </a:lnTo>
                    <a:lnTo>
                      <a:pt x="1630" y="2995"/>
                    </a:lnTo>
                    <a:lnTo>
                      <a:pt x="1351" y="3023"/>
                    </a:lnTo>
                    <a:lnTo>
                      <a:pt x="1114" y="2929"/>
                    </a:lnTo>
                    <a:lnTo>
                      <a:pt x="874" y="2783"/>
                    </a:lnTo>
                    <a:lnTo>
                      <a:pt x="637" y="2826"/>
                    </a:lnTo>
                    <a:lnTo>
                      <a:pt x="436" y="2866"/>
                    </a:lnTo>
                    <a:lnTo>
                      <a:pt x="452" y="2905"/>
                    </a:lnTo>
                    <a:lnTo>
                      <a:pt x="1153" y="3006"/>
                    </a:lnTo>
                    <a:lnTo>
                      <a:pt x="1272" y="3050"/>
                    </a:lnTo>
                    <a:lnTo>
                      <a:pt x="964" y="3166"/>
                    </a:lnTo>
                    <a:lnTo>
                      <a:pt x="664" y="3210"/>
                    </a:lnTo>
                    <a:lnTo>
                      <a:pt x="542" y="3065"/>
                    </a:lnTo>
                    <a:lnTo>
                      <a:pt x="296" y="2852"/>
                    </a:lnTo>
                    <a:lnTo>
                      <a:pt x="120" y="2723"/>
                    </a:lnTo>
                    <a:lnTo>
                      <a:pt x="397" y="2969"/>
                    </a:lnTo>
                    <a:lnTo>
                      <a:pt x="516" y="3154"/>
                    </a:lnTo>
                    <a:lnTo>
                      <a:pt x="516" y="3248"/>
                    </a:lnTo>
                    <a:lnTo>
                      <a:pt x="452" y="3322"/>
                    </a:lnTo>
                    <a:lnTo>
                      <a:pt x="344" y="3340"/>
                    </a:lnTo>
                    <a:lnTo>
                      <a:pt x="187" y="3377"/>
                    </a:lnTo>
                    <a:lnTo>
                      <a:pt x="0" y="3443"/>
                    </a:lnTo>
                    <a:lnTo>
                      <a:pt x="358" y="3393"/>
                    </a:lnTo>
                    <a:lnTo>
                      <a:pt x="476" y="3433"/>
                    </a:lnTo>
                    <a:lnTo>
                      <a:pt x="623" y="3458"/>
                    </a:lnTo>
                    <a:lnTo>
                      <a:pt x="941" y="3353"/>
                    </a:lnTo>
                    <a:lnTo>
                      <a:pt x="1499" y="3140"/>
                    </a:lnTo>
                    <a:lnTo>
                      <a:pt x="1999" y="2905"/>
                    </a:lnTo>
                    <a:lnTo>
                      <a:pt x="2239" y="2771"/>
                    </a:lnTo>
                    <a:lnTo>
                      <a:pt x="3170" y="2921"/>
                    </a:lnTo>
                    <a:lnTo>
                      <a:pt x="3170" y="4205"/>
                    </a:lnTo>
                    <a:lnTo>
                      <a:pt x="3901" y="4205"/>
                    </a:lnTo>
                    <a:lnTo>
                      <a:pt x="3935" y="3746"/>
                    </a:lnTo>
                    <a:lnTo>
                      <a:pt x="3977" y="3551"/>
                    </a:lnTo>
                    <a:lnTo>
                      <a:pt x="4030" y="3493"/>
                    </a:lnTo>
                    <a:lnTo>
                      <a:pt x="3949" y="2296"/>
                    </a:lnTo>
                    <a:lnTo>
                      <a:pt x="3830" y="1545"/>
                    </a:lnTo>
                    <a:lnTo>
                      <a:pt x="3698" y="848"/>
                    </a:lnTo>
                    <a:lnTo>
                      <a:pt x="3577" y="263"/>
                    </a:lnTo>
                    <a:lnTo>
                      <a:pt x="3539" y="42"/>
                    </a:lnTo>
                    <a:lnTo>
                      <a:pt x="34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859440" y="1685880"/>
                <a:ext cx="55800" cy="239760"/>
              </a:xfrm>
              <a:custGeom>
                <a:avLst/>
                <a:gdLst/>
                <a:ahLst/>
                <a:rect l="l" t="t" r="r" b="b"/>
                <a:pathLst>
                  <a:path w="279" h="1203">
                    <a:moveTo>
                      <a:pt x="37" y="0"/>
                    </a:moveTo>
                    <a:lnTo>
                      <a:pt x="37" y="106"/>
                    </a:lnTo>
                    <a:lnTo>
                      <a:pt x="79" y="237"/>
                    </a:lnTo>
                    <a:lnTo>
                      <a:pt x="118" y="316"/>
                    </a:lnTo>
                    <a:lnTo>
                      <a:pt x="187" y="398"/>
                    </a:lnTo>
                    <a:lnTo>
                      <a:pt x="279" y="449"/>
                    </a:lnTo>
                    <a:lnTo>
                      <a:pt x="266" y="486"/>
                    </a:lnTo>
                    <a:lnTo>
                      <a:pt x="146" y="449"/>
                    </a:lnTo>
                    <a:lnTo>
                      <a:pt x="171" y="606"/>
                    </a:lnTo>
                    <a:lnTo>
                      <a:pt x="187" y="989"/>
                    </a:lnTo>
                    <a:lnTo>
                      <a:pt x="187" y="1203"/>
                    </a:lnTo>
                    <a:lnTo>
                      <a:pt x="146" y="633"/>
                    </a:lnTo>
                    <a:lnTo>
                      <a:pt x="79" y="433"/>
                    </a:lnTo>
                    <a:lnTo>
                      <a:pt x="10" y="408"/>
                    </a:lnTo>
                    <a:lnTo>
                      <a:pt x="79" y="385"/>
                    </a:lnTo>
                    <a:lnTo>
                      <a:pt x="37" y="288"/>
                    </a:lnTo>
                    <a:lnTo>
                      <a:pt x="10" y="156"/>
                    </a:lnTo>
                    <a:lnTo>
                      <a:pt x="0" y="13"/>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567480" y="1706400"/>
                <a:ext cx="334800" cy="681120"/>
              </a:xfrm>
              <a:custGeom>
                <a:avLst/>
                <a:gdLst/>
                <a:ahLst/>
                <a:rect l="l" t="t" r="r" b="b"/>
                <a:pathLst>
                  <a:path w="1683" h="3425">
                    <a:moveTo>
                      <a:pt x="1441" y="0"/>
                    </a:moveTo>
                    <a:lnTo>
                      <a:pt x="1390" y="81"/>
                    </a:lnTo>
                    <a:lnTo>
                      <a:pt x="1376" y="200"/>
                    </a:lnTo>
                    <a:lnTo>
                      <a:pt x="1390" y="292"/>
                    </a:lnTo>
                    <a:lnTo>
                      <a:pt x="1309" y="527"/>
                    </a:lnTo>
                    <a:lnTo>
                      <a:pt x="1259" y="791"/>
                    </a:lnTo>
                    <a:lnTo>
                      <a:pt x="1259" y="1037"/>
                    </a:lnTo>
                    <a:lnTo>
                      <a:pt x="977" y="1436"/>
                    </a:lnTo>
                    <a:lnTo>
                      <a:pt x="608" y="1215"/>
                    </a:lnTo>
                    <a:lnTo>
                      <a:pt x="731" y="1740"/>
                    </a:lnTo>
                    <a:lnTo>
                      <a:pt x="793" y="2162"/>
                    </a:lnTo>
                    <a:lnTo>
                      <a:pt x="832" y="2349"/>
                    </a:lnTo>
                    <a:lnTo>
                      <a:pt x="488" y="2557"/>
                    </a:lnTo>
                    <a:lnTo>
                      <a:pt x="0" y="2741"/>
                    </a:lnTo>
                    <a:lnTo>
                      <a:pt x="156" y="2836"/>
                    </a:lnTo>
                    <a:lnTo>
                      <a:pt x="304" y="3034"/>
                    </a:lnTo>
                    <a:lnTo>
                      <a:pt x="343" y="3216"/>
                    </a:lnTo>
                    <a:lnTo>
                      <a:pt x="329" y="3298"/>
                    </a:lnTo>
                    <a:lnTo>
                      <a:pt x="248" y="3335"/>
                    </a:lnTo>
                    <a:lnTo>
                      <a:pt x="355" y="3425"/>
                    </a:lnTo>
                    <a:lnTo>
                      <a:pt x="408" y="3391"/>
                    </a:lnTo>
                    <a:lnTo>
                      <a:pt x="394" y="3206"/>
                    </a:lnTo>
                    <a:lnTo>
                      <a:pt x="343" y="3008"/>
                    </a:lnTo>
                    <a:lnTo>
                      <a:pt x="237" y="2836"/>
                    </a:lnTo>
                    <a:lnTo>
                      <a:pt x="156" y="2741"/>
                    </a:lnTo>
                    <a:lnTo>
                      <a:pt x="500" y="2637"/>
                    </a:lnTo>
                    <a:lnTo>
                      <a:pt x="1046" y="2270"/>
                    </a:lnTo>
                    <a:lnTo>
                      <a:pt x="1683" y="1885"/>
                    </a:lnTo>
                    <a:lnTo>
                      <a:pt x="1376" y="2003"/>
                    </a:lnTo>
                    <a:lnTo>
                      <a:pt x="1298" y="1529"/>
                    </a:lnTo>
                    <a:lnTo>
                      <a:pt x="1283" y="922"/>
                    </a:lnTo>
                    <a:lnTo>
                      <a:pt x="1335" y="567"/>
                    </a:lnTo>
                    <a:lnTo>
                      <a:pt x="1427" y="316"/>
                    </a:lnTo>
                    <a:lnTo>
                      <a:pt x="1480" y="316"/>
                    </a:lnTo>
                    <a:lnTo>
                      <a:pt x="1417" y="221"/>
                    </a:lnTo>
                    <a:lnTo>
                      <a:pt x="1417" y="145"/>
                    </a:lnTo>
                    <a:lnTo>
                      <a:pt x="1427" y="50"/>
                    </a:lnTo>
                    <a:lnTo>
                      <a:pt x="14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6678720" y="1668600"/>
                <a:ext cx="87120" cy="239400"/>
              </a:xfrm>
              <a:custGeom>
                <a:avLst/>
                <a:gdLst/>
                <a:ahLst/>
                <a:rect l="l" t="t" r="r" b="b"/>
                <a:pathLst>
                  <a:path w="440" h="1212">
                    <a:moveTo>
                      <a:pt x="198" y="1212"/>
                    </a:moveTo>
                    <a:lnTo>
                      <a:pt x="251" y="1134"/>
                    </a:lnTo>
                    <a:lnTo>
                      <a:pt x="306" y="1013"/>
                    </a:lnTo>
                    <a:lnTo>
                      <a:pt x="132" y="514"/>
                    </a:lnTo>
                    <a:lnTo>
                      <a:pt x="372" y="343"/>
                    </a:lnTo>
                    <a:lnTo>
                      <a:pt x="440" y="0"/>
                    </a:lnTo>
                    <a:lnTo>
                      <a:pt x="343" y="292"/>
                    </a:lnTo>
                    <a:lnTo>
                      <a:pt x="212" y="343"/>
                    </a:lnTo>
                    <a:lnTo>
                      <a:pt x="141" y="27"/>
                    </a:lnTo>
                    <a:lnTo>
                      <a:pt x="53" y="0"/>
                    </a:lnTo>
                    <a:lnTo>
                      <a:pt x="0" y="27"/>
                    </a:lnTo>
                    <a:lnTo>
                      <a:pt x="53" y="490"/>
                    </a:lnTo>
                    <a:lnTo>
                      <a:pt x="53" y="1092"/>
                    </a:lnTo>
                    <a:lnTo>
                      <a:pt x="132" y="1212"/>
                    </a:lnTo>
                    <a:lnTo>
                      <a:pt x="198" y="1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6799320" y="1658880"/>
                <a:ext cx="41040" cy="147600"/>
              </a:xfrm>
              <a:custGeom>
                <a:avLst/>
                <a:gdLst/>
                <a:ahLst/>
                <a:rect l="l" t="t" r="r" b="b"/>
                <a:pathLst>
                  <a:path w="212" h="740">
                    <a:moveTo>
                      <a:pt x="39" y="0"/>
                    </a:moveTo>
                    <a:lnTo>
                      <a:pt x="39" y="110"/>
                    </a:lnTo>
                    <a:lnTo>
                      <a:pt x="95" y="213"/>
                    </a:lnTo>
                    <a:lnTo>
                      <a:pt x="134" y="345"/>
                    </a:lnTo>
                    <a:lnTo>
                      <a:pt x="134" y="461"/>
                    </a:lnTo>
                    <a:lnTo>
                      <a:pt x="156" y="542"/>
                    </a:lnTo>
                    <a:lnTo>
                      <a:pt x="212" y="650"/>
                    </a:lnTo>
                    <a:lnTo>
                      <a:pt x="156" y="740"/>
                    </a:lnTo>
                    <a:lnTo>
                      <a:pt x="119" y="532"/>
                    </a:lnTo>
                    <a:lnTo>
                      <a:pt x="106" y="358"/>
                    </a:lnTo>
                    <a:lnTo>
                      <a:pt x="79" y="240"/>
                    </a:lnTo>
                    <a:lnTo>
                      <a:pt x="13" y="118"/>
                    </a:lnTo>
                    <a:lnTo>
                      <a:pt x="0" y="42"/>
                    </a:lnTo>
                    <a:lnTo>
                      <a:pt x="0" y="0"/>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378480" y="2162160"/>
                <a:ext cx="204840" cy="92160"/>
              </a:xfrm>
              <a:custGeom>
                <a:avLst/>
                <a:gdLst/>
                <a:ahLst/>
                <a:rect l="l" t="t" r="r" b="b"/>
                <a:pathLst>
                  <a:path w="1033" h="461">
                    <a:moveTo>
                      <a:pt x="1033" y="461"/>
                    </a:moveTo>
                    <a:lnTo>
                      <a:pt x="783" y="306"/>
                    </a:lnTo>
                    <a:lnTo>
                      <a:pt x="530" y="211"/>
                    </a:lnTo>
                    <a:lnTo>
                      <a:pt x="369" y="198"/>
                    </a:lnTo>
                    <a:lnTo>
                      <a:pt x="229" y="163"/>
                    </a:lnTo>
                    <a:lnTo>
                      <a:pt x="120" y="66"/>
                    </a:lnTo>
                    <a:lnTo>
                      <a:pt x="64" y="0"/>
                    </a:lnTo>
                    <a:lnTo>
                      <a:pt x="0" y="25"/>
                    </a:lnTo>
                    <a:lnTo>
                      <a:pt x="64" y="184"/>
                    </a:lnTo>
                    <a:lnTo>
                      <a:pt x="170" y="343"/>
                    </a:lnTo>
                    <a:lnTo>
                      <a:pt x="359" y="387"/>
                    </a:lnTo>
                    <a:lnTo>
                      <a:pt x="412" y="435"/>
                    </a:lnTo>
                    <a:lnTo>
                      <a:pt x="359" y="343"/>
                    </a:lnTo>
                    <a:lnTo>
                      <a:pt x="187" y="316"/>
                    </a:lnTo>
                    <a:lnTo>
                      <a:pt x="108" y="184"/>
                    </a:lnTo>
                    <a:lnTo>
                      <a:pt x="64" y="41"/>
                    </a:lnTo>
                    <a:lnTo>
                      <a:pt x="187" y="171"/>
                    </a:lnTo>
                    <a:lnTo>
                      <a:pt x="306" y="211"/>
                    </a:lnTo>
                    <a:lnTo>
                      <a:pt x="530" y="239"/>
                    </a:lnTo>
                    <a:lnTo>
                      <a:pt x="770" y="329"/>
                    </a:lnTo>
                    <a:lnTo>
                      <a:pt x="966" y="447"/>
                    </a:lnTo>
                    <a:lnTo>
                      <a:pt x="1033" y="46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6" name=""/>
              <p:cNvSpPr/>
              <p:nvPr/>
            </p:nvSpPr>
            <p:spPr>
              <a:xfrm>
                <a:off x="6226200" y="2249640"/>
                <a:ext cx="233280" cy="226800"/>
              </a:xfrm>
              <a:custGeom>
                <a:avLst/>
                <a:gdLst/>
                <a:ahLst/>
                <a:rect l="l" t="t" r="r" b="b"/>
                <a:pathLst>
                  <a:path w="1180" h="1149">
                    <a:moveTo>
                      <a:pt x="1180" y="0"/>
                    </a:moveTo>
                    <a:lnTo>
                      <a:pt x="913" y="107"/>
                    </a:lnTo>
                    <a:lnTo>
                      <a:pt x="621" y="173"/>
                    </a:lnTo>
                    <a:lnTo>
                      <a:pt x="268" y="224"/>
                    </a:lnTo>
                    <a:lnTo>
                      <a:pt x="94" y="279"/>
                    </a:lnTo>
                    <a:lnTo>
                      <a:pt x="41" y="318"/>
                    </a:lnTo>
                    <a:lnTo>
                      <a:pt x="67" y="383"/>
                    </a:lnTo>
                    <a:lnTo>
                      <a:pt x="250" y="369"/>
                    </a:lnTo>
                    <a:lnTo>
                      <a:pt x="860" y="330"/>
                    </a:lnTo>
                    <a:lnTo>
                      <a:pt x="476" y="464"/>
                    </a:lnTo>
                    <a:lnTo>
                      <a:pt x="171" y="501"/>
                    </a:lnTo>
                    <a:lnTo>
                      <a:pt x="0" y="569"/>
                    </a:lnTo>
                    <a:lnTo>
                      <a:pt x="0" y="635"/>
                    </a:lnTo>
                    <a:lnTo>
                      <a:pt x="76" y="672"/>
                    </a:lnTo>
                    <a:lnTo>
                      <a:pt x="500" y="622"/>
                    </a:lnTo>
                    <a:lnTo>
                      <a:pt x="938" y="551"/>
                    </a:lnTo>
                    <a:lnTo>
                      <a:pt x="925" y="595"/>
                    </a:lnTo>
                    <a:lnTo>
                      <a:pt x="558" y="766"/>
                    </a:lnTo>
                    <a:lnTo>
                      <a:pt x="250" y="885"/>
                    </a:lnTo>
                    <a:lnTo>
                      <a:pt x="250" y="962"/>
                    </a:lnTo>
                    <a:lnTo>
                      <a:pt x="410" y="975"/>
                    </a:lnTo>
                    <a:lnTo>
                      <a:pt x="1006" y="791"/>
                    </a:lnTo>
                    <a:lnTo>
                      <a:pt x="1111" y="780"/>
                    </a:lnTo>
                    <a:lnTo>
                      <a:pt x="938" y="1004"/>
                    </a:lnTo>
                    <a:lnTo>
                      <a:pt x="650" y="1094"/>
                    </a:lnTo>
                    <a:lnTo>
                      <a:pt x="664" y="1149"/>
                    </a:lnTo>
                    <a:lnTo>
                      <a:pt x="742" y="1149"/>
                    </a:lnTo>
                    <a:lnTo>
                      <a:pt x="705" y="1107"/>
                    </a:lnTo>
                    <a:lnTo>
                      <a:pt x="997" y="1031"/>
                    </a:lnTo>
                    <a:lnTo>
                      <a:pt x="1180" y="749"/>
                    </a:lnTo>
                    <a:lnTo>
                      <a:pt x="966" y="749"/>
                    </a:lnTo>
                    <a:lnTo>
                      <a:pt x="450" y="938"/>
                    </a:lnTo>
                    <a:lnTo>
                      <a:pt x="318" y="938"/>
                    </a:lnTo>
                    <a:lnTo>
                      <a:pt x="332" y="885"/>
                    </a:lnTo>
                    <a:lnTo>
                      <a:pt x="689" y="749"/>
                    </a:lnTo>
                    <a:lnTo>
                      <a:pt x="1006" y="569"/>
                    </a:lnTo>
                    <a:lnTo>
                      <a:pt x="1021" y="501"/>
                    </a:lnTo>
                    <a:lnTo>
                      <a:pt x="382" y="606"/>
                    </a:lnTo>
                    <a:lnTo>
                      <a:pt x="94" y="635"/>
                    </a:lnTo>
                    <a:lnTo>
                      <a:pt x="41" y="595"/>
                    </a:lnTo>
                    <a:lnTo>
                      <a:pt x="131" y="542"/>
                    </a:lnTo>
                    <a:lnTo>
                      <a:pt x="529" y="477"/>
                    </a:lnTo>
                    <a:lnTo>
                      <a:pt x="955" y="330"/>
                    </a:lnTo>
                    <a:lnTo>
                      <a:pt x="966" y="294"/>
                    </a:lnTo>
                    <a:lnTo>
                      <a:pt x="226" y="318"/>
                    </a:lnTo>
                    <a:lnTo>
                      <a:pt x="212" y="305"/>
                    </a:lnTo>
                    <a:lnTo>
                      <a:pt x="586" y="208"/>
                    </a:lnTo>
                    <a:lnTo>
                      <a:pt x="938" y="134"/>
                    </a:lnTo>
                    <a:lnTo>
                      <a:pt x="1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6399360" y="2352600"/>
                <a:ext cx="236520" cy="119160"/>
              </a:xfrm>
              <a:custGeom>
                <a:avLst/>
                <a:gdLst/>
                <a:ahLst/>
                <a:rect l="l" t="t" r="r" b="b"/>
                <a:pathLst>
                  <a:path w="1192" h="596">
                    <a:moveTo>
                      <a:pt x="0" y="596"/>
                    </a:moveTo>
                    <a:lnTo>
                      <a:pt x="279" y="545"/>
                    </a:lnTo>
                    <a:lnTo>
                      <a:pt x="436" y="402"/>
                    </a:lnTo>
                    <a:lnTo>
                      <a:pt x="685" y="294"/>
                    </a:lnTo>
                    <a:lnTo>
                      <a:pt x="899" y="162"/>
                    </a:lnTo>
                    <a:lnTo>
                      <a:pt x="1153" y="70"/>
                    </a:lnTo>
                    <a:lnTo>
                      <a:pt x="1192" y="0"/>
                    </a:lnTo>
                    <a:lnTo>
                      <a:pt x="913" y="97"/>
                    </a:lnTo>
                    <a:lnTo>
                      <a:pt x="409" y="345"/>
                    </a:lnTo>
                    <a:lnTo>
                      <a:pt x="316" y="413"/>
                    </a:lnTo>
                    <a:lnTo>
                      <a:pt x="251" y="517"/>
                    </a:lnTo>
                    <a:lnTo>
                      <a:pt x="0" y="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581360" y="1166760"/>
                <a:ext cx="325440" cy="168480"/>
              </a:xfrm>
              <a:custGeom>
                <a:avLst/>
                <a:gdLst/>
                <a:ahLst/>
                <a:rect l="l" t="t" r="r" b="b"/>
                <a:pathLst>
                  <a:path w="1637" h="846">
                    <a:moveTo>
                      <a:pt x="1637" y="268"/>
                    </a:moveTo>
                    <a:lnTo>
                      <a:pt x="1600" y="345"/>
                    </a:lnTo>
                    <a:lnTo>
                      <a:pt x="1534" y="404"/>
                    </a:lnTo>
                    <a:lnTo>
                      <a:pt x="1490" y="452"/>
                    </a:lnTo>
                    <a:lnTo>
                      <a:pt x="1510" y="604"/>
                    </a:lnTo>
                    <a:lnTo>
                      <a:pt x="1505" y="701"/>
                    </a:lnTo>
                    <a:lnTo>
                      <a:pt x="1475" y="846"/>
                    </a:lnTo>
                    <a:lnTo>
                      <a:pt x="1334" y="528"/>
                    </a:lnTo>
                    <a:lnTo>
                      <a:pt x="1284" y="487"/>
                    </a:lnTo>
                    <a:lnTo>
                      <a:pt x="1169" y="525"/>
                    </a:lnTo>
                    <a:lnTo>
                      <a:pt x="971" y="540"/>
                    </a:lnTo>
                    <a:lnTo>
                      <a:pt x="881" y="597"/>
                    </a:lnTo>
                    <a:lnTo>
                      <a:pt x="745" y="731"/>
                    </a:lnTo>
                    <a:lnTo>
                      <a:pt x="851" y="588"/>
                    </a:lnTo>
                    <a:lnTo>
                      <a:pt x="991" y="435"/>
                    </a:lnTo>
                    <a:lnTo>
                      <a:pt x="961" y="408"/>
                    </a:lnTo>
                    <a:lnTo>
                      <a:pt x="809" y="470"/>
                    </a:lnTo>
                    <a:lnTo>
                      <a:pt x="657" y="525"/>
                    </a:lnTo>
                    <a:lnTo>
                      <a:pt x="740" y="408"/>
                    </a:lnTo>
                    <a:lnTo>
                      <a:pt x="611" y="457"/>
                    </a:lnTo>
                    <a:lnTo>
                      <a:pt x="501" y="404"/>
                    </a:lnTo>
                    <a:lnTo>
                      <a:pt x="404" y="417"/>
                    </a:lnTo>
                    <a:lnTo>
                      <a:pt x="470" y="343"/>
                    </a:lnTo>
                    <a:lnTo>
                      <a:pt x="330" y="360"/>
                    </a:lnTo>
                    <a:lnTo>
                      <a:pt x="224" y="393"/>
                    </a:lnTo>
                    <a:lnTo>
                      <a:pt x="275" y="297"/>
                    </a:lnTo>
                    <a:lnTo>
                      <a:pt x="334" y="213"/>
                    </a:lnTo>
                    <a:lnTo>
                      <a:pt x="404" y="164"/>
                    </a:lnTo>
                    <a:lnTo>
                      <a:pt x="295" y="178"/>
                    </a:lnTo>
                    <a:lnTo>
                      <a:pt x="164" y="217"/>
                    </a:lnTo>
                    <a:lnTo>
                      <a:pt x="72" y="292"/>
                    </a:lnTo>
                    <a:lnTo>
                      <a:pt x="0" y="385"/>
                    </a:lnTo>
                    <a:lnTo>
                      <a:pt x="97" y="224"/>
                    </a:lnTo>
                    <a:lnTo>
                      <a:pt x="222" y="129"/>
                    </a:lnTo>
                    <a:lnTo>
                      <a:pt x="343" y="65"/>
                    </a:lnTo>
                    <a:lnTo>
                      <a:pt x="488" y="17"/>
                    </a:lnTo>
                    <a:lnTo>
                      <a:pt x="641" y="0"/>
                    </a:lnTo>
                    <a:lnTo>
                      <a:pt x="851" y="17"/>
                    </a:lnTo>
                    <a:lnTo>
                      <a:pt x="1242" y="114"/>
                    </a:lnTo>
                    <a:lnTo>
                      <a:pt x="1561" y="224"/>
                    </a:lnTo>
                    <a:lnTo>
                      <a:pt x="1637"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4516560" y="1219320"/>
                <a:ext cx="222120" cy="376200"/>
              </a:xfrm>
              <a:custGeom>
                <a:avLst/>
                <a:gdLst/>
                <a:ahLst/>
                <a:rect l="l" t="t" r="r" b="b"/>
                <a:pathLst>
                  <a:path w="1121" h="1901">
                    <a:moveTo>
                      <a:pt x="1121" y="422"/>
                    </a:moveTo>
                    <a:lnTo>
                      <a:pt x="1086" y="539"/>
                    </a:lnTo>
                    <a:lnTo>
                      <a:pt x="1037" y="647"/>
                    </a:lnTo>
                    <a:lnTo>
                      <a:pt x="956" y="767"/>
                    </a:lnTo>
                    <a:lnTo>
                      <a:pt x="883" y="894"/>
                    </a:lnTo>
                    <a:lnTo>
                      <a:pt x="837" y="987"/>
                    </a:lnTo>
                    <a:lnTo>
                      <a:pt x="809" y="1099"/>
                    </a:lnTo>
                    <a:lnTo>
                      <a:pt x="715" y="1053"/>
                    </a:lnTo>
                    <a:lnTo>
                      <a:pt x="650" y="980"/>
                    </a:lnTo>
                    <a:lnTo>
                      <a:pt x="618" y="915"/>
                    </a:lnTo>
                    <a:lnTo>
                      <a:pt x="528" y="890"/>
                    </a:lnTo>
                    <a:lnTo>
                      <a:pt x="503" y="1005"/>
                    </a:lnTo>
                    <a:lnTo>
                      <a:pt x="491" y="1079"/>
                    </a:lnTo>
                    <a:lnTo>
                      <a:pt x="496" y="1173"/>
                    </a:lnTo>
                    <a:lnTo>
                      <a:pt x="528" y="1244"/>
                    </a:lnTo>
                    <a:lnTo>
                      <a:pt x="563" y="1305"/>
                    </a:lnTo>
                    <a:lnTo>
                      <a:pt x="618" y="1343"/>
                    </a:lnTo>
                    <a:lnTo>
                      <a:pt x="662" y="1281"/>
                    </a:lnTo>
                    <a:lnTo>
                      <a:pt x="641" y="1332"/>
                    </a:lnTo>
                    <a:lnTo>
                      <a:pt x="650" y="1402"/>
                    </a:lnTo>
                    <a:lnTo>
                      <a:pt x="685" y="1420"/>
                    </a:lnTo>
                    <a:lnTo>
                      <a:pt x="749" y="1420"/>
                    </a:lnTo>
                    <a:lnTo>
                      <a:pt x="789" y="1396"/>
                    </a:lnTo>
                    <a:lnTo>
                      <a:pt x="802" y="1356"/>
                    </a:lnTo>
                    <a:lnTo>
                      <a:pt x="802" y="1316"/>
                    </a:lnTo>
                    <a:lnTo>
                      <a:pt x="789" y="1284"/>
                    </a:lnTo>
                    <a:lnTo>
                      <a:pt x="754" y="1268"/>
                    </a:lnTo>
                    <a:lnTo>
                      <a:pt x="814" y="1299"/>
                    </a:lnTo>
                    <a:lnTo>
                      <a:pt x="833" y="1352"/>
                    </a:lnTo>
                    <a:lnTo>
                      <a:pt x="820" y="1427"/>
                    </a:lnTo>
                    <a:lnTo>
                      <a:pt x="798" y="1455"/>
                    </a:lnTo>
                    <a:lnTo>
                      <a:pt x="754" y="1461"/>
                    </a:lnTo>
                    <a:lnTo>
                      <a:pt x="690" y="1452"/>
                    </a:lnTo>
                    <a:lnTo>
                      <a:pt x="726" y="1526"/>
                    </a:lnTo>
                    <a:lnTo>
                      <a:pt x="779" y="1560"/>
                    </a:lnTo>
                    <a:lnTo>
                      <a:pt x="837" y="1560"/>
                    </a:lnTo>
                    <a:lnTo>
                      <a:pt x="877" y="1542"/>
                    </a:lnTo>
                    <a:lnTo>
                      <a:pt x="851" y="1576"/>
                    </a:lnTo>
                    <a:lnTo>
                      <a:pt x="809" y="1586"/>
                    </a:lnTo>
                    <a:lnTo>
                      <a:pt x="736" y="1586"/>
                    </a:lnTo>
                    <a:lnTo>
                      <a:pt x="758" y="1609"/>
                    </a:lnTo>
                    <a:lnTo>
                      <a:pt x="809" y="1622"/>
                    </a:lnTo>
                    <a:lnTo>
                      <a:pt x="846" y="1622"/>
                    </a:lnTo>
                    <a:lnTo>
                      <a:pt x="820" y="1683"/>
                    </a:lnTo>
                    <a:lnTo>
                      <a:pt x="765" y="1729"/>
                    </a:lnTo>
                    <a:lnTo>
                      <a:pt x="657" y="1828"/>
                    </a:lnTo>
                    <a:lnTo>
                      <a:pt x="545" y="1879"/>
                    </a:lnTo>
                    <a:lnTo>
                      <a:pt x="449" y="1901"/>
                    </a:lnTo>
                    <a:lnTo>
                      <a:pt x="341" y="1901"/>
                    </a:lnTo>
                    <a:lnTo>
                      <a:pt x="244" y="1870"/>
                    </a:lnTo>
                    <a:lnTo>
                      <a:pt x="178" y="1821"/>
                    </a:lnTo>
                    <a:lnTo>
                      <a:pt x="106" y="1747"/>
                    </a:lnTo>
                    <a:lnTo>
                      <a:pt x="44" y="1634"/>
                    </a:lnTo>
                    <a:lnTo>
                      <a:pt x="9" y="1455"/>
                    </a:lnTo>
                    <a:lnTo>
                      <a:pt x="0" y="1244"/>
                    </a:lnTo>
                    <a:lnTo>
                      <a:pt x="25" y="1037"/>
                    </a:lnTo>
                    <a:lnTo>
                      <a:pt x="97" y="735"/>
                    </a:lnTo>
                    <a:lnTo>
                      <a:pt x="185" y="444"/>
                    </a:lnTo>
                    <a:lnTo>
                      <a:pt x="284" y="220"/>
                    </a:lnTo>
                    <a:lnTo>
                      <a:pt x="337" y="119"/>
                    </a:lnTo>
                    <a:lnTo>
                      <a:pt x="424" y="0"/>
                    </a:lnTo>
                    <a:lnTo>
                      <a:pt x="376" y="84"/>
                    </a:lnTo>
                    <a:lnTo>
                      <a:pt x="341" y="202"/>
                    </a:lnTo>
                    <a:lnTo>
                      <a:pt x="341" y="318"/>
                    </a:lnTo>
                    <a:lnTo>
                      <a:pt x="369" y="451"/>
                    </a:lnTo>
                    <a:lnTo>
                      <a:pt x="385" y="385"/>
                    </a:lnTo>
                    <a:lnTo>
                      <a:pt x="442" y="244"/>
                    </a:lnTo>
                    <a:lnTo>
                      <a:pt x="466" y="279"/>
                    </a:lnTo>
                    <a:lnTo>
                      <a:pt x="523" y="244"/>
                    </a:lnTo>
                    <a:lnTo>
                      <a:pt x="554" y="226"/>
                    </a:lnTo>
                    <a:lnTo>
                      <a:pt x="627" y="279"/>
                    </a:lnTo>
                    <a:lnTo>
                      <a:pt x="706" y="244"/>
                    </a:lnTo>
                    <a:lnTo>
                      <a:pt x="666" y="363"/>
                    </a:lnTo>
                    <a:lnTo>
                      <a:pt x="782" y="299"/>
                    </a:lnTo>
                    <a:lnTo>
                      <a:pt x="920" y="350"/>
                    </a:lnTo>
                    <a:lnTo>
                      <a:pt x="920" y="444"/>
                    </a:lnTo>
                    <a:lnTo>
                      <a:pt x="989" y="366"/>
                    </a:lnTo>
                    <a:lnTo>
                      <a:pt x="1061" y="477"/>
                    </a:lnTo>
                    <a:lnTo>
                      <a:pt x="1121" y="4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35360" y="1415880"/>
                <a:ext cx="28800" cy="47880"/>
              </a:xfrm>
              <a:custGeom>
                <a:avLst/>
                <a:gdLst/>
                <a:ahLst/>
                <a:rect l="l" t="t" r="r" b="b"/>
                <a:pathLst>
                  <a:path w="149" h="237">
                    <a:moveTo>
                      <a:pt x="149" y="64"/>
                    </a:moveTo>
                    <a:lnTo>
                      <a:pt x="115" y="117"/>
                    </a:lnTo>
                    <a:lnTo>
                      <a:pt x="115" y="154"/>
                    </a:lnTo>
                    <a:lnTo>
                      <a:pt x="138" y="237"/>
                    </a:lnTo>
                    <a:lnTo>
                      <a:pt x="101" y="209"/>
                    </a:lnTo>
                    <a:lnTo>
                      <a:pt x="18" y="154"/>
                    </a:lnTo>
                    <a:lnTo>
                      <a:pt x="0" y="103"/>
                    </a:lnTo>
                    <a:lnTo>
                      <a:pt x="7" y="81"/>
                    </a:lnTo>
                    <a:lnTo>
                      <a:pt x="36" y="39"/>
                    </a:lnTo>
                    <a:lnTo>
                      <a:pt x="82" y="0"/>
                    </a:lnTo>
                    <a:lnTo>
                      <a:pt x="149" y="6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31" name=""/>
              <p:cNvSpPr/>
              <p:nvPr/>
            </p:nvSpPr>
            <p:spPr>
              <a:xfrm>
                <a:off x="4626000" y="1395360"/>
                <a:ext cx="15840" cy="36720"/>
              </a:xfrm>
              <a:custGeom>
                <a:avLst/>
                <a:gdLst/>
                <a:ahLst/>
                <a:rect l="l" t="t" r="r" b="b"/>
                <a:pathLst>
                  <a:path w="80" h="184">
                    <a:moveTo>
                      <a:pt x="80" y="59"/>
                    </a:moveTo>
                    <a:lnTo>
                      <a:pt x="37" y="97"/>
                    </a:lnTo>
                    <a:lnTo>
                      <a:pt x="7" y="161"/>
                    </a:lnTo>
                    <a:lnTo>
                      <a:pt x="0" y="184"/>
                    </a:lnTo>
                    <a:lnTo>
                      <a:pt x="7" y="108"/>
                    </a:lnTo>
                    <a:lnTo>
                      <a:pt x="34" y="41"/>
                    </a:lnTo>
                    <a:lnTo>
                      <a:pt x="71" y="0"/>
                    </a:lnTo>
                    <a:lnTo>
                      <a:pt x="80" y="5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32" name=""/>
              <p:cNvSpPr/>
              <p:nvPr/>
            </p:nvSpPr>
            <p:spPr>
              <a:xfrm>
                <a:off x="4676760" y="1324080"/>
                <a:ext cx="212760" cy="320400"/>
              </a:xfrm>
              <a:custGeom>
                <a:avLst/>
                <a:gdLst/>
                <a:ahLst/>
                <a:rect l="l" t="t" r="r" b="b"/>
                <a:pathLst>
                  <a:path w="1070" h="1620">
                    <a:moveTo>
                      <a:pt x="0" y="646"/>
                    </a:moveTo>
                    <a:lnTo>
                      <a:pt x="92" y="800"/>
                    </a:lnTo>
                    <a:lnTo>
                      <a:pt x="164" y="925"/>
                    </a:lnTo>
                    <a:lnTo>
                      <a:pt x="228" y="980"/>
                    </a:lnTo>
                    <a:lnTo>
                      <a:pt x="332" y="1021"/>
                    </a:lnTo>
                    <a:lnTo>
                      <a:pt x="630" y="1171"/>
                    </a:lnTo>
                    <a:lnTo>
                      <a:pt x="692" y="1176"/>
                    </a:lnTo>
                    <a:lnTo>
                      <a:pt x="782" y="1171"/>
                    </a:lnTo>
                    <a:lnTo>
                      <a:pt x="923" y="1114"/>
                    </a:lnTo>
                    <a:lnTo>
                      <a:pt x="960" y="1074"/>
                    </a:lnTo>
                    <a:lnTo>
                      <a:pt x="978" y="1021"/>
                    </a:lnTo>
                    <a:lnTo>
                      <a:pt x="985" y="947"/>
                    </a:lnTo>
                    <a:lnTo>
                      <a:pt x="1004" y="719"/>
                    </a:lnTo>
                    <a:lnTo>
                      <a:pt x="1028" y="475"/>
                    </a:lnTo>
                    <a:lnTo>
                      <a:pt x="1052" y="360"/>
                    </a:lnTo>
                    <a:lnTo>
                      <a:pt x="1052" y="286"/>
                    </a:lnTo>
                    <a:lnTo>
                      <a:pt x="1028" y="226"/>
                    </a:lnTo>
                    <a:lnTo>
                      <a:pt x="998" y="171"/>
                    </a:lnTo>
                    <a:lnTo>
                      <a:pt x="985" y="233"/>
                    </a:lnTo>
                    <a:lnTo>
                      <a:pt x="947" y="286"/>
                    </a:lnTo>
                    <a:lnTo>
                      <a:pt x="911" y="323"/>
                    </a:lnTo>
                    <a:lnTo>
                      <a:pt x="899" y="332"/>
                    </a:lnTo>
                    <a:lnTo>
                      <a:pt x="936" y="450"/>
                    </a:lnTo>
                    <a:lnTo>
                      <a:pt x="895" y="341"/>
                    </a:lnTo>
                    <a:lnTo>
                      <a:pt x="870" y="281"/>
                    </a:lnTo>
                    <a:lnTo>
                      <a:pt x="863" y="226"/>
                    </a:lnTo>
                    <a:lnTo>
                      <a:pt x="870" y="180"/>
                    </a:lnTo>
                    <a:lnTo>
                      <a:pt x="943" y="55"/>
                    </a:lnTo>
                    <a:lnTo>
                      <a:pt x="998" y="0"/>
                    </a:lnTo>
                    <a:lnTo>
                      <a:pt x="1008" y="127"/>
                    </a:lnTo>
                    <a:lnTo>
                      <a:pt x="1028" y="196"/>
                    </a:lnTo>
                    <a:lnTo>
                      <a:pt x="1063" y="281"/>
                    </a:lnTo>
                    <a:lnTo>
                      <a:pt x="1070" y="355"/>
                    </a:lnTo>
                    <a:lnTo>
                      <a:pt x="1057" y="468"/>
                    </a:lnTo>
                    <a:lnTo>
                      <a:pt x="1033" y="627"/>
                    </a:lnTo>
                    <a:lnTo>
                      <a:pt x="1022" y="763"/>
                    </a:lnTo>
                    <a:lnTo>
                      <a:pt x="1008" y="872"/>
                    </a:lnTo>
                    <a:lnTo>
                      <a:pt x="1004" y="973"/>
                    </a:lnTo>
                    <a:lnTo>
                      <a:pt x="991" y="1056"/>
                    </a:lnTo>
                    <a:lnTo>
                      <a:pt x="973" y="1092"/>
                    </a:lnTo>
                    <a:lnTo>
                      <a:pt x="932" y="1141"/>
                    </a:lnTo>
                    <a:lnTo>
                      <a:pt x="814" y="1194"/>
                    </a:lnTo>
                    <a:lnTo>
                      <a:pt x="722" y="1213"/>
                    </a:lnTo>
                    <a:lnTo>
                      <a:pt x="650" y="1213"/>
                    </a:lnTo>
                    <a:lnTo>
                      <a:pt x="558" y="1213"/>
                    </a:lnTo>
                    <a:lnTo>
                      <a:pt x="501" y="1325"/>
                    </a:lnTo>
                    <a:lnTo>
                      <a:pt x="448" y="1468"/>
                    </a:lnTo>
                    <a:lnTo>
                      <a:pt x="399" y="1620"/>
                    </a:lnTo>
                    <a:lnTo>
                      <a:pt x="448" y="1420"/>
                    </a:lnTo>
                    <a:lnTo>
                      <a:pt x="514" y="1217"/>
                    </a:lnTo>
                    <a:lnTo>
                      <a:pt x="325" y="1092"/>
                    </a:lnTo>
                    <a:lnTo>
                      <a:pt x="169" y="1021"/>
                    </a:lnTo>
                    <a:lnTo>
                      <a:pt x="129" y="971"/>
                    </a:lnTo>
                    <a:lnTo>
                      <a:pt x="81" y="890"/>
                    </a:lnTo>
                    <a:lnTo>
                      <a:pt x="17" y="719"/>
                    </a:lnTo>
                    <a:lnTo>
                      <a:pt x="0"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743360" y="1371600"/>
                <a:ext cx="87480" cy="42840"/>
              </a:xfrm>
              <a:custGeom>
                <a:avLst/>
                <a:gdLst/>
                <a:ahLst/>
                <a:rect l="l" t="t" r="r" b="b"/>
                <a:pathLst>
                  <a:path w="437" h="220">
                    <a:moveTo>
                      <a:pt x="72" y="20"/>
                    </a:moveTo>
                    <a:lnTo>
                      <a:pt x="169" y="0"/>
                    </a:lnTo>
                    <a:lnTo>
                      <a:pt x="303" y="0"/>
                    </a:lnTo>
                    <a:lnTo>
                      <a:pt x="390" y="0"/>
                    </a:lnTo>
                    <a:lnTo>
                      <a:pt x="417" y="20"/>
                    </a:lnTo>
                    <a:lnTo>
                      <a:pt x="437" y="49"/>
                    </a:lnTo>
                    <a:lnTo>
                      <a:pt x="417" y="79"/>
                    </a:lnTo>
                    <a:lnTo>
                      <a:pt x="381" y="104"/>
                    </a:lnTo>
                    <a:lnTo>
                      <a:pt x="351" y="123"/>
                    </a:lnTo>
                    <a:lnTo>
                      <a:pt x="333" y="171"/>
                    </a:lnTo>
                    <a:lnTo>
                      <a:pt x="309" y="207"/>
                    </a:lnTo>
                    <a:lnTo>
                      <a:pt x="259" y="220"/>
                    </a:lnTo>
                    <a:lnTo>
                      <a:pt x="199" y="213"/>
                    </a:lnTo>
                    <a:lnTo>
                      <a:pt x="153" y="200"/>
                    </a:lnTo>
                    <a:lnTo>
                      <a:pt x="118" y="189"/>
                    </a:lnTo>
                    <a:lnTo>
                      <a:pt x="39" y="171"/>
                    </a:lnTo>
                    <a:lnTo>
                      <a:pt x="17" y="189"/>
                    </a:lnTo>
                    <a:lnTo>
                      <a:pt x="0" y="148"/>
                    </a:lnTo>
                    <a:lnTo>
                      <a:pt x="46" y="123"/>
                    </a:lnTo>
                    <a:lnTo>
                      <a:pt x="63" y="141"/>
                    </a:lnTo>
                    <a:lnTo>
                      <a:pt x="118" y="148"/>
                    </a:lnTo>
                    <a:lnTo>
                      <a:pt x="169" y="132"/>
                    </a:lnTo>
                    <a:lnTo>
                      <a:pt x="222" y="104"/>
                    </a:lnTo>
                    <a:lnTo>
                      <a:pt x="169" y="40"/>
                    </a:lnTo>
                    <a:lnTo>
                      <a:pt x="72" y="2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4" name=""/>
              <p:cNvSpPr/>
              <p:nvPr/>
            </p:nvSpPr>
            <p:spPr>
              <a:xfrm>
                <a:off x="4818240" y="1436760"/>
                <a:ext cx="52200" cy="25200"/>
              </a:xfrm>
              <a:custGeom>
                <a:avLst/>
                <a:gdLst/>
                <a:ahLst/>
                <a:rect l="l" t="t" r="r" b="b"/>
                <a:pathLst>
                  <a:path w="256" h="123">
                    <a:moveTo>
                      <a:pt x="256" y="33"/>
                    </a:moveTo>
                    <a:lnTo>
                      <a:pt x="171" y="26"/>
                    </a:lnTo>
                    <a:lnTo>
                      <a:pt x="90" y="72"/>
                    </a:lnTo>
                    <a:lnTo>
                      <a:pt x="72" y="99"/>
                    </a:lnTo>
                    <a:lnTo>
                      <a:pt x="30" y="75"/>
                    </a:lnTo>
                    <a:lnTo>
                      <a:pt x="14" y="38"/>
                    </a:lnTo>
                    <a:lnTo>
                      <a:pt x="23" y="0"/>
                    </a:lnTo>
                    <a:lnTo>
                      <a:pt x="0" y="51"/>
                    </a:lnTo>
                    <a:lnTo>
                      <a:pt x="10" y="97"/>
                    </a:lnTo>
                    <a:lnTo>
                      <a:pt x="41" y="112"/>
                    </a:lnTo>
                    <a:lnTo>
                      <a:pt x="83" y="123"/>
                    </a:lnTo>
                    <a:lnTo>
                      <a:pt x="109" y="112"/>
                    </a:lnTo>
                    <a:lnTo>
                      <a:pt x="191" y="97"/>
                    </a:lnTo>
                    <a:lnTo>
                      <a:pt x="230" y="106"/>
                    </a:lnTo>
                    <a:lnTo>
                      <a:pt x="250" y="62"/>
                    </a:lnTo>
                    <a:lnTo>
                      <a:pt x="256" y="3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35" name=""/>
              <p:cNvSpPr/>
              <p:nvPr/>
            </p:nvSpPr>
            <p:spPr>
              <a:xfrm>
                <a:off x="4802040" y="1474920"/>
                <a:ext cx="65160" cy="42840"/>
              </a:xfrm>
              <a:custGeom>
                <a:avLst/>
                <a:gdLst/>
                <a:ahLst/>
                <a:rect l="l" t="t" r="r" b="b"/>
                <a:pathLst>
                  <a:path w="328" h="217">
                    <a:moveTo>
                      <a:pt x="0" y="217"/>
                    </a:moveTo>
                    <a:lnTo>
                      <a:pt x="0" y="134"/>
                    </a:lnTo>
                    <a:lnTo>
                      <a:pt x="65" y="85"/>
                    </a:lnTo>
                    <a:lnTo>
                      <a:pt x="95" y="109"/>
                    </a:lnTo>
                    <a:lnTo>
                      <a:pt x="150" y="99"/>
                    </a:lnTo>
                    <a:lnTo>
                      <a:pt x="219" y="74"/>
                    </a:lnTo>
                    <a:lnTo>
                      <a:pt x="247" y="55"/>
                    </a:lnTo>
                    <a:lnTo>
                      <a:pt x="279" y="59"/>
                    </a:lnTo>
                    <a:lnTo>
                      <a:pt x="323" y="0"/>
                    </a:lnTo>
                    <a:lnTo>
                      <a:pt x="328" y="74"/>
                    </a:lnTo>
                    <a:lnTo>
                      <a:pt x="279" y="145"/>
                    </a:lnTo>
                    <a:lnTo>
                      <a:pt x="242" y="159"/>
                    </a:lnTo>
                    <a:lnTo>
                      <a:pt x="182" y="152"/>
                    </a:lnTo>
                    <a:lnTo>
                      <a:pt x="99" y="138"/>
                    </a:lnTo>
                    <a:lnTo>
                      <a:pt x="53" y="138"/>
                    </a:lnTo>
                    <a:lnTo>
                      <a:pt x="0" y="21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6" name=""/>
              <p:cNvSpPr/>
              <p:nvPr/>
            </p:nvSpPr>
            <p:spPr>
              <a:xfrm>
                <a:off x="4694400" y="1424160"/>
                <a:ext cx="3168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7" name=""/>
              <p:cNvSpPr/>
              <p:nvPr/>
            </p:nvSpPr>
            <p:spPr>
              <a:xfrm>
                <a:off x="4708440" y="1434960"/>
                <a:ext cx="3348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38" name=""/>
              <p:cNvSpPr/>
              <p:nvPr/>
            </p:nvSpPr>
            <p:spPr>
              <a:xfrm>
                <a:off x="4729320" y="1454040"/>
                <a:ext cx="252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39" name=""/>
              <p:cNvSpPr/>
              <p:nvPr/>
            </p:nvSpPr>
            <p:spPr>
              <a:xfrm>
                <a:off x="4748040" y="1467000"/>
                <a:ext cx="19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0" name=""/>
              <p:cNvSpPr/>
              <p:nvPr/>
            </p:nvSpPr>
            <p:spPr>
              <a:xfrm>
                <a:off x="5259240" y="1147680"/>
                <a:ext cx="274680" cy="273240"/>
              </a:xfrm>
              <a:custGeom>
                <a:avLst/>
                <a:gdLst/>
                <a:ahLst/>
                <a:rect l="l" t="t" r="r" b="b"/>
                <a:pathLst>
                  <a:path w="1385" h="1372">
                    <a:moveTo>
                      <a:pt x="97" y="674"/>
                    </a:moveTo>
                    <a:lnTo>
                      <a:pt x="97" y="614"/>
                    </a:lnTo>
                    <a:lnTo>
                      <a:pt x="155" y="596"/>
                    </a:lnTo>
                    <a:lnTo>
                      <a:pt x="185" y="630"/>
                    </a:lnTo>
                    <a:lnTo>
                      <a:pt x="185" y="681"/>
                    </a:lnTo>
                    <a:lnTo>
                      <a:pt x="210" y="644"/>
                    </a:lnTo>
                    <a:lnTo>
                      <a:pt x="295" y="729"/>
                    </a:lnTo>
                    <a:lnTo>
                      <a:pt x="295" y="833"/>
                    </a:lnTo>
                    <a:lnTo>
                      <a:pt x="416" y="1105"/>
                    </a:lnTo>
                    <a:lnTo>
                      <a:pt x="422" y="1192"/>
                    </a:lnTo>
                    <a:lnTo>
                      <a:pt x="311" y="1105"/>
                    </a:lnTo>
                    <a:lnTo>
                      <a:pt x="480" y="1271"/>
                    </a:lnTo>
                    <a:lnTo>
                      <a:pt x="480" y="1137"/>
                    </a:lnTo>
                    <a:lnTo>
                      <a:pt x="341" y="809"/>
                    </a:lnTo>
                    <a:lnTo>
                      <a:pt x="322" y="695"/>
                    </a:lnTo>
                    <a:lnTo>
                      <a:pt x="295" y="630"/>
                    </a:lnTo>
                    <a:lnTo>
                      <a:pt x="341" y="549"/>
                    </a:lnTo>
                    <a:lnTo>
                      <a:pt x="412" y="524"/>
                    </a:lnTo>
                    <a:lnTo>
                      <a:pt x="493" y="547"/>
                    </a:lnTo>
                    <a:lnTo>
                      <a:pt x="572" y="602"/>
                    </a:lnTo>
                    <a:lnTo>
                      <a:pt x="706" y="679"/>
                    </a:lnTo>
                    <a:lnTo>
                      <a:pt x="849" y="722"/>
                    </a:lnTo>
                    <a:lnTo>
                      <a:pt x="1012" y="717"/>
                    </a:lnTo>
                    <a:lnTo>
                      <a:pt x="1088" y="695"/>
                    </a:lnTo>
                    <a:lnTo>
                      <a:pt x="1181" y="639"/>
                    </a:lnTo>
                    <a:lnTo>
                      <a:pt x="1266" y="596"/>
                    </a:lnTo>
                    <a:lnTo>
                      <a:pt x="1332" y="699"/>
                    </a:lnTo>
                    <a:lnTo>
                      <a:pt x="1194" y="851"/>
                    </a:lnTo>
                    <a:lnTo>
                      <a:pt x="1152" y="923"/>
                    </a:lnTo>
                    <a:lnTo>
                      <a:pt x="1082" y="906"/>
                    </a:lnTo>
                    <a:lnTo>
                      <a:pt x="1095" y="916"/>
                    </a:lnTo>
                    <a:lnTo>
                      <a:pt x="1161" y="948"/>
                    </a:lnTo>
                    <a:lnTo>
                      <a:pt x="1238" y="916"/>
                    </a:lnTo>
                    <a:lnTo>
                      <a:pt x="1229" y="954"/>
                    </a:lnTo>
                    <a:lnTo>
                      <a:pt x="1174" y="1003"/>
                    </a:lnTo>
                    <a:lnTo>
                      <a:pt x="1174" y="1020"/>
                    </a:lnTo>
                    <a:lnTo>
                      <a:pt x="1220" y="1008"/>
                    </a:lnTo>
                    <a:lnTo>
                      <a:pt x="1280" y="960"/>
                    </a:lnTo>
                    <a:lnTo>
                      <a:pt x="1332" y="906"/>
                    </a:lnTo>
                    <a:lnTo>
                      <a:pt x="1363" y="858"/>
                    </a:lnTo>
                    <a:lnTo>
                      <a:pt x="1363" y="796"/>
                    </a:lnTo>
                    <a:lnTo>
                      <a:pt x="1385" y="754"/>
                    </a:lnTo>
                    <a:lnTo>
                      <a:pt x="1381" y="662"/>
                    </a:lnTo>
                    <a:lnTo>
                      <a:pt x="1355" y="582"/>
                    </a:lnTo>
                    <a:lnTo>
                      <a:pt x="1363" y="459"/>
                    </a:lnTo>
                    <a:lnTo>
                      <a:pt x="1337" y="339"/>
                    </a:lnTo>
                    <a:lnTo>
                      <a:pt x="1210" y="209"/>
                    </a:lnTo>
                    <a:lnTo>
                      <a:pt x="1077" y="134"/>
                    </a:lnTo>
                    <a:lnTo>
                      <a:pt x="742" y="24"/>
                    </a:lnTo>
                    <a:lnTo>
                      <a:pt x="528" y="0"/>
                    </a:lnTo>
                    <a:lnTo>
                      <a:pt x="368" y="22"/>
                    </a:lnTo>
                    <a:lnTo>
                      <a:pt x="256" y="97"/>
                    </a:lnTo>
                    <a:lnTo>
                      <a:pt x="183" y="194"/>
                    </a:lnTo>
                    <a:lnTo>
                      <a:pt x="124" y="337"/>
                    </a:lnTo>
                    <a:lnTo>
                      <a:pt x="219" y="224"/>
                    </a:lnTo>
                    <a:lnTo>
                      <a:pt x="326" y="167"/>
                    </a:lnTo>
                    <a:lnTo>
                      <a:pt x="274" y="264"/>
                    </a:lnTo>
                    <a:lnTo>
                      <a:pt x="416" y="185"/>
                    </a:lnTo>
                    <a:lnTo>
                      <a:pt x="539" y="167"/>
                    </a:lnTo>
                    <a:lnTo>
                      <a:pt x="632" y="155"/>
                    </a:lnTo>
                    <a:lnTo>
                      <a:pt x="493" y="266"/>
                    </a:lnTo>
                    <a:lnTo>
                      <a:pt x="515" y="293"/>
                    </a:lnTo>
                    <a:lnTo>
                      <a:pt x="590" y="282"/>
                    </a:lnTo>
                    <a:lnTo>
                      <a:pt x="555" y="328"/>
                    </a:lnTo>
                    <a:lnTo>
                      <a:pt x="572" y="378"/>
                    </a:lnTo>
                    <a:lnTo>
                      <a:pt x="791" y="328"/>
                    </a:lnTo>
                    <a:lnTo>
                      <a:pt x="684" y="438"/>
                    </a:lnTo>
                    <a:lnTo>
                      <a:pt x="816" y="425"/>
                    </a:lnTo>
                    <a:lnTo>
                      <a:pt x="742" y="475"/>
                    </a:lnTo>
                    <a:lnTo>
                      <a:pt x="625" y="503"/>
                    </a:lnTo>
                    <a:lnTo>
                      <a:pt x="515" y="488"/>
                    </a:lnTo>
                    <a:lnTo>
                      <a:pt x="429" y="499"/>
                    </a:lnTo>
                    <a:lnTo>
                      <a:pt x="353" y="506"/>
                    </a:lnTo>
                    <a:lnTo>
                      <a:pt x="300" y="549"/>
                    </a:lnTo>
                    <a:lnTo>
                      <a:pt x="277" y="614"/>
                    </a:lnTo>
                    <a:lnTo>
                      <a:pt x="205" y="530"/>
                    </a:lnTo>
                    <a:lnTo>
                      <a:pt x="129" y="441"/>
                    </a:lnTo>
                    <a:lnTo>
                      <a:pt x="80" y="409"/>
                    </a:lnTo>
                    <a:lnTo>
                      <a:pt x="25" y="416"/>
                    </a:lnTo>
                    <a:lnTo>
                      <a:pt x="7" y="459"/>
                    </a:lnTo>
                    <a:lnTo>
                      <a:pt x="0" y="556"/>
                    </a:lnTo>
                    <a:lnTo>
                      <a:pt x="42" y="863"/>
                    </a:lnTo>
                    <a:lnTo>
                      <a:pt x="97" y="971"/>
                    </a:lnTo>
                    <a:lnTo>
                      <a:pt x="177" y="1047"/>
                    </a:lnTo>
                    <a:lnTo>
                      <a:pt x="210" y="1116"/>
                    </a:lnTo>
                    <a:lnTo>
                      <a:pt x="263" y="1275"/>
                    </a:lnTo>
                    <a:lnTo>
                      <a:pt x="341" y="1372"/>
                    </a:lnTo>
                    <a:lnTo>
                      <a:pt x="274" y="1253"/>
                    </a:lnTo>
                    <a:lnTo>
                      <a:pt x="229" y="1082"/>
                    </a:lnTo>
                    <a:lnTo>
                      <a:pt x="277" y="1079"/>
                    </a:lnTo>
                    <a:lnTo>
                      <a:pt x="263" y="1049"/>
                    </a:lnTo>
                    <a:lnTo>
                      <a:pt x="173" y="974"/>
                    </a:lnTo>
                    <a:lnTo>
                      <a:pt x="139" y="822"/>
                    </a:lnTo>
                    <a:lnTo>
                      <a:pt x="106" y="727"/>
                    </a:lnTo>
                    <a:lnTo>
                      <a:pt x="97" y="6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5367240" y="1344600"/>
                <a:ext cx="92160" cy="41400"/>
              </a:xfrm>
              <a:custGeom>
                <a:avLst/>
                <a:gdLst/>
                <a:ahLst/>
                <a:rect l="l" t="t" r="r" b="b"/>
                <a:pathLst>
                  <a:path w="466" h="203">
                    <a:moveTo>
                      <a:pt x="30" y="203"/>
                    </a:moveTo>
                    <a:lnTo>
                      <a:pt x="0" y="151"/>
                    </a:lnTo>
                    <a:lnTo>
                      <a:pt x="44" y="79"/>
                    </a:lnTo>
                    <a:lnTo>
                      <a:pt x="155" y="55"/>
                    </a:lnTo>
                    <a:lnTo>
                      <a:pt x="393" y="0"/>
                    </a:lnTo>
                    <a:lnTo>
                      <a:pt x="466" y="46"/>
                    </a:lnTo>
                    <a:lnTo>
                      <a:pt x="437" y="88"/>
                    </a:lnTo>
                    <a:lnTo>
                      <a:pt x="349" y="30"/>
                    </a:lnTo>
                    <a:lnTo>
                      <a:pt x="252" y="63"/>
                    </a:lnTo>
                    <a:lnTo>
                      <a:pt x="182" y="88"/>
                    </a:lnTo>
                    <a:lnTo>
                      <a:pt x="138" y="160"/>
                    </a:lnTo>
                    <a:lnTo>
                      <a:pt x="74" y="162"/>
                    </a:lnTo>
                    <a:lnTo>
                      <a:pt x="30" y="20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42" name=""/>
              <p:cNvSpPr/>
              <p:nvPr/>
            </p:nvSpPr>
            <p:spPr>
              <a:xfrm>
                <a:off x="5381640" y="1351080"/>
                <a:ext cx="73080" cy="28440"/>
              </a:xfrm>
              <a:custGeom>
                <a:avLst/>
                <a:gdLst/>
                <a:ahLst/>
                <a:rect l="l" t="t" r="r" b="b"/>
                <a:pathLst>
                  <a:path w="363" h="139">
                    <a:moveTo>
                      <a:pt x="295" y="0"/>
                    </a:moveTo>
                    <a:lnTo>
                      <a:pt x="210" y="88"/>
                    </a:lnTo>
                    <a:lnTo>
                      <a:pt x="122" y="101"/>
                    </a:lnTo>
                    <a:lnTo>
                      <a:pt x="0" y="139"/>
                    </a:lnTo>
                    <a:lnTo>
                      <a:pt x="99" y="132"/>
                    </a:lnTo>
                    <a:lnTo>
                      <a:pt x="238" y="139"/>
                    </a:lnTo>
                    <a:lnTo>
                      <a:pt x="309" y="92"/>
                    </a:lnTo>
                    <a:lnTo>
                      <a:pt x="363" y="58"/>
                    </a:lnTo>
                    <a:lnTo>
                      <a:pt x="343" y="16"/>
                    </a:lnTo>
                    <a:lnTo>
                      <a:pt x="29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43" name=""/>
              <p:cNvSpPr/>
              <p:nvPr/>
            </p:nvSpPr>
            <p:spPr>
              <a:xfrm>
                <a:off x="5450040" y="1339920"/>
                <a:ext cx="88920" cy="115920"/>
              </a:xfrm>
              <a:custGeom>
                <a:avLst/>
                <a:gdLst/>
                <a:ahLst/>
                <a:rect l="l" t="t" r="r" b="b"/>
                <a:pathLst>
                  <a:path w="450" h="580">
                    <a:moveTo>
                      <a:pt x="154" y="0"/>
                    </a:moveTo>
                    <a:lnTo>
                      <a:pt x="200" y="66"/>
                    </a:lnTo>
                    <a:lnTo>
                      <a:pt x="299" y="292"/>
                    </a:lnTo>
                    <a:lnTo>
                      <a:pt x="337" y="345"/>
                    </a:lnTo>
                    <a:lnTo>
                      <a:pt x="319" y="417"/>
                    </a:lnTo>
                    <a:lnTo>
                      <a:pt x="259" y="456"/>
                    </a:lnTo>
                    <a:lnTo>
                      <a:pt x="182" y="426"/>
                    </a:lnTo>
                    <a:lnTo>
                      <a:pt x="97" y="417"/>
                    </a:lnTo>
                    <a:lnTo>
                      <a:pt x="64" y="323"/>
                    </a:lnTo>
                    <a:lnTo>
                      <a:pt x="40" y="329"/>
                    </a:lnTo>
                    <a:lnTo>
                      <a:pt x="0" y="580"/>
                    </a:lnTo>
                    <a:lnTo>
                      <a:pt x="55" y="417"/>
                    </a:lnTo>
                    <a:lnTo>
                      <a:pt x="74" y="456"/>
                    </a:lnTo>
                    <a:lnTo>
                      <a:pt x="171" y="456"/>
                    </a:lnTo>
                    <a:lnTo>
                      <a:pt x="295" y="479"/>
                    </a:lnTo>
                    <a:lnTo>
                      <a:pt x="343" y="449"/>
                    </a:lnTo>
                    <a:lnTo>
                      <a:pt x="380" y="323"/>
                    </a:lnTo>
                    <a:lnTo>
                      <a:pt x="450" y="371"/>
                    </a:lnTo>
                    <a:lnTo>
                      <a:pt x="356" y="272"/>
                    </a:lnTo>
                    <a:lnTo>
                      <a:pt x="319" y="272"/>
                    </a:lnTo>
                    <a:lnTo>
                      <a:pt x="356" y="292"/>
                    </a:lnTo>
                    <a:lnTo>
                      <a:pt x="356" y="320"/>
                    </a:lnTo>
                    <a:lnTo>
                      <a:pt x="343" y="329"/>
                    </a:lnTo>
                    <a:lnTo>
                      <a:pt x="312" y="286"/>
                    </a:lnTo>
                    <a:lnTo>
                      <a:pt x="200" y="53"/>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327640" y="1312920"/>
                <a:ext cx="236520" cy="204840"/>
              </a:xfrm>
              <a:custGeom>
                <a:avLst/>
                <a:gdLst/>
                <a:ahLst/>
                <a:rect l="l" t="t" r="r" b="b"/>
                <a:pathLst>
                  <a:path w="1187" h="1028">
                    <a:moveTo>
                      <a:pt x="1054" y="0"/>
                    </a:moveTo>
                    <a:lnTo>
                      <a:pt x="1127" y="200"/>
                    </a:lnTo>
                    <a:lnTo>
                      <a:pt x="1155" y="490"/>
                    </a:lnTo>
                    <a:lnTo>
                      <a:pt x="1187" y="763"/>
                    </a:lnTo>
                    <a:lnTo>
                      <a:pt x="1153" y="917"/>
                    </a:lnTo>
                    <a:lnTo>
                      <a:pt x="1090" y="975"/>
                    </a:lnTo>
                    <a:lnTo>
                      <a:pt x="912" y="1028"/>
                    </a:lnTo>
                    <a:lnTo>
                      <a:pt x="821" y="1028"/>
                    </a:lnTo>
                    <a:lnTo>
                      <a:pt x="554" y="989"/>
                    </a:lnTo>
                    <a:lnTo>
                      <a:pt x="290" y="848"/>
                    </a:lnTo>
                    <a:lnTo>
                      <a:pt x="161" y="624"/>
                    </a:lnTo>
                    <a:lnTo>
                      <a:pt x="118" y="597"/>
                    </a:lnTo>
                    <a:lnTo>
                      <a:pt x="0" y="551"/>
                    </a:lnTo>
                    <a:lnTo>
                      <a:pt x="104" y="543"/>
                    </a:lnTo>
                    <a:lnTo>
                      <a:pt x="62" y="468"/>
                    </a:lnTo>
                    <a:lnTo>
                      <a:pt x="222" y="615"/>
                    </a:lnTo>
                    <a:lnTo>
                      <a:pt x="353" y="837"/>
                    </a:lnTo>
                    <a:lnTo>
                      <a:pt x="542" y="954"/>
                    </a:lnTo>
                    <a:lnTo>
                      <a:pt x="881" y="1022"/>
                    </a:lnTo>
                    <a:lnTo>
                      <a:pt x="1090" y="938"/>
                    </a:lnTo>
                    <a:lnTo>
                      <a:pt x="1164" y="758"/>
                    </a:lnTo>
                    <a:lnTo>
                      <a:pt x="1143" y="528"/>
                    </a:lnTo>
                    <a:lnTo>
                      <a:pt x="1081" y="615"/>
                    </a:lnTo>
                    <a:lnTo>
                      <a:pt x="1063" y="512"/>
                    </a:lnTo>
                    <a:lnTo>
                      <a:pt x="1090" y="543"/>
                    </a:lnTo>
                    <a:lnTo>
                      <a:pt x="1121" y="330"/>
                    </a:lnTo>
                    <a:lnTo>
                      <a:pt x="1105" y="191"/>
                    </a:lnTo>
                    <a:lnTo>
                      <a:pt x="10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457960" y="1450800"/>
                <a:ext cx="19080" cy="36720"/>
              </a:xfrm>
              <a:custGeom>
                <a:avLst/>
                <a:gdLst/>
                <a:ahLst/>
                <a:rect l="l" t="t" r="r" b="b"/>
                <a:pathLst>
                  <a:path w="97" h="179">
                    <a:moveTo>
                      <a:pt x="97" y="0"/>
                    </a:moveTo>
                    <a:lnTo>
                      <a:pt x="18" y="179"/>
                    </a:lnTo>
                    <a:lnTo>
                      <a:pt x="0" y="179"/>
                    </a:lnTo>
                    <a:lnTo>
                      <a:pt x="0" y="32"/>
                    </a:lnTo>
                    <a:lnTo>
                      <a:pt x="9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6" name=""/>
              <p:cNvSpPr/>
              <p:nvPr/>
            </p:nvSpPr>
            <p:spPr>
              <a:xfrm>
                <a:off x="5468760" y="1433520"/>
                <a:ext cx="76320" cy="31680"/>
              </a:xfrm>
              <a:custGeom>
                <a:avLst/>
                <a:gdLst/>
                <a:ahLst/>
                <a:rect l="l" t="t" r="r" b="b"/>
                <a:pathLst>
                  <a:path w="380" h="159">
                    <a:moveTo>
                      <a:pt x="380" y="0"/>
                    </a:moveTo>
                    <a:lnTo>
                      <a:pt x="233" y="62"/>
                    </a:lnTo>
                    <a:lnTo>
                      <a:pt x="202" y="136"/>
                    </a:lnTo>
                    <a:lnTo>
                      <a:pt x="150" y="106"/>
                    </a:lnTo>
                    <a:lnTo>
                      <a:pt x="88" y="106"/>
                    </a:lnTo>
                    <a:lnTo>
                      <a:pt x="53" y="141"/>
                    </a:lnTo>
                    <a:lnTo>
                      <a:pt x="0" y="152"/>
                    </a:lnTo>
                    <a:lnTo>
                      <a:pt x="53" y="154"/>
                    </a:lnTo>
                    <a:lnTo>
                      <a:pt x="94" y="124"/>
                    </a:lnTo>
                    <a:lnTo>
                      <a:pt x="136" y="126"/>
                    </a:lnTo>
                    <a:lnTo>
                      <a:pt x="215" y="159"/>
                    </a:lnTo>
                    <a:lnTo>
                      <a:pt x="38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7" name=""/>
              <p:cNvSpPr/>
              <p:nvPr/>
            </p:nvSpPr>
            <p:spPr>
              <a:xfrm>
                <a:off x="5486400" y="1460520"/>
                <a:ext cx="49320" cy="31680"/>
              </a:xfrm>
              <a:custGeom>
                <a:avLst/>
                <a:gdLst/>
                <a:ahLst/>
                <a:rect l="l" t="t" r="r" b="b"/>
                <a:pathLst>
                  <a:path w="246" h="158">
                    <a:moveTo>
                      <a:pt x="239" y="0"/>
                    </a:moveTo>
                    <a:lnTo>
                      <a:pt x="127" y="71"/>
                    </a:lnTo>
                    <a:lnTo>
                      <a:pt x="99" y="134"/>
                    </a:lnTo>
                    <a:lnTo>
                      <a:pt x="64" y="145"/>
                    </a:lnTo>
                    <a:lnTo>
                      <a:pt x="28" y="143"/>
                    </a:lnTo>
                    <a:lnTo>
                      <a:pt x="0" y="130"/>
                    </a:lnTo>
                    <a:lnTo>
                      <a:pt x="35" y="158"/>
                    </a:lnTo>
                    <a:lnTo>
                      <a:pt x="72" y="158"/>
                    </a:lnTo>
                    <a:lnTo>
                      <a:pt x="127" y="158"/>
                    </a:lnTo>
                    <a:lnTo>
                      <a:pt x="191" y="143"/>
                    </a:lnTo>
                    <a:lnTo>
                      <a:pt x="239" y="85"/>
                    </a:lnTo>
                    <a:lnTo>
                      <a:pt x="246" y="36"/>
                    </a:lnTo>
                    <a:lnTo>
                      <a:pt x="23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8" name=""/>
              <p:cNvSpPr/>
              <p:nvPr/>
            </p:nvSpPr>
            <p:spPr>
              <a:xfrm>
                <a:off x="5037120" y="774720"/>
                <a:ext cx="84240" cy="73080"/>
              </a:xfrm>
              <a:custGeom>
                <a:avLst/>
                <a:gdLst/>
                <a:ahLst/>
                <a:rect l="l" t="t" r="r" b="b"/>
                <a:pathLst>
                  <a:path w="422" h="366">
                    <a:moveTo>
                      <a:pt x="200" y="252"/>
                    </a:moveTo>
                    <a:lnTo>
                      <a:pt x="168" y="246"/>
                    </a:lnTo>
                    <a:lnTo>
                      <a:pt x="141" y="226"/>
                    </a:lnTo>
                    <a:lnTo>
                      <a:pt x="125" y="205"/>
                    </a:lnTo>
                    <a:lnTo>
                      <a:pt x="115" y="177"/>
                    </a:lnTo>
                    <a:lnTo>
                      <a:pt x="110" y="159"/>
                    </a:lnTo>
                    <a:lnTo>
                      <a:pt x="0" y="122"/>
                    </a:lnTo>
                    <a:lnTo>
                      <a:pt x="29" y="65"/>
                    </a:lnTo>
                    <a:lnTo>
                      <a:pt x="343" y="0"/>
                    </a:lnTo>
                    <a:lnTo>
                      <a:pt x="173" y="46"/>
                    </a:lnTo>
                    <a:lnTo>
                      <a:pt x="125" y="147"/>
                    </a:lnTo>
                    <a:lnTo>
                      <a:pt x="293" y="147"/>
                    </a:lnTo>
                    <a:lnTo>
                      <a:pt x="422" y="191"/>
                    </a:lnTo>
                    <a:lnTo>
                      <a:pt x="97" y="366"/>
                    </a:lnTo>
                    <a:lnTo>
                      <a:pt x="78" y="360"/>
                    </a:lnTo>
                    <a:lnTo>
                      <a:pt x="200" y="2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9" name=""/>
              <p:cNvSpPr/>
              <p:nvPr/>
            </p:nvSpPr>
            <p:spPr>
              <a:xfrm>
                <a:off x="4973760" y="768240"/>
                <a:ext cx="172800" cy="225360"/>
              </a:xfrm>
              <a:custGeom>
                <a:avLst/>
                <a:gdLst/>
                <a:ahLst/>
                <a:rect l="l" t="t" r="r" b="b"/>
                <a:pathLst>
                  <a:path w="869" h="1138">
                    <a:moveTo>
                      <a:pt x="494" y="77"/>
                    </a:moveTo>
                    <a:lnTo>
                      <a:pt x="564" y="103"/>
                    </a:lnTo>
                    <a:lnTo>
                      <a:pt x="593" y="197"/>
                    </a:lnTo>
                    <a:lnTo>
                      <a:pt x="740" y="229"/>
                    </a:lnTo>
                    <a:lnTo>
                      <a:pt x="758" y="165"/>
                    </a:lnTo>
                    <a:lnTo>
                      <a:pt x="834" y="367"/>
                    </a:lnTo>
                    <a:lnTo>
                      <a:pt x="846" y="422"/>
                    </a:lnTo>
                    <a:lnTo>
                      <a:pt x="841" y="471"/>
                    </a:lnTo>
                    <a:lnTo>
                      <a:pt x="813" y="488"/>
                    </a:lnTo>
                    <a:lnTo>
                      <a:pt x="775" y="503"/>
                    </a:lnTo>
                    <a:lnTo>
                      <a:pt x="740" y="497"/>
                    </a:lnTo>
                    <a:lnTo>
                      <a:pt x="716" y="477"/>
                    </a:lnTo>
                    <a:lnTo>
                      <a:pt x="677" y="471"/>
                    </a:lnTo>
                    <a:lnTo>
                      <a:pt x="661" y="477"/>
                    </a:lnTo>
                    <a:lnTo>
                      <a:pt x="652" y="488"/>
                    </a:lnTo>
                    <a:lnTo>
                      <a:pt x="634" y="483"/>
                    </a:lnTo>
                    <a:lnTo>
                      <a:pt x="613" y="479"/>
                    </a:lnTo>
                    <a:lnTo>
                      <a:pt x="602" y="457"/>
                    </a:lnTo>
                    <a:lnTo>
                      <a:pt x="611" y="413"/>
                    </a:lnTo>
                    <a:lnTo>
                      <a:pt x="617" y="391"/>
                    </a:lnTo>
                    <a:lnTo>
                      <a:pt x="626" y="367"/>
                    </a:lnTo>
                    <a:lnTo>
                      <a:pt x="465" y="527"/>
                    </a:lnTo>
                    <a:lnTo>
                      <a:pt x="419" y="479"/>
                    </a:lnTo>
                    <a:lnTo>
                      <a:pt x="419" y="374"/>
                    </a:lnTo>
                    <a:lnTo>
                      <a:pt x="318" y="378"/>
                    </a:lnTo>
                    <a:lnTo>
                      <a:pt x="226" y="308"/>
                    </a:lnTo>
                    <a:lnTo>
                      <a:pt x="226" y="130"/>
                    </a:lnTo>
                    <a:lnTo>
                      <a:pt x="162" y="22"/>
                    </a:lnTo>
                    <a:lnTo>
                      <a:pt x="99" y="0"/>
                    </a:lnTo>
                    <a:lnTo>
                      <a:pt x="140" y="93"/>
                    </a:lnTo>
                    <a:lnTo>
                      <a:pt x="99" y="197"/>
                    </a:lnTo>
                    <a:lnTo>
                      <a:pt x="20" y="132"/>
                    </a:lnTo>
                    <a:lnTo>
                      <a:pt x="0" y="174"/>
                    </a:lnTo>
                    <a:lnTo>
                      <a:pt x="20" y="246"/>
                    </a:lnTo>
                    <a:lnTo>
                      <a:pt x="62" y="301"/>
                    </a:lnTo>
                    <a:lnTo>
                      <a:pt x="72" y="337"/>
                    </a:lnTo>
                    <a:lnTo>
                      <a:pt x="74" y="367"/>
                    </a:lnTo>
                    <a:lnTo>
                      <a:pt x="99" y="398"/>
                    </a:lnTo>
                    <a:lnTo>
                      <a:pt x="131" y="402"/>
                    </a:lnTo>
                    <a:lnTo>
                      <a:pt x="162" y="402"/>
                    </a:lnTo>
                    <a:lnTo>
                      <a:pt x="171" y="398"/>
                    </a:lnTo>
                    <a:lnTo>
                      <a:pt x="210" y="655"/>
                    </a:lnTo>
                    <a:lnTo>
                      <a:pt x="239" y="750"/>
                    </a:lnTo>
                    <a:lnTo>
                      <a:pt x="323" y="900"/>
                    </a:lnTo>
                    <a:lnTo>
                      <a:pt x="404" y="1011"/>
                    </a:lnTo>
                    <a:lnTo>
                      <a:pt x="456" y="1138"/>
                    </a:lnTo>
                    <a:lnTo>
                      <a:pt x="433" y="1015"/>
                    </a:lnTo>
                    <a:lnTo>
                      <a:pt x="465" y="932"/>
                    </a:lnTo>
                    <a:lnTo>
                      <a:pt x="689" y="947"/>
                    </a:lnTo>
                    <a:lnTo>
                      <a:pt x="544" y="1050"/>
                    </a:lnTo>
                    <a:lnTo>
                      <a:pt x="735" y="956"/>
                    </a:lnTo>
                    <a:lnTo>
                      <a:pt x="802" y="918"/>
                    </a:lnTo>
                    <a:lnTo>
                      <a:pt x="740" y="897"/>
                    </a:lnTo>
                    <a:lnTo>
                      <a:pt x="518" y="895"/>
                    </a:lnTo>
                    <a:lnTo>
                      <a:pt x="491" y="881"/>
                    </a:lnTo>
                    <a:lnTo>
                      <a:pt x="477" y="854"/>
                    </a:lnTo>
                    <a:lnTo>
                      <a:pt x="470" y="837"/>
                    </a:lnTo>
                    <a:lnTo>
                      <a:pt x="551" y="665"/>
                    </a:lnTo>
                    <a:lnTo>
                      <a:pt x="580" y="642"/>
                    </a:lnTo>
                    <a:lnTo>
                      <a:pt x="599" y="628"/>
                    </a:lnTo>
                    <a:lnTo>
                      <a:pt x="540" y="618"/>
                    </a:lnTo>
                    <a:lnTo>
                      <a:pt x="516" y="602"/>
                    </a:lnTo>
                    <a:lnTo>
                      <a:pt x="503" y="582"/>
                    </a:lnTo>
                    <a:lnTo>
                      <a:pt x="491" y="549"/>
                    </a:lnTo>
                    <a:lnTo>
                      <a:pt x="494" y="531"/>
                    </a:lnTo>
                    <a:lnTo>
                      <a:pt x="544" y="549"/>
                    </a:lnTo>
                    <a:lnTo>
                      <a:pt x="773" y="529"/>
                    </a:lnTo>
                    <a:lnTo>
                      <a:pt x="834" y="503"/>
                    </a:lnTo>
                    <a:lnTo>
                      <a:pt x="864" y="459"/>
                    </a:lnTo>
                    <a:lnTo>
                      <a:pt x="869" y="398"/>
                    </a:lnTo>
                    <a:lnTo>
                      <a:pt x="760" y="119"/>
                    </a:lnTo>
                    <a:lnTo>
                      <a:pt x="712" y="44"/>
                    </a:lnTo>
                    <a:lnTo>
                      <a:pt x="683" y="38"/>
                    </a:lnTo>
                    <a:lnTo>
                      <a:pt x="652" y="38"/>
                    </a:lnTo>
                    <a:lnTo>
                      <a:pt x="49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4994280" y="635040"/>
                <a:ext cx="201600" cy="315720"/>
              </a:xfrm>
              <a:custGeom>
                <a:avLst/>
                <a:gdLst/>
                <a:ahLst/>
                <a:rect l="l" t="t" r="r" b="b"/>
                <a:pathLst>
                  <a:path w="1017" h="1590">
                    <a:moveTo>
                      <a:pt x="78" y="744"/>
                    </a:moveTo>
                    <a:lnTo>
                      <a:pt x="127" y="633"/>
                    </a:lnTo>
                    <a:lnTo>
                      <a:pt x="224" y="549"/>
                    </a:lnTo>
                    <a:lnTo>
                      <a:pt x="224" y="373"/>
                    </a:lnTo>
                    <a:lnTo>
                      <a:pt x="283" y="332"/>
                    </a:lnTo>
                    <a:lnTo>
                      <a:pt x="378" y="323"/>
                    </a:lnTo>
                    <a:lnTo>
                      <a:pt x="542" y="341"/>
                    </a:lnTo>
                    <a:lnTo>
                      <a:pt x="542" y="454"/>
                    </a:lnTo>
                    <a:lnTo>
                      <a:pt x="588" y="617"/>
                    </a:lnTo>
                    <a:lnTo>
                      <a:pt x="465" y="553"/>
                    </a:lnTo>
                    <a:lnTo>
                      <a:pt x="461" y="562"/>
                    </a:lnTo>
                    <a:lnTo>
                      <a:pt x="632" y="749"/>
                    </a:lnTo>
                    <a:lnTo>
                      <a:pt x="698" y="881"/>
                    </a:lnTo>
                    <a:lnTo>
                      <a:pt x="758" y="1070"/>
                    </a:lnTo>
                    <a:lnTo>
                      <a:pt x="751" y="1131"/>
                    </a:lnTo>
                    <a:lnTo>
                      <a:pt x="722" y="1169"/>
                    </a:lnTo>
                    <a:lnTo>
                      <a:pt x="676" y="1199"/>
                    </a:lnTo>
                    <a:lnTo>
                      <a:pt x="608" y="1201"/>
                    </a:lnTo>
                    <a:lnTo>
                      <a:pt x="625" y="1226"/>
                    </a:lnTo>
                    <a:lnTo>
                      <a:pt x="636" y="1265"/>
                    </a:lnTo>
                    <a:lnTo>
                      <a:pt x="641" y="1283"/>
                    </a:lnTo>
                    <a:lnTo>
                      <a:pt x="518" y="1305"/>
                    </a:lnTo>
                    <a:lnTo>
                      <a:pt x="569" y="1320"/>
                    </a:lnTo>
                    <a:lnTo>
                      <a:pt x="625" y="1332"/>
                    </a:lnTo>
                    <a:lnTo>
                      <a:pt x="674" y="1349"/>
                    </a:lnTo>
                    <a:lnTo>
                      <a:pt x="685" y="1395"/>
                    </a:lnTo>
                    <a:lnTo>
                      <a:pt x="676" y="1431"/>
                    </a:lnTo>
                    <a:lnTo>
                      <a:pt x="617" y="1443"/>
                    </a:lnTo>
                    <a:lnTo>
                      <a:pt x="542" y="1443"/>
                    </a:lnTo>
                    <a:lnTo>
                      <a:pt x="461" y="1432"/>
                    </a:lnTo>
                    <a:lnTo>
                      <a:pt x="454" y="1452"/>
                    </a:lnTo>
                    <a:lnTo>
                      <a:pt x="518" y="1477"/>
                    </a:lnTo>
                    <a:lnTo>
                      <a:pt x="617" y="1503"/>
                    </a:lnTo>
                    <a:lnTo>
                      <a:pt x="641" y="1572"/>
                    </a:lnTo>
                    <a:lnTo>
                      <a:pt x="703" y="1590"/>
                    </a:lnTo>
                    <a:lnTo>
                      <a:pt x="770" y="1553"/>
                    </a:lnTo>
                    <a:lnTo>
                      <a:pt x="908" y="1247"/>
                    </a:lnTo>
                    <a:lnTo>
                      <a:pt x="945" y="1099"/>
                    </a:lnTo>
                    <a:lnTo>
                      <a:pt x="986" y="933"/>
                    </a:lnTo>
                    <a:lnTo>
                      <a:pt x="986" y="820"/>
                    </a:lnTo>
                    <a:lnTo>
                      <a:pt x="982" y="624"/>
                    </a:lnTo>
                    <a:lnTo>
                      <a:pt x="1017" y="444"/>
                    </a:lnTo>
                    <a:lnTo>
                      <a:pt x="1001" y="224"/>
                    </a:lnTo>
                    <a:lnTo>
                      <a:pt x="968" y="134"/>
                    </a:lnTo>
                    <a:lnTo>
                      <a:pt x="731" y="55"/>
                    </a:lnTo>
                    <a:lnTo>
                      <a:pt x="527" y="15"/>
                    </a:lnTo>
                    <a:lnTo>
                      <a:pt x="316" y="0"/>
                    </a:lnTo>
                    <a:lnTo>
                      <a:pt x="127" y="2"/>
                    </a:lnTo>
                    <a:lnTo>
                      <a:pt x="78" y="26"/>
                    </a:lnTo>
                    <a:lnTo>
                      <a:pt x="32" y="152"/>
                    </a:lnTo>
                    <a:lnTo>
                      <a:pt x="11" y="290"/>
                    </a:lnTo>
                    <a:lnTo>
                      <a:pt x="0" y="454"/>
                    </a:lnTo>
                    <a:lnTo>
                      <a:pt x="0" y="672"/>
                    </a:lnTo>
                    <a:lnTo>
                      <a:pt x="78" y="7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976640" y="765000"/>
                <a:ext cx="25560" cy="22320"/>
              </a:xfrm>
              <a:custGeom>
                <a:avLst/>
                <a:gdLst/>
                <a:ahLst/>
                <a:rect l="l" t="t" r="r" b="b"/>
                <a:pathLst>
                  <a:path w="127" h="110">
                    <a:moveTo>
                      <a:pt x="0" y="110"/>
                    </a:moveTo>
                    <a:lnTo>
                      <a:pt x="24" y="24"/>
                    </a:lnTo>
                    <a:lnTo>
                      <a:pt x="49" y="0"/>
                    </a:lnTo>
                    <a:lnTo>
                      <a:pt x="86" y="9"/>
                    </a:lnTo>
                    <a:lnTo>
                      <a:pt x="118" y="24"/>
                    </a:lnTo>
                    <a:lnTo>
                      <a:pt x="127" y="57"/>
                    </a:lnTo>
                    <a:lnTo>
                      <a:pt x="86" y="44"/>
                    </a:lnTo>
                    <a:lnTo>
                      <a:pt x="28" y="76"/>
                    </a:lnTo>
                    <a:lnTo>
                      <a:pt x="0" y="1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52" name=""/>
              <p:cNvSpPr/>
              <p:nvPr/>
            </p:nvSpPr>
            <p:spPr>
              <a:xfrm>
                <a:off x="4218120" y="880920"/>
                <a:ext cx="625320" cy="677880"/>
              </a:xfrm>
              <a:custGeom>
                <a:avLst/>
                <a:gdLst/>
                <a:ahLst/>
                <a:rect l="l" t="t" r="r" b="b"/>
                <a:pathLst>
                  <a:path w="3151" h="3416">
                    <a:moveTo>
                      <a:pt x="2596" y="156"/>
                    </a:moveTo>
                    <a:lnTo>
                      <a:pt x="2561" y="145"/>
                    </a:lnTo>
                    <a:lnTo>
                      <a:pt x="2561" y="578"/>
                    </a:lnTo>
                    <a:lnTo>
                      <a:pt x="2476" y="479"/>
                    </a:lnTo>
                    <a:lnTo>
                      <a:pt x="2428" y="479"/>
                    </a:lnTo>
                    <a:lnTo>
                      <a:pt x="2404" y="807"/>
                    </a:lnTo>
                    <a:lnTo>
                      <a:pt x="2116" y="770"/>
                    </a:lnTo>
                    <a:lnTo>
                      <a:pt x="2197" y="906"/>
                    </a:lnTo>
                    <a:lnTo>
                      <a:pt x="2197" y="843"/>
                    </a:lnTo>
                    <a:lnTo>
                      <a:pt x="2222" y="807"/>
                    </a:lnTo>
                    <a:lnTo>
                      <a:pt x="2369" y="880"/>
                    </a:lnTo>
                    <a:lnTo>
                      <a:pt x="2268" y="1021"/>
                    </a:lnTo>
                    <a:lnTo>
                      <a:pt x="2187" y="1093"/>
                    </a:lnTo>
                    <a:lnTo>
                      <a:pt x="2101" y="1130"/>
                    </a:lnTo>
                    <a:lnTo>
                      <a:pt x="2004" y="1130"/>
                    </a:lnTo>
                    <a:lnTo>
                      <a:pt x="1800" y="1081"/>
                    </a:lnTo>
                    <a:lnTo>
                      <a:pt x="1787" y="1130"/>
                    </a:lnTo>
                    <a:lnTo>
                      <a:pt x="1918" y="1168"/>
                    </a:lnTo>
                    <a:lnTo>
                      <a:pt x="2004" y="1178"/>
                    </a:lnTo>
                    <a:lnTo>
                      <a:pt x="2268" y="1192"/>
                    </a:lnTo>
                    <a:lnTo>
                      <a:pt x="2139" y="1275"/>
                    </a:lnTo>
                    <a:lnTo>
                      <a:pt x="1953" y="1313"/>
                    </a:lnTo>
                    <a:lnTo>
                      <a:pt x="1750" y="1313"/>
                    </a:lnTo>
                    <a:lnTo>
                      <a:pt x="1593" y="1275"/>
                    </a:lnTo>
                    <a:lnTo>
                      <a:pt x="1413" y="1216"/>
                    </a:lnTo>
                    <a:lnTo>
                      <a:pt x="1390" y="1238"/>
                    </a:lnTo>
                    <a:lnTo>
                      <a:pt x="1512" y="1334"/>
                    </a:lnTo>
                    <a:lnTo>
                      <a:pt x="1655" y="1408"/>
                    </a:lnTo>
                    <a:lnTo>
                      <a:pt x="1800" y="1440"/>
                    </a:lnTo>
                    <a:lnTo>
                      <a:pt x="2017" y="1477"/>
                    </a:lnTo>
                    <a:lnTo>
                      <a:pt x="1824" y="1585"/>
                    </a:lnTo>
                    <a:lnTo>
                      <a:pt x="1607" y="1671"/>
                    </a:lnTo>
                    <a:lnTo>
                      <a:pt x="1402" y="1719"/>
                    </a:lnTo>
                    <a:lnTo>
                      <a:pt x="1171" y="1743"/>
                    </a:lnTo>
                    <a:lnTo>
                      <a:pt x="1037" y="1756"/>
                    </a:lnTo>
                    <a:lnTo>
                      <a:pt x="1376" y="1743"/>
                    </a:lnTo>
                    <a:lnTo>
                      <a:pt x="1316" y="1818"/>
                    </a:lnTo>
                    <a:lnTo>
                      <a:pt x="1220" y="1877"/>
                    </a:lnTo>
                    <a:lnTo>
                      <a:pt x="1037" y="1963"/>
                    </a:lnTo>
                    <a:lnTo>
                      <a:pt x="879" y="2020"/>
                    </a:lnTo>
                    <a:lnTo>
                      <a:pt x="798" y="2053"/>
                    </a:lnTo>
                    <a:lnTo>
                      <a:pt x="1061" y="2344"/>
                    </a:lnTo>
                    <a:lnTo>
                      <a:pt x="869" y="2431"/>
                    </a:lnTo>
                    <a:lnTo>
                      <a:pt x="699" y="2535"/>
                    </a:lnTo>
                    <a:lnTo>
                      <a:pt x="554" y="2681"/>
                    </a:lnTo>
                    <a:lnTo>
                      <a:pt x="435" y="2849"/>
                    </a:lnTo>
                    <a:lnTo>
                      <a:pt x="263" y="2824"/>
                    </a:lnTo>
                    <a:lnTo>
                      <a:pt x="444" y="2897"/>
                    </a:lnTo>
                    <a:lnTo>
                      <a:pt x="591" y="2992"/>
                    </a:lnTo>
                    <a:lnTo>
                      <a:pt x="627" y="3055"/>
                    </a:lnTo>
                    <a:lnTo>
                      <a:pt x="567" y="3139"/>
                    </a:lnTo>
                    <a:lnTo>
                      <a:pt x="226" y="2958"/>
                    </a:lnTo>
                    <a:lnTo>
                      <a:pt x="240" y="2872"/>
                    </a:lnTo>
                    <a:lnTo>
                      <a:pt x="203" y="2967"/>
                    </a:lnTo>
                    <a:lnTo>
                      <a:pt x="25" y="2992"/>
                    </a:lnTo>
                    <a:lnTo>
                      <a:pt x="217" y="2983"/>
                    </a:lnTo>
                    <a:lnTo>
                      <a:pt x="309" y="3031"/>
                    </a:lnTo>
                    <a:lnTo>
                      <a:pt x="203" y="3091"/>
                    </a:lnTo>
                    <a:lnTo>
                      <a:pt x="297" y="3151"/>
                    </a:lnTo>
                    <a:lnTo>
                      <a:pt x="297" y="3187"/>
                    </a:lnTo>
                    <a:lnTo>
                      <a:pt x="141" y="3343"/>
                    </a:lnTo>
                    <a:lnTo>
                      <a:pt x="71" y="3379"/>
                    </a:lnTo>
                    <a:lnTo>
                      <a:pt x="0" y="3343"/>
                    </a:lnTo>
                    <a:lnTo>
                      <a:pt x="0" y="3379"/>
                    </a:lnTo>
                    <a:lnTo>
                      <a:pt x="71" y="3416"/>
                    </a:lnTo>
                    <a:lnTo>
                      <a:pt x="203" y="3343"/>
                    </a:lnTo>
                    <a:lnTo>
                      <a:pt x="272" y="3273"/>
                    </a:lnTo>
                    <a:lnTo>
                      <a:pt x="1556" y="3273"/>
                    </a:lnTo>
                    <a:lnTo>
                      <a:pt x="1556" y="3250"/>
                    </a:lnTo>
                    <a:lnTo>
                      <a:pt x="554" y="3250"/>
                    </a:lnTo>
                    <a:lnTo>
                      <a:pt x="604" y="3200"/>
                    </a:lnTo>
                    <a:lnTo>
                      <a:pt x="627" y="3112"/>
                    </a:lnTo>
                    <a:lnTo>
                      <a:pt x="650" y="3079"/>
                    </a:lnTo>
                    <a:lnTo>
                      <a:pt x="820" y="3079"/>
                    </a:lnTo>
                    <a:lnTo>
                      <a:pt x="1196" y="2455"/>
                    </a:lnTo>
                    <a:lnTo>
                      <a:pt x="1303" y="2308"/>
                    </a:lnTo>
                    <a:lnTo>
                      <a:pt x="1413" y="2187"/>
                    </a:lnTo>
                    <a:lnTo>
                      <a:pt x="1512" y="2095"/>
                    </a:lnTo>
                    <a:lnTo>
                      <a:pt x="1633" y="2031"/>
                    </a:lnTo>
                    <a:lnTo>
                      <a:pt x="1763" y="1998"/>
                    </a:lnTo>
                    <a:lnTo>
                      <a:pt x="1932" y="1682"/>
                    </a:lnTo>
                    <a:lnTo>
                      <a:pt x="2116" y="1537"/>
                    </a:lnTo>
                    <a:lnTo>
                      <a:pt x="2222" y="1385"/>
                    </a:lnTo>
                    <a:lnTo>
                      <a:pt x="2393" y="1300"/>
                    </a:lnTo>
                    <a:lnTo>
                      <a:pt x="2393" y="1464"/>
                    </a:lnTo>
                    <a:lnTo>
                      <a:pt x="2476" y="1288"/>
                    </a:lnTo>
                    <a:lnTo>
                      <a:pt x="2609" y="1192"/>
                    </a:lnTo>
                    <a:lnTo>
                      <a:pt x="2705" y="1477"/>
                    </a:lnTo>
                    <a:lnTo>
                      <a:pt x="3151" y="1609"/>
                    </a:lnTo>
                    <a:lnTo>
                      <a:pt x="3068" y="276"/>
                    </a:lnTo>
                    <a:lnTo>
                      <a:pt x="3029" y="230"/>
                    </a:lnTo>
                    <a:lnTo>
                      <a:pt x="2980" y="251"/>
                    </a:lnTo>
                    <a:lnTo>
                      <a:pt x="2813" y="712"/>
                    </a:lnTo>
                    <a:lnTo>
                      <a:pt x="2813" y="0"/>
                    </a:lnTo>
                    <a:lnTo>
                      <a:pt x="2767" y="746"/>
                    </a:lnTo>
                    <a:lnTo>
                      <a:pt x="2729" y="880"/>
                    </a:lnTo>
                    <a:lnTo>
                      <a:pt x="2646" y="348"/>
                    </a:lnTo>
                    <a:lnTo>
                      <a:pt x="259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272120" y="853920"/>
                <a:ext cx="479160" cy="576360"/>
              </a:xfrm>
              <a:custGeom>
                <a:avLst/>
                <a:gdLst/>
                <a:ahLst/>
                <a:rect l="l" t="t" r="r" b="b"/>
                <a:pathLst>
                  <a:path w="2420" h="2909">
                    <a:moveTo>
                      <a:pt x="2420" y="0"/>
                    </a:moveTo>
                    <a:lnTo>
                      <a:pt x="1681" y="564"/>
                    </a:lnTo>
                    <a:lnTo>
                      <a:pt x="1706" y="671"/>
                    </a:lnTo>
                    <a:lnTo>
                      <a:pt x="1501" y="913"/>
                    </a:lnTo>
                    <a:lnTo>
                      <a:pt x="1187" y="1007"/>
                    </a:lnTo>
                    <a:lnTo>
                      <a:pt x="800" y="1418"/>
                    </a:lnTo>
                    <a:lnTo>
                      <a:pt x="572" y="1924"/>
                    </a:lnTo>
                    <a:lnTo>
                      <a:pt x="212" y="2356"/>
                    </a:lnTo>
                    <a:lnTo>
                      <a:pt x="0" y="2909"/>
                    </a:lnTo>
                    <a:lnTo>
                      <a:pt x="233" y="2356"/>
                    </a:lnTo>
                    <a:lnTo>
                      <a:pt x="583" y="1948"/>
                    </a:lnTo>
                    <a:lnTo>
                      <a:pt x="862" y="1405"/>
                    </a:lnTo>
                    <a:lnTo>
                      <a:pt x="1215" y="1032"/>
                    </a:lnTo>
                    <a:lnTo>
                      <a:pt x="1563" y="935"/>
                    </a:lnTo>
                    <a:lnTo>
                      <a:pt x="1732" y="721"/>
                    </a:lnTo>
                    <a:lnTo>
                      <a:pt x="1872" y="838"/>
                    </a:lnTo>
                    <a:lnTo>
                      <a:pt x="1782" y="564"/>
                    </a:lnTo>
                    <a:lnTo>
                      <a:pt x="2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870440" y="853920"/>
                <a:ext cx="420840" cy="838440"/>
              </a:xfrm>
              <a:custGeom>
                <a:avLst/>
                <a:gdLst/>
                <a:ahLst/>
                <a:rect l="l" t="t" r="r" b="b"/>
                <a:pathLst>
                  <a:path w="2128" h="4230">
                    <a:moveTo>
                      <a:pt x="1376" y="479"/>
                    </a:moveTo>
                    <a:lnTo>
                      <a:pt x="1295" y="878"/>
                    </a:lnTo>
                    <a:lnTo>
                      <a:pt x="1162" y="1214"/>
                    </a:lnTo>
                    <a:lnTo>
                      <a:pt x="1051" y="1486"/>
                    </a:lnTo>
                    <a:lnTo>
                      <a:pt x="895" y="1768"/>
                    </a:lnTo>
                    <a:lnTo>
                      <a:pt x="738" y="2010"/>
                    </a:lnTo>
                    <a:lnTo>
                      <a:pt x="592" y="2187"/>
                    </a:lnTo>
                    <a:lnTo>
                      <a:pt x="387" y="2356"/>
                    </a:lnTo>
                    <a:lnTo>
                      <a:pt x="616" y="2174"/>
                    </a:lnTo>
                    <a:lnTo>
                      <a:pt x="833" y="1911"/>
                    </a:lnTo>
                    <a:lnTo>
                      <a:pt x="1066" y="1539"/>
                    </a:lnTo>
                    <a:lnTo>
                      <a:pt x="1249" y="1139"/>
                    </a:lnTo>
                    <a:lnTo>
                      <a:pt x="1376" y="807"/>
                    </a:lnTo>
                    <a:lnTo>
                      <a:pt x="1339" y="1120"/>
                    </a:lnTo>
                    <a:lnTo>
                      <a:pt x="1162" y="1607"/>
                    </a:lnTo>
                    <a:lnTo>
                      <a:pt x="957" y="1972"/>
                    </a:lnTo>
                    <a:lnTo>
                      <a:pt x="724" y="2273"/>
                    </a:lnTo>
                    <a:lnTo>
                      <a:pt x="459" y="2487"/>
                    </a:lnTo>
                    <a:lnTo>
                      <a:pt x="291" y="2574"/>
                    </a:lnTo>
                    <a:lnTo>
                      <a:pt x="352" y="2141"/>
                    </a:lnTo>
                    <a:lnTo>
                      <a:pt x="401" y="1632"/>
                    </a:lnTo>
                    <a:lnTo>
                      <a:pt x="436" y="1236"/>
                    </a:lnTo>
                    <a:lnTo>
                      <a:pt x="459" y="733"/>
                    </a:lnTo>
                    <a:lnTo>
                      <a:pt x="473" y="442"/>
                    </a:lnTo>
                    <a:lnTo>
                      <a:pt x="521" y="214"/>
                    </a:lnTo>
                    <a:lnTo>
                      <a:pt x="567" y="58"/>
                    </a:lnTo>
                    <a:lnTo>
                      <a:pt x="607" y="0"/>
                    </a:lnTo>
                    <a:lnTo>
                      <a:pt x="535" y="73"/>
                    </a:lnTo>
                    <a:lnTo>
                      <a:pt x="473" y="240"/>
                    </a:lnTo>
                    <a:lnTo>
                      <a:pt x="424" y="550"/>
                    </a:lnTo>
                    <a:lnTo>
                      <a:pt x="401" y="1139"/>
                    </a:lnTo>
                    <a:lnTo>
                      <a:pt x="352" y="1671"/>
                    </a:lnTo>
                    <a:lnTo>
                      <a:pt x="304" y="2116"/>
                    </a:lnTo>
                    <a:lnTo>
                      <a:pt x="217" y="2583"/>
                    </a:lnTo>
                    <a:lnTo>
                      <a:pt x="84" y="2655"/>
                    </a:lnTo>
                    <a:lnTo>
                      <a:pt x="73" y="2809"/>
                    </a:lnTo>
                    <a:lnTo>
                      <a:pt x="35" y="3149"/>
                    </a:lnTo>
                    <a:lnTo>
                      <a:pt x="0" y="3449"/>
                    </a:lnTo>
                    <a:lnTo>
                      <a:pt x="314" y="3591"/>
                    </a:lnTo>
                    <a:lnTo>
                      <a:pt x="424" y="4004"/>
                    </a:lnTo>
                    <a:lnTo>
                      <a:pt x="535" y="4230"/>
                    </a:lnTo>
                    <a:lnTo>
                      <a:pt x="583" y="3677"/>
                    </a:lnTo>
                    <a:lnTo>
                      <a:pt x="607" y="3306"/>
                    </a:lnTo>
                    <a:lnTo>
                      <a:pt x="642" y="3005"/>
                    </a:lnTo>
                    <a:lnTo>
                      <a:pt x="680" y="2932"/>
                    </a:lnTo>
                    <a:lnTo>
                      <a:pt x="917" y="2667"/>
                    </a:lnTo>
                    <a:lnTo>
                      <a:pt x="1066" y="2460"/>
                    </a:lnTo>
                    <a:lnTo>
                      <a:pt x="1198" y="2238"/>
                    </a:lnTo>
                    <a:lnTo>
                      <a:pt x="1305" y="2068"/>
                    </a:lnTo>
                    <a:lnTo>
                      <a:pt x="1354" y="2058"/>
                    </a:lnTo>
                    <a:lnTo>
                      <a:pt x="1402" y="2082"/>
                    </a:lnTo>
                    <a:lnTo>
                      <a:pt x="1439" y="2150"/>
                    </a:lnTo>
                    <a:lnTo>
                      <a:pt x="1475" y="2559"/>
                    </a:lnTo>
                    <a:lnTo>
                      <a:pt x="1462" y="2860"/>
                    </a:lnTo>
                    <a:lnTo>
                      <a:pt x="1439" y="3110"/>
                    </a:lnTo>
                    <a:lnTo>
                      <a:pt x="1653" y="3077"/>
                    </a:lnTo>
                    <a:lnTo>
                      <a:pt x="1814" y="3029"/>
                    </a:lnTo>
                    <a:lnTo>
                      <a:pt x="1948" y="2967"/>
                    </a:lnTo>
                    <a:lnTo>
                      <a:pt x="2018" y="2882"/>
                    </a:lnTo>
                    <a:lnTo>
                      <a:pt x="1996" y="2082"/>
                    </a:lnTo>
                    <a:lnTo>
                      <a:pt x="2029" y="1837"/>
                    </a:lnTo>
                    <a:lnTo>
                      <a:pt x="1958" y="1803"/>
                    </a:lnTo>
                    <a:lnTo>
                      <a:pt x="2066" y="1551"/>
                    </a:lnTo>
                    <a:lnTo>
                      <a:pt x="2128" y="961"/>
                    </a:lnTo>
                    <a:lnTo>
                      <a:pt x="1861" y="744"/>
                    </a:lnTo>
                    <a:lnTo>
                      <a:pt x="1547" y="467"/>
                    </a:lnTo>
                    <a:lnTo>
                      <a:pt x="1439" y="322"/>
                    </a:lnTo>
                    <a:lnTo>
                      <a:pt x="1376"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781520" y="855720"/>
                <a:ext cx="182520" cy="33120"/>
              </a:xfrm>
              <a:custGeom>
                <a:avLst/>
                <a:gdLst/>
                <a:ahLst/>
                <a:rect l="l" t="t" r="r" b="b"/>
                <a:pathLst>
                  <a:path w="920" h="170">
                    <a:moveTo>
                      <a:pt x="0" y="0"/>
                    </a:moveTo>
                    <a:lnTo>
                      <a:pt x="385" y="49"/>
                    </a:lnTo>
                    <a:lnTo>
                      <a:pt x="617" y="49"/>
                    </a:lnTo>
                    <a:lnTo>
                      <a:pt x="920" y="25"/>
                    </a:lnTo>
                    <a:lnTo>
                      <a:pt x="459" y="170"/>
                    </a:lnTo>
                    <a:lnTo>
                      <a:pt x="313" y="88"/>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56" name=""/>
              <p:cNvSpPr/>
              <p:nvPr/>
            </p:nvSpPr>
            <p:spPr>
              <a:xfrm>
                <a:off x="4853160" y="966960"/>
                <a:ext cx="50760" cy="250560"/>
              </a:xfrm>
              <a:custGeom>
                <a:avLst/>
                <a:gdLst/>
                <a:ahLst/>
                <a:rect l="l" t="t" r="r" b="b"/>
                <a:pathLst>
                  <a:path w="255" h="1263">
                    <a:moveTo>
                      <a:pt x="85" y="0"/>
                    </a:moveTo>
                    <a:lnTo>
                      <a:pt x="255" y="134"/>
                    </a:lnTo>
                    <a:lnTo>
                      <a:pt x="35" y="218"/>
                    </a:lnTo>
                    <a:lnTo>
                      <a:pt x="97" y="1240"/>
                    </a:lnTo>
                    <a:lnTo>
                      <a:pt x="72" y="1263"/>
                    </a:lnTo>
                    <a:lnTo>
                      <a:pt x="0" y="209"/>
                    </a:lnTo>
                    <a:lnTo>
                      <a:pt x="182" y="121"/>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4940280" y="1004760"/>
                <a:ext cx="123840" cy="216000"/>
              </a:xfrm>
              <a:custGeom>
                <a:avLst/>
                <a:gdLst/>
                <a:ahLst/>
                <a:rect l="l" t="t" r="r" b="b"/>
                <a:pathLst>
                  <a:path w="628" h="1082">
                    <a:moveTo>
                      <a:pt x="290" y="240"/>
                    </a:moveTo>
                    <a:lnTo>
                      <a:pt x="409" y="194"/>
                    </a:lnTo>
                    <a:lnTo>
                      <a:pt x="519" y="111"/>
                    </a:lnTo>
                    <a:lnTo>
                      <a:pt x="628" y="0"/>
                    </a:lnTo>
                    <a:lnTo>
                      <a:pt x="628" y="385"/>
                    </a:lnTo>
                    <a:lnTo>
                      <a:pt x="589" y="159"/>
                    </a:lnTo>
                    <a:lnTo>
                      <a:pt x="519" y="240"/>
                    </a:lnTo>
                    <a:lnTo>
                      <a:pt x="519" y="134"/>
                    </a:lnTo>
                    <a:lnTo>
                      <a:pt x="446" y="208"/>
                    </a:lnTo>
                    <a:lnTo>
                      <a:pt x="506" y="265"/>
                    </a:lnTo>
                    <a:lnTo>
                      <a:pt x="481" y="304"/>
                    </a:lnTo>
                    <a:lnTo>
                      <a:pt x="432" y="282"/>
                    </a:lnTo>
                    <a:lnTo>
                      <a:pt x="386" y="434"/>
                    </a:lnTo>
                    <a:lnTo>
                      <a:pt x="275" y="676"/>
                    </a:lnTo>
                    <a:lnTo>
                      <a:pt x="146" y="913"/>
                    </a:lnTo>
                    <a:lnTo>
                      <a:pt x="24" y="1082"/>
                    </a:lnTo>
                    <a:lnTo>
                      <a:pt x="0" y="1012"/>
                    </a:lnTo>
                    <a:lnTo>
                      <a:pt x="158" y="807"/>
                    </a:lnTo>
                    <a:lnTo>
                      <a:pt x="264" y="592"/>
                    </a:lnTo>
                    <a:lnTo>
                      <a:pt x="372" y="372"/>
                    </a:lnTo>
                    <a:lnTo>
                      <a:pt x="409" y="219"/>
                    </a:lnTo>
                    <a:lnTo>
                      <a:pt x="29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4940280" y="1071720"/>
                <a:ext cx="100080" cy="255600"/>
              </a:xfrm>
              <a:custGeom>
                <a:avLst/>
                <a:gdLst/>
                <a:ahLst/>
                <a:rect l="l" t="t" r="r" b="b"/>
                <a:pathLst>
                  <a:path w="506" h="1286">
                    <a:moveTo>
                      <a:pt x="506" y="0"/>
                    </a:moveTo>
                    <a:lnTo>
                      <a:pt x="432" y="292"/>
                    </a:lnTo>
                    <a:lnTo>
                      <a:pt x="328" y="624"/>
                    </a:lnTo>
                    <a:lnTo>
                      <a:pt x="206" y="916"/>
                    </a:lnTo>
                    <a:lnTo>
                      <a:pt x="84" y="1155"/>
                    </a:lnTo>
                    <a:lnTo>
                      <a:pt x="0" y="1286"/>
                    </a:lnTo>
                    <a:lnTo>
                      <a:pt x="97" y="1191"/>
                    </a:lnTo>
                    <a:lnTo>
                      <a:pt x="215" y="978"/>
                    </a:lnTo>
                    <a:lnTo>
                      <a:pt x="328" y="675"/>
                    </a:lnTo>
                    <a:lnTo>
                      <a:pt x="432" y="327"/>
                    </a:lnTo>
                    <a:lnTo>
                      <a:pt x="5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4152960" y="1482840"/>
                <a:ext cx="108000" cy="99720"/>
              </a:xfrm>
              <a:custGeom>
                <a:avLst/>
                <a:gdLst/>
                <a:ahLst/>
                <a:rect l="l" t="t" r="r" b="b"/>
                <a:pathLst>
                  <a:path w="547" h="503">
                    <a:moveTo>
                      <a:pt x="355" y="339"/>
                    </a:moveTo>
                    <a:lnTo>
                      <a:pt x="401" y="219"/>
                    </a:lnTo>
                    <a:lnTo>
                      <a:pt x="547" y="35"/>
                    </a:lnTo>
                    <a:lnTo>
                      <a:pt x="425" y="0"/>
                    </a:lnTo>
                    <a:lnTo>
                      <a:pt x="376" y="35"/>
                    </a:lnTo>
                    <a:lnTo>
                      <a:pt x="207" y="35"/>
                    </a:lnTo>
                    <a:lnTo>
                      <a:pt x="111" y="11"/>
                    </a:lnTo>
                    <a:lnTo>
                      <a:pt x="161" y="97"/>
                    </a:lnTo>
                    <a:lnTo>
                      <a:pt x="102" y="169"/>
                    </a:lnTo>
                    <a:lnTo>
                      <a:pt x="76" y="266"/>
                    </a:lnTo>
                    <a:lnTo>
                      <a:pt x="40" y="266"/>
                    </a:lnTo>
                    <a:lnTo>
                      <a:pt x="0" y="194"/>
                    </a:lnTo>
                    <a:lnTo>
                      <a:pt x="0" y="468"/>
                    </a:lnTo>
                    <a:lnTo>
                      <a:pt x="40" y="503"/>
                    </a:lnTo>
                    <a:lnTo>
                      <a:pt x="40" y="385"/>
                    </a:lnTo>
                    <a:lnTo>
                      <a:pt x="76" y="312"/>
                    </a:lnTo>
                    <a:lnTo>
                      <a:pt x="123" y="266"/>
                    </a:lnTo>
                    <a:lnTo>
                      <a:pt x="233" y="242"/>
                    </a:lnTo>
                    <a:lnTo>
                      <a:pt x="330" y="242"/>
                    </a:lnTo>
                    <a:lnTo>
                      <a:pt x="330" y="312"/>
                    </a:lnTo>
                    <a:lnTo>
                      <a:pt x="355"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4135320" y="1479600"/>
                <a:ext cx="38160" cy="102960"/>
              </a:xfrm>
              <a:custGeom>
                <a:avLst/>
                <a:gdLst/>
                <a:ahLst/>
                <a:rect l="l" t="t" r="r" b="b"/>
                <a:pathLst>
                  <a:path w="194" h="519">
                    <a:moveTo>
                      <a:pt x="169" y="16"/>
                    </a:moveTo>
                    <a:lnTo>
                      <a:pt x="0" y="315"/>
                    </a:lnTo>
                    <a:lnTo>
                      <a:pt x="62" y="505"/>
                    </a:lnTo>
                    <a:lnTo>
                      <a:pt x="108" y="519"/>
                    </a:lnTo>
                    <a:lnTo>
                      <a:pt x="24" y="328"/>
                    </a:lnTo>
                    <a:lnTo>
                      <a:pt x="194" y="0"/>
                    </a:lnTo>
                    <a:lnTo>
                      <a:pt x="16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4195800" y="1569960"/>
                <a:ext cx="469800" cy="542880"/>
              </a:xfrm>
              <a:custGeom>
                <a:avLst/>
                <a:gdLst/>
                <a:ahLst/>
                <a:rect l="l" t="t" r="r" b="b"/>
                <a:pathLst>
                  <a:path w="2369" h="2740">
                    <a:moveTo>
                      <a:pt x="2222" y="68"/>
                    </a:moveTo>
                    <a:lnTo>
                      <a:pt x="2323" y="492"/>
                    </a:lnTo>
                    <a:lnTo>
                      <a:pt x="2353" y="853"/>
                    </a:lnTo>
                    <a:lnTo>
                      <a:pt x="2369" y="1262"/>
                    </a:lnTo>
                    <a:lnTo>
                      <a:pt x="2330" y="1778"/>
                    </a:lnTo>
                    <a:lnTo>
                      <a:pt x="2272" y="2209"/>
                    </a:lnTo>
                    <a:lnTo>
                      <a:pt x="2213" y="2442"/>
                    </a:lnTo>
                    <a:lnTo>
                      <a:pt x="1295" y="2740"/>
                    </a:lnTo>
                    <a:lnTo>
                      <a:pt x="1101" y="2463"/>
                    </a:lnTo>
                    <a:lnTo>
                      <a:pt x="932" y="2343"/>
                    </a:lnTo>
                    <a:lnTo>
                      <a:pt x="703" y="2308"/>
                    </a:lnTo>
                    <a:lnTo>
                      <a:pt x="375" y="2332"/>
                    </a:lnTo>
                    <a:lnTo>
                      <a:pt x="24" y="2488"/>
                    </a:lnTo>
                    <a:lnTo>
                      <a:pt x="0" y="2463"/>
                    </a:lnTo>
                    <a:lnTo>
                      <a:pt x="15" y="2391"/>
                    </a:lnTo>
                    <a:lnTo>
                      <a:pt x="121" y="2308"/>
                    </a:lnTo>
                    <a:lnTo>
                      <a:pt x="409" y="2283"/>
                    </a:lnTo>
                    <a:lnTo>
                      <a:pt x="666" y="2272"/>
                    </a:lnTo>
                    <a:lnTo>
                      <a:pt x="884" y="2283"/>
                    </a:lnTo>
                    <a:lnTo>
                      <a:pt x="797" y="1969"/>
                    </a:lnTo>
                    <a:lnTo>
                      <a:pt x="811" y="1910"/>
                    </a:lnTo>
                    <a:lnTo>
                      <a:pt x="846" y="1884"/>
                    </a:lnTo>
                    <a:lnTo>
                      <a:pt x="908" y="1898"/>
                    </a:lnTo>
                    <a:lnTo>
                      <a:pt x="1173" y="2041"/>
                    </a:lnTo>
                    <a:lnTo>
                      <a:pt x="1270" y="2030"/>
                    </a:lnTo>
                    <a:lnTo>
                      <a:pt x="1316" y="1995"/>
                    </a:lnTo>
                    <a:lnTo>
                      <a:pt x="1343" y="1933"/>
                    </a:lnTo>
                    <a:lnTo>
                      <a:pt x="1343" y="1859"/>
                    </a:lnTo>
                    <a:lnTo>
                      <a:pt x="1196" y="1430"/>
                    </a:lnTo>
                    <a:lnTo>
                      <a:pt x="1138" y="1215"/>
                    </a:lnTo>
                    <a:lnTo>
                      <a:pt x="1115" y="1022"/>
                    </a:lnTo>
                    <a:lnTo>
                      <a:pt x="1306" y="1132"/>
                    </a:lnTo>
                    <a:lnTo>
                      <a:pt x="1415" y="1250"/>
                    </a:lnTo>
                    <a:lnTo>
                      <a:pt x="1463" y="1370"/>
                    </a:lnTo>
                    <a:lnTo>
                      <a:pt x="1488" y="1488"/>
                    </a:lnTo>
                    <a:lnTo>
                      <a:pt x="1502" y="1697"/>
                    </a:lnTo>
                    <a:lnTo>
                      <a:pt x="1525" y="1358"/>
                    </a:lnTo>
                    <a:lnTo>
                      <a:pt x="1512" y="1105"/>
                    </a:lnTo>
                    <a:lnTo>
                      <a:pt x="1463" y="863"/>
                    </a:lnTo>
                    <a:lnTo>
                      <a:pt x="1378" y="549"/>
                    </a:lnTo>
                    <a:lnTo>
                      <a:pt x="1488" y="828"/>
                    </a:lnTo>
                    <a:lnTo>
                      <a:pt x="1525" y="974"/>
                    </a:lnTo>
                    <a:lnTo>
                      <a:pt x="1692" y="683"/>
                    </a:lnTo>
                    <a:lnTo>
                      <a:pt x="1931" y="471"/>
                    </a:lnTo>
                    <a:lnTo>
                      <a:pt x="1875" y="178"/>
                    </a:lnTo>
                    <a:lnTo>
                      <a:pt x="1802" y="0"/>
                    </a:lnTo>
                    <a:lnTo>
                      <a:pt x="1931" y="227"/>
                    </a:lnTo>
                    <a:lnTo>
                      <a:pt x="2055" y="503"/>
                    </a:lnTo>
                    <a:lnTo>
                      <a:pt x="2160" y="805"/>
                    </a:lnTo>
                    <a:lnTo>
                      <a:pt x="2281" y="1271"/>
                    </a:lnTo>
                    <a:lnTo>
                      <a:pt x="2299" y="863"/>
                    </a:lnTo>
                    <a:lnTo>
                      <a:pt x="2272" y="455"/>
                    </a:lnTo>
                    <a:lnTo>
                      <a:pt x="2200" y="68"/>
                    </a:lnTo>
                    <a:lnTo>
                      <a:pt x="222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162320" y="1560600"/>
                <a:ext cx="374760" cy="769680"/>
              </a:xfrm>
              <a:custGeom>
                <a:avLst/>
                <a:gdLst/>
                <a:ahLst/>
                <a:rect l="l" t="t" r="r" b="b"/>
                <a:pathLst>
                  <a:path w="1888" h="3883">
                    <a:moveTo>
                      <a:pt x="1888" y="0"/>
                    </a:moveTo>
                    <a:lnTo>
                      <a:pt x="1764" y="202"/>
                    </a:lnTo>
                    <a:lnTo>
                      <a:pt x="1764" y="296"/>
                    </a:lnTo>
                    <a:lnTo>
                      <a:pt x="1888" y="517"/>
                    </a:lnTo>
                    <a:lnTo>
                      <a:pt x="1694" y="259"/>
                    </a:lnTo>
                    <a:lnTo>
                      <a:pt x="1402" y="356"/>
                    </a:lnTo>
                    <a:lnTo>
                      <a:pt x="1150" y="517"/>
                    </a:lnTo>
                    <a:lnTo>
                      <a:pt x="929" y="683"/>
                    </a:lnTo>
                    <a:lnTo>
                      <a:pt x="760" y="923"/>
                    </a:lnTo>
                    <a:lnTo>
                      <a:pt x="687" y="1188"/>
                    </a:lnTo>
                    <a:lnTo>
                      <a:pt x="664" y="1571"/>
                    </a:lnTo>
                    <a:lnTo>
                      <a:pt x="687" y="1838"/>
                    </a:lnTo>
                    <a:lnTo>
                      <a:pt x="749" y="2076"/>
                    </a:lnTo>
                    <a:lnTo>
                      <a:pt x="872" y="2318"/>
                    </a:lnTo>
                    <a:lnTo>
                      <a:pt x="846" y="2306"/>
                    </a:lnTo>
                    <a:lnTo>
                      <a:pt x="749" y="2147"/>
                    </a:lnTo>
                    <a:lnTo>
                      <a:pt x="677" y="1930"/>
                    </a:lnTo>
                    <a:lnTo>
                      <a:pt x="629" y="1656"/>
                    </a:lnTo>
                    <a:lnTo>
                      <a:pt x="629" y="1439"/>
                    </a:lnTo>
                    <a:lnTo>
                      <a:pt x="652" y="1151"/>
                    </a:lnTo>
                    <a:lnTo>
                      <a:pt x="244" y="2138"/>
                    </a:lnTo>
                    <a:lnTo>
                      <a:pt x="25" y="2463"/>
                    </a:lnTo>
                    <a:lnTo>
                      <a:pt x="25" y="2534"/>
                    </a:lnTo>
                    <a:lnTo>
                      <a:pt x="99" y="2628"/>
                    </a:lnTo>
                    <a:lnTo>
                      <a:pt x="158" y="2571"/>
                    </a:lnTo>
                    <a:lnTo>
                      <a:pt x="85" y="2714"/>
                    </a:lnTo>
                    <a:lnTo>
                      <a:pt x="25" y="2954"/>
                    </a:lnTo>
                    <a:lnTo>
                      <a:pt x="498" y="3837"/>
                    </a:lnTo>
                    <a:lnTo>
                      <a:pt x="505" y="3883"/>
                    </a:lnTo>
                    <a:lnTo>
                      <a:pt x="389" y="3795"/>
                    </a:lnTo>
                    <a:lnTo>
                      <a:pt x="0" y="2991"/>
                    </a:lnTo>
                    <a:lnTo>
                      <a:pt x="0" y="2883"/>
                    </a:lnTo>
                    <a:lnTo>
                      <a:pt x="37" y="2735"/>
                    </a:lnTo>
                    <a:lnTo>
                      <a:pt x="37" y="2641"/>
                    </a:lnTo>
                    <a:lnTo>
                      <a:pt x="0" y="2546"/>
                    </a:lnTo>
                    <a:lnTo>
                      <a:pt x="0" y="2472"/>
                    </a:lnTo>
                    <a:lnTo>
                      <a:pt x="25" y="2401"/>
                    </a:lnTo>
                    <a:lnTo>
                      <a:pt x="169" y="2198"/>
                    </a:lnTo>
                    <a:lnTo>
                      <a:pt x="290" y="1956"/>
                    </a:lnTo>
                    <a:lnTo>
                      <a:pt x="446" y="1547"/>
                    </a:lnTo>
                    <a:lnTo>
                      <a:pt x="639" y="1092"/>
                    </a:lnTo>
                    <a:lnTo>
                      <a:pt x="738" y="886"/>
                    </a:lnTo>
                    <a:lnTo>
                      <a:pt x="881" y="683"/>
                    </a:lnTo>
                    <a:lnTo>
                      <a:pt x="1053" y="525"/>
                    </a:lnTo>
                    <a:lnTo>
                      <a:pt x="1270" y="381"/>
                    </a:lnTo>
                    <a:lnTo>
                      <a:pt x="1475" y="273"/>
                    </a:lnTo>
                    <a:lnTo>
                      <a:pt x="1681" y="185"/>
                    </a:lnTo>
                    <a:lnTo>
                      <a:pt x="1764" y="139"/>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4325760" y="1747800"/>
                <a:ext cx="86040" cy="195480"/>
              </a:xfrm>
              <a:custGeom>
                <a:avLst/>
                <a:gdLst/>
                <a:ahLst/>
                <a:rect l="l" t="t" r="r" b="b"/>
                <a:pathLst>
                  <a:path w="437" h="984">
                    <a:moveTo>
                      <a:pt x="217" y="159"/>
                    </a:moveTo>
                    <a:lnTo>
                      <a:pt x="182" y="39"/>
                    </a:lnTo>
                    <a:lnTo>
                      <a:pt x="136" y="0"/>
                    </a:lnTo>
                    <a:lnTo>
                      <a:pt x="98" y="0"/>
                    </a:lnTo>
                    <a:lnTo>
                      <a:pt x="50" y="23"/>
                    </a:lnTo>
                    <a:lnTo>
                      <a:pt x="13" y="97"/>
                    </a:lnTo>
                    <a:lnTo>
                      <a:pt x="0" y="232"/>
                    </a:lnTo>
                    <a:lnTo>
                      <a:pt x="37" y="458"/>
                    </a:lnTo>
                    <a:lnTo>
                      <a:pt x="107" y="650"/>
                    </a:lnTo>
                    <a:lnTo>
                      <a:pt x="217" y="797"/>
                    </a:lnTo>
                    <a:lnTo>
                      <a:pt x="437" y="984"/>
                    </a:lnTo>
                    <a:lnTo>
                      <a:pt x="231" y="759"/>
                    </a:lnTo>
                    <a:lnTo>
                      <a:pt x="144" y="611"/>
                    </a:lnTo>
                    <a:lnTo>
                      <a:pt x="98" y="421"/>
                    </a:lnTo>
                    <a:lnTo>
                      <a:pt x="98" y="265"/>
                    </a:lnTo>
                    <a:lnTo>
                      <a:pt x="107" y="146"/>
                    </a:lnTo>
                    <a:lnTo>
                      <a:pt x="136" y="122"/>
                    </a:lnTo>
                    <a:lnTo>
                      <a:pt x="169" y="122"/>
                    </a:lnTo>
                    <a:lnTo>
                      <a:pt x="217"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275000" y="2124000"/>
                <a:ext cx="328680" cy="203400"/>
              </a:xfrm>
              <a:custGeom>
                <a:avLst/>
                <a:gdLst/>
                <a:ahLst/>
                <a:rect l="l" t="t" r="r" b="b"/>
                <a:pathLst>
                  <a:path w="1655" h="1024">
                    <a:moveTo>
                      <a:pt x="145" y="908"/>
                    </a:moveTo>
                    <a:lnTo>
                      <a:pt x="83" y="883"/>
                    </a:lnTo>
                    <a:lnTo>
                      <a:pt x="70" y="862"/>
                    </a:lnTo>
                    <a:lnTo>
                      <a:pt x="70" y="827"/>
                    </a:lnTo>
                    <a:lnTo>
                      <a:pt x="118" y="763"/>
                    </a:lnTo>
                    <a:lnTo>
                      <a:pt x="253" y="653"/>
                    </a:lnTo>
                    <a:lnTo>
                      <a:pt x="521" y="484"/>
                    </a:lnTo>
                    <a:lnTo>
                      <a:pt x="761" y="341"/>
                    </a:lnTo>
                    <a:lnTo>
                      <a:pt x="1040" y="196"/>
                    </a:lnTo>
                    <a:lnTo>
                      <a:pt x="916" y="0"/>
                    </a:lnTo>
                    <a:lnTo>
                      <a:pt x="1088" y="212"/>
                    </a:lnTo>
                    <a:lnTo>
                      <a:pt x="1584" y="138"/>
                    </a:lnTo>
                    <a:lnTo>
                      <a:pt x="1655" y="187"/>
                    </a:lnTo>
                    <a:lnTo>
                      <a:pt x="1655" y="235"/>
                    </a:lnTo>
                    <a:lnTo>
                      <a:pt x="1570" y="187"/>
                    </a:lnTo>
                    <a:lnTo>
                      <a:pt x="1088" y="242"/>
                    </a:lnTo>
                    <a:lnTo>
                      <a:pt x="906" y="365"/>
                    </a:lnTo>
                    <a:lnTo>
                      <a:pt x="833" y="453"/>
                    </a:lnTo>
                    <a:lnTo>
                      <a:pt x="1015" y="594"/>
                    </a:lnTo>
                    <a:lnTo>
                      <a:pt x="1217" y="827"/>
                    </a:lnTo>
                    <a:lnTo>
                      <a:pt x="1510" y="897"/>
                    </a:lnTo>
                    <a:lnTo>
                      <a:pt x="1655" y="738"/>
                    </a:lnTo>
                    <a:lnTo>
                      <a:pt x="1655" y="787"/>
                    </a:lnTo>
                    <a:lnTo>
                      <a:pt x="1531" y="932"/>
                    </a:lnTo>
                    <a:lnTo>
                      <a:pt x="1187" y="862"/>
                    </a:lnTo>
                    <a:lnTo>
                      <a:pt x="1051" y="677"/>
                    </a:lnTo>
                    <a:lnTo>
                      <a:pt x="991" y="607"/>
                    </a:lnTo>
                    <a:lnTo>
                      <a:pt x="749" y="802"/>
                    </a:lnTo>
                    <a:lnTo>
                      <a:pt x="435" y="932"/>
                    </a:lnTo>
                    <a:lnTo>
                      <a:pt x="217" y="996"/>
                    </a:lnTo>
                    <a:lnTo>
                      <a:pt x="0" y="1024"/>
                    </a:lnTo>
                    <a:lnTo>
                      <a:pt x="242" y="970"/>
                    </a:lnTo>
                    <a:lnTo>
                      <a:pt x="494" y="862"/>
                    </a:lnTo>
                    <a:lnTo>
                      <a:pt x="228" y="908"/>
                    </a:lnTo>
                    <a:lnTo>
                      <a:pt x="145" y="9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537080" y="2165400"/>
                <a:ext cx="158760" cy="92160"/>
              </a:xfrm>
              <a:custGeom>
                <a:avLst/>
                <a:gdLst/>
                <a:ahLst/>
                <a:rect l="l" t="t" r="r" b="b"/>
                <a:pathLst>
                  <a:path w="800" h="466">
                    <a:moveTo>
                      <a:pt x="0" y="7"/>
                    </a:moveTo>
                    <a:lnTo>
                      <a:pt x="138" y="31"/>
                    </a:lnTo>
                    <a:lnTo>
                      <a:pt x="246" y="102"/>
                    </a:lnTo>
                    <a:lnTo>
                      <a:pt x="353" y="208"/>
                    </a:lnTo>
                    <a:lnTo>
                      <a:pt x="465" y="288"/>
                    </a:lnTo>
                    <a:lnTo>
                      <a:pt x="650" y="337"/>
                    </a:lnTo>
                    <a:lnTo>
                      <a:pt x="747" y="381"/>
                    </a:lnTo>
                    <a:lnTo>
                      <a:pt x="777" y="422"/>
                    </a:lnTo>
                    <a:lnTo>
                      <a:pt x="777" y="444"/>
                    </a:lnTo>
                    <a:lnTo>
                      <a:pt x="756" y="450"/>
                    </a:lnTo>
                    <a:lnTo>
                      <a:pt x="604" y="425"/>
                    </a:lnTo>
                    <a:lnTo>
                      <a:pt x="316" y="378"/>
                    </a:lnTo>
                    <a:lnTo>
                      <a:pt x="251" y="349"/>
                    </a:lnTo>
                    <a:lnTo>
                      <a:pt x="136" y="288"/>
                    </a:lnTo>
                    <a:lnTo>
                      <a:pt x="37" y="235"/>
                    </a:lnTo>
                    <a:lnTo>
                      <a:pt x="221" y="363"/>
                    </a:lnTo>
                    <a:lnTo>
                      <a:pt x="297" y="395"/>
                    </a:lnTo>
                    <a:lnTo>
                      <a:pt x="360" y="418"/>
                    </a:lnTo>
                    <a:lnTo>
                      <a:pt x="537" y="432"/>
                    </a:lnTo>
                    <a:lnTo>
                      <a:pt x="742" y="466"/>
                    </a:lnTo>
                    <a:lnTo>
                      <a:pt x="786" y="457"/>
                    </a:lnTo>
                    <a:lnTo>
                      <a:pt x="800" y="441"/>
                    </a:lnTo>
                    <a:lnTo>
                      <a:pt x="786" y="402"/>
                    </a:lnTo>
                    <a:lnTo>
                      <a:pt x="756" y="372"/>
                    </a:lnTo>
                    <a:lnTo>
                      <a:pt x="685" y="337"/>
                    </a:lnTo>
                    <a:lnTo>
                      <a:pt x="562" y="291"/>
                    </a:lnTo>
                    <a:lnTo>
                      <a:pt x="459" y="246"/>
                    </a:lnTo>
                    <a:lnTo>
                      <a:pt x="355" y="176"/>
                    </a:lnTo>
                    <a:lnTo>
                      <a:pt x="281" y="105"/>
                    </a:lnTo>
                    <a:lnTo>
                      <a:pt x="198" y="40"/>
                    </a:lnTo>
                    <a:lnTo>
                      <a:pt x="138" y="19"/>
                    </a:lnTo>
                    <a:lnTo>
                      <a:pt x="0" y="0"/>
                    </a:lnTo>
                    <a:lnTo>
                      <a:pt x="0"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6" name=""/>
              <p:cNvSpPr/>
              <p:nvPr/>
            </p:nvSpPr>
            <p:spPr>
              <a:xfrm>
                <a:off x="4537080" y="2255760"/>
                <a:ext cx="66600" cy="19080"/>
              </a:xfrm>
              <a:custGeom>
                <a:avLst/>
                <a:gdLst/>
                <a:ahLst/>
                <a:rect l="l" t="t" r="r" b="b"/>
                <a:pathLst>
                  <a:path w="336" h="92">
                    <a:moveTo>
                      <a:pt x="336" y="35"/>
                    </a:moveTo>
                    <a:lnTo>
                      <a:pt x="309" y="49"/>
                    </a:lnTo>
                    <a:lnTo>
                      <a:pt x="246" y="49"/>
                    </a:lnTo>
                    <a:lnTo>
                      <a:pt x="138" y="35"/>
                    </a:lnTo>
                    <a:lnTo>
                      <a:pt x="0" y="0"/>
                    </a:lnTo>
                    <a:lnTo>
                      <a:pt x="125" y="58"/>
                    </a:lnTo>
                    <a:lnTo>
                      <a:pt x="217" y="83"/>
                    </a:lnTo>
                    <a:lnTo>
                      <a:pt x="281" y="88"/>
                    </a:lnTo>
                    <a:lnTo>
                      <a:pt x="336" y="92"/>
                    </a:lnTo>
                    <a:lnTo>
                      <a:pt x="33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7" name=""/>
              <p:cNvSpPr/>
              <p:nvPr/>
            </p:nvSpPr>
            <p:spPr>
              <a:xfrm>
                <a:off x="4524480" y="2279520"/>
                <a:ext cx="66600" cy="15840"/>
              </a:xfrm>
              <a:custGeom>
                <a:avLst/>
                <a:gdLst/>
                <a:ahLst/>
                <a:rect l="l" t="t" r="r" b="b"/>
                <a:pathLst>
                  <a:path w="334" h="77">
                    <a:moveTo>
                      <a:pt x="0" y="0"/>
                    </a:moveTo>
                    <a:lnTo>
                      <a:pt x="141" y="40"/>
                    </a:lnTo>
                    <a:lnTo>
                      <a:pt x="231" y="57"/>
                    </a:lnTo>
                    <a:lnTo>
                      <a:pt x="293" y="50"/>
                    </a:lnTo>
                    <a:lnTo>
                      <a:pt x="334" y="41"/>
                    </a:lnTo>
                    <a:lnTo>
                      <a:pt x="295" y="77"/>
                    </a:lnTo>
                    <a:lnTo>
                      <a:pt x="214" y="75"/>
                    </a:lnTo>
                    <a:lnTo>
                      <a:pt x="81" y="4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8" name=""/>
              <p:cNvSpPr/>
              <p:nvPr/>
            </p:nvSpPr>
            <p:spPr>
              <a:xfrm>
                <a:off x="4602240" y="2090880"/>
                <a:ext cx="71280" cy="128520"/>
              </a:xfrm>
              <a:custGeom>
                <a:avLst/>
                <a:gdLst/>
                <a:ahLst/>
                <a:rect l="l" t="t" r="r" b="b"/>
                <a:pathLst>
                  <a:path w="365" h="648">
                    <a:moveTo>
                      <a:pt x="0" y="535"/>
                    </a:moveTo>
                    <a:lnTo>
                      <a:pt x="0" y="23"/>
                    </a:lnTo>
                    <a:lnTo>
                      <a:pt x="9" y="9"/>
                    </a:lnTo>
                    <a:lnTo>
                      <a:pt x="26" y="0"/>
                    </a:lnTo>
                    <a:lnTo>
                      <a:pt x="60" y="0"/>
                    </a:lnTo>
                    <a:lnTo>
                      <a:pt x="77" y="9"/>
                    </a:lnTo>
                    <a:lnTo>
                      <a:pt x="86" y="19"/>
                    </a:lnTo>
                    <a:lnTo>
                      <a:pt x="86" y="384"/>
                    </a:lnTo>
                    <a:lnTo>
                      <a:pt x="183" y="419"/>
                    </a:lnTo>
                    <a:lnTo>
                      <a:pt x="224" y="511"/>
                    </a:lnTo>
                    <a:lnTo>
                      <a:pt x="257" y="555"/>
                    </a:lnTo>
                    <a:lnTo>
                      <a:pt x="316" y="590"/>
                    </a:lnTo>
                    <a:lnTo>
                      <a:pt x="365" y="610"/>
                    </a:lnTo>
                    <a:lnTo>
                      <a:pt x="343" y="639"/>
                    </a:lnTo>
                    <a:lnTo>
                      <a:pt x="298" y="648"/>
                    </a:lnTo>
                    <a:lnTo>
                      <a:pt x="206" y="639"/>
                    </a:lnTo>
                    <a:lnTo>
                      <a:pt x="118" y="623"/>
                    </a:lnTo>
                    <a:lnTo>
                      <a:pt x="75" y="590"/>
                    </a:lnTo>
                    <a:lnTo>
                      <a:pt x="75" y="28"/>
                    </a:lnTo>
                    <a:lnTo>
                      <a:pt x="72" y="12"/>
                    </a:lnTo>
                    <a:lnTo>
                      <a:pt x="58" y="9"/>
                    </a:lnTo>
                    <a:lnTo>
                      <a:pt x="26" y="9"/>
                    </a:lnTo>
                    <a:lnTo>
                      <a:pt x="17" y="12"/>
                    </a:lnTo>
                    <a:lnTo>
                      <a:pt x="9" y="23"/>
                    </a:lnTo>
                    <a:lnTo>
                      <a:pt x="9" y="544"/>
                    </a:lnTo>
                    <a:lnTo>
                      <a:pt x="0" y="5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602240" y="2244600"/>
                <a:ext cx="17280" cy="115920"/>
              </a:xfrm>
              <a:custGeom>
                <a:avLst/>
                <a:gdLst/>
                <a:ahLst/>
                <a:rect l="l" t="t" r="r" b="b"/>
                <a:pathLst>
                  <a:path w="86" h="590">
                    <a:moveTo>
                      <a:pt x="9" y="0"/>
                    </a:moveTo>
                    <a:lnTo>
                      <a:pt x="9" y="420"/>
                    </a:lnTo>
                    <a:lnTo>
                      <a:pt x="42" y="546"/>
                    </a:lnTo>
                    <a:lnTo>
                      <a:pt x="75" y="418"/>
                    </a:lnTo>
                    <a:lnTo>
                      <a:pt x="75" y="21"/>
                    </a:lnTo>
                    <a:lnTo>
                      <a:pt x="86" y="21"/>
                    </a:lnTo>
                    <a:lnTo>
                      <a:pt x="86" y="418"/>
                    </a:lnTo>
                    <a:lnTo>
                      <a:pt x="42" y="590"/>
                    </a:lnTo>
                    <a:lnTo>
                      <a:pt x="0" y="420"/>
                    </a:lnTo>
                    <a:lnTo>
                      <a:pt x="0" y="7"/>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603680" y="2324160"/>
                <a:ext cx="12600" cy="3240"/>
              </a:xfrm>
              <a:custGeom>
                <a:avLst/>
                <a:gdLst/>
                <a:ahLst/>
                <a:rect l="l" t="t" r="r" b="b"/>
                <a:pathLst>
                  <a:path w="70" h="17">
                    <a:moveTo>
                      <a:pt x="0" y="17"/>
                    </a:moveTo>
                    <a:lnTo>
                      <a:pt x="17" y="10"/>
                    </a:lnTo>
                    <a:lnTo>
                      <a:pt x="51" y="10"/>
                    </a:lnTo>
                    <a:lnTo>
                      <a:pt x="70" y="17"/>
                    </a:lnTo>
                    <a:lnTo>
                      <a:pt x="70" y="10"/>
                    </a:lnTo>
                    <a:lnTo>
                      <a:pt x="56" y="0"/>
                    </a:lnTo>
                    <a:lnTo>
                      <a:pt x="24" y="0"/>
                    </a:lnTo>
                    <a:lnTo>
                      <a:pt x="2" y="5"/>
                    </a:lnTo>
                    <a:lnTo>
                      <a:pt x="0" y="1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71" name=""/>
              <p:cNvSpPr/>
              <p:nvPr/>
            </p:nvSpPr>
            <p:spPr>
              <a:xfrm>
                <a:off x="4643280" y="1577880"/>
                <a:ext cx="217800" cy="365400"/>
              </a:xfrm>
              <a:custGeom>
                <a:avLst/>
                <a:gdLst/>
                <a:ahLst/>
                <a:rect l="l" t="t" r="r" b="b"/>
                <a:pathLst>
                  <a:path w="1097" h="1842">
                    <a:moveTo>
                      <a:pt x="728" y="459"/>
                    </a:moveTo>
                    <a:lnTo>
                      <a:pt x="667" y="630"/>
                    </a:lnTo>
                    <a:lnTo>
                      <a:pt x="798" y="773"/>
                    </a:lnTo>
                    <a:lnTo>
                      <a:pt x="842" y="907"/>
                    </a:lnTo>
                    <a:lnTo>
                      <a:pt x="849" y="1098"/>
                    </a:lnTo>
                    <a:lnTo>
                      <a:pt x="899" y="1285"/>
                    </a:lnTo>
                    <a:lnTo>
                      <a:pt x="952" y="1388"/>
                    </a:lnTo>
                    <a:lnTo>
                      <a:pt x="1042" y="1478"/>
                    </a:lnTo>
                    <a:lnTo>
                      <a:pt x="1025" y="1538"/>
                    </a:lnTo>
                    <a:lnTo>
                      <a:pt x="933" y="1566"/>
                    </a:lnTo>
                    <a:lnTo>
                      <a:pt x="849" y="1452"/>
                    </a:lnTo>
                    <a:lnTo>
                      <a:pt x="779" y="1325"/>
                    </a:lnTo>
                    <a:lnTo>
                      <a:pt x="717" y="1129"/>
                    </a:lnTo>
                    <a:lnTo>
                      <a:pt x="678" y="966"/>
                    </a:lnTo>
                    <a:lnTo>
                      <a:pt x="737" y="1285"/>
                    </a:lnTo>
                    <a:lnTo>
                      <a:pt x="798" y="1452"/>
                    </a:lnTo>
                    <a:lnTo>
                      <a:pt x="849" y="1595"/>
                    </a:lnTo>
                    <a:lnTo>
                      <a:pt x="899" y="1690"/>
                    </a:lnTo>
                    <a:lnTo>
                      <a:pt x="842" y="1752"/>
                    </a:lnTo>
                    <a:lnTo>
                      <a:pt x="708" y="1803"/>
                    </a:lnTo>
                    <a:lnTo>
                      <a:pt x="484" y="1791"/>
                    </a:lnTo>
                    <a:lnTo>
                      <a:pt x="373" y="1771"/>
                    </a:lnTo>
                    <a:lnTo>
                      <a:pt x="373" y="1222"/>
                    </a:lnTo>
                    <a:lnTo>
                      <a:pt x="328" y="1648"/>
                    </a:lnTo>
                    <a:lnTo>
                      <a:pt x="249" y="1611"/>
                    </a:lnTo>
                    <a:lnTo>
                      <a:pt x="157" y="1547"/>
                    </a:lnTo>
                    <a:lnTo>
                      <a:pt x="205" y="1362"/>
                    </a:lnTo>
                    <a:lnTo>
                      <a:pt x="309" y="1035"/>
                    </a:lnTo>
                    <a:lnTo>
                      <a:pt x="350" y="848"/>
                    </a:lnTo>
                    <a:lnTo>
                      <a:pt x="440" y="773"/>
                    </a:lnTo>
                    <a:lnTo>
                      <a:pt x="511" y="670"/>
                    </a:lnTo>
                    <a:lnTo>
                      <a:pt x="581" y="530"/>
                    </a:lnTo>
                    <a:lnTo>
                      <a:pt x="616" y="431"/>
                    </a:lnTo>
                    <a:lnTo>
                      <a:pt x="616" y="376"/>
                    </a:lnTo>
                    <a:lnTo>
                      <a:pt x="0" y="0"/>
                    </a:lnTo>
                    <a:lnTo>
                      <a:pt x="567" y="387"/>
                    </a:lnTo>
                    <a:lnTo>
                      <a:pt x="533" y="530"/>
                    </a:lnTo>
                    <a:lnTo>
                      <a:pt x="473" y="661"/>
                    </a:lnTo>
                    <a:lnTo>
                      <a:pt x="378" y="765"/>
                    </a:lnTo>
                    <a:lnTo>
                      <a:pt x="302" y="835"/>
                    </a:lnTo>
                    <a:lnTo>
                      <a:pt x="216" y="896"/>
                    </a:lnTo>
                    <a:lnTo>
                      <a:pt x="318" y="855"/>
                    </a:lnTo>
                    <a:lnTo>
                      <a:pt x="113" y="1558"/>
                    </a:lnTo>
                    <a:lnTo>
                      <a:pt x="228" y="1648"/>
                    </a:lnTo>
                    <a:lnTo>
                      <a:pt x="318" y="1690"/>
                    </a:lnTo>
                    <a:lnTo>
                      <a:pt x="309" y="1791"/>
                    </a:lnTo>
                    <a:lnTo>
                      <a:pt x="412" y="1819"/>
                    </a:lnTo>
                    <a:lnTo>
                      <a:pt x="555" y="1833"/>
                    </a:lnTo>
                    <a:lnTo>
                      <a:pt x="717" y="1842"/>
                    </a:lnTo>
                    <a:lnTo>
                      <a:pt x="842" y="1815"/>
                    </a:lnTo>
                    <a:lnTo>
                      <a:pt x="899" y="1762"/>
                    </a:lnTo>
                    <a:lnTo>
                      <a:pt x="952" y="1720"/>
                    </a:lnTo>
                    <a:lnTo>
                      <a:pt x="1003" y="1669"/>
                    </a:lnTo>
                    <a:lnTo>
                      <a:pt x="952" y="1595"/>
                    </a:lnTo>
                    <a:lnTo>
                      <a:pt x="1036" y="1566"/>
                    </a:lnTo>
                    <a:lnTo>
                      <a:pt x="1084" y="1507"/>
                    </a:lnTo>
                    <a:lnTo>
                      <a:pt x="1097" y="1485"/>
                    </a:lnTo>
                    <a:lnTo>
                      <a:pt x="973" y="1342"/>
                    </a:lnTo>
                    <a:lnTo>
                      <a:pt x="913" y="1201"/>
                    </a:lnTo>
                    <a:lnTo>
                      <a:pt x="890" y="1049"/>
                    </a:lnTo>
                    <a:lnTo>
                      <a:pt x="871" y="896"/>
                    </a:lnTo>
                    <a:lnTo>
                      <a:pt x="842" y="795"/>
                    </a:lnTo>
                    <a:lnTo>
                      <a:pt x="798" y="714"/>
                    </a:lnTo>
                    <a:lnTo>
                      <a:pt x="717" y="611"/>
                    </a:lnTo>
                    <a:lnTo>
                      <a:pt x="772" y="466"/>
                    </a:lnTo>
                    <a:lnTo>
                      <a:pt x="728"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4753080" y="1693800"/>
                <a:ext cx="33120" cy="25560"/>
              </a:xfrm>
              <a:custGeom>
                <a:avLst/>
                <a:gdLst/>
                <a:ahLst/>
                <a:rect l="l" t="t" r="r" b="b"/>
                <a:pathLst>
                  <a:path w="162" h="126">
                    <a:moveTo>
                      <a:pt x="0" y="126"/>
                    </a:moveTo>
                    <a:lnTo>
                      <a:pt x="61" y="95"/>
                    </a:lnTo>
                    <a:lnTo>
                      <a:pt x="132" y="0"/>
                    </a:lnTo>
                    <a:lnTo>
                      <a:pt x="162" y="73"/>
                    </a:lnTo>
                    <a:lnTo>
                      <a:pt x="100" y="104"/>
                    </a:lnTo>
                    <a:lnTo>
                      <a:pt x="0" y="1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73" name=""/>
              <p:cNvSpPr/>
              <p:nvPr/>
            </p:nvSpPr>
            <p:spPr>
              <a:xfrm>
                <a:off x="4753080" y="1643040"/>
                <a:ext cx="75960" cy="55440"/>
              </a:xfrm>
              <a:custGeom>
                <a:avLst/>
                <a:gdLst/>
                <a:ahLst/>
                <a:rect l="l" t="t" r="r" b="b"/>
                <a:pathLst>
                  <a:path w="378" h="277">
                    <a:moveTo>
                      <a:pt x="42" y="83"/>
                    </a:moveTo>
                    <a:lnTo>
                      <a:pt x="162" y="125"/>
                    </a:lnTo>
                    <a:lnTo>
                      <a:pt x="173" y="196"/>
                    </a:lnTo>
                    <a:lnTo>
                      <a:pt x="378" y="277"/>
                    </a:lnTo>
                    <a:lnTo>
                      <a:pt x="272" y="153"/>
                    </a:lnTo>
                    <a:lnTo>
                      <a:pt x="195" y="83"/>
                    </a:lnTo>
                    <a:lnTo>
                      <a:pt x="112" y="33"/>
                    </a:lnTo>
                    <a:lnTo>
                      <a:pt x="19" y="0"/>
                    </a:lnTo>
                    <a:lnTo>
                      <a:pt x="0" y="21"/>
                    </a:lnTo>
                    <a:lnTo>
                      <a:pt x="42" y="8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4" name=""/>
              <p:cNvSpPr/>
              <p:nvPr/>
            </p:nvSpPr>
            <p:spPr>
              <a:xfrm>
                <a:off x="4745160" y="1533600"/>
                <a:ext cx="295200" cy="506160"/>
              </a:xfrm>
              <a:custGeom>
                <a:avLst/>
                <a:gdLst/>
                <a:ahLst/>
                <a:rect l="l" t="t" r="r" b="b"/>
                <a:pathLst>
                  <a:path w="1488" h="2555">
                    <a:moveTo>
                      <a:pt x="176" y="2043"/>
                    </a:moveTo>
                    <a:lnTo>
                      <a:pt x="125" y="2197"/>
                    </a:lnTo>
                    <a:lnTo>
                      <a:pt x="56" y="2351"/>
                    </a:lnTo>
                    <a:lnTo>
                      <a:pt x="0" y="2456"/>
                    </a:lnTo>
                    <a:lnTo>
                      <a:pt x="593" y="2250"/>
                    </a:lnTo>
                    <a:lnTo>
                      <a:pt x="372" y="2555"/>
                    </a:lnTo>
                    <a:lnTo>
                      <a:pt x="626" y="2280"/>
                    </a:lnTo>
                    <a:lnTo>
                      <a:pt x="769" y="2117"/>
                    </a:lnTo>
                    <a:lnTo>
                      <a:pt x="1239" y="1986"/>
                    </a:lnTo>
                    <a:lnTo>
                      <a:pt x="1465" y="2015"/>
                    </a:lnTo>
                    <a:lnTo>
                      <a:pt x="1488" y="1986"/>
                    </a:lnTo>
                    <a:lnTo>
                      <a:pt x="1272" y="1914"/>
                    </a:lnTo>
                    <a:lnTo>
                      <a:pt x="789" y="1927"/>
                    </a:lnTo>
                    <a:lnTo>
                      <a:pt x="646" y="1976"/>
                    </a:lnTo>
                    <a:lnTo>
                      <a:pt x="604" y="1967"/>
                    </a:lnTo>
                    <a:lnTo>
                      <a:pt x="604" y="1914"/>
                    </a:lnTo>
                    <a:lnTo>
                      <a:pt x="769" y="1676"/>
                    </a:lnTo>
                    <a:lnTo>
                      <a:pt x="1188" y="1395"/>
                    </a:lnTo>
                    <a:lnTo>
                      <a:pt x="1197" y="1342"/>
                    </a:lnTo>
                    <a:lnTo>
                      <a:pt x="1156" y="1353"/>
                    </a:lnTo>
                    <a:lnTo>
                      <a:pt x="714" y="1467"/>
                    </a:lnTo>
                    <a:lnTo>
                      <a:pt x="709" y="1190"/>
                    </a:lnTo>
                    <a:lnTo>
                      <a:pt x="738" y="823"/>
                    </a:lnTo>
                    <a:lnTo>
                      <a:pt x="810" y="487"/>
                    </a:lnTo>
                    <a:lnTo>
                      <a:pt x="953" y="151"/>
                    </a:lnTo>
                    <a:lnTo>
                      <a:pt x="923" y="141"/>
                    </a:lnTo>
                    <a:lnTo>
                      <a:pt x="657" y="0"/>
                    </a:lnTo>
                    <a:lnTo>
                      <a:pt x="556" y="76"/>
                    </a:lnTo>
                    <a:lnTo>
                      <a:pt x="422" y="141"/>
                    </a:lnTo>
                    <a:lnTo>
                      <a:pt x="197" y="151"/>
                    </a:lnTo>
                    <a:lnTo>
                      <a:pt x="301" y="344"/>
                    </a:lnTo>
                    <a:lnTo>
                      <a:pt x="349" y="558"/>
                    </a:lnTo>
                    <a:lnTo>
                      <a:pt x="379" y="795"/>
                    </a:lnTo>
                    <a:lnTo>
                      <a:pt x="372" y="978"/>
                    </a:lnTo>
                    <a:lnTo>
                      <a:pt x="338" y="1171"/>
                    </a:lnTo>
                    <a:lnTo>
                      <a:pt x="372" y="1386"/>
                    </a:lnTo>
                    <a:lnTo>
                      <a:pt x="441" y="1598"/>
                    </a:lnTo>
                    <a:lnTo>
                      <a:pt x="556" y="1718"/>
                    </a:lnTo>
                    <a:lnTo>
                      <a:pt x="525" y="1771"/>
                    </a:lnTo>
                    <a:lnTo>
                      <a:pt x="411" y="1819"/>
                    </a:lnTo>
                    <a:lnTo>
                      <a:pt x="432" y="1953"/>
                    </a:lnTo>
                    <a:lnTo>
                      <a:pt x="338" y="2008"/>
                    </a:lnTo>
                    <a:lnTo>
                      <a:pt x="246" y="2043"/>
                    </a:lnTo>
                    <a:lnTo>
                      <a:pt x="176" y="2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894200" y="1673280"/>
                <a:ext cx="166680" cy="243000"/>
              </a:xfrm>
              <a:custGeom>
                <a:avLst/>
                <a:gdLst/>
                <a:ahLst/>
                <a:rect l="l" t="t" r="r" b="b"/>
                <a:pathLst>
                  <a:path w="846" h="1230">
                    <a:moveTo>
                      <a:pt x="355" y="0"/>
                    </a:moveTo>
                    <a:lnTo>
                      <a:pt x="182" y="577"/>
                    </a:lnTo>
                    <a:lnTo>
                      <a:pt x="182" y="613"/>
                    </a:lnTo>
                    <a:lnTo>
                      <a:pt x="581" y="519"/>
                    </a:lnTo>
                    <a:lnTo>
                      <a:pt x="643" y="556"/>
                    </a:lnTo>
                    <a:lnTo>
                      <a:pt x="619" y="628"/>
                    </a:lnTo>
                    <a:lnTo>
                      <a:pt x="397" y="796"/>
                    </a:lnTo>
                    <a:lnTo>
                      <a:pt x="376" y="835"/>
                    </a:lnTo>
                    <a:lnTo>
                      <a:pt x="775" y="944"/>
                    </a:lnTo>
                    <a:lnTo>
                      <a:pt x="775" y="1045"/>
                    </a:lnTo>
                    <a:lnTo>
                      <a:pt x="241" y="973"/>
                    </a:lnTo>
                    <a:lnTo>
                      <a:pt x="0" y="1112"/>
                    </a:lnTo>
                    <a:lnTo>
                      <a:pt x="0" y="1132"/>
                    </a:lnTo>
                    <a:lnTo>
                      <a:pt x="367" y="1079"/>
                    </a:lnTo>
                    <a:lnTo>
                      <a:pt x="846" y="1230"/>
                    </a:lnTo>
                    <a:lnTo>
                      <a:pt x="722" y="577"/>
                    </a:lnTo>
                    <a:lnTo>
                      <a:pt x="581" y="478"/>
                    </a:lnTo>
                    <a:lnTo>
                      <a:pt x="509" y="478"/>
                    </a:lnTo>
                    <a:lnTo>
                      <a:pt x="404" y="92"/>
                    </a:lnTo>
                    <a:lnTo>
                      <a:pt x="3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805280" y="1916280"/>
                <a:ext cx="276480" cy="239400"/>
              </a:xfrm>
              <a:custGeom>
                <a:avLst/>
                <a:gdLst/>
                <a:ahLst/>
                <a:rect l="l" t="t" r="r" b="b"/>
                <a:pathLst>
                  <a:path w="1390" h="1202">
                    <a:moveTo>
                      <a:pt x="1288" y="0"/>
                    </a:moveTo>
                    <a:lnTo>
                      <a:pt x="1288" y="124"/>
                    </a:lnTo>
                    <a:lnTo>
                      <a:pt x="769" y="499"/>
                    </a:lnTo>
                    <a:lnTo>
                      <a:pt x="980" y="400"/>
                    </a:lnTo>
                    <a:lnTo>
                      <a:pt x="1111" y="622"/>
                    </a:lnTo>
                    <a:lnTo>
                      <a:pt x="355" y="705"/>
                    </a:lnTo>
                    <a:lnTo>
                      <a:pt x="152" y="644"/>
                    </a:lnTo>
                    <a:lnTo>
                      <a:pt x="399" y="743"/>
                    </a:lnTo>
                    <a:lnTo>
                      <a:pt x="445" y="804"/>
                    </a:lnTo>
                    <a:lnTo>
                      <a:pt x="459" y="859"/>
                    </a:lnTo>
                    <a:lnTo>
                      <a:pt x="445" y="908"/>
                    </a:lnTo>
                    <a:lnTo>
                      <a:pt x="404" y="928"/>
                    </a:lnTo>
                    <a:lnTo>
                      <a:pt x="329" y="936"/>
                    </a:lnTo>
                    <a:lnTo>
                      <a:pt x="276" y="976"/>
                    </a:lnTo>
                    <a:lnTo>
                      <a:pt x="152" y="1071"/>
                    </a:lnTo>
                    <a:lnTo>
                      <a:pt x="0" y="1202"/>
                    </a:lnTo>
                    <a:lnTo>
                      <a:pt x="221" y="1046"/>
                    </a:lnTo>
                    <a:lnTo>
                      <a:pt x="399" y="989"/>
                    </a:lnTo>
                    <a:lnTo>
                      <a:pt x="542" y="970"/>
                    </a:lnTo>
                    <a:lnTo>
                      <a:pt x="624" y="936"/>
                    </a:lnTo>
                    <a:lnTo>
                      <a:pt x="899" y="936"/>
                    </a:lnTo>
                    <a:lnTo>
                      <a:pt x="1134" y="896"/>
                    </a:lnTo>
                    <a:lnTo>
                      <a:pt x="1307" y="804"/>
                    </a:lnTo>
                    <a:lnTo>
                      <a:pt x="1371" y="776"/>
                    </a:lnTo>
                    <a:lnTo>
                      <a:pt x="1362" y="644"/>
                    </a:lnTo>
                    <a:lnTo>
                      <a:pt x="1390" y="400"/>
                    </a:lnTo>
                    <a:lnTo>
                      <a:pt x="1378" y="205"/>
                    </a:lnTo>
                    <a:lnTo>
                      <a:pt x="1362" y="82"/>
                    </a:lnTo>
                    <a:lnTo>
                      <a:pt x="1323" y="34"/>
                    </a:lnTo>
                    <a:lnTo>
                      <a:pt x="1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689360" y="2031840"/>
                <a:ext cx="149400" cy="130320"/>
              </a:xfrm>
              <a:custGeom>
                <a:avLst/>
                <a:gdLst/>
                <a:ahLst/>
                <a:rect l="l" t="t" r="r" b="b"/>
                <a:pathLst>
                  <a:path w="747" h="662">
                    <a:moveTo>
                      <a:pt x="677" y="42"/>
                    </a:moveTo>
                    <a:lnTo>
                      <a:pt x="331" y="0"/>
                    </a:lnTo>
                    <a:lnTo>
                      <a:pt x="290" y="21"/>
                    </a:lnTo>
                    <a:lnTo>
                      <a:pt x="52" y="356"/>
                    </a:lnTo>
                    <a:lnTo>
                      <a:pt x="22" y="519"/>
                    </a:lnTo>
                    <a:lnTo>
                      <a:pt x="0" y="662"/>
                    </a:lnTo>
                    <a:lnTo>
                      <a:pt x="31" y="662"/>
                    </a:lnTo>
                    <a:lnTo>
                      <a:pt x="123" y="604"/>
                    </a:lnTo>
                    <a:lnTo>
                      <a:pt x="22" y="644"/>
                    </a:lnTo>
                    <a:lnTo>
                      <a:pt x="66" y="418"/>
                    </a:lnTo>
                    <a:lnTo>
                      <a:pt x="92" y="328"/>
                    </a:lnTo>
                    <a:lnTo>
                      <a:pt x="319" y="53"/>
                    </a:lnTo>
                    <a:lnTo>
                      <a:pt x="391" y="53"/>
                    </a:lnTo>
                    <a:lnTo>
                      <a:pt x="747" y="73"/>
                    </a:lnTo>
                    <a:lnTo>
                      <a:pt x="67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710240" y="2060640"/>
                <a:ext cx="77760" cy="114120"/>
              </a:xfrm>
              <a:custGeom>
                <a:avLst/>
                <a:gdLst/>
                <a:ahLst/>
                <a:rect l="l" t="t" r="r" b="b"/>
                <a:pathLst>
                  <a:path w="391" h="583">
                    <a:moveTo>
                      <a:pt x="279" y="0"/>
                    </a:moveTo>
                    <a:lnTo>
                      <a:pt x="126" y="191"/>
                    </a:lnTo>
                    <a:lnTo>
                      <a:pt x="62" y="297"/>
                    </a:lnTo>
                    <a:lnTo>
                      <a:pt x="0" y="583"/>
                    </a:lnTo>
                    <a:lnTo>
                      <a:pt x="75" y="560"/>
                    </a:lnTo>
                    <a:lnTo>
                      <a:pt x="147" y="501"/>
                    </a:lnTo>
                    <a:lnTo>
                      <a:pt x="209" y="387"/>
                    </a:lnTo>
                    <a:lnTo>
                      <a:pt x="290" y="253"/>
                    </a:lnTo>
                    <a:lnTo>
                      <a:pt x="391" y="157"/>
                    </a:lnTo>
                    <a:lnTo>
                      <a:pt x="279" y="247"/>
                    </a:lnTo>
                    <a:lnTo>
                      <a:pt x="174" y="398"/>
                    </a:lnTo>
                    <a:lnTo>
                      <a:pt x="115" y="501"/>
                    </a:lnTo>
                    <a:lnTo>
                      <a:pt x="41" y="541"/>
                    </a:lnTo>
                    <a:lnTo>
                      <a:pt x="83" y="297"/>
                    </a:lnTo>
                    <a:lnTo>
                      <a:pt x="147" y="185"/>
                    </a:lnTo>
                    <a:lnTo>
                      <a:pt x="2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737240" y="2108160"/>
                <a:ext cx="126720" cy="66600"/>
              </a:xfrm>
              <a:custGeom>
                <a:avLst/>
                <a:gdLst/>
                <a:ahLst/>
                <a:rect l="l" t="t" r="r" b="b"/>
                <a:pathLst>
                  <a:path w="642" h="336">
                    <a:moveTo>
                      <a:pt x="20" y="201"/>
                    </a:moveTo>
                    <a:lnTo>
                      <a:pt x="20" y="294"/>
                    </a:lnTo>
                    <a:lnTo>
                      <a:pt x="133" y="254"/>
                    </a:lnTo>
                    <a:lnTo>
                      <a:pt x="244" y="120"/>
                    </a:lnTo>
                    <a:lnTo>
                      <a:pt x="354" y="0"/>
                    </a:lnTo>
                    <a:lnTo>
                      <a:pt x="284" y="120"/>
                    </a:lnTo>
                    <a:lnTo>
                      <a:pt x="214" y="201"/>
                    </a:lnTo>
                    <a:lnTo>
                      <a:pt x="194" y="232"/>
                    </a:lnTo>
                    <a:lnTo>
                      <a:pt x="264" y="232"/>
                    </a:lnTo>
                    <a:lnTo>
                      <a:pt x="339" y="214"/>
                    </a:lnTo>
                    <a:lnTo>
                      <a:pt x="521" y="76"/>
                    </a:lnTo>
                    <a:lnTo>
                      <a:pt x="642" y="6"/>
                    </a:lnTo>
                    <a:lnTo>
                      <a:pt x="479" y="140"/>
                    </a:lnTo>
                    <a:lnTo>
                      <a:pt x="369" y="232"/>
                    </a:lnTo>
                    <a:lnTo>
                      <a:pt x="284" y="254"/>
                    </a:lnTo>
                    <a:lnTo>
                      <a:pt x="172" y="263"/>
                    </a:lnTo>
                    <a:lnTo>
                      <a:pt x="60" y="325"/>
                    </a:lnTo>
                    <a:lnTo>
                      <a:pt x="0" y="336"/>
                    </a:lnTo>
                    <a:lnTo>
                      <a:pt x="0" y="263"/>
                    </a:lnTo>
                    <a:lnTo>
                      <a:pt x="20" y="20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0" name=""/>
              <p:cNvSpPr/>
              <p:nvPr/>
            </p:nvSpPr>
            <p:spPr>
              <a:xfrm>
                <a:off x="4673520" y="2117880"/>
                <a:ext cx="23760" cy="20520"/>
              </a:xfrm>
              <a:custGeom>
                <a:avLst/>
                <a:gdLst/>
                <a:ahLst/>
                <a:rect l="l" t="t" r="r" b="b"/>
                <a:pathLst>
                  <a:path w="119" h="110">
                    <a:moveTo>
                      <a:pt x="119" y="0"/>
                    </a:moveTo>
                    <a:lnTo>
                      <a:pt x="59" y="35"/>
                    </a:lnTo>
                    <a:lnTo>
                      <a:pt x="0" y="72"/>
                    </a:lnTo>
                    <a:lnTo>
                      <a:pt x="20" y="88"/>
                    </a:lnTo>
                    <a:lnTo>
                      <a:pt x="59" y="99"/>
                    </a:lnTo>
                    <a:lnTo>
                      <a:pt x="101" y="110"/>
                    </a:lnTo>
                    <a:lnTo>
                      <a:pt x="119"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81" name=""/>
              <p:cNvSpPr/>
              <p:nvPr/>
            </p:nvSpPr>
            <p:spPr>
              <a:xfrm>
                <a:off x="5046840" y="1409760"/>
                <a:ext cx="419040" cy="569880"/>
              </a:xfrm>
              <a:custGeom>
                <a:avLst/>
                <a:gdLst/>
                <a:ahLst/>
                <a:rect l="l" t="t" r="r" b="b"/>
                <a:pathLst>
                  <a:path w="2116" h="2873">
                    <a:moveTo>
                      <a:pt x="774" y="2560"/>
                    </a:moveTo>
                    <a:lnTo>
                      <a:pt x="495" y="2587"/>
                    </a:lnTo>
                    <a:lnTo>
                      <a:pt x="152" y="2569"/>
                    </a:lnTo>
                    <a:lnTo>
                      <a:pt x="71" y="2534"/>
                    </a:lnTo>
                    <a:lnTo>
                      <a:pt x="0" y="2172"/>
                    </a:lnTo>
                    <a:lnTo>
                      <a:pt x="101" y="1974"/>
                    </a:lnTo>
                    <a:lnTo>
                      <a:pt x="238" y="1725"/>
                    </a:lnTo>
                    <a:lnTo>
                      <a:pt x="288" y="1501"/>
                    </a:lnTo>
                    <a:lnTo>
                      <a:pt x="288" y="958"/>
                    </a:lnTo>
                    <a:lnTo>
                      <a:pt x="325" y="633"/>
                    </a:lnTo>
                    <a:lnTo>
                      <a:pt x="396" y="342"/>
                    </a:lnTo>
                    <a:lnTo>
                      <a:pt x="429" y="316"/>
                    </a:lnTo>
                    <a:lnTo>
                      <a:pt x="607" y="268"/>
                    </a:lnTo>
                    <a:lnTo>
                      <a:pt x="913" y="187"/>
                    </a:lnTo>
                    <a:lnTo>
                      <a:pt x="1152" y="72"/>
                    </a:lnTo>
                    <a:lnTo>
                      <a:pt x="1341" y="9"/>
                    </a:lnTo>
                    <a:lnTo>
                      <a:pt x="1381" y="0"/>
                    </a:lnTo>
                    <a:lnTo>
                      <a:pt x="1431" y="58"/>
                    </a:lnTo>
                    <a:lnTo>
                      <a:pt x="1549" y="46"/>
                    </a:lnTo>
                    <a:lnTo>
                      <a:pt x="1549" y="342"/>
                    </a:lnTo>
                    <a:lnTo>
                      <a:pt x="1688" y="701"/>
                    </a:lnTo>
                    <a:lnTo>
                      <a:pt x="1549" y="492"/>
                    </a:lnTo>
                    <a:lnTo>
                      <a:pt x="1538" y="846"/>
                    </a:lnTo>
                    <a:lnTo>
                      <a:pt x="1572" y="1411"/>
                    </a:lnTo>
                    <a:lnTo>
                      <a:pt x="1598" y="1944"/>
                    </a:lnTo>
                    <a:lnTo>
                      <a:pt x="1618" y="2232"/>
                    </a:lnTo>
                    <a:lnTo>
                      <a:pt x="1660" y="2516"/>
                    </a:lnTo>
                    <a:lnTo>
                      <a:pt x="1846" y="2481"/>
                    </a:lnTo>
                    <a:lnTo>
                      <a:pt x="1974" y="2437"/>
                    </a:lnTo>
                    <a:lnTo>
                      <a:pt x="2116" y="2380"/>
                    </a:lnTo>
                    <a:lnTo>
                      <a:pt x="1948" y="2468"/>
                    </a:lnTo>
                    <a:lnTo>
                      <a:pt x="1727" y="2527"/>
                    </a:lnTo>
                    <a:lnTo>
                      <a:pt x="1482" y="2576"/>
                    </a:lnTo>
                    <a:lnTo>
                      <a:pt x="1459" y="2703"/>
                    </a:lnTo>
                    <a:lnTo>
                      <a:pt x="1459" y="2516"/>
                    </a:lnTo>
                    <a:lnTo>
                      <a:pt x="1310" y="2043"/>
                    </a:lnTo>
                    <a:lnTo>
                      <a:pt x="1211" y="2004"/>
                    </a:lnTo>
                    <a:lnTo>
                      <a:pt x="1139" y="2017"/>
                    </a:lnTo>
                    <a:lnTo>
                      <a:pt x="1106" y="2055"/>
                    </a:lnTo>
                    <a:lnTo>
                      <a:pt x="1090" y="2114"/>
                    </a:lnTo>
                    <a:lnTo>
                      <a:pt x="954" y="2123"/>
                    </a:lnTo>
                    <a:lnTo>
                      <a:pt x="948" y="2191"/>
                    </a:lnTo>
                    <a:lnTo>
                      <a:pt x="1123" y="2668"/>
                    </a:lnTo>
                    <a:lnTo>
                      <a:pt x="1270" y="2843"/>
                    </a:lnTo>
                    <a:lnTo>
                      <a:pt x="1291" y="2832"/>
                    </a:lnTo>
                    <a:lnTo>
                      <a:pt x="1251" y="2499"/>
                    </a:lnTo>
                    <a:lnTo>
                      <a:pt x="1171" y="2279"/>
                    </a:lnTo>
                    <a:lnTo>
                      <a:pt x="1310" y="2576"/>
                    </a:lnTo>
                    <a:lnTo>
                      <a:pt x="1392" y="2675"/>
                    </a:lnTo>
                    <a:lnTo>
                      <a:pt x="1301" y="2595"/>
                    </a:lnTo>
                    <a:lnTo>
                      <a:pt x="1282" y="2560"/>
                    </a:lnTo>
                    <a:lnTo>
                      <a:pt x="1332" y="2826"/>
                    </a:lnTo>
                    <a:lnTo>
                      <a:pt x="1310" y="2873"/>
                    </a:lnTo>
                    <a:lnTo>
                      <a:pt x="1261" y="2873"/>
                    </a:lnTo>
                    <a:lnTo>
                      <a:pt x="1171" y="2784"/>
                    </a:lnTo>
                    <a:lnTo>
                      <a:pt x="1114" y="2784"/>
                    </a:lnTo>
                    <a:lnTo>
                      <a:pt x="1065" y="2767"/>
                    </a:lnTo>
                    <a:lnTo>
                      <a:pt x="1024" y="2776"/>
                    </a:lnTo>
                    <a:lnTo>
                      <a:pt x="844" y="2696"/>
                    </a:lnTo>
                    <a:lnTo>
                      <a:pt x="816" y="2637"/>
                    </a:lnTo>
                    <a:lnTo>
                      <a:pt x="862" y="2675"/>
                    </a:lnTo>
                    <a:lnTo>
                      <a:pt x="954" y="2668"/>
                    </a:lnTo>
                    <a:lnTo>
                      <a:pt x="858" y="2527"/>
                    </a:lnTo>
                    <a:lnTo>
                      <a:pt x="973" y="2648"/>
                    </a:lnTo>
                    <a:lnTo>
                      <a:pt x="1065" y="2648"/>
                    </a:lnTo>
                    <a:lnTo>
                      <a:pt x="1072" y="2613"/>
                    </a:lnTo>
                    <a:lnTo>
                      <a:pt x="924" y="2232"/>
                    </a:lnTo>
                    <a:lnTo>
                      <a:pt x="835" y="2272"/>
                    </a:lnTo>
                    <a:lnTo>
                      <a:pt x="807" y="2362"/>
                    </a:lnTo>
                    <a:lnTo>
                      <a:pt x="835" y="2486"/>
                    </a:lnTo>
                    <a:lnTo>
                      <a:pt x="793" y="2430"/>
                    </a:lnTo>
                    <a:lnTo>
                      <a:pt x="774" y="2451"/>
                    </a:lnTo>
                    <a:lnTo>
                      <a:pt x="774" y="2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127480" y="1949400"/>
                <a:ext cx="104760" cy="19080"/>
              </a:xfrm>
              <a:custGeom>
                <a:avLst/>
                <a:gdLst/>
                <a:ahLst/>
                <a:rect l="l" t="t" r="r" b="b"/>
                <a:pathLst>
                  <a:path w="525" h="97">
                    <a:moveTo>
                      <a:pt x="525" y="7"/>
                    </a:moveTo>
                    <a:lnTo>
                      <a:pt x="255" y="66"/>
                    </a:lnTo>
                    <a:lnTo>
                      <a:pt x="0" y="97"/>
                    </a:lnTo>
                    <a:lnTo>
                      <a:pt x="255" y="58"/>
                    </a:lnTo>
                    <a:lnTo>
                      <a:pt x="474" y="0"/>
                    </a:lnTo>
                    <a:lnTo>
                      <a:pt x="525"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3" name=""/>
              <p:cNvSpPr/>
              <p:nvPr/>
            </p:nvSpPr>
            <p:spPr>
              <a:xfrm>
                <a:off x="5416560" y="1506600"/>
                <a:ext cx="146160" cy="460440"/>
              </a:xfrm>
              <a:custGeom>
                <a:avLst/>
                <a:gdLst/>
                <a:ahLst/>
                <a:rect l="l" t="t" r="r" b="b"/>
                <a:pathLst>
                  <a:path w="737" h="2321">
                    <a:moveTo>
                      <a:pt x="102" y="0"/>
                    </a:moveTo>
                    <a:lnTo>
                      <a:pt x="102" y="115"/>
                    </a:lnTo>
                    <a:lnTo>
                      <a:pt x="0" y="418"/>
                    </a:lnTo>
                    <a:lnTo>
                      <a:pt x="14" y="431"/>
                    </a:lnTo>
                    <a:lnTo>
                      <a:pt x="133" y="99"/>
                    </a:lnTo>
                    <a:lnTo>
                      <a:pt x="221" y="179"/>
                    </a:lnTo>
                    <a:lnTo>
                      <a:pt x="244" y="249"/>
                    </a:lnTo>
                    <a:lnTo>
                      <a:pt x="172" y="453"/>
                    </a:lnTo>
                    <a:lnTo>
                      <a:pt x="143" y="642"/>
                    </a:lnTo>
                    <a:lnTo>
                      <a:pt x="133" y="947"/>
                    </a:lnTo>
                    <a:lnTo>
                      <a:pt x="143" y="1293"/>
                    </a:lnTo>
                    <a:lnTo>
                      <a:pt x="184" y="1925"/>
                    </a:lnTo>
                    <a:lnTo>
                      <a:pt x="210" y="1917"/>
                    </a:lnTo>
                    <a:lnTo>
                      <a:pt x="172" y="938"/>
                    </a:lnTo>
                    <a:lnTo>
                      <a:pt x="201" y="603"/>
                    </a:lnTo>
                    <a:lnTo>
                      <a:pt x="253" y="387"/>
                    </a:lnTo>
                    <a:lnTo>
                      <a:pt x="350" y="218"/>
                    </a:lnTo>
                    <a:lnTo>
                      <a:pt x="283" y="218"/>
                    </a:lnTo>
                    <a:lnTo>
                      <a:pt x="184" y="80"/>
                    </a:lnTo>
                    <a:lnTo>
                      <a:pt x="201" y="18"/>
                    </a:lnTo>
                    <a:lnTo>
                      <a:pt x="350" y="60"/>
                    </a:lnTo>
                    <a:lnTo>
                      <a:pt x="392" y="227"/>
                    </a:lnTo>
                    <a:lnTo>
                      <a:pt x="469" y="565"/>
                    </a:lnTo>
                    <a:lnTo>
                      <a:pt x="500" y="862"/>
                    </a:lnTo>
                    <a:lnTo>
                      <a:pt x="519" y="1262"/>
                    </a:lnTo>
                    <a:lnTo>
                      <a:pt x="541" y="1534"/>
                    </a:lnTo>
                    <a:lnTo>
                      <a:pt x="590" y="1869"/>
                    </a:lnTo>
                    <a:lnTo>
                      <a:pt x="638" y="2104"/>
                    </a:lnTo>
                    <a:lnTo>
                      <a:pt x="689" y="2301"/>
                    </a:lnTo>
                    <a:lnTo>
                      <a:pt x="737" y="2321"/>
                    </a:lnTo>
                    <a:lnTo>
                      <a:pt x="638" y="1925"/>
                    </a:lnTo>
                    <a:lnTo>
                      <a:pt x="590" y="1572"/>
                    </a:lnTo>
                    <a:lnTo>
                      <a:pt x="562" y="1255"/>
                    </a:lnTo>
                    <a:lnTo>
                      <a:pt x="541" y="938"/>
                    </a:lnTo>
                    <a:lnTo>
                      <a:pt x="519" y="702"/>
                    </a:lnTo>
                    <a:lnTo>
                      <a:pt x="489" y="495"/>
                    </a:lnTo>
                    <a:lnTo>
                      <a:pt x="449" y="297"/>
                    </a:lnTo>
                    <a:lnTo>
                      <a:pt x="401" y="106"/>
                    </a:lnTo>
                    <a:lnTo>
                      <a:pt x="378" y="53"/>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527800" y="1393920"/>
                <a:ext cx="392040" cy="630000"/>
              </a:xfrm>
              <a:custGeom>
                <a:avLst/>
                <a:gdLst/>
                <a:ahLst/>
                <a:rect l="l" t="t" r="r" b="b"/>
                <a:pathLst>
                  <a:path w="1973" h="3170">
                    <a:moveTo>
                      <a:pt x="67" y="563"/>
                    </a:moveTo>
                    <a:lnTo>
                      <a:pt x="0" y="869"/>
                    </a:lnTo>
                    <a:lnTo>
                      <a:pt x="136" y="572"/>
                    </a:lnTo>
                    <a:lnTo>
                      <a:pt x="274" y="970"/>
                    </a:lnTo>
                    <a:lnTo>
                      <a:pt x="344" y="1394"/>
                    </a:lnTo>
                    <a:lnTo>
                      <a:pt x="383" y="1847"/>
                    </a:lnTo>
                    <a:lnTo>
                      <a:pt x="376" y="2211"/>
                    </a:lnTo>
                    <a:lnTo>
                      <a:pt x="351" y="2596"/>
                    </a:lnTo>
                    <a:lnTo>
                      <a:pt x="316" y="2822"/>
                    </a:lnTo>
                    <a:lnTo>
                      <a:pt x="272" y="2893"/>
                    </a:lnTo>
                    <a:lnTo>
                      <a:pt x="1821" y="3170"/>
                    </a:lnTo>
                    <a:lnTo>
                      <a:pt x="1973" y="2728"/>
                    </a:lnTo>
                    <a:lnTo>
                      <a:pt x="1893" y="2548"/>
                    </a:lnTo>
                    <a:lnTo>
                      <a:pt x="1836" y="2104"/>
                    </a:lnTo>
                    <a:lnTo>
                      <a:pt x="1715" y="1687"/>
                    </a:lnTo>
                    <a:lnTo>
                      <a:pt x="1544" y="1431"/>
                    </a:lnTo>
                    <a:lnTo>
                      <a:pt x="1586" y="1346"/>
                    </a:lnTo>
                    <a:lnTo>
                      <a:pt x="1575" y="1298"/>
                    </a:lnTo>
                    <a:lnTo>
                      <a:pt x="1544" y="1245"/>
                    </a:lnTo>
                    <a:lnTo>
                      <a:pt x="1506" y="1205"/>
                    </a:lnTo>
                    <a:lnTo>
                      <a:pt x="1467" y="1185"/>
                    </a:lnTo>
                    <a:lnTo>
                      <a:pt x="1432" y="887"/>
                    </a:lnTo>
                    <a:lnTo>
                      <a:pt x="1386" y="603"/>
                    </a:lnTo>
                    <a:lnTo>
                      <a:pt x="1316" y="357"/>
                    </a:lnTo>
                    <a:lnTo>
                      <a:pt x="984" y="230"/>
                    </a:lnTo>
                    <a:lnTo>
                      <a:pt x="791" y="205"/>
                    </a:lnTo>
                    <a:lnTo>
                      <a:pt x="503" y="168"/>
                    </a:lnTo>
                    <a:lnTo>
                      <a:pt x="316" y="108"/>
                    </a:lnTo>
                    <a:lnTo>
                      <a:pt x="136" y="0"/>
                    </a:lnTo>
                    <a:lnTo>
                      <a:pt x="168" y="295"/>
                    </a:lnTo>
                    <a:lnTo>
                      <a:pt x="157" y="408"/>
                    </a:lnTo>
                    <a:lnTo>
                      <a:pt x="104" y="524"/>
                    </a:lnTo>
                    <a:lnTo>
                      <a:pt x="67"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5127480" y="1882800"/>
                <a:ext cx="576360" cy="318960"/>
              </a:xfrm>
              <a:custGeom>
                <a:avLst/>
                <a:gdLst/>
                <a:ahLst/>
                <a:rect l="l" t="t" r="r" b="b"/>
                <a:pathLst>
                  <a:path w="2906" h="1607">
                    <a:moveTo>
                      <a:pt x="0" y="424"/>
                    </a:moveTo>
                    <a:lnTo>
                      <a:pt x="198" y="881"/>
                    </a:lnTo>
                    <a:lnTo>
                      <a:pt x="283" y="1063"/>
                    </a:lnTo>
                    <a:lnTo>
                      <a:pt x="382" y="1206"/>
                    </a:lnTo>
                    <a:lnTo>
                      <a:pt x="488" y="1319"/>
                    </a:lnTo>
                    <a:lnTo>
                      <a:pt x="596" y="1407"/>
                    </a:lnTo>
                    <a:lnTo>
                      <a:pt x="705" y="1473"/>
                    </a:lnTo>
                    <a:lnTo>
                      <a:pt x="840" y="1524"/>
                    </a:lnTo>
                    <a:lnTo>
                      <a:pt x="1007" y="1572"/>
                    </a:lnTo>
                    <a:lnTo>
                      <a:pt x="1235" y="1598"/>
                    </a:lnTo>
                    <a:lnTo>
                      <a:pt x="1437" y="1607"/>
                    </a:lnTo>
                    <a:lnTo>
                      <a:pt x="1675" y="1598"/>
                    </a:lnTo>
                    <a:lnTo>
                      <a:pt x="1892" y="1578"/>
                    </a:lnTo>
                    <a:lnTo>
                      <a:pt x="2101" y="1534"/>
                    </a:lnTo>
                    <a:lnTo>
                      <a:pt x="2297" y="1485"/>
                    </a:lnTo>
                    <a:lnTo>
                      <a:pt x="2514" y="1446"/>
                    </a:lnTo>
                    <a:lnTo>
                      <a:pt x="2729" y="1431"/>
                    </a:lnTo>
                    <a:lnTo>
                      <a:pt x="2906" y="1431"/>
                    </a:lnTo>
                    <a:lnTo>
                      <a:pt x="2671" y="1367"/>
                    </a:lnTo>
                    <a:lnTo>
                      <a:pt x="2473" y="1257"/>
                    </a:lnTo>
                    <a:lnTo>
                      <a:pt x="2288" y="1095"/>
                    </a:lnTo>
                    <a:lnTo>
                      <a:pt x="2154" y="941"/>
                    </a:lnTo>
                    <a:lnTo>
                      <a:pt x="2070" y="811"/>
                    </a:lnTo>
                    <a:lnTo>
                      <a:pt x="1866" y="383"/>
                    </a:lnTo>
                    <a:lnTo>
                      <a:pt x="1751" y="143"/>
                    </a:lnTo>
                    <a:lnTo>
                      <a:pt x="169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5113440" y="2079720"/>
                <a:ext cx="388800" cy="128520"/>
              </a:xfrm>
              <a:custGeom>
                <a:avLst/>
                <a:gdLst/>
                <a:ahLst/>
                <a:rect l="l" t="t" r="r" b="b"/>
                <a:pathLst>
                  <a:path w="1964" h="646">
                    <a:moveTo>
                      <a:pt x="1964" y="587"/>
                    </a:moveTo>
                    <a:lnTo>
                      <a:pt x="1628" y="630"/>
                    </a:lnTo>
                    <a:lnTo>
                      <a:pt x="1250" y="646"/>
                    </a:lnTo>
                    <a:lnTo>
                      <a:pt x="924" y="625"/>
                    </a:lnTo>
                    <a:lnTo>
                      <a:pt x="716" y="563"/>
                    </a:lnTo>
                    <a:lnTo>
                      <a:pt x="542" y="488"/>
                    </a:lnTo>
                    <a:lnTo>
                      <a:pt x="355" y="367"/>
                    </a:lnTo>
                    <a:lnTo>
                      <a:pt x="175" y="215"/>
                    </a:lnTo>
                    <a:lnTo>
                      <a:pt x="0" y="72"/>
                    </a:lnTo>
                    <a:lnTo>
                      <a:pt x="325" y="0"/>
                    </a:lnTo>
                    <a:lnTo>
                      <a:pt x="415" y="160"/>
                    </a:lnTo>
                    <a:lnTo>
                      <a:pt x="551" y="319"/>
                    </a:lnTo>
                    <a:lnTo>
                      <a:pt x="703" y="436"/>
                    </a:lnTo>
                    <a:lnTo>
                      <a:pt x="866" y="510"/>
                    </a:lnTo>
                    <a:lnTo>
                      <a:pt x="1079" y="581"/>
                    </a:lnTo>
                    <a:lnTo>
                      <a:pt x="1323" y="607"/>
                    </a:lnTo>
                    <a:lnTo>
                      <a:pt x="1505" y="616"/>
                    </a:lnTo>
                    <a:lnTo>
                      <a:pt x="1674" y="609"/>
                    </a:lnTo>
                    <a:lnTo>
                      <a:pt x="1964" y="5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V="1">
                <a:off x="4478400" y="2112480"/>
                <a:ext cx="1238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8" name=""/>
              <p:cNvSpPr/>
              <p:nvPr/>
            </p:nvSpPr>
            <p:spPr>
              <a:xfrm>
                <a:off x="4618080" y="2097000"/>
                <a:ext cx="71280" cy="34920"/>
              </a:xfrm>
              <a:custGeom>
                <a:avLst/>
                <a:gdLst/>
                <a:ahLst/>
                <a:rect l="l" t="t" r="r" b="b"/>
                <a:pathLst>
                  <a:path w="360" h="173">
                    <a:moveTo>
                      <a:pt x="0" y="49"/>
                    </a:moveTo>
                    <a:lnTo>
                      <a:pt x="173" y="0"/>
                    </a:lnTo>
                    <a:lnTo>
                      <a:pt x="360" y="17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89" name=""/>
              <p:cNvSpPr/>
              <p:nvPr/>
            </p:nvSpPr>
            <p:spPr>
              <a:xfrm>
                <a:off x="4425840" y="2166840"/>
                <a:ext cx="451080" cy="284400"/>
              </a:xfrm>
              <a:custGeom>
                <a:avLst/>
                <a:gdLst/>
                <a:ahLst/>
                <a:rect l="l" t="t" r="r" b="b"/>
                <a:pathLst>
                  <a:path w="2271" h="1432">
                    <a:moveTo>
                      <a:pt x="1512" y="0"/>
                    </a:moveTo>
                    <a:lnTo>
                      <a:pt x="2271" y="727"/>
                    </a:lnTo>
                    <a:lnTo>
                      <a:pt x="762" y="1432"/>
                    </a:lnTo>
                    <a:lnTo>
                      <a:pt x="0" y="5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flipV="1">
                <a:off x="6054480" y="2146320"/>
                <a:ext cx="3474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1" name=""/>
              <p:cNvSpPr/>
              <p:nvPr/>
            </p:nvSpPr>
            <p:spPr>
              <a:xfrm>
                <a:off x="5554800" y="2119320"/>
                <a:ext cx="760320" cy="358920"/>
              </a:xfrm>
              <a:custGeom>
                <a:avLst/>
                <a:gdLst/>
                <a:ahLst/>
                <a:rect l="l" t="t" r="r" b="b"/>
                <a:pathLst>
                  <a:path w="3830" h="1808">
                    <a:moveTo>
                      <a:pt x="2353" y="110"/>
                    </a:moveTo>
                    <a:lnTo>
                      <a:pt x="1746" y="0"/>
                    </a:lnTo>
                    <a:lnTo>
                      <a:pt x="0" y="1096"/>
                    </a:lnTo>
                    <a:lnTo>
                      <a:pt x="3155" y="1808"/>
                    </a:lnTo>
                    <a:lnTo>
                      <a:pt x="3830" y="12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flipV="1">
                <a:off x="6224760" y="2085480"/>
                <a:ext cx="5126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flipV="1">
                <a:off x="6119640" y="2066400"/>
                <a:ext cx="59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4" name=""/>
              <p:cNvSpPr/>
              <p:nvPr/>
            </p:nvSpPr>
            <p:spPr>
              <a:xfrm flipH="1" flipV="1">
                <a:off x="5492880" y="1952640"/>
                <a:ext cx="503280" cy="9216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5" name=""/>
              <p:cNvSpPr/>
              <p:nvPr/>
            </p:nvSpPr>
            <p:spPr>
              <a:xfrm flipH="1">
                <a:off x="4452480" y="1979640"/>
                <a:ext cx="412920" cy="13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4151160" y="1557360"/>
                <a:ext cx="152640" cy="650880"/>
              </a:xfrm>
              <a:custGeom>
                <a:avLst/>
                <a:gdLst/>
                <a:ahLst/>
                <a:rect l="l" t="t" r="r" b="b"/>
                <a:pathLst>
                  <a:path w="765" h="3278">
                    <a:moveTo>
                      <a:pt x="40" y="85"/>
                    </a:moveTo>
                    <a:lnTo>
                      <a:pt x="40" y="1540"/>
                    </a:lnTo>
                    <a:lnTo>
                      <a:pt x="196" y="1446"/>
                    </a:lnTo>
                    <a:lnTo>
                      <a:pt x="339" y="1309"/>
                    </a:lnTo>
                    <a:lnTo>
                      <a:pt x="551" y="1118"/>
                    </a:lnTo>
                    <a:lnTo>
                      <a:pt x="706" y="1008"/>
                    </a:lnTo>
                    <a:lnTo>
                      <a:pt x="765" y="971"/>
                    </a:lnTo>
                    <a:lnTo>
                      <a:pt x="602" y="1367"/>
                    </a:lnTo>
                    <a:lnTo>
                      <a:pt x="473" y="1703"/>
                    </a:lnTo>
                    <a:lnTo>
                      <a:pt x="339" y="2041"/>
                    </a:lnTo>
                    <a:lnTo>
                      <a:pt x="244" y="2204"/>
                    </a:lnTo>
                    <a:lnTo>
                      <a:pt x="115" y="2384"/>
                    </a:lnTo>
                    <a:lnTo>
                      <a:pt x="78" y="2455"/>
                    </a:lnTo>
                    <a:lnTo>
                      <a:pt x="69" y="2571"/>
                    </a:lnTo>
                    <a:lnTo>
                      <a:pt x="106" y="2674"/>
                    </a:lnTo>
                    <a:lnTo>
                      <a:pt x="78" y="2877"/>
                    </a:lnTo>
                    <a:lnTo>
                      <a:pt x="78" y="2953"/>
                    </a:lnTo>
                    <a:lnTo>
                      <a:pt x="106" y="3061"/>
                    </a:lnTo>
                    <a:lnTo>
                      <a:pt x="203" y="3214"/>
                    </a:lnTo>
                    <a:lnTo>
                      <a:pt x="0" y="3278"/>
                    </a:lnTo>
                    <a:lnTo>
                      <a:pt x="0" y="0"/>
                    </a:lnTo>
                    <a:lnTo>
                      <a:pt x="4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430200" y="1959120"/>
              <a:ext cx="5742000" cy="1008000"/>
            </a:xfrm>
            <a:custGeom>
              <a:avLst/>
              <a:gdLst/>
              <a:ahLst/>
              <a:rect l="l" t="t" r="r" b="b"/>
              <a:pathLst>
                <a:path w="3617" h="635">
                  <a:moveTo>
                    <a:pt x="766" y="0"/>
                  </a:moveTo>
                  <a:cubicBezTo>
                    <a:pt x="697" y="24"/>
                    <a:pt x="625" y="23"/>
                    <a:pt x="554" y="38"/>
                  </a:cubicBezTo>
                  <a:cubicBezTo>
                    <a:pt x="358" y="81"/>
                    <a:pt x="541" y="49"/>
                    <a:pt x="379" y="75"/>
                  </a:cubicBezTo>
                  <a:cubicBezTo>
                    <a:pt x="336" y="108"/>
                    <a:pt x="287" y="120"/>
                    <a:pt x="254" y="163"/>
                  </a:cubicBezTo>
                  <a:cubicBezTo>
                    <a:pt x="207" y="225"/>
                    <a:pt x="224" y="235"/>
                    <a:pt x="166" y="263"/>
                  </a:cubicBezTo>
                  <a:cubicBezTo>
                    <a:pt x="128" y="282"/>
                    <a:pt x="81" y="287"/>
                    <a:pt x="41" y="300"/>
                  </a:cubicBezTo>
                  <a:cubicBezTo>
                    <a:pt x="0" y="314"/>
                    <a:pt x="4" y="300"/>
                    <a:pt x="4" y="325"/>
                  </a:cubicBezTo>
                  <a:lnTo>
                    <a:pt x="2417" y="635"/>
                  </a:lnTo>
                  <a:lnTo>
                    <a:pt x="3617" y="347"/>
                  </a:lnTo>
                  <a:lnTo>
                    <a:pt x="3233" y="251"/>
                  </a:lnTo>
                  <a:lnTo>
                    <a:pt x="2321" y="443"/>
                  </a:lnTo>
                  <a:lnTo>
                    <a:pt x="1601" y="155"/>
                  </a:lnTo>
                  <a:lnTo>
                    <a:pt x="766" y="0"/>
                  </a:lnTo>
                  <a:close/>
                </a:path>
              </a:pathLst>
            </a:custGeom>
            <a:gradFill rotWithShape="0">
              <a:gsLst>
                <a:gs pos="0">
                  <a:srgbClr val="ffcc00"/>
                </a:gs>
                <a:gs pos="100000">
                  <a:srgbClr val="ff6600"/>
                </a:gs>
              </a:gsLst>
              <a:lin ang="81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798" name=""/>
            <p:cNvGrpSpPr/>
            <p:nvPr/>
          </p:nvGrpSpPr>
          <p:grpSpPr>
            <a:xfrm>
              <a:off x="428760" y="1152360"/>
              <a:ext cx="2566800" cy="1327320"/>
              <a:chOff x="428760" y="1152360"/>
              <a:chExt cx="2566800" cy="1327320"/>
            </a:xfrm>
          </p:grpSpPr>
          <p:sp>
            <p:nvSpPr>
              <p:cNvPr id="799" name=""/>
              <p:cNvSpPr/>
              <p:nvPr/>
            </p:nvSpPr>
            <p:spPr>
              <a:xfrm>
                <a:off x="1876320" y="1676520"/>
                <a:ext cx="1119240" cy="623880"/>
              </a:xfrm>
              <a:custGeom>
                <a:avLst/>
                <a:gdLst/>
                <a:ahLst/>
                <a:rect l="l" t="t" r="r" b="b"/>
                <a:pathLst>
                  <a:path w="7052" h="3932">
                    <a:moveTo>
                      <a:pt x="1320" y="3932"/>
                    </a:moveTo>
                    <a:lnTo>
                      <a:pt x="0" y="3181"/>
                    </a:lnTo>
                    <a:lnTo>
                      <a:pt x="0" y="3150"/>
                    </a:lnTo>
                    <a:lnTo>
                      <a:pt x="1795" y="2474"/>
                    </a:lnTo>
                    <a:lnTo>
                      <a:pt x="1886" y="2474"/>
                    </a:lnTo>
                    <a:lnTo>
                      <a:pt x="1973" y="2504"/>
                    </a:lnTo>
                    <a:lnTo>
                      <a:pt x="2121" y="2548"/>
                    </a:lnTo>
                    <a:lnTo>
                      <a:pt x="2834" y="0"/>
                    </a:lnTo>
                    <a:lnTo>
                      <a:pt x="3980" y="0"/>
                    </a:lnTo>
                    <a:lnTo>
                      <a:pt x="4975" y="176"/>
                    </a:lnTo>
                    <a:lnTo>
                      <a:pt x="7052" y="1148"/>
                    </a:lnTo>
                    <a:lnTo>
                      <a:pt x="7052" y="3283"/>
                    </a:lnTo>
                    <a:lnTo>
                      <a:pt x="3207" y="3740"/>
                    </a:lnTo>
                    <a:lnTo>
                      <a:pt x="2775" y="3636"/>
                    </a:lnTo>
                    <a:lnTo>
                      <a:pt x="2775" y="3740"/>
                    </a:lnTo>
                    <a:lnTo>
                      <a:pt x="2659" y="3755"/>
                    </a:lnTo>
                    <a:lnTo>
                      <a:pt x="2583" y="3621"/>
                    </a:lnTo>
                    <a:lnTo>
                      <a:pt x="1320" y="39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2257560" y="1708200"/>
                <a:ext cx="206280" cy="411120"/>
              </a:xfrm>
              <a:custGeom>
                <a:avLst/>
                <a:gdLst/>
                <a:ahLst/>
                <a:rect l="l" t="t" r="r" b="b"/>
                <a:pathLst>
                  <a:path w="1293" h="2592">
                    <a:moveTo>
                      <a:pt x="1293" y="0"/>
                    </a:moveTo>
                    <a:lnTo>
                      <a:pt x="773" y="2592"/>
                    </a:lnTo>
                    <a:lnTo>
                      <a:pt x="0" y="2313"/>
                    </a:lnTo>
                    <a:lnTo>
                      <a:pt x="582" y="30"/>
                    </a:lnTo>
                    <a:lnTo>
                      <a:pt x="1293"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2319480" y="1752480"/>
                <a:ext cx="77760" cy="201600"/>
              </a:xfrm>
              <a:custGeom>
                <a:avLst/>
                <a:gdLst/>
                <a:ahLst/>
                <a:rect l="l" t="t" r="r" b="b"/>
                <a:pathLst>
                  <a:path w="489" h="1266">
                    <a:moveTo>
                      <a:pt x="313" y="0"/>
                    </a:moveTo>
                    <a:lnTo>
                      <a:pt x="207" y="277"/>
                    </a:lnTo>
                    <a:lnTo>
                      <a:pt x="120" y="589"/>
                    </a:lnTo>
                    <a:lnTo>
                      <a:pt x="44" y="896"/>
                    </a:lnTo>
                    <a:lnTo>
                      <a:pt x="0" y="1222"/>
                    </a:lnTo>
                    <a:lnTo>
                      <a:pt x="195" y="1266"/>
                    </a:lnTo>
                    <a:lnTo>
                      <a:pt x="267" y="823"/>
                    </a:lnTo>
                    <a:lnTo>
                      <a:pt x="340" y="500"/>
                    </a:lnTo>
                    <a:lnTo>
                      <a:pt x="447" y="131"/>
                    </a:lnTo>
                    <a:lnTo>
                      <a:pt x="489" y="0"/>
                    </a:lnTo>
                    <a:lnTo>
                      <a:pt x="313"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2343240" y="1773360"/>
                <a:ext cx="42840" cy="82440"/>
              </a:xfrm>
              <a:custGeom>
                <a:avLst/>
                <a:gdLst/>
                <a:ahLst/>
                <a:rect l="l" t="t" r="r" b="b"/>
                <a:pathLst>
                  <a:path w="266" h="514">
                    <a:moveTo>
                      <a:pt x="162" y="0"/>
                    </a:moveTo>
                    <a:lnTo>
                      <a:pt x="103" y="163"/>
                    </a:lnTo>
                    <a:lnTo>
                      <a:pt x="46" y="354"/>
                    </a:lnTo>
                    <a:lnTo>
                      <a:pt x="0" y="500"/>
                    </a:lnTo>
                    <a:lnTo>
                      <a:pt x="120" y="514"/>
                    </a:lnTo>
                    <a:lnTo>
                      <a:pt x="162" y="322"/>
                    </a:lnTo>
                    <a:lnTo>
                      <a:pt x="222" y="146"/>
                    </a:lnTo>
                    <a:lnTo>
                      <a:pt x="266" y="0"/>
                    </a:lnTo>
                    <a:lnTo>
                      <a:pt x="16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3" name=""/>
              <p:cNvSpPr/>
              <p:nvPr/>
            </p:nvSpPr>
            <p:spPr>
              <a:xfrm>
                <a:off x="1290600" y="2232000"/>
                <a:ext cx="695520" cy="200160"/>
              </a:xfrm>
              <a:custGeom>
                <a:avLst/>
                <a:gdLst/>
                <a:ahLst/>
                <a:rect l="l" t="t" r="r" b="b"/>
                <a:pathLst>
                  <a:path w="4385" h="1254">
                    <a:moveTo>
                      <a:pt x="2393" y="1254"/>
                    </a:moveTo>
                    <a:lnTo>
                      <a:pt x="4385" y="551"/>
                    </a:lnTo>
                    <a:lnTo>
                      <a:pt x="2110" y="0"/>
                    </a:lnTo>
                    <a:lnTo>
                      <a:pt x="0" y="580"/>
                    </a:lnTo>
                    <a:lnTo>
                      <a:pt x="2393" y="12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284120" y="2286000"/>
                <a:ext cx="160560" cy="82440"/>
              </a:xfrm>
              <a:custGeom>
                <a:avLst/>
                <a:gdLst/>
                <a:ahLst/>
                <a:rect l="l" t="t" r="r" b="b"/>
                <a:pathLst>
                  <a:path w="1010" h="519">
                    <a:moveTo>
                      <a:pt x="1010" y="142"/>
                    </a:moveTo>
                    <a:lnTo>
                      <a:pt x="817" y="250"/>
                    </a:lnTo>
                    <a:lnTo>
                      <a:pt x="897" y="352"/>
                    </a:lnTo>
                    <a:lnTo>
                      <a:pt x="897" y="421"/>
                    </a:lnTo>
                    <a:lnTo>
                      <a:pt x="1010" y="519"/>
                    </a:lnTo>
                    <a:lnTo>
                      <a:pt x="0" y="239"/>
                    </a:lnTo>
                    <a:lnTo>
                      <a:pt x="930" y="0"/>
                    </a:lnTo>
                    <a:lnTo>
                      <a:pt x="1010" y="142"/>
                    </a:lnTo>
                    <a:close/>
                  </a:path>
                </a:pathLst>
              </a:custGeom>
              <a:solidFill>
                <a:srgbClr val="b5b5b5"/>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5" name=""/>
              <p:cNvSpPr/>
              <p:nvPr/>
            </p:nvSpPr>
            <p:spPr>
              <a:xfrm>
                <a:off x="438120" y="1905120"/>
                <a:ext cx="311040" cy="565200"/>
              </a:xfrm>
              <a:custGeom>
                <a:avLst/>
                <a:gdLst/>
                <a:ahLst/>
                <a:rect l="l" t="t" r="r" b="b"/>
                <a:pathLst>
                  <a:path w="1960" h="3560">
                    <a:moveTo>
                      <a:pt x="0" y="402"/>
                    </a:moveTo>
                    <a:lnTo>
                      <a:pt x="167" y="310"/>
                    </a:lnTo>
                    <a:lnTo>
                      <a:pt x="498" y="184"/>
                    </a:lnTo>
                    <a:lnTo>
                      <a:pt x="1442" y="0"/>
                    </a:lnTo>
                    <a:lnTo>
                      <a:pt x="1960" y="3560"/>
                    </a:lnTo>
                    <a:lnTo>
                      <a:pt x="529" y="3045"/>
                    </a:lnTo>
                    <a:lnTo>
                      <a:pt x="0" y="4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65200" y="1905120"/>
                <a:ext cx="190440" cy="574560"/>
              </a:xfrm>
              <a:custGeom>
                <a:avLst/>
                <a:gdLst/>
                <a:ahLst/>
                <a:rect l="l" t="t" r="r" b="b"/>
                <a:pathLst>
                  <a:path w="1195" h="3618">
                    <a:moveTo>
                      <a:pt x="158" y="133"/>
                    </a:moveTo>
                    <a:lnTo>
                      <a:pt x="176" y="299"/>
                    </a:lnTo>
                    <a:lnTo>
                      <a:pt x="208" y="441"/>
                    </a:lnTo>
                    <a:lnTo>
                      <a:pt x="271" y="597"/>
                    </a:lnTo>
                    <a:lnTo>
                      <a:pt x="365" y="773"/>
                    </a:lnTo>
                    <a:lnTo>
                      <a:pt x="388" y="936"/>
                    </a:lnTo>
                    <a:lnTo>
                      <a:pt x="407" y="1173"/>
                    </a:lnTo>
                    <a:lnTo>
                      <a:pt x="375" y="1408"/>
                    </a:lnTo>
                    <a:lnTo>
                      <a:pt x="344" y="1654"/>
                    </a:lnTo>
                    <a:lnTo>
                      <a:pt x="365" y="1872"/>
                    </a:lnTo>
                    <a:lnTo>
                      <a:pt x="388" y="2119"/>
                    </a:lnTo>
                    <a:lnTo>
                      <a:pt x="426" y="2469"/>
                    </a:lnTo>
                    <a:lnTo>
                      <a:pt x="489" y="2654"/>
                    </a:lnTo>
                    <a:lnTo>
                      <a:pt x="344" y="2838"/>
                    </a:lnTo>
                    <a:lnTo>
                      <a:pt x="208" y="2480"/>
                    </a:lnTo>
                    <a:lnTo>
                      <a:pt x="43" y="2077"/>
                    </a:lnTo>
                    <a:lnTo>
                      <a:pt x="0" y="1861"/>
                    </a:lnTo>
                    <a:lnTo>
                      <a:pt x="13" y="3280"/>
                    </a:lnTo>
                    <a:lnTo>
                      <a:pt x="229" y="3618"/>
                    </a:lnTo>
                    <a:lnTo>
                      <a:pt x="1195" y="3618"/>
                    </a:lnTo>
                    <a:lnTo>
                      <a:pt x="655" y="0"/>
                    </a:lnTo>
                    <a:lnTo>
                      <a:pt x="158" y="133"/>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633240" y="1477800"/>
                <a:ext cx="1124280" cy="890640"/>
              </a:xfrm>
              <a:custGeom>
                <a:avLst/>
                <a:gdLst/>
                <a:ahLst/>
                <a:rect l="l" t="t" r="r" b="b"/>
                <a:pathLst>
                  <a:path w="7082" h="5611">
                    <a:moveTo>
                      <a:pt x="2639" y="0"/>
                    </a:moveTo>
                    <a:lnTo>
                      <a:pt x="2308" y="313"/>
                    </a:lnTo>
                    <a:lnTo>
                      <a:pt x="2102" y="470"/>
                    </a:lnTo>
                    <a:lnTo>
                      <a:pt x="1344" y="705"/>
                    </a:lnTo>
                    <a:lnTo>
                      <a:pt x="978" y="847"/>
                    </a:lnTo>
                    <a:lnTo>
                      <a:pt x="600" y="1175"/>
                    </a:lnTo>
                    <a:lnTo>
                      <a:pt x="236" y="1927"/>
                    </a:lnTo>
                    <a:lnTo>
                      <a:pt x="253" y="3450"/>
                    </a:lnTo>
                    <a:lnTo>
                      <a:pt x="0" y="4468"/>
                    </a:lnTo>
                    <a:lnTo>
                      <a:pt x="317" y="5268"/>
                    </a:lnTo>
                    <a:lnTo>
                      <a:pt x="3192" y="5611"/>
                    </a:lnTo>
                    <a:lnTo>
                      <a:pt x="3983" y="4169"/>
                    </a:lnTo>
                    <a:lnTo>
                      <a:pt x="4219" y="3652"/>
                    </a:lnTo>
                    <a:lnTo>
                      <a:pt x="4474" y="3872"/>
                    </a:lnTo>
                    <a:lnTo>
                      <a:pt x="4854" y="4452"/>
                    </a:lnTo>
                    <a:lnTo>
                      <a:pt x="5596" y="4592"/>
                    </a:lnTo>
                    <a:lnTo>
                      <a:pt x="6624" y="4421"/>
                    </a:lnTo>
                    <a:lnTo>
                      <a:pt x="7067" y="4438"/>
                    </a:lnTo>
                    <a:lnTo>
                      <a:pt x="7082" y="3936"/>
                    </a:lnTo>
                    <a:lnTo>
                      <a:pt x="6926" y="3872"/>
                    </a:lnTo>
                    <a:lnTo>
                      <a:pt x="6640" y="3810"/>
                    </a:lnTo>
                    <a:lnTo>
                      <a:pt x="6087" y="3794"/>
                    </a:lnTo>
                    <a:lnTo>
                      <a:pt x="5847" y="3888"/>
                    </a:lnTo>
                    <a:lnTo>
                      <a:pt x="5818" y="3777"/>
                    </a:lnTo>
                    <a:lnTo>
                      <a:pt x="5725" y="3763"/>
                    </a:lnTo>
                    <a:lnTo>
                      <a:pt x="5642" y="3606"/>
                    </a:lnTo>
                    <a:lnTo>
                      <a:pt x="5502" y="3512"/>
                    </a:lnTo>
                    <a:lnTo>
                      <a:pt x="5405" y="3011"/>
                    </a:lnTo>
                    <a:lnTo>
                      <a:pt x="5104" y="2837"/>
                    </a:lnTo>
                    <a:lnTo>
                      <a:pt x="5058" y="2335"/>
                    </a:lnTo>
                    <a:lnTo>
                      <a:pt x="4884" y="1993"/>
                    </a:lnTo>
                    <a:lnTo>
                      <a:pt x="4901" y="1880"/>
                    </a:lnTo>
                    <a:lnTo>
                      <a:pt x="4804" y="1442"/>
                    </a:lnTo>
                    <a:lnTo>
                      <a:pt x="4285" y="1113"/>
                    </a:lnTo>
                    <a:lnTo>
                      <a:pt x="3445" y="249"/>
                    </a:lnTo>
                    <a:lnTo>
                      <a:pt x="263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676440" y="2319480"/>
                <a:ext cx="380880" cy="90360"/>
              </a:xfrm>
              <a:custGeom>
                <a:avLst/>
                <a:gdLst/>
                <a:ahLst/>
                <a:rect l="l" t="t" r="r" b="b"/>
                <a:pathLst>
                  <a:path w="2403" h="565">
                    <a:moveTo>
                      <a:pt x="0" y="0"/>
                    </a:moveTo>
                    <a:lnTo>
                      <a:pt x="31" y="220"/>
                    </a:lnTo>
                    <a:lnTo>
                      <a:pt x="835" y="565"/>
                    </a:lnTo>
                    <a:lnTo>
                      <a:pt x="2403" y="78"/>
                    </a:lnTo>
                    <a:lnTo>
                      <a:pt x="0" y="0"/>
                    </a:lnTo>
                    <a:close/>
                  </a:path>
                </a:pathLst>
              </a:custGeom>
              <a:solidFill>
                <a:srgbClr val="51515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9" name=""/>
              <p:cNvSpPr/>
              <p:nvPr/>
            </p:nvSpPr>
            <p:spPr>
              <a:xfrm>
                <a:off x="631800" y="1657440"/>
                <a:ext cx="527040" cy="682560"/>
              </a:xfrm>
              <a:custGeom>
                <a:avLst/>
                <a:gdLst/>
                <a:ahLst/>
                <a:rect l="l" t="t" r="r" b="b"/>
                <a:pathLst>
                  <a:path w="3318" h="4296">
                    <a:moveTo>
                      <a:pt x="963" y="15"/>
                    </a:moveTo>
                    <a:lnTo>
                      <a:pt x="899" y="328"/>
                    </a:lnTo>
                    <a:lnTo>
                      <a:pt x="899" y="658"/>
                    </a:lnTo>
                    <a:lnTo>
                      <a:pt x="963" y="971"/>
                    </a:lnTo>
                    <a:lnTo>
                      <a:pt x="1059" y="1192"/>
                    </a:lnTo>
                    <a:lnTo>
                      <a:pt x="1026" y="864"/>
                    </a:lnTo>
                    <a:lnTo>
                      <a:pt x="1012" y="516"/>
                    </a:lnTo>
                    <a:lnTo>
                      <a:pt x="1043" y="344"/>
                    </a:lnTo>
                    <a:lnTo>
                      <a:pt x="1119" y="313"/>
                    </a:lnTo>
                    <a:lnTo>
                      <a:pt x="1342" y="516"/>
                    </a:lnTo>
                    <a:lnTo>
                      <a:pt x="1516" y="798"/>
                    </a:lnTo>
                    <a:lnTo>
                      <a:pt x="1579" y="1050"/>
                    </a:lnTo>
                    <a:lnTo>
                      <a:pt x="1628" y="1299"/>
                    </a:lnTo>
                    <a:lnTo>
                      <a:pt x="1516" y="1192"/>
                    </a:lnTo>
                    <a:lnTo>
                      <a:pt x="1359" y="1238"/>
                    </a:lnTo>
                    <a:lnTo>
                      <a:pt x="1261" y="1299"/>
                    </a:lnTo>
                    <a:lnTo>
                      <a:pt x="1261" y="1426"/>
                    </a:lnTo>
                    <a:lnTo>
                      <a:pt x="1312" y="1505"/>
                    </a:lnTo>
                    <a:lnTo>
                      <a:pt x="1359" y="1568"/>
                    </a:lnTo>
                    <a:lnTo>
                      <a:pt x="1073" y="1552"/>
                    </a:lnTo>
                    <a:lnTo>
                      <a:pt x="870" y="1520"/>
                    </a:lnTo>
                    <a:lnTo>
                      <a:pt x="694" y="1377"/>
                    </a:lnTo>
                    <a:lnTo>
                      <a:pt x="615" y="1473"/>
                    </a:lnTo>
                    <a:lnTo>
                      <a:pt x="615" y="1552"/>
                    </a:lnTo>
                    <a:lnTo>
                      <a:pt x="1059" y="2195"/>
                    </a:lnTo>
                    <a:lnTo>
                      <a:pt x="993" y="2367"/>
                    </a:lnTo>
                    <a:lnTo>
                      <a:pt x="917" y="2399"/>
                    </a:lnTo>
                    <a:lnTo>
                      <a:pt x="790" y="2399"/>
                    </a:lnTo>
                    <a:lnTo>
                      <a:pt x="726" y="2383"/>
                    </a:lnTo>
                    <a:lnTo>
                      <a:pt x="677" y="2665"/>
                    </a:lnTo>
                    <a:lnTo>
                      <a:pt x="993" y="2759"/>
                    </a:lnTo>
                    <a:lnTo>
                      <a:pt x="1232" y="2901"/>
                    </a:lnTo>
                    <a:lnTo>
                      <a:pt x="993" y="2901"/>
                    </a:lnTo>
                    <a:lnTo>
                      <a:pt x="677" y="2961"/>
                    </a:lnTo>
                    <a:lnTo>
                      <a:pt x="442" y="3150"/>
                    </a:lnTo>
                    <a:lnTo>
                      <a:pt x="917" y="3089"/>
                    </a:lnTo>
                    <a:lnTo>
                      <a:pt x="1295" y="3136"/>
                    </a:lnTo>
                    <a:lnTo>
                      <a:pt x="1501" y="3074"/>
                    </a:lnTo>
                    <a:lnTo>
                      <a:pt x="1501" y="2712"/>
                    </a:lnTo>
                    <a:lnTo>
                      <a:pt x="1327" y="2195"/>
                    </a:lnTo>
                    <a:lnTo>
                      <a:pt x="1532" y="2506"/>
                    </a:lnTo>
                    <a:lnTo>
                      <a:pt x="1645" y="2901"/>
                    </a:lnTo>
                    <a:lnTo>
                      <a:pt x="1657" y="3121"/>
                    </a:lnTo>
                    <a:lnTo>
                      <a:pt x="1897" y="3243"/>
                    </a:lnTo>
                    <a:lnTo>
                      <a:pt x="1961" y="3339"/>
                    </a:lnTo>
                    <a:lnTo>
                      <a:pt x="1755" y="3277"/>
                    </a:lnTo>
                    <a:lnTo>
                      <a:pt x="1501" y="3292"/>
                    </a:lnTo>
                    <a:lnTo>
                      <a:pt x="1154" y="3385"/>
                    </a:lnTo>
                    <a:lnTo>
                      <a:pt x="977" y="3496"/>
                    </a:lnTo>
                    <a:lnTo>
                      <a:pt x="1657" y="3559"/>
                    </a:lnTo>
                    <a:lnTo>
                      <a:pt x="1972" y="3432"/>
                    </a:lnTo>
                    <a:lnTo>
                      <a:pt x="2021" y="3605"/>
                    </a:lnTo>
                    <a:lnTo>
                      <a:pt x="2765" y="3683"/>
                    </a:lnTo>
                    <a:lnTo>
                      <a:pt x="2845" y="3559"/>
                    </a:lnTo>
                    <a:lnTo>
                      <a:pt x="2970" y="3449"/>
                    </a:lnTo>
                    <a:lnTo>
                      <a:pt x="3129" y="3385"/>
                    </a:lnTo>
                    <a:lnTo>
                      <a:pt x="3318" y="3339"/>
                    </a:lnTo>
                    <a:lnTo>
                      <a:pt x="3002" y="4281"/>
                    </a:lnTo>
                    <a:lnTo>
                      <a:pt x="2229" y="4247"/>
                    </a:lnTo>
                    <a:lnTo>
                      <a:pt x="1532" y="4296"/>
                    </a:lnTo>
                    <a:lnTo>
                      <a:pt x="93" y="3858"/>
                    </a:lnTo>
                    <a:lnTo>
                      <a:pt x="15" y="3576"/>
                    </a:lnTo>
                    <a:lnTo>
                      <a:pt x="0" y="3323"/>
                    </a:lnTo>
                    <a:lnTo>
                      <a:pt x="110" y="2961"/>
                    </a:lnTo>
                    <a:lnTo>
                      <a:pt x="204" y="2430"/>
                    </a:lnTo>
                    <a:lnTo>
                      <a:pt x="204" y="1568"/>
                    </a:lnTo>
                    <a:lnTo>
                      <a:pt x="251" y="957"/>
                    </a:lnTo>
                    <a:lnTo>
                      <a:pt x="379" y="486"/>
                    </a:lnTo>
                    <a:lnTo>
                      <a:pt x="662" y="109"/>
                    </a:lnTo>
                    <a:lnTo>
                      <a:pt x="899" y="0"/>
                    </a:lnTo>
                    <a:lnTo>
                      <a:pt x="963" y="15"/>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892080" y="1657440"/>
                <a:ext cx="266760" cy="520560"/>
              </a:xfrm>
              <a:custGeom>
                <a:avLst/>
                <a:gdLst/>
                <a:ahLst/>
                <a:rect l="l" t="t" r="r" b="b"/>
                <a:pathLst>
                  <a:path w="1673" h="3277">
                    <a:moveTo>
                      <a:pt x="29" y="1377"/>
                    </a:moveTo>
                    <a:lnTo>
                      <a:pt x="156" y="1160"/>
                    </a:lnTo>
                    <a:lnTo>
                      <a:pt x="203" y="940"/>
                    </a:lnTo>
                    <a:lnTo>
                      <a:pt x="187" y="675"/>
                    </a:lnTo>
                    <a:lnTo>
                      <a:pt x="125" y="328"/>
                    </a:lnTo>
                    <a:lnTo>
                      <a:pt x="0" y="0"/>
                    </a:lnTo>
                    <a:lnTo>
                      <a:pt x="376" y="408"/>
                    </a:lnTo>
                    <a:lnTo>
                      <a:pt x="538" y="798"/>
                    </a:lnTo>
                    <a:lnTo>
                      <a:pt x="584" y="1177"/>
                    </a:lnTo>
                    <a:lnTo>
                      <a:pt x="567" y="1473"/>
                    </a:lnTo>
                    <a:lnTo>
                      <a:pt x="724" y="1366"/>
                    </a:lnTo>
                    <a:lnTo>
                      <a:pt x="440" y="1740"/>
                    </a:lnTo>
                    <a:lnTo>
                      <a:pt x="502" y="1819"/>
                    </a:lnTo>
                    <a:lnTo>
                      <a:pt x="1200" y="1130"/>
                    </a:lnTo>
                    <a:lnTo>
                      <a:pt x="758" y="1914"/>
                    </a:lnTo>
                    <a:lnTo>
                      <a:pt x="980" y="2321"/>
                    </a:lnTo>
                    <a:lnTo>
                      <a:pt x="1342" y="2037"/>
                    </a:lnTo>
                    <a:lnTo>
                      <a:pt x="1469" y="1568"/>
                    </a:lnTo>
                    <a:lnTo>
                      <a:pt x="1546" y="986"/>
                    </a:lnTo>
                    <a:lnTo>
                      <a:pt x="1673" y="580"/>
                    </a:lnTo>
                    <a:lnTo>
                      <a:pt x="1626" y="2915"/>
                    </a:lnTo>
                    <a:lnTo>
                      <a:pt x="1357" y="3260"/>
                    </a:lnTo>
                    <a:lnTo>
                      <a:pt x="1516" y="2774"/>
                    </a:lnTo>
                    <a:lnTo>
                      <a:pt x="1516" y="2506"/>
                    </a:lnTo>
                    <a:lnTo>
                      <a:pt x="1151" y="2477"/>
                    </a:lnTo>
                    <a:lnTo>
                      <a:pt x="980" y="2681"/>
                    </a:lnTo>
                    <a:lnTo>
                      <a:pt x="1184" y="2947"/>
                    </a:lnTo>
                    <a:lnTo>
                      <a:pt x="1151" y="3277"/>
                    </a:lnTo>
                    <a:lnTo>
                      <a:pt x="125" y="2947"/>
                    </a:lnTo>
                    <a:lnTo>
                      <a:pt x="47" y="2163"/>
                    </a:lnTo>
                    <a:lnTo>
                      <a:pt x="29" y="137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81200" y="1460520"/>
                <a:ext cx="288720" cy="235080"/>
              </a:xfrm>
              <a:custGeom>
                <a:avLst/>
                <a:gdLst/>
                <a:ahLst/>
                <a:rect l="l" t="t" r="r" b="b"/>
                <a:pathLst>
                  <a:path w="1819" h="1474">
                    <a:moveTo>
                      <a:pt x="0" y="1003"/>
                    </a:moveTo>
                    <a:lnTo>
                      <a:pt x="508" y="957"/>
                    </a:lnTo>
                    <a:lnTo>
                      <a:pt x="1298" y="1145"/>
                    </a:lnTo>
                    <a:lnTo>
                      <a:pt x="1819" y="1474"/>
                    </a:lnTo>
                    <a:lnTo>
                      <a:pt x="1628" y="1192"/>
                    </a:lnTo>
                    <a:lnTo>
                      <a:pt x="1472" y="864"/>
                    </a:lnTo>
                    <a:lnTo>
                      <a:pt x="1802" y="359"/>
                    </a:lnTo>
                    <a:lnTo>
                      <a:pt x="1788" y="0"/>
                    </a:lnTo>
                    <a:lnTo>
                      <a:pt x="1535" y="206"/>
                    </a:lnTo>
                    <a:lnTo>
                      <a:pt x="1313" y="441"/>
                    </a:lnTo>
                    <a:lnTo>
                      <a:pt x="1201" y="533"/>
                    </a:lnTo>
                    <a:lnTo>
                      <a:pt x="159" y="910"/>
                    </a:lnTo>
                    <a:lnTo>
                      <a:pt x="0" y="1003"/>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974880" y="1679400"/>
                <a:ext cx="196560" cy="154080"/>
              </a:xfrm>
              <a:custGeom>
                <a:avLst/>
                <a:gdLst/>
                <a:ahLst/>
                <a:rect l="l" t="t" r="r" b="b"/>
                <a:pathLst>
                  <a:path w="1235" h="971">
                    <a:moveTo>
                      <a:pt x="711" y="251"/>
                    </a:moveTo>
                    <a:lnTo>
                      <a:pt x="886" y="251"/>
                    </a:lnTo>
                    <a:lnTo>
                      <a:pt x="793" y="438"/>
                    </a:lnTo>
                    <a:lnTo>
                      <a:pt x="633" y="626"/>
                    </a:lnTo>
                    <a:lnTo>
                      <a:pt x="411" y="751"/>
                    </a:lnTo>
                    <a:lnTo>
                      <a:pt x="0" y="922"/>
                    </a:lnTo>
                    <a:lnTo>
                      <a:pt x="335" y="971"/>
                    </a:lnTo>
                    <a:lnTo>
                      <a:pt x="651" y="957"/>
                    </a:lnTo>
                    <a:lnTo>
                      <a:pt x="871" y="861"/>
                    </a:lnTo>
                    <a:lnTo>
                      <a:pt x="1028" y="751"/>
                    </a:lnTo>
                    <a:lnTo>
                      <a:pt x="1235" y="580"/>
                    </a:lnTo>
                    <a:lnTo>
                      <a:pt x="1235" y="0"/>
                    </a:lnTo>
                    <a:lnTo>
                      <a:pt x="711" y="251"/>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1189080" y="1630440"/>
                <a:ext cx="65160" cy="128520"/>
              </a:xfrm>
              <a:custGeom>
                <a:avLst/>
                <a:gdLst/>
                <a:ahLst/>
                <a:rect l="l" t="t" r="r" b="b"/>
                <a:pathLst>
                  <a:path w="410" h="815">
                    <a:moveTo>
                      <a:pt x="95" y="815"/>
                    </a:moveTo>
                    <a:lnTo>
                      <a:pt x="410" y="96"/>
                    </a:lnTo>
                    <a:lnTo>
                      <a:pt x="332" y="0"/>
                    </a:lnTo>
                    <a:lnTo>
                      <a:pt x="0" y="235"/>
                    </a:lnTo>
                    <a:lnTo>
                      <a:pt x="95" y="815"/>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220760" y="1617840"/>
                <a:ext cx="168480" cy="547560"/>
              </a:xfrm>
              <a:custGeom>
                <a:avLst/>
                <a:gdLst/>
                <a:ahLst/>
                <a:rect l="l" t="t" r="r" b="b"/>
                <a:pathLst>
                  <a:path w="1057" h="3448">
                    <a:moveTo>
                      <a:pt x="220" y="189"/>
                    </a:moveTo>
                    <a:lnTo>
                      <a:pt x="268" y="329"/>
                    </a:lnTo>
                    <a:lnTo>
                      <a:pt x="235" y="471"/>
                    </a:lnTo>
                    <a:lnTo>
                      <a:pt x="235" y="659"/>
                    </a:lnTo>
                    <a:lnTo>
                      <a:pt x="282" y="926"/>
                    </a:lnTo>
                    <a:lnTo>
                      <a:pt x="362" y="1129"/>
                    </a:lnTo>
                    <a:lnTo>
                      <a:pt x="553" y="1428"/>
                    </a:lnTo>
                    <a:lnTo>
                      <a:pt x="442" y="1144"/>
                    </a:lnTo>
                    <a:lnTo>
                      <a:pt x="425" y="892"/>
                    </a:lnTo>
                    <a:lnTo>
                      <a:pt x="471" y="720"/>
                    </a:lnTo>
                    <a:lnTo>
                      <a:pt x="584" y="549"/>
                    </a:lnTo>
                    <a:lnTo>
                      <a:pt x="677" y="407"/>
                    </a:lnTo>
                    <a:lnTo>
                      <a:pt x="899" y="691"/>
                    </a:lnTo>
                    <a:lnTo>
                      <a:pt x="677" y="1928"/>
                    </a:lnTo>
                    <a:lnTo>
                      <a:pt x="471" y="2226"/>
                    </a:lnTo>
                    <a:lnTo>
                      <a:pt x="408" y="2728"/>
                    </a:lnTo>
                    <a:lnTo>
                      <a:pt x="171" y="2916"/>
                    </a:lnTo>
                    <a:lnTo>
                      <a:pt x="0" y="2650"/>
                    </a:lnTo>
                    <a:lnTo>
                      <a:pt x="59" y="3448"/>
                    </a:lnTo>
                    <a:lnTo>
                      <a:pt x="362" y="3308"/>
                    </a:lnTo>
                    <a:lnTo>
                      <a:pt x="537" y="2899"/>
                    </a:lnTo>
                    <a:lnTo>
                      <a:pt x="695" y="2399"/>
                    </a:lnTo>
                    <a:lnTo>
                      <a:pt x="757" y="1944"/>
                    </a:lnTo>
                    <a:lnTo>
                      <a:pt x="868" y="1663"/>
                    </a:lnTo>
                    <a:lnTo>
                      <a:pt x="1057" y="517"/>
                    </a:lnTo>
                    <a:lnTo>
                      <a:pt x="662" y="251"/>
                    </a:lnTo>
                    <a:lnTo>
                      <a:pt x="251" y="0"/>
                    </a:lnTo>
                    <a:lnTo>
                      <a:pt x="220" y="18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1306440" y="1784520"/>
                <a:ext cx="480960" cy="428400"/>
              </a:xfrm>
              <a:custGeom>
                <a:avLst/>
                <a:gdLst/>
                <a:ahLst/>
                <a:rect l="l" t="t" r="r" b="b"/>
                <a:pathLst>
                  <a:path w="3032" h="2698">
                    <a:moveTo>
                      <a:pt x="678" y="0"/>
                    </a:moveTo>
                    <a:lnTo>
                      <a:pt x="473" y="1003"/>
                    </a:lnTo>
                    <a:lnTo>
                      <a:pt x="805" y="1569"/>
                    </a:lnTo>
                    <a:lnTo>
                      <a:pt x="1074" y="1539"/>
                    </a:lnTo>
                    <a:lnTo>
                      <a:pt x="885" y="1694"/>
                    </a:lnTo>
                    <a:lnTo>
                      <a:pt x="551" y="1661"/>
                    </a:lnTo>
                    <a:lnTo>
                      <a:pt x="473" y="1867"/>
                    </a:lnTo>
                    <a:lnTo>
                      <a:pt x="520" y="2134"/>
                    </a:lnTo>
                    <a:lnTo>
                      <a:pt x="1342" y="1789"/>
                    </a:lnTo>
                    <a:lnTo>
                      <a:pt x="1389" y="1883"/>
                    </a:lnTo>
                    <a:lnTo>
                      <a:pt x="1106" y="2087"/>
                    </a:lnTo>
                    <a:lnTo>
                      <a:pt x="1074" y="2479"/>
                    </a:lnTo>
                    <a:lnTo>
                      <a:pt x="1247" y="2479"/>
                    </a:lnTo>
                    <a:lnTo>
                      <a:pt x="1389" y="2181"/>
                    </a:lnTo>
                    <a:lnTo>
                      <a:pt x="1644" y="2276"/>
                    </a:lnTo>
                    <a:lnTo>
                      <a:pt x="1879" y="1945"/>
                    </a:lnTo>
                    <a:lnTo>
                      <a:pt x="2086" y="2117"/>
                    </a:lnTo>
                    <a:lnTo>
                      <a:pt x="2606" y="2103"/>
                    </a:lnTo>
                    <a:lnTo>
                      <a:pt x="2781" y="2009"/>
                    </a:lnTo>
                    <a:lnTo>
                      <a:pt x="3032" y="2494"/>
                    </a:lnTo>
                    <a:lnTo>
                      <a:pt x="2937" y="2604"/>
                    </a:lnTo>
                    <a:lnTo>
                      <a:pt x="2781" y="2619"/>
                    </a:lnTo>
                    <a:lnTo>
                      <a:pt x="2544" y="2587"/>
                    </a:lnTo>
                    <a:lnTo>
                      <a:pt x="2052" y="2587"/>
                    </a:lnTo>
                    <a:lnTo>
                      <a:pt x="1153" y="2698"/>
                    </a:lnTo>
                    <a:lnTo>
                      <a:pt x="331" y="2416"/>
                    </a:lnTo>
                    <a:lnTo>
                      <a:pt x="0" y="1821"/>
                    </a:lnTo>
                    <a:lnTo>
                      <a:pt x="236" y="690"/>
                    </a:lnTo>
                    <a:lnTo>
                      <a:pt x="585" y="142"/>
                    </a:lnTo>
                    <a:lnTo>
                      <a:pt x="678"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282680" y="2097000"/>
                <a:ext cx="162000" cy="209520"/>
              </a:xfrm>
              <a:custGeom>
                <a:avLst/>
                <a:gdLst/>
                <a:ahLst/>
                <a:rect l="l" t="t" r="r" b="b"/>
                <a:pathLst>
                  <a:path w="1014" h="1323">
                    <a:moveTo>
                      <a:pt x="1014" y="1323"/>
                    </a:moveTo>
                    <a:lnTo>
                      <a:pt x="885" y="1226"/>
                    </a:lnTo>
                    <a:lnTo>
                      <a:pt x="0" y="72"/>
                    </a:lnTo>
                    <a:lnTo>
                      <a:pt x="0" y="36"/>
                    </a:lnTo>
                    <a:lnTo>
                      <a:pt x="17" y="12"/>
                    </a:lnTo>
                    <a:lnTo>
                      <a:pt x="42" y="0"/>
                    </a:lnTo>
                    <a:lnTo>
                      <a:pt x="77" y="7"/>
                    </a:lnTo>
                    <a:lnTo>
                      <a:pt x="89" y="21"/>
                    </a:lnTo>
                    <a:lnTo>
                      <a:pt x="953" y="1167"/>
                    </a:lnTo>
                    <a:lnTo>
                      <a:pt x="1014" y="1323"/>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1722600" y="2071800"/>
                <a:ext cx="303120" cy="141120"/>
              </a:xfrm>
              <a:custGeom>
                <a:avLst/>
                <a:gdLst/>
                <a:ahLst/>
                <a:rect l="l" t="t" r="r" b="b"/>
                <a:pathLst>
                  <a:path w="1908" h="884">
                    <a:moveTo>
                      <a:pt x="18" y="576"/>
                    </a:moveTo>
                    <a:lnTo>
                      <a:pt x="600" y="756"/>
                    </a:lnTo>
                    <a:lnTo>
                      <a:pt x="1000" y="756"/>
                    </a:lnTo>
                    <a:lnTo>
                      <a:pt x="1273" y="884"/>
                    </a:lnTo>
                    <a:lnTo>
                      <a:pt x="1326" y="864"/>
                    </a:lnTo>
                    <a:lnTo>
                      <a:pt x="1290" y="720"/>
                    </a:lnTo>
                    <a:lnTo>
                      <a:pt x="1019" y="593"/>
                    </a:lnTo>
                    <a:lnTo>
                      <a:pt x="837" y="593"/>
                    </a:lnTo>
                    <a:lnTo>
                      <a:pt x="837" y="487"/>
                    </a:lnTo>
                    <a:lnTo>
                      <a:pt x="1326" y="324"/>
                    </a:lnTo>
                    <a:lnTo>
                      <a:pt x="1564" y="344"/>
                    </a:lnTo>
                    <a:lnTo>
                      <a:pt x="1673" y="487"/>
                    </a:lnTo>
                    <a:lnTo>
                      <a:pt x="1800" y="576"/>
                    </a:lnTo>
                    <a:lnTo>
                      <a:pt x="1908" y="576"/>
                    </a:lnTo>
                    <a:lnTo>
                      <a:pt x="1673" y="144"/>
                    </a:lnTo>
                    <a:lnTo>
                      <a:pt x="1000" y="0"/>
                    </a:lnTo>
                    <a:lnTo>
                      <a:pt x="202" y="235"/>
                    </a:lnTo>
                    <a:lnTo>
                      <a:pt x="0" y="487"/>
                    </a:lnTo>
                    <a:lnTo>
                      <a:pt x="18" y="576"/>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1108080" y="2131920"/>
                <a:ext cx="345960" cy="189000"/>
              </a:xfrm>
              <a:custGeom>
                <a:avLst/>
                <a:gdLst/>
                <a:ahLst/>
                <a:rect l="l" t="t" r="r" b="b"/>
                <a:pathLst>
                  <a:path w="2180" h="1188">
                    <a:moveTo>
                      <a:pt x="0" y="1098"/>
                    </a:moveTo>
                    <a:lnTo>
                      <a:pt x="872" y="1188"/>
                    </a:lnTo>
                    <a:lnTo>
                      <a:pt x="1182" y="1188"/>
                    </a:lnTo>
                    <a:lnTo>
                      <a:pt x="1309" y="1115"/>
                    </a:lnTo>
                    <a:lnTo>
                      <a:pt x="1489" y="1151"/>
                    </a:lnTo>
                    <a:lnTo>
                      <a:pt x="1651" y="1062"/>
                    </a:lnTo>
                    <a:lnTo>
                      <a:pt x="1689" y="1007"/>
                    </a:lnTo>
                    <a:lnTo>
                      <a:pt x="1815" y="953"/>
                    </a:lnTo>
                    <a:lnTo>
                      <a:pt x="1689" y="611"/>
                    </a:lnTo>
                    <a:lnTo>
                      <a:pt x="1345" y="360"/>
                    </a:lnTo>
                    <a:lnTo>
                      <a:pt x="1689" y="467"/>
                    </a:lnTo>
                    <a:lnTo>
                      <a:pt x="2016" y="775"/>
                    </a:lnTo>
                    <a:lnTo>
                      <a:pt x="2164" y="793"/>
                    </a:lnTo>
                    <a:lnTo>
                      <a:pt x="2180" y="719"/>
                    </a:lnTo>
                    <a:lnTo>
                      <a:pt x="2126" y="611"/>
                    </a:lnTo>
                    <a:lnTo>
                      <a:pt x="1762" y="160"/>
                    </a:lnTo>
                    <a:lnTo>
                      <a:pt x="1052" y="0"/>
                    </a:lnTo>
                    <a:lnTo>
                      <a:pt x="945" y="33"/>
                    </a:lnTo>
                    <a:lnTo>
                      <a:pt x="17" y="916"/>
                    </a:lnTo>
                    <a:lnTo>
                      <a:pt x="0" y="109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1144440" y="1663560"/>
                <a:ext cx="87480" cy="525600"/>
              </a:xfrm>
              <a:custGeom>
                <a:avLst/>
                <a:gdLst/>
                <a:ahLst/>
                <a:rect l="l" t="t" r="r" b="b"/>
                <a:pathLst>
                  <a:path w="544" h="3319">
                    <a:moveTo>
                      <a:pt x="326" y="0"/>
                    </a:moveTo>
                    <a:lnTo>
                      <a:pt x="419" y="111"/>
                    </a:lnTo>
                    <a:lnTo>
                      <a:pt x="436" y="236"/>
                    </a:lnTo>
                    <a:lnTo>
                      <a:pt x="345" y="578"/>
                    </a:lnTo>
                    <a:lnTo>
                      <a:pt x="419" y="866"/>
                    </a:lnTo>
                    <a:lnTo>
                      <a:pt x="472" y="1120"/>
                    </a:lnTo>
                    <a:lnTo>
                      <a:pt x="472" y="1317"/>
                    </a:lnTo>
                    <a:lnTo>
                      <a:pt x="472" y="1948"/>
                    </a:lnTo>
                    <a:lnTo>
                      <a:pt x="489" y="2308"/>
                    </a:lnTo>
                    <a:lnTo>
                      <a:pt x="544" y="2704"/>
                    </a:lnTo>
                    <a:lnTo>
                      <a:pt x="146" y="3319"/>
                    </a:lnTo>
                    <a:lnTo>
                      <a:pt x="72" y="2344"/>
                    </a:lnTo>
                    <a:lnTo>
                      <a:pt x="36" y="1660"/>
                    </a:lnTo>
                    <a:lnTo>
                      <a:pt x="0" y="1246"/>
                    </a:lnTo>
                    <a:lnTo>
                      <a:pt x="91" y="813"/>
                    </a:lnTo>
                    <a:lnTo>
                      <a:pt x="199" y="578"/>
                    </a:lnTo>
                    <a:lnTo>
                      <a:pt x="163" y="362"/>
                    </a:lnTo>
                    <a:lnTo>
                      <a:pt x="146" y="200"/>
                    </a:lnTo>
                    <a:lnTo>
                      <a:pt x="235" y="0"/>
                    </a:lnTo>
                    <a:lnTo>
                      <a:pt x="32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147680" y="1663560"/>
                <a:ext cx="98640" cy="532080"/>
              </a:xfrm>
              <a:custGeom>
                <a:avLst/>
                <a:gdLst/>
                <a:ahLst/>
                <a:rect l="l" t="t" r="r" b="b"/>
                <a:pathLst>
                  <a:path w="618" h="3354">
                    <a:moveTo>
                      <a:pt x="291" y="0"/>
                    </a:moveTo>
                    <a:lnTo>
                      <a:pt x="235" y="255"/>
                    </a:lnTo>
                    <a:lnTo>
                      <a:pt x="235" y="382"/>
                    </a:lnTo>
                    <a:lnTo>
                      <a:pt x="343" y="524"/>
                    </a:lnTo>
                    <a:lnTo>
                      <a:pt x="326" y="615"/>
                    </a:lnTo>
                    <a:lnTo>
                      <a:pt x="417" y="957"/>
                    </a:lnTo>
                    <a:lnTo>
                      <a:pt x="326" y="722"/>
                    </a:lnTo>
                    <a:lnTo>
                      <a:pt x="326" y="886"/>
                    </a:lnTo>
                    <a:lnTo>
                      <a:pt x="254" y="1029"/>
                    </a:lnTo>
                    <a:lnTo>
                      <a:pt x="254" y="704"/>
                    </a:lnTo>
                    <a:lnTo>
                      <a:pt x="144" y="993"/>
                    </a:lnTo>
                    <a:lnTo>
                      <a:pt x="89" y="1389"/>
                    </a:lnTo>
                    <a:lnTo>
                      <a:pt x="89" y="1733"/>
                    </a:lnTo>
                    <a:lnTo>
                      <a:pt x="163" y="2488"/>
                    </a:lnTo>
                    <a:lnTo>
                      <a:pt x="180" y="3136"/>
                    </a:lnTo>
                    <a:lnTo>
                      <a:pt x="525" y="2688"/>
                    </a:lnTo>
                    <a:lnTo>
                      <a:pt x="618" y="3048"/>
                    </a:lnTo>
                    <a:lnTo>
                      <a:pt x="36" y="3354"/>
                    </a:lnTo>
                    <a:lnTo>
                      <a:pt x="36" y="2761"/>
                    </a:lnTo>
                    <a:lnTo>
                      <a:pt x="0" y="1804"/>
                    </a:lnTo>
                    <a:lnTo>
                      <a:pt x="0" y="1335"/>
                    </a:lnTo>
                    <a:lnTo>
                      <a:pt x="53" y="957"/>
                    </a:lnTo>
                    <a:lnTo>
                      <a:pt x="108" y="651"/>
                    </a:lnTo>
                    <a:lnTo>
                      <a:pt x="144" y="329"/>
                    </a:lnTo>
                    <a:lnTo>
                      <a:pt x="180" y="129"/>
                    </a:lnTo>
                    <a:lnTo>
                      <a:pt x="254" y="0"/>
                    </a:lnTo>
                    <a:lnTo>
                      <a:pt x="291"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065240" y="1251000"/>
                <a:ext cx="380880" cy="419040"/>
              </a:xfrm>
              <a:custGeom>
                <a:avLst/>
                <a:gdLst/>
                <a:ahLst/>
                <a:rect l="l" t="t" r="r" b="b"/>
                <a:pathLst>
                  <a:path w="2401" h="2643">
                    <a:moveTo>
                      <a:pt x="0" y="1417"/>
                    </a:moveTo>
                    <a:lnTo>
                      <a:pt x="16" y="1637"/>
                    </a:lnTo>
                    <a:lnTo>
                      <a:pt x="126" y="1943"/>
                    </a:lnTo>
                    <a:lnTo>
                      <a:pt x="244" y="2110"/>
                    </a:lnTo>
                    <a:lnTo>
                      <a:pt x="594" y="2474"/>
                    </a:lnTo>
                    <a:lnTo>
                      <a:pt x="757" y="2643"/>
                    </a:lnTo>
                    <a:lnTo>
                      <a:pt x="1191" y="2355"/>
                    </a:lnTo>
                    <a:lnTo>
                      <a:pt x="1361" y="2442"/>
                    </a:lnTo>
                    <a:lnTo>
                      <a:pt x="1677" y="2474"/>
                    </a:lnTo>
                    <a:lnTo>
                      <a:pt x="1786" y="2330"/>
                    </a:lnTo>
                    <a:lnTo>
                      <a:pt x="1761" y="2179"/>
                    </a:lnTo>
                    <a:lnTo>
                      <a:pt x="1786" y="2143"/>
                    </a:lnTo>
                    <a:lnTo>
                      <a:pt x="1897" y="2110"/>
                    </a:lnTo>
                    <a:lnTo>
                      <a:pt x="1922" y="2010"/>
                    </a:lnTo>
                    <a:lnTo>
                      <a:pt x="2000" y="1952"/>
                    </a:lnTo>
                    <a:lnTo>
                      <a:pt x="2144" y="1707"/>
                    </a:lnTo>
                    <a:lnTo>
                      <a:pt x="2265" y="1741"/>
                    </a:lnTo>
                    <a:lnTo>
                      <a:pt x="2330" y="1690"/>
                    </a:lnTo>
                    <a:lnTo>
                      <a:pt x="2221" y="1157"/>
                    </a:lnTo>
                    <a:lnTo>
                      <a:pt x="2364" y="1074"/>
                    </a:lnTo>
                    <a:lnTo>
                      <a:pt x="2401" y="657"/>
                    </a:lnTo>
                    <a:lnTo>
                      <a:pt x="952" y="0"/>
                    </a:lnTo>
                    <a:lnTo>
                      <a:pt x="304" y="583"/>
                    </a:lnTo>
                    <a:lnTo>
                      <a:pt x="304" y="1030"/>
                    </a:lnTo>
                    <a:lnTo>
                      <a:pt x="0" y="141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122480" y="1214280"/>
                <a:ext cx="361800" cy="169920"/>
              </a:xfrm>
              <a:custGeom>
                <a:avLst/>
                <a:gdLst/>
                <a:ahLst/>
                <a:rect l="l" t="t" r="r" b="b"/>
                <a:pathLst>
                  <a:path w="2280" h="1064">
                    <a:moveTo>
                      <a:pt x="0" y="953"/>
                    </a:moveTo>
                    <a:lnTo>
                      <a:pt x="296" y="893"/>
                    </a:lnTo>
                    <a:lnTo>
                      <a:pt x="381" y="979"/>
                    </a:lnTo>
                    <a:lnTo>
                      <a:pt x="552" y="1064"/>
                    </a:lnTo>
                    <a:lnTo>
                      <a:pt x="1184" y="784"/>
                    </a:lnTo>
                    <a:lnTo>
                      <a:pt x="1184" y="507"/>
                    </a:lnTo>
                    <a:lnTo>
                      <a:pt x="1736" y="753"/>
                    </a:lnTo>
                    <a:lnTo>
                      <a:pt x="2280" y="793"/>
                    </a:lnTo>
                    <a:lnTo>
                      <a:pt x="1547" y="0"/>
                    </a:lnTo>
                    <a:lnTo>
                      <a:pt x="237" y="369"/>
                    </a:lnTo>
                    <a:lnTo>
                      <a:pt x="0" y="953"/>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184400" y="1454040"/>
                <a:ext cx="222120" cy="214560"/>
              </a:xfrm>
              <a:custGeom>
                <a:avLst/>
                <a:gdLst/>
                <a:ahLst/>
                <a:rect l="l" t="t" r="r" b="b"/>
                <a:pathLst>
                  <a:path w="1393" h="1349">
                    <a:moveTo>
                      <a:pt x="49" y="105"/>
                    </a:moveTo>
                    <a:lnTo>
                      <a:pt x="49" y="433"/>
                    </a:lnTo>
                    <a:lnTo>
                      <a:pt x="266" y="678"/>
                    </a:lnTo>
                    <a:lnTo>
                      <a:pt x="628" y="1116"/>
                    </a:lnTo>
                    <a:lnTo>
                      <a:pt x="928" y="1165"/>
                    </a:lnTo>
                    <a:lnTo>
                      <a:pt x="1029" y="1036"/>
                    </a:lnTo>
                    <a:lnTo>
                      <a:pt x="999" y="911"/>
                    </a:lnTo>
                    <a:lnTo>
                      <a:pt x="893" y="964"/>
                    </a:lnTo>
                    <a:lnTo>
                      <a:pt x="853" y="928"/>
                    </a:lnTo>
                    <a:lnTo>
                      <a:pt x="973" y="814"/>
                    </a:lnTo>
                    <a:lnTo>
                      <a:pt x="1097" y="822"/>
                    </a:lnTo>
                    <a:lnTo>
                      <a:pt x="1158" y="776"/>
                    </a:lnTo>
                    <a:lnTo>
                      <a:pt x="1158" y="712"/>
                    </a:lnTo>
                    <a:lnTo>
                      <a:pt x="1249" y="663"/>
                    </a:lnTo>
                    <a:lnTo>
                      <a:pt x="1319" y="482"/>
                    </a:lnTo>
                    <a:lnTo>
                      <a:pt x="1393" y="441"/>
                    </a:lnTo>
                    <a:lnTo>
                      <a:pt x="1264" y="672"/>
                    </a:lnTo>
                    <a:lnTo>
                      <a:pt x="1199" y="729"/>
                    </a:lnTo>
                    <a:lnTo>
                      <a:pt x="1199" y="822"/>
                    </a:lnTo>
                    <a:lnTo>
                      <a:pt x="1166" y="854"/>
                    </a:lnTo>
                    <a:lnTo>
                      <a:pt x="1046" y="869"/>
                    </a:lnTo>
                    <a:lnTo>
                      <a:pt x="1029" y="902"/>
                    </a:lnTo>
                    <a:lnTo>
                      <a:pt x="1063" y="1022"/>
                    </a:lnTo>
                    <a:lnTo>
                      <a:pt x="1057" y="1062"/>
                    </a:lnTo>
                    <a:lnTo>
                      <a:pt x="950" y="1197"/>
                    </a:lnTo>
                    <a:lnTo>
                      <a:pt x="919" y="1206"/>
                    </a:lnTo>
                    <a:lnTo>
                      <a:pt x="701" y="1206"/>
                    </a:lnTo>
                    <a:lnTo>
                      <a:pt x="426" y="1116"/>
                    </a:lnTo>
                    <a:lnTo>
                      <a:pt x="57" y="1349"/>
                    </a:lnTo>
                    <a:lnTo>
                      <a:pt x="201" y="1068"/>
                    </a:lnTo>
                    <a:lnTo>
                      <a:pt x="330" y="1076"/>
                    </a:lnTo>
                    <a:lnTo>
                      <a:pt x="137" y="712"/>
                    </a:lnTo>
                    <a:lnTo>
                      <a:pt x="0" y="583"/>
                    </a:lnTo>
                    <a:lnTo>
                      <a:pt x="0" y="0"/>
                    </a:lnTo>
                    <a:lnTo>
                      <a:pt x="4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308240" y="1544760"/>
                <a:ext cx="27000" cy="34920"/>
              </a:xfrm>
              <a:custGeom>
                <a:avLst/>
                <a:gdLst/>
                <a:ahLst/>
                <a:rect l="l" t="t" r="r" b="b"/>
                <a:pathLst>
                  <a:path w="175" h="218">
                    <a:moveTo>
                      <a:pt x="175" y="91"/>
                    </a:moveTo>
                    <a:lnTo>
                      <a:pt x="175" y="0"/>
                    </a:lnTo>
                    <a:lnTo>
                      <a:pt x="78" y="0"/>
                    </a:lnTo>
                    <a:lnTo>
                      <a:pt x="0" y="63"/>
                    </a:lnTo>
                    <a:lnTo>
                      <a:pt x="0" y="218"/>
                    </a:lnTo>
                    <a:lnTo>
                      <a:pt x="175" y="9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5" name=""/>
              <p:cNvSpPr/>
              <p:nvPr/>
            </p:nvSpPr>
            <p:spPr>
              <a:xfrm>
                <a:off x="1335240" y="1558800"/>
                <a:ext cx="331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6" name=""/>
              <p:cNvSpPr/>
              <p:nvPr/>
            </p:nvSpPr>
            <p:spPr>
              <a:xfrm>
                <a:off x="1347840" y="1353960"/>
                <a:ext cx="98280" cy="174960"/>
              </a:xfrm>
              <a:custGeom>
                <a:avLst/>
                <a:gdLst/>
                <a:ahLst/>
                <a:rect l="l" t="t" r="r" b="b"/>
                <a:pathLst>
                  <a:path w="622" h="1099">
                    <a:moveTo>
                      <a:pt x="226" y="957"/>
                    </a:moveTo>
                    <a:lnTo>
                      <a:pt x="259" y="1012"/>
                    </a:lnTo>
                    <a:lnTo>
                      <a:pt x="347" y="1012"/>
                    </a:lnTo>
                    <a:lnTo>
                      <a:pt x="476" y="1069"/>
                    </a:lnTo>
                    <a:lnTo>
                      <a:pt x="548" y="1026"/>
                    </a:lnTo>
                    <a:lnTo>
                      <a:pt x="428" y="502"/>
                    </a:lnTo>
                    <a:lnTo>
                      <a:pt x="347" y="484"/>
                    </a:lnTo>
                    <a:lnTo>
                      <a:pt x="266" y="540"/>
                    </a:lnTo>
                    <a:lnTo>
                      <a:pt x="306" y="453"/>
                    </a:lnTo>
                    <a:lnTo>
                      <a:pt x="243" y="421"/>
                    </a:lnTo>
                    <a:lnTo>
                      <a:pt x="170" y="413"/>
                    </a:lnTo>
                    <a:lnTo>
                      <a:pt x="99" y="406"/>
                    </a:lnTo>
                    <a:lnTo>
                      <a:pt x="0" y="413"/>
                    </a:lnTo>
                    <a:lnTo>
                      <a:pt x="235" y="311"/>
                    </a:lnTo>
                    <a:lnTo>
                      <a:pt x="444" y="375"/>
                    </a:lnTo>
                    <a:lnTo>
                      <a:pt x="533" y="326"/>
                    </a:lnTo>
                    <a:lnTo>
                      <a:pt x="523" y="375"/>
                    </a:lnTo>
                    <a:lnTo>
                      <a:pt x="461" y="438"/>
                    </a:lnTo>
                    <a:lnTo>
                      <a:pt x="582" y="421"/>
                    </a:lnTo>
                    <a:lnTo>
                      <a:pt x="622" y="0"/>
                    </a:lnTo>
                    <a:lnTo>
                      <a:pt x="605" y="438"/>
                    </a:lnTo>
                    <a:lnTo>
                      <a:pt x="468" y="515"/>
                    </a:lnTo>
                    <a:lnTo>
                      <a:pt x="582" y="1026"/>
                    </a:lnTo>
                    <a:lnTo>
                      <a:pt x="493" y="1099"/>
                    </a:lnTo>
                    <a:lnTo>
                      <a:pt x="324" y="1044"/>
                    </a:lnTo>
                    <a:lnTo>
                      <a:pt x="212" y="1044"/>
                    </a:lnTo>
                    <a:lnTo>
                      <a:pt x="179" y="980"/>
                    </a:lnTo>
                    <a:lnTo>
                      <a:pt x="226" y="9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1360440" y="1432080"/>
                <a:ext cx="33480" cy="27000"/>
              </a:xfrm>
              <a:custGeom>
                <a:avLst/>
                <a:gdLst/>
                <a:ahLst/>
                <a:rect l="l" t="t" r="r" b="b"/>
                <a:pathLst>
                  <a:path w="216" h="171">
                    <a:moveTo>
                      <a:pt x="210" y="24"/>
                    </a:moveTo>
                    <a:lnTo>
                      <a:pt x="152" y="0"/>
                    </a:lnTo>
                    <a:lnTo>
                      <a:pt x="152" y="56"/>
                    </a:lnTo>
                    <a:lnTo>
                      <a:pt x="0" y="0"/>
                    </a:lnTo>
                    <a:lnTo>
                      <a:pt x="0" y="49"/>
                    </a:lnTo>
                    <a:lnTo>
                      <a:pt x="178" y="171"/>
                    </a:lnTo>
                    <a:lnTo>
                      <a:pt x="216" y="144"/>
                    </a:lnTo>
                    <a:lnTo>
                      <a:pt x="185" y="104"/>
                    </a:lnTo>
                    <a:lnTo>
                      <a:pt x="185" y="56"/>
                    </a:lnTo>
                    <a:lnTo>
                      <a:pt x="210"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28" name=""/>
              <p:cNvSpPr/>
              <p:nvPr/>
            </p:nvSpPr>
            <p:spPr>
              <a:xfrm>
                <a:off x="1341360" y="1459080"/>
                <a:ext cx="39600" cy="36360"/>
              </a:xfrm>
              <a:custGeom>
                <a:avLst/>
                <a:gdLst/>
                <a:ahLst/>
                <a:rect l="l" t="t" r="r" b="b"/>
                <a:pathLst>
                  <a:path w="241" h="229">
                    <a:moveTo>
                      <a:pt x="241" y="5"/>
                    </a:moveTo>
                    <a:lnTo>
                      <a:pt x="144" y="5"/>
                    </a:lnTo>
                    <a:lnTo>
                      <a:pt x="144" y="78"/>
                    </a:lnTo>
                    <a:lnTo>
                      <a:pt x="0" y="0"/>
                    </a:lnTo>
                    <a:lnTo>
                      <a:pt x="0" y="78"/>
                    </a:lnTo>
                    <a:lnTo>
                      <a:pt x="66" y="229"/>
                    </a:lnTo>
                    <a:lnTo>
                      <a:pt x="175" y="100"/>
                    </a:lnTo>
                    <a:lnTo>
                      <a:pt x="175" y="54"/>
                    </a:lnTo>
                    <a:lnTo>
                      <a:pt x="217" y="37"/>
                    </a:lnTo>
                    <a:lnTo>
                      <a:pt x="241"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29" name=""/>
              <p:cNvSpPr/>
              <p:nvPr/>
            </p:nvSpPr>
            <p:spPr>
              <a:xfrm>
                <a:off x="1036800" y="1214280"/>
                <a:ext cx="465120" cy="268560"/>
              </a:xfrm>
              <a:custGeom>
                <a:avLst/>
                <a:gdLst/>
                <a:ahLst/>
                <a:rect l="l" t="t" r="r" b="b"/>
                <a:pathLst>
                  <a:path w="2925" h="1689">
                    <a:moveTo>
                      <a:pt x="1766" y="612"/>
                    </a:moveTo>
                    <a:lnTo>
                      <a:pt x="1766" y="813"/>
                    </a:lnTo>
                    <a:lnTo>
                      <a:pt x="1603" y="862"/>
                    </a:lnTo>
                    <a:lnTo>
                      <a:pt x="1723" y="891"/>
                    </a:lnTo>
                    <a:lnTo>
                      <a:pt x="1650" y="954"/>
                    </a:lnTo>
                    <a:lnTo>
                      <a:pt x="1436" y="949"/>
                    </a:lnTo>
                    <a:lnTo>
                      <a:pt x="1290" y="1177"/>
                    </a:lnTo>
                    <a:lnTo>
                      <a:pt x="1042" y="1052"/>
                    </a:lnTo>
                    <a:lnTo>
                      <a:pt x="985" y="931"/>
                    </a:lnTo>
                    <a:lnTo>
                      <a:pt x="1330" y="931"/>
                    </a:lnTo>
                    <a:lnTo>
                      <a:pt x="1645" y="796"/>
                    </a:lnTo>
                    <a:lnTo>
                      <a:pt x="1427" y="741"/>
                    </a:lnTo>
                    <a:lnTo>
                      <a:pt x="1645" y="683"/>
                    </a:lnTo>
                    <a:lnTo>
                      <a:pt x="1443" y="574"/>
                    </a:lnTo>
                    <a:lnTo>
                      <a:pt x="1290" y="565"/>
                    </a:lnTo>
                    <a:lnTo>
                      <a:pt x="1497" y="502"/>
                    </a:lnTo>
                    <a:lnTo>
                      <a:pt x="1396" y="445"/>
                    </a:lnTo>
                    <a:lnTo>
                      <a:pt x="1201" y="405"/>
                    </a:lnTo>
                    <a:lnTo>
                      <a:pt x="970" y="463"/>
                    </a:lnTo>
                    <a:lnTo>
                      <a:pt x="1129" y="565"/>
                    </a:lnTo>
                    <a:lnTo>
                      <a:pt x="999" y="627"/>
                    </a:lnTo>
                    <a:lnTo>
                      <a:pt x="1123" y="683"/>
                    </a:lnTo>
                    <a:lnTo>
                      <a:pt x="1123" y="741"/>
                    </a:lnTo>
                    <a:lnTo>
                      <a:pt x="759" y="821"/>
                    </a:lnTo>
                    <a:lnTo>
                      <a:pt x="574" y="923"/>
                    </a:lnTo>
                    <a:lnTo>
                      <a:pt x="848" y="885"/>
                    </a:lnTo>
                    <a:lnTo>
                      <a:pt x="934" y="914"/>
                    </a:lnTo>
                    <a:lnTo>
                      <a:pt x="913" y="980"/>
                    </a:lnTo>
                    <a:lnTo>
                      <a:pt x="790" y="931"/>
                    </a:lnTo>
                    <a:lnTo>
                      <a:pt x="574" y="980"/>
                    </a:lnTo>
                    <a:lnTo>
                      <a:pt x="574" y="1177"/>
                    </a:lnTo>
                    <a:lnTo>
                      <a:pt x="719" y="1554"/>
                    </a:lnTo>
                    <a:lnTo>
                      <a:pt x="799" y="1577"/>
                    </a:lnTo>
                    <a:lnTo>
                      <a:pt x="903" y="1529"/>
                    </a:lnTo>
                    <a:lnTo>
                      <a:pt x="807" y="1624"/>
                    </a:lnTo>
                    <a:lnTo>
                      <a:pt x="693" y="1577"/>
                    </a:lnTo>
                    <a:lnTo>
                      <a:pt x="588" y="1291"/>
                    </a:lnTo>
                    <a:lnTo>
                      <a:pt x="477" y="1458"/>
                    </a:lnTo>
                    <a:lnTo>
                      <a:pt x="316" y="1540"/>
                    </a:lnTo>
                    <a:lnTo>
                      <a:pt x="275" y="1689"/>
                    </a:lnTo>
                    <a:lnTo>
                      <a:pt x="68" y="1689"/>
                    </a:lnTo>
                    <a:lnTo>
                      <a:pt x="0" y="1393"/>
                    </a:lnTo>
                    <a:lnTo>
                      <a:pt x="123" y="1131"/>
                    </a:lnTo>
                    <a:lnTo>
                      <a:pt x="123" y="732"/>
                    </a:lnTo>
                    <a:lnTo>
                      <a:pt x="348" y="125"/>
                    </a:lnTo>
                    <a:lnTo>
                      <a:pt x="541" y="0"/>
                    </a:lnTo>
                    <a:lnTo>
                      <a:pt x="1603" y="174"/>
                    </a:lnTo>
                    <a:lnTo>
                      <a:pt x="1805" y="294"/>
                    </a:lnTo>
                    <a:lnTo>
                      <a:pt x="1723" y="358"/>
                    </a:lnTo>
                    <a:lnTo>
                      <a:pt x="1927" y="542"/>
                    </a:lnTo>
                    <a:lnTo>
                      <a:pt x="2169" y="542"/>
                    </a:lnTo>
                    <a:lnTo>
                      <a:pt x="2136" y="612"/>
                    </a:lnTo>
                    <a:lnTo>
                      <a:pt x="2385" y="660"/>
                    </a:lnTo>
                    <a:lnTo>
                      <a:pt x="2338" y="709"/>
                    </a:lnTo>
                    <a:lnTo>
                      <a:pt x="2740" y="756"/>
                    </a:lnTo>
                    <a:lnTo>
                      <a:pt x="2634" y="374"/>
                    </a:lnTo>
                    <a:lnTo>
                      <a:pt x="2829" y="638"/>
                    </a:lnTo>
                    <a:lnTo>
                      <a:pt x="2925" y="891"/>
                    </a:lnTo>
                    <a:lnTo>
                      <a:pt x="2893" y="940"/>
                    </a:lnTo>
                    <a:lnTo>
                      <a:pt x="2651" y="931"/>
                    </a:lnTo>
                    <a:lnTo>
                      <a:pt x="2490" y="914"/>
                    </a:lnTo>
                    <a:lnTo>
                      <a:pt x="2353" y="867"/>
                    </a:lnTo>
                    <a:lnTo>
                      <a:pt x="2442" y="836"/>
                    </a:lnTo>
                    <a:lnTo>
                      <a:pt x="2216" y="813"/>
                    </a:lnTo>
                    <a:lnTo>
                      <a:pt x="2014" y="732"/>
                    </a:lnTo>
                    <a:lnTo>
                      <a:pt x="1828" y="645"/>
                    </a:lnTo>
                    <a:lnTo>
                      <a:pt x="1766"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112760" y="1152360"/>
                <a:ext cx="373320" cy="184320"/>
              </a:xfrm>
              <a:custGeom>
                <a:avLst/>
                <a:gdLst/>
                <a:ahLst/>
                <a:rect l="l" t="t" r="r" b="b"/>
                <a:pathLst>
                  <a:path w="2352" h="1163">
                    <a:moveTo>
                      <a:pt x="2286" y="1163"/>
                    </a:moveTo>
                    <a:lnTo>
                      <a:pt x="1886" y="995"/>
                    </a:lnTo>
                    <a:lnTo>
                      <a:pt x="1933" y="957"/>
                    </a:lnTo>
                    <a:lnTo>
                      <a:pt x="1683" y="855"/>
                    </a:lnTo>
                    <a:lnTo>
                      <a:pt x="1571" y="855"/>
                    </a:lnTo>
                    <a:lnTo>
                      <a:pt x="1465" y="757"/>
                    </a:lnTo>
                    <a:lnTo>
                      <a:pt x="1554" y="686"/>
                    </a:lnTo>
                    <a:lnTo>
                      <a:pt x="1173" y="597"/>
                    </a:lnTo>
                    <a:lnTo>
                      <a:pt x="0" y="439"/>
                    </a:lnTo>
                    <a:lnTo>
                      <a:pt x="155" y="175"/>
                    </a:lnTo>
                    <a:lnTo>
                      <a:pt x="555" y="24"/>
                    </a:lnTo>
                    <a:lnTo>
                      <a:pt x="908" y="0"/>
                    </a:lnTo>
                    <a:lnTo>
                      <a:pt x="1313" y="80"/>
                    </a:lnTo>
                    <a:lnTo>
                      <a:pt x="1650" y="222"/>
                    </a:lnTo>
                    <a:lnTo>
                      <a:pt x="1899" y="430"/>
                    </a:lnTo>
                    <a:lnTo>
                      <a:pt x="2068" y="597"/>
                    </a:lnTo>
                    <a:lnTo>
                      <a:pt x="2223" y="813"/>
                    </a:lnTo>
                    <a:lnTo>
                      <a:pt x="2352" y="1030"/>
                    </a:lnTo>
                    <a:lnTo>
                      <a:pt x="2286" y="1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141560" y="1368360"/>
                <a:ext cx="47520" cy="58680"/>
              </a:xfrm>
              <a:custGeom>
                <a:avLst/>
                <a:gdLst/>
                <a:ahLst/>
                <a:rect l="l" t="t" r="r" b="b"/>
                <a:pathLst>
                  <a:path w="301" h="373">
                    <a:moveTo>
                      <a:pt x="301" y="151"/>
                    </a:moveTo>
                    <a:lnTo>
                      <a:pt x="178" y="67"/>
                    </a:lnTo>
                    <a:lnTo>
                      <a:pt x="178" y="0"/>
                    </a:lnTo>
                    <a:lnTo>
                      <a:pt x="26" y="26"/>
                    </a:lnTo>
                    <a:lnTo>
                      <a:pt x="0" y="214"/>
                    </a:lnTo>
                    <a:lnTo>
                      <a:pt x="163" y="96"/>
                    </a:lnTo>
                    <a:lnTo>
                      <a:pt x="220" y="142"/>
                    </a:lnTo>
                    <a:lnTo>
                      <a:pt x="107" y="231"/>
                    </a:lnTo>
                    <a:lnTo>
                      <a:pt x="107" y="335"/>
                    </a:lnTo>
                    <a:lnTo>
                      <a:pt x="282" y="373"/>
                    </a:lnTo>
                    <a:lnTo>
                      <a:pt x="251" y="303"/>
                    </a:lnTo>
                    <a:lnTo>
                      <a:pt x="251" y="265"/>
                    </a:lnTo>
                    <a:lnTo>
                      <a:pt x="301" y="206"/>
                    </a:lnTo>
                    <a:lnTo>
                      <a:pt x="301" y="15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2" name=""/>
              <p:cNvSpPr/>
              <p:nvPr/>
            </p:nvSpPr>
            <p:spPr>
              <a:xfrm>
                <a:off x="1222200" y="1384200"/>
                <a:ext cx="972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3" name=""/>
              <p:cNvSpPr/>
              <p:nvPr/>
            </p:nvSpPr>
            <p:spPr>
              <a:xfrm>
                <a:off x="1233360" y="1393920"/>
                <a:ext cx="111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4" name=""/>
              <p:cNvSpPr/>
              <p:nvPr/>
            </p:nvSpPr>
            <p:spPr>
              <a:xfrm>
                <a:off x="1247760" y="1414440"/>
                <a:ext cx="648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5" name=""/>
              <p:cNvSpPr/>
              <p:nvPr/>
            </p:nvSpPr>
            <p:spPr>
              <a:xfrm>
                <a:off x="1260360" y="1430280"/>
                <a:ext cx="50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36" name=""/>
              <p:cNvSpPr/>
              <p:nvPr/>
            </p:nvSpPr>
            <p:spPr>
              <a:xfrm>
                <a:off x="1062000" y="1476360"/>
                <a:ext cx="98640" cy="166680"/>
              </a:xfrm>
              <a:custGeom>
                <a:avLst/>
                <a:gdLst/>
                <a:ahLst/>
                <a:rect l="l" t="t" r="r" b="b"/>
                <a:pathLst>
                  <a:path w="618" h="1047">
                    <a:moveTo>
                      <a:pt x="46" y="18"/>
                    </a:moveTo>
                    <a:lnTo>
                      <a:pt x="46" y="114"/>
                    </a:lnTo>
                    <a:lnTo>
                      <a:pt x="71" y="267"/>
                    </a:lnTo>
                    <a:lnTo>
                      <a:pt x="144" y="458"/>
                    </a:lnTo>
                    <a:lnTo>
                      <a:pt x="218" y="591"/>
                    </a:lnTo>
                    <a:lnTo>
                      <a:pt x="313" y="712"/>
                    </a:lnTo>
                    <a:lnTo>
                      <a:pt x="618" y="1047"/>
                    </a:lnTo>
                    <a:lnTo>
                      <a:pt x="235" y="656"/>
                    </a:lnTo>
                    <a:lnTo>
                      <a:pt x="144" y="515"/>
                    </a:lnTo>
                    <a:lnTo>
                      <a:pt x="57" y="329"/>
                    </a:lnTo>
                    <a:lnTo>
                      <a:pt x="8" y="176"/>
                    </a:lnTo>
                    <a:lnTo>
                      <a:pt x="0" y="74"/>
                    </a:lnTo>
                    <a:lnTo>
                      <a:pt x="0" y="0"/>
                    </a:lnTo>
                    <a:lnTo>
                      <a:pt x="46"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5000" y="1484280"/>
                <a:ext cx="304920" cy="216000"/>
              </a:xfrm>
              <a:custGeom>
                <a:avLst/>
                <a:gdLst/>
                <a:ahLst/>
                <a:rect l="l" t="t" r="r" b="b"/>
                <a:pathLst>
                  <a:path w="1917" h="1359">
                    <a:moveTo>
                      <a:pt x="1724" y="0"/>
                    </a:moveTo>
                    <a:lnTo>
                      <a:pt x="1566" y="178"/>
                    </a:lnTo>
                    <a:lnTo>
                      <a:pt x="1533" y="315"/>
                    </a:lnTo>
                    <a:lnTo>
                      <a:pt x="1533" y="475"/>
                    </a:lnTo>
                    <a:lnTo>
                      <a:pt x="1628" y="790"/>
                    </a:lnTo>
                    <a:lnTo>
                      <a:pt x="1851" y="1233"/>
                    </a:lnTo>
                    <a:lnTo>
                      <a:pt x="1917" y="1359"/>
                    </a:lnTo>
                    <a:lnTo>
                      <a:pt x="1448" y="893"/>
                    </a:lnTo>
                    <a:lnTo>
                      <a:pt x="1641" y="1033"/>
                    </a:lnTo>
                    <a:lnTo>
                      <a:pt x="1641" y="893"/>
                    </a:lnTo>
                    <a:lnTo>
                      <a:pt x="1555" y="684"/>
                    </a:lnTo>
                    <a:lnTo>
                      <a:pt x="1512" y="538"/>
                    </a:lnTo>
                    <a:lnTo>
                      <a:pt x="1491" y="377"/>
                    </a:lnTo>
                    <a:lnTo>
                      <a:pt x="1395" y="411"/>
                    </a:lnTo>
                    <a:lnTo>
                      <a:pt x="1428" y="589"/>
                    </a:lnTo>
                    <a:lnTo>
                      <a:pt x="1182" y="517"/>
                    </a:lnTo>
                    <a:lnTo>
                      <a:pt x="906" y="631"/>
                    </a:lnTo>
                    <a:lnTo>
                      <a:pt x="1106" y="790"/>
                    </a:lnTo>
                    <a:lnTo>
                      <a:pt x="542" y="695"/>
                    </a:lnTo>
                    <a:lnTo>
                      <a:pt x="182" y="832"/>
                    </a:lnTo>
                    <a:lnTo>
                      <a:pt x="0" y="946"/>
                    </a:lnTo>
                    <a:lnTo>
                      <a:pt x="225" y="769"/>
                    </a:lnTo>
                    <a:lnTo>
                      <a:pt x="415" y="631"/>
                    </a:lnTo>
                    <a:lnTo>
                      <a:pt x="511" y="631"/>
                    </a:lnTo>
                    <a:lnTo>
                      <a:pt x="629" y="485"/>
                    </a:lnTo>
                    <a:lnTo>
                      <a:pt x="939" y="422"/>
                    </a:lnTo>
                    <a:lnTo>
                      <a:pt x="1150" y="315"/>
                    </a:lnTo>
                    <a:lnTo>
                      <a:pt x="1375" y="315"/>
                    </a:lnTo>
                    <a:lnTo>
                      <a:pt x="1595" y="93"/>
                    </a:lnTo>
                    <a:lnTo>
                      <a:pt x="17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011240" y="1666800"/>
                <a:ext cx="208080" cy="517680"/>
              </a:xfrm>
              <a:custGeom>
                <a:avLst/>
                <a:gdLst/>
                <a:ahLst/>
                <a:rect l="l" t="t" r="r" b="b"/>
                <a:pathLst>
                  <a:path w="1308" h="3264">
                    <a:moveTo>
                      <a:pt x="1097" y="19"/>
                    </a:moveTo>
                    <a:lnTo>
                      <a:pt x="1033" y="145"/>
                    </a:lnTo>
                    <a:lnTo>
                      <a:pt x="1033" y="325"/>
                    </a:lnTo>
                    <a:lnTo>
                      <a:pt x="1075" y="451"/>
                    </a:lnTo>
                    <a:lnTo>
                      <a:pt x="1213" y="461"/>
                    </a:lnTo>
                    <a:lnTo>
                      <a:pt x="1279" y="178"/>
                    </a:lnTo>
                    <a:lnTo>
                      <a:pt x="1308" y="220"/>
                    </a:lnTo>
                    <a:lnTo>
                      <a:pt x="1222" y="558"/>
                    </a:lnTo>
                    <a:lnTo>
                      <a:pt x="1075" y="589"/>
                    </a:lnTo>
                    <a:lnTo>
                      <a:pt x="946" y="872"/>
                    </a:lnTo>
                    <a:lnTo>
                      <a:pt x="893" y="1094"/>
                    </a:lnTo>
                    <a:lnTo>
                      <a:pt x="873" y="1347"/>
                    </a:lnTo>
                    <a:lnTo>
                      <a:pt x="926" y="1967"/>
                    </a:lnTo>
                    <a:lnTo>
                      <a:pt x="946" y="2484"/>
                    </a:lnTo>
                    <a:lnTo>
                      <a:pt x="926" y="2875"/>
                    </a:lnTo>
                    <a:lnTo>
                      <a:pt x="893" y="3264"/>
                    </a:lnTo>
                    <a:lnTo>
                      <a:pt x="500" y="3264"/>
                    </a:lnTo>
                    <a:lnTo>
                      <a:pt x="648" y="3137"/>
                    </a:lnTo>
                    <a:lnTo>
                      <a:pt x="853" y="2695"/>
                    </a:lnTo>
                    <a:lnTo>
                      <a:pt x="862" y="2380"/>
                    </a:lnTo>
                    <a:lnTo>
                      <a:pt x="693" y="2210"/>
                    </a:lnTo>
                    <a:lnTo>
                      <a:pt x="564" y="2255"/>
                    </a:lnTo>
                    <a:lnTo>
                      <a:pt x="775" y="1715"/>
                    </a:lnTo>
                    <a:lnTo>
                      <a:pt x="806" y="1126"/>
                    </a:lnTo>
                    <a:lnTo>
                      <a:pt x="936" y="578"/>
                    </a:lnTo>
                    <a:lnTo>
                      <a:pt x="754" y="789"/>
                    </a:lnTo>
                    <a:lnTo>
                      <a:pt x="553" y="925"/>
                    </a:lnTo>
                    <a:lnTo>
                      <a:pt x="351" y="1000"/>
                    </a:lnTo>
                    <a:lnTo>
                      <a:pt x="169" y="1022"/>
                    </a:lnTo>
                    <a:lnTo>
                      <a:pt x="11" y="1000"/>
                    </a:lnTo>
                    <a:lnTo>
                      <a:pt x="0" y="976"/>
                    </a:lnTo>
                    <a:lnTo>
                      <a:pt x="140" y="936"/>
                    </a:lnTo>
                    <a:lnTo>
                      <a:pt x="307" y="853"/>
                    </a:lnTo>
                    <a:lnTo>
                      <a:pt x="468" y="726"/>
                    </a:lnTo>
                    <a:lnTo>
                      <a:pt x="626" y="548"/>
                    </a:lnTo>
                    <a:lnTo>
                      <a:pt x="724" y="367"/>
                    </a:lnTo>
                    <a:lnTo>
                      <a:pt x="806" y="178"/>
                    </a:lnTo>
                    <a:lnTo>
                      <a:pt x="479" y="356"/>
                    </a:lnTo>
                    <a:lnTo>
                      <a:pt x="457" y="305"/>
                    </a:lnTo>
                    <a:lnTo>
                      <a:pt x="764" y="127"/>
                    </a:lnTo>
                    <a:lnTo>
                      <a:pt x="1086" y="0"/>
                    </a:lnTo>
                    <a:lnTo>
                      <a:pt x="109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1233360" y="1623960"/>
                <a:ext cx="25560" cy="76320"/>
              </a:xfrm>
              <a:custGeom>
                <a:avLst/>
                <a:gdLst/>
                <a:ahLst/>
                <a:rect l="l" t="t" r="r" b="b"/>
                <a:pathLst>
                  <a:path w="161" h="476">
                    <a:moveTo>
                      <a:pt x="44" y="87"/>
                    </a:moveTo>
                    <a:lnTo>
                      <a:pt x="108" y="170"/>
                    </a:lnTo>
                    <a:lnTo>
                      <a:pt x="0" y="476"/>
                    </a:lnTo>
                    <a:lnTo>
                      <a:pt x="161" y="127"/>
                    </a:lnTo>
                    <a:lnTo>
                      <a:pt x="161" y="0"/>
                    </a:lnTo>
                    <a:lnTo>
                      <a:pt x="44" y="8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0" name=""/>
              <p:cNvSpPr/>
              <p:nvPr/>
            </p:nvSpPr>
            <p:spPr>
              <a:xfrm>
                <a:off x="1271520" y="1643040"/>
                <a:ext cx="60480" cy="162000"/>
              </a:xfrm>
              <a:custGeom>
                <a:avLst/>
                <a:gdLst/>
                <a:ahLst/>
                <a:rect l="l" t="t" r="r" b="b"/>
                <a:pathLst>
                  <a:path w="384" h="1023">
                    <a:moveTo>
                      <a:pt x="84" y="0"/>
                    </a:moveTo>
                    <a:lnTo>
                      <a:pt x="127" y="96"/>
                    </a:lnTo>
                    <a:lnTo>
                      <a:pt x="53" y="203"/>
                    </a:lnTo>
                    <a:lnTo>
                      <a:pt x="11" y="307"/>
                    </a:lnTo>
                    <a:lnTo>
                      <a:pt x="0" y="445"/>
                    </a:lnTo>
                    <a:lnTo>
                      <a:pt x="11" y="591"/>
                    </a:lnTo>
                    <a:lnTo>
                      <a:pt x="31" y="760"/>
                    </a:lnTo>
                    <a:lnTo>
                      <a:pt x="127" y="1023"/>
                    </a:lnTo>
                    <a:lnTo>
                      <a:pt x="53" y="803"/>
                    </a:lnTo>
                    <a:lnTo>
                      <a:pt x="53" y="689"/>
                    </a:lnTo>
                    <a:lnTo>
                      <a:pt x="84" y="538"/>
                    </a:lnTo>
                    <a:lnTo>
                      <a:pt x="169" y="360"/>
                    </a:lnTo>
                    <a:lnTo>
                      <a:pt x="256" y="244"/>
                    </a:lnTo>
                    <a:lnTo>
                      <a:pt x="351" y="127"/>
                    </a:lnTo>
                    <a:lnTo>
                      <a:pt x="384" y="107"/>
                    </a:lnTo>
                    <a:lnTo>
                      <a:pt x="296" y="11"/>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900000" y="1685880"/>
                <a:ext cx="65160" cy="339840"/>
              </a:xfrm>
              <a:custGeom>
                <a:avLst/>
                <a:gdLst/>
                <a:ahLst/>
                <a:rect l="l" t="t" r="r" b="b"/>
                <a:pathLst>
                  <a:path w="416" h="2150">
                    <a:moveTo>
                      <a:pt x="43" y="0"/>
                    </a:moveTo>
                    <a:lnTo>
                      <a:pt x="159" y="231"/>
                    </a:lnTo>
                    <a:lnTo>
                      <a:pt x="214" y="442"/>
                    </a:lnTo>
                    <a:lnTo>
                      <a:pt x="225" y="662"/>
                    </a:lnTo>
                    <a:lnTo>
                      <a:pt x="214" y="915"/>
                    </a:lnTo>
                    <a:lnTo>
                      <a:pt x="159" y="1158"/>
                    </a:lnTo>
                    <a:lnTo>
                      <a:pt x="87" y="1284"/>
                    </a:lnTo>
                    <a:lnTo>
                      <a:pt x="0" y="1402"/>
                    </a:lnTo>
                    <a:lnTo>
                      <a:pt x="0" y="2150"/>
                    </a:lnTo>
                    <a:lnTo>
                      <a:pt x="129" y="2033"/>
                    </a:lnTo>
                    <a:lnTo>
                      <a:pt x="65" y="1830"/>
                    </a:lnTo>
                    <a:lnTo>
                      <a:pt x="203" y="1673"/>
                    </a:lnTo>
                    <a:lnTo>
                      <a:pt x="309" y="1506"/>
                    </a:lnTo>
                    <a:lnTo>
                      <a:pt x="372" y="1293"/>
                    </a:lnTo>
                    <a:lnTo>
                      <a:pt x="416" y="1073"/>
                    </a:lnTo>
                    <a:lnTo>
                      <a:pt x="416" y="873"/>
                    </a:lnTo>
                    <a:lnTo>
                      <a:pt x="383" y="631"/>
                    </a:lnTo>
                    <a:lnTo>
                      <a:pt x="320" y="432"/>
                    </a:lnTo>
                    <a:lnTo>
                      <a:pt x="236" y="260"/>
                    </a:lnTo>
                    <a:lnTo>
                      <a:pt x="159" y="144"/>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92000" y="1674720"/>
                <a:ext cx="90720" cy="133560"/>
              </a:xfrm>
              <a:custGeom>
                <a:avLst/>
                <a:gdLst/>
                <a:ahLst/>
                <a:rect l="l" t="t" r="r" b="b"/>
                <a:pathLst>
                  <a:path w="573" h="841">
                    <a:moveTo>
                      <a:pt x="573" y="841"/>
                    </a:moveTo>
                    <a:lnTo>
                      <a:pt x="499" y="547"/>
                    </a:lnTo>
                    <a:lnTo>
                      <a:pt x="402" y="324"/>
                    </a:lnTo>
                    <a:lnTo>
                      <a:pt x="285" y="133"/>
                    </a:lnTo>
                    <a:lnTo>
                      <a:pt x="190" y="20"/>
                    </a:lnTo>
                    <a:lnTo>
                      <a:pt x="135" y="0"/>
                    </a:lnTo>
                    <a:lnTo>
                      <a:pt x="84" y="11"/>
                    </a:lnTo>
                    <a:lnTo>
                      <a:pt x="40" y="75"/>
                    </a:lnTo>
                    <a:lnTo>
                      <a:pt x="11" y="229"/>
                    </a:lnTo>
                    <a:lnTo>
                      <a:pt x="0" y="367"/>
                    </a:lnTo>
                    <a:lnTo>
                      <a:pt x="11" y="547"/>
                    </a:lnTo>
                    <a:lnTo>
                      <a:pt x="20" y="367"/>
                    </a:lnTo>
                    <a:lnTo>
                      <a:pt x="53" y="229"/>
                    </a:lnTo>
                    <a:lnTo>
                      <a:pt x="147" y="264"/>
                    </a:lnTo>
                    <a:lnTo>
                      <a:pt x="309" y="441"/>
                    </a:lnTo>
                    <a:lnTo>
                      <a:pt x="457" y="651"/>
                    </a:lnTo>
                    <a:lnTo>
                      <a:pt x="573" y="8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31800" y="1657440"/>
                <a:ext cx="179280" cy="555480"/>
              </a:xfrm>
              <a:custGeom>
                <a:avLst/>
                <a:gdLst/>
                <a:ahLst/>
                <a:rect l="l" t="t" r="r" b="b"/>
                <a:pathLst>
                  <a:path w="1128" h="3499">
                    <a:moveTo>
                      <a:pt x="961" y="11"/>
                    </a:moveTo>
                    <a:lnTo>
                      <a:pt x="835" y="0"/>
                    </a:lnTo>
                    <a:lnTo>
                      <a:pt x="690" y="11"/>
                    </a:lnTo>
                    <a:lnTo>
                      <a:pt x="559" y="111"/>
                    </a:lnTo>
                    <a:lnTo>
                      <a:pt x="435" y="276"/>
                    </a:lnTo>
                    <a:lnTo>
                      <a:pt x="300" y="509"/>
                    </a:lnTo>
                    <a:lnTo>
                      <a:pt x="177" y="786"/>
                    </a:lnTo>
                    <a:lnTo>
                      <a:pt x="133" y="974"/>
                    </a:lnTo>
                    <a:lnTo>
                      <a:pt x="122" y="1173"/>
                    </a:lnTo>
                    <a:lnTo>
                      <a:pt x="146" y="1362"/>
                    </a:lnTo>
                    <a:lnTo>
                      <a:pt x="157" y="1538"/>
                    </a:lnTo>
                    <a:lnTo>
                      <a:pt x="133" y="1695"/>
                    </a:lnTo>
                    <a:lnTo>
                      <a:pt x="22" y="2215"/>
                    </a:lnTo>
                    <a:lnTo>
                      <a:pt x="22" y="2346"/>
                    </a:lnTo>
                    <a:lnTo>
                      <a:pt x="55" y="2511"/>
                    </a:lnTo>
                    <a:lnTo>
                      <a:pt x="55" y="2690"/>
                    </a:lnTo>
                    <a:lnTo>
                      <a:pt x="0" y="3177"/>
                    </a:lnTo>
                    <a:lnTo>
                      <a:pt x="0" y="3354"/>
                    </a:lnTo>
                    <a:lnTo>
                      <a:pt x="11" y="3499"/>
                    </a:lnTo>
                    <a:lnTo>
                      <a:pt x="31" y="3375"/>
                    </a:lnTo>
                    <a:lnTo>
                      <a:pt x="97" y="3242"/>
                    </a:lnTo>
                    <a:lnTo>
                      <a:pt x="209" y="3100"/>
                    </a:lnTo>
                    <a:lnTo>
                      <a:pt x="279" y="3032"/>
                    </a:lnTo>
                    <a:lnTo>
                      <a:pt x="426" y="2933"/>
                    </a:lnTo>
                    <a:lnTo>
                      <a:pt x="569" y="2857"/>
                    </a:lnTo>
                    <a:lnTo>
                      <a:pt x="781" y="2823"/>
                    </a:lnTo>
                    <a:lnTo>
                      <a:pt x="971" y="2823"/>
                    </a:lnTo>
                    <a:lnTo>
                      <a:pt x="813" y="2779"/>
                    </a:lnTo>
                    <a:lnTo>
                      <a:pt x="658" y="2766"/>
                    </a:lnTo>
                    <a:lnTo>
                      <a:pt x="535" y="2779"/>
                    </a:lnTo>
                    <a:lnTo>
                      <a:pt x="726" y="1993"/>
                    </a:lnTo>
                    <a:lnTo>
                      <a:pt x="882" y="2158"/>
                    </a:lnTo>
                    <a:lnTo>
                      <a:pt x="917" y="2246"/>
                    </a:lnTo>
                    <a:lnTo>
                      <a:pt x="917" y="2326"/>
                    </a:lnTo>
                    <a:lnTo>
                      <a:pt x="870" y="2380"/>
                    </a:lnTo>
                    <a:lnTo>
                      <a:pt x="804" y="2402"/>
                    </a:lnTo>
                    <a:lnTo>
                      <a:pt x="906" y="2424"/>
                    </a:lnTo>
                    <a:lnTo>
                      <a:pt x="993" y="2415"/>
                    </a:lnTo>
                    <a:lnTo>
                      <a:pt x="1061" y="2380"/>
                    </a:lnTo>
                    <a:lnTo>
                      <a:pt x="1105" y="2326"/>
                    </a:lnTo>
                    <a:lnTo>
                      <a:pt x="1128" y="2246"/>
                    </a:lnTo>
                    <a:lnTo>
                      <a:pt x="1128" y="2158"/>
                    </a:lnTo>
                    <a:lnTo>
                      <a:pt x="1071" y="2057"/>
                    </a:lnTo>
                    <a:lnTo>
                      <a:pt x="971" y="1946"/>
                    </a:lnTo>
                    <a:lnTo>
                      <a:pt x="604" y="1559"/>
                    </a:lnTo>
                    <a:lnTo>
                      <a:pt x="512" y="1417"/>
                    </a:lnTo>
                    <a:lnTo>
                      <a:pt x="426" y="1271"/>
                    </a:lnTo>
                    <a:lnTo>
                      <a:pt x="389" y="1118"/>
                    </a:lnTo>
                    <a:lnTo>
                      <a:pt x="368" y="985"/>
                    </a:lnTo>
                    <a:lnTo>
                      <a:pt x="400" y="938"/>
                    </a:lnTo>
                    <a:lnTo>
                      <a:pt x="480" y="1160"/>
                    </a:lnTo>
                    <a:lnTo>
                      <a:pt x="546" y="1317"/>
                    </a:lnTo>
                    <a:lnTo>
                      <a:pt x="648" y="1471"/>
                    </a:lnTo>
                    <a:lnTo>
                      <a:pt x="747" y="1582"/>
                    </a:lnTo>
                    <a:lnTo>
                      <a:pt x="893" y="1682"/>
                    </a:lnTo>
                    <a:lnTo>
                      <a:pt x="982" y="1737"/>
                    </a:lnTo>
                    <a:lnTo>
                      <a:pt x="870" y="1616"/>
                    </a:lnTo>
                    <a:lnTo>
                      <a:pt x="862" y="1527"/>
                    </a:lnTo>
                    <a:lnTo>
                      <a:pt x="739" y="1396"/>
                    </a:lnTo>
                    <a:lnTo>
                      <a:pt x="671" y="1262"/>
                    </a:lnTo>
                    <a:lnTo>
                      <a:pt x="624" y="1129"/>
                    </a:lnTo>
                    <a:lnTo>
                      <a:pt x="604" y="995"/>
                    </a:lnTo>
                    <a:lnTo>
                      <a:pt x="726" y="1151"/>
                    </a:lnTo>
                    <a:lnTo>
                      <a:pt x="835" y="1229"/>
                    </a:lnTo>
                    <a:lnTo>
                      <a:pt x="948" y="1284"/>
                    </a:lnTo>
                    <a:lnTo>
                      <a:pt x="846" y="1173"/>
                    </a:lnTo>
                    <a:lnTo>
                      <a:pt x="813" y="1018"/>
                    </a:lnTo>
                    <a:lnTo>
                      <a:pt x="793" y="818"/>
                    </a:lnTo>
                    <a:lnTo>
                      <a:pt x="793" y="610"/>
                    </a:lnTo>
                    <a:lnTo>
                      <a:pt x="826" y="387"/>
                    </a:lnTo>
                    <a:lnTo>
                      <a:pt x="906" y="121"/>
                    </a:lnTo>
                    <a:lnTo>
                      <a:pt x="9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92000" y="1913040"/>
                <a:ext cx="95400" cy="33120"/>
              </a:xfrm>
              <a:custGeom>
                <a:avLst/>
                <a:gdLst/>
                <a:ahLst/>
                <a:rect l="l" t="t" r="r" b="b"/>
                <a:pathLst>
                  <a:path w="602" h="213">
                    <a:moveTo>
                      <a:pt x="99" y="176"/>
                    </a:moveTo>
                    <a:lnTo>
                      <a:pt x="222" y="213"/>
                    </a:lnTo>
                    <a:lnTo>
                      <a:pt x="357" y="213"/>
                    </a:lnTo>
                    <a:lnTo>
                      <a:pt x="493" y="189"/>
                    </a:lnTo>
                    <a:lnTo>
                      <a:pt x="602" y="122"/>
                    </a:lnTo>
                    <a:lnTo>
                      <a:pt x="524" y="0"/>
                    </a:lnTo>
                    <a:lnTo>
                      <a:pt x="413" y="89"/>
                    </a:lnTo>
                    <a:lnTo>
                      <a:pt x="302" y="122"/>
                    </a:lnTo>
                    <a:lnTo>
                      <a:pt x="180" y="134"/>
                    </a:lnTo>
                    <a:lnTo>
                      <a:pt x="0" y="134"/>
                    </a:lnTo>
                    <a:lnTo>
                      <a:pt x="99" y="1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5" name=""/>
              <p:cNvSpPr/>
              <p:nvPr/>
            </p:nvSpPr>
            <p:spPr>
              <a:xfrm>
                <a:off x="833400" y="1847880"/>
                <a:ext cx="320760" cy="338040"/>
              </a:xfrm>
              <a:custGeom>
                <a:avLst/>
                <a:gdLst/>
                <a:ahLst/>
                <a:rect l="l" t="t" r="r" b="b"/>
                <a:pathLst>
                  <a:path w="2010" h="2128">
                    <a:moveTo>
                      <a:pt x="153" y="866"/>
                    </a:moveTo>
                    <a:lnTo>
                      <a:pt x="44" y="997"/>
                    </a:lnTo>
                    <a:lnTo>
                      <a:pt x="211" y="1306"/>
                    </a:lnTo>
                    <a:lnTo>
                      <a:pt x="277" y="1508"/>
                    </a:lnTo>
                    <a:lnTo>
                      <a:pt x="300" y="1618"/>
                    </a:lnTo>
                    <a:lnTo>
                      <a:pt x="324" y="1739"/>
                    </a:lnTo>
                    <a:lnTo>
                      <a:pt x="308" y="1863"/>
                    </a:lnTo>
                    <a:lnTo>
                      <a:pt x="300" y="1950"/>
                    </a:lnTo>
                    <a:lnTo>
                      <a:pt x="0" y="2060"/>
                    </a:lnTo>
                    <a:lnTo>
                      <a:pt x="289" y="1982"/>
                    </a:lnTo>
                    <a:lnTo>
                      <a:pt x="391" y="1972"/>
                    </a:lnTo>
                    <a:lnTo>
                      <a:pt x="491" y="1982"/>
                    </a:lnTo>
                    <a:lnTo>
                      <a:pt x="556" y="2016"/>
                    </a:lnTo>
                    <a:lnTo>
                      <a:pt x="601" y="2047"/>
                    </a:lnTo>
                    <a:lnTo>
                      <a:pt x="668" y="2116"/>
                    </a:lnTo>
                    <a:lnTo>
                      <a:pt x="882" y="2094"/>
                    </a:lnTo>
                    <a:lnTo>
                      <a:pt x="1497" y="2128"/>
                    </a:lnTo>
                    <a:lnTo>
                      <a:pt x="2010" y="2116"/>
                    </a:lnTo>
                    <a:lnTo>
                      <a:pt x="1261" y="2029"/>
                    </a:lnTo>
                    <a:lnTo>
                      <a:pt x="1363" y="1770"/>
                    </a:lnTo>
                    <a:lnTo>
                      <a:pt x="1081" y="1419"/>
                    </a:lnTo>
                    <a:lnTo>
                      <a:pt x="1317" y="1243"/>
                    </a:lnTo>
                    <a:lnTo>
                      <a:pt x="1183" y="1243"/>
                    </a:lnTo>
                    <a:lnTo>
                      <a:pt x="926" y="832"/>
                    </a:lnTo>
                    <a:lnTo>
                      <a:pt x="926" y="654"/>
                    </a:lnTo>
                    <a:lnTo>
                      <a:pt x="1486" y="0"/>
                    </a:lnTo>
                    <a:lnTo>
                      <a:pt x="413" y="1074"/>
                    </a:lnTo>
                    <a:lnTo>
                      <a:pt x="324" y="1452"/>
                    </a:lnTo>
                    <a:lnTo>
                      <a:pt x="277" y="1230"/>
                    </a:lnTo>
                    <a:lnTo>
                      <a:pt x="211" y="974"/>
                    </a:lnTo>
                    <a:lnTo>
                      <a:pt x="153" y="8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635040" y="2155680"/>
                <a:ext cx="457200" cy="200160"/>
              </a:xfrm>
              <a:custGeom>
                <a:avLst/>
                <a:gdLst/>
                <a:ahLst/>
                <a:rect l="l" t="t" r="r" b="b"/>
                <a:pathLst>
                  <a:path w="2883" h="1262">
                    <a:moveTo>
                      <a:pt x="0" y="454"/>
                    </a:moveTo>
                    <a:lnTo>
                      <a:pt x="67" y="920"/>
                    </a:lnTo>
                    <a:lnTo>
                      <a:pt x="100" y="986"/>
                    </a:lnTo>
                    <a:lnTo>
                      <a:pt x="200" y="1060"/>
                    </a:lnTo>
                    <a:lnTo>
                      <a:pt x="291" y="1084"/>
                    </a:lnTo>
                    <a:lnTo>
                      <a:pt x="615" y="1096"/>
                    </a:lnTo>
                    <a:lnTo>
                      <a:pt x="813" y="1153"/>
                    </a:lnTo>
                    <a:lnTo>
                      <a:pt x="949" y="1209"/>
                    </a:lnTo>
                    <a:lnTo>
                      <a:pt x="1028" y="1262"/>
                    </a:lnTo>
                    <a:lnTo>
                      <a:pt x="1240" y="1240"/>
                    </a:lnTo>
                    <a:lnTo>
                      <a:pt x="1406" y="1220"/>
                    </a:lnTo>
                    <a:lnTo>
                      <a:pt x="1597" y="1175"/>
                    </a:lnTo>
                    <a:lnTo>
                      <a:pt x="1777" y="1153"/>
                    </a:lnTo>
                    <a:lnTo>
                      <a:pt x="2012" y="1143"/>
                    </a:lnTo>
                    <a:lnTo>
                      <a:pt x="2883" y="1131"/>
                    </a:lnTo>
                    <a:lnTo>
                      <a:pt x="2839" y="952"/>
                    </a:lnTo>
                    <a:lnTo>
                      <a:pt x="2783" y="851"/>
                    </a:lnTo>
                    <a:lnTo>
                      <a:pt x="2739" y="776"/>
                    </a:lnTo>
                    <a:lnTo>
                      <a:pt x="2683" y="743"/>
                    </a:lnTo>
                    <a:lnTo>
                      <a:pt x="1913" y="633"/>
                    </a:lnTo>
                    <a:lnTo>
                      <a:pt x="1877" y="766"/>
                    </a:lnTo>
                    <a:lnTo>
                      <a:pt x="1866" y="907"/>
                    </a:lnTo>
                    <a:lnTo>
                      <a:pt x="1866" y="1031"/>
                    </a:lnTo>
                    <a:lnTo>
                      <a:pt x="1866" y="1120"/>
                    </a:lnTo>
                    <a:lnTo>
                      <a:pt x="1799" y="1107"/>
                    </a:lnTo>
                    <a:lnTo>
                      <a:pt x="1788" y="952"/>
                    </a:lnTo>
                    <a:lnTo>
                      <a:pt x="1799" y="766"/>
                    </a:lnTo>
                    <a:lnTo>
                      <a:pt x="1819" y="643"/>
                    </a:lnTo>
                    <a:lnTo>
                      <a:pt x="1866" y="489"/>
                    </a:lnTo>
                    <a:lnTo>
                      <a:pt x="1921" y="365"/>
                    </a:lnTo>
                    <a:lnTo>
                      <a:pt x="1819" y="410"/>
                    </a:lnTo>
                    <a:lnTo>
                      <a:pt x="1733" y="476"/>
                    </a:lnTo>
                    <a:lnTo>
                      <a:pt x="1666" y="554"/>
                    </a:lnTo>
                    <a:lnTo>
                      <a:pt x="1655" y="586"/>
                    </a:lnTo>
                    <a:lnTo>
                      <a:pt x="735" y="442"/>
                    </a:lnTo>
                    <a:lnTo>
                      <a:pt x="735" y="343"/>
                    </a:lnTo>
                    <a:lnTo>
                      <a:pt x="771" y="232"/>
                    </a:lnTo>
                    <a:lnTo>
                      <a:pt x="840" y="133"/>
                    </a:lnTo>
                    <a:lnTo>
                      <a:pt x="926" y="65"/>
                    </a:lnTo>
                    <a:lnTo>
                      <a:pt x="1093" y="0"/>
                    </a:lnTo>
                    <a:lnTo>
                      <a:pt x="840" y="23"/>
                    </a:lnTo>
                    <a:lnTo>
                      <a:pt x="558" y="99"/>
                    </a:lnTo>
                    <a:lnTo>
                      <a:pt x="378" y="201"/>
                    </a:lnTo>
                    <a:lnTo>
                      <a:pt x="247" y="311"/>
                    </a:lnTo>
                    <a:lnTo>
                      <a:pt x="135" y="489"/>
                    </a:lnTo>
                    <a:lnTo>
                      <a:pt x="75" y="618"/>
                    </a:lnTo>
                    <a:lnTo>
                      <a:pt x="0"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1087560" y="2135160"/>
                <a:ext cx="366480" cy="200160"/>
              </a:xfrm>
              <a:custGeom>
                <a:avLst/>
                <a:gdLst/>
                <a:ahLst/>
                <a:rect l="l" t="t" r="r" b="b"/>
                <a:pathLst>
                  <a:path w="2306" h="1263">
                    <a:moveTo>
                      <a:pt x="125" y="1263"/>
                    </a:moveTo>
                    <a:lnTo>
                      <a:pt x="70" y="1163"/>
                    </a:lnTo>
                    <a:lnTo>
                      <a:pt x="34" y="1052"/>
                    </a:lnTo>
                    <a:lnTo>
                      <a:pt x="0" y="917"/>
                    </a:lnTo>
                    <a:lnTo>
                      <a:pt x="0" y="786"/>
                    </a:lnTo>
                    <a:lnTo>
                      <a:pt x="23" y="655"/>
                    </a:lnTo>
                    <a:lnTo>
                      <a:pt x="91" y="532"/>
                    </a:lnTo>
                    <a:lnTo>
                      <a:pt x="180" y="455"/>
                    </a:lnTo>
                    <a:lnTo>
                      <a:pt x="292" y="375"/>
                    </a:lnTo>
                    <a:lnTo>
                      <a:pt x="1131" y="0"/>
                    </a:lnTo>
                    <a:lnTo>
                      <a:pt x="1029" y="121"/>
                    </a:lnTo>
                    <a:lnTo>
                      <a:pt x="929" y="166"/>
                    </a:lnTo>
                    <a:lnTo>
                      <a:pt x="906" y="210"/>
                    </a:lnTo>
                    <a:lnTo>
                      <a:pt x="929" y="343"/>
                    </a:lnTo>
                    <a:lnTo>
                      <a:pt x="916" y="375"/>
                    </a:lnTo>
                    <a:lnTo>
                      <a:pt x="796" y="419"/>
                    </a:lnTo>
                    <a:lnTo>
                      <a:pt x="760" y="475"/>
                    </a:lnTo>
                    <a:lnTo>
                      <a:pt x="807" y="641"/>
                    </a:lnTo>
                    <a:lnTo>
                      <a:pt x="772" y="697"/>
                    </a:lnTo>
                    <a:lnTo>
                      <a:pt x="514" y="864"/>
                    </a:lnTo>
                    <a:lnTo>
                      <a:pt x="323" y="917"/>
                    </a:lnTo>
                    <a:lnTo>
                      <a:pt x="192" y="950"/>
                    </a:lnTo>
                    <a:lnTo>
                      <a:pt x="156" y="995"/>
                    </a:lnTo>
                    <a:lnTo>
                      <a:pt x="156" y="1039"/>
                    </a:lnTo>
                    <a:lnTo>
                      <a:pt x="718" y="1118"/>
                    </a:lnTo>
                    <a:lnTo>
                      <a:pt x="1143" y="1130"/>
                    </a:lnTo>
                    <a:lnTo>
                      <a:pt x="1298" y="1130"/>
                    </a:lnTo>
                    <a:lnTo>
                      <a:pt x="1365" y="1076"/>
                    </a:lnTo>
                    <a:lnTo>
                      <a:pt x="1018" y="864"/>
                    </a:lnTo>
                    <a:lnTo>
                      <a:pt x="1311" y="1019"/>
                    </a:lnTo>
                    <a:lnTo>
                      <a:pt x="1611" y="1118"/>
                    </a:lnTo>
                    <a:lnTo>
                      <a:pt x="1778" y="1052"/>
                    </a:lnTo>
                    <a:lnTo>
                      <a:pt x="1778" y="963"/>
                    </a:lnTo>
                    <a:lnTo>
                      <a:pt x="1454" y="739"/>
                    </a:lnTo>
                    <a:lnTo>
                      <a:pt x="1120" y="542"/>
                    </a:lnTo>
                    <a:lnTo>
                      <a:pt x="1543" y="730"/>
                    </a:lnTo>
                    <a:lnTo>
                      <a:pt x="1836" y="972"/>
                    </a:lnTo>
                    <a:lnTo>
                      <a:pt x="1935" y="917"/>
                    </a:lnTo>
                    <a:lnTo>
                      <a:pt x="1778" y="608"/>
                    </a:lnTo>
                    <a:lnTo>
                      <a:pt x="1243" y="241"/>
                    </a:lnTo>
                    <a:lnTo>
                      <a:pt x="1734" y="288"/>
                    </a:lnTo>
                    <a:lnTo>
                      <a:pt x="2204" y="750"/>
                    </a:lnTo>
                    <a:lnTo>
                      <a:pt x="2306" y="765"/>
                    </a:lnTo>
                    <a:lnTo>
                      <a:pt x="2215" y="807"/>
                    </a:lnTo>
                    <a:lnTo>
                      <a:pt x="2104" y="786"/>
                    </a:lnTo>
                    <a:lnTo>
                      <a:pt x="1734" y="475"/>
                    </a:lnTo>
                    <a:lnTo>
                      <a:pt x="1632" y="455"/>
                    </a:lnTo>
                    <a:lnTo>
                      <a:pt x="1812" y="608"/>
                    </a:lnTo>
                    <a:lnTo>
                      <a:pt x="2003" y="941"/>
                    </a:lnTo>
                    <a:lnTo>
                      <a:pt x="1946" y="1019"/>
                    </a:lnTo>
                    <a:lnTo>
                      <a:pt x="1867" y="1030"/>
                    </a:lnTo>
                    <a:lnTo>
                      <a:pt x="1791" y="1118"/>
                    </a:lnTo>
                    <a:lnTo>
                      <a:pt x="1656" y="1150"/>
                    </a:lnTo>
                    <a:lnTo>
                      <a:pt x="1465" y="1139"/>
                    </a:lnTo>
                    <a:lnTo>
                      <a:pt x="1400" y="1192"/>
                    </a:lnTo>
                    <a:lnTo>
                      <a:pt x="1274" y="1228"/>
                    </a:lnTo>
                    <a:lnTo>
                      <a:pt x="736" y="1216"/>
                    </a:lnTo>
                    <a:lnTo>
                      <a:pt x="305" y="1163"/>
                    </a:lnTo>
                    <a:lnTo>
                      <a:pt x="237" y="1239"/>
                    </a:lnTo>
                    <a:lnTo>
                      <a:pt x="180" y="1263"/>
                    </a:lnTo>
                    <a:lnTo>
                      <a:pt x="125" y="1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1201680" y="1754280"/>
                <a:ext cx="47520" cy="393480"/>
              </a:xfrm>
              <a:custGeom>
                <a:avLst/>
                <a:gdLst/>
                <a:ahLst/>
                <a:rect l="l" t="t" r="r" b="b"/>
                <a:pathLst>
                  <a:path w="300" h="2480">
                    <a:moveTo>
                      <a:pt x="0" y="0"/>
                    </a:moveTo>
                    <a:lnTo>
                      <a:pt x="54" y="142"/>
                    </a:lnTo>
                    <a:lnTo>
                      <a:pt x="122" y="408"/>
                    </a:lnTo>
                    <a:lnTo>
                      <a:pt x="143" y="786"/>
                    </a:lnTo>
                    <a:lnTo>
                      <a:pt x="143" y="1336"/>
                    </a:lnTo>
                    <a:lnTo>
                      <a:pt x="178" y="1814"/>
                    </a:lnTo>
                    <a:lnTo>
                      <a:pt x="245" y="2258"/>
                    </a:lnTo>
                    <a:lnTo>
                      <a:pt x="300" y="2458"/>
                    </a:lnTo>
                    <a:lnTo>
                      <a:pt x="256" y="2480"/>
                    </a:lnTo>
                    <a:lnTo>
                      <a:pt x="188" y="2134"/>
                    </a:lnTo>
                    <a:lnTo>
                      <a:pt x="135" y="1758"/>
                    </a:lnTo>
                    <a:lnTo>
                      <a:pt x="112" y="1403"/>
                    </a:lnTo>
                    <a:lnTo>
                      <a:pt x="101" y="728"/>
                    </a:lnTo>
                    <a:lnTo>
                      <a:pt x="89" y="452"/>
                    </a:lnTo>
                    <a:lnTo>
                      <a:pt x="54"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1341360" y="2185920"/>
                <a:ext cx="103320" cy="120600"/>
              </a:xfrm>
              <a:custGeom>
                <a:avLst/>
                <a:gdLst/>
                <a:ahLst/>
                <a:rect l="l" t="t" r="r" b="b"/>
                <a:pathLst>
                  <a:path w="650" h="769">
                    <a:moveTo>
                      <a:pt x="0" y="0"/>
                    </a:moveTo>
                    <a:lnTo>
                      <a:pt x="526" y="676"/>
                    </a:lnTo>
                    <a:lnTo>
                      <a:pt x="650" y="769"/>
                    </a:lnTo>
                    <a:lnTo>
                      <a:pt x="593" y="622"/>
                    </a:lnTo>
                    <a:lnTo>
                      <a:pt x="379" y="3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282680" y="2097000"/>
                <a:ext cx="50760" cy="52560"/>
              </a:xfrm>
              <a:custGeom>
                <a:avLst/>
                <a:gdLst/>
                <a:ahLst/>
                <a:rect l="l" t="t" r="r" b="b"/>
                <a:pathLst>
                  <a:path w="320" h="328">
                    <a:moveTo>
                      <a:pt x="148" y="283"/>
                    </a:moveTo>
                    <a:lnTo>
                      <a:pt x="0" y="78"/>
                    </a:lnTo>
                    <a:lnTo>
                      <a:pt x="0" y="34"/>
                    </a:lnTo>
                    <a:lnTo>
                      <a:pt x="35" y="0"/>
                    </a:lnTo>
                    <a:lnTo>
                      <a:pt x="79" y="10"/>
                    </a:lnTo>
                    <a:lnTo>
                      <a:pt x="320" y="328"/>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1" name=""/>
              <p:cNvSpPr/>
              <p:nvPr/>
            </p:nvSpPr>
            <p:spPr>
              <a:xfrm>
                <a:off x="1279440" y="2136600"/>
                <a:ext cx="174600" cy="111240"/>
              </a:xfrm>
              <a:custGeom>
                <a:avLst/>
                <a:gdLst/>
                <a:ahLst/>
                <a:rect l="l" t="t" r="r" b="b"/>
                <a:pathLst>
                  <a:path w="1097" h="703">
                    <a:moveTo>
                      <a:pt x="0" y="0"/>
                    </a:moveTo>
                    <a:lnTo>
                      <a:pt x="709" y="114"/>
                    </a:lnTo>
                    <a:lnTo>
                      <a:pt x="1097" y="644"/>
                    </a:lnTo>
                    <a:lnTo>
                      <a:pt x="1097" y="703"/>
                    </a:lnTo>
                    <a:lnTo>
                      <a:pt x="1073" y="657"/>
                    </a:lnTo>
                    <a:lnTo>
                      <a:pt x="662" y="169"/>
                    </a:lnTo>
                    <a:lnTo>
                      <a:pt x="4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1295280" y="1676520"/>
                <a:ext cx="177840" cy="473040"/>
              </a:xfrm>
              <a:custGeom>
                <a:avLst/>
                <a:gdLst/>
                <a:ahLst/>
                <a:rect l="l" t="t" r="r" b="b"/>
                <a:pathLst>
                  <a:path w="1122" h="2984">
                    <a:moveTo>
                      <a:pt x="343" y="0"/>
                    </a:moveTo>
                    <a:lnTo>
                      <a:pt x="584" y="178"/>
                    </a:lnTo>
                    <a:lnTo>
                      <a:pt x="356" y="1366"/>
                    </a:lnTo>
                    <a:lnTo>
                      <a:pt x="183" y="1828"/>
                    </a:lnTo>
                    <a:lnTo>
                      <a:pt x="183" y="2135"/>
                    </a:lnTo>
                    <a:lnTo>
                      <a:pt x="0" y="2656"/>
                    </a:lnTo>
                    <a:lnTo>
                      <a:pt x="92" y="2575"/>
                    </a:lnTo>
                    <a:lnTo>
                      <a:pt x="309" y="2984"/>
                    </a:lnTo>
                    <a:lnTo>
                      <a:pt x="1122" y="2612"/>
                    </a:lnTo>
                    <a:lnTo>
                      <a:pt x="1018" y="2612"/>
                    </a:lnTo>
                    <a:lnTo>
                      <a:pt x="766" y="2703"/>
                    </a:lnTo>
                    <a:lnTo>
                      <a:pt x="629" y="2703"/>
                    </a:lnTo>
                    <a:lnTo>
                      <a:pt x="538" y="2612"/>
                    </a:lnTo>
                    <a:lnTo>
                      <a:pt x="560" y="2497"/>
                    </a:lnTo>
                    <a:lnTo>
                      <a:pt x="183" y="2362"/>
                    </a:lnTo>
                    <a:lnTo>
                      <a:pt x="241" y="2135"/>
                    </a:lnTo>
                    <a:lnTo>
                      <a:pt x="550" y="2385"/>
                    </a:lnTo>
                    <a:lnTo>
                      <a:pt x="867" y="2385"/>
                    </a:lnTo>
                    <a:lnTo>
                      <a:pt x="709" y="2339"/>
                    </a:lnTo>
                    <a:lnTo>
                      <a:pt x="319" y="1841"/>
                    </a:lnTo>
                    <a:lnTo>
                      <a:pt x="319" y="1593"/>
                    </a:lnTo>
                    <a:lnTo>
                      <a:pt x="629" y="1106"/>
                    </a:lnTo>
                    <a:lnTo>
                      <a:pt x="753" y="689"/>
                    </a:lnTo>
                    <a:lnTo>
                      <a:pt x="698" y="382"/>
                    </a:lnTo>
                    <a:lnTo>
                      <a:pt x="722" y="653"/>
                    </a:lnTo>
                    <a:lnTo>
                      <a:pt x="480" y="1030"/>
                    </a:lnTo>
                    <a:lnTo>
                      <a:pt x="616" y="169"/>
                    </a:lnTo>
                    <a:lnTo>
                      <a:pt x="3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1371600" y="1812960"/>
                <a:ext cx="119160" cy="146160"/>
              </a:xfrm>
              <a:custGeom>
                <a:avLst/>
                <a:gdLst/>
                <a:ahLst/>
                <a:rect l="l" t="t" r="r" b="b"/>
                <a:pathLst>
                  <a:path w="751" h="915">
                    <a:moveTo>
                      <a:pt x="309" y="0"/>
                    </a:moveTo>
                    <a:lnTo>
                      <a:pt x="442" y="260"/>
                    </a:lnTo>
                    <a:lnTo>
                      <a:pt x="442" y="453"/>
                    </a:lnTo>
                    <a:lnTo>
                      <a:pt x="538" y="735"/>
                    </a:lnTo>
                    <a:lnTo>
                      <a:pt x="751" y="915"/>
                    </a:lnTo>
                    <a:lnTo>
                      <a:pt x="432" y="735"/>
                    </a:lnTo>
                    <a:lnTo>
                      <a:pt x="0" y="849"/>
                    </a:lnTo>
                    <a:lnTo>
                      <a:pt x="296" y="575"/>
                    </a:lnTo>
                    <a:lnTo>
                      <a:pt x="411" y="564"/>
                    </a:lnTo>
                    <a:lnTo>
                      <a:pt x="411" y="271"/>
                    </a:lnTo>
                    <a:lnTo>
                      <a:pt x="3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1405080" y="1976400"/>
                <a:ext cx="142560" cy="182520"/>
              </a:xfrm>
              <a:custGeom>
                <a:avLst/>
                <a:gdLst/>
                <a:ahLst/>
                <a:rect l="l" t="t" r="r" b="b"/>
                <a:pathLst>
                  <a:path w="902" h="1143">
                    <a:moveTo>
                      <a:pt x="562" y="0"/>
                    </a:moveTo>
                    <a:lnTo>
                      <a:pt x="606" y="352"/>
                    </a:lnTo>
                    <a:lnTo>
                      <a:pt x="377" y="599"/>
                    </a:lnTo>
                    <a:lnTo>
                      <a:pt x="24" y="599"/>
                    </a:lnTo>
                    <a:lnTo>
                      <a:pt x="0" y="644"/>
                    </a:lnTo>
                    <a:lnTo>
                      <a:pt x="37" y="701"/>
                    </a:lnTo>
                    <a:lnTo>
                      <a:pt x="674" y="565"/>
                    </a:lnTo>
                    <a:lnTo>
                      <a:pt x="448" y="578"/>
                    </a:lnTo>
                    <a:lnTo>
                      <a:pt x="629" y="441"/>
                    </a:lnTo>
                    <a:lnTo>
                      <a:pt x="777" y="453"/>
                    </a:lnTo>
                    <a:lnTo>
                      <a:pt x="858" y="588"/>
                    </a:lnTo>
                    <a:lnTo>
                      <a:pt x="479" y="815"/>
                    </a:lnTo>
                    <a:lnTo>
                      <a:pt x="390" y="995"/>
                    </a:lnTo>
                    <a:lnTo>
                      <a:pt x="502" y="1143"/>
                    </a:lnTo>
                    <a:lnTo>
                      <a:pt x="708" y="745"/>
                    </a:lnTo>
                    <a:lnTo>
                      <a:pt x="902" y="621"/>
                    </a:lnTo>
                    <a:lnTo>
                      <a:pt x="871" y="432"/>
                    </a:lnTo>
                    <a:lnTo>
                      <a:pt x="661" y="375"/>
                    </a:lnTo>
                    <a:lnTo>
                      <a:pt x="5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1390680" y="2070000"/>
                <a:ext cx="671400" cy="152640"/>
              </a:xfrm>
              <a:custGeom>
                <a:avLst/>
                <a:gdLst/>
                <a:ahLst/>
                <a:rect l="l" t="t" r="r" b="b"/>
                <a:pathLst>
                  <a:path w="4238" h="962">
                    <a:moveTo>
                      <a:pt x="0" y="542"/>
                    </a:moveTo>
                    <a:lnTo>
                      <a:pt x="401" y="316"/>
                    </a:lnTo>
                    <a:lnTo>
                      <a:pt x="308" y="532"/>
                    </a:lnTo>
                    <a:lnTo>
                      <a:pt x="308" y="680"/>
                    </a:lnTo>
                    <a:lnTo>
                      <a:pt x="606" y="757"/>
                    </a:lnTo>
                    <a:lnTo>
                      <a:pt x="799" y="284"/>
                    </a:lnTo>
                    <a:lnTo>
                      <a:pt x="879" y="248"/>
                    </a:lnTo>
                    <a:lnTo>
                      <a:pt x="915" y="147"/>
                    </a:lnTo>
                    <a:lnTo>
                      <a:pt x="915" y="579"/>
                    </a:lnTo>
                    <a:lnTo>
                      <a:pt x="1017" y="712"/>
                    </a:lnTo>
                    <a:lnTo>
                      <a:pt x="1121" y="712"/>
                    </a:lnTo>
                    <a:lnTo>
                      <a:pt x="1074" y="488"/>
                    </a:lnTo>
                    <a:lnTo>
                      <a:pt x="1246" y="193"/>
                    </a:lnTo>
                    <a:lnTo>
                      <a:pt x="1347" y="147"/>
                    </a:lnTo>
                    <a:lnTo>
                      <a:pt x="1290" y="488"/>
                    </a:lnTo>
                    <a:lnTo>
                      <a:pt x="1474" y="702"/>
                    </a:lnTo>
                    <a:lnTo>
                      <a:pt x="1508" y="418"/>
                    </a:lnTo>
                    <a:lnTo>
                      <a:pt x="1568" y="295"/>
                    </a:lnTo>
                    <a:lnTo>
                      <a:pt x="1679" y="204"/>
                    </a:lnTo>
                    <a:lnTo>
                      <a:pt x="1599" y="327"/>
                    </a:lnTo>
                    <a:lnTo>
                      <a:pt x="1599" y="441"/>
                    </a:lnTo>
                    <a:lnTo>
                      <a:pt x="2101" y="464"/>
                    </a:lnTo>
                    <a:lnTo>
                      <a:pt x="2181" y="316"/>
                    </a:lnTo>
                    <a:lnTo>
                      <a:pt x="2274" y="193"/>
                    </a:lnTo>
                    <a:lnTo>
                      <a:pt x="3107" y="0"/>
                    </a:lnTo>
                    <a:lnTo>
                      <a:pt x="3758" y="126"/>
                    </a:lnTo>
                    <a:lnTo>
                      <a:pt x="3838" y="204"/>
                    </a:lnTo>
                    <a:lnTo>
                      <a:pt x="4238" y="453"/>
                    </a:lnTo>
                    <a:lnTo>
                      <a:pt x="4178" y="498"/>
                    </a:lnTo>
                    <a:lnTo>
                      <a:pt x="3962" y="453"/>
                    </a:lnTo>
                    <a:lnTo>
                      <a:pt x="4045" y="633"/>
                    </a:lnTo>
                    <a:lnTo>
                      <a:pt x="3975" y="633"/>
                    </a:lnTo>
                    <a:lnTo>
                      <a:pt x="3827" y="579"/>
                    </a:lnTo>
                    <a:lnTo>
                      <a:pt x="3975" y="611"/>
                    </a:lnTo>
                    <a:lnTo>
                      <a:pt x="3985" y="566"/>
                    </a:lnTo>
                    <a:lnTo>
                      <a:pt x="3769" y="170"/>
                    </a:lnTo>
                    <a:lnTo>
                      <a:pt x="3118" y="33"/>
                    </a:lnTo>
                    <a:lnTo>
                      <a:pt x="2672" y="157"/>
                    </a:lnTo>
                    <a:lnTo>
                      <a:pt x="2605" y="261"/>
                    </a:lnTo>
                    <a:lnTo>
                      <a:pt x="2571" y="295"/>
                    </a:lnTo>
                    <a:lnTo>
                      <a:pt x="2285" y="384"/>
                    </a:lnTo>
                    <a:lnTo>
                      <a:pt x="2545" y="542"/>
                    </a:lnTo>
                    <a:lnTo>
                      <a:pt x="2605" y="642"/>
                    </a:lnTo>
                    <a:lnTo>
                      <a:pt x="2605" y="702"/>
                    </a:lnTo>
                    <a:lnTo>
                      <a:pt x="2558" y="712"/>
                    </a:lnTo>
                    <a:lnTo>
                      <a:pt x="2192" y="621"/>
                    </a:lnTo>
                    <a:lnTo>
                      <a:pt x="2137" y="598"/>
                    </a:lnTo>
                    <a:lnTo>
                      <a:pt x="2148" y="691"/>
                    </a:lnTo>
                    <a:lnTo>
                      <a:pt x="2205" y="803"/>
                    </a:lnTo>
                    <a:lnTo>
                      <a:pt x="2274" y="826"/>
                    </a:lnTo>
                    <a:lnTo>
                      <a:pt x="2343" y="826"/>
                    </a:lnTo>
                    <a:lnTo>
                      <a:pt x="2446" y="769"/>
                    </a:lnTo>
                    <a:lnTo>
                      <a:pt x="2343" y="860"/>
                    </a:lnTo>
                    <a:lnTo>
                      <a:pt x="2236" y="871"/>
                    </a:lnTo>
                    <a:lnTo>
                      <a:pt x="1952" y="837"/>
                    </a:lnTo>
                    <a:lnTo>
                      <a:pt x="1654" y="826"/>
                    </a:lnTo>
                    <a:lnTo>
                      <a:pt x="1530" y="860"/>
                    </a:lnTo>
                    <a:lnTo>
                      <a:pt x="1290" y="915"/>
                    </a:lnTo>
                    <a:lnTo>
                      <a:pt x="570" y="962"/>
                    </a:lnTo>
                    <a:lnTo>
                      <a:pt x="401" y="892"/>
                    </a:lnTo>
                    <a:lnTo>
                      <a:pt x="273" y="892"/>
                    </a:lnTo>
                    <a:lnTo>
                      <a:pt x="0" y="5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546200" y="2075040"/>
                <a:ext cx="74520" cy="53640"/>
              </a:xfrm>
              <a:custGeom>
                <a:avLst/>
                <a:gdLst/>
                <a:ahLst/>
                <a:rect l="l" t="t" r="r" b="b"/>
                <a:pathLst>
                  <a:path w="470" h="338">
                    <a:moveTo>
                      <a:pt x="67" y="0"/>
                    </a:moveTo>
                    <a:lnTo>
                      <a:pt x="67" y="137"/>
                    </a:lnTo>
                    <a:lnTo>
                      <a:pt x="0" y="338"/>
                    </a:lnTo>
                    <a:lnTo>
                      <a:pt x="250" y="80"/>
                    </a:lnTo>
                    <a:lnTo>
                      <a:pt x="470" y="36"/>
                    </a:lnTo>
                    <a:lnTo>
                      <a:pt x="276" y="0"/>
                    </a:lnTo>
                    <a:lnTo>
                      <a:pt x="182" y="56"/>
                    </a:lnTo>
                    <a:lnTo>
                      <a:pt x="67"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57" name=""/>
              <p:cNvSpPr/>
              <p:nvPr/>
            </p:nvSpPr>
            <p:spPr>
              <a:xfrm>
                <a:off x="1633680" y="2079720"/>
                <a:ext cx="99720" cy="17280"/>
              </a:xfrm>
              <a:custGeom>
                <a:avLst/>
                <a:gdLst/>
                <a:ahLst/>
                <a:rect l="l" t="t" r="r" b="b"/>
                <a:pathLst>
                  <a:path w="638" h="114">
                    <a:moveTo>
                      <a:pt x="0" y="0"/>
                    </a:moveTo>
                    <a:lnTo>
                      <a:pt x="207" y="114"/>
                    </a:lnTo>
                    <a:lnTo>
                      <a:pt x="400" y="46"/>
                    </a:lnTo>
                    <a:lnTo>
                      <a:pt x="638" y="70"/>
                    </a:lnTo>
                    <a:lnTo>
                      <a:pt x="378"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8" name=""/>
              <p:cNvSpPr/>
              <p:nvPr/>
            </p:nvSpPr>
            <p:spPr>
              <a:xfrm>
                <a:off x="1846440" y="2117880"/>
                <a:ext cx="160200" cy="96840"/>
              </a:xfrm>
              <a:custGeom>
                <a:avLst/>
                <a:gdLst/>
                <a:ahLst/>
                <a:rect l="l" t="t" r="r" b="b"/>
                <a:pathLst>
                  <a:path w="1014" h="609">
                    <a:moveTo>
                      <a:pt x="1014" y="284"/>
                    </a:moveTo>
                    <a:lnTo>
                      <a:pt x="899" y="158"/>
                    </a:lnTo>
                    <a:lnTo>
                      <a:pt x="830" y="21"/>
                    </a:lnTo>
                    <a:lnTo>
                      <a:pt x="648" y="32"/>
                    </a:lnTo>
                    <a:lnTo>
                      <a:pt x="468" y="9"/>
                    </a:lnTo>
                    <a:lnTo>
                      <a:pt x="112" y="136"/>
                    </a:lnTo>
                    <a:lnTo>
                      <a:pt x="55" y="0"/>
                    </a:lnTo>
                    <a:lnTo>
                      <a:pt x="21" y="55"/>
                    </a:lnTo>
                    <a:lnTo>
                      <a:pt x="0" y="158"/>
                    </a:lnTo>
                    <a:lnTo>
                      <a:pt x="10" y="247"/>
                    </a:lnTo>
                    <a:lnTo>
                      <a:pt x="68" y="316"/>
                    </a:lnTo>
                    <a:lnTo>
                      <a:pt x="258" y="316"/>
                    </a:lnTo>
                    <a:lnTo>
                      <a:pt x="512" y="451"/>
                    </a:lnTo>
                    <a:lnTo>
                      <a:pt x="533" y="565"/>
                    </a:lnTo>
                    <a:lnTo>
                      <a:pt x="522" y="609"/>
                    </a:lnTo>
                    <a:lnTo>
                      <a:pt x="566" y="576"/>
                    </a:lnTo>
                    <a:lnTo>
                      <a:pt x="555" y="485"/>
                    </a:lnTo>
                    <a:lnTo>
                      <a:pt x="499" y="371"/>
                    </a:lnTo>
                    <a:lnTo>
                      <a:pt x="258" y="284"/>
                    </a:lnTo>
                    <a:lnTo>
                      <a:pt x="146" y="271"/>
                    </a:lnTo>
                    <a:lnTo>
                      <a:pt x="122" y="237"/>
                    </a:lnTo>
                    <a:lnTo>
                      <a:pt x="384" y="158"/>
                    </a:lnTo>
                    <a:lnTo>
                      <a:pt x="566" y="89"/>
                    </a:lnTo>
                    <a:lnTo>
                      <a:pt x="728" y="76"/>
                    </a:lnTo>
                    <a:lnTo>
                      <a:pt x="795" y="76"/>
                    </a:lnTo>
                    <a:lnTo>
                      <a:pt x="842" y="193"/>
                    </a:lnTo>
                    <a:lnTo>
                      <a:pt x="946" y="284"/>
                    </a:lnTo>
                    <a:lnTo>
                      <a:pt x="1014"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1816200" y="2182680"/>
                <a:ext cx="104760" cy="32040"/>
              </a:xfrm>
              <a:custGeom>
                <a:avLst/>
                <a:gdLst/>
                <a:ahLst/>
                <a:rect l="l" t="t" r="r" b="b"/>
                <a:pathLst>
                  <a:path w="665" h="192">
                    <a:moveTo>
                      <a:pt x="0" y="57"/>
                    </a:moveTo>
                    <a:lnTo>
                      <a:pt x="320" y="68"/>
                    </a:lnTo>
                    <a:lnTo>
                      <a:pt x="538" y="114"/>
                    </a:lnTo>
                    <a:lnTo>
                      <a:pt x="665" y="192"/>
                    </a:lnTo>
                    <a:lnTo>
                      <a:pt x="655" y="159"/>
                    </a:lnTo>
                    <a:lnTo>
                      <a:pt x="493" y="57"/>
                    </a:lnTo>
                    <a:lnTo>
                      <a:pt x="366" y="0"/>
                    </a:lnTo>
                    <a:lnTo>
                      <a:pt x="262" y="0"/>
                    </a:lnTo>
                    <a:lnTo>
                      <a:pt x="0" y="34"/>
                    </a:lnTo>
                    <a:lnTo>
                      <a:pt x="0" y="5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60" name=""/>
              <p:cNvSpPr/>
              <p:nvPr/>
            </p:nvSpPr>
            <p:spPr>
              <a:xfrm>
                <a:off x="679320" y="2309760"/>
                <a:ext cx="695520" cy="169920"/>
              </a:xfrm>
              <a:custGeom>
                <a:avLst/>
                <a:gdLst/>
                <a:ahLst/>
                <a:rect l="l" t="t" r="r" b="b"/>
                <a:pathLst>
                  <a:path w="4375" h="1073">
                    <a:moveTo>
                      <a:pt x="155" y="246"/>
                    </a:moveTo>
                    <a:lnTo>
                      <a:pt x="342" y="246"/>
                    </a:lnTo>
                    <a:lnTo>
                      <a:pt x="744" y="431"/>
                    </a:lnTo>
                    <a:lnTo>
                      <a:pt x="1457" y="307"/>
                    </a:lnTo>
                    <a:lnTo>
                      <a:pt x="1955" y="155"/>
                    </a:lnTo>
                    <a:lnTo>
                      <a:pt x="2701" y="155"/>
                    </a:lnTo>
                    <a:lnTo>
                      <a:pt x="2885" y="0"/>
                    </a:lnTo>
                    <a:lnTo>
                      <a:pt x="3477" y="62"/>
                    </a:lnTo>
                    <a:lnTo>
                      <a:pt x="4375" y="1073"/>
                    </a:lnTo>
                    <a:lnTo>
                      <a:pt x="311" y="1073"/>
                    </a:lnTo>
                    <a:lnTo>
                      <a:pt x="30" y="675"/>
                    </a:lnTo>
                    <a:lnTo>
                      <a:pt x="0" y="246"/>
                    </a:lnTo>
                    <a:lnTo>
                      <a:pt x="155"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1266840" y="2324160"/>
                <a:ext cx="147600" cy="15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428760" y="1963800"/>
                <a:ext cx="210960" cy="515880"/>
              </a:xfrm>
              <a:custGeom>
                <a:avLst/>
                <a:gdLst/>
                <a:ahLst/>
                <a:rect l="l" t="t" r="r" b="b"/>
                <a:pathLst>
                  <a:path w="1335" h="3254">
                    <a:moveTo>
                      <a:pt x="435" y="3254"/>
                    </a:moveTo>
                    <a:lnTo>
                      <a:pt x="0" y="184"/>
                    </a:lnTo>
                    <a:lnTo>
                      <a:pt x="66" y="30"/>
                    </a:lnTo>
                    <a:lnTo>
                      <a:pt x="316" y="0"/>
                    </a:lnTo>
                    <a:lnTo>
                      <a:pt x="655" y="184"/>
                    </a:lnTo>
                    <a:lnTo>
                      <a:pt x="813" y="491"/>
                    </a:lnTo>
                    <a:lnTo>
                      <a:pt x="875" y="1015"/>
                    </a:lnTo>
                    <a:lnTo>
                      <a:pt x="875" y="1659"/>
                    </a:lnTo>
                    <a:lnTo>
                      <a:pt x="1000" y="2152"/>
                    </a:lnTo>
                    <a:lnTo>
                      <a:pt x="1091" y="2397"/>
                    </a:lnTo>
                    <a:lnTo>
                      <a:pt x="1122" y="2705"/>
                    </a:lnTo>
                    <a:lnTo>
                      <a:pt x="1122" y="2918"/>
                    </a:lnTo>
                    <a:lnTo>
                      <a:pt x="1335" y="3254"/>
                    </a:lnTo>
                    <a:lnTo>
                      <a:pt x="435" y="3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498600" y="1897200"/>
                <a:ext cx="166680" cy="44280"/>
              </a:xfrm>
              <a:custGeom>
                <a:avLst/>
                <a:gdLst/>
                <a:ahLst/>
                <a:rect l="l" t="t" r="r" b="b"/>
                <a:pathLst>
                  <a:path w="1045" h="275">
                    <a:moveTo>
                      <a:pt x="0" y="275"/>
                    </a:moveTo>
                    <a:lnTo>
                      <a:pt x="398" y="148"/>
                    </a:lnTo>
                    <a:lnTo>
                      <a:pt x="700" y="62"/>
                    </a:lnTo>
                    <a:lnTo>
                      <a:pt x="1040" y="0"/>
                    </a:lnTo>
                    <a:lnTo>
                      <a:pt x="1045" y="91"/>
                    </a:lnTo>
                    <a:lnTo>
                      <a:pt x="558" y="197"/>
                    </a:lnTo>
                    <a:lnTo>
                      <a:pt x="0" y="27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2370240" y="2192400"/>
                <a:ext cx="56880" cy="55440"/>
              </a:xfrm>
              <a:custGeom>
                <a:avLst/>
                <a:gdLst/>
                <a:ahLst/>
                <a:rect l="l" t="t" r="r" b="b"/>
                <a:pathLst>
                  <a:path w="360" h="357">
                    <a:moveTo>
                      <a:pt x="360" y="180"/>
                    </a:moveTo>
                    <a:lnTo>
                      <a:pt x="356" y="145"/>
                    </a:lnTo>
                    <a:lnTo>
                      <a:pt x="347" y="116"/>
                    </a:lnTo>
                    <a:lnTo>
                      <a:pt x="336" y="88"/>
                    </a:lnTo>
                    <a:lnTo>
                      <a:pt x="318" y="60"/>
                    </a:lnTo>
                    <a:lnTo>
                      <a:pt x="294" y="40"/>
                    </a:lnTo>
                    <a:lnTo>
                      <a:pt x="269" y="22"/>
                    </a:lnTo>
                    <a:lnTo>
                      <a:pt x="240" y="9"/>
                    </a:lnTo>
                    <a:lnTo>
                      <a:pt x="207" y="1"/>
                    </a:lnTo>
                    <a:lnTo>
                      <a:pt x="176" y="0"/>
                    </a:lnTo>
                    <a:lnTo>
                      <a:pt x="144" y="3"/>
                    </a:lnTo>
                    <a:lnTo>
                      <a:pt x="114" y="11"/>
                    </a:lnTo>
                    <a:lnTo>
                      <a:pt x="87" y="27"/>
                    </a:lnTo>
                    <a:lnTo>
                      <a:pt x="60" y="44"/>
                    </a:lnTo>
                    <a:lnTo>
                      <a:pt x="38" y="67"/>
                    </a:lnTo>
                    <a:lnTo>
                      <a:pt x="21" y="96"/>
                    </a:lnTo>
                    <a:lnTo>
                      <a:pt x="9" y="122"/>
                    </a:lnTo>
                    <a:lnTo>
                      <a:pt x="2" y="153"/>
                    </a:lnTo>
                    <a:lnTo>
                      <a:pt x="0" y="187"/>
                    </a:lnTo>
                    <a:lnTo>
                      <a:pt x="4" y="217"/>
                    </a:lnTo>
                    <a:lnTo>
                      <a:pt x="15" y="249"/>
                    </a:lnTo>
                    <a:lnTo>
                      <a:pt x="29" y="274"/>
                    </a:lnTo>
                    <a:lnTo>
                      <a:pt x="49" y="300"/>
                    </a:lnTo>
                    <a:lnTo>
                      <a:pt x="71" y="320"/>
                    </a:lnTo>
                    <a:lnTo>
                      <a:pt x="102" y="338"/>
                    </a:lnTo>
                    <a:lnTo>
                      <a:pt x="129" y="351"/>
                    </a:lnTo>
                    <a:lnTo>
                      <a:pt x="160" y="355"/>
                    </a:lnTo>
                    <a:lnTo>
                      <a:pt x="191" y="357"/>
                    </a:lnTo>
                    <a:lnTo>
                      <a:pt x="224" y="353"/>
                    </a:lnTo>
                    <a:lnTo>
                      <a:pt x="254" y="342"/>
                    </a:lnTo>
                    <a:lnTo>
                      <a:pt x="282" y="325"/>
                    </a:lnTo>
                    <a:lnTo>
                      <a:pt x="307" y="306"/>
                    </a:lnTo>
                    <a:lnTo>
                      <a:pt x="328" y="282"/>
                    </a:lnTo>
                    <a:lnTo>
                      <a:pt x="343" y="255"/>
                    </a:lnTo>
                    <a:lnTo>
                      <a:pt x="353" y="226"/>
                    </a:lnTo>
                    <a:lnTo>
                      <a:pt x="358" y="196"/>
                    </a:lnTo>
                    <a:lnTo>
                      <a:pt x="360" y="18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5" name=""/>
              <p:cNvSpPr/>
              <p:nvPr/>
            </p:nvSpPr>
            <p:spPr>
              <a:xfrm>
                <a:off x="2354400" y="2184480"/>
                <a:ext cx="58680" cy="61920"/>
              </a:xfrm>
              <a:custGeom>
                <a:avLst/>
                <a:gdLst/>
                <a:ahLst/>
                <a:rect l="l" t="t" r="r" b="b"/>
                <a:pathLst>
                  <a:path w="366" h="392">
                    <a:moveTo>
                      <a:pt x="366" y="70"/>
                    </a:moveTo>
                    <a:lnTo>
                      <a:pt x="269" y="24"/>
                    </a:lnTo>
                    <a:lnTo>
                      <a:pt x="242" y="11"/>
                    </a:lnTo>
                    <a:lnTo>
                      <a:pt x="210" y="2"/>
                    </a:lnTo>
                    <a:lnTo>
                      <a:pt x="178" y="0"/>
                    </a:lnTo>
                    <a:lnTo>
                      <a:pt x="144" y="2"/>
                    </a:lnTo>
                    <a:lnTo>
                      <a:pt x="117" y="13"/>
                    </a:lnTo>
                    <a:lnTo>
                      <a:pt x="87" y="26"/>
                    </a:lnTo>
                    <a:lnTo>
                      <a:pt x="62" y="46"/>
                    </a:lnTo>
                    <a:lnTo>
                      <a:pt x="40" y="68"/>
                    </a:lnTo>
                    <a:lnTo>
                      <a:pt x="24" y="95"/>
                    </a:lnTo>
                    <a:lnTo>
                      <a:pt x="11" y="124"/>
                    </a:lnTo>
                    <a:lnTo>
                      <a:pt x="2" y="155"/>
                    </a:lnTo>
                    <a:lnTo>
                      <a:pt x="0" y="186"/>
                    </a:lnTo>
                    <a:lnTo>
                      <a:pt x="7" y="219"/>
                    </a:lnTo>
                    <a:lnTo>
                      <a:pt x="15" y="248"/>
                    </a:lnTo>
                    <a:lnTo>
                      <a:pt x="31" y="275"/>
                    </a:lnTo>
                    <a:lnTo>
                      <a:pt x="51" y="301"/>
                    </a:lnTo>
                    <a:lnTo>
                      <a:pt x="75" y="320"/>
                    </a:lnTo>
                    <a:lnTo>
                      <a:pt x="211" y="392"/>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6" name=""/>
              <p:cNvSpPr/>
              <p:nvPr/>
            </p:nvSpPr>
            <p:spPr>
              <a:xfrm>
                <a:off x="2082960" y="2163600"/>
                <a:ext cx="369720" cy="136800"/>
              </a:xfrm>
              <a:custGeom>
                <a:avLst/>
                <a:gdLst/>
                <a:ahLst/>
                <a:rect l="l" t="t" r="r" b="b"/>
                <a:pathLst>
                  <a:path w="2323" h="858">
                    <a:moveTo>
                      <a:pt x="2168" y="333"/>
                    </a:moveTo>
                    <a:lnTo>
                      <a:pt x="2270" y="282"/>
                    </a:lnTo>
                    <a:lnTo>
                      <a:pt x="2308" y="238"/>
                    </a:lnTo>
                    <a:lnTo>
                      <a:pt x="2323" y="180"/>
                    </a:lnTo>
                    <a:lnTo>
                      <a:pt x="2316" y="129"/>
                    </a:lnTo>
                    <a:lnTo>
                      <a:pt x="2278" y="64"/>
                    </a:lnTo>
                    <a:lnTo>
                      <a:pt x="2212" y="15"/>
                    </a:lnTo>
                    <a:lnTo>
                      <a:pt x="2148" y="0"/>
                    </a:lnTo>
                    <a:lnTo>
                      <a:pt x="2074" y="0"/>
                    </a:lnTo>
                    <a:lnTo>
                      <a:pt x="29" y="750"/>
                    </a:lnTo>
                    <a:lnTo>
                      <a:pt x="6" y="773"/>
                    </a:lnTo>
                    <a:lnTo>
                      <a:pt x="0" y="807"/>
                    </a:lnTo>
                    <a:lnTo>
                      <a:pt x="13" y="844"/>
                    </a:lnTo>
                    <a:lnTo>
                      <a:pt x="44" y="858"/>
                    </a:lnTo>
                    <a:lnTo>
                      <a:pt x="86" y="851"/>
                    </a:lnTo>
                    <a:lnTo>
                      <a:pt x="1803" y="462"/>
                    </a:lnTo>
                    <a:lnTo>
                      <a:pt x="1755" y="420"/>
                    </a:lnTo>
                    <a:lnTo>
                      <a:pt x="1732" y="384"/>
                    </a:lnTo>
                    <a:lnTo>
                      <a:pt x="1710" y="324"/>
                    </a:lnTo>
                    <a:lnTo>
                      <a:pt x="1710" y="273"/>
                    </a:lnTo>
                    <a:lnTo>
                      <a:pt x="1732" y="217"/>
                    </a:lnTo>
                    <a:lnTo>
                      <a:pt x="1770" y="166"/>
                    </a:lnTo>
                    <a:lnTo>
                      <a:pt x="1827" y="140"/>
                    </a:lnTo>
                    <a:lnTo>
                      <a:pt x="1877" y="124"/>
                    </a:lnTo>
                    <a:lnTo>
                      <a:pt x="1937" y="129"/>
                    </a:lnTo>
                    <a:lnTo>
                      <a:pt x="2104" y="217"/>
                    </a:lnTo>
                    <a:lnTo>
                      <a:pt x="2148" y="261"/>
                    </a:lnTo>
                    <a:lnTo>
                      <a:pt x="2168" y="309"/>
                    </a:lnTo>
                    <a:lnTo>
                      <a:pt x="216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flipV="1">
                <a:off x="1931760" y="2212560"/>
                <a:ext cx="15372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8" name=""/>
              <p:cNvSpPr/>
              <p:nvPr/>
            </p:nvSpPr>
            <p:spPr>
              <a:xfrm>
                <a:off x="2022480" y="2070000"/>
                <a:ext cx="412920" cy="96840"/>
              </a:xfrm>
              <a:custGeom>
                <a:avLst/>
                <a:gdLst/>
                <a:ahLst/>
                <a:rect l="l" t="t" r="r" b="b"/>
                <a:pathLst>
                  <a:path w="2592" h="611">
                    <a:moveTo>
                      <a:pt x="2592" y="611"/>
                    </a:moveTo>
                    <a:lnTo>
                      <a:pt x="1021" y="8"/>
                    </a:lnTo>
                    <a:lnTo>
                      <a:pt x="949" y="0"/>
                    </a:lnTo>
                    <a:lnTo>
                      <a:pt x="853" y="0"/>
                    </a:lnTo>
                    <a:lnTo>
                      <a:pt x="0" y="3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V="1">
                <a:off x="1893960" y="2136240"/>
                <a:ext cx="856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70" name=""/>
              <p:cNvSpPr/>
              <p:nvPr/>
            </p:nvSpPr>
            <p:spPr>
              <a:xfrm>
                <a:off x="2259000" y="2249640"/>
                <a:ext cx="39600" cy="23760"/>
              </a:xfrm>
              <a:custGeom>
                <a:avLst/>
                <a:gdLst/>
                <a:ahLst/>
                <a:rect l="l" t="t" r="r" b="b"/>
                <a:pathLst>
                  <a:path w="254" h="147">
                    <a:moveTo>
                      <a:pt x="0" y="73"/>
                    </a:moveTo>
                    <a:lnTo>
                      <a:pt x="254" y="147"/>
                    </a:lnTo>
                    <a:lnTo>
                      <a:pt x="254" y="0"/>
                    </a:lnTo>
                    <a:lnTo>
                      <a:pt x="0" y="7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1" name=""/>
              <p:cNvSpPr/>
              <p:nvPr/>
            </p:nvSpPr>
            <p:spPr>
              <a:xfrm>
                <a:off x="2298600" y="2249640"/>
                <a:ext cx="19080" cy="23760"/>
              </a:xfrm>
              <a:custGeom>
                <a:avLst/>
                <a:gdLst/>
                <a:ahLst/>
                <a:rect l="l" t="t" r="r" b="b"/>
                <a:pathLst>
                  <a:path w="118" h="147">
                    <a:moveTo>
                      <a:pt x="0" y="147"/>
                    </a:moveTo>
                    <a:lnTo>
                      <a:pt x="118" y="133"/>
                    </a:lnTo>
                    <a:lnTo>
                      <a:pt x="118"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2" name=""/>
              <p:cNvSpPr/>
              <p:nvPr/>
            </p:nvSpPr>
            <p:spPr>
              <a:xfrm>
                <a:off x="2212920" y="1676520"/>
                <a:ext cx="782640" cy="591840"/>
              </a:xfrm>
              <a:custGeom>
                <a:avLst/>
                <a:gdLst/>
                <a:ahLst/>
                <a:rect l="l" t="t" r="r" b="b"/>
                <a:pathLst>
                  <a:path w="4929" h="3731">
                    <a:moveTo>
                      <a:pt x="0" y="2549"/>
                    </a:moveTo>
                    <a:lnTo>
                      <a:pt x="716" y="0"/>
                    </a:lnTo>
                    <a:lnTo>
                      <a:pt x="1876" y="0"/>
                    </a:lnTo>
                    <a:lnTo>
                      <a:pt x="2846" y="175"/>
                    </a:lnTo>
                    <a:lnTo>
                      <a:pt x="4929" y="1148"/>
                    </a:lnTo>
                    <a:lnTo>
                      <a:pt x="4925" y="3286"/>
                    </a:lnTo>
                    <a:lnTo>
                      <a:pt x="1075" y="3731"/>
                    </a:lnTo>
                    <a:lnTo>
                      <a:pt x="656" y="36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2409840" y="1676520"/>
                <a:ext cx="100080" cy="480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flipH="1">
                <a:off x="2385720" y="2244600"/>
                <a:ext cx="468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5" name=""/>
              <p:cNvSpPr/>
              <p:nvPr/>
            </p:nvSpPr>
            <p:spPr>
              <a:xfrm flipH="1">
                <a:off x="2565360" y="1703520"/>
                <a:ext cx="100080" cy="54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251080" y="1708200"/>
                <a:ext cx="210960" cy="409680"/>
              </a:xfrm>
              <a:custGeom>
                <a:avLst/>
                <a:gdLst/>
                <a:ahLst/>
                <a:rect l="l" t="t" r="r" b="b"/>
                <a:pathLst>
                  <a:path w="1327" h="2579">
                    <a:moveTo>
                      <a:pt x="594" y="0"/>
                    </a:moveTo>
                    <a:lnTo>
                      <a:pt x="0" y="2330"/>
                    </a:lnTo>
                    <a:lnTo>
                      <a:pt x="774" y="2579"/>
                    </a:lnTo>
                    <a:lnTo>
                      <a:pt x="789" y="2508"/>
                    </a:lnTo>
                    <a:lnTo>
                      <a:pt x="207" y="2314"/>
                    </a:lnTo>
                    <a:lnTo>
                      <a:pt x="207" y="2077"/>
                    </a:lnTo>
                    <a:lnTo>
                      <a:pt x="269" y="1577"/>
                    </a:lnTo>
                    <a:lnTo>
                      <a:pt x="342" y="1162"/>
                    </a:lnTo>
                    <a:lnTo>
                      <a:pt x="446" y="797"/>
                    </a:lnTo>
                    <a:lnTo>
                      <a:pt x="567" y="457"/>
                    </a:lnTo>
                    <a:lnTo>
                      <a:pt x="683" y="193"/>
                    </a:lnTo>
                    <a:lnTo>
                      <a:pt x="757" y="86"/>
                    </a:lnTo>
                    <a:lnTo>
                      <a:pt x="1295" y="103"/>
                    </a:lnTo>
                    <a:lnTo>
                      <a:pt x="1327" y="0"/>
                    </a:lnTo>
                    <a:lnTo>
                      <a:pt x="5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H="1">
                <a:off x="2381040" y="1708200"/>
                <a:ext cx="82440" cy="412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1300320" y="2232000"/>
                <a:ext cx="684000" cy="200160"/>
              </a:xfrm>
              <a:custGeom>
                <a:avLst/>
                <a:gdLst/>
                <a:ahLst/>
                <a:rect l="l" t="t" r="r" b="b"/>
                <a:pathLst>
                  <a:path w="4316" h="1260">
                    <a:moveTo>
                      <a:pt x="0" y="614"/>
                    </a:moveTo>
                    <a:lnTo>
                      <a:pt x="2329" y="1260"/>
                    </a:lnTo>
                    <a:lnTo>
                      <a:pt x="4316" y="553"/>
                    </a:lnTo>
                    <a:lnTo>
                      <a:pt x="2050" y="0"/>
                    </a:lnTo>
                    <a:lnTo>
                      <a:pt x="838" y="3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9" name=""/>
            <p:cNvSpPr/>
            <p:nvPr/>
          </p:nvSpPr>
          <p:spPr>
            <a:xfrm>
              <a:off x="990720" y="2357280"/>
              <a:ext cx="5181480" cy="2286000"/>
            </a:xfrm>
            <a:custGeom>
              <a:avLst/>
              <a:gdLst/>
              <a:ahLst/>
              <a:rect l="l" t="t" r="r" b="b"/>
              <a:pathLst>
                <a:path w="3264" h="1440">
                  <a:moveTo>
                    <a:pt x="0" y="864"/>
                  </a:moveTo>
                  <a:lnTo>
                    <a:pt x="288" y="1440"/>
                  </a:lnTo>
                  <a:lnTo>
                    <a:pt x="1488" y="1440"/>
                  </a:lnTo>
                  <a:lnTo>
                    <a:pt x="3264" y="96"/>
                  </a:lnTo>
                  <a:lnTo>
                    <a:pt x="2880" y="0"/>
                  </a:lnTo>
                  <a:lnTo>
                    <a:pt x="1392" y="960"/>
                  </a:lnTo>
                  <a:lnTo>
                    <a:pt x="720" y="960"/>
                  </a:lnTo>
                  <a:lnTo>
                    <a:pt x="0" y="864"/>
                  </a:lnTo>
                  <a:close/>
                </a:path>
              </a:pathLst>
            </a:custGeom>
            <a:blipFill rotWithShape="0">
              <a:blip r:embed="rId2"/>
              <a:srcRect/>
              <a:stretch/>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880" name=""/>
            <p:cNvGrpSpPr/>
            <p:nvPr/>
          </p:nvGrpSpPr>
          <p:grpSpPr>
            <a:xfrm>
              <a:off x="120600" y="2906640"/>
              <a:ext cx="2249640" cy="1735200"/>
              <a:chOff x="120600" y="2906640"/>
              <a:chExt cx="2249640" cy="1735200"/>
            </a:xfrm>
          </p:grpSpPr>
          <p:sp>
            <p:nvSpPr>
              <p:cNvPr id="881" name=""/>
              <p:cNvSpPr/>
              <p:nvPr/>
            </p:nvSpPr>
            <p:spPr>
              <a:xfrm>
                <a:off x="1184400" y="3097080"/>
                <a:ext cx="1074600" cy="1165320"/>
              </a:xfrm>
              <a:custGeom>
                <a:avLst/>
                <a:gdLst/>
                <a:ahLst/>
                <a:rect l="l" t="t" r="r" b="b"/>
                <a:pathLst>
                  <a:path w="6770" h="7343">
                    <a:moveTo>
                      <a:pt x="5043" y="7343"/>
                    </a:moveTo>
                    <a:lnTo>
                      <a:pt x="0" y="5722"/>
                    </a:lnTo>
                    <a:lnTo>
                      <a:pt x="0" y="5646"/>
                    </a:lnTo>
                    <a:lnTo>
                      <a:pt x="1210" y="5043"/>
                    </a:lnTo>
                    <a:lnTo>
                      <a:pt x="984" y="5043"/>
                    </a:lnTo>
                    <a:lnTo>
                      <a:pt x="984" y="4923"/>
                    </a:lnTo>
                    <a:lnTo>
                      <a:pt x="1783" y="4558"/>
                    </a:lnTo>
                    <a:lnTo>
                      <a:pt x="361" y="4558"/>
                    </a:lnTo>
                    <a:lnTo>
                      <a:pt x="361" y="0"/>
                    </a:lnTo>
                    <a:lnTo>
                      <a:pt x="5859" y="0"/>
                    </a:lnTo>
                    <a:lnTo>
                      <a:pt x="5859" y="4558"/>
                    </a:lnTo>
                    <a:lnTo>
                      <a:pt x="4533" y="4558"/>
                    </a:lnTo>
                    <a:lnTo>
                      <a:pt x="5295" y="4923"/>
                    </a:lnTo>
                    <a:lnTo>
                      <a:pt x="5295" y="5043"/>
                    </a:lnTo>
                    <a:lnTo>
                      <a:pt x="2635" y="5043"/>
                    </a:lnTo>
                    <a:lnTo>
                      <a:pt x="6770" y="6113"/>
                    </a:lnTo>
                    <a:lnTo>
                      <a:pt x="6770" y="6207"/>
                    </a:lnTo>
                    <a:lnTo>
                      <a:pt x="5043" y="73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1317600" y="3173400"/>
                <a:ext cx="722160" cy="568440"/>
              </a:xfrm>
              <a:prstGeom prst="rect">
                <a:avLst/>
              </a:pr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895400" y="4346640"/>
                <a:ext cx="254160" cy="119160"/>
              </a:xfrm>
              <a:custGeom>
                <a:avLst/>
                <a:gdLst/>
                <a:ahLst/>
                <a:rect l="l" t="t" r="r" b="b"/>
                <a:pathLst>
                  <a:path w="1595" h="742">
                    <a:moveTo>
                      <a:pt x="878" y="0"/>
                    </a:moveTo>
                    <a:lnTo>
                      <a:pt x="1339" y="0"/>
                    </a:lnTo>
                    <a:lnTo>
                      <a:pt x="1595" y="517"/>
                    </a:lnTo>
                    <a:lnTo>
                      <a:pt x="1534" y="742"/>
                    </a:lnTo>
                    <a:lnTo>
                      <a:pt x="0" y="742"/>
                    </a:lnTo>
                    <a:lnTo>
                      <a:pt x="0" y="529"/>
                    </a:lnTo>
                    <a:lnTo>
                      <a:pt x="8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1189080" y="4062240"/>
                <a:ext cx="341280" cy="173160"/>
              </a:xfrm>
              <a:custGeom>
                <a:avLst/>
                <a:gdLst/>
                <a:ahLst/>
                <a:rect l="l" t="t" r="r" b="b"/>
                <a:pathLst>
                  <a:path w="2156" h="1089">
                    <a:moveTo>
                      <a:pt x="1834" y="1089"/>
                    </a:moveTo>
                    <a:lnTo>
                      <a:pt x="1868" y="961"/>
                    </a:lnTo>
                    <a:lnTo>
                      <a:pt x="1988" y="915"/>
                    </a:lnTo>
                    <a:lnTo>
                      <a:pt x="2156" y="869"/>
                    </a:lnTo>
                    <a:lnTo>
                      <a:pt x="2141" y="551"/>
                    </a:lnTo>
                    <a:lnTo>
                      <a:pt x="1700" y="0"/>
                    </a:lnTo>
                    <a:lnTo>
                      <a:pt x="486" y="0"/>
                    </a:lnTo>
                    <a:lnTo>
                      <a:pt x="0" y="274"/>
                    </a:lnTo>
                    <a:lnTo>
                      <a:pt x="1129" y="897"/>
                    </a:lnTo>
                    <a:lnTo>
                      <a:pt x="1505" y="961"/>
                    </a:lnTo>
                    <a:lnTo>
                      <a:pt x="1834" y="1089"/>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781280" y="4235400"/>
                <a:ext cx="284040" cy="208080"/>
              </a:xfrm>
              <a:custGeom>
                <a:avLst/>
                <a:gdLst/>
                <a:ahLst/>
                <a:rect l="l" t="t" r="r" b="b"/>
                <a:pathLst>
                  <a:path w="1785" h="1313">
                    <a:moveTo>
                      <a:pt x="1348" y="1303"/>
                    </a:moveTo>
                    <a:lnTo>
                      <a:pt x="1418" y="1208"/>
                    </a:lnTo>
                    <a:lnTo>
                      <a:pt x="1693" y="1313"/>
                    </a:lnTo>
                    <a:lnTo>
                      <a:pt x="1750" y="1313"/>
                    </a:lnTo>
                    <a:lnTo>
                      <a:pt x="1785" y="1286"/>
                    </a:lnTo>
                    <a:lnTo>
                      <a:pt x="1785" y="1149"/>
                    </a:lnTo>
                    <a:lnTo>
                      <a:pt x="1659" y="782"/>
                    </a:lnTo>
                    <a:lnTo>
                      <a:pt x="1121" y="327"/>
                    </a:lnTo>
                    <a:lnTo>
                      <a:pt x="358" y="0"/>
                    </a:lnTo>
                    <a:lnTo>
                      <a:pt x="0" y="187"/>
                    </a:lnTo>
                    <a:lnTo>
                      <a:pt x="0" y="924"/>
                    </a:lnTo>
                    <a:lnTo>
                      <a:pt x="380" y="1183"/>
                    </a:lnTo>
                    <a:lnTo>
                      <a:pt x="889" y="1223"/>
                    </a:lnTo>
                    <a:lnTo>
                      <a:pt x="1195" y="1313"/>
                    </a:lnTo>
                    <a:lnTo>
                      <a:pt x="1348" y="1303"/>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20600" y="3363840"/>
                <a:ext cx="1465200" cy="1190520"/>
              </a:xfrm>
              <a:custGeom>
                <a:avLst/>
                <a:gdLst/>
                <a:ahLst/>
                <a:rect l="l" t="t" r="r" b="b"/>
                <a:pathLst>
                  <a:path w="9227" h="7499">
                    <a:moveTo>
                      <a:pt x="8470" y="7073"/>
                    </a:moveTo>
                    <a:lnTo>
                      <a:pt x="8624" y="7073"/>
                    </a:lnTo>
                    <a:lnTo>
                      <a:pt x="8895" y="6908"/>
                    </a:lnTo>
                    <a:lnTo>
                      <a:pt x="9227" y="6135"/>
                    </a:lnTo>
                    <a:lnTo>
                      <a:pt x="9227" y="5853"/>
                    </a:lnTo>
                    <a:lnTo>
                      <a:pt x="8624" y="5711"/>
                    </a:lnTo>
                    <a:lnTo>
                      <a:pt x="6947" y="4816"/>
                    </a:lnTo>
                    <a:lnTo>
                      <a:pt x="6947" y="4539"/>
                    </a:lnTo>
                    <a:lnTo>
                      <a:pt x="7188" y="4379"/>
                    </a:lnTo>
                    <a:lnTo>
                      <a:pt x="6785" y="4379"/>
                    </a:lnTo>
                    <a:lnTo>
                      <a:pt x="6471" y="4307"/>
                    </a:lnTo>
                    <a:lnTo>
                      <a:pt x="5750" y="4307"/>
                    </a:lnTo>
                    <a:lnTo>
                      <a:pt x="5109" y="3922"/>
                    </a:lnTo>
                    <a:lnTo>
                      <a:pt x="4894" y="3343"/>
                    </a:lnTo>
                    <a:lnTo>
                      <a:pt x="4484" y="3151"/>
                    </a:lnTo>
                    <a:lnTo>
                      <a:pt x="4176" y="2280"/>
                    </a:lnTo>
                    <a:lnTo>
                      <a:pt x="4176" y="1971"/>
                    </a:lnTo>
                    <a:lnTo>
                      <a:pt x="3974" y="1414"/>
                    </a:lnTo>
                    <a:lnTo>
                      <a:pt x="3770" y="1226"/>
                    </a:lnTo>
                    <a:lnTo>
                      <a:pt x="3661" y="968"/>
                    </a:lnTo>
                    <a:lnTo>
                      <a:pt x="3404" y="710"/>
                    </a:lnTo>
                    <a:lnTo>
                      <a:pt x="1841" y="0"/>
                    </a:lnTo>
                    <a:lnTo>
                      <a:pt x="1488" y="121"/>
                    </a:lnTo>
                    <a:lnTo>
                      <a:pt x="1434" y="381"/>
                    </a:lnTo>
                    <a:lnTo>
                      <a:pt x="1121" y="449"/>
                    </a:lnTo>
                    <a:lnTo>
                      <a:pt x="993" y="615"/>
                    </a:lnTo>
                    <a:lnTo>
                      <a:pt x="993" y="710"/>
                    </a:lnTo>
                    <a:lnTo>
                      <a:pt x="776" y="870"/>
                    </a:lnTo>
                    <a:lnTo>
                      <a:pt x="776" y="1056"/>
                    </a:lnTo>
                    <a:lnTo>
                      <a:pt x="352" y="1535"/>
                    </a:lnTo>
                    <a:lnTo>
                      <a:pt x="17" y="2519"/>
                    </a:lnTo>
                    <a:lnTo>
                      <a:pt x="0" y="3037"/>
                    </a:lnTo>
                    <a:lnTo>
                      <a:pt x="95" y="4019"/>
                    </a:lnTo>
                    <a:lnTo>
                      <a:pt x="95" y="4912"/>
                    </a:lnTo>
                    <a:lnTo>
                      <a:pt x="148" y="5126"/>
                    </a:lnTo>
                    <a:lnTo>
                      <a:pt x="462" y="5689"/>
                    </a:lnTo>
                    <a:lnTo>
                      <a:pt x="1232" y="6652"/>
                    </a:lnTo>
                    <a:lnTo>
                      <a:pt x="1454" y="7400"/>
                    </a:lnTo>
                    <a:lnTo>
                      <a:pt x="1604" y="7499"/>
                    </a:lnTo>
                    <a:lnTo>
                      <a:pt x="1841" y="7499"/>
                    </a:lnTo>
                    <a:lnTo>
                      <a:pt x="7114" y="6606"/>
                    </a:lnTo>
                    <a:lnTo>
                      <a:pt x="8105" y="6862"/>
                    </a:lnTo>
                    <a:lnTo>
                      <a:pt x="8470" y="70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384120" y="3479760"/>
                <a:ext cx="319320" cy="372960"/>
              </a:xfrm>
              <a:custGeom>
                <a:avLst/>
                <a:gdLst/>
                <a:ahLst/>
                <a:rect l="l" t="t" r="r" b="b"/>
                <a:pathLst>
                  <a:path w="2005" h="2354">
                    <a:moveTo>
                      <a:pt x="0" y="0"/>
                    </a:moveTo>
                    <a:lnTo>
                      <a:pt x="128" y="170"/>
                    </a:lnTo>
                    <a:lnTo>
                      <a:pt x="128" y="381"/>
                    </a:lnTo>
                    <a:lnTo>
                      <a:pt x="693" y="985"/>
                    </a:lnTo>
                    <a:lnTo>
                      <a:pt x="1047" y="985"/>
                    </a:lnTo>
                    <a:lnTo>
                      <a:pt x="1446" y="1552"/>
                    </a:lnTo>
                    <a:lnTo>
                      <a:pt x="1601" y="1156"/>
                    </a:lnTo>
                    <a:lnTo>
                      <a:pt x="1601" y="1434"/>
                    </a:lnTo>
                    <a:lnTo>
                      <a:pt x="1757" y="1928"/>
                    </a:lnTo>
                    <a:lnTo>
                      <a:pt x="1803" y="2209"/>
                    </a:lnTo>
                    <a:lnTo>
                      <a:pt x="2005" y="2354"/>
                    </a:lnTo>
                    <a:lnTo>
                      <a:pt x="1730" y="897"/>
                    </a:lnTo>
                    <a:lnTo>
                      <a:pt x="1580" y="825"/>
                    </a:lnTo>
                    <a:lnTo>
                      <a:pt x="1446" y="1223"/>
                    </a:lnTo>
                    <a:lnTo>
                      <a:pt x="1122" y="807"/>
                    </a:lnTo>
                    <a:lnTo>
                      <a:pt x="238" y="142"/>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244440" y="3375000"/>
                <a:ext cx="131760" cy="157320"/>
              </a:xfrm>
              <a:custGeom>
                <a:avLst/>
                <a:gdLst/>
                <a:ahLst/>
                <a:rect l="l" t="t" r="r" b="b"/>
                <a:pathLst>
                  <a:path w="828" h="983">
                    <a:moveTo>
                      <a:pt x="0" y="983"/>
                    </a:moveTo>
                    <a:lnTo>
                      <a:pt x="71" y="825"/>
                    </a:lnTo>
                    <a:lnTo>
                      <a:pt x="382" y="637"/>
                    </a:lnTo>
                    <a:lnTo>
                      <a:pt x="382" y="468"/>
                    </a:lnTo>
                    <a:lnTo>
                      <a:pt x="626" y="468"/>
                    </a:lnTo>
                    <a:lnTo>
                      <a:pt x="828" y="725"/>
                    </a:lnTo>
                    <a:lnTo>
                      <a:pt x="750" y="448"/>
                    </a:lnTo>
                    <a:lnTo>
                      <a:pt x="750" y="238"/>
                    </a:lnTo>
                    <a:lnTo>
                      <a:pt x="828" y="48"/>
                    </a:lnTo>
                    <a:lnTo>
                      <a:pt x="733" y="0"/>
                    </a:lnTo>
                    <a:lnTo>
                      <a:pt x="658" y="282"/>
                    </a:lnTo>
                    <a:lnTo>
                      <a:pt x="345" y="376"/>
                    </a:lnTo>
                    <a:lnTo>
                      <a:pt x="217" y="519"/>
                    </a:lnTo>
                    <a:lnTo>
                      <a:pt x="217" y="637"/>
                    </a:lnTo>
                    <a:lnTo>
                      <a:pt x="0" y="797"/>
                    </a:lnTo>
                    <a:lnTo>
                      <a:pt x="0" y="983"/>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39680" y="3632040"/>
                <a:ext cx="1397160" cy="922320"/>
              </a:xfrm>
              <a:custGeom>
                <a:avLst/>
                <a:gdLst/>
                <a:ahLst/>
                <a:rect l="l" t="t" r="r" b="b"/>
                <a:pathLst>
                  <a:path w="8798" h="5808">
                    <a:moveTo>
                      <a:pt x="1118" y="0"/>
                    </a:moveTo>
                    <a:lnTo>
                      <a:pt x="841" y="330"/>
                    </a:lnTo>
                    <a:lnTo>
                      <a:pt x="841" y="471"/>
                    </a:lnTo>
                    <a:lnTo>
                      <a:pt x="2956" y="1132"/>
                    </a:lnTo>
                    <a:lnTo>
                      <a:pt x="2481" y="1274"/>
                    </a:lnTo>
                    <a:lnTo>
                      <a:pt x="2794" y="1391"/>
                    </a:lnTo>
                    <a:lnTo>
                      <a:pt x="3048" y="1620"/>
                    </a:lnTo>
                    <a:lnTo>
                      <a:pt x="3617" y="1620"/>
                    </a:lnTo>
                    <a:lnTo>
                      <a:pt x="2882" y="2097"/>
                    </a:lnTo>
                    <a:lnTo>
                      <a:pt x="4095" y="2376"/>
                    </a:lnTo>
                    <a:lnTo>
                      <a:pt x="3450" y="2798"/>
                    </a:lnTo>
                    <a:lnTo>
                      <a:pt x="5029" y="2635"/>
                    </a:lnTo>
                    <a:lnTo>
                      <a:pt x="5232" y="2656"/>
                    </a:lnTo>
                    <a:lnTo>
                      <a:pt x="5383" y="2848"/>
                    </a:lnTo>
                    <a:lnTo>
                      <a:pt x="5291" y="3221"/>
                    </a:lnTo>
                    <a:lnTo>
                      <a:pt x="5786" y="3221"/>
                    </a:lnTo>
                    <a:lnTo>
                      <a:pt x="6762" y="3645"/>
                    </a:lnTo>
                    <a:lnTo>
                      <a:pt x="7036" y="3530"/>
                    </a:lnTo>
                    <a:lnTo>
                      <a:pt x="7363" y="3505"/>
                    </a:lnTo>
                    <a:lnTo>
                      <a:pt x="7052" y="3807"/>
                    </a:lnTo>
                    <a:lnTo>
                      <a:pt x="7052" y="4089"/>
                    </a:lnTo>
                    <a:lnTo>
                      <a:pt x="6798" y="4490"/>
                    </a:lnTo>
                    <a:lnTo>
                      <a:pt x="7207" y="4184"/>
                    </a:lnTo>
                    <a:lnTo>
                      <a:pt x="7461" y="4184"/>
                    </a:lnTo>
                    <a:lnTo>
                      <a:pt x="7419" y="4324"/>
                    </a:lnTo>
                    <a:lnTo>
                      <a:pt x="7593" y="4629"/>
                    </a:lnTo>
                    <a:lnTo>
                      <a:pt x="7593" y="3998"/>
                    </a:lnTo>
                    <a:lnTo>
                      <a:pt x="7883" y="3721"/>
                    </a:lnTo>
                    <a:lnTo>
                      <a:pt x="8067" y="3807"/>
                    </a:lnTo>
                    <a:lnTo>
                      <a:pt x="7939" y="4444"/>
                    </a:lnTo>
                    <a:lnTo>
                      <a:pt x="8285" y="3930"/>
                    </a:lnTo>
                    <a:lnTo>
                      <a:pt x="8456" y="3974"/>
                    </a:lnTo>
                    <a:lnTo>
                      <a:pt x="8195" y="4938"/>
                    </a:lnTo>
                    <a:lnTo>
                      <a:pt x="8798" y="5171"/>
                    </a:lnTo>
                    <a:lnTo>
                      <a:pt x="8544" y="5382"/>
                    </a:lnTo>
                    <a:lnTo>
                      <a:pt x="8342" y="5382"/>
                    </a:lnTo>
                    <a:lnTo>
                      <a:pt x="7957" y="5217"/>
                    </a:lnTo>
                    <a:lnTo>
                      <a:pt x="7533" y="5217"/>
                    </a:lnTo>
                    <a:lnTo>
                      <a:pt x="7074" y="5127"/>
                    </a:lnTo>
                    <a:lnTo>
                      <a:pt x="4555" y="4650"/>
                    </a:lnTo>
                    <a:lnTo>
                      <a:pt x="3415" y="4869"/>
                    </a:lnTo>
                    <a:lnTo>
                      <a:pt x="3797" y="4585"/>
                    </a:lnTo>
                    <a:lnTo>
                      <a:pt x="3797" y="4232"/>
                    </a:lnTo>
                    <a:lnTo>
                      <a:pt x="2624" y="5243"/>
                    </a:lnTo>
                    <a:lnTo>
                      <a:pt x="3547" y="3998"/>
                    </a:lnTo>
                    <a:lnTo>
                      <a:pt x="3246" y="3736"/>
                    </a:lnTo>
                    <a:lnTo>
                      <a:pt x="2845" y="4419"/>
                    </a:lnTo>
                    <a:lnTo>
                      <a:pt x="2003" y="4938"/>
                    </a:lnTo>
                    <a:lnTo>
                      <a:pt x="2003" y="4585"/>
                    </a:lnTo>
                    <a:lnTo>
                      <a:pt x="1710" y="5287"/>
                    </a:lnTo>
                    <a:lnTo>
                      <a:pt x="1817" y="3788"/>
                    </a:lnTo>
                    <a:lnTo>
                      <a:pt x="1450" y="4184"/>
                    </a:lnTo>
                    <a:lnTo>
                      <a:pt x="1561" y="4629"/>
                    </a:lnTo>
                    <a:lnTo>
                      <a:pt x="1561" y="5570"/>
                    </a:lnTo>
                    <a:lnTo>
                      <a:pt x="2498" y="5337"/>
                    </a:lnTo>
                    <a:lnTo>
                      <a:pt x="1628" y="5808"/>
                    </a:lnTo>
                    <a:lnTo>
                      <a:pt x="1412" y="5808"/>
                    </a:lnTo>
                    <a:lnTo>
                      <a:pt x="1303" y="5690"/>
                    </a:lnTo>
                    <a:lnTo>
                      <a:pt x="1084" y="4986"/>
                    </a:lnTo>
                    <a:lnTo>
                      <a:pt x="296" y="3930"/>
                    </a:lnTo>
                    <a:lnTo>
                      <a:pt x="0" y="3317"/>
                    </a:lnTo>
                    <a:lnTo>
                      <a:pt x="326" y="3788"/>
                    </a:lnTo>
                    <a:lnTo>
                      <a:pt x="510" y="3877"/>
                    </a:lnTo>
                    <a:lnTo>
                      <a:pt x="222" y="3150"/>
                    </a:lnTo>
                    <a:lnTo>
                      <a:pt x="34" y="2868"/>
                    </a:lnTo>
                    <a:lnTo>
                      <a:pt x="529" y="2656"/>
                    </a:lnTo>
                    <a:lnTo>
                      <a:pt x="182" y="2427"/>
                    </a:lnTo>
                    <a:lnTo>
                      <a:pt x="529" y="2255"/>
                    </a:lnTo>
                    <a:lnTo>
                      <a:pt x="34" y="1795"/>
                    </a:lnTo>
                    <a:lnTo>
                      <a:pt x="380" y="1795"/>
                    </a:lnTo>
                    <a:lnTo>
                      <a:pt x="380" y="1088"/>
                    </a:lnTo>
                    <a:lnTo>
                      <a:pt x="697" y="330"/>
                    </a:lnTo>
                    <a:lnTo>
                      <a:pt x="1118"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754200" y="3849840"/>
                <a:ext cx="298440" cy="245880"/>
              </a:xfrm>
              <a:custGeom>
                <a:avLst/>
                <a:gdLst/>
                <a:ahLst/>
                <a:rect l="l" t="t" r="r" b="b"/>
                <a:pathLst>
                  <a:path w="1878" h="1552">
                    <a:moveTo>
                      <a:pt x="220" y="0"/>
                    </a:moveTo>
                    <a:lnTo>
                      <a:pt x="409" y="613"/>
                    </a:lnTo>
                    <a:lnTo>
                      <a:pt x="479" y="613"/>
                    </a:lnTo>
                    <a:lnTo>
                      <a:pt x="479" y="46"/>
                    </a:lnTo>
                    <a:lnTo>
                      <a:pt x="846" y="493"/>
                    </a:lnTo>
                    <a:lnTo>
                      <a:pt x="846" y="661"/>
                    </a:lnTo>
                    <a:lnTo>
                      <a:pt x="1273" y="987"/>
                    </a:lnTo>
                    <a:lnTo>
                      <a:pt x="1878" y="1292"/>
                    </a:lnTo>
                    <a:lnTo>
                      <a:pt x="1617" y="1552"/>
                    </a:lnTo>
                    <a:lnTo>
                      <a:pt x="828" y="964"/>
                    </a:lnTo>
                    <a:lnTo>
                      <a:pt x="187" y="588"/>
                    </a:lnTo>
                    <a:lnTo>
                      <a:pt x="0" y="0"/>
                    </a:lnTo>
                    <a:lnTo>
                      <a:pt x="22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630360" y="3530520"/>
                <a:ext cx="174600" cy="426960"/>
              </a:xfrm>
              <a:custGeom>
                <a:avLst/>
                <a:gdLst/>
                <a:ahLst/>
                <a:rect l="l" t="t" r="r" b="b"/>
                <a:pathLst>
                  <a:path w="1108" h="2690">
                    <a:moveTo>
                      <a:pt x="0" y="0"/>
                    </a:moveTo>
                    <a:lnTo>
                      <a:pt x="66" y="227"/>
                    </a:lnTo>
                    <a:lnTo>
                      <a:pt x="66" y="421"/>
                    </a:lnTo>
                    <a:lnTo>
                      <a:pt x="198" y="727"/>
                    </a:lnTo>
                    <a:lnTo>
                      <a:pt x="400" y="1643"/>
                    </a:lnTo>
                    <a:lnTo>
                      <a:pt x="441" y="2005"/>
                    </a:lnTo>
                    <a:lnTo>
                      <a:pt x="906" y="2526"/>
                    </a:lnTo>
                    <a:lnTo>
                      <a:pt x="1108" y="2690"/>
                    </a:lnTo>
                    <a:lnTo>
                      <a:pt x="688" y="1458"/>
                    </a:lnTo>
                    <a:lnTo>
                      <a:pt x="597" y="988"/>
                    </a:lnTo>
                    <a:lnTo>
                      <a:pt x="415" y="697"/>
                    </a:lnTo>
                    <a:lnTo>
                      <a:pt x="415" y="580"/>
                    </a:lnTo>
                    <a:lnTo>
                      <a:pt x="285" y="273"/>
                    </a:lnTo>
                    <a:lnTo>
                      <a:pt x="7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639720" y="3567240"/>
                <a:ext cx="95400" cy="322200"/>
              </a:xfrm>
              <a:custGeom>
                <a:avLst/>
                <a:gdLst/>
                <a:ahLst/>
                <a:rect l="l" t="t" r="r" b="b"/>
                <a:pathLst>
                  <a:path w="597" h="2032">
                    <a:moveTo>
                      <a:pt x="0" y="0"/>
                    </a:moveTo>
                    <a:lnTo>
                      <a:pt x="0" y="170"/>
                    </a:lnTo>
                    <a:lnTo>
                      <a:pt x="122" y="500"/>
                    </a:lnTo>
                    <a:lnTo>
                      <a:pt x="334" y="1416"/>
                    </a:lnTo>
                    <a:lnTo>
                      <a:pt x="383" y="1796"/>
                    </a:lnTo>
                    <a:lnTo>
                      <a:pt x="597" y="2032"/>
                    </a:lnTo>
                    <a:lnTo>
                      <a:pt x="433" y="1143"/>
                    </a:lnTo>
                    <a:lnTo>
                      <a:pt x="275" y="639"/>
                    </a:lnTo>
                    <a:lnTo>
                      <a:pt x="343" y="500"/>
                    </a:lnTo>
                    <a:lnTo>
                      <a:pt x="292" y="500"/>
                    </a:lnTo>
                    <a:lnTo>
                      <a:pt x="168" y="206"/>
                    </a:lnTo>
                    <a:lnTo>
                      <a:pt x="57" y="46"/>
                    </a:lnTo>
                    <a:lnTo>
                      <a:pt x="0"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20840" y="2906640"/>
                <a:ext cx="396720" cy="135000"/>
              </a:xfrm>
              <a:custGeom>
                <a:avLst/>
                <a:gdLst/>
                <a:ahLst/>
                <a:rect l="l" t="t" r="r" b="b"/>
                <a:pathLst>
                  <a:path w="2503" h="843">
                    <a:moveTo>
                      <a:pt x="2503" y="656"/>
                    </a:moveTo>
                    <a:lnTo>
                      <a:pt x="2249" y="408"/>
                    </a:lnTo>
                    <a:lnTo>
                      <a:pt x="1610" y="124"/>
                    </a:lnTo>
                    <a:lnTo>
                      <a:pt x="1005" y="0"/>
                    </a:lnTo>
                    <a:lnTo>
                      <a:pt x="412" y="0"/>
                    </a:lnTo>
                    <a:lnTo>
                      <a:pt x="0" y="308"/>
                    </a:lnTo>
                    <a:lnTo>
                      <a:pt x="1013" y="729"/>
                    </a:lnTo>
                    <a:lnTo>
                      <a:pt x="1355" y="570"/>
                    </a:lnTo>
                    <a:lnTo>
                      <a:pt x="2051" y="843"/>
                    </a:lnTo>
                    <a:lnTo>
                      <a:pt x="2469" y="756"/>
                    </a:lnTo>
                    <a:lnTo>
                      <a:pt x="2503" y="656"/>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68240" y="3362400"/>
                <a:ext cx="20880" cy="12600"/>
              </a:xfrm>
              <a:custGeom>
                <a:avLst/>
                <a:gdLst/>
                <a:ahLst/>
                <a:rect l="l" t="t" r="r" b="b"/>
                <a:pathLst>
                  <a:path w="139" h="82">
                    <a:moveTo>
                      <a:pt x="139" y="0"/>
                    </a:moveTo>
                    <a:lnTo>
                      <a:pt x="139" y="82"/>
                    </a:lnTo>
                    <a:lnTo>
                      <a:pt x="0" y="82"/>
                    </a:lnTo>
                    <a:lnTo>
                      <a:pt x="13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5" name=""/>
              <p:cNvSpPr/>
              <p:nvPr/>
            </p:nvSpPr>
            <p:spPr>
              <a:xfrm>
                <a:off x="431640" y="3110040"/>
                <a:ext cx="417600" cy="407880"/>
              </a:xfrm>
              <a:custGeom>
                <a:avLst/>
                <a:gdLst/>
                <a:ahLst/>
                <a:rect l="l" t="t" r="r" b="b"/>
                <a:pathLst>
                  <a:path w="2634" h="2562">
                    <a:moveTo>
                      <a:pt x="2505" y="519"/>
                    </a:moveTo>
                    <a:lnTo>
                      <a:pt x="2344" y="0"/>
                    </a:lnTo>
                    <a:lnTo>
                      <a:pt x="321" y="531"/>
                    </a:lnTo>
                    <a:lnTo>
                      <a:pt x="0" y="1743"/>
                    </a:lnTo>
                    <a:lnTo>
                      <a:pt x="375" y="1941"/>
                    </a:lnTo>
                    <a:lnTo>
                      <a:pt x="786" y="2295"/>
                    </a:lnTo>
                    <a:lnTo>
                      <a:pt x="1228" y="2562"/>
                    </a:lnTo>
                    <a:lnTo>
                      <a:pt x="1396" y="2326"/>
                    </a:lnTo>
                    <a:lnTo>
                      <a:pt x="2093" y="2326"/>
                    </a:lnTo>
                    <a:lnTo>
                      <a:pt x="2213" y="2171"/>
                    </a:lnTo>
                    <a:lnTo>
                      <a:pt x="2213" y="2029"/>
                    </a:lnTo>
                    <a:lnTo>
                      <a:pt x="2182" y="1913"/>
                    </a:lnTo>
                    <a:lnTo>
                      <a:pt x="2282" y="1755"/>
                    </a:lnTo>
                    <a:lnTo>
                      <a:pt x="2282" y="1671"/>
                    </a:lnTo>
                    <a:lnTo>
                      <a:pt x="2118" y="1671"/>
                    </a:lnTo>
                    <a:lnTo>
                      <a:pt x="2333" y="1530"/>
                    </a:lnTo>
                    <a:lnTo>
                      <a:pt x="2382" y="1304"/>
                    </a:lnTo>
                    <a:lnTo>
                      <a:pt x="2516" y="1234"/>
                    </a:lnTo>
                    <a:lnTo>
                      <a:pt x="2625" y="1210"/>
                    </a:lnTo>
                    <a:lnTo>
                      <a:pt x="2634" y="1170"/>
                    </a:lnTo>
                    <a:lnTo>
                      <a:pt x="2616" y="1096"/>
                    </a:lnTo>
                    <a:lnTo>
                      <a:pt x="2382" y="671"/>
                    </a:lnTo>
                    <a:lnTo>
                      <a:pt x="2362" y="635"/>
                    </a:lnTo>
                    <a:lnTo>
                      <a:pt x="2454" y="547"/>
                    </a:lnTo>
                    <a:lnTo>
                      <a:pt x="2505" y="519"/>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430280" y="3619440"/>
                <a:ext cx="60480" cy="36720"/>
              </a:xfrm>
              <a:prstGeom prst="rect">
                <a:avLst/>
              </a:pr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7" name=""/>
              <p:cNvSpPr/>
              <p:nvPr/>
            </p:nvSpPr>
            <p:spPr>
              <a:xfrm>
                <a:off x="1490760" y="3638520"/>
                <a:ext cx="60120" cy="17640"/>
              </a:xfrm>
              <a:prstGeom prst="rect">
                <a:avLst/>
              </a:prstGeom>
              <a:solidFill>
                <a:srgbClr val="00ea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8" name=""/>
              <p:cNvSpPr/>
              <p:nvPr/>
            </p:nvSpPr>
            <p:spPr>
              <a:xfrm>
                <a:off x="1550880" y="3589200"/>
                <a:ext cx="60480" cy="66960"/>
              </a:xfrm>
              <a:prstGeom prst="rect">
                <a:avLst/>
              </a:pr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9" name=""/>
              <p:cNvSpPr/>
              <p:nvPr/>
            </p:nvSpPr>
            <p:spPr>
              <a:xfrm>
                <a:off x="1611360" y="3570120"/>
                <a:ext cx="60120" cy="86040"/>
              </a:xfrm>
              <a:prstGeom prst="rect">
                <a:avLst/>
              </a:prstGeom>
              <a:solidFill>
                <a:srgbClr val="00ea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00" name=""/>
              <p:cNvSpPr/>
              <p:nvPr/>
            </p:nvSpPr>
            <p:spPr>
              <a:xfrm>
                <a:off x="1671480" y="3629160"/>
                <a:ext cx="60480" cy="27000"/>
              </a:xfrm>
              <a:prstGeom prst="rect">
                <a:avLst/>
              </a:prstGeom>
              <a:solidFill>
                <a:srgbClr val="ff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1" name=""/>
              <p:cNvSpPr/>
              <p:nvPr/>
            </p:nvSpPr>
            <p:spPr>
              <a:xfrm>
                <a:off x="1731960" y="3463920"/>
                <a:ext cx="60480" cy="192240"/>
              </a:xfrm>
              <a:prstGeom prst="rect">
                <a:avLst/>
              </a:pr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1792440" y="3271680"/>
                <a:ext cx="60120" cy="38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1852560" y="3300480"/>
                <a:ext cx="60480" cy="355680"/>
              </a:xfrm>
              <a:prstGeom prst="rect">
                <a:avLst/>
              </a:pr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913040" y="3281400"/>
                <a:ext cx="60120" cy="37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422360" y="3260880"/>
                <a:ext cx="30240" cy="20520"/>
              </a:xfrm>
              <a:prstGeom prst="rect">
                <a:avLst/>
              </a:prstGeom>
              <a:solidFill>
                <a:srgbClr val="00ea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6" name=""/>
              <p:cNvSpPr/>
              <p:nvPr/>
            </p:nvSpPr>
            <p:spPr>
              <a:xfrm>
                <a:off x="1422360" y="3300480"/>
                <a:ext cx="30240" cy="19080"/>
              </a:xfrm>
              <a:prstGeom prst="rect">
                <a:avLst/>
              </a:prstGeom>
              <a:solidFill>
                <a:srgbClr val="ff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7" name=""/>
              <p:cNvSpPr/>
              <p:nvPr/>
            </p:nvSpPr>
            <p:spPr>
              <a:xfrm>
                <a:off x="793800" y="3273480"/>
                <a:ext cx="55440" cy="52200"/>
              </a:xfrm>
              <a:custGeom>
                <a:avLst/>
                <a:gdLst/>
                <a:ahLst/>
                <a:rect l="l" t="t" r="r" b="b"/>
                <a:pathLst>
                  <a:path w="352" h="326">
                    <a:moveTo>
                      <a:pt x="128" y="0"/>
                    </a:moveTo>
                    <a:lnTo>
                      <a:pt x="192" y="120"/>
                    </a:lnTo>
                    <a:lnTo>
                      <a:pt x="91" y="120"/>
                    </a:lnTo>
                    <a:lnTo>
                      <a:pt x="91" y="266"/>
                    </a:lnTo>
                    <a:lnTo>
                      <a:pt x="215" y="198"/>
                    </a:lnTo>
                    <a:lnTo>
                      <a:pt x="352" y="198"/>
                    </a:lnTo>
                    <a:lnTo>
                      <a:pt x="352" y="222"/>
                    </a:lnTo>
                    <a:lnTo>
                      <a:pt x="308" y="240"/>
                    </a:lnTo>
                    <a:lnTo>
                      <a:pt x="228" y="256"/>
                    </a:lnTo>
                    <a:lnTo>
                      <a:pt x="122" y="326"/>
                    </a:lnTo>
                    <a:lnTo>
                      <a:pt x="91" y="326"/>
                    </a:lnTo>
                    <a:lnTo>
                      <a:pt x="0" y="240"/>
                    </a:lnTo>
                    <a:lnTo>
                      <a:pt x="47" y="105"/>
                    </a:lnTo>
                    <a:lnTo>
                      <a:pt x="100" y="84"/>
                    </a:lnTo>
                    <a:lnTo>
                      <a:pt x="128"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08" name=""/>
              <p:cNvSpPr/>
              <p:nvPr/>
            </p:nvSpPr>
            <p:spPr>
              <a:xfrm>
                <a:off x="782640" y="3378240"/>
                <a:ext cx="17640" cy="33120"/>
              </a:xfrm>
              <a:custGeom>
                <a:avLst/>
                <a:gdLst/>
                <a:ahLst/>
                <a:rect l="l" t="t" r="r" b="b"/>
                <a:pathLst>
                  <a:path w="107" h="203">
                    <a:moveTo>
                      <a:pt x="53" y="0"/>
                    </a:moveTo>
                    <a:lnTo>
                      <a:pt x="53" y="67"/>
                    </a:lnTo>
                    <a:lnTo>
                      <a:pt x="0" y="203"/>
                    </a:lnTo>
                    <a:lnTo>
                      <a:pt x="107" y="67"/>
                    </a:lnTo>
                    <a:lnTo>
                      <a:pt x="107" y="0"/>
                    </a:lnTo>
                    <a:lnTo>
                      <a:pt x="5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9" name=""/>
              <p:cNvSpPr/>
              <p:nvPr/>
            </p:nvSpPr>
            <p:spPr>
              <a:xfrm>
                <a:off x="770040" y="3355920"/>
                <a:ext cx="38160" cy="22320"/>
              </a:xfrm>
              <a:custGeom>
                <a:avLst/>
                <a:gdLst/>
                <a:ahLst/>
                <a:rect l="l" t="t" r="r" b="b"/>
                <a:pathLst>
                  <a:path w="235" h="141">
                    <a:moveTo>
                      <a:pt x="137" y="141"/>
                    </a:moveTo>
                    <a:lnTo>
                      <a:pt x="0" y="141"/>
                    </a:lnTo>
                    <a:lnTo>
                      <a:pt x="235"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10" name=""/>
              <p:cNvSpPr/>
              <p:nvPr/>
            </p:nvSpPr>
            <p:spPr>
              <a:xfrm flipV="1">
                <a:off x="792000" y="33681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1" name=""/>
              <p:cNvSpPr/>
              <p:nvPr/>
            </p:nvSpPr>
            <p:spPr>
              <a:xfrm>
                <a:off x="770040" y="3216240"/>
                <a:ext cx="38160" cy="28440"/>
              </a:xfrm>
              <a:custGeom>
                <a:avLst/>
                <a:gdLst/>
                <a:ahLst/>
                <a:rect l="l" t="t" r="r" b="b"/>
                <a:pathLst>
                  <a:path w="248" h="176">
                    <a:moveTo>
                      <a:pt x="0" y="120"/>
                    </a:moveTo>
                    <a:lnTo>
                      <a:pt x="103" y="176"/>
                    </a:lnTo>
                    <a:lnTo>
                      <a:pt x="103" y="120"/>
                    </a:lnTo>
                    <a:lnTo>
                      <a:pt x="248" y="56"/>
                    </a:lnTo>
                    <a:lnTo>
                      <a:pt x="195" y="0"/>
                    </a:lnTo>
                    <a:lnTo>
                      <a:pt x="0" y="12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12" name=""/>
              <p:cNvSpPr/>
              <p:nvPr/>
            </p:nvSpPr>
            <p:spPr>
              <a:xfrm>
                <a:off x="746280" y="3187800"/>
                <a:ext cx="85680" cy="28440"/>
              </a:xfrm>
              <a:custGeom>
                <a:avLst/>
                <a:gdLst/>
                <a:ahLst/>
                <a:rect l="l" t="t" r="r" b="b"/>
                <a:pathLst>
                  <a:path w="540" h="184">
                    <a:moveTo>
                      <a:pt x="540" y="0"/>
                    </a:moveTo>
                    <a:lnTo>
                      <a:pt x="540" y="50"/>
                    </a:lnTo>
                    <a:lnTo>
                      <a:pt x="395" y="120"/>
                    </a:lnTo>
                    <a:lnTo>
                      <a:pt x="250" y="120"/>
                    </a:lnTo>
                    <a:lnTo>
                      <a:pt x="80" y="184"/>
                    </a:lnTo>
                    <a:lnTo>
                      <a:pt x="0" y="184"/>
                    </a:lnTo>
                    <a:lnTo>
                      <a:pt x="262" y="64"/>
                    </a:lnTo>
                    <a:lnTo>
                      <a:pt x="395" y="64"/>
                    </a:lnTo>
                    <a:lnTo>
                      <a:pt x="54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13" name=""/>
              <p:cNvSpPr/>
              <p:nvPr/>
            </p:nvSpPr>
            <p:spPr>
              <a:xfrm>
                <a:off x="298440" y="2909880"/>
                <a:ext cx="542880" cy="487440"/>
              </a:xfrm>
              <a:custGeom>
                <a:avLst/>
                <a:gdLst/>
                <a:ahLst/>
                <a:rect l="l" t="t" r="r" b="b"/>
                <a:pathLst>
                  <a:path w="3421" h="3075">
                    <a:moveTo>
                      <a:pt x="2835" y="1481"/>
                    </a:moveTo>
                    <a:lnTo>
                      <a:pt x="3005" y="1481"/>
                    </a:lnTo>
                    <a:lnTo>
                      <a:pt x="3326" y="1242"/>
                    </a:lnTo>
                    <a:lnTo>
                      <a:pt x="3421" y="901"/>
                    </a:lnTo>
                    <a:lnTo>
                      <a:pt x="3292" y="651"/>
                    </a:lnTo>
                    <a:lnTo>
                      <a:pt x="2994" y="764"/>
                    </a:lnTo>
                    <a:lnTo>
                      <a:pt x="2807" y="764"/>
                    </a:lnTo>
                    <a:lnTo>
                      <a:pt x="2923" y="533"/>
                    </a:lnTo>
                    <a:lnTo>
                      <a:pt x="2743" y="533"/>
                    </a:lnTo>
                    <a:lnTo>
                      <a:pt x="2639" y="613"/>
                    </a:lnTo>
                    <a:lnTo>
                      <a:pt x="2491" y="651"/>
                    </a:lnTo>
                    <a:lnTo>
                      <a:pt x="2563" y="533"/>
                    </a:lnTo>
                    <a:lnTo>
                      <a:pt x="2213" y="468"/>
                    </a:lnTo>
                    <a:lnTo>
                      <a:pt x="2263" y="373"/>
                    </a:lnTo>
                    <a:lnTo>
                      <a:pt x="2020" y="333"/>
                    </a:lnTo>
                    <a:lnTo>
                      <a:pt x="1688" y="557"/>
                    </a:lnTo>
                    <a:lnTo>
                      <a:pt x="1786" y="279"/>
                    </a:lnTo>
                    <a:lnTo>
                      <a:pt x="1543" y="427"/>
                    </a:lnTo>
                    <a:lnTo>
                      <a:pt x="1513" y="295"/>
                    </a:lnTo>
                    <a:lnTo>
                      <a:pt x="1397" y="295"/>
                    </a:lnTo>
                    <a:lnTo>
                      <a:pt x="1263" y="363"/>
                    </a:lnTo>
                    <a:lnTo>
                      <a:pt x="1263" y="227"/>
                    </a:lnTo>
                    <a:lnTo>
                      <a:pt x="1167" y="295"/>
                    </a:lnTo>
                    <a:lnTo>
                      <a:pt x="1078" y="295"/>
                    </a:lnTo>
                    <a:lnTo>
                      <a:pt x="1167" y="0"/>
                    </a:lnTo>
                    <a:lnTo>
                      <a:pt x="914" y="0"/>
                    </a:lnTo>
                    <a:lnTo>
                      <a:pt x="644" y="81"/>
                    </a:lnTo>
                    <a:lnTo>
                      <a:pt x="332" y="333"/>
                    </a:lnTo>
                    <a:lnTo>
                      <a:pt x="91" y="773"/>
                    </a:lnTo>
                    <a:lnTo>
                      <a:pt x="0" y="1254"/>
                    </a:lnTo>
                    <a:lnTo>
                      <a:pt x="0" y="1548"/>
                    </a:lnTo>
                    <a:lnTo>
                      <a:pt x="271" y="2504"/>
                    </a:lnTo>
                    <a:lnTo>
                      <a:pt x="342" y="2864"/>
                    </a:lnTo>
                    <a:lnTo>
                      <a:pt x="470" y="3021"/>
                    </a:lnTo>
                    <a:lnTo>
                      <a:pt x="634" y="3075"/>
                    </a:lnTo>
                    <a:lnTo>
                      <a:pt x="769" y="3075"/>
                    </a:lnTo>
                    <a:lnTo>
                      <a:pt x="927" y="2954"/>
                    </a:lnTo>
                    <a:lnTo>
                      <a:pt x="927" y="3075"/>
                    </a:lnTo>
                    <a:lnTo>
                      <a:pt x="1085" y="3011"/>
                    </a:lnTo>
                    <a:lnTo>
                      <a:pt x="1223" y="2733"/>
                    </a:lnTo>
                    <a:lnTo>
                      <a:pt x="1231" y="2362"/>
                    </a:lnTo>
                    <a:lnTo>
                      <a:pt x="1271" y="2187"/>
                    </a:lnTo>
                    <a:lnTo>
                      <a:pt x="1397" y="2027"/>
                    </a:lnTo>
                    <a:lnTo>
                      <a:pt x="1513" y="1971"/>
                    </a:lnTo>
                    <a:lnTo>
                      <a:pt x="1688" y="1971"/>
                    </a:lnTo>
                    <a:lnTo>
                      <a:pt x="1856" y="2082"/>
                    </a:lnTo>
                    <a:lnTo>
                      <a:pt x="1980" y="2277"/>
                    </a:lnTo>
                    <a:lnTo>
                      <a:pt x="2219" y="2265"/>
                    </a:lnTo>
                    <a:lnTo>
                      <a:pt x="2219" y="2000"/>
                    </a:lnTo>
                    <a:lnTo>
                      <a:pt x="2419" y="1729"/>
                    </a:lnTo>
                    <a:lnTo>
                      <a:pt x="2659" y="1639"/>
                    </a:lnTo>
                    <a:lnTo>
                      <a:pt x="2751" y="1521"/>
                    </a:lnTo>
                    <a:lnTo>
                      <a:pt x="2545" y="1521"/>
                    </a:lnTo>
                    <a:lnTo>
                      <a:pt x="2669" y="1437"/>
                    </a:lnTo>
                    <a:lnTo>
                      <a:pt x="2969" y="1374"/>
                    </a:lnTo>
                    <a:lnTo>
                      <a:pt x="2913" y="1452"/>
                    </a:lnTo>
                    <a:lnTo>
                      <a:pt x="2835" y="14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458640" y="2906640"/>
                <a:ext cx="365400" cy="123840"/>
              </a:xfrm>
              <a:custGeom>
                <a:avLst/>
                <a:gdLst/>
                <a:ahLst/>
                <a:rect l="l" t="t" r="r" b="b"/>
                <a:pathLst>
                  <a:path w="2297" h="777">
                    <a:moveTo>
                      <a:pt x="2239" y="601"/>
                    </a:moveTo>
                    <a:lnTo>
                      <a:pt x="2027" y="395"/>
                    </a:lnTo>
                    <a:lnTo>
                      <a:pt x="1400" y="120"/>
                    </a:lnTo>
                    <a:lnTo>
                      <a:pt x="781" y="0"/>
                    </a:lnTo>
                    <a:lnTo>
                      <a:pt x="110" y="0"/>
                    </a:lnTo>
                    <a:lnTo>
                      <a:pt x="0" y="105"/>
                    </a:lnTo>
                    <a:lnTo>
                      <a:pt x="226" y="105"/>
                    </a:lnTo>
                    <a:lnTo>
                      <a:pt x="346" y="187"/>
                    </a:lnTo>
                    <a:lnTo>
                      <a:pt x="462" y="120"/>
                    </a:lnTo>
                    <a:lnTo>
                      <a:pt x="635" y="120"/>
                    </a:lnTo>
                    <a:lnTo>
                      <a:pt x="677" y="256"/>
                    </a:lnTo>
                    <a:lnTo>
                      <a:pt x="921" y="134"/>
                    </a:lnTo>
                    <a:lnTo>
                      <a:pt x="1053" y="256"/>
                    </a:lnTo>
                    <a:lnTo>
                      <a:pt x="1208" y="202"/>
                    </a:lnTo>
                    <a:lnTo>
                      <a:pt x="1502" y="322"/>
                    </a:lnTo>
                    <a:lnTo>
                      <a:pt x="1672" y="322"/>
                    </a:lnTo>
                    <a:lnTo>
                      <a:pt x="1732" y="414"/>
                    </a:lnTo>
                    <a:lnTo>
                      <a:pt x="1636" y="481"/>
                    </a:lnTo>
                    <a:lnTo>
                      <a:pt x="1809" y="481"/>
                    </a:lnTo>
                    <a:lnTo>
                      <a:pt x="1678" y="586"/>
                    </a:lnTo>
                    <a:lnTo>
                      <a:pt x="1807" y="777"/>
                    </a:lnTo>
                    <a:lnTo>
                      <a:pt x="2011" y="504"/>
                    </a:lnTo>
                    <a:lnTo>
                      <a:pt x="2297" y="693"/>
                    </a:lnTo>
                    <a:lnTo>
                      <a:pt x="2239" y="6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493560" y="3240000"/>
                <a:ext cx="292320" cy="285840"/>
              </a:xfrm>
              <a:custGeom>
                <a:avLst/>
                <a:gdLst/>
                <a:ahLst/>
                <a:rect l="l" t="t" r="r" b="b"/>
                <a:pathLst>
                  <a:path w="1837" h="1800">
                    <a:moveTo>
                      <a:pt x="70" y="78"/>
                    </a:moveTo>
                    <a:lnTo>
                      <a:pt x="48" y="145"/>
                    </a:lnTo>
                    <a:lnTo>
                      <a:pt x="48" y="252"/>
                    </a:lnTo>
                    <a:lnTo>
                      <a:pt x="208" y="586"/>
                    </a:lnTo>
                    <a:lnTo>
                      <a:pt x="457" y="746"/>
                    </a:lnTo>
                    <a:lnTo>
                      <a:pt x="561" y="746"/>
                    </a:lnTo>
                    <a:lnTo>
                      <a:pt x="675" y="521"/>
                    </a:lnTo>
                    <a:lnTo>
                      <a:pt x="709" y="120"/>
                    </a:lnTo>
                    <a:lnTo>
                      <a:pt x="988" y="52"/>
                    </a:lnTo>
                    <a:lnTo>
                      <a:pt x="1384" y="586"/>
                    </a:lnTo>
                    <a:lnTo>
                      <a:pt x="1438" y="1075"/>
                    </a:lnTo>
                    <a:lnTo>
                      <a:pt x="1494" y="1227"/>
                    </a:lnTo>
                    <a:lnTo>
                      <a:pt x="1408" y="1059"/>
                    </a:lnTo>
                    <a:lnTo>
                      <a:pt x="1356" y="746"/>
                    </a:lnTo>
                    <a:lnTo>
                      <a:pt x="1180" y="634"/>
                    </a:lnTo>
                    <a:lnTo>
                      <a:pt x="1083" y="760"/>
                    </a:lnTo>
                    <a:lnTo>
                      <a:pt x="1083" y="918"/>
                    </a:lnTo>
                    <a:lnTo>
                      <a:pt x="1188" y="1313"/>
                    </a:lnTo>
                    <a:lnTo>
                      <a:pt x="1589" y="1454"/>
                    </a:lnTo>
                    <a:lnTo>
                      <a:pt x="1640" y="1479"/>
                    </a:lnTo>
                    <a:lnTo>
                      <a:pt x="1738" y="1479"/>
                    </a:lnTo>
                    <a:lnTo>
                      <a:pt x="1837" y="1355"/>
                    </a:lnTo>
                    <a:lnTo>
                      <a:pt x="1837" y="1382"/>
                    </a:lnTo>
                    <a:lnTo>
                      <a:pt x="1723" y="1536"/>
                    </a:lnTo>
                    <a:lnTo>
                      <a:pt x="1656" y="1544"/>
                    </a:lnTo>
                    <a:lnTo>
                      <a:pt x="1095" y="1544"/>
                    </a:lnTo>
                    <a:lnTo>
                      <a:pt x="982" y="1592"/>
                    </a:lnTo>
                    <a:lnTo>
                      <a:pt x="833" y="1800"/>
                    </a:lnTo>
                    <a:lnTo>
                      <a:pt x="486" y="1544"/>
                    </a:lnTo>
                    <a:lnTo>
                      <a:pt x="827" y="1732"/>
                    </a:lnTo>
                    <a:lnTo>
                      <a:pt x="929" y="1544"/>
                    </a:lnTo>
                    <a:lnTo>
                      <a:pt x="709" y="1425"/>
                    </a:lnTo>
                    <a:lnTo>
                      <a:pt x="312" y="691"/>
                    </a:lnTo>
                    <a:lnTo>
                      <a:pt x="166" y="598"/>
                    </a:lnTo>
                    <a:lnTo>
                      <a:pt x="0" y="266"/>
                    </a:lnTo>
                    <a:lnTo>
                      <a:pt x="48" y="0"/>
                    </a:lnTo>
                    <a:lnTo>
                      <a:pt x="7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520560" y="3244680"/>
                <a:ext cx="61920" cy="66960"/>
              </a:xfrm>
              <a:custGeom>
                <a:avLst/>
                <a:gdLst/>
                <a:ahLst/>
                <a:rect l="l" t="t" r="r" b="b"/>
                <a:pathLst>
                  <a:path w="395" h="427">
                    <a:moveTo>
                      <a:pt x="395" y="427"/>
                    </a:moveTo>
                    <a:lnTo>
                      <a:pt x="303" y="307"/>
                    </a:lnTo>
                    <a:lnTo>
                      <a:pt x="303" y="199"/>
                    </a:lnTo>
                    <a:lnTo>
                      <a:pt x="359" y="80"/>
                    </a:lnTo>
                    <a:lnTo>
                      <a:pt x="303" y="0"/>
                    </a:lnTo>
                    <a:lnTo>
                      <a:pt x="164" y="0"/>
                    </a:lnTo>
                    <a:lnTo>
                      <a:pt x="32" y="71"/>
                    </a:lnTo>
                    <a:lnTo>
                      <a:pt x="0" y="199"/>
                    </a:lnTo>
                    <a:lnTo>
                      <a:pt x="206" y="27"/>
                    </a:lnTo>
                    <a:lnTo>
                      <a:pt x="271" y="27"/>
                    </a:lnTo>
                    <a:lnTo>
                      <a:pt x="146" y="329"/>
                    </a:lnTo>
                    <a:lnTo>
                      <a:pt x="271" y="427"/>
                    </a:lnTo>
                    <a:lnTo>
                      <a:pt x="395" y="42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17" name=""/>
              <p:cNvSpPr/>
              <p:nvPr/>
            </p:nvSpPr>
            <p:spPr>
              <a:xfrm>
                <a:off x="523800" y="3287880"/>
                <a:ext cx="17640" cy="34920"/>
              </a:xfrm>
              <a:custGeom>
                <a:avLst/>
                <a:gdLst/>
                <a:ahLst/>
                <a:rect l="l" t="t" r="r" b="b"/>
                <a:pathLst>
                  <a:path w="117" h="225">
                    <a:moveTo>
                      <a:pt x="12" y="36"/>
                    </a:moveTo>
                    <a:lnTo>
                      <a:pt x="81" y="225"/>
                    </a:lnTo>
                    <a:lnTo>
                      <a:pt x="117" y="225"/>
                    </a:lnTo>
                    <a:lnTo>
                      <a:pt x="0" y="0"/>
                    </a:lnTo>
                    <a:lnTo>
                      <a:pt x="1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8" name=""/>
              <p:cNvSpPr/>
              <p:nvPr/>
            </p:nvSpPr>
            <p:spPr>
              <a:xfrm>
                <a:off x="452520" y="3397320"/>
                <a:ext cx="108000" cy="79200"/>
              </a:xfrm>
              <a:custGeom>
                <a:avLst/>
                <a:gdLst/>
                <a:ahLst/>
                <a:rect l="l" t="t" r="r" b="b"/>
                <a:pathLst>
                  <a:path w="681" h="499">
                    <a:moveTo>
                      <a:pt x="0" y="0"/>
                    </a:moveTo>
                    <a:lnTo>
                      <a:pt x="244" y="259"/>
                    </a:lnTo>
                    <a:lnTo>
                      <a:pt x="681" y="499"/>
                    </a:lnTo>
                    <a:lnTo>
                      <a:pt x="224" y="10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9" name=""/>
              <p:cNvSpPr/>
              <p:nvPr/>
            </p:nvSpPr>
            <p:spPr>
              <a:xfrm>
                <a:off x="351000" y="3375000"/>
                <a:ext cx="27000" cy="117360"/>
              </a:xfrm>
              <a:custGeom>
                <a:avLst/>
                <a:gdLst/>
                <a:ahLst/>
                <a:rect l="l" t="t" r="r" b="b"/>
                <a:pathLst>
                  <a:path w="172" h="743">
                    <a:moveTo>
                      <a:pt x="54" y="21"/>
                    </a:moveTo>
                    <a:lnTo>
                      <a:pt x="0" y="298"/>
                    </a:lnTo>
                    <a:lnTo>
                      <a:pt x="0" y="454"/>
                    </a:lnTo>
                    <a:lnTo>
                      <a:pt x="172" y="743"/>
                    </a:lnTo>
                    <a:lnTo>
                      <a:pt x="32" y="454"/>
                    </a:lnTo>
                    <a:lnTo>
                      <a:pt x="32" y="276"/>
                    </a:lnTo>
                    <a:lnTo>
                      <a:pt x="114" y="0"/>
                    </a:lnTo>
                    <a:lnTo>
                      <a:pt x="5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387360" y="3481560"/>
                <a:ext cx="363600" cy="425160"/>
              </a:xfrm>
              <a:custGeom>
                <a:avLst/>
                <a:gdLst/>
                <a:ahLst/>
                <a:rect l="l" t="t" r="r" b="b"/>
                <a:pathLst>
                  <a:path w="2289" h="2681">
                    <a:moveTo>
                      <a:pt x="0" y="0"/>
                    </a:moveTo>
                    <a:lnTo>
                      <a:pt x="591" y="328"/>
                    </a:lnTo>
                    <a:lnTo>
                      <a:pt x="1236" y="880"/>
                    </a:lnTo>
                    <a:lnTo>
                      <a:pt x="1452" y="1152"/>
                    </a:lnTo>
                    <a:lnTo>
                      <a:pt x="1604" y="700"/>
                    </a:lnTo>
                    <a:lnTo>
                      <a:pt x="1745" y="847"/>
                    </a:lnTo>
                    <a:lnTo>
                      <a:pt x="1857" y="1050"/>
                    </a:lnTo>
                    <a:lnTo>
                      <a:pt x="1764" y="1050"/>
                    </a:lnTo>
                    <a:lnTo>
                      <a:pt x="1957" y="1828"/>
                    </a:lnTo>
                    <a:lnTo>
                      <a:pt x="2019" y="2358"/>
                    </a:lnTo>
                    <a:lnTo>
                      <a:pt x="2289" y="2681"/>
                    </a:lnTo>
                    <a:lnTo>
                      <a:pt x="1857" y="2250"/>
                    </a:lnTo>
                    <a:lnTo>
                      <a:pt x="1194" y="1902"/>
                    </a:lnTo>
                    <a:lnTo>
                      <a:pt x="1939" y="2250"/>
                    </a:lnTo>
                    <a:lnTo>
                      <a:pt x="1879" y="1902"/>
                    </a:lnTo>
                    <a:lnTo>
                      <a:pt x="1682" y="1305"/>
                    </a:lnTo>
                    <a:lnTo>
                      <a:pt x="1682" y="1006"/>
                    </a:lnTo>
                    <a:lnTo>
                      <a:pt x="1586" y="898"/>
                    </a:lnTo>
                    <a:lnTo>
                      <a:pt x="1452" y="1379"/>
                    </a:lnTo>
                    <a:lnTo>
                      <a:pt x="1100" y="822"/>
                    </a:lnTo>
                    <a:lnTo>
                      <a:pt x="917" y="748"/>
                    </a:lnTo>
                    <a:lnTo>
                      <a:pt x="743" y="748"/>
                    </a:lnTo>
                    <a:lnTo>
                      <a:pt x="253" y="277"/>
                    </a:lnTo>
                    <a:lnTo>
                      <a:pt x="216" y="1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617400" y="3517920"/>
                <a:ext cx="81000" cy="123840"/>
              </a:xfrm>
              <a:custGeom>
                <a:avLst/>
                <a:gdLst/>
                <a:ahLst/>
                <a:rect l="l" t="t" r="r" b="b"/>
                <a:pathLst>
                  <a:path w="505" h="779">
                    <a:moveTo>
                      <a:pt x="0" y="0"/>
                    </a:moveTo>
                    <a:lnTo>
                      <a:pt x="152" y="326"/>
                    </a:lnTo>
                    <a:lnTo>
                      <a:pt x="152" y="223"/>
                    </a:lnTo>
                    <a:lnTo>
                      <a:pt x="119" y="101"/>
                    </a:lnTo>
                    <a:lnTo>
                      <a:pt x="371" y="425"/>
                    </a:lnTo>
                    <a:lnTo>
                      <a:pt x="505" y="779"/>
                    </a:lnTo>
                    <a:lnTo>
                      <a:pt x="505" y="653"/>
                    </a:lnTo>
                    <a:lnTo>
                      <a:pt x="405" y="399"/>
                    </a:lnTo>
                    <a:lnTo>
                      <a:pt x="152"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692280" y="3641760"/>
                <a:ext cx="115920" cy="317520"/>
              </a:xfrm>
              <a:custGeom>
                <a:avLst/>
                <a:gdLst/>
                <a:ahLst/>
                <a:rect l="l" t="t" r="r" b="b"/>
                <a:pathLst>
                  <a:path w="729" h="1999">
                    <a:moveTo>
                      <a:pt x="0" y="14"/>
                    </a:moveTo>
                    <a:lnTo>
                      <a:pt x="178" y="322"/>
                    </a:lnTo>
                    <a:lnTo>
                      <a:pt x="314" y="875"/>
                    </a:lnTo>
                    <a:lnTo>
                      <a:pt x="625" y="1873"/>
                    </a:lnTo>
                    <a:lnTo>
                      <a:pt x="729" y="1999"/>
                    </a:lnTo>
                    <a:lnTo>
                      <a:pt x="413" y="1022"/>
                    </a:lnTo>
                    <a:lnTo>
                      <a:pt x="236" y="347"/>
                    </a:lnTo>
                    <a:lnTo>
                      <a:pt x="116" y="44"/>
                    </a:lnTo>
                    <a:lnTo>
                      <a:pt x="6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70040" y="3813120"/>
                <a:ext cx="34920" cy="38160"/>
              </a:xfrm>
              <a:custGeom>
                <a:avLst/>
                <a:gdLst/>
                <a:ahLst/>
                <a:rect l="l" t="t" r="r" b="b"/>
                <a:pathLst>
                  <a:path w="219" h="248">
                    <a:moveTo>
                      <a:pt x="219" y="0"/>
                    </a:moveTo>
                    <a:lnTo>
                      <a:pt x="179" y="124"/>
                    </a:lnTo>
                    <a:lnTo>
                      <a:pt x="0" y="248"/>
                    </a:lnTo>
                    <a:lnTo>
                      <a:pt x="137" y="248"/>
                    </a:lnTo>
                    <a:lnTo>
                      <a:pt x="219" y="150"/>
                    </a:lnTo>
                    <a:lnTo>
                      <a:pt x="21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24" name=""/>
              <p:cNvSpPr/>
              <p:nvPr/>
            </p:nvSpPr>
            <p:spPr>
              <a:xfrm>
                <a:off x="331920" y="3660840"/>
                <a:ext cx="230040" cy="71280"/>
              </a:xfrm>
              <a:custGeom>
                <a:avLst/>
                <a:gdLst/>
                <a:ahLst/>
                <a:rect l="l" t="t" r="r" b="b"/>
                <a:pathLst>
                  <a:path w="1454" h="449">
                    <a:moveTo>
                      <a:pt x="0" y="0"/>
                    </a:moveTo>
                    <a:lnTo>
                      <a:pt x="1001" y="449"/>
                    </a:lnTo>
                    <a:lnTo>
                      <a:pt x="1454" y="449"/>
                    </a:lnTo>
                    <a:lnTo>
                      <a:pt x="803" y="177"/>
                    </a:lnTo>
                    <a:lnTo>
                      <a:pt x="548" y="177"/>
                    </a:lnTo>
                    <a:lnTo>
                      <a:pt x="82"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5" name=""/>
              <p:cNvSpPr/>
              <p:nvPr/>
            </p:nvSpPr>
            <p:spPr>
              <a:xfrm>
                <a:off x="344520" y="3621240"/>
                <a:ext cx="123840" cy="44280"/>
              </a:xfrm>
              <a:custGeom>
                <a:avLst/>
                <a:gdLst/>
                <a:ahLst/>
                <a:rect l="l" t="t" r="r" b="b"/>
                <a:pathLst>
                  <a:path w="777" h="272">
                    <a:moveTo>
                      <a:pt x="777" y="272"/>
                    </a:moveTo>
                    <a:lnTo>
                      <a:pt x="210" y="46"/>
                    </a:lnTo>
                    <a:lnTo>
                      <a:pt x="0" y="46"/>
                    </a:lnTo>
                    <a:lnTo>
                      <a:pt x="230" y="0"/>
                    </a:lnTo>
                    <a:lnTo>
                      <a:pt x="466" y="0"/>
                    </a:lnTo>
                    <a:lnTo>
                      <a:pt x="777" y="27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26" name=""/>
              <p:cNvSpPr/>
              <p:nvPr/>
            </p:nvSpPr>
            <p:spPr>
              <a:xfrm>
                <a:off x="169920" y="3637080"/>
                <a:ext cx="981000" cy="806400"/>
              </a:xfrm>
              <a:custGeom>
                <a:avLst/>
                <a:gdLst/>
                <a:ahLst/>
                <a:rect l="l" t="t" r="r" b="b"/>
                <a:pathLst>
                  <a:path w="6175" h="5078">
                    <a:moveTo>
                      <a:pt x="2584" y="1102"/>
                    </a:moveTo>
                    <a:lnTo>
                      <a:pt x="407" y="571"/>
                    </a:lnTo>
                    <a:lnTo>
                      <a:pt x="545" y="296"/>
                    </a:lnTo>
                    <a:lnTo>
                      <a:pt x="938" y="0"/>
                    </a:lnTo>
                    <a:lnTo>
                      <a:pt x="507" y="296"/>
                    </a:lnTo>
                    <a:lnTo>
                      <a:pt x="216" y="1000"/>
                    </a:lnTo>
                    <a:lnTo>
                      <a:pt x="216" y="1573"/>
                    </a:lnTo>
                    <a:lnTo>
                      <a:pt x="295" y="1124"/>
                    </a:lnTo>
                    <a:lnTo>
                      <a:pt x="741" y="1827"/>
                    </a:lnTo>
                    <a:lnTo>
                      <a:pt x="741" y="2077"/>
                    </a:lnTo>
                    <a:lnTo>
                      <a:pt x="350" y="1775"/>
                    </a:lnTo>
                    <a:lnTo>
                      <a:pt x="489" y="1951"/>
                    </a:lnTo>
                    <a:lnTo>
                      <a:pt x="0" y="1849"/>
                    </a:lnTo>
                    <a:lnTo>
                      <a:pt x="369" y="2077"/>
                    </a:lnTo>
                    <a:lnTo>
                      <a:pt x="835" y="2174"/>
                    </a:lnTo>
                    <a:lnTo>
                      <a:pt x="451" y="2428"/>
                    </a:lnTo>
                    <a:lnTo>
                      <a:pt x="196" y="2428"/>
                    </a:lnTo>
                    <a:lnTo>
                      <a:pt x="432" y="2534"/>
                    </a:lnTo>
                    <a:lnTo>
                      <a:pt x="1100" y="2349"/>
                    </a:lnTo>
                    <a:lnTo>
                      <a:pt x="881" y="2626"/>
                    </a:lnTo>
                    <a:lnTo>
                      <a:pt x="295" y="2878"/>
                    </a:lnTo>
                    <a:lnTo>
                      <a:pt x="919" y="2676"/>
                    </a:lnTo>
                    <a:lnTo>
                      <a:pt x="727" y="2924"/>
                    </a:lnTo>
                    <a:lnTo>
                      <a:pt x="1252" y="3124"/>
                    </a:lnTo>
                    <a:lnTo>
                      <a:pt x="1451" y="2901"/>
                    </a:lnTo>
                    <a:lnTo>
                      <a:pt x="1310" y="3557"/>
                    </a:lnTo>
                    <a:lnTo>
                      <a:pt x="1310" y="3754"/>
                    </a:lnTo>
                    <a:lnTo>
                      <a:pt x="1526" y="3527"/>
                    </a:lnTo>
                    <a:lnTo>
                      <a:pt x="1842" y="2901"/>
                    </a:lnTo>
                    <a:lnTo>
                      <a:pt x="1743" y="3379"/>
                    </a:lnTo>
                    <a:lnTo>
                      <a:pt x="1743" y="3578"/>
                    </a:lnTo>
                    <a:lnTo>
                      <a:pt x="2073" y="2952"/>
                    </a:lnTo>
                    <a:lnTo>
                      <a:pt x="2218" y="3025"/>
                    </a:lnTo>
                    <a:lnTo>
                      <a:pt x="2055" y="3329"/>
                    </a:lnTo>
                    <a:lnTo>
                      <a:pt x="1999" y="3679"/>
                    </a:lnTo>
                    <a:lnTo>
                      <a:pt x="1743" y="4383"/>
                    </a:lnTo>
                    <a:lnTo>
                      <a:pt x="1588" y="4981"/>
                    </a:lnTo>
                    <a:lnTo>
                      <a:pt x="1821" y="4309"/>
                    </a:lnTo>
                    <a:lnTo>
                      <a:pt x="2411" y="3329"/>
                    </a:lnTo>
                    <a:lnTo>
                      <a:pt x="2411" y="3626"/>
                    </a:lnTo>
                    <a:lnTo>
                      <a:pt x="2644" y="3248"/>
                    </a:lnTo>
                    <a:lnTo>
                      <a:pt x="2861" y="3431"/>
                    </a:lnTo>
                    <a:lnTo>
                      <a:pt x="2487" y="4057"/>
                    </a:lnTo>
                    <a:lnTo>
                      <a:pt x="1901" y="4729"/>
                    </a:lnTo>
                    <a:lnTo>
                      <a:pt x="2630" y="4258"/>
                    </a:lnTo>
                    <a:lnTo>
                      <a:pt x="2996" y="3527"/>
                    </a:lnTo>
                    <a:lnTo>
                      <a:pt x="3605" y="3982"/>
                    </a:lnTo>
                    <a:lnTo>
                      <a:pt x="2566" y="5078"/>
                    </a:lnTo>
                    <a:lnTo>
                      <a:pt x="3645" y="4008"/>
                    </a:lnTo>
                    <a:lnTo>
                      <a:pt x="4020" y="4232"/>
                    </a:lnTo>
                    <a:lnTo>
                      <a:pt x="4353" y="4280"/>
                    </a:lnTo>
                    <a:lnTo>
                      <a:pt x="4841" y="4507"/>
                    </a:lnTo>
                    <a:lnTo>
                      <a:pt x="5210" y="4507"/>
                    </a:lnTo>
                    <a:lnTo>
                      <a:pt x="5994" y="4729"/>
                    </a:lnTo>
                    <a:lnTo>
                      <a:pt x="5702" y="4383"/>
                    </a:lnTo>
                    <a:lnTo>
                      <a:pt x="5702" y="4206"/>
                    </a:lnTo>
                    <a:lnTo>
                      <a:pt x="5606" y="4206"/>
                    </a:lnTo>
                    <a:lnTo>
                      <a:pt x="5486" y="3902"/>
                    </a:lnTo>
                    <a:lnTo>
                      <a:pt x="5702" y="3777"/>
                    </a:lnTo>
                    <a:lnTo>
                      <a:pt x="6175" y="3777"/>
                    </a:lnTo>
                    <a:lnTo>
                      <a:pt x="5530" y="3475"/>
                    </a:lnTo>
                    <a:lnTo>
                      <a:pt x="5114" y="3475"/>
                    </a:lnTo>
                    <a:lnTo>
                      <a:pt x="4797" y="3351"/>
                    </a:lnTo>
                    <a:lnTo>
                      <a:pt x="4412" y="3475"/>
                    </a:lnTo>
                    <a:lnTo>
                      <a:pt x="4412" y="3025"/>
                    </a:lnTo>
                    <a:lnTo>
                      <a:pt x="3588" y="2924"/>
                    </a:lnTo>
                    <a:lnTo>
                      <a:pt x="2742" y="2726"/>
                    </a:lnTo>
                    <a:lnTo>
                      <a:pt x="2171" y="2428"/>
                    </a:lnTo>
                    <a:lnTo>
                      <a:pt x="2630" y="2502"/>
                    </a:lnTo>
                    <a:lnTo>
                      <a:pt x="3094" y="2502"/>
                    </a:lnTo>
                    <a:lnTo>
                      <a:pt x="3628" y="2349"/>
                    </a:lnTo>
                    <a:lnTo>
                      <a:pt x="2630" y="2203"/>
                    </a:lnTo>
                    <a:lnTo>
                      <a:pt x="1606" y="1798"/>
                    </a:lnTo>
                    <a:lnTo>
                      <a:pt x="1434" y="1573"/>
                    </a:lnTo>
                    <a:lnTo>
                      <a:pt x="2308" y="1775"/>
                    </a:lnTo>
                    <a:lnTo>
                      <a:pt x="2861" y="1775"/>
                    </a:lnTo>
                    <a:lnTo>
                      <a:pt x="3094" y="1701"/>
                    </a:lnTo>
                    <a:lnTo>
                      <a:pt x="2782" y="1701"/>
                    </a:lnTo>
                    <a:lnTo>
                      <a:pt x="2331" y="1378"/>
                    </a:lnTo>
                    <a:lnTo>
                      <a:pt x="1703" y="1174"/>
                    </a:lnTo>
                    <a:lnTo>
                      <a:pt x="1548" y="1000"/>
                    </a:lnTo>
                    <a:lnTo>
                      <a:pt x="1977" y="1102"/>
                    </a:lnTo>
                    <a:lnTo>
                      <a:pt x="2584" y="1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141120" y="4043520"/>
                <a:ext cx="274680" cy="515880"/>
              </a:xfrm>
              <a:custGeom>
                <a:avLst/>
                <a:gdLst/>
                <a:ahLst/>
                <a:rect l="l" t="t" r="r" b="b"/>
                <a:pathLst>
                  <a:path w="1728" h="3259">
                    <a:moveTo>
                      <a:pt x="1614" y="400"/>
                    </a:moveTo>
                    <a:lnTo>
                      <a:pt x="1350" y="827"/>
                    </a:lnTo>
                    <a:lnTo>
                      <a:pt x="1350" y="1377"/>
                    </a:lnTo>
                    <a:lnTo>
                      <a:pt x="1177" y="1276"/>
                    </a:lnTo>
                    <a:lnTo>
                      <a:pt x="1432" y="2003"/>
                    </a:lnTo>
                    <a:lnTo>
                      <a:pt x="1530" y="2631"/>
                    </a:lnTo>
                    <a:lnTo>
                      <a:pt x="1394" y="2157"/>
                    </a:lnTo>
                    <a:lnTo>
                      <a:pt x="1078" y="1831"/>
                    </a:lnTo>
                    <a:lnTo>
                      <a:pt x="631" y="1604"/>
                    </a:lnTo>
                    <a:lnTo>
                      <a:pt x="1078" y="2251"/>
                    </a:lnTo>
                    <a:lnTo>
                      <a:pt x="1372" y="3161"/>
                    </a:lnTo>
                    <a:lnTo>
                      <a:pt x="1592" y="3259"/>
                    </a:lnTo>
                    <a:lnTo>
                      <a:pt x="1293" y="3230"/>
                    </a:lnTo>
                    <a:lnTo>
                      <a:pt x="1099" y="2526"/>
                    </a:lnTo>
                    <a:lnTo>
                      <a:pt x="354" y="1505"/>
                    </a:lnTo>
                    <a:lnTo>
                      <a:pt x="0" y="777"/>
                    </a:lnTo>
                    <a:lnTo>
                      <a:pt x="310" y="1328"/>
                    </a:lnTo>
                    <a:lnTo>
                      <a:pt x="1015" y="1706"/>
                    </a:lnTo>
                    <a:lnTo>
                      <a:pt x="751" y="1404"/>
                    </a:lnTo>
                    <a:lnTo>
                      <a:pt x="549" y="1074"/>
                    </a:lnTo>
                    <a:lnTo>
                      <a:pt x="669" y="1127"/>
                    </a:lnTo>
                    <a:lnTo>
                      <a:pt x="807" y="1074"/>
                    </a:lnTo>
                    <a:lnTo>
                      <a:pt x="587" y="901"/>
                    </a:lnTo>
                    <a:lnTo>
                      <a:pt x="1007" y="901"/>
                    </a:lnTo>
                    <a:lnTo>
                      <a:pt x="807" y="696"/>
                    </a:lnTo>
                    <a:lnTo>
                      <a:pt x="492" y="652"/>
                    </a:lnTo>
                    <a:lnTo>
                      <a:pt x="341" y="448"/>
                    </a:lnTo>
                    <a:lnTo>
                      <a:pt x="100" y="326"/>
                    </a:lnTo>
                    <a:lnTo>
                      <a:pt x="587" y="498"/>
                    </a:lnTo>
                    <a:lnTo>
                      <a:pt x="946" y="675"/>
                    </a:lnTo>
                    <a:lnTo>
                      <a:pt x="1198" y="675"/>
                    </a:lnTo>
                    <a:lnTo>
                      <a:pt x="1728" y="0"/>
                    </a:lnTo>
                    <a:lnTo>
                      <a:pt x="1614"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123840" y="3425760"/>
                <a:ext cx="216000" cy="708120"/>
              </a:xfrm>
              <a:custGeom>
                <a:avLst/>
                <a:gdLst/>
                <a:ahLst/>
                <a:rect l="l" t="t" r="r" b="b"/>
                <a:pathLst>
                  <a:path w="1368" h="4452">
                    <a:moveTo>
                      <a:pt x="99" y="4452"/>
                    </a:moveTo>
                    <a:lnTo>
                      <a:pt x="99" y="3706"/>
                    </a:lnTo>
                    <a:lnTo>
                      <a:pt x="0" y="2706"/>
                    </a:lnTo>
                    <a:lnTo>
                      <a:pt x="23" y="2130"/>
                    </a:lnTo>
                    <a:lnTo>
                      <a:pt x="353" y="1146"/>
                    </a:lnTo>
                    <a:lnTo>
                      <a:pt x="784" y="676"/>
                    </a:lnTo>
                    <a:lnTo>
                      <a:pt x="784" y="501"/>
                    </a:lnTo>
                    <a:lnTo>
                      <a:pt x="1000" y="321"/>
                    </a:lnTo>
                    <a:lnTo>
                      <a:pt x="1000" y="222"/>
                    </a:lnTo>
                    <a:lnTo>
                      <a:pt x="1130" y="73"/>
                    </a:lnTo>
                    <a:lnTo>
                      <a:pt x="136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669960" y="3486240"/>
                <a:ext cx="163440" cy="485640"/>
              </a:xfrm>
              <a:custGeom>
                <a:avLst/>
                <a:gdLst/>
                <a:ahLst/>
                <a:rect l="l" t="t" r="r" b="b"/>
                <a:pathLst>
                  <a:path w="1021" h="3058">
                    <a:moveTo>
                      <a:pt x="0" y="0"/>
                    </a:moveTo>
                    <a:lnTo>
                      <a:pt x="238" y="228"/>
                    </a:lnTo>
                    <a:lnTo>
                      <a:pt x="316" y="452"/>
                    </a:lnTo>
                    <a:lnTo>
                      <a:pt x="551" y="700"/>
                    </a:lnTo>
                    <a:lnTo>
                      <a:pt x="729" y="1230"/>
                    </a:lnTo>
                    <a:lnTo>
                      <a:pt x="729" y="1502"/>
                    </a:lnTo>
                    <a:lnTo>
                      <a:pt x="1021" y="2349"/>
                    </a:lnTo>
                    <a:lnTo>
                      <a:pt x="1021" y="30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833400" y="3855960"/>
                <a:ext cx="61920" cy="150840"/>
              </a:xfrm>
              <a:custGeom>
                <a:avLst/>
                <a:gdLst/>
                <a:ahLst/>
                <a:rect l="l" t="t" r="r" b="b"/>
                <a:pathLst>
                  <a:path w="393" h="952">
                    <a:moveTo>
                      <a:pt x="0" y="16"/>
                    </a:moveTo>
                    <a:lnTo>
                      <a:pt x="238" y="397"/>
                    </a:lnTo>
                    <a:lnTo>
                      <a:pt x="238" y="773"/>
                    </a:lnTo>
                    <a:lnTo>
                      <a:pt x="40" y="773"/>
                    </a:lnTo>
                    <a:lnTo>
                      <a:pt x="393" y="952"/>
                    </a:lnTo>
                    <a:lnTo>
                      <a:pt x="273" y="825"/>
                    </a:lnTo>
                    <a:lnTo>
                      <a:pt x="393" y="647"/>
                    </a:lnTo>
                    <a:lnTo>
                      <a:pt x="393" y="420"/>
                    </a:lnTo>
                    <a:lnTo>
                      <a:pt x="0"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844560" y="3871800"/>
                <a:ext cx="93600" cy="122400"/>
              </a:xfrm>
              <a:custGeom>
                <a:avLst/>
                <a:gdLst/>
                <a:ahLst/>
                <a:rect l="l" t="t" r="r" b="b"/>
                <a:pathLst>
                  <a:path w="593" h="780">
                    <a:moveTo>
                      <a:pt x="0" y="0"/>
                    </a:moveTo>
                    <a:lnTo>
                      <a:pt x="357" y="152"/>
                    </a:lnTo>
                    <a:lnTo>
                      <a:pt x="593" y="7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938160" y="3994200"/>
                <a:ext cx="136440" cy="84240"/>
              </a:xfrm>
              <a:custGeom>
                <a:avLst/>
                <a:gdLst/>
                <a:ahLst/>
                <a:rect l="l" t="t" r="r" b="b"/>
                <a:pathLst>
                  <a:path w="861" h="526">
                    <a:moveTo>
                      <a:pt x="0" y="0"/>
                    </a:moveTo>
                    <a:lnTo>
                      <a:pt x="174" y="200"/>
                    </a:lnTo>
                    <a:lnTo>
                      <a:pt x="645" y="402"/>
                    </a:lnTo>
                    <a:lnTo>
                      <a:pt x="549" y="526"/>
                    </a:lnTo>
                    <a:lnTo>
                      <a:pt x="861" y="350"/>
                    </a:lnTo>
                    <a:lnTo>
                      <a:pt x="13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33" name=""/>
              <p:cNvSpPr/>
              <p:nvPr/>
            </p:nvSpPr>
            <p:spPr>
              <a:xfrm>
                <a:off x="941400" y="4054320"/>
                <a:ext cx="366840" cy="246240"/>
              </a:xfrm>
              <a:custGeom>
                <a:avLst/>
                <a:gdLst/>
                <a:ahLst/>
                <a:rect l="l" t="t" r="r" b="b"/>
                <a:pathLst>
                  <a:path w="2312" h="1555">
                    <a:moveTo>
                      <a:pt x="0" y="0"/>
                    </a:moveTo>
                    <a:lnTo>
                      <a:pt x="240" y="0"/>
                    </a:lnTo>
                    <a:lnTo>
                      <a:pt x="511" y="174"/>
                    </a:lnTo>
                    <a:lnTo>
                      <a:pt x="671" y="50"/>
                    </a:lnTo>
                    <a:lnTo>
                      <a:pt x="1036" y="50"/>
                    </a:lnTo>
                    <a:lnTo>
                      <a:pt x="1511" y="252"/>
                    </a:lnTo>
                    <a:lnTo>
                      <a:pt x="1704" y="252"/>
                    </a:lnTo>
                    <a:lnTo>
                      <a:pt x="1648" y="399"/>
                    </a:lnTo>
                    <a:lnTo>
                      <a:pt x="1648" y="551"/>
                    </a:lnTo>
                    <a:lnTo>
                      <a:pt x="2312" y="849"/>
                    </a:lnTo>
                    <a:lnTo>
                      <a:pt x="1963" y="1078"/>
                    </a:lnTo>
                    <a:lnTo>
                      <a:pt x="1867" y="1356"/>
                    </a:lnTo>
                    <a:lnTo>
                      <a:pt x="1585" y="1555"/>
                    </a:lnTo>
                    <a:lnTo>
                      <a:pt x="2023" y="952"/>
                    </a:lnTo>
                    <a:lnTo>
                      <a:pt x="1549" y="753"/>
                    </a:lnTo>
                    <a:lnTo>
                      <a:pt x="1192" y="424"/>
                    </a:lnTo>
                    <a:lnTo>
                      <a:pt x="784" y="275"/>
                    </a:lnTo>
                    <a:lnTo>
                      <a:pt x="433" y="275"/>
                    </a:lnTo>
                    <a:lnTo>
                      <a:pt x="141" y="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888840" y="4075200"/>
                <a:ext cx="59040" cy="55440"/>
              </a:xfrm>
              <a:custGeom>
                <a:avLst/>
                <a:gdLst/>
                <a:ahLst/>
                <a:rect l="l" t="t" r="r" b="b"/>
                <a:pathLst>
                  <a:path w="372" h="349">
                    <a:moveTo>
                      <a:pt x="0" y="349"/>
                    </a:moveTo>
                    <a:lnTo>
                      <a:pt x="80" y="168"/>
                    </a:lnTo>
                    <a:lnTo>
                      <a:pt x="372" y="0"/>
                    </a:lnTo>
                    <a:lnTo>
                      <a:pt x="236" y="168"/>
                    </a:lnTo>
                    <a:lnTo>
                      <a:pt x="0" y="34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5" name=""/>
              <p:cNvSpPr/>
              <p:nvPr/>
            </p:nvSpPr>
            <p:spPr>
              <a:xfrm>
                <a:off x="1200240" y="4081320"/>
                <a:ext cx="330120" cy="155880"/>
              </a:xfrm>
              <a:custGeom>
                <a:avLst/>
                <a:gdLst/>
                <a:ahLst/>
                <a:rect l="l" t="t" r="r" b="b"/>
                <a:pathLst>
                  <a:path w="2074" h="977">
                    <a:moveTo>
                      <a:pt x="1780" y="977"/>
                    </a:moveTo>
                    <a:lnTo>
                      <a:pt x="1334" y="757"/>
                    </a:lnTo>
                    <a:lnTo>
                      <a:pt x="999" y="653"/>
                    </a:lnTo>
                    <a:lnTo>
                      <a:pt x="643" y="353"/>
                    </a:lnTo>
                    <a:lnTo>
                      <a:pt x="643" y="200"/>
                    </a:lnTo>
                    <a:lnTo>
                      <a:pt x="1427" y="653"/>
                    </a:lnTo>
                    <a:lnTo>
                      <a:pt x="1561" y="653"/>
                    </a:lnTo>
                    <a:lnTo>
                      <a:pt x="1802" y="879"/>
                    </a:lnTo>
                    <a:lnTo>
                      <a:pt x="1902" y="826"/>
                    </a:lnTo>
                    <a:lnTo>
                      <a:pt x="1979" y="879"/>
                    </a:lnTo>
                    <a:lnTo>
                      <a:pt x="2074" y="778"/>
                    </a:lnTo>
                    <a:lnTo>
                      <a:pt x="1918" y="778"/>
                    </a:lnTo>
                    <a:lnTo>
                      <a:pt x="1780" y="427"/>
                    </a:lnTo>
                    <a:lnTo>
                      <a:pt x="1840" y="305"/>
                    </a:lnTo>
                    <a:lnTo>
                      <a:pt x="1762" y="305"/>
                    </a:lnTo>
                    <a:lnTo>
                      <a:pt x="1738" y="353"/>
                    </a:lnTo>
                    <a:lnTo>
                      <a:pt x="1486" y="78"/>
                    </a:lnTo>
                    <a:lnTo>
                      <a:pt x="1486" y="278"/>
                    </a:lnTo>
                    <a:lnTo>
                      <a:pt x="1387" y="278"/>
                    </a:lnTo>
                    <a:lnTo>
                      <a:pt x="1189" y="0"/>
                    </a:lnTo>
                    <a:lnTo>
                      <a:pt x="1250" y="152"/>
                    </a:lnTo>
                    <a:lnTo>
                      <a:pt x="861" y="28"/>
                    </a:lnTo>
                    <a:lnTo>
                      <a:pt x="116" y="28"/>
                    </a:lnTo>
                    <a:lnTo>
                      <a:pt x="34" y="124"/>
                    </a:lnTo>
                    <a:lnTo>
                      <a:pt x="0" y="225"/>
                    </a:lnTo>
                    <a:lnTo>
                      <a:pt x="0" y="353"/>
                    </a:lnTo>
                    <a:lnTo>
                      <a:pt x="759" y="703"/>
                    </a:lnTo>
                    <a:lnTo>
                      <a:pt x="876" y="853"/>
                    </a:lnTo>
                    <a:lnTo>
                      <a:pt x="1309" y="853"/>
                    </a:lnTo>
                    <a:lnTo>
                      <a:pt x="1720" y="977"/>
                    </a:lnTo>
                    <a:lnTo>
                      <a:pt x="1780"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216080" y="4059360"/>
                <a:ext cx="317520" cy="142920"/>
              </a:xfrm>
              <a:custGeom>
                <a:avLst/>
                <a:gdLst/>
                <a:ahLst/>
                <a:rect l="l" t="t" r="r" b="b"/>
                <a:pathLst>
                  <a:path w="1997" h="903">
                    <a:moveTo>
                      <a:pt x="1997" y="903"/>
                    </a:moveTo>
                    <a:lnTo>
                      <a:pt x="1997" y="573"/>
                    </a:lnTo>
                    <a:lnTo>
                      <a:pt x="1548" y="0"/>
                    </a:lnTo>
                    <a:lnTo>
                      <a:pt x="328" y="0"/>
                    </a:lnTo>
                    <a:lnTo>
                      <a:pt x="0" y="203"/>
                    </a:lnTo>
                    <a:lnTo>
                      <a:pt x="370" y="46"/>
                    </a:lnTo>
                    <a:lnTo>
                      <a:pt x="1528" y="46"/>
                    </a:lnTo>
                    <a:lnTo>
                      <a:pt x="1959" y="573"/>
                    </a:lnTo>
                    <a:lnTo>
                      <a:pt x="1997" y="9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1073160" y="4051440"/>
                <a:ext cx="192240" cy="10800"/>
              </a:xfrm>
              <a:custGeom>
                <a:avLst/>
                <a:gdLst/>
                <a:ahLst/>
                <a:rect l="l" t="t" r="r" b="b"/>
                <a:pathLst>
                  <a:path w="1215" h="74">
                    <a:moveTo>
                      <a:pt x="0" y="0"/>
                    </a:moveTo>
                    <a:lnTo>
                      <a:pt x="508" y="0"/>
                    </a:lnTo>
                    <a:lnTo>
                      <a:pt x="805" y="74"/>
                    </a:lnTo>
                    <a:lnTo>
                      <a:pt x="1215" y="74"/>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38" name=""/>
              <p:cNvSpPr/>
              <p:nvPr/>
            </p:nvSpPr>
            <p:spPr>
              <a:xfrm>
                <a:off x="1065240" y="4281480"/>
                <a:ext cx="404640" cy="206280"/>
              </a:xfrm>
              <a:custGeom>
                <a:avLst/>
                <a:gdLst/>
                <a:ahLst/>
                <a:rect l="l" t="t" r="r" b="b"/>
                <a:pathLst>
                  <a:path w="2547" h="1301">
                    <a:moveTo>
                      <a:pt x="235" y="652"/>
                    </a:moveTo>
                    <a:lnTo>
                      <a:pt x="1846" y="1151"/>
                    </a:lnTo>
                    <a:lnTo>
                      <a:pt x="2137" y="1151"/>
                    </a:lnTo>
                    <a:lnTo>
                      <a:pt x="2547" y="1301"/>
                    </a:lnTo>
                    <a:lnTo>
                      <a:pt x="2156" y="1046"/>
                    </a:lnTo>
                    <a:lnTo>
                      <a:pt x="2351" y="426"/>
                    </a:lnTo>
                    <a:lnTo>
                      <a:pt x="2446" y="0"/>
                    </a:lnTo>
                    <a:lnTo>
                      <a:pt x="2274" y="300"/>
                    </a:lnTo>
                    <a:lnTo>
                      <a:pt x="2156" y="652"/>
                    </a:lnTo>
                    <a:lnTo>
                      <a:pt x="2156" y="924"/>
                    </a:lnTo>
                    <a:lnTo>
                      <a:pt x="1962" y="824"/>
                    </a:lnTo>
                    <a:lnTo>
                      <a:pt x="1782" y="899"/>
                    </a:lnTo>
                    <a:lnTo>
                      <a:pt x="1685" y="824"/>
                    </a:lnTo>
                    <a:lnTo>
                      <a:pt x="1570" y="347"/>
                    </a:lnTo>
                    <a:lnTo>
                      <a:pt x="1431" y="652"/>
                    </a:lnTo>
                    <a:lnTo>
                      <a:pt x="1315" y="652"/>
                    </a:lnTo>
                    <a:lnTo>
                      <a:pt x="1315" y="450"/>
                    </a:lnTo>
                    <a:lnTo>
                      <a:pt x="1431" y="201"/>
                    </a:lnTo>
                    <a:lnTo>
                      <a:pt x="1359" y="201"/>
                    </a:lnTo>
                    <a:lnTo>
                      <a:pt x="881" y="622"/>
                    </a:lnTo>
                    <a:lnTo>
                      <a:pt x="782" y="622"/>
                    </a:lnTo>
                    <a:lnTo>
                      <a:pt x="782" y="399"/>
                    </a:lnTo>
                    <a:lnTo>
                      <a:pt x="691" y="399"/>
                    </a:lnTo>
                    <a:lnTo>
                      <a:pt x="0" y="574"/>
                    </a:lnTo>
                    <a:lnTo>
                      <a:pt x="235" y="6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363680" y="4240080"/>
                <a:ext cx="31680" cy="115920"/>
              </a:xfrm>
              <a:custGeom>
                <a:avLst/>
                <a:gdLst/>
                <a:ahLst/>
                <a:rect l="l" t="t" r="r" b="b"/>
                <a:pathLst>
                  <a:path w="198" h="729">
                    <a:moveTo>
                      <a:pt x="0" y="207"/>
                    </a:moveTo>
                    <a:lnTo>
                      <a:pt x="0" y="729"/>
                    </a:lnTo>
                    <a:lnTo>
                      <a:pt x="198" y="225"/>
                    </a:lnTo>
                    <a:lnTo>
                      <a:pt x="198" y="0"/>
                    </a:lnTo>
                    <a:lnTo>
                      <a:pt x="182" y="207"/>
                    </a:lnTo>
                    <a:lnTo>
                      <a:pt x="82" y="45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376280" y="4216320"/>
                <a:ext cx="689040" cy="271440"/>
              </a:xfrm>
              <a:custGeom>
                <a:avLst/>
                <a:gdLst/>
                <a:ahLst/>
                <a:rect l="l" t="t" r="r" b="b"/>
                <a:pathLst>
                  <a:path w="4346" h="1711">
                    <a:moveTo>
                      <a:pt x="0" y="0"/>
                    </a:moveTo>
                    <a:lnTo>
                      <a:pt x="735" y="375"/>
                    </a:lnTo>
                    <a:lnTo>
                      <a:pt x="1326" y="507"/>
                    </a:lnTo>
                    <a:lnTo>
                      <a:pt x="1326" y="763"/>
                    </a:lnTo>
                    <a:lnTo>
                      <a:pt x="994" y="1551"/>
                    </a:lnTo>
                    <a:lnTo>
                      <a:pt x="725" y="1711"/>
                    </a:lnTo>
                    <a:lnTo>
                      <a:pt x="782" y="1711"/>
                    </a:lnTo>
                    <a:lnTo>
                      <a:pt x="1046" y="1580"/>
                    </a:lnTo>
                    <a:lnTo>
                      <a:pt x="1158" y="1351"/>
                    </a:lnTo>
                    <a:lnTo>
                      <a:pt x="1731" y="1517"/>
                    </a:lnTo>
                    <a:lnTo>
                      <a:pt x="2029" y="1540"/>
                    </a:lnTo>
                    <a:lnTo>
                      <a:pt x="2364" y="1540"/>
                    </a:lnTo>
                    <a:lnTo>
                      <a:pt x="3026" y="1374"/>
                    </a:lnTo>
                    <a:lnTo>
                      <a:pt x="3355" y="1374"/>
                    </a:lnTo>
                    <a:lnTo>
                      <a:pt x="3770" y="1473"/>
                    </a:lnTo>
                    <a:lnTo>
                      <a:pt x="3916" y="1429"/>
                    </a:lnTo>
                    <a:lnTo>
                      <a:pt x="3757" y="1456"/>
                    </a:lnTo>
                    <a:lnTo>
                      <a:pt x="3171" y="1238"/>
                    </a:lnTo>
                    <a:lnTo>
                      <a:pt x="2992" y="1223"/>
                    </a:lnTo>
                    <a:lnTo>
                      <a:pt x="2852" y="1062"/>
                    </a:lnTo>
                    <a:lnTo>
                      <a:pt x="3363" y="1062"/>
                    </a:lnTo>
                    <a:lnTo>
                      <a:pt x="4184" y="1456"/>
                    </a:lnTo>
                    <a:lnTo>
                      <a:pt x="4289" y="1456"/>
                    </a:lnTo>
                    <a:lnTo>
                      <a:pt x="3457" y="990"/>
                    </a:lnTo>
                    <a:lnTo>
                      <a:pt x="3114" y="864"/>
                    </a:lnTo>
                    <a:lnTo>
                      <a:pt x="2805" y="839"/>
                    </a:lnTo>
                    <a:lnTo>
                      <a:pt x="2732" y="776"/>
                    </a:lnTo>
                    <a:lnTo>
                      <a:pt x="2700" y="683"/>
                    </a:lnTo>
                    <a:lnTo>
                      <a:pt x="3557" y="736"/>
                    </a:lnTo>
                    <a:lnTo>
                      <a:pt x="4346" y="1286"/>
                    </a:lnTo>
                    <a:lnTo>
                      <a:pt x="4140" y="990"/>
                    </a:lnTo>
                    <a:lnTo>
                      <a:pt x="3646" y="647"/>
                    </a:lnTo>
                    <a:lnTo>
                      <a:pt x="2636" y="439"/>
                    </a:lnTo>
                    <a:lnTo>
                      <a:pt x="2636" y="339"/>
                    </a:lnTo>
                    <a:lnTo>
                      <a:pt x="2923" y="145"/>
                    </a:lnTo>
                    <a:lnTo>
                      <a:pt x="2770" y="145"/>
                    </a:lnTo>
                    <a:lnTo>
                      <a:pt x="1669" y="491"/>
                    </a:lnTo>
                    <a:lnTo>
                      <a:pt x="1372" y="491"/>
                    </a:lnTo>
                    <a:lnTo>
                      <a:pt x="1244" y="375"/>
                    </a:lnTo>
                    <a:lnTo>
                      <a:pt x="923" y="375"/>
                    </a:lnTo>
                    <a:lnTo>
                      <a:pt x="9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847880" y="4240080"/>
                <a:ext cx="220680" cy="209520"/>
              </a:xfrm>
              <a:custGeom>
                <a:avLst/>
                <a:gdLst/>
                <a:ahLst/>
                <a:rect l="l" t="t" r="r" b="b"/>
                <a:pathLst>
                  <a:path w="1395" h="1319">
                    <a:moveTo>
                      <a:pt x="0" y="0"/>
                    </a:moveTo>
                    <a:lnTo>
                      <a:pt x="742" y="295"/>
                    </a:lnTo>
                    <a:lnTo>
                      <a:pt x="1288" y="752"/>
                    </a:lnTo>
                    <a:lnTo>
                      <a:pt x="1395" y="1132"/>
                    </a:lnTo>
                    <a:lnTo>
                      <a:pt x="1395" y="1275"/>
                    </a:lnTo>
                    <a:lnTo>
                      <a:pt x="1343" y="1319"/>
                    </a:lnTo>
                    <a:lnTo>
                      <a:pt x="1375" y="1256"/>
                    </a:lnTo>
                    <a:lnTo>
                      <a:pt x="1375" y="1118"/>
                    </a:lnTo>
                    <a:lnTo>
                      <a:pt x="1253" y="766"/>
                    </a:lnTo>
                    <a:lnTo>
                      <a:pt x="717" y="3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19440" y="4255920"/>
                <a:ext cx="149040" cy="38160"/>
              </a:xfrm>
              <a:custGeom>
                <a:avLst/>
                <a:gdLst/>
                <a:ahLst/>
                <a:rect l="l" t="t" r="r" b="b"/>
                <a:pathLst>
                  <a:path w="938" h="245">
                    <a:moveTo>
                      <a:pt x="0" y="0"/>
                    </a:moveTo>
                    <a:lnTo>
                      <a:pt x="938" y="245"/>
                    </a:lnTo>
                    <a:lnTo>
                      <a:pt x="873" y="20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3" name=""/>
              <p:cNvSpPr/>
              <p:nvPr/>
            </p:nvSpPr>
            <p:spPr>
              <a:xfrm>
                <a:off x="1898640" y="4349880"/>
                <a:ext cx="254160" cy="117360"/>
              </a:xfrm>
              <a:custGeom>
                <a:avLst/>
                <a:gdLst/>
                <a:ahLst/>
                <a:rect l="l" t="t" r="r" b="b"/>
                <a:pathLst>
                  <a:path w="1603" h="741">
                    <a:moveTo>
                      <a:pt x="0" y="512"/>
                    </a:moveTo>
                    <a:lnTo>
                      <a:pt x="0" y="741"/>
                    </a:lnTo>
                    <a:lnTo>
                      <a:pt x="1538" y="741"/>
                    </a:lnTo>
                    <a:lnTo>
                      <a:pt x="1603" y="678"/>
                    </a:lnTo>
                    <a:lnTo>
                      <a:pt x="1603" y="512"/>
                    </a:lnTo>
                    <a:lnTo>
                      <a:pt x="1336" y="0"/>
                    </a:lnTo>
                    <a:lnTo>
                      <a:pt x="87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2141640" y="4430880"/>
                <a:ext cx="11160" cy="36360"/>
              </a:xfrm>
              <a:custGeom>
                <a:avLst/>
                <a:gdLst/>
                <a:ahLst/>
                <a:rect l="l" t="t" r="r" b="b"/>
                <a:pathLst>
                  <a:path w="73" h="229">
                    <a:moveTo>
                      <a:pt x="0" y="229"/>
                    </a:moveTo>
                    <a:lnTo>
                      <a:pt x="0" y="45"/>
                    </a:lnTo>
                    <a:lnTo>
                      <a:pt x="73" y="0"/>
                    </a:lnTo>
                    <a:lnTo>
                      <a:pt x="73" y="166"/>
                    </a:lnTo>
                    <a:lnTo>
                      <a:pt x="0" y="2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45" name=""/>
              <p:cNvSpPr/>
              <p:nvPr/>
            </p:nvSpPr>
            <p:spPr>
              <a:xfrm flipH="1">
                <a:off x="2069640" y="443880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6" name=""/>
              <p:cNvSpPr/>
              <p:nvPr/>
            </p:nvSpPr>
            <p:spPr>
              <a:xfrm>
                <a:off x="2066760" y="4414680"/>
                <a:ext cx="59040" cy="11160"/>
              </a:xfrm>
              <a:custGeom>
                <a:avLst/>
                <a:gdLst/>
                <a:ahLst/>
                <a:rect l="l" t="t" r="r" b="b"/>
                <a:pathLst>
                  <a:path w="363" h="66">
                    <a:moveTo>
                      <a:pt x="8" y="66"/>
                    </a:moveTo>
                    <a:lnTo>
                      <a:pt x="363" y="66"/>
                    </a:lnTo>
                    <a:lnTo>
                      <a:pt x="363" y="0"/>
                    </a:lnTo>
                    <a:lnTo>
                      <a:pt x="0" y="0"/>
                    </a:lnTo>
                    <a:lnTo>
                      <a:pt x="8" y="6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7" name=""/>
              <p:cNvSpPr/>
              <p:nvPr/>
            </p:nvSpPr>
            <p:spPr>
              <a:xfrm>
                <a:off x="2050920" y="4361040"/>
                <a:ext cx="74880" cy="53640"/>
              </a:xfrm>
              <a:custGeom>
                <a:avLst/>
                <a:gdLst/>
                <a:ahLst/>
                <a:rect l="l" t="t" r="r" b="b"/>
                <a:pathLst>
                  <a:path w="462" h="346">
                    <a:moveTo>
                      <a:pt x="462" y="346"/>
                    </a:moveTo>
                    <a:lnTo>
                      <a:pt x="298" y="0"/>
                    </a:lnTo>
                    <a:lnTo>
                      <a:pt x="0"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48" name=""/>
              <p:cNvSpPr/>
              <p:nvPr/>
            </p:nvSpPr>
            <p:spPr>
              <a:xfrm>
                <a:off x="396720" y="4282920"/>
                <a:ext cx="976320" cy="358920"/>
              </a:xfrm>
              <a:custGeom>
                <a:avLst/>
                <a:gdLst/>
                <a:ahLst/>
                <a:rect l="l" t="t" r="r" b="b"/>
                <a:pathLst>
                  <a:path w="6153" h="2259">
                    <a:moveTo>
                      <a:pt x="6153" y="2259"/>
                    </a:moveTo>
                    <a:lnTo>
                      <a:pt x="5503" y="1015"/>
                    </a:lnTo>
                    <a:lnTo>
                      <a:pt x="3916" y="519"/>
                    </a:lnTo>
                    <a:lnTo>
                      <a:pt x="3265" y="519"/>
                    </a:lnTo>
                    <a:lnTo>
                      <a:pt x="2644" y="256"/>
                    </a:lnTo>
                    <a:lnTo>
                      <a:pt x="2488" y="0"/>
                    </a:lnTo>
                    <a:lnTo>
                      <a:pt x="2520" y="384"/>
                    </a:lnTo>
                    <a:lnTo>
                      <a:pt x="2276" y="613"/>
                    </a:lnTo>
                    <a:lnTo>
                      <a:pt x="1753" y="796"/>
                    </a:lnTo>
                    <a:lnTo>
                      <a:pt x="1086" y="1246"/>
                    </a:lnTo>
                    <a:lnTo>
                      <a:pt x="861" y="1246"/>
                    </a:lnTo>
                    <a:lnTo>
                      <a:pt x="240" y="1500"/>
                    </a:lnTo>
                    <a:lnTo>
                      <a:pt x="0" y="1737"/>
                    </a:lnTo>
                    <a:lnTo>
                      <a:pt x="122" y="1969"/>
                    </a:lnTo>
                    <a:lnTo>
                      <a:pt x="122" y="2259"/>
                    </a:lnTo>
                    <a:lnTo>
                      <a:pt x="6153" y="2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982800" y="3881520"/>
                <a:ext cx="77760" cy="164880"/>
              </a:xfrm>
              <a:custGeom>
                <a:avLst/>
                <a:gdLst/>
                <a:ahLst/>
                <a:rect l="l" t="t" r="r" b="b"/>
                <a:pathLst>
                  <a:path w="494" h="1038">
                    <a:moveTo>
                      <a:pt x="0" y="0"/>
                    </a:moveTo>
                    <a:lnTo>
                      <a:pt x="494" y="1038"/>
                    </a:lnTo>
                    <a:lnTo>
                      <a:pt x="0" y="7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960480" y="3792600"/>
                <a:ext cx="136440" cy="258840"/>
              </a:xfrm>
              <a:custGeom>
                <a:avLst/>
                <a:gdLst/>
                <a:ahLst/>
                <a:rect l="l" t="t" r="r" b="b"/>
                <a:pathLst>
                  <a:path w="864" h="1626">
                    <a:moveTo>
                      <a:pt x="635" y="1593"/>
                    </a:moveTo>
                    <a:lnTo>
                      <a:pt x="0" y="254"/>
                    </a:lnTo>
                    <a:lnTo>
                      <a:pt x="0" y="0"/>
                    </a:lnTo>
                    <a:lnTo>
                      <a:pt x="864" y="16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1322280" y="4465800"/>
                <a:ext cx="954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961920" y="3792600"/>
                <a:ext cx="27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3" name=""/>
              <p:cNvSpPr/>
              <p:nvPr/>
            </p:nvSpPr>
            <p:spPr>
              <a:xfrm>
                <a:off x="1185840" y="3997440"/>
                <a:ext cx="203400" cy="61920"/>
              </a:xfrm>
              <a:custGeom>
                <a:avLst/>
                <a:gdLst/>
                <a:ahLst/>
                <a:rect l="l" t="t" r="r" b="b"/>
                <a:pathLst>
                  <a:path w="1280" h="393">
                    <a:moveTo>
                      <a:pt x="1280" y="393"/>
                    </a:moveTo>
                    <a:lnTo>
                      <a:pt x="0" y="0"/>
                    </a:lnTo>
                    <a:lnTo>
                      <a:pt x="0" y="54"/>
                    </a:lnTo>
                    <a:lnTo>
                      <a:pt x="1042" y="393"/>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4" name=""/>
              <p:cNvSpPr/>
              <p:nvPr/>
            </p:nvSpPr>
            <p:spPr>
              <a:xfrm>
                <a:off x="1479600" y="4070520"/>
                <a:ext cx="782640" cy="195120"/>
              </a:xfrm>
              <a:custGeom>
                <a:avLst/>
                <a:gdLst/>
                <a:ahLst/>
                <a:rect l="l" t="t" r="r" b="b"/>
                <a:pathLst>
                  <a:path w="4924" h="1225">
                    <a:moveTo>
                      <a:pt x="0" y="107"/>
                    </a:moveTo>
                    <a:lnTo>
                      <a:pt x="3220" y="1103"/>
                    </a:lnTo>
                    <a:lnTo>
                      <a:pt x="4924" y="0"/>
                    </a:lnTo>
                    <a:lnTo>
                      <a:pt x="4924" y="89"/>
                    </a:lnTo>
                    <a:lnTo>
                      <a:pt x="3211" y="1225"/>
                    </a:lnTo>
                    <a:lnTo>
                      <a:pt x="68" y="2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flipV="1">
                <a:off x="1989000" y="4247640"/>
                <a:ext cx="180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56" name=""/>
              <p:cNvSpPr/>
              <p:nvPr/>
            </p:nvSpPr>
            <p:spPr>
              <a:xfrm>
                <a:off x="1185840" y="3862440"/>
                <a:ext cx="1076400" cy="208080"/>
              </a:xfrm>
              <a:custGeom>
                <a:avLst/>
                <a:gdLst/>
                <a:ahLst/>
                <a:rect l="l" t="t" r="r" b="b"/>
                <a:pathLst>
                  <a:path w="6777" h="1317">
                    <a:moveTo>
                      <a:pt x="0" y="851"/>
                    </a:moveTo>
                    <a:lnTo>
                      <a:pt x="1699" y="0"/>
                    </a:lnTo>
                    <a:lnTo>
                      <a:pt x="6777" y="13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1989000" y="4119480"/>
                <a:ext cx="287640" cy="146160"/>
              </a:xfrm>
              <a:custGeom>
                <a:avLst/>
                <a:gdLst/>
                <a:ahLst/>
                <a:rect l="l" t="t" r="r" b="b"/>
                <a:pathLst>
                  <a:path w="1808" h="922">
                    <a:moveTo>
                      <a:pt x="0" y="922"/>
                    </a:moveTo>
                    <a:lnTo>
                      <a:pt x="1808" y="86"/>
                    </a:lnTo>
                    <a:lnTo>
                      <a:pt x="1394" y="0"/>
                    </a:lnTo>
                    <a:lnTo>
                      <a:pt x="0" y="9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1327320" y="3917880"/>
                <a:ext cx="774360" cy="252360"/>
              </a:xfrm>
              <a:custGeom>
                <a:avLst/>
                <a:gdLst/>
                <a:ahLst/>
                <a:rect l="l" t="t" r="r" b="b"/>
                <a:pathLst>
                  <a:path w="4880" h="1590">
                    <a:moveTo>
                      <a:pt x="0" y="378"/>
                    </a:moveTo>
                    <a:lnTo>
                      <a:pt x="4089" y="1590"/>
                    </a:lnTo>
                    <a:lnTo>
                      <a:pt x="4880" y="1092"/>
                    </a:lnTo>
                    <a:lnTo>
                      <a:pt x="742" y="0"/>
                    </a:lnTo>
                    <a:lnTo>
                      <a:pt x="0" y="37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1343160" y="3881520"/>
                <a:ext cx="69840" cy="19080"/>
              </a:xfrm>
              <a:custGeom>
                <a:avLst/>
                <a:gdLst/>
                <a:ahLst/>
                <a:rect l="l" t="t" r="r" b="b"/>
                <a:pathLst>
                  <a:path w="447" h="125">
                    <a:moveTo>
                      <a:pt x="210" y="125"/>
                    </a:moveTo>
                    <a:lnTo>
                      <a:pt x="0" y="125"/>
                    </a:lnTo>
                    <a:lnTo>
                      <a:pt x="0" y="0"/>
                    </a:lnTo>
                    <a:lnTo>
                      <a:pt x="447"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60" name=""/>
              <p:cNvSpPr/>
              <p:nvPr/>
            </p:nvSpPr>
            <p:spPr>
              <a:xfrm>
                <a:off x="1538280" y="3881520"/>
                <a:ext cx="487440" cy="19080"/>
              </a:xfrm>
              <a:custGeom>
                <a:avLst/>
                <a:gdLst/>
                <a:ahLst/>
                <a:rect l="l" t="t" r="r" b="b"/>
                <a:pathLst>
                  <a:path w="3075" h="125">
                    <a:moveTo>
                      <a:pt x="0" y="0"/>
                    </a:moveTo>
                    <a:lnTo>
                      <a:pt x="3075" y="0"/>
                    </a:lnTo>
                    <a:lnTo>
                      <a:pt x="3075" y="125"/>
                    </a:lnTo>
                    <a:lnTo>
                      <a:pt x="459" y="125"/>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61" name=""/>
              <p:cNvSpPr/>
              <p:nvPr/>
            </p:nvSpPr>
            <p:spPr>
              <a:xfrm flipV="1">
                <a:off x="1343160" y="3821040"/>
                <a:ext cx="12852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2" name=""/>
              <p:cNvSpPr/>
              <p:nvPr/>
            </p:nvSpPr>
            <p:spPr>
              <a:xfrm flipH="1" flipV="1">
                <a:off x="1907640" y="3821040"/>
                <a:ext cx="11772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3" name=""/>
              <p:cNvSpPr/>
              <p:nvPr/>
            </p:nvSpPr>
            <p:spPr>
              <a:xfrm>
                <a:off x="2147760" y="3860640"/>
                <a:ext cx="222480" cy="12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173320" y="4017960"/>
                <a:ext cx="196920" cy="58680"/>
              </a:xfrm>
              <a:custGeom>
                <a:avLst/>
                <a:gdLst/>
                <a:ahLst/>
                <a:rect l="l" t="t" r="r" b="b"/>
                <a:pathLst>
                  <a:path w="1240" h="369">
                    <a:moveTo>
                      <a:pt x="0" y="187"/>
                    </a:moveTo>
                    <a:lnTo>
                      <a:pt x="55" y="187"/>
                    </a:lnTo>
                    <a:lnTo>
                      <a:pt x="124" y="46"/>
                    </a:lnTo>
                    <a:lnTo>
                      <a:pt x="202" y="0"/>
                    </a:lnTo>
                    <a:lnTo>
                      <a:pt x="300" y="124"/>
                    </a:lnTo>
                    <a:lnTo>
                      <a:pt x="378" y="34"/>
                    </a:lnTo>
                    <a:lnTo>
                      <a:pt x="748" y="80"/>
                    </a:lnTo>
                    <a:lnTo>
                      <a:pt x="780" y="203"/>
                    </a:lnTo>
                    <a:lnTo>
                      <a:pt x="845" y="103"/>
                    </a:lnTo>
                    <a:lnTo>
                      <a:pt x="1007" y="118"/>
                    </a:lnTo>
                    <a:lnTo>
                      <a:pt x="1069" y="193"/>
                    </a:lnTo>
                    <a:lnTo>
                      <a:pt x="1147" y="177"/>
                    </a:lnTo>
                    <a:lnTo>
                      <a:pt x="1131" y="143"/>
                    </a:lnTo>
                    <a:lnTo>
                      <a:pt x="1240" y="135"/>
                    </a:lnTo>
                    <a:lnTo>
                      <a:pt x="1240" y="369"/>
                    </a:lnTo>
                    <a:lnTo>
                      <a:pt x="805" y="345"/>
                    </a:lnTo>
                    <a:lnTo>
                      <a:pt x="767" y="283"/>
                    </a:lnTo>
                    <a:lnTo>
                      <a:pt x="723" y="327"/>
                    </a:lnTo>
                    <a:lnTo>
                      <a:pt x="603" y="327"/>
                    </a:lnTo>
                    <a:lnTo>
                      <a:pt x="542" y="159"/>
                    </a:lnTo>
                    <a:lnTo>
                      <a:pt x="542" y="315"/>
                    </a:lnTo>
                    <a:lnTo>
                      <a:pt x="498" y="315"/>
                    </a:lnTo>
                    <a:lnTo>
                      <a:pt x="0" y="18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5" name=""/>
              <p:cNvSpPr/>
              <p:nvPr/>
            </p:nvSpPr>
            <p:spPr>
              <a:xfrm>
                <a:off x="2131920" y="4394160"/>
                <a:ext cx="238320" cy="22320"/>
              </a:xfrm>
              <a:custGeom>
                <a:avLst/>
                <a:gdLst/>
                <a:ahLst/>
                <a:rect l="l" t="t" r="r" b="b"/>
                <a:pathLst>
                  <a:path w="1499" h="145">
                    <a:moveTo>
                      <a:pt x="49" y="44"/>
                    </a:moveTo>
                    <a:lnTo>
                      <a:pt x="475" y="44"/>
                    </a:lnTo>
                    <a:lnTo>
                      <a:pt x="982" y="134"/>
                    </a:lnTo>
                    <a:lnTo>
                      <a:pt x="1230" y="134"/>
                    </a:lnTo>
                    <a:lnTo>
                      <a:pt x="1499" y="145"/>
                    </a:lnTo>
                    <a:lnTo>
                      <a:pt x="1499" y="108"/>
                    </a:lnTo>
                    <a:lnTo>
                      <a:pt x="1266" y="80"/>
                    </a:lnTo>
                    <a:lnTo>
                      <a:pt x="1026" y="80"/>
                    </a:lnTo>
                    <a:lnTo>
                      <a:pt x="885" y="70"/>
                    </a:lnTo>
                    <a:lnTo>
                      <a:pt x="543" y="10"/>
                    </a:lnTo>
                    <a:lnTo>
                      <a:pt x="446" y="0"/>
                    </a:lnTo>
                    <a:lnTo>
                      <a:pt x="0" y="0"/>
                    </a:lnTo>
                    <a:lnTo>
                      <a:pt x="49" y="4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1244520" y="3100320"/>
                <a:ext cx="873360" cy="72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74760" y="3129120"/>
                <a:ext cx="812880" cy="66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320840" y="3176640"/>
                <a:ext cx="72216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365120" y="326376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1365120" y="329256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1365120" y="332100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1365120" y="334980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a:off x="1365120" y="337824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4" name=""/>
              <p:cNvSpPr/>
              <p:nvPr/>
            </p:nvSpPr>
            <p:spPr>
              <a:xfrm>
                <a:off x="1365120" y="340848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a:off x="1365120" y="343836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1365120" y="346536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1365120" y="349560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8" name=""/>
              <p:cNvSpPr/>
              <p:nvPr/>
            </p:nvSpPr>
            <p:spPr>
              <a:xfrm>
                <a:off x="1365120" y="352440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9" name=""/>
              <p:cNvSpPr/>
              <p:nvPr/>
            </p:nvSpPr>
            <p:spPr>
              <a:xfrm>
                <a:off x="1365120" y="355284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0" name=""/>
              <p:cNvSpPr/>
              <p:nvPr/>
            </p:nvSpPr>
            <p:spPr>
              <a:xfrm>
                <a:off x="1365120" y="358128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1365120" y="361008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2" name=""/>
              <p:cNvSpPr/>
              <p:nvPr/>
            </p:nvSpPr>
            <p:spPr>
              <a:xfrm>
                <a:off x="1365120" y="363852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3" name=""/>
              <p:cNvSpPr/>
              <p:nvPr/>
            </p:nvSpPr>
            <p:spPr>
              <a:xfrm>
                <a:off x="1433520" y="367812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4" name=""/>
              <p:cNvSpPr/>
              <p:nvPr/>
            </p:nvSpPr>
            <p:spPr>
              <a:xfrm>
                <a:off x="1494000" y="367812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5" name=""/>
              <p:cNvSpPr/>
              <p:nvPr/>
            </p:nvSpPr>
            <p:spPr>
              <a:xfrm>
                <a:off x="1554120" y="367812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6" name=""/>
              <p:cNvSpPr/>
              <p:nvPr/>
            </p:nvSpPr>
            <p:spPr>
              <a:xfrm>
                <a:off x="1614600" y="367812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7" name=""/>
              <p:cNvSpPr/>
              <p:nvPr/>
            </p:nvSpPr>
            <p:spPr>
              <a:xfrm>
                <a:off x="1673280" y="367812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8" name=""/>
              <p:cNvSpPr/>
              <p:nvPr/>
            </p:nvSpPr>
            <p:spPr>
              <a:xfrm>
                <a:off x="1735200" y="367812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9" name=""/>
              <p:cNvSpPr/>
              <p:nvPr/>
            </p:nvSpPr>
            <p:spPr>
              <a:xfrm>
                <a:off x="1793880" y="367812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0" name=""/>
              <p:cNvSpPr/>
              <p:nvPr/>
            </p:nvSpPr>
            <p:spPr>
              <a:xfrm>
                <a:off x="1855800" y="367812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1" name=""/>
              <p:cNvSpPr/>
              <p:nvPr/>
            </p:nvSpPr>
            <p:spPr>
              <a:xfrm>
                <a:off x="1914480" y="367812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2" name=""/>
              <p:cNvSpPr/>
              <p:nvPr/>
            </p:nvSpPr>
            <p:spPr>
              <a:xfrm>
                <a:off x="1976400" y="367812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3" name=""/>
              <p:cNvSpPr/>
              <p:nvPr/>
            </p:nvSpPr>
            <p:spPr>
              <a:xfrm>
                <a:off x="1433520" y="3621240"/>
                <a:ext cx="60480" cy="37800"/>
              </a:xfrm>
              <a:prstGeom prst="rect">
                <a:avLst/>
              </a:pr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4" name=""/>
              <p:cNvSpPr/>
              <p:nvPr/>
            </p:nvSpPr>
            <p:spPr>
              <a:xfrm>
                <a:off x="1494000" y="3639960"/>
                <a:ext cx="60120" cy="19080"/>
              </a:xfrm>
              <a:prstGeom prst="rect">
                <a:avLst/>
              </a:pr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5" name=""/>
              <p:cNvSpPr/>
              <p:nvPr/>
            </p:nvSpPr>
            <p:spPr>
              <a:xfrm>
                <a:off x="1554120" y="3591000"/>
                <a:ext cx="60480" cy="6804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6" name=""/>
              <p:cNvSpPr/>
              <p:nvPr/>
            </p:nvSpPr>
            <p:spPr>
              <a:xfrm>
                <a:off x="1614600" y="3571920"/>
                <a:ext cx="5868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7" name=""/>
              <p:cNvSpPr/>
              <p:nvPr/>
            </p:nvSpPr>
            <p:spPr>
              <a:xfrm>
                <a:off x="1673280" y="3630600"/>
                <a:ext cx="61920" cy="2844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8" name=""/>
              <p:cNvSpPr/>
              <p:nvPr/>
            </p:nvSpPr>
            <p:spPr>
              <a:xfrm>
                <a:off x="1735200" y="3465360"/>
                <a:ext cx="58680" cy="193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793880" y="3273480"/>
                <a:ext cx="61920" cy="385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1855800" y="3301920"/>
                <a:ext cx="58680" cy="357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1914480" y="3282840"/>
                <a:ext cx="61920" cy="376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1425600" y="3263760"/>
                <a:ext cx="30240" cy="19080"/>
              </a:xfrm>
              <a:prstGeom prst="rect">
                <a:avLst/>
              </a:pr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3" name=""/>
              <p:cNvSpPr/>
              <p:nvPr/>
            </p:nvSpPr>
            <p:spPr>
              <a:xfrm>
                <a:off x="1477800" y="32734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4" name=""/>
              <p:cNvSpPr/>
              <p:nvPr/>
            </p:nvSpPr>
            <p:spPr>
              <a:xfrm>
                <a:off x="1425600" y="3301920"/>
                <a:ext cx="30240" cy="19080"/>
              </a:xfrm>
              <a:prstGeom prst="rect">
                <a:avLst/>
              </a:pr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5" name=""/>
              <p:cNvSpPr/>
              <p:nvPr/>
            </p:nvSpPr>
            <p:spPr>
              <a:xfrm>
                <a:off x="1477800" y="331164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6" name=""/>
              <p:cNvSpPr/>
              <p:nvPr/>
            </p:nvSpPr>
            <p:spPr>
              <a:xfrm>
                <a:off x="1550880" y="3216240"/>
                <a:ext cx="28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1403280" y="3244680"/>
                <a:ext cx="579600" cy="414360"/>
              </a:xfrm>
              <a:custGeom>
                <a:avLst/>
                <a:gdLst/>
                <a:ahLst/>
                <a:rect l="l" t="t" r="r" b="b"/>
                <a:pathLst>
                  <a:path w="3654" h="2614">
                    <a:moveTo>
                      <a:pt x="0" y="0"/>
                    </a:moveTo>
                    <a:lnTo>
                      <a:pt x="0" y="2614"/>
                    </a:lnTo>
                    <a:lnTo>
                      <a:pt x="3654" y="26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8" name=""/>
            <p:cNvSpPr/>
            <p:nvPr/>
          </p:nvSpPr>
          <p:spPr>
            <a:xfrm>
              <a:off x="1600200" y="2357280"/>
              <a:ext cx="4572000" cy="4419720"/>
            </a:xfrm>
            <a:custGeom>
              <a:avLst/>
              <a:gdLst/>
              <a:ahLst/>
              <a:rect l="l" t="t" r="r" b="b"/>
              <a:pathLst>
                <a:path w="2880" h="2784">
                  <a:moveTo>
                    <a:pt x="2496" y="0"/>
                  </a:moveTo>
                  <a:lnTo>
                    <a:pt x="2880" y="96"/>
                  </a:lnTo>
                  <a:lnTo>
                    <a:pt x="720" y="2784"/>
                  </a:lnTo>
                  <a:lnTo>
                    <a:pt x="0" y="2064"/>
                  </a:lnTo>
                  <a:lnTo>
                    <a:pt x="960" y="1632"/>
                  </a:lnTo>
                  <a:lnTo>
                    <a:pt x="2496" y="0"/>
                  </a:lnTo>
                  <a:close/>
                </a:path>
              </a:pathLst>
            </a:custGeom>
            <a:gradFill rotWithShape="0">
              <a:gsLst>
                <a:gs pos="0">
                  <a:srgbClr val="ffcc00"/>
                </a:gs>
                <a:gs pos="100000">
                  <a:srgbClr val="ffffff"/>
                </a:gs>
              </a:gsLst>
              <a:lin ang="81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009" name=""/>
            <p:cNvGrpSpPr/>
            <p:nvPr/>
          </p:nvGrpSpPr>
          <p:grpSpPr>
            <a:xfrm>
              <a:off x="966960" y="4994280"/>
              <a:ext cx="2066760" cy="1825560"/>
              <a:chOff x="966960" y="4994280"/>
              <a:chExt cx="2066760" cy="1825560"/>
            </a:xfrm>
          </p:grpSpPr>
          <p:sp>
            <p:nvSpPr>
              <p:cNvPr id="1010" name=""/>
              <p:cNvSpPr/>
              <p:nvPr/>
            </p:nvSpPr>
            <p:spPr>
              <a:xfrm>
                <a:off x="1803240" y="4994280"/>
                <a:ext cx="1230480" cy="1413000"/>
              </a:xfrm>
              <a:custGeom>
                <a:avLst/>
                <a:gdLst/>
                <a:ahLst/>
                <a:rect l="l" t="t" r="r" b="b"/>
                <a:pathLst>
                  <a:path w="7748" h="8896">
                    <a:moveTo>
                      <a:pt x="7748" y="1106"/>
                    </a:moveTo>
                    <a:lnTo>
                      <a:pt x="4327" y="0"/>
                    </a:lnTo>
                    <a:lnTo>
                      <a:pt x="1950" y="888"/>
                    </a:lnTo>
                    <a:lnTo>
                      <a:pt x="1335" y="4540"/>
                    </a:lnTo>
                    <a:lnTo>
                      <a:pt x="98" y="5857"/>
                    </a:lnTo>
                    <a:lnTo>
                      <a:pt x="0" y="6133"/>
                    </a:lnTo>
                    <a:lnTo>
                      <a:pt x="3208" y="8896"/>
                    </a:lnTo>
                    <a:lnTo>
                      <a:pt x="7748" y="5031"/>
                    </a:lnTo>
                    <a:lnTo>
                      <a:pt x="7748" y="1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2085840" y="5218200"/>
                <a:ext cx="540000" cy="716040"/>
              </a:xfrm>
              <a:custGeom>
                <a:avLst/>
                <a:gdLst/>
                <a:ahLst/>
                <a:rect l="l" t="t" r="r" b="b"/>
                <a:pathLst>
                  <a:path w="3398" h="4509">
                    <a:moveTo>
                      <a:pt x="478" y="0"/>
                    </a:moveTo>
                    <a:lnTo>
                      <a:pt x="0" y="2852"/>
                    </a:lnTo>
                    <a:lnTo>
                      <a:pt x="2994" y="4509"/>
                    </a:lnTo>
                    <a:lnTo>
                      <a:pt x="3398" y="1194"/>
                    </a:lnTo>
                    <a:lnTo>
                      <a:pt x="478"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69840" y="5927760"/>
                <a:ext cx="731880" cy="892080"/>
              </a:xfrm>
              <a:custGeom>
                <a:avLst/>
                <a:gdLst/>
                <a:ahLst/>
                <a:rect l="l" t="t" r="r" b="b"/>
                <a:pathLst>
                  <a:path w="4614" h="5620">
                    <a:moveTo>
                      <a:pt x="3465" y="817"/>
                    </a:moveTo>
                    <a:lnTo>
                      <a:pt x="3748" y="1292"/>
                    </a:lnTo>
                    <a:lnTo>
                      <a:pt x="4407" y="2243"/>
                    </a:lnTo>
                    <a:lnTo>
                      <a:pt x="4538" y="2527"/>
                    </a:lnTo>
                    <a:lnTo>
                      <a:pt x="4614" y="2793"/>
                    </a:lnTo>
                    <a:lnTo>
                      <a:pt x="4598" y="3134"/>
                    </a:lnTo>
                    <a:lnTo>
                      <a:pt x="4510" y="3360"/>
                    </a:lnTo>
                    <a:lnTo>
                      <a:pt x="4278" y="3763"/>
                    </a:lnTo>
                    <a:lnTo>
                      <a:pt x="4510" y="4195"/>
                    </a:lnTo>
                    <a:lnTo>
                      <a:pt x="4464" y="4519"/>
                    </a:lnTo>
                    <a:lnTo>
                      <a:pt x="4041" y="5620"/>
                    </a:lnTo>
                    <a:lnTo>
                      <a:pt x="1482" y="5620"/>
                    </a:lnTo>
                    <a:lnTo>
                      <a:pt x="966" y="4917"/>
                    </a:lnTo>
                    <a:lnTo>
                      <a:pt x="206" y="2772"/>
                    </a:lnTo>
                    <a:lnTo>
                      <a:pt x="43" y="2165"/>
                    </a:lnTo>
                    <a:lnTo>
                      <a:pt x="0" y="1690"/>
                    </a:lnTo>
                    <a:lnTo>
                      <a:pt x="0" y="1428"/>
                    </a:lnTo>
                    <a:lnTo>
                      <a:pt x="43" y="1063"/>
                    </a:lnTo>
                    <a:lnTo>
                      <a:pt x="104" y="724"/>
                    </a:lnTo>
                    <a:lnTo>
                      <a:pt x="160" y="477"/>
                    </a:lnTo>
                    <a:lnTo>
                      <a:pt x="1468" y="0"/>
                    </a:lnTo>
                    <a:lnTo>
                      <a:pt x="3465" y="817"/>
                    </a:lnTo>
                    <a:close/>
                  </a:path>
                </a:pathLst>
              </a:cu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1170000" y="5927760"/>
                <a:ext cx="255600" cy="156960"/>
              </a:xfrm>
              <a:custGeom>
                <a:avLst/>
                <a:gdLst/>
                <a:ahLst/>
                <a:rect l="l" t="t" r="r" b="b"/>
                <a:pathLst>
                  <a:path w="1606" h="991">
                    <a:moveTo>
                      <a:pt x="1606" y="779"/>
                    </a:moveTo>
                    <a:lnTo>
                      <a:pt x="0" y="0"/>
                    </a:lnTo>
                    <a:lnTo>
                      <a:pt x="354" y="665"/>
                    </a:lnTo>
                    <a:lnTo>
                      <a:pt x="839" y="991"/>
                    </a:lnTo>
                    <a:lnTo>
                      <a:pt x="1309" y="991"/>
                    </a:lnTo>
                    <a:lnTo>
                      <a:pt x="1606" y="779"/>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584360" y="6248520"/>
                <a:ext cx="770040" cy="568080"/>
              </a:xfrm>
              <a:custGeom>
                <a:avLst/>
                <a:gdLst/>
                <a:ahLst/>
                <a:rect l="l" t="t" r="r" b="b"/>
                <a:pathLst>
                  <a:path w="4842" h="3580">
                    <a:moveTo>
                      <a:pt x="4698" y="3580"/>
                    </a:moveTo>
                    <a:lnTo>
                      <a:pt x="4780" y="3334"/>
                    </a:lnTo>
                    <a:lnTo>
                      <a:pt x="4827" y="3063"/>
                    </a:lnTo>
                    <a:lnTo>
                      <a:pt x="4842" y="2812"/>
                    </a:lnTo>
                    <a:lnTo>
                      <a:pt x="4827" y="2504"/>
                    </a:lnTo>
                    <a:lnTo>
                      <a:pt x="4731" y="2172"/>
                    </a:lnTo>
                    <a:lnTo>
                      <a:pt x="4618" y="1943"/>
                    </a:lnTo>
                    <a:lnTo>
                      <a:pt x="2468" y="40"/>
                    </a:lnTo>
                    <a:lnTo>
                      <a:pt x="2244" y="0"/>
                    </a:lnTo>
                    <a:lnTo>
                      <a:pt x="1970" y="22"/>
                    </a:lnTo>
                    <a:lnTo>
                      <a:pt x="1668" y="80"/>
                    </a:lnTo>
                    <a:lnTo>
                      <a:pt x="899" y="307"/>
                    </a:lnTo>
                    <a:lnTo>
                      <a:pt x="607" y="351"/>
                    </a:lnTo>
                    <a:lnTo>
                      <a:pt x="719" y="702"/>
                    </a:lnTo>
                    <a:lnTo>
                      <a:pt x="736" y="1013"/>
                    </a:lnTo>
                    <a:lnTo>
                      <a:pt x="673" y="1198"/>
                    </a:lnTo>
                    <a:lnTo>
                      <a:pt x="400" y="1653"/>
                    </a:lnTo>
                    <a:lnTo>
                      <a:pt x="448" y="1924"/>
                    </a:lnTo>
                    <a:lnTo>
                      <a:pt x="626" y="2172"/>
                    </a:lnTo>
                    <a:lnTo>
                      <a:pt x="626" y="2315"/>
                    </a:lnTo>
                    <a:lnTo>
                      <a:pt x="497" y="2730"/>
                    </a:lnTo>
                    <a:lnTo>
                      <a:pt x="0" y="3580"/>
                    </a:lnTo>
                    <a:lnTo>
                      <a:pt x="4698" y="3580"/>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1541520" y="5818320"/>
                <a:ext cx="600120" cy="376200"/>
              </a:xfrm>
              <a:custGeom>
                <a:avLst/>
                <a:gdLst/>
                <a:ahLst/>
                <a:rect l="l" t="t" r="r" b="b"/>
                <a:pathLst>
                  <a:path w="3784" h="2378">
                    <a:moveTo>
                      <a:pt x="432" y="2378"/>
                    </a:moveTo>
                    <a:lnTo>
                      <a:pt x="1267" y="1904"/>
                    </a:lnTo>
                    <a:lnTo>
                      <a:pt x="1747" y="1720"/>
                    </a:lnTo>
                    <a:lnTo>
                      <a:pt x="2535" y="1571"/>
                    </a:lnTo>
                    <a:lnTo>
                      <a:pt x="3259" y="1096"/>
                    </a:lnTo>
                    <a:lnTo>
                      <a:pt x="3462" y="827"/>
                    </a:lnTo>
                    <a:lnTo>
                      <a:pt x="3400" y="809"/>
                    </a:lnTo>
                    <a:lnTo>
                      <a:pt x="3176" y="849"/>
                    </a:lnTo>
                    <a:lnTo>
                      <a:pt x="2951" y="1054"/>
                    </a:lnTo>
                    <a:lnTo>
                      <a:pt x="2822" y="1158"/>
                    </a:lnTo>
                    <a:lnTo>
                      <a:pt x="2762" y="1158"/>
                    </a:lnTo>
                    <a:lnTo>
                      <a:pt x="2888" y="931"/>
                    </a:lnTo>
                    <a:lnTo>
                      <a:pt x="3271" y="680"/>
                    </a:lnTo>
                    <a:lnTo>
                      <a:pt x="3544" y="680"/>
                    </a:lnTo>
                    <a:lnTo>
                      <a:pt x="3735" y="599"/>
                    </a:lnTo>
                    <a:lnTo>
                      <a:pt x="3784" y="561"/>
                    </a:lnTo>
                    <a:lnTo>
                      <a:pt x="3784" y="516"/>
                    </a:lnTo>
                    <a:lnTo>
                      <a:pt x="3735" y="476"/>
                    </a:lnTo>
                    <a:lnTo>
                      <a:pt x="3559" y="476"/>
                    </a:lnTo>
                    <a:lnTo>
                      <a:pt x="3449" y="209"/>
                    </a:lnTo>
                    <a:lnTo>
                      <a:pt x="3079" y="38"/>
                    </a:lnTo>
                    <a:lnTo>
                      <a:pt x="2888" y="38"/>
                    </a:lnTo>
                    <a:lnTo>
                      <a:pt x="2810" y="0"/>
                    </a:lnTo>
                    <a:lnTo>
                      <a:pt x="2727" y="21"/>
                    </a:lnTo>
                    <a:lnTo>
                      <a:pt x="2647" y="83"/>
                    </a:lnTo>
                    <a:lnTo>
                      <a:pt x="1715" y="1200"/>
                    </a:lnTo>
                    <a:lnTo>
                      <a:pt x="0" y="1720"/>
                    </a:lnTo>
                    <a:lnTo>
                      <a:pt x="290" y="2193"/>
                    </a:lnTo>
                    <a:lnTo>
                      <a:pt x="432" y="2378"/>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566720" y="5985000"/>
                <a:ext cx="733680" cy="831600"/>
              </a:xfrm>
              <a:custGeom>
                <a:avLst/>
                <a:gdLst/>
                <a:ahLst/>
                <a:rect l="l" t="t" r="r" b="b"/>
                <a:pathLst>
                  <a:path w="4620" h="5241">
                    <a:moveTo>
                      <a:pt x="751" y="3873"/>
                    </a:moveTo>
                    <a:lnTo>
                      <a:pt x="915" y="3956"/>
                    </a:lnTo>
                    <a:lnTo>
                      <a:pt x="1219" y="4165"/>
                    </a:lnTo>
                    <a:lnTo>
                      <a:pt x="1493" y="4411"/>
                    </a:lnTo>
                    <a:lnTo>
                      <a:pt x="2886" y="2714"/>
                    </a:lnTo>
                    <a:lnTo>
                      <a:pt x="3110" y="1764"/>
                    </a:lnTo>
                    <a:lnTo>
                      <a:pt x="3110" y="913"/>
                    </a:lnTo>
                    <a:lnTo>
                      <a:pt x="3350" y="313"/>
                    </a:lnTo>
                    <a:lnTo>
                      <a:pt x="3593" y="124"/>
                    </a:lnTo>
                    <a:lnTo>
                      <a:pt x="3703" y="124"/>
                    </a:lnTo>
                    <a:lnTo>
                      <a:pt x="3818" y="0"/>
                    </a:lnTo>
                    <a:lnTo>
                      <a:pt x="4283" y="0"/>
                    </a:lnTo>
                    <a:lnTo>
                      <a:pt x="4378" y="146"/>
                    </a:lnTo>
                    <a:lnTo>
                      <a:pt x="4540" y="229"/>
                    </a:lnTo>
                    <a:lnTo>
                      <a:pt x="4540" y="395"/>
                    </a:lnTo>
                    <a:lnTo>
                      <a:pt x="4620" y="498"/>
                    </a:lnTo>
                    <a:lnTo>
                      <a:pt x="4620" y="706"/>
                    </a:lnTo>
                    <a:lnTo>
                      <a:pt x="4554" y="913"/>
                    </a:lnTo>
                    <a:lnTo>
                      <a:pt x="4330" y="1324"/>
                    </a:lnTo>
                    <a:lnTo>
                      <a:pt x="4201" y="1701"/>
                    </a:lnTo>
                    <a:lnTo>
                      <a:pt x="3687" y="2300"/>
                    </a:lnTo>
                    <a:lnTo>
                      <a:pt x="3547" y="2527"/>
                    </a:lnTo>
                    <a:lnTo>
                      <a:pt x="3191" y="3439"/>
                    </a:lnTo>
                    <a:lnTo>
                      <a:pt x="2918" y="4144"/>
                    </a:lnTo>
                    <a:lnTo>
                      <a:pt x="2679" y="4644"/>
                    </a:lnTo>
                    <a:lnTo>
                      <a:pt x="2274" y="5218"/>
                    </a:lnTo>
                    <a:lnTo>
                      <a:pt x="2181" y="5241"/>
                    </a:lnTo>
                    <a:lnTo>
                      <a:pt x="0" y="5241"/>
                    </a:lnTo>
                    <a:lnTo>
                      <a:pt x="500" y="4620"/>
                    </a:lnTo>
                    <a:lnTo>
                      <a:pt x="671" y="4247"/>
                    </a:lnTo>
                    <a:lnTo>
                      <a:pt x="751" y="3976"/>
                    </a:lnTo>
                    <a:lnTo>
                      <a:pt x="751" y="3873"/>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1197000" y="5564160"/>
                <a:ext cx="398520" cy="492120"/>
              </a:xfrm>
              <a:custGeom>
                <a:avLst/>
                <a:gdLst/>
                <a:ahLst/>
                <a:rect l="l" t="t" r="r" b="b"/>
                <a:pathLst>
                  <a:path w="2509" h="3099">
                    <a:moveTo>
                      <a:pt x="2013" y="71"/>
                    </a:moveTo>
                    <a:lnTo>
                      <a:pt x="2213" y="431"/>
                    </a:lnTo>
                    <a:lnTo>
                      <a:pt x="2264" y="510"/>
                    </a:lnTo>
                    <a:lnTo>
                      <a:pt x="2289" y="613"/>
                    </a:lnTo>
                    <a:lnTo>
                      <a:pt x="2289" y="753"/>
                    </a:lnTo>
                    <a:lnTo>
                      <a:pt x="2469" y="1058"/>
                    </a:lnTo>
                    <a:lnTo>
                      <a:pt x="2509" y="1211"/>
                    </a:lnTo>
                    <a:lnTo>
                      <a:pt x="2509" y="1302"/>
                    </a:lnTo>
                    <a:lnTo>
                      <a:pt x="2489" y="1482"/>
                    </a:lnTo>
                    <a:lnTo>
                      <a:pt x="2409" y="1688"/>
                    </a:lnTo>
                    <a:lnTo>
                      <a:pt x="2360" y="1865"/>
                    </a:lnTo>
                    <a:lnTo>
                      <a:pt x="2360" y="1997"/>
                    </a:lnTo>
                    <a:lnTo>
                      <a:pt x="2360" y="2341"/>
                    </a:lnTo>
                    <a:lnTo>
                      <a:pt x="2400" y="2585"/>
                    </a:lnTo>
                    <a:lnTo>
                      <a:pt x="2400" y="2737"/>
                    </a:lnTo>
                    <a:lnTo>
                      <a:pt x="2360" y="2856"/>
                    </a:lnTo>
                    <a:lnTo>
                      <a:pt x="2302" y="2919"/>
                    </a:lnTo>
                    <a:lnTo>
                      <a:pt x="2173" y="3008"/>
                    </a:lnTo>
                    <a:lnTo>
                      <a:pt x="2033" y="3099"/>
                    </a:lnTo>
                    <a:lnTo>
                      <a:pt x="1507" y="3099"/>
                    </a:lnTo>
                    <a:lnTo>
                      <a:pt x="576" y="2856"/>
                    </a:lnTo>
                    <a:lnTo>
                      <a:pt x="0" y="1766"/>
                    </a:lnTo>
                    <a:lnTo>
                      <a:pt x="645" y="0"/>
                    </a:lnTo>
                    <a:lnTo>
                      <a:pt x="1656" y="304"/>
                    </a:lnTo>
                    <a:lnTo>
                      <a:pt x="2013" y="71"/>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1065240" y="5477040"/>
                <a:ext cx="152280" cy="441000"/>
              </a:xfrm>
              <a:custGeom>
                <a:avLst/>
                <a:gdLst/>
                <a:ahLst/>
                <a:rect l="l" t="t" r="r" b="b"/>
                <a:pathLst>
                  <a:path w="961" h="2779">
                    <a:moveTo>
                      <a:pt x="961" y="163"/>
                    </a:moveTo>
                    <a:lnTo>
                      <a:pt x="513" y="2779"/>
                    </a:lnTo>
                    <a:lnTo>
                      <a:pt x="154" y="2712"/>
                    </a:lnTo>
                    <a:lnTo>
                      <a:pt x="0" y="2408"/>
                    </a:lnTo>
                    <a:lnTo>
                      <a:pt x="0" y="2086"/>
                    </a:lnTo>
                    <a:lnTo>
                      <a:pt x="87" y="1957"/>
                    </a:lnTo>
                    <a:lnTo>
                      <a:pt x="15" y="1429"/>
                    </a:lnTo>
                    <a:lnTo>
                      <a:pt x="165" y="613"/>
                    </a:lnTo>
                    <a:lnTo>
                      <a:pt x="709" y="0"/>
                    </a:lnTo>
                    <a:lnTo>
                      <a:pt x="961" y="163"/>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1552680" y="5629320"/>
                <a:ext cx="50760" cy="88920"/>
              </a:xfrm>
              <a:custGeom>
                <a:avLst/>
                <a:gdLst/>
                <a:ahLst/>
                <a:rect l="l" t="t" r="r" b="b"/>
                <a:pathLst>
                  <a:path w="318" h="559">
                    <a:moveTo>
                      <a:pt x="197" y="559"/>
                    </a:moveTo>
                    <a:lnTo>
                      <a:pt x="318" y="498"/>
                    </a:lnTo>
                    <a:lnTo>
                      <a:pt x="318" y="218"/>
                    </a:lnTo>
                    <a:lnTo>
                      <a:pt x="0" y="0"/>
                    </a:lnTo>
                    <a:lnTo>
                      <a:pt x="49" y="191"/>
                    </a:lnTo>
                    <a:lnTo>
                      <a:pt x="197" y="559"/>
                    </a:lnTo>
                    <a:close/>
                  </a:path>
                </a:pathLst>
              </a:custGeom>
              <a:solidFill>
                <a:srgbClr val="ffea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20" name=""/>
              <p:cNvSpPr/>
              <p:nvPr/>
            </p:nvSpPr>
            <p:spPr>
              <a:xfrm>
                <a:off x="1355760" y="5773680"/>
                <a:ext cx="74520" cy="42840"/>
              </a:xfrm>
              <a:custGeom>
                <a:avLst/>
                <a:gdLst/>
                <a:ahLst/>
                <a:rect l="l" t="t" r="r" b="b"/>
                <a:pathLst>
                  <a:path w="464" h="271">
                    <a:moveTo>
                      <a:pt x="0" y="194"/>
                    </a:moveTo>
                    <a:lnTo>
                      <a:pt x="217" y="0"/>
                    </a:lnTo>
                    <a:lnTo>
                      <a:pt x="437" y="0"/>
                    </a:lnTo>
                    <a:lnTo>
                      <a:pt x="464" y="31"/>
                    </a:lnTo>
                    <a:lnTo>
                      <a:pt x="437" y="127"/>
                    </a:lnTo>
                    <a:lnTo>
                      <a:pt x="355" y="220"/>
                    </a:lnTo>
                    <a:lnTo>
                      <a:pt x="248" y="271"/>
                    </a:lnTo>
                    <a:lnTo>
                      <a:pt x="58" y="271"/>
                    </a:lnTo>
                    <a:lnTo>
                      <a:pt x="0" y="19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1" name=""/>
              <p:cNvSpPr/>
              <p:nvPr/>
            </p:nvSpPr>
            <p:spPr>
              <a:xfrm>
                <a:off x="1498680" y="5681520"/>
                <a:ext cx="50760" cy="51120"/>
              </a:xfrm>
              <a:custGeom>
                <a:avLst/>
                <a:gdLst/>
                <a:ahLst/>
                <a:rect l="l" t="t" r="r" b="b"/>
                <a:pathLst>
                  <a:path w="317" h="311">
                    <a:moveTo>
                      <a:pt x="0" y="311"/>
                    </a:moveTo>
                    <a:lnTo>
                      <a:pt x="9" y="228"/>
                    </a:lnTo>
                    <a:lnTo>
                      <a:pt x="53" y="105"/>
                    </a:lnTo>
                    <a:lnTo>
                      <a:pt x="138" y="27"/>
                    </a:lnTo>
                    <a:lnTo>
                      <a:pt x="317" y="0"/>
                    </a:lnTo>
                    <a:lnTo>
                      <a:pt x="317" y="76"/>
                    </a:lnTo>
                    <a:lnTo>
                      <a:pt x="277" y="180"/>
                    </a:lnTo>
                    <a:lnTo>
                      <a:pt x="188" y="245"/>
                    </a:lnTo>
                    <a:lnTo>
                      <a:pt x="81" y="283"/>
                    </a:lnTo>
                    <a:lnTo>
                      <a:pt x="0" y="311"/>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22" name=""/>
              <p:cNvSpPr/>
              <p:nvPr/>
            </p:nvSpPr>
            <p:spPr>
              <a:xfrm>
                <a:off x="1444680" y="5894280"/>
                <a:ext cx="109440" cy="60480"/>
              </a:xfrm>
              <a:custGeom>
                <a:avLst/>
                <a:gdLst/>
                <a:ahLst/>
                <a:rect l="l" t="t" r="r" b="b"/>
                <a:pathLst>
                  <a:path w="693" h="383">
                    <a:moveTo>
                      <a:pt x="693" y="0"/>
                    </a:moveTo>
                    <a:lnTo>
                      <a:pt x="684" y="162"/>
                    </a:lnTo>
                    <a:lnTo>
                      <a:pt x="477" y="346"/>
                    </a:lnTo>
                    <a:lnTo>
                      <a:pt x="307" y="383"/>
                    </a:lnTo>
                    <a:lnTo>
                      <a:pt x="0" y="383"/>
                    </a:lnTo>
                    <a:lnTo>
                      <a:pt x="140" y="306"/>
                    </a:lnTo>
                    <a:lnTo>
                      <a:pt x="388" y="192"/>
                    </a:lnTo>
                    <a:lnTo>
                      <a:pt x="624" y="23"/>
                    </a:lnTo>
                    <a:lnTo>
                      <a:pt x="693"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23" name=""/>
              <p:cNvSpPr/>
              <p:nvPr/>
            </p:nvSpPr>
            <p:spPr>
              <a:xfrm>
                <a:off x="1297080" y="5718240"/>
                <a:ext cx="166680" cy="81000"/>
              </a:xfrm>
              <a:custGeom>
                <a:avLst/>
                <a:gdLst/>
                <a:ahLst/>
                <a:rect l="l" t="t" r="r" b="b"/>
                <a:pathLst>
                  <a:path w="1051" h="514">
                    <a:moveTo>
                      <a:pt x="1013" y="412"/>
                    </a:moveTo>
                    <a:lnTo>
                      <a:pt x="938" y="316"/>
                    </a:lnTo>
                    <a:lnTo>
                      <a:pt x="938" y="232"/>
                    </a:lnTo>
                    <a:lnTo>
                      <a:pt x="884" y="116"/>
                    </a:lnTo>
                    <a:lnTo>
                      <a:pt x="809" y="199"/>
                    </a:lnTo>
                    <a:lnTo>
                      <a:pt x="578" y="199"/>
                    </a:lnTo>
                    <a:lnTo>
                      <a:pt x="489" y="250"/>
                    </a:lnTo>
                    <a:lnTo>
                      <a:pt x="360" y="250"/>
                    </a:lnTo>
                    <a:lnTo>
                      <a:pt x="194" y="349"/>
                    </a:lnTo>
                    <a:lnTo>
                      <a:pt x="169" y="412"/>
                    </a:lnTo>
                    <a:lnTo>
                      <a:pt x="0" y="514"/>
                    </a:lnTo>
                    <a:lnTo>
                      <a:pt x="269" y="165"/>
                    </a:lnTo>
                    <a:lnTo>
                      <a:pt x="400" y="150"/>
                    </a:lnTo>
                    <a:lnTo>
                      <a:pt x="476" y="116"/>
                    </a:lnTo>
                    <a:lnTo>
                      <a:pt x="565" y="116"/>
                    </a:lnTo>
                    <a:lnTo>
                      <a:pt x="822" y="0"/>
                    </a:lnTo>
                    <a:lnTo>
                      <a:pt x="884" y="0"/>
                    </a:lnTo>
                    <a:lnTo>
                      <a:pt x="908" y="52"/>
                    </a:lnTo>
                    <a:lnTo>
                      <a:pt x="986" y="85"/>
                    </a:lnTo>
                    <a:lnTo>
                      <a:pt x="1051" y="301"/>
                    </a:lnTo>
                    <a:lnTo>
                      <a:pt x="1013" y="4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24" name=""/>
              <p:cNvSpPr/>
              <p:nvPr/>
            </p:nvSpPr>
            <p:spPr>
              <a:xfrm>
                <a:off x="1339920" y="5770440"/>
                <a:ext cx="100080" cy="44640"/>
              </a:xfrm>
              <a:custGeom>
                <a:avLst/>
                <a:gdLst/>
                <a:ahLst/>
                <a:rect l="l" t="t" r="r" b="b"/>
                <a:pathLst>
                  <a:path w="629" h="280">
                    <a:moveTo>
                      <a:pt x="629" y="80"/>
                    </a:moveTo>
                    <a:lnTo>
                      <a:pt x="527" y="0"/>
                    </a:lnTo>
                    <a:lnTo>
                      <a:pt x="334" y="0"/>
                    </a:lnTo>
                    <a:lnTo>
                      <a:pt x="207" y="80"/>
                    </a:lnTo>
                    <a:lnTo>
                      <a:pt x="0" y="280"/>
                    </a:lnTo>
                    <a:lnTo>
                      <a:pt x="235" y="149"/>
                    </a:lnTo>
                    <a:lnTo>
                      <a:pt x="334" y="33"/>
                    </a:lnTo>
                    <a:lnTo>
                      <a:pt x="527" y="33"/>
                    </a:lnTo>
                    <a:lnTo>
                      <a:pt x="629" y="8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5" name=""/>
              <p:cNvSpPr/>
              <p:nvPr/>
            </p:nvSpPr>
            <p:spPr>
              <a:xfrm>
                <a:off x="1347840" y="5803920"/>
                <a:ext cx="61920" cy="23760"/>
              </a:xfrm>
              <a:custGeom>
                <a:avLst/>
                <a:gdLst/>
                <a:ahLst/>
                <a:rect l="l" t="t" r="r" b="b"/>
                <a:pathLst>
                  <a:path w="387" h="144">
                    <a:moveTo>
                      <a:pt x="0" y="49"/>
                    </a:moveTo>
                    <a:lnTo>
                      <a:pt x="38" y="81"/>
                    </a:lnTo>
                    <a:lnTo>
                      <a:pt x="139" y="144"/>
                    </a:lnTo>
                    <a:lnTo>
                      <a:pt x="190" y="117"/>
                    </a:lnTo>
                    <a:lnTo>
                      <a:pt x="294" y="117"/>
                    </a:lnTo>
                    <a:lnTo>
                      <a:pt x="387" y="49"/>
                    </a:lnTo>
                    <a:lnTo>
                      <a:pt x="294" y="64"/>
                    </a:lnTo>
                    <a:lnTo>
                      <a:pt x="154" y="64"/>
                    </a:lnTo>
                    <a:lnTo>
                      <a:pt x="91" y="32"/>
                    </a:lnTo>
                    <a:lnTo>
                      <a:pt x="78" y="0"/>
                    </a:lnTo>
                    <a:lnTo>
                      <a:pt x="0" y="4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6" name=""/>
              <p:cNvSpPr/>
              <p:nvPr/>
            </p:nvSpPr>
            <p:spPr>
              <a:xfrm>
                <a:off x="1413000" y="5783400"/>
                <a:ext cx="15840" cy="27000"/>
              </a:xfrm>
              <a:custGeom>
                <a:avLst/>
                <a:gdLst/>
                <a:ahLst/>
                <a:rect l="l" t="t" r="r" b="b"/>
                <a:pathLst>
                  <a:path w="103" h="168">
                    <a:moveTo>
                      <a:pt x="0" y="168"/>
                    </a:moveTo>
                    <a:lnTo>
                      <a:pt x="24" y="102"/>
                    </a:lnTo>
                    <a:lnTo>
                      <a:pt x="78" y="69"/>
                    </a:lnTo>
                    <a:lnTo>
                      <a:pt x="103" y="0"/>
                    </a:lnTo>
                    <a:lnTo>
                      <a:pt x="78" y="102"/>
                    </a:lnTo>
                    <a:lnTo>
                      <a:pt x="0" y="16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7" name=""/>
              <p:cNvSpPr/>
              <p:nvPr/>
            </p:nvSpPr>
            <p:spPr>
              <a:xfrm>
                <a:off x="1365120" y="5786280"/>
                <a:ext cx="24120" cy="24120"/>
              </a:xfrm>
              <a:custGeom>
                <a:avLst/>
                <a:gdLst/>
                <a:ahLst/>
                <a:rect l="l" t="t" r="r" b="b"/>
                <a:pathLst>
                  <a:path w="144" h="150">
                    <a:moveTo>
                      <a:pt x="0" y="99"/>
                    </a:moveTo>
                    <a:lnTo>
                      <a:pt x="27" y="133"/>
                    </a:lnTo>
                    <a:lnTo>
                      <a:pt x="70" y="150"/>
                    </a:lnTo>
                    <a:lnTo>
                      <a:pt x="91" y="150"/>
                    </a:lnTo>
                    <a:lnTo>
                      <a:pt x="131" y="118"/>
                    </a:lnTo>
                    <a:lnTo>
                      <a:pt x="144" y="66"/>
                    </a:lnTo>
                    <a:lnTo>
                      <a:pt x="131" y="19"/>
                    </a:lnTo>
                    <a:lnTo>
                      <a:pt x="104" y="0"/>
                    </a:lnTo>
                    <a:lnTo>
                      <a:pt x="0" y="9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8" name=""/>
              <p:cNvSpPr/>
              <p:nvPr/>
            </p:nvSpPr>
            <p:spPr>
              <a:xfrm>
                <a:off x="1496880" y="5626080"/>
                <a:ext cx="63720" cy="196920"/>
              </a:xfrm>
              <a:custGeom>
                <a:avLst/>
                <a:gdLst/>
                <a:ahLst/>
                <a:rect l="l" t="t" r="r" b="b"/>
                <a:pathLst>
                  <a:path w="409" h="1244">
                    <a:moveTo>
                      <a:pt x="87" y="564"/>
                    </a:moveTo>
                    <a:lnTo>
                      <a:pt x="142" y="564"/>
                    </a:lnTo>
                    <a:lnTo>
                      <a:pt x="178" y="513"/>
                    </a:lnTo>
                    <a:lnTo>
                      <a:pt x="178" y="397"/>
                    </a:lnTo>
                    <a:lnTo>
                      <a:pt x="318" y="365"/>
                    </a:lnTo>
                    <a:lnTo>
                      <a:pt x="153" y="365"/>
                    </a:lnTo>
                    <a:lnTo>
                      <a:pt x="216" y="284"/>
                    </a:lnTo>
                    <a:lnTo>
                      <a:pt x="256" y="180"/>
                    </a:lnTo>
                    <a:lnTo>
                      <a:pt x="356" y="100"/>
                    </a:lnTo>
                    <a:lnTo>
                      <a:pt x="409" y="234"/>
                    </a:lnTo>
                    <a:lnTo>
                      <a:pt x="369" y="69"/>
                    </a:lnTo>
                    <a:lnTo>
                      <a:pt x="333" y="0"/>
                    </a:lnTo>
                    <a:lnTo>
                      <a:pt x="265" y="0"/>
                    </a:lnTo>
                    <a:lnTo>
                      <a:pt x="216" y="136"/>
                    </a:lnTo>
                    <a:lnTo>
                      <a:pt x="153" y="180"/>
                    </a:lnTo>
                    <a:lnTo>
                      <a:pt x="60" y="333"/>
                    </a:lnTo>
                    <a:lnTo>
                      <a:pt x="60" y="446"/>
                    </a:lnTo>
                    <a:lnTo>
                      <a:pt x="25" y="513"/>
                    </a:lnTo>
                    <a:lnTo>
                      <a:pt x="0" y="680"/>
                    </a:lnTo>
                    <a:lnTo>
                      <a:pt x="25" y="744"/>
                    </a:lnTo>
                    <a:lnTo>
                      <a:pt x="60" y="844"/>
                    </a:lnTo>
                    <a:lnTo>
                      <a:pt x="229" y="1093"/>
                    </a:lnTo>
                    <a:lnTo>
                      <a:pt x="409" y="1244"/>
                    </a:lnTo>
                    <a:lnTo>
                      <a:pt x="243" y="1075"/>
                    </a:lnTo>
                    <a:lnTo>
                      <a:pt x="87" y="844"/>
                    </a:lnTo>
                    <a:lnTo>
                      <a:pt x="60" y="729"/>
                    </a:lnTo>
                    <a:lnTo>
                      <a:pt x="153" y="729"/>
                    </a:lnTo>
                    <a:lnTo>
                      <a:pt x="87" y="680"/>
                    </a:lnTo>
                    <a:lnTo>
                      <a:pt x="153" y="596"/>
                    </a:lnTo>
                    <a:lnTo>
                      <a:pt x="100" y="596"/>
                    </a:lnTo>
                    <a:lnTo>
                      <a:pt x="36" y="664"/>
                    </a:lnTo>
                    <a:lnTo>
                      <a:pt x="36" y="613"/>
                    </a:lnTo>
                    <a:lnTo>
                      <a:pt x="60" y="547"/>
                    </a:lnTo>
                    <a:lnTo>
                      <a:pt x="87" y="5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519200" y="5686560"/>
                <a:ext cx="31680" cy="39600"/>
              </a:xfrm>
              <a:custGeom>
                <a:avLst/>
                <a:gdLst/>
                <a:ahLst/>
                <a:rect l="l" t="t" r="r" b="b"/>
                <a:pathLst>
                  <a:path w="201" h="251">
                    <a:moveTo>
                      <a:pt x="0" y="251"/>
                    </a:moveTo>
                    <a:lnTo>
                      <a:pt x="101" y="216"/>
                    </a:lnTo>
                    <a:lnTo>
                      <a:pt x="176" y="153"/>
                    </a:lnTo>
                    <a:lnTo>
                      <a:pt x="201" y="66"/>
                    </a:lnTo>
                    <a:lnTo>
                      <a:pt x="191" y="0"/>
                    </a:lnTo>
                    <a:lnTo>
                      <a:pt x="191" y="53"/>
                    </a:lnTo>
                    <a:lnTo>
                      <a:pt x="152" y="133"/>
                    </a:lnTo>
                    <a:lnTo>
                      <a:pt x="87" y="199"/>
                    </a:lnTo>
                    <a:lnTo>
                      <a:pt x="0" y="2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0" name=""/>
              <p:cNvSpPr/>
              <p:nvPr/>
            </p:nvSpPr>
            <p:spPr>
              <a:xfrm>
                <a:off x="1357200" y="5830920"/>
                <a:ext cx="52560" cy="9360"/>
              </a:xfrm>
              <a:custGeom>
                <a:avLst/>
                <a:gdLst/>
                <a:ahLst/>
                <a:rect l="l" t="t" r="r" b="b"/>
                <a:pathLst>
                  <a:path w="324" h="63">
                    <a:moveTo>
                      <a:pt x="324" y="0"/>
                    </a:moveTo>
                    <a:lnTo>
                      <a:pt x="244" y="31"/>
                    </a:lnTo>
                    <a:lnTo>
                      <a:pt x="167" y="46"/>
                    </a:lnTo>
                    <a:lnTo>
                      <a:pt x="91" y="46"/>
                    </a:lnTo>
                    <a:lnTo>
                      <a:pt x="0" y="31"/>
                    </a:lnTo>
                    <a:lnTo>
                      <a:pt x="76" y="63"/>
                    </a:lnTo>
                    <a:lnTo>
                      <a:pt x="193" y="63"/>
                    </a:lnTo>
                    <a:lnTo>
                      <a:pt x="284" y="46"/>
                    </a:lnTo>
                    <a:lnTo>
                      <a:pt x="32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1" name=""/>
              <p:cNvSpPr/>
              <p:nvPr/>
            </p:nvSpPr>
            <p:spPr>
              <a:xfrm>
                <a:off x="1095480" y="5481720"/>
                <a:ext cx="471240" cy="603000"/>
              </a:xfrm>
              <a:custGeom>
                <a:avLst/>
                <a:gdLst/>
                <a:ahLst/>
                <a:rect l="l" t="t" r="r" b="b"/>
                <a:pathLst>
                  <a:path w="2968" h="3801">
                    <a:moveTo>
                      <a:pt x="753" y="2378"/>
                    </a:moveTo>
                    <a:lnTo>
                      <a:pt x="1240" y="3374"/>
                    </a:lnTo>
                    <a:lnTo>
                      <a:pt x="2172" y="3621"/>
                    </a:lnTo>
                    <a:lnTo>
                      <a:pt x="2633" y="3621"/>
                    </a:lnTo>
                    <a:lnTo>
                      <a:pt x="2968" y="3438"/>
                    </a:lnTo>
                    <a:lnTo>
                      <a:pt x="2750" y="3621"/>
                    </a:lnTo>
                    <a:lnTo>
                      <a:pt x="2646" y="3653"/>
                    </a:lnTo>
                    <a:lnTo>
                      <a:pt x="2060" y="3653"/>
                    </a:lnTo>
                    <a:lnTo>
                      <a:pt x="1842" y="3801"/>
                    </a:lnTo>
                    <a:lnTo>
                      <a:pt x="1484" y="3801"/>
                    </a:lnTo>
                    <a:lnTo>
                      <a:pt x="1776" y="3734"/>
                    </a:lnTo>
                    <a:lnTo>
                      <a:pt x="1867" y="3602"/>
                    </a:lnTo>
                    <a:lnTo>
                      <a:pt x="1062" y="3403"/>
                    </a:lnTo>
                    <a:lnTo>
                      <a:pt x="187" y="2630"/>
                    </a:lnTo>
                    <a:lnTo>
                      <a:pt x="0" y="2099"/>
                    </a:lnTo>
                    <a:lnTo>
                      <a:pt x="127" y="2035"/>
                    </a:lnTo>
                    <a:lnTo>
                      <a:pt x="292" y="2179"/>
                    </a:lnTo>
                    <a:lnTo>
                      <a:pt x="140" y="1788"/>
                    </a:lnTo>
                    <a:lnTo>
                      <a:pt x="114" y="1521"/>
                    </a:lnTo>
                    <a:lnTo>
                      <a:pt x="114" y="1208"/>
                    </a:lnTo>
                    <a:lnTo>
                      <a:pt x="152" y="945"/>
                    </a:lnTo>
                    <a:lnTo>
                      <a:pt x="256" y="648"/>
                    </a:lnTo>
                    <a:lnTo>
                      <a:pt x="409" y="399"/>
                    </a:lnTo>
                    <a:lnTo>
                      <a:pt x="637" y="151"/>
                    </a:lnTo>
                    <a:lnTo>
                      <a:pt x="857" y="0"/>
                    </a:lnTo>
                    <a:lnTo>
                      <a:pt x="1318" y="511"/>
                    </a:lnTo>
                    <a:lnTo>
                      <a:pt x="1533" y="959"/>
                    </a:lnTo>
                    <a:lnTo>
                      <a:pt x="1560" y="1142"/>
                    </a:lnTo>
                    <a:lnTo>
                      <a:pt x="1545" y="1305"/>
                    </a:lnTo>
                    <a:lnTo>
                      <a:pt x="1471" y="1603"/>
                    </a:lnTo>
                    <a:lnTo>
                      <a:pt x="1471" y="1521"/>
                    </a:lnTo>
                    <a:lnTo>
                      <a:pt x="1442" y="1441"/>
                    </a:lnTo>
                    <a:lnTo>
                      <a:pt x="1393" y="1390"/>
                    </a:lnTo>
                    <a:lnTo>
                      <a:pt x="1318" y="1588"/>
                    </a:lnTo>
                    <a:lnTo>
                      <a:pt x="1227" y="1686"/>
                    </a:lnTo>
                    <a:lnTo>
                      <a:pt x="1111" y="1868"/>
                    </a:lnTo>
                    <a:lnTo>
                      <a:pt x="1062" y="2067"/>
                    </a:lnTo>
                    <a:lnTo>
                      <a:pt x="1037" y="1819"/>
                    </a:lnTo>
                    <a:lnTo>
                      <a:pt x="1037" y="1521"/>
                    </a:lnTo>
                    <a:lnTo>
                      <a:pt x="893" y="2050"/>
                    </a:lnTo>
                    <a:lnTo>
                      <a:pt x="780" y="2296"/>
                    </a:lnTo>
                    <a:lnTo>
                      <a:pt x="753" y="2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974880" y="5343480"/>
                <a:ext cx="569880" cy="792360"/>
              </a:xfrm>
              <a:custGeom>
                <a:avLst/>
                <a:gdLst/>
                <a:ahLst/>
                <a:rect l="l" t="t" r="r" b="b"/>
                <a:pathLst>
                  <a:path w="3597" h="4990">
                    <a:moveTo>
                      <a:pt x="1431" y="1008"/>
                    </a:moveTo>
                    <a:lnTo>
                      <a:pt x="1304" y="958"/>
                    </a:lnTo>
                    <a:lnTo>
                      <a:pt x="1152" y="1120"/>
                    </a:lnTo>
                    <a:lnTo>
                      <a:pt x="987" y="1368"/>
                    </a:lnTo>
                    <a:lnTo>
                      <a:pt x="858" y="1669"/>
                    </a:lnTo>
                    <a:lnTo>
                      <a:pt x="805" y="1931"/>
                    </a:lnTo>
                    <a:lnTo>
                      <a:pt x="779" y="2179"/>
                    </a:lnTo>
                    <a:lnTo>
                      <a:pt x="779" y="2413"/>
                    </a:lnTo>
                    <a:lnTo>
                      <a:pt x="818" y="2626"/>
                    </a:lnTo>
                    <a:lnTo>
                      <a:pt x="883" y="2857"/>
                    </a:lnTo>
                    <a:lnTo>
                      <a:pt x="987" y="3004"/>
                    </a:lnTo>
                    <a:lnTo>
                      <a:pt x="676" y="3004"/>
                    </a:lnTo>
                    <a:lnTo>
                      <a:pt x="652" y="3121"/>
                    </a:lnTo>
                    <a:lnTo>
                      <a:pt x="652" y="3239"/>
                    </a:lnTo>
                    <a:lnTo>
                      <a:pt x="692" y="3354"/>
                    </a:lnTo>
                    <a:lnTo>
                      <a:pt x="756" y="3470"/>
                    </a:lnTo>
                    <a:lnTo>
                      <a:pt x="805" y="3470"/>
                    </a:lnTo>
                    <a:lnTo>
                      <a:pt x="858" y="3422"/>
                    </a:lnTo>
                    <a:lnTo>
                      <a:pt x="870" y="3354"/>
                    </a:lnTo>
                    <a:lnTo>
                      <a:pt x="858" y="3188"/>
                    </a:lnTo>
                    <a:lnTo>
                      <a:pt x="1266" y="3701"/>
                    </a:lnTo>
                    <a:lnTo>
                      <a:pt x="1600" y="4328"/>
                    </a:lnTo>
                    <a:lnTo>
                      <a:pt x="2075" y="4675"/>
                    </a:lnTo>
                    <a:lnTo>
                      <a:pt x="1842" y="4592"/>
                    </a:lnTo>
                    <a:lnTo>
                      <a:pt x="1560" y="4379"/>
                    </a:lnTo>
                    <a:lnTo>
                      <a:pt x="1291" y="4046"/>
                    </a:lnTo>
                    <a:lnTo>
                      <a:pt x="1036" y="4277"/>
                    </a:lnTo>
                    <a:lnTo>
                      <a:pt x="956" y="4561"/>
                    </a:lnTo>
                    <a:lnTo>
                      <a:pt x="956" y="4726"/>
                    </a:lnTo>
                    <a:lnTo>
                      <a:pt x="1048" y="4990"/>
                    </a:lnTo>
                    <a:lnTo>
                      <a:pt x="845" y="4760"/>
                    </a:lnTo>
                    <a:lnTo>
                      <a:pt x="845" y="4906"/>
                    </a:lnTo>
                    <a:lnTo>
                      <a:pt x="589" y="4843"/>
                    </a:lnTo>
                    <a:lnTo>
                      <a:pt x="540" y="4726"/>
                    </a:lnTo>
                    <a:lnTo>
                      <a:pt x="305" y="4792"/>
                    </a:lnTo>
                    <a:lnTo>
                      <a:pt x="203" y="4643"/>
                    </a:lnTo>
                    <a:lnTo>
                      <a:pt x="127" y="4428"/>
                    </a:lnTo>
                    <a:lnTo>
                      <a:pt x="103" y="4232"/>
                    </a:lnTo>
                    <a:lnTo>
                      <a:pt x="103" y="4034"/>
                    </a:lnTo>
                    <a:lnTo>
                      <a:pt x="127" y="3868"/>
                    </a:lnTo>
                    <a:lnTo>
                      <a:pt x="203" y="3733"/>
                    </a:lnTo>
                    <a:lnTo>
                      <a:pt x="269" y="3602"/>
                    </a:lnTo>
                    <a:lnTo>
                      <a:pt x="296" y="3452"/>
                    </a:lnTo>
                    <a:lnTo>
                      <a:pt x="305" y="3288"/>
                    </a:lnTo>
                    <a:lnTo>
                      <a:pt x="269" y="3090"/>
                    </a:lnTo>
                    <a:lnTo>
                      <a:pt x="192" y="2890"/>
                    </a:lnTo>
                    <a:lnTo>
                      <a:pt x="78" y="2560"/>
                    </a:lnTo>
                    <a:lnTo>
                      <a:pt x="0" y="2264"/>
                    </a:lnTo>
                    <a:lnTo>
                      <a:pt x="0" y="1882"/>
                    </a:lnTo>
                    <a:lnTo>
                      <a:pt x="40" y="1522"/>
                    </a:lnTo>
                    <a:lnTo>
                      <a:pt x="152" y="1140"/>
                    </a:lnTo>
                    <a:lnTo>
                      <a:pt x="356" y="809"/>
                    </a:lnTo>
                    <a:lnTo>
                      <a:pt x="639" y="498"/>
                    </a:lnTo>
                    <a:lnTo>
                      <a:pt x="909" y="280"/>
                    </a:lnTo>
                    <a:lnTo>
                      <a:pt x="1213" y="114"/>
                    </a:lnTo>
                    <a:lnTo>
                      <a:pt x="1509" y="17"/>
                    </a:lnTo>
                    <a:lnTo>
                      <a:pt x="1740" y="0"/>
                    </a:lnTo>
                    <a:lnTo>
                      <a:pt x="1984" y="17"/>
                    </a:lnTo>
                    <a:lnTo>
                      <a:pt x="2253" y="102"/>
                    </a:lnTo>
                    <a:lnTo>
                      <a:pt x="2458" y="231"/>
                    </a:lnTo>
                    <a:lnTo>
                      <a:pt x="2598" y="360"/>
                    </a:lnTo>
                    <a:lnTo>
                      <a:pt x="2702" y="381"/>
                    </a:lnTo>
                    <a:lnTo>
                      <a:pt x="2941" y="381"/>
                    </a:lnTo>
                    <a:lnTo>
                      <a:pt x="3123" y="430"/>
                    </a:lnTo>
                    <a:lnTo>
                      <a:pt x="3255" y="511"/>
                    </a:lnTo>
                    <a:lnTo>
                      <a:pt x="3341" y="644"/>
                    </a:lnTo>
                    <a:lnTo>
                      <a:pt x="3366" y="809"/>
                    </a:lnTo>
                    <a:lnTo>
                      <a:pt x="3377" y="958"/>
                    </a:lnTo>
                    <a:lnTo>
                      <a:pt x="3481" y="1140"/>
                    </a:lnTo>
                    <a:lnTo>
                      <a:pt x="3506" y="1273"/>
                    </a:lnTo>
                    <a:lnTo>
                      <a:pt x="3493" y="1438"/>
                    </a:lnTo>
                    <a:lnTo>
                      <a:pt x="3468" y="1504"/>
                    </a:lnTo>
                    <a:lnTo>
                      <a:pt x="3597" y="1819"/>
                    </a:lnTo>
                    <a:lnTo>
                      <a:pt x="3377" y="1552"/>
                    </a:lnTo>
                    <a:lnTo>
                      <a:pt x="2931" y="1882"/>
                    </a:lnTo>
                    <a:lnTo>
                      <a:pt x="2880" y="1782"/>
                    </a:lnTo>
                    <a:lnTo>
                      <a:pt x="2802" y="1882"/>
                    </a:lnTo>
                    <a:lnTo>
                      <a:pt x="2636" y="1684"/>
                    </a:lnTo>
                    <a:lnTo>
                      <a:pt x="2689" y="2033"/>
                    </a:lnTo>
                    <a:lnTo>
                      <a:pt x="2611" y="1851"/>
                    </a:lnTo>
                    <a:lnTo>
                      <a:pt x="2585" y="1948"/>
                    </a:lnTo>
                    <a:lnTo>
                      <a:pt x="2486" y="1766"/>
                    </a:lnTo>
                    <a:lnTo>
                      <a:pt x="2355" y="1669"/>
                    </a:lnTo>
                    <a:lnTo>
                      <a:pt x="2240" y="1620"/>
                    </a:lnTo>
                    <a:lnTo>
                      <a:pt x="2136" y="1620"/>
                    </a:lnTo>
                    <a:lnTo>
                      <a:pt x="1431" y="10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1230480" y="5867280"/>
                <a:ext cx="3492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4" name=""/>
              <p:cNvSpPr/>
              <p:nvPr/>
            </p:nvSpPr>
            <p:spPr>
              <a:xfrm>
                <a:off x="1246320" y="5877000"/>
                <a:ext cx="316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5" name=""/>
              <p:cNvSpPr/>
              <p:nvPr/>
            </p:nvSpPr>
            <p:spPr>
              <a:xfrm>
                <a:off x="1265400" y="5891040"/>
                <a:ext cx="270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36" name=""/>
              <p:cNvSpPr/>
              <p:nvPr/>
            </p:nvSpPr>
            <p:spPr>
              <a:xfrm>
                <a:off x="1284120" y="5908680"/>
                <a:ext cx="2232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7" name=""/>
              <p:cNvSpPr/>
              <p:nvPr/>
            </p:nvSpPr>
            <p:spPr>
              <a:xfrm>
                <a:off x="1305000" y="5932440"/>
                <a:ext cx="126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8" name=""/>
              <p:cNvSpPr/>
              <p:nvPr/>
            </p:nvSpPr>
            <p:spPr>
              <a:xfrm>
                <a:off x="1436760" y="5846760"/>
                <a:ext cx="39600" cy="57240"/>
              </a:xfrm>
              <a:custGeom>
                <a:avLst/>
                <a:gdLst/>
                <a:ahLst/>
                <a:rect l="l" t="t" r="r" b="b"/>
                <a:pathLst>
                  <a:path w="247" h="366">
                    <a:moveTo>
                      <a:pt x="140" y="0"/>
                    </a:moveTo>
                    <a:lnTo>
                      <a:pt x="64" y="118"/>
                    </a:lnTo>
                    <a:lnTo>
                      <a:pt x="0" y="366"/>
                    </a:lnTo>
                    <a:lnTo>
                      <a:pt x="89" y="184"/>
                    </a:lnTo>
                    <a:lnTo>
                      <a:pt x="140" y="252"/>
                    </a:lnTo>
                    <a:lnTo>
                      <a:pt x="247" y="252"/>
                    </a:lnTo>
                    <a:lnTo>
                      <a:pt x="167" y="216"/>
                    </a:lnTo>
                    <a:lnTo>
                      <a:pt x="140" y="118"/>
                    </a:lnTo>
                    <a:lnTo>
                      <a:pt x="14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39" name=""/>
              <p:cNvSpPr/>
              <p:nvPr/>
            </p:nvSpPr>
            <p:spPr>
              <a:xfrm>
                <a:off x="1398600" y="5877000"/>
                <a:ext cx="171360" cy="128520"/>
              </a:xfrm>
              <a:custGeom>
                <a:avLst/>
                <a:gdLst/>
                <a:ahLst/>
                <a:rect l="l" t="t" r="r" b="b"/>
                <a:pathLst>
                  <a:path w="1076" h="811">
                    <a:moveTo>
                      <a:pt x="233" y="200"/>
                    </a:moveTo>
                    <a:lnTo>
                      <a:pt x="41" y="451"/>
                    </a:lnTo>
                    <a:lnTo>
                      <a:pt x="0" y="629"/>
                    </a:lnTo>
                    <a:lnTo>
                      <a:pt x="114" y="811"/>
                    </a:lnTo>
                    <a:lnTo>
                      <a:pt x="77" y="678"/>
                    </a:lnTo>
                    <a:lnTo>
                      <a:pt x="128" y="564"/>
                    </a:lnTo>
                    <a:lnTo>
                      <a:pt x="324" y="644"/>
                    </a:lnTo>
                    <a:lnTo>
                      <a:pt x="501" y="678"/>
                    </a:lnTo>
                    <a:lnTo>
                      <a:pt x="652" y="666"/>
                    </a:lnTo>
                    <a:lnTo>
                      <a:pt x="512" y="666"/>
                    </a:lnTo>
                    <a:lnTo>
                      <a:pt x="383" y="644"/>
                    </a:lnTo>
                    <a:lnTo>
                      <a:pt x="181" y="549"/>
                    </a:lnTo>
                    <a:lnTo>
                      <a:pt x="193" y="513"/>
                    </a:lnTo>
                    <a:lnTo>
                      <a:pt x="588" y="513"/>
                    </a:lnTo>
                    <a:lnTo>
                      <a:pt x="794" y="467"/>
                    </a:lnTo>
                    <a:lnTo>
                      <a:pt x="1025" y="267"/>
                    </a:lnTo>
                    <a:lnTo>
                      <a:pt x="985" y="217"/>
                    </a:lnTo>
                    <a:lnTo>
                      <a:pt x="985" y="267"/>
                    </a:lnTo>
                    <a:lnTo>
                      <a:pt x="758" y="451"/>
                    </a:lnTo>
                    <a:lnTo>
                      <a:pt x="616" y="480"/>
                    </a:lnTo>
                    <a:lnTo>
                      <a:pt x="419" y="480"/>
                    </a:lnTo>
                    <a:lnTo>
                      <a:pt x="419" y="451"/>
                    </a:lnTo>
                    <a:lnTo>
                      <a:pt x="563" y="365"/>
                    </a:lnTo>
                    <a:lnTo>
                      <a:pt x="676" y="314"/>
                    </a:lnTo>
                    <a:lnTo>
                      <a:pt x="972" y="118"/>
                    </a:lnTo>
                    <a:lnTo>
                      <a:pt x="1076" y="0"/>
                    </a:lnTo>
                    <a:lnTo>
                      <a:pt x="894" y="151"/>
                    </a:lnTo>
                    <a:lnTo>
                      <a:pt x="512" y="365"/>
                    </a:lnTo>
                    <a:lnTo>
                      <a:pt x="372" y="399"/>
                    </a:lnTo>
                    <a:lnTo>
                      <a:pt x="297" y="433"/>
                    </a:lnTo>
                    <a:lnTo>
                      <a:pt x="257" y="433"/>
                    </a:lnTo>
                    <a:lnTo>
                      <a:pt x="206" y="382"/>
                    </a:lnTo>
                    <a:lnTo>
                      <a:pt x="206" y="314"/>
                    </a:lnTo>
                    <a:lnTo>
                      <a:pt x="233"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514520" y="5943600"/>
                <a:ext cx="46080" cy="36360"/>
              </a:xfrm>
              <a:custGeom>
                <a:avLst/>
                <a:gdLst/>
                <a:ahLst/>
                <a:rect l="l" t="t" r="r" b="b"/>
                <a:pathLst>
                  <a:path w="297" h="228">
                    <a:moveTo>
                      <a:pt x="0" y="228"/>
                    </a:moveTo>
                    <a:lnTo>
                      <a:pt x="117" y="180"/>
                    </a:lnTo>
                    <a:lnTo>
                      <a:pt x="244" y="84"/>
                    </a:lnTo>
                    <a:lnTo>
                      <a:pt x="297"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1" name=""/>
              <p:cNvSpPr/>
              <p:nvPr/>
            </p:nvSpPr>
            <p:spPr>
              <a:xfrm>
                <a:off x="1484280" y="5767560"/>
                <a:ext cx="111240" cy="264960"/>
              </a:xfrm>
              <a:custGeom>
                <a:avLst/>
                <a:gdLst/>
                <a:ahLst/>
                <a:rect l="l" t="t" r="r" b="b"/>
                <a:pathLst>
                  <a:path w="705" h="1668">
                    <a:moveTo>
                      <a:pt x="0" y="745"/>
                    </a:moveTo>
                    <a:lnTo>
                      <a:pt x="156" y="643"/>
                    </a:lnTo>
                    <a:lnTo>
                      <a:pt x="374" y="611"/>
                    </a:lnTo>
                    <a:lnTo>
                      <a:pt x="476" y="527"/>
                    </a:lnTo>
                    <a:lnTo>
                      <a:pt x="476" y="349"/>
                    </a:lnTo>
                    <a:lnTo>
                      <a:pt x="436" y="296"/>
                    </a:lnTo>
                    <a:lnTo>
                      <a:pt x="502" y="296"/>
                    </a:lnTo>
                    <a:lnTo>
                      <a:pt x="552" y="313"/>
                    </a:lnTo>
                    <a:lnTo>
                      <a:pt x="616" y="296"/>
                    </a:lnTo>
                    <a:lnTo>
                      <a:pt x="669" y="232"/>
                    </a:lnTo>
                    <a:lnTo>
                      <a:pt x="692" y="133"/>
                    </a:lnTo>
                    <a:lnTo>
                      <a:pt x="705" y="0"/>
                    </a:lnTo>
                    <a:lnTo>
                      <a:pt x="705" y="149"/>
                    </a:lnTo>
                    <a:lnTo>
                      <a:pt x="680" y="281"/>
                    </a:lnTo>
                    <a:lnTo>
                      <a:pt x="616" y="429"/>
                    </a:lnTo>
                    <a:lnTo>
                      <a:pt x="576" y="596"/>
                    </a:lnTo>
                    <a:lnTo>
                      <a:pt x="565" y="745"/>
                    </a:lnTo>
                    <a:lnTo>
                      <a:pt x="565" y="1056"/>
                    </a:lnTo>
                    <a:lnTo>
                      <a:pt x="601" y="1287"/>
                    </a:lnTo>
                    <a:lnTo>
                      <a:pt x="601" y="1471"/>
                    </a:lnTo>
                    <a:lnTo>
                      <a:pt x="565" y="1588"/>
                    </a:lnTo>
                    <a:lnTo>
                      <a:pt x="489" y="1668"/>
                    </a:lnTo>
                    <a:lnTo>
                      <a:pt x="552" y="1571"/>
                    </a:lnTo>
                    <a:lnTo>
                      <a:pt x="576" y="1471"/>
                    </a:lnTo>
                    <a:lnTo>
                      <a:pt x="576" y="1287"/>
                    </a:lnTo>
                    <a:lnTo>
                      <a:pt x="540" y="1090"/>
                    </a:lnTo>
                    <a:lnTo>
                      <a:pt x="540" y="691"/>
                    </a:lnTo>
                    <a:lnTo>
                      <a:pt x="552" y="660"/>
                    </a:lnTo>
                    <a:lnTo>
                      <a:pt x="502" y="562"/>
                    </a:lnTo>
                    <a:lnTo>
                      <a:pt x="423" y="643"/>
                    </a:lnTo>
                    <a:lnTo>
                      <a:pt x="222" y="660"/>
                    </a:lnTo>
                    <a:lnTo>
                      <a:pt x="65" y="745"/>
                    </a:lnTo>
                    <a:lnTo>
                      <a:pt x="0" y="7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554120" y="5656320"/>
                <a:ext cx="47520" cy="102960"/>
              </a:xfrm>
              <a:custGeom>
                <a:avLst/>
                <a:gdLst/>
                <a:ahLst/>
                <a:rect l="l" t="t" r="r" b="b"/>
                <a:pathLst>
                  <a:path w="296" h="646">
                    <a:moveTo>
                      <a:pt x="40" y="36"/>
                    </a:moveTo>
                    <a:lnTo>
                      <a:pt x="0" y="150"/>
                    </a:lnTo>
                    <a:lnTo>
                      <a:pt x="53" y="298"/>
                    </a:lnTo>
                    <a:lnTo>
                      <a:pt x="192" y="482"/>
                    </a:lnTo>
                    <a:lnTo>
                      <a:pt x="256" y="646"/>
                    </a:lnTo>
                    <a:lnTo>
                      <a:pt x="243" y="546"/>
                    </a:lnTo>
                    <a:lnTo>
                      <a:pt x="192" y="398"/>
                    </a:lnTo>
                    <a:lnTo>
                      <a:pt x="296" y="349"/>
                    </a:lnTo>
                    <a:lnTo>
                      <a:pt x="192" y="366"/>
                    </a:lnTo>
                    <a:lnTo>
                      <a:pt x="192" y="118"/>
                    </a:lnTo>
                    <a:lnTo>
                      <a:pt x="296" y="69"/>
                    </a:lnTo>
                    <a:lnTo>
                      <a:pt x="180" y="102"/>
                    </a:lnTo>
                    <a:lnTo>
                      <a:pt x="40" y="0"/>
                    </a:lnTo>
                    <a:lnTo>
                      <a:pt x="4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546200" y="5626080"/>
                <a:ext cx="57240" cy="84240"/>
              </a:xfrm>
              <a:custGeom>
                <a:avLst/>
                <a:gdLst/>
                <a:ahLst/>
                <a:rect l="l" t="t" r="r" b="b"/>
                <a:pathLst>
                  <a:path w="360" h="533">
                    <a:moveTo>
                      <a:pt x="0" y="0"/>
                    </a:moveTo>
                    <a:lnTo>
                      <a:pt x="360" y="251"/>
                    </a:lnTo>
                    <a:lnTo>
                      <a:pt x="360" y="533"/>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4" name=""/>
              <p:cNvSpPr/>
              <p:nvPr/>
            </p:nvSpPr>
            <p:spPr>
              <a:xfrm>
                <a:off x="1522440" y="5513400"/>
                <a:ext cx="23760" cy="112680"/>
              </a:xfrm>
              <a:custGeom>
                <a:avLst/>
                <a:gdLst/>
                <a:ahLst/>
                <a:rect l="l" t="t" r="r" b="b"/>
                <a:pathLst>
                  <a:path w="153" h="709">
                    <a:moveTo>
                      <a:pt x="153" y="693"/>
                    </a:moveTo>
                    <a:lnTo>
                      <a:pt x="142" y="462"/>
                    </a:lnTo>
                    <a:lnTo>
                      <a:pt x="113" y="295"/>
                    </a:lnTo>
                    <a:lnTo>
                      <a:pt x="78" y="151"/>
                    </a:lnTo>
                    <a:lnTo>
                      <a:pt x="0" y="0"/>
                    </a:lnTo>
                    <a:lnTo>
                      <a:pt x="91" y="263"/>
                    </a:lnTo>
                    <a:lnTo>
                      <a:pt x="113" y="462"/>
                    </a:lnTo>
                    <a:lnTo>
                      <a:pt x="113" y="709"/>
                    </a:lnTo>
                    <a:lnTo>
                      <a:pt x="153"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1587600" y="5803920"/>
                <a:ext cx="106200" cy="212760"/>
              </a:xfrm>
              <a:custGeom>
                <a:avLst/>
                <a:gdLst/>
                <a:ahLst/>
                <a:rect l="l" t="t" r="r" b="b"/>
                <a:pathLst>
                  <a:path w="669" h="1339">
                    <a:moveTo>
                      <a:pt x="38" y="0"/>
                    </a:moveTo>
                    <a:lnTo>
                      <a:pt x="117" y="261"/>
                    </a:lnTo>
                    <a:lnTo>
                      <a:pt x="500" y="972"/>
                    </a:lnTo>
                    <a:lnTo>
                      <a:pt x="669" y="1156"/>
                    </a:lnTo>
                    <a:lnTo>
                      <a:pt x="669" y="1239"/>
                    </a:lnTo>
                    <a:lnTo>
                      <a:pt x="540" y="1339"/>
                    </a:lnTo>
                    <a:lnTo>
                      <a:pt x="460" y="1303"/>
                    </a:lnTo>
                    <a:lnTo>
                      <a:pt x="460" y="1008"/>
                    </a:lnTo>
                    <a:lnTo>
                      <a:pt x="335" y="773"/>
                    </a:lnTo>
                    <a:lnTo>
                      <a:pt x="195" y="513"/>
                    </a:lnTo>
                    <a:lnTo>
                      <a:pt x="78" y="295"/>
                    </a:lnTo>
                    <a:lnTo>
                      <a:pt x="26" y="166"/>
                    </a:lnTo>
                    <a:lnTo>
                      <a:pt x="0" y="64"/>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1519200" y="6059520"/>
                <a:ext cx="185760" cy="647640"/>
              </a:xfrm>
              <a:custGeom>
                <a:avLst/>
                <a:gdLst/>
                <a:ahLst/>
                <a:rect l="l" t="t" r="r" b="b"/>
                <a:pathLst>
                  <a:path w="1169" h="4083">
                    <a:moveTo>
                      <a:pt x="0" y="18"/>
                    </a:moveTo>
                    <a:lnTo>
                      <a:pt x="229" y="394"/>
                    </a:lnTo>
                    <a:lnTo>
                      <a:pt x="584" y="944"/>
                    </a:lnTo>
                    <a:lnTo>
                      <a:pt x="836" y="1304"/>
                    </a:lnTo>
                    <a:lnTo>
                      <a:pt x="997" y="1562"/>
                    </a:lnTo>
                    <a:lnTo>
                      <a:pt x="1060" y="1733"/>
                    </a:lnTo>
                    <a:lnTo>
                      <a:pt x="1118" y="1971"/>
                    </a:lnTo>
                    <a:lnTo>
                      <a:pt x="1118" y="2179"/>
                    </a:lnTo>
                    <a:lnTo>
                      <a:pt x="1073" y="2333"/>
                    </a:lnTo>
                    <a:lnTo>
                      <a:pt x="984" y="2455"/>
                    </a:lnTo>
                    <a:lnTo>
                      <a:pt x="836" y="2558"/>
                    </a:lnTo>
                    <a:lnTo>
                      <a:pt x="638" y="2590"/>
                    </a:lnTo>
                    <a:lnTo>
                      <a:pt x="638" y="2386"/>
                    </a:lnTo>
                    <a:lnTo>
                      <a:pt x="520" y="2044"/>
                    </a:lnTo>
                    <a:lnTo>
                      <a:pt x="493" y="1733"/>
                    </a:lnTo>
                    <a:lnTo>
                      <a:pt x="440" y="1613"/>
                    </a:lnTo>
                    <a:lnTo>
                      <a:pt x="120" y="1495"/>
                    </a:lnTo>
                    <a:lnTo>
                      <a:pt x="412" y="1635"/>
                    </a:lnTo>
                    <a:lnTo>
                      <a:pt x="455" y="1819"/>
                    </a:lnTo>
                    <a:lnTo>
                      <a:pt x="305" y="2111"/>
                    </a:lnTo>
                    <a:lnTo>
                      <a:pt x="187" y="2919"/>
                    </a:lnTo>
                    <a:lnTo>
                      <a:pt x="334" y="2164"/>
                    </a:lnTo>
                    <a:lnTo>
                      <a:pt x="412" y="2059"/>
                    </a:lnTo>
                    <a:lnTo>
                      <a:pt x="531" y="2215"/>
                    </a:lnTo>
                    <a:lnTo>
                      <a:pt x="584" y="2406"/>
                    </a:lnTo>
                    <a:lnTo>
                      <a:pt x="507" y="2694"/>
                    </a:lnTo>
                    <a:lnTo>
                      <a:pt x="705" y="2814"/>
                    </a:lnTo>
                    <a:lnTo>
                      <a:pt x="836" y="3159"/>
                    </a:lnTo>
                    <a:lnTo>
                      <a:pt x="997" y="3365"/>
                    </a:lnTo>
                    <a:lnTo>
                      <a:pt x="997" y="3549"/>
                    </a:lnTo>
                    <a:lnTo>
                      <a:pt x="836" y="4083"/>
                    </a:lnTo>
                    <a:lnTo>
                      <a:pt x="944" y="3930"/>
                    </a:lnTo>
                    <a:lnTo>
                      <a:pt x="1073" y="3397"/>
                    </a:lnTo>
                    <a:lnTo>
                      <a:pt x="1035" y="3261"/>
                    </a:lnTo>
                    <a:lnTo>
                      <a:pt x="931" y="3123"/>
                    </a:lnTo>
                    <a:lnTo>
                      <a:pt x="853" y="2935"/>
                    </a:lnTo>
                    <a:lnTo>
                      <a:pt x="1035" y="2694"/>
                    </a:lnTo>
                    <a:lnTo>
                      <a:pt x="1169" y="2350"/>
                    </a:lnTo>
                    <a:lnTo>
                      <a:pt x="1169" y="1988"/>
                    </a:lnTo>
                    <a:lnTo>
                      <a:pt x="1092" y="1684"/>
                    </a:lnTo>
                    <a:lnTo>
                      <a:pt x="956" y="1391"/>
                    </a:lnTo>
                    <a:lnTo>
                      <a:pt x="600" y="877"/>
                    </a:lnTo>
                    <a:lnTo>
                      <a:pt x="267" y="378"/>
                    </a:lnTo>
                    <a:lnTo>
                      <a:pt x="133" y="189"/>
                    </a:lnTo>
                    <a:lnTo>
                      <a:pt x="29" y="0"/>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966960" y="6013440"/>
                <a:ext cx="480960" cy="806400"/>
              </a:xfrm>
              <a:custGeom>
                <a:avLst/>
                <a:gdLst/>
                <a:ahLst/>
                <a:rect l="l" t="t" r="r" b="b"/>
                <a:pathLst>
                  <a:path w="3030" h="5080">
                    <a:moveTo>
                      <a:pt x="150" y="0"/>
                    </a:moveTo>
                    <a:lnTo>
                      <a:pt x="69" y="343"/>
                    </a:lnTo>
                    <a:lnTo>
                      <a:pt x="0" y="857"/>
                    </a:lnTo>
                    <a:lnTo>
                      <a:pt x="0" y="1307"/>
                    </a:lnTo>
                    <a:lnTo>
                      <a:pt x="50" y="1749"/>
                    </a:lnTo>
                    <a:lnTo>
                      <a:pt x="188" y="2261"/>
                    </a:lnTo>
                    <a:lnTo>
                      <a:pt x="480" y="3104"/>
                    </a:lnTo>
                    <a:lnTo>
                      <a:pt x="1022" y="4613"/>
                    </a:lnTo>
                    <a:lnTo>
                      <a:pt x="1156" y="4766"/>
                    </a:lnTo>
                    <a:lnTo>
                      <a:pt x="1156" y="4924"/>
                    </a:lnTo>
                    <a:lnTo>
                      <a:pt x="1274" y="5080"/>
                    </a:lnTo>
                    <a:lnTo>
                      <a:pt x="3030" y="5080"/>
                    </a:lnTo>
                    <a:lnTo>
                      <a:pt x="2246" y="4305"/>
                    </a:lnTo>
                    <a:lnTo>
                      <a:pt x="2128" y="4237"/>
                    </a:lnTo>
                    <a:lnTo>
                      <a:pt x="2007" y="4202"/>
                    </a:lnTo>
                    <a:lnTo>
                      <a:pt x="1822" y="4169"/>
                    </a:lnTo>
                    <a:lnTo>
                      <a:pt x="1755" y="4135"/>
                    </a:lnTo>
                    <a:lnTo>
                      <a:pt x="1702" y="4068"/>
                    </a:lnTo>
                    <a:lnTo>
                      <a:pt x="1702" y="4015"/>
                    </a:lnTo>
                    <a:lnTo>
                      <a:pt x="1715" y="3979"/>
                    </a:lnTo>
                    <a:lnTo>
                      <a:pt x="1766" y="3928"/>
                    </a:lnTo>
                    <a:lnTo>
                      <a:pt x="1848" y="3928"/>
                    </a:lnTo>
                    <a:lnTo>
                      <a:pt x="1942" y="3964"/>
                    </a:lnTo>
                    <a:lnTo>
                      <a:pt x="2096" y="4047"/>
                    </a:lnTo>
                    <a:lnTo>
                      <a:pt x="1916" y="3894"/>
                    </a:lnTo>
                    <a:lnTo>
                      <a:pt x="1778" y="3811"/>
                    </a:lnTo>
                    <a:lnTo>
                      <a:pt x="1636" y="3758"/>
                    </a:lnTo>
                    <a:lnTo>
                      <a:pt x="851" y="3566"/>
                    </a:lnTo>
                    <a:lnTo>
                      <a:pt x="705" y="3483"/>
                    </a:lnTo>
                    <a:lnTo>
                      <a:pt x="639" y="3362"/>
                    </a:lnTo>
                    <a:lnTo>
                      <a:pt x="609" y="3225"/>
                    </a:lnTo>
                    <a:lnTo>
                      <a:pt x="622" y="3087"/>
                    </a:lnTo>
                    <a:lnTo>
                      <a:pt x="667" y="3000"/>
                    </a:lnTo>
                    <a:lnTo>
                      <a:pt x="747" y="2984"/>
                    </a:lnTo>
                    <a:lnTo>
                      <a:pt x="851" y="2984"/>
                    </a:lnTo>
                    <a:lnTo>
                      <a:pt x="1727" y="3256"/>
                    </a:lnTo>
                    <a:lnTo>
                      <a:pt x="1090" y="2984"/>
                    </a:lnTo>
                    <a:lnTo>
                      <a:pt x="760" y="2780"/>
                    </a:lnTo>
                    <a:lnTo>
                      <a:pt x="518" y="2556"/>
                    </a:lnTo>
                    <a:lnTo>
                      <a:pt x="305" y="2230"/>
                    </a:lnTo>
                    <a:lnTo>
                      <a:pt x="158" y="1870"/>
                    </a:lnTo>
                    <a:lnTo>
                      <a:pt x="50" y="1490"/>
                    </a:lnTo>
                    <a:lnTo>
                      <a:pt x="12" y="1097"/>
                    </a:lnTo>
                    <a:lnTo>
                      <a:pt x="29" y="805"/>
                    </a:lnTo>
                    <a:lnTo>
                      <a:pt x="69" y="443"/>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1494000" y="6618240"/>
                <a:ext cx="350640" cy="201600"/>
              </a:xfrm>
              <a:custGeom>
                <a:avLst/>
                <a:gdLst/>
                <a:ahLst/>
                <a:rect l="l" t="t" r="r" b="b"/>
                <a:pathLst>
                  <a:path w="2208" h="1269">
                    <a:moveTo>
                      <a:pt x="1210" y="0"/>
                    </a:moveTo>
                    <a:lnTo>
                      <a:pt x="1503" y="236"/>
                    </a:lnTo>
                    <a:lnTo>
                      <a:pt x="1783" y="515"/>
                    </a:lnTo>
                    <a:lnTo>
                      <a:pt x="2007" y="802"/>
                    </a:lnTo>
                    <a:lnTo>
                      <a:pt x="2176" y="1113"/>
                    </a:lnTo>
                    <a:lnTo>
                      <a:pt x="2208" y="1199"/>
                    </a:lnTo>
                    <a:lnTo>
                      <a:pt x="2208" y="1269"/>
                    </a:lnTo>
                    <a:lnTo>
                      <a:pt x="0" y="1269"/>
                    </a:lnTo>
                    <a:lnTo>
                      <a:pt x="239" y="1163"/>
                    </a:lnTo>
                    <a:lnTo>
                      <a:pt x="531" y="955"/>
                    </a:lnTo>
                    <a:lnTo>
                      <a:pt x="864" y="682"/>
                    </a:lnTo>
                    <a:lnTo>
                      <a:pt x="1075" y="324"/>
                    </a:lnTo>
                    <a:lnTo>
                      <a:pt x="1090" y="426"/>
                    </a:lnTo>
                    <a:lnTo>
                      <a:pt x="982" y="682"/>
                    </a:lnTo>
                    <a:lnTo>
                      <a:pt x="1768" y="1095"/>
                    </a:lnTo>
                    <a:lnTo>
                      <a:pt x="1808" y="955"/>
                    </a:lnTo>
                    <a:lnTo>
                      <a:pt x="1808" y="839"/>
                    </a:lnTo>
                    <a:lnTo>
                      <a:pt x="1783" y="704"/>
                    </a:lnTo>
                    <a:lnTo>
                      <a:pt x="1674" y="494"/>
                    </a:lnTo>
                    <a:lnTo>
                      <a:pt x="1516" y="324"/>
                    </a:lnTo>
                    <a:lnTo>
                      <a:pt x="1344" y="131"/>
                    </a:lnTo>
                    <a:lnTo>
                      <a:pt x="1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1285920" y="6329520"/>
                <a:ext cx="144360" cy="241200"/>
              </a:xfrm>
              <a:custGeom>
                <a:avLst/>
                <a:gdLst/>
                <a:ahLst/>
                <a:rect l="l" t="t" r="r" b="b"/>
                <a:pathLst>
                  <a:path w="915" h="1527">
                    <a:moveTo>
                      <a:pt x="0" y="1527"/>
                    </a:moveTo>
                    <a:lnTo>
                      <a:pt x="53" y="1268"/>
                    </a:lnTo>
                    <a:lnTo>
                      <a:pt x="146" y="996"/>
                    </a:lnTo>
                    <a:lnTo>
                      <a:pt x="264" y="739"/>
                    </a:lnTo>
                    <a:lnTo>
                      <a:pt x="400" y="534"/>
                    </a:lnTo>
                    <a:lnTo>
                      <a:pt x="557" y="326"/>
                    </a:lnTo>
                    <a:lnTo>
                      <a:pt x="760" y="138"/>
                    </a:lnTo>
                    <a:lnTo>
                      <a:pt x="91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1209600" y="6081840"/>
                <a:ext cx="209520" cy="252360"/>
              </a:xfrm>
              <a:custGeom>
                <a:avLst/>
                <a:gdLst/>
                <a:ahLst/>
                <a:rect l="l" t="t" r="r" b="b"/>
                <a:pathLst>
                  <a:path w="1313" h="1595">
                    <a:moveTo>
                      <a:pt x="1313" y="1595"/>
                    </a:moveTo>
                    <a:lnTo>
                      <a:pt x="1073" y="1166"/>
                    </a:lnTo>
                    <a:lnTo>
                      <a:pt x="686" y="942"/>
                    </a:lnTo>
                    <a:lnTo>
                      <a:pt x="529" y="705"/>
                    </a:lnTo>
                    <a:lnTo>
                      <a:pt x="247" y="447"/>
                    </a:lnTo>
                    <a:lnTo>
                      <a:pt x="171" y="34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1531800" y="5813280"/>
                <a:ext cx="478080" cy="312840"/>
              </a:xfrm>
              <a:custGeom>
                <a:avLst/>
                <a:gdLst/>
                <a:ahLst/>
                <a:rect l="l" t="t" r="r" b="b"/>
                <a:pathLst>
                  <a:path w="3002" h="1970">
                    <a:moveTo>
                      <a:pt x="0" y="1648"/>
                    </a:moveTo>
                    <a:lnTo>
                      <a:pt x="1539" y="1267"/>
                    </a:lnTo>
                    <a:lnTo>
                      <a:pt x="1682" y="1167"/>
                    </a:lnTo>
                    <a:lnTo>
                      <a:pt x="1819" y="1108"/>
                    </a:lnTo>
                    <a:lnTo>
                      <a:pt x="2721" y="41"/>
                    </a:lnTo>
                    <a:lnTo>
                      <a:pt x="2799" y="0"/>
                    </a:lnTo>
                    <a:lnTo>
                      <a:pt x="2890" y="0"/>
                    </a:lnTo>
                    <a:lnTo>
                      <a:pt x="3002" y="83"/>
                    </a:lnTo>
                    <a:lnTo>
                      <a:pt x="2890" y="41"/>
                    </a:lnTo>
                    <a:lnTo>
                      <a:pt x="2828" y="41"/>
                    </a:lnTo>
                    <a:lnTo>
                      <a:pt x="2737" y="83"/>
                    </a:lnTo>
                    <a:lnTo>
                      <a:pt x="2549" y="344"/>
                    </a:lnTo>
                    <a:lnTo>
                      <a:pt x="2454" y="424"/>
                    </a:lnTo>
                    <a:lnTo>
                      <a:pt x="2426" y="484"/>
                    </a:lnTo>
                    <a:lnTo>
                      <a:pt x="2426" y="545"/>
                    </a:lnTo>
                    <a:lnTo>
                      <a:pt x="1990" y="1084"/>
                    </a:lnTo>
                    <a:lnTo>
                      <a:pt x="2454" y="746"/>
                    </a:lnTo>
                    <a:lnTo>
                      <a:pt x="2053" y="1229"/>
                    </a:lnTo>
                    <a:lnTo>
                      <a:pt x="2006" y="1328"/>
                    </a:lnTo>
                    <a:lnTo>
                      <a:pt x="203" y="1970"/>
                    </a:lnTo>
                    <a:lnTo>
                      <a:pt x="0" y="16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1935000" y="5823000"/>
                <a:ext cx="88920" cy="77760"/>
              </a:xfrm>
              <a:custGeom>
                <a:avLst/>
                <a:gdLst/>
                <a:ahLst/>
                <a:rect l="l" t="t" r="r" b="b"/>
                <a:pathLst>
                  <a:path w="560" h="485">
                    <a:moveTo>
                      <a:pt x="0" y="424"/>
                    </a:moveTo>
                    <a:lnTo>
                      <a:pt x="435" y="0"/>
                    </a:lnTo>
                    <a:lnTo>
                      <a:pt x="560" y="0"/>
                    </a:lnTo>
                    <a:lnTo>
                      <a:pt x="93" y="485"/>
                    </a:lnTo>
                    <a:lnTo>
                      <a:pt x="93" y="404"/>
                    </a:lnTo>
                    <a:lnTo>
                      <a:pt x="0" y="4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3" name=""/>
              <p:cNvSpPr/>
              <p:nvPr/>
            </p:nvSpPr>
            <p:spPr>
              <a:xfrm>
                <a:off x="1606680" y="5992920"/>
                <a:ext cx="449280" cy="209520"/>
              </a:xfrm>
              <a:custGeom>
                <a:avLst/>
                <a:gdLst/>
                <a:ahLst/>
                <a:rect l="l" t="t" r="r" b="b"/>
                <a:pathLst>
                  <a:path w="2833" h="1325">
                    <a:moveTo>
                      <a:pt x="63" y="1325"/>
                    </a:moveTo>
                    <a:lnTo>
                      <a:pt x="749" y="887"/>
                    </a:lnTo>
                    <a:lnTo>
                      <a:pt x="1262" y="663"/>
                    </a:lnTo>
                    <a:lnTo>
                      <a:pt x="1729" y="565"/>
                    </a:lnTo>
                    <a:lnTo>
                      <a:pt x="2130" y="523"/>
                    </a:lnTo>
                    <a:lnTo>
                      <a:pt x="2426" y="362"/>
                    </a:lnTo>
                    <a:lnTo>
                      <a:pt x="2833" y="0"/>
                    </a:lnTo>
                    <a:lnTo>
                      <a:pt x="2693" y="81"/>
                    </a:lnTo>
                    <a:lnTo>
                      <a:pt x="2582" y="81"/>
                    </a:lnTo>
                    <a:lnTo>
                      <a:pt x="2242" y="281"/>
                    </a:lnTo>
                    <a:lnTo>
                      <a:pt x="2178" y="402"/>
                    </a:lnTo>
                    <a:lnTo>
                      <a:pt x="2085" y="464"/>
                    </a:lnTo>
                    <a:lnTo>
                      <a:pt x="1884" y="501"/>
                    </a:lnTo>
                    <a:lnTo>
                      <a:pt x="1463" y="584"/>
                    </a:lnTo>
                    <a:lnTo>
                      <a:pt x="1218" y="646"/>
                    </a:lnTo>
                    <a:lnTo>
                      <a:pt x="872" y="786"/>
                    </a:lnTo>
                    <a:lnTo>
                      <a:pt x="685" y="866"/>
                    </a:lnTo>
                    <a:lnTo>
                      <a:pt x="0" y="1226"/>
                    </a:lnTo>
                    <a:lnTo>
                      <a:pt x="63" y="1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1955880" y="5823000"/>
                <a:ext cx="179280" cy="106200"/>
              </a:xfrm>
              <a:custGeom>
                <a:avLst/>
                <a:gdLst/>
                <a:ahLst/>
                <a:rect l="l" t="t" r="r" b="b"/>
                <a:pathLst>
                  <a:path w="1133" h="665">
                    <a:moveTo>
                      <a:pt x="0" y="665"/>
                    </a:moveTo>
                    <a:lnTo>
                      <a:pt x="45" y="563"/>
                    </a:lnTo>
                    <a:lnTo>
                      <a:pt x="247" y="485"/>
                    </a:lnTo>
                    <a:lnTo>
                      <a:pt x="513" y="265"/>
                    </a:lnTo>
                    <a:lnTo>
                      <a:pt x="746" y="302"/>
                    </a:lnTo>
                    <a:lnTo>
                      <a:pt x="809" y="265"/>
                    </a:lnTo>
                    <a:lnTo>
                      <a:pt x="822" y="201"/>
                    </a:lnTo>
                    <a:lnTo>
                      <a:pt x="464" y="0"/>
                    </a:lnTo>
                    <a:lnTo>
                      <a:pt x="540" y="0"/>
                    </a:lnTo>
                    <a:lnTo>
                      <a:pt x="869" y="182"/>
                    </a:lnTo>
                    <a:lnTo>
                      <a:pt x="993" y="424"/>
                    </a:lnTo>
                    <a:lnTo>
                      <a:pt x="1133" y="442"/>
                    </a:lnTo>
                    <a:lnTo>
                      <a:pt x="496" y="442"/>
                    </a:lnTo>
                    <a:lnTo>
                      <a:pt x="156" y="605"/>
                    </a:lnTo>
                    <a:lnTo>
                      <a:pt x="60" y="605"/>
                    </a:lnTo>
                    <a:lnTo>
                      <a:pt x="0"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1968480" y="5964120"/>
                <a:ext cx="38160" cy="38160"/>
              </a:xfrm>
              <a:custGeom>
                <a:avLst/>
                <a:gdLst/>
                <a:ahLst/>
                <a:rect l="l" t="t" r="r" b="b"/>
                <a:pathLst>
                  <a:path w="236" h="235">
                    <a:moveTo>
                      <a:pt x="96" y="235"/>
                    </a:moveTo>
                    <a:lnTo>
                      <a:pt x="236" y="0"/>
                    </a:lnTo>
                    <a:lnTo>
                      <a:pt x="67" y="135"/>
                    </a:lnTo>
                    <a:lnTo>
                      <a:pt x="0" y="235"/>
                    </a:lnTo>
                    <a:lnTo>
                      <a:pt x="96" y="2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6" name=""/>
              <p:cNvSpPr/>
              <p:nvPr/>
            </p:nvSpPr>
            <p:spPr>
              <a:xfrm>
                <a:off x="2006640" y="5894280"/>
                <a:ext cx="136440" cy="69840"/>
              </a:xfrm>
              <a:custGeom>
                <a:avLst/>
                <a:gdLst/>
                <a:ahLst/>
                <a:rect l="l" t="t" r="r" b="b"/>
                <a:pathLst>
                  <a:path w="857" h="447">
                    <a:moveTo>
                      <a:pt x="0" y="447"/>
                    </a:moveTo>
                    <a:lnTo>
                      <a:pt x="311" y="244"/>
                    </a:lnTo>
                    <a:lnTo>
                      <a:pt x="344" y="202"/>
                    </a:lnTo>
                    <a:lnTo>
                      <a:pt x="605" y="202"/>
                    </a:lnTo>
                    <a:lnTo>
                      <a:pt x="823" y="121"/>
                    </a:lnTo>
                    <a:lnTo>
                      <a:pt x="857" y="83"/>
                    </a:lnTo>
                    <a:lnTo>
                      <a:pt x="857" y="43"/>
                    </a:lnTo>
                    <a:lnTo>
                      <a:pt x="808"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57" name=""/>
              <p:cNvSpPr/>
              <p:nvPr/>
            </p:nvSpPr>
            <p:spPr>
              <a:xfrm>
                <a:off x="1979640" y="5945040"/>
                <a:ext cx="111240" cy="57240"/>
              </a:xfrm>
              <a:custGeom>
                <a:avLst/>
                <a:gdLst/>
                <a:ahLst/>
                <a:rect l="l" t="t" r="r" b="b"/>
                <a:pathLst>
                  <a:path w="698" h="355">
                    <a:moveTo>
                      <a:pt x="497" y="296"/>
                    </a:moveTo>
                    <a:lnTo>
                      <a:pt x="698" y="38"/>
                    </a:lnTo>
                    <a:lnTo>
                      <a:pt x="617" y="0"/>
                    </a:lnTo>
                    <a:lnTo>
                      <a:pt x="418" y="59"/>
                    </a:lnTo>
                    <a:lnTo>
                      <a:pt x="60" y="355"/>
                    </a:lnTo>
                    <a:lnTo>
                      <a:pt x="0" y="35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8" name=""/>
              <p:cNvSpPr/>
              <p:nvPr/>
            </p:nvSpPr>
            <p:spPr>
              <a:xfrm>
                <a:off x="1690560" y="5973840"/>
                <a:ext cx="524160" cy="780840"/>
              </a:xfrm>
              <a:custGeom>
                <a:avLst/>
                <a:gdLst/>
                <a:ahLst/>
                <a:rect l="l" t="t" r="r" b="b"/>
                <a:pathLst>
                  <a:path w="3301" h="4920">
                    <a:moveTo>
                      <a:pt x="0" y="3953"/>
                    </a:moveTo>
                    <a:lnTo>
                      <a:pt x="207" y="4054"/>
                    </a:lnTo>
                    <a:lnTo>
                      <a:pt x="375" y="4154"/>
                    </a:lnTo>
                    <a:lnTo>
                      <a:pt x="531" y="4294"/>
                    </a:lnTo>
                    <a:lnTo>
                      <a:pt x="689" y="4418"/>
                    </a:lnTo>
                    <a:lnTo>
                      <a:pt x="796" y="4194"/>
                    </a:lnTo>
                    <a:lnTo>
                      <a:pt x="1013" y="3896"/>
                    </a:lnTo>
                    <a:lnTo>
                      <a:pt x="1340" y="3514"/>
                    </a:lnTo>
                    <a:lnTo>
                      <a:pt x="1588" y="3188"/>
                    </a:lnTo>
                    <a:lnTo>
                      <a:pt x="1884" y="2788"/>
                    </a:lnTo>
                    <a:lnTo>
                      <a:pt x="2024" y="2428"/>
                    </a:lnTo>
                    <a:lnTo>
                      <a:pt x="2164" y="2208"/>
                    </a:lnTo>
                    <a:lnTo>
                      <a:pt x="2274" y="1964"/>
                    </a:lnTo>
                    <a:lnTo>
                      <a:pt x="2304" y="1683"/>
                    </a:lnTo>
                    <a:lnTo>
                      <a:pt x="2304" y="1003"/>
                    </a:lnTo>
                    <a:lnTo>
                      <a:pt x="2570" y="379"/>
                    </a:lnTo>
                    <a:lnTo>
                      <a:pt x="2397" y="982"/>
                    </a:lnTo>
                    <a:lnTo>
                      <a:pt x="2693" y="662"/>
                    </a:lnTo>
                    <a:lnTo>
                      <a:pt x="2959" y="116"/>
                    </a:lnTo>
                    <a:lnTo>
                      <a:pt x="3110" y="0"/>
                    </a:lnTo>
                    <a:lnTo>
                      <a:pt x="3223" y="0"/>
                    </a:lnTo>
                    <a:lnTo>
                      <a:pt x="3301" y="99"/>
                    </a:lnTo>
                    <a:lnTo>
                      <a:pt x="3206" y="298"/>
                    </a:lnTo>
                    <a:lnTo>
                      <a:pt x="3110" y="116"/>
                    </a:lnTo>
                    <a:lnTo>
                      <a:pt x="3017" y="116"/>
                    </a:lnTo>
                    <a:lnTo>
                      <a:pt x="2959" y="175"/>
                    </a:lnTo>
                    <a:lnTo>
                      <a:pt x="2737" y="719"/>
                    </a:lnTo>
                    <a:lnTo>
                      <a:pt x="2737" y="821"/>
                    </a:lnTo>
                    <a:lnTo>
                      <a:pt x="2770" y="902"/>
                    </a:lnTo>
                    <a:lnTo>
                      <a:pt x="2833" y="923"/>
                    </a:lnTo>
                    <a:lnTo>
                      <a:pt x="2973" y="923"/>
                    </a:lnTo>
                    <a:lnTo>
                      <a:pt x="2939" y="1022"/>
                    </a:lnTo>
                    <a:lnTo>
                      <a:pt x="2910" y="1221"/>
                    </a:lnTo>
                    <a:lnTo>
                      <a:pt x="2850" y="1244"/>
                    </a:lnTo>
                    <a:lnTo>
                      <a:pt x="2770" y="1361"/>
                    </a:lnTo>
                    <a:lnTo>
                      <a:pt x="2723" y="1562"/>
                    </a:lnTo>
                    <a:lnTo>
                      <a:pt x="2615" y="2270"/>
                    </a:lnTo>
                    <a:lnTo>
                      <a:pt x="2553" y="2246"/>
                    </a:lnTo>
                    <a:lnTo>
                      <a:pt x="2505" y="2246"/>
                    </a:lnTo>
                    <a:lnTo>
                      <a:pt x="2459" y="2288"/>
                    </a:lnTo>
                    <a:lnTo>
                      <a:pt x="1993" y="3351"/>
                    </a:lnTo>
                    <a:lnTo>
                      <a:pt x="1668" y="3953"/>
                    </a:lnTo>
                    <a:lnTo>
                      <a:pt x="1340" y="4376"/>
                    </a:lnTo>
                    <a:lnTo>
                      <a:pt x="1060" y="4698"/>
                    </a:lnTo>
                    <a:lnTo>
                      <a:pt x="922" y="4920"/>
                    </a:lnTo>
                    <a:lnTo>
                      <a:pt x="860" y="4780"/>
                    </a:lnTo>
                    <a:lnTo>
                      <a:pt x="764" y="4618"/>
                    </a:lnTo>
                    <a:lnTo>
                      <a:pt x="593" y="4418"/>
                    </a:lnTo>
                    <a:lnTo>
                      <a:pt x="375" y="4213"/>
                    </a:lnTo>
                    <a:lnTo>
                      <a:pt x="191" y="4073"/>
                    </a:lnTo>
                    <a:lnTo>
                      <a:pt x="0" y="39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2101680" y="6005520"/>
                <a:ext cx="34920" cy="28440"/>
              </a:xfrm>
              <a:custGeom>
                <a:avLst/>
                <a:gdLst/>
                <a:ahLst/>
                <a:rect l="l" t="t" r="r" b="b"/>
                <a:pathLst>
                  <a:path w="218" h="182">
                    <a:moveTo>
                      <a:pt x="0" y="162"/>
                    </a:moveTo>
                    <a:lnTo>
                      <a:pt x="218" y="0"/>
                    </a:lnTo>
                    <a:lnTo>
                      <a:pt x="218" y="101"/>
                    </a:lnTo>
                    <a:lnTo>
                      <a:pt x="46" y="182"/>
                    </a:lnTo>
                    <a:lnTo>
                      <a:pt x="0" y="16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60" name=""/>
              <p:cNvSpPr/>
              <p:nvPr/>
            </p:nvSpPr>
            <p:spPr>
              <a:xfrm>
                <a:off x="2154240" y="5977080"/>
                <a:ext cx="136440" cy="168120"/>
              </a:xfrm>
              <a:custGeom>
                <a:avLst/>
                <a:gdLst/>
                <a:ahLst/>
                <a:rect l="l" t="t" r="r" b="b"/>
                <a:pathLst>
                  <a:path w="855" h="1063">
                    <a:moveTo>
                      <a:pt x="0" y="905"/>
                    </a:moveTo>
                    <a:lnTo>
                      <a:pt x="280" y="121"/>
                    </a:lnTo>
                    <a:lnTo>
                      <a:pt x="449" y="17"/>
                    </a:lnTo>
                    <a:lnTo>
                      <a:pt x="530" y="0"/>
                    </a:lnTo>
                    <a:lnTo>
                      <a:pt x="576" y="0"/>
                    </a:lnTo>
                    <a:lnTo>
                      <a:pt x="637" y="39"/>
                    </a:lnTo>
                    <a:lnTo>
                      <a:pt x="669" y="98"/>
                    </a:lnTo>
                    <a:lnTo>
                      <a:pt x="669" y="179"/>
                    </a:lnTo>
                    <a:lnTo>
                      <a:pt x="733" y="157"/>
                    </a:lnTo>
                    <a:lnTo>
                      <a:pt x="792" y="157"/>
                    </a:lnTo>
                    <a:lnTo>
                      <a:pt x="855" y="240"/>
                    </a:lnTo>
                    <a:lnTo>
                      <a:pt x="855" y="441"/>
                    </a:lnTo>
                    <a:lnTo>
                      <a:pt x="777" y="784"/>
                    </a:lnTo>
                    <a:lnTo>
                      <a:pt x="653" y="905"/>
                    </a:lnTo>
                    <a:lnTo>
                      <a:pt x="559" y="1063"/>
                    </a:lnTo>
                    <a:lnTo>
                      <a:pt x="669" y="784"/>
                    </a:lnTo>
                    <a:lnTo>
                      <a:pt x="746" y="682"/>
                    </a:lnTo>
                    <a:lnTo>
                      <a:pt x="826" y="401"/>
                    </a:lnTo>
                    <a:lnTo>
                      <a:pt x="826" y="318"/>
                    </a:lnTo>
                    <a:lnTo>
                      <a:pt x="746" y="261"/>
                    </a:lnTo>
                    <a:lnTo>
                      <a:pt x="653" y="261"/>
                    </a:lnTo>
                    <a:lnTo>
                      <a:pt x="530" y="621"/>
                    </a:lnTo>
                    <a:lnTo>
                      <a:pt x="420" y="744"/>
                    </a:lnTo>
                    <a:lnTo>
                      <a:pt x="324" y="943"/>
                    </a:lnTo>
                    <a:lnTo>
                      <a:pt x="604" y="261"/>
                    </a:lnTo>
                    <a:lnTo>
                      <a:pt x="604" y="179"/>
                    </a:lnTo>
                    <a:lnTo>
                      <a:pt x="576" y="121"/>
                    </a:lnTo>
                    <a:lnTo>
                      <a:pt x="513" y="98"/>
                    </a:lnTo>
                    <a:lnTo>
                      <a:pt x="449" y="98"/>
                    </a:lnTo>
                    <a:lnTo>
                      <a:pt x="388" y="140"/>
                    </a:lnTo>
                    <a:lnTo>
                      <a:pt x="13" y="1004"/>
                    </a:lnTo>
                    <a:lnTo>
                      <a:pt x="0" y="9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1925640" y="6043680"/>
                <a:ext cx="379440" cy="771480"/>
              </a:xfrm>
              <a:custGeom>
                <a:avLst/>
                <a:gdLst/>
                <a:ahLst/>
                <a:rect l="l" t="t" r="r" b="b"/>
                <a:pathLst>
                  <a:path w="2395" h="4860">
                    <a:moveTo>
                      <a:pt x="0" y="4860"/>
                    </a:moveTo>
                    <a:lnTo>
                      <a:pt x="216" y="4556"/>
                    </a:lnTo>
                    <a:lnTo>
                      <a:pt x="417" y="4238"/>
                    </a:lnTo>
                    <a:lnTo>
                      <a:pt x="652" y="3735"/>
                    </a:lnTo>
                    <a:lnTo>
                      <a:pt x="1164" y="2412"/>
                    </a:lnTo>
                    <a:lnTo>
                      <a:pt x="1321" y="2047"/>
                    </a:lnTo>
                    <a:lnTo>
                      <a:pt x="1446" y="1848"/>
                    </a:lnTo>
                    <a:lnTo>
                      <a:pt x="1615" y="1645"/>
                    </a:lnTo>
                    <a:lnTo>
                      <a:pt x="1804" y="1465"/>
                    </a:lnTo>
                    <a:lnTo>
                      <a:pt x="1927" y="1304"/>
                    </a:lnTo>
                    <a:lnTo>
                      <a:pt x="1990" y="1122"/>
                    </a:lnTo>
                    <a:lnTo>
                      <a:pt x="2050" y="944"/>
                    </a:lnTo>
                    <a:lnTo>
                      <a:pt x="2334" y="442"/>
                    </a:lnTo>
                    <a:lnTo>
                      <a:pt x="2363" y="279"/>
                    </a:lnTo>
                    <a:lnTo>
                      <a:pt x="2363" y="177"/>
                    </a:lnTo>
                    <a:lnTo>
                      <a:pt x="2334" y="102"/>
                    </a:lnTo>
                    <a:lnTo>
                      <a:pt x="2272" y="38"/>
                    </a:lnTo>
                    <a:lnTo>
                      <a:pt x="2285" y="0"/>
                    </a:lnTo>
                    <a:lnTo>
                      <a:pt x="2363" y="59"/>
                    </a:lnTo>
                    <a:lnTo>
                      <a:pt x="2395" y="140"/>
                    </a:lnTo>
                    <a:lnTo>
                      <a:pt x="2395" y="279"/>
                    </a:lnTo>
                    <a:lnTo>
                      <a:pt x="2363" y="442"/>
                    </a:lnTo>
                    <a:lnTo>
                      <a:pt x="2301" y="582"/>
                    </a:lnTo>
                    <a:lnTo>
                      <a:pt x="2099" y="963"/>
                    </a:lnTo>
                    <a:lnTo>
                      <a:pt x="1944" y="1385"/>
                    </a:lnTo>
                    <a:lnTo>
                      <a:pt x="1770" y="1584"/>
                    </a:lnTo>
                    <a:lnTo>
                      <a:pt x="1524" y="1848"/>
                    </a:lnTo>
                    <a:lnTo>
                      <a:pt x="1353" y="2085"/>
                    </a:lnTo>
                    <a:lnTo>
                      <a:pt x="1213" y="2412"/>
                    </a:lnTo>
                    <a:lnTo>
                      <a:pt x="637" y="3854"/>
                    </a:lnTo>
                    <a:lnTo>
                      <a:pt x="390" y="4378"/>
                    </a:lnTo>
                    <a:lnTo>
                      <a:pt x="44" y="4860"/>
                    </a:lnTo>
                    <a:lnTo>
                      <a:pt x="0" y="4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1677960" y="6245280"/>
                <a:ext cx="301680" cy="66600"/>
              </a:xfrm>
              <a:custGeom>
                <a:avLst/>
                <a:gdLst/>
                <a:ahLst/>
                <a:rect l="l" t="t" r="r" b="b"/>
                <a:pathLst>
                  <a:path w="1900" h="419">
                    <a:moveTo>
                      <a:pt x="61" y="419"/>
                    </a:moveTo>
                    <a:lnTo>
                      <a:pt x="389" y="362"/>
                    </a:lnTo>
                    <a:lnTo>
                      <a:pt x="885" y="199"/>
                    </a:lnTo>
                    <a:lnTo>
                      <a:pt x="1416" y="60"/>
                    </a:lnTo>
                    <a:lnTo>
                      <a:pt x="1711" y="60"/>
                    </a:lnTo>
                    <a:lnTo>
                      <a:pt x="1900" y="97"/>
                    </a:lnTo>
                    <a:lnTo>
                      <a:pt x="1833" y="38"/>
                    </a:lnTo>
                    <a:lnTo>
                      <a:pt x="1694" y="0"/>
                    </a:lnTo>
                    <a:lnTo>
                      <a:pt x="1416" y="0"/>
                    </a:lnTo>
                    <a:lnTo>
                      <a:pt x="1120" y="60"/>
                    </a:lnTo>
                    <a:lnTo>
                      <a:pt x="419" y="258"/>
                    </a:lnTo>
                    <a:lnTo>
                      <a:pt x="0" y="341"/>
                    </a:lnTo>
                    <a:lnTo>
                      <a:pt x="61" y="4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a:off x="2327400" y="6576840"/>
                <a:ext cx="29880" cy="222480"/>
              </a:xfrm>
              <a:custGeom>
                <a:avLst/>
                <a:gdLst/>
                <a:ahLst/>
                <a:rect l="l" t="t" r="r" b="b"/>
                <a:pathLst>
                  <a:path w="193" h="1395">
                    <a:moveTo>
                      <a:pt x="0" y="0"/>
                    </a:moveTo>
                    <a:lnTo>
                      <a:pt x="94" y="329"/>
                    </a:lnTo>
                    <a:lnTo>
                      <a:pt x="127" y="576"/>
                    </a:lnTo>
                    <a:lnTo>
                      <a:pt x="127" y="1027"/>
                    </a:lnTo>
                    <a:lnTo>
                      <a:pt x="67" y="1395"/>
                    </a:lnTo>
                    <a:lnTo>
                      <a:pt x="160" y="1069"/>
                    </a:lnTo>
                    <a:lnTo>
                      <a:pt x="193" y="822"/>
                    </a:lnTo>
                    <a:lnTo>
                      <a:pt x="193" y="496"/>
                    </a:lnTo>
                    <a:lnTo>
                      <a:pt x="94" y="1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flipH="1" flipV="1">
                <a:off x="2130480" y="6392880"/>
                <a:ext cx="479520" cy="42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flipH="1" flipV="1">
                <a:off x="1800000" y="6098760"/>
                <a:ext cx="23940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flipH="1" flipV="1">
                <a:off x="1571400" y="5899320"/>
                <a:ext cx="15372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flipV="1">
                <a:off x="2150640" y="6359040"/>
                <a:ext cx="51588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flipV="1">
                <a:off x="1846440" y="6087600"/>
                <a:ext cx="20952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1576440" y="5850000"/>
                <a:ext cx="195120" cy="17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flipV="1">
                <a:off x="1571760" y="5343120"/>
                <a:ext cx="503280" cy="29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189160" y="5791320"/>
                <a:ext cx="844560" cy="615960"/>
              </a:xfrm>
              <a:custGeom>
                <a:avLst/>
                <a:gdLst/>
                <a:ahLst/>
                <a:rect l="l" t="t" r="r" b="b"/>
                <a:pathLst>
                  <a:path w="5313" h="3875">
                    <a:moveTo>
                      <a:pt x="5313" y="0"/>
                    </a:moveTo>
                    <a:lnTo>
                      <a:pt x="769" y="3875"/>
                    </a:lnTo>
                    <a:lnTo>
                      <a:pt x="0" y="32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flipV="1">
                <a:off x="1924200" y="6076800"/>
                <a:ext cx="133200" cy="11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1803240" y="5718240"/>
                <a:ext cx="211320" cy="272880"/>
              </a:xfrm>
              <a:custGeom>
                <a:avLst/>
                <a:gdLst/>
                <a:ahLst/>
                <a:rect l="l" t="t" r="r" b="b"/>
                <a:pathLst>
                  <a:path w="1332" h="1720">
                    <a:moveTo>
                      <a:pt x="136" y="1720"/>
                    </a:moveTo>
                    <a:lnTo>
                      <a:pt x="0" y="1600"/>
                    </a:lnTo>
                    <a:lnTo>
                      <a:pt x="78" y="1340"/>
                    </a:lnTo>
                    <a:lnTo>
                      <a:pt x="133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2014560" y="5718240"/>
                <a:ext cx="581040" cy="617400"/>
              </a:xfrm>
              <a:custGeom>
                <a:avLst/>
                <a:gdLst/>
                <a:ahLst/>
                <a:rect l="l" t="t" r="r" b="b"/>
                <a:pathLst>
                  <a:path w="3666" h="3892">
                    <a:moveTo>
                      <a:pt x="0" y="0"/>
                    </a:moveTo>
                    <a:lnTo>
                      <a:pt x="3666" y="2098"/>
                    </a:lnTo>
                    <a:lnTo>
                      <a:pt x="1973" y="3892"/>
                    </a:lnTo>
                    <a:lnTo>
                      <a:pt x="1389" y="34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flipH="1" flipV="1">
                <a:off x="1976400" y="6057720"/>
                <a:ext cx="842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6" name=""/>
              <p:cNvSpPr/>
              <p:nvPr/>
            </p:nvSpPr>
            <p:spPr>
              <a:xfrm>
                <a:off x="1817640" y="5931000"/>
                <a:ext cx="3168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7" name=""/>
              <p:cNvSpPr/>
              <p:nvPr/>
            </p:nvSpPr>
            <p:spPr>
              <a:xfrm>
                <a:off x="2014560" y="6029280"/>
                <a:ext cx="684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8" name=""/>
              <p:cNvSpPr/>
              <p:nvPr/>
            </p:nvSpPr>
            <p:spPr>
              <a:xfrm>
                <a:off x="2009880" y="5807160"/>
                <a:ext cx="465120" cy="450720"/>
              </a:xfrm>
              <a:custGeom>
                <a:avLst/>
                <a:gdLst/>
                <a:ahLst/>
                <a:rect l="l" t="t" r="r" b="b"/>
                <a:pathLst>
                  <a:path w="2922" h="2844">
                    <a:moveTo>
                      <a:pt x="1512" y="2552"/>
                    </a:moveTo>
                    <a:lnTo>
                      <a:pt x="1897" y="2844"/>
                    </a:lnTo>
                    <a:lnTo>
                      <a:pt x="2922" y="176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014560" y="5135400"/>
                <a:ext cx="665280" cy="916200"/>
              </a:xfrm>
              <a:custGeom>
                <a:avLst/>
                <a:gdLst/>
                <a:ahLst/>
                <a:rect l="l" t="t" r="r" b="b"/>
                <a:pathLst>
                  <a:path w="4183" h="5770">
                    <a:moveTo>
                      <a:pt x="0" y="3668"/>
                    </a:moveTo>
                    <a:lnTo>
                      <a:pt x="615" y="0"/>
                    </a:lnTo>
                    <a:lnTo>
                      <a:pt x="4183" y="1522"/>
                    </a:lnTo>
                    <a:lnTo>
                      <a:pt x="3663" y="57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flipV="1">
                <a:off x="2679840" y="5168880"/>
                <a:ext cx="352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flipV="1">
                <a:off x="2112840" y="5052600"/>
                <a:ext cx="2206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2" name=""/>
              <p:cNvSpPr/>
              <p:nvPr/>
            </p:nvSpPr>
            <p:spPr>
              <a:xfrm>
                <a:off x="2063880" y="5208480"/>
                <a:ext cx="561960" cy="765360"/>
              </a:xfrm>
              <a:custGeom>
                <a:avLst/>
                <a:gdLst/>
                <a:ahLst/>
                <a:rect l="l" t="t" r="r" b="b"/>
                <a:pathLst>
                  <a:path w="3532" h="4815">
                    <a:moveTo>
                      <a:pt x="514" y="0"/>
                    </a:moveTo>
                    <a:lnTo>
                      <a:pt x="3532" y="1268"/>
                    </a:lnTo>
                    <a:lnTo>
                      <a:pt x="3112" y="4815"/>
                    </a:lnTo>
                    <a:lnTo>
                      <a:pt x="0" y="3041"/>
                    </a:lnTo>
                    <a:lnTo>
                      <a:pt x="51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2087640" y="5218200"/>
                <a:ext cx="473040" cy="714240"/>
              </a:xfrm>
              <a:custGeom>
                <a:avLst/>
                <a:gdLst/>
                <a:ahLst/>
                <a:rect l="l" t="t" r="r" b="b"/>
                <a:pathLst>
                  <a:path w="2985" h="4500">
                    <a:moveTo>
                      <a:pt x="469" y="0"/>
                    </a:moveTo>
                    <a:lnTo>
                      <a:pt x="0" y="2856"/>
                    </a:lnTo>
                    <a:lnTo>
                      <a:pt x="2985" y="45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flipV="1">
                <a:off x="2063880" y="5671800"/>
                <a:ext cx="205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5" name=""/>
              <p:cNvSpPr/>
              <p:nvPr/>
            </p:nvSpPr>
            <p:spPr>
              <a:xfrm flipH="1">
                <a:off x="2311560" y="6335640"/>
                <a:ext cx="158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1086" name=""/>
            <p:cNvSpPr/>
            <p:nvPr/>
          </p:nvSpPr>
          <p:spPr>
            <a:xfrm>
              <a:off x="3276720" y="2357280"/>
              <a:ext cx="2895480" cy="4343400"/>
            </a:xfrm>
            <a:custGeom>
              <a:avLst/>
              <a:gdLst/>
              <a:ahLst/>
              <a:rect l="l" t="t" r="r" b="b"/>
              <a:pathLst>
                <a:path w="1824" h="2736">
                  <a:moveTo>
                    <a:pt x="1392" y="0"/>
                  </a:moveTo>
                  <a:lnTo>
                    <a:pt x="1824" y="96"/>
                  </a:lnTo>
                  <a:lnTo>
                    <a:pt x="1488" y="1392"/>
                  </a:lnTo>
                  <a:lnTo>
                    <a:pt x="1680" y="2736"/>
                  </a:lnTo>
                  <a:lnTo>
                    <a:pt x="0" y="2736"/>
                  </a:lnTo>
                  <a:lnTo>
                    <a:pt x="624" y="1248"/>
                  </a:lnTo>
                  <a:lnTo>
                    <a:pt x="1392" y="0"/>
                  </a:lnTo>
                  <a:close/>
                </a:path>
              </a:pathLst>
            </a:custGeom>
            <a:gradFill rotWithShape="0">
              <a:gsLst>
                <a:gs pos="0">
                  <a:srgbClr val="ffcc00"/>
                </a:gs>
                <a:gs pos="100000">
                  <a:srgbClr val="99cc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087" name=""/>
            <p:cNvGrpSpPr/>
            <p:nvPr/>
          </p:nvGrpSpPr>
          <p:grpSpPr>
            <a:xfrm>
              <a:off x="3260880" y="5856120"/>
              <a:ext cx="1336680" cy="841680"/>
              <a:chOff x="3260880" y="5856120"/>
              <a:chExt cx="1336680" cy="841680"/>
            </a:xfrm>
          </p:grpSpPr>
          <p:sp>
            <p:nvSpPr>
              <p:cNvPr id="1088" name=""/>
              <p:cNvSpPr/>
              <p:nvPr/>
            </p:nvSpPr>
            <p:spPr>
              <a:xfrm>
                <a:off x="3609360" y="5886000"/>
                <a:ext cx="965520" cy="429840"/>
              </a:xfrm>
              <a:custGeom>
                <a:avLst/>
                <a:gdLst/>
                <a:ahLst/>
                <a:rect l="l" t="t" r="r" b="b"/>
                <a:pathLst>
                  <a:path w="906" h="440">
                    <a:moveTo>
                      <a:pt x="0" y="439"/>
                    </a:moveTo>
                    <a:lnTo>
                      <a:pt x="905" y="439"/>
                    </a:lnTo>
                    <a:lnTo>
                      <a:pt x="905" y="0"/>
                    </a:lnTo>
                    <a:lnTo>
                      <a:pt x="0" y="0"/>
                    </a:lnTo>
                    <a:lnTo>
                      <a:pt x="0" y="43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3609360" y="6314760"/>
                <a:ext cx="969840" cy="18360"/>
              </a:xfrm>
              <a:custGeom>
                <a:avLst/>
                <a:gdLst/>
                <a:ahLst/>
                <a:rect l="l" t="t" r="r" b="b"/>
                <a:pathLst>
                  <a:path w="910" h="19">
                    <a:moveTo>
                      <a:pt x="897" y="9"/>
                    </a:moveTo>
                    <a:lnTo>
                      <a:pt x="903" y="0"/>
                    </a:lnTo>
                    <a:lnTo>
                      <a:pt x="0" y="0"/>
                    </a:lnTo>
                    <a:lnTo>
                      <a:pt x="0" y="18"/>
                    </a:lnTo>
                    <a:lnTo>
                      <a:pt x="903" y="18"/>
                    </a:lnTo>
                    <a:lnTo>
                      <a:pt x="909" y="9"/>
                    </a:lnTo>
                    <a:lnTo>
                      <a:pt x="903" y="18"/>
                    </a:lnTo>
                    <a:lnTo>
                      <a:pt x="906" y="18"/>
                    </a:lnTo>
                    <a:lnTo>
                      <a:pt x="907" y="15"/>
                    </a:lnTo>
                    <a:lnTo>
                      <a:pt x="907" y="15"/>
                    </a:lnTo>
                    <a:lnTo>
                      <a:pt x="909" y="9"/>
                    </a:lnTo>
                    <a:lnTo>
                      <a:pt x="907" y="6"/>
                    </a:lnTo>
                    <a:lnTo>
                      <a:pt x="907" y="3"/>
                    </a:lnTo>
                    <a:lnTo>
                      <a:pt x="906" y="3"/>
                    </a:lnTo>
                    <a:lnTo>
                      <a:pt x="903" y="0"/>
                    </a:lnTo>
                    <a:lnTo>
                      <a:pt x="897" y="9"/>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90" name=""/>
              <p:cNvSpPr/>
              <p:nvPr/>
            </p:nvSpPr>
            <p:spPr>
              <a:xfrm>
                <a:off x="4574160" y="5880240"/>
                <a:ext cx="23400" cy="435600"/>
              </a:xfrm>
              <a:custGeom>
                <a:avLst/>
                <a:gdLst/>
                <a:ahLst/>
                <a:rect l="l" t="t" r="r" b="b"/>
                <a:pathLst>
                  <a:path w="22" h="446">
                    <a:moveTo>
                      <a:pt x="10" y="15"/>
                    </a:moveTo>
                    <a:lnTo>
                      <a:pt x="0" y="7"/>
                    </a:lnTo>
                    <a:lnTo>
                      <a:pt x="0" y="445"/>
                    </a:lnTo>
                    <a:lnTo>
                      <a:pt x="21" y="445"/>
                    </a:lnTo>
                    <a:lnTo>
                      <a:pt x="21" y="7"/>
                    </a:lnTo>
                    <a:lnTo>
                      <a:pt x="10" y="0"/>
                    </a:lnTo>
                    <a:lnTo>
                      <a:pt x="21" y="7"/>
                    </a:lnTo>
                    <a:lnTo>
                      <a:pt x="21" y="4"/>
                    </a:lnTo>
                    <a:lnTo>
                      <a:pt x="15" y="2"/>
                    </a:lnTo>
                    <a:lnTo>
                      <a:pt x="15" y="1"/>
                    </a:lnTo>
                    <a:lnTo>
                      <a:pt x="10" y="0"/>
                    </a:lnTo>
                    <a:lnTo>
                      <a:pt x="5" y="1"/>
                    </a:lnTo>
                    <a:lnTo>
                      <a:pt x="5" y="2"/>
                    </a:lnTo>
                    <a:lnTo>
                      <a:pt x="0" y="4"/>
                    </a:lnTo>
                    <a:lnTo>
                      <a:pt x="0" y="7"/>
                    </a:lnTo>
                    <a:lnTo>
                      <a:pt x="10"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3603960" y="5880240"/>
                <a:ext cx="970920" cy="19440"/>
              </a:xfrm>
              <a:custGeom>
                <a:avLst/>
                <a:gdLst/>
                <a:ahLst/>
                <a:rect l="l" t="t" r="r" b="b"/>
                <a:pathLst>
                  <a:path w="911" h="20">
                    <a:moveTo>
                      <a:pt x="9" y="9"/>
                    </a:moveTo>
                    <a:lnTo>
                      <a:pt x="4" y="19"/>
                    </a:lnTo>
                    <a:lnTo>
                      <a:pt x="910" y="19"/>
                    </a:lnTo>
                    <a:lnTo>
                      <a:pt x="910" y="0"/>
                    </a:lnTo>
                    <a:lnTo>
                      <a:pt x="4" y="0"/>
                    </a:lnTo>
                    <a:lnTo>
                      <a:pt x="0" y="9"/>
                    </a:lnTo>
                    <a:lnTo>
                      <a:pt x="4" y="0"/>
                    </a:lnTo>
                    <a:lnTo>
                      <a:pt x="2" y="2"/>
                    </a:lnTo>
                    <a:lnTo>
                      <a:pt x="1" y="2"/>
                    </a:lnTo>
                    <a:lnTo>
                      <a:pt x="0" y="4"/>
                    </a:lnTo>
                    <a:lnTo>
                      <a:pt x="0" y="9"/>
                    </a:lnTo>
                    <a:lnTo>
                      <a:pt x="0" y="14"/>
                    </a:lnTo>
                    <a:lnTo>
                      <a:pt x="1" y="16"/>
                    </a:lnTo>
                    <a:lnTo>
                      <a:pt x="2" y="16"/>
                    </a:lnTo>
                    <a:lnTo>
                      <a:pt x="4" y="19"/>
                    </a:lnTo>
                    <a:lnTo>
                      <a:pt x="9" y="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92" name=""/>
              <p:cNvSpPr/>
              <p:nvPr/>
            </p:nvSpPr>
            <p:spPr>
              <a:xfrm>
                <a:off x="3603960" y="5886000"/>
                <a:ext cx="25560" cy="435600"/>
              </a:xfrm>
              <a:custGeom>
                <a:avLst/>
                <a:gdLst/>
                <a:ahLst/>
                <a:rect l="l" t="t" r="r" b="b"/>
                <a:pathLst>
                  <a:path w="24" h="446">
                    <a:moveTo>
                      <a:pt x="15" y="430"/>
                    </a:moveTo>
                    <a:lnTo>
                      <a:pt x="23" y="437"/>
                    </a:lnTo>
                    <a:lnTo>
                      <a:pt x="23" y="0"/>
                    </a:lnTo>
                    <a:lnTo>
                      <a:pt x="0" y="0"/>
                    </a:lnTo>
                    <a:lnTo>
                      <a:pt x="0" y="437"/>
                    </a:lnTo>
                    <a:lnTo>
                      <a:pt x="15" y="445"/>
                    </a:lnTo>
                    <a:lnTo>
                      <a:pt x="0" y="437"/>
                    </a:lnTo>
                    <a:lnTo>
                      <a:pt x="0" y="441"/>
                    </a:lnTo>
                    <a:lnTo>
                      <a:pt x="7" y="443"/>
                    </a:lnTo>
                    <a:lnTo>
                      <a:pt x="7" y="445"/>
                    </a:lnTo>
                    <a:lnTo>
                      <a:pt x="15" y="445"/>
                    </a:lnTo>
                    <a:lnTo>
                      <a:pt x="15" y="445"/>
                    </a:lnTo>
                    <a:lnTo>
                      <a:pt x="23" y="443"/>
                    </a:lnTo>
                    <a:lnTo>
                      <a:pt x="23" y="441"/>
                    </a:lnTo>
                    <a:lnTo>
                      <a:pt x="23" y="437"/>
                    </a:lnTo>
                    <a:lnTo>
                      <a:pt x="15" y="43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65200" y="5886000"/>
                <a:ext cx="339840" cy="697320"/>
              </a:xfrm>
              <a:custGeom>
                <a:avLst/>
                <a:gdLst/>
                <a:ahLst/>
                <a:rect l="l" t="t" r="r" b="b"/>
                <a:pathLst>
                  <a:path w="319" h="714">
                    <a:moveTo>
                      <a:pt x="0" y="713"/>
                    </a:moveTo>
                    <a:lnTo>
                      <a:pt x="318" y="713"/>
                    </a:lnTo>
                    <a:lnTo>
                      <a:pt x="318" y="0"/>
                    </a:lnTo>
                    <a:lnTo>
                      <a:pt x="0" y="0"/>
                    </a:lnTo>
                    <a:lnTo>
                      <a:pt x="0" y="7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3265200" y="6582600"/>
                <a:ext cx="344880" cy="19440"/>
              </a:xfrm>
              <a:custGeom>
                <a:avLst/>
                <a:gdLst/>
                <a:ahLst/>
                <a:rect l="l" t="t" r="r" b="b"/>
                <a:pathLst>
                  <a:path w="324" h="20">
                    <a:moveTo>
                      <a:pt x="313" y="10"/>
                    </a:moveTo>
                    <a:lnTo>
                      <a:pt x="318" y="0"/>
                    </a:lnTo>
                    <a:lnTo>
                      <a:pt x="0" y="0"/>
                    </a:lnTo>
                    <a:lnTo>
                      <a:pt x="0" y="19"/>
                    </a:lnTo>
                    <a:lnTo>
                      <a:pt x="318" y="19"/>
                    </a:lnTo>
                    <a:lnTo>
                      <a:pt x="323" y="10"/>
                    </a:lnTo>
                    <a:lnTo>
                      <a:pt x="318" y="19"/>
                    </a:lnTo>
                    <a:lnTo>
                      <a:pt x="320" y="19"/>
                    </a:lnTo>
                    <a:lnTo>
                      <a:pt x="321" y="16"/>
                    </a:lnTo>
                    <a:lnTo>
                      <a:pt x="323" y="13"/>
                    </a:lnTo>
                    <a:lnTo>
                      <a:pt x="323" y="10"/>
                    </a:lnTo>
                    <a:lnTo>
                      <a:pt x="323" y="5"/>
                    </a:lnTo>
                    <a:lnTo>
                      <a:pt x="321" y="2"/>
                    </a:lnTo>
                    <a:lnTo>
                      <a:pt x="320" y="2"/>
                    </a:lnTo>
                    <a:lnTo>
                      <a:pt x="318" y="0"/>
                    </a:lnTo>
                    <a:lnTo>
                      <a:pt x="313" y="10"/>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95" name=""/>
              <p:cNvSpPr/>
              <p:nvPr/>
            </p:nvSpPr>
            <p:spPr>
              <a:xfrm>
                <a:off x="3602880" y="5880240"/>
                <a:ext cx="24120" cy="703080"/>
              </a:xfrm>
              <a:custGeom>
                <a:avLst/>
                <a:gdLst/>
                <a:ahLst/>
                <a:rect l="l" t="t" r="r" b="b"/>
                <a:pathLst>
                  <a:path w="23" h="720">
                    <a:moveTo>
                      <a:pt x="11" y="15"/>
                    </a:moveTo>
                    <a:lnTo>
                      <a:pt x="0" y="7"/>
                    </a:lnTo>
                    <a:lnTo>
                      <a:pt x="0" y="719"/>
                    </a:lnTo>
                    <a:lnTo>
                      <a:pt x="22" y="719"/>
                    </a:lnTo>
                    <a:lnTo>
                      <a:pt x="22" y="7"/>
                    </a:lnTo>
                    <a:lnTo>
                      <a:pt x="11" y="0"/>
                    </a:lnTo>
                    <a:lnTo>
                      <a:pt x="22" y="7"/>
                    </a:lnTo>
                    <a:lnTo>
                      <a:pt x="22" y="4"/>
                    </a:lnTo>
                    <a:lnTo>
                      <a:pt x="16" y="2"/>
                    </a:lnTo>
                    <a:lnTo>
                      <a:pt x="16" y="1"/>
                    </a:lnTo>
                    <a:lnTo>
                      <a:pt x="11" y="0"/>
                    </a:lnTo>
                    <a:lnTo>
                      <a:pt x="5" y="1"/>
                    </a:lnTo>
                    <a:lnTo>
                      <a:pt x="5" y="2"/>
                    </a:lnTo>
                    <a:lnTo>
                      <a:pt x="0" y="4"/>
                    </a:lnTo>
                    <a:lnTo>
                      <a:pt x="0" y="7"/>
                    </a:lnTo>
                    <a:lnTo>
                      <a:pt x="11"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260880" y="5880240"/>
                <a:ext cx="344160" cy="19440"/>
              </a:xfrm>
              <a:custGeom>
                <a:avLst/>
                <a:gdLst/>
                <a:ahLst/>
                <a:rect l="l" t="t" r="r" b="b"/>
                <a:pathLst>
                  <a:path w="323" h="20">
                    <a:moveTo>
                      <a:pt x="9" y="9"/>
                    </a:moveTo>
                    <a:lnTo>
                      <a:pt x="4" y="19"/>
                    </a:lnTo>
                    <a:lnTo>
                      <a:pt x="322" y="19"/>
                    </a:lnTo>
                    <a:lnTo>
                      <a:pt x="322" y="0"/>
                    </a:lnTo>
                    <a:lnTo>
                      <a:pt x="4" y="0"/>
                    </a:lnTo>
                    <a:lnTo>
                      <a:pt x="0" y="9"/>
                    </a:lnTo>
                    <a:lnTo>
                      <a:pt x="4" y="0"/>
                    </a:lnTo>
                    <a:lnTo>
                      <a:pt x="2" y="2"/>
                    </a:lnTo>
                    <a:lnTo>
                      <a:pt x="1" y="2"/>
                    </a:lnTo>
                    <a:lnTo>
                      <a:pt x="0" y="4"/>
                    </a:lnTo>
                    <a:lnTo>
                      <a:pt x="0" y="9"/>
                    </a:lnTo>
                    <a:lnTo>
                      <a:pt x="0" y="14"/>
                    </a:lnTo>
                    <a:lnTo>
                      <a:pt x="1" y="16"/>
                    </a:lnTo>
                    <a:lnTo>
                      <a:pt x="2" y="16"/>
                    </a:lnTo>
                    <a:lnTo>
                      <a:pt x="4" y="19"/>
                    </a:lnTo>
                    <a:lnTo>
                      <a:pt x="9" y="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97" name=""/>
              <p:cNvSpPr/>
              <p:nvPr/>
            </p:nvSpPr>
            <p:spPr>
              <a:xfrm>
                <a:off x="3260880" y="5886000"/>
                <a:ext cx="23400" cy="704880"/>
              </a:xfrm>
              <a:custGeom>
                <a:avLst/>
                <a:gdLst/>
                <a:ahLst/>
                <a:rect l="l" t="t" r="r" b="b"/>
                <a:pathLst>
                  <a:path w="22" h="722">
                    <a:moveTo>
                      <a:pt x="14" y="706"/>
                    </a:moveTo>
                    <a:lnTo>
                      <a:pt x="21" y="713"/>
                    </a:lnTo>
                    <a:lnTo>
                      <a:pt x="21" y="0"/>
                    </a:lnTo>
                    <a:lnTo>
                      <a:pt x="0" y="0"/>
                    </a:lnTo>
                    <a:lnTo>
                      <a:pt x="0" y="713"/>
                    </a:lnTo>
                    <a:lnTo>
                      <a:pt x="14" y="721"/>
                    </a:lnTo>
                    <a:lnTo>
                      <a:pt x="0" y="713"/>
                    </a:lnTo>
                    <a:lnTo>
                      <a:pt x="0" y="717"/>
                    </a:lnTo>
                    <a:lnTo>
                      <a:pt x="7" y="719"/>
                    </a:lnTo>
                    <a:lnTo>
                      <a:pt x="7" y="721"/>
                    </a:lnTo>
                    <a:lnTo>
                      <a:pt x="14" y="721"/>
                    </a:lnTo>
                    <a:lnTo>
                      <a:pt x="14" y="721"/>
                    </a:lnTo>
                    <a:lnTo>
                      <a:pt x="21" y="719"/>
                    </a:lnTo>
                    <a:lnTo>
                      <a:pt x="21" y="717"/>
                    </a:lnTo>
                    <a:lnTo>
                      <a:pt x="21" y="713"/>
                    </a:lnTo>
                    <a:lnTo>
                      <a:pt x="14" y="70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300120" y="6590520"/>
                <a:ext cx="1274760" cy="88560"/>
              </a:xfrm>
              <a:custGeom>
                <a:avLst/>
                <a:gdLst/>
                <a:ahLst/>
                <a:rect l="l" t="t" r="r" b="b"/>
                <a:pathLst>
                  <a:path w="1196" h="91">
                    <a:moveTo>
                      <a:pt x="0" y="90"/>
                    </a:moveTo>
                    <a:lnTo>
                      <a:pt x="1195" y="90"/>
                    </a:lnTo>
                    <a:lnTo>
                      <a:pt x="1195" y="0"/>
                    </a:lnTo>
                    <a:lnTo>
                      <a:pt x="0" y="0"/>
                    </a:lnTo>
                    <a:lnTo>
                      <a:pt x="0" y="90"/>
                    </a:lnTo>
                  </a:path>
                </a:pathLst>
              </a:custGeom>
              <a:solidFill>
                <a:srgbClr val="808080"/>
              </a:solidFill>
              <a:ln cap="rnd" w="1260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99" name=""/>
              <p:cNvSpPr/>
              <p:nvPr/>
            </p:nvSpPr>
            <p:spPr>
              <a:xfrm>
                <a:off x="3300120" y="6678360"/>
                <a:ext cx="1279080" cy="19440"/>
              </a:xfrm>
              <a:custGeom>
                <a:avLst/>
                <a:gdLst/>
                <a:ahLst/>
                <a:rect l="l" t="t" r="r" b="b"/>
                <a:pathLst>
                  <a:path w="1200" h="20">
                    <a:moveTo>
                      <a:pt x="1187" y="9"/>
                    </a:moveTo>
                    <a:lnTo>
                      <a:pt x="1193" y="0"/>
                    </a:lnTo>
                    <a:lnTo>
                      <a:pt x="0" y="0"/>
                    </a:lnTo>
                    <a:lnTo>
                      <a:pt x="0" y="19"/>
                    </a:lnTo>
                    <a:lnTo>
                      <a:pt x="1193" y="19"/>
                    </a:lnTo>
                    <a:lnTo>
                      <a:pt x="1199" y="9"/>
                    </a:lnTo>
                    <a:lnTo>
                      <a:pt x="1193" y="19"/>
                    </a:lnTo>
                    <a:lnTo>
                      <a:pt x="1196" y="19"/>
                    </a:lnTo>
                    <a:lnTo>
                      <a:pt x="1197" y="15"/>
                    </a:lnTo>
                    <a:lnTo>
                      <a:pt x="1197" y="15"/>
                    </a:lnTo>
                    <a:lnTo>
                      <a:pt x="1199" y="9"/>
                    </a:lnTo>
                    <a:lnTo>
                      <a:pt x="1197" y="6"/>
                    </a:lnTo>
                    <a:lnTo>
                      <a:pt x="1197" y="3"/>
                    </a:lnTo>
                    <a:lnTo>
                      <a:pt x="1196" y="3"/>
                    </a:lnTo>
                    <a:lnTo>
                      <a:pt x="1193" y="0"/>
                    </a:lnTo>
                    <a:lnTo>
                      <a:pt x="1187" y="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0" name=""/>
              <p:cNvSpPr/>
              <p:nvPr/>
            </p:nvSpPr>
            <p:spPr>
              <a:xfrm>
                <a:off x="4574160" y="6582600"/>
                <a:ext cx="23400" cy="96480"/>
              </a:xfrm>
              <a:custGeom>
                <a:avLst/>
                <a:gdLst/>
                <a:ahLst/>
                <a:rect l="l" t="t" r="r" b="b"/>
                <a:pathLst>
                  <a:path w="22" h="99">
                    <a:moveTo>
                      <a:pt x="10" y="14"/>
                    </a:moveTo>
                    <a:lnTo>
                      <a:pt x="0" y="7"/>
                    </a:lnTo>
                    <a:lnTo>
                      <a:pt x="0" y="98"/>
                    </a:lnTo>
                    <a:lnTo>
                      <a:pt x="21" y="98"/>
                    </a:lnTo>
                    <a:lnTo>
                      <a:pt x="21" y="7"/>
                    </a:lnTo>
                    <a:lnTo>
                      <a:pt x="10" y="0"/>
                    </a:lnTo>
                    <a:lnTo>
                      <a:pt x="21" y="7"/>
                    </a:lnTo>
                    <a:lnTo>
                      <a:pt x="21" y="4"/>
                    </a:lnTo>
                    <a:lnTo>
                      <a:pt x="15" y="2"/>
                    </a:lnTo>
                    <a:lnTo>
                      <a:pt x="15" y="0"/>
                    </a:lnTo>
                    <a:lnTo>
                      <a:pt x="10" y="0"/>
                    </a:lnTo>
                    <a:lnTo>
                      <a:pt x="5" y="0"/>
                    </a:lnTo>
                    <a:lnTo>
                      <a:pt x="5" y="2"/>
                    </a:lnTo>
                    <a:lnTo>
                      <a:pt x="0" y="4"/>
                    </a:lnTo>
                    <a:lnTo>
                      <a:pt x="0" y="7"/>
                    </a:lnTo>
                    <a:lnTo>
                      <a:pt x="10"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3296160" y="6582600"/>
                <a:ext cx="1278720" cy="19440"/>
              </a:xfrm>
              <a:custGeom>
                <a:avLst/>
                <a:gdLst/>
                <a:ahLst/>
                <a:rect l="l" t="t" r="r" b="b"/>
                <a:pathLst>
                  <a:path w="1200" h="20">
                    <a:moveTo>
                      <a:pt x="9" y="9"/>
                    </a:moveTo>
                    <a:lnTo>
                      <a:pt x="4" y="19"/>
                    </a:lnTo>
                    <a:lnTo>
                      <a:pt x="1199" y="19"/>
                    </a:lnTo>
                    <a:lnTo>
                      <a:pt x="1199" y="0"/>
                    </a:lnTo>
                    <a:lnTo>
                      <a:pt x="4" y="0"/>
                    </a:lnTo>
                    <a:lnTo>
                      <a:pt x="0" y="9"/>
                    </a:lnTo>
                    <a:lnTo>
                      <a:pt x="4" y="0"/>
                    </a:lnTo>
                    <a:lnTo>
                      <a:pt x="2" y="0"/>
                    </a:lnTo>
                    <a:lnTo>
                      <a:pt x="1" y="2"/>
                    </a:lnTo>
                    <a:lnTo>
                      <a:pt x="0" y="4"/>
                    </a:lnTo>
                    <a:lnTo>
                      <a:pt x="0" y="9"/>
                    </a:lnTo>
                    <a:lnTo>
                      <a:pt x="0" y="14"/>
                    </a:lnTo>
                    <a:lnTo>
                      <a:pt x="1" y="16"/>
                    </a:lnTo>
                    <a:lnTo>
                      <a:pt x="2" y="16"/>
                    </a:lnTo>
                    <a:lnTo>
                      <a:pt x="4" y="19"/>
                    </a:lnTo>
                    <a:lnTo>
                      <a:pt x="9" y="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2" name=""/>
              <p:cNvSpPr/>
              <p:nvPr/>
            </p:nvSpPr>
            <p:spPr>
              <a:xfrm>
                <a:off x="3296160" y="6590520"/>
                <a:ext cx="24120" cy="95400"/>
              </a:xfrm>
              <a:custGeom>
                <a:avLst/>
                <a:gdLst/>
                <a:ahLst/>
                <a:rect l="l" t="t" r="r" b="b"/>
                <a:pathLst>
                  <a:path w="23" h="98">
                    <a:moveTo>
                      <a:pt x="14" y="83"/>
                    </a:moveTo>
                    <a:lnTo>
                      <a:pt x="22" y="89"/>
                    </a:lnTo>
                    <a:lnTo>
                      <a:pt x="22" y="0"/>
                    </a:lnTo>
                    <a:lnTo>
                      <a:pt x="0" y="0"/>
                    </a:lnTo>
                    <a:lnTo>
                      <a:pt x="0" y="89"/>
                    </a:lnTo>
                    <a:lnTo>
                      <a:pt x="14" y="97"/>
                    </a:lnTo>
                    <a:lnTo>
                      <a:pt x="0" y="89"/>
                    </a:lnTo>
                    <a:lnTo>
                      <a:pt x="0" y="93"/>
                    </a:lnTo>
                    <a:lnTo>
                      <a:pt x="7" y="95"/>
                    </a:lnTo>
                    <a:lnTo>
                      <a:pt x="7" y="97"/>
                    </a:lnTo>
                    <a:lnTo>
                      <a:pt x="14" y="97"/>
                    </a:lnTo>
                    <a:lnTo>
                      <a:pt x="14" y="97"/>
                    </a:lnTo>
                    <a:lnTo>
                      <a:pt x="22" y="95"/>
                    </a:lnTo>
                    <a:lnTo>
                      <a:pt x="22" y="93"/>
                    </a:lnTo>
                    <a:lnTo>
                      <a:pt x="22" y="89"/>
                    </a:lnTo>
                    <a:lnTo>
                      <a:pt x="14" y="8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626280" y="5993640"/>
                <a:ext cx="72000" cy="227520"/>
              </a:xfrm>
              <a:custGeom>
                <a:avLst/>
                <a:gdLst/>
                <a:ahLst/>
                <a:rect l="l" t="t" r="r" b="b"/>
                <a:pathLst>
                  <a:path w="68" h="233">
                    <a:moveTo>
                      <a:pt x="0" y="232"/>
                    </a:moveTo>
                    <a:lnTo>
                      <a:pt x="67" y="232"/>
                    </a:lnTo>
                    <a:lnTo>
                      <a:pt x="67" y="0"/>
                    </a:lnTo>
                    <a:lnTo>
                      <a:pt x="0" y="0"/>
                    </a:lnTo>
                    <a:lnTo>
                      <a:pt x="0" y="23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626280" y="5993640"/>
                <a:ext cx="77400" cy="235080"/>
              </a:xfrm>
              <a:custGeom>
                <a:avLst/>
                <a:gdLst/>
                <a:ahLst/>
                <a:rect l="l" t="t" r="r" b="b"/>
                <a:pathLst>
                  <a:path w="73" h="241">
                    <a:moveTo>
                      <a:pt x="0" y="240"/>
                    </a:moveTo>
                    <a:lnTo>
                      <a:pt x="72" y="240"/>
                    </a:lnTo>
                    <a:lnTo>
                      <a:pt x="72" y="0"/>
                    </a:lnTo>
                    <a:lnTo>
                      <a:pt x="0" y="0"/>
                    </a:lnTo>
                    <a:lnTo>
                      <a:pt x="0" y="2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3609360" y="6026760"/>
                <a:ext cx="23400" cy="160200"/>
              </a:xfrm>
              <a:custGeom>
                <a:avLst/>
                <a:gdLst/>
                <a:ahLst/>
                <a:rect l="l" t="t" r="r" b="b"/>
                <a:pathLst>
                  <a:path w="22" h="164">
                    <a:moveTo>
                      <a:pt x="0" y="163"/>
                    </a:moveTo>
                    <a:lnTo>
                      <a:pt x="21" y="163"/>
                    </a:lnTo>
                    <a:lnTo>
                      <a:pt x="21" y="0"/>
                    </a:lnTo>
                    <a:lnTo>
                      <a:pt x="0" y="0"/>
                    </a:lnTo>
                    <a:lnTo>
                      <a:pt x="0" y="16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3609360" y="6026760"/>
                <a:ext cx="23400" cy="166680"/>
              </a:xfrm>
              <a:custGeom>
                <a:avLst/>
                <a:gdLst/>
                <a:ahLst/>
                <a:rect l="l" t="t" r="r" b="b"/>
                <a:pathLst>
                  <a:path w="22" h="171">
                    <a:moveTo>
                      <a:pt x="0" y="170"/>
                    </a:moveTo>
                    <a:lnTo>
                      <a:pt x="21" y="170"/>
                    </a:lnTo>
                    <a:lnTo>
                      <a:pt x="21" y="0"/>
                    </a:lnTo>
                    <a:lnTo>
                      <a:pt x="0" y="0"/>
                    </a:lnTo>
                    <a:lnTo>
                      <a:pt x="0" y="17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3702960" y="6015960"/>
                <a:ext cx="23400" cy="29160"/>
              </a:xfrm>
              <a:custGeom>
                <a:avLst/>
                <a:gdLst/>
                <a:ahLst/>
                <a:rect l="l" t="t" r="r" b="b"/>
                <a:pathLst>
                  <a:path w="22" h="30">
                    <a:moveTo>
                      <a:pt x="0" y="29"/>
                    </a:moveTo>
                    <a:lnTo>
                      <a:pt x="21" y="29"/>
                    </a:lnTo>
                    <a:lnTo>
                      <a:pt x="21" y="0"/>
                    </a:lnTo>
                    <a:lnTo>
                      <a:pt x="0" y="0"/>
                    </a:lnTo>
                    <a:lnTo>
                      <a:pt x="0" y="29"/>
                    </a:lnTo>
                  </a:path>
                </a:pathLst>
              </a:custGeom>
              <a:solidFill>
                <a:srgbClr val="808080"/>
              </a:solid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08" name=""/>
              <p:cNvSpPr/>
              <p:nvPr/>
            </p:nvSpPr>
            <p:spPr>
              <a:xfrm>
                <a:off x="3702960" y="6015960"/>
                <a:ext cx="26280" cy="34920"/>
              </a:xfrm>
              <a:custGeom>
                <a:avLst/>
                <a:gdLst/>
                <a:ahLst/>
                <a:rect l="l" t="t" r="r" b="b"/>
                <a:pathLst>
                  <a:path w="25" h="36">
                    <a:moveTo>
                      <a:pt x="0" y="35"/>
                    </a:moveTo>
                    <a:lnTo>
                      <a:pt x="24" y="35"/>
                    </a:lnTo>
                    <a:lnTo>
                      <a:pt x="24" y="0"/>
                    </a:lnTo>
                    <a:lnTo>
                      <a:pt x="0" y="0"/>
                    </a:lnTo>
                    <a:lnTo>
                      <a:pt x="0" y="35"/>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9" name=""/>
              <p:cNvSpPr/>
              <p:nvPr/>
            </p:nvSpPr>
            <p:spPr>
              <a:xfrm>
                <a:off x="3702960" y="6159600"/>
                <a:ext cx="23400" cy="37800"/>
              </a:xfrm>
              <a:custGeom>
                <a:avLst/>
                <a:gdLst/>
                <a:ahLst/>
                <a:rect l="l" t="t" r="r" b="b"/>
                <a:pathLst>
                  <a:path w="22" h="39">
                    <a:moveTo>
                      <a:pt x="0" y="38"/>
                    </a:moveTo>
                    <a:lnTo>
                      <a:pt x="21" y="38"/>
                    </a:lnTo>
                    <a:lnTo>
                      <a:pt x="21" y="0"/>
                    </a:lnTo>
                    <a:lnTo>
                      <a:pt x="0" y="0"/>
                    </a:lnTo>
                    <a:lnTo>
                      <a:pt x="0" y="38"/>
                    </a:lnTo>
                  </a:path>
                </a:pathLst>
              </a:custGeom>
              <a:solidFill>
                <a:srgbClr val="80808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0" name=""/>
              <p:cNvSpPr/>
              <p:nvPr/>
            </p:nvSpPr>
            <p:spPr>
              <a:xfrm>
                <a:off x="3702960" y="6159600"/>
                <a:ext cx="26280" cy="43920"/>
              </a:xfrm>
              <a:custGeom>
                <a:avLst/>
                <a:gdLst/>
                <a:ahLst/>
                <a:rect l="l" t="t" r="r" b="b"/>
                <a:pathLst>
                  <a:path w="25" h="45">
                    <a:moveTo>
                      <a:pt x="0" y="44"/>
                    </a:moveTo>
                    <a:lnTo>
                      <a:pt x="24" y="44"/>
                    </a:lnTo>
                    <a:lnTo>
                      <a:pt x="24" y="0"/>
                    </a:lnTo>
                    <a:lnTo>
                      <a:pt x="0" y="0"/>
                    </a:lnTo>
                    <a:lnTo>
                      <a:pt x="0" y="44"/>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11" name=""/>
              <p:cNvSpPr/>
              <p:nvPr/>
            </p:nvSpPr>
            <p:spPr>
              <a:xfrm>
                <a:off x="3702960" y="6096960"/>
                <a:ext cx="23400" cy="20520"/>
              </a:xfrm>
              <a:custGeom>
                <a:avLst/>
                <a:gdLst/>
                <a:ahLst/>
                <a:rect l="l" t="t" r="r" b="b"/>
                <a:pathLst>
                  <a:path w="22" h="21">
                    <a:moveTo>
                      <a:pt x="0" y="20"/>
                    </a:moveTo>
                    <a:lnTo>
                      <a:pt x="21" y="20"/>
                    </a:lnTo>
                    <a:lnTo>
                      <a:pt x="21" y="0"/>
                    </a:lnTo>
                    <a:lnTo>
                      <a:pt x="0" y="0"/>
                    </a:lnTo>
                    <a:lnTo>
                      <a:pt x="0" y="20"/>
                    </a:lnTo>
                  </a:path>
                </a:pathLst>
              </a:custGeom>
              <a:solidFill>
                <a:srgbClr val="80808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2" name=""/>
              <p:cNvSpPr/>
              <p:nvPr/>
            </p:nvSpPr>
            <p:spPr>
              <a:xfrm>
                <a:off x="3702960" y="6096960"/>
                <a:ext cx="26280" cy="25200"/>
              </a:xfrm>
              <a:custGeom>
                <a:avLst/>
                <a:gdLst/>
                <a:ahLst/>
                <a:rect l="l" t="t" r="r" b="b"/>
                <a:pathLst>
                  <a:path w="25" h="26">
                    <a:moveTo>
                      <a:pt x="0" y="25"/>
                    </a:moveTo>
                    <a:lnTo>
                      <a:pt x="24" y="25"/>
                    </a:lnTo>
                    <a:lnTo>
                      <a:pt x="24" y="0"/>
                    </a:lnTo>
                    <a:lnTo>
                      <a:pt x="0" y="0"/>
                    </a:lnTo>
                    <a:lnTo>
                      <a:pt x="0" y="25"/>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3" name=""/>
              <p:cNvSpPr/>
              <p:nvPr/>
            </p:nvSpPr>
            <p:spPr>
              <a:xfrm>
                <a:off x="3609360" y="6320880"/>
                <a:ext cx="645840" cy="262440"/>
              </a:xfrm>
              <a:custGeom>
                <a:avLst/>
                <a:gdLst/>
                <a:ahLst/>
                <a:rect l="l" t="t" r="r" b="b"/>
                <a:pathLst>
                  <a:path w="606" h="269">
                    <a:moveTo>
                      <a:pt x="0" y="268"/>
                    </a:moveTo>
                    <a:lnTo>
                      <a:pt x="605" y="268"/>
                    </a:lnTo>
                    <a:lnTo>
                      <a:pt x="605" y="0"/>
                    </a:lnTo>
                    <a:lnTo>
                      <a:pt x="0" y="0"/>
                    </a:lnTo>
                    <a:lnTo>
                      <a:pt x="0" y="26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609360" y="6582600"/>
                <a:ext cx="652320" cy="19440"/>
              </a:xfrm>
              <a:custGeom>
                <a:avLst/>
                <a:gdLst/>
                <a:ahLst/>
                <a:rect l="l" t="t" r="r" b="b"/>
                <a:pathLst>
                  <a:path w="612" h="20">
                    <a:moveTo>
                      <a:pt x="601" y="10"/>
                    </a:moveTo>
                    <a:lnTo>
                      <a:pt x="606" y="0"/>
                    </a:lnTo>
                    <a:lnTo>
                      <a:pt x="0" y="0"/>
                    </a:lnTo>
                    <a:lnTo>
                      <a:pt x="0" y="19"/>
                    </a:lnTo>
                    <a:lnTo>
                      <a:pt x="606" y="19"/>
                    </a:lnTo>
                    <a:lnTo>
                      <a:pt x="611" y="10"/>
                    </a:lnTo>
                    <a:lnTo>
                      <a:pt x="606" y="19"/>
                    </a:lnTo>
                    <a:lnTo>
                      <a:pt x="608" y="19"/>
                    </a:lnTo>
                    <a:lnTo>
                      <a:pt x="609" y="16"/>
                    </a:lnTo>
                    <a:lnTo>
                      <a:pt x="611" y="13"/>
                    </a:lnTo>
                    <a:lnTo>
                      <a:pt x="611" y="10"/>
                    </a:lnTo>
                    <a:lnTo>
                      <a:pt x="611" y="5"/>
                    </a:lnTo>
                    <a:lnTo>
                      <a:pt x="609" y="2"/>
                    </a:lnTo>
                    <a:lnTo>
                      <a:pt x="608" y="2"/>
                    </a:lnTo>
                    <a:lnTo>
                      <a:pt x="606" y="0"/>
                    </a:lnTo>
                    <a:lnTo>
                      <a:pt x="601" y="10"/>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15" name=""/>
              <p:cNvSpPr/>
              <p:nvPr/>
            </p:nvSpPr>
            <p:spPr>
              <a:xfrm>
                <a:off x="4254120" y="6314760"/>
                <a:ext cx="24120" cy="268560"/>
              </a:xfrm>
              <a:custGeom>
                <a:avLst/>
                <a:gdLst/>
                <a:ahLst/>
                <a:rect l="l" t="t" r="r" b="b"/>
                <a:pathLst>
                  <a:path w="23" h="275">
                    <a:moveTo>
                      <a:pt x="11" y="15"/>
                    </a:moveTo>
                    <a:lnTo>
                      <a:pt x="0" y="7"/>
                    </a:lnTo>
                    <a:lnTo>
                      <a:pt x="0" y="274"/>
                    </a:lnTo>
                    <a:lnTo>
                      <a:pt x="22" y="274"/>
                    </a:lnTo>
                    <a:lnTo>
                      <a:pt x="22" y="7"/>
                    </a:lnTo>
                    <a:lnTo>
                      <a:pt x="11" y="0"/>
                    </a:lnTo>
                    <a:lnTo>
                      <a:pt x="22" y="7"/>
                    </a:lnTo>
                    <a:lnTo>
                      <a:pt x="22" y="4"/>
                    </a:lnTo>
                    <a:lnTo>
                      <a:pt x="16" y="2"/>
                    </a:lnTo>
                    <a:lnTo>
                      <a:pt x="16" y="0"/>
                    </a:lnTo>
                    <a:lnTo>
                      <a:pt x="11" y="0"/>
                    </a:lnTo>
                    <a:lnTo>
                      <a:pt x="5" y="0"/>
                    </a:lnTo>
                    <a:lnTo>
                      <a:pt x="5" y="2"/>
                    </a:lnTo>
                    <a:lnTo>
                      <a:pt x="0" y="4"/>
                    </a:lnTo>
                    <a:lnTo>
                      <a:pt x="0" y="7"/>
                    </a:lnTo>
                    <a:lnTo>
                      <a:pt x="11"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3603960" y="6314760"/>
                <a:ext cx="650880" cy="18360"/>
              </a:xfrm>
              <a:custGeom>
                <a:avLst/>
                <a:gdLst/>
                <a:ahLst/>
                <a:rect l="l" t="t" r="r" b="b"/>
                <a:pathLst>
                  <a:path w="611" h="19">
                    <a:moveTo>
                      <a:pt x="9" y="7"/>
                    </a:moveTo>
                    <a:lnTo>
                      <a:pt x="4" y="18"/>
                    </a:lnTo>
                    <a:lnTo>
                      <a:pt x="610" y="18"/>
                    </a:lnTo>
                    <a:lnTo>
                      <a:pt x="610" y="0"/>
                    </a:lnTo>
                    <a:lnTo>
                      <a:pt x="4" y="0"/>
                    </a:lnTo>
                    <a:lnTo>
                      <a:pt x="0" y="7"/>
                    </a:lnTo>
                    <a:lnTo>
                      <a:pt x="4" y="0"/>
                    </a:lnTo>
                    <a:lnTo>
                      <a:pt x="2" y="0"/>
                    </a:lnTo>
                    <a:lnTo>
                      <a:pt x="1" y="2"/>
                    </a:lnTo>
                    <a:lnTo>
                      <a:pt x="0" y="5"/>
                    </a:lnTo>
                    <a:lnTo>
                      <a:pt x="0" y="7"/>
                    </a:lnTo>
                    <a:lnTo>
                      <a:pt x="0" y="12"/>
                    </a:lnTo>
                    <a:lnTo>
                      <a:pt x="1" y="15"/>
                    </a:lnTo>
                    <a:lnTo>
                      <a:pt x="2" y="15"/>
                    </a:lnTo>
                    <a:lnTo>
                      <a:pt x="4" y="18"/>
                    </a:lnTo>
                    <a:lnTo>
                      <a:pt x="9" y="7"/>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17" name=""/>
              <p:cNvSpPr/>
              <p:nvPr/>
            </p:nvSpPr>
            <p:spPr>
              <a:xfrm>
                <a:off x="3603960" y="6320880"/>
                <a:ext cx="25560" cy="270360"/>
              </a:xfrm>
              <a:custGeom>
                <a:avLst/>
                <a:gdLst/>
                <a:ahLst/>
                <a:rect l="l" t="t" r="r" b="b"/>
                <a:pathLst>
                  <a:path w="24" h="277">
                    <a:moveTo>
                      <a:pt x="15" y="261"/>
                    </a:moveTo>
                    <a:lnTo>
                      <a:pt x="23" y="268"/>
                    </a:lnTo>
                    <a:lnTo>
                      <a:pt x="23" y="0"/>
                    </a:lnTo>
                    <a:lnTo>
                      <a:pt x="0" y="0"/>
                    </a:lnTo>
                    <a:lnTo>
                      <a:pt x="0" y="268"/>
                    </a:lnTo>
                    <a:lnTo>
                      <a:pt x="15" y="276"/>
                    </a:lnTo>
                    <a:lnTo>
                      <a:pt x="0" y="268"/>
                    </a:lnTo>
                    <a:lnTo>
                      <a:pt x="0" y="272"/>
                    </a:lnTo>
                    <a:lnTo>
                      <a:pt x="7" y="274"/>
                    </a:lnTo>
                    <a:lnTo>
                      <a:pt x="7" y="276"/>
                    </a:lnTo>
                    <a:lnTo>
                      <a:pt x="15" y="276"/>
                    </a:lnTo>
                    <a:lnTo>
                      <a:pt x="15" y="276"/>
                    </a:lnTo>
                    <a:lnTo>
                      <a:pt x="23" y="274"/>
                    </a:lnTo>
                    <a:lnTo>
                      <a:pt x="23" y="272"/>
                    </a:lnTo>
                    <a:lnTo>
                      <a:pt x="23" y="268"/>
                    </a:lnTo>
                    <a:lnTo>
                      <a:pt x="15" y="26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3814200" y="5865840"/>
                <a:ext cx="477360" cy="744120"/>
              </a:xfrm>
              <a:custGeom>
                <a:avLst/>
                <a:gdLst/>
                <a:ahLst/>
                <a:rect l="l" t="t" r="r" b="b"/>
                <a:pathLst>
                  <a:path w="448" h="762">
                    <a:moveTo>
                      <a:pt x="0" y="761"/>
                    </a:moveTo>
                    <a:lnTo>
                      <a:pt x="447" y="761"/>
                    </a:lnTo>
                    <a:lnTo>
                      <a:pt x="447" y="0"/>
                    </a:lnTo>
                    <a:lnTo>
                      <a:pt x="0" y="0"/>
                    </a:lnTo>
                    <a:lnTo>
                      <a:pt x="0" y="76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3814200" y="6608880"/>
                <a:ext cx="481680" cy="18360"/>
              </a:xfrm>
              <a:custGeom>
                <a:avLst/>
                <a:gdLst/>
                <a:ahLst/>
                <a:rect l="l" t="t" r="r" b="b"/>
                <a:pathLst>
                  <a:path w="452" h="19">
                    <a:moveTo>
                      <a:pt x="441" y="9"/>
                    </a:moveTo>
                    <a:lnTo>
                      <a:pt x="445" y="0"/>
                    </a:lnTo>
                    <a:lnTo>
                      <a:pt x="0" y="0"/>
                    </a:lnTo>
                    <a:lnTo>
                      <a:pt x="0" y="18"/>
                    </a:lnTo>
                    <a:lnTo>
                      <a:pt x="445" y="18"/>
                    </a:lnTo>
                    <a:lnTo>
                      <a:pt x="451" y="9"/>
                    </a:lnTo>
                    <a:lnTo>
                      <a:pt x="445" y="18"/>
                    </a:lnTo>
                    <a:lnTo>
                      <a:pt x="448" y="18"/>
                    </a:lnTo>
                    <a:lnTo>
                      <a:pt x="449" y="15"/>
                    </a:lnTo>
                    <a:lnTo>
                      <a:pt x="449" y="12"/>
                    </a:lnTo>
                    <a:lnTo>
                      <a:pt x="451" y="9"/>
                    </a:lnTo>
                    <a:lnTo>
                      <a:pt x="449" y="6"/>
                    </a:lnTo>
                    <a:lnTo>
                      <a:pt x="449" y="3"/>
                    </a:lnTo>
                    <a:lnTo>
                      <a:pt x="448" y="3"/>
                    </a:lnTo>
                    <a:lnTo>
                      <a:pt x="445" y="0"/>
                    </a:lnTo>
                    <a:lnTo>
                      <a:pt x="441" y="9"/>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20" name=""/>
              <p:cNvSpPr/>
              <p:nvPr/>
            </p:nvSpPr>
            <p:spPr>
              <a:xfrm>
                <a:off x="4290480" y="5856120"/>
                <a:ext cx="23400" cy="753840"/>
              </a:xfrm>
              <a:custGeom>
                <a:avLst/>
                <a:gdLst/>
                <a:ahLst/>
                <a:rect l="l" t="t" r="r" b="b"/>
                <a:pathLst>
                  <a:path w="22" h="772">
                    <a:moveTo>
                      <a:pt x="10" y="15"/>
                    </a:moveTo>
                    <a:lnTo>
                      <a:pt x="0" y="8"/>
                    </a:lnTo>
                    <a:lnTo>
                      <a:pt x="0" y="771"/>
                    </a:lnTo>
                    <a:lnTo>
                      <a:pt x="21" y="771"/>
                    </a:lnTo>
                    <a:lnTo>
                      <a:pt x="21" y="8"/>
                    </a:lnTo>
                    <a:lnTo>
                      <a:pt x="10" y="0"/>
                    </a:lnTo>
                    <a:lnTo>
                      <a:pt x="21" y="8"/>
                    </a:lnTo>
                    <a:lnTo>
                      <a:pt x="21" y="4"/>
                    </a:lnTo>
                    <a:lnTo>
                      <a:pt x="15" y="2"/>
                    </a:lnTo>
                    <a:lnTo>
                      <a:pt x="15" y="1"/>
                    </a:lnTo>
                    <a:lnTo>
                      <a:pt x="10" y="0"/>
                    </a:lnTo>
                    <a:lnTo>
                      <a:pt x="5" y="1"/>
                    </a:lnTo>
                    <a:lnTo>
                      <a:pt x="5" y="2"/>
                    </a:lnTo>
                    <a:lnTo>
                      <a:pt x="0" y="4"/>
                    </a:lnTo>
                    <a:lnTo>
                      <a:pt x="0" y="8"/>
                    </a:lnTo>
                    <a:lnTo>
                      <a:pt x="10"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9520" y="5856120"/>
                <a:ext cx="481680" cy="19440"/>
              </a:xfrm>
              <a:custGeom>
                <a:avLst/>
                <a:gdLst/>
                <a:ahLst/>
                <a:rect l="l" t="t" r="r" b="b"/>
                <a:pathLst>
                  <a:path w="452" h="20">
                    <a:moveTo>
                      <a:pt x="9" y="9"/>
                    </a:moveTo>
                    <a:lnTo>
                      <a:pt x="4" y="19"/>
                    </a:lnTo>
                    <a:lnTo>
                      <a:pt x="451" y="19"/>
                    </a:lnTo>
                    <a:lnTo>
                      <a:pt x="451" y="0"/>
                    </a:lnTo>
                    <a:lnTo>
                      <a:pt x="4" y="0"/>
                    </a:lnTo>
                    <a:lnTo>
                      <a:pt x="0" y="9"/>
                    </a:lnTo>
                    <a:lnTo>
                      <a:pt x="4" y="0"/>
                    </a:lnTo>
                    <a:lnTo>
                      <a:pt x="2" y="2"/>
                    </a:lnTo>
                    <a:lnTo>
                      <a:pt x="1" y="2"/>
                    </a:lnTo>
                    <a:lnTo>
                      <a:pt x="0" y="4"/>
                    </a:lnTo>
                    <a:lnTo>
                      <a:pt x="0" y="9"/>
                    </a:lnTo>
                    <a:lnTo>
                      <a:pt x="0" y="14"/>
                    </a:lnTo>
                    <a:lnTo>
                      <a:pt x="1" y="16"/>
                    </a:lnTo>
                    <a:lnTo>
                      <a:pt x="2" y="19"/>
                    </a:lnTo>
                    <a:lnTo>
                      <a:pt x="4" y="19"/>
                    </a:lnTo>
                    <a:lnTo>
                      <a:pt x="9" y="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22" name=""/>
              <p:cNvSpPr/>
              <p:nvPr/>
            </p:nvSpPr>
            <p:spPr>
              <a:xfrm>
                <a:off x="3809520" y="5865840"/>
                <a:ext cx="23400" cy="749880"/>
              </a:xfrm>
              <a:custGeom>
                <a:avLst/>
                <a:gdLst/>
                <a:ahLst/>
                <a:rect l="l" t="t" r="r" b="b"/>
                <a:pathLst>
                  <a:path w="22" h="768">
                    <a:moveTo>
                      <a:pt x="14" y="752"/>
                    </a:moveTo>
                    <a:lnTo>
                      <a:pt x="21" y="759"/>
                    </a:lnTo>
                    <a:lnTo>
                      <a:pt x="21" y="0"/>
                    </a:lnTo>
                    <a:lnTo>
                      <a:pt x="0" y="0"/>
                    </a:lnTo>
                    <a:lnTo>
                      <a:pt x="0" y="759"/>
                    </a:lnTo>
                    <a:lnTo>
                      <a:pt x="14" y="767"/>
                    </a:lnTo>
                    <a:lnTo>
                      <a:pt x="0" y="759"/>
                    </a:lnTo>
                    <a:lnTo>
                      <a:pt x="0" y="763"/>
                    </a:lnTo>
                    <a:lnTo>
                      <a:pt x="7" y="764"/>
                    </a:lnTo>
                    <a:lnTo>
                      <a:pt x="7" y="767"/>
                    </a:lnTo>
                    <a:lnTo>
                      <a:pt x="14" y="767"/>
                    </a:lnTo>
                    <a:lnTo>
                      <a:pt x="14" y="767"/>
                    </a:lnTo>
                    <a:lnTo>
                      <a:pt x="21" y="764"/>
                    </a:lnTo>
                    <a:lnTo>
                      <a:pt x="21" y="763"/>
                    </a:lnTo>
                    <a:lnTo>
                      <a:pt x="21" y="759"/>
                    </a:lnTo>
                    <a:lnTo>
                      <a:pt x="14" y="75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3874680" y="5993640"/>
                <a:ext cx="356760" cy="261720"/>
              </a:xfrm>
              <a:custGeom>
                <a:avLst/>
                <a:gdLst/>
                <a:ahLst/>
                <a:rect l="l" t="t" r="r" b="b"/>
                <a:pathLst>
                  <a:path w="335" h="268">
                    <a:moveTo>
                      <a:pt x="0" y="267"/>
                    </a:moveTo>
                    <a:lnTo>
                      <a:pt x="334" y="267"/>
                    </a:lnTo>
                    <a:lnTo>
                      <a:pt x="334" y="0"/>
                    </a:lnTo>
                    <a:lnTo>
                      <a:pt x="0" y="0"/>
                    </a:lnTo>
                    <a:lnTo>
                      <a:pt x="0" y="26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3874680" y="6254280"/>
                <a:ext cx="361080" cy="19440"/>
              </a:xfrm>
              <a:custGeom>
                <a:avLst/>
                <a:gdLst/>
                <a:ahLst/>
                <a:rect l="l" t="t" r="r" b="b"/>
                <a:pathLst>
                  <a:path w="339" h="20">
                    <a:moveTo>
                      <a:pt x="328" y="10"/>
                    </a:moveTo>
                    <a:lnTo>
                      <a:pt x="332" y="0"/>
                    </a:lnTo>
                    <a:lnTo>
                      <a:pt x="0" y="0"/>
                    </a:lnTo>
                    <a:lnTo>
                      <a:pt x="0" y="19"/>
                    </a:lnTo>
                    <a:lnTo>
                      <a:pt x="332" y="19"/>
                    </a:lnTo>
                    <a:lnTo>
                      <a:pt x="338" y="10"/>
                    </a:lnTo>
                    <a:lnTo>
                      <a:pt x="332" y="19"/>
                    </a:lnTo>
                    <a:lnTo>
                      <a:pt x="335" y="19"/>
                    </a:lnTo>
                    <a:lnTo>
                      <a:pt x="336" y="16"/>
                    </a:lnTo>
                    <a:lnTo>
                      <a:pt x="336" y="13"/>
                    </a:lnTo>
                    <a:lnTo>
                      <a:pt x="338" y="10"/>
                    </a:lnTo>
                    <a:lnTo>
                      <a:pt x="336" y="5"/>
                    </a:lnTo>
                    <a:lnTo>
                      <a:pt x="336" y="2"/>
                    </a:lnTo>
                    <a:lnTo>
                      <a:pt x="335" y="2"/>
                    </a:lnTo>
                    <a:lnTo>
                      <a:pt x="332" y="0"/>
                    </a:lnTo>
                    <a:lnTo>
                      <a:pt x="328" y="10"/>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25" name=""/>
              <p:cNvSpPr/>
              <p:nvPr/>
            </p:nvSpPr>
            <p:spPr>
              <a:xfrm>
                <a:off x="4230720" y="5985720"/>
                <a:ext cx="24120" cy="269280"/>
              </a:xfrm>
              <a:custGeom>
                <a:avLst/>
                <a:gdLst/>
                <a:ahLst/>
                <a:rect l="l" t="t" r="r" b="b"/>
                <a:pathLst>
                  <a:path w="23" h="276">
                    <a:moveTo>
                      <a:pt x="7" y="15"/>
                    </a:moveTo>
                    <a:lnTo>
                      <a:pt x="0" y="8"/>
                    </a:lnTo>
                    <a:lnTo>
                      <a:pt x="0" y="275"/>
                    </a:lnTo>
                    <a:lnTo>
                      <a:pt x="22" y="275"/>
                    </a:lnTo>
                    <a:lnTo>
                      <a:pt x="22" y="8"/>
                    </a:lnTo>
                    <a:lnTo>
                      <a:pt x="7" y="0"/>
                    </a:lnTo>
                    <a:lnTo>
                      <a:pt x="22" y="8"/>
                    </a:lnTo>
                    <a:lnTo>
                      <a:pt x="22" y="4"/>
                    </a:lnTo>
                    <a:lnTo>
                      <a:pt x="22" y="2"/>
                    </a:lnTo>
                    <a:lnTo>
                      <a:pt x="14" y="1"/>
                    </a:lnTo>
                    <a:lnTo>
                      <a:pt x="7" y="0"/>
                    </a:lnTo>
                    <a:lnTo>
                      <a:pt x="7" y="1"/>
                    </a:lnTo>
                    <a:lnTo>
                      <a:pt x="0" y="2"/>
                    </a:lnTo>
                    <a:lnTo>
                      <a:pt x="0" y="4"/>
                    </a:lnTo>
                    <a:lnTo>
                      <a:pt x="0" y="8"/>
                    </a:lnTo>
                    <a:lnTo>
                      <a:pt x="7"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868560" y="5985720"/>
                <a:ext cx="363240" cy="20520"/>
              </a:xfrm>
              <a:custGeom>
                <a:avLst/>
                <a:gdLst/>
                <a:ahLst/>
                <a:rect l="l" t="t" r="r" b="b"/>
                <a:pathLst>
                  <a:path w="341" h="21">
                    <a:moveTo>
                      <a:pt x="9" y="10"/>
                    </a:moveTo>
                    <a:lnTo>
                      <a:pt x="4" y="20"/>
                    </a:lnTo>
                    <a:lnTo>
                      <a:pt x="340" y="20"/>
                    </a:lnTo>
                    <a:lnTo>
                      <a:pt x="340" y="0"/>
                    </a:lnTo>
                    <a:lnTo>
                      <a:pt x="4" y="0"/>
                    </a:lnTo>
                    <a:lnTo>
                      <a:pt x="0" y="10"/>
                    </a:lnTo>
                    <a:lnTo>
                      <a:pt x="4" y="0"/>
                    </a:lnTo>
                    <a:lnTo>
                      <a:pt x="2" y="0"/>
                    </a:lnTo>
                    <a:lnTo>
                      <a:pt x="1" y="3"/>
                    </a:lnTo>
                    <a:lnTo>
                      <a:pt x="1" y="6"/>
                    </a:lnTo>
                    <a:lnTo>
                      <a:pt x="0" y="10"/>
                    </a:lnTo>
                    <a:lnTo>
                      <a:pt x="1" y="13"/>
                    </a:lnTo>
                    <a:lnTo>
                      <a:pt x="1" y="16"/>
                    </a:lnTo>
                    <a:lnTo>
                      <a:pt x="2" y="20"/>
                    </a:lnTo>
                    <a:lnTo>
                      <a:pt x="4" y="20"/>
                    </a:lnTo>
                    <a:lnTo>
                      <a:pt x="9" y="10"/>
                    </a:lnTo>
                  </a:path>
                </a:pathLst>
              </a:custGeom>
              <a:solidFill>
                <a:srgbClr val="80808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a:off x="3868560" y="5993640"/>
                <a:ext cx="25200" cy="269640"/>
              </a:xfrm>
              <a:custGeom>
                <a:avLst/>
                <a:gdLst/>
                <a:ahLst/>
                <a:rect l="l" t="t" r="r" b="b"/>
                <a:pathLst>
                  <a:path w="24" h="276">
                    <a:moveTo>
                      <a:pt x="11" y="260"/>
                    </a:moveTo>
                    <a:lnTo>
                      <a:pt x="23" y="267"/>
                    </a:lnTo>
                    <a:lnTo>
                      <a:pt x="23" y="0"/>
                    </a:lnTo>
                    <a:lnTo>
                      <a:pt x="0" y="0"/>
                    </a:lnTo>
                    <a:lnTo>
                      <a:pt x="0" y="267"/>
                    </a:lnTo>
                    <a:lnTo>
                      <a:pt x="11" y="275"/>
                    </a:lnTo>
                    <a:lnTo>
                      <a:pt x="0" y="267"/>
                    </a:lnTo>
                    <a:lnTo>
                      <a:pt x="0" y="271"/>
                    </a:lnTo>
                    <a:lnTo>
                      <a:pt x="5" y="273"/>
                    </a:lnTo>
                    <a:lnTo>
                      <a:pt x="5" y="275"/>
                    </a:lnTo>
                    <a:lnTo>
                      <a:pt x="11" y="275"/>
                    </a:lnTo>
                    <a:lnTo>
                      <a:pt x="17" y="275"/>
                    </a:lnTo>
                    <a:lnTo>
                      <a:pt x="17" y="273"/>
                    </a:lnTo>
                    <a:lnTo>
                      <a:pt x="23" y="271"/>
                    </a:lnTo>
                    <a:lnTo>
                      <a:pt x="23" y="267"/>
                    </a:lnTo>
                    <a:lnTo>
                      <a:pt x="11" y="26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293720" y="6109920"/>
                <a:ext cx="281160" cy="473400"/>
              </a:xfrm>
              <a:custGeom>
                <a:avLst/>
                <a:gdLst/>
                <a:ahLst/>
                <a:rect l="l" t="t" r="r" b="b"/>
                <a:pathLst>
                  <a:path w="264" h="485">
                    <a:moveTo>
                      <a:pt x="0" y="484"/>
                    </a:moveTo>
                    <a:lnTo>
                      <a:pt x="263" y="484"/>
                    </a:lnTo>
                    <a:lnTo>
                      <a:pt x="263" y="0"/>
                    </a:lnTo>
                    <a:lnTo>
                      <a:pt x="0" y="0"/>
                    </a:lnTo>
                    <a:lnTo>
                      <a:pt x="0" y="48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293720" y="6582600"/>
                <a:ext cx="285480" cy="19440"/>
              </a:xfrm>
              <a:custGeom>
                <a:avLst/>
                <a:gdLst/>
                <a:ahLst/>
                <a:rect l="l" t="t" r="r" b="b"/>
                <a:pathLst>
                  <a:path w="268" h="20">
                    <a:moveTo>
                      <a:pt x="257" y="10"/>
                    </a:moveTo>
                    <a:lnTo>
                      <a:pt x="261" y="0"/>
                    </a:lnTo>
                    <a:lnTo>
                      <a:pt x="0" y="0"/>
                    </a:lnTo>
                    <a:lnTo>
                      <a:pt x="0" y="19"/>
                    </a:lnTo>
                    <a:lnTo>
                      <a:pt x="261" y="19"/>
                    </a:lnTo>
                    <a:lnTo>
                      <a:pt x="267" y="10"/>
                    </a:lnTo>
                    <a:lnTo>
                      <a:pt x="261" y="19"/>
                    </a:lnTo>
                    <a:lnTo>
                      <a:pt x="264" y="19"/>
                    </a:lnTo>
                    <a:lnTo>
                      <a:pt x="265" y="16"/>
                    </a:lnTo>
                    <a:lnTo>
                      <a:pt x="265" y="13"/>
                    </a:lnTo>
                    <a:lnTo>
                      <a:pt x="267" y="10"/>
                    </a:lnTo>
                    <a:lnTo>
                      <a:pt x="265" y="5"/>
                    </a:lnTo>
                    <a:lnTo>
                      <a:pt x="265" y="2"/>
                    </a:lnTo>
                    <a:lnTo>
                      <a:pt x="264" y="2"/>
                    </a:lnTo>
                    <a:lnTo>
                      <a:pt x="261" y="0"/>
                    </a:lnTo>
                    <a:lnTo>
                      <a:pt x="257" y="10"/>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30" name=""/>
              <p:cNvSpPr/>
              <p:nvPr/>
            </p:nvSpPr>
            <p:spPr>
              <a:xfrm>
                <a:off x="4574160" y="6102720"/>
                <a:ext cx="23400" cy="480240"/>
              </a:xfrm>
              <a:custGeom>
                <a:avLst/>
                <a:gdLst/>
                <a:ahLst/>
                <a:rect l="l" t="t" r="r" b="b"/>
                <a:pathLst>
                  <a:path w="22" h="492">
                    <a:moveTo>
                      <a:pt x="10" y="14"/>
                    </a:moveTo>
                    <a:lnTo>
                      <a:pt x="0" y="7"/>
                    </a:lnTo>
                    <a:lnTo>
                      <a:pt x="0" y="491"/>
                    </a:lnTo>
                    <a:lnTo>
                      <a:pt x="21" y="491"/>
                    </a:lnTo>
                    <a:lnTo>
                      <a:pt x="21" y="7"/>
                    </a:lnTo>
                    <a:lnTo>
                      <a:pt x="10" y="0"/>
                    </a:lnTo>
                    <a:lnTo>
                      <a:pt x="21" y="7"/>
                    </a:lnTo>
                    <a:lnTo>
                      <a:pt x="21" y="3"/>
                    </a:lnTo>
                    <a:lnTo>
                      <a:pt x="15" y="1"/>
                    </a:lnTo>
                    <a:lnTo>
                      <a:pt x="15" y="0"/>
                    </a:lnTo>
                    <a:lnTo>
                      <a:pt x="10" y="0"/>
                    </a:lnTo>
                    <a:lnTo>
                      <a:pt x="5" y="0"/>
                    </a:lnTo>
                    <a:lnTo>
                      <a:pt x="5" y="1"/>
                    </a:lnTo>
                    <a:lnTo>
                      <a:pt x="0" y="3"/>
                    </a:lnTo>
                    <a:lnTo>
                      <a:pt x="0" y="7"/>
                    </a:lnTo>
                    <a:lnTo>
                      <a:pt x="10"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4290480" y="6102720"/>
                <a:ext cx="284400" cy="18360"/>
              </a:xfrm>
              <a:custGeom>
                <a:avLst/>
                <a:gdLst/>
                <a:ahLst/>
                <a:rect l="l" t="t" r="r" b="b"/>
                <a:pathLst>
                  <a:path w="267" h="19">
                    <a:moveTo>
                      <a:pt x="8" y="10"/>
                    </a:moveTo>
                    <a:lnTo>
                      <a:pt x="4" y="18"/>
                    </a:lnTo>
                    <a:lnTo>
                      <a:pt x="266" y="18"/>
                    </a:lnTo>
                    <a:lnTo>
                      <a:pt x="266" y="0"/>
                    </a:lnTo>
                    <a:lnTo>
                      <a:pt x="4" y="0"/>
                    </a:lnTo>
                    <a:lnTo>
                      <a:pt x="0" y="10"/>
                    </a:lnTo>
                    <a:lnTo>
                      <a:pt x="4" y="0"/>
                    </a:lnTo>
                    <a:lnTo>
                      <a:pt x="2" y="0"/>
                    </a:lnTo>
                    <a:lnTo>
                      <a:pt x="1" y="2"/>
                    </a:lnTo>
                    <a:lnTo>
                      <a:pt x="0" y="5"/>
                    </a:lnTo>
                    <a:lnTo>
                      <a:pt x="0" y="10"/>
                    </a:lnTo>
                    <a:lnTo>
                      <a:pt x="0" y="12"/>
                    </a:lnTo>
                    <a:lnTo>
                      <a:pt x="1" y="15"/>
                    </a:lnTo>
                    <a:lnTo>
                      <a:pt x="2" y="18"/>
                    </a:lnTo>
                    <a:lnTo>
                      <a:pt x="4" y="18"/>
                    </a:lnTo>
                    <a:lnTo>
                      <a:pt x="8" y="10"/>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32" name=""/>
              <p:cNvSpPr/>
              <p:nvPr/>
            </p:nvSpPr>
            <p:spPr>
              <a:xfrm>
                <a:off x="4290480" y="6109920"/>
                <a:ext cx="23400" cy="481320"/>
              </a:xfrm>
              <a:custGeom>
                <a:avLst/>
                <a:gdLst/>
                <a:ahLst/>
                <a:rect l="l" t="t" r="r" b="b"/>
                <a:pathLst>
                  <a:path w="22" h="493">
                    <a:moveTo>
                      <a:pt x="7" y="477"/>
                    </a:moveTo>
                    <a:lnTo>
                      <a:pt x="21" y="484"/>
                    </a:lnTo>
                    <a:lnTo>
                      <a:pt x="21" y="0"/>
                    </a:lnTo>
                    <a:lnTo>
                      <a:pt x="0" y="0"/>
                    </a:lnTo>
                    <a:lnTo>
                      <a:pt x="0" y="484"/>
                    </a:lnTo>
                    <a:lnTo>
                      <a:pt x="7" y="492"/>
                    </a:lnTo>
                    <a:lnTo>
                      <a:pt x="0" y="484"/>
                    </a:lnTo>
                    <a:lnTo>
                      <a:pt x="0" y="488"/>
                    </a:lnTo>
                    <a:lnTo>
                      <a:pt x="0" y="490"/>
                    </a:lnTo>
                    <a:lnTo>
                      <a:pt x="7" y="492"/>
                    </a:lnTo>
                    <a:lnTo>
                      <a:pt x="7" y="492"/>
                    </a:lnTo>
                    <a:lnTo>
                      <a:pt x="14" y="492"/>
                    </a:lnTo>
                    <a:lnTo>
                      <a:pt x="14" y="490"/>
                    </a:lnTo>
                    <a:lnTo>
                      <a:pt x="21" y="488"/>
                    </a:lnTo>
                    <a:lnTo>
                      <a:pt x="21" y="484"/>
                    </a:lnTo>
                    <a:lnTo>
                      <a:pt x="7" y="47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3325680" y="6005160"/>
                <a:ext cx="192600" cy="285120"/>
              </a:xfrm>
              <a:custGeom>
                <a:avLst/>
                <a:gdLst/>
                <a:ahLst/>
                <a:rect l="l" t="t" r="r" b="b"/>
                <a:pathLst>
                  <a:path w="181" h="292">
                    <a:moveTo>
                      <a:pt x="0" y="291"/>
                    </a:moveTo>
                    <a:lnTo>
                      <a:pt x="180" y="291"/>
                    </a:lnTo>
                    <a:lnTo>
                      <a:pt x="180" y="0"/>
                    </a:lnTo>
                    <a:lnTo>
                      <a:pt x="0" y="0"/>
                    </a:lnTo>
                    <a:lnTo>
                      <a:pt x="0" y="29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3325680" y="6005160"/>
                <a:ext cx="198000" cy="291960"/>
              </a:xfrm>
              <a:custGeom>
                <a:avLst/>
                <a:gdLst/>
                <a:ahLst/>
                <a:rect l="l" t="t" r="r" b="b"/>
                <a:pathLst>
                  <a:path w="186" h="299">
                    <a:moveTo>
                      <a:pt x="0" y="298"/>
                    </a:moveTo>
                    <a:lnTo>
                      <a:pt x="185" y="298"/>
                    </a:lnTo>
                    <a:lnTo>
                      <a:pt x="185" y="0"/>
                    </a:lnTo>
                    <a:lnTo>
                      <a:pt x="0" y="0"/>
                    </a:lnTo>
                    <a:lnTo>
                      <a:pt x="0" y="29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427920" y="6096960"/>
                <a:ext cx="24480" cy="20520"/>
              </a:xfrm>
              <a:custGeom>
                <a:avLst/>
                <a:gdLst/>
                <a:ahLst/>
                <a:rect l="l" t="t" r="r" b="b"/>
                <a:pathLst>
                  <a:path w="23" h="21">
                    <a:moveTo>
                      <a:pt x="0" y="20"/>
                    </a:moveTo>
                    <a:lnTo>
                      <a:pt x="22" y="20"/>
                    </a:lnTo>
                    <a:lnTo>
                      <a:pt x="22" y="0"/>
                    </a:lnTo>
                    <a:lnTo>
                      <a:pt x="0" y="0"/>
                    </a:lnTo>
                    <a:lnTo>
                      <a:pt x="0" y="20"/>
                    </a:lnTo>
                  </a:path>
                </a:pathLst>
              </a:custGeom>
              <a:solidFill>
                <a:srgbClr val="80808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6" name=""/>
              <p:cNvSpPr/>
              <p:nvPr/>
            </p:nvSpPr>
            <p:spPr>
              <a:xfrm>
                <a:off x="3427920" y="6096960"/>
                <a:ext cx="24480" cy="25200"/>
              </a:xfrm>
              <a:custGeom>
                <a:avLst/>
                <a:gdLst/>
                <a:ahLst/>
                <a:rect l="l" t="t" r="r" b="b"/>
                <a:pathLst>
                  <a:path w="23" h="26">
                    <a:moveTo>
                      <a:pt x="0" y="25"/>
                    </a:moveTo>
                    <a:lnTo>
                      <a:pt x="22" y="25"/>
                    </a:lnTo>
                    <a:lnTo>
                      <a:pt x="22" y="0"/>
                    </a:lnTo>
                    <a:lnTo>
                      <a:pt x="0" y="0"/>
                    </a:lnTo>
                    <a:lnTo>
                      <a:pt x="0" y="25"/>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7" name=""/>
              <p:cNvSpPr/>
              <p:nvPr/>
            </p:nvSpPr>
            <p:spPr>
              <a:xfrm>
                <a:off x="3427920" y="6125400"/>
                <a:ext cx="24480" cy="19440"/>
              </a:xfrm>
              <a:custGeom>
                <a:avLst/>
                <a:gdLst/>
                <a:ahLst/>
                <a:rect l="l" t="t" r="r" b="b"/>
                <a:pathLst>
                  <a:path w="23" h="20">
                    <a:moveTo>
                      <a:pt x="0" y="19"/>
                    </a:moveTo>
                    <a:lnTo>
                      <a:pt x="22" y="19"/>
                    </a:lnTo>
                    <a:lnTo>
                      <a:pt x="22"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38" name=""/>
              <p:cNvSpPr/>
              <p:nvPr/>
            </p:nvSpPr>
            <p:spPr>
              <a:xfrm>
                <a:off x="3427920" y="6125400"/>
                <a:ext cx="24480" cy="24120"/>
              </a:xfrm>
              <a:custGeom>
                <a:avLst/>
                <a:gdLst/>
                <a:ahLst/>
                <a:rect l="l" t="t" r="r" b="b"/>
                <a:pathLst>
                  <a:path w="23" h="25">
                    <a:moveTo>
                      <a:pt x="0" y="24"/>
                    </a:moveTo>
                    <a:lnTo>
                      <a:pt x="22" y="24"/>
                    </a:lnTo>
                    <a:lnTo>
                      <a:pt x="22" y="0"/>
                    </a:lnTo>
                    <a:lnTo>
                      <a:pt x="0" y="0"/>
                    </a:lnTo>
                    <a:lnTo>
                      <a:pt x="0" y="24"/>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9" name=""/>
              <p:cNvSpPr/>
              <p:nvPr/>
            </p:nvSpPr>
            <p:spPr>
              <a:xfrm>
                <a:off x="3427920" y="6150600"/>
                <a:ext cx="24480" cy="18360"/>
              </a:xfrm>
              <a:custGeom>
                <a:avLst/>
                <a:gdLst/>
                <a:ahLst/>
                <a:rect l="l" t="t" r="r" b="b"/>
                <a:pathLst>
                  <a:path w="23" h="19">
                    <a:moveTo>
                      <a:pt x="0" y="18"/>
                    </a:moveTo>
                    <a:lnTo>
                      <a:pt x="22" y="18"/>
                    </a:lnTo>
                    <a:lnTo>
                      <a:pt x="22" y="0"/>
                    </a:lnTo>
                    <a:lnTo>
                      <a:pt x="0" y="0"/>
                    </a:lnTo>
                    <a:lnTo>
                      <a:pt x="0" y="18"/>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40" name=""/>
              <p:cNvSpPr/>
              <p:nvPr/>
            </p:nvSpPr>
            <p:spPr>
              <a:xfrm>
                <a:off x="3427920" y="6150600"/>
                <a:ext cx="24480" cy="26280"/>
              </a:xfrm>
              <a:custGeom>
                <a:avLst/>
                <a:gdLst/>
                <a:ahLst/>
                <a:rect l="l" t="t" r="r" b="b"/>
                <a:pathLst>
                  <a:path w="23" h="27">
                    <a:moveTo>
                      <a:pt x="0" y="26"/>
                    </a:moveTo>
                    <a:lnTo>
                      <a:pt x="22" y="26"/>
                    </a:lnTo>
                    <a:lnTo>
                      <a:pt x="22" y="0"/>
                    </a:lnTo>
                    <a:lnTo>
                      <a:pt x="0" y="0"/>
                    </a:lnTo>
                    <a:lnTo>
                      <a:pt x="0" y="26"/>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41" name=""/>
              <p:cNvSpPr/>
              <p:nvPr/>
            </p:nvSpPr>
            <p:spPr>
              <a:xfrm>
                <a:off x="3427920" y="6177240"/>
                <a:ext cx="24480" cy="19440"/>
              </a:xfrm>
              <a:custGeom>
                <a:avLst/>
                <a:gdLst/>
                <a:ahLst/>
                <a:rect l="l" t="t" r="r" b="b"/>
                <a:pathLst>
                  <a:path w="23" h="20">
                    <a:moveTo>
                      <a:pt x="0" y="19"/>
                    </a:moveTo>
                    <a:lnTo>
                      <a:pt x="22" y="19"/>
                    </a:lnTo>
                    <a:lnTo>
                      <a:pt x="22"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42" name=""/>
              <p:cNvSpPr/>
              <p:nvPr/>
            </p:nvSpPr>
            <p:spPr>
              <a:xfrm>
                <a:off x="3427920" y="6177240"/>
                <a:ext cx="24480" cy="25200"/>
              </a:xfrm>
              <a:custGeom>
                <a:avLst/>
                <a:gdLst/>
                <a:ahLst/>
                <a:rect l="l" t="t" r="r" b="b"/>
                <a:pathLst>
                  <a:path w="23" h="26">
                    <a:moveTo>
                      <a:pt x="0" y="25"/>
                    </a:moveTo>
                    <a:lnTo>
                      <a:pt x="22" y="25"/>
                    </a:lnTo>
                    <a:lnTo>
                      <a:pt x="22" y="0"/>
                    </a:lnTo>
                    <a:lnTo>
                      <a:pt x="0" y="0"/>
                    </a:lnTo>
                    <a:lnTo>
                      <a:pt x="0" y="25"/>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43" name=""/>
              <p:cNvSpPr/>
              <p:nvPr/>
            </p:nvSpPr>
            <p:spPr>
              <a:xfrm>
                <a:off x="3427920" y="6202440"/>
                <a:ext cx="24480" cy="19440"/>
              </a:xfrm>
              <a:custGeom>
                <a:avLst/>
                <a:gdLst/>
                <a:ahLst/>
                <a:rect l="l" t="t" r="r" b="b"/>
                <a:pathLst>
                  <a:path w="23" h="20">
                    <a:moveTo>
                      <a:pt x="0" y="19"/>
                    </a:moveTo>
                    <a:lnTo>
                      <a:pt x="22" y="19"/>
                    </a:lnTo>
                    <a:lnTo>
                      <a:pt x="22"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44" name=""/>
              <p:cNvSpPr/>
              <p:nvPr/>
            </p:nvSpPr>
            <p:spPr>
              <a:xfrm>
                <a:off x="3427920" y="6202440"/>
                <a:ext cx="24480" cy="26280"/>
              </a:xfrm>
              <a:custGeom>
                <a:avLst/>
                <a:gdLst/>
                <a:ahLst/>
                <a:rect l="l" t="t" r="r" b="b"/>
                <a:pathLst>
                  <a:path w="23" h="27">
                    <a:moveTo>
                      <a:pt x="0" y="26"/>
                    </a:moveTo>
                    <a:lnTo>
                      <a:pt x="22" y="26"/>
                    </a:lnTo>
                    <a:lnTo>
                      <a:pt x="22" y="0"/>
                    </a:lnTo>
                    <a:lnTo>
                      <a:pt x="0" y="0"/>
                    </a:lnTo>
                    <a:lnTo>
                      <a:pt x="0" y="26"/>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45" name=""/>
              <p:cNvSpPr/>
              <p:nvPr/>
            </p:nvSpPr>
            <p:spPr>
              <a:xfrm>
                <a:off x="3447360" y="6096960"/>
                <a:ext cx="24120" cy="20520"/>
              </a:xfrm>
              <a:custGeom>
                <a:avLst/>
                <a:gdLst/>
                <a:ahLst/>
                <a:rect l="l" t="t" r="r" b="b"/>
                <a:pathLst>
                  <a:path w="23" h="21">
                    <a:moveTo>
                      <a:pt x="0" y="20"/>
                    </a:moveTo>
                    <a:lnTo>
                      <a:pt x="22" y="20"/>
                    </a:lnTo>
                    <a:lnTo>
                      <a:pt x="22" y="0"/>
                    </a:lnTo>
                    <a:lnTo>
                      <a:pt x="0" y="0"/>
                    </a:lnTo>
                    <a:lnTo>
                      <a:pt x="0" y="20"/>
                    </a:lnTo>
                  </a:path>
                </a:pathLst>
              </a:custGeom>
              <a:solidFill>
                <a:srgbClr val="80808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6" name=""/>
              <p:cNvSpPr/>
              <p:nvPr/>
            </p:nvSpPr>
            <p:spPr>
              <a:xfrm>
                <a:off x="3447360" y="6096960"/>
                <a:ext cx="24120" cy="25200"/>
              </a:xfrm>
              <a:custGeom>
                <a:avLst/>
                <a:gdLst/>
                <a:ahLst/>
                <a:rect l="l" t="t" r="r" b="b"/>
                <a:pathLst>
                  <a:path w="23" h="26">
                    <a:moveTo>
                      <a:pt x="0" y="25"/>
                    </a:moveTo>
                    <a:lnTo>
                      <a:pt x="22" y="25"/>
                    </a:lnTo>
                    <a:lnTo>
                      <a:pt x="22" y="0"/>
                    </a:lnTo>
                    <a:lnTo>
                      <a:pt x="0" y="0"/>
                    </a:lnTo>
                    <a:lnTo>
                      <a:pt x="0" y="25"/>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47" name=""/>
              <p:cNvSpPr/>
              <p:nvPr/>
            </p:nvSpPr>
            <p:spPr>
              <a:xfrm>
                <a:off x="3447360" y="6125400"/>
                <a:ext cx="24120" cy="19440"/>
              </a:xfrm>
              <a:custGeom>
                <a:avLst/>
                <a:gdLst/>
                <a:ahLst/>
                <a:rect l="l" t="t" r="r" b="b"/>
                <a:pathLst>
                  <a:path w="23" h="20">
                    <a:moveTo>
                      <a:pt x="0" y="19"/>
                    </a:moveTo>
                    <a:lnTo>
                      <a:pt x="22" y="19"/>
                    </a:lnTo>
                    <a:lnTo>
                      <a:pt x="22"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48" name=""/>
              <p:cNvSpPr/>
              <p:nvPr/>
            </p:nvSpPr>
            <p:spPr>
              <a:xfrm>
                <a:off x="3447360" y="6125400"/>
                <a:ext cx="24120" cy="24120"/>
              </a:xfrm>
              <a:custGeom>
                <a:avLst/>
                <a:gdLst/>
                <a:ahLst/>
                <a:rect l="l" t="t" r="r" b="b"/>
                <a:pathLst>
                  <a:path w="23" h="25">
                    <a:moveTo>
                      <a:pt x="0" y="24"/>
                    </a:moveTo>
                    <a:lnTo>
                      <a:pt x="22" y="24"/>
                    </a:lnTo>
                    <a:lnTo>
                      <a:pt x="22" y="0"/>
                    </a:lnTo>
                    <a:lnTo>
                      <a:pt x="0" y="0"/>
                    </a:lnTo>
                    <a:lnTo>
                      <a:pt x="0" y="24"/>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49" name=""/>
              <p:cNvSpPr/>
              <p:nvPr/>
            </p:nvSpPr>
            <p:spPr>
              <a:xfrm>
                <a:off x="3447360" y="6150600"/>
                <a:ext cx="24120" cy="18360"/>
              </a:xfrm>
              <a:custGeom>
                <a:avLst/>
                <a:gdLst/>
                <a:ahLst/>
                <a:rect l="l" t="t" r="r" b="b"/>
                <a:pathLst>
                  <a:path w="23" h="19">
                    <a:moveTo>
                      <a:pt x="0" y="18"/>
                    </a:moveTo>
                    <a:lnTo>
                      <a:pt x="22" y="18"/>
                    </a:lnTo>
                    <a:lnTo>
                      <a:pt x="22" y="0"/>
                    </a:lnTo>
                    <a:lnTo>
                      <a:pt x="0" y="0"/>
                    </a:lnTo>
                    <a:lnTo>
                      <a:pt x="0" y="18"/>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50" name=""/>
              <p:cNvSpPr/>
              <p:nvPr/>
            </p:nvSpPr>
            <p:spPr>
              <a:xfrm>
                <a:off x="3447360" y="6150600"/>
                <a:ext cx="24120" cy="26280"/>
              </a:xfrm>
              <a:custGeom>
                <a:avLst/>
                <a:gdLst/>
                <a:ahLst/>
                <a:rect l="l" t="t" r="r" b="b"/>
                <a:pathLst>
                  <a:path w="23" h="27">
                    <a:moveTo>
                      <a:pt x="0" y="26"/>
                    </a:moveTo>
                    <a:lnTo>
                      <a:pt x="22" y="26"/>
                    </a:lnTo>
                    <a:lnTo>
                      <a:pt x="22" y="0"/>
                    </a:lnTo>
                    <a:lnTo>
                      <a:pt x="0" y="0"/>
                    </a:lnTo>
                    <a:lnTo>
                      <a:pt x="0" y="26"/>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51" name=""/>
              <p:cNvSpPr/>
              <p:nvPr/>
            </p:nvSpPr>
            <p:spPr>
              <a:xfrm>
                <a:off x="3447360" y="6177240"/>
                <a:ext cx="24120" cy="19440"/>
              </a:xfrm>
              <a:custGeom>
                <a:avLst/>
                <a:gdLst/>
                <a:ahLst/>
                <a:rect l="l" t="t" r="r" b="b"/>
                <a:pathLst>
                  <a:path w="23" h="20">
                    <a:moveTo>
                      <a:pt x="0" y="19"/>
                    </a:moveTo>
                    <a:lnTo>
                      <a:pt x="22" y="19"/>
                    </a:lnTo>
                    <a:lnTo>
                      <a:pt x="22"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2" name=""/>
              <p:cNvSpPr/>
              <p:nvPr/>
            </p:nvSpPr>
            <p:spPr>
              <a:xfrm>
                <a:off x="3447360" y="6177240"/>
                <a:ext cx="24120" cy="25200"/>
              </a:xfrm>
              <a:custGeom>
                <a:avLst/>
                <a:gdLst/>
                <a:ahLst/>
                <a:rect l="l" t="t" r="r" b="b"/>
                <a:pathLst>
                  <a:path w="23" h="26">
                    <a:moveTo>
                      <a:pt x="0" y="25"/>
                    </a:moveTo>
                    <a:lnTo>
                      <a:pt x="22" y="25"/>
                    </a:lnTo>
                    <a:lnTo>
                      <a:pt x="22" y="0"/>
                    </a:lnTo>
                    <a:lnTo>
                      <a:pt x="0" y="0"/>
                    </a:lnTo>
                    <a:lnTo>
                      <a:pt x="0" y="25"/>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3" name=""/>
              <p:cNvSpPr/>
              <p:nvPr/>
            </p:nvSpPr>
            <p:spPr>
              <a:xfrm>
                <a:off x="3447360" y="6202440"/>
                <a:ext cx="24120" cy="19440"/>
              </a:xfrm>
              <a:custGeom>
                <a:avLst/>
                <a:gdLst/>
                <a:ahLst/>
                <a:rect l="l" t="t" r="r" b="b"/>
                <a:pathLst>
                  <a:path w="23" h="20">
                    <a:moveTo>
                      <a:pt x="0" y="19"/>
                    </a:moveTo>
                    <a:lnTo>
                      <a:pt x="22" y="19"/>
                    </a:lnTo>
                    <a:lnTo>
                      <a:pt x="22"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4" name=""/>
              <p:cNvSpPr/>
              <p:nvPr/>
            </p:nvSpPr>
            <p:spPr>
              <a:xfrm>
                <a:off x="3447360" y="6202440"/>
                <a:ext cx="24120" cy="26280"/>
              </a:xfrm>
              <a:custGeom>
                <a:avLst/>
                <a:gdLst/>
                <a:ahLst/>
                <a:rect l="l" t="t" r="r" b="b"/>
                <a:pathLst>
                  <a:path w="23" h="27">
                    <a:moveTo>
                      <a:pt x="0" y="26"/>
                    </a:moveTo>
                    <a:lnTo>
                      <a:pt x="22" y="26"/>
                    </a:lnTo>
                    <a:lnTo>
                      <a:pt x="22" y="0"/>
                    </a:lnTo>
                    <a:lnTo>
                      <a:pt x="0" y="0"/>
                    </a:lnTo>
                    <a:lnTo>
                      <a:pt x="0" y="26"/>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55" name=""/>
              <p:cNvSpPr/>
              <p:nvPr/>
            </p:nvSpPr>
            <p:spPr>
              <a:xfrm>
                <a:off x="3463200" y="6096960"/>
                <a:ext cx="24120" cy="20520"/>
              </a:xfrm>
              <a:custGeom>
                <a:avLst/>
                <a:gdLst/>
                <a:ahLst/>
                <a:rect l="l" t="t" r="r" b="b"/>
                <a:pathLst>
                  <a:path w="23" h="21">
                    <a:moveTo>
                      <a:pt x="0" y="20"/>
                    </a:moveTo>
                    <a:lnTo>
                      <a:pt x="22" y="20"/>
                    </a:lnTo>
                    <a:lnTo>
                      <a:pt x="22" y="0"/>
                    </a:lnTo>
                    <a:lnTo>
                      <a:pt x="0" y="0"/>
                    </a:lnTo>
                    <a:lnTo>
                      <a:pt x="0" y="20"/>
                    </a:lnTo>
                  </a:path>
                </a:pathLst>
              </a:custGeom>
              <a:solidFill>
                <a:srgbClr val="80808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6" name=""/>
              <p:cNvSpPr/>
              <p:nvPr/>
            </p:nvSpPr>
            <p:spPr>
              <a:xfrm>
                <a:off x="3463200" y="6096960"/>
                <a:ext cx="24120" cy="25200"/>
              </a:xfrm>
              <a:custGeom>
                <a:avLst/>
                <a:gdLst/>
                <a:ahLst/>
                <a:rect l="l" t="t" r="r" b="b"/>
                <a:pathLst>
                  <a:path w="23" h="26">
                    <a:moveTo>
                      <a:pt x="0" y="25"/>
                    </a:moveTo>
                    <a:lnTo>
                      <a:pt x="22" y="25"/>
                    </a:lnTo>
                    <a:lnTo>
                      <a:pt x="22" y="0"/>
                    </a:lnTo>
                    <a:lnTo>
                      <a:pt x="0" y="0"/>
                    </a:lnTo>
                    <a:lnTo>
                      <a:pt x="0" y="25"/>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7" name=""/>
              <p:cNvSpPr/>
              <p:nvPr/>
            </p:nvSpPr>
            <p:spPr>
              <a:xfrm>
                <a:off x="3463200" y="6125400"/>
                <a:ext cx="24120" cy="19440"/>
              </a:xfrm>
              <a:custGeom>
                <a:avLst/>
                <a:gdLst/>
                <a:ahLst/>
                <a:rect l="l" t="t" r="r" b="b"/>
                <a:pathLst>
                  <a:path w="23" h="20">
                    <a:moveTo>
                      <a:pt x="0" y="19"/>
                    </a:moveTo>
                    <a:lnTo>
                      <a:pt x="22" y="19"/>
                    </a:lnTo>
                    <a:lnTo>
                      <a:pt x="22"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8" name=""/>
              <p:cNvSpPr/>
              <p:nvPr/>
            </p:nvSpPr>
            <p:spPr>
              <a:xfrm>
                <a:off x="3463200" y="6125400"/>
                <a:ext cx="24120" cy="24120"/>
              </a:xfrm>
              <a:custGeom>
                <a:avLst/>
                <a:gdLst/>
                <a:ahLst/>
                <a:rect l="l" t="t" r="r" b="b"/>
                <a:pathLst>
                  <a:path w="23" h="25">
                    <a:moveTo>
                      <a:pt x="0" y="24"/>
                    </a:moveTo>
                    <a:lnTo>
                      <a:pt x="22" y="24"/>
                    </a:lnTo>
                    <a:lnTo>
                      <a:pt x="22" y="0"/>
                    </a:lnTo>
                    <a:lnTo>
                      <a:pt x="0" y="0"/>
                    </a:lnTo>
                    <a:lnTo>
                      <a:pt x="0" y="24"/>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59" name=""/>
              <p:cNvSpPr/>
              <p:nvPr/>
            </p:nvSpPr>
            <p:spPr>
              <a:xfrm>
                <a:off x="3463200" y="6150600"/>
                <a:ext cx="24120" cy="18360"/>
              </a:xfrm>
              <a:custGeom>
                <a:avLst/>
                <a:gdLst/>
                <a:ahLst/>
                <a:rect l="l" t="t" r="r" b="b"/>
                <a:pathLst>
                  <a:path w="23" h="19">
                    <a:moveTo>
                      <a:pt x="0" y="18"/>
                    </a:moveTo>
                    <a:lnTo>
                      <a:pt x="22" y="18"/>
                    </a:lnTo>
                    <a:lnTo>
                      <a:pt x="22" y="0"/>
                    </a:lnTo>
                    <a:lnTo>
                      <a:pt x="0" y="0"/>
                    </a:lnTo>
                    <a:lnTo>
                      <a:pt x="0" y="18"/>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60" name=""/>
              <p:cNvSpPr/>
              <p:nvPr/>
            </p:nvSpPr>
            <p:spPr>
              <a:xfrm>
                <a:off x="3463200" y="6150600"/>
                <a:ext cx="24120" cy="26280"/>
              </a:xfrm>
              <a:custGeom>
                <a:avLst/>
                <a:gdLst/>
                <a:ahLst/>
                <a:rect l="l" t="t" r="r" b="b"/>
                <a:pathLst>
                  <a:path w="23" h="27">
                    <a:moveTo>
                      <a:pt x="0" y="26"/>
                    </a:moveTo>
                    <a:lnTo>
                      <a:pt x="22" y="26"/>
                    </a:lnTo>
                    <a:lnTo>
                      <a:pt x="22" y="0"/>
                    </a:lnTo>
                    <a:lnTo>
                      <a:pt x="0" y="0"/>
                    </a:lnTo>
                    <a:lnTo>
                      <a:pt x="0" y="26"/>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61" name=""/>
              <p:cNvSpPr/>
              <p:nvPr/>
            </p:nvSpPr>
            <p:spPr>
              <a:xfrm>
                <a:off x="3463200" y="6177240"/>
                <a:ext cx="24120" cy="19440"/>
              </a:xfrm>
              <a:custGeom>
                <a:avLst/>
                <a:gdLst/>
                <a:ahLst/>
                <a:rect l="l" t="t" r="r" b="b"/>
                <a:pathLst>
                  <a:path w="23" h="20">
                    <a:moveTo>
                      <a:pt x="0" y="19"/>
                    </a:moveTo>
                    <a:lnTo>
                      <a:pt x="22" y="19"/>
                    </a:lnTo>
                    <a:lnTo>
                      <a:pt x="22"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2" name=""/>
              <p:cNvSpPr/>
              <p:nvPr/>
            </p:nvSpPr>
            <p:spPr>
              <a:xfrm>
                <a:off x="3463200" y="6177240"/>
                <a:ext cx="24120" cy="25200"/>
              </a:xfrm>
              <a:custGeom>
                <a:avLst/>
                <a:gdLst/>
                <a:ahLst/>
                <a:rect l="l" t="t" r="r" b="b"/>
                <a:pathLst>
                  <a:path w="23" h="26">
                    <a:moveTo>
                      <a:pt x="0" y="25"/>
                    </a:moveTo>
                    <a:lnTo>
                      <a:pt x="22" y="25"/>
                    </a:lnTo>
                    <a:lnTo>
                      <a:pt x="22" y="0"/>
                    </a:lnTo>
                    <a:lnTo>
                      <a:pt x="0" y="0"/>
                    </a:lnTo>
                    <a:lnTo>
                      <a:pt x="0" y="25"/>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63" name=""/>
              <p:cNvSpPr/>
              <p:nvPr/>
            </p:nvSpPr>
            <p:spPr>
              <a:xfrm>
                <a:off x="3463200" y="6202440"/>
                <a:ext cx="24120" cy="19440"/>
              </a:xfrm>
              <a:custGeom>
                <a:avLst/>
                <a:gdLst/>
                <a:ahLst/>
                <a:rect l="l" t="t" r="r" b="b"/>
                <a:pathLst>
                  <a:path w="23" h="20">
                    <a:moveTo>
                      <a:pt x="0" y="19"/>
                    </a:moveTo>
                    <a:lnTo>
                      <a:pt x="22" y="19"/>
                    </a:lnTo>
                    <a:lnTo>
                      <a:pt x="22"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4" name=""/>
              <p:cNvSpPr/>
              <p:nvPr/>
            </p:nvSpPr>
            <p:spPr>
              <a:xfrm>
                <a:off x="3463200" y="6202440"/>
                <a:ext cx="24120" cy="26280"/>
              </a:xfrm>
              <a:custGeom>
                <a:avLst/>
                <a:gdLst/>
                <a:ahLst/>
                <a:rect l="l" t="t" r="r" b="b"/>
                <a:pathLst>
                  <a:path w="23" h="27">
                    <a:moveTo>
                      <a:pt x="0" y="26"/>
                    </a:moveTo>
                    <a:lnTo>
                      <a:pt x="22" y="26"/>
                    </a:lnTo>
                    <a:lnTo>
                      <a:pt x="22" y="0"/>
                    </a:lnTo>
                    <a:lnTo>
                      <a:pt x="0" y="0"/>
                    </a:lnTo>
                    <a:lnTo>
                      <a:pt x="0" y="26"/>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65" name=""/>
              <p:cNvSpPr/>
              <p:nvPr/>
            </p:nvSpPr>
            <p:spPr>
              <a:xfrm>
                <a:off x="3479400" y="6096960"/>
                <a:ext cx="25560" cy="20520"/>
              </a:xfrm>
              <a:custGeom>
                <a:avLst/>
                <a:gdLst/>
                <a:ahLst/>
                <a:rect l="l" t="t" r="r" b="b"/>
                <a:pathLst>
                  <a:path w="24" h="21">
                    <a:moveTo>
                      <a:pt x="0" y="20"/>
                    </a:moveTo>
                    <a:lnTo>
                      <a:pt x="23" y="20"/>
                    </a:lnTo>
                    <a:lnTo>
                      <a:pt x="23" y="0"/>
                    </a:lnTo>
                    <a:lnTo>
                      <a:pt x="0" y="0"/>
                    </a:lnTo>
                    <a:lnTo>
                      <a:pt x="0" y="20"/>
                    </a:lnTo>
                  </a:path>
                </a:pathLst>
              </a:custGeom>
              <a:solidFill>
                <a:srgbClr val="80808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6" name=""/>
              <p:cNvSpPr/>
              <p:nvPr/>
            </p:nvSpPr>
            <p:spPr>
              <a:xfrm>
                <a:off x="3479400" y="6096960"/>
                <a:ext cx="25560" cy="25200"/>
              </a:xfrm>
              <a:custGeom>
                <a:avLst/>
                <a:gdLst/>
                <a:ahLst/>
                <a:rect l="l" t="t" r="r" b="b"/>
                <a:pathLst>
                  <a:path w="24" h="26">
                    <a:moveTo>
                      <a:pt x="0" y="25"/>
                    </a:moveTo>
                    <a:lnTo>
                      <a:pt x="23" y="25"/>
                    </a:lnTo>
                    <a:lnTo>
                      <a:pt x="23" y="0"/>
                    </a:lnTo>
                    <a:lnTo>
                      <a:pt x="0" y="0"/>
                    </a:lnTo>
                    <a:lnTo>
                      <a:pt x="0" y="25"/>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67" name=""/>
              <p:cNvSpPr/>
              <p:nvPr/>
            </p:nvSpPr>
            <p:spPr>
              <a:xfrm>
                <a:off x="3479400" y="6125400"/>
                <a:ext cx="25560" cy="19440"/>
              </a:xfrm>
              <a:custGeom>
                <a:avLst/>
                <a:gdLst/>
                <a:ahLst/>
                <a:rect l="l" t="t" r="r" b="b"/>
                <a:pathLst>
                  <a:path w="24" h="20">
                    <a:moveTo>
                      <a:pt x="0" y="19"/>
                    </a:moveTo>
                    <a:lnTo>
                      <a:pt x="23" y="19"/>
                    </a:lnTo>
                    <a:lnTo>
                      <a:pt x="23"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8" name=""/>
              <p:cNvSpPr/>
              <p:nvPr/>
            </p:nvSpPr>
            <p:spPr>
              <a:xfrm>
                <a:off x="3479400" y="6125400"/>
                <a:ext cx="25560" cy="24120"/>
              </a:xfrm>
              <a:custGeom>
                <a:avLst/>
                <a:gdLst/>
                <a:ahLst/>
                <a:rect l="l" t="t" r="r" b="b"/>
                <a:pathLst>
                  <a:path w="24" h="25">
                    <a:moveTo>
                      <a:pt x="0" y="24"/>
                    </a:moveTo>
                    <a:lnTo>
                      <a:pt x="23" y="24"/>
                    </a:lnTo>
                    <a:lnTo>
                      <a:pt x="23" y="0"/>
                    </a:lnTo>
                    <a:lnTo>
                      <a:pt x="0" y="0"/>
                    </a:lnTo>
                    <a:lnTo>
                      <a:pt x="0" y="24"/>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9" name=""/>
              <p:cNvSpPr/>
              <p:nvPr/>
            </p:nvSpPr>
            <p:spPr>
              <a:xfrm>
                <a:off x="3479400" y="6150600"/>
                <a:ext cx="25560" cy="18360"/>
              </a:xfrm>
              <a:custGeom>
                <a:avLst/>
                <a:gdLst/>
                <a:ahLst/>
                <a:rect l="l" t="t" r="r" b="b"/>
                <a:pathLst>
                  <a:path w="24" h="19">
                    <a:moveTo>
                      <a:pt x="0" y="18"/>
                    </a:moveTo>
                    <a:lnTo>
                      <a:pt x="23" y="18"/>
                    </a:lnTo>
                    <a:lnTo>
                      <a:pt x="23" y="0"/>
                    </a:lnTo>
                    <a:lnTo>
                      <a:pt x="0" y="0"/>
                    </a:lnTo>
                    <a:lnTo>
                      <a:pt x="0" y="18"/>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70" name=""/>
              <p:cNvSpPr/>
              <p:nvPr/>
            </p:nvSpPr>
            <p:spPr>
              <a:xfrm>
                <a:off x="3479400" y="6150600"/>
                <a:ext cx="25560" cy="26280"/>
              </a:xfrm>
              <a:custGeom>
                <a:avLst/>
                <a:gdLst/>
                <a:ahLst/>
                <a:rect l="l" t="t" r="r" b="b"/>
                <a:pathLst>
                  <a:path w="24" h="27">
                    <a:moveTo>
                      <a:pt x="0" y="26"/>
                    </a:moveTo>
                    <a:lnTo>
                      <a:pt x="23" y="26"/>
                    </a:lnTo>
                    <a:lnTo>
                      <a:pt x="23" y="0"/>
                    </a:lnTo>
                    <a:lnTo>
                      <a:pt x="0" y="0"/>
                    </a:lnTo>
                    <a:lnTo>
                      <a:pt x="0" y="26"/>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71" name=""/>
              <p:cNvSpPr/>
              <p:nvPr/>
            </p:nvSpPr>
            <p:spPr>
              <a:xfrm>
                <a:off x="3479400" y="6177240"/>
                <a:ext cx="25560" cy="19440"/>
              </a:xfrm>
              <a:custGeom>
                <a:avLst/>
                <a:gdLst/>
                <a:ahLst/>
                <a:rect l="l" t="t" r="r" b="b"/>
                <a:pathLst>
                  <a:path w="24" h="20">
                    <a:moveTo>
                      <a:pt x="0" y="19"/>
                    </a:moveTo>
                    <a:lnTo>
                      <a:pt x="23" y="19"/>
                    </a:lnTo>
                    <a:lnTo>
                      <a:pt x="23"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72" name=""/>
              <p:cNvSpPr/>
              <p:nvPr/>
            </p:nvSpPr>
            <p:spPr>
              <a:xfrm>
                <a:off x="3479400" y="6177240"/>
                <a:ext cx="25560" cy="25200"/>
              </a:xfrm>
              <a:custGeom>
                <a:avLst/>
                <a:gdLst/>
                <a:ahLst/>
                <a:rect l="l" t="t" r="r" b="b"/>
                <a:pathLst>
                  <a:path w="24" h="26">
                    <a:moveTo>
                      <a:pt x="0" y="25"/>
                    </a:moveTo>
                    <a:lnTo>
                      <a:pt x="23" y="25"/>
                    </a:lnTo>
                    <a:lnTo>
                      <a:pt x="23" y="0"/>
                    </a:lnTo>
                    <a:lnTo>
                      <a:pt x="0" y="0"/>
                    </a:lnTo>
                    <a:lnTo>
                      <a:pt x="0" y="25"/>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3" name=""/>
              <p:cNvSpPr/>
              <p:nvPr/>
            </p:nvSpPr>
            <p:spPr>
              <a:xfrm>
                <a:off x="3479400" y="6202440"/>
                <a:ext cx="25560" cy="19440"/>
              </a:xfrm>
              <a:custGeom>
                <a:avLst/>
                <a:gdLst/>
                <a:ahLst/>
                <a:rect l="l" t="t" r="r" b="b"/>
                <a:pathLst>
                  <a:path w="24" h="20">
                    <a:moveTo>
                      <a:pt x="0" y="19"/>
                    </a:moveTo>
                    <a:lnTo>
                      <a:pt x="23" y="19"/>
                    </a:lnTo>
                    <a:lnTo>
                      <a:pt x="23" y="0"/>
                    </a:lnTo>
                    <a:lnTo>
                      <a:pt x="0" y="0"/>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74" name=""/>
              <p:cNvSpPr/>
              <p:nvPr/>
            </p:nvSpPr>
            <p:spPr>
              <a:xfrm>
                <a:off x="3479400" y="6202440"/>
                <a:ext cx="25560" cy="26280"/>
              </a:xfrm>
              <a:custGeom>
                <a:avLst/>
                <a:gdLst/>
                <a:ahLst/>
                <a:rect l="l" t="t" r="r" b="b"/>
                <a:pathLst>
                  <a:path w="24" h="27">
                    <a:moveTo>
                      <a:pt x="0" y="26"/>
                    </a:moveTo>
                    <a:lnTo>
                      <a:pt x="23" y="26"/>
                    </a:lnTo>
                    <a:lnTo>
                      <a:pt x="23" y="0"/>
                    </a:lnTo>
                    <a:lnTo>
                      <a:pt x="0" y="0"/>
                    </a:lnTo>
                    <a:lnTo>
                      <a:pt x="0" y="26"/>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75" name=""/>
              <p:cNvSpPr/>
              <p:nvPr/>
            </p:nvSpPr>
            <p:spPr>
              <a:xfrm>
                <a:off x="3352320" y="6041520"/>
                <a:ext cx="114840" cy="27000"/>
              </a:xfrm>
              <a:custGeom>
                <a:avLst/>
                <a:gdLst/>
                <a:ahLst/>
                <a:rect l="l" t="t" r="r" b="b"/>
                <a:pathLst>
                  <a:path w="108" h="28">
                    <a:moveTo>
                      <a:pt x="0" y="27"/>
                    </a:moveTo>
                    <a:lnTo>
                      <a:pt x="107" y="27"/>
                    </a:lnTo>
                    <a:lnTo>
                      <a:pt x="107" y="0"/>
                    </a:lnTo>
                    <a:lnTo>
                      <a:pt x="0" y="0"/>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6" name=""/>
              <p:cNvSpPr/>
              <p:nvPr/>
            </p:nvSpPr>
            <p:spPr>
              <a:xfrm>
                <a:off x="3352320" y="6041520"/>
                <a:ext cx="119160" cy="36000"/>
              </a:xfrm>
              <a:custGeom>
                <a:avLst/>
                <a:gdLst/>
                <a:ahLst/>
                <a:rect l="l" t="t" r="r" b="b"/>
                <a:pathLst>
                  <a:path w="112" h="37">
                    <a:moveTo>
                      <a:pt x="0" y="36"/>
                    </a:moveTo>
                    <a:lnTo>
                      <a:pt x="111" y="36"/>
                    </a:lnTo>
                    <a:lnTo>
                      <a:pt x="111" y="0"/>
                    </a:lnTo>
                    <a:lnTo>
                      <a:pt x="0" y="0"/>
                    </a:lnTo>
                    <a:lnTo>
                      <a:pt x="0" y="36"/>
                    </a:lnTo>
                  </a:path>
                </a:pathLst>
              </a:custGeom>
              <a:solidFill>
                <a:srgbClr val="808080"/>
              </a:solidFill>
              <a:ln cap="rnd" w="1260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77" name=""/>
              <p:cNvSpPr/>
              <p:nvPr/>
            </p:nvSpPr>
            <p:spPr>
              <a:xfrm>
                <a:off x="3353400" y="6185880"/>
                <a:ext cx="28440" cy="34920"/>
              </a:xfrm>
              <a:custGeom>
                <a:avLst/>
                <a:gdLst/>
                <a:ahLst/>
                <a:rect l="l" t="t" r="r" b="b"/>
                <a:pathLst>
                  <a:path w="27" h="36">
                    <a:moveTo>
                      <a:pt x="26" y="17"/>
                    </a:moveTo>
                    <a:lnTo>
                      <a:pt x="26" y="14"/>
                    </a:lnTo>
                    <a:lnTo>
                      <a:pt x="24" y="10"/>
                    </a:lnTo>
                    <a:lnTo>
                      <a:pt x="24" y="8"/>
                    </a:lnTo>
                    <a:lnTo>
                      <a:pt x="21" y="4"/>
                    </a:lnTo>
                    <a:lnTo>
                      <a:pt x="20" y="3"/>
                    </a:lnTo>
                    <a:lnTo>
                      <a:pt x="17" y="1"/>
                    </a:lnTo>
                    <a:lnTo>
                      <a:pt x="15" y="0"/>
                    </a:lnTo>
                    <a:lnTo>
                      <a:pt x="12" y="0"/>
                    </a:lnTo>
                    <a:lnTo>
                      <a:pt x="9" y="0"/>
                    </a:lnTo>
                    <a:lnTo>
                      <a:pt x="8" y="1"/>
                    </a:lnTo>
                    <a:lnTo>
                      <a:pt x="5" y="3"/>
                    </a:lnTo>
                    <a:lnTo>
                      <a:pt x="2" y="4"/>
                    </a:lnTo>
                    <a:lnTo>
                      <a:pt x="1" y="8"/>
                    </a:lnTo>
                    <a:lnTo>
                      <a:pt x="0" y="10"/>
                    </a:lnTo>
                    <a:lnTo>
                      <a:pt x="0" y="14"/>
                    </a:lnTo>
                    <a:lnTo>
                      <a:pt x="0" y="17"/>
                    </a:lnTo>
                    <a:lnTo>
                      <a:pt x="0" y="21"/>
                    </a:lnTo>
                    <a:lnTo>
                      <a:pt x="0" y="24"/>
                    </a:lnTo>
                    <a:lnTo>
                      <a:pt x="1" y="26"/>
                    </a:lnTo>
                    <a:lnTo>
                      <a:pt x="2" y="30"/>
                    </a:lnTo>
                    <a:lnTo>
                      <a:pt x="5" y="32"/>
                    </a:lnTo>
                    <a:lnTo>
                      <a:pt x="8" y="33"/>
                    </a:lnTo>
                    <a:lnTo>
                      <a:pt x="9" y="35"/>
                    </a:lnTo>
                    <a:lnTo>
                      <a:pt x="12" y="35"/>
                    </a:lnTo>
                    <a:lnTo>
                      <a:pt x="15" y="35"/>
                    </a:lnTo>
                    <a:lnTo>
                      <a:pt x="17" y="33"/>
                    </a:lnTo>
                    <a:lnTo>
                      <a:pt x="20" y="32"/>
                    </a:lnTo>
                    <a:lnTo>
                      <a:pt x="21" y="30"/>
                    </a:lnTo>
                    <a:lnTo>
                      <a:pt x="24" y="26"/>
                    </a:lnTo>
                    <a:lnTo>
                      <a:pt x="24" y="24"/>
                    </a:lnTo>
                    <a:lnTo>
                      <a:pt x="26" y="21"/>
                    </a:lnTo>
                    <a:lnTo>
                      <a:pt x="26" y="17"/>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8" name=""/>
              <p:cNvSpPr/>
              <p:nvPr/>
            </p:nvSpPr>
            <p:spPr>
              <a:xfrm>
                <a:off x="3353400" y="6185880"/>
                <a:ext cx="32760" cy="42840"/>
              </a:xfrm>
              <a:custGeom>
                <a:avLst/>
                <a:gdLst/>
                <a:ahLst/>
                <a:rect l="l" t="t" r="r" b="b"/>
                <a:pathLst>
                  <a:path w="31" h="44">
                    <a:moveTo>
                      <a:pt x="30" y="22"/>
                    </a:moveTo>
                    <a:lnTo>
                      <a:pt x="30" y="22"/>
                    </a:lnTo>
                    <a:lnTo>
                      <a:pt x="28" y="16"/>
                    </a:lnTo>
                    <a:lnTo>
                      <a:pt x="28" y="12"/>
                    </a:lnTo>
                    <a:lnTo>
                      <a:pt x="27" y="9"/>
                    </a:lnTo>
                    <a:lnTo>
                      <a:pt x="25" y="5"/>
                    </a:lnTo>
                    <a:lnTo>
                      <a:pt x="23" y="3"/>
                    </a:lnTo>
                    <a:lnTo>
                      <a:pt x="20" y="1"/>
                    </a:lnTo>
                    <a:lnTo>
                      <a:pt x="17" y="0"/>
                    </a:lnTo>
                    <a:lnTo>
                      <a:pt x="15" y="0"/>
                    </a:lnTo>
                    <a:lnTo>
                      <a:pt x="10" y="0"/>
                    </a:lnTo>
                    <a:lnTo>
                      <a:pt x="9" y="1"/>
                    </a:lnTo>
                    <a:lnTo>
                      <a:pt x="6" y="3"/>
                    </a:lnTo>
                    <a:lnTo>
                      <a:pt x="4" y="5"/>
                    </a:lnTo>
                    <a:lnTo>
                      <a:pt x="2" y="9"/>
                    </a:lnTo>
                    <a:lnTo>
                      <a:pt x="1" y="12"/>
                    </a:lnTo>
                    <a:lnTo>
                      <a:pt x="0" y="16"/>
                    </a:lnTo>
                    <a:lnTo>
                      <a:pt x="0" y="22"/>
                    </a:lnTo>
                    <a:lnTo>
                      <a:pt x="0" y="26"/>
                    </a:lnTo>
                    <a:lnTo>
                      <a:pt x="1" y="30"/>
                    </a:lnTo>
                    <a:lnTo>
                      <a:pt x="2" y="33"/>
                    </a:lnTo>
                    <a:lnTo>
                      <a:pt x="4" y="37"/>
                    </a:lnTo>
                    <a:lnTo>
                      <a:pt x="6" y="39"/>
                    </a:lnTo>
                    <a:lnTo>
                      <a:pt x="9" y="41"/>
                    </a:lnTo>
                    <a:lnTo>
                      <a:pt x="10" y="43"/>
                    </a:lnTo>
                    <a:lnTo>
                      <a:pt x="15" y="43"/>
                    </a:lnTo>
                    <a:lnTo>
                      <a:pt x="17" y="43"/>
                    </a:lnTo>
                    <a:lnTo>
                      <a:pt x="20" y="41"/>
                    </a:lnTo>
                    <a:lnTo>
                      <a:pt x="23" y="39"/>
                    </a:lnTo>
                    <a:lnTo>
                      <a:pt x="25" y="37"/>
                    </a:lnTo>
                    <a:lnTo>
                      <a:pt x="27" y="33"/>
                    </a:lnTo>
                    <a:lnTo>
                      <a:pt x="28" y="30"/>
                    </a:lnTo>
                    <a:lnTo>
                      <a:pt x="28" y="26"/>
                    </a:lnTo>
                    <a:lnTo>
                      <a:pt x="30" y="22"/>
                    </a:lnTo>
                  </a:path>
                </a:pathLst>
              </a:custGeom>
              <a:solidFill>
                <a:srgbClr val="80808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179" name=""/>
            <p:cNvSpPr/>
            <p:nvPr/>
          </p:nvSpPr>
          <p:spPr>
            <a:xfrm>
              <a:off x="5638680" y="2357280"/>
              <a:ext cx="2971800" cy="1752840"/>
            </a:xfrm>
            <a:custGeom>
              <a:avLst/>
              <a:gdLst/>
              <a:ahLst/>
              <a:rect l="l" t="t" r="r" b="b"/>
              <a:pathLst>
                <a:path w="1872" h="1104">
                  <a:moveTo>
                    <a:pt x="0" y="0"/>
                  </a:moveTo>
                  <a:lnTo>
                    <a:pt x="384" y="96"/>
                  </a:lnTo>
                  <a:lnTo>
                    <a:pt x="384" y="480"/>
                  </a:lnTo>
                  <a:lnTo>
                    <a:pt x="576" y="576"/>
                  </a:lnTo>
                  <a:lnTo>
                    <a:pt x="1872" y="816"/>
                  </a:lnTo>
                  <a:lnTo>
                    <a:pt x="1296" y="1104"/>
                  </a:lnTo>
                  <a:lnTo>
                    <a:pt x="672" y="1104"/>
                  </a:lnTo>
                  <a:lnTo>
                    <a:pt x="288" y="528"/>
                  </a:lnTo>
                  <a:lnTo>
                    <a:pt x="0" y="0"/>
                  </a:lnTo>
                  <a:close/>
                </a:path>
              </a:pathLst>
            </a:custGeom>
            <a:gradFill rotWithShape="0">
              <a:gsLst>
                <a:gs pos="0">
                  <a:srgbClr val="bbe0e3"/>
                </a:gs>
                <a:gs pos="100000">
                  <a:srgbClr val="ffcc00"/>
                </a:gs>
              </a:gsLst>
              <a:lin ang="135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180" name=""/>
            <p:cNvGrpSpPr/>
            <p:nvPr/>
          </p:nvGrpSpPr>
          <p:grpSpPr>
            <a:xfrm>
              <a:off x="6757920" y="2840040"/>
              <a:ext cx="2281320" cy="1270080"/>
              <a:chOff x="6757920" y="2840040"/>
              <a:chExt cx="2281320" cy="1270080"/>
            </a:xfrm>
          </p:grpSpPr>
          <p:sp>
            <p:nvSpPr>
              <p:cNvPr id="1181" name=""/>
              <p:cNvSpPr/>
              <p:nvPr/>
            </p:nvSpPr>
            <p:spPr>
              <a:xfrm>
                <a:off x="6757920" y="2995560"/>
                <a:ext cx="1163880" cy="806400"/>
              </a:xfrm>
              <a:custGeom>
                <a:avLst/>
                <a:gdLst/>
                <a:ahLst/>
                <a:rect l="l" t="t" r="r" b="b"/>
                <a:pathLst>
                  <a:path w="8065" h="5584">
                    <a:moveTo>
                      <a:pt x="0" y="3180"/>
                    </a:moveTo>
                    <a:lnTo>
                      <a:pt x="923" y="3180"/>
                    </a:lnTo>
                    <a:lnTo>
                      <a:pt x="1463" y="0"/>
                    </a:lnTo>
                    <a:lnTo>
                      <a:pt x="4947" y="131"/>
                    </a:lnTo>
                    <a:lnTo>
                      <a:pt x="5071" y="3307"/>
                    </a:lnTo>
                    <a:lnTo>
                      <a:pt x="4367" y="3307"/>
                    </a:lnTo>
                    <a:lnTo>
                      <a:pt x="5430" y="3523"/>
                    </a:lnTo>
                    <a:lnTo>
                      <a:pt x="5430" y="4769"/>
                    </a:lnTo>
                    <a:lnTo>
                      <a:pt x="6027" y="4738"/>
                    </a:lnTo>
                    <a:lnTo>
                      <a:pt x="8065" y="5222"/>
                    </a:lnTo>
                    <a:lnTo>
                      <a:pt x="4205" y="5584"/>
                    </a:lnTo>
                    <a:lnTo>
                      <a:pt x="2834" y="4948"/>
                    </a:lnTo>
                    <a:lnTo>
                      <a:pt x="1501" y="5061"/>
                    </a:lnTo>
                    <a:lnTo>
                      <a:pt x="0" y="3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7023240" y="3056040"/>
                <a:ext cx="417240" cy="376200"/>
              </a:xfrm>
              <a:custGeom>
                <a:avLst/>
                <a:gdLst/>
                <a:ahLst/>
                <a:rect l="l" t="t" r="r" b="b"/>
                <a:pathLst>
                  <a:path w="2888" h="2601">
                    <a:moveTo>
                      <a:pt x="0" y="0"/>
                    </a:moveTo>
                    <a:lnTo>
                      <a:pt x="70" y="2601"/>
                    </a:lnTo>
                    <a:lnTo>
                      <a:pt x="2888" y="2568"/>
                    </a:lnTo>
                    <a:lnTo>
                      <a:pt x="2798" y="76"/>
                    </a:lnTo>
                    <a:lnTo>
                      <a:pt x="0"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8032680" y="3300480"/>
                <a:ext cx="916200" cy="757080"/>
              </a:xfrm>
              <a:custGeom>
                <a:avLst/>
                <a:gdLst/>
                <a:ahLst/>
                <a:rect l="l" t="t" r="r" b="b"/>
                <a:pathLst>
                  <a:path w="6343" h="5241">
                    <a:moveTo>
                      <a:pt x="117" y="3295"/>
                    </a:moveTo>
                    <a:lnTo>
                      <a:pt x="0" y="2659"/>
                    </a:lnTo>
                    <a:lnTo>
                      <a:pt x="0" y="2423"/>
                    </a:lnTo>
                    <a:lnTo>
                      <a:pt x="614" y="2144"/>
                    </a:lnTo>
                    <a:lnTo>
                      <a:pt x="889" y="2321"/>
                    </a:lnTo>
                    <a:lnTo>
                      <a:pt x="1405" y="2282"/>
                    </a:lnTo>
                    <a:lnTo>
                      <a:pt x="2161" y="2144"/>
                    </a:lnTo>
                    <a:lnTo>
                      <a:pt x="2495" y="1966"/>
                    </a:lnTo>
                    <a:lnTo>
                      <a:pt x="2593" y="1726"/>
                    </a:lnTo>
                    <a:lnTo>
                      <a:pt x="2771" y="1488"/>
                    </a:lnTo>
                    <a:lnTo>
                      <a:pt x="3208" y="1272"/>
                    </a:lnTo>
                    <a:lnTo>
                      <a:pt x="3467" y="952"/>
                    </a:lnTo>
                    <a:lnTo>
                      <a:pt x="4001" y="140"/>
                    </a:lnTo>
                    <a:lnTo>
                      <a:pt x="5668" y="0"/>
                    </a:lnTo>
                    <a:lnTo>
                      <a:pt x="5925" y="179"/>
                    </a:lnTo>
                    <a:lnTo>
                      <a:pt x="5904" y="258"/>
                    </a:lnTo>
                    <a:lnTo>
                      <a:pt x="5805" y="379"/>
                    </a:lnTo>
                    <a:lnTo>
                      <a:pt x="5805" y="576"/>
                    </a:lnTo>
                    <a:lnTo>
                      <a:pt x="5786" y="697"/>
                    </a:lnTo>
                    <a:lnTo>
                      <a:pt x="5709" y="715"/>
                    </a:lnTo>
                    <a:lnTo>
                      <a:pt x="5886" y="1012"/>
                    </a:lnTo>
                    <a:lnTo>
                      <a:pt x="6145" y="1528"/>
                    </a:lnTo>
                    <a:lnTo>
                      <a:pt x="6343" y="1726"/>
                    </a:lnTo>
                    <a:lnTo>
                      <a:pt x="6343" y="2084"/>
                    </a:lnTo>
                    <a:lnTo>
                      <a:pt x="1346" y="5241"/>
                    </a:lnTo>
                    <a:lnTo>
                      <a:pt x="950" y="5040"/>
                    </a:lnTo>
                    <a:lnTo>
                      <a:pt x="790" y="3615"/>
                    </a:lnTo>
                    <a:lnTo>
                      <a:pt x="117" y="3295"/>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7666200" y="3959280"/>
                <a:ext cx="509400" cy="149040"/>
              </a:xfrm>
              <a:custGeom>
                <a:avLst/>
                <a:gdLst/>
                <a:ahLst/>
                <a:rect l="l" t="t" r="r" b="b"/>
                <a:pathLst>
                  <a:path w="3531" h="1033">
                    <a:moveTo>
                      <a:pt x="0" y="1033"/>
                    </a:moveTo>
                    <a:lnTo>
                      <a:pt x="3193" y="1033"/>
                    </a:lnTo>
                    <a:lnTo>
                      <a:pt x="3531" y="0"/>
                    </a:lnTo>
                    <a:lnTo>
                      <a:pt x="1312" y="220"/>
                    </a:lnTo>
                    <a:lnTo>
                      <a:pt x="0" y="1033"/>
                    </a:lnTo>
                    <a:close/>
                  </a:path>
                </a:pathLst>
              </a:cu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8572680" y="3595680"/>
                <a:ext cx="461880" cy="512640"/>
              </a:xfrm>
              <a:custGeom>
                <a:avLst/>
                <a:gdLst/>
                <a:ahLst/>
                <a:rect l="l" t="t" r="r" b="b"/>
                <a:pathLst>
                  <a:path w="3192" h="3555">
                    <a:moveTo>
                      <a:pt x="2299" y="3555"/>
                    </a:moveTo>
                    <a:lnTo>
                      <a:pt x="2299" y="2560"/>
                    </a:lnTo>
                    <a:lnTo>
                      <a:pt x="2495" y="1630"/>
                    </a:lnTo>
                    <a:lnTo>
                      <a:pt x="2773" y="994"/>
                    </a:lnTo>
                    <a:lnTo>
                      <a:pt x="2954" y="558"/>
                    </a:lnTo>
                    <a:lnTo>
                      <a:pt x="3192" y="299"/>
                    </a:lnTo>
                    <a:lnTo>
                      <a:pt x="3192" y="216"/>
                    </a:lnTo>
                    <a:lnTo>
                      <a:pt x="3051" y="79"/>
                    </a:lnTo>
                    <a:lnTo>
                      <a:pt x="2914" y="0"/>
                    </a:lnTo>
                    <a:lnTo>
                      <a:pt x="2634" y="22"/>
                    </a:lnTo>
                    <a:lnTo>
                      <a:pt x="2179" y="179"/>
                    </a:lnTo>
                    <a:lnTo>
                      <a:pt x="1525" y="615"/>
                    </a:lnTo>
                    <a:lnTo>
                      <a:pt x="952" y="1251"/>
                    </a:lnTo>
                    <a:lnTo>
                      <a:pt x="455" y="2005"/>
                    </a:lnTo>
                    <a:lnTo>
                      <a:pt x="198" y="2639"/>
                    </a:lnTo>
                    <a:lnTo>
                      <a:pt x="0" y="3555"/>
                    </a:lnTo>
                    <a:lnTo>
                      <a:pt x="2299" y="35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7496280" y="3611520"/>
                <a:ext cx="547560" cy="139680"/>
              </a:xfrm>
              <a:custGeom>
                <a:avLst/>
                <a:gdLst/>
                <a:ahLst/>
                <a:rect l="l" t="t" r="r" b="b"/>
                <a:pathLst>
                  <a:path w="3789" h="959">
                    <a:moveTo>
                      <a:pt x="0" y="314"/>
                    </a:moveTo>
                    <a:lnTo>
                      <a:pt x="484" y="353"/>
                    </a:lnTo>
                    <a:lnTo>
                      <a:pt x="893" y="554"/>
                    </a:lnTo>
                    <a:lnTo>
                      <a:pt x="1159" y="787"/>
                    </a:lnTo>
                    <a:lnTo>
                      <a:pt x="1714" y="891"/>
                    </a:lnTo>
                    <a:lnTo>
                      <a:pt x="2251" y="831"/>
                    </a:lnTo>
                    <a:lnTo>
                      <a:pt x="3789" y="959"/>
                    </a:lnTo>
                    <a:lnTo>
                      <a:pt x="3720" y="456"/>
                    </a:lnTo>
                    <a:lnTo>
                      <a:pt x="2155" y="449"/>
                    </a:lnTo>
                    <a:lnTo>
                      <a:pt x="1874" y="397"/>
                    </a:lnTo>
                    <a:lnTo>
                      <a:pt x="1076" y="0"/>
                    </a:lnTo>
                    <a:lnTo>
                      <a:pt x="845" y="77"/>
                    </a:lnTo>
                    <a:lnTo>
                      <a:pt x="662" y="42"/>
                    </a:lnTo>
                    <a:lnTo>
                      <a:pt x="424" y="42"/>
                    </a:lnTo>
                    <a:lnTo>
                      <a:pt x="344" y="96"/>
                    </a:lnTo>
                    <a:lnTo>
                      <a:pt x="19" y="253"/>
                    </a:lnTo>
                    <a:lnTo>
                      <a:pt x="0" y="314"/>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8177040" y="3222720"/>
                <a:ext cx="262080" cy="569880"/>
              </a:xfrm>
              <a:custGeom>
                <a:avLst/>
                <a:gdLst/>
                <a:ahLst/>
                <a:rect l="l" t="t" r="r" b="b"/>
                <a:pathLst>
                  <a:path w="1809" h="3947">
                    <a:moveTo>
                      <a:pt x="739" y="124"/>
                    </a:moveTo>
                    <a:lnTo>
                      <a:pt x="859" y="53"/>
                    </a:lnTo>
                    <a:lnTo>
                      <a:pt x="1001" y="41"/>
                    </a:lnTo>
                    <a:lnTo>
                      <a:pt x="1051" y="72"/>
                    </a:lnTo>
                    <a:lnTo>
                      <a:pt x="1127" y="20"/>
                    </a:lnTo>
                    <a:lnTo>
                      <a:pt x="1259" y="0"/>
                    </a:lnTo>
                    <a:lnTo>
                      <a:pt x="1308" y="20"/>
                    </a:lnTo>
                    <a:lnTo>
                      <a:pt x="1356" y="53"/>
                    </a:lnTo>
                    <a:lnTo>
                      <a:pt x="1489" y="41"/>
                    </a:lnTo>
                    <a:lnTo>
                      <a:pt x="1618" y="92"/>
                    </a:lnTo>
                    <a:lnTo>
                      <a:pt x="1809" y="512"/>
                    </a:lnTo>
                    <a:lnTo>
                      <a:pt x="1791" y="573"/>
                    </a:lnTo>
                    <a:lnTo>
                      <a:pt x="1211" y="1513"/>
                    </a:lnTo>
                    <a:lnTo>
                      <a:pt x="1120" y="1835"/>
                    </a:lnTo>
                    <a:lnTo>
                      <a:pt x="1022" y="3005"/>
                    </a:lnTo>
                    <a:lnTo>
                      <a:pt x="889" y="3244"/>
                    </a:lnTo>
                    <a:lnTo>
                      <a:pt x="530" y="3335"/>
                    </a:lnTo>
                    <a:lnTo>
                      <a:pt x="281" y="3568"/>
                    </a:lnTo>
                    <a:lnTo>
                      <a:pt x="149" y="3777"/>
                    </a:lnTo>
                    <a:lnTo>
                      <a:pt x="41" y="3947"/>
                    </a:lnTo>
                    <a:lnTo>
                      <a:pt x="0" y="3579"/>
                    </a:lnTo>
                    <a:lnTo>
                      <a:pt x="68" y="3173"/>
                    </a:lnTo>
                    <a:lnTo>
                      <a:pt x="191" y="2748"/>
                    </a:lnTo>
                    <a:lnTo>
                      <a:pt x="340" y="2186"/>
                    </a:lnTo>
                    <a:lnTo>
                      <a:pt x="459" y="1715"/>
                    </a:lnTo>
                    <a:lnTo>
                      <a:pt x="459" y="1513"/>
                    </a:lnTo>
                    <a:lnTo>
                      <a:pt x="438" y="1382"/>
                    </a:lnTo>
                    <a:lnTo>
                      <a:pt x="409" y="1155"/>
                    </a:lnTo>
                    <a:lnTo>
                      <a:pt x="419" y="913"/>
                    </a:lnTo>
                    <a:lnTo>
                      <a:pt x="499" y="704"/>
                    </a:lnTo>
                    <a:lnTo>
                      <a:pt x="530" y="554"/>
                    </a:lnTo>
                    <a:lnTo>
                      <a:pt x="669" y="224"/>
                    </a:lnTo>
                    <a:lnTo>
                      <a:pt x="739" y="124"/>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8240760" y="3424320"/>
                <a:ext cx="73080" cy="44280"/>
              </a:xfrm>
              <a:custGeom>
                <a:avLst/>
                <a:gdLst/>
                <a:ahLst/>
                <a:rect l="l" t="t" r="r" b="b"/>
                <a:pathLst>
                  <a:path w="505" h="314">
                    <a:moveTo>
                      <a:pt x="11" y="123"/>
                    </a:moveTo>
                    <a:lnTo>
                      <a:pt x="85" y="61"/>
                    </a:lnTo>
                    <a:lnTo>
                      <a:pt x="266" y="0"/>
                    </a:lnTo>
                    <a:lnTo>
                      <a:pt x="505" y="5"/>
                    </a:lnTo>
                    <a:lnTo>
                      <a:pt x="432" y="285"/>
                    </a:lnTo>
                    <a:lnTo>
                      <a:pt x="324" y="231"/>
                    </a:lnTo>
                    <a:lnTo>
                      <a:pt x="218" y="231"/>
                    </a:lnTo>
                    <a:lnTo>
                      <a:pt x="46" y="314"/>
                    </a:lnTo>
                    <a:lnTo>
                      <a:pt x="0" y="279"/>
                    </a:lnTo>
                    <a:lnTo>
                      <a:pt x="11" y="123"/>
                    </a:lnTo>
                    <a:close/>
                  </a:path>
                </a:pathLst>
              </a:custGeom>
              <a:solidFill>
                <a:srgbClr val="70230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9" name=""/>
              <p:cNvSpPr/>
              <p:nvPr/>
            </p:nvSpPr>
            <p:spPr>
              <a:xfrm>
                <a:off x="8396280" y="3357720"/>
                <a:ext cx="58680" cy="74520"/>
              </a:xfrm>
              <a:custGeom>
                <a:avLst/>
                <a:gdLst/>
                <a:ahLst/>
                <a:rect l="l" t="t" r="r" b="b"/>
                <a:pathLst>
                  <a:path w="410" h="524">
                    <a:moveTo>
                      <a:pt x="104" y="0"/>
                    </a:moveTo>
                    <a:lnTo>
                      <a:pt x="410" y="476"/>
                    </a:lnTo>
                    <a:lnTo>
                      <a:pt x="410" y="494"/>
                    </a:lnTo>
                    <a:lnTo>
                      <a:pt x="389" y="505"/>
                    </a:lnTo>
                    <a:lnTo>
                      <a:pt x="353" y="524"/>
                    </a:lnTo>
                    <a:lnTo>
                      <a:pt x="332" y="515"/>
                    </a:lnTo>
                    <a:lnTo>
                      <a:pt x="0" y="64"/>
                    </a:lnTo>
                    <a:lnTo>
                      <a:pt x="104" y="0"/>
                    </a:lnTo>
                    <a:close/>
                  </a:path>
                </a:pathLst>
              </a:custGeom>
              <a:solidFill>
                <a:srgbClr val="ffe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a:off x="8290080" y="3198960"/>
                <a:ext cx="29880" cy="33120"/>
              </a:xfrm>
              <a:custGeom>
                <a:avLst/>
                <a:gdLst/>
                <a:ahLst/>
                <a:rect l="l" t="t" r="r" b="b"/>
                <a:pathLst>
                  <a:path w="211" h="233">
                    <a:moveTo>
                      <a:pt x="0" y="0"/>
                    </a:moveTo>
                    <a:lnTo>
                      <a:pt x="78" y="233"/>
                    </a:lnTo>
                    <a:lnTo>
                      <a:pt x="211" y="204"/>
                    </a:lnTo>
                    <a:lnTo>
                      <a:pt x="44" y="39"/>
                    </a:lnTo>
                    <a:lnTo>
                      <a:pt x="0" y="0"/>
                    </a:lnTo>
                    <a:close/>
                  </a:path>
                </a:pathLst>
              </a:custGeom>
              <a:solidFill>
                <a:srgbClr val="ffe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1" name=""/>
              <p:cNvSpPr/>
              <p:nvPr/>
            </p:nvSpPr>
            <p:spPr>
              <a:xfrm>
                <a:off x="8300880" y="3424320"/>
                <a:ext cx="51120" cy="57240"/>
              </a:xfrm>
              <a:custGeom>
                <a:avLst/>
                <a:gdLst/>
                <a:ahLst/>
                <a:rect l="l" t="t" r="r" b="b"/>
                <a:pathLst>
                  <a:path w="352" h="399">
                    <a:moveTo>
                      <a:pt x="76" y="0"/>
                    </a:moveTo>
                    <a:lnTo>
                      <a:pt x="0" y="144"/>
                    </a:lnTo>
                    <a:lnTo>
                      <a:pt x="43" y="318"/>
                    </a:lnTo>
                    <a:lnTo>
                      <a:pt x="109" y="397"/>
                    </a:lnTo>
                    <a:lnTo>
                      <a:pt x="246" y="399"/>
                    </a:lnTo>
                    <a:lnTo>
                      <a:pt x="333" y="297"/>
                    </a:lnTo>
                    <a:lnTo>
                      <a:pt x="352" y="164"/>
                    </a:lnTo>
                    <a:lnTo>
                      <a:pt x="287" y="65"/>
                    </a:lnTo>
                    <a:lnTo>
                      <a:pt x="202" y="5"/>
                    </a:lnTo>
                    <a:lnTo>
                      <a:pt x="76"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2" name=""/>
              <p:cNvSpPr/>
              <p:nvPr/>
            </p:nvSpPr>
            <p:spPr>
              <a:xfrm>
                <a:off x="8445600" y="2903400"/>
                <a:ext cx="411120" cy="424080"/>
              </a:xfrm>
              <a:custGeom>
                <a:avLst/>
                <a:gdLst/>
                <a:ahLst/>
                <a:rect l="l" t="t" r="r" b="b"/>
                <a:pathLst>
                  <a:path w="2846" h="2935">
                    <a:moveTo>
                      <a:pt x="573" y="204"/>
                    </a:moveTo>
                    <a:lnTo>
                      <a:pt x="405" y="416"/>
                    </a:lnTo>
                    <a:lnTo>
                      <a:pt x="255" y="1035"/>
                    </a:lnTo>
                    <a:lnTo>
                      <a:pt x="320" y="1222"/>
                    </a:lnTo>
                    <a:lnTo>
                      <a:pt x="309" y="1309"/>
                    </a:lnTo>
                    <a:lnTo>
                      <a:pt x="0" y="1741"/>
                    </a:lnTo>
                    <a:lnTo>
                      <a:pt x="27" y="1822"/>
                    </a:lnTo>
                    <a:lnTo>
                      <a:pt x="276" y="1911"/>
                    </a:lnTo>
                    <a:lnTo>
                      <a:pt x="276" y="2169"/>
                    </a:lnTo>
                    <a:lnTo>
                      <a:pt x="336" y="2201"/>
                    </a:lnTo>
                    <a:lnTo>
                      <a:pt x="283" y="2284"/>
                    </a:lnTo>
                    <a:lnTo>
                      <a:pt x="301" y="2327"/>
                    </a:lnTo>
                    <a:lnTo>
                      <a:pt x="364" y="2408"/>
                    </a:lnTo>
                    <a:lnTo>
                      <a:pt x="364" y="2439"/>
                    </a:lnTo>
                    <a:lnTo>
                      <a:pt x="309" y="2565"/>
                    </a:lnTo>
                    <a:lnTo>
                      <a:pt x="301" y="2665"/>
                    </a:lnTo>
                    <a:lnTo>
                      <a:pt x="355" y="2742"/>
                    </a:lnTo>
                    <a:lnTo>
                      <a:pt x="918" y="2857"/>
                    </a:lnTo>
                    <a:lnTo>
                      <a:pt x="1486" y="2883"/>
                    </a:lnTo>
                    <a:lnTo>
                      <a:pt x="2164" y="2911"/>
                    </a:lnTo>
                    <a:lnTo>
                      <a:pt x="2740" y="2935"/>
                    </a:lnTo>
                    <a:lnTo>
                      <a:pt x="2846" y="2865"/>
                    </a:lnTo>
                    <a:lnTo>
                      <a:pt x="2794" y="2778"/>
                    </a:lnTo>
                    <a:lnTo>
                      <a:pt x="2724" y="2343"/>
                    </a:lnTo>
                    <a:lnTo>
                      <a:pt x="918" y="0"/>
                    </a:lnTo>
                    <a:lnTo>
                      <a:pt x="573" y="204"/>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520120" y="2843280"/>
                <a:ext cx="295200" cy="106200"/>
              </a:xfrm>
              <a:custGeom>
                <a:avLst/>
                <a:gdLst/>
                <a:ahLst/>
                <a:rect l="l" t="t" r="r" b="b"/>
                <a:pathLst>
                  <a:path w="2048" h="741">
                    <a:moveTo>
                      <a:pt x="0" y="602"/>
                    </a:moveTo>
                    <a:lnTo>
                      <a:pt x="316" y="496"/>
                    </a:lnTo>
                    <a:lnTo>
                      <a:pt x="449" y="741"/>
                    </a:lnTo>
                    <a:lnTo>
                      <a:pt x="2048" y="382"/>
                    </a:lnTo>
                    <a:lnTo>
                      <a:pt x="1886" y="176"/>
                    </a:lnTo>
                    <a:lnTo>
                      <a:pt x="1728" y="122"/>
                    </a:lnTo>
                    <a:lnTo>
                      <a:pt x="1633" y="103"/>
                    </a:lnTo>
                    <a:lnTo>
                      <a:pt x="1394" y="0"/>
                    </a:lnTo>
                    <a:lnTo>
                      <a:pt x="1139" y="8"/>
                    </a:lnTo>
                    <a:lnTo>
                      <a:pt x="748" y="59"/>
                    </a:lnTo>
                    <a:lnTo>
                      <a:pt x="370" y="185"/>
                    </a:lnTo>
                    <a:lnTo>
                      <a:pt x="69" y="371"/>
                    </a:lnTo>
                    <a:lnTo>
                      <a:pt x="32" y="502"/>
                    </a:lnTo>
                    <a:lnTo>
                      <a:pt x="0" y="602"/>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8447040" y="2840040"/>
                <a:ext cx="433440" cy="317520"/>
              </a:xfrm>
              <a:custGeom>
                <a:avLst/>
                <a:gdLst/>
                <a:ahLst/>
                <a:rect l="l" t="t" r="r" b="b"/>
                <a:pathLst>
                  <a:path w="2995" h="2197">
                    <a:moveTo>
                      <a:pt x="787" y="567"/>
                    </a:moveTo>
                    <a:lnTo>
                      <a:pt x="581" y="682"/>
                    </a:lnTo>
                    <a:lnTo>
                      <a:pt x="421" y="854"/>
                    </a:lnTo>
                    <a:lnTo>
                      <a:pt x="259" y="1434"/>
                    </a:lnTo>
                    <a:lnTo>
                      <a:pt x="351" y="1500"/>
                    </a:lnTo>
                    <a:lnTo>
                      <a:pt x="1007" y="1461"/>
                    </a:lnTo>
                    <a:lnTo>
                      <a:pt x="361" y="1530"/>
                    </a:lnTo>
                    <a:lnTo>
                      <a:pt x="342" y="1546"/>
                    </a:lnTo>
                    <a:lnTo>
                      <a:pt x="571" y="1648"/>
                    </a:lnTo>
                    <a:lnTo>
                      <a:pt x="606" y="1698"/>
                    </a:lnTo>
                    <a:lnTo>
                      <a:pt x="427" y="1708"/>
                    </a:lnTo>
                    <a:lnTo>
                      <a:pt x="494" y="1766"/>
                    </a:lnTo>
                    <a:lnTo>
                      <a:pt x="361" y="1966"/>
                    </a:lnTo>
                    <a:lnTo>
                      <a:pt x="361" y="1766"/>
                    </a:lnTo>
                    <a:lnTo>
                      <a:pt x="316" y="1739"/>
                    </a:lnTo>
                    <a:lnTo>
                      <a:pt x="246" y="1853"/>
                    </a:lnTo>
                    <a:lnTo>
                      <a:pt x="0" y="2197"/>
                    </a:lnTo>
                    <a:lnTo>
                      <a:pt x="284" y="1739"/>
                    </a:lnTo>
                    <a:lnTo>
                      <a:pt x="284" y="1656"/>
                    </a:lnTo>
                    <a:lnTo>
                      <a:pt x="228" y="1546"/>
                    </a:lnTo>
                    <a:lnTo>
                      <a:pt x="203" y="1497"/>
                    </a:lnTo>
                    <a:lnTo>
                      <a:pt x="238" y="1443"/>
                    </a:lnTo>
                    <a:lnTo>
                      <a:pt x="390" y="846"/>
                    </a:lnTo>
                    <a:lnTo>
                      <a:pt x="444" y="759"/>
                    </a:lnTo>
                    <a:lnTo>
                      <a:pt x="373" y="682"/>
                    </a:lnTo>
                    <a:lnTo>
                      <a:pt x="384" y="580"/>
                    </a:lnTo>
                    <a:lnTo>
                      <a:pt x="454" y="443"/>
                    </a:lnTo>
                    <a:lnTo>
                      <a:pt x="633" y="323"/>
                    </a:lnTo>
                    <a:lnTo>
                      <a:pt x="896" y="211"/>
                    </a:lnTo>
                    <a:lnTo>
                      <a:pt x="691" y="347"/>
                    </a:lnTo>
                    <a:lnTo>
                      <a:pt x="647" y="433"/>
                    </a:lnTo>
                    <a:lnTo>
                      <a:pt x="581" y="471"/>
                    </a:lnTo>
                    <a:lnTo>
                      <a:pt x="560" y="567"/>
                    </a:lnTo>
                    <a:lnTo>
                      <a:pt x="656" y="539"/>
                    </a:lnTo>
                    <a:lnTo>
                      <a:pt x="674" y="495"/>
                    </a:lnTo>
                    <a:lnTo>
                      <a:pt x="787" y="443"/>
                    </a:lnTo>
                    <a:lnTo>
                      <a:pt x="752" y="383"/>
                    </a:lnTo>
                    <a:lnTo>
                      <a:pt x="896" y="377"/>
                    </a:lnTo>
                    <a:lnTo>
                      <a:pt x="880" y="314"/>
                    </a:lnTo>
                    <a:lnTo>
                      <a:pt x="1048" y="299"/>
                    </a:lnTo>
                    <a:lnTo>
                      <a:pt x="1136" y="221"/>
                    </a:lnTo>
                    <a:lnTo>
                      <a:pt x="1373" y="211"/>
                    </a:lnTo>
                    <a:lnTo>
                      <a:pt x="1811" y="144"/>
                    </a:lnTo>
                    <a:lnTo>
                      <a:pt x="2048" y="188"/>
                    </a:lnTo>
                    <a:lnTo>
                      <a:pt x="1740" y="240"/>
                    </a:lnTo>
                    <a:lnTo>
                      <a:pt x="1333" y="340"/>
                    </a:lnTo>
                    <a:lnTo>
                      <a:pt x="1092" y="408"/>
                    </a:lnTo>
                    <a:lnTo>
                      <a:pt x="985" y="539"/>
                    </a:lnTo>
                    <a:lnTo>
                      <a:pt x="946" y="657"/>
                    </a:lnTo>
                    <a:lnTo>
                      <a:pt x="1136" y="545"/>
                    </a:lnTo>
                    <a:lnTo>
                      <a:pt x="1229" y="606"/>
                    </a:lnTo>
                    <a:lnTo>
                      <a:pt x="1373" y="478"/>
                    </a:lnTo>
                    <a:lnTo>
                      <a:pt x="1595" y="443"/>
                    </a:lnTo>
                    <a:lnTo>
                      <a:pt x="1752" y="486"/>
                    </a:lnTo>
                    <a:lnTo>
                      <a:pt x="1946" y="416"/>
                    </a:lnTo>
                    <a:lnTo>
                      <a:pt x="2064" y="401"/>
                    </a:lnTo>
                    <a:lnTo>
                      <a:pt x="2220" y="416"/>
                    </a:lnTo>
                    <a:lnTo>
                      <a:pt x="2193" y="240"/>
                    </a:lnTo>
                    <a:lnTo>
                      <a:pt x="2314" y="246"/>
                    </a:lnTo>
                    <a:lnTo>
                      <a:pt x="2450" y="299"/>
                    </a:lnTo>
                    <a:lnTo>
                      <a:pt x="2288" y="177"/>
                    </a:lnTo>
                    <a:lnTo>
                      <a:pt x="2125" y="163"/>
                    </a:lnTo>
                    <a:lnTo>
                      <a:pt x="2083" y="117"/>
                    </a:lnTo>
                    <a:lnTo>
                      <a:pt x="1855" y="32"/>
                    </a:lnTo>
                    <a:lnTo>
                      <a:pt x="1595" y="40"/>
                    </a:lnTo>
                    <a:lnTo>
                      <a:pt x="1155" y="117"/>
                    </a:lnTo>
                    <a:lnTo>
                      <a:pt x="1606" y="0"/>
                    </a:lnTo>
                    <a:lnTo>
                      <a:pt x="1946" y="24"/>
                    </a:lnTo>
                    <a:lnTo>
                      <a:pt x="2203" y="135"/>
                    </a:lnTo>
                    <a:lnTo>
                      <a:pt x="2450" y="202"/>
                    </a:lnTo>
                    <a:lnTo>
                      <a:pt x="2629" y="323"/>
                    </a:lnTo>
                    <a:lnTo>
                      <a:pt x="2824" y="443"/>
                    </a:lnTo>
                    <a:lnTo>
                      <a:pt x="2995" y="707"/>
                    </a:lnTo>
                    <a:lnTo>
                      <a:pt x="691" y="1310"/>
                    </a:lnTo>
                    <a:lnTo>
                      <a:pt x="691" y="1101"/>
                    </a:lnTo>
                    <a:lnTo>
                      <a:pt x="813" y="828"/>
                    </a:lnTo>
                    <a:lnTo>
                      <a:pt x="787" y="663"/>
                    </a:lnTo>
                    <a:lnTo>
                      <a:pt x="787" y="5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8542440" y="2935440"/>
                <a:ext cx="366480" cy="320400"/>
              </a:xfrm>
              <a:custGeom>
                <a:avLst/>
                <a:gdLst/>
                <a:ahLst/>
                <a:rect l="l" t="t" r="r" b="b"/>
                <a:pathLst>
                  <a:path w="2545" h="2219">
                    <a:moveTo>
                      <a:pt x="35" y="488"/>
                    </a:moveTo>
                    <a:lnTo>
                      <a:pt x="0" y="647"/>
                    </a:lnTo>
                    <a:lnTo>
                      <a:pt x="76" y="891"/>
                    </a:lnTo>
                    <a:lnTo>
                      <a:pt x="359" y="1098"/>
                    </a:lnTo>
                    <a:lnTo>
                      <a:pt x="377" y="1259"/>
                    </a:lnTo>
                    <a:lnTo>
                      <a:pt x="634" y="1294"/>
                    </a:lnTo>
                    <a:lnTo>
                      <a:pt x="708" y="1147"/>
                    </a:lnTo>
                    <a:lnTo>
                      <a:pt x="650" y="1103"/>
                    </a:lnTo>
                    <a:lnTo>
                      <a:pt x="641" y="993"/>
                    </a:lnTo>
                    <a:lnTo>
                      <a:pt x="708" y="910"/>
                    </a:lnTo>
                    <a:lnTo>
                      <a:pt x="812" y="915"/>
                    </a:lnTo>
                    <a:lnTo>
                      <a:pt x="939" y="1008"/>
                    </a:lnTo>
                    <a:lnTo>
                      <a:pt x="983" y="1216"/>
                    </a:lnTo>
                    <a:lnTo>
                      <a:pt x="963" y="1458"/>
                    </a:lnTo>
                    <a:lnTo>
                      <a:pt x="839" y="1637"/>
                    </a:lnTo>
                    <a:lnTo>
                      <a:pt x="745" y="1671"/>
                    </a:lnTo>
                    <a:lnTo>
                      <a:pt x="685" y="1721"/>
                    </a:lnTo>
                    <a:lnTo>
                      <a:pt x="634" y="1721"/>
                    </a:lnTo>
                    <a:lnTo>
                      <a:pt x="634" y="1591"/>
                    </a:lnTo>
                    <a:lnTo>
                      <a:pt x="691" y="1499"/>
                    </a:lnTo>
                    <a:lnTo>
                      <a:pt x="606" y="1602"/>
                    </a:lnTo>
                    <a:lnTo>
                      <a:pt x="592" y="1787"/>
                    </a:lnTo>
                    <a:lnTo>
                      <a:pt x="565" y="1882"/>
                    </a:lnTo>
                    <a:lnTo>
                      <a:pt x="641" y="1756"/>
                    </a:lnTo>
                    <a:lnTo>
                      <a:pt x="754" y="1741"/>
                    </a:lnTo>
                    <a:lnTo>
                      <a:pt x="878" y="1643"/>
                    </a:lnTo>
                    <a:lnTo>
                      <a:pt x="1009" y="1465"/>
                    </a:lnTo>
                    <a:lnTo>
                      <a:pt x="1199" y="1747"/>
                    </a:lnTo>
                    <a:lnTo>
                      <a:pt x="1317" y="1985"/>
                    </a:lnTo>
                    <a:lnTo>
                      <a:pt x="1547" y="2140"/>
                    </a:lnTo>
                    <a:lnTo>
                      <a:pt x="1658" y="2211"/>
                    </a:lnTo>
                    <a:lnTo>
                      <a:pt x="1922" y="2173"/>
                    </a:lnTo>
                    <a:lnTo>
                      <a:pt x="2007" y="2219"/>
                    </a:lnTo>
                    <a:lnTo>
                      <a:pt x="2197" y="2036"/>
                    </a:lnTo>
                    <a:lnTo>
                      <a:pt x="2339" y="1695"/>
                    </a:lnTo>
                    <a:lnTo>
                      <a:pt x="2384" y="1327"/>
                    </a:lnTo>
                    <a:lnTo>
                      <a:pt x="2495" y="1020"/>
                    </a:lnTo>
                    <a:lnTo>
                      <a:pt x="2545" y="765"/>
                    </a:lnTo>
                    <a:lnTo>
                      <a:pt x="2519" y="438"/>
                    </a:lnTo>
                    <a:lnTo>
                      <a:pt x="2460" y="277"/>
                    </a:lnTo>
                    <a:lnTo>
                      <a:pt x="2330" y="37"/>
                    </a:lnTo>
                    <a:lnTo>
                      <a:pt x="2223" y="0"/>
                    </a:lnTo>
                    <a:lnTo>
                      <a:pt x="35"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8445600" y="3111480"/>
                <a:ext cx="77760" cy="106560"/>
              </a:xfrm>
              <a:custGeom>
                <a:avLst/>
                <a:gdLst/>
                <a:ahLst/>
                <a:rect l="l" t="t" r="r" b="b"/>
                <a:pathLst>
                  <a:path w="546" h="729">
                    <a:moveTo>
                      <a:pt x="425" y="0"/>
                    </a:moveTo>
                    <a:lnTo>
                      <a:pt x="471" y="96"/>
                    </a:lnTo>
                    <a:lnTo>
                      <a:pt x="368" y="234"/>
                    </a:lnTo>
                    <a:lnTo>
                      <a:pt x="378" y="323"/>
                    </a:lnTo>
                    <a:lnTo>
                      <a:pt x="496" y="523"/>
                    </a:lnTo>
                    <a:lnTo>
                      <a:pt x="546" y="729"/>
                    </a:lnTo>
                    <a:lnTo>
                      <a:pt x="451" y="517"/>
                    </a:lnTo>
                    <a:lnTo>
                      <a:pt x="384" y="430"/>
                    </a:lnTo>
                    <a:lnTo>
                      <a:pt x="359" y="517"/>
                    </a:lnTo>
                    <a:lnTo>
                      <a:pt x="283" y="611"/>
                    </a:lnTo>
                    <a:lnTo>
                      <a:pt x="283" y="486"/>
                    </a:lnTo>
                    <a:lnTo>
                      <a:pt x="50" y="480"/>
                    </a:lnTo>
                    <a:lnTo>
                      <a:pt x="0" y="378"/>
                    </a:lnTo>
                    <a:lnTo>
                      <a:pt x="8" y="323"/>
                    </a:lnTo>
                    <a:lnTo>
                      <a:pt x="35" y="367"/>
                    </a:lnTo>
                    <a:lnTo>
                      <a:pt x="154" y="367"/>
                    </a:lnTo>
                    <a:lnTo>
                      <a:pt x="263" y="419"/>
                    </a:lnTo>
                    <a:lnTo>
                      <a:pt x="305" y="360"/>
                    </a:lnTo>
                    <a:lnTo>
                      <a:pt x="359" y="351"/>
                    </a:lnTo>
                    <a:lnTo>
                      <a:pt x="333" y="258"/>
                    </a:lnTo>
                    <a:lnTo>
                      <a:pt x="340" y="129"/>
                    </a:lnTo>
                    <a:lnTo>
                      <a:pt x="378" y="9"/>
                    </a:lnTo>
                    <a:lnTo>
                      <a:pt x="4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8461440" y="3054240"/>
                <a:ext cx="34920" cy="92160"/>
              </a:xfrm>
              <a:custGeom>
                <a:avLst/>
                <a:gdLst/>
                <a:ahLst/>
                <a:rect l="l" t="t" r="r" b="b"/>
                <a:pathLst>
                  <a:path w="239" h="642">
                    <a:moveTo>
                      <a:pt x="145" y="60"/>
                    </a:moveTo>
                    <a:lnTo>
                      <a:pt x="51" y="44"/>
                    </a:lnTo>
                    <a:lnTo>
                      <a:pt x="14" y="118"/>
                    </a:lnTo>
                    <a:lnTo>
                      <a:pt x="44" y="318"/>
                    </a:lnTo>
                    <a:lnTo>
                      <a:pt x="106" y="497"/>
                    </a:lnTo>
                    <a:lnTo>
                      <a:pt x="145" y="559"/>
                    </a:lnTo>
                    <a:lnTo>
                      <a:pt x="195" y="598"/>
                    </a:lnTo>
                    <a:lnTo>
                      <a:pt x="239" y="619"/>
                    </a:lnTo>
                    <a:lnTo>
                      <a:pt x="230" y="642"/>
                    </a:lnTo>
                    <a:lnTo>
                      <a:pt x="135" y="606"/>
                    </a:lnTo>
                    <a:lnTo>
                      <a:pt x="60" y="480"/>
                    </a:lnTo>
                    <a:lnTo>
                      <a:pt x="0" y="253"/>
                    </a:lnTo>
                    <a:lnTo>
                      <a:pt x="0" y="68"/>
                    </a:lnTo>
                    <a:lnTo>
                      <a:pt x="33" y="0"/>
                    </a:lnTo>
                    <a:lnTo>
                      <a:pt x="135" y="0"/>
                    </a:lnTo>
                    <a:lnTo>
                      <a:pt x="145" y="6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8" name=""/>
              <p:cNvSpPr/>
              <p:nvPr/>
            </p:nvSpPr>
            <p:spPr>
              <a:xfrm>
                <a:off x="8636040" y="3083040"/>
                <a:ext cx="33120" cy="69840"/>
              </a:xfrm>
              <a:custGeom>
                <a:avLst/>
                <a:gdLst/>
                <a:ahLst/>
                <a:rect l="l" t="t" r="r" b="b"/>
                <a:pathLst>
                  <a:path w="228" h="488">
                    <a:moveTo>
                      <a:pt x="17" y="121"/>
                    </a:moveTo>
                    <a:lnTo>
                      <a:pt x="77" y="0"/>
                    </a:lnTo>
                    <a:lnTo>
                      <a:pt x="145" y="0"/>
                    </a:lnTo>
                    <a:lnTo>
                      <a:pt x="228" y="170"/>
                    </a:lnTo>
                    <a:lnTo>
                      <a:pt x="204" y="422"/>
                    </a:lnTo>
                    <a:lnTo>
                      <a:pt x="204" y="187"/>
                    </a:lnTo>
                    <a:lnTo>
                      <a:pt x="154" y="152"/>
                    </a:lnTo>
                    <a:lnTo>
                      <a:pt x="135" y="362"/>
                    </a:lnTo>
                    <a:lnTo>
                      <a:pt x="27" y="488"/>
                    </a:lnTo>
                    <a:lnTo>
                      <a:pt x="58" y="333"/>
                    </a:lnTo>
                    <a:lnTo>
                      <a:pt x="0" y="222"/>
                    </a:lnTo>
                    <a:lnTo>
                      <a:pt x="17" y="1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9" name=""/>
              <p:cNvSpPr/>
              <p:nvPr/>
            </p:nvSpPr>
            <p:spPr>
              <a:xfrm>
                <a:off x="8486640" y="3214800"/>
                <a:ext cx="41400" cy="29880"/>
              </a:xfrm>
              <a:custGeom>
                <a:avLst/>
                <a:gdLst/>
                <a:ahLst/>
                <a:rect l="l" t="t" r="r" b="b"/>
                <a:pathLst>
                  <a:path w="286" h="205">
                    <a:moveTo>
                      <a:pt x="0" y="0"/>
                    </a:moveTo>
                    <a:lnTo>
                      <a:pt x="95" y="6"/>
                    </a:lnTo>
                    <a:lnTo>
                      <a:pt x="220" y="76"/>
                    </a:lnTo>
                    <a:lnTo>
                      <a:pt x="257" y="6"/>
                    </a:lnTo>
                    <a:lnTo>
                      <a:pt x="286" y="101"/>
                    </a:lnTo>
                    <a:lnTo>
                      <a:pt x="220" y="205"/>
                    </a:lnTo>
                    <a:lnTo>
                      <a:pt x="201" y="109"/>
                    </a:lnTo>
                    <a:lnTo>
                      <a:pt x="142" y="87"/>
                    </a:lnTo>
                    <a:lnTo>
                      <a:pt x="30" y="76"/>
                    </a:lnTo>
                    <a:lnTo>
                      <a:pt x="0" y="43"/>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00" name=""/>
              <p:cNvSpPr/>
              <p:nvPr/>
            </p:nvSpPr>
            <p:spPr>
              <a:xfrm>
                <a:off x="8485200" y="3213000"/>
                <a:ext cx="360360" cy="120600"/>
              </a:xfrm>
              <a:custGeom>
                <a:avLst/>
                <a:gdLst/>
                <a:ahLst/>
                <a:rect l="l" t="t" r="r" b="b"/>
                <a:pathLst>
                  <a:path w="2500" h="831">
                    <a:moveTo>
                      <a:pt x="25" y="162"/>
                    </a:moveTo>
                    <a:lnTo>
                      <a:pt x="25" y="226"/>
                    </a:lnTo>
                    <a:lnTo>
                      <a:pt x="92" y="287"/>
                    </a:lnTo>
                    <a:lnTo>
                      <a:pt x="0" y="436"/>
                    </a:lnTo>
                    <a:lnTo>
                      <a:pt x="0" y="565"/>
                    </a:lnTo>
                    <a:lnTo>
                      <a:pt x="83" y="677"/>
                    </a:lnTo>
                    <a:lnTo>
                      <a:pt x="380" y="771"/>
                    </a:lnTo>
                    <a:lnTo>
                      <a:pt x="654" y="781"/>
                    </a:lnTo>
                    <a:lnTo>
                      <a:pt x="800" y="831"/>
                    </a:lnTo>
                    <a:lnTo>
                      <a:pt x="1192" y="787"/>
                    </a:lnTo>
                    <a:lnTo>
                      <a:pt x="1737" y="795"/>
                    </a:lnTo>
                    <a:lnTo>
                      <a:pt x="2500" y="795"/>
                    </a:lnTo>
                    <a:lnTo>
                      <a:pt x="1236" y="735"/>
                    </a:lnTo>
                    <a:lnTo>
                      <a:pt x="1236" y="447"/>
                    </a:lnTo>
                    <a:lnTo>
                      <a:pt x="1437" y="131"/>
                    </a:lnTo>
                    <a:lnTo>
                      <a:pt x="924" y="465"/>
                    </a:lnTo>
                    <a:lnTo>
                      <a:pt x="981" y="0"/>
                    </a:lnTo>
                    <a:lnTo>
                      <a:pt x="937" y="11"/>
                    </a:lnTo>
                    <a:lnTo>
                      <a:pt x="726" y="309"/>
                    </a:lnTo>
                    <a:lnTo>
                      <a:pt x="646" y="412"/>
                    </a:lnTo>
                    <a:lnTo>
                      <a:pt x="397" y="517"/>
                    </a:lnTo>
                    <a:lnTo>
                      <a:pt x="149" y="573"/>
                    </a:lnTo>
                    <a:lnTo>
                      <a:pt x="73" y="556"/>
                    </a:lnTo>
                    <a:lnTo>
                      <a:pt x="37" y="517"/>
                    </a:lnTo>
                    <a:lnTo>
                      <a:pt x="48" y="436"/>
                    </a:lnTo>
                    <a:lnTo>
                      <a:pt x="108" y="299"/>
                    </a:lnTo>
                    <a:lnTo>
                      <a:pt x="108" y="268"/>
                    </a:lnTo>
                    <a:lnTo>
                      <a:pt x="57" y="181"/>
                    </a:lnTo>
                    <a:lnTo>
                      <a:pt x="25"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8836200" y="3240000"/>
                <a:ext cx="39600" cy="87480"/>
              </a:xfrm>
              <a:custGeom>
                <a:avLst/>
                <a:gdLst/>
                <a:ahLst/>
                <a:rect l="l" t="t" r="r" b="b"/>
                <a:pathLst>
                  <a:path w="281" h="604">
                    <a:moveTo>
                      <a:pt x="42" y="0"/>
                    </a:moveTo>
                    <a:lnTo>
                      <a:pt x="85" y="408"/>
                    </a:lnTo>
                    <a:lnTo>
                      <a:pt x="281" y="539"/>
                    </a:lnTo>
                    <a:lnTo>
                      <a:pt x="273" y="580"/>
                    </a:lnTo>
                    <a:lnTo>
                      <a:pt x="36" y="604"/>
                    </a:lnTo>
                    <a:lnTo>
                      <a:pt x="75" y="539"/>
                    </a:lnTo>
                    <a:lnTo>
                      <a:pt x="0" y="0"/>
                    </a:lnTo>
                    <a:lnTo>
                      <a:pt x="4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2" name=""/>
              <p:cNvSpPr/>
              <p:nvPr/>
            </p:nvSpPr>
            <p:spPr>
              <a:xfrm>
                <a:off x="8461440" y="3327480"/>
                <a:ext cx="152280" cy="212760"/>
              </a:xfrm>
              <a:custGeom>
                <a:avLst/>
                <a:gdLst/>
                <a:ahLst/>
                <a:rect l="l" t="t" r="r" b="b"/>
                <a:pathLst>
                  <a:path w="1047" h="1480">
                    <a:moveTo>
                      <a:pt x="949" y="33"/>
                    </a:moveTo>
                    <a:lnTo>
                      <a:pt x="526" y="272"/>
                    </a:lnTo>
                    <a:lnTo>
                      <a:pt x="208" y="1112"/>
                    </a:lnTo>
                    <a:lnTo>
                      <a:pt x="0" y="1480"/>
                    </a:lnTo>
                    <a:lnTo>
                      <a:pt x="411" y="1014"/>
                    </a:lnTo>
                    <a:lnTo>
                      <a:pt x="605" y="763"/>
                    </a:lnTo>
                    <a:lnTo>
                      <a:pt x="746" y="732"/>
                    </a:lnTo>
                    <a:lnTo>
                      <a:pt x="794" y="968"/>
                    </a:lnTo>
                    <a:lnTo>
                      <a:pt x="808" y="526"/>
                    </a:lnTo>
                    <a:lnTo>
                      <a:pt x="873" y="240"/>
                    </a:lnTo>
                    <a:lnTo>
                      <a:pt x="1047" y="0"/>
                    </a:lnTo>
                    <a:lnTo>
                      <a:pt x="94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8589960" y="3333600"/>
                <a:ext cx="295200" cy="122400"/>
              </a:xfrm>
              <a:custGeom>
                <a:avLst/>
                <a:gdLst/>
                <a:ahLst/>
                <a:rect l="l" t="t" r="r" b="b"/>
                <a:pathLst>
                  <a:path w="2046" h="839">
                    <a:moveTo>
                      <a:pt x="0" y="839"/>
                    </a:moveTo>
                    <a:lnTo>
                      <a:pt x="380" y="684"/>
                    </a:lnTo>
                    <a:lnTo>
                      <a:pt x="860" y="525"/>
                    </a:lnTo>
                    <a:lnTo>
                      <a:pt x="1570" y="525"/>
                    </a:lnTo>
                    <a:lnTo>
                      <a:pt x="1903" y="397"/>
                    </a:lnTo>
                    <a:lnTo>
                      <a:pt x="1919" y="192"/>
                    </a:lnTo>
                    <a:lnTo>
                      <a:pt x="2046" y="0"/>
                    </a:lnTo>
                    <a:lnTo>
                      <a:pt x="1969" y="205"/>
                    </a:lnTo>
                    <a:lnTo>
                      <a:pt x="1938" y="478"/>
                    </a:lnTo>
                    <a:lnTo>
                      <a:pt x="1651" y="538"/>
                    </a:lnTo>
                    <a:lnTo>
                      <a:pt x="843" y="571"/>
                    </a:lnTo>
                    <a:lnTo>
                      <a:pt x="222" y="793"/>
                    </a:lnTo>
                    <a:lnTo>
                      <a:pt x="0" y="8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21680" y="3446640"/>
                <a:ext cx="276120" cy="287280"/>
              </a:xfrm>
              <a:custGeom>
                <a:avLst/>
                <a:gdLst/>
                <a:ahLst/>
                <a:rect l="l" t="t" r="r" b="b"/>
                <a:pathLst>
                  <a:path w="1918" h="1985">
                    <a:moveTo>
                      <a:pt x="1918" y="253"/>
                    </a:moveTo>
                    <a:lnTo>
                      <a:pt x="1441" y="508"/>
                    </a:lnTo>
                    <a:lnTo>
                      <a:pt x="1253" y="905"/>
                    </a:lnTo>
                    <a:lnTo>
                      <a:pt x="775" y="1491"/>
                    </a:lnTo>
                    <a:lnTo>
                      <a:pt x="775" y="1684"/>
                    </a:lnTo>
                    <a:lnTo>
                      <a:pt x="822" y="1985"/>
                    </a:lnTo>
                    <a:lnTo>
                      <a:pt x="648" y="1761"/>
                    </a:lnTo>
                    <a:lnTo>
                      <a:pt x="316" y="1779"/>
                    </a:lnTo>
                    <a:lnTo>
                      <a:pt x="0" y="1985"/>
                    </a:lnTo>
                    <a:lnTo>
                      <a:pt x="281" y="1663"/>
                    </a:lnTo>
                    <a:lnTo>
                      <a:pt x="412" y="697"/>
                    </a:lnTo>
                    <a:lnTo>
                      <a:pt x="206" y="872"/>
                    </a:lnTo>
                    <a:lnTo>
                      <a:pt x="395" y="80"/>
                    </a:lnTo>
                    <a:lnTo>
                      <a:pt x="281" y="94"/>
                    </a:lnTo>
                    <a:lnTo>
                      <a:pt x="380" y="59"/>
                    </a:lnTo>
                    <a:lnTo>
                      <a:pt x="460" y="59"/>
                    </a:lnTo>
                    <a:lnTo>
                      <a:pt x="554" y="111"/>
                    </a:lnTo>
                    <a:lnTo>
                      <a:pt x="554" y="0"/>
                    </a:lnTo>
                    <a:lnTo>
                      <a:pt x="600" y="159"/>
                    </a:lnTo>
                    <a:lnTo>
                      <a:pt x="648" y="222"/>
                    </a:lnTo>
                    <a:lnTo>
                      <a:pt x="775" y="236"/>
                    </a:lnTo>
                    <a:lnTo>
                      <a:pt x="839" y="186"/>
                    </a:lnTo>
                    <a:lnTo>
                      <a:pt x="885" y="124"/>
                    </a:lnTo>
                    <a:lnTo>
                      <a:pt x="885" y="222"/>
                    </a:lnTo>
                    <a:lnTo>
                      <a:pt x="856" y="284"/>
                    </a:lnTo>
                    <a:lnTo>
                      <a:pt x="839" y="523"/>
                    </a:lnTo>
                    <a:lnTo>
                      <a:pt x="809" y="1109"/>
                    </a:lnTo>
                    <a:lnTo>
                      <a:pt x="1092" y="953"/>
                    </a:lnTo>
                    <a:lnTo>
                      <a:pt x="1219" y="872"/>
                    </a:lnTo>
                    <a:lnTo>
                      <a:pt x="1425" y="444"/>
                    </a:lnTo>
                    <a:lnTo>
                      <a:pt x="1886" y="222"/>
                    </a:lnTo>
                    <a:lnTo>
                      <a:pt x="1918"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8244000" y="3218040"/>
                <a:ext cx="196560" cy="230040"/>
              </a:xfrm>
              <a:custGeom>
                <a:avLst/>
                <a:gdLst/>
                <a:ahLst/>
                <a:rect l="l" t="t" r="r" b="b"/>
                <a:pathLst>
                  <a:path w="1363" h="1601">
                    <a:moveTo>
                      <a:pt x="777" y="1569"/>
                    </a:moveTo>
                    <a:lnTo>
                      <a:pt x="1350" y="651"/>
                    </a:lnTo>
                    <a:lnTo>
                      <a:pt x="1363" y="520"/>
                    </a:lnTo>
                    <a:lnTo>
                      <a:pt x="1159" y="96"/>
                    </a:lnTo>
                    <a:lnTo>
                      <a:pt x="1032" y="77"/>
                    </a:lnTo>
                    <a:lnTo>
                      <a:pt x="1126" y="141"/>
                    </a:lnTo>
                    <a:lnTo>
                      <a:pt x="1317" y="520"/>
                    </a:lnTo>
                    <a:lnTo>
                      <a:pt x="1317" y="601"/>
                    </a:lnTo>
                    <a:lnTo>
                      <a:pt x="1159" y="442"/>
                    </a:lnTo>
                    <a:lnTo>
                      <a:pt x="1159" y="300"/>
                    </a:lnTo>
                    <a:lnTo>
                      <a:pt x="810" y="0"/>
                    </a:lnTo>
                    <a:lnTo>
                      <a:pt x="633" y="63"/>
                    </a:lnTo>
                    <a:lnTo>
                      <a:pt x="810" y="30"/>
                    </a:lnTo>
                    <a:lnTo>
                      <a:pt x="1078" y="314"/>
                    </a:lnTo>
                    <a:lnTo>
                      <a:pt x="1001" y="335"/>
                    </a:lnTo>
                    <a:lnTo>
                      <a:pt x="936" y="361"/>
                    </a:lnTo>
                    <a:lnTo>
                      <a:pt x="796" y="189"/>
                    </a:lnTo>
                    <a:lnTo>
                      <a:pt x="492" y="63"/>
                    </a:lnTo>
                    <a:lnTo>
                      <a:pt x="380" y="96"/>
                    </a:lnTo>
                    <a:lnTo>
                      <a:pt x="492" y="124"/>
                    </a:lnTo>
                    <a:lnTo>
                      <a:pt x="796" y="220"/>
                    </a:lnTo>
                    <a:lnTo>
                      <a:pt x="700" y="314"/>
                    </a:lnTo>
                    <a:lnTo>
                      <a:pt x="274" y="141"/>
                    </a:lnTo>
                    <a:lnTo>
                      <a:pt x="19" y="442"/>
                    </a:lnTo>
                    <a:lnTo>
                      <a:pt x="50" y="634"/>
                    </a:lnTo>
                    <a:lnTo>
                      <a:pt x="191" y="381"/>
                    </a:lnTo>
                    <a:lnTo>
                      <a:pt x="191" y="335"/>
                    </a:lnTo>
                    <a:lnTo>
                      <a:pt x="256" y="189"/>
                    </a:lnTo>
                    <a:lnTo>
                      <a:pt x="444" y="252"/>
                    </a:lnTo>
                    <a:lnTo>
                      <a:pt x="304" y="540"/>
                    </a:lnTo>
                    <a:lnTo>
                      <a:pt x="160" y="808"/>
                    </a:lnTo>
                    <a:lnTo>
                      <a:pt x="67" y="1111"/>
                    </a:lnTo>
                    <a:lnTo>
                      <a:pt x="97" y="1346"/>
                    </a:lnTo>
                    <a:lnTo>
                      <a:pt x="125" y="1412"/>
                    </a:lnTo>
                    <a:lnTo>
                      <a:pt x="0" y="1542"/>
                    </a:lnTo>
                    <a:lnTo>
                      <a:pt x="224" y="1444"/>
                    </a:lnTo>
                    <a:lnTo>
                      <a:pt x="415" y="1460"/>
                    </a:lnTo>
                    <a:lnTo>
                      <a:pt x="415" y="1552"/>
                    </a:lnTo>
                    <a:lnTo>
                      <a:pt x="478" y="1444"/>
                    </a:lnTo>
                    <a:lnTo>
                      <a:pt x="605" y="1460"/>
                    </a:lnTo>
                    <a:lnTo>
                      <a:pt x="683" y="1506"/>
                    </a:lnTo>
                    <a:lnTo>
                      <a:pt x="748" y="1601"/>
                    </a:lnTo>
                    <a:lnTo>
                      <a:pt x="777" y="15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031240" y="3317760"/>
                <a:ext cx="347760" cy="665280"/>
              </a:xfrm>
              <a:custGeom>
                <a:avLst/>
                <a:gdLst/>
                <a:ahLst/>
                <a:rect l="l" t="t" r="r" b="b"/>
                <a:pathLst>
                  <a:path w="2411" h="4600">
                    <a:moveTo>
                      <a:pt x="1525" y="0"/>
                    </a:moveTo>
                    <a:lnTo>
                      <a:pt x="1448" y="253"/>
                    </a:lnTo>
                    <a:lnTo>
                      <a:pt x="1429" y="442"/>
                    </a:lnTo>
                    <a:lnTo>
                      <a:pt x="1461" y="634"/>
                    </a:lnTo>
                    <a:lnTo>
                      <a:pt x="1494" y="761"/>
                    </a:lnTo>
                    <a:lnTo>
                      <a:pt x="1494" y="824"/>
                    </a:lnTo>
                    <a:lnTo>
                      <a:pt x="1461" y="870"/>
                    </a:lnTo>
                    <a:lnTo>
                      <a:pt x="1461" y="1029"/>
                    </a:lnTo>
                    <a:lnTo>
                      <a:pt x="1525" y="1048"/>
                    </a:lnTo>
                    <a:lnTo>
                      <a:pt x="1475" y="1111"/>
                    </a:lnTo>
                    <a:lnTo>
                      <a:pt x="1176" y="2269"/>
                    </a:lnTo>
                    <a:lnTo>
                      <a:pt x="1080" y="2759"/>
                    </a:lnTo>
                    <a:lnTo>
                      <a:pt x="1051" y="3047"/>
                    </a:lnTo>
                    <a:lnTo>
                      <a:pt x="1080" y="3223"/>
                    </a:lnTo>
                    <a:lnTo>
                      <a:pt x="1195" y="3065"/>
                    </a:lnTo>
                    <a:lnTo>
                      <a:pt x="1032" y="3331"/>
                    </a:lnTo>
                    <a:lnTo>
                      <a:pt x="827" y="3683"/>
                    </a:lnTo>
                    <a:lnTo>
                      <a:pt x="1097" y="3699"/>
                    </a:lnTo>
                    <a:lnTo>
                      <a:pt x="1413" y="3873"/>
                    </a:lnTo>
                    <a:lnTo>
                      <a:pt x="1635" y="3589"/>
                    </a:lnTo>
                    <a:lnTo>
                      <a:pt x="1967" y="3666"/>
                    </a:lnTo>
                    <a:lnTo>
                      <a:pt x="2158" y="3428"/>
                    </a:lnTo>
                    <a:lnTo>
                      <a:pt x="2175" y="2903"/>
                    </a:lnTo>
                    <a:lnTo>
                      <a:pt x="2271" y="3476"/>
                    </a:lnTo>
                    <a:lnTo>
                      <a:pt x="2411" y="3967"/>
                    </a:lnTo>
                    <a:lnTo>
                      <a:pt x="2383" y="4335"/>
                    </a:lnTo>
                    <a:lnTo>
                      <a:pt x="2316" y="3873"/>
                    </a:lnTo>
                    <a:lnTo>
                      <a:pt x="2158" y="3620"/>
                    </a:lnTo>
                    <a:lnTo>
                      <a:pt x="1953" y="3967"/>
                    </a:lnTo>
                    <a:lnTo>
                      <a:pt x="1572" y="4600"/>
                    </a:lnTo>
                    <a:lnTo>
                      <a:pt x="1207" y="4206"/>
                    </a:lnTo>
                    <a:lnTo>
                      <a:pt x="667" y="4000"/>
                    </a:lnTo>
                    <a:lnTo>
                      <a:pt x="652" y="3794"/>
                    </a:lnTo>
                    <a:lnTo>
                      <a:pt x="777" y="3539"/>
                    </a:lnTo>
                    <a:lnTo>
                      <a:pt x="0" y="3240"/>
                    </a:lnTo>
                    <a:lnTo>
                      <a:pt x="0" y="2301"/>
                    </a:lnTo>
                    <a:lnTo>
                      <a:pt x="95" y="2888"/>
                    </a:lnTo>
                    <a:lnTo>
                      <a:pt x="382" y="2793"/>
                    </a:lnTo>
                    <a:lnTo>
                      <a:pt x="572" y="3047"/>
                    </a:lnTo>
                    <a:lnTo>
                      <a:pt x="842" y="2936"/>
                    </a:lnTo>
                    <a:lnTo>
                      <a:pt x="794" y="2633"/>
                    </a:lnTo>
                    <a:lnTo>
                      <a:pt x="873" y="2334"/>
                    </a:lnTo>
                    <a:lnTo>
                      <a:pt x="842" y="2650"/>
                    </a:lnTo>
                    <a:lnTo>
                      <a:pt x="903" y="2746"/>
                    </a:lnTo>
                    <a:lnTo>
                      <a:pt x="1016" y="2731"/>
                    </a:lnTo>
                    <a:lnTo>
                      <a:pt x="1160" y="2174"/>
                    </a:lnTo>
                    <a:lnTo>
                      <a:pt x="1461" y="1075"/>
                    </a:lnTo>
                    <a:lnTo>
                      <a:pt x="1429" y="1013"/>
                    </a:lnTo>
                    <a:lnTo>
                      <a:pt x="1429" y="824"/>
                    </a:lnTo>
                    <a:lnTo>
                      <a:pt x="1448" y="793"/>
                    </a:lnTo>
                    <a:lnTo>
                      <a:pt x="1398" y="521"/>
                    </a:lnTo>
                    <a:lnTo>
                      <a:pt x="1413" y="253"/>
                    </a:lnTo>
                    <a:lnTo>
                      <a:pt x="15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8370720" y="3502080"/>
                <a:ext cx="297000" cy="285840"/>
              </a:xfrm>
              <a:custGeom>
                <a:avLst/>
                <a:gdLst/>
                <a:ahLst/>
                <a:rect l="l" t="t" r="r" b="b"/>
                <a:pathLst>
                  <a:path w="2062" h="1984">
                    <a:moveTo>
                      <a:pt x="178" y="1112"/>
                    </a:moveTo>
                    <a:lnTo>
                      <a:pt x="556" y="586"/>
                    </a:lnTo>
                    <a:lnTo>
                      <a:pt x="1268" y="129"/>
                    </a:lnTo>
                    <a:lnTo>
                      <a:pt x="2062" y="0"/>
                    </a:lnTo>
                    <a:lnTo>
                      <a:pt x="1288" y="256"/>
                    </a:lnTo>
                    <a:lnTo>
                      <a:pt x="730" y="809"/>
                    </a:lnTo>
                    <a:lnTo>
                      <a:pt x="477" y="1463"/>
                    </a:lnTo>
                    <a:lnTo>
                      <a:pt x="0" y="1984"/>
                    </a:lnTo>
                    <a:lnTo>
                      <a:pt x="351" y="1478"/>
                    </a:lnTo>
                    <a:lnTo>
                      <a:pt x="429" y="1001"/>
                    </a:lnTo>
                    <a:lnTo>
                      <a:pt x="366" y="953"/>
                    </a:lnTo>
                    <a:lnTo>
                      <a:pt x="178" y="1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8844120" y="3403440"/>
                <a:ext cx="112680" cy="208080"/>
              </a:xfrm>
              <a:custGeom>
                <a:avLst/>
                <a:gdLst/>
                <a:ahLst/>
                <a:rect l="l" t="t" r="r" b="b"/>
                <a:pathLst>
                  <a:path w="776" h="1444">
                    <a:moveTo>
                      <a:pt x="107" y="0"/>
                    </a:moveTo>
                    <a:lnTo>
                      <a:pt x="392" y="396"/>
                    </a:lnTo>
                    <a:lnTo>
                      <a:pt x="488" y="760"/>
                    </a:lnTo>
                    <a:lnTo>
                      <a:pt x="741" y="999"/>
                    </a:lnTo>
                    <a:lnTo>
                      <a:pt x="776" y="1365"/>
                    </a:lnTo>
                    <a:lnTo>
                      <a:pt x="615" y="1444"/>
                    </a:lnTo>
                    <a:lnTo>
                      <a:pt x="713" y="1059"/>
                    </a:lnTo>
                    <a:lnTo>
                      <a:pt x="411" y="1013"/>
                    </a:lnTo>
                    <a:lnTo>
                      <a:pt x="362" y="954"/>
                    </a:lnTo>
                    <a:lnTo>
                      <a:pt x="362" y="1189"/>
                    </a:lnTo>
                    <a:lnTo>
                      <a:pt x="268" y="603"/>
                    </a:lnTo>
                    <a:lnTo>
                      <a:pt x="124" y="158"/>
                    </a:lnTo>
                    <a:lnTo>
                      <a:pt x="0" y="29"/>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7929720" y="3514680"/>
                <a:ext cx="1109520" cy="593640"/>
              </a:xfrm>
              <a:custGeom>
                <a:avLst/>
                <a:gdLst/>
                <a:ahLst/>
                <a:rect l="l" t="t" r="r" b="b"/>
                <a:pathLst>
                  <a:path w="7689" h="4113">
                    <a:moveTo>
                      <a:pt x="7609" y="729"/>
                    </a:moveTo>
                    <a:lnTo>
                      <a:pt x="7451" y="571"/>
                    </a:lnTo>
                    <a:lnTo>
                      <a:pt x="7166" y="571"/>
                    </a:lnTo>
                    <a:lnTo>
                      <a:pt x="6817" y="681"/>
                    </a:lnTo>
                    <a:lnTo>
                      <a:pt x="6296" y="1016"/>
                    </a:lnTo>
                    <a:lnTo>
                      <a:pt x="5693" y="1572"/>
                    </a:lnTo>
                    <a:lnTo>
                      <a:pt x="5294" y="2064"/>
                    </a:lnTo>
                    <a:lnTo>
                      <a:pt x="4960" y="2686"/>
                    </a:lnTo>
                    <a:lnTo>
                      <a:pt x="4740" y="3286"/>
                    </a:lnTo>
                    <a:lnTo>
                      <a:pt x="4566" y="4113"/>
                    </a:lnTo>
                    <a:lnTo>
                      <a:pt x="0" y="4113"/>
                    </a:lnTo>
                    <a:lnTo>
                      <a:pt x="362" y="4036"/>
                    </a:lnTo>
                    <a:lnTo>
                      <a:pt x="270" y="3875"/>
                    </a:lnTo>
                    <a:lnTo>
                      <a:pt x="538" y="3733"/>
                    </a:lnTo>
                    <a:lnTo>
                      <a:pt x="791" y="3829"/>
                    </a:lnTo>
                    <a:lnTo>
                      <a:pt x="1030" y="3781"/>
                    </a:lnTo>
                    <a:lnTo>
                      <a:pt x="1250" y="3430"/>
                    </a:lnTo>
                    <a:lnTo>
                      <a:pt x="1663" y="3158"/>
                    </a:lnTo>
                    <a:lnTo>
                      <a:pt x="1678" y="2700"/>
                    </a:lnTo>
                    <a:lnTo>
                      <a:pt x="1726" y="3463"/>
                    </a:lnTo>
                    <a:lnTo>
                      <a:pt x="1951" y="3637"/>
                    </a:lnTo>
                    <a:lnTo>
                      <a:pt x="2014" y="2811"/>
                    </a:lnTo>
                    <a:lnTo>
                      <a:pt x="2297" y="3158"/>
                    </a:lnTo>
                    <a:lnTo>
                      <a:pt x="2297" y="3492"/>
                    </a:lnTo>
                    <a:lnTo>
                      <a:pt x="2818" y="2574"/>
                    </a:lnTo>
                    <a:lnTo>
                      <a:pt x="3076" y="2653"/>
                    </a:lnTo>
                    <a:lnTo>
                      <a:pt x="3010" y="2302"/>
                    </a:lnTo>
                    <a:lnTo>
                      <a:pt x="3296" y="1984"/>
                    </a:lnTo>
                    <a:lnTo>
                      <a:pt x="3502" y="2017"/>
                    </a:lnTo>
                    <a:lnTo>
                      <a:pt x="4740" y="490"/>
                    </a:lnTo>
                    <a:lnTo>
                      <a:pt x="4391" y="364"/>
                    </a:lnTo>
                    <a:lnTo>
                      <a:pt x="5233" y="0"/>
                    </a:lnTo>
                    <a:lnTo>
                      <a:pt x="6643" y="382"/>
                    </a:lnTo>
                    <a:lnTo>
                      <a:pt x="6658" y="667"/>
                    </a:lnTo>
                    <a:lnTo>
                      <a:pt x="7133" y="538"/>
                    </a:lnTo>
                    <a:lnTo>
                      <a:pt x="7484" y="538"/>
                    </a:lnTo>
                    <a:lnTo>
                      <a:pt x="7689" y="729"/>
                    </a:lnTo>
                    <a:lnTo>
                      <a:pt x="7678" y="889"/>
                    </a:lnTo>
                    <a:lnTo>
                      <a:pt x="7327" y="1395"/>
                    </a:lnTo>
                    <a:lnTo>
                      <a:pt x="7025" y="2096"/>
                    </a:lnTo>
                    <a:lnTo>
                      <a:pt x="6865" y="2765"/>
                    </a:lnTo>
                    <a:lnTo>
                      <a:pt x="6769" y="3384"/>
                    </a:lnTo>
                    <a:lnTo>
                      <a:pt x="6755" y="4001"/>
                    </a:lnTo>
                    <a:lnTo>
                      <a:pt x="6726" y="3210"/>
                    </a:lnTo>
                    <a:lnTo>
                      <a:pt x="6882" y="2273"/>
                    </a:lnTo>
                    <a:lnTo>
                      <a:pt x="7166" y="1539"/>
                    </a:lnTo>
                    <a:lnTo>
                      <a:pt x="7388" y="1127"/>
                    </a:lnTo>
                    <a:lnTo>
                      <a:pt x="6882" y="1510"/>
                    </a:lnTo>
                    <a:lnTo>
                      <a:pt x="6423" y="1967"/>
                    </a:lnTo>
                    <a:lnTo>
                      <a:pt x="6007" y="2430"/>
                    </a:lnTo>
                    <a:lnTo>
                      <a:pt x="6612" y="1652"/>
                    </a:lnTo>
                    <a:lnTo>
                      <a:pt x="7040" y="1255"/>
                    </a:lnTo>
                    <a:lnTo>
                      <a:pt x="7628" y="857"/>
                    </a:lnTo>
                    <a:lnTo>
                      <a:pt x="7609" y="7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8043840" y="3602160"/>
                <a:ext cx="162000" cy="55440"/>
              </a:xfrm>
              <a:custGeom>
                <a:avLst/>
                <a:gdLst/>
                <a:ahLst/>
                <a:rect l="l" t="t" r="r" b="b"/>
                <a:pathLst>
                  <a:path w="1126" h="381">
                    <a:moveTo>
                      <a:pt x="0" y="318"/>
                    </a:moveTo>
                    <a:lnTo>
                      <a:pt x="521" y="0"/>
                    </a:lnTo>
                    <a:lnTo>
                      <a:pt x="857" y="191"/>
                    </a:lnTo>
                    <a:lnTo>
                      <a:pt x="1126" y="172"/>
                    </a:lnTo>
                    <a:lnTo>
                      <a:pt x="1064" y="303"/>
                    </a:lnTo>
                    <a:lnTo>
                      <a:pt x="775" y="381"/>
                    </a:lnTo>
                    <a:lnTo>
                      <a:pt x="507" y="127"/>
                    </a:lnTo>
                    <a:lnTo>
                      <a:pt x="0" y="3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1" name=""/>
              <p:cNvSpPr/>
              <p:nvPr/>
            </p:nvSpPr>
            <p:spPr>
              <a:xfrm>
                <a:off x="7469280" y="3621240"/>
                <a:ext cx="568080" cy="164880"/>
              </a:xfrm>
              <a:custGeom>
                <a:avLst/>
                <a:gdLst/>
                <a:ahLst/>
                <a:rect l="l" t="t" r="r" b="b"/>
                <a:pathLst>
                  <a:path w="3937" h="1147">
                    <a:moveTo>
                      <a:pt x="3937" y="1147"/>
                    </a:moveTo>
                    <a:lnTo>
                      <a:pt x="2750" y="912"/>
                    </a:lnTo>
                    <a:lnTo>
                      <a:pt x="2318" y="864"/>
                    </a:lnTo>
                    <a:lnTo>
                      <a:pt x="2073" y="925"/>
                    </a:lnTo>
                    <a:lnTo>
                      <a:pt x="1772" y="937"/>
                    </a:lnTo>
                    <a:lnTo>
                      <a:pt x="1475" y="882"/>
                    </a:lnTo>
                    <a:lnTo>
                      <a:pt x="1230" y="729"/>
                    </a:lnTo>
                    <a:lnTo>
                      <a:pt x="1041" y="528"/>
                    </a:lnTo>
                    <a:lnTo>
                      <a:pt x="897" y="444"/>
                    </a:lnTo>
                    <a:lnTo>
                      <a:pt x="716" y="385"/>
                    </a:lnTo>
                    <a:lnTo>
                      <a:pt x="671" y="357"/>
                    </a:lnTo>
                    <a:lnTo>
                      <a:pt x="442" y="444"/>
                    </a:lnTo>
                    <a:lnTo>
                      <a:pt x="189" y="700"/>
                    </a:lnTo>
                    <a:lnTo>
                      <a:pt x="106" y="716"/>
                    </a:lnTo>
                    <a:lnTo>
                      <a:pt x="64" y="700"/>
                    </a:lnTo>
                    <a:lnTo>
                      <a:pt x="326" y="357"/>
                    </a:lnTo>
                    <a:lnTo>
                      <a:pt x="95" y="376"/>
                    </a:lnTo>
                    <a:lnTo>
                      <a:pt x="0" y="300"/>
                    </a:lnTo>
                    <a:lnTo>
                      <a:pt x="38" y="247"/>
                    </a:lnTo>
                    <a:lnTo>
                      <a:pt x="570" y="0"/>
                    </a:lnTo>
                    <a:lnTo>
                      <a:pt x="295" y="169"/>
                    </a:lnTo>
                    <a:lnTo>
                      <a:pt x="650" y="64"/>
                    </a:lnTo>
                    <a:lnTo>
                      <a:pt x="760" y="91"/>
                    </a:lnTo>
                    <a:lnTo>
                      <a:pt x="897" y="169"/>
                    </a:lnTo>
                    <a:lnTo>
                      <a:pt x="1202" y="345"/>
                    </a:lnTo>
                    <a:lnTo>
                      <a:pt x="925" y="202"/>
                    </a:lnTo>
                    <a:lnTo>
                      <a:pt x="696" y="110"/>
                    </a:lnTo>
                    <a:lnTo>
                      <a:pt x="642" y="139"/>
                    </a:lnTo>
                    <a:lnTo>
                      <a:pt x="642" y="195"/>
                    </a:lnTo>
                    <a:lnTo>
                      <a:pt x="748" y="263"/>
                    </a:lnTo>
                    <a:lnTo>
                      <a:pt x="974" y="339"/>
                    </a:lnTo>
                    <a:lnTo>
                      <a:pt x="1067" y="437"/>
                    </a:lnTo>
                    <a:lnTo>
                      <a:pt x="1184" y="528"/>
                    </a:lnTo>
                    <a:lnTo>
                      <a:pt x="1457" y="592"/>
                    </a:lnTo>
                    <a:lnTo>
                      <a:pt x="1729" y="638"/>
                    </a:lnTo>
                    <a:lnTo>
                      <a:pt x="1993" y="657"/>
                    </a:lnTo>
                    <a:lnTo>
                      <a:pt x="2261" y="613"/>
                    </a:lnTo>
                    <a:lnTo>
                      <a:pt x="2699" y="621"/>
                    </a:lnTo>
                    <a:lnTo>
                      <a:pt x="3911" y="657"/>
                    </a:lnTo>
                    <a:lnTo>
                      <a:pt x="3937" y="1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7566120" y="3611520"/>
                <a:ext cx="466560" cy="73080"/>
              </a:xfrm>
              <a:custGeom>
                <a:avLst/>
                <a:gdLst/>
                <a:ahLst/>
                <a:rect l="l" t="t" r="r" b="b"/>
                <a:pathLst>
                  <a:path w="3234" h="506">
                    <a:moveTo>
                      <a:pt x="0" y="46"/>
                    </a:moveTo>
                    <a:lnTo>
                      <a:pt x="390" y="54"/>
                    </a:lnTo>
                    <a:lnTo>
                      <a:pt x="580" y="0"/>
                    </a:lnTo>
                    <a:lnTo>
                      <a:pt x="1442" y="384"/>
                    </a:lnTo>
                    <a:lnTo>
                      <a:pt x="1760" y="438"/>
                    </a:lnTo>
                    <a:lnTo>
                      <a:pt x="3234" y="447"/>
                    </a:lnTo>
                    <a:lnTo>
                      <a:pt x="3234" y="506"/>
                    </a:lnTo>
                    <a:lnTo>
                      <a:pt x="1515" y="447"/>
                    </a:lnTo>
                    <a:lnTo>
                      <a:pt x="1151" y="318"/>
                    </a:lnTo>
                    <a:lnTo>
                      <a:pt x="617" y="46"/>
                    </a:lnTo>
                    <a:lnTo>
                      <a:pt x="542" y="46"/>
                    </a:lnTo>
                    <a:lnTo>
                      <a:pt x="327" y="107"/>
                    </a:lnTo>
                    <a:lnTo>
                      <a:pt x="297" y="81"/>
                    </a:lnTo>
                    <a:lnTo>
                      <a:pt x="0"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13" name=""/>
              <p:cNvSpPr/>
              <p:nvPr/>
            </p:nvSpPr>
            <p:spPr>
              <a:xfrm>
                <a:off x="6759720" y="3830760"/>
                <a:ext cx="1417320" cy="279360"/>
              </a:xfrm>
              <a:custGeom>
                <a:avLst/>
                <a:gdLst/>
                <a:ahLst/>
                <a:rect l="l" t="t" r="r" b="b"/>
                <a:pathLst>
                  <a:path w="9828" h="1931">
                    <a:moveTo>
                      <a:pt x="9828" y="930"/>
                    </a:moveTo>
                    <a:lnTo>
                      <a:pt x="9323" y="1121"/>
                    </a:lnTo>
                    <a:lnTo>
                      <a:pt x="8438" y="1121"/>
                    </a:lnTo>
                    <a:lnTo>
                      <a:pt x="6358" y="1931"/>
                    </a:lnTo>
                    <a:lnTo>
                      <a:pt x="0" y="1931"/>
                    </a:lnTo>
                    <a:lnTo>
                      <a:pt x="0" y="1007"/>
                    </a:lnTo>
                    <a:lnTo>
                      <a:pt x="9595" y="0"/>
                    </a:lnTo>
                    <a:lnTo>
                      <a:pt x="9595" y="425"/>
                    </a:lnTo>
                    <a:lnTo>
                      <a:pt x="9828" y="541"/>
                    </a:lnTo>
                    <a:lnTo>
                      <a:pt x="9828" y="9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8288280" y="3195720"/>
                <a:ext cx="30240" cy="33120"/>
              </a:xfrm>
              <a:custGeom>
                <a:avLst/>
                <a:gdLst/>
                <a:ahLst/>
                <a:rect l="l" t="t" r="r" b="b"/>
                <a:pathLst>
                  <a:path w="203" h="230">
                    <a:moveTo>
                      <a:pt x="79" y="230"/>
                    </a:moveTo>
                    <a:lnTo>
                      <a:pt x="0" y="0"/>
                    </a:lnTo>
                    <a:lnTo>
                      <a:pt x="203" y="207"/>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5" name=""/>
              <p:cNvSpPr/>
              <p:nvPr/>
            </p:nvSpPr>
            <p:spPr>
              <a:xfrm>
                <a:off x="8290080" y="3197160"/>
                <a:ext cx="12600" cy="20880"/>
              </a:xfrm>
              <a:custGeom>
                <a:avLst/>
                <a:gdLst/>
                <a:ahLst/>
                <a:rect l="l" t="t" r="r" b="b"/>
                <a:pathLst>
                  <a:path w="92" h="141">
                    <a:moveTo>
                      <a:pt x="44" y="141"/>
                    </a:moveTo>
                    <a:lnTo>
                      <a:pt x="67" y="110"/>
                    </a:lnTo>
                    <a:lnTo>
                      <a:pt x="92" y="95"/>
                    </a:lnTo>
                    <a:lnTo>
                      <a:pt x="0" y="0"/>
                    </a:lnTo>
                    <a:lnTo>
                      <a:pt x="44" y="14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a:off x="8399520" y="3355920"/>
                <a:ext cx="55440" cy="77760"/>
              </a:xfrm>
              <a:custGeom>
                <a:avLst/>
                <a:gdLst/>
                <a:ahLst/>
                <a:rect l="l" t="t" r="r" b="b"/>
                <a:pathLst>
                  <a:path w="386" h="538">
                    <a:moveTo>
                      <a:pt x="63" y="0"/>
                    </a:moveTo>
                    <a:lnTo>
                      <a:pt x="386" y="486"/>
                    </a:lnTo>
                    <a:lnTo>
                      <a:pt x="386" y="508"/>
                    </a:lnTo>
                    <a:lnTo>
                      <a:pt x="370" y="521"/>
                    </a:lnTo>
                    <a:lnTo>
                      <a:pt x="337" y="538"/>
                    </a:lnTo>
                    <a:lnTo>
                      <a:pt x="314" y="534"/>
                    </a:lnTo>
                    <a:lnTo>
                      <a:pt x="295" y="515"/>
                    </a:lnTo>
                    <a:lnTo>
                      <a:pt x="0" y="101"/>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7" name=""/>
              <p:cNvSpPr/>
              <p:nvPr/>
            </p:nvSpPr>
            <p:spPr>
              <a:xfrm>
                <a:off x="7165800" y="3711600"/>
                <a:ext cx="749520" cy="103320"/>
              </a:xfrm>
              <a:custGeom>
                <a:avLst/>
                <a:gdLst/>
                <a:ahLst/>
                <a:rect l="l" t="t" r="r" b="b"/>
                <a:pathLst>
                  <a:path w="5195" h="717">
                    <a:moveTo>
                      <a:pt x="5195" y="316"/>
                    </a:moveTo>
                    <a:lnTo>
                      <a:pt x="1364" y="717"/>
                    </a:lnTo>
                    <a:lnTo>
                      <a:pt x="0" y="170"/>
                    </a:lnTo>
                    <a:lnTo>
                      <a:pt x="0" y="0"/>
                    </a:lnTo>
                    <a:lnTo>
                      <a:pt x="1388" y="569"/>
                    </a:lnTo>
                    <a:lnTo>
                      <a:pt x="5154" y="231"/>
                    </a:lnTo>
                    <a:lnTo>
                      <a:pt x="5195"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6973920" y="3679920"/>
                <a:ext cx="61596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9" name=""/>
              <p:cNvSpPr/>
              <p:nvPr/>
            </p:nvSpPr>
            <p:spPr>
              <a:xfrm>
                <a:off x="6757920" y="3456000"/>
                <a:ext cx="216000" cy="271440"/>
              </a:xfrm>
              <a:custGeom>
                <a:avLst/>
                <a:gdLst/>
                <a:ahLst/>
                <a:rect l="l" t="t" r="r" b="b"/>
                <a:pathLst>
                  <a:path w="1497" h="1877">
                    <a:moveTo>
                      <a:pt x="1497" y="1877"/>
                    </a:moveTo>
                    <a:lnTo>
                      <a:pt x="1497" y="425"/>
                    </a:lnTo>
                    <a:lnTo>
                      <a:pt x="0" y="0"/>
                    </a:lnTo>
                    <a:lnTo>
                      <a:pt x="0" y="1114"/>
                    </a:lnTo>
                    <a:lnTo>
                      <a:pt x="1497" y="18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57920" y="3456000"/>
                <a:ext cx="11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1" name=""/>
              <p:cNvSpPr/>
              <p:nvPr/>
            </p:nvSpPr>
            <p:spPr>
              <a:xfrm>
                <a:off x="6764400" y="2997360"/>
                <a:ext cx="209520" cy="488880"/>
              </a:xfrm>
              <a:custGeom>
                <a:avLst/>
                <a:gdLst/>
                <a:ahLst/>
                <a:rect l="l" t="t" r="r" b="b"/>
                <a:pathLst>
                  <a:path w="1455" h="3392">
                    <a:moveTo>
                      <a:pt x="758" y="3220"/>
                    </a:moveTo>
                    <a:lnTo>
                      <a:pt x="758" y="3012"/>
                    </a:lnTo>
                    <a:lnTo>
                      <a:pt x="0" y="2821"/>
                    </a:lnTo>
                    <a:lnTo>
                      <a:pt x="0" y="1302"/>
                    </a:lnTo>
                    <a:lnTo>
                      <a:pt x="758" y="927"/>
                    </a:lnTo>
                    <a:lnTo>
                      <a:pt x="758" y="360"/>
                    </a:lnTo>
                    <a:lnTo>
                      <a:pt x="1411" y="0"/>
                    </a:lnTo>
                    <a:lnTo>
                      <a:pt x="1455" y="3392"/>
                    </a:lnTo>
                    <a:lnTo>
                      <a:pt x="758" y="3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967440" y="2997360"/>
                <a:ext cx="522360" cy="488880"/>
              </a:xfrm>
              <a:custGeom>
                <a:avLst/>
                <a:gdLst/>
                <a:ahLst/>
                <a:rect l="l" t="t" r="r" b="b"/>
                <a:pathLst>
                  <a:path w="3618" h="3392">
                    <a:moveTo>
                      <a:pt x="44" y="3392"/>
                    </a:moveTo>
                    <a:lnTo>
                      <a:pt x="3618" y="3303"/>
                    </a:lnTo>
                    <a:lnTo>
                      <a:pt x="3492" y="12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23240" y="3056040"/>
                <a:ext cx="415800" cy="377640"/>
              </a:xfrm>
              <a:custGeom>
                <a:avLst/>
                <a:gdLst/>
                <a:ahLst/>
                <a:rect l="l" t="t" r="r" b="b"/>
                <a:pathLst>
                  <a:path w="2881" h="2614">
                    <a:moveTo>
                      <a:pt x="0" y="0"/>
                    </a:moveTo>
                    <a:lnTo>
                      <a:pt x="63" y="2614"/>
                    </a:lnTo>
                    <a:lnTo>
                      <a:pt x="2881" y="2570"/>
                    </a:lnTo>
                    <a:lnTo>
                      <a:pt x="2784" y="84"/>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023240" y="3056040"/>
                <a:ext cx="415800" cy="371520"/>
              </a:xfrm>
              <a:custGeom>
                <a:avLst/>
                <a:gdLst/>
                <a:ahLst/>
                <a:rect l="l" t="t" r="r" b="b"/>
                <a:pathLst>
                  <a:path w="2881" h="2570">
                    <a:moveTo>
                      <a:pt x="0" y="84"/>
                    </a:moveTo>
                    <a:lnTo>
                      <a:pt x="2724" y="163"/>
                    </a:lnTo>
                    <a:lnTo>
                      <a:pt x="2819" y="2570"/>
                    </a:lnTo>
                    <a:lnTo>
                      <a:pt x="2881" y="2570"/>
                    </a:lnTo>
                    <a:lnTo>
                      <a:pt x="2784" y="84"/>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973920" y="3505320"/>
                <a:ext cx="566640" cy="117360"/>
              </a:xfrm>
              <a:custGeom>
                <a:avLst/>
                <a:gdLst/>
                <a:ahLst/>
                <a:rect l="l" t="t" r="r" b="b"/>
                <a:pathLst>
                  <a:path w="3929" h="823">
                    <a:moveTo>
                      <a:pt x="0" y="104"/>
                    </a:moveTo>
                    <a:lnTo>
                      <a:pt x="3929" y="0"/>
                    </a:lnTo>
                    <a:lnTo>
                      <a:pt x="3929" y="8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flipV="1">
                <a:off x="7392960" y="3476520"/>
                <a:ext cx="1476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27" name=""/>
              <p:cNvSpPr/>
              <p:nvPr/>
            </p:nvSpPr>
            <p:spPr>
              <a:xfrm>
                <a:off x="7010280" y="3556080"/>
                <a:ext cx="46080" cy="33120"/>
              </a:xfrm>
              <a:custGeom>
                <a:avLst/>
                <a:gdLst/>
                <a:ahLst/>
                <a:rect l="l" t="t" r="r" b="b"/>
                <a:pathLst>
                  <a:path w="318" h="231">
                    <a:moveTo>
                      <a:pt x="0" y="0"/>
                    </a:moveTo>
                    <a:lnTo>
                      <a:pt x="0" y="231"/>
                    </a:lnTo>
                    <a:lnTo>
                      <a:pt x="318" y="208"/>
                    </a:lnTo>
                    <a:lnTo>
                      <a:pt x="318" y="4"/>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28" name=""/>
              <p:cNvSpPr/>
              <p:nvPr/>
            </p:nvSpPr>
            <p:spPr>
              <a:xfrm>
                <a:off x="7348680" y="3532320"/>
                <a:ext cx="168120" cy="47520"/>
              </a:xfrm>
              <a:custGeom>
                <a:avLst/>
                <a:gdLst/>
                <a:ahLst/>
                <a:rect l="l" t="t" r="r" b="b"/>
                <a:pathLst>
                  <a:path w="1167" h="331">
                    <a:moveTo>
                      <a:pt x="1167" y="0"/>
                    </a:moveTo>
                    <a:lnTo>
                      <a:pt x="0" y="44"/>
                    </a:lnTo>
                    <a:lnTo>
                      <a:pt x="0" y="331"/>
                    </a:lnTo>
                    <a:lnTo>
                      <a:pt x="1167" y="249"/>
                    </a:lnTo>
                    <a:lnTo>
                      <a:pt x="116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29" name=""/>
              <p:cNvSpPr/>
              <p:nvPr/>
            </p:nvSpPr>
            <p:spPr>
              <a:xfrm>
                <a:off x="7540560" y="3586320"/>
                <a:ext cx="67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0" name=""/>
              <p:cNvSpPr/>
              <p:nvPr/>
            </p:nvSpPr>
            <p:spPr>
              <a:xfrm>
                <a:off x="8300880" y="3586320"/>
                <a:ext cx="8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231" name=""/>
            <p:cNvGrpSpPr/>
            <p:nvPr/>
          </p:nvGrpSpPr>
          <p:grpSpPr>
            <a:xfrm>
              <a:off x="4737240" y="5110200"/>
              <a:ext cx="1185840" cy="694800"/>
              <a:chOff x="4737240" y="5110200"/>
              <a:chExt cx="1185840" cy="694800"/>
            </a:xfrm>
          </p:grpSpPr>
          <p:sp>
            <p:nvSpPr>
              <p:cNvPr id="1232" name=""/>
              <p:cNvSpPr/>
              <p:nvPr/>
            </p:nvSpPr>
            <p:spPr>
              <a:xfrm>
                <a:off x="4737240" y="5110200"/>
                <a:ext cx="1185840" cy="662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5033880" y="5110200"/>
                <a:ext cx="360" cy="662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5330160" y="5110200"/>
                <a:ext cx="360" cy="662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5626440" y="5110200"/>
                <a:ext cx="360" cy="662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741200" y="5180040"/>
                <a:ext cx="117756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7" name=""/>
              <p:cNvSpPr/>
              <p:nvPr/>
            </p:nvSpPr>
            <p:spPr>
              <a:xfrm>
                <a:off x="4747680" y="5772960"/>
                <a:ext cx="11638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38" name=""/>
              <p:cNvSpPr/>
              <p:nvPr/>
            </p:nvSpPr>
            <p:spPr>
              <a:xfrm>
                <a:off x="4778280" y="5244120"/>
                <a:ext cx="212040" cy="234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4879800" y="5260320"/>
                <a:ext cx="5400" cy="5040"/>
              </a:xfrm>
              <a:custGeom>
                <a:avLst/>
                <a:gdLst/>
                <a:ahLst/>
                <a:rect l="l" t="t" r="r" b="b"/>
                <a:pathLst>
                  <a:path w="91" h="91">
                    <a:moveTo>
                      <a:pt x="91" y="40"/>
                    </a:moveTo>
                    <a:lnTo>
                      <a:pt x="91" y="30"/>
                    </a:lnTo>
                    <a:lnTo>
                      <a:pt x="81" y="30"/>
                    </a:lnTo>
                    <a:lnTo>
                      <a:pt x="81" y="10"/>
                    </a:lnTo>
                    <a:lnTo>
                      <a:pt x="81" y="10"/>
                    </a:lnTo>
                    <a:lnTo>
                      <a:pt x="61" y="0"/>
                    </a:lnTo>
                    <a:lnTo>
                      <a:pt x="61" y="0"/>
                    </a:lnTo>
                    <a:lnTo>
                      <a:pt x="51" y="0"/>
                    </a:lnTo>
                    <a:lnTo>
                      <a:pt x="30" y="0"/>
                    </a:lnTo>
                    <a:lnTo>
                      <a:pt x="30" y="10"/>
                    </a:lnTo>
                    <a:lnTo>
                      <a:pt x="10" y="10"/>
                    </a:lnTo>
                    <a:lnTo>
                      <a:pt x="10" y="10"/>
                    </a:lnTo>
                    <a:lnTo>
                      <a:pt x="10" y="30"/>
                    </a:lnTo>
                    <a:lnTo>
                      <a:pt x="0" y="30"/>
                    </a:lnTo>
                    <a:lnTo>
                      <a:pt x="0" y="50"/>
                    </a:lnTo>
                    <a:lnTo>
                      <a:pt x="0" y="60"/>
                    </a:lnTo>
                    <a:lnTo>
                      <a:pt x="10" y="60"/>
                    </a:lnTo>
                    <a:lnTo>
                      <a:pt x="10" y="81"/>
                    </a:lnTo>
                    <a:lnTo>
                      <a:pt x="20" y="81"/>
                    </a:lnTo>
                    <a:lnTo>
                      <a:pt x="30" y="81"/>
                    </a:lnTo>
                    <a:lnTo>
                      <a:pt x="30" y="91"/>
                    </a:lnTo>
                    <a:lnTo>
                      <a:pt x="51" y="91"/>
                    </a:lnTo>
                    <a:lnTo>
                      <a:pt x="61" y="91"/>
                    </a:lnTo>
                    <a:lnTo>
                      <a:pt x="71" y="81"/>
                    </a:lnTo>
                    <a:lnTo>
                      <a:pt x="81" y="81"/>
                    </a:lnTo>
                    <a:lnTo>
                      <a:pt x="81" y="70"/>
                    </a:lnTo>
                    <a:lnTo>
                      <a:pt x="91" y="60"/>
                    </a:lnTo>
                    <a:lnTo>
                      <a:pt x="91" y="60"/>
                    </a:lnTo>
                    <a:lnTo>
                      <a:pt x="91"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40" name=""/>
              <p:cNvSpPr/>
              <p:nvPr/>
            </p:nvSpPr>
            <p:spPr>
              <a:xfrm>
                <a:off x="4879800" y="5287680"/>
                <a:ext cx="5400" cy="5760"/>
              </a:xfrm>
              <a:custGeom>
                <a:avLst/>
                <a:gdLst/>
                <a:ahLst/>
                <a:rect l="l" t="t" r="r" b="b"/>
                <a:pathLst>
                  <a:path w="91" h="99">
                    <a:moveTo>
                      <a:pt x="91" y="48"/>
                    </a:moveTo>
                    <a:lnTo>
                      <a:pt x="91" y="38"/>
                    </a:lnTo>
                    <a:lnTo>
                      <a:pt x="81" y="30"/>
                    </a:lnTo>
                    <a:lnTo>
                      <a:pt x="81" y="20"/>
                    </a:lnTo>
                    <a:lnTo>
                      <a:pt x="81" y="10"/>
                    </a:lnTo>
                    <a:lnTo>
                      <a:pt x="61" y="0"/>
                    </a:lnTo>
                    <a:lnTo>
                      <a:pt x="61" y="0"/>
                    </a:lnTo>
                    <a:lnTo>
                      <a:pt x="51" y="0"/>
                    </a:lnTo>
                    <a:lnTo>
                      <a:pt x="30" y="0"/>
                    </a:lnTo>
                    <a:lnTo>
                      <a:pt x="30" y="10"/>
                    </a:lnTo>
                    <a:lnTo>
                      <a:pt x="10" y="10"/>
                    </a:lnTo>
                    <a:lnTo>
                      <a:pt x="10" y="20"/>
                    </a:lnTo>
                    <a:lnTo>
                      <a:pt x="10" y="30"/>
                    </a:lnTo>
                    <a:lnTo>
                      <a:pt x="0" y="38"/>
                    </a:lnTo>
                    <a:lnTo>
                      <a:pt x="0" y="48"/>
                    </a:lnTo>
                    <a:lnTo>
                      <a:pt x="0" y="58"/>
                    </a:lnTo>
                    <a:lnTo>
                      <a:pt x="10" y="69"/>
                    </a:lnTo>
                    <a:lnTo>
                      <a:pt x="10" y="79"/>
                    </a:lnTo>
                    <a:lnTo>
                      <a:pt x="20" y="89"/>
                    </a:lnTo>
                    <a:lnTo>
                      <a:pt x="30" y="89"/>
                    </a:lnTo>
                    <a:lnTo>
                      <a:pt x="30" y="99"/>
                    </a:lnTo>
                    <a:lnTo>
                      <a:pt x="51" y="99"/>
                    </a:lnTo>
                    <a:lnTo>
                      <a:pt x="61" y="99"/>
                    </a:lnTo>
                    <a:lnTo>
                      <a:pt x="71" y="89"/>
                    </a:lnTo>
                    <a:lnTo>
                      <a:pt x="81" y="79"/>
                    </a:lnTo>
                    <a:lnTo>
                      <a:pt x="81" y="69"/>
                    </a:lnTo>
                    <a:lnTo>
                      <a:pt x="91" y="69"/>
                    </a:lnTo>
                    <a:lnTo>
                      <a:pt x="91" y="58"/>
                    </a:lnTo>
                    <a:lnTo>
                      <a:pt x="91" y="48"/>
                    </a:lnTo>
                    <a:close/>
                  </a:path>
                </a:pathLst>
              </a:cu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41" name=""/>
              <p:cNvSpPr/>
              <p:nvPr/>
            </p:nvSpPr>
            <p:spPr>
              <a:xfrm>
                <a:off x="4879800" y="5316480"/>
                <a:ext cx="5400" cy="5040"/>
              </a:xfrm>
              <a:custGeom>
                <a:avLst/>
                <a:gdLst/>
                <a:ahLst/>
                <a:rect l="l" t="t" r="r" b="b"/>
                <a:pathLst>
                  <a:path w="91" h="91">
                    <a:moveTo>
                      <a:pt x="91" y="41"/>
                    </a:moveTo>
                    <a:lnTo>
                      <a:pt x="91" y="31"/>
                    </a:lnTo>
                    <a:lnTo>
                      <a:pt x="81" y="21"/>
                    </a:lnTo>
                    <a:lnTo>
                      <a:pt x="81" y="10"/>
                    </a:lnTo>
                    <a:lnTo>
                      <a:pt x="81" y="0"/>
                    </a:lnTo>
                    <a:lnTo>
                      <a:pt x="61" y="0"/>
                    </a:lnTo>
                    <a:lnTo>
                      <a:pt x="61" y="0"/>
                    </a:lnTo>
                    <a:lnTo>
                      <a:pt x="51" y="0"/>
                    </a:lnTo>
                    <a:lnTo>
                      <a:pt x="30" y="0"/>
                    </a:lnTo>
                    <a:lnTo>
                      <a:pt x="30" y="0"/>
                    </a:lnTo>
                    <a:lnTo>
                      <a:pt x="10" y="0"/>
                    </a:lnTo>
                    <a:lnTo>
                      <a:pt x="10" y="10"/>
                    </a:lnTo>
                    <a:lnTo>
                      <a:pt x="10" y="21"/>
                    </a:lnTo>
                    <a:lnTo>
                      <a:pt x="0" y="31"/>
                    </a:lnTo>
                    <a:lnTo>
                      <a:pt x="0" y="51"/>
                    </a:lnTo>
                    <a:lnTo>
                      <a:pt x="0" y="51"/>
                    </a:lnTo>
                    <a:lnTo>
                      <a:pt x="10" y="61"/>
                    </a:lnTo>
                    <a:lnTo>
                      <a:pt x="10" y="71"/>
                    </a:lnTo>
                    <a:lnTo>
                      <a:pt x="20" y="81"/>
                    </a:lnTo>
                    <a:lnTo>
                      <a:pt x="30" y="81"/>
                    </a:lnTo>
                    <a:lnTo>
                      <a:pt x="30" y="91"/>
                    </a:lnTo>
                    <a:lnTo>
                      <a:pt x="51" y="91"/>
                    </a:lnTo>
                    <a:lnTo>
                      <a:pt x="61" y="91"/>
                    </a:lnTo>
                    <a:lnTo>
                      <a:pt x="71" y="81"/>
                    </a:lnTo>
                    <a:lnTo>
                      <a:pt x="81" y="71"/>
                    </a:lnTo>
                    <a:lnTo>
                      <a:pt x="81" y="71"/>
                    </a:lnTo>
                    <a:lnTo>
                      <a:pt x="91" y="61"/>
                    </a:lnTo>
                    <a:lnTo>
                      <a:pt x="91" y="51"/>
                    </a:lnTo>
                    <a:lnTo>
                      <a:pt x="91" y="41"/>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42" name=""/>
              <p:cNvSpPr/>
              <p:nvPr/>
            </p:nvSpPr>
            <p:spPr>
              <a:xfrm>
                <a:off x="4879800" y="5343480"/>
                <a:ext cx="5400" cy="5040"/>
              </a:xfrm>
              <a:custGeom>
                <a:avLst/>
                <a:gdLst/>
                <a:ahLst/>
                <a:rect l="l" t="t" r="r" b="b"/>
                <a:pathLst>
                  <a:path w="91" h="91">
                    <a:moveTo>
                      <a:pt x="91" y="40"/>
                    </a:moveTo>
                    <a:lnTo>
                      <a:pt x="91" y="40"/>
                    </a:lnTo>
                    <a:lnTo>
                      <a:pt x="81" y="30"/>
                    </a:lnTo>
                    <a:lnTo>
                      <a:pt x="81" y="10"/>
                    </a:lnTo>
                    <a:lnTo>
                      <a:pt x="81" y="10"/>
                    </a:lnTo>
                    <a:lnTo>
                      <a:pt x="61" y="0"/>
                    </a:lnTo>
                    <a:lnTo>
                      <a:pt x="61" y="0"/>
                    </a:lnTo>
                    <a:lnTo>
                      <a:pt x="51" y="0"/>
                    </a:lnTo>
                    <a:lnTo>
                      <a:pt x="30" y="0"/>
                    </a:lnTo>
                    <a:lnTo>
                      <a:pt x="30" y="10"/>
                    </a:lnTo>
                    <a:lnTo>
                      <a:pt x="10" y="10"/>
                    </a:lnTo>
                    <a:lnTo>
                      <a:pt x="10" y="10"/>
                    </a:lnTo>
                    <a:lnTo>
                      <a:pt x="10" y="30"/>
                    </a:lnTo>
                    <a:lnTo>
                      <a:pt x="0" y="40"/>
                    </a:lnTo>
                    <a:lnTo>
                      <a:pt x="0" y="50"/>
                    </a:lnTo>
                    <a:lnTo>
                      <a:pt x="0" y="60"/>
                    </a:lnTo>
                    <a:lnTo>
                      <a:pt x="10" y="60"/>
                    </a:lnTo>
                    <a:lnTo>
                      <a:pt x="10" y="81"/>
                    </a:lnTo>
                    <a:lnTo>
                      <a:pt x="20" y="91"/>
                    </a:lnTo>
                    <a:lnTo>
                      <a:pt x="30" y="91"/>
                    </a:lnTo>
                    <a:lnTo>
                      <a:pt x="30" y="91"/>
                    </a:lnTo>
                    <a:lnTo>
                      <a:pt x="51" y="91"/>
                    </a:lnTo>
                    <a:lnTo>
                      <a:pt x="61" y="91"/>
                    </a:lnTo>
                    <a:lnTo>
                      <a:pt x="71" y="91"/>
                    </a:lnTo>
                    <a:lnTo>
                      <a:pt x="81" y="81"/>
                    </a:lnTo>
                    <a:lnTo>
                      <a:pt x="81" y="70"/>
                    </a:lnTo>
                    <a:lnTo>
                      <a:pt x="91" y="60"/>
                    </a:lnTo>
                    <a:lnTo>
                      <a:pt x="91" y="60"/>
                    </a:lnTo>
                    <a:lnTo>
                      <a:pt x="91"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43" name=""/>
              <p:cNvSpPr/>
              <p:nvPr/>
            </p:nvSpPr>
            <p:spPr>
              <a:xfrm>
                <a:off x="4879800" y="5371560"/>
                <a:ext cx="5400" cy="5040"/>
              </a:xfrm>
              <a:custGeom>
                <a:avLst/>
                <a:gdLst/>
                <a:ahLst/>
                <a:rect l="l" t="t" r="r" b="b"/>
                <a:pathLst>
                  <a:path w="91" h="90">
                    <a:moveTo>
                      <a:pt x="91" y="49"/>
                    </a:moveTo>
                    <a:lnTo>
                      <a:pt x="91" y="39"/>
                    </a:lnTo>
                    <a:lnTo>
                      <a:pt x="81" y="29"/>
                    </a:lnTo>
                    <a:lnTo>
                      <a:pt x="81" y="19"/>
                    </a:lnTo>
                    <a:lnTo>
                      <a:pt x="81" y="10"/>
                    </a:lnTo>
                    <a:lnTo>
                      <a:pt x="61" y="0"/>
                    </a:lnTo>
                    <a:lnTo>
                      <a:pt x="61" y="0"/>
                    </a:lnTo>
                    <a:lnTo>
                      <a:pt x="51" y="0"/>
                    </a:lnTo>
                    <a:lnTo>
                      <a:pt x="30" y="0"/>
                    </a:lnTo>
                    <a:lnTo>
                      <a:pt x="30" y="10"/>
                    </a:lnTo>
                    <a:lnTo>
                      <a:pt x="10" y="10"/>
                    </a:lnTo>
                    <a:lnTo>
                      <a:pt x="10" y="19"/>
                    </a:lnTo>
                    <a:lnTo>
                      <a:pt x="10" y="29"/>
                    </a:lnTo>
                    <a:lnTo>
                      <a:pt x="0" y="39"/>
                    </a:lnTo>
                    <a:lnTo>
                      <a:pt x="0" y="49"/>
                    </a:lnTo>
                    <a:lnTo>
                      <a:pt x="0" y="60"/>
                    </a:lnTo>
                    <a:lnTo>
                      <a:pt x="10" y="70"/>
                    </a:lnTo>
                    <a:lnTo>
                      <a:pt x="10" y="80"/>
                    </a:lnTo>
                    <a:lnTo>
                      <a:pt x="20" y="90"/>
                    </a:lnTo>
                    <a:lnTo>
                      <a:pt x="30" y="90"/>
                    </a:lnTo>
                    <a:lnTo>
                      <a:pt x="30" y="90"/>
                    </a:lnTo>
                    <a:lnTo>
                      <a:pt x="51" y="90"/>
                    </a:lnTo>
                    <a:lnTo>
                      <a:pt x="61" y="90"/>
                    </a:lnTo>
                    <a:lnTo>
                      <a:pt x="71" y="90"/>
                    </a:lnTo>
                    <a:lnTo>
                      <a:pt x="81" y="80"/>
                    </a:lnTo>
                    <a:lnTo>
                      <a:pt x="81" y="70"/>
                    </a:lnTo>
                    <a:lnTo>
                      <a:pt x="91" y="70"/>
                    </a:lnTo>
                    <a:lnTo>
                      <a:pt x="91" y="60"/>
                    </a:lnTo>
                    <a:lnTo>
                      <a:pt x="91" y="49"/>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44" name=""/>
              <p:cNvSpPr/>
              <p:nvPr/>
            </p:nvSpPr>
            <p:spPr>
              <a:xfrm>
                <a:off x="4879800" y="5399640"/>
                <a:ext cx="5400" cy="5400"/>
              </a:xfrm>
              <a:custGeom>
                <a:avLst/>
                <a:gdLst/>
                <a:ahLst/>
                <a:rect l="l" t="t" r="r" b="b"/>
                <a:pathLst>
                  <a:path w="91" h="100">
                    <a:moveTo>
                      <a:pt x="91" y="50"/>
                    </a:moveTo>
                    <a:lnTo>
                      <a:pt x="91" y="40"/>
                    </a:lnTo>
                    <a:lnTo>
                      <a:pt x="81" y="30"/>
                    </a:lnTo>
                    <a:lnTo>
                      <a:pt x="81" y="21"/>
                    </a:lnTo>
                    <a:lnTo>
                      <a:pt x="81" y="11"/>
                    </a:lnTo>
                    <a:lnTo>
                      <a:pt x="61" y="0"/>
                    </a:lnTo>
                    <a:lnTo>
                      <a:pt x="61" y="0"/>
                    </a:lnTo>
                    <a:lnTo>
                      <a:pt x="51" y="0"/>
                    </a:lnTo>
                    <a:lnTo>
                      <a:pt x="30" y="0"/>
                    </a:lnTo>
                    <a:lnTo>
                      <a:pt x="30" y="11"/>
                    </a:lnTo>
                    <a:lnTo>
                      <a:pt x="10" y="11"/>
                    </a:lnTo>
                    <a:lnTo>
                      <a:pt x="10" y="21"/>
                    </a:lnTo>
                    <a:lnTo>
                      <a:pt x="10" y="30"/>
                    </a:lnTo>
                    <a:lnTo>
                      <a:pt x="0" y="40"/>
                    </a:lnTo>
                    <a:lnTo>
                      <a:pt x="0" y="50"/>
                    </a:lnTo>
                    <a:lnTo>
                      <a:pt x="0" y="60"/>
                    </a:lnTo>
                    <a:lnTo>
                      <a:pt x="10" y="70"/>
                    </a:lnTo>
                    <a:lnTo>
                      <a:pt x="10" y="80"/>
                    </a:lnTo>
                    <a:lnTo>
                      <a:pt x="20" y="90"/>
                    </a:lnTo>
                    <a:lnTo>
                      <a:pt x="30" y="90"/>
                    </a:lnTo>
                    <a:lnTo>
                      <a:pt x="30" y="100"/>
                    </a:lnTo>
                    <a:lnTo>
                      <a:pt x="51" y="100"/>
                    </a:lnTo>
                    <a:lnTo>
                      <a:pt x="61" y="100"/>
                    </a:lnTo>
                    <a:lnTo>
                      <a:pt x="71" y="90"/>
                    </a:lnTo>
                    <a:lnTo>
                      <a:pt x="81" y="80"/>
                    </a:lnTo>
                    <a:lnTo>
                      <a:pt x="81" y="80"/>
                    </a:lnTo>
                    <a:lnTo>
                      <a:pt x="91" y="70"/>
                    </a:lnTo>
                    <a:lnTo>
                      <a:pt x="91" y="60"/>
                    </a:lnTo>
                    <a:lnTo>
                      <a:pt x="91" y="50"/>
                    </a:lnTo>
                    <a:close/>
                  </a:path>
                </a:pathLst>
              </a:custGeom>
              <a:solidFill>
                <a:srgbClr val="ff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45" name=""/>
              <p:cNvSpPr/>
              <p:nvPr/>
            </p:nvSpPr>
            <p:spPr>
              <a:xfrm>
                <a:off x="4879800" y="5428080"/>
                <a:ext cx="5400" cy="5040"/>
              </a:xfrm>
              <a:custGeom>
                <a:avLst/>
                <a:gdLst/>
                <a:ahLst/>
                <a:rect l="l" t="t" r="r" b="b"/>
                <a:pathLst>
                  <a:path w="91" h="90">
                    <a:moveTo>
                      <a:pt x="91" y="40"/>
                    </a:moveTo>
                    <a:lnTo>
                      <a:pt x="91" y="30"/>
                    </a:lnTo>
                    <a:lnTo>
                      <a:pt x="81" y="30"/>
                    </a:lnTo>
                    <a:lnTo>
                      <a:pt x="81" y="10"/>
                    </a:lnTo>
                    <a:lnTo>
                      <a:pt x="81" y="0"/>
                    </a:lnTo>
                    <a:lnTo>
                      <a:pt x="61" y="0"/>
                    </a:lnTo>
                    <a:lnTo>
                      <a:pt x="61" y="0"/>
                    </a:lnTo>
                    <a:lnTo>
                      <a:pt x="51" y="0"/>
                    </a:lnTo>
                    <a:lnTo>
                      <a:pt x="30" y="0"/>
                    </a:lnTo>
                    <a:lnTo>
                      <a:pt x="30" y="0"/>
                    </a:lnTo>
                    <a:lnTo>
                      <a:pt x="10" y="0"/>
                    </a:lnTo>
                    <a:lnTo>
                      <a:pt x="10" y="10"/>
                    </a:lnTo>
                    <a:lnTo>
                      <a:pt x="10" y="30"/>
                    </a:lnTo>
                    <a:lnTo>
                      <a:pt x="0" y="30"/>
                    </a:lnTo>
                    <a:lnTo>
                      <a:pt x="0" y="50"/>
                    </a:lnTo>
                    <a:lnTo>
                      <a:pt x="0" y="50"/>
                    </a:lnTo>
                    <a:lnTo>
                      <a:pt x="10" y="60"/>
                    </a:lnTo>
                    <a:lnTo>
                      <a:pt x="10" y="69"/>
                    </a:lnTo>
                    <a:lnTo>
                      <a:pt x="20" y="80"/>
                    </a:lnTo>
                    <a:lnTo>
                      <a:pt x="30" y="80"/>
                    </a:lnTo>
                    <a:lnTo>
                      <a:pt x="30" y="90"/>
                    </a:lnTo>
                    <a:lnTo>
                      <a:pt x="51" y="90"/>
                    </a:lnTo>
                    <a:lnTo>
                      <a:pt x="61" y="90"/>
                    </a:lnTo>
                    <a:lnTo>
                      <a:pt x="71" y="80"/>
                    </a:lnTo>
                    <a:lnTo>
                      <a:pt x="81" y="69"/>
                    </a:lnTo>
                    <a:lnTo>
                      <a:pt x="81" y="69"/>
                    </a:lnTo>
                    <a:lnTo>
                      <a:pt x="91" y="60"/>
                    </a:lnTo>
                    <a:lnTo>
                      <a:pt x="91" y="50"/>
                    </a:lnTo>
                    <a:lnTo>
                      <a:pt x="91"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46" name=""/>
              <p:cNvSpPr/>
              <p:nvPr/>
            </p:nvSpPr>
            <p:spPr>
              <a:xfrm>
                <a:off x="4879800" y="5455800"/>
                <a:ext cx="5400" cy="5400"/>
              </a:xfrm>
              <a:custGeom>
                <a:avLst/>
                <a:gdLst/>
                <a:ahLst/>
                <a:rect l="l" t="t" r="r" b="b"/>
                <a:pathLst>
                  <a:path w="91" h="90">
                    <a:moveTo>
                      <a:pt x="91" y="41"/>
                    </a:moveTo>
                    <a:lnTo>
                      <a:pt x="91" y="31"/>
                    </a:lnTo>
                    <a:lnTo>
                      <a:pt x="81" y="31"/>
                    </a:lnTo>
                    <a:lnTo>
                      <a:pt x="81" y="10"/>
                    </a:lnTo>
                    <a:lnTo>
                      <a:pt x="81" y="10"/>
                    </a:lnTo>
                    <a:lnTo>
                      <a:pt x="61" y="0"/>
                    </a:lnTo>
                    <a:lnTo>
                      <a:pt x="61" y="0"/>
                    </a:lnTo>
                    <a:lnTo>
                      <a:pt x="51" y="0"/>
                    </a:lnTo>
                    <a:lnTo>
                      <a:pt x="30" y="0"/>
                    </a:lnTo>
                    <a:lnTo>
                      <a:pt x="30" y="10"/>
                    </a:lnTo>
                    <a:lnTo>
                      <a:pt x="10" y="10"/>
                    </a:lnTo>
                    <a:lnTo>
                      <a:pt x="10" y="10"/>
                    </a:lnTo>
                    <a:lnTo>
                      <a:pt x="10" y="31"/>
                    </a:lnTo>
                    <a:lnTo>
                      <a:pt x="0" y="31"/>
                    </a:lnTo>
                    <a:lnTo>
                      <a:pt x="0" y="51"/>
                    </a:lnTo>
                    <a:lnTo>
                      <a:pt x="0" y="61"/>
                    </a:lnTo>
                    <a:lnTo>
                      <a:pt x="10" y="61"/>
                    </a:lnTo>
                    <a:lnTo>
                      <a:pt x="10" y="80"/>
                    </a:lnTo>
                    <a:lnTo>
                      <a:pt x="20" y="80"/>
                    </a:lnTo>
                    <a:lnTo>
                      <a:pt x="30" y="80"/>
                    </a:lnTo>
                    <a:lnTo>
                      <a:pt x="30" y="90"/>
                    </a:lnTo>
                    <a:lnTo>
                      <a:pt x="51" y="90"/>
                    </a:lnTo>
                    <a:lnTo>
                      <a:pt x="61" y="90"/>
                    </a:lnTo>
                    <a:lnTo>
                      <a:pt x="71" y="80"/>
                    </a:lnTo>
                    <a:lnTo>
                      <a:pt x="81" y="80"/>
                    </a:lnTo>
                    <a:lnTo>
                      <a:pt x="81" y="70"/>
                    </a:lnTo>
                    <a:lnTo>
                      <a:pt x="91" y="61"/>
                    </a:lnTo>
                    <a:lnTo>
                      <a:pt x="91" y="61"/>
                    </a:lnTo>
                    <a:lnTo>
                      <a:pt x="91" y="41"/>
                    </a:lnTo>
                    <a:close/>
                  </a:path>
                </a:pathLst>
              </a:custGeom>
              <a:solidFill>
                <a:srgbClr val="ff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47" name=""/>
              <p:cNvSpPr/>
              <p:nvPr/>
            </p:nvSpPr>
            <p:spPr>
              <a:xfrm>
                <a:off x="5073120" y="5244120"/>
                <a:ext cx="212040" cy="234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5174280" y="5260320"/>
                <a:ext cx="5760" cy="5040"/>
              </a:xfrm>
              <a:custGeom>
                <a:avLst/>
                <a:gdLst/>
                <a:ahLst/>
                <a:rect l="l" t="t" r="r" b="b"/>
                <a:pathLst>
                  <a:path w="90" h="91">
                    <a:moveTo>
                      <a:pt x="90" y="40"/>
                    </a:moveTo>
                    <a:lnTo>
                      <a:pt x="90" y="30"/>
                    </a:lnTo>
                    <a:lnTo>
                      <a:pt x="80" y="30"/>
                    </a:lnTo>
                    <a:lnTo>
                      <a:pt x="80" y="10"/>
                    </a:lnTo>
                    <a:lnTo>
                      <a:pt x="80" y="10"/>
                    </a:lnTo>
                    <a:lnTo>
                      <a:pt x="60" y="0"/>
                    </a:lnTo>
                    <a:lnTo>
                      <a:pt x="50" y="0"/>
                    </a:lnTo>
                    <a:lnTo>
                      <a:pt x="50" y="0"/>
                    </a:lnTo>
                    <a:lnTo>
                      <a:pt x="31" y="0"/>
                    </a:lnTo>
                    <a:lnTo>
                      <a:pt x="31" y="10"/>
                    </a:lnTo>
                    <a:lnTo>
                      <a:pt x="10" y="10"/>
                    </a:lnTo>
                    <a:lnTo>
                      <a:pt x="0" y="10"/>
                    </a:lnTo>
                    <a:lnTo>
                      <a:pt x="0" y="30"/>
                    </a:lnTo>
                    <a:lnTo>
                      <a:pt x="0" y="30"/>
                    </a:lnTo>
                    <a:lnTo>
                      <a:pt x="0" y="50"/>
                    </a:lnTo>
                    <a:lnTo>
                      <a:pt x="0" y="60"/>
                    </a:lnTo>
                    <a:lnTo>
                      <a:pt x="0" y="60"/>
                    </a:lnTo>
                    <a:lnTo>
                      <a:pt x="10" y="81"/>
                    </a:lnTo>
                    <a:lnTo>
                      <a:pt x="21" y="81"/>
                    </a:lnTo>
                    <a:lnTo>
                      <a:pt x="31" y="81"/>
                    </a:lnTo>
                    <a:lnTo>
                      <a:pt x="31" y="91"/>
                    </a:lnTo>
                    <a:lnTo>
                      <a:pt x="50" y="91"/>
                    </a:lnTo>
                    <a:lnTo>
                      <a:pt x="50" y="91"/>
                    </a:lnTo>
                    <a:lnTo>
                      <a:pt x="70" y="81"/>
                    </a:lnTo>
                    <a:lnTo>
                      <a:pt x="80" y="81"/>
                    </a:lnTo>
                    <a:lnTo>
                      <a:pt x="80" y="70"/>
                    </a:lnTo>
                    <a:lnTo>
                      <a:pt x="90" y="60"/>
                    </a:lnTo>
                    <a:lnTo>
                      <a:pt x="90" y="60"/>
                    </a:lnTo>
                    <a:lnTo>
                      <a:pt x="90"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49" name=""/>
              <p:cNvSpPr/>
              <p:nvPr/>
            </p:nvSpPr>
            <p:spPr>
              <a:xfrm>
                <a:off x="5174280" y="5287680"/>
                <a:ext cx="5760" cy="5760"/>
              </a:xfrm>
              <a:custGeom>
                <a:avLst/>
                <a:gdLst/>
                <a:ahLst/>
                <a:rect l="l" t="t" r="r" b="b"/>
                <a:pathLst>
                  <a:path w="90" h="99">
                    <a:moveTo>
                      <a:pt x="90" y="48"/>
                    </a:moveTo>
                    <a:lnTo>
                      <a:pt x="90" y="38"/>
                    </a:lnTo>
                    <a:lnTo>
                      <a:pt x="80" y="30"/>
                    </a:lnTo>
                    <a:lnTo>
                      <a:pt x="80" y="20"/>
                    </a:lnTo>
                    <a:lnTo>
                      <a:pt x="80" y="10"/>
                    </a:lnTo>
                    <a:lnTo>
                      <a:pt x="60" y="0"/>
                    </a:lnTo>
                    <a:lnTo>
                      <a:pt x="50" y="0"/>
                    </a:lnTo>
                    <a:lnTo>
                      <a:pt x="50" y="0"/>
                    </a:lnTo>
                    <a:lnTo>
                      <a:pt x="31" y="0"/>
                    </a:lnTo>
                    <a:lnTo>
                      <a:pt x="31" y="10"/>
                    </a:lnTo>
                    <a:lnTo>
                      <a:pt x="10" y="10"/>
                    </a:lnTo>
                    <a:lnTo>
                      <a:pt x="0" y="20"/>
                    </a:lnTo>
                    <a:lnTo>
                      <a:pt x="0" y="30"/>
                    </a:lnTo>
                    <a:lnTo>
                      <a:pt x="0" y="38"/>
                    </a:lnTo>
                    <a:lnTo>
                      <a:pt x="0" y="48"/>
                    </a:lnTo>
                    <a:lnTo>
                      <a:pt x="0" y="58"/>
                    </a:lnTo>
                    <a:lnTo>
                      <a:pt x="0" y="69"/>
                    </a:lnTo>
                    <a:lnTo>
                      <a:pt x="10" y="79"/>
                    </a:lnTo>
                    <a:lnTo>
                      <a:pt x="21" y="89"/>
                    </a:lnTo>
                    <a:lnTo>
                      <a:pt x="31" y="89"/>
                    </a:lnTo>
                    <a:lnTo>
                      <a:pt x="31" y="99"/>
                    </a:lnTo>
                    <a:lnTo>
                      <a:pt x="50" y="99"/>
                    </a:lnTo>
                    <a:lnTo>
                      <a:pt x="50" y="99"/>
                    </a:lnTo>
                    <a:lnTo>
                      <a:pt x="70" y="89"/>
                    </a:lnTo>
                    <a:lnTo>
                      <a:pt x="80" y="79"/>
                    </a:lnTo>
                    <a:lnTo>
                      <a:pt x="80" y="69"/>
                    </a:lnTo>
                    <a:lnTo>
                      <a:pt x="90" y="69"/>
                    </a:lnTo>
                    <a:lnTo>
                      <a:pt x="90" y="58"/>
                    </a:lnTo>
                    <a:lnTo>
                      <a:pt x="90" y="48"/>
                    </a:lnTo>
                    <a:close/>
                  </a:path>
                </a:pathLst>
              </a:cu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50" name=""/>
              <p:cNvSpPr/>
              <p:nvPr/>
            </p:nvSpPr>
            <p:spPr>
              <a:xfrm>
                <a:off x="5174280" y="5316480"/>
                <a:ext cx="5760" cy="5040"/>
              </a:xfrm>
              <a:custGeom>
                <a:avLst/>
                <a:gdLst/>
                <a:ahLst/>
                <a:rect l="l" t="t" r="r" b="b"/>
                <a:pathLst>
                  <a:path w="90" h="91">
                    <a:moveTo>
                      <a:pt x="90" y="41"/>
                    </a:moveTo>
                    <a:lnTo>
                      <a:pt x="90" y="31"/>
                    </a:lnTo>
                    <a:lnTo>
                      <a:pt x="80" y="21"/>
                    </a:lnTo>
                    <a:lnTo>
                      <a:pt x="80" y="10"/>
                    </a:lnTo>
                    <a:lnTo>
                      <a:pt x="80" y="0"/>
                    </a:lnTo>
                    <a:lnTo>
                      <a:pt x="60" y="0"/>
                    </a:lnTo>
                    <a:lnTo>
                      <a:pt x="50" y="0"/>
                    </a:lnTo>
                    <a:lnTo>
                      <a:pt x="50" y="0"/>
                    </a:lnTo>
                    <a:lnTo>
                      <a:pt x="31" y="0"/>
                    </a:lnTo>
                    <a:lnTo>
                      <a:pt x="31" y="0"/>
                    </a:lnTo>
                    <a:lnTo>
                      <a:pt x="10" y="0"/>
                    </a:lnTo>
                    <a:lnTo>
                      <a:pt x="0" y="10"/>
                    </a:lnTo>
                    <a:lnTo>
                      <a:pt x="0" y="21"/>
                    </a:lnTo>
                    <a:lnTo>
                      <a:pt x="0" y="31"/>
                    </a:lnTo>
                    <a:lnTo>
                      <a:pt x="0" y="51"/>
                    </a:lnTo>
                    <a:lnTo>
                      <a:pt x="0" y="51"/>
                    </a:lnTo>
                    <a:lnTo>
                      <a:pt x="0" y="61"/>
                    </a:lnTo>
                    <a:lnTo>
                      <a:pt x="10" y="71"/>
                    </a:lnTo>
                    <a:lnTo>
                      <a:pt x="21" y="81"/>
                    </a:lnTo>
                    <a:lnTo>
                      <a:pt x="31" y="81"/>
                    </a:lnTo>
                    <a:lnTo>
                      <a:pt x="31" y="91"/>
                    </a:lnTo>
                    <a:lnTo>
                      <a:pt x="50" y="91"/>
                    </a:lnTo>
                    <a:lnTo>
                      <a:pt x="50" y="91"/>
                    </a:lnTo>
                    <a:lnTo>
                      <a:pt x="70" y="81"/>
                    </a:lnTo>
                    <a:lnTo>
                      <a:pt x="80" y="71"/>
                    </a:lnTo>
                    <a:lnTo>
                      <a:pt x="80" y="71"/>
                    </a:lnTo>
                    <a:lnTo>
                      <a:pt x="90" y="61"/>
                    </a:lnTo>
                    <a:lnTo>
                      <a:pt x="90" y="51"/>
                    </a:lnTo>
                    <a:lnTo>
                      <a:pt x="90" y="41"/>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51" name=""/>
              <p:cNvSpPr/>
              <p:nvPr/>
            </p:nvSpPr>
            <p:spPr>
              <a:xfrm>
                <a:off x="5174280" y="5343480"/>
                <a:ext cx="5760" cy="5040"/>
              </a:xfrm>
              <a:custGeom>
                <a:avLst/>
                <a:gdLst/>
                <a:ahLst/>
                <a:rect l="l" t="t" r="r" b="b"/>
                <a:pathLst>
                  <a:path w="90" h="91">
                    <a:moveTo>
                      <a:pt x="90" y="40"/>
                    </a:moveTo>
                    <a:lnTo>
                      <a:pt x="90" y="40"/>
                    </a:lnTo>
                    <a:lnTo>
                      <a:pt x="80" y="30"/>
                    </a:lnTo>
                    <a:lnTo>
                      <a:pt x="80" y="10"/>
                    </a:lnTo>
                    <a:lnTo>
                      <a:pt x="80" y="10"/>
                    </a:lnTo>
                    <a:lnTo>
                      <a:pt x="60" y="0"/>
                    </a:lnTo>
                    <a:lnTo>
                      <a:pt x="50" y="0"/>
                    </a:lnTo>
                    <a:lnTo>
                      <a:pt x="50" y="0"/>
                    </a:lnTo>
                    <a:lnTo>
                      <a:pt x="31" y="0"/>
                    </a:lnTo>
                    <a:lnTo>
                      <a:pt x="31" y="10"/>
                    </a:lnTo>
                    <a:lnTo>
                      <a:pt x="10" y="10"/>
                    </a:lnTo>
                    <a:lnTo>
                      <a:pt x="0" y="10"/>
                    </a:lnTo>
                    <a:lnTo>
                      <a:pt x="0" y="30"/>
                    </a:lnTo>
                    <a:lnTo>
                      <a:pt x="0" y="40"/>
                    </a:lnTo>
                    <a:lnTo>
                      <a:pt x="0" y="50"/>
                    </a:lnTo>
                    <a:lnTo>
                      <a:pt x="0" y="60"/>
                    </a:lnTo>
                    <a:lnTo>
                      <a:pt x="0" y="60"/>
                    </a:lnTo>
                    <a:lnTo>
                      <a:pt x="10" y="81"/>
                    </a:lnTo>
                    <a:lnTo>
                      <a:pt x="21" y="91"/>
                    </a:lnTo>
                    <a:lnTo>
                      <a:pt x="31" y="91"/>
                    </a:lnTo>
                    <a:lnTo>
                      <a:pt x="31" y="91"/>
                    </a:lnTo>
                    <a:lnTo>
                      <a:pt x="50" y="91"/>
                    </a:lnTo>
                    <a:lnTo>
                      <a:pt x="50" y="91"/>
                    </a:lnTo>
                    <a:lnTo>
                      <a:pt x="70" y="91"/>
                    </a:lnTo>
                    <a:lnTo>
                      <a:pt x="80" y="81"/>
                    </a:lnTo>
                    <a:lnTo>
                      <a:pt x="80" y="70"/>
                    </a:lnTo>
                    <a:lnTo>
                      <a:pt x="90" y="60"/>
                    </a:lnTo>
                    <a:lnTo>
                      <a:pt x="90" y="60"/>
                    </a:lnTo>
                    <a:lnTo>
                      <a:pt x="90"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52" name=""/>
              <p:cNvSpPr/>
              <p:nvPr/>
            </p:nvSpPr>
            <p:spPr>
              <a:xfrm>
                <a:off x="5174280" y="5371560"/>
                <a:ext cx="5760" cy="5040"/>
              </a:xfrm>
              <a:custGeom>
                <a:avLst/>
                <a:gdLst/>
                <a:ahLst/>
                <a:rect l="l" t="t" r="r" b="b"/>
                <a:pathLst>
                  <a:path w="90" h="90">
                    <a:moveTo>
                      <a:pt x="90" y="49"/>
                    </a:moveTo>
                    <a:lnTo>
                      <a:pt x="90" y="39"/>
                    </a:lnTo>
                    <a:lnTo>
                      <a:pt x="80" y="29"/>
                    </a:lnTo>
                    <a:lnTo>
                      <a:pt x="80" y="19"/>
                    </a:lnTo>
                    <a:lnTo>
                      <a:pt x="80" y="10"/>
                    </a:lnTo>
                    <a:lnTo>
                      <a:pt x="60" y="0"/>
                    </a:lnTo>
                    <a:lnTo>
                      <a:pt x="50" y="0"/>
                    </a:lnTo>
                    <a:lnTo>
                      <a:pt x="50" y="0"/>
                    </a:lnTo>
                    <a:lnTo>
                      <a:pt x="31" y="0"/>
                    </a:lnTo>
                    <a:lnTo>
                      <a:pt x="31" y="10"/>
                    </a:lnTo>
                    <a:lnTo>
                      <a:pt x="10" y="10"/>
                    </a:lnTo>
                    <a:lnTo>
                      <a:pt x="0" y="19"/>
                    </a:lnTo>
                    <a:lnTo>
                      <a:pt x="0" y="29"/>
                    </a:lnTo>
                    <a:lnTo>
                      <a:pt x="0" y="39"/>
                    </a:lnTo>
                    <a:lnTo>
                      <a:pt x="0" y="49"/>
                    </a:lnTo>
                    <a:lnTo>
                      <a:pt x="0" y="60"/>
                    </a:lnTo>
                    <a:lnTo>
                      <a:pt x="0" y="70"/>
                    </a:lnTo>
                    <a:lnTo>
                      <a:pt x="10" y="80"/>
                    </a:lnTo>
                    <a:lnTo>
                      <a:pt x="21" y="90"/>
                    </a:lnTo>
                    <a:lnTo>
                      <a:pt x="31" y="90"/>
                    </a:lnTo>
                    <a:lnTo>
                      <a:pt x="31" y="90"/>
                    </a:lnTo>
                    <a:lnTo>
                      <a:pt x="50" y="90"/>
                    </a:lnTo>
                    <a:lnTo>
                      <a:pt x="50" y="90"/>
                    </a:lnTo>
                    <a:lnTo>
                      <a:pt x="70" y="90"/>
                    </a:lnTo>
                    <a:lnTo>
                      <a:pt x="80" y="80"/>
                    </a:lnTo>
                    <a:lnTo>
                      <a:pt x="80" y="70"/>
                    </a:lnTo>
                    <a:lnTo>
                      <a:pt x="90" y="70"/>
                    </a:lnTo>
                    <a:lnTo>
                      <a:pt x="90" y="60"/>
                    </a:lnTo>
                    <a:lnTo>
                      <a:pt x="90" y="49"/>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53" name=""/>
              <p:cNvSpPr/>
              <p:nvPr/>
            </p:nvSpPr>
            <p:spPr>
              <a:xfrm>
                <a:off x="5174280" y="5399640"/>
                <a:ext cx="5760" cy="5400"/>
              </a:xfrm>
              <a:custGeom>
                <a:avLst/>
                <a:gdLst/>
                <a:ahLst/>
                <a:rect l="l" t="t" r="r" b="b"/>
                <a:pathLst>
                  <a:path w="90" h="100">
                    <a:moveTo>
                      <a:pt x="90" y="50"/>
                    </a:moveTo>
                    <a:lnTo>
                      <a:pt x="90" y="40"/>
                    </a:lnTo>
                    <a:lnTo>
                      <a:pt x="80" y="30"/>
                    </a:lnTo>
                    <a:lnTo>
                      <a:pt x="80" y="21"/>
                    </a:lnTo>
                    <a:lnTo>
                      <a:pt x="80" y="11"/>
                    </a:lnTo>
                    <a:lnTo>
                      <a:pt x="60" y="0"/>
                    </a:lnTo>
                    <a:lnTo>
                      <a:pt x="50" y="0"/>
                    </a:lnTo>
                    <a:lnTo>
                      <a:pt x="50" y="0"/>
                    </a:lnTo>
                    <a:lnTo>
                      <a:pt x="31" y="0"/>
                    </a:lnTo>
                    <a:lnTo>
                      <a:pt x="31" y="11"/>
                    </a:lnTo>
                    <a:lnTo>
                      <a:pt x="10" y="11"/>
                    </a:lnTo>
                    <a:lnTo>
                      <a:pt x="0" y="21"/>
                    </a:lnTo>
                    <a:lnTo>
                      <a:pt x="0" y="30"/>
                    </a:lnTo>
                    <a:lnTo>
                      <a:pt x="0" y="40"/>
                    </a:lnTo>
                    <a:lnTo>
                      <a:pt x="0" y="50"/>
                    </a:lnTo>
                    <a:lnTo>
                      <a:pt x="0" y="60"/>
                    </a:lnTo>
                    <a:lnTo>
                      <a:pt x="0" y="70"/>
                    </a:lnTo>
                    <a:lnTo>
                      <a:pt x="10" y="80"/>
                    </a:lnTo>
                    <a:lnTo>
                      <a:pt x="21" y="90"/>
                    </a:lnTo>
                    <a:lnTo>
                      <a:pt x="31" y="90"/>
                    </a:lnTo>
                    <a:lnTo>
                      <a:pt x="31" y="100"/>
                    </a:lnTo>
                    <a:lnTo>
                      <a:pt x="50" y="100"/>
                    </a:lnTo>
                    <a:lnTo>
                      <a:pt x="50" y="100"/>
                    </a:lnTo>
                    <a:lnTo>
                      <a:pt x="70" y="90"/>
                    </a:lnTo>
                    <a:lnTo>
                      <a:pt x="80" y="80"/>
                    </a:lnTo>
                    <a:lnTo>
                      <a:pt x="80" y="80"/>
                    </a:lnTo>
                    <a:lnTo>
                      <a:pt x="90" y="70"/>
                    </a:lnTo>
                    <a:lnTo>
                      <a:pt x="90" y="60"/>
                    </a:lnTo>
                    <a:lnTo>
                      <a:pt x="90" y="50"/>
                    </a:lnTo>
                    <a:close/>
                  </a:path>
                </a:pathLst>
              </a:custGeom>
              <a:solidFill>
                <a:srgbClr val="ff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54" name=""/>
              <p:cNvSpPr/>
              <p:nvPr/>
            </p:nvSpPr>
            <p:spPr>
              <a:xfrm>
                <a:off x="5174280" y="5428080"/>
                <a:ext cx="5760" cy="5040"/>
              </a:xfrm>
              <a:custGeom>
                <a:avLst/>
                <a:gdLst/>
                <a:ahLst/>
                <a:rect l="l" t="t" r="r" b="b"/>
                <a:pathLst>
                  <a:path w="90" h="90">
                    <a:moveTo>
                      <a:pt x="90" y="40"/>
                    </a:moveTo>
                    <a:lnTo>
                      <a:pt x="90" y="30"/>
                    </a:lnTo>
                    <a:lnTo>
                      <a:pt x="80" y="30"/>
                    </a:lnTo>
                    <a:lnTo>
                      <a:pt x="80" y="10"/>
                    </a:lnTo>
                    <a:lnTo>
                      <a:pt x="80" y="0"/>
                    </a:lnTo>
                    <a:lnTo>
                      <a:pt x="60" y="0"/>
                    </a:lnTo>
                    <a:lnTo>
                      <a:pt x="50" y="0"/>
                    </a:lnTo>
                    <a:lnTo>
                      <a:pt x="50" y="0"/>
                    </a:lnTo>
                    <a:lnTo>
                      <a:pt x="31" y="0"/>
                    </a:lnTo>
                    <a:lnTo>
                      <a:pt x="31" y="0"/>
                    </a:lnTo>
                    <a:lnTo>
                      <a:pt x="10" y="0"/>
                    </a:lnTo>
                    <a:lnTo>
                      <a:pt x="0" y="10"/>
                    </a:lnTo>
                    <a:lnTo>
                      <a:pt x="0" y="30"/>
                    </a:lnTo>
                    <a:lnTo>
                      <a:pt x="0" y="30"/>
                    </a:lnTo>
                    <a:lnTo>
                      <a:pt x="0" y="50"/>
                    </a:lnTo>
                    <a:lnTo>
                      <a:pt x="0" y="50"/>
                    </a:lnTo>
                    <a:lnTo>
                      <a:pt x="0" y="60"/>
                    </a:lnTo>
                    <a:lnTo>
                      <a:pt x="10" y="69"/>
                    </a:lnTo>
                    <a:lnTo>
                      <a:pt x="21" y="80"/>
                    </a:lnTo>
                    <a:lnTo>
                      <a:pt x="31" y="80"/>
                    </a:lnTo>
                    <a:lnTo>
                      <a:pt x="31" y="90"/>
                    </a:lnTo>
                    <a:lnTo>
                      <a:pt x="50" y="90"/>
                    </a:lnTo>
                    <a:lnTo>
                      <a:pt x="50" y="90"/>
                    </a:lnTo>
                    <a:lnTo>
                      <a:pt x="70" y="80"/>
                    </a:lnTo>
                    <a:lnTo>
                      <a:pt x="80" y="69"/>
                    </a:lnTo>
                    <a:lnTo>
                      <a:pt x="80" y="69"/>
                    </a:lnTo>
                    <a:lnTo>
                      <a:pt x="90" y="60"/>
                    </a:lnTo>
                    <a:lnTo>
                      <a:pt x="90" y="50"/>
                    </a:lnTo>
                    <a:lnTo>
                      <a:pt x="90"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55" name=""/>
              <p:cNvSpPr/>
              <p:nvPr/>
            </p:nvSpPr>
            <p:spPr>
              <a:xfrm>
                <a:off x="5174280" y="5455800"/>
                <a:ext cx="5760" cy="5400"/>
              </a:xfrm>
              <a:custGeom>
                <a:avLst/>
                <a:gdLst/>
                <a:ahLst/>
                <a:rect l="l" t="t" r="r" b="b"/>
                <a:pathLst>
                  <a:path w="90" h="90">
                    <a:moveTo>
                      <a:pt x="90" y="41"/>
                    </a:moveTo>
                    <a:lnTo>
                      <a:pt x="90" y="31"/>
                    </a:lnTo>
                    <a:lnTo>
                      <a:pt x="80" y="31"/>
                    </a:lnTo>
                    <a:lnTo>
                      <a:pt x="80" y="10"/>
                    </a:lnTo>
                    <a:lnTo>
                      <a:pt x="80" y="10"/>
                    </a:lnTo>
                    <a:lnTo>
                      <a:pt x="60" y="0"/>
                    </a:lnTo>
                    <a:lnTo>
                      <a:pt x="50" y="0"/>
                    </a:lnTo>
                    <a:lnTo>
                      <a:pt x="50" y="0"/>
                    </a:lnTo>
                    <a:lnTo>
                      <a:pt x="31" y="0"/>
                    </a:lnTo>
                    <a:lnTo>
                      <a:pt x="31" y="10"/>
                    </a:lnTo>
                    <a:lnTo>
                      <a:pt x="10" y="10"/>
                    </a:lnTo>
                    <a:lnTo>
                      <a:pt x="0" y="10"/>
                    </a:lnTo>
                    <a:lnTo>
                      <a:pt x="0" y="31"/>
                    </a:lnTo>
                    <a:lnTo>
                      <a:pt x="0" y="31"/>
                    </a:lnTo>
                    <a:lnTo>
                      <a:pt x="0" y="51"/>
                    </a:lnTo>
                    <a:lnTo>
                      <a:pt x="0" y="61"/>
                    </a:lnTo>
                    <a:lnTo>
                      <a:pt x="0" y="61"/>
                    </a:lnTo>
                    <a:lnTo>
                      <a:pt x="10" y="80"/>
                    </a:lnTo>
                    <a:lnTo>
                      <a:pt x="21" y="80"/>
                    </a:lnTo>
                    <a:lnTo>
                      <a:pt x="31" y="80"/>
                    </a:lnTo>
                    <a:lnTo>
                      <a:pt x="31" y="90"/>
                    </a:lnTo>
                    <a:lnTo>
                      <a:pt x="50" y="90"/>
                    </a:lnTo>
                    <a:lnTo>
                      <a:pt x="50" y="90"/>
                    </a:lnTo>
                    <a:lnTo>
                      <a:pt x="70" y="80"/>
                    </a:lnTo>
                    <a:lnTo>
                      <a:pt x="80" y="80"/>
                    </a:lnTo>
                    <a:lnTo>
                      <a:pt x="80" y="70"/>
                    </a:lnTo>
                    <a:lnTo>
                      <a:pt x="90" y="61"/>
                    </a:lnTo>
                    <a:lnTo>
                      <a:pt x="90" y="61"/>
                    </a:lnTo>
                    <a:lnTo>
                      <a:pt x="90" y="41"/>
                    </a:lnTo>
                    <a:close/>
                  </a:path>
                </a:pathLst>
              </a:custGeom>
              <a:solidFill>
                <a:srgbClr val="ff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56" name=""/>
              <p:cNvSpPr/>
              <p:nvPr/>
            </p:nvSpPr>
            <p:spPr>
              <a:xfrm>
                <a:off x="5374800" y="5244120"/>
                <a:ext cx="212040" cy="234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5475960" y="5260320"/>
                <a:ext cx="6120" cy="5040"/>
              </a:xfrm>
              <a:custGeom>
                <a:avLst/>
                <a:gdLst/>
                <a:ahLst/>
                <a:rect l="l" t="t" r="r" b="b"/>
                <a:pathLst>
                  <a:path w="91" h="91">
                    <a:moveTo>
                      <a:pt x="91" y="40"/>
                    </a:moveTo>
                    <a:lnTo>
                      <a:pt x="91" y="30"/>
                    </a:lnTo>
                    <a:lnTo>
                      <a:pt x="81" y="30"/>
                    </a:lnTo>
                    <a:lnTo>
                      <a:pt x="81" y="10"/>
                    </a:lnTo>
                    <a:lnTo>
                      <a:pt x="81" y="10"/>
                    </a:lnTo>
                    <a:lnTo>
                      <a:pt x="61" y="0"/>
                    </a:lnTo>
                    <a:lnTo>
                      <a:pt x="61" y="0"/>
                    </a:lnTo>
                    <a:lnTo>
                      <a:pt x="50" y="0"/>
                    </a:lnTo>
                    <a:lnTo>
                      <a:pt x="40" y="0"/>
                    </a:lnTo>
                    <a:lnTo>
                      <a:pt x="30" y="10"/>
                    </a:lnTo>
                    <a:lnTo>
                      <a:pt x="10" y="10"/>
                    </a:lnTo>
                    <a:lnTo>
                      <a:pt x="10" y="10"/>
                    </a:lnTo>
                    <a:lnTo>
                      <a:pt x="10" y="30"/>
                    </a:lnTo>
                    <a:lnTo>
                      <a:pt x="0" y="30"/>
                    </a:lnTo>
                    <a:lnTo>
                      <a:pt x="0" y="50"/>
                    </a:lnTo>
                    <a:lnTo>
                      <a:pt x="0" y="60"/>
                    </a:lnTo>
                    <a:lnTo>
                      <a:pt x="10" y="60"/>
                    </a:lnTo>
                    <a:lnTo>
                      <a:pt x="10" y="81"/>
                    </a:lnTo>
                    <a:lnTo>
                      <a:pt x="20" y="81"/>
                    </a:lnTo>
                    <a:lnTo>
                      <a:pt x="30" y="81"/>
                    </a:lnTo>
                    <a:lnTo>
                      <a:pt x="40" y="91"/>
                    </a:lnTo>
                    <a:lnTo>
                      <a:pt x="50" y="91"/>
                    </a:lnTo>
                    <a:lnTo>
                      <a:pt x="61" y="91"/>
                    </a:lnTo>
                    <a:lnTo>
                      <a:pt x="71" y="81"/>
                    </a:lnTo>
                    <a:lnTo>
                      <a:pt x="81" y="81"/>
                    </a:lnTo>
                    <a:lnTo>
                      <a:pt x="81" y="70"/>
                    </a:lnTo>
                    <a:lnTo>
                      <a:pt x="91" y="60"/>
                    </a:lnTo>
                    <a:lnTo>
                      <a:pt x="91" y="60"/>
                    </a:lnTo>
                    <a:lnTo>
                      <a:pt x="91"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58" name=""/>
              <p:cNvSpPr/>
              <p:nvPr/>
            </p:nvSpPr>
            <p:spPr>
              <a:xfrm>
                <a:off x="5475960" y="5287680"/>
                <a:ext cx="6120" cy="5760"/>
              </a:xfrm>
              <a:custGeom>
                <a:avLst/>
                <a:gdLst/>
                <a:ahLst/>
                <a:rect l="l" t="t" r="r" b="b"/>
                <a:pathLst>
                  <a:path w="91" h="99">
                    <a:moveTo>
                      <a:pt x="91" y="48"/>
                    </a:moveTo>
                    <a:lnTo>
                      <a:pt x="91" y="38"/>
                    </a:lnTo>
                    <a:lnTo>
                      <a:pt x="81" y="30"/>
                    </a:lnTo>
                    <a:lnTo>
                      <a:pt x="81" y="20"/>
                    </a:lnTo>
                    <a:lnTo>
                      <a:pt x="81" y="10"/>
                    </a:lnTo>
                    <a:lnTo>
                      <a:pt x="61" y="0"/>
                    </a:lnTo>
                    <a:lnTo>
                      <a:pt x="61" y="0"/>
                    </a:lnTo>
                    <a:lnTo>
                      <a:pt x="50" y="0"/>
                    </a:lnTo>
                    <a:lnTo>
                      <a:pt x="40" y="0"/>
                    </a:lnTo>
                    <a:lnTo>
                      <a:pt x="30" y="10"/>
                    </a:lnTo>
                    <a:lnTo>
                      <a:pt x="10" y="10"/>
                    </a:lnTo>
                    <a:lnTo>
                      <a:pt x="10" y="20"/>
                    </a:lnTo>
                    <a:lnTo>
                      <a:pt x="10" y="30"/>
                    </a:lnTo>
                    <a:lnTo>
                      <a:pt x="0" y="38"/>
                    </a:lnTo>
                    <a:lnTo>
                      <a:pt x="0" y="48"/>
                    </a:lnTo>
                    <a:lnTo>
                      <a:pt x="0" y="58"/>
                    </a:lnTo>
                    <a:lnTo>
                      <a:pt x="10" y="69"/>
                    </a:lnTo>
                    <a:lnTo>
                      <a:pt x="10" y="79"/>
                    </a:lnTo>
                    <a:lnTo>
                      <a:pt x="20" y="89"/>
                    </a:lnTo>
                    <a:lnTo>
                      <a:pt x="30" y="89"/>
                    </a:lnTo>
                    <a:lnTo>
                      <a:pt x="40" y="99"/>
                    </a:lnTo>
                    <a:lnTo>
                      <a:pt x="50" y="99"/>
                    </a:lnTo>
                    <a:lnTo>
                      <a:pt x="61" y="99"/>
                    </a:lnTo>
                    <a:lnTo>
                      <a:pt x="71" y="89"/>
                    </a:lnTo>
                    <a:lnTo>
                      <a:pt x="81" y="79"/>
                    </a:lnTo>
                    <a:lnTo>
                      <a:pt x="81" y="69"/>
                    </a:lnTo>
                    <a:lnTo>
                      <a:pt x="91" y="69"/>
                    </a:lnTo>
                    <a:lnTo>
                      <a:pt x="91" y="58"/>
                    </a:lnTo>
                    <a:lnTo>
                      <a:pt x="91" y="48"/>
                    </a:lnTo>
                    <a:close/>
                  </a:path>
                </a:pathLst>
              </a:cu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59" name=""/>
              <p:cNvSpPr/>
              <p:nvPr/>
            </p:nvSpPr>
            <p:spPr>
              <a:xfrm>
                <a:off x="5475960" y="5316480"/>
                <a:ext cx="6120" cy="5040"/>
              </a:xfrm>
              <a:custGeom>
                <a:avLst/>
                <a:gdLst/>
                <a:ahLst/>
                <a:rect l="l" t="t" r="r" b="b"/>
                <a:pathLst>
                  <a:path w="91" h="91">
                    <a:moveTo>
                      <a:pt x="91" y="41"/>
                    </a:moveTo>
                    <a:lnTo>
                      <a:pt x="91" y="31"/>
                    </a:lnTo>
                    <a:lnTo>
                      <a:pt x="81" y="21"/>
                    </a:lnTo>
                    <a:lnTo>
                      <a:pt x="81" y="10"/>
                    </a:lnTo>
                    <a:lnTo>
                      <a:pt x="81" y="0"/>
                    </a:lnTo>
                    <a:lnTo>
                      <a:pt x="61" y="0"/>
                    </a:lnTo>
                    <a:lnTo>
                      <a:pt x="61" y="0"/>
                    </a:lnTo>
                    <a:lnTo>
                      <a:pt x="50" y="0"/>
                    </a:lnTo>
                    <a:lnTo>
                      <a:pt x="40" y="0"/>
                    </a:lnTo>
                    <a:lnTo>
                      <a:pt x="30" y="0"/>
                    </a:lnTo>
                    <a:lnTo>
                      <a:pt x="10" y="0"/>
                    </a:lnTo>
                    <a:lnTo>
                      <a:pt x="10" y="10"/>
                    </a:lnTo>
                    <a:lnTo>
                      <a:pt x="10" y="21"/>
                    </a:lnTo>
                    <a:lnTo>
                      <a:pt x="0" y="31"/>
                    </a:lnTo>
                    <a:lnTo>
                      <a:pt x="0" y="51"/>
                    </a:lnTo>
                    <a:lnTo>
                      <a:pt x="0" y="51"/>
                    </a:lnTo>
                    <a:lnTo>
                      <a:pt x="10" y="61"/>
                    </a:lnTo>
                    <a:lnTo>
                      <a:pt x="10" y="71"/>
                    </a:lnTo>
                    <a:lnTo>
                      <a:pt x="20" y="81"/>
                    </a:lnTo>
                    <a:lnTo>
                      <a:pt x="30" y="81"/>
                    </a:lnTo>
                    <a:lnTo>
                      <a:pt x="40" y="91"/>
                    </a:lnTo>
                    <a:lnTo>
                      <a:pt x="50" y="91"/>
                    </a:lnTo>
                    <a:lnTo>
                      <a:pt x="61" y="91"/>
                    </a:lnTo>
                    <a:lnTo>
                      <a:pt x="71" y="81"/>
                    </a:lnTo>
                    <a:lnTo>
                      <a:pt x="81" y="71"/>
                    </a:lnTo>
                    <a:lnTo>
                      <a:pt x="81" y="71"/>
                    </a:lnTo>
                    <a:lnTo>
                      <a:pt x="91" y="61"/>
                    </a:lnTo>
                    <a:lnTo>
                      <a:pt x="91" y="51"/>
                    </a:lnTo>
                    <a:lnTo>
                      <a:pt x="91" y="41"/>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0" name=""/>
              <p:cNvSpPr/>
              <p:nvPr/>
            </p:nvSpPr>
            <p:spPr>
              <a:xfrm>
                <a:off x="5475960" y="5343480"/>
                <a:ext cx="6120" cy="5040"/>
              </a:xfrm>
              <a:custGeom>
                <a:avLst/>
                <a:gdLst/>
                <a:ahLst/>
                <a:rect l="l" t="t" r="r" b="b"/>
                <a:pathLst>
                  <a:path w="91" h="91">
                    <a:moveTo>
                      <a:pt x="91" y="40"/>
                    </a:moveTo>
                    <a:lnTo>
                      <a:pt x="91" y="40"/>
                    </a:lnTo>
                    <a:lnTo>
                      <a:pt x="81" y="30"/>
                    </a:lnTo>
                    <a:lnTo>
                      <a:pt x="81" y="10"/>
                    </a:lnTo>
                    <a:lnTo>
                      <a:pt x="81" y="10"/>
                    </a:lnTo>
                    <a:lnTo>
                      <a:pt x="61" y="0"/>
                    </a:lnTo>
                    <a:lnTo>
                      <a:pt x="61" y="0"/>
                    </a:lnTo>
                    <a:lnTo>
                      <a:pt x="50" y="0"/>
                    </a:lnTo>
                    <a:lnTo>
                      <a:pt x="40" y="0"/>
                    </a:lnTo>
                    <a:lnTo>
                      <a:pt x="30" y="10"/>
                    </a:lnTo>
                    <a:lnTo>
                      <a:pt x="10" y="10"/>
                    </a:lnTo>
                    <a:lnTo>
                      <a:pt x="10" y="10"/>
                    </a:lnTo>
                    <a:lnTo>
                      <a:pt x="10" y="30"/>
                    </a:lnTo>
                    <a:lnTo>
                      <a:pt x="0" y="40"/>
                    </a:lnTo>
                    <a:lnTo>
                      <a:pt x="0" y="50"/>
                    </a:lnTo>
                    <a:lnTo>
                      <a:pt x="0" y="60"/>
                    </a:lnTo>
                    <a:lnTo>
                      <a:pt x="10" y="60"/>
                    </a:lnTo>
                    <a:lnTo>
                      <a:pt x="10" y="81"/>
                    </a:lnTo>
                    <a:lnTo>
                      <a:pt x="20" y="91"/>
                    </a:lnTo>
                    <a:lnTo>
                      <a:pt x="30" y="91"/>
                    </a:lnTo>
                    <a:lnTo>
                      <a:pt x="40" y="91"/>
                    </a:lnTo>
                    <a:lnTo>
                      <a:pt x="50" y="91"/>
                    </a:lnTo>
                    <a:lnTo>
                      <a:pt x="61" y="91"/>
                    </a:lnTo>
                    <a:lnTo>
                      <a:pt x="71" y="91"/>
                    </a:lnTo>
                    <a:lnTo>
                      <a:pt x="81" y="81"/>
                    </a:lnTo>
                    <a:lnTo>
                      <a:pt x="81" y="70"/>
                    </a:lnTo>
                    <a:lnTo>
                      <a:pt x="91" y="60"/>
                    </a:lnTo>
                    <a:lnTo>
                      <a:pt x="91" y="60"/>
                    </a:lnTo>
                    <a:lnTo>
                      <a:pt x="91"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1" name=""/>
              <p:cNvSpPr/>
              <p:nvPr/>
            </p:nvSpPr>
            <p:spPr>
              <a:xfrm>
                <a:off x="5475960" y="5371560"/>
                <a:ext cx="6120" cy="5040"/>
              </a:xfrm>
              <a:custGeom>
                <a:avLst/>
                <a:gdLst/>
                <a:ahLst/>
                <a:rect l="l" t="t" r="r" b="b"/>
                <a:pathLst>
                  <a:path w="91" h="90">
                    <a:moveTo>
                      <a:pt x="91" y="49"/>
                    </a:moveTo>
                    <a:lnTo>
                      <a:pt x="91" y="39"/>
                    </a:lnTo>
                    <a:lnTo>
                      <a:pt x="81" y="29"/>
                    </a:lnTo>
                    <a:lnTo>
                      <a:pt x="81" y="19"/>
                    </a:lnTo>
                    <a:lnTo>
                      <a:pt x="81" y="10"/>
                    </a:lnTo>
                    <a:lnTo>
                      <a:pt x="61" y="0"/>
                    </a:lnTo>
                    <a:lnTo>
                      <a:pt x="61" y="0"/>
                    </a:lnTo>
                    <a:lnTo>
                      <a:pt x="50" y="0"/>
                    </a:lnTo>
                    <a:lnTo>
                      <a:pt x="40" y="0"/>
                    </a:lnTo>
                    <a:lnTo>
                      <a:pt x="30" y="10"/>
                    </a:lnTo>
                    <a:lnTo>
                      <a:pt x="10" y="10"/>
                    </a:lnTo>
                    <a:lnTo>
                      <a:pt x="10" y="19"/>
                    </a:lnTo>
                    <a:lnTo>
                      <a:pt x="10" y="29"/>
                    </a:lnTo>
                    <a:lnTo>
                      <a:pt x="0" y="39"/>
                    </a:lnTo>
                    <a:lnTo>
                      <a:pt x="0" y="49"/>
                    </a:lnTo>
                    <a:lnTo>
                      <a:pt x="0" y="60"/>
                    </a:lnTo>
                    <a:lnTo>
                      <a:pt x="10" y="70"/>
                    </a:lnTo>
                    <a:lnTo>
                      <a:pt x="10" y="80"/>
                    </a:lnTo>
                    <a:lnTo>
                      <a:pt x="20" y="90"/>
                    </a:lnTo>
                    <a:lnTo>
                      <a:pt x="30" y="90"/>
                    </a:lnTo>
                    <a:lnTo>
                      <a:pt x="40" y="90"/>
                    </a:lnTo>
                    <a:lnTo>
                      <a:pt x="50" y="90"/>
                    </a:lnTo>
                    <a:lnTo>
                      <a:pt x="61" y="90"/>
                    </a:lnTo>
                    <a:lnTo>
                      <a:pt x="71" y="90"/>
                    </a:lnTo>
                    <a:lnTo>
                      <a:pt x="81" y="80"/>
                    </a:lnTo>
                    <a:lnTo>
                      <a:pt x="81" y="70"/>
                    </a:lnTo>
                    <a:lnTo>
                      <a:pt x="91" y="70"/>
                    </a:lnTo>
                    <a:lnTo>
                      <a:pt x="91" y="60"/>
                    </a:lnTo>
                    <a:lnTo>
                      <a:pt x="91" y="49"/>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2" name=""/>
              <p:cNvSpPr/>
              <p:nvPr/>
            </p:nvSpPr>
            <p:spPr>
              <a:xfrm>
                <a:off x="5475960" y="5399640"/>
                <a:ext cx="6120" cy="5400"/>
              </a:xfrm>
              <a:custGeom>
                <a:avLst/>
                <a:gdLst/>
                <a:ahLst/>
                <a:rect l="l" t="t" r="r" b="b"/>
                <a:pathLst>
                  <a:path w="91" h="100">
                    <a:moveTo>
                      <a:pt x="91" y="50"/>
                    </a:moveTo>
                    <a:lnTo>
                      <a:pt x="91" y="40"/>
                    </a:lnTo>
                    <a:lnTo>
                      <a:pt x="81" y="30"/>
                    </a:lnTo>
                    <a:lnTo>
                      <a:pt x="81" y="21"/>
                    </a:lnTo>
                    <a:lnTo>
                      <a:pt x="81" y="11"/>
                    </a:lnTo>
                    <a:lnTo>
                      <a:pt x="61" y="0"/>
                    </a:lnTo>
                    <a:lnTo>
                      <a:pt x="61" y="0"/>
                    </a:lnTo>
                    <a:lnTo>
                      <a:pt x="50" y="0"/>
                    </a:lnTo>
                    <a:lnTo>
                      <a:pt x="40" y="0"/>
                    </a:lnTo>
                    <a:lnTo>
                      <a:pt x="30" y="11"/>
                    </a:lnTo>
                    <a:lnTo>
                      <a:pt x="10" y="11"/>
                    </a:lnTo>
                    <a:lnTo>
                      <a:pt x="10" y="21"/>
                    </a:lnTo>
                    <a:lnTo>
                      <a:pt x="10" y="30"/>
                    </a:lnTo>
                    <a:lnTo>
                      <a:pt x="0" y="40"/>
                    </a:lnTo>
                    <a:lnTo>
                      <a:pt x="0" y="50"/>
                    </a:lnTo>
                    <a:lnTo>
                      <a:pt x="0" y="60"/>
                    </a:lnTo>
                    <a:lnTo>
                      <a:pt x="10" y="70"/>
                    </a:lnTo>
                    <a:lnTo>
                      <a:pt x="10" y="80"/>
                    </a:lnTo>
                    <a:lnTo>
                      <a:pt x="20" y="90"/>
                    </a:lnTo>
                    <a:lnTo>
                      <a:pt x="30" y="90"/>
                    </a:lnTo>
                    <a:lnTo>
                      <a:pt x="40" y="100"/>
                    </a:lnTo>
                    <a:lnTo>
                      <a:pt x="50" y="100"/>
                    </a:lnTo>
                    <a:lnTo>
                      <a:pt x="61" y="100"/>
                    </a:lnTo>
                    <a:lnTo>
                      <a:pt x="71" y="90"/>
                    </a:lnTo>
                    <a:lnTo>
                      <a:pt x="81" y="80"/>
                    </a:lnTo>
                    <a:lnTo>
                      <a:pt x="81" y="80"/>
                    </a:lnTo>
                    <a:lnTo>
                      <a:pt x="91" y="70"/>
                    </a:lnTo>
                    <a:lnTo>
                      <a:pt x="91" y="60"/>
                    </a:lnTo>
                    <a:lnTo>
                      <a:pt x="91" y="50"/>
                    </a:lnTo>
                    <a:close/>
                  </a:path>
                </a:pathLst>
              </a:custGeom>
              <a:solidFill>
                <a:srgbClr val="ff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63" name=""/>
              <p:cNvSpPr/>
              <p:nvPr/>
            </p:nvSpPr>
            <p:spPr>
              <a:xfrm>
                <a:off x="5475960" y="5428080"/>
                <a:ext cx="6120" cy="5040"/>
              </a:xfrm>
              <a:custGeom>
                <a:avLst/>
                <a:gdLst/>
                <a:ahLst/>
                <a:rect l="l" t="t" r="r" b="b"/>
                <a:pathLst>
                  <a:path w="91" h="90">
                    <a:moveTo>
                      <a:pt x="91" y="40"/>
                    </a:moveTo>
                    <a:lnTo>
                      <a:pt x="91" y="30"/>
                    </a:lnTo>
                    <a:lnTo>
                      <a:pt x="81" y="30"/>
                    </a:lnTo>
                    <a:lnTo>
                      <a:pt x="81" y="10"/>
                    </a:lnTo>
                    <a:lnTo>
                      <a:pt x="81" y="0"/>
                    </a:lnTo>
                    <a:lnTo>
                      <a:pt x="61" y="0"/>
                    </a:lnTo>
                    <a:lnTo>
                      <a:pt x="61" y="0"/>
                    </a:lnTo>
                    <a:lnTo>
                      <a:pt x="50" y="0"/>
                    </a:lnTo>
                    <a:lnTo>
                      <a:pt x="40" y="0"/>
                    </a:lnTo>
                    <a:lnTo>
                      <a:pt x="30" y="0"/>
                    </a:lnTo>
                    <a:lnTo>
                      <a:pt x="10" y="0"/>
                    </a:lnTo>
                    <a:lnTo>
                      <a:pt x="10" y="10"/>
                    </a:lnTo>
                    <a:lnTo>
                      <a:pt x="10" y="30"/>
                    </a:lnTo>
                    <a:lnTo>
                      <a:pt x="0" y="30"/>
                    </a:lnTo>
                    <a:lnTo>
                      <a:pt x="0" y="50"/>
                    </a:lnTo>
                    <a:lnTo>
                      <a:pt x="0" y="50"/>
                    </a:lnTo>
                    <a:lnTo>
                      <a:pt x="10" y="60"/>
                    </a:lnTo>
                    <a:lnTo>
                      <a:pt x="10" y="69"/>
                    </a:lnTo>
                    <a:lnTo>
                      <a:pt x="20" y="80"/>
                    </a:lnTo>
                    <a:lnTo>
                      <a:pt x="30" y="80"/>
                    </a:lnTo>
                    <a:lnTo>
                      <a:pt x="40" y="90"/>
                    </a:lnTo>
                    <a:lnTo>
                      <a:pt x="50" y="90"/>
                    </a:lnTo>
                    <a:lnTo>
                      <a:pt x="61" y="90"/>
                    </a:lnTo>
                    <a:lnTo>
                      <a:pt x="71" y="80"/>
                    </a:lnTo>
                    <a:lnTo>
                      <a:pt x="81" y="69"/>
                    </a:lnTo>
                    <a:lnTo>
                      <a:pt x="81" y="69"/>
                    </a:lnTo>
                    <a:lnTo>
                      <a:pt x="91" y="60"/>
                    </a:lnTo>
                    <a:lnTo>
                      <a:pt x="91" y="50"/>
                    </a:lnTo>
                    <a:lnTo>
                      <a:pt x="91"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4" name=""/>
              <p:cNvSpPr/>
              <p:nvPr/>
            </p:nvSpPr>
            <p:spPr>
              <a:xfrm>
                <a:off x="5475960" y="5455800"/>
                <a:ext cx="6120" cy="5400"/>
              </a:xfrm>
              <a:custGeom>
                <a:avLst/>
                <a:gdLst/>
                <a:ahLst/>
                <a:rect l="l" t="t" r="r" b="b"/>
                <a:pathLst>
                  <a:path w="91" h="90">
                    <a:moveTo>
                      <a:pt x="91" y="41"/>
                    </a:moveTo>
                    <a:lnTo>
                      <a:pt x="91" y="31"/>
                    </a:lnTo>
                    <a:lnTo>
                      <a:pt x="81" y="31"/>
                    </a:lnTo>
                    <a:lnTo>
                      <a:pt x="81" y="10"/>
                    </a:lnTo>
                    <a:lnTo>
                      <a:pt x="81" y="10"/>
                    </a:lnTo>
                    <a:lnTo>
                      <a:pt x="61" y="0"/>
                    </a:lnTo>
                    <a:lnTo>
                      <a:pt x="61" y="0"/>
                    </a:lnTo>
                    <a:lnTo>
                      <a:pt x="50" y="0"/>
                    </a:lnTo>
                    <a:lnTo>
                      <a:pt x="40" y="0"/>
                    </a:lnTo>
                    <a:lnTo>
                      <a:pt x="30" y="10"/>
                    </a:lnTo>
                    <a:lnTo>
                      <a:pt x="10" y="10"/>
                    </a:lnTo>
                    <a:lnTo>
                      <a:pt x="10" y="10"/>
                    </a:lnTo>
                    <a:lnTo>
                      <a:pt x="10" y="31"/>
                    </a:lnTo>
                    <a:lnTo>
                      <a:pt x="0" y="31"/>
                    </a:lnTo>
                    <a:lnTo>
                      <a:pt x="0" y="51"/>
                    </a:lnTo>
                    <a:lnTo>
                      <a:pt x="0" y="61"/>
                    </a:lnTo>
                    <a:lnTo>
                      <a:pt x="10" y="61"/>
                    </a:lnTo>
                    <a:lnTo>
                      <a:pt x="10" y="80"/>
                    </a:lnTo>
                    <a:lnTo>
                      <a:pt x="20" y="80"/>
                    </a:lnTo>
                    <a:lnTo>
                      <a:pt x="30" y="80"/>
                    </a:lnTo>
                    <a:lnTo>
                      <a:pt x="40" y="90"/>
                    </a:lnTo>
                    <a:lnTo>
                      <a:pt x="50" y="90"/>
                    </a:lnTo>
                    <a:lnTo>
                      <a:pt x="61" y="90"/>
                    </a:lnTo>
                    <a:lnTo>
                      <a:pt x="71" y="80"/>
                    </a:lnTo>
                    <a:lnTo>
                      <a:pt x="81" y="80"/>
                    </a:lnTo>
                    <a:lnTo>
                      <a:pt x="81" y="70"/>
                    </a:lnTo>
                    <a:lnTo>
                      <a:pt x="91" y="61"/>
                    </a:lnTo>
                    <a:lnTo>
                      <a:pt x="91" y="61"/>
                    </a:lnTo>
                    <a:lnTo>
                      <a:pt x="91" y="41"/>
                    </a:lnTo>
                    <a:close/>
                  </a:path>
                </a:pathLst>
              </a:custGeom>
              <a:solidFill>
                <a:srgbClr val="ff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65" name=""/>
              <p:cNvSpPr/>
              <p:nvPr/>
            </p:nvSpPr>
            <p:spPr>
              <a:xfrm>
                <a:off x="5669640" y="5244120"/>
                <a:ext cx="211680" cy="234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5770440" y="5260320"/>
                <a:ext cx="6120" cy="5040"/>
              </a:xfrm>
              <a:custGeom>
                <a:avLst/>
                <a:gdLst/>
                <a:ahLst/>
                <a:rect l="l" t="t" r="r" b="b"/>
                <a:pathLst>
                  <a:path w="90" h="91">
                    <a:moveTo>
                      <a:pt x="90" y="40"/>
                    </a:moveTo>
                    <a:lnTo>
                      <a:pt x="90" y="30"/>
                    </a:lnTo>
                    <a:lnTo>
                      <a:pt x="80" y="30"/>
                    </a:lnTo>
                    <a:lnTo>
                      <a:pt x="80" y="10"/>
                    </a:lnTo>
                    <a:lnTo>
                      <a:pt x="80" y="10"/>
                    </a:lnTo>
                    <a:lnTo>
                      <a:pt x="60" y="0"/>
                    </a:lnTo>
                    <a:lnTo>
                      <a:pt x="50" y="0"/>
                    </a:lnTo>
                    <a:lnTo>
                      <a:pt x="50" y="0"/>
                    </a:lnTo>
                    <a:lnTo>
                      <a:pt x="31" y="0"/>
                    </a:lnTo>
                    <a:lnTo>
                      <a:pt x="31" y="10"/>
                    </a:lnTo>
                    <a:lnTo>
                      <a:pt x="10" y="10"/>
                    </a:lnTo>
                    <a:lnTo>
                      <a:pt x="10" y="10"/>
                    </a:lnTo>
                    <a:lnTo>
                      <a:pt x="10" y="30"/>
                    </a:lnTo>
                    <a:lnTo>
                      <a:pt x="0" y="30"/>
                    </a:lnTo>
                    <a:lnTo>
                      <a:pt x="0" y="50"/>
                    </a:lnTo>
                    <a:lnTo>
                      <a:pt x="0" y="60"/>
                    </a:lnTo>
                    <a:lnTo>
                      <a:pt x="10" y="60"/>
                    </a:lnTo>
                    <a:lnTo>
                      <a:pt x="10" y="81"/>
                    </a:lnTo>
                    <a:lnTo>
                      <a:pt x="20" y="81"/>
                    </a:lnTo>
                    <a:lnTo>
                      <a:pt x="31" y="81"/>
                    </a:lnTo>
                    <a:lnTo>
                      <a:pt x="31" y="91"/>
                    </a:lnTo>
                    <a:lnTo>
                      <a:pt x="50" y="91"/>
                    </a:lnTo>
                    <a:lnTo>
                      <a:pt x="50" y="91"/>
                    </a:lnTo>
                    <a:lnTo>
                      <a:pt x="70" y="81"/>
                    </a:lnTo>
                    <a:lnTo>
                      <a:pt x="80" y="81"/>
                    </a:lnTo>
                    <a:lnTo>
                      <a:pt x="80" y="70"/>
                    </a:lnTo>
                    <a:lnTo>
                      <a:pt x="90" y="60"/>
                    </a:lnTo>
                    <a:lnTo>
                      <a:pt x="90" y="60"/>
                    </a:lnTo>
                    <a:lnTo>
                      <a:pt x="90"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7" name=""/>
              <p:cNvSpPr/>
              <p:nvPr/>
            </p:nvSpPr>
            <p:spPr>
              <a:xfrm>
                <a:off x="5770440" y="5287680"/>
                <a:ext cx="6120" cy="5760"/>
              </a:xfrm>
              <a:custGeom>
                <a:avLst/>
                <a:gdLst/>
                <a:ahLst/>
                <a:rect l="l" t="t" r="r" b="b"/>
                <a:pathLst>
                  <a:path w="90" h="99">
                    <a:moveTo>
                      <a:pt x="90" y="48"/>
                    </a:moveTo>
                    <a:lnTo>
                      <a:pt x="90" y="38"/>
                    </a:lnTo>
                    <a:lnTo>
                      <a:pt x="80" y="30"/>
                    </a:lnTo>
                    <a:lnTo>
                      <a:pt x="80" y="20"/>
                    </a:lnTo>
                    <a:lnTo>
                      <a:pt x="80" y="10"/>
                    </a:lnTo>
                    <a:lnTo>
                      <a:pt x="60" y="0"/>
                    </a:lnTo>
                    <a:lnTo>
                      <a:pt x="50" y="0"/>
                    </a:lnTo>
                    <a:lnTo>
                      <a:pt x="50" y="0"/>
                    </a:lnTo>
                    <a:lnTo>
                      <a:pt x="31" y="0"/>
                    </a:lnTo>
                    <a:lnTo>
                      <a:pt x="31" y="10"/>
                    </a:lnTo>
                    <a:lnTo>
                      <a:pt x="10" y="10"/>
                    </a:lnTo>
                    <a:lnTo>
                      <a:pt x="10" y="20"/>
                    </a:lnTo>
                    <a:lnTo>
                      <a:pt x="10" y="30"/>
                    </a:lnTo>
                    <a:lnTo>
                      <a:pt x="0" y="38"/>
                    </a:lnTo>
                    <a:lnTo>
                      <a:pt x="0" y="48"/>
                    </a:lnTo>
                    <a:lnTo>
                      <a:pt x="0" y="58"/>
                    </a:lnTo>
                    <a:lnTo>
                      <a:pt x="10" y="69"/>
                    </a:lnTo>
                    <a:lnTo>
                      <a:pt x="10" y="79"/>
                    </a:lnTo>
                    <a:lnTo>
                      <a:pt x="20" y="89"/>
                    </a:lnTo>
                    <a:lnTo>
                      <a:pt x="31" y="89"/>
                    </a:lnTo>
                    <a:lnTo>
                      <a:pt x="31" y="99"/>
                    </a:lnTo>
                    <a:lnTo>
                      <a:pt x="50" y="99"/>
                    </a:lnTo>
                    <a:lnTo>
                      <a:pt x="50" y="99"/>
                    </a:lnTo>
                    <a:lnTo>
                      <a:pt x="70" y="89"/>
                    </a:lnTo>
                    <a:lnTo>
                      <a:pt x="80" y="79"/>
                    </a:lnTo>
                    <a:lnTo>
                      <a:pt x="80" y="69"/>
                    </a:lnTo>
                    <a:lnTo>
                      <a:pt x="90" y="69"/>
                    </a:lnTo>
                    <a:lnTo>
                      <a:pt x="90" y="58"/>
                    </a:lnTo>
                    <a:lnTo>
                      <a:pt x="90" y="48"/>
                    </a:lnTo>
                    <a:close/>
                  </a:path>
                </a:pathLst>
              </a:cu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68" name=""/>
              <p:cNvSpPr/>
              <p:nvPr/>
            </p:nvSpPr>
            <p:spPr>
              <a:xfrm>
                <a:off x="5770440" y="5316480"/>
                <a:ext cx="6120" cy="5040"/>
              </a:xfrm>
              <a:custGeom>
                <a:avLst/>
                <a:gdLst/>
                <a:ahLst/>
                <a:rect l="l" t="t" r="r" b="b"/>
                <a:pathLst>
                  <a:path w="90" h="91">
                    <a:moveTo>
                      <a:pt x="90" y="41"/>
                    </a:moveTo>
                    <a:lnTo>
                      <a:pt x="90" y="31"/>
                    </a:lnTo>
                    <a:lnTo>
                      <a:pt x="80" y="21"/>
                    </a:lnTo>
                    <a:lnTo>
                      <a:pt x="80" y="10"/>
                    </a:lnTo>
                    <a:lnTo>
                      <a:pt x="80" y="0"/>
                    </a:lnTo>
                    <a:lnTo>
                      <a:pt x="60" y="0"/>
                    </a:lnTo>
                    <a:lnTo>
                      <a:pt x="50" y="0"/>
                    </a:lnTo>
                    <a:lnTo>
                      <a:pt x="50" y="0"/>
                    </a:lnTo>
                    <a:lnTo>
                      <a:pt x="31" y="0"/>
                    </a:lnTo>
                    <a:lnTo>
                      <a:pt x="31" y="0"/>
                    </a:lnTo>
                    <a:lnTo>
                      <a:pt x="10" y="0"/>
                    </a:lnTo>
                    <a:lnTo>
                      <a:pt x="10" y="10"/>
                    </a:lnTo>
                    <a:lnTo>
                      <a:pt x="10" y="21"/>
                    </a:lnTo>
                    <a:lnTo>
                      <a:pt x="0" y="31"/>
                    </a:lnTo>
                    <a:lnTo>
                      <a:pt x="0" y="51"/>
                    </a:lnTo>
                    <a:lnTo>
                      <a:pt x="0" y="51"/>
                    </a:lnTo>
                    <a:lnTo>
                      <a:pt x="10" y="61"/>
                    </a:lnTo>
                    <a:lnTo>
                      <a:pt x="10" y="71"/>
                    </a:lnTo>
                    <a:lnTo>
                      <a:pt x="20" y="81"/>
                    </a:lnTo>
                    <a:lnTo>
                      <a:pt x="31" y="81"/>
                    </a:lnTo>
                    <a:lnTo>
                      <a:pt x="31" y="91"/>
                    </a:lnTo>
                    <a:lnTo>
                      <a:pt x="50" y="91"/>
                    </a:lnTo>
                    <a:lnTo>
                      <a:pt x="50" y="91"/>
                    </a:lnTo>
                    <a:lnTo>
                      <a:pt x="70" y="81"/>
                    </a:lnTo>
                    <a:lnTo>
                      <a:pt x="80" y="71"/>
                    </a:lnTo>
                    <a:lnTo>
                      <a:pt x="80" y="71"/>
                    </a:lnTo>
                    <a:lnTo>
                      <a:pt x="90" y="61"/>
                    </a:lnTo>
                    <a:lnTo>
                      <a:pt x="90" y="51"/>
                    </a:lnTo>
                    <a:lnTo>
                      <a:pt x="90" y="41"/>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9" name=""/>
              <p:cNvSpPr/>
              <p:nvPr/>
            </p:nvSpPr>
            <p:spPr>
              <a:xfrm>
                <a:off x="5770440" y="5343480"/>
                <a:ext cx="6120" cy="5040"/>
              </a:xfrm>
              <a:custGeom>
                <a:avLst/>
                <a:gdLst/>
                <a:ahLst/>
                <a:rect l="l" t="t" r="r" b="b"/>
                <a:pathLst>
                  <a:path w="90" h="91">
                    <a:moveTo>
                      <a:pt x="90" y="40"/>
                    </a:moveTo>
                    <a:lnTo>
                      <a:pt x="90" y="40"/>
                    </a:lnTo>
                    <a:lnTo>
                      <a:pt x="80" y="30"/>
                    </a:lnTo>
                    <a:lnTo>
                      <a:pt x="80" y="10"/>
                    </a:lnTo>
                    <a:lnTo>
                      <a:pt x="80" y="10"/>
                    </a:lnTo>
                    <a:lnTo>
                      <a:pt x="60" y="0"/>
                    </a:lnTo>
                    <a:lnTo>
                      <a:pt x="50" y="0"/>
                    </a:lnTo>
                    <a:lnTo>
                      <a:pt x="50" y="0"/>
                    </a:lnTo>
                    <a:lnTo>
                      <a:pt x="31" y="0"/>
                    </a:lnTo>
                    <a:lnTo>
                      <a:pt x="31" y="10"/>
                    </a:lnTo>
                    <a:lnTo>
                      <a:pt x="10" y="10"/>
                    </a:lnTo>
                    <a:lnTo>
                      <a:pt x="10" y="10"/>
                    </a:lnTo>
                    <a:lnTo>
                      <a:pt x="10" y="30"/>
                    </a:lnTo>
                    <a:lnTo>
                      <a:pt x="0" y="40"/>
                    </a:lnTo>
                    <a:lnTo>
                      <a:pt x="0" y="50"/>
                    </a:lnTo>
                    <a:lnTo>
                      <a:pt x="0" y="60"/>
                    </a:lnTo>
                    <a:lnTo>
                      <a:pt x="10" y="60"/>
                    </a:lnTo>
                    <a:lnTo>
                      <a:pt x="10" y="81"/>
                    </a:lnTo>
                    <a:lnTo>
                      <a:pt x="20" y="91"/>
                    </a:lnTo>
                    <a:lnTo>
                      <a:pt x="31" y="91"/>
                    </a:lnTo>
                    <a:lnTo>
                      <a:pt x="31" y="91"/>
                    </a:lnTo>
                    <a:lnTo>
                      <a:pt x="50" y="91"/>
                    </a:lnTo>
                    <a:lnTo>
                      <a:pt x="50" y="91"/>
                    </a:lnTo>
                    <a:lnTo>
                      <a:pt x="70" y="91"/>
                    </a:lnTo>
                    <a:lnTo>
                      <a:pt x="80" y="81"/>
                    </a:lnTo>
                    <a:lnTo>
                      <a:pt x="80" y="70"/>
                    </a:lnTo>
                    <a:lnTo>
                      <a:pt x="90" y="60"/>
                    </a:lnTo>
                    <a:lnTo>
                      <a:pt x="90" y="60"/>
                    </a:lnTo>
                    <a:lnTo>
                      <a:pt x="90"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70" name=""/>
              <p:cNvSpPr/>
              <p:nvPr/>
            </p:nvSpPr>
            <p:spPr>
              <a:xfrm>
                <a:off x="5770440" y="5371560"/>
                <a:ext cx="6120" cy="5040"/>
              </a:xfrm>
              <a:custGeom>
                <a:avLst/>
                <a:gdLst/>
                <a:ahLst/>
                <a:rect l="l" t="t" r="r" b="b"/>
                <a:pathLst>
                  <a:path w="90" h="90">
                    <a:moveTo>
                      <a:pt x="90" y="49"/>
                    </a:moveTo>
                    <a:lnTo>
                      <a:pt x="90" y="39"/>
                    </a:lnTo>
                    <a:lnTo>
                      <a:pt x="80" y="29"/>
                    </a:lnTo>
                    <a:lnTo>
                      <a:pt x="80" y="19"/>
                    </a:lnTo>
                    <a:lnTo>
                      <a:pt x="80" y="10"/>
                    </a:lnTo>
                    <a:lnTo>
                      <a:pt x="60" y="0"/>
                    </a:lnTo>
                    <a:lnTo>
                      <a:pt x="50" y="0"/>
                    </a:lnTo>
                    <a:lnTo>
                      <a:pt x="50" y="0"/>
                    </a:lnTo>
                    <a:lnTo>
                      <a:pt x="31" y="0"/>
                    </a:lnTo>
                    <a:lnTo>
                      <a:pt x="31" y="10"/>
                    </a:lnTo>
                    <a:lnTo>
                      <a:pt x="10" y="10"/>
                    </a:lnTo>
                    <a:lnTo>
                      <a:pt x="10" y="19"/>
                    </a:lnTo>
                    <a:lnTo>
                      <a:pt x="10" y="29"/>
                    </a:lnTo>
                    <a:lnTo>
                      <a:pt x="0" y="39"/>
                    </a:lnTo>
                    <a:lnTo>
                      <a:pt x="0" y="49"/>
                    </a:lnTo>
                    <a:lnTo>
                      <a:pt x="0" y="60"/>
                    </a:lnTo>
                    <a:lnTo>
                      <a:pt x="10" y="70"/>
                    </a:lnTo>
                    <a:lnTo>
                      <a:pt x="10" y="80"/>
                    </a:lnTo>
                    <a:lnTo>
                      <a:pt x="20" y="90"/>
                    </a:lnTo>
                    <a:lnTo>
                      <a:pt x="31" y="90"/>
                    </a:lnTo>
                    <a:lnTo>
                      <a:pt x="31" y="90"/>
                    </a:lnTo>
                    <a:lnTo>
                      <a:pt x="50" y="90"/>
                    </a:lnTo>
                    <a:lnTo>
                      <a:pt x="50" y="90"/>
                    </a:lnTo>
                    <a:lnTo>
                      <a:pt x="70" y="90"/>
                    </a:lnTo>
                    <a:lnTo>
                      <a:pt x="80" y="80"/>
                    </a:lnTo>
                    <a:lnTo>
                      <a:pt x="80" y="70"/>
                    </a:lnTo>
                    <a:lnTo>
                      <a:pt x="90" y="70"/>
                    </a:lnTo>
                    <a:lnTo>
                      <a:pt x="90" y="60"/>
                    </a:lnTo>
                    <a:lnTo>
                      <a:pt x="90" y="49"/>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71" name=""/>
              <p:cNvSpPr/>
              <p:nvPr/>
            </p:nvSpPr>
            <p:spPr>
              <a:xfrm>
                <a:off x="5770440" y="5399640"/>
                <a:ext cx="6120" cy="5400"/>
              </a:xfrm>
              <a:custGeom>
                <a:avLst/>
                <a:gdLst/>
                <a:ahLst/>
                <a:rect l="l" t="t" r="r" b="b"/>
                <a:pathLst>
                  <a:path w="90" h="100">
                    <a:moveTo>
                      <a:pt x="90" y="50"/>
                    </a:moveTo>
                    <a:lnTo>
                      <a:pt x="90" y="40"/>
                    </a:lnTo>
                    <a:lnTo>
                      <a:pt x="80" y="30"/>
                    </a:lnTo>
                    <a:lnTo>
                      <a:pt x="80" y="21"/>
                    </a:lnTo>
                    <a:lnTo>
                      <a:pt x="80" y="11"/>
                    </a:lnTo>
                    <a:lnTo>
                      <a:pt x="60" y="0"/>
                    </a:lnTo>
                    <a:lnTo>
                      <a:pt x="50" y="0"/>
                    </a:lnTo>
                    <a:lnTo>
                      <a:pt x="50" y="0"/>
                    </a:lnTo>
                    <a:lnTo>
                      <a:pt x="31" y="0"/>
                    </a:lnTo>
                    <a:lnTo>
                      <a:pt x="31" y="11"/>
                    </a:lnTo>
                    <a:lnTo>
                      <a:pt x="10" y="11"/>
                    </a:lnTo>
                    <a:lnTo>
                      <a:pt x="10" y="21"/>
                    </a:lnTo>
                    <a:lnTo>
                      <a:pt x="10" y="30"/>
                    </a:lnTo>
                    <a:lnTo>
                      <a:pt x="0" y="40"/>
                    </a:lnTo>
                    <a:lnTo>
                      <a:pt x="0" y="50"/>
                    </a:lnTo>
                    <a:lnTo>
                      <a:pt x="0" y="60"/>
                    </a:lnTo>
                    <a:lnTo>
                      <a:pt x="10" y="70"/>
                    </a:lnTo>
                    <a:lnTo>
                      <a:pt x="10" y="80"/>
                    </a:lnTo>
                    <a:lnTo>
                      <a:pt x="20" y="90"/>
                    </a:lnTo>
                    <a:lnTo>
                      <a:pt x="31" y="90"/>
                    </a:lnTo>
                    <a:lnTo>
                      <a:pt x="31" y="100"/>
                    </a:lnTo>
                    <a:lnTo>
                      <a:pt x="50" y="100"/>
                    </a:lnTo>
                    <a:lnTo>
                      <a:pt x="50" y="100"/>
                    </a:lnTo>
                    <a:lnTo>
                      <a:pt x="70" y="90"/>
                    </a:lnTo>
                    <a:lnTo>
                      <a:pt x="80" y="80"/>
                    </a:lnTo>
                    <a:lnTo>
                      <a:pt x="80" y="80"/>
                    </a:lnTo>
                    <a:lnTo>
                      <a:pt x="90" y="70"/>
                    </a:lnTo>
                    <a:lnTo>
                      <a:pt x="90" y="60"/>
                    </a:lnTo>
                    <a:lnTo>
                      <a:pt x="90" y="50"/>
                    </a:lnTo>
                    <a:close/>
                  </a:path>
                </a:pathLst>
              </a:custGeom>
              <a:solidFill>
                <a:srgbClr val="ff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72" name=""/>
              <p:cNvSpPr/>
              <p:nvPr/>
            </p:nvSpPr>
            <p:spPr>
              <a:xfrm>
                <a:off x="5770440" y="5428080"/>
                <a:ext cx="6120" cy="5040"/>
              </a:xfrm>
              <a:custGeom>
                <a:avLst/>
                <a:gdLst/>
                <a:ahLst/>
                <a:rect l="l" t="t" r="r" b="b"/>
                <a:pathLst>
                  <a:path w="90" h="90">
                    <a:moveTo>
                      <a:pt x="90" y="40"/>
                    </a:moveTo>
                    <a:lnTo>
                      <a:pt x="90" y="30"/>
                    </a:lnTo>
                    <a:lnTo>
                      <a:pt x="80" y="30"/>
                    </a:lnTo>
                    <a:lnTo>
                      <a:pt x="80" y="10"/>
                    </a:lnTo>
                    <a:lnTo>
                      <a:pt x="80" y="0"/>
                    </a:lnTo>
                    <a:lnTo>
                      <a:pt x="60" y="0"/>
                    </a:lnTo>
                    <a:lnTo>
                      <a:pt x="50" y="0"/>
                    </a:lnTo>
                    <a:lnTo>
                      <a:pt x="50" y="0"/>
                    </a:lnTo>
                    <a:lnTo>
                      <a:pt x="31" y="0"/>
                    </a:lnTo>
                    <a:lnTo>
                      <a:pt x="31" y="0"/>
                    </a:lnTo>
                    <a:lnTo>
                      <a:pt x="10" y="0"/>
                    </a:lnTo>
                    <a:lnTo>
                      <a:pt x="10" y="10"/>
                    </a:lnTo>
                    <a:lnTo>
                      <a:pt x="10" y="30"/>
                    </a:lnTo>
                    <a:lnTo>
                      <a:pt x="0" y="30"/>
                    </a:lnTo>
                    <a:lnTo>
                      <a:pt x="0" y="50"/>
                    </a:lnTo>
                    <a:lnTo>
                      <a:pt x="0" y="50"/>
                    </a:lnTo>
                    <a:lnTo>
                      <a:pt x="10" y="60"/>
                    </a:lnTo>
                    <a:lnTo>
                      <a:pt x="10" y="69"/>
                    </a:lnTo>
                    <a:lnTo>
                      <a:pt x="20" y="80"/>
                    </a:lnTo>
                    <a:lnTo>
                      <a:pt x="31" y="80"/>
                    </a:lnTo>
                    <a:lnTo>
                      <a:pt x="31" y="90"/>
                    </a:lnTo>
                    <a:lnTo>
                      <a:pt x="50" y="90"/>
                    </a:lnTo>
                    <a:lnTo>
                      <a:pt x="50" y="90"/>
                    </a:lnTo>
                    <a:lnTo>
                      <a:pt x="70" y="80"/>
                    </a:lnTo>
                    <a:lnTo>
                      <a:pt x="80" y="69"/>
                    </a:lnTo>
                    <a:lnTo>
                      <a:pt x="80" y="69"/>
                    </a:lnTo>
                    <a:lnTo>
                      <a:pt x="90" y="60"/>
                    </a:lnTo>
                    <a:lnTo>
                      <a:pt x="90" y="50"/>
                    </a:lnTo>
                    <a:lnTo>
                      <a:pt x="90" y="4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73" name=""/>
              <p:cNvSpPr/>
              <p:nvPr/>
            </p:nvSpPr>
            <p:spPr>
              <a:xfrm>
                <a:off x="5770440" y="5455800"/>
                <a:ext cx="6120" cy="5400"/>
              </a:xfrm>
              <a:custGeom>
                <a:avLst/>
                <a:gdLst/>
                <a:ahLst/>
                <a:rect l="l" t="t" r="r" b="b"/>
                <a:pathLst>
                  <a:path w="90" h="90">
                    <a:moveTo>
                      <a:pt x="90" y="41"/>
                    </a:moveTo>
                    <a:lnTo>
                      <a:pt x="90" y="31"/>
                    </a:lnTo>
                    <a:lnTo>
                      <a:pt x="80" y="31"/>
                    </a:lnTo>
                    <a:lnTo>
                      <a:pt x="80" y="10"/>
                    </a:lnTo>
                    <a:lnTo>
                      <a:pt x="80" y="10"/>
                    </a:lnTo>
                    <a:lnTo>
                      <a:pt x="60" y="0"/>
                    </a:lnTo>
                    <a:lnTo>
                      <a:pt x="50" y="0"/>
                    </a:lnTo>
                    <a:lnTo>
                      <a:pt x="50" y="0"/>
                    </a:lnTo>
                    <a:lnTo>
                      <a:pt x="31" y="0"/>
                    </a:lnTo>
                    <a:lnTo>
                      <a:pt x="31" y="10"/>
                    </a:lnTo>
                    <a:lnTo>
                      <a:pt x="10" y="10"/>
                    </a:lnTo>
                    <a:lnTo>
                      <a:pt x="10" y="10"/>
                    </a:lnTo>
                    <a:lnTo>
                      <a:pt x="10" y="31"/>
                    </a:lnTo>
                    <a:lnTo>
                      <a:pt x="0" y="31"/>
                    </a:lnTo>
                    <a:lnTo>
                      <a:pt x="0" y="51"/>
                    </a:lnTo>
                    <a:lnTo>
                      <a:pt x="0" y="61"/>
                    </a:lnTo>
                    <a:lnTo>
                      <a:pt x="10" y="61"/>
                    </a:lnTo>
                    <a:lnTo>
                      <a:pt x="10" y="80"/>
                    </a:lnTo>
                    <a:lnTo>
                      <a:pt x="20" y="80"/>
                    </a:lnTo>
                    <a:lnTo>
                      <a:pt x="31" y="80"/>
                    </a:lnTo>
                    <a:lnTo>
                      <a:pt x="31" y="90"/>
                    </a:lnTo>
                    <a:lnTo>
                      <a:pt x="50" y="90"/>
                    </a:lnTo>
                    <a:lnTo>
                      <a:pt x="50" y="90"/>
                    </a:lnTo>
                    <a:lnTo>
                      <a:pt x="70" y="80"/>
                    </a:lnTo>
                    <a:lnTo>
                      <a:pt x="80" y="80"/>
                    </a:lnTo>
                    <a:lnTo>
                      <a:pt x="80" y="70"/>
                    </a:lnTo>
                    <a:lnTo>
                      <a:pt x="90" y="61"/>
                    </a:lnTo>
                    <a:lnTo>
                      <a:pt x="90" y="61"/>
                    </a:lnTo>
                    <a:lnTo>
                      <a:pt x="90" y="41"/>
                    </a:lnTo>
                    <a:close/>
                  </a:path>
                </a:pathLst>
              </a:custGeom>
              <a:solidFill>
                <a:srgbClr val="ff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1274" name=""/>
            <p:cNvGrpSpPr/>
            <p:nvPr/>
          </p:nvGrpSpPr>
          <p:grpSpPr>
            <a:xfrm>
              <a:off x="5003640" y="5978520"/>
              <a:ext cx="816120" cy="704880"/>
              <a:chOff x="5003640" y="5978520"/>
              <a:chExt cx="816120" cy="704880"/>
            </a:xfrm>
          </p:grpSpPr>
          <p:sp>
            <p:nvSpPr>
              <p:cNvPr id="1275" name=""/>
              <p:cNvSpPr/>
              <p:nvPr/>
            </p:nvSpPr>
            <p:spPr>
              <a:xfrm>
                <a:off x="5093280" y="6057000"/>
                <a:ext cx="726480" cy="626400"/>
              </a:xfrm>
              <a:custGeom>
                <a:avLst/>
                <a:gdLst/>
                <a:ahLst/>
                <a:rect l="l" t="t" r="r" b="b"/>
                <a:pathLst>
                  <a:path w="10620" h="10642">
                    <a:moveTo>
                      <a:pt x="9290" y="0"/>
                    </a:moveTo>
                    <a:lnTo>
                      <a:pt x="9290" y="9311"/>
                    </a:lnTo>
                    <a:lnTo>
                      <a:pt x="0" y="9311"/>
                    </a:lnTo>
                    <a:lnTo>
                      <a:pt x="0" y="10642"/>
                    </a:lnTo>
                    <a:lnTo>
                      <a:pt x="10620" y="10642"/>
                    </a:lnTo>
                    <a:lnTo>
                      <a:pt x="10620" y="0"/>
                    </a:lnTo>
                    <a:lnTo>
                      <a:pt x="92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003640" y="5978520"/>
                <a:ext cx="725760" cy="626400"/>
              </a:xfrm>
              <a:prstGeom prst="rect">
                <a:avLst/>
              </a:prstGeom>
              <a:solidFill>
                <a:srgbClr val="00ea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5253480" y="6212880"/>
                <a:ext cx="248760" cy="127440"/>
              </a:xfrm>
              <a:custGeom>
                <a:avLst/>
                <a:gdLst/>
                <a:ahLst/>
                <a:rect l="l" t="t" r="r" b="b"/>
                <a:pathLst>
                  <a:path w="3642" h="2163">
                    <a:moveTo>
                      <a:pt x="1982" y="0"/>
                    </a:moveTo>
                    <a:lnTo>
                      <a:pt x="3642" y="0"/>
                    </a:lnTo>
                    <a:lnTo>
                      <a:pt x="3642" y="2163"/>
                    </a:lnTo>
                    <a:lnTo>
                      <a:pt x="0" y="21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5389200" y="6447960"/>
                <a:ext cx="113040" cy="156600"/>
              </a:xfrm>
              <a:custGeom>
                <a:avLst/>
                <a:gdLst/>
                <a:ahLst/>
                <a:rect l="l" t="t" r="r" b="b"/>
                <a:pathLst>
                  <a:path w="1660" h="2670">
                    <a:moveTo>
                      <a:pt x="0" y="0"/>
                    </a:moveTo>
                    <a:lnTo>
                      <a:pt x="1660" y="0"/>
                    </a:lnTo>
                    <a:lnTo>
                      <a:pt x="1660" y="26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5253480" y="6105960"/>
                <a:ext cx="360" cy="49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5116320" y="6155280"/>
                <a:ext cx="271800" cy="115200"/>
              </a:xfrm>
              <a:custGeom>
                <a:avLst/>
                <a:gdLst/>
                <a:ahLst/>
                <a:rect l="l" t="t" r="r" b="b"/>
                <a:pathLst>
                  <a:path w="3979" h="1962">
                    <a:moveTo>
                      <a:pt x="0" y="977"/>
                    </a:moveTo>
                    <a:lnTo>
                      <a:pt x="1998" y="0"/>
                    </a:lnTo>
                    <a:lnTo>
                      <a:pt x="3979" y="977"/>
                    </a:lnTo>
                    <a:lnTo>
                      <a:pt x="1998" y="1962"/>
                    </a:lnTo>
                    <a:lnTo>
                      <a:pt x="0" y="977"/>
                    </a:lnTo>
                    <a:close/>
                  </a:path>
                </a:pathLst>
              </a:custGeom>
              <a:solidFill>
                <a:srgbClr val="0cc10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116320" y="6389640"/>
                <a:ext cx="271800" cy="118080"/>
              </a:xfrm>
              <a:custGeom>
                <a:avLst/>
                <a:gdLst/>
                <a:ahLst/>
                <a:rect l="l" t="t" r="r" b="b"/>
                <a:pathLst>
                  <a:path w="3979" h="2008">
                    <a:moveTo>
                      <a:pt x="0" y="1001"/>
                    </a:moveTo>
                    <a:lnTo>
                      <a:pt x="1998" y="0"/>
                    </a:lnTo>
                    <a:lnTo>
                      <a:pt x="3979" y="1001"/>
                    </a:lnTo>
                    <a:lnTo>
                      <a:pt x="1998" y="2008"/>
                    </a:lnTo>
                    <a:lnTo>
                      <a:pt x="0" y="1001"/>
                    </a:lnTo>
                    <a:close/>
                  </a:path>
                </a:pathLst>
              </a:custGeom>
              <a:solidFill>
                <a:srgbClr val="0cc10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5116320" y="5999040"/>
                <a:ext cx="272880" cy="104400"/>
              </a:xfrm>
              <a:prstGeom prst="rect">
                <a:avLst/>
              </a:prstGeom>
              <a:solidFill>
                <a:srgbClr val="ffea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5369040" y="6282720"/>
                <a:ext cx="222840" cy="950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5369040" y="6507720"/>
                <a:ext cx="222840" cy="75960"/>
              </a:xfrm>
              <a:prstGeom prst="rect">
                <a:avLst/>
              </a:prstGeom>
              <a:solidFill>
                <a:srgbClr val="ffea0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5" name=""/>
              <p:cNvSpPr/>
              <p:nvPr/>
            </p:nvSpPr>
            <p:spPr>
              <a:xfrm>
                <a:off x="5253480" y="6154200"/>
                <a:ext cx="384480" cy="450720"/>
              </a:xfrm>
              <a:custGeom>
                <a:avLst/>
                <a:gdLst/>
                <a:ahLst/>
                <a:rect l="l" t="t" r="r" b="b"/>
                <a:pathLst>
                  <a:path w="5622" h="7656">
                    <a:moveTo>
                      <a:pt x="0" y="0"/>
                    </a:moveTo>
                    <a:lnTo>
                      <a:pt x="5622" y="0"/>
                    </a:lnTo>
                    <a:lnTo>
                      <a:pt x="5622" y="76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071320" y="6291000"/>
                <a:ext cx="182160" cy="313560"/>
              </a:xfrm>
              <a:custGeom>
                <a:avLst/>
                <a:gdLst/>
                <a:ahLst/>
                <a:rect l="l" t="t" r="r" b="b"/>
                <a:pathLst>
                  <a:path w="2663" h="5334">
                    <a:moveTo>
                      <a:pt x="2663" y="0"/>
                    </a:moveTo>
                    <a:lnTo>
                      <a:pt x="0" y="0"/>
                    </a:lnTo>
                    <a:lnTo>
                      <a:pt x="0" y="53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5241960" y="6125040"/>
                <a:ext cx="20520" cy="19080"/>
              </a:xfrm>
              <a:custGeom>
                <a:avLst/>
                <a:gdLst/>
                <a:ahLst/>
                <a:rect l="l" t="t" r="r" b="b"/>
                <a:pathLst>
                  <a:path w="309" h="332">
                    <a:moveTo>
                      <a:pt x="169" y="332"/>
                    </a:moveTo>
                    <a:lnTo>
                      <a:pt x="0" y="0"/>
                    </a:lnTo>
                    <a:lnTo>
                      <a:pt x="309" y="0"/>
                    </a:lnTo>
                    <a:lnTo>
                      <a:pt x="169" y="33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88" name=""/>
              <p:cNvSpPr/>
              <p:nvPr/>
            </p:nvSpPr>
            <p:spPr>
              <a:xfrm>
                <a:off x="5492160" y="6252840"/>
                <a:ext cx="20520" cy="18360"/>
              </a:xfrm>
              <a:custGeom>
                <a:avLst/>
                <a:gdLst/>
                <a:ahLst/>
                <a:rect l="l" t="t" r="r" b="b"/>
                <a:pathLst>
                  <a:path w="311" h="316">
                    <a:moveTo>
                      <a:pt x="157" y="316"/>
                    </a:moveTo>
                    <a:lnTo>
                      <a:pt x="0" y="0"/>
                    </a:lnTo>
                    <a:lnTo>
                      <a:pt x="311" y="0"/>
                    </a:lnTo>
                    <a:lnTo>
                      <a:pt x="157" y="31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89" name=""/>
              <p:cNvSpPr/>
              <p:nvPr/>
            </p:nvSpPr>
            <p:spPr>
              <a:xfrm>
                <a:off x="5492160" y="6478200"/>
                <a:ext cx="20520" cy="18720"/>
              </a:xfrm>
              <a:custGeom>
                <a:avLst/>
                <a:gdLst/>
                <a:ahLst/>
                <a:rect l="l" t="t" r="r" b="b"/>
                <a:pathLst>
                  <a:path w="311" h="323">
                    <a:moveTo>
                      <a:pt x="157" y="323"/>
                    </a:moveTo>
                    <a:lnTo>
                      <a:pt x="0" y="0"/>
                    </a:lnTo>
                    <a:lnTo>
                      <a:pt x="311" y="0"/>
                    </a:lnTo>
                    <a:lnTo>
                      <a:pt x="157" y="32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0" name=""/>
              <p:cNvSpPr/>
              <p:nvPr/>
            </p:nvSpPr>
            <p:spPr>
              <a:xfrm>
                <a:off x="5241960" y="6359760"/>
                <a:ext cx="20520" cy="18720"/>
              </a:xfrm>
              <a:custGeom>
                <a:avLst/>
                <a:gdLst/>
                <a:ahLst/>
                <a:rect l="l" t="t" r="r" b="b"/>
                <a:pathLst>
                  <a:path w="309" h="325">
                    <a:moveTo>
                      <a:pt x="169" y="325"/>
                    </a:moveTo>
                    <a:lnTo>
                      <a:pt x="0" y="0"/>
                    </a:lnTo>
                    <a:lnTo>
                      <a:pt x="309" y="0"/>
                    </a:lnTo>
                    <a:lnTo>
                      <a:pt x="169" y="3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1" name=""/>
              <p:cNvSpPr/>
              <p:nvPr/>
            </p:nvSpPr>
            <p:spPr>
              <a:xfrm>
                <a:off x="5060520" y="6359760"/>
                <a:ext cx="21240" cy="18720"/>
              </a:xfrm>
              <a:custGeom>
                <a:avLst/>
                <a:gdLst/>
                <a:ahLst/>
                <a:rect l="l" t="t" r="r" b="b"/>
                <a:pathLst>
                  <a:path w="316" h="325">
                    <a:moveTo>
                      <a:pt x="162" y="325"/>
                    </a:moveTo>
                    <a:lnTo>
                      <a:pt x="0" y="0"/>
                    </a:lnTo>
                    <a:lnTo>
                      <a:pt x="316" y="0"/>
                    </a:lnTo>
                    <a:lnTo>
                      <a:pt x="162" y="3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2" name=""/>
              <p:cNvSpPr/>
              <p:nvPr/>
            </p:nvSpPr>
            <p:spPr>
              <a:xfrm>
                <a:off x="5627160" y="6418800"/>
                <a:ext cx="21240" cy="19800"/>
              </a:xfrm>
              <a:custGeom>
                <a:avLst/>
                <a:gdLst/>
                <a:ahLst/>
                <a:rect l="l" t="t" r="r" b="b"/>
                <a:pathLst>
                  <a:path w="309" h="332">
                    <a:moveTo>
                      <a:pt x="168" y="332"/>
                    </a:moveTo>
                    <a:lnTo>
                      <a:pt x="0" y="0"/>
                    </a:lnTo>
                    <a:lnTo>
                      <a:pt x="309" y="0"/>
                    </a:lnTo>
                    <a:lnTo>
                      <a:pt x="168" y="33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1293" name=""/>
            <p:cNvGrpSpPr/>
            <p:nvPr/>
          </p:nvGrpSpPr>
          <p:grpSpPr>
            <a:xfrm>
              <a:off x="3613320" y="4746600"/>
              <a:ext cx="1024920" cy="825120"/>
              <a:chOff x="3613320" y="4746600"/>
              <a:chExt cx="1024920" cy="825120"/>
            </a:xfrm>
          </p:grpSpPr>
          <p:sp>
            <p:nvSpPr>
              <p:cNvPr id="1294" name=""/>
              <p:cNvSpPr/>
              <p:nvPr/>
            </p:nvSpPr>
            <p:spPr>
              <a:xfrm>
                <a:off x="3725280" y="4840560"/>
                <a:ext cx="912960" cy="731160"/>
              </a:xfrm>
              <a:custGeom>
                <a:avLst/>
                <a:gdLst/>
                <a:ahLst/>
                <a:rect l="l" t="t" r="r" b="b"/>
                <a:pathLst>
                  <a:path w="10596" h="10610">
                    <a:moveTo>
                      <a:pt x="9269" y="0"/>
                    </a:moveTo>
                    <a:lnTo>
                      <a:pt x="9269" y="9283"/>
                    </a:lnTo>
                    <a:lnTo>
                      <a:pt x="0" y="9283"/>
                    </a:lnTo>
                    <a:lnTo>
                      <a:pt x="0" y="10610"/>
                    </a:lnTo>
                    <a:lnTo>
                      <a:pt x="10596" y="10610"/>
                    </a:lnTo>
                    <a:lnTo>
                      <a:pt x="10596" y="0"/>
                    </a:lnTo>
                    <a:lnTo>
                      <a:pt x="9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613320" y="4746600"/>
                <a:ext cx="913680" cy="738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3613320" y="4746600"/>
                <a:ext cx="285120" cy="738000"/>
              </a:xfrm>
              <a:prstGeom prst="rect">
                <a:avLst/>
              </a:prstGeom>
              <a:solidFill>
                <a:srgbClr val="00ea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901680" y="4838040"/>
                <a:ext cx="62496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8" name=""/>
              <p:cNvSpPr/>
              <p:nvPr/>
            </p:nvSpPr>
            <p:spPr>
              <a:xfrm>
                <a:off x="3901680" y="4930200"/>
                <a:ext cx="62496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9" name=""/>
              <p:cNvSpPr/>
              <p:nvPr/>
            </p:nvSpPr>
            <p:spPr>
              <a:xfrm>
                <a:off x="3901680" y="5023800"/>
                <a:ext cx="62496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00" name=""/>
              <p:cNvSpPr/>
              <p:nvPr/>
            </p:nvSpPr>
            <p:spPr>
              <a:xfrm>
                <a:off x="3901680" y="5115240"/>
                <a:ext cx="62496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01" name=""/>
              <p:cNvSpPr/>
              <p:nvPr/>
            </p:nvSpPr>
            <p:spPr>
              <a:xfrm>
                <a:off x="3901680" y="5207400"/>
                <a:ext cx="62496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02" name=""/>
              <p:cNvSpPr/>
              <p:nvPr/>
            </p:nvSpPr>
            <p:spPr>
              <a:xfrm>
                <a:off x="3901680" y="5299200"/>
                <a:ext cx="62496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03" name=""/>
              <p:cNvSpPr/>
              <p:nvPr/>
            </p:nvSpPr>
            <p:spPr>
              <a:xfrm>
                <a:off x="3901680" y="5391720"/>
                <a:ext cx="62496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04" name=""/>
              <p:cNvSpPr/>
              <p:nvPr/>
            </p:nvSpPr>
            <p:spPr>
              <a:xfrm>
                <a:off x="4015080" y="4746600"/>
                <a:ext cx="360" cy="73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3905280" y="4746600"/>
                <a:ext cx="720" cy="73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4128120" y="4746600"/>
                <a:ext cx="360" cy="73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242240" y="4746600"/>
                <a:ext cx="360" cy="73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4356720" y="4746600"/>
                <a:ext cx="360" cy="73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471920" y="4746600"/>
                <a:ext cx="720" cy="73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900600" y="4792320"/>
                <a:ext cx="810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1" name=""/>
              <p:cNvSpPr/>
              <p:nvPr/>
            </p:nvSpPr>
            <p:spPr>
              <a:xfrm>
                <a:off x="3900600" y="5070240"/>
                <a:ext cx="810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2" name=""/>
              <p:cNvSpPr/>
              <p:nvPr/>
            </p:nvSpPr>
            <p:spPr>
              <a:xfrm>
                <a:off x="3900600" y="4885560"/>
                <a:ext cx="810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3" name=""/>
              <p:cNvSpPr/>
              <p:nvPr/>
            </p:nvSpPr>
            <p:spPr>
              <a:xfrm>
                <a:off x="3900600" y="5161680"/>
                <a:ext cx="810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4" name=""/>
              <p:cNvSpPr/>
              <p:nvPr/>
            </p:nvSpPr>
            <p:spPr>
              <a:xfrm>
                <a:off x="3900600" y="5346360"/>
                <a:ext cx="810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5" name=""/>
              <p:cNvSpPr/>
              <p:nvPr/>
            </p:nvSpPr>
            <p:spPr>
              <a:xfrm>
                <a:off x="3900600" y="4977720"/>
                <a:ext cx="810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6" name=""/>
              <p:cNvSpPr/>
              <p:nvPr/>
            </p:nvSpPr>
            <p:spPr>
              <a:xfrm>
                <a:off x="3900600" y="5254560"/>
                <a:ext cx="810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7" name=""/>
              <p:cNvSpPr/>
              <p:nvPr/>
            </p:nvSpPr>
            <p:spPr>
              <a:xfrm>
                <a:off x="3900600" y="5438160"/>
                <a:ext cx="810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8" name=""/>
              <p:cNvSpPr/>
              <p:nvPr/>
            </p:nvSpPr>
            <p:spPr>
              <a:xfrm>
                <a:off x="3699360" y="4792320"/>
                <a:ext cx="170640" cy="137880"/>
              </a:xfrm>
              <a:custGeom>
                <a:avLst/>
                <a:gdLst/>
                <a:ahLst/>
                <a:rect l="l" t="t" r="r" b="b"/>
                <a:pathLst>
                  <a:path w="1983" h="1996">
                    <a:moveTo>
                      <a:pt x="1983" y="0"/>
                    </a:moveTo>
                    <a:lnTo>
                      <a:pt x="0" y="1996"/>
                    </a:lnTo>
                    <a:lnTo>
                      <a:pt x="1983" y="1996"/>
                    </a:lnTo>
                    <a:lnTo>
                      <a:pt x="19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699360" y="4792320"/>
                <a:ext cx="170640" cy="137880"/>
              </a:xfrm>
              <a:custGeom>
                <a:avLst/>
                <a:gdLst/>
                <a:ahLst/>
                <a:rect l="l" t="t" r="r" b="b"/>
                <a:pathLst>
                  <a:path w="1983" h="1996">
                    <a:moveTo>
                      <a:pt x="1983" y="0"/>
                    </a:moveTo>
                    <a:lnTo>
                      <a:pt x="0" y="0"/>
                    </a:lnTo>
                    <a:lnTo>
                      <a:pt x="0" y="1996"/>
                    </a:lnTo>
                    <a:lnTo>
                      <a:pt x="1983"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3729600" y="4817520"/>
                <a:ext cx="105480" cy="86400"/>
              </a:xfrm>
              <a:prstGeom prst="rect">
                <a:avLst/>
              </a:prstGeom>
              <a:solidFill>
                <a:srgbClr val="ff0000"/>
              </a:solidFill>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21" name=""/>
              <p:cNvSpPr/>
              <p:nvPr/>
            </p:nvSpPr>
            <p:spPr>
              <a:xfrm>
                <a:off x="3699360" y="4977720"/>
                <a:ext cx="170640" cy="137520"/>
              </a:xfrm>
              <a:custGeom>
                <a:avLst/>
                <a:gdLst/>
                <a:ahLst/>
                <a:rect l="l" t="t" r="r" b="b"/>
                <a:pathLst>
                  <a:path w="1983" h="2002">
                    <a:moveTo>
                      <a:pt x="1983" y="0"/>
                    </a:moveTo>
                    <a:lnTo>
                      <a:pt x="0" y="2002"/>
                    </a:lnTo>
                    <a:lnTo>
                      <a:pt x="1983" y="2002"/>
                    </a:lnTo>
                    <a:lnTo>
                      <a:pt x="19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3699360" y="4977720"/>
                <a:ext cx="170640" cy="137520"/>
              </a:xfrm>
              <a:custGeom>
                <a:avLst/>
                <a:gdLst/>
                <a:ahLst/>
                <a:rect l="l" t="t" r="r" b="b"/>
                <a:pathLst>
                  <a:path w="1983" h="2002">
                    <a:moveTo>
                      <a:pt x="1983" y="0"/>
                    </a:moveTo>
                    <a:lnTo>
                      <a:pt x="0" y="0"/>
                    </a:lnTo>
                    <a:lnTo>
                      <a:pt x="0" y="2002"/>
                    </a:lnTo>
                    <a:lnTo>
                      <a:pt x="1983"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3729600" y="5001840"/>
                <a:ext cx="105480" cy="86040"/>
              </a:xfrm>
              <a:prstGeom prst="rect">
                <a:avLst/>
              </a:pr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324" name=""/>
              <p:cNvSpPr/>
              <p:nvPr/>
            </p:nvSpPr>
            <p:spPr>
              <a:xfrm>
                <a:off x="3699360" y="5161680"/>
                <a:ext cx="170640" cy="137160"/>
              </a:xfrm>
              <a:custGeom>
                <a:avLst/>
                <a:gdLst/>
                <a:ahLst/>
                <a:rect l="l" t="t" r="r" b="b"/>
                <a:pathLst>
                  <a:path w="1983" h="1994">
                    <a:moveTo>
                      <a:pt x="1983" y="0"/>
                    </a:moveTo>
                    <a:lnTo>
                      <a:pt x="0" y="1994"/>
                    </a:lnTo>
                    <a:lnTo>
                      <a:pt x="1983" y="1994"/>
                    </a:lnTo>
                    <a:lnTo>
                      <a:pt x="19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3699360" y="5161680"/>
                <a:ext cx="170640" cy="137160"/>
              </a:xfrm>
              <a:custGeom>
                <a:avLst/>
                <a:gdLst/>
                <a:ahLst/>
                <a:rect l="l" t="t" r="r" b="b"/>
                <a:pathLst>
                  <a:path w="1983" h="1994">
                    <a:moveTo>
                      <a:pt x="1983" y="0"/>
                    </a:moveTo>
                    <a:lnTo>
                      <a:pt x="0" y="0"/>
                    </a:lnTo>
                    <a:lnTo>
                      <a:pt x="0" y="1994"/>
                    </a:lnTo>
                    <a:lnTo>
                      <a:pt x="1983"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3729600" y="5186160"/>
                <a:ext cx="105480" cy="87480"/>
              </a:xfrm>
              <a:prstGeom prst="rect">
                <a:avLst/>
              </a:prstGeom>
              <a:solidFill>
                <a:srgbClr val="ff0000"/>
              </a:solid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27" name=""/>
              <p:cNvSpPr/>
              <p:nvPr/>
            </p:nvSpPr>
            <p:spPr>
              <a:xfrm>
                <a:off x="3699720" y="5346360"/>
                <a:ext cx="52920" cy="44640"/>
              </a:xfrm>
              <a:custGeom>
                <a:avLst/>
                <a:gdLst/>
                <a:ahLst/>
                <a:rect l="l" t="t" r="r" b="b"/>
                <a:pathLst>
                  <a:path w="621" h="646">
                    <a:moveTo>
                      <a:pt x="307" y="0"/>
                    </a:moveTo>
                    <a:lnTo>
                      <a:pt x="485" y="62"/>
                    </a:lnTo>
                    <a:lnTo>
                      <a:pt x="614" y="220"/>
                    </a:lnTo>
                    <a:lnTo>
                      <a:pt x="621" y="353"/>
                    </a:lnTo>
                    <a:lnTo>
                      <a:pt x="570" y="524"/>
                    </a:lnTo>
                    <a:lnTo>
                      <a:pt x="395" y="646"/>
                    </a:lnTo>
                    <a:lnTo>
                      <a:pt x="228" y="646"/>
                    </a:lnTo>
                    <a:lnTo>
                      <a:pt x="49" y="524"/>
                    </a:lnTo>
                    <a:lnTo>
                      <a:pt x="0" y="317"/>
                    </a:lnTo>
                    <a:lnTo>
                      <a:pt x="49" y="141"/>
                    </a:lnTo>
                    <a:lnTo>
                      <a:pt x="228" y="16"/>
                    </a:lnTo>
                    <a:lnTo>
                      <a:pt x="307"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8" name=""/>
              <p:cNvSpPr/>
              <p:nvPr/>
            </p:nvSpPr>
            <p:spPr>
              <a:xfrm>
                <a:off x="3706920" y="5353200"/>
                <a:ext cx="26640" cy="23040"/>
              </a:xfrm>
              <a:custGeom>
                <a:avLst/>
                <a:gdLst/>
                <a:ahLst/>
                <a:rect l="l" t="t" r="r" b="b"/>
                <a:pathLst>
                  <a:path w="314" h="337">
                    <a:moveTo>
                      <a:pt x="154" y="0"/>
                    </a:moveTo>
                    <a:lnTo>
                      <a:pt x="314" y="155"/>
                    </a:lnTo>
                    <a:lnTo>
                      <a:pt x="203" y="337"/>
                    </a:lnTo>
                    <a:lnTo>
                      <a:pt x="37" y="286"/>
                    </a:lnTo>
                    <a:lnTo>
                      <a:pt x="0" y="155"/>
                    </a:lnTo>
                    <a:lnTo>
                      <a:pt x="154" y="0"/>
                    </a:lnTo>
                    <a:close/>
                  </a:path>
                </a:pathLst>
              </a:custGeom>
              <a:solidFill>
                <a:srgbClr val="ffffff"/>
              </a:solid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29" name=""/>
              <p:cNvSpPr/>
              <p:nvPr/>
            </p:nvSpPr>
            <p:spPr>
              <a:xfrm>
                <a:off x="3813840" y="5346360"/>
                <a:ext cx="54360" cy="44640"/>
              </a:xfrm>
              <a:custGeom>
                <a:avLst/>
                <a:gdLst/>
                <a:ahLst/>
                <a:rect l="l" t="t" r="r" b="b"/>
                <a:pathLst>
                  <a:path w="631" h="646">
                    <a:moveTo>
                      <a:pt x="317" y="0"/>
                    </a:moveTo>
                    <a:lnTo>
                      <a:pt x="493" y="62"/>
                    </a:lnTo>
                    <a:lnTo>
                      <a:pt x="617" y="220"/>
                    </a:lnTo>
                    <a:lnTo>
                      <a:pt x="631" y="353"/>
                    </a:lnTo>
                    <a:lnTo>
                      <a:pt x="580" y="524"/>
                    </a:lnTo>
                    <a:lnTo>
                      <a:pt x="405" y="646"/>
                    </a:lnTo>
                    <a:lnTo>
                      <a:pt x="216" y="646"/>
                    </a:lnTo>
                    <a:lnTo>
                      <a:pt x="59" y="524"/>
                    </a:lnTo>
                    <a:lnTo>
                      <a:pt x="0" y="317"/>
                    </a:lnTo>
                    <a:lnTo>
                      <a:pt x="59" y="141"/>
                    </a:lnTo>
                    <a:lnTo>
                      <a:pt x="216" y="16"/>
                    </a:lnTo>
                    <a:lnTo>
                      <a:pt x="317"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30" name=""/>
              <p:cNvSpPr/>
              <p:nvPr/>
            </p:nvSpPr>
            <p:spPr>
              <a:xfrm>
                <a:off x="3821040" y="5353200"/>
                <a:ext cx="27360" cy="23040"/>
              </a:xfrm>
              <a:custGeom>
                <a:avLst/>
                <a:gdLst/>
                <a:ahLst/>
                <a:rect l="l" t="t" r="r" b="b"/>
                <a:pathLst>
                  <a:path w="321" h="337">
                    <a:moveTo>
                      <a:pt x="158" y="0"/>
                    </a:moveTo>
                    <a:lnTo>
                      <a:pt x="321" y="155"/>
                    </a:lnTo>
                    <a:lnTo>
                      <a:pt x="204" y="337"/>
                    </a:lnTo>
                    <a:lnTo>
                      <a:pt x="35" y="286"/>
                    </a:lnTo>
                    <a:lnTo>
                      <a:pt x="0" y="155"/>
                    </a:lnTo>
                    <a:lnTo>
                      <a:pt x="158" y="0"/>
                    </a:lnTo>
                    <a:close/>
                  </a:path>
                </a:pathLst>
              </a:custGeom>
              <a:solidFill>
                <a:srgbClr val="ffffff"/>
              </a:solid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31" name=""/>
              <p:cNvSpPr/>
              <p:nvPr/>
            </p:nvSpPr>
            <p:spPr>
              <a:xfrm>
                <a:off x="3898440" y="4978800"/>
                <a:ext cx="628560" cy="185040"/>
              </a:xfrm>
              <a:custGeom>
                <a:avLst/>
                <a:gdLst/>
                <a:ahLst/>
                <a:rect l="l" t="t" r="r" b="b"/>
                <a:pathLst>
                  <a:path w="7298" h="2689">
                    <a:moveTo>
                      <a:pt x="0" y="1347"/>
                    </a:moveTo>
                    <a:lnTo>
                      <a:pt x="668" y="1347"/>
                    </a:lnTo>
                    <a:lnTo>
                      <a:pt x="668" y="2689"/>
                    </a:lnTo>
                    <a:lnTo>
                      <a:pt x="1994" y="2689"/>
                    </a:lnTo>
                    <a:lnTo>
                      <a:pt x="1994" y="1347"/>
                    </a:lnTo>
                    <a:lnTo>
                      <a:pt x="3305" y="1347"/>
                    </a:lnTo>
                    <a:lnTo>
                      <a:pt x="3305" y="2689"/>
                    </a:lnTo>
                    <a:lnTo>
                      <a:pt x="4633" y="2689"/>
                    </a:lnTo>
                    <a:lnTo>
                      <a:pt x="4633" y="1347"/>
                    </a:lnTo>
                    <a:lnTo>
                      <a:pt x="5973" y="1347"/>
                    </a:lnTo>
                    <a:lnTo>
                      <a:pt x="5973" y="0"/>
                    </a:lnTo>
                    <a:lnTo>
                      <a:pt x="729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onceitos de Modelagem de Processo </a:t>
            </a:r>
            <a:endParaRPr b="0" lang="en-US" sz="2400" spc="-1" strike="noStrike">
              <a:solidFill>
                <a:srgbClr val="000096"/>
              </a:solidFill>
              <a:latin typeface="Arial"/>
            </a:endParaRPr>
          </a:p>
        </p:txBody>
      </p:sp>
      <p:sp>
        <p:nvSpPr>
          <p:cNvPr id="1333" name=""/>
          <p:cNvSpPr/>
          <p:nvPr/>
        </p:nvSpPr>
        <p:spPr>
          <a:xfrm>
            <a:off x="54000" y="1235160"/>
            <a:ext cx="2651040" cy="16477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ção de Processo de Negócio</a:t>
            </a:r>
            <a:endParaRPr b="0" lang="en-US" sz="2400" spc="-1" strike="noStrike">
              <a:solidFill>
                <a:srgbClr val="000000"/>
              </a:solidFill>
              <a:latin typeface="Arial"/>
            </a:endParaRPr>
          </a:p>
        </p:txBody>
      </p:sp>
      <p:sp>
        <p:nvSpPr>
          <p:cNvPr id="1334" name=""/>
          <p:cNvSpPr/>
          <p:nvPr/>
        </p:nvSpPr>
        <p:spPr>
          <a:xfrm>
            <a:off x="3139920" y="1279440"/>
            <a:ext cx="2751120" cy="15591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ção de Modelos de Referência</a:t>
            </a:r>
            <a:endParaRPr b="0" lang="en-US" sz="2400" spc="-1" strike="noStrike">
              <a:solidFill>
                <a:srgbClr val="000000"/>
              </a:solidFill>
              <a:latin typeface="Arial"/>
            </a:endParaRPr>
          </a:p>
        </p:txBody>
      </p:sp>
      <p:sp>
        <p:nvSpPr>
          <p:cNvPr id="1335" name=""/>
          <p:cNvSpPr/>
          <p:nvPr/>
        </p:nvSpPr>
        <p:spPr>
          <a:xfrm>
            <a:off x="6389640" y="1293840"/>
            <a:ext cx="2617920" cy="1528560"/>
          </a:xfrm>
          <a:prstGeom prst="roundRect">
            <a:avLst>
              <a:gd name="adj" fmla="val 16667"/>
            </a:avLst>
          </a:prstGeom>
          <a:solidFill>
            <a:srgbClr val="ff3300"/>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ça entre Processos de Negócio e Projetos</a:t>
            </a:r>
            <a:endParaRPr b="0" lang="en-US" sz="2400" spc="-1" strike="noStrike">
              <a:solidFill>
                <a:srgbClr val="000000"/>
              </a:solidFill>
              <a:latin typeface="Arial"/>
            </a:endParaRPr>
          </a:p>
        </p:txBody>
      </p:sp>
      <p:cxnSp>
        <p:nvCxnSpPr>
          <p:cNvPr id="1336" name=""/>
          <p:cNvCxnSpPr>
            <a:stCxn id="1333" idx="2"/>
            <a:endCxn id="1337" idx="0"/>
          </p:cNvCxnSpPr>
          <p:nvPr/>
        </p:nvCxnSpPr>
        <p:spPr>
          <a:xfrm>
            <a:off x="1379160" y="2882520"/>
            <a:ext cx="1080" cy="1842120"/>
          </a:xfrm>
          <a:prstGeom prst="straightConnector1">
            <a:avLst/>
          </a:prstGeom>
          <a:ln w="38160">
            <a:solidFill>
              <a:srgbClr val="000000"/>
            </a:solidFill>
            <a:miter/>
            <a:tailEnd len="med" type="triangle" w="med"/>
          </a:ln>
        </p:spPr>
      </p:cxnSp>
      <p:cxnSp>
        <p:nvCxnSpPr>
          <p:cNvPr id="1338" name=""/>
          <p:cNvCxnSpPr>
            <a:stCxn id="1334" idx="2"/>
            <a:endCxn id="1339" idx="0"/>
          </p:cNvCxnSpPr>
          <p:nvPr/>
        </p:nvCxnSpPr>
        <p:spPr>
          <a:xfrm>
            <a:off x="4516200" y="2838600"/>
            <a:ext cx="1080" cy="1883520"/>
          </a:xfrm>
          <a:prstGeom prst="straightConnector1">
            <a:avLst/>
          </a:prstGeom>
          <a:ln w="38160">
            <a:solidFill>
              <a:srgbClr val="000000"/>
            </a:solidFill>
            <a:miter/>
            <a:tailEnd len="med" type="triangle" w="med"/>
          </a:ln>
        </p:spPr>
      </p:cxnSp>
      <p:cxnSp>
        <p:nvCxnSpPr>
          <p:cNvPr id="1340" name=""/>
          <p:cNvCxnSpPr>
            <a:stCxn id="1335" idx="2"/>
            <a:endCxn id="1341" idx="0"/>
          </p:cNvCxnSpPr>
          <p:nvPr/>
        </p:nvCxnSpPr>
        <p:spPr>
          <a:xfrm>
            <a:off x="7698960" y="2822040"/>
            <a:ext cx="1080" cy="1902600"/>
          </a:xfrm>
          <a:prstGeom prst="straightConnector1">
            <a:avLst/>
          </a:prstGeom>
          <a:ln w="38160">
            <a:solidFill>
              <a:srgbClr val="000000"/>
            </a:solidFill>
            <a:miter/>
            <a:tailEnd len="med" type="triangle" w="med"/>
          </a:ln>
        </p:spPr>
      </p:cxnSp>
      <p:grpSp>
        <p:nvGrpSpPr>
          <p:cNvPr id="1342" name=""/>
          <p:cNvGrpSpPr/>
          <p:nvPr/>
        </p:nvGrpSpPr>
        <p:grpSpPr>
          <a:xfrm>
            <a:off x="147600" y="4721400"/>
            <a:ext cx="8736120" cy="1558800"/>
            <a:chOff x="147600" y="4721400"/>
            <a:chExt cx="8736120" cy="1558800"/>
          </a:xfrm>
        </p:grpSpPr>
        <p:sp>
          <p:nvSpPr>
            <p:cNvPr id="1339" name=""/>
            <p:cNvSpPr/>
            <p:nvPr/>
          </p:nvSpPr>
          <p:spPr>
            <a:xfrm>
              <a:off x="147600" y="4721400"/>
              <a:ext cx="8736120" cy="15588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o de Referência para o Processo de Desenvolvimento de Produtos</a:t>
              </a:r>
              <a:endParaRPr b="0" lang="en-US" sz="2400" spc="-1" strike="noStrike">
                <a:solidFill>
                  <a:srgbClr val="000000"/>
                </a:solidFill>
                <a:latin typeface="Arial"/>
              </a:endParaRPr>
            </a:p>
          </p:txBody>
        </p:sp>
        <p:sp>
          <p:nvSpPr>
            <p:cNvPr id="1337" name=""/>
            <p:cNvSpPr/>
            <p:nvPr/>
          </p:nvSpPr>
          <p:spPr>
            <a:xfrm>
              <a:off x="1233360" y="4724280"/>
              <a:ext cx="292320" cy="17964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1" name=""/>
            <p:cNvSpPr/>
            <p:nvPr/>
          </p:nvSpPr>
          <p:spPr>
            <a:xfrm>
              <a:off x="7553160" y="4724280"/>
              <a:ext cx="292320" cy="17964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cxnSp>
        <p:nvCxnSpPr>
          <p:cNvPr id="1343" name=""/>
          <p:cNvCxnSpPr>
            <a:stCxn id="1333" idx="3"/>
            <a:endCxn id="1334" idx="1"/>
          </p:cNvCxnSpPr>
          <p:nvPr/>
        </p:nvCxnSpPr>
        <p:spPr>
          <a:xfrm>
            <a:off x="2705040" y="2058480"/>
            <a:ext cx="435600" cy="1080"/>
          </a:xfrm>
          <a:prstGeom prst="straightConnector1">
            <a:avLst/>
          </a:prstGeom>
          <a:ln w="38160">
            <a:solidFill>
              <a:srgbClr val="000000"/>
            </a:solidFill>
            <a:miter/>
            <a:tailEnd len="med" type="triangle" w="med"/>
          </a:ln>
        </p:spPr>
      </p:cxnSp>
      <p:cxnSp>
        <p:nvCxnSpPr>
          <p:cNvPr id="1344" name=""/>
          <p:cNvCxnSpPr>
            <a:stCxn id="1334" idx="3"/>
            <a:endCxn id="1335" idx="1"/>
          </p:cNvCxnSpPr>
          <p:nvPr/>
        </p:nvCxnSpPr>
        <p:spPr>
          <a:xfrm>
            <a:off x="5890680" y="2058480"/>
            <a:ext cx="499320" cy="10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Definição de projeto</a:t>
            </a:r>
            <a:endParaRPr b="0" lang="en-US" sz="2400" spc="-1" strike="noStrike">
              <a:solidFill>
                <a:srgbClr val="000096"/>
              </a:solidFill>
              <a:latin typeface="Arial"/>
            </a:endParaRPr>
          </a:p>
        </p:txBody>
      </p:sp>
      <p:sp>
        <p:nvSpPr>
          <p:cNvPr id="1346" name=""/>
          <p:cNvSpPr/>
          <p:nvPr/>
        </p:nvSpPr>
        <p:spPr>
          <a:xfrm>
            <a:off x="592200" y="4660920"/>
            <a:ext cx="7848360" cy="21096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reendimento temporário com o intuito de criar um produto ou serviço único. Tem começo e fim bem definidos. (PMBOK).</a:t>
            </a:r>
            <a:endParaRPr b="0" lang="en-US" sz="3200" spc="-1" strike="noStrike">
              <a:solidFill>
                <a:srgbClr val="000000"/>
              </a:solidFill>
              <a:latin typeface="Arial"/>
            </a:endParaRPr>
          </a:p>
        </p:txBody>
      </p:sp>
      <p:grpSp>
        <p:nvGrpSpPr>
          <p:cNvPr id="1347" name=""/>
          <p:cNvGrpSpPr/>
          <p:nvPr/>
        </p:nvGrpSpPr>
        <p:grpSpPr>
          <a:xfrm>
            <a:off x="304920" y="1300320"/>
            <a:ext cx="6598800" cy="1295280"/>
            <a:chOff x="304920" y="1300320"/>
            <a:chExt cx="6598800" cy="1295280"/>
          </a:xfrm>
        </p:grpSpPr>
        <p:grpSp>
          <p:nvGrpSpPr>
            <p:cNvPr id="1348" name=""/>
            <p:cNvGrpSpPr/>
            <p:nvPr/>
          </p:nvGrpSpPr>
          <p:grpSpPr>
            <a:xfrm>
              <a:off x="304920" y="1300320"/>
              <a:ext cx="5652720" cy="1295280"/>
              <a:chOff x="304920" y="1300320"/>
              <a:chExt cx="5652720" cy="1295280"/>
            </a:xfrm>
          </p:grpSpPr>
          <p:sp>
            <p:nvSpPr>
              <p:cNvPr id="1349" name=""/>
              <p:cNvSpPr/>
              <p:nvPr/>
            </p:nvSpPr>
            <p:spPr>
              <a:xfrm>
                <a:off x="304920" y="130032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723240" y="1300320"/>
                <a:ext cx="261720" cy="228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1194480" y="152892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1613520" y="152892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2084400" y="152892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2712600" y="14526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3549960" y="145260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4073400" y="1452600"/>
                <a:ext cx="261360" cy="228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4492080" y="145260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5015880" y="14526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5486760" y="14526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5696280" y="1833840"/>
                <a:ext cx="261360" cy="228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4806360" y="2062440"/>
                <a:ext cx="261720" cy="228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4282920" y="19098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3864240" y="190980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3445560" y="19098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2921760" y="190980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2503080" y="1909800"/>
                <a:ext cx="261360" cy="228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2084400" y="23670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1665720" y="206244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1194480" y="1986120"/>
                <a:ext cx="261720" cy="228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723240" y="198612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723240" y="168120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723240" y="236700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1247040" y="23670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2555640" y="23670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3026880" y="23670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3864240" y="236700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4282920" y="2367000"/>
                <a:ext cx="26136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4806360" y="236700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5277240" y="2214720"/>
                <a:ext cx="261720" cy="228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0" name=""/>
              <p:cNvCxnSpPr>
                <a:stCxn id="1349" idx="3"/>
                <a:endCxn id="1350" idx="1"/>
              </p:cNvCxnSpPr>
              <p:nvPr/>
            </p:nvCxnSpPr>
            <p:spPr>
              <a:xfrm>
                <a:off x="566280" y="1414440"/>
                <a:ext cx="157680" cy="1080"/>
              </a:xfrm>
              <a:prstGeom prst="bentConnector2">
                <a:avLst/>
              </a:prstGeom>
              <a:ln w="12600">
                <a:solidFill>
                  <a:srgbClr val="000000"/>
                </a:solidFill>
                <a:miter/>
              </a:ln>
            </p:spPr>
          </p:cxnSp>
          <p:cxnSp>
            <p:nvCxnSpPr>
              <p:cNvPr id="1381" name=""/>
              <p:cNvCxnSpPr>
                <a:stCxn id="1350" idx="3"/>
                <a:endCxn id="1351" idx="1"/>
              </p:cNvCxnSpPr>
              <p:nvPr/>
            </p:nvCxnSpPr>
            <p:spPr>
              <a:xfrm>
                <a:off x="984960" y="1414440"/>
                <a:ext cx="209880" cy="229320"/>
              </a:xfrm>
              <a:prstGeom prst="bentConnector3">
                <a:avLst>
                  <a:gd name="adj1" fmla="val 50000"/>
                </a:avLst>
              </a:prstGeom>
              <a:ln w="12600">
                <a:solidFill>
                  <a:srgbClr val="000000"/>
                </a:solidFill>
                <a:miter/>
              </a:ln>
            </p:spPr>
          </p:cxnSp>
          <p:cxnSp>
            <p:nvCxnSpPr>
              <p:cNvPr id="1382" name=""/>
              <p:cNvCxnSpPr>
                <a:stCxn id="1351" idx="3"/>
                <a:endCxn id="1352" idx="1"/>
              </p:cNvCxnSpPr>
              <p:nvPr/>
            </p:nvCxnSpPr>
            <p:spPr>
              <a:xfrm>
                <a:off x="1456560" y="1643040"/>
                <a:ext cx="157680" cy="1080"/>
              </a:xfrm>
              <a:prstGeom prst="bentConnector2">
                <a:avLst/>
              </a:prstGeom>
              <a:ln w="12600">
                <a:solidFill>
                  <a:srgbClr val="000000"/>
                </a:solidFill>
                <a:miter/>
              </a:ln>
            </p:spPr>
          </p:cxnSp>
          <p:cxnSp>
            <p:nvCxnSpPr>
              <p:cNvPr id="1383" name=""/>
              <p:cNvCxnSpPr>
                <a:stCxn id="1352" idx="3"/>
                <a:endCxn id="1353" idx="1"/>
              </p:cNvCxnSpPr>
              <p:nvPr/>
            </p:nvCxnSpPr>
            <p:spPr>
              <a:xfrm>
                <a:off x="1874880" y="1643040"/>
                <a:ext cx="209880" cy="1080"/>
              </a:xfrm>
              <a:prstGeom prst="bentConnector2">
                <a:avLst/>
              </a:prstGeom>
              <a:ln w="12600">
                <a:solidFill>
                  <a:srgbClr val="000000"/>
                </a:solidFill>
                <a:miter/>
              </a:ln>
            </p:spPr>
          </p:cxnSp>
          <p:cxnSp>
            <p:nvCxnSpPr>
              <p:cNvPr id="1384" name=""/>
              <p:cNvCxnSpPr>
                <a:stCxn id="1353" idx="3"/>
                <a:endCxn id="1366" idx="1"/>
              </p:cNvCxnSpPr>
              <p:nvPr/>
            </p:nvCxnSpPr>
            <p:spPr>
              <a:xfrm>
                <a:off x="2346120" y="1643400"/>
                <a:ext cx="157680" cy="381600"/>
              </a:xfrm>
              <a:prstGeom prst="bentConnector3">
                <a:avLst>
                  <a:gd name="adj1" fmla="val 49885"/>
                </a:avLst>
              </a:prstGeom>
              <a:ln w="12600">
                <a:solidFill>
                  <a:srgbClr val="000000"/>
                </a:solidFill>
                <a:miter/>
              </a:ln>
            </p:spPr>
          </p:cxnSp>
          <p:cxnSp>
            <p:nvCxnSpPr>
              <p:cNvPr id="1385" name=""/>
              <p:cNvCxnSpPr>
                <a:stCxn id="1353" idx="3"/>
                <a:endCxn id="1354" idx="1"/>
              </p:cNvCxnSpPr>
              <p:nvPr/>
            </p:nvCxnSpPr>
            <p:spPr>
              <a:xfrm flipV="1">
                <a:off x="2346120" y="1567080"/>
                <a:ext cx="367200" cy="76680"/>
              </a:xfrm>
              <a:prstGeom prst="bentConnector3">
                <a:avLst>
                  <a:gd name="adj1" fmla="val 49950"/>
                </a:avLst>
              </a:prstGeom>
              <a:ln w="12600">
                <a:solidFill>
                  <a:srgbClr val="000000"/>
                </a:solidFill>
                <a:miter/>
              </a:ln>
            </p:spPr>
          </p:cxnSp>
          <p:cxnSp>
            <p:nvCxnSpPr>
              <p:cNvPr id="1386" name=""/>
              <p:cNvCxnSpPr>
                <a:stCxn id="1366" idx="3"/>
                <a:endCxn id="1365" idx="1"/>
              </p:cNvCxnSpPr>
              <p:nvPr/>
            </p:nvCxnSpPr>
            <p:spPr>
              <a:xfrm>
                <a:off x="2764800" y="2023920"/>
                <a:ext cx="157680" cy="1080"/>
              </a:xfrm>
              <a:prstGeom prst="bentConnector2">
                <a:avLst/>
              </a:prstGeom>
              <a:ln w="12600">
                <a:solidFill>
                  <a:srgbClr val="000000"/>
                </a:solidFill>
                <a:miter/>
              </a:ln>
            </p:spPr>
          </p:cxnSp>
          <p:cxnSp>
            <p:nvCxnSpPr>
              <p:cNvPr id="1387" name=""/>
              <p:cNvCxnSpPr>
                <a:stCxn id="1365" idx="3"/>
                <a:endCxn id="1364" idx="1"/>
              </p:cNvCxnSpPr>
              <p:nvPr/>
            </p:nvCxnSpPr>
            <p:spPr>
              <a:xfrm>
                <a:off x="3183840" y="2023920"/>
                <a:ext cx="262080" cy="1080"/>
              </a:xfrm>
              <a:prstGeom prst="bentConnector2">
                <a:avLst/>
              </a:prstGeom>
              <a:ln w="12600">
                <a:solidFill>
                  <a:srgbClr val="000000"/>
                </a:solidFill>
                <a:miter/>
              </a:ln>
            </p:spPr>
          </p:cxnSp>
          <p:cxnSp>
            <p:nvCxnSpPr>
              <p:cNvPr id="1388" name=""/>
              <p:cNvCxnSpPr>
                <a:stCxn id="1354" idx="3"/>
                <a:endCxn id="1355" idx="1"/>
              </p:cNvCxnSpPr>
              <p:nvPr/>
            </p:nvCxnSpPr>
            <p:spPr>
              <a:xfrm>
                <a:off x="2973960" y="1566720"/>
                <a:ext cx="576360" cy="1080"/>
              </a:xfrm>
              <a:prstGeom prst="bentConnector2">
                <a:avLst/>
              </a:prstGeom>
              <a:ln w="12600">
                <a:solidFill>
                  <a:srgbClr val="000000"/>
                </a:solidFill>
                <a:miter/>
              </a:ln>
            </p:spPr>
          </p:cxnSp>
          <p:cxnSp>
            <p:nvCxnSpPr>
              <p:cNvPr id="1389" name=""/>
              <p:cNvCxnSpPr>
                <a:stCxn id="1355" idx="3"/>
                <a:endCxn id="1356" idx="1"/>
              </p:cNvCxnSpPr>
              <p:nvPr/>
            </p:nvCxnSpPr>
            <p:spPr>
              <a:xfrm>
                <a:off x="3812040" y="1566720"/>
                <a:ext cx="262080" cy="1080"/>
              </a:xfrm>
              <a:prstGeom prst="bentConnector2">
                <a:avLst/>
              </a:prstGeom>
              <a:ln w="12600">
                <a:solidFill>
                  <a:srgbClr val="000000"/>
                </a:solidFill>
                <a:miter/>
              </a:ln>
            </p:spPr>
          </p:cxnSp>
          <p:cxnSp>
            <p:nvCxnSpPr>
              <p:cNvPr id="1390" name=""/>
              <p:cNvCxnSpPr>
                <a:stCxn id="1371" idx="3"/>
                <a:endCxn id="1351" idx="1"/>
              </p:cNvCxnSpPr>
              <p:nvPr/>
            </p:nvCxnSpPr>
            <p:spPr>
              <a:xfrm flipV="1">
                <a:off x="984960" y="1642680"/>
                <a:ext cx="209880" cy="153000"/>
              </a:xfrm>
              <a:prstGeom prst="bentConnector3">
                <a:avLst>
                  <a:gd name="adj1" fmla="val 50000"/>
                </a:avLst>
              </a:prstGeom>
              <a:ln w="12600">
                <a:solidFill>
                  <a:srgbClr val="000000"/>
                </a:solidFill>
                <a:miter/>
              </a:ln>
            </p:spPr>
          </p:cxnSp>
          <p:cxnSp>
            <p:nvCxnSpPr>
              <p:cNvPr id="1391" name=""/>
              <p:cNvCxnSpPr>
                <a:stCxn id="1370" idx="3"/>
                <a:endCxn id="1369" idx="1"/>
              </p:cNvCxnSpPr>
              <p:nvPr/>
            </p:nvCxnSpPr>
            <p:spPr>
              <a:xfrm>
                <a:off x="984960" y="2100240"/>
                <a:ext cx="209880" cy="1080"/>
              </a:xfrm>
              <a:prstGeom prst="bentConnector2">
                <a:avLst/>
              </a:prstGeom>
              <a:ln w="12600">
                <a:solidFill>
                  <a:srgbClr val="000000"/>
                </a:solidFill>
                <a:miter/>
              </a:ln>
            </p:spPr>
          </p:cxnSp>
          <p:cxnSp>
            <p:nvCxnSpPr>
              <p:cNvPr id="1392" name=""/>
              <p:cNvCxnSpPr>
                <a:stCxn id="1369" idx="3"/>
                <a:endCxn id="1352" idx="1"/>
              </p:cNvCxnSpPr>
              <p:nvPr/>
            </p:nvCxnSpPr>
            <p:spPr>
              <a:xfrm flipV="1">
                <a:off x="1456560" y="1643040"/>
                <a:ext cx="157680" cy="457920"/>
              </a:xfrm>
              <a:prstGeom prst="bentConnector3">
                <a:avLst>
                  <a:gd name="adj1" fmla="val 49885"/>
                </a:avLst>
              </a:prstGeom>
              <a:ln w="12600">
                <a:solidFill>
                  <a:srgbClr val="000000"/>
                </a:solidFill>
                <a:miter/>
              </a:ln>
            </p:spPr>
          </p:cxnSp>
          <p:cxnSp>
            <p:nvCxnSpPr>
              <p:cNvPr id="1393" name=""/>
              <p:cNvCxnSpPr>
                <a:stCxn id="1365" idx="3"/>
                <a:endCxn id="1355" idx="1"/>
              </p:cNvCxnSpPr>
              <p:nvPr/>
            </p:nvCxnSpPr>
            <p:spPr>
              <a:xfrm flipV="1">
                <a:off x="3183480" y="1566720"/>
                <a:ext cx="366840" cy="457920"/>
              </a:xfrm>
              <a:prstGeom prst="bentConnector3">
                <a:avLst>
                  <a:gd name="adj1" fmla="val 50000"/>
                </a:avLst>
              </a:prstGeom>
              <a:ln w="12600">
                <a:solidFill>
                  <a:srgbClr val="000000"/>
                </a:solidFill>
                <a:miter/>
              </a:ln>
            </p:spPr>
          </p:cxnSp>
          <p:cxnSp>
            <p:nvCxnSpPr>
              <p:cNvPr id="1394" name=""/>
              <p:cNvCxnSpPr>
                <a:stCxn id="1364" idx="3"/>
                <a:endCxn id="1376" idx="1"/>
              </p:cNvCxnSpPr>
              <p:nvPr/>
            </p:nvCxnSpPr>
            <p:spPr>
              <a:xfrm>
                <a:off x="3706920" y="2024280"/>
                <a:ext cx="157680" cy="457920"/>
              </a:xfrm>
              <a:prstGeom prst="bentConnector3">
                <a:avLst>
                  <a:gd name="adj1" fmla="val 49885"/>
                </a:avLst>
              </a:prstGeom>
              <a:ln w="12600">
                <a:solidFill>
                  <a:srgbClr val="000000"/>
                </a:solidFill>
                <a:miter/>
              </a:ln>
            </p:spPr>
          </p:cxnSp>
          <p:cxnSp>
            <p:nvCxnSpPr>
              <p:cNvPr id="1395" name=""/>
              <p:cNvCxnSpPr>
                <a:stCxn id="1364" idx="3"/>
                <a:endCxn id="1363" idx="1"/>
              </p:cNvCxnSpPr>
              <p:nvPr/>
            </p:nvCxnSpPr>
            <p:spPr>
              <a:xfrm>
                <a:off x="3706920" y="2023920"/>
                <a:ext cx="157680" cy="1080"/>
              </a:xfrm>
              <a:prstGeom prst="bentConnector2">
                <a:avLst/>
              </a:prstGeom>
              <a:ln w="12600">
                <a:solidFill>
                  <a:srgbClr val="000000"/>
                </a:solidFill>
                <a:miter/>
              </a:ln>
            </p:spPr>
          </p:cxnSp>
          <p:cxnSp>
            <p:nvCxnSpPr>
              <p:cNvPr id="1396" name=""/>
              <p:cNvCxnSpPr>
                <a:stCxn id="1356" idx="3"/>
                <a:endCxn id="1357" idx="1"/>
              </p:cNvCxnSpPr>
              <p:nvPr/>
            </p:nvCxnSpPr>
            <p:spPr>
              <a:xfrm>
                <a:off x="4335120" y="1566720"/>
                <a:ext cx="157680" cy="1080"/>
              </a:xfrm>
              <a:prstGeom prst="bentConnector2">
                <a:avLst/>
              </a:prstGeom>
              <a:ln w="12600">
                <a:solidFill>
                  <a:srgbClr val="000000"/>
                </a:solidFill>
                <a:miter/>
              </a:ln>
            </p:spPr>
          </p:cxnSp>
          <p:cxnSp>
            <p:nvCxnSpPr>
              <p:cNvPr id="1397" name=""/>
              <p:cNvCxnSpPr>
                <a:stCxn id="1357" idx="3"/>
                <a:endCxn id="1358" idx="1"/>
              </p:cNvCxnSpPr>
              <p:nvPr/>
            </p:nvCxnSpPr>
            <p:spPr>
              <a:xfrm>
                <a:off x="4754160" y="1566720"/>
                <a:ext cx="262080" cy="1080"/>
              </a:xfrm>
              <a:prstGeom prst="bentConnector2">
                <a:avLst/>
              </a:prstGeom>
              <a:ln w="12600">
                <a:solidFill>
                  <a:srgbClr val="000000"/>
                </a:solidFill>
                <a:miter/>
              </a:ln>
            </p:spPr>
          </p:cxnSp>
          <p:cxnSp>
            <p:nvCxnSpPr>
              <p:cNvPr id="1398" name=""/>
              <p:cNvCxnSpPr>
                <a:stCxn id="1358" idx="3"/>
                <a:endCxn id="1359" idx="1"/>
              </p:cNvCxnSpPr>
              <p:nvPr/>
            </p:nvCxnSpPr>
            <p:spPr>
              <a:xfrm>
                <a:off x="5276880" y="1566720"/>
                <a:ext cx="209880" cy="1080"/>
              </a:xfrm>
              <a:prstGeom prst="bentConnector2">
                <a:avLst/>
              </a:prstGeom>
              <a:ln w="12600">
                <a:solidFill>
                  <a:srgbClr val="000000"/>
                </a:solidFill>
                <a:miter/>
              </a:ln>
            </p:spPr>
          </p:cxnSp>
          <p:cxnSp>
            <p:nvCxnSpPr>
              <p:cNvPr id="1399" name=""/>
              <p:cNvCxnSpPr>
                <a:stCxn id="1357" idx="3"/>
                <a:endCxn id="1360" idx="1"/>
              </p:cNvCxnSpPr>
              <p:nvPr/>
            </p:nvCxnSpPr>
            <p:spPr>
              <a:xfrm>
                <a:off x="4753800" y="1567080"/>
                <a:ext cx="942840" cy="381600"/>
              </a:xfrm>
              <a:prstGeom prst="bentConnector3">
                <a:avLst>
                  <a:gd name="adj1" fmla="val 13865"/>
                </a:avLst>
              </a:prstGeom>
              <a:ln w="12600">
                <a:solidFill>
                  <a:srgbClr val="000000"/>
                </a:solidFill>
                <a:miter/>
              </a:ln>
            </p:spPr>
          </p:cxnSp>
          <p:cxnSp>
            <p:nvCxnSpPr>
              <p:cNvPr id="1400" name=""/>
              <p:cNvCxnSpPr>
                <a:stCxn id="1372" idx="3"/>
                <a:endCxn id="1369" idx="1"/>
              </p:cNvCxnSpPr>
              <p:nvPr/>
            </p:nvCxnSpPr>
            <p:spPr>
              <a:xfrm flipV="1">
                <a:off x="984960" y="2100240"/>
                <a:ext cx="209880" cy="381600"/>
              </a:xfrm>
              <a:prstGeom prst="bentConnector3">
                <a:avLst>
                  <a:gd name="adj1" fmla="val 50000"/>
                </a:avLst>
              </a:prstGeom>
              <a:ln w="12600">
                <a:solidFill>
                  <a:srgbClr val="000000"/>
                </a:solidFill>
                <a:miter/>
              </a:ln>
            </p:spPr>
          </p:cxnSp>
          <p:cxnSp>
            <p:nvCxnSpPr>
              <p:cNvPr id="1401" name=""/>
              <p:cNvCxnSpPr>
                <a:stCxn id="1349" idx="3"/>
                <a:endCxn id="1370" idx="1"/>
              </p:cNvCxnSpPr>
              <p:nvPr/>
            </p:nvCxnSpPr>
            <p:spPr>
              <a:xfrm>
                <a:off x="566280" y="1414440"/>
                <a:ext cx="157680" cy="686520"/>
              </a:xfrm>
              <a:prstGeom prst="bentConnector3">
                <a:avLst>
                  <a:gd name="adj1" fmla="val 49885"/>
                </a:avLst>
              </a:prstGeom>
              <a:ln w="12600">
                <a:solidFill>
                  <a:srgbClr val="000000"/>
                </a:solidFill>
                <a:miter/>
              </a:ln>
            </p:spPr>
          </p:cxnSp>
          <p:cxnSp>
            <p:nvCxnSpPr>
              <p:cNvPr id="1402" name=""/>
              <p:cNvCxnSpPr>
                <a:stCxn id="1349" idx="3"/>
                <a:endCxn id="1371" idx="1"/>
              </p:cNvCxnSpPr>
              <p:nvPr/>
            </p:nvCxnSpPr>
            <p:spPr>
              <a:xfrm>
                <a:off x="566280" y="1414800"/>
                <a:ext cx="157680" cy="381600"/>
              </a:xfrm>
              <a:prstGeom prst="bentConnector3">
                <a:avLst>
                  <a:gd name="adj1" fmla="val 49885"/>
                </a:avLst>
              </a:prstGeom>
              <a:ln w="12600">
                <a:solidFill>
                  <a:srgbClr val="000000"/>
                </a:solidFill>
                <a:miter/>
              </a:ln>
            </p:spPr>
          </p:cxnSp>
          <p:cxnSp>
            <p:nvCxnSpPr>
              <p:cNvPr id="1403" name=""/>
              <p:cNvCxnSpPr>
                <a:stCxn id="1372" idx="3"/>
                <a:endCxn id="1373" idx="1"/>
              </p:cNvCxnSpPr>
              <p:nvPr/>
            </p:nvCxnSpPr>
            <p:spPr>
              <a:xfrm>
                <a:off x="985320" y="2481120"/>
                <a:ext cx="262080" cy="1080"/>
              </a:xfrm>
              <a:prstGeom prst="bentConnector2">
                <a:avLst/>
              </a:prstGeom>
              <a:ln w="12600">
                <a:solidFill>
                  <a:srgbClr val="000000"/>
                </a:solidFill>
                <a:miter/>
              </a:ln>
            </p:spPr>
          </p:cxnSp>
          <p:cxnSp>
            <p:nvCxnSpPr>
              <p:cNvPr id="1404" name=""/>
              <p:cNvCxnSpPr>
                <a:stCxn id="1373" idx="3"/>
                <a:endCxn id="1368" idx="1"/>
              </p:cNvCxnSpPr>
              <p:nvPr/>
            </p:nvCxnSpPr>
            <p:spPr>
              <a:xfrm flipV="1">
                <a:off x="1508400" y="2175840"/>
                <a:ext cx="157680" cy="305640"/>
              </a:xfrm>
              <a:prstGeom prst="bentConnector3">
                <a:avLst>
                  <a:gd name="adj1" fmla="val 49885"/>
                </a:avLst>
              </a:prstGeom>
              <a:ln w="12600">
                <a:solidFill>
                  <a:srgbClr val="000000"/>
                </a:solidFill>
                <a:miter/>
              </a:ln>
            </p:spPr>
          </p:cxnSp>
          <p:cxnSp>
            <p:nvCxnSpPr>
              <p:cNvPr id="1405" name=""/>
              <p:cNvCxnSpPr>
                <a:stCxn id="1368" idx="3"/>
                <a:endCxn id="1353" idx="1"/>
              </p:cNvCxnSpPr>
              <p:nvPr/>
            </p:nvCxnSpPr>
            <p:spPr>
              <a:xfrm flipV="1">
                <a:off x="1927440" y="1642680"/>
                <a:ext cx="157680" cy="533880"/>
              </a:xfrm>
              <a:prstGeom prst="bentConnector3">
                <a:avLst>
                  <a:gd name="adj1" fmla="val 49885"/>
                </a:avLst>
              </a:prstGeom>
              <a:ln w="12600">
                <a:solidFill>
                  <a:srgbClr val="000000"/>
                </a:solidFill>
                <a:miter/>
              </a:ln>
            </p:spPr>
          </p:cxnSp>
          <p:cxnSp>
            <p:nvCxnSpPr>
              <p:cNvPr id="1406" name=""/>
              <p:cNvCxnSpPr>
                <a:stCxn id="1373" idx="3"/>
                <a:endCxn id="1367" idx="1"/>
              </p:cNvCxnSpPr>
              <p:nvPr/>
            </p:nvCxnSpPr>
            <p:spPr>
              <a:xfrm>
                <a:off x="1508040" y="2481120"/>
                <a:ext cx="576360" cy="1080"/>
              </a:xfrm>
              <a:prstGeom prst="bentConnector2">
                <a:avLst/>
              </a:prstGeom>
              <a:ln w="12600">
                <a:solidFill>
                  <a:srgbClr val="000000"/>
                </a:solidFill>
                <a:miter/>
              </a:ln>
            </p:spPr>
          </p:cxnSp>
          <p:cxnSp>
            <p:nvCxnSpPr>
              <p:cNvPr id="1407" name=""/>
              <p:cNvCxnSpPr>
                <a:stCxn id="1367" idx="3"/>
                <a:endCxn id="1374" idx="1"/>
              </p:cNvCxnSpPr>
              <p:nvPr/>
            </p:nvCxnSpPr>
            <p:spPr>
              <a:xfrm>
                <a:off x="2345760" y="2481120"/>
                <a:ext cx="209880" cy="1080"/>
              </a:xfrm>
              <a:prstGeom prst="bentConnector2">
                <a:avLst/>
              </a:prstGeom>
              <a:ln w="12600">
                <a:solidFill>
                  <a:srgbClr val="000000"/>
                </a:solidFill>
                <a:miter/>
              </a:ln>
            </p:spPr>
          </p:cxnSp>
          <p:cxnSp>
            <p:nvCxnSpPr>
              <p:cNvPr id="1408" name=""/>
              <p:cNvCxnSpPr>
                <a:stCxn id="1374" idx="3"/>
                <a:endCxn id="1365" idx="1"/>
              </p:cNvCxnSpPr>
              <p:nvPr/>
            </p:nvCxnSpPr>
            <p:spPr>
              <a:xfrm flipV="1">
                <a:off x="2817360" y="2023920"/>
                <a:ext cx="105120" cy="457920"/>
              </a:xfrm>
              <a:prstGeom prst="bentConnector3">
                <a:avLst>
                  <a:gd name="adj1" fmla="val 49828"/>
                </a:avLst>
              </a:prstGeom>
              <a:ln w="12600">
                <a:solidFill>
                  <a:srgbClr val="000000"/>
                </a:solidFill>
                <a:miter/>
              </a:ln>
            </p:spPr>
          </p:cxnSp>
          <p:cxnSp>
            <p:nvCxnSpPr>
              <p:cNvPr id="1409" name=""/>
              <p:cNvCxnSpPr>
                <a:stCxn id="1374" idx="3"/>
                <a:endCxn id="1375" idx="1"/>
              </p:cNvCxnSpPr>
              <p:nvPr/>
            </p:nvCxnSpPr>
            <p:spPr>
              <a:xfrm>
                <a:off x="2817000" y="2481120"/>
                <a:ext cx="209880" cy="1080"/>
              </a:xfrm>
              <a:prstGeom prst="bentConnector2">
                <a:avLst/>
              </a:prstGeom>
              <a:ln w="12600">
                <a:solidFill>
                  <a:srgbClr val="000000"/>
                </a:solidFill>
                <a:miter/>
              </a:ln>
            </p:spPr>
          </p:cxnSp>
          <p:cxnSp>
            <p:nvCxnSpPr>
              <p:cNvPr id="1410" name=""/>
              <p:cNvCxnSpPr>
                <a:stCxn id="1375" idx="3"/>
                <a:endCxn id="1364" idx="1"/>
              </p:cNvCxnSpPr>
              <p:nvPr/>
            </p:nvCxnSpPr>
            <p:spPr>
              <a:xfrm flipV="1">
                <a:off x="3288240" y="2023920"/>
                <a:ext cx="157680" cy="457920"/>
              </a:xfrm>
              <a:prstGeom prst="bentConnector3">
                <a:avLst>
                  <a:gd name="adj1" fmla="val 49885"/>
                </a:avLst>
              </a:prstGeom>
              <a:ln w="12600">
                <a:solidFill>
                  <a:srgbClr val="000000"/>
                </a:solidFill>
                <a:miter/>
              </a:ln>
            </p:spPr>
          </p:cxnSp>
          <p:cxnSp>
            <p:nvCxnSpPr>
              <p:cNvPr id="1411" name=""/>
              <p:cNvCxnSpPr>
                <a:stCxn id="1363" idx="3"/>
                <a:endCxn id="1362" idx="1"/>
              </p:cNvCxnSpPr>
              <p:nvPr/>
            </p:nvCxnSpPr>
            <p:spPr>
              <a:xfrm>
                <a:off x="4125960" y="2023920"/>
                <a:ext cx="157680" cy="1080"/>
              </a:xfrm>
              <a:prstGeom prst="bentConnector2">
                <a:avLst/>
              </a:prstGeom>
              <a:ln w="12600">
                <a:solidFill>
                  <a:srgbClr val="000000"/>
                </a:solidFill>
                <a:miter/>
              </a:ln>
            </p:spPr>
          </p:cxnSp>
          <p:cxnSp>
            <p:nvCxnSpPr>
              <p:cNvPr id="1412" name=""/>
              <p:cNvCxnSpPr>
                <a:stCxn id="1362" idx="3"/>
                <a:endCxn id="1361" idx="1"/>
              </p:cNvCxnSpPr>
              <p:nvPr/>
            </p:nvCxnSpPr>
            <p:spPr>
              <a:xfrm>
                <a:off x="4544640" y="2023920"/>
                <a:ext cx="262080" cy="153000"/>
              </a:xfrm>
              <a:prstGeom prst="bentConnector3">
                <a:avLst>
                  <a:gd name="adj1" fmla="val 49931"/>
                </a:avLst>
              </a:prstGeom>
              <a:ln w="12600">
                <a:solidFill>
                  <a:srgbClr val="000000"/>
                </a:solidFill>
                <a:miter/>
              </a:ln>
            </p:spPr>
          </p:cxnSp>
          <p:cxnSp>
            <p:nvCxnSpPr>
              <p:cNvPr id="1413" name=""/>
              <p:cNvCxnSpPr>
                <a:stCxn id="1376" idx="3"/>
                <a:endCxn id="1362" idx="1"/>
              </p:cNvCxnSpPr>
              <p:nvPr/>
            </p:nvCxnSpPr>
            <p:spPr>
              <a:xfrm flipV="1">
                <a:off x="4125960" y="2023920"/>
                <a:ext cx="157680" cy="457920"/>
              </a:xfrm>
              <a:prstGeom prst="bentConnector3">
                <a:avLst>
                  <a:gd name="adj1" fmla="val 49885"/>
                </a:avLst>
              </a:prstGeom>
              <a:ln w="12600">
                <a:solidFill>
                  <a:srgbClr val="000000"/>
                </a:solidFill>
                <a:miter/>
              </a:ln>
            </p:spPr>
          </p:cxnSp>
          <p:cxnSp>
            <p:nvCxnSpPr>
              <p:cNvPr id="1414" name=""/>
              <p:cNvCxnSpPr>
                <a:stCxn id="1361" idx="3"/>
                <a:endCxn id="1379" idx="1"/>
              </p:cNvCxnSpPr>
              <p:nvPr/>
            </p:nvCxnSpPr>
            <p:spPr>
              <a:xfrm>
                <a:off x="5067720" y="2176560"/>
                <a:ext cx="209880" cy="153360"/>
              </a:xfrm>
              <a:prstGeom prst="bentConnector3">
                <a:avLst>
                  <a:gd name="adj1" fmla="val 50000"/>
                </a:avLst>
              </a:prstGeom>
              <a:ln w="12600">
                <a:solidFill>
                  <a:srgbClr val="000000"/>
                </a:solidFill>
                <a:miter/>
              </a:ln>
            </p:spPr>
          </p:cxnSp>
          <p:cxnSp>
            <p:nvCxnSpPr>
              <p:cNvPr id="1415" name=""/>
              <p:cNvCxnSpPr>
                <a:stCxn id="1376" idx="3"/>
                <a:endCxn id="1377" idx="1"/>
              </p:cNvCxnSpPr>
              <p:nvPr/>
            </p:nvCxnSpPr>
            <p:spPr>
              <a:xfrm>
                <a:off x="4125960" y="2481120"/>
                <a:ext cx="157680" cy="1080"/>
              </a:xfrm>
              <a:prstGeom prst="bentConnector2">
                <a:avLst/>
              </a:prstGeom>
              <a:ln w="12600">
                <a:solidFill>
                  <a:srgbClr val="000000"/>
                </a:solidFill>
                <a:miter/>
              </a:ln>
            </p:spPr>
          </p:cxnSp>
          <p:cxnSp>
            <p:nvCxnSpPr>
              <p:cNvPr id="1416" name=""/>
              <p:cNvCxnSpPr>
                <a:stCxn id="1377" idx="3"/>
                <a:endCxn id="1378" idx="1"/>
              </p:cNvCxnSpPr>
              <p:nvPr/>
            </p:nvCxnSpPr>
            <p:spPr>
              <a:xfrm>
                <a:off x="4544640" y="2481120"/>
                <a:ext cx="262080" cy="1080"/>
              </a:xfrm>
              <a:prstGeom prst="bentConnector2">
                <a:avLst/>
              </a:prstGeom>
              <a:ln w="12600">
                <a:solidFill>
                  <a:srgbClr val="000000"/>
                </a:solidFill>
                <a:miter/>
              </a:ln>
            </p:spPr>
          </p:cxnSp>
          <p:cxnSp>
            <p:nvCxnSpPr>
              <p:cNvPr id="1417" name=""/>
              <p:cNvCxnSpPr>
                <a:stCxn id="1378" idx="3"/>
                <a:endCxn id="1379" idx="1"/>
              </p:cNvCxnSpPr>
              <p:nvPr/>
            </p:nvCxnSpPr>
            <p:spPr>
              <a:xfrm flipV="1">
                <a:off x="5067720" y="2328480"/>
                <a:ext cx="209880" cy="153000"/>
              </a:xfrm>
              <a:prstGeom prst="bentConnector3">
                <a:avLst>
                  <a:gd name="adj1" fmla="val 50000"/>
                </a:avLst>
              </a:prstGeom>
              <a:ln w="12600">
                <a:solidFill>
                  <a:srgbClr val="000000"/>
                </a:solidFill>
                <a:miter/>
              </a:ln>
            </p:spPr>
          </p:cxnSp>
          <p:cxnSp>
            <p:nvCxnSpPr>
              <p:cNvPr id="1418" name=""/>
              <p:cNvCxnSpPr>
                <a:stCxn id="1379" idx="3"/>
                <a:endCxn id="1360" idx="1"/>
              </p:cNvCxnSpPr>
              <p:nvPr/>
            </p:nvCxnSpPr>
            <p:spPr>
              <a:xfrm flipV="1">
                <a:off x="5539320" y="1947240"/>
                <a:ext cx="157680" cy="381960"/>
              </a:xfrm>
              <a:prstGeom prst="bentConnector3">
                <a:avLst>
                  <a:gd name="adj1" fmla="val 49885"/>
                </a:avLst>
              </a:prstGeom>
              <a:ln w="12600">
                <a:solidFill>
                  <a:srgbClr val="000000"/>
                </a:solidFill>
                <a:miter/>
              </a:ln>
            </p:spPr>
          </p:cxnSp>
        </p:grpSp>
        <p:sp>
          <p:nvSpPr>
            <p:cNvPr id="1419" name=""/>
            <p:cNvSpPr/>
            <p:nvPr/>
          </p:nvSpPr>
          <p:spPr>
            <a:xfrm rot="5400000">
              <a:off x="5951160" y="1566720"/>
              <a:ext cx="1143000" cy="762120"/>
            </a:xfrm>
            <a:prstGeom prst="triangle">
              <a:avLst>
                <a:gd name="adj" fmla="val 50000"/>
              </a:avLst>
            </a:pr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pic>
        <p:nvPicPr>
          <p:cNvPr id="1420" name="" descr=""/>
          <p:cNvPicPr/>
          <p:nvPr/>
        </p:nvPicPr>
        <p:blipFill>
          <a:blip r:embed="rId1"/>
          <a:stretch/>
        </p:blipFill>
        <p:spPr>
          <a:xfrm>
            <a:off x="7088040" y="1362240"/>
            <a:ext cx="2055960" cy="1171440"/>
          </a:xfrm>
          <a:prstGeom prst="rect">
            <a:avLst/>
          </a:prstGeom>
          <a:ln w="0">
            <a:noFill/>
          </a:ln>
        </p:spPr>
      </p:pic>
      <p:pic>
        <p:nvPicPr>
          <p:cNvPr id="1421" name="" descr=""/>
          <p:cNvPicPr/>
          <p:nvPr/>
        </p:nvPicPr>
        <p:blipFill>
          <a:blip r:embed="rId2"/>
          <a:stretch/>
        </p:blipFill>
        <p:spPr>
          <a:xfrm>
            <a:off x="2895480" y="2743200"/>
            <a:ext cx="2590920" cy="1865160"/>
          </a:xfrm>
          <a:prstGeom prst="rect">
            <a:avLst/>
          </a:prstGeom>
          <a:ln w="0">
            <a:noFill/>
          </a:ln>
        </p:spPr>
      </p:pic>
    </p:spTree>
  </p:cSld>
  <p:transition>
    <p:pull dir="u"/>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1347"/>
                                        </p:tgtEl>
                                        <p:attrNameLst>
                                          <p:attrName>style.visibility</p:attrName>
                                        </p:attrNameLst>
                                      </p:cBhvr>
                                      <p:to>
                                        <p:strVal val="visible"/>
                                      </p:to>
                                    </p:set>
                                    <p:anim calcmode="lin" valueType="num">
                                      <p:cBhvr additive="base">
                                        <p:cTn id="77" dur="500" fill="hold"/>
                                        <p:tgtEl>
                                          <p:spTgt spid="1347"/>
                                        </p:tgtEl>
                                        <p:attrNameLst>
                                          <p:attrName>ppt_x</p:attrName>
                                        </p:attrNameLst>
                                      </p:cBhvr>
                                      <p:tavLst>
                                        <p:tav tm="0">
                                          <p:val>
                                            <p:strVal val="0-#ppt_w/2"/>
                                          </p:val>
                                        </p:tav>
                                        <p:tav tm="100000">
                                          <p:val>
                                            <p:strVal val="#ppt_x"/>
                                          </p:val>
                                        </p:tav>
                                      </p:tavLst>
                                    </p:anim>
                                    <p:anim calcmode="lin" valueType="num">
                                      <p:cBhvr additive="base">
                                        <p:cTn id="78" dur="500" fill="hold"/>
                                        <p:tgtEl>
                                          <p:spTgt spid="1347"/>
                                        </p:tgtEl>
                                        <p:attrNameLst>
                                          <p:attrName>ppt_y</p:attrName>
                                        </p:attrNameLst>
                                      </p:cBhvr>
                                      <p:tavLst>
                                        <p:tav tm="0">
                                          <p:val>
                                            <p:strVal val="#ppt_y"/>
                                          </p:val>
                                        </p:tav>
                                        <p:tav tm="100000">
                                          <p:val>
                                            <p:strVal val="#ppt_y"/>
                                          </p:val>
                                        </p:tav>
                                      </p:tavLst>
                                    </p:anim>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420"/>
                                        </p:tgtEl>
                                        <p:attrNameLst>
                                          <p:attrName>style.visibility</p:attrName>
                                        </p:attrNameLst>
                                      </p:cBhvr>
                                      <p:to>
                                        <p:strVal val="visible"/>
                                      </p:to>
                                    </p:set>
                                  </p:childTnLst>
                                </p:cTn>
                              </p:par>
                            </p:childTnLst>
                          </p:cTn>
                        </p:par>
                        <p:par>
                          <p:cTn id="82" fill="hold">
                            <p:stCondLst>
                              <p:cond delay="1000"/>
                            </p:stCondLst>
                            <p:childTnLst>
                              <p:par>
                                <p:cTn id="83" nodeType="afterEffect" fill="hold" presetClass="entr" presetID="1">
                                  <p:stCondLst>
                                    <p:cond delay="0"/>
                                  </p:stCondLst>
                                  <p:childTnLst>
                                    <p:set>
                                      <p:cBhvr>
                                        <p:cTn id="84" dur="1" fill="hold">
                                          <p:stCondLst>
                                            <p:cond delay="499"/>
                                          </p:stCondLst>
                                        </p:cTn>
                                        <p:tgtEl>
                                          <p:spTgt spid="1421"/>
                                        </p:tgtEl>
                                        <p:attrNameLst>
                                          <p:attrName>style.visibility</p:attrName>
                                        </p:attrNameLst>
                                      </p:cBhvr>
                                      <p:to>
                                        <p:strVal val="visible"/>
                                      </p:to>
                                    </p:set>
                                  </p:childTnLst>
                                </p:cTn>
                              </p:par>
                            </p:childTnLst>
                          </p:cTn>
                        </p:par>
                        <p:par>
                          <p:cTn id="85" fill="hold">
                            <p:stCondLst>
                              <p:cond delay="1500"/>
                            </p:stCondLst>
                            <p:childTnLst>
                              <p:par>
                                <p:cTn id="86" nodeType="afterEffect" fill="hold" presetClass="entr" presetID="23" presetSubtype="16">
                                  <p:stCondLst>
                                    <p:cond delay="0"/>
                                  </p:stCondLst>
                                  <p:childTnLst>
                                    <p:set>
                                      <p:cBhvr>
                                        <p:cTn id="87" dur="1" fill="hold">
                                          <p:stCondLst>
                                            <p:cond delay="0"/>
                                          </p:stCondLst>
                                        </p:cTn>
                                        <p:tgtEl>
                                          <p:spTgt spid="1346"/>
                                        </p:tgtEl>
                                        <p:attrNameLst>
                                          <p:attrName>style.visibility</p:attrName>
                                        </p:attrNameLst>
                                      </p:cBhvr>
                                      <p:to>
                                        <p:strVal val="visible"/>
                                      </p:to>
                                    </p:set>
                                    <p:anim calcmode="lin" valueType="num">
                                      <p:cBhvr additive="repl">
                                        <p:cTn id="88" dur="500" fill="hold"/>
                                        <p:tgtEl>
                                          <p:spTgt spid="1346"/>
                                        </p:tgtEl>
                                        <p:attrNameLst>
                                          <p:attrName>ppt_w</p:attrName>
                                        </p:attrNameLst>
                                      </p:cBhvr>
                                      <p:tavLst>
                                        <p:tav tm="0">
                                          <p:val>
                                            <p:fltVal val="0"/>
                                          </p:val>
                                        </p:tav>
                                        <p:tav tm="100000">
                                          <p:val>
                                            <p:strVal val="#ppt_w"/>
                                          </p:val>
                                        </p:tav>
                                      </p:tavLst>
                                    </p:anim>
                                    <p:anim calcmode="lin" valueType="num">
                                      <p:cBhvr additive="repl">
                                        <p:cTn id="89" dur="500" fill="hold"/>
                                        <p:tgtEl>
                                          <p:spTgt spid="13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Diferença entre processos e projetos </a:t>
            </a:r>
            <a:endParaRPr b="0" lang="en-US" sz="2400" spc="-1" strike="noStrike">
              <a:solidFill>
                <a:srgbClr val="000096"/>
              </a:solidFill>
              <a:latin typeface="Arial"/>
            </a:endParaRPr>
          </a:p>
        </p:txBody>
      </p:sp>
      <p:grpSp>
        <p:nvGrpSpPr>
          <p:cNvPr id="1423" name=""/>
          <p:cNvGrpSpPr/>
          <p:nvPr/>
        </p:nvGrpSpPr>
        <p:grpSpPr>
          <a:xfrm>
            <a:off x="0" y="1089720"/>
            <a:ext cx="8837640" cy="5495760"/>
            <a:chOff x="0" y="1089720"/>
            <a:chExt cx="8837640" cy="5495760"/>
          </a:xfrm>
        </p:grpSpPr>
        <p:sp>
          <p:nvSpPr>
            <p:cNvPr id="1424" name=""/>
            <p:cNvSpPr/>
            <p:nvPr/>
          </p:nvSpPr>
          <p:spPr>
            <a:xfrm>
              <a:off x="0" y="3869640"/>
              <a:ext cx="45212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tínuos e</a:t>
              </a:r>
              <a:r>
                <a:rPr b="0" lang="en-US" sz="2800" spc="-1" strike="noStrike">
                  <a:solidFill>
                    <a:srgbClr val="000000"/>
                  </a:solidFill>
                  <a:latin typeface="Arial"/>
                  <a:ea typeface="Times New Roman"/>
                </a:rPr>
                <a:t> repetitivos</a:t>
              </a:r>
              <a:endParaRPr b="0" lang="en-US" sz="2800" spc="-1" strike="noStrike">
                <a:solidFill>
                  <a:srgbClr val="000000"/>
                </a:solidFill>
                <a:latin typeface="Arial"/>
              </a:endParaRPr>
            </a:p>
          </p:txBody>
        </p:sp>
        <p:sp>
          <p:nvSpPr>
            <p:cNvPr id="1425" name=""/>
            <p:cNvSpPr/>
            <p:nvPr/>
          </p:nvSpPr>
          <p:spPr>
            <a:xfrm>
              <a:off x="304920" y="5638320"/>
              <a:ext cx="41227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s atualiza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amente</a:t>
              </a:r>
              <a:endParaRPr b="0" lang="en-US" sz="2800" spc="-1" strike="noStrike">
                <a:solidFill>
                  <a:srgbClr val="000000"/>
                </a:solidFill>
                <a:latin typeface="Arial"/>
              </a:endParaRPr>
            </a:p>
          </p:txBody>
        </p:sp>
        <p:grpSp>
          <p:nvGrpSpPr>
            <p:cNvPr id="1426" name=""/>
            <p:cNvGrpSpPr/>
            <p:nvPr/>
          </p:nvGrpSpPr>
          <p:grpSpPr>
            <a:xfrm>
              <a:off x="457200" y="1718640"/>
              <a:ext cx="3581280" cy="520560"/>
              <a:chOff x="457200" y="1718640"/>
              <a:chExt cx="3581280" cy="520560"/>
            </a:xfrm>
          </p:grpSpPr>
          <p:sp>
            <p:nvSpPr>
              <p:cNvPr id="1427" name=""/>
              <p:cNvSpPr/>
              <p:nvPr/>
            </p:nvSpPr>
            <p:spPr>
              <a:xfrm>
                <a:off x="457200" y="2209680"/>
                <a:ext cx="3581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1537560" y="1718640"/>
                <a:ext cx="1169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a:t>
                </a:r>
                <a:endParaRPr b="0" lang="en-US" sz="2800" spc="-1" strike="noStrike">
                  <a:solidFill>
                    <a:srgbClr val="000000"/>
                  </a:solidFill>
                  <a:latin typeface="Arial"/>
                </a:endParaRPr>
              </a:p>
            </p:txBody>
          </p:sp>
        </p:grpSp>
        <p:grpSp>
          <p:nvGrpSpPr>
            <p:cNvPr id="1429" name=""/>
            <p:cNvGrpSpPr/>
            <p:nvPr/>
          </p:nvGrpSpPr>
          <p:grpSpPr>
            <a:xfrm>
              <a:off x="5021280" y="1718640"/>
              <a:ext cx="3581280" cy="520560"/>
              <a:chOff x="5021280" y="1718640"/>
              <a:chExt cx="3581280" cy="520560"/>
            </a:xfrm>
          </p:grpSpPr>
          <p:sp>
            <p:nvSpPr>
              <p:cNvPr id="1430" name=""/>
              <p:cNvSpPr/>
              <p:nvPr/>
            </p:nvSpPr>
            <p:spPr>
              <a:xfrm>
                <a:off x="5021280" y="2209680"/>
                <a:ext cx="3581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6096960" y="1718640"/>
                <a:ext cx="1169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a:t>
                </a:r>
                <a:endParaRPr b="0" lang="en-US" sz="2800" spc="-1" strike="noStrike">
                  <a:solidFill>
                    <a:srgbClr val="000000"/>
                  </a:solidFill>
                  <a:latin typeface="Arial"/>
                </a:endParaRPr>
              </a:p>
            </p:txBody>
          </p:sp>
        </p:grpSp>
        <p:sp>
          <p:nvSpPr>
            <p:cNvPr id="1432" name=""/>
            <p:cNvSpPr/>
            <p:nvPr/>
          </p:nvSpPr>
          <p:spPr>
            <a:xfrm>
              <a:off x="492120" y="2362320"/>
              <a:ext cx="3581280" cy="671400"/>
            </a:xfrm>
            <a:prstGeom prst="rightArrow">
              <a:avLst>
                <a:gd name="adj1" fmla="val 61704"/>
                <a:gd name="adj2" fmla="val 6833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
            <p:cNvSpPr/>
            <p:nvPr/>
          </p:nvSpPr>
          <p:spPr>
            <a:xfrm>
              <a:off x="492120" y="3060720"/>
              <a:ext cx="3581280" cy="671400"/>
            </a:xfrm>
            <a:prstGeom prst="rightArrow">
              <a:avLst>
                <a:gd name="adj1" fmla="val 61704"/>
                <a:gd name="adj2" fmla="val 6833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
            <p:cNvSpPr/>
            <p:nvPr/>
          </p:nvSpPr>
          <p:spPr>
            <a:xfrm>
              <a:off x="1065960" y="1218240"/>
              <a:ext cx="2035440" cy="58140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os</a:t>
              </a:r>
              <a:endParaRPr b="0" lang="en-US" sz="3200" spc="-1" strike="noStrike">
                <a:solidFill>
                  <a:srgbClr val="000000"/>
                </a:solidFill>
                <a:latin typeface="Arial"/>
              </a:endParaRPr>
            </a:p>
          </p:txBody>
        </p:sp>
        <p:sp>
          <p:nvSpPr>
            <p:cNvPr id="1435" name=""/>
            <p:cNvSpPr/>
            <p:nvPr/>
          </p:nvSpPr>
          <p:spPr>
            <a:xfrm>
              <a:off x="5885640" y="1089720"/>
              <a:ext cx="1625400" cy="58140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tos</a:t>
              </a:r>
              <a:endParaRPr b="0" lang="en-US" sz="3200" spc="-1" strike="noStrike">
                <a:solidFill>
                  <a:srgbClr val="000000"/>
                </a:solidFill>
                <a:latin typeface="Arial"/>
              </a:endParaRPr>
            </a:p>
          </p:txBody>
        </p:sp>
        <p:grpSp>
          <p:nvGrpSpPr>
            <p:cNvPr id="1436" name=""/>
            <p:cNvGrpSpPr/>
            <p:nvPr/>
          </p:nvGrpSpPr>
          <p:grpSpPr>
            <a:xfrm>
              <a:off x="5105520" y="2362320"/>
              <a:ext cx="3440160" cy="1120320"/>
              <a:chOff x="5105520" y="2362320"/>
              <a:chExt cx="3440160" cy="1120320"/>
            </a:xfrm>
          </p:grpSpPr>
          <p:grpSp>
            <p:nvGrpSpPr>
              <p:cNvPr id="1437" name=""/>
              <p:cNvGrpSpPr/>
              <p:nvPr/>
            </p:nvGrpSpPr>
            <p:grpSpPr>
              <a:xfrm>
                <a:off x="6934320" y="2971800"/>
                <a:ext cx="914400" cy="304560"/>
                <a:chOff x="6934320" y="2971800"/>
                <a:chExt cx="914400" cy="304560"/>
              </a:xfrm>
            </p:grpSpPr>
            <p:sp>
              <p:nvSpPr>
                <p:cNvPr id="1438" name=""/>
                <p:cNvSpPr/>
                <p:nvPr/>
              </p:nvSpPr>
              <p:spPr>
                <a:xfrm>
                  <a:off x="6934320" y="31240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6934320" y="297180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7848720" y="297180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41" name=""/>
              <p:cNvGrpSpPr/>
              <p:nvPr/>
            </p:nvGrpSpPr>
            <p:grpSpPr>
              <a:xfrm>
                <a:off x="8077320" y="3048120"/>
                <a:ext cx="468360" cy="434520"/>
                <a:chOff x="8077320" y="3048120"/>
                <a:chExt cx="468360" cy="434520"/>
              </a:xfrm>
            </p:grpSpPr>
            <p:sp>
              <p:nvSpPr>
                <p:cNvPr id="1442" name=""/>
                <p:cNvSpPr/>
                <p:nvPr/>
              </p:nvSpPr>
              <p:spPr>
                <a:xfrm>
                  <a:off x="8077320" y="3265200"/>
                  <a:ext cx="4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8077320" y="3048120"/>
                  <a:ext cx="0" cy="434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8545680" y="3048120"/>
                  <a:ext cx="0" cy="434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45" name=""/>
              <p:cNvGrpSpPr/>
              <p:nvPr/>
            </p:nvGrpSpPr>
            <p:grpSpPr>
              <a:xfrm>
                <a:off x="7696080" y="2438280"/>
                <a:ext cx="784440" cy="434880"/>
                <a:chOff x="7696080" y="2438280"/>
                <a:chExt cx="784440" cy="434880"/>
              </a:xfrm>
            </p:grpSpPr>
            <p:sp>
              <p:nvSpPr>
                <p:cNvPr id="1446" name=""/>
                <p:cNvSpPr/>
                <p:nvPr/>
              </p:nvSpPr>
              <p:spPr>
                <a:xfrm>
                  <a:off x="7696080" y="2655720"/>
                  <a:ext cx="78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7696080" y="2438280"/>
                  <a:ext cx="0" cy="434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8480520" y="2438280"/>
                  <a:ext cx="0" cy="434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49" name=""/>
              <p:cNvGrpSpPr/>
              <p:nvPr/>
            </p:nvGrpSpPr>
            <p:grpSpPr>
              <a:xfrm>
                <a:off x="5105520" y="2438280"/>
                <a:ext cx="914400" cy="304560"/>
                <a:chOff x="5105520" y="2438280"/>
                <a:chExt cx="914400" cy="304560"/>
              </a:xfrm>
            </p:grpSpPr>
            <p:sp>
              <p:nvSpPr>
                <p:cNvPr id="1450" name=""/>
                <p:cNvSpPr/>
                <p:nvPr/>
              </p:nvSpPr>
              <p:spPr>
                <a:xfrm>
                  <a:off x="5105520" y="25905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5105520" y="2438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6019920" y="2438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53" name=""/>
              <p:cNvGrpSpPr/>
              <p:nvPr/>
            </p:nvGrpSpPr>
            <p:grpSpPr>
              <a:xfrm>
                <a:off x="5867280" y="2895480"/>
                <a:ext cx="468360" cy="434880"/>
                <a:chOff x="5867280" y="2895480"/>
                <a:chExt cx="468360" cy="434880"/>
              </a:xfrm>
            </p:grpSpPr>
            <p:sp>
              <p:nvSpPr>
                <p:cNvPr id="1454" name=""/>
                <p:cNvSpPr/>
                <p:nvPr/>
              </p:nvSpPr>
              <p:spPr>
                <a:xfrm>
                  <a:off x="5867280" y="3112920"/>
                  <a:ext cx="4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5867280" y="2895480"/>
                  <a:ext cx="0" cy="434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6335640" y="2895480"/>
                  <a:ext cx="0" cy="434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57" name=""/>
              <p:cNvGrpSpPr/>
              <p:nvPr/>
            </p:nvGrpSpPr>
            <p:grpSpPr>
              <a:xfrm>
                <a:off x="6629400" y="2362320"/>
                <a:ext cx="468360" cy="434520"/>
                <a:chOff x="6629400" y="2362320"/>
                <a:chExt cx="468360" cy="434520"/>
              </a:xfrm>
            </p:grpSpPr>
            <p:sp>
              <p:nvSpPr>
                <p:cNvPr id="1458" name=""/>
                <p:cNvSpPr/>
                <p:nvPr/>
              </p:nvSpPr>
              <p:spPr>
                <a:xfrm>
                  <a:off x="6629400" y="2579400"/>
                  <a:ext cx="4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6629400" y="2362320"/>
                  <a:ext cx="0" cy="434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7097760" y="2362320"/>
                  <a:ext cx="0" cy="434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461" name=""/>
            <p:cNvSpPr/>
            <p:nvPr/>
          </p:nvSpPr>
          <p:spPr>
            <a:xfrm>
              <a:off x="5221440" y="3818880"/>
              <a:ext cx="36162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ários e únicos</a:t>
              </a:r>
              <a:endParaRPr b="0" lang="en-US" sz="2800" spc="-1" strike="noStrike">
                <a:solidFill>
                  <a:srgbClr val="000000"/>
                </a:solidFill>
                <a:latin typeface="Arial"/>
              </a:endParaRPr>
            </a:p>
          </p:txBody>
        </p:sp>
        <p:sp>
          <p:nvSpPr>
            <p:cNvPr id="1462" name=""/>
            <p:cNvSpPr/>
            <p:nvPr/>
          </p:nvSpPr>
          <p:spPr>
            <a:xfrm>
              <a:off x="5825880" y="5939640"/>
              <a:ext cx="27165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s únicos</a:t>
              </a:r>
              <a:endParaRPr b="0" lang="en-US" sz="2800" spc="-1" strike="noStrike">
                <a:solidFill>
                  <a:srgbClr val="000000"/>
                </a:solidFill>
                <a:latin typeface="Arial"/>
              </a:endParaRPr>
            </a:p>
          </p:txBody>
        </p:sp>
        <p:pic>
          <p:nvPicPr>
            <p:cNvPr id="1463" name="" descr=""/>
            <p:cNvPicPr/>
            <p:nvPr/>
          </p:nvPicPr>
          <p:blipFill>
            <a:blip r:embed="rId1"/>
            <a:stretch/>
          </p:blipFill>
          <p:spPr>
            <a:xfrm>
              <a:off x="685800" y="4991040"/>
              <a:ext cx="531720" cy="531720"/>
            </a:xfrm>
            <a:prstGeom prst="rect">
              <a:avLst/>
            </a:prstGeom>
            <a:ln w="0">
              <a:noFill/>
            </a:ln>
          </p:spPr>
        </p:pic>
        <p:pic>
          <p:nvPicPr>
            <p:cNvPr id="1464" name="" descr=""/>
            <p:cNvPicPr/>
            <p:nvPr/>
          </p:nvPicPr>
          <p:blipFill>
            <a:blip r:embed="rId2"/>
            <a:stretch/>
          </p:blipFill>
          <p:spPr>
            <a:xfrm>
              <a:off x="6477120" y="4800600"/>
              <a:ext cx="838080" cy="838080"/>
            </a:xfrm>
            <a:prstGeom prst="rect">
              <a:avLst/>
            </a:prstGeom>
            <a:ln w="0">
              <a:noFill/>
            </a:ln>
          </p:spPr>
        </p:pic>
        <p:pic>
          <p:nvPicPr>
            <p:cNvPr id="1465" name="" descr=""/>
            <p:cNvPicPr/>
            <p:nvPr/>
          </p:nvPicPr>
          <p:blipFill>
            <a:blip r:embed="rId3"/>
            <a:stretch/>
          </p:blipFill>
          <p:spPr>
            <a:xfrm>
              <a:off x="1790640" y="4991040"/>
              <a:ext cx="531720" cy="531720"/>
            </a:xfrm>
            <a:prstGeom prst="rect">
              <a:avLst/>
            </a:prstGeom>
            <a:ln w="0">
              <a:noFill/>
            </a:ln>
          </p:spPr>
        </p:pic>
        <p:pic>
          <p:nvPicPr>
            <p:cNvPr id="1466" name="" descr=""/>
            <p:cNvPicPr/>
            <p:nvPr/>
          </p:nvPicPr>
          <p:blipFill>
            <a:blip r:embed="rId4"/>
            <a:stretch/>
          </p:blipFill>
          <p:spPr>
            <a:xfrm>
              <a:off x="2895480" y="4991040"/>
              <a:ext cx="532080" cy="531720"/>
            </a:xfrm>
            <a:prstGeom prst="rect">
              <a:avLst/>
            </a:prstGeom>
            <a:ln w="0">
              <a:noFill/>
            </a:ln>
          </p:spPr>
        </p:pic>
        <p:pic>
          <p:nvPicPr>
            <p:cNvPr id="1467" name="" descr=""/>
            <p:cNvPicPr/>
            <p:nvPr/>
          </p:nvPicPr>
          <p:blipFill>
            <a:blip r:embed="rId5"/>
            <a:stretch/>
          </p:blipFill>
          <p:spPr>
            <a:xfrm>
              <a:off x="6629400" y="4952880"/>
              <a:ext cx="838080" cy="838440"/>
            </a:xfrm>
            <a:prstGeom prst="rect">
              <a:avLst/>
            </a:prstGeom>
            <a:ln w="0">
              <a:noFill/>
            </a:ln>
          </p:spPr>
        </p:pic>
        <p:pic>
          <p:nvPicPr>
            <p:cNvPr id="1468" name="" descr=""/>
            <p:cNvPicPr/>
            <p:nvPr/>
          </p:nvPicPr>
          <p:blipFill>
            <a:blip r:embed="rId6"/>
            <a:stretch/>
          </p:blipFill>
          <p:spPr>
            <a:xfrm>
              <a:off x="6781680" y="5105520"/>
              <a:ext cx="838440" cy="838080"/>
            </a:xfrm>
            <a:prstGeom prst="rect">
              <a:avLst/>
            </a:prstGeom>
            <a:ln w="0">
              <a:noFill/>
            </a:ln>
          </p:spPr>
        </p:pic>
        <p:sp>
          <p:nvSpPr>
            <p:cNvPr id="1469" name=""/>
            <p:cNvSpPr/>
            <p:nvPr/>
          </p:nvSpPr>
          <p:spPr>
            <a:xfrm>
              <a:off x="4648320" y="1371600"/>
              <a:ext cx="0" cy="518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onceitos de Modelagem de Processo </a:t>
            </a:r>
            <a:endParaRPr b="0" lang="en-US" sz="2400" spc="-1" strike="noStrike">
              <a:solidFill>
                <a:srgbClr val="000096"/>
              </a:solidFill>
              <a:latin typeface="Arial"/>
            </a:endParaRPr>
          </a:p>
        </p:txBody>
      </p:sp>
      <p:sp>
        <p:nvSpPr>
          <p:cNvPr id="1471" name=""/>
          <p:cNvSpPr/>
          <p:nvPr/>
        </p:nvSpPr>
        <p:spPr>
          <a:xfrm>
            <a:off x="54000" y="1235160"/>
            <a:ext cx="2651040" cy="16477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ção de Processo de Negócio</a:t>
            </a:r>
            <a:endParaRPr b="0" lang="en-US" sz="2400" spc="-1" strike="noStrike">
              <a:solidFill>
                <a:srgbClr val="000000"/>
              </a:solidFill>
              <a:latin typeface="Arial"/>
            </a:endParaRPr>
          </a:p>
        </p:txBody>
      </p:sp>
      <p:sp>
        <p:nvSpPr>
          <p:cNvPr id="1472" name=""/>
          <p:cNvSpPr/>
          <p:nvPr/>
        </p:nvSpPr>
        <p:spPr>
          <a:xfrm>
            <a:off x="3139920" y="1279440"/>
            <a:ext cx="2751120" cy="15591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ção de Modelos de Referência</a:t>
            </a:r>
            <a:endParaRPr b="0" lang="en-US" sz="2400" spc="-1" strike="noStrike">
              <a:solidFill>
                <a:srgbClr val="000000"/>
              </a:solidFill>
              <a:latin typeface="Arial"/>
            </a:endParaRPr>
          </a:p>
        </p:txBody>
      </p:sp>
      <p:sp>
        <p:nvSpPr>
          <p:cNvPr id="1473" name=""/>
          <p:cNvSpPr/>
          <p:nvPr/>
        </p:nvSpPr>
        <p:spPr>
          <a:xfrm>
            <a:off x="6389640" y="1293840"/>
            <a:ext cx="2617920" cy="15285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ça entre Processos de Negócio e Projetos</a:t>
            </a:r>
            <a:endParaRPr b="0" lang="en-US" sz="2400" spc="-1" strike="noStrike">
              <a:solidFill>
                <a:srgbClr val="000000"/>
              </a:solidFill>
              <a:latin typeface="Arial"/>
            </a:endParaRPr>
          </a:p>
        </p:txBody>
      </p:sp>
      <p:cxnSp>
        <p:nvCxnSpPr>
          <p:cNvPr id="1474" name=""/>
          <p:cNvCxnSpPr>
            <a:stCxn id="1471" idx="2"/>
            <a:endCxn id="1475" idx="0"/>
          </p:cNvCxnSpPr>
          <p:nvPr/>
        </p:nvCxnSpPr>
        <p:spPr>
          <a:xfrm>
            <a:off x="1379160" y="2882520"/>
            <a:ext cx="1080" cy="1842120"/>
          </a:xfrm>
          <a:prstGeom prst="straightConnector1">
            <a:avLst/>
          </a:prstGeom>
          <a:ln w="38160">
            <a:solidFill>
              <a:srgbClr val="000000"/>
            </a:solidFill>
            <a:miter/>
            <a:tailEnd len="med" type="triangle" w="med"/>
          </a:ln>
        </p:spPr>
      </p:cxnSp>
      <p:cxnSp>
        <p:nvCxnSpPr>
          <p:cNvPr id="1476" name=""/>
          <p:cNvCxnSpPr>
            <a:stCxn id="1472" idx="2"/>
            <a:endCxn id="1477" idx="0"/>
          </p:cNvCxnSpPr>
          <p:nvPr/>
        </p:nvCxnSpPr>
        <p:spPr>
          <a:xfrm>
            <a:off x="4516200" y="2838600"/>
            <a:ext cx="1080" cy="1883520"/>
          </a:xfrm>
          <a:prstGeom prst="straightConnector1">
            <a:avLst/>
          </a:prstGeom>
          <a:ln w="38160">
            <a:solidFill>
              <a:srgbClr val="000000"/>
            </a:solidFill>
            <a:miter/>
            <a:tailEnd len="med" type="triangle" w="med"/>
          </a:ln>
        </p:spPr>
      </p:cxnSp>
      <p:cxnSp>
        <p:nvCxnSpPr>
          <p:cNvPr id="1478" name=""/>
          <p:cNvCxnSpPr>
            <a:stCxn id="1473" idx="2"/>
            <a:endCxn id="1479" idx="0"/>
          </p:cNvCxnSpPr>
          <p:nvPr/>
        </p:nvCxnSpPr>
        <p:spPr>
          <a:xfrm>
            <a:off x="7698960" y="2822040"/>
            <a:ext cx="1080" cy="1902600"/>
          </a:xfrm>
          <a:prstGeom prst="straightConnector1">
            <a:avLst/>
          </a:prstGeom>
          <a:ln w="38160">
            <a:solidFill>
              <a:srgbClr val="000000"/>
            </a:solidFill>
            <a:miter/>
            <a:tailEnd len="med" type="triangle" w="med"/>
          </a:ln>
        </p:spPr>
      </p:cxnSp>
      <p:grpSp>
        <p:nvGrpSpPr>
          <p:cNvPr id="1480" name=""/>
          <p:cNvGrpSpPr/>
          <p:nvPr/>
        </p:nvGrpSpPr>
        <p:grpSpPr>
          <a:xfrm>
            <a:off x="147600" y="4721400"/>
            <a:ext cx="8736120" cy="1558800"/>
            <a:chOff x="147600" y="4721400"/>
            <a:chExt cx="8736120" cy="1558800"/>
          </a:xfrm>
        </p:grpSpPr>
        <p:sp>
          <p:nvSpPr>
            <p:cNvPr id="1477" name=""/>
            <p:cNvSpPr/>
            <p:nvPr/>
          </p:nvSpPr>
          <p:spPr>
            <a:xfrm>
              <a:off x="147600" y="4721400"/>
              <a:ext cx="8736120" cy="1558800"/>
            </a:xfrm>
            <a:prstGeom prst="roundRect">
              <a:avLst>
                <a:gd name="adj" fmla="val 16667"/>
              </a:avLst>
            </a:prstGeom>
            <a:solidFill>
              <a:srgbClr val="ff3300"/>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o de Referência para o Processo de Desenvolvimento de Produtos</a:t>
              </a:r>
              <a:endParaRPr b="0" lang="en-US" sz="2400" spc="-1" strike="noStrike">
                <a:solidFill>
                  <a:srgbClr val="000000"/>
                </a:solidFill>
                <a:latin typeface="Arial"/>
              </a:endParaRPr>
            </a:p>
          </p:txBody>
        </p:sp>
        <p:sp>
          <p:nvSpPr>
            <p:cNvPr id="1475" name=""/>
            <p:cNvSpPr/>
            <p:nvPr/>
          </p:nvSpPr>
          <p:spPr>
            <a:xfrm>
              <a:off x="1233360" y="4724280"/>
              <a:ext cx="292320" cy="179640"/>
            </a:xfrm>
            <a:prstGeom prst="rect">
              <a:avLst/>
            </a:prstGeom>
            <a:solidFill>
              <a:srgbClr val="ff33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9" name=""/>
            <p:cNvSpPr/>
            <p:nvPr/>
          </p:nvSpPr>
          <p:spPr>
            <a:xfrm>
              <a:off x="7553160" y="4724280"/>
              <a:ext cx="292320" cy="179640"/>
            </a:xfrm>
            <a:prstGeom prst="rect">
              <a:avLst/>
            </a:prstGeom>
            <a:solidFill>
              <a:srgbClr val="ff33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cxnSp>
        <p:nvCxnSpPr>
          <p:cNvPr id="1481" name=""/>
          <p:cNvCxnSpPr>
            <a:stCxn id="1471" idx="3"/>
            <a:endCxn id="1472" idx="1"/>
          </p:cNvCxnSpPr>
          <p:nvPr/>
        </p:nvCxnSpPr>
        <p:spPr>
          <a:xfrm>
            <a:off x="2705040" y="2058480"/>
            <a:ext cx="435600" cy="1080"/>
          </a:xfrm>
          <a:prstGeom prst="straightConnector1">
            <a:avLst/>
          </a:prstGeom>
          <a:ln w="38160">
            <a:solidFill>
              <a:srgbClr val="000000"/>
            </a:solidFill>
            <a:miter/>
            <a:tailEnd len="med" type="triangle" w="med"/>
          </a:ln>
        </p:spPr>
      </p:cxnSp>
      <p:cxnSp>
        <p:nvCxnSpPr>
          <p:cNvPr id="1482" name=""/>
          <p:cNvCxnSpPr>
            <a:stCxn id="1472" idx="3"/>
            <a:endCxn id="1473" idx="1"/>
          </p:cNvCxnSpPr>
          <p:nvPr/>
        </p:nvCxnSpPr>
        <p:spPr>
          <a:xfrm>
            <a:off x="5890680" y="2058480"/>
            <a:ext cx="499320" cy="10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rojetos resultantes de um processo</a:t>
            </a:r>
            <a:endParaRPr b="0" lang="en-US" sz="2400" spc="-1" strike="noStrike">
              <a:solidFill>
                <a:srgbClr val="000096"/>
              </a:solidFill>
              <a:latin typeface="Arial"/>
            </a:endParaRPr>
          </a:p>
        </p:txBody>
      </p:sp>
      <p:grpSp>
        <p:nvGrpSpPr>
          <p:cNvPr id="1484" name=""/>
          <p:cNvGrpSpPr/>
          <p:nvPr/>
        </p:nvGrpSpPr>
        <p:grpSpPr>
          <a:xfrm>
            <a:off x="0" y="990720"/>
            <a:ext cx="8763120" cy="5715000"/>
            <a:chOff x="0" y="990720"/>
            <a:chExt cx="8763120" cy="5715000"/>
          </a:xfrm>
        </p:grpSpPr>
        <p:sp>
          <p:nvSpPr>
            <p:cNvPr id="1485" name=""/>
            <p:cNvSpPr/>
            <p:nvPr/>
          </p:nvSpPr>
          <p:spPr>
            <a:xfrm>
              <a:off x="533520" y="2116080"/>
              <a:ext cx="8229600" cy="4361040"/>
            </a:xfrm>
            <a:custGeom>
              <a:avLst/>
              <a:gdLst/>
              <a:ahLst/>
              <a:rect l="l" t="t" r="r" b="b"/>
              <a:pathLst>
                <a:path w="5184" h="2747">
                  <a:moveTo>
                    <a:pt x="2664" y="0"/>
                  </a:moveTo>
                  <a:lnTo>
                    <a:pt x="0" y="827"/>
                  </a:lnTo>
                  <a:lnTo>
                    <a:pt x="0" y="2747"/>
                  </a:lnTo>
                  <a:lnTo>
                    <a:pt x="5184" y="2747"/>
                  </a:lnTo>
                  <a:lnTo>
                    <a:pt x="5184" y="1259"/>
                  </a:lnTo>
                  <a:lnTo>
                    <a:pt x="4560" y="82"/>
                  </a:lnTo>
                </a:path>
              </a:pathLst>
            </a:custGeom>
            <a:solidFill>
              <a:srgbClr val="ffff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486" name=""/>
            <p:cNvGrpSpPr/>
            <p:nvPr/>
          </p:nvGrpSpPr>
          <p:grpSpPr>
            <a:xfrm>
              <a:off x="4343400" y="990720"/>
              <a:ext cx="4114800" cy="1600200"/>
              <a:chOff x="4343400" y="990720"/>
              <a:chExt cx="4114800" cy="1600200"/>
            </a:xfrm>
          </p:grpSpPr>
          <p:sp>
            <p:nvSpPr>
              <p:cNvPr id="1487" name=""/>
              <p:cNvSpPr/>
              <p:nvPr/>
            </p:nvSpPr>
            <p:spPr>
              <a:xfrm>
                <a:off x="4343400" y="990720"/>
                <a:ext cx="4114800" cy="1600200"/>
              </a:xfrm>
              <a:prstGeom prst="rightArrow">
                <a:avLst>
                  <a:gd name="adj1" fmla="val 77731"/>
                  <a:gd name="adj2" fmla="val 3325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8" name=""/>
              <p:cNvGrpSpPr/>
              <p:nvPr/>
            </p:nvGrpSpPr>
            <p:grpSpPr>
              <a:xfrm>
                <a:off x="4417920" y="1266840"/>
                <a:ext cx="3632400" cy="1108080"/>
                <a:chOff x="4417920" y="1266840"/>
                <a:chExt cx="3632400" cy="1108080"/>
              </a:xfrm>
            </p:grpSpPr>
            <p:sp>
              <p:nvSpPr>
                <p:cNvPr id="1489" name=""/>
                <p:cNvSpPr/>
                <p:nvPr/>
              </p:nvSpPr>
              <p:spPr>
                <a:xfrm>
                  <a:off x="6308640" y="2093760"/>
                  <a:ext cx="222480" cy="227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529240" y="1596960"/>
                  <a:ext cx="222120" cy="227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6642000" y="1376280"/>
                  <a:ext cx="333360" cy="227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7458120" y="1873080"/>
                  <a:ext cx="183960" cy="1890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5010120" y="1817640"/>
                  <a:ext cx="149400" cy="115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4565520" y="2038320"/>
                  <a:ext cx="149400" cy="115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4417920" y="1376280"/>
                  <a:ext cx="222480" cy="227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6642000" y="1873080"/>
                  <a:ext cx="147600" cy="2257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5270400" y="2038320"/>
                  <a:ext cx="333360" cy="227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159600" y="1322280"/>
                  <a:ext cx="149040" cy="223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7605720" y="1376280"/>
                  <a:ext cx="222120" cy="227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5159520" y="1266840"/>
                  <a:ext cx="147600" cy="225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6864480" y="2149560"/>
                  <a:ext cx="147600" cy="225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6048360" y="1763640"/>
                  <a:ext cx="149400" cy="225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5640480" y="1322280"/>
                  <a:ext cx="149040" cy="114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5862600" y="2205000"/>
                  <a:ext cx="149400" cy="114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7122960" y="1763640"/>
                  <a:ext cx="149400" cy="114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7161120" y="1266840"/>
                  <a:ext cx="147600" cy="114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7345440" y="2205000"/>
                  <a:ext cx="149040" cy="114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08" name=""/>
                <p:cNvCxnSpPr>
                  <a:stCxn id="1495" idx="3"/>
                  <a:endCxn id="1500" idx="1"/>
                </p:cNvCxnSpPr>
                <p:nvPr/>
              </p:nvCxnSpPr>
              <p:spPr>
                <a:xfrm flipV="1">
                  <a:off x="4640400" y="1378800"/>
                  <a:ext cx="519840" cy="111960"/>
                </a:xfrm>
                <a:prstGeom prst="straightConnector1">
                  <a:avLst/>
                </a:prstGeom>
                <a:ln w="12600">
                  <a:solidFill>
                    <a:srgbClr val="000000"/>
                  </a:solidFill>
                  <a:miter/>
                  <a:tailEnd len="lg" type="triangle" w="sm"/>
                </a:ln>
              </p:spPr>
            </p:cxnSp>
            <p:cxnSp>
              <p:nvCxnSpPr>
                <p:cNvPr id="1509" name=""/>
                <p:cNvCxnSpPr>
                  <a:stCxn id="1494" idx="3"/>
                  <a:endCxn id="1493" idx="1"/>
                </p:cNvCxnSpPr>
                <p:nvPr/>
              </p:nvCxnSpPr>
              <p:spPr>
                <a:xfrm flipV="1">
                  <a:off x="4714920" y="1875600"/>
                  <a:ext cx="295560" cy="221400"/>
                </a:xfrm>
                <a:prstGeom prst="straightConnector1">
                  <a:avLst/>
                </a:prstGeom>
                <a:ln w="12600">
                  <a:solidFill>
                    <a:srgbClr val="000000"/>
                  </a:solidFill>
                  <a:miter/>
                  <a:tailEnd len="lg" type="triangle" w="sm"/>
                </a:ln>
              </p:spPr>
            </p:cxnSp>
            <p:cxnSp>
              <p:nvCxnSpPr>
                <p:cNvPr id="1510" name=""/>
                <p:cNvCxnSpPr>
                  <a:stCxn id="1493" idx="2"/>
                  <a:endCxn id="1497" idx="1"/>
                </p:cNvCxnSpPr>
                <p:nvPr/>
              </p:nvCxnSpPr>
              <p:spPr>
                <a:xfrm>
                  <a:off x="5084640" y="1933200"/>
                  <a:ext cx="186480" cy="219960"/>
                </a:xfrm>
                <a:prstGeom prst="straightConnector1">
                  <a:avLst/>
                </a:prstGeom>
                <a:ln w="12600">
                  <a:solidFill>
                    <a:srgbClr val="000000"/>
                  </a:solidFill>
                  <a:miter/>
                  <a:tailEnd len="lg" type="triangle" w="sm"/>
                </a:ln>
              </p:spPr>
            </p:cxnSp>
            <p:cxnSp>
              <p:nvCxnSpPr>
                <p:cNvPr id="1511" name=""/>
                <p:cNvCxnSpPr>
                  <a:stCxn id="1493" idx="0"/>
                  <a:endCxn id="1500" idx="2"/>
                </p:cNvCxnSpPr>
                <p:nvPr/>
              </p:nvCxnSpPr>
              <p:spPr>
                <a:xfrm flipV="1">
                  <a:off x="5084640" y="1491840"/>
                  <a:ext cx="148320" cy="326160"/>
                </a:xfrm>
                <a:prstGeom prst="straightConnector1">
                  <a:avLst/>
                </a:prstGeom>
                <a:ln w="12600">
                  <a:solidFill>
                    <a:srgbClr val="000000"/>
                  </a:solidFill>
                  <a:miter/>
                  <a:tailEnd len="lg" type="triangle" w="sm"/>
                </a:ln>
              </p:spPr>
            </p:cxnSp>
            <p:cxnSp>
              <p:nvCxnSpPr>
                <p:cNvPr id="1512" name=""/>
                <p:cNvCxnSpPr>
                  <a:stCxn id="1500" idx="3"/>
                  <a:endCxn id="1503" idx="1"/>
                </p:cNvCxnSpPr>
                <p:nvPr/>
              </p:nvCxnSpPr>
              <p:spPr>
                <a:xfrm>
                  <a:off x="5307120" y="1379160"/>
                  <a:ext cx="334080" cy="1080"/>
                </a:xfrm>
                <a:prstGeom prst="straightConnector1">
                  <a:avLst/>
                </a:prstGeom>
                <a:ln w="12600">
                  <a:solidFill>
                    <a:srgbClr val="000000"/>
                  </a:solidFill>
                  <a:miter/>
                  <a:tailEnd len="lg" type="triangle" w="sm"/>
                </a:ln>
              </p:spPr>
            </p:cxnSp>
            <p:cxnSp>
              <p:nvCxnSpPr>
                <p:cNvPr id="1513" name=""/>
                <p:cNvCxnSpPr>
                  <a:stCxn id="1497" idx="0"/>
                  <a:endCxn id="1490" idx="2"/>
                </p:cNvCxnSpPr>
                <p:nvPr/>
              </p:nvCxnSpPr>
              <p:spPr>
                <a:xfrm flipV="1">
                  <a:off x="5436720" y="1823400"/>
                  <a:ext cx="204120" cy="214920"/>
                </a:xfrm>
                <a:prstGeom prst="straightConnector1">
                  <a:avLst/>
                </a:prstGeom>
                <a:ln w="12600">
                  <a:solidFill>
                    <a:srgbClr val="000000"/>
                  </a:solidFill>
                  <a:miter/>
                  <a:tailEnd len="lg" type="triangle" w="sm"/>
                </a:ln>
              </p:spPr>
            </p:cxnSp>
            <p:cxnSp>
              <p:nvCxnSpPr>
                <p:cNvPr id="1514" name=""/>
                <p:cNvCxnSpPr>
                  <a:stCxn id="1490" idx="0"/>
                  <a:endCxn id="1503" idx="2"/>
                </p:cNvCxnSpPr>
                <p:nvPr/>
              </p:nvCxnSpPr>
              <p:spPr>
                <a:xfrm flipV="1">
                  <a:off x="5640120" y="1436040"/>
                  <a:ext cx="75240" cy="160920"/>
                </a:xfrm>
                <a:prstGeom prst="straightConnector1">
                  <a:avLst/>
                </a:prstGeom>
                <a:ln w="12600">
                  <a:solidFill>
                    <a:srgbClr val="000000"/>
                  </a:solidFill>
                  <a:miter/>
                  <a:tailEnd len="lg" type="triangle" w="sm"/>
                </a:ln>
              </p:spPr>
            </p:cxnSp>
            <p:cxnSp>
              <p:nvCxnSpPr>
                <p:cNvPr id="1515" name=""/>
                <p:cNvCxnSpPr>
                  <a:stCxn id="1490" idx="3"/>
                  <a:endCxn id="1502" idx="1"/>
                </p:cNvCxnSpPr>
                <p:nvPr/>
              </p:nvCxnSpPr>
              <p:spPr>
                <a:xfrm>
                  <a:off x="5751000" y="1711440"/>
                  <a:ext cx="297720" cy="165600"/>
                </a:xfrm>
                <a:prstGeom prst="straightConnector1">
                  <a:avLst/>
                </a:prstGeom>
                <a:ln w="12600">
                  <a:solidFill>
                    <a:srgbClr val="000000"/>
                  </a:solidFill>
                  <a:miter/>
                  <a:tailEnd len="lg" type="triangle" w="sm"/>
                </a:ln>
              </p:spPr>
            </p:cxnSp>
            <p:cxnSp>
              <p:nvCxnSpPr>
                <p:cNvPr id="1516" name=""/>
                <p:cNvCxnSpPr>
                  <a:stCxn id="1497" idx="3"/>
                  <a:endCxn id="1504" idx="1"/>
                </p:cNvCxnSpPr>
                <p:nvPr/>
              </p:nvCxnSpPr>
              <p:spPr>
                <a:xfrm>
                  <a:off x="5603400" y="2152800"/>
                  <a:ext cx="259560" cy="110160"/>
                </a:xfrm>
                <a:prstGeom prst="straightConnector1">
                  <a:avLst/>
                </a:prstGeom>
                <a:ln w="12600">
                  <a:solidFill>
                    <a:srgbClr val="000000"/>
                  </a:solidFill>
                  <a:miter/>
                  <a:tailEnd len="lg" type="triangle" w="sm"/>
                </a:ln>
              </p:spPr>
            </p:cxnSp>
            <p:cxnSp>
              <p:nvCxnSpPr>
                <p:cNvPr id="1517" name=""/>
                <p:cNvCxnSpPr>
                  <a:stCxn id="1504" idx="3"/>
                  <a:endCxn id="1489" idx="1"/>
                </p:cNvCxnSpPr>
                <p:nvPr/>
              </p:nvCxnSpPr>
              <p:spPr>
                <a:xfrm flipV="1">
                  <a:off x="6012000" y="2207880"/>
                  <a:ext cx="297360" cy="54720"/>
                </a:xfrm>
                <a:prstGeom prst="straightConnector1">
                  <a:avLst/>
                </a:prstGeom>
                <a:ln w="12600">
                  <a:solidFill>
                    <a:srgbClr val="000000"/>
                  </a:solidFill>
                  <a:miter/>
                  <a:tailEnd len="lg" type="triangle" w="sm"/>
                </a:ln>
              </p:spPr>
            </p:cxnSp>
            <p:cxnSp>
              <p:nvCxnSpPr>
                <p:cNvPr id="1518" name=""/>
                <p:cNvCxnSpPr>
                  <a:stCxn id="1502" idx="2"/>
                  <a:endCxn id="1489" idx="0"/>
                </p:cNvCxnSpPr>
                <p:nvPr/>
              </p:nvCxnSpPr>
              <p:spPr>
                <a:xfrm>
                  <a:off x="6122520" y="1988640"/>
                  <a:ext cx="297720" cy="105480"/>
                </a:xfrm>
                <a:prstGeom prst="straightConnector1">
                  <a:avLst/>
                </a:prstGeom>
                <a:ln w="12600">
                  <a:solidFill>
                    <a:srgbClr val="000000"/>
                  </a:solidFill>
                  <a:miter/>
                  <a:tailEnd len="lg" type="triangle" w="sm"/>
                </a:ln>
              </p:spPr>
            </p:cxnSp>
            <p:cxnSp>
              <p:nvCxnSpPr>
                <p:cNvPr id="1519" name=""/>
                <p:cNvCxnSpPr>
                  <a:stCxn id="1502" idx="0"/>
                  <a:endCxn id="1498" idx="2"/>
                </p:cNvCxnSpPr>
                <p:nvPr/>
              </p:nvCxnSpPr>
              <p:spPr>
                <a:xfrm flipV="1">
                  <a:off x="6122520" y="1545840"/>
                  <a:ext cx="111960" cy="218160"/>
                </a:xfrm>
                <a:prstGeom prst="straightConnector1">
                  <a:avLst/>
                </a:prstGeom>
                <a:ln w="12600">
                  <a:solidFill>
                    <a:srgbClr val="000000"/>
                  </a:solidFill>
                  <a:miter/>
                  <a:tailEnd len="lg" type="triangle" w="sm"/>
                </a:ln>
              </p:spPr>
            </p:cxnSp>
            <p:cxnSp>
              <p:nvCxnSpPr>
                <p:cNvPr id="1520" name=""/>
                <p:cNvCxnSpPr>
                  <a:stCxn id="1503" idx="3"/>
                  <a:endCxn id="1498" idx="1"/>
                </p:cNvCxnSpPr>
                <p:nvPr/>
              </p:nvCxnSpPr>
              <p:spPr>
                <a:xfrm>
                  <a:off x="5789520" y="1379520"/>
                  <a:ext cx="370800" cy="56160"/>
                </a:xfrm>
                <a:prstGeom prst="straightConnector1">
                  <a:avLst/>
                </a:prstGeom>
                <a:ln w="12600">
                  <a:solidFill>
                    <a:srgbClr val="000000"/>
                  </a:solidFill>
                  <a:miter/>
                  <a:tailEnd len="lg" type="triangle" w="sm"/>
                </a:ln>
              </p:spPr>
            </p:cxnSp>
            <p:cxnSp>
              <p:nvCxnSpPr>
                <p:cNvPr id="1521" name=""/>
                <p:cNvCxnSpPr>
                  <a:stCxn id="1498" idx="3"/>
                  <a:endCxn id="1491" idx="1"/>
                </p:cNvCxnSpPr>
                <p:nvPr/>
              </p:nvCxnSpPr>
              <p:spPr>
                <a:xfrm>
                  <a:off x="6308640" y="1434600"/>
                  <a:ext cx="334080" cy="56520"/>
                </a:xfrm>
                <a:prstGeom prst="straightConnector1">
                  <a:avLst/>
                </a:prstGeom>
                <a:ln w="12600">
                  <a:solidFill>
                    <a:srgbClr val="000000"/>
                  </a:solidFill>
                  <a:miter/>
                  <a:tailEnd len="lg" type="triangle" w="sm"/>
                </a:ln>
              </p:spPr>
            </p:cxnSp>
            <p:cxnSp>
              <p:nvCxnSpPr>
                <p:cNvPr id="1522" name=""/>
                <p:cNvCxnSpPr>
                  <a:stCxn id="1523" idx="3"/>
                  <a:endCxn id="1491" idx="1"/>
                </p:cNvCxnSpPr>
                <p:nvPr/>
              </p:nvCxnSpPr>
              <p:spPr>
                <a:xfrm flipV="1">
                  <a:off x="6531120" y="1490040"/>
                  <a:ext cx="111600" cy="286200"/>
                </a:xfrm>
                <a:prstGeom prst="straightConnector1">
                  <a:avLst/>
                </a:prstGeom>
                <a:ln w="12600">
                  <a:solidFill>
                    <a:srgbClr val="000000"/>
                  </a:solidFill>
                  <a:miter/>
                  <a:tailEnd len="lg" type="triangle" w="sm"/>
                </a:ln>
              </p:spPr>
            </p:cxnSp>
            <p:cxnSp>
              <p:nvCxnSpPr>
                <p:cNvPr id="1524" name=""/>
                <p:cNvCxnSpPr>
                  <a:stCxn id="1489" idx="3"/>
                  <a:endCxn id="1501" idx="1"/>
                </p:cNvCxnSpPr>
                <p:nvPr/>
              </p:nvCxnSpPr>
              <p:spPr>
                <a:xfrm>
                  <a:off x="6531120" y="2208240"/>
                  <a:ext cx="334080" cy="54720"/>
                </a:xfrm>
                <a:prstGeom prst="straightConnector1">
                  <a:avLst/>
                </a:prstGeom>
                <a:ln w="12600">
                  <a:solidFill>
                    <a:srgbClr val="000000"/>
                  </a:solidFill>
                  <a:miter/>
                  <a:tailEnd len="lg" type="triangle" w="sm"/>
                </a:ln>
              </p:spPr>
            </p:cxnSp>
            <p:cxnSp>
              <p:nvCxnSpPr>
                <p:cNvPr id="1525" name=""/>
                <p:cNvCxnSpPr>
                  <a:stCxn id="1491" idx="2"/>
                  <a:endCxn id="1496" idx="0"/>
                </p:cNvCxnSpPr>
                <p:nvPr/>
              </p:nvCxnSpPr>
              <p:spPr>
                <a:xfrm flipH="1">
                  <a:off x="6714720" y="1603080"/>
                  <a:ext cx="94320" cy="270360"/>
                </a:xfrm>
                <a:prstGeom prst="straightConnector1">
                  <a:avLst/>
                </a:prstGeom>
                <a:ln w="12600">
                  <a:solidFill>
                    <a:srgbClr val="000000"/>
                  </a:solidFill>
                  <a:miter/>
                  <a:tailEnd len="lg" type="triangle" w="sm"/>
                </a:ln>
              </p:spPr>
            </p:cxnSp>
            <p:cxnSp>
              <p:nvCxnSpPr>
                <p:cNvPr id="1526" name=""/>
                <p:cNvCxnSpPr>
                  <a:stCxn id="1491" idx="3"/>
                  <a:endCxn id="1506" idx="1"/>
                </p:cNvCxnSpPr>
                <p:nvPr/>
              </p:nvCxnSpPr>
              <p:spPr>
                <a:xfrm flipV="1">
                  <a:off x="6975360" y="1323720"/>
                  <a:ext cx="186480" cy="167040"/>
                </a:xfrm>
                <a:prstGeom prst="straightConnector1">
                  <a:avLst/>
                </a:prstGeom>
                <a:ln w="12600">
                  <a:solidFill>
                    <a:srgbClr val="000000"/>
                  </a:solidFill>
                  <a:miter/>
                  <a:tailEnd len="lg" type="triangle" w="sm"/>
                </a:ln>
              </p:spPr>
            </p:cxnSp>
            <p:cxnSp>
              <p:nvCxnSpPr>
                <p:cNvPr id="1527" name=""/>
                <p:cNvCxnSpPr>
                  <a:stCxn id="1506" idx="3"/>
                  <a:endCxn id="1499" idx="0"/>
                </p:cNvCxnSpPr>
                <p:nvPr/>
              </p:nvCxnSpPr>
              <p:spPr>
                <a:xfrm>
                  <a:off x="7308720" y="1323720"/>
                  <a:ext cx="408960" cy="52920"/>
                </a:xfrm>
                <a:prstGeom prst="straightConnector1">
                  <a:avLst/>
                </a:prstGeom>
                <a:ln w="12600">
                  <a:solidFill>
                    <a:srgbClr val="000000"/>
                  </a:solidFill>
                  <a:miter/>
                  <a:tailEnd len="lg" type="triangle" w="sm"/>
                </a:ln>
              </p:spPr>
            </p:cxnSp>
            <p:cxnSp>
              <p:nvCxnSpPr>
                <p:cNvPr id="1528" name=""/>
                <p:cNvCxnSpPr>
                  <a:stCxn id="1505" idx="3"/>
                  <a:endCxn id="1492" idx="1"/>
                </p:cNvCxnSpPr>
                <p:nvPr/>
              </p:nvCxnSpPr>
              <p:spPr>
                <a:xfrm>
                  <a:off x="7272360" y="1820880"/>
                  <a:ext cx="186480" cy="148320"/>
                </a:xfrm>
                <a:prstGeom prst="straightConnector1">
                  <a:avLst/>
                </a:prstGeom>
                <a:ln w="12600">
                  <a:solidFill>
                    <a:srgbClr val="000000"/>
                  </a:solidFill>
                  <a:miter/>
                  <a:tailEnd len="lg" type="triangle" w="sm"/>
                </a:ln>
              </p:spPr>
            </p:cxnSp>
            <p:cxnSp>
              <p:nvCxnSpPr>
                <p:cNvPr id="1529" name=""/>
                <p:cNvCxnSpPr>
                  <a:stCxn id="1501" idx="3"/>
                  <a:endCxn id="1505" idx="2"/>
                </p:cNvCxnSpPr>
                <p:nvPr/>
              </p:nvCxnSpPr>
              <p:spPr>
                <a:xfrm flipV="1">
                  <a:off x="7012080" y="1877400"/>
                  <a:ext cx="186480" cy="384840"/>
                </a:xfrm>
                <a:prstGeom prst="straightConnector1">
                  <a:avLst/>
                </a:prstGeom>
                <a:ln w="12600">
                  <a:solidFill>
                    <a:srgbClr val="000000"/>
                  </a:solidFill>
                  <a:miter/>
                  <a:tailEnd len="lg" type="triangle" w="sm"/>
                </a:ln>
              </p:spPr>
            </p:cxnSp>
            <p:cxnSp>
              <p:nvCxnSpPr>
                <p:cNvPr id="1530" name=""/>
                <p:cNvCxnSpPr>
                  <a:stCxn id="1499" idx="2"/>
                  <a:endCxn id="1492" idx="0"/>
                </p:cNvCxnSpPr>
                <p:nvPr/>
              </p:nvCxnSpPr>
              <p:spPr>
                <a:xfrm flipH="1">
                  <a:off x="7549920" y="1603080"/>
                  <a:ext cx="167040" cy="270360"/>
                </a:xfrm>
                <a:prstGeom prst="straightConnector1">
                  <a:avLst/>
                </a:prstGeom>
                <a:ln w="12600">
                  <a:solidFill>
                    <a:srgbClr val="000000"/>
                  </a:solidFill>
                  <a:miter/>
                  <a:tailEnd len="lg" type="triangle" w="sm"/>
                </a:ln>
              </p:spPr>
            </p:cxnSp>
            <p:cxnSp>
              <p:nvCxnSpPr>
                <p:cNvPr id="1531" name=""/>
                <p:cNvCxnSpPr>
                  <a:stCxn id="1507" idx="0"/>
                  <a:endCxn id="1492" idx="2"/>
                </p:cNvCxnSpPr>
                <p:nvPr/>
              </p:nvCxnSpPr>
              <p:spPr>
                <a:xfrm flipV="1">
                  <a:off x="7419960" y="2061360"/>
                  <a:ext cx="131040" cy="143640"/>
                </a:xfrm>
                <a:prstGeom prst="straightConnector1">
                  <a:avLst/>
                </a:prstGeom>
                <a:ln w="12600">
                  <a:solidFill>
                    <a:srgbClr val="000000"/>
                  </a:solidFill>
                  <a:miter/>
                  <a:tailEnd len="lg" type="triangle" w="sm"/>
                </a:ln>
              </p:spPr>
            </p:cxnSp>
            <p:sp>
              <p:nvSpPr>
                <p:cNvPr id="1532" name=""/>
                <p:cNvSpPr/>
                <p:nvPr/>
              </p:nvSpPr>
              <p:spPr>
                <a:xfrm>
                  <a:off x="7864560" y="1873080"/>
                  <a:ext cx="185760" cy="1890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33" name=""/>
                <p:cNvCxnSpPr>
                  <a:stCxn id="1492" idx="3"/>
                  <a:endCxn id="1532" idx="1"/>
                </p:cNvCxnSpPr>
                <p:nvPr/>
              </p:nvCxnSpPr>
              <p:spPr>
                <a:xfrm>
                  <a:off x="7642080" y="1968120"/>
                  <a:ext cx="223200" cy="1080"/>
                </a:xfrm>
                <a:prstGeom prst="straightConnector1">
                  <a:avLst/>
                </a:prstGeom>
                <a:ln w="12600">
                  <a:solidFill>
                    <a:srgbClr val="000000"/>
                  </a:solidFill>
                  <a:miter/>
                  <a:tailEnd len="lg" type="triangle" w="sm"/>
                </a:ln>
              </p:spPr>
            </p:cxnSp>
            <p:cxnSp>
              <p:nvCxnSpPr>
                <p:cNvPr id="1534" name=""/>
                <p:cNvCxnSpPr>
                  <a:stCxn id="1499" idx="3"/>
                  <a:endCxn id="1532" idx="0"/>
                </p:cNvCxnSpPr>
                <p:nvPr/>
              </p:nvCxnSpPr>
              <p:spPr>
                <a:xfrm>
                  <a:off x="7827840" y="1490760"/>
                  <a:ext cx="131040" cy="383040"/>
                </a:xfrm>
                <a:prstGeom prst="straightConnector1">
                  <a:avLst/>
                </a:prstGeom>
                <a:ln w="12600">
                  <a:solidFill>
                    <a:srgbClr val="000000"/>
                  </a:solidFill>
                  <a:miter/>
                  <a:tailEnd len="lg" type="triangle" w="sm"/>
                </a:ln>
              </p:spPr>
            </p:cxnSp>
            <p:cxnSp>
              <p:nvCxnSpPr>
                <p:cNvPr id="1535" name=""/>
                <p:cNvCxnSpPr>
                  <a:stCxn id="1507" idx="3"/>
                  <a:endCxn id="1532" idx="2"/>
                </p:cNvCxnSpPr>
                <p:nvPr/>
              </p:nvCxnSpPr>
              <p:spPr>
                <a:xfrm flipV="1">
                  <a:off x="7494480" y="2061720"/>
                  <a:ext cx="464400" cy="200880"/>
                </a:xfrm>
                <a:prstGeom prst="straightConnector1">
                  <a:avLst/>
                </a:prstGeom>
                <a:ln w="12600">
                  <a:solidFill>
                    <a:srgbClr val="000000"/>
                  </a:solidFill>
                  <a:miter/>
                  <a:tailEnd len="lg" type="triangle" w="sm"/>
                </a:ln>
              </p:spPr>
            </p:cxnSp>
            <p:cxnSp>
              <p:nvCxnSpPr>
                <p:cNvPr id="1536" name=""/>
                <p:cNvCxnSpPr>
                  <a:stCxn id="1493" idx="3"/>
                  <a:endCxn id="1490" idx="1"/>
                </p:cNvCxnSpPr>
                <p:nvPr/>
              </p:nvCxnSpPr>
              <p:spPr>
                <a:xfrm flipV="1">
                  <a:off x="5159160" y="1711080"/>
                  <a:ext cx="370440" cy="165600"/>
                </a:xfrm>
                <a:prstGeom prst="straightConnector1">
                  <a:avLst/>
                </a:prstGeom>
                <a:ln w="12600">
                  <a:solidFill>
                    <a:srgbClr val="000000"/>
                  </a:solidFill>
                  <a:miter/>
                  <a:tailEnd len="lg" type="triangle" w="sm"/>
                </a:ln>
              </p:spPr>
            </p:cxnSp>
            <p:cxnSp>
              <p:nvCxnSpPr>
                <p:cNvPr id="1537" name=""/>
                <p:cNvCxnSpPr>
                  <a:stCxn id="1502" idx="3"/>
                  <a:endCxn id="1523" idx="1"/>
                </p:cNvCxnSpPr>
                <p:nvPr/>
              </p:nvCxnSpPr>
              <p:spPr>
                <a:xfrm flipV="1">
                  <a:off x="6197400" y="1775880"/>
                  <a:ext cx="184680" cy="100800"/>
                </a:xfrm>
                <a:prstGeom prst="straightConnector1">
                  <a:avLst/>
                </a:prstGeom>
                <a:ln w="12600">
                  <a:solidFill>
                    <a:srgbClr val="000000"/>
                  </a:solidFill>
                  <a:miter/>
                  <a:tailEnd len="lg" type="triangle" w="sm"/>
                </a:ln>
              </p:spPr>
            </p:cxnSp>
            <p:cxnSp>
              <p:nvCxnSpPr>
                <p:cNvPr id="1538" name=""/>
                <p:cNvCxnSpPr>
                  <a:stCxn id="1496" idx="3"/>
                  <a:endCxn id="1505" idx="1"/>
                </p:cNvCxnSpPr>
                <p:nvPr/>
              </p:nvCxnSpPr>
              <p:spPr>
                <a:xfrm flipV="1">
                  <a:off x="6789600" y="1820160"/>
                  <a:ext cx="334080" cy="165960"/>
                </a:xfrm>
                <a:prstGeom prst="straightConnector1">
                  <a:avLst/>
                </a:prstGeom>
                <a:ln w="12600">
                  <a:solidFill>
                    <a:srgbClr val="000000"/>
                  </a:solidFill>
                  <a:miter/>
                  <a:tailEnd len="lg" type="triangle" w="sm"/>
                </a:ln>
              </p:spPr>
            </p:cxnSp>
            <p:cxnSp>
              <p:nvCxnSpPr>
                <p:cNvPr id="1539" name=""/>
                <p:cNvCxnSpPr>
                  <a:stCxn id="1523" idx="2"/>
                  <a:endCxn id="1496" idx="1"/>
                </p:cNvCxnSpPr>
                <p:nvPr/>
              </p:nvCxnSpPr>
              <p:spPr>
                <a:xfrm>
                  <a:off x="6456240" y="1846440"/>
                  <a:ext cx="186480" cy="140400"/>
                </a:xfrm>
                <a:prstGeom prst="straightConnector1">
                  <a:avLst/>
                </a:prstGeom>
                <a:ln w="12600">
                  <a:solidFill>
                    <a:srgbClr val="000000"/>
                  </a:solidFill>
                  <a:miter/>
                  <a:tailEnd len="lg" type="triangle" w="sm"/>
                </a:ln>
              </p:spPr>
            </p:cxnSp>
            <p:sp>
              <p:nvSpPr>
                <p:cNvPr id="1523" name=""/>
                <p:cNvSpPr/>
                <p:nvPr/>
              </p:nvSpPr>
              <p:spPr>
                <a:xfrm>
                  <a:off x="6381720" y="1708200"/>
                  <a:ext cx="149400" cy="1382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540" name=""/>
            <p:cNvGrpSpPr/>
            <p:nvPr/>
          </p:nvGrpSpPr>
          <p:grpSpPr>
            <a:xfrm>
              <a:off x="2286000" y="5410080"/>
              <a:ext cx="4572000" cy="1295640"/>
              <a:chOff x="2286000" y="5410080"/>
              <a:chExt cx="4572000" cy="1295640"/>
            </a:xfrm>
          </p:grpSpPr>
          <p:sp>
            <p:nvSpPr>
              <p:cNvPr id="1541" name=""/>
              <p:cNvSpPr/>
              <p:nvPr/>
            </p:nvSpPr>
            <p:spPr>
              <a:xfrm>
                <a:off x="2286000" y="5410080"/>
                <a:ext cx="4572000" cy="1295640"/>
              </a:xfrm>
              <a:custGeom>
                <a:avLst/>
                <a:gdLst>
                  <a:gd name="textAreaLeft" fmla="*/ 0 w 4572000"/>
                  <a:gd name="textAreaRight" fmla="*/ 4572360 w 457200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2" name=""/>
              <p:cNvGrpSpPr/>
              <p:nvPr/>
            </p:nvGrpSpPr>
            <p:grpSpPr>
              <a:xfrm>
                <a:off x="2590920" y="5562720"/>
                <a:ext cx="3428640" cy="837720"/>
                <a:chOff x="2590920" y="5562720"/>
                <a:chExt cx="3428640" cy="837720"/>
              </a:xfrm>
            </p:grpSpPr>
            <p:sp>
              <p:nvSpPr>
                <p:cNvPr id="1543" name=""/>
                <p:cNvSpPr/>
                <p:nvPr/>
              </p:nvSpPr>
              <p:spPr>
                <a:xfrm>
                  <a:off x="2590920" y="556272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2844720" y="5562720"/>
                  <a:ext cx="158760" cy="147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3130560" y="571032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3384720" y="571032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3670200" y="571032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4051440" y="566100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4559400" y="566100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4876920" y="5661000"/>
                  <a:ext cx="158400" cy="147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5130720" y="566100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5448240" y="566100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5734080" y="566100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5861160" y="5907960"/>
                  <a:ext cx="158400" cy="147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5321520" y="6055560"/>
                  <a:ext cx="158760" cy="147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5004000" y="595692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4749840" y="595692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4495680" y="595692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4178160" y="595692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3924360" y="5956920"/>
                  <a:ext cx="158400" cy="147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3670200" y="625284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3416400" y="605556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3130560" y="6006240"/>
                  <a:ext cx="158760" cy="147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2844720" y="600624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2844720" y="580896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2844720" y="625284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3162240" y="625284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3956040" y="625284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4241880" y="625284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4749840" y="625284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5004000" y="6252840"/>
                  <a:ext cx="15840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5321520" y="625284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5607000" y="6154200"/>
                  <a:ext cx="158760" cy="147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74" name=""/>
                <p:cNvCxnSpPr>
                  <a:stCxn id="1543" idx="3"/>
                  <a:endCxn id="1544" idx="1"/>
                </p:cNvCxnSpPr>
                <p:nvPr/>
              </p:nvCxnSpPr>
              <p:spPr>
                <a:xfrm>
                  <a:off x="2749320" y="5636160"/>
                  <a:ext cx="95760" cy="1080"/>
                </a:xfrm>
                <a:prstGeom prst="bentConnector2">
                  <a:avLst/>
                </a:prstGeom>
                <a:ln w="12600">
                  <a:solidFill>
                    <a:srgbClr val="000000"/>
                  </a:solidFill>
                  <a:miter/>
                </a:ln>
              </p:spPr>
            </p:cxnSp>
            <p:cxnSp>
              <p:nvCxnSpPr>
                <p:cNvPr id="1575" name=""/>
                <p:cNvCxnSpPr>
                  <a:stCxn id="1544" idx="3"/>
                  <a:endCxn id="1545" idx="1"/>
                </p:cNvCxnSpPr>
                <p:nvPr/>
              </p:nvCxnSpPr>
              <p:spPr>
                <a:xfrm>
                  <a:off x="3003480" y="5636520"/>
                  <a:ext cx="127440" cy="148320"/>
                </a:xfrm>
                <a:prstGeom prst="bentConnector3">
                  <a:avLst>
                    <a:gd name="adj1" fmla="val 49858"/>
                  </a:avLst>
                </a:prstGeom>
                <a:ln w="12600">
                  <a:solidFill>
                    <a:srgbClr val="000000"/>
                  </a:solidFill>
                  <a:miter/>
                </a:ln>
              </p:spPr>
            </p:cxnSp>
            <p:cxnSp>
              <p:nvCxnSpPr>
                <p:cNvPr id="1576" name=""/>
                <p:cNvCxnSpPr>
                  <a:stCxn id="1545" idx="3"/>
                  <a:endCxn id="1546" idx="1"/>
                </p:cNvCxnSpPr>
                <p:nvPr/>
              </p:nvCxnSpPr>
              <p:spPr>
                <a:xfrm>
                  <a:off x="3289320" y="5784120"/>
                  <a:ext cx="95760" cy="1080"/>
                </a:xfrm>
                <a:prstGeom prst="bentConnector2">
                  <a:avLst/>
                </a:prstGeom>
                <a:ln w="12600">
                  <a:solidFill>
                    <a:srgbClr val="000000"/>
                  </a:solidFill>
                  <a:miter/>
                </a:ln>
              </p:spPr>
            </p:cxnSp>
            <p:cxnSp>
              <p:nvCxnSpPr>
                <p:cNvPr id="1577" name=""/>
                <p:cNvCxnSpPr>
                  <a:stCxn id="1546" idx="3"/>
                  <a:endCxn id="1547" idx="1"/>
                </p:cNvCxnSpPr>
                <p:nvPr/>
              </p:nvCxnSpPr>
              <p:spPr>
                <a:xfrm>
                  <a:off x="3543120" y="5784120"/>
                  <a:ext cx="127440" cy="1080"/>
                </a:xfrm>
                <a:prstGeom prst="bentConnector2">
                  <a:avLst/>
                </a:prstGeom>
                <a:ln w="12600">
                  <a:solidFill>
                    <a:srgbClr val="000000"/>
                  </a:solidFill>
                  <a:miter/>
                </a:ln>
              </p:spPr>
            </p:cxnSp>
            <p:cxnSp>
              <p:nvCxnSpPr>
                <p:cNvPr id="1578" name=""/>
                <p:cNvCxnSpPr>
                  <a:stCxn id="1547" idx="3"/>
                  <a:endCxn id="1560" idx="1"/>
                </p:cNvCxnSpPr>
                <p:nvPr/>
              </p:nvCxnSpPr>
              <p:spPr>
                <a:xfrm>
                  <a:off x="3828960" y="5784480"/>
                  <a:ext cx="95760" cy="246960"/>
                </a:xfrm>
                <a:prstGeom prst="bentConnector3">
                  <a:avLst>
                    <a:gd name="adj1" fmla="val 49811"/>
                  </a:avLst>
                </a:prstGeom>
                <a:ln w="12600">
                  <a:solidFill>
                    <a:srgbClr val="000000"/>
                  </a:solidFill>
                  <a:miter/>
                </a:ln>
              </p:spPr>
            </p:cxnSp>
            <p:cxnSp>
              <p:nvCxnSpPr>
                <p:cNvPr id="1579" name=""/>
                <p:cNvCxnSpPr>
                  <a:stCxn id="1547" idx="3"/>
                  <a:endCxn id="1548" idx="1"/>
                </p:cNvCxnSpPr>
                <p:nvPr/>
              </p:nvCxnSpPr>
              <p:spPr>
                <a:xfrm flipV="1">
                  <a:off x="3828600" y="5734440"/>
                  <a:ext cx="222840" cy="50040"/>
                </a:xfrm>
                <a:prstGeom prst="bentConnector3">
                  <a:avLst>
                    <a:gd name="adj1" fmla="val 50000"/>
                  </a:avLst>
                </a:prstGeom>
                <a:ln w="12600">
                  <a:solidFill>
                    <a:srgbClr val="000000"/>
                  </a:solidFill>
                  <a:miter/>
                </a:ln>
              </p:spPr>
            </p:cxnSp>
            <p:cxnSp>
              <p:nvCxnSpPr>
                <p:cNvPr id="1580" name=""/>
                <p:cNvCxnSpPr>
                  <a:stCxn id="1560" idx="3"/>
                  <a:endCxn id="1559" idx="1"/>
                </p:cNvCxnSpPr>
                <p:nvPr/>
              </p:nvCxnSpPr>
              <p:spPr>
                <a:xfrm>
                  <a:off x="4083120" y="6030720"/>
                  <a:ext cx="95760" cy="1080"/>
                </a:xfrm>
                <a:prstGeom prst="bentConnector2">
                  <a:avLst/>
                </a:prstGeom>
                <a:ln w="12600">
                  <a:solidFill>
                    <a:srgbClr val="000000"/>
                  </a:solidFill>
                  <a:miter/>
                </a:ln>
              </p:spPr>
            </p:cxnSp>
            <p:cxnSp>
              <p:nvCxnSpPr>
                <p:cNvPr id="1581" name=""/>
                <p:cNvCxnSpPr>
                  <a:stCxn id="1559" idx="3"/>
                  <a:endCxn id="1558" idx="1"/>
                </p:cNvCxnSpPr>
                <p:nvPr/>
              </p:nvCxnSpPr>
              <p:spPr>
                <a:xfrm>
                  <a:off x="4337280" y="6030720"/>
                  <a:ext cx="159120" cy="1080"/>
                </a:xfrm>
                <a:prstGeom prst="bentConnector2">
                  <a:avLst/>
                </a:prstGeom>
                <a:ln w="12600">
                  <a:solidFill>
                    <a:srgbClr val="000000"/>
                  </a:solidFill>
                  <a:miter/>
                </a:ln>
              </p:spPr>
            </p:cxnSp>
            <p:cxnSp>
              <p:nvCxnSpPr>
                <p:cNvPr id="1582" name=""/>
                <p:cNvCxnSpPr>
                  <a:stCxn id="1548" idx="3"/>
                  <a:endCxn id="1549" idx="1"/>
                </p:cNvCxnSpPr>
                <p:nvPr/>
              </p:nvCxnSpPr>
              <p:spPr>
                <a:xfrm>
                  <a:off x="4210200" y="5734800"/>
                  <a:ext cx="349920" cy="1080"/>
                </a:xfrm>
                <a:prstGeom prst="bentConnector2">
                  <a:avLst/>
                </a:prstGeom>
                <a:ln w="12600">
                  <a:solidFill>
                    <a:srgbClr val="000000"/>
                  </a:solidFill>
                  <a:miter/>
                </a:ln>
              </p:spPr>
            </p:cxnSp>
            <p:cxnSp>
              <p:nvCxnSpPr>
                <p:cNvPr id="1583" name=""/>
                <p:cNvCxnSpPr>
                  <a:stCxn id="1549" idx="3"/>
                  <a:endCxn id="1550" idx="1"/>
                </p:cNvCxnSpPr>
                <p:nvPr/>
              </p:nvCxnSpPr>
              <p:spPr>
                <a:xfrm>
                  <a:off x="4718160" y="5734800"/>
                  <a:ext cx="159120" cy="1080"/>
                </a:xfrm>
                <a:prstGeom prst="bentConnector2">
                  <a:avLst/>
                </a:prstGeom>
                <a:ln w="12600">
                  <a:solidFill>
                    <a:srgbClr val="000000"/>
                  </a:solidFill>
                  <a:miter/>
                </a:ln>
              </p:spPr>
            </p:cxnSp>
            <p:cxnSp>
              <p:nvCxnSpPr>
                <p:cNvPr id="1584" name=""/>
                <p:cNvCxnSpPr>
                  <a:stCxn id="1565" idx="3"/>
                  <a:endCxn id="1545" idx="1"/>
                </p:cNvCxnSpPr>
                <p:nvPr/>
              </p:nvCxnSpPr>
              <p:spPr>
                <a:xfrm flipV="1">
                  <a:off x="3003480" y="5783760"/>
                  <a:ext cx="127440" cy="99000"/>
                </a:xfrm>
                <a:prstGeom prst="bentConnector3">
                  <a:avLst>
                    <a:gd name="adj1" fmla="val 49858"/>
                  </a:avLst>
                </a:prstGeom>
                <a:ln w="12600">
                  <a:solidFill>
                    <a:srgbClr val="000000"/>
                  </a:solidFill>
                  <a:miter/>
                </a:ln>
              </p:spPr>
            </p:cxnSp>
            <p:cxnSp>
              <p:nvCxnSpPr>
                <p:cNvPr id="1585" name=""/>
                <p:cNvCxnSpPr>
                  <a:stCxn id="1564" idx="3"/>
                  <a:endCxn id="1563" idx="1"/>
                </p:cNvCxnSpPr>
                <p:nvPr/>
              </p:nvCxnSpPr>
              <p:spPr>
                <a:xfrm>
                  <a:off x="3003480" y="6080040"/>
                  <a:ext cx="127440" cy="1080"/>
                </a:xfrm>
                <a:prstGeom prst="bentConnector2">
                  <a:avLst/>
                </a:prstGeom>
                <a:ln w="12600">
                  <a:solidFill>
                    <a:srgbClr val="000000"/>
                  </a:solidFill>
                  <a:miter/>
                </a:ln>
              </p:spPr>
            </p:cxnSp>
            <p:cxnSp>
              <p:nvCxnSpPr>
                <p:cNvPr id="1586" name=""/>
                <p:cNvCxnSpPr>
                  <a:stCxn id="1563" idx="3"/>
                  <a:endCxn id="1546" idx="1"/>
                </p:cNvCxnSpPr>
                <p:nvPr/>
              </p:nvCxnSpPr>
              <p:spPr>
                <a:xfrm flipV="1">
                  <a:off x="3289320" y="5783760"/>
                  <a:ext cx="95760" cy="296280"/>
                </a:xfrm>
                <a:prstGeom prst="bentConnector3">
                  <a:avLst>
                    <a:gd name="adj1" fmla="val 49811"/>
                  </a:avLst>
                </a:prstGeom>
                <a:ln w="12600">
                  <a:solidFill>
                    <a:srgbClr val="000000"/>
                  </a:solidFill>
                  <a:miter/>
                </a:ln>
              </p:spPr>
            </p:cxnSp>
            <p:cxnSp>
              <p:nvCxnSpPr>
                <p:cNvPr id="1587" name=""/>
                <p:cNvCxnSpPr>
                  <a:stCxn id="1559" idx="3"/>
                  <a:endCxn id="1549" idx="1"/>
                </p:cNvCxnSpPr>
                <p:nvPr/>
              </p:nvCxnSpPr>
              <p:spPr>
                <a:xfrm flipV="1">
                  <a:off x="4336920" y="5734440"/>
                  <a:ext cx="222840" cy="296280"/>
                </a:xfrm>
                <a:prstGeom prst="bentConnector3">
                  <a:avLst>
                    <a:gd name="adj1" fmla="val 50000"/>
                  </a:avLst>
                </a:prstGeom>
                <a:ln w="12600">
                  <a:solidFill>
                    <a:srgbClr val="000000"/>
                  </a:solidFill>
                  <a:miter/>
                </a:ln>
              </p:spPr>
            </p:cxnSp>
            <p:cxnSp>
              <p:nvCxnSpPr>
                <p:cNvPr id="1588" name=""/>
                <p:cNvCxnSpPr>
                  <a:stCxn id="1558" idx="3"/>
                  <a:endCxn id="1570" idx="1"/>
                </p:cNvCxnSpPr>
                <p:nvPr/>
              </p:nvCxnSpPr>
              <p:spPr>
                <a:xfrm>
                  <a:off x="4654440" y="6030720"/>
                  <a:ext cx="95760" cy="296280"/>
                </a:xfrm>
                <a:prstGeom prst="bentConnector3">
                  <a:avLst>
                    <a:gd name="adj1" fmla="val 49811"/>
                  </a:avLst>
                </a:prstGeom>
                <a:ln w="12600">
                  <a:solidFill>
                    <a:srgbClr val="000000"/>
                  </a:solidFill>
                  <a:miter/>
                </a:ln>
              </p:spPr>
            </p:cxnSp>
            <p:cxnSp>
              <p:nvCxnSpPr>
                <p:cNvPr id="1589" name=""/>
                <p:cNvCxnSpPr>
                  <a:stCxn id="1558" idx="3"/>
                  <a:endCxn id="1557" idx="1"/>
                </p:cNvCxnSpPr>
                <p:nvPr/>
              </p:nvCxnSpPr>
              <p:spPr>
                <a:xfrm>
                  <a:off x="4654440" y="6030720"/>
                  <a:ext cx="95760" cy="1080"/>
                </a:xfrm>
                <a:prstGeom prst="bentConnector2">
                  <a:avLst/>
                </a:prstGeom>
                <a:ln w="12600">
                  <a:solidFill>
                    <a:srgbClr val="000000"/>
                  </a:solidFill>
                  <a:miter/>
                </a:ln>
              </p:spPr>
            </p:cxnSp>
            <p:cxnSp>
              <p:nvCxnSpPr>
                <p:cNvPr id="1590" name=""/>
                <p:cNvCxnSpPr>
                  <a:stCxn id="1550" idx="3"/>
                  <a:endCxn id="1551" idx="1"/>
                </p:cNvCxnSpPr>
                <p:nvPr/>
              </p:nvCxnSpPr>
              <p:spPr>
                <a:xfrm>
                  <a:off x="5035680" y="5734800"/>
                  <a:ext cx="95760" cy="1080"/>
                </a:xfrm>
                <a:prstGeom prst="bentConnector2">
                  <a:avLst/>
                </a:prstGeom>
                <a:ln w="12600">
                  <a:solidFill>
                    <a:srgbClr val="000000"/>
                  </a:solidFill>
                  <a:miter/>
                </a:ln>
              </p:spPr>
            </p:cxnSp>
            <p:cxnSp>
              <p:nvCxnSpPr>
                <p:cNvPr id="1591" name=""/>
                <p:cNvCxnSpPr>
                  <a:stCxn id="1551" idx="3"/>
                  <a:endCxn id="1552" idx="1"/>
                </p:cNvCxnSpPr>
                <p:nvPr/>
              </p:nvCxnSpPr>
              <p:spPr>
                <a:xfrm>
                  <a:off x="5289840" y="5734800"/>
                  <a:ext cx="159120" cy="1080"/>
                </a:xfrm>
                <a:prstGeom prst="bentConnector2">
                  <a:avLst/>
                </a:prstGeom>
                <a:ln w="12600">
                  <a:solidFill>
                    <a:srgbClr val="000000"/>
                  </a:solidFill>
                  <a:miter/>
                </a:ln>
              </p:spPr>
            </p:cxnSp>
            <p:cxnSp>
              <p:nvCxnSpPr>
                <p:cNvPr id="1592" name=""/>
                <p:cNvCxnSpPr>
                  <a:stCxn id="1552" idx="3"/>
                  <a:endCxn id="1553" idx="1"/>
                </p:cNvCxnSpPr>
                <p:nvPr/>
              </p:nvCxnSpPr>
              <p:spPr>
                <a:xfrm>
                  <a:off x="5607000" y="5734800"/>
                  <a:ext cx="127440" cy="1080"/>
                </a:xfrm>
                <a:prstGeom prst="bentConnector2">
                  <a:avLst/>
                </a:prstGeom>
                <a:ln w="12600">
                  <a:solidFill>
                    <a:srgbClr val="000000"/>
                  </a:solidFill>
                  <a:miter/>
                </a:ln>
              </p:spPr>
            </p:cxnSp>
            <p:cxnSp>
              <p:nvCxnSpPr>
                <p:cNvPr id="1593" name=""/>
                <p:cNvCxnSpPr>
                  <a:stCxn id="1551" idx="3"/>
                  <a:endCxn id="1554" idx="1"/>
                </p:cNvCxnSpPr>
                <p:nvPr/>
              </p:nvCxnSpPr>
              <p:spPr>
                <a:xfrm>
                  <a:off x="5289480" y="5735160"/>
                  <a:ext cx="572040" cy="246960"/>
                </a:xfrm>
                <a:prstGeom prst="bentConnector3">
                  <a:avLst>
                    <a:gd name="adj1" fmla="val 13853"/>
                  </a:avLst>
                </a:prstGeom>
                <a:ln w="12600">
                  <a:solidFill>
                    <a:srgbClr val="000000"/>
                  </a:solidFill>
                  <a:miter/>
                </a:ln>
              </p:spPr>
            </p:cxnSp>
            <p:cxnSp>
              <p:nvCxnSpPr>
                <p:cNvPr id="1594" name=""/>
                <p:cNvCxnSpPr>
                  <a:stCxn id="1566" idx="3"/>
                  <a:endCxn id="1563" idx="1"/>
                </p:cNvCxnSpPr>
                <p:nvPr/>
              </p:nvCxnSpPr>
              <p:spPr>
                <a:xfrm flipV="1">
                  <a:off x="3003480" y="6080040"/>
                  <a:ext cx="127440" cy="246960"/>
                </a:xfrm>
                <a:prstGeom prst="bentConnector3">
                  <a:avLst>
                    <a:gd name="adj1" fmla="val 49858"/>
                  </a:avLst>
                </a:prstGeom>
                <a:ln w="12600">
                  <a:solidFill>
                    <a:srgbClr val="000000"/>
                  </a:solidFill>
                  <a:miter/>
                </a:ln>
              </p:spPr>
            </p:cxnSp>
            <p:cxnSp>
              <p:nvCxnSpPr>
                <p:cNvPr id="1595" name=""/>
                <p:cNvCxnSpPr>
                  <a:stCxn id="1543" idx="3"/>
                  <a:endCxn id="1564" idx="1"/>
                </p:cNvCxnSpPr>
                <p:nvPr/>
              </p:nvCxnSpPr>
              <p:spPr>
                <a:xfrm>
                  <a:off x="2749320" y="5636520"/>
                  <a:ext cx="95760" cy="444240"/>
                </a:xfrm>
                <a:prstGeom prst="bentConnector3">
                  <a:avLst>
                    <a:gd name="adj1" fmla="val 49811"/>
                  </a:avLst>
                </a:prstGeom>
                <a:ln w="12600">
                  <a:solidFill>
                    <a:srgbClr val="000000"/>
                  </a:solidFill>
                  <a:miter/>
                </a:ln>
              </p:spPr>
            </p:cxnSp>
            <p:cxnSp>
              <p:nvCxnSpPr>
                <p:cNvPr id="1596" name=""/>
                <p:cNvCxnSpPr>
                  <a:stCxn id="1543" idx="3"/>
                  <a:endCxn id="1565" idx="1"/>
                </p:cNvCxnSpPr>
                <p:nvPr/>
              </p:nvCxnSpPr>
              <p:spPr>
                <a:xfrm>
                  <a:off x="2749320" y="5636520"/>
                  <a:ext cx="95760" cy="246960"/>
                </a:xfrm>
                <a:prstGeom prst="bentConnector3">
                  <a:avLst>
                    <a:gd name="adj1" fmla="val 49811"/>
                  </a:avLst>
                </a:prstGeom>
                <a:ln w="12600">
                  <a:solidFill>
                    <a:srgbClr val="000000"/>
                  </a:solidFill>
                  <a:miter/>
                </a:ln>
              </p:spPr>
            </p:cxnSp>
            <p:cxnSp>
              <p:nvCxnSpPr>
                <p:cNvPr id="1597" name=""/>
                <p:cNvCxnSpPr>
                  <a:stCxn id="1566" idx="3"/>
                  <a:endCxn id="1567" idx="1"/>
                </p:cNvCxnSpPr>
                <p:nvPr/>
              </p:nvCxnSpPr>
              <p:spPr>
                <a:xfrm>
                  <a:off x="3003480" y="6326640"/>
                  <a:ext cx="159120" cy="1080"/>
                </a:xfrm>
                <a:prstGeom prst="bentConnector2">
                  <a:avLst/>
                </a:prstGeom>
                <a:ln w="12600">
                  <a:solidFill>
                    <a:srgbClr val="000000"/>
                  </a:solidFill>
                  <a:miter/>
                </a:ln>
              </p:spPr>
            </p:cxnSp>
            <p:cxnSp>
              <p:nvCxnSpPr>
                <p:cNvPr id="1598" name=""/>
                <p:cNvCxnSpPr>
                  <a:stCxn id="1567" idx="3"/>
                  <a:endCxn id="1562" idx="1"/>
                </p:cNvCxnSpPr>
                <p:nvPr/>
              </p:nvCxnSpPr>
              <p:spPr>
                <a:xfrm flipV="1">
                  <a:off x="3321000" y="6129360"/>
                  <a:ext cx="95760" cy="198000"/>
                </a:xfrm>
                <a:prstGeom prst="bentConnector3">
                  <a:avLst>
                    <a:gd name="adj1" fmla="val 49811"/>
                  </a:avLst>
                </a:prstGeom>
                <a:ln w="12600">
                  <a:solidFill>
                    <a:srgbClr val="000000"/>
                  </a:solidFill>
                  <a:miter/>
                </a:ln>
              </p:spPr>
            </p:cxnSp>
            <p:cxnSp>
              <p:nvCxnSpPr>
                <p:cNvPr id="1599" name=""/>
                <p:cNvCxnSpPr>
                  <a:stCxn id="1562" idx="3"/>
                  <a:endCxn id="1547" idx="1"/>
                </p:cNvCxnSpPr>
                <p:nvPr/>
              </p:nvCxnSpPr>
              <p:spPr>
                <a:xfrm flipV="1">
                  <a:off x="3575160" y="5784480"/>
                  <a:ext cx="95760" cy="345240"/>
                </a:xfrm>
                <a:prstGeom prst="bentConnector3">
                  <a:avLst>
                    <a:gd name="adj1" fmla="val 49811"/>
                  </a:avLst>
                </a:prstGeom>
                <a:ln w="12600">
                  <a:solidFill>
                    <a:srgbClr val="000000"/>
                  </a:solidFill>
                  <a:miter/>
                </a:ln>
              </p:spPr>
            </p:cxnSp>
            <p:cxnSp>
              <p:nvCxnSpPr>
                <p:cNvPr id="1600" name=""/>
                <p:cNvCxnSpPr>
                  <a:stCxn id="1567" idx="3"/>
                  <a:endCxn id="1561" idx="1"/>
                </p:cNvCxnSpPr>
                <p:nvPr/>
              </p:nvCxnSpPr>
              <p:spPr>
                <a:xfrm>
                  <a:off x="3321000" y="6326640"/>
                  <a:ext cx="349920" cy="1080"/>
                </a:xfrm>
                <a:prstGeom prst="bentConnector2">
                  <a:avLst/>
                </a:prstGeom>
                <a:ln w="12600">
                  <a:solidFill>
                    <a:srgbClr val="000000"/>
                  </a:solidFill>
                  <a:miter/>
                </a:ln>
              </p:spPr>
            </p:cxnSp>
            <p:cxnSp>
              <p:nvCxnSpPr>
                <p:cNvPr id="1601" name=""/>
                <p:cNvCxnSpPr>
                  <a:stCxn id="1561" idx="3"/>
                  <a:endCxn id="1568" idx="1"/>
                </p:cNvCxnSpPr>
                <p:nvPr/>
              </p:nvCxnSpPr>
              <p:spPr>
                <a:xfrm>
                  <a:off x="3828960" y="6326640"/>
                  <a:ext cx="127440" cy="1080"/>
                </a:xfrm>
                <a:prstGeom prst="bentConnector2">
                  <a:avLst/>
                </a:prstGeom>
                <a:ln w="12600">
                  <a:solidFill>
                    <a:srgbClr val="000000"/>
                  </a:solidFill>
                  <a:miter/>
                </a:ln>
              </p:spPr>
            </p:cxnSp>
            <p:cxnSp>
              <p:nvCxnSpPr>
                <p:cNvPr id="1602" name=""/>
                <p:cNvCxnSpPr>
                  <a:stCxn id="1568" idx="3"/>
                  <a:endCxn id="1559" idx="1"/>
                </p:cNvCxnSpPr>
                <p:nvPr/>
              </p:nvCxnSpPr>
              <p:spPr>
                <a:xfrm flipV="1">
                  <a:off x="4114800" y="6030360"/>
                  <a:ext cx="64080" cy="296280"/>
                </a:xfrm>
                <a:prstGeom prst="bentConnector3">
                  <a:avLst>
                    <a:gd name="adj1" fmla="val 49717"/>
                  </a:avLst>
                </a:prstGeom>
                <a:ln w="12600">
                  <a:solidFill>
                    <a:srgbClr val="000000"/>
                  </a:solidFill>
                  <a:miter/>
                </a:ln>
              </p:spPr>
            </p:cxnSp>
            <p:cxnSp>
              <p:nvCxnSpPr>
                <p:cNvPr id="1603" name=""/>
                <p:cNvCxnSpPr>
                  <a:stCxn id="1568" idx="3"/>
                  <a:endCxn id="1569" idx="1"/>
                </p:cNvCxnSpPr>
                <p:nvPr/>
              </p:nvCxnSpPr>
              <p:spPr>
                <a:xfrm>
                  <a:off x="4114800" y="6326640"/>
                  <a:ext cx="127440" cy="1080"/>
                </a:xfrm>
                <a:prstGeom prst="bentConnector2">
                  <a:avLst/>
                </a:prstGeom>
                <a:ln w="12600">
                  <a:solidFill>
                    <a:srgbClr val="000000"/>
                  </a:solidFill>
                  <a:miter/>
                </a:ln>
              </p:spPr>
            </p:cxnSp>
            <p:cxnSp>
              <p:nvCxnSpPr>
                <p:cNvPr id="1604" name=""/>
                <p:cNvCxnSpPr>
                  <a:stCxn id="1569" idx="3"/>
                  <a:endCxn id="1558" idx="1"/>
                </p:cNvCxnSpPr>
                <p:nvPr/>
              </p:nvCxnSpPr>
              <p:spPr>
                <a:xfrm flipV="1">
                  <a:off x="4400640" y="6030360"/>
                  <a:ext cx="95760" cy="296280"/>
                </a:xfrm>
                <a:prstGeom prst="bentConnector3">
                  <a:avLst>
                    <a:gd name="adj1" fmla="val 49811"/>
                  </a:avLst>
                </a:prstGeom>
                <a:ln w="12600">
                  <a:solidFill>
                    <a:srgbClr val="000000"/>
                  </a:solidFill>
                  <a:miter/>
                </a:ln>
              </p:spPr>
            </p:cxnSp>
            <p:cxnSp>
              <p:nvCxnSpPr>
                <p:cNvPr id="1605" name=""/>
                <p:cNvCxnSpPr>
                  <a:stCxn id="1557" idx="3"/>
                  <a:endCxn id="1556" idx="1"/>
                </p:cNvCxnSpPr>
                <p:nvPr/>
              </p:nvCxnSpPr>
              <p:spPr>
                <a:xfrm>
                  <a:off x="4908600" y="6030720"/>
                  <a:ext cx="95760" cy="1080"/>
                </a:xfrm>
                <a:prstGeom prst="bentConnector2">
                  <a:avLst/>
                </a:prstGeom>
                <a:ln w="12600">
                  <a:solidFill>
                    <a:srgbClr val="000000"/>
                  </a:solidFill>
                  <a:miter/>
                </a:ln>
              </p:spPr>
            </p:cxnSp>
            <p:cxnSp>
              <p:nvCxnSpPr>
                <p:cNvPr id="1606" name=""/>
                <p:cNvCxnSpPr>
                  <a:stCxn id="1556" idx="3"/>
                  <a:endCxn id="1555" idx="1"/>
                </p:cNvCxnSpPr>
                <p:nvPr/>
              </p:nvCxnSpPr>
              <p:spPr>
                <a:xfrm>
                  <a:off x="5162760" y="6030720"/>
                  <a:ext cx="159120" cy="99000"/>
                </a:xfrm>
                <a:prstGeom prst="bentConnector3">
                  <a:avLst>
                    <a:gd name="adj1" fmla="val 49886"/>
                  </a:avLst>
                </a:prstGeom>
                <a:ln w="12600">
                  <a:solidFill>
                    <a:srgbClr val="000000"/>
                  </a:solidFill>
                  <a:miter/>
                </a:ln>
              </p:spPr>
            </p:cxnSp>
            <p:cxnSp>
              <p:nvCxnSpPr>
                <p:cNvPr id="1607" name=""/>
                <p:cNvCxnSpPr>
                  <a:stCxn id="1570" idx="3"/>
                  <a:endCxn id="1556" idx="1"/>
                </p:cNvCxnSpPr>
                <p:nvPr/>
              </p:nvCxnSpPr>
              <p:spPr>
                <a:xfrm flipV="1">
                  <a:off x="4908600" y="6030360"/>
                  <a:ext cx="95760" cy="296280"/>
                </a:xfrm>
                <a:prstGeom prst="bentConnector3">
                  <a:avLst>
                    <a:gd name="adj1" fmla="val 49811"/>
                  </a:avLst>
                </a:prstGeom>
                <a:ln w="12600">
                  <a:solidFill>
                    <a:srgbClr val="000000"/>
                  </a:solidFill>
                  <a:miter/>
                </a:ln>
              </p:spPr>
            </p:cxnSp>
            <p:cxnSp>
              <p:nvCxnSpPr>
                <p:cNvPr id="1608" name=""/>
                <p:cNvCxnSpPr>
                  <a:stCxn id="1555" idx="3"/>
                  <a:endCxn id="1573" idx="1"/>
                </p:cNvCxnSpPr>
                <p:nvPr/>
              </p:nvCxnSpPr>
              <p:spPr>
                <a:xfrm>
                  <a:off x="5480280" y="6129720"/>
                  <a:ext cx="127440" cy="99360"/>
                </a:xfrm>
                <a:prstGeom prst="bentConnector3">
                  <a:avLst>
                    <a:gd name="adj1" fmla="val 49858"/>
                  </a:avLst>
                </a:prstGeom>
                <a:ln w="12600">
                  <a:solidFill>
                    <a:srgbClr val="000000"/>
                  </a:solidFill>
                  <a:miter/>
                </a:ln>
              </p:spPr>
            </p:cxnSp>
            <p:cxnSp>
              <p:nvCxnSpPr>
                <p:cNvPr id="1609" name=""/>
                <p:cNvCxnSpPr>
                  <a:stCxn id="1570" idx="3"/>
                  <a:endCxn id="1571" idx="1"/>
                </p:cNvCxnSpPr>
                <p:nvPr/>
              </p:nvCxnSpPr>
              <p:spPr>
                <a:xfrm>
                  <a:off x="4908600" y="6326640"/>
                  <a:ext cx="95760" cy="1080"/>
                </a:xfrm>
                <a:prstGeom prst="bentConnector2">
                  <a:avLst/>
                </a:prstGeom>
                <a:ln w="12600">
                  <a:solidFill>
                    <a:srgbClr val="000000"/>
                  </a:solidFill>
                  <a:miter/>
                </a:ln>
              </p:spPr>
            </p:cxnSp>
            <p:cxnSp>
              <p:nvCxnSpPr>
                <p:cNvPr id="1610" name=""/>
                <p:cNvCxnSpPr>
                  <a:stCxn id="1571" idx="3"/>
                  <a:endCxn id="1572" idx="1"/>
                </p:cNvCxnSpPr>
                <p:nvPr/>
              </p:nvCxnSpPr>
              <p:spPr>
                <a:xfrm>
                  <a:off x="5162760" y="6326640"/>
                  <a:ext cx="159120" cy="1080"/>
                </a:xfrm>
                <a:prstGeom prst="bentConnector2">
                  <a:avLst/>
                </a:prstGeom>
                <a:ln w="12600">
                  <a:solidFill>
                    <a:srgbClr val="000000"/>
                  </a:solidFill>
                  <a:miter/>
                </a:ln>
              </p:spPr>
            </p:cxnSp>
            <p:cxnSp>
              <p:nvCxnSpPr>
                <p:cNvPr id="1611" name=""/>
                <p:cNvCxnSpPr>
                  <a:stCxn id="1572" idx="3"/>
                  <a:endCxn id="1573" idx="1"/>
                </p:cNvCxnSpPr>
                <p:nvPr/>
              </p:nvCxnSpPr>
              <p:spPr>
                <a:xfrm flipV="1">
                  <a:off x="5480280" y="6227640"/>
                  <a:ext cx="127440" cy="99000"/>
                </a:xfrm>
                <a:prstGeom prst="bentConnector3">
                  <a:avLst>
                    <a:gd name="adj1" fmla="val 49858"/>
                  </a:avLst>
                </a:prstGeom>
                <a:ln w="12600">
                  <a:solidFill>
                    <a:srgbClr val="000000"/>
                  </a:solidFill>
                  <a:miter/>
                </a:ln>
              </p:spPr>
            </p:cxnSp>
            <p:cxnSp>
              <p:nvCxnSpPr>
                <p:cNvPr id="1612" name=""/>
                <p:cNvCxnSpPr>
                  <a:stCxn id="1573" idx="3"/>
                  <a:endCxn id="1554" idx="1"/>
                </p:cNvCxnSpPr>
                <p:nvPr/>
              </p:nvCxnSpPr>
              <p:spPr>
                <a:xfrm flipV="1">
                  <a:off x="5766120" y="5981040"/>
                  <a:ext cx="95760" cy="247320"/>
                </a:xfrm>
                <a:prstGeom prst="bentConnector3">
                  <a:avLst>
                    <a:gd name="adj1" fmla="val 49811"/>
                  </a:avLst>
                </a:prstGeom>
                <a:ln w="12600">
                  <a:solidFill>
                    <a:srgbClr val="000000"/>
                  </a:solidFill>
                  <a:miter/>
                </a:ln>
              </p:spPr>
            </p:cxnSp>
          </p:grpSp>
        </p:grpSp>
        <p:grpSp>
          <p:nvGrpSpPr>
            <p:cNvPr id="1613" name=""/>
            <p:cNvGrpSpPr/>
            <p:nvPr/>
          </p:nvGrpSpPr>
          <p:grpSpPr>
            <a:xfrm>
              <a:off x="5410080" y="3352680"/>
              <a:ext cx="3124440" cy="2057400"/>
              <a:chOff x="5410080" y="3352680"/>
              <a:chExt cx="3124440" cy="2057400"/>
            </a:xfrm>
          </p:grpSpPr>
          <p:sp>
            <p:nvSpPr>
              <p:cNvPr id="1614" name=""/>
              <p:cNvSpPr/>
              <p:nvPr/>
            </p:nvSpPr>
            <p:spPr>
              <a:xfrm>
                <a:off x="5410080" y="3352680"/>
                <a:ext cx="3124440" cy="2057400"/>
              </a:xfrm>
              <a:custGeom>
                <a:avLst/>
                <a:gdLst>
                  <a:gd name="textAreaLeft" fmla="*/ 390600 w 3124440"/>
                  <a:gd name="textAreaRight" fmla="*/ 2734200 w 3124440"/>
                  <a:gd name="textAreaTop" fmla="*/ 514080 h 2057400"/>
                  <a:gd name="textAreaBottom" fmla="*/ 1543320 h 2057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5" name=""/>
              <p:cNvGrpSpPr/>
              <p:nvPr/>
            </p:nvGrpSpPr>
            <p:grpSpPr>
              <a:xfrm>
                <a:off x="5791320" y="4038480"/>
                <a:ext cx="2361600" cy="685800"/>
                <a:chOff x="5791320" y="4038480"/>
                <a:chExt cx="2361600" cy="685800"/>
              </a:xfrm>
            </p:grpSpPr>
            <p:sp>
              <p:nvSpPr>
                <p:cNvPr id="1616" name=""/>
                <p:cNvSpPr/>
                <p:nvPr/>
              </p:nvSpPr>
              <p:spPr>
                <a:xfrm>
                  <a:off x="5791320" y="4079880"/>
                  <a:ext cx="109440" cy="1126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5965560" y="4079880"/>
                  <a:ext cx="109440" cy="1126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6324480" y="4038480"/>
                  <a:ext cx="109080" cy="114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6534000" y="4192560"/>
                  <a:ext cx="109080" cy="114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6933960" y="4190760"/>
                  <a:ext cx="109440" cy="114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8043840" y="4344840"/>
                  <a:ext cx="109080" cy="114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7672320" y="4459320"/>
                  <a:ext cx="109080" cy="114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7453080" y="4383000"/>
                  <a:ext cx="109440" cy="114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7278480" y="4383000"/>
                  <a:ext cx="109440" cy="114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7103880" y="4383000"/>
                  <a:ext cx="109080" cy="114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6885000" y="4383000"/>
                  <a:ext cx="109080" cy="114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6710400" y="4383000"/>
                  <a:ext cx="109080" cy="114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6534000" y="4610160"/>
                  <a:ext cx="109080" cy="114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6248160" y="4343400"/>
                  <a:ext cx="109440" cy="114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5965560" y="4421160"/>
                  <a:ext cx="109440" cy="114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5965560" y="4268520"/>
                  <a:ext cx="109440" cy="114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6730920" y="4610160"/>
                  <a:ext cx="109080" cy="114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7278480" y="4610160"/>
                  <a:ext cx="109440" cy="114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7869240" y="4535280"/>
                  <a:ext cx="109080" cy="1126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35" name=""/>
                <p:cNvCxnSpPr>
                  <a:stCxn id="1616" idx="3"/>
                  <a:endCxn id="1617" idx="1"/>
                </p:cNvCxnSpPr>
                <p:nvPr/>
              </p:nvCxnSpPr>
              <p:spPr>
                <a:xfrm>
                  <a:off x="5900400" y="4136400"/>
                  <a:ext cx="65160" cy="1080"/>
                </a:xfrm>
                <a:prstGeom prst="bentConnector2">
                  <a:avLst/>
                </a:prstGeom>
                <a:ln w="12600">
                  <a:solidFill>
                    <a:srgbClr val="000000"/>
                  </a:solidFill>
                  <a:miter/>
                </a:ln>
              </p:spPr>
            </p:cxnSp>
            <p:cxnSp>
              <p:nvCxnSpPr>
                <p:cNvPr id="1636" name=""/>
                <p:cNvCxnSpPr>
                  <a:endCxn id="1618" idx="1"/>
                </p:cNvCxnSpPr>
                <p:nvPr/>
              </p:nvCxnSpPr>
              <p:spPr>
                <a:xfrm>
                  <a:off x="6259320" y="4095360"/>
                  <a:ext cx="65520" cy="1080"/>
                </a:xfrm>
                <a:prstGeom prst="bentConnector2">
                  <a:avLst/>
                </a:prstGeom>
                <a:ln w="12600">
                  <a:solidFill>
                    <a:srgbClr val="000000"/>
                  </a:solidFill>
                  <a:miter/>
                </a:ln>
              </p:spPr>
            </p:cxnSp>
            <p:cxnSp>
              <p:nvCxnSpPr>
                <p:cNvPr id="1637" name=""/>
                <p:cNvCxnSpPr>
                  <a:stCxn id="1618" idx="3"/>
                  <a:endCxn id="1619" idx="1"/>
                </p:cNvCxnSpPr>
                <p:nvPr/>
              </p:nvCxnSpPr>
              <p:spPr>
                <a:xfrm>
                  <a:off x="6433560" y="4095360"/>
                  <a:ext cx="100440" cy="154440"/>
                </a:xfrm>
                <a:prstGeom prst="bentConnector3">
                  <a:avLst>
                    <a:gd name="adj1" fmla="val 48920"/>
                  </a:avLst>
                </a:prstGeom>
                <a:ln w="12600">
                  <a:solidFill>
                    <a:srgbClr val="000000"/>
                  </a:solidFill>
                  <a:miter/>
                </a:ln>
              </p:spPr>
            </p:cxnSp>
            <p:cxnSp>
              <p:nvCxnSpPr>
                <p:cNvPr id="1638" name=""/>
                <p:cNvCxnSpPr>
                  <a:stCxn id="1619" idx="3"/>
                  <a:endCxn id="1627" idx="1"/>
                </p:cNvCxnSpPr>
                <p:nvPr/>
              </p:nvCxnSpPr>
              <p:spPr>
                <a:xfrm>
                  <a:off x="6643080" y="4250880"/>
                  <a:ext cx="67320" cy="189720"/>
                </a:xfrm>
                <a:prstGeom prst="bentConnector3">
                  <a:avLst>
                    <a:gd name="adj1" fmla="val 50000"/>
                  </a:avLst>
                </a:prstGeom>
                <a:ln w="12600">
                  <a:solidFill>
                    <a:srgbClr val="000000"/>
                  </a:solidFill>
                  <a:miter/>
                </a:ln>
              </p:spPr>
            </p:cxnSp>
            <p:cxnSp>
              <p:nvCxnSpPr>
                <p:cNvPr id="1639" name=""/>
                <p:cNvCxnSpPr>
                  <a:stCxn id="1619" idx="3"/>
                  <a:endCxn id="1620" idx="1"/>
                </p:cNvCxnSpPr>
                <p:nvPr/>
              </p:nvCxnSpPr>
              <p:spPr>
                <a:xfrm flipV="1">
                  <a:off x="6643440" y="4247640"/>
                  <a:ext cx="290880" cy="2160"/>
                </a:xfrm>
                <a:prstGeom prst="bentConnector3">
                  <a:avLst>
                    <a:gd name="adj1" fmla="val 49690"/>
                  </a:avLst>
                </a:prstGeom>
                <a:ln w="12600">
                  <a:solidFill>
                    <a:srgbClr val="000000"/>
                  </a:solidFill>
                  <a:miter/>
                </a:ln>
              </p:spPr>
            </p:cxnSp>
            <p:cxnSp>
              <p:nvCxnSpPr>
                <p:cNvPr id="1640" name=""/>
                <p:cNvCxnSpPr>
                  <a:stCxn id="1627" idx="3"/>
                  <a:endCxn id="1626" idx="1"/>
                </p:cNvCxnSpPr>
                <p:nvPr/>
              </p:nvCxnSpPr>
              <p:spPr>
                <a:xfrm>
                  <a:off x="6819840" y="4439880"/>
                  <a:ext cx="65520" cy="1080"/>
                </a:xfrm>
                <a:prstGeom prst="bentConnector2">
                  <a:avLst/>
                </a:prstGeom>
                <a:ln w="12600">
                  <a:solidFill>
                    <a:srgbClr val="000000"/>
                  </a:solidFill>
                  <a:miter/>
                </a:ln>
              </p:spPr>
            </p:cxnSp>
            <p:cxnSp>
              <p:nvCxnSpPr>
                <p:cNvPr id="1641" name=""/>
                <p:cNvCxnSpPr>
                  <a:stCxn id="1626" idx="3"/>
                  <a:endCxn id="1625" idx="1"/>
                </p:cNvCxnSpPr>
                <p:nvPr/>
              </p:nvCxnSpPr>
              <p:spPr>
                <a:xfrm>
                  <a:off x="6994080" y="4439880"/>
                  <a:ext cx="109800" cy="1080"/>
                </a:xfrm>
                <a:prstGeom prst="bentConnector2">
                  <a:avLst/>
                </a:prstGeom>
                <a:ln w="12600">
                  <a:solidFill>
                    <a:srgbClr val="000000"/>
                  </a:solidFill>
                  <a:miter/>
                </a:ln>
              </p:spPr>
            </p:cxnSp>
            <p:cxnSp>
              <p:nvCxnSpPr>
                <p:cNvPr id="1642" name=""/>
                <p:cNvCxnSpPr>
                  <a:stCxn id="1620" idx="3"/>
                  <a:endCxn id="1625" idx="0"/>
                </p:cNvCxnSpPr>
                <p:nvPr/>
              </p:nvCxnSpPr>
              <p:spPr>
                <a:xfrm>
                  <a:off x="7043400" y="4247640"/>
                  <a:ext cx="116280" cy="135720"/>
                </a:xfrm>
                <a:prstGeom prst="bentConnector2">
                  <a:avLst/>
                </a:prstGeom>
                <a:ln w="12600">
                  <a:solidFill>
                    <a:srgbClr val="000000"/>
                  </a:solidFill>
                  <a:miter/>
                </a:ln>
              </p:spPr>
            </p:cxnSp>
            <p:cxnSp>
              <p:nvCxnSpPr>
                <p:cNvPr id="1643" name=""/>
                <p:cNvCxnSpPr>
                  <a:stCxn id="1631" idx="3"/>
                  <a:endCxn id="1618" idx="1"/>
                </p:cNvCxnSpPr>
                <p:nvPr/>
              </p:nvCxnSpPr>
              <p:spPr>
                <a:xfrm flipV="1">
                  <a:off x="6075000" y="4095000"/>
                  <a:ext cx="249480" cy="230760"/>
                </a:xfrm>
                <a:prstGeom prst="bentConnector3">
                  <a:avLst>
                    <a:gd name="adj1" fmla="val 49566"/>
                  </a:avLst>
                </a:prstGeom>
                <a:ln w="12600">
                  <a:solidFill>
                    <a:srgbClr val="000000"/>
                  </a:solidFill>
                  <a:miter/>
                </a:ln>
              </p:spPr>
            </p:cxnSp>
            <p:cxnSp>
              <p:nvCxnSpPr>
                <p:cNvPr id="1644" name=""/>
                <p:cNvCxnSpPr>
                  <a:stCxn id="1630" idx="3"/>
                  <a:endCxn id="1629" idx="1"/>
                </p:cNvCxnSpPr>
                <p:nvPr/>
              </p:nvCxnSpPr>
              <p:spPr>
                <a:xfrm flipV="1">
                  <a:off x="6075000" y="4399920"/>
                  <a:ext cx="173160" cy="78480"/>
                </a:xfrm>
                <a:prstGeom prst="bentConnector3">
                  <a:avLst>
                    <a:gd name="adj1" fmla="val 49375"/>
                  </a:avLst>
                </a:prstGeom>
                <a:ln w="12600">
                  <a:solidFill>
                    <a:srgbClr val="000000"/>
                  </a:solidFill>
                  <a:miter/>
                </a:ln>
              </p:spPr>
            </p:cxnSp>
            <p:cxnSp>
              <p:nvCxnSpPr>
                <p:cNvPr id="1645" name=""/>
                <p:cNvCxnSpPr>
                  <a:stCxn id="1629" idx="3"/>
                  <a:endCxn id="1618" idx="1"/>
                </p:cNvCxnSpPr>
                <p:nvPr/>
              </p:nvCxnSpPr>
              <p:spPr>
                <a:xfrm flipH="1" flipV="1">
                  <a:off x="6324120" y="4095360"/>
                  <a:ext cx="33840" cy="305280"/>
                </a:xfrm>
                <a:prstGeom prst="bentConnector5">
                  <a:avLst>
                    <a:gd name="adj1" fmla="val -684946"/>
                    <a:gd name="adj2" fmla="val 49940"/>
                    <a:gd name="adj3" fmla="val 784946"/>
                  </a:avLst>
                </a:prstGeom>
                <a:ln w="12600">
                  <a:solidFill>
                    <a:srgbClr val="000000"/>
                  </a:solidFill>
                  <a:miter/>
                </a:ln>
              </p:spPr>
            </p:cxnSp>
            <p:cxnSp>
              <p:nvCxnSpPr>
                <p:cNvPr id="1646" name=""/>
                <p:cNvCxnSpPr>
                  <a:stCxn id="1625" idx="3"/>
                  <a:endCxn id="1633" idx="1"/>
                </p:cNvCxnSpPr>
                <p:nvPr/>
              </p:nvCxnSpPr>
              <p:spPr>
                <a:xfrm>
                  <a:off x="7213320" y="4440240"/>
                  <a:ext cx="65520" cy="227520"/>
                </a:xfrm>
                <a:prstGeom prst="bentConnector3">
                  <a:avLst>
                    <a:gd name="adj1" fmla="val 49723"/>
                  </a:avLst>
                </a:prstGeom>
                <a:ln w="12600">
                  <a:solidFill>
                    <a:srgbClr val="000000"/>
                  </a:solidFill>
                  <a:miter/>
                </a:ln>
              </p:spPr>
            </p:cxnSp>
            <p:cxnSp>
              <p:nvCxnSpPr>
                <p:cNvPr id="1647" name=""/>
                <p:cNvCxnSpPr>
                  <a:stCxn id="1625" idx="3"/>
                  <a:endCxn id="1624" idx="1"/>
                </p:cNvCxnSpPr>
                <p:nvPr/>
              </p:nvCxnSpPr>
              <p:spPr>
                <a:xfrm>
                  <a:off x="7213320" y="4439880"/>
                  <a:ext cx="65520" cy="1080"/>
                </a:xfrm>
                <a:prstGeom prst="bentConnector2">
                  <a:avLst/>
                </a:prstGeom>
                <a:ln w="12600">
                  <a:solidFill>
                    <a:srgbClr val="000000"/>
                  </a:solidFill>
                  <a:miter/>
                </a:ln>
              </p:spPr>
            </p:cxnSp>
            <p:cxnSp>
              <p:nvCxnSpPr>
                <p:cNvPr id="1648" name=""/>
                <p:cNvCxnSpPr>
                  <a:stCxn id="1616" idx="3"/>
                  <a:endCxn id="1630" idx="1"/>
                </p:cNvCxnSpPr>
                <p:nvPr/>
              </p:nvCxnSpPr>
              <p:spPr>
                <a:xfrm>
                  <a:off x="5900400" y="4136760"/>
                  <a:ext cx="65160" cy="342000"/>
                </a:xfrm>
                <a:prstGeom prst="bentConnector3">
                  <a:avLst>
                    <a:gd name="adj1" fmla="val 50000"/>
                  </a:avLst>
                </a:prstGeom>
                <a:ln w="12600">
                  <a:solidFill>
                    <a:srgbClr val="000000"/>
                  </a:solidFill>
                  <a:miter/>
                </a:ln>
              </p:spPr>
            </p:cxnSp>
            <p:cxnSp>
              <p:nvCxnSpPr>
                <p:cNvPr id="1649" name=""/>
                <p:cNvCxnSpPr>
                  <a:stCxn id="1616" idx="3"/>
                  <a:endCxn id="1631" idx="1"/>
                </p:cNvCxnSpPr>
                <p:nvPr/>
              </p:nvCxnSpPr>
              <p:spPr>
                <a:xfrm>
                  <a:off x="5900400" y="4136400"/>
                  <a:ext cx="65160" cy="189720"/>
                </a:xfrm>
                <a:prstGeom prst="bentConnector3">
                  <a:avLst>
                    <a:gd name="adj1" fmla="val 50000"/>
                  </a:avLst>
                </a:prstGeom>
                <a:ln w="12600">
                  <a:solidFill>
                    <a:srgbClr val="000000"/>
                  </a:solidFill>
                  <a:miter/>
                </a:ln>
              </p:spPr>
            </p:cxnSp>
            <p:cxnSp>
              <p:nvCxnSpPr>
                <p:cNvPr id="1650" name=""/>
                <p:cNvCxnSpPr>
                  <a:endCxn id="1627" idx="1"/>
                </p:cNvCxnSpPr>
                <p:nvPr/>
              </p:nvCxnSpPr>
              <p:spPr>
                <a:xfrm flipV="1">
                  <a:off x="6293880" y="4439520"/>
                  <a:ext cx="416520" cy="229320"/>
                </a:xfrm>
                <a:prstGeom prst="bentConnector3">
                  <a:avLst>
                    <a:gd name="adj1" fmla="val 50000"/>
                  </a:avLst>
                </a:prstGeom>
                <a:ln w="12600">
                  <a:solidFill>
                    <a:srgbClr val="000000"/>
                  </a:solidFill>
                  <a:miter/>
                </a:ln>
              </p:spPr>
            </p:cxnSp>
            <p:cxnSp>
              <p:nvCxnSpPr>
                <p:cNvPr id="1651" name=""/>
                <p:cNvCxnSpPr>
                  <a:stCxn id="1628" idx="3"/>
                  <a:endCxn id="1632" idx="1"/>
                </p:cNvCxnSpPr>
                <p:nvPr/>
              </p:nvCxnSpPr>
              <p:spPr>
                <a:xfrm>
                  <a:off x="6643440" y="4666680"/>
                  <a:ext cx="87840" cy="1080"/>
                </a:xfrm>
                <a:prstGeom prst="bentConnector2">
                  <a:avLst/>
                </a:prstGeom>
                <a:ln w="12600">
                  <a:solidFill>
                    <a:srgbClr val="000000"/>
                  </a:solidFill>
                  <a:miter/>
                </a:ln>
              </p:spPr>
            </p:cxnSp>
            <p:cxnSp>
              <p:nvCxnSpPr>
                <p:cNvPr id="1652" name=""/>
                <p:cNvCxnSpPr>
                  <a:stCxn id="1632" idx="3"/>
                  <a:endCxn id="1626" idx="1"/>
                </p:cNvCxnSpPr>
                <p:nvPr/>
              </p:nvCxnSpPr>
              <p:spPr>
                <a:xfrm flipV="1">
                  <a:off x="6840000" y="4439880"/>
                  <a:ext cx="45000" cy="227520"/>
                </a:xfrm>
                <a:prstGeom prst="bentConnector3">
                  <a:avLst>
                    <a:gd name="adj1" fmla="val 50000"/>
                  </a:avLst>
                </a:prstGeom>
                <a:ln w="12600">
                  <a:solidFill>
                    <a:srgbClr val="000000"/>
                  </a:solidFill>
                  <a:miter/>
                </a:ln>
              </p:spPr>
            </p:cxnSp>
            <p:cxnSp>
              <p:nvCxnSpPr>
                <p:cNvPr id="1653" name=""/>
                <p:cNvCxnSpPr>
                  <a:stCxn id="1624" idx="3"/>
                  <a:endCxn id="1623" idx="1"/>
                </p:cNvCxnSpPr>
                <p:nvPr/>
              </p:nvCxnSpPr>
              <p:spPr>
                <a:xfrm>
                  <a:off x="7387920" y="4439880"/>
                  <a:ext cx="65160" cy="1080"/>
                </a:xfrm>
                <a:prstGeom prst="bentConnector2">
                  <a:avLst/>
                </a:prstGeom>
                <a:ln w="12600">
                  <a:solidFill>
                    <a:srgbClr val="000000"/>
                  </a:solidFill>
                  <a:miter/>
                </a:ln>
              </p:spPr>
            </p:cxnSp>
            <p:cxnSp>
              <p:nvCxnSpPr>
                <p:cNvPr id="1654" name=""/>
                <p:cNvCxnSpPr>
                  <a:stCxn id="1623" idx="3"/>
                  <a:endCxn id="1622" idx="1"/>
                </p:cNvCxnSpPr>
                <p:nvPr/>
              </p:nvCxnSpPr>
              <p:spPr>
                <a:xfrm>
                  <a:off x="7562520" y="4439880"/>
                  <a:ext cx="109800" cy="75240"/>
                </a:xfrm>
                <a:prstGeom prst="bentConnector3">
                  <a:avLst>
                    <a:gd name="adj1" fmla="val 50000"/>
                  </a:avLst>
                </a:prstGeom>
                <a:ln w="12600">
                  <a:solidFill>
                    <a:srgbClr val="000000"/>
                  </a:solidFill>
                  <a:miter/>
                </a:ln>
              </p:spPr>
            </p:cxnSp>
            <p:cxnSp>
              <p:nvCxnSpPr>
                <p:cNvPr id="1655" name=""/>
                <p:cNvCxnSpPr>
                  <a:stCxn id="1633" idx="3"/>
                  <a:endCxn id="1623" idx="1"/>
                </p:cNvCxnSpPr>
                <p:nvPr/>
              </p:nvCxnSpPr>
              <p:spPr>
                <a:xfrm flipV="1">
                  <a:off x="7387920" y="4439880"/>
                  <a:ext cx="65160" cy="227520"/>
                </a:xfrm>
                <a:prstGeom prst="bentConnector3">
                  <a:avLst>
                    <a:gd name="adj1" fmla="val 50000"/>
                  </a:avLst>
                </a:prstGeom>
                <a:ln w="12600">
                  <a:solidFill>
                    <a:srgbClr val="000000"/>
                  </a:solidFill>
                  <a:miter/>
                </a:ln>
              </p:spPr>
            </p:cxnSp>
            <p:cxnSp>
              <p:nvCxnSpPr>
                <p:cNvPr id="1656" name=""/>
                <p:cNvCxnSpPr>
                  <a:stCxn id="1622" idx="3"/>
                  <a:endCxn id="1634" idx="1"/>
                </p:cNvCxnSpPr>
                <p:nvPr/>
              </p:nvCxnSpPr>
              <p:spPr>
                <a:xfrm>
                  <a:off x="7781760" y="4514760"/>
                  <a:ext cx="87840" cy="76680"/>
                </a:xfrm>
                <a:prstGeom prst="bentConnector3">
                  <a:avLst>
                    <a:gd name="adj1" fmla="val 49794"/>
                  </a:avLst>
                </a:prstGeom>
                <a:ln w="12600">
                  <a:solidFill>
                    <a:srgbClr val="000000"/>
                  </a:solidFill>
                  <a:miter/>
                </a:ln>
              </p:spPr>
            </p:cxnSp>
            <p:cxnSp>
              <p:nvCxnSpPr>
                <p:cNvPr id="1657" name=""/>
                <p:cNvCxnSpPr>
                  <a:stCxn id="1634" idx="3"/>
                  <a:endCxn id="1621" idx="1"/>
                </p:cNvCxnSpPr>
                <p:nvPr/>
              </p:nvCxnSpPr>
              <p:spPr>
                <a:xfrm flipV="1">
                  <a:off x="7978680" y="4401360"/>
                  <a:ext cx="65520" cy="189720"/>
                </a:xfrm>
                <a:prstGeom prst="bentConnector3">
                  <a:avLst>
                    <a:gd name="adj1" fmla="val 49723"/>
                  </a:avLst>
                </a:prstGeom>
                <a:ln w="12600">
                  <a:solidFill>
                    <a:srgbClr val="000000"/>
                  </a:solidFill>
                  <a:miter/>
                </a:ln>
              </p:spPr>
            </p:cxnSp>
            <p:cxnSp>
              <p:nvCxnSpPr>
                <p:cNvPr id="1658" name=""/>
                <p:cNvCxnSpPr>
                  <a:stCxn id="1630" idx="3"/>
                  <a:endCxn id="1628" idx="1"/>
                </p:cNvCxnSpPr>
                <p:nvPr/>
              </p:nvCxnSpPr>
              <p:spPr>
                <a:xfrm>
                  <a:off x="6075000" y="4477680"/>
                  <a:ext cx="459000" cy="189720"/>
                </a:xfrm>
                <a:prstGeom prst="bentConnector3">
                  <a:avLst>
                    <a:gd name="adj1" fmla="val 49764"/>
                  </a:avLst>
                </a:prstGeom>
                <a:ln w="12600">
                  <a:solidFill>
                    <a:srgbClr val="000000"/>
                  </a:solidFill>
                  <a:miter/>
                </a:ln>
              </p:spPr>
            </p:cxnSp>
          </p:grpSp>
        </p:grpSp>
        <p:grpSp>
          <p:nvGrpSpPr>
            <p:cNvPr id="1659" name=""/>
            <p:cNvGrpSpPr/>
            <p:nvPr/>
          </p:nvGrpSpPr>
          <p:grpSpPr>
            <a:xfrm>
              <a:off x="835200" y="3506760"/>
              <a:ext cx="3504960" cy="1447920"/>
              <a:chOff x="835200" y="3506760"/>
              <a:chExt cx="3504960" cy="1447920"/>
            </a:xfrm>
          </p:grpSpPr>
          <p:sp>
            <p:nvSpPr>
              <p:cNvPr id="1660" name=""/>
              <p:cNvSpPr/>
              <p:nvPr/>
            </p:nvSpPr>
            <p:spPr>
              <a:xfrm>
                <a:off x="835200" y="3506760"/>
                <a:ext cx="3504960" cy="1447920"/>
              </a:xfrm>
              <a:custGeom>
                <a:avLst/>
                <a:gdLst>
                  <a:gd name="textAreaLeft" fmla="*/ 0 w 3504960"/>
                  <a:gd name="textAreaRight" fmla="*/ 3505320 w 3504960"/>
                  <a:gd name="textAreaTop" fmla="*/ 0 h 1447920"/>
                  <a:gd name="textAreaBottom" fmla="*/ 1448280 h 1447920"/>
                </a:gdLst>
                <a:ahLst/>
                <a:rect l="textAreaLeft" t="textAreaTop" r="textAreaRight" b="textAreaBottom"/>
                <a:pathLst>
                  <a:path w="21600" h="21600">
                    <a:moveTo>
                      <a:pt x="0" y="0"/>
                    </a:moveTo>
                    <a:lnTo>
                      <a:pt x="19252" y="0"/>
                    </a:lnTo>
                    <a:lnTo>
                      <a:pt x="21600" y="10800"/>
                    </a:lnTo>
                    <a:lnTo>
                      <a:pt x="19252" y="21600"/>
                    </a:lnTo>
                    <a:lnTo>
                      <a:pt x="0" y="21600"/>
                    </a:lnTo>
                    <a:lnTo>
                      <a:pt x="2348" y="10800"/>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61" name=""/>
              <p:cNvGrpSpPr/>
              <p:nvPr/>
            </p:nvGrpSpPr>
            <p:grpSpPr>
              <a:xfrm>
                <a:off x="1368360" y="3708360"/>
                <a:ext cx="2634840" cy="941040"/>
                <a:chOff x="1368360" y="3708360"/>
                <a:chExt cx="2634840" cy="941040"/>
              </a:xfrm>
            </p:grpSpPr>
            <p:sp>
              <p:nvSpPr>
                <p:cNvPr id="1662" name=""/>
                <p:cNvSpPr/>
                <p:nvPr/>
              </p:nvSpPr>
              <p:spPr>
                <a:xfrm>
                  <a:off x="1368360" y="385308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1563120" y="3853080"/>
                  <a:ext cx="121680" cy="1400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1978200" y="399312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2197800" y="399312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2480760" y="370836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3125160" y="3946320"/>
                  <a:ext cx="121680" cy="140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3319920" y="3946320"/>
                  <a:ext cx="121680" cy="1404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3564000" y="3946320"/>
                  <a:ext cx="121680" cy="1404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3881520" y="4180320"/>
                  <a:ext cx="121680" cy="141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3466440" y="4322160"/>
                  <a:ext cx="121680" cy="140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3222360" y="4227480"/>
                  <a:ext cx="121680" cy="141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3027240" y="4227480"/>
                  <a:ext cx="121680" cy="141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2832120" y="4227480"/>
                  <a:ext cx="121680" cy="141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2588040" y="4227480"/>
                  <a:ext cx="121680" cy="141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2392920" y="4227480"/>
                  <a:ext cx="121680" cy="141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2197800" y="450936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1783080" y="4275720"/>
                  <a:ext cx="121680" cy="1400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1563120" y="427572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1563120" y="408708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1563120" y="450936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1807200" y="450936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2417400" y="450936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3027240" y="450936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3686040" y="4415760"/>
                  <a:ext cx="121680" cy="1400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86" name=""/>
                <p:cNvCxnSpPr>
                  <a:stCxn id="1662" idx="3"/>
                  <a:endCxn id="1663" idx="1"/>
                </p:cNvCxnSpPr>
                <p:nvPr/>
              </p:nvCxnSpPr>
              <p:spPr>
                <a:xfrm>
                  <a:off x="1490040" y="3923280"/>
                  <a:ext cx="73440" cy="1080"/>
                </a:xfrm>
                <a:prstGeom prst="bentConnector2">
                  <a:avLst/>
                </a:prstGeom>
                <a:ln w="12600">
                  <a:solidFill>
                    <a:srgbClr val="000000"/>
                  </a:solidFill>
                  <a:miter/>
                </a:ln>
              </p:spPr>
            </p:cxnSp>
            <p:cxnSp>
              <p:nvCxnSpPr>
                <p:cNvPr id="1687" name=""/>
                <p:cNvCxnSpPr>
                  <a:endCxn id="1664" idx="1"/>
                </p:cNvCxnSpPr>
                <p:nvPr/>
              </p:nvCxnSpPr>
              <p:spPr>
                <a:xfrm>
                  <a:off x="1660680" y="3925440"/>
                  <a:ext cx="317880" cy="138960"/>
                </a:xfrm>
                <a:prstGeom prst="bentConnector3">
                  <a:avLst>
                    <a:gd name="adj1" fmla="val 50000"/>
                  </a:avLst>
                </a:prstGeom>
                <a:ln w="12600">
                  <a:solidFill>
                    <a:srgbClr val="000000"/>
                  </a:solidFill>
                  <a:miter/>
                </a:ln>
              </p:spPr>
            </p:cxnSp>
            <p:cxnSp>
              <p:nvCxnSpPr>
                <p:cNvPr id="1688" name=""/>
                <p:cNvCxnSpPr>
                  <a:endCxn id="1664" idx="1"/>
                </p:cNvCxnSpPr>
                <p:nvPr/>
              </p:nvCxnSpPr>
              <p:spPr>
                <a:xfrm>
                  <a:off x="1904400" y="4063680"/>
                  <a:ext cx="73800" cy="1080"/>
                </a:xfrm>
                <a:prstGeom prst="bentConnector2">
                  <a:avLst/>
                </a:prstGeom>
                <a:ln w="12600">
                  <a:solidFill>
                    <a:srgbClr val="000000"/>
                  </a:solidFill>
                  <a:miter/>
                </a:ln>
              </p:spPr>
            </p:cxnSp>
            <p:cxnSp>
              <p:nvCxnSpPr>
                <p:cNvPr id="1689" name=""/>
                <p:cNvCxnSpPr>
                  <a:stCxn id="1664" idx="3"/>
                  <a:endCxn id="1665" idx="1"/>
                </p:cNvCxnSpPr>
                <p:nvPr/>
              </p:nvCxnSpPr>
              <p:spPr>
                <a:xfrm>
                  <a:off x="2100240" y="4063680"/>
                  <a:ext cx="97920" cy="1080"/>
                </a:xfrm>
                <a:prstGeom prst="bentConnector2">
                  <a:avLst/>
                </a:prstGeom>
                <a:ln w="12600">
                  <a:solidFill>
                    <a:srgbClr val="000000"/>
                  </a:solidFill>
                  <a:miter/>
                </a:ln>
              </p:spPr>
            </p:cxnSp>
            <p:cxnSp>
              <p:nvCxnSpPr>
                <p:cNvPr id="1690" name=""/>
                <p:cNvCxnSpPr>
                  <a:stCxn id="1665" idx="3"/>
                  <a:endCxn id="1676" idx="1"/>
                </p:cNvCxnSpPr>
                <p:nvPr/>
              </p:nvCxnSpPr>
              <p:spPr>
                <a:xfrm>
                  <a:off x="2319120" y="4064040"/>
                  <a:ext cx="73800" cy="234720"/>
                </a:xfrm>
                <a:prstGeom prst="bentConnector3">
                  <a:avLst>
                    <a:gd name="adj1" fmla="val 50000"/>
                  </a:avLst>
                </a:prstGeom>
                <a:ln w="12600">
                  <a:solidFill>
                    <a:srgbClr val="000000"/>
                  </a:solidFill>
                  <a:miter/>
                </a:ln>
              </p:spPr>
            </p:cxnSp>
            <p:cxnSp>
              <p:nvCxnSpPr>
                <p:cNvPr id="1691" name=""/>
                <p:cNvCxnSpPr>
                  <a:stCxn id="1665" idx="3"/>
                  <a:endCxn id="1666" idx="1"/>
                </p:cNvCxnSpPr>
                <p:nvPr/>
              </p:nvCxnSpPr>
              <p:spPr>
                <a:xfrm flipV="1">
                  <a:off x="2319120" y="3778200"/>
                  <a:ext cx="161640" cy="285480"/>
                </a:xfrm>
                <a:prstGeom prst="bentConnector3">
                  <a:avLst>
                    <a:gd name="adj1" fmla="val 50000"/>
                  </a:avLst>
                </a:prstGeom>
                <a:ln w="12600">
                  <a:solidFill>
                    <a:srgbClr val="000000"/>
                  </a:solidFill>
                  <a:miter/>
                </a:ln>
              </p:spPr>
            </p:cxnSp>
            <p:cxnSp>
              <p:nvCxnSpPr>
                <p:cNvPr id="1692" name=""/>
                <p:cNvCxnSpPr>
                  <a:stCxn id="1676" idx="3"/>
                  <a:endCxn id="1675" idx="1"/>
                </p:cNvCxnSpPr>
                <p:nvPr/>
              </p:nvCxnSpPr>
              <p:spPr>
                <a:xfrm>
                  <a:off x="2514960" y="4297680"/>
                  <a:ext cx="73440" cy="1080"/>
                </a:xfrm>
                <a:prstGeom prst="bentConnector2">
                  <a:avLst/>
                </a:prstGeom>
                <a:ln w="12600">
                  <a:solidFill>
                    <a:srgbClr val="000000"/>
                  </a:solidFill>
                  <a:miter/>
                </a:ln>
              </p:spPr>
            </p:cxnSp>
            <p:cxnSp>
              <p:nvCxnSpPr>
                <p:cNvPr id="1693" name=""/>
                <p:cNvCxnSpPr>
                  <a:stCxn id="1675" idx="3"/>
                  <a:endCxn id="1674" idx="1"/>
                </p:cNvCxnSpPr>
                <p:nvPr/>
              </p:nvCxnSpPr>
              <p:spPr>
                <a:xfrm>
                  <a:off x="2710080" y="4297680"/>
                  <a:ext cx="122400" cy="1080"/>
                </a:xfrm>
                <a:prstGeom prst="bentConnector2">
                  <a:avLst/>
                </a:prstGeom>
                <a:ln w="12600">
                  <a:solidFill>
                    <a:srgbClr val="000000"/>
                  </a:solidFill>
                  <a:miter/>
                </a:ln>
              </p:spPr>
            </p:cxnSp>
            <p:cxnSp>
              <p:nvCxnSpPr>
                <p:cNvPr id="1694" name=""/>
                <p:cNvCxnSpPr>
                  <a:stCxn id="1666" idx="3"/>
                  <a:endCxn id="1674" idx="0"/>
                </p:cNvCxnSpPr>
                <p:nvPr/>
              </p:nvCxnSpPr>
              <p:spPr>
                <a:xfrm>
                  <a:off x="2602800" y="3778560"/>
                  <a:ext cx="290880" cy="448920"/>
                </a:xfrm>
                <a:prstGeom prst="bentConnector2">
                  <a:avLst/>
                </a:prstGeom>
                <a:ln w="12600">
                  <a:solidFill>
                    <a:srgbClr val="000000"/>
                  </a:solidFill>
                  <a:miter/>
                </a:ln>
              </p:spPr>
            </p:cxnSp>
            <p:cxnSp>
              <p:nvCxnSpPr>
                <p:cNvPr id="1695" name=""/>
                <p:cNvCxnSpPr>
                  <a:stCxn id="1680" idx="3"/>
                  <a:endCxn id="1664" idx="1"/>
                </p:cNvCxnSpPr>
                <p:nvPr/>
              </p:nvCxnSpPr>
              <p:spPr>
                <a:xfrm flipV="1">
                  <a:off x="1684800" y="4063680"/>
                  <a:ext cx="293400" cy="94320"/>
                </a:xfrm>
                <a:prstGeom prst="bentConnector3">
                  <a:avLst>
                    <a:gd name="adj1" fmla="val 50000"/>
                  </a:avLst>
                </a:prstGeom>
                <a:ln w="12600">
                  <a:solidFill>
                    <a:srgbClr val="000000"/>
                  </a:solidFill>
                  <a:miter/>
                </a:ln>
              </p:spPr>
            </p:cxnSp>
            <p:cxnSp>
              <p:nvCxnSpPr>
                <p:cNvPr id="1696" name=""/>
                <p:cNvCxnSpPr>
                  <a:stCxn id="1679" idx="3"/>
                  <a:endCxn id="1678" idx="1"/>
                </p:cNvCxnSpPr>
                <p:nvPr/>
              </p:nvCxnSpPr>
              <p:spPr>
                <a:xfrm>
                  <a:off x="1684800" y="4344840"/>
                  <a:ext cx="98280" cy="1080"/>
                </a:xfrm>
                <a:prstGeom prst="bentConnector2">
                  <a:avLst/>
                </a:prstGeom>
                <a:ln w="12600">
                  <a:solidFill>
                    <a:srgbClr val="000000"/>
                  </a:solidFill>
                  <a:miter/>
                </a:ln>
              </p:spPr>
            </p:cxnSp>
            <p:cxnSp>
              <p:nvCxnSpPr>
                <p:cNvPr id="1697" name=""/>
                <p:cNvCxnSpPr>
                  <a:stCxn id="1678" idx="3"/>
                  <a:endCxn id="1664" idx="1"/>
                </p:cNvCxnSpPr>
                <p:nvPr/>
              </p:nvCxnSpPr>
              <p:spPr>
                <a:xfrm flipV="1">
                  <a:off x="1904400" y="4063680"/>
                  <a:ext cx="73800" cy="281520"/>
                </a:xfrm>
                <a:prstGeom prst="bentConnector3">
                  <a:avLst>
                    <a:gd name="adj1" fmla="val 50000"/>
                  </a:avLst>
                </a:prstGeom>
                <a:ln w="12600">
                  <a:solidFill>
                    <a:srgbClr val="000000"/>
                  </a:solidFill>
                  <a:miter/>
                </a:ln>
              </p:spPr>
            </p:cxnSp>
            <p:cxnSp>
              <p:nvCxnSpPr>
                <p:cNvPr id="1698" name=""/>
                <p:cNvCxnSpPr>
                  <a:stCxn id="1675" idx="3"/>
                  <a:endCxn id="1667" idx="1"/>
                </p:cNvCxnSpPr>
                <p:nvPr/>
              </p:nvCxnSpPr>
              <p:spPr>
                <a:xfrm flipV="1">
                  <a:off x="2710080" y="4017240"/>
                  <a:ext cx="415440" cy="280800"/>
                </a:xfrm>
                <a:prstGeom prst="bentConnector3">
                  <a:avLst>
                    <a:gd name="adj1" fmla="val 49956"/>
                  </a:avLst>
                </a:prstGeom>
                <a:ln w="12600">
                  <a:solidFill>
                    <a:srgbClr val="000000"/>
                  </a:solidFill>
                  <a:miter/>
                </a:ln>
              </p:spPr>
            </p:cxnSp>
            <p:cxnSp>
              <p:nvCxnSpPr>
                <p:cNvPr id="1699" name=""/>
                <p:cNvCxnSpPr>
                  <a:stCxn id="1674" idx="3"/>
                  <a:endCxn id="1684" idx="1"/>
                </p:cNvCxnSpPr>
                <p:nvPr/>
              </p:nvCxnSpPr>
              <p:spPr>
                <a:xfrm>
                  <a:off x="2953800" y="4297680"/>
                  <a:ext cx="73800" cy="280800"/>
                </a:xfrm>
                <a:prstGeom prst="bentConnector3">
                  <a:avLst>
                    <a:gd name="adj1" fmla="val 50000"/>
                  </a:avLst>
                </a:prstGeom>
                <a:ln w="12600">
                  <a:solidFill>
                    <a:srgbClr val="000000"/>
                  </a:solidFill>
                  <a:miter/>
                </a:ln>
              </p:spPr>
            </p:cxnSp>
            <p:cxnSp>
              <p:nvCxnSpPr>
                <p:cNvPr id="1700" name=""/>
                <p:cNvCxnSpPr>
                  <a:stCxn id="1674" idx="3"/>
                  <a:endCxn id="1673" idx="1"/>
                </p:cNvCxnSpPr>
                <p:nvPr/>
              </p:nvCxnSpPr>
              <p:spPr>
                <a:xfrm>
                  <a:off x="2953800" y="4297680"/>
                  <a:ext cx="73800" cy="1080"/>
                </a:xfrm>
                <a:prstGeom prst="bentConnector2">
                  <a:avLst/>
                </a:prstGeom>
                <a:ln w="12600">
                  <a:solidFill>
                    <a:srgbClr val="000000"/>
                  </a:solidFill>
                  <a:miter/>
                </a:ln>
              </p:spPr>
            </p:cxnSp>
            <p:cxnSp>
              <p:nvCxnSpPr>
                <p:cNvPr id="1701" name=""/>
                <p:cNvCxnSpPr>
                  <a:stCxn id="1667" idx="3"/>
                  <a:endCxn id="1668" idx="1"/>
                </p:cNvCxnSpPr>
                <p:nvPr/>
              </p:nvCxnSpPr>
              <p:spPr>
                <a:xfrm>
                  <a:off x="3247200" y="4017240"/>
                  <a:ext cx="73440" cy="1080"/>
                </a:xfrm>
                <a:prstGeom prst="bentConnector2">
                  <a:avLst/>
                </a:prstGeom>
                <a:ln w="12600">
                  <a:solidFill>
                    <a:srgbClr val="000000"/>
                  </a:solidFill>
                  <a:miter/>
                </a:ln>
              </p:spPr>
            </p:cxnSp>
            <p:cxnSp>
              <p:nvCxnSpPr>
                <p:cNvPr id="1702" name=""/>
                <p:cNvCxnSpPr>
                  <a:stCxn id="1668" idx="3"/>
                  <a:endCxn id="1669" idx="1"/>
                </p:cNvCxnSpPr>
                <p:nvPr/>
              </p:nvCxnSpPr>
              <p:spPr>
                <a:xfrm>
                  <a:off x="3441960" y="4017240"/>
                  <a:ext cx="122400" cy="1080"/>
                </a:xfrm>
                <a:prstGeom prst="bentConnector2">
                  <a:avLst/>
                </a:prstGeom>
                <a:ln w="12600">
                  <a:solidFill>
                    <a:srgbClr val="000000"/>
                  </a:solidFill>
                  <a:miter/>
                </a:ln>
              </p:spPr>
            </p:cxnSp>
            <p:cxnSp>
              <p:nvCxnSpPr>
                <p:cNvPr id="1703" name=""/>
                <p:cNvCxnSpPr>
                  <a:stCxn id="1668" idx="3"/>
                  <a:endCxn id="1670" idx="1"/>
                </p:cNvCxnSpPr>
                <p:nvPr/>
              </p:nvCxnSpPr>
              <p:spPr>
                <a:xfrm>
                  <a:off x="3441960" y="4017240"/>
                  <a:ext cx="439920" cy="234360"/>
                </a:xfrm>
                <a:prstGeom prst="bentConnector3">
                  <a:avLst>
                    <a:gd name="adj1" fmla="val 13841"/>
                  </a:avLst>
                </a:prstGeom>
                <a:ln w="12600">
                  <a:solidFill>
                    <a:srgbClr val="000000"/>
                  </a:solidFill>
                  <a:miter/>
                </a:ln>
              </p:spPr>
            </p:cxnSp>
            <p:cxnSp>
              <p:nvCxnSpPr>
                <p:cNvPr id="1704" name=""/>
                <p:cNvCxnSpPr>
                  <a:stCxn id="1681" idx="3"/>
                  <a:endCxn id="1678" idx="1"/>
                </p:cNvCxnSpPr>
                <p:nvPr/>
              </p:nvCxnSpPr>
              <p:spPr>
                <a:xfrm flipV="1">
                  <a:off x="1684800" y="4344480"/>
                  <a:ext cx="98280" cy="234360"/>
                </a:xfrm>
                <a:prstGeom prst="bentConnector3">
                  <a:avLst>
                    <a:gd name="adj1" fmla="val 50000"/>
                  </a:avLst>
                </a:prstGeom>
                <a:ln w="12600">
                  <a:solidFill>
                    <a:srgbClr val="000000"/>
                  </a:solidFill>
                  <a:miter/>
                </a:ln>
              </p:spPr>
            </p:cxnSp>
            <p:cxnSp>
              <p:nvCxnSpPr>
                <p:cNvPr id="1705" name=""/>
                <p:cNvCxnSpPr>
                  <a:stCxn id="1662" idx="3"/>
                  <a:endCxn id="1679" idx="1"/>
                </p:cNvCxnSpPr>
                <p:nvPr/>
              </p:nvCxnSpPr>
              <p:spPr>
                <a:xfrm>
                  <a:off x="1490040" y="3923640"/>
                  <a:ext cx="73440" cy="421920"/>
                </a:xfrm>
                <a:prstGeom prst="bentConnector3">
                  <a:avLst>
                    <a:gd name="adj1" fmla="val 49753"/>
                  </a:avLst>
                </a:prstGeom>
                <a:ln w="12600">
                  <a:solidFill>
                    <a:srgbClr val="000000"/>
                  </a:solidFill>
                  <a:miter/>
                </a:ln>
              </p:spPr>
            </p:cxnSp>
            <p:cxnSp>
              <p:nvCxnSpPr>
                <p:cNvPr id="1706" name=""/>
                <p:cNvCxnSpPr>
                  <a:stCxn id="1662" idx="3"/>
                  <a:endCxn id="1680" idx="1"/>
                </p:cNvCxnSpPr>
                <p:nvPr/>
              </p:nvCxnSpPr>
              <p:spPr>
                <a:xfrm>
                  <a:off x="1490040" y="3923640"/>
                  <a:ext cx="73440" cy="234720"/>
                </a:xfrm>
                <a:prstGeom prst="bentConnector3">
                  <a:avLst>
                    <a:gd name="adj1" fmla="val 49753"/>
                  </a:avLst>
                </a:prstGeom>
                <a:ln w="12600">
                  <a:solidFill>
                    <a:srgbClr val="000000"/>
                  </a:solidFill>
                  <a:miter/>
                </a:ln>
              </p:spPr>
            </p:cxnSp>
            <p:cxnSp>
              <p:nvCxnSpPr>
                <p:cNvPr id="1707" name=""/>
                <p:cNvCxnSpPr>
                  <a:stCxn id="1681" idx="3"/>
                  <a:endCxn id="1682" idx="1"/>
                </p:cNvCxnSpPr>
                <p:nvPr/>
              </p:nvCxnSpPr>
              <p:spPr>
                <a:xfrm>
                  <a:off x="1685160" y="4578480"/>
                  <a:ext cx="122400" cy="1080"/>
                </a:xfrm>
                <a:prstGeom prst="bentConnector2">
                  <a:avLst/>
                </a:prstGeom>
                <a:ln w="12600">
                  <a:solidFill>
                    <a:srgbClr val="000000"/>
                  </a:solidFill>
                  <a:miter/>
                </a:ln>
              </p:spPr>
            </p:cxnSp>
            <p:cxnSp>
              <p:nvCxnSpPr>
                <p:cNvPr id="1708" name=""/>
                <p:cNvCxnSpPr>
                  <a:stCxn id="1682" idx="3"/>
                  <a:endCxn id="1676" idx="1"/>
                </p:cNvCxnSpPr>
                <p:nvPr/>
              </p:nvCxnSpPr>
              <p:spPr>
                <a:xfrm flipV="1">
                  <a:off x="1929240" y="4297320"/>
                  <a:ext cx="464400" cy="282600"/>
                </a:xfrm>
                <a:prstGeom prst="bentConnector3">
                  <a:avLst>
                    <a:gd name="adj1" fmla="val 49961"/>
                  </a:avLst>
                </a:prstGeom>
                <a:ln w="12600">
                  <a:solidFill>
                    <a:srgbClr val="000000"/>
                  </a:solidFill>
                  <a:miter/>
                </a:ln>
              </p:spPr>
            </p:cxnSp>
            <p:cxnSp>
              <p:nvCxnSpPr>
                <p:cNvPr id="1709" name=""/>
                <p:cNvCxnSpPr>
                  <a:stCxn id="1682" idx="3"/>
                  <a:endCxn id="1677" idx="1"/>
                </p:cNvCxnSpPr>
                <p:nvPr/>
              </p:nvCxnSpPr>
              <p:spPr>
                <a:xfrm>
                  <a:off x="1928880" y="4578480"/>
                  <a:ext cx="268920" cy="1080"/>
                </a:xfrm>
                <a:prstGeom prst="bentConnector2">
                  <a:avLst/>
                </a:prstGeom>
                <a:ln w="12600">
                  <a:solidFill>
                    <a:srgbClr val="000000"/>
                  </a:solidFill>
                  <a:miter/>
                </a:ln>
              </p:spPr>
            </p:cxnSp>
            <p:cxnSp>
              <p:nvCxnSpPr>
                <p:cNvPr id="1710" name=""/>
                <p:cNvCxnSpPr>
                  <a:stCxn id="1677" idx="3"/>
                  <a:endCxn id="1683" idx="1"/>
                </p:cNvCxnSpPr>
                <p:nvPr/>
              </p:nvCxnSpPr>
              <p:spPr>
                <a:xfrm>
                  <a:off x="2319120" y="4578480"/>
                  <a:ext cx="98280" cy="1080"/>
                </a:xfrm>
                <a:prstGeom prst="bentConnector2">
                  <a:avLst/>
                </a:prstGeom>
                <a:ln w="12600">
                  <a:solidFill>
                    <a:srgbClr val="000000"/>
                  </a:solidFill>
                  <a:miter/>
                </a:ln>
              </p:spPr>
            </p:cxnSp>
            <p:cxnSp>
              <p:nvCxnSpPr>
                <p:cNvPr id="1711" name=""/>
                <p:cNvCxnSpPr>
                  <a:stCxn id="1683" idx="3"/>
                  <a:endCxn id="1675" idx="1"/>
                </p:cNvCxnSpPr>
                <p:nvPr/>
              </p:nvCxnSpPr>
              <p:spPr>
                <a:xfrm flipV="1">
                  <a:off x="2539080" y="4297680"/>
                  <a:ext cx="49320" cy="280800"/>
                </a:xfrm>
                <a:prstGeom prst="bentConnector3">
                  <a:avLst>
                    <a:gd name="adj1" fmla="val 50000"/>
                  </a:avLst>
                </a:prstGeom>
                <a:ln w="12600">
                  <a:solidFill>
                    <a:srgbClr val="000000"/>
                  </a:solidFill>
                  <a:miter/>
                </a:ln>
              </p:spPr>
            </p:cxnSp>
            <p:cxnSp>
              <p:nvCxnSpPr>
                <p:cNvPr id="1712" name=""/>
                <p:cNvCxnSpPr>
                  <a:stCxn id="1673" idx="3"/>
                  <a:endCxn id="1672" idx="1"/>
                </p:cNvCxnSpPr>
                <p:nvPr/>
              </p:nvCxnSpPr>
              <p:spPr>
                <a:xfrm>
                  <a:off x="3149280" y="4297680"/>
                  <a:ext cx="73440" cy="1080"/>
                </a:xfrm>
                <a:prstGeom prst="bentConnector2">
                  <a:avLst/>
                </a:prstGeom>
                <a:ln w="12600">
                  <a:solidFill>
                    <a:srgbClr val="000000"/>
                  </a:solidFill>
                  <a:miter/>
                </a:ln>
              </p:spPr>
            </p:cxnSp>
            <p:cxnSp>
              <p:nvCxnSpPr>
                <p:cNvPr id="1713" name=""/>
                <p:cNvCxnSpPr>
                  <a:stCxn id="1672" idx="3"/>
                  <a:endCxn id="1671" idx="1"/>
                </p:cNvCxnSpPr>
                <p:nvPr/>
              </p:nvCxnSpPr>
              <p:spPr>
                <a:xfrm>
                  <a:off x="3344400" y="4297680"/>
                  <a:ext cx="122400" cy="93960"/>
                </a:xfrm>
                <a:prstGeom prst="bentConnector3">
                  <a:avLst>
                    <a:gd name="adj1" fmla="val 49852"/>
                  </a:avLst>
                </a:prstGeom>
                <a:ln w="12600">
                  <a:solidFill>
                    <a:srgbClr val="000000"/>
                  </a:solidFill>
                  <a:miter/>
                </a:ln>
              </p:spPr>
            </p:cxnSp>
            <p:cxnSp>
              <p:nvCxnSpPr>
                <p:cNvPr id="1714" name=""/>
                <p:cNvCxnSpPr>
                  <a:stCxn id="1684" idx="3"/>
                  <a:endCxn id="1672" idx="1"/>
                </p:cNvCxnSpPr>
                <p:nvPr/>
              </p:nvCxnSpPr>
              <p:spPr>
                <a:xfrm flipV="1">
                  <a:off x="3149280" y="4297680"/>
                  <a:ext cx="73440" cy="280800"/>
                </a:xfrm>
                <a:prstGeom prst="bentConnector3">
                  <a:avLst>
                    <a:gd name="adj1" fmla="val 49753"/>
                  </a:avLst>
                </a:prstGeom>
                <a:ln w="12600">
                  <a:solidFill>
                    <a:srgbClr val="000000"/>
                  </a:solidFill>
                  <a:miter/>
                </a:ln>
              </p:spPr>
            </p:cxnSp>
            <p:cxnSp>
              <p:nvCxnSpPr>
                <p:cNvPr id="1715" name=""/>
                <p:cNvCxnSpPr>
                  <a:stCxn id="1671" idx="3"/>
                  <a:endCxn id="1685" idx="1"/>
                </p:cNvCxnSpPr>
                <p:nvPr/>
              </p:nvCxnSpPr>
              <p:spPr>
                <a:xfrm>
                  <a:off x="3588120" y="4391640"/>
                  <a:ext cx="98280" cy="94320"/>
                </a:xfrm>
                <a:prstGeom prst="bentConnector3">
                  <a:avLst>
                    <a:gd name="adj1" fmla="val 50000"/>
                  </a:avLst>
                </a:prstGeom>
                <a:ln w="12600">
                  <a:solidFill>
                    <a:srgbClr val="000000"/>
                  </a:solidFill>
                  <a:miter/>
                </a:ln>
              </p:spPr>
            </p:cxnSp>
            <p:cxnSp>
              <p:nvCxnSpPr>
                <p:cNvPr id="1716" name=""/>
                <p:cNvCxnSpPr>
                  <a:stCxn id="1685" idx="3"/>
                  <a:endCxn id="1670" idx="1"/>
                </p:cNvCxnSpPr>
                <p:nvPr/>
              </p:nvCxnSpPr>
              <p:spPr>
                <a:xfrm flipV="1">
                  <a:off x="3807720" y="4250880"/>
                  <a:ext cx="73800" cy="234720"/>
                </a:xfrm>
                <a:prstGeom prst="bentConnector3">
                  <a:avLst>
                    <a:gd name="adj1" fmla="val 50000"/>
                  </a:avLst>
                </a:prstGeom>
                <a:ln w="12600">
                  <a:solidFill>
                    <a:srgbClr val="000000"/>
                  </a:solidFill>
                  <a:miter/>
                </a:ln>
              </p:spPr>
            </p:cxnSp>
          </p:grpSp>
        </p:grpSp>
        <p:sp>
          <p:nvSpPr>
            <p:cNvPr id="1717" name=""/>
            <p:cNvSpPr/>
            <p:nvPr/>
          </p:nvSpPr>
          <p:spPr>
            <a:xfrm>
              <a:off x="2784240" y="2794680"/>
              <a:ext cx="1637640" cy="70380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produto A</a:t>
              </a:r>
              <a:endParaRPr b="0" lang="en-US" sz="2000" spc="-1" strike="noStrike">
                <a:solidFill>
                  <a:srgbClr val="000000"/>
                </a:solidFill>
                <a:latin typeface="Arial"/>
              </a:endParaRPr>
            </a:p>
          </p:txBody>
        </p:sp>
        <p:sp>
          <p:nvSpPr>
            <p:cNvPr id="1718" name=""/>
            <p:cNvSpPr/>
            <p:nvPr/>
          </p:nvSpPr>
          <p:spPr>
            <a:xfrm>
              <a:off x="914040" y="5790240"/>
              <a:ext cx="1637640" cy="70380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produto B</a:t>
              </a:r>
              <a:endParaRPr b="0" lang="en-US" sz="2000" spc="-1" strike="noStrike">
                <a:solidFill>
                  <a:srgbClr val="000000"/>
                </a:solidFill>
                <a:latin typeface="Arial"/>
              </a:endParaRPr>
            </a:p>
          </p:txBody>
        </p:sp>
        <p:sp>
          <p:nvSpPr>
            <p:cNvPr id="1719" name=""/>
            <p:cNvSpPr/>
            <p:nvPr/>
          </p:nvSpPr>
          <p:spPr>
            <a:xfrm>
              <a:off x="5942880" y="3047040"/>
              <a:ext cx="1652760" cy="70380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produto C</a:t>
              </a:r>
              <a:endParaRPr b="0" lang="en-US" sz="2000" spc="-1" strike="noStrike">
                <a:solidFill>
                  <a:srgbClr val="000000"/>
                </a:solidFill>
                <a:latin typeface="Arial"/>
              </a:endParaRPr>
            </a:p>
          </p:txBody>
        </p:sp>
        <p:sp>
          <p:nvSpPr>
            <p:cNvPr id="1720" name=""/>
            <p:cNvSpPr/>
            <p:nvPr/>
          </p:nvSpPr>
          <p:spPr>
            <a:xfrm>
              <a:off x="0" y="1206720"/>
              <a:ext cx="42228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imento de produtos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Importância de se especificar projetos a partir de processos de referência  </a:t>
            </a:r>
            <a:endParaRPr b="0" lang="en-US" sz="2400" spc="-1" strike="noStrike">
              <a:solidFill>
                <a:srgbClr val="000096"/>
              </a:solidFill>
              <a:latin typeface="Arial"/>
            </a:endParaRPr>
          </a:p>
        </p:txBody>
      </p:sp>
      <p:pic>
        <p:nvPicPr>
          <p:cNvPr id="1722" name="" descr=""/>
          <p:cNvPicPr/>
          <p:nvPr/>
        </p:nvPicPr>
        <p:blipFill>
          <a:blip r:embed="rId1"/>
          <a:stretch/>
        </p:blipFill>
        <p:spPr>
          <a:xfrm>
            <a:off x="216000" y="2247840"/>
            <a:ext cx="4554360" cy="3416400"/>
          </a:xfrm>
          <a:prstGeom prst="rect">
            <a:avLst/>
          </a:prstGeom>
          <a:ln w="12600">
            <a:solidFill>
              <a:srgbClr val="000000"/>
            </a:solidFill>
            <a:miter/>
          </a:ln>
        </p:spPr>
      </p:pic>
      <p:sp>
        <p:nvSpPr>
          <p:cNvPr id="1723" name=""/>
          <p:cNvSpPr/>
          <p:nvPr/>
        </p:nvSpPr>
        <p:spPr>
          <a:xfrm>
            <a:off x="4867200" y="1843200"/>
            <a:ext cx="4276800" cy="4266360"/>
          </a:xfrm>
          <a:prstGeom prst="rect">
            <a:avLst/>
          </a:prstGeom>
          <a:noFill/>
          <a:ln w="0">
            <a:noFill/>
          </a:ln>
        </p:spPr>
        <p:style>
          <a:lnRef idx="0"/>
          <a:fillRef idx="0"/>
          <a:effectRef idx="0"/>
          <a:fontRef idx="minor"/>
        </p:style>
        <p:txBody>
          <a:bodyPr lIns="72000" rIns="72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pecificar projetos com base em uma referência gara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que nada será esquecido no planejamento do projeto</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 repetibilidade dos proje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apel do modelo de referência</a:t>
            </a:r>
            <a:endParaRPr b="0" lang="en-US" sz="2400" spc="-1" strike="noStrike">
              <a:solidFill>
                <a:srgbClr val="000096"/>
              </a:solidFill>
              <a:latin typeface="Arial"/>
            </a:endParaRPr>
          </a:p>
        </p:txBody>
      </p:sp>
      <p:grpSp>
        <p:nvGrpSpPr>
          <p:cNvPr id="1725" name=""/>
          <p:cNvGrpSpPr/>
          <p:nvPr/>
        </p:nvGrpSpPr>
        <p:grpSpPr>
          <a:xfrm>
            <a:off x="6248520" y="4495680"/>
            <a:ext cx="2514600" cy="1828800"/>
            <a:chOff x="6248520" y="4495680"/>
            <a:chExt cx="2514600" cy="1828800"/>
          </a:xfrm>
        </p:grpSpPr>
        <p:grpSp>
          <p:nvGrpSpPr>
            <p:cNvPr id="1726" name=""/>
            <p:cNvGrpSpPr/>
            <p:nvPr/>
          </p:nvGrpSpPr>
          <p:grpSpPr>
            <a:xfrm>
              <a:off x="6248520" y="4495680"/>
              <a:ext cx="2514600" cy="1828800"/>
              <a:chOff x="6248520" y="4495680"/>
              <a:chExt cx="2514600" cy="1828800"/>
            </a:xfrm>
          </p:grpSpPr>
          <p:grpSp>
            <p:nvGrpSpPr>
              <p:cNvPr id="1727" name=""/>
              <p:cNvGrpSpPr/>
              <p:nvPr/>
            </p:nvGrpSpPr>
            <p:grpSpPr>
              <a:xfrm>
                <a:off x="6248520" y="4495680"/>
                <a:ext cx="2514600" cy="1828800"/>
                <a:chOff x="6248520" y="4495680"/>
                <a:chExt cx="2514600" cy="1828800"/>
              </a:xfrm>
            </p:grpSpPr>
            <p:grpSp>
              <p:nvGrpSpPr>
                <p:cNvPr id="1728" name=""/>
                <p:cNvGrpSpPr/>
                <p:nvPr/>
              </p:nvGrpSpPr>
              <p:grpSpPr>
                <a:xfrm>
                  <a:off x="6248520" y="4495680"/>
                  <a:ext cx="2514600" cy="1828800"/>
                  <a:chOff x="6248520" y="4495680"/>
                  <a:chExt cx="2514600" cy="1828800"/>
                </a:xfrm>
              </p:grpSpPr>
              <p:sp>
                <p:nvSpPr>
                  <p:cNvPr id="1729" name=""/>
                  <p:cNvSpPr/>
                  <p:nvPr/>
                </p:nvSpPr>
                <p:spPr>
                  <a:xfrm>
                    <a:off x="6248520" y="4495680"/>
                    <a:ext cx="2514600" cy="1828800"/>
                  </a:xfrm>
                  <a:prstGeom prst="rect">
                    <a:avLst/>
                  </a:prstGeom>
                  <a:solidFill>
                    <a:srgbClr val="ffc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30" name=""/>
                  <p:cNvGrpSpPr/>
                  <p:nvPr/>
                </p:nvGrpSpPr>
                <p:grpSpPr>
                  <a:xfrm>
                    <a:off x="6548400" y="4951440"/>
                    <a:ext cx="1890720" cy="1188720"/>
                    <a:chOff x="6548400" y="4951440"/>
                    <a:chExt cx="1890720" cy="1188720"/>
                  </a:xfrm>
                </p:grpSpPr>
                <p:grpSp>
                  <p:nvGrpSpPr>
                    <p:cNvPr id="1731" name=""/>
                    <p:cNvGrpSpPr/>
                    <p:nvPr/>
                  </p:nvGrpSpPr>
                  <p:grpSpPr>
                    <a:xfrm>
                      <a:off x="6548400" y="5335560"/>
                      <a:ext cx="1523880" cy="804600"/>
                      <a:chOff x="6548400" y="5335560"/>
                      <a:chExt cx="1523880" cy="804600"/>
                    </a:xfrm>
                  </p:grpSpPr>
                  <p:sp>
                    <p:nvSpPr>
                      <p:cNvPr id="1732" name=""/>
                      <p:cNvSpPr/>
                      <p:nvPr/>
                    </p:nvSpPr>
                    <p:spPr>
                      <a:xfrm>
                        <a:off x="6689880" y="5707080"/>
                        <a:ext cx="1382400" cy="433080"/>
                      </a:xfrm>
                      <a:custGeom>
                        <a:avLst/>
                        <a:gdLst/>
                        <a:ahLst/>
                        <a:rect l="l" t="t" r="r" b="b"/>
                        <a:pathLst>
                          <a:path w="871" h="273">
                            <a:moveTo>
                              <a:pt x="0" y="205"/>
                            </a:moveTo>
                            <a:lnTo>
                              <a:pt x="29" y="195"/>
                            </a:lnTo>
                            <a:lnTo>
                              <a:pt x="51" y="176"/>
                            </a:lnTo>
                            <a:lnTo>
                              <a:pt x="86" y="166"/>
                            </a:lnTo>
                            <a:lnTo>
                              <a:pt x="115" y="162"/>
                            </a:lnTo>
                            <a:lnTo>
                              <a:pt x="151" y="162"/>
                            </a:lnTo>
                            <a:lnTo>
                              <a:pt x="189" y="168"/>
                            </a:lnTo>
                            <a:lnTo>
                              <a:pt x="235" y="168"/>
                            </a:lnTo>
                            <a:lnTo>
                              <a:pt x="296" y="172"/>
                            </a:lnTo>
                            <a:lnTo>
                              <a:pt x="346" y="170"/>
                            </a:lnTo>
                            <a:lnTo>
                              <a:pt x="405" y="158"/>
                            </a:lnTo>
                            <a:lnTo>
                              <a:pt x="468" y="140"/>
                            </a:lnTo>
                            <a:lnTo>
                              <a:pt x="538" y="112"/>
                            </a:lnTo>
                            <a:lnTo>
                              <a:pt x="613" y="84"/>
                            </a:lnTo>
                            <a:lnTo>
                              <a:pt x="697" y="53"/>
                            </a:lnTo>
                            <a:lnTo>
                              <a:pt x="767" y="29"/>
                            </a:lnTo>
                            <a:lnTo>
                              <a:pt x="836" y="10"/>
                            </a:lnTo>
                            <a:lnTo>
                              <a:pt x="870" y="0"/>
                            </a:lnTo>
                            <a:lnTo>
                              <a:pt x="848" y="12"/>
                            </a:lnTo>
                            <a:lnTo>
                              <a:pt x="843" y="23"/>
                            </a:lnTo>
                            <a:lnTo>
                              <a:pt x="845" y="31"/>
                            </a:lnTo>
                            <a:lnTo>
                              <a:pt x="816" y="45"/>
                            </a:lnTo>
                            <a:lnTo>
                              <a:pt x="800" y="51"/>
                            </a:lnTo>
                            <a:lnTo>
                              <a:pt x="767" y="59"/>
                            </a:lnTo>
                            <a:lnTo>
                              <a:pt x="730" y="69"/>
                            </a:lnTo>
                            <a:lnTo>
                              <a:pt x="705" y="82"/>
                            </a:lnTo>
                            <a:lnTo>
                              <a:pt x="700" y="88"/>
                            </a:lnTo>
                            <a:lnTo>
                              <a:pt x="700" y="96"/>
                            </a:lnTo>
                            <a:lnTo>
                              <a:pt x="708" y="102"/>
                            </a:lnTo>
                            <a:lnTo>
                              <a:pt x="703" y="108"/>
                            </a:lnTo>
                            <a:lnTo>
                              <a:pt x="686" y="110"/>
                            </a:lnTo>
                            <a:lnTo>
                              <a:pt x="657" y="114"/>
                            </a:lnTo>
                            <a:lnTo>
                              <a:pt x="613" y="122"/>
                            </a:lnTo>
                            <a:lnTo>
                              <a:pt x="565" y="138"/>
                            </a:lnTo>
                            <a:lnTo>
                              <a:pt x="499" y="158"/>
                            </a:lnTo>
                            <a:lnTo>
                              <a:pt x="451" y="168"/>
                            </a:lnTo>
                            <a:lnTo>
                              <a:pt x="405" y="176"/>
                            </a:lnTo>
                            <a:lnTo>
                              <a:pt x="371" y="186"/>
                            </a:lnTo>
                            <a:lnTo>
                              <a:pt x="351" y="193"/>
                            </a:lnTo>
                            <a:lnTo>
                              <a:pt x="281" y="193"/>
                            </a:lnTo>
                            <a:lnTo>
                              <a:pt x="248" y="193"/>
                            </a:lnTo>
                            <a:lnTo>
                              <a:pt x="218" y="195"/>
                            </a:lnTo>
                            <a:lnTo>
                              <a:pt x="192" y="205"/>
                            </a:lnTo>
                            <a:lnTo>
                              <a:pt x="156" y="221"/>
                            </a:lnTo>
                            <a:lnTo>
                              <a:pt x="132" y="239"/>
                            </a:lnTo>
                            <a:lnTo>
                              <a:pt x="114" y="252"/>
                            </a:lnTo>
                            <a:lnTo>
                              <a:pt x="89" y="272"/>
                            </a:lnTo>
                            <a:lnTo>
                              <a:pt x="103" y="249"/>
                            </a:lnTo>
                            <a:lnTo>
                              <a:pt x="114" y="237"/>
                            </a:lnTo>
                            <a:lnTo>
                              <a:pt x="118" y="223"/>
                            </a:lnTo>
                            <a:lnTo>
                              <a:pt x="118" y="211"/>
                            </a:lnTo>
                            <a:lnTo>
                              <a:pt x="111" y="201"/>
                            </a:lnTo>
                            <a:lnTo>
                              <a:pt x="89" y="195"/>
                            </a:lnTo>
                            <a:lnTo>
                              <a:pt x="64" y="191"/>
                            </a:lnTo>
                            <a:lnTo>
                              <a:pt x="48" y="193"/>
                            </a:lnTo>
                            <a:lnTo>
                              <a:pt x="34" y="199"/>
                            </a:lnTo>
                            <a:lnTo>
                              <a:pt x="0" y="205"/>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6932520" y="5729040"/>
                        <a:ext cx="439920" cy="76320"/>
                      </a:xfrm>
                      <a:custGeom>
                        <a:avLst/>
                        <a:gdLst/>
                        <a:ahLst/>
                        <a:rect l="l" t="t" r="r" b="b"/>
                        <a:pathLst>
                          <a:path w="277" h="48">
                            <a:moveTo>
                              <a:pt x="8" y="0"/>
                            </a:moveTo>
                            <a:lnTo>
                              <a:pt x="21" y="2"/>
                            </a:lnTo>
                            <a:lnTo>
                              <a:pt x="37" y="8"/>
                            </a:lnTo>
                            <a:lnTo>
                              <a:pt x="55" y="15"/>
                            </a:lnTo>
                            <a:lnTo>
                              <a:pt x="76" y="22"/>
                            </a:lnTo>
                            <a:lnTo>
                              <a:pt x="97" y="26"/>
                            </a:lnTo>
                            <a:lnTo>
                              <a:pt x="119" y="29"/>
                            </a:lnTo>
                            <a:lnTo>
                              <a:pt x="140" y="29"/>
                            </a:lnTo>
                            <a:lnTo>
                              <a:pt x="165" y="26"/>
                            </a:lnTo>
                            <a:lnTo>
                              <a:pt x="195" y="22"/>
                            </a:lnTo>
                            <a:lnTo>
                              <a:pt x="216" y="19"/>
                            </a:lnTo>
                            <a:lnTo>
                              <a:pt x="239" y="17"/>
                            </a:lnTo>
                            <a:lnTo>
                              <a:pt x="276" y="13"/>
                            </a:lnTo>
                            <a:lnTo>
                              <a:pt x="263" y="20"/>
                            </a:lnTo>
                            <a:lnTo>
                              <a:pt x="249" y="27"/>
                            </a:lnTo>
                            <a:lnTo>
                              <a:pt x="249" y="35"/>
                            </a:lnTo>
                            <a:lnTo>
                              <a:pt x="252" y="45"/>
                            </a:lnTo>
                            <a:lnTo>
                              <a:pt x="260" y="47"/>
                            </a:lnTo>
                            <a:lnTo>
                              <a:pt x="249" y="45"/>
                            </a:lnTo>
                            <a:lnTo>
                              <a:pt x="233" y="42"/>
                            </a:lnTo>
                            <a:lnTo>
                              <a:pt x="227" y="40"/>
                            </a:lnTo>
                            <a:lnTo>
                              <a:pt x="211" y="40"/>
                            </a:lnTo>
                            <a:lnTo>
                              <a:pt x="189" y="40"/>
                            </a:lnTo>
                            <a:lnTo>
                              <a:pt x="163" y="40"/>
                            </a:lnTo>
                            <a:lnTo>
                              <a:pt x="137" y="40"/>
                            </a:lnTo>
                            <a:lnTo>
                              <a:pt x="119" y="40"/>
                            </a:lnTo>
                            <a:lnTo>
                              <a:pt x="97" y="38"/>
                            </a:lnTo>
                            <a:lnTo>
                              <a:pt x="79" y="36"/>
                            </a:lnTo>
                            <a:lnTo>
                              <a:pt x="57" y="33"/>
                            </a:lnTo>
                            <a:lnTo>
                              <a:pt x="43" y="27"/>
                            </a:lnTo>
                            <a:lnTo>
                              <a:pt x="24" y="22"/>
                            </a:lnTo>
                            <a:lnTo>
                              <a:pt x="11" y="15"/>
                            </a:lnTo>
                            <a:lnTo>
                              <a:pt x="0" y="12"/>
                            </a:lnTo>
                            <a:lnTo>
                              <a:pt x="8" y="0"/>
                            </a:lnTo>
                          </a:path>
                        </a:pathLst>
                      </a:custGeom>
                      <a:solidFill>
                        <a:srgbClr val="ffa04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34" name=""/>
                      <p:cNvSpPr/>
                      <p:nvPr/>
                    </p:nvSpPr>
                    <p:spPr>
                      <a:xfrm>
                        <a:off x="6991200" y="5573520"/>
                        <a:ext cx="871560" cy="154080"/>
                      </a:xfrm>
                      <a:custGeom>
                        <a:avLst/>
                        <a:gdLst/>
                        <a:ahLst/>
                        <a:rect l="l" t="t" r="r" b="b"/>
                        <a:pathLst>
                          <a:path w="549" h="97">
                            <a:moveTo>
                              <a:pt x="11" y="53"/>
                            </a:moveTo>
                            <a:lnTo>
                              <a:pt x="19" y="49"/>
                            </a:lnTo>
                            <a:lnTo>
                              <a:pt x="14" y="59"/>
                            </a:lnTo>
                            <a:lnTo>
                              <a:pt x="19" y="64"/>
                            </a:lnTo>
                            <a:lnTo>
                              <a:pt x="50" y="72"/>
                            </a:lnTo>
                            <a:lnTo>
                              <a:pt x="100" y="78"/>
                            </a:lnTo>
                            <a:lnTo>
                              <a:pt x="147" y="84"/>
                            </a:lnTo>
                            <a:lnTo>
                              <a:pt x="203" y="82"/>
                            </a:lnTo>
                            <a:lnTo>
                              <a:pt x="271" y="74"/>
                            </a:lnTo>
                            <a:lnTo>
                              <a:pt x="341" y="66"/>
                            </a:lnTo>
                            <a:lnTo>
                              <a:pt x="402" y="57"/>
                            </a:lnTo>
                            <a:lnTo>
                              <a:pt x="427" y="53"/>
                            </a:lnTo>
                            <a:lnTo>
                              <a:pt x="459" y="43"/>
                            </a:lnTo>
                            <a:lnTo>
                              <a:pt x="491" y="31"/>
                            </a:lnTo>
                            <a:lnTo>
                              <a:pt x="521" y="17"/>
                            </a:lnTo>
                            <a:lnTo>
                              <a:pt x="548" y="0"/>
                            </a:lnTo>
                            <a:lnTo>
                              <a:pt x="540" y="21"/>
                            </a:lnTo>
                            <a:lnTo>
                              <a:pt x="518" y="35"/>
                            </a:lnTo>
                            <a:lnTo>
                              <a:pt x="480" y="47"/>
                            </a:lnTo>
                            <a:lnTo>
                              <a:pt x="440" y="62"/>
                            </a:lnTo>
                            <a:lnTo>
                              <a:pt x="394" y="70"/>
                            </a:lnTo>
                            <a:lnTo>
                              <a:pt x="341" y="80"/>
                            </a:lnTo>
                            <a:lnTo>
                              <a:pt x="289" y="87"/>
                            </a:lnTo>
                            <a:lnTo>
                              <a:pt x="252" y="93"/>
                            </a:lnTo>
                            <a:lnTo>
                              <a:pt x="217" y="95"/>
                            </a:lnTo>
                            <a:lnTo>
                              <a:pt x="172" y="96"/>
                            </a:lnTo>
                            <a:lnTo>
                              <a:pt x="117" y="95"/>
                            </a:lnTo>
                            <a:lnTo>
                              <a:pt x="70" y="89"/>
                            </a:lnTo>
                            <a:lnTo>
                              <a:pt x="34" y="82"/>
                            </a:lnTo>
                            <a:lnTo>
                              <a:pt x="8" y="72"/>
                            </a:lnTo>
                            <a:lnTo>
                              <a:pt x="0" y="64"/>
                            </a:lnTo>
                            <a:lnTo>
                              <a:pt x="11" y="53"/>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5" name=""/>
                      <p:cNvGrpSpPr/>
                      <p:nvPr/>
                    </p:nvGrpSpPr>
                    <p:grpSpPr>
                      <a:xfrm>
                        <a:off x="6548400" y="5335560"/>
                        <a:ext cx="289080" cy="322200"/>
                        <a:chOff x="6548400" y="5335560"/>
                        <a:chExt cx="289080" cy="322200"/>
                      </a:xfrm>
                    </p:grpSpPr>
                    <p:sp>
                      <p:nvSpPr>
                        <p:cNvPr id="1736" name=""/>
                        <p:cNvSpPr/>
                        <p:nvPr/>
                      </p:nvSpPr>
                      <p:spPr>
                        <a:xfrm>
                          <a:off x="6548400" y="5630760"/>
                          <a:ext cx="135000" cy="27000"/>
                        </a:xfrm>
                        <a:custGeom>
                          <a:avLst/>
                          <a:gdLst/>
                          <a:ahLst/>
                          <a:rect l="l" t="t" r="r" b="b"/>
                          <a:pathLst>
                            <a:path w="85" h="17">
                              <a:moveTo>
                                <a:pt x="84" y="1"/>
                              </a:moveTo>
                              <a:lnTo>
                                <a:pt x="84" y="3"/>
                              </a:lnTo>
                              <a:lnTo>
                                <a:pt x="82" y="3"/>
                              </a:lnTo>
                              <a:lnTo>
                                <a:pt x="82" y="4"/>
                              </a:lnTo>
                              <a:lnTo>
                                <a:pt x="82" y="6"/>
                              </a:lnTo>
                              <a:lnTo>
                                <a:pt x="67" y="10"/>
                              </a:lnTo>
                              <a:lnTo>
                                <a:pt x="10" y="16"/>
                              </a:lnTo>
                              <a:lnTo>
                                <a:pt x="0" y="15"/>
                              </a:lnTo>
                              <a:lnTo>
                                <a:pt x="12" y="12"/>
                              </a:lnTo>
                              <a:lnTo>
                                <a:pt x="28" y="7"/>
                              </a:lnTo>
                              <a:lnTo>
                                <a:pt x="45" y="1"/>
                              </a:lnTo>
                              <a:lnTo>
                                <a:pt x="62" y="0"/>
                              </a:lnTo>
                              <a:lnTo>
                                <a:pt x="84" y="1"/>
                              </a:lnTo>
                            </a:path>
                          </a:pathLst>
                        </a:custGeom>
                        <a:solidFill>
                          <a:srgbClr val="ffa04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7" name=""/>
                        <p:cNvSpPr/>
                        <p:nvPr/>
                      </p:nvSpPr>
                      <p:spPr>
                        <a:xfrm>
                          <a:off x="6580080" y="5560920"/>
                          <a:ext cx="141480" cy="34920"/>
                        </a:xfrm>
                        <a:custGeom>
                          <a:avLst/>
                          <a:gdLst/>
                          <a:ahLst/>
                          <a:rect l="l" t="t" r="r" b="b"/>
                          <a:pathLst>
                            <a:path w="89" h="22">
                              <a:moveTo>
                                <a:pt x="0" y="21"/>
                              </a:moveTo>
                              <a:lnTo>
                                <a:pt x="33" y="14"/>
                              </a:lnTo>
                              <a:lnTo>
                                <a:pt x="75" y="18"/>
                              </a:lnTo>
                              <a:lnTo>
                                <a:pt x="88" y="3"/>
                              </a:lnTo>
                              <a:lnTo>
                                <a:pt x="84" y="0"/>
                              </a:lnTo>
                              <a:lnTo>
                                <a:pt x="62" y="2"/>
                              </a:lnTo>
                              <a:lnTo>
                                <a:pt x="38" y="2"/>
                              </a:lnTo>
                              <a:lnTo>
                                <a:pt x="11" y="6"/>
                              </a:lnTo>
                              <a:lnTo>
                                <a:pt x="0" y="21"/>
                              </a:lnTo>
                            </a:path>
                          </a:pathLst>
                        </a:custGeom>
                        <a:solidFill>
                          <a:srgbClr val="ffa04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38" name=""/>
                        <p:cNvSpPr/>
                        <p:nvPr/>
                      </p:nvSpPr>
                      <p:spPr>
                        <a:xfrm>
                          <a:off x="6626160" y="5462640"/>
                          <a:ext cx="139680" cy="52200"/>
                        </a:xfrm>
                        <a:custGeom>
                          <a:avLst/>
                          <a:gdLst/>
                          <a:ahLst/>
                          <a:rect l="l" t="t" r="r" b="b"/>
                          <a:pathLst>
                            <a:path w="88" h="33">
                              <a:moveTo>
                                <a:pt x="87" y="19"/>
                              </a:moveTo>
                              <a:lnTo>
                                <a:pt x="77" y="32"/>
                              </a:lnTo>
                              <a:lnTo>
                                <a:pt x="7" y="19"/>
                              </a:lnTo>
                              <a:lnTo>
                                <a:pt x="0" y="12"/>
                              </a:lnTo>
                              <a:lnTo>
                                <a:pt x="5" y="0"/>
                              </a:lnTo>
                              <a:lnTo>
                                <a:pt x="10" y="7"/>
                              </a:lnTo>
                              <a:lnTo>
                                <a:pt x="32" y="8"/>
                              </a:lnTo>
                              <a:lnTo>
                                <a:pt x="70" y="17"/>
                              </a:lnTo>
                              <a:lnTo>
                                <a:pt x="87" y="19"/>
                              </a:lnTo>
                            </a:path>
                          </a:pathLst>
                        </a:custGeom>
                        <a:solidFill>
                          <a:srgbClr val="ffa04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39" name=""/>
                        <p:cNvSpPr/>
                        <p:nvPr/>
                      </p:nvSpPr>
                      <p:spPr>
                        <a:xfrm>
                          <a:off x="6669000" y="5406840"/>
                          <a:ext cx="157320" cy="34920"/>
                        </a:xfrm>
                        <a:custGeom>
                          <a:avLst/>
                          <a:gdLst/>
                          <a:ahLst/>
                          <a:rect l="l" t="t" r="r" b="b"/>
                          <a:pathLst>
                            <a:path w="99" h="22">
                              <a:moveTo>
                                <a:pt x="5" y="0"/>
                              </a:moveTo>
                              <a:lnTo>
                                <a:pt x="66" y="9"/>
                              </a:lnTo>
                              <a:lnTo>
                                <a:pt x="81" y="9"/>
                              </a:lnTo>
                              <a:lnTo>
                                <a:pt x="98" y="9"/>
                              </a:lnTo>
                              <a:lnTo>
                                <a:pt x="83" y="19"/>
                              </a:lnTo>
                              <a:lnTo>
                                <a:pt x="53" y="21"/>
                              </a:lnTo>
                              <a:lnTo>
                                <a:pt x="17" y="16"/>
                              </a:lnTo>
                              <a:lnTo>
                                <a:pt x="0" y="10"/>
                              </a:lnTo>
                              <a:lnTo>
                                <a:pt x="5" y="0"/>
                              </a:lnTo>
                            </a:path>
                          </a:pathLst>
                        </a:custGeom>
                        <a:solidFill>
                          <a:srgbClr val="ffa04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40" name=""/>
                        <p:cNvSpPr/>
                        <p:nvPr/>
                      </p:nvSpPr>
                      <p:spPr>
                        <a:xfrm>
                          <a:off x="6705720" y="5335560"/>
                          <a:ext cx="131760" cy="33120"/>
                        </a:xfrm>
                        <a:custGeom>
                          <a:avLst/>
                          <a:gdLst/>
                          <a:ahLst/>
                          <a:rect l="l" t="t" r="r" b="b"/>
                          <a:pathLst>
                            <a:path w="83" h="21">
                              <a:moveTo>
                                <a:pt x="2" y="12"/>
                              </a:moveTo>
                              <a:lnTo>
                                <a:pt x="0" y="20"/>
                              </a:lnTo>
                              <a:lnTo>
                                <a:pt x="49" y="20"/>
                              </a:lnTo>
                              <a:lnTo>
                                <a:pt x="82" y="10"/>
                              </a:lnTo>
                              <a:lnTo>
                                <a:pt x="82" y="0"/>
                              </a:lnTo>
                              <a:lnTo>
                                <a:pt x="65" y="6"/>
                              </a:lnTo>
                              <a:lnTo>
                                <a:pt x="30" y="12"/>
                              </a:lnTo>
                              <a:lnTo>
                                <a:pt x="2" y="12"/>
                              </a:lnTo>
                            </a:path>
                          </a:pathLst>
                        </a:custGeom>
                        <a:solidFill>
                          <a:srgbClr val="ffa04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1741" name=""/>
                    <p:cNvSpPr/>
                    <p:nvPr/>
                  </p:nvSpPr>
                  <p:spPr>
                    <a:xfrm>
                      <a:off x="6730920" y="4951440"/>
                      <a:ext cx="1708200" cy="752400"/>
                    </a:xfrm>
                    <a:custGeom>
                      <a:avLst/>
                      <a:gdLst/>
                      <a:ahLst/>
                      <a:rect l="l" t="t" r="r" b="b"/>
                      <a:pathLst>
                        <a:path w="1076" h="474">
                          <a:moveTo>
                            <a:pt x="115" y="196"/>
                          </a:moveTo>
                          <a:lnTo>
                            <a:pt x="0" y="234"/>
                          </a:lnTo>
                          <a:lnTo>
                            <a:pt x="18" y="206"/>
                          </a:lnTo>
                          <a:lnTo>
                            <a:pt x="48" y="166"/>
                          </a:lnTo>
                          <a:lnTo>
                            <a:pt x="81" y="133"/>
                          </a:lnTo>
                          <a:lnTo>
                            <a:pt x="135" y="100"/>
                          </a:lnTo>
                          <a:lnTo>
                            <a:pt x="213" y="64"/>
                          </a:lnTo>
                          <a:lnTo>
                            <a:pt x="268" y="40"/>
                          </a:lnTo>
                          <a:lnTo>
                            <a:pt x="324" y="21"/>
                          </a:lnTo>
                          <a:lnTo>
                            <a:pt x="384" y="10"/>
                          </a:lnTo>
                          <a:lnTo>
                            <a:pt x="441" y="2"/>
                          </a:lnTo>
                          <a:lnTo>
                            <a:pt x="495" y="0"/>
                          </a:lnTo>
                          <a:lnTo>
                            <a:pt x="568" y="0"/>
                          </a:lnTo>
                          <a:lnTo>
                            <a:pt x="634" y="2"/>
                          </a:lnTo>
                          <a:lnTo>
                            <a:pt x="693" y="10"/>
                          </a:lnTo>
                          <a:lnTo>
                            <a:pt x="757" y="38"/>
                          </a:lnTo>
                          <a:lnTo>
                            <a:pt x="799" y="58"/>
                          </a:lnTo>
                          <a:lnTo>
                            <a:pt x="852" y="86"/>
                          </a:lnTo>
                          <a:lnTo>
                            <a:pt x="894" y="116"/>
                          </a:lnTo>
                          <a:lnTo>
                            <a:pt x="906" y="135"/>
                          </a:lnTo>
                          <a:lnTo>
                            <a:pt x="909" y="164"/>
                          </a:lnTo>
                          <a:lnTo>
                            <a:pt x="909" y="187"/>
                          </a:lnTo>
                          <a:lnTo>
                            <a:pt x="977" y="185"/>
                          </a:lnTo>
                          <a:lnTo>
                            <a:pt x="969" y="193"/>
                          </a:lnTo>
                          <a:lnTo>
                            <a:pt x="961" y="206"/>
                          </a:lnTo>
                          <a:lnTo>
                            <a:pt x="958" y="224"/>
                          </a:lnTo>
                          <a:lnTo>
                            <a:pt x="966" y="245"/>
                          </a:lnTo>
                          <a:lnTo>
                            <a:pt x="983" y="256"/>
                          </a:lnTo>
                          <a:lnTo>
                            <a:pt x="1004" y="270"/>
                          </a:lnTo>
                          <a:lnTo>
                            <a:pt x="1048" y="280"/>
                          </a:lnTo>
                          <a:lnTo>
                            <a:pt x="1075" y="284"/>
                          </a:lnTo>
                          <a:lnTo>
                            <a:pt x="1048" y="316"/>
                          </a:lnTo>
                          <a:lnTo>
                            <a:pt x="1037" y="338"/>
                          </a:lnTo>
                          <a:lnTo>
                            <a:pt x="1026" y="357"/>
                          </a:lnTo>
                          <a:lnTo>
                            <a:pt x="1017" y="384"/>
                          </a:lnTo>
                          <a:lnTo>
                            <a:pt x="1012" y="407"/>
                          </a:lnTo>
                          <a:lnTo>
                            <a:pt x="1012" y="421"/>
                          </a:lnTo>
                          <a:lnTo>
                            <a:pt x="991" y="440"/>
                          </a:lnTo>
                          <a:lnTo>
                            <a:pt x="944" y="473"/>
                          </a:lnTo>
                          <a:lnTo>
                            <a:pt x="936" y="465"/>
                          </a:lnTo>
                          <a:lnTo>
                            <a:pt x="950" y="449"/>
                          </a:lnTo>
                          <a:lnTo>
                            <a:pt x="958" y="430"/>
                          </a:lnTo>
                          <a:lnTo>
                            <a:pt x="964" y="411"/>
                          </a:lnTo>
                          <a:lnTo>
                            <a:pt x="966" y="384"/>
                          </a:lnTo>
                          <a:lnTo>
                            <a:pt x="972" y="370"/>
                          </a:lnTo>
                          <a:lnTo>
                            <a:pt x="964" y="363"/>
                          </a:lnTo>
                          <a:lnTo>
                            <a:pt x="958" y="355"/>
                          </a:lnTo>
                          <a:lnTo>
                            <a:pt x="936" y="355"/>
                          </a:lnTo>
                          <a:lnTo>
                            <a:pt x="894" y="359"/>
                          </a:lnTo>
                          <a:lnTo>
                            <a:pt x="852" y="363"/>
                          </a:lnTo>
                          <a:lnTo>
                            <a:pt x="819" y="367"/>
                          </a:lnTo>
                          <a:lnTo>
                            <a:pt x="796" y="368"/>
                          </a:lnTo>
                          <a:lnTo>
                            <a:pt x="757" y="365"/>
                          </a:lnTo>
                          <a:lnTo>
                            <a:pt x="741" y="363"/>
                          </a:lnTo>
                          <a:lnTo>
                            <a:pt x="707" y="355"/>
                          </a:lnTo>
                          <a:lnTo>
                            <a:pt x="690" y="349"/>
                          </a:lnTo>
                          <a:lnTo>
                            <a:pt x="760" y="307"/>
                          </a:lnTo>
                          <a:lnTo>
                            <a:pt x="790" y="299"/>
                          </a:lnTo>
                          <a:lnTo>
                            <a:pt x="817" y="288"/>
                          </a:lnTo>
                          <a:lnTo>
                            <a:pt x="828" y="276"/>
                          </a:lnTo>
                          <a:lnTo>
                            <a:pt x="828" y="270"/>
                          </a:lnTo>
                          <a:lnTo>
                            <a:pt x="807" y="254"/>
                          </a:lnTo>
                          <a:lnTo>
                            <a:pt x="771" y="234"/>
                          </a:lnTo>
                          <a:lnTo>
                            <a:pt x="720" y="206"/>
                          </a:lnTo>
                          <a:lnTo>
                            <a:pt x="674" y="187"/>
                          </a:lnTo>
                          <a:lnTo>
                            <a:pt x="665" y="182"/>
                          </a:lnTo>
                          <a:lnTo>
                            <a:pt x="668" y="166"/>
                          </a:lnTo>
                          <a:lnTo>
                            <a:pt x="663" y="150"/>
                          </a:lnTo>
                          <a:lnTo>
                            <a:pt x="635" y="135"/>
                          </a:lnTo>
                          <a:lnTo>
                            <a:pt x="620" y="118"/>
                          </a:lnTo>
                          <a:lnTo>
                            <a:pt x="592" y="106"/>
                          </a:lnTo>
                          <a:lnTo>
                            <a:pt x="565" y="96"/>
                          </a:lnTo>
                          <a:lnTo>
                            <a:pt x="539" y="90"/>
                          </a:lnTo>
                          <a:lnTo>
                            <a:pt x="511" y="90"/>
                          </a:lnTo>
                          <a:lnTo>
                            <a:pt x="489" y="96"/>
                          </a:lnTo>
                          <a:lnTo>
                            <a:pt x="467" y="104"/>
                          </a:lnTo>
                          <a:lnTo>
                            <a:pt x="452" y="104"/>
                          </a:lnTo>
                          <a:lnTo>
                            <a:pt x="419" y="114"/>
                          </a:lnTo>
                          <a:lnTo>
                            <a:pt x="403" y="122"/>
                          </a:lnTo>
                          <a:lnTo>
                            <a:pt x="436" y="122"/>
                          </a:lnTo>
                          <a:lnTo>
                            <a:pt x="417" y="130"/>
                          </a:lnTo>
                          <a:lnTo>
                            <a:pt x="389" y="138"/>
                          </a:lnTo>
                          <a:lnTo>
                            <a:pt x="364" y="142"/>
                          </a:lnTo>
                          <a:lnTo>
                            <a:pt x="333" y="148"/>
                          </a:lnTo>
                          <a:lnTo>
                            <a:pt x="302" y="156"/>
                          </a:lnTo>
                          <a:lnTo>
                            <a:pt x="260" y="174"/>
                          </a:lnTo>
                          <a:lnTo>
                            <a:pt x="232" y="193"/>
                          </a:lnTo>
                          <a:lnTo>
                            <a:pt x="202" y="204"/>
                          </a:lnTo>
                          <a:lnTo>
                            <a:pt x="191" y="214"/>
                          </a:lnTo>
                          <a:lnTo>
                            <a:pt x="186" y="232"/>
                          </a:lnTo>
                          <a:lnTo>
                            <a:pt x="179" y="254"/>
                          </a:lnTo>
                          <a:lnTo>
                            <a:pt x="179" y="272"/>
                          </a:lnTo>
                          <a:lnTo>
                            <a:pt x="191" y="278"/>
                          </a:lnTo>
                          <a:lnTo>
                            <a:pt x="179" y="299"/>
                          </a:lnTo>
                          <a:lnTo>
                            <a:pt x="162" y="340"/>
                          </a:lnTo>
                          <a:lnTo>
                            <a:pt x="135" y="382"/>
                          </a:lnTo>
                          <a:lnTo>
                            <a:pt x="113" y="401"/>
                          </a:lnTo>
                          <a:lnTo>
                            <a:pt x="81" y="403"/>
                          </a:lnTo>
                          <a:lnTo>
                            <a:pt x="45" y="407"/>
                          </a:lnTo>
                          <a:lnTo>
                            <a:pt x="15" y="411"/>
                          </a:lnTo>
                          <a:lnTo>
                            <a:pt x="34" y="388"/>
                          </a:lnTo>
                          <a:lnTo>
                            <a:pt x="48" y="368"/>
                          </a:lnTo>
                          <a:lnTo>
                            <a:pt x="62" y="353"/>
                          </a:lnTo>
                          <a:lnTo>
                            <a:pt x="73" y="324"/>
                          </a:lnTo>
                          <a:lnTo>
                            <a:pt x="81" y="303"/>
                          </a:lnTo>
                          <a:lnTo>
                            <a:pt x="87" y="278"/>
                          </a:lnTo>
                          <a:lnTo>
                            <a:pt x="93" y="260"/>
                          </a:lnTo>
                          <a:lnTo>
                            <a:pt x="104" y="245"/>
                          </a:lnTo>
                          <a:lnTo>
                            <a:pt x="113" y="224"/>
                          </a:lnTo>
                          <a:lnTo>
                            <a:pt x="115" y="196"/>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42" name=""/>
                <p:cNvSpPr/>
                <p:nvPr/>
              </p:nvSpPr>
              <p:spPr>
                <a:xfrm>
                  <a:off x="6343560" y="4730760"/>
                  <a:ext cx="2282760" cy="946080"/>
                </a:xfrm>
                <a:custGeom>
                  <a:avLst/>
                  <a:gdLst/>
                  <a:ahLst/>
                  <a:rect l="l" t="t" r="r" b="b"/>
                  <a:pathLst>
                    <a:path w="1438" h="596">
                      <a:moveTo>
                        <a:pt x="142" y="561"/>
                      </a:moveTo>
                      <a:lnTo>
                        <a:pt x="111" y="572"/>
                      </a:lnTo>
                      <a:lnTo>
                        <a:pt x="81" y="583"/>
                      </a:lnTo>
                      <a:lnTo>
                        <a:pt x="3" y="595"/>
                      </a:lnTo>
                      <a:lnTo>
                        <a:pt x="0" y="551"/>
                      </a:lnTo>
                      <a:lnTo>
                        <a:pt x="8" y="484"/>
                      </a:lnTo>
                      <a:lnTo>
                        <a:pt x="52" y="436"/>
                      </a:lnTo>
                      <a:lnTo>
                        <a:pt x="78" y="391"/>
                      </a:lnTo>
                      <a:lnTo>
                        <a:pt x="98" y="369"/>
                      </a:lnTo>
                      <a:lnTo>
                        <a:pt x="100" y="315"/>
                      </a:lnTo>
                      <a:lnTo>
                        <a:pt x="114" y="292"/>
                      </a:lnTo>
                      <a:lnTo>
                        <a:pt x="157" y="230"/>
                      </a:lnTo>
                      <a:lnTo>
                        <a:pt x="182" y="200"/>
                      </a:lnTo>
                      <a:lnTo>
                        <a:pt x="190" y="188"/>
                      </a:lnTo>
                      <a:lnTo>
                        <a:pt x="228" y="188"/>
                      </a:lnTo>
                      <a:lnTo>
                        <a:pt x="246" y="154"/>
                      </a:lnTo>
                      <a:lnTo>
                        <a:pt x="252" y="165"/>
                      </a:lnTo>
                      <a:lnTo>
                        <a:pt x="263" y="163"/>
                      </a:lnTo>
                      <a:lnTo>
                        <a:pt x="282" y="117"/>
                      </a:lnTo>
                      <a:lnTo>
                        <a:pt x="310" y="95"/>
                      </a:lnTo>
                      <a:lnTo>
                        <a:pt x="304" y="148"/>
                      </a:lnTo>
                      <a:lnTo>
                        <a:pt x="358" y="125"/>
                      </a:lnTo>
                      <a:lnTo>
                        <a:pt x="421" y="95"/>
                      </a:lnTo>
                      <a:lnTo>
                        <a:pt x="467" y="67"/>
                      </a:lnTo>
                      <a:lnTo>
                        <a:pt x="472" y="85"/>
                      </a:lnTo>
                      <a:lnTo>
                        <a:pt x="502" y="73"/>
                      </a:lnTo>
                      <a:lnTo>
                        <a:pt x="529" y="52"/>
                      </a:lnTo>
                      <a:lnTo>
                        <a:pt x="545" y="56"/>
                      </a:lnTo>
                      <a:lnTo>
                        <a:pt x="564" y="71"/>
                      </a:lnTo>
                      <a:lnTo>
                        <a:pt x="586" y="50"/>
                      </a:lnTo>
                      <a:lnTo>
                        <a:pt x="629" y="25"/>
                      </a:lnTo>
                      <a:lnTo>
                        <a:pt x="610" y="56"/>
                      </a:lnTo>
                      <a:lnTo>
                        <a:pt x="626" y="44"/>
                      </a:lnTo>
                      <a:lnTo>
                        <a:pt x="687" y="4"/>
                      </a:lnTo>
                      <a:lnTo>
                        <a:pt x="654" y="29"/>
                      </a:lnTo>
                      <a:lnTo>
                        <a:pt x="651" y="44"/>
                      </a:lnTo>
                      <a:lnTo>
                        <a:pt x="673" y="38"/>
                      </a:lnTo>
                      <a:lnTo>
                        <a:pt x="690" y="37"/>
                      </a:lnTo>
                      <a:lnTo>
                        <a:pt x="719" y="21"/>
                      </a:lnTo>
                      <a:lnTo>
                        <a:pt x="754" y="2"/>
                      </a:lnTo>
                      <a:lnTo>
                        <a:pt x="716" y="27"/>
                      </a:lnTo>
                      <a:lnTo>
                        <a:pt x="710" y="35"/>
                      </a:lnTo>
                      <a:lnTo>
                        <a:pt x="721" y="35"/>
                      </a:lnTo>
                      <a:lnTo>
                        <a:pt x="765" y="23"/>
                      </a:lnTo>
                      <a:lnTo>
                        <a:pt x="802" y="0"/>
                      </a:lnTo>
                      <a:lnTo>
                        <a:pt x="782" y="27"/>
                      </a:lnTo>
                      <a:lnTo>
                        <a:pt x="808" y="23"/>
                      </a:lnTo>
                      <a:lnTo>
                        <a:pt x="849" y="18"/>
                      </a:lnTo>
                      <a:lnTo>
                        <a:pt x="933" y="18"/>
                      </a:lnTo>
                      <a:lnTo>
                        <a:pt x="964" y="21"/>
                      </a:lnTo>
                      <a:lnTo>
                        <a:pt x="984" y="25"/>
                      </a:lnTo>
                      <a:lnTo>
                        <a:pt x="1006" y="31"/>
                      </a:lnTo>
                      <a:lnTo>
                        <a:pt x="1028" y="37"/>
                      </a:lnTo>
                      <a:lnTo>
                        <a:pt x="1098" y="27"/>
                      </a:lnTo>
                      <a:lnTo>
                        <a:pt x="1142" y="40"/>
                      </a:lnTo>
                      <a:lnTo>
                        <a:pt x="1171" y="56"/>
                      </a:lnTo>
                      <a:lnTo>
                        <a:pt x="1188" y="56"/>
                      </a:lnTo>
                      <a:lnTo>
                        <a:pt x="1218" y="42"/>
                      </a:lnTo>
                      <a:lnTo>
                        <a:pt x="1229" y="63"/>
                      </a:lnTo>
                      <a:lnTo>
                        <a:pt x="1207" y="79"/>
                      </a:lnTo>
                      <a:lnTo>
                        <a:pt x="1235" y="95"/>
                      </a:lnTo>
                      <a:lnTo>
                        <a:pt x="1247" y="93"/>
                      </a:lnTo>
                      <a:lnTo>
                        <a:pt x="1302" y="67"/>
                      </a:lnTo>
                      <a:lnTo>
                        <a:pt x="1327" y="40"/>
                      </a:lnTo>
                      <a:lnTo>
                        <a:pt x="1348" y="4"/>
                      </a:lnTo>
                      <a:lnTo>
                        <a:pt x="1324" y="69"/>
                      </a:lnTo>
                      <a:lnTo>
                        <a:pt x="1258" y="125"/>
                      </a:lnTo>
                      <a:lnTo>
                        <a:pt x="1305" y="177"/>
                      </a:lnTo>
                      <a:lnTo>
                        <a:pt x="1310" y="167"/>
                      </a:lnTo>
                      <a:lnTo>
                        <a:pt x="1361" y="159"/>
                      </a:lnTo>
                      <a:lnTo>
                        <a:pt x="1372" y="167"/>
                      </a:lnTo>
                      <a:lnTo>
                        <a:pt x="1330" y="206"/>
                      </a:lnTo>
                      <a:lnTo>
                        <a:pt x="1359" y="220"/>
                      </a:lnTo>
                      <a:lnTo>
                        <a:pt x="1437" y="196"/>
                      </a:lnTo>
                      <a:lnTo>
                        <a:pt x="1266" y="413"/>
                      </a:lnTo>
                      <a:lnTo>
                        <a:pt x="1235" y="405"/>
                      </a:lnTo>
                      <a:lnTo>
                        <a:pt x="1202" y="384"/>
                      </a:lnTo>
                      <a:lnTo>
                        <a:pt x="1202" y="334"/>
                      </a:lnTo>
                      <a:lnTo>
                        <a:pt x="1221" y="325"/>
                      </a:lnTo>
                      <a:lnTo>
                        <a:pt x="1145" y="323"/>
                      </a:lnTo>
                      <a:lnTo>
                        <a:pt x="1145" y="267"/>
                      </a:lnTo>
                      <a:lnTo>
                        <a:pt x="1065" y="214"/>
                      </a:lnTo>
                      <a:lnTo>
                        <a:pt x="998" y="175"/>
                      </a:lnTo>
                      <a:lnTo>
                        <a:pt x="930" y="150"/>
                      </a:lnTo>
                      <a:lnTo>
                        <a:pt x="811" y="144"/>
                      </a:lnTo>
                      <a:lnTo>
                        <a:pt x="716" y="144"/>
                      </a:lnTo>
                      <a:lnTo>
                        <a:pt x="618" y="154"/>
                      </a:lnTo>
                      <a:lnTo>
                        <a:pt x="529" y="173"/>
                      </a:lnTo>
                      <a:lnTo>
                        <a:pt x="442" y="208"/>
                      </a:lnTo>
                      <a:lnTo>
                        <a:pt x="363" y="254"/>
                      </a:lnTo>
                      <a:lnTo>
                        <a:pt x="323" y="276"/>
                      </a:lnTo>
                      <a:lnTo>
                        <a:pt x="274" y="336"/>
                      </a:lnTo>
                      <a:lnTo>
                        <a:pt x="260" y="367"/>
                      </a:lnTo>
                      <a:lnTo>
                        <a:pt x="240" y="393"/>
                      </a:lnTo>
                      <a:lnTo>
                        <a:pt x="228" y="393"/>
                      </a:lnTo>
                      <a:lnTo>
                        <a:pt x="228" y="405"/>
                      </a:lnTo>
                      <a:lnTo>
                        <a:pt x="215" y="422"/>
                      </a:lnTo>
                      <a:lnTo>
                        <a:pt x="209" y="422"/>
                      </a:lnTo>
                      <a:lnTo>
                        <a:pt x="209" y="438"/>
                      </a:lnTo>
                      <a:lnTo>
                        <a:pt x="206" y="453"/>
                      </a:lnTo>
                      <a:lnTo>
                        <a:pt x="193" y="464"/>
                      </a:lnTo>
                      <a:lnTo>
                        <a:pt x="182" y="478"/>
                      </a:lnTo>
                      <a:lnTo>
                        <a:pt x="154" y="507"/>
                      </a:lnTo>
                      <a:lnTo>
                        <a:pt x="182" y="518"/>
                      </a:lnTo>
                      <a:lnTo>
                        <a:pt x="162" y="522"/>
                      </a:lnTo>
                      <a:lnTo>
                        <a:pt x="150" y="545"/>
                      </a:lnTo>
                      <a:lnTo>
                        <a:pt x="162" y="541"/>
                      </a:lnTo>
                      <a:lnTo>
                        <a:pt x="142" y="56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3" name=""/>
              <p:cNvGrpSpPr/>
              <p:nvPr/>
            </p:nvGrpSpPr>
            <p:grpSpPr>
              <a:xfrm>
                <a:off x="7016760" y="5113080"/>
                <a:ext cx="785880" cy="271440"/>
                <a:chOff x="7016760" y="5113080"/>
                <a:chExt cx="785880" cy="271440"/>
              </a:xfrm>
            </p:grpSpPr>
            <p:sp>
              <p:nvSpPr>
                <p:cNvPr id="1744" name=""/>
                <p:cNvSpPr/>
                <p:nvPr/>
              </p:nvSpPr>
              <p:spPr>
                <a:xfrm>
                  <a:off x="7016760" y="5113080"/>
                  <a:ext cx="785880" cy="266760"/>
                </a:xfrm>
                <a:custGeom>
                  <a:avLst/>
                  <a:gdLst/>
                  <a:ahLst/>
                  <a:rect l="l" t="t" r="r" b="b"/>
                  <a:pathLst>
                    <a:path w="495" h="168">
                      <a:moveTo>
                        <a:pt x="0" y="125"/>
                      </a:moveTo>
                      <a:lnTo>
                        <a:pt x="10" y="105"/>
                      </a:lnTo>
                      <a:lnTo>
                        <a:pt x="39" y="86"/>
                      </a:lnTo>
                      <a:lnTo>
                        <a:pt x="77" y="66"/>
                      </a:lnTo>
                      <a:lnTo>
                        <a:pt x="103" y="54"/>
                      </a:lnTo>
                      <a:lnTo>
                        <a:pt x="133" y="44"/>
                      </a:lnTo>
                      <a:lnTo>
                        <a:pt x="171" y="34"/>
                      </a:lnTo>
                      <a:lnTo>
                        <a:pt x="216" y="26"/>
                      </a:lnTo>
                      <a:lnTo>
                        <a:pt x="257" y="18"/>
                      </a:lnTo>
                      <a:lnTo>
                        <a:pt x="282" y="12"/>
                      </a:lnTo>
                      <a:lnTo>
                        <a:pt x="320" y="4"/>
                      </a:lnTo>
                      <a:lnTo>
                        <a:pt x="347" y="0"/>
                      </a:lnTo>
                      <a:lnTo>
                        <a:pt x="379" y="0"/>
                      </a:lnTo>
                      <a:lnTo>
                        <a:pt x="403" y="12"/>
                      </a:lnTo>
                      <a:lnTo>
                        <a:pt x="428" y="26"/>
                      </a:lnTo>
                      <a:lnTo>
                        <a:pt x="449" y="42"/>
                      </a:lnTo>
                      <a:lnTo>
                        <a:pt x="478" y="56"/>
                      </a:lnTo>
                      <a:lnTo>
                        <a:pt x="494" y="64"/>
                      </a:lnTo>
                      <a:lnTo>
                        <a:pt x="480" y="80"/>
                      </a:lnTo>
                      <a:lnTo>
                        <a:pt x="449" y="68"/>
                      </a:lnTo>
                      <a:lnTo>
                        <a:pt x="411" y="54"/>
                      </a:lnTo>
                      <a:lnTo>
                        <a:pt x="384" y="46"/>
                      </a:lnTo>
                      <a:lnTo>
                        <a:pt x="350" y="37"/>
                      </a:lnTo>
                      <a:lnTo>
                        <a:pt x="326" y="35"/>
                      </a:lnTo>
                      <a:lnTo>
                        <a:pt x="301" y="37"/>
                      </a:lnTo>
                      <a:lnTo>
                        <a:pt x="282" y="42"/>
                      </a:lnTo>
                      <a:lnTo>
                        <a:pt x="257" y="54"/>
                      </a:lnTo>
                      <a:lnTo>
                        <a:pt x="221" y="66"/>
                      </a:lnTo>
                      <a:lnTo>
                        <a:pt x="194" y="78"/>
                      </a:lnTo>
                      <a:lnTo>
                        <a:pt x="166" y="90"/>
                      </a:lnTo>
                      <a:lnTo>
                        <a:pt x="136" y="103"/>
                      </a:lnTo>
                      <a:lnTo>
                        <a:pt x="117" y="115"/>
                      </a:lnTo>
                      <a:lnTo>
                        <a:pt x="92" y="126"/>
                      </a:lnTo>
                      <a:lnTo>
                        <a:pt x="64" y="140"/>
                      </a:lnTo>
                      <a:lnTo>
                        <a:pt x="34" y="155"/>
                      </a:lnTo>
                      <a:lnTo>
                        <a:pt x="7" y="167"/>
                      </a:lnTo>
                      <a:lnTo>
                        <a:pt x="0" y="163"/>
                      </a:lnTo>
                      <a:lnTo>
                        <a:pt x="0" y="146"/>
                      </a:lnTo>
                      <a:lnTo>
                        <a:pt x="0" y="125"/>
                      </a:lnTo>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7016760" y="5180040"/>
                  <a:ext cx="339840" cy="204480"/>
                </a:xfrm>
                <a:custGeom>
                  <a:avLst/>
                  <a:gdLst/>
                  <a:ahLst/>
                  <a:rect l="l" t="t" r="r" b="b"/>
                  <a:pathLst>
                    <a:path w="214" h="129">
                      <a:moveTo>
                        <a:pt x="213" y="0"/>
                      </a:moveTo>
                      <a:lnTo>
                        <a:pt x="194" y="14"/>
                      </a:lnTo>
                      <a:lnTo>
                        <a:pt x="172" y="24"/>
                      </a:lnTo>
                      <a:lnTo>
                        <a:pt x="143" y="33"/>
                      </a:lnTo>
                      <a:lnTo>
                        <a:pt x="108" y="49"/>
                      </a:lnTo>
                      <a:lnTo>
                        <a:pt x="89" y="58"/>
                      </a:lnTo>
                      <a:lnTo>
                        <a:pt x="73" y="68"/>
                      </a:lnTo>
                      <a:lnTo>
                        <a:pt x="65" y="76"/>
                      </a:lnTo>
                      <a:lnTo>
                        <a:pt x="65" y="80"/>
                      </a:lnTo>
                      <a:lnTo>
                        <a:pt x="73" y="82"/>
                      </a:lnTo>
                      <a:lnTo>
                        <a:pt x="81" y="82"/>
                      </a:lnTo>
                      <a:lnTo>
                        <a:pt x="90" y="80"/>
                      </a:lnTo>
                      <a:lnTo>
                        <a:pt x="101" y="78"/>
                      </a:lnTo>
                      <a:lnTo>
                        <a:pt x="114" y="74"/>
                      </a:lnTo>
                      <a:lnTo>
                        <a:pt x="108" y="78"/>
                      </a:lnTo>
                      <a:lnTo>
                        <a:pt x="95" y="88"/>
                      </a:lnTo>
                      <a:lnTo>
                        <a:pt x="86" y="96"/>
                      </a:lnTo>
                      <a:lnTo>
                        <a:pt x="70" y="103"/>
                      </a:lnTo>
                      <a:lnTo>
                        <a:pt x="57" y="110"/>
                      </a:lnTo>
                      <a:lnTo>
                        <a:pt x="38" y="118"/>
                      </a:lnTo>
                      <a:lnTo>
                        <a:pt x="22" y="124"/>
                      </a:lnTo>
                      <a:lnTo>
                        <a:pt x="9" y="128"/>
                      </a:lnTo>
                      <a:lnTo>
                        <a:pt x="0" y="128"/>
                      </a:lnTo>
                      <a:lnTo>
                        <a:pt x="0" y="116"/>
                      </a:lnTo>
                      <a:lnTo>
                        <a:pt x="3" y="105"/>
                      </a:lnTo>
                      <a:lnTo>
                        <a:pt x="7" y="88"/>
                      </a:lnTo>
                      <a:lnTo>
                        <a:pt x="15" y="76"/>
                      </a:lnTo>
                      <a:lnTo>
                        <a:pt x="20" y="68"/>
                      </a:lnTo>
                      <a:lnTo>
                        <a:pt x="33" y="58"/>
                      </a:lnTo>
                      <a:lnTo>
                        <a:pt x="49" y="50"/>
                      </a:lnTo>
                      <a:lnTo>
                        <a:pt x="70" y="41"/>
                      </a:lnTo>
                      <a:lnTo>
                        <a:pt x="89" y="33"/>
                      </a:lnTo>
                      <a:lnTo>
                        <a:pt x="106" y="26"/>
                      </a:lnTo>
                      <a:lnTo>
                        <a:pt x="124" y="18"/>
                      </a:lnTo>
                      <a:lnTo>
                        <a:pt x="140" y="12"/>
                      </a:lnTo>
                      <a:lnTo>
                        <a:pt x="153" y="6"/>
                      </a:lnTo>
                      <a:lnTo>
                        <a:pt x="161" y="4"/>
                      </a:lnTo>
                      <a:lnTo>
                        <a:pt x="172" y="2"/>
                      </a:lnTo>
                      <a:lnTo>
                        <a:pt x="184" y="0"/>
                      </a:lnTo>
                      <a:lnTo>
                        <a:pt x="197" y="0"/>
                      </a:lnTo>
                      <a:lnTo>
                        <a:pt x="213" y="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6" name=""/>
              <p:cNvGrpSpPr/>
              <p:nvPr/>
            </p:nvGrpSpPr>
            <p:grpSpPr>
              <a:xfrm>
                <a:off x="6435720" y="5002200"/>
                <a:ext cx="1617840" cy="803160"/>
                <a:chOff x="6435720" y="5002200"/>
                <a:chExt cx="1617840" cy="803160"/>
              </a:xfrm>
            </p:grpSpPr>
            <p:sp>
              <p:nvSpPr>
                <p:cNvPr id="1747" name=""/>
                <p:cNvSpPr/>
                <p:nvPr/>
              </p:nvSpPr>
              <p:spPr>
                <a:xfrm>
                  <a:off x="6435720" y="5002200"/>
                  <a:ext cx="1438200" cy="803160"/>
                </a:xfrm>
                <a:custGeom>
                  <a:avLst/>
                  <a:gdLst/>
                  <a:ahLst/>
                  <a:rect l="l" t="t" r="r" b="b"/>
                  <a:pathLst>
                    <a:path w="906" h="506">
                      <a:moveTo>
                        <a:pt x="0" y="501"/>
                      </a:moveTo>
                      <a:lnTo>
                        <a:pt x="12" y="505"/>
                      </a:lnTo>
                      <a:lnTo>
                        <a:pt x="37" y="505"/>
                      </a:lnTo>
                      <a:lnTo>
                        <a:pt x="62" y="501"/>
                      </a:lnTo>
                      <a:lnTo>
                        <a:pt x="89" y="485"/>
                      </a:lnTo>
                      <a:lnTo>
                        <a:pt x="112" y="472"/>
                      </a:lnTo>
                      <a:lnTo>
                        <a:pt x="131" y="455"/>
                      </a:lnTo>
                      <a:lnTo>
                        <a:pt x="151" y="437"/>
                      </a:lnTo>
                      <a:lnTo>
                        <a:pt x="170" y="418"/>
                      </a:lnTo>
                      <a:lnTo>
                        <a:pt x="193" y="397"/>
                      </a:lnTo>
                      <a:lnTo>
                        <a:pt x="209" y="379"/>
                      </a:lnTo>
                      <a:lnTo>
                        <a:pt x="220" y="354"/>
                      </a:lnTo>
                      <a:lnTo>
                        <a:pt x="240" y="327"/>
                      </a:lnTo>
                      <a:lnTo>
                        <a:pt x="253" y="306"/>
                      </a:lnTo>
                      <a:lnTo>
                        <a:pt x="262" y="286"/>
                      </a:lnTo>
                      <a:lnTo>
                        <a:pt x="270" y="273"/>
                      </a:lnTo>
                      <a:lnTo>
                        <a:pt x="290" y="259"/>
                      </a:lnTo>
                      <a:lnTo>
                        <a:pt x="307" y="240"/>
                      </a:lnTo>
                      <a:lnTo>
                        <a:pt x="320" y="226"/>
                      </a:lnTo>
                      <a:lnTo>
                        <a:pt x="334" y="211"/>
                      </a:lnTo>
                      <a:lnTo>
                        <a:pt x="345" y="194"/>
                      </a:lnTo>
                      <a:lnTo>
                        <a:pt x="356" y="176"/>
                      </a:lnTo>
                      <a:lnTo>
                        <a:pt x="368" y="159"/>
                      </a:lnTo>
                      <a:lnTo>
                        <a:pt x="385" y="145"/>
                      </a:lnTo>
                      <a:lnTo>
                        <a:pt x="412" y="126"/>
                      </a:lnTo>
                      <a:lnTo>
                        <a:pt x="445" y="108"/>
                      </a:lnTo>
                      <a:lnTo>
                        <a:pt x="474" y="91"/>
                      </a:lnTo>
                      <a:lnTo>
                        <a:pt x="507" y="76"/>
                      </a:lnTo>
                      <a:lnTo>
                        <a:pt x="534" y="64"/>
                      </a:lnTo>
                      <a:lnTo>
                        <a:pt x="576" y="54"/>
                      </a:lnTo>
                      <a:lnTo>
                        <a:pt x="620" y="45"/>
                      </a:lnTo>
                      <a:lnTo>
                        <a:pt x="649" y="39"/>
                      </a:lnTo>
                      <a:lnTo>
                        <a:pt x="676" y="37"/>
                      </a:lnTo>
                      <a:lnTo>
                        <a:pt x="709" y="37"/>
                      </a:lnTo>
                      <a:lnTo>
                        <a:pt x="738" y="39"/>
                      </a:lnTo>
                      <a:lnTo>
                        <a:pt x="768" y="47"/>
                      </a:lnTo>
                      <a:lnTo>
                        <a:pt x="798" y="54"/>
                      </a:lnTo>
                      <a:lnTo>
                        <a:pt x="827" y="64"/>
                      </a:lnTo>
                      <a:lnTo>
                        <a:pt x="849" y="72"/>
                      </a:lnTo>
                      <a:lnTo>
                        <a:pt x="874" y="78"/>
                      </a:lnTo>
                      <a:lnTo>
                        <a:pt x="890" y="87"/>
                      </a:lnTo>
                      <a:lnTo>
                        <a:pt x="905" y="99"/>
                      </a:lnTo>
                      <a:lnTo>
                        <a:pt x="905" y="89"/>
                      </a:lnTo>
                      <a:lnTo>
                        <a:pt x="905" y="82"/>
                      </a:lnTo>
                      <a:lnTo>
                        <a:pt x="905" y="76"/>
                      </a:lnTo>
                      <a:lnTo>
                        <a:pt x="879" y="64"/>
                      </a:lnTo>
                      <a:lnTo>
                        <a:pt x="830" y="48"/>
                      </a:lnTo>
                      <a:lnTo>
                        <a:pt x="798" y="39"/>
                      </a:lnTo>
                      <a:lnTo>
                        <a:pt x="774" y="29"/>
                      </a:lnTo>
                      <a:lnTo>
                        <a:pt x="760" y="22"/>
                      </a:lnTo>
                      <a:lnTo>
                        <a:pt x="752" y="18"/>
                      </a:lnTo>
                      <a:lnTo>
                        <a:pt x="771" y="18"/>
                      </a:lnTo>
                      <a:lnTo>
                        <a:pt x="793" y="20"/>
                      </a:lnTo>
                      <a:lnTo>
                        <a:pt x="821" y="22"/>
                      </a:lnTo>
                      <a:lnTo>
                        <a:pt x="838" y="22"/>
                      </a:lnTo>
                      <a:lnTo>
                        <a:pt x="863" y="20"/>
                      </a:lnTo>
                      <a:lnTo>
                        <a:pt x="871" y="20"/>
                      </a:lnTo>
                      <a:lnTo>
                        <a:pt x="882" y="29"/>
                      </a:lnTo>
                      <a:lnTo>
                        <a:pt x="884" y="31"/>
                      </a:lnTo>
                      <a:lnTo>
                        <a:pt x="887" y="39"/>
                      </a:lnTo>
                      <a:lnTo>
                        <a:pt x="890" y="29"/>
                      </a:lnTo>
                      <a:lnTo>
                        <a:pt x="876" y="18"/>
                      </a:lnTo>
                      <a:lnTo>
                        <a:pt x="860" y="12"/>
                      </a:lnTo>
                      <a:lnTo>
                        <a:pt x="843" y="8"/>
                      </a:lnTo>
                      <a:lnTo>
                        <a:pt x="821" y="4"/>
                      </a:lnTo>
                      <a:lnTo>
                        <a:pt x="798" y="2"/>
                      </a:lnTo>
                      <a:lnTo>
                        <a:pt x="779" y="0"/>
                      </a:lnTo>
                      <a:lnTo>
                        <a:pt x="757" y="0"/>
                      </a:lnTo>
                      <a:lnTo>
                        <a:pt x="735" y="4"/>
                      </a:lnTo>
                      <a:lnTo>
                        <a:pt x="715" y="12"/>
                      </a:lnTo>
                      <a:lnTo>
                        <a:pt x="696" y="18"/>
                      </a:lnTo>
                      <a:lnTo>
                        <a:pt x="671" y="24"/>
                      </a:lnTo>
                      <a:lnTo>
                        <a:pt x="649" y="29"/>
                      </a:lnTo>
                      <a:lnTo>
                        <a:pt x="623" y="33"/>
                      </a:lnTo>
                      <a:lnTo>
                        <a:pt x="596" y="39"/>
                      </a:lnTo>
                      <a:lnTo>
                        <a:pt x="557" y="47"/>
                      </a:lnTo>
                      <a:lnTo>
                        <a:pt x="537" y="52"/>
                      </a:lnTo>
                      <a:lnTo>
                        <a:pt x="520" y="56"/>
                      </a:lnTo>
                      <a:lnTo>
                        <a:pt x="493" y="64"/>
                      </a:lnTo>
                      <a:lnTo>
                        <a:pt x="468" y="70"/>
                      </a:lnTo>
                      <a:lnTo>
                        <a:pt x="450" y="85"/>
                      </a:lnTo>
                      <a:lnTo>
                        <a:pt x="434" y="97"/>
                      </a:lnTo>
                      <a:lnTo>
                        <a:pt x="407" y="110"/>
                      </a:lnTo>
                      <a:lnTo>
                        <a:pt x="382" y="128"/>
                      </a:lnTo>
                      <a:lnTo>
                        <a:pt x="356" y="147"/>
                      </a:lnTo>
                      <a:lnTo>
                        <a:pt x="342" y="163"/>
                      </a:lnTo>
                      <a:lnTo>
                        <a:pt x="320" y="182"/>
                      </a:lnTo>
                      <a:lnTo>
                        <a:pt x="304" y="199"/>
                      </a:lnTo>
                      <a:lnTo>
                        <a:pt x="285" y="219"/>
                      </a:lnTo>
                      <a:lnTo>
                        <a:pt x="267" y="242"/>
                      </a:lnTo>
                      <a:lnTo>
                        <a:pt x="253" y="261"/>
                      </a:lnTo>
                      <a:lnTo>
                        <a:pt x="240" y="275"/>
                      </a:lnTo>
                      <a:lnTo>
                        <a:pt x="226" y="294"/>
                      </a:lnTo>
                      <a:lnTo>
                        <a:pt x="218" y="308"/>
                      </a:lnTo>
                      <a:lnTo>
                        <a:pt x="204" y="331"/>
                      </a:lnTo>
                      <a:lnTo>
                        <a:pt x="188" y="350"/>
                      </a:lnTo>
                      <a:lnTo>
                        <a:pt x="178" y="371"/>
                      </a:lnTo>
                      <a:lnTo>
                        <a:pt x="170" y="383"/>
                      </a:lnTo>
                      <a:lnTo>
                        <a:pt x="162" y="397"/>
                      </a:lnTo>
                      <a:lnTo>
                        <a:pt x="151" y="410"/>
                      </a:lnTo>
                      <a:lnTo>
                        <a:pt x="134" y="418"/>
                      </a:lnTo>
                      <a:lnTo>
                        <a:pt x="115" y="427"/>
                      </a:lnTo>
                      <a:lnTo>
                        <a:pt x="96" y="445"/>
                      </a:lnTo>
                      <a:lnTo>
                        <a:pt x="84" y="458"/>
                      </a:lnTo>
                      <a:lnTo>
                        <a:pt x="67" y="464"/>
                      </a:lnTo>
                      <a:lnTo>
                        <a:pt x="45" y="474"/>
                      </a:lnTo>
                      <a:lnTo>
                        <a:pt x="0" y="501"/>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7358040" y="5091120"/>
                  <a:ext cx="695520" cy="210960"/>
                </a:xfrm>
                <a:custGeom>
                  <a:avLst/>
                  <a:gdLst/>
                  <a:ahLst/>
                  <a:rect l="l" t="t" r="r" b="b"/>
                  <a:pathLst>
                    <a:path w="438" h="133">
                      <a:moveTo>
                        <a:pt x="280" y="79"/>
                      </a:moveTo>
                      <a:lnTo>
                        <a:pt x="357" y="107"/>
                      </a:lnTo>
                      <a:lnTo>
                        <a:pt x="382" y="122"/>
                      </a:lnTo>
                      <a:lnTo>
                        <a:pt x="414" y="132"/>
                      </a:lnTo>
                      <a:lnTo>
                        <a:pt x="437" y="132"/>
                      </a:lnTo>
                      <a:lnTo>
                        <a:pt x="398" y="118"/>
                      </a:lnTo>
                      <a:lnTo>
                        <a:pt x="315" y="83"/>
                      </a:lnTo>
                      <a:lnTo>
                        <a:pt x="288" y="69"/>
                      </a:lnTo>
                      <a:lnTo>
                        <a:pt x="261" y="57"/>
                      </a:lnTo>
                      <a:lnTo>
                        <a:pt x="242" y="45"/>
                      </a:lnTo>
                      <a:lnTo>
                        <a:pt x="227" y="33"/>
                      </a:lnTo>
                      <a:lnTo>
                        <a:pt x="206" y="19"/>
                      </a:lnTo>
                      <a:lnTo>
                        <a:pt x="195" y="16"/>
                      </a:lnTo>
                      <a:lnTo>
                        <a:pt x="168" y="4"/>
                      </a:lnTo>
                      <a:lnTo>
                        <a:pt x="142" y="0"/>
                      </a:lnTo>
                      <a:lnTo>
                        <a:pt x="112" y="0"/>
                      </a:lnTo>
                      <a:lnTo>
                        <a:pt x="77" y="10"/>
                      </a:lnTo>
                      <a:lnTo>
                        <a:pt x="61" y="12"/>
                      </a:lnTo>
                      <a:lnTo>
                        <a:pt x="32" y="21"/>
                      </a:lnTo>
                      <a:lnTo>
                        <a:pt x="0" y="39"/>
                      </a:lnTo>
                      <a:lnTo>
                        <a:pt x="22" y="39"/>
                      </a:lnTo>
                      <a:lnTo>
                        <a:pt x="60" y="33"/>
                      </a:lnTo>
                      <a:lnTo>
                        <a:pt x="96" y="25"/>
                      </a:lnTo>
                      <a:lnTo>
                        <a:pt x="118" y="19"/>
                      </a:lnTo>
                      <a:lnTo>
                        <a:pt x="139" y="16"/>
                      </a:lnTo>
                      <a:lnTo>
                        <a:pt x="170" y="19"/>
                      </a:lnTo>
                      <a:lnTo>
                        <a:pt x="211" y="41"/>
                      </a:lnTo>
                      <a:lnTo>
                        <a:pt x="256" y="69"/>
                      </a:lnTo>
                      <a:lnTo>
                        <a:pt x="280" y="79"/>
                      </a:lnTo>
                    </a:path>
                  </a:pathLst>
                </a:custGeom>
                <a:solidFill>
                  <a:srgbClr val="231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49" name=""/>
            <p:cNvGrpSpPr/>
            <p:nvPr/>
          </p:nvGrpSpPr>
          <p:grpSpPr>
            <a:xfrm>
              <a:off x="6415200" y="5170320"/>
              <a:ext cx="1643040" cy="884160"/>
              <a:chOff x="6415200" y="5170320"/>
              <a:chExt cx="1643040" cy="884160"/>
            </a:xfrm>
          </p:grpSpPr>
          <p:grpSp>
            <p:nvGrpSpPr>
              <p:cNvPr id="1750" name=""/>
              <p:cNvGrpSpPr/>
              <p:nvPr/>
            </p:nvGrpSpPr>
            <p:grpSpPr>
              <a:xfrm>
                <a:off x="6415200" y="5170320"/>
                <a:ext cx="1643040" cy="884160"/>
                <a:chOff x="6415200" y="5170320"/>
                <a:chExt cx="1643040" cy="884160"/>
              </a:xfrm>
            </p:grpSpPr>
            <p:sp>
              <p:nvSpPr>
                <p:cNvPr id="1751" name=""/>
                <p:cNvSpPr/>
                <p:nvPr/>
              </p:nvSpPr>
              <p:spPr>
                <a:xfrm>
                  <a:off x="6415200" y="5170320"/>
                  <a:ext cx="1643040" cy="884160"/>
                </a:xfrm>
                <a:custGeom>
                  <a:avLst/>
                  <a:gdLst/>
                  <a:ahLst/>
                  <a:rect l="l" t="t" r="r" b="b"/>
                  <a:pathLst>
                    <a:path w="1035" h="557">
                      <a:moveTo>
                        <a:pt x="16" y="498"/>
                      </a:moveTo>
                      <a:lnTo>
                        <a:pt x="5" y="516"/>
                      </a:lnTo>
                      <a:lnTo>
                        <a:pt x="3" y="526"/>
                      </a:lnTo>
                      <a:lnTo>
                        <a:pt x="0" y="538"/>
                      </a:lnTo>
                      <a:lnTo>
                        <a:pt x="8" y="548"/>
                      </a:lnTo>
                      <a:lnTo>
                        <a:pt x="16" y="552"/>
                      </a:lnTo>
                      <a:lnTo>
                        <a:pt x="29" y="556"/>
                      </a:lnTo>
                      <a:lnTo>
                        <a:pt x="45" y="556"/>
                      </a:lnTo>
                      <a:lnTo>
                        <a:pt x="62" y="548"/>
                      </a:lnTo>
                      <a:lnTo>
                        <a:pt x="75" y="538"/>
                      </a:lnTo>
                      <a:lnTo>
                        <a:pt x="106" y="518"/>
                      </a:lnTo>
                      <a:lnTo>
                        <a:pt x="137" y="492"/>
                      </a:lnTo>
                      <a:lnTo>
                        <a:pt x="176" y="458"/>
                      </a:lnTo>
                      <a:lnTo>
                        <a:pt x="202" y="427"/>
                      </a:lnTo>
                      <a:lnTo>
                        <a:pt x="232" y="402"/>
                      </a:lnTo>
                      <a:lnTo>
                        <a:pt x="254" y="381"/>
                      </a:lnTo>
                      <a:lnTo>
                        <a:pt x="270" y="369"/>
                      </a:lnTo>
                      <a:lnTo>
                        <a:pt x="278" y="361"/>
                      </a:lnTo>
                      <a:lnTo>
                        <a:pt x="288" y="357"/>
                      </a:lnTo>
                      <a:lnTo>
                        <a:pt x="310" y="359"/>
                      </a:lnTo>
                      <a:lnTo>
                        <a:pt x="318" y="361"/>
                      </a:lnTo>
                      <a:lnTo>
                        <a:pt x="335" y="365"/>
                      </a:lnTo>
                      <a:lnTo>
                        <a:pt x="340" y="361"/>
                      </a:lnTo>
                      <a:lnTo>
                        <a:pt x="340" y="348"/>
                      </a:lnTo>
                      <a:lnTo>
                        <a:pt x="340" y="339"/>
                      </a:lnTo>
                      <a:lnTo>
                        <a:pt x="346" y="333"/>
                      </a:lnTo>
                      <a:lnTo>
                        <a:pt x="354" y="325"/>
                      </a:lnTo>
                      <a:lnTo>
                        <a:pt x="365" y="319"/>
                      </a:lnTo>
                      <a:lnTo>
                        <a:pt x="376" y="315"/>
                      </a:lnTo>
                      <a:lnTo>
                        <a:pt x="383" y="309"/>
                      </a:lnTo>
                      <a:lnTo>
                        <a:pt x="385" y="307"/>
                      </a:lnTo>
                      <a:lnTo>
                        <a:pt x="388" y="298"/>
                      </a:lnTo>
                      <a:lnTo>
                        <a:pt x="391" y="296"/>
                      </a:lnTo>
                      <a:lnTo>
                        <a:pt x="399" y="296"/>
                      </a:lnTo>
                      <a:lnTo>
                        <a:pt x="405" y="303"/>
                      </a:lnTo>
                      <a:lnTo>
                        <a:pt x="418" y="307"/>
                      </a:lnTo>
                      <a:lnTo>
                        <a:pt x="432" y="311"/>
                      </a:lnTo>
                      <a:lnTo>
                        <a:pt x="454" y="315"/>
                      </a:lnTo>
                      <a:lnTo>
                        <a:pt x="465" y="315"/>
                      </a:lnTo>
                      <a:lnTo>
                        <a:pt x="491" y="315"/>
                      </a:lnTo>
                      <a:lnTo>
                        <a:pt x="518" y="315"/>
                      </a:lnTo>
                      <a:lnTo>
                        <a:pt x="543" y="315"/>
                      </a:lnTo>
                      <a:lnTo>
                        <a:pt x="564" y="313"/>
                      </a:lnTo>
                      <a:lnTo>
                        <a:pt x="591" y="309"/>
                      </a:lnTo>
                      <a:lnTo>
                        <a:pt x="618" y="307"/>
                      </a:lnTo>
                      <a:lnTo>
                        <a:pt x="649" y="298"/>
                      </a:lnTo>
                      <a:lnTo>
                        <a:pt x="675" y="296"/>
                      </a:lnTo>
                      <a:lnTo>
                        <a:pt x="697" y="293"/>
                      </a:lnTo>
                      <a:lnTo>
                        <a:pt x="721" y="289"/>
                      </a:lnTo>
                      <a:lnTo>
                        <a:pt x="745" y="287"/>
                      </a:lnTo>
                      <a:lnTo>
                        <a:pt x="764" y="281"/>
                      </a:lnTo>
                      <a:lnTo>
                        <a:pt x="780" y="277"/>
                      </a:lnTo>
                      <a:lnTo>
                        <a:pt x="805" y="269"/>
                      </a:lnTo>
                      <a:lnTo>
                        <a:pt x="821" y="263"/>
                      </a:lnTo>
                      <a:lnTo>
                        <a:pt x="834" y="257"/>
                      </a:lnTo>
                      <a:lnTo>
                        <a:pt x="864" y="242"/>
                      </a:lnTo>
                      <a:lnTo>
                        <a:pt x="883" y="233"/>
                      </a:lnTo>
                      <a:lnTo>
                        <a:pt x="905" y="219"/>
                      </a:lnTo>
                      <a:lnTo>
                        <a:pt x="928" y="206"/>
                      </a:lnTo>
                      <a:lnTo>
                        <a:pt x="948" y="194"/>
                      </a:lnTo>
                      <a:lnTo>
                        <a:pt x="967" y="180"/>
                      </a:lnTo>
                      <a:lnTo>
                        <a:pt x="989" y="163"/>
                      </a:lnTo>
                      <a:lnTo>
                        <a:pt x="991" y="150"/>
                      </a:lnTo>
                      <a:lnTo>
                        <a:pt x="1002" y="144"/>
                      </a:lnTo>
                      <a:lnTo>
                        <a:pt x="1023" y="144"/>
                      </a:lnTo>
                      <a:lnTo>
                        <a:pt x="1034" y="144"/>
                      </a:lnTo>
                      <a:lnTo>
                        <a:pt x="1026" y="128"/>
                      </a:lnTo>
                      <a:lnTo>
                        <a:pt x="1011" y="118"/>
                      </a:lnTo>
                      <a:lnTo>
                        <a:pt x="983" y="102"/>
                      </a:lnTo>
                      <a:lnTo>
                        <a:pt x="961" y="90"/>
                      </a:lnTo>
                      <a:lnTo>
                        <a:pt x="937" y="76"/>
                      </a:lnTo>
                      <a:lnTo>
                        <a:pt x="913" y="61"/>
                      </a:lnTo>
                      <a:lnTo>
                        <a:pt x="886" y="52"/>
                      </a:lnTo>
                      <a:lnTo>
                        <a:pt x="853" y="42"/>
                      </a:lnTo>
                      <a:lnTo>
                        <a:pt x="824" y="30"/>
                      </a:lnTo>
                      <a:lnTo>
                        <a:pt x="802" y="21"/>
                      </a:lnTo>
                      <a:lnTo>
                        <a:pt x="780" y="13"/>
                      </a:lnTo>
                      <a:lnTo>
                        <a:pt x="758" y="7"/>
                      </a:lnTo>
                      <a:lnTo>
                        <a:pt x="741" y="3"/>
                      </a:lnTo>
                      <a:lnTo>
                        <a:pt x="708" y="0"/>
                      </a:lnTo>
                      <a:lnTo>
                        <a:pt x="691" y="1"/>
                      </a:lnTo>
                      <a:lnTo>
                        <a:pt x="664" y="5"/>
                      </a:lnTo>
                      <a:lnTo>
                        <a:pt x="649" y="13"/>
                      </a:lnTo>
                      <a:lnTo>
                        <a:pt x="629" y="21"/>
                      </a:lnTo>
                      <a:lnTo>
                        <a:pt x="608" y="32"/>
                      </a:lnTo>
                      <a:lnTo>
                        <a:pt x="591" y="38"/>
                      </a:lnTo>
                      <a:lnTo>
                        <a:pt x="566" y="46"/>
                      </a:lnTo>
                      <a:lnTo>
                        <a:pt x="549" y="52"/>
                      </a:lnTo>
                      <a:lnTo>
                        <a:pt x="529" y="61"/>
                      </a:lnTo>
                      <a:lnTo>
                        <a:pt x="513" y="72"/>
                      </a:lnTo>
                      <a:lnTo>
                        <a:pt x="491" y="84"/>
                      </a:lnTo>
                      <a:lnTo>
                        <a:pt x="474" y="94"/>
                      </a:lnTo>
                      <a:lnTo>
                        <a:pt x="457" y="106"/>
                      </a:lnTo>
                      <a:lnTo>
                        <a:pt x="443" y="112"/>
                      </a:lnTo>
                      <a:lnTo>
                        <a:pt x="426" y="120"/>
                      </a:lnTo>
                      <a:lnTo>
                        <a:pt x="413" y="128"/>
                      </a:lnTo>
                      <a:lnTo>
                        <a:pt x="402" y="132"/>
                      </a:lnTo>
                      <a:lnTo>
                        <a:pt x="388" y="136"/>
                      </a:lnTo>
                      <a:lnTo>
                        <a:pt x="378" y="152"/>
                      </a:lnTo>
                      <a:lnTo>
                        <a:pt x="370" y="169"/>
                      </a:lnTo>
                      <a:lnTo>
                        <a:pt x="359" y="192"/>
                      </a:lnTo>
                      <a:lnTo>
                        <a:pt x="348" y="213"/>
                      </a:lnTo>
                      <a:lnTo>
                        <a:pt x="340" y="229"/>
                      </a:lnTo>
                      <a:lnTo>
                        <a:pt x="318" y="252"/>
                      </a:lnTo>
                      <a:lnTo>
                        <a:pt x="302" y="271"/>
                      </a:lnTo>
                      <a:lnTo>
                        <a:pt x="287" y="287"/>
                      </a:lnTo>
                      <a:lnTo>
                        <a:pt x="265" y="305"/>
                      </a:lnTo>
                      <a:lnTo>
                        <a:pt x="245" y="323"/>
                      </a:lnTo>
                      <a:lnTo>
                        <a:pt x="226" y="341"/>
                      </a:lnTo>
                      <a:lnTo>
                        <a:pt x="207" y="361"/>
                      </a:lnTo>
                      <a:lnTo>
                        <a:pt x="197" y="379"/>
                      </a:lnTo>
                      <a:lnTo>
                        <a:pt x="189" y="389"/>
                      </a:lnTo>
                      <a:lnTo>
                        <a:pt x="178" y="404"/>
                      </a:lnTo>
                      <a:lnTo>
                        <a:pt x="165" y="415"/>
                      </a:lnTo>
                      <a:lnTo>
                        <a:pt x="145" y="429"/>
                      </a:lnTo>
                      <a:lnTo>
                        <a:pt x="115" y="450"/>
                      </a:lnTo>
                      <a:lnTo>
                        <a:pt x="75" y="469"/>
                      </a:lnTo>
                      <a:lnTo>
                        <a:pt x="16" y="498"/>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2" name=""/>
                <p:cNvGrpSpPr/>
                <p:nvPr/>
              </p:nvGrpSpPr>
              <p:grpSpPr>
                <a:xfrm>
                  <a:off x="7032600" y="5211720"/>
                  <a:ext cx="1008000" cy="425520"/>
                  <a:chOff x="7032600" y="5211720"/>
                  <a:chExt cx="1008000" cy="425520"/>
                </a:xfrm>
              </p:grpSpPr>
              <p:grpSp>
                <p:nvGrpSpPr>
                  <p:cNvPr id="1753" name=""/>
                  <p:cNvGrpSpPr/>
                  <p:nvPr/>
                </p:nvGrpSpPr>
                <p:grpSpPr>
                  <a:xfrm>
                    <a:off x="7032600" y="5222880"/>
                    <a:ext cx="1008000" cy="409320"/>
                    <a:chOff x="7032600" y="5222880"/>
                    <a:chExt cx="1008000" cy="409320"/>
                  </a:xfrm>
                </p:grpSpPr>
                <p:sp>
                  <p:nvSpPr>
                    <p:cNvPr id="1754" name=""/>
                    <p:cNvSpPr/>
                    <p:nvPr/>
                  </p:nvSpPr>
                  <p:spPr>
                    <a:xfrm>
                      <a:off x="7032600" y="5222880"/>
                      <a:ext cx="952560" cy="409320"/>
                    </a:xfrm>
                    <a:custGeom>
                      <a:avLst/>
                      <a:gdLst/>
                      <a:ahLst/>
                      <a:rect l="l" t="t" r="r" b="b"/>
                      <a:pathLst>
                        <a:path w="600" h="258">
                          <a:moveTo>
                            <a:pt x="0" y="221"/>
                          </a:moveTo>
                          <a:lnTo>
                            <a:pt x="14" y="183"/>
                          </a:lnTo>
                          <a:lnTo>
                            <a:pt x="35" y="143"/>
                          </a:lnTo>
                          <a:lnTo>
                            <a:pt x="71" y="111"/>
                          </a:lnTo>
                          <a:lnTo>
                            <a:pt x="102" y="85"/>
                          </a:lnTo>
                          <a:lnTo>
                            <a:pt x="146" y="56"/>
                          </a:lnTo>
                          <a:lnTo>
                            <a:pt x="204" y="27"/>
                          </a:lnTo>
                          <a:lnTo>
                            <a:pt x="259" y="8"/>
                          </a:lnTo>
                          <a:lnTo>
                            <a:pt x="290" y="4"/>
                          </a:lnTo>
                          <a:lnTo>
                            <a:pt x="325" y="0"/>
                          </a:lnTo>
                          <a:lnTo>
                            <a:pt x="368" y="6"/>
                          </a:lnTo>
                          <a:lnTo>
                            <a:pt x="406" y="14"/>
                          </a:lnTo>
                          <a:lnTo>
                            <a:pt x="448" y="29"/>
                          </a:lnTo>
                          <a:lnTo>
                            <a:pt x="486" y="46"/>
                          </a:lnTo>
                          <a:lnTo>
                            <a:pt x="527" y="68"/>
                          </a:lnTo>
                          <a:lnTo>
                            <a:pt x="561" y="85"/>
                          </a:lnTo>
                          <a:lnTo>
                            <a:pt x="588" y="97"/>
                          </a:lnTo>
                          <a:lnTo>
                            <a:pt x="599" y="109"/>
                          </a:lnTo>
                          <a:lnTo>
                            <a:pt x="580" y="127"/>
                          </a:lnTo>
                          <a:lnTo>
                            <a:pt x="561" y="141"/>
                          </a:lnTo>
                          <a:lnTo>
                            <a:pt x="534" y="155"/>
                          </a:lnTo>
                          <a:lnTo>
                            <a:pt x="513" y="171"/>
                          </a:lnTo>
                          <a:lnTo>
                            <a:pt x="483" y="185"/>
                          </a:lnTo>
                          <a:lnTo>
                            <a:pt x="462" y="195"/>
                          </a:lnTo>
                          <a:lnTo>
                            <a:pt x="441" y="202"/>
                          </a:lnTo>
                          <a:lnTo>
                            <a:pt x="414" y="212"/>
                          </a:lnTo>
                          <a:lnTo>
                            <a:pt x="384" y="225"/>
                          </a:lnTo>
                          <a:lnTo>
                            <a:pt x="362" y="229"/>
                          </a:lnTo>
                          <a:lnTo>
                            <a:pt x="336" y="235"/>
                          </a:lnTo>
                          <a:lnTo>
                            <a:pt x="304" y="241"/>
                          </a:lnTo>
                          <a:lnTo>
                            <a:pt x="263" y="247"/>
                          </a:lnTo>
                          <a:lnTo>
                            <a:pt x="240" y="249"/>
                          </a:lnTo>
                          <a:lnTo>
                            <a:pt x="212" y="255"/>
                          </a:lnTo>
                          <a:lnTo>
                            <a:pt x="177" y="255"/>
                          </a:lnTo>
                          <a:lnTo>
                            <a:pt x="143" y="257"/>
                          </a:lnTo>
                          <a:lnTo>
                            <a:pt x="99" y="255"/>
                          </a:lnTo>
                          <a:lnTo>
                            <a:pt x="63" y="251"/>
                          </a:lnTo>
                          <a:lnTo>
                            <a:pt x="27" y="247"/>
                          </a:lnTo>
                          <a:lnTo>
                            <a:pt x="5" y="241"/>
                          </a:lnTo>
                          <a:lnTo>
                            <a:pt x="0" y="22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7907400" y="5370480"/>
                      <a:ext cx="101520" cy="77760"/>
                    </a:xfrm>
                    <a:custGeom>
                      <a:avLst/>
                      <a:gdLst/>
                      <a:ahLst/>
                      <a:rect l="l" t="t" r="r" b="b"/>
                      <a:pathLst>
                        <a:path w="64" h="49">
                          <a:moveTo>
                            <a:pt x="7" y="0"/>
                          </a:moveTo>
                          <a:lnTo>
                            <a:pt x="19" y="5"/>
                          </a:lnTo>
                          <a:lnTo>
                            <a:pt x="27" y="7"/>
                          </a:lnTo>
                          <a:lnTo>
                            <a:pt x="41" y="12"/>
                          </a:lnTo>
                          <a:lnTo>
                            <a:pt x="56" y="17"/>
                          </a:lnTo>
                          <a:lnTo>
                            <a:pt x="63" y="21"/>
                          </a:lnTo>
                          <a:lnTo>
                            <a:pt x="46" y="26"/>
                          </a:lnTo>
                          <a:lnTo>
                            <a:pt x="32" y="31"/>
                          </a:lnTo>
                          <a:lnTo>
                            <a:pt x="22" y="38"/>
                          </a:lnTo>
                          <a:lnTo>
                            <a:pt x="10" y="44"/>
                          </a:lnTo>
                          <a:lnTo>
                            <a:pt x="0" y="48"/>
                          </a:lnTo>
                          <a:lnTo>
                            <a:pt x="5" y="44"/>
                          </a:lnTo>
                          <a:lnTo>
                            <a:pt x="7" y="40"/>
                          </a:lnTo>
                          <a:lnTo>
                            <a:pt x="10" y="35"/>
                          </a:lnTo>
                          <a:lnTo>
                            <a:pt x="12" y="24"/>
                          </a:lnTo>
                          <a:lnTo>
                            <a:pt x="12" y="17"/>
                          </a:lnTo>
                          <a:lnTo>
                            <a:pt x="10" y="7"/>
                          </a:lnTo>
                          <a:lnTo>
                            <a:pt x="7"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56" name=""/>
                    <p:cNvSpPr/>
                    <p:nvPr/>
                  </p:nvSpPr>
                  <p:spPr>
                    <a:xfrm>
                      <a:off x="7939080" y="5383080"/>
                      <a:ext cx="101520" cy="52560"/>
                    </a:xfrm>
                    <a:custGeom>
                      <a:avLst/>
                      <a:gdLst/>
                      <a:ahLst/>
                      <a:rect l="l" t="t" r="r" b="b"/>
                      <a:pathLst>
                        <a:path w="64" h="33">
                          <a:moveTo>
                            <a:pt x="10" y="5"/>
                          </a:moveTo>
                          <a:lnTo>
                            <a:pt x="14" y="2"/>
                          </a:lnTo>
                          <a:lnTo>
                            <a:pt x="19" y="0"/>
                          </a:lnTo>
                          <a:lnTo>
                            <a:pt x="29" y="0"/>
                          </a:lnTo>
                          <a:lnTo>
                            <a:pt x="36" y="2"/>
                          </a:lnTo>
                          <a:lnTo>
                            <a:pt x="40" y="3"/>
                          </a:lnTo>
                          <a:lnTo>
                            <a:pt x="48" y="3"/>
                          </a:lnTo>
                          <a:lnTo>
                            <a:pt x="50" y="3"/>
                          </a:lnTo>
                          <a:lnTo>
                            <a:pt x="52" y="3"/>
                          </a:lnTo>
                          <a:lnTo>
                            <a:pt x="58" y="7"/>
                          </a:lnTo>
                          <a:lnTo>
                            <a:pt x="63" y="10"/>
                          </a:lnTo>
                          <a:lnTo>
                            <a:pt x="58" y="13"/>
                          </a:lnTo>
                          <a:lnTo>
                            <a:pt x="52" y="17"/>
                          </a:lnTo>
                          <a:lnTo>
                            <a:pt x="43" y="17"/>
                          </a:lnTo>
                          <a:lnTo>
                            <a:pt x="36" y="20"/>
                          </a:lnTo>
                          <a:lnTo>
                            <a:pt x="29" y="24"/>
                          </a:lnTo>
                          <a:lnTo>
                            <a:pt x="19" y="25"/>
                          </a:lnTo>
                          <a:lnTo>
                            <a:pt x="12" y="29"/>
                          </a:lnTo>
                          <a:lnTo>
                            <a:pt x="5" y="30"/>
                          </a:lnTo>
                          <a:lnTo>
                            <a:pt x="0" y="32"/>
                          </a:lnTo>
                          <a:lnTo>
                            <a:pt x="0" y="29"/>
                          </a:lnTo>
                          <a:lnTo>
                            <a:pt x="7" y="24"/>
                          </a:lnTo>
                          <a:lnTo>
                            <a:pt x="10" y="19"/>
                          </a:lnTo>
                          <a:lnTo>
                            <a:pt x="12" y="15"/>
                          </a:lnTo>
                          <a:lnTo>
                            <a:pt x="10" y="5"/>
                          </a:lnTo>
                        </a:path>
                      </a:pathLst>
                    </a:custGeom>
                    <a:solidFill>
                      <a:srgbClr val="a0a0a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757" name=""/>
                  <p:cNvGrpSpPr/>
                  <p:nvPr/>
                </p:nvGrpSpPr>
                <p:grpSpPr>
                  <a:xfrm>
                    <a:off x="7149960" y="5234040"/>
                    <a:ext cx="716040" cy="403200"/>
                    <a:chOff x="7149960" y="5234040"/>
                    <a:chExt cx="716040" cy="403200"/>
                  </a:xfrm>
                </p:grpSpPr>
                <p:grpSp>
                  <p:nvGrpSpPr>
                    <p:cNvPr id="1758" name=""/>
                    <p:cNvGrpSpPr/>
                    <p:nvPr/>
                  </p:nvGrpSpPr>
                  <p:grpSpPr>
                    <a:xfrm>
                      <a:off x="7149960" y="5284800"/>
                      <a:ext cx="479520" cy="352440"/>
                      <a:chOff x="7149960" y="5284800"/>
                      <a:chExt cx="479520" cy="352440"/>
                    </a:xfrm>
                  </p:grpSpPr>
                  <p:sp>
                    <p:nvSpPr>
                      <p:cNvPr id="1759" name=""/>
                      <p:cNvSpPr/>
                      <p:nvPr/>
                    </p:nvSpPr>
                    <p:spPr>
                      <a:xfrm>
                        <a:off x="7149960" y="5306760"/>
                        <a:ext cx="420840" cy="330480"/>
                      </a:xfrm>
                      <a:custGeom>
                        <a:avLst/>
                        <a:gdLst/>
                        <a:ahLst/>
                        <a:rect l="l" t="t" r="r" b="b"/>
                        <a:pathLst>
                          <a:path w="265" h="208">
                            <a:moveTo>
                              <a:pt x="9" y="49"/>
                            </a:moveTo>
                            <a:lnTo>
                              <a:pt x="3" y="59"/>
                            </a:lnTo>
                            <a:lnTo>
                              <a:pt x="0" y="73"/>
                            </a:lnTo>
                            <a:lnTo>
                              <a:pt x="0" y="87"/>
                            </a:lnTo>
                            <a:lnTo>
                              <a:pt x="0" y="102"/>
                            </a:lnTo>
                            <a:lnTo>
                              <a:pt x="5" y="119"/>
                            </a:lnTo>
                            <a:lnTo>
                              <a:pt x="12" y="135"/>
                            </a:lnTo>
                            <a:lnTo>
                              <a:pt x="20" y="146"/>
                            </a:lnTo>
                            <a:lnTo>
                              <a:pt x="36" y="160"/>
                            </a:lnTo>
                            <a:lnTo>
                              <a:pt x="49" y="172"/>
                            </a:lnTo>
                            <a:lnTo>
                              <a:pt x="65" y="184"/>
                            </a:lnTo>
                            <a:lnTo>
                              <a:pt x="81" y="190"/>
                            </a:lnTo>
                            <a:lnTo>
                              <a:pt x="97" y="198"/>
                            </a:lnTo>
                            <a:lnTo>
                              <a:pt x="119" y="204"/>
                            </a:lnTo>
                            <a:lnTo>
                              <a:pt x="138" y="207"/>
                            </a:lnTo>
                            <a:lnTo>
                              <a:pt x="157" y="207"/>
                            </a:lnTo>
                            <a:lnTo>
                              <a:pt x="172" y="207"/>
                            </a:lnTo>
                            <a:lnTo>
                              <a:pt x="190" y="207"/>
                            </a:lnTo>
                            <a:lnTo>
                              <a:pt x="206" y="205"/>
                            </a:lnTo>
                            <a:lnTo>
                              <a:pt x="264" y="196"/>
                            </a:lnTo>
                            <a:lnTo>
                              <a:pt x="222" y="180"/>
                            </a:lnTo>
                            <a:lnTo>
                              <a:pt x="170" y="152"/>
                            </a:lnTo>
                            <a:lnTo>
                              <a:pt x="133" y="119"/>
                            </a:lnTo>
                            <a:lnTo>
                              <a:pt x="92" y="65"/>
                            </a:lnTo>
                            <a:lnTo>
                              <a:pt x="81" y="30"/>
                            </a:lnTo>
                            <a:lnTo>
                              <a:pt x="78" y="0"/>
                            </a:lnTo>
                            <a:lnTo>
                              <a:pt x="9" y="4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7169040" y="5297400"/>
                        <a:ext cx="428760" cy="328680"/>
                      </a:xfrm>
                      <a:custGeom>
                        <a:avLst/>
                        <a:gdLst/>
                        <a:ahLst/>
                        <a:rect l="l" t="t" r="r" b="b"/>
                        <a:pathLst>
                          <a:path w="270" h="207">
                            <a:moveTo>
                              <a:pt x="13" y="47"/>
                            </a:moveTo>
                            <a:lnTo>
                              <a:pt x="5" y="57"/>
                            </a:lnTo>
                            <a:lnTo>
                              <a:pt x="0" y="71"/>
                            </a:lnTo>
                            <a:lnTo>
                              <a:pt x="0" y="85"/>
                            </a:lnTo>
                            <a:lnTo>
                              <a:pt x="3" y="102"/>
                            </a:lnTo>
                            <a:lnTo>
                              <a:pt x="8" y="117"/>
                            </a:lnTo>
                            <a:lnTo>
                              <a:pt x="16" y="131"/>
                            </a:lnTo>
                            <a:lnTo>
                              <a:pt x="24" y="143"/>
                            </a:lnTo>
                            <a:lnTo>
                              <a:pt x="37" y="158"/>
                            </a:lnTo>
                            <a:lnTo>
                              <a:pt x="54" y="170"/>
                            </a:lnTo>
                            <a:lnTo>
                              <a:pt x="70" y="180"/>
                            </a:lnTo>
                            <a:lnTo>
                              <a:pt x="83" y="188"/>
                            </a:lnTo>
                            <a:lnTo>
                              <a:pt x="100" y="194"/>
                            </a:lnTo>
                            <a:lnTo>
                              <a:pt x="122" y="200"/>
                            </a:lnTo>
                            <a:lnTo>
                              <a:pt x="143" y="204"/>
                            </a:lnTo>
                            <a:lnTo>
                              <a:pt x="159" y="206"/>
                            </a:lnTo>
                            <a:lnTo>
                              <a:pt x="177" y="206"/>
                            </a:lnTo>
                            <a:lnTo>
                              <a:pt x="193" y="206"/>
                            </a:lnTo>
                            <a:lnTo>
                              <a:pt x="209" y="204"/>
                            </a:lnTo>
                            <a:lnTo>
                              <a:pt x="269" y="194"/>
                            </a:lnTo>
                            <a:lnTo>
                              <a:pt x="228" y="176"/>
                            </a:lnTo>
                            <a:lnTo>
                              <a:pt x="174" y="150"/>
                            </a:lnTo>
                            <a:lnTo>
                              <a:pt x="138" y="115"/>
                            </a:lnTo>
                            <a:lnTo>
                              <a:pt x="95" y="65"/>
                            </a:lnTo>
                            <a:lnTo>
                              <a:pt x="83" y="28"/>
                            </a:lnTo>
                            <a:lnTo>
                              <a:pt x="83" y="0"/>
                            </a:lnTo>
                            <a:lnTo>
                              <a:pt x="13" y="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7201080" y="5284800"/>
                        <a:ext cx="428400" cy="330120"/>
                      </a:xfrm>
                      <a:custGeom>
                        <a:avLst/>
                        <a:gdLst/>
                        <a:ahLst/>
                        <a:rect l="l" t="t" r="r" b="b"/>
                        <a:pathLst>
                          <a:path w="270" h="208">
                            <a:moveTo>
                              <a:pt x="13" y="47"/>
                            </a:moveTo>
                            <a:lnTo>
                              <a:pt x="5" y="59"/>
                            </a:lnTo>
                            <a:lnTo>
                              <a:pt x="0" y="73"/>
                            </a:lnTo>
                            <a:lnTo>
                              <a:pt x="0" y="85"/>
                            </a:lnTo>
                            <a:lnTo>
                              <a:pt x="3" y="102"/>
                            </a:lnTo>
                            <a:lnTo>
                              <a:pt x="8" y="118"/>
                            </a:lnTo>
                            <a:lnTo>
                              <a:pt x="16" y="132"/>
                            </a:lnTo>
                            <a:lnTo>
                              <a:pt x="24" y="144"/>
                            </a:lnTo>
                            <a:lnTo>
                              <a:pt x="37" y="159"/>
                            </a:lnTo>
                            <a:lnTo>
                              <a:pt x="54" y="171"/>
                            </a:lnTo>
                            <a:lnTo>
                              <a:pt x="68" y="183"/>
                            </a:lnTo>
                            <a:lnTo>
                              <a:pt x="84" y="189"/>
                            </a:lnTo>
                            <a:lnTo>
                              <a:pt x="100" y="195"/>
                            </a:lnTo>
                            <a:lnTo>
                              <a:pt x="122" y="201"/>
                            </a:lnTo>
                            <a:lnTo>
                              <a:pt x="143" y="205"/>
                            </a:lnTo>
                            <a:lnTo>
                              <a:pt x="161" y="207"/>
                            </a:lnTo>
                            <a:lnTo>
                              <a:pt x="177" y="207"/>
                            </a:lnTo>
                            <a:lnTo>
                              <a:pt x="193" y="207"/>
                            </a:lnTo>
                            <a:lnTo>
                              <a:pt x="211" y="205"/>
                            </a:lnTo>
                            <a:lnTo>
                              <a:pt x="269" y="195"/>
                            </a:lnTo>
                            <a:lnTo>
                              <a:pt x="228" y="177"/>
                            </a:lnTo>
                            <a:lnTo>
                              <a:pt x="174" y="152"/>
                            </a:lnTo>
                            <a:lnTo>
                              <a:pt x="138" y="116"/>
                            </a:lnTo>
                            <a:lnTo>
                              <a:pt x="95" y="65"/>
                            </a:lnTo>
                            <a:lnTo>
                              <a:pt x="84" y="28"/>
                            </a:lnTo>
                            <a:lnTo>
                              <a:pt x="82" y="0"/>
                            </a:lnTo>
                            <a:lnTo>
                              <a:pt x="13" y="4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2" name=""/>
                    <p:cNvGrpSpPr/>
                    <p:nvPr/>
                  </p:nvGrpSpPr>
                  <p:grpSpPr>
                    <a:xfrm>
                      <a:off x="7608960" y="5234040"/>
                      <a:ext cx="257040" cy="372960"/>
                      <a:chOff x="7608960" y="5234040"/>
                      <a:chExt cx="257040" cy="372960"/>
                    </a:xfrm>
                  </p:grpSpPr>
                  <p:sp>
                    <p:nvSpPr>
                      <p:cNvPr id="1763" name=""/>
                      <p:cNvSpPr/>
                      <p:nvPr/>
                    </p:nvSpPr>
                    <p:spPr>
                      <a:xfrm>
                        <a:off x="7670880" y="5234040"/>
                        <a:ext cx="195120" cy="369720"/>
                      </a:xfrm>
                      <a:custGeom>
                        <a:avLst/>
                        <a:gdLst/>
                        <a:ahLst/>
                        <a:rect l="l" t="t" r="r" b="b"/>
                        <a:pathLst>
                          <a:path w="123" h="233">
                            <a:moveTo>
                              <a:pt x="43" y="12"/>
                            </a:moveTo>
                            <a:lnTo>
                              <a:pt x="72" y="27"/>
                            </a:lnTo>
                            <a:lnTo>
                              <a:pt x="92" y="39"/>
                            </a:lnTo>
                            <a:lnTo>
                              <a:pt x="102" y="51"/>
                            </a:lnTo>
                            <a:lnTo>
                              <a:pt x="107" y="61"/>
                            </a:lnTo>
                            <a:lnTo>
                              <a:pt x="114" y="71"/>
                            </a:lnTo>
                            <a:lnTo>
                              <a:pt x="117" y="80"/>
                            </a:lnTo>
                            <a:lnTo>
                              <a:pt x="122" y="90"/>
                            </a:lnTo>
                            <a:lnTo>
                              <a:pt x="122" y="104"/>
                            </a:lnTo>
                            <a:lnTo>
                              <a:pt x="122" y="116"/>
                            </a:lnTo>
                            <a:lnTo>
                              <a:pt x="122" y="130"/>
                            </a:lnTo>
                            <a:lnTo>
                              <a:pt x="119" y="141"/>
                            </a:lnTo>
                            <a:lnTo>
                              <a:pt x="112" y="155"/>
                            </a:lnTo>
                            <a:lnTo>
                              <a:pt x="107" y="167"/>
                            </a:lnTo>
                            <a:lnTo>
                              <a:pt x="97" y="177"/>
                            </a:lnTo>
                            <a:lnTo>
                              <a:pt x="87" y="189"/>
                            </a:lnTo>
                            <a:lnTo>
                              <a:pt x="64" y="204"/>
                            </a:lnTo>
                            <a:lnTo>
                              <a:pt x="3" y="232"/>
                            </a:lnTo>
                            <a:lnTo>
                              <a:pt x="18" y="208"/>
                            </a:lnTo>
                            <a:lnTo>
                              <a:pt x="40" y="165"/>
                            </a:lnTo>
                            <a:lnTo>
                              <a:pt x="54" y="96"/>
                            </a:lnTo>
                            <a:lnTo>
                              <a:pt x="44" y="51"/>
                            </a:lnTo>
                            <a:lnTo>
                              <a:pt x="5" y="10"/>
                            </a:lnTo>
                            <a:lnTo>
                              <a:pt x="0" y="0"/>
                            </a:lnTo>
                            <a:lnTo>
                              <a:pt x="43"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7640640" y="5236920"/>
                        <a:ext cx="203040" cy="370080"/>
                      </a:xfrm>
                      <a:custGeom>
                        <a:avLst/>
                        <a:gdLst/>
                        <a:ahLst/>
                        <a:rect l="l" t="t" r="r" b="b"/>
                        <a:pathLst>
                          <a:path w="128" h="233">
                            <a:moveTo>
                              <a:pt x="44" y="12"/>
                            </a:moveTo>
                            <a:lnTo>
                              <a:pt x="76" y="27"/>
                            </a:lnTo>
                            <a:lnTo>
                              <a:pt x="94" y="39"/>
                            </a:lnTo>
                            <a:lnTo>
                              <a:pt x="104" y="51"/>
                            </a:lnTo>
                            <a:lnTo>
                              <a:pt x="109" y="61"/>
                            </a:lnTo>
                            <a:lnTo>
                              <a:pt x="117" y="69"/>
                            </a:lnTo>
                            <a:lnTo>
                              <a:pt x="122" y="80"/>
                            </a:lnTo>
                            <a:lnTo>
                              <a:pt x="124" y="90"/>
                            </a:lnTo>
                            <a:lnTo>
                              <a:pt x="127" y="104"/>
                            </a:lnTo>
                            <a:lnTo>
                              <a:pt x="127" y="116"/>
                            </a:lnTo>
                            <a:lnTo>
                              <a:pt x="124" y="130"/>
                            </a:lnTo>
                            <a:lnTo>
                              <a:pt x="122" y="141"/>
                            </a:lnTo>
                            <a:lnTo>
                              <a:pt x="114" y="155"/>
                            </a:lnTo>
                            <a:lnTo>
                              <a:pt x="109" y="167"/>
                            </a:lnTo>
                            <a:lnTo>
                              <a:pt x="101" y="177"/>
                            </a:lnTo>
                            <a:lnTo>
                              <a:pt x="91" y="188"/>
                            </a:lnTo>
                            <a:lnTo>
                              <a:pt x="65" y="202"/>
                            </a:lnTo>
                            <a:lnTo>
                              <a:pt x="3" y="232"/>
                            </a:lnTo>
                            <a:lnTo>
                              <a:pt x="21" y="208"/>
                            </a:lnTo>
                            <a:lnTo>
                              <a:pt x="44" y="165"/>
                            </a:lnTo>
                            <a:lnTo>
                              <a:pt x="56" y="96"/>
                            </a:lnTo>
                            <a:lnTo>
                              <a:pt x="46" y="51"/>
                            </a:lnTo>
                            <a:lnTo>
                              <a:pt x="8" y="10"/>
                            </a:lnTo>
                            <a:lnTo>
                              <a:pt x="0" y="0"/>
                            </a:lnTo>
                            <a:lnTo>
                              <a:pt x="44" y="1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7608960" y="5234040"/>
                        <a:ext cx="203040" cy="369720"/>
                      </a:xfrm>
                      <a:custGeom>
                        <a:avLst/>
                        <a:gdLst/>
                        <a:ahLst/>
                        <a:rect l="l" t="t" r="r" b="b"/>
                        <a:pathLst>
                          <a:path w="128" h="233">
                            <a:moveTo>
                              <a:pt x="44" y="14"/>
                            </a:moveTo>
                            <a:lnTo>
                              <a:pt x="74" y="29"/>
                            </a:lnTo>
                            <a:lnTo>
                              <a:pt x="94" y="39"/>
                            </a:lnTo>
                            <a:lnTo>
                              <a:pt x="101" y="51"/>
                            </a:lnTo>
                            <a:lnTo>
                              <a:pt x="109" y="61"/>
                            </a:lnTo>
                            <a:lnTo>
                              <a:pt x="114" y="71"/>
                            </a:lnTo>
                            <a:lnTo>
                              <a:pt x="119" y="80"/>
                            </a:lnTo>
                            <a:lnTo>
                              <a:pt x="124" y="90"/>
                            </a:lnTo>
                            <a:lnTo>
                              <a:pt x="127" y="106"/>
                            </a:lnTo>
                            <a:lnTo>
                              <a:pt x="127" y="118"/>
                            </a:lnTo>
                            <a:lnTo>
                              <a:pt x="124" y="132"/>
                            </a:lnTo>
                            <a:lnTo>
                              <a:pt x="122" y="141"/>
                            </a:lnTo>
                            <a:lnTo>
                              <a:pt x="114" y="157"/>
                            </a:lnTo>
                            <a:lnTo>
                              <a:pt x="109" y="167"/>
                            </a:lnTo>
                            <a:lnTo>
                              <a:pt x="99" y="179"/>
                            </a:lnTo>
                            <a:lnTo>
                              <a:pt x="89" y="190"/>
                            </a:lnTo>
                            <a:lnTo>
                              <a:pt x="67" y="204"/>
                            </a:lnTo>
                            <a:lnTo>
                              <a:pt x="3" y="232"/>
                            </a:lnTo>
                            <a:lnTo>
                              <a:pt x="18" y="208"/>
                            </a:lnTo>
                            <a:lnTo>
                              <a:pt x="41" y="165"/>
                            </a:lnTo>
                            <a:lnTo>
                              <a:pt x="56" y="96"/>
                            </a:lnTo>
                            <a:lnTo>
                              <a:pt x="46" y="51"/>
                            </a:lnTo>
                            <a:lnTo>
                              <a:pt x="5" y="10"/>
                            </a:lnTo>
                            <a:lnTo>
                              <a:pt x="0" y="0"/>
                            </a:lnTo>
                            <a:lnTo>
                              <a:pt x="44"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66" name=""/>
                  <p:cNvSpPr/>
                  <p:nvPr/>
                </p:nvSpPr>
                <p:spPr>
                  <a:xfrm>
                    <a:off x="7032600" y="5222880"/>
                    <a:ext cx="907920" cy="355320"/>
                  </a:xfrm>
                  <a:custGeom>
                    <a:avLst/>
                    <a:gdLst/>
                    <a:ahLst/>
                    <a:rect l="l" t="t" r="r" b="b"/>
                    <a:pathLst>
                      <a:path w="572" h="224">
                        <a:moveTo>
                          <a:pt x="0" y="223"/>
                        </a:moveTo>
                        <a:lnTo>
                          <a:pt x="27" y="207"/>
                        </a:lnTo>
                        <a:lnTo>
                          <a:pt x="54" y="192"/>
                        </a:lnTo>
                        <a:lnTo>
                          <a:pt x="83" y="178"/>
                        </a:lnTo>
                        <a:lnTo>
                          <a:pt x="107" y="166"/>
                        </a:lnTo>
                        <a:lnTo>
                          <a:pt x="137" y="154"/>
                        </a:lnTo>
                        <a:lnTo>
                          <a:pt x="165" y="142"/>
                        </a:lnTo>
                        <a:lnTo>
                          <a:pt x="218" y="129"/>
                        </a:lnTo>
                        <a:lnTo>
                          <a:pt x="279" y="113"/>
                        </a:lnTo>
                        <a:lnTo>
                          <a:pt x="347" y="98"/>
                        </a:lnTo>
                        <a:lnTo>
                          <a:pt x="389" y="90"/>
                        </a:lnTo>
                        <a:lnTo>
                          <a:pt x="427" y="82"/>
                        </a:lnTo>
                        <a:lnTo>
                          <a:pt x="461" y="77"/>
                        </a:lnTo>
                        <a:lnTo>
                          <a:pt x="480" y="79"/>
                        </a:lnTo>
                        <a:lnTo>
                          <a:pt x="515" y="84"/>
                        </a:lnTo>
                        <a:lnTo>
                          <a:pt x="533" y="86"/>
                        </a:lnTo>
                        <a:lnTo>
                          <a:pt x="549" y="90"/>
                        </a:lnTo>
                        <a:lnTo>
                          <a:pt x="571" y="94"/>
                        </a:lnTo>
                        <a:lnTo>
                          <a:pt x="526" y="71"/>
                        </a:lnTo>
                        <a:lnTo>
                          <a:pt x="499" y="55"/>
                        </a:lnTo>
                        <a:lnTo>
                          <a:pt x="447" y="35"/>
                        </a:lnTo>
                        <a:lnTo>
                          <a:pt x="413" y="22"/>
                        </a:lnTo>
                        <a:lnTo>
                          <a:pt x="375" y="12"/>
                        </a:lnTo>
                        <a:lnTo>
                          <a:pt x="349" y="2"/>
                        </a:lnTo>
                        <a:lnTo>
                          <a:pt x="317" y="0"/>
                        </a:lnTo>
                        <a:lnTo>
                          <a:pt x="276" y="4"/>
                        </a:lnTo>
                        <a:lnTo>
                          <a:pt x="223" y="20"/>
                        </a:lnTo>
                        <a:lnTo>
                          <a:pt x="182" y="37"/>
                        </a:lnTo>
                        <a:lnTo>
                          <a:pt x="126" y="67"/>
                        </a:lnTo>
                        <a:lnTo>
                          <a:pt x="97" y="84"/>
                        </a:lnTo>
                        <a:lnTo>
                          <a:pt x="60" y="117"/>
                        </a:lnTo>
                        <a:lnTo>
                          <a:pt x="33" y="144"/>
                        </a:lnTo>
                        <a:lnTo>
                          <a:pt x="16" y="166"/>
                        </a:lnTo>
                        <a:lnTo>
                          <a:pt x="11" y="188"/>
                        </a:lnTo>
                        <a:lnTo>
                          <a:pt x="3" y="207"/>
                        </a:lnTo>
                        <a:lnTo>
                          <a:pt x="0" y="22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7" name=""/>
                  <p:cNvGrpSpPr/>
                  <p:nvPr/>
                </p:nvGrpSpPr>
                <p:grpSpPr>
                  <a:xfrm>
                    <a:off x="7232760" y="5211720"/>
                    <a:ext cx="555480" cy="401400"/>
                    <a:chOff x="7232760" y="5211720"/>
                    <a:chExt cx="555480" cy="401400"/>
                  </a:xfrm>
                </p:grpSpPr>
                <p:sp>
                  <p:nvSpPr>
                    <p:cNvPr id="1768" name=""/>
                    <p:cNvSpPr/>
                    <p:nvPr/>
                  </p:nvSpPr>
                  <p:spPr>
                    <a:xfrm>
                      <a:off x="7232760" y="5211720"/>
                      <a:ext cx="555480" cy="401400"/>
                    </a:xfrm>
                    <a:prstGeom prst="ellipse">
                      <a:avLst/>
                    </a:prstGeom>
                    <a:solidFill>
                      <a:srgbClr val="804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7232760" y="5219640"/>
                      <a:ext cx="539640" cy="244440"/>
                    </a:xfrm>
                    <a:custGeom>
                      <a:avLst/>
                      <a:gdLst/>
                      <a:ahLst/>
                      <a:rect l="l" t="t" r="r" b="b"/>
                      <a:pathLst>
                        <a:path w="340" h="154">
                          <a:moveTo>
                            <a:pt x="11" y="153"/>
                          </a:moveTo>
                          <a:lnTo>
                            <a:pt x="32" y="145"/>
                          </a:lnTo>
                          <a:lnTo>
                            <a:pt x="63" y="136"/>
                          </a:lnTo>
                          <a:lnTo>
                            <a:pt x="98" y="128"/>
                          </a:lnTo>
                          <a:lnTo>
                            <a:pt x="143" y="116"/>
                          </a:lnTo>
                          <a:lnTo>
                            <a:pt x="188" y="107"/>
                          </a:lnTo>
                          <a:lnTo>
                            <a:pt x="233" y="99"/>
                          </a:lnTo>
                          <a:lnTo>
                            <a:pt x="278" y="91"/>
                          </a:lnTo>
                          <a:lnTo>
                            <a:pt x="311" y="85"/>
                          </a:lnTo>
                          <a:lnTo>
                            <a:pt x="339" y="78"/>
                          </a:lnTo>
                          <a:lnTo>
                            <a:pt x="328" y="62"/>
                          </a:lnTo>
                          <a:lnTo>
                            <a:pt x="320" y="48"/>
                          </a:lnTo>
                          <a:lnTo>
                            <a:pt x="308" y="37"/>
                          </a:lnTo>
                          <a:lnTo>
                            <a:pt x="281" y="22"/>
                          </a:lnTo>
                          <a:lnTo>
                            <a:pt x="254" y="10"/>
                          </a:lnTo>
                          <a:lnTo>
                            <a:pt x="230" y="4"/>
                          </a:lnTo>
                          <a:lnTo>
                            <a:pt x="204" y="0"/>
                          </a:lnTo>
                          <a:lnTo>
                            <a:pt x="167" y="2"/>
                          </a:lnTo>
                          <a:lnTo>
                            <a:pt x="117" y="18"/>
                          </a:lnTo>
                          <a:lnTo>
                            <a:pt x="71" y="37"/>
                          </a:lnTo>
                          <a:lnTo>
                            <a:pt x="24" y="62"/>
                          </a:lnTo>
                          <a:lnTo>
                            <a:pt x="13" y="68"/>
                          </a:lnTo>
                          <a:lnTo>
                            <a:pt x="3" y="80"/>
                          </a:lnTo>
                          <a:lnTo>
                            <a:pt x="0" y="93"/>
                          </a:lnTo>
                          <a:lnTo>
                            <a:pt x="0" y="113"/>
                          </a:lnTo>
                          <a:lnTo>
                            <a:pt x="3" y="134"/>
                          </a:lnTo>
                          <a:lnTo>
                            <a:pt x="11" y="15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7392960" y="5322600"/>
                      <a:ext cx="243000" cy="181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7383600" y="5321160"/>
                      <a:ext cx="9684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grpSp>
          </p:grpSp>
          <p:grpSp>
            <p:nvGrpSpPr>
              <p:cNvPr id="1772" name=""/>
              <p:cNvGrpSpPr/>
              <p:nvPr/>
            </p:nvGrpSpPr>
            <p:grpSpPr>
              <a:xfrm>
                <a:off x="7023240" y="5207040"/>
                <a:ext cx="1011240" cy="457200"/>
                <a:chOff x="7023240" y="5207040"/>
                <a:chExt cx="1011240" cy="457200"/>
              </a:xfrm>
            </p:grpSpPr>
            <p:sp>
              <p:nvSpPr>
                <p:cNvPr id="1773" name=""/>
                <p:cNvSpPr/>
                <p:nvPr/>
              </p:nvSpPr>
              <p:spPr>
                <a:xfrm>
                  <a:off x="7969320" y="5384520"/>
                  <a:ext cx="65160" cy="41400"/>
                </a:xfrm>
                <a:custGeom>
                  <a:avLst/>
                  <a:gdLst/>
                  <a:ahLst/>
                  <a:rect l="l" t="t" r="r" b="b"/>
                  <a:pathLst>
                    <a:path w="41" h="26">
                      <a:moveTo>
                        <a:pt x="4" y="2"/>
                      </a:moveTo>
                      <a:lnTo>
                        <a:pt x="11" y="2"/>
                      </a:lnTo>
                      <a:lnTo>
                        <a:pt x="30" y="0"/>
                      </a:lnTo>
                      <a:lnTo>
                        <a:pt x="36" y="2"/>
                      </a:lnTo>
                      <a:lnTo>
                        <a:pt x="40" y="5"/>
                      </a:lnTo>
                      <a:lnTo>
                        <a:pt x="40" y="8"/>
                      </a:lnTo>
                      <a:lnTo>
                        <a:pt x="36" y="14"/>
                      </a:lnTo>
                      <a:lnTo>
                        <a:pt x="28" y="19"/>
                      </a:lnTo>
                      <a:lnTo>
                        <a:pt x="19" y="22"/>
                      </a:lnTo>
                      <a:lnTo>
                        <a:pt x="6" y="25"/>
                      </a:lnTo>
                      <a:lnTo>
                        <a:pt x="0" y="25"/>
                      </a:lnTo>
                      <a:lnTo>
                        <a:pt x="6" y="20"/>
                      </a:lnTo>
                      <a:lnTo>
                        <a:pt x="9" y="17"/>
                      </a:lnTo>
                      <a:lnTo>
                        <a:pt x="13" y="13"/>
                      </a:lnTo>
                      <a:lnTo>
                        <a:pt x="13" y="9"/>
                      </a:lnTo>
                      <a:lnTo>
                        <a:pt x="4" y="2"/>
                      </a:lnTo>
                    </a:path>
                  </a:pathLst>
                </a:custGeom>
                <a:solidFill>
                  <a:srgbClr val="6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1774" name=""/>
                <p:cNvGrpSpPr/>
                <p:nvPr/>
              </p:nvGrpSpPr>
              <p:grpSpPr>
                <a:xfrm>
                  <a:off x="7023240" y="5207040"/>
                  <a:ext cx="985680" cy="457200"/>
                  <a:chOff x="7023240" y="5207040"/>
                  <a:chExt cx="985680" cy="457200"/>
                </a:xfrm>
              </p:grpSpPr>
              <p:sp>
                <p:nvSpPr>
                  <p:cNvPr id="1775" name=""/>
                  <p:cNvSpPr/>
                  <p:nvPr/>
                </p:nvSpPr>
                <p:spPr>
                  <a:xfrm>
                    <a:off x="7023240" y="5413320"/>
                    <a:ext cx="966600" cy="250920"/>
                  </a:xfrm>
                  <a:custGeom>
                    <a:avLst/>
                    <a:gdLst/>
                    <a:ahLst/>
                    <a:rect l="l" t="t" r="r" b="b"/>
                    <a:pathLst>
                      <a:path w="609" h="158">
                        <a:moveTo>
                          <a:pt x="5" y="111"/>
                        </a:moveTo>
                        <a:lnTo>
                          <a:pt x="30" y="122"/>
                        </a:lnTo>
                        <a:lnTo>
                          <a:pt x="57" y="128"/>
                        </a:lnTo>
                        <a:lnTo>
                          <a:pt x="89" y="132"/>
                        </a:lnTo>
                        <a:lnTo>
                          <a:pt x="140" y="136"/>
                        </a:lnTo>
                        <a:lnTo>
                          <a:pt x="176" y="136"/>
                        </a:lnTo>
                        <a:lnTo>
                          <a:pt x="210" y="134"/>
                        </a:lnTo>
                        <a:lnTo>
                          <a:pt x="254" y="130"/>
                        </a:lnTo>
                        <a:lnTo>
                          <a:pt x="301" y="124"/>
                        </a:lnTo>
                        <a:lnTo>
                          <a:pt x="339" y="118"/>
                        </a:lnTo>
                        <a:lnTo>
                          <a:pt x="376" y="111"/>
                        </a:lnTo>
                        <a:lnTo>
                          <a:pt x="417" y="95"/>
                        </a:lnTo>
                        <a:lnTo>
                          <a:pt x="451" y="83"/>
                        </a:lnTo>
                        <a:lnTo>
                          <a:pt x="484" y="70"/>
                        </a:lnTo>
                        <a:lnTo>
                          <a:pt x="514" y="56"/>
                        </a:lnTo>
                        <a:lnTo>
                          <a:pt x="540" y="40"/>
                        </a:lnTo>
                        <a:lnTo>
                          <a:pt x="556" y="29"/>
                        </a:lnTo>
                        <a:lnTo>
                          <a:pt x="573" y="20"/>
                        </a:lnTo>
                        <a:lnTo>
                          <a:pt x="608" y="0"/>
                        </a:lnTo>
                        <a:lnTo>
                          <a:pt x="608" y="8"/>
                        </a:lnTo>
                        <a:lnTo>
                          <a:pt x="597" y="23"/>
                        </a:lnTo>
                        <a:lnTo>
                          <a:pt x="570" y="42"/>
                        </a:lnTo>
                        <a:lnTo>
                          <a:pt x="537" y="58"/>
                        </a:lnTo>
                        <a:lnTo>
                          <a:pt x="522" y="68"/>
                        </a:lnTo>
                        <a:lnTo>
                          <a:pt x="500" y="81"/>
                        </a:lnTo>
                        <a:lnTo>
                          <a:pt x="481" y="91"/>
                        </a:lnTo>
                        <a:lnTo>
                          <a:pt x="459" y="103"/>
                        </a:lnTo>
                        <a:lnTo>
                          <a:pt x="434" y="111"/>
                        </a:lnTo>
                        <a:lnTo>
                          <a:pt x="406" y="120"/>
                        </a:lnTo>
                        <a:lnTo>
                          <a:pt x="368" y="130"/>
                        </a:lnTo>
                        <a:lnTo>
                          <a:pt x="326" y="137"/>
                        </a:lnTo>
                        <a:lnTo>
                          <a:pt x="290" y="141"/>
                        </a:lnTo>
                        <a:lnTo>
                          <a:pt x="267" y="145"/>
                        </a:lnTo>
                        <a:lnTo>
                          <a:pt x="243" y="149"/>
                        </a:lnTo>
                        <a:lnTo>
                          <a:pt x="213" y="151"/>
                        </a:lnTo>
                        <a:lnTo>
                          <a:pt x="183" y="155"/>
                        </a:lnTo>
                        <a:lnTo>
                          <a:pt x="154" y="157"/>
                        </a:lnTo>
                        <a:lnTo>
                          <a:pt x="127" y="157"/>
                        </a:lnTo>
                        <a:lnTo>
                          <a:pt x="91" y="157"/>
                        </a:lnTo>
                        <a:lnTo>
                          <a:pt x="57" y="153"/>
                        </a:lnTo>
                        <a:lnTo>
                          <a:pt x="35" y="149"/>
                        </a:lnTo>
                        <a:lnTo>
                          <a:pt x="16" y="139"/>
                        </a:lnTo>
                        <a:lnTo>
                          <a:pt x="0" y="145"/>
                        </a:lnTo>
                        <a:lnTo>
                          <a:pt x="0" y="134"/>
                        </a:lnTo>
                        <a:lnTo>
                          <a:pt x="5" y="111"/>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7023240" y="5207040"/>
                    <a:ext cx="985680" cy="368280"/>
                  </a:xfrm>
                  <a:custGeom>
                    <a:avLst/>
                    <a:gdLst/>
                    <a:ahLst/>
                    <a:rect l="l" t="t" r="r" b="b"/>
                    <a:pathLst>
                      <a:path w="621" h="232">
                        <a:moveTo>
                          <a:pt x="0" y="231"/>
                        </a:moveTo>
                        <a:lnTo>
                          <a:pt x="16" y="211"/>
                        </a:lnTo>
                        <a:lnTo>
                          <a:pt x="27" y="200"/>
                        </a:lnTo>
                        <a:lnTo>
                          <a:pt x="30" y="180"/>
                        </a:lnTo>
                        <a:lnTo>
                          <a:pt x="36" y="168"/>
                        </a:lnTo>
                        <a:lnTo>
                          <a:pt x="46" y="158"/>
                        </a:lnTo>
                        <a:lnTo>
                          <a:pt x="60" y="149"/>
                        </a:lnTo>
                        <a:lnTo>
                          <a:pt x="74" y="139"/>
                        </a:lnTo>
                        <a:lnTo>
                          <a:pt x="82" y="129"/>
                        </a:lnTo>
                        <a:lnTo>
                          <a:pt x="89" y="119"/>
                        </a:lnTo>
                        <a:lnTo>
                          <a:pt x="102" y="106"/>
                        </a:lnTo>
                        <a:lnTo>
                          <a:pt x="113" y="96"/>
                        </a:lnTo>
                        <a:lnTo>
                          <a:pt x="127" y="91"/>
                        </a:lnTo>
                        <a:lnTo>
                          <a:pt x="146" y="83"/>
                        </a:lnTo>
                        <a:lnTo>
                          <a:pt x="168" y="71"/>
                        </a:lnTo>
                        <a:lnTo>
                          <a:pt x="191" y="59"/>
                        </a:lnTo>
                        <a:lnTo>
                          <a:pt x="210" y="51"/>
                        </a:lnTo>
                        <a:lnTo>
                          <a:pt x="235" y="41"/>
                        </a:lnTo>
                        <a:lnTo>
                          <a:pt x="257" y="34"/>
                        </a:lnTo>
                        <a:lnTo>
                          <a:pt x="283" y="24"/>
                        </a:lnTo>
                        <a:lnTo>
                          <a:pt x="305" y="16"/>
                        </a:lnTo>
                        <a:lnTo>
                          <a:pt x="321" y="16"/>
                        </a:lnTo>
                        <a:lnTo>
                          <a:pt x="337" y="16"/>
                        </a:lnTo>
                        <a:lnTo>
                          <a:pt x="359" y="20"/>
                        </a:lnTo>
                        <a:lnTo>
                          <a:pt x="382" y="26"/>
                        </a:lnTo>
                        <a:lnTo>
                          <a:pt x="421" y="35"/>
                        </a:lnTo>
                        <a:lnTo>
                          <a:pt x="448" y="49"/>
                        </a:lnTo>
                        <a:lnTo>
                          <a:pt x="474" y="59"/>
                        </a:lnTo>
                        <a:lnTo>
                          <a:pt x="501" y="71"/>
                        </a:lnTo>
                        <a:lnTo>
                          <a:pt x="520" y="77"/>
                        </a:lnTo>
                        <a:lnTo>
                          <a:pt x="534" y="85"/>
                        </a:lnTo>
                        <a:lnTo>
                          <a:pt x="549" y="96"/>
                        </a:lnTo>
                        <a:lnTo>
                          <a:pt x="568" y="104"/>
                        </a:lnTo>
                        <a:lnTo>
                          <a:pt x="579" y="108"/>
                        </a:lnTo>
                        <a:lnTo>
                          <a:pt x="595" y="110"/>
                        </a:lnTo>
                        <a:lnTo>
                          <a:pt x="606" y="110"/>
                        </a:lnTo>
                        <a:lnTo>
                          <a:pt x="620" y="110"/>
                        </a:lnTo>
                        <a:lnTo>
                          <a:pt x="595" y="96"/>
                        </a:lnTo>
                        <a:lnTo>
                          <a:pt x="574" y="81"/>
                        </a:lnTo>
                        <a:lnTo>
                          <a:pt x="554" y="71"/>
                        </a:lnTo>
                        <a:lnTo>
                          <a:pt x="537" y="61"/>
                        </a:lnTo>
                        <a:lnTo>
                          <a:pt x="512" y="49"/>
                        </a:lnTo>
                        <a:lnTo>
                          <a:pt x="498" y="41"/>
                        </a:lnTo>
                        <a:lnTo>
                          <a:pt x="482" y="35"/>
                        </a:lnTo>
                        <a:lnTo>
                          <a:pt x="449" y="28"/>
                        </a:lnTo>
                        <a:lnTo>
                          <a:pt x="426" y="20"/>
                        </a:lnTo>
                        <a:lnTo>
                          <a:pt x="399" y="12"/>
                        </a:lnTo>
                        <a:lnTo>
                          <a:pt x="371" y="6"/>
                        </a:lnTo>
                        <a:lnTo>
                          <a:pt x="340" y="0"/>
                        </a:lnTo>
                        <a:lnTo>
                          <a:pt x="318" y="0"/>
                        </a:lnTo>
                        <a:lnTo>
                          <a:pt x="296" y="2"/>
                        </a:lnTo>
                        <a:lnTo>
                          <a:pt x="274" y="4"/>
                        </a:lnTo>
                        <a:lnTo>
                          <a:pt x="257" y="6"/>
                        </a:lnTo>
                        <a:lnTo>
                          <a:pt x="238" y="12"/>
                        </a:lnTo>
                        <a:lnTo>
                          <a:pt x="219" y="18"/>
                        </a:lnTo>
                        <a:lnTo>
                          <a:pt x="199" y="26"/>
                        </a:lnTo>
                        <a:lnTo>
                          <a:pt x="183" y="34"/>
                        </a:lnTo>
                        <a:lnTo>
                          <a:pt x="171" y="43"/>
                        </a:lnTo>
                        <a:lnTo>
                          <a:pt x="152" y="55"/>
                        </a:lnTo>
                        <a:lnTo>
                          <a:pt x="130" y="67"/>
                        </a:lnTo>
                        <a:lnTo>
                          <a:pt x="108" y="81"/>
                        </a:lnTo>
                        <a:lnTo>
                          <a:pt x="91" y="96"/>
                        </a:lnTo>
                        <a:lnTo>
                          <a:pt x="76" y="106"/>
                        </a:lnTo>
                        <a:lnTo>
                          <a:pt x="60" y="123"/>
                        </a:lnTo>
                        <a:lnTo>
                          <a:pt x="46" y="137"/>
                        </a:lnTo>
                        <a:lnTo>
                          <a:pt x="33" y="150"/>
                        </a:lnTo>
                        <a:lnTo>
                          <a:pt x="25" y="162"/>
                        </a:lnTo>
                        <a:lnTo>
                          <a:pt x="25" y="170"/>
                        </a:lnTo>
                        <a:lnTo>
                          <a:pt x="14" y="184"/>
                        </a:lnTo>
                        <a:lnTo>
                          <a:pt x="5" y="206"/>
                        </a:lnTo>
                        <a:lnTo>
                          <a:pt x="0" y="23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777" name=""/>
          <p:cNvSpPr/>
          <p:nvPr/>
        </p:nvSpPr>
        <p:spPr>
          <a:xfrm>
            <a:off x="609480" y="2438280"/>
            <a:ext cx="6934320" cy="2971800"/>
          </a:xfrm>
          <a:custGeom>
            <a:avLst/>
            <a:gdLst/>
            <a:ahLst/>
            <a:rect l="l" t="t" r="r" b="b"/>
            <a:pathLst>
              <a:path w="4368" h="1872">
                <a:moveTo>
                  <a:pt x="48" y="0"/>
                </a:moveTo>
                <a:lnTo>
                  <a:pt x="3504" y="0"/>
                </a:lnTo>
                <a:lnTo>
                  <a:pt x="4368" y="1728"/>
                </a:lnTo>
                <a:lnTo>
                  <a:pt x="4224" y="1872"/>
                </a:lnTo>
                <a:lnTo>
                  <a:pt x="0" y="0"/>
                </a:lnTo>
              </a:path>
            </a:pathLst>
          </a:custGeom>
          <a:solidFill>
            <a:srgbClr val="99ff66"/>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778" name=""/>
          <p:cNvGrpSpPr/>
          <p:nvPr/>
        </p:nvGrpSpPr>
        <p:grpSpPr>
          <a:xfrm>
            <a:off x="438120" y="1025640"/>
            <a:ext cx="8416800" cy="2033640"/>
            <a:chOff x="438120" y="1025640"/>
            <a:chExt cx="8416800" cy="2033640"/>
          </a:xfrm>
        </p:grpSpPr>
        <p:sp>
          <p:nvSpPr>
            <p:cNvPr id="1779" name=""/>
            <p:cNvSpPr/>
            <p:nvPr/>
          </p:nvSpPr>
          <p:spPr>
            <a:xfrm>
              <a:off x="740160" y="1085760"/>
              <a:ext cx="6829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 de Desenvolvimento de Produtos</a:t>
              </a:r>
              <a:endParaRPr b="0" lang="en-US" sz="2800" spc="-1" strike="noStrike">
                <a:solidFill>
                  <a:srgbClr val="000000"/>
                </a:solidFill>
                <a:latin typeface="Arial"/>
              </a:endParaRPr>
            </a:p>
          </p:txBody>
        </p:sp>
        <p:grpSp>
          <p:nvGrpSpPr>
            <p:cNvPr id="1780" name=""/>
            <p:cNvGrpSpPr/>
            <p:nvPr/>
          </p:nvGrpSpPr>
          <p:grpSpPr>
            <a:xfrm>
              <a:off x="438120" y="1025640"/>
              <a:ext cx="8416800" cy="2033640"/>
              <a:chOff x="438120" y="1025640"/>
              <a:chExt cx="8416800" cy="2033640"/>
            </a:xfrm>
          </p:grpSpPr>
          <p:sp>
            <p:nvSpPr>
              <p:cNvPr id="1781" name=""/>
              <p:cNvSpPr/>
              <p:nvPr/>
            </p:nvSpPr>
            <p:spPr>
              <a:xfrm>
                <a:off x="438120" y="1025640"/>
                <a:ext cx="8416800" cy="2033640"/>
              </a:xfrm>
              <a:custGeom>
                <a:avLst/>
                <a:gdLst/>
                <a:ahLst/>
                <a:rect l="l" t="t" r="r" b="b"/>
                <a:pathLst>
                  <a:path w="5302" h="1281">
                    <a:moveTo>
                      <a:pt x="4650" y="0"/>
                    </a:moveTo>
                    <a:lnTo>
                      <a:pt x="4650" y="315"/>
                    </a:lnTo>
                    <a:lnTo>
                      <a:pt x="0" y="315"/>
                    </a:lnTo>
                    <a:lnTo>
                      <a:pt x="0" y="966"/>
                    </a:lnTo>
                    <a:lnTo>
                      <a:pt x="4650" y="966"/>
                    </a:lnTo>
                    <a:lnTo>
                      <a:pt x="4650" y="1280"/>
                    </a:lnTo>
                    <a:lnTo>
                      <a:pt x="5301" y="640"/>
                    </a:lnTo>
                    <a:lnTo>
                      <a:pt x="465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2" name=""/>
              <p:cNvGrpSpPr/>
              <p:nvPr/>
            </p:nvGrpSpPr>
            <p:grpSpPr>
              <a:xfrm>
                <a:off x="4406760" y="1569960"/>
                <a:ext cx="1243080" cy="957240"/>
                <a:chOff x="4406760" y="1569960"/>
                <a:chExt cx="1243080" cy="957240"/>
              </a:xfrm>
            </p:grpSpPr>
            <p:grpSp>
              <p:nvGrpSpPr>
                <p:cNvPr id="1783" name=""/>
                <p:cNvGrpSpPr/>
                <p:nvPr/>
              </p:nvGrpSpPr>
              <p:grpSpPr>
                <a:xfrm>
                  <a:off x="5055840" y="1569960"/>
                  <a:ext cx="309600" cy="841320"/>
                  <a:chOff x="5055840" y="1569960"/>
                  <a:chExt cx="309600" cy="841320"/>
                </a:xfrm>
              </p:grpSpPr>
              <p:grpSp>
                <p:nvGrpSpPr>
                  <p:cNvPr id="1784" name=""/>
                  <p:cNvGrpSpPr/>
                  <p:nvPr/>
                </p:nvGrpSpPr>
                <p:grpSpPr>
                  <a:xfrm>
                    <a:off x="5143320" y="2239920"/>
                    <a:ext cx="76320" cy="166680"/>
                    <a:chOff x="5143320" y="2239920"/>
                    <a:chExt cx="76320" cy="166680"/>
                  </a:xfrm>
                </p:grpSpPr>
                <p:sp>
                  <p:nvSpPr>
                    <p:cNvPr id="1785" name=""/>
                    <p:cNvSpPr/>
                    <p:nvPr/>
                  </p:nvSpPr>
                  <p:spPr>
                    <a:xfrm>
                      <a:off x="5154480" y="2239920"/>
                      <a:ext cx="61920" cy="166680"/>
                    </a:xfrm>
                    <a:custGeom>
                      <a:avLst/>
                      <a:gdLst/>
                      <a:ahLst/>
                      <a:rect l="l" t="t" r="r" b="b"/>
                      <a:pathLst>
                        <a:path w="39" h="105">
                          <a:moveTo>
                            <a:pt x="0" y="3"/>
                          </a:moveTo>
                          <a:lnTo>
                            <a:pt x="2" y="16"/>
                          </a:lnTo>
                          <a:lnTo>
                            <a:pt x="6" y="28"/>
                          </a:lnTo>
                          <a:lnTo>
                            <a:pt x="12" y="44"/>
                          </a:lnTo>
                          <a:lnTo>
                            <a:pt x="18" y="56"/>
                          </a:lnTo>
                          <a:lnTo>
                            <a:pt x="18" y="61"/>
                          </a:lnTo>
                          <a:lnTo>
                            <a:pt x="19" y="64"/>
                          </a:lnTo>
                          <a:lnTo>
                            <a:pt x="16" y="71"/>
                          </a:lnTo>
                          <a:lnTo>
                            <a:pt x="12" y="76"/>
                          </a:lnTo>
                          <a:lnTo>
                            <a:pt x="8" y="80"/>
                          </a:lnTo>
                          <a:lnTo>
                            <a:pt x="4" y="84"/>
                          </a:lnTo>
                          <a:lnTo>
                            <a:pt x="3" y="104"/>
                          </a:lnTo>
                          <a:lnTo>
                            <a:pt x="32" y="80"/>
                          </a:lnTo>
                          <a:lnTo>
                            <a:pt x="38" y="76"/>
                          </a:lnTo>
                          <a:lnTo>
                            <a:pt x="37" y="72"/>
                          </a:lnTo>
                          <a:lnTo>
                            <a:pt x="36" y="67"/>
                          </a:lnTo>
                          <a:lnTo>
                            <a:pt x="32" y="60"/>
                          </a:lnTo>
                          <a:lnTo>
                            <a:pt x="33" y="55"/>
                          </a:lnTo>
                          <a:lnTo>
                            <a:pt x="31" y="50"/>
                          </a:lnTo>
                          <a:lnTo>
                            <a:pt x="31" y="40"/>
                          </a:lnTo>
                          <a:lnTo>
                            <a:pt x="32" y="31"/>
                          </a:lnTo>
                          <a:lnTo>
                            <a:pt x="34" y="21"/>
                          </a:lnTo>
                          <a:lnTo>
                            <a:pt x="36" y="0"/>
                          </a:lnTo>
                          <a:lnTo>
                            <a:pt x="0" y="3"/>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5197320" y="2357280"/>
                      <a:ext cx="22320" cy="22320"/>
                    </a:xfrm>
                    <a:custGeom>
                      <a:avLst/>
                      <a:gdLst/>
                      <a:ahLst/>
                      <a:rect l="l" t="t" r="r" b="b"/>
                      <a:pathLst>
                        <a:path w="14" h="14">
                          <a:moveTo>
                            <a:pt x="13" y="0"/>
                          </a:moveTo>
                          <a:lnTo>
                            <a:pt x="10" y="11"/>
                          </a:lnTo>
                          <a:lnTo>
                            <a:pt x="5" y="13"/>
                          </a:lnTo>
                          <a:lnTo>
                            <a:pt x="0" y="13"/>
                          </a:lnTo>
                          <a:lnTo>
                            <a:pt x="6" y="8"/>
                          </a:lnTo>
                          <a:lnTo>
                            <a:pt x="13" y="0"/>
                          </a:lnTo>
                        </a:path>
                      </a:pathLst>
                    </a:custGeom>
                    <a:solidFill>
                      <a:srgbClr val="20202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87" name=""/>
                    <p:cNvSpPr/>
                    <p:nvPr/>
                  </p:nvSpPr>
                  <p:spPr>
                    <a:xfrm>
                      <a:off x="5143320" y="2341440"/>
                      <a:ext cx="76320" cy="65160"/>
                    </a:xfrm>
                    <a:custGeom>
                      <a:avLst/>
                      <a:gdLst/>
                      <a:ahLst/>
                      <a:rect l="l" t="t" r="r" b="b"/>
                      <a:pathLst>
                        <a:path w="48" h="41">
                          <a:moveTo>
                            <a:pt x="11" y="21"/>
                          </a:moveTo>
                          <a:lnTo>
                            <a:pt x="14" y="23"/>
                          </a:lnTo>
                          <a:lnTo>
                            <a:pt x="19" y="24"/>
                          </a:lnTo>
                          <a:lnTo>
                            <a:pt x="27" y="22"/>
                          </a:lnTo>
                          <a:lnTo>
                            <a:pt x="34" y="17"/>
                          </a:lnTo>
                          <a:lnTo>
                            <a:pt x="38" y="13"/>
                          </a:lnTo>
                          <a:lnTo>
                            <a:pt x="41" y="6"/>
                          </a:lnTo>
                          <a:lnTo>
                            <a:pt x="42" y="0"/>
                          </a:lnTo>
                          <a:lnTo>
                            <a:pt x="47" y="7"/>
                          </a:lnTo>
                          <a:lnTo>
                            <a:pt x="47" y="11"/>
                          </a:lnTo>
                          <a:lnTo>
                            <a:pt x="38" y="19"/>
                          </a:lnTo>
                          <a:lnTo>
                            <a:pt x="34" y="25"/>
                          </a:lnTo>
                          <a:lnTo>
                            <a:pt x="30" y="33"/>
                          </a:lnTo>
                          <a:lnTo>
                            <a:pt x="19" y="39"/>
                          </a:lnTo>
                          <a:lnTo>
                            <a:pt x="9" y="40"/>
                          </a:lnTo>
                          <a:lnTo>
                            <a:pt x="0" y="39"/>
                          </a:lnTo>
                          <a:lnTo>
                            <a:pt x="0" y="33"/>
                          </a:lnTo>
                          <a:lnTo>
                            <a:pt x="1" y="29"/>
                          </a:lnTo>
                          <a:lnTo>
                            <a:pt x="6" y="25"/>
                          </a:lnTo>
                          <a:lnTo>
                            <a:pt x="11" y="21"/>
                          </a:lnTo>
                        </a:path>
                      </a:pathLst>
                    </a:custGeom>
                    <a:solidFill>
                      <a:srgbClr val="20202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788" name=""/>
                  <p:cNvGrpSpPr/>
                  <p:nvPr/>
                </p:nvGrpSpPr>
                <p:grpSpPr>
                  <a:xfrm>
                    <a:off x="5227560" y="2225520"/>
                    <a:ext cx="82440" cy="185760"/>
                    <a:chOff x="5227560" y="2225520"/>
                    <a:chExt cx="82440" cy="185760"/>
                  </a:xfrm>
                </p:grpSpPr>
                <p:sp>
                  <p:nvSpPr>
                    <p:cNvPr id="1789" name=""/>
                    <p:cNvSpPr/>
                    <p:nvPr/>
                  </p:nvSpPr>
                  <p:spPr>
                    <a:xfrm>
                      <a:off x="5241600" y="2368440"/>
                      <a:ext cx="19080" cy="19080"/>
                    </a:xfrm>
                    <a:custGeom>
                      <a:avLst/>
                      <a:gdLst/>
                      <a:ahLst/>
                      <a:rect l="l" t="t" r="r" b="b"/>
                      <a:pathLst>
                        <a:path w="12" h="12">
                          <a:moveTo>
                            <a:pt x="0" y="0"/>
                          </a:moveTo>
                          <a:lnTo>
                            <a:pt x="2" y="10"/>
                          </a:lnTo>
                          <a:lnTo>
                            <a:pt x="6" y="11"/>
                          </a:lnTo>
                          <a:lnTo>
                            <a:pt x="11" y="10"/>
                          </a:lnTo>
                          <a:lnTo>
                            <a:pt x="4" y="1"/>
                          </a:lnTo>
                          <a:lnTo>
                            <a:pt x="0" y="0"/>
                          </a:lnTo>
                        </a:path>
                      </a:pathLst>
                    </a:custGeom>
                    <a:solidFill>
                      <a:srgbClr val="20202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90" name=""/>
                    <p:cNvSpPr/>
                    <p:nvPr/>
                  </p:nvSpPr>
                  <p:spPr>
                    <a:xfrm>
                      <a:off x="5227560" y="2225520"/>
                      <a:ext cx="72720" cy="184320"/>
                    </a:xfrm>
                    <a:custGeom>
                      <a:avLst/>
                      <a:gdLst/>
                      <a:ahLst/>
                      <a:rect l="l" t="t" r="r" b="b"/>
                      <a:pathLst>
                        <a:path w="46" h="116">
                          <a:moveTo>
                            <a:pt x="0" y="6"/>
                          </a:moveTo>
                          <a:lnTo>
                            <a:pt x="3" y="25"/>
                          </a:lnTo>
                          <a:lnTo>
                            <a:pt x="5" y="34"/>
                          </a:lnTo>
                          <a:lnTo>
                            <a:pt x="7" y="42"/>
                          </a:lnTo>
                          <a:lnTo>
                            <a:pt x="10" y="50"/>
                          </a:lnTo>
                          <a:lnTo>
                            <a:pt x="11" y="59"/>
                          </a:lnTo>
                          <a:lnTo>
                            <a:pt x="12" y="66"/>
                          </a:lnTo>
                          <a:lnTo>
                            <a:pt x="11" y="70"/>
                          </a:lnTo>
                          <a:lnTo>
                            <a:pt x="11" y="76"/>
                          </a:lnTo>
                          <a:lnTo>
                            <a:pt x="10" y="84"/>
                          </a:lnTo>
                          <a:lnTo>
                            <a:pt x="21" y="100"/>
                          </a:lnTo>
                          <a:lnTo>
                            <a:pt x="45" y="115"/>
                          </a:lnTo>
                          <a:lnTo>
                            <a:pt x="44" y="104"/>
                          </a:lnTo>
                          <a:lnTo>
                            <a:pt x="41" y="99"/>
                          </a:lnTo>
                          <a:lnTo>
                            <a:pt x="37" y="93"/>
                          </a:lnTo>
                          <a:lnTo>
                            <a:pt x="32" y="86"/>
                          </a:lnTo>
                          <a:lnTo>
                            <a:pt x="28" y="82"/>
                          </a:lnTo>
                          <a:lnTo>
                            <a:pt x="26" y="78"/>
                          </a:lnTo>
                          <a:lnTo>
                            <a:pt x="26" y="72"/>
                          </a:lnTo>
                          <a:lnTo>
                            <a:pt x="26" y="69"/>
                          </a:lnTo>
                          <a:lnTo>
                            <a:pt x="28" y="64"/>
                          </a:lnTo>
                          <a:lnTo>
                            <a:pt x="30" y="55"/>
                          </a:lnTo>
                          <a:lnTo>
                            <a:pt x="32" y="48"/>
                          </a:lnTo>
                          <a:lnTo>
                            <a:pt x="36" y="34"/>
                          </a:lnTo>
                          <a:lnTo>
                            <a:pt x="37" y="24"/>
                          </a:lnTo>
                          <a:lnTo>
                            <a:pt x="37" y="0"/>
                          </a:lnTo>
                          <a:lnTo>
                            <a:pt x="0" y="6"/>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5240160" y="2351160"/>
                      <a:ext cx="69840" cy="60120"/>
                    </a:xfrm>
                    <a:custGeom>
                      <a:avLst/>
                      <a:gdLst/>
                      <a:ahLst/>
                      <a:rect l="l" t="t" r="r" b="b"/>
                      <a:pathLst>
                        <a:path w="44" h="38">
                          <a:moveTo>
                            <a:pt x="3" y="0"/>
                          </a:moveTo>
                          <a:lnTo>
                            <a:pt x="0" y="7"/>
                          </a:lnTo>
                          <a:lnTo>
                            <a:pt x="1" y="11"/>
                          </a:lnTo>
                          <a:lnTo>
                            <a:pt x="8" y="16"/>
                          </a:lnTo>
                          <a:lnTo>
                            <a:pt x="12" y="19"/>
                          </a:lnTo>
                          <a:lnTo>
                            <a:pt x="13" y="26"/>
                          </a:lnTo>
                          <a:lnTo>
                            <a:pt x="15" y="31"/>
                          </a:lnTo>
                          <a:lnTo>
                            <a:pt x="21" y="34"/>
                          </a:lnTo>
                          <a:lnTo>
                            <a:pt x="27" y="37"/>
                          </a:lnTo>
                          <a:lnTo>
                            <a:pt x="35" y="37"/>
                          </a:lnTo>
                          <a:lnTo>
                            <a:pt x="41" y="37"/>
                          </a:lnTo>
                          <a:lnTo>
                            <a:pt x="43" y="35"/>
                          </a:lnTo>
                          <a:lnTo>
                            <a:pt x="43" y="32"/>
                          </a:lnTo>
                          <a:lnTo>
                            <a:pt x="41" y="28"/>
                          </a:lnTo>
                          <a:lnTo>
                            <a:pt x="37" y="24"/>
                          </a:lnTo>
                          <a:lnTo>
                            <a:pt x="34" y="20"/>
                          </a:lnTo>
                          <a:lnTo>
                            <a:pt x="33" y="23"/>
                          </a:lnTo>
                          <a:lnTo>
                            <a:pt x="29" y="23"/>
                          </a:lnTo>
                          <a:lnTo>
                            <a:pt x="23" y="23"/>
                          </a:lnTo>
                          <a:lnTo>
                            <a:pt x="20" y="21"/>
                          </a:lnTo>
                          <a:lnTo>
                            <a:pt x="14" y="16"/>
                          </a:lnTo>
                          <a:lnTo>
                            <a:pt x="10" y="12"/>
                          </a:lnTo>
                          <a:lnTo>
                            <a:pt x="7" y="7"/>
                          </a:lnTo>
                          <a:lnTo>
                            <a:pt x="3" y="0"/>
                          </a:lnTo>
                        </a:path>
                      </a:pathLst>
                    </a:custGeom>
                    <a:solidFill>
                      <a:srgbClr val="20202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792" name=""/>
                  <p:cNvGrpSpPr/>
                  <p:nvPr/>
                </p:nvGrpSpPr>
                <p:grpSpPr>
                  <a:xfrm>
                    <a:off x="5111640" y="1890720"/>
                    <a:ext cx="98280" cy="363600"/>
                    <a:chOff x="5111640" y="1890720"/>
                    <a:chExt cx="98280" cy="363600"/>
                  </a:xfrm>
                </p:grpSpPr>
                <p:sp>
                  <p:nvSpPr>
                    <p:cNvPr id="1793" name=""/>
                    <p:cNvSpPr/>
                    <p:nvPr/>
                  </p:nvSpPr>
                  <p:spPr>
                    <a:xfrm>
                      <a:off x="5111640" y="1890720"/>
                      <a:ext cx="98280" cy="363600"/>
                    </a:xfrm>
                    <a:custGeom>
                      <a:avLst/>
                      <a:gdLst/>
                      <a:ahLst/>
                      <a:rect l="l" t="t" r="r" b="b"/>
                      <a:pathLst>
                        <a:path w="62" h="229">
                          <a:moveTo>
                            <a:pt x="7" y="27"/>
                          </a:moveTo>
                          <a:lnTo>
                            <a:pt x="7" y="30"/>
                          </a:lnTo>
                          <a:lnTo>
                            <a:pt x="7" y="44"/>
                          </a:lnTo>
                          <a:lnTo>
                            <a:pt x="3" y="62"/>
                          </a:lnTo>
                          <a:lnTo>
                            <a:pt x="0" y="111"/>
                          </a:lnTo>
                          <a:lnTo>
                            <a:pt x="3" y="143"/>
                          </a:lnTo>
                          <a:lnTo>
                            <a:pt x="5" y="177"/>
                          </a:lnTo>
                          <a:lnTo>
                            <a:pt x="12" y="225"/>
                          </a:lnTo>
                          <a:lnTo>
                            <a:pt x="35" y="228"/>
                          </a:lnTo>
                          <a:lnTo>
                            <a:pt x="61" y="225"/>
                          </a:lnTo>
                          <a:lnTo>
                            <a:pt x="56" y="0"/>
                          </a:lnTo>
                          <a:lnTo>
                            <a:pt x="16" y="4"/>
                          </a:lnTo>
                          <a:lnTo>
                            <a:pt x="12" y="12"/>
                          </a:lnTo>
                          <a:lnTo>
                            <a:pt x="7" y="27"/>
                          </a:lnTo>
                        </a:path>
                      </a:pathLst>
                    </a:custGeom>
                    <a:solidFill>
                      <a:srgbClr val="400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5117760" y="1898640"/>
                      <a:ext cx="88920" cy="350640"/>
                    </a:xfrm>
                    <a:custGeom>
                      <a:avLst/>
                      <a:gdLst/>
                      <a:ahLst/>
                      <a:rect l="l" t="t" r="r" b="b"/>
                      <a:pathLst>
                        <a:path w="56" h="221">
                          <a:moveTo>
                            <a:pt x="12" y="0"/>
                          </a:moveTo>
                          <a:lnTo>
                            <a:pt x="28" y="3"/>
                          </a:lnTo>
                          <a:lnTo>
                            <a:pt x="48" y="4"/>
                          </a:lnTo>
                          <a:lnTo>
                            <a:pt x="49" y="16"/>
                          </a:lnTo>
                          <a:lnTo>
                            <a:pt x="49" y="67"/>
                          </a:lnTo>
                          <a:lnTo>
                            <a:pt x="51" y="130"/>
                          </a:lnTo>
                          <a:lnTo>
                            <a:pt x="52" y="180"/>
                          </a:lnTo>
                          <a:lnTo>
                            <a:pt x="55" y="218"/>
                          </a:lnTo>
                          <a:lnTo>
                            <a:pt x="31" y="220"/>
                          </a:lnTo>
                          <a:lnTo>
                            <a:pt x="11" y="217"/>
                          </a:lnTo>
                          <a:lnTo>
                            <a:pt x="4" y="170"/>
                          </a:lnTo>
                          <a:lnTo>
                            <a:pt x="0" y="125"/>
                          </a:lnTo>
                          <a:lnTo>
                            <a:pt x="4" y="135"/>
                          </a:lnTo>
                          <a:lnTo>
                            <a:pt x="11" y="173"/>
                          </a:lnTo>
                          <a:lnTo>
                            <a:pt x="8" y="146"/>
                          </a:lnTo>
                          <a:lnTo>
                            <a:pt x="2" y="111"/>
                          </a:lnTo>
                          <a:lnTo>
                            <a:pt x="0" y="70"/>
                          </a:lnTo>
                          <a:lnTo>
                            <a:pt x="2" y="56"/>
                          </a:lnTo>
                          <a:lnTo>
                            <a:pt x="4" y="44"/>
                          </a:lnTo>
                          <a:lnTo>
                            <a:pt x="9" y="48"/>
                          </a:lnTo>
                          <a:lnTo>
                            <a:pt x="24" y="8"/>
                          </a:lnTo>
                          <a:lnTo>
                            <a:pt x="9" y="45"/>
                          </a:lnTo>
                          <a:lnTo>
                            <a:pt x="5" y="40"/>
                          </a:lnTo>
                          <a:lnTo>
                            <a:pt x="5" y="21"/>
                          </a:lnTo>
                          <a:lnTo>
                            <a:pt x="12" y="0"/>
                          </a:lnTo>
                        </a:path>
                      </a:pathLst>
                    </a:custGeom>
                    <a:solidFill>
                      <a:srgbClr val="600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5148000" y="1901880"/>
                      <a:ext cx="15840" cy="150840"/>
                    </a:xfrm>
                    <a:custGeom>
                      <a:avLst/>
                      <a:gdLst/>
                      <a:ahLst/>
                      <a:rect l="l" t="t" r="r" b="b"/>
                      <a:pathLst>
                        <a:path w="10" h="95">
                          <a:moveTo>
                            <a:pt x="9" y="0"/>
                          </a:moveTo>
                          <a:lnTo>
                            <a:pt x="7" y="13"/>
                          </a:lnTo>
                          <a:lnTo>
                            <a:pt x="4" y="41"/>
                          </a:lnTo>
                          <a:lnTo>
                            <a:pt x="1" y="68"/>
                          </a:lnTo>
                          <a:lnTo>
                            <a:pt x="0" y="94"/>
                          </a:lnTo>
                          <a:lnTo>
                            <a:pt x="5" y="62"/>
                          </a:lnTo>
                          <a:lnTo>
                            <a:pt x="9" y="37"/>
                          </a:lnTo>
                          <a:lnTo>
                            <a:pt x="9" y="0"/>
                          </a:lnTo>
                        </a:path>
                      </a:pathLst>
                    </a:custGeom>
                    <a:solidFill>
                      <a:srgbClr val="400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5168520" y="1958760"/>
                      <a:ext cx="17640" cy="250920"/>
                    </a:xfrm>
                    <a:custGeom>
                      <a:avLst/>
                      <a:gdLst/>
                      <a:ahLst/>
                      <a:rect l="l" t="t" r="r" b="b"/>
                      <a:pathLst>
                        <a:path w="11" h="158">
                          <a:moveTo>
                            <a:pt x="6" y="0"/>
                          </a:moveTo>
                          <a:lnTo>
                            <a:pt x="0" y="46"/>
                          </a:lnTo>
                          <a:lnTo>
                            <a:pt x="0" y="81"/>
                          </a:lnTo>
                          <a:lnTo>
                            <a:pt x="4" y="115"/>
                          </a:lnTo>
                          <a:lnTo>
                            <a:pt x="8" y="133"/>
                          </a:lnTo>
                          <a:lnTo>
                            <a:pt x="9" y="157"/>
                          </a:lnTo>
                          <a:lnTo>
                            <a:pt x="10" y="131"/>
                          </a:lnTo>
                          <a:lnTo>
                            <a:pt x="4" y="97"/>
                          </a:lnTo>
                          <a:lnTo>
                            <a:pt x="3" y="59"/>
                          </a:lnTo>
                          <a:lnTo>
                            <a:pt x="4" y="33"/>
                          </a:lnTo>
                          <a:lnTo>
                            <a:pt x="6" y="0"/>
                          </a:lnTo>
                        </a:path>
                      </a:pathLst>
                    </a:custGeom>
                    <a:solidFill>
                      <a:srgbClr val="400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7" name=""/>
                  <p:cNvGrpSpPr/>
                  <p:nvPr/>
                </p:nvGrpSpPr>
                <p:grpSpPr>
                  <a:xfrm>
                    <a:off x="5200560" y="1888920"/>
                    <a:ext cx="109440" cy="379440"/>
                    <a:chOff x="5200560" y="1888920"/>
                    <a:chExt cx="109440" cy="379440"/>
                  </a:xfrm>
                </p:grpSpPr>
                <p:sp>
                  <p:nvSpPr>
                    <p:cNvPr id="1798" name=""/>
                    <p:cNvSpPr/>
                    <p:nvPr/>
                  </p:nvSpPr>
                  <p:spPr>
                    <a:xfrm>
                      <a:off x="5200560" y="1888920"/>
                      <a:ext cx="109440" cy="379440"/>
                    </a:xfrm>
                    <a:custGeom>
                      <a:avLst/>
                      <a:gdLst/>
                      <a:ahLst/>
                      <a:rect l="l" t="t" r="r" b="b"/>
                      <a:pathLst>
                        <a:path w="69" h="239">
                          <a:moveTo>
                            <a:pt x="5" y="226"/>
                          </a:moveTo>
                          <a:lnTo>
                            <a:pt x="29" y="237"/>
                          </a:lnTo>
                          <a:lnTo>
                            <a:pt x="57" y="238"/>
                          </a:lnTo>
                          <a:lnTo>
                            <a:pt x="63" y="223"/>
                          </a:lnTo>
                          <a:lnTo>
                            <a:pt x="66" y="191"/>
                          </a:lnTo>
                          <a:lnTo>
                            <a:pt x="68" y="146"/>
                          </a:lnTo>
                          <a:lnTo>
                            <a:pt x="68" y="112"/>
                          </a:lnTo>
                          <a:lnTo>
                            <a:pt x="65" y="74"/>
                          </a:lnTo>
                          <a:lnTo>
                            <a:pt x="59" y="46"/>
                          </a:lnTo>
                          <a:lnTo>
                            <a:pt x="64" y="38"/>
                          </a:lnTo>
                          <a:lnTo>
                            <a:pt x="45" y="10"/>
                          </a:lnTo>
                          <a:lnTo>
                            <a:pt x="43" y="0"/>
                          </a:lnTo>
                          <a:lnTo>
                            <a:pt x="0" y="8"/>
                          </a:lnTo>
                          <a:lnTo>
                            <a:pt x="5" y="226"/>
                          </a:lnTo>
                        </a:path>
                      </a:pathLst>
                    </a:custGeom>
                    <a:solidFill>
                      <a:srgbClr val="0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205240" y="1892160"/>
                      <a:ext cx="100080" cy="372960"/>
                    </a:xfrm>
                    <a:custGeom>
                      <a:avLst/>
                      <a:gdLst/>
                      <a:ahLst/>
                      <a:rect l="l" t="t" r="r" b="b"/>
                      <a:pathLst>
                        <a:path w="63" h="235">
                          <a:moveTo>
                            <a:pt x="0" y="8"/>
                          </a:moveTo>
                          <a:lnTo>
                            <a:pt x="2" y="93"/>
                          </a:lnTo>
                          <a:lnTo>
                            <a:pt x="4" y="222"/>
                          </a:lnTo>
                          <a:lnTo>
                            <a:pt x="28" y="233"/>
                          </a:lnTo>
                          <a:lnTo>
                            <a:pt x="16" y="181"/>
                          </a:lnTo>
                          <a:lnTo>
                            <a:pt x="12" y="152"/>
                          </a:lnTo>
                          <a:lnTo>
                            <a:pt x="11" y="129"/>
                          </a:lnTo>
                          <a:lnTo>
                            <a:pt x="16" y="159"/>
                          </a:lnTo>
                          <a:lnTo>
                            <a:pt x="22" y="193"/>
                          </a:lnTo>
                          <a:lnTo>
                            <a:pt x="33" y="233"/>
                          </a:lnTo>
                          <a:lnTo>
                            <a:pt x="49" y="234"/>
                          </a:lnTo>
                          <a:lnTo>
                            <a:pt x="52" y="180"/>
                          </a:lnTo>
                          <a:lnTo>
                            <a:pt x="54" y="147"/>
                          </a:lnTo>
                          <a:lnTo>
                            <a:pt x="54" y="125"/>
                          </a:lnTo>
                          <a:lnTo>
                            <a:pt x="56" y="150"/>
                          </a:lnTo>
                          <a:lnTo>
                            <a:pt x="52" y="232"/>
                          </a:lnTo>
                          <a:lnTo>
                            <a:pt x="58" y="219"/>
                          </a:lnTo>
                          <a:lnTo>
                            <a:pt x="60" y="183"/>
                          </a:lnTo>
                          <a:lnTo>
                            <a:pt x="61" y="148"/>
                          </a:lnTo>
                          <a:lnTo>
                            <a:pt x="62" y="110"/>
                          </a:lnTo>
                          <a:lnTo>
                            <a:pt x="60" y="82"/>
                          </a:lnTo>
                          <a:lnTo>
                            <a:pt x="54" y="46"/>
                          </a:lnTo>
                          <a:lnTo>
                            <a:pt x="50" y="50"/>
                          </a:lnTo>
                          <a:lnTo>
                            <a:pt x="58" y="37"/>
                          </a:lnTo>
                          <a:lnTo>
                            <a:pt x="36" y="0"/>
                          </a:lnTo>
                          <a:lnTo>
                            <a:pt x="27" y="2"/>
                          </a:lnTo>
                          <a:lnTo>
                            <a:pt x="33" y="18"/>
                          </a:lnTo>
                          <a:lnTo>
                            <a:pt x="37" y="37"/>
                          </a:lnTo>
                          <a:lnTo>
                            <a:pt x="39" y="60"/>
                          </a:lnTo>
                          <a:lnTo>
                            <a:pt x="32" y="26"/>
                          </a:lnTo>
                          <a:lnTo>
                            <a:pt x="28" y="15"/>
                          </a:lnTo>
                          <a:lnTo>
                            <a:pt x="23" y="1"/>
                          </a:lnTo>
                          <a:lnTo>
                            <a:pt x="16" y="2"/>
                          </a:lnTo>
                          <a:lnTo>
                            <a:pt x="23" y="19"/>
                          </a:lnTo>
                          <a:lnTo>
                            <a:pt x="26" y="38"/>
                          </a:lnTo>
                          <a:lnTo>
                            <a:pt x="28" y="52"/>
                          </a:lnTo>
                          <a:lnTo>
                            <a:pt x="19" y="19"/>
                          </a:lnTo>
                          <a:lnTo>
                            <a:pt x="13" y="4"/>
                          </a:lnTo>
                          <a:lnTo>
                            <a:pt x="0" y="8"/>
                          </a:lnTo>
                        </a:path>
                      </a:pathLst>
                    </a:custGeom>
                    <a:solidFill>
                      <a:srgbClr val="0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0" name=""/>
                  <p:cNvGrpSpPr/>
                  <p:nvPr/>
                </p:nvGrpSpPr>
                <p:grpSpPr>
                  <a:xfrm>
                    <a:off x="5138640" y="1569960"/>
                    <a:ext cx="125280" cy="174600"/>
                    <a:chOff x="5138640" y="1569960"/>
                    <a:chExt cx="125280" cy="174600"/>
                  </a:xfrm>
                </p:grpSpPr>
                <p:sp>
                  <p:nvSpPr>
                    <p:cNvPr id="1801" name=""/>
                    <p:cNvSpPr/>
                    <p:nvPr/>
                  </p:nvSpPr>
                  <p:spPr>
                    <a:xfrm>
                      <a:off x="5138640" y="1569960"/>
                      <a:ext cx="125280" cy="122400"/>
                    </a:xfrm>
                    <a:custGeom>
                      <a:avLst/>
                      <a:gdLst/>
                      <a:ahLst/>
                      <a:rect l="l" t="t" r="r" b="b"/>
                      <a:pathLst>
                        <a:path w="79" h="77">
                          <a:moveTo>
                            <a:pt x="42" y="0"/>
                          </a:moveTo>
                          <a:lnTo>
                            <a:pt x="35" y="0"/>
                          </a:lnTo>
                          <a:lnTo>
                            <a:pt x="28" y="1"/>
                          </a:lnTo>
                          <a:lnTo>
                            <a:pt x="22" y="3"/>
                          </a:lnTo>
                          <a:lnTo>
                            <a:pt x="15" y="6"/>
                          </a:lnTo>
                          <a:lnTo>
                            <a:pt x="10" y="9"/>
                          </a:lnTo>
                          <a:lnTo>
                            <a:pt x="6" y="13"/>
                          </a:lnTo>
                          <a:lnTo>
                            <a:pt x="5" y="17"/>
                          </a:lnTo>
                          <a:lnTo>
                            <a:pt x="5" y="23"/>
                          </a:lnTo>
                          <a:lnTo>
                            <a:pt x="6" y="27"/>
                          </a:lnTo>
                          <a:lnTo>
                            <a:pt x="3" y="33"/>
                          </a:lnTo>
                          <a:lnTo>
                            <a:pt x="0" y="38"/>
                          </a:lnTo>
                          <a:lnTo>
                            <a:pt x="0" y="43"/>
                          </a:lnTo>
                          <a:lnTo>
                            <a:pt x="1" y="49"/>
                          </a:lnTo>
                          <a:lnTo>
                            <a:pt x="5" y="53"/>
                          </a:lnTo>
                          <a:lnTo>
                            <a:pt x="10" y="55"/>
                          </a:lnTo>
                          <a:lnTo>
                            <a:pt x="11" y="57"/>
                          </a:lnTo>
                          <a:lnTo>
                            <a:pt x="12" y="60"/>
                          </a:lnTo>
                          <a:lnTo>
                            <a:pt x="11" y="63"/>
                          </a:lnTo>
                          <a:lnTo>
                            <a:pt x="11" y="67"/>
                          </a:lnTo>
                          <a:lnTo>
                            <a:pt x="7" y="71"/>
                          </a:lnTo>
                          <a:lnTo>
                            <a:pt x="10" y="71"/>
                          </a:lnTo>
                          <a:lnTo>
                            <a:pt x="11" y="73"/>
                          </a:lnTo>
                          <a:lnTo>
                            <a:pt x="13" y="72"/>
                          </a:lnTo>
                          <a:lnTo>
                            <a:pt x="16" y="74"/>
                          </a:lnTo>
                          <a:lnTo>
                            <a:pt x="19" y="74"/>
                          </a:lnTo>
                          <a:lnTo>
                            <a:pt x="23" y="76"/>
                          </a:lnTo>
                          <a:lnTo>
                            <a:pt x="53" y="74"/>
                          </a:lnTo>
                          <a:lnTo>
                            <a:pt x="57" y="74"/>
                          </a:lnTo>
                          <a:lnTo>
                            <a:pt x="59" y="72"/>
                          </a:lnTo>
                          <a:lnTo>
                            <a:pt x="62" y="73"/>
                          </a:lnTo>
                          <a:lnTo>
                            <a:pt x="64" y="71"/>
                          </a:lnTo>
                          <a:lnTo>
                            <a:pt x="66" y="72"/>
                          </a:lnTo>
                          <a:lnTo>
                            <a:pt x="67" y="70"/>
                          </a:lnTo>
                          <a:lnTo>
                            <a:pt x="69" y="71"/>
                          </a:lnTo>
                          <a:lnTo>
                            <a:pt x="72" y="70"/>
                          </a:lnTo>
                          <a:lnTo>
                            <a:pt x="68" y="67"/>
                          </a:lnTo>
                          <a:lnTo>
                            <a:pt x="66" y="64"/>
                          </a:lnTo>
                          <a:lnTo>
                            <a:pt x="64" y="60"/>
                          </a:lnTo>
                          <a:lnTo>
                            <a:pt x="67" y="58"/>
                          </a:lnTo>
                          <a:lnTo>
                            <a:pt x="72" y="55"/>
                          </a:lnTo>
                          <a:lnTo>
                            <a:pt x="75" y="52"/>
                          </a:lnTo>
                          <a:lnTo>
                            <a:pt x="76" y="47"/>
                          </a:lnTo>
                          <a:lnTo>
                            <a:pt x="77" y="38"/>
                          </a:lnTo>
                          <a:lnTo>
                            <a:pt x="78" y="31"/>
                          </a:lnTo>
                          <a:lnTo>
                            <a:pt x="76" y="24"/>
                          </a:lnTo>
                          <a:lnTo>
                            <a:pt x="74" y="19"/>
                          </a:lnTo>
                          <a:lnTo>
                            <a:pt x="70" y="13"/>
                          </a:lnTo>
                          <a:lnTo>
                            <a:pt x="64" y="7"/>
                          </a:lnTo>
                          <a:lnTo>
                            <a:pt x="58" y="4"/>
                          </a:lnTo>
                          <a:lnTo>
                            <a:pt x="51" y="1"/>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5175000" y="1677960"/>
                      <a:ext cx="54000" cy="66600"/>
                    </a:xfrm>
                    <a:custGeom>
                      <a:avLst/>
                      <a:gdLst/>
                      <a:ahLst/>
                      <a:rect l="l" t="t" r="r" b="b"/>
                      <a:pathLst>
                        <a:path w="34" h="42">
                          <a:moveTo>
                            <a:pt x="1" y="6"/>
                          </a:moveTo>
                          <a:lnTo>
                            <a:pt x="1" y="11"/>
                          </a:lnTo>
                          <a:lnTo>
                            <a:pt x="1" y="16"/>
                          </a:lnTo>
                          <a:lnTo>
                            <a:pt x="0" y="23"/>
                          </a:lnTo>
                          <a:lnTo>
                            <a:pt x="0" y="26"/>
                          </a:lnTo>
                          <a:lnTo>
                            <a:pt x="2" y="30"/>
                          </a:lnTo>
                          <a:lnTo>
                            <a:pt x="6" y="35"/>
                          </a:lnTo>
                          <a:lnTo>
                            <a:pt x="12" y="40"/>
                          </a:lnTo>
                          <a:lnTo>
                            <a:pt x="18" y="41"/>
                          </a:lnTo>
                          <a:lnTo>
                            <a:pt x="22" y="40"/>
                          </a:lnTo>
                          <a:lnTo>
                            <a:pt x="25" y="36"/>
                          </a:lnTo>
                          <a:lnTo>
                            <a:pt x="30" y="30"/>
                          </a:lnTo>
                          <a:lnTo>
                            <a:pt x="32" y="27"/>
                          </a:lnTo>
                          <a:lnTo>
                            <a:pt x="33" y="25"/>
                          </a:lnTo>
                          <a:lnTo>
                            <a:pt x="32" y="21"/>
                          </a:lnTo>
                          <a:lnTo>
                            <a:pt x="30" y="15"/>
                          </a:lnTo>
                          <a:lnTo>
                            <a:pt x="29" y="11"/>
                          </a:lnTo>
                          <a:lnTo>
                            <a:pt x="29" y="7"/>
                          </a:lnTo>
                          <a:lnTo>
                            <a:pt x="29" y="0"/>
                          </a:lnTo>
                          <a:lnTo>
                            <a:pt x="1" y="6"/>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3" name=""/>
                    <p:cNvSpPr/>
                    <p:nvPr/>
                  </p:nvSpPr>
                  <p:spPr>
                    <a:xfrm>
                      <a:off x="5162400" y="1612800"/>
                      <a:ext cx="73080" cy="87480"/>
                    </a:xfrm>
                    <a:custGeom>
                      <a:avLst/>
                      <a:gdLst/>
                      <a:ahLst/>
                      <a:rect l="l" t="t" r="r" b="b"/>
                      <a:pathLst>
                        <a:path w="46" h="55">
                          <a:moveTo>
                            <a:pt x="2" y="7"/>
                          </a:moveTo>
                          <a:lnTo>
                            <a:pt x="2" y="9"/>
                          </a:lnTo>
                          <a:lnTo>
                            <a:pt x="1" y="14"/>
                          </a:lnTo>
                          <a:lnTo>
                            <a:pt x="0" y="21"/>
                          </a:lnTo>
                          <a:lnTo>
                            <a:pt x="0" y="26"/>
                          </a:lnTo>
                          <a:lnTo>
                            <a:pt x="0" y="29"/>
                          </a:lnTo>
                          <a:lnTo>
                            <a:pt x="1" y="33"/>
                          </a:lnTo>
                          <a:lnTo>
                            <a:pt x="2" y="35"/>
                          </a:lnTo>
                          <a:lnTo>
                            <a:pt x="2" y="38"/>
                          </a:lnTo>
                          <a:lnTo>
                            <a:pt x="3" y="41"/>
                          </a:lnTo>
                          <a:lnTo>
                            <a:pt x="4" y="43"/>
                          </a:lnTo>
                          <a:lnTo>
                            <a:pt x="5" y="45"/>
                          </a:lnTo>
                          <a:lnTo>
                            <a:pt x="7" y="47"/>
                          </a:lnTo>
                          <a:lnTo>
                            <a:pt x="10" y="49"/>
                          </a:lnTo>
                          <a:lnTo>
                            <a:pt x="12" y="51"/>
                          </a:lnTo>
                          <a:lnTo>
                            <a:pt x="14" y="53"/>
                          </a:lnTo>
                          <a:lnTo>
                            <a:pt x="17" y="54"/>
                          </a:lnTo>
                          <a:lnTo>
                            <a:pt x="20" y="54"/>
                          </a:lnTo>
                          <a:lnTo>
                            <a:pt x="23" y="54"/>
                          </a:lnTo>
                          <a:lnTo>
                            <a:pt x="26" y="52"/>
                          </a:lnTo>
                          <a:lnTo>
                            <a:pt x="29" y="51"/>
                          </a:lnTo>
                          <a:lnTo>
                            <a:pt x="31" y="49"/>
                          </a:lnTo>
                          <a:lnTo>
                            <a:pt x="34" y="47"/>
                          </a:lnTo>
                          <a:lnTo>
                            <a:pt x="36" y="45"/>
                          </a:lnTo>
                          <a:lnTo>
                            <a:pt x="38" y="44"/>
                          </a:lnTo>
                          <a:lnTo>
                            <a:pt x="39" y="42"/>
                          </a:lnTo>
                          <a:lnTo>
                            <a:pt x="40" y="38"/>
                          </a:lnTo>
                          <a:lnTo>
                            <a:pt x="41" y="34"/>
                          </a:lnTo>
                          <a:lnTo>
                            <a:pt x="43" y="30"/>
                          </a:lnTo>
                          <a:lnTo>
                            <a:pt x="44" y="23"/>
                          </a:lnTo>
                          <a:lnTo>
                            <a:pt x="44" y="18"/>
                          </a:lnTo>
                          <a:lnTo>
                            <a:pt x="45" y="14"/>
                          </a:lnTo>
                          <a:lnTo>
                            <a:pt x="45" y="10"/>
                          </a:lnTo>
                          <a:lnTo>
                            <a:pt x="41" y="12"/>
                          </a:lnTo>
                          <a:lnTo>
                            <a:pt x="45" y="7"/>
                          </a:lnTo>
                          <a:lnTo>
                            <a:pt x="38" y="8"/>
                          </a:lnTo>
                          <a:lnTo>
                            <a:pt x="43" y="2"/>
                          </a:lnTo>
                          <a:lnTo>
                            <a:pt x="41" y="1"/>
                          </a:lnTo>
                          <a:lnTo>
                            <a:pt x="36" y="6"/>
                          </a:lnTo>
                          <a:lnTo>
                            <a:pt x="26" y="8"/>
                          </a:lnTo>
                          <a:lnTo>
                            <a:pt x="31" y="5"/>
                          </a:lnTo>
                          <a:lnTo>
                            <a:pt x="36" y="0"/>
                          </a:lnTo>
                          <a:lnTo>
                            <a:pt x="28" y="5"/>
                          </a:lnTo>
                          <a:lnTo>
                            <a:pt x="22" y="8"/>
                          </a:lnTo>
                          <a:lnTo>
                            <a:pt x="10" y="9"/>
                          </a:lnTo>
                          <a:lnTo>
                            <a:pt x="16" y="7"/>
                          </a:lnTo>
                          <a:lnTo>
                            <a:pt x="22" y="4"/>
                          </a:lnTo>
                          <a:lnTo>
                            <a:pt x="11" y="7"/>
                          </a:lnTo>
                          <a:lnTo>
                            <a:pt x="6" y="8"/>
                          </a:lnTo>
                          <a:lnTo>
                            <a:pt x="14" y="2"/>
                          </a:lnTo>
                          <a:lnTo>
                            <a:pt x="7" y="4"/>
                          </a:lnTo>
                          <a:lnTo>
                            <a:pt x="2" y="7"/>
                          </a:lnTo>
                        </a:path>
                      </a:pathLst>
                    </a:custGeom>
                    <a:solidFill>
                      <a:srgbClr val="ffc08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04" name=""/>
                    <p:cNvSpPr/>
                    <p:nvPr/>
                  </p:nvSpPr>
                  <p:spPr>
                    <a:xfrm>
                      <a:off x="5175000" y="1643040"/>
                      <a:ext cx="15840" cy="6120"/>
                    </a:xfrm>
                    <a:custGeom>
                      <a:avLst/>
                      <a:gdLst/>
                      <a:ahLst/>
                      <a:rect l="l" t="t" r="r" b="b"/>
                      <a:pathLst>
                        <a:path w="10" h="4">
                          <a:moveTo>
                            <a:pt x="0" y="1"/>
                          </a:moveTo>
                          <a:lnTo>
                            <a:pt x="1" y="2"/>
                          </a:lnTo>
                          <a:lnTo>
                            <a:pt x="3" y="3"/>
                          </a:lnTo>
                          <a:lnTo>
                            <a:pt x="5" y="3"/>
                          </a:lnTo>
                          <a:lnTo>
                            <a:pt x="7" y="2"/>
                          </a:lnTo>
                          <a:lnTo>
                            <a:pt x="9" y="2"/>
                          </a:lnTo>
                          <a:lnTo>
                            <a:pt x="7" y="1"/>
                          </a:lnTo>
                          <a:lnTo>
                            <a:pt x="5" y="0"/>
                          </a:lnTo>
                          <a:lnTo>
                            <a:pt x="2" y="0"/>
                          </a:lnTo>
                          <a:lnTo>
                            <a:pt x="0" y="1"/>
                          </a:lnTo>
                        </a:path>
                      </a:pathLst>
                    </a:custGeom>
                    <a:solidFill>
                      <a:srgbClr val="40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05" name=""/>
                    <p:cNvSpPr/>
                    <p:nvPr/>
                  </p:nvSpPr>
                  <p:spPr>
                    <a:xfrm>
                      <a:off x="5203440" y="1644480"/>
                      <a:ext cx="16200" cy="6480"/>
                    </a:xfrm>
                    <a:custGeom>
                      <a:avLst/>
                      <a:gdLst/>
                      <a:ahLst/>
                      <a:rect l="l" t="t" r="r" b="b"/>
                      <a:pathLst>
                        <a:path w="10" h="4">
                          <a:moveTo>
                            <a:pt x="0" y="1"/>
                          </a:moveTo>
                          <a:lnTo>
                            <a:pt x="1" y="1"/>
                          </a:lnTo>
                          <a:lnTo>
                            <a:pt x="2" y="3"/>
                          </a:lnTo>
                          <a:lnTo>
                            <a:pt x="4" y="3"/>
                          </a:lnTo>
                          <a:lnTo>
                            <a:pt x="6" y="3"/>
                          </a:lnTo>
                          <a:lnTo>
                            <a:pt x="7" y="2"/>
                          </a:lnTo>
                          <a:lnTo>
                            <a:pt x="9" y="1"/>
                          </a:lnTo>
                          <a:lnTo>
                            <a:pt x="7" y="0"/>
                          </a:lnTo>
                          <a:lnTo>
                            <a:pt x="5" y="0"/>
                          </a:lnTo>
                          <a:lnTo>
                            <a:pt x="2" y="0"/>
                          </a:lnTo>
                          <a:lnTo>
                            <a:pt x="0" y="1"/>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06" name=""/>
                    <p:cNvSpPr/>
                    <p:nvPr/>
                  </p:nvSpPr>
                  <p:spPr>
                    <a:xfrm>
                      <a:off x="5186160" y="1666800"/>
                      <a:ext cx="17280" cy="6480"/>
                    </a:xfrm>
                    <a:custGeom>
                      <a:avLst/>
                      <a:gdLst/>
                      <a:ahLst/>
                      <a:rect l="l" t="t" r="r" b="b"/>
                      <a:pathLst>
                        <a:path w="11" h="4">
                          <a:moveTo>
                            <a:pt x="0" y="0"/>
                          </a:moveTo>
                          <a:lnTo>
                            <a:pt x="3" y="0"/>
                          </a:lnTo>
                          <a:lnTo>
                            <a:pt x="5" y="1"/>
                          </a:lnTo>
                          <a:lnTo>
                            <a:pt x="5" y="1"/>
                          </a:lnTo>
                          <a:lnTo>
                            <a:pt x="7" y="1"/>
                          </a:lnTo>
                          <a:lnTo>
                            <a:pt x="10" y="0"/>
                          </a:lnTo>
                          <a:lnTo>
                            <a:pt x="9" y="1"/>
                          </a:lnTo>
                          <a:lnTo>
                            <a:pt x="7" y="2"/>
                          </a:lnTo>
                          <a:lnTo>
                            <a:pt x="6" y="3"/>
                          </a:lnTo>
                          <a:lnTo>
                            <a:pt x="4" y="3"/>
                          </a:lnTo>
                          <a:lnTo>
                            <a:pt x="3" y="2"/>
                          </a:lnTo>
                          <a:lnTo>
                            <a:pt x="1" y="1"/>
                          </a:lnTo>
                          <a:lnTo>
                            <a:pt x="0"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07" name=""/>
                    <p:cNvSpPr/>
                    <p:nvPr/>
                  </p:nvSpPr>
                  <p:spPr>
                    <a:xfrm>
                      <a:off x="5181480" y="1677960"/>
                      <a:ext cx="28440" cy="6120"/>
                    </a:xfrm>
                    <a:custGeom>
                      <a:avLst/>
                      <a:gdLst/>
                      <a:ahLst/>
                      <a:rect l="l" t="t" r="r" b="b"/>
                      <a:pathLst>
                        <a:path w="18" h="4">
                          <a:moveTo>
                            <a:pt x="0" y="2"/>
                          </a:moveTo>
                          <a:lnTo>
                            <a:pt x="0" y="0"/>
                          </a:lnTo>
                          <a:lnTo>
                            <a:pt x="1" y="1"/>
                          </a:lnTo>
                          <a:lnTo>
                            <a:pt x="3" y="1"/>
                          </a:lnTo>
                          <a:lnTo>
                            <a:pt x="5" y="1"/>
                          </a:lnTo>
                          <a:lnTo>
                            <a:pt x="7" y="2"/>
                          </a:lnTo>
                          <a:lnTo>
                            <a:pt x="9" y="1"/>
                          </a:lnTo>
                          <a:lnTo>
                            <a:pt x="11" y="2"/>
                          </a:lnTo>
                          <a:lnTo>
                            <a:pt x="13" y="2"/>
                          </a:lnTo>
                          <a:lnTo>
                            <a:pt x="17" y="2"/>
                          </a:lnTo>
                          <a:lnTo>
                            <a:pt x="17" y="3"/>
                          </a:lnTo>
                          <a:lnTo>
                            <a:pt x="15" y="3"/>
                          </a:lnTo>
                          <a:lnTo>
                            <a:pt x="8" y="3"/>
                          </a:lnTo>
                          <a:lnTo>
                            <a:pt x="4" y="2"/>
                          </a:lnTo>
                          <a:lnTo>
                            <a:pt x="1" y="2"/>
                          </a:lnTo>
                          <a:lnTo>
                            <a:pt x="0" y="2"/>
                          </a:lnTo>
                        </a:path>
                      </a:pathLst>
                    </a:custGeom>
                    <a:solidFill>
                      <a:srgbClr val="40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08" name=""/>
                    <p:cNvSpPr/>
                    <p:nvPr/>
                  </p:nvSpPr>
                  <p:spPr>
                    <a:xfrm>
                      <a:off x="5186160" y="1685880"/>
                      <a:ext cx="15840" cy="4680"/>
                    </a:xfrm>
                    <a:custGeom>
                      <a:avLst/>
                      <a:gdLst/>
                      <a:ahLst/>
                      <a:rect l="l" t="t" r="r" b="b"/>
                      <a:pathLst>
                        <a:path w="10" h="3">
                          <a:moveTo>
                            <a:pt x="0" y="0"/>
                          </a:moveTo>
                          <a:lnTo>
                            <a:pt x="2" y="1"/>
                          </a:lnTo>
                          <a:lnTo>
                            <a:pt x="5" y="1"/>
                          </a:lnTo>
                          <a:lnTo>
                            <a:pt x="7" y="1"/>
                          </a:lnTo>
                          <a:lnTo>
                            <a:pt x="9" y="1"/>
                          </a:lnTo>
                          <a:lnTo>
                            <a:pt x="6" y="2"/>
                          </a:lnTo>
                          <a:lnTo>
                            <a:pt x="3" y="2"/>
                          </a:lnTo>
                          <a:lnTo>
                            <a:pt x="1" y="1"/>
                          </a:lnTo>
                          <a:lnTo>
                            <a:pt x="0" y="0"/>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09" name=""/>
                    <p:cNvSpPr/>
                    <p:nvPr/>
                  </p:nvSpPr>
                  <p:spPr>
                    <a:xfrm>
                      <a:off x="5171760" y="1638360"/>
                      <a:ext cx="19080" cy="4680"/>
                    </a:xfrm>
                    <a:custGeom>
                      <a:avLst/>
                      <a:gdLst/>
                      <a:ahLst/>
                      <a:rect l="l" t="t" r="r" b="b"/>
                      <a:pathLst>
                        <a:path w="12" h="3">
                          <a:moveTo>
                            <a:pt x="0" y="1"/>
                          </a:moveTo>
                          <a:lnTo>
                            <a:pt x="5" y="1"/>
                          </a:lnTo>
                          <a:lnTo>
                            <a:pt x="8" y="1"/>
                          </a:lnTo>
                          <a:lnTo>
                            <a:pt x="11" y="2"/>
                          </a:lnTo>
                          <a:lnTo>
                            <a:pt x="10" y="1"/>
                          </a:lnTo>
                          <a:lnTo>
                            <a:pt x="9" y="0"/>
                          </a:lnTo>
                          <a:lnTo>
                            <a:pt x="8" y="0"/>
                          </a:lnTo>
                          <a:lnTo>
                            <a:pt x="6" y="0"/>
                          </a:lnTo>
                          <a:lnTo>
                            <a:pt x="4" y="0"/>
                          </a:lnTo>
                          <a:lnTo>
                            <a:pt x="0" y="1"/>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10" name=""/>
                    <p:cNvSpPr/>
                    <p:nvPr/>
                  </p:nvSpPr>
                  <p:spPr>
                    <a:xfrm>
                      <a:off x="5203440" y="1638360"/>
                      <a:ext cx="22320" cy="4680"/>
                    </a:xfrm>
                    <a:custGeom>
                      <a:avLst/>
                      <a:gdLst/>
                      <a:ahLst/>
                      <a:rect l="l" t="t" r="r" b="b"/>
                      <a:pathLst>
                        <a:path w="14" h="3">
                          <a:moveTo>
                            <a:pt x="0" y="2"/>
                          </a:moveTo>
                          <a:lnTo>
                            <a:pt x="3" y="2"/>
                          </a:lnTo>
                          <a:lnTo>
                            <a:pt x="7" y="1"/>
                          </a:lnTo>
                          <a:lnTo>
                            <a:pt x="13" y="2"/>
                          </a:lnTo>
                          <a:lnTo>
                            <a:pt x="9" y="1"/>
                          </a:lnTo>
                          <a:lnTo>
                            <a:pt x="7" y="1"/>
                          </a:lnTo>
                          <a:lnTo>
                            <a:pt x="4" y="1"/>
                          </a:lnTo>
                          <a:lnTo>
                            <a:pt x="2" y="0"/>
                          </a:lnTo>
                          <a:lnTo>
                            <a:pt x="0" y="1"/>
                          </a:lnTo>
                          <a:lnTo>
                            <a:pt x="0" y="2"/>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11" name=""/>
                    <p:cNvSpPr/>
                    <p:nvPr/>
                  </p:nvSpPr>
                  <p:spPr>
                    <a:xfrm>
                      <a:off x="5182920" y="1644480"/>
                      <a:ext cx="4680" cy="3240"/>
                    </a:xfrm>
                    <a:custGeom>
                      <a:avLst/>
                      <a:gdLst/>
                      <a:ahLst/>
                      <a:rect l="l" t="t" r="r" b="b"/>
                      <a:pathLst>
                        <a:path w="3" h="2">
                          <a:moveTo>
                            <a:pt x="0" y="0"/>
                          </a:moveTo>
                          <a:lnTo>
                            <a:pt x="0" y="1"/>
                          </a:lnTo>
                          <a:lnTo>
                            <a:pt x="2" y="0"/>
                          </a:lnTo>
                          <a:lnTo>
                            <a:pt x="0" y="0"/>
                          </a:lnTo>
                        </a:path>
                      </a:pathLst>
                    </a:custGeom>
                    <a:solidFill>
                      <a:srgbClr val="ffc08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2" name=""/>
                    <p:cNvSpPr/>
                    <p:nvPr/>
                  </p:nvSpPr>
                  <p:spPr>
                    <a:xfrm>
                      <a:off x="5213160" y="1646280"/>
                      <a:ext cx="3240" cy="2880"/>
                    </a:xfrm>
                    <a:custGeom>
                      <a:avLst/>
                      <a:gdLst/>
                      <a:ahLst/>
                      <a:rect l="l" t="t" r="r" b="b"/>
                      <a:pathLst>
                        <a:path w="2" h="2">
                          <a:moveTo>
                            <a:pt x="0" y="0"/>
                          </a:moveTo>
                          <a:lnTo>
                            <a:pt x="0" y="1"/>
                          </a:lnTo>
                          <a:lnTo>
                            <a:pt x="1" y="0"/>
                          </a:lnTo>
                          <a:lnTo>
                            <a:pt x="0" y="0"/>
                          </a:lnTo>
                        </a:path>
                      </a:pathLst>
                    </a:custGeom>
                    <a:solidFill>
                      <a:srgbClr val="ffc08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13" name=""/>
                    <p:cNvSpPr/>
                    <p:nvPr/>
                  </p:nvSpPr>
                  <p:spPr>
                    <a:xfrm>
                      <a:off x="5138640" y="1571400"/>
                      <a:ext cx="91800" cy="65160"/>
                    </a:xfrm>
                    <a:custGeom>
                      <a:avLst/>
                      <a:gdLst/>
                      <a:ahLst/>
                      <a:rect l="l" t="t" r="r" b="b"/>
                      <a:pathLst>
                        <a:path w="58" h="41">
                          <a:moveTo>
                            <a:pt x="13" y="24"/>
                          </a:moveTo>
                          <a:lnTo>
                            <a:pt x="21" y="26"/>
                          </a:lnTo>
                          <a:lnTo>
                            <a:pt x="28" y="26"/>
                          </a:lnTo>
                          <a:lnTo>
                            <a:pt x="36" y="24"/>
                          </a:lnTo>
                          <a:lnTo>
                            <a:pt x="43" y="20"/>
                          </a:lnTo>
                          <a:lnTo>
                            <a:pt x="50" y="15"/>
                          </a:lnTo>
                          <a:lnTo>
                            <a:pt x="56" y="10"/>
                          </a:lnTo>
                          <a:lnTo>
                            <a:pt x="57" y="5"/>
                          </a:lnTo>
                          <a:lnTo>
                            <a:pt x="55" y="3"/>
                          </a:lnTo>
                          <a:lnTo>
                            <a:pt x="48" y="0"/>
                          </a:lnTo>
                          <a:lnTo>
                            <a:pt x="37" y="0"/>
                          </a:lnTo>
                          <a:lnTo>
                            <a:pt x="33" y="3"/>
                          </a:lnTo>
                          <a:lnTo>
                            <a:pt x="28" y="8"/>
                          </a:lnTo>
                          <a:lnTo>
                            <a:pt x="22" y="9"/>
                          </a:lnTo>
                          <a:lnTo>
                            <a:pt x="18" y="9"/>
                          </a:lnTo>
                          <a:lnTo>
                            <a:pt x="26" y="8"/>
                          </a:lnTo>
                          <a:lnTo>
                            <a:pt x="30" y="4"/>
                          </a:lnTo>
                          <a:lnTo>
                            <a:pt x="35" y="0"/>
                          </a:lnTo>
                          <a:lnTo>
                            <a:pt x="28" y="1"/>
                          </a:lnTo>
                          <a:lnTo>
                            <a:pt x="16" y="4"/>
                          </a:lnTo>
                          <a:lnTo>
                            <a:pt x="11" y="8"/>
                          </a:lnTo>
                          <a:lnTo>
                            <a:pt x="7" y="12"/>
                          </a:lnTo>
                          <a:lnTo>
                            <a:pt x="6" y="16"/>
                          </a:lnTo>
                          <a:lnTo>
                            <a:pt x="6" y="19"/>
                          </a:lnTo>
                          <a:lnTo>
                            <a:pt x="7" y="23"/>
                          </a:lnTo>
                          <a:lnTo>
                            <a:pt x="6" y="27"/>
                          </a:lnTo>
                          <a:lnTo>
                            <a:pt x="4" y="29"/>
                          </a:lnTo>
                          <a:lnTo>
                            <a:pt x="2" y="33"/>
                          </a:lnTo>
                          <a:lnTo>
                            <a:pt x="0" y="36"/>
                          </a:lnTo>
                          <a:lnTo>
                            <a:pt x="0" y="40"/>
                          </a:lnTo>
                          <a:lnTo>
                            <a:pt x="1" y="37"/>
                          </a:lnTo>
                          <a:lnTo>
                            <a:pt x="4" y="32"/>
                          </a:lnTo>
                          <a:lnTo>
                            <a:pt x="7" y="28"/>
                          </a:lnTo>
                          <a:lnTo>
                            <a:pt x="8" y="24"/>
                          </a:lnTo>
                          <a:lnTo>
                            <a:pt x="9" y="21"/>
                          </a:lnTo>
                          <a:lnTo>
                            <a:pt x="10" y="20"/>
                          </a:lnTo>
                          <a:lnTo>
                            <a:pt x="13" y="20"/>
                          </a:lnTo>
                          <a:lnTo>
                            <a:pt x="17" y="20"/>
                          </a:lnTo>
                          <a:lnTo>
                            <a:pt x="23" y="19"/>
                          </a:lnTo>
                          <a:lnTo>
                            <a:pt x="30" y="16"/>
                          </a:lnTo>
                          <a:lnTo>
                            <a:pt x="33" y="13"/>
                          </a:lnTo>
                          <a:lnTo>
                            <a:pt x="29" y="16"/>
                          </a:lnTo>
                          <a:lnTo>
                            <a:pt x="22" y="18"/>
                          </a:lnTo>
                          <a:lnTo>
                            <a:pt x="17" y="18"/>
                          </a:lnTo>
                          <a:lnTo>
                            <a:pt x="14" y="18"/>
                          </a:lnTo>
                          <a:lnTo>
                            <a:pt x="21" y="17"/>
                          </a:lnTo>
                          <a:lnTo>
                            <a:pt x="26" y="16"/>
                          </a:lnTo>
                          <a:lnTo>
                            <a:pt x="30" y="13"/>
                          </a:lnTo>
                          <a:lnTo>
                            <a:pt x="34" y="11"/>
                          </a:lnTo>
                          <a:lnTo>
                            <a:pt x="33" y="14"/>
                          </a:lnTo>
                          <a:lnTo>
                            <a:pt x="29" y="18"/>
                          </a:lnTo>
                          <a:lnTo>
                            <a:pt x="22" y="21"/>
                          </a:lnTo>
                          <a:lnTo>
                            <a:pt x="17" y="23"/>
                          </a:lnTo>
                          <a:lnTo>
                            <a:pt x="13" y="24"/>
                          </a:lnTo>
                        </a:path>
                      </a:pathLst>
                    </a:custGeom>
                    <a:solidFill>
                      <a:srgbClr val="603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14" name=""/>
                    <p:cNvSpPr/>
                    <p:nvPr/>
                  </p:nvSpPr>
                  <p:spPr>
                    <a:xfrm>
                      <a:off x="5200560" y="1576440"/>
                      <a:ext cx="61920" cy="72720"/>
                    </a:xfrm>
                    <a:custGeom>
                      <a:avLst/>
                      <a:gdLst/>
                      <a:ahLst/>
                      <a:rect l="l" t="t" r="r" b="b"/>
                      <a:pathLst>
                        <a:path w="39" h="46">
                          <a:moveTo>
                            <a:pt x="9" y="16"/>
                          </a:moveTo>
                          <a:lnTo>
                            <a:pt x="6" y="19"/>
                          </a:lnTo>
                          <a:lnTo>
                            <a:pt x="0" y="24"/>
                          </a:lnTo>
                          <a:lnTo>
                            <a:pt x="6" y="24"/>
                          </a:lnTo>
                          <a:lnTo>
                            <a:pt x="11" y="22"/>
                          </a:lnTo>
                          <a:lnTo>
                            <a:pt x="16" y="20"/>
                          </a:lnTo>
                          <a:lnTo>
                            <a:pt x="11" y="24"/>
                          </a:lnTo>
                          <a:lnTo>
                            <a:pt x="9" y="26"/>
                          </a:lnTo>
                          <a:lnTo>
                            <a:pt x="16" y="24"/>
                          </a:lnTo>
                          <a:lnTo>
                            <a:pt x="19" y="21"/>
                          </a:lnTo>
                          <a:lnTo>
                            <a:pt x="26" y="17"/>
                          </a:lnTo>
                          <a:lnTo>
                            <a:pt x="22" y="22"/>
                          </a:lnTo>
                          <a:lnTo>
                            <a:pt x="19" y="26"/>
                          </a:lnTo>
                          <a:lnTo>
                            <a:pt x="16" y="28"/>
                          </a:lnTo>
                          <a:lnTo>
                            <a:pt x="20" y="28"/>
                          </a:lnTo>
                          <a:lnTo>
                            <a:pt x="24" y="26"/>
                          </a:lnTo>
                          <a:lnTo>
                            <a:pt x="27" y="24"/>
                          </a:lnTo>
                          <a:lnTo>
                            <a:pt x="25" y="28"/>
                          </a:lnTo>
                          <a:lnTo>
                            <a:pt x="22" y="31"/>
                          </a:lnTo>
                          <a:lnTo>
                            <a:pt x="19" y="32"/>
                          </a:lnTo>
                          <a:lnTo>
                            <a:pt x="23" y="32"/>
                          </a:lnTo>
                          <a:lnTo>
                            <a:pt x="27" y="31"/>
                          </a:lnTo>
                          <a:lnTo>
                            <a:pt x="27" y="32"/>
                          </a:lnTo>
                          <a:lnTo>
                            <a:pt x="23" y="35"/>
                          </a:lnTo>
                          <a:lnTo>
                            <a:pt x="28" y="32"/>
                          </a:lnTo>
                          <a:lnTo>
                            <a:pt x="27" y="34"/>
                          </a:lnTo>
                          <a:lnTo>
                            <a:pt x="25" y="38"/>
                          </a:lnTo>
                          <a:lnTo>
                            <a:pt x="23" y="41"/>
                          </a:lnTo>
                          <a:lnTo>
                            <a:pt x="29" y="37"/>
                          </a:lnTo>
                          <a:lnTo>
                            <a:pt x="32" y="34"/>
                          </a:lnTo>
                          <a:lnTo>
                            <a:pt x="30" y="39"/>
                          </a:lnTo>
                          <a:lnTo>
                            <a:pt x="27" y="42"/>
                          </a:lnTo>
                          <a:lnTo>
                            <a:pt x="25" y="45"/>
                          </a:lnTo>
                          <a:lnTo>
                            <a:pt x="34" y="40"/>
                          </a:lnTo>
                          <a:lnTo>
                            <a:pt x="38" y="34"/>
                          </a:lnTo>
                          <a:lnTo>
                            <a:pt x="38" y="28"/>
                          </a:lnTo>
                          <a:lnTo>
                            <a:pt x="36" y="21"/>
                          </a:lnTo>
                          <a:lnTo>
                            <a:pt x="34" y="14"/>
                          </a:lnTo>
                          <a:lnTo>
                            <a:pt x="32" y="11"/>
                          </a:lnTo>
                          <a:lnTo>
                            <a:pt x="32" y="13"/>
                          </a:lnTo>
                          <a:lnTo>
                            <a:pt x="29" y="19"/>
                          </a:lnTo>
                          <a:lnTo>
                            <a:pt x="30" y="14"/>
                          </a:lnTo>
                          <a:lnTo>
                            <a:pt x="30" y="10"/>
                          </a:lnTo>
                          <a:lnTo>
                            <a:pt x="29" y="7"/>
                          </a:lnTo>
                          <a:lnTo>
                            <a:pt x="26" y="5"/>
                          </a:lnTo>
                          <a:lnTo>
                            <a:pt x="26" y="10"/>
                          </a:lnTo>
                          <a:lnTo>
                            <a:pt x="24" y="13"/>
                          </a:lnTo>
                          <a:lnTo>
                            <a:pt x="20" y="17"/>
                          </a:lnTo>
                          <a:lnTo>
                            <a:pt x="24" y="13"/>
                          </a:lnTo>
                          <a:lnTo>
                            <a:pt x="25" y="9"/>
                          </a:lnTo>
                          <a:lnTo>
                            <a:pt x="25" y="5"/>
                          </a:lnTo>
                          <a:lnTo>
                            <a:pt x="23" y="3"/>
                          </a:lnTo>
                          <a:lnTo>
                            <a:pt x="20" y="1"/>
                          </a:lnTo>
                          <a:lnTo>
                            <a:pt x="18" y="1"/>
                          </a:lnTo>
                          <a:lnTo>
                            <a:pt x="17" y="0"/>
                          </a:lnTo>
                          <a:lnTo>
                            <a:pt x="18" y="4"/>
                          </a:lnTo>
                          <a:lnTo>
                            <a:pt x="17" y="10"/>
                          </a:lnTo>
                          <a:lnTo>
                            <a:pt x="12" y="14"/>
                          </a:lnTo>
                          <a:lnTo>
                            <a:pt x="9" y="16"/>
                          </a:lnTo>
                        </a:path>
                      </a:pathLst>
                    </a:custGeom>
                    <a:solidFill>
                      <a:srgbClr val="603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15" name=""/>
                    <p:cNvSpPr/>
                    <p:nvPr/>
                  </p:nvSpPr>
                  <p:spPr>
                    <a:xfrm>
                      <a:off x="5138640" y="1609560"/>
                      <a:ext cx="28440" cy="50760"/>
                    </a:xfrm>
                    <a:custGeom>
                      <a:avLst/>
                      <a:gdLst/>
                      <a:ahLst/>
                      <a:rect l="l" t="t" r="r" b="b"/>
                      <a:pathLst>
                        <a:path w="18" h="32">
                          <a:moveTo>
                            <a:pt x="17" y="4"/>
                          </a:moveTo>
                          <a:lnTo>
                            <a:pt x="12" y="5"/>
                          </a:lnTo>
                          <a:lnTo>
                            <a:pt x="11" y="4"/>
                          </a:lnTo>
                          <a:lnTo>
                            <a:pt x="6" y="3"/>
                          </a:lnTo>
                          <a:lnTo>
                            <a:pt x="8" y="6"/>
                          </a:lnTo>
                          <a:lnTo>
                            <a:pt x="11" y="8"/>
                          </a:lnTo>
                          <a:lnTo>
                            <a:pt x="13" y="8"/>
                          </a:lnTo>
                          <a:lnTo>
                            <a:pt x="11" y="9"/>
                          </a:lnTo>
                          <a:lnTo>
                            <a:pt x="6" y="8"/>
                          </a:lnTo>
                          <a:lnTo>
                            <a:pt x="4" y="7"/>
                          </a:lnTo>
                          <a:lnTo>
                            <a:pt x="8" y="9"/>
                          </a:lnTo>
                          <a:lnTo>
                            <a:pt x="11" y="10"/>
                          </a:lnTo>
                          <a:lnTo>
                            <a:pt x="13" y="10"/>
                          </a:lnTo>
                          <a:lnTo>
                            <a:pt x="11" y="10"/>
                          </a:lnTo>
                          <a:lnTo>
                            <a:pt x="8" y="10"/>
                          </a:lnTo>
                          <a:lnTo>
                            <a:pt x="5" y="10"/>
                          </a:lnTo>
                          <a:lnTo>
                            <a:pt x="8" y="11"/>
                          </a:lnTo>
                          <a:lnTo>
                            <a:pt x="11" y="12"/>
                          </a:lnTo>
                          <a:lnTo>
                            <a:pt x="16" y="11"/>
                          </a:lnTo>
                          <a:lnTo>
                            <a:pt x="13" y="13"/>
                          </a:lnTo>
                          <a:lnTo>
                            <a:pt x="10" y="16"/>
                          </a:lnTo>
                          <a:lnTo>
                            <a:pt x="5" y="17"/>
                          </a:lnTo>
                          <a:lnTo>
                            <a:pt x="8" y="17"/>
                          </a:lnTo>
                          <a:lnTo>
                            <a:pt x="11" y="17"/>
                          </a:lnTo>
                          <a:lnTo>
                            <a:pt x="13" y="16"/>
                          </a:lnTo>
                          <a:lnTo>
                            <a:pt x="16" y="14"/>
                          </a:lnTo>
                          <a:lnTo>
                            <a:pt x="13" y="18"/>
                          </a:lnTo>
                          <a:lnTo>
                            <a:pt x="11" y="19"/>
                          </a:lnTo>
                          <a:lnTo>
                            <a:pt x="8" y="20"/>
                          </a:lnTo>
                          <a:lnTo>
                            <a:pt x="2" y="20"/>
                          </a:lnTo>
                          <a:lnTo>
                            <a:pt x="8" y="21"/>
                          </a:lnTo>
                          <a:lnTo>
                            <a:pt x="12" y="20"/>
                          </a:lnTo>
                          <a:lnTo>
                            <a:pt x="15" y="18"/>
                          </a:lnTo>
                          <a:lnTo>
                            <a:pt x="14" y="22"/>
                          </a:lnTo>
                          <a:lnTo>
                            <a:pt x="11" y="25"/>
                          </a:lnTo>
                          <a:lnTo>
                            <a:pt x="10" y="25"/>
                          </a:lnTo>
                          <a:lnTo>
                            <a:pt x="13" y="24"/>
                          </a:lnTo>
                          <a:lnTo>
                            <a:pt x="15" y="23"/>
                          </a:lnTo>
                          <a:lnTo>
                            <a:pt x="14" y="27"/>
                          </a:lnTo>
                          <a:lnTo>
                            <a:pt x="11" y="28"/>
                          </a:lnTo>
                          <a:lnTo>
                            <a:pt x="11" y="29"/>
                          </a:lnTo>
                          <a:lnTo>
                            <a:pt x="15" y="28"/>
                          </a:lnTo>
                          <a:lnTo>
                            <a:pt x="12" y="31"/>
                          </a:lnTo>
                          <a:lnTo>
                            <a:pt x="10" y="30"/>
                          </a:lnTo>
                          <a:lnTo>
                            <a:pt x="7" y="28"/>
                          </a:lnTo>
                          <a:lnTo>
                            <a:pt x="3" y="25"/>
                          </a:lnTo>
                          <a:lnTo>
                            <a:pt x="6" y="24"/>
                          </a:lnTo>
                          <a:lnTo>
                            <a:pt x="8" y="23"/>
                          </a:lnTo>
                          <a:lnTo>
                            <a:pt x="5" y="23"/>
                          </a:lnTo>
                          <a:lnTo>
                            <a:pt x="2" y="23"/>
                          </a:lnTo>
                          <a:lnTo>
                            <a:pt x="1" y="23"/>
                          </a:lnTo>
                          <a:lnTo>
                            <a:pt x="0" y="21"/>
                          </a:lnTo>
                          <a:lnTo>
                            <a:pt x="0" y="19"/>
                          </a:lnTo>
                          <a:lnTo>
                            <a:pt x="0" y="14"/>
                          </a:lnTo>
                          <a:lnTo>
                            <a:pt x="1" y="11"/>
                          </a:lnTo>
                          <a:lnTo>
                            <a:pt x="2" y="10"/>
                          </a:lnTo>
                          <a:lnTo>
                            <a:pt x="6" y="12"/>
                          </a:lnTo>
                          <a:lnTo>
                            <a:pt x="4" y="11"/>
                          </a:lnTo>
                          <a:lnTo>
                            <a:pt x="3" y="9"/>
                          </a:lnTo>
                          <a:lnTo>
                            <a:pt x="3" y="7"/>
                          </a:lnTo>
                          <a:lnTo>
                            <a:pt x="4" y="5"/>
                          </a:lnTo>
                          <a:lnTo>
                            <a:pt x="5" y="3"/>
                          </a:lnTo>
                          <a:lnTo>
                            <a:pt x="7" y="1"/>
                          </a:lnTo>
                          <a:lnTo>
                            <a:pt x="8" y="0"/>
                          </a:lnTo>
                          <a:lnTo>
                            <a:pt x="11" y="2"/>
                          </a:lnTo>
                          <a:lnTo>
                            <a:pt x="11" y="3"/>
                          </a:lnTo>
                          <a:lnTo>
                            <a:pt x="17" y="4"/>
                          </a:lnTo>
                        </a:path>
                      </a:pathLst>
                    </a:custGeom>
                    <a:solidFill>
                      <a:srgbClr val="603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6" name=""/>
                    <p:cNvSpPr/>
                    <p:nvPr/>
                  </p:nvSpPr>
                  <p:spPr>
                    <a:xfrm>
                      <a:off x="5229000" y="1638360"/>
                      <a:ext cx="31680" cy="33120"/>
                    </a:xfrm>
                    <a:custGeom>
                      <a:avLst/>
                      <a:gdLst/>
                      <a:ahLst/>
                      <a:rect l="l" t="t" r="r" b="b"/>
                      <a:pathLst>
                        <a:path w="20" h="21">
                          <a:moveTo>
                            <a:pt x="18" y="0"/>
                          </a:moveTo>
                          <a:lnTo>
                            <a:pt x="13" y="5"/>
                          </a:lnTo>
                          <a:lnTo>
                            <a:pt x="9" y="7"/>
                          </a:lnTo>
                          <a:lnTo>
                            <a:pt x="4" y="9"/>
                          </a:lnTo>
                          <a:lnTo>
                            <a:pt x="8" y="9"/>
                          </a:lnTo>
                          <a:lnTo>
                            <a:pt x="13" y="8"/>
                          </a:lnTo>
                          <a:lnTo>
                            <a:pt x="9" y="9"/>
                          </a:lnTo>
                          <a:lnTo>
                            <a:pt x="7" y="10"/>
                          </a:lnTo>
                          <a:lnTo>
                            <a:pt x="3" y="11"/>
                          </a:lnTo>
                          <a:lnTo>
                            <a:pt x="2" y="11"/>
                          </a:lnTo>
                          <a:lnTo>
                            <a:pt x="4" y="11"/>
                          </a:lnTo>
                          <a:lnTo>
                            <a:pt x="9" y="11"/>
                          </a:lnTo>
                          <a:lnTo>
                            <a:pt x="11" y="10"/>
                          </a:lnTo>
                          <a:lnTo>
                            <a:pt x="9" y="11"/>
                          </a:lnTo>
                          <a:lnTo>
                            <a:pt x="5" y="13"/>
                          </a:lnTo>
                          <a:lnTo>
                            <a:pt x="1" y="14"/>
                          </a:lnTo>
                          <a:lnTo>
                            <a:pt x="5" y="14"/>
                          </a:lnTo>
                          <a:lnTo>
                            <a:pt x="9" y="13"/>
                          </a:lnTo>
                          <a:lnTo>
                            <a:pt x="7" y="14"/>
                          </a:lnTo>
                          <a:lnTo>
                            <a:pt x="3" y="15"/>
                          </a:lnTo>
                          <a:lnTo>
                            <a:pt x="0" y="16"/>
                          </a:lnTo>
                          <a:lnTo>
                            <a:pt x="5" y="16"/>
                          </a:lnTo>
                          <a:lnTo>
                            <a:pt x="9" y="15"/>
                          </a:lnTo>
                          <a:lnTo>
                            <a:pt x="1" y="19"/>
                          </a:lnTo>
                          <a:lnTo>
                            <a:pt x="0" y="20"/>
                          </a:lnTo>
                          <a:lnTo>
                            <a:pt x="5" y="18"/>
                          </a:lnTo>
                          <a:lnTo>
                            <a:pt x="9" y="16"/>
                          </a:lnTo>
                          <a:lnTo>
                            <a:pt x="13" y="13"/>
                          </a:lnTo>
                          <a:lnTo>
                            <a:pt x="18" y="10"/>
                          </a:lnTo>
                          <a:lnTo>
                            <a:pt x="16" y="11"/>
                          </a:lnTo>
                          <a:lnTo>
                            <a:pt x="10" y="12"/>
                          </a:lnTo>
                          <a:lnTo>
                            <a:pt x="14" y="11"/>
                          </a:lnTo>
                          <a:lnTo>
                            <a:pt x="17" y="9"/>
                          </a:lnTo>
                          <a:lnTo>
                            <a:pt x="19" y="6"/>
                          </a:lnTo>
                          <a:lnTo>
                            <a:pt x="16" y="8"/>
                          </a:lnTo>
                          <a:lnTo>
                            <a:pt x="13" y="9"/>
                          </a:lnTo>
                          <a:lnTo>
                            <a:pt x="16" y="7"/>
                          </a:lnTo>
                          <a:lnTo>
                            <a:pt x="18" y="4"/>
                          </a:lnTo>
                          <a:lnTo>
                            <a:pt x="18" y="0"/>
                          </a:lnTo>
                        </a:path>
                      </a:pathLst>
                    </a:custGeom>
                    <a:solidFill>
                      <a:srgbClr val="603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17" name=""/>
                    <p:cNvSpPr/>
                    <p:nvPr/>
                  </p:nvSpPr>
                  <p:spPr>
                    <a:xfrm>
                      <a:off x="5240160" y="1668240"/>
                      <a:ext cx="12600" cy="14400"/>
                    </a:xfrm>
                    <a:custGeom>
                      <a:avLst/>
                      <a:gdLst/>
                      <a:ahLst/>
                      <a:rect l="l" t="t" r="r" b="b"/>
                      <a:pathLst>
                        <a:path w="8" h="9">
                          <a:moveTo>
                            <a:pt x="0" y="0"/>
                          </a:moveTo>
                          <a:lnTo>
                            <a:pt x="2" y="4"/>
                          </a:lnTo>
                          <a:lnTo>
                            <a:pt x="4" y="6"/>
                          </a:lnTo>
                          <a:lnTo>
                            <a:pt x="7" y="8"/>
                          </a:lnTo>
                          <a:lnTo>
                            <a:pt x="2" y="6"/>
                          </a:lnTo>
                          <a:lnTo>
                            <a:pt x="0" y="5"/>
                          </a:lnTo>
                          <a:lnTo>
                            <a:pt x="0" y="0"/>
                          </a:lnTo>
                        </a:path>
                      </a:pathLst>
                    </a:custGeom>
                    <a:solidFill>
                      <a:srgbClr val="603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18" name=""/>
                    <p:cNvSpPr/>
                    <p:nvPr/>
                  </p:nvSpPr>
                  <p:spPr>
                    <a:xfrm>
                      <a:off x="5235480" y="1673280"/>
                      <a:ext cx="11160" cy="10800"/>
                    </a:xfrm>
                    <a:custGeom>
                      <a:avLst/>
                      <a:gdLst/>
                      <a:ahLst/>
                      <a:rect l="l" t="t" r="r" b="b"/>
                      <a:pathLst>
                        <a:path w="7" h="7">
                          <a:moveTo>
                            <a:pt x="0" y="0"/>
                          </a:moveTo>
                          <a:lnTo>
                            <a:pt x="1" y="2"/>
                          </a:lnTo>
                          <a:lnTo>
                            <a:pt x="4" y="4"/>
                          </a:lnTo>
                          <a:lnTo>
                            <a:pt x="6" y="6"/>
                          </a:lnTo>
                          <a:lnTo>
                            <a:pt x="2" y="4"/>
                          </a:lnTo>
                          <a:lnTo>
                            <a:pt x="1" y="4"/>
                          </a:lnTo>
                          <a:lnTo>
                            <a:pt x="0" y="0"/>
                          </a:lnTo>
                        </a:path>
                      </a:pathLst>
                    </a:custGeom>
                    <a:solidFill>
                      <a:srgbClr val="603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19" name=""/>
                    <p:cNvSpPr/>
                    <p:nvPr/>
                  </p:nvSpPr>
                  <p:spPr>
                    <a:xfrm>
                      <a:off x="5230440" y="1676160"/>
                      <a:ext cx="6480" cy="9720"/>
                    </a:xfrm>
                    <a:custGeom>
                      <a:avLst/>
                      <a:gdLst/>
                      <a:ahLst/>
                      <a:rect l="l" t="t" r="r" b="b"/>
                      <a:pathLst>
                        <a:path w="4" h="6">
                          <a:moveTo>
                            <a:pt x="2" y="0"/>
                          </a:moveTo>
                          <a:lnTo>
                            <a:pt x="2" y="2"/>
                          </a:lnTo>
                          <a:lnTo>
                            <a:pt x="3" y="5"/>
                          </a:lnTo>
                          <a:lnTo>
                            <a:pt x="0" y="3"/>
                          </a:lnTo>
                          <a:lnTo>
                            <a:pt x="2" y="0"/>
                          </a:lnTo>
                        </a:path>
                      </a:pathLst>
                    </a:custGeom>
                    <a:solidFill>
                      <a:srgbClr val="603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0" name=""/>
                    <p:cNvSpPr/>
                    <p:nvPr/>
                  </p:nvSpPr>
                  <p:spPr>
                    <a:xfrm>
                      <a:off x="5225760" y="1673280"/>
                      <a:ext cx="6480" cy="15840"/>
                    </a:xfrm>
                    <a:custGeom>
                      <a:avLst/>
                      <a:gdLst/>
                      <a:ahLst/>
                      <a:rect l="l" t="t" r="r" b="b"/>
                      <a:pathLst>
                        <a:path w="4" h="10">
                          <a:moveTo>
                            <a:pt x="3" y="0"/>
                          </a:moveTo>
                          <a:lnTo>
                            <a:pt x="1" y="3"/>
                          </a:lnTo>
                          <a:lnTo>
                            <a:pt x="1" y="7"/>
                          </a:lnTo>
                          <a:lnTo>
                            <a:pt x="1" y="9"/>
                          </a:lnTo>
                          <a:lnTo>
                            <a:pt x="0" y="7"/>
                          </a:lnTo>
                          <a:lnTo>
                            <a:pt x="0" y="4"/>
                          </a:lnTo>
                          <a:lnTo>
                            <a:pt x="1" y="3"/>
                          </a:lnTo>
                          <a:lnTo>
                            <a:pt x="3" y="0"/>
                          </a:lnTo>
                        </a:path>
                      </a:pathLst>
                    </a:custGeom>
                    <a:solidFill>
                      <a:srgbClr val="603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21" name=""/>
                    <p:cNvSpPr/>
                    <p:nvPr/>
                  </p:nvSpPr>
                  <p:spPr>
                    <a:xfrm>
                      <a:off x="5149800" y="1660320"/>
                      <a:ext cx="10800" cy="22320"/>
                    </a:xfrm>
                    <a:custGeom>
                      <a:avLst/>
                      <a:gdLst/>
                      <a:ahLst/>
                      <a:rect l="l" t="t" r="r" b="b"/>
                      <a:pathLst>
                        <a:path w="7" h="14">
                          <a:moveTo>
                            <a:pt x="5" y="0"/>
                          </a:moveTo>
                          <a:lnTo>
                            <a:pt x="5" y="3"/>
                          </a:lnTo>
                          <a:lnTo>
                            <a:pt x="4" y="6"/>
                          </a:lnTo>
                          <a:lnTo>
                            <a:pt x="3" y="11"/>
                          </a:lnTo>
                          <a:lnTo>
                            <a:pt x="0" y="13"/>
                          </a:lnTo>
                          <a:lnTo>
                            <a:pt x="3" y="12"/>
                          </a:lnTo>
                          <a:lnTo>
                            <a:pt x="6" y="8"/>
                          </a:lnTo>
                          <a:lnTo>
                            <a:pt x="6" y="5"/>
                          </a:lnTo>
                          <a:lnTo>
                            <a:pt x="5" y="0"/>
                          </a:lnTo>
                        </a:path>
                      </a:pathLst>
                    </a:custGeom>
                    <a:solidFill>
                      <a:srgbClr val="603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22" name=""/>
                    <p:cNvSpPr/>
                    <p:nvPr/>
                  </p:nvSpPr>
                  <p:spPr>
                    <a:xfrm>
                      <a:off x="5155920" y="1660320"/>
                      <a:ext cx="9720" cy="25560"/>
                    </a:xfrm>
                    <a:custGeom>
                      <a:avLst/>
                      <a:gdLst/>
                      <a:ahLst/>
                      <a:rect l="l" t="t" r="r" b="b"/>
                      <a:pathLst>
                        <a:path w="6" h="16">
                          <a:moveTo>
                            <a:pt x="3" y="0"/>
                          </a:moveTo>
                          <a:lnTo>
                            <a:pt x="4" y="4"/>
                          </a:lnTo>
                          <a:lnTo>
                            <a:pt x="3" y="9"/>
                          </a:lnTo>
                          <a:lnTo>
                            <a:pt x="2" y="11"/>
                          </a:lnTo>
                          <a:lnTo>
                            <a:pt x="0" y="15"/>
                          </a:lnTo>
                          <a:lnTo>
                            <a:pt x="4" y="12"/>
                          </a:lnTo>
                          <a:lnTo>
                            <a:pt x="5" y="8"/>
                          </a:lnTo>
                          <a:lnTo>
                            <a:pt x="5" y="4"/>
                          </a:lnTo>
                          <a:lnTo>
                            <a:pt x="3" y="0"/>
                          </a:lnTo>
                        </a:path>
                      </a:pathLst>
                    </a:custGeom>
                    <a:solidFill>
                      <a:srgbClr val="603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23" name=""/>
                    <p:cNvSpPr/>
                    <p:nvPr/>
                  </p:nvSpPr>
                  <p:spPr>
                    <a:xfrm>
                      <a:off x="5162400" y="1673280"/>
                      <a:ext cx="4680" cy="14040"/>
                    </a:xfrm>
                    <a:custGeom>
                      <a:avLst/>
                      <a:gdLst/>
                      <a:ahLst/>
                      <a:rect l="l" t="t" r="r" b="b"/>
                      <a:pathLst>
                        <a:path w="3" h="9">
                          <a:moveTo>
                            <a:pt x="0" y="8"/>
                          </a:moveTo>
                          <a:lnTo>
                            <a:pt x="1" y="5"/>
                          </a:lnTo>
                          <a:lnTo>
                            <a:pt x="2" y="2"/>
                          </a:lnTo>
                          <a:lnTo>
                            <a:pt x="2" y="0"/>
                          </a:lnTo>
                          <a:lnTo>
                            <a:pt x="2" y="4"/>
                          </a:lnTo>
                          <a:lnTo>
                            <a:pt x="2" y="7"/>
                          </a:lnTo>
                          <a:lnTo>
                            <a:pt x="0" y="8"/>
                          </a:lnTo>
                        </a:path>
                      </a:pathLst>
                    </a:custGeom>
                    <a:solidFill>
                      <a:srgbClr val="603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24" name=""/>
                    <p:cNvSpPr/>
                    <p:nvPr/>
                  </p:nvSpPr>
                  <p:spPr>
                    <a:xfrm>
                      <a:off x="5155920" y="1660320"/>
                      <a:ext cx="3240" cy="1800"/>
                    </a:xfrm>
                    <a:prstGeom prst="ellipse">
                      <a:avLst/>
                    </a:prstGeom>
                    <a:solidFill>
                      <a:srgbClr val="e0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825" name=""/>
                    <p:cNvSpPr/>
                    <p:nvPr/>
                  </p:nvSpPr>
                  <p:spPr>
                    <a:xfrm>
                      <a:off x="5233680" y="1663560"/>
                      <a:ext cx="3240" cy="360"/>
                    </a:xfrm>
                    <a:prstGeom prst="ellipse">
                      <a:avLst/>
                    </a:prstGeom>
                    <a:solidFill>
                      <a:srgbClr val="e00000"/>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826" name=""/>
                  <p:cNvGrpSpPr/>
                  <p:nvPr/>
                </p:nvGrpSpPr>
                <p:grpSpPr>
                  <a:xfrm>
                    <a:off x="5184720" y="1888920"/>
                    <a:ext cx="128520" cy="85680"/>
                    <a:chOff x="5184720" y="1888920"/>
                    <a:chExt cx="128520" cy="85680"/>
                  </a:xfrm>
                </p:grpSpPr>
                <p:sp>
                  <p:nvSpPr>
                    <p:cNvPr id="1827" name=""/>
                    <p:cNvSpPr/>
                    <p:nvPr/>
                  </p:nvSpPr>
                  <p:spPr>
                    <a:xfrm>
                      <a:off x="5184720" y="1888920"/>
                      <a:ext cx="128520" cy="85680"/>
                    </a:xfrm>
                    <a:custGeom>
                      <a:avLst/>
                      <a:gdLst/>
                      <a:ahLst/>
                      <a:rect l="l" t="t" r="r" b="b"/>
                      <a:pathLst>
                        <a:path w="81" h="54">
                          <a:moveTo>
                            <a:pt x="70" y="0"/>
                          </a:moveTo>
                          <a:lnTo>
                            <a:pt x="44" y="9"/>
                          </a:lnTo>
                          <a:lnTo>
                            <a:pt x="38" y="11"/>
                          </a:lnTo>
                          <a:lnTo>
                            <a:pt x="34" y="12"/>
                          </a:lnTo>
                          <a:lnTo>
                            <a:pt x="29" y="14"/>
                          </a:lnTo>
                          <a:lnTo>
                            <a:pt x="19" y="16"/>
                          </a:lnTo>
                          <a:lnTo>
                            <a:pt x="15" y="17"/>
                          </a:lnTo>
                          <a:lnTo>
                            <a:pt x="9" y="21"/>
                          </a:lnTo>
                          <a:lnTo>
                            <a:pt x="7" y="23"/>
                          </a:lnTo>
                          <a:lnTo>
                            <a:pt x="6" y="25"/>
                          </a:lnTo>
                          <a:lnTo>
                            <a:pt x="5" y="27"/>
                          </a:lnTo>
                          <a:lnTo>
                            <a:pt x="3" y="34"/>
                          </a:lnTo>
                          <a:lnTo>
                            <a:pt x="2" y="37"/>
                          </a:lnTo>
                          <a:lnTo>
                            <a:pt x="1" y="43"/>
                          </a:lnTo>
                          <a:lnTo>
                            <a:pt x="0" y="49"/>
                          </a:lnTo>
                          <a:lnTo>
                            <a:pt x="1" y="53"/>
                          </a:lnTo>
                          <a:lnTo>
                            <a:pt x="3" y="50"/>
                          </a:lnTo>
                          <a:lnTo>
                            <a:pt x="5" y="48"/>
                          </a:lnTo>
                          <a:lnTo>
                            <a:pt x="5" y="44"/>
                          </a:lnTo>
                          <a:lnTo>
                            <a:pt x="9" y="39"/>
                          </a:lnTo>
                          <a:lnTo>
                            <a:pt x="9" y="42"/>
                          </a:lnTo>
                          <a:lnTo>
                            <a:pt x="14" y="47"/>
                          </a:lnTo>
                          <a:lnTo>
                            <a:pt x="16" y="48"/>
                          </a:lnTo>
                          <a:lnTo>
                            <a:pt x="18" y="48"/>
                          </a:lnTo>
                          <a:lnTo>
                            <a:pt x="20" y="48"/>
                          </a:lnTo>
                          <a:lnTo>
                            <a:pt x="21" y="47"/>
                          </a:lnTo>
                          <a:lnTo>
                            <a:pt x="23" y="47"/>
                          </a:lnTo>
                          <a:lnTo>
                            <a:pt x="24" y="45"/>
                          </a:lnTo>
                          <a:lnTo>
                            <a:pt x="28" y="43"/>
                          </a:lnTo>
                          <a:lnTo>
                            <a:pt x="27" y="42"/>
                          </a:lnTo>
                          <a:lnTo>
                            <a:pt x="25" y="41"/>
                          </a:lnTo>
                          <a:lnTo>
                            <a:pt x="26" y="35"/>
                          </a:lnTo>
                          <a:lnTo>
                            <a:pt x="30" y="33"/>
                          </a:lnTo>
                          <a:lnTo>
                            <a:pt x="33" y="31"/>
                          </a:lnTo>
                          <a:lnTo>
                            <a:pt x="35" y="27"/>
                          </a:lnTo>
                          <a:lnTo>
                            <a:pt x="37" y="25"/>
                          </a:lnTo>
                          <a:lnTo>
                            <a:pt x="38" y="23"/>
                          </a:lnTo>
                          <a:lnTo>
                            <a:pt x="41" y="22"/>
                          </a:lnTo>
                          <a:lnTo>
                            <a:pt x="44" y="22"/>
                          </a:lnTo>
                          <a:lnTo>
                            <a:pt x="47" y="21"/>
                          </a:lnTo>
                          <a:lnTo>
                            <a:pt x="77" y="17"/>
                          </a:lnTo>
                          <a:lnTo>
                            <a:pt x="79" y="16"/>
                          </a:lnTo>
                          <a:lnTo>
                            <a:pt x="80" y="14"/>
                          </a:lnTo>
                          <a:lnTo>
                            <a:pt x="79" y="10"/>
                          </a:lnTo>
                          <a:lnTo>
                            <a:pt x="79" y="8"/>
                          </a:lnTo>
                          <a:lnTo>
                            <a:pt x="77" y="5"/>
                          </a:lnTo>
                          <a:lnTo>
                            <a:pt x="75" y="3"/>
                          </a:lnTo>
                          <a:lnTo>
                            <a:pt x="73" y="1"/>
                          </a:lnTo>
                          <a:lnTo>
                            <a:pt x="70" y="0"/>
                          </a:lnTo>
                        </a:path>
                      </a:pathLst>
                    </a:custGeom>
                    <a:solidFill>
                      <a:srgbClr val="ffc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28" name=""/>
                    <p:cNvSpPr/>
                    <p:nvPr/>
                  </p:nvSpPr>
                  <p:spPr>
                    <a:xfrm>
                      <a:off x="5198760" y="1931760"/>
                      <a:ext cx="3240" cy="15840"/>
                    </a:xfrm>
                    <a:custGeom>
                      <a:avLst/>
                      <a:gdLst/>
                      <a:ahLst/>
                      <a:rect l="l" t="t" r="r" b="b"/>
                      <a:pathLst>
                        <a:path w="2" h="10">
                          <a:moveTo>
                            <a:pt x="0" y="0"/>
                          </a:moveTo>
                          <a:lnTo>
                            <a:pt x="1" y="2"/>
                          </a:lnTo>
                          <a:lnTo>
                            <a:pt x="0" y="4"/>
                          </a:lnTo>
                          <a:lnTo>
                            <a:pt x="0" y="9"/>
                          </a:lnTo>
                          <a:lnTo>
                            <a:pt x="0" y="4"/>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29" name=""/>
                    <p:cNvSpPr/>
                    <p:nvPr/>
                  </p:nvSpPr>
                  <p:spPr>
                    <a:xfrm>
                      <a:off x="5206680" y="1935000"/>
                      <a:ext cx="3240" cy="19080"/>
                    </a:xfrm>
                    <a:custGeom>
                      <a:avLst/>
                      <a:gdLst/>
                      <a:ahLst/>
                      <a:rect l="l" t="t" r="r" b="b"/>
                      <a:pathLst>
                        <a:path w="2" h="12">
                          <a:moveTo>
                            <a:pt x="0" y="0"/>
                          </a:moveTo>
                          <a:lnTo>
                            <a:pt x="1" y="2"/>
                          </a:lnTo>
                          <a:lnTo>
                            <a:pt x="1" y="5"/>
                          </a:lnTo>
                          <a:lnTo>
                            <a:pt x="0" y="11"/>
                          </a:lnTo>
                          <a:lnTo>
                            <a:pt x="0" y="7"/>
                          </a:lnTo>
                          <a:lnTo>
                            <a:pt x="0" y="4"/>
                          </a:lnTo>
                          <a:lnTo>
                            <a:pt x="0" y="0"/>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0" name=""/>
                    <p:cNvSpPr/>
                    <p:nvPr/>
                  </p:nvSpPr>
                  <p:spPr>
                    <a:xfrm>
                      <a:off x="5214600" y="1941480"/>
                      <a:ext cx="5040" cy="12600"/>
                    </a:xfrm>
                    <a:custGeom>
                      <a:avLst/>
                      <a:gdLst/>
                      <a:ahLst/>
                      <a:rect l="l" t="t" r="r" b="b"/>
                      <a:pathLst>
                        <a:path w="3" h="8">
                          <a:moveTo>
                            <a:pt x="0" y="0"/>
                          </a:moveTo>
                          <a:lnTo>
                            <a:pt x="2" y="1"/>
                          </a:lnTo>
                          <a:lnTo>
                            <a:pt x="1" y="4"/>
                          </a:lnTo>
                          <a:lnTo>
                            <a:pt x="1" y="7"/>
                          </a:lnTo>
                          <a:lnTo>
                            <a:pt x="0" y="5"/>
                          </a:lnTo>
                          <a:lnTo>
                            <a:pt x="0" y="2"/>
                          </a:lnTo>
                          <a:lnTo>
                            <a:pt x="0" y="0"/>
                          </a:lnTo>
                        </a:path>
                      </a:pathLst>
                    </a:custGeom>
                    <a:solidFill>
                      <a:srgbClr val="402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1" name=""/>
                    <p:cNvSpPr/>
                    <p:nvPr/>
                  </p:nvSpPr>
                  <p:spPr>
                    <a:xfrm>
                      <a:off x="5206680" y="1955880"/>
                      <a:ext cx="6480" cy="7920"/>
                    </a:xfrm>
                    <a:custGeom>
                      <a:avLst/>
                      <a:gdLst/>
                      <a:ahLst/>
                      <a:rect l="l" t="t" r="r" b="b"/>
                      <a:pathLst>
                        <a:path w="4" h="5">
                          <a:moveTo>
                            <a:pt x="0" y="0"/>
                          </a:moveTo>
                          <a:lnTo>
                            <a:pt x="3" y="4"/>
                          </a:lnTo>
                          <a:lnTo>
                            <a:pt x="0" y="2"/>
                          </a:lnTo>
                          <a:lnTo>
                            <a:pt x="0"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32" name=""/>
                    <p:cNvSpPr/>
                    <p:nvPr/>
                  </p:nvSpPr>
                  <p:spPr>
                    <a:xfrm>
                      <a:off x="5217840" y="1954080"/>
                      <a:ext cx="3240" cy="4680"/>
                    </a:xfrm>
                    <a:custGeom>
                      <a:avLst/>
                      <a:gdLst/>
                      <a:ahLst/>
                      <a:rect l="l" t="t" r="r" b="b"/>
                      <a:pathLst>
                        <a:path w="2" h="3">
                          <a:moveTo>
                            <a:pt x="0" y="0"/>
                          </a:moveTo>
                          <a:lnTo>
                            <a:pt x="1" y="2"/>
                          </a:lnTo>
                          <a:lnTo>
                            <a:pt x="0" y="2"/>
                          </a:lnTo>
                          <a:lnTo>
                            <a:pt x="0" y="0"/>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833" name=""/>
                  <p:cNvSpPr/>
                  <p:nvPr/>
                </p:nvSpPr>
                <p:spPr>
                  <a:xfrm>
                    <a:off x="5200560" y="1698480"/>
                    <a:ext cx="164880" cy="223920"/>
                  </a:xfrm>
                  <a:custGeom>
                    <a:avLst/>
                    <a:gdLst/>
                    <a:ahLst/>
                    <a:rect l="l" t="t" r="r" b="b"/>
                    <a:pathLst>
                      <a:path w="104" h="141">
                        <a:moveTo>
                          <a:pt x="1" y="130"/>
                        </a:moveTo>
                        <a:lnTo>
                          <a:pt x="24" y="129"/>
                        </a:lnTo>
                        <a:lnTo>
                          <a:pt x="43" y="124"/>
                        </a:lnTo>
                        <a:lnTo>
                          <a:pt x="44" y="114"/>
                        </a:lnTo>
                        <a:lnTo>
                          <a:pt x="51" y="113"/>
                        </a:lnTo>
                        <a:lnTo>
                          <a:pt x="55" y="104"/>
                        </a:lnTo>
                        <a:lnTo>
                          <a:pt x="58" y="96"/>
                        </a:lnTo>
                        <a:lnTo>
                          <a:pt x="64" y="103"/>
                        </a:lnTo>
                        <a:lnTo>
                          <a:pt x="61" y="110"/>
                        </a:lnTo>
                        <a:lnTo>
                          <a:pt x="54" y="117"/>
                        </a:lnTo>
                        <a:lnTo>
                          <a:pt x="51" y="121"/>
                        </a:lnTo>
                        <a:lnTo>
                          <a:pt x="56" y="121"/>
                        </a:lnTo>
                        <a:lnTo>
                          <a:pt x="61" y="122"/>
                        </a:lnTo>
                        <a:lnTo>
                          <a:pt x="66" y="126"/>
                        </a:lnTo>
                        <a:lnTo>
                          <a:pt x="66" y="130"/>
                        </a:lnTo>
                        <a:lnTo>
                          <a:pt x="66" y="134"/>
                        </a:lnTo>
                        <a:lnTo>
                          <a:pt x="64" y="140"/>
                        </a:lnTo>
                        <a:lnTo>
                          <a:pt x="71" y="140"/>
                        </a:lnTo>
                        <a:lnTo>
                          <a:pt x="81" y="135"/>
                        </a:lnTo>
                        <a:lnTo>
                          <a:pt x="88" y="128"/>
                        </a:lnTo>
                        <a:lnTo>
                          <a:pt x="95" y="119"/>
                        </a:lnTo>
                        <a:lnTo>
                          <a:pt x="101" y="113"/>
                        </a:lnTo>
                        <a:lnTo>
                          <a:pt x="103" y="105"/>
                        </a:lnTo>
                        <a:lnTo>
                          <a:pt x="99" y="99"/>
                        </a:lnTo>
                        <a:lnTo>
                          <a:pt x="97" y="90"/>
                        </a:lnTo>
                        <a:lnTo>
                          <a:pt x="92" y="83"/>
                        </a:lnTo>
                        <a:lnTo>
                          <a:pt x="84" y="65"/>
                        </a:lnTo>
                        <a:lnTo>
                          <a:pt x="80" y="50"/>
                        </a:lnTo>
                        <a:lnTo>
                          <a:pt x="77" y="39"/>
                        </a:lnTo>
                        <a:lnTo>
                          <a:pt x="77" y="27"/>
                        </a:lnTo>
                        <a:lnTo>
                          <a:pt x="74" y="20"/>
                        </a:lnTo>
                        <a:lnTo>
                          <a:pt x="68" y="17"/>
                        </a:lnTo>
                        <a:lnTo>
                          <a:pt x="64" y="16"/>
                        </a:lnTo>
                        <a:lnTo>
                          <a:pt x="54" y="16"/>
                        </a:lnTo>
                        <a:lnTo>
                          <a:pt x="44" y="15"/>
                        </a:lnTo>
                        <a:lnTo>
                          <a:pt x="34" y="12"/>
                        </a:lnTo>
                        <a:lnTo>
                          <a:pt x="26" y="8"/>
                        </a:lnTo>
                        <a:lnTo>
                          <a:pt x="20" y="1"/>
                        </a:lnTo>
                        <a:lnTo>
                          <a:pt x="15" y="0"/>
                        </a:lnTo>
                        <a:lnTo>
                          <a:pt x="16" y="6"/>
                        </a:lnTo>
                        <a:lnTo>
                          <a:pt x="15" y="11"/>
                        </a:lnTo>
                        <a:lnTo>
                          <a:pt x="12" y="17"/>
                        </a:lnTo>
                        <a:lnTo>
                          <a:pt x="9" y="21"/>
                        </a:lnTo>
                        <a:lnTo>
                          <a:pt x="6" y="24"/>
                        </a:lnTo>
                        <a:lnTo>
                          <a:pt x="0" y="27"/>
                        </a:lnTo>
                        <a:lnTo>
                          <a:pt x="1" y="130"/>
                        </a:lnTo>
                      </a:path>
                    </a:pathLst>
                  </a:custGeom>
                  <a:solidFill>
                    <a:srgbClr val="0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5206680" y="1717560"/>
                    <a:ext cx="155520" cy="201600"/>
                  </a:xfrm>
                  <a:custGeom>
                    <a:avLst/>
                    <a:gdLst/>
                    <a:ahLst/>
                    <a:rect l="l" t="t" r="r" b="b"/>
                    <a:pathLst>
                      <a:path w="98" h="127">
                        <a:moveTo>
                          <a:pt x="21" y="0"/>
                        </a:moveTo>
                        <a:lnTo>
                          <a:pt x="21" y="12"/>
                        </a:lnTo>
                        <a:lnTo>
                          <a:pt x="13" y="18"/>
                        </a:lnTo>
                        <a:lnTo>
                          <a:pt x="8" y="23"/>
                        </a:lnTo>
                        <a:lnTo>
                          <a:pt x="3" y="18"/>
                        </a:lnTo>
                        <a:lnTo>
                          <a:pt x="3" y="28"/>
                        </a:lnTo>
                        <a:lnTo>
                          <a:pt x="1" y="42"/>
                        </a:lnTo>
                        <a:lnTo>
                          <a:pt x="1" y="60"/>
                        </a:lnTo>
                        <a:lnTo>
                          <a:pt x="0" y="72"/>
                        </a:lnTo>
                        <a:lnTo>
                          <a:pt x="1" y="81"/>
                        </a:lnTo>
                        <a:lnTo>
                          <a:pt x="3" y="100"/>
                        </a:lnTo>
                        <a:lnTo>
                          <a:pt x="6" y="115"/>
                        </a:lnTo>
                        <a:lnTo>
                          <a:pt x="18" y="114"/>
                        </a:lnTo>
                        <a:lnTo>
                          <a:pt x="17" y="109"/>
                        </a:lnTo>
                        <a:lnTo>
                          <a:pt x="17" y="95"/>
                        </a:lnTo>
                        <a:lnTo>
                          <a:pt x="22" y="81"/>
                        </a:lnTo>
                        <a:lnTo>
                          <a:pt x="21" y="92"/>
                        </a:lnTo>
                        <a:lnTo>
                          <a:pt x="19" y="98"/>
                        </a:lnTo>
                        <a:lnTo>
                          <a:pt x="20" y="103"/>
                        </a:lnTo>
                        <a:lnTo>
                          <a:pt x="21" y="113"/>
                        </a:lnTo>
                        <a:lnTo>
                          <a:pt x="37" y="109"/>
                        </a:lnTo>
                        <a:lnTo>
                          <a:pt x="37" y="101"/>
                        </a:lnTo>
                        <a:lnTo>
                          <a:pt x="45" y="99"/>
                        </a:lnTo>
                        <a:lnTo>
                          <a:pt x="48" y="92"/>
                        </a:lnTo>
                        <a:lnTo>
                          <a:pt x="53" y="82"/>
                        </a:lnTo>
                        <a:lnTo>
                          <a:pt x="49" y="71"/>
                        </a:lnTo>
                        <a:lnTo>
                          <a:pt x="47" y="60"/>
                        </a:lnTo>
                        <a:lnTo>
                          <a:pt x="48" y="54"/>
                        </a:lnTo>
                        <a:lnTo>
                          <a:pt x="45" y="66"/>
                        </a:lnTo>
                        <a:lnTo>
                          <a:pt x="41" y="77"/>
                        </a:lnTo>
                        <a:lnTo>
                          <a:pt x="39" y="86"/>
                        </a:lnTo>
                        <a:lnTo>
                          <a:pt x="37" y="94"/>
                        </a:lnTo>
                        <a:lnTo>
                          <a:pt x="37" y="83"/>
                        </a:lnTo>
                        <a:lnTo>
                          <a:pt x="39" y="73"/>
                        </a:lnTo>
                        <a:lnTo>
                          <a:pt x="42" y="62"/>
                        </a:lnTo>
                        <a:lnTo>
                          <a:pt x="46" y="53"/>
                        </a:lnTo>
                        <a:lnTo>
                          <a:pt x="48" y="47"/>
                        </a:lnTo>
                        <a:lnTo>
                          <a:pt x="52" y="35"/>
                        </a:lnTo>
                        <a:lnTo>
                          <a:pt x="55" y="25"/>
                        </a:lnTo>
                        <a:lnTo>
                          <a:pt x="54" y="37"/>
                        </a:lnTo>
                        <a:lnTo>
                          <a:pt x="51" y="50"/>
                        </a:lnTo>
                        <a:lnTo>
                          <a:pt x="50" y="57"/>
                        </a:lnTo>
                        <a:lnTo>
                          <a:pt x="51" y="64"/>
                        </a:lnTo>
                        <a:lnTo>
                          <a:pt x="53" y="74"/>
                        </a:lnTo>
                        <a:lnTo>
                          <a:pt x="55" y="79"/>
                        </a:lnTo>
                        <a:lnTo>
                          <a:pt x="56" y="84"/>
                        </a:lnTo>
                        <a:lnTo>
                          <a:pt x="60" y="88"/>
                        </a:lnTo>
                        <a:lnTo>
                          <a:pt x="68" y="84"/>
                        </a:lnTo>
                        <a:lnTo>
                          <a:pt x="70" y="77"/>
                        </a:lnTo>
                        <a:lnTo>
                          <a:pt x="70" y="70"/>
                        </a:lnTo>
                        <a:lnTo>
                          <a:pt x="68" y="66"/>
                        </a:lnTo>
                        <a:lnTo>
                          <a:pt x="66" y="61"/>
                        </a:lnTo>
                        <a:lnTo>
                          <a:pt x="66" y="53"/>
                        </a:lnTo>
                        <a:lnTo>
                          <a:pt x="67" y="45"/>
                        </a:lnTo>
                        <a:lnTo>
                          <a:pt x="68" y="54"/>
                        </a:lnTo>
                        <a:lnTo>
                          <a:pt x="69" y="63"/>
                        </a:lnTo>
                        <a:lnTo>
                          <a:pt x="72" y="67"/>
                        </a:lnTo>
                        <a:lnTo>
                          <a:pt x="72" y="74"/>
                        </a:lnTo>
                        <a:lnTo>
                          <a:pt x="72" y="81"/>
                        </a:lnTo>
                        <a:lnTo>
                          <a:pt x="70" y="85"/>
                        </a:lnTo>
                        <a:lnTo>
                          <a:pt x="64" y="89"/>
                        </a:lnTo>
                        <a:lnTo>
                          <a:pt x="62" y="91"/>
                        </a:lnTo>
                        <a:lnTo>
                          <a:pt x="61" y="94"/>
                        </a:lnTo>
                        <a:lnTo>
                          <a:pt x="60" y="98"/>
                        </a:lnTo>
                        <a:lnTo>
                          <a:pt x="53" y="105"/>
                        </a:lnTo>
                        <a:lnTo>
                          <a:pt x="51" y="107"/>
                        </a:lnTo>
                        <a:lnTo>
                          <a:pt x="56" y="107"/>
                        </a:lnTo>
                        <a:lnTo>
                          <a:pt x="60" y="108"/>
                        </a:lnTo>
                        <a:lnTo>
                          <a:pt x="62" y="112"/>
                        </a:lnTo>
                        <a:lnTo>
                          <a:pt x="63" y="117"/>
                        </a:lnTo>
                        <a:lnTo>
                          <a:pt x="64" y="123"/>
                        </a:lnTo>
                        <a:lnTo>
                          <a:pt x="63" y="126"/>
                        </a:lnTo>
                        <a:lnTo>
                          <a:pt x="70" y="123"/>
                        </a:lnTo>
                        <a:lnTo>
                          <a:pt x="76" y="120"/>
                        </a:lnTo>
                        <a:lnTo>
                          <a:pt x="83" y="114"/>
                        </a:lnTo>
                        <a:lnTo>
                          <a:pt x="86" y="108"/>
                        </a:lnTo>
                        <a:lnTo>
                          <a:pt x="95" y="100"/>
                        </a:lnTo>
                        <a:lnTo>
                          <a:pt x="88" y="100"/>
                        </a:lnTo>
                        <a:lnTo>
                          <a:pt x="75" y="103"/>
                        </a:lnTo>
                        <a:lnTo>
                          <a:pt x="68" y="108"/>
                        </a:lnTo>
                        <a:lnTo>
                          <a:pt x="72" y="103"/>
                        </a:lnTo>
                        <a:lnTo>
                          <a:pt x="78" y="100"/>
                        </a:lnTo>
                        <a:lnTo>
                          <a:pt x="81" y="99"/>
                        </a:lnTo>
                        <a:lnTo>
                          <a:pt x="88" y="98"/>
                        </a:lnTo>
                        <a:lnTo>
                          <a:pt x="95" y="98"/>
                        </a:lnTo>
                        <a:lnTo>
                          <a:pt x="96" y="97"/>
                        </a:lnTo>
                        <a:lnTo>
                          <a:pt x="97" y="92"/>
                        </a:lnTo>
                        <a:lnTo>
                          <a:pt x="95" y="90"/>
                        </a:lnTo>
                        <a:lnTo>
                          <a:pt x="93" y="86"/>
                        </a:lnTo>
                        <a:lnTo>
                          <a:pt x="86" y="90"/>
                        </a:lnTo>
                        <a:lnTo>
                          <a:pt x="80" y="93"/>
                        </a:lnTo>
                        <a:lnTo>
                          <a:pt x="74" y="94"/>
                        </a:lnTo>
                        <a:lnTo>
                          <a:pt x="83" y="90"/>
                        </a:lnTo>
                        <a:lnTo>
                          <a:pt x="89" y="86"/>
                        </a:lnTo>
                        <a:lnTo>
                          <a:pt x="92" y="83"/>
                        </a:lnTo>
                        <a:lnTo>
                          <a:pt x="90" y="79"/>
                        </a:lnTo>
                        <a:lnTo>
                          <a:pt x="86" y="74"/>
                        </a:lnTo>
                        <a:lnTo>
                          <a:pt x="82" y="67"/>
                        </a:lnTo>
                        <a:lnTo>
                          <a:pt x="79" y="57"/>
                        </a:lnTo>
                        <a:lnTo>
                          <a:pt x="74" y="45"/>
                        </a:lnTo>
                        <a:lnTo>
                          <a:pt x="72" y="37"/>
                        </a:lnTo>
                        <a:lnTo>
                          <a:pt x="70" y="27"/>
                        </a:lnTo>
                        <a:lnTo>
                          <a:pt x="70" y="21"/>
                        </a:lnTo>
                        <a:lnTo>
                          <a:pt x="67" y="29"/>
                        </a:lnTo>
                        <a:lnTo>
                          <a:pt x="64" y="36"/>
                        </a:lnTo>
                        <a:lnTo>
                          <a:pt x="66" y="25"/>
                        </a:lnTo>
                        <a:lnTo>
                          <a:pt x="69" y="19"/>
                        </a:lnTo>
                        <a:lnTo>
                          <a:pt x="70" y="17"/>
                        </a:lnTo>
                        <a:lnTo>
                          <a:pt x="68" y="13"/>
                        </a:lnTo>
                        <a:lnTo>
                          <a:pt x="66" y="8"/>
                        </a:lnTo>
                        <a:lnTo>
                          <a:pt x="62" y="7"/>
                        </a:lnTo>
                        <a:lnTo>
                          <a:pt x="57" y="6"/>
                        </a:lnTo>
                        <a:lnTo>
                          <a:pt x="48" y="6"/>
                        </a:lnTo>
                        <a:lnTo>
                          <a:pt x="41" y="5"/>
                        </a:lnTo>
                        <a:lnTo>
                          <a:pt x="37" y="10"/>
                        </a:lnTo>
                        <a:lnTo>
                          <a:pt x="33" y="16"/>
                        </a:lnTo>
                        <a:lnTo>
                          <a:pt x="34" y="11"/>
                        </a:lnTo>
                        <a:lnTo>
                          <a:pt x="37" y="7"/>
                        </a:lnTo>
                        <a:lnTo>
                          <a:pt x="39" y="4"/>
                        </a:lnTo>
                        <a:lnTo>
                          <a:pt x="21" y="0"/>
                        </a:lnTo>
                      </a:path>
                    </a:pathLst>
                  </a:custGeom>
                  <a:solidFill>
                    <a:srgbClr val="0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5208480" y="1703160"/>
                    <a:ext cx="31680" cy="50760"/>
                  </a:xfrm>
                  <a:custGeom>
                    <a:avLst/>
                    <a:gdLst/>
                    <a:ahLst/>
                    <a:rect l="l" t="t" r="r" b="b"/>
                    <a:pathLst>
                      <a:path w="20" h="32">
                        <a:moveTo>
                          <a:pt x="12" y="0"/>
                        </a:moveTo>
                        <a:lnTo>
                          <a:pt x="13" y="5"/>
                        </a:lnTo>
                        <a:lnTo>
                          <a:pt x="11" y="13"/>
                        </a:lnTo>
                        <a:lnTo>
                          <a:pt x="6" y="18"/>
                        </a:lnTo>
                        <a:lnTo>
                          <a:pt x="0" y="24"/>
                        </a:lnTo>
                        <a:lnTo>
                          <a:pt x="7" y="31"/>
                        </a:lnTo>
                        <a:lnTo>
                          <a:pt x="14" y="25"/>
                        </a:lnTo>
                        <a:lnTo>
                          <a:pt x="18" y="20"/>
                        </a:lnTo>
                        <a:lnTo>
                          <a:pt x="18" y="15"/>
                        </a:lnTo>
                        <a:lnTo>
                          <a:pt x="19" y="10"/>
                        </a:lnTo>
                        <a:lnTo>
                          <a:pt x="19" y="6"/>
                        </a:lnTo>
                        <a:lnTo>
                          <a:pt x="17" y="3"/>
                        </a:lnTo>
                        <a:lnTo>
                          <a:pt x="12" y="0"/>
                        </a:lnTo>
                      </a:path>
                    </a:pathLst>
                  </a:custGeom>
                  <a:solidFill>
                    <a:srgbClr val="a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nvGrpSpPr>
                  <p:cNvPr id="1836" name=""/>
                  <p:cNvGrpSpPr/>
                  <p:nvPr/>
                </p:nvGrpSpPr>
                <p:grpSpPr>
                  <a:xfrm>
                    <a:off x="5078160" y="1935000"/>
                    <a:ext cx="60480" cy="169920"/>
                    <a:chOff x="5078160" y="1935000"/>
                    <a:chExt cx="60480" cy="169920"/>
                  </a:xfrm>
                </p:grpSpPr>
                <p:sp>
                  <p:nvSpPr>
                    <p:cNvPr id="1837" name=""/>
                    <p:cNvSpPr/>
                    <p:nvPr/>
                  </p:nvSpPr>
                  <p:spPr>
                    <a:xfrm>
                      <a:off x="5078160" y="1935000"/>
                      <a:ext cx="60480" cy="169920"/>
                    </a:xfrm>
                    <a:custGeom>
                      <a:avLst/>
                      <a:gdLst/>
                      <a:ahLst/>
                      <a:rect l="l" t="t" r="r" b="b"/>
                      <a:pathLst>
                        <a:path w="38" h="107">
                          <a:moveTo>
                            <a:pt x="1" y="2"/>
                          </a:moveTo>
                          <a:lnTo>
                            <a:pt x="0" y="8"/>
                          </a:lnTo>
                          <a:lnTo>
                            <a:pt x="1" y="16"/>
                          </a:lnTo>
                          <a:lnTo>
                            <a:pt x="2" y="23"/>
                          </a:lnTo>
                          <a:lnTo>
                            <a:pt x="3" y="30"/>
                          </a:lnTo>
                          <a:lnTo>
                            <a:pt x="5" y="36"/>
                          </a:lnTo>
                          <a:lnTo>
                            <a:pt x="7" y="44"/>
                          </a:lnTo>
                          <a:lnTo>
                            <a:pt x="8" y="50"/>
                          </a:lnTo>
                          <a:lnTo>
                            <a:pt x="10" y="54"/>
                          </a:lnTo>
                          <a:lnTo>
                            <a:pt x="8" y="66"/>
                          </a:lnTo>
                          <a:lnTo>
                            <a:pt x="7" y="76"/>
                          </a:lnTo>
                          <a:lnTo>
                            <a:pt x="8" y="84"/>
                          </a:lnTo>
                          <a:lnTo>
                            <a:pt x="10" y="91"/>
                          </a:lnTo>
                          <a:lnTo>
                            <a:pt x="12" y="97"/>
                          </a:lnTo>
                          <a:lnTo>
                            <a:pt x="15" y="99"/>
                          </a:lnTo>
                          <a:lnTo>
                            <a:pt x="18" y="102"/>
                          </a:lnTo>
                          <a:lnTo>
                            <a:pt x="21" y="103"/>
                          </a:lnTo>
                          <a:lnTo>
                            <a:pt x="24" y="105"/>
                          </a:lnTo>
                          <a:lnTo>
                            <a:pt x="25" y="106"/>
                          </a:lnTo>
                          <a:lnTo>
                            <a:pt x="27" y="105"/>
                          </a:lnTo>
                          <a:lnTo>
                            <a:pt x="28" y="103"/>
                          </a:lnTo>
                          <a:lnTo>
                            <a:pt x="30" y="100"/>
                          </a:lnTo>
                          <a:lnTo>
                            <a:pt x="31" y="97"/>
                          </a:lnTo>
                          <a:lnTo>
                            <a:pt x="32" y="92"/>
                          </a:lnTo>
                          <a:lnTo>
                            <a:pt x="32" y="85"/>
                          </a:lnTo>
                          <a:lnTo>
                            <a:pt x="33" y="86"/>
                          </a:lnTo>
                          <a:lnTo>
                            <a:pt x="35" y="87"/>
                          </a:lnTo>
                          <a:lnTo>
                            <a:pt x="36" y="84"/>
                          </a:lnTo>
                          <a:lnTo>
                            <a:pt x="36" y="81"/>
                          </a:lnTo>
                          <a:lnTo>
                            <a:pt x="37" y="76"/>
                          </a:lnTo>
                          <a:lnTo>
                            <a:pt x="36" y="72"/>
                          </a:lnTo>
                          <a:lnTo>
                            <a:pt x="36" y="66"/>
                          </a:lnTo>
                          <a:lnTo>
                            <a:pt x="35" y="63"/>
                          </a:lnTo>
                          <a:lnTo>
                            <a:pt x="34" y="61"/>
                          </a:lnTo>
                          <a:lnTo>
                            <a:pt x="30" y="57"/>
                          </a:lnTo>
                          <a:lnTo>
                            <a:pt x="26" y="52"/>
                          </a:lnTo>
                          <a:lnTo>
                            <a:pt x="24" y="48"/>
                          </a:lnTo>
                          <a:lnTo>
                            <a:pt x="24" y="42"/>
                          </a:lnTo>
                          <a:lnTo>
                            <a:pt x="23" y="37"/>
                          </a:lnTo>
                          <a:lnTo>
                            <a:pt x="22" y="29"/>
                          </a:lnTo>
                          <a:lnTo>
                            <a:pt x="23" y="23"/>
                          </a:lnTo>
                          <a:lnTo>
                            <a:pt x="23" y="17"/>
                          </a:lnTo>
                          <a:lnTo>
                            <a:pt x="26" y="0"/>
                          </a:lnTo>
                          <a:lnTo>
                            <a:pt x="17" y="4"/>
                          </a:lnTo>
                          <a:lnTo>
                            <a:pt x="8" y="4"/>
                          </a:lnTo>
                          <a:lnTo>
                            <a:pt x="1" y="2"/>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5113080" y="2062080"/>
                      <a:ext cx="9720" cy="33480"/>
                    </a:xfrm>
                    <a:custGeom>
                      <a:avLst/>
                      <a:gdLst/>
                      <a:ahLst/>
                      <a:rect l="l" t="t" r="r" b="b"/>
                      <a:pathLst>
                        <a:path w="6" h="21">
                          <a:moveTo>
                            <a:pt x="2" y="0"/>
                          </a:moveTo>
                          <a:lnTo>
                            <a:pt x="0" y="2"/>
                          </a:lnTo>
                          <a:lnTo>
                            <a:pt x="1" y="4"/>
                          </a:lnTo>
                          <a:lnTo>
                            <a:pt x="2" y="9"/>
                          </a:lnTo>
                          <a:lnTo>
                            <a:pt x="2" y="13"/>
                          </a:lnTo>
                          <a:lnTo>
                            <a:pt x="5" y="20"/>
                          </a:lnTo>
                          <a:lnTo>
                            <a:pt x="4" y="16"/>
                          </a:lnTo>
                          <a:lnTo>
                            <a:pt x="3" y="12"/>
                          </a:lnTo>
                          <a:lnTo>
                            <a:pt x="2" y="4"/>
                          </a:lnTo>
                          <a:lnTo>
                            <a:pt x="3" y="3"/>
                          </a:lnTo>
                          <a:lnTo>
                            <a:pt x="2" y="0"/>
                          </a:lnTo>
                        </a:path>
                      </a:pathLst>
                    </a:custGeom>
                    <a:solidFill>
                      <a:srgbClr val="402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39" name=""/>
                    <p:cNvSpPr/>
                    <p:nvPr/>
                  </p:nvSpPr>
                  <p:spPr>
                    <a:xfrm>
                      <a:off x="5105160" y="2071440"/>
                      <a:ext cx="7920" cy="20880"/>
                    </a:xfrm>
                    <a:custGeom>
                      <a:avLst/>
                      <a:gdLst/>
                      <a:ahLst/>
                      <a:rect l="l" t="t" r="r" b="b"/>
                      <a:pathLst>
                        <a:path w="5" h="13">
                          <a:moveTo>
                            <a:pt x="4" y="12"/>
                          </a:moveTo>
                          <a:lnTo>
                            <a:pt x="2" y="7"/>
                          </a:lnTo>
                          <a:lnTo>
                            <a:pt x="0" y="0"/>
                          </a:lnTo>
                          <a:lnTo>
                            <a:pt x="0" y="6"/>
                          </a:lnTo>
                          <a:lnTo>
                            <a:pt x="4" y="12"/>
                          </a:lnTo>
                        </a:path>
                      </a:pathLst>
                    </a:custGeom>
                    <a:solidFill>
                      <a:srgbClr val="402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40" name=""/>
                    <p:cNvSpPr/>
                    <p:nvPr/>
                  </p:nvSpPr>
                  <p:spPr>
                    <a:xfrm>
                      <a:off x="5101920" y="2060640"/>
                      <a:ext cx="6480" cy="6120"/>
                    </a:xfrm>
                    <a:custGeom>
                      <a:avLst/>
                      <a:gdLst/>
                      <a:ahLst/>
                      <a:rect l="l" t="t" r="r" b="b"/>
                      <a:pathLst>
                        <a:path w="4" h="4">
                          <a:moveTo>
                            <a:pt x="0" y="0"/>
                          </a:moveTo>
                          <a:lnTo>
                            <a:pt x="2" y="2"/>
                          </a:lnTo>
                          <a:lnTo>
                            <a:pt x="3" y="2"/>
                          </a:lnTo>
                          <a:lnTo>
                            <a:pt x="1" y="3"/>
                          </a:lnTo>
                          <a:lnTo>
                            <a:pt x="0" y="0"/>
                          </a:lnTo>
                        </a:path>
                      </a:pathLst>
                    </a:custGeom>
                    <a:solidFill>
                      <a:srgbClr val="40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41" name=""/>
                    <p:cNvSpPr/>
                    <p:nvPr/>
                  </p:nvSpPr>
                  <p:spPr>
                    <a:xfrm>
                      <a:off x="5095800" y="2070000"/>
                      <a:ext cx="7920" cy="17640"/>
                    </a:xfrm>
                    <a:custGeom>
                      <a:avLst/>
                      <a:gdLst/>
                      <a:ahLst/>
                      <a:rect l="l" t="t" r="r" b="b"/>
                      <a:pathLst>
                        <a:path w="5" h="11">
                          <a:moveTo>
                            <a:pt x="4" y="10"/>
                          </a:moveTo>
                          <a:lnTo>
                            <a:pt x="1" y="5"/>
                          </a:lnTo>
                          <a:lnTo>
                            <a:pt x="1" y="0"/>
                          </a:lnTo>
                          <a:lnTo>
                            <a:pt x="0" y="4"/>
                          </a:lnTo>
                          <a:lnTo>
                            <a:pt x="1" y="7"/>
                          </a:lnTo>
                          <a:lnTo>
                            <a:pt x="4" y="10"/>
                          </a:lnTo>
                        </a:path>
                      </a:pathLst>
                    </a:cu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42" name=""/>
                    <p:cNvSpPr/>
                    <p:nvPr/>
                  </p:nvSpPr>
                  <p:spPr>
                    <a:xfrm>
                      <a:off x="5092560" y="2057400"/>
                      <a:ext cx="3240" cy="6120"/>
                    </a:xfrm>
                    <a:custGeom>
                      <a:avLst/>
                      <a:gdLst/>
                      <a:ahLst/>
                      <a:rect l="l" t="t" r="r" b="b"/>
                      <a:pathLst>
                        <a:path w="2" h="4">
                          <a:moveTo>
                            <a:pt x="1" y="3"/>
                          </a:moveTo>
                          <a:lnTo>
                            <a:pt x="0" y="2"/>
                          </a:lnTo>
                          <a:lnTo>
                            <a:pt x="1" y="0"/>
                          </a:lnTo>
                          <a:lnTo>
                            <a:pt x="1" y="3"/>
                          </a:lnTo>
                        </a:path>
                      </a:pathLst>
                    </a:custGeom>
                    <a:solidFill>
                      <a:srgbClr val="40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43" name=""/>
                    <p:cNvSpPr/>
                    <p:nvPr/>
                  </p:nvSpPr>
                  <p:spPr>
                    <a:xfrm>
                      <a:off x="5124240" y="2044440"/>
                      <a:ext cx="6480" cy="27000"/>
                    </a:xfrm>
                    <a:custGeom>
                      <a:avLst/>
                      <a:gdLst/>
                      <a:ahLst/>
                      <a:rect l="l" t="t" r="r" b="b"/>
                      <a:pathLst>
                        <a:path w="4" h="17">
                          <a:moveTo>
                            <a:pt x="2" y="16"/>
                          </a:moveTo>
                          <a:lnTo>
                            <a:pt x="3" y="15"/>
                          </a:lnTo>
                          <a:lnTo>
                            <a:pt x="2" y="14"/>
                          </a:lnTo>
                          <a:lnTo>
                            <a:pt x="1" y="9"/>
                          </a:lnTo>
                          <a:lnTo>
                            <a:pt x="1" y="5"/>
                          </a:lnTo>
                          <a:lnTo>
                            <a:pt x="1" y="3"/>
                          </a:lnTo>
                          <a:lnTo>
                            <a:pt x="1" y="1"/>
                          </a:lnTo>
                          <a:lnTo>
                            <a:pt x="0" y="0"/>
                          </a:lnTo>
                          <a:lnTo>
                            <a:pt x="0" y="1"/>
                          </a:lnTo>
                          <a:lnTo>
                            <a:pt x="0" y="3"/>
                          </a:lnTo>
                          <a:lnTo>
                            <a:pt x="0" y="6"/>
                          </a:lnTo>
                          <a:lnTo>
                            <a:pt x="0" y="9"/>
                          </a:lnTo>
                          <a:lnTo>
                            <a:pt x="1" y="11"/>
                          </a:lnTo>
                          <a:lnTo>
                            <a:pt x="2"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1844" name=""/>
                  <p:cNvGrpSpPr/>
                  <p:nvPr/>
                </p:nvGrpSpPr>
                <p:grpSpPr>
                  <a:xfrm>
                    <a:off x="5055840" y="1701720"/>
                    <a:ext cx="157320" cy="243000"/>
                    <a:chOff x="5055840" y="1701720"/>
                    <a:chExt cx="157320" cy="243000"/>
                  </a:xfrm>
                </p:grpSpPr>
                <p:sp>
                  <p:nvSpPr>
                    <p:cNvPr id="1845" name=""/>
                    <p:cNvSpPr/>
                    <p:nvPr/>
                  </p:nvSpPr>
                  <p:spPr>
                    <a:xfrm>
                      <a:off x="5055840" y="1701720"/>
                      <a:ext cx="157320" cy="243000"/>
                    </a:xfrm>
                    <a:custGeom>
                      <a:avLst/>
                      <a:gdLst/>
                      <a:ahLst/>
                      <a:rect l="l" t="t" r="r" b="b"/>
                      <a:pathLst>
                        <a:path w="99" h="153">
                          <a:moveTo>
                            <a:pt x="71" y="2"/>
                          </a:moveTo>
                          <a:lnTo>
                            <a:pt x="62" y="11"/>
                          </a:lnTo>
                          <a:lnTo>
                            <a:pt x="44" y="15"/>
                          </a:lnTo>
                          <a:lnTo>
                            <a:pt x="36" y="16"/>
                          </a:lnTo>
                          <a:lnTo>
                            <a:pt x="23" y="19"/>
                          </a:lnTo>
                          <a:lnTo>
                            <a:pt x="18" y="24"/>
                          </a:lnTo>
                          <a:lnTo>
                            <a:pt x="15" y="30"/>
                          </a:lnTo>
                          <a:lnTo>
                            <a:pt x="14" y="36"/>
                          </a:lnTo>
                          <a:lnTo>
                            <a:pt x="11" y="52"/>
                          </a:lnTo>
                          <a:lnTo>
                            <a:pt x="10" y="61"/>
                          </a:lnTo>
                          <a:lnTo>
                            <a:pt x="8" y="72"/>
                          </a:lnTo>
                          <a:lnTo>
                            <a:pt x="6" y="82"/>
                          </a:lnTo>
                          <a:lnTo>
                            <a:pt x="4" y="93"/>
                          </a:lnTo>
                          <a:lnTo>
                            <a:pt x="4" y="104"/>
                          </a:lnTo>
                          <a:lnTo>
                            <a:pt x="2" y="118"/>
                          </a:lnTo>
                          <a:lnTo>
                            <a:pt x="1" y="135"/>
                          </a:lnTo>
                          <a:lnTo>
                            <a:pt x="0" y="148"/>
                          </a:lnTo>
                          <a:lnTo>
                            <a:pt x="6" y="149"/>
                          </a:lnTo>
                          <a:lnTo>
                            <a:pt x="10" y="150"/>
                          </a:lnTo>
                          <a:lnTo>
                            <a:pt x="15" y="151"/>
                          </a:lnTo>
                          <a:lnTo>
                            <a:pt x="24" y="152"/>
                          </a:lnTo>
                          <a:lnTo>
                            <a:pt x="31" y="152"/>
                          </a:lnTo>
                          <a:lnTo>
                            <a:pt x="37" y="151"/>
                          </a:lnTo>
                          <a:lnTo>
                            <a:pt x="43" y="147"/>
                          </a:lnTo>
                          <a:lnTo>
                            <a:pt x="41" y="135"/>
                          </a:lnTo>
                          <a:lnTo>
                            <a:pt x="41" y="123"/>
                          </a:lnTo>
                          <a:lnTo>
                            <a:pt x="41" y="110"/>
                          </a:lnTo>
                          <a:lnTo>
                            <a:pt x="41" y="82"/>
                          </a:lnTo>
                          <a:lnTo>
                            <a:pt x="44" y="106"/>
                          </a:lnTo>
                          <a:lnTo>
                            <a:pt x="44" y="111"/>
                          </a:lnTo>
                          <a:lnTo>
                            <a:pt x="49" y="114"/>
                          </a:lnTo>
                          <a:lnTo>
                            <a:pt x="49" y="123"/>
                          </a:lnTo>
                          <a:lnTo>
                            <a:pt x="57" y="126"/>
                          </a:lnTo>
                          <a:lnTo>
                            <a:pt x="76" y="128"/>
                          </a:lnTo>
                          <a:lnTo>
                            <a:pt x="98" y="127"/>
                          </a:lnTo>
                          <a:lnTo>
                            <a:pt x="96" y="119"/>
                          </a:lnTo>
                          <a:lnTo>
                            <a:pt x="94" y="108"/>
                          </a:lnTo>
                          <a:lnTo>
                            <a:pt x="93" y="95"/>
                          </a:lnTo>
                          <a:lnTo>
                            <a:pt x="92" y="80"/>
                          </a:lnTo>
                          <a:lnTo>
                            <a:pt x="93" y="61"/>
                          </a:lnTo>
                          <a:lnTo>
                            <a:pt x="94" y="43"/>
                          </a:lnTo>
                          <a:lnTo>
                            <a:pt x="95" y="31"/>
                          </a:lnTo>
                          <a:lnTo>
                            <a:pt x="92" y="23"/>
                          </a:lnTo>
                          <a:lnTo>
                            <a:pt x="87" y="22"/>
                          </a:lnTo>
                          <a:lnTo>
                            <a:pt x="81" y="16"/>
                          </a:lnTo>
                          <a:lnTo>
                            <a:pt x="76" y="12"/>
                          </a:lnTo>
                          <a:lnTo>
                            <a:pt x="74" y="7"/>
                          </a:lnTo>
                          <a:lnTo>
                            <a:pt x="75" y="0"/>
                          </a:lnTo>
                          <a:lnTo>
                            <a:pt x="71" y="2"/>
                          </a:lnTo>
                        </a:path>
                      </a:pathLst>
                    </a:custGeom>
                    <a:solidFill>
                      <a:srgbClr val="400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6" name=""/>
                    <p:cNvGrpSpPr/>
                    <p:nvPr/>
                  </p:nvGrpSpPr>
                  <p:grpSpPr>
                    <a:xfrm>
                      <a:off x="5057640" y="1709640"/>
                      <a:ext cx="150840" cy="230040"/>
                      <a:chOff x="5057640" y="1709640"/>
                      <a:chExt cx="150840" cy="230040"/>
                    </a:xfrm>
                  </p:grpSpPr>
                  <p:sp>
                    <p:nvSpPr>
                      <p:cNvPr id="1847" name=""/>
                      <p:cNvSpPr/>
                      <p:nvPr/>
                    </p:nvSpPr>
                    <p:spPr>
                      <a:xfrm>
                        <a:off x="5057640" y="1719000"/>
                        <a:ext cx="150840" cy="220680"/>
                      </a:xfrm>
                      <a:custGeom>
                        <a:avLst/>
                        <a:gdLst/>
                        <a:ahLst/>
                        <a:rect l="l" t="t" r="r" b="b"/>
                        <a:pathLst>
                          <a:path w="95" h="139">
                            <a:moveTo>
                              <a:pt x="94" y="116"/>
                            </a:moveTo>
                            <a:lnTo>
                              <a:pt x="92" y="103"/>
                            </a:lnTo>
                            <a:lnTo>
                              <a:pt x="88" y="79"/>
                            </a:lnTo>
                            <a:lnTo>
                              <a:pt x="89" y="59"/>
                            </a:lnTo>
                            <a:lnTo>
                              <a:pt x="90" y="46"/>
                            </a:lnTo>
                            <a:lnTo>
                              <a:pt x="91" y="31"/>
                            </a:lnTo>
                            <a:lnTo>
                              <a:pt x="91" y="23"/>
                            </a:lnTo>
                            <a:lnTo>
                              <a:pt x="89" y="15"/>
                            </a:lnTo>
                            <a:lnTo>
                              <a:pt x="85" y="15"/>
                            </a:lnTo>
                            <a:lnTo>
                              <a:pt x="80" y="18"/>
                            </a:lnTo>
                            <a:lnTo>
                              <a:pt x="76" y="22"/>
                            </a:lnTo>
                            <a:lnTo>
                              <a:pt x="71" y="15"/>
                            </a:lnTo>
                            <a:lnTo>
                              <a:pt x="68" y="10"/>
                            </a:lnTo>
                            <a:lnTo>
                              <a:pt x="66" y="0"/>
                            </a:lnTo>
                            <a:lnTo>
                              <a:pt x="61" y="4"/>
                            </a:lnTo>
                            <a:lnTo>
                              <a:pt x="50" y="6"/>
                            </a:lnTo>
                            <a:lnTo>
                              <a:pt x="40" y="9"/>
                            </a:lnTo>
                            <a:lnTo>
                              <a:pt x="33" y="9"/>
                            </a:lnTo>
                            <a:lnTo>
                              <a:pt x="22" y="13"/>
                            </a:lnTo>
                            <a:lnTo>
                              <a:pt x="18" y="15"/>
                            </a:lnTo>
                            <a:lnTo>
                              <a:pt x="16" y="28"/>
                            </a:lnTo>
                            <a:lnTo>
                              <a:pt x="20" y="40"/>
                            </a:lnTo>
                            <a:lnTo>
                              <a:pt x="25" y="54"/>
                            </a:lnTo>
                            <a:lnTo>
                              <a:pt x="26" y="63"/>
                            </a:lnTo>
                            <a:lnTo>
                              <a:pt x="30" y="81"/>
                            </a:lnTo>
                            <a:lnTo>
                              <a:pt x="30" y="91"/>
                            </a:lnTo>
                            <a:lnTo>
                              <a:pt x="25" y="71"/>
                            </a:lnTo>
                            <a:lnTo>
                              <a:pt x="22" y="54"/>
                            </a:lnTo>
                            <a:lnTo>
                              <a:pt x="18" y="44"/>
                            </a:lnTo>
                            <a:lnTo>
                              <a:pt x="14" y="34"/>
                            </a:lnTo>
                            <a:lnTo>
                              <a:pt x="12" y="52"/>
                            </a:lnTo>
                            <a:lnTo>
                              <a:pt x="12" y="65"/>
                            </a:lnTo>
                            <a:lnTo>
                              <a:pt x="12" y="72"/>
                            </a:lnTo>
                            <a:lnTo>
                              <a:pt x="17" y="89"/>
                            </a:lnTo>
                            <a:lnTo>
                              <a:pt x="18" y="102"/>
                            </a:lnTo>
                            <a:lnTo>
                              <a:pt x="17" y="118"/>
                            </a:lnTo>
                            <a:lnTo>
                              <a:pt x="17" y="127"/>
                            </a:lnTo>
                            <a:lnTo>
                              <a:pt x="14" y="111"/>
                            </a:lnTo>
                            <a:lnTo>
                              <a:pt x="15" y="100"/>
                            </a:lnTo>
                            <a:lnTo>
                              <a:pt x="14" y="89"/>
                            </a:lnTo>
                            <a:lnTo>
                              <a:pt x="10" y="77"/>
                            </a:lnTo>
                            <a:lnTo>
                              <a:pt x="9" y="70"/>
                            </a:lnTo>
                            <a:lnTo>
                              <a:pt x="9" y="65"/>
                            </a:lnTo>
                            <a:lnTo>
                              <a:pt x="6" y="77"/>
                            </a:lnTo>
                            <a:lnTo>
                              <a:pt x="5" y="86"/>
                            </a:lnTo>
                            <a:lnTo>
                              <a:pt x="5" y="90"/>
                            </a:lnTo>
                            <a:lnTo>
                              <a:pt x="5" y="96"/>
                            </a:lnTo>
                            <a:lnTo>
                              <a:pt x="3" y="106"/>
                            </a:lnTo>
                            <a:lnTo>
                              <a:pt x="6" y="94"/>
                            </a:lnTo>
                            <a:lnTo>
                              <a:pt x="8" y="89"/>
                            </a:lnTo>
                            <a:lnTo>
                              <a:pt x="8" y="94"/>
                            </a:lnTo>
                            <a:lnTo>
                              <a:pt x="6" y="104"/>
                            </a:lnTo>
                            <a:lnTo>
                              <a:pt x="3" y="112"/>
                            </a:lnTo>
                            <a:lnTo>
                              <a:pt x="2" y="120"/>
                            </a:lnTo>
                            <a:lnTo>
                              <a:pt x="1" y="129"/>
                            </a:lnTo>
                            <a:lnTo>
                              <a:pt x="0" y="136"/>
                            </a:lnTo>
                            <a:lnTo>
                              <a:pt x="5" y="136"/>
                            </a:lnTo>
                            <a:lnTo>
                              <a:pt x="7" y="135"/>
                            </a:lnTo>
                            <a:lnTo>
                              <a:pt x="12" y="138"/>
                            </a:lnTo>
                            <a:lnTo>
                              <a:pt x="21" y="138"/>
                            </a:lnTo>
                            <a:lnTo>
                              <a:pt x="28" y="138"/>
                            </a:lnTo>
                            <a:lnTo>
                              <a:pt x="32" y="136"/>
                            </a:lnTo>
                            <a:lnTo>
                              <a:pt x="38" y="135"/>
                            </a:lnTo>
                            <a:lnTo>
                              <a:pt x="38" y="122"/>
                            </a:lnTo>
                            <a:lnTo>
                              <a:pt x="38" y="113"/>
                            </a:lnTo>
                            <a:lnTo>
                              <a:pt x="36" y="105"/>
                            </a:lnTo>
                            <a:lnTo>
                              <a:pt x="37" y="93"/>
                            </a:lnTo>
                            <a:lnTo>
                              <a:pt x="38" y="80"/>
                            </a:lnTo>
                            <a:lnTo>
                              <a:pt x="38" y="69"/>
                            </a:lnTo>
                            <a:lnTo>
                              <a:pt x="36" y="53"/>
                            </a:lnTo>
                            <a:lnTo>
                              <a:pt x="33" y="45"/>
                            </a:lnTo>
                            <a:lnTo>
                              <a:pt x="33" y="38"/>
                            </a:lnTo>
                            <a:lnTo>
                              <a:pt x="36" y="47"/>
                            </a:lnTo>
                            <a:lnTo>
                              <a:pt x="39" y="57"/>
                            </a:lnTo>
                            <a:lnTo>
                              <a:pt x="40" y="65"/>
                            </a:lnTo>
                            <a:lnTo>
                              <a:pt x="42" y="72"/>
                            </a:lnTo>
                            <a:lnTo>
                              <a:pt x="43" y="82"/>
                            </a:lnTo>
                            <a:lnTo>
                              <a:pt x="43" y="90"/>
                            </a:lnTo>
                            <a:lnTo>
                              <a:pt x="45" y="99"/>
                            </a:lnTo>
                            <a:lnTo>
                              <a:pt x="45" y="91"/>
                            </a:lnTo>
                            <a:lnTo>
                              <a:pt x="45" y="83"/>
                            </a:lnTo>
                            <a:lnTo>
                              <a:pt x="45" y="71"/>
                            </a:lnTo>
                            <a:lnTo>
                              <a:pt x="44" y="61"/>
                            </a:lnTo>
                            <a:lnTo>
                              <a:pt x="43" y="54"/>
                            </a:lnTo>
                            <a:lnTo>
                              <a:pt x="45" y="62"/>
                            </a:lnTo>
                            <a:lnTo>
                              <a:pt x="48" y="71"/>
                            </a:lnTo>
                            <a:lnTo>
                              <a:pt x="48" y="80"/>
                            </a:lnTo>
                            <a:lnTo>
                              <a:pt x="48" y="89"/>
                            </a:lnTo>
                            <a:lnTo>
                              <a:pt x="48" y="96"/>
                            </a:lnTo>
                            <a:lnTo>
                              <a:pt x="49" y="99"/>
                            </a:lnTo>
                            <a:lnTo>
                              <a:pt x="50" y="102"/>
                            </a:lnTo>
                            <a:lnTo>
                              <a:pt x="50" y="112"/>
                            </a:lnTo>
                            <a:lnTo>
                              <a:pt x="56" y="114"/>
                            </a:lnTo>
                            <a:lnTo>
                              <a:pt x="68" y="114"/>
                            </a:lnTo>
                            <a:lnTo>
                              <a:pt x="64" y="104"/>
                            </a:lnTo>
                            <a:lnTo>
                              <a:pt x="60" y="93"/>
                            </a:lnTo>
                            <a:lnTo>
                              <a:pt x="59" y="80"/>
                            </a:lnTo>
                            <a:lnTo>
                              <a:pt x="59" y="69"/>
                            </a:lnTo>
                            <a:lnTo>
                              <a:pt x="56" y="58"/>
                            </a:lnTo>
                            <a:lnTo>
                              <a:pt x="62" y="72"/>
                            </a:lnTo>
                            <a:lnTo>
                              <a:pt x="62" y="79"/>
                            </a:lnTo>
                            <a:lnTo>
                              <a:pt x="62" y="89"/>
                            </a:lnTo>
                            <a:lnTo>
                              <a:pt x="65" y="99"/>
                            </a:lnTo>
                            <a:lnTo>
                              <a:pt x="67" y="107"/>
                            </a:lnTo>
                            <a:lnTo>
                              <a:pt x="71" y="116"/>
                            </a:lnTo>
                            <a:lnTo>
                              <a:pt x="80" y="116"/>
                            </a:lnTo>
                            <a:lnTo>
                              <a:pt x="94" y="116"/>
                            </a:lnTo>
                          </a:path>
                        </a:pathLst>
                      </a:custGeom>
                      <a:solidFill>
                        <a:srgbClr val="600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163840" y="1709640"/>
                        <a:ext cx="33480" cy="42840"/>
                      </a:xfrm>
                      <a:custGeom>
                        <a:avLst/>
                        <a:gdLst/>
                        <a:ahLst/>
                        <a:rect l="l" t="t" r="r" b="b"/>
                        <a:pathLst>
                          <a:path w="21" h="27">
                            <a:moveTo>
                              <a:pt x="4" y="0"/>
                            </a:moveTo>
                            <a:lnTo>
                              <a:pt x="0" y="5"/>
                            </a:lnTo>
                            <a:lnTo>
                              <a:pt x="1" y="11"/>
                            </a:lnTo>
                            <a:lnTo>
                              <a:pt x="5" y="19"/>
                            </a:lnTo>
                            <a:lnTo>
                              <a:pt x="6" y="22"/>
                            </a:lnTo>
                            <a:lnTo>
                              <a:pt x="9" y="26"/>
                            </a:lnTo>
                            <a:lnTo>
                              <a:pt x="13" y="23"/>
                            </a:lnTo>
                            <a:lnTo>
                              <a:pt x="16" y="22"/>
                            </a:lnTo>
                            <a:lnTo>
                              <a:pt x="20" y="20"/>
                            </a:lnTo>
                            <a:lnTo>
                              <a:pt x="14" y="16"/>
                            </a:lnTo>
                            <a:lnTo>
                              <a:pt x="10" y="12"/>
                            </a:lnTo>
                            <a:lnTo>
                              <a:pt x="6" y="9"/>
                            </a:lnTo>
                            <a:lnTo>
                              <a:pt x="4" y="6"/>
                            </a:lnTo>
                            <a:lnTo>
                              <a:pt x="4" y="0"/>
                            </a:lnTo>
                          </a:path>
                        </a:pathLst>
                      </a:custGeom>
                      <a:solidFill>
                        <a:srgbClr val="a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849" name=""/>
                  <p:cNvGrpSpPr/>
                  <p:nvPr/>
                </p:nvGrpSpPr>
                <p:grpSpPr>
                  <a:xfrm>
                    <a:off x="5135400" y="1877760"/>
                    <a:ext cx="136440" cy="28800"/>
                    <a:chOff x="5135400" y="1877760"/>
                    <a:chExt cx="136440" cy="28800"/>
                  </a:xfrm>
                </p:grpSpPr>
                <p:sp>
                  <p:nvSpPr>
                    <p:cNvPr id="1850" name=""/>
                    <p:cNvSpPr/>
                    <p:nvPr/>
                  </p:nvSpPr>
                  <p:spPr>
                    <a:xfrm>
                      <a:off x="5135400" y="1877760"/>
                      <a:ext cx="136440" cy="28800"/>
                    </a:xfrm>
                    <a:custGeom>
                      <a:avLst/>
                      <a:gdLst/>
                      <a:ahLst/>
                      <a:rect l="l" t="t" r="r" b="b"/>
                      <a:pathLst>
                        <a:path w="86" h="18">
                          <a:moveTo>
                            <a:pt x="0" y="3"/>
                          </a:moveTo>
                          <a:lnTo>
                            <a:pt x="12" y="4"/>
                          </a:lnTo>
                          <a:lnTo>
                            <a:pt x="30" y="4"/>
                          </a:lnTo>
                          <a:lnTo>
                            <a:pt x="52" y="4"/>
                          </a:lnTo>
                          <a:lnTo>
                            <a:pt x="70" y="2"/>
                          </a:lnTo>
                          <a:lnTo>
                            <a:pt x="85" y="0"/>
                          </a:lnTo>
                          <a:lnTo>
                            <a:pt x="85" y="11"/>
                          </a:lnTo>
                          <a:lnTo>
                            <a:pt x="65" y="16"/>
                          </a:lnTo>
                          <a:lnTo>
                            <a:pt x="42" y="17"/>
                          </a:lnTo>
                          <a:lnTo>
                            <a:pt x="26" y="17"/>
                          </a:lnTo>
                          <a:lnTo>
                            <a:pt x="8" y="16"/>
                          </a:lnTo>
                          <a:lnTo>
                            <a:pt x="0" y="13"/>
                          </a:lnTo>
                          <a:lnTo>
                            <a:pt x="0" y="3"/>
                          </a:lnTo>
                        </a:path>
                      </a:pathLst>
                    </a:custGeom>
                    <a:solidFill>
                      <a:srgbClr val="8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1" name=""/>
                    <p:cNvSpPr/>
                    <p:nvPr/>
                  </p:nvSpPr>
                  <p:spPr>
                    <a:xfrm>
                      <a:off x="5179680" y="1882800"/>
                      <a:ext cx="46080" cy="21960"/>
                    </a:xfrm>
                    <a:prstGeom prst="ellipse">
                      <a:avLst/>
                    </a:prstGeom>
                    <a:solidFill>
                      <a:srgbClr val="8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852" name=""/>
                <p:cNvGrpSpPr/>
                <p:nvPr/>
              </p:nvGrpSpPr>
              <p:grpSpPr>
                <a:xfrm>
                  <a:off x="4406760" y="1803240"/>
                  <a:ext cx="717480" cy="500040"/>
                  <a:chOff x="4406760" y="1803240"/>
                  <a:chExt cx="717480" cy="500040"/>
                </a:xfrm>
              </p:grpSpPr>
              <p:grpSp>
                <p:nvGrpSpPr>
                  <p:cNvPr id="1853" name=""/>
                  <p:cNvGrpSpPr/>
                  <p:nvPr/>
                </p:nvGrpSpPr>
                <p:grpSpPr>
                  <a:xfrm>
                    <a:off x="4643280" y="1869840"/>
                    <a:ext cx="480960" cy="303480"/>
                    <a:chOff x="4643280" y="1869840"/>
                    <a:chExt cx="480960" cy="303480"/>
                  </a:xfrm>
                </p:grpSpPr>
                <p:grpSp>
                  <p:nvGrpSpPr>
                    <p:cNvPr id="1854" name=""/>
                    <p:cNvGrpSpPr/>
                    <p:nvPr/>
                  </p:nvGrpSpPr>
                  <p:grpSpPr>
                    <a:xfrm>
                      <a:off x="4752720" y="1869840"/>
                      <a:ext cx="371520" cy="274680"/>
                      <a:chOff x="4752720" y="1869840"/>
                      <a:chExt cx="371520" cy="274680"/>
                    </a:xfrm>
                  </p:grpSpPr>
                  <p:grpSp>
                    <p:nvGrpSpPr>
                      <p:cNvPr id="1855" name=""/>
                      <p:cNvGrpSpPr/>
                      <p:nvPr/>
                    </p:nvGrpSpPr>
                    <p:grpSpPr>
                      <a:xfrm>
                        <a:off x="4752720" y="1869840"/>
                        <a:ext cx="371520" cy="274680"/>
                        <a:chOff x="4752720" y="1869840"/>
                        <a:chExt cx="371520" cy="274680"/>
                      </a:xfrm>
                    </p:grpSpPr>
                    <p:grpSp>
                      <p:nvGrpSpPr>
                        <p:cNvPr id="1856" name=""/>
                        <p:cNvGrpSpPr/>
                        <p:nvPr/>
                      </p:nvGrpSpPr>
                      <p:grpSpPr>
                        <a:xfrm>
                          <a:off x="4752720" y="2023920"/>
                          <a:ext cx="371520" cy="120600"/>
                          <a:chOff x="4752720" y="2023920"/>
                          <a:chExt cx="371520" cy="120600"/>
                        </a:xfrm>
                      </p:grpSpPr>
                      <p:sp>
                        <p:nvSpPr>
                          <p:cNvPr id="1857" name=""/>
                          <p:cNvSpPr/>
                          <p:nvPr/>
                        </p:nvSpPr>
                        <p:spPr>
                          <a:xfrm>
                            <a:off x="4752720" y="2023920"/>
                            <a:ext cx="214200" cy="120600"/>
                          </a:xfrm>
                          <a:custGeom>
                            <a:avLst/>
                            <a:gdLst/>
                            <a:ahLst/>
                            <a:rect l="l" t="t" r="r" b="b"/>
                            <a:pathLst>
                              <a:path w="135" h="76">
                                <a:moveTo>
                                  <a:pt x="134" y="22"/>
                                </a:moveTo>
                                <a:lnTo>
                                  <a:pt x="134" y="75"/>
                                </a:lnTo>
                                <a:lnTo>
                                  <a:pt x="0" y="36"/>
                                </a:lnTo>
                                <a:lnTo>
                                  <a:pt x="0" y="0"/>
                                </a:lnTo>
                                <a:lnTo>
                                  <a:pt x="134" y="2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4965480" y="2052720"/>
                            <a:ext cx="158760" cy="91800"/>
                          </a:xfrm>
                          <a:custGeom>
                            <a:avLst/>
                            <a:gdLst/>
                            <a:ahLst/>
                            <a:rect l="l" t="t" r="r" b="b"/>
                            <a:pathLst>
                              <a:path w="100" h="58">
                                <a:moveTo>
                                  <a:pt x="0" y="5"/>
                                </a:moveTo>
                                <a:lnTo>
                                  <a:pt x="0" y="57"/>
                                </a:lnTo>
                                <a:lnTo>
                                  <a:pt x="99" y="45"/>
                                </a:lnTo>
                                <a:lnTo>
                                  <a:pt x="99" y="0"/>
                                </a:lnTo>
                                <a:lnTo>
                                  <a:pt x="0" y="5"/>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9" name=""/>
                          <p:cNvSpPr/>
                          <p:nvPr/>
                        </p:nvSpPr>
                        <p:spPr>
                          <a:xfrm>
                            <a:off x="4752720" y="2023920"/>
                            <a:ext cx="371520" cy="36720"/>
                          </a:xfrm>
                          <a:custGeom>
                            <a:avLst/>
                            <a:gdLst/>
                            <a:ahLst/>
                            <a:rect l="l" t="t" r="r" b="b"/>
                            <a:pathLst>
                              <a:path w="234" h="23">
                                <a:moveTo>
                                  <a:pt x="233" y="17"/>
                                </a:moveTo>
                                <a:lnTo>
                                  <a:pt x="132" y="22"/>
                                </a:lnTo>
                                <a:lnTo>
                                  <a:pt x="0" y="0"/>
                                </a:lnTo>
                                <a:lnTo>
                                  <a:pt x="97" y="0"/>
                                </a:lnTo>
                                <a:lnTo>
                                  <a:pt x="233" y="17"/>
                                </a:lnTo>
                              </a:path>
                            </a:pathLst>
                          </a:cu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1860" name=""/>
                        <p:cNvSpPr/>
                        <p:nvPr/>
                      </p:nvSpPr>
                      <p:spPr>
                        <a:xfrm>
                          <a:off x="4867200" y="2012760"/>
                          <a:ext cx="136440" cy="38160"/>
                        </a:xfrm>
                        <a:custGeom>
                          <a:avLst/>
                          <a:gdLst/>
                          <a:ahLst/>
                          <a:rect l="l" t="t" r="r" b="b"/>
                          <a:pathLst>
                            <a:path w="86" h="24">
                              <a:moveTo>
                                <a:pt x="85" y="13"/>
                              </a:moveTo>
                              <a:lnTo>
                                <a:pt x="85" y="20"/>
                              </a:lnTo>
                              <a:lnTo>
                                <a:pt x="45" y="23"/>
                              </a:lnTo>
                              <a:lnTo>
                                <a:pt x="0" y="14"/>
                              </a:lnTo>
                              <a:lnTo>
                                <a:pt x="0" y="0"/>
                              </a:lnTo>
                              <a:lnTo>
                                <a:pt x="85" y="13"/>
                              </a:lnTo>
                            </a:path>
                          </a:pathLst>
                        </a:custGeom>
                        <a:solidFill>
                          <a:srgbClr val="60606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1861" name=""/>
                        <p:cNvGrpSpPr/>
                        <p:nvPr/>
                      </p:nvGrpSpPr>
                      <p:grpSpPr>
                        <a:xfrm>
                          <a:off x="4794120" y="1869840"/>
                          <a:ext cx="299880" cy="171720"/>
                          <a:chOff x="4794120" y="1869840"/>
                          <a:chExt cx="299880" cy="171720"/>
                        </a:xfrm>
                      </p:grpSpPr>
                      <p:sp>
                        <p:nvSpPr>
                          <p:cNvPr id="1862" name=""/>
                          <p:cNvSpPr/>
                          <p:nvPr/>
                        </p:nvSpPr>
                        <p:spPr>
                          <a:xfrm>
                            <a:off x="4794120" y="1869840"/>
                            <a:ext cx="172800" cy="168480"/>
                          </a:xfrm>
                          <a:custGeom>
                            <a:avLst/>
                            <a:gdLst/>
                            <a:ahLst/>
                            <a:rect l="l" t="t" r="r" b="b"/>
                            <a:pathLst>
                              <a:path w="109" h="106">
                                <a:moveTo>
                                  <a:pt x="92" y="105"/>
                                </a:moveTo>
                                <a:lnTo>
                                  <a:pt x="108" y="3"/>
                                </a:lnTo>
                                <a:lnTo>
                                  <a:pt x="14" y="0"/>
                                </a:lnTo>
                                <a:lnTo>
                                  <a:pt x="0" y="90"/>
                                </a:lnTo>
                                <a:lnTo>
                                  <a:pt x="92" y="10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4941720" y="1874880"/>
                            <a:ext cx="152280" cy="166680"/>
                          </a:xfrm>
                          <a:custGeom>
                            <a:avLst/>
                            <a:gdLst/>
                            <a:ahLst/>
                            <a:rect l="l" t="t" r="r" b="b"/>
                            <a:pathLst>
                              <a:path w="96" h="105">
                                <a:moveTo>
                                  <a:pt x="15" y="0"/>
                                </a:moveTo>
                                <a:lnTo>
                                  <a:pt x="95" y="23"/>
                                </a:lnTo>
                                <a:lnTo>
                                  <a:pt x="84" y="104"/>
                                </a:lnTo>
                                <a:lnTo>
                                  <a:pt x="0" y="102"/>
                                </a:lnTo>
                                <a:lnTo>
                                  <a:pt x="1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4814640" y="1886040"/>
                            <a:ext cx="123840" cy="126720"/>
                          </a:xfrm>
                          <a:custGeom>
                            <a:avLst/>
                            <a:gdLst/>
                            <a:ahLst/>
                            <a:rect l="l" t="t" r="r" b="b"/>
                            <a:pathLst>
                              <a:path w="78" h="80">
                                <a:moveTo>
                                  <a:pt x="77" y="3"/>
                                </a:moveTo>
                                <a:lnTo>
                                  <a:pt x="66" y="79"/>
                                </a:lnTo>
                                <a:lnTo>
                                  <a:pt x="0" y="70"/>
                                </a:lnTo>
                                <a:lnTo>
                                  <a:pt x="11" y="0"/>
                                </a:lnTo>
                                <a:lnTo>
                                  <a:pt x="77" y="3"/>
                                </a:lnTo>
                              </a:path>
                            </a:pathLst>
                          </a:custGeom>
                          <a:solidFill>
                            <a:srgbClr val="0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65" name=""/>
                      <p:cNvGrpSpPr/>
                      <p:nvPr/>
                    </p:nvGrpSpPr>
                    <p:grpSpPr>
                      <a:xfrm>
                        <a:off x="4767120" y="2036520"/>
                        <a:ext cx="122040" cy="78120"/>
                        <a:chOff x="4767120" y="2036520"/>
                        <a:chExt cx="122040" cy="78120"/>
                      </a:xfrm>
                    </p:grpSpPr>
                    <p:sp>
                      <p:nvSpPr>
                        <p:cNvPr id="1866" name=""/>
                        <p:cNvSpPr/>
                        <p:nvPr/>
                      </p:nvSpPr>
                      <p:spPr>
                        <a:xfrm>
                          <a:off x="4767120" y="2036520"/>
                          <a:ext cx="122040" cy="78120"/>
                        </a:xfrm>
                        <a:custGeom>
                          <a:avLst/>
                          <a:gdLst/>
                          <a:ahLst/>
                          <a:rect l="l" t="t" r="r" b="b"/>
                          <a:pathLst>
                            <a:path w="77" h="49">
                              <a:moveTo>
                                <a:pt x="0" y="0"/>
                              </a:moveTo>
                              <a:lnTo>
                                <a:pt x="76" y="14"/>
                              </a:lnTo>
                              <a:lnTo>
                                <a:pt x="76" y="48"/>
                              </a:lnTo>
                              <a:lnTo>
                                <a:pt x="0" y="27"/>
                              </a:lnTo>
                              <a:lnTo>
                                <a:pt x="0" y="0"/>
                              </a:lnTo>
                            </a:path>
                          </a:pathLst>
                        </a:custGeom>
                        <a:solidFill>
                          <a:srgbClr val="40404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67" name=""/>
                        <p:cNvSpPr/>
                        <p:nvPr/>
                      </p:nvSpPr>
                      <p:spPr>
                        <a:xfrm flipH="1" flipV="1">
                          <a:off x="4777920" y="2055600"/>
                          <a:ext cx="28440" cy="5040"/>
                        </a:xfrm>
                        <a:prstGeom prst="line">
                          <a:avLst/>
                        </a:prstGeom>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68" name=""/>
                        <p:cNvSpPr/>
                        <p:nvPr/>
                      </p:nvSpPr>
                      <p:spPr>
                        <a:xfrm>
                          <a:off x="4829040" y="2066760"/>
                          <a:ext cx="38160" cy="7920"/>
                        </a:xfrm>
                        <a:prstGeom prst="line">
                          <a:avLst/>
                        </a:prstGeom>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869" name=""/>
                        <p:cNvSpPr/>
                        <p:nvPr/>
                      </p:nvSpPr>
                      <p:spPr>
                        <a:xfrm>
                          <a:off x="4817880" y="2047680"/>
                          <a:ext cx="1440" cy="47880"/>
                        </a:xfrm>
                        <a:prstGeom prst="line">
                          <a:avLst/>
                        </a:prstGeom>
                        <a:ln w="0">
                          <a:noFill/>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870" name=""/>
                        <p:cNvSpPr/>
                        <p:nvPr/>
                      </p:nvSpPr>
                      <p:spPr>
                        <a:xfrm>
                          <a:off x="4875120" y="2058840"/>
                          <a:ext cx="1440" cy="52560"/>
                        </a:xfrm>
                        <a:prstGeom prst="line">
                          <a:avLst/>
                        </a:prstGeom>
                        <a:ln w="0">
                          <a:noFill/>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71" name=""/>
                        <p:cNvSpPr/>
                        <p:nvPr/>
                      </p:nvSpPr>
                      <p:spPr>
                        <a:xfrm>
                          <a:off x="4770360" y="2057400"/>
                          <a:ext cx="104760" cy="23760"/>
                        </a:xfrm>
                        <a:prstGeom prst="line">
                          <a:avLst/>
                        </a:prstGeom>
                        <a:ln w="0">
                          <a:noFill/>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872" name=""/>
                        <p:cNvSpPr/>
                        <p:nvPr/>
                      </p:nvSpPr>
                      <p:spPr>
                        <a:xfrm flipH="1" flipV="1">
                          <a:off x="4768560" y="2050560"/>
                          <a:ext cx="106560" cy="20520"/>
                        </a:xfrm>
                        <a:prstGeom prst="line">
                          <a:avLst/>
                        </a:prstGeom>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grpSp>
                </p:grpSp>
                <p:grpSp>
                  <p:nvGrpSpPr>
                    <p:cNvPr id="1873" name=""/>
                    <p:cNvGrpSpPr/>
                    <p:nvPr/>
                  </p:nvGrpSpPr>
                  <p:grpSpPr>
                    <a:xfrm>
                      <a:off x="4643280" y="2038320"/>
                      <a:ext cx="290520" cy="135000"/>
                      <a:chOff x="4643280" y="2038320"/>
                      <a:chExt cx="290520" cy="135000"/>
                    </a:xfrm>
                  </p:grpSpPr>
                  <p:grpSp>
                    <p:nvGrpSpPr>
                      <p:cNvPr id="1874" name=""/>
                      <p:cNvGrpSpPr/>
                      <p:nvPr/>
                    </p:nvGrpSpPr>
                    <p:grpSpPr>
                      <a:xfrm>
                        <a:off x="4865400" y="2111400"/>
                        <a:ext cx="49320" cy="31680"/>
                        <a:chOff x="4865400" y="2111400"/>
                        <a:chExt cx="49320" cy="31680"/>
                      </a:xfrm>
                    </p:grpSpPr>
                    <p:sp>
                      <p:nvSpPr>
                        <p:cNvPr id="1875" name=""/>
                        <p:cNvSpPr/>
                        <p:nvPr/>
                      </p:nvSpPr>
                      <p:spPr>
                        <a:xfrm>
                          <a:off x="4900320" y="2111400"/>
                          <a:ext cx="14400" cy="31680"/>
                        </a:xfrm>
                        <a:custGeom>
                          <a:avLst/>
                          <a:gdLst/>
                          <a:ahLst/>
                          <a:rect l="l" t="t" r="r" b="b"/>
                          <a:pathLst>
                            <a:path w="9" h="20">
                              <a:moveTo>
                                <a:pt x="5" y="0"/>
                              </a:moveTo>
                              <a:lnTo>
                                <a:pt x="8" y="18"/>
                              </a:lnTo>
                              <a:lnTo>
                                <a:pt x="3" y="19"/>
                              </a:lnTo>
                              <a:lnTo>
                                <a:pt x="0" y="1"/>
                              </a:lnTo>
                              <a:lnTo>
                                <a:pt x="5"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76" name=""/>
                        <p:cNvSpPr/>
                        <p:nvPr/>
                      </p:nvSpPr>
                      <p:spPr>
                        <a:xfrm>
                          <a:off x="4865400" y="2114640"/>
                          <a:ext cx="41400" cy="28440"/>
                        </a:xfrm>
                        <a:custGeom>
                          <a:avLst/>
                          <a:gdLst/>
                          <a:ahLst/>
                          <a:rect l="l" t="t" r="r" b="b"/>
                          <a:pathLst>
                            <a:path w="26" h="18">
                              <a:moveTo>
                                <a:pt x="22" y="0"/>
                              </a:moveTo>
                              <a:lnTo>
                                <a:pt x="25" y="17"/>
                              </a:lnTo>
                              <a:lnTo>
                                <a:pt x="0" y="8"/>
                              </a:lnTo>
                              <a:lnTo>
                                <a:pt x="10" y="6"/>
                              </a:lnTo>
                              <a:lnTo>
                                <a:pt x="18" y="10"/>
                              </a:lnTo>
                              <a:lnTo>
                                <a:pt x="16" y="0"/>
                              </a:lnTo>
                              <a:lnTo>
                                <a:pt x="22" y="0"/>
                              </a:lnTo>
                            </a:path>
                          </a:pathLst>
                        </a:custGeom>
                        <a:solidFill>
                          <a:srgbClr val="40404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877" name=""/>
                      <p:cNvGrpSpPr/>
                      <p:nvPr/>
                    </p:nvGrpSpPr>
                    <p:grpSpPr>
                      <a:xfrm>
                        <a:off x="4643280" y="2038320"/>
                        <a:ext cx="290520" cy="135000"/>
                        <a:chOff x="4643280" y="2038320"/>
                        <a:chExt cx="290520" cy="135000"/>
                      </a:xfrm>
                    </p:grpSpPr>
                    <p:sp>
                      <p:nvSpPr>
                        <p:cNvPr id="1878" name=""/>
                        <p:cNvSpPr/>
                        <p:nvPr/>
                      </p:nvSpPr>
                      <p:spPr>
                        <a:xfrm>
                          <a:off x="4643280" y="2038320"/>
                          <a:ext cx="284040" cy="119160"/>
                        </a:xfrm>
                        <a:custGeom>
                          <a:avLst/>
                          <a:gdLst/>
                          <a:ahLst/>
                          <a:rect l="l" t="t" r="r" b="b"/>
                          <a:pathLst>
                            <a:path w="179" h="75">
                              <a:moveTo>
                                <a:pt x="178" y="31"/>
                              </a:moveTo>
                              <a:lnTo>
                                <a:pt x="93" y="74"/>
                              </a:lnTo>
                              <a:lnTo>
                                <a:pt x="0" y="32"/>
                              </a:lnTo>
                              <a:lnTo>
                                <a:pt x="71" y="0"/>
                              </a:lnTo>
                              <a:lnTo>
                                <a:pt x="178" y="3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4789440" y="2087640"/>
                          <a:ext cx="144360" cy="85680"/>
                        </a:xfrm>
                        <a:custGeom>
                          <a:avLst/>
                          <a:gdLst/>
                          <a:ahLst/>
                          <a:rect l="l" t="t" r="r" b="b"/>
                          <a:pathLst>
                            <a:path w="91" h="54">
                              <a:moveTo>
                                <a:pt x="87" y="0"/>
                              </a:moveTo>
                              <a:lnTo>
                                <a:pt x="0" y="44"/>
                              </a:lnTo>
                              <a:lnTo>
                                <a:pt x="3" y="53"/>
                              </a:lnTo>
                              <a:lnTo>
                                <a:pt x="90" y="9"/>
                              </a:lnTo>
                              <a:lnTo>
                                <a:pt x="87" y="0"/>
                              </a:lnTo>
                            </a:path>
                          </a:pathLst>
                        </a:custGeom>
                        <a:solidFill>
                          <a:srgbClr val="60606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80" name=""/>
                        <p:cNvSpPr/>
                        <p:nvPr/>
                      </p:nvSpPr>
                      <p:spPr>
                        <a:xfrm>
                          <a:off x="4643280" y="2089080"/>
                          <a:ext cx="152280" cy="84240"/>
                        </a:xfrm>
                        <a:custGeom>
                          <a:avLst/>
                          <a:gdLst/>
                          <a:ahLst/>
                          <a:rect l="l" t="t" r="r" b="b"/>
                          <a:pathLst>
                            <a:path w="96" h="53">
                              <a:moveTo>
                                <a:pt x="95" y="52"/>
                              </a:moveTo>
                              <a:lnTo>
                                <a:pt x="92" y="42"/>
                              </a:lnTo>
                              <a:lnTo>
                                <a:pt x="0" y="0"/>
                              </a:lnTo>
                              <a:lnTo>
                                <a:pt x="3" y="8"/>
                              </a:lnTo>
                              <a:lnTo>
                                <a:pt x="95" y="52"/>
                              </a:lnTo>
                            </a:path>
                          </a:pathLst>
                        </a:custGeom>
                        <a:solidFill>
                          <a:srgbClr val="40404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81" name=""/>
                        <p:cNvSpPr/>
                        <p:nvPr/>
                      </p:nvSpPr>
                      <p:spPr>
                        <a:xfrm>
                          <a:off x="4757400" y="2093760"/>
                          <a:ext cx="115920" cy="54000"/>
                        </a:xfrm>
                        <a:custGeom>
                          <a:avLst/>
                          <a:gdLst/>
                          <a:ahLst/>
                          <a:rect l="l" t="t" r="r" b="b"/>
                          <a:pathLst>
                            <a:path w="73" h="34">
                              <a:moveTo>
                                <a:pt x="72" y="8"/>
                              </a:moveTo>
                              <a:lnTo>
                                <a:pt x="47" y="0"/>
                              </a:lnTo>
                              <a:lnTo>
                                <a:pt x="0" y="23"/>
                              </a:lnTo>
                              <a:lnTo>
                                <a:pt x="23" y="33"/>
                              </a:lnTo>
                              <a:lnTo>
                                <a:pt x="72" y="8"/>
                              </a:lnTo>
                            </a:path>
                          </a:pathLst>
                        </a:custGeom>
                        <a:solidFill>
                          <a:srgbClr val="a0a0a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82" name=""/>
                        <p:cNvSpPr/>
                        <p:nvPr/>
                      </p:nvSpPr>
                      <p:spPr>
                        <a:xfrm>
                          <a:off x="4657680" y="2055600"/>
                          <a:ext cx="169560" cy="73080"/>
                        </a:xfrm>
                        <a:custGeom>
                          <a:avLst/>
                          <a:gdLst/>
                          <a:ahLst/>
                          <a:rect l="l" t="t" r="r" b="b"/>
                          <a:pathLst>
                            <a:path w="107" h="46">
                              <a:moveTo>
                                <a:pt x="106" y="23"/>
                              </a:moveTo>
                              <a:lnTo>
                                <a:pt x="59" y="45"/>
                              </a:lnTo>
                              <a:lnTo>
                                <a:pt x="0" y="20"/>
                              </a:lnTo>
                              <a:lnTo>
                                <a:pt x="43" y="0"/>
                              </a:lnTo>
                              <a:lnTo>
                                <a:pt x="106" y="23"/>
                              </a:lnTo>
                            </a:path>
                          </a:pathLst>
                        </a:custGeom>
                        <a:solidFill>
                          <a:srgbClr val="a0a0a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83" name=""/>
                        <p:cNvSpPr/>
                        <p:nvPr/>
                      </p:nvSpPr>
                      <p:spPr>
                        <a:xfrm>
                          <a:off x="4728960" y="2043000"/>
                          <a:ext cx="185760" cy="65160"/>
                        </a:xfrm>
                        <a:custGeom>
                          <a:avLst/>
                          <a:gdLst/>
                          <a:ahLst/>
                          <a:rect l="l" t="t" r="r" b="b"/>
                          <a:pathLst>
                            <a:path w="117" h="41">
                              <a:moveTo>
                                <a:pt x="92" y="40"/>
                              </a:moveTo>
                              <a:lnTo>
                                <a:pt x="116" y="28"/>
                              </a:lnTo>
                              <a:lnTo>
                                <a:pt x="18" y="0"/>
                              </a:lnTo>
                              <a:lnTo>
                                <a:pt x="0" y="8"/>
                              </a:lnTo>
                              <a:lnTo>
                                <a:pt x="92" y="40"/>
                              </a:lnTo>
                            </a:path>
                          </a:pathLst>
                        </a:custGeom>
                        <a:solidFill>
                          <a:srgbClr val="a0a0a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84" name=""/>
                        <p:cNvSpPr/>
                        <p:nvPr/>
                      </p:nvSpPr>
                      <p:spPr>
                        <a:xfrm flipH="1" flipV="1">
                          <a:off x="4749480" y="2044080"/>
                          <a:ext cx="155520" cy="47880"/>
                        </a:xfrm>
                        <a:prstGeom prst="line">
                          <a:avLst/>
                        </a:prstGeom>
                        <a:ln w="0">
                          <a:noFill/>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885" name=""/>
                        <p:cNvSpPr/>
                        <p:nvPr/>
                      </p:nvSpPr>
                      <p:spPr>
                        <a:xfrm flipH="1" flipV="1">
                          <a:off x="4741560" y="2049480"/>
                          <a:ext cx="152640" cy="48960"/>
                        </a:xfrm>
                        <a:prstGeom prst="line">
                          <a:avLst/>
                        </a:prstGeom>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886" name=""/>
                        <p:cNvSpPr/>
                        <p:nvPr/>
                      </p:nvSpPr>
                      <p:spPr>
                        <a:xfrm flipH="1" flipV="1">
                          <a:off x="4735440" y="2053800"/>
                          <a:ext cx="149040" cy="49320"/>
                        </a:xfrm>
                        <a:prstGeom prst="line">
                          <a:avLst/>
                        </a:prstGeom>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887" name=""/>
                        <p:cNvSpPr/>
                        <p:nvPr/>
                      </p:nvSpPr>
                      <p:spPr>
                        <a:xfrm flipH="1" flipV="1">
                          <a:off x="4717440" y="2060280"/>
                          <a:ext cx="144360" cy="52200"/>
                        </a:xfrm>
                        <a:prstGeom prst="line">
                          <a:avLst/>
                        </a:prstGeom>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888" name=""/>
                        <p:cNvSpPr/>
                        <p:nvPr/>
                      </p:nvSpPr>
                      <p:spPr>
                        <a:xfrm flipH="1" flipV="1">
                          <a:off x="4704840" y="2066760"/>
                          <a:ext cx="142920" cy="52560"/>
                        </a:xfrm>
                        <a:prstGeom prst="line">
                          <a:avLst/>
                        </a:prstGeom>
                        <a:ln w="0">
                          <a:noFill/>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89" name=""/>
                        <p:cNvSpPr/>
                        <p:nvPr/>
                      </p:nvSpPr>
                      <p:spPr>
                        <a:xfrm flipH="1" flipV="1">
                          <a:off x="4692240" y="2070000"/>
                          <a:ext cx="145800" cy="54000"/>
                        </a:xfrm>
                        <a:prstGeom prst="line">
                          <a:avLst/>
                        </a:prstGeom>
                        <a:ln w="0">
                          <a:noFill/>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890" name=""/>
                        <p:cNvSpPr/>
                        <p:nvPr/>
                      </p:nvSpPr>
                      <p:spPr>
                        <a:xfrm flipH="1" flipV="1">
                          <a:off x="4682880" y="2076480"/>
                          <a:ext cx="139680" cy="55440"/>
                        </a:xfrm>
                        <a:prstGeom prst="line">
                          <a:avLst/>
                        </a:prstGeom>
                        <a:ln w="0">
                          <a:noFill/>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891" name=""/>
                        <p:cNvSpPr/>
                        <p:nvPr/>
                      </p:nvSpPr>
                      <p:spPr>
                        <a:xfrm flipH="1" flipV="1">
                          <a:off x="4673160" y="2082240"/>
                          <a:ext cx="137880" cy="55800"/>
                        </a:xfrm>
                        <a:prstGeom prst="line">
                          <a:avLst/>
                        </a:prstGeom>
                        <a:ln w="0">
                          <a:noFill/>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892" name=""/>
                        <p:cNvSpPr/>
                        <p:nvPr/>
                      </p:nvSpPr>
                      <p:spPr>
                        <a:xfrm flipH="1">
                          <a:off x="4786200" y="2104920"/>
                          <a:ext cx="71280" cy="36360"/>
                        </a:xfrm>
                        <a:prstGeom prst="line">
                          <a:avLst/>
                        </a:prstGeom>
                        <a:ln w="0">
                          <a:noFill/>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893" name=""/>
                        <p:cNvSpPr/>
                        <p:nvPr/>
                      </p:nvSpPr>
                      <p:spPr>
                        <a:xfrm flipH="1">
                          <a:off x="4770360" y="2100240"/>
                          <a:ext cx="72720" cy="34920"/>
                        </a:xfrm>
                        <a:prstGeom prst="line">
                          <a:avLst/>
                        </a:prstGeom>
                        <a:ln w="0">
                          <a:noFill/>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1894" name=""/>
                        <p:cNvSpPr/>
                        <p:nvPr/>
                      </p:nvSpPr>
                      <p:spPr>
                        <a:xfrm flipH="1">
                          <a:off x="4737960" y="2087640"/>
                          <a:ext cx="71640" cy="33120"/>
                        </a:xfrm>
                        <a:prstGeom prst="line">
                          <a:avLst/>
                        </a:prstGeom>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895" name=""/>
                        <p:cNvSpPr/>
                        <p:nvPr/>
                      </p:nvSpPr>
                      <p:spPr>
                        <a:xfrm flipH="1">
                          <a:off x="4722480" y="2081160"/>
                          <a:ext cx="69840" cy="33480"/>
                        </a:xfrm>
                        <a:prstGeom prst="line">
                          <a:avLst/>
                        </a:prstGeom>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1896" name=""/>
                        <p:cNvSpPr/>
                        <p:nvPr/>
                      </p:nvSpPr>
                      <p:spPr>
                        <a:xfrm flipH="1">
                          <a:off x="4706640" y="2076480"/>
                          <a:ext cx="68400" cy="33120"/>
                        </a:xfrm>
                        <a:prstGeom prst="line">
                          <a:avLst/>
                        </a:prstGeom>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897" name=""/>
                        <p:cNvSpPr/>
                        <p:nvPr/>
                      </p:nvSpPr>
                      <p:spPr>
                        <a:xfrm flipH="1">
                          <a:off x="4692240" y="2070000"/>
                          <a:ext cx="66600" cy="33480"/>
                        </a:xfrm>
                        <a:prstGeom prst="line">
                          <a:avLst/>
                        </a:prstGeom>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1898" name=""/>
                        <p:cNvSpPr/>
                        <p:nvPr/>
                      </p:nvSpPr>
                      <p:spPr>
                        <a:xfrm flipH="1">
                          <a:off x="4676400" y="2063520"/>
                          <a:ext cx="68400" cy="32040"/>
                        </a:xfrm>
                        <a:prstGeom prst="line">
                          <a:avLst/>
                        </a:prstGeom>
                        <a:ln w="0">
                          <a:noFill/>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899" name=""/>
                        <p:cNvSpPr/>
                        <p:nvPr/>
                      </p:nvSpPr>
                      <p:spPr>
                        <a:xfrm flipH="1">
                          <a:off x="4855680" y="2082600"/>
                          <a:ext cx="3492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900" name=""/>
                        <p:cNvSpPr/>
                        <p:nvPr/>
                      </p:nvSpPr>
                      <p:spPr>
                        <a:xfrm flipH="1">
                          <a:off x="4834800" y="2074680"/>
                          <a:ext cx="32040" cy="17640"/>
                        </a:xfrm>
                        <a:prstGeom prst="line">
                          <a:avLst/>
                        </a:prstGeom>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901" name=""/>
                        <p:cNvSpPr/>
                        <p:nvPr/>
                      </p:nvSpPr>
                      <p:spPr>
                        <a:xfrm flipH="1">
                          <a:off x="4813200" y="2068560"/>
                          <a:ext cx="3312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902" name=""/>
                        <p:cNvSpPr/>
                        <p:nvPr/>
                      </p:nvSpPr>
                      <p:spPr>
                        <a:xfrm flipH="1">
                          <a:off x="4790520" y="2062080"/>
                          <a:ext cx="33480" cy="14400"/>
                        </a:xfrm>
                        <a:prstGeom prst="line">
                          <a:avLst/>
                        </a:prstGeom>
                        <a:ln w="0">
                          <a:noFill/>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903" name=""/>
                        <p:cNvSpPr/>
                        <p:nvPr/>
                      </p:nvSpPr>
                      <p:spPr>
                        <a:xfrm flipH="1">
                          <a:off x="4771800" y="2055600"/>
                          <a:ext cx="30240" cy="14400"/>
                        </a:xfrm>
                        <a:prstGeom prst="line">
                          <a:avLst/>
                        </a:prstGeom>
                        <a:ln w="0">
                          <a:noFill/>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904" name=""/>
                        <p:cNvSpPr/>
                        <p:nvPr/>
                      </p:nvSpPr>
                      <p:spPr>
                        <a:xfrm flipH="1">
                          <a:off x="4748040" y="2049480"/>
                          <a:ext cx="31680" cy="12600"/>
                        </a:xfrm>
                        <a:prstGeom prst="line">
                          <a:avLst/>
                        </a:prstGeom>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grpSp>
              </p:grpSp>
              <p:grpSp>
                <p:nvGrpSpPr>
                  <p:cNvPr id="1905" name=""/>
                  <p:cNvGrpSpPr/>
                  <p:nvPr/>
                </p:nvGrpSpPr>
                <p:grpSpPr>
                  <a:xfrm>
                    <a:off x="4406760" y="1803240"/>
                    <a:ext cx="384120" cy="500040"/>
                    <a:chOff x="4406760" y="1803240"/>
                    <a:chExt cx="384120" cy="500040"/>
                  </a:xfrm>
                </p:grpSpPr>
                <p:grpSp>
                  <p:nvGrpSpPr>
                    <p:cNvPr id="1906" name=""/>
                    <p:cNvGrpSpPr/>
                    <p:nvPr/>
                  </p:nvGrpSpPr>
                  <p:grpSpPr>
                    <a:xfrm>
                      <a:off x="4444920" y="1803240"/>
                      <a:ext cx="345960" cy="500040"/>
                      <a:chOff x="4444920" y="1803240"/>
                      <a:chExt cx="345960" cy="500040"/>
                    </a:xfrm>
                  </p:grpSpPr>
                  <p:grpSp>
                    <p:nvGrpSpPr>
                      <p:cNvPr id="1907" name=""/>
                      <p:cNvGrpSpPr/>
                      <p:nvPr/>
                    </p:nvGrpSpPr>
                    <p:grpSpPr>
                      <a:xfrm>
                        <a:off x="4478040" y="1812960"/>
                        <a:ext cx="130320" cy="134640"/>
                        <a:chOff x="4478040" y="1812960"/>
                        <a:chExt cx="130320" cy="134640"/>
                      </a:xfrm>
                    </p:grpSpPr>
                    <p:grpSp>
                      <p:nvGrpSpPr>
                        <p:cNvPr id="1908" name=""/>
                        <p:cNvGrpSpPr/>
                        <p:nvPr/>
                      </p:nvGrpSpPr>
                      <p:grpSpPr>
                        <a:xfrm>
                          <a:off x="4478040" y="1812960"/>
                          <a:ext cx="130320" cy="134640"/>
                          <a:chOff x="4478040" y="1812960"/>
                          <a:chExt cx="130320" cy="134640"/>
                        </a:xfrm>
                      </p:grpSpPr>
                      <p:sp>
                        <p:nvSpPr>
                          <p:cNvPr id="1909" name=""/>
                          <p:cNvSpPr/>
                          <p:nvPr/>
                        </p:nvSpPr>
                        <p:spPr>
                          <a:xfrm>
                            <a:off x="4478040" y="1812960"/>
                            <a:ext cx="130320" cy="134640"/>
                          </a:xfrm>
                          <a:custGeom>
                            <a:avLst/>
                            <a:gdLst/>
                            <a:ahLst/>
                            <a:rect l="l" t="t" r="r" b="b"/>
                            <a:pathLst>
                              <a:path w="82" h="85">
                                <a:moveTo>
                                  <a:pt x="56" y="3"/>
                                </a:moveTo>
                                <a:lnTo>
                                  <a:pt x="66" y="7"/>
                                </a:lnTo>
                                <a:lnTo>
                                  <a:pt x="70" y="12"/>
                                </a:lnTo>
                                <a:lnTo>
                                  <a:pt x="73" y="22"/>
                                </a:lnTo>
                                <a:lnTo>
                                  <a:pt x="74" y="27"/>
                                </a:lnTo>
                                <a:lnTo>
                                  <a:pt x="73" y="30"/>
                                </a:lnTo>
                                <a:lnTo>
                                  <a:pt x="72" y="33"/>
                                </a:lnTo>
                                <a:lnTo>
                                  <a:pt x="74" y="38"/>
                                </a:lnTo>
                                <a:lnTo>
                                  <a:pt x="77" y="43"/>
                                </a:lnTo>
                                <a:lnTo>
                                  <a:pt x="78" y="44"/>
                                </a:lnTo>
                                <a:lnTo>
                                  <a:pt x="79" y="45"/>
                                </a:lnTo>
                                <a:lnTo>
                                  <a:pt x="80" y="47"/>
                                </a:lnTo>
                                <a:lnTo>
                                  <a:pt x="81" y="48"/>
                                </a:lnTo>
                                <a:lnTo>
                                  <a:pt x="80" y="50"/>
                                </a:lnTo>
                                <a:lnTo>
                                  <a:pt x="79" y="50"/>
                                </a:lnTo>
                                <a:lnTo>
                                  <a:pt x="75" y="51"/>
                                </a:lnTo>
                                <a:lnTo>
                                  <a:pt x="74" y="52"/>
                                </a:lnTo>
                                <a:lnTo>
                                  <a:pt x="74" y="54"/>
                                </a:lnTo>
                                <a:lnTo>
                                  <a:pt x="74" y="56"/>
                                </a:lnTo>
                                <a:lnTo>
                                  <a:pt x="75" y="59"/>
                                </a:lnTo>
                                <a:lnTo>
                                  <a:pt x="75" y="60"/>
                                </a:lnTo>
                                <a:lnTo>
                                  <a:pt x="73" y="62"/>
                                </a:lnTo>
                                <a:lnTo>
                                  <a:pt x="74" y="63"/>
                                </a:lnTo>
                                <a:lnTo>
                                  <a:pt x="74" y="64"/>
                                </a:lnTo>
                                <a:lnTo>
                                  <a:pt x="73" y="65"/>
                                </a:lnTo>
                                <a:lnTo>
                                  <a:pt x="72" y="66"/>
                                </a:lnTo>
                                <a:lnTo>
                                  <a:pt x="71" y="68"/>
                                </a:lnTo>
                                <a:lnTo>
                                  <a:pt x="71" y="69"/>
                                </a:lnTo>
                                <a:lnTo>
                                  <a:pt x="70" y="71"/>
                                </a:lnTo>
                                <a:lnTo>
                                  <a:pt x="69" y="72"/>
                                </a:lnTo>
                                <a:lnTo>
                                  <a:pt x="67" y="73"/>
                                </a:lnTo>
                                <a:lnTo>
                                  <a:pt x="65" y="74"/>
                                </a:lnTo>
                                <a:lnTo>
                                  <a:pt x="63" y="74"/>
                                </a:lnTo>
                                <a:lnTo>
                                  <a:pt x="57" y="74"/>
                                </a:lnTo>
                                <a:lnTo>
                                  <a:pt x="52" y="73"/>
                                </a:lnTo>
                                <a:lnTo>
                                  <a:pt x="44" y="84"/>
                                </a:lnTo>
                                <a:lnTo>
                                  <a:pt x="11" y="71"/>
                                </a:lnTo>
                                <a:lnTo>
                                  <a:pt x="14" y="67"/>
                                </a:lnTo>
                                <a:lnTo>
                                  <a:pt x="16" y="63"/>
                                </a:lnTo>
                                <a:lnTo>
                                  <a:pt x="16" y="57"/>
                                </a:lnTo>
                                <a:lnTo>
                                  <a:pt x="0" y="45"/>
                                </a:lnTo>
                                <a:lnTo>
                                  <a:pt x="0" y="15"/>
                                </a:lnTo>
                                <a:lnTo>
                                  <a:pt x="8" y="8"/>
                                </a:lnTo>
                                <a:lnTo>
                                  <a:pt x="19" y="4"/>
                                </a:lnTo>
                                <a:lnTo>
                                  <a:pt x="28" y="0"/>
                                </a:lnTo>
                                <a:lnTo>
                                  <a:pt x="43" y="2"/>
                                </a:lnTo>
                                <a:lnTo>
                                  <a:pt x="56" y="3"/>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4532040" y="1896840"/>
                            <a:ext cx="15840" cy="24120"/>
                          </a:xfrm>
                          <a:custGeom>
                            <a:avLst/>
                            <a:gdLst/>
                            <a:ahLst/>
                            <a:rect l="l" t="t" r="r" b="b"/>
                            <a:pathLst>
                              <a:path w="10" h="15">
                                <a:moveTo>
                                  <a:pt x="0" y="0"/>
                                </a:moveTo>
                                <a:lnTo>
                                  <a:pt x="3" y="7"/>
                                </a:lnTo>
                                <a:lnTo>
                                  <a:pt x="5" y="10"/>
                                </a:lnTo>
                                <a:lnTo>
                                  <a:pt x="9" y="14"/>
                                </a:lnTo>
                                <a:lnTo>
                                  <a:pt x="4" y="11"/>
                                </a:lnTo>
                                <a:lnTo>
                                  <a:pt x="1" y="7"/>
                                </a:lnTo>
                                <a:lnTo>
                                  <a:pt x="0" y="0"/>
                                </a:lnTo>
                              </a:path>
                            </a:pathLst>
                          </a:custGeom>
                          <a:solidFill>
                            <a:srgbClr val="402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911" name=""/>
                        <p:cNvGrpSpPr/>
                        <p:nvPr/>
                      </p:nvGrpSpPr>
                      <p:grpSpPr>
                        <a:xfrm>
                          <a:off x="4560840" y="1857240"/>
                          <a:ext cx="39600" cy="61920"/>
                          <a:chOff x="4560840" y="1857240"/>
                          <a:chExt cx="39600" cy="61920"/>
                        </a:xfrm>
                      </p:grpSpPr>
                      <p:sp>
                        <p:nvSpPr>
                          <p:cNvPr id="1912" name=""/>
                          <p:cNvSpPr/>
                          <p:nvPr/>
                        </p:nvSpPr>
                        <p:spPr>
                          <a:xfrm>
                            <a:off x="4568760" y="1866960"/>
                            <a:ext cx="19080" cy="9360"/>
                          </a:xfrm>
                          <a:custGeom>
                            <a:avLst/>
                            <a:gdLst/>
                            <a:ahLst/>
                            <a:rect l="l" t="t" r="r" b="b"/>
                            <a:pathLst>
                              <a:path w="12" h="6">
                                <a:moveTo>
                                  <a:pt x="10" y="0"/>
                                </a:moveTo>
                                <a:lnTo>
                                  <a:pt x="9" y="1"/>
                                </a:lnTo>
                                <a:lnTo>
                                  <a:pt x="11" y="1"/>
                                </a:lnTo>
                                <a:lnTo>
                                  <a:pt x="8" y="1"/>
                                </a:lnTo>
                                <a:lnTo>
                                  <a:pt x="8" y="3"/>
                                </a:lnTo>
                                <a:lnTo>
                                  <a:pt x="9" y="4"/>
                                </a:lnTo>
                                <a:lnTo>
                                  <a:pt x="8" y="4"/>
                                </a:lnTo>
                                <a:lnTo>
                                  <a:pt x="8" y="5"/>
                                </a:lnTo>
                                <a:lnTo>
                                  <a:pt x="7" y="3"/>
                                </a:lnTo>
                                <a:lnTo>
                                  <a:pt x="5" y="3"/>
                                </a:lnTo>
                                <a:lnTo>
                                  <a:pt x="3" y="3"/>
                                </a:lnTo>
                                <a:lnTo>
                                  <a:pt x="0" y="3"/>
                                </a:lnTo>
                                <a:lnTo>
                                  <a:pt x="3" y="1"/>
                                </a:lnTo>
                                <a:lnTo>
                                  <a:pt x="10"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3" name=""/>
                          <p:cNvSpPr/>
                          <p:nvPr/>
                        </p:nvSpPr>
                        <p:spPr>
                          <a:xfrm>
                            <a:off x="4560840" y="1857240"/>
                            <a:ext cx="29880" cy="6480"/>
                          </a:xfrm>
                          <a:custGeom>
                            <a:avLst/>
                            <a:gdLst/>
                            <a:ahLst/>
                            <a:rect l="l" t="t" r="r" b="b"/>
                            <a:pathLst>
                              <a:path w="19" h="4">
                                <a:moveTo>
                                  <a:pt x="18" y="2"/>
                                </a:moveTo>
                                <a:lnTo>
                                  <a:pt x="17" y="3"/>
                                </a:lnTo>
                                <a:lnTo>
                                  <a:pt x="15" y="3"/>
                                </a:lnTo>
                                <a:lnTo>
                                  <a:pt x="12" y="2"/>
                                </a:lnTo>
                                <a:lnTo>
                                  <a:pt x="9" y="2"/>
                                </a:lnTo>
                                <a:lnTo>
                                  <a:pt x="3" y="2"/>
                                </a:lnTo>
                                <a:lnTo>
                                  <a:pt x="0" y="2"/>
                                </a:lnTo>
                                <a:lnTo>
                                  <a:pt x="4" y="1"/>
                                </a:lnTo>
                                <a:lnTo>
                                  <a:pt x="8" y="0"/>
                                </a:lnTo>
                                <a:lnTo>
                                  <a:pt x="7" y="0"/>
                                </a:lnTo>
                                <a:lnTo>
                                  <a:pt x="10" y="0"/>
                                </a:lnTo>
                                <a:lnTo>
                                  <a:pt x="12" y="1"/>
                                </a:lnTo>
                                <a:lnTo>
                                  <a:pt x="15" y="1"/>
                                </a:lnTo>
                                <a:lnTo>
                                  <a:pt x="18"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14" name=""/>
                          <p:cNvSpPr/>
                          <p:nvPr/>
                        </p:nvSpPr>
                        <p:spPr>
                          <a:xfrm>
                            <a:off x="4584600" y="1906560"/>
                            <a:ext cx="14040" cy="9360"/>
                          </a:xfrm>
                          <a:custGeom>
                            <a:avLst/>
                            <a:gdLst/>
                            <a:ahLst/>
                            <a:rect l="l" t="t" r="r" b="b"/>
                            <a:pathLst>
                              <a:path w="9" h="6">
                                <a:moveTo>
                                  <a:pt x="8" y="0"/>
                                </a:moveTo>
                                <a:lnTo>
                                  <a:pt x="7" y="0"/>
                                </a:lnTo>
                                <a:lnTo>
                                  <a:pt x="6" y="0"/>
                                </a:lnTo>
                                <a:lnTo>
                                  <a:pt x="5" y="0"/>
                                </a:lnTo>
                                <a:lnTo>
                                  <a:pt x="3" y="1"/>
                                </a:lnTo>
                                <a:lnTo>
                                  <a:pt x="2" y="2"/>
                                </a:lnTo>
                                <a:lnTo>
                                  <a:pt x="1" y="2"/>
                                </a:lnTo>
                                <a:lnTo>
                                  <a:pt x="0" y="1"/>
                                </a:lnTo>
                                <a:lnTo>
                                  <a:pt x="0" y="3"/>
                                </a:lnTo>
                                <a:lnTo>
                                  <a:pt x="0" y="4"/>
                                </a:lnTo>
                                <a:lnTo>
                                  <a:pt x="0" y="5"/>
                                </a:lnTo>
                                <a:lnTo>
                                  <a:pt x="0" y="4"/>
                                </a:lnTo>
                                <a:lnTo>
                                  <a:pt x="1" y="3"/>
                                </a:lnTo>
                                <a:lnTo>
                                  <a:pt x="3" y="2"/>
                                </a:lnTo>
                                <a:lnTo>
                                  <a:pt x="5" y="3"/>
                                </a:lnTo>
                                <a:lnTo>
                                  <a:pt x="6" y="3"/>
                                </a:lnTo>
                                <a:lnTo>
                                  <a:pt x="8" y="1"/>
                                </a:lnTo>
                                <a:lnTo>
                                  <a:pt x="8"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5" name=""/>
                          <p:cNvSpPr/>
                          <p:nvPr/>
                        </p:nvSpPr>
                        <p:spPr>
                          <a:xfrm>
                            <a:off x="4589280" y="1915920"/>
                            <a:ext cx="6480" cy="3240"/>
                          </a:xfrm>
                          <a:custGeom>
                            <a:avLst/>
                            <a:gdLst/>
                            <a:ahLst/>
                            <a:rect l="l" t="t" r="r" b="b"/>
                            <a:pathLst>
                              <a:path w="4" h="2">
                                <a:moveTo>
                                  <a:pt x="3" y="0"/>
                                </a:moveTo>
                                <a:lnTo>
                                  <a:pt x="1" y="0"/>
                                </a:lnTo>
                                <a:lnTo>
                                  <a:pt x="0" y="0"/>
                                </a:lnTo>
                                <a:lnTo>
                                  <a:pt x="2" y="1"/>
                                </a:lnTo>
                                <a:lnTo>
                                  <a:pt x="3" y="0"/>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6" name=""/>
                          <p:cNvSpPr/>
                          <p:nvPr/>
                        </p:nvSpPr>
                        <p:spPr>
                          <a:xfrm>
                            <a:off x="4593960" y="1890720"/>
                            <a:ext cx="6480" cy="3240"/>
                          </a:xfrm>
                          <a:custGeom>
                            <a:avLst/>
                            <a:gdLst/>
                            <a:ahLst/>
                            <a:rect l="l" t="t" r="r" b="b"/>
                            <a:pathLst>
                              <a:path w="4" h="2">
                                <a:moveTo>
                                  <a:pt x="3" y="0"/>
                                </a:moveTo>
                                <a:lnTo>
                                  <a:pt x="2" y="0"/>
                                </a:lnTo>
                                <a:lnTo>
                                  <a:pt x="0" y="1"/>
                                </a:lnTo>
                                <a:lnTo>
                                  <a:pt x="1" y="1"/>
                                </a:lnTo>
                                <a:lnTo>
                                  <a:pt x="2" y="1"/>
                                </a:lnTo>
                                <a:lnTo>
                                  <a:pt x="3" y="0"/>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7" name=""/>
                          <p:cNvSpPr/>
                          <p:nvPr/>
                        </p:nvSpPr>
                        <p:spPr>
                          <a:xfrm>
                            <a:off x="4589280" y="1888920"/>
                            <a:ext cx="3240" cy="6480"/>
                          </a:xfrm>
                          <a:custGeom>
                            <a:avLst/>
                            <a:gdLst/>
                            <a:ahLst/>
                            <a:rect l="l" t="t" r="r" b="b"/>
                            <a:pathLst>
                              <a:path w="2" h="4">
                                <a:moveTo>
                                  <a:pt x="0" y="0"/>
                                </a:moveTo>
                                <a:lnTo>
                                  <a:pt x="0" y="1"/>
                                </a:lnTo>
                                <a:lnTo>
                                  <a:pt x="1" y="2"/>
                                </a:lnTo>
                                <a:lnTo>
                                  <a:pt x="1" y="3"/>
                                </a:lnTo>
                                <a:lnTo>
                                  <a:pt x="0" y="2"/>
                                </a:lnTo>
                                <a:lnTo>
                                  <a:pt x="0" y="1"/>
                                </a:lnTo>
                                <a:lnTo>
                                  <a:pt x="0"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18" name=""/>
                          <p:cNvSpPr/>
                          <p:nvPr/>
                        </p:nvSpPr>
                        <p:spPr>
                          <a:xfrm>
                            <a:off x="4573440" y="1869840"/>
                            <a:ext cx="6120" cy="3240"/>
                          </a:xfrm>
                          <a:custGeom>
                            <a:avLst/>
                            <a:gdLst/>
                            <a:ahLst/>
                            <a:rect l="l" t="t" r="r" b="b"/>
                            <a:pathLst>
                              <a:path w="4" h="2">
                                <a:moveTo>
                                  <a:pt x="3" y="0"/>
                                </a:moveTo>
                                <a:lnTo>
                                  <a:pt x="3" y="1"/>
                                </a:lnTo>
                                <a:lnTo>
                                  <a:pt x="1" y="0"/>
                                </a:lnTo>
                                <a:lnTo>
                                  <a:pt x="0" y="0"/>
                                </a:lnTo>
                                <a:lnTo>
                                  <a:pt x="1" y="0"/>
                                </a:lnTo>
                                <a:lnTo>
                                  <a:pt x="3" y="0"/>
                                </a:lnTo>
                              </a:path>
                            </a:pathLst>
                          </a:custGeom>
                          <a:solidFill>
                            <a:srgbClr val="ffc08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919" name=""/>
                        <p:cNvGrpSpPr/>
                        <p:nvPr/>
                      </p:nvGrpSpPr>
                      <p:grpSpPr>
                        <a:xfrm>
                          <a:off x="4517640" y="1861920"/>
                          <a:ext cx="20880" cy="28800"/>
                          <a:chOff x="4517640" y="1861920"/>
                          <a:chExt cx="20880" cy="28800"/>
                        </a:xfrm>
                      </p:grpSpPr>
                      <p:sp>
                        <p:nvSpPr>
                          <p:cNvPr id="1920" name=""/>
                          <p:cNvSpPr/>
                          <p:nvPr/>
                        </p:nvSpPr>
                        <p:spPr>
                          <a:xfrm>
                            <a:off x="4520880" y="1865160"/>
                            <a:ext cx="14400" cy="22320"/>
                          </a:xfrm>
                          <a:custGeom>
                            <a:avLst/>
                            <a:gdLst/>
                            <a:ahLst/>
                            <a:rect l="l" t="t" r="r" b="b"/>
                            <a:pathLst>
                              <a:path w="9" h="14">
                                <a:moveTo>
                                  <a:pt x="8" y="2"/>
                                </a:moveTo>
                                <a:lnTo>
                                  <a:pt x="6" y="1"/>
                                </a:lnTo>
                                <a:lnTo>
                                  <a:pt x="3" y="1"/>
                                </a:lnTo>
                                <a:lnTo>
                                  <a:pt x="1" y="3"/>
                                </a:lnTo>
                                <a:lnTo>
                                  <a:pt x="1" y="6"/>
                                </a:lnTo>
                                <a:lnTo>
                                  <a:pt x="1" y="8"/>
                                </a:lnTo>
                                <a:lnTo>
                                  <a:pt x="2" y="10"/>
                                </a:lnTo>
                                <a:lnTo>
                                  <a:pt x="4" y="7"/>
                                </a:lnTo>
                                <a:lnTo>
                                  <a:pt x="5" y="6"/>
                                </a:lnTo>
                                <a:lnTo>
                                  <a:pt x="7" y="5"/>
                                </a:lnTo>
                                <a:lnTo>
                                  <a:pt x="5" y="6"/>
                                </a:lnTo>
                                <a:lnTo>
                                  <a:pt x="3" y="8"/>
                                </a:lnTo>
                                <a:lnTo>
                                  <a:pt x="3" y="11"/>
                                </a:lnTo>
                                <a:lnTo>
                                  <a:pt x="4" y="12"/>
                                </a:lnTo>
                                <a:lnTo>
                                  <a:pt x="5" y="13"/>
                                </a:lnTo>
                                <a:lnTo>
                                  <a:pt x="2" y="12"/>
                                </a:lnTo>
                                <a:lnTo>
                                  <a:pt x="1" y="9"/>
                                </a:lnTo>
                                <a:lnTo>
                                  <a:pt x="0" y="6"/>
                                </a:lnTo>
                                <a:lnTo>
                                  <a:pt x="1" y="3"/>
                                </a:lnTo>
                                <a:lnTo>
                                  <a:pt x="2" y="0"/>
                                </a:lnTo>
                                <a:lnTo>
                                  <a:pt x="5" y="0"/>
                                </a:lnTo>
                                <a:lnTo>
                                  <a:pt x="7" y="0"/>
                                </a:lnTo>
                                <a:lnTo>
                                  <a:pt x="8" y="2"/>
                                </a:lnTo>
                              </a:path>
                            </a:pathLst>
                          </a:custGeom>
                          <a:solidFill>
                            <a:srgbClr val="402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921" name=""/>
                          <p:cNvSpPr/>
                          <p:nvPr/>
                        </p:nvSpPr>
                        <p:spPr>
                          <a:xfrm>
                            <a:off x="4517640" y="1861920"/>
                            <a:ext cx="20880" cy="28800"/>
                          </a:xfrm>
                          <a:custGeom>
                            <a:avLst/>
                            <a:gdLst/>
                            <a:ahLst/>
                            <a:rect l="l" t="t" r="r" b="b"/>
                            <a:pathLst>
                              <a:path w="13" h="18">
                                <a:moveTo>
                                  <a:pt x="12" y="4"/>
                                </a:moveTo>
                                <a:lnTo>
                                  <a:pt x="10" y="1"/>
                                </a:lnTo>
                                <a:lnTo>
                                  <a:pt x="7" y="0"/>
                                </a:lnTo>
                                <a:lnTo>
                                  <a:pt x="3" y="1"/>
                                </a:lnTo>
                                <a:lnTo>
                                  <a:pt x="2" y="3"/>
                                </a:lnTo>
                                <a:lnTo>
                                  <a:pt x="1" y="5"/>
                                </a:lnTo>
                                <a:lnTo>
                                  <a:pt x="1" y="8"/>
                                </a:lnTo>
                                <a:lnTo>
                                  <a:pt x="1" y="8"/>
                                </a:lnTo>
                                <a:lnTo>
                                  <a:pt x="1" y="10"/>
                                </a:lnTo>
                                <a:lnTo>
                                  <a:pt x="2" y="13"/>
                                </a:lnTo>
                                <a:lnTo>
                                  <a:pt x="4" y="16"/>
                                </a:lnTo>
                                <a:lnTo>
                                  <a:pt x="6" y="16"/>
                                </a:lnTo>
                                <a:lnTo>
                                  <a:pt x="8" y="16"/>
                                </a:lnTo>
                                <a:lnTo>
                                  <a:pt x="7" y="17"/>
                                </a:lnTo>
                                <a:lnTo>
                                  <a:pt x="5" y="17"/>
                                </a:lnTo>
                                <a:lnTo>
                                  <a:pt x="2" y="16"/>
                                </a:lnTo>
                                <a:lnTo>
                                  <a:pt x="1" y="14"/>
                                </a:lnTo>
                                <a:lnTo>
                                  <a:pt x="0" y="9"/>
                                </a:lnTo>
                                <a:lnTo>
                                  <a:pt x="0" y="7"/>
                                </a:lnTo>
                                <a:lnTo>
                                  <a:pt x="0" y="5"/>
                                </a:lnTo>
                                <a:lnTo>
                                  <a:pt x="1" y="2"/>
                                </a:lnTo>
                                <a:lnTo>
                                  <a:pt x="2" y="0"/>
                                </a:lnTo>
                                <a:lnTo>
                                  <a:pt x="5" y="0"/>
                                </a:lnTo>
                                <a:lnTo>
                                  <a:pt x="10" y="0"/>
                                </a:lnTo>
                                <a:lnTo>
                                  <a:pt x="12" y="1"/>
                                </a:lnTo>
                                <a:lnTo>
                                  <a:pt x="12" y="4"/>
                                </a:lnTo>
                              </a:path>
                            </a:pathLst>
                          </a:custGeom>
                          <a:solidFill>
                            <a:srgbClr val="40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sp>
                    <p:nvSpPr>
                      <p:cNvPr id="1922" name=""/>
                      <p:cNvSpPr/>
                      <p:nvPr/>
                    </p:nvSpPr>
                    <p:spPr>
                      <a:xfrm>
                        <a:off x="4444920" y="1919160"/>
                        <a:ext cx="338040" cy="384120"/>
                      </a:xfrm>
                      <a:custGeom>
                        <a:avLst/>
                        <a:gdLst/>
                        <a:ahLst/>
                        <a:rect l="l" t="t" r="r" b="b"/>
                        <a:pathLst>
                          <a:path w="213" h="242">
                            <a:moveTo>
                              <a:pt x="26" y="12"/>
                            </a:moveTo>
                            <a:lnTo>
                              <a:pt x="31" y="0"/>
                            </a:lnTo>
                            <a:lnTo>
                              <a:pt x="66" y="16"/>
                            </a:lnTo>
                            <a:lnTo>
                              <a:pt x="63" y="26"/>
                            </a:lnTo>
                            <a:lnTo>
                              <a:pt x="68" y="36"/>
                            </a:lnTo>
                            <a:lnTo>
                              <a:pt x="73" y="44"/>
                            </a:lnTo>
                            <a:lnTo>
                              <a:pt x="82" y="60"/>
                            </a:lnTo>
                            <a:lnTo>
                              <a:pt x="92" y="73"/>
                            </a:lnTo>
                            <a:lnTo>
                              <a:pt x="96" y="80"/>
                            </a:lnTo>
                            <a:lnTo>
                              <a:pt x="96" y="85"/>
                            </a:lnTo>
                            <a:lnTo>
                              <a:pt x="96" y="91"/>
                            </a:lnTo>
                            <a:lnTo>
                              <a:pt x="95" y="97"/>
                            </a:lnTo>
                            <a:lnTo>
                              <a:pt x="93" y="102"/>
                            </a:lnTo>
                            <a:lnTo>
                              <a:pt x="93" y="108"/>
                            </a:lnTo>
                            <a:lnTo>
                              <a:pt x="127" y="115"/>
                            </a:lnTo>
                            <a:lnTo>
                              <a:pt x="147" y="117"/>
                            </a:lnTo>
                            <a:lnTo>
                              <a:pt x="160" y="116"/>
                            </a:lnTo>
                            <a:lnTo>
                              <a:pt x="162" y="120"/>
                            </a:lnTo>
                            <a:lnTo>
                              <a:pt x="163" y="125"/>
                            </a:lnTo>
                            <a:lnTo>
                              <a:pt x="165" y="131"/>
                            </a:lnTo>
                            <a:lnTo>
                              <a:pt x="151" y="135"/>
                            </a:lnTo>
                            <a:lnTo>
                              <a:pt x="134" y="137"/>
                            </a:lnTo>
                            <a:lnTo>
                              <a:pt x="121" y="137"/>
                            </a:lnTo>
                            <a:lnTo>
                              <a:pt x="104" y="139"/>
                            </a:lnTo>
                            <a:lnTo>
                              <a:pt x="94" y="137"/>
                            </a:lnTo>
                            <a:lnTo>
                              <a:pt x="94" y="149"/>
                            </a:lnTo>
                            <a:lnTo>
                              <a:pt x="91" y="155"/>
                            </a:lnTo>
                            <a:lnTo>
                              <a:pt x="93" y="162"/>
                            </a:lnTo>
                            <a:lnTo>
                              <a:pt x="92" y="167"/>
                            </a:lnTo>
                            <a:lnTo>
                              <a:pt x="97" y="168"/>
                            </a:lnTo>
                            <a:lnTo>
                              <a:pt x="100" y="170"/>
                            </a:lnTo>
                            <a:lnTo>
                              <a:pt x="111" y="171"/>
                            </a:lnTo>
                            <a:lnTo>
                              <a:pt x="116" y="176"/>
                            </a:lnTo>
                            <a:lnTo>
                              <a:pt x="124" y="177"/>
                            </a:lnTo>
                            <a:lnTo>
                              <a:pt x="167" y="190"/>
                            </a:lnTo>
                            <a:lnTo>
                              <a:pt x="182" y="195"/>
                            </a:lnTo>
                            <a:lnTo>
                              <a:pt x="190" y="199"/>
                            </a:lnTo>
                            <a:lnTo>
                              <a:pt x="197" y="207"/>
                            </a:lnTo>
                            <a:lnTo>
                              <a:pt x="204" y="220"/>
                            </a:lnTo>
                            <a:lnTo>
                              <a:pt x="212" y="241"/>
                            </a:lnTo>
                            <a:lnTo>
                              <a:pt x="131" y="241"/>
                            </a:lnTo>
                            <a:lnTo>
                              <a:pt x="105" y="234"/>
                            </a:lnTo>
                            <a:lnTo>
                              <a:pt x="68" y="234"/>
                            </a:lnTo>
                            <a:lnTo>
                              <a:pt x="45" y="234"/>
                            </a:lnTo>
                            <a:lnTo>
                              <a:pt x="32" y="234"/>
                            </a:lnTo>
                            <a:lnTo>
                              <a:pt x="18" y="231"/>
                            </a:lnTo>
                            <a:lnTo>
                              <a:pt x="13" y="229"/>
                            </a:lnTo>
                            <a:lnTo>
                              <a:pt x="5" y="223"/>
                            </a:lnTo>
                            <a:lnTo>
                              <a:pt x="3" y="218"/>
                            </a:lnTo>
                            <a:lnTo>
                              <a:pt x="1" y="208"/>
                            </a:lnTo>
                            <a:lnTo>
                              <a:pt x="2" y="199"/>
                            </a:lnTo>
                            <a:lnTo>
                              <a:pt x="8" y="184"/>
                            </a:lnTo>
                            <a:lnTo>
                              <a:pt x="15" y="168"/>
                            </a:lnTo>
                            <a:lnTo>
                              <a:pt x="15" y="162"/>
                            </a:lnTo>
                            <a:lnTo>
                              <a:pt x="13" y="158"/>
                            </a:lnTo>
                            <a:lnTo>
                              <a:pt x="14" y="146"/>
                            </a:lnTo>
                            <a:lnTo>
                              <a:pt x="16" y="141"/>
                            </a:lnTo>
                            <a:lnTo>
                              <a:pt x="15" y="130"/>
                            </a:lnTo>
                            <a:lnTo>
                              <a:pt x="10" y="114"/>
                            </a:lnTo>
                            <a:lnTo>
                              <a:pt x="2" y="93"/>
                            </a:lnTo>
                            <a:lnTo>
                              <a:pt x="0" y="75"/>
                            </a:lnTo>
                            <a:lnTo>
                              <a:pt x="0" y="58"/>
                            </a:lnTo>
                            <a:lnTo>
                              <a:pt x="1" y="46"/>
                            </a:lnTo>
                            <a:lnTo>
                              <a:pt x="4" y="39"/>
                            </a:lnTo>
                            <a:lnTo>
                              <a:pt x="8" y="32"/>
                            </a:lnTo>
                            <a:lnTo>
                              <a:pt x="13" y="23"/>
                            </a:lnTo>
                            <a:lnTo>
                              <a:pt x="26" y="12"/>
                            </a:lnTo>
                          </a:path>
                        </a:pathLst>
                      </a:custGeom>
                      <a:solidFill>
                        <a:srgbClr val="000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3" name=""/>
                      <p:cNvGrpSpPr/>
                      <p:nvPr/>
                    </p:nvGrpSpPr>
                    <p:grpSpPr>
                      <a:xfrm>
                        <a:off x="4446360" y="1939680"/>
                        <a:ext cx="344520" cy="362160"/>
                        <a:chOff x="4446360" y="1939680"/>
                        <a:chExt cx="344520" cy="362160"/>
                      </a:xfrm>
                    </p:grpSpPr>
                    <p:grpSp>
                      <p:nvGrpSpPr>
                        <p:cNvPr id="1924" name=""/>
                        <p:cNvGrpSpPr/>
                        <p:nvPr/>
                      </p:nvGrpSpPr>
                      <p:grpSpPr>
                        <a:xfrm>
                          <a:off x="4689360" y="2077920"/>
                          <a:ext cx="101520" cy="49320"/>
                          <a:chOff x="4689360" y="2077920"/>
                          <a:chExt cx="101520" cy="49320"/>
                        </a:xfrm>
                      </p:grpSpPr>
                      <p:sp>
                        <p:nvSpPr>
                          <p:cNvPr id="1925" name=""/>
                          <p:cNvSpPr/>
                          <p:nvPr/>
                        </p:nvSpPr>
                        <p:spPr>
                          <a:xfrm>
                            <a:off x="4689360" y="2077920"/>
                            <a:ext cx="101520" cy="49320"/>
                          </a:xfrm>
                          <a:custGeom>
                            <a:avLst/>
                            <a:gdLst/>
                            <a:ahLst/>
                            <a:rect l="l" t="t" r="r" b="b"/>
                            <a:pathLst>
                              <a:path w="64" h="31">
                                <a:moveTo>
                                  <a:pt x="0" y="17"/>
                                </a:moveTo>
                                <a:lnTo>
                                  <a:pt x="8" y="16"/>
                                </a:lnTo>
                                <a:lnTo>
                                  <a:pt x="11" y="16"/>
                                </a:lnTo>
                                <a:lnTo>
                                  <a:pt x="13" y="14"/>
                                </a:lnTo>
                                <a:lnTo>
                                  <a:pt x="15" y="12"/>
                                </a:lnTo>
                                <a:lnTo>
                                  <a:pt x="18" y="10"/>
                                </a:lnTo>
                                <a:lnTo>
                                  <a:pt x="25" y="6"/>
                                </a:lnTo>
                                <a:lnTo>
                                  <a:pt x="26" y="4"/>
                                </a:lnTo>
                                <a:lnTo>
                                  <a:pt x="28" y="3"/>
                                </a:lnTo>
                                <a:lnTo>
                                  <a:pt x="31" y="2"/>
                                </a:lnTo>
                                <a:lnTo>
                                  <a:pt x="43" y="1"/>
                                </a:lnTo>
                                <a:lnTo>
                                  <a:pt x="46" y="0"/>
                                </a:lnTo>
                                <a:lnTo>
                                  <a:pt x="49" y="1"/>
                                </a:lnTo>
                                <a:lnTo>
                                  <a:pt x="50" y="2"/>
                                </a:lnTo>
                                <a:lnTo>
                                  <a:pt x="54" y="3"/>
                                </a:lnTo>
                                <a:lnTo>
                                  <a:pt x="55" y="4"/>
                                </a:lnTo>
                                <a:lnTo>
                                  <a:pt x="57" y="5"/>
                                </a:lnTo>
                                <a:lnTo>
                                  <a:pt x="58" y="6"/>
                                </a:lnTo>
                                <a:lnTo>
                                  <a:pt x="60" y="7"/>
                                </a:lnTo>
                                <a:lnTo>
                                  <a:pt x="61" y="9"/>
                                </a:lnTo>
                                <a:lnTo>
                                  <a:pt x="62" y="10"/>
                                </a:lnTo>
                                <a:lnTo>
                                  <a:pt x="62" y="11"/>
                                </a:lnTo>
                                <a:lnTo>
                                  <a:pt x="63" y="12"/>
                                </a:lnTo>
                                <a:lnTo>
                                  <a:pt x="62" y="12"/>
                                </a:lnTo>
                                <a:lnTo>
                                  <a:pt x="61" y="13"/>
                                </a:lnTo>
                                <a:lnTo>
                                  <a:pt x="59" y="12"/>
                                </a:lnTo>
                                <a:lnTo>
                                  <a:pt x="57" y="12"/>
                                </a:lnTo>
                                <a:lnTo>
                                  <a:pt x="55" y="12"/>
                                </a:lnTo>
                                <a:lnTo>
                                  <a:pt x="54" y="12"/>
                                </a:lnTo>
                                <a:lnTo>
                                  <a:pt x="52" y="12"/>
                                </a:lnTo>
                                <a:lnTo>
                                  <a:pt x="50" y="11"/>
                                </a:lnTo>
                                <a:lnTo>
                                  <a:pt x="48" y="11"/>
                                </a:lnTo>
                                <a:lnTo>
                                  <a:pt x="45" y="12"/>
                                </a:lnTo>
                                <a:lnTo>
                                  <a:pt x="50" y="12"/>
                                </a:lnTo>
                                <a:lnTo>
                                  <a:pt x="54" y="13"/>
                                </a:lnTo>
                                <a:lnTo>
                                  <a:pt x="57" y="14"/>
                                </a:lnTo>
                                <a:lnTo>
                                  <a:pt x="58" y="15"/>
                                </a:lnTo>
                                <a:lnTo>
                                  <a:pt x="58" y="16"/>
                                </a:lnTo>
                                <a:lnTo>
                                  <a:pt x="58" y="17"/>
                                </a:lnTo>
                                <a:lnTo>
                                  <a:pt x="56" y="17"/>
                                </a:lnTo>
                                <a:lnTo>
                                  <a:pt x="55" y="17"/>
                                </a:lnTo>
                                <a:lnTo>
                                  <a:pt x="50" y="16"/>
                                </a:lnTo>
                                <a:lnTo>
                                  <a:pt x="44" y="16"/>
                                </a:lnTo>
                                <a:lnTo>
                                  <a:pt x="41" y="16"/>
                                </a:lnTo>
                                <a:lnTo>
                                  <a:pt x="38" y="17"/>
                                </a:lnTo>
                                <a:lnTo>
                                  <a:pt x="36" y="19"/>
                                </a:lnTo>
                                <a:lnTo>
                                  <a:pt x="34" y="21"/>
                                </a:lnTo>
                                <a:lnTo>
                                  <a:pt x="32" y="23"/>
                                </a:lnTo>
                                <a:lnTo>
                                  <a:pt x="29" y="25"/>
                                </a:lnTo>
                                <a:lnTo>
                                  <a:pt x="27" y="26"/>
                                </a:lnTo>
                                <a:lnTo>
                                  <a:pt x="24" y="26"/>
                                </a:lnTo>
                                <a:lnTo>
                                  <a:pt x="21" y="26"/>
                                </a:lnTo>
                                <a:lnTo>
                                  <a:pt x="17" y="27"/>
                                </a:lnTo>
                                <a:lnTo>
                                  <a:pt x="14" y="27"/>
                                </a:lnTo>
                                <a:lnTo>
                                  <a:pt x="11" y="28"/>
                                </a:lnTo>
                                <a:lnTo>
                                  <a:pt x="0" y="30"/>
                                </a:lnTo>
                                <a:lnTo>
                                  <a:pt x="0" y="17"/>
                                </a:lnTo>
                              </a:path>
                            </a:pathLst>
                          </a:custGeom>
                          <a:solidFill>
                            <a:srgbClr val="ffc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26" name=""/>
                          <p:cNvSpPr/>
                          <p:nvPr/>
                        </p:nvSpPr>
                        <p:spPr>
                          <a:xfrm>
                            <a:off x="4752720" y="2087640"/>
                            <a:ext cx="34920" cy="7920"/>
                          </a:xfrm>
                          <a:custGeom>
                            <a:avLst/>
                            <a:gdLst/>
                            <a:ahLst/>
                            <a:rect l="l" t="t" r="r" b="b"/>
                            <a:pathLst>
                              <a:path w="22" h="5">
                                <a:moveTo>
                                  <a:pt x="21" y="4"/>
                                </a:moveTo>
                                <a:lnTo>
                                  <a:pt x="17" y="2"/>
                                </a:lnTo>
                                <a:lnTo>
                                  <a:pt x="14" y="2"/>
                                </a:lnTo>
                                <a:lnTo>
                                  <a:pt x="11" y="1"/>
                                </a:lnTo>
                                <a:lnTo>
                                  <a:pt x="8" y="0"/>
                                </a:lnTo>
                                <a:lnTo>
                                  <a:pt x="3" y="1"/>
                                </a:lnTo>
                                <a:lnTo>
                                  <a:pt x="0" y="1"/>
                                </a:lnTo>
                                <a:lnTo>
                                  <a:pt x="4" y="0"/>
                                </a:lnTo>
                                <a:lnTo>
                                  <a:pt x="9" y="0"/>
                                </a:lnTo>
                                <a:lnTo>
                                  <a:pt x="14" y="1"/>
                                </a:lnTo>
                                <a:lnTo>
                                  <a:pt x="17" y="2"/>
                                </a:lnTo>
                                <a:lnTo>
                                  <a:pt x="21" y="3"/>
                                </a:lnTo>
                                <a:lnTo>
                                  <a:pt x="21" y="4"/>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7" name=""/>
                          <p:cNvSpPr/>
                          <p:nvPr/>
                        </p:nvSpPr>
                        <p:spPr>
                          <a:xfrm>
                            <a:off x="4740120" y="2081160"/>
                            <a:ext cx="30240" cy="4680"/>
                          </a:xfrm>
                          <a:custGeom>
                            <a:avLst/>
                            <a:gdLst/>
                            <a:ahLst/>
                            <a:rect l="l" t="t" r="r" b="b"/>
                            <a:pathLst>
                              <a:path w="19" h="3">
                                <a:moveTo>
                                  <a:pt x="12" y="0"/>
                                </a:moveTo>
                                <a:lnTo>
                                  <a:pt x="15" y="0"/>
                                </a:lnTo>
                                <a:lnTo>
                                  <a:pt x="18" y="0"/>
                                </a:lnTo>
                                <a:lnTo>
                                  <a:pt x="16" y="0"/>
                                </a:lnTo>
                                <a:lnTo>
                                  <a:pt x="13" y="0"/>
                                </a:lnTo>
                                <a:lnTo>
                                  <a:pt x="7" y="1"/>
                                </a:lnTo>
                                <a:lnTo>
                                  <a:pt x="4" y="2"/>
                                </a:lnTo>
                                <a:lnTo>
                                  <a:pt x="1" y="2"/>
                                </a:lnTo>
                                <a:lnTo>
                                  <a:pt x="0" y="2"/>
                                </a:lnTo>
                                <a:lnTo>
                                  <a:pt x="4" y="1"/>
                                </a:lnTo>
                                <a:lnTo>
                                  <a:pt x="8" y="0"/>
                                </a:lnTo>
                                <a:lnTo>
                                  <a:pt x="12" y="0"/>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28" name=""/>
                          <p:cNvSpPr/>
                          <p:nvPr/>
                        </p:nvSpPr>
                        <p:spPr>
                          <a:xfrm>
                            <a:off x="4751280" y="2095560"/>
                            <a:ext cx="12600" cy="4680"/>
                          </a:xfrm>
                          <a:custGeom>
                            <a:avLst/>
                            <a:gdLst/>
                            <a:ahLst/>
                            <a:rect l="l" t="t" r="r" b="b"/>
                            <a:pathLst>
                              <a:path w="8" h="3">
                                <a:moveTo>
                                  <a:pt x="7" y="1"/>
                                </a:moveTo>
                                <a:lnTo>
                                  <a:pt x="6" y="2"/>
                                </a:lnTo>
                                <a:lnTo>
                                  <a:pt x="4" y="1"/>
                                </a:lnTo>
                                <a:lnTo>
                                  <a:pt x="1" y="1"/>
                                </a:lnTo>
                                <a:lnTo>
                                  <a:pt x="0" y="0"/>
                                </a:lnTo>
                                <a:lnTo>
                                  <a:pt x="2" y="0"/>
                                </a:lnTo>
                                <a:lnTo>
                                  <a:pt x="7" y="1"/>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29" name=""/>
                          <p:cNvSpPr/>
                          <p:nvPr/>
                        </p:nvSpPr>
                        <p:spPr>
                          <a:xfrm>
                            <a:off x="4775040" y="2103480"/>
                            <a:ext cx="4680" cy="2880"/>
                          </a:xfrm>
                          <a:custGeom>
                            <a:avLst/>
                            <a:gdLst/>
                            <a:ahLst/>
                            <a:rect l="l" t="t" r="r" b="b"/>
                            <a:pathLst>
                              <a:path w="3" h="2">
                                <a:moveTo>
                                  <a:pt x="0" y="0"/>
                                </a:moveTo>
                                <a:lnTo>
                                  <a:pt x="1" y="0"/>
                                </a:lnTo>
                                <a:lnTo>
                                  <a:pt x="2" y="1"/>
                                </a:lnTo>
                                <a:lnTo>
                                  <a:pt x="0" y="0"/>
                                </a:lnTo>
                              </a:path>
                            </a:pathLst>
                          </a:custGeom>
                          <a:solidFill>
                            <a:srgbClr val="402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30" name=""/>
                          <p:cNvSpPr/>
                          <p:nvPr/>
                        </p:nvSpPr>
                        <p:spPr>
                          <a:xfrm>
                            <a:off x="4735440" y="2090520"/>
                            <a:ext cx="7920" cy="6480"/>
                          </a:xfrm>
                          <a:custGeom>
                            <a:avLst/>
                            <a:gdLst/>
                            <a:ahLst/>
                            <a:rect l="l" t="t" r="r" b="b"/>
                            <a:pathLst>
                              <a:path w="5" h="4">
                                <a:moveTo>
                                  <a:pt x="4" y="0"/>
                                </a:moveTo>
                                <a:lnTo>
                                  <a:pt x="3" y="1"/>
                                </a:lnTo>
                                <a:lnTo>
                                  <a:pt x="3" y="2"/>
                                </a:lnTo>
                                <a:lnTo>
                                  <a:pt x="0" y="3"/>
                                </a:lnTo>
                                <a:lnTo>
                                  <a:pt x="4"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31" name=""/>
                          <p:cNvSpPr/>
                          <p:nvPr/>
                        </p:nvSpPr>
                        <p:spPr>
                          <a:xfrm>
                            <a:off x="4744800" y="2098440"/>
                            <a:ext cx="4680" cy="6480"/>
                          </a:xfrm>
                          <a:custGeom>
                            <a:avLst/>
                            <a:gdLst/>
                            <a:ahLst/>
                            <a:rect l="l" t="t" r="r" b="b"/>
                            <a:pathLst>
                              <a:path w="3" h="4">
                                <a:moveTo>
                                  <a:pt x="0" y="0"/>
                                </a:moveTo>
                                <a:lnTo>
                                  <a:pt x="0" y="1"/>
                                </a:lnTo>
                                <a:lnTo>
                                  <a:pt x="2" y="3"/>
                                </a:lnTo>
                                <a:lnTo>
                                  <a:pt x="0"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32" name=""/>
                          <p:cNvSpPr/>
                          <p:nvPr/>
                        </p:nvSpPr>
                        <p:spPr>
                          <a:xfrm>
                            <a:off x="4782960" y="2093760"/>
                            <a:ext cx="4680" cy="4680"/>
                          </a:xfrm>
                          <a:custGeom>
                            <a:avLst/>
                            <a:gdLst/>
                            <a:ahLst/>
                            <a:rect l="l" t="t" r="r" b="b"/>
                            <a:pathLst>
                              <a:path w="3" h="3">
                                <a:moveTo>
                                  <a:pt x="2" y="2"/>
                                </a:moveTo>
                                <a:lnTo>
                                  <a:pt x="1" y="2"/>
                                </a:lnTo>
                                <a:lnTo>
                                  <a:pt x="0" y="1"/>
                                </a:lnTo>
                                <a:lnTo>
                                  <a:pt x="0" y="0"/>
                                </a:lnTo>
                                <a:lnTo>
                                  <a:pt x="0" y="1"/>
                                </a:lnTo>
                                <a:lnTo>
                                  <a:pt x="1" y="2"/>
                                </a:lnTo>
                                <a:lnTo>
                                  <a:pt x="2" y="2"/>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933" name=""/>
                        <p:cNvGrpSpPr/>
                        <p:nvPr/>
                      </p:nvGrpSpPr>
                      <p:grpSpPr>
                        <a:xfrm>
                          <a:off x="4662360" y="2049480"/>
                          <a:ext cx="108000" cy="44280"/>
                          <a:chOff x="4662360" y="2049480"/>
                          <a:chExt cx="108000" cy="44280"/>
                        </a:xfrm>
                      </p:grpSpPr>
                      <p:sp>
                        <p:nvSpPr>
                          <p:cNvPr id="1934" name=""/>
                          <p:cNvSpPr/>
                          <p:nvPr/>
                        </p:nvSpPr>
                        <p:spPr>
                          <a:xfrm>
                            <a:off x="4662360" y="2049480"/>
                            <a:ext cx="108000" cy="44280"/>
                          </a:xfrm>
                          <a:custGeom>
                            <a:avLst/>
                            <a:gdLst/>
                            <a:ahLst/>
                            <a:rect l="l" t="t" r="r" b="b"/>
                            <a:pathLst>
                              <a:path w="68" h="28">
                                <a:moveTo>
                                  <a:pt x="7" y="27"/>
                                </a:moveTo>
                                <a:lnTo>
                                  <a:pt x="10" y="26"/>
                                </a:lnTo>
                                <a:lnTo>
                                  <a:pt x="14" y="24"/>
                                </a:lnTo>
                                <a:lnTo>
                                  <a:pt x="16" y="24"/>
                                </a:lnTo>
                                <a:lnTo>
                                  <a:pt x="22" y="24"/>
                                </a:lnTo>
                                <a:lnTo>
                                  <a:pt x="26" y="24"/>
                                </a:lnTo>
                                <a:lnTo>
                                  <a:pt x="29" y="23"/>
                                </a:lnTo>
                                <a:lnTo>
                                  <a:pt x="32" y="22"/>
                                </a:lnTo>
                                <a:lnTo>
                                  <a:pt x="34" y="22"/>
                                </a:lnTo>
                                <a:lnTo>
                                  <a:pt x="37" y="21"/>
                                </a:lnTo>
                                <a:lnTo>
                                  <a:pt x="39" y="19"/>
                                </a:lnTo>
                                <a:lnTo>
                                  <a:pt x="42" y="18"/>
                                </a:lnTo>
                                <a:lnTo>
                                  <a:pt x="44" y="18"/>
                                </a:lnTo>
                                <a:lnTo>
                                  <a:pt x="46" y="17"/>
                                </a:lnTo>
                                <a:lnTo>
                                  <a:pt x="49" y="17"/>
                                </a:lnTo>
                                <a:lnTo>
                                  <a:pt x="51" y="16"/>
                                </a:lnTo>
                                <a:lnTo>
                                  <a:pt x="52" y="16"/>
                                </a:lnTo>
                                <a:lnTo>
                                  <a:pt x="52" y="15"/>
                                </a:lnTo>
                                <a:lnTo>
                                  <a:pt x="51" y="14"/>
                                </a:lnTo>
                                <a:lnTo>
                                  <a:pt x="49" y="13"/>
                                </a:lnTo>
                                <a:lnTo>
                                  <a:pt x="47" y="13"/>
                                </a:lnTo>
                                <a:lnTo>
                                  <a:pt x="44" y="13"/>
                                </a:lnTo>
                                <a:lnTo>
                                  <a:pt x="42" y="14"/>
                                </a:lnTo>
                                <a:lnTo>
                                  <a:pt x="37" y="14"/>
                                </a:lnTo>
                                <a:lnTo>
                                  <a:pt x="41" y="12"/>
                                </a:lnTo>
                                <a:lnTo>
                                  <a:pt x="45" y="10"/>
                                </a:lnTo>
                                <a:lnTo>
                                  <a:pt x="49" y="9"/>
                                </a:lnTo>
                                <a:lnTo>
                                  <a:pt x="53" y="9"/>
                                </a:lnTo>
                                <a:lnTo>
                                  <a:pt x="57" y="8"/>
                                </a:lnTo>
                                <a:lnTo>
                                  <a:pt x="59" y="9"/>
                                </a:lnTo>
                                <a:lnTo>
                                  <a:pt x="61" y="9"/>
                                </a:lnTo>
                                <a:lnTo>
                                  <a:pt x="62" y="9"/>
                                </a:lnTo>
                                <a:lnTo>
                                  <a:pt x="63" y="9"/>
                                </a:lnTo>
                                <a:lnTo>
                                  <a:pt x="64" y="9"/>
                                </a:lnTo>
                                <a:lnTo>
                                  <a:pt x="64" y="7"/>
                                </a:lnTo>
                                <a:lnTo>
                                  <a:pt x="65" y="7"/>
                                </a:lnTo>
                                <a:lnTo>
                                  <a:pt x="66" y="7"/>
                                </a:lnTo>
                                <a:lnTo>
                                  <a:pt x="66" y="6"/>
                                </a:lnTo>
                                <a:lnTo>
                                  <a:pt x="67" y="6"/>
                                </a:lnTo>
                                <a:lnTo>
                                  <a:pt x="66" y="5"/>
                                </a:lnTo>
                                <a:lnTo>
                                  <a:pt x="65" y="5"/>
                                </a:lnTo>
                                <a:lnTo>
                                  <a:pt x="64" y="4"/>
                                </a:lnTo>
                                <a:lnTo>
                                  <a:pt x="62" y="3"/>
                                </a:lnTo>
                                <a:lnTo>
                                  <a:pt x="61" y="3"/>
                                </a:lnTo>
                                <a:lnTo>
                                  <a:pt x="59" y="2"/>
                                </a:lnTo>
                                <a:lnTo>
                                  <a:pt x="57" y="2"/>
                                </a:lnTo>
                                <a:lnTo>
                                  <a:pt x="50" y="1"/>
                                </a:lnTo>
                                <a:lnTo>
                                  <a:pt x="48" y="1"/>
                                </a:lnTo>
                                <a:lnTo>
                                  <a:pt x="46" y="0"/>
                                </a:lnTo>
                                <a:lnTo>
                                  <a:pt x="44" y="0"/>
                                </a:lnTo>
                                <a:lnTo>
                                  <a:pt x="42" y="1"/>
                                </a:lnTo>
                                <a:lnTo>
                                  <a:pt x="35" y="3"/>
                                </a:lnTo>
                                <a:lnTo>
                                  <a:pt x="31" y="4"/>
                                </a:lnTo>
                                <a:lnTo>
                                  <a:pt x="28" y="6"/>
                                </a:lnTo>
                                <a:lnTo>
                                  <a:pt x="19" y="11"/>
                                </a:lnTo>
                                <a:lnTo>
                                  <a:pt x="16" y="12"/>
                                </a:lnTo>
                                <a:lnTo>
                                  <a:pt x="14" y="15"/>
                                </a:lnTo>
                                <a:lnTo>
                                  <a:pt x="10" y="15"/>
                                </a:lnTo>
                                <a:lnTo>
                                  <a:pt x="0" y="16"/>
                                </a:lnTo>
                                <a:lnTo>
                                  <a:pt x="7" y="27"/>
                                </a:lnTo>
                              </a:path>
                            </a:pathLst>
                          </a:custGeom>
                          <a:solidFill>
                            <a:srgbClr val="ffc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35" name=""/>
                          <p:cNvSpPr/>
                          <p:nvPr/>
                        </p:nvSpPr>
                        <p:spPr>
                          <a:xfrm>
                            <a:off x="4749480" y="2054160"/>
                            <a:ext cx="17640" cy="7920"/>
                          </a:xfrm>
                          <a:custGeom>
                            <a:avLst/>
                            <a:gdLst/>
                            <a:ahLst/>
                            <a:rect l="l" t="t" r="r" b="b"/>
                            <a:pathLst>
                              <a:path w="11" h="5">
                                <a:moveTo>
                                  <a:pt x="10" y="4"/>
                                </a:moveTo>
                                <a:lnTo>
                                  <a:pt x="9" y="4"/>
                                </a:lnTo>
                                <a:lnTo>
                                  <a:pt x="7" y="3"/>
                                </a:lnTo>
                                <a:lnTo>
                                  <a:pt x="5" y="2"/>
                                </a:lnTo>
                                <a:lnTo>
                                  <a:pt x="4" y="1"/>
                                </a:lnTo>
                                <a:lnTo>
                                  <a:pt x="1" y="1"/>
                                </a:lnTo>
                                <a:lnTo>
                                  <a:pt x="0" y="0"/>
                                </a:lnTo>
                                <a:lnTo>
                                  <a:pt x="2" y="0"/>
                                </a:lnTo>
                                <a:lnTo>
                                  <a:pt x="4" y="1"/>
                                </a:lnTo>
                                <a:lnTo>
                                  <a:pt x="5" y="1"/>
                                </a:lnTo>
                                <a:lnTo>
                                  <a:pt x="6" y="2"/>
                                </a:lnTo>
                                <a:lnTo>
                                  <a:pt x="10" y="4"/>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36" name=""/>
                          <p:cNvSpPr/>
                          <p:nvPr/>
                        </p:nvSpPr>
                        <p:spPr>
                          <a:xfrm>
                            <a:off x="4679640" y="2079360"/>
                            <a:ext cx="9720" cy="6480"/>
                          </a:xfrm>
                          <a:custGeom>
                            <a:avLst/>
                            <a:gdLst/>
                            <a:ahLst/>
                            <a:rect l="l" t="t" r="r" b="b"/>
                            <a:pathLst>
                              <a:path w="6" h="4">
                                <a:moveTo>
                                  <a:pt x="0" y="0"/>
                                </a:moveTo>
                                <a:lnTo>
                                  <a:pt x="3" y="1"/>
                                </a:lnTo>
                                <a:lnTo>
                                  <a:pt x="5" y="3"/>
                                </a:lnTo>
                                <a:lnTo>
                                  <a:pt x="0"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37" name=""/>
                          <p:cNvSpPr/>
                          <p:nvPr/>
                        </p:nvSpPr>
                        <p:spPr>
                          <a:xfrm>
                            <a:off x="4722480" y="2054160"/>
                            <a:ext cx="25560" cy="4680"/>
                          </a:xfrm>
                          <a:custGeom>
                            <a:avLst/>
                            <a:gdLst/>
                            <a:ahLst/>
                            <a:rect l="l" t="t" r="r" b="b"/>
                            <a:pathLst>
                              <a:path w="16" h="3">
                                <a:moveTo>
                                  <a:pt x="15" y="1"/>
                                </a:moveTo>
                                <a:lnTo>
                                  <a:pt x="11" y="1"/>
                                </a:lnTo>
                                <a:lnTo>
                                  <a:pt x="9" y="0"/>
                                </a:lnTo>
                                <a:lnTo>
                                  <a:pt x="7" y="0"/>
                                </a:lnTo>
                                <a:lnTo>
                                  <a:pt x="6" y="1"/>
                                </a:lnTo>
                                <a:lnTo>
                                  <a:pt x="5" y="1"/>
                                </a:lnTo>
                                <a:lnTo>
                                  <a:pt x="3" y="1"/>
                                </a:lnTo>
                                <a:lnTo>
                                  <a:pt x="0" y="1"/>
                                </a:lnTo>
                                <a:lnTo>
                                  <a:pt x="2" y="2"/>
                                </a:lnTo>
                                <a:lnTo>
                                  <a:pt x="5" y="1"/>
                                </a:lnTo>
                                <a:lnTo>
                                  <a:pt x="7" y="1"/>
                                </a:lnTo>
                                <a:lnTo>
                                  <a:pt x="8" y="1"/>
                                </a:lnTo>
                                <a:lnTo>
                                  <a:pt x="10" y="1"/>
                                </a:lnTo>
                                <a:lnTo>
                                  <a:pt x="12" y="1"/>
                                </a:lnTo>
                                <a:lnTo>
                                  <a:pt x="15" y="1"/>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8" name=""/>
                          <p:cNvSpPr/>
                          <p:nvPr/>
                        </p:nvSpPr>
                        <p:spPr>
                          <a:xfrm>
                            <a:off x="4735440" y="2073240"/>
                            <a:ext cx="2880" cy="3240"/>
                          </a:xfrm>
                          <a:custGeom>
                            <a:avLst/>
                            <a:gdLst/>
                            <a:ahLst/>
                            <a:rect l="l" t="t" r="r" b="b"/>
                            <a:pathLst>
                              <a:path w="2" h="2">
                                <a:moveTo>
                                  <a:pt x="1" y="0"/>
                                </a:moveTo>
                                <a:lnTo>
                                  <a:pt x="0" y="0"/>
                                </a:lnTo>
                                <a:lnTo>
                                  <a:pt x="1" y="1"/>
                                </a:lnTo>
                                <a:lnTo>
                                  <a:pt x="1" y="0"/>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39" name=""/>
                          <p:cNvSpPr/>
                          <p:nvPr/>
                        </p:nvSpPr>
                        <p:spPr>
                          <a:xfrm>
                            <a:off x="4759200" y="2060640"/>
                            <a:ext cx="4680" cy="2880"/>
                          </a:xfrm>
                          <a:custGeom>
                            <a:avLst/>
                            <a:gdLst/>
                            <a:ahLst/>
                            <a:rect l="l" t="t" r="r" b="b"/>
                            <a:pathLst>
                              <a:path w="3" h="2">
                                <a:moveTo>
                                  <a:pt x="2" y="1"/>
                                </a:moveTo>
                                <a:lnTo>
                                  <a:pt x="2" y="0"/>
                                </a:lnTo>
                                <a:lnTo>
                                  <a:pt x="1" y="0"/>
                                </a:lnTo>
                                <a:lnTo>
                                  <a:pt x="0" y="0"/>
                                </a:lnTo>
                                <a:lnTo>
                                  <a:pt x="2" y="1"/>
                                </a:lnTo>
                              </a:path>
                            </a:pathLst>
                          </a:custGeom>
                          <a:solidFill>
                            <a:srgbClr val="402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40" name=""/>
                          <p:cNvSpPr/>
                          <p:nvPr/>
                        </p:nvSpPr>
                        <p:spPr>
                          <a:xfrm>
                            <a:off x="4763880" y="2057400"/>
                            <a:ext cx="4680" cy="3240"/>
                          </a:xfrm>
                          <a:custGeom>
                            <a:avLst/>
                            <a:gdLst/>
                            <a:ahLst/>
                            <a:rect l="l" t="t" r="r" b="b"/>
                            <a:pathLst>
                              <a:path w="3" h="2">
                                <a:moveTo>
                                  <a:pt x="2" y="1"/>
                                </a:moveTo>
                                <a:lnTo>
                                  <a:pt x="2" y="0"/>
                                </a:lnTo>
                                <a:lnTo>
                                  <a:pt x="1" y="0"/>
                                </a:lnTo>
                                <a:lnTo>
                                  <a:pt x="0" y="0"/>
                                </a:lnTo>
                                <a:lnTo>
                                  <a:pt x="1" y="0"/>
                                </a:lnTo>
                                <a:lnTo>
                                  <a:pt x="2" y="1"/>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41" name=""/>
                          <p:cNvSpPr/>
                          <p:nvPr/>
                        </p:nvSpPr>
                        <p:spPr>
                          <a:xfrm>
                            <a:off x="4711320" y="2070000"/>
                            <a:ext cx="11160" cy="3240"/>
                          </a:xfrm>
                          <a:custGeom>
                            <a:avLst/>
                            <a:gdLst/>
                            <a:ahLst/>
                            <a:rect l="l" t="t" r="r" b="b"/>
                            <a:pathLst>
                              <a:path w="7" h="2">
                                <a:moveTo>
                                  <a:pt x="6" y="1"/>
                                </a:moveTo>
                                <a:lnTo>
                                  <a:pt x="6" y="1"/>
                                </a:lnTo>
                                <a:lnTo>
                                  <a:pt x="5" y="1"/>
                                </a:lnTo>
                                <a:lnTo>
                                  <a:pt x="3" y="1"/>
                                </a:lnTo>
                                <a:lnTo>
                                  <a:pt x="1" y="1"/>
                                </a:lnTo>
                                <a:lnTo>
                                  <a:pt x="0" y="1"/>
                                </a:lnTo>
                                <a:lnTo>
                                  <a:pt x="2" y="1"/>
                                </a:lnTo>
                                <a:lnTo>
                                  <a:pt x="3" y="0"/>
                                </a:lnTo>
                                <a:lnTo>
                                  <a:pt x="4" y="0"/>
                                </a:lnTo>
                                <a:lnTo>
                                  <a:pt x="4" y="1"/>
                                </a:lnTo>
                                <a:lnTo>
                                  <a:pt x="5" y="1"/>
                                </a:lnTo>
                                <a:lnTo>
                                  <a:pt x="6" y="1"/>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942" name=""/>
                        <p:cNvSpPr/>
                        <p:nvPr/>
                      </p:nvSpPr>
                      <p:spPr>
                        <a:xfrm>
                          <a:off x="4578120" y="2066760"/>
                          <a:ext cx="103320" cy="44640"/>
                        </a:xfrm>
                        <a:custGeom>
                          <a:avLst/>
                          <a:gdLst/>
                          <a:ahLst/>
                          <a:rect l="l" t="t" r="r" b="b"/>
                          <a:pathLst>
                            <a:path w="65" h="28">
                              <a:moveTo>
                                <a:pt x="9" y="2"/>
                              </a:moveTo>
                              <a:lnTo>
                                <a:pt x="26" y="4"/>
                              </a:lnTo>
                              <a:lnTo>
                                <a:pt x="39" y="5"/>
                              </a:lnTo>
                              <a:lnTo>
                                <a:pt x="46" y="5"/>
                              </a:lnTo>
                              <a:lnTo>
                                <a:pt x="59" y="4"/>
                              </a:lnTo>
                              <a:lnTo>
                                <a:pt x="63" y="9"/>
                              </a:lnTo>
                              <a:lnTo>
                                <a:pt x="64" y="17"/>
                              </a:lnTo>
                              <a:lnTo>
                                <a:pt x="54" y="18"/>
                              </a:lnTo>
                              <a:lnTo>
                                <a:pt x="37" y="22"/>
                              </a:lnTo>
                              <a:lnTo>
                                <a:pt x="2" y="27"/>
                              </a:lnTo>
                              <a:lnTo>
                                <a:pt x="0" y="0"/>
                              </a:lnTo>
                              <a:lnTo>
                                <a:pt x="9" y="2"/>
                              </a:lnTo>
                            </a:path>
                          </a:pathLst>
                        </a:custGeom>
                        <a:solidFill>
                          <a:srgbClr val="00006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43" name=""/>
                        <p:cNvSpPr/>
                        <p:nvPr/>
                      </p:nvSpPr>
                      <p:spPr>
                        <a:xfrm>
                          <a:off x="4581360" y="2071440"/>
                          <a:ext cx="96840" cy="34920"/>
                        </a:xfrm>
                        <a:custGeom>
                          <a:avLst/>
                          <a:gdLst/>
                          <a:ahLst/>
                          <a:rect l="l" t="t" r="r" b="b"/>
                          <a:pathLst>
                            <a:path w="61" h="22">
                              <a:moveTo>
                                <a:pt x="7" y="0"/>
                              </a:moveTo>
                              <a:lnTo>
                                <a:pt x="21" y="2"/>
                              </a:lnTo>
                              <a:lnTo>
                                <a:pt x="39" y="3"/>
                              </a:lnTo>
                              <a:lnTo>
                                <a:pt x="50" y="3"/>
                              </a:lnTo>
                              <a:lnTo>
                                <a:pt x="56" y="3"/>
                              </a:lnTo>
                              <a:lnTo>
                                <a:pt x="59" y="6"/>
                              </a:lnTo>
                              <a:lnTo>
                                <a:pt x="60" y="12"/>
                              </a:lnTo>
                              <a:lnTo>
                                <a:pt x="46" y="16"/>
                              </a:lnTo>
                              <a:lnTo>
                                <a:pt x="48" y="13"/>
                              </a:lnTo>
                              <a:lnTo>
                                <a:pt x="50" y="8"/>
                              </a:lnTo>
                              <a:lnTo>
                                <a:pt x="47" y="12"/>
                              </a:lnTo>
                              <a:lnTo>
                                <a:pt x="40" y="17"/>
                              </a:lnTo>
                              <a:lnTo>
                                <a:pt x="25" y="21"/>
                              </a:lnTo>
                              <a:lnTo>
                                <a:pt x="14" y="21"/>
                              </a:lnTo>
                              <a:lnTo>
                                <a:pt x="29" y="17"/>
                              </a:lnTo>
                              <a:lnTo>
                                <a:pt x="38" y="11"/>
                              </a:lnTo>
                              <a:lnTo>
                                <a:pt x="26" y="15"/>
                              </a:lnTo>
                              <a:lnTo>
                                <a:pt x="14" y="19"/>
                              </a:lnTo>
                              <a:lnTo>
                                <a:pt x="0" y="21"/>
                              </a:lnTo>
                              <a:lnTo>
                                <a:pt x="1" y="8"/>
                              </a:lnTo>
                              <a:lnTo>
                                <a:pt x="7" y="0"/>
                              </a:lnTo>
                            </a:path>
                          </a:pathLst>
                        </a:custGeom>
                        <a:solidFill>
                          <a:srgbClr val="0000e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4" name=""/>
                        <p:cNvSpPr/>
                        <p:nvPr/>
                      </p:nvSpPr>
                      <p:spPr>
                        <a:xfrm>
                          <a:off x="4482720" y="1954080"/>
                          <a:ext cx="220680" cy="184320"/>
                        </a:xfrm>
                        <a:custGeom>
                          <a:avLst/>
                          <a:gdLst/>
                          <a:ahLst/>
                          <a:rect l="l" t="t" r="r" b="b"/>
                          <a:pathLst>
                            <a:path w="139" h="116">
                              <a:moveTo>
                                <a:pt x="13" y="0"/>
                              </a:moveTo>
                              <a:lnTo>
                                <a:pt x="21" y="1"/>
                              </a:lnTo>
                              <a:lnTo>
                                <a:pt x="28" y="6"/>
                              </a:lnTo>
                              <a:lnTo>
                                <a:pt x="32" y="12"/>
                              </a:lnTo>
                              <a:lnTo>
                                <a:pt x="33" y="20"/>
                              </a:lnTo>
                              <a:lnTo>
                                <a:pt x="36" y="33"/>
                              </a:lnTo>
                              <a:lnTo>
                                <a:pt x="40" y="44"/>
                              </a:lnTo>
                              <a:lnTo>
                                <a:pt x="46" y="56"/>
                              </a:lnTo>
                              <a:lnTo>
                                <a:pt x="49" y="66"/>
                              </a:lnTo>
                              <a:lnTo>
                                <a:pt x="54" y="76"/>
                              </a:lnTo>
                              <a:lnTo>
                                <a:pt x="41" y="81"/>
                              </a:lnTo>
                              <a:lnTo>
                                <a:pt x="55" y="79"/>
                              </a:lnTo>
                              <a:lnTo>
                                <a:pt x="57" y="83"/>
                              </a:lnTo>
                              <a:lnTo>
                                <a:pt x="52" y="88"/>
                              </a:lnTo>
                              <a:lnTo>
                                <a:pt x="60" y="85"/>
                              </a:lnTo>
                              <a:lnTo>
                                <a:pt x="70" y="88"/>
                              </a:lnTo>
                              <a:lnTo>
                                <a:pt x="84" y="90"/>
                              </a:lnTo>
                              <a:lnTo>
                                <a:pt x="99" y="94"/>
                              </a:lnTo>
                              <a:lnTo>
                                <a:pt x="111" y="95"/>
                              </a:lnTo>
                              <a:lnTo>
                                <a:pt x="126" y="97"/>
                              </a:lnTo>
                              <a:lnTo>
                                <a:pt x="135" y="96"/>
                              </a:lnTo>
                              <a:lnTo>
                                <a:pt x="136" y="99"/>
                              </a:lnTo>
                              <a:lnTo>
                                <a:pt x="138" y="104"/>
                              </a:lnTo>
                              <a:lnTo>
                                <a:pt x="138" y="108"/>
                              </a:lnTo>
                              <a:lnTo>
                                <a:pt x="129" y="112"/>
                              </a:lnTo>
                              <a:lnTo>
                                <a:pt x="127" y="109"/>
                              </a:lnTo>
                              <a:lnTo>
                                <a:pt x="125" y="112"/>
                              </a:lnTo>
                              <a:lnTo>
                                <a:pt x="110" y="113"/>
                              </a:lnTo>
                              <a:lnTo>
                                <a:pt x="83" y="115"/>
                              </a:lnTo>
                              <a:lnTo>
                                <a:pt x="49" y="109"/>
                              </a:lnTo>
                              <a:lnTo>
                                <a:pt x="41" y="107"/>
                              </a:lnTo>
                              <a:lnTo>
                                <a:pt x="30" y="92"/>
                              </a:lnTo>
                              <a:lnTo>
                                <a:pt x="15" y="65"/>
                              </a:lnTo>
                              <a:lnTo>
                                <a:pt x="4" y="36"/>
                              </a:lnTo>
                              <a:lnTo>
                                <a:pt x="0" y="24"/>
                              </a:lnTo>
                              <a:lnTo>
                                <a:pt x="1" y="13"/>
                              </a:lnTo>
                              <a:lnTo>
                                <a:pt x="6" y="4"/>
                              </a:lnTo>
                              <a:lnTo>
                                <a:pt x="13"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4509720" y="1947600"/>
                          <a:ext cx="86040" cy="144720"/>
                        </a:xfrm>
                        <a:custGeom>
                          <a:avLst/>
                          <a:gdLst/>
                          <a:ahLst/>
                          <a:rect l="l" t="t" r="r" b="b"/>
                          <a:pathLst>
                            <a:path w="54" h="91">
                              <a:moveTo>
                                <a:pt x="7" y="0"/>
                              </a:moveTo>
                              <a:lnTo>
                                <a:pt x="0" y="5"/>
                              </a:lnTo>
                              <a:lnTo>
                                <a:pt x="3" y="7"/>
                              </a:lnTo>
                              <a:lnTo>
                                <a:pt x="8" y="13"/>
                              </a:lnTo>
                              <a:lnTo>
                                <a:pt x="16" y="18"/>
                              </a:lnTo>
                              <a:lnTo>
                                <a:pt x="20" y="33"/>
                              </a:lnTo>
                              <a:lnTo>
                                <a:pt x="24" y="42"/>
                              </a:lnTo>
                              <a:lnTo>
                                <a:pt x="30" y="50"/>
                              </a:lnTo>
                              <a:lnTo>
                                <a:pt x="35" y="56"/>
                              </a:lnTo>
                              <a:lnTo>
                                <a:pt x="28" y="51"/>
                              </a:lnTo>
                              <a:lnTo>
                                <a:pt x="22" y="43"/>
                              </a:lnTo>
                              <a:lnTo>
                                <a:pt x="28" y="56"/>
                              </a:lnTo>
                              <a:lnTo>
                                <a:pt x="32" y="65"/>
                              </a:lnTo>
                              <a:lnTo>
                                <a:pt x="36" y="76"/>
                              </a:lnTo>
                              <a:lnTo>
                                <a:pt x="39" y="82"/>
                              </a:lnTo>
                              <a:lnTo>
                                <a:pt x="41" y="85"/>
                              </a:lnTo>
                              <a:lnTo>
                                <a:pt x="45" y="88"/>
                              </a:lnTo>
                              <a:lnTo>
                                <a:pt x="50" y="90"/>
                              </a:lnTo>
                              <a:lnTo>
                                <a:pt x="51" y="84"/>
                              </a:lnTo>
                              <a:lnTo>
                                <a:pt x="51" y="78"/>
                              </a:lnTo>
                              <a:lnTo>
                                <a:pt x="53" y="71"/>
                              </a:lnTo>
                              <a:lnTo>
                                <a:pt x="53" y="65"/>
                              </a:lnTo>
                              <a:lnTo>
                                <a:pt x="51" y="57"/>
                              </a:lnTo>
                              <a:lnTo>
                                <a:pt x="47" y="52"/>
                              </a:lnTo>
                              <a:lnTo>
                                <a:pt x="43" y="48"/>
                              </a:lnTo>
                              <a:lnTo>
                                <a:pt x="37" y="43"/>
                              </a:lnTo>
                              <a:lnTo>
                                <a:pt x="30" y="35"/>
                              </a:lnTo>
                              <a:lnTo>
                                <a:pt x="24" y="26"/>
                              </a:lnTo>
                              <a:lnTo>
                                <a:pt x="29" y="31"/>
                              </a:lnTo>
                              <a:lnTo>
                                <a:pt x="34" y="38"/>
                              </a:lnTo>
                              <a:lnTo>
                                <a:pt x="41" y="45"/>
                              </a:lnTo>
                              <a:lnTo>
                                <a:pt x="35" y="35"/>
                              </a:lnTo>
                              <a:lnTo>
                                <a:pt x="28" y="23"/>
                              </a:lnTo>
                              <a:lnTo>
                                <a:pt x="20" y="10"/>
                              </a:lnTo>
                              <a:lnTo>
                                <a:pt x="17" y="5"/>
                              </a:lnTo>
                              <a:lnTo>
                                <a:pt x="7"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446360" y="1939680"/>
                          <a:ext cx="333360" cy="362160"/>
                        </a:xfrm>
                        <a:custGeom>
                          <a:avLst/>
                          <a:gdLst/>
                          <a:ahLst/>
                          <a:rect l="l" t="t" r="r" b="b"/>
                          <a:pathLst>
                            <a:path w="210" h="228">
                              <a:moveTo>
                                <a:pt x="44" y="5"/>
                              </a:moveTo>
                              <a:lnTo>
                                <a:pt x="38" y="9"/>
                              </a:lnTo>
                              <a:lnTo>
                                <a:pt x="32" y="11"/>
                              </a:lnTo>
                              <a:lnTo>
                                <a:pt x="25" y="19"/>
                              </a:lnTo>
                              <a:lnTo>
                                <a:pt x="23" y="25"/>
                              </a:lnTo>
                              <a:lnTo>
                                <a:pt x="23" y="32"/>
                              </a:lnTo>
                              <a:lnTo>
                                <a:pt x="23" y="38"/>
                              </a:lnTo>
                              <a:lnTo>
                                <a:pt x="22" y="48"/>
                              </a:lnTo>
                              <a:lnTo>
                                <a:pt x="20" y="59"/>
                              </a:lnTo>
                              <a:lnTo>
                                <a:pt x="18" y="71"/>
                              </a:lnTo>
                              <a:lnTo>
                                <a:pt x="22" y="58"/>
                              </a:lnTo>
                              <a:lnTo>
                                <a:pt x="22" y="50"/>
                              </a:lnTo>
                              <a:lnTo>
                                <a:pt x="24" y="44"/>
                              </a:lnTo>
                              <a:lnTo>
                                <a:pt x="27" y="54"/>
                              </a:lnTo>
                              <a:lnTo>
                                <a:pt x="31" y="65"/>
                              </a:lnTo>
                              <a:lnTo>
                                <a:pt x="32" y="71"/>
                              </a:lnTo>
                              <a:lnTo>
                                <a:pt x="32" y="81"/>
                              </a:lnTo>
                              <a:lnTo>
                                <a:pt x="32" y="93"/>
                              </a:lnTo>
                              <a:lnTo>
                                <a:pt x="32" y="105"/>
                              </a:lnTo>
                              <a:lnTo>
                                <a:pt x="33" y="92"/>
                              </a:lnTo>
                              <a:lnTo>
                                <a:pt x="34" y="83"/>
                              </a:lnTo>
                              <a:lnTo>
                                <a:pt x="36" y="76"/>
                              </a:lnTo>
                              <a:lnTo>
                                <a:pt x="44" y="94"/>
                              </a:lnTo>
                              <a:lnTo>
                                <a:pt x="51" y="105"/>
                              </a:lnTo>
                              <a:lnTo>
                                <a:pt x="55" y="110"/>
                              </a:lnTo>
                              <a:lnTo>
                                <a:pt x="59" y="117"/>
                              </a:lnTo>
                              <a:lnTo>
                                <a:pt x="77" y="121"/>
                              </a:lnTo>
                              <a:lnTo>
                                <a:pt x="85" y="122"/>
                              </a:lnTo>
                              <a:lnTo>
                                <a:pt x="83" y="126"/>
                              </a:lnTo>
                              <a:lnTo>
                                <a:pt x="77" y="130"/>
                              </a:lnTo>
                              <a:lnTo>
                                <a:pt x="59" y="139"/>
                              </a:lnTo>
                              <a:lnTo>
                                <a:pt x="75" y="134"/>
                              </a:lnTo>
                              <a:lnTo>
                                <a:pt x="84" y="128"/>
                              </a:lnTo>
                              <a:lnTo>
                                <a:pt x="92" y="123"/>
                              </a:lnTo>
                              <a:lnTo>
                                <a:pt x="91" y="135"/>
                              </a:lnTo>
                              <a:lnTo>
                                <a:pt x="88" y="141"/>
                              </a:lnTo>
                              <a:lnTo>
                                <a:pt x="79" y="145"/>
                              </a:lnTo>
                              <a:lnTo>
                                <a:pt x="89" y="145"/>
                              </a:lnTo>
                              <a:lnTo>
                                <a:pt x="89" y="149"/>
                              </a:lnTo>
                              <a:lnTo>
                                <a:pt x="88" y="153"/>
                              </a:lnTo>
                              <a:lnTo>
                                <a:pt x="84" y="156"/>
                              </a:lnTo>
                              <a:lnTo>
                                <a:pt x="69" y="162"/>
                              </a:lnTo>
                              <a:lnTo>
                                <a:pt x="89" y="156"/>
                              </a:lnTo>
                              <a:lnTo>
                                <a:pt x="93" y="155"/>
                              </a:lnTo>
                              <a:lnTo>
                                <a:pt x="97" y="156"/>
                              </a:lnTo>
                              <a:lnTo>
                                <a:pt x="96" y="160"/>
                              </a:lnTo>
                              <a:lnTo>
                                <a:pt x="92" y="163"/>
                              </a:lnTo>
                              <a:lnTo>
                                <a:pt x="80" y="169"/>
                              </a:lnTo>
                              <a:lnTo>
                                <a:pt x="97" y="163"/>
                              </a:lnTo>
                              <a:lnTo>
                                <a:pt x="101" y="158"/>
                              </a:lnTo>
                              <a:lnTo>
                                <a:pt x="107" y="159"/>
                              </a:lnTo>
                              <a:lnTo>
                                <a:pt x="111" y="161"/>
                              </a:lnTo>
                              <a:lnTo>
                                <a:pt x="110" y="164"/>
                              </a:lnTo>
                              <a:lnTo>
                                <a:pt x="106" y="167"/>
                              </a:lnTo>
                              <a:lnTo>
                                <a:pt x="96" y="172"/>
                              </a:lnTo>
                              <a:lnTo>
                                <a:pt x="110" y="168"/>
                              </a:lnTo>
                              <a:lnTo>
                                <a:pt x="115" y="163"/>
                              </a:lnTo>
                              <a:lnTo>
                                <a:pt x="124" y="166"/>
                              </a:lnTo>
                              <a:lnTo>
                                <a:pt x="150" y="174"/>
                              </a:lnTo>
                              <a:lnTo>
                                <a:pt x="172" y="182"/>
                              </a:lnTo>
                              <a:lnTo>
                                <a:pt x="189" y="188"/>
                              </a:lnTo>
                              <a:lnTo>
                                <a:pt x="194" y="195"/>
                              </a:lnTo>
                              <a:lnTo>
                                <a:pt x="201" y="207"/>
                              </a:lnTo>
                              <a:lnTo>
                                <a:pt x="209" y="227"/>
                              </a:lnTo>
                              <a:lnTo>
                                <a:pt x="133" y="227"/>
                              </a:lnTo>
                              <a:lnTo>
                                <a:pt x="127" y="226"/>
                              </a:lnTo>
                              <a:lnTo>
                                <a:pt x="147" y="222"/>
                              </a:lnTo>
                              <a:lnTo>
                                <a:pt x="177" y="211"/>
                              </a:lnTo>
                              <a:lnTo>
                                <a:pt x="141" y="222"/>
                              </a:lnTo>
                              <a:lnTo>
                                <a:pt x="124" y="224"/>
                              </a:lnTo>
                              <a:lnTo>
                                <a:pt x="113" y="222"/>
                              </a:lnTo>
                              <a:lnTo>
                                <a:pt x="131" y="219"/>
                              </a:lnTo>
                              <a:lnTo>
                                <a:pt x="169" y="208"/>
                              </a:lnTo>
                              <a:lnTo>
                                <a:pt x="128" y="218"/>
                              </a:lnTo>
                              <a:lnTo>
                                <a:pt x="110" y="222"/>
                              </a:lnTo>
                              <a:lnTo>
                                <a:pt x="107" y="220"/>
                              </a:lnTo>
                              <a:lnTo>
                                <a:pt x="123" y="215"/>
                              </a:lnTo>
                              <a:lnTo>
                                <a:pt x="152" y="203"/>
                              </a:lnTo>
                              <a:lnTo>
                                <a:pt x="118" y="215"/>
                              </a:lnTo>
                              <a:lnTo>
                                <a:pt x="101" y="220"/>
                              </a:lnTo>
                              <a:lnTo>
                                <a:pt x="30" y="219"/>
                              </a:lnTo>
                              <a:lnTo>
                                <a:pt x="22" y="217"/>
                              </a:lnTo>
                              <a:lnTo>
                                <a:pt x="13" y="214"/>
                              </a:lnTo>
                              <a:lnTo>
                                <a:pt x="5" y="207"/>
                              </a:lnTo>
                              <a:lnTo>
                                <a:pt x="3" y="199"/>
                              </a:lnTo>
                              <a:lnTo>
                                <a:pt x="2" y="192"/>
                              </a:lnTo>
                              <a:lnTo>
                                <a:pt x="4" y="183"/>
                              </a:lnTo>
                              <a:lnTo>
                                <a:pt x="10" y="169"/>
                              </a:lnTo>
                              <a:lnTo>
                                <a:pt x="14" y="159"/>
                              </a:lnTo>
                              <a:lnTo>
                                <a:pt x="16" y="150"/>
                              </a:lnTo>
                              <a:lnTo>
                                <a:pt x="22" y="149"/>
                              </a:lnTo>
                              <a:lnTo>
                                <a:pt x="26" y="155"/>
                              </a:lnTo>
                              <a:lnTo>
                                <a:pt x="42" y="165"/>
                              </a:lnTo>
                              <a:lnTo>
                                <a:pt x="28" y="154"/>
                              </a:lnTo>
                              <a:lnTo>
                                <a:pt x="24" y="148"/>
                              </a:lnTo>
                              <a:lnTo>
                                <a:pt x="25" y="141"/>
                              </a:lnTo>
                              <a:lnTo>
                                <a:pt x="44" y="137"/>
                              </a:lnTo>
                              <a:lnTo>
                                <a:pt x="58" y="130"/>
                              </a:lnTo>
                              <a:lnTo>
                                <a:pt x="42" y="136"/>
                              </a:lnTo>
                              <a:lnTo>
                                <a:pt x="26" y="139"/>
                              </a:lnTo>
                              <a:lnTo>
                                <a:pt x="27" y="129"/>
                              </a:lnTo>
                              <a:lnTo>
                                <a:pt x="34" y="122"/>
                              </a:lnTo>
                              <a:lnTo>
                                <a:pt x="39" y="112"/>
                              </a:lnTo>
                              <a:lnTo>
                                <a:pt x="32" y="121"/>
                              </a:lnTo>
                              <a:lnTo>
                                <a:pt x="25" y="128"/>
                              </a:lnTo>
                              <a:lnTo>
                                <a:pt x="18" y="127"/>
                              </a:lnTo>
                              <a:lnTo>
                                <a:pt x="14" y="110"/>
                              </a:lnTo>
                              <a:lnTo>
                                <a:pt x="7" y="91"/>
                              </a:lnTo>
                              <a:lnTo>
                                <a:pt x="4" y="80"/>
                              </a:lnTo>
                              <a:lnTo>
                                <a:pt x="5" y="69"/>
                              </a:lnTo>
                              <a:lnTo>
                                <a:pt x="7" y="55"/>
                              </a:lnTo>
                              <a:lnTo>
                                <a:pt x="4" y="63"/>
                              </a:lnTo>
                              <a:lnTo>
                                <a:pt x="3" y="71"/>
                              </a:lnTo>
                              <a:lnTo>
                                <a:pt x="3" y="78"/>
                              </a:lnTo>
                              <a:lnTo>
                                <a:pt x="1" y="66"/>
                              </a:lnTo>
                              <a:lnTo>
                                <a:pt x="0" y="57"/>
                              </a:lnTo>
                              <a:lnTo>
                                <a:pt x="0" y="51"/>
                              </a:lnTo>
                              <a:lnTo>
                                <a:pt x="3" y="43"/>
                              </a:lnTo>
                              <a:lnTo>
                                <a:pt x="7" y="34"/>
                              </a:lnTo>
                              <a:lnTo>
                                <a:pt x="14" y="26"/>
                              </a:lnTo>
                              <a:lnTo>
                                <a:pt x="7" y="33"/>
                              </a:lnTo>
                              <a:lnTo>
                                <a:pt x="3" y="38"/>
                              </a:lnTo>
                              <a:lnTo>
                                <a:pt x="0" y="48"/>
                              </a:lnTo>
                              <a:lnTo>
                                <a:pt x="1" y="41"/>
                              </a:lnTo>
                              <a:lnTo>
                                <a:pt x="3" y="32"/>
                              </a:lnTo>
                              <a:lnTo>
                                <a:pt x="8" y="21"/>
                              </a:lnTo>
                              <a:lnTo>
                                <a:pt x="13" y="10"/>
                              </a:lnTo>
                              <a:lnTo>
                                <a:pt x="19" y="6"/>
                              </a:lnTo>
                              <a:lnTo>
                                <a:pt x="27" y="0"/>
                              </a:lnTo>
                              <a:lnTo>
                                <a:pt x="36" y="1"/>
                              </a:lnTo>
                              <a:lnTo>
                                <a:pt x="44" y="5"/>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4468680" y="2144520"/>
                          <a:ext cx="19080" cy="31680"/>
                        </a:xfrm>
                        <a:custGeom>
                          <a:avLst/>
                          <a:gdLst/>
                          <a:ahLst/>
                          <a:rect l="l" t="t" r="r" b="b"/>
                          <a:pathLst>
                            <a:path w="12" h="20">
                              <a:moveTo>
                                <a:pt x="2" y="0"/>
                              </a:moveTo>
                              <a:lnTo>
                                <a:pt x="10" y="1"/>
                              </a:lnTo>
                              <a:lnTo>
                                <a:pt x="11" y="8"/>
                              </a:lnTo>
                              <a:lnTo>
                                <a:pt x="10" y="17"/>
                              </a:lnTo>
                              <a:lnTo>
                                <a:pt x="2" y="19"/>
                              </a:lnTo>
                              <a:lnTo>
                                <a:pt x="0" y="16"/>
                              </a:lnTo>
                              <a:lnTo>
                                <a:pt x="0" y="5"/>
                              </a:lnTo>
                              <a:lnTo>
                                <a:pt x="2" y="0"/>
                              </a:lnTo>
                            </a:path>
                          </a:pathLst>
                        </a:custGeom>
                        <a:solidFill>
                          <a:srgbClr val="0000e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48" name=""/>
                        <p:cNvSpPr/>
                        <p:nvPr/>
                      </p:nvSpPr>
                      <p:spPr>
                        <a:xfrm>
                          <a:off x="4492440" y="2244600"/>
                          <a:ext cx="156960" cy="20520"/>
                        </a:xfrm>
                        <a:custGeom>
                          <a:avLst/>
                          <a:gdLst/>
                          <a:ahLst/>
                          <a:rect l="l" t="t" r="r" b="b"/>
                          <a:pathLst>
                            <a:path w="99" h="13">
                              <a:moveTo>
                                <a:pt x="98" y="0"/>
                              </a:moveTo>
                              <a:lnTo>
                                <a:pt x="71" y="6"/>
                              </a:lnTo>
                              <a:lnTo>
                                <a:pt x="51" y="8"/>
                              </a:lnTo>
                              <a:lnTo>
                                <a:pt x="30" y="10"/>
                              </a:lnTo>
                              <a:lnTo>
                                <a:pt x="14" y="11"/>
                              </a:lnTo>
                              <a:lnTo>
                                <a:pt x="0" y="10"/>
                              </a:lnTo>
                              <a:lnTo>
                                <a:pt x="14" y="12"/>
                              </a:lnTo>
                              <a:lnTo>
                                <a:pt x="38" y="12"/>
                              </a:lnTo>
                              <a:lnTo>
                                <a:pt x="63" y="9"/>
                              </a:lnTo>
                              <a:lnTo>
                                <a:pt x="77" y="6"/>
                              </a:lnTo>
                              <a:lnTo>
                                <a:pt x="98" y="0"/>
                              </a:lnTo>
                            </a:path>
                          </a:pathLst>
                        </a:custGeom>
                        <a:solidFill>
                          <a:srgbClr val="00006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949" name=""/>
                      <p:cNvSpPr/>
                      <p:nvPr/>
                    </p:nvSpPr>
                    <p:spPr>
                      <a:xfrm>
                        <a:off x="4460760" y="1803240"/>
                        <a:ext cx="141120" cy="176400"/>
                      </a:xfrm>
                      <a:custGeom>
                        <a:avLst/>
                        <a:gdLst/>
                        <a:ahLst/>
                        <a:rect l="l" t="t" r="r" b="b"/>
                        <a:pathLst>
                          <a:path w="89" h="111">
                            <a:moveTo>
                              <a:pt x="48" y="43"/>
                            </a:moveTo>
                            <a:lnTo>
                              <a:pt x="45" y="37"/>
                            </a:lnTo>
                            <a:lnTo>
                              <a:pt x="42" y="37"/>
                            </a:lnTo>
                            <a:lnTo>
                              <a:pt x="38" y="38"/>
                            </a:lnTo>
                            <a:lnTo>
                              <a:pt x="37" y="41"/>
                            </a:lnTo>
                            <a:lnTo>
                              <a:pt x="36" y="44"/>
                            </a:lnTo>
                            <a:lnTo>
                              <a:pt x="37" y="51"/>
                            </a:lnTo>
                            <a:lnTo>
                              <a:pt x="39" y="55"/>
                            </a:lnTo>
                            <a:lnTo>
                              <a:pt x="40" y="58"/>
                            </a:lnTo>
                            <a:lnTo>
                              <a:pt x="41" y="63"/>
                            </a:lnTo>
                            <a:lnTo>
                              <a:pt x="44" y="69"/>
                            </a:lnTo>
                            <a:lnTo>
                              <a:pt x="49" y="78"/>
                            </a:lnTo>
                            <a:lnTo>
                              <a:pt x="53" y="85"/>
                            </a:lnTo>
                            <a:lnTo>
                              <a:pt x="58" y="95"/>
                            </a:lnTo>
                            <a:lnTo>
                              <a:pt x="60" y="103"/>
                            </a:lnTo>
                            <a:lnTo>
                              <a:pt x="61" y="110"/>
                            </a:lnTo>
                            <a:lnTo>
                              <a:pt x="50" y="99"/>
                            </a:lnTo>
                            <a:lnTo>
                              <a:pt x="39" y="93"/>
                            </a:lnTo>
                            <a:lnTo>
                              <a:pt x="32" y="91"/>
                            </a:lnTo>
                            <a:lnTo>
                              <a:pt x="26" y="88"/>
                            </a:lnTo>
                            <a:lnTo>
                              <a:pt x="17" y="89"/>
                            </a:lnTo>
                            <a:lnTo>
                              <a:pt x="9" y="93"/>
                            </a:lnTo>
                            <a:lnTo>
                              <a:pt x="1" y="101"/>
                            </a:lnTo>
                            <a:lnTo>
                              <a:pt x="0" y="94"/>
                            </a:lnTo>
                            <a:lnTo>
                              <a:pt x="4" y="86"/>
                            </a:lnTo>
                            <a:lnTo>
                              <a:pt x="10" y="76"/>
                            </a:lnTo>
                            <a:lnTo>
                              <a:pt x="13" y="69"/>
                            </a:lnTo>
                            <a:lnTo>
                              <a:pt x="13" y="62"/>
                            </a:lnTo>
                            <a:lnTo>
                              <a:pt x="11" y="56"/>
                            </a:lnTo>
                            <a:lnTo>
                              <a:pt x="8" y="53"/>
                            </a:lnTo>
                            <a:lnTo>
                              <a:pt x="5" y="46"/>
                            </a:lnTo>
                            <a:lnTo>
                              <a:pt x="5" y="41"/>
                            </a:lnTo>
                            <a:lnTo>
                              <a:pt x="3" y="35"/>
                            </a:lnTo>
                            <a:lnTo>
                              <a:pt x="3" y="28"/>
                            </a:lnTo>
                            <a:lnTo>
                              <a:pt x="4" y="23"/>
                            </a:lnTo>
                            <a:lnTo>
                              <a:pt x="7" y="18"/>
                            </a:lnTo>
                            <a:lnTo>
                              <a:pt x="9" y="12"/>
                            </a:lnTo>
                            <a:lnTo>
                              <a:pt x="15" y="7"/>
                            </a:lnTo>
                            <a:lnTo>
                              <a:pt x="20" y="4"/>
                            </a:lnTo>
                            <a:lnTo>
                              <a:pt x="29" y="1"/>
                            </a:lnTo>
                            <a:lnTo>
                              <a:pt x="37" y="0"/>
                            </a:lnTo>
                            <a:lnTo>
                              <a:pt x="52" y="0"/>
                            </a:lnTo>
                            <a:lnTo>
                              <a:pt x="60" y="0"/>
                            </a:lnTo>
                            <a:lnTo>
                              <a:pt x="68" y="2"/>
                            </a:lnTo>
                            <a:lnTo>
                              <a:pt x="75" y="5"/>
                            </a:lnTo>
                            <a:lnTo>
                              <a:pt x="80" y="9"/>
                            </a:lnTo>
                            <a:lnTo>
                              <a:pt x="85" y="13"/>
                            </a:lnTo>
                            <a:lnTo>
                              <a:pt x="88" y="20"/>
                            </a:lnTo>
                            <a:lnTo>
                              <a:pt x="88" y="26"/>
                            </a:lnTo>
                            <a:lnTo>
                              <a:pt x="86" y="31"/>
                            </a:lnTo>
                            <a:lnTo>
                              <a:pt x="80" y="26"/>
                            </a:lnTo>
                            <a:lnTo>
                              <a:pt x="72" y="23"/>
                            </a:lnTo>
                            <a:lnTo>
                              <a:pt x="63" y="22"/>
                            </a:lnTo>
                            <a:lnTo>
                              <a:pt x="66" y="31"/>
                            </a:lnTo>
                            <a:lnTo>
                              <a:pt x="54" y="28"/>
                            </a:lnTo>
                            <a:lnTo>
                              <a:pt x="58" y="35"/>
                            </a:lnTo>
                            <a:lnTo>
                              <a:pt x="50" y="35"/>
                            </a:lnTo>
                            <a:lnTo>
                              <a:pt x="48"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0" name=""/>
                    <p:cNvGrpSpPr/>
                    <p:nvPr/>
                  </p:nvGrpSpPr>
                  <p:grpSpPr>
                    <a:xfrm>
                      <a:off x="4406760" y="2073240"/>
                      <a:ext cx="108000" cy="183960"/>
                      <a:chOff x="4406760" y="2073240"/>
                      <a:chExt cx="108000" cy="183960"/>
                    </a:xfrm>
                  </p:grpSpPr>
                  <p:sp>
                    <p:nvSpPr>
                      <p:cNvPr id="1951" name=""/>
                      <p:cNvSpPr/>
                      <p:nvPr/>
                    </p:nvSpPr>
                    <p:spPr>
                      <a:xfrm>
                        <a:off x="4406760" y="2073240"/>
                        <a:ext cx="108000" cy="183960"/>
                      </a:xfrm>
                      <a:custGeom>
                        <a:avLst/>
                        <a:gdLst/>
                        <a:ahLst/>
                        <a:rect l="l" t="t" r="r" b="b"/>
                        <a:pathLst>
                          <a:path w="68" h="116">
                            <a:moveTo>
                              <a:pt x="37" y="17"/>
                            </a:moveTo>
                            <a:lnTo>
                              <a:pt x="24" y="15"/>
                            </a:lnTo>
                            <a:lnTo>
                              <a:pt x="17" y="14"/>
                            </a:lnTo>
                            <a:lnTo>
                              <a:pt x="14" y="9"/>
                            </a:lnTo>
                            <a:lnTo>
                              <a:pt x="14" y="5"/>
                            </a:lnTo>
                            <a:lnTo>
                              <a:pt x="12" y="2"/>
                            </a:lnTo>
                            <a:lnTo>
                              <a:pt x="6" y="0"/>
                            </a:lnTo>
                            <a:lnTo>
                              <a:pt x="0" y="1"/>
                            </a:lnTo>
                            <a:lnTo>
                              <a:pt x="8" y="90"/>
                            </a:lnTo>
                            <a:lnTo>
                              <a:pt x="12" y="98"/>
                            </a:lnTo>
                            <a:lnTo>
                              <a:pt x="19" y="106"/>
                            </a:lnTo>
                            <a:lnTo>
                              <a:pt x="29" y="112"/>
                            </a:lnTo>
                            <a:lnTo>
                              <a:pt x="41" y="114"/>
                            </a:lnTo>
                            <a:lnTo>
                              <a:pt x="56" y="115"/>
                            </a:lnTo>
                            <a:lnTo>
                              <a:pt x="65" y="114"/>
                            </a:lnTo>
                            <a:lnTo>
                              <a:pt x="67" y="107"/>
                            </a:lnTo>
                            <a:lnTo>
                              <a:pt x="66" y="99"/>
                            </a:lnTo>
                            <a:lnTo>
                              <a:pt x="59" y="74"/>
                            </a:lnTo>
                            <a:lnTo>
                              <a:pt x="54" y="50"/>
                            </a:lnTo>
                            <a:lnTo>
                              <a:pt x="51" y="31"/>
                            </a:lnTo>
                            <a:lnTo>
                              <a:pt x="51" y="25"/>
                            </a:lnTo>
                            <a:lnTo>
                              <a:pt x="48" y="18"/>
                            </a:lnTo>
                            <a:lnTo>
                              <a:pt x="45" y="17"/>
                            </a:lnTo>
                            <a:lnTo>
                              <a:pt x="37" y="17"/>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4408200" y="2082600"/>
                        <a:ext cx="93600" cy="169920"/>
                      </a:xfrm>
                      <a:custGeom>
                        <a:avLst/>
                        <a:gdLst/>
                        <a:ahLst/>
                        <a:rect l="l" t="t" r="r" b="b"/>
                        <a:pathLst>
                          <a:path w="59" h="107">
                            <a:moveTo>
                              <a:pt x="38" y="21"/>
                            </a:moveTo>
                            <a:lnTo>
                              <a:pt x="27" y="20"/>
                            </a:lnTo>
                            <a:lnTo>
                              <a:pt x="15" y="18"/>
                            </a:lnTo>
                            <a:lnTo>
                              <a:pt x="9" y="13"/>
                            </a:lnTo>
                            <a:lnTo>
                              <a:pt x="5" y="9"/>
                            </a:lnTo>
                            <a:lnTo>
                              <a:pt x="0" y="0"/>
                            </a:lnTo>
                            <a:lnTo>
                              <a:pt x="8" y="82"/>
                            </a:lnTo>
                            <a:lnTo>
                              <a:pt x="12" y="89"/>
                            </a:lnTo>
                            <a:lnTo>
                              <a:pt x="17" y="96"/>
                            </a:lnTo>
                            <a:lnTo>
                              <a:pt x="24" y="101"/>
                            </a:lnTo>
                            <a:lnTo>
                              <a:pt x="31" y="103"/>
                            </a:lnTo>
                            <a:lnTo>
                              <a:pt x="38" y="104"/>
                            </a:lnTo>
                            <a:lnTo>
                              <a:pt x="45" y="106"/>
                            </a:lnTo>
                            <a:lnTo>
                              <a:pt x="52" y="106"/>
                            </a:lnTo>
                            <a:lnTo>
                              <a:pt x="56" y="104"/>
                            </a:lnTo>
                            <a:lnTo>
                              <a:pt x="58" y="101"/>
                            </a:lnTo>
                            <a:lnTo>
                              <a:pt x="57" y="94"/>
                            </a:lnTo>
                            <a:lnTo>
                              <a:pt x="52" y="80"/>
                            </a:lnTo>
                            <a:lnTo>
                              <a:pt x="44" y="32"/>
                            </a:lnTo>
                            <a:lnTo>
                              <a:pt x="43" y="25"/>
                            </a:lnTo>
                            <a:lnTo>
                              <a:pt x="38" y="21"/>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953" name=""/>
                <p:cNvGrpSpPr/>
                <p:nvPr/>
              </p:nvGrpSpPr>
              <p:grpSpPr>
                <a:xfrm>
                  <a:off x="4744800" y="1844640"/>
                  <a:ext cx="905040" cy="682560"/>
                  <a:chOff x="4744800" y="1844640"/>
                  <a:chExt cx="905040" cy="682560"/>
                </a:xfrm>
              </p:grpSpPr>
              <p:grpSp>
                <p:nvGrpSpPr>
                  <p:cNvPr id="1954" name=""/>
                  <p:cNvGrpSpPr/>
                  <p:nvPr/>
                </p:nvGrpSpPr>
                <p:grpSpPr>
                  <a:xfrm>
                    <a:off x="5038560" y="1896840"/>
                    <a:ext cx="611280" cy="387360"/>
                    <a:chOff x="5038560" y="1896840"/>
                    <a:chExt cx="611280" cy="387360"/>
                  </a:xfrm>
                </p:grpSpPr>
                <p:grpSp>
                  <p:nvGrpSpPr>
                    <p:cNvPr id="1955" name=""/>
                    <p:cNvGrpSpPr/>
                    <p:nvPr/>
                  </p:nvGrpSpPr>
                  <p:grpSpPr>
                    <a:xfrm>
                      <a:off x="5176800" y="1896840"/>
                      <a:ext cx="473040" cy="349560"/>
                      <a:chOff x="5176800" y="1896840"/>
                      <a:chExt cx="473040" cy="349560"/>
                    </a:xfrm>
                  </p:grpSpPr>
                  <p:grpSp>
                    <p:nvGrpSpPr>
                      <p:cNvPr id="1956" name=""/>
                      <p:cNvGrpSpPr/>
                      <p:nvPr/>
                    </p:nvGrpSpPr>
                    <p:grpSpPr>
                      <a:xfrm>
                        <a:off x="5176800" y="1896840"/>
                        <a:ext cx="473040" cy="349560"/>
                        <a:chOff x="5176800" y="1896840"/>
                        <a:chExt cx="473040" cy="349560"/>
                      </a:xfrm>
                    </p:grpSpPr>
                    <p:grpSp>
                      <p:nvGrpSpPr>
                        <p:cNvPr id="1957" name=""/>
                        <p:cNvGrpSpPr/>
                        <p:nvPr/>
                      </p:nvGrpSpPr>
                      <p:grpSpPr>
                        <a:xfrm>
                          <a:off x="5176800" y="2093760"/>
                          <a:ext cx="473040" cy="152640"/>
                          <a:chOff x="5176800" y="2093760"/>
                          <a:chExt cx="473040" cy="152640"/>
                        </a:xfrm>
                      </p:grpSpPr>
                      <p:sp>
                        <p:nvSpPr>
                          <p:cNvPr id="1958" name=""/>
                          <p:cNvSpPr/>
                          <p:nvPr/>
                        </p:nvSpPr>
                        <p:spPr>
                          <a:xfrm>
                            <a:off x="5176800" y="2093760"/>
                            <a:ext cx="271440" cy="152640"/>
                          </a:xfrm>
                          <a:custGeom>
                            <a:avLst/>
                            <a:gdLst/>
                            <a:ahLst/>
                            <a:rect l="l" t="t" r="r" b="b"/>
                            <a:pathLst>
                              <a:path w="171" h="96">
                                <a:moveTo>
                                  <a:pt x="170" y="29"/>
                                </a:moveTo>
                                <a:lnTo>
                                  <a:pt x="170" y="95"/>
                                </a:lnTo>
                                <a:lnTo>
                                  <a:pt x="0" y="46"/>
                                </a:lnTo>
                                <a:lnTo>
                                  <a:pt x="0" y="0"/>
                                </a:lnTo>
                                <a:lnTo>
                                  <a:pt x="170" y="2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5446440" y="2128680"/>
                            <a:ext cx="203400" cy="117720"/>
                          </a:xfrm>
                          <a:custGeom>
                            <a:avLst/>
                            <a:gdLst/>
                            <a:ahLst/>
                            <a:rect l="l" t="t" r="r" b="b"/>
                            <a:pathLst>
                              <a:path w="128" h="74">
                                <a:moveTo>
                                  <a:pt x="0" y="7"/>
                                </a:moveTo>
                                <a:lnTo>
                                  <a:pt x="0" y="73"/>
                                </a:lnTo>
                                <a:lnTo>
                                  <a:pt x="127" y="57"/>
                                </a:lnTo>
                                <a:lnTo>
                                  <a:pt x="127" y="0"/>
                                </a:lnTo>
                                <a:lnTo>
                                  <a:pt x="0" y="7"/>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5176800" y="2093760"/>
                            <a:ext cx="473040" cy="47520"/>
                          </a:xfrm>
                          <a:custGeom>
                            <a:avLst/>
                            <a:gdLst/>
                            <a:ahLst/>
                            <a:rect l="l" t="t" r="r" b="b"/>
                            <a:pathLst>
                              <a:path w="298" h="30">
                                <a:moveTo>
                                  <a:pt x="297" y="22"/>
                                </a:moveTo>
                                <a:lnTo>
                                  <a:pt x="169" y="29"/>
                                </a:lnTo>
                                <a:lnTo>
                                  <a:pt x="0" y="0"/>
                                </a:lnTo>
                                <a:lnTo>
                                  <a:pt x="124" y="0"/>
                                </a:lnTo>
                                <a:lnTo>
                                  <a:pt x="297" y="22"/>
                                </a:lnTo>
                              </a:path>
                            </a:pathLst>
                          </a:custGeom>
                          <a:solidFill>
                            <a:srgbClr val="c0c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1961" name=""/>
                        <p:cNvSpPr/>
                        <p:nvPr/>
                      </p:nvSpPr>
                      <p:spPr>
                        <a:xfrm>
                          <a:off x="5324400" y="2081160"/>
                          <a:ext cx="171360" cy="44280"/>
                        </a:xfrm>
                        <a:custGeom>
                          <a:avLst/>
                          <a:gdLst/>
                          <a:ahLst/>
                          <a:rect l="l" t="t" r="r" b="b"/>
                          <a:pathLst>
                            <a:path w="108" h="28">
                              <a:moveTo>
                                <a:pt x="107" y="15"/>
                              </a:moveTo>
                              <a:lnTo>
                                <a:pt x="107" y="24"/>
                              </a:lnTo>
                              <a:lnTo>
                                <a:pt x="56" y="27"/>
                              </a:lnTo>
                              <a:lnTo>
                                <a:pt x="0" y="17"/>
                              </a:lnTo>
                              <a:lnTo>
                                <a:pt x="0" y="0"/>
                              </a:lnTo>
                              <a:lnTo>
                                <a:pt x="107" y="15"/>
                              </a:lnTo>
                            </a:path>
                          </a:pathLst>
                        </a:custGeom>
                        <a:solidFill>
                          <a:srgbClr val="60606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nvGrpSpPr>
                        <p:cNvPr id="1962" name=""/>
                        <p:cNvGrpSpPr/>
                        <p:nvPr/>
                      </p:nvGrpSpPr>
                      <p:grpSpPr>
                        <a:xfrm>
                          <a:off x="5230440" y="1896840"/>
                          <a:ext cx="382680" cy="219240"/>
                          <a:chOff x="5230440" y="1896840"/>
                          <a:chExt cx="382680" cy="219240"/>
                        </a:xfrm>
                      </p:grpSpPr>
                      <p:sp>
                        <p:nvSpPr>
                          <p:cNvPr id="1963" name=""/>
                          <p:cNvSpPr/>
                          <p:nvPr/>
                        </p:nvSpPr>
                        <p:spPr>
                          <a:xfrm>
                            <a:off x="5230440" y="1896840"/>
                            <a:ext cx="219240" cy="214560"/>
                          </a:xfrm>
                          <a:custGeom>
                            <a:avLst/>
                            <a:gdLst/>
                            <a:ahLst/>
                            <a:rect l="l" t="t" r="r" b="b"/>
                            <a:pathLst>
                              <a:path w="138" h="135">
                                <a:moveTo>
                                  <a:pt x="118" y="134"/>
                                </a:moveTo>
                                <a:lnTo>
                                  <a:pt x="137" y="4"/>
                                </a:lnTo>
                                <a:lnTo>
                                  <a:pt x="19" y="0"/>
                                </a:lnTo>
                                <a:lnTo>
                                  <a:pt x="0" y="115"/>
                                </a:lnTo>
                                <a:lnTo>
                                  <a:pt x="118" y="134"/>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5418000" y="1903320"/>
                            <a:ext cx="195120" cy="212760"/>
                          </a:xfrm>
                          <a:custGeom>
                            <a:avLst/>
                            <a:gdLst/>
                            <a:ahLst/>
                            <a:rect l="l" t="t" r="r" b="b"/>
                            <a:pathLst>
                              <a:path w="123" h="134">
                                <a:moveTo>
                                  <a:pt x="19" y="0"/>
                                </a:moveTo>
                                <a:lnTo>
                                  <a:pt x="122" y="29"/>
                                </a:lnTo>
                                <a:lnTo>
                                  <a:pt x="108" y="133"/>
                                </a:lnTo>
                                <a:lnTo>
                                  <a:pt x="0" y="129"/>
                                </a:lnTo>
                                <a:lnTo>
                                  <a:pt x="1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256000" y="1917720"/>
                            <a:ext cx="158760" cy="161640"/>
                          </a:xfrm>
                          <a:custGeom>
                            <a:avLst/>
                            <a:gdLst/>
                            <a:ahLst/>
                            <a:rect l="l" t="t" r="r" b="b"/>
                            <a:pathLst>
                              <a:path w="100" h="102">
                                <a:moveTo>
                                  <a:pt x="99" y="4"/>
                                </a:moveTo>
                                <a:lnTo>
                                  <a:pt x="85" y="101"/>
                                </a:lnTo>
                                <a:lnTo>
                                  <a:pt x="0" y="89"/>
                                </a:lnTo>
                                <a:lnTo>
                                  <a:pt x="14" y="0"/>
                                </a:lnTo>
                                <a:lnTo>
                                  <a:pt x="99" y="4"/>
                                </a:lnTo>
                              </a:path>
                            </a:pathLst>
                          </a:custGeom>
                          <a:solidFill>
                            <a:srgbClr val="0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6" name=""/>
                      <p:cNvGrpSpPr/>
                      <p:nvPr/>
                    </p:nvGrpSpPr>
                    <p:grpSpPr>
                      <a:xfrm>
                        <a:off x="5197320" y="2111400"/>
                        <a:ext cx="154080" cy="99720"/>
                        <a:chOff x="5197320" y="2111400"/>
                        <a:chExt cx="154080" cy="99720"/>
                      </a:xfrm>
                    </p:grpSpPr>
                    <p:sp>
                      <p:nvSpPr>
                        <p:cNvPr id="1967" name=""/>
                        <p:cNvSpPr/>
                        <p:nvPr/>
                      </p:nvSpPr>
                      <p:spPr>
                        <a:xfrm>
                          <a:off x="5197320" y="2111400"/>
                          <a:ext cx="154080" cy="99720"/>
                        </a:xfrm>
                        <a:custGeom>
                          <a:avLst/>
                          <a:gdLst/>
                          <a:ahLst/>
                          <a:rect l="l" t="t" r="r" b="b"/>
                          <a:pathLst>
                            <a:path w="97" h="63">
                              <a:moveTo>
                                <a:pt x="0" y="0"/>
                              </a:moveTo>
                              <a:lnTo>
                                <a:pt x="96" y="18"/>
                              </a:lnTo>
                              <a:lnTo>
                                <a:pt x="96" y="62"/>
                              </a:lnTo>
                              <a:lnTo>
                                <a:pt x="0" y="35"/>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flipH="1" flipV="1">
                          <a:off x="5209920" y="2135160"/>
                          <a:ext cx="38160" cy="7920"/>
                        </a:xfrm>
                        <a:prstGeom prst="line">
                          <a:avLst/>
                        </a:prstGeom>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69" name=""/>
                        <p:cNvSpPr/>
                        <p:nvPr/>
                      </p:nvSpPr>
                      <p:spPr>
                        <a:xfrm>
                          <a:off x="5273640" y="2149560"/>
                          <a:ext cx="48960" cy="9360"/>
                        </a:xfrm>
                        <a:prstGeom prst="line">
                          <a:avLst/>
                        </a:prstGeom>
                        <a:ln w="0">
                          <a:noFil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970" name=""/>
                        <p:cNvSpPr/>
                        <p:nvPr/>
                      </p:nvSpPr>
                      <p:spPr>
                        <a:xfrm>
                          <a:off x="5260680" y="2122560"/>
                          <a:ext cx="1800" cy="61920"/>
                        </a:xfrm>
                        <a:prstGeom prst="line">
                          <a:avLst/>
                        </a:prstGeom>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971" name=""/>
                        <p:cNvSpPr/>
                        <p:nvPr/>
                      </p:nvSpPr>
                      <p:spPr>
                        <a:xfrm>
                          <a:off x="5333760" y="2138400"/>
                          <a:ext cx="1440" cy="66600"/>
                        </a:xfrm>
                        <a:prstGeom prst="line">
                          <a:avLst/>
                        </a:prstGeom>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1972" name=""/>
                        <p:cNvSpPr/>
                        <p:nvPr/>
                      </p:nvSpPr>
                      <p:spPr>
                        <a:xfrm>
                          <a:off x="5198760" y="2136600"/>
                          <a:ext cx="135000" cy="31680"/>
                        </a:xfrm>
                        <a:prstGeom prst="line">
                          <a:avLst/>
                        </a:prstGeom>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973" name=""/>
                        <p:cNvSpPr/>
                        <p:nvPr/>
                      </p:nvSpPr>
                      <p:spPr>
                        <a:xfrm flipH="1" flipV="1">
                          <a:off x="5198400" y="2123640"/>
                          <a:ext cx="135000" cy="28440"/>
                        </a:xfrm>
                        <a:prstGeom prst="line">
                          <a:avLst/>
                        </a:prstGeom>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grpSp>
                <p:grpSp>
                  <p:nvGrpSpPr>
                    <p:cNvPr id="1974" name=""/>
                    <p:cNvGrpSpPr/>
                    <p:nvPr/>
                  </p:nvGrpSpPr>
                  <p:grpSpPr>
                    <a:xfrm>
                      <a:off x="5038560" y="2112840"/>
                      <a:ext cx="368280" cy="171360"/>
                      <a:chOff x="5038560" y="2112840"/>
                      <a:chExt cx="368280" cy="171360"/>
                    </a:xfrm>
                  </p:grpSpPr>
                  <p:grpSp>
                    <p:nvGrpSpPr>
                      <p:cNvPr id="1975" name=""/>
                      <p:cNvGrpSpPr/>
                      <p:nvPr/>
                    </p:nvGrpSpPr>
                    <p:grpSpPr>
                      <a:xfrm>
                        <a:off x="5322600" y="2205000"/>
                        <a:ext cx="60480" cy="41400"/>
                        <a:chOff x="5322600" y="2205000"/>
                        <a:chExt cx="60480" cy="41400"/>
                      </a:xfrm>
                    </p:grpSpPr>
                    <p:sp>
                      <p:nvSpPr>
                        <p:cNvPr id="1976" name=""/>
                        <p:cNvSpPr/>
                        <p:nvPr/>
                      </p:nvSpPr>
                      <p:spPr>
                        <a:xfrm>
                          <a:off x="5365440" y="2205000"/>
                          <a:ext cx="17640" cy="41400"/>
                        </a:xfrm>
                        <a:custGeom>
                          <a:avLst/>
                          <a:gdLst/>
                          <a:ahLst/>
                          <a:rect l="l" t="t" r="r" b="b"/>
                          <a:pathLst>
                            <a:path w="11" h="26">
                              <a:moveTo>
                                <a:pt x="7" y="0"/>
                              </a:moveTo>
                              <a:lnTo>
                                <a:pt x="10" y="23"/>
                              </a:lnTo>
                              <a:lnTo>
                                <a:pt x="3" y="25"/>
                              </a:lnTo>
                              <a:lnTo>
                                <a:pt x="0" y="1"/>
                              </a:lnTo>
                              <a:lnTo>
                                <a:pt x="7" y="0"/>
                              </a:lnTo>
                            </a:path>
                          </a:pathLst>
                        </a:custGeom>
                        <a:solidFill>
                          <a:srgbClr val="60606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77" name=""/>
                        <p:cNvSpPr/>
                        <p:nvPr/>
                      </p:nvSpPr>
                      <p:spPr>
                        <a:xfrm>
                          <a:off x="5322600" y="2209680"/>
                          <a:ext cx="49320" cy="36720"/>
                        </a:xfrm>
                        <a:custGeom>
                          <a:avLst/>
                          <a:gdLst/>
                          <a:ahLst/>
                          <a:rect l="l" t="t" r="r" b="b"/>
                          <a:pathLst>
                            <a:path w="31" h="23">
                              <a:moveTo>
                                <a:pt x="28" y="1"/>
                              </a:moveTo>
                              <a:lnTo>
                                <a:pt x="30" y="22"/>
                              </a:lnTo>
                              <a:lnTo>
                                <a:pt x="0" y="11"/>
                              </a:lnTo>
                              <a:lnTo>
                                <a:pt x="12" y="7"/>
                              </a:lnTo>
                              <a:lnTo>
                                <a:pt x="22" y="12"/>
                              </a:lnTo>
                              <a:lnTo>
                                <a:pt x="19" y="0"/>
                              </a:lnTo>
                              <a:lnTo>
                                <a:pt x="28" y="1"/>
                              </a:lnTo>
                            </a:path>
                          </a:pathLst>
                        </a:custGeom>
                        <a:solidFill>
                          <a:srgbClr val="40404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nvGrpSpPr>
                      <p:cNvPr id="1978" name=""/>
                      <p:cNvGrpSpPr/>
                      <p:nvPr/>
                    </p:nvGrpSpPr>
                    <p:grpSpPr>
                      <a:xfrm>
                        <a:off x="5038560" y="2112840"/>
                        <a:ext cx="368280" cy="171360"/>
                        <a:chOff x="5038560" y="2112840"/>
                        <a:chExt cx="368280" cy="171360"/>
                      </a:xfrm>
                    </p:grpSpPr>
                    <p:sp>
                      <p:nvSpPr>
                        <p:cNvPr id="1979" name=""/>
                        <p:cNvSpPr/>
                        <p:nvPr/>
                      </p:nvSpPr>
                      <p:spPr>
                        <a:xfrm>
                          <a:off x="5038560" y="2112840"/>
                          <a:ext cx="361800" cy="150840"/>
                        </a:xfrm>
                        <a:custGeom>
                          <a:avLst/>
                          <a:gdLst/>
                          <a:ahLst/>
                          <a:rect l="l" t="t" r="r" b="b"/>
                          <a:pathLst>
                            <a:path w="228" h="95">
                              <a:moveTo>
                                <a:pt x="227" y="40"/>
                              </a:moveTo>
                              <a:lnTo>
                                <a:pt x="119" y="94"/>
                              </a:lnTo>
                              <a:lnTo>
                                <a:pt x="0" y="42"/>
                              </a:lnTo>
                              <a:lnTo>
                                <a:pt x="91" y="0"/>
                              </a:lnTo>
                              <a:lnTo>
                                <a:pt x="227" y="4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5225760" y="2174760"/>
                          <a:ext cx="181080" cy="109440"/>
                        </a:xfrm>
                        <a:custGeom>
                          <a:avLst/>
                          <a:gdLst/>
                          <a:ahLst/>
                          <a:rect l="l" t="t" r="r" b="b"/>
                          <a:pathLst>
                            <a:path w="114" h="69">
                              <a:moveTo>
                                <a:pt x="109" y="0"/>
                              </a:moveTo>
                              <a:lnTo>
                                <a:pt x="0" y="56"/>
                              </a:lnTo>
                              <a:lnTo>
                                <a:pt x="3" y="68"/>
                              </a:lnTo>
                              <a:lnTo>
                                <a:pt x="113" y="11"/>
                              </a:lnTo>
                              <a:lnTo>
                                <a:pt x="109"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5038560" y="2178000"/>
                          <a:ext cx="193680" cy="106200"/>
                        </a:xfrm>
                        <a:custGeom>
                          <a:avLst/>
                          <a:gdLst/>
                          <a:ahLst/>
                          <a:rect l="l" t="t" r="r" b="b"/>
                          <a:pathLst>
                            <a:path w="122" h="67">
                              <a:moveTo>
                                <a:pt x="121" y="66"/>
                              </a:moveTo>
                              <a:lnTo>
                                <a:pt x="117" y="53"/>
                              </a:lnTo>
                              <a:lnTo>
                                <a:pt x="0" y="0"/>
                              </a:lnTo>
                              <a:lnTo>
                                <a:pt x="4" y="10"/>
                              </a:lnTo>
                              <a:lnTo>
                                <a:pt x="121" y="66"/>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5184720" y="2182680"/>
                          <a:ext cx="145800" cy="68400"/>
                        </a:xfrm>
                        <a:custGeom>
                          <a:avLst/>
                          <a:gdLst/>
                          <a:ahLst/>
                          <a:rect l="l" t="t" r="r" b="b"/>
                          <a:pathLst>
                            <a:path w="92" h="43">
                              <a:moveTo>
                                <a:pt x="91" y="11"/>
                              </a:moveTo>
                              <a:lnTo>
                                <a:pt x="59" y="0"/>
                              </a:lnTo>
                              <a:lnTo>
                                <a:pt x="0" y="29"/>
                              </a:lnTo>
                              <a:lnTo>
                                <a:pt x="30" y="42"/>
                              </a:lnTo>
                              <a:lnTo>
                                <a:pt x="91" y="11"/>
                              </a:lnTo>
                            </a:path>
                          </a:pathLst>
                        </a:custGeom>
                        <a:solidFill>
                          <a:srgbClr val="a0a0a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83" name=""/>
                        <p:cNvSpPr/>
                        <p:nvPr/>
                      </p:nvSpPr>
                      <p:spPr>
                        <a:xfrm>
                          <a:off x="5055840" y="2136600"/>
                          <a:ext cx="216000" cy="92160"/>
                        </a:xfrm>
                        <a:custGeom>
                          <a:avLst/>
                          <a:gdLst/>
                          <a:ahLst/>
                          <a:rect l="l" t="t" r="r" b="b"/>
                          <a:pathLst>
                            <a:path w="136" h="58">
                              <a:moveTo>
                                <a:pt x="135" y="28"/>
                              </a:moveTo>
                              <a:lnTo>
                                <a:pt x="76" y="57"/>
                              </a:lnTo>
                              <a:lnTo>
                                <a:pt x="0" y="25"/>
                              </a:lnTo>
                              <a:lnTo>
                                <a:pt x="55" y="0"/>
                              </a:lnTo>
                              <a:lnTo>
                                <a:pt x="135" y="28"/>
                              </a:lnTo>
                            </a:path>
                          </a:pathLst>
                        </a:custGeom>
                        <a:solidFill>
                          <a:srgbClr val="a0a0a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4" name=""/>
                        <p:cNvSpPr/>
                        <p:nvPr/>
                      </p:nvSpPr>
                      <p:spPr>
                        <a:xfrm>
                          <a:off x="5146560" y="2116080"/>
                          <a:ext cx="236520" cy="84240"/>
                        </a:xfrm>
                        <a:custGeom>
                          <a:avLst/>
                          <a:gdLst/>
                          <a:ahLst/>
                          <a:rect l="l" t="t" r="r" b="b"/>
                          <a:pathLst>
                            <a:path w="149" h="53">
                              <a:moveTo>
                                <a:pt x="117" y="52"/>
                              </a:moveTo>
                              <a:lnTo>
                                <a:pt x="148" y="37"/>
                              </a:lnTo>
                              <a:lnTo>
                                <a:pt x="23" y="0"/>
                              </a:lnTo>
                              <a:lnTo>
                                <a:pt x="0" y="11"/>
                              </a:lnTo>
                              <a:lnTo>
                                <a:pt x="117" y="52"/>
                              </a:lnTo>
                            </a:path>
                          </a:pathLst>
                        </a:custGeom>
                        <a:solidFill>
                          <a:srgbClr val="a0a0a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85" name=""/>
                        <p:cNvSpPr/>
                        <p:nvPr/>
                      </p:nvSpPr>
                      <p:spPr>
                        <a:xfrm flipH="1" flipV="1">
                          <a:off x="5176440" y="2120760"/>
                          <a:ext cx="198360" cy="61920"/>
                        </a:xfrm>
                        <a:prstGeom prst="line">
                          <a:avLst/>
                        </a:prstGeom>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986" name=""/>
                        <p:cNvSpPr/>
                        <p:nvPr/>
                      </p:nvSpPr>
                      <p:spPr>
                        <a:xfrm flipH="1" flipV="1">
                          <a:off x="5163840" y="2125440"/>
                          <a:ext cx="193680" cy="61920"/>
                        </a:xfrm>
                        <a:prstGeom prst="line">
                          <a:avLst/>
                        </a:prstGeom>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987" name=""/>
                        <p:cNvSpPr/>
                        <p:nvPr/>
                      </p:nvSpPr>
                      <p:spPr>
                        <a:xfrm flipH="1" flipV="1">
                          <a:off x="5157720" y="2130480"/>
                          <a:ext cx="188640" cy="64800"/>
                        </a:xfrm>
                        <a:prstGeom prst="line">
                          <a:avLst/>
                        </a:prstGeom>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1988" name=""/>
                        <p:cNvSpPr/>
                        <p:nvPr/>
                      </p:nvSpPr>
                      <p:spPr>
                        <a:xfrm flipH="1" flipV="1">
                          <a:off x="5132160" y="2139480"/>
                          <a:ext cx="184320" cy="66600"/>
                        </a:xfrm>
                        <a:prstGeom prst="line">
                          <a:avLst/>
                        </a:prstGeom>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1989" name=""/>
                        <p:cNvSpPr/>
                        <p:nvPr/>
                      </p:nvSpPr>
                      <p:spPr>
                        <a:xfrm flipH="1" flipV="1">
                          <a:off x="5117760" y="2147400"/>
                          <a:ext cx="184320" cy="66600"/>
                        </a:xfrm>
                        <a:prstGeom prst="line">
                          <a:avLst/>
                        </a:prstGeom>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1990" name=""/>
                        <p:cNvSpPr/>
                        <p:nvPr/>
                      </p:nvSpPr>
                      <p:spPr>
                        <a:xfrm flipH="1" flipV="1">
                          <a:off x="5101920" y="2154240"/>
                          <a:ext cx="184320" cy="69840"/>
                        </a:xfrm>
                        <a:prstGeom prst="line">
                          <a:avLst/>
                        </a:prstGeom>
                        <a:ln w="0">
                          <a:noFill/>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991" name=""/>
                        <p:cNvSpPr/>
                        <p:nvPr/>
                      </p:nvSpPr>
                      <p:spPr>
                        <a:xfrm flipH="1" flipV="1">
                          <a:off x="5089320" y="2161800"/>
                          <a:ext cx="177840" cy="68040"/>
                        </a:xfrm>
                        <a:prstGeom prst="line">
                          <a:avLst/>
                        </a:prstGeom>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1992" name=""/>
                        <p:cNvSpPr/>
                        <p:nvPr/>
                      </p:nvSpPr>
                      <p:spPr>
                        <a:xfrm flipH="1" flipV="1">
                          <a:off x="5076360" y="2168280"/>
                          <a:ext cx="176040" cy="69840"/>
                        </a:xfrm>
                        <a:prstGeom prst="line">
                          <a:avLst/>
                        </a:prstGeom>
                        <a:ln w="0">
                          <a:noFill/>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993" name=""/>
                        <p:cNvSpPr/>
                        <p:nvPr/>
                      </p:nvSpPr>
                      <p:spPr>
                        <a:xfrm flipH="1">
                          <a:off x="5217480" y="2195280"/>
                          <a:ext cx="95400" cy="47880"/>
                        </a:xfrm>
                        <a:prstGeom prst="line">
                          <a:avLst/>
                        </a:prstGeom>
                        <a:ln w="0">
                          <a:noFill/>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994" name=""/>
                        <p:cNvSpPr/>
                        <p:nvPr/>
                      </p:nvSpPr>
                      <p:spPr>
                        <a:xfrm flipH="1">
                          <a:off x="5200200" y="2189160"/>
                          <a:ext cx="91800" cy="46080"/>
                        </a:xfrm>
                        <a:prstGeom prst="line">
                          <a:avLst/>
                        </a:prstGeom>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995" name=""/>
                        <p:cNvSpPr/>
                        <p:nvPr/>
                      </p:nvSpPr>
                      <p:spPr>
                        <a:xfrm flipH="1">
                          <a:off x="5160600" y="2173320"/>
                          <a:ext cx="90720" cy="46080"/>
                        </a:xfrm>
                        <a:prstGeom prst="line">
                          <a:avLst/>
                        </a:prstGeom>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996" name=""/>
                        <p:cNvSpPr/>
                        <p:nvPr/>
                      </p:nvSpPr>
                      <p:spPr>
                        <a:xfrm flipH="1">
                          <a:off x="5139720" y="2168280"/>
                          <a:ext cx="88920" cy="41400"/>
                        </a:xfrm>
                        <a:prstGeom prst="line">
                          <a:avLst/>
                        </a:prstGeom>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997" name=""/>
                        <p:cNvSpPr/>
                        <p:nvPr/>
                      </p:nvSpPr>
                      <p:spPr>
                        <a:xfrm flipH="1">
                          <a:off x="5119560" y="2160360"/>
                          <a:ext cx="85680" cy="42840"/>
                        </a:xfrm>
                        <a:prstGeom prst="line">
                          <a:avLst/>
                        </a:prstGeom>
                        <a:ln w="0">
                          <a:noFill/>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998" name=""/>
                        <p:cNvSpPr/>
                        <p:nvPr/>
                      </p:nvSpPr>
                      <p:spPr>
                        <a:xfrm flipH="1">
                          <a:off x="5101920" y="2152440"/>
                          <a:ext cx="85680" cy="41400"/>
                        </a:xfrm>
                        <a:prstGeom prst="line">
                          <a:avLst/>
                        </a:prstGeom>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999" name=""/>
                        <p:cNvSpPr/>
                        <p:nvPr/>
                      </p:nvSpPr>
                      <p:spPr>
                        <a:xfrm flipH="1">
                          <a:off x="5082840" y="2146320"/>
                          <a:ext cx="84240" cy="38160"/>
                        </a:xfrm>
                        <a:prstGeom prst="line">
                          <a:avLst/>
                        </a:prstGeom>
                        <a:ln w="0">
                          <a:noFill/>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000" name=""/>
                        <p:cNvSpPr/>
                        <p:nvPr/>
                      </p:nvSpPr>
                      <p:spPr>
                        <a:xfrm flipH="1">
                          <a:off x="5309640" y="2168280"/>
                          <a:ext cx="44280" cy="20880"/>
                        </a:xfrm>
                        <a:prstGeom prst="line">
                          <a:avLst/>
                        </a:prstGeom>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001" name=""/>
                        <p:cNvSpPr/>
                        <p:nvPr/>
                      </p:nvSpPr>
                      <p:spPr>
                        <a:xfrm flipH="1">
                          <a:off x="5281560" y="2160360"/>
                          <a:ext cx="41040" cy="19080"/>
                        </a:xfrm>
                        <a:prstGeom prst="line">
                          <a:avLst/>
                        </a:prstGeom>
                        <a:ln w="0">
                          <a:noFill/>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002" name=""/>
                        <p:cNvSpPr/>
                        <p:nvPr/>
                      </p:nvSpPr>
                      <p:spPr>
                        <a:xfrm flipH="1">
                          <a:off x="5254560" y="2152440"/>
                          <a:ext cx="41040" cy="19080"/>
                        </a:xfrm>
                        <a:prstGeom prst="line">
                          <a:avLst/>
                        </a:prstGeom>
                        <a:ln w="0">
                          <a:noFill/>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003" name=""/>
                        <p:cNvSpPr/>
                        <p:nvPr/>
                      </p:nvSpPr>
                      <p:spPr>
                        <a:xfrm flipH="1">
                          <a:off x="5227560" y="2143080"/>
                          <a:ext cx="41040" cy="19080"/>
                        </a:xfrm>
                        <a:prstGeom prst="line">
                          <a:avLst/>
                        </a:prstGeom>
                        <a:ln w="0">
                          <a:noFill/>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004" name=""/>
                        <p:cNvSpPr/>
                        <p:nvPr/>
                      </p:nvSpPr>
                      <p:spPr>
                        <a:xfrm flipH="1">
                          <a:off x="5202000" y="2135160"/>
                          <a:ext cx="39600" cy="19080"/>
                        </a:xfrm>
                        <a:prstGeom prst="line">
                          <a:avLst/>
                        </a:prstGeom>
                        <a:ln w="0">
                          <a:noFill/>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005" name=""/>
                        <p:cNvSpPr/>
                        <p:nvPr/>
                      </p:nvSpPr>
                      <p:spPr>
                        <a:xfrm flipH="1">
                          <a:off x="5173200" y="2125440"/>
                          <a:ext cx="36360" cy="17640"/>
                        </a:xfrm>
                        <a:prstGeom prst="line">
                          <a:avLst/>
                        </a:prstGeom>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grpSp>
              <p:grpSp>
                <p:nvGrpSpPr>
                  <p:cNvPr id="2006" name=""/>
                  <p:cNvGrpSpPr/>
                  <p:nvPr/>
                </p:nvGrpSpPr>
                <p:grpSpPr>
                  <a:xfrm>
                    <a:off x="4779720" y="1844640"/>
                    <a:ext cx="500040" cy="682560"/>
                    <a:chOff x="4779720" y="1844640"/>
                    <a:chExt cx="500040" cy="682560"/>
                  </a:xfrm>
                </p:grpSpPr>
                <p:grpSp>
                  <p:nvGrpSpPr>
                    <p:cNvPr id="2007" name=""/>
                    <p:cNvGrpSpPr/>
                    <p:nvPr/>
                  </p:nvGrpSpPr>
                  <p:grpSpPr>
                    <a:xfrm>
                      <a:off x="4800240" y="2334960"/>
                      <a:ext cx="476280" cy="192240"/>
                      <a:chOff x="4800240" y="2334960"/>
                      <a:chExt cx="476280" cy="192240"/>
                    </a:xfrm>
                  </p:grpSpPr>
                  <p:sp>
                    <p:nvSpPr>
                      <p:cNvPr id="2008" name=""/>
                      <p:cNvSpPr/>
                      <p:nvPr/>
                    </p:nvSpPr>
                    <p:spPr>
                      <a:xfrm>
                        <a:off x="4800240" y="2334960"/>
                        <a:ext cx="476280" cy="192240"/>
                      </a:xfrm>
                      <a:custGeom>
                        <a:avLst/>
                        <a:gdLst/>
                        <a:ahLst/>
                        <a:rect l="l" t="t" r="r" b="b"/>
                        <a:pathLst>
                          <a:path w="300" h="121">
                            <a:moveTo>
                              <a:pt x="274" y="120"/>
                            </a:moveTo>
                            <a:lnTo>
                              <a:pt x="299" y="117"/>
                            </a:lnTo>
                            <a:lnTo>
                              <a:pt x="299" y="90"/>
                            </a:lnTo>
                            <a:lnTo>
                              <a:pt x="298" y="70"/>
                            </a:lnTo>
                            <a:lnTo>
                              <a:pt x="285" y="57"/>
                            </a:lnTo>
                            <a:lnTo>
                              <a:pt x="270" y="51"/>
                            </a:lnTo>
                            <a:lnTo>
                              <a:pt x="234" y="39"/>
                            </a:lnTo>
                            <a:lnTo>
                              <a:pt x="181" y="27"/>
                            </a:lnTo>
                            <a:lnTo>
                              <a:pt x="170" y="26"/>
                            </a:lnTo>
                            <a:lnTo>
                              <a:pt x="164" y="27"/>
                            </a:lnTo>
                            <a:lnTo>
                              <a:pt x="162" y="24"/>
                            </a:lnTo>
                            <a:lnTo>
                              <a:pt x="159" y="22"/>
                            </a:lnTo>
                            <a:lnTo>
                              <a:pt x="156" y="22"/>
                            </a:lnTo>
                            <a:lnTo>
                              <a:pt x="151" y="23"/>
                            </a:lnTo>
                            <a:lnTo>
                              <a:pt x="149" y="18"/>
                            </a:lnTo>
                            <a:lnTo>
                              <a:pt x="145" y="16"/>
                            </a:lnTo>
                            <a:lnTo>
                              <a:pt x="141" y="15"/>
                            </a:lnTo>
                            <a:lnTo>
                              <a:pt x="135" y="15"/>
                            </a:lnTo>
                            <a:lnTo>
                              <a:pt x="136" y="11"/>
                            </a:lnTo>
                            <a:lnTo>
                              <a:pt x="131" y="0"/>
                            </a:lnTo>
                            <a:lnTo>
                              <a:pt x="7" y="3"/>
                            </a:lnTo>
                            <a:lnTo>
                              <a:pt x="8" y="15"/>
                            </a:lnTo>
                            <a:lnTo>
                              <a:pt x="5" y="24"/>
                            </a:lnTo>
                            <a:lnTo>
                              <a:pt x="3" y="32"/>
                            </a:lnTo>
                            <a:lnTo>
                              <a:pt x="1" y="41"/>
                            </a:lnTo>
                            <a:lnTo>
                              <a:pt x="0" y="55"/>
                            </a:lnTo>
                            <a:lnTo>
                              <a:pt x="2" y="64"/>
                            </a:lnTo>
                            <a:lnTo>
                              <a:pt x="5" y="72"/>
                            </a:lnTo>
                            <a:lnTo>
                              <a:pt x="10" y="78"/>
                            </a:lnTo>
                            <a:lnTo>
                              <a:pt x="16" y="81"/>
                            </a:lnTo>
                            <a:lnTo>
                              <a:pt x="24" y="84"/>
                            </a:lnTo>
                            <a:lnTo>
                              <a:pt x="36" y="87"/>
                            </a:lnTo>
                            <a:lnTo>
                              <a:pt x="41" y="93"/>
                            </a:lnTo>
                            <a:lnTo>
                              <a:pt x="48" y="98"/>
                            </a:lnTo>
                            <a:lnTo>
                              <a:pt x="58" y="102"/>
                            </a:lnTo>
                            <a:lnTo>
                              <a:pt x="69" y="105"/>
                            </a:lnTo>
                            <a:lnTo>
                              <a:pt x="88" y="107"/>
                            </a:lnTo>
                            <a:lnTo>
                              <a:pt x="104" y="107"/>
                            </a:lnTo>
                            <a:lnTo>
                              <a:pt x="116" y="106"/>
                            </a:lnTo>
                            <a:lnTo>
                              <a:pt x="128" y="105"/>
                            </a:lnTo>
                            <a:lnTo>
                              <a:pt x="135" y="110"/>
                            </a:lnTo>
                            <a:lnTo>
                              <a:pt x="152" y="109"/>
                            </a:lnTo>
                            <a:lnTo>
                              <a:pt x="216" y="116"/>
                            </a:lnTo>
                            <a:lnTo>
                              <a:pt x="244" y="120"/>
                            </a:lnTo>
                            <a:lnTo>
                              <a:pt x="274" y="12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4805280" y="2351160"/>
                        <a:ext cx="468360" cy="174600"/>
                      </a:xfrm>
                      <a:custGeom>
                        <a:avLst/>
                        <a:gdLst/>
                        <a:ahLst/>
                        <a:rect l="l" t="t" r="r" b="b"/>
                        <a:pathLst>
                          <a:path w="295" h="110">
                            <a:moveTo>
                              <a:pt x="10" y="5"/>
                            </a:moveTo>
                            <a:lnTo>
                              <a:pt x="10" y="12"/>
                            </a:lnTo>
                            <a:lnTo>
                              <a:pt x="6" y="9"/>
                            </a:lnTo>
                            <a:lnTo>
                              <a:pt x="2" y="26"/>
                            </a:lnTo>
                            <a:lnTo>
                              <a:pt x="0" y="47"/>
                            </a:lnTo>
                            <a:lnTo>
                              <a:pt x="8" y="68"/>
                            </a:lnTo>
                            <a:lnTo>
                              <a:pt x="26" y="72"/>
                            </a:lnTo>
                            <a:lnTo>
                              <a:pt x="24" y="68"/>
                            </a:lnTo>
                            <a:lnTo>
                              <a:pt x="34" y="75"/>
                            </a:lnTo>
                            <a:lnTo>
                              <a:pt x="43" y="82"/>
                            </a:lnTo>
                            <a:lnTo>
                              <a:pt x="61" y="90"/>
                            </a:lnTo>
                            <a:lnTo>
                              <a:pt x="85" y="92"/>
                            </a:lnTo>
                            <a:lnTo>
                              <a:pt x="113" y="93"/>
                            </a:lnTo>
                            <a:lnTo>
                              <a:pt x="125" y="92"/>
                            </a:lnTo>
                            <a:lnTo>
                              <a:pt x="115" y="88"/>
                            </a:lnTo>
                            <a:lnTo>
                              <a:pt x="110" y="78"/>
                            </a:lnTo>
                            <a:lnTo>
                              <a:pt x="119" y="86"/>
                            </a:lnTo>
                            <a:lnTo>
                              <a:pt x="128" y="91"/>
                            </a:lnTo>
                            <a:lnTo>
                              <a:pt x="138" y="96"/>
                            </a:lnTo>
                            <a:lnTo>
                              <a:pt x="148" y="95"/>
                            </a:lnTo>
                            <a:lnTo>
                              <a:pt x="142" y="91"/>
                            </a:lnTo>
                            <a:lnTo>
                              <a:pt x="135" y="85"/>
                            </a:lnTo>
                            <a:lnTo>
                              <a:pt x="146" y="89"/>
                            </a:lnTo>
                            <a:lnTo>
                              <a:pt x="156" y="96"/>
                            </a:lnTo>
                            <a:lnTo>
                              <a:pt x="190" y="100"/>
                            </a:lnTo>
                            <a:lnTo>
                              <a:pt x="224" y="105"/>
                            </a:lnTo>
                            <a:lnTo>
                              <a:pt x="236" y="104"/>
                            </a:lnTo>
                            <a:lnTo>
                              <a:pt x="223" y="97"/>
                            </a:lnTo>
                            <a:lnTo>
                              <a:pt x="211" y="95"/>
                            </a:lnTo>
                            <a:lnTo>
                              <a:pt x="225" y="94"/>
                            </a:lnTo>
                            <a:lnTo>
                              <a:pt x="236" y="99"/>
                            </a:lnTo>
                            <a:lnTo>
                              <a:pt x="249" y="107"/>
                            </a:lnTo>
                            <a:lnTo>
                              <a:pt x="239" y="94"/>
                            </a:lnTo>
                            <a:lnTo>
                              <a:pt x="227" y="88"/>
                            </a:lnTo>
                            <a:lnTo>
                              <a:pt x="243" y="91"/>
                            </a:lnTo>
                            <a:lnTo>
                              <a:pt x="251" y="101"/>
                            </a:lnTo>
                            <a:lnTo>
                              <a:pt x="253" y="109"/>
                            </a:lnTo>
                            <a:lnTo>
                              <a:pt x="264" y="97"/>
                            </a:lnTo>
                            <a:lnTo>
                              <a:pt x="275" y="92"/>
                            </a:lnTo>
                            <a:lnTo>
                              <a:pt x="269" y="98"/>
                            </a:lnTo>
                            <a:lnTo>
                              <a:pt x="260" y="109"/>
                            </a:lnTo>
                            <a:lnTo>
                              <a:pt x="286" y="104"/>
                            </a:lnTo>
                            <a:lnTo>
                              <a:pt x="291" y="102"/>
                            </a:lnTo>
                            <a:lnTo>
                              <a:pt x="294" y="88"/>
                            </a:lnTo>
                            <a:lnTo>
                              <a:pt x="292" y="70"/>
                            </a:lnTo>
                            <a:lnTo>
                              <a:pt x="288" y="57"/>
                            </a:lnTo>
                            <a:lnTo>
                              <a:pt x="273" y="48"/>
                            </a:lnTo>
                            <a:lnTo>
                              <a:pt x="252" y="39"/>
                            </a:lnTo>
                            <a:lnTo>
                              <a:pt x="212" y="27"/>
                            </a:lnTo>
                            <a:lnTo>
                              <a:pt x="180" y="20"/>
                            </a:lnTo>
                            <a:lnTo>
                              <a:pt x="163" y="18"/>
                            </a:lnTo>
                            <a:lnTo>
                              <a:pt x="156" y="27"/>
                            </a:lnTo>
                            <a:lnTo>
                              <a:pt x="133" y="37"/>
                            </a:lnTo>
                            <a:lnTo>
                              <a:pt x="145" y="28"/>
                            </a:lnTo>
                            <a:lnTo>
                              <a:pt x="154" y="25"/>
                            </a:lnTo>
                            <a:lnTo>
                              <a:pt x="158" y="18"/>
                            </a:lnTo>
                            <a:lnTo>
                              <a:pt x="156" y="15"/>
                            </a:lnTo>
                            <a:lnTo>
                              <a:pt x="150" y="15"/>
                            </a:lnTo>
                            <a:lnTo>
                              <a:pt x="146" y="18"/>
                            </a:lnTo>
                            <a:lnTo>
                              <a:pt x="142" y="22"/>
                            </a:lnTo>
                            <a:lnTo>
                              <a:pt x="132" y="26"/>
                            </a:lnTo>
                            <a:lnTo>
                              <a:pt x="141" y="18"/>
                            </a:lnTo>
                            <a:lnTo>
                              <a:pt x="145" y="13"/>
                            </a:lnTo>
                            <a:lnTo>
                              <a:pt x="142" y="9"/>
                            </a:lnTo>
                            <a:lnTo>
                              <a:pt x="134" y="7"/>
                            </a:lnTo>
                            <a:lnTo>
                              <a:pt x="125" y="15"/>
                            </a:lnTo>
                            <a:lnTo>
                              <a:pt x="115" y="21"/>
                            </a:lnTo>
                            <a:lnTo>
                              <a:pt x="127" y="9"/>
                            </a:lnTo>
                            <a:lnTo>
                              <a:pt x="130" y="4"/>
                            </a:lnTo>
                            <a:lnTo>
                              <a:pt x="130" y="0"/>
                            </a:lnTo>
                            <a:lnTo>
                              <a:pt x="121" y="2"/>
                            </a:lnTo>
                            <a:lnTo>
                              <a:pt x="111" y="8"/>
                            </a:lnTo>
                            <a:lnTo>
                              <a:pt x="105" y="12"/>
                            </a:lnTo>
                            <a:lnTo>
                              <a:pt x="77" y="14"/>
                            </a:lnTo>
                            <a:lnTo>
                              <a:pt x="78" y="8"/>
                            </a:lnTo>
                            <a:lnTo>
                              <a:pt x="69" y="5"/>
                            </a:lnTo>
                            <a:lnTo>
                              <a:pt x="69" y="14"/>
                            </a:lnTo>
                            <a:lnTo>
                              <a:pt x="61" y="15"/>
                            </a:lnTo>
                            <a:lnTo>
                              <a:pt x="43" y="18"/>
                            </a:lnTo>
                            <a:lnTo>
                              <a:pt x="44" y="9"/>
                            </a:lnTo>
                            <a:lnTo>
                              <a:pt x="38" y="9"/>
                            </a:lnTo>
                            <a:lnTo>
                              <a:pt x="37" y="18"/>
                            </a:lnTo>
                            <a:lnTo>
                              <a:pt x="26" y="17"/>
                            </a:lnTo>
                            <a:lnTo>
                              <a:pt x="16" y="15"/>
                            </a:lnTo>
                            <a:lnTo>
                              <a:pt x="15" y="8"/>
                            </a:lnTo>
                            <a:lnTo>
                              <a:pt x="10" y="5"/>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4871880" y="2414520"/>
                        <a:ext cx="65160" cy="12600"/>
                      </a:xfrm>
                      <a:custGeom>
                        <a:avLst/>
                        <a:gdLst/>
                        <a:ahLst/>
                        <a:rect l="l" t="t" r="r" b="b"/>
                        <a:pathLst>
                          <a:path w="41" h="8">
                            <a:moveTo>
                              <a:pt x="0" y="0"/>
                            </a:moveTo>
                            <a:lnTo>
                              <a:pt x="18" y="7"/>
                            </a:lnTo>
                            <a:lnTo>
                              <a:pt x="40" y="5"/>
                            </a:lnTo>
                            <a:lnTo>
                              <a:pt x="0" y="0"/>
                            </a:lnTo>
                          </a:path>
                        </a:pathLst>
                      </a:custGeom>
                      <a:solidFill>
                        <a:srgbClr val="60606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11" name=""/>
                      <p:cNvSpPr/>
                      <p:nvPr/>
                    </p:nvSpPr>
                    <p:spPr>
                      <a:xfrm>
                        <a:off x="4808160" y="2400120"/>
                        <a:ext cx="41400" cy="11160"/>
                      </a:xfrm>
                      <a:custGeom>
                        <a:avLst/>
                        <a:gdLst/>
                        <a:ahLst/>
                        <a:rect l="l" t="t" r="r" b="b"/>
                        <a:pathLst>
                          <a:path w="26" h="7">
                            <a:moveTo>
                              <a:pt x="0" y="0"/>
                            </a:moveTo>
                            <a:lnTo>
                              <a:pt x="6" y="3"/>
                            </a:lnTo>
                            <a:lnTo>
                              <a:pt x="25" y="6"/>
                            </a:lnTo>
                            <a:lnTo>
                              <a:pt x="6" y="6"/>
                            </a:lnTo>
                            <a:lnTo>
                              <a:pt x="0" y="0"/>
                            </a:lnTo>
                          </a:path>
                        </a:pathLst>
                      </a:custGeom>
                      <a:solidFill>
                        <a:srgbClr val="60606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2" name=""/>
                      <p:cNvSpPr/>
                      <p:nvPr/>
                    </p:nvSpPr>
                    <p:spPr>
                      <a:xfrm>
                        <a:off x="4970160" y="2390760"/>
                        <a:ext cx="61920" cy="30240"/>
                      </a:xfrm>
                      <a:custGeom>
                        <a:avLst/>
                        <a:gdLst/>
                        <a:ahLst/>
                        <a:rect l="l" t="t" r="r" b="b"/>
                        <a:pathLst>
                          <a:path w="39" h="19">
                            <a:moveTo>
                              <a:pt x="0" y="0"/>
                            </a:moveTo>
                            <a:lnTo>
                              <a:pt x="16" y="1"/>
                            </a:lnTo>
                            <a:lnTo>
                              <a:pt x="20" y="3"/>
                            </a:lnTo>
                            <a:lnTo>
                              <a:pt x="20" y="9"/>
                            </a:lnTo>
                            <a:lnTo>
                              <a:pt x="21" y="15"/>
                            </a:lnTo>
                            <a:lnTo>
                              <a:pt x="38" y="18"/>
                            </a:lnTo>
                            <a:lnTo>
                              <a:pt x="18" y="17"/>
                            </a:lnTo>
                            <a:lnTo>
                              <a:pt x="14" y="5"/>
                            </a:lnTo>
                            <a:lnTo>
                              <a:pt x="0" y="0"/>
                            </a:lnTo>
                          </a:path>
                        </a:pathLst>
                      </a:custGeom>
                      <a:solidFill>
                        <a:srgbClr val="60606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13" name=""/>
                      <p:cNvSpPr/>
                      <p:nvPr/>
                    </p:nvSpPr>
                    <p:spPr>
                      <a:xfrm>
                        <a:off x="5030640" y="2457360"/>
                        <a:ext cx="196920" cy="44280"/>
                      </a:xfrm>
                      <a:custGeom>
                        <a:avLst/>
                        <a:gdLst/>
                        <a:ahLst/>
                        <a:rect l="l" t="t" r="r" b="b"/>
                        <a:pathLst>
                          <a:path w="124" h="28">
                            <a:moveTo>
                              <a:pt x="0" y="0"/>
                            </a:moveTo>
                            <a:lnTo>
                              <a:pt x="31" y="1"/>
                            </a:lnTo>
                            <a:lnTo>
                              <a:pt x="63" y="9"/>
                            </a:lnTo>
                            <a:lnTo>
                              <a:pt x="87" y="10"/>
                            </a:lnTo>
                            <a:lnTo>
                              <a:pt x="106" y="13"/>
                            </a:lnTo>
                            <a:lnTo>
                              <a:pt x="113" y="22"/>
                            </a:lnTo>
                            <a:lnTo>
                              <a:pt x="123" y="27"/>
                            </a:lnTo>
                            <a:lnTo>
                              <a:pt x="113" y="26"/>
                            </a:lnTo>
                            <a:lnTo>
                              <a:pt x="105" y="15"/>
                            </a:lnTo>
                            <a:lnTo>
                              <a:pt x="79" y="11"/>
                            </a:lnTo>
                            <a:lnTo>
                              <a:pt x="63" y="11"/>
                            </a:lnTo>
                            <a:lnTo>
                              <a:pt x="51" y="9"/>
                            </a:lnTo>
                            <a:lnTo>
                              <a:pt x="29" y="3"/>
                            </a:lnTo>
                            <a:lnTo>
                              <a:pt x="0" y="0"/>
                            </a:lnTo>
                          </a:path>
                        </a:pathLst>
                      </a:custGeom>
                      <a:solidFill>
                        <a:srgbClr val="60606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2014" name=""/>
                    <p:cNvGrpSpPr/>
                    <p:nvPr/>
                  </p:nvGrpSpPr>
                  <p:grpSpPr>
                    <a:xfrm>
                      <a:off x="4998960" y="2125440"/>
                      <a:ext cx="198360" cy="100080"/>
                      <a:chOff x="4998960" y="2125440"/>
                      <a:chExt cx="198360" cy="100080"/>
                    </a:xfrm>
                  </p:grpSpPr>
                  <p:grpSp>
                    <p:nvGrpSpPr>
                      <p:cNvPr id="2015" name=""/>
                      <p:cNvGrpSpPr/>
                      <p:nvPr/>
                    </p:nvGrpSpPr>
                    <p:grpSpPr>
                      <a:xfrm>
                        <a:off x="5024160" y="2125440"/>
                        <a:ext cx="173160" cy="81000"/>
                        <a:chOff x="5024160" y="2125440"/>
                        <a:chExt cx="173160" cy="81000"/>
                      </a:xfrm>
                    </p:grpSpPr>
                    <p:sp>
                      <p:nvSpPr>
                        <p:cNvPr id="2016" name=""/>
                        <p:cNvSpPr/>
                        <p:nvPr/>
                      </p:nvSpPr>
                      <p:spPr>
                        <a:xfrm>
                          <a:off x="5024160" y="2125440"/>
                          <a:ext cx="173160" cy="81000"/>
                        </a:xfrm>
                        <a:custGeom>
                          <a:avLst/>
                          <a:gdLst/>
                          <a:ahLst/>
                          <a:rect l="l" t="t" r="r" b="b"/>
                          <a:pathLst>
                            <a:path w="109" h="51">
                              <a:moveTo>
                                <a:pt x="10" y="50"/>
                              </a:moveTo>
                              <a:lnTo>
                                <a:pt x="16" y="49"/>
                              </a:lnTo>
                              <a:lnTo>
                                <a:pt x="21" y="46"/>
                              </a:lnTo>
                              <a:lnTo>
                                <a:pt x="27" y="45"/>
                              </a:lnTo>
                              <a:lnTo>
                                <a:pt x="36" y="47"/>
                              </a:lnTo>
                              <a:lnTo>
                                <a:pt x="43" y="46"/>
                              </a:lnTo>
                              <a:lnTo>
                                <a:pt x="46" y="45"/>
                              </a:lnTo>
                              <a:lnTo>
                                <a:pt x="50" y="44"/>
                              </a:lnTo>
                              <a:lnTo>
                                <a:pt x="54" y="42"/>
                              </a:lnTo>
                              <a:lnTo>
                                <a:pt x="58" y="39"/>
                              </a:lnTo>
                              <a:lnTo>
                                <a:pt x="61" y="36"/>
                              </a:lnTo>
                              <a:lnTo>
                                <a:pt x="66" y="32"/>
                              </a:lnTo>
                              <a:lnTo>
                                <a:pt x="74" y="34"/>
                              </a:lnTo>
                              <a:lnTo>
                                <a:pt x="78" y="34"/>
                              </a:lnTo>
                              <a:lnTo>
                                <a:pt x="81" y="33"/>
                              </a:lnTo>
                              <a:lnTo>
                                <a:pt x="82" y="32"/>
                              </a:lnTo>
                              <a:lnTo>
                                <a:pt x="83" y="30"/>
                              </a:lnTo>
                              <a:lnTo>
                                <a:pt x="82" y="28"/>
                              </a:lnTo>
                              <a:lnTo>
                                <a:pt x="81" y="26"/>
                              </a:lnTo>
                              <a:lnTo>
                                <a:pt x="78" y="25"/>
                              </a:lnTo>
                              <a:lnTo>
                                <a:pt x="72" y="25"/>
                              </a:lnTo>
                              <a:lnTo>
                                <a:pt x="65" y="22"/>
                              </a:lnTo>
                              <a:lnTo>
                                <a:pt x="71" y="19"/>
                              </a:lnTo>
                              <a:lnTo>
                                <a:pt x="78" y="17"/>
                              </a:lnTo>
                              <a:lnTo>
                                <a:pt x="83" y="17"/>
                              </a:lnTo>
                              <a:lnTo>
                                <a:pt x="90" y="17"/>
                              </a:lnTo>
                              <a:lnTo>
                                <a:pt x="94" y="18"/>
                              </a:lnTo>
                              <a:lnTo>
                                <a:pt x="100" y="18"/>
                              </a:lnTo>
                              <a:lnTo>
                                <a:pt x="102" y="17"/>
                              </a:lnTo>
                              <a:lnTo>
                                <a:pt x="102" y="15"/>
                              </a:lnTo>
                              <a:lnTo>
                                <a:pt x="105" y="15"/>
                              </a:lnTo>
                              <a:lnTo>
                                <a:pt x="107" y="14"/>
                              </a:lnTo>
                              <a:lnTo>
                                <a:pt x="108" y="12"/>
                              </a:lnTo>
                              <a:lnTo>
                                <a:pt x="107" y="11"/>
                              </a:lnTo>
                              <a:lnTo>
                                <a:pt x="106" y="10"/>
                              </a:lnTo>
                              <a:lnTo>
                                <a:pt x="102" y="8"/>
                              </a:lnTo>
                              <a:lnTo>
                                <a:pt x="100" y="7"/>
                              </a:lnTo>
                              <a:lnTo>
                                <a:pt x="97" y="5"/>
                              </a:lnTo>
                              <a:lnTo>
                                <a:pt x="94" y="4"/>
                              </a:lnTo>
                              <a:lnTo>
                                <a:pt x="91" y="4"/>
                              </a:lnTo>
                              <a:lnTo>
                                <a:pt x="79" y="2"/>
                              </a:lnTo>
                              <a:lnTo>
                                <a:pt x="76" y="1"/>
                              </a:lnTo>
                              <a:lnTo>
                                <a:pt x="73" y="0"/>
                              </a:lnTo>
                              <a:lnTo>
                                <a:pt x="69" y="1"/>
                              </a:lnTo>
                              <a:lnTo>
                                <a:pt x="65" y="2"/>
                              </a:lnTo>
                              <a:lnTo>
                                <a:pt x="54" y="8"/>
                              </a:lnTo>
                              <a:lnTo>
                                <a:pt x="49" y="9"/>
                              </a:lnTo>
                              <a:lnTo>
                                <a:pt x="45" y="10"/>
                              </a:lnTo>
                              <a:lnTo>
                                <a:pt x="41" y="12"/>
                              </a:lnTo>
                              <a:lnTo>
                                <a:pt x="39" y="15"/>
                              </a:lnTo>
                              <a:lnTo>
                                <a:pt x="29" y="20"/>
                              </a:lnTo>
                              <a:lnTo>
                                <a:pt x="24" y="23"/>
                              </a:lnTo>
                              <a:lnTo>
                                <a:pt x="19" y="28"/>
                              </a:lnTo>
                              <a:lnTo>
                                <a:pt x="15" y="30"/>
                              </a:lnTo>
                              <a:lnTo>
                                <a:pt x="0" y="31"/>
                              </a:lnTo>
                              <a:lnTo>
                                <a:pt x="10" y="50"/>
                              </a:lnTo>
                            </a:path>
                          </a:pathLst>
                        </a:custGeom>
                        <a:solidFill>
                          <a:srgbClr val="ffc08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17" name=""/>
                        <p:cNvSpPr/>
                        <p:nvPr/>
                      </p:nvSpPr>
                      <p:spPr>
                        <a:xfrm>
                          <a:off x="5087880" y="2162160"/>
                          <a:ext cx="42840" cy="11160"/>
                        </a:xfrm>
                        <a:custGeom>
                          <a:avLst/>
                          <a:gdLst/>
                          <a:ahLst/>
                          <a:rect l="l" t="t" r="r" b="b"/>
                          <a:pathLst>
                            <a:path w="27" h="7">
                              <a:moveTo>
                                <a:pt x="26" y="0"/>
                              </a:moveTo>
                              <a:lnTo>
                                <a:pt x="25" y="1"/>
                              </a:lnTo>
                              <a:lnTo>
                                <a:pt x="21" y="1"/>
                              </a:lnTo>
                              <a:lnTo>
                                <a:pt x="19" y="2"/>
                              </a:lnTo>
                              <a:lnTo>
                                <a:pt x="15" y="4"/>
                              </a:lnTo>
                              <a:lnTo>
                                <a:pt x="10" y="5"/>
                              </a:lnTo>
                              <a:lnTo>
                                <a:pt x="4" y="5"/>
                              </a:lnTo>
                              <a:lnTo>
                                <a:pt x="0" y="6"/>
                              </a:lnTo>
                              <a:lnTo>
                                <a:pt x="3" y="4"/>
                              </a:lnTo>
                              <a:lnTo>
                                <a:pt x="8" y="4"/>
                              </a:lnTo>
                              <a:lnTo>
                                <a:pt x="11" y="4"/>
                              </a:lnTo>
                              <a:lnTo>
                                <a:pt x="15" y="3"/>
                              </a:lnTo>
                              <a:lnTo>
                                <a:pt x="18" y="1"/>
                              </a:lnTo>
                              <a:lnTo>
                                <a:pt x="20" y="0"/>
                              </a:lnTo>
                              <a:lnTo>
                                <a:pt x="26"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8" name=""/>
                        <p:cNvSpPr/>
                        <p:nvPr/>
                      </p:nvSpPr>
                      <p:spPr>
                        <a:xfrm>
                          <a:off x="5140080" y="2170080"/>
                          <a:ext cx="4680" cy="6120"/>
                        </a:xfrm>
                        <a:custGeom>
                          <a:avLst/>
                          <a:gdLst/>
                          <a:ahLst/>
                          <a:rect l="l" t="t" r="r" b="b"/>
                          <a:pathLst>
                            <a:path w="3" h="4">
                              <a:moveTo>
                                <a:pt x="2" y="0"/>
                              </a:moveTo>
                              <a:lnTo>
                                <a:pt x="1" y="1"/>
                              </a:lnTo>
                              <a:lnTo>
                                <a:pt x="1" y="1"/>
                              </a:lnTo>
                              <a:lnTo>
                                <a:pt x="2" y="3"/>
                              </a:lnTo>
                              <a:lnTo>
                                <a:pt x="0" y="1"/>
                              </a:lnTo>
                              <a:lnTo>
                                <a:pt x="0" y="1"/>
                              </a:lnTo>
                              <a:lnTo>
                                <a:pt x="2" y="0"/>
                              </a:lnTo>
                            </a:path>
                          </a:pathLst>
                        </a:custGeom>
                        <a:solidFill>
                          <a:srgbClr val="40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9" name=""/>
                        <p:cNvSpPr/>
                        <p:nvPr/>
                      </p:nvSpPr>
                      <p:spPr>
                        <a:xfrm>
                          <a:off x="5162400" y="2138400"/>
                          <a:ext cx="27000" cy="12600"/>
                        </a:xfrm>
                        <a:custGeom>
                          <a:avLst/>
                          <a:gdLst/>
                          <a:ahLst/>
                          <a:rect l="l" t="t" r="r" b="b"/>
                          <a:pathLst>
                            <a:path w="17" h="8">
                              <a:moveTo>
                                <a:pt x="16" y="6"/>
                              </a:moveTo>
                              <a:lnTo>
                                <a:pt x="14" y="7"/>
                              </a:lnTo>
                              <a:lnTo>
                                <a:pt x="12" y="5"/>
                              </a:lnTo>
                              <a:lnTo>
                                <a:pt x="9" y="4"/>
                              </a:lnTo>
                              <a:lnTo>
                                <a:pt x="7" y="2"/>
                              </a:lnTo>
                              <a:lnTo>
                                <a:pt x="6" y="1"/>
                              </a:lnTo>
                              <a:lnTo>
                                <a:pt x="2" y="1"/>
                              </a:lnTo>
                              <a:lnTo>
                                <a:pt x="0" y="0"/>
                              </a:lnTo>
                              <a:lnTo>
                                <a:pt x="3" y="0"/>
                              </a:lnTo>
                              <a:lnTo>
                                <a:pt x="7" y="1"/>
                              </a:lnTo>
                              <a:lnTo>
                                <a:pt x="9" y="2"/>
                              </a:lnTo>
                              <a:lnTo>
                                <a:pt x="10" y="3"/>
                              </a:lnTo>
                              <a:lnTo>
                                <a:pt x="16" y="6"/>
                              </a:lnTo>
                            </a:path>
                          </a:pathLst>
                        </a:custGeom>
                        <a:solidFill>
                          <a:srgbClr val="402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20" name=""/>
                        <p:cNvSpPr/>
                        <p:nvPr/>
                      </p:nvSpPr>
                      <p:spPr>
                        <a:xfrm>
                          <a:off x="5114880" y="2135160"/>
                          <a:ext cx="37800" cy="9360"/>
                        </a:xfrm>
                        <a:custGeom>
                          <a:avLst/>
                          <a:gdLst/>
                          <a:ahLst/>
                          <a:rect l="l" t="t" r="r" b="b"/>
                          <a:pathLst>
                            <a:path w="24" h="6">
                              <a:moveTo>
                                <a:pt x="23" y="1"/>
                              </a:moveTo>
                              <a:lnTo>
                                <a:pt x="18" y="0"/>
                              </a:lnTo>
                              <a:lnTo>
                                <a:pt x="15" y="0"/>
                              </a:lnTo>
                              <a:lnTo>
                                <a:pt x="14" y="0"/>
                              </a:lnTo>
                              <a:lnTo>
                                <a:pt x="11" y="0"/>
                              </a:lnTo>
                              <a:lnTo>
                                <a:pt x="9" y="2"/>
                              </a:lnTo>
                              <a:lnTo>
                                <a:pt x="7" y="3"/>
                              </a:lnTo>
                              <a:lnTo>
                                <a:pt x="3" y="5"/>
                              </a:lnTo>
                              <a:lnTo>
                                <a:pt x="0" y="5"/>
                              </a:lnTo>
                              <a:lnTo>
                                <a:pt x="3" y="5"/>
                              </a:lnTo>
                              <a:lnTo>
                                <a:pt x="5" y="5"/>
                              </a:lnTo>
                              <a:lnTo>
                                <a:pt x="10" y="3"/>
                              </a:lnTo>
                              <a:lnTo>
                                <a:pt x="11" y="1"/>
                              </a:lnTo>
                              <a:lnTo>
                                <a:pt x="15" y="1"/>
                              </a:lnTo>
                              <a:lnTo>
                                <a:pt x="18" y="1"/>
                              </a:lnTo>
                              <a:lnTo>
                                <a:pt x="23" y="1"/>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21" name=""/>
                        <p:cNvSpPr/>
                        <p:nvPr/>
                      </p:nvSpPr>
                      <p:spPr>
                        <a:xfrm>
                          <a:off x="5173560" y="2144520"/>
                          <a:ext cx="9360" cy="7920"/>
                        </a:xfrm>
                        <a:custGeom>
                          <a:avLst/>
                          <a:gdLst/>
                          <a:ahLst/>
                          <a:rect l="l" t="t" r="r" b="b"/>
                          <a:pathLst>
                            <a:path w="6" h="5">
                              <a:moveTo>
                                <a:pt x="1" y="0"/>
                              </a:moveTo>
                              <a:lnTo>
                                <a:pt x="0" y="1"/>
                              </a:lnTo>
                              <a:lnTo>
                                <a:pt x="1" y="3"/>
                              </a:lnTo>
                              <a:lnTo>
                                <a:pt x="5" y="4"/>
                              </a:lnTo>
                              <a:lnTo>
                                <a:pt x="1" y="2"/>
                              </a:lnTo>
                              <a:lnTo>
                                <a:pt x="1"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22" name=""/>
                        <p:cNvSpPr/>
                        <p:nvPr/>
                      </p:nvSpPr>
                      <p:spPr>
                        <a:xfrm>
                          <a:off x="5181480" y="2138400"/>
                          <a:ext cx="9360" cy="7920"/>
                        </a:xfrm>
                        <a:custGeom>
                          <a:avLst/>
                          <a:gdLst/>
                          <a:ahLst/>
                          <a:rect l="l" t="t" r="r" b="b"/>
                          <a:pathLst>
                            <a:path w="6" h="5">
                              <a:moveTo>
                                <a:pt x="0" y="3"/>
                              </a:moveTo>
                              <a:lnTo>
                                <a:pt x="1" y="0"/>
                              </a:lnTo>
                              <a:lnTo>
                                <a:pt x="2" y="2"/>
                              </a:lnTo>
                              <a:lnTo>
                                <a:pt x="5" y="4"/>
                              </a:lnTo>
                              <a:lnTo>
                                <a:pt x="0" y="3"/>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23" name=""/>
                        <p:cNvSpPr/>
                        <p:nvPr/>
                      </p:nvSpPr>
                      <p:spPr>
                        <a:xfrm>
                          <a:off x="5084640" y="2146320"/>
                          <a:ext cx="11160" cy="11160"/>
                        </a:xfrm>
                        <a:custGeom>
                          <a:avLst/>
                          <a:gdLst/>
                          <a:ahLst/>
                          <a:rect l="l" t="t" r="r" b="b"/>
                          <a:pathLst>
                            <a:path w="7" h="7">
                              <a:moveTo>
                                <a:pt x="6" y="0"/>
                              </a:moveTo>
                              <a:lnTo>
                                <a:pt x="5" y="3"/>
                              </a:lnTo>
                              <a:lnTo>
                                <a:pt x="3" y="6"/>
                              </a:lnTo>
                              <a:lnTo>
                                <a:pt x="0" y="6"/>
                              </a:lnTo>
                              <a:lnTo>
                                <a:pt x="6"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24" name=""/>
                        <p:cNvSpPr/>
                        <p:nvPr/>
                      </p:nvSpPr>
                      <p:spPr>
                        <a:xfrm>
                          <a:off x="5052960" y="2184480"/>
                          <a:ext cx="14040" cy="9360"/>
                        </a:xfrm>
                        <a:custGeom>
                          <a:avLst/>
                          <a:gdLst/>
                          <a:ahLst/>
                          <a:rect l="l" t="t" r="r" b="b"/>
                          <a:pathLst>
                            <a:path w="9" h="6">
                              <a:moveTo>
                                <a:pt x="0" y="0"/>
                              </a:moveTo>
                              <a:lnTo>
                                <a:pt x="5" y="2"/>
                              </a:lnTo>
                              <a:lnTo>
                                <a:pt x="8" y="5"/>
                              </a:lnTo>
                              <a:lnTo>
                                <a:pt x="0"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025" name=""/>
                      <p:cNvGrpSpPr/>
                      <p:nvPr/>
                    </p:nvGrpSpPr>
                    <p:grpSpPr>
                      <a:xfrm>
                        <a:off x="4998960" y="2170080"/>
                        <a:ext cx="50760" cy="55440"/>
                        <a:chOff x="4998960" y="2170080"/>
                        <a:chExt cx="50760" cy="55440"/>
                      </a:xfrm>
                    </p:grpSpPr>
                    <p:sp>
                      <p:nvSpPr>
                        <p:cNvPr id="2026" name=""/>
                        <p:cNvSpPr/>
                        <p:nvPr/>
                      </p:nvSpPr>
                      <p:spPr>
                        <a:xfrm>
                          <a:off x="4998960" y="2170080"/>
                          <a:ext cx="50760" cy="55440"/>
                        </a:xfrm>
                        <a:custGeom>
                          <a:avLst/>
                          <a:gdLst/>
                          <a:ahLst/>
                          <a:rect l="l" t="t" r="r" b="b"/>
                          <a:pathLst>
                            <a:path w="32" h="35">
                              <a:moveTo>
                                <a:pt x="20" y="2"/>
                              </a:moveTo>
                              <a:lnTo>
                                <a:pt x="25" y="7"/>
                              </a:lnTo>
                              <a:lnTo>
                                <a:pt x="28" y="11"/>
                              </a:lnTo>
                              <a:lnTo>
                                <a:pt x="30" y="17"/>
                              </a:lnTo>
                              <a:lnTo>
                                <a:pt x="30" y="21"/>
                              </a:lnTo>
                              <a:lnTo>
                                <a:pt x="31" y="27"/>
                              </a:lnTo>
                              <a:lnTo>
                                <a:pt x="6" y="34"/>
                              </a:lnTo>
                              <a:lnTo>
                                <a:pt x="0" y="0"/>
                              </a:lnTo>
                              <a:lnTo>
                                <a:pt x="10" y="2"/>
                              </a:lnTo>
                              <a:lnTo>
                                <a:pt x="20" y="2"/>
                              </a:lnTo>
                            </a:path>
                          </a:pathLst>
                        </a:custGeom>
                        <a:solidFill>
                          <a:srgbClr val="c0c0c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27" name=""/>
                        <p:cNvSpPr/>
                        <p:nvPr/>
                      </p:nvSpPr>
                      <p:spPr>
                        <a:xfrm>
                          <a:off x="5003640" y="2173320"/>
                          <a:ext cx="41400" cy="48960"/>
                        </a:xfrm>
                        <a:custGeom>
                          <a:avLst/>
                          <a:gdLst/>
                          <a:ahLst/>
                          <a:rect l="l" t="t" r="r" b="b"/>
                          <a:pathLst>
                            <a:path w="26" h="31">
                              <a:moveTo>
                                <a:pt x="15" y="1"/>
                              </a:moveTo>
                              <a:lnTo>
                                <a:pt x="19" y="6"/>
                              </a:lnTo>
                              <a:lnTo>
                                <a:pt x="23" y="12"/>
                              </a:lnTo>
                              <a:lnTo>
                                <a:pt x="24" y="17"/>
                              </a:lnTo>
                              <a:lnTo>
                                <a:pt x="25" y="23"/>
                              </a:lnTo>
                              <a:lnTo>
                                <a:pt x="4" y="30"/>
                              </a:lnTo>
                              <a:lnTo>
                                <a:pt x="0" y="0"/>
                              </a:lnTo>
                              <a:lnTo>
                                <a:pt x="7" y="1"/>
                              </a:lnTo>
                              <a:lnTo>
                                <a:pt x="15" y="1"/>
                              </a:lnTo>
                            </a:path>
                          </a:pathLst>
                        </a:custGeom>
                        <a:solidFill>
                          <a:srgbClr val="e0e0e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sp>
                  <p:nvSpPr>
                    <p:cNvPr id="2028" name=""/>
                    <p:cNvSpPr/>
                    <p:nvPr/>
                  </p:nvSpPr>
                  <p:spPr>
                    <a:xfrm>
                      <a:off x="4836960" y="1869840"/>
                      <a:ext cx="169920" cy="166680"/>
                    </a:xfrm>
                    <a:custGeom>
                      <a:avLst/>
                      <a:gdLst/>
                      <a:ahLst/>
                      <a:rect l="l" t="t" r="r" b="b"/>
                      <a:pathLst>
                        <a:path w="107" h="105">
                          <a:moveTo>
                            <a:pt x="71" y="3"/>
                          </a:moveTo>
                          <a:lnTo>
                            <a:pt x="81" y="9"/>
                          </a:lnTo>
                          <a:lnTo>
                            <a:pt x="86" y="16"/>
                          </a:lnTo>
                          <a:lnTo>
                            <a:pt x="90" y="24"/>
                          </a:lnTo>
                          <a:lnTo>
                            <a:pt x="92" y="28"/>
                          </a:lnTo>
                          <a:lnTo>
                            <a:pt x="92" y="33"/>
                          </a:lnTo>
                          <a:lnTo>
                            <a:pt x="90" y="39"/>
                          </a:lnTo>
                          <a:lnTo>
                            <a:pt x="95" y="43"/>
                          </a:lnTo>
                          <a:lnTo>
                            <a:pt x="102" y="53"/>
                          </a:lnTo>
                          <a:lnTo>
                            <a:pt x="106" y="60"/>
                          </a:lnTo>
                          <a:lnTo>
                            <a:pt x="106" y="62"/>
                          </a:lnTo>
                          <a:lnTo>
                            <a:pt x="105" y="64"/>
                          </a:lnTo>
                          <a:lnTo>
                            <a:pt x="102" y="65"/>
                          </a:lnTo>
                          <a:lnTo>
                            <a:pt x="97" y="65"/>
                          </a:lnTo>
                          <a:lnTo>
                            <a:pt x="94" y="66"/>
                          </a:lnTo>
                          <a:lnTo>
                            <a:pt x="95" y="70"/>
                          </a:lnTo>
                          <a:lnTo>
                            <a:pt x="96" y="76"/>
                          </a:lnTo>
                          <a:lnTo>
                            <a:pt x="93" y="79"/>
                          </a:lnTo>
                          <a:lnTo>
                            <a:pt x="94" y="83"/>
                          </a:lnTo>
                          <a:lnTo>
                            <a:pt x="92" y="85"/>
                          </a:lnTo>
                          <a:lnTo>
                            <a:pt x="90" y="91"/>
                          </a:lnTo>
                          <a:lnTo>
                            <a:pt x="87" y="94"/>
                          </a:lnTo>
                          <a:lnTo>
                            <a:pt x="82" y="94"/>
                          </a:lnTo>
                          <a:lnTo>
                            <a:pt x="75" y="93"/>
                          </a:lnTo>
                          <a:lnTo>
                            <a:pt x="67" y="91"/>
                          </a:lnTo>
                          <a:lnTo>
                            <a:pt x="68" y="104"/>
                          </a:lnTo>
                          <a:lnTo>
                            <a:pt x="12" y="88"/>
                          </a:lnTo>
                          <a:lnTo>
                            <a:pt x="17" y="78"/>
                          </a:lnTo>
                          <a:lnTo>
                            <a:pt x="16" y="71"/>
                          </a:lnTo>
                          <a:lnTo>
                            <a:pt x="0" y="56"/>
                          </a:lnTo>
                          <a:lnTo>
                            <a:pt x="0" y="19"/>
                          </a:lnTo>
                          <a:lnTo>
                            <a:pt x="11" y="10"/>
                          </a:lnTo>
                          <a:lnTo>
                            <a:pt x="23" y="4"/>
                          </a:lnTo>
                          <a:lnTo>
                            <a:pt x="37" y="0"/>
                          </a:lnTo>
                          <a:lnTo>
                            <a:pt x="55" y="2"/>
                          </a:lnTo>
                          <a:lnTo>
                            <a:pt x="71" y="3"/>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a:off x="4984560" y="1968480"/>
                      <a:ext cx="12600" cy="4680"/>
                    </a:xfrm>
                    <a:custGeom>
                      <a:avLst/>
                      <a:gdLst/>
                      <a:ahLst/>
                      <a:rect l="l" t="t" r="r" b="b"/>
                      <a:pathLst>
                        <a:path w="8" h="3">
                          <a:moveTo>
                            <a:pt x="7" y="1"/>
                          </a:moveTo>
                          <a:lnTo>
                            <a:pt x="5" y="2"/>
                          </a:lnTo>
                          <a:lnTo>
                            <a:pt x="2" y="1"/>
                          </a:lnTo>
                          <a:lnTo>
                            <a:pt x="1" y="2"/>
                          </a:lnTo>
                          <a:lnTo>
                            <a:pt x="0" y="1"/>
                          </a:lnTo>
                          <a:lnTo>
                            <a:pt x="2" y="0"/>
                          </a:lnTo>
                          <a:lnTo>
                            <a:pt x="7" y="1"/>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30" name=""/>
                    <p:cNvSpPr/>
                    <p:nvPr/>
                  </p:nvSpPr>
                  <p:spPr>
                    <a:xfrm>
                      <a:off x="4981320" y="1962000"/>
                      <a:ext cx="6480" cy="9720"/>
                    </a:xfrm>
                    <a:custGeom>
                      <a:avLst/>
                      <a:gdLst/>
                      <a:ahLst/>
                      <a:rect l="l" t="t" r="r" b="b"/>
                      <a:pathLst>
                        <a:path w="4" h="6">
                          <a:moveTo>
                            <a:pt x="3" y="0"/>
                          </a:moveTo>
                          <a:lnTo>
                            <a:pt x="1" y="1"/>
                          </a:lnTo>
                          <a:lnTo>
                            <a:pt x="1" y="3"/>
                          </a:lnTo>
                          <a:lnTo>
                            <a:pt x="1" y="5"/>
                          </a:lnTo>
                          <a:lnTo>
                            <a:pt x="0" y="2"/>
                          </a:lnTo>
                          <a:lnTo>
                            <a:pt x="0" y="0"/>
                          </a:lnTo>
                          <a:lnTo>
                            <a:pt x="3" y="0"/>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31" name=""/>
                    <p:cNvSpPr/>
                    <p:nvPr/>
                  </p:nvSpPr>
                  <p:spPr>
                    <a:xfrm>
                      <a:off x="4974840" y="1941480"/>
                      <a:ext cx="6480" cy="14400"/>
                    </a:xfrm>
                    <a:custGeom>
                      <a:avLst/>
                      <a:gdLst/>
                      <a:ahLst/>
                      <a:rect l="l" t="t" r="r" b="b"/>
                      <a:pathLst>
                        <a:path w="4" h="9">
                          <a:moveTo>
                            <a:pt x="0" y="0"/>
                          </a:moveTo>
                          <a:lnTo>
                            <a:pt x="2" y="5"/>
                          </a:lnTo>
                          <a:lnTo>
                            <a:pt x="3" y="8"/>
                          </a:lnTo>
                          <a:lnTo>
                            <a:pt x="1" y="6"/>
                          </a:lnTo>
                          <a:lnTo>
                            <a:pt x="0" y="0"/>
                          </a:lnTo>
                        </a:path>
                      </a:pathLst>
                    </a:custGeom>
                    <a:solidFill>
                      <a:srgbClr val="402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2" name=""/>
                    <p:cNvSpPr/>
                    <p:nvPr/>
                  </p:nvSpPr>
                  <p:spPr>
                    <a:xfrm>
                      <a:off x="4959000" y="1930320"/>
                      <a:ext cx="19080" cy="11160"/>
                    </a:xfrm>
                    <a:custGeom>
                      <a:avLst/>
                      <a:gdLst/>
                      <a:ahLst/>
                      <a:rect l="l" t="t" r="r" b="b"/>
                      <a:pathLst>
                        <a:path w="12" h="7">
                          <a:moveTo>
                            <a:pt x="11" y="0"/>
                          </a:moveTo>
                          <a:lnTo>
                            <a:pt x="8" y="3"/>
                          </a:lnTo>
                          <a:lnTo>
                            <a:pt x="9" y="4"/>
                          </a:lnTo>
                          <a:lnTo>
                            <a:pt x="9" y="5"/>
                          </a:lnTo>
                          <a:lnTo>
                            <a:pt x="9" y="6"/>
                          </a:lnTo>
                          <a:lnTo>
                            <a:pt x="8" y="4"/>
                          </a:lnTo>
                          <a:lnTo>
                            <a:pt x="5" y="4"/>
                          </a:lnTo>
                          <a:lnTo>
                            <a:pt x="4" y="3"/>
                          </a:lnTo>
                          <a:lnTo>
                            <a:pt x="0" y="3"/>
                          </a:lnTo>
                          <a:lnTo>
                            <a:pt x="4" y="1"/>
                          </a:lnTo>
                          <a:lnTo>
                            <a:pt x="11"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33" name=""/>
                    <p:cNvSpPr/>
                    <p:nvPr/>
                  </p:nvSpPr>
                  <p:spPr>
                    <a:xfrm>
                      <a:off x="4949640" y="1914480"/>
                      <a:ext cx="33480" cy="12600"/>
                    </a:xfrm>
                    <a:custGeom>
                      <a:avLst/>
                      <a:gdLst/>
                      <a:ahLst/>
                      <a:rect l="l" t="t" r="r" b="b"/>
                      <a:pathLst>
                        <a:path w="21" h="8">
                          <a:moveTo>
                            <a:pt x="20" y="3"/>
                          </a:moveTo>
                          <a:lnTo>
                            <a:pt x="19" y="6"/>
                          </a:lnTo>
                          <a:lnTo>
                            <a:pt x="17" y="7"/>
                          </a:lnTo>
                          <a:lnTo>
                            <a:pt x="13" y="5"/>
                          </a:lnTo>
                          <a:lnTo>
                            <a:pt x="9" y="3"/>
                          </a:lnTo>
                          <a:lnTo>
                            <a:pt x="3" y="3"/>
                          </a:lnTo>
                          <a:lnTo>
                            <a:pt x="0" y="4"/>
                          </a:lnTo>
                          <a:lnTo>
                            <a:pt x="5" y="2"/>
                          </a:lnTo>
                          <a:lnTo>
                            <a:pt x="8" y="1"/>
                          </a:lnTo>
                          <a:lnTo>
                            <a:pt x="8" y="0"/>
                          </a:lnTo>
                          <a:lnTo>
                            <a:pt x="11" y="1"/>
                          </a:lnTo>
                          <a:lnTo>
                            <a:pt x="11" y="0"/>
                          </a:lnTo>
                          <a:lnTo>
                            <a:pt x="14" y="2"/>
                          </a:lnTo>
                          <a:lnTo>
                            <a:pt x="16" y="2"/>
                          </a:lnTo>
                          <a:lnTo>
                            <a:pt x="20" y="3"/>
                          </a:lnTo>
                        </a:path>
                      </a:pathLst>
                    </a:custGeom>
                    <a:solidFill>
                      <a:srgbClr val="402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4" name=""/>
                    <p:cNvSpPr/>
                    <p:nvPr/>
                  </p:nvSpPr>
                  <p:spPr>
                    <a:xfrm>
                      <a:off x="4894200" y="1928880"/>
                      <a:ext cx="18720" cy="33120"/>
                    </a:xfrm>
                    <a:custGeom>
                      <a:avLst/>
                      <a:gdLst/>
                      <a:ahLst/>
                      <a:rect l="l" t="t" r="r" b="b"/>
                      <a:pathLst>
                        <a:path w="12" h="21">
                          <a:moveTo>
                            <a:pt x="11" y="4"/>
                          </a:moveTo>
                          <a:lnTo>
                            <a:pt x="7" y="1"/>
                          </a:lnTo>
                          <a:lnTo>
                            <a:pt x="4" y="2"/>
                          </a:lnTo>
                          <a:lnTo>
                            <a:pt x="2" y="6"/>
                          </a:lnTo>
                          <a:lnTo>
                            <a:pt x="1" y="10"/>
                          </a:lnTo>
                          <a:lnTo>
                            <a:pt x="2" y="14"/>
                          </a:lnTo>
                          <a:lnTo>
                            <a:pt x="3" y="16"/>
                          </a:lnTo>
                          <a:lnTo>
                            <a:pt x="5" y="12"/>
                          </a:lnTo>
                          <a:lnTo>
                            <a:pt x="6" y="10"/>
                          </a:lnTo>
                          <a:lnTo>
                            <a:pt x="10" y="8"/>
                          </a:lnTo>
                          <a:lnTo>
                            <a:pt x="7" y="12"/>
                          </a:lnTo>
                          <a:lnTo>
                            <a:pt x="5" y="14"/>
                          </a:lnTo>
                          <a:lnTo>
                            <a:pt x="5" y="17"/>
                          </a:lnTo>
                          <a:lnTo>
                            <a:pt x="5" y="20"/>
                          </a:lnTo>
                          <a:lnTo>
                            <a:pt x="7" y="20"/>
                          </a:lnTo>
                          <a:lnTo>
                            <a:pt x="3" y="19"/>
                          </a:lnTo>
                          <a:lnTo>
                            <a:pt x="0" y="15"/>
                          </a:lnTo>
                          <a:lnTo>
                            <a:pt x="0" y="10"/>
                          </a:lnTo>
                          <a:lnTo>
                            <a:pt x="0" y="4"/>
                          </a:lnTo>
                          <a:lnTo>
                            <a:pt x="3" y="1"/>
                          </a:lnTo>
                          <a:lnTo>
                            <a:pt x="6" y="0"/>
                          </a:lnTo>
                          <a:lnTo>
                            <a:pt x="9" y="1"/>
                          </a:lnTo>
                          <a:lnTo>
                            <a:pt x="11" y="4"/>
                          </a:lnTo>
                        </a:path>
                      </a:pathLst>
                    </a:custGeom>
                    <a:solidFill>
                      <a:srgbClr val="402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35" name=""/>
                    <p:cNvSpPr/>
                    <p:nvPr/>
                  </p:nvSpPr>
                  <p:spPr>
                    <a:xfrm>
                      <a:off x="4887720" y="1923840"/>
                      <a:ext cx="30240" cy="44640"/>
                    </a:xfrm>
                    <a:custGeom>
                      <a:avLst/>
                      <a:gdLst/>
                      <a:ahLst/>
                      <a:rect l="l" t="t" r="r" b="b"/>
                      <a:pathLst>
                        <a:path w="19" h="28">
                          <a:moveTo>
                            <a:pt x="18" y="7"/>
                          </a:moveTo>
                          <a:lnTo>
                            <a:pt x="15" y="2"/>
                          </a:lnTo>
                          <a:lnTo>
                            <a:pt x="10" y="1"/>
                          </a:lnTo>
                          <a:lnTo>
                            <a:pt x="4" y="2"/>
                          </a:lnTo>
                          <a:lnTo>
                            <a:pt x="3" y="4"/>
                          </a:lnTo>
                          <a:lnTo>
                            <a:pt x="1" y="9"/>
                          </a:lnTo>
                          <a:lnTo>
                            <a:pt x="1" y="12"/>
                          </a:lnTo>
                          <a:lnTo>
                            <a:pt x="2" y="14"/>
                          </a:lnTo>
                          <a:lnTo>
                            <a:pt x="2" y="17"/>
                          </a:lnTo>
                          <a:lnTo>
                            <a:pt x="3" y="21"/>
                          </a:lnTo>
                          <a:lnTo>
                            <a:pt x="6" y="25"/>
                          </a:lnTo>
                          <a:lnTo>
                            <a:pt x="9" y="25"/>
                          </a:lnTo>
                          <a:lnTo>
                            <a:pt x="12" y="25"/>
                          </a:lnTo>
                          <a:lnTo>
                            <a:pt x="12" y="26"/>
                          </a:lnTo>
                          <a:lnTo>
                            <a:pt x="10" y="27"/>
                          </a:lnTo>
                          <a:lnTo>
                            <a:pt x="7" y="27"/>
                          </a:lnTo>
                          <a:lnTo>
                            <a:pt x="3" y="26"/>
                          </a:lnTo>
                          <a:lnTo>
                            <a:pt x="1" y="21"/>
                          </a:lnTo>
                          <a:lnTo>
                            <a:pt x="1" y="16"/>
                          </a:lnTo>
                          <a:lnTo>
                            <a:pt x="0" y="11"/>
                          </a:lnTo>
                          <a:lnTo>
                            <a:pt x="0" y="7"/>
                          </a:lnTo>
                          <a:lnTo>
                            <a:pt x="2" y="4"/>
                          </a:lnTo>
                          <a:lnTo>
                            <a:pt x="3" y="1"/>
                          </a:lnTo>
                          <a:lnTo>
                            <a:pt x="8" y="0"/>
                          </a:lnTo>
                          <a:lnTo>
                            <a:pt x="15" y="0"/>
                          </a:lnTo>
                          <a:lnTo>
                            <a:pt x="18" y="2"/>
                          </a:lnTo>
                          <a:lnTo>
                            <a:pt x="18" y="7"/>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6" name=""/>
                    <p:cNvSpPr/>
                    <p:nvPr/>
                  </p:nvSpPr>
                  <p:spPr>
                    <a:xfrm>
                      <a:off x="4905000" y="1969920"/>
                      <a:ext cx="28800" cy="38160"/>
                    </a:xfrm>
                    <a:custGeom>
                      <a:avLst/>
                      <a:gdLst/>
                      <a:ahLst/>
                      <a:rect l="l" t="t" r="r" b="b"/>
                      <a:pathLst>
                        <a:path w="18" h="24">
                          <a:moveTo>
                            <a:pt x="0" y="0"/>
                          </a:moveTo>
                          <a:lnTo>
                            <a:pt x="2" y="5"/>
                          </a:lnTo>
                          <a:lnTo>
                            <a:pt x="6" y="10"/>
                          </a:lnTo>
                          <a:lnTo>
                            <a:pt x="10" y="15"/>
                          </a:lnTo>
                          <a:lnTo>
                            <a:pt x="14" y="21"/>
                          </a:lnTo>
                          <a:lnTo>
                            <a:pt x="17" y="23"/>
                          </a:lnTo>
                          <a:lnTo>
                            <a:pt x="11" y="20"/>
                          </a:lnTo>
                          <a:lnTo>
                            <a:pt x="7" y="15"/>
                          </a:lnTo>
                          <a:lnTo>
                            <a:pt x="3" y="8"/>
                          </a:lnTo>
                          <a:lnTo>
                            <a:pt x="0" y="0"/>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37" name=""/>
                    <p:cNvSpPr/>
                    <p:nvPr/>
                  </p:nvSpPr>
                  <p:spPr>
                    <a:xfrm>
                      <a:off x="4824360" y="1844640"/>
                      <a:ext cx="152280" cy="141120"/>
                    </a:xfrm>
                    <a:custGeom>
                      <a:avLst/>
                      <a:gdLst/>
                      <a:ahLst/>
                      <a:rect l="l" t="t" r="r" b="b"/>
                      <a:pathLst>
                        <a:path w="96" h="89">
                          <a:moveTo>
                            <a:pt x="88" y="26"/>
                          </a:moveTo>
                          <a:lnTo>
                            <a:pt x="74" y="24"/>
                          </a:lnTo>
                          <a:lnTo>
                            <a:pt x="63" y="25"/>
                          </a:lnTo>
                          <a:lnTo>
                            <a:pt x="57" y="31"/>
                          </a:lnTo>
                          <a:lnTo>
                            <a:pt x="61" y="38"/>
                          </a:lnTo>
                          <a:lnTo>
                            <a:pt x="66" y="41"/>
                          </a:lnTo>
                          <a:lnTo>
                            <a:pt x="67" y="48"/>
                          </a:lnTo>
                          <a:lnTo>
                            <a:pt x="64" y="53"/>
                          </a:lnTo>
                          <a:lnTo>
                            <a:pt x="67" y="60"/>
                          </a:lnTo>
                          <a:lnTo>
                            <a:pt x="61" y="60"/>
                          </a:lnTo>
                          <a:lnTo>
                            <a:pt x="59" y="52"/>
                          </a:lnTo>
                          <a:lnTo>
                            <a:pt x="55" y="48"/>
                          </a:lnTo>
                          <a:lnTo>
                            <a:pt x="48" y="48"/>
                          </a:lnTo>
                          <a:lnTo>
                            <a:pt x="42" y="50"/>
                          </a:lnTo>
                          <a:lnTo>
                            <a:pt x="39" y="55"/>
                          </a:lnTo>
                          <a:lnTo>
                            <a:pt x="39" y="63"/>
                          </a:lnTo>
                          <a:lnTo>
                            <a:pt x="39" y="67"/>
                          </a:lnTo>
                          <a:lnTo>
                            <a:pt x="39" y="71"/>
                          </a:lnTo>
                          <a:lnTo>
                            <a:pt x="39" y="76"/>
                          </a:lnTo>
                          <a:lnTo>
                            <a:pt x="34" y="80"/>
                          </a:lnTo>
                          <a:lnTo>
                            <a:pt x="31" y="83"/>
                          </a:lnTo>
                          <a:lnTo>
                            <a:pt x="22" y="88"/>
                          </a:lnTo>
                          <a:lnTo>
                            <a:pt x="6" y="73"/>
                          </a:lnTo>
                          <a:lnTo>
                            <a:pt x="2" y="62"/>
                          </a:lnTo>
                          <a:lnTo>
                            <a:pt x="0" y="42"/>
                          </a:lnTo>
                          <a:lnTo>
                            <a:pt x="0" y="29"/>
                          </a:lnTo>
                          <a:lnTo>
                            <a:pt x="1" y="16"/>
                          </a:lnTo>
                          <a:lnTo>
                            <a:pt x="6" y="8"/>
                          </a:lnTo>
                          <a:lnTo>
                            <a:pt x="14" y="3"/>
                          </a:lnTo>
                          <a:lnTo>
                            <a:pt x="24" y="2"/>
                          </a:lnTo>
                          <a:lnTo>
                            <a:pt x="41" y="0"/>
                          </a:lnTo>
                          <a:lnTo>
                            <a:pt x="56" y="1"/>
                          </a:lnTo>
                          <a:lnTo>
                            <a:pt x="77" y="4"/>
                          </a:lnTo>
                          <a:lnTo>
                            <a:pt x="86" y="9"/>
                          </a:lnTo>
                          <a:lnTo>
                            <a:pt x="91" y="13"/>
                          </a:lnTo>
                          <a:lnTo>
                            <a:pt x="95" y="19"/>
                          </a:lnTo>
                          <a:lnTo>
                            <a:pt x="95" y="22"/>
                          </a:lnTo>
                          <a:lnTo>
                            <a:pt x="88" y="26"/>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827240" y="1847880"/>
                      <a:ext cx="146160" cy="133200"/>
                    </a:xfrm>
                    <a:custGeom>
                      <a:avLst/>
                      <a:gdLst/>
                      <a:ahLst/>
                      <a:rect l="l" t="t" r="r" b="b"/>
                      <a:pathLst>
                        <a:path w="92" h="84">
                          <a:moveTo>
                            <a:pt x="76" y="5"/>
                          </a:moveTo>
                          <a:lnTo>
                            <a:pt x="83" y="8"/>
                          </a:lnTo>
                          <a:lnTo>
                            <a:pt x="87" y="11"/>
                          </a:lnTo>
                          <a:lnTo>
                            <a:pt x="89" y="14"/>
                          </a:lnTo>
                          <a:lnTo>
                            <a:pt x="91" y="17"/>
                          </a:lnTo>
                          <a:lnTo>
                            <a:pt x="89" y="19"/>
                          </a:lnTo>
                          <a:lnTo>
                            <a:pt x="85" y="21"/>
                          </a:lnTo>
                          <a:lnTo>
                            <a:pt x="75" y="19"/>
                          </a:lnTo>
                          <a:lnTo>
                            <a:pt x="68" y="19"/>
                          </a:lnTo>
                          <a:lnTo>
                            <a:pt x="63" y="17"/>
                          </a:lnTo>
                          <a:lnTo>
                            <a:pt x="55" y="16"/>
                          </a:lnTo>
                          <a:lnTo>
                            <a:pt x="49" y="15"/>
                          </a:lnTo>
                          <a:lnTo>
                            <a:pt x="41" y="16"/>
                          </a:lnTo>
                          <a:lnTo>
                            <a:pt x="52" y="17"/>
                          </a:lnTo>
                          <a:lnTo>
                            <a:pt x="58" y="18"/>
                          </a:lnTo>
                          <a:lnTo>
                            <a:pt x="62" y="19"/>
                          </a:lnTo>
                          <a:lnTo>
                            <a:pt x="63" y="20"/>
                          </a:lnTo>
                          <a:lnTo>
                            <a:pt x="60" y="21"/>
                          </a:lnTo>
                          <a:lnTo>
                            <a:pt x="58" y="23"/>
                          </a:lnTo>
                          <a:lnTo>
                            <a:pt x="54" y="21"/>
                          </a:lnTo>
                          <a:lnTo>
                            <a:pt x="51" y="20"/>
                          </a:lnTo>
                          <a:lnTo>
                            <a:pt x="44" y="19"/>
                          </a:lnTo>
                          <a:lnTo>
                            <a:pt x="42" y="19"/>
                          </a:lnTo>
                          <a:lnTo>
                            <a:pt x="48" y="22"/>
                          </a:lnTo>
                          <a:lnTo>
                            <a:pt x="54" y="24"/>
                          </a:lnTo>
                          <a:lnTo>
                            <a:pt x="56" y="25"/>
                          </a:lnTo>
                          <a:lnTo>
                            <a:pt x="54" y="27"/>
                          </a:lnTo>
                          <a:lnTo>
                            <a:pt x="48" y="26"/>
                          </a:lnTo>
                          <a:lnTo>
                            <a:pt x="44" y="25"/>
                          </a:lnTo>
                          <a:lnTo>
                            <a:pt x="52" y="29"/>
                          </a:lnTo>
                          <a:lnTo>
                            <a:pt x="55" y="30"/>
                          </a:lnTo>
                          <a:lnTo>
                            <a:pt x="56" y="34"/>
                          </a:lnTo>
                          <a:lnTo>
                            <a:pt x="57" y="36"/>
                          </a:lnTo>
                          <a:lnTo>
                            <a:pt x="52" y="34"/>
                          </a:lnTo>
                          <a:lnTo>
                            <a:pt x="48" y="33"/>
                          </a:lnTo>
                          <a:lnTo>
                            <a:pt x="41" y="32"/>
                          </a:lnTo>
                          <a:lnTo>
                            <a:pt x="51" y="35"/>
                          </a:lnTo>
                          <a:lnTo>
                            <a:pt x="58" y="38"/>
                          </a:lnTo>
                          <a:lnTo>
                            <a:pt x="63" y="40"/>
                          </a:lnTo>
                          <a:lnTo>
                            <a:pt x="63" y="43"/>
                          </a:lnTo>
                          <a:lnTo>
                            <a:pt x="58" y="41"/>
                          </a:lnTo>
                          <a:lnTo>
                            <a:pt x="50" y="39"/>
                          </a:lnTo>
                          <a:lnTo>
                            <a:pt x="47" y="39"/>
                          </a:lnTo>
                          <a:lnTo>
                            <a:pt x="55" y="41"/>
                          </a:lnTo>
                          <a:lnTo>
                            <a:pt x="61" y="44"/>
                          </a:lnTo>
                          <a:lnTo>
                            <a:pt x="64" y="46"/>
                          </a:lnTo>
                          <a:lnTo>
                            <a:pt x="63" y="47"/>
                          </a:lnTo>
                          <a:lnTo>
                            <a:pt x="58" y="46"/>
                          </a:lnTo>
                          <a:lnTo>
                            <a:pt x="53" y="44"/>
                          </a:lnTo>
                          <a:lnTo>
                            <a:pt x="43" y="44"/>
                          </a:lnTo>
                          <a:lnTo>
                            <a:pt x="41" y="44"/>
                          </a:lnTo>
                          <a:lnTo>
                            <a:pt x="31" y="45"/>
                          </a:lnTo>
                          <a:lnTo>
                            <a:pt x="21" y="44"/>
                          </a:lnTo>
                          <a:lnTo>
                            <a:pt x="27" y="46"/>
                          </a:lnTo>
                          <a:lnTo>
                            <a:pt x="38" y="47"/>
                          </a:lnTo>
                          <a:lnTo>
                            <a:pt x="36" y="50"/>
                          </a:lnTo>
                          <a:lnTo>
                            <a:pt x="28" y="48"/>
                          </a:lnTo>
                          <a:lnTo>
                            <a:pt x="20" y="46"/>
                          </a:lnTo>
                          <a:lnTo>
                            <a:pt x="15" y="44"/>
                          </a:lnTo>
                          <a:lnTo>
                            <a:pt x="25" y="50"/>
                          </a:lnTo>
                          <a:lnTo>
                            <a:pt x="31" y="52"/>
                          </a:lnTo>
                          <a:lnTo>
                            <a:pt x="36" y="53"/>
                          </a:lnTo>
                          <a:lnTo>
                            <a:pt x="36" y="57"/>
                          </a:lnTo>
                          <a:lnTo>
                            <a:pt x="28" y="55"/>
                          </a:lnTo>
                          <a:lnTo>
                            <a:pt x="22" y="54"/>
                          </a:lnTo>
                          <a:lnTo>
                            <a:pt x="26" y="56"/>
                          </a:lnTo>
                          <a:lnTo>
                            <a:pt x="32" y="58"/>
                          </a:lnTo>
                          <a:lnTo>
                            <a:pt x="36" y="58"/>
                          </a:lnTo>
                          <a:lnTo>
                            <a:pt x="36" y="66"/>
                          </a:lnTo>
                          <a:lnTo>
                            <a:pt x="28" y="63"/>
                          </a:lnTo>
                          <a:lnTo>
                            <a:pt x="23" y="61"/>
                          </a:lnTo>
                          <a:lnTo>
                            <a:pt x="29" y="65"/>
                          </a:lnTo>
                          <a:lnTo>
                            <a:pt x="37" y="68"/>
                          </a:lnTo>
                          <a:lnTo>
                            <a:pt x="36" y="72"/>
                          </a:lnTo>
                          <a:lnTo>
                            <a:pt x="32" y="76"/>
                          </a:lnTo>
                          <a:lnTo>
                            <a:pt x="28" y="71"/>
                          </a:lnTo>
                          <a:lnTo>
                            <a:pt x="23" y="66"/>
                          </a:lnTo>
                          <a:lnTo>
                            <a:pt x="19" y="60"/>
                          </a:lnTo>
                          <a:lnTo>
                            <a:pt x="23" y="69"/>
                          </a:lnTo>
                          <a:lnTo>
                            <a:pt x="26" y="72"/>
                          </a:lnTo>
                          <a:lnTo>
                            <a:pt x="31" y="78"/>
                          </a:lnTo>
                          <a:lnTo>
                            <a:pt x="27" y="81"/>
                          </a:lnTo>
                          <a:lnTo>
                            <a:pt x="21" y="77"/>
                          </a:lnTo>
                          <a:lnTo>
                            <a:pt x="17" y="71"/>
                          </a:lnTo>
                          <a:lnTo>
                            <a:pt x="13" y="65"/>
                          </a:lnTo>
                          <a:lnTo>
                            <a:pt x="16" y="74"/>
                          </a:lnTo>
                          <a:lnTo>
                            <a:pt x="20" y="78"/>
                          </a:lnTo>
                          <a:lnTo>
                            <a:pt x="24" y="82"/>
                          </a:lnTo>
                          <a:lnTo>
                            <a:pt x="21" y="83"/>
                          </a:lnTo>
                          <a:lnTo>
                            <a:pt x="13" y="78"/>
                          </a:lnTo>
                          <a:lnTo>
                            <a:pt x="6" y="68"/>
                          </a:lnTo>
                          <a:lnTo>
                            <a:pt x="4" y="61"/>
                          </a:lnTo>
                          <a:lnTo>
                            <a:pt x="2" y="49"/>
                          </a:lnTo>
                          <a:lnTo>
                            <a:pt x="1" y="41"/>
                          </a:lnTo>
                          <a:lnTo>
                            <a:pt x="0" y="30"/>
                          </a:lnTo>
                          <a:lnTo>
                            <a:pt x="7" y="32"/>
                          </a:lnTo>
                          <a:lnTo>
                            <a:pt x="16" y="35"/>
                          </a:lnTo>
                          <a:lnTo>
                            <a:pt x="29" y="38"/>
                          </a:lnTo>
                          <a:lnTo>
                            <a:pt x="17" y="34"/>
                          </a:lnTo>
                          <a:lnTo>
                            <a:pt x="12" y="32"/>
                          </a:lnTo>
                          <a:lnTo>
                            <a:pt x="4" y="29"/>
                          </a:lnTo>
                          <a:lnTo>
                            <a:pt x="1" y="28"/>
                          </a:lnTo>
                          <a:lnTo>
                            <a:pt x="1" y="23"/>
                          </a:lnTo>
                          <a:lnTo>
                            <a:pt x="2" y="16"/>
                          </a:lnTo>
                          <a:lnTo>
                            <a:pt x="11" y="17"/>
                          </a:lnTo>
                          <a:lnTo>
                            <a:pt x="18" y="19"/>
                          </a:lnTo>
                          <a:lnTo>
                            <a:pt x="27" y="23"/>
                          </a:lnTo>
                          <a:lnTo>
                            <a:pt x="19" y="17"/>
                          </a:lnTo>
                          <a:lnTo>
                            <a:pt x="10" y="15"/>
                          </a:lnTo>
                          <a:lnTo>
                            <a:pt x="2" y="13"/>
                          </a:lnTo>
                          <a:lnTo>
                            <a:pt x="4" y="8"/>
                          </a:lnTo>
                          <a:lnTo>
                            <a:pt x="6" y="5"/>
                          </a:lnTo>
                          <a:lnTo>
                            <a:pt x="14" y="3"/>
                          </a:lnTo>
                          <a:lnTo>
                            <a:pt x="22" y="5"/>
                          </a:lnTo>
                          <a:lnTo>
                            <a:pt x="29" y="9"/>
                          </a:lnTo>
                          <a:lnTo>
                            <a:pt x="24" y="4"/>
                          </a:lnTo>
                          <a:lnTo>
                            <a:pt x="16" y="2"/>
                          </a:lnTo>
                          <a:lnTo>
                            <a:pt x="25" y="0"/>
                          </a:lnTo>
                          <a:lnTo>
                            <a:pt x="31" y="0"/>
                          </a:lnTo>
                          <a:lnTo>
                            <a:pt x="40" y="1"/>
                          </a:lnTo>
                          <a:lnTo>
                            <a:pt x="45" y="5"/>
                          </a:lnTo>
                          <a:lnTo>
                            <a:pt x="54" y="6"/>
                          </a:lnTo>
                          <a:lnTo>
                            <a:pt x="48" y="4"/>
                          </a:lnTo>
                          <a:lnTo>
                            <a:pt x="43" y="1"/>
                          </a:lnTo>
                          <a:lnTo>
                            <a:pt x="41" y="0"/>
                          </a:lnTo>
                          <a:lnTo>
                            <a:pt x="49" y="0"/>
                          </a:lnTo>
                          <a:lnTo>
                            <a:pt x="57" y="0"/>
                          </a:lnTo>
                          <a:lnTo>
                            <a:pt x="62" y="2"/>
                          </a:lnTo>
                          <a:lnTo>
                            <a:pt x="67" y="7"/>
                          </a:lnTo>
                          <a:lnTo>
                            <a:pt x="72" y="11"/>
                          </a:lnTo>
                          <a:lnTo>
                            <a:pt x="69" y="6"/>
                          </a:lnTo>
                          <a:lnTo>
                            <a:pt x="64" y="2"/>
                          </a:lnTo>
                          <a:lnTo>
                            <a:pt x="76" y="5"/>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9" name=""/>
                    <p:cNvGrpSpPr/>
                    <p:nvPr/>
                  </p:nvGrpSpPr>
                  <p:grpSpPr>
                    <a:xfrm>
                      <a:off x="5121000" y="2181240"/>
                      <a:ext cx="158760" cy="88920"/>
                      <a:chOff x="5121000" y="2181240"/>
                      <a:chExt cx="158760" cy="88920"/>
                    </a:xfrm>
                  </p:grpSpPr>
                  <p:sp>
                    <p:nvSpPr>
                      <p:cNvPr id="2040" name=""/>
                      <p:cNvSpPr/>
                      <p:nvPr/>
                    </p:nvSpPr>
                    <p:spPr>
                      <a:xfrm>
                        <a:off x="5121000" y="2181240"/>
                        <a:ext cx="158760" cy="88920"/>
                      </a:xfrm>
                      <a:custGeom>
                        <a:avLst/>
                        <a:gdLst/>
                        <a:ahLst/>
                        <a:rect l="l" t="t" r="r" b="b"/>
                        <a:pathLst>
                          <a:path w="100" h="56">
                            <a:moveTo>
                              <a:pt x="0" y="32"/>
                            </a:moveTo>
                            <a:lnTo>
                              <a:pt x="12" y="30"/>
                            </a:lnTo>
                            <a:lnTo>
                              <a:pt x="16" y="29"/>
                            </a:lnTo>
                            <a:lnTo>
                              <a:pt x="19" y="26"/>
                            </a:lnTo>
                            <a:lnTo>
                              <a:pt x="22" y="23"/>
                            </a:lnTo>
                            <a:lnTo>
                              <a:pt x="28" y="18"/>
                            </a:lnTo>
                            <a:lnTo>
                              <a:pt x="39" y="10"/>
                            </a:lnTo>
                            <a:lnTo>
                              <a:pt x="40" y="7"/>
                            </a:lnTo>
                            <a:lnTo>
                              <a:pt x="43" y="5"/>
                            </a:lnTo>
                            <a:lnTo>
                              <a:pt x="49" y="4"/>
                            </a:lnTo>
                            <a:lnTo>
                              <a:pt x="67" y="1"/>
                            </a:lnTo>
                            <a:lnTo>
                              <a:pt x="72" y="0"/>
                            </a:lnTo>
                            <a:lnTo>
                              <a:pt x="77" y="1"/>
                            </a:lnTo>
                            <a:lnTo>
                              <a:pt x="78" y="3"/>
                            </a:lnTo>
                            <a:lnTo>
                              <a:pt x="88" y="6"/>
                            </a:lnTo>
                            <a:lnTo>
                              <a:pt x="92" y="8"/>
                            </a:lnTo>
                            <a:lnTo>
                              <a:pt x="94" y="9"/>
                            </a:lnTo>
                            <a:lnTo>
                              <a:pt x="96" y="15"/>
                            </a:lnTo>
                            <a:lnTo>
                              <a:pt x="97" y="17"/>
                            </a:lnTo>
                            <a:lnTo>
                              <a:pt x="98" y="19"/>
                            </a:lnTo>
                            <a:lnTo>
                              <a:pt x="99" y="21"/>
                            </a:lnTo>
                            <a:lnTo>
                              <a:pt x="99" y="23"/>
                            </a:lnTo>
                            <a:lnTo>
                              <a:pt x="97" y="24"/>
                            </a:lnTo>
                            <a:lnTo>
                              <a:pt x="93" y="24"/>
                            </a:lnTo>
                            <a:lnTo>
                              <a:pt x="86" y="22"/>
                            </a:lnTo>
                            <a:lnTo>
                              <a:pt x="78" y="20"/>
                            </a:lnTo>
                            <a:lnTo>
                              <a:pt x="71" y="21"/>
                            </a:lnTo>
                            <a:lnTo>
                              <a:pt x="78" y="22"/>
                            </a:lnTo>
                            <a:lnTo>
                              <a:pt x="84" y="24"/>
                            </a:lnTo>
                            <a:lnTo>
                              <a:pt x="90" y="26"/>
                            </a:lnTo>
                            <a:lnTo>
                              <a:pt x="92" y="28"/>
                            </a:lnTo>
                            <a:lnTo>
                              <a:pt x="92" y="31"/>
                            </a:lnTo>
                            <a:lnTo>
                              <a:pt x="89" y="32"/>
                            </a:lnTo>
                            <a:lnTo>
                              <a:pt x="87" y="32"/>
                            </a:lnTo>
                            <a:lnTo>
                              <a:pt x="77" y="30"/>
                            </a:lnTo>
                            <a:lnTo>
                              <a:pt x="70" y="29"/>
                            </a:lnTo>
                            <a:lnTo>
                              <a:pt x="64" y="30"/>
                            </a:lnTo>
                            <a:lnTo>
                              <a:pt x="60" y="32"/>
                            </a:lnTo>
                            <a:lnTo>
                              <a:pt x="56" y="36"/>
                            </a:lnTo>
                            <a:lnTo>
                              <a:pt x="53" y="40"/>
                            </a:lnTo>
                            <a:lnTo>
                              <a:pt x="50" y="44"/>
                            </a:lnTo>
                            <a:lnTo>
                              <a:pt x="47" y="47"/>
                            </a:lnTo>
                            <a:lnTo>
                              <a:pt x="42" y="50"/>
                            </a:lnTo>
                            <a:lnTo>
                              <a:pt x="38" y="51"/>
                            </a:lnTo>
                            <a:lnTo>
                              <a:pt x="33" y="52"/>
                            </a:lnTo>
                            <a:lnTo>
                              <a:pt x="27" y="51"/>
                            </a:lnTo>
                            <a:lnTo>
                              <a:pt x="22" y="51"/>
                            </a:lnTo>
                            <a:lnTo>
                              <a:pt x="16" y="52"/>
                            </a:lnTo>
                            <a:lnTo>
                              <a:pt x="0" y="55"/>
                            </a:lnTo>
                            <a:lnTo>
                              <a:pt x="0" y="32"/>
                            </a:lnTo>
                          </a:path>
                        </a:pathLst>
                      </a:custGeom>
                      <a:solidFill>
                        <a:srgbClr val="ffc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1" name=""/>
                      <p:cNvSpPr/>
                      <p:nvPr/>
                    </p:nvSpPr>
                    <p:spPr>
                      <a:xfrm>
                        <a:off x="5221080" y="2197080"/>
                        <a:ext cx="52560" cy="12600"/>
                      </a:xfrm>
                      <a:custGeom>
                        <a:avLst/>
                        <a:gdLst/>
                        <a:ahLst/>
                        <a:rect l="l" t="t" r="r" b="b"/>
                        <a:pathLst>
                          <a:path w="33" h="8">
                            <a:moveTo>
                              <a:pt x="32" y="7"/>
                            </a:moveTo>
                            <a:lnTo>
                              <a:pt x="26" y="4"/>
                            </a:lnTo>
                            <a:lnTo>
                              <a:pt x="21" y="4"/>
                            </a:lnTo>
                            <a:lnTo>
                              <a:pt x="16" y="2"/>
                            </a:lnTo>
                            <a:lnTo>
                              <a:pt x="12" y="1"/>
                            </a:lnTo>
                            <a:lnTo>
                              <a:pt x="5" y="2"/>
                            </a:lnTo>
                            <a:lnTo>
                              <a:pt x="0" y="2"/>
                            </a:lnTo>
                            <a:lnTo>
                              <a:pt x="7" y="1"/>
                            </a:lnTo>
                            <a:lnTo>
                              <a:pt x="14" y="0"/>
                            </a:lnTo>
                            <a:lnTo>
                              <a:pt x="21" y="3"/>
                            </a:lnTo>
                            <a:lnTo>
                              <a:pt x="26" y="3"/>
                            </a:lnTo>
                            <a:lnTo>
                              <a:pt x="31" y="6"/>
                            </a:lnTo>
                            <a:lnTo>
                              <a:pt x="32" y="7"/>
                            </a:lnTo>
                          </a:path>
                        </a:pathLst>
                      </a:custGeom>
                      <a:solidFill>
                        <a:srgbClr val="402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42" name=""/>
                      <p:cNvSpPr/>
                      <p:nvPr/>
                    </p:nvSpPr>
                    <p:spPr>
                      <a:xfrm>
                        <a:off x="5200560" y="2184480"/>
                        <a:ext cx="46080" cy="9360"/>
                      </a:xfrm>
                      <a:custGeom>
                        <a:avLst/>
                        <a:gdLst/>
                        <a:ahLst/>
                        <a:rect l="l" t="t" r="r" b="b"/>
                        <a:pathLst>
                          <a:path w="29" h="6">
                            <a:moveTo>
                              <a:pt x="20" y="0"/>
                            </a:moveTo>
                            <a:lnTo>
                              <a:pt x="24" y="0"/>
                            </a:lnTo>
                            <a:lnTo>
                              <a:pt x="28" y="2"/>
                            </a:lnTo>
                            <a:lnTo>
                              <a:pt x="25" y="1"/>
                            </a:lnTo>
                            <a:lnTo>
                              <a:pt x="21" y="1"/>
                            </a:lnTo>
                            <a:lnTo>
                              <a:pt x="12" y="3"/>
                            </a:lnTo>
                            <a:lnTo>
                              <a:pt x="7" y="4"/>
                            </a:lnTo>
                            <a:lnTo>
                              <a:pt x="1" y="5"/>
                            </a:lnTo>
                            <a:lnTo>
                              <a:pt x="0" y="4"/>
                            </a:lnTo>
                            <a:lnTo>
                              <a:pt x="6" y="3"/>
                            </a:lnTo>
                            <a:lnTo>
                              <a:pt x="13" y="2"/>
                            </a:lnTo>
                            <a:lnTo>
                              <a:pt x="20"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43" name=""/>
                      <p:cNvSpPr/>
                      <p:nvPr/>
                    </p:nvSpPr>
                    <p:spPr>
                      <a:xfrm>
                        <a:off x="5217840" y="2212920"/>
                        <a:ext cx="20520" cy="4680"/>
                      </a:xfrm>
                      <a:custGeom>
                        <a:avLst/>
                        <a:gdLst/>
                        <a:ahLst/>
                        <a:rect l="l" t="t" r="r" b="b"/>
                        <a:pathLst>
                          <a:path w="13" h="3">
                            <a:moveTo>
                              <a:pt x="12" y="1"/>
                            </a:moveTo>
                            <a:lnTo>
                              <a:pt x="10" y="2"/>
                            </a:lnTo>
                            <a:lnTo>
                              <a:pt x="6" y="1"/>
                            </a:lnTo>
                            <a:lnTo>
                              <a:pt x="2" y="1"/>
                            </a:lnTo>
                            <a:lnTo>
                              <a:pt x="0" y="0"/>
                            </a:lnTo>
                            <a:lnTo>
                              <a:pt x="4" y="0"/>
                            </a:lnTo>
                            <a:lnTo>
                              <a:pt x="12" y="1"/>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4" name=""/>
                      <p:cNvSpPr/>
                      <p:nvPr/>
                    </p:nvSpPr>
                    <p:spPr>
                      <a:xfrm>
                        <a:off x="5267160" y="2209680"/>
                        <a:ext cx="6480" cy="7920"/>
                      </a:xfrm>
                      <a:custGeom>
                        <a:avLst/>
                        <a:gdLst/>
                        <a:ahLst/>
                        <a:rect l="l" t="t" r="r" b="b"/>
                        <a:pathLst>
                          <a:path w="4" h="5">
                            <a:moveTo>
                              <a:pt x="0" y="0"/>
                            </a:moveTo>
                            <a:lnTo>
                              <a:pt x="0" y="1"/>
                            </a:lnTo>
                            <a:lnTo>
                              <a:pt x="1" y="3"/>
                            </a:lnTo>
                            <a:lnTo>
                              <a:pt x="3" y="4"/>
                            </a:lnTo>
                            <a:lnTo>
                              <a:pt x="0"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45" name=""/>
                      <p:cNvSpPr/>
                      <p:nvPr/>
                    </p:nvSpPr>
                    <p:spPr>
                      <a:xfrm>
                        <a:off x="5257440" y="2225520"/>
                        <a:ext cx="3240" cy="6480"/>
                      </a:xfrm>
                      <a:custGeom>
                        <a:avLst/>
                        <a:gdLst/>
                        <a:ahLst/>
                        <a:rect l="l" t="t" r="r" b="b"/>
                        <a:pathLst>
                          <a:path w="2" h="4">
                            <a:moveTo>
                              <a:pt x="0" y="0"/>
                            </a:moveTo>
                            <a:lnTo>
                              <a:pt x="0" y="2"/>
                            </a:lnTo>
                            <a:lnTo>
                              <a:pt x="1" y="3"/>
                            </a:lnTo>
                            <a:lnTo>
                              <a:pt x="0"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46" name=""/>
                      <p:cNvSpPr/>
                      <p:nvPr/>
                    </p:nvSpPr>
                    <p:spPr>
                      <a:xfrm>
                        <a:off x="5195520" y="2201760"/>
                        <a:ext cx="7920" cy="11160"/>
                      </a:xfrm>
                      <a:custGeom>
                        <a:avLst/>
                        <a:gdLst/>
                        <a:ahLst/>
                        <a:rect l="l" t="t" r="r" b="b"/>
                        <a:pathLst>
                          <a:path w="5" h="7">
                            <a:moveTo>
                              <a:pt x="4" y="0"/>
                            </a:moveTo>
                            <a:lnTo>
                              <a:pt x="3" y="2"/>
                            </a:lnTo>
                            <a:lnTo>
                              <a:pt x="3" y="4"/>
                            </a:lnTo>
                            <a:lnTo>
                              <a:pt x="0" y="6"/>
                            </a:lnTo>
                            <a:lnTo>
                              <a:pt x="4"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47" name=""/>
                      <p:cNvSpPr/>
                      <p:nvPr/>
                    </p:nvSpPr>
                    <p:spPr>
                      <a:xfrm>
                        <a:off x="5162400" y="2201760"/>
                        <a:ext cx="28440" cy="27000"/>
                      </a:xfrm>
                      <a:custGeom>
                        <a:avLst/>
                        <a:gdLst/>
                        <a:ahLst/>
                        <a:rect l="l" t="t" r="r" b="b"/>
                        <a:pathLst>
                          <a:path w="18" h="17">
                            <a:moveTo>
                              <a:pt x="17" y="0"/>
                            </a:moveTo>
                            <a:lnTo>
                              <a:pt x="14" y="5"/>
                            </a:lnTo>
                            <a:lnTo>
                              <a:pt x="11" y="9"/>
                            </a:lnTo>
                            <a:lnTo>
                              <a:pt x="0" y="16"/>
                            </a:lnTo>
                            <a:lnTo>
                              <a:pt x="10" y="7"/>
                            </a:lnTo>
                            <a:lnTo>
                              <a:pt x="17"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8" name=""/>
                      <p:cNvSpPr/>
                      <p:nvPr/>
                    </p:nvSpPr>
                    <p:spPr>
                      <a:xfrm>
                        <a:off x="5149800" y="2235240"/>
                        <a:ext cx="7920" cy="19080"/>
                      </a:xfrm>
                      <a:custGeom>
                        <a:avLst/>
                        <a:gdLst/>
                        <a:ahLst/>
                        <a:rect l="l" t="t" r="r" b="b"/>
                        <a:pathLst>
                          <a:path w="5" h="12">
                            <a:moveTo>
                              <a:pt x="0" y="0"/>
                            </a:moveTo>
                            <a:lnTo>
                              <a:pt x="2" y="4"/>
                            </a:lnTo>
                            <a:lnTo>
                              <a:pt x="3" y="7"/>
                            </a:lnTo>
                            <a:lnTo>
                              <a:pt x="3" y="11"/>
                            </a:lnTo>
                            <a:lnTo>
                              <a:pt x="4" y="6"/>
                            </a:lnTo>
                            <a:lnTo>
                              <a:pt x="3" y="2"/>
                            </a:lnTo>
                            <a:lnTo>
                              <a:pt x="0" y="0"/>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49" name=""/>
                      <p:cNvSpPr/>
                      <p:nvPr/>
                    </p:nvSpPr>
                    <p:spPr>
                      <a:xfrm>
                        <a:off x="5208480" y="2219400"/>
                        <a:ext cx="6120" cy="7920"/>
                      </a:xfrm>
                      <a:custGeom>
                        <a:avLst/>
                        <a:gdLst/>
                        <a:ahLst/>
                        <a:rect l="l" t="t" r="r" b="b"/>
                        <a:pathLst>
                          <a:path w="4" h="5">
                            <a:moveTo>
                              <a:pt x="1" y="0"/>
                            </a:moveTo>
                            <a:lnTo>
                              <a:pt x="0" y="1"/>
                            </a:lnTo>
                            <a:lnTo>
                              <a:pt x="3" y="4"/>
                            </a:lnTo>
                            <a:lnTo>
                              <a:pt x="1"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2050" name=""/>
                    <p:cNvGrpSpPr/>
                    <p:nvPr/>
                  </p:nvGrpSpPr>
                  <p:grpSpPr>
                    <a:xfrm>
                      <a:off x="4779720" y="1989000"/>
                      <a:ext cx="365040" cy="378000"/>
                      <a:chOff x="4779720" y="1989000"/>
                      <a:chExt cx="365040" cy="378000"/>
                    </a:xfrm>
                  </p:grpSpPr>
                  <p:sp>
                    <p:nvSpPr>
                      <p:cNvPr id="2051" name=""/>
                      <p:cNvSpPr/>
                      <p:nvPr/>
                    </p:nvSpPr>
                    <p:spPr>
                      <a:xfrm>
                        <a:off x="4974840" y="1989000"/>
                        <a:ext cx="14400" cy="7920"/>
                      </a:xfrm>
                      <a:custGeom>
                        <a:avLst/>
                        <a:gdLst/>
                        <a:ahLst/>
                        <a:rect l="l" t="t" r="r" b="b"/>
                        <a:pathLst>
                          <a:path w="9" h="5">
                            <a:moveTo>
                              <a:pt x="8" y="0"/>
                            </a:moveTo>
                            <a:lnTo>
                              <a:pt x="6" y="2"/>
                            </a:lnTo>
                            <a:lnTo>
                              <a:pt x="4" y="2"/>
                            </a:lnTo>
                            <a:lnTo>
                              <a:pt x="1" y="3"/>
                            </a:lnTo>
                            <a:lnTo>
                              <a:pt x="0" y="4"/>
                            </a:lnTo>
                            <a:lnTo>
                              <a:pt x="2" y="4"/>
                            </a:lnTo>
                            <a:lnTo>
                              <a:pt x="6" y="3"/>
                            </a:lnTo>
                            <a:lnTo>
                              <a:pt x="8"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2" name=""/>
                      <p:cNvSpPr/>
                      <p:nvPr/>
                    </p:nvSpPr>
                    <p:spPr>
                      <a:xfrm>
                        <a:off x="4981320" y="2000160"/>
                        <a:ext cx="4680" cy="7920"/>
                      </a:xfrm>
                      <a:custGeom>
                        <a:avLst/>
                        <a:gdLst/>
                        <a:ahLst/>
                        <a:rect l="l" t="t" r="r" b="b"/>
                        <a:pathLst>
                          <a:path w="3" h="5">
                            <a:moveTo>
                              <a:pt x="2" y="0"/>
                            </a:moveTo>
                            <a:lnTo>
                              <a:pt x="0" y="0"/>
                            </a:lnTo>
                            <a:lnTo>
                              <a:pt x="0" y="4"/>
                            </a:lnTo>
                            <a:lnTo>
                              <a:pt x="2"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3" name=""/>
                      <p:cNvSpPr/>
                      <p:nvPr/>
                    </p:nvSpPr>
                    <p:spPr>
                      <a:xfrm>
                        <a:off x="4935240" y="2038320"/>
                        <a:ext cx="98640" cy="223920"/>
                      </a:xfrm>
                      <a:custGeom>
                        <a:avLst/>
                        <a:gdLst/>
                        <a:ahLst/>
                        <a:rect l="l" t="t" r="r" b="b"/>
                        <a:pathLst>
                          <a:path w="62" h="141">
                            <a:moveTo>
                              <a:pt x="9" y="0"/>
                            </a:moveTo>
                            <a:lnTo>
                              <a:pt x="14" y="5"/>
                            </a:lnTo>
                            <a:lnTo>
                              <a:pt x="16" y="14"/>
                            </a:lnTo>
                            <a:lnTo>
                              <a:pt x="25" y="22"/>
                            </a:lnTo>
                            <a:lnTo>
                              <a:pt x="44" y="60"/>
                            </a:lnTo>
                            <a:lnTo>
                              <a:pt x="53" y="94"/>
                            </a:lnTo>
                            <a:lnTo>
                              <a:pt x="61" y="140"/>
                            </a:lnTo>
                            <a:lnTo>
                              <a:pt x="36" y="119"/>
                            </a:lnTo>
                            <a:lnTo>
                              <a:pt x="0" y="18"/>
                            </a:lnTo>
                            <a:lnTo>
                              <a:pt x="9" y="0"/>
                            </a:lnTo>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4779720" y="1995480"/>
                        <a:ext cx="365040" cy="371520"/>
                      </a:xfrm>
                      <a:custGeom>
                        <a:avLst/>
                        <a:gdLst/>
                        <a:ahLst/>
                        <a:rect l="l" t="t" r="r" b="b"/>
                        <a:pathLst>
                          <a:path w="230" h="234">
                            <a:moveTo>
                              <a:pt x="42" y="12"/>
                            </a:moveTo>
                            <a:lnTo>
                              <a:pt x="50" y="0"/>
                            </a:lnTo>
                            <a:lnTo>
                              <a:pt x="105" y="22"/>
                            </a:lnTo>
                            <a:lnTo>
                              <a:pt x="108" y="37"/>
                            </a:lnTo>
                            <a:lnTo>
                              <a:pt x="113" y="43"/>
                            </a:lnTo>
                            <a:lnTo>
                              <a:pt x="118" y="50"/>
                            </a:lnTo>
                            <a:lnTo>
                              <a:pt x="122" y="62"/>
                            </a:lnTo>
                            <a:lnTo>
                              <a:pt x="135" y="88"/>
                            </a:lnTo>
                            <a:lnTo>
                              <a:pt x="144" y="120"/>
                            </a:lnTo>
                            <a:lnTo>
                              <a:pt x="149" y="141"/>
                            </a:lnTo>
                            <a:lnTo>
                              <a:pt x="194" y="142"/>
                            </a:lnTo>
                            <a:lnTo>
                              <a:pt x="202" y="146"/>
                            </a:lnTo>
                            <a:lnTo>
                              <a:pt x="222" y="146"/>
                            </a:lnTo>
                            <a:lnTo>
                              <a:pt x="228" y="154"/>
                            </a:lnTo>
                            <a:lnTo>
                              <a:pt x="229" y="164"/>
                            </a:lnTo>
                            <a:lnTo>
                              <a:pt x="227" y="173"/>
                            </a:lnTo>
                            <a:lnTo>
                              <a:pt x="208" y="176"/>
                            </a:lnTo>
                            <a:lnTo>
                              <a:pt x="199" y="188"/>
                            </a:lnTo>
                            <a:lnTo>
                              <a:pt x="181" y="193"/>
                            </a:lnTo>
                            <a:lnTo>
                              <a:pt x="168" y="193"/>
                            </a:lnTo>
                            <a:lnTo>
                              <a:pt x="152" y="195"/>
                            </a:lnTo>
                            <a:lnTo>
                              <a:pt x="151" y="201"/>
                            </a:lnTo>
                            <a:lnTo>
                              <a:pt x="152" y="213"/>
                            </a:lnTo>
                            <a:lnTo>
                              <a:pt x="150" y="221"/>
                            </a:lnTo>
                            <a:lnTo>
                              <a:pt x="143" y="222"/>
                            </a:lnTo>
                            <a:lnTo>
                              <a:pt x="132" y="223"/>
                            </a:lnTo>
                            <a:lnTo>
                              <a:pt x="122" y="232"/>
                            </a:lnTo>
                            <a:lnTo>
                              <a:pt x="111" y="232"/>
                            </a:lnTo>
                            <a:lnTo>
                              <a:pt x="100" y="231"/>
                            </a:lnTo>
                            <a:lnTo>
                              <a:pt x="84" y="226"/>
                            </a:lnTo>
                            <a:lnTo>
                              <a:pt x="66" y="228"/>
                            </a:lnTo>
                            <a:lnTo>
                              <a:pt x="48" y="233"/>
                            </a:lnTo>
                            <a:lnTo>
                              <a:pt x="30" y="229"/>
                            </a:lnTo>
                            <a:lnTo>
                              <a:pt x="18" y="217"/>
                            </a:lnTo>
                            <a:lnTo>
                              <a:pt x="19" y="204"/>
                            </a:lnTo>
                            <a:lnTo>
                              <a:pt x="16" y="187"/>
                            </a:lnTo>
                            <a:lnTo>
                              <a:pt x="13" y="167"/>
                            </a:lnTo>
                            <a:lnTo>
                              <a:pt x="7" y="147"/>
                            </a:lnTo>
                            <a:lnTo>
                              <a:pt x="0" y="118"/>
                            </a:lnTo>
                            <a:lnTo>
                              <a:pt x="1" y="88"/>
                            </a:lnTo>
                            <a:lnTo>
                              <a:pt x="1" y="63"/>
                            </a:lnTo>
                            <a:lnTo>
                              <a:pt x="3" y="44"/>
                            </a:lnTo>
                            <a:lnTo>
                              <a:pt x="7" y="36"/>
                            </a:lnTo>
                            <a:lnTo>
                              <a:pt x="17" y="29"/>
                            </a:lnTo>
                            <a:lnTo>
                              <a:pt x="29" y="19"/>
                            </a:lnTo>
                            <a:lnTo>
                              <a:pt x="42"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4786200" y="2017800"/>
                        <a:ext cx="231840" cy="345960"/>
                      </a:xfrm>
                      <a:custGeom>
                        <a:avLst/>
                        <a:gdLst/>
                        <a:ahLst/>
                        <a:rect l="l" t="t" r="r" b="b"/>
                        <a:pathLst>
                          <a:path w="146" h="218">
                            <a:moveTo>
                              <a:pt x="145" y="182"/>
                            </a:moveTo>
                            <a:lnTo>
                              <a:pt x="126" y="179"/>
                            </a:lnTo>
                            <a:lnTo>
                              <a:pt x="110" y="179"/>
                            </a:lnTo>
                            <a:lnTo>
                              <a:pt x="91" y="177"/>
                            </a:lnTo>
                            <a:lnTo>
                              <a:pt x="72" y="174"/>
                            </a:lnTo>
                            <a:lnTo>
                              <a:pt x="63" y="168"/>
                            </a:lnTo>
                            <a:lnTo>
                              <a:pt x="38" y="141"/>
                            </a:lnTo>
                            <a:lnTo>
                              <a:pt x="50" y="149"/>
                            </a:lnTo>
                            <a:lnTo>
                              <a:pt x="59" y="156"/>
                            </a:lnTo>
                            <a:lnTo>
                              <a:pt x="54" y="136"/>
                            </a:lnTo>
                            <a:lnTo>
                              <a:pt x="46" y="128"/>
                            </a:lnTo>
                            <a:lnTo>
                              <a:pt x="32" y="109"/>
                            </a:lnTo>
                            <a:lnTo>
                              <a:pt x="45" y="118"/>
                            </a:lnTo>
                            <a:lnTo>
                              <a:pt x="52" y="121"/>
                            </a:lnTo>
                            <a:lnTo>
                              <a:pt x="50" y="107"/>
                            </a:lnTo>
                            <a:lnTo>
                              <a:pt x="42" y="96"/>
                            </a:lnTo>
                            <a:lnTo>
                              <a:pt x="33" y="88"/>
                            </a:lnTo>
                            <a:lnTo>
                              <a:pt x="24" y="64"/>
                            </a:lnTo>
                            <a:lnTo>
                              <a:pt x="41" y="84"/>
                            </a:lnTo>
                            <a:lnTo>
                              <a:pt x="50" y="91"/>
                            </a:lnTo>
                            <a:lnTo>
                              <a:pt x="52" y="61"/>
                            </a:lnTo>
                            <a:lnTo>
                              <a:pt x="54" y="49"/>
                            </a:lnTo>
                            <a:lnTo>
                              <a:pt x="60" y="43"/>
                            </a:lnTo>
                            <a:lnTo>
                              <a:pt x="68" y="34"/>
                            </a:lnTo>
                            <a:lnTo>
                              <a:pt x="81" y="30"/>
                            </a:lnTo>
                            <a:lnTo>
                              <a:pt x="87" y="28"/>
                            </a:lnTo>
                            <a:lnTo>
                              <a:pt x="69" y="13"/>
                            </a:lnTo>
                            <a:lnTo>
                              <a:pt x="50" y="16"/>
                            </a:lnTo>
                            <a:lnTo>
                              <a:pt x="38" y="23"/>
                            </a:lnTo>
                            <a:lnTo>
                              <a:pt x="33" y="29"/>
                            </a:lnTo>
                            <a:lnTo>
                              <a:pt x="37" y="19"/>
                            </a:lnTo>
                            <a:lnTo>
                              <a:pt x="44" y="16"/>
                            </a:lnTo>
                            <a:lnTo>
                              <a:pt x="55" y="13"/>
                            </a:lnTo>
                            <a:lnTo>
                              <a:pt x="65" y="11"/>
                            </a:lnTo>
                            <a:lnTo>
                              <a:pt x="59" y="8"/>
                            </a:lnTo>
                            <a:lnTo>
                              <a:pt x="50" y="6"/>
                            </a:lnTo>
                            <a:lnTo>
                              <a:pt x="42" y="3"/>
                            </a:lnTo>
                            <a:lnTo>
                              <a:pt x="38" y="0"/>
                            </a:lnTo>
                            <a:lnTo>
                              <a:pt x="26" y="7"/>
                            </a:lnTo>
                            <a:lnTo>
                              <a:pt x="20" y="13"/>
                            </a:lnTo>
                            <a:lnTo>
                              <a:pt x="13" y="19"/>
                            </a:lnTo>
                            <a:lnTo>
                              <a:pt x="5" y="23"/>
                            </a:lnTo>
                            <a:lnTo>
                              <a:pt x="3" y="31"/>
                            </a:lnTo>
                            <a:lnTo>
                              <a:pt x="0" y="43"/>
                            </a:lnTo>
                            <a:lnTo>
                              <a:pt x="0" y="62"/>
                            </a:lnTo>
                            <a:lnTo>
                              <a:pt x="0" y="82"/>
                            </a:lnTo>
                            <a:lnTo>
                              <a:pt x="1" y="104"/>
                            </a:lnTo>
                            <a:lnTo>
                              <a:pt x="6" y="126"/>
                            </a:lnTo>
                            <a:lnTo>
                              <a:pt x="12" y="150"/>
                            </a:lnTo>
                            <a:lnTo>
                              <a:pt x="13" y="170"/>
                            </a:lnTo>
                            <a:lnTo>
                              <a:pt x="18" y="185"/>
                            </a:lnTo>
                            <a:lnTo>
                              <a:pt x="17" y="199"/>
                            </a:lnTo>
                            <a:lnTo>
                              <a:pt x="19" y="205"/>
                            </a:lnTo>
                            <a:lnTo>
                              <a:pt x="26" y="211"/>
                            </a:lnTo>
                            <a:lnTo>
                              <a:pt x="34" y="216"/>
                            </a:lnTo>
                            <a:lnTo>
                              <a:pt x="45" y="217"/>
                            </a:lnTo>
                            <a:lnTo>
                              <a:pt x="50" y="214"/>
                            </a:lnTo>
                            <a:lnTo>
                              <a:pt x="57" y="214"/>
                            </a:lnTo>
                            <a:lnTo>
                              <a:pt x="75" y="210"/>
                            </a:lnTo>
                            <a:lnTo>
                              <a:pt x="67" y="202"/>
                            </a:lnTo>
                            <a:lnTo>
                              <a:pt x="59" y="191"/>
                            </a:lnTo>
                            <a:lnTo>
                              <a:pt x="71" y="199"/>
                            </a:lnTo>
                            <a:lnTo>
                              <a:pt x="80" y="206"/>
                            </a:lnTo>
                            <a:lnTo>
                              <a:pt x="86" y="210"/>
                            </a:lnTo>
                            <a:lnTo>
                              <a:pt x="95" y="214"/>
                            </a:lnTo>
                            <a:lnTo>
                              <a:pt x="105" y="214"/>
                            </a:lnTo>
                            <a:lnTo>
                              <a:pt x="116" y="214"/>
                            </a:lnTo>
                            <a:lnTo>
                              <a:pt x="121" y="212"/>
                            </a:lnTo>
                            <a:lnTo>
                              <a:pt x="123" y="209"/>
                            </a:lnTo>
                            <a:lnTo>
                              <a:pt x="111" y="203"/>
                            </a:lnTo>
                            <a:lnTo>
                              <a:pt x="98" y="193"/>
                            </a:lnTo>
                            <a:lnTo>
                              <a:pt x="94" y="188"/>
                            </a:lnTo>
                            <a:lnTo>
                              <a:pt x="104" y="190"/>
                            </a:lnTo>
                            <a:lnTo>
                              <a:pt x="120" y="200"/>
                            </a:lnTo>
                            <a:lnTo>
                              <a:pt x="126" y="205"/>
                            </a:lnTo>
                            <a:lnTo>
                              <a:pt x="140" y="206"/>
                            </a:lnTo>
                            <a:lnTo>
                              <a:pt x="145" y="204"/>
                            </a:lnTo>
                            <a:lnTo>
                              <a:pt x="145" y="199"/>
                            </a:lnTo>
                            <a:lnTo>
                              <a:pt x="145" y="18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4802040" y="2189160"/>
                        <a:ext cx="68040" cy="162000"/>
                      </a:xfrm>
                      <a:custGeom>
                        <a:avLst/>
                        <a:gdLst/>
                        <a:ahLst/>
                        <a:rect l="l" t="t" r="r" b="b"/>
                        <a:pathLst>
                          <a:path w="43" h="102">
                            <a:moveTo>
                              <a:pt x="42" y="101"/>
                            </a:moveTo>
                            <a:lnTo>
                              <a:pt x="35" y="97"/>
                            </a:lnTo>
                            <a:lnTo>
                              <a:pt x="27" y="89"/>
                            </a:lnTo>
                            <a:lnTo>
                              <a:pt x="20" y="74"/>
                            </a:lnTo>
                            <a:lnTo>
                              <a:pt x="16" y="62"/>
                            </a:lnTo>
                            <a:lnTo>
                              <a:pt x="11" y="48"/>
                            </a:lnTo>
                            <a:lnTo>
                              <a:pt x="8" y="36"/>
                            </a:lnTo>
                            <a:lnTo>
                              <a:pt x="3" y="15"/>
                            </a:lnTo>
                            <a:lnTo>
                              <a:pt x="0" y="0"/>
                            </a:lnTo>
                            <a:lnTo>
                              <a:pt x="9" y="30"/>
                            </a:lnTo>
                            <a:lnTo>
                              <a:pt x="16" y="52"/>
                            </a:lnTo>
                            <a:lnTo>
                              <a:pt x="24" y="68"/>
                            </a:lnTo>
                            <a:lnTo>
                              <a:pt x="37" y="84"/>
                            </a:lnTo>
                            <a:lnTo>
                              <a:pt x="42" y="10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4870080" y="2060640"/>
                        <a:ext cx="270000" cy="241200"/>
                      </a:xfrm>
                      <a:custGeom>
                        <a:avLst/>
                        <a:gdLst/>
                        <a:ahLst/>
                        <a:rect l="l" t="t" r="r" b="b"/>
                        <a:pathLst>
                          <a:path w="170" h="152">
                            <a:moveTo>
                              <a:pt x="32" y="0"/>
                            </a:moveTo>
                            <a:lnTo>
                              <a:pt x="51" y="5"/>
                            </a:lnTo>
                            <a:lnTo>
                              <a:pt x="61" y="12"/>
                            </a:lnTo>
                            <a:lnTo>
                              <a:pt x="66" y="27"/>
                            </a:lnTo>
                            <a:lnTo>
                              <a:pt x="66" y="41"/>
                            </a:lnTo>
                            <a:lnTo>
                              <a:pt x="63" y="49"/>
                            </a:lnTo>
                            <a:lnTo>
                              <a:pt x="65" y="63"/>
                            </a:lnTo>
                            <a:lnTo>
                              <a:pt x="65" y="74"/>
                            </a:lnTo>
                            <a:lnTo>
                              <a:pt x="63" y="77"/>
                            </a:lnTo>
                            <a:lnTo>
                              <a:pt x="65" y="80"/>
                            </a:lnTo>
                            <a:lnTo>
                              <a:pt x="67" y="84"/>
                            </a:lnTo>
                            <a:lnTo>
                              <a:pt x="63" y="88"/>
                            </a:lnTo>
                            <a:lnTo>
                              <a:pt x="63" y="92"/>
                            </a:lnTo>
                            <a:lnTo>
                              <a:pt x="70" y="94"/>
                            </a:lnTo>
                            <a:lnTo>
                              <a:pt x="69" y="98"/>
                            </a:lnTo>
                            <a:lnTo>
                              <a:pt x="76" y="101"/>
                            </a:lnTo>
                            <a:lnTo>
                              <a:pt x="83" y="99"/>
                            </a:lnTo>
                            <a:lnTo>
                              <a:pt x="87" y="101"/>
                            </a:lnTo>
                            <a:lnTo>
                              <a:pt x="107" y="103"/>
                            </a:lnTo>
                            <a:lnTo>
                              <a:pt x="126" y="102"/>
                            </a:lnTo>
                            <a:lnTo>
                              <a:pt x="138" y="103"/>
                            </a:lnTo>
                            <a:lnTo>
                              <a:pt x="144" y="107"/>
                            </a:lnTo>
                            <a:lnTo>
                              <a:pt x="163" y="107"/>
                            </a:lnTo>
                            <a:lnTo>
                              <a:pt x="169" y="113"/>
                            </a:lnTo>
                            <a:lnTo>
                              <a:pt x="169" y="119"/>
                            </a:lnTo>
                            <a:lnTo>
                              <a:pt x="168" y="130"/>
                            </a:lnTo>
                            <a:lnTo>
                              <a:pt x="153" y="133"/>
                            </a:lnTo>
                            <a:lnTo>
                              <a:pt x="153" y="126"/>
                            </a:lnTo>
                            <a:lnTo>
                              <a:pt x="152" y="120"/>
                            </a:lnTo>
                            <a:lnTo>
                              <a:pt x="150" y="118"/>
                            </a:lnTo>
                            <a:lnTo>
                              <a:pt x="149" y="125"/>
                            </a:lnTo>
                            <a:lnTo>
                              <a:pt x="148" y="133"/>
                            </a:lnTo>
                            <a:lnTo>
                              <a:pt x="144" y="138"/>
                            </a:lnTo>
                            <a:lnTo>
                              <a:pt x="139" y="145"/>
                            </a:lnTo>
                            <a:lnTo>
                              <a:pt x="123" y="148"/>
                            </a:lnTo>
                            <a:lnTo>
                              <a:pt x="111" y="150"/>
                            </a:lnTo>
                            <a:lnTo>
                              <a:pt x="98" y="151"/>
                            </a:lnTo>
                            <a:lnTo>
                              <a:pt x="114" y="141"/>
                            </a:lnTo>
                            <a:lnTo>
                              <a:pt x="126" y="133"/>
                            </a:lnTo>
                            <a:lnTo>
                              <a:pt x="129" y="126"/>
                            </a:lnTo>
                            <a:lnTo>
                              <a:pt x="128" y="120"/>
                            </a:lnTo>
                            <a:lnTo>
                              <a:pt x="117" y="120"/>
                            </a:lnTo>
                            <a:lnTo>
                              <a:pt x="113" y="126"/>
                            </a:lnTo>
                            <a:lnTo>
                              <a:pt x="111" y="134"/>
                            </a:lnTo>
                            <a:lnTo>
                              <a:pt x="102" y="142"/>
                            </a:lnTo>
                            <a:lnTo>
                              <a:pt x="92" y="149"/>
                            </a:lnTo>
                            <a:lnTo>
                              <a:pt x="82" y="150"/>
                            </a:lnTo>
                            <a:lnTo>
                              <a:pt x="67" y="149"/>
                            </a:lnTo>
                            <a:lnTo>
                              <a:pt x="83" y="137"/>
                            </a:lnTo>
                            <a:lnTo>
                              <a:pt x="95" y="131"/>
                            </a:lnTo>
                            <a:lnTo>
                              <a:pt x="104" y="125"/>
                            </a:lnTo>
                            <a:lnTo>
                              <a:pt x="106" y="120"/>
                            </a:lnTo>
                            <a:lnTo>
                              <a:pt x="106" y="116"/>
                            </a:lnTo>
                            <a:lnTo>
                              <a:pt x="101" y="115"/>
                            </a:lnTo>
                            <a:lnTo>
                              <a:pt x="94" y="119"/>
                            </a:lnTo>
                            <a:lnTo>
                              <a:pt x="90" y="126"/>
                            </a:lnTo>
                            <a:lnTo>
                              <a:pt x="82" y="134"/>
                            </a:lnTo>
                            <a:lnTo>
                              <a:pt x="72" y="138"/>
                            </a:lnTo>
                            <a:lnTo>
                              <a:pt x="65" y="142"/>
                            </a:lnTo>
                            <a:lnTo>
                              <a:pt x="57" y="146"/>
                            </a:lnTo>
                            <a:lnTo>
                              <a:pt x="48" y="147"/>
                            </a:lnTo>
                            <a:lnTo>
                              <a:pt x="36" y="147"/>
                            </a:lnTo>
                            <a:lnTo>
                              <a:pt x="27" y="145"/>
                            </a:lnTo>
                            <a:lnTo>
                              <a:pt x="50" y="138"/>
                            </a:lnTo>
                            <a:lnTo>
                              <a:pt x="59" y="134"/>
                            </a:lnTo>
                            <a:lnTo>
                              <a:pt x="65" y="126"/>
                            </a:lnTo>
                            <a:lnTo>
                              <a:pt x="66" y="120"/>
                            </a:lnTo>
                            <a:lnTo>
                              <a:pt x="61" y="120"/>
                            </a:lnTo>
                            <a:lnTo>
                              <a:pt x="58" y="126"/>
                            </a:lnTo>
                            <a:lnTo>
                              <a:pt x="53" y="131"/>
                            </a:lnTo>
                            <a:lnTo>
                              <a:pt x="46" y="136"/>
                            </a:lnTo>
                            <a:lnTo>
                              <a:pt x="37" y="141"/>
                            </a:lnTo>
                            <a:lnTo>
                              <a:pt x="27" y="145"/>
                            </a:lnTo>
                            <a:lnTo>
                              <a:pt x="19" y="142"/>
                            </a:lnTo>
                            <a:lnTo>
                              <a:pt x="15" y="138"/>
                            </a:lnTo>
                            <a:lnTo>
                              <a:pt x="9" y="128"/>
                            </a:lnTo>
                            <a:lnTo>
                              <a:pt x="21" y="126"/>
                            </a:lnTo>
                            <a:lnTo>
                              <a:pt x="43" y="123"/>
                            </a:lnTo>
                            <a:lnTo>
                              <a:pt x="57" y="117"/>
                            </a:lnTo>
                            <a:lnTo>
                              <a:pt x="64" y="112"/>
                            </a:lnTo>
                            <a:lnTo>
                              <a:pt x="67" y="106"/>
                            </a:lnTo>
                            <a:lnTo>
                              <a:pt x="68" y="102"/>
                            </a:lnTo>
                            <a:lnTo>
                              <a:pt x="64" y="102"/>
                            </a:lnTo>
                            <a:lnTo>
                              <a:pt x="60" y="107"/>
                            </a:lnTo>
                            <a:lnTo>
                              <a:pt x="52" y="116"/>
                            </a:lnTo>
                            <a:lnTo>
                              <a:pt x="36" y="120"/>
                            </a:lnTo>
                            <a:lnTo>
                              <a:pt x="21" y="125"/>
                            </a:lnTo>
                            <a:lnTo>
                              <a:pt x="9" y="128"/>
                            </a:lnTo>
                            <a:lnTo>
                              <a:pt x="4" y="111"/>
                            </a:lnTo>
                            <a:lnTo>
                              <a:pt x="3" y="99"/>
                            </a:lnTo>
                            <a:lnTo>
                              <a:pt x="3" y="88"/>
                            </a:lnTo>
                            <a:lnTo>
                              <a:pt x="19" y="95"/>
                            </a:lnTo>
                            <a:lnTo>
                              <a:pt x="36" y="99"/>
                            </a:lnTo>
                            <a:lnTo>
                              <a:pt x="51" y="98"/>
                            </a:lnTo>
                            <a:lnTo>
                              <a:pt x="55" y="96"/>
                            </a:lnTo>
                            <a:lnTo>
                              <a:pt x="57" y="92"/>
                            </a:lnTo>
                            <a:lnTo>
                              <a:pt x="48" y="92"/>
                            </a:lnTo>
                            <a:lnTo>
                              <a:pt x="39" y="95"/>
                            </a:lnTo>
                            <a:lnTo>
                              <a:pt x="18" y="95"/>
                            </a:lnTo>
                            <a:lnTo>
                              <a:pt x="3" y="88"/>
                            </a:lnTo>
                            <a:lnTo>
                              <a:pt x="2" y="73"/>
                            </a:lnTo>
                            <a:lnTo>
                              <a:pt x="1" y="62"/>
                            </a:lnTo>
                            <a:lnTo>
                              <a:pt x="0" y="51"/>
                            </a:lnTo>
                            <a:lnTo>
                              <a:pt x="2" y="34"/>
                            </a:lnTo>
                            <a:lnTo>
                              <a:pt x="7" y="27"/>
                            </a:lnTo>
                            <a:lnTo>
                              <a:pt x="21" y="19"/>
                            </a:lnTo>
                            <a:lnTo>
                              <a:pt x="16" y="20"/>
                            </a:lnTo>
                            <a:lnTo>
                              <a:pt x="2" y="26"/>
                            </a:lnTo>
                            <a:lnTo>
                              <a:pt x="8" y="14"/>
                            </a:lnTo>
                            <a:lnTo>
                              <a:pt x="12" y="8"/>
                            </a:lnTo>
                            <a:lnTo>
                              <a:pt x="16" y="4"/>
                            </a:lnTo>
                            <a:lnTo>
                              <a:pt x="3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4889160" y="2149560"/>
                        <a:ext cx="69840" cy="56880"/>
                      </a:xfrm>
                      <a:custGeom>
                        <a:avLst/>
                        <a:gdLst/>
                        <a:ahLst/>
                        <a:rect l="l" t="t" r="r" b="b"/>
                        <a:pathLst>
                          <a:path w="44" h="36">
                            <a:moveTo>
                              <a:pt x="43" y="0"/>
                            </a:moveTo>
                            <a:lnTo>
                              <a:pt x="43" y="3"/>
                            </a:lnTo>
                            <a:lnTo>
                              <a:pt x="37" y="9"/>
                            </a:lnTo>
                            <a:lnTo>
                              <a:pt x="32" y="13"/>
                            </a:lnTo>
                            <a:lnTo>
                              <a:pt x="20" y="21"/>
                            </a:lnTo>
                            <a:lnTo>
                              <a:pt x="16" y="24"/>
                            </a:lnTo>
                            <a:lnTo>
                              <a:pt x="5" y="31"/>
                            </a:lnTo>
                            <a:lnTo>
                              <a:pt x="17" y="28"/>
                            </a:lnTo>
                            <a:lnTo>
                              <a:pt x="28" y="25"/>
                            </a:lnTo>
                            <a:lnTo>
                              <a:pt x="40" y="24"/>
                            </a:lnTo>
                            <a:lnTo>
                              <a:pt x="39" y="27"/>
                            </a:lnTo>
                            <a:lnTo>
                              <a:pt x="20" y="30"/>
                            </a:lnTo>
                            <a:lnTo>
                              <a:pt x="11" y="34"/>
                            </a:lnTo>
                            <a:lnTo>
                              <a:pt x="5" y="35"/>
                            </a:lnTo>
                            <a:lnTo>
                              <a:pt x="0" y="33"/>
                            </a:lnTo>
                            <a:lnTo>
                              <a:pt x="0" y="29"/>
                            </a:lnTo>
                            <a:lnTo>
                              <a:pt x="4" y="26"/>
                            </a:lnTo>
                            <a:lnTo>
                              <a:pt x="9" y="21"/>
                            </a:lnTo>
                            <a:lnTo>
                              <a:pt x="16" y="14"/>
                            </a:lnTo>
                            <a:lnTo>
                              <a:pt x="21" y="7"/>
                            </a:lnTo>
                            <a:lnTo>
                              <a:pt x="29" y="3"/>
                            </a:lnTo>
                            <a:lnTo>
                              <a:pt x="38" y="1"/>
                            </a:lnTo>
                            <a:lnTo>
                              <a:pt x="43" y="0"/>
                            </a:lnTo>
                          </a:path>
                        </a:pathLst>
                      </a:cu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59" name=""/>
                      <p:cNvSpPr/>
                      <p:nvPr/>
                    </p:nvSpPr>
                    <p:spPr>
                      <a:xfrm>
                        <a:off x="4890960" y="2104920"/>
                        <a:ext cx="63360" cy="71280"/>
                      </a:xfrm>
                      <a:custGeom>
                        <a:avLst/>
                        <a:gdLst/>
                        <a:ahLst/>
                        <a:rect l="l" t="t" r="r" b="b"/>
                        <a:pathLst>
                          <a:path w="40" h="45">
                            <a:moveTo>
                              <a:pt x="32" y="0"/>
                            </a:moveTo>
                            <a:lnTo>
                              <a:pt x="37" y="1"/>
                            </a:lnTo>
                            <a:lnTo>
                              <a:pt x="39" y="5"/>
                            </a:lnTo>
                            <a:lnTo>
                              <a:pt x="39" y="9"/>
                            </a:lnTo>
                            <a:lnTo>
                              <a:pt x="35" y="14"/>
                            </a:lnTo>
                            <a:lnTo>
                              <a:pt x="31" y="14"/>
                            </a:lnTo>
                            <a:lnTo>
                              <a:pt x="22" y="19"/>
                            </a:lnTo>
                            <a:lnTo>
                              <a:pt x="15" y="25"/>
                            </a:lnTo>
                            <a:lnTo>
                              <a:pt x="9" y="33"/>
                            </a:lnTo>
                            <a:lnTo>
                              <a:pt x="2" y="42"/>
                            </a:lnTo>
                            <a:lnTo>
                              <a:pt x="0" y="44"/>
                            </a:lnTo>
                            <a:lnTo>
                              <a:pt x="2" y="34"/>
                            </a:lnTo>
                            <a:lnTo>
                              <a:pt x="4" y="26"/>
                            </a:lnTo>
                            <a:lnTo>
                              <a:pt x="7" y="18"/>
                            </a:lnTo>
                            <a:lnTo>
                              <a:pt x="12" y="11"/>
                            </a:lnTo>
                            <a:lnTo>
                              <a:pt x="26" y="1"/>
                            </a:lnTo>
                            <a:lnTo>
                              <a:pt x="32" y="0"/>
                            </a:lnTo>
                          </a:path>
                        </a:pathLst>
                      </a:custGeom>
                      <a:solidFill>
                        <a:srgbClr val="c0c0c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60" name=""/>
                      <p:cNvSpPr/>
                      <p:nvPr/>
                    </p:nvSpPr>
                    <p:spPr>
                      <a:xfrm>
                        <a:off x="4898880" y="2035080"/>
                        <a:ext cx="68040" cy="42840"/>
                      </a:xfrm>
                      <a:custGeom>
                        <a:avLst/>
                        <a:gdLst/>
                        <a:ahLst/>
                        <a:rect l="l" t="t" r="r" b="b"/>
                        <a:pathLst>
                          <a:path w="43" h="27">
                            <a:moveTo>
                              <a:pt x="42" y="26"/>
                            </a:moveTo>
                            <a:lnTo>
                              <a:pt x="34" y="20"/>
                            </a:lnTo>
                            <a:lnTo>
                              <a:pt x="22" y="16"/>
                            </a:lnTo>
                            <a:lnTo>
                              <a:pt x="14" y="14"/>
                            </a:lnTo>
                            <a:lnTo>
                              <a:pt x="0" y="0"/>
                            </a:lnTo>
                            <a:lnTo>
                              <a:pt x="11" y="5"/>
                            </a:lnTo>
                            <a:lnTo>
                              <a:pt x="20" y="9"/>
                            </a:lnTo>
                            <a:lnTo>
                              <a:pt x="28" y="12"/>
                            </a:lnTo>
                            <a:lnTo>
                              <a:pt x="32" y="16"/>
                            </a:lnTo>
                            <a:lnTo>
                              <a:pt x="42" y="26"/>
                            </a:lnTo>
                          </a:path>
                        </a:pathLst>
                      </a:custGeom>
                      <a:solidFill>
                        <a:srgbClr val="e0e0e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1" name=""/>
                      <p:cNvSpPr/>
                      <p:nvPr/>
                    </p:nvSpPr>
                    <p:spPr>
                      <a:xfrm>
                        <a:off x="4974840" y="2111400"/>
                        <a:ext cx="39960" cy="106200"/>
                      </a:xfrm>
                      <a:custGeom>
                        <a:avLst/>
                        <a:gdLst/>
                        <a:ahLst/>
                        <a:rect l="l" t="t" r="r" b="b"/>
                        <a:pathLst>
                          <a:path w="25" h="67">
                            <a:moveTo>
                              <a:pt x="24" y="66"/>
                            </a:moveTo>
                            <a:lnTo>
                              <a:pt x="12" y="66"/>
                            </a:lnTo>
                            <a:lnTo>
                              <a:pt x="8" y="65"/>
                            </a:lnTo>
                            <a:lnTo>
                              <a:pt x="8" y="63"/>
                            </a:lnTo>
                            <a:lnTo>
                              <a:pt x="6" y="60"/>
                            </a:lnTo>
                            <a:lnTo>
                              <a:pt x="2" y="58"/>
                            </a:lnTo>
                            <a:lnTo>
                              <a:pt x="4" y="55"/>
                            </a:lnTo>
                            <a:lnTo>
                              <a:pt x="4" y="52"/>
                            </a:lnTo>
                            <a:lnTo>
                              <a:pt x="1" y="48"/>
                            </a:lnTo>
                            <a:lnTo>
                              <a:pt x="1" y="45"/>
                            </a:lnTo>
                            <a:lnTo>
                              <a:pt x="3" y="39"/>
                            </a:lnTo>
                            <a:lnTo>
                              <a:pt x="3" y="29"/>
                            </a:lnTo>
                            <a:lnTo>
                              <a:pt x="0" y="19"/>
                            </a:lnTo>
                            <a:lnTo>
                              <a:pt x="1" y="11"/>
                            </a:lnTo>
                            <a:lnTo>
                              <a:pt x="1" y="0"/>
                            </a:lnTo>
                            <a:lnTo>
                              <a:pt x="8" y="18"/>
                            </a:lnTo>
                            <a:lnTo>
                              <a:pt x="15" y="35"/>
                            </a:lnTo>
                            <a:lnTo>
                              <a:pt x="20" y="54"/>
                            </a:lnTo>
                            <a:lnTo>
                              <a:pt x="24" y="6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4892400" y="2224080"/>
                        <a:ext cx="68400" cy="22320"/>
                      </a:xfrm>
                      <a:custGeom>
                        <a:avLst/>
                        <a:gdLst/>
                        <a:ahLst/>
                        <a:rect l="l" t="t" r="r" b="b"/>
                        <a:pathLst>
                          <a:path w="43" h="14">
                            <a:moveTo>
                              <a:pt x="9" y="6"/>
                            </a:moveTo>
                            <a:lnTo>
                              <a:pt x="18" y="3"/>
                            </a:lnTo>
                            <a:lnTo>
                              <a:pt x="26" y="1"/>
                            </a:lnTo>
                            <a:lnTo>
                              <a:pt x="37" y="0"/>
                            </a:lnTo>
                            <a:lnTo>
                              <a:pt x="42" y="1"/>
                            </a:lnTo>
                            <a:lnTo>
                              <a:pt x="40" y="5"/>
                            </a:lnTo>
                            <a:lnTo>
                              <a:pt x="36" y="8"/>
                            </a:lnTo>
                            <a:lnTo>
                              <a:pt x="25" y="10"/>
                            </a:lnTo>
                            <a:lnTo>
                              <a:pt x="10" y="13"/>
                            </a:lnTo>
                            <a:lnTo>
                              <a:pt x="0" y="12"/>
                            </a:lnTo>
                            <a:lnTo>
                              <a:pt x="9" y="6"/>
                            </a:lnTo>
                          </a:path>
                        </a:pathLst>
                      </a:custGeom>
                      <a:solidFill>
                        <a:srgbClr val="c0c0c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63" name=""/>
                      <p:cNvSpPr/>
                      <p:nvPr/>
                    </p:nvSpPr>
                    <p:spPr>
                      <a:xfrm>
                        <a:off x="4971960" y="2233440"/>
                        <a:ext cx="42840" cy="47880"/>
                      </a:xfrm>
                      <a:custGeom>
                        <a:avLst/>
                        <a:gdLst/>
                        <a:ahLst/>
                        <a:rect l="l" t="t" r="r" b="b"/>
                        <a:pathLst>
                          <a:path w="27" h="30">
                            <a:moveTo>
                              <a:pt x="14" y="8"/>
                            </a:moveTo>
                            <a:lnTo>
                              <a:pt x="17" y="2"/>
                            </a:lnTo>
                            <a:lnTo>
                              <a:pt x="23" y="0"/>
                            </a:lnTo>
                            <a:lnTo>
                              <a:pt x="26" y="2"/>
                            </a:lnTo>
                            <a:lnTo>
                              <a:pt x="26" y="5"/>
                            </a:lnTo>
                            <a:lnTo>
                              <a:pt x="24" y="11"/>
                            </a:lnTo>
                            <a:lnTo>
                              <a:pt x="20" y="16"/>
                            </a:lnTo>
                            <a:lnTo>
                              <a:pt x="16" y="20"/>
                            </a:lnTo>
                            <a:lnTo>
                              <a:pt x="10" y="25"/>
                            </a:lnTo>
                            <a:lnTo>
                              <a:pt x="0" y="29"/>
                            </a:lnTo>
                            <a:lnTo>
                              <a:pt x="9" y="21"/>
                            </a:lnTo>
                            <a:lnTo>
                              <a:pt x="11" y="15"/>
                            </a:lnTo>
                            <a:lnTo>
                              <a:pt x="14" y="8"/>
                            </a:lnTo>
                          </a:path>
                        </a:pathLst>
                      </a:custGeom>
                      <a:solidFill>
                        <a:srgbClr val="c0c0c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4" name=""/>
                      <p:cNvSpPr/>
                      <p:nvPr/>
                    </p:nvSpPr>
                    <p:spPr>
                      <a:xfrm>
                        <a:off x="4851360" y="2000160"/>
                        <a:ext cx="98280" cy="55440"/>
                      </a:xfrm>
                      <a:custGeom>
                        <a:avLst/>
                        <a:gdLst/>
                        <a:ahLst/>
                        <a:rect l="l" t="t" r="r" b="b"/>
                        <a:pathLst>
                          <a:path w="62" h="35">
                            <a:moveTo>
                              <a:pt x="61" y="34"/>
                            </a:moveTo>
                            <a:lnTo>
                              <a:pt x="59" y="19"/>
                            </a:lnTo>
                            <a:lnTo>
                              <a:pt x="46" y="14"/>
                            </a:lnTo>
                            <a:lnTo>
                              <a:pt x="29" y="8"/>
                            </a:lnTo>
                            <a:lnTo>
                              <a:pt x="17" y="4"/>
                            </a:lnTo>
                            <a:lnTo>
                              <a:pt x="5" y="0"/>
                            </a:lnTo>
                            <a:lnTo>
                              <a:pt x="0" y="9"/>
                            </a:lnTo>
                            <a:lnTo>
                              <a:pt x="11" y="15"/>
                            </a:lnTo>
                            <a:lnTo>
                              <a:pt x="25" y="19"/>
                            </a:lnTo>
                            <a:lnTo>
                              <a:pt x="34" y="21"/>
                            </a:lnTo>
                            <a:lnTo>
                              <a:pt x="47" y="28"/>
                            </a:lnTo>
                            <a:lnTo>
                              <a:pt x="61" y="34"/>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nvGrpSpPr>
                  <p:cNvPr id="2065" name=""/>
                  <p:cNvGrpSpPr/>
                  <p:nvPr/>
                </p:nvGrpSpPr>
                <p:grpSpPr>
                  <a:xfrm>
                    <a:off x="4744800" y="2249280"/>
                    <a:ext cx="198360" cy="241560"/>
                    <a:chOff x="4744800" y="2249280"/>
                    <a:chExt cx="198360" cy="241560"/>
                  </a:xfrm>
                </p:grpSpPr>
                <p:sp>
                  <p:nvSpPr>
                    <p:cNvPr id="2066" name=""/>
                    <p:cNvSpPr/>
                    <p:nvPr/>
                  </p:nvSpPr>
                  <p:spPr>
                    <a:xfrm>
                      <a:off x="4744800" y="2249280"/>
                      <a:ext cx="198360" cy="241560"/>
                    </a:xfrm>
                    <a:custGeom>
                      <a:avLst/>
                      <a:gdLst/>
                      <a:ahLst/>
                      <a:rect l="l" t="t" r="r" b="b"/>
                      <a:pathLst>
                        <a:path w="125" h="152">
                          <a:moveTo>
                            <a:pt x="68" y="22"/>
                          </a:moveTo>
                          <a:lnTo>
                            <a:pt x="46" y="20"/>
                          </a:lnTo>
                          <a:lnTo>
                            <a:pt x="32" y="17"/>
                          </a:lnTo>
                          <a:lnTo>
                            <a:pt x="27" y="12"/>
                          </a:lnTo>
                          <a:lnTo>
                            <a:pt x="27" y="7"/>
                          </a:lnTo>
                          <a:lnTo>
                            <a:pt x="24" y="3"/>
                          </a:lnTo>
                          <a:lnTo>
                            <a:pt x="12" y="0"/>
                          </a:lnTo>
                          <a:lnTo>
                            <a:pt x="0" y="1"/>
                          </a:lnTo>
                          <a:lnTo>
                            <a:pt x="14" y="118"/>
                          </a:lnTo>
                          <a:lnTo>
                            <a:pt x="24" y="128"/>
                          </a:lnTo>
                          <a:lnTo>
                            <a:pt x="37" y="139"/>
                          </a:lnTo>
                          <a:lnTo>
                            <a:pt x="55" y="147"/>
                          </a:lnTo>
                          <a:lnTo>
                            <a:pt x="76" y="150"/>
                          </a:lnTo>
                          <a:lnTo>
                            <a:pt x="103" y="151"/>
                          </a:lnTo>
                          <a:lnTo>
                            <a:pt x="120" y="149"/>
                          </a:lnTo>
                          <a:lnTo>
                            <a:pt x="124" y="141"/>
                          </a:lnTo>
                          <a:lnTo>
                            <a:pt x="122" y="130"/>
                          </a:lnTo>
                          <a:lnTo>
                            <a:pt x="110" y="97"/>
                          </a:lnTo>
                          <a:lnTo>
                            <a:pt x="100" y="65"/>
                          </a:lnTo>
                          <a:lnTo>
                            <a:pt x="95" y="41"/>
                          </a:lnTo>
                          <a:lnTo>
                            <a:pt x="95" y="34"/>
                          </a:lnTo>
                          <a:lnTo>
                            <a:pt x="90" y="25"/>
                          </a:lnTo>
                          <a:lnTo>
                            <a:pt x="82" y="22"/>
                          </a:lnTo>
                          <a:lnTo>
                            <a:pt x="68" y="22"/>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
                    <p:cNvSpPr/>
                    <p:nvPr/>
                  </p:nvSpPr>
                  <p:spPr>
                    <a:xfrm>
                      <a:off x="4748040" y="2262240"/>
                      <a:ext cx="171360" cy="222120"/>
                    </a:xfrm>
                    <a:custGeom>
                      <a:avLst/>
                      <a:gdLst/>
                      <a:ahLst/>
                      <a:rect l="l" t="t" r="r" b="b"/>
                      <a:pathLst>
                        <a:path w="108" h="140">
                          <a:moveTo>
                            <a:pt x="70" y="28"/>
                          </a:moveTo>
                          <a:lnTo>
                            <a:pt x="50" y="27"/>
                          </a:lnTo>
                          <a:lnTo>
                            <a:pt x="29" y="23"/>
                          </a:lnTo>
                          <a:lnTo>
                            <a:pt x="17" y="17"/>
                          </a:lnTo>
                          <a:lnTo>
                            <a:pt x="10" y="12"/>
                          </a:lnTo>
                          <a:lnTo>
                            <a:pt x="0" y="0"/>
                          </a:lnTo>
                          <a:lnTo>
                            <a:pt x="14" y="107"/>
                          </a:lnTo>
                          <a:lnTo>
                            <a:pt x="23" y="117"/>
                          </a:lnTo>
                          <a:lnTo>
                            <a:pt x="33" y="125"/>
                          </a:lnTo>
                          <a:lnTo>
                            <a:pt x="46" y="132"/>
                          </a:lnTo>
                          <a:lnTo>
                            <a:pt x="56" y="135"/>
                          </a:lnTo>
                          <a:lnTo>
                            <a:pt x="70" y="137"/>
                          </a:lnTo>
                          <a:lnTo>
                            <a:pt x="83" y="139"/>
                          </a:lnTo>
                          <a:lnTo>
                            <a:pt x="97" y="139"/>
                          </a:lnTo>
                          <a:lnTo>
                            <a:pt x="103" y="137"/>
                          </a:lnTo>
                          <a:lnTo>
                            <a:pt x="107" y="132"/>
                          </a:lnTo>
                          <a:lnTo>
                            <a:pt x="105" y="123"/>
                          </a:lnTo>
                          <a:lnTo>
                            <a:pt x="96" y="105"/>
                          </a:lnTo>
                          <a:lnTo>
                            <a:pt x="81" y="42"/>
                          </a:lnTo>
                          <a:lnTo>
                            <a:pt x="78" y="33"/>
                          </a:lnTo>
                          <a:lnTo>
                            <a:pt x="70" y="28"/>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68" name=""/>
              <p:cNvGrpSpPr/>
              <p:nvPr/>
            </p:nvGrpSpPr>
            <p:grpSpPr>
              <a:xfrm>
                <a:off x="806400" y="1623960"/>
                <a:ext cx="807840" cy="801720"/>
                <a:chOff x="806400" y="1623960"/>
                <a:chExt cx="807840" cy="801720"/>
              </a:xfrm>
            </p:grpSpPr>
            <p:sp>
              <p:nvSpPr>
                <p:cNvPr id="2069" name=""/>
                <p:cNvSpPr/>
                <p:nvPr/>
              </p:nvSpPr>
              <p:spPr>
                <a:xfrm>
                  <a:off x="806400" y="1623960"/>
                  <a:ext cx="807840" cy="801720"/>
                </a:xfrm>
                <a:custGeom>
                  <a:avLst/>
                  <a:gdLst/>
                  <a:ahLst/>
                  <a:rect l="l" t="t" r="r" b="b"/>
                  <a:pathLst>
                    <a:path w="509" h="505">
                      <a:moveTo>
                        <a:pt x="334" y="504"/>
                      </a:moveTo>
                      <a:lnTo>
                        <a:pt x="334" y="458"/>
                      </a:lnTo>
                      <a:lnTo>
                        <a:pt x="336" y="447"/>
                      </a:lnTo>
                      <a:lnTo>
                        <a:pt x="339" y="436"/>
                      </a:lnTo>
                      <a:lnTo>
                        <a:pt x="346" y="428"/>
                      </a:lnTo>
                      <a:lnTo>
                        <a:pt x="358" y="424"/>
                      </a:lnTo>
                      <a:lnTo>
                        <a:pt x="395" y="416"/>
                      </a:lnTo>
                      <a:lnTo>
                        <a:pt x="417" y="412"/>
                      </a:lnTo>
                      <a:lnTo>
                        <a:pt x="435" y="406"/>
                      </a:lnTo>
                      <a:lnTo>
                        <a:pt x="448" y="401"/>
                      </a:lnTo>
                      <a:lnTo>
                        <a:pt x="453" y="396"/>
                      </a:lnTo>
                      <a:lnTo>
                        <a:pt x="457" y="388"/>
                      </a:lnTo>
                      <a:lnTo>
                        <a:pt x="457" y="375"/>
                      </a:lnTo>
                      <a:lnTo>
                        <a:pt x="457" y="359"/>
                      </a:lnTo>
                      <a:lnTo>
                        <a:pt x="455" y="337"/>
                      </a:lnTo>
                      <a:lnTo>
                        <a:pt x="455" y="319"/>
                      </a:lnTo>
                      <a:lnTo>
                        <a:pt x="457" y="301"/>
                      </a:lnTo>
                      <a:lnTo>
                        <a:pt x="463" y="292"/>
                      </a:lnTo>
                      <a:lnTo>
                        <a:pt x="470" y="284"/>
                      </a:lnTo>
                      <a:lnTo>
                        <a:pt x="483" y="279"/>
                      </a:lnTo>
                      <a:lnTo>
                        <a:pt x="499" y="273"/>
                      </a:lnTo>
                      <a:lnTo>
                        <a:pt x="505" y="269"/>
                      </a:lnTo>
                      <a:lnTo>
                        <a:pt x="508" y="264"/>
                      </a:lnTo>
                      <a:lnTo>
                        <a:pt x="508" y="258"/>
                      </a:lnTo>
                      <a:lnTo>
                        <a:pt x="502" y="250"/>
                      </a:lnTo>
                      <a:lnTo>
                        <a:pt x="497" y="244"/>
                      </a:lnTo>
                      <a:lnTo>
                        <a:pt x="456" y="197"/>
                      </a:lnTo>
                      <a:lnTo>
                        <a:pt x="452" y="193"/>
                      </a:lnTo>
                      <a:lnTo>
                        <a:pt x="454" y="187"/>
                      </a:lnTo>
                      <a:lnTo>
                        <a:pt x="459" y="180"/>
                      </a:lnTo>
                      <a:lnTo>
                        <a:pt x="468" y="159"/>
                      </a:lnTo>
                      <a:lnTo>
                        <a:pt x="470" y="147"/>
                      </a:lnTo>
                      <a:lnTo>
                        <a:pt x="470" y="128"/>
                      </a:lnTo>
                      <a:lnTo>
                        <a:pt x="460" y="100"/>
                      </a:lnTo>
                      <a:lnTo>
                        <a:pt x="451" y="79"/>
                      </a:lnTo>
                      <a:lnTo>
                        <a:pt x="435" y="53"/>
                      </a:lnTo>
                      <a:lnTo>
                        <a:pt x="419" y="37"/>
                      </a:lnTo>
                      <a:lnTo>
                        <a:pt x="403" y="22"/>
                      </a:lnTo>
                      <a:lnTo>
                        <a:pt x="379" y="11"/>
                      </a:lnTo>
                      <a:lnTo>
                        <a:pt x="344" y="3"/>
                      </a:lnTo>
                      <a:lnTo>
                        <a:pt x="310" y="1"/>
                      </a:lnTo>
                      <a:lnTo>
                        <a:pt x="276" y="0"/>
                      </a:lnTo>
                      <a:lnTo>
                        <a:pt x="242" y="1"/>
                      </a:lnTo>
                      <a:lnTo>
                        <a:pt x="214" y="4"/>
                      </a:lnTo>
                      <a:lnTo>
                        <a:pt x="188" y="9"/>
                      </a:lnTo>
                      <a:lnTo>
                        <a:pt x="158" y="20"/>
                      </a:lnTo>
                      <a:lnTo>
                        <a:pt x="129" y="34"/>
                      </a:lnTo>
                      <a:lnTo>
                        <a:pt x="92" y="56"/>
                      </a:lnTo>
                      <a:lnTo>
                        <a:pt x="75" y="69"/>
                      </a:lnTo>
                      <a:lnTo>
                        <a:pt x="61" y="82"/>
                      </a:lnTo>
                      <a:lnTo>
                        <a:pt x="43" y="100"/>
                      </a:lnTo>
                      <a:lnTo>
                        <a:pt x="27" y="121"/>
                      </a:lnTo>
                      <a:lnTo>
                        <a:pt x="12" y="149"/>
                      </a:lnTo>
                      <a:lnTo>
                        <a:pt x="3" y="173"/>
                      </a:lnTo>
                      <a:lnTo>
                        <a:pt x="0" y="199"/>
                      </a:lnTo>
                      <a:lnTo>
                        <a:pt x="1" y="219"/>
                      </a:lnTo>
                      <a:lnTo>
                        <a:pt x="6" y="239"/>
                      </a:lnTo>
                      <a:lnTo>
                        <a:pt x="16" y="260"/>
                      </a:lnTo>
                      <a:lnTo>
                        <a:pt x="44" y="300"/>
                      </a:lnTo>
                      <a:lnTo>
                        <a:pt x="81" y="350"/>
                      </a:lnTo>
                      <a:lnTo>
                        <a:pt x="97" y="375"/>
                      </a:lnTo>
                      <a:lnTo>
                        <a:pt x="102" y="390"/>
                      </a:lnTo>
                      <a:lnTo>
                        <a:pt x="106" y="404"/>
                      </a:lnTo>
                      <a:lnTo>
                        <a:pt x="108" y="416"/>
                      </a:lnTo>
                      <a:lnTo>
                        <a:pt x="109" y="429"/>
                      </a:lnTo>
                      <a:lnTo>
                        <a:pt x="110" y="453"/>
                      </a:lnTo>
                      <a:lnTo>
                        <a:pt x="106" y="504"/>
                      </a:lnTo>
                      <a:lnTo>
                        <a:pt x="334" y="50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0" name=""/>
                <p:cNvGrpSpPr/>
                <p:nvPr/>
              </p:nvGrpSpPr>
              <p:grpSpPr>
                <a:xfrm>
                  <a:off x="919080" y="1711080"/>
                  <a:ext cx="495000" cy="316080"/>
                  <a:chOff x="919080" y="1711080"/>
                  <a:chExt cx="495000" cy="316080"/>
                </a:xfrm>
              </p:grpSpPr>
              <p:grpSp>
                <p:nvGrpSpPr>
                  <p:cNvPr id="2071" name=""/>
                  <p:cNvGrpSpPr/>
                  <p:nvPr/>
                </p:nvGrpSpPr>
                <p:grpSpPr>
                  <a:xfrm>
                    <a:off x="1153800" y="1711080"/>
                    <a:ext cx="260280" cy="238320"/>
                    <a:chOff x="1153800" y="1711080"/>
                    <a:chExt cx="260280" cy="238320"/>
                  </a:xfrm>
                </p:grpSpPr>
                <p:sp>
                  <p:nvSpPr>
                    <p:cNvPr id="2072" name=""/>
                    <p:cNvSpPr/>
                    <p:nvPr/>
                  </p:nvSpPr>
                  <p:spPr>
                    <a:xfrm>
                      <a:off x="1153800" y="1711080"/>
                      <a:ext cx="260280" cy="238320"/>
                    </a:xfrm>
                    <a:custGeom>
                      <a:avLst/>
                      <a:gdLst/>
                      <a:ahLst/>
                      <a:rect l="l" t="t" r="r" b="b"/>
                      <a:pathLst>
                        <a:path w="164" h="150">
                          <a:moveTo>
                            <a:pt x="81" y="0"/>
                          </a:moveTo>
                          <a:lnTo>
                            <a:pt x="89" y="0"/>
                          </a:lnTo>
                          <a:lnTo>
                            <a:pt x="98" y="1"/>
                          </a:lnTo>
                          <a:lnTo>
                            <a:pt x="106" y="3"/>
                          </a:lnTo>
                          <a:lnTo>
                            <a:pt x="107" y="15"/>
                          </a:lnTo>
                          <a:lnTo>
                            <a:pt x="115" y="19"/>
                          </a:lnTo>
                          <a:lnTo>
                            <a:pt x="123" y="23"/>
                          </a:lnTo>
                          <a:lnTo>
                            <a:pt x="131" y="29"/>
                          </a:lnTo>
                          <a:lnTo>
                            <a:pt x="144" y="25"/>
                          </a:lnTo>
                          <a:lnTo>
                            <a:pt x="149" y="30"/>
                          </a:lnTo>
                          <a:lnTo>
                            <a:pt x="153" y="37"/>
                          </a:lnTo>
                          <a:lnTo>
                            <a:pt x="157" y="42"/>
                          </a:lnTo>
                          <a:lnTo>
                            <a:pt x="148" y="53"/>
                          </a:lnTo>
                          <a:lnTo>
                            <a:pt x="152" y="63"/>
                          </a:lnTo>
                          <a:lnTo>
                            <a:pt x="153" y="71"/>
                          </a:lnTo>
                          <a:lnTo>
                            <a:pt x="153" y="81"/>
                          </a:lnTo>
                          <a:lnTo>
                            <a:pt x="163" y="86"/>
                          </a:lnTo>
                          <a:lnTo>
                            <a:pt x="162" y="94"/>
                          </a:lnTo>
                          <a:lnTo>
                            <a:pt x="160" y="101"/>
                          </a:lnTo>
                          <a:lnTo>
                            <a:pt x="157" y="110"/>
                          </a:lnTo>
                          <a:lnTo>
                            <a:pt x="143" y="109"/>
                          </a:lnTo>
                          <a:lnTo>
                            <a:pt x="137" y="115"/>
                          </a:lnTo>
                          <a:lnTo>
                            <a:pt x="130" y="122"/>
                          </a:lnTo>
                          <a:lnTo>
                            <a:pt x="121" y="128"/>
                          </a:lnTo>
                          <a:lnTo>
                            <a:pt x="123" y="140"/>
                          </a:lnTo>
                          <a:lnTo>
                            <a:pt x="116" y="144"/>
                          </a:lnTo>
                          <a:lnTo>
                            <a:pt x="107" y="147"/>
                          </a:lnTo>
                          <a:lnTo>
                            <a:pt x="96" y="149"/>
                          </a:lnTo>
                          <a:lnTo>
                            <a:pt x="89" y="140"/>
                          </a:lnTo>
                          <a:lnTo>
                            <a:pt x="78" y="140"/>
                          </a:lnTo>
                          <a:lnTo>
                            <a:pt x="68" y="138"/>
                          </a:lnTo>
                          <a:lnTo>
                            <a:pt x="58" y="136"/>
                          </a:lnTo>
                          <a:lnTo>
                            <a:pt x="48" y="144"/>
                          </a:lnTo>
                          <a:lnTo>
                            <a:pt x="40" y="140"/>
                          </a:lnTo>
                          <a:lnTo>
                            <a:pt x="33" y="136"/>
                          </a:lnTo>
                          <a:lnTo>
                            <a:pt x="27" y="132"/>
                          </a:lnTo>
                          <a:lnTo>
                            <a:pt x="32" y="119"/>
                          </a:lnTo>
                          <a:lnTo>
                            <a:pt x="25" y="113"/>
                          </a:lnTo>
                          <a:lnTo>
                            <a:pt x="19" y="104"/>
                          </a:lnTo>
                          <a:lnTo>
                            <a:pt x="15" y="95"/>
                          </a:lnTo>
                          <a:lnTo>
                            <a:pt x="2" y="94"/>
                          </a:lnTo>
                          <a:lnTo>
                            <a:pt x="0" y="85"/>
                          </a:lnTo>
                          <a:lnTo>
                            <a:pt x="0" y="79"/>
                          </a:lnTo>
                          <a:lnTo>
                            <a:pt x="0" y="72"/>
                          </a:lnTo>
                          <a:lnTo>
                            <a:pt x="13" y="68"/>
                          </a:lnTo>
                          <a:lnTo>
                            <a:pt x="15" y="58"/>
                          </a:lnTo>
                          <a:lnTo>
                            <a:pt x="18" y="49"/>
                          </a:lnTo>
                          <a:lnTo>
                            <a:pt x="23" y="40"/>
                          </a:lnTo>
                          <a:lnTo>
                            <a:pt x="16" y="29"/>
                          </a:lnTo>
                          <a:lnTo>
                            <a:pt x="20" y="24"/>
                          </a:lnTo>
                          <a:lnTo>
                            <a:pt x="26" y="19"/>
                          </a:lnTo>
                          <a:lnTo>
                            <a:pt x="33" y="14"/>
                          </a:lnTo>
                          <a:lnTo>
                            <a:pt x="48" y="20"/>
                          </a:lnTo>
                          <a:lnTo>
                            <a:pt x="56" y="16"/>
                          </a:lnTo>
                          <a:lnTo>
                            <a:pt x="64" y="13"/>
                          </a:lnTo>
                          <a:lnTo>
                            <a:pt x="75" y="11"/>
                          </a:lnTo>
                          <a:lnTo>
                            <a:pt x="8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1238040" y="1789200"/>
                      <a:ext cx="92160" cy="8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grpSp>
              <p:grpSp>
                <p:nvGrpSpPr>
                  <p:cNvPr id="2074" name=""/>
                  <p:cNvGrpSpPr/>
                  <p:nvPr/>
                </p:nvGrpSpPr>
                <p:grpSpPr>
                  <a:xfrm>
                    <a:off x="919080" y="1789200"/>
                    <a:ext cx="260280" cy="237960"/>
                    <a:chOff x="919080" y="1789200"/>
                    <a:chExt cx="260280" cy="237960"/>
                  </a:xfrm>
                </p:grpSpPr>
                <p:sp>
                  <p:nvSpPr>
                    <p:cNvPr id="2075" name=""/>
                    <p:cNvSpPr/>
                    <p:nvPr/>
                  </p:nvSpPr>
                  <p:spPr>
                    <a:xfrm>
                      <a:off x="919080" y="1789200"/>
                      <a:ext cx="260280" cy="237960"/>
                    </a:xfrm>
                    <a:custGeom>
                      <a:avLst/>
                      <a:gdLst/>
                      <a:ahLst/>
                      <a:rect l="l" t="t" r="r" b="b"/>
                      <a:pathLst>
                        <a:path w="164" h="150">
                          <a:moveTo>
                            <a:pt x="83" y="149"/>
                          </a:moveTo>
                          <a:lnTo>
                            <a:pt x="74" y="149"/>
                          </a:lnTo>
                          <a:lnTo>
                            <a:pt x="65" y="148"/>
                          </a:lnTo>
                          <a:lnTo>
                            <a:pt x="57" y="145"/>
                          </a:lnTo>
                          <a:lnTo>
                            <a:pt x="56" y="133"/>
                          </a:lnTo>
                          <a:lnTo>
                            <a:pt x="48" y="130"/>
                          </a:lnTo>
                          <a:lnTo>
                            <a:pt x="40" y="125"/>
                          </a:lnTo>
                          <a:lnTo>
                            <a:pt x="32" y="120"/>
                          </a:lnTo>
                          <a:lnTo>
                            <a:pt x="19" y="123"/>
                          </a:lnTo>
                          <a:lnTo>
                            <a:pt x="14" y="119"/>
                          </a:lnTo>
                          <a:lnTo>
                            <a:pt x="10" y="113"/>
                          </a:lnTo>
                          <a:lnTo>
                            <a:pt x="7" y="106"/>
                          </a:lnTo>
                          <a:lnTo>
                            <a:pt x="15" y="95"/>
                          </a:lnTo>
                          <a:lnTo>
                            <a:pt x="11" y="85"/>
                          </a:lnTo>
                          <a:lnTo>
                            <a:pt x="11" y="78"/>
                          </a:lnTo>
                          <a:lnTo>
                            <a:pt x="11" y="67"/>
                          </a:lnTo>
                          <a:lnTo>
                            <a:pt x="0" y="63"/>
                          </a:lnTo>
                          <a:lnTo>
                            <a:pt x="1" y="55"/>
                          </a:lnTo>
                          <a:lnTo>
                            <a:pt x="3" y="47"/>
                          </a:lnTo>
                          <a:lnTo>
                            <a:pt x="8" y="40"/>
                          </a:lnTo>
                          <a:lnTo>
                            <a:pt x="19" y="41"/>
                          </a:lnTo>
                          <a:lnTo>
                            <a:pt x="26" y="33"/>
                          </a:lnTo>
                          <a:lnTo>
                            <a:pt x="33" y="26"/>
                          </a:lnTo>
                          <a:lnTo>
                            <a:pt x="42" y="20"/>
                          </a:lnTo>
                          <a:lnTo>
                            <a:pt x="40" y="8"/>
                          </a:lnTo>
                          <a:lnTo>
                            <a:pt x="48" y="5"/>
                          </a:lnTo>
                          <a:lnTo>
                            <a:pt x="56" y="2"/>
                          </a:lnTo>
                          <a:lnTo>
                            <a:pt x="67" y="0"/>
                          </a:lnTo>
                          <a:lnTo>
                            <a:pt x="74" y="9"/>
                          </a:lnTo>
                          <a:lnTo>
                            <a:pt x="85" y="8"/>
                          </a:lnTo>
                          <a:lnTo>
                            <a:pt x="95" y="10"/>
                          </a:lnTo>
                          <a:lnTo>
                            <a:pt x="105" y="12"/>
                          </a:lnTo>
                          <a:lnTo>
                            <a:pt x="116" y="5"/>
                          </a:lnTo>
                          <a:lnTo>
                            <a:pt x="123" y="8"/>
                          </a:lnTo>
                          <a:lnTo>
                            <a:pt x="130" y="12"/>
                          </a:lnTo>
                          <a:lnTo>
                            <a:pt x="136" y="16"/>
                          </a:lnTo>
                          <a:lnTo>
                            <a:pt x="131" y="29"/>
                          </a:lnTo>
                          <a:lnTo>
                            <a:pt x="138" y="36"/>
                          </a:lnTo>
                          <a:lnTo>
                            <a:pt x="144" y="45"/>
                          </a:lnTo>
                          <a:lnTo>
                            <a:pt x="148" y="53"/>
                          </a:lnTo>
                          <a:lnTo>
                            <a:pt x="161" y="55"/>
                          </a:lnTo>
                          <a:lnTo>
                            <a:pt x="163" y="63"/>
                          </a:lnTo>
                          <a:lnTo>
                            <a:pt x="163" y="69"/>
                          </a:lnTo>
                          <a:lnTo>
                            <a:pt x="163" y="77"/>
                          </a:lnTo>
                          <a:lnTo>
                            <a:pt x="150" y="81"/>
                          </a:lnTo>
                          <a:lnTo>
                            <a:pt x="148" y="91"/>
                          </a:lnTo>
                          <a:lnTo>
                            <a:pt x="145" y="99"/>
                          </a:lnTo>
                          <a:lnTo>
                            <a:pt x="140" y="108"/>
                          </a:lnTo>
                          <a:lnTo>
                            <a:pt x="147" y="120"/>
                          </a:lnTo>
                          <a:lnTo>
                            <a:pt x="143" y="124"/>
                          </a:lnTo>
                          <a:lnTo>
                            <a:pt x="137" y="129"/>
                          </a:lnTo>
                          <a:lnTo>
                            <a:pt x="130" y="134"/>
                          </a:lnTo>
                          <a:lnTo>
                            <a:pt x="116" y="129"/>
                          </a:lnTo>
                          <a:lnTo>
                            <a:pt x="107" y="132"/>
                          </a:lnTo>
                          <a:lnTo>
                            <a:pt x="99" y="135"/>
                          </a:lnTo>
                          <a:lnTo>
                            <a:pt x="88" y="137"/>
                          </a:lnTo>
                          <a:lnTo>
                            <a:pt x="83" y="149"/>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1002960" y="1866960"/>
                      <a:ext cx="92160" cy="82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grpSp>
          <p:grpSp>
            <p:nvGrpSpPr>
              <p:cNvPr id="2077" name=""/>
              <p:cNvGrpSpPr/>
              <p:nvPr/>
            </p:nvGrpSpPr>
            <p:grpSpPr>
              <a:xfrm>
                <a:off x="6411960" y="1569960"/>
                <a:ext cx="1254240" cy="809640"/>
                <a:chOff x="6411960" y="1569960"/>
                <a:chExt cx="1254240" cy="809640"/>
              </a:xfrm>
            </p:grpSpPr>
            <p:sp>
              <p:nvSpPr>
                <p:cNvPr id="2078" name=""/>
                <p:cNvSpPr/>
                <p:nvPr/>
              </p:nvSpPr>
              <p:spPr>
                <a:xfrm>
                  <a:off x="6661440" y="2254320"/>
                  <a:ext cx="207720" cy="1029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9" name=""/>
                <p:cNvGrpSpPr/>
                <p:nvPr/>
              </p:nvGrpSpPr>
              <p:grpSpPr>
                <a:xfrm>
                  <a:off x="6656400" y="2249280"/>
                  <a:ext cx="222480" cy="120600"/>
                  <a:chOff x="6656400" y="2249280"/>
                  <a:chExt cx="222480" cy="120600"/>
                </a:xfrm>
              </p:grpSpPr>
              <p:sp>
                <p:nvSpPr>
                  <p:cNvPr id="2080" name=""/>
                  <p:cNvSpPr/>
                  <p:nvPr/>
                </p:nvSpPr>
                <p:spPr>
                  <a:xfrm>
                    <a:off x="6656400" y="2249280"/>
                    <a:ext cx="209520" cy="1047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6661440" y="2254320"/>
                    <a:ext cx="217440" cy="1155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82" name=""/>
                <p:cNvSpPr/>
                <p:nvPr/>
              </p:nvSpPr>
              <p:spPr>
                <a:xfrm>
                  <a:off x="6729480" y="2211120"/>
                  <a:ext cx="219240" cy="146160"/>
                </a:xfrm>
                <a:custGeom>
                  <a:avLst/>
                  <a:gdLst/>
                  <a:ahLst/>
                  <a:rect l="l" t="t" r="r" b="b"/>
                  <a:pathLst>
                    <a:path w="138" h="92">
                      <a:moveTo>
                        <a:pt x="137" y="46"/>
                      </a:moveTo>
                      <a:lnTo>
                        <a:pt x="136" y="37"/>
                      </a:lnTo>
                      <a:lnTo>
                        <a:pt x="132" y="29"/>
                      </a:lnTo>
                      <a:lnTo>
                        <a:pt x="126" y="21"/>
                      </a:lnTo>
                      <a:lnTo>
                        <a:pt x="117" y="13"/>
                      </a:lnTo>
                      <a:lnTo>
                        <a:pt x="108" y="7"/>
                      </a:lnTo>
                      <a:lnTo>
                        <a:pt x="97" y="4"/>
                      </a:lnTo>
                      <a:lnTo>
                        <a:pt x="82" y="2"/>
                      </a:lnTo>
                      <a:lnTo>
                        <a:pt x="70" y="0"/>
                      </a:lnTo>
                      <a:lnTo>
                        <a:pt x="55" y="2"/>
                      </a:lnTo>
                      <a:lnTo>
                        <a:pt x="42" y="4"/>
                      </a:lnTo>
                      <a:lnTo>
                        <a:pt x="30" y="7"/>
                      </a:lnTo>
                      <a:lnTo>
                        <a:pt x="22" y="13"/>
                      </a:lnTo>
                      <a:lnTo>
                        <a:pt x="12" y="21"/>
                      </a:lnTo>
                      <a:lnTo>
                        <a:pt x="6" y="29"/>
                      </a:lnTo>
                      <a:lnTo>
                        <a:pt x="2" y="37"/>
                      </a:lnTo>
                      <a:lnTo>
                        <a:pt x="0" y="46"/>
                      </a:lnTo>
                      <a:lnTo>
                        <a:pt x="2" y="55"/>
                      </a:lnTo>
                      <a:lnTo>
                        <a:pt x="6" y="64"/>
                      </a:lnTo>
                      <a:lnTo>
                        <a:pt x="12" y="72"/>
                      </a:lnTo>
                      <a:lnTo>
                        <a:pt x="22" y="77"/>
                      </a:lnTo>
                      <a:lnTo>
                        <a:pt x="30" y="83"/>
                      </a:lnTo>
                      <a:lnTo>
                        <a:pt x="42" y="88"/>
                      </a:lnTo>
                      <a:lnTo>
                        <a:pt x="55" y="91"/>
                      </a:lnTo>
                      <a:lnTo>
                        <a:pt x="70" y="91"/>
                      </a:lnTo>
                      <a:lnTo>
                        <a:pt x="82" y="91"/>
                      </a:lnTo>
                      <a:lnTo>
                        <a:pt x="97" y="88"/>
                      </a:lnTo>
                      <a:lnTo>
                        <a:pt x="108" y="83"/>
                      </a:lnTo>
                      <a:lnTo>
                        <a:pt x="117" y="77"/>
                      </a:lnTo>
                      <a:lnTo>
                        <a:pt x="126" y="72"/>
                      </a:lnTo>
                      <a:lnTo>
                        <a:pt x="132" y="64"/>
                      </a:lnTo>
                      <a:lnTo>
                        <a:pt x="136" y="55"/>
                      </a:lnTo>
                      <a:lnTo>
                        <a:pt x="137" y="4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3" name=""/>
                <p:cNvGrpSpPr/>
                <p:nvPr/>
              </p:nvGrpSpPr>
              <p:grpSpPr>
                <a:xfrm>
                  <a:off x="6729480" y="2211120"/>
                  <a:ext cx="230400" cy="158760"/>
                  <a:chOff x="6729480" y="2211120"/>
                  <a:chExt cx="230400" cy="158760"/>
                </a:xfrm>
              </p:grpSpPr>
              <p:sp>
                <p:nvSpPr>
                  <p:cNvPr id="2084" name=""/>
                  <p:cNvSpPr/>
                  <p:nvPr/>
                </p:nvSpPr>
                <p:spPr>
                  <a:xfrm>
                    <a:off x="6729480" y="2211120"/>
                    <a:ext cx="212760" cy="140040"/>
                  </a:xfrm>
                  <a:custGeom>
                    <a:avLst/>
                    <a:gdLst/>
                    <a:ahLst/>
                    <a:rect l="l" t="t" r="r" b="b"/>
                    <a:pathLst>
                      <a:path w="134" h="88">
                        <a:moveTo>
                          <a:pt x="133" y="44"/>
                        </a:moveTo>
                        <a:lnTo>
                          <a:pt x="133" y="44"/>
                        </a:lnTo>
                        <a:lnTo>
                          <a:pt x="132" y="34"/>
                        </a:lnTo>
                        <a:lnTo>
                          <a:pt x="129" y="26"/>
                        </a:lnTo>
                        <a:lnTo>
                          <a:pt x="122" y="21"/>
                        </a:lnTo>
                        <a:lnTo>
                          <a:pt x="113" y="12"/>
                        </a:lnTo>
                        <a:lnTo>
                          <a:pt x="104" y="7"/>
                        </a:lnTo>
                        <a:lnTo>
                          <a:pt x="94" y="4"/>
                        </a:lnTo>
                        <a:lnTo>
                          <a:pt x="80" y="1"/>
                        </a:lnTo>
                        <a:lnTo>
                          <a:pt x="67" y="0"/>
                        </a:lnTo>
                        <a:lnTo>
                          <a:pt x="54" y="1"/>
                        </a:lnTo>
                        <a:lnTo>
                          <a:pt x="41" y="4"/>
                        </a:lnTo>
                        <a:lnTo>
                          <a:pt x="29" y="7"/>
                        </a:lnTo>
                        <a:lnTo>
                          <a:pt x="21" y="12"/>
                        </a:lnTo>
                        <a:lnTo>
                          <a:pt x="11" y="21"/>
                        </a:lnTo>
                        <a:lnTo>
                          <a:pt x="7" y="26"/>
                        </a:lnTo>
                        <a:lnTo>
                          <a:pt x="3" y="34"/>
                        </a:lnTo>
                        <a:lnTo>
                          <a:pt x="0" y="44"/>
                        </a:lnTo>
                        <a:lnTo>
                          <a:pt x="3" y="52"/>
                        </a:lnTo>
                        <a:lnTo>
                          <a:pt x="7" y="59"/>
                        </a:lnTo>
                        <a:lnTo>
                          <a:pt x="11" y="67"/>
                        </a:lnTo>
                        <a:lnTo>
                          <a:pt x="21" y="75"/>
                        </a:lnTo>
                        <a:lnTo>
                          <a:pt x="29" y="80"/>
                        </a:lnTo>
                        <a:lnTo>
                          <a:pt x="41" y="84"/>
                        </a:lnTo>
                        <a:lnTo>
                          <a:pt x="54" y="87"/>
                        </a:lnTo>
                        <a:lnTo>
                          <a:pt x="67" y="87"/>
                        </a:lnTo>
                        <a:lnTo>
                          <a:pt x="80" y="87"/>
                        </a:lnTo>
                        <a:lnTo>
                          <a:pt x="94" y="84"/>
                        </a:lnTo>
                        <a:lnTo>
                          <a:pt x="104" y="80"/>
                        </a:lnTo>
                        <a:lnTo>
                          <a:pt x="113" y="75"/>
                        </a:lnTo>
                        <a:lnTo>
                          <a:pt x="122" y="67"/>
                        </a:lnTo>
                        <a:lnTo>
                          <a:pt x="129" y="59"/>
                        </a:lnTo>
                        <a:lnTo>
                          <a:pt x="132" y="52"/>
                        </a:lnTo>
                        <a:lnTo>
                          <a:pt x="133" y="4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6729480" y="2211120"/>
                    <a:ext cx="230400" cy="158760"/>
                  </a:xfrm>
                  <a:custGeom>
                    <a:avLst/>
                    <a:gdLst/>
                    <a:ahLst/>
                    <a:rect l="l" t="t" r="r" b="b"/>
                    <a:pathLst>
                      <a:path w="145" h="100">
                        <a:moveTo>
                          <a:pt x="144" y="50"/>
                        </a:moveTo>
                        <a:lnTo>
                          <a:pt x="144" y="50"/>
                        </a:lnTo>
                        <a:lnTo>
                          <a:pt x="142" y="40"/>
                        </a:lnTo>
                        <a:lnTo>
                          <a:pt x="138" y="31"/>
                        </a:lnTo>
                        <a:lnTo>
                          <a:pt x="132" y="23"/>
                        </a:lnTo>
                        <a:lnTo>
                          <a:pt x="122" y="13"/>
                        </a:lnTo>
                        <a:lnTo>
                          <a:pt x="113" y="7"/>
                        </a:lnTo>
                        <a:lnTo>
                          <a:pt x="101" y="4"/>
                        </a:lnTo>
                        <a:lnTo>
                          <a:pt x="86" y="2"/>
                        </a:lnTo>
                        <a:lnTo>
                          <a:pt x="73" y="0"/>
                        </a:lnTo>
                        <a:lnTo>
                          <a:pt x="58" y="2"/>
                        </a:lnTo>
                        <a:lnTo>
                          <a:pt x="44" y="4"/>
                        </a:lnTo>
                        <a:lnTo>
                          <a:pt x="31" y="7"/>
                        </a:lnTo>
                        <a:lnTo>
                          <a:pt x="23" y="13"/>
                        </a:lnTo>
                        <a:lnTo>
                          <a:pt x="12" y="23"/>
                        </a:lnTo>
                        <a:lnTo>
                          <a:pt x="7" y="31"/>
                        </a:lnTo>
                        <a:lnTo>
                          <a:pt x="3" y="40"/>
                        </a:lnTo>
                        <a:lnTo>
                          <a:pt x="0" y="50"/>
                        </a:lnTo>
                        <a:lnTo>
                          <a:pt x="3" y="60"/>
                        </a:lnTo>
                        <a:lnTo>
                          <a:pt x="7" y="69"/>
                        </a:lnTo>
                        <a:lnTo>
                          <a:pt x="12" y="77"/>
                        </a:lnTo>
                        <a:lnTo>
                          <a:pt x="23" y="85"/>
                        </a:lnTo>
                        <a:lnTo>
                          <a:pt x="31" y="91"/>
                        </a:lnTo>
                        <a:lnTo>
                          <a:pt x="44" y="96"/>
                        </a:lnTo>
                        <a:lnTo>
                          <a:pt x="58" y="99"/>
                        </a:lnTo>
                        <a:lnTo>
                          <a:pt x="73" y="99"/>
                        </a:lnTo>
                        <a:lnTo>
                          <a:pt x="86" y="99"/>
                        </a:lnTo>
                        <a:lnTo>
                          <a:pt x="101" y="96"/>
                        </a:lnTo>
                        <a:lnTo>
                          <a:pt x="113" y="91"/>
                        </a:lnTo>
                        <a:lnTo>
                          <a:pt x="122" y="85"/>
                        </a:lnTo>
                        <a:lnTo>
                          <a:pt x="132" y="77"/>
                        </a:lnTo>
                        <a:lnTo>
                          <a:pt x="138" y="69"/>
                        </a:lnTo>
                        <a:lnTo>
                          <a:pt x="142" y="60"/>
                        </a:lnTo>
                        <a:lnTo>
                          <a:pt x="144" y="5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6" name=""/>
                <p:cNvSpPr/>
                <p:nvPr/>
              </p:nvSpPr>
              <p:spPr>
                <a:xfrm>
                  <a:off x="6918480" y="2222280"/>
                  <a:ext cx="69840" cy="92160"/>
                </a:xfrm>
                <a:prstGeom prst="rect">
                  <a:avLst/>
                </a:prstGeom>
                <a:solidFill>
                  <a:srgbClr val="99cc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087" name=""/>
                <p:cNvSpPr/>
                <p:nvPr/>
              </p:nvSpPr>
              <p:spPr>
                <a:xfrm>
                  <a:off x="6778800" y="1662120"/>
                  <a:ext cx="739800" cy="5634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8" name=""/>
                <p:cNvGrpSpPr/>
                <p:nvPr/>
              </p:nvGrpSpPr>
              <p:grpSpPr>
                <a:xfrm>
                  <a:off x="6774120" y="1657440"/>
                  <a:ext cx="753840" cy="583920"/>
                  <a:chOff x="6774120" y="1657440"/>
                  <a:chExt cx="753840" cy="583920"/>
                </a:xfrm>
              </p:grpSpPr>
              <p:sp>
                <p:nvSpPr>
                  <p:cNvPr id="2089" name=""/>
                  <p:cNvSpPr/>
                  <p:nvPr/>
                </p:nvSpPr>
                <p:spPr>
                  <a:xfrm>
                    <a:off x="6774120" y="1657440"/>
                    <a:ext cx="739800" cy="56988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6778800" y="1662120"/>
                    <a:ext cx="749160" cy="5792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91" name=""/>
                <p:cNvSpPr/>
                <p:nvPr/>
              </p:nvSpPr>
              <p:spPr>
                <a:xfrm>
                  <a:off x="7270920" y="1839960"/>
                  <a:ext cx="77760" cy="2394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2" name=""/>
                <p:cNvGrpSpPr/>
                <p:nvPr/>
              </p:nvGrpSpPr>
              <p:grpSpPr>
                <a:xfrm>
                  <a:off x="7266240" y="1834920"/>
                  <a:ext cx="91800" cy="255600"/>
                  <a:chOff x="7266240" y="1834920"/>
                  <a:chExt cx="91800" cy="255600"/>
                </a:xfrm>
              </p:grpSpPr>
              <p:sp>
                <p:nvSpPr>
                  <p:cNvPr id="2093" name=""/>
                  <p:cNvSpPr/>
                  <p:nvPr/>
                </p:nvSpPr>
                <p:spPr>
                  <a:xfrm>
                    <a:off x="7266240" y="1834920"/>
                    <a:ext cx="81000" cy="2430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7269480" y="1839960"/>
                    <a:ext cx="88560" cy="2505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95" name=""/>
                <p:cNvSpPr/>
                <p:nvPr/>
              </p:nvSpPr>
              <p:spPr>
                <a:xfrm>
                  <a:off x="7229520" y="1893960"/>
                  <a:ext cx="122400" cy="34920"/>
                </a:xfrm>
                <a:prstGeom prst="rect">
                  <a:avLst/>
                </a:prstGeom>
                <a:solidFill>
                  <a:srgbClr val="99cc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nvGrpSpPr>
                <p:cNvPr id="2096" name=""/>
                <p:cNvGrpSpPr/>
                <p:nvPr/>
              </p:nvGrpSpPr>
              <p:grpSpPr>
                <a:xfrm>
                  <a:off x="7224840" y="1890720"/>
                  <a:ext cx="135000" cy="50760"/>
                  <a:chOff x="7224840" y="1890720"/>
                  <a:chExt cx="135000" cy="50760"/>
                </a:xfrm>
              </p:grpSpPr>
              <p:sp>
                <p:nvSpPr>
                  <p:cNvPr id="2097" name=""/>
                  <p:cNvSpPr/>
                  <p:nvPr/>
                </p:nvSpPr>
                <p:spPr>
                  <a:xfrm>
                    <a:off x="7224840" y="1890720"/>
                    <a:ext cx="122400" cy="38160"/>
                  </a:xfrm>
                  <a:prstGeom prst="rect">
                    <a:avLst/>
                  </a:prstGeom>
                  <a:solidFill>
                    <a:srgbClr val="99cc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98" name=""/>
                  <p:cNvSpPr/>
                  <p:nvPr/>
                </p:nvSpPr>
                <p:spPr>
                  <a:xfrm>
                    <a:off x="7229520" y="1895400"/>
                    <a:ext cx="130320" cy="46080"/>
                  </a:xfrm>
                  <a:prstGeom prst="rect">
                    <a:avLst/>
                  </a:prstGeom>
                  <a:solidFill>
                    <a:srgbClr val="99cc00"/>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2099" name=""/>
                <p:cNvSpPr/>
                <p:nvPr/>
              </p:nvSpPr>
              <p:spPr>
                <a:xfrm>
                  <a:off x="6988320" y="1574640"/>
                  <a:ext cx="98280" cy="6098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0" name=""/>
                <p:cNvGrpSpPr/>
                <p:nvPr/>
              </p:nvGrpSpPr>
              <p:grpSpPr>
                <a:xfrm>
                  <a:off x="6983640" y="1569960"/>
                  <a:ext cx="110880" cy="627120"/>
                  <a:chOff x="6983640" y="1569960"/>
                  <a:chExt cx="110880" cy="627120"/>
                </a:xfrm>
              </p:grpSpPr>
              <p:sp>
                <p:nvSpPr>
                  <p:cNvPr id="2101" name=""/>
                  <p:cNvSpPr/>
                  <p:nvPr/>
                </p:nvSpPr>
                <p:spPr>
                  <a:xfrm>
                    <a:off x="6983640" y="1569960"/>
                    <a:ext cx="98280" cy="61128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6988320" y="1574640"/>
                    <a:ext cx="106200" cy="6224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03" name=""/>
                <p:cNvSpPr/>
                <p:nvPr/>
              </p:nvSpPr>
              <p:spPr>
                <a:xfrm>
                  <a:off x="6967800" y="1717560"/>
                  <a:ext cx="71280" cy="66600"/>
                </a:xfrm>
                <a:prstGeom prst="rect">
                  <a:avLst/>
                </a:prstGeom>
                <a:solidFill>
                  <a:srgbClr val="99cc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104" name=""/>
                <p:cNvGrpSpPr/>
                <p:nvPr/>
              </p:nvGrpSpPr>
              <p:grpSpPr>
                <a:xfrm>
                  <a:off x="6962760" y="1712880"/>
                  <a:ext cx="86040" cy="82440"/>
                  <a:chOff x="6962760" y="1712880"/>
                  <a:chExt cx="86040" cy="82440"/>
                </a:xfrm>
              </p:grpSpPr>
              <p:sp>
                <p:nvSpPr>
                  <p:cNvPr id="2105" name=""/>
                  <p:cNvSpPr/>
                  <p:nvPr/>
                </p:nvSpPr>
                <p:spPr>
                  <a:xfrm>
                    <a:off x="6962760" y="1712880"/>
                    <a:ext cx="73080" cy="68040"/>
                  </a:xfrm>
                  <a:prstGeom prst="rect">
                    <a:avLst/>
                  </a:prstGeom>
                  <a:solidFill>
                    <a:srgbClr val="99cc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106" name=""/>
                  <p:cNvSpPr/>
                  <p:nvPr/>
                </p:nvSpPr>
                <p:spPr>
                  <a:xfrm>
                    <a:off x="6967800" y="1716120"/>
                    <a:ext cx="81000" cy="79200"/>
                  </a:xfrm>
                  <a:prstGeom prst="rect">
                    <a:avLst/>
                  </a:prstGeom>
                  <a:solidFill>
                    <a:srgbClr val="99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sp>
              <p:nvSpPr>
                <p:cNvPr id="2107" name=""/>
                <p:cNvSpPr/>
                <p:nvPr/>
              </p:nvSpPr>
              <p:spPr>
                <a:xfrm>
                  <a:off x="7215480" y="1908000"/>
                  <a:ext cx="1440" cy="27000"/>
                </a:xfrm>
                <a:custGeom>
                  <a:avLst/>
                  <a:gdLst/>
                  <a:ahLst/>
                  <a:rect l="l" t="t" r="r" b="b"/>
                  <a:pathLst>
                    <a:path w="1" h="17">
                      <a:moveTo>
                        <a:pt x="0" y="16"/>
                      </a:moveTo>
                      <a:lnTo>
                        <a:pt x="0" y="16"/>
                      </a:lnTo>
                      <a:lnTo>
                        <a:pt x="0" y="0"/>
                      </a:lnTo>
                      <a:lnTo>
                        <a:pt x="0" y="16"/>
                      </a:lnTo>
                    </a:path>
                  </a:pathLst>
                </a:custGeom>
                <a:solidFill>
                  <a:srgbClr val="99cc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nvGrpSpPr>
                <p:cNvPr id="2108" name=""/>
                <p:cNvGrpSpPr/>
                <p:nvPr/>
              </p:nvGrpSpPr>
              <p:grpSpPr>
                <a:xfrm>
                  <a:off x="7207560" y="1909800"/>
                  <a:ext cx="27000" cy="21960"/>
                  <a:chOff x="7207560" y="1909800"/>
                  <a:chExt cx="27000" cy="21960"/>
                </a:xfrm>
              </p:grpSpPr>
              <p:sp>
                <p:nvSpPr>
                  <p:cNvPr id="2109" name=""/>
                  <p:cNvSpPr/>
                  <p:nvPr/>
                </p:nvSpPr>
                <p:spPr>
                  <a:xfrm>
                    <a:off x="7207560" y="1909800"/>
                    <a:ext cx="21960" cy="21960"/>
                  </a:xfrm>
                  <a:prstGeom prst="rect">
                    <a:avLst/>
                  </a:prstGeom>
                  <a:solidFill>
                    <a:srgbClr val="99cc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110" name=""/>
                  <p:cNvSpPr/>
                  <p:nvPr/>
                </p:nvSpPr>
                <p:spPr>
                  <a:xfrm>
                    <a:off x="7221600" y="1912680"/>
                    <a:ext cx="12960" cy="16200"/>
                  </a:xfrm>
                  <a:prstGeom prst="rect">
                    <a:avLst/>
                  </a:prstGeom>
                  <a:solidFill>
                    <a:srgbClr val="99cc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grpSp>
              <p:nvGrpSpPr>
                <p:cNvPr id="2111" name=""/>
                <p:cNvGrpSpPr/>
                <p:nvPr/>
              </p:nvGrpSpPr>
              <p:grpSpPr>
                <a:xfrm>
                  <a:off x="7201080" y="1906560"/>
                  <a:ext cx="30240" cy="30240"/>
                  <a:chOff x="7201080" y="1906560"/>
                  <a:chExt cx="30240" cy="30240"/>
                </a:xfrm>
              </p:grpSpPr>
              <p:sp>
                <p:nvSpPr>
                  <p:cNvPr id="2112" name=""/>
                  <p:cNvSpPr/>
                  <p:nvPr/>
                </p:nvSpPr>
                <p:spPr>
                  <a:xfrm>
                    <a:off x="7201080" y="1908000"/>
                    <a:ext cx="27000" cy="27000"/>
                  </a:xfrm>
                  <a:custGeom>
                    <a:avLst/>
                    <a:gdLst/>
                    <a:ahLst/>
                    <a:rect l="l" t="t" r="r" b="b"/>
                    <a:pathLst>
                      <a:path w="17" h="17">
                        <a:moveTo>
                          <a:pt x="0" y="0"/>
                        </a:moveTo>
                        <a:lnTo>
                          <a:pt x="16" y="9"/>
                        </a:lnTo>
                        <a:lnTo>
                          <a:pt x="0" y="16"/>
                        </a:lnTo>
                        <a:lnTo>
                          <a:pt x="0" y="0"/>
                        </a:lnTo>
                      </a:path>
                    </a:pathLst>
                  </a:custGeom>
                  <a:solidFill>
                    <a:srgbClr val="99cc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3" name=""/>
                  <p:cNvSpPr/>
                  <p:nvPr/>
                </p:nvSpPr>
                <p:spPr>
                  <a:xfrm>
                    <a:off x="7204320" y="1906560"/>
                    <a:ext cx="27000" cy="30240"/>
                  </a:xfrm>
                  <a:custGeom>
                    <a:avLst/>
                    <a:gdLst/>
                    <a:ahLst/>
                    <a:rect l="l" t="t" r="r" b="b"/>
                    <a:pathLst>
                      <a:path w="17" h="19">
                        <a:moveTo>
                          <a:pt x="16" y="0"/>
                        </a:moveTo>
                        <a:lnTo>
                          <a:pt x="0" y="10"/>
                        </a:lnTo>
                        <a:lnTo>
                          <a:pt x="16" y="18"/>
                        </a:lnTo>
                      </a:path>
                    </a:pathLst>
                  </a:custGeom>
                  <a:solidFill>
                    <a:srgbClr val="99cc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114" name=""/>
                <p:cNvSpPr/>
                <p:nvPr/>
              </p:nvSpPr>
              <p:spPr>
                <a:xfrm>
                  <a:off x="6956640" y="1673280"/>
                  <a:ext cx="25200" cy="161640"/>
                </a:xfrm>
                <a:custGeom>
                  <a:avLst/>
                  <a:gdLst/>
                  <a:ahLst/>
                  <a:rect l="l" t="t" r="r" b="b"/>
                  <a:pathLst>
                    <a:path w="16" h="102">
                      <a:moveTo>
                        <a:pt x="15" y="0"/>
                      </a:moveTo>
                      <a:lnTo>
                        <a:pt x="6" y="101"/>
                      </a:lnTo>
                      <a:lnTo>
                        <a:pt x="0" y="95"/>
                      </a:lnTo>
                      <a:lnTo>
                        <a:pt x="0" y="51"/>
                      </a:lnTo>
                      <a:lnTo>
                        <a:pt x="11" y="0"/>
                      </a:lnTo>
                      <a:lnTo>
                        <a:pt x="15" y="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5" name=""/>
                <p:cNvGrpSpPr/>
                <p:nvPr/>
              </p:nvGrpSpPr>
              <p:grpSpPr>
                <a:xfrm>
                  <a:off x="6956640" y="1673280"/>
                  <a:ext cx="27000" cy="171360"/>
                  <a:chOff x="6956640" y="1673280"/>
                  <a:chExt cx="27000" cy="171360"/>
                </a:xfrm>
              </p:grpSpPr>
              <p:sp>
                <p:nvSpPr>
                  <p:cNvPr id="2116" name=""/>
                  <p:cNvSpPr/>
                  <p:nvPr/>
                </p:nvSpPr>
                <p:spPr>
                  <a:xfrm>
                    <a:off x="6956640" y="1673280"/>
                    <a:ext cx="25200" cy="152280"/>
                  </a:xfrm>
                  <a:custGeom>
                    <a:avLst/>
                    <a:gdLst/>
                    <a:ahLst/>
                    <a:rect l="l" t="t" r="r" b="b"/>
                    <a:pathLst>
                      <a:path w="16" h="96">
                        <a:moveTo>
                          <a:pt x="15" y="0"/>
                        </a:moveTo>
                        <a:lnTo>
                          <a:pt x="5" y="95"/>
                        </a:lnTo>
                        <a:lnTo>
                          <a:pt x="0" y="88"/>
                        </a:lnTo>
                        <a:lnTo>
                          <a:pt x="0" y="47"/>
                        </a:lnTo>
                        <a:lnTo>
                          <a:pt x="11" y="0"/>
                        </a:lnTo>
                        <a:lnTo>
                          <a:pt x="15" y="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6956640" y="1673280"/>
                    <a:ext cx="27000" cy="171360"/>
                  </a:xfrm>
                  <a:custGeom>
                    <a:avLst/>
                    <a:gdLst/>
                    <a:ahLst/>
                    <a:rect l="l" t="t" r="r" b="b"/>
                    <a:pathLst>
                      <a:path w="17" h="108">
                        <a:moveTo>
                          <a:pt x="16" y="0"/>
                        </a:moveTo>
                        <a:lnTo>
                          <a:pt x="5" y="107"/>
                        </a:lnTo>
                        <a:lnTo>
                          <a:pt x="0" y="99"/>
                        </a:lnTo>
                        <a:lnTo>
                          <a:pt x="0" y="53"/>
                        </a:lnTo>
                        <a:lnTo>
                          <a:pt x="11" y="0"/>
                        </a:lnTo>
                        <a:lnTo>
                          <a:pt x="16" y="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8" name=""/>
                <p:cNvSpPr/>
                <p:nvPr/>
              </p:nvSpPr>
              <p:spPr>
                <a:xfrm>
                  <a:off x="6459840" y="1660320"/>
                  <a:ext cx="296640" cy="1238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19" name=""/>
                <p:cNvGrpSpPr/>
                <p:nvPr/>
              </p:nvGrpSpPr>
              <p:grpSpPr>
                <a:xfrm>
                  <a:off x="6454800" y="1654200"/>
                  <a:ext cx="311400" cy="142920"/>
                  <a:chOff x="6454800" y="1654200"/>
                  <a:chExt cx="311400" cy="142920"/>
                </a:xfrm>
              </p:grpSpPr>
              <p:sp>
                <p:nvSpPr>
                  <p:cNvPr id="2120" name=""/>
                  <p:cNvSpPr/>
                  <p:nvPr/>
                </p:nvSpPr>
                <p:spPr>
                  <a:xfrm>
                    <a:off x="6454800" y="1654200"/>
                    <a:ext cx="300240" cy="12528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6459840" y="1660320"/>
                    <a:ext cx="306360" cy="1368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2" name=""/>
                <p:cNvSpPr/>
                <p:nvPr/>
              </p:nvSpPr>
              <p:spPr>
                <a:xfrm>
                  <a:off x="6459840" y="1809720"/>
                  <a:ext cx="296640" cy="4158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3" name=""/>
                <p:cNvGrpSpPr/>
                <p:nvPr/>
              </p:nvGrpSpPr>
              <p:grpSpPr>
                <a:xfrm>
                  <a:off x="6454800" y="1805040"/>
                  <a:ext cx="311400" cy="436320"/>
                  <a:chOff x="6454800" y="1805040"/>
                  <a:chExt cx="311400" cy="436320"/>
                </a:xfrm>
              </p:grpSpPr>
              <p:sp>
                <p:nvSpPr>
                  <p:cNvPr id="2124" name=""/>
                  <p:cNvSpPr/>
                  <p:nvPr/>
                </p:nvSpPr>
                <p:spPr>
                  <a:xfrm>
                    <a:off x="6454800" y="1805040"/>
                    <a:ext cx="300240" cy="42228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6459840" y="1809720"/>
                    <a:ext cx="306360" cy="4316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6" name=""/>
                <p:cNvSpPr/>
                <p:nvPr/>
              </p:nvSpPr>
              <p:spPr>
                <a:xfrm>
                  <a:off x="7491600" y="1982520"/>
                  <a:ext cx="164880" cy="66960"/>
                </a:xfrm>
                <a:prstGeom prst="rect">
                  <a:avLst/>
                </a:prstGeom>
                <a:solidFill>
                  <a:srgbClr val="99cc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nvGrpSpPr>
                <p:cNvPr id="2127" name=""/>
                <p:cNvGrpSpPr/>
                <p:nvPr/>
              </p:nvGrpSpPr>
              <p:grpSpPr>
                <a:xfrm>
                  <a:off x="7486920" y="1977840"/>
                  <a:ext cx="179280" cy="82800"/>
                  <a:chOff x="7486920" y="1977840"/>
                  <a:chExt cx="179280" cy="82800"/>
                </a:xfrm>
              </p:grpSpPr>
              <p:sp>
                <p:nvSpPr>
                  <p:cNvPr id="2128" name=""/>
                  <p:cNvSpPr/>
                  <p:nvPr/>
                </p:nvSpPr>
                <p:spPr>
                  <a:xfrm>
                    <a:off x="7486920" y="1977840"/>
                    <a:ext cx="168120" cy="71640"/>
                  </a:xfrm>
                  <a:prstGeom prst="rect">
                    <a:avLst/>
                  </a:prstGeom>
                  <a:solidFill>
                    <a:srgbClr val="99cc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129" name=""/>
                  <p:cNvSpPr/>
                  <p:nvPr/>
                </p:nvSpPr>
                <p:spPr>
                  <a:xfrm>
                    <a:off x="7491600" y="1981080"/>
                    <a:ext cx="174600" cy="79560"/>
                  </a:xfrm>
                  <a:prstGeom prst="rect">
                    <a:avLst/>
                  </a:prstGeom>
                  <a:solidFill>
                    <a:srgbClr val="99cc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2130" name=""/>
                <p:cNvSpPr/>
                <p:nvPr/>
              </p:nvSpPr>
              <p:spPr>
                <a:xfrm flipH="1">
                  <a:off x="7494480" y="1912680"/>
                  <a:ext cx="34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31" name=""/>
                <p:cNvSpPr/>
                <p:nvPr/>
              </p:nvSpPr>
              <p:spPr>
                <a:xfrm flipH="1">
                  <a:off x="7479000" y="191268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32" name=""/>
                <p:cNvSpPr/>
                <p:nvPr/>
              </p:nvSpPr>
              <p:spPr>
                <a:xfrm flipH="1">
                  <a:off x="7450200" y="1912680"/>
                  <a:ext cx="36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33" name=""/>
                <p:cNvSpPr/>
                <p:nvPr/>
              </p:nvSpPr>
              <p:spPr>
                <a:xfrm flipH="1">
                  <a:off x="7434000" y="191268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34" name=""/>
                <p:cNvSpPr/>
                <p:nvPr/>
              </p:nvSpPr>
              <p:spPr>
                <a:xfrm flipH="1">
                  <a:off x="7408800" y="1912680"/>
                  <a:ext cx="36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35" name=""/>
                <p:cNvSpPr/>
                <p:nvPr/>
              </p:nvSpPr>
              <p:spPr>
                <a:xfrm flipH="1">
                  <a:off x="7391160" y="191268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36" name=""/>
                <p:cNvSpPr/>
                <p:nvPr/>
              </p:nvSpPr>
              <p:spPr>
                <a:xfrm flipH="1">
                  <a:off x="7365960" y="1912680"/>
                  <a:ext cx="36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37" name=""/>
                <p:cNvSpPr/>
                <p:nvPr/>
              </p:nvSpPr>
              <p:spPr>
                <a:xfrm flipH="1">
                  <a:off x="7349760" y="191268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38" name=""/>
                <p:cNvSpPr/>
                <p:nvPr/>
              </p:nvSpPr>
              <p:spPr>
                <a:xfrm flipH="1">
                  <a:off x="7319880" y="1912680"/>
                  <a:ext cx="37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39" name=""/>
                <p:cNvSpPr/>
                <p:nvPr/>
              </p:nvSpPr>
              <p:spPr>
                <a:xfrm flipH="1">
                  <a:off x="7302240" y="191268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0" name=""/>
                <p:cNvSpPr/>
                <p:nvPr/>
              </p:nvSpPr>
              <p:spPr>
                <a:xfrm flipH="1">
                  <a:off x="7277040" y="1912680"/>
                  <a:ext cx="36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1" name=""/>
                <p:cNvSpPr/>
                <p:nvPr/>
              </p:nvSpPr>
              <p:spPr>
                <a:xfrm flipH="1">
                  <a:off x="7260840" y="191268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2" name=""/>
                <p:cNvSpPr/>
                <p:nvPr/>
              </p:nvSpPr>
              <p:spPr>
                <a:xfrm flipH="1">
                  <a:off x="7232760" y="1912680"/>
                  <a:ext cx="39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3" name=""/>
                <p:cNvSpPr/>
                <p:nvPr/>
              </p:nvSpPr>
              <p:spPr>
                <a:xfrm flipH="1">
                  <a:off x="7216920" y="191268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4" name=""/>
                <p:cNvSpPr/>
                <p:nvPr/>
              </p:nvSpPr>
              <p:spPr>
                <a:xfrm flipH="1">
                  <a:off x="7193160" y="1912680"/>
                  <a:ext cx="33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5" name=""/>
                <p:cNvSpPr/>
                <p:nvPr/>
              </p:nvSpPr>
              <p:spPr>
                <a:xfrm flipH="1">
                  <a:off x="7172280" y="1912680"/>
                  <a:ext cx="20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6" name=""/>
                <p:cNvSpPr/>
                <p:nvPr/>
              </p:nvSpPr>
              <p:spPr>
                <a:xfrm flipH="1">
                  <a:off x="7148520" y="1912680"/>
                  <a:ext cx="36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7" name=""/>
                <p:cNvSpPr/>
                <p:nvPr/>
              </p:nvSpPr>
              <p:spPr>
                <a:xfrm flipH="1">
                  <a:off x="7128000" y="1912680"/>
                  <a:ext cx="22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8" name=""/>
                <p:cNvSpPr/>
                <p:nvPr/>
              </p:nvSpPr>
              <p:spPr>
                <a:xfrm flipH="1">
                  <a:off x="7102440" y="1912680"/>
                  <a:ext cx="36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49" name=""/>
                <p:cNvSpPr/>
                <p:nvPr/>
              </p:nvSpPr>
              <p:spPr>
                <a:xfrm flipH="1">
                  <a:off x="7086600" y="191268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0" name=""/>
                <p:cNvSpPr/>
                <p:nvPr/>
              </p:nvSpPr>
              <p:spPr>
                <a:xfrm flipH="1">
                  <a:off x="7059240" y="1912680"/>
                  <a:ext cx="399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1" name=""/>
                <p:cNvSpPr/>
                <p:nvPr/>
              </p:nvSpPr>
              <p:spPr>
                <a:xfrm flipH="1">
                  <a:off x="7046640" y="191268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2" name=""/>
                <p:cNvSpPr/>
                <p:nvPr/>
              </p:nvSpPr>
              <p:spPr>
                <a:xfrm flipH="1">
                  <a:off x="7016760" y="1912680"/>
                  <a:ext cx="38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3" name=""/>
                <p:cNvSpPr/>
                <p:nvPr/>
              </p:nvSpPr>
              <p:spPr>
                <a:xfrm flipH="1">
                  <a:off x="7000920" y="191268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4" name=""/>
                <p:cNvSpPr/>
                <p:nvPr/>
              </p:nvSpPr>
              <p:spPr>
                <a:xfrm flipH="1">
                  <a:off x="6972120" y="1912680"/>
                  <a:ext cx="36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5" name=""/>
                <p:cNvSpPr/>
                <p:nvPr/>
              </p:nvSpPr>
              <p:spPr>
                <a:xfrm flipH="1">
                  <a:off x="6959520" y="1912680"/>
                  <a:ext cx="12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6" name=""/>
                <p:cNvSpPr/>
                <p:nvPr/>
              </p:nvSpPr>
              <p:spPr>
                <a:xfrm flipH="1">
                  <a:off x="6927480" y="1912680"/>
                  <a:ext cx="399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7" name=""/>
                <p:cNvSpPr/>
                <p:nvPr/>
              </p:nvSpPr>
              <p:spPr>
                <a:xfrm flipH="1">
                  <a:off x="6913440" y="1912680"/>
                  <a:ext cx="14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8" name=""/>
                <p:cNvSpPr/>
                <p:nvPr/>
              </p:nvSpPr>
              <p:spPr>
                <a:xfrm flipH="1">
                  <a:off x="6887880" y="1912680"/>
                  <a:ext cx="34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9" name=""/>
                <p:cNvSpPr/>
                <p:nvPr/>
              </p:nvSpPr>
              <p:spPr>
                <a:xfrm flipH="1">
                  <a:off x="6869160" y="1912680"/>
                  <a:ext cx="22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60" name=""/>
                <p:cNvSpPr/>
                <p:nvPr/>
              </p:nvSpPr>
              <p:spPr>
                <a:xfrm flipH="1">
                  <a:off x="6841800" y="1912680"/>
                  <a:ext cx="399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61" name=""/>
                <p:cNvSpPr/>
                <p:nvPr/>
              </p:nvSpPr>
              <p:spPr>
                <a:xfrm flipH="1">
                  <a:off x="6827760" y="1912680"/>
                  <a:ext cx="20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62" name=""/>
                <p:cNvSpPr/>
                <p:nvPr/>
              </p:nvSpPr>
              <p:spPr>
                <a:xfrm flipH="1">
                  <a:off x="6797880" y="1912680"/>
                  <a:ext cx="39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63" name=""/>
                <p:cNvSpPr/>
                <p:nvPr/>
              </p:nvSpPr>
              <p:spPr>
                <a:xfrm flipH="1">
                  <a:off x="6783120" y="191268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64" name=""/>
                <p:cNvSpPr/>
                <p:nvPr/>
              </p:nvSpPr>
              <p:spPr>
                <a:xfrm flipH="1">
                  <a:off x="6757920" y="1912680"/>
                  <a:ext cx="34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65" name=""/>
                <p:cNvSpPr/>
                <p:nvPr/>
              </p:nvSpPr>
              <p:spPr>
                <a:xfrm flipH="1">
                  <a:off x="6738840" y="1912680"/>
                  <a:ext cx="20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66" name=""/>
                <p:cNvSpPr/>
                <p:nvPr/>
              </p:nvSpPr>
              <p:spPr>
                <a:xfrm flipH="1">
                  <a:off x="6721560" y="1912680"/>
                  <a:ext cx="23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2167" name=""/>
                <p:cNvGrpSpPr/>
                <p:nvPr/>
              </p:nvGrpSpPr>
              <p:grpSpPr>
                <a:xfrm>
                  <a:off x="6851880" y="2247840"/>
                  <a:ext cx="27000" cy="34920"/>
                  <a:chOff x="6851880" y="2247840"/>
                  <a:chExt cx="27000" cy="34920"/>
                </a:xfrm>
              </p:grpSpPr>
              <p:sp>
                <p:nvSpPr>
                  <p:cNvPr id="2168" name=""/>
                  <p:cNvSpPr/>
                  <p:nvPr/>
                </p:nvSpPr>
                <p:spPr>
                  <a:xfrm>
                    <a:off x="6851880" y="2249280"/>
                    <a:ext cx="27000" cy="27000"/>
                  </a:xfrm>
                  <a:custGeom>
                    <a:avLst/>
                    <a:gdLst/>
                    <a:ahLst/>
                    <a:rect l="l" t="t" r="r" b="b"/>
                    <a:pathLst>
                      <a:path w="17" h="17">
                        <a:moveTo>
                          <a:pt x="0" y="0"/>
                        </a:moveTo>
                        <a:lnTo>
                          <a:pt x="0" y="0"/>
                        </a:lnTo>
                        <a:lnTo>
                          <a:pt x="0" y="3"/>
                        </a:lnTo>
                        <a:lnTo>
                          <a:pt x="0" y="7"/>
                        </a:lnTo>
                        <a:lnTo>
                          <a:pt x="0" y="8"/>
                        </a:lnTo>
                        <a:lnTo>
                          <a:pt x="4" y="11"/>
                        </a:lnTo>
                        <a:lnTo>
                          <a:pt x="8" y="13"/>
                        </a:lnTo>
                        <a:lnTo>
                          <a:pt x="8" y="14"/>
                        </a:lnTo>
                        <a:lnTo>
                          <a:pt x="12" y="16"/>
                        </a:lnTo>
                        <a:lnTo>
                          <a:pt x="16" y="16"/>
                        </a:lnTo>
                        <a:lnTo>
                          <a:pt x="0" y="0"/>
                        </a:lnTo>
                      </a:path>
                    </a:pathLst>
                  </a:custGeom>
                  <a:solidFill>
                    <a:srgbClr val="99cc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69" name=""/>
                  <p:cNvSpPr/>
                  <p:nvPr/>
                </p:nvSpPr>
                <p:spPr>
                  <a:xfrm>
                    <a:off x="6851880" y="2247840"/>
                    <a:ext cx="27000" cy="34920"/>
                  </a:xfrm>
                  <a:custGeom>
                    <a:avLst/>
                    <a:gdLst/>
                    <a:ahLst/>
                    <a:rect l="l" t="t" r="r" b="b"/>
                    <a:pathLst>
                      <a:path w="17" h="22">
                        <a:moveTo>
                          <a:pt x="0" y="0"/>
                        </a:moveTo>
                        <a:lnTo>
                          <a:pt x="0" y="0"/>
                        </a:lnTo>
                        <a:lnTo>
                          <a:pt x="0" y="4"/>
                        </a:lnTo>
                        <a:lnTo>
                          <a:pt x="2" y="9"/>
                        </a:lnTo>
                        <a:lnTo>
                          <a:pt x="2" y="11"/>
                        </a:lnTo>
                        <a:lnTo>
                          <a:pt x="5" y="15"/>
                        </a:lnTo>
                        <a:lnTo>
                          <a:pt x="7" y="17"/>
                        </a:lnTo>
                        <a:lnTo>
                          <a:pt x="10" y="19"/>
                        </a:lnTo>
                        <a:lnTo>
                          <a:pt x="13" y="21"/>
                        </a:lnTo>
                        <a:lnTo>
                          <a:pt x="16" y="21"/>
                        </a:lnTo>
                      </a:path>
                    </a:pathLst>
                  </a:custGeom>
                  <a:solidFill>
                    <a:srgbClr val="99cc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2170" name=""/>
                <p:cNvSpPr/>
                <p:nvPr/>
              </p:nvSpPr>
              <p:spPr>
                <a:xfrm>
                  <a:off x="6958080" y="18334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71" name=""/>
                <p:cNvSpPr/>
                <p:nvPr/>
              </p:nvSpPr>
              <p:spPr>
                <a:xfrm>
                  <a:off x="6973920" y="1674720"/>
                  <a:ext cx="176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172" name=""/>
                <p:cNvSpPr/>
                <p:nvPr/>
              </p:nvSpPr>
              <p:spPr>
                <a:xfrm>
                  <a:off x="6834240" y="2070000"/>
                  <a:ext cx="750960" cy="297000"/>
                </a:xfrm>
                <a:custGeom>
                  <a:avLst/>
                  <a:gdLst/>
                  <a:ahLst/>
                  <a:rect l="l" t="t" r="r" b="b"/>
                  <a:pathLst>
                    <a:path w="473" h="187">
                      <a:moveTo>
                        <a:pt x="26" y="132"/>
                      </a:moveTo>
                      <a:lnTo>
                        <a:pt x="338" y="132"/>
                      </a:lnTo>
                      <a:lnTo>
                        <a:pt x="434" y="35"/>
                      </a:lnTo>
                      <a:lnTo>
                        <a:pt x="434" y="0"/>
                      </a:lnTo>
                      <a:lnTo>
                        <a:pt x="472" y="0"/>
                      </a:lnTo>
                      <a:lnTo>
                        <a:pt x="472" y="186"/>
                      </a:lnTo>
                      <a:lnTo>
                        <a:pt x="0" y="186"/>
                      </a:lnTo>
                      <a:lnTo>
                        <a:pt x="26" y="13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3" name=""/>
                <p:cNvGrpSpPr/>
                <p:nvPr/>
              </p:nvGrpSpPr>
              <p:grpSpPr>
                <a:xfrm>
                  <a:off x="6834240" y="2068560"/>
                  <a:ext cx="762120" cy="311040"/>
                  <a:chOff x="6834240" y="2068560"/>
                  <a:chExt cx="762120" cy="311040"/>
                </a:xfrm>
              </p:grpSpPr>
              <p:sp>
                <p:nvSpPr>
                  <p:cNvPr id="2174" name=""/>
                  <p:cNvSpPr/>
                  <p:nvPr/>
                </p:nvSpPr>
                <p:spPr>
                  <a:xfrm>
                    <a:off x="6834240" y="2068560"/>
                    <a:ext cx="744480" cy="290520"/>
                  </a:xfrm>
                  <a:custGeom>
                    <a:avLst/>
                    <a:gdLst/>
                    <a:ahLst/>
                    <a:rect l="l" t="t" r="r" b="b"/>
                    <a:pathLst>
                      <a:path w="469" h="183">
                        <a:moveTo>
                          <a:pt x="25" y="130"/>
                        </a:moveTo>
                        <a:lnTo>
                          <a:pt x="333" y="130"/>
                        </a:lnTo>
                        <a:lnTo>
                          <a:pt x="429" y="35"/>
                        </a:lnTo>
                        <a:lnTo>
                          <a:pt x="429" y="0"/>
                        </a:lnTo>
                        <a:lnTo>
                          <a:pt x="468" y="0"/>
                        </a:lnTo>
                        <a:lnTo>
                          <a:pt x="468" y="182"/>
                        </a:lnTo>
                        <a:lnTo>
                          <a:pt x="0" y="182"/>
                        </a:lnTo>
                        <a:lnTo>
                          <a:pt x="25" y="13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
                  <p:cNvSpPr/>
                  <p:nvPr/>
                </p:nvSpPr>
                <p:spPr>
                  <a:xfrm>
                    <a:off x="6834240" y="2070000"/>
                    <a:ext cx="762120" cy="309600"/>
                  </a:xfrm>
                  <a:custGeom>
                    <a:avLst/>
                    <a:gdLst/>
                    <a:ahLst/>
                    <a:rect l="l" t="t" r="r" b="b"/>
                    <a:pathLst>
                      <a:path w="480" h="195">
                        <a:moveTo>
                          <a:pt x="26" y="138"/>
                        </a:moveTo>
                        <a:lnTo>
                          <a:pt x="342" y="138"/>
                        </a:lnTo>
                        <a:lnTo>
                          <a:pt x="440" y="37"/>
                        </a:lnTo>
                        <a:lnTo>
                          <a:pt x="440" y="0"/>
                        </a:lnTo>
                        <a:lnTo>
                          <a:pt x="479" y="0"/>
                        </a:lnTo>
                        <a:lnTo>
                          <a:pt x="479" y="194"/>
                        </a:lnTo>
                        <a:lnTo>
                          <a:pt x="0" y="19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6" name=""/>
                <p:cNvSpPr/>
                <p:nvPr/>
              </p:nvSpPr>
              <p:spPr>
                <a:xfrm flipH="1">
                  <a:off x="6411960" y="2378160"/>
                  <a:ext cx="123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77" name=""/>
                <p:cNvSpPr/>
                <p:nvPr/>
              </p:nvSpPr>
              <p:spPr>
                <a:xfrm>
                  <a:off x="6997680" y="2079360"/>
                  <a:ext cx="59040" cy="88920"/>
                </a:xfrm>
                <a:prstGeom prst="rect">
                  <a:avLst/>
                </a:prstGeom>
                <a:solidFill>
                  <a:srgbClr val="99cc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nvGrpSpPr>
                <p:cNvPr id="2178" name=""/>
                <p:cNvGrpSpPr/>
                <p:nvPr/>
              </p:nvGrpSpPr>
              <p:grpSpPr>
                <a:xfrm>
                  <a:off x="6993000" y="2074680"/>
                  <a:ext cx="73080" cy="104760"/>
                  <a:chOff x="6993000" y="2074680"/>
                  <a:chExt cx="73080" cy="104760"/>
                </a:xfrm>
              </p:grpSpPr>
              <p:sp>
                <p:nvSpPr>
                  <p:cNvPr id="2179" name=""/>
                  <p:cNvSpPr/>
                  <p:nvPr/>
                </p:nvSpPr>
                <p:spPr>
                  <a:xfrm>
                    <a:off x="6993000" y="2074680"/>
                    <a:ext cx="61920" cy="936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a:off x="6997680" y="2079360"/>
                    <a:ext cx="68400" cy="10008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81" name=""/>
                <p:cNvSpPr/>
                <p:nvPr/>
              </p:nvSpPr>
              <p:spPr>
                <a:xfrm>
                  <a:off x="7021800" y="2114640"/>
                  <a:ext cx="12600" cy="20520"/>
                </a:xfrm>
                <a:prstGeom prst="rect">
                  <a:avLst/>
                </a:prstGeom>
                <a:solidFill>
                  <a:srgbClr val="99cc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nvGrpSpPr>
                <p:cNvPr id="2182" name=""/>
                <p:cNvGrpSpPr/>
                <p:nvPr/>
              </p:nvGrpSpPr>
              <p:grpSpPr>
                <a:xfrm>
                  <a:off x="7016760" y="2109600"/>
                  <a:ext cx="28800" cy="36720"/>
                  <a:chOff x="7016760" y="2109600"/>
                  <a:chExt cx="28800" cy="36720"/>
                </a:xfrm>
              </p:grpSpPr>
              <p:sp>
                <p:nvSpPr>
                  <p:cNvPr id="2183" name=""/>
                  <p:cNvSpPr/>
                  <p:nvPr/>
                </p:nvSpPr>
                <p:spPr>
                  <a:xfrm>
                    <a:off x="7016760" y="2109600"/>
                    <a:ext cx="20880" cy="20880"/>
                  </a:xfrm>
                  <a:prstGeom prst="rect">
                    <a:avLst/>
                  </a:prstGeom>
                  <a:solidFill>
                    <a:srgbClr val="99cc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184" name=""/>
                  <p:cNvSpPr/>
                  <p:nvPr/>
                </p:nvSpPr>
                <p:spPr>
                  <a:xfrm>
                    <a:off x="7021800" y="2114640"/>
                    <a:ext cx="23760" cy="31680"/>
                  </a:xfrm>
                  <a:prstGeom prst="rect">
                    <a:avLst/>
                  </a:prstGeom>
                  <a:solidFill>
                    <a:srgbClr val="99cc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2185" name=""/>
                <p:cNvSpPr/>
                <p:nvPr/>
              </p:nvSpPr>
              <p:spPr>
                <a:xfrm>
                  <a:off x="6796080" y="1849320"/>
                  <a:ext cx="12960" cy="1238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86" name=""/>
                <p:cNvGrpSpPr/>
                <p:nvPr/>
              </p:nvGrpSpPr>
              <p:grpSpPr>
                <a:xfrm>
                  <a:off x="6791400" y="1844640"/>
                  <a:ext cx="22320" cy="142920"/>
                  <a:chOff x="6791400" y="1844640"/>
                  <a:chExt cx="22320" cy="142920"/>
                </a:xfrm>
              </p:grpSpPr>
              <p:sp>
                <p:nvSpPr>
                  <p:cNvPr id="2187" name=""/>
                  <p:cNvSpPr/>
                  <p:nvPr/>
                </p:nvSpPr>
                <p:spPr>
                  <a:xfrm>
                    <a:off x="6791400" y="1844640"/>
                    <a:ext cx="22320" cy="1285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8" name=""/>
                  <p:cNvSpPr/>
                  <p:nvPr/>
                </p:nvSpPr>
                <p:spPr>
                  <a:xfrm>
                    <a:off x="6796080" y="1849320"/>
                    <a:ext cx="14400" cy="1382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89" name=""/>
                <p:cNvSpPr/>
                <p:nvPr/>
              </p:nvSpPr>
              <p:spPr>
                <a:xfrm>
                  <a:off x="6775560" y="1893960"/>
                  <a:ext cx="33480" cy="36360"/>
                </a:xfrm>
                <a:prstGeom prst="rect">
                  <a:avLst/>
                </a:prstGeom>
                <a:solidFill>
                  <a:srgbClr val="99cc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2190" name=""/>
                <p:cNvGrpSpPr/>
                <p:nvPr/>
              </p:nvGrpSpPr>
              <p:grpSpPr>
                <a:xfrm>
                  <a:off x="6770880" y="1888920"/>
                  <a:ext cx="46080" cy="50760"/>
                  <a:chOff x="6770880" y="1888920"/>
                  <a:chExt cx="46080" cy="50760"/>
                </a:xfrm>
              </p:grpSpPr>
              <p:sp>
                <p:nvSpPr>
                  <p:cNvPr id="2191" name=""/>
                  <p:cNvSpPr/>
                  <p:nvPr/>
                </p:nvSpPr>
                <p:spPr>
                  <a:xfrm>
                    <a:off x="6770880" y="1888920"/>
                    <a:ext cx="33120" cy="38160"/>
                  </a:xfrm>
                  <a:prstGeom prst="rect">
                    <a:avLst/>
                  </a:prstGeom>
                  <a:solidFill>
                    <a:srgbClr val="99cc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92" name=""/>
                  <p:cNvSpPr/>
                  <p:nvPr/>
                </p:nvSpPr>
                <p:spPr>
                  <a:xfrm>
                    <a:off x="6775560" y="1893960"/>
                    <a:ext cx="41400" cy="45720"/>
                  </a:xfrm>
                  <a:prstGeom prst="rect">
                    <a:avLst/>
                  </a:prstGeom>
                  <a:solidFill>
                    <a:srgbClr val="99cc00"/>
                  </a:solidFill>
                  <a:ln w="1260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grpSp>
            <p:nvGrpSpPr>
              <p:cNvPr id="2193" name=""/>
              <p:cNvGrpSpPr/>
              <p:nvPr/>
            </p:nvGrpSpPr>
            <p:grpSpPr>
              <a:xfrm>
                <a:off x="1909800" y="1681200"/>
                <a:ext cx="1902960" cy="745920"/>
                <a:chOff x="1909800" y="1681200"/>
                <a:chExt cx="1902960" cy="745920"/>
              </a:xfrm>
            </p:grpSpPr>
            <p:sp>
              <p:nvSpPr>
                <p:cNvPr id="2194" name=""/>
                <p:cNvSpPr/>
                <p:nvPr/>
              </p:nvSpPr>
              <p:spPr>
                <a:xfrm>
                  <a:off x="2339640" y="1886040"/>
                  <a:ext cx="409320" cy="318960"/>
                </a:xfrm>
                <a:custGeom>
                  <a:avLst/>
                  <a:gdLst/>
                  <a:ahLst/>
                  <a:rect l="l" t="t" r="r" b="b"/>
                  <a:pathLst>
                    <a:path w="258" h="201">
                      <a:moveTo>
                        <a:pt x="257" y="200"/>
                      </a:moveTo>
                      <a:lnTo>
                        <a:pt x="250" y="192"/>
                      </a:lnTo>
                      <a:lnTo>
                        <a:pt x="247" y="179"/>
                      </a:lnTo>
                      <a:lnTo>
                        <a:pt x="239" y="174"/>
                      </a:lnTo>
                      <a:lnTo>
                        <a:pt x="238" y="167"/>
                      </a:lnTo>
                      <a:lnTo>
                        <a:pt x="243" y="161"/>
                      </a:lnTo>
                      <a:lnTo>
                        <a:pt x="243" y="155"/>
                      </a:lnTo>
                      <a:lnTo>
                        <a:pt x="240" y="149"/>
                      </a:lnTo>
                      <a:lnTo>
                        <a:pt x="235" y="141"/>
                      </a:lnTo>
                      <a:lnTo>
                        <a:pt x="235" y="130"/>
                      </a:lnTo>
                      <a:lnTo>
                        <a:pt x="239" y="125"/>
                      </a:lnTo>
                      <a:lnTo>
                        <a:pt x="238" y="120"/>
                      </a:lnTo>
                      <a:lnTo>
                        <a:pt x="233" y="116"/>
                      </a:lnTo>
                      <a:lnTo>
                        <a:pt x="231" y="109"/>
                      </a:lnTo>
                      <a:lnTo>
                        <a:pt x="232" y="102"/>
                      </a:lnTo>
                      <a:lnTo>
                        <a:pt x="230" y="94"/>
                      </a:lnTo>
                      <a:lnTo>
                        <a:pt x="229" y="81"/>
                      </a:lnTo>
                      <a:lnTo>
                        <a:pt x="229" y="66"/>
                      </a:lnTo>
                      <a:lnTo>
                        <a:pt x="229" y="55"/>
                      </a:lnTo>
                      <a:lnTo>
                        <a:pt x="228" y="43"/>
                      </a:lnTo>
                      <a:lnTo>
                        <a:pt x="225" y="33"/>
                      </a:lnTo>
                      <a:lnTo>
                        <a:pt x="223" y="26"/>
                      </a:lnTo>
                      <a:lnTo>
                        <a:pt x="196" y="13"/>
                      </a:lnTo>
                      <a:lnTo>
                        <a:pt x="180" y="8"/>
                      </a:lnTo>
                      <a:lnTo>
                        <a:pt x="165" y="5"/>
                      </a:lnTo>
                      <a:lnTo>
                        <a:pt x="148" y="0"/>
                      </a:lnTo>
                      <a:lnTo>
                        <a:pt x="64" y="2"/>
                      </a:lnTo>
                      <a:lnTo>
                        <a:pt x="39" y="7"/>
                      </a:lnTo>
                      <a:lnTo>
                        <a:pt x="16" y="15"/>
                      </a:lnTo>
                      <a:lnTo>
                        <a:pt x="8" y="20"/>
                      </a:lnTo>
                      <a:lnTo>
                        <a:pt x="2" y="33"/>
                      </a:lnTo>
                      <a:lnTo>
                        <a:pt x="2" y="83"/>
                      </a:lnTo>
                      <a:lnTo>
                        <a:pt x="0" y="90"/>
                      </a:lnTo>
                      <a:lnTo>
                        <a:pt x="38" y="200"/>
                      </a:lnTo>
                      <a:lnTo>
                        <a:pt x="257" y="20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a:off x="2358720" y="1893960"/>
                  <a:ext cx="187200" cy="160200"/>
                </a:xfrm>
                <a:custGeom>
                  <a:avLst/>
                  <a:gdLst/>
                  <a:ahLst/>
                  <a:rect l="l" t="t" r="r" b="b"/>
                  <a:pathLst>
                    <a:path w="118" h="101">
                      <a:moveTo>
                        <a:pt x="117" y="100"/>
                      </a:moveTo>
                      <a:lnTo>
                        <a:pt x="83" y="36"/>
                      </a:lnTo>
                      <a:lnTo>
                        <a:pt x="74" y="24"/>
                      </a:lnTo>
                      <a:lnTo>
                        <a:pt x="55" y="14"/>
                      </a:lnTo>
                      <a:lnTo>
                        <a:pt x="36" y="9"/>
                      </a:lnTo>
                      <a:lnTo>
                        <a:pt x="20" y="10"/>
                      </a:lnTo>
                      <a:lnTo>
                        <a:pt x="0" y="13"/>
                      </a:lnTo>
                      <a:lnTo>
                        <a:pt x="5" y="9"/>
                      </a:lnTo>
                      <a:lnTo>
                        <a:pt x="25" y="3"/>
                      </a:lnTo>
                      <a:lnTo>
                        <a:pt x="46" y="0"/>
                      </a:lnTo>
                      <a:lnTo>
                        <a:pt x="62" y="3"/>
                      </a:lnTo>
                      <a:lnTo>
                        <a:pt x="80" y="19"/>
                      </a:lnTo>
                      <a:lnTo>
                        <a:pt x="91" y="40"/>
                      </a:lnTo>
                      <a:lnTo>
                        <a:pt x="97" y="56"/>
                      </a:lnTo>
                      <a:lnTo>
                        <a:pt x="117" y="100"/>
                      </a:lnTo>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2342880" y="1936800"/>
                  <a:ext cx="98280" cy="153720"/>
                </a:xfrm>
                <a:custGeom>
                  <a:avLst/>
                  <a:gdLst/>
                  <a:ahLst/>
                  <a:rect l="l" t="t" r="r" b="b"/>
                  <a:pathLst>
                    <a:path w="62" h="97">
                      <a:moveTo>
                        <a:pt x="40" y="42"/>
                      </a:moveTo>
                      <a:lnTo>
                        <a:pt x="36" y="33"/>
                      </a:lnTo>
                      <a:lnTo>
                        <a:pt x="29" y="26"/>
                      </a:lnTo>
                      <a:lnTo>
                        <a:pt x="22" y="21"/>
                      </a:lnTo>
                      <a:lnTo>
                        <a:pt x="15" y="17"/>
                      </a:lnTo>
                      <a:lnTo>
                        <a:pt x="12" y="16"/>
                      </a:lnTo>
                      <a:lnTo>
                        <a:pt x="16" y="27"/>
                      </a:lnTo>
                      <a:lnTo>
                        <a:pt x="27" y="40"/>
                      </a:lnTo>
                      <a:lnTo>
                        <a:pt x="37" y="50"/>
                      </a:lnTo>
                      <a:lnTo>
                        <a:pt x="52" y="61"/>
                      </a:lnTo>
                      <a:lnTo>
                        <a:pt x="54" y="62"/>
                      </a:lnTo>
                      <a:lnTo>
                        <a:pt x="61" y="79"/>
                      </a:lnTo>
                      <a:lnTo>
                        <a:pt x="55" y="84"/>
                      </a:lnTo>
                      <a:lnTo>
                        <a:pt x="59" y="96"/>
                      </a:lnTo>
                      <a:lnTo>
                        <a:pt x="46" y="95"/>
                      </a:lnTo>
                      <a:lnTo>
                        <a:pt x="51" y="92"/>
                      </a:lnTo>
                      <a:lnTo>
                        <a:pt x="43" y="81"/>
                      </a:lnTo>
                      <a:lnTo>
                        <a:pt x="22" y="73"/>
                      </a:lnTo>
                      <a:lnTo>
                        <a:pt x="9" y="64"/>
                      </a:lnTo>
                      <a:lnTo>
                        <a:pt x="6" y="62"/>
                      </a:lnTo>
                      <a:lnTo>
                        <a:pt x="8" y="66"/>
                      </a:lnTo>
                      <a:lnTo>
                        <a:pt x="13" y="74"/>
                      </a:lnTo>
                      <a:lnTo>
                        <a:pt x="3" y="65"/>
                      </a:lnTo>
                      <a:lnTo>
                        <a:pt x="0" y="57"/>
                      </a:lnTo>
                      <a:lnTo>
                        <a:pt x="0" y="54"/>
                      </a:lnTo>
                      <a:lnTo>
                        <a:pt x="4" y="42"/>
                      </a:lnTo>
                      <a:lnTo>
                        <a:pt x="5" y="0"/>
                      </a:lnTo>
                      <a:lnTo>
                        <a:pt x="21" y="10"/>
                      </a:lnTo>
                      <a:lnTo>
                        <a:pt x="32" y="22"/>
                      </a:lnTo>
                      <a:lnTo>
                        <a:pt x="37" y="32"/>
                      </a:lnTo>
                      <a:lnTo>
                        <a:pt x="40" y="42"/>
                      </a:lnTo>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2369880" y="2055600"/>
                  <a:ext cx="69480" cy="84240"/>
                </a:xfrm>
                <a:custGeom>
                  <a:avLst/>
                  <a:gdLst/>
                  <a:ahLst/>
                  <a:rect l="l" t="t" r="r" b="b"/>
                  <a:pathLst>
                    <a:path w="44" h="53">
                      <a:moveTo>
                        <a:pt x="1" y="0"/>
                      </a:moveTo>
                      <a:lnTo>
                        <a:pt x="10" y="4"/>
                      </a:lnTo>
                      <a:lnTo>
                        <a:pt x="14" y="14"/>
                      </a:lnTo>
                      <a:lnTo>
                        <a:pt x="23" y="20"/>
                      </a:lnTo>
                      <a:lnTo>
                        <a:pt x="16" y="20"/>
                      </a:lnTo>
                      <a:lnTo>
                        <a:pt x="20" y="23"/>
                      </a:lnTo>
                      <a:lnTo>
                        <a:pt x="33" y="26"/>
                      </a:lnTo>
                      <a:lnTo>
                        <a:pt x="38" y="33"/>
                      </a:lnTo>
                      <a:lnTo>
                        <a:pt x="35" y="39"/>
                      </a:lnTo>
                      <a:lnTo>
                        <a:pt x="28" y="34"/>
                      </a:lnTo>
                      <a:lnTo>
                        <a:pt x="25" y="39"/>
                      </a:lnTo>
                      <a:lnTo>
                        <a:pt x="36" y="43"/>
                      </a:lnTo>
                      <a:lnTo>
                        <a:pt x="43" y="40"/>
                      </a:lnTo>
                      <a:lnTo>
                        <a:pt x="37" y="52"/>
                      </a:lnTo>
                      <a:lnTo>
                        <a:pt x="20" y="40"/>
                      </a:lnTo>
                      <a:lnTo>
                        <a:pt x="0" y="17"/>
                      </a:lnTo>
                      <a:lnTo>
                        <a:pt x="1" y="0"/>
                      </a:lnTo>
                    </a:path>
                  </a:pathLst>
                </a:custGeom>
                <a:solidFill>
                  <a:srgbClr val="70230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8" name=""/>
                <p:cNvSpPr/>
                <p:nvPr/>
              </p:nvSpPr>
              <p:spPr>
                <a:xfrm>
                  <a:off x="2444400" y="2130480"/>
                  <a:ext cx="142560" cy="95040"/>
                </a:xfrm>
                <a:custGeom>
                  <a:avLst/>
                  <a:gdLst/>
                  <a:ahLst/>
                  <a:rect l="l" t="t" r="r" b="b"/>
                  <a:pathLst>
                    <a:path w="90" h="60">
                      <a:moveTo>
                        <a:pt x="10" y="11"/>
                      </a:moveTo>
                      <a:lnTo>
                        <a:pt x="14" y="13"/>
                      </a:lnTo>
                      <a:lnTo>
                        <a:pt x="16" y="0"/>
                      </a:lnTo>
                      <a:lnTo>
                        <a:pt x="21" y="19"/>
                      </a:lnTo>
                      <a:lnTo>
                        <a:pt x="18" y="24"/>
                      </a:lnTo>
                      <a:lnTo>
                        <a:pt x="41" y="32"/>
                      </a:lnTo>
                      <a:lnTo>
                        <a:pt x="56" y="43"/>
                      </a:lnTo>
                      <a:lnTo>
                        <a:pt x="85" y="43"/>
                      </a:lnTo>
                      <a:lnTo>
                        <a:pt x="89" y="52"/>
                      </a:lnTo>
                      <a:lnTo>
                        <a:pt x="56" y="59"/>
                      </a:lnTo>
                      <a:lnTo>
                        <a:pt x="0" y="25"/>
                      </a:lnTo>
                      <a:lnTo>
                        <a:pt x="10" y="11"/>
                      </a:lnTo>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
                <p:cNvSpPr/>
                <p:nvPr/>
              </p:nvSpPr>
              <p:spPr>
                <a:xfrm>
                  <a:off x="2454120" y="1935000"/>
                  <a:ext cx="259920" cy="223920"/>
                </a:xfrm>
                <a:custGeom>
                  <a:avLst/>
                  <a:gdLst/>
                  <a:ahLst/>
                  <a:rect l="l" t="t" r="r" b="b"/>
                  <a:pathLst>
                    <a:path w="164" h="141">
                      <a:moveTo>
                        <a:pt x="91" y="0"/>
                      </a:moveTo>
                      <a:lnTo>
                        <a:pt x="96" y="19"/>
                      </a:lnTo>
                      <a:lnTo>
                        <a:pt x="96" y="45"/>
                      </a:lnTo>
                      <a:lnTo>
                        <a:pt x="91" y="76"/>
                      </a:lnTo>
                      <a:lnTo>
                        <a:pt x="83" y="101"/>
                      </a:lnTo>
                      <a:lnTo>
                        <a:pt x="90" y="108"/>
                      </a:lnTo>
                      <a:lnTo>
                        <a:pt x="75" y="112"/>
                      </a:lnTo>
                      <a:lnTo>
                        <a:pt x="50" y="110"/>
                      </a:lnTo>
                      <a:lnTo>
                        <a:pt x="19" y="110"/>
                      </a:lnTo>
                      <a:lnTo>
                        <a:pt x="0" y="111"/>
                      </a:lnTo>
                      <a:lnTo>
                        <a:pt x="11" y="124"/>
                      </a:lnTo>
                      <a:lnTo>
                        <a:pt x="83" y="130"/>
                      </a:lnTo>
                      <a:lnTo>
                        <a:pt x="132" y="140"/>
                      </a:lnTo>
                      <a:lnTo>
                        <a:pt x="138" y="136"/>
                      </a:lnTo>
                      <a:lnTo>
                        <a:pt x="131" y="130"/>
                      </a:lnTo>
                      <a:lnTo>
                        <a:pt x="136" y="126"/>
                      </a:lnTo>
                      <a:lnTo>
                        <a:pt x="146" y="124"/>
                      </a:lnTo>
                      <a:lnTo>
                        <a:pt x="163" y="125"/>
                      </a:lnTo>
                      <a:lnTo>
                        <a:pt x="150" y="118"/>
                      </a:lnTo>
                      <a:lnTo>
                        <a:pt x="142" y="108"/>
                      </a:lnTo>
                      <a:lnTo>
                        <a:pt x="142" y="101"/>
                      </a:lnTo>
                      <a:lnTo>
                        <a:pt x="156" y="94"/>
                      </a:lnTo>
                      <a:lnTo>
                        <a:pt x="160" y="84"/>
                      </a:lnTo>
                      <a:lnTo>
                        <a:pt x="153" y="87"/>
                      </a:lnTo>
                      <a:lnTo>
                        <a:pt x="145" y="87"/>
                      </a:lnTo>
                      <a:lnTo>
                        <a:pt x="143" y="84"/>
                      </a:lnTo>
                      <a:lnTo>
                        <a:pt x="150" y="78"/>
                      </a:lnTo>
                      <a:lnTo>
                        <a:pt x="144" y="77"/>
                      </a:lnTo>
                      <a:lnTo>
                        <a:pt x="144" y="70"/>
                      </a:lnTo>
                      <a:lnTo>
                        <a:pt x="147" y="59"/>
                      </a:lnTo>
                      <a:lnTo>
                        <a:pt x="154" y="63"/>
                      </a:lnTo>
                      <a:lnTo>
                        <a:pt x="156" y="69"/>
                      </a:lnTo>
                      <a:lnTo>
                        <a:pt x="159" y="60"/>
                      </a:lnTo>
                      <a:lnTo>
                        <a:pt x="156" y="39"/>
                      </a:lnTo>
                      <a:lnTo>
                        <a:pt x="158" y="22"/>
                      </a:lnTo>
                      <a:lnTo>
                        <a:pt x="152" y="47"/>
                      </a:lnTo>
                      <a:lnTo>
                        <a:pt x="144" y="58"/>
                      </a:lnTo>
                      <a:lnTo>
                        <a:pt x="128" y="82"/>
                      </a:lnTo>
                      <a:lnTo>
                        <a:pt x="117" y="92"/>
                      </a:lnTo>
                      <a:lnTo>
                        <a:pt x="101" y="102"/>
                      </a:lnTo>
                      <a:lnTo>
                        <a:pt x="96" y="103"/>
                      </a:lnTo>
                      <a:lnTo>
                        <a:pt x="101" y="94"/>
                      </a:lnTo>
                      <a:lnTo>
                        <a:pt x="104" y="80"/>
                      </a:lnTo>
                      <a:lnTo>
                        <a:pt x="105" y="57"/>
                      </a:lnTo>
                      <a:lnTo>
                        <a:pt x="104" y="37"/>
                      </a:lnTo>
                      <a:lnTo>
                        <a:pt x="101" y="19"/>
                      </a:lnTo>
                      <a:lnTo>
                        <a:pt x="98" y="8"/>
                      </a:lnTo>
                      <a:lnTo>
                        <a:pt x="91" y="0"/>
                      </a:lnTo>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
                <p:cNvSpPr/>
                <p:nvPr/>
              </p:nvSpPr>
              <p:spPr>
                <a:xfrm>
                  <a:off x="2670120" y="2163600"/>
                  <a:ext cx="66240" cy="41400"/>
                </a:xfrm>
                <a:custGeom>
                  <a:avLst/>
                  <a:gdLst/>
                  <a:ahLst/>
                  <a:rect l="l" t="t" r="r" b="b"/>
                  <a:pathLst>
                    <a:path w="42" h="26">
                      <a:moveTo>
                        <a:pt x="10" y="0"/>
                      </a:moveTo>
                      <a:lnTo>
                        <a:pt x="15" y="5"/>
                      </a:lnTo>
                      <a:lnTo>
                        <a:pt x="13" y="12"/>
                      </a:lnTo>
                      <a:lnTo>
                        <a:pt x="17" y="8"/>
                      </a:lnTo>
                      <a:lnTo>
                        <a:pt x="18" y="17"/>
                      </a:lnTo>
                      <a:lnTo>
                        <a:pt x="26" y="12"/>
                      </a:lnTo>
                      <a:lnTo>
                        <a:pt x="31" y="15"/>
                      </a:lnTo>
                      <a:lnTo>
                        <a:pt x="27" y="19"/>
                      </a:lnTo>
                      <a:lnTo>
                        <a:pt x="30" y="23"/>
                      </a:lnTo>
                      <a:lnTo>
                        <a:pt x="37" y="22"/>
                      </a:lnTo>
                      <a:lnTo>
                        <a:pt x="41" y="25"/>
                      </a:lnTo>
                      <a:lnTo>
                        <a:pt x="15" y="25"/>
                      </a:lnTo>
                      <a:lnTo>
                        <a:pt x="0" y="14"/>
                      </a:lnTo>
                      <a:lnTo>
                        <a:pt x="2" y="3"/>
                      </a:lnTo>
                      <a:lnTo>
                        <a:pt x="10" y="0"/>
                      </a:lnTo>
                    </a:path>
                  </a:pathLst>
                </a:custGeom>
                <a:solidFill>
                  <a:srgbClr val="70230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1" name=""/>
                <p:cNvSpPr/>
                <p:nvPr/>
              </p:nvSpPr>
              <p:spPr>
                <a:xfrm>
                  <a:off x="2695320" y="2089080"/>
                  <a:ext cx="20160" cy="25560"/>
                </a:xfrm>
                <a:custGeom>
                  <a:avLst/>
                  <a:gdLst/>
                  <a:ahLst/>
                  <a:rect l="l" t="t" r="r" b="b"/>
                  <a:pathLst>
                    <a:path w="13" h="16">
                      <a:moveTo>
                        <a:pt x="0" y="6"/>
                      </a:moveTo>
                      <a:lnTo>
                        <a:pt x="6" y="6"/>
                      </a:lnTo>
                      <a:lnTo>
                        <a:pt x="6" y="10"/>
                      </a:lnTo>
                      <a:lnTo>
                        <a:pt x="1" y="9"/>
                      </a:lnTo>
                      <a:lnTo>
                        <a:pt x="10" y="15"/>
                      </a:lnTo>
                      <a:lnTo>
                        <a:pt x="12" y="0"/>
                      </a:lnTo>
                      <a:lnTo>
                        <a:pt x="0" y="6"/>
                      </a:lnTo>
                    </a:path>
                  </a:pathLst>
                </a:custGeom>
                <a:solidFill>
                  <a:srgbClr val="70230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2" name=""/>
                <p:cNvSpPr/>
                <p:nvPr/>
              </p:nvSpPr>
              <p:spPr>
                <a:xfrm>
                  <a:off x="2562120" y="2149560"/>
                  <a:ext cx="112320" cy="72720"/>
                </a:xfrm>
                <a:custGeom>
                  <a:avLst/>
                  <a:gdLst/>
                  <a:ahLst/>
                  <a:rect l="l" t="t" r="r" b="b"/>
                  <a:pathLst>
                    <a:path w="71" h="46">
                      <a:moveTo>
                        <a:pt x="0" y="17"/>
                      </a:moveTo>
                      <a:lnTo>
                        <a:pt x="5" y="23"/>
                      </a:lnTo>
                      <a:lnTo>
                        <a:pt x="10" y="31"/>
                      </a:lnTo>
                      <a:lnTo>
                        <a:pt x="12" y="39"/>
                      </a:lnTo>
                      <a:lnTo>
                        <a:pt x="22" y="45"/>
                      </a:lnTo>
                      <a:lnTo>
                        <a:pt x="35" y="43"/>
                      </a:lnTo>
                      <a:lnTo>
                        <a:pt x="49" y="40"/>
                      </a:lnTo>
                      <a:lnTo>
                        <a:pt x="70" y="32"/>
                      </a:lnTo>
                      <a:lnTo>
                        <a:pt x="70" y="16"/>
                      </a:lnTo>
                      <a:lnTo>
                        <a:pt x="66" y="6"/>
                      </a:lnTo>
                      <a:lnTo>
                        <a:pt x="41" y="0"/>
                      </a:lnTo>
                      <a:lnTo>
                        <a:pt x="17" y="12"/>
                      </a:lnTo>
                      <a:lnTo>
                        <a:pt x="0" y="17"/>
                      </a:lnTo>
                    </a:path>
                  </a:pathLst>
                </a:custGeom>
                <a:solidFill>
                  <a:srgbClr val="ffc98e"/>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03" name=""/>
                <p:cNvSpPr/>
                <p:nvPr/>
              </p:nvSpPr>
              <p:spPr>
                <a:xfrm>
                  <a:off x="2547720" y="1954080"/>
                  <a:ext cx="15480" cy="15840"/>
                </a:xfrm>
                <a:custGeom>
                  <a:avLst/>
                  <a:gdLst/>
                  <a:ahLst/>
                  <a:rect l="l" t="t" r="r" b="b"/>
                  <a:pathLst>
                    <a:path w="10" h="10">
                      <a:moveTo>
                        <a:pt x="6" y="0"/>
                      </a:moveTo>
                      <a:lnTo>
                        <a:pt x="2" y="1"/>
                      </a:lnTo>
                      <a:lnTo>
                        <a:pt x="0" y="5"/>
                      </a:lnTo>
                      <a:lnTo>
                        <a:pt x="3" y="9"/>
                      </a:lnTo>
                      <a:lnTo>
                        <a:pt x="7" y="9"/>
                      </a:lnTo>
                      <a:lnTo>
                        <a:pt x="9" y="6"/>
                      </a:lnTo>
                      <a:lnTo>
                        <a:pt x="9" y="2"/>
                      </a:lnTo>
                      <a:lnTo>
                        <a:pt x="6" y="0"/>
                      </a:lnTo>
                    </a:path>
                  </a:pathLst>
                </a:custGeom>
                <a:solidFill>
                  <a:srgbClr val="ffe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04" name=""/>
                <p:cNvSpPr/>
                <p:nvPr/>
              </p:nvSpPr>
              <p:spPr>
                <a:xfrm>
                  <a:off x="2560320" y="2035080"/>
                  <a:ext cx="9360" cy="12600"/>
                </a:xfrm>
                <a:custGeom>
                  <a:avLst/>
                  <a:gdLst/>
                  <a:ahLst/>
                  <a:rect l="l" t="t" r="r" b="b"/>
                  <a:pathLst>
                    <a:path w="6" h="8">
                      <a:moveTo>
                        <a:pt x="5" y="2"/>
                      </a:moveTo>
                      <a:lnTo>
                        <a:pt x="3" y="0"/>
                      </a:lnTo>
                      <a:lnTo>
                        <a:pt x="0" y="1"/>
                      </a:lnTo>
                      <a:lnTo>
                        <a:pt x="0" y="6"/>
                      </a:lnTo>
                      <a:lnTo>
                        <a:pt x="2" y="7"/>
                      </a:lnTo>
                      <a:lnTo>
                        <a:pt x="5" y="6"/>
                      </a:lnTo>
                      <a:lnTo>
                        <a:pt x="5" y="2"/>
                      </a:lnTo>
                    </a:path>
                  </a:pathLst>
                </a:custGeom>
                <a:solidFill>
                  <a:srgbClr val="ffea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05" name=""/>
                <p:cNvSpPr/>
                <p:nvPr/>
              </p:nvSpPr>
              <p:spPr>
                <a:xfrm>
                  <a:off x="2473200" y="1719000"/>
                  <a:ext cx="134640" cy="231840"/>
                </a:xfrm>
                <a:custGeom>
                  <a:avLst/>
                  <a:gdLst/>
                  <a:ahLst/>
                  <a:rect l="l" t="t" r="r" b="b"/>
                  <a:pathLst>
                    <a:path w="85" h="146">
                      <a:moveTo>
                        <a:pt x="3" y="122"/>
                      </a:moveTo>
                      <a:lnTo>
                        <a:pt x="7" y="128"/>
                      </a:lnTo>
                      <a:lnTo>
                        <a:pt x="18" y="135"/>
                      </a:lnTo>
                      <a:lnTo>
                        <a:pt x="30" y="139"/>
                      </a:lnTo>
                      <a:lnTo>
                        <a:pt x="44" y="142"/>
                      </a:lnTo>
                      <a:lnTo>
                        <a:pt x="57" y="145"/>
                      </a:lnTo>
                      <a:lnTo>
                        <a:pt x="65" y="142"/>
                      </a:lnTo>
                      <a:lnTo>
                        <a:pt x="69" y="137"/>
                      </a:lnTo>
                      <a:lnTo>
                        <a:pt x="69" y="127"/>
                      </a:lnTo>
                      <a:lnTo>
                        <a:pt x="66" y="114"/>
                      </a:lnTo>
                      <a:lnTo>
                        <a:pt x="63" y="102"/>
                      </a:lnTo>
                      <a:lnTo>
                        <a:pt x="70" y="94"/>
                      </a:lnTo>
                      <a:lnTo>
                        <a:pt x="77" y="83"/>
                      </a:lnTo>
                      <a:lnTo>
                        <a:pt x="79" y="73"/>
                      </a:lnTo>
                      <a:lnTo>
                        <a:pt x="84" y="55"/>
                      </a:lnTo>
                      <a:lnTo>
                        <a:pt x="84" y="47"/>
                      </a:lnTo>
                      <a:lnTo>
                        <a:pt x="84" y="34"/>
                      </a:lnTo>
                      <a:lnTo>
                        <a:pt x="82" y="16"/>
                      </a:lnTo>
                      <a:lnTo>
                        <a:pt x="72" y="1"/>
                      </a:lnTo>
                      <a:lnTo>
                        <a:pt x="30" y="0"/>
                      </a:lnTo>
                      <a:lnTo>
                        <a:pt x="10" y="27"/>
                      </a:lnTo>
                      <a:lnTo>
                        <a:pt x="0" y="41"/>
                      </a:lnTo>
                      <a:lnTo>
                        <a:pt x="1" y="52"/>
                      </a:lnTo>
                      <a:lnTo>
                        <a:pt x="5" y="76"/>
                      </a:lnTo>
                      <a:lnTo>
                        <a:pt x="2" y="113"/>
                      </a:lnTo>
                      <a:lnTo>
                        <a:pt x="3" y="122"/>
                      </a:lnTo>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
                <p:cNvSpPr/>
                <p:nvPr/>
              </p:nvSpPr>
              <p:spPr>
                <a:xfrm>
                  <a:off x="2481120" y="1817640"/>
                  <a:ext cx="15480" cy="27000"/>
                </a:xfrm>
                <a:custGeom>
                  <a:avLst/>
                  <a:gdLst/>
                  <a:ahLst/>
                  <a:rect l="l" t="t" r="r" b="b"/>
                  <a:pathLst>
                    <a:path w="10" h="17">
                      <a:moveTo>
                        <a:pt x="2" y="1"/>
                      </a:moveTo>
                      <a:lnTo>
                        <a:pt x="5" y="0"/>
                      </a:lnTo>
                      <a:lnTo>
                        <a:pt x="7" y="2"/>
                      </a:lnTo>
                      <a:lnTo>
                        <a:pt x="9" y="6"/>
                      </a:lnTo>
                      <a:lnTo>
                        <a:pt x="9" y="13"/>
                      </a:lnTo>
                      <a:lnTo>
                        <a:pt x="6" y="16"/>
                      </a:lnTo>
                      <a:lnTo>
                        <a:pt x="0" y="13"/>
                      </a:lnTo>
                      <a:lnTo>
                        <a:pt x="0" y="7"/>
                      </a:lnTo>
                      <a:lnTo>
                        <a:pt x="2" y="1"/>
                      </a:lnTo>
                    </a:path>
                  </a:pathLst>
                </a:custGeom>
                <a:solidFill>
                  <a:srgbClr val="ffea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7" name=""/>
                <p:cNvSpPr/>
                <p:nvPr/>
              </p:nvSpPr>
              <p:spPr>
                <a:xfrm>
                  <a:off x="2600280" y="1824120"/>
                  <a:ext cx="5760" cy="15840"/>
                </a:xfrm>
                <a:custGeom>
                  <a:avLst/>
                  <a:gdLst/>
                  <a:ahLst/>
                  <a:rect l="l" t="t" r="r" b="b"/>
                  <a:pathLst>
                    <a:path w="4" h="10">
                      <a:moveTo>
                        <a:pt x="2" y="0"/>
                      </a:moveTo>
                      <a:lnTo>
                        <a:pt x="0" y="9"/>
                      </a:lnTo>
                      <a:lnTo>
                        <a:pt x="2" y="9"/>
                      </a:lnTo>
                      <a:lnTo>
                        <a:pt x="3" y="6"/>
                      </a:lnTo>
                      <a:lnTo>
                        <a:pt x="3" y="3"/>
                      </a:lnTo>
                      <a:lnTo>
                        <a:pt x="2" y="0"/>
                      </a:lnTo>
                    </a:path>
                  </a:pathLst>
                </a:custGeom>
                <a:solidFill>
                  <a:srgbClr val="ffe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08" name=""/>
                <p:cNvSpPr/>
                <p:nvPr/>
              </p:nvSpPr>
              <p:spPr>
                <a:xfrm>
                  <a:off x="1939680" y="1920960"/>
                  <a:ext cx="603000" cy="446040"/>
                </a:xfrm>
                <a:custGeom>
                  <a:avLst/>
                  <a:gdLst/>
                  <a:ahLst/>
                  <a:rect l="l" t="t" r="r" b="b"/>
                  <a:pathLst>
                    <a:path w="380" h="281">
                      <a:moveTo>
                        <a:pt x="322" y="218"/>
                      </a:moveTo>
                      <a:lnTo>
                        <a:pt x="292" y="201"/>
                      </a:lnTo>
                      <a:lnTo>
                        <a:pt x="266" y="209"/>
                      </a:lnTo>
                      <a:lnTo>
                        <a:pt x="255" y="203"/>
                      </a:lnTo>
                      <a:lnTo>
                        <a:pt x="221" y="172"/>
                      </a:lnTo>
                      <a:lnTo>
                        <a:pt x="213" y="217"/>
                      </a:lnTo>
                      <a:lnTo>
                        <a:pt x="227" y="223"/>
                      </a:lnTo>
                      <a:lnTo>
                        <a:pt x="242" y="216"/>
                      </a:lnTo>
                      <a:lnTo>
                        <a:pt x="261" y="222"/>
                      </a:lnTo>
                      <a:lnTo>
                        <a:pt x="274" y="221"/>
                      </a:lnTo>
                      <a:lnTo>
                        <a:pt x="312" y="220"/>
                      </a:lnTo>
                      <a:lnTo>
                        <a:pt x="323" y="233"/>
                      </a:lnTo>
                      <a:lnTo>
                        <a:pt x="319" y="260"/>
                      </a:lnTo>
                      <a:lnTo>
                        <a:pt x="313" y="265"/>
                      </a:lnTo>
                      <a:lnTo>
                        <a:pt x="278" y="265"/>
                      </a:lnTo>
                      <a:lnTo>
                        <a:pt x="137" y="280"/>
                      </a:lnTo>
                      <a:lnTo>
                        <a:pt x="1" y="263"/>
                      </a:lnTo>
                      <a:lnTo>
                        <a:pt x="0" y="143"/>
                      </a:lnTo>
                      <a:lnTo>
                        <a:pt x="8" y="109"/>
                      </a:lnTo>
                      <a:lnTo>
                        <a:pt x="22" y="74"/>
                      </a:lnTo>
                      <a:lnTo>
                        <a:pt x="29" y="64"/>
                      </a:lnTo>
                      <a:lnTo>
                        <a:pt x="50" y="41"/>
                      </a:lnTo>
                      <a:lnTo>
                        <a:pt x="71" y="28"/>
                      </a:lnTo>
                      <a:lnTo>
                        <a:pt x="87" y="17"/>
                      </a:lnTo>
                      <a:lnTo>
                        <a:pt x="106" y="9"/>
                      </a:lnTo>
                      <a:lnTo>
                        <a:pt x="114" y="0"/>
                      </a:lnTo>
                      <a:lnTo>
                        <a:pt x="189" y="24"/>
                      </a:lnTo>
                      <a:lnTo>
                        <a:pt x="198" y="37"/>
                      </a:lnTo>
                      <a:lnTo>
                        <a:pt x="213" y="45"/>
                      </a:lnTo>
                      <a:lnTo>
                        <a:pt x="230" y="59"/>
                      </a:lnTo>
                      <a:lnTo>
                        <a:pt x="251" y="87"/>
                      </a:lnTo>
                      <a:lnTo>
                        <a:pt x="311" y="144"/>
                      </a:lnTo>
                      <a:lnTo>
                        <a:pt x="325" y="149"/>
                      </a:lnTo>
                      <a:lnTo>
                        <a:pt x="329" y="161"/>
                      </a:lnTo>
                      <a:lnTo>
                        <a:pt x="358" y="168"/>
                      </a:lnTo>
                      <a:lnTo>
                        <a:pt x="372" y="184"/>
                      </a:lnTo>
                      <a:lnTo>
                        <a:pt x="379" y="203"/>
                      </a:lnTo>
                      <a:lnTo>
                        <a:pt x="322" y="218"/>
                      </a:lnTo>
                    </a:path>
                  </a:pathLst>
                </a:cu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2541240" y="2168280"/>
                  <a:ext cx="93600" cy="146160"/>
                </a:xfrm>
                <a:custGeom>
                  <a:avLst/>
                  <a:gdLst/>
                  <a:ahLst/>
                  <a:rect l="l" t="t" r="r" b="b"/>
                  <a:pathLst>
                    <a:path w="59" h="92">
                      <a:moveTo>
                        <a:pt x="0" y="1"/>
                      </a:moveTo>
                      <a:lnTo>
                        <a:pt x="0" y="3"/>
                      </a:lnTo>
                      <a:lnTo>
                        <a:pt x="1" y="5"/>
                      </a:lnTo>
                      <a:lnTo>
                        <a:pt x="51" y="86"/>
                      </a:lnTo>
                      <a:lnTo>
                        <a:pt x="58" y="91"/>
                      </a:lnTo>
                      <a:lnTo>
                        <a:pt x="55" y="82"/>
                      </a:lnTo>
                      <a:lnTo>
                        <a:pt x="4" y="0"/>
                      </a:lnTo>
                      <a:lnTo>
                        <a:pt x="2" y="0"/>
                      </a:lnTo>
                      <a:lnTo>
                        <a:pt x="0" y="1"/>
                      </a:lnTo>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
                <p:cNvSpPr/>
                <p:nvPr/>
              </p:nvSpPr>
              <p:spPr>
                <a:xfrm>
                  <a:off x="2471400" y="2230200"/>
                  <a:ext cx="139320" cy="88920"/>
                </a:xfrm>
                <a:custGeom>
                  <a:avLst/>
                  <a:gdLst/>
                  <a:ahLst/>
                  <a:rect l="l" t="t" r="r" b="b"/>
                  <a:pathLst>
                    <a:path w="88" h="56">
                      <a:moveTo>
                        <a:pt x="0" y="20"/>
                      </a:moveTo>
                      <a:lnTo>
                        <a:pt x="5" y="10"/>
                      </a:lnTo>
                      <a:lnTo>
                        <a:pt x="13" y="5"/>
                      </a:lnTo>
                      <a:lnTo>
                        <a:pt x="21" y="6"/>
                      </a:lnTo>
                      <a:lnTo>
                        <a:pt x="35" y="9"/>
                      </a:lnTo>
                      <a:lnTo>
                        <a:pt x="44" y="2"/>
                      </a:lnTo>
                      <a:lnTo>
                        <a:pt x="52" y="0"/>
                      </a:lnTo>
                      <a:lnTo>
                        <a:pt x="83" y="5"/>
                      </a:lnTo>
                      <a:lnTo>
                        <a:pt x="86" y="11"/>
                      </a:lnTo>
                      <a:lnTo>
                        <a:pt x="82" y="14"/>
                      </a:lnTo>
                      <a:lnTo>
                        <a:pt x="58" y="15"/>
                      </a:lnTo>
                      <a:lnTo>
                        <a:pt x="84" y="27"/>
                      </a:lnTo>
                      <a:lnTo>
                        <a:pt x="87" y="34"/>
                      </a:lnTo>
                      <a:lnTo>
                        <a:pt x="85" y="40"/>
                      </a:lnTo>
                      <a:lnTo>
                        <a:pt x="77" y="46"/>
                      </a:lnTo>
                      <a:lnTo>
                        <a:pt x="74" y="53"/>
                      </a:lnTo>
                      <a:lnTo>
                        <a:pt x="52" y="55"/>
                      </a:lnTo>
                      <a:lnTo>
                        <a:pt x="10" y="51"/>
                      </a:lnTo>
                      <a:lnTo>
                        <a:pt x="0" y="20"/>
                      </a:lnTo>
                    </a:path>
                  </a:pathLst>
                </a:custGeom>
                <a:solidFill>
                  <a:srgbClr val="ffc98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11" name=""/>
                <p:cNvSpPr/>
                <p:nvPr/>
              </p:nvSpPr>
              <p:spPr>
                <a:xfrm>
                  <a:off x="2112840" y="1798560"/>
                  <a:ext cx="188640" cy="220680"/>
                </a:xfrm>
                <a:custGeom>
                  <a:avLst/>
                  <a:gdLst/>
                  <a:ahLst/>
                  <a:rect l="l" t="t" r="r" b="b"/>
                  <a:pathLst>
                    <a:path w="119" h="139">
                      <a:moveTo>
                        <a:pt x="0" y="39"/>
                      </a:moveTo>
                      <a:lnTo>
                        <a:pt x="3" y="61"/>
                      </a:lnTo>
                      <a:lnTo>
                        <a:pt x="5" y="68"/>
                      </a:lnTo>
                      <a:lnTo>
                        <a:pt x="9" y="73"/>
                      </a:lnTo>
                      <a:lnTo>
                        <a:pt x="7" y="79"/>
                      </a:lnTo>
                      <a:lnTo>
                        <a:pt x="11" y="87"/>
                      </a:lnTo>
                      <a:lnTo>
                        <a:pt x="15" y="94"/>
                      </a:lnTo>
                      <a:lnTo>
                        <a:pt x="19" y="102"/>
                      </a:lnTo>
                      <a:lnTo>
                        <a:pt x="35" y="115"/>
                      </a:lnTo>
                      <a:lnTo>
                        <a:pt x="56" y="138"/>
                      </a:lnTo>
                      <a:lnTo>
                        <a:pt x="59" y="134"/>
                      </a:lnTo>
                      <a:lnTo>
                        <a:pt x="63" y="125"/>
                      </a:lnTo>
                      <a:lnTo>
                        <a:pt x="65" y="115"/>
                      </a:lnTo>
                      <a:lnTo>
                        <a:pt x="74" y="117"/>
                      </a:lnTo>
                      <a:lnTo>
                        <a:pt x="83" y="116"/>
                      </a:lnTo>
                      <a:lnTo>
                        <a:pt x="88" y="114"/>
                      </a:lnTo>
                      <a:lnTo>
                        <a:pt x="91" y="110"/>
                      </a:lnTo>
                      <a:lnTo>
                        <a:pt x="103" y="85"/>
                      </a:lnTo>
                      <a:lnTo>
                        <a:pt x="109" y="77"/>
                      </a:lnTo>
                      <a:lnTo>
                        <a:pt x="113" y="65"/>
                      </a:lnTo>
                      <a:lnTo>
                        <a:pt x="115" y="51"/>
                      </a:lnTo>
                      <a:lnTo>
                        <a:pt x="117" y="45"/>
                      </a:lnTo>
                      <a:lnTo>
                        <a:pt x="118" y="41"/>
                      </a:lnTo>
                      <a:lnTo>
                        <a:pt x="118" y="18"/>
                      </a:lnTo>
                      <a:lnTo>
                        <a:pt x="116" y="8"/>
                      </a:lnTo>
                      <a:lnTo>
                        <a:pt x="111" y="0"/>
                      </a:lnTo>
                      <a:lnTo>
                        <a:pt x="15" y="10"/>
                      </a:lnTo>
                      <a:lnTo>
                        <a:pt x="0" y="39"/>
                      </a:lnTo>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a:off x="2193840" y="2027160"/>
                  <a:ext cx="43920" cy="222120"/>
                </a:xfrm>
                <a:custGeom>
                  <a:avLst/>
                  <a:gdLst/>
                  <a:ahLst/>
                  <a:rect l="l" t="t" r="r" b="b"/>
                  <a:pathLst>
                    <a:path w="28" h="140">
                      <a:moveTo>
                        <a:pt x="6" y="0"/>
                      </a:moveTo>
                      <a:lnTo>
                        <a:pt x="2" y="4"/>
                      </a:lnTo>
                      <a:lnTo>
                        <a:pt x="0" y="10"/>
                      </a:lnTo>
                      <a:lnTo>
                        <a:pt x="1" y="22"/>
                      </a:lnTo>
                      <a:lnTo>
                        <a:pt x="1" y="70"/>
                      </a:lnTo>
                      <a:lnTo>
                        <a:pt x="2" y="103"/>
                      </a:lnTo>
                      <a:lnTo>
                        <a:pt x="8" y="139"/>
                      </a:lnTo>
                      <a:lnTo>
                        <a:pt x="14" y="139"/>
                      </a:lnTo>
                      <a:lnTo>
                        <a:pt x="23" y="139"/>
                      </a:lnTo>
                      <a:lnTo>
                        <a:pt x="27" y="133"/>
                      </a:lnTo>
                      <a:lnTo>
                        <a:pt x="19" y="108"/>
                      </a:lnTo>
                      <a:lnTo>
                        <a:pt x="15" y="84"/>
                      </a:lnTo>
                      <a:lnTo>
                        <a:pt x="14" y="56"/>
                      </a:lnTo>
                      <a:lnTo>
                        <a:pt x="11" y="22"/>
                      </a:lnTo>
                      <a:lnTo>
                        <a:pt x="13" y="15"/>
                      </a:lnTo>
                      <a:lnTo>
                        <a:pt x="11" y="5"/>
                      </a:lnTo>
                      <a:lnTo>
                        <a:pt x="6"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a:off x="2214360" y="1741320"/>
                  <a:ext cx="107640" cy="109440"/>
                </a:xfrm>
                <a:custGeom>
                  <a:avLst/>
                  <a:gdLst/>
                  <a:ahLst/>
                  <a:rect l="l" t="t" r="r" b="b"/>
                  <a:pathLst>
                    <a:path w="68" h="69">
                      <a:moveTo>
                        <a:pt x="46" y="36"/>
                      </a:moveTo>
                      <a:lnTo>
                        <a:pt x="52" y="43"/>
                      </a:lnTo>
                      <a:lnTo>
                        <a:pt x="61" y="68"/>
                      </a:lnTo>
                      <a:lnTo>
                        <a:pt x="66" y="62"/>
                      </a:lnTo>
                      <a:lnTo>
                        <a:pt x="67" y="41"/>
                      </a:lnTo>
                      <a:lnTo>
                        <a:pt x="67" y="37"/>
                      </a:lnTo>
                      <a:lnTo>
                        <a:pt x="63" y="34"/>
                      </a:lnTo>
                      <a:lnTo>
                        <a:pt x="56" y="28"/>
                      </a:lnTo>
                      <a:lnTo>
                        <a:pt x="50" y="16"/>
                      </a:lnTo>
                      <a:lnTo>
                        <a:pt x="40" y="5"/>
                      </a:lnTo>
                      <a:lnTo>
                        <a:pt x="25" y="2"/>
                      </a:lnTo>
                      <a:lnTo>
                        <a:pt x="11" y="0"/>
                      </a:lnTo>
                      <a:lnTo>
                        <a:pt x="0" y="3"/>
                      </a:lnTo>
                      <a:lnTo>
                        <a:pt x="1" y="42"/>
                      </a:lnTo>
                      <a:lnTo>
                        <a:pt x="46" y="36"/>
                      </a:lnTo>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2203200" y="1857240"/>
                  <a:ext cx="29880" cy="12600"/>
                </a:xfrm>
                <a:custGeom>
                  <a:avLst/>
                  <a:gdLst/>
                  <a:ahLst/>
                  <a:rect l="l" t="t" r="r" b="b"/>
                  <a:pathLst>
                    <a:path w="19" h="8">
                      <a:moveTo>
                        <a:pt x="0" y="5"/>
                      </a:moveTo>
                      <a:lnTo>
                        <a:pt x="11" y="6"/>
                      </a:lnTo>
                      <a:lnTo>
                        <a:pt x="18" y="7"/>
                      </a:lnTo>
                      <a:lnTo>
                        <a:pt x="14" y="0"/>
                      </a:lnTo>
                      <a:lnTo>
                        <a:pt x="4" y="0"/>
                      </a:lnTo>
                      <a:lnTo>
                        <a:pt x="0" y="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15" name=""/>
                <p:cNvSpPr/>
                <p:nvPr/>
              </p:nvSpPr>
              <p:spPr>
                <a:xfrm>
                  <a:off x="2268360" y="1869840"/>
                  <a:ext cx="21960" cy="14400"/>
                </a:xfrm>
                <a:custGeom>
                  <a:avLst/>
                  <a:gdLst/>
                  <a:ahLst/>
                  <a:rect l="l" t="t" r="r" b="b"/>
                  <a:pathLst>
                    <a:path w="14" h="9">
                      <a:moveTo>
                        <a:pt x="0" y="4"/>
                      </a:moveTo>
                      <a:lnTo>
                        <a:pt x="8" y="8"/>
                      </a:lnTo>
                      <a:lnTo>
                        <a:pt x="13" y="7"/>
                      </a:lnTo>
                      <a:lnTo>
                        <a:pt x="12" y="5"/>
                      </a:lnTo>
                      <a:lnTo>
                        <a:pt x="3" y="0"/>
                      </a:lnTo>
                      <a:lnTo>
                        <a:pt x="0" y="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16" name=""/>
                <p:cNvSpPr/>
                <p:nvPr/>
              </p:nvSpPr>
              <p:spPr>
                <a:xfrm>
                  <a:off x="2516040" y="1792080"/>
                  <a:ext cx="26640" cy="11160"/>
                </a:xfrm>
                <a:custGeom>
                  <a:avLst/>
                  <a:gdLst/>
                  <a:ahLst/>
                  <a:rect l="l" t="t" r="r" b="b"/>
                  <a:pathLst>
                    <a:path w="17" h="7">
                      <a:moveTo>
                        <a:pt x="0" y="0"/>
                      </a:moveTo>
                      <a:lnTo>
                        <a:pt x="4" y="4"/>
                      </a:lnTo>
                      <a:lnTo>
                        <a:pt x="7" y="6"/>
                      </a:lnTo>
                      <a:lnTo>
                        <a:pt x="13" y="6"/>
                      </a:lnTo>
                      <a:lnTo>
                        <a:pt x="16" y="4"/>
                      </a:lnTo>
                      <a:lnTo>
                        <a:pt x="13" y="0"/>
                      </a:lnTo>
                      <a:lnTo>
                        <a:pt x="7" y="0"/>
                      </a:lnTo>
                      <a:lnTo>
                        <a:pt x="1" y="0"/>
                      </a:lnTo>
                      <a:lnTo>
                        <a:pt x="0"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17" name=""/>
                <p:cNvSpPr/>
                <p:nvPr/>
              </p:nvSpPr>
              <p:spPr>
                <a:xfrm>
                  <a:off x="2568240" y="1795320"/>
                  <a:ext cx="26640" cy="11160"/>
                </a:xfrm>
                <a:custGeom>
                  <a:avLst/>
                  <a:gdLst/>
                  <a:ahLst/>
                  <a:rect l="l" t="t" r="r" b="b"/>
                  <a:pathLst>
                    <a:path w="17" h="7">
                      <a:moveTo>
                        <a:pt x="0" y="3"/>
                      </a:moveTo>
                      <a:lnTo>
                        <a:pt x="4" y="0"/>
                      </a:lnTo>
                      <a:lnTo>
                        <a:pt x="10" y="0"/>
                      </a:lnTo>
                      <a:lnTo>
                        <a:pt x="16" y="2"/>
                      </a:lnTo>
                      <a:lnTo>
                        <a:pt x="12" y="5"/>
                      </a:lnTo>
                      <a:lnTo>
                        <a:pt x="9" y="6"/>
                      </a:lnTo>
                      <a:lnTo>
                        <a:pt x="6" y="6"/>
                      </a:lnTo>
                      <a:lnTo>
                        <a:pt x="2" y="4"/>
                      </a:lnTo>
                      <a:lnTo>
                        <a:pt x="0" y="3"/>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18" name=""/>
                <p:cNvSpPr/>
                <p:nvPr/>
              </p:nvSpPr>
              <p:spPr>
                <a:xfrm>
                  <a:off x="2531880" y="1850760"/>
                  <a:ext cx="41040" cy="9720"/>
                </a:xfrm>
                <a:custGeom>
                  <a:avLst/>
                  <a:gdLst/>
                  <a:ahLst/>
                  <a:rect l="l" t="t" r="r" b="b"/>
                  <a:pathLst>
                    <a:path w="26" h="6">
                      <a:moveTo>
                        <a:pt x="0" y="1"/>
                      </a:moveTo>
                      <a:lnTo>
                        <a:pt x="6" y="4"/>
                      </a:lnTo>
                      <a:lnTo>
                        <a:pt x="14" y="5"/>
                      </a:lnTo>
                      <a:lnTo>
                        <a:pt x="19" y="5"/>
                      </a:lnTo>
                      <a:lnTo>
                        <a:pt x="21" y="4"/>
                      </a:lnTo>
                      <a:lnTo>
                        <a:pt x="24" y="2"/>
                      </a:lnTo>
                      <a:lnTo>
                        <a:pt x="25" y="0"/>
                      </a:lnTo>
                      <a:lnTo>
                        <a:pt x="18" y="1"/>
                      </a:lnTo>
                      <a:lnTo>
                        <a:pt x="14" y="1"/>
                      </a:lnTo>
                      <a:lnTo>
                        <a:pt x="8" y="1"/>
                      </a:lnTo>
                      <a:lnTo>
                        <a:pt x="0" y="1"/>
                      </a:lnTo>
                    </a:path>
                  </a:pathLst>
                </a:custGeom>
                <a:solidFill>
                  <a:srgbClr val="ff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19" name=""/>
                <p:cNvSpPr/>
                <p:nvPr/>
              </p:nvSpPr>
              <p:spPr>
                <a:xfrm>
                  <a:off x="3200040" y="1882800"/>
                  <a:ext cx="544320" cy="482400"/>
                </a:xfrm>
                <a:custGeom>
                  <a:avLst/>
                  <a:gdLst/>
                  <a:ahLst/>
                  <a:rect l="l" t="t" r="r" b="b"/>
                  <a:pathLst>
                    <a:path w="343" h="304">
                      <a:moveTo>
                        <a:pt x="44" y="231"/>
                      </a:moveTo>
                      <a:lnTo>
                        <a:pt x="102" y="201"/>
                      </a:lnTo>
                      <a:lnTo>
                        <a:pt x="122" y="178"/>
                      </a:lnTo>
                      <a:lnTo>
                        <a:pt x="139" y="224"/>
                      </a:lnTo>
                      <a:lnTo>
                        <a:pt x="140" y="240"/>
                      </a:lnTo>
                      <a:lnTo>
                        <a:pt x="133" y="241"/>
                      </a:lnTo>
                      <a:lnTo>
                        <a:pt x="119" y="239"/>
                      </a:lnTo>
                      <a:lnTo>
                        <a:pt x="108" y="238"/>
                      </a:lnTo>
                      <a:lnTo>
                        <a:pt x="101" y="235"/>
                      </a:lnTo>
                      <a:lnTo>
                        <a:pt x="88" y="237"/>
                      </a:lnTo>
                      <a:lnTo>
                        <a:pt x="76" y="234"/>
                      </a:lnTo>
                      <a:lnTo>
                        <a:pt x="61" y="230"/>
                      </a:lnTo>
                      <a:lnTo>
                        <a:pt x="49" y="236"/>
                      </a:lnTo>
                      <a:lnTo>
                        <a:pt x="39" y="253"/>
                      </a:lnTo>
                      <a:lnTo>
                        <a:pt x="47" y="279"/>
                      </a:lnTo>
                      <a:lnTo>
                        <a:pt x="78" y="283"/>
                      </a:lnTo>
                      <a:lnTo>
                        <a:pt x="119" y="292"/>
                      </a:lnTo>
                      <a:lnTo>
                        <a:pt x="146" y="300"/>
                      </a:lnTo>
                      <a:lnTo>
                        <a:pt x="211" y="303"/>
                      </a:lnTo>
                      <a:lnTo>
                        <a:pt x="236" y="301"/>
                      </a:lnTo>
                      <a:lnTo>
                        <a:pt x="261" y="294"/>
                      </a:lnTo>
                      <a:lnTo>
                        <a:pt x="337" y="214"/>
                      </a:lnTo>
                      <a:lnTo>
                        <a:pt x="342" y="133"/>
                      </a:lnTo>
                      <a:lnTo>
                        <a:pt x="331" y="95"/>
                      </a:lnTo>
                      <a:lnTo>
                        <a:pt x="320" y="74"/>
                      </a:lnTo>
                      <a:lnTo>
                        <a:pt x="299" y="47"/>
                      </a:lnTo>
                      <a:lnTo>
                        <a:pt x="259" y="28"/>
                      </a:lnTo>
                      <a:lnTo>
                        <a:pt x="250" y="31"/>
                      </a:lnTo>
                      <a:lnTo>
                        <a:pt x="242" y="26"/>
                      </a:lnTo>
                      <a:lnTo>
                        <a:pt x="235" y="15"/>
                      </a:lnTo>
                      <a:lnTo>
                        <a:pt x="220" y="9"/>
                      </a:lnTo>
                      <a:lnTo>
                        <a:pt x="208" y="0"/>
                      </a:lnTo>
                      <a:lnTo>
                        <a:pt x="192" y="1"/>
                      </a:lnTo>
                      <a:lnTo>
                        <a:pt x="124" y="44"/>
                      </a:lnTo>
                      <a:lnTo>
                        <a:pt x="113" y="53"/>
                      </a:lnTo>
                      <a:lnTo>
                        <a:pt x="106" y="60"/>
                      </a:lnTo>
                      <a:lnTo>
                        <a:pt x="92" y="66"/>
                      </a:lnTo>
                      <a:lnTo>
                        <a:pt x="78" y="109"/>
                      </a:lnTo>
                      <a:lnTo>
                        <a:pt x="77" y="124"/>
                      </a:lnTo>
                      <a:lnTo>
                        <a:pt x="72" y="144"/>
                      </a:lnTo>
                      <a:lnTo>
                        <a:pt x="58" y="148"/>
                      </a:lnTo>
                      <a:lnTo>
                        <a:pt x="52" y="155"/>
                      </a:lnTo>
                      <a:lnTo>
                        <a:pt x="51" y="164"/>
                      </a:lnTo>
                      <a:lnTo>
                        <a:pt x="42" y="172"/>
                      </a:lnTo>
                      <a:lnTo>
                        <a:pt x="17" y="189"/>
                      </a:lnTo>
                      <a:lnTo>
                        <a:pt x="0" y="211"/>
                      </a:lnTo>
                      <a:lnTo>
                        <a:pt x="20" y="228"/>
                      </a:lnTo>
                      <a:lnTo>
                        <a:pt x="44" y="2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a:off x="3255840" y="2006640"/>
                  <a:ext cx="159840" cy="252360"/>
                </a:xfrm>
                <a:custGeom>
                  <a:avLst/>
                  <a:gdLst/>
                  <a:ahLst/>
                  <a:rect l="l" t="t" r="r" b="b"/>
                  <a:pathLst>
                    <a:path w="101" h="159">
                      <a:moveTo>
                        <a:pt x="50" y="22"/>
                      </a:moveTo>
                      <a:lnTo>
                        <a:pt x="49" y="31"/>
                      </a:lnTo>
                      <a:lnTo>
                        <a:pt x="52" y="35"/>
                      </a:lnTo>
                      <a:lnTo>
                        <a:pt x="58" y="38"/>
                      </a:lnTo>
                      <a:lnTo>
                        <a:pt x="62" y="42"/>
                      </a:lnTo>
                      <a:lnTo>
                        <a:pt x="62" y="50"/>
                      </a:lnTo>
                      <a:lnTo>
                        <a:pt x="48" y="53"/>
                      </a:lnTo>
                      <a:lnTo>
                        <a:pt x="44" y="53"/>
                      </a:lnTo>
                      <a:lnTo>
                        <a:pt x="40" y="49"/>
                      </a:lnTo>
                      <a:lnTo>
                        <a:pt x="37" y="65"/>
                      </a:lnTo>
                      <a:lnTo>
                        <a:pt x="20" y="74"/>
                      </a:lnTo>
                      <a:lnTo>
                        <a:pt x="48" y="65"/>
                      </a:lnTo>
                      <a:lnTo>
                        <a:pt x="54" y="65"/>
                      </a:lnTo>
                      <a:lnTo>
                        <a:pt x="52" y="68"/>
                      </a:lnTo>
                      <a:lnTo>
                        <a:pt x="32" y="80"/>
                      </a:lnTo>
                      <a:lnTo>
                        <a:pt x="53" y="80"/>
                      </a:lnTo>
                      <a:lnTo>
                        <a:pt x="53" y="88"/>
                      </a:lnTo>
                      <a:lnTo>
                        <a:pt x="10" y="92"/>
                      </a:lnTo>
                      <a:lnTo>
                        <a:pt x="0" y="99"/>
                      </a:lnTo>
                      <a:lnTo>
                        <a:pt x="12" y="103"/>
                      </a:lnTo>
                      <a:lnTo>
                        <a:pt x="20" y="110"/>
                      </a:lnTo>
                      <a:lnTo>
                        <a:pt x="20" y="115"/>
                      </a:lnTo>
                      <a:lnTo>
                        <a:pt x="13" y="123"/>
                      </a:lnTo>
                      <a:lnTo>
                        <a:pt x="13" y="131"/>
                      </a:lnTo>
                      <a:lnTo>
                        <a:pt x="17" y="139"/>
                      </a:lnTo>
                      <a:lnTo>
                        <a:pt x="6" y="150"/>
                      </a:lnTo>
                      <a:lnTo>
                        <a:pt x="16" y="158"/>
                      </a:lnTo>
                      <a:lnTo>
                        <a:pt x="27" y="152"/>
                      </a:lnTo>
                      <a:lnTo>
                        <a:pt x="34" y="154"/>
                      </a:lnTo>
                      <a:lnTo>
                        <a:pt x="49" y="142"/>
                      </a:lnTo>
                      <a:lnTo>
                        <a:pt x="71" y="118"/>
                      </a:lnTo>
                      <a:lnTo>
                        <a:pt x="88" y="99"/>
                      </a:lnTo>
                      <a:lnTo>
                        <a:pt x="97" y="127"/>
                      </a:lnTo>
                      <a:lnTo>
                        <a:pt x="100" y="98"/>
                      </a:lnTo>
                      <a:lnTo>
                        <a:pt x="100" y="87"/>
                      </a:lnTo>
                      <a:lnTo>
                        <a:pt x="90" y="79"/>
                      </a:lnTo>
                      <a:lnTo>
                        <a:pt x="81" y="66"/>
                      </a:lnTo>
                      <a:lnTo>
                        <a:pt x="73" y="54"/>
                      </a:lnTo>
                      <a:lnTo>
                        <a:pt x="67" y="38"/>
                      </a:lnTo>
                      <a:lnTo>
                        <a:pt x="60" y="17"/>
                      </a:lnTo>
                      <a:lnTo>
                        <a:pt x="57" y="0"/>
                      </a:lnTo>
                      <a:lnTo>
                        <a:pt x="51" y="16"/>
                      </a:lnTo>
                      <a:lnTo>
                        <a:pt x="50" y="22"/>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3335040" y="2009520"/>
                  <a:ext cx="331560" cy="360360"/>
                </a:xfrm>
                <a:custGeom>
                  <a:avLst/>
                  <a:gdLst/>
                  <a:ahLst/>
                  <a:rect l="l" t="t" r="r" b="b"/>
                  <a:pathLst>
                    <a:path w="209" h="227">
                      <a:moveTo>
                        <a:pt x="71" y="95"/>
                      </a:moveTo>
                      <a:lnTo>
                        <a:pt x="99" y="104"/>
                      </a:lnTo>
                      <a:lnTo>
                        <a:pt x="123" y="108"/>
                      </a:lnTo>
                      <a:lnTo>
                        <a:pt x="139" y="79"/>
                      </a:lnTo>
                      <a:lnTo>
                        <a:pt x="138" y="50"/>
                      </a:lnTo>
                      <a:lnTo>
                        <a:pt x="155" y="17"/>
                      </a:lnTo>
                      <a:lnTo>
                        <a:pt x="191" y="0"/>
                      </a:lnTo>
                      <a:lnTo>
                        <a:pt x="162" y="28"/>
                      </a:lnTo>
                      <a:lnTo>
                        <a:pt x="153" y="55"/>
                      </a:lnTo>
                      <a:lnTo>
                        <a:pt x="153" y="84"/>
                      </a:lnTo>
                      <a:lnTo>
                        <a:pt x="171" y="71"/>
                      </a:lnTo>
                      <a:lnTo>
                        <a:pt x="193" y="45"/>
                      </a:lnTo>
                      <a:lnTo>
                        <a:pt x="208" y="30"/>
                      </a:lnTo>
                      <a:lnTo>
                        <a:pt x="208" y="42"/>
                      </a:lnTo>
                      <a:lnTo>
                        <a:pt x="191" y="72"/>
                      </a:lnTo>
                      <a:lnTo>
                        <a:pt x="165" y="106"/>
                      </a:lnTo>
                      <a:lnTo>
                        <a:pt x="144" y="126"/>
                      </a:lnTo>
                      <a:lnTo>
                        <a:pt x="129" y="132"/>
                      </a:lnTo>
                      <a:lnTo>
                        <a:pt x="129" y="141"/>
                      </a:lnTo>
                      <a:lnTo>
                        <a:pt x="140" y="158"/>
                      </a:lnTo>
                      <a:lnTo>
                        <a:pt x="150" y="184"/>
                      </a:lnTo>
                      <a:lnTo>
                        <a:pt x="142" y="177"/>
                      </a:lnTo>
                      <a:lnTo>
                        <a:pt x="133" y="168"/>
                      </a:lnTo>
                      <a:lnTo>
                        <a:pt x="121" y="163"/>
                      </a:lnTo>
                      <a:lnTo>
                        <a:pt x="110" y="161"/>
                      </a:lnTo>
                      <a:lnTo>
                        <a:pt x="100" y="159"/>
                      </a:lnTo>
                      <a:lnTo>
                        <a:pt x="106" y="175"/>
                      </a:lnTo>
                      <a:lnTo>
                        <a:pt x="123" y="189"/>
                      </a:lnTo>
                      <a:lnTo>
                        <a:pt x="136" y="197"/>
                      </a:lnTo>
                      <a:lnTo>
                        <a:pt x="130" y="183"/>
                      </a:lnTo>
                      <a:lnTo>
                        <a:pt x="144" y="186"/>
                      </a:lnTo>
                      <a:lnTo>
                        <a:pt x="149" y="199"/>
                      </a:lnTo>
                      <a:lnTo>
                        <a:pt x="147" y="215"/>
                      </a:lnTo>
                      <a:lnTo>
                        <a:pt x="138" y="225"/>
                      </a:lnTo>
                      <a:lnTo>
                        <a:pt x="121" y="226"/>
                      </a:lnTo>
                      <a:lnTo>
                        <a:pt x="103" y="216"/>
                      </a:lnTo>
                      <a:lnTo>
                        <a:pt x="95" y="202"/>
                      </a:lnTo>
                      <a:lnTo>
                        <a:pt x="86" y="173"/>
                      </a:lnTo>
                      <a:lnTo>
                        <a:pt x="71" y="165"/>
                      </a:lnTo>
                      <a:lnTo>
                        <a:pt x="35" y="172"/>
                      </a:lnTo>
                      <a:lnTo>
                        <a:pt x="13" y="185"/>
                      </a:lnTo>
                      <a:lnTo>
                        <a:pt x="10" y="180"/>
                      </a:lnTo>
                      <a:lnTo>
                        <a:pt x="16" y="167"/>
                      </a:lnTo>
                      <a:lnTo>
                        <a:pt x="0" y="173"/>
                      </a:lnTo>
                      <a:lnTo>
                        <a:pt x="6" y="164"/>
                      </a:lnTo>
                      <a:lnTo>
                        <a:pt x="26" y="159"/>
                      </a:lnTo>
                      <a:lnTo>
                        <a:pt x="40" y="161"/>
                      </a:lnTo>
                      <a:lnTo>
                        <a:pt x="49" y="161"/>
                      </a:lnTo>
                      <a:lnTo>
                        <a:pt x="69" y="157"/>
                      </a:lnTo>
                      <a:lnTo>
                        <a:pt x="71" y="95"/>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3441600" y="2008080"/>
                  <a:ext cx="59760" cy="165240"/>
                </a:xfrm>
                <a:custGeom>
                  <a:avLst/>
                  <a:gdLst/>
                  <a:ahLst/>
                  <a:rect l="l" t="t" r="r" b="b"/>
                  <a:pathLst>
                    <a:path w="38" h="104">
                      <a:moveTo>
                        <a:pt x="10" y="101"/>
                      </a:moveTo>
                      <a:lnTo>
                        <a:pt x="12" y="81"/>
                      </a:lnTo>
                      <a:lnTo>
                        <a:pt x="17" y="56"/>
                      </a:lnTo>
                      <a:lnTo>
                        <a:pt x="17" y="43"/>
                      </a:lnTo>
                      <a:lnTo>
                        <a:pt x="13" y="32"/>
                      </a:lnTo>
                      <a:lnTo>
                        <a:pt x="14" y="22"/>
                      </a:lnTo>
                      <a:lnTo>
                        <a:pt x="19" y="9"/>
                      </a:lnTo>
                      <a:lnTo>
                        <a:pt x="37" y="10"/>
                      </a:lnTo>
                      <a:lnTo>
                        <a:pt x="10" y="0"/>
                      </a:lnTo>
                      <a:lnTo>
                        <a:pt x="0" y="23"/>
                      </a:lnTo>
                      <a:lnTo>
                        <a:pt x="2" y="103"/>
                      </a:lnTo>
                      <a:lnTo>
                        <a:pt x="10" y="101"/>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3514680" y="1882800"/>
                  <a:ext cx="229680" cy="492120"/>
                </a:xfrm>
                <a:custGeom>
                  <a:avLst/>
                  <a:gdLst/>
                  <a:ahLst/>
                  <a:rect l="l" t="t" r="r" b="b"/>
                  <a:pathLst>
                    <a:path w="145" h="310">
                      <a:moveTo>
                        <a:pt x="3" y="13"/>
                      </a:moveTo>
                      <a:lnTo>
                        <a:pt x="13" y="32"/>
                      </a:lnTo>
                      <a:lnTo>
                        <a:pt x="10" y="66"/>
                      </a:lnTo>
                      <a:lnTo>
                        <a:pt x="23" y="17"/>
                      </a:lnTo>
                      <a:lnTo>
                        <a:pt x="29" y="16"/>
                      </a:lnTo>
                      <a:lnTo>
                        <a:pt x="35" y="24"/>
                      </a:lnTo>
                      <a:lnTo>
                        <a:pt x="33" y="33"/>
                      </a:lnTo>
                      <a:lnTo>
                        <a:pt x="26" y="50"/>
                      </a:lnTo>
                      <a:lnTo>
                        <a:pt x="39" y="37"/>
                      </a:lnTo>
                      <a:lnTo>
                        <a:pt x="44" y="39"/>
                      </a:lnTo>
                      <a:lnTo>
                        <a:pt x="18" y="79"/>
                      </a:lnTo>
                      <a:lnTo>
                        <a:pt x="65" y="34"/>
                      </a:lnTo>
                      <a:lnTo>
                        <a:pt x="94" y="48"/>
                      </a:lnTo>
                      <a:lnTo>
                        <a:pt x="100" y="67"/>
                      </a:lnTo>
                      <a:lnTo>
                        <a:pt x="120" y="86"/>
                      </a:lnTo>
                      <a:lnTo>
                        <a:pt x="122" y="104"/>
                      </a:lnTo>
                      <a:lnTo>
                        <a:pt x="131" y="120"/>
                      </a:lnTo>
                      <a:lnTo>
                        <a:pt x="126" y="137"/>
                      </a:lnTo>
                      <a:lnTo>
                        <a:pt x="102" y="147"/>
                      </a:lnTo>
                      <a:lnTo>
                        <a:pt x="103" y="154"/>
                      </a:lnTo>
                      <a:lnTo>
                        <a:pt x="124" y="171"/>
                      </a:lnTo>
                      <a:lnTo>
                        <a:pt x="108" y="172"/>
                      </a:lnTo>
                      <a:lnTo>
                        <a:pt x="91" y="165"/>
                      </a:lnTo>
                      <a:lnTo>
                        <a:pt x="127" y="199"/>
                      </a:lnTo>
                      <a:lnTo>
                        <a:pt x="122" y="203"/>
                      </a:lnTo>
                      <a:lnTo>
                        <a:pt x="97" y="199"/>
                      </a:lnTo>
                      <a:lnTo>
                        <a:pt x="97" y="221"/>
                      </a:lnTo>
                      <a:lnTo>
                        <a:pt x="86" y="235"/>
                      </a:lnTo>
                      <a:lnTo>
                        <a:pt x="77" y="228"/>
                      </a:lnTo>
                      <a:lnTo>
                        <a:pt x="58" y="263"/>
                      </a:lnTo>
                      <a:lnTo>
                        <a:pt x="36" y="282"/>
                      </a:lnTo>
                      <a:lnTo>
                        <a:pt x="27" y="304"/>
                      </a:lnTo>
                      <a:lnTo>
                        <a:pt x="34" y="309"/>
                      </a:lnTo>
                      <a:lnTo>
                        <a:pt x="93" y="288"/>
                      </a:lnTo>
                      <a:lnTo>
                        <a:pt x="144" y="205"/>
                      </a:lnTo>
                      <a:lnTo>
                        <a:pt x="144" y="132"/>
                      </a:lnTo>
                      <a:lnTo>
                        <a:pt x="129" y="87"/>
                      </a:lnTo>
                      <a:lnTo>
                        <a:pt x="120" y="68"/>
                      </a:lnTo>
                      <a:lnTo>
                        <a:pt x="110" y="60"/>
                      </a:lnTo>
                      <a:lnTo>
                        <a:pt x="100" y="44"/>
                      </a:lnTo>
                      <a:lnTo>
                        <a:pt x="59" y="25"/>
                      </a:lnTo>
                      <a:lnTo>
                        <a:pt x="50" y="31"/>
                      </a:lnTo>
                      <a:lnTo>
                        <a:pt x="44" y="25"/>
                      </a:lnTo>
                      <a:lnTo>
                        <a:pt x="42" y="17"/>
                      </a:lnTo>
                      <a:lnTo>
                        <a:pt x="26" y="8"/>
                      </a:lnTo>
                      <a:lnTo>
                        <a:pt x="18" y="7"/>
                      </a:lnTo>
                      <a:lnTo>
                        <a:pt x="10" y="0"/>
                      </a:lnTo>
                      <a:lnTo>
                        <a:pt x="0" y="0"/>
                      </a:lnTo>
                      <a:lnTo>
                        <a:pt x="3" y="13"/>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a:off x="3416040" y="1981080"/>
                  <a:ext cx="50400" cy="284040"/>
                </a:xfrm>
                <a:custGeom>
                  <a:avLst/>
                  <a:gdLst/>
                  <a:ahLst/>
                  <a:rect l="l" t="t" r="r" b="b"/>
                  <a:pathLst>
                    <a:path w="32" h="179">
                      <a:moveTo>
                        <a:pt x="20" y="0"/>
                      </a:moveTo>
                      <a:lnTo>
                        <a:pt x="11" y="5"/>
                      </a:lnTo>
                      <a:lnTo>
                        <a:pt x="7" y="15"/>
                      </a:lnTo>
                      <a:lnTo>
                        <a:pt x="7" y="23"/>
                      </a:lnTo>
                      <a:lnTo>
                        <a:pt x="7" y="50"/>
                      </a:lnTo>
                      <a:lnTo>
                        <a:pt x="5" y="69"/>
                      </a:lnTo>
                      <a:lnTo>
                        <a:pt x="3" y="92"/>
                      </a:lnTo>
                      <a:lnTo>
                        <a:pt x="0" y="108"/>
                      </a:lnTo>
                      <a:lnTo>
                        <a:pt x="0" y="129"/>
                      </a:lnTo>
                      <a:lnTo>
                        <a:pt x="1" y="146"/>
                      </a:lnTo>
                      <a:lnTo>
                        <a:pt x="10" y="178"/>
                      </a:lnTo>
                      <a:lnTo>
                        <a:pt x="31" y="172"/>
                      </a:lnTo>
                      <a:lnTo>
                        <a:pt x="22" y="144"/>
                      </a:lnTo>
                      <a:lnTo>
                        <a:pt x="18" y="122"/>
                      </a:lnTo>
                      <a:lnTo>
                        <a:pt x="20" y="101"/>
                      </a:lnTo>
                      <a:lnTo>
                        <a:pt x="24" y="82"/>
                      </a:lnTo>
                      <a:lnTo>
                        <a:pt x="29" y="63"/>
                      </a:lnTo>
                      <a:lnTo>
                        <a:pt x="29" y="53"/>
                      </a:lnTo>
                      <a:lnTo>
                        <a:pt x="26" y="43"/>
                      </a:lnTo>
                      <a:lnTo>
                        <a:pt x="22" y="37"/>
                      </a:lnTo>
                      <a:lnTo>
                        <a:pt x="23" y="14"/>
                      </a:lnTo>
                      <a:lnTo>
                        <a:pt x="24" y="1"/>
                      </a:lnTo>
                      <a:lnTo>
                        <a:pt x="20" y="0"/>
                      </a:lnTo>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3128760" y="2197080"/>
                  <a:ext cx="151920" cy="125280"/>
                </a:xfrm>
                <a:custGeom>
                  <a:avLst/>
                  <a:gdLst/>
                  <a:ahLst/>
                  <a:rect l="l" t="t" r="r" b="b"/>
                  <a:pathLst>
                    <a:path w="96" h="79">
                      <a:moveTo>
                        <a:pt x="27" y="0"/>
                      </a:moveTo>
                      <a:lnTo>
                        <a:pt x="22" y="3"/>
                      </a:lnTo>
                      <a:lnTo>
                        <a:pt x="22" y="7"/>
                      </a:lnTo>
                      <a:lnTo>
                        <a:pt x="14" y="10"/>
                      </a:lnTo>
                      <a:lnTo>
                        <a:pt x="12" y="13"/>
                      </a:lnTo>
                      <a:lnTo>
                        <a:pt x="9" y="24"/>
                      </a:lnTo>
                      <a:lnTo>
                        <a:pt x="2" y="28"/>
                      </a:lnTo>
                      <a:lnTo>
                        <a:pt x="0" y="44"/>
                      </a:lnTo>
                      <a:lnTo>
                        <a:pt x="4" y="60"/>
                      </a:lnTo>
                      <a:lnTo>
                        <a:pt x="21" y="67"/>
                      </a:lnTo>
                      <a:lnTo>
                        <a:pt x="47" y="76"/>
                      </a:lnTo>
                      <a:lnTo>
                        <a:pt x="68" y="77"/>
                      </a:lnTo>
                      <a:lnTo>
                        <a:pt x="90" y="78"/>
                      </a:lnTo>
                      <a:lnTo>
                        <a:pt x="88" y="67"/>
                      </a:lnTo>
                      <a:lnTo>
                        <a:pt x="88" y="59"/>
                      </a:lnTo>
                      <a:lnTo>
                        <a:pt x="89" y="50"/>
                      </a:lnTo>
                      <a:lnTo>
                        <a:pt x="95" y="38"/>
                      </a:lnTo>
                      <a:lnTo>
                        <a:pt x="89" y="35"/>
                      </a:lnTo>
                      <a:lnTo>
                        <a:pt x="83" y="29"/>
                      </a:lnTo>
                      <a:lnTo>
                        <a:pt x="79" y="22"/>
                      </a:lnTo>
                      <a:lnTo>
                        <a:pt x="74" y="16"/>
                      </a:lnTo>
                      <a:lnTo>
                        <a:pt x="69" y="12"/>
                      </a:lnTo>
                      <a:lnTo>
                        <a:pt x="64" y="10"/>
                      </a:lnTo>
                      <a:lnTo>
                        <a:pt x="56" y="12"/>
                      </a:lnTo>
                      <a:lnTo>
                        <a:pt x="46" y="14"/>
                      </a:lnTo>
                      <a:lnTo>
                        <a:pt x="42" y="12"/>
                      </a:lnTo>
                      <a:lnTo>
                        <a:pt x="39" y="4"/>
                      </a:lnTo>
                      <a:lnTo>
                        <a:pt x="34" y="2"/>
                      </a:lnTo>
                      <a:lnTo>
                        <a:pt x="27" y="0"/>
                      </a:lnTo>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3333600" y="1738080"/>
                  <a:ext cx="210600" cy="247680"/>
                </a:xfrm>
                <a:custGeom>
                  <a:avLst/>
                  <a:gdLst/>
                  <a:ahLst/>
                  <a:rect l="l" t="t" r="r" b="b"/>
                  <a:pathLst>
                    <a:path w="133" h="156">
                      <a:moveTo>
                        <a:pt x="130" y="42"/>
                      </a:moveTo>
                      <a:lnTo>
                        <a:pt x="132" y="49"/>
                      </a:lnTo>
                      <a:lnTo>
                        <a:pt x="132" y="55"/>
                      </a:lnTo>
                      <a:lnTo>
                        <a:pt x="129" y="63"/>
                      </a:lnTo>
                      <a:lnTo>
                        <a:pt x="124" y="76"/>
                      </a:lnTo>
                      <a:lnTo>
                        <a:pt x="114" y="85"/>
                      </a:lnTo>
                      <a:lnTo>
                        <a:pt x="106" y="123"/>
                      </a:lnTo>
                      <a:lnTo>
                        <a:pt x="94" y="135"/>
                      </a:lnTo>
                      <a:lnTo>
                        <a:pt x="85" y="146"/>
                      </a:lnTo>
                      <a:lnTo>
                        <a:pt x="79" y="154"/>
                      </a:lnTo>
                      <a:lnTo>
                        <a:pt x="76" y="155"/>
                      </a:lnTo>
                      <a:lnTo>
                        <a:pt x="60" y="134"/>
                      </a:lnTo>
                      <a:lnTo>
                        <a:pt x="48" y="136"/>
                      </a:lnTo>
                      <a:lnTo>
                        <a:pt x="42" y="136"/>
                      </a:lnTo>
                      <a:lnTo>
                        <a:pt x="37" y="134"/>
                      </a:lnTo>
                      <a:lnTo>
                        <a:pt x="35" y="130"/>
                      </a:lnTo>
                      <a:lnTo>
                        <a:pt x="31" y="118"/>
                      </a:lnTo>
                      <a:lnTo>
                        <a:pt x="22" y="97"/>
                      </a:lnTo>
                      <a:lnTo>
                        <a:pt x="11" y="84"/>
                      </a:lnTo>
                      <a:lnTo>
                        <a:pt x="8" y="73"/>
                      </a:lnTo>
                      <a:lnTo>
                        <a:pt x="6" y="62"/>
                      </a:lnTo>
                      <a:lnTo>
                        <a:pt x="2" y="47"/>
                      </a:lnTo>
                      <a:lnTo>
                        <a:pt x="0" y="25"/>
                      </a:lnTo>
                      <a:lnTo>
                        <a:pt x="2" y="15"/>
                      </a:lnTo>
                      <a:lnTo>
                        <a:pt x="6" y="7"/>
                      </a:lnTo>
                      <a:lnTo>
                        <a:pt x="96" y="0"/>
                      </a:lnTo>
                      <a:lnTo>
                        <a:pt x="124" y="31"/>
                      </a:lnTo>
                      <a:lnTo>
                        <a:pt x="130" y="42"/>
                      </a:lnTo>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a:off x="3354120" y="1832040"/>
                  <a:ext cx="18720" cy="14040"/>
                </a:xfrm>
                <a:custGeom>
                  <a:avLst/>
                  <a:gdLst/>
                  <a:ahLst/>
                  <a:rect l="l" t="t" r="r" b="b"/>
                  <a:pathLst>
                    <a:path w="12" h="9">
                      <a:moveTo>
                        <a:pt x="0" y="6"/>
                      </a:moveTo>
                      <a:lnTo>
                        <a:pt x="3" y="8"/>
                      </a:lnTo>
                      <a:lnTo>
                        <a:pt x="11" y="6"/>
                      </a:lnTo>
                      <a:lnTo>
                        <a:pt x="11" y="0"/>
                      </a:lnTo>
                      <a:lnTo>
                        <a:pt x="2" y="1"/>
                      </a:lnTo>
                      <a:lnTo>
                        <a:pt x="0" y="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8" name=""/>
                <p:cNvSpPr/>
                <p:nvPr/>
              </p:nvSpPr>
              <p:spPr>
                <a:xfrm>
                  <a:off x="3417840" y="1819080"/>
                  <a:ext cx="26640" cy="11160"/>
                </a:xfrm>
                <a:custGeom>
                  <a:avLst/>
                  <a:gdLst/>
                  <a:ahLst/>
                  <a:rect l="l" t="t" r="r" b="b"/>
                  <a:pathLst>
                    <a:path w="17" h="7">
                      <a:moveTo>
                        <a:pt x="2" y="6"/>
                      </a:moveTo>
                      <a:lnTo>
                        <a:pt x="9" y="5"/>
                      </a:lnTo>
                      <a:lnTo>
                        <a:pt x="16" y="3"/>
                      </a:lnTo>
                      <a:lnTo>
                        <a:pt x="7" y="0"/>
                      </a:lnTo>
                      <a:lnTo>
                        <a:pt x="0" y="0"/>
                      </a:lnTo>
                      <a:lnTo>
                        <a:pt x="2"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9" name=""/>
                <p:cNvSpPr/>
                <p:nvPr/>
              </p:nvSpPr>
              <p:spPr>
                <a:xfrm>
                  <a:off x="3335040" y="1703160"/>
                  <a:ext cx="168120" cy="54000"/>
                </a:xfrm>
                <a:custGeom>
                  <a:avLst/>
                  <a:gdLst/>
                  <a:ahLst/>
                  <a:rect l="l" t="t" r="r" b="b"/>
                  <a:pathLst>
                    <a:path w="106" h="34">
                      <a:moveTo>
                        <a:pt x="7" y="3"/>
                      </a:moveTo>
                      <a:lnTo>
                        <a:pt x="17" y="0"/>
                      </a:lnTo>
                      <a:lnTo>
                        <a:pt x="43" y="0"/>
                      </a:lnTo>
                      <a:lnTo>
                        <a:pt x="90" y="12"/>
                      </a:lnTo>
                      <a:lnTo>
                        <a:pt x="105" y="29"/>
                      </a:lnTo>
                      <a:lnTo>
                        <a:pt x="81" y="23"/>
                      </a:lnTo>
                      <a:lnTo>
                        <a:pt x="71" y="27"/>
                      </a:lnTo>
                      <a:lnTo>
                        <a:pt x="61" y="31"/>
                      </a:lnTo>
                      <a:lnTo>
                        <a:pt x="46" y="33"/>
                      </a:lnTo>
                      <a:lnTo>
                        <a:pt x="31" y="33"/>
                      </a:lnTo>
                      <a:lnTo>
                        <a:pt x="15" y="29"/>
                      </a:lnTo>
                      <a:lnTo>
                        <a:pt x="4" y="23"/>
                      </a:lnTo>
                      <a:lnTo>
                        <a:pt x="1" y="18"/>
                      </a:lnTo>
                      <a:lnTo>
                        <a:pt x="0" y="14"/>
                      </a:lnTo>
                      <a:lnTo>
                        <a:pt x="0" y="9"/>
                      </a:lnTo>
                      <a:lnTo>
                        <a:pt x="7" y="3"/>
                      </a:lnTo>
                    </a:path>
                  </a:pathLst>
                </a:custGeom>
                <a:solidFill>
                  <a:srgbClr val="70230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30" name=""/>
                <p:cNvSpPr/>
                <p:nvPr/>
              </p:nvSpPr>
              <p:spPr>
                <a:xfrm>
                  <a:off x="3465360" y="1752480"/>
                  <a:ext cx="82080" cy="73080"/>
                </a:xfrm>
                <a:custGeom>
                  <a:avLst/>
                  <a:gdLst/>
                  <a:ahLst/>
                  <a:rect l="l" t="t" r="r" b="b"/>
                  <a:pathLst>
                    <a:path w="52" h="46">
                      <a:moveTo>
                        <a:pt x="49" y="34"/>
                      </a:moveTo>
                      <a:lnTo>
                        <a:pt x="40" y="29"/>
                      </a:lnTo>
                      <a:lnTo>
                        <a:pt x="32" y="29"/>
                      </a:lnTo>
                      <a:lnTo>
                        <a:pt x="29" y="34"/>
                      </a:lnTo>
                      <a:lnTo>
                        <a:pt x="28" y="45"/>
                      </a:lnTo>
                      <a:lnTo>
                        <a:pt x="13" y="43"/>
                      </a:lnTo>
                      <a:lnTo>
                        <a:pt x="13" y="37"/>
                      </a:lnTo>
                      <a:lnTo>
                        <a:pt x="10" y="31"/>
                      </a:lnTo>
                      <a:lnTo>
                        <a:pt x="5" y="27"/>
                      </a:lnTo>
                      <a:lnTo>
                        <a:pt x="3" y="25"/>
                      </a:lnTo>
                      <a:lnTo>
                        <a:pt x="0" y="10"/>
                      </a:lnTo>
                      <a:lnTo>
                        <a:pt x="21" y="0"/>
                      </a:lnTo>
                      <a:lnTo>
                        <a:pt x="43" y="8"/>
                      </a:lnTo>
                      <a:lnTo>
                        <a:pt x="46" y="26"/>
                      </a:lnTo>
                      <a:lnTo>
                        <a:pt x="51" y="31"/>
                      </a:lnTo>
                      <a:lnTo>
                        <a:pt x="49" y="34"/>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31" name=""/>
                <p:cNvSpPr/>
                <p:nvPr/>
              </p:nvSpPr>
              <p:spPr>
                <a:xfrm>
                  <a:off x="3457440" y="1738080"/>
                  <a:ext cx="90000" cy="76320"/>
                </a:xfrm>
                <a:custGeom>
                  <a:avLst/>
                  <a:gdLst/>
                  <a:ahLst/>
                  <a:rect l="l" t="t" r="r" b="b"/>
                  <a:pathLst>
                    <a:path w="57" h="48">
                      <a:moveTo>
                        <a:pt x="54" y="42"/>
                      </a:moveTo>
                      <a:lnTo>
                        <a:pt x="51" y="37"/>
                      </a:lnTo>
                      <a:lnTo>
                        <a:pt x="47" y="33"/>
                      </a:lnTo>
                      <a:lnTo>
                        <a:pt x="44" y="28"/>
                      </a:lnTo>
                      <a:lnTo>
                        <a:pt x="45" y="22"/>
                      </a:lnTo>
                      <a:lnTo>
                        <a:pt x="42" y="19"/>
                      </a:lnTo>
                      <a:lnTo>
                        <a:pt x="38" y="17"/>
                      </a:lnTo>
                      <a:lnTo>
                        <a:pt x="36" y="17"/>
                      </a:lnTo>
                      <a:lnTo>
                        <a:pt x="32" y="17"/>
                      </a:lnTo>
                      <a:lnTo>
                        <a:pt x="36" y="22"/>
                      </a:lnTo>
                      <a:lnTo>
                        <a:pt x="41" y="28"/>
                      </a:lnTo>
                      <a:lnTo>
                        <a:pt x="32" y="22"/>
                      </a:lnTo>
                      <a:lnTo>
                        <a:pt x="25" y="20"/>
                      </a:lnTo>
                      <a:lnTo>
                        <a:pt x="18" y="21"/>
                      </a:lnTo>
                      <a:lnTo>
                        <a:pt x="12" y="21"/>
                      </a:lnTo>
                      <a:lnTo>
                        <a:pt x="8" y="22"/>
                      </a:lnTo>
                      <a:lnTo>
                        <a:pt x="11" y="26"/>
                      </a:lnTo>
                      <a:lnTo>
                        <a:pt x="24" y="27"/>
                      </a:lnTo>
                      <a:lnTo>
                        <a:pt x="34" y="32"/>
                      </a:lnTo>
                      <a:lnTo>
                        <a:pt x="25" y="32"/>
                      </a:lnTo>
                      <a:lnTo>
                        <a:pt x="28" y="37"/>
                      </a:lnTo>
                      <a:lnTo>
                        <a:pt x="30" y="44"/>
                      </a:lnTo>
                      <a:lnTo>
                        <a:pt x="28" y="47"/>
                      </a:lnTo>
                      <a:lnTo>
                        <a:pt x="20" y="42"/>
                      </a:lnTo>
                      <a:lnTo>
                        <a:pt x="13" y="39"/>
                      </a:lnTo>
                      <a:lnTo>
                        <a:pt x="12" y="36"/>
                      </a:lnTo>
                      <a:lnTo>
                        <a:pt x="6" y="35"/>
                      </a:lnTo>
                      <a:lnTo>
                        <a:pt x="4" y="27"/>
                      </a:lnTo>
                      <a:lnTo>
                        <a:pt x="3" y="18"/>
                      </a:lnTo>
                      <a:lnTo>
                        <a:pt x="1" y="14"/>
                      </a:lnTo>
                      <a:lnTo>
                        <a:pt x="3" y="10"/>
                      </a:lnTo>
                      <a:lnTo>
                        <a:pt x="0" y="9"/>
                      </a:lnTo>
                      <a:lnTo>
                        <a:pt x="3" y="6"/>
                      </a:lnTo>
                      <a:lnTo>
                        <a:pt x="13" y="5"/>
                      </a:lnTo>
                      <a:lnTo>
                        <a:pt x="25" y="6"/>
                      </a:lnTo>
                      <a:lnTo>
                        <a:pt x="37" y="0"/>
                      </a:lnTo>
                      <a:lnTo>
                        <a:pt x="45" y="7"/>
                      </a:lnTo>
                      <a:lnTo>
                        <a:pt x="49" y="13"/>
                      </a:lnTo>
                      <a:lnTo>
                        <a:pt x="50" y="20"/>
                      </a:lnTo>
                      <a:lnTo>
                        <a:pt x="51" y="29"/>
                      </a:lnTo>
                      <a:lnTo>
                        <a:pt x="51" y="35"/>
                      </a:lnTo>
                      <a:lnTo>
                        <a:pt x="56" y="43"/>
                      </a:lnTo>
                      <a:lnTo>
                        <a:pt x="54" y="42"/>
                      </a:lnTo>
                    </a:path>
                  </a:pathLst>
                </a:custGeom>
                <a:solidFill>
                  <a:srgbClr val="b5b5b5"/>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32" name=""/>
                <p:cNvSpPr/>
                <p:nvPr/>
              </p:nvSpPr>
              <p:spPr>
                <a:xfrm>
                  <a:off x="2854080" y="1833480"/>
                  <a:ext cx="496440" cy="369720"/>
                </a:xfrm>
                <a:custGeom>
                  <a:avLst/>
                  <a:gdLst/>
                  <a:ahLst/>
                  <a:rect l="l" t="t" r="r" b="b"/>
                  <a:pathLst>
                    <a:path w="313" h="233">
                      <a:moveTo>
                        <a:pt x="295" y="151"/>
                      </a:moveTo>
                      <a:lnTo>
                        <a:pt x="297" y="137"/>
                      </a:lnTo>
                      <a:lnTo>
                        <a:pt x="305" y="123"/>
                      </a:lnTo>
                      <a:lnTo>
                        <a:pt x="312" y="97"/>
                      </a:lnTo>
                      <a:lnTo>
                        <a:pt x="307" y="90"/>
                      </a:lnTo>
                      <a:lnTo>
                        <a:pt x="296" y="90"/>
                      </a:lnTo>
                      <a:lnTo>
                        <a:pt x="289" y="78"/>
                      </a:lnTo>
                      <a:lnTo>
                        <a:pt x="285" y="75"/>
                      </a:lnTo>
                      <a:lnTo>
                        <a:pt x="283" y="75"/>
                      </a:lnTo>
                      <a:lnTo>
                        <a:pt x="276" y="76"/>
                      </a:lnTo>
                      <a:lnTo>
                        <a:pt x="254" y="40"/>
                      </a:lnTo>
                      <a:lnTo>
                        <a:pt x="241" y="33"/>
                      </a:lnTo>
                      <a:lnTo>
                        <a:pt x="224" y="10"/>
                      </a:lnTo>
                      <a:lnTo>
                        <a:pt x="213" y="7"/>
                      </a:lnTo>
                      <a:lnTo>
                        <a:pt x="205" y="9"/>
                      </a:lnTo>
                      <a:lnTo>
                        <a:pt x="197" y="8"/>
                      </a:lnTo>
                      <a:lnTo>
                        <a:pt x="190" y="11"/>
                      </a:lnTo>
                      <a:lnTo>
                        <a:pt x="168" y="13"/>
                      </a:lnTo>
                      <a:lnTo>
                        <a:pt x="162" y="11"/>
                      </a:lnTo>
                      <a:lnTo>
                        <a:pt x="155" y="14"/>
                      </a:lnTo>
                      <a:lnTo>
                        <a:pt x="149" y="8"/>
                      </a:lnTo>
                      <a:lnTo>
                        <a:pt x="143" y="2"/>
                      </a:lnTo>
                      <a:lnTo>
                        <a:pt x="139" y="0"/>
                      </a:lnTo>
                      <a:lnTo>
                        <a:pt x="89" y="17"/>
                      </a:lnTo>
                      <a:lnTo>
                        <a:pt x="84" y="30"/>
                      </a:lnTo>
                      <a:lnTo>
                        <a:pt x="62" y="42"/>
                      </a:lnTo>
                      <a:lnTo>
                        <a:pt x="46" y="45"/>
                      </a:lnTo>
                      <a:lnTo>
                        <a:pt x="32" y="58"/>
                      </a:lnTo>
                      <a:lnTo>
                        <a:pt x="30" y="65"/>
                      </a:lnTo>
                      <a:lnTo>
                        <a:pt x="27" y="73"/>
                      </a:lnTo>
                      <a:lnTo>
                        <a:pt x="19" y="98"/>
                      </a:lnTo>
                      <a:lnTo>
                        <a:pt x="15" y="117"/>
                      </a:lnTo>
                      <a:lnTo>
                        <a:pt x="19" y="134"/>
                      </a:lnTo>
                      <a:lnTo>
                        <a:pt x="13" y="150"/>
                      </a:lnTo>
                      <a:lnTo>
                        <a:pt x="7" y="152"/>
                      </a:lnTo>
                      <a:lnTo>
                        <a:pt x="0" y="159"/>
                      </a:lnTo>
                      <a:lnTo>
                        <a:pt x="14" y="202"/>
                      </a:lnTo>
                      <a:lnTo>
                        <a:pt x="29" y="206"/>
                      </a:lnTo>
                      <a:lnTo>
                        <a:pt x="55" y="189"/>
                      </a:lnTo>
                      <a:lnTo>
                        <a:pt x="76" y="140"/>
                      </a:lnTo>
                      <a:lnTo>
                        <a:pt x="87" y="164"/>
                      </a:lnTo>
                      <a:lnTo>
                        <a:pt x="94" y="201"/>
                      </a:lnTo>
                      <a:lnTo>
                        <a:pt x="89" y="209"/>
                      </a:lnTo>
                      <a:lnTo>
                        <a:pt x="87" y="226"/>
                      </a:lnTo>
                      <a:lnTo>
                        <a:pt x="91" y="232"/>
                      </a:lnTo>
                      <a:lnTo>
                        <a:pt x="247" y="209"/>
                      </a:lnTo>
                      <a:lnTo>
                        <a:pt x="243" y="109"/>
                      </a:lnTo>
                      <a:lnTo>
                        <a:pt x="259" y="123"/>
                      </a:lnTo>
                      <a:lnTo>
                        <a:pt x="269" y="124"/>
                      </a:lnTo>
                      <a:lnTo>
                        <a:pt x="273" y="133"/>
                      </a:lnTo>
                      <a:lnTo>
                        <a:pt x="285" y="134"/>
                      </a:lnTo>
                      <a:lnTo>
                        <a:pt x="292" y="144"/>
                      </a:lnTo>
                      <a:lnTo>
                        <a:pt x="295" y="1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3108240" y="2157480"/>
                  <a:ext cx="47160" cy="33120"/>
                </a:xfrm>
                <a:custGeom>
                  <a:avLst/>
                  <a:gdLst/>
                  <a:ahLst/>
                  <a:rect l="l" t="t" r="r" b="b"/>
                  <a:pathLst>
                    <a:path w="30" h="21">
                      <a:moveTo>
                        <a:pt x="20" y="0"/>
                      </a:moveTo>
                      <a:lnTo>
                        <a:pt x="10" y="0"/>
                      </a:lnTo>
                      <a:lnTo>
                        <a:pt x="1" y="6"/>
                      </a:lnTo>
                      <a:lnTo>
                        <a:pt x="0" y="18"/>
                      </a:lnTo>
                      <a:lnTo>
                        <a:pt x="3" y="20"/>
                      </a:lnTo>
                      <a:lnTo>
                        <a:pt x="28" y="16"/>
                      </a:lnTo>
                      <a:lnTo>
                        <a:pt x="29" y="12"/>
                      </a:lnTo>
                      <a:lnTo>
                        <a:pt x="25" y="2"/>
                      </a:lnTo>
                      <a:lnTo>
                        <a:pt x="20" y="0"/>
                      </a:lnTo>
                    </a:path>
                  </a:pathLst>
                </a:custGeom>
                <a:solidFill>
                  <a:srgbClr val="ffe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34" name=""/>
                <p:cNvSpPr/>
                <p:nvPr/>
              </p:nvSpPr>
              <p:spPr>
                <a:xfrm>
                  <a:off x="2877840" y="1942920"/>
                  <a:ext cx="28440" cy="112680"/>
                </a:xfrm>
                <a:custGeom>
                  <a:avLst/>
                  <a:gdLst/>
                  <a:ahLst/>
                  <a:rect l="l" t="t" r="r" b="b"/>
                  <a:pathLst>
                    <a:path w="18" h="71">
                      <a:moveTo>
                        <a:pt x="14" y="0"/>
                      </a:moveTo>
                      <a:lnTo>
                        <a:pt x="14" y="20"/>
                      </a:lnTo>
                      <a:lnTo>
                        <a:pt x="17" y="47"/>
                      </a:lnTo>
                      <a:lnTo>
                        <a:pt x="7" y="46"/>
                      </a:lnTo>
                      <a:lnTo>
                        <a:pt x="16" y="61"/>
                      </a:lnTo>
                      <a:lnTo>
                        <a:pt x="11" y="70"/>
                      </a:lnTo>
                      <a:lnTo>
                        <a:pt x="0" y="49"/>
                      </a:lnTo>
                      <a:lnTo>
                        <a:pt x="0" y="40"/>
                      </a:lnTo>
                      <a:lnTo>
                        <a:pt x="10" y="8"/>
                      </a:lnTo>
                      <a:lnTo>
                        <a:pt x="14" y="0"/>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a:off x="2858760" y="1990800"/>
                  <a:ext cx="117360" cy="171360"/>
                </a:xfrm>
                <a:custGeom>
                  <a:avLst/>
                  <a:gdLst/>
                  <a:ahLst/>
                  <a:rect l="l" t="t" r="r" b="b"/>
                  <a:pathLst>
                    <a:path w="74" h="108">
                      <a:moveTo>
                        <a:pt x="0" y="55"/>
                      </a:moveTo>
                      <a:lnTo>
                        <a:pt x="2" y="60"/>
                      </a:lnTo>
                      <a:lnTo>
                        <a:pt x="2" y="70"/>
                      </a:lnTo>
                      <a:lnTo>
                        <a:pt x="7" y="83"/>
                      </a:lnTo>
                      <a:lnTo>
                        <a:pt x="11" y="75"/>
                      </a:lnTo>
                      <a:lnTo>
                        <a:pt x="20" y="93"/>
                      </a:lnTo>
                      <a:lnTo>
                        <a:pt x="8" y="99"/>
                      </a:lnTo>
                      <a:lnTo>
                        <a:pt x="25" y="107"/>
                      </a:lnTo>
                      <a:lnTo>
                        <a:pt x="46" y="99"/>
                      </a:lnTo>
                      <a:lnTo>
                        <a:pt x="61" y="76"/>
                      </a:lnTo>
                      <a:lnTo>
                        <a:pt x="64" y="58"/>
                      </a:lnTo>
                      <a:lnTo>
                        <a:pt x="66" y="42"/>
                      </a:lnTo>
                      <a:lnTo>
                        <a:pt x="73" y="22"/>
                      </a:lnTo>
                      <a:lnTo>
                        <a:pt x="63" y="2"/>
                      </a:lnTo>
                      <a:lnTo>
                        <a:pt x="59" y="0"/>
                      </a:lnTo>
                      <a:lnTo>
                        <a:pt x="51" y="19"/>
                      </a:lnTo>
                      <a:lnTo>
                        <a:pt x="56" y="24"/>
                      </a:lnTo>
                      <a:lnTo>
                        <a:pt x="64" y="28"/>
                      </a:lnTo>
                      <a:lnTo>
                        <a:pt x="55" y="49"/>
                      </a:lnTo>
                      <a:lnTo>
                        <a:pt x="55" y="61"/>
                      </a:lnTo>
                      <a:lnTo>
                        <a:pt x="46" y="74"/>
                      </a:lnTo>
                      <a:lnTo>
                        <a:pt x="32" y="76"/>
                      </a:lnTo>
                      <a:lnTo>
                        <a:pt x="22" y="42"/>
                      </a:lnTo>
                      <a:lnTo>
                        <a:pt x="5" y="52"/>
                      </a:lnTo>
                      <a:lnTo>
                        <a:pt x="0" y="55"/>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a:off x="2968560" y="1887480"/>
                  <a:ext cx="271080" cy="317520"/>
                </a:xfrm>
                <a:custGeom>
                  <a:avLst/>
                  <a:gdLst/>
                  <a:ahLst/>
                  <a:rect l="l" t="t" r="r" b="b"/>
                  <a:pathLst>
                    <a:path w="171" h="200">
                      <a:moveTo>
                        <a:pt x="22" y="41"/>
                      </a:moveTo>
                      <a:lnTo>
                        <a:pt x="30" y="47"/>
                      </a:lnTo>
                      <a:lnTo>
                        <a:pt x="21" y="81"/>
                      </a:lnTo>
                      <a:lnTo>
                        <a:pt x="21" y="101"/>
                      </a:lnTo>
                      <a:lnTo>
                        <a:pt x="46" y="107"/>
                      </a:lnTo>
                      <a:lnTo>
                        <a:pt x="44" y="30"/>
                      </a:lnTo>
                      <a:lnTo>
                        <a:pt x="46" y="16"/>
                      </a:lnTo>
                      <a:lnTo>
                        <a:pt x="36" y="11"/>
                      </a:lnTo>
                      <a:lnTo>
                        <a:pt x="27" y="17"/>
                      </a:lnTo>
                      <a:lnTo>
                        <a:pt x="26" y="16"/>
                      </a:lnTo>
                      <a:lnTo>
                        <a:pt x="33" y="11"/>
                      </a:lnTo>
                      <a:lnTo>
                        <a:pt x="36" y="6"/>
                      </a:lnTo>
                      <a:lnTo>
                        <a:pt x="60" y="0"/>
                      </a:lnTo>
                      <a:lnTo>
                        <a:pt x="72" y="6"/>
                      </a:lnTo>
                      <a:lnTo>
                        <a:pt x="68" y="9"/>
                      </a:lnTo>
                      <a:lnTo>
                        <a:pt x="60" y="8"/>
                      </a:lnTo>
                      <a:lnTo>
                        <a:pt x="56" y="19"/>
                      </a:lnTo>
                      <a:lnTo>
                        <a:pt x="79" y="113"/>
                      </a:lnTo>
                      <a:lnTo>
                        <a:pt x="102" y="127"/>
                      </a:lnTo>
                      <a:lnTo>
                        <a:pt x="142" y="147"/>
                      </a:lnTo>
                      <a:lnTo>
                        <a:pt x="138" y="135"/>
                      </a:lnTo>
                      <a:lnTo>
                        <a:pt x="160" y="144"/>
                      </a:lnTo>
                      <a:lnTo>
                        <a:pt x="166" y="129"/>
                      </a:lnTo>
                      <a:lnTo>
                        <a:pt x="169" y="130"/>
                      </a:lnTo>
                      <a:lnTo>
                        <a:pt x="166" y="156"/>
                      </a:lnTo>
                      <a:lnTo>
                        <a:pt x="170" y="169"/>
                      </a:lnTo>
                      <a:lnTo>
                        <a:pt x="155" y="173"/>
                      </a:lnTo>
                      <a:lnTo>
                        <a:pt x="116" y="170"/>
                      </a:lnTo>
                      <a:lnTo>
                        <a:pt x="124" y="165"/>
                      </a:lnTo>
                      <a:lnTo>
                        <a:pt x="119" y="154"/>
                      </a:lnTo>
                      <a:lnTo>
                        <a:pt x="125" y="151"/>
                      </a:lnTo>
                      <a:lnTo>
                        <a:pt x="109" y="146"/>
                      </a:lnTo>
                      <a:lnTo>
                        <a:pt x="109" y="157"/>
                      </a:lnTo>
                      <a:lnTo>
                        <a:pt x="104" y="169"/>
                      </a:lnTo>
                      <a:lnTo>
                        <a:pt x="90" y="174"/>
                      </a:lnTo>
                      <a:lnTo>
                        <a:pt x="92" y="172"/>
                      </a:lnTo>
                      <a:lnTo>
                        <a:pt x="83" y="148"/>
                      </a:lnTo>
                      <a:lnTo>
                        <a:pt x="62" y="135"/>
                      </a:lnTo>
                      <a:lnTo>
                        <a:pt x="43" y="132"/>
                      </a:lnTo>
                      <a:lnTo>
                        <a:pt x="48" y="139"/>
                      </a:lnTo>
                      <a:lnTo>
                        <a:pt x="45" y="140"/>
                      </a:lnTo>
                      <a:lnTo>
                        <a:pt x="56" y="143"/>
                      </a:lnTo>
                      <a:lnTo>
                        <a:pt x="76" y="160"/>
                      </a:lnTo>
                      <a:lnTo>
                        <a:pt x="85" y="169"/>
                      </a:lnTo>
                      <a:lnTo>
                        <a:pt x="70" y="168"/>
                      </a:lnTo>
                      <a:lnTo>
                        <a:pt x="53" y="163"/>
                      </a:lnTo>
                      <a:lnTo>
                        <a:pt x="67" y="174"/>
                      </a:lnTo>
                      <a:lnTo>
                        <a:pt x="53" y="178"/>
                      </a:lnTo>
                      <a:lnTo>
                        <a:pt x="38" y="189"/>
                      </a:lnTo>
                      <a:lnTo>
                        <a:pt x="61" y="183"/>
                      </a:lnTo>
                      <a:lnTo>
                        <a:pt x="40" y="199"/>
                      </a:lnTo>
                      <a:lnTo>
                        <a:pt x="18" y="199"/>
                      </a:lnTo>
                      <a:lnTo>
                        <a:pt x="15" y="192"/>
                      </a:lnTo>
                      <a:lnTo>
                        <a:pt x="22" y="165"/>
                      </a:lnTo>
                      <a:lnTo>
                        <a:pt x="19" y="153"/>
                      </a:lnTo>
                      <a:lnTo>
                        <a:pt x="0" y="86"/>
                      </a:lnTo>
                      <a:lnTo>
                        <a:pt x="6" y="53"/>
                      </a:lnTo>
                      <a:lnTo>
                        <a:pt x="22" y="41"/>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3095280" y="1844640"/>
                  <a:ext cx="99720" cy="71280"/>
                </a:xfrm>
                <a:custGeom>
                  <a:avLst/>
                  <a:gdLst/>
                  <a:ahLst/>
                  <a:rect l="l" t="t" r="r" b="b"/>
                  <a:pathLst>
                    <a:path w="63" h="45">
                      <a:moveTo>
                        <a:pt x="0" y="27"/>
                      </a:moveTo>
                      <a:lnTo>
                        <a:pt x="6" y="14"/>
                      </a:lnTo>
                      <a:lnTo>
                        <a:pt x="6" y="24"/>
                      </a:lnTo>
                      <a:lnTo>
                        <a:pt x="22" y="7"/>
                      </a:lnTo>
                      <a:lnTo>
                        <a:pt x="27" y="44"/>
                      </a:lnTo>
                      <a:lnTo>
                        <a:pt x="30" y="15"/>
                      </a:lnTo>
                      <a:lnTo>
                        <a:pt x="45" y="5"/>
                      </a:lnTo>
                      <a:lnTo>
                        <a:pt x="54" y="7"/>
                      </a:lnTo>
                      <a:lnTo>
                        <a:pt x="62" y="0"/>
                      </a:lnTo>
                      <a:lnTo>
                        <a:pt x="53" y="2"/>
                      </a:lnTo>
                      <a:lnTo>
                        <a:pt x="47" y="2"/>
                      </a:lnTo>
                      <a:lnTo>
                        <a:pt x="45" y="0"/>
                      </a:lnTo>
                      <a:lnTo>
                        <a:pt x="39" y="5"/>
                      </a:lnTo>
                      <a:lnTo>
                        <a:pt x="28" y="3"/>
                      </a:lnTo>
                      <a:lnTo>
                        <a:pt x="21" y="2"/>
                      </a:lnTo>
                      <a:lnTo>
                        <a:pt x="9" y="5"/>
                      </a:lnTo>
                      <a:lnTo>
                        <a:pt x="2" y="13"/>
                      </a:lnTo>
                      <a:lnTo>
                        <a:pt x="0" y="27"/>
                      </a:lnTo>
                    </a:path>
                  </a:pathLst>
                </a:custGeom>
                <a:solidFill>
                  <a:srgbClr val="b5b5b5"/>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38" name=""/>
                <p:cNvSpPr/>
                <p:nvPr/>
              </p:nvSpPr>
              <p:spPr>
                <a:xfrm>
                  <a:off x="3201840" y="1909800"/>
                  <a:ext cx="94680" cy="182520"/>
                </a:xfrm>
                <a:custGeom>
                  <a:avLst/>
                  <a:gdLst/>
                  <a:ahLst/>
                  <a:rect l="l" t="t" r="r" b="b"/>
                  <a:pathLst>
                    <a:path w="60" h="115">
                      <a:moveTo>
                        <a:pt x="35" y="11"/>
                      </a:moveTo>
                      <a:lnTo>
                        <a:pt x="35" y="30"/>
                      </a:lnTo>
                      <a:lnTo>
                        <a:pt x="28" y="43"/>
                      </a:lnTo>
                      <a:lnTo>
                        <a:pt x="17" y="30"/>
                      </a:lnTo>
                      <a:lnTo>
                        <a:pt x="10" y="18"/>
                      </a:lnTo>
                      <a:lnTo>
                        <a:pt x="17" y="61"/>
                      </a:lnTo>
                      <a:lnTo>
                        <a:pt x="15" y="90"/>
                      </a:lnTo>
                      <a:lnTo>
                        <a:pt x="0" y="112"/>
                      </a:lnTo>
                      <a:lnTo>
                        <a:pt x="13" y="114"/>
                      </a:lnTo>
                      <a:lnTo>
                        <a:pt x="26" y="107"/>
                      </a:lnTo>
                      <a:lnTo>
                        <a:pt x="23" y="60"/>
                      </a:lnTo>
                      <a:lnTo>
                        <a:pt x="37" y="75"/>
                      </a:lnTo>
                      <a:lnTo>
                        <a:pt x="47" y="75"/>
                      </a:lnTo>
                      <a:lnTo>
                        <a:pt x="40" y="67"/>
                      </a:lnTo>
                      <a:lnTo>
                        <a:pt x="38" y="55"/>
                      </a:lnTo>
                      <a:lnTo>
                        <a:pt x="43" y="43"/>
                      </a:lnTo>
                      <a:lnTo>
                        <a:pt x="49" y="35"/>
                      </a:lnTo>
                      <a:lnTo>
                        <a:pt x="52" y="28"/>
                      </a:lnTo>
                      <a:lnTo>
                        <a:pt x="55" y="38"/>
                      </a:lnTo>
                      <a:lnTo>
                        <a:pt x="59" y="28"/>
                      </a:lnTo>
                      <a:lnTo>
                        <a:pt x="57" y="20"/>
                      </a:lnTo>
                      <a:lnTo>
                        <a:pt x="52" y="10"/>
                      </a:lnTo>
                      <a:lnTo>
                        <a:pt x="40" y="0"/>
                      </a:lnTo>
                      <a:lnTo>
                        <a:pt x="35" y="11"/>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3287520" y="1971720"/>
                  <a:ext cx="64800" cy="71280"/>
                </a:xfrm>
                <a:custGeom>
                  <a:avLst/>
                  <a:gdLst/>
                  <a:ahLst/>
                  <a:rect l="l" t="t" r="r" b="b"/>
                  <a:pathLst>
                    <a:path w="41" h="45">
                      <a:moveTo>
                        <a:pt x="12" y="0"/>
                      </a:moveTo>
                      <a:lnTo>
                        <a:pt x="3" y="12"/>
                      </a:lnTo>
                      <a:lnTo>
                        <a:pt x="10" y="22"/>
                      </a:lnTo>
                      <a:lnTo>
                        <a:pt x="27" y="10"/>
                      </a:lnTo>
                      <a:lnTo>
                        <a:pt x="33" y="22"/>
                      </a:lnTo>
                      <a:lnTo>
                        <a:pt x="0" y="44"/>
                      </a:lnTo>
                      <a:lnTo>
                        <a:pt x="30" y="39"/>
                      </a:lnTo>
                      <a:lnTo>
                        <a:pt x="40" y="10"/>
                      </a:lnTo>
                      <a:lnTo>
                        <a:pt x="33" y="3"/>
                      </a:lnTo>
                      <a:lnTo>
                        <a:pt x="21" y="5"/>
                      </a:lnTo>
                      <a:lnTo>
                        <a:pt x="14" y="2"/>
                      </a:lnTo>
                      <a:lnTo>
                        <a:pt x="12" y="0"/>
                      </a:lnTo>
                    </a:path>
                  </a:pathLst>
                </a:custGeom>
                <a:solidFill>
                  <a:srgbClr val="b5b5b5"/>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40" name=""/>
                <p:cNvSpPr/>
                <p:nvPr/>
              </p:nvSpPr>
              <p:spPr>
                <a:xfrm>
                  <a:off x="3038400" y="1882800"/>
                  <a:ext cx="96480" cy="284040"/>
                </a:xfrm>
                <a:custGeom>
                  <a:avLst/>
                  <a:gdLst/>
                  <a:ahLst/>
                  <a:rect l="l" t="t" r="r" b="b"/>
                  <a:pathLst>
                    <a:path w="61" h="179">
                      <a:moveTo>
                        <a:pt x="14" y="1"/>
                      </a:moveTo>
                      <a:lnTo>
                        <a:pt x="14" y="8"/>
                      </a:lnTo>
                      <a:lnTo>
                        <a:pt x="11" y="14"/>
                      </a:lnTo>
                      <a:lnTo>
                        <a:pt x="9" y="17"/>
                      </a:lnTo>
                      <a:lnTo>
                        <a:pt x="14" y="23"/>
                      </a:lnTo>
                      <a:lnTo>
                        <a:pt x="22" y="35"/>
                      </a:lnTo>
                      <a:lnTo>
                        <a:pt x="29" y="59"/>
                      </a:lnTo>
                      <a:lnTo>
                        <a:pt x="38" y="90"/>
                      </a:lnTo>
                      <a:lnTo>
                        <a:pt x="51" y="131"/>
                      </a:lnTo>
                      <a:lnTo>
                        <a:pt x="60" y="154"/>
                      </a:lnTo>
                      <a:lnTo>
                        <a:pt x="49" y="178"/>
                      </a:lnTo>
                      <a:lnTo>
                        <a:pt x="25" y="159"/>
                      </a:lnTo>
                      <a:lnTo>
                        <a:pt x="5" y="51"/>
                      </a:lnTo>
                      <a:lnTo>
                        <a:pt x="4" y="31"/>
                      </a:lnTo>
                      <a:lnTo>
                        <a:pt x="5" y="20"/>
                      </a:lnTo>
                      <a:lnTo>
                        <a:pt x="5" y="17"/>
                      </a:lnTo>
                      <a:lnTo>
                        <a:pt x="0" y="10"/>
                      </a:lnTo>
                      <a:lnTo>
                        <a:pt x="1" y="0"/>
                      </a:lnTo>
                      <a:lnTo>
                        <a:pt x="12" y="0"/>
                      </a:lnTo>
                      <a:lnTo>
                        <a:pt x="14" y="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3033360" y="1882800"/>
                  <a:ext cx="101520" cy="285480"/>
                </a:xfrm>
                <a:custGeom>
                  <a:avLst/>
                  <a:gdLst/>
                  <a:ahLst/>
                  <a:rect l="l" t="t" r="r" b="b"/>
                  <a:pathLst>
                    <a:path w="64" h="180">
                      <a:moveTo>
                        <a:pt x="12" y="0"/>
                      </a:moveTo>
                      <a:lnTo>
                        <a:pt x="10" y="18"/>
                      </a:lnTo>
                      <a:lnTo>
                        <a:pt x="14" y="48"/>
                      </a:lnTo>
                      <a:lnTo>
                        <a:pt x="21" y="82"/>
                      </a:lnTo>
                      <a:lnTo>
                        <a:pt x="34" y="135"/>
                      </a:lnTo>
                      <a:lnTo>
                        <a:pt x="36" y="157"/>
                      </a:lnTo>
                      <a:lnTo>
                        <a:pt x="51" y="172"/>
                      </a:lnTo>
                      <a:lnTo>
                        <a:pt x="60" y="153"/>
                      </a:lnTo>
                      <a:lnTo>
                        <a:pt x="46" y="122"/>
                      </a:lnTo>
                      <a:lnTo>
                        <a:pt x="38" y="91"/>
                      </a:lnTo>
                      <a:lnTo>
                        <a:pt x="31" y="63"/>
                      </a:lnTo>
                      <a:lnTo>
                        <a:pt x="22" y="33"/>
                      </a:lnTo>
                      <a:lnTo>
                        <a:pt x="16" y="23"/>
                      </a:lnTo>
                      <a:lnTo>
                        <a:pt x="13" y="17"/>
                      </a:lnTo>
                      <a:lnTo>
                        <a:pt x="22" y="27"/>
                      </a:lnTo>
                      <a:lnTo>
                        <a:pt x="30" y="53"/>
                      </a:lnTo>
                      <a:lnTo>
                        <a:pt x="41" y="86"/>
                      </a:lnTo>
                      <a:lnTo>
                        <a:pt x="52" y="123"/>
                      </a:lnTo>
                      <a:lnTo>
                        <a:pt x="57" y="140"/>
                      </a:lnTo>
                      <a:lnTo>
                        <a:pt x="63" y="153"/>
                      </a:lnTo>
                      <a:lnTo>
                        <a:pt x="53" y="179"/>
                      </a:lnTo>
                      <a:lnTo>
                        <a:pt x="28" y="159"/>
                      </a:lnTo>
                      <a:lnTo>
                        <a:pt x="19" y="109"/>
                      </a:lnTo>
                      <a:lnTo>
                        <a:pt x="9" y="52"/>
                      </a:lnTo>
                      <a:lnTo>
                        <a:pt x="8" y="31"/>
                      </a:lnTo>
                      <a:lnTo>
                        <a:pt x="7" y="17"/>
                      </a:lnTo>
                      <a:lnTo>
                        <a:pt x="0" y="8"/>
                      </a:lnTo>
                      <a:lnTo>
                        <a:pt x="5" y="0"/>
                      </a:lnTo>
                      <a:lnTo>
                        <a:pt x="12" y="0"/>
                      </a:lnTo>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
                <p:cNvSpPr/>
                <p:nvPr/>
              </p:nvSpPr>
              <p:spPr>
                <a:xfrm>
                  <a:off x="2944440" y="1873080"/>
                  <a:ext cx="68040" cy="120600"/>
                </a:xfrm>
                <a:custGeom>
                  <a:avLst/>
                  <a:gdLst/>
                  <a:ahLst/>
                  <a:rect l="l" t="t" r="r" b="b"/>
                  <a:pathLst>
                    <a:path w="43" h="76">
                      <a:moveTo>
                        <a:pt x="3" y="68"/>
                      </a:moveTo>
                      <a:lnTo>
                        <a:pt x="3" y="56"/>
                      </a:lnTo>
                      <a:lnTo>
                        <a:pt x="0" y="26"/>
                      </a:lnTo>
                      <a:lnTo>
                        <a:pt x="3" y="20"/>
                      </a:lnTo>
                      <a:lnTo>
                        <a:pt x="21" y="0"/>
                      </a:lnTo>
                      <a:lnTo>
                        <a:pt x="38" y="4"/>
                      </a:lnTo>
                      <a:lnTo>
                        <a:pt x="42" y="13"/>
                      </a:lnTo>
                      <a:lnTo>
                        <a:pt x="38" y="18"/>
                      </a:lnTo>
                      <a:lnTo>
                        <a:pt x="41" y="34"/>
                      </a:lnTo>
                      <a:lnTo>
                        <a:pt x="35" y="36"/>
                      </a:lnTo>
                      <a:lnTo>
                        <a:pt x="34" y="51"/>
                      </a:lnTo>
                      <a:lnTo>
                        <a:pt x="29" y="58"/>
                      </a:lnTo>
                      <a:lnTo>
                        <a:pt x="26" y="63"/>
                      </a:lnTo>
                      <a:lnTo>
                        <a:pt x="22" y="68"/>
                      </a:lnTo>
                      <a:lnTo>
                        <a:pt x="19" y="75"/>
                      </a:lnTo>
                      <a:lnTo>
                        <a:pt x="7" y="73"/>
                      </a:lnTo>
                      <a:lnTo>
                        <a:pt x="3" y="68"/>
                      </a:lnTo>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2950920" y="1690560"/>
                  <a:ext cx="149040" cy="187200"/>
                </a:xfrm>
                <a:custGeom>
                  <a:avLst/>
                  <a:gdLst/>
                  <a:ahLst/>
                  <a:rect l="l" t="t" r="r" b="b"/>
                  <a:pathLst>
                    <a:path w="94" h="118">
                      <a:moveTo>
                        <a:pt x="3" y="52"/>
                      </a:moveTo>
                      <a:lnTo>
                        <a:pt x="0" y="56"/>
                      </a:lnTo>
                      <a:lnTo>
                        <a:pt x="0" y="66"/>
                      </a:lnTo>
                      <a:lnTo>
                        <a:pt x="5" y="74"/>
                      </a:lnTo>
                      <a:lnTo>
                        <a:pt x="14" y="80"/>
                      </a:lnTo>
                      <a:lnTo>
                        <a:pt x="16" y="80"/>
                      </a:lnTo>
                      <a:lnTo>
                        <a:pt x="21" y="91"/>
                      </a:lnTo>
                      <a:lnTo>
                        <a:pt x="25" y="101"/>
                      </a:lnTo>
                      <a:lnTo>
                        <a:pt x="32" y="108"/>
                      </a:lnTo>
                      <a:lnTo>
                        <a:pt x="40" y="113"/>
                      </a:lnTo>
                      <a:lnTo>
                        <a:pt x="50" y="116"/>
                      </a:lnTo>
                      <a:lnTo>
                        <a:pt x="62" y="117"/>
                      </a:lnTo>
                      <a:lnTo>
                        <a:pt x="68" y="113"/>
                      </a:lnTo>
                      <a:lnTo>
                        <a:pt x="74" y="107"/>
                      </a:lnTo>
                      <a:lnTo>
                        <a:pt x="78" y="99"/>
                      </a:lnTo>
                      <a:lnTo>
                        <a:pt x="80" y="91"/>
                      </a:lnTo>
                      <a:lnTo>
                        <a:pt x="82" y="76"/>
                      </a:lnTo>
                      <a:lnTo>
                        <a:pt x="86" y="71"/>
                      </a:lnTo>
                      <a:lnTo>
                        <a:pt x="93" y="64"/>
                      </a:lnTo>
                      <a:lnTo>
                        <a:pt x="93" y="55"/>
                      </a:lnTo>
                      <a:lnTo>
                        <a:pt x="92" y="48"/>
                      </a:lnTo>
                      <a:lnTo>
                        <a:pt x="91" y="46"/>
                      </a:lnTo>
                      <a:lnTo>
                        <a:pt x="86" y="43"/>
                      </a:lnTo>
                      <a:lnTo>
                        <a:pt x="80" y="23"/>
                      </a:lnTo>
                      <a:lnTo>
                        <a:pt x="73" y="7"/>
                      </a:lnTo>
                      <a:lnTo>
                        <a:pt x="49" y="0"/>
                      </a:lnTo>
                      <a:lnTo>
                        <a:pt x="19" y="6"/>
                      </a:lnTo>
                      <a:lnTo>
                        <a:pt x="5" y="17"/>
                      </a:lnTo>
                      <a:lnTo>
                        <a:pt x="3" y="31"/>
                      </a:lnTo>
                      <a:lnTo>
                        <a:pt x="3" y="48"/>
                      </a:lnTo>
                      <a:lnTo>
                        <a:pt x="3" y="52"/>
                      </a:lnTo>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a:off x="2984400" y="1801800"/>
                  <a:ext cx="28080" cy="15840"/>
                </a:xfrm>
                <a:custGeom>
                  <a:avLst/>
                  <a:gdLst/>
                  <a:ahLst/>
                  <a:rect l="l" t="t" r="r" b="b"/>
                  <a:pathLst>
                    <a:path w="18" h="10">
                      <a:moveTo>
                        <a:pt x="17" y="1"/>
                      </a:moveTo>
                      <a:lnTo>
                        <a:pt x="17" y="3"/>
                      </a:lnTo>
                      <a:lnTo>
                        <a:pt x="11" y="8"/>
                      </a:lnTo>
                      <a:lnTo>
                        <a:pt x="4" y="9"/>
                      </a:lnTo>
                      <a:lnTo>
                        <a:pt x="0" y="6"/>
                      </a:lnTo>
                      <a:lnTo>
                        <a:pt x="1" y="0"/>
                      </a:lnTo>
                      <a:lnTo>
                        <a:pt x="7" y="2"/>
                      </a:lnTo>
                      <a:lnTo>
                        <a:pt x="11" y="3"/>
                      </a:lnTo>
                      <a:lnTo>
                        <a:pt x="17" y="1"/>
                      </a:lnTo>
                    </a:path>
                  </a:pathLst>
                </a:custGeom>
                <a:solidFill>
                  <a:srgbClr val="ffc98e"/>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5" name=""/>
                <p:cNvSpPr/>
                <p:nvPr/>
              </p:nvSpPr>
              <p:spPr>
                <a:xfrm>
                  <a:off x="3044520" y="1789200"/>
                  <a:ext cx="29880" cy="18720"/>
                </a:xfrm>
                <a:custGeom>
                  <a:avLst/>
                  <a:gdLst/>
                  <a:ahLst/>
                  <a:rect l="l" t="t" r="r" b="b"/>
                  <a:pathLst>
                    <a:path w="19" h="12">
                      <a:moveTo>
                        <a:pt x="0" y="7"/>
                      </a:moveTo>
                      <a:lnTo>
                        <a:pt x="1" y="9"/>
                      </a:lnTo>
                      <a:lnTo>
                        <a:pt x="8" y="11"/>
                      </a:lnTo>
                      <a:lnTo>
                        <a:pt x="15" y="10"/>
                      </a:lnTo>
                      <a:lnTo>
                        <a:pt x="18" y="6"/>
                      </a:lnTo>
                      <a:lnTo>
                        <a:pt x="17" y="0"/>
                      </a:lnTo>
                      <a:lnTo>
                        <a:pt x="13" y="4"/>
                      </a:lnTo>
                      <a:lnTo>
                        <a:pt x="10" y="6"/>
                      </a:lnTo>
                      <a:lnTo>
                        <a:pt x="6" y="7"/>
                      </a:lnTo>
                      <a:lnTo>
                        <a:pt x="0" y="7"/>
                      </a:lnTo>
                    </a:path>
                  </a:pathLst>
                </a:custGeom>
                <a:solidFill>
                  <a:srgbClr val="ffc98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46" name=""/>
                <p:cNvSpPr/>
                <p:nvPr/>
              </p:nvSpPr>
              <p:spPr>
                <a:xfrm>
                  <a:off x="3025440" y="1795320"/>
                  <a:ext cx="14040" cy="28800"/>
                </a:xfrm>
                <a:custGeom>
                  <a:avLst/>
                  <a:gdLst/>
                  <a:ahLst/>
                  <a:rect l="l" t="t" r="r" b="b"/>
                  <a:pathLst>
                    <a:path w="9" h="18">
                      <a:moveTo>
                        <a:pt x="4" y="3"/>
                      </a:moveTo>
                      <a:lnTo>
                        <a:pt x="3" y="0"/>
                      </a:lnTo>
                      <a:lnTo>
                        <a:pt x="1" y="1"/>
                      </a:lnTo>
                      <a:lnTo>
                        <a:pt x="2" y="10"/>
                      </a:lnTo>
                      <a:lnTo>
                        <a:pt x="0" y="12"/>
                      </a:lnTo>
                      <a:lnTo>
                        <a:pt x="1" y="15"/>
                      </a:lnTo>
                      <a:lnTo>
                        <a:pt x="4" y="17"/>
                      </a:lnTo>
                      <a:lnTo>
                        <a:pt x="7" y="15"/>
                      </a:lnTo>
                      <a:lnTo>
                        <a:pt x="8" y="12"/>
                      </a:lnTo>
                      <a:lnTo>
                        <a:pt x="7" y="10"/>
                      </a:lnTo>
                      <a:lnTo>
                        <a:pt x="5" y="8"/>
                      </a:lnTo>
                      <a:lnTo>
                        <a:pt x="4" y="3"/>
                      </a:lnTo>
                    </a:path>
                  </a:pathLst>
                </a:custGeom>
                <a:solidFill>
                  <a:srgbClr val="ffc98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47" name=""/>
                <p:cNvSpPr/>
                <p:nvPr/>
              </p:nvSpPr>
              <p:spPr>
                <a:xfrm>
                  <a:off x="3014280" y="1812960"/>
                  <a:ext cx="6120" cy="6120"/>
                </a:xfrm>
                <a:custGeom>
                  <a:avLst/>
                  <a:gdLst/>
                  <a:ahLst/>
                  <a:rect l="l" t="t" r="r" b="b"/>
                  <a:pathLst>
                    <a:path w="4" h="4">
                      <a:moveTo>
                        <a:pt x="1" y="0"/>
                      </a:moveTo>
                      <a:lnTo>
                        <a:pt x="0" y="1"/>
                      </a:lnTo>
                      <a:lnTo>
                        <a:pt x="1" y="3"/>
                      </a:lnTo>
                      <a:lnTo>
                        <a:pt x="3" y="0"/>
                      </a:lnTo>
                      <a:lnTo>
                        <a:pt x="1" y="0"/>
                      </a:lnTo>
                    </a:path>
                  </a:pathLst>
                </a:custGeom>
                <a:solidFill>
                  <a:srgbClr val="ffc98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48" name=""/>
                <p:cNvSpPr/>
                <p:nvPr/>
              </p:nvSpPr>
              <p:spPr>
                <a:xfrm>
                  <a:off x="3041280" y="1809720"/>
                  <a:ext cx="6120" cy="6120"/>
                </a:xfrm>
                <a:custGeom>
                  <a:avLst/>
                  <a:gdLst/>
                  <a:ahLst/>
                  <a:rect l="l" t="t" r="r" b="b"/>
                  <a:pathLst>
                    <a:path w="4" h="4">
                      <a:moveTo>
                        <a:pt x="0" y="1"/>
                      </a:moveTo>
                      <a:lnTo>
                        <a:pt x="1" y="3"/>
                      </a:lnTo>
                      <a:lnTo>
                        <a:pt x="3" y="1"/>
                      </a:lnTo>
                      <a:lnTo>
                        <a:pt x="2" y="0"/>
                      </a:lnTo>
                      <a:lnTo>
                        <a:pt x="0" y="1"/>
                      </a:lnTo>
                    </a:path>
                  </a:pathLst>
                </a:custGeom>
                <a:solidFill>
                  <a:srgbClr val="ffc98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49" name=""/>
                <p:cNvSpPr/>
                <p:nvPr/>
              </p:nvSpPr>
              <p:spPr>
                <a:xfrm>
                  <a:off x="3017520" y="1838160"/>
                  <a:ext cx="39600" cy="11160"/>
                </a:xfrm>
                <a:custGeom>
                  <a:avLst/>
                  <a:gdLst/>
                  <a:ahLst/>
                  <a:rect l="l" t="t" r="r" b="b"/>
                  <a:pathLst>
                    <a:path w="25" h="7">
                      <a:moveTo>
                        <a:pt x="0" y="4"/>
                      </a:moveTo>
                      <a:lnTo>
                        <a:pt x="9" y="6"/>
                      </a:lnTo>
                      <a:lnTo>
                        <a:pt x="17" y="5"/>
                      </a:lnTo>
                      <a:lnTo>
                        <a:pt x="23" y="2"/>
                      </a:lnTo>
                      <a:lnTo>
                        <a:pt x="24" y="1"/>
                      </a:lnTo>
                      <a:lnTo>
                        <a:pt x="21" y="0"/>
                      </a:lnTo>
                      <a:lnTo>
                        <a:pt x="16" y="2"/>
                      </a:lnTo>
                      <a:lnTo>
                        <a:pt x="10" y="2"/>
                      </a:lnTo>
                      <a:lnTo>
                        <a:pt x="1" y="2"/>
                      </a:lnTo>
                      <a:lnTo>
                        <a:pt x="0" y="4"/>
                      </a:lnTo>
                    </a:path>
                  </a:pathLst>
                </a:custGeom>
                <a:solidFill>
                  <a:srgbClr val="ffc98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0" name=""/>
                <p:cNvSpPr/>
                <p:nvPr/>
              </p:nvSpPr>
              <p:spPr>
                <a:xfrm>
                  <a:off x="2968560" y="1725480"/>
                  <a:ext cx="42480" cy="50760"/>
                </a:xfrm>
                <a:custGeom>
                  <a:avLst/>
                  <a:gdLst/>
                  <a:ahLst/>
                  <a:rect l="l" t="t" r="r" b="b"/>
                  <a:pathLst>
                    <a:path w="27" h="32">
                      <a:moveTo>
                        <a:pt x="16" y="3"/>
                      </a:moveTo>
                      <a:lnTo>
                        <a:pt x="12" y="8"/>
                      </a:lnTo>
                      <a:lnTo>
                        <a:pt x="9" y="13"/>
                      </a:lnTo>
                      <a:lnTo>
                        <a:pt x="9" y="19"/>
                      </a:lnTo>
                      <a:lnTo>
                        <a:pt x="11" y="24"/>
                      </a:lnTo>
                      <a:lnTo>
                        <a:pt x="26" y="28"/>
                      </a:lnTo>
                      <a:lnTo>
                        <a:pt x="13" y="28"/>
                      </a:lnTo>
                      <a:lnTo>
                        <a:pt x="5" y="31"/>
                      </a:lnTo>
                      <a:lnTo>
                        <a:pt x="6" y="27"/>
                      </a:lnTo>
                      <a:lnTo>
                        <a:pt x="2" y="23"/>
                      </a:lnTo>
                      <a:lnTo>
                        <a:pt x="0" y="16"/>
                      </a:lnTo>
                      <a:lnTo>
                        <a:pt x="0" y="10"/>
                      </a:lnTo>
                      <a:lnTo>
                        <a:pt x="2" y="5"/>
                      </a:lnTo>
                      <a:lnTo>
                        <a:pt x="5" y="1"/>
                      </a:lnTo>
                      <a:lnTo>
                        <a:pt x="10" y="0"/>
                      </a:lnTo>
                      <a:lnTo>
                        <a:pt x="13" y="1"/>
                      </a:lnTo>
                      <a:lnTo>
                        <a:pt x="16" y="3"/>
                      </a:lnTo>
                    </a:path>
                  </a:pathLst>
                </a:custGeom>
                <a:solidFill>
                  <a:srgbClr val="ffc98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51" name=""/>
                <p:cNvSpPr/>
                <p:nvPr/>
              </p:nvSpPr>
              <p:spPr>
                <a:xfrm>
                  <a:off x="3031920" y="1751040"/>
                  <a:ext cx="36000" cy="19080"/>
                </a:xfrm>
                <a:custGeom>
                  <a:avLst/>
                  <a:gdLst/>
                  <a:ahLst/>
                  <a:rect l="l" t="t" r="r" b="b"/>
                  <a:pathLst>
                    <a:path w="23" h="12">
                      <a:moveTo>
                        <a:pt x="5" y="8"/>
                      </a:moveTo>
                      <a:lnTo>
                        <a:pt x="16" y="3"/>
                      </a:lnTo>
                      <a:lnTo>
                        <a:pt x="22" y="2"/>
                      </a:lnTo>
                      <a:lnTo>
                        <a:pt x="17" y="0"/>
                      </a:lnTo>
                      <a:lnTo>
                        <a:pt x="12" y="2"/>
                      </a:lnTo>
                      <a:lnTo>
                        <a:pt x="0" y="11"/>
                      </a:lnTo>
                      <a:lnTo>
                        <a:pt x="5" y="8"/>
                      </a:lnTo>
                    </a:path>
                  </a:pathLst>
                </a:custGeom>
                <a:solidFill>
                  <a:srgbClr val="ffc98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52" name=""/>
                <p:cNvSpPr/>
                <p:nvPr/>
              </p:nvSpPr>
              <p:spPr>
                <a:xfrm>
                  <a:off x="2955600" y="1780920"/>
                  <a:ext cx="14040" cy="8280"/>
                </a:xfrm>
                <a:custGeom>
                  <a:avLst/>
                  <a:gdLst/>
                  <a:ahLst/>
                  <a:rect l="l" t="t" r="r" b="b"/>
                  <a:pathLst>
                    <a:path w="9" h="5">
                      <a:moveTo>
                        <a:pt x="0" y="3"/>
                      </a:moveTo>
                      <a:lnTo>
                        <a:pt x="7" y="4"/>
                      </a:lnTo>
                      <a:lnTo>
                        <a:pt x="8" y="2"/>
                      </a:lnTo>
                      <a:lnTo>
                        <a:pt x="3" y="0"/>
                      </a:lnTo>
                      <a:lnTo>
                        <a:pt x="0" y="0"/>
                      </a:lnTo>
                      <a:lnTo>
                        <a:pt x="0" y="3"/>
                      </a:lnTo>
                    </a:path>
                  </a:pathLst>
                </a:custGeom>
                <a:solidFill>
                  <a:srgbClr val="ffc98e"/>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253" name=""/>
                <p:cNvSpPr/>
                <p:nvPr/>
              </p:nvSpPr>
              <p:spPr>
                <a:xfrm>
                  <a:off x="3081240" y="1763640"/>
                  <a:ext cx="10800" cy="14400"/>
                </a:xfrm>
                <a:custGeom>
                  <a:avLst/>
                  <a:gdLst/>
                  <a:ahLst/>
                  <a:rect l="l" t="t" r="r" b="b"/>
                  <a:pathLst>
                    <a:path w="7" h="9">
                      <a:moveTo>
                        <a:pt x="0" y="8"/>
                      </a:moveTo>
                      <a:lnTo>
                        <a:pt x="1" y="8"/>
                      </a:lnTo>
                      <a:lnTo>
                        <a:pt x="6" y="2"/>
                      </a:lnTo>
                      <a:lnTo>
                        <a:pt x="5" y="0"/>
                      </a:lnTo>
                      <a:lnTo>
                        <a:pt x="3" y="0"/>
                      </a:lnTo>
                      <a:lnTo>
                        <a:pt x="0" y="3"/>
                      </a:lnTo>
                      <a:lnTo>
                        <a:pt x="0" y="8"/>
                      </a:lnTo>
                    </a:path>
                  </a:pathLst>
                </a:custGeom>
                <a:solidFill>
                  <a:srgbClr val="ffc98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54" name=""/>
                <p:cNvSpPr/>
                <p:nvPr/>
              </p:nvSpPr>
              <p:spPr>
                <a:xfrm>
                  <a:off x="3030480" y="1860480"/>
                  <a:ext cx="16920" cy="11160"/>
                </a:xfrm>
                <a:custGeom>
                  <a:avLst/>
                  <a:gdLst/>
                  <a:ahLst/>
                  <a:rect l="l" t="t" r="r" b="b"/>
                  <a:pathLst>
                    <a:path w="11" h="7">
                      <a:moveTo>
                        <a:pt x="2" y="0"/>
                      </a:moveTo>
                      <a:lnTo>
                        <a:pt x="0" y="3"/>
                      </a:lnTo>
                      <a:lnTo>
                        <a:pt x="2" y="6"/>
                      </a:lnTo>
                      <a:lnTo>
                        <a:pt x="10" y="5"/>
                      </a:lnTo>
                      <a:lnTo>
                        <a:pt x="10" y="1"/>
                      </a:lnTo>
                      <a:lnTo>
                        <a:pt x="9" y="0"/>
                      </a:lnTo>
                      <a:lnTo>
                        <a:pt x="2" y="0"/>
                      </a:lnTo>
                    </a:path>
                  </a:pathLst>
                </a:custGeom>
                <a:solidFill>
                  <a:srgbClr val="ffc98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5" name=""/>
                <p:cNvSpPr/>
                <p:nvPr/>
              </p:nvSpPr>
              <p:spPr>
                <a:xfrm>
                  <a:off x="2954160" y="1928880"/>
                  <a:ext cx="20160" cy="39600"/>
                </a:xfrm>
                <a:custGeom>
                  <a:avLst/>
                  <a:gdLst/>
                  <a:ahLst/>
                  <a:rect l="l" t="t" r="r" b="b"/>
                  <a:pathLst>
                    <a:path w="13" h="25">
                      <a:moveTo>
                        <a:pt x="0" y="3"/>
                      </a:moveTo>
                      <a:lnTo>
                        <a:pt x="3" y="14"/>
                      </a:lnTo>
                      <a:lnTo>
                        <a:pt x="5" y="24"/>
                      </a:lnTo>
                      <a:lnTo>
                        <a:pt x="11" y="24"/>
                      </a:lnTo>
                      <a:lnTo>
                        <a:pt x="12" y="19"/>
                      </a:lnTo>
                      <a:lnTo>
                        <a:pt x="7" y="16"/>
                      </a:lnTo>
                      <a:lnTo>
                        <a:pt x="5" y="11"/>
                      </a:lnTo>
                      <a:lnTo>
                        <a:pt x="5" y="5"/>
                      </a:lnTo>
                      <a:lnTo>
                        <a:pt x="0" y="0"/>
                      </a:lnTo>
                      <a:lnTo>
                        <a:pt x="0" y="3"/>
                      </a:lnTo>
                    </a:path>
                  </a:pathLst>
                </a:custGeom>
                <a:solidFill>
                  <a:srgbClr val="ffc98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6" name=""/>
                <p:cNvSpPr/>
                <p:nvPr/>
              </p:nvSpPr>
              <p:spPr>
                <a:xfrm>
                  <a:off x="2954160" y="1901880"/>
                  <a:ext cx="31320" cy="15840"/>
                </a:xfrm>
                <a:custGeom>
                  <a:avLst/>
                  <a:gdLst/>
                  <a:ahLst/>
                  <a:rect l="l" t="t" r="r" b="b"/>
                  <a:pathLst>
                    <a:path w="20" h="10">
                      <a:moveTo>
                        <a:pt x="0" y="8"/>
                      </a:moveTo>
                      <a:lnTo>
                        <a:pt x="1" y="9"/>
                      </a:lnTo>
                      <a:lnTo>
                        <a:pt x="3" y="6"/>
                      </a:lnTo>
                      <a:lnTo>
                        <a:pt x="8" y="7"/>
                      </a:lnTo>
                      <a:lnTo>
                        <a:pt x="10" y="4"/>
                      </a:lnTo>
                      <a:lnTo>
                        <a:pt x="19" y="8"/>
                      </a:lnTo>
                      <a:lnTo>
                        <a:pt x="8" y="0"/>
                      </a:lnTo>
                      <a:lnTo>
                        <a:pt x="7" y="1"/>
                      </a:lnTo>
                      <a:lnTo>
                        <a:pt x="2" y="5"/>
                      </a:lnTo>
                      <a:lnTo>
                        <a:pt x="0" y="8"/>
                      </a:lnTo>
                    </a:path>
                  </a:pathLst>
                </a:custGeom>
                <a:solidFill>
                  <a:srgbClr val="ffc98e"/>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57" name=""/>
                <p:cNvSpPr/>
                <p:nvPr/>
              </p:nvSpPr>
              <p:spPr>
                <a:xfrm>
                  <a:off x="2976480" y="1946160"/>
                  <a:ext cx="13680" cy="19080"/>
                </a:xfrm>
                <a:custGeom>
                  <a:avLst/>
                  <a:gdLst/>
                  <a:ahLst/>
                  <a:rect l="l" t="t" r="r" b="b"/>
                  <a:pathLst>
                    <a:path w="9" h="12">
                      <a:moveTo>
                        <a:pt x="0" y="3"/>
                      </a:moveTo>
                      <a:lnTo>
                        <a:pt x="3" y="6"/>
                      </a:lnTo>
                      <a:lnTo>
                        <a:pt x="5" y="11"/>
                      </a:lnTo>
                      <a:lnTo>
                        <a:pt x="8" y="7"/>
                      </a:lnTo>
                      <a:lnTo>
                        <a:pt x="8" y="3"/>
                      </a:lnTo>
                      <a:lnTo>
                        <a:pt x="5" y="1"/>
                      </a:lnTo>
                      <a:lnTo>
                        <a:pt x="1" y="0"/>
                      </a:lnTo>
                      <a:lnTo>
                        <a:pt x="0" y="3"/>
                      </a:lnTo>
                    </a:path>
                  </a:pathLst>
                </a:custGeom>
                <a:solidFill>
                  <a:srgbClr val="ffc98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58" name=""/>
                <p:cNvSpPr/>
                <p:nvPr/>
              </p:nvSpPr>
              <p:spPr>
                <a:xfrm>
                  <a:off x="2989080" y="1785960"/>
                  <a:ext cx="31320" cy="12600"/>
                </a:xfrm>
                <a:custGeom>
                  <a:avLst/>
                  <a:gdLst/>
                  <a:ahLst/>
                  <a:rect l="l" t="t" r="r" b="b"/>
                  <a:pathLst>
                    <a:path w="20" h="8">
                      <a:moveTo>
                        <a:pt x="0" y="2"/>
                      </a:moveTo>
                      <a:lnTo>
                        <a:pt x="4" y="6"/>
                      </a:lnTo>
                      <a:lnTo>
                        <a:pt x="7" y="7"/>
                      </a:lnTo>
                      <a:lnTo>
                        <a:pt x="9" y="7"/>
                      </a:lnTo>
                      <a:lnTo>
                        <a:pt x="13" y="7"/>
                      </a:lnTo>
                      <a:lnTo>
                        <a:pt x="19" y="3"/>
                      </a:lnTo>
                      <a:lnTo>
                        <a:pt x="16" y="0"/>
                      </a:lnTo>
                      <a:lnTo>
                        <a:pt x="10" y="0"/>
                      </a:lnTo>
                      <a:lnTo>
                        <a:pt x="4" y="2"/>
                      </a:lnTo>
                      <a:lnTo>
                        <a:pt x="0" y="2"/>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59" name=""/>
                <p:cNvSpPr/>
                <p:nvPr/>
              </p:nvSpPr>
              <p:spPr>
                <a:xfrm>
                  <a:off x="3039840" y="1779480"/>
                  <a:ext cx="26640" cy="12600"/>
                </a:xfrm>
                <a:custGeom>
                  <a:avLst/>
                  <a:gdLst/>
                  <a:ahLst/>
                  <a:rect l="l" t="t" r="r" b="b"/>
                  <a:pathLst>
                    <a:path w="17" h="8">
                      <a:moveTo>
                        <a:pt x="0" y="6"/>
                      </a:moveTo>
                      <a:lnTo>
                        <a:pt x="3" y="1"/>
                      </a:lnTo>
                      <a:lnTo>
                        <a:pt x="9" y="0"/>
                      </a:lnTo>
                      <a:lnTo>
                        <a:pt x="16" y="1"/>
                      </a:lnTo>
                      <a:lnTo>
                        <a:pt x="16" y="2"/>
                      </a:lnTo>
                      <a:lnTo>
                        <a:pt x="13" y="5"/>
                      </a:lnTo>
                      <a:lnTo>
                        <a:pt x="8" y="7"/>
                      </a:lnTo>
                      <a:lnTo>
                        <a:pt x="4" y="7"/>
                      </a:lnTo>
                      <a:lnTo>
                        <a:pt x="0" y="7"/>
                      </a:lnTo>
                      <a:lnTo>
                        <a:pt x="0" y="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60" name=""/>
                <p:cNvSpPr/>
                <p:nvPr/>
              </p:nvSpPr>
              <p:spPr>
                <a:xfrm>
                  <a:off x="2187360" y="1836720"/>
                  <a:ext cx="64800" cy="41040"/>
                </a:xfrm>
                <a:custGeom>
                  <a:avLst/>
                  <a:gdLst/>
                  <a:ahLst/>
                  <a:rect l="l" t="t" r="r" b="b"/>
                  <a:pathLst>
                    <a:path w="41" h="26">
                      <a:moveTo>
                        <a:pt x="4" y="15"/>
                      </a:moveTo>
                      <a:lnTo>
                        <a:pt x="8" y="12"/>
                      </a:lnTo>
                      <a:lnTo>
                        <a:pt x="11" y="11"/>
                      </a:lnTo>
                      <a:lnTo>
                        <a:pt x="22" y="11"/>
                      </a:lnTo>
                      <a:lnTo>
                        <a:pt x="28" y="12"/>
                      </a:lnTo>
                      <a:lnTo>
                        <a:pt x="13" y="7"/>
                      </a:lnTo>
                      <a:lnTo>
                        <a:pt x="5" y="7"/>
                      </a:lnTo>
                      <a:lnTo>
                        <a:pt x="1" y="6"/>
                      </a:lnTo>
                      <a:lnTo>
                        <a:pt x="0" y="5"/>
                      </a:lnTo>
                      <a:lnTo>
                        <a:pt x="10" y="0"/>
                      </a:lnTo>
                      <a:lnTo>
                        <a:pt x="16" y="0"/>
                      </a:lnTo>
                      <a:lnTo>
                        <a:pt x="22" y="4"/>
                      </a:lnTo>
                      <a:lnTo>
                        <a:pt x="30" y="7"/>
                      </a:lnTo>
                      <a:lnTo>
                        <a:pt x="36" y="9"/>
                      </a:lnTo>
                      <a:lnTo>
                        <a:pt x="40" y="14"/>
                      </a:lnTo>
                      <a:lnTo>
                        <a:pt x="38" y="17"/>
                      </a:lnTo>
                      <a:lnTo>
                        <a:pt x="35" y="17"/>
                      </a:lnTo>
                      <a:lnTo>
                        <a:pt x="31" y="22"/>
                      </a:lnTo>
                      <a:lnTo>
                        <a:pt x="27" y="23"/>
                      </a:lnTo>
                      <a:lnTo>
                        <a:pt x="20" y="25"/>
                      </a:lnTo>
                      <a:lnTo>
                        <a:pt x="26" y="19"/>
                      </a:lnTo>
                      <a:lnTo>
                        <a:pt x="29" y="16"/>
                      </a:lnTo>
                      <a:lnTo>
                        <a:pt x="29" y="15"/>
                      </a:lnTo>
                      <a:lnTo>
                        <a:pt x="26" y="15"/>
                      </a:lnTo>
                      <a:lnTo>
                        <a:pt x="22" y="14"/>
                      </a:lnTo>
                      <a:lnTo>
                        <a:pt x="20" y="16"/>
                      </a:lnTo>
                      <a:lnTo>
                        <a:pt x="20" y="15"/>
                      </a:lnTo>
                      <a:lnTo>
                        <a:pt x="18" y="15"/>
                      </a:lnTo>
                      <a:lnTo>
                        <a:pt x="18" y="15"/>
                      </a:lnTo>
                      <a:lnTo>
                        <a:pt x="20" y="17"/>
                      </a:lnTo>
                      <a:lnTo>
                        <a:pt x="19" y="18"/>
                      </a:lnTo>
                      <a:lnTo>
                        <a:pt x="5" y="17"/>
                      </a:lnTo>
                      <a:lnTo>
                        <a:pt x="4" y="15"/>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61" name=""/>
                <p:cNvSpPr/>
                <p:nvPr/>
              </p:nvSpPr>
              <p:spPr>
                <a:xfrm>
                  <a:off x="2198520" y="1868400"/>
                  <a:ext cx="26640" cy="7920"/>
                </a:xfrm>
                <a:custGeom>
                  <a:avLst/>
                  <a:gdLst/>
                  <a:ahLst/>
                  <a:rect l="l" t="t" r="r" b="b"/>
                  <a:pathLst>
                    <a:path w="17" h="5">
                      <a:moveTo>
                        <a:pt x="0" y="0"/>
                      </a:moveTo>
                      <a:lnTo>
                        <a:pt x="3" y="3"/>
                      </a:lnTo>
                      <a:lnTo>
                        <a:pt x="10" y="4"/>
                      </a:lnTo>
                      <a:lnTo>
                        <a:pt x="16" y="1"/>
                      </a:lnTo>
                      <a:lnTo>
                        <a:pt x="9" y="1"/>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62" name=""/>
                <p:cNvSpPr/>
                <p:nvPr/>
              </p:nvSpPr>
              <p:spPr>
                <a:xfrm>
                  <a:off x="2223720" y="1857240"/>
                  <a:ext cx="9360" cy="14400"/>
                </a:xfrm>
                <a:custGeom>
                  <a:avLst/>
                  <a:gdLst/>
                  <a:ahLst/>
                  <a:rect l="l" t="t" r="r" b="b"/>
                  <a:pathLst>
                    <a:path w="6" h="9">
                      <a:moveTo>
                        <a:pt x="0" y="0"/>
                      </a:moveTo>
                      <a:lnTo>
                        <a:pt x="4" y="8"/>
                      </a:lnTo>
                      <a:lnTo>
                        <a:pt x="5" y="6"/>
                      </a:lnTo>
                      <a:lnTo>
                        <a:pt x="3" y="2"/>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63" name=""/>
                <p:cNvSpPr/>
                <p:nvPr/>
              </p:nvSpPr>
              <p:spPr>
                <a:xfrm>
                  <a:off x="2255760" y="1857240"/>
                  <a:ext cx="47160" cy="60480"/>
                </a:xfrm>
                <a:custGeom>
                  <a:avLst/>
                  <a:gdLst/>
                  <a:ahLst/>
                  <a:rect l="l" t="t" r="r" b="b"/>
                  <a:pathLst>
                    <a:path w="30" h="38">
                      <a:moveTo>
                        <a:pt x="0" y="1"/>
                      </a:moveTo>
                      <a:lnTo>
                        <a:pt x="0" y="4"/>
                      </a:lnTo>
                      <a:lnTo>
                        <a:pt x="2" y="6"/>
                      </a:lnTo>
                      <a:lnTo>
                        <a:pt x="1" y="28"/>
                      </a:lnTo>
                      <a:lnTo>
                        <a:pt x="3" y="37"/>
                      </a:lnTo>
                      <a:lnTo>
                        <a:pt x="2" y="27"/>
                      </a:lnTo>
                      <a:lnTo>
                        <a:pt x="3" y="15"/>
                      </a:lnTo>
                      <a:lnTo>
                        <a:pt x="11" y="20"/>
                      </a:lnTo>
                      <a:lnTo>
                        <a:pt x="8" y="14"/>
                      </a:lnTo>
                      <a:lnTo>
                        <a:pt x="15" y="16"/>
                      </a:lnTo>
                      <a:lnTo>
                        <a:pt x="19" y="15"/>
                      </a:lnTo>
                      <a:lnTo>
                        <a:pt x="15" y="14"/>
                      </a:lnTo>
                      <a:lnTo>
                        <a:pt x="15" y="12"/>
                      </a:lnTo>
                      <a:lnTo>
                        <a:pt x="17" y="11"/>
                      </a:lnTo>
                      <a:lnTo>
                        <a:pt x="21" y="14"/>
                      </a:lnTo>
                      <a:lnTo>
                        <a:pt x="23" y="13"/>
                      </a:lnTo>
                      <a:lnTo>
                        <a:pt x="18" y="7"/>
                      </a:lnTo>
                      <a:lnTo>
                        <a:pt x="15" y="5"/>
                      </a:lnTo>
                      <a:lnTo>
                        <a:pt x="15" y="4"/>
                      </a:lnTo>
                      <a:lnTo>
                        <a:pt x="23" y="6"/>
                      </a:lnTo>
                      <a:lnTo>
                        <a:pt x="26" y="9"/>
                      </a:lnTo>
                      <a:lnTo>
                        <a:pt x="25" y="11"/>
                      </a:lnTo>
                      <a:lnTo>
                        <a:pt x="29" y="9"/>
                      </a:lnTo>
                      <a:lnTo>
                        <a:pt x="29" y="3"/>
                      </a:lnTo>
                      <a:lnTo>
                        <a:pt x="26" y="1"/>
                      </a:lnTo>
                      <a:lnTo>
                        <a:pt x="19" y="1"/>
                      </a:lnTo>
                      <a:lnTo>
                        <a:pt x="6" y="0"/>
                      </a:lnTo>
                      <a:lnTo>
                        <a:pt x="3" y="1"/>
                      </a:lnTo>
                      <a:lnTo>
                        <a:pt x="0" y="1"/>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64" name=""/>
                <p:cNvSpPr/>
                <p:nvPr/>
              </p:nvSpPr>
              <p:spPr>
                <a:xfrm>
                  <a:off x="2253960" y="1920960"/>
                  <a:ext cx="6120" cy="7920"/>
                </a:xfrm>
                <a:custGeom>
                  <a:avLst/>
                  <a:gdLst/>
                  <a:ahLst/>
                  <a:rect l="l" t="t" r="r" b="b"/>
                  <a:pathLst>
                    <a:path w="4" h="5">
                      <a:moveTo>
                        <a:pt x="0" y="3"/>
                      </a:moveTo>
                      <a:lnTo>
                        <a:pt x="2" y="4"/>
                      </a:lnTo>
                      <a:lnTo>
                        <a:pt x="3" y="3"/>
                      </a:lnTo>
                      <a:lnTo>
                        <a:pt x="3"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65" name=""/>
                <p:cNvSpPr/>
                <p:nvPr/>
              </p:nvSpPr>
              <p:spPr>
                <a:xfrm>
                  <a:off x="2192040" y="1912680"/>
                  <a:ext cx="75960" cy="41400"/>
                </a:xfrm>
                <a:custGeom>
                  <a:avLst/>
                  <a:gdLst/>
                  <a:ahLst/>
                  <a:rect l="l" t="t" r="r" b="b"/>
                  <a:pathLst>
                    <a:path w="48" h="26">
                      <a:moveTo>
                        <a:pt x="37" y="7"/>
                      </a:moveTo>
                      <a:lnTo>
                        <a:pt x="33" y="7"/>
                      </a:lnTo>
                      <a:lnTo>
                        <a:pt x="27" y="2"/>
                      </a:lnTo>
                      <a:lnTo>
                        <a:pt x="22" y="0"/>
                      </a:lnTo>
                      <a:lnTo>
                        <a:pt x="16" y="2"/>
                      </a:lnTo>
                      <a:lnTo>
                        <a:pt x="16" y="4"/>
                      </a:lnTo>
                      <a:lnTo>
                        <a:pt x="19" y="5"/>
                      </a:lnTo>
                      <a:lnTo>
                        <a:pt x="9" y="7"/>
                      </a:lnTo>
                      <a:lnTo>
                        <a:pt x="0" y="12"/>
                      </a:lnTo>
                      <a:lnTo>
                        <a:pt x="2" y="15"/>
                      </a:lnTo>
                      <a:lnTo>
                        <a:pt x="7" y="15"/>
                      </a:lnTo>
                      <a:lnTo>
                        <a:pt x="11" y="16"/>
                      </a:lnTo>
                      <a:lnTo>
                        <a:pt x="18" y="13"/>
                      </a:lnTo>
                      <a:lnTo>
                        <a:pt x="25" y="15"/>
                      </a:lnTo>
                      <a:lnTo>
                        <a:pt x="33" y="14"/>
                      </a:lnTo>
                      <a:lnTo>
                        <a:pt x="38" y="18"/>
                      </a:lnTo>
                      <a:lnTo>
                        <a:pt x="41" y="20"/>
                      </a:lnTo>
                      <a:lnTo>
                        <a:pt x="45" y="25"/>
                      </a:lnTo>
                      <a:lnTo>
                        <a:pt x="47" y="24"/>
                      </a:lnTo>
                      <a:lnTo>
                        <a:pt x="47" y="15"/>
                      </a:lnTo>
                      <a:lnTo>
                        <a:pt x="41" y="7"/>
                      </a:lnTo>
                      <a:lnTo>
                        <a:pt x="37" y="7"/>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66" name=""/>
                <p:cNvSpPr/>
                <p:nvPr/>
              </p:nvSpPr>
              <p:spPr>
                <a:xfrm>
                  <a:off x="2231640" y="1893960"/>
                  <a:ext cx="10800" cy="10800"/>
                </a:xfrm>
                <a:custGeom>
                  <a:avLst/>
                  <a:gdLst/>
                  <a:ahLst/>
                  <a:rect l="l" t="t" r="r" b="b"/>
                  <a:pathLst>
                    <a:path w="7" h="7">
                      <a:moveTo>
                        <a:pt x="0" y="4"/>
                      </a:moveTo>
                      <a:lnTo>
                        <a:pt x="3" y="6"/>
                      </a:lnTo>
                      <a:lnTo>
                        <a:pt x="6" y="2"/>
                      </a:lnTo>
                      <a:lnTo>
                        <a:pt x="5" y="0"/>
                      </a:lnTo>
                      <a:lnTo>
                        <a:pt x="0" y="4"/>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67" name=""/>
                <p:cNvSpPr/>
                <p:nvPr/>
              </p:nvSpPr>
              <p:spPr>
                <a:xfrm>
                  <a:off x="2215800" y="1942920"/>
                  <a:ext cx="37800" cy="17640"/>
                </a:xfrm>
                <a:custGeom>
                  <a:avLst/>
                  <a:gdLst/>
                  <a:ahLst/>
                  <a:rect l="l" t="t" r="r" b="b"/>
                  <a:pathLst>
                    <a:path w="24" h="11">
                      <a:moveTo>
                        <a:pt x="0" y="2"/>
                      </a:moveTo>
                      <a:lnTo>
                        <a:pt x="4" y="0"/>
                      </a:lnTo>
                      <a:lnTo>
                        <a:pt x="23" y="3"/>
                      </a:lnTo>
                      <a:lnTo>
                        <a:pt x="21" y="10"/>
                      </a:lnTo>
                      <a:lnTo>
                        <a:pt x="17" y="7"/>
                      </a:lnTo>
                      <a:lnTo>
                        <a:pt x="2" y="7"/>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68" name=""/>
                <p:cNvSpPr/>
                <p:nvPr/>
              </p:nvSpPr>
              <p:spPr>
                <a:xfrm>
                  <a:off x="2158920" y="1739880"/>
                  <a:ext cx="148680" cy="79200"/>
                </a:xfrm>
                <a:custGeom>
                  <a:avLst/>
                  <a:gdLst/>
                  <a:ahLst/>
                  <a:rect l="l" t="t" r="r" b="b"/>
                  <a:pathLst>
                    <a:path w="94" h="50">
                      <a:moveTo>
                        <a:pt x="68" y="12"/>
                      </a:moveTo>
                      <a:lnTo>
                        <a:pt x="76" y="11"/>
                      </a:lnTo>
                      <a:lnTo>
                        <a:pt x="76" y="10"/>
                      </a:lnTo>
                      <a:lnTo>
                        <a:pt x="71" y="6"/>
                      </a:lnTo>
                      <a:lnTo>
                        <a:pt x="60" y="3"/>
                      </a:lnTo>
                      <a:lnTo>
                        <a:pt x="54" y="2"/>
                      </a:lnTo>
                      <a:lnTo>
                        <a:pt x="31" y="1"/>
                      </a:lnTo>
                      <a:lnTo>
                        <a:pt x="48" y="0"/>
                      </a:lnTo>
                      <a:lnTo>
                        <a:pt x="63" y="2"/>
                      </a:lnTo>
                      <a:lnTo>
                        <a:pt x="76" y="5"/>
                      </a:lnTo>
                      <a:lnTo>
                        <a:pt x="84" y="11"/>
                      </a:lnTo>
                      <a:lnTo>
                        <a:pt x="91" y="18"/>
                      </a:lnTo>
                      <a:lnTo>
                        <a:pt x="93" y="24"/>
                      </a:lnTo>
                      <a:lnTo>
                        <a:pt x="93" y="28"/>
                      </a:lnTo>
                      <a:lnTo>
                        <a:pt x="89" y="33"/>
                      </a:lnTo>
                      <a:lnTo>
                        <a:pt x="80" y="39"/>
                      </a:lnTo>
                      <a:lnTo>
                        <a:pt x="69" y="41"/>
                      </a:lnTo>
                      <a:lnTo>
                        <a:pt x="54" y="45"/>
                      </a:lnTo>
                      <a:lnTo>
                        <a:pt x="23" y="48"/>
                      </a:lnTo>
                      <a:lnTo>
                        <a:pt x="0" y="49"/>
                      </a:lnTo>
                      <a:lnTo>
                        <a:pt x="52" y="37"/>
                      </a:lnTo>
                      <a:lnTo>
                        <a:pt x="63" y="33"/>
                      </a:lnTo>
                      <a:lnTo>
                        <a:pt x="69" y="30"/>
                      </a:lnTo>
                      <a:lnTo>
                        <a:pt x="71" y="28"/>
                      </a:lnTo>
                      <a:lnTo>
                        <a:pt x="71" y="27"/>
                      </a:lnTo>
                      <a:lnTo>
                        <a:pt x="67" y="27"/>
                      </a:lnTo>
                      <a:lnTo>
                        <a:pt x="78" y="24"/>
                      </a:lnTo>
                      <a:lnTo>
                        <a:pt x="79" y="22"/>
                      </a:lnTo>
                      <a:lnTo>
                        <a:pt x="84" y="22"/>
                      </a:lnTo>
                      <a:lnTo>
                        <a:pt x="85" y="21"/>
                      </a:lnTo>
                      <a:lnTo>
                        <a:pt x="83" y="20"/>
                      </a:lnTo>
                      <a:lnTo>
                        <a:pt x="74" y="17"/>
                      </a:lnTo>
                      <a:lnTo>
                        <a:pt x="82" y="17"/>
                      </a:lnTo>
                      <a:lnTo>
                        <a:pt x="82" y="15"/>
                      </a:lnTo>
                      <a:lnTo>
                        <a:pt x="76" y="13"/>
                      </a:lnTo>
                      <a:lnTo>
                        <a:pt x="68" y="1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69" name=""/>
                <p:cNvSpPr/>
                <p:nvPr/>
              </p:nvSpPr>
              <p:spPr>
                <a:xfrm>
                  <a:off x="2106360" y="1739880"/>
                  <a:ext cx="164880" cy="156960"/>
                </a:xfrm>
                <a:custGeom>
                  <a:avLst/>
                  <a:gdLst/>
                  <a:ahLst/>
                  <a:rect l="l" t="t" r="r" b="b"/>
                  <a:pathLst>
                    <a:path w="104" h="99">
                      <a:moveTo>
                        <a:pt x="43" y="48"/>
                      </a:moveTo>
                      <a:lnTo>
                        <a:pt x="36" y="59"/>
                      </a:lnTo>
                      <a:lnTo>
                        <a:pt x="34" y="64"/>
                      </a:lnTo>
                      <a:lnTo>
                        <a:pt x="30" y="69"/>
                      </a:lnTo>
                      <a:lnTo>
                        <a:pt x="26" y="81"/>
                      </a:lnTo>
                      <a:lnTo>
                        <a:pt x="20" y="81"/>
                      </a:lnTo>
                      <a:lnTo>
                        <a:pt x="18" y="73"/>
                      </a:lnTo>
                      <a:lnTo>
                        <a:pt x="13" y="71"/>
                      </a:lnTo>
                      <a:lnTo>
                        <a:pt x="9" y="72"/>
                      </a:lnTo>
                      <a:lnTo>
                        <a:pt x="5" y="76"/>
                      </a:lnTo>
                      <a:lnTo>
                        <a:pt x="8" y="98"/>
                      </a:lnTo>
                      <a:lnTo>
                        <a:pt x="4" y="91"/>
                      </a:lnTo>
                      <a:lnTo>
                        <a:pt x="0" y="53"/>
                      </a:lnTo>
                      <a:lnTo>
                        <a:pt x="3" y="45"/>
                      </a:lnTo>
                      <a:lnTo>
                        <a:pt x="9" y="32"/>
                      </a:lnTo>
                      <a:lnTo>
                        <a:pt x="20" y="17"/>
                      </a:lnTo>
                      <a:lnTo>
                        <a:pt x="36" y="5"/>
                      </a:lnTo>
                      <a:lnTo>
                        <a:pt x="56" y="1"/>
                      </a:lnTo>
                      <a:lnTo>
                        <a:pt x="72" y="0"/>
                      </a:lnTo>
                      <a:lnTo>
                        <a:pt x="80" y="4"/>
                      </a:lnTo>
                      <a:lnTo>
                        <a:pt x="85" y="9"/>
                      </a:lnTo>
                      <a:lnTo>
                        <a:pt x="94" y="12"/>
                      </a:lnTo>
                      <a:lnTo>
                        <a:pt x="91" y="12"/>
                      </a:lnTo>
                      <a:lnTo>
                        <a:pt x="91" y="13"/>
                      </a:lnTo>
                      <a:lnTo>
                        <a:pt x="98" y="16"/>
                      </a:lnTo>
                      <a:lnTo>
                        <a:pt x="93" y="18"/>
                      </a:lnTo>
                      <a:lnTo>
                        <a:pt x="93" y="20"/>
                      </a:lnTo>
                      <a:lnTo>
                        <a:pt x="96" y="21"/>
                      </a:lnTo>
                      <a:lnTo>
                        <a:pt x="90" y="23"/>
                      </a:lnTo>
                      <a:lnTo>
                        <a:pt x="93" y="27"/>
                      </a:lnTo>
                      <a:lnTo>
                        <a:pt x="82" y="29"/>
                      </a:lnTo>
                      <a:lnTo>
                        <a:pt x="82" y="30"/>
                      </a:lnTo>
                      <a:lnTo>
                        <a:pt x="93" y="31"/>
                      </a:lnTo>
                      <a:lnTo>
                        <a:pt x="82" y="34"/>
                      </a:lnTo>
                      <a:lnTo>
                        <a:pt x="103" y="32"/>
                      </a:lnTo>
                      <a:lnTo>
                        <a:pt x="101" y="39"/>
                      </a:lnTo>
                      <a:lnTo>
                        <a:pt x="64" y="45"/>
                      </a:lnTo>
                      <a:lnTo>
                        <a:pt x="43"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2258640" y="1792080"/>
                  <a:ext cx="66600" cy="182520"/>
                </a:xfrm>
                <a:custGeom>
                  <a:avLst/>
                  <a:gdLst/>
                  <a:ahLst/>
                  <a:rect l="l" t="t" r="r" b="b"/>
                  <a:pathLst>
                    <a:path w="42" h="115">
                      <a:moveTo>
                        <a:pt x="23" y="10"/>
                      </a:moveTo>
                      <a:lnTo>
                        <a:pt x="26" y="17"/>
                      </a:lnTo>
                      <a:lnTo>
                        <a:pt x="26" y="45"/>
                      </a:lnTo>
                      <a:lnTo>
                        <a:pt x="21" y="54"/>
                      </a:lnTo>
                      <a:lnTo>
                        <a:pt x="21" y="65"/>
                      </a:lnTo>
                      <a:lnTo>
                        <a:pt x="17" y="81"/>
                      </a:lnTo>
                      <a:lnTo>
                        <a:pt x="11" y="90"/>
                      </a:lnTo>
                      <a:lnTo>
                        <a:pt x="0" y="114"/>
                      </a:lnTo>
                      <a:lnTo>
                        <a:pt x="7" y="106"/>
                      </a:lnTo>
                      <a:lnTo>
                        <a:pt x="15" y="86"/>
                      </a:lnTo>
                      <a:lnTo>
                        <a:pt x="19" y="80"/>
                      </a:lnTo>
                      <a:lnTo>
                        <a:pt x="24" y="67"/>
                      </a:lnTo>
                      <a:lnTo>
                        <a:pt x="24" y="56"/>
                      </a:lnTo>
                      <a:lnTo>
                        <a:pt x="35" y="50"/>
                      </a:lnTo>
                      <a:lnTo>
                        <a:pt x="41" y="32"/>
                      </a:lnTo>
                      <a:lnTo>
                        <a:pt x="41" y="18"/>
                      </a:lnTo>
                      <a:lnTo>
                        <a:pt x="40" y="7"/>
                      </a:lnTo>
                      <a:lnTo>
                        <a:pt x="38" y="3"/>
                      </a:lnTo>
                      <a:lnTo>
                        <a:pt x="34" y="0"/>
                      </a:lnTo>
                      <a:lnTo>
                        <a:pt x="38" y="4"/>
                      </a:lnTo>
                      <a:lnTo>
                        <a:pt x="38" y="7"/>
                      </a:lnTo>
                      <a:lnTo>
                        <a:pt x="38" y="9"/>
                      </a:lnTo>
                      <a:lnTo>
                        <a:pt x="32" y="6"/>
                      </a:lnTo>
                      <a:lnTo>
                        <a:pt x="31" y="6"/>
                      </a:lnTo>
                      <a:lnTo>
                        <a:pt x="35" y="12"/>
                      </a:lnTo>
                      <a:lnTo>
                        <a:pt x="36" y="21"/>
                      </a:lnTo>
                      <a:lnTo>
                        <a:pt x="36" y="30"/>
                      </a:lnTo>
                      <a:lnTo>
                        <a:pt x="34" y="19"/>
                      </a:lnTo>
                      <a:lnTo>
                        <a:pt x="24" y="7"/>
                      </a:lnTo>
                      <a:lnTo>
                        <a:pt x="23"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2131920" y="1895400"/>
                  <a:ext cx="123480" cy="122400"/>
                </a:xfrm>
                <a:custGeom>
                  <a:avLst/>
                  <a:gdLst/>
                  <a:ahLst/>
                  <a:rect l="l" t="t" r="r" b="b"/>
                  <a:pathLst>
                    <a:path w="78" h="77">
                      <a:moveTo>
                        <a:pt x="6" y="0"/>
                      </a:moveTo>
                      <a:lnTo>
                        <a:pt x="4" y="15"/>
                      </a:lnTo>
                      <a:lnTo>
                        <a:pt x="4" y="20"/>
                      </a:lnTo>
                      <a:lnTo>
                        <a:pt x="7" y="26"/>
                      </a:lnTo>
                      <a:lnTo>
                        <a:pt x="11" y="31"/>
                      </a:lnTo>
                      <a:lnTo>
                        <a:pt x="18" y="37"/>
                      </a:lnTo>
                      <a:lnTo>
                        <a:pt x="40" y="47"/>
                      </a:lnTo>
                      <a:lnTo>
                        <a:pt x="61" y="54"/>
                      </a:lnTo>
                      <a:lnTo>
                        <a:pt x="67" y="55"/>
                      </a:lnTo>
                      <a:lnTo>
                        <a:pt x="72" y="54"/>
                      </a:lnTo>
                      <a:lnTo>
                        <a:pt x="77" y="53"/>
                      </a:lnTo>
                      <a:lnTo>
                        <a:pt x="73" y="55"/>
                      </a:lnTo>
                      <a:lnTo>
                        <a:pt x="68" y="56"/>
                      </a:lnTo>
                      <a:lnTo>
                        <a:pt x="62" y="56"/>
                      </a:lnTo>
                      <a:lnTo>
                        <a:pt x="54" y="55"/>
                      </a:lnTo>
                      <a:lnTo>
                        <a:pt x="54" y="59"/>
                      </a:lnTo>
                      <a:lnTo>
                        <a:pt x="53" y="64"/>
                      </a:lnTo>
                      <a:lnTo>
                        <a:pt x="47" y="73"/>
                      </a:lnTo>
                      <a:lnTo>
                        <a:pt x="50" y="65"/>
                      </a:lnTo>
                      <a:lnTo>
                        <a:pt x="51" y="59"/>
                      </a:lnTo>
                      <a:lnTo>
                        <a:pt x="44" y="62"/>
                      </a:lnTo>
                      <a:lnTo>
                        <a:pt x="44" y="71"/>
                      </a:lnTo>
                      <a:lnTo>
                        <a:pt x="42" y="73"/>
                      </a:lnTo>
                      <a:lnTo>
                        <a:pt x="44" y="76"/>
                      </a:lnTo>
                      <a:lnTo>
                        <a:pt x="42" y="76"/>
                      </a:lnTo>
                      <a:lnTo>
                        <a:pt x="37" y="73"/>
                      </a:lnTo>
                      <a:lnTo>
                        <a:pt x="23" y="61"/>
                      </a:lnTo>
                      <a:lnTo>
                        <a:pt x="15" y="53"/>
                      </a:lnTo>
                      <a:lnTo>
                        <a:pt x="6" y="41"/>
                      </a:lnTo>
                      <a:lnTo>
                        <a:pt x="0" y="26"/>
                      </a:lnTo>
                      <a:lnTo>
                        <a:pt x="7" y="39"/>
                      </a:lnTo>
                      <a:lnTo>
                        <a:pt x="14" y="46"/>
                      </a:lnTo>
                      <a:lnTo>
                        <a:pt x="5" y="30"/>
                      </a:lnTo>
                      <a:lnTo>
                        <a:pt x="3" y="20"/>
                      </a:lnTo>
                      <a:lnTo>
                        <a:pt x="3" y="16"/>
                      </a:lnTo>
                      <a:lnTo>
                        <a:pt x="4" y="7"/>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2120760" y="1861920"/>
                  <a:ext cx="21960" cy="36720"/>
                </a:xfrm>
                <a:custGeom>
                  <a:avLst/>
                  <a:gdLst/>
                  <a:ahLst/>
                  <a:rect l="l" t="t" r="r" b="b"/>
                  <a:pathLst>
                    <a:path w="14" h="23">
                      <a:moveTo>
                        <a:pt x="3" y="0"/>
                      </a:moveTo>
                      <a:lnTo>
                        <a:pt x="7" y="0"/>
                      </a:lnTo>
                      <a:lnTo>
                        <a:pt x="13" y="4"/>
                      </a:lnTo>
                      <a:lnTo>
                        <a:pt x="13" y="12"/>
                      </a:lnTo>
                      <a:lnTo>
                        <a:pt x="11" y="11"/>
                      </a:lnTo>
                      <a:lnTo>
                        <a:pt x="10" y="10"/>
                      </a:lnTo>
                      <a:lnTo>
                        <a:pt x="7" y="12"/>
                      </a:lnTo>
                      <a:lnTo>
                        <a:pt x="7" y="13"/>
                      </a:lnTo>
                      <a:lnTo>
                        <a:pt x="9" y="15"/>
                      </a:lnTo>
                      <a:lnTo>
                        <a:pt x="12" y="21"/>
                      </a:lnTo>
                      <a:lnTo>
                        <a:pt x="10" y="22"/>
                      </a:lnTo>
                      <a:lnTo>
                        <a:pt x="7" y="19"/>
                      </a:lnTo>
                      <a:lnTo>
                        <a:pt x="1" y="17"/>
                      </a:lnTo>
                      <a:lnTo>
                        <a:pt x="0" y="8"/>
                      </a:lnTo>
                      <a:lnTo>
                        <a:pt x="1" y="7"/>
                      </a:lnTo>
                      <a:lnTo>
                        <a:pt x="8" y="4"/>
                      </a:lnTo>
                      <a:lnTo>
                        <a:pt x="6" y="2"/>
                      </a:lnTo>
                      <a:lnTo>
                        <a:pt x="3"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73" name=""/>
                <p:cNvSpPr/>
                <p:nvPr/>
              </p:nvSpPr>
              <p:spPr>
                <a:xfrm>
                  <a:off x="2122200" y="1895400"/>
                  <a:ext cx="10800" cy="3240"/>
                </a:xfrm>
                <a:custGeom>
                  <a:avLst/>
                  <a:gdLst/>
                  <a:ahLst/>
                  <a:rect l="l" t="t" r="r" b="b"/>
                  <a:pathLst>
                    <a:path w="7" h="2">
                      <a:moveTo>
                        <a:pt x="0" y="0"/>
                      </a:moveTo>
                      <a:lnTo>
                        <a:pt x="6" y="1"/>
                      </a:lnTo>
                      <a:lnTo>
                        <a:pt x="1"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74" name=""/>
                <p:cNvSpPr/>
                <p:nvPr/>
              </p:nvSpPr>
              <p:spPr>
                <a:xfrm>
                  <a:off x="2120760" y="1903320"/>
                  <a:ext cx="18720" cy="25560"/>
                </a:xfrm>
                <a:custGeom>
                  <a:avLst/>
                  <a:gdLst/>
                  <a:ahLst/>
                  <a:rect l="l" t="t" r="r" b="b"/>
                  <a:pathLst>
                    <a:path w="12" h="16">
                      <a:moveTo>
                        <a:pt x="0" y="0"/>
                      </a:moveTo>
                      <a:lnTo>
                        <a:pt x="2" y="2"/>
                      </a:lnTo>
                      <a:lnTo>
                        <a:pt x="5" y="3"/>
                      </a:lnTo>
                      <a:lnTo>
                        <a:pt x="11" y="2"/>
                      </a:lnTo>
                      <a:lnTo>
                        <a:pt x="8" y="7"/>
                      </a:lnTo>
                      <a:lnTo>
                        <a:pt x="5" y="8"/>
                      </a:lnTo>
                      <a:lnTo>
                        <a:pt x="2" y="15"/>
                      </a:lnTo>
                      <a:lnTo>
                        <a:pt x="0" y="11"/>
                      </a:lnTo>
                      <a:lnTo>
                        <a:pt x="0" y="9"/>
                      </a:lnTo>
                      <a:lnTo>
                        <a:pt x="2" y="7"/>
                      </a:lnTo>
                      <a:lnTo>
                        <a:pt x="1" y="4"/>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75" name=""/>
                <p:cNvSpPr/>
                <p:nvPr/>
              </p:nvSpPr>
              <p:spPr>
                <a:xfrm>
                  <a:off x="2151000" y="1866960"/>
                  <a:ext cx="4320" cy="21960"/>
                </a:xfrm>
                <a:prstGeom prst="line">
                  <a:avLst/>
                </a:prstGeom>
                <a:ln w="0">
                  <a:noFill/>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276" name=""/>
                <p:cNvSpPr/>
                <p:nvPr/>
              </p:nvSpPr>
              <p:spPr>
                <a:xfrm>
                  <a:off x="2152440" y="1860480"/>
                  <a:ext cx="9000" cy="36360"/>
                </a:xfrm>
                <a:prstGeom prst="line">
                  <a:avLst/>
                </a:prstGeom>
                <a:ln w="0">
                  <a:noFill/>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277" name=""/>
                <p:cNvSpPr/>
                <p:nvPr/>
              </p:nvSpPr>
              <p:spPr>
                <a:xfrm>
                  <a:off x="2158920" y="1871640"/>
                  <a:ext cx="9000" cy="28440"/>
                </a:xfrm>
                <a:prstGeom prst="line">
                  <a:avLst/>
                </a:prstGeom>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2278" name=""/>
                <p:cNvSpPr/>
                <p:nvPr/>
              </p:nvSpPr>
              <p:spPr>
                <a:xfrm>
                  <a:off x="2207880" y="1817640"/>
                  <a:ext cx="85320" cy="19080"/>
                </a:xfrm>
                <a:custGeom>
                  <a:avLst/>
                  <a:gdLst/>
                  <a:ahLst/>
                  <a:rect l="l" t="t" r="r" b="b"/>
                  <a:pathLst>
                    <a:path w="54" h="12">
                      <a:moveTo>
                        <a:pt x="0" y="0"/>
                      </a:moveTo>
                      <a:lnTo>
                        <a:pt x="8" y="1"/>
                      </a:lnTo>
                      <a:lnTo>
                        <a:pt x="25" y="7"/>
                      </a:lnTo>
                      <a:lnTo>
                        <a:pt x="37" y="9"/>
                      </a:lnTo>
                      <a:lnTo>
                        <a:pt x="53" y="11"/>
                      </a:lnTo>
                    </a:path>
                  </a:pathLst>
                </a:custGeom>
                <a:no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79" name=""/>
                <p:cNvSpPr/>
                <p:nvPr/>
              </p:nvSpPr>
              <p:spPr>
                <a:xfrm>
                  <a:off x="2223720" y="1814400"/>
                  <a:ext cx="58680" cy="15840"/>
                </a:xfrm>
                <a:custGeom>
                  <a:avLst/>
                  <a:gdLst/>
                  <a:ahLst/>
                  <a:rect l="l" t="t" r="r" b="b"/>
                  <a:pathLst>
                    <a:path w="37" h="10">
                      <a:moveTo>
                        <a:pt x="0" y="0"/>
                      </a:moveTo>
                      <a:lnTo>
                        <a:pt x="5" y="2"/>
                      </a:lnTo>
                      <a:lnTo>
                        <a:pt x="18" y="6"/>
                      </a:lnTo>
                      <a:lnTo>
                        <a:pt x="36" y="9"/>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80" name=""/>
                <p:cNvSpPr/>
                <p:nvPr/>
              </p:nvSpPr>
              <p:spPr>
                <a:xfrm>
                  <a:off x="2074680" y="1927080"/>
                  <a:ext cx="42480" cy="68400"/>
                </a:xfrm>
                <a:custGeom>
                  <a:avLst/>
                  <a:gdLst/>
                  <a:ahLst/>
                  <a:rect l="l" t="t" r="r" b="b"/>
                  <a:pathLst>
                    <a:path w="27" h="43">
                      <a:moveTo>
                        <a:pt x="26" y="0"/>
                      </a:moveTo>
                      <a:lnTo>
                        <a:pt x="20" y="10"/>
                      </a:lnTo>
                      <a:lnTo>
                        <a:pt x="20" y="19"/>
                      </a:lnTo>
                      <a:lnTo>
                        <a:pt x="25" y="42"/>
                      </a:lnTo>
                      <a:lnTo>
                        <a:pt x="16" y="21"/>
                      </a:lnTo>
                      <a:lnTo>
                        <a:pt x="16" y="15"/>
                      </a:lnTo>
                      <a:lnTo>
                        <a:pt x="0" y="15"/>
                      </a:lnTo>
                      <a:lnTo>
                        <a:pt x="13" y="6"/>
                      </a:lnTo>
                      <a:lnTo>
                        <a:pt x="20" y="6"/>
                      </a:lnTo>
                      <a:lnTo>
                        <a:pt x="26"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81" name=""/>
                <p:cNvSpPr/>
                <p:nvPr/>
              </p:nvSpPr>
              <p:spPr>
                <a:xfrm>
                  <a:off x="1909800" y="1969920"/>
                  <a:ext cx="483840" cy="457200"/>
                </a:xfrm>
                <a:custGeom>
                  <a:avLst/>
                  <a:gdLst/>
                  <a:ahLst/>
                  <a:rect l="l" t="t" r="r" b="b"/>
                  <a:pathLst>
                    <a:path w="305" h="288">
                      <a:moveTo>
                        <a:pt x="84" y="0"/>
                      </a:moveTo>
                      <a:lnTo>
                        <a:pt x="65" y="18"/>
                      </a:lnTo>
                      <a:lnTo>
                        <a:pt x="53" y="34"/>
                      </a:lnTo>
                      <a:lnTo>
                        <a:pt x="53" y="51"/>
                      </a:lnTo>
                      <a:lnTo>
                        <a:pt x="66" y="43"/>
                      </a:lnTo>
                      <a:lnTo>
                        <a:pt x="66" y="54"/>
                      </a:lnTo>
                      <a:lnTo>
                        <a:pt x="95" y="121"/>
                      </a:lnTo>
                      <a:lnTo>
                        <a:pt x="88" y="115"/>
                      </a:lnTo>
                      <a:lnTo>
                        <a:pt x="82" y="115"/>
                      </a:lnTo>
                      <a:lnTo>
                        <a:pt x="78" y="117"/>
                      </a:lnTo>
                      <a:lnTo>
                        <a:pt x="75" y="118"/>
                      </a:lnTo>
                      <a:lnTo>
                        <a:pt x="85" y="142"/>
                      </a:lnTo>
                      <a:lnTo>
                        <a:pt x="105" y="177"/>
                      </a:lnTo>
                      <a:lnTo>
                        <a:pt x="135" y="209"/>
                      </a:lnTo>
                      <a:lnTo>
                        <a:pt x="147" y="219"/>
                      </a:lnTo>
                      <a:lnTo>
                        <a:pt x="147" y="226"/>
                      </a:lnTo>
                      <a:lnTo>
                        <a:pt x="140" y="234"/>
                      </a:lnTo>
                      <a:lnTo>
                        <a:pt x="140" y="244"/>
                      </a:lnTo>
                      <a:lnTo>
                        <a:pt x="153" y="241"/>
                      </a:lnTo>
                      <a:lnTo>
                        <a:pt x="155" y="238"/>
                      </a:lnTo>
                      <a:lnTo>
                        <a:pt x="155" y="233"/>
                      </a:lnTo>
                      <a:lnTo>
                        <a:pt x="152" y="230"/>
                      </a:lnTo>
                      <a:lnTo>
                        <a:pt x="166" y="234"/>
                      </a:lnTo>
                      <a:lnTo>
                        <a:pt x="176" y="233"/>
                      </a:lnTo>
                      <a:lnTo>
                        <a:pt x="186" y="229"/>
                      </a:lnTo>
                      <a:lnTo>
                        <a:pt x="196" y="222"/>
                      </a:lnTo>
                      <a:lnTo>
                        <a:pt x="203" y="215"/>
                      </a:lnTo>
                      <a:lnTo>
                        <a:pt x="198" y="223"/>
                      </a:lnTo>
                      <a:lnTo>
                        <a:pt x="195" y="229"/>
                      </a:lnTo>
                      <a:lnTo>
                        <a:pt x="210" y="230"/>
                      </a:lnTo>
                      <a:lnTo>
                        <a:pt x="228" y="231"/>
                      </a:lnTo>
                      <a:lnTo>
                        <a:pt x="243" y="228"/>
                      </a:lnTo>
                      <a:lnTo>
                        <a:pt x="248" y="206"/>
                      </a:lnTo>
                      <a:lnTo>
                        <a:pt x="251" y="206"/>
                      </a:lnTo>
                      <a:lnTo>
                        <a:pt x="253" y="209"/>
                      </a:lnTo>
                      <a:lnTo>
                        <a:pt x="254" y="216"/>
                      </a:lnTo>
                      <a:lnTo>
                        <a:pt x="255" y="223"/>
                      </a:lnTo>
                      <a:lnTo>
                        <a:pt x="304" y="220"/>
                      </a:lnTo>
                      <a:lnTo>
                        <a:pt x="304" y="226"/>
                      </a:lnTo>
                      <a:lnTo>
                        <a:pt x="304" y="229"/>
                      </a:lnTo>
                      <a:lnTo>
                        <a:pt x="302" y="235"/>
                      </a:lnTo>
                      <a:lnTo>
                        <a:pt x="291" y="236"/>
                      </a:lnTo>
                      <a:lnTo>
                        <a:pt x="283" y="241"/>
                      </a:lnTo>
                      <a:lnTo>
                        <a:pt x="266" y="245"/>
                      </a:lnTo>
                      <a:lnTo>
                        <a:pt x="252" y="244"/>
                      </a:lnTo>
                      <a:lnTo>
                        <a:pt x="237" y="249"/>
                      </a:lnTo>
                      <a:lnTo>
                        <a:pt x="224" y="252"/>
                      </a:lnTo>
                      <a:lnTo>
                        <a:pt x="206" y="253"/>
                      </a:lnTo>
                      <a:lnTo>
                        <a:pt x="183" y="250"/>
                      </a:lnTo>
                      <a:lnTo>
                        <a:pt x="168" y="252"/>
                      </a:lnTo>
                      <a:lnTo>
                        <a:pt x="153" y="256"/>
                      </a:lnTo>
                      <a:lnTo>
                        <a:pt x="144" y="262"/>
                      </a:lnTo>
                      <a:lnTo>
                        <a:pt x="117" y="254"/>
                      </a:lnTo>
                      <a:lnTo>
                        <a:pt x="50" y="287"/>
                      </a:lnTo>
                      <a:lnTo>
                        <a:pt x="0" y="287"/>
                      </a:lnTo>
                      <a:lnTo>
                        <a:pt x="13" y="124"/>
                      </a:lnTo>
                      <a:lnTo>
                        <a:pt x="23" y="89"/>
                      </a:lnTo>
                      <a:lnTo>
                        <a:pt x="19" y="113"/>
                      </a:lnTo>
                      <a:lnTo>
                        <a:pt x="30" y="149"/>
                      </a:lnTo>
                      <a:lnTo>
                        <a:pt x="30" y="181"/>
                      </a:lnTo>
                      <a:lnTo>
                        <a:pt x="43" y="215"/>
                      </a:lnTo>
                      <a:lnTo>
                        <a:pt x="50" y="215"/>
                      </a:lnTo>
                      <a:lnTo>
                        <a:pt x="66" y="180"/>
                      </a:lnTo>
                      <a:lnTo>
                        <a:pt x="44" y="136"/>
                      </a:lnTo>
                      <a:lnTo>
                        <a:pt x="40" y="122"/>
                      </a:lnTo>
                      <a:lnTo>
                        <a:pt x="38" y="108"/>
                      </a:lnTo>
                      <a:lnTo>
                        <a:pt x="40" y="92"/>
                      </a:lnTo>
                      <a:lnTo>
                        <a:pt x="50" y="56"/>
                      </a:lnTo>
                      <a:lnTo>
                        <a:pt x="45" y="52"/>
                      </a:lnTo>
                      <a:lnTo>
                        <a:pt x="42" y="48"/>
                      </a:lnTo>
                      <a:lnTo>
                        <a:pt x="41" y="44"/>
                      </a:lnTo>
                      <a:lnTo>
                        <a:pt x="32" y="65"/>
                      </a:lnTo>
                      <a:lnTo>
                        <a:pt x="39" y="43"/>
                      </a:lnTo>
                      <a:lnTo>
                        <a:pt x="43" y="37"/>
                      </a:lnTo>
                      <a:lnTo>
                        <a:pt x="55" y="23"/>
                      </a:lnTo>
                      <a:lnTo>
                        <a:pt x="68" y="9"/>
                      </a:lnTo>
                      <a:lnTo>
                        <a:pt x="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2064960" y="2025720"/>
                  <a:ext cx="150480" cy="245880"/>
                </a:xfrm>
                <a:custGeom>
                  <a:avLst/>
                  <a:gdLst/>
                  <a:ahLst/>
                  <a:rect l="l" t="t" r="r" b="b"/>
                  <a:pathLst>
                    <a:path w="95" h="155">
                      <a:moveTo>
                        <a:pt x="0" y="10"/>
                      </a:moveTo>
                      <a:lnTo>
                        <a:pt x="27" y="28"/>
                      </a:lnTo>
                      <a:lnTo>
                        <a:pt x="46" y="60"/>
                      </a:lnTo>
                      <a:lnTo>
                        <a:pt x="46" y="74"/>
                      </a:lnTo>
                      <a:lnTo>
                        <a:pt x="71" y="95"/>
                      </a:lnTo>
                      <a:lnTo>
                        <a:pt x="81" y="113"/>
                      </a:lnTo>
                      <a:lnTo>
                        <a:pt x="79" y="70"/>
                      </a:lnTo>
                      <a:lnTo>
                        <a:pt x="79" y="43"/>
                      </a:lnTo>
                      <a:lnTo>
                        <a:pt x="81" y="24"/>
                      </a:lnTo>
                      <a:lnTo>
                        <a:pt x="78" y="19"/>
                      </a:lnTo>
                      <a:lnTo>
                        <a:pt x="71" y="28"/>
                      </a:lnTo>
                      <a:lnTo>
                        <a:pt x="66" y="31"/>
                      </a:lnTo>
                      <a:lnTo>
                        <a:pt x="73" y="24"/>
                      </a:lnTo>
                      <a:lnTo>
                        <a:pt x="78" y="12"/>
                      </a:lnTo>
                      <a:lnTo>
                        <a:pt x="84" y="2"/>
                      </a:lnTo>
                      <a:lnTo>
                        <a:pt x="88" y="0"/>
                      </a:lnTo>
                      <a:lnTo>
                        <a:pt x="84" y="6"/>
                      </a:lnTo>
                      <a:lnTo>
                        <a:pt x="88" y="22"/>
                      </a:lnTo>
                      <a:lnTo>
                        <a:pt x="84" y="22"/>
                      </a:lnTo>
                      <a:lnTo>
                        <a:pt x="83" y="38"/>
                      </a:lnTo>
                      <a:lnTo>
                        <a:pt x="85" y="82"/>
                      </a:lnTo>
                      <a:lnTo>
                        <a:pt x="90" y="125"/>
                      </a:lnTo>
                      <a:lnTo>
                        <a:pt x="94" y="138"/>
                      </a:lnTo>
                      <a:lnTo>
                        <a:pt x="75" y="149"/>
                      </a:lnTo>
                      <a:lnTo>
                        <a:pt x="83" y="142"/>
                      </a:lnTo>
                      <a:lnTo>
                        <a:pt x="80" y="136"/>
                      </a:lnTo>
                      <a:lnTo>
                        <a:pt x="71" y="138"/>
                      </a:lnTo>
                      <a:lnTo>
                        <a:pt x="50" y="152"/>
                      </a:lnTo>
                      <a:lnTo>
                        <a:pt x="44" y="154"/>
                      </a:lnTo>
                      <a:lnTo>
                        <a:pt x="43" y="151"/>
                      </a:lnTo>
                      <a:lnTo>
                        <a:pt x="55" y="140"/>
                      </a:lnTo>
                      <a:lnTo>
                        <a:pt x="80" y="132"/>
                      </a:lnTo>
                      <a:lnTo>
                        <a:pt x="76" y="122"/>
                      </a:lnTo>
                      <a:lnTo>
                        <a:pt x="76" y="112"/>
                      </a:lnTo>
                      <a:lnTo>
                        <a:pt x="73" y="107"/>
                      </a:lnTo>
                      <a:lnTo>
                        <a:pt x="44" y="84"/>
                      </a:lnTo>
                      <a:lnTo>
                        <a:pt x="10" y="61"/>
                      </a:lnTo>
                      <a:lnTo>
                        <a:pt x="47" y="83"/>
                      </a:lnTo>
                      <a:lnTo>
                        <a:pt x="28" y="34"/>
                      </a:lnTo>
                      <a:lnTo>
                        <a:pt x="0"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2155680" y="2268360"/>
                  <a:ext cx="26640" cy="55800"/>
                </a:xfrm>
                <a:custGeom>
                  <a:avLst/>
                  <a:gdLst/>
                  <a:ahLst/>
                  <a:rect l="l" t="t" r="r" b="b"/>
                  <a:pathLst>
                    <a:path w="17" h="35">
                      <a:moveTo>
                        <a:pt x="16" y="0"/>
                      </a:moveTo>
                      <a:lnTo>
                        <a:pt x="9" y="4"/>
                      </a:lnTo>
                      <a:lnTo>
                        <a:pt x="0" y="29"/>
                      </a:lnTo>
                      <a:lnTo>
                        <a:pt x="8" y="34"/>
                      </a:lnTo>
                      <a:lnTo>
                        <a:pt x="16" y="27"/>
                      </a:lnTo>
                      <a:lnTo>
                        <a:pt x="16" y="9"/>
                      </a:lnTo>
                      <a:lnTo>
                        <a:pt x="12" y="9"/>
                      </a:lnTo>
                      <a:lnTo>
                        <a:pt x="12" y="5"/>
                      </a:lnTo>
                      <a:lnTo>
                        <a:pt x="16"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84" name=""/>
                <p:cNvSpPr/>
                <p:nvPr/>
              </p:nvSpPr>
              <p:spPr>
                <a:xfrm>
                  <a:off x="2180880" y="2254320"/>
                  <a:ext cx="60120" cy="71280"/>
                </a:xfrm>
                <a:custGeom>
                  <a:avLst/>
                  <a:gdLst/>
                  <a:ahLst/>
                  <a:rect l="l" t="t" r="r" b="b"/>
                  <a:pathLst>
                    <a:path w="38" h="45">
                      <a:moveTo>
                        <a:pt x="10" y="12"/>
                      </a:moveTo>
                      <a:lnTo>
                        <a:pt x="23" y="0"/>
                      </a:lnTo>
                      <a:lnTo>
                        <a:pt x="37" y="5"/>
                      </a:lnTo>
                      <a:lnTo>
                        <a:pt x="37" y="13"/>
                      </a:lnTo>
                      <a:lnTo>
                        <a:pt x="28" y="23"/>
                      </a:lnTo>
                      <a:lnTo>
                        <a:pt x="0" y="44"/>
                      </a:lnTo>
                      <a:lnTo>
                        <a:pt x="20" y="26"/>
                      </a:lnTo>
                      <a:lnTo>
                        <a:pt x="23" y="19"/>
                      </a:lnTo>
                      <a:lnTo>
                        <a:pt x="24" y="14"/>
                      </a:lnTo>
                      <a:lnTo>
                        <a:pt x="23" y="10"/>
                      </a:lnTo>
                      <a:lnTo>
                        <a:pt x="20" y="8"/>
                      </a:lnTo>
                      <a:lnTo>
                        <a:pt x="17" y="8"/>
                      </a:lnTo>
                      <a:lnTo>
                        <a:pt x="10" y="1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85" name=""/>
                <p:cNvSpPr/>
                <p:nvPr/>
              </p:nvSpPr>
              <p:spPr>
                <a:xfrm>
                  <a:off x="2250720" y="2230200"/>
                  <a:ext cx="358560" cy="115920"/>
                </a:xfrm>
                <a:custGeom>
                  <a:avLst/>
                  <a:gdLst/>
                  <a:ahLst/>
                  <a:rect l="l" t="t" r="r" b="b"/>
                  <a:pathLst>
                    <a:path w="226" h="73">
                      <a:moveTo>
                        <a:pt x="0" y="15"/>
                      </a:moveTo>
                      <a:lnTo>
                        <a:pt x="31" y="27"/>
                      </a:lnTo>
                      <a:lnTo>
                        <a:pt x="39" y="19"/>
                      </a:lnTo>
                      <a:lnTo>
                        <a:pt x="56" y="19"/>
                      </a:lnTo>
                      <a:lnTo>
                        <a:pt x="64" y="26"/>
                      </a:lnTo>
                      <a:lnTo>
                        <a:pt x="73" y="23"/>
                      </a:lnTo>
                      <a:lnTo>
                        <a:pt x="116" y="22"/>
                      </a:lnTo>
                      <a:lnTo>
                        <a:pt x="145" y="16"/>
                      </a:lnTo>
                      <a:lnTo>
                        <a:pt x="187" y="0"/>
                      </a:lnTo>
                      <a:lnTo>
                        <a:pt x="192" y="4"/>
                      </a:lnTo>
                      <a:lnTo>
                        <a:pt x="194" y="8"/>
                      </a:lnTo>
                      <a:lnTo>
                        <a:pt x="189" y="11"/>
                      </a:lnTo>
                      <a:lnTo>
                        <a:pt x="194" y="17"/>
                      </a:lnTo>
                      <a:lnTo>
                        <a:pt x="196" y="22"/>
                      </a:lnTo>
                      <a:lnTo>
                        <a:pt x="194" y="27"/>
                      </a:lnTo>
                      <a:lnTo>
                        <a:pt x="223" y="30"/>
                      </a:lnTo>
                      <a:lnTo>
                        <a:pt x="225" y="32"/>
                      </a:lnTo>
                      <a:lnTo>
                        <a:pt x="194" y="33"/>
                      </a:lnTo>
                      <a:lnTo>
                        <a:pt x="194" y="36"/>
                      </a:lnTo>
                      <a:lnTo>
                        <a:pt x="196" y="39"/>
                      </a:lnTo>
                      <a:lnTo>
                        <a:pt x="222" y="40"/>
                      </a:lnTo>
                      <a:lnTo>
                        <a:pt x="220" y="44"/>
                      </a:lnTo>
                      <a:lnTo>
                        <a:pt x="198" y="48"/>
                      </a:lnTo>
                      <a:lnTo>
                        <a:pt x="198" y="51"/>
                      </a:lnTo>
                      <a:lnTo>
                        <a:pt x="213" y="51"/>
                      </a:lnTo>
                      <a:lnTo>
                        <a:pt x="215" y="49"/>
                      </a:lnTo>
                      <a:lnTo>
                        <a:pt x="214" y="53"/>
                      </a:lnTo>
                      <a:lnTo>
                        <a:pt x="187" y="57"/>
                      </a:lnTo>
                      <a:lnTo>
                        <a:pt x="156" y="59"/>
                      </a:lnTo>
                      <a:lnTo>
                        <a:pt x="144" y="59"/>
                      </a:lnTo>
                      <a:lnTo>
                        <a:pt x="127" y="62"/>
                      </a:lnTo>
                      <a:lnTo>
                        <a:pt x="121" y="72"/>
                      </a:lnTo>
                      <a:lnTo>
                        <a:pt x="95" y="72"/>
                      </a:lnTo>
                      <a:lnTo>
                        <a:pt x="119" y="69"/>
                      </a:lnTo>
                      <a:lnTo>
                        <a:pt x="122" y="63"/>
                      </a:lnTo>
                      <a:lnTo>
                        <a:pt x="124" y="54"/>
                      </a:lnTo>
                      <a:lnTo>
                        <a:pt x="124" y="47"/>
                      </a:lnTo>
                      <a:lnTo>
                        <a:pt x="121" y="35"/>
                      </a:lnTo>
                      <a:lnTo>
                        <a:pt x="118" y="26"/>
                      </a:lnTo>
                      <a:lnTo>
                        <a:pt x="73" y="27"/>
                      </a:lnTo>
                      <a:lnTo>
                        <a:pt x="63" y="29"/>
                      </a:lnTo>
                      <a:lnTo>
                        <a:pt x="48" y="22"/>
                      </a:lnTo>
                      <a:lnTo>
                        <a:pt x="33" y="34"/>
                      </a:lnTo>
                      <a:lnTo>
                        <a:pt x="29" y="29"/>
                      </a:lnTo>
                      <a:lnTo>
                        <a:pt x="0"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
                <p:cNvSpPr/>
                <p:nvPr/>
              </p:nvSpPr>
              <p:spPr>
                <a:xfrm>
                  <a:off x="2347560" y="2287440"/>
                  <a:ext cx="42480" cy="17640"/>
                </a:xfrm>
                <a:custGeom>
                  <a:avLst/>
                  <a:gdLst/>
                  <a:ahLst/>
                  <a:rect l="l" t="t" r="r" b="b"/>
                  <a:pathLst>
                    <a:path w="27" h="11">
                      <a:moveTo>
                        <a:pt x="26" y="8"/>
                      </a:moveTo>
                      <a:lnTo>
                        <a:pt x="15" y="0"/>
                      </a:lnTo>
                      <a:lnTo>
                        <a:pt x="0" y="3"/>
                      </a:lnTo>
                      <a:lnTo>
                        <a:pt x="3" y="6"/>
                      </a:lnTo>
                      <a:lnTo>
                        <a:pt x="22" y="10"/>
                      </a:lnTo>
                      <a:lnTo>
                        <a:pt x="26"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87" name=""/>
                <p:cNvSpPr/>
                <p:nvPr/>
              </p:nvSpPr>
              <p:spPr>
                <a:xfrm>
                  <a:off x="2209680" y="2001600"/>
                  <a:ext cx="36000" cy="252720"/>
                </a:xfrm>
                <a:custGeom>
                  <a:avLst/>
                  <a:gdLst/>
                  <a:ahLst/>
                  <a:rect l="l" t="t" r="r" b="b"/>
                  <a:pathLst>
                    <a:path w="23" h="159">
                      <a:moveTo>
                        <a:pt x="11" y="154"/>
                      </a:moveTo>
                      <a:lnTo>
                        <a:pt x="14" y="151"/>
                      </a:lnTo>
                      <a:lnTo>
                        <a:pt x="14" y="141"/>
                      </a:lnTo>
                      <a:lnTo>
                        <a:pt x="9" y="118"/>
                      </a:lnTo>
                      <a:lnTo>
                        <a:pt x="4" y="85"/>
                      </a:lnTo>
                      <a:lnTo>
                        <a:pt x="3" y="58"/>
                      </a:lnTo>
                      <a:lnTo>
                        <a:pt x="1" y="39"/>
                      </a:lnTo>
                      <a:lnTo>
                        <a:pt x="3" y="33"/>
                      </a:lnTo>
                      <a:lnTo>
                        <a:pt x="3" y="23"/>
                      </a:lnTo>
                      <a:lnTo>
                        <a:pt x="0" y="15"/>
                      </a:lnTo>
                      <a:lnTo>
                        <a:pt x="5" y="20"/>
                      </a:lnTo>
                      <a:lnTo>
                        <a:pt x="7" y="15"/>
                      </a:lnTo>
                      <a:lnTo>
                        <a:pt x="8" y="9"/>
                      </a:lnTo>
                      <a:lnTo>
                        <a:pt x="8" y="0"/>
                      </a:lnTo>
                      <a:lnTo>
                        <a:pt x="9" y="7"/>
                      </a:lnTo>
                      <a:lnTo>
                        <a:pt x="10" y="15"/>
                      </a:lnTo>
                      <a:lnTo>
                        <a:pt x="8" y="24"/>
                      </a:lnTo>
                      <a:lnTo>
                        <a:pt x="5" y="33"/>
                      </a:lnTo>
                      <a:lnTo>
                        <a:pt x="3" y="40"/>
                      </a:lnTo>
                      <a:lnTo>
                        <a:pt x="8" y="94"/>
                      </a:lnTo>
                      <a:lnTo>
                        <a:pt x="12" y="125"/>
                      </a:lnTo>
                      <a:lnTo>
                        <a:pt x="18" y="141"/>
                      </a:lnTo>
                      <a:lnTo>
                        <a:pt x="22" y="158"/>
                      </a:lnTo>
                      <a:lnTo>
                        <a:pt x="11" y="15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2246040" y="1984320"/>
                  <a:ext cx="199800" cy="282600"/>
                </a:xfrm>
                <a:custGeom>
                  <a:avLst/>
                  <a:gdLst/>
                  <a:ahLst/>
                  <a:rect l="l" t="t" r="r" b="b"/>
                  <a:pathLst>
                    <a:path w="126" h="178">
                      <a:moveTo>
                        <a:pt x="11" y="0"/>
                      </a:moveTo>
                      <a:lnTo>
                        <a:pt x="27" y="15"/>
                      </a:lnTo>
                      <a:lnTo>
                        <a:pt x="31" y="26"/>
                      </a:lnTo>
                      <a:lnTo>
                        <a:pt x="34" y="39"/>
                      </a:lnTo>
                      <a:lnTo>
                        <a:pt x="34" y="57"/>
                      </a:lnTo>
                      <a:lnTo>
                        <a:pt x="26" y="119"/>
                      </a:lnTo>
                      <a:lnTo>
                        <a:pt x="19" y="126"/>
                      </a:lnTo>
                      <a:lnTo>
                        <a:pt x="0" y="128"/>
                      </a:lnTo>
                      <a:lnTo>
                        <a:pt x="26" y="127"/>
                      </a:lnTo>
                      <a:lnTo>
                        <a:pt x="19" y="177"/>
                      </a:lnTo>
                      <a:lnTo>
                        <a:pt x="20" y="177"/>
                      </a:lnTo>
                      <a:lnTo>
                        <a:pt x="29" y="135"/>
                      </a:lnTo>
                      <a:lnTo>
                        <a:pt x="63" y="164"/>
                      </a:lnTo>
                      <a:lnTo>
                        <a:pt x="72" y="164"/>
                      </a:lnTo>
                      <a:lnTo>
                        <a:pt x="85" y="158"/>
                      </a:lnTo>
                      <a:lnTo>
                        <a:pt x="98" y="147"/>
                      </a:lnTo>
                      <a:lnTo>
                        <a:pt x="108" y="136"/>
                      </a:lnTo>
                      <a:lnTo>
                        <a:pt x="116" y="127"/>
                      </a:lnTo>
                      <a:lnTo>
                        <a:pt x="105" y="135"/>
                      </a:lnTo>
                      <a:lnTo>
                        <a:pt x="98" y="130"/>
                      </a:lnTo>
                      <a:lnTo>
                        <a:pt x="107" y="125"/>
                      </a:lnTo>
                      <a:lnTo>
                        <a:pt x="90" y="130"/>
                      </a:lnTo>
                      <a:lnTo>
                        <a:pt x="68" y="133"/>
                      </a:lnTo>
                      <a:lnTo>
                        <a:pt x="48" y="133"/>
                      </a:lnTo>
                      <a:lnTo>
                        <a:pt x="40" y="133"/>
                      </a:lnTo>
                      <a:lnTo>
                        <a:pt x="34" y="128"/>
                      </a:lnTo>
                      <a:lnTo>
                        <a:pt x="47" y="123"/>
                      </a:lnTo>
                      <a:lnTo>
                        <a:pt x="73" y="123"/>
                      </a:lnTo>
                      <a:lnTo>
                        <a:pt x="94" y="111"/>
                      </a:lnTo>
                      <a:lnTo>
                        <a:pt x="73" y="118"/>
                      </a:lnTo>
                      <a:lnTo>
                        <a:pt x="47" y="118"/>
                      </a:lnTo>
                      <a:lnTo>
                        <a:pt x="31" y="122"/>
                      </a:lnTo>
                      <a:lnTo>
                        <a:pt x="31" y="108"/>
                      </a:lnTo>
                      <a:lnTo>
                        <a:pt x="71" y="101"/>
                      </a:lnTo>
                      <a:lnTo>
                        <a:pt x="57" y="64"/>
                      </a:lnTo>
                      <a:lnTo>
                        <a:pt x="40" y="43"/>
                      </a:lnTo>
                      <a:lnTo>
                        <a:pt x="40" y="29"/>
                      </a:lnTo>
                      <a:lnTo>
                        <a:pt x="113" y="104"/>
                      </a:lnTo>
                      <a:lnTo>
                        <a:pt x="125" y="109"/>
                      </a:lnTo>
                      <a:lnTo>
                        <a:pt x="119" y="96"/>
                      </a:lnTo>
                      <a:lnTo>
                        <a:pt x="53" y="34"/>
                      </a:lnTo>
                      <a:lnTo>
                        <a:pt x="45" y="18"/>
                      </a:lnTo>
                      <a:lnTo>
                        <a:pt x="22" y="3"/>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
                <p:cNvSpPr/>
                <p:nvPr/>
              </p:nvSpPr>
              <p:spPr>
                <a:xfrm>
                  <a:off x="2365200" y="2200320"/>
                  <a:ext cx="90000" cy="68040"/>
                </a:xfrm>
                <a:custGeom>
                  <a:avLst/>
                  <a:gdLst/>
                  <a:ahLst/>
                  <a:rect l="l" t="t" r="r" b="b"/>
                  <a:pathLst>
                    <a:path w="57" h="43">
                      <a:moveTo>
                        <a:pt x="0" y="32"/>
                      </a:moveTo>
                      <a:lnTo>
                        <a:pt x="22" y="27"/>
                      </a:lnTo>
                      <a:lnTo>
                        <a:pt x="48" y="42"/>
                      </a:lnTo>
                      <a:lnTo>
                        <a:pt x="56" y="39"/>
                      </a:lnTo>
                      <a:lnTo>
                        <a:pt x="36" y="27"/>
                      </a:lnTo>
                      <a:lnTo>
                        <a:pt x="44" y="12"/>
                      </a:lnTo>
                      <a:lnTo>
                        <a:pt x="44" y="0"/>
                      </a:lnTo>
                      <a:lnTo>
                        <a:pt x="29" y="19"/>
                      </a:lnTo>
                      <a:lnTo>
                        <a:pt x="15" y="26"/>
                      </a:lnTo>
                      <a:lnTo>
                        <a:pt x="0"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90" name=""/>
                <p:cNvSpPr/>
                <p:nvPr/>
              </p:nvSpPr>
              <p:spPr>
                <a:xfrm>
                  <a:off x="2430360" y="2154240"/>
                  <a:ext cx="113760" cy="81000"/>
                </a:xfrm>
                <a:custGeom>
                  <a:avLst/>
                  <a:gdLst/>
                  <a:ahLst/>
                  <a:rect l="l" t="t" r="r" b="b"/>
                  <a:pathLst>
                    <a:path w="72" h="51">
                      <a:moveTo>
                        <a:pt x="13" y="22"/>
                      </a:moveTo>
                      <a:lnTo>
                        <a:pt x="26" y="14"/>
                      </a:lnTo>
                      <a:lnTo>
                        <a:pt x="53" y="26"/>
                      </a:lnTo>
                      <a:lnTo>
                        <a:pt x="53" y="36"/>
                      </a:lnTo>
                      <a:lnTo>
                        <a:pt x="32" y="41"/>
                      </a:lnTo>
                      <a:lnTo>
                        <a:pt x="58" y="40"/>
                      </a:lnTo>
                      <a:lnTo>
                        <a:pt x="71" y="50"/>
                      </a:lnTo>
                      <a:lnTo>
                        <a:pt x="63" y="32"/>
                      </a:lnTo>
                      <a:lnTo>
                        <a:pt x="50" y="18"/>
                      </a:lnTo>
                      <a:lnTo>
                        <a:pt x="24" y="11"/>
                      </a:lnTo>
                      <a:lnTo>
                        <a:pt x="14" y="0"/>
                      </a:lnTo>
                      <a:lnTo>
                        <a:pt x="0" y="11"/>
                      </a:lnTo>
                      <a:lnTo>
                        <a:pt x="12" y="3"/>
                      </a:lnTo>
                      <a:lnTo>
                        <a:pt x="17" y="10"/>
                      </a:lnTo>
                      <a:lnTo>
                        <a:pt x="13" y="2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91" name=""/>
                <p:cNvSpPr/>
                <p:nvPr/>
              </p:nvSpPr>
              <p:spPr>
                <a:xfrm>
                  <a:off x="2550960" y="2228760"/>
                  <a:ext cx="67680" cy="49320"/>
                </a:xfrm>
                <a:custGeom>
                  <a:avLst/>
                  <a:gdLst/>
                  <a:ahLst/>
                  <a:rect l="l" t="t" r="r" b="b"/>
                  <a:pathLst>
                    <a:path w="43" h="31">
                      <a:moveTo>
                        <a:pt x="1" y="0"/>
                      </a:moveTo>
                      <a:lnTo>
                        <a:pt x="33" y="3"/>
                      </a:lnTo>
                      <a:lnTo>
                        <a:pt x="42" y="17"/>
                      </a:lnTo>
                      <a:lnTo>
                        <a:pt x="42" y="20"/>
                      </a:lnTo>
                      <a:lnTo>
                        <a:pt x="36" y="23"/>
                      </a:lnTo>
                      <a:lnTo>
                        <a:pt x="26" y="17"/>
                      </a:lnTo>
                      <a:lnTo>
                        <a:pt x="14" y="17"/>
                      </a:lnTo>
                      <a:lnTo>
                        <a:pt x="34" y="25"/>
                      </a:lnTo>
                      <a:lnTo>
                        <a:pt x="36" y="30"/>
                      </a:lnTo>
                      <a:lnTo>
                        <a:pt x="33" y="26"/>
                      </a:lnTo>
                      <a:lnTo>
                        <a:pt x="1" y="16"/>
                      </a:lnTo>
                      <a:lnTo>
                        <a:pt x="0" y="13"/>
                      </a:lnTo>
                      <a:lnTo>
                        <a:pt x="33" y="12"/>
                      </a:lnTo>
                      <a:lnTo>
                        <a:pt x="33" y="6"/>
                      </a:lnTo>
                      <a:lnTo>
                        <a:pt x="1"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92" name=""/>
                <p:cNvSpPr/>
                <p:nvPr/>
              </p:nvSpPr>
              <p:spPr>
                <a:xfrm>
                  <a:off x="2582640" y="2270160"/>
                  <a:ext cx="29880" cy="42840"/>
                </a:xfrm>
                <a:custGeom>
                  <a:avLst/>
                  <a:gdLst/>
                  <a:ahLst/>
                  <a:rect l="l" t="t" r="r" b="b"/>
                  <a:pathLst>
                    <a:path w="19" h="27">
                      <a:moveTo>
                        <a:pt x="14" y="7"/>
                      </a:moveTo>
                      <a:lnTo>
                        <a:pt x="14" y="11"/>
                      </a:lnTo>
                      <a:lnTo>
                        <a:pt x="8" y="15"/>
                      </a:lnTo>
                      <a:lnTo>
                        <a:pt x="0" y="20"/>
                      </a:lnTo>
                      <a:lnTo>
                        <a:pt x="6" y="26"/>
                      </a:lnTo>
                      <a:lnTo>
                        <a:pt x="10" y="18"/>
                      </a:lnTo>
                      <a:lnTo>
                        <a:pt x="18" y="13"/>
                      </a:lnTo>
                      <a:lnTo>
                        <a:pt x="18" y="5"/>
                      </a:lnTo>
                      <a:lnTo>
                        <a:pt x="14" y="0"/>
                      </a:lnTo>
                      <a:lnTo>
                        <a:pt x="14" y="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93" name=""/>
                <p:cNvSpPr/>
                <p:nvPr/>
              </p:nvSpPr>
              <p:spPr>
                <a:xfrm>
                  <a:off x="2592000" y="2252520"/>
                  <a:ext cx="42840" cy="60480"/>
                </a:xfrm>
                <a:custGeom>
                  <a:avLst/>
                  <a:gdLst/>
                  <a:ahLst/>
                  <a:rect l="l" t="t" r="r" b="b"/>
                  <a:pathLst>
                    <a:path w="27" h="38">
                      <a:moveTo>
                        <a:pt x="9" y="5"/>
                      </a:moveTo>
                      <a:lnTo>
                        <a:pt x="23" y="29"/>
                      </a:lnTo>
                      <a:lnTo>
                        <a:pt x="26" y="37"/>
                      </a:lnTo>
                      <a:lnTo>
                        <a:pt x="19" y="31"/>
                      </a:lnTo>
                      <a:lnTo>
                        <a:pt x="0" y="0"/>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94" name=""/>
                <p:cNvSpPr/>
                <p:nvPr/>
              </p:nvSpPr>
              <p:spPr>
                <a:xfrm>
                  <a:off x="2541240" y="2168280"/>
                  <a:ext cx="48960" cy="65160"/>
                </a:xfrm>
                <a:custGeom>
                  <a:avLst/>
                  <a:gdLst/>
                  <a:ahLst/>
                  <a:rect l="l" t="t" r="r" b="b"/>
                  <a:pathLst>
                    <a:path w="31" h="41">
                      <a:moveTo>
                        <a:pt x="23" y="39"/>
                      </a:moveTo>
                      <a:lnTo>
                        <a:pt x="0" y="3"/>
                      </a:lnTo>
                      <a:lnTo>
                        <a:pt x="0" y="1"/>
                      </a:lnTo>
                      <a:lnTo>
                        <a:pt x="2" y="0"/>
                      </a:lnTo>
                      <a:lnTo>
                        <a:pt x="3" y="0"/>
                      </a:lnTo>
                      <a:lnTo>
                        <a:pt x="4" y="0"/>
                      </a:lnTo>
                      <a:lnTo>
                        <a:pt x="30" y="40"/>
                      </a:lnTo>
                    </a:path>
                  </a:pathLst>
                </a:custGeom>
                <a:no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95" name=""/>
                <p:cNvSpPr/>
                <p:nvPr/>
              </p:nvSpPr>
              <p:spPr>
                <a:xfrm>
                  <a:off x="2469960" y="2235240"/>
                  <a:ext cx="55080" cy="29880"/>
                </a:xfrm>
                <a:custGeom>
                  <a:avLst/>
                  <a:gdLst/>
                  <a:ahLst/>
                  <a:rect l="l" t="t" r="r" b="b"/>
                  <a:pathLst>
                    <a:path w="35" h="19">
                      <a:moveTo>
                        <a:pt x="5" y="13"/>
                      </a:moveTo>
                      <a:lnTo>
                        <a:pt x="7" y="6"/>
                      </a:lnTo>
                      <a:lnTo>
                        <a:pt x="12" y="2"/>
                      </a:lnTo>
                      <a:lnTo>
                        <a:pt x="19" y="2"/>
                      </a:lnTo>
                      <a:lnTo>
                        <a:pt x="30" y="4"/>
                      </a:lnTo>
                      <a:lnTo>
                        <a:pt x="34" y="2"/>
                      </a:lnTo>
                      <a:lnTo>
                        <a:pt x="22" y="0"/>
                      </a:lnTo>
                      <a:lnTo>
                        <a:pt x="13" y="0"/>
                      </a:lnTo>
                      <a:lnTo>
                        <a:pt x="7" y="2"/>
                      </a:lnTo>
                      <a:lnTo>
                        <a:pt x="3" y="7"/>
                      </a:lnTo>
                      <a:lnTo>
                        <a:pt x="0" y="18"/>
                      </a:lnTo>
                      <a:lnTo>
                        <a:pt x="5" y="1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96" name=""/>
                <p:cNvSpPr/>
                <p:nvPr/>
              </p:nvSpPr>
              <p:spPr>
                <a:xfrm>
                  <a:off x="2427120" y="1693800"/>
                  <a:ext cx="186840" cy="227160"/>
                </a:xfrm>
                <a:custGeom>
                  <a:avLst/>
                  <a:gdLst/>
                  <a:ahLst/>
                  <a:rect l="l" t="t" r="r" b="b"/>
                  <a:pathLst>
                    <a:path w="118" h="143">
                      <a:moveTo>
                        <a:pt x="114" y="59"/>
                      </a:moveTo>
                      <a:lnTo>
                        <a:pt x="117" y="50"/>
                      </a:lnTo>
                      <a:lnTo>
                        <a:pt x="117" y="37"/>
                      </a:lnTo>
                      <a:lnTo>
                        <a:pt x="114" y="25"/>
                      </a:lnTo>
                      <a:lnTo>
                        <a:pt x="109" y="16"/>
                      </a:lnTo>
                      <a:lnTo>
                        <a:pt x="102" y="9"/>
                      </a:lnTo>
                      <a:lnTo>
                        <a:pt x="93" y="3"/>
                      </a:lnTo>
                      <a:lnTo>
                        <a:pt x="71" y="0"/>
                      </a:lnTo>
                      <a:lnTo>
                        <a:pt x="52" y="5"/>
                      </a:lnTo>
                      <a:lnTo>
                        <a:pt x="41" y="13"/>
                      </a:lnTo>
                      <a:lnTo>
                        <a:pt x="32" y="30"/>
                      </a:lnTo>
                      <a:lnTo>
                        <a:pt x="29" y="45"/>
                      </a:lnTo>
                      <a:lnTo>
                        <a:pt x="25" y="58"/>
                      </a:lnTo>
                      <a:lnTo>
                        <a:pt x="26" y="65"/>
                      </a:lnTo>
                      <a:lnTo>
                        <a:pt x="29" y="74"/>
                      </a:lnTo>
                      <a:lnTo>
                        <a:pt x="28" y="79"/>
                      </a:lnTo>
                      <a:lnTo>
                        <a:pt x="20" y="86"/>
                      </a:lnTo>
                      <a:lnTo>
                        <a:pt x="13" y="91"/>
                      </a:lnTo>
                      <a:lnTo>
                        <a:pt x="8" y="101"/>
                      </a:lnTo>
                      <a:lnTo>
                        <a:pt x="8" y="107"/>
                      </a:lnTo>
                      <a:lnTo>
                        <a:pt x="9" y="112"/>
                      </a:lnTo>
                      <a:lnTo>
                        <a:pt x="10" y="115"/>
                      </a:lnTo>
                      <a:lnTo>
                        <a:pt x="8" y="119"/>
                      </a:lnTo>
                      <a:lnTo>
                        <a:pt x="0" y="126"/>
                      </a:lnTo>
                      <a:lnTo>
                        <a:pt x="12" y="124"/>
                      </a:lnTo>
                      <a:lnTo>
                        <a:pt x="25" y="120"/>
                      </a:lnTo>
                      <a:lnTo>
                        <a:pt x="30" y="134"/>
                      </a:lnTo>
                      <a:lnTo>
                        <a:pt x="35" y="142"/>
                      </a:lnTo>
                      <a:lnTo>
                        <a:pt x="33" y="135"/>
                      </a:lnTo>
                      <a:lnTo>
                        <a:pt x="33" y="129"/>
                      </a:lnTo>
                      <a:lnTo>
                        <a:pt x="34" y="126"/>
                      </a:lnTo>
                      <a:lnTo>
                        <a:pt x="37" y="126"/>
                      </a:lnTo>
                      <a:lnTo>
                        <a:pt x="41" y="127"/>
                      </a:lnTo>
                      <a:lnTo>
                        <a:pt x="46" y="131"/>
                      </a:lnTo>
                      <a:lnTo>
                        <a:pt x="50" y="137"/>
                      </a:lnTo>
                      <a:lnTo>
                        <a:pt x="47" y="126"/>
                      </a:lnTo>
                      <a:lnTo>
                        <a:pt x="45" y="119"/>
                      </a:lnTo>
                      <a:lnTo>
                        <a:pt x="44" y="109"/>
                      </a:lnTo>
                      <a:lnTo>
                        <a:pt x="45" y="101"/>
                      </a:lnTo>
                      <a:lnTo>
                        <a:pt x="49" y="109"/>
                      </a:lnTo>
                      <a:lnTo>
                        <a:pt x="56" y="115"/>
                      </a:lnTo>
                      <a:lnTo>
                        <a:pt x="63" y="120"/>
                      </a:lnTo>
                      <a:lnTo>
                        <a:pt x="71" y="123"/>
                      </a:lnTo>
                      <a:lnTo>
                        <a:pt x="64" y="120"/>
                      </a:lnTo>
                      <a:lnTo>
                        <a:pt x="58" y="117"/>
                      </a:lnTo>
                      <a:lnTo>
                        <a:pt x="52" y="111"/>
                      </a:lnTo>
                      <a:lnTo>
                        <a:pt x="49" y="106"/>
                      </a:lnTo>
                      <a:lnTo>
                        <a:pt x="46" y="101"/>
                      </a:lnTo>
                      <a:lnTo>
                        <a:pt x="45" y="96"/>
                      </a:lnTo>
                      <a:lnTo>
                        <a:pt x="45" y="90"/>
                      </a:lnTo>
                      <a:lnTo>
                        <a:pt x="44" y="85"/>
                      </a:lnTo>
                      <a:lnTo>
                        <a:pt x="43" y="75"/>
                      </a:lnTo>
                      <a:lnTo>
                        <a:pt x="43" y="89"/>
                      </a:lnTo>
                      <a:lnTo>
                        <a:pt x="41" y="90"/>
                      </a:lnTo>
                      <a:lnTo>
                        <a:pt x="39" y="91"/>
                      </a:lnTo>
                      <a:lnTo>
                        <a:pt x="36" y="90"/>
                      </a:lnTo>
                      <a:lnTo>
                        <a:pt x="35" y="87"/>
                      </a:lnTo>
                      <a:lnTo>
                        <a:pt x="35" y="84"/>
                      </a:lnTo>
                      <a:lnTo>
                        <a:pt x="36" y="80"/>
                      </a:lnTo>
                      <a:lnTo>
                        <a:pt x="38" y="77"/>
                      </a:lnTo>
                      <a:lnTo>
                        <a:pt x="35" y="79"/>
                      </a:lnTo>
                      <a:lnTo>
                        <a:pt x="31" y="69"/>
                      </a:lnTo>
                      <a:lnTo>
                        <a:pt x="30" y="65"/>
                      </a:lnTo>
                      <a:lnTo>
                        <a:pt x="29" y="61"/>
                      </a:lnTo>
                      <a:lnTo>
                        <a:pt x="30" y="57"/>
                      </a:lnTo>
                      <a:lnTo>
                        <a:pt x="32" y="55"/>
                      </a:lnTo>
                      <a:lnTo>
                        <a:pt x="33" y="53"/>
                      </a:lnTo>
                      <a:lnTo>
                        <a:pt x="35" y="53"/>
                      </a:lnTo>
                      <a:lnTo>
                        <a:pt x="37" y="55"/>
                      </a:lnTo>
                      <a:lnTo>
                        <a:pt x="39" y="57"/>
                      </a:lnTo>
                      <a:lnTo>
                        <a:pt x="41" y="64"/>
                      </a:lnTo>
                      <a:lnTo>
                        <a:pt x="42" y="56"/>
                      </a:lnTo>
                      <a:lnTo>
                        <a:pt x="45" y="50"/>
                      </a:lnTo>
                      <a:lnTo>
                        <a:pt x="51" y="39"/>
                      </a:lnTo>
                      <a:lnTo>
                        <a:pt x="54" y="31"/>
                      </a:lnTo>
                      <a:lnTo>
                        <a:pt x="58" y="25"/>
                      </a:lnTo>
                      <a:lnTo>
                        <a:pt x="64" y="21"/>
                      </a:lnTo>
                      <a:lnTo>
                        <a:pt x="75" y="20"/>
                      </a:lnTo>
                      <a:lnTo>
                        <a:pt x="87" y="21"/>
                      </a:lnTo>
                      <a:lnTo>
                        <a:pt x="101" y="24"/>
                      </a:lnTo>
                      <a:lnTo>
                        <a:pt x="107" y="29"/>
                      </a:lnTo>
                      <a:lnTo>
                        <a:pt x="110" y="37"/>
                      </a:lnTo>
                      <a:lnTo>
                        <a:pt x="112" y="46"/>
                      </a:lnTo>
                      <a:lnTo>
                        <a:pt x="114" y="63"/>
                      </a:lnTo>
                      <a:lnTo>
                        <a:pt x="114"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7" name=""/>
                <p:cNvSpPr/>
                <p:nvPr/>
              </p:nvSpPr>
              <p:spPr>
                <a:xfrm>
                  <a:off x="2512800" y="1805040"/>
                  <a:ext cx="96480" cy="136440"/>
                </a:xfrm>
                <a:custGeom>
                  <a:avLst/>
                  <a:gdLst/>
                  <a:ahLst/>
                  <a:rect l="l" t="t" r="r" b="b"/>
                  <a:pathLst>
                    <a:path w="61" h="86">
                      <a:moveTo>
                        <a:pt x="60" y="0"/>
                      </a:moveTo>
                      <a:lnTo>
                        <a:pt x="58" y="8"/>
                      </a:lnTo>
                      <a:lnTo>
                        <a:pt x="53" y="26"/>
                      </a:lnTo>
                      <a:lnTo>
                        <a:pt x="46" y="38"/>
                      </a:lnTo>
                      <a:lnTo>
                        <a:pt x="41" y="44"/>
                      </a:lnTo>
                      <a:lnTo>
                        <a:pt x="36" y="51"/>
                      </a:lnTo>
                      <a:lnTo>
                        <a:pt x="31" y="52"/>
                      </a:lnTo>
                      <a:lnTo>
                        <a:pt x="22" y="53"/>
                      </a:lnTo>
                      <a:lnTo>
                        <a:pt x="14" y="51"/>
                      </a:lnTo>
                      <a:lnTo>
                        <a:pt x="7" y="48"/>
                      </a:lnTo>
                      <a:lnTo>
                        <a:pt x="0" y="43"/>
                      </a:lnTo>
                      <a:lnTo>
                        <a:pt x="4" y="50"/>
                      </a:lnTo>
                      <a:lnTo>
                        <a:pt x="10" y="55"/>
                      </a:lnTo>
                      <a:lnTo>
                        <a:pt x="15" y="58"/>
                      </a:lnTo>
                      <a:lnTo>
                        <a:pt x="22" y="60"/>
                      </a:lnTo>
                      <a:lnTo>
                        <a:pt x="27" y="60"/>
                      </a:lnTo>
                      <a:lnTo>
                        <a:pt x="24" y="85"/>
                      </a:lnTo>
                      <a:lnTo>
                        <a:pt x="27" y="76"/>
                      </a:lnTo>
                      <a:lnTo>
                        <a:pt x="33" y="58"/>
                      </a:lnTo>
                      <a:lnTo>
                        <a:pt x="36" y="54"/>
                      </a:lnTo>
                      <a:lnTo>
                        <a:pt x="39" y="59"/>
                      </a:lnTo>
                      <a:lnTo>
                        <a:pt x="42" y="68"/>
                      </a:lnTo>
                      <a:lnTo>
                        <a:pt x="41" y="58"/>
                      </a:lnTo>
                      <a:lnTo>
                        <a:pt x="38" y="51"/>
                      </a:lnTo>
                      <a:lnTo>
                        <a:pt x="42" y="44"/>
                      </a:lnTo>
                      <a:lnTo>
                        <a:pt x="49" y="36"/>
                      </a:lnTo>
                      <a:lnTo>
                        <a:pt x="53" y="27"/>
                      </a:lnTo>
                      <a:lnTo>
                        <a:pt x="55" y="21"/>
                      </a:lnTo>
                      <a:lnTo>
                        <a:pt x="58" y="9"/>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a:off x="2477880" y="1785960"/>
                  <a:ext cx="12240" cy="27000"/>
                </a:xfrm>
                <a:custGeom>
                  <a:avLst/>
                  <a:gdLst/>
                  <a:ahLst/>
                  <a:rect l="l" t="t" r="r" b="b"/>
                  <a:pathLst>
                    <a:path w="8" h="17">
                      <a:moveTo>
                        <a:pt x="1" y="0"/>
                      </a:moveTo>
                      <a:lnTo>
                        <a:pt x="3" y="0"/>
                      </a:lnTo>
                      <a:lnTo>
                        <a:pt x="7" y="4"/>
                      </a:lnTo>
                      <a:lnTo>
                        <a:pt x="7" y="8"/>
                      </a:lnTo>
                      <a:lnTo>
                        <a:pt x="7" y="11"/>
                      </a:lnTo>
                      <a:lnTo>
                        <a:pt x="4" y="12"/>
                      </a:lnTo>
                      <a:lnTo>
                        <a:pt x="4" y="13"/>
                      </a:lnTo>
                      <a:lnTo>
                        <a:pt x="5" y="16"/>
                      </a:lnTo>
                      <a:lnTo>
                        <a:pt x="1" y="12"/>
                      </a:lnTo>
                      <a:lnTo>
                        <a:pt x="1" y="11"/>
                      </a:lnTo>
                      <a:lnTo>
                        <a:pt x="2" y="9"/>
                      </a:lnTo>
                      <a:lnTo>
                        <a:pt x="4" y="8"/>
                      </a:lnTo>
                      <a:lnTo>
                        <a:pt x="6" y="7"/>
                      </a:lnTo>
                      <a:lnTo>
                        <a:pt x="5" y="5"/>
                      </a:lnTo>
                      <a:lnTo>
                        <a:pt x="4" y="3"/>
                      </a:lnTo>
                      <a:lnTo>
                        <a:pt x="2" y="2"/>
                      </a:lnTo>
                      <a:lnTo>
                        <a:pt x="1" y="4"/>
                      </a:lnTo>
                      <a:lnTo>
                        <a:pt x="1" y="6"/>
                      </a:lnTo>
                      <a:lnTo>
                        <a:pt x="0" y="4"/>
                      </a:lnTo>
                      <a:lnTo>
                        <a:pt x="0" y="1"/>
                      </a:lnTo>
                      <a:lnTo>
                        <a:pt x="1"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99" name=""/>
                <p:cNvSpPr/>
                <p:nvPr/>
              </p:nvSpPr>
              <p:spPr>
                <a:xfrm>
                  <a:off x="2496960" y="1801800"/>
                  <a:ext cx="6120" cy="25200"/>
                </a:xfrm>
                <a:prstGeom prst="line">
                  <a:avLst/>
                </a:prstGeom>
                <a:ln w="0">
                  <a:noFil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300" name=""/>
                <p:cNvSpPr/>
                <p:nvPr/>
              </p:nvSpPr>
              <p:spPr>
                <a:xfrm>
                  <a:off x="2482560" y="1817640"/>
                  <a:ext cx="10800" cy="20520"/>
                </a:xfrm>
                <a:custGeom>
                  <a:avLst/>
                  <a:gdLst/>
                  <a:ahLst/>
                  <a:rect l="l" t="t" r="r" b="b"/>
                  <a:pathLst>
                    <a:path w="7" h="13">
                      <a:moveTo>
                        <a:pt x="2" y="0"/>
                      </a:moveTo>
                      <a:lnTo>
                        <a:pt x="4" y="2"/>
                      </a:lnTo>
                      <a:lnTo>
                        <a:pt x="5" y="4"/>
                      </a:lnTo>
                      <a:lnTo>
                        <a:pt x="6" y="8"/>
                      </a:lnTo>
                      <a:lnTo>
                        <a:pt x="5" y="11"/>
                      </a:lnTo>
                      <a:lnTo>
                        <a:pt x="4" y="12"/>
                      </a:lnTo>
                      <a:lnTo>
                        <a:pt x="2" y="12"/>
                      </a:lnTo>
                      <a:lnTo>
                        <a:pt x="0" y="12"/>
                      </a:lnTo>
                      <a:lnTo>
                        <a:pt x="0" y="8"/>
                      </a:lnTo>
                      <a:lnTo>
                        <a:pt x="3" y="9"/>
                      </a:lnTo>
                      <a:lnTo>
                        <a:pt x="4" y="6"/>
                      </a:lnTo>
                      <a:lnTo>
                        <a:pt x="4" y="4"/>
                      </a:lnTo>
                      <a:lnTo>
                        <a:pt x="4" y="3"/>
                      </a:lnTo>
                      <a:lnTo>
                        <a:pt x="2"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01" name=""/>
                <p:cNvSpPr/>
                <p:nvPr/>
              </p:nvSpPr>
              <p:spPr>
                <a:xfrm>
                  <a:off x="2355480" y="1876320"/>
                  <a:ext cx="328320" cy="176400"/>
                </a:xfrm>
                <a:custGeom>
                  <a:avLst/>
                  <a:gdLst/>
                  <a:ahLst/>
                  <a:rect l="l" t="t" r="r" b="b"/>
                  <a:pathLst>
                    <a:path w="207" h="111">
                      <a:moveTo>
                        <a:pt x="77" y="18"/>
                      </a:moveTo>
                      <a:lnTo>
                        <a:pt x="82" y="28"/>
                      </a:lnTo>
                      <a:lnTo>
                        <a:pt x="88" y="32"/>
                      </a:lnTo>
                      <a:lnTo>
                        <a:pt x="99" y="38"/>
                      </a:lnTo>
                      <a:lnTo>
                        <a:pt x="113" y="41"/>
                      </a:lnTo>
                      <a:lnTo>
                        <a:pt x="129" y="44"/>
                      </a:lnTo>
                      <a:lnTo>
                        <a:pt x="137" y="42"/>
                      </a:lnTo>
                      <a:lnTo>
                        <a:pt x="140" y="37"/>
                      </a:lnTo>
                      <a:lnTo>
                        <a:pt x="142" y="30"/>
                      </a:lnTo>
                      <a:lnTo>
                        <a:pt x="142" y="26"/>
                      </a:lnTo>
                      <a:lnTo>
                        <a:pt x="139" y="18"/>
                      </a:lnTo>
                      <a:lnTo>
                        <a:pt x="136" y="13"/>
                      </a:lnTo>
                      <a:lnTo>
                        <a:pt x="132" y="9"/>
                      </a:lnTo>
                      <a:lnTo>
                        <a:pt x="137" y="3"/>
                      </a:lnTo>
                      <a:lnTo>
                        <a:pt x="140" y="0"/>
                      </a:lnTo>
                      <a:lnTo>
                        <a:pt x="156" y="9"/>
                      </a:lnTo>
                      <a:lnTo>
                        <a:pt x="173" y="12"/>
                      </a:lnTo>
                      <a:lnTo>
                        <a:pt x="190" y="19"/>
                      </a:lnTo>
                      <a:lnTo>
                        <a:pt x="206" y="28"/>
                      </a:lnTo>
                      <a:lnTo>
                        <a:pt x="185" y="19"/>
                      </a:lnTo>
                      <a:lnTo>
                        <a:pt x="169" y="14"/>
                      </a:lnTo>
                      <a:lnTo>
                        <a:pt x="158" y="13"/>
                      </a:lnTo>
                      <a:lnTo>
                        <a:pt x="148" y="13"/>
                      </a:lnTo>
                      <a:lnTo>
                        <a:pt x="143" y="16"/>
                      </a:lnTo>
                      <a:lnTo>
                        <a:pt x="145" y="28"/>
                      </a:lnTo>
                      <a:lnTo>
                        <a:pt x="143" y="35"/>
                      </a:lnTo>
                      <a:lnTo>
                        <a:pt x="141" y="43"/>
                      </a:lnTo>
                      <a:lnTo>
                        <a:pt x="137" y="48"/>
                      </a:lnTo>
                      <a:lnTo>
                        <a:pt x="129" y="56"/>
                      </a:lnTo>
                      <a:lnTo>
                        <a:pt x="129" y="52"/>
                      </a:lnTo>
                      <a:lnTo>
                        <a:pt x="126" y="49"/>
                      </a:lnTo>
                      <a:lnTo>
                        <a:pt x="123" y="50"/>
                      </a:lnTo>
                      <a:lnTo>
                        <a:pt x="122" y="54"/>
                      </a:lnTo>
                      <a:lnTo>
                        <a:pt x="124" y="56"/>
                      </a:lnTo>
                      <a:lnTo>
                        <a:pt x="126" y="57"/>
                      </a:lnTo>
                      <a:lnTo>
                        <a:pt x="125" y="60"/>
                      </a:lnTo>
                      <a:lnTo>
                        <a:pt x="121" y="59"/>
                      </a:lnTo>
                      <a:lnTo>
                        <a:pt x="119" y="56"/>
                      </a:lnTo>
                      <a:lnTo>
                        <a:pt x="120" y="52"/>
                      </a:lnTo>
                      <a:lnTo>
                        <a:pt x="121" y="49"/>
                      </a:lnTo>
                      <a:lnTo>
                        <a:pt x="124" y="47"/>
                      </a:lnTo>
                      <a:lnTo>
                        <a:pt x="128" y="45"/>
                      </a:lnTo>
                      <a:lnTo>
                        <a:pt x="103" y="41"/>
                      </a:lnTo>
                      <a:lnTo>
                        <a:pt x="89" y="36"/>
                      </a:lnTo>
                      <a:lnTo>
                        <a:pt x="97" y="58"/>
                      </a:lnTo>
                      <a:lnTo>
                        <a:pt x="112" y="94"/>
                      </a:lnTo>
                      <a:lnTo>
                        <a:pt x="119" y="110"/>
                      </a:lnTo>
                      <a:lnTo>
                        <a:pt x="98" y="66"/>
                      </a:lnTo>
                      <a:lnTo>
                        <a:pt x="86" y="42"/>
                      </a:lnTo>
                      <a:lnTo>
                        <a:pt x="75" y="28"/>
                      </a:lnTo>
                      <a:lnTo>
                        <a:pt x="64" y="18"/>
                      </a:lnTo>
                      <a:lnTo>
                        <a:pt x="55" y="12"/>
                      </a:lnTo>
                      <a:lnTo>
                        <a:pt x="47" y="11"/>
                      </a:lnTo>
                      <a:lnTo>
                        <a:pt x="38" y="12"/>
                      </a:lnTo>
                      <a:lnTo>
                        <a:pt x="8" y="20"/>
                      </a:lnTo>
                      <a:lnTo>
                        <a:pt x="0" y="26"/>
                      </a:lnTo>
                      <a:lnTo>
                        <a:pt x="8" y="18"/>
                      </a:lnTo>
                      <a:lnTo>
                        <a:pt x="35" y="7"/>
                      </a:lnTo>
                      <a:lnTo>
                        <a:pt x="54" y="7"/>
                      </a:lnTo>
                      <a:lnTo>
                        <a:pt x="72" y="1"/>
                      </a:lnTo>
                      <a:lnTo>
                        <a:pt x="77" y="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a:off x="2333520" y="1925640"/>
                  <a:ext cx="131400" cy="198360"/>
                </a:xfrm>
                <a:custGeom>
                  <a:avLst/>
                  <a:gdLst/>
                  <a:ahLst/>
                  <a:rect l="l" t="t" r="r" b="b"/>
                  <a:pathLst>
                    <a:path w="83" h="125">
                      <a:moveTo>
                        <a:pt x="12" y="0"/>
                      </a:moveTo>
                      <a:lnTo>
                        <a:pt x="20" y="3"/>
                      </a:lnTo>
                      <a:lnTo>
                        <a:pt x="26" y="9"/>
                      </a:lnTo>
                      <a:lnTo>
                        <a:pt x="32" y="16"/>
                      </a:lnTo>
                      <a:lnTo>
                        <a:pt x="38" y="27"/>
                      </a:lnTo>
                      <a:lnTo>
                        <a:pt x="41" y="35"/>
                      </a:lnTo>
                      <a:lnTo>
                        <a:pt x="44" y="43"/>
                      </a:lnTo>
                      <a:lnTo>
                        <a:pt x="35" y="30"/>
                      </a:lnTo>
                      <a:lnTo>
                        <a:pt x="28" y="21"/>
                      </a:lnTo>
                      <a:lnTo>
                        <a:pt x="20" y="15"/>
                      </a:lnTo>
                      <a:lnTo>
                        <a:pt x="12" y="12"/>
                      </a:lnTo>
                      <a:lnTo>
                        <a:pt x="12" y="23"/>
                      </a:lnTo>
                      <a:lnTo>
                        <a:pt x="17" y="36"/>
                      </a:lnTo>
                      <a:lnTo>
                        <a:pt x="23" y="47"/>
                      </a:lnTo>
                      <a:lnTo>
                        <a:pt x="30" y="54"/>
                      </a:lnTo>
                      <a:lnTo>
                        <a:pt x="43" y="64"/>
                      </a:lnTo>
                      <a:lnTo>
                        <a:pt x="56" y="71"/>
                      </a:lnTo>
                      <a:lnTo>
                        <a:pt x="62" y="75"/>
                      </a:lnTo>
                      <a:lnTo>
                        <a:pt x="60" y="67"/>
                      </a:lnTo>
                      <a:lnTo>
                        <a:pt x="67" y="81"/>
                      </a:lnTo>
                      <a:lnTo>
                        <a:pt x="71" y="94"/>
                      </a:lnTo>
                      <a:lnTo>
                        <a:pt x="73" y="108"/>
                      </a:lnTo>
                      <a:lnTo>
                        <a:pt x="78" y="117"/>
                      </a:lnTo>
                      <a:lnTo>
                        <a:pt x="82" y="124"/>
                      </a:lnTo>
                      <a:lnTo>
                        <a:pt x="69" y="112"/>
                      </a:lnTo>
                      <a:lnTo>
                        <a:pt x="69" y="118"/>
                      </a:lnTo>
                      <a:lnTo>
                        <a:pt x="63" y="120"/>
                      </a:lnTo>
                      <a:lnTo>
                        <a:pt x="66" y="116"/>
                      </a:lnTo>
                      <a:lnTo>
                        <a:pt x="66" y="110"/>
                      </a:lnTo>
                      <a:lnTo>
                        <a:pt x="51" y="102"/>
                      </a:lnTo>
                      <a:lnTo>
                        <a:pt x="63" y="102"/>
                      </a:lnTo>
                      <a:lnTo>
                        <a:pt x="54" y="87"/>
                      </a:lnTo>
                      <a:lnTo>
                        <a:pt x="61" y="86"/>
                      </a:lnTo>
                      <a:lnTo>
                        <a:pt x="63" y="83"/>
                      </a:lnTo>
                      <a:lnTo>
                        <a:pt x="51" y="82"/>
                      </a:lnTo>
                      <a:lnTo>
                        <a:pt x="36" y="77"/>
                      </a:lnTo>
                      <a:lnTo>
                        <a:pt x="19" y="70"/>
                      </a:lnTo>
                      <a:lnTo>
                        <a:pt x="7" y="62"/>
                      </a:lnTo>
                      <a:lnTo>
                        <a:pt x="6" y="64"/>
                      </a:lnTo>
                      <a:lnTo>
                        <a:pt x="11" y="71"/>
                      </a:lnTo>
                      <a:lnTo>
                        <a:pt x="18" y="77"/>
                      </a:lnTo>
                      <a:lnTo>
                        <a:pt x="24" y="81"/>
                      </a:lnTo>
                      <a:lnTo>
                        <a:pt x="30" y="97"/>
                      </a:lnTo>
                      <a:lnTo>
                        <a:pt x="47" y="102"/>
                      </a:lnTo>
                      <a:lnTo>
                        <a:pt x="35" y="100"/>
                      </a:lnTo>
                      <a:lnTo>
                        <a:pt x="40" y="106"/>
                      </a:lnTo>
                      <a:lnTo>
                        <a:pt x="56" y="108"/>
                      </a:lnTo>
                      <a:lnTo>
                        <a:pt x="61" y="114"/>
                      </a:lnTo>
                      <a:lnTo>
                        <a:pt x="60" y="117"/>
                      </a:lnTo>
                      <a:lnTo>
                        <a:pt x="51" y="115"/>
                      </a:lnTo>
                      <a:lnTo>
                        <a:pt x="43" y="115"/>
                      </a:lnTo>
                      <a:lnTo>
                        <a:pt x="4" y="80"/>
                      </a:lnTo>
                      <a:lnTo>
                        <a:pt x="2" y="68"/>
                      </a:lnTo>
                      <a:lnTo>
                        <a:pt x="1" y="60"/>
                      </a:lnTo>
                      <a:lnTo>
                        <a:pt x="4" y="56"/>
                      </a:lnTo>
                      <a:lnTo>
                        <a:pt x="2" y="47"/>
                      </a:lnTo>
                      <a:lnTo>
                        <a:pt x="0" y="32"/>
                      </a:lnTo>
                      <a:lnTo>
                        <a:pt x="2" y="20"/>
                      </a:lnTo>
                      <a:lnTo>
                        <a:pt x="6" y="10"/>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
                <p:cNvSpPr/>
                <p:nvPr/>
              </p:nvSpPr>
              <p:spPr>
                <a:xfrm>
                  <a:off x="2425320" y="2112840"/>
                  <a:ext cx="37800" cy="49320"/>
                </a:xfrm>
                <a:custGeom>
                  <a:avLst/>
                  <a:gdLst/>
                  <a:ahLst/>
                  <a:rect l="l" t="t" r="r" b="b"/>
                  <a:pathLst>
                    <a:path w="24" h="31">
                      <a:moveTo>
                        <a:pt x="0" y="11"/>
                      </a:moveTo>
                      <a:lnTo>
                        <a:pt x="6" y="2"/>
                      </a:lnTo>
                      <a:lnTo>
                        <a:pt x="12" y="0"/>
                      </a:lnTo>
                      <a:lnTo>
                        <a:pt x="16" y="6"/>
                      </a:lnTo>
                      <a:lnTo>
                        <a:pt x="16" y="25"/>
                      </a:lnTo>
                      <a:lnTo>
                        <a:pt x="20" y="8"/>
                      </a:lnTo>
                      <a:lnTo>
                        <a:pt x="23" y="15"/>
                      </a:lnTo>
                      <a:lnTo>
                        <a:pt x="23" y="22"/>
                      </a:lnTo>
                      <a:lnTo>
                        <a:pt x="17" y="30"/>
                      </a:lnTo>
                      <a:lnTo>
                        <a:pt x="13" y="30"/>
                      </a:lnTo>
                      <a:lnTo>
                        <a:pt x="3" y="20"/>
                      </a:lnTo>
                      <a:lnTo>
                        <a:pt x="0" y="1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04" name=""/>
                <p:cNvSpPr/>
                <p:nvPr/>
              </p:nvSpPr>
              <p:spPr>
                <a:xfrm>
                  <a:off x="2457360" y="1936800"/>
                  <a:ext cx="271080" cy="249120"/>
                </a:xfrm>
                <a:custGeom>
                  <a:avLst/>
                  <a:gdLst/>
                  <a:ahLst/>
                  <a:rect l="l" t="t" r="r" b="b"/>
                  <a:pathLst>
                    <a:path w="171" h="157">
                      <a:moveTo>
                        <a:pt x="6" y="118"/>
                      </a:moveTo>
                      <a:lnTo>
                        <a:pt x="8" y="123"/>
                      </a:lnTo>
                      <a:lnTo>
                        <a:pt x="9" y="137"/>
                      </a:lnTo>
                      <a:lnTo>
                        <a:pt x="0" y="141"/>
                      </a:lnTo>
                      <a:lnTo>
                        <a:pt x="3" y="143"/>
                      </a:lnTo>
                      <a:lnTo>
                        <a:pt x="13" y="141"/>
                      </a:lnTo>
                      <a:lnTo>
                        <a:pt x="54" y="150"/>
                      </a:lnTo>
                      <a:lnTo>
                        <a:pt x="53" y="147"/>
                      </a:lnTo>
                      <a:lnTo>
                        <a:pt x="53" y="146"/>
                      </a:lnTo>
                      <a:lnTo>
                        <a:pt x="55" y="145"/>
                      </a:lnTo>
                      <a:lnTo>
                        <a:pt x="57" y="145"/>
                      </a:lnTo>
                      <a:lnTo>
                        <a:pt x="58" y="147"/>
                      </a:lnTo>
                      <a:lnTo>
                        <a:pt x="60" y="149"/>
                      </a:lnTo>
                      <a:lnTo>
                        <a:pt x="64" y="150"/>
                      </a:lnTo>
                      <a:lnTo>
                        <a:pt x="69" y="154"/>
                      </a:lnTo>
                      <a:lnTo>
                        <a:pt x="68" y="150"/>
                      </a:lnTo>
                      <a:lnTo>
                        <a:pt x="86" y="146"/>
                      </a:lnTo>
                      <a:lnTo>
                        <a:pt x="108" y="133"/>
                      </a:lnTo>
                      <a:lnTo>
                        <a:pt x="131" y="140"/>
                      </a:lnTo>
                      <a:lnTo>
                        <a:pt x="136" y="149"/>
                      </a:lnTo>
                      <a:lnTo>
                        <a:pt x="136" y="155"/>
                      </a:lnTo>
                      <a:lnTo>
                        <a:pt x="137" y="156"/>
                      </a:lnTo>
                      <a:lnTo>
                        <a:pt x="138" y="149"/>
                      </a:lnTo>
                      <a:lnTo>
                        <a:pt x="133" y="138"/>
                      </a:lnTo>
                      <a:lnTo>
                        <a:pt x="121" y="131"/>
                      </a:lnTo>
                      <a:lnTo>
                        <a:pt x="126" y="124"/>
                      </a:lnTo>
                      <a:lnTo>
                        <a:pt x="135" y="120"/>
                      </a:lnTo>
                      <a:lnTo>
                        <a:pt x="146" y="119"/>
                      </a:lnTo>
                      <a:lnTo>
                        <a:pt x="159" y="121"/>
                      </a:lnTo>
                      <a:lnTo>
                        <a:pt x="161" y="123"/>
                      </a:lnTo>
                      <a:lnTo>
                        <a:pt x="162" y="130"/>
                      </a:lnTo>
                      <a:lnTo>
                        <a:pt x="166" y="136"/>
                      </a:lnTo>
                      <a:lnTo>
                        <a:pt x="170" y="128"/>
                      </a:lnTo>
                      <a:lnTo>
                        <a:pt x="168" y="123"/>
                      </a:lnTo>
                      <a:lnTo>
                        <a:pt x="161" y="117"/>
                      </a:lnTo>
                      <a:lnTo>
                        <a:pt x="152" y="109"/>
                      </a:lnTo>
                      <a:lnTo>
                        <a:pt x="146" y="101"/>
                      </a:lnTo>
                      <a:lnTo>
                        <a:pt x="140" y="104"/>
                      </a:lnTo>
                      <a:lnTo>
                        <a:pt x="137" y="113"/>
                      </a:lnTo>
                      <a:lnTo>
                        <a:pt x="134" y="111"/>
                      </a:lnTo>
                      <a:lnTo>
                        <a:pt x="137" y="103"/>
                      </a:lnTo>
                      <a:lnTo>
                        <a:pt x="140" y="97"/>
                      </a:lnTo>
                      <a:lnTo>
                        <a:pt x="155" y="90"/>
                      </a:lnTo>
                      <a:lnTo>
                        <a:pt x="162" y="84"/>
                      </a:lnTo>
                      <a:lnTo>
                        <a:pt x="159" y="76"/>
                      </a:lnTo>
                      <a:lnTo>
                        <a:pt x="157" y="82"/>
                      </a:lnTo>
                      <a:lnTo>
                        <a:pt x="150" y="87"/>
                      </a:lnTo>
                      <a:lnTo>
                        <a:pt x="143" y="89"/>
                      </a:lnTo>
                      <a:lnTo>
                        <a:pt x="137" y="89"/>
                      </a:lnTo>
                      <a:lnTo>
                        <a:pt x="135" y="87"/>
                      </a:lnTo>
                      <a:lnTo>
                        <a:pt x="136" y="85"/>
                      </a:lnTo>
                      <a:lnTo>
                        <a:pt x="149" y="77"/>
                      </a:lnTo>
                      <a:lnTo>
                        <a:pt x="157" y="68"/>
                      </a:lnTo>
                      <a:lnTo>
                        <a:pt x="159" y="73"/>
                      </a:lnTo>
                      <a:lnTo>
                        <a:pt x="160" y="63"/>
                      </a:lnTo>
                      <a:lnTo>
                        <a:pt x="158" y="52"/>
                      </a:lnTo>
                      <a:lnTo>
                        <a:pt x="157" y="41"/>
                      </a:lnTo>
                      <a:lnTo>
                        <a:pt x="158" y="24"/>
                      </a:lnTo>
                      <a:lnTo>
                        <a:pt x="156" y="8"/>
                      </a:lnTo>
                      <a:lnTo>
                        <a:pt x="153" y="0"/>
                      </a:lnTo>
                      <a:lnTo>
                        <a:pt x="155" y="13"/>
                      </a:lnTo>
                      <a:lnTo>
                        <a:pt x="155" y="29"/>
                      </a:lnTo>
                      <a:lnTo>
                        <a:pt x="153" y="42"/>
                      </a:lnTo>
                      <a:lnTo>
                        <a:pt x="144" y="63"/>
                      </a:lnTo>
                      <a:lnTo>
                        <a:pt x="151" y="51"/>
                      </a:lnTo>
                      <a:lnTo>
                        <a:pt x="154" y="55"/>
                      </a:lnTo>
                      <a:lnTo>
                        <a:pt x="155" y="62"/>
                      </a:lnTo>
                      <a:lnTo>
                        <a:pt x="154" y="68"/>
                      </a:lnTo>
                      <a:lnTo>
                        <a:pt x="146" y="76"/>
                      </a:lnTo>
                      <a:lnTo>
                        <a:pt x="136" y="82"/>
                      </a:lnTo>
                      <a:lnTo>
                        <a:pt x="136" y="76"/>
                      </a:lnTo>
                      <a:lnTo>
                        <a:pt x="121" y="92"/>
                      </a:lnTo>
                      <a:lnTo>
                        <a:pt x="102" y="107"/>
                      </a:lnTo>
                      <a:lnTo>
                        <a:pt x="85" y="115"/>
                      </a:lnTo>
                      <a:lnTo>
                        <a:pt x="70" y="118"/>
                      </a:lnTo>
                      <a:lnTo>
                        <a:pt x="45" y="116"/>
                      </a:lnTo>
                      <a:lnTo>
                        <a:pt x="30" y="117"/>
                      </a:lnTo>
                      <a:lnTo>
                        <a:pt x="14" y="118"/>
                      </a:lnTo>
                      <a:lnTo>
                        <a:pt x="6" y="1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2598480" y="1927080"/>
                  <a:ext cx="21960" cy="163440"/>
                </a:xfrm>
                <a:custGeom>
                  <a:avLst/>
                  <a:gdLst/>
                  <a:ahLst/>
                  <a:rect l="l" t="t" r="r" b="b"/>
                  <a:pathLst>
                    <a:path w="14" h="103">
                      <a:moveTo>
                        <a:pt x="0" y="3"/>
                      </a:moveTo>
                      <a:lnTo>
                        <a:pt x="7" y="19"/>
                      </a:lnTo>
                      <a:lnTo>
                        <a:pt x="9" y="35"/>
                      </a:lnTo>
                      <a:lnTo>
                        <a:pt x="9" y="58"/>
                      </a:lnTo>
                      <a:lnTo>
                        <a:pt x="6" y="78"/>
                      </a:lnTo>
                      <a:lnTo>
                        <a:pt x="0" y="102"/>
                      </a:lnTo>
                      <a:lnTo>
                        <a:pt x="6" y="101"/>
                      </a:lnTo>
                      <a:lnTo>
                        <a:pt x="10" y="94"/>
                      </a:lnTo>
                      <a:lnTo>
                        <a:pt x="13" y="83"/>
                      </a:lnTo>
                      <a:lnTo>
                        <a:pt x="13" y="64"/>
                      </a:lnTo>
                      <a:lnTo>
                        <a:pt x="13" y="41"/>
                      </a:lnTo>
                      <a:lnTo>
                        <a:pt x="11" y="25"/>
                      </a:lnTo>
                      <a:lnTo>
                        <a:pt x="8" y="14"/>
                      </a:lnTo>
                      <a:lnTo>
                        <a:pt x="3" y="2"/>
                      </a:lnTo>
                      <a:lnTo>
                        <a:pt x="0" y="0"/>
                      </a:lnTo>
                      <a:lnTo>
                        <a:pt x="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2555640" y="2033640"/>
                  <a:ext cx="17280" cy="17280"/>
                </a:xfrm>
                <a:custGeom>
                  <a:avLst/>
                  <a:gdLst/>
                  <a:ahLst/>
                  <a:rect l="l" t="t" r="r" b="b"/>
                  <a:pathLst>
                    <a:path w="11" h="11">
                      <a:moveTo>
                        <a:pt x="6" y="0"/>
                      </a:moveTo>
                      <a:lnTo>
                        <a:pt x="5" y="0"/>
                      </a:lnTo>
                      <a:lnTo>
                        <a:pt x="3" y="2"/>
                      </a:lnTo>
                      <a:lnTo>
                        <a:pt x="4" y="4"/>
                      </a:lnTo>
                      <a:lnTo>
                        <a:pt x="5" y="6"/>
                      </a:lnTo>
                      <a:lnTo>
                        <a:pt x="7" y="5"/>
                      </a:lnTo>
                      <a:lnTo>
                        <a:pt x="8" y="3"/>
                      </a:lnTo>
                      <a:lnTo>
                        <a:pt x="8" y="2"/>
                      </a:lnTo>
                      <a:lnTo>
                        <a:pt x="10" y="4"/>
                      </a:lnTo>
                      <a:lnTo>
                        <a:pt x="8" y="8"/>
                      </a:lnTo>
                      <a:lnTo>
                        <a:pt x="5" y="10"/>
                      </a:lnTo>
                      <a:lnTo>
                        <a:pt x="1" y="8"/>
                      </a:lnTo>
                      <a:lnTo>
                        <a:pt x="0" y="3"/>
                      </a:lnTo>
                      <a:lnTo>
                        <a:pt x="3" y="0"/>
                      </a:lnTo>
                      <a:lnTo>
                        <a:pt x="5" y="0"/>
                      </a:lnTo>
                      <a:lnTo>
                        <a:pt x="6"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07" name=""/>
                <p:cNvSpPr/>
                <p:nvPr/>
              </p:nvSpPr>
              <p:spPr>
                <a:xfrm>
                  <a:off x="2695320" y="2074680"/>
                  <a:ext cx="33120" cy="60480"/>
                </a:xfrm>
                <a:custGeom>
                  <a:avLst/>
                  <a:gdLst/>
                  <a:ahLst/>
                  <a:rect l="l" t="t" r="r" b="b"/>
                  <a:pathLst>
                    <a:path w="21" h="38">
                      <a:moveTo>
                        <a:pt x="16" y="0"/>
                      </a:moveTo>
                      <a:lnTo>
                        <a:pt x="16" y="5"/>
                      </a:lnTo>
                      <a:lnTo>
                        <a:pt x="0" y="14"/>
                      </a:lnTo>
                      <a:lnTo>
                        <a:pt x="10" y="11"/>
                      </a:lnTo>
                      <a:lnTo>
                        <a:pt x="10" y="20"/>
                      </a:lnTo>
                      <a:lnTo>
                        <a:pt x="4" y="18"/>
                      </a:lnTo>
                      <a:lnTo>
                        <a:pt x="18" y="31"/>
                      </a:lnTo>
                      <a:lnTo>
                        <a:pt x="20" y="37"/>
                      </a:lnTo>
                      <a:lnTo>
                        <a:pt x="19" y="29"/>
                      </a:lnTo>
                      <a:lnTo>
                        <a:pt x="13" y="22"/>
                      </a:lnTo>
                      <a:lnTo>
                        <a:pt x="13" y="11"/>
                      </a:lnTo>
                      <a:lnTo>
                        <a:pt x="17" y="7"/>
                      </a:lnTo>
                      <a:lnTo>
                        <a:pt x="17" y="4"/>
                      </a:lnTo>
                      <a:lnTo>
                        <a:pt x="16"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08" name=""/>
                <p:cNvSpPr/>
                <p:nvPr/>
              </p:nvSpPr>
              <p:spPr>
                <a:xfrm>
                  <a:off x="2660400" y="2138400"/>
                  <a:ext cx="107640" cy="63360"/>
                </a:xfrm>
                <a:custGeom>
                  <a:avLst/>
                  <a:gdLst/>
                  <a:ahLst/>
                  <a:rect l="l" t="t" r="r" b="b"/>
                  <a:pathLst>
                    <a:path w="68" h="40">
                      <a:moveTo>
                        <a:pt x="39" y="13"/>
                      </a:moveTo>
                      <a:lnTo>
                        <a:pt x="38" y="15"/>
                      </a:lnTo>
                      <a:lnTo>
                        <a:pt x="34" y="15"/>
                      </a:lnTo>
                      <a:lnTo>
                        <a:pt x="27" y="4"/>
                      </a:lnTo>
                      <a:lnTo>
                        <a:pt x="15" y="0"/>
                      </a:lnTo>
                      <a:lnTo>
                        <a:pt x="3" y="4"/>
                      </a:lnTo>
                      <a:lnTo>
                        <a:pt x="0" y="9"/>
                      </a:lnTo>
                      <a:lnTo>
                        <a:pt x="4" y="13"/>
                      </a:lnTo>
                      <a:lnTo>
                        <a:pt x="8" y="21"/>
                      </a:lnTo>
                      <a:lnTo>
                        <a:pt x="17" y="12"/>
                      </a:lnTo>
                      <a:lnTo>
                        <a:pt x="27" y="14"/>
                      </a:lnTo>
                      <a:lnTo>
                        <a:pt x="39" y="20"/>
                      </a:lnTo>
                      <a:lnTo>
                        <a:pt x="44" y="23"/>
                      </a:lnTo>
                      <a:lnTo>
                        <a:pt x="44" y="30"/>
                      </a:lnTo>
                      <a:lnTo>
                        <a:pt x="39" y="34"/>
                      </a:lnTo>
                      <a:lnTo>
                        <a:pt x="44" y="39"/>
                      </a:lnTo>
                      <a:lnTo>
                        <a:pt x="67" y="39"/>
                      </a:lnTo>
                      <a:lnTo>
                        <a:pt x="57" y="31"/>
                      </a:lnTo>
                      <a:lnTo>
                        <a:pt x="52" y="31"/>
                      </a:lnTo>
                      <a:lnTo>
                        <a:pt x="47" y="18"/>
                      </a:lnTo>
                      <a:lnTo>
                        <a:pt x="41" y="14"/>
                      </a:lnTo>
                      <a:lnTo>
                        <a:pt x="39" y="1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09" name=""/>
                <p:cNvSpPr/>
                <p:nvPr/>
              </p:nvSpPr>
              <p:spPr>
                <a:xfrm>
                  <a:off x="2573280" y="2168280"/>
                  <a:ext cx="151920" cy="54000"/>
                </a:xfrm>
                <a:custGeom>
                  <a:avLst/>
                  <a:gdLst/>
                  <a:ahLst/>
                  <a:rect l="l" t="t" r="r" b="b"/>
                  <a:pathLst>
                    <a:path w="96" h="34">
                      <a:moveTo>
                        <a:pt x="91" y="12"/>
                      </a:moveTo>
                      <a:lnTo>
                        <a:pt x="86" y="9"/>
                      </a:lnTo>
                      <a:lnTo>
                        <a:pt x="84" y="4"/>
                      </a:lnTo>
                      <a:lnTo>
                        <a:pt x="78" y="5"/>
                      </a:lnTo>
                      <a:lnTo>
                        <a:pt x="76" y="17"/>
                      </a:lnTo>
                      <a:lnTo>
                        <a:pt x="79" y="20"/>
                      </a:lnTo>
                      <a:lnTo>
                        <a:pt x="70" y="20"/>
                      </a:lnTo>
                      <a:lnTo>
                        <a:pt x="61" y="24"/>
                      </a:lnTo>
                      <a:lnTo>
                        <a:pt x="36" y="31"/>
                      </a:lnTo>
                      <a:lnTo>
                        <a:pt x="22" y="33"/>
                      </a:lnTo>
                      <a:lnTo>
                        <a:pt x="11" y="33"/>
                      </a:lnTo>
                      <a:lnTo>
                        <a:pt x="4" y="31"/>
                      </a:lnTo>
                      <a:lnTo>
                        <a:pt x="0" y="25"/>
                      </a:lnTo>
                      <a:lnTo>
                        <a:pt x="4" y="25"/>
                      </a:lnTo>
                      <a:lnTo>
                        <a:pt x="15" y="29"/>
                      </a:lnTo>
                      <a:lnTo>
                        <a:pt x="25" y="30"/>
                      </a:lnTo>
                      <a:lnTo>
                        <a:pt x="40" y="28"/>
                      </a:lnTo>
                      <a:lnTo>
                        <a:pt x="56" y="22"/>
                      </a:lnTo>
                      <a:lnTo>
                        <a:pt x="61" y="20"/>
                      </a:lnTo>
                      <a:lnTo>
                        <a:pt x="56" y="12"/>
                      </a:lnTo>
                      <a:lnTo>
                        <a:pt x="51" y="8"/>
                      </a:lnTo>
                      <a:lnTo>
                        <a:pt x="44" y="1"/>
                      </a:lnTo>
                      <a:lnTo>
                        <a:pt x="56" y="3"/>
                      </a:lnTo>
                      <a:lnTo>
                        <a:pt x="60" y="8"/>
                      </a:lnTo>
                      <a:lnTo>
                        <a:pt x="64" y="4"/>
                      </a:lnTo>
                      <a:lnTo>
                        <a:pt x="64" y="9"/>
                      </a:lnTo>
                      <a:lnTo>
                        <a:pt x="76" y="0"/>
                      </a:lnTo>
                      <a:lnTo>
                        <a:pt x="92" y="3"/>
                      </a:lnTo>
                      <a:lnTo>
                        <a:pt x="95" y="10"/>
                      </a:lnTo>
                      <a:lnTo>
                        <a:pt x="91" y="1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10" name=""/>
                <p:cNvSpPr/>
                <p:nvPr/>
              </p:nvSpPr>
              <p:spPr>
                <a:xfrm>
                  <a:off x="2600280" y="1824120"/>
                  <a:ext cx="7560" cy="15840"/>
                </a:xfrm>
                <a:custGeom>
                  <a:avLst/>
                  <a:gdLst/>
                  <a:ahLst/>
                  <a:rect l="l" t="t" r="r" b="b"/>
                  <a:pathLst>
                    <a:path w="5" h="10">
                      <a:moveTo>
                        <a:pt x="3" y="0"/>
                      </a:moveTo>
                      <a:lnTo>
                        <a:pt x="4" y="3"/>
                      </a:lnTo>
                      <a:lnTo>
                        <a:pt x="4" y="6"/>
                      </a:lnTo>
                      <a:lnTo>
                        <a:pt x="3" y="8"/>
                      </a:lnTo>
                      <a:lnTo>
                        <a:pt x="1" y="9"/>
                      </a:lnTo>
                      <a:lnTo>
                        <a:pt x="0" y="9"/>
                      </a:lnTo>
                      <a:lnTo>
                        <a:pt x="0" y="8"/>
                      </a:lnTo>
                      <a:lnTo>
                        <a:pt x="2" y="8"/>
                      </a:lnTo>
                      <a:lnTo>
                        <a:pt x="3" y="6"/>
                      </a:lnTo>
                      <a:lnTo>
                        <a:pt x="3" y="3"/>
                      </a:lnTo>
                      <a:lnTo>
                        <a:pt x="2" y="0"/>
                      </a:lnTo>
                      <a:lnTo>
                        <a:pt x="3"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11" name=""/>
                <p:cNvSpPr/>
                <p:nvPr/>
              </p:nvSpPr>
              <p:spPr>
                <a:xfrm>
                  <a:off x="2509560" y="1787400"/>
                  <a:ext cx="37800" cy="19080"/>
                </a:xfrm>
                <a:custGeom>
                  <a:avLst/>
                  <a:gdLst/>
                  <a:ahLst/>
                  <a:rect l="l" t="t" r="r" b="b"/>
                  <a:pathLst>
                    <a:path w="24" h="12">
                      <a:moveTo>
                        <a:pt x="0" y="4"/>
                      </a:moveTo>
                      <a:lnTo>
                        <a:pt x="3" y="3"/>
                      </a:lnTo>
                      <a:lnTo>
                        <a:pt x="1" y="2"/>
                      </a:lnTo>
                      <a:lnTo>
                        <a:pt x="4" y="0"/>
                      </a:lnTo>
                      <a:lnTo>
                        <a:pt x="8" y="0"/>
                      </a:lnTo>
                      <a:lnTo>
                        <a:pt x="13" y="0"/>
                      </a:lnTo>
                      <a:lnTo>
                        <a:pt x="19" y="3"/>
                      </a:lnTo>
                      <a:lnTo>
                        <a:pt x="16" y="3"/>
                      </a:lnTo>
                      <a:lnTo>
                        <a:pt x="19" y="6"/>
                      </a:lnTo>
                      <a:lnTo>
                        <a:pt x="20" y="4"/>
                      </a:lnTo>
                      <a:lnTo>
                        <a:pt x="23" y="8"/>
                      </a:lnTo>
                      <a:lnTo>
                        <a:pt x="20" y="11"/>
                      </a:lnTo>
                      <a:lnTo>
                        <a:pt x="20" y="8"/>
                      </a:lnTo>
                      <a:lnTo>
                        <a:pt x="16" y="9"/>
                      </a:lnTo>
                      <a:lnTo>
                        <a:pt x="13" y="9"/>
                      </a:lnTo>
                      <a:lnTo>
                        <a:pt x="17" y="8"/>
                      </a:lnTo>
                      <a:lnTo>
                        <a:pt x="18" y="7"/>
                      </a:lnTo>
                      <a:lnTo>
                        <a:pt x="17" y="5"/>
                      </a:lnTo>
                      <a:lnTo>
                        <a:pt x="14" y="3"/>
                      </a:lnTo>
                      <a:lnTo>
                        <a:pt x="11" y="3"/>
                      </a:lnTo>
                      <a:lnTo>
                        <a:pt x="7" y="3"/>
                      </a:lnTo>
                      <a:lnTo>
                        <a:pt x="4" y="3"/>
                      </a:lnTo>
                      <a:lnTo>
                        <a:pt x="7" y="6"/>
                      </a:lnTo>
                      <a:lnTo>
                        <a:pt x="10" y="8"/>
                      </a:lnTo>
                      <a:lnTo>
                        <a:pt x="9" y="9"/>
                      </a:lnTo>
                      <a:lnTo>
                        <a:pt x="7" y="8"/>
                      </a:lnTo>
                      <a:lnTo>
                        <a:pt x="5" y="8"/>
                      </a:lnTo>
                      <a:lnTo>
                        <a:pt x="4" y="6"/>
                      </a:lnTo>
                      <a:lnTo>
                        <a:pt x="2" y="6"/>
                      </a:lnTo>
                      <a:lnTo>
                        <a:pt x="3" y="5"/>
                      </a:lnTo>
                      <a:lnTo>
                        <a:pt x="0" y="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2" name=""/>
                <p:cNvSpPr/>
                <p:nvPr/>
              </p:nvSpPr>
              <p:spPr>
                <a:xfrm>
                  <a:off x="2568240" y="1792080"/>
                  <a:ext cx="31680" cy="14400"/>
                </a:xfrm>
                <a:custGeom>
                  <a:avLst/>
                  <a:gdLst/>
                  <a:ahLst/>
                  <a:rect l="l" t="t" r="r" b="b"/>
                  <a:pathLst>
                    <a:path w="20" h="9">
                      <a:moveTo>
                        <a:pt x="0" y="5"/>
                      </a:moveTo>
                      <a:lnTo>
                        <a:pt x="2" y="2"/>
                      </a:lnTo>
                      <a:lnTo>
                        <a:pt x="6" y="0"/>
                      </a:lnTo>
                      <a:lnTo>
                        <a:pt x="9" y="0"/>
                      </a:lnTo>
                      <a:lnTo>
                        <a:pt x="8" y="1"/>
                      </a:lnTo>
                      <a:lnTo>
                        <a:pt x="10" y="1"/>
                      </a:lnTo>
                      <a:lnTo>
                        <a:pt x="11" y="0"/>
                      </a:lnTo>
                      <a:lnTo>
                        <a:pt x="13" y="1"/>
                      </a:lnTo>
                      <a:lnTo>
                        <a:pt x="15" y="0"/>
                      </a:lnTo>
                      <a:lnTo>
                        <a:pt x="16" y="2"/>
                      </a:lnTo>
                      <a:lnTo>
                        <a:pt x="19" y="1"/>
                      </a:lnTo>
                      <a:lnTo>
                        <a:pt x="16" y="4"/>
                      </a:lnTo>
                      <a:lnTo>
                        <a:pt x="19" y="5"/>
                      </a:lnTo>
                      <a:lnTo>
                        <a:pt x="15" y="6"/>
                      </a:lnTo>
                      <a:lnTo>
                        <a:pt x="15" y="7"/>
                      </a:lnTo>
                      <a:lnTo>
                        <a:pt x="13" y="7"/>
                      </a:lnTo>
                      <a:lnTo>
                        <a:pt x="11" y="8"/>
                      </a:lnTo>
                      <a:lnTo>
                        <a:pt x="9" y="8"/>
                      </a:lnTo>
                      <a:lnTo>
                        <a:pt x="7" y="8"/>
                      </a:lnTo>
                      <a:lnTo>
                        <a:pt x="11" y="7"/>
                      </a:lnTo>
                      <a:lnTo>
                        <a:pt x="13" y="5"/>
                      </a:lnTo>
                      <a:lnTo>
                        <a:pt x="15" y="5"/>
                      </a:lnTo>
                      <a:lnTo>
                        <a:pt x="12" y="3"/>
                      </a:lnTo>
                      <a:lnTo>
                        <a:pt x="9" y="2"/>
                      </a:lnTo>
                      <a:lnTo>
                        <a:pt x="6" y="2"/>
                      </a:lnTo>
                      <a:lnTo>
                        <a:pt x="2" y="4"/>
                      </a:lnTo>
                      <a:lnTo>
                        <a:pt x="0" y="5"/>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13" name=""/>
                <p:cNvSpPr/>
                <p:nvPr/>
              </p:nvSpPr>
              <p:spPr>
                <a:xfrm>
                  <a:off x="2570040" y="1801800"/>
                  <a:ext cx="7560" cy="4680"/>
                </a:xfrm>
                <a:custGeom>
                  <a:avLst/>
                  <a:gdLst/>
                  <a:ahLst/>
                  <a:rect l="l" t="t" r="r" b="b"/>
                  <a:pathLst>
                    <a:path w="5" h="3">
                      <a:moveTo>
                        <a:pt x="1" y="0"/>
                      </a:moveTo>
                      <a:lnTo>
                        <a:pt x="4" y="2"/>
                      </a:lnTo>
                      <a:lnTo>
                        <a:pt x="0" y="1"/>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4" name=""/>
                <p:cNvSpPr/>
                <p:nvPr/>
              </p:nvSpPr>
              <p:spPr>
                <a:xfrm>
                  <a:off x="2512800" y="1774800"/>
                  <a:ext cx="37800" cy="19080"/>
                </a:xfrm>
                <a:custGeom>
                  <a:avLst/>
                  <a:gdLst/>
                  <a:ahLst/>
                  <a:rect l="l" t="t" r="r" b="b"/>
                  <a:pathLst>
                    <a:path w="24" h="12">
                      <a:moveTo>
                        <a:pt x="0" y="2"/>
                      </a:moveTo>
                      <a:lnTo>
                        <a:pt x="7" y="0"/>
                      </a:lnTo>
                      <a:lnTo>
                        <a:pt x="17" y="4"/>
                      </a:lnTo>
                      <a:lnTo>
                        <a:pt x="23" y="11"/>
                      </a:lnTo>
                      <a:lnTo>
                        <a:pt x="18" y="6"/>
                      </a:lnTo>
                      <a:lnTo>
                        <a:pt x="11" y="2"/>
                      </a:lnTo>
                      <a:lnTo>
                        <a:pt x="6" y="2"/>
                      </a:lnTo>
                      <a:lnTo>
                        <a:pt x="0" y="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5" name=""/>
                <p:cNvSpPr/>
                <p:nvPr/>
              </p:nvSpPr>
              <p:spPr>
                <a:xfrm>
                  <a:off x="2570040" y="1779480"/>
                  <a:ext cx="29880" cy="9720"/>
                </a:xfrm>
                <a:custGeom>
                  <a:avLst/>
                  <a:gdLst/>
                  <a:ahLst/>
                  <a:rect l="l" t="t" r="r" b="b"/>
                  <a:pathLst>
                    <a:path w="19" h="6">
                      <a:moveTo>
                        <a:pt x="0" y="5"/>
                      </a:moveTo>
                      <a:lnTo>
                        <a:pt x="7" y="2"/>
                      </a:lnTo>
                      <a:lnTo>
                        <a:pt x="12" y="1"/>
                      </a:lnTo>
                      <a:lnTo>
                        <a:pt x="17" y="1"/>
                      </a:lnTo>
                      <a:lnTo>
                        <a:pt x="18" y="3"/>
                      </a:lnTo>
                      <a:lnTo>
                        <a:pt x="17" y="0"/>
                      </a:lnTo>
                      <a:lnTo>
                        <a:pt x="13" y="0"/>
                      </a:lnTo>
                      <a:lnTo>
                        <a:pt x="5" y="1"/>
                      </a:lnTo>
                      <a:lnTo>
                        <a:pt x="0"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16" name=""/>
                <p:cNvSpPr/>
                <p:nvPr/>
              </p:nvSpPr>
              <p:spPr>
                <a:xfrm>
                  <a:off x="2539800" y="1830240"/>
                  <a:ext cx="23400" cy="14400"/>
                </a:xfrm>
                <a:custGeom>
                  <a:avLst/>
                  <a:gdLst/>
                  <a:ahLst/>
                  <a:rect l="l" t="t" r="r" b="b"/>
                  <a:pathLst>
                    <a:path w="15" h="9">
                      <a:moveTo>
                        <a:pt x="14" y="3"/>
                      </a:moveTo>
                      <a:lnTo>
                        <a:pt x="10" y="5"/>
                      </a:lnTo>
                      <a:lnTo>
                        <a:pt x="9" y="5"/>
                      </a:lnTo>
                      <a:lnTo>
                        <a:pt x="7" y="3"/>
                      </a:lnTo>
                      <a:lnTo>
                        <a:pt x="4" y="2"/>
                      </a:lnTo>
                      <a:lnTo>
                        <a:pt x="1" y="2"/>
                      </a:lnTo>
                      <a:lnTo>
                        <a:pt x="1" y="0"/>
                      </a:lnTo>
                      <a:lnTo>
                        <a:pt x="0" y="2"/>
                      </a:lnTo>
                      <a:lnTo>
                        <a:pt x="1" y="3"/>
                      </a:lnTo>
                      <a:lnTo>
                        <a:pt x="5" y="4"/>
                      </a:lnTo>
                      <a:lnTo>
                        <a:pt x="8" y="8"/>
                      </a:lnTo>
                      <a:lnTo>
                        <a:pt x="10" y="8"/>
                      </a:lnTo>
                      <a:lnTo>
                        <a:pt x="14" y="5"/>
                      </a:lnTo>
                      <a:lnTo>
                        <a:pt x="14"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17" name=""/>
                <p:cNvSpPr/>
                <p:nvPr/>
              </p:nvSpPr>
              <p:spPr>
                <a:xfrm>
                  <a:off x="2562120" y="1789200"/>
                  <a:ext cx="7560" cy="21960"/>
                </a:xfrm>
                <a:custGeom>
                  <a:avLst/>
                  <a:gdLst/>
                  <a:ahLst/>
                  <a:rect l="l" t="t" r="r" b="b"/>
                  <a:pathLst>
                    <a:path w="5" h="14">
                      <a:moveTo>
                        <a:pt x="4" y="0"/>
                      </a:moveTo>
                      <a:lnTo>
                        <a:pt x="1" y="4"/>
                      </a:lnTo>
                      <a:lnTo>
                        <a:pt x="0" y="8"/>
                      </a:lnTo>
                      <a:lnTo>
                        <a:pt x="0" y="10"/>
                      </a:lnTo>
                      <a:lnTo>
                        <a:pt x="2" y="13"/>
                      </a:lnTo>
                      <a:lnTo>
                        <a:pt x="1" y="10"/>
                      </a:lnTo>
                      <a:lnTo>
                        <a:pt x="1" y="7"/>
                      </a:lnTo>
                      <a:lnTo>
                        <a:pt x="2" y="4"/>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18" name=""/>
                <p:cNvSpPr/>
                <p:nvPr/>
              </p:nvSpPr>
              <p:spPr>
                <a:xfrm>
                  <a:off x="2523960" y="1792080"/>
                  <a:ext cx="10800" cy="9720"/>
                </a:xfrm>
                <a:custGeom>
                  <a:avLst/>
                  <a:gdLst/>
                  <a:ahLst/>
                  <a:rect l="l" t="t" r="r" b="b"/>
                  <a:pathLst>
                    <a:path w="7" h="6">
                      <a:moveTo>
                        <a:pt x="0" y="0"/>
                      </a:moveTo>
                      <a:lnTo>
                        <a:pt x="0" y="4"/>
                      </a:lnTo>
                      <a:lnTo>
                        <a:pt x="2" y="5"/>
                      </a:lnTo>
                      <a:lnTo>
                        <a:pt x="4" y="5"/>
                      </a:lnTo>
                      <a:lnTo>
                        <a:pt x="5" y="3"/>
                      </a:lnTo>
                      <a:lnTo>
                        <a:pt x="6" y="1"/>
                      </a:lnTo>
                      <a:lnTo>
                        <a:pt x="4" y="2"/>
                      </a:lnTo>
                      <a:lnTo>
                        <a:pt x="2" y="3"/>
                      </a:lnTo>
                      <a:lnTo>
                        <a:pt x="2"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19" name=""/>
                <p:cNvSpPr/>
                <p:nvPr/>
              </p:nvSpPr>
              <p:spPr>
                <a:xfrm>
                  <a:off x="2574720" y="1795320"/>
                  <a:ext cx="12240" cy="9720"/>
                </a:xfrm>
                <a:custGeom>
                  <a:avLst/>
                  <a:gdLst/>
                  <a:ahLst/>
                  <a:rect l="l" t="t" r="r" b="b"/>
                  <a:pathLst>
                    <a:path w="8" h="6">
                      <a:moveTo>
                        <a:pt x="0" y="1"/>
                      </a:moveTo>
                      <a:lnTo>
                        <a:pt x="0" y="5"/>
                      </a:lnTo>
                      <a:lnTo>
                        <a:pt x="5" y="5"/>
                      </a:lnTo>
                      <a:lnTo>
                        <a:pt x="6" y="3"/>
                      </a:lnTo>
                      <a:lnTo>
                        <a:pt x="7" y="0"/>
                      </a:lnTo>
                      <a:lnTo>
                        <a:pt x="4" y="0"/>
                      </a:lnTo>
                      <a:lnTo>
                        <a:pt x="5" y="2"/>
                      </a:lnTo>
                      <a:lnTo>
                        <a:pt x="3" y="3"/>
                      </a:lnTo>
                      <a:lnTo>
                        <a:pt x="2" y="0"/>
                      </a:lnTo>
                      <a:lnTo>
                        <a:pt x="0"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0" name=""/>
                <p:cNvSpPr/>
                <p:nvPr/>
              </p:nvSpPr>
              <p:spPr>
                <a:xfrm>
                  <a:off x="2531880" y="1850760"/>
                  <a:ext cx="41040" cy="5040"/>
                </a:xfrm>
                <a:custGeom>
                  <a:avLst/>
                  <a:gdLst/>
                  <a:ahLst/>
                  <a:rect l="l" t="t" r="r" b="b"/>
                  <a:pathLst>
                    <a:path w="26" h="3">
                      <a:moveTo>
                        <a:pt x="0" y="0"/>
                      </a:moveTo>
                      <a:lnTo>
                        <a:pt x="8" y="0"/>
                      </a:lnTo>
                      <a:lnTo>
                        <a:pt x="14" y="0"/>
                      </a:lnTo>
                      <a:lnTo>
                        <a:pt x="18" y="0"/>
                      </a:lnTo>
                      <a:lnTo>
                        <a:pt x="25" y="0"/>
                      </a:lnTo>
                      <a:lnTo>
                        <a:pt x="19" y="1"/>
                      </a:lnTo>
                      <a:lnTo>
                        <a:pt x="14" y="2"/>
                      </a:lnTo>
                      <a:lnTo>
                        <a:pt x="3" y="1"/>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321" name=""/>
                <p:cNvSpPr/>
                <p:nvPr/>
              </p:nvSpPr>
              <p:spPr>
                <a:xfrm>
                  <a:off x="2539800" y="1855800"/>
                  <a:ext cx="26640" cy="7920"/>
                </a:xfrm>
                <a:custGeom>
                  <a:avLst/>
                  <a:gdLst/>
                  <a:ahLst/>
                  <a:rect l="l" t="t" r="r" b="b"/>
                  <a:pathLst>
                    <a:path w="17" h="5">
                      <a:moveTo>
                        <a:pt x="0" y="0"/>
                      </a:moveTo>
                      <a:lnTo>
                        <a:pt x="4" y="3"/>
                      </a:lnTo>
                      <a:lnTo>
                        <a:pt x="10" y="4"/>
                      </a:lnTo>
                      <a:lnTo>
                        <a:pt x="16" y="1"/>
                      </a:lnTo>
                      <a:lnTo>
                        <a:pt x="11" y="2"/>
                      </a:lnTo>
                      <a:lnTo>
                        <a:pt x="5" y="2"/>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22" name=""/>
                <p:cNvSpPr/>
                <p:nvPr/>
              </p:nvSpPr>
              <p:spPr>
                <a:xfrm>
                  <a:off x="2946240" y="1871640"/>
                  <a:ext cx="69480" cy="60120"/>
                </a:xfrm>
                <a:custGeom>
                  <a:avLst/>
                  <a:gdLst/>
                  <a:ahLst/>
                  <a:rect l="l" t="t" r="r" b="b"/>
                  <a:pathLst>
                    <a:path w="44" h="38">
                      <a:moveTo>
                        <a:pt x="7" y="15"/>
                      </a:moveTo>
                      <a:lnTo>
                        <a:pt x="8" y="9"/>
                      </a:lnTo>
                      <a:lnTo>
                        <a:pt x="22" y="0"/>
                      </a:lnTo>
                      <a:lnTo>
                        <a:pt x="36" y="5"/>
                      </a:lnTo>
                      <a:lnTo>
                        <a:pt x="28" y="5"/>
                      </a:lnTo>
                      <a:lnTo>
                        <a:pt x="37" y="15"/>
                      </a:lnTo>
                      <a:lnTo>
                        <a:pt x="41" y="13"/>
                      </a:lnTo>
                      <a:lnTo>
                        <a:pt x="38" y="7"/>
                      </a:lnTo>
                      <a:lnTo>
                        <a:pt x="43" y="15"/>
                      </a:lnTo>
                      <a:lnTo>
                        <a:pt x="40" y="18"/>
                      </a:lnTo>
                      <a:lnTo>
                        <a:pt x="43" y="36"/>
                      </a:lnTo>
                      <a:lnTo>
                        <a:pt x="39" y="37"/>
                      </a:lnTo>
                      <a:lnTo>
                        <a:pt x="33" y="36"/>
                      </a:lnTo>
                      <a:lnTo>
                        <a:pt x="39" y="35"/>
                      </a:lnTo>
                      <a:lnTo>
                        <a:pt x="34" y="24"/>
                      </a:lnTo>
                      <a:lnTo>
                        <a:pt x="25" y="14"/>
                      </a:lnTo>
                      <a:lnTo>
                        <a:pt x="35" y="22"/>
                      </a:lnTo>
                      <a:lnTo>
                        <a:pt x="39" y="31"/>
                      </a:lnTo>
                      <a:lnTo>
                        <a:pt x="37" y="17"/>
                      </a:lnTo>
                      <a:lnTo>
                        <a:pt x="22" y="3"/>
                      </a:lnTo>
                      <a:lnTo>
                        <a:pt x="18" y="9"/>
                      </a:lnTo>
                      <a:lnTo>
                        <a:pt x="22" y="13"/>
                      </a:lnTo>
                      <a:lnTo>
                        <a:pt x="16" y="13"/>
                      </a:lnTo>
                      <a:lnTo>
                        <a:pt x="23" y="22"/>
                      </a:lnTo>
                      <a:lnTo>
                        <a:pt x="13" y="15"/>
                      </a:lnTo>
                      <a:lnTo>
                        <a:pt x="0" y="27"/>
                      </a:lnTo>
                      <a:lnTo>
                        <a:pt x="1" y="18"/>
                      </a:lnTo>
                      <a:lnTo>
                        <a:pt x="7" y="15"/>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23" name=""/>
                <p:cNvSpPr/>
                <p:nvPr/>
              </p:nvSpPr>
              <p:spPr>
                <a:xfrm>
                  <a:off x="2957400" y="1909800"/>
                  <a:ext cx="48600" cy="63360"/>
                </a:xfrm>
                <a:custGeom>
                  <a:avLst/>
                  <a:gdLst/>
                  <a:ahLst/>
                  <a:rect l="l" t="t" r="r" b="b"/>
                  <a:pathLst>
                    <a:path w="31" h="40">
                      <a:moveTo>
                        <a:pt x="25" y="14"/>
                      </a:moveTo>
                      <a:lnTo>
                        <a:pt x="22" y="13"/>
                      </a:lnTo>
                      <a:lnTo>
                        <a:pt x="18" y="8"/>
                      </a:lnTo>
                      <a:lnTo>
                        <a:pt x="15" y="8"/>
                      </a:lnTo>
                      <a:lnTo>
                        <a:pt x="10" y="5"/>
                      </a:lnTo>
                      <a:lnTo>
                        <a:pt x="10" y="7"/>
                      </a:lnTo>
                      <a:lnTo>
                        <a:pt x="6" y="8"/>
                      </a:lnTo>
                      <a:lnTo>
                        <a:pt x="2" y="4"/>
                      </a:lnTo>
                      <a:lnTo>
                        <a:pt x="4" y="9"/>
                      </a:lnTo>
                      <a:lnTo>
                        <a:pt x="0" y="9"/>
                      </a:lnTo>
                      <a:lnTo>
                        <a:pt x="6" y="13"/>
                      </a:lnTo>
                      <a:lnTo>
                        <a:pt x="5" y="19"/>
                      </a:lnTo>
                      <a:lnTo>
                        <a:pt x="9" y="28"/>
                      </a:lnTo>
                      <a:lnTo>
                        <a:pt x="9" y="22"/>
                      </a:lnTo>
                      <a:lnTo>
                        <a:pt x="11" y="20"/>
                      </a:lnTo>
                      <a:lnTo>
                        <a:pt x="13" y="23"/>
                      </a:lnTo>
                      <a:lnTo>
                        <a:pt x="15" y="21"/>
                      </a:lnTo>
                      <a:lnTo>
                        <a:pt x="19" y="21"/>
                      </a:lnTo>
                      <a:lnTo>
                        <a:pt x="24" y="25"/>
                      </a:lnTo>
                      <a:lnTo>
                        <a:pt x="24" y="32"/>
                      </a:lnTo>
                      <a:lnTo>
                        <a:pt x="21" y="39"/>
                      </a:lnTo>
                      <a:lnTo>
                        <a:pt x="28" y="28"/>
                      </a:lnTo>
                      <a:lnTo>
                        <a:pt x="30" y="21"/>
                      </a:lnTo>
                      <a:lnTo>
                        <a:pt x="30" y="11"/>
                      </a:lnTo>
                      <a:lnTo>
                        <a:pt x="28" y="11"/>
                      </a:lnTo>
                      <a:lnTo>
                        <a:pt x="23" y="3"/>
                      </a:lnTo>
                      <a:lnTo>
                        <a:pt x="18" y="0"/>
                      </a:lnTo>
                      <a:lnTo>
                        <a:pt x="22" y="6"/>
                      </a:lnTo>
                      <a:lnTo>
                        <a:pt x="25" y="10"/>
                      </a:lnTo>
                      <a:lnTo>
                        <a:pt x="25" y="1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24" name=""/>
                <p:cNvSpPr/>
                <p:nvPr/>
              </p:nvSpPr>
              <p:spPr>
                <a:xfrm>
                  <a:off x="2898720" y="1917720"/>
                  <a:ext cx="196200" cy="282600"/>
                </a:xfrm>
                <a:custGeom>
                  <a:avLst/>
                  <a:gdLst/>
                  <a:ahLst/>
                  <a:rect l="l" t="t" r="r" b="b"/>
                  <a:pathLst>
                    <a:path w="124" h="178">
                      <a:moveTo>
                        <a:pt x="30" y="0"/>
                      </a:moveTo>
                      <a:lnTo>
                        <a:pt x="36" y="31"/>
                      </a:lnTo>
                      <a:lnTo>
                        <a:pt x="37" y="33"/>
                      </a:lnTo>
                      <a:lnTo>
                        <a:pt x="39" y="34"/>
                      </a:lnTo>
                      <a:lnTo>
                        <a:pt x="37" y="36"/>
                      </a:lnTo>
                      <a:lnTo>
                        <a:pt x="35" y="35"/>
                      </a:lnTo>
                      <a:lnTo>
                        <a:pt x="34" y="39"/>
                      </a:lnTo>
                      <a:lnTo>
                        <a:pt x="36" y="43"/>
                      </a:lnTo>
                      <a:lnTo>
                        <a:pt x="38" y="44"/>
                      </a:lnTo>
                      <a:lnTo>
                        <a:pt x="41" y="43"/>
                      </a:lnTo>
                      <a:lnTo>
                        <a:pt x="43" y="35"/>
                      </a:lnTo>
                      <a:lnTo>
                        <a:pt x="47" y="35"/>
                      </a:lnTo>
                      <a:lnTo>
                        <a:pt x="51" y="33"/>
                      </a:lnTo>
                      <a:lnTo>
                        <a:pt x="53" y="29"/>
                      </a:lnTo>
                      <a:lnTo>
                        <a:pt x="53" y="34"/>
                      </a:lnTo>
                      <a:lnTo>
                        <a:pt x="55" y="33"/>
                      </a:lnTo>
                      <a:lnTo>
                        <a:pt x="59" y="31"/>
                      </a:lnTo>
                      <a:lnTo>
                        <a:pt x="57" y="34"/>
                      </a:lnTo>
                      <a:lnTo>
                        <a:pt x="53" y="39"/>
                      </a:lnTo>
                      <a:lnTo>
                        <a:pt x="50" y="47"/>
                      </a:lnTo>
                      <a:lnTo>
                        <a:pt x="65" y="30"/>
                      </a:lnTo>
                      <a:lnTo>
                        <a:pt x="68" y="32"/>
                      </a:lnTo>
                      <a:lnTo>
                        <a:pt x="58" y="58"/>
                      </a:lnTo>
                      <a:lnTo>
                        <a:pt x="59" y="91"/>
                      </a:lnTo>
                      <a:lnTo>
                        <a:pt x="84" y="94"/>
                      </a:lnTo>
                      <a:lnTo>
                        <a:pt x="96" y="99"/>
                      </a:lnTo>
                      <a:lnTo>
                        <a:pt x="102" y="99"/>
                      </a:lnTo>
                      <a:lnTo>
                        <a:pt x="105" y="105"/>
                      </a:lnTo>
                      <a:lnTo>
                        <a:pt x="84" y="96"/>
                      </a:lnTo>
                      <a:lnTo>
                        <a:pt x="69" y="95"/>
                      </a:lnTo>
                      <a:lnTo>
                        <a:pt x="75" y="100"/>
                      </a:lnTo>
                      <a:lnTo>
                        <a:pt x="69" y="100"/>
                      </a:lnTo>
                      <a:lnTo>
                        <a:pt x="57" y="99"/>
                      </a:lnTo>
                      <a:lnTo>
                        <a:pt x="65" y="106"/>
                      </a:lnTo>
                      <a:lnTo>
                        <a:pt x="93" y="111"/>
                      </a:lnTo>
                      <a:lnTo>
                        <a:pt x="70" y="108"/>
                      </a:lnTo>
                      <a:lnTo>
                        <a:pt x="84" y="116"/>
                      </a:lnTo>
                      <a:lnTo>
                        <a:pt x="82" y="118"/>
                      </a:lnTo>
                      <a:lnTo>
                        <a:pt x="63" y="109"/>
                      </a:lnTo>
                      <a:lnTo>
                        <a:pt x="66" y="118"/>
                      </a:lnTo>
                      <a:lnTo>
                        <a:pt x="97" y="126"/>
                      </a:lnTo>
                      <a:lnTo>
                        <a:pt x="117" y="139"/>
                      </a:lnTo>
                      <a:lnTo>
                        <a:pt x="97" y="135"/>
                      </a:lnTo>
                      <a:lnTo>
                        <a:pt x="85" y="128"/>
                      </a:lnTo>
                      <a:lnTo>
                        <a:pt x="69" y="123"/>
                      </a:lnTo>
                      <a:lnTo>
                        <a:pt x="76" y="132"/>
                      </a:lnTo>
                      <a:lnTo>
                        <a:pt x="123" y="149"/>
                      </a:lnTo>
                      <a:lnTo>
                        <a:pt x="76" y="135"/>
                      </a:lnTo>
                      <a:lnTo>
                        <a:pt x="63" y="125"/>
                      </a:lnTo>
                      <a:lnTo>
                        <a:pt x="64" y="131"/>
                      </a:lnTo>
                      <a:lnTo>
                        <a:pt x="76" y="143"/>
                      </a:lnTo>
                      <a:lnTo>
                        <a:pt x="95" y="147"/>
                      </a:lnTo>
                      <a:lnTo>
                        <a:pt x="105" y="153"/>
                      </a:lnTo>
                      <a:lnTo>
                        <a:pt x="90" y="151"/>
                      </a:lnTo>
                      <a:lnTo>
                        <a:pt x="73" y="143"/>
                      </a:lnTo>
                      <a:lnTo>
                        <a:pt x="67" y="144"/>
                      </a:lnTo>
                      <a:lnTo>
                        <a:pt x="70" y="152"/>
                      </a:lnTo>
                      <a:lnTo>
                        <a:pt x="74" y="156"/>
                      </a:lnTo>
                      <a:lnTo>
                        <a:pt x="97" y="157"/>
                      </a:lnTo>
                      <a:lnTo>
                        <a:pt x="74" y="168"/>
                      </a:lnTo>
                      <a:lnTo>
                        <a:pt x="70" y="167"/>
                      </a:lnTo>
                      <a:lnTo>
                        <a:pt x="65" y="150"/>
                      </a:lnTo>
                      <a:lnTo>
                        <a:pt x="59" y="169"/>
                      </a:lnTo>
                      <a:lnTo>
                        <a:pt x="61" y="177"/>
                      </a:lnTo>
                      <a:lnTo>
                        <a:pt x="54" y="170"/>
                      </a:lnTo>
                      <a:lnTo>
                        <a:pt x="64" y="146"/>
                      </a:lnTo>
                      <a:lnTo>
                        <a:pt x="63" y="139"/>
                      </a:lnTo>
                      <a:lnTo>
                        <a:pt x="59" y="128"/>
                      </a:lnTo>
                      <a:lnTo>
                        <a:pt x="55" y="113"/>
                      </a:lnTo>
                      <a:lnTo>
                        <a:pt x="48" y="94"/>
                      </a:lnTo>
                      <a:lnTo>
                        <a:pt x="39" y="111"/>
                      </a:lnTo>
                      <a:lnTo>
                        <a:pt x="39" y="126"/>
                      </a:lnTo>
                      <a:lnTo>
                        <a:pt x="22" y="148"/>
                      </a:lnTo>
                      <a:lnTo>
                        <a:pt x="0" y="155"/>
                      </a:lnTo>
                      <a:lnTo>
                        <a:pt x="1" y="143"/>
                      </a:lnTo>
                      <a:lnTo>
                        <a:pt x="15" y="130"/>
                      </a:lnTo>
                      <a:lnTo>
                        <a:pt x="31" y="122"/>
                      </a:lnTo>
                      <a:lnTo>
                        <a:pt x="37" y="104"/>
                      </a:lnTo>
                      <a:lnTo>
                        <a:pt x="37" y="95"/>
                      </a:lnTo>
                      <a:lnTo>
                        <a:pt x="43" y="75"/>
                      </a:lnTo>
                      <a:lnTo>
                        <a:pt x="37" y="73"/>
                      </a:lnTo>
                      <a:lnTo>
                        <a:pt x="30" y="68"/>
                      </a:lnTo>
                      <a:lnTo>
                        <a:pt x="37" y="47"/>
                      </a:lnTo>
                      <a:lnTo>
                        <a:pt x="34" y="45"/>
                      </a:lnTo>
                      <a:lnTo>
                        <a:pt x="32" y="39"/>
                      </a:lnTo>
                      <a:lnTo>
                        <a:pt x="32" y="32"/>
                      </a:lnTo>
                      <a:lnTo>
                        <a:pt x="30" y="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
                <p:cNvSpPr/>
                <p:nvPr/>
              </p:nvSpPr>
              <p:spPr>
                <a:xfrm>
                  <a:off x="2855520" y="1941480"/>
                  <a:ext cx="79200" cy="203040"/>
                </a:xfrm>
                <a:custGeom>
                  <a:avLst/>
                  <a:gdLst/>
                  <a:ahLst/>
                  <a:rect l="l" t="t" r="r" b="b"/>
                  <a:pathLst>
                    <a:path w="50" h="128">
                      <a:moveTo>
                        <a:pt x="49" y="23"/>
                      </a:moveTo>
                      <a:lnTo>
                        <a:pt x="42" y="41"/>
                      </a:lnTo>
                      <a:lnTo>
                        <a:pt x="37" y="53"/>
                      </a:lnTo>
                      <a:lnTo>
                        <a:pt x="28" y="71"/>
                      </a:lnTo>
                      <a:lnTo>
                        <a:pt x="24" y="74"/>
                      </a:lnTo>
                      <a:lnTo>
                        <a:pt x="25" y="90"/>
                      </a:lnTo>
                      <a:lnTo>
                        <a:pt x="29" y="110"/>
                      </a:lnTo>
                      <a:lnTo>
                        <a:pt x="34" y="127"/>
                      </a:lnTo>
                      <a:lnTo>
                        <a:pt x="28" y="107"/>
                      </a:lnTo>
                      <a:lnTo>
                        <a:pt x="24" y="90"/>
                      </a:lnTo>
                      <a:lnTo>
                        <a:pt x="17" y="85"/>
                      </a:lnTo>
                      <a:lnTo>
                        <a:pt x="18" y="97"/>
                      </a:lnTo>
                      <a:lnTo>
                        <a:pt x="25" y="115"/>
                      </a:lnTo>
                      <a:lnTo>
                        <a:pt x="17" y="98"/>
                      </a:lnTo>
                      <a:lnTo>
                        <a:pt x="13" y="84"/>
                      </a:lnTo>
                      <a:lnTo>
                        <a:pt x="6" y="84"/>
                      </a:lnTo>
                      <a:lnTo>
                        <a:pt x="0" y="89"/>
                      </a:lnTo>
                      <a:lnTo>
                        <a:pt x="6" y="83"/>
                      </a:lnTo>
                      <a:lnTo>
                        <a:pt x="10" y="81"/>
                      </a:lnTo>
                      <a:lnTo>
                        <a:pt x="15" y="64"/>
                      </a:lnTo>
                      <a:lnTo>
                        <a:pt x="15" y="57"/>
                      </a:lnTo>
                      <a:lnTo>
                        <a:pt x="12" y="53"/>
                      </a:lnTo>
                      <a:lnTo>
                        <a:pt x="12" y="47"/>
                      </a:lnTo>
                      <a:lnTo>
                        <a:pt x="19" y="17"/>
                      </a:lnTo>
                      <a:lnTo>
                        <a:pt x="28" y="0"/>
                      </a:lnTo>
                      <a:lnTo>
                        <a:pt x="22" y="24"/>
                      </a:lnTo>
                      <a:lnTo>
                        <a:pt x="15" y="50"/>
                      </a:lnTo>
                      <a:lnTo>
                        <a:pt x="22" y="58"/>
                      </a:lnTo>
                      <a:lnTo>
                        <a:pt x="26" y="66"/>
                      </a:lnTo>
                      <a:lnTo>
                        <a:pt x="44" y="33"/>
                      </a:lnTo>
                      <a:lnTo>
                        <a:pt x="49"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
                <p:cNvSpPr/>
                <p:nvPr/>
              </p:nvSpPr>
              <p:spPr>
                <a:xfrm>
                  <a:off x="2914560" y="2044440"/>
                  <a:ext cx="9000" cy="51120"/>
                </a:xfrm>
                <a:custGeom>
                  <a:avLst/>
                  <a:gdLst/>
                  <a:ahLst/>
                  <a:rect l="l" t="t" r="r" b="b"/>
                  <a:pathLst>
                    <a:path w="6" h="32">
                      <a:moveTo>
                        <a:pt x="0" y="0"/>
                      </a:moveTo>
                      <a:lnTo>
                        <a:pt x="2" y="7"/>
                      </a:lnTo>
                      <a:lnTo>
                        <a:pt x="2" y="21"/>
                      </a:lnTo>
                      <a:lnTo>
                        <a:pt x="5" y="27"/>
                      </a:lnTo>
                      <a:lnTo>
                        <a:pt x="2" y="31"/>
                      </a:lnTo>
                      <a:lnTo>
                        <a:pt x="1" y="15"/>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27" name=""/>
                <p:cNvSpPr/>
                <p:nvPr/>
              </p:nvSpPr>
              <p:spPr>
                <a:xfrm>
                  <a:off x="2855520" y="2087640"/>
                  <a:ext cx="50760" cy="79200"/>
                </a:xfrm>
                <a:custGeom>
                  <a:avLst/>
                  <a:gdLst/>
                  <a:ahLst/>
                  <a:rect l="l" t="t" r="r" b="b"/>
                  <a:pathLst>
                    <a:path w="32" h="50">
                      <a:moveTo>
                        <a:pt x="0" y="0"/>
                      </a:moveTo>
                      <a:lnTo>
                        <a:pt x="12" y="38"/>
                      </a:lnTo>
                      <a:lnTo>
                        <a:pt x="22" y="39"/>
                      </a:lnTo>
                      <a:lnTo>
                        <a:pt x="31" y="45"/>
                      </a:lnTo>
                      <a:lnTo>
                        <a:pt x="26" y="49"/>
                      </a:lnTo>
                      <a:lnTo>
                        <a:pt x="12" y="44"/>
                      </a:lnTo>
                      <a:lnTo>
                        <a:pt x="6" y="24"/>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28" name=""/>
                <p:cNvSpPr/>
                <p:nvPr/>
              </p:nvSpPr>
              <p:spPr>
                <a:xfrm>
                  <a:off x="2862000" y="2073240"/>
                  <a:ext cx="17280" cy="39600"/>
                </a:xfrm>
                <a:custGeom>
                  <a:avLst/>
                  <a:gdLst/>
                  <a:ahLst/>
                  <a:rect l="l" t="t" r="r" b="b"/>
                  <a:pathLst>
                    <a:path w="11" h="25">
                      <a:moveTo>
                        <a:pt x="10" y="1"/>
                      </a:moveTo>
                      <a:lnTo>
                        <a:pt x="3" y="24"/>
                      </a:lnTo>
                      <a:lnTo>
                        <a:pt x="0" y="16"/>
                      </a:lnTo>
                      <a:lnTo>
                        <a:pt x="8" y="0"/>
                      </a:lnTo>
                      <a:lnTo>
                        <a:pt x="10" y="1"/>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29" name=""/>
                <p:cNvSpPr/>
                <p:nvPr/>
              </p:nvSpPr>
              <p:spPr>
                <a:xfrm>
                  <a:off x="2884320" y="1973160"/>
                  <a:ext cx="14040" cy="38160"/>
                </a:xfrm>
                <a:custGeom>
                  <a:avLst/>
                  <a:gdLst/>
                  <a:ahLst/>
                  <a:rect l="l" t="t" r="r" b="b"/>
                  <a:pathLst>
                    <a:path w="9" h="24">
                      <a:moveTo>
                        <a:pt x="6" y="0"/>
                      </a:moveTo>
                      <a:lnTo>
                        <a:pt x="6" y="12"/>
                      </a:lnTo>
                      <a:lnTo>
                        <a:pt x="8" y="23"/>
                      </a:lnTo>
                      <a:lnTo>
                        <a:pt x="0" y="15"/>
                      </a:lnTo>
                      <a:lnTo>
                        <a:pt x="6"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30" name=""/>
                <p:cNvSpPr/>
                <p:nvPr/>
              </p:nvSpPr>
              <p:spPr>
                <a:xfrm>
                  <a:off x="2901600" y="1888920"/>
                  <a:ext cx="61560" cy="84240"/>
                </a:xfrm>
                <a:custGeom>
                  <a:avLst/>
                  <a:gdLst/>
                  <a:ahLst/>
                  <a:rect l="l" t="t" r="r" b="b"/>
                  <a:pathLst>
                    <a:path w="39" h="53">
                      <a:moveTo>
                        <a:pt x="0" y="29"/>
                      </a:moveTo>
                      <a:lnTo>
                        <a:pt x="4" y="29"/>
                      </a:lnTo>
                      <a:lnTo>
                        <a:pt x="13" y="38"/>
                      </a:lnTo>
                      <a:lnTo>
                        <a:pt x="18" y="52"/>
                      </a:lnTo>
                      <a:lnTo>
                        <a:pt x="14" y="37"/>
                      </a:lnTo>
                      <a:lnTo>
                        <a:pt x="7" y="24"/>
                      </a:lnTo>
                      <a:lnTo>
                        <a:pt x="4" y="22"/>
                      </a:lnTo>
                      <a:lnTo>
                        <a:pt x="17" y="13"/>
                      </a:lnTo>
                      <a:lnTo>
                        <a:pt x="30" y="11"/>
                      </a:lnTo>
                      <a:lnTo>
                        <a:pt x="38" y="0"/>
                      </a:lnTo>
                      <a:lnTo>
                        <a:pt x="21" y="3"/>
                      </a:lnTo>
                      <a:lnTo>
                        <a:pt x="14" y="12"/>
                      </a:lnTo>
                      <a:lnTo>
                        <a:pt x="1" y="22"/>
                      </a:lnTo>
                      <a:lnTo>
                        <a:pt x="0" y="2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31" name=""/>
                <p:cNvSpPr/>
                <p:nvPr/>
              </p:nvSpPr>
              <p:spPr>
                <a:xfrm>
                  <a:off x="2987640" y="1857240"/>
                  <a:ext cx="15480" cy="20520"/>
                </a:xfrm>
                <a:custGeom>
                  <a:avLst/>
                  <a:gdLst/>
                  <a:ahLst/>
                  <a:rect l="l" t="t" r="r" b="b"/>
                  <a:pathLst>
                    <a:path w="10" h="13">
                      <a:moveTo>
                        <a:pt x="5" y="0"/>
                      </a:moveTo>
                      <a:lnTo>
                        <a:pt x="0" y="12"/>
                      </a:lnTo>
                      <a:lnTo>
                        <a:pt x="2" y="12"/>
                      </a:lnTo>
                      <a:lnTo>
                        <a:pt x="9" y="3"/>
                      </a:lnTo>
                      <a:lnTo>
                        <a:pt x="5"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32" name=""/>
                <p:cNvSpPr/>
                <p:nvPr/>
              </p:nvSpPr>
              <p:spPr>
                <a:xfrm>
                  <a:off x="3004920" y="1908000"/>
                  <a:ext cx="114120" cy="71640"/>
                </a:xfrm>
                <a:custGeom>
                  <a:avLst/>
                  <a:gdLst/>
                  <a:ahLst/>
                  <a:rect l="l" t="t" r="r" b="b"/>
                  <a:pathLst>
                    <a:path w="72" h="45">
                      <a:moveTo>
                        <a:pt x="4" y="13"/>
                      </a:moveTo>
                      <a:lnTo>
                        <a:pt x="7" y="18"/>
                      </a:lnTo>
                      <a:lnTo>
                        <a:pt x="13" y="24"/>
                      </a:lnTo>
                      <a:lnTo>
                        <a:pt x="14" y="25"/>
                      </a:lnTo>
                      <a:lnTo>
                        <a:pt x="18" y="24"/>
                      </a:lnTo>
                      <a:lnTo>
                        <a:pt x="18" y="27"/>
                      </a:lnTo>
                      <a:lnTo>
                        <a:pt x="21" y="30"/>
                      </a:lnTo>
                      <a:lnTo>
                        <a:pt x="30" y="34"/>
                      </a:lnTo>
                      <a:lnTo>
                        <a:pt x="35" y="36"/>
                      </a:lnTo>
                      <a:lnTo>
                        <a:pt x="39" y="39"/>
                      </a:lnTo>
                      <a:lnTo>
                        <a:pt x="42" y="42"/>
                      </a:lnTo>
                      <a:lnTo>
                        <a:pt x="65" y="1"/>
                      </a:lnTo>
                      <a:lnTo>
                        <a:pt x="68" y="0"/>
                      </a:lnTo>
                      <a:lnTo>
                        <a:pt x="71" y="0"/>
                      </a:lnTo>
                      <a:lnTo>
                        <a:pt x="71" y="1"/>
                      </a:lnTo>
                      <a:lnTo>
                        <a:pt x="70" y="2"/>
                      </a:lnTo>
                      <a:lnTo>
                        <a:pt x="68" y="2"/>
                      </a:lnTo>
                      <a:lnTo>
                        <a:pt x="65" y="3"/>
                      </a:lnTo>
                      <a:lnTo>
                        <a:pt x="62" y="6"/>
                      </a:lnTo>
                      <a:lnTo>
                        <a:pt x="42" y="44"/>
                      </a:lnTo>
                      <a:lnTo>
                        <a:pt x="33" y="41"/>
                      </a:lnTo>
                      <a:lnTo>
                        <a:pt x="39" y="42"/>
                      </a:lnTo>
                      <a:lnTo>
                        <a:pt x="35" y="38"/>
                      </a:lnTo>
                      <a:lnTo>
                        <a:pt x="29" y="35"/>
                      </a:lnTo>
                      <a:lnTo>
                        <a:pt x="23" y="33"/>
                      </a:lnTo>
                      <a:lnTo>
                        <a:pt x="21" y="32"/>
                      </a:lnTo>
                      <a:lnTo>
                        <a:pt x="26" y="37"/>
                      </a:lnTo>
                      <a:lnTo>
                        <a:pt x="21" y="34"/>
                      </a:lnTo>
                      <a:lnTo>
                        <a:pt x="18" y="31"/>
                      </a:lnTo>
                      <a:lnTo>
                        <a:pt x="14" y="27"/>
                      </a:lnTo>
                      <a:lnTo>
                        <a:pt x="9" y="22"/>
                      </a:lnTo>
                      <a:lnTo>
                        <a:pt x="6" y="19"/>
                      </a:lnTo>
                      <a:lnTo>
                        <a:pt x="2" y="15"/>
                      </a:lnTo>
                      <a:lnTo>
                        <a:pt x="0" y="12"/>
                      </a:lnTo>
                      <a:lnTo>
                        <a:pt x="4"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33" name=""/>
                <p:cNvSpPr/>
                <p:nvPr/>
              </p:nvSpPr>
              <p:spPr>
                <a:xfrm>
                  <a:off x="3006360" y="1839960"/>
                  <a:ext cx="31680" cy="42840"/>
                </a:xfrm>
                <a:custGeom>
                  <a:avLst/>
                  <a:gdLst/>
                  <a:ahLst/>
                  <a:rect l="l" t="t" r="r" b="b"/>
                  <a:pathLst>
                    <a:path w="20" h="27">
                      <a:moveTo>
                        <a:pt x="0" y="25"/>
                      </a:moveTo>
                      <a:lnTo>
                        <a:pt x="13" y="4"/>
                      </a:lnTo>
                      <a:lnTo>
                        <a:pt x="16" y="2"/>
                      </a:lnTo>
                      <a:lnTo>
                        <a:pt x="18" y="0"/>
                      </a:lnTo>
                      <a:lnTo>
                        <a:pt x="19" y="1"/>
                      </a:lnTo>
                      <a:lnTo>
                        <a:pt x="17" y="2"/>
                      </a:lnTo>
                      <a:lnTo>
                        <a:pt x="14" y="5"/>
                      </a:lnTo>
                      <a:lnTo>
                        <a:pt x="0" y="26"/>
                      </a:lnTo>
                      <a:lnTo>
                        <a:pt x="0" y="25"/>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4" name=""/>
                <p:cNvSpPr/>
                <p:nvPr/>
              </p:nvSpPr>
              <p:spPr>
                <a:xfrm>
                  <a:off x="3009600" y="1881000"/>
                  <a:ext cx="80640" cy="30240"/>
                </a:xfrm>
                <a:custGeom>
                  <a:avLst/>
                  <a:gdLst/>
                  <a:ahLst/>
                  <a:rect l="l" t="t" r="r" b="b"/>
                  <a:pathLst>
                    <a:path w="51" h="19">
                      <a:moveTo>
                        <a:pt x="0" y="18"/>
                      </a:moveTo>
                      <a:lnTo>
                        <a:pt x="3" y="16"/>
                      </a:lnTo>
                      <a:lnTo>
                        <a:pt x="5" y="14"/>
                      </a:lnTo>
                      <a:lnTo>
                        <a:pt x="9" y="8"/>
                      </a:lnTo>
                      <a:lnTo>
                        <a:pt x="11" y="5"/>
                      </a:lnTo>
                      <a:lnTo>
                        <a:pt x="12" y="4"/>
                      </a:lnTo>
                      <a:lnTo>
                        <a:pt x="15" y="3"/>
                      </a:lnTo>
                      <a:lnTo>
                        <a:pt x="17" y="2"/>
                      </a:lnTo>
                      <a:lnTo>
                        <a:pt x="26" y="0"/>
                      </a:lnTo>
                      <a:lnTo>
                        <a:pt x="32" y="0"/>
                      </a:lnTo>
                      <a:lnTo>
                        <a:pt x="38" y="3"/>
                      </a:lnTo>
                      <a:lnTo>
                        <a:pt x="42" y="7"/>
                      </a:lnTo>
                      <a:lnTo>
                        <a:pt x="50" y="10"/>
                      </a:lnTo>
                      <a:lnTo>
                        <a:pt x="44" y="10"/>
                      </a:lnTo>
                      <a:lnTo>
                        <a:pt x="41" y="8"/>
                      </a:lnTo>
                      <a:lnTo>
                        <a:pt x="38" y="7"/>
                      </a:lnTo>
                      <a:lnTo>
                        <a:pt x="35" y="6"/>
                      </a:lnTo>
                      <a:lnTo>
                        <a:pt x="33" y="6"/>
                      </a:lnTo>
                      <a:lnTo>
                        <a:pt x="31" y="11"/>
                      </a:lnTo>
                      <a:lnTo>
                        <a:pt x="28" y="16"/>
                      </a:lnTo>
                      <a:lnTo>
                        <a:pt x="30" y="12"/>
                      </a:lnTo>
                      <a:lnTo>
                        <a:pt x="32" y="5"/>
                      </a:lnTo>
                      <a:lnTo>
                        <a:pt x="32" y="4"/>
                      </a:lnTo>
                      <a:lnTo>
                        <a:pt x="31" y="2"/>
                      </a:lnTo>
                      <a:lnTo>
                        <a:pt x="28" y="1"/>
                      </a:lnTo>
                      <a:lnTo>
                        <a:pt x="23" y="2"/>
                      </a:lnTo>
                      <a:lnTo>
                        <a:pt x="22" y="4"/>
                      </a:lnTo>
                      <a:lnTo>
                        <a:pt x="25" y="17"/>
                      </a:lnTo>
                      <a:lnTo>
                        <a:pt x="23" y="17"/>
                      </a:lnTo>
                      <a:lnTo>
                        <a:pt x="18" y="15"/>
                      </a:lnTo>
                      <a:lnTo>
                        <a:pt x="14" y="13"/>
                      </a:lnTo>
                      <a:lnTo>
                        <a:pt x="11" y="11"/>
                      </a:lnTo>
                      <a:lnTo>
                        <a:pt x="10" y="10"/>
                      </a:lnTo>
                      <a:lnTo>
                        <a:pt x="7" y="13"/>
                      </a:lnTo>
                      <a:lnTo>
                        <a:pt x="4" y="16"/>
                      </a:lnTo>
                      <a:lnTo>
                        <a:pt x="2" y="17"/>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35" name=""/>
                <p:cNvSpPr/>
                <p:nvPr/>
              </p:nvSpPr>
              <p:spPr>
                <a:xfrm>
                  <a:off x="3085920" y="1839960"/>
                  <a:ext cx="45720" cy="52200"/>
                </a:xfrm>
                <a:custGeom>
                  <a:avLst/>
                  <a:gdLst/>
                  <a:ahLst/>
                  <a:rect l="l" t="t" r="r" b="b"/>
                  <a:pathLst>
                    <a:path w="29" h="33">
                      <a:moveTo>
                        <a:pt x="0" y="0"/>
                      </a:moveTo>
                      <a:lnTo>
                        <a:pt x="3" y="4"/>
                      </a:lnTo>
                      <a:lnTo>
                        <a:pt x="5" y="8"/>
                      </a:lnTo>
                      <a:lnTo>
                        <a:pt x="7" y="18"/>
                      </a:lnTo>
                      <a:lnTo>
                        <a:pt x="6" y="32"/>
                      </a:lnTo>
                      <a:lnTo>
                        <a:pt x="9" y="20"/>
                      </a:lnTo>
                      <a:lnTo>
                        <a:pt x="11" y="13"/>
                      </a:lnTo>
                      <a:lnTo>
                        <a:pt x="15" y="8"/>
                      </a:lnTo>
                      <a:lnTo>
                        <a:pt x="17" y="8"/>
                      </a:lnTo>
                      <a:lnTo>
                        <a:pt x="15" y="18"/>
                      </a:lnTo>
                      <a:lnTo>
                        <a:pt x="15" y="21"/>
                      </a:lnTo>
                      <a:lnTo>
                        <a:pt x="28" y="6"/>
                      </a:lnTo>
                      <a:lnTo>
                        <a:pt x="22" y="2"/>
                      </a:lnTo>
                      <a:lnTo>
                        <a:pt x="18" y="5"/>
                      </a:lnTo>
                      <a:lnTo>
                        <a:pt x="15" y="5"/>
                      </a:lnTo>
                      <a:lnTo>
                        <a:pt x="9" y="6"/>
                      </a:lnTo>
                      <a:lnTo>
                        <a:pt x="6" y="6"/>
                      </a:lnTo>
                      <a:lnTo>
                        <a:pt x="3" y="2"/>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36" name=""/>
                <p:cNvSpPr/>
                <p:nvPr/>
              </p:nvSpPr>
              <p:spPr>
                <a:xfrm>
                  <a:off x="3041280" y="1903320"/>
                  <a:ext cx="96480" cy="270000"/>
                </a:xfrm>
                <a:custGeom>
                  <a:avLst/>
                  <a:gdLst/>
                  <a:ahLst/>
                  <a:rect l="l" t="t" r="r" b="b"/>
                  <a:pathLst>
                    <a:path w="61" h="170">
                      <a:moveTo>
                        <a:pt x="8" y="2"/>
                      </a:moveTo>
                      <a:lnTo>
                        <a:pt x="15" y="11"/>
                      </a:lnTo>
                      <a:lnTo>
                        <a:pt x="21" y="25"/>
                      </a:lnTo>
                      <a:lnTo>
                        <a:pt x="32" y="53"/>
                      </a:lnTo>
                      <a:lnTo>
                        <a:pt x="42" y="92"/>
                      </a:lnTo>
                      <a:lnTo>
                        <a:pt x="52" y="122"/>
                      </a:lnTo>
                      <a:lnTo>
                        <a:pt x="60" y="140"/>
                      </a:lnTo>
                      <a:lnTo>
                        <a:pt x="48" y="169"/>
                      </a:lnTo>
                      <a:lnTo>
                        <a:pt x="39" y="159"/>
                      </a:lnTo>
                      <a:lnTo>
                        <a:pt x="19" y="145"/>
                      </a:lnTo>
                      <a:lnTo>
                        <a:pt x="3" y="40"/>
                      </a:lnTo>
                      <a:lnTo>
                        <a:pt x="0" y="21"/>
                      </a:lnTo>
                      <a:lnTo>
                        <a:pt x="2" y="8"/>
                      </a:lnTo>
                      <a:lnTo>
                        <a:pt x="3" y="4"/>
                      </a:lnTo>
                      <a:lnTo>
                        <a:pt x="3" y="0"/>
                      </a:lnTo>
                      <a:lnTo>
                        <a:pt x="5" y="4"/>
                      </a:lnTo>
                      <a:lnTo>
                        <a:pt x="4" y="10"/>
                      </a:lnTo>
                      <a:lnTo>
                        <a:pt x="5" y="22"/>
                      </a:lnTo>
                      <a:lnTo>
                        <a:pt x="6" y="34"/>
                      </a:lnTo>
                      <a:lnTo>
                        <a:pt x="9" y="52"/>
                      </a:lnTo>
                      <a:lnTo>
                        <a:pt x="21" y="108"/>
                      </a:lnTo>
                      <a:lnTo>
                        <a:pt x="25" y="142"/>
                      </a:lnTo>
                      <a:lnTo>
                        <a:pt x="26" y="146"/>
                      </a:lnTo>
                      <a:lnTo>
                        <a:pt x="38" y="156"/>
                      </a:lnTo>
                      <a:lnTo>
                        <a:pt x="47" y="164"/>
                      </a:lnTo>
                      <a:lnTo>
                        <a:pt x="54" y="147"/>
                      </a:lnTo>
                      <a:lnTo>
                        <a:pt x="57" y="140"/>
                      </a:lnTo>
                      <a:lnTo>
                        <a:pt x="48" y="117"/>
                      </a:lnTo>
                      <a:lnTo>
                        <a:pt x="41" y="95"/>
                      </a:lnTo>
                      <a:lnTo>
                        <a:pt x="32" y="64"/>
                      </a:lnTo>
                      <a:lnTo>
                        <a:pt x="25" y="41"/>
                      </a:lnTo>
                      <a:lnTo>
                        <a:pt x="18" y="18"/>
                      </a:lnTo>
                      <a:lnTo>
                        <a:pt x="12" y="9"/>
                      </a:lnTo>
                      <a:lnTo>
                        <a:pt x="8"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7" name=""/>
                <p:cNvSpPr/>
                <p:nvPr/>
              </p:nvSpPr>
              <p:spPr>
                <a:xfrm>
                  <a:off x="3016080" y="1989000"/>
                  <a:ext cx="259920" cy="214200"/>
                </a:xfrm>
                <a:custGeom>
                  <a:avLst/>
                  <a:gdLst/>
                  <a:ahLst/>
                  <a:rect l="l" t="t" r="r" b="b"/>
                  <a:pathLst>
                    <a:path w="164" h="135">
                      <a:moveTo>
                        <a:pt x="68" y="69"/>
                      </a:moveTo>
                      <a:lnTo>
                        <a:pt x="87" y="76"/>
                      </a:lnTo>
                      <a:lnTo>
                        <a:pt x="105" y="86"/>
                      </a:lnTo>
                      <a:lnTo>
                        <a:pt x="117" y="89"/>
                      </a:lnTo>
                      <a:lnTo>
                        <a:pt x="126" y="98"/>
                      </a:lnTo>
                      <a:lnTo>
                        <a:pt x="139" y="103"/>
                      </a:lnTo>
                      <a:lnTo>
                        <a:pt x="138" y="97"/>
                      </a:lnTo>
                      <a:lnTo>
                        <a:pt x="127" y="86"/>
                      </a:lnTo>
                      <a:lnTo>
                        <a:pt x="113" y="76"/>
                      </a:lnTo>
                      <a:lnTo>
                        <a:pt x="134" y="86"/>
                      </a:lnTo>
                      <a:lnTo>
                        <a:pt x="137" y="65"/>
                      </a:lnTo>
                      <a:lnTo>
                        <a:pt x="131" y="66"/>
                      </a:lnTo>
                      <a:lnTo>
                        <a:pt x="126" y="65"/>
                      </a:lnTo>
                      <a:lnTo>
                        <a:pt x="119" y="61"/>
                      </a:lnTo>
                      <a:lnTo>
                        <a:pt x="125" y="60"/>
                      </a:lnTo>
                      <a:lnTo>
                        <a:pt x="131" y="55"/>
                      </a:lnTo>
                      <a:lnTo>
                        <a:pt x="134" y="49"/>
                      </a:lnTo>
                      <a:lnTo>
                        <a:pt x="137" y="36"/>
                      </a:lnTo>
                      <a:lnTo>
                        <a:pt x="138" y="19"/>
                      </a:lnTo>
                      <a:lnTo>
                        <a:pt x="135" y="0"/>
                      </a:lnTo>
                      <a:lnTo>
                        <a:pt x="148" y="12"/>
                      </a:lnTo>
                      <a:lnTo>
                        <a:pt x="153" y="22"/>
                      </a:lnTo>
                      <a:lnTo>
                        <a:pt x="152" y="23"/>
                      </a:lnTo>
                      <a:lnTo>
                        <a:pt x="144" y="17"/>
                      </a:lnTo>
                      <a:lnTo>
                        <a:pt x="145" y="39"/>
                      </a:lnTo>
                      <a:lnTo>
                        <a:pt x="156" y="60"/>
                      </a:lnTo>
                      <a:lnTo>
                        <a:pt x="159" y="73"/>
                      </a:lnTo>
                      <a:lnTo>
                        <a:pt x="155" y="78"/>
                      </a:lnTo>
                      <a:lnTo>
                        <a:pt x="155" y="86"/>
                      </a:lnTo>
                      <a:lnTo>
                        <a:pt x="163" y="97"/>
                      </a:lnTo>
                      <a:lnTo>
                        <a:pt x="163" y="101"/>
                      </a:lnTo>
                      <a:lnTo>
                        <a:pt x="160" y="105"/>
                      </a:lnTo>
                      <a:lnTo>
                        <a:pt x="145" y="115"/>
                      </a:lnTo>
                      <a:lnTo>
                        <a:pt x="137" y="122"/>
                      </a:lnTo>
                      <a:lnTo>
                        <a:pt x="125" y="134"/>
                      </a:lnTo>
                      <a:lnTo>
                        <a:pt x="108" y="134"/>
                      </a:lnTo>
                      <a:lnTo>
                        <a:pt x="104" y="132"/>
                      </a:lnTo>
                      <a:lnTo>
                        <a:pt x="98" y="131"/>
                      </a:lnTo>
                      <a:lnTo>
                        <a:pt x="94" y="134"/>
                      </a:lnTo>
                      <a:lnTo>
                        <a:pt x="0" y="134"/>
                      </a:lnTo>
                      <a:lnTo>
                        <a:pt x="11" y="126"/>
                      </a:lnTo>
                      <a:lnTo>
                        <a:pt x="24" y="120"/>
                      </a:lnTo>
                      <a:lnTo>
                        <a:pt x="38" y="114"/>
                      </a:lnTo>
                      <a:lnTo>
                        <a:pt x="53" y="109"/>
                      </a:lnTo>
                      <a:lnTo>
                        <a:pt x="59" y="108"/>
                      </a:lnTo>
                      <a:lnTo>
                        <a:pt x="62" y="112"/>
                      </a:lnTo>
                      <a:lnTo>
                        <a:pt x="60" y="121"/>
                      </a:lnTo>
                      <a:lnTo>
                        <a:pt x="63" y="124"/>
                      </a:lnTo>
                      <a:lnTo>
                        <a:pt x="84" y="122"/>
                      </a:lnTo>
                      <a:lnTo>
                        <a:pt x="85" y="120"/>
                      </a:lnTo>
                      <a:lnTo>
                        <a:pt x="84" y="118"/>
                      </a:lnTo>
                      <a:lnTo>
                        <a:pt x="68" y="120"/>
                      </a:lnTo>
                      <a:lnTo>
                        <a:pt x="66" y="118"/>
                      </a:lnTo>
                      <a:lnTo>
                        <a:pt x="65" y="112"/>
                      </a:lnTo>
                      <a:lnTo>
                        <a:pt x="70" y="108"/>
                      </a:lnTo>
                      <a:lnTo>
                        <a:pt x="72" y="111"/>
                      </a:lnTo>
                      <a:lnTo>
                        <a:pt x="74" y="115"/>
                      </a:lnTo>
                      <a:lnTo>
                        <a:pt x="79" y="115"/>
                      </a:lnTo>
                      <a:lnTo>
                        <a:pt x="81" y="110"/>
                      </a:lnTo>
                      <a:lnTo>
                        <a:pt x="74" y="107"/>
                      </a:lnTo>
                      <a:lnTo>
                        <a:pt x="70" y="106"/>
                      </a:lnTo>
                      <a:lnTo>
                        <a:pt x="83" y="105"/>
                      </a:lnTo>
                      <a:lnTo>
                        <a:pt x="103" y="105"/>
                      </a:lnTo>
                      <a:lnTo>
                        <a:pt x="113" y="105"/>
                      </a:lnTo>
                      <a:lnTo>
                        <a:pt x="102" y="101"/>
                      </a:lnTo>
                      <a:lnTo>
                        <a:pt x="96" y="95"/>
                      </a:lnTo>
                      <a:lnTo>
                        <a:pt x="104" y="97"/>
                      </a:lnTo>
                      <a:lnTo>
                        <a:pt x="123" y="105"/>
                      </a:lnTo>
                      <a:lnTo>
                        <a:pt x="133" y="107"/>
                      </a:lnTo>
                      <a:lnTo>
                        <a:pt x="111" y="90"/>
                      </a:lnTo>
                      <a:lnTo>
                        <a:pt x="91" y="80"/>
                      </a:lnTo>
                      <a:lnTo>
                        <a:pt x="78" y="77"/>
                      </a:lnTo>
                      <a:lnTo>
                        <a:pt x="74" y="72"/>
                      </a:lnTo>
                      <a:lnTo>
                        <a:pt x="68"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
                <p:cNvSpPr/>
                <p:nvPr/>
              </p:nvSpPr>
              <p:spPr>
                <a:xfrm>
                  <a:off x="3141360" y="1841400"/>
                  <a:ext cx="52200" cy="25560"/>
                </a:xfrm>
                <a:custGeom>
                  <a:avLst/>
                  <a:gdLst/>
                  <a:ahLst/>
                  <a:rect l="l" t="t" r="r" b="b"/>
                  <a:pathLst>
                    <a:path w="33" h="16">
                      <a:moveTo>
                        <a:pt x="0" y="5"/>
                      </a:moveTo>
                      <a:lnTo>
                        <a:pt x="0" y="15"/>
                      </a:lnTo>
                      <a:lnTo>
                        <a:pt x="17" y="3"/>
                      </a:lnTo>
                      <a:lnTo>
                        <a:pt x="19" y="5"/>
                      </a:lnTo>
                      <a:lnTo>
                        <a:pt x="25" y="6"/>
                      </a:lnTo>
                      <a:lnTo>
                        <a:pt x="32" y="1"/>
                      </a:lnTo>
                      <a:lnTo>
                        <a:pt x="25" y="4"/>
                      </a:lnTo>
                      <a:lnTo>
                        <a:pt x="20" y="3"/>
                      </a:lnTo>
                      <a:lnTo>
                        <a:pt x="17" y="0"/>
                      </a:lnTo>
                      <a:lnTo>
                        <a:pt x="10" y="5"/>
                      </a:lnTo>
                      <a:lnTo>
                        <a:pt x="0" y="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39" name=""/>
                <p:cNvSpPr/>
                <p:nvPr/>
              </p:nvSpPr>
              <p:spPr>
                <a:xfrm>
                  <a:off x="3206520" y="1849320"/>
                  <a:ext cx="82080" cy="125280"/>
                </a:xfrm>
                <a:custGeom>
                  <a:avLst/>
                  <a:gdLst/>
                  <a:ahLst/>
                  <a:rect l="l" t="t" r="r" b="b"/>
                  <a:pathLst>
                    <a:path w="52" h="79">
                      <a:moveTo>
                        <a:pt x="0" y="0"/>
                      </a:moveTo>
                      <a:lnTo>
                        <a:pt x="21" y="27"/>
                      </a:lnTo>
                      <a:lnTo>
                        <a:pt x="31" y="31"/>
                      </a:lnTo>
                      <a:lnTo>
                        <a:pt x="32" y="49"/>
                      </a:lnTo>
                      <a:lnTo>
                        <a:pt x="38" y="59"/>
                      </a:lnTo>
                      <a:lnTo>
                        <a:pt x="38" y="78"/>
                      </a:lnTo>
                      <a:lnTo>
                        <a:pt x="40" y="75"/>
                      </a:lnTo>
                      <a:lnTo>
                        <a:pt x="40" y="48"/>
                      </a:lnTo>
                      <a:lnTo>
                        <a:pt x="48" y="53"/>
                      </a:lnTo>
                      <a:lnTo>
                        <a:pt x="50" y="62"/>
                      </a:lnTo>
                      <a:lnTo>
                        <a:pt x="51" y="54"/>
                      </a:lnTo>
                      <a:lnTo>
                        <a:pt x="46" y="42"/>
                      </a:lnTo>
                      <a:lnTo>
                        <a:pt x="27" y="22"/>
                      </a:lnTo>
                      <a:lnTo>
                        <a:pt x="19" y="2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a:off x="3165120" y="1900080"/>
                  <a:ext cx="44280" cy="63720"/>
                </a:xfrm>
                <a:custGeom>
                  <a:avLst/>
                  <a:gdLst/>
                  <a:ahLst/>
                  <a:rect l="l" t="t" r="r" b="b"/>
                  <a:pathLst>
                    <a:path w="28" h="40">
                      <a:moveTo>
                        <a:pt x="0" y="18"/>
                      </a:moveTo>
                      <a:lnTo>
                        <a:pt x="5" y="8"/>
                      </a:lnTo>
                      <a:lnTo>
                        <a:pt x="11" y="7"/>
                      </a:lnTo>
                      <a:lnTo>
                        <a:pt x="17" y="9"/>
                      </a:lnTo>
                      <a:lnTo>
                        <a:pt x="18" y="0"/>
                      </a:lnTo>
                      <a:lnTo>
                        <a:pt x="27" y="39"/>
                      </a:lnTo>
                      <a:lnTo>
                        <a:pt x="17" y="19"/>
                      </a:lnTo>
                      <a:lnTo>
                        <a:pt x="13" y="16"/>
                      </a:lnTo>
                      <a:lnTo>
                        <a:pt x="7" y="15"/>
                      </a:lnTo>
                      <a:lnTo>
                        <a:pt x="0"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41" name=""/>
                <p:cNvSpPr/>
                <p:nvPr/>
              </p:nvSpPr>
              <p:spPr>
                <a:xfrm>
                  <a:off x="3265200" y="1942920"/>
                  <a:ext cx="83880" cy="136440"/>
                </a:xfrm>
                <a:custGeom>
                  <a:avLst/>
                  <a:gdLst/>
                  <a:ahLst/>
                  <a:rect l="l" t="t" r="r" b="b"/>
                  <a:pathLst>
                    <a:path w="53" h="86">
                      <a:moveTo>
                        <a:pt x="19" y="0"/>
                      </a:moveTo>
                      <a:lnTo>
                        <a:pt x="18" y="8"/>
                      </a:lnTo>
                      <a:lnTo>
                        <a:pt x="12" y="18"/>
                      </a:lnTo>
                      <a:lnTo>
                        <a:pt x="6" y="28"/>
                      </a:lnTo>
                      <a:lnTo>
                        <a:pt x="3" y="37"/>
                      </a:lnTo>
                      <a:lnTo>
                        <a:pt x="3" y="42"/>
                      </a:lnTo>
                      <a:lnTo>
                        <a:pt x="5" y="48"/>
                      </a:lnTo>
                      <a:lnTo>
                        <a:pt x="7" y="53"/>
                      </a:lnTo>
                      <a:lnTo>
                        <a:pt x="0" y="53"/>
                      </a:lnTo>
                      <a:lnTo>
                        <a:pt x="10" y="56"/>
                      </a:lnTo>
                      <a:lnTo>
                        <a:pt x="12" y="64"/>
                      </a:lnTo>
                      <a:lnTo>
                        <a:pt x="23" y="64"/>
                      </a:lnTo>
                      <a:lnTo>
                        <a:pt x="36" y="85"/>
                      </a:lnTo>
                      <a:lnTo>
                        <a:pt x="39" y="79"/>
                      </a:lnTo>
                      <a:lnTo>
                        <a:pt x="39" y="70"/>
                      </a:lnTo>
                      <a:lnTo>
                        <a:pt x="47" y="57"/>
                      </a:lnTo>
                      <a:lnTo>
                        <a:pt x="52" y="34"/>
                      </a:lnTo>
                      <a:lnTo>
                        <a:pt x="45" y="56"/>
                      </a:lnTo>
                      <a:lnTo>
                        <a:pt x="41" y="54"/>
                      </a:lnTo>
                      <a:lnTo>
                        <a:pt x="43" y="49"/>
                      </a:lnTo>
                      <a:lnTo>
                        <a:pt x="15" y="61"/>
                      </a:lnTo>
                      <a:lnTo>
                        <a:pt x="15" y="56"/>
                      </a:lnTo>
                      <a:lnTo>
                        <a:pt x="10" y="52"/>
                      </a:lnTo>
                      <a:lnTo>
                        <a:pt x="24" y="38"/>
                      </a:lnTo>
                      <a:lnTo>
                        <a:pt x="13" y="45"/>
                      </a:lnTo>
                      <a:lnTo>
                        <a:pt x="11" y="38"/>
                      </a:lnTo>
                      <a:lnTo>
                        <a:pt x="11" y="31"/>
                      </a:lnTo>
                      <a:lnTo>
                        <a:pt x="14" y="25"/>
                      </a:lnTo>
                      <a:lnTo>
                        <a:pt x="25" y="13"/>
                      </a:lnTo>
                      <a:lnTo>
                        <a:pt x="26" y="8"/>
                      </a:lnTo>
                      <a:lnTo>
                        <a:pt x="25" y="5"/>
                      </a:lnTo>
                      <a:lnTo>
                        <a:pt x="21" y="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
                <p:cNvSpPr/>
                <p:nvPr/>
              </p:nvSpPr>
              <p:spPr>
                <a:xfrm>
                  <a:off x="3281040" y="2082600"/>
                  <a:ext cx="90360" cy="60480"/>
                </a:xfrm>
                <a:custGeom>
                  <a:avLst/>
                  <a:gdLst/>
                  <a:ahLst/>
                  <a:rect l="l" t="t" r="r" b="b"/>
                  <a:pathLst>
                    <a:path w="57" h="38">
                      <a:moveTo>
                        <a:pt x="0" y="37"/>
                      </a:moveTo>
                      <a:lnTo>
                        <a:pt x="6" y="25"/>
                      </a:lnTo>
                      <a:lnTo>
                        <a:pt x="35" y="12"/>
                      </a:lnTo>
                      <a:lnTo>
                        <a:pt x="48" y="12"/>
                      </a:lnTo>
                      <a:lnTo>
                        <a:pt x="56" y="9"/>
                      </a:lnTo>
                      <a:lnTo>
                        <a:pt x="39" y="9"/>
                      </a:lnTo>
                      <a:lnTo>
                        <a:pt x="29" y="11"/>
                      </a:lnTo>
                      <a:lnTo>
                        <a:pt x="24" y="9"/>
                      </a:lnTo>
                      <a:lnTo>
                        <a:pt x="25" y="0"/>
                      </a:lnTo>
                      <a:lnTo>
                        <a:pt x="19" y="1"/>
                      </a:lnTo>
                      <a:lnTo>
                        <a:pt x="19" y="11"/>
                      </a:lnTo>
                      <a:lnTo>
                        <a:pt x="14" y="17"/>
                      </a:lnTo>
                      <a:lnTo>
                        <a:pt x="7" y="18"/>
                      </a:lnTo>
                      <a:lnTo>
                        <a:pt x="0" y="28"/>
                      </a:lnTo>
                      <a:lnTo>
                        <a:pt x="0"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43" name=""/>
                <p:cNvSpPr/>
                <p:nvPr/>
              </p:nvSpPr>
              <p:spPr>
                <a:xfrm>
                  <a:off x="3287520" y="2246400"/>
                  <a:ext cx="139320" cy="52200"/>
                </a:xfrm>
                <a:custGeom>
                  <a:avLst/>
                  <a:gdLst/>
                  <a:ahLst/>
                  <a:rect l="l" t="t" r="r" b="b"/>
                  <a:pathLst>
                    <a:path w="88" h="33">
                      <a:moveTo>
                        <a:pt x="87" y="13"/>
                      </a:moveTo>
                      <a:lnTo>
                        <a:pt x="61" y="20"/>
                      </a:lnTo>
                      <a:lnTo>
                        <a:pt x="46" y="32"/>
                      </a:lnTo>
                      <a:lnTo>
                        <a:pt x="44" y="26"/>
                      </a:lnTo>
                      <a:lnTo>
                        <a:pt x="66" y="13"/>
                      </a:lnTo>
                      <a:lnTo>
                        <a:pt x="63" y="10"/>
                      </a:lnTo>
                      <a:lnTo>
                        <a:pt x="51" y="11"/>
                      </a:lnTo>
                      <a:lnTo>
                        <a:pt x="36" y="16"/>
                      </a:lnTo>
                      <a:lnTo>
                        <a:pt x="37" y="8"/>
                      </a:lnTo>
                      <a:lnTo>
                        <a:pt x="22" y="7"/>
                      </a:lnTo>
                      <a:lnTo>
                        <a:pt x="14" y="4"/>
                      </a:lnTo>
                      <a:lnTo>
                        <a:pt x="5" y="1"/>
                      </a:lnTo>
                      <a:lnTo>
                        <a:pt x="0" y="4"/>
                      </a:lnTo>
                      <a:lnTo>
                        <a:pt x="6" y="0"/>
                      </a:lnTo>
                      <a:lnTo>
                        <a:pt x="18" y="3"/>
                      </a:lnTo>
                      <a:lnTo>
                        <a:pt x="30" y="5"/>
                      </a:lnTo>
                      <a:lnTo>
                        <a:pt x="39" y="5"/>
                      </a:lnTo>
                      <a:lnTo>
                        <a:pt x="48" y="4"/>
                      </a:lnTo>
                      <a:lnTo>
                        <a:pt x="54" y="8"/>
                      </a:lnTo>
                      <a:lnTo>
                        <a:pt x="75" y="7"/>
                      </a:lnTo>
                      <a:lnTo>
                        <a:pt x="85" y="11"/>
                      </a:lnTo>
                      <a:lnTo>
                        <a:pt x="87" y="13"/>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44" name=""/>
                <p:cNvSpPr/>
                <p:nvPr/>
              </p:nvSpPr>
              <p:spPr>
                <a:xfrm>
                  <a:off x="3125520" y="2195280"/>
                  <a:ext cx="201240" cy="142920"/>
                </a:xfrm>
                <a:custGeom>
                  <a:avLst/>
                  <a:gdLst/>
                  <a:ahLst/>
                  <a:rect l="l" t="t" r="r" b="b"/>
                  <a:pathLst>
                    <a:path w="127" h="90">
                      <a:moveTo>
                        <a:pt x="93" y="48"/>
                      </a:moveTo>
                      <a:lnTo>
                        <a:pt x="90" y="60"/>
                      </a:lnTo>
                      <a:lnTo>
                        <a:pt x="90" y="69"/>
                      </a:lnTo>
                      <a:lnTo>
                        <a:pt x="93" y="75"/>
                      </a:lnTo>
                      <a:lnTo>
                        <a:pt x="94" y="80"/>
                      </a:lnTo>
                      <a:lnTo>
                        <a:pt x="126" y="89"/>
                      </a:lnTo>
                      <a:lnTo>
                        <a:pt x="93" y="84"/>
                      </a:lnTo>
                      <a:lnTo>
                        <a:pt x="90" y="80"/>
                      </a:lnTo>
                      <a:lnTo>
                        <a:pt x="63" y="79"/>
                      </a:lnTo>
                      <a:lnTo>
                        <a:pt x="42" y="75"/>
                      </a:lnTo>
                      <a:lnTo>
                        <a:pt x="22" y="69"/>
                      </a:lnTo>
                      <a:lnTo>
                        <a:pt x="6" y="63"/>
                      </a:lnTo>
                      <a:lnTo>
                        <a:pt x="5" y="60"/>
                      </a:lnTo>
                      <a:lnTo>
                        <a:pt x="4" y="55"/>
                      </a:lnTo>
                      <a:lnTo>
                        <a:pt x="0" y="48"/>
                      </a:lnTo>
                      <a:lnTo>
                        <a:pt x="1" y="45"/>
                      </a:lnTo>
                      <a:lnTo>
                        <a:pt x="2" y="43"/>
                      </a:lnTo>
                      <a:lnTo>
                        <a:pt x="2" y="33"/>
                      </a:lnTo>
                      <a:lnTo>
                        <a:pt x="4" y="30"/>
                      </a:lnTo>
                      <a:lnTo>
                        <a:pt x="5" y="28"/>
                      </a:lnTo>
                      <a:lnTo>
                        <a:pt x="4" y="32"/>
                      </a:lnTo>
                      <a:lnTo>
                        <a:pt x="4" y="40"/>
                      </a:lnTo>
                      <a:lnTo>
                        <a:pt x="4" y="45"/>
                      </a:lnTo>
                      <a:lnTo>
                        <a:pt x="16" y="55"/>
                      </a:lnTo>
                      <a:lnTo>
                        <a:pt x="18" y="55"/>
                      </a:lnTo>
                      <a:lnTo>
                        <a:pt x="19" y="49"/>
                      </a:lnTo>
                      <a:lnTo>
                        <a:pt x="11" y="36"/>
                      </a:lnTo>
                      <a:lnTo>
                        <a:pt x="9" y="26"/>
                      </a:lnTo>
                      <a:lnTo>
                        <a:pt x="14" y="15"/>
                      </a:lnTo>
                      <a:lnTo>
                        <a:pt x="14" y="32"/>
                      </a:lnTo>
                      <a:lnTo>
                        <a:pt x="26" y="57"/>
                      </a:lnTo>
                      <a:lnTo>
                        <a:pt x="31" y="59"/>
                      </a:lnTo>
                      <a:lnTo>
                        <a:pt x="35" y="56"/>
                      </a:lnTo>
                      <a:lnTo>
                        <a:pt x="34" y="50"/>
                      </a:lnTo>
                      <a:lnTo>
                        <a:pt x="23" y="21"/>
                      </a:lnTo>
                      <a:lnTo>
                        <a:pt x="23" y="12"/>
                      </a:lnTo>
                      <a:lnTo>
                        <a:pt x="23" y="5"/>
                      </a:lnTo>
                      <a:lnTo>
                        <a:pt x="26" y="0"/>
                      </a:lnTo>
                      <a:lnTo>
                        <a:pt x="24" y="10"/>
                      </a:lnTo>
                      <a:lnTo>
                        <a:pt x="25" y="20"/>
                      </a:lnTo>
                      <a:lnTo>
                        <a:pt x="32" y="39"/>
                      </a:lnTo>
                      <a:lnTo>
                        <a:pt x="35" y="41"/>
                      </a:lnTo>
                      <a:lnTo>
                        <a:pt x="39" y="37"/>
                      </a:lnTo>
                      <a:lnTo>
                        <a:pt x="40" y="34"/>
                      </a:lnTo>
                      <a:lnTo>
                        <a:pt x="39" y="27"/>
                      </a:lnTo>
                      <a:lnTo>
                        <a:pt x="38" y="16"/>
                      </a:lnTo>
                      <a:lnTo>
                        <a:pt x="40" y="16"/>
                      </a:lnTo>
                      <a:lnTo>
                        <a:pt x="42" y="33"/>
                      </a:lnTo>
                      <a:lnTo>
                        <a:pt x="41" y="38"/>
                      </a:lnTo>
                      <a:lnTo>
                        <a:pt x="39" y="41"/>
                      </a:lnTo>
                      <a:lnTo>
                        <a:pt x="36" y="45"/>
                      </a:lnTo>
                      <a:lnTo>
                        <a:pt x="37" y="54"/>
                      </a:lnTo>
                      <a:lnTo>
                        <a:pt x="36" y="60"/>
                      </a:lnTo>
                      <a:lnTo>
                        <a:pt x="33" y="62"/>
                      </a:lnTo>
                      <a:lnTo>
                        <a:pt x="28" y="61"/>
                      </a:lnTo>
                      <a:lnTo>
                        <a:pt x="22" y="58"/>
                      </a:lnTo>
                      <a:lnTo>
                        <a:pt x="18" y="59"/>
                      </a:lnTo>
                      <a:lnTo>
                        <a:pt x="6" y="53"/>
                      </a:lnTo>
                      <a:lnTo>
                        <a:pt x="5" y="59"/>
                      </a:lnTo>
                      <a:lnTo>
                        <a:pt x="10" y="64"/>
                      </a:lnTo>
                      <a:lnTo>
                        <a:pt x="36" y="71"/>
                      </a:lnTo>
                      <a:lnTo>
                        <a:pt x="57" y="76"/>
                      </a:lnTo>
                      <a:lnTo>
                        <a:pt x="75" y="77"/>
                      </a:lnTo>
                      <a:lnTo>
                        <a:pt x="89" y="77"/>
                      </a:lnTo>
                      <a:lnTo>
                        <a:pt x="88" y="69"/>
                      </a:lnTo>
                      <a:lnTo>
                        <a:pt x="89" y="60"/>
                      </a:lnTo>
                      <a:lnTo>
                        <a:pt x="91" y="53"/>
                      </a:lnTo>
                      <a:lnTo>
                        <a:pt x="93"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a:off x="3184200" y="2195280"/>
                  <a:ext cx="98280" cy="65160"/>
                </a:xfrm>
                <a:custGeom>
                  <a:avLst/>
                  <a:gdLst/>
                  <a:ahLst/>
                  <a:rect l="l" t="t" r="r" b="b"/>
                  <a:pathLst>
                    <a:path w="62" h="41">
                      <a:moveTo>
                        <a:pt x="0" y="2"/>
                      </a:moveTo>
                      <a:lnTo>
                        <a:pt x="4" y="7"/>
                      </a:lnTo>
                      <a:lnTo>
                        <a:pt x="7" y="15"/>
                      </a:lnTo>
                      <a:lnTo>
                        <a:pt x="3" y="15"/>
                      </a:lnTo>
                      <a:lnTo>
                        <a:pt x="3" y="17"/>
                      </a:lnTo>
                      <a:lnTo>
                        <a:pt x="12" y="17"/>
                      </a:lnTo>
                      <a:lnTo>
                        <a:pt x="23" y="18"/>
                      </a:lnTo>
                      <a:lnTo>
                        <a:pt x="18" y="16"/>
                      </a:lnTo>
                      <a:lnTo>
                        <a:pt x="28" y="13"/>
                      </a:lnTo>
                      <a:lnTo>
                        <a:pt x="34" y="13"/>
                      </a:lnTo>
                      <a:lnTo>
                        <a:pt x="43" y="21"/>
                      </a:lnTo>
                      <a:lnTo>
                        <a:pt x="48" y="30"/>
                      </a:lnTo>
                      <a:lnTo>
                        <a:pt x="55" y="37"/>
                      </a:lnTo>
                      <a:lnTo>
                        <a:pt x="59" y="40"/>
                      </a:lnTo>
                      <a:lnTo>
                        <a:pt x="61" y="38"/>
                      </a:lnTo>
                      <a:lnTo>
                        <a:pt x="55" y="34"/>
                      </a:lnTo>
                      <a:lnTo>
                        <a:pt x="49" y="28"/>
                      </a:lnTo>
                      <a:lnTo>
                        <a:pt x="44" y="20"/>
                      </a:lnTo>
                      <a:lnTo>
                        <a:pt x="39" y="13"/>
                      </a:lnTo>
                      <a:lnTo>
                        <a:pt x="28" y="10"/>
                      </a:lnTo>
                      <a:lnTo>
                        <a:pt x="23" y="11"/>
                      </a:lnTo>
                      <a:lnTo>
                        <a:pt x="16" y="13"/>
                      </a:lnTo>
                      <a:lnTo>
                        <a:pt x="11" y="13"/>
                      </a:lnTo>
                      <a:lnTo>
                        <a:pt x="17" y="7"/>
                      </a:lnTo>
                      <a:lnTo>
                        <a:pt x="20" y="2"/>
                      </a:lnTo>
                      <a:lnTo>
                        <a:pt x="20" y="0"/>
                      </a:lnTo>
                      <a:lnTo>
                        <a:pt x="16" y="6"/>
                      </a:lnTo>
                      <a:lnTo>
                        <a:pt x="8" y="11"/>
                      </a:lnTo>
                      <a:lnTo>
                        <a:pt x="0"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46" name=""/>
                <p:cNvSpPr/>
                <p:nvPr/>
              </p:nvSpPr>
              <p:spPr>
                <a:xfrm>
                  <a:off x="2949480" y="1682640"/>
                  <a:ext cx="151920" cy="141480"/>
                </a:xfrm>
                <a:custGeom>
                  <a:avLst/>
                  <a:gdLst/>
                  <a:ahLst/>
                  <a:rect l="l" t="t" r="r" b="b"/>
                  <a:pathLst>
                    <a:path w="96" h="89">
                      <a:moveTo>
                        <a:pt x="49" y="23"/>
                      </a:moveTo>
                      <a:lnTo>
                        <a:pt x="54" y="16"/>
                      </a:lnTo>
                      <a:lnTo>
                        <a:pt x="60" y="13"/>
                      </a:lnTo>
                      <a:lnTo>
                        <a:pt x="66" y="13"/>
                      </a:lnTo>
                      <a:lnTo>
                        <a:pt x="74" y="17"/>
                      </a:lnTo>
                      <a:lnTo>
                        <a:pt x="79" y="23"/>
                      </a:lnTo>
                      <a:lnTo>
                        <a:pt x="80" y="31"/>
                      </a:lnTo>
                      <a:lnTo>
                        <a:pt x="81" y="38"/>
                      </a:lnTo>
                      <a:lnTo>
                        <a:pt x="81" y="46"/>
                      </a:lnTo>
                      <a:lnTo>
                        <a:pt x="80" y="54"/>
                      </a:lnTo>
                      <a:lnTo>
                        <a:pt x="82" y="61"/>
                      </a:lnTo>
                      <a:lnTo>
                        <a:pt x="84" y="53"/>
                      </a:lnTo>
                      <a:lnTo>
                        <a:pt x="89" y="49"/>
                      </a:lnTo>
                      <a:lnTo>
                        <a:pt x="93" y="52"/>
                      </a:lnTo>
                      <a:lnTo>
                        <a:pt x="94" y="61"/>
                      </a:lnTo>
                      <a:lnTo>
                        <a:pt x="94" y="69"/>
                      </a:lnTo>
                      <a:lnTo>
                        <a:pt x="89" y="75"/>
                      </a:lnTo>
                      <a:lnTo>
                        <a:pt x="87" y="77"/>
                      </a:lnTo>
                      <a:lnTo>
                        <a:pt x="83" y="81"/>
                      </a:lnTo>
                      <a:lnTo>
                        <a:pt x="88" y="79"/>
                      </a:lnTo>
                      <a:lnTo>
                        <a:pt x="94" y="70"/>
                      </a:lnTo>
                      <a:lnTo>
                        <a:pt x="95" y="60"/>
                      </a:lnTo>
                      <a:lnTo>
                        <a:pt x="94" y="49"/>
                      </a:lnTo>
                      <a:lnTo>
                        <a:pt x="89" y="47"/>
                      </a:lnTo>
                      <a:lnTo>
                        <a:pt x="89" y="41"/>
                      </a:lnTo>
                      <a:lnTo>
                        <a:pt x="85" y="23"/>
                      </a:lnTo>
                      <a:lnTo>
                        <a:pt x="79" y="12"/>
                      </a:lnTo>
                      <a:lnTo>
                        <a:pt x="70" y="4"/>
                      </a:lnTo>
                      <a:lnTo>
                        <a:pt x="61" y="1"/>
                      </a:lnTo>
                      <a:lnTo>
                        <a:pt x="45" y="0"/>
                      </a:lnTo>
                      <a:lnTo>
                        <a:pt x="28" y="1"/>
                      </a:lnTo>
                      <a:lnTo>
                        <a:pt x="15" y="9"/>
                      </a:lnTo>
                      <a:lnTo>
                        <a:pt x="6" y="18"/>
                      </a:lnTo>
                      <a:lnTo>
                        <a:pt x="2" y="29"/>
                      </a:lnTo>
                      <a:lnTo>
                        <a:pt x="1" y="40"/>
                      </a:lnTo>
                      <a:lnTo>
                        <a:pt x="2" y="56"/>
                      </a:lnTo>
                      <a:lnTo>
                        <a:pt x="0" y="61"/>
                      </a:lnTo>
                      <a:lnTo>
                        <a:pt x="2" y="72"/>
                      </a:lnTo>
                      <a:lnTo>
                        <a:pt x="6" y="80"/>
                      </a:lnTo>
                      <a:lnTo>
                        <a:pt x="14" y="86"/>
                      </a:lnTo>
                      <a:lnTo>
                        <a:pt x="18" y="86"/>
                      </a:lnTo>
                      <a:lnTo>
                        <a:pt x="20" y="88"/>
                      </a:lnTo>
                      <a:lnTo>
                        <a:pt x="19" y="82"/>
                      </a:lnTo>
                      <a:lnTo>
                        <a:pt x="15" y="85"/>
                      </a:lnTo>
                      <a:lnTo>
                        <a:pt x="7" y="79"/>
                      </a:lnTo>
                      <a:lnTo>
                        <a:pt x="3" y="70"/>
                      </a:lnTo>
                      <a:lnTo>
                        <a:pt x="2" y="62"/>
                      </a:lnTo>
                      <a:lnTo>
                        <a:pt x="4" y="60"/>
                      </a:lnTo>
                      <a:lnTo>
                        <a:pt x="8" y="61"/>
                      </a:lnTo>
                      <a:lnTo>
                        <a:pt x="15" y="67"/>
                      </a:lnTo>
                      <a:lnTo>
                        <a:pt x="13" y="60"/>
                      </a:lnTo>
                      <a:lnTo>
                        <a:pt x="11" y="55"/>
                      </a:lnTo>
                      <a:lnTo>
                        <a:pt x="9" y="47"/>
                      </a:lnTo>
                      <a:lnTo>
                        <a:pt x="7" y="39"/>
                      </a:lnTo>
                      <a:lnTo>
                        <a:pt x="7" y="33"/>
                      </a:lnTo>
                      <a:lnTo>
                        <a:pt x="9" y="27"/>
                      </a:lnTo>
                      <a:lnTo>
                        <a:pt x="12" y="23"/>
                      </a:lnTo>
                      <a:lnTo>
                        <a:pt x="16" y="20"/>
                      </a:lnTo>
                      <a:lnTo>
                        <a:pt x="20" y="19"/>
                      </a:lnTo>
                      <a:lnTo>
                        <a:pt x="25" y="20"/>
                      </a:lnTo>
                      <a:lnTo>
                        <a:pt x="30" y="22"/>
                      </a:lnTo>
                      <a:lnTo>
                        <a:pt x="34" y="25"/>
                      </a:lnTo>
                      <a:lnTo>
                        <a:pt x="38" y="26"/>
                      </a:lnTo>
                      <a:lnTo>
                        <a:pt x="43" y="26"/>
                      </a:lnTo>
                      <a:lnTo>
                        <a:pt x="47" y="24"/>
                      </a:lnTo>
                      <a:lnTo>
                        <a:pt x="49"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
                <p:cNvSpPr/>
                <p:nvPr/>
              </p:nvSpPr>
              <p:spPr>
                <a:xfrm>
                  <a:off x="2982600" y="1780920"/>
                  <a:ext cx="50400" cy="12960"/>
                </a:xfrm>
                <a:custGeom>
                  <a:avLst/>
                  <a:gdLst/>
                  <a:ahLst/>
                  <a:rect l="l" t="t" r="r" b="b"/>
                  <a:pathLst>
                    <a:path w="32" h="8">
                      <a:moveTo>
                        <a:pt x="0" y="3"/>
                      </a:moveTo>
                      <a:lnTo>
                        <a:pt x="5" y="2"/>
                      </a:lnTo>
                      <a:lnTo>
                        <a:pt x="11" y="1"/>
                      </a:lnTo>
                      <a:lnTo>
                        <a:pt x="20" y="1"/>
                      </a:lnTo>
                      <a:lnTo>
                        <a:pt x="25" y="1"/>
                      </a:lnTo>
                      <a:lnTo>
                        <a:pt x="31" y="0"/>
                      </a:lnTo>
                      <a:lnTo>
                        <a:pt x="29" y="4"/>
                      </a:lnTo>
                      <a:lnTo>
                        <a:pt x="22" y="4"/>
                      </a:lnTo>
                      <a:lnTo>
                        <a:pt x="22" y="7"/>
                      </a:lnTo>
                      <a:lnTo>
                        <a:pt x="19" y="4"/>
                      </a:lnTo>
                      <a:lnTo>
                        <a:pt x="15" y="4"/>
                      </a:lnTo>
                      <a:lnTo>
                        <a:pt x="9" y="5"/>
                      </a:lnTo>
                      <a:lnTo>
                        <a:pt x="15" y="2"/>
                      </a:lnTo>
                      <a:lnTo>
                        <a:pt x="10" y="2"/>
                      </a:lnTo>
                      <a:lnTo>
                        <a:pt x="4" y="3"/>
                      </a:lnTo>
                      <a:lnTo>
                        <a:pt x="0" y="3"/>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8" name=""/>
                <p:cNvSpPr/>
                <p:nvPr/>
              </p:nvSpPr>
              <p:spPr>
                <a:xfrm>
                  <a:off x="2979360" y="1784160"/>
                  <a:ext cx="39600" cy="20880"/>
                </a:xfrm>
                <a:custGeom>
                  <a:avLst/>
                  <a:gdLst/>
                  <a:ahLst/>
                  <a:rect l="l" t="t" r="r" b="b"/>
                  <a:pathLst>
                    <a:path w="25" h="13">
                      <a:moveTo>
                        <a:pt x="0" y="2"/>
                      </a:moveTo>
                      <a:lnTo>
                        <a:pt x="2" y="4"/>
                      </a:lnTo>
                      <a:lnTo>
                        <a:pt x="7" y="6"/>
                      </a:lnTo>
                      <a:lnTo>
                        <a:pt x="11" y="8"/>
                      </a:lnTo>
                      <a:lnTo>
                        <a:pt x="9" y="10"/>
                      </a:lnTo>
                      <a:lnTo>
                        <a:pt x="13" y="12"/>
                      </a:lnTo>
                      <a:lnTo>
                        <a:pt x="18" y="11"/>
                      </a:lnTo>
                      <a:lnTo>
                        <a:pt x="21" y="9"/>
                      </a:lnTo>
                      <a:lnTo>
                        <a:pt x="17" y="8"/>
                      </a:lnTo>
                      <a:lnTo>
                        <a:pt x="24" y="5"/>
                      </a:lnTo>
                      <a:lnTo>
                        <a:pt x="23" y="3"/>
                      </a:lnTo>
                      <a:lnTo>
                        <a:pt x="17" y="7"/>
                      </a:lnTo>
                      <a:lnTo>
                        <a:pt x="13" y="8"/>
                      </a:lnTo>
                      <a:lnTo>
                        <a:pt x="9" y="6"/>
                      </a:lnTo>
                      <a:lnTo>
                        <a:pt x="8" y="4"/>
                      </a:lnTo>
                      <a:lnTo>
                        <a:pt x="12" y="3"/>
                      </a:lnTo>
                      <a:lnTo>
                        <a:pt x="8" y="3"/>
                      </a:lnTo>
                      <a:lnTo>
                        <a:pt x="6" y="0"/>
                      </a:lnTo>
                      <a:lnTo>
                        <a:pt x="0" y="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49" name=""/>
                <p:cNvSpPr/>
                <p:nvPr/>
              </p:nvSpPr>
              <p:spPr>
                <a:xfrm>
                  <a:off x="3033360" y="1770120"/>
                  <a:ext cx="39600" cy="12600"/>
                </a:xfrm>
                <a:custGeom>
                  <a:avLst/>
                  <a:gdLst/>
                  <a:ahLst/>
                  <a:rect l="l" t="t" r="r" b="b"/>
                  <a:pathLst>
                    <a:path w="25" h="8">
                      <a:moveTo>
                        <a:pt x="0" y="7"/>
                      </a:moveTo>
                      <a:lnTo>
                        <a:pt x="16" y="0"/>
                      </a:lnTo>
                      <a:lnTo>
                        <a:pt x="20" y="1"/>
                      </a:lnTo>
                      <a:lnTo>
                        <a:pt x="24" y="3"/>
                      </a:lnTo>
                      <a:lnTo>
                        <a:pt x="19" y="2"/>
                      </a:lnTo>
                      <a:lnTo>
                        <a:pt x="15" y="2"/>
                      </a:lnTo>
                      <a:lnTo>
                        <a:pt x="10" y="4"/>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50" name=""/>
                <p:cNvSpPr/>
                <p:nvPr/>
              </p:nvSpPr>
              <p:spPr>
                <a:xfrm>
                  <a:off x="3036600" y="1779480"/>
                  <a:ext cx="33120" cy="14400"/>
                </a:xfrm>
                <a:custGeom>
                  <a:avLst/>
                  <a:gdLst/>
                  <a:ahLst/>
                  <a:rect l="l" t="t" r="r" b="b"/>
                  <a:pathLst>
                    <a:path w="21" h="9">
                      <a:moveTo>
                        <a:pt x="0" y="4"/>
                      </a:moveTo>
                      <a:lnTo>
                        <a:pt x="6" y="1"/>
                      </a:lnTo>
                      <a:lnTo>
                        <a:pt x="13" y="0"/>
                      </a:lnTo>
                      <a:lnTo>
                        <a:pt x="20" y="1"/>
                      </a:lnTo>
                      <a:lnTo>
                        <a:pt x="17" y="5"/>
                      </a:lnTo>
                      <a:lnTo>
                        <a:pt x="13" y="7"/>
                      </a:lnTo>
                      <a:lnTo>
                        <a:pt x="9" y="8"/>
                      </a:lnTo>
                      <a:lnTo>
                        <a:pt x="3" y="7"/>
                      </a:lnTo>
                      <a:lnTo>
                        <a:pt x="9" y="7"/>
                      </a:lnTo>
                      <a:lnTo>
                        <a:pt x="15" y="5"/>
                      </a:lnTo>
                      <a:lnTo>
                        <a:pt x="18" y="2"/>
                      </a:lnTo>
                      <a:lnTo>
                        <a:pt x="12" y="1"/>
                      </a:lnTo>
                      <a:lnTo>
                        <a:pt x="6" y="2"/>
                      </a:lnTo>
                      <a:lnTo>
                        <a:pt x="3" y="4"/>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51" name=""/>
                <p:cNvSpPr/>
                <p:nvPr/>
              </p:nvSpPr>
              <p:spPr>
                <a:xfrm>
                  <a:off x="3030480" y="1774800"/>
                  <a:ext cx="29520" cy="34920"/>
                </a:xfrm>
                <a:custGeom>
                  <a:avLst/>
                  <a:gdLst/>
                  <a:ahLst/>
                  <a:rect l="l" t="t" r="r" b="b"/>
                  <a:pathLst>
                    <a:path w="19" h="22">
                      <a:moveTo>
                        <a:pt x="12" y="1"/>
                      </a:moveTo>
                      <a:lnTo>
                        <a:pt x="18" y="2"/>
                      </a:lnTo>
                      <a:lnTo>
                        <a:pt x="11" y="2"/>
                      </a:lnTo>
                      <a:lnTo>
                        <a:pt x="10" y="5"/>
                      </a:lnTo>
                      <a:lnTo>
                        <a:pt x="6" y="7"/>
                      </a:lnTo>
                      <a:lnTo>
                        <a:pt x="4" y="10"/>
                      </a:lnTo>
                      <a:lnTo>
                        <a:pt x="4" y="14"/>
                      </a:lnTo>
                      <a:lnTo>
                        <a:pt x="6" y="21"/>
                      </a:lnTo>
                      <a:lnTo>
                        <a:pt x="4" y="14"/>
                      </a:lnTo>
                      <a:lnTo>
                        <a:pt x="3" y="11"/>
                      </a:lnTo>
                      <a:lnTo>
                        <a:pt x="3" y="8"/>
                      </a:lnTo>
                      <a:lnTo>
                        <a:pt x="0" y="5"/>
                      </a:lnTo>
                      <a:lnTo>
                        <a:pt x="10" y="2"/>
                      </a:lnTo>
                      <a:lnTo>
                        <a:pt x="15" y="0"/>
                      </a:lnTo>
                      <a:lnTo>
                        <a:pt x="12" y="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52" name=""/>
                <p:cNvSpPr/>
                <p:nvPr/>
              </p:nvSpPr>
              <p:spPr>
                <a:xfrm>
                  <a:off x="3019320" y="1785960"/>
                  <a:ext cx="7560" cy="29880"/>
                </a:xfrm>
                <a:custGeom>
                  <a:avLst/>
                  <a:gdLst/>
                  <a:ahLst/>
                  <a:rect l="l" t="t" r="r" b="b"/>
                  <a:pathLst>
                    <a:path w="5" h="19">
                      <a:moveTo>
                        <a:pt x="0" y="1"/>
                      </a:moveTo>
                      <a:lnTo>
                        <a:pt x="2" y="7"/>
                      </a:lnTo>
                      <a:lnTo>
                        <a:pt x="2" y="12"/>
                      </a:lnTo>
                      <a:lnTo>
                        <a:pt x="3" y="18"/>
                      </a:lnTo>
                      <a:lnTo>
                        <a:pt x="4" y="11"/>
                      </a:lnTo>
                      <a:lnTo>
                        <a:pt x="3" y="7"/>
                      </a:lnTo>
                      <a:lnTo>
                        <a:pt x="3" y="3"/>
                      </a:lnTo>
                      <a:lnTo>
                        <a:pt x="2" y="0"/>
                      </a:lnTo>
                      <a:lnTo>
                        <a:pt x="0" y="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53" name=""/>
                <p:cNvSpPr/>
                <p:nvPr/>
              </p:nvSpPr>
              <p:spPr>
                <a:xfrm>
                  <a:off x="3041280" y="1790640"/>
                  <a:ext cx="21960" cy="7920"/>
                </a:xfrm>
                <a:custGeom>
                  <a:avLst/>
                  <a:gdLst/>
                  <a:ahLst/>
                  <a:rect l="l" t="t" r="r" b="b"/>
                  <a:pathLst>
                    <a:path w="14" h="5">
                      <a:moveTo>
                        <a:pt x="3" y="1"/>
                      </a:moveTo>
                      <a:lnTo>
                        <a:pt x="0" y="3"/>
                      </a:lnTo>
                      <a:lnTo>
                        <a:pt x="5" y="4"/>
                      </a:lnTo>
                      <a:lnTo>
                        <a:pt x="8" y="3"/>
                      </a:lnTo>
                      <a:lnTo>
                        <a:pt x="13" y="1"/>
                      </a:lnTo>
                      <a:lnTo>
                        <a:pt x="10" y="1"/>
                      </a:lnTo>
                      <a:lnTo>
                        <a:pt x="6" y="0"/>
                      </a:lnTo>
                      <a:lnTo>
                        <a:pt x="3"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54" name=""/>
                <p:cNvSpPr/>
                <p:nvPr/>
              </p:nvSpPr>
              <p:spPr>
                <a:xfrm>
                  <a:off x="2955600" y="1789200"/>
                  <a:ext cx="20520" cy="21960"/>
                </a:xfrm>
                <a:custGeom>
                  <a:avLst/>
                  <a:gdLst/>
                  <a:ahLst/>
                  <a:rect l="l" t="t" r="r" b="b"/>
                  <a:pathLst>
                    <a:path w="13" h="14">
                      <a:moveTo>
                        <a:pt x="11" y="3"/>
                      </a:moveTo>
                      <a:lnTo>
                        <a:pt x="6" y="1"/>
                      </a:lnTo>
                      <a:lnTo>
                        <a:pt x="0" y="0"/>
                      </a:lnTo>
                      <a:lnTo>
                        <a:pt x="2" y="2"/>
                      </a:lnTo>
                      <a:lnTo>
                        <a:pt x="3" y="7"/>
                      </a:lnTo>
                      <a:lnTo>
                        <a:pt x="5" y="10"/>
                      </a:lnTo>
                      <a:lnTo>
                        <a:pt x="3" y="6"/>
                      </a:lnTo>
                      <a:lnTo>
                        <a:pt x="4" y="3"/>
                      </a:lnTo>
                      <a:lnTo>
                        <a:pt x="7" y="4"/>
                      </a:lnTo>
                      <a:lnTo>
                        <a:pt x="6" y="6"/>
                      </a:lnTo>
                      <a:lnTo>
                        <a:pt x="7" y="9"/>
                      </a:lnTo>
                      <a:lnTo>
                        <a:pt x="9" y="10"/>
                      </a:lnTo>
                      <a:lnTo>
                        <a:pt x="12" y="13"/>
                      </a:lnTo>
                      <a:lnTo>
                        <a:pt x="11" y="9"/>
                      </a:lnTo>
                      <a:lnTo>
                        <a:pt x="11" y="7"/>
                      </a:lnTo>
                      <a:lnTo>
                        <a:pt x="11" y="5"/>
                      </a:lnTo>
                      <a:lnTo>
                        <a:pt x="11" y="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55" name=""/>
                <p:cNvSpPr/>
                <p:nvPr/>
              </p:nvSpPr>
              <p:spPr>
                <a:xfrm>
                  <a:off x="3081240" y="1770120"/>
                  <a:ext cx="15480" cy="34920"/>
                </a:xfrm>
                <a:custGeom>
                  <a:avLst/>
                  <a:gdLst/>
                  <a:ahLst/>
                  <a:rect l="l" t="t" r="r" b="b"/>
                  <a:pathLst>
                    <a:path w="10" h="22">
                      <a:moveTo>
                        <a:pt x="0" y="8"/>
                      </a:moveTo>
                      <a:lnTo>
                        <a:pt x="2" y="8"/>
                      </a:lnTo>
                      <a:lnTo>
                        <a:pt x="4" y="4"/>
                      </a:lnTo>
                      <a:lnTo>
                        <a:pt x="8" y="0"/>
                      </a:lnTo>
                      <a:lnTo>
                        <a:pt x="7" y="3"/>
                      </a:lnTo>
                      <a:lnTo>
                        <a:pt x="9" y="6"/>
                      </a:lnTo>
                      <a:lnTo>
                        <a:pt x="9" y="11"/>
                      </a:lnTo>
                      <a:lnTo>
                        <a:pt x="7" y="15"/>
                      </a:lnTo>
                      <a:lnTo>
                        <a:pt x="8" y="10"/>
                      </a:lnTo>
                      <a:lnTo>
                        <a:pt x="8" y="8"/>
                      </a:lnTo>
                      <a:lnTo>
                        <a:pt x="5" y="5"/>
                      </a:lnTo>
                      <a:lnTo>
                        <a:pt x="4" y="8"/>
                      </a:lnTo>
                      <a:lnTo>
                        <a:pt x="6" y="11"/>
                      </a:lnTo>
                      <a:lnTo>
                        <a:pt x="5" y="14"/>
                      </a:lnTo>
                      <a:lnTo>
                        <a:pt x="4" y="15"/>
                      </a:lnTo>
                      <a:lnTo>
                        <a:pt x="3" y="17"/>
                      </a:lnTo>
                      <a:lnTo>
                        <a:pt x="2" y="21"/>
                      </a:lnTo>
                      <a:lnTo>
                        <a:pt x="2" y="17"/>
                      </a:lnTo>
                      <a:lnTo>
                        <a:pt x="3" y="14"/>
                      </a:lnTo>
                      <a:lnTo>
                        <a:pt x="2" y="12"/>
                      </a:lnTo>
                      <a:lnTo>
                        <a:pt x="0" y="10"/>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56" name=""/>
                <p:cNvSpPr/>
                <p:nvPr/>
              </p:nvSpPr>
              <p:spPr>
                <a:xfrm>
                  <a:off x="2997000" y="1785960"/>
                  <a:ext cx="14040" cy="9360"/>
                </a:xfrm>
                <a:custGeom>
                  <a:avLst/>
                  <a:gdLst/>
                  <a:ahLst/>
                  <a:rect l="l" t="t" r="r" b="b"/>
                  <a:pathLst>
                    <a:path w="9" h="6">
                      <a:moveTo>
                        <a:pt x="0" y="2"/>
                      </a:moveTo>
                      <a:lnTo>
                        <a:pt x="1" y="4"/>
                      </a:lnTo>
                      <a:lnTo>
                        <a:pt x="3" y="5"/>
                      </a:lnTo>
                      <a:lnTo>
                        <a:pt x="6" y="4"/>
                      </a:lnTo>
                      <a:lnTo>
                        <a:pt x="8" y="3"/>
                      </a:lnTo>
                      <a:lnTo>
                        <a:pt x="8" y="0"/>
                      </a:lnTo>
                      <a:lnTo>
                        <a:pt x="5" y="1"/>
                      </a:lnTo>
                      <a:lnTo>
                        <a:pt x="5" y="2"/>
                      </a:lnTo>
                      <a:lnTo>
                        <a:pt x="4" y="3"/>
                      </a:lnTo>
                      <a:lnTo>
                        <a:pt x="3" y="2"/>
                      </a:lnTo>
                      <a:lnTo>
                        <a:pt x="3" y="1"/>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57" name=""/>
                <p:cNvSpPr/>
                <p:nvPr/>
              </p:nvSpPr>
              <p:spPr>
                <a:xfrm>
                  <a:off x="3046320" y="1780920"/>
                  <a:ext cx="12240" cy="8280"/>
                </a:xfrm>
                <a:custGeom>
                  <a:avLst/>
                  <a:gdLst/>
                  <a:ahLst/>
                  <a:rect l="l" t="t" r="r" b="b"/>
                  <a:pathLst>
                    <a:path w="8" h="5">
                      <a:moveTo>
                        <a:pt x="0" y="1"/>
                      </a:moveTo>
                      <a:lnTo>
                        <a:pt x="0" y="4"/>
                      </a:lnTo>
                      <a:lnTo>
                        <a:pt x="3" y="4"/>
                      </a:lnTo>
                      <a:lnTo>
                        <a:pt x="5" y="3"/>
                      </a:lnTo>
                      <a:lnTo>
                        <a:pt x="7" y="2"/>
                      </a:lnTo>
                      <a:lnTo>
                        <a:pt x="6" y="0"/>
                      </a:lnTo>
                      <a:lnTo>
                        <a:pt x="5" y="0"/>
                      </a:lnTo>
                      <a:lnTo>
                        <a:pt x="4" y="2"/>
                      </a:lnTo>
                      <a:lnTo>
                        <a:pt x="3" y="2"/>
                      </a:lnTo>
                      <a:lnTo>
                        <a:pt x="2" y="1"/>
                      </a:lnTo>
                      <a:lnTo>
                        <a:pt x="0" y="1"/>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358" name=""/>
                <p:cNvSpPr/>
                <p:nvPr/>
              </p:nvSpPr>
              <p:spPr>
                <a:xfrm>
                  <a:off x="3011400" y="1812960"/>
                  <a:ext cx="43920" cy="21960"/>
                </a:xfrm>
                <a:custGeom>
                  <a:avLst/>
                  <a:gdLst/>
                  <a:ahLst/>
                  <a:rect l="l" t="t" r="r" b="b"/>
                  <a:pathLst>
                    <a:path w="28" h="14">
                      <a:moveTo>
                        <a:pt x="2" y="0"/>
                      </a:moveTo>
                      <a:lnTo>
                        <a:pt x="0" y="2"/>
                      </a:lnTo>
                      <a:lnTo>
                        <a:pt x="0" y="5"/>
                      </a:lnTo>
                      <a:lnTo>
                        <a:pt x="2" y="6"/>
                      </a:lnTo>
                      <a:lnTo>
                        <a:pt x="3" y="9"/>
                      </a:lnTo>
                      <a:lnTo>
                        <a:pt x="9" y="12"/>
                      </a:lnTo>
                      <a:lnTo>
                        <a:pt x="14" y="13"/>
                      </a:lnTo>
                      <a:lnTo>
                        <a:pt x="17" y="13"/>
                      </a:lnTo>
                      <a:lnTo>
                        <a:pt x="22" y="8"/>
                      </a:lnTo>
                      <a:lnTo>
                        <a:pt x="26" y="6"/>
                      </a:lnTo>
                      <a:lnTo>
                        <a:pt x="27" y="2"/>
                      </a:lnTo>
                      <a:lnTo>
                        <a:pt x="26" y="1"/>
                      </a:lnTo>
                      <a:lnTo>
                        <a:pt x="25" y="0"/>
                      </a:lnTo>
                      <a:lnTo>
                        <a:pt x="25" y="1"/>
                      </a:lnTo>
                      <a:lnTo>
                        <a:pt x="25" y="3"/>
                      </a:lnTo>
                      <a:lnTo>
                        <a:pt x="23" y="3"/>
                      </a:lnTo>
                      <a:lnTo>
                        <a:pt x="20" y="5"/>
                      </a:lnTo>
                      <a:lnTo>
                        <a:pt x="19" y="7"/>
                      </a:lnTo>
                      <a:lnTo>
                        <a:pt x="17" y="8"/>
                      </a:lnTo>
                      <a:lnTo>
                        <a:pt x="13" y="9"/>
                      </a:lnTo>
                      <a:lnTo>
                        <a:pt x="10" y="8"/>
                      </a:lnTo>
                      <a:lnTo>
                        <a:pt x="7" y="7"/>
                      </a:lnTo>
                      <a:lnTo>
                        <a:pt x="4" y="5"/>
                      </a:lnTo>
                      <a:lnTo>
                        <a:pt x="2" y="5"/>
                      </a:lnTo>
                      <a:lnTo>
                        <a:pt x="1" y="4"/>
                      </a:lnTo>
                      <a:lnTo>
                        <a:pt x="1" y="2"/>
                      </a:lnTo>
                      <a:lnTo>
                        <a:pt x="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59" name=""/>
                <p:cNvSpPr/>
                <p:nvPr/>
              </p:nvSpPr>
              <p:spPr>
                <a:xfrm>
                  <a:off x="3008160" y="1833480"/>
                  <a:ext cx="59760" cy="11160"/>
                </a:xfrm>
                <a:custGeom>
                  <a:avLst/>
                  <a:gdLst/>
                  <a:ahLst/>
                  <a:rect l="l" t="t" r="r" b="b"/>
                  <a:pathLst>
                    <a:path w="38" h="7">
                      <a:moveTo>
                        <a:pt x="3" y="4"/>
                      </a:moveTo>
                      <a:lnTo>
                        <a:pt x="6" y="3"/>
                      </a:lnTo>
                      <a:lnTo>
                        <a:pt x="12" y="1"/>
                      </a:lnTo>
                      <a:lnTo>
                        <a:pt x="18" y="2"/>
                      </a:lnTo>
                      <a:lnTo>
                        <a:pt x="24" y="0"/>
                      </a:lnTo>
                      <a:lnTo>
                        <a:pt x="35" y="1"/>
                      </a:lnTo>
                      <a:lnTo>
                        <a:pt x="37" y="0"/>
                      </a:lnTo>
                      <a:lnTo>
                        <a:pt x="37" y="2"/>
                      </a:lnTo>
                      <a:lnTo>
                        <a:pt x="36" y="3"/>
                      </a:lnTo>
                      <a:lnTo>
                        <a:pt x="34" y="2"/>
                      </a:lnTo>
                      <a:lnTo>
                        <a:pt x="30" y="2"/>
                      </a:lnTo>
                      <a:lnTo>
                        <a:pt x="23" y="3"/>
                      </a:lnTo>
                      <a:lnTo>
                        <a:pt x="17" y="4"/>
                      </a:lnTo>
                      <a:lnTo>
                        <a:pt x="8" y="4"/>
                      </a:lnTo>
                      <a:lnTo>
                        <a:pt x="3" y="5"/>
                      </a:lnTo>
                      <a:lnTo>
                        <a:pt x="1" y="6"/>
                      </a:lnTo>
                      <a:lnTo>
                        <a:pt x="0" y="6"/>
                      </a:lnTo>
                      <a:lnTo>
                        <a:pt x="0" y="4"/>
                      </a:lnTo>
                      <a:lnTo>
                        <a:pt x="2" y="3"/>
                      </a:lnTo>
                      <a:lnTo>
                        <a:pt x="3"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60" name=""/>
                <p:cNvSpPr/>
                <p:nvPr/>
              </p:nvSpPr>
              <p:spPr>
                <a:xfrm>
                  <a:off x="3020760" y="1846080"/>
                  <a:ext cx="33120" cy="12960"/>
                </a:xfrm>
                <a:custGeom>
                  <a:avLst/>
                  <a:gdLst/>
                  <a:ahLst/>
                  <a:rect l="l" t="t" r="r" b="b"/>
                  <a:pathLst>
                    <a:path w="21" h="8">
                      <a:moveTo>
                        <a:pt x="0" y="2"/>
                      </a:moveTo>
                      <a:lnTo>
                        <a:pt x="5" y="3"/>
                      </a:lnTo>
                      <a:lnTo>
                        <a:pt x="9" y="3"/>
                      </a:lnTo>
                      <a:lnTo>
                        <a:pt x="14" y="2"/>
                      </a:lnTo>
                      <a:lnTo>
                        <a:pt x="20" y="0"/>
                      </a:lnTo>
                      <a:lnTo>
                        <a:pt x="16" y="4"/>
                      </a:lnTo>
                      <a:lnTo>
                        <a:pt x="17" y="7"/>
                      </a:lnTo>
                      <a:lnTo>
                        <a:pt x="13" y="7"/>
                      </a:lnTo>
                      <a:lnTo>
                        <a:pt x="5" y="7"/>
                      </a:lnTo>
                      <a:lnTo>
                        <a:pt x="5" y="5"/>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1" name=""/>
                <p:cNvSpPr/>
                <p:nvPr/>
              </p:nvSpPr>
              <p:spPr>
                <a:xfrm>
                  <a:off x="2977920" y="1811160"/>
                  <a:ext cx="107640" cy="69840"/>
                </a:xfrm>
                <a:custGeom>
                  <a:avLst/>
                  <a:gdLst/>
                  <a:ahLst/>
                  <a:rect l="l" t="t" r="r" b="b"/>
                  <a:pathLst>
                    <a:path w="68" h="44">
                      <a:moveTo>
                        <a:pt x="0" y="6"/>
                      </a:moveTo>
                      <a:lnTo>
                        <a:pt x="7" y="24"/>
                      </a:lnTo>
                      <a:lnTo>
                        <a:pt x="12" y="31"/>
                      </a:lnTo>
                      <a:lnTo>
                        <a:pt x="17" y="34"/>
                      </a:lnTo>
                      <a:lnTo>
                        <a:pt x="23" y="38"/>
                      </a:lnTo>
                      <a:lnTo>
                        <a:pt x="28" y="40"/>
                      </a:lnTo>
                      <a:lnTo>
                        <a:pt x="36" y="43"/>
                      </a:lnTo>
                      <a:lnTo>
                        <a:pt x="42" y="43"/>
                      </a:lnTo>
                      <a:lnTo>
                        <a:pt x="49" y="41"/>
                      </a:lnTo>
                      <a:lnTo>
                        <a:pt x="54" y="37"/>
                      </a:lnTo>
                      <a:lnTo>
                        <a:pt x="58" y="32"/>
                      </a:lnTo>
                      <a:lnTo>
                        <a:pt x="62" y="26"/>
                      </a:lnTo>
                      <a:lnTo>
                        <a:pt x="65" y="20"/>
                      </a:lnTo>
                      <a:lnTo>
                        <a:pt x="66" y="13"/>
                      </a:lnTo>
                      <a:lnTo>
                        <a:pt x="67" y="0"/>
                      </a:lnTo>
                      <a:lnTo>
                        <a:pt x="65" y="1"/>
                      </a:lnTo>
                      <a:lnTo>
                        <a:pt x="64" y="18"/>
                      </a:lnTo>
                      <a:lnTo>
                        <a:pt x="61" y="25"/>
                      </a:lnTo>
                      <a:lnTo>
                        <a:pt x="58" y="31"/>
                      </a:lnTo>
                      <a:lnTo>
                        <a:pt x="53" y="36"/>
                      </a:lnTo>
                      <a:lnTo>
                        <a:pt x="48" y="39"/>
                      </a:lnTo>
                      <a:lnTo>
                        <a:pt x="48" y="37"/>
                      </a:lnTo>
                      <a:lnTo>
                        <a:pt x="43" y="38"/>
                      </a:lnTo>
                      <a:lnTo>
                        <a:pt x="38" y="39"/>
                      </a:lnTo>
                      <a:lnTo>
                        <a:pt x="32" y="38"/>
                      </a:lnTo>
                      <a:lnTo>
                        <a:pt x="28" y="37"/>
                      </a:lnTo>
                      <a:lnTo>
                        <a:pt x="29" y="39"/>
                      </a:lnTo>
                      <a:lnTo>
                        <a:pt x="22" y="36"/>
                      </a:lnTo>
                      <a:lnTo>
                        <a:pt x="15" y="31"/>
                      </a:lnTo>
                      <a:lnTo>
                        <a:pt x="10" y="26"/>
                      </a:lnTo>
                      <a:lnTo>
                        <a:pt x="7" y="19"/>
                      </a:lnTo>
                      <a:lnTo>
                        <a:pt x="1" y="5"/>
                      </a:lnTo>
                      <a:lnTo>
                        <a:pt x="0"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62" name=""/>
                <p:cNvSpPr/>
                <p:nvPr/>
              </p:nvSpPr>
              <p:spPr>
                <a:xfrm>
                  <a:off x="2987640" y="1819080"/>
                  <a:ext cx="23400" cy="34920"/>
                </a:xfrm>
                <a:custGeom>
                  <a:avLst/>
                  <a:gdLst/>
                  <a:ahLst/>
                  <a:rect l="l" t="t" r="r" b="b"/>
                  <a:pathLst>
                    <a:path w="15" h="22">
                      <a:moveTo>
                        <a:pt x="1" y="4"/>
                      </a:moveTo>
                      <a:lnTo>
                        <a:pt x="7" y="4"/>
                      </a:lnTo>
                      <a:lnTo>
                        <a:pt x="10" y="3"/>
                      </a:lnTo>
                      <a:lnTo>
                        <a:pt x="14" y="0"/>
                      </a:lnTo>
                      <a:lnTo>
                        <a:pt x="11" y="4"/>
                      </a:lnTo>
                      <a:lnTo>
                        <a:pt x="8" y="9"/>
                      </a:lnTo>
                      <a:lnTo>
                        <a:pt x="9" y="13"/>
                      </a:lnTo>
                      <a:lnTo>
                        <a:pt x="12" y="21"/>
                      </a:lnTo>
                      <a:lnTo>
                        <a:pt x="8" y="15"/>
                      </a:lnTo>
                      <a:lnTo>
                        <a:pt x="5" y="10"/>
                      </a:lnTo>
                      <a:lnTo>
                        <a:pt x="3" y="9"/>
                      </a:lnTo>
                      <a:lnTo>
                        <a:pt x="0" y="5"/>
                      </a:lnTo>
                      <a:lnTo>
                        <a:pt x="1" y="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3" name=""/>
                <p:cNvSpPr/>
                <p:nvPr/>
              </p:nvSpPr>
              <p:spPr>
                <a:xfrm>
                  <a:off x="3055680" y="1815840"/>
                  <a:ext cx="20160" cy="25560"/>
                </a:xfrm>
                <a:custGeom>
                  <a:avLst/>
                  <a:gdLst/>
                  <a:ahLst/>
                  <a:rect l="l" t="t" r="r" b="b"/>
                  <a:pathLst>
                    <a:path w="13" h="16">
                      <a:moveTo>
                        <a:pt x="0" y="0"/>
                      </a:moveTo>
                      <a:lnTo>
                        <a:pt x="3" y="2"/>
                      </a:lnTo>
                      <a:lnTo>
                        <a:pt x="7" y="5"/>
                      </a:lnTo>
                      <a:lnTo>
                        <a:pt x="9" y="7"/>
                      </a:lnTo>
                      <a:lnTo>
                        <a:pt x="10" y="10"/>
                      </a:lnTo>
                      <a:lnTo>
                        <a:pt x="9" y="15"/>
                      </a:lnTo>
                      <a:lnTo>
                        <a:pt x="10" y="10"/>
                      </a:lnTo>
                      <a:lnTo>
                        <a:pt x="12" y="3"/>
                      </a:lnTo>
                      <a:lnTo>
                        <a:pt x="12" y="1"/>
                      </a:lnTo>
                      <a:lnTo>
                        <a:pt x="7" y="1"/>
                      </a:lnTo>
                      <a:lnTo>
                        <a:pt x="3"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64" name=""/>
                <p:cNvSpPr/>
                <p:nvPr/>
              </p:nvSpPr>
              <p:spPr>
                <a:xfrm>
                  <a:off x="3306600" y="1955880"/>
                  <a:ext cx="77400" cy="34920"/>
                </a:xfrm>
                <a:custGeom>
                  <a:avLst/>
                  <a:gdLst/>
                  <a:ahLst/>
                  <a:rect l="l" t="t" r="r" b="b"/>
                  <a:pathLst>
                    <a:path w="49" h="22">
                      <a:moveTo>
                        <a:pt x="4" y="0"/>
                      </a:moveTo>
                      <a:lnTo>
                        <a:pt x="4" y="3"/>
                      </a:lnTo>
                      <a:lnTo>
                        <a:pt x="4" y="6"/>
                      </a:lnTo>
                      <a:lnTo>
                        <a:pt x="3" y="9"/>
                      </a:lnTo>
                      <a:lnTo>
                        <a:pt x="0" y="11"/>
                      </a:lnTo>
                      <a:lnTo>
                        <a:pt x="10" y="21"/>
                      </a:lnTo>
                      <a:lnTo>
                        <a:pt x="21" y="14"/>
                      </a:lnTo>
                      <a:lnTo>
                        <a:pt x="28" y="21"/>
                      </a:lnTo>
                      <a:lnTo>
                        <a:pt x="33" y="17"/>
                      </a:lnTo>
                      <a:lnTo>
                        <a:pt x="42" y="11"/>
                      </a:lnTo>
                      <a:lnTo>
                        <a:pt x="48" y="5"/>
                      </a:lnTo>
                      <a:lnTo>
                        <a:pt x="40" y="11"/>
                      </a:lnTo>
                      <a:lnTo>
                        <a:pt x="30" y="15"/>
                      </a:lnTo>
                      <a:lnTo>
                        <a:pt x="25" y="11"/>
                      </a:lnTo>
                      <a:lnTo>
                        <a:pt x="14" y="11"/>
                      </a:lnTo>
                      <a:lnTo>
                        <a:pt x="7" y="0"/>
                      </a:lnTo>
                      <a:lnTo>
                        <a:pt x="4"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5" name=""/>
                <p:cNvSpPr/>
                <p:nvPr/>
              </p:nvSpPr>
              <p:spPr>
                <a:xfrm>
                  <a:off x="3336840" y="1820880"/>
                  <a:ext cx="48600" cy="54000"/>
                </a:xfrm>
                <a:custGeom>
                  <a:avLst/>
                  <a:gdLst/>
                  <a:ahLst/>
                  <a:rect l="l" t="t" r="r" b="b"/>
                  <a:pathLst>
                    <a:path w="31" h="34">
                      <a:moveTo>
                        <a:pt x="1" y="0"/>
                      </a:moveTo>
                      <a:lnTo>
                        <a:pt x="9" y="3"/>
                      </a:lnTo>
                      <a:lnTo>
                        <a:pt x="18" y="1"/>
                      </a:lnTo>
                      <a:lnTo>
                        <a:pt x="27" y="3"/>
                      </a:lnTo>
                      <a:lnTo>
                        <a:pt x="28" y="0"/>
                      </a:lnTo>
                      <a:lnTo>
                        <a:pt x="30" y="7"/>
                      </a:lnTo>
                      <a:lnTo>
                        <a:pt x="30" y="14"/>
                      </a:lnTo>
                      <a:lnTo>
                        <a:pt x="28" y="25"/>
                      </a:lnTo>
                      <a:lnTo>
                        <a:pt x="26" y="33"/>
                      </a:lnTo>
                      <a:lnTo>
                        <a:pt x="28" y="24"/>
                      </a:lnTo>
                      <a:lnTo>
                        <a:pt x="28" y="19"/>
                      </a:lnTo>
                      <a:lnTo>
                        <a:pt x="20" y="25"/>
                      </a:lnTo>
                      <a:lnTo>
                        <a:pt x="19" y="25"/>
                      </a:lnTo>
                      <a:lnTo>
                        <a:pt x="18" y="23"/>
                      </a:lnTo>
                      <a:lnTo>
                        <a:pt x="25" y="15"/>
                      </a:lnTo>
                      <a:lnTo>
                        <a:pt x="25" y="11"/>
                      </a:lnTo>
                      <a:lnTo>
                        <a:pt x="17" y="16"/>
                      </a:lnTo>
                      <a:lnTo>
                        <a:pt x="19" y="12"/>
                      </a:lnTo>
                      <a:lnTo>
                        <a:pt x="18" y="12"/>
                      </a:lnTo>
                      <a:lnTo>
                        <a:pt x="17" y="8"/>
                      </a:lnTo>
                      <a:lnTo>
                        <a:pt x="15" y="8"/>
                      </a:lnTo>
                      <a:lnTo>
                        <a:pt x="10" y="13"/>
                      </a:lnTo>
                      <a:lnTo>
                        <a:pt x="9" y="13"/>
                      </a:lnTo>
                      <a:lnTo>
                        <a:pt x="9" y="11"/>
                      </a:lnTo>
                      <a:lnTo>
                        <a:pt x="11" y="8"/>
                      </a:lnTo>
                      <a:lnTo>
                        <a:pt x="3" y="6"/>
                      </a:lnTo>
                      <a:lnTo>
                        <a:pt x="3" y="9"/>
                      </a:lnTo>
                      <a:lnTo>
                        <a:pt x="5" y="12"/>
                      </a:lnTo>
                      <a:lnTo>
                        <a:pt x="1" y="9"/>
                      </a:lnTo>
                      <a:lnTo>
                        <a:pt x="0" y="4"/>
                      </a:lnTo>
                      <a:lnTo>
                        <a:pt x="0" y="1"/>
                      </a:lnTo>
                      <a:lnTo>
                        <a:pt x="1"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66" name=""/>
                <p:cNvSpPr/>
                <p:nvPr/>
              </p:nvSpPr>
              <p:spPr>
                <a:xfrm>
                  <a:off x="3349440" y="1842840"/>
                  <a:ext cx="12240" cy="9720"/>
                </a:xfrm>
                <a:custGeom>
                  <a:avLst/>
                  <a:gdLst/>
                  <a:ahLst/>
                  <a:rect l="l" t="t" r="r" b="b"/>
                  <a:pathLst>
                    <a:path w="8" h="6">
                      <a:moveTo>
                        <a:pt x="1" y="0"/>
                      </a:moveTo>
                      <a:lnTo>
                        <a:pt x="7" y="3"/>
                      </a:lnTo>
                      <a:lnTo>
                        <a:pt x="7" y="5"/>
                      </a:lnTo>
                      <a:lnTo>
                        <a:pt x="5" y="5"/>
                      </a:lnTo>
                      <a:lnTo>
                        <a:pt x="0" y="2"/>
                      </a:lnTo>
                      <a:lnTo>
                        <a:pt x="0" y="1"/>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7" name=""/>
                <p:cNvSpPr/>
                <p:nvPr/>
              </p:nvSpPr>
              <p:spPr>
                <a:xfrm>
                  <a:off x="3385800" y="1792080"/>
                  <a:ext cx="75960" cy="57240"/>
                </a:xfrm>
                <a:custGeom>
                  <a:avLst/>
                  <a:gdLst/>
                  <a:ahLst/>
                  <a:rect l="l" t="t" r="r" b="b"/>
                  <a:pathLst>
                    <a:path w="48" h="36">
                      <a:moveTo>
                        <a:pt x="0" y="9"/>
                      </a:moveTo>
                      <a:lnTo>
                        <a:pt x="3" y="20"/>
                      </a:lnTo>
                      <a:lnTo>
                        <a:pt x="7" y="25"/>
                      </a:lnTo>
                      <a:lnTo>
                        <a:pt x="7" y="34"/>
                      </a:lnTo>
                      <a:lnTo>
                        <a:pt x="12" y="26"/>
                      </a:lnTo>
                      <a:lnTo>
                        <a:pt x="26" y="35"/>
                      </a:lnTo>
                      <a:lnTo>
                        <a:pt x="37" y="27"/>
                      </a:lnTo>
                      <a:lnTo>
                        <a:pt x="26" y="27"/>
                      </a:lnTo>
                      <a:lnTo>
                        <a:pt x="22" y="25"/>
                      </a:lnTo>
                      <a:lnTo>
                        <a:pt x="16" y="25"/>
                      </a:lnTo>
                      <a:lnTo>
                        <a:pt x="16" y="24"/>
                      </a:lnTo>
                      <a:lnTo>
                        <a:pt x="24" y="22"/>
                      </a:lnTo>
                      <a:lnTo>
                        <a:pt x="24" y="18"/>
                      </a:lnTo>
                      <a:lnTo>
                        <a:pt x="28" y="16"/>
                      </a:lnTo>
                      <a:lnTo>
                        <a:pt x="24" y="16"/>
                      </a:lnTo>
                      <a:lnTo>
                        <a:pt x="22" y="14"/>
                      </a:lnTo>
                      <a:lnTo>
                        <a:pt x="30" y="11"/>
                      </a:lnTo>
                      <a:lnTo>
                        <a:pt x="34" y="7"/>
                      </a:lnTo>
                      <a:lnTo>
                        <a:pt x="46" y="12"/>
                      </a:lnTo>
                      <a:lnTo>
                        <a:pt x="47" y="11"/>
                      </a:lnTo>
                      <a:lnTo>
                        <a:pt x="38" y="0"/>
                      </a:lnTo>
                      <a:lnTo>
                        <a:pt x="34" y="0"/>
                      </a:lnTo>
                      <a:lnTo>
                        <a:pt x="21" y="6"/>
                      </a:lnTo>
                      <a:lnTo>
                        <a:pt x="10" y="13"/>
                      </a:lnTo>
                      <a:lnTo>
                        <a:pt x="10" y="17"/>
                      </a:lnTo>
                      <a:lnTo>
                        <a:pt x="6" y="17"/>
                      </a:lnTo>
                      <a:lnTo>
                        <a:pt x="0" y="9"/>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8" name=""/>
                <p:cNvSpPr/>
                <p:nvPr/>
              </p:nvSpPr>
              <p:spPr>
                <a:xfrm>
                  <a:off x="3428640" y="1817640"/>
                  <a:ext cx="23760" cy="11160"/>
                </a:xfrm>
                <a:custGeom>
                  <a:avLst/>
                  <a:gdLst/>
                  <a:ahLst/>
                  <a:rect l="l" t="t" r="r" b="b"/>
                  <a:pathLst>
                    <a:path w="15" h="7">
                      <a:moveTo>
                        <a:pt x="0" y="0"/>
                      </a:moveTo>
                      <a:lnTo>
                        <a:pt x="3" y="5"/>
                      </a:lnTo>
                      <a:lnTo>
                        <a:pt x="2" y="6"/>
                      </a:lnTo>
                      <a:lnTo>
                        <a:pt x="12" y="5"/>
                      </a:lnTo>
                      <a:lnTo>
                        <a:pt x="14" y="4"/>
                      </a:lnTo>
                      <a:lnTo>
                        <a:pt x="7" y="0"/>
                      </a:lnTo>
                      <a:lnTo>
                        <a:pt x="2"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69" name=""/>
                <p:cNvSpPr/>
                <p:nvPr/>
              </p:nvSpPr>
              <p:spPr>
                <a:xfrm>
                  <a:off x="3379680" y="1874880"/>
                  <a:ext cx="47160" cy="25200"/>
                </a:xfrm>
                <a:custGeom>
                  <a:avLst/>
                  <a:gdLst/>
                  <a:ahLst/>
                  <a:rect l="l" t="t" r="r" b="b"/>
                  <a:pathLst>
                    <a:path w="30" h="16">
                      <a:moveTo>
                        <a:pt x="0" y="3"/>
                      </a:moveTo>
                      <a:lnTo>
                        <a:pt x="5" y="6"/>
                      </a:lnTo>
                      <a:lnTo>
                        <a:pt x="11" y="6"/>
                      </a:lnTo>
                      <a:lnTo>
                        <a:pt x="16" y="1"/>
                      </a:lnTo>
                      <a:lnTo>
                        <a:pt x="21" y="0"/>
                      </a:lnTo>
                      <a:lnTo>
                        <a:pt x="22" y="1"/>
                      </a:lnTo>
                      <a:lnTo>
                        <a:pt x="25" y="1"/>
                      </a:lnTo>
                      <a:lnTo>
                        <a:pt x="29" y="1"/>
                      </a:lnTo>
                      <a:lnTo>
                        <a:pt x="26" y="4"/>
                      </a:lnTo>
                      <a:lnTo>
                        <a:pt x="16" y="8"/>
                      </a:lnTo>
                      <a:lnTo>
                        <a:pt x="15" y="12"/>
                      </a:lnTo>
                      <a:lnTo>
                        <a:pt x="12" y="15"/>
                      </a:lnTo>
                      <a:lnTo>
                        <a:pt x="8" y="8"/>
                      </a:lnTo>
                      <a:lnTo>
                        <a:pt x="4" y="7"/>
                      </a:lnTo>
                      <a:lnTo>
                        <a:pt x="0" y="4"/>
                      </a:lnTo>
                      <a:lnTo>
                        <a:pt x="0" y="3"/>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70" name=""/>
                <p:cNvSpPr/>
                <p:nvPr/>
              </p:nvSpPr>
              <p:spPr>
                <a:xfrm>
                  <a:off x="3404880" y="1860480"/>
                  <a:ext cx="18720" cy="7920"/>
                </a:xfrm>
                <a:custGeom>
                  <a:avLst/>
                  <a:gdLst/>
                  <a:ahLst/>
                  <a:rect l="l" t="t" r="r" b="b"/>
                  <a:pathLst>
                    <a:path w="12" h="5">
                      <a:moveTo>
                        <a:pt x="0" y="4"/>
                      </a:moveTo>
                      <a:lnTo>
                        <a:pt x="8" y="2"/>
                      </a:lnTo>
                      <a:lnTo>
                        <a:pt x="11" y="3"/>
                      </a:lnTo>
                      <a:lnTo>
                        <a:pt x="8" y="0"/>
                      </a:lnTo>
                      <a:lnTo>
                        <a:pt x="3"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71" name=""/>
                <p:cNvSpPr/>
                <p:nvPr/>
              </p:nvSpPr>
              <p:spPr>
                <a:xfrm>
                  <a:off x="3425760" y="1868400"/>
                  <a:ext cx="37440" cy="54000"/>
                </a:xfrm>
                <a:custGeom>
                  <a:avLst/>
                  <a:gdLst/>
                  <a:ahLst/>
                  <a:rect l="l" t="t" r="r" b="b"/>
                  <a:pathLst>
                    <a:path w="24" h="34">
                      <a:moveTo>
                        <a:pt x="0" y="0"/>
                      </a:moveTo>
                      <a:lnTo>
                        <a:pt x="0" y="4"/>
                      </a:lnTo>
                      <a:lnTo>
                        <a:pt x="5" y="9"/>
                      </a:lnTo>
                      <a:lnTo>
                        <a:pt x="11" y="16"/>
                      </a:lnTo>
                      <a:lnTo>
                        <a:pt x="6" y="19"/>
                      </a:lnTo>
                      <a:lnTo>
                        <a:pt x="14" y="33"/>
                      </a:lnTo>
                      <a:lnTo>
                        <a:pt x="20" y="33"/>
                      </a:lnTo>
                      <a:lnTo>
                        <a:pt x="23" y="21"/>
                      </a:lnTo>
                      <a:lnTo>
                        <a:pt x="22" y="18"/>
                      </a:lnTo>
                      <a:lnTo>
                        <a:pt x="16" y="15"/>
                      </a:lnTo>
                      <a:lnTo>
                        <a:pt x="14" y="9"/>
                      </a:lnTo>
                      <a:lnTo>
                        <a:pt x="7" y="3"/>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72" name=""/>
                <p:cNvSpPr/>
                <p:nvPr/>
              </p:nvSpPr>
              <p:spPr>
                <a:xfrm>
                  <a:off x="3344760" y="1847880"/>
                  <a:ext cx="48600" cy="96840"/>
                </a:xfrm>
                <a:custGeom>
                  <a:avLst/>
                  <a:gdLst/>
                  <a:ahLst/>
                  <a:rect l="l" t="t" r="r" b="b"/>
                  <a:pathLst>
                    <a:path w="31" h="61">
                      <a:moveTo>
                        <a:pt x="21" y="20"/>
                      </a:moveTo>
                      <a:lnTo>
                        <a:pt x="15" y="20"/>
                      </a:lnTo>
                      <a:lnTo>
                        <a:pt x="9" y="17"/>
                      </a:lnTo>
                      <a:lnTo>
                        <a:pt x="4" y="12"/>
                      </a:lnTo>
                      <a:lnTo>
                        <a:pt x="0" y="0"/>
                      </a:lnTo>
                      <a:lnTo>
                        <a:pt x="2" y="14"/>
                      </a:lnTo>
                      <a:lnTo>
                        <a:pt x="12" y="28"/>
                      </a:lnTo>
                      <a:lnTo>
                        <a:pt x="20" y="46"/>
                      </a:lnTo>
                      <a:lnTo>
                        <a:pt x="25" y="51"/>
                      </a:lnTo>
                      <a:lnTo>
                        <a:pt x="29" y="60"/>
                      </a:lnTo>
                      <a:lnTo>
                        <a:pt x="26" y="46"/>
                      </a:lnTo>
                      <a:lnTo>
                        <a:pt x="30" y="45"/>
                      </a:lnTo>
                      <a:lnTo>
                        <a:pt x="26" y="42"/>
                      </a:lnTo>
                      <a:lnTo>
                        <a:pt x="26" y="39"/>
                      </a:lnTo>
                      <a:lnTo>
                        <a:pt x="28" y="37"/>
                      </a:lnTo>
                      <a:lnTo>
                        <a:pt x="23" y="38"/>
                      </a:lnTo>
                      <a:lnTo>
                        <a:pt x="20" y="37"/>
                      </a:lnTo>
                      <a:lnTo>
                        <a:pt x="19" y="34"/>
                      </a:lnTo>
                      <a:lnTo>
                        <a:pt x="19" y="26"/>
                      </a:lnTo>
                      <a:lnTo>
                        <a:pt x="21" y="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3395520" y="1896840"/>
                  <a:ext cx="45720" cy="11160"/>
                </a:xfrm>
                <a:custGeom>
                  <a:avLst/>
                  <a:gdLst/>
                  <a:ahLst/>
                  <a:rect l="l" t="t" r="r" b="b"/>
                  <a:pathLst>
                    <a:path w="29" h="7">
                      <a:moveTo>
                        <a:pt x="0" y="6"/>
                      </a:moveTo>
                      <a:lnTo>
                        <a:pt x="12" y="3"/>
                      </a:lnTo>
                      <a:lnTo>
                        <a:pt x="19" y="0"/>
                      </a:lnTo>
                      <a:lnTo>
                        <a:pt x="23" y="0"/>
                      </a:lnTo>
                      <a:lnTo>
                        <a:pt x="28" y="2"/>
                      </a:lnTo>
                    </a:path>
                  </a:pathLst>
                </a:cu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74" name=""/>
                <p:cNvSpPr/>
                <p:nvPr/>
              </p:nvSpPr>
              <p:spPr>
                <a:xfrm>
                  <a:off x="3398760" y="1909800"/>
                  <a:ext cx="37440" cy="23760"/>
                </a:xfrm>
                <a:custGeom>
                  <a:avLst/>
                  <a:gdLst/>
                  <a:ahLst/>
                  <a:rect l="l" t="t" r="r" b="b"/>
                  <a:pathLst>
                    <a:path w="24" h="15">
                      <a:moveTo>
                        <a:pt x="0" y="6"/>
                      </a:moveTo>
                      <a:lnTo>
                        <a:pt x="18" y="2"/>
                      </a:lnTo>
                      <a:lnTo>
                        <a:pt x="22" y="0"/>
                      </a:lnTo>
                      <a:lnTo>
                        <a:pt x="22" y="1"/>
                      </a:lnTo>
                      <a:lnTo>
                        <a:pt x="16" y="5"/>
                      </a:lnTo>
                      <a:lnTo>
                        <a:pt x="17" y="8"/>
                      </a:lnTo>
                      <a:lnTo>
                        <a:pt x="23" y="14"/>
                      </a:lnTo>
                      <a:lnTo>
                        <a:pt x="17" y="12"/>
                      </a:lnTo>
                      <a:lnTo>
                        <a:pt x="11" y="12"/>
                      </a:lnTo>
                      <a:lnTo>
                        <a:pt x="5" y="13"/>
                      </a:lnTo>
                      <a:lnTo>
                        <a:pt x="3" y="14"/>
                      </a:lnTo>
                      <a:lnTo>
                        <a:pt x="4" y="11"/>
                      </a:lnTo>
                      <a:lnTo>
                        <a:pt x="2" y="7"/>
                      </a:lnTo>
                      <a:lnTo>
                        <a:pt x="0"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75" name=""/>
                <p:cNvSpPr/>
                <p:nvPr/>
              </p:nvSpPr>
              <p:spPr>
                <a:xfrm>
                  <a:off x="3308040" y="1704960"/>
                  <a:ext cx="196560" cy="120600"/>
                </a:xfrm>
                <a:custGeom>
                  <a:avLst/>
                  <a:gdLst/>
                  <a:ahLst/>
                  <a:rect l="l" t="t" r="r" b="b"/>
                  <a:pathLst>
                    <a:path w="124" h="76">
                      <a:moveTo>
                        <a:pt x="11" y="25"/>
                      </a:moveTo>
                      <a:lnTo>
                        <a:pt x="8" y="29"/>
                      </a:lnTo>
                      <a:lnTo>
                        <a:pt x="0" y="40"/>
                      </a:lnTo>
                      <a:lnTo>
                        <a:pt x="0" y="43"/>
                      </a:lnTo>
                      <a:lnTo>
                        <a:pt x="5" y="54"/>
                      </a:lnTo>
                      <a:lnTo>
                        <a:pt x="3" y="63"/>
                      </a:lnTo>
                      <a:lnTo>
                        <a:pt x="8" y="71"/>
                      </a:lnTo>
                      <a:lnTo>
                        <a:pt x="18" y="72"/>
                      </a:lnTo>
                      <a:lnTo>
                        <a:pt x="21" y="75"/>
                      </a:lnTo>
                      <a:lnTo>
                        <a:pt x="18" y="50"/>
                      </a:lnTo>
                      <a:lnTo>
                        <a:pt x="18" y="42"/>
                      </a:lnTo>
                      <a:lnTo>
                        <a:pt x="19" y="37"/>
                      </a:lnTo>
                      <a:lnTo>
                        <a:pt x="21" y="33"/>
                      </a:lnTo>
                      <a:lnTo>
                        <a:pt x="30" y="37"/>
                      </a:lnTo>
                      <a:lnTo>
                        <a:pt x="40" y="39"/>
                      </a:lnTo>
                      <a:lnTo>
                        <a:pt x="53" y="39"/>
                      </a:lnTo>
                      <a:lnTo>
                        <a:pt x="70" y="37"/>
                      </a:lnTo>
                      <a:lnTo>
                        <a:pt x="62" y="37"/>
                      </a:lnTo>
                      <a:lnTo>
                        <a:pt x="51" y="32"/>
                      </a:lnTo>
                      <a:lnTo>
                        <a:pt x="63" y="32"/>
                      </a:lnTo>
                      <a:lnTo>
                        <a:pt x="72" y="32"/>
                      </a:lnTo>
                      <a:lnTo>
                        <a:pt x="84" y="29"/>
                      </a:lnTo>
                      <a:lnTo>
                        <a:pt x="93" y="25"/>
                      </a:lnTo>
                      <a:lnTo>
                        <a:pt x="104" y="24"/>
                      </a:lnTo>
                      <a:lnTo>
                        <a:pt x="110" y="26"/>
                      </a:lnTo>
                      <a:lnTo>
                        <a:pt x="114" y="29"/>
                      </a:lnTo>
                      <a:lnTo>
                        <a:pt x="119" y="29"/>
                      </a:lnTo>
                      <a:lnTo>
                        <a:pt x="123" y="26"/>
                      </a:lnTo>
                      <a:lnTo>
                        <a:pt x="118" y="20"/>
                      </a:lnTo>
                      <a:lnTo>
                        <a:pt x="111" y="21"/>
                      </a:lnTo>
                      <a:lnTo>
                        <a:pt x="104" y="19"/>
                      </a:lnTo>
                      <a:lnTo>
                        <a:pt x="98" y="18"/>
                      </a:lnTo>
                      <a:lnTo>
                        <a:pt x="93" y="20"/>
                      </a:lnTo>
                      <a:lnTo>
                        <a:pt x="82" y="25"/>
                      </a:lnTo>
                      <a:lnTo>
                        <a:pt x="74" y="27"/>
                      </a:lnTo>
                      <a:lnTo>
                        <a:pt x="64" y="27"/>
                      </a:lnTo>
                      <a:lnTo>
                        <a:pt x="55" y="28"/>
                      </a:lnTo>
                      <a:lnTo>
                        <a:pt x="42" y="26"/>
                      </a:lnTo>
                      <a:lnTo>
                        <a:pt x="50" y="24"/>
                      </a:lnTo>
                      <a:lnTo>
                        <a:pt x="41" y="23"/>
                      </a:lnTo>
                      <a:lnTo>
                        <a:pt x="32" y="21"/>
                      </a:lnTo>
                      <a:lnTo>
                        <a:pt x="28" y="19"/>
                      </a:lnTo>
                      <a:lnTo>
                        <a:pt x="35" y="16"/>
                      </a:lnTo>
                      <a:lnTo>
                        <a:pt x="22" y="14"/>
                      </a:lnTo>
                      <a:lnTo>
                        <a:pt x="19" y="12"/>
                      </a:lnTo>
                      <a:lnTo>
                        <a:pt x="19" y="10"/>
                      </a:lnTo>
                      <a:lnTo>
                        <a:pt x="19" y="7"/>
                      </a:lnTo>
                      <a:lnTo>
                        <a:pt x="21" y="4"/>
                      </a:lnTo>
                      <a:lnTo>
                        <a:pt x="27" y="0"/>
                      </a:lnTo>
                      <a:lnTo>
                        <a:pt x="15" y="5"/>
                      </a:lnTo>
                      <a:lnTo>
                        <a:pt x="4" y="12"/>
                      </a:lnTo>
                      <a:lnTo>
                        <a:pt x="5" y="13"/>
                      </a:lnTo>
                      <a:lnTo>
                        <a:pt x="8" y="21"/>
                      </a:lnTo>
                      <a:lnTo>
                        <a:pt x="11" y="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3360600" y="1681200"/>
                  <a:ext cx="193320" cy="303120"/>
                </a:xfrm>
                <a:custGeom>
                  <a:avLst/>
                  <a:gdLst/>
                  <a:ahLst/>
                  <a:rect l="l" t="t" r="r" b="b"/>
                  <a:pathLst>
                    <a:path w="122" h="191">
                      <a:moveTo>
                        <a:pt x="1" y="14"/>
                      </a:moveTo>
                      <a:lnTo>
                        <a:pt x="0" y="16"/>
                      </a:lnTo>
                      <a:lnTo>
                        <a:pt x="1" y="17"/>
                      </a:lnTo>
                      <a:lnTo>
                        <a:pt x="5" y="18"/>
                      </a:lnTo>
                      <a:lnTo>
                        <a:pt x="8" y="19"/>
                      </a:lnTo>
                      <a:lnTo>
                        <a:pt x="14" y="19"/>
                      </a:lnTo>
                      <a:lnTo>
                        <a:pt x="22" y="18"/>
                      </a:lnTo>
                      <a:lnTo>
                        <a:pt x="16" y="20"/>
                      </a:lnTo>
                      <a:lnTo>
                        <a:pt x="9" y="21"/>
                      </a:lnTo>
                      <a:lnTo>
                        <a:pt x="3" y="21"/>
                      </a:lnTo>
                      <a:lnTo>
                        <a:pt x="3" y="22"/>
                      </a:lnTo>
                      <a:lnTo>
                        <a:pt x="5" y="24"/>
                      </a:lnTo>
                      <a:lnTo>
                        <a:pt x="9" y="26"/>
                      </a:lnTo>
                      <a:lnTo>
                        <a:pt x="14" y="25"/>
                      </a:lnTo>
                      <a:lnTo>
                        <a:pt x="17" y="27"/>
                      </a:lnTo>
                      <a:lnTo>
                        <a:pt x="17" y="28"/>
                      </a:lnTo>
                      <a:lnTo>
                        <a:pt x="14" y="30"/>
                      </a:lnTo>
                      <a:lnTo>
                        <a:pt x="11" y="30"/>
                      </a:lnTo>
                      <a:lnTo>
                        <a:pt x="17" y="31"/>
                      </a:lnTo>
                      <a:lnTo>
                        <a:pt x="26" y="31"/>
                      </a:lnTo>
                      <a:lnTo>
                        <a:pt x="37" y="29"/>
                      </a:lnTo>
                      <a:lnTo>
                        <a:pt x="45" y="27"/>
                      </a:lnTo>
                      <a:lnTo>
                        <a:pt x="36" y="30"/>
                      </a:lnTo>
                      <a:lnTo>
                        <a:pt x="25" y="32"/>
                      </a:lnTo>
                      <a:lnTo>
                        <a:pt x="18" y="34"/>
                      </a:lnTo>
                      <a:lnTo>
                        <a:pt x="23" y="36"/>
                      </a:lnTo>
                      <a:lnTo>
                        <a:pt x="32" y="37"/>
                      </a:lnTo>
                      <a:lnTo>
                        <a:pt x="40" y="38"/>
                      </a:lnTo>
                      <a:lnTo>
                        <a:pt x="49" y="38"/>
                      </a:lnTo>
                      <a:lnTo>
                        <a:pt x="54" y="37"/>
                      </a:lnTo>
                      <a:lnTo>
                        <a:pt x="46" y="34"/>
                      </a:lnTo>
                      <a:lnTo>
                        <a:pt x="60" y="28"/>
                      </a:lnTo>
                      <a:lnTo>
                        <a:pt x="56" y="26"/>
                      </a:lnTo>
                      <a:lnTo>
                        <a:pt x="63" y="27"/>
                      </a:lnTo>
                      <a:lnTo>
                        <a:pt x="69" y="29"/>
                      </a:lnTo>
                      <a:lnTo>
                        <a:pt x="75" y="34"/>
                      </a:lnTo>
                      <a:lnTo>
                        <a:pt x="80" y="37"/>
                      </a:lnTo>
                      <a:lnTo>
                        <a:pt x="83" y="45"/>
                      </a:lnTo>
                      <a:lnTo>
                        <a:pt x="88" y="45"/>
                      </a:lnTo>
                      <a:lnTo>
                        <a:pt x="92" y="44"/>
                      </a:lnTo>
                      <a:lnTo>
                        <a:pt x="95" y="42"/>
                      </a:lnTo>
                      <a:lnTo>
                        <a:pt x="97" y="38"/>
                      </a:lnTo>
                      <a:lnTo>
                        <a:pt x="98" y="37"/>
                      </a:lnTo>
                      <a:lnTo>
                        <a:pt x="98" y="40"/>
                      </a:lnTo>
                      <a:lnTo>
                        <a:pt x="97" y="44"/>
                      </a:lnTo>
                      <a:lnTo>
                        <a:pt x="96" y="47"/>
                      </a:lnTo>
                      <a:lnTo>
                        <a:pt x="100" y="47"/>
                      </a:lnTo>
                      <a:lnTo>
                        <a:pt x="105" y="46"/>
                      </a:lnTo>
                      <a:lnTo>
                        <a:pt x="108" y="47"/>
                      </a:lnTo>
                      <a:lnTo>
                        <a:pt x="109" y="49"/>
                      </a:lnTo>
                      <a:lnTo>
                        <a:pt x="111" y="55"/>
                      </a:lnTo>
                      <a:lnTo>
                        <a:pt x="110" y="67"/>
                      </a:lnTo>
                      <a:lnTo>
                        <a:pt x="112" y="72"/>
                      </a:lnTo>
                      <a:lnTo>
                        <a:pt x="115" y="74"/>
                      </a:lnTo>
                      <a:lnTo>
                        <a:pt x="116" y="77"/>
                      </a:lnTo>
                      <a:lnTo>
                        <a:pt x="113" y="77"/>
                      </a:lnTo>
                      <a:lnTo>
                        <a:pt x="106" y="73"/>
                      </a:lnTo>
                      <a:lnTo>
                        <a:pt x="98" y="73"/>
                      </a:lnTo>
                      <a:lnTo>
                        <a:pt x="94" y="79"/>
                      </a:lnTo>
                      <a:lnTo>
                        <a:pt x="93" y="89"/>
                      </a:lnTo>
                      <a:lnTo>
                        <a:pt x="97" y="93"/>
                      </a:lnTo>
                      <a:lnTo>
                        <a:pt x="96" y="105"/>
                      </a:lnTo>
                      <a:lnTo>
                        <a:pt x="98" y="99"/>
                      </a:lnTo>
                      <a:lnTo>
                        <a:pt x="106" y="95"/>
                      </a:lnTo>
                      <a:lnTo>
                        <a:pt x="103" y="90"/>
                      </a:lnTo>
                      <a:lnTo>
                        <a:pt x="97" y="88"/>
                      </a:lnTo>
                      <a:lnTo>
                        <a:pt x="102" y="83"/>
                      </a:lnTo>
                      <a:lnTo>
                        <a:pt x="109" y="88"/>
                      </a:lnTo>
                      <a:lnTo>
                        <a:pt x="107" y="80"/>
                      </a:lnTo>
                      <a:lnTo>
                        <a:pt x="110" y="79"/>
                      </a:lnTo>
                      <a:lnTo>
                        <a:pt x="103" y="79"/>
                      </a:lnTo>
                      <a:lnTo>
                        <a:pt x="95" y="86"/>
                      </a:lnTo>
                      <a:lnTo>
                        <a:pt x="96" y="79"/>
                      </a:lnTo>
                      <a:lnTo>
                        <a:pt x="99" y="75"/>
                      </a:lnTo>
                      <a:lnTo>
                        <a:pt x="106" y="75"/>
                      </a:lnTo>
                      <a:lnTo>
                        <a:pt x="113" y="79"/>
                      </a:lnTo>
                      <a:lnTo>
                        <a:pt x="114" y="87"/>
                      </a:lnTo>
                      <a:lnTo>
                        <a:pt x="112" y="95"/>
                      </a:lnTo>
                      <a:lnTo>
                        <a:pt x="106" y="103"/>
                      </a:lnTo>
                      <a:lnTo>
                        <a:pt x="105" y="109"/>
                      </a:lnTo>
                      <a:lnTo>
                        <a:pt x="98" y="113"/>
                      </a:lnTo>
                      <a:lnTo>
                        <a:pt x="95" y="107"/>
                      </a:lnTo>
                      <a:lnTo>
                        <a:pt x="89" y="142"/>
                      </a:lnTo>
                      <a:lnTo>
                        <a:pt x="85" y="164"/>
                      </a:lnTo>
                      <a:lnTo>
                        <a:pt x="68" y="180"/>
                      </a:lnTo>
                      <a:lnTo>
                        <a:pt x="62" y="190"/>
                      </a:lnTo>
                      <a:lnTo>
                        <a:pt x="69" y="180"/>
                      </a:lnTo>
                      <a:lnTo>
                        <a:pt x="92" y="157"/>
                      </a:lnTo>
                      <a:lnTo>
                        <a:pt x="105" y="132"/>
                      </a:lnTo>
                      <a:lnTo>
                        <a:pt x="104" y="131"/>
                      </a:lnTo>
                      <a:lnTo>
                        <a:pt x="100" y="131"/>
                      </a:lnTo>
                      <a:lnTo>
                        <a:pt x="100" y="125"/>
                      </a:lnTo>
                      <a:lnTo>
                        <a:pt x="108" y="123"/>
                      </a:lnTo>
                      <a:lnTo>
                        <a:pt x="108" y="117"/>
                      </a:lnTo>
                      <a:lnTo>
                        <a:pt x="116" y="115"/>
                      </a:lnTo>
                      <a:lnTo>
                        <a:pt x="118" y="105"/>
                      </a:lnTo>
                      <a:lnTo>
                        <a:pt x="121" y="100"/>
                      </a:lnTo>
                      <a:lnTo>
                        <a:pt x="115" y="97"/>
                      </a:lnTo>
                      <a:lnTo>
                        <a:pt x="114" y="95"/>
                      </a:lnTo>
                      <a:lnTo>
                        <a:pt x="116" y="90"/>
                      </a:lnTo>
                      <a:lnTo>
                        <a:pt x="116" y="83"/>
                      </a:lnTo>
                      <a:lnTo>
                        <a:pt x="115" y="81"/>
                      </a:lnTo>
                      <a:lnTo>
                        <a:pt x="119" y="83"/>
                      </a:lnTo>
                      <a:lnTo>
                        <a:pt x="118" y="76"/>
                      </a:lnTo>
                      <a:lnTo>
                        <a:pt x="114" y="70"/>
                      </a:lnTo>
                      <a:lnTo>
                        <a:pt x="113" y="64"/>
                      </a:lnTo>
                      <a:lnTo>
                        <a:pt x="113" y="58"/>
                      </a:lnTo>
                      <a:lnTo>
                        <a:pt x="112" y="54"/>
                      </a:lnTo>
                      <a:lnTo>
                        <a:pt x="113" y="51"/>
                      </a:lnTo>
                      <a:lnTo>
                        <a:pt x="109" y="42"/>
                      </a:lnTo>
                      <a:lnTo>
                        <a:pt x="103" y="33"/>
                      </a:lnTo>
                      <a:lnTo>
                        <a:pt x="97" y="28"/>
                      </a:lnTo>
                      <a:lnTo>
                        <a:pt x="92" y="24"/>
                      </a:lnTo>
                      <a:lnTo>
                        <a:pt x="89" y="16"/>
                      </a:lnTo>
                      <a:lnTo>
                        <a:pt x="83" y="11"/>
                      </a:lnTo>
                      <a:lnTo>
                        <a:pt x="76" y="8"/>
                      </a:lnTo>
                      <a:lnTo>
                        <a:pt x="66" y="3"/>
                      </a:lnTo>
                      <a:lnTo>
                        <a:pt x="55" y="0"/>
                      </a:lnTo>
                      <a:lnTo>
                        <a:pt x="43" y="0"/>
                      </a:lnTo>
                      <a:lnTo>
                        <a:pt x="31" y="2"/>
                      </a:lnTo>
                      <a:lnTo>
                        <a:pt x="23" y="7"/>
                      </a:lnTo>
                      <a:lnTo>
                        <a:pt x="10" y="12"/>
                      </a:lnTo>
                      <a:lnTo>
                        <a:pt x="1"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3450960" y="1741320"/>
                  <a:ext cx="50400" cy="42840"/>
                </a:xfrm>
                <a:custGeom>
                  <a:avLst/>
                  <a:gdLst/>
                  <a:ahLst/>
                  <a:rect l="l" t="t" r="r" b="b"/>
                  <a:pathLst>
                    <a:path w="32" h="27">
                      <a:moveTo>
                        <a:pt x="9" y="1"/>
                      </a:moveTo>
                      <a:lnTo>
                        <a:pt x="4" y="3"/>
                      </a:lnTo>
                      <a:lnTo>
                        <a:pt x="0" y="7"/>
                      </a:lnTo>
                      <a:lnTo>
                        <a:pt x="5" y="7"/>
                      </a:lnTo>
                      <a:lnTo>
                        <a:pt x="2" y="15"/>
                      </a:lnTo>
                      <a:lnTo>
                        <a:pt x="5" y="16"/>
                      </a:lnTo>
                      <a:lnTo>
                        <a:pt x="8" y="26"/>
                      </a:lnTo>
                      <a:lnTo>
                        <a:pt x="7" y="16"/>
                      </a:lnTo>
                      <a:lnTo>
                        <a:pt x="11" y="12"/>
                      </a:lnTo>
                      <a:lnTo>
                        <a:pt x="16" y="11"/>
                      </a:lnTo>
                      <a:lnTo>
                        <a:pt x="22" y="11"/>
                      </a:lnTo>
                      <a:lnTo>
                        <a:pt x="27" y="12"/>
                      </a:lnTo>
                      <a:lnTo>
                        <a:pt x="31" y="15"/>
                      </a:lnTo>
                      <a:lnTo>
                        <a:pt x="26" y="11"/>
                      </a:lnTo>
                      <a:lnTo>
                        <a:pt x="18" y="9"/>
                      </a:lnTo>
                      <a:lnTo>
                        <a:pt x="13" y="9"/>
                      </a:lnTo>
                      <a:lnTo>
                        <a:pt x="6" y="11"/>
                      </a:lnTo>
                      <a:lnTo>
                        <a:pt x="6" y="8"/>
                      </a:lnTo>
                      <a:lnTo>
                        <a:pt x="10" y="6"/>
                      </a:lnTo>
                      <a:lnTo>
                        <a:pt x="3" y="6"/>
                      </a:lnTo>
                      <a:lnTo>
                        <a:pt x="6" y="4"/>
                      </a:lnTo>
                      <a:lnTo>
                        <a:pt x="11" y="2"/>
                      </a:lnTo>
                      <a:lnTo>
                        <a:pt x="15" y="2"/>
                      </a:lnTo>
                      <a:lnTo>
                        <a:pt x="22" y="4"/>
                      </a:lnTo>
                      <a:lnTo>
                        <a:pt x="17" y="1"/>
                      </a:lnTo>
                      <a:lnTo>
                        <a:pt x="11" y="0"/>
                      </a:lnTo>
                      <a:lnTo>
                        <a:pt x="9" y="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8" name=""/>
                <p:cNvSpPr/>
                <p:nvPr/>
              </p:nvSpPr>
              <p:spPr>
                <a:xfrm>
                  <a:off x="3466800" y="1789200"/>
                  <a:ext cx="45720" cy="34920"/>
                </a:xfrm>
                <a:custGeom>
                  <a:avLst/>
                  <a:gdLst/>
                  <a:ahLst/>
                  <a:rect l="l" t="t" r="r" b="b"/>
                  <a:pathLst>
                    <a:path w="29" h="22">
                      <a:moveTo>
                        <a:pt x="2" y="1"/>
                      </a:moveTo>
                      <a:lnTo>
                        <a:pt x="8" y="0"/>
                      </a:lnTo>
                      <a:lnTo>
                        <a:pt x="13" y="1"/>
                      </a:lnTo>
                      <a:lnTo>
                        <a:pt x="17" y="4"/>
                      </a:lnTo>
                      <a:lnTo>
                        <a:pt x="20" y="7"/>
                      </a:lnTo>
                      <a:lnTo>
                        <a:pt x="20" y="9"/>
                      </a:lnTo>
                      <a:lnTo>
                        <a:pt x="20" y="10"/>
                      </a:lnTo>
                      <a:lnTo>
                        <a:pt x="18" y="10"/>
                      </a:lnTo>
                      <a:lnTo>
                        <a:pt x="15" y="8"/>
                      </a:lnTo>
                      <a:lnTo>
                        <a:pt x="12" y="7"/>
                      </a:lnTo>
                      <a:lnTo>
                        <a:pt x="9" y="6"/>
                      </a:lnTo>
                      <a:lnTo>
                        <a:pt x="12" y="10"/>
                      </a:lnTo>
                      <a:lnTo>
                        <a:pt x="13" y="14"/>
                      </a:lnTo>
                      <a:lnTo>
                        <a:pt x="12" y="18"/>
                      </a:lnTo>
                      <a:lnTo>
                        <a:pt x="26" y="20"/>
                      </a:lnTo>
                      <a:lnTo>
                        <a:pt x="28" y="21"/>
                      </a:lnTo>
                      <a:lnTo>
                        <a:pt x="11" y="19"/>
                      </a:lnTo>
                      <a:lnTo>
                        <a:pt x="11" y="16"/>
                      </a:lnTo>
                      <a:lnTo>
                        <a:pt x="11" y="13"/>
                      </a:lnTo>
                      <a:lnTo>
                        <a:pt x="9" y="8"/>
                      </a:lnTo>
                      <a:lnTo>
                        <a:pt x="6" y="6"/>
                      </a:lnTo>
                      <a:lnTo>
                        <a:pt x="1" y="4"/>
                      </a:lnTo>
                      <a:lnTo>
                        <a:pt x="0" y="0"/>
                      </a:lnTo>
                      <a:lnTo>
                        <a:pt x="2" y="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79" name=""/>
                <p:cNvSpPr/>
                <p:nvPr/>
              </p:nvSpPr>
              <p:spPr>
                <a:xfrm>
                  <a:off x="3476520" y="1819080"/>
                  <a:ext cx="24840" cy="38160"/>
                </a:xfrm>
                <a:custGeom>
                  <a:avLst/>
                  <a:gdLst/>
                  <a:ahLst/>
                  <a:rect l="l" t="t" r="r" b="b"/>
                  <a:pathLst>
                    <a:path w="16" h="24">
                      <a:moveTo>
                        <a:pt x="6" y="0"/>
                      </a:moveTo>
                      <a:lnTo>
                        <a:pt x="0" y="13"/>
                      </a:lnTo>
                      <a:lnTo>
                        <a:pt x="1" y="23"/>
                      </a:lnTo>
                      <a:lnTo>
                        <a:pt x="15" y="5"/>
                      </a:lnTo>
                      <a:lnTo>
                        <a:pt x="15" y="1"/>
                      </a:lnTo>
                      <a:lnTo>
                        <a:pt x="6"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80" name=""/>
                <p:cNvSpPr/>
                <p:nvPr/>
              </p:nvSpPr>
              <p:spPr>
                <a:xfrm>
                  <a:off x="3392280" y="1912680"/>
                  <a:ext cx="101160" cy="76320"/>
                </a:xfrm>
                <a:custGeom>
                  <a:avLst/>
                  <a:gdLst/>
                  <a:ahLst/>
                  <a:rect l="l" t="t" r="r" b="b"/>
                  <a:pathLst>
                    <a:path w="64" h="48">
                      <a:moveTo>
                        <a:pt x="63" y="0"/>
                      </a:moveTo>
                      <a:lnTo>
                        <a:pt x="55" y="4"/>
                      </a:lnTo>
                      <a:lnTo>
                        <a:pt x="47" y="15"/>
                      </a:lnTo>
                      <a:lnTo>
                        <a:pt x="38" y="14"/>
                      </a:lnTo>
                      <a:lnTo>
                        <a:pt x="35" y="19"/>
                      </a:lnTo>
                      <a:lnTo>
                        <a:pt x="30" y="22"/>
                      </a:lnTo>
                      <a:lnTo>
                        <a:pt x="21" y="21"/>
                      </a:lnTo>
                      <a:lnTo>
                        <a:pt x="14" y="24"/>
                      </a:lnTo>
                      <a:lnTo>
                        <a:pt x="9" y="25"/>
                      </a:lnTo>
                      <a:lnTo>
                        <a:pt x="4" y="25"/>
                      </a:lnTo>
                      <a:lnTo>
                        <a:pt x="0" y="23"/>
                      </a:lnTo>
                      <a:lnTo>
                        <a:pt x="4" y="26"/>
                      </a:lnTo>
                      <a:lnTo>
                        <a:pt x="8" y="26"/>
                      </a:lnTo>
                      <a:lnTo>
                        <a:pt x="17" y="26"/>
                      </a:lnTo>
                      <a:lnTo>
                        <a:pt x="22" y="28"/>
                      </a:lnTo>
                      <a:lnTo>
                        <a:pt x="28" y="37"/>
                      </a:lnTo>
                      <a:lnTo>
                        <a:pt x="38" y="44"/>
                      </a:lnTo>
                      <a:lnTo>
                        <a:pt x="39" y="47"/>
                      </a:lnTo>
                      <a:lnTo>
                        <a:pt x="41" y="45"/>
                      </a:lnTo>
                      <a:lnTo>
                        <a:pt x="41" y="40"/>
                      </a:lnTo>
                      <a:lnTo>
                        <a:pt x="40" y="33"/>
                      </a:lnTo>
                      <a:lnTo>
                        <a:pt x="41" y="27"/>
                      </a:lnTo>
                      <a:lnTo>
                        <a:pt x="42" y="24"/>
                      </a:lnTo>
                      <a:lnTo>
                        <a:pt x="46" y="20"/>
                      </a:lnTo>
                      <a:lnTo>
                        <a:pt x="50" y="17"/>
                      </a:lnTo>
                      <a:lnTo>
                        <a:pt x="54" y="10"/>
                      </a:lnTo>
                      <a:lnTo>
                        <a:pt x="59" y="4"/>
                      </a:lnTo>
                      <a:lnTo>
                        <a:pt x="6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81" name=""/>
                <p:cNvSpPr/>
                <p:nvPr/>
              </p:nvSpPr>
              <p:spPr>
                <a:xfrm>
                  <a:off x="3470040" y="1869840"/>
                  <a:ext cx="9360" cy="39960"/>
                </a:xfrm>
                <a:custGeom>
                  <a:avLst/>
                  <a:gdLst/>
                  <a:ahLst/>
                  <a:rect l="l" t="t" r="r" b="b"/>
                  <a:pathLst>
                    <a:path w="6" h="25">
                      <a:moveTo>
                        <a:pt x="4" y="0"/>
                      </a:moveTo>
                      <a:lnTo>
                        <a:pt x="0" y="24"/>
                      </a:lnTo>
                      <a:lnTo>
                        <a:pt x="5" y="8"/>
                      </a:lnTo>
                      <a:lnTo>
                        <a:pt x="4"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82" name=""/>
                <p:cNvSpPr/>
                <p:nvPr/>
              </p:nvSpPr>
              <p:spPr>
                <a:xfrm>
                  <a:off x="3369960" y="1778040"/>
                  <a:ext cx="85320" cy="23760"/>
                </a:xfrm>
                <a:custGeom>
                  <a:avLst/>
                  <a:gdLst/>
                  <a:ahLst/>
                  <a:rect l="l" t="t" r="r" b="b"/>
                  <a:pathLst>
                    <a:path w="54" h="15">
                      <a:moveTo>
                        <a:pt x="0" y="14"/>
                      </a:moveTo>
                      <a:lnTo>
                        <a:pt x="2" y="11"/>
                      </a:lnTo>
                      <a:lnTo>
                        <a:pt x="7" y="9"/>
                      </a:lnTo>
                      <a:lnTo>
                        <a:pt x="14" y="7"/>
                      </a:lnTo>
                      <a:lnTo>
                        <a:pt x="24" y="6"/>
                      </a:lnTo>
                      <a:lnTo>
                        <a:pt x="33" y="3"/>
                      </a:lnTo>
                      <a:lnTo>
                        <a:pt x="41" y="0"/>
                      </a:lnTo>
                      <a:lnTo>
                        <a:pt x="47" y="0"/>
                      </a:lnTo>
                      <a:lnTo>
                        <a:pt x="51" y="2"/>
                      </a:lnTo>
                      <a:lnTo>
                        <a:pt x="53" y="3"/>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83" name=""/>
                <p:cNvSpPr/>
                <p:nvPr/>
              </p:nvSpPr>
              <p:spPr>
                <a:xfrm>
                  <a:off x="3387600" y="1770120"/>
                  <a:ext cx="64800" cy="15840"/>
                </a:xfrm>
                <a:custGeom>
                  <a:avLst/>
                  <a:gdLst/>
                  <a:ahLst/>
                  <a:rect l="l" t="t" r="r" b="b"/>
                  <a:pathLst>
                    <a:path w="41" h="10">
                      <a:moveTo>
                        <a:pt x="0" y="9"/>
                      </a:moveTo>
                      <a:lnTo>
                        <a:pt x="9" y="7"/>
                      </a:lnTo>
                      <a:lnTo>
                        <a:pt x="18" y="3"/>
                      </a:lnTo>
                      <a:lnTo>
                        <a:pt x="26" y="1"/>
                      </a:lnTo>
                      <a:lnTo>
                        <a:pt x="31" y="0"/>
                      </a:lnTo>
                      <a:lnTo>
                        <a:pt x="36" y="2"/>
                      </a:lnTo>
                      <a:lnTo>
                        <a:pt x="40" y="4"/>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84" name=""/>
                <p:cNvSpPr/>
                <p:nvPr/>
              </p:nvSpPr>
              <p:spPr>
                <a:xfrm>
                  <a:off x="3447720" y="1805040"/>
                  <a:ext cx="14040" cy="15840"/>
                </a:xfrm>
                <a:custGeom>
                  <a:avLst/>
                  <a:gdLst/>
                  <a:ahLst/>
                  <a:rect l="l" t="t" r="r" b="b"/>
                  <a:pathLst>
                    <a:path w="9" h="10">
                      <a:moveTo>
                        <a:pt x="0" y="0"/>
                      </a:moveTo>
                      <a:lnTo>
                        <a:pt x="0" y="7"/>
                      </a:lnTo>
                      <a:lnTo>
                        <a:pt x="4" y="9"/>
                      </a:lnTo>
                      <a:lnTo>
                        <a:pt x="8" y="3"/>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85" name=""/>
                <p:cNvSpPr/>
                <p:nvPr/>
              </p:nvSpPr>
              <p:spPr>
                <a:xfrm>
                  <a:off x="3566880" y="1992240"/>
                  <a:ext cx="245880" cy="433440"/>
                </a:xfrm>
                <a:custGeom>
                  <a:avLst/>
                  <a:gdLst/>
                  <a:ahLst/>
                  <a:rect l="l" t="t" r="r" b="b"/>
                  <a:pathLst>
                    <a:path w="155" h="273">
                      <a:moveTo>
                        <a:pt x="107" y="36"/>
                      </a:moveTo>
                      <a:lnTo>
                        <a:pt x="117" y="69"/>
                      </a:lnTo>
                      <a:lnTo>
                        <a:pt x="139" y="106"/>
                      </a:lnTo>
                      <a:lnTo>
                        <a:pt x="132" y="153"/>
                      </a:lnTo>
                      <a:lnTo>
                        <a:pt x="154" y="225"/>
                      </a:lnTo>
                      <a:lnTo>
                        <a:pt x="154" y="272"/>
                      </a:lnTo>
                      <a:lnTo>
                        <a:pt x="66" y="272"/>
                      </a:lnTo>
                      <a:lnTo>
                        <a:pt x="0" y="238"/>
                      </a:lnTo>
                      <a:lnTo>
                        <a:pt x="36" y="216"/>
                      </a:lnTo>
                      <a:lnTo>
                        <a:pt x="37" y="200"/>
                      </a:lnTo>
                      <a:lnTo>
                        <a:pt x="43" y="176"/>
                      </a:lnTo>
                      <a:lnTo>
                        <a:pt x="43" y="198"/>
                      </a:lnTo>
                      <a:lnTo>
                        <a:pt x="67" y="171"/>
                      </a:lnTo>
                      <a:lnTo>
                        <a:pt x="72" y="164"/>
                      </a:lnTo>
                      <a:lnTo>
                        <a:pt x="74" y="153"/>
                      </a:lnTo>
                      <a:lnTo>
                        <a:pt x="77" y="139"/>
                      </a:lnTo>
                      <a:lnTo>
                        <a:pt x="95" y="140"/>
                      </a:lnTo>
                      <a:lnTo>
                        <a:pt x="99" y="130"/>
                      </a:lnTo>
                      <a:lnTo>
                        <a:pt x="88" y="108"/>
                      </a:lnTo>
                      <a:lnTo>
                        <a:pt x="99" y="108"/>
                      </a:lnTo>
                      <a:lnTo>
                        <a:pt x="99" y="103"/>
                      </a:lnTo>
                      <a:lnTo>
                        <a:pt x="90" y="91"/>
                      </a:lnTo>
                      <a:lnTo>
                        <a:pt x="91" y="83"/>
                      </a:lnTo>
                      <a:lnTo>
                        <a:pt x="105" y="69"/>
                      </a:lnTo>
                      <a:lnTo>
                        <a:pt x="106" y="51"/>
                      </a:lnTo>
                      <a:lnTo>
                        <a:pt x="97" y="36"/>
                      </a:lnTo>
                      <a:lnTo>
                        <a:pt x="96" y="18"/>
                      </a:lnTo>
                      <a:lnTo>
                        <a:pt x="88" y="0"/>
                      </a:lnTo>
                      <a:lnTo>
                        <a:pt x="103" y="25"/>
                      </a:lnTo>
                      <a:lnTo>
                        <a:pt x="107" y="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a:off x="3530520" y="1882800"/>
                  <a:ext cx="85320" cy="102960"/>
                </a:xfrm>
                <a:custGeom>
                  <a:avLst/>
                  <a:gdLst/>
                  <a:ahLst/>
                  <a:rect l="l" t="t" r="r" b="b"/>
                  <a:pathLst>
                    <a:path w="54" h="65">
                      <a:moveTo>
                        <a:pt x="2" y="5"/>
                      </a:moveTo>
                      <a:lnTo>
                        <a:pt x="11" y="22"/>
                      </a:lnTo>
                      <a:lnTo>
                        <a:pt x="0" y="64"/>
                      </a:lnTo>
                      <a:lnTo>
                        <a:pt x="16" y="16"/>
                      </a:lnTo>
                      <a:lnTo>
                        <a:pt x="16" y="11"/>
                      </a:lnTo>
                      <a:lnTo>
                        <a:pt x="14" y="8"/>
                      </a:lnTo>
                      <a:lnTo>
                        <a:pt x="24" y="11"/>
                      </a:lnTo>
                      <a:lnTo>
                        <a:pt x="30" y="18"/>
                      </a:lnTo>
                      <a:lnTo>
                        <a:pt x="32" y="26"/>
                      </a:lnTo>
                      <a:lnTo>
                        <a:pt x="27" y="40"/>
                      </a:lnTo>
                      <a:lnTo>
                        <a:pt x="35" y="29"/>
                      </a:lnTo>
                      <a:lnTo>
                        <a:pt x="41" y="31"/>
                      </a:lnTo>
                      <a:lnTo>
                        <a:pt x="21" y="64"/>
                      </a:lnTo>
                      <a:lnTo>
                        <a:pt x="53" y="27"/>
                      </a:lnTo>
                      <a:lnTo>
                        <a:pt x="49" y="24"/>
                      </a:lnTo>
                      <a:lnTo>
                        <a:pt x="45" y="26"/>
                      </a:lnTo>
                      <a:lnTo>
                        <a:pt x="36" y="24"/>
                      </a:lnTo>
                      <a:lnTo>
                        <a:pt x="34" y="17"/>
                      </a:lnTo>
                      <a:lnTo>
                        <a:pt x="28" y="11"/>
                      </a:lnTo>
                      <a:lnTo>
                        <a:pt x="18" y="6"/>
                      </a:lnTo>
                      <a:lnTo>
                        <a:pt x="11" y="6"/>
                      </a:lnTo>
                      <a:lnTo>
                        <a:pt x="0" y="0"/>
                      </a:lnTo>
                      <a:lnTo>
                        <a:pt x="2"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
                <p:cNvSpPr/>
                <p:nvPr/>
              </p:nvSpPr>
              <p:spPr>
                <a:xfrm>
                  <a:off x="3627360" y="1931760"/>
                  <a:ext cx="75600" cy="59040"/>
                </a:xfrm>
                <a:custGeom>
                  <a:avLst/>
                  <a:gdLst/>
                  <a:ahLst/>
                  <a:rect l="l" t="t" r="r" b="b"/>
                  <a:pathLst>
                    <a:path w="48" h="37">
                      <a:moveTo>
                        <a:pt x="0" y="0"/>
                      </a:moveTo>
                      <a:lnTo>
                        <a:pt x="15" y="7"/>
                      </a:lnTo>
                      <a:lnTo>
                        <a:pt x="30" y="12"/>
                      </a:lnTo>
                      <a:lnTo>
                        <a:pt x="47" y="36"/>
                      </a:lnTo>
                      <a:lnTo>
                        <a:pt x="36" y="32"/>
                      </a:lnTo>
                      <a:lnTo>
                        <a:pt x="29" y="15"/>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388" name=""/>
                <p:cNvSpPr/>
                <p:nvPr/>
              </p:nvSpPr>
              <p:spPr>
                <a:xfrm>
                  <a:off x="3431880" y="1990800"/>
                  <a:ext cx="77400" cy="280800"/>
                </a:xfrm>
                <a:custGeom>
                  <a:avLst/>
                  <a:gdLst/>
                  <a:ahLst/>
                  <a:rect l="l" t="t" r="r" b="b"/>
                  <a:pathLst>
                    <a:path w="49" h="177">
                      <a:moveTo>
                        <a:pt x="15" y="0"/>
                      </a:moveTo>
                      <a:lnTo>
                        <a:pt x="15" y="6"/>
                      </a:lnTo>
                      <a:lnTo>
                        <a:pt x="44" y="23"/>
                      </a:lnTo>
                      <a:lnTo>
                        <a:pt x="19" y="13"/>
                      </a:lnTo>
                      <a:lnTo>
                        <a:pt x="15" y="31"/>
                      </a:lnTo>
                      <a:lnTo>
                        <a:pt x="19" y="45"/>
                      </a:lnTo>
                      <a:lnTo>
                        <a:pt x="19" y="57"/>
                      </a:lnTo>
                      <a:lnTo>
                        <a:pt x="15" y="86"/>
                      </a:lnTo>
                      <a:lnTo>
                        <a:pt x="12" y="111"/>
                      </a:lnTo>
                      <a:lnTo>
                        <a:pt x="14" y="125"/>
                      </a:lnTo>
                      <a:lnTo>
                        <a:pt x="23" y="144"/>
                      </a:lnTo>
                      <a:lnTo>
                        <a:pt x="36" y="161"/>
                      </a:lnTo>
                      <a:lnTo>
                        <a:pt x="48" y="162"/>
                      </a:lnTo>
                      <a:lnTo>
                        <a:pt x="33" y="161"/>
                      </a:lnTo>
                      <a:lnTo>
                        <a:pt x="29" y="164"/>
                      </a:lnTo>
                      <a:lnTo>
                        <a:pt x="29" y="176"/>
                      </a:lnTo>
                      <a:lnTo>
                        <a:pt x="19" y="167"/>
                      </a:lnTo>
                      <a:lnTo>
                        <a:pt x="0" y="173"/>
                      </a:lnTo>
                      <a:lnTo>
                        <a:pt x="17" y="165"/>
                      </a:lnTo>
                      <a:lnTo>
                        <a:pt x="14" y="151"/>
                      </a:lnTo>
                      <a:lnTo>
                        <a:pt x="10" y="130"/>
                      </a:lnTo>
                      <a:lnTo>
                        <a:pt x="9" y="108"/>
                      </a:lnTo>
                      <a:lnTo>
                        <a:pt x="11" y="86"/>
                      </a:lnTo>
                      <a:lnTo>
                        <a:pt x="15" y="65"/>
                      </a:lnTo>
                      <a:lnTo>
                        <a:pt x="17" y="54"/>
                      </a:lnTo>
                      <a:lnTo>
                        <a:pt x="17" y="43"/>
                      </a:lnTo>
                      <a:lnTo>
                        <a:pt x="14" y="36"/>
                      </a:lnTo>
                      <a:lnTo>
                        <a:pt x="4" y="31"/>
                      </a:lnTo>
                      <a:lnTo>
                        <a:pt x="14" y="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
                <p:cNvSpPr/>
                <p:nvPr/>
              </p:nvSpPr>
              <p:spPr>
                <a:xfrm>
                  <a:off x="3321000" y="1987560"/>
                  <a:ext cx="124920" cy="280800"/>
                </a:xfrm>
                <a:custGeom>
                  <a:avLst/>
                  <a:gdLst/>
                  <a:ahLst/>
                  <a:rect l="l" t="t" r="r" b="b"/>
                  <a:pathLst>
                    <a:path w="79" h="177">
                      <a:moveTo>
                        <a:pt x="74" y="0"/>
                      </a:moveTo>
                      <a:lnTo>
                        <a:pt x="68" y="8"/>
                      </a:lnTo>
                      <a:lnTo>
                        <a:pt x="67" y="16"/>
                      </a:lnTo>
                      <a:lnTo>
                        <a:pt x="67" y="32"/>
                      </a:lnTo>
                      <a:lnTo>
                        <a:pt x="67" y="56"/>
                      </a:lnTo>
                      <a:lnTo>
                        <a:pt x="62" y="93"/>
                      </a:lnTo>
                      <a:lnTo>
                        <a:pt x="60" y="121"/>
                      </a:lnTo>
                      <a:lnTo>
                        <a:pt x="61" y="136"/>
                      </a:lnTo>
                      <a:lnTo>
                        <a:pt x="64" y="150"/>
                      </a:lnTo>
                      <a:lnTo>
                        <a:pt x="67" y="160"/>
                      </a:lnTo>
                      <a:lnTo>
                        <a:pt x="73" y="168"/>
                      </a:lnTo>
                      <a:lnTo>
                        <a:pt x="78" y="171"/>
                      </a:lnTo>
                      <a:lnTo>
                        <a:pt x="70" y="176"/>
                      </a:lnTo>
                      <a:lnTo>
                        <a:pt x="62" y="176"/>
                      </a:lnTo>
                      <a:lnTo>
                        <a:pt x="62" y="162"/>
                      </a:lnTo>
                      <a:lnTo>
                        <a:pt x="57" y="148"/>
                      </a:lnTo>
                      <a:lnTo>
                        <a:pt x="41" y="102"/>
                      </a:lnTo>
                      <a:lnTo>
                        <a:pt x="12" y="107"/>
                      </a:lnTo>
                      <a:lnTo>
                        <a:pt x="6" y="106"/>
                      </a:lnTo>
                      <a:lnTo>
                        <a:pt x="28" y="97"/>
                      </a:lnTo>
                      <a:lnTo>
                        <a:pt x="24" y="88"/>
                      </a:lnTo>
                      <a:lnTo>
                        <a:pt x="0" y="88"/>
                      </a:lnTo>
                      <a:lnTo>
                        <a:pt x="18" y="80"/>
                      </a:lnTo>
                      <a:lnTo>
                        <a:pt x="33" y="79"/>
                      </a:lnTo>
                      <a:lnTo>
                        <a:pt x="30" y="61"/>
                      </a:lnTo>
                      <a:lnTo>
                        <a:pt x="57" y="137"/>
                      </a:lnTo>
                      <a:lnTo>
                        <a:pt x="57" y="116"/>
                      </a:lnTo>
                      <a:lnTo>
                        <a:pt x="60" y="90"/>
                      </a:lnTo>
                      <a:lnTo>
                        <a:pt x="64" y="62"/>
                      </a:lnTo>
                      <a:lnTo>
                        <a:pt x="66" y="41"/>
                      </a:lnTo>
                      <a:lnTo>
                        <a:pt x="66" y="12"/>
                      </a:lnTo>
                      <a:lnTo>
                        <a:pt x="69" y="4"/>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
                <p:cNvSpPr/>
                <p:nvPr/>
              </p:nvSpPr>
              <p:spPr>
                <a:xfrm>
                  <a:off x="3487680" y="2027160"/>
                  <a:ext cx="167760" cy="243000"/>
                </a:xfrm>
                <a:custGeom>
                  <a:avLst/>
                  <a:gdLst/>
                  <a:ahLst/>
                  <a:rect l="l" t="t" r="r" b="b"/>
                  <a:pathLst>
                    <a:path w="106" h="153">
                      <a:moveTo>
                        <a:pt x="15" y="139"/>
                      </a:moveTo>
                      <a:lnTo>
                        <a:pt x="29" y="144"/>
                      </a:lnTo>
                      <a:lnTo>
                        <a:pt x="43" y="152"/>
                      </a:lnTo>
                      <a:lnTo>
                        <a:pt x="32" y="139"/>
                      </a:lnTo>
                      <a:lnTo>
                        <a:pt x="25" y="133"/>
                      </a:lnTo>
                      <a:lnTo>
                        <a:pt x="18" y="132"/>
                      </a:lnTo>
                      <a:lnTo>
                        <a:pt x="16" y="131"/>
                      </a:lnTo>
                      <a:lnTo>
                        <a:pt x="16" y="118"/>
                      </a:lnTo>
                      <a:lnTo>
                        <a:pt x="19" y="115"/>
                      </a:lnTo>
                      <a:lnTo>
                        <a:pt x="36" y="108"/>
                      </a:lnTo>
                      <a:lnTo>
                        <a:pt x="56" y="95"/>
                      </a:lnTo>
                      <a:lnTo>
                        <a:pt x="74" y="77"/>
                      </a:lnTo>
                      <a:lnTo>
                        <a:pt x="105" y="36"/>
                      </a:lnTo>
                      <a:lnTo>
                        <a:pt x="105" y="29"/>
                      </a:lnTo>
                      <a:lnTo>
                        <a:pt x="79" y="60"/>
                      </a:lnTo>
                      <a:lnTo>
                        <a:pt x="52" y="87"/>
                      </a:lnTo>
                      <a:lnTo>
                        <a:pt x="27" y="105"/>
                      </a:lnTo>
                      <a:lnTo>
                        <a:pt x="42" y="78"/>
                      </a:lnTo>
                      <a:lnTo>
                        <a:pt x="50" y="52"/>
                      </a:lnTo>
                      <a:lnTo>
                        <a:pt x="52" y="36"/>
                      </a:lnTo>
                      <a:lnTo>
                        <a:pt x="64" y="9"/>
                      </a:lnTo>
                      <a:lnTo>
                        <a:pt x="81" y="0"/>
                      </a:lnTo>
                      <a:lnTo>
                        <a:pt x="62" y="8"/>
                      </a:lnTo>
                      <a:lnTo>
                        <a:pt x="47" y="32"/>
                      </a:lnTo>
                      <a:lnTo>
                        <a:pt x="47" y="55"/>
                      </a:lnTo>
                      <a:lnTo>
                        <a:pt x="38" y="78"/>
                      </a:lnTo>
                      <a:lnTo>
                        <a:pt x="26" y="99"/>
                      </a:lnTo>
                      <a:lnTo>
                        <a:pt x="14" y="116"/>
                      </a:lnTo>
                      <a:lnTo>
                        <a:pt x="14" y="132"/>
                      </a:lnTo>
                      <a:lnTo>
                        <a:pt x="0" y="138"/>
                      </a:lnTo>
                      <a:lnTo>
                        <a:pt x="15" y="1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3482640" y="2278080"/>
                  <a:ext cx="95040" cy="88920"/>
                </a:xfrm>
                <a:custGeom>
                  <a:avLst/>
                  <a:gdLst/>
                  <a:ahLst/>
                  <a:rect l="l" t="t" r="r" b="b"/>
                  <a:pathLst>
                    <a:path w="60" h="56">
                      <a:moveTo>
                        <a:pt x="48" y="0"/>
                      </a:moveTo>
                      <a:lnTo>
                        <a:pt x="56" y="14"/>
                      </a:lnTo>
                      <a:lnTo>
                        <a:pt x="59" y="30"/>
                      </a:lnTo>
                      <a:lnTo>
                        <a:pt x="59" y="41"/>
                      </a:lnTo>
                      <a:lnTo>
                        <a:pt x="53" y="54"/>
                      </a:lnTo>
                      <a:lnTo>
                        <a:pt x="43" y="55"/>
                      </a:lnTo>
                      <a:lnTo>
                        <a:pt x="27" y="47"/>
                      </a:lnTo>
                      <a:lnTo>
                        <a:pt x="16" y="36"/>
                      </a:lnTo>
                      <a:lnTo>
                        <a:pt x="0" y="1"/>
                      </a:lnTo>
                      <a:lnTo>
                        <a:pt x="11" y="20"/>
                      </a:lnTo>
                      <a:lnTo>
                        <a:pt x="31" y="37"/>
                      </a:lnTo>
                      <a:lnTo>
                        <a:pt x="53" y="43"/>
                      </a:lnTo>
                      <a:lnTo>
                        <a:pt x="54" y="34"/>
                      </a:lnTo>
                      <a:lnTo>
                        <a:pt x="51" y="23"/>
                      </a:lnTo>
                      <a:lnTo>
                        <a:pt x="44" y="17"/>
                      </a:lnTo>
                      <a:lnTo>
                        <a:pt x="35" y="14"/>
                      </a:lnTo>
                      <a:lnTo>
                        <a:pt x="44" y="11"/>
                      </a:lnTo>
                      <a:lnTo>
                        <a:pt x="48" y="5"/>
                      </a:lnTo>
                      <a:lnTo>
                        <a:pt x="4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92" name=""/>
                <p:cNvSpPr/>
                <p:nvPr/>
              </p:nvSpPr>
              <p:spPr>
                <a:xfrm>
                  <a:off x="3288960" y="2298600"/>
                  <a:ext cx="244080" cy="71280"/>
                </a:xfrm>
                <a:custGeom>
                  <a:avLst/>
                  <a:gdLst/>
                  <a:ahLst/>
                  <a:rect l="l" t="t" r="r" b="b"/>
                  <a:pathLst>
                    <a:path w="154" h="45">
                      <a:moveTo>
                        <a:pt x="153" y="44"/>
                      </a:moveTo>
                      <a:lnTo>
                        <a:pt x="124" y="43"/>
                      </a:lnTo>
                      <a:lnTo>
                        <a:pt x="87" y="39"/>
                      </a:lnTo>
                      <a:lnTo>
                        <a:pt x="43" y="27"/>
                      </a:lnTo>
                      <a:lnTo>
                        <a:pt x="8" y="22"/>
                      </a:lnTo>
                      <a:lnTo>
                        <a:pt x="2" y="17"/>
                      </a:lnTo>
                      <a:lnTo>
                        <a:pt x="0" y="6"/>
                      </a:lnTo>
                      <a:lnTo>
                        <a:pt x="26" y="10"/>
                      </a:lnTo>
                      <a:lnTo>
                        <a:pt x="27" y="0"/>
                      </a:lnTo>
                      <a:lnTo>
                        <a:pt x="30" y="10"/>
                      </a:lnTo>
                      <a:lnTo>
                        <a:pt x="47" y="10"/>
                      </a:lnTo>
                      <a:lnTo>
                        <a:pt x="31" y="18"/>
                      </a:lnTo>
                      <a:lnTo>
                        <a:pt x="33" y="23"/>
                      </a:lnTo>
                      <a:lnTo>
                        <a:pt x="67" y="21"/>
                      </a:lnTo>
                      <a:lnTo>
                        <a:pt x="90" y="22"/>
                      </a:lnTo>
                      <a:lnTo>
                        <a:pt x="115" y="25"/>
                      </a:lnTo>
                      <a:lnTo>
                        <a:pt x="128" y="31"/>
                      </a:lnTo>
                      <a:lnTo>
                        <a:pt x="118" y="18"/>
                      </a:lnTo>
                      <a:lnTo>
                        <a:pt x="109" y="12"/>
                      </a:lnTo>
                      <a:lnTo>
                        <a:pt x="88" y="7"/>
                      </a:lnTo>
                      <a:lnTo>
                        <a:pt x="113" y="7"/>
                      </a:lnTo>
                      <a:lnTo>
                        <a:pt x="126" y="17"/>
                      </a:lnTo>
                      <a:lnTo>
                        <a:pt x="132" y="28"/>
                      </a:lnTo>
                      <a:lnTo>
                        <a:pt x="140" y="35"/>
                      </a:lnTo>
                      <a:lnTo>
                        <a:pt x="147" y="41"/>
                      </a:lnTo>
                      <a:lnTo>
                        <a:pt x="153" y="4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93" name=""/>
                <p:cNvSpPr/>
                <p:nvPr/>
              </p:nvSpPr>
              <p:spPr>
                <a:xfrm>
                  <a:off x="3288960" y="2165400"/>
                  <a:ext cx="106200" cy="83880"/>
                </a:xfrm>
                <a:custGeom>
                  <a:avLst/>
                  <a:gdLst/>
                  <a:ahLst/>
                  <a:rect l="l" t="t" r="r" b="b"/>
                  <a:pathLst>
                    <a:path w="67" h="53">
                      <a:moveTo>
                        <a:pt x="13" y="52"/>
                      </a:moveTo>
                      <a:lnTo>
                        <a:pt x="22" y="45"/>
                      </a:lnTo>
                      <a:lnTo>
                        <a:pt x="22" y="41"/>
                      </a:lnTo>
                      <a:lnTo>
                        <a:pt x="19" y="37"/>
                      </a:lnTo>
                      <a:lnTo>
                        <a:pt x="11" y="33"/>
                      </a:lnTo>
                      <a:lnTo>
                        <a:pt x="2" y="30"/>
                      </a:lnTo>
                      <a:lnTo>
                        <a:pt x="0" y="28"/>
                      </a:lnTo>
                      <a:lnTo>
                        <a:pt x="0" y="24"/>
                      </a:lnTo>
                      <a:lnTo>
                        <a:pt x="2" y="22"/>
                      </a:lnTo>
                      <a:lnTo>
                        <a:pt x="8" y="20"/>
                      </a:lnTo>
                      <a:lnTo>
                        <a:pt x="9" y="22"/>
                      </a:lnTo>
                      <a:lnTo>
                        <a:pt x="12" y="25"/>
                      </a:lnTo>
                      <a:lnTo>
                        <a:pt x="22" y="27"/>
                      </a:lnTo>
                      <a:lnTo>
                        <a:pt x="21" y="21"/>
                      </a:lnTo>
                      <a:lnTo>
                        <a:pt x="16" y="15"/>
                      </a:lnTo>
                      <a:lnTo>
                        <a:pt x="11" y="10"/>
                      </a:lnTo>
                      <a:lnTo>
                        <a:pt x="1" y="4"/>
                      </a:lnTo>
                      <a:lnTo>
                        <a:pt x="7" y="3"/>
                      </a:lnTo>
                      <a:lnTo>
                        <a:pt x="17" y="6"/>
                      </a:lnTo>
                      <a:lnTo>
                        <a:pt x="27" y="12"/>
                      </a:lnTo>
                      <a:lnTo>
                        <a:pt x="35" y="21"/>
                      </a:lnTo>
                      <a:lnTo>
                        <a:pt x="45" y="17"/>
                      </a:lnTo>
                      <a:lnTo>
                        <a:pt x="34" y="12"/>
                      </a:lnTo>
                      <a:lnTo>
                        <a:pt x="32" y="9"/>
                      </a:lnTo>
                      <a:lnTo>
                        <a:pt x="34" y="6"/>
                      </a:lnTo>
                      <a:lnTo>
                        <a:pt x="41" y="3"/>
                      </a:lnTo>
                      <a:lnTo>
                        <a:pt x="54" y="0"/>
                      </a:lnTo>
                      <a:lnTo>
                        <a:pt x="66" y="0"/>
                      </a:lnTo>
                      <a:lnTo>
                        <a:pt x="60" y="12"/>
                      </a:lnTo>
                      <a:lnTo>
                        <a:pt x="47" y="26"/>
                      </a:lnTo>
                      <a:lnTo>
                        <a:pt x="33" y="40"/>
                      </a:lnTo>
                      <a:lnTo>
                        <a:pt x="22" y="49"/>
                      </a:lnTo>
                      <a:lnTo>
                        <a:pt x="13" y="5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4" name=""/>
                <p:cNvSpPr/>
                <p:nvPr/>
              </p:nvSpPr>
              <p:spPr>
                <a:xfrm>
                  <a:off x="3344760" y="1987560"/>
                  <a:ext cx="18720" cy="88920"/>
                </a:xfrm>
                <a:custGeom>
                  <a:avLst/>
                  <a:gdLst/>
                  <a:ahLst/>
                  <a:rect l="l" t="t" r="r" b="b"/>
                  <a:pathLst>
                    <a:path w="12" h="56">
                      <a:moveTo>
                        <a:pt x="4" y="8"/>
                      </a:moveTo>
                      <a:lnTo>
                        <a:pt x="6" y="27"/>
                      </a:lnTo>
                      <a:lnTo>
                        <a:pt x="9" y="45"/>
                      </a:lnTo>
                      <a:lnTo>
                        <a:pt x="11" y="55"/>
                      </a:lnTo>
                      <a:lnTo>
                        <a:pt x="1" y="25"/>
                      </a:lnTo>
                      <a:lnTo>
                        <a:pt x="0" y="15"/>
                      </a:lnTo>
                      <a:lnTo>
                        <a:pt x="3" y="0"/>
                      </a:lnTo>
                      <a:lnTo>
                        <a:pt x="4" y="8"/>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grpSp>
      <p:grpSp>
        <p:nvGrpSpPr>
          <p:cNvPr id="2395" name=""/>
          <p:cNvGrpSpPr/>
          <p:nvPr/>
        </p:nvGrpSpPr>
        <p:grpSpPr>
          <a:xfrm>
            <a:off x="4911840" y="3017880"/>
            <a:ext cx="1066680" cy="1219320"/>
            <a:chOff x="4911840" y="3017880"/>
            <a:chExt cx="1066680" cy="1219320"/>
          </a:xfrm>
        </p:grpSpPr>
        <p:grpSp>
          <p:nvGrpSpPr>
            <p:cNvPr id="2396" name=""/>
            <p:cNvGrpSpPr/>
            <p:nvPr/>
          </p:nvGrpSpPr>
          <p:grpSpPr>
            <a:xfrm>
              <a:off x="4911840" y="3017880"/>
              <a:ext cx="914400" cy="1066680"/>
              <a:chOff x="4911840" y="3017880"/>
              <a:chExt cx="914400" cy="1066680"/>
            </a:xfrm>
          </p:grpSpPr>
          <p:sp>
            <p:nvSpPr>
              <p:cNvPr id="2397" name=""/>
              <p:cNvSpPr/>
              <p:nvPr/>
            </p:nvSpPr>
            <p:spPr>
              <a:xfrm>
                <a:off x="4911840" y="3017880"/>
                <a:ext cx="914400" cy="1066680"/>
              </a:xfrm>
              <a:prstGeom prst="foldedCorner">
                <a:avLst>
                  <a:gd name="adj" fmla="val 182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
              <p:cNvSpPr/>
              <p:nvPr/>
            </p:nvSpPr>
            <p:spPr>
              <a:xfrm>
                <a:off x="5064120" y="3170160"/>
                <a:ext cx="228600" cy="151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5445360" y="3170160"/>
                <a:ext cx="228600" cy="151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0" name=""/>
              <p:cNvSpPr/>
              <p:nvPr/>
            </p:nvSpPr>
            <p:spPr>
              <a:xfrm>
                <a:off x="5445360" y="3398760"/>
                <a:ext cx="228600" cy="1519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401" name=""/>
              <p:cNvSpPr/>
              <p:nvPr/>
            </p:nvSpPr>
            <p:spPr>
              <a:xfrm>
                <a:off x="5445360" y="3627360"/>
                <a:ext cx="228600" cy="151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02" name=""/>
              <p:cNvCxnSpPr>
                <a:stCxn id="2398" idx="3"/>
                <a:endCxn id="2399" idx="1"/>
              </p:cNvCxnSpPr>
              <p:nvPr/>
            </p:nvCxnSpPr>
            <p:spPr>
              <a:xfrm>
                <a:off x="5292720" y="3245760"/>
                <a:ext cx="153360" cy="1080"/>
              </a:xfrm>
              <a:prstGeom prst="bentConnector2">
                <a:avLst/>
              </a:prstGeom>
              <a:ln w="9360">
                <a:solidFill>
                  <a:srgbClr val="000000"/>
                </a:solidFill>
                <a:miter/>
              </a:ln>
            </p:spPr>
          </p:cxnSp>
          <p:cxnSp>
            <p:nvCxnSpPr>
              <p:cNvPr id="2403" name=""/>
              <p:cNvCxnSpPr>
                <a:stCxn id="2399" idx="2"/>
                <a:endCxn id="2400" idx="0"/>
              </p:cNvCxnSpPr>
              <p:nvPr/>
            </p:nvCxnSpPr>
            <p:spPr>
              <a:xfrm flipV="1" rot="10800000">
                <a:off x="5558760" y="3322080"/>
                <a:ext cx="1080" cy="76680"/>
              </a:xfrm>
              <a:prstGeom prst="bentConnector2">
                <a:avLst/>
              </a:prstGeom>
              <a:ln w="9360">
                <a:solidFill>
                  <a:srgbClr val="000000"/>
                </a:solidFill>
                <a:miter/>
              </a:ln>
            </p:spPr>
          </p:cxnSp>
          <p:cxnSp>
            <p:nvCxnSpPr>
              <p:cNvPr id="2404" name=""/>
              <p:cNvCxnSpPr>
                <a:stCxn id="2400" idx="2"/>
                <a:endCxn id="2401" idx="0"/>
              </p:cNvCxnSpPr>
              <p:nvPr/>
            </p:nvCxnSpPr>
            <p:spPr>
              <a:xfrm>
                <a:off x="5559120" y="3550680"/>
                <a:ext cx="1080" cy="76680"/>
              </a:xfrm>
              <a:prstGeom prst="straightConnector1">
                <a:avLst/>
              </a:prstGeom>
              <a:ln w="9360">
                <a:solidFill>
                  <a:srgbClr val="000000"/>
                </a:solidFill>
                <a:miter/>
              </a:ln>
            </p:spPr>
          </p:cxnSp>
        </p:grpSp>
        <p:grpSp>
          <p:nvGrpSpPr>
            <p:cNvPr id="2405" name=""/>
            <p:cNvGrpSpPr/>
            <p:nvPr/>
          </p:nvGrpSpPr>
          <p:grpSpPr>
            <a:xfrm>
              <a:off x="4987800" y="3094200"/>
              <a:ext cx="914400" cy="1066680"/>
              <a:chOff x="4987800" y="3094200"/>
              <a:chExt cx="914400" cy="1066680"/>
            </a:xfrm>
          </p:grpSpPr>
          <p:sp>
            <p:nvSpPr>
              <p:cNvPr id="2406" name=""/>
              <p:cNvSpPr/>
              <p:nvPr/>
            </p:nvSpPr>
            <p:spPr>
              <a:xfrm>
                <a:off x="4987800" y="3094200"/>
                <a:ext cx="914400" cy="1066680"/>
              </a:xfrm>
              <a:prstGeom prst="foldedCorner">
                <a:avLst>
                  <a:gd name="adj" fmla="val 182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7" name=""/>
              <p:cNvSpPr/>
              <p:nvPr/>
            </p:nvSpPr>
            <p:spPr>
              <a:xfrm>
                <a:off x="5140080" y="3246480"/>
                <a:ext cx="228600" cy="151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8" name=""/>
              <p:cNvSpPr/>
              <p:nvPr/>
            </p:nvSpPr>
            <p:spPr>
              <a:xfrm>
                <a:off x="5521320" y="3246480"/>
                <a:ext cx="228600" cy="151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9" name=""/>
              <p:cNvSpPr/>
              <p:nvPr/>
            </p:nvSpPr>
            <p:spPr>
              <a:xfrm>
                <a:off x="5521320" y="3475080"/>
                <a:ext cx="228600" cy="1519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410" name=""/>
              <p:cNvSpPr/>
              <p:nvPr/>
            </p:nvSpPr>
            <p:spPr>
              <a:xfrm>
                <a:off x="5521320" y="3703680"/>
                <a:ext cx="228600" cy="151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11" name=""/>
              <p:cNvCxnSpPr>
                <a:stCxn id="2407" idx="3"/>
                <a:endCxn id="2408" idx="1"/>
              </p:cNvCxnSpPr>
              <p:nvPr/>
            </p:nvCxnSpPr>
            <p:spPr>
              <a:xfrm>
                <a:off x="5368680" y="3322080"/>
                <a:ext cx="153360" cy="1080"/>
              </a:xfrm>
              <a:prstGeom prst="bentConnector2">
                <a:avLst/>
              </a:prstGeom>
              <a:ln w="9360">
                <a:solidFill>
                  <a:srgbClr val="000000"/>
                </a:solidFill>
                <a:miter/>
              </a:ln>
            </p:spPr>
          </p:cxnSp>
          <p:cxnSp>
            <p:nvCxnSpPr>
              <p:cNvPr id="2412" name=""/>
              <p:cNvCxnSpPr>
                <a:stCxn id="2408" idx="2"/>
                <a:endCxn id="2409" idx="0"/>
              </p:cNvCxnSpPr>
              <p:nvPr/>
            </p:nvCxnSpPr>
            <p:spPr>
              <a:xfrm flipV="1" rot="10800000">
                <a:off x="5634720" y="3398400"/>
                <a:ext cx="1080" cy="76680"/>
              </a:xfrm>
              <a:prstGeom prst="bentConnector2">
                <a:avLst/>
              </a:prstGeom>
              <a:ln w="9360">
                <a:solidFill>
                  <a:srgbClr val="000000"/>
                </a:solidFill>
                <a:miter/>
              </a:ln>
            </p:spPr>
          </p:cxnSp>
          <p:cxnSp>
            <p:nvCxnSpPr>
              <p:cNvPr id="2413" name=""/>
              <p:cNvCxnSpPr>
                <a:stCxn id="2409" idx="2"/>
                <a:endCxn id="2410" idx="0"/>
              </p:cNvCxnSpPr>
              <p:nvPr/>
            </p:nvCxnSpPr>
            <p:spPr>
              <a:xfrm>
                <a:off x="5635080" y="3627000"/>
                <a:ext cx="1080" cy="76680"/>
              </a:xfrm>
              <a:prstGeom prst="straightConnector1">
                <a:avLst/>
              </a:prstGeom>
              <a:ln w="9360">
                <a:solidFill>
                  <a:srgbClr val="000000"/>
                </a:solidFill>
                <a:miter/>
              </a:ln>
            </p:spPr>
          </p:cxnSp>
        </p:grpSp>
        <p:sp>
          <p:nvSpPr>
            <p:cNvPr id="2414" name=""/>
            <p:cNvSpPr/>
            <p:nvPr/>
          </p:nvSpPr>
          <p:spPr>
            <a:xfrm>
              <a:off x="5064120" y="3170160"/>
              <a:ext cx="914400" cy="1067040"/>
            </a:xfrm>
            <a:prstGeom prst="foldedCorner">
              <a:avLst>
                <a:gd name="adj" fmla="val 182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5" name=""/>
            <p:cNvSpPr/>
            <p:nvPr/>
          </p:nvSpPr>
          <p:spPr>
            <a:xfrm>
              <a:off x="5216400" y="3322800"/>
              <a:ext cx="228600" cy="152280"/>
            </a:xfrm>
            <a:prstGeom prst="flowChartAlternateProcess">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6" name=""/>
            <p:cNvSpPr/>
            <p:nvPr/>
          </p:nvSpPr>
          <p:spPr>
            <a:xfrm>
              <a:off x="5597640" y="3322800"/>
              <a:ext cx="228600" cy="152280"/>
            </a:xfrm>
            <a:prstGeom prst="flowChartAlternateProcess">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p:cNvSpPr/>
            <p:nvPr/>
          </p:nvSpPr>
          <p:spPr>
            <a:xfrm>
              <a:off x="5597640" y="3551400"/>
              <a:ext cx="228600" cy="152280"/>
            </a:xfrm>
            <a:prstGeom prst="flowChartDecision">
              <a:avLst/>
            </a:prstGeom>
            <a:solidFill>
              <a:srgbClr val="333399"/>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418" name=""/>
            <p:cNvSpPr/>
            <p:nvPr/>
          </p:nvSpPr>
          <p:spPr>
            <a:xfrm>
              <a:off x="5597640" y="3780000"/>
              <a:ext cx="228600" cy="152280"/>
            </a:xfrm>
            <a:prstGeom prst="flowChartAlternateProcess">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19" name=""/>
            <p:cNvCxnSpPr>
              <a:stCxn id="2415" idx="3"/>
              <a:endCxn id="2416" idx="1"/>
            </p:cNvCxnSpPr>
            <p:nvPr/>
          </p:nvCxnSpPr>
          <p:spPr>
            <a:xfrm>
              <a:off x="5445000" y="3398400"/>
              <a:ext cx="153360" cy="1080"/>
            </a:xfrm>
            <a:prstGeom prst="bentConnector2">
              <a:avLst/>
            </a:prstGeom>
            <a:ln w="9360">
              <a:solidFill>
                <a:srgbClr val="000000"/>
              </a:solidFill>
              <a:miter/>
            </a:ln>
          </p:spPr>
        </p:cxnSp>
        <p:cxnSp>
          <p:nvCxnSpPr>
            <p:cNvPr id="2420" name=""/>
            <p:cNvCxnSpPr>
              <a:stCxn id="2416" idx="2"/>
              <a:endCxn id="2417" idx="0"/>
            </p:cNvCxnSpPr>
            <p:nvPr/>
          </p:nvCxnSpPr>
          <p:spPr>
            <a:xfrm flipV="1" rot="10800000">
              <a:off x="5711040" y="3475080"/>
              <a:ext cx="1080" cy="76680"/>
            </a:xfrm>
            <a:prstGeom prst="bentConnector2">
              <a:avLst/>
            </a:prstGeom>
            <a:ln w="9360">
              <a:solidFill>
                <a:srgbClr val="000000"/>
              </a:solidFill>
              <a:miter/>
            </a:ln>
          </p:spPr>
        </p:cxnSp>
        <p:cxnSp>
          <p:nvCxnSpPr>
            <p:cNvPr id="2421" name=""/>
            <p:cNvCxnSpPr>
              <a:stCxn id="2417" idx="2"/>
              <a:endCxn id="2418" idx="0"/>
            </p:cNvCxnSpPr>
            <p:nvPr/>
          </p:nvCxnSpPr>
          <p:spPr>
            <a:xfrm>
              <a:off x="5711400" y="3703680"/>
              <a:ext cx="1080" cy="76680"/>
            </a:xfrm>
            <a:prstGeom prst="straightConnector1">
              <a:avLst/>
            </a:prstGeom>
            <a:ln w="9360">
              <a:solidFill>
                <a:srgbClr val="000000"/>
              </a:solidFill>
              <a:miter/>
            </a:ln>
          </p:spPr>
        </p:cxnSp>
      </p:grpSp>
      <p:sp>
        <p:nvSpPr>
          <p:cNvPr id="2422" name=""/>
          <p:cNvSpPr/>
          <p:nvPr/>
        </p:nvSpPr>
        <p:spPr>
          <a:xfrm>
            <a:off x="353520" y="4663440"/>
            <a:ext cx="5232960" cy="1312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a o process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ência)</a:t>
            </a:r>
            <a:endParaRPr b="0" lang="en-US" sz="4000" spc="-1" strike="noStrike">
              <a:solidFill>
                <a:srgbClr val="000000"/>
              </a:solidFill>
              <a:latin typeface="Arial"/>
            </a:endParaRPr>
          </a:p>
        </p:txBody>
      </p:sp>
    </p:spTree>
  </p:cSld>
  <p:transition>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2424"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eitos de modelagem de processos</a:t>
            </a:r>
            <a:endParaRPr b="0" lang="en-US" sz="2800" spc="-1" strike="noStrike">
              <a:solidFill>
                <a:srgbClr val="000000"/>
              </a:solidFill>
              <a:latin typeface="Arial"/>
            </a:endParaRPr>
          </a:p>
          <a:p>
            <a:pPr marL="332640" indent="-3326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Visão geral do modelo</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s papéis principais das pessoas envolvidas n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 geral das fas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visão de fases (gat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étodos e ferramentas de desenvolvimento de produt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cadores de desempenho d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ceiros do desenvolvimento colaborativo de produt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Áreas de conhecimento</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estão do conhecimento d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aracterizando o modelo</a:t>
            </a:r>
            <a:endParaRPr b="0" lang="en-US" sz="28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5" name=""/>
          <p:cNvGrpSpPr/>
          <p:nvPr/>
        </p:nvGrpSpPr>
        <p:grpSpPr>
          <a:xfrm>
            <a:off x="727200" y="1332000"/>
            <a:ext cx="7799040" cy="4766760"/>
            <a:chOff x="727200" y="1332000"/>
            <a:chExt cx="7799040" cy="4766760"/>
          </a:xfrm>
        </p:grpSpPr>
        <p:grpSp>
          <p:nvGrpSpPr>
            <p:cNvPr id="2426" name=""/>
            <p:cNvGrpSpPr/>
            <p:nvPr/>
          </p:nvGrpSpPr>
          <p:grpSpPr>
            <a:xfrm>
              <a:off x="882360" y="2044800"/>
              <a:ext cx="7369560" cy="4021560"/>
              <a:chOff x="882360" y="2044800"/>
              <a:chExt cx="7369560" cy="4021560"/>
            </a:xfrm>
          </p:grpSpPr>
          <p:sp>
            <p:nvSpPr>
              <p:cNvPr id="2427" name=""/>
              <p:cNvSpPr/>
              <p:nvPr/>
            </p:nvSpPr>
            <p:spPr>
              <a:xfrm flipV="1">
                <a:off x="4240440" y="2044800"/>
                <a:ext cx="0" cy="402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8" name=""/>
              <p:cNvSpPr/>
              <p:nvPr/>
            </p:nvSpPr>
            <p:spPr>
              <a:xfrm flipV="1">
                <a:off x="8251920" y="2044800"/>
                <a:ext cx="0" cy="402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9" name=""/>
              <p:cNvSpPr/>
              <p:nvPr/>
            </p:nvSpPr>
            <p:spPr>
              <a:xfrm flipV="1">
                <a:off x="882360" y="2044800"/>
                <a:ext cx="0" cy="402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30" name=""/>
            <p:cNvSpPr/>
            <p:nvPr/>
          </p:nvSpPr>
          <p:spPr>
            <a:xfrm>
              <a:off x="882360" y="1332000"/>
              <a:ext cx="4194360" cy="1431360"/>
            </a:xfrm>
            <a:custGeom>
              <a:avLst/>
              <a:gdLst>
                <a:gd name="textAreaLeft" fmla="*/ 0 w 4194360"/>
                <a:gd name="textAreaRight" fmla="*/ 4194360 w 4194360"/>
                <a:gd name="textAreaTop" fmla="*/ 0 h 1431360"/>
                <a:gd name="textAreaBottom" fmla="*/ 1431720 h 1431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ffff"/>
                </a:gs>
                <a:gs pos="5000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rojeto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nceitual</a:t>
              </a:r>
              <a:endParaRPr b="0" lang="en-US" sz="3200" spc="-1" strike="noStrike">
                <a:solidFill>
                  <a:srgbClr val="000000"/>
                </a:solidFill>
                <a:latin typeface="Arial"/>
              </a:endParaRPr>
            </a:p>
          </p:txBody>
        </p:sp>
        <p:sp>
          <p:nvSpPr>
            <p:cNvPr id="2431" name=""/>
            <p:cNvSpPr/>
            <p:nvPr/>
          </p:nvSpPr>
          <p:spPr>
            <a:xfrm>
              <a:off x="932400" y="2822760"/>
              <a:ext cx="316980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lecionar e determinar Concepções Alternativas</a:t>
              </a:r>
              <a:endParaRPr b="0" lang="en-US" sz="2000" spc="-1" strike="noStrike">
                <a:solidFill>
                  <a:srgbClr val="000000"/>
                </a:solidFill>
                <a:latin typeface="Arial"/>
              </a:endParaRPr>
            </a:p>
          </p:txBody>
        </p:sp>
        <p:sp>
          <p:nvSpPr>
            <p:cNvPr id="2432" name=""/>
            <p:cNvSpPr/>
            <p:nvPr/>
          </p:nvSpPr>
          <p:spPr>
            <a:xfrm>
              <a:off x="2653920" y="3592800"/>
              <a:ext cx="316980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talhar a documentação do produto</a:t>
              </a:r>
              <a:endParaRPr b="0" lang="en-US" sz="2000" spc="-1" strike="noStrike">
                <a:solidFill>
                  <a:srgbClr val="000000"/>
                </a:solidFill>
                <a:latin typeface="Arial"/>
              </a:endParaRPr>
            </a:p>
          </p:txBody>
        </p:sp>
        <p:sp>
          <p:nvSpPr>
            <p:cNvPr id="2433" name=""/>
            <p:cNvSpPr/>
            <p:nvPr/>
          </p:nvSpPr>
          <p:spPr>
            <a:xfrm>
              <a:off x="1907280" y="4364280"/>
              <a:ext cx="5500080" cy="6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envolver Plano de Processo para os Componentes</a:t>
              </a:r>
              <a:endParaRPr b="0" lang="en-US" sz="2000" spc="-1" strike="noStrike">
                <a:solidFill>
                  <a:srgbClr val="000000"/>
                </a:solidFill>
                <a:latin typeface="Arial"/>
              </a:endParaRPr>
            </a:p>
          </p:txBody>
        </p:sp>
        <p:sp>
          <p:nvSpPr>
            <p:cNvPr id="2434" name=""/>
            <p:cNvSpPr/>
            <p:nvPr/>
          </p:nvSpPr>
          <p:spPr>
            <a:xfrm>
              <a:off x="4145040" y="1332000"/>
              <a:ext cx="4194360" cy="1431360"/>
            </a:xfrm>
            <a:custGeom>
              <a:avLst/>
              <a:gdLst>
                <a:gd name="textAreaLeft" fmla="*/ 0 w 4194360"/>
                <a:gd name="textAreaRight" fmla="*/ 4194360 w 4194360"/>
                <a:gd name="textAreaTop" fmla="*/ 0 h 1431360"/>
                <a:gd name="textAreaBottom" fmla="*/ 1431720 h 1431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ffff"/>
                </a:gs>
                <a:gs pos="5000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rojeto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talhado</a:t>
              </a:r>
              <a:endParaRPr b="0" lang="en-US" sz="3200" spc="-1" strike="noStrike">
                <a:solidFill>
                  <a:srgbClr val="000000"/>
                </a:solidFill>
                <a:latin typeface="Arial"/>
              </a:endParaRPr>
            </a:p>
          </p:txBody>
        </p:sp>
        <p:sp>
          <p:nvSpPr>
            <p:cNvPr id="2435" name=""/>
            <p:cNvSpPr/>
            <p:nvPr/>
          </p:nvSpPr>
          <p:spPr>
            <a:xfrm>
              <a:off x="3942360" y="5135760"/>
              <a:ext cx="458388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álise de Viabilidade Econômica</a:t>
              </a:r>
              <a:endParaRPr b="0" lang="en-US" sz="2000" spc="-1" strike="noStrike">
                <a:solidFill>
                  <a:srgbClr val="000000"/>
                </a:solidFill>
                <a:latin typeface="Arial"/>
              </a:endParaRPr>
            </a:p>
          </p:txBody>
        </p:sp>
        <p:sp>
          <p:nvSpPr>
            <p:cNvPr id="2436" name=""/>
            <p:cNvSpPr/>
            <p:nvPr/>
          </p:nvSpPr>
          <p:spPr>
            <a:xfrm>
              <a:off x="727200" y="5658480"/>
              <a:ext cx="279000" cy="44028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7" name=""/>
            <p:cNvSpPr/>
            <p:nvPr/>
          </p:nvSpPr>
          <p:spPr>
            <a:xfrm>
              <a:off x="4129200" y="5658480"/>
              <a:ext cx="279000" cy="44028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a:off x="8115840" y="5658480"/>
              <a:ext cx="279000" cy="44028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3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O Conceito de Fase</a:t>
            </a:r>
            <a:endParaRPr b="0" lang="en-US" sz="2400" spc="-1" strike="noStrike">
              <a:solidFill>
                <a:srgbClr val="00009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6"/>
                </a:solidFill>
                <a:latin typeface="Arial"/>
              </a:rPr>
              <a:t>Objetivos do capítulo</a:t>
            </a:r>
            <a:endParaRPr b="0" lang="en-US" sz="2800" spc="-1" strike="noStrike">
              <a:solidFill>
                <a:srgbClr val="000096"/>
              </a:solidFill>
              <a:latin typeface="Arial"/>
            </a:endParaRPr>
          </a:p>
        </p:txBody>
      </p:sp>
      <p:sp>
        <p:nvSpPr>
          <p:cNvPr id="55" name="PlaceHolder 2"/>
          <p:cNvSpPr>
            <a:spLocks noGrp="1"/>
          </p:cNvSpPr>
          <p:nvPr>
            <p:ph/>
          </p:nvPr>
        </p:nvSpPr>
        <p:spPr>
          <a:xfrm>
            <a:off x="112320" y="887400"/>
            <a:ext cx="8574120" cy="5756400"/>
          </a:xfrm>
          <a:prstGeom prst="rect">
            <a:avLst/>
          </a:prstGeom>
          <a:noFill/>
          <a:ln w="0">
            <a:noFill/>
          </a:ln>
        </p:spPr>
        <p:txBody>
          <a:bodyPr lIns="90000" rIns="90000" tIns="46800" bIns="46800" anchor="t">
            <a:normAutofit fontScale="56000"/>
          </a:bodyPr>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finir processo de desenvolvimento de produto</a:t>
            </a:r>
            <a:endParaRPr b="0" lang="en-US" sz="24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reender a importância de utilizar o conceito de processo e modelos de referência na gestão do PDP</a:t>
            </a:r>
            <a:endParaRPr b="0" lang="en-US" sz="24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reender a estrutura de macrofases e fases em que o modelo unificado foi estruturado</a:t>
            </a:r>
            <a:endParaRPr b="0" lang="en-US" sz="24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reender os principais conceitos, importância e resultados principais de cada uma das três macrofases do processo de desenvolvimento do modelo unificado</a:t>
            </a:r>
            <a:endParaRPr b="0" lang="en-US" sz="24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scutir as tendências em desenvolvimento de produto que serviram de base para o modelo unificado: </a:t>
            </a:r>
            <a:endParaRPr b="0" lang="en-US" sz="2400" spc="-1" strike="noStrike">
              <a:solidFill>
                <a:srgbClr val="000000"/>
              </a:solidFill>
              <a:latin typeface="Arial"/>
            </a:endParaRPr>
          </a:p>
          <a:p>
            <a:pPr lvl="1" marL="415800" indent="-159840">
              <a:lnSpc>
                <a:spcPct val="8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visões de fase, métodos e ferramentas de desenvolvimento de produtos, indicadores de desempenho, parceria no desenvolvimento de produto e gestão do conhecimento.</a:t>
            </a:r>
            <a:endParaRPr b="0" lang="en-US" sz="20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reender a relação entre as áreas do conhecimento empregadas na gestão do desenvolvimento de produto e o modelo unificado.</a:t>
            </a:r>
            <a:endParaRPr b="0" lang="en-US" sz="2400" spc="-1" strike="noStrike">
              <a:solidFill>
                <a:srgbClr val="000000"/>
              </a:solidFill>
              <a:latin typeface="Arial"/>
            </a:endParaRPr>
          </a:p>
          <a:p>
            <a:pPr marL="1918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Entender algumas características específicas do modelo unificado que devem ser consideradas durante sua adaptação e utilização em casos reais.</a:t>
            </a:r>
            <a:r>
              <a:rPr b="0" lang="pt-BR" sz="2400" spc="-1" strike="noStrike">
                <a:solidFill>
                  <a:srgbClr val="000000"/>
                </a:solidFill>
                <a:latin typeface="Arial"/>
              </a:rPr>
              <a:t> Definir processo de desenvolvimento de produto.</a:t>
            </a:r>
            <a:endParaRPr b="0" lang="en-US" sz="24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reender a importância de utilizar o conceito de processo e modelos de referência para a gestão do desenvolvimento de produto.</a:t>
            </a:r>
            <a:endParaRPr b="0" lang="en-US" sz="24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reender a estrutura de macrofases e fases em que o modelo unificado foi estruturado.</a:t>
            </a:r>
            <a:endParaRPr b="0" lang="en-US" sz="24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reender os principais conceitos, importância e resultados principais de cada uma das três macrofases do processo de desenvolvimento do modelo unificado.</a:t>
            </a:r>
            <a:endParaRPr b="0" lang="en-US" sz="24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reender alguns conceitos e tendências em desenvolvimento de produto que serviram de base para o modelo unificado. São eles: revisões de fase, métodos e ferramentas de desenvolvimento de produtos, indicadores de desempenho, parceria no desenvolvimento de produto e gestão do conhecimento.</a:t>
            </a:r>
            <a:endParaRPr b="0" lang="en-US" sz="2400" spc="-1" strike="noStrike">
              <a:solidFill>
                <a:srgbClr val="000000"/>
              </a:solidFill>
              <a:latin typeface="Arial"/>
            </a:endParaRPr>
          </a:p>
          <a:p>
            <a:pPr marL="191880" indent="-19188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reender a relação entre as áreas do conhecimento empregadas na gestão do desenvolvimento de produto e o modelo unificado.</a:t>
            </a:r>
            <a:endParaRPr b="0" lang="en-US" sz="2400" spc="-1" strike="noStrike">
              <a:solidFill>
                <a:srgbClr val="000000"/>
              </a:solidFill>
              <a:latin typeface="Arial"/>
            </a:endParaRPr>
          </a:p>
          <a:p>
            <a:pPr marL="1918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Entender algumas características específicas do modelo unificado que devem ser consideradas durante sua adaptação e utilização em casos reais.</a:t>
            </a:r>
            <a:r>
              <a:rPr b="0" lang="pt-B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0" name="PlaceHolder 1"/>
          <p:cNvSpPr>
            <a:spLocks noGrp="1"/>
          </p:cNvSpPr>
          <p:nvPr>
            <p:ph type="title"/>
          </p:nvPr>
        </p:nvSpPr>
        <p:spPr>
          <a:xfrm>
            <a:off x="76320" y="75960"/>
            <a:ext cx="7867440" cy="6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Visão geral do processo de desenvolvimento de produtos</a:t>
            </a:r>
            <a:endParaRPr b="0" lang="en-US" sz="2400" spc="-1" strike="noStrike">
              <a:solidFill>
                <a:srgbClr val="000096"/>
              </a:solidFill>
              <a:latin typeface="Arial"/>
            </a:endParaRPr>
          </a:p>
        </p:txBody>
      </p:sp>
      <p:grpSp>
        <p:nvGrpSpPr>
          <p:cNvPr id="2441" name=""/>
          <p:cNvGrpSpPr/>
          <p:nvPr/>
        </p:nvGrpSpPr>
        <p:grpSpPr>
          <a:xfrm>
            <a:off x="4680" y="1455840"/>
            <a:ext cx="9063000" cy="4572000"/>
            <a:chOff x="4680" y="1455840"/>
            <a:chExt cx="9063000" cy="4572000"/>
          </a:xfrm>
        </p:grpSpPr>
        <p:sp>
          <p:nvSpPr>
            <p:cNvPr id="2442" name=""/>
            <p:cNvSpPr/>
            <p:nvPr/>
          </p:nvSpPr>
          <p:spPr>
            <a:xfrm>
              <a:off x="790560" y="5753160"/>
              <a:ext cx="7886880" cy="27468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lhoria do processo de desenvolvimento de produtos</a:t>
              </a:r>
              <a:endParaRPr b="0" lang="en-US" sz="1800" spc="-1" strike="noStrike">
                <a:solidFill>
                  <a:srgbClr val="000000"/>
                </a:solidFill>
                <a:latin typeface="Arial"/>
              </a:endParaRPr>
            </a:p>
          </p:txBody>
        </p:sp>
        <p:sp>
          <p:nvSpPr>
            <p:cNvPr id="2443" name=""/>
            <p:cNvSpPr/>
            <p:nvPr/>
          </p:nvSpPr>
          <p:spPr>
            <a:xfrm>
              <a:off x="2340000" y="5389560"/>
              <a:ext cx="6092640" cy="27468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erenciamento de mudanças de engenharia</a:t>
              </a:r>
              <a:endParaRPr b="0" lang="en-US" sz="1800" spc="-1" strike="noStrike">
                <a:solidFill>
                  <a:srgbClr val="000000"/>
                </a:solidFill>
                <a:latin typeface="Arial"/>
              </a:endParaRPr>
            </a:p>
          </p:txBody>
        </p:sp>
        <p:sp>
          <p:nvSpPr>
            <p:cNvPr id="2444" name=""/>
            <p:cNvSpPr/>
            <p:nvPr/>
          </p:nvSpPr>
          <p:spPr>
            <a:xfrm>
              <a:off x="4680" y="5335560"/>
              <a:ext cx="1209960" cy="549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ces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 apoio</a:t>
              </a:r>
              <a:endParaRPr b="0" lang="en-US" sz="1800" spc="-1" strike="noStrike">
                <a:solidFill>
                  <a:srgbClr val="000000"/>
                </a:solidFill>
                <a:latin typeface="Arial"/>
              </a:endParaRPr>
            </a:p>
          </p:txBody>
        </p:sp>
        <p:sp>
          <p:nvSpPr>
            <p:cNvPr id="2445" name=""/>
            <p:cNvSpPr/>
            <p:nvPr/>
          </p:nvSpPr>
          <p:spPr>
            <a:xfrm>
              <a:off x="13255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446" name=""/>
            <p:cNvSpPr/>
            <p:nvPr/>
          </p:nvSpPr>
          <p:spPr>
            <a:xfrm>
              <a:off x="3314880" y="5097600"/>
              <a:ext cx="111096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447" name=""/>
            <p:cNvSpPr/>
            <p:nvPr/>
          </p:nvSpPr>
          <p:spPr>
            <a:xfrm>
              <a:off x="53053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448" name=""/>
            <p:cNvSpPr/>
            <p:nvPr/>
          </p:nvSpPr>
          <p:spPr>
            <a:xfrm>
              <a:off x="72961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2449" name=""/>
            <p:cNvGrpSpPr/>
            <p:nvPr/>
          </p:nvGrpSpPr>
          <p:grpSpPr>
            <a:xfrm>
              <a:off x="76320" y="1455840"/>
              <a:ext cx="8991360" cy="3591000"/>
              <a:chOff x="76320" y="1455840"/>
              <a:chExt cx="8991360" cy="3591000"/>
            </a:xfrm>
          </p:grpSpPr>
          <p:grpSp>
            <p:nvGrpSpPr>
              <p:cNvPr id="2450" name=""/>
              <p:cNvGrpSpPr/>
              <p:nvPr/>
            </p:nvGrpSpPr>
            <p:grpSpPr>
              <a:xfrm>
                <a:off x="76320" y="1614600"/>
                <a:ext cx="8991360" cy="3432240"/>
                <a:chOff x="76320" y="1614600"/>
                <a:chExt cx="8991360" cy="3432240"/>
              </a:xfrm>
            </p:grpSpPr>
            <p:sp>
              <p:nvSpPr>
                <p:cNvPr id="2451" name=""/>
                <p:cNvSpPr/>
                <p:nvPr/>
              </p:nvSpPr>
              <p:spPr>
                <a:xfrm>
                  <a:off x="76320" y="1614600"/>
                  <a:ext cx="8991360" cy="343224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2452" name=""/>
                <p:cNvSpPr/>
                <p:nvPr/>
              </p:nvSpPr>
              <p:spPr>
                <a:xfrm>
                  <a:off x="795240" y="2863800"/>
                  <a:ext cx="7291440" cy="1660680"/>
                </a:xfrm>
                <a:custGeom>
                  <a:avLst/>
                  <a:gdLst/>
                  <a:ahLst/>
                  <a:rect l="l" t="t" r="r" b="b"/>
                  <a:pathLst>
                    <a:path w="4593" h="1046">
                      <a:moveTo>
                        <a:pt x="771" y="20"/>
                      </a:moveTo>
                      <a:lnTo>
                        <a:pt x="0" y="1046"/>
                      </a:lnTo>
                      <a:lnTo>
                        <a:pt x="4593" y="1016"/>
                      </a:lnTo>
                      <a:lnTo>
                        <a:pt x="3302" y="0"/>
                      </a:lnTo>
                    </a:path>
                  </a:pathLst>
                </a:custGeom>
                <a:gradFill rotWithShape="0">
                  <a:gsLst>
                    <a:gs pos="0">
                      <a:srgbClr val="ffcc99"/>
                    </a:gs>
                    <a:gs pos="100000">
                      <a:srgbClr val="99ccff"/>
                    </a:gs>
                  </a:gsLst>
                  <a:lin ang="10800000"/>
                </a:gra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2453" name=""/>
                <p:cNvGrpSpPr/>
                <p:nvPr/>
              </p:nvGrpSpPr>
              <p:grpSpPr>
                <a:xfrm>
                  <a:off x="2239920" y="2225520"/>
                  <a:ext cx="4146480" cy="298800"/>
                  <a:chOff x="2239920" y="2225520"/>
                  <a:chExt cx="4146480" cy="298800"/>
                </a:xfrm>
              </p:grpSpPr>
              <p:sp>
                <p:nvSpPr>
                  <p:cNvPr id="2454" name=""/>
                  <p:cNvSpPr/>
                  <p:nvPr/>
                </p:nvSpPr>
                <p:spPr>
                  <a:xfrm>
                    <a:off x="2239920" y="2225520"/>
                    <a:ext cx="4146480" cy="298800"/>
                  </a:xfrm>
                  <a:custGeom>
                    <a:avLst/>
                    <a:gdLst>
                      <a:gd name="textAreaLeft" fmla="*/ 0 w 4146480"/>
                      <a:gd name="textAreaRight" fmla="*/ 4146840 w 4146480"/>
                      <a:gd name="textAreaTop" fmla="*/ 0 h 298800"/>
                      <a:gd name="textAreaBottom" fmla="*/ 299160 h 2988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3293640" y="22384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56" name=""/>
                <p:cNvGrpSpPr/>
                <p:nvPr/>
              </p:nvGrpSpPr>
              <p:grpSpPr>
                <a:xfrm>
                  <a:off x="962280" y="4336560"/>
                  <a:ext cx="6981840" cy="534600"/>
                  <a:chOff x="962280" y="4336560"/>
                  <a:chExt cx="6981840" cy="534600"/>
                </a:xfrm>
              </p:grpSpPr>
              <p:grpSp>
                <p:nvGrpSpPr>
                  <p:cNvPr id="2457" name=""/>
                  <p:cNvGrpSpPr/>
                  <p:nvPr/>
                </p:nvGrpSpPr>
                <p:grpSpPr>
                  <a:xfrm>
                    <a:off x="2259720" y="4350600"/>
                    <a:ext cx="5684400" cy="520560"/>
                    <a:chOff x="2259720" y="4350600"/>
                    <a:chExt cx="5684400" cy="520560"/>
                  </a:xfrm>
                </p:grpSpPr>
                <p:sp>
                  <p:nvSpPr>
                    <p:cNvPr id="2458" name=""/>
                    <p:cNvSpPr/>
                    <p:nvPr/>
                  </p:nvSpPr>
                  <p:spPr>
                    <a:xfrm>
                      <a:off x="4633920" y="4350600"/>
                      <a:ext cx="1043640" cy="520560"/>
                    </a:xfrm>
                    <a:custGeom>
                      <a:avLst/>
                      <a:gdLst>
                        <a:gd name="textAreaLeft" fmla="*/ 0 w 1043640"/>
                        <a:gd name="textAreaRight" fmla="*/ 1044000 w 1043640"/>
                        <a:gd name="textAreaTop" fmla="*/ 0 h 520560"/>
                        <a:gd name="textAreaBottom" fmla="*/ 520920 h 52056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2459" name=""/>
                    <p:cNvSpPr/>
                    <p:nvPr/>
                  </p:nvSpPr>
                  <p:spPr>
                    <a:xfrm>
                      <a:off x="3557520" y="4350600"/>
                      <a:ext cx="1074240" cy="520560"/>
                    </a:xfrm>
                    <a:custGeom>
                      <a:avLst/>
                      <a:gdLst>
                        <a:gd name="textAreaLeft" fmla="*/ 0 w 1074240"/>
                        <a:gd name="textAreaRight" fmla="*/ 1074600 w 1074240"/>
                        <a:gd name="textAreaTop" fmla="*/ 0 h 520560"/>
                        <a:gd name="textAreaBottom" fmla="*/ 520920 h 52056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2460" name=""/>
                    <p:cNvSpPr/>
                    <p:nvPr/>
                  </p:nvSpPr>
                  <p:spPr>
                    <a:xfrm>
                      <a:off x="2259720" y="4350600"/>
                      <a:ext cx="1302840" cy="520560"/>
                    </a:xfrm>
                    <a:custGeom>
                      <a:avLst/>
                      <a:gdLst>
                        <a:gd name="textAreaLeft" fmla="*/ 0 w 1302840"/>
                        <a:gd name="textAreaRight" fmla="*/ 1303200 w 1302840"/>
                        <a:gd name="textAreaTop" fmla="*/ 0 h 520560"/>
                        <a:gd name="textAreaBottom" fmla="*/ 520920 h 52056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2461" name=""/>
                    <p:cNvSpPr/>
                    <p:nvPr/>
                  </p:nvSpPr>
                  <p:spPr>
                    <a:xfrm>
                      <a:off x="6782040" y="4350600"/>
                      <a:ext cx="1162080" cy="520560"/>
                    </a:xfrm>
                    <a:custGeom>
                      <a:avLst/>
                      <a:gdLst>
                        <a:gd name="textAreaLeft" fmla="*/ 0 w 1162080"/>
                        <a:gd name="textAreaRight" fmla="*/ 1162080 w 1162080"/>
                        <a:gd name="textAreaTop" fmla="*/ 0 h 520560"/>
                        <a:gd name="textAreaBottom" fmla="*/ 520920 h 52056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2462" name=""/>
                    <p:cNvSpPr/>
                    <p:nvPr/>
                  </p:nvSpPr>
                  <p:spPr>
                    <a:xfrm>
                      <a:off x="5676840" y="4350600"/>
                      <a:ext cx="1102680" cy="520560"/>
                    </a:xfrm>
                    <a:custGeom>
                      <a:avLst/>
                      <a:gdLst>
                        <a:gd name="textAreaLeft" fmla="*/ 0 w 1102680"/>
                        <a:gd name="textAreaRight" fmla="*/ 1102680 w 1102680"/>
                        <a:gd name="textAreaTop" fmla="*/ 0 h 520560"/>
                        <a:gd name="textAreaBottom" fmla="*/ 520920 h 52056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grpSp>
              <p:sp>
                <p:nvSpPr>
                  <p:cNvPr id="2463" name=""/>
                  <p:cNvSpPr/>
                  <p:nvPr/>
                </p:nvSpPr>
                <p:spPr>
                  <a:xfrm>
                    <a:off x="962280" y="4336560"/>
                    <a:ext cx="1270800" cy="520200"/>
                  </a:xfrm>
                  <a:custGeom>
                    <a:avLst/>
                    <a:gdLst>
                      <a:gd name="textAreaLeft" fmla="*/ 0 w 1270800"/>
                      <a:gd name="textAreaRight" fmla="*/ 1271160 w 1270800"/>
                      <a:gd name="textAreaTop" fmla="*/ 0 h 520200"/>
                      <a:gd name="textAreaBottom" fmla="*/ 520560 h 5202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p:txBody>
              </p:sp>
            </p:grpSp>
            <p:grpSp>
              <p:nvGrpSpPr>
                <p:cNvPr id="2464" name=""/>
                <p:cNvGrpSpPr/>
                <p:nvPr/>
              </p:nvGrpSpPr>
              <p:grpSpPr>
                <a:xfrm>
                  <a:off x="6364440" y="2227320"/>
                  <a:ext cx="2652480" cy="298440"/>
                  <a:chOff x="6364440" y="2227320"/>
                  <a:chExt cx="2652480" cy="298440"/>
                </a:xfrm>
              </p:grpSpPr>
              <p:sp>
                <p:nvSpPr>
                  <p:cNvPr id="2465" name=""/>
                  <p:cNvSpPr/>
                  <p:nvPr/>
                </p:nvSpPr>
                <p:spPr>
                  <a:xfrm>
                    <a:off x="6364440" y="22273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a:off x="7431480" y="22636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2467" name=""/>
                <p:cNvSpPr/>
                <p:nvPr/>
              </p:nvSpPr>
              <p:spPr>
                <a:xfrm>
                  <a:off x="8223120" y="23115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2468" name=""/>
                <p:cNvCxnSpPr>
                  <a:stCxn id="2465" idx="0"/>
                  <a:endCxn id="2469" idx="0"/>
                </p:cNvCxnSpPr>
                <p:nvPr/>
              </p:nvCxnSpPr>
              <p:spPr>
                <a:xfrm rot="5400000">
                  <a:off x="4402440" y="-999360"/>
                  <a:ext cx="2160" cy="6455520"/>
                </a:xfrm>
                <a:prstGeom prst="bentConnector3">
                  <a:avLst>
                    <a:gd name="adj1" fmla="val -14400000"/>
                  </a:avLst>
                </a:prstGeom>
                <a:ln w="19080">
                  <a:solidFill>
                    <a:srgbClr val="000000"/>
                  </a:solidFill>
                  <a:miter/>
                  <a:tailEnd len="med" type="triangle" w="med"/>
                </a:ln>
              </p:spPr>
            </p:cxnSp>
            <p:grpSp>
              <p:nvGrpSpPr>
                <p:cNvPr id="2470" name=""/>
                <p:cNvGrpSpPr/>
                <p:nvPr/>
              </p:nvGrpSpPr>
              <p:grpSpPr>
                <a:xfrm>
                  <a:off x="171360" y="2227320"/>
                  <a:ext cx="2124000" cy="297000"/>
                  <a:chOff x="171360" y="2227320"/>
                  <a:chExt cx="2124000" cy="297000"/>
                </a:xfrm>
              </p:grpSpPr>
              <p:sp>
                <p:nvSpPr>
                  <p:cNvPr id="2469" name=""/>
                  <p:cNvSpPr/>
                  <p:nvPr/>
                </p:nvSpPr>
                <p:spPr>
                  <a:xfrm>
                    <a:off x="171360" y="22273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471" name=""/>
                  <p:cNvSpPr/>
                  <p:nvPr/>
                </p:nvSpPr>
                <p:spPr>
                  <a:xfrm>
                    <a:off x="999000" y="22636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2472" name=""/>
                <p:cNvSpPr/>
                <p:nvPr/>
              </p:nvSpPr>
              <p:spPr>
                <a:xfrm>
                  <a:off x="185760" y="2597040"/>
                  <a:ext cx="1335240" cy="787680"/>
                </a:xfrm>
                <a:custGeom>
                  <a:avLst/>
                  <a:gdLst>
                    <a:gd name="textAreaLeft" fmla="*/ 0 w 1335240"/>
                    <a:gd name="textAreaRight" fmla="*/ 1335600 w 1335240"/>
                    <a:gd name="textAreaTop" fmla="*/ 0 h 787680"/>
                    <a:gd name="textAreaBottom" fmla="*/ 788040 h 78768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ratégico dos Produtos</a:t>
                  </a:r>
                  <a:endParaRPr b="0" lang="en-US" sz="1400" spc="-1" strike="noStrike">
                    <a:solidFill>
                      <a:srgbClr val="000000"/>
                    </a:solidFill>
                    <a:latin typeface="Arial"/>
                  </a:endParaRPr>
                </a:p>
              </p:txBody>
            </p:sp>
            <p:grpSp>
              <p:nvGrpSpPr>
                <p:cNvPr id="2473" name=""/>
                <p:cNvGrpSpPr/>
                <p:nvPr/>
              </p:nvGrpSpPr>
              <p:grpSpPr>
                <a:xfrm>
                  <a:off x="6164280" y="2577960"/>
                  <a:ext cx="2871720" cy="933480"/>
                  <a:chOff x="6164280" y="2577960"/>
                  <a:chExt cx="2871720" cy="933480"/>
                </a:xfrm>
              </p:grpSpPr>
              <p:sp>
                <p:nvSpPr>
                  <p:cNvPr id="2474" name=""/>
                  <p:cNvSpPr/>
                  <p:nvPr/>
                </p:nvSpPr>
                <p:spPr>
                  <a:xfrm>
                    <a:off x="6164280" y="2577960"/>
                    <a:ext cx="1257120" cy="830520"/>
                  </a:xfrm>
                  <a:custGeom>
                    <a:avLst/>
                    <a:gdLst>
                      <a:gd name="textAreaLeft" fmla="*/ 0 w 1257120"/>
                      <a:gd name="textAreaRight" fmla="*/ 1257480 w 125712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2475" name=""/>
                  <p:cNvSpPr/>
                  <p:nvPr/>
                </p:nvSpPr>
                <p:spPr>
                  <a:xfrm>
                    <a:off x="7421400" y="2577960"/>
                    <a:ext cx="1270080" cy="830520"/>
                  </a:xfrm>
                  <a:custGeom>
                    <a:avLst/>
                    <a:gdLst>
                      <a:gd name="textAreaLeft" fmla="*/ 0 w 1270080"/>
                      <a:gd name="textAreaRight" fmla="*/ 1270440 w 127008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2476" name=""/>
                  <p:cNvSpPr/>
                  <p:nvPr/>
                </p:nvSpPr>
                <p:spPr>
                  <a:xfrm>
                    <a:off x="6249960" y="2641680"/>
                    <a:ext cx="1268280" cy="830160"/>
                  </a:xfrm>
                  <a:custGeom>
                    <a:avLst/>
                    <a:gdLst>
                      <a:gd name="textAreaLeft" fmla="*/ 0 w 1268280"/>
                      <a:gd name="textAreaRight" fmla="*/ 1268640 w 12682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2477" name=""/>
                  <p:cNvSpPr/>
                  <p:nvPr/>
                </p:nvSpPr>
                <p:spPr>
                  <a:xfrm>
                    <a:off x="7535880" y="2641680"/>
                    <a:ext cx="1270080" cy="830160"/>
                  </a:xfrm>
                  <a:custGeom>
                    <a:avLst/>
                    <a:gdLst>
                      <a:gd name="textAreaLeft" fmla="*/ 0 w 1270080"/>
                      <a:gd name="textAreaRight" fmla="*/ 1270440 w 12700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2478" name=""/>
                  <p:cNvSpPr/>
                  <p:nvPr/>
                </p:nvSpPr>
                <p:spPr>
                  <a:xfrm>
                    <a:off x="7694640" y="2681280"/>
                    <a:ext cx="1341360" cy="830160"/>
                  </a:xfrm>
                  <a:custGeom>
                    <a:avLst/>
                    <a:gdLst>
                      <a:gd name="textAreaLeft" fmla="*/ 0 w 1341360"/>
                      <a:gd name="textAreaRight" fmla="*/ 1341720 w 1341360"/>
                      <a:gd name="textAreaTop" fmla="*/ 0 h 830160"/>
                      <a:gd name="textAreaBottom" fmla="*/ 830520 h 83016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ontinu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p:txBody>
              </p:sp>
              <p:sp>
                <p:nvSpPr>
                  <p:cNvPr id="2479" name=""/>
                  <p:cNvSpPr/>
                  <p:nvPr/>
                </p:nvSpPr>
                <p:spPr>
                  <a:xfrm>
                    <a:off x="6348240" y="2681280"/>
                    <a:ext cx="1400400" cy="830160"/>
                  </a:xfrm>
                  <a:custGeom>
                    <a:avLst/>
                    <a:gdLst>
                      <a:gd name="textAreaLeft" fmla="*/ 0 w 1400400"/>
                      <a:gd name="textAreaRight" fmla="*/ 1400400 w 1400400"/>
                      <a:gd name="textAreaTop" fmla="*/ 0 h 830160"/>
                      <a:gd name="textAreaBottom" fmla="*/ 830520 h 83016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panh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a:t>
                    </a:r>
                    <a:endParaRPr b="0" lang="en-US" sz="1400" spc="-1" strike="noStrike">
                      <a:solidFill>
                        <a:srgbClr val="000000"/>
                      </a:solidFill>
                      <a:latin typeface="Arial"/>
                    </a:endParaRPr>
                  </a:p>
                </p:txBody>
              </p:sp>
            </p:grpSp>
            <p:grpSp>
              <p:nvGrpSpPr>
                <p:cNvPr id="2480" name=""/>
                <p:cNvGrpSpPr/>
                <p:nvPr/>
              </p:nvGrpSpPr>
              <p:grpSpPr>
                <a:xfrm>
                  <a:off x="2413080" y="2565000"/>
                  <a:ext cx="3600360" cy="407880"/>
                  <a:chOff x="2413080" y="2565000"/>
                  <a:chExt cx="3600360" cy="407880"/>
                </a:xfrm>
              </p:grpSpPr>
              <p:sp>
                <p:nvSpPr>
                  <p:cNvPr id="2481" name=""/>
                  <p:cNvSpPr/>
                  <p:nvPr/>
                </p:nvSpPr>
                <p:spPr>
                  <a:xfrm flipV="1">
                    <a:off x="241308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
                  <p:cNvSpPr/>
                  <p:nvPr/>
                </p:nvSpPr>
                <p:spPr>
                  <a:xfrm flipV="1">
                    <a:off x="31338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
                  <p:cNvSpPr/>
                  <p:nvPr/>
                </p:nvSpPr>
                <p:spPr>
                  <a:xfrm flipV="1">
                    <a:off x="385596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
                  <p:cNvSpPr/>
                  <p:nvPr/>
                </p:nvSpPr>
                <p:spPr>
                  <a:xfrm flipV="1">
                    <a:off x="457668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
                  <p:cNvSpPr/>
                  <p:nvPr/>
                </p:nvSpPr>
                <p:spPr>
                  <a:xfrm flipV="1">
                    <a:off x="52992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6" name=""/>
                <p:cNvGrpSpPr/>
                <p:nvPr/>
              </p:nvGrpSpPr>
              <p:grpSpPr>
                <a:xfrm>
                  <a:off x="2565360" y="2717640"/>
                  <a:ext cx="3600360" cy="407880"/>
                  <a:chOff x="2565360" y="2717640"/>
                  <a:chExt cx="3600360" cy="407880"/>
                </a:xfrm>
              </p:grpSpPr>
              <p:sp>
                <p:nvSpPr>
                  <p:cNvPr id="2487" name=""/>
                  <p:cNvSpPr/>
                  <p:nvPr/>
                </p:nvSpPr>
                <p:spPr>
                  <a:xfrm flipV="1">
                    <a:off x="256536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
                  <p:cNvSpPr/>
                  <p:nvPr/>
                </p:nvSpPr>
                <p:spPr>
                  <a:xfrm flipV="1">
                    <a:off x="3286080" y="271728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
                  <p:cNvSpPr/>
                  <p:nvPr/>
                </p:nvSpPr>
                <p:spPr>
                  <a:xfrm flipV="1">
                    <a:off x="400860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
                  <p:cNvSpPr/>
                  <p:nvPr/>
                </p:nvSpPr>
                <p:spPr>
                  <a:xfrm flipV="1">
                    <a:off x="472932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
                  <p:cNvSpPr/>
                  <p:nvPr/>
                </p:nvSpPr>
                <p:spPr>
                  <a:xfrm flipV="1">
                    <a:off x="545148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2" name=""/>
                <p:cNvGrpSpPr/>
                <p:nvPr/>
              </p:nvGrpSpPr>
              <p:grpSpPr>
                <a:xfrm>
                  <a:off x="2717640" y="2869920"/>
                  <a:ext cx="3600720" cy="407880"/>
                  <a:chOff x="2717640" y="2869920"/>
                  <a:chExt cx="3600720" cy="407880"/>
                </a:xfrm>
              </p:grpSpPr>
              <p:sp>
                <p:nvSpPr>
                  <p:cNvPr id="2493" name=""/>
                  <p:cNvSpPr/>
                  <p:nvPr/>
                </p:nvSpPr>
                <p:spPr>
                  <a:xfrm flipV="1">
                    <a:off x="271764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
                  <p:cNvSpPr/>
                  <p:nvPr/>
                </p:nvSpPr>
                <p:spPr>
                  <a:xfrm flipV="1">
                    <a:off x="34383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
                  <p:cNvSpPr/>
                  <p:nvPr/>
                </p:nvSpPr>
                <p:spPr>
                  <a:xfrm flipV="1">
                    <a:off x="416088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
                  <p:cNvSpPr/>
                  <p:nvPr/>
                </p:nvSpPr>
                <p:spPr>
                  <a:xfrm flipV="1">
                    <a:off x="488160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
                  <p:cNvSpPr/>
                  <p:nvPr/>
                </p:nvSpPr>
                <p:spPr>
                  <a:xfrm flipV="1">
                    <a:off x="56037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8" name=""/>
                <p:cNvGrpSpPr/>
                <p:nvPr/>
              </p:nvGrpSpPr>
              <p:grpSpPr>
                <a:xfrm>
                  <a:off x="1565280" y="2606760"/>
                  <a:ext cx="950760" cy="671400"/>
                  <a:chOff x="1565280" y="2606760"/>
                  <a:chExt cx="950760" cy="671400"/>
                </a:xfrm>
              </p:grpSpPr>
              <p:sp>
                <p:nvSpPr>
                  <p:cNvPr id="2499" name=""/>
                  <p:cNvSpPr/>
                  <p:nvPr/>
                </p:nvSpPr>
                <p:spPr>
                  <a:xfrm>
                    <a:off x="1565280" y="2606760"/>
                    <a:ext cx="646200" cy="366480"/>
                  </a:xfrm>
                  <a:custGeom>
                    <a:avLst/>
                    <a:gdLst>
                      <a:gd name="textAreaLeft" fmla="*/ 0 w 646200"/>
                      <a:gd name="textAreaRight" fmla="*/ 646560 w 646200"/>
                      <a:gd name="textAreaTop" fmla="*/ 0 h 366480"/>
                      <a:gd name="textAreaBottom" fmla="*/ 366840 h 36648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0" name=""/>
                  <p:cNvSpPr/>
                  <p:nvPr/>
                </p:nvSpPr>
                <p:spPr>
                  <a:xfrm>
                    <a:off x="1717560" y="2759040"/>
                    <a:ext cx="646200" cy="366840"/>
                  </a:xfrm>
                  <a:custGeom>
                    <a:avLst/>
                    <a:gdLst>
                      <a:gd name="textAreaLeft" fmla="*/ 0 w 646200"/>
                      <a:gd name="textAreaRight" fmla="*/ 646560 w 64620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
                  <p:cNvSpPr/>
                  <p:nvPr/>
                </p:nvSpPr>
                <p:spPr>
                  <a:xfrm>
                    <a:off x="1870200" y="2911320"/>
                    <a:ext cx="645840" cy="366840"/>
                  </a:xfrm>
                  <a:custGeom>
                    <a:avLst/>
                    <a:gdLst>
                      <a:gd name="textAreaLeft" fmla="*/ 0 w 645840"/>
                      <a:gd name="textAreaRight" fmla="*/ 646200 w 64584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2" name=""/>
                <p:cNvGrpSpPr/>
                <p:nvPr/>
              </p:nvGrpSpPr>
              <p:grpSpPr>
                <a:xfrm>
                  <a:off x="279720" y="3220920"/>
                  <a:ext cx="6232320" cy="776520"/>
                  <a:chOff x="279720" y="3220920"/>
                  <a:chExt cx="6232320" cy="776520"/>
                </a:xfrm>
              </p:grpSpPr>
              <p:sp>
                <p:nvSpPr>
                  <p:cNvPr id="2503" name=""/>
                  <p:cNvSpPr/>
                  <p:nvPr/>
                </p:nvSpPr>
                <p:spPr>
                  <a:xfrm>
                    <a:off x="279720" y="3670200"/>
                    <a:ext cx="9799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ates &gt;&gt;</a:t>
                    </a:r>
                    <a:endParaRPr b="0" lang="en-US" sz="1600" spc="-1" strike="noStrike">
                      <a:solidFill>
                        <a:srgbClr val="000000"/>
                      </a:solidFill>
                      <a:latin typeface="Arial"/>
                    </a:endParaRPr>
                  </a:p>
                </p:txBody>
              </p:sp>
              <p:grpSp>
                <p:nvGrpSpPr>
                  <p:cNvPr id="2504" name=""/>
                  <p:cNvGrpSpPr/>
                  <p:nvPr/>
                </p:nvGrpSpPr>
                <p:grpSpPr>
                  <a:xfrm>
                    <a:off x="3319560" y="3220920"/>
                    <a:ext cx="185760" cy="617400"/>
                    <a:chOff x="3319560" y="3220920"/>
                    <a:chExt cx="185760" cy="617400"/>
                  </a:xfrm>
                </p:grpSpPr>
                <p:sp>
                  <p:nvSpPr>
                    <p:cNvPr id="2505" name=""/>
                    <p:cNvSpPr/>
                    <p:nvPr/>
                  </p:nvSpPr>
                  <p:spPr>
                    <a:xfrm>
                      <a:off x="331956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506" name=""/>
                    <p:cNvSpPr/>
                    <p:nvPr/>
                  </p:nvSpPr>
                  <p:spPr>
                    <a:xfrm flipV="1">
                      <a:off x="341172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sp>
                <p:nvSpPr>
                  <p:cNvPr id="2507" name=""/>
                  <p:cNvSpPr/>
                  <p:nvPr/>
                </p:nvSpPr>
                <p:spPr>
                  <a:xfrm>
                    <a:off x="1208160" y="3497400"/>
                    <a:ext cx="5303880" cy="500040"/>
                  </a:xfrm>
                  <a:prstGeom prst="roundRect">
                    <a:avLst>
                      <a:gd name="adj" fmla="val 50000"/>
                    </a:avLst>
                  </a:prstGeom>
                  <a:noFill/>
                  <a:ln w="936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2508" name=""/>
                  <p:cNvGrpSpPr/>
                  <p:nvPr/>
                </p:nvGrpSpPr>
                <p:grpSpPr>
                  <a:xfrm>
                    <a:off x="6219720" y="3395160"/>
                    <a:ext cx="185400" cy="474840"/>
                    <a:chOff x="6219720" y="3395160"/>
                    <a:chExt cx="185400" cy="474840"/>
                  </a:xfrm>
                </p:grpSpPr>
                <p:sp>
                  <p:nvSpPr>
                    <p:cNvPr id="2509" name=""/>
                    <p:cNvSpPr/>
                    <p:nvPr/>
                  </p:nvSpPr>
                  <p:spPr>
                    <a:xfrm>
                      <a:off x="6219720" y="359856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510" name=""/>
                    <p:cNvSpPr/>
                    <p:nvPr/>
                  </p:nvSpPr>
                  <p:spPr>
                    <a:xfrm flipV="1">
                      <a:off x="6311520" y="3395160"/>
                      <a:ext cx="0" cy="20628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2511" name=""/>
                  <p:cNvGrpSpPr/>
                  <p:nvPr/>
                </p:nvGrpSpPr>
                <p:grpSpPr>
                  <a:xfrm>
                    <a:off x="4748040" y="3220920"/>
                    <a:ext cx="185760" cy="617400"/>
                    <a:chOff x="4748040" y="3220920"/>
                    <a:chExt cx="185760" cy="617400"/>
                  </a:xfrm>
                </p:grpSpPr>
                <p:sp>
                  <p:nvSpPr>
                    <p:cNvPr id="2512" name=""/>
                    <p:cNvSpPr/>
                    <p:nvPr/>
                  </p:nvSpPr>
                  <p:spPr>
                    <a:xfrm>
                      <a:off x="474804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513" name=""/>
                    <p:cNvSpPr/>
                    <p:nvPr/>
                  </p:nvSpPr>
                  <p:spPr>
                    <a:xfrm flipV="1">
                      <a:off x="484020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2514" name=""/>
                  <p:cNvGrpSpPr/>
                  <p:nvPr/>
                </p:nvGrpSpPr>
                <p:grpSpPr>
                  <a:xfrm>
                    <a:off x="5464080" y="3220920"/>
                    <a:ext cx="185760" cy="617400"/>
                    <a:chOff x="5464080" y="3220920"/>
                    <a:chExt cx="185760" cy="617400"/>
                  </a:xfrm>
                </p:grpSpPr>
                <p:sp>
                  <p:nvSpPr>
                    <p:cNvPr id="2515" name=""/>
                    <p:cNvSpPr/>
                    <p:nvPr/>
                  </p:nvSpPr>
                  <p:spPr>
                    <a:xfrm>
                      <a:off x="546408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516" name=""/>
                    <p:cNvSpPr/>
                    <p:nvPr/>
                  </p:nvSpPr>
                  <p:spPr>
                    <a:xfrm flipV="1">
                      <a:off x="555624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2517" name=""/>
                  <p:cNvGrpSpPr/>
                  <p:nvPr/>
                </p:nvGrpSpPr>
                <p:grpSpPr>
                  <a:xfrm>
                    <a:off x="2422440" y="3252960"/>
                    <a:ext cx="185760" cy="585720"/>
                    <a:chOff x="2422440" y="3252960"/>
                    <a:chExt cx="185760" cy="585720"/>
                  </a:xfrm>
                </p:grpSpPr>
                <p:sp>
                  <p:nvSpPr>
                    <p:cNvPr id="2518" name=""/>
                    <p:cNvSpPr/>
                    <p:nvPr/>
                  </p:nvSpPr>
                  <p:spPr>
                    <a:xfrm flipV="1">
                      <a:off x="25146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519" name=""/>
                    <p:cNvSpPr/>
                    <p:nvPr/>
                  </p:nvSpPr>
                  <p:spPr>
                    <a:xfrm>
                      <a:off x="2422440" y="356724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2520" name=""/>
                  <p:cNvGrpSpPr/>
                  <p:nvPr/>
                </p:nvGrpSpPr>
                <p:grpSpPr>
                  <a:xfrm>
                    <a:off x="4035600" y="3252960"/>
                    <a:ext cx="185400" cy="585720"/>
                    <a:chOff x="4035600" y="3252960"/>
                    <a:chExt cx="185400" cy="585720"/>
                  </a:xfrm>
                </p:grpSpPr>
                <p:sp>
                  <p:nvSpPr>
                    <p:cNvPr id="2521" name=""/>
                    <p:cNvSpPr/>
                    <p:nvPr/>
                  </p:nvSpPr>
                  <p:spPr>
                    <a:xfrm flipV="1">
                      <a:off x="41274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522" name=""/>
                    <p:cNvSpPr/>
                    <p:nvPr/>
                  </p:nvSpPr>
                  <p:spPr>
                    <a:xfrm>
                      <a:off x="4035600" y="356724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2523" name=""/>
                  <p:cNvGrpSpPr/>
                  <p:nvPr/>
                </p:nvGrpSpPr>
                <p:grpSpPr>
                  <a:xfrm>
                    <a:off x="3597120" y="3277800"/>
                    <a:ext cx="141480" cy="473400"/>
                    <a:chOff x="3597120" y="3277800"/>
                    <a:chExt cx="141480" cy="473400"/>
                  </a:xfrm>
                </p:grpSpPr>
                <p:sp>
                  <p:nvSpPr>
                    <p:cNvPr id="2524" name=""/>
                    <p:cNvSpPr/>
                    <p:nvPr/>
                  </p:nvSpPr>
                  <p:spPr>
                    <a:xfrm flipV="1">
                      <a:off x="36687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525" name=""/>
                    <p:cNvSpPr/>
                    <p:nvPr/>
                  </p:nvSpPr>
                  <p:spPr>
                    <a:xfrm>
                      <a:off x="35971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2526" name=""/>
                  <p:cNvGrpSpPr/>
                  <p:nvPr/>
                </p:nvGrpSpPr>
                <p:grpSpPr>
                  <a:xfrm>
                    <a:off x="3784680" y="3277800"/>
                    <a:ext cx="141120" cy="473400"/>
                    <a:chOff x="3784680" y="3277800"/>
                    <a:chExt cx="141120" cy="473400"/>
                  </a:xfrm>
                </p:grpSpPr>
                <p:sp>
                  <p:nvSpPr>
                    <p:cNvPr id="2527" name=""/>
                    <p:cNvSpPr/>
                    <p:nvPr/>
                  </p:nvSpPr>
                  <p:spPr>
                    <a:xfrm flipV="1">
                      <a:off x="38559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528" name=""/>
                    <p:cNvSpPr/>
                    <p:nvPr/>
                  </p:nvSpPr>
                  <p:spPr>
                    <a:xfrm>
                      <a:off x="378468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2529" name=""/>
                  <p:cNvGrpSpPr/>
                  <p:nvPr/>
                </p:nvGrpSpPr>
                <p:grpSpPr>
                  <a:xfrm>
                    <a:off x="4284720" y="3277800"/>
                    <a:ext cx="141120" cy="473400"/>
                    <a:chOff x="4284720" y="3277800"/>
                    <a:chExt cx="141120" cy="473400"/>
                  </a:xfrm>
                </p:grpSpPr>
                <p:sp>
                  <p:nvSpPr>
                    <p:cNvPr id="2530" name=""/>
                    <p:cNvSpPr/>
                    <p:nvPr/>
                  </p:nvSpPr>
                  <p:spPr>
                    <a:xfrm flipV="1">
                      <a:off x="435600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531" name=""/>
                    <p:cNvSpPr/>
                    <p:nvPr/>
                  </p:nvSpPr>
                  <p:spPr>
                    <a:xfrm>
                      <a:off x="428472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2532" name=""/>
                  <p:cNvGrpSpPr/>
                  <p:nvPr/>
                </p:nvGrpSpPr>
                <p:grpSpPr>
                  <a:xfrm>
                    <a:off x="4498920" y="3277800"/>
                    <a:ext cx="141480" cy="473400"/>
                    <a:chOff x="4498920" y="3277800"/>
                    <a:chExt cx="141480" cy="473400"/>
                  </a:xfrm>
                </p:grpSpPr>
                <p:sp>
                  <p:nvSpPr>
                    <p:cNvPr id="2533" name=""/>
                    <p:cNvSpPr/>
                    <p:nvPr/>
                  </p:nvSpPr>
                  <p:spPr>
                    <a:xfrm flipV="1">
                      <a:off x="45705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534" name=""/>
                    <p:cNvSpPr/>
                    <p:nvPr/>
                  </p:nvSpPr>
                  <p:spPr>
                    <a:xfrm>
                      <a:off x="44989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2535" name=""/>
                  <p:cNvGrpSpPr/>
                  <p:nvPr/>
                </p:nvGrpSpPr>
                <p:grpSpPr>
                  <a:xfrm>
                    <a:off x="3051000" y="3277800"/>
                    <a:ext cx="141480" cy="473400"/>
                    <a:chOff x="3051000" y="3277800"/>
                    <a:chExt cx="141480" cy="473400"/>
                  </a:xfrm>
                </p:grpSpPr>
                <p:sp>
                  <p:nvSpPr>
                    <p:cNvPr id="2536" name=""/>
                    <p:cNvSpPr/>
                    <p:nvPr/>
                  </p:nvSpPr>
                  <p:spPr>
                    <a:xfrm flipV="1">
                      <a:off x="312264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537" name=""/>
                    <p:cNvSpPr/>
                    <p:nvPr/>
                  </p:nvSpPr>
                  <p:spPr>
                    <a:xfrm>
                      <a:off x="305100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2538" name=""/>
                  <p:cNvGrpSpPr/>
                  <p:nvPr/>
                </p:nvGrpSpPr>
                <p:grpSpPr>
                  <a:xfrm>
                    <a:off x="5164200" y="3277800"/>
                    <a:ext cx="141120" cy="473400"/>
                    <a:chOff x="5164200" y="3277800"/>
                    <a:chExt cx="141120" cy="473400"/>
                  </a:xfrm>
                </p:grpSpPr>
                <p:sp>
                  <p:nvSpPr>
                    <p:cNvPr id="2539" name=""/>
                    <p:cNvSpPr/>
                    <p:nvPr/>
                  </p:nvSpPr>
                  <p:spPr>
                    <a:xfrm flipV="1">
                      <a:off x="523548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540" name=""/>
                    <p:cNvSpPr/>
                    <p:nvPr/>
                  </p:nvSpPr>
                  <p:spPr>
                    <a:xfrm>
                      <a:off x="516420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grpSp>
          <p:sp>
            <p:nvSpPr>
              <p:cNvPr id="2541" name=""/>
              <p:cNvSpPr/>
              <p:nvPr/>
            </p:nvSpPr>
            <p:spPr>
              <a:xfrm>
                <a:off x="1500120" y="14558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2543"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ceitos de modelagem de process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o modelo</a:t>
            </a: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Arial"/>
              </a:rPr>
              <a:t>Os papéis principais das pessoas envolvidas n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as macro-f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visão de fases (g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étodos e ferramentas de desenvolvimento de produ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dicadores de desempenho d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ceiros do desenvolvimento colaborativo de produ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Áreas de conhecimen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stão do conhecimento d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ndo o modelo</a:t>
            </a:r>
            <a:endParaRPr b="0" lang="en-US" sz="2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4" name="PlaceHolder 1"/>
          <p:cNvSpPr>
            <a:spLocks noGrp="1"/>
          </p:cNvSpPr>
          <p:nvPr>
            <p:ph type="title"/>
          </p:nvPr>
        </p:nvSpPr>
        <p:spPr>
          <a:xfrm>
            <a:off x="-360" y="0"/>
            <a:ext cx="8055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Lista de Papéis para o Processo de Desenvolvimento de Produtos</a:t>
            </a:r>
            <a:endParaRPr b="0" lang="en-US" sz="2400" spc="-1" strike="noStrike">
              <a:solidFill>
                <a:srgbClr val="000096"/>
              </a:solidFill>
              <a:latin typeface="Arial"/>
            </a:endParaRPr>
          </a:p>
        </p:txBody>
      </p:sp>
      <p:sp>
        <p:nvSpPr>
          <p:cNvPr id="2545" name="PlaceHolder 2"/>
          <p:cNvSpPr>
            <a:spLocks noGrp="1"/>
          </p:cNvSpPr>
          <p:nvPr>
            <p:ph/>
          </p:nvPr>
        </p:nvSpPr>
        <p:spPr>
          <a:xfrm>
            <a:off x="112320" y="887040"/>
            <a:ext cx="8574120" cy="59706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ros da diretoria</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ente funcional</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ável pela engenharia</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ente de projetos</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ist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ceiros</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de planejamento estratégico de produtos</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de desenvolvimento </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de avaliação</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de acompanhamento do produ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6" name=""/>
          <p:cNvSpPr/>
          <p:nvPr/>
        </p:nvSpPr>
        <p:spPr>
          <a:xfrm>
            <a:off x="179280" y="3489480"/>
            <a:ext cx="4946760" cy="2631960"/>
          </a:xfrm>
          <a:prstGeom prst="rect">
            <a:avLst/>
          </a:prstGeom>
          <a:noFill/>
          <a:ln w="19080">
            <a:solidFill>
              <a:srgbClr val="80808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547" name=""/>
          <p:cNvSpPr/>
          <p:nvPr/>
        </p:nvSpPr>
        <p:spPr>
          <a:xfrm>
            <a:off x="179280" y="679320"/>
            <a:ext cx="4946760" cy="2175120"/>
          </a:xfrm>
          <a:prstGeom prst="rect">
            <a:avLst/>
          </a:prstGeom>
          <a:noFill/>
          <a:ln w="19080">
            <a:solidFill>
              <a:srgbClr val="80808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2548" name=""/>
          <p:cNvSpPr/>
          <p:nvPr/>
        </p:nvSpPr>
        <p:spPr>
          <a:xfrm>
            <a:off x="5334120" y="685800"/>
            <a:ext cx="3504960" cy="601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5491440" y="457200"/>
            <a:ext cx="3160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Referência</a:t>
            </a:r>
            <a:endParaRPr b="0" lang="en-US" sz="2400" spc="-1" strike="noStrike">
              <a:solidFill>
                <a:srgbClr val="000000"/>
              </a:solidFill>
              <a:latin typeface="Arial"/>
            </a:endParaRPr>
          </a:p>
        </p:txBody>
      </p:sp>
      <p:sp>
        <p:nvSpPr>
          <p:cNvPr id="2550" name=""/>
          <p:cNvSpPr/>
          <p:nvPr/>
        </p:nvSpPr>
        <p:spPr>
          <a:xfrm>
            <a:off x="457200" y="1471680"/>
            <a:ext cx="4267080" cy="1119240"/>
          </a:xfrm>
          <a:custGeom>
            <a:avLst/>
            <a:gdLst/>
            <a:ahLst/>
            <a:rect l="l" t="t" r="r" b="b"/>
            <a:pathLst>
              <a:path w="3984" h="1008">
                <a:moveTo>
                  <a:pt x="0" y="0"/>
                </a:moveTo>
                <a:lnTo>
                  <a:pt x="1008" y="0"/>
                </a:lnTo>
                <a:lnTo>
                  <a:pt x="1008" y="528"/>
                </a:lnTo>
                <a:lnTo>
                  <a:pt x="3984" y="528"/>
                </a:lnTo>
                <a:lnTo>
                  <a:pt x="3984" y="1008"/>
                </a:lnTo>
                <a:lnTo>
                  <a:pt x="0" y="1008"/>
                </a:lnTo>
                <a:lnTo>
                  <a:pt x="0" y="0"/>
                </a:lnTo>
                <a:close/>
              </a:path>
            </a:pathLst>
          </a:custGeom>
          <a:solidFill>
            <a:srgbClr val="dddddd"/>
          </a:solidFill>
          <a:ln w="9360">
            <a:solidFill>
              <a:srgbClr val="000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
          <p:cNvSpPr/>
          <p:nvPr/>
        </p:nvSpPr>
        <p:spPr>
          <a:xfrm>
            <a:off x="2590920" y="884160"/>
            <a:ext cx="1279440" cy="426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
          <p:cNvSpPr/>
          <p:nvPr/>
        </p:nvSpPr>
        <p:spPr>
          <a:xfrm>
            <a:off x="1630440" y="1577880"/>
            <a:ext cx="960480" cy="373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
          <p:cNvSpPr/>
          <p:nvPr/>
        </p:nvSpPr>
        <p:spPr>
          <a:xfrm>
            <a:off x="2697120" y="1577880"/>
            <a:ext cx="960480" cy="373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
          <p:cNvSpPr/>
          <p:nvPr/>
        </p:nvSpPr>
        <p:spPr>
          <a:xfrm>
            <a:off x="3763800" y="1577880"/>
            <a:ext cx="960480" cy="373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
          <p:cNvSpPr/>
          <p:nvPr/>
        </p:nvSpPr>
        <p:spPr>
          <a:xfrm>
            <a:off x="617400" y="1577880"/>
            <a:ext cx="852480" cy="373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
          <p:cNvSpPr/>
          <p:nvPr/>
        </p:nvSpPr>
        <p:spPr>
          <a:xfrm>
            <a:off x="1684440" y="2138400"/>
            <a:ext cx="852480" cy="372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
          <p:cNvSpPr/>
          <p:nvPr/>
        </p:nvSpPr>
        <p:spPr>
          <a:xfrm>
            <a:off x="2751120" y="2138400"/>
            <a:ext cx="852480" cy="372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
          <p:cNvSpPr/>
          <p:nvPr/>
        </p:nvSpPr>
        <p:spPr>
          <a:xfrm>
            <a:off x="3817800" y="2138400"/>
            <a:ext cx="852480" cy="372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59" name=""/>
          <p:cNvCxnSpPr>
            <a:stCxn id="2551" idx="2"/>
            <a:endCxn id="2552" idx="0"/>
          </p:cNvCxnSpPr>
          <p:nvPr/>
        </p:nvCxnSpPr>
        <p:spPr>
          <a:xfrm rot="5400000">
            <a:off x="2536920" y="884160"/>
            <a:ext cx="267120" cy="1119960"/>
          </a:xfrm>
          <a:prstGeom prst="bentConnector3">
            <a:avLst>
              <a:gd name="adj1" fmla="val 49932"/>
            </a:avLst>
          </a:prstGeom>
          <a:ln w="9360">
            <a:solidFill>
              <a:srgbClr val="000000"/>
            </a:solidFill>
            <a:miter/>
          </a:ln>
        </p:spPr>
      </p:cxnSp>
      <p:cxnSp>
        <p:nvCxnSpPr>
          <p:cNvPr id="2560" name=""/>
          <p:cNvCxnSpPr>
            <a:stCxn id="2551" idx="2"/>
            <a:endCxn id="2553" idx="0"/>
          </p:cNvCxnSpPr>
          <p:nvPr/>
        </p:nvCxnSpPr>
        <p:spPr>
          <a:xfrm rot="5400000">
            <a:off x="3070440" y="1417680"/>
            <a:ext cx="267120" cy="53280"/>
          </a:xfrm>
          <a:prstGeom prst="bentConnector3">
            <a:avLst>
              <a:gd name="adj1" fmla="val 49932"/>
            </a:avLst>
          </a:prstGeom>
          <a:ln w="9360">
            <a:solidFill>
              <a:srgbClr val="000000"/>
            </a:solidFill>
            <a:miter/>
          </a:ln>
        </p:spPr>
      </p:cxnSp>
      <p:cxnSp>
        <p:nvCxnSpPr>
          <p:cNvPr id="2561" name=""/>
          <p:cNvCxnSpPr>
            <a:stCxn id="2551" idx="2"/>
            <a:endCxn id="2554" idx="0"/>
          </p:cNvCxnSpPr>
          <p:nvPr/>
        </p:nvCxnSpPr>
        <p:spPr>
          <a:xfrm flipH="1" rot="16200000">
            <a:off x="3604680" y="936360"/>
            <a:ext cx="267120" cy="1015200"/>
          </a:xfrm>
          <a:prstGeom prst="bentConnector3">
            <a:avLst>
              <a:gd name="adj1" fmla="val 49932"/>
            </a:avLst>
          </a:prstGeom>
          <a:ln w="9360">
            <a:solidFill>
              <a:srgbClr val="000000"/>
            </a:solidFill>
            <a:miter/>
          </a:ln>
        </p:spPr>
      </p:cxnSp>
      <p:cxnSp>
        <p:nvCxnSpPr>
          <p:cNvPr id="2562" name=""/>
          <p:cNvCxnSpPr>
            <a:stCxn id="2555" idx="0"/>
            <a:endCxn id="2551" idx="1"/>
          </p:cNvCxnSpPr>
          <p:nvPr/>
        </p:nvCxnSpPr>
        <p:spPr>
          <a:xfrm flipH="1" flipV="1" rot="5400000">
            <a:off x="1576800" y="563760"/>
            <a:ext cx="481680" cy="1546920"/>
          </a:xfrm>
          <a:prstGeom prst="bentConnector2">
            <a:avLst/>
          </a:prstGeom>
          <a:ln w="9360">
            <a:solidFill>
              <a:srgbClr val="000000"/>
            </a:solidFill>
            <a:miter/>
          </a:ln>
        </p:spPr>
      </p:cxnSp>
      <p:cxnSp>
        <p:nvCxnSpPr>
          <p:cNvPr id="2563" name=""/>
          <p:cNvCxnSpPr>
            <a:stCxn id="2552" idx="2"/>
            <a:endCxn id="2556" idx="0"/>
          </p:cNvCxnSpPr>
          <p:nvPr/>
        </p:nvCxnSpPr>
        <p:spPr>
          <a:xfrm>
            <a:off x="2111040" y="1951200"/>
            <a:ext cx="1080" cy="187920"/>
          </a:xfrm>
          <a:prstGeom prst="straightConnector1">
            <a:avLst/>
          </a:prstGeom>
          <a:ln w="9360">
            <a:solidFill>
              <a:srgbClr val="000000"/>
            </a:solidFill>
            <a:miter/>
          </a:ln>
        </p:spPr>
      </p:cxnSp>
      <p:cxnSp>
        <p:nvCxnSpPr>
          <p:cNvPr id="2564" name=""/>
          <p:cNvCxnSpPr>
            <a:stCxn id="2553" idx="2"/>
            <a:endCxn id="2557" idx="0"/>
          </p:cNvCxnSpPr>
          <p:nvPr/>
        </p:nvCxnSpPr>
        <p:spPr>
          <a:xfrm>
            <a:off x="3177720" y="1951200"/>
            <a:ext cx="1080" cy="187920"/>
          </a:xfrm>
          <a:prstGeom prst="straightConnector1">
            <a:avLst/>
          </a:prstGeom>
          <a:ln w="9360">
            <a:solidFill>
              <a:srgbClr val="000000"/>
            </a:solidFill>
            <a:miter/>
          </a:ln>
        </p:spPr>
      </p:cxnSp>
      <p:cxnSp>
        <p:nvCxnSpPr>
          <p:cNvPr id="2565" name=""/>
          <p:cNvCxnSpPr>
            <a:stCxn id="2554" idx="2"/>
            <a:endCxn id="2558" idx="0"/>
          </p:cNvCxnSpPr>
          <p:nvPr/>
        </p:nvCxnSpPr>
        <p:spPr>
          <a:xfrm>
            <a:off x="4244760" y="1951200"/>
            <a:ext cx="1080" cy="187920"/>
          </a:xfrm>
          <a:prstGeom prst="straightConnector1">
            <a:avLst/>
          </a:prstGeom>
          <a:ln w="9360">
            <a:solidFill>
              <a:srgbClr val="000000"/>
            </a:solidFill>
            <a:miter/>
          </a:ln>
        </p:spPr>
      </p:cxnSp>
      <p:cxnSp>
        <p:nvCxnSpPr>
          <p:cNvPr id="2566" name=""/>
          <p:cNvCxnSpPr>
            <a:stCxn id="2556" idx="1"/>
            <a:endCxn id="2555" idx="2"/>
          </p:cNvCxnSpPr>
          <p:nvPr/>
        </p:nvCxnSpPr>
        <p:spPr>
          <a:xfrm flipH="1" flipV="1">
            <a:off x="1044000" y="1950840"/>
            <a:ext cx="640440" cy="373680"/>
          </a:xfrm>
          <a:prstGeom prst="straightConnector1">
            <a:avLst/>
          </a:prstGeom>
          <a:ln w="9360">
            <a:solidFill>
              <a:srgbClr val="000000"/>
            </a:solidFill>
            <a:miter/>
          </a:ln>
        </p:spPr>
      </p:cxnSp>
      <p:cxnSp>
        <p:nvCxnSpPr>
          <p:cNvPr id="2567" name=""/>
          <p:cNvCxnSpPr>
            <a:stCxn id="2557" idx="0"/>
            <a:endCxn id="2555" idx="2"/>
          </p:cNvCxnSpPr>
          <p:nvPr/>
        </p:nvCxnSpPr>
        <p:spPr>
          <a:xfrm flipH="1" flipV="1">
            <a:off x="1044360" y="1950840"/>
            <a:ext cx="2134080" cy="187920"/>
          </a:xfrm>
          <a:prstGeom prst="straightConnector1">
            <a:avLst/>
          </a:prstGeom>
          <a:ln w="9360">
            <a:solidFill>
              <a:srgbClr val="000000"/>
            </a:solidFill>
            <a:miter/>
          </a:ln>
        </p:spPr>
      </p:cxnSp>
      <p:cxnSp>
        <p:nvCxnSpPr>
          <p:cNvPr id="2568" name=""/>
          <p:cNvCxnSpPr>
            <a:stCxn id="2558" idx="0"/>
            <a:endCxn id="2555" idx="2"/>
          </p:cNvCxnSpPr>
          <p:nvPr/>
        </p:nvCxnSpPr>
        <p:spPr>
          <a:xfrm flipH="1" flipV="1">
            <a:off x="1044360" y="1950840"/>
            <a:ext cx="3201120" cy="187920"/>
          </a:xfrm>
          <a:prstGeom prst="straightConnector1">
            <a:avLst/>
          </a:prstGeom>
          <a:ln w="9360">
            <a:solidFill>
              <a:srgbClr val="000000"/>
            </a:solidFill>
            <a:miter/>
          </a:ln>
        </p:spPr>
      </p:cxnSp>
      <p:sp>
        <p:nvSpPr>
          <p:cNvPr id="2569" name=""/>
          <p:cNvSpPr/>
          <p:nvPr/>
        </p:nvSpPr>
        <p:spPr>
          <a:xfrm>
            <a:off x="457200" y="2168640"/>
            <a:ext cx="10126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de Projeto 1</a:t>
            </a:r>
            <a:endParaRPr b="0" lang="en-US" sz="1400" spc="-1" strike="noStrike">
              <a:solidFill>
                <a:srgbClr val="000000"/>
              </a:solidFill>
              <a:latin typeface="Arial"/>
            </a:endParaRPr>
          </a:p>
        </p:txBody>
      </p:sp>
      <p:sp>
        <p:nvSpPr>
          <p:cNvPr id="2570" name=""/>
          <p:cNvSpPr/>
          <p:nvPr/>
        </p:nvSpPr>
        <p:spPr>
          <a:xfrm>
            <a:off x="2184480" y="3894120"/>
            <a:ext cx="1217520" cy="4064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
          <p:cNvSpPr/>
          <p:nvPr/>
        </p:nvSpPr>
        <p:spPr>
          <a:xfrm>
            <a:off x="457200" y="4452840"/>
            <a:ext cx="812880" cy="3556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2" name=""/>
          <p:cNvSpPr/>
          <p:nvPr/>
        </p:nvSpPr>
        <p:spPr>
          <a:xfrm>
            <a:off x="2184480" y="4452840"/>
            <a:ext cx="811080" cy="3556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
          <p:cNvSpPr/>
          <p:nvPr/>
        </p:nvSpPr>
        <p:spPr>
          <a:xfrm>
            <a:off x="3046320" y="4452840"/>
            <a:ext cx="914400" cy="3556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
          <p:cNvSpPr/>
          <p:nvPr/>
        </p:nvSpPr>
        <p:spPr>
          <a:xfrm>
            <a:off x="1320840" y="4452840"/>
            <a:ext cx="812880" cy="3556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
          <p:cNvSpPr/>
          <p:nvPr/>
        </p:nvSpPr>
        <p:spPr>
          <a:xfrm>
            <a:off x="4011480" y="4452840"/>
            <a:ext cx="914400" cy="3556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76" name=""/>
          <p:cNvCxnSpPr>
            <a:stCxn id="2570" idx="2"/>
            <a:endCxn id="2571" idx="0"/>
          </p:cNvCxnSpPr>
          <p:nvPr/>
        </p:nvCxnSpPr>
        <p:spPr>
          <a:xfrm rot="5400000">
            <a:off x="1751400" y="3412080"/>
            <a:ext cx="153000" cy="1929600"/>
          </a:xfrm>
          <a:prstGeom prst="bentConnector3">
            <a:avLst>
              <a:gd name="adj1" fmla="val 50000"/>
            </a:avLst>
          </a:prstGeom>
          <a:ln w="9360">
            <a:solidFill>
              <a:srgbClr val="000000"/>
            </a:solidFill>
            <a:miter/>
          </a:ln>
        </p:spPr>
      </p:cxnSp>
      <p:cxnSp>
        <p:nvCxnSpPr>
          <p:cNvPr id="2577" name=""/>
          <p:cNvCxnSpPr>
            <a:stCxn id="2570" idx="2"/>
            <a:endCxn id="2573" idx="0"/>
          </p:cNvCxnSpPr>
          <p:nvPr/>
        </p:nvCxnSpPr>
        <p:spPr>
          <a:xfrm flipH="1" rot="16200000">
            <a:off x="3070800" y="4020840"/>
            <a:ext cx="153000" cy="711720"/>
          </a:xfrm>
          <a:prstGeom prst="bentConnector3">
            <a:avLst>
              <a:gd name="adj1" fmla="val 50000"/>
            </a:avLst>
          </a:prstGeom>
          <a:ln w="9360">
            <a:solidFill>
              <a:srgbClr val="000000"/>
            </a:solidFill>
            <a:miter/>
          </a:ln>
        </p:spPr>
      </p:cxnSp>
      <p:cxnSp>
        <p:nvCxnSpPr>
          <p:cNvPr id="2578" name=""/>
          <p:cNvCxnSpPr>
            <a:stCxn id="2570" idx="2"/>
            <a:endCxn id="2575" idx="0"/>
          </p:cNvCxnSpPr>
          <p:nvPr/>
        </p:nvCxnSpPr>
        <p:spPr>
          <a:xfrm flipH="1" rot="16200000">
            <a:off x="3554280" y="3538080"/>
            <a:ext cx="153000" cy="1676880"/>
          </a:xfrm>
          <a:prstGeom prst="bentConnector3">
            <a:avLst>
              <a:gd name="adj1" fmla="val 50000"/>
            </a:avLst>
          </a:prstGeom>
          <a:ln w="9360">
            <a:solidFill>
              <a:srgbClr val="000000"/>
            </a:solidFill>
            <a:miter/>
          </a:ln>
        </p:spPr>
      </p:cxnSp>
      <p:cxnSp>
        <p:nvCxnSpPr>
          <p:cNvPr id="2579" name=""/>
          <p:cNvCxnSpPr>
            <a:stCxn id="2570" idx="2"/>
            <a:endCxn id="2572" idx="0"/>
          </p:cNvCxnSpPr>
          <p:nvPr/>
        </p:nvCxnSpPr>
        <p:spPr>
          <a:xfrm rot="5400000">
            <a:off x="2613960" y="4274640"/>
            <a:ext cx="153000" cy="204120"/>
          </a:xfrm>
          <a:prstGeom prst="bentConnector3">
            <a:avLst>
              <a:gd name="adj1" fmla="val 50000"/>
            </a:avLst>
          </a:prstGeom>
          <a:ln w="9360">
            <a:solidFill>
              <a:srgbClr val="000000"/>
            </a:solidFill>
            <a:miter/>
          </a:ln>
        </p:spPr>
      </p:cxnSp>
      <p:cxnSp>
        <p:nvCxnSpPr>
          <p:cNvPr id="2580" name=""/>
          <p:cNvCxnSpPr>
            <a:stCxn id="2570" idx="2"/>
            <a:endCxn id="2574" idx="0"/>
          </p:cNvCxnSpPr>
          <p:nvPr/>
        </p:nvCxnSpPr>
        <p:spPr>
          <a:xfrm rot="5400000">
            <a:off x="2183040" y="3843720"/>
            <a:ext cx="153000" cy="1065960"/>
          </a:xfrm>
          <a:prstGeom prst="bentConnector3">
            <a:avLst>
              <a:gd name="adj1" fmla="val 50000"/>
            </a:avLst>
          </a:prstGeom>
          <a:ln w="9360">
            <a:solidFill>
              <a:srgbClr val="000000"/>
            </a:solidFill>
            <a:miter/>
          </a:ln>
        </p:spPr>
      </p:cxnSp>
      <p:sp>
        <p:nvSpPr>
          <p:cNvPr id="2581" name=""/>
          <p:cNvSpPr/>
          <p:nvPr/>
        </p:nvSpPr>
        <p:spPr>
          <a:xfrm>
            <a:off x="2792520" y="5062680"/>
            <a:ext cx="2133360" cy="8618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
          <p:cNvSpPr/>
          <p:nvPr/>
        </p:nvSpPr>
        <p:spPr>
          <a:xfrm>
            <a:off x="457200" y="5062680"/>
            <a:ext cx="2284560" cy="861840"/>
          </a:xfrm>
          <a:prstGeom prst="ellipse">
            <a:avLst/>
          </a:prstGeom>
          <a:solidFill>
            <a:srgbClr val="dddddd"/>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
          <p:cNvSpPr/>
          <p:nvPr/>
        </p:nvSpPr>
        <p:spPr>
          <a:xfrm>
            <a:off x="863640" y="4707000"/>
            <a:ext cx="406440" cy="5079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flipH="1">
            <a:off x="1574280" y="4707000"/>
            <a:ext cx="862200" cy="4572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flipH="1">
            <a:off x="2031840" y="4757760"/>
            <a:ext cx="1471680" cy="4572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
          <p:cNvSpPr/>
          <p:nvPr/>
        </p:nvSpPr>
        <p:spPr>
          <a:xfrm>
            <a:off x="1930320" y="4757760"/>
            <a:ext cx="1420920" cy="5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
          <p:cNvSpPr/>
          <p:nvPr/>
        </p:nvSpPr>
        <p:spPr>
          <a:xfrm>
            <a:off x="2894040" y="4707000"/>
            <a:ext cx="71100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flipH="1">
            <a:off x="3909600" y="4656240"/>
            <a:ext cx="660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2822040" y="5357880"/>
            <a:ext cx="178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do Projeto 2</a:t>
            </a:r>
            <a:endParaRPr b="0" lang="en-US" sz="1600" spc="-1" strike="noStrike">
              <a:solidFill>
                <a:srgbClr val="000000"/>
              </a:solidFill>
              <a:latin typeface="Arial"/>
            </a:endParaRPr>
          </a:p>
        </p:txBody>
      </p:sp>
      <p:sp>
        <p:nvSpPr>
          <p:cNvPr id="2590" name=""/>
          <p:cNvSpPr/>
          <p:nvPr/>
        </p:nvSpPr>
        <p:spPr>
          <a:xfrm>
            <a:off x="688320" y="5359320"/>
            <a:ext cx="178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do Projeto 1</a:t>
            </a:r>
            <a:endParaRPr b="0" lang="en-US" sz="1600" spc="-1" strike="noStrike">
              <a:solidFill>
                <a:srgbClr val="000000"/>
              </a:solidFill>
              <a:latin typeface="Arial"/>
            </a:endParaRPr>
          </a:p>
        </p:txBody>
      </p:sp>
      <p:sp>
        <p:nvSpPr>
          <p:cNvPr id="2591" name=""/>
          <p:cNvSpPr/>
          <p:nvPr/>
        </p:nvSpPr>
        <p:spPr>
          <a:xfrm>
            <a:off x="5562720" y="2971800"/>
            <a:ext cx="1981080" cy="33746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embro da Diretoria</a:t>
            </a:r>
            <a:endParaRPr b="0" lang="en-US" sz="1400" spc="-1" strike="noStrike">
              <a:solidFill>
                <a:srgbClr val="000000"/>
              </a:solidFill>
              <a:latin typeface="Arial"/>
            </a:endParaRPr>
          </a:p>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rente Funcional</a:t>
            </a:r>
            <a:endParaRPr b="0" lang="en-US" sz="1400" spc="-1" strike="noStrike">
              <a:solidFill>
                <a:srgbClr val="000000"/>
              </a:solidFill>
              <a:latin typeface="Arial"/>
            </a:endParaRPr>
          </a:p>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ponsável pela engenharia</a:t>
            </a:r>
            <a:endParaRPr b="0" lang="en-US" sz="1400" spc="-1" strike="noStrike">
              <a:solidFill>
                <a:srgbClr val="000000"/>
              </a:solidFill>
              <a:latin typeface="Arial"/>
            </a:endParaRPr>
          </a:p>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rente de projeto</a:t>
            </a:r>
            <a:endParaRPr b="0" lang="en-US" sz="1400" spc="-1" strike="noStrike">
              <a:solidFill>
                <a:srgbClr val="000000"/>
              </a:solidFill>
              <a:latin typeface="Arial"/>
            </a:endParaRPr>
          </a:p>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specialista</a:t>
            </a:r>
            <a:endParaRPr b="0" lang="en-US" sz="1400" spc="-1" strike="noStrike">
              <a:solidFill>
                <a:srgbClr val="000000"/>
              </a:solidFill>
              <a:latin typeface="Arial"/>
            </a:endParaRPr>
          </a:p>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rceiro</a:t>
            </a:r>
            <a:endParaRPr b="0" lang="en-US" sz="1400" spc="-1" strike="noStrike">
              <a:solidFill>
                <a:srgbClr val="000000"/>
              </a:solidFill>
              <a:latin typeface="Arial"/>
            </a:endParaRPr>
          </a:p>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ime de Desenvolvimento</a:t>
            </a:r>
            <a:endParaRPr b="0" lang="en-US" sz="1400" spc="-1" strike="noStrike">
              <a:solidFill>
                <a:srgbClr val="000000"/>
              </a:solidFill>
              <a:latin typeface="Arial"/>
            </a:endParaRPr>
          </a:p>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ime de Avaliação</a:t>
            </a:r>
            <a:endParaRPr b="0" lang="en-US" sz="1400" spc="-1" strike="noStrike">
              <a:solidFill>
                <a:srgbClr val="000000"/>
              </a:solidFill>
              <a:latin typeface="Arial"/>
            </a:endParaRPr>
          </a:p>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ime de Planejamento Estratégico do Produto</a:t>
            </a:r>
            <a:endParaRPr b="0" lang="en-US" sz="1400" spc="-1" strike="noStrike">
              <a:solidFill>
                <a:srgbClr val="000000"/>
              </a:solidFill>
              <a:latin typeface="Arial"/>
            </a:endParaRPr>
          </a:p>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grpSp>
        <p:nvGrpSpPr>
          <p:cNvPr id="2592" name=""/>
          <p:cNvGrpSpPr/>
          <p:nvPr/>
        </p:nvGrpSpPr>
        <p:grpSpPr>
          <a:xfrm>
            <a:off x="5486400" y="1066680"/>
            <a:ext cx="3333240" cy="1521000"/>
            <a:chOff x="5486400" y="1066680"/>
            <a:chExt cx="3333240" cy="1521000"/>
          </a:xfrm>
        </p:grpSpPr>
        <p:sp>
          <p:nvSpPr>
            <p:cNvPr id="2593" name=""/>
            <p:cNvSpPr/>
            <p:nvPr/>
          </p:nvSpPr>
          <p:spPr>
            <a:xfrm>
              <a:off x="5719680" y="2303640"/>
              <a:ext cx="2965320" cy="28404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
            <p:cNvSpPr/>
            <p:nvPr/>
          </p:nvSpPr>
          <p:spPr>
            <a:xfrm>
              <a:off x="6302520" y="2166840"/>
              <a:ext cx="2290680" cy="28404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
            <p:cNvSpPr/>
            <p:nvPr/>
          </p:nvSpPr>
          <p:spPr>
            <a:xfrm>
              <a:off x="5720760" y="1306440"/>
              <a:ext cx="2742120" cy="624240"/>
            </a:xfrm>
            <a:custGeom>
              <a:avLst/>
              <a:gdLst/>
              <a:ahLst/>
              <a:rect l="l" t="t" r="r" b="b"/>
              <a:pathLst>
                <a:path w="4593" h="1046">
                  <a:moveTo>
                    <a:pt x="771" y="20"/>
                  </a:moveTo>
                  <a:lnTo>
                    <a:pt x="0" y="1046"/>
                  </a:lnTo>
                  <a:lnTo>
                    <a:pt x="4593" y="1016"/>
                  </a:lnTo>
                  <a:lnTo>
                    <a:pt x="3302" y="0"/>
                  </a:lnTo>
                </a:path>
              </a:pathLst>
            </a:custGeom>
            <a:gradFill rotWithShape="0">
              <a:gsLst>
                <a:gs pos="0">
                  <a:srgbClr val="ffcc99"/>
                </a:gs>
                <a:gs pos="100000">
                  <a:srgbClr val="99ccff"/>
                </a:gs>
              </a:gsLst>
              <a:lin ang="10800000"/>
            </a:gradFill>
            <a:ln w="0">
              <a:noFill/>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nvGrpSpPr>
            <p:cNvPr id="2596" name=""/>
            <p:cNvGrpSpPr/>
            <p:nvPr/>
          </p:nvGrpSpPr>
          <p:grpSpPr>
            <a:xfrm>
              <a:off x="6264000" y="1066680"/>
              <a:ext cx="1559160" cy="112320"/>
              <a:chOff x="6264000" y="1066680"/>
              <a:chExt cx="1559160" cy="112320"/>
            </a:xfrm>
          </p:grpSpPr>
          <p:sp>
            <p:nvSpPr>
              <p:cNvPr id="2597" name=""/>
              <p:cNvSpPr/>
              <p:nvPr/>
            </p:nvSpPr>
            <p:spPr>
              <a:xfrm>
                <a:off x="6264000" y="1066680"/>
                <a:ext cx="1559160" cy="112320"/>
              </a:xfrm>
              <a:custGeom>
                <a:avLst/>
                <a:gdLst>
                  <a:gd name="textAreaLeft" fmla="*/ 0 w 1559160"/>
                  <a:gd name="textAreaRight" fmla="*/ 1559520 w 1559160"/>
                  <a:gd name="textAreaTop" fmla="*/ 0 h 112320"/>
                  <a:gd name="textAreaBottom" fmla="*/ 112680 h 11232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6975720" y="1071360"/>
                <a:ext cx="77040" cy="103320"/>
              </a:xfrm>
              <a:prstGeom prst="rect">
                <a:avLst/>
              </a:prstGeom>
              <a:solidFill>
                <a:srgbClr val="ffff00"/>
              </a:solidFill>
              <a:ln w="0">
                <a:noFill/>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99" name=""/>
            <p:cNvGrpSpPr/>
            <p:nvPr/>
          </p:nvGrpSpPr>
          <p:grpSpPr>
            <a:xfrm>
              <a:off x="5771520" y="1858680"/>
              <a:ext cx="2647080" cy="204120"/>
              <a:chOff x="5771520" y="1858680"/>
              <a:chExt cx="2647080" cy="204120"/>
            </a:xfrm>
          </p:grpSpPr>
          <p:grpSp>
            <p:nvGrpSpPr>
              <p:cNvPr id="2600" name=""/>
              <p:cNvGrpSpPr/>
              <p:nvPr/>
            </p:nvGrpSpPr>
            <p:grpSpPr>
              <a:xfrm>
                <a:off x="6260760" y="1864080"/>
                <a:ext cx="2157840" cy="198720"/>
                <a:chOff x="6260760" y="1864080"/>
                <a:chExt cx="2157840" cy="198720"/>
              </a:xfrm>
            </p:grpSpPr>
            <p:sp>
              <p:nvSpPr>
                <p:cNvPr id="2601" name=""/>
                <p:cNvSpPr/>
                <p:nvPr/>
              </p:nvSpPr>
              <p:spPr>
                <a:xfrm>
                  <a:off x="7154280" y="1864080"/>
                  <a:ext cx="411840" cy="198720"/>
                </a:xfrm>
                <a:custGeom>
                  <a:avLst/>
                  <a:gdLst>
                    <a:gd name="textAreaLeft" fmla="*/ 0 w 411840"/>
                    <a:gd name="textAreaRight" fmla="*/ 412200 w 411840"/>
                    <a:gd name="textAreaTop" fmla="*/ 0 h 198720"/>
                    <a:gd name="textAreaBottom" fmla="*/ 199080 h 19872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
                <p:cNvSpPr/>
                <p:nvPr/>
              </p:nvSpPr>
              <p:spPr>
                <a:xfrm>
                  <a:off x="6749640" y="1864080"/>
                  <a:ext cx="423360" cy="198720"/>
                </a:xfrm>
                <a:custGeom>
                  <a:avLst/>
                  <a:gdLst>
                    <a:gd name="textAreaLeft" fmla="*/ 0 w 423360"/>
                    <a:gd name="textAreaRight" fmla="*/ 423720 w 423360"/>
                    <a:gd name="textAreaTop" fmla="*/ 0 h 198720"/>
                    <a:gd name="textAreaBottom" fmla="*/ 199080 h 19872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
                <p:cNvSpPr/>
                <p:nvPr/>
              </p:nvSpPr>
              <p:spPr>
                <a:xfrm>
                  <a:off x="6260760" y="1864080"/>
                  <a:ext cx="510840" cy="198720"/>
                </a:xfrm>
                <a:custGeom>
                  <a:avLst/>
                  <a:gdLst>
                    <a:gd name="textAreaLeft" fmla="*/ 0 w 510840"/>
                    <a:gd name="textAreaRight" fmla="*/ 511200 w 510840"/>
                    <a:gd name="textAreaTop" fmla="*/ 0 h 198720"/>
                    <a:gd name="textAreaBottom" fmla="*/ 199080 h 19872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
                <p:cNvSpPr/>
                <p:nvPr/>
              </p:nvSpPr>
              <p:spPr>
                <a:xfrm>
                  <a:off x="7962120" y="1864080"/>
                  <a:ext cx="456480" cy="198720"/>
                </a:xfrm>
                <a:custGeom>
                  <a:avLst/>
                  <a:gdLst>
                    <a:gd name="textAreaLeft" fmla="*/ 0 w 456480"/>
                    <a:gd name="textAreaRight" fmla="*/ 456840 w 456480"/>
                    <a:gd name="textAreaTop" fmla="*/ 0 h 198720"/>
                    <a:gd name="textAreaBottom" fmla="*/ 199080 h 19872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
                <p:cNvSpPr/>
                <p:nvPr/>
              </p:nvSpPr>
              <p:spPr>
                <a:xfrm>
                  <a:off x="7547760" y="1864080"/>
                  <a:ext cx="431280" cy="198720"/>
                </a:xfrm>
                <a:custGeom>
                  <a:avLst/>
                  <a:gdLst>
                    <a:gd name="textAreaLeft" fmla="*/ 0 w 431280"/>
                    <a:gd name="textAreaRight" fmla="*/ 431640 w 431280"/>
                    <a:gd name="textAreaTop" fmla="*/ 0 h 198720"/>
                    <a:gd name="textAreaBottom" fmla="*/ 199080 h 19872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6" name=""/>
              <p:cNvSpPr/>
              <p:nvPr/>
            </p:nvSpPr>
            <p:spPr>
              <a:xfrm>
                <a:off x="5771520" y="1858680"/>
                <a:ext cx="501840" cy="198720"/>
              </a:xfrm>
              <a:custGeom>
                <a:avLst/>
                <a:gdLst>
                  <a:gd name="textAreaLeft" fmla="*/ 0 w 501840"/>
                  <a:gd name="textAreaRight" fmla="*/ 502200 w 501840"/>
                  <a:gd name="textAreaTop" fmla="*/ 0 h 198720"/>
                  <a:gd name="textAreaBottom" fmla="*/ 199080 h 19872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7" name=""/>
            <p:cNvGrpSpPr/>
            <p:nvPr/>
          </p:nvGrpSpPr>
          <p:grpSpPr>
            <a:xfrm>
              <a:off x="7815240" y="1067040"/>
              <a:ext cx="997200" cy="111960"/>
              <a:chOff x="7815240" y="1067040"/>
              <a:chExt cx="997200" cy="111960"/>
            </a:xfrm>
          </p:grpSpPr>
          <p:sp>
            <p:nvSpPr>
              <p:cNvPr id="2608" name=""/>
              <p:cNvSpPr/>
              <p:nvPr/>
            </p:nvSpPr>
            <p:spPr>
              <a:xfrm>
                <a:off x="7815240" y="1067040"/>
                <a:ext cx="997200" cy="111960"/>
              </a:xfrm>
              <a:custGeom>
                <a:avLst/>
                <a:gdLst>
                  <a:gd name="textAreaLeft" fmla="*/ 0 w 997200"/>
                  <a:gd name="textAreaRight" fmla="*/ 997560 w 997200"/>
                  <a:gd name="textAreaTop" fmla="*/ 0 h 111960"/>
                  <a:gd name="textAreaBottom" fmla="*/ 112320 h 11196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
              <p:cNvSpPr/>
              <p:nvPr/>
            </p:nvSpPr>
            <p:spPr>
              <a:xfrm>
                <a:off x="8286480" y="1080720"/>
                <a:ext cx="53640" cy="91800"/>
              </a:xfrm>
              <a:prstGeom prst="rect">
                <a:avLst/>
              </a:prstGeom>
              <a:noFill/>
              <a:ln w="0">
                <a:noFill/>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0" name=""/>
            <p:cNvSpPr/>
            <p:nvPr/>
          </p:nvSpPr>
          <p:spPr>
            <a:xfrm>
              <a:off x="8514360" y="1098720"/>
              <a:ext cx="97920" cy="42840"/>
            </a:xfrm>
            <a:prstGeom prst="rect">
              <a:avLst/>
            </a:prstGeom>
            <a:noFill/>
            <a:ln w="0">
              <a:noFill/>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nvGrpSpPr>
            <p:cNvPr id="2611" name=""/>
            <p:cNvGrpSpPr/>
            <p:nvPr/>
          </p:nvGrpSpPr>
          <p:grpSpPr>
            <a:xfrm>
              <a:off x="5486400" y="1067040"/>
              <a:ext cx="798480" cy="111600"/>
              <a:chOff x="5486400" y="1067040"/>
              <a:chExt cx="798480" cy="111600"/>
            </a:xfrm>
          </p:grpSpPr>
          <p:sp>
            <p:nvSpPr>
              <p:cNvPr id="2612" name=""/>
              <p:cNvSpPr/>
              <p:nvPr/>
            </p:nvSpPr>
            <p:spPr>
              <a:xfrm>
                <a:off x="5486400" y="1067040"/>
                <a:ext cx="798480" cy="111600"/>
              </a:xfrm>
              <a:custGeom>
                <a:avLst/>
                <a:gdLst>
                  <a:gd name="textAreaLeft" fmla="*/ 0 w 798480"/>
                  <a:gd name="textAreaRight" fmla="*/ 798840 w 798480"/>
                  <a:gd name="textAreaTop" fmla="*/ 0 h 111600"/>
                  <a:gd name="textAreaBottom" fmla="*/ 111960 h 1116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613" name=""/>
              <p:cNvSpPr/>
              <p:nvPr/>
            </p:nvSpPr>
            <p:spPr>
              <a:xfrm>
                <a:off x="5859360" y="1080720"/>
                <a:ext cx="53280" cy="91800"/>
              </a:xfrm>
              <a:prstGeom prst="rect">
                <a:avLst/>
              </a:prstGeom>
              <a:noFill/>
              <a:ln w="0">
                <a:noFill/>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4" name=""/>
            <p:cNvSpPr/>
            <p:nvPr/>
          </p:nvSpPr>
          <p:spPr>
            <a:xfrm>
              <a:off x="5491800" y="1206360"/>
              <a:ext cx="501840" cy="295920"/>
            </a:xfrm>
            <a:custGeom>
              <a:avLst/>
              <a:gdLst>
                <a:gd name="textAreaLeft" fmla="*/ 0 w 501840"/>
                <a:gd name="textAreaRight" fmla="*/ 502200 w 501840"/>
                <a:gd name="textAreaTop" fmla="*/ 0 h 295920"/>
                <a:gd name="textAreaBottom" fmla="*/ 296280 h 29592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5" name=""/>
            <p:cNvGrpSpPr/>
            <p:nvPr/>
          </p:nvGrpSpPr>
          <p:grpSpPr>
            <a:xfrm>
              <a:off x="7740000" y="1199160"/>
              <a:ext cx="1079640" cy="350640"/>
              <a:chOff x="7740000" y="1199160"/>
              <a:chExt cx="1079640" cy="350640"/>
            </a:xfrm>
          </p:grpSpPr>
          <p:sp>
            <p:nvSpPr>
              <p:cNvPr id="2616" name=""/>
              <p:cNvSpPr/>
              <p:nvPr/>
            </p:nvSpPr>
            <p:spPr>
              <a:xfrm>
                <a:off x="7740000" y="1199160"/>
                <a:ext cx="472680" cy="312480"/>
              </a:xfrm>
              <a:custGeom>
                <a:avLst/>
                <a:gdLst>
                  <a:gd name="textAreaLeft" fmla="*/ 0 w 472680"/>
                  <a:gd name="textAreaRight" fmla="*/ 473040 w 472680"/>
                  <a:gd name="textAreaTop" fmla="*/ 0 h 312480"/>
                  <a:gd name="textAreaBottom" fmla="*/ 312840 h 31248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2617" name=""/>
              <p:cNvSpPr/>
              <p:nvPr/>
            </p:nvSpPr>
            <p:spPr>
              <a:xfrm>
                <a:off x="8212680" y="1199160"/>
                <a:ext cx="477360" cy="312480"/>
              </a:xfrm>
              <a:custGeom>
                <a:avLst/>
                <a:gdLst>
                  <a:gd name="textAreaLeft" fmla="*/ 0 w 477360"/>
                  <a:gd name="textAreaRight" fmla="*/ 477720 w 477360"/>
                  <a:gd name="textAreaTop" fmla="*/ 0 h 312480"/>
                  <a:gd name="textAreaBottom" fmla="*/ 312840 h 31248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2618" name=""/>
              <p:cNvSpPr/>
              <p:nvPr/>
            </p:nvSpPr>
            <p:spPr>
              <a:xfrm>
                <a:off x="7772040" y="1222920"/>
                <a:ext cx="476640" cy="312120"/>
              </a:xfrm>
              <a:custGeom>
                <a:avLst/>
                <a:gdLst>
                  <a:gd name="textAreaLeft" fmla="*/ 0 w 476640"/>
                  <a:gd name="textAreaRight" fmla="*/ 477000 w 476640"/>
                  <a:gd name="textAreaTop" fmla="*/ 0 h 312120"/>
                  <a:gd name="textAreaBottom" fmla="*/ 312480 h 3121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2619" name=""/>
              <p:cNvSpPr/>
              <p:nvPr/>
            </p:nvSpPr>
            <p:spPr>
              <a:xfrm>
                <a:off x="8255520" y="1222920"/>
                <a:ext cx="477360" cy="312120"/>
              </a:xfrm>
              <a:custGeom>
                <a:avLst/>
                <a:gdLst>
                  <a:gd name="textAreaLeft" fmla="*/ 0 w 477360"/>
                  <a:gd name="textAreaRight" fmla="*/ 477720 w 477360"/>
                  <a:gd name="textAreaTop" fmla="*/ 0 h 312120"/>
                  <a:gd name="textAreaBottom" fmla="*/ 312480 h 3121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2620" name=""/>
              <p:cNvSpPr/>
              <p:nvPr/>
            </p:nvSpPr>
            <p:spPr>
              <a:xfrm>
                <a:off x="8315280" y="1237680"/>
                <a:ext cx="504360" cy="312120"/>
              </a:xfrm>
              <a:custGeom>
                <a:avLst/>
                <a:gdLst>
                  <a:gd name="textAreaLeft" fmla="*/ 0 w 504360"/>
                  <a:gd name="textAreaRight" fmla="*/ 504720 w 504360"/>
                  <a:gd name="textAreaTop" fmla="*/ 0 h 312120"/>
                  <a:gd name="textAreaBottom" fmla="*/ 312480 h 31212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
              <p:cNvSpPr/>
              <p:nvPr/>
            </p:nvSpPr>
            <p:spPr>
              <a:xfrm>
                <a:off x="7809120" y="1237680"/>
                <a:ext cx="526320" cy="312120"/>
              </a:xfrm>
              <a:custGeom>
                <a:avLst/>
                <a:gdLst>
                  <a:gd name="textAreaLeft" fmla="*/ 0 w 526320"/>
                  <a:gd name="textAreaRight" fmla="*/ 526320 w 526320"/>
                  <a:gd name="textAreaTop" fmla="*/ 0 h 312120"/>
                  <a:gd name="textAreaBottom" fmla="*/ 312480 h 31212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2" name=""/>
            <p:cNvGrpSpPr/>
            <p:nvPr/>
          </p:nvGrpSpPr>
          <p:grpSpPr>
            <a:xfrm>
              <a:off x="6329160" y="1194480"/>
              <a:ext cx="1353960" cy="153360"/>
              <a:chOff x="6329160" y="1194480"/>
              <a:chExt cx="1353960" cy="153360"/>
            </a:xfrm>
          </p:grpSpPr>
          <p:sp>
            <p:nvSpPr>
              <p:cNvPr id="2623" name=""/>
              <p:cNvSpPr/>
              <p:nvPr/>
            </p:nvSpPr>
            <p:spPr>
              <a:xfrm flipV="1">
                <a:off x="6329160" y="119448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
              <p:cNvSpPr/>
              <p:nvPr/>
            </p:nvSpPr>
            <p:spPr>
              <a:xfrm flipV="1">
                <a:off x="6599880" y="119448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
              <p:cNvSpPr/>
              <p:nvPr/>
            </p:nvSpPr>
            <p:spPr>
              <a:xfrm flipV="1">
                <a:off x="6871680" y="119448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
              <p:cNvSpPr/>
              <p:nvPr/>
            </p:nvSpPr>
            <p:spPr>
              <a:xfrm flipV="1">
                <a:off x="7142760" y="119448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
              <p:cNvSpPr/>
              <p:nvPr/>
            </p:nvSpPr>
            <p:spPr>
              <a:xfrm flipV="1">
                <a:off x="7414560" y="119448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8" name=""/>
            <p:cNvGrpSpPr/>
            <p:nvPr/>
          </p:nvGrpSpPr>
          <p:grpSpPr>
            <a:xfrm>
              <a:off x="6386400" y="1251720"/>
              <a:ext cx="1353960" cy="153360"/>
              <a:chOff x="6386400" y="1251720"/>
              <a:chExt cx="1353960" cy="153360"/>
            </a:xfrm>
          </p:grpSpPr>
          <p:sp>
            <p:nvSpPr>
              <p:cNvPr id="2629" name=""/>
              <p:cNvSpPr/>
              <p:nvPr/>
            </p:nvSpPr>
            <p:spPr>
              <a:xfrm flipV="1">
                <a:off x="6386400" y="125172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
              <p:cNvSpPr/>
              <p:nvPr/>
            </p:nvSpPr>
            <p:spPr>
              <a:xfrm flipV="1">
                <a:off x="6657120" y="125172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
              <p:cNvSpPr/>
              <p:nvPr/>
            </p:nvSpPr>
            <p:spPr>
              <a:xfrm flipV="1">
                <a:off x="6928920" y="125172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
              <p:cNvSpPr/>
              <p:nvPr/>
            </p:nvSpPr>
            <p:spPr>
              <a:xfrm flipV="1">
                <a:off x="7200000" y="125172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
              <p:cNvSpPr/>
              <p:nvPr/>
            </p:nvSpPr>
            <p:spPr>
              <a:xfrm flipV="1">
                <a:off x="7471800" y="125172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4" name=""/>
            <p:cNvGrpSpPr/>
            <p:nvPr/>
          </p:nvGrpSpPr>
          <p:grpSpPr>
            <a:xfrm>
              <a:off x="6444000" y="1308960"/>
              <a:ext cx="1353960" cy="153360"/>
              <a:chOff x="6444000" y="1308960"/>
              <a:chExt cx="1353960" cy="153360"/>
            </a:xfrm>
          </p:grpSpPr>
          <p:sp>
            <p:nvSpPr>
              <p:cNvPr id="2635" name=""/>
              <p:cNvSpPr/>
              <p:nvPr/>
            </p:nvSpPr>
            <p:spPr>
              <a:xfrm flipV="1">
                <a:off x="6444000" y="130896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
              <p:cNvSpPr/>
              <p:nvPr/>
            </p:nvSpPr>
            <p:spPr>
              <a:xfrm flipV="1">
                <a:off x="6714720" y="130896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
              <p:cNvSpPr/>
              <p:nvPr/>
            </p:nvSpPr>
            <p:spPr>
              <a:xfrm flipV="1">
                <a:off x="6986520" y="130896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
              <p:cNvSpPr/>
              <p:nvPr/>
            </p:nvSpPr>
            <p:spPr>
              <a:xfrm flipV="1">
                <a:off x="7257600" y="130896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
              <p:cNvSpPr/>
              <p:nvPr/>
            </p:nvSpPr>
            <p:spPr>
              <a:xfrm flipV="1">
                <a:off x="7529400" y="1308960"/>
                <a:ext cx="268560" cy="153360"/>
              </a:xfrm>
              <a:custGeom>
                <a:avLst/>
                <a:gdLst>
                  <a:gd name="textAreaLeft" fmla="*/ 0 w 268560"/>
                  <a:gd name="textAreaRight" fmla="*/ 268920 w 268560"/>
                  <a:gd name="textAreaTop" fmla="*/ 360 h 153360"/>
                  <a:gd name="textAreaBottom" fmla="*/ 154080 h 153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0" name=""/>
            <p:cNvGrpSpPr/>
            <p:nvPr/>
          </p:nvGrpSpPr>
          <p:grpSpPr>
            <a:xfrm>
              <a:off x="6010560" y="1209960"/>
              <a:ext cx="357120" cy="252360"/>
              <a:chOff x="6010560" y="1209960"/>
              <a:chExt cx="357120" cy="252360"/>
            </a:xfrm>
          </p:grpSpPr>
          <p:sp>
            <p:nvSpPr>
              <p:cNvPr id="2641" name=""/>
              <p:cNvSpPr/>
              <p:nvPr/>
            </p:nvSpPr>
            <p:spPr>
              <a:xfrm>
                <a:off x="6010560" y="1209960"/>
                <a:ext cx="243000" cy="137520"/>
              </a:xfrm>
              <a:custGeom>
                <a:avLst/>
                <a:gdLst>
                  <a:gd name="textAreaLeft" fmla="*/ 0 w 243000"/>
                  <a:gd name="textAreaRight" fmla="*/ 243360 w 243000"/>
                  <a:gd name="textAreaTop" fmla="*/ 0 h 137520"/>
                  <a:gd name="textAreaBottom" fmla="*/ 137520 h 13752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
              <p:cNvSpPr/>
              <p:nvPr/>
            </p:nvSpPr>
            <p:spPr>
              <a:xfrm>
                <a:off x="6067800" y="1267200"/>
                <a:ext cx="243000" cy="137880"/>
              </a:xfrm>
              <a:custGeom>
                <a:avLst/>
                <a:gdLst>
                  <a:gd name="textAreaLeft" fmla="*/ 0 w 243000"/>
                  <a:gd name="textAreaRight" fmla="*/ 243360 w 243000"/>
                  <a:gd name="textAreaTop" fmla="*/ 0 h 137880"/>
                  <a:gd name="textAreaBottom" fmla="*/ 138240 h 13788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
              <p:cNvSpPr/>
              <p:nvPr/>
            </p:nvSpPr>
            <p:spPr>
              <a:xfrm>
                <a:off x="6125040" y="1324440"/>
                <a:ext cx="242640" cy="137880"/>
              </a:xfrm>
              <a:custGeom>
                <a:avLst/>
                <a:gdLst>
                  <a:gd name="textAreaLeft" fmla="*/ 0 w 242640"/>
                  <a:gd name="textAreaRight" fmla="*/ 243000 w 242640"/>
                  <a:gd name="textAreaTop" fmla="*/ 0 h 137880"/>
                  <a:gd name="textAreaBottom" fmla="*/ 138240 h 13788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4" name=""/>
            <p:cNvSpPr/>
            <p:nvPr/>
          </p:nvSpPr>
          <p:spPr>
            <a:xfrm>
              <a:off x="5526720" y="1609920"/>
              <a:ext cx="368640" cy="91800"/>
            </a:xfrm>
            <a:prstGeom prst="rect">
              <a:avLst/>
            </a:prstGeom>
            <a:noFill/>
            <a:ln w="0">
              <a:noFill/>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5" name=""/>
          <p:cNvSpPr/>
          <p:nvPr/>
        </p:nvSpPr>
        <p:spPr>
          <a:xfrm flipH="1" flipV="1">
            <a:off x="3657600" y="1066320"/>
            <a:ext cx="2209680" cy="20574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
          <p:cNvSpPr/>
          <p:nvPr/>
        </p:nvSpPr>
        <p:spPr>
          <a:xfrm flipH="1">
            <a:off x="3047760" y="3124080"/>
            <a:ext cx="2819160" cy="91440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flipH="1">
            <a:off x="3047760" y="3581280"/>
            <a:ext cx="2895480" cy="45720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
          <p:cNvSpPr/>
          <p:nvPr/>
        </p:nvSpPr>
        <p:spPr>
          <a:xfrm flipH="1" flipV="1">
            <a:off x="2362320" y="1752480"/>
            <a:ext cx="3581280" cy="182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5791320" y="1371600"/>
            <a:ext cx="2286000" cy="1752480"/>
          </a:xfrm>
          <a:custGeom>
            <a:avLst/>
            <a:gdLst/>
            <a:ahLst/>
            <a:rect l="l" t="t" r="r" b="b"/>
            <a:pathLst>
              <a:path w="1440" h="1104">
                <a:moveTo>
                  <a:pt x="0" y="0"/>
                </a:moveTo>
                <a:lnTo>
                  <a:pt x="1440" y="1056"/>
                </a:lnTo>
                <a:lnTo>
                  <a:pt x="1056" y="1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0" name=""/>
          <p:cNvGrpSpPr/>
          <p:nvPr/>
        </p:nvGrpSpPr>
        <p:grpSpPr>
          <a:xfrm>
            <a:off x="3276720" y="609480"/>
            <a:ext cx="1143000" cy="590760"/>
            <a:chOff x="3276720" y="609480"/>
            <a:chExt cx="1143000" cy="590760"/>
          </a:xfrm>
        </p:grpSpPr>
        <p:sp>
          <p:nvSpPr>
            <p:cNvPr id="2651" name=""/>
            <p:cNvSpPr/>
            <p:nvPr/>
          </p:nvSpPr>
          <p:spPr>
            <a:xfrm>
              <a:off x="3921120" y="842760"/>
              <a:ext cx="498240" cy="277560"/>
            </a:xfrm>
            <a:custGeom>
              <a:avLst/>
              <a:gdLst/>
              <a:ahLst/>
              <a:rect l="l" t="t" r="r" b="b"/>
              <a:pathLst>
                <a:path w="7052" h="3932">
                  <a:moveTo>
                    <a:pt x="1320" y="3932"/>
                  </a:moveTo>
                  <a:lnTo>
                    <a:pt x="0" y="3181"/>
                  </a:lnTo>
                  <a:lnTo>
                    <a:pt x="0" y="3150"/>
                  </a:lnTo>
                  <a:lnTo>
                    <a:pt x="1795" y="2474"/>
                  </a:lnTo>
                  <a:lnTo>
                    <a:pt x="1886" y="2474"/>
                  </a:lnTo>
                  <a:lnTo>
                    <a:pt x="1973" y="2504"/>
                  </a:lnTo>
                  <a:lnTo>
                    <a:pt x="2121" y="2548"/>
                  </a:lnTo>
                  <a:lnTo>
                    <a:pt x="2834" y="0"/>
                  </a:lnTo>
                  <a:lnTo>
                    <a:pt x="3980" y="0"/>
                  </a:lnTo>
                  <a:lnTo>
                    <a:pt x="4975" y="176"/>
                  </a:lnTo>
                  <a:lnTo>
                    <a:pt x="7052" y="1148"/>
                  </a:lnTo>
                  <a:lnTo>
                    <a:pt x="7052" y="3283"/>
                  </a:lnTo>
                  <a:lnTo>
                    <a:pt x="3207" y="3740"/>
                  </a:lnTo>
                  <a:lnTo>
                    <a:pt x="2775" y="3636"/>
                  </a:lnTo>
                  <a:lnTo>
                    <a:pt x="2775" y="3740"/>
                  </a:lnTo>
                  <a:lnTo>
                    <a:pt x="2659" y="3755"/>
                  </a:lnTo>
                  <a:lnTo>
                    <a:pt x="2583" y="3621"/>
                  </a:lnTo>
                  <a:lnTo>
                    <a:pt x="1320" y="39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4091040" y="856800"/>
              <a:ext cx="91800" cy="182880"/>
            </a:xfrm>
            <a:custGeom>
              <a:avLst/>
              <a:gdLst/>
              <a:ahLst/>
              <a:rect l="l" t="t" r="r" b="b"/>
              <a:pathLst>
                <a:path w="1293" h="2592">
                  <a:moveTo>
                    <a:pt x="1293" y="0"/>
                  </a:moveTo>
                  <a:lnTo>
                    <a:pt x="773" y="2592"/>
                  </a:lnTo>
                  <a:lnTo>
                    <a:pt x="0" y="2313"/>
                  </a:lnTo>
                  <a:lnTo>
                    <a:pt x="582" y="30"/>
                  </a:lnTo>
                  <a:lnTo>
                    <a:pt x="1293"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
            <p:cNvSpPr/>
            <p:nvPr/>
          </p:nvSpPr>
          <p:spPr>
            <a:xfrm>
              <a:off x="4118760" y="876600"/>
              <a:ext cx="34560" cy="89640"/>
            </a:xfrm>
            <a:custGeom>
              <a:avLst/>
              <a:gdLst/>
              <a:ahLst/>
              <a:rect l="l" t="t" r="r" b="b"/>
              <a:pathLst>
                <a:path w="489" h="1266">
                  <a:moveTo>
                    <a:pt x="313" y="0"/>
                  </a:moveTo>
                  <a:lnTo>
                    <a:pt x="207" y="277"/>
                  </a:lnTo>
                  <a:lnTo>
                    <a:pt x="120" y="589"/>
                  </a:lnTo>
                  <a:lnTo>
                    <a:pt x="44" y="896"/>
                  </a:lnTo>
                  <a:lnTo>
                    <a:pt x="0" y="1222"/>
                  </a:lnTo>
                  <a:lnTo>
                    <a:pt x="195" y="1266"/>
                  </a:lnTo>
                  <a:lnTo>
                    <a:pt x="267" y="823"/>
                  </a:lnTo>
                  <a:lnTo>
                    <a:pt x="340" y="500"/>
                  </a:lnTo>
                  <a:lnTo>
                    <a:pt x="447" y="131"/>
                  </a:lnTo>
                  <a:lnTo>
                    <a:pt x="489" y="0"/>
                  </a:lnTo>
                  <a:lnTo>
                    <a:pt x="313" y="0"/>
                  </a:lnTo>
                  <a:close/>
                </a:path>
              </a:pathLst>
            </a:custGeom>
            <a:solidFill>
              <a:srgbClr val="b5b5b5"/>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654" name=""/>
            <p:cNvSpPr/>
            <p:nvPr/>
          </p:nvSpPr>
          <p:spPr>
            <a:xfrm>
              <a:off x="4129200" y="885960"/>
              <a:ext cx="19080" cy="36360"/>
            </a:xfrm>
            <a:custGeom>
              <a:avLst/>
              <a:gdLst/>
              <a:ahLst/>
              <a:rect l="l" t="t" r="r" b="b"/>
              <a:pathLst>
                <a:path w="266" h="514">
                  <a:moveTo>
                    <a:pt x="162" y="0"/>
                  </a:moveTo>
                  <a:lnTo>
                    <a:pt x="103" y="163"/>
                  </a:lnTo>
                  <a:lnTo>
                    <a:pt x="46" y="354"/>
                  </a:lnTo>
                  <a:lnTo>
                    <a:pt x="0" y="500"/>
                  </a:lnTo>
                  <a:lnTo>
                    <a:pt x="120" y="514"/>
                  </a:lnTo>
                  <a:lnTo>
                    <a:pt x="162" y="322"/>
                  </a:lnTo>
                  <a:lnTo>
                    <a:pt x="222" y="146"/>
                  </a:lnTo>
                  <a:lnTo>
                    <a:pt x="266" y="0"/>
                  </a:lnTo>
                  <a:lnTo>
                    <a:pt x="162"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5" name=""/>
            <p:cNvSpPr/>
            <p:nvPr/>
          </p:nvSpPr>
          <p:spPr>
            <a:xfrm>
              <a:off x="3660480" y="1090080"/>
              <a:ext cx="309600" cy="88920"/>
            </a:xfrm>
            <a:custGeom>
              <a:avLst/>
              <a:gdLst/>
              <a:ahLst/>
              <a:rect l="l" t="t" r="r" b="b"/>
              <a:pathLst>
                <a:path w="4385" h="1254">
                  <a:moveTo>
                    <a:pt x="2393" y="1254"/>
                  </a:moveTo>
                  <a:lnTo>
                    <a:pt x="4385" y="551"/>
                  </a:lnTo>
                  <a:lnTo>
                    <a:pt x="2110" y="0"/>
                  </a:lnTo>
                  <a:lnTo>
                    <a:pt x="0" y="580"/>
                  </a:lnTo>
                  <a:lnTo>
                    <a:pt x="2393" y="125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56" name=""/>
            <p:cNvSpPr/>
            <p:nvPr/>
          </p:nvSpPr>
          <p:spPr>
            <a:xfrm>
              <a:off x="3657600" y="1114200"/>
              <a:ext cx="71280" cy="36360"/>
            </a:xfrm>
            <a:custGeom>
              <a:avLst/>
              <a:gdLst/>
              <a:ahLst/>
              <a:rect l="l" t="t" r="r" b="b"/>
              <a:pathLst>
                <a:path w="1010" h="519">
                  <a:moveTo>
                    <a:pt x="1010" y="142"/>
                  </a:moveTo>
                  <a:lnTo>
                    <a:pt x="817" y="250"/>
                  </a:lnTo>
                  <a:lnTo>
                    <a:pt x="897" y="352"/>
                  </a:lnTo>
                  <a:lnTo>
                    <a:pt x="897" y="421"/>
                  </a:lnTo>
                  <a:lnTo>
                    <a:pt x="1010" y="519"/>
                  </a:lnTo>
                  <a:lnTo>
                    <a:pt x="0" y="239"/>
                  </a:lnTo>
                  <a:lnTo>
                    <a:pt x="930" y="0"/>
                  </a:lnTo>
                  <a:lnTo>
                    <a:pt x="1010" y="142"/>
                  </a:lnTo>
                  <a:close/>
                </a:path>
              </a:pathLst>
            </a:custGeom>
            <a:solidFill>
              <a:srgbClr val="b5b5b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7" name=""/>
            <p:cNvSpPr/>
            <p:nvPr/>
          </p:nvSpPr>
          <p:spPr>
            <a:xfrm>
              <a:off x="3280680" y="944280"/>
              <a:ext cx="138240" cy="251640"/>
            </a:xfrm>
            <a:custGeom>
              <a:avLst/>
              <a:gdLst/>
              <a:ahLst/>
              <a:rect l="l" t="t" r="r" b="b"/>
              <a:pathLst>
                <a:path w="1960" h="3560">
                  <a:moveTo>
                    <a:pt x="0" y="402"/>
                  </a:moveTo>
                  <a:lnTo>
                    <a:pt x="167" y="310"/>
                  </a:lnTo>
                  <a:lnTo>
                    <a:pt x="498" y="184"/>
                  </a:lnTo>
                  <a:lnTo>
                    <a:pt x="1442" y="0"/>
                  </a:lnTo>
                  <a:lnTo>
                    <a:pt x="1960" y="3560"/>
                  </a:lnTo>
                  <a:lnTo>
                    <a:pt x="529" y="3045"/>
                  </a:lnTo>
                  <a:lnTo>
                    <a:pt x="0" y="4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
            <p:cNvSpPr/>
            <p:nvPr/>
          </p:nvSpPr>
          <p:spPr>
            <a:xfrm>
              <a:off x="3337200" y="944280"/>
              <a:ext cx="84600" cy="255600"/>
            </a:xfrm>
            <a:custGeom>
              <a:avLst/>
              <a:gdLst/>
              <a:ahLst/>
              <a:rect l="l" t="t" r="r" b="b"/>
              <a:pathLst>
                <a:path w="1195" h="3618">
                  <a:moveTo>
                    <a:pt x="158" y="133"/>
                  </a:moveTo>
                  <a:lnTo>
                    <a:pt x="176" y="299"/>
                  </a:lnTo>
                  <a:lnTo>
                    <a:pt x="208" y="441"/>
                  </a:lnTo>
                  <a:lnTo>
                    <a:pt x="271" y="597"/>
                  </a:lnTo>
                  <a:lnTo>
                    <a:pt x="365" y="773"/>
                  </a:lnTo>
                  <a:lnTo>
                    <a:pt x="388" y="936"/>
                  </a:lnTo>
                  <a:lnTo>
                    <a:pt x="407" y="1173"/>
                  </a:lnTo>
                  <a:lnTo>
                    <a:pt x="375" y="1408"/>
                  </a:lnTo>
                  <a:lnTo>
                    <a:pt x="344" y="1654"/>
                  </a:lnTo>
                  <a:lnTo>
                    <a:pt x="365" y="1872"/>
                  </a:lnTo>
                  <a:lnTo>
                    <a:pt x="388" y="2119"/>
                  </a:lnTo>
                  <a:lnTo>
                    <a:pt x="426" y="2469"/>
                  </a:lnTo>
                  <a:lnTo>
                    <a:pt x="489" y="2654"/>
                  </a:lnTo>
                  <a:lnTo>
                    <a:pt x="344" y="2838"/>
                  </a:lnTo>
                  <a:lnTo>
                    <a:pt x="208" y="2480"/>
                  </a:lnTo>
                  <a:lnTo>
                    <a:pt x="43" y="2077"/>
                  </a:lnTo>
                  <a:lnTo>
                    <a:pt x="0" y="1861"/>
                  </a:lnTo>
                  <a:lnTo>
                    <a:pt x="13" y="3280"/>
                  </a:lnTo>
                  <a:lnTo>
                    <a:pt x="229" y="3618"/>
                  </a:lnTo>
                  <a:lnTo>
                    <a:pt x="1195" y="3618"/>
                  </a:lnTo>
                  <a:lnTo>
                    <a:pt x="655" y="0"/>
                  </a:lnTo>
                  <a:lnTo>
                    <a:pt x="158" y="133"/>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3367440" y="754200"/>
              <a:ext cx="500400" cy="396360"/>
            </a:xfrm>
            <a:custGeom>
              <a:avLst/>
              <a:gdLst/>
              <a:ahLst/>
              <a:rect l="l" t="t" r="r" b="b"/>
              <a:pathLst>
                <a:path w="7082" h="5611">
                  <a:moveTo>
                    <a:pt x="2639" y="0"/>
                  </a:moveTo>
                  <a:lnTo>
                    <a:pt x="2308" y="313"/>
                  </a:lnTo>
                  <a:lnTo>
                    <a:pt x="2102" y="470"/>
                  </a:lnTo>
                  <a:lnTo>
                    <a:pt x="1344" y="705"/>
                  </a:lnTo>
                  <a:lnTo>
                    <a:pt x="978" y="847"/>
                  </a:lnTo>
                  <a:lnTo>
                    <a:pt x="600" y="1175"/>
                  </a:lnTo>
                  <a:lnTo>
                    <a:pt x="236" y="1927"/>
                  </a:lnTo>
                  <a:lnTo>
                    <a:pt x="253" y="3450"/>
                  </a:lnTo>
                  <a:lnTo>
                    <a:pt x="0" y="4468"/>
                  </a:lnTo>
                  <a:lnTo>
                    <a:pt x="317" y="5268"/>
                  </a:lnTo>
                  <a:lnTo>
                    <a:pt x="3192" y="5611"/>
                  </a:lnTo>
                  <a:lnTo>
                    <a:pt x="3983" y="4169"/>
                  </a:lnTo>
                  <a:lnTo>
                    <a:pt x="4219" y="3652"/>
                  </a:lnTo>
                  <a:lnTo>
                    <a:pt x="4474" y="3872"/>
                  </a:lnTo>
                  <a:lnTo>
                    <a:pt x="4854" y="4452"/>
                  </a:lnTo>
                  <a:lnTo>
                    <a:pt x="5596" y="4592"/>
                  </a:lnTo>
                  <a:lnTo>
                    <a:pt x="6624" y="4421"/>
                  </a:lnTo>
                  <a:lnTo>
                    <a:pt x="7067" y="4438"/>
                  </a:lnTo>
                  <a:lnTo>
                    <a:pt x="7082" y="3936"/>
                  </a:lnTo>
                  <a:lnTo>
                    <a:pt x="6926" y="3872"/>
                  </a:lnTo>
                  <a:lnTo>
                    <a:pt x="6640" y="3810"/>
                  </a:lnTo>
                  <a:lnTo>
                    <a:pt x="6087" y="3794"/>
                  </a:lnTo>
                  <a:lnTo>
                    <a:pt x="5847" y="3888"/>
                  </a:lnTo>
                  <a:lnTo>
                    <a:pt x="5818" y="3777"/>
                  </a:lnTo>
                  <a:lnTo>
                    <a:pt x="5725" y="3763"/>
                  </a:lnTo>
                  <a:lnTo>
                    <a:pt x="5642" y="3606"/>
                  </a:lnTo>
                  <a:lnTo>
                    <a:pt x="5502" y="3512"/>
                  </a:lnTo>
                  <a:lnTo>
                    <a:pt x="5405" y="3011"/>
                  </a:lnTo>
                  <a:lnTo>
                    <a:pt x="5104" y="2837"/>
                  </a:lnTo>
                  <a:lnTo>
                    <a:pt x="5058" y="2335"/>
                  </a:lnTo>
                  <a:lnTo>
                    <a:pt x="4884" y="1993"/>
                  </a:lnTo>
                  <a:lnTo>
                    <a:pt x="4901" y="1880"/>
                  </a:lnTo>
                  <a:lnTo>
                    <a:pt x="4804" y="1442"/>
                  </a:lnTo>
                  <a:lnTo>
                    <a:pt x="4285" y="1113"/>
                  </a:lnTo>
                  <a:lnTo>
                    <a:pt x="3445" y="249"/>
                  </a:lnTo>
                  <a:lnTo>
                    <a:pt x="263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
            <p:cNvSpPr/>
            <p:nvPr/>
          </p:nvSpPr>
          <p:spPr>
            <a:xfrm>
              <a:off x="3386880" y="1128960"/>
              <a:ext cx="169560" cy="39960"/>
            </a:xfrm>
            <a:custGeom>
              <a:avLst/>
              <a:gdLst/>
              <a:ahLst/>
              <a:rect l="l" t="t" r="r" b="b"/>
              <a:pathLst>
                <a:path w="2403" h="565">
                  <a:moveTo>
                    <a:pt x="0" y="0"/>
                  </a:moveTo>
                  <a:lnTo>
                    <a:pt x="31" y="220"/>
                  </a:lnTo>
                  <a:lnTo>
                    <a:pt x="835" y="565"/>
                  </a:lnTo>
                  <a:lnTo>
                    <a:pt x="2403" y="78"/>
                  </a:lnTo>
                  <a:lnTo>
                    <a:pt x="0" y="0"/>
                  </a:lnTo>
                  <a:close/>
                </a:path>
              </a:pathLst>
            </a:custGeom>
            <a:solidFill>
              <a:srgbClr val="51515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61" name=""/>
            <p:cNvSpPr/>
            <p:nvPr/>
          </p:nvSpPr>
          <p:spPr>
            <a:xfrm>
              <a:off x="3367080" y="834120"/>
              <a:ext cx="234720" cy="303840"/>
            </a:xfrm>
            <a:custGeom>
              <a:avLst/>
              <a:gdLst/>
              <a:ahLst/>
              <a:rect l="l" t="t" r="r" b="b"/>
              <a:pathLst>
                <a:path w="3318" h="4296">
                  <a:moveTo>
                    <a:pt x="963" y="15"/>
                  </a:moveTo>
                  <a:lnTo>
                    <a:pt x="899" y="328"/>
                  </a:lnTo>
                  <a:lnTo>
                    <a:pt x="899" y="658"/>
                  </a:lnTo>
                  <a:lnTo>
                    <a:pt x="963" y="971"/>
                  </a:lnTo>
                  <a:lnTo>
                    <a:pt x="1059" y="1192"/>
                  </a:lnTo>
                  <a:lnTo>
                    <a:pt x="1026" y="864"/>
                  </a:lnTo>
                  <a:lnTo>
                    <a:pt x="1012" y="516"/>
                  </a:lnTo>
                  <a:lnTo>
                    <a:pt x="1043" y="344"/>
                  </a:lnTo>
                  <a:lnTo>
                    <a:pt x="1119" y="313"/>
                  </a:lnTo>
                  <a:lnTo>
                    <a:pt x="1342" y="516"/>
                  </a:lnTo>
                  <a:lnTo>
                    <a:pt x="1516" y="798"/>
                  </a:lnTo>
                  <a:lnTo>
                    <a:pt x="1579" y="1050"/>
                  </a:lnTo>
                  <a:lnTo>
                    <a:pt x="1628" y="1299"/>
                  </a:lnTo>
                  <a:lnTo>
                    <a:pt x="1516" y="1192"/>
                  </a:lnTo>
                  <a:lnTo>
                    <a:pt x="1359" y="1238"/>
                  </a:lnTo>
                  <a:lnTo>
                    <a:pt x="1261" y="1299"/>
                  </a:lnTo>
                  <a:lnTo>
                    <a:pt x="1261" y="1426"/>
                  </a:lnTo>
                  <a:lnTo>
                    <a:pt x="1312" y="1505"/>
                  </a:lnTo>
                  <a:lnTo>
                    <a:pt x="1359" y="1568"/>
                  </a:lnTo>
                  <a:lnTo>
                    <a:pt x="1073" y="1552"/>
                  </a:lnTo>
                  <a:lnTo>
                    <a:pt x="870" y="1520"/>
                  </a:lnTo>
                  <a:lnTo>
                    <a:pt x="694" y="1377"/>
                  </a:lnTo>
                  <a:lnTo>
                    <a:pt x="615" y="1473"/>
                  </a:lnTo>
                  <a:lnTo>
                    <a:pt x="615" y="1552"/>
                  </a:lnTo>
                  <a:lnTo>
                    <a:pt x="1059" y="2195"/>
                  </a:lnTo>
                  <a:lnTo>
                    <a:pt x="993" y="2367"/>
                  </a:lnTo>
                  <a:lnTo>
                    <a:pt x="917" y="2399"/>
                  </a:lnTo>
                  <a:lnTo>
                    <a:pt x="790" y="2399"/>
                  </a:lnTo>
                  <a:lnTo>
                    <a:pt x="726" y="2383"/>
                  </a:lnTo>
                  <a:lnTo>
                    <a:pt x="677" y="2665"/>
                  </a:lnTo>
                  <a:lnTo>
                    <a:pt x="993" y="2759"/>
                  </a:lnTo>
                  <a:lnTo>
                    <a:pt x="1232" y="2901"/>
                  </a:lnTo>
                  <a:lnTo>
                    <a:pt x="993" y="2901"/>
                  </a:lnTo>
                  <a:lnTo>
                    <a:pt x="677" y="2961"/>
                  </a:lnTo>
                  <a:lnTo>
                    <a:pt x="442" y="3150"/>
                  </a:lnTo>
                  <a:lnTo>
                    <a:pt x="917" y="3089"/>
                  </a:lnTo>
                  <a:lnTo>
                    <a:pt x="1295" y="3136"/>
                  </a:lnTo>
                  <a:lnTo>
                    <a:pt x="1501" y="3074"/>
                  </a:lnTo>
                  <a:lnTo>
                    <a:pt x="1501" y="2712"/>
                  </a:lnTo>
                  <a:lnTo>
                    <a:pt x="1327" y="2195"/>
                  </a:lnTo>
                  <a:lnTo>
                    <a:pt x="1532" y="2506"/>
                  </a:lnTo>
                  <a:lnTo>
                    <a:pt x="1645" y="2901"/>
                  </a:lnTo>
                  <a:lnTo>
                    <a:pt x="1657" y="3121"/>
                  </a:lnTo>
                  <a:lnTo>
                    <a:pt x="1897" y="3243"/>
                  </a:lnTo>
                  <a:lnTo>
                    <a:pt x="1961" y="3339"/>
                  </a:lnTo>
                  <a:lnTo>
                    <a:pt x="1755" y="3277"/>
                  </a:lnTo>
                  <a:lnTo>
                    <a:pt x="1501" y="3292"/>
                  </a:lnTo>
                  <a:lnTo>
                    <a:pt x="1154" y="3385"/>
                  </a:lnTo>
                  <a:lnTo>
                    <a:pt x="977" y="3496"/>
                  </a:lnTo>
                  <a:lnTo>
                    <a:pt x="1657" y="3559"/>
                  </a:lnTo>
                  <a:lnTo>
                    <a:pt x="1972" y="3432"/>
                  </a:lnTo>
                  <a:lnTo>
                    <a:pt x="2021" y="3605"/>
                  </a:lnTo>
                  <a:lnTo>
                    <a:pt x="2765" y="3683"/>
                  </a:lnTo>
                  <a:lnTo>
                    <a:pt x="2845" y="3559"/>
                  </a:lnTo>
                  <a:lnTo>
                    <a:pt x="2970" y="3449"/>
                  </a:lnTo>
                  <a:lnTo>
                    <a:pt x="3129" y="3385"/>
                  </a:lnTo>
                  <a:lnTo>
                    <a:pt x="3318" y="3339"/>
                  </a:lnTo>
                  <a:lnTo>
                    <a:pt x="3002" y="4281"/>
                  </a:lnTo>
                  <a:lnTo>
                    <a:pt x="2229" y="4247"/>
                  </a:lnTo>
                  <a:lnTo>
                    <a:pt x="1532" y="4296"/>
                  </a:lnTo>
                  <a:lnTo>
                    <a:pt x="93" y="3858"/>
                  </a:lnTo>
                  <a:lnTo>
                    <a:pt x="15" y="3576"/>
                  </a:lnTo>
                  <a:lnTo>
                    <a:pt x="0" y="3323"/>
                  </a:lnTo>
                  <a:lnTo>
                    <a:pt x="110" y="2961"/>
                  </a:lnTo>
                  <a:lnTo>
                    <a:pt x="204" y="2430"/>
                  </a:lnTo>
                  <a:lnTo>
                    <a:pt x="204" y="1568"/>
                  </a:lnTo>
                  <a:lnTo>
                    <a:pt x="251" y="957"/>
                  </a:lnTo>
                  <a:lnTo>
                    <a:pt x="379" y="486"/>
                  </a:lnTo>
                  <a:lnTo>
                    <a:pt x="662" y="109"/>
                  </a:lnTo>
                  <a:lnTo>
                    <a:pt x="899" y="0"/>
                  </a:lnTo>
                  <a:lnTo>
                    <a:pt x="963" y="15"/>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
            <p:cNvSpPr/>
            <p:nvPr/>
          </p:nvSpPr>
          <p:spPr>
            <a:xfrm>
              <a:off x="3483000" y="834120"/>
              <a:ext cx="118800" cy="231480"/>
            </a:xfrm>
            <a:custGeom>
              <a:avLst/>
              <a:gdLst/>
              <a:ahLst/>
              <a:rect l="l" t="t" r="r" b="b"/>
              <a:pathLst>
                <a:path w="1673" h="3277">
                  <a:moveTo>
                    <a:pt x="29" y="1377"/>
                  </a:moveTo>
                  <a:lnTo>
                    <a:pt x="156" y="1160"/>
                  </a:lnTo>
                  <a:lnTo>
                    <a:pt x="203" y="940"/>
                  </a:lnTo>
                  <a:lnTo>
                    <a:pt x="187" y="675"/>
                  </a:lnTo>
                  <a:lnTo>
                    <a:pt x="125" y="328"/>
                  </a:lnTo>
                  <a:lnTo>
                    <a:pt x="0" y="0"/>
                  </a:lnTo>
                  <a:lnTo>
                    <a:pt x="376" y="408"/>
                  </a:lnTo>
                  <a:lnTo>
                    <a:pt x="538" y="798"/>
                  </a:lnTo>
                  <a:lnTo>
                    <a:pt x="584" y="1177"/>
                  </a:lnTo>
                  <a:lnTo>
                    <a:pt x="567" y="1473"/>
                  </a:lnTo>
                  <a:lnTo>
                    <a:pt x="724" y="1366"/>
                  </a:lnTo>
                  <a:lnTo>
                    <a:pt x="440" y="1740"/>
                  </a:lnTo>
                  <a:lnTo>
                    <a:pt x="502" y="1819"/>
                  </a:lnTo>
                  <a:lnTo>
                    <a:pt x="1200" y="1130"/>
                  </a:lnTo>
                  <a:lnTo>
                    <a:pt x="758" y="1914"/>
                  </a:lnTo>
                  <a:lnTo>
                    <a:pt x="980" y="2321"/>
                  </a:lnTo>
                  <a:lnTo>
                    <a:pt x="1342" y="2037"/>
                  </a:lnTo>
                  <a:lnTo>
                    <a:pt x="1469" y="1568"/>
                  </a:lnTo>
                  <a:lnTo>
                    <a:pt x="1546" y="986"/>
                  </a:lnTo>
                  <a:lnTo>
                    <a:pt x="1673" y="580"/>
                  </a:lnTo>
                  <a:lnTo>
                    <a:pt x="1626" y="2915"/>
                  </a:lnTo>
                  <a:lnTo>
                    <a:pt x="1357" y="3260"/>
                  </a:lnTo>
                  <a:lnTo>
                    <a:pt x="1516" y="2774"/>
                  </a:lnTo>
                  <a:lnTo>
                    <a:pt x="1516" y="2506"/>
                  </a:lnTo>
                  <a:lnTo>
                    <a:pt x="1151" y="2477"/>
                  </a:lnTo>
                  <a:lnTo>
                    <a:pt x="980" y="2681"/>
                  </a:lnTo>
                  <a:lnTo>
                    <a:pt x="1184" y="2947"/>
                  </a:lnTo>
                  <a:lnTo>
                    <a:pt x="1151" y="3277"/>
                  </a:lnTo>
                  <a:lnTo>
                    <a:pt x="125" y="2947"/>
                  </a:lnTo>
                  <a:lnTo>
                    <a:pt x="47" y="2163"/>
                  </a:lnTo>
                  <a:lnTo>
                    <a:pt x="29" y="137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
            <p:cNvSpPr/>
            <p:nvPr/>
          </p:nvSpPr>
          <p:spPr>
            <a:xfrm>
              <a:off x="3433680" y="746640"/>
              <a:ext cx="128520" cy="104400"/>
            </a:xfrm>
            <a:custGeom>
              <a:avLst/>
              <a:gdLst/>
              <a:ahLst/>
              <a:rect l="l" t="t" r="r" b="b"/>
              <a:pathLst>
                <a:path w="1819" h="1474">
                  <a:moveTo>
                    <a:pt x="0" y="1003"/>
                  </a:moveTo>
                  <a:lnTo>
                    <a:pt x="508" y="957"/>
                  </a:lnTo>
                  <a:lnTo>
                    <a:pt x="1298" y="1145"/>
                  </a:lnTo>
                  <a:lnTo>
                    <a:pt x="1819" y="1474"/>
                  </a:lnTo>
                  <a:lnTo>
                    <a:pt x="1628" y="1192"/>
                  </a:lnTo>
                  <a:lnTo>
                    <a:pt x="1472" y="864"/>
                  </a:lnTo>
                  <a:lnTo>
                    <a:pt x="1802" y="359"/>
                  </a:lnTo>
                  <a:lnTo>
                    <a:pt x="1788" y="0"/>
                  </a:lnTo>
                  <a:lnTo>
                    <a:pt x="1535" y="206"/>
                  </a:lnTo>
                  <a:lnTo>
                    <a:pt x="1313" y="441"/>
                  </a:lnTo>
                  <a:lnTo>
                    <a:pt x="1201" y="533"/>
                  </a:lnTo>
                  <a:lnTo>
                    <a:pt x="159" y="910"/>
                  </a:lnTo>
                  <a:lnTo>
                    <a:pt x="0" y="1003"/>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
            <p:cNvSpPr/>
            <p:nvPr/>
          </p:nvSpPr>
          <p:spPr>
            <a:xfrm>
              <a:off x="3519720" y="843840"/>
              <a:ext cx="87480" cy="68400"/>
            </a:xfrm>
            <a:custGeom>
              <a:avLst/>
              <a:gdLst/>
              <a:ahLst/>
              <a:rect l="l" t="t" r="r" b="b"/>
              <a:pathLst>
                <a:path w="1235" h="971">
                  <a:moveTo>
                    <a:pt x="711" y="251"/>
                  </a:moveTo>
                  <a:lnTo>
                    <a:pt x="886" y="251"/>
                  </a:lnTo>
                  <a:lnTo>
                    <a:pt x="793" y="438"/>
                  </a:lnTo>
                  <a:lnTo>
                    <a:pt x="633" y="626"/>
                  </a:lnTo>
                  <a:lnTo>
                    <a:pt x="411" y="751"/>
                  </a:lnTo>
                  <a:lnTo>
                    <a:pt x="0" y="922"/>
                  </a:lnTo>
                  <a:lnTo>
                    <a:pt x="335" y="971"/>
                  </a:lnTo>
                  <a:lnTo>
                    <a:pt x="651" y="957"/>
                  </a:lnTo>
                  <a:lnTo>
                    <a:pt x="871" y="861"/>
                  </a:lnTo>
                  <a:lnTo>
                    <a:pt x="1028" y="751"/>
                  </a:lnTo>
                  <a:lnTo>
                    <a:pt x="1235" y="580"/>
                  </a:lnTo>
                  <a:lnTo>
                    <a:pt x="1235" y="0"/>
                  </a:lnTo>
                  <a:lnTo>
                    <a:pt x="711" y="251"/>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65" name=""/>
            <p:cNvSpPr/>
            <p:nvPr/>
          </p:nvSpPr>
          <p:spPr>
            <a:xfrm>
              <a:off x="3615120" y="822240"/>
              <a:ext cx="28800" cy="56880"/>
            </a:xfrm>
            <a:custGeom>
              <a:avLst/>
              <a:gdLst/>
              <a:ahLst/>
              <a:rect l="l" t="t" r="r" b="b"/>
              <a:pathLst>
                <a:path w="410" h="815">
                  <a:moveTo>
                    <a:pt x="95" y="815"/>
                  </a:moveTo>
                  <a:lnTo>
                    <a:pt x="410" y="96"/>
                  </a:lnTo>
                  <a:lnTo>
                    <a:pt x="332" y="0"/>
                  </a:lnTo>
                  <a:lnTo>
                    <a:pt x="0" y="235"/>
                  </a:lnTo>
                  <a:lnTo>
                    <a:pt x="95" y="815"/>
                  </a:lnTo>
                  <a:close/>
                </a:path>
              </a:pathLst>
            </a:custGeom>
            <a:solidFill>
              <a:srgbClr val="b5b5b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66" name=""/>
            <p:cNvSpPr/>
            <p:nvPr/>
          </p:nvSpPr>
          <p:spPr>
            <a:xfrm>
              <a:off x="3629160" y="816480"/>
              <a:ext cx="74880" cy="243720"/>
            </a:xfrm>
            <a:custGeom>
              <a:avLst/>
              <a:gdLst/>
              <a:ahLst/>
              <a:rect l="l" t="t" r="r" b="b"/>
              <a:pathLst>
                <a:path w="1057" h="3448">
                  <a:moveTo>
                    <a:pt x="220" y="189"/>
                  </a:moveTo>
                  <a:lnTo>
                    <a:pt x="268" y="329"/>
                  </a:lnTo>
                  <a:lnTo>
                    <a:pt x="235" y="471"/>
                  </a:lnTo>
                  <a:lnTo>
                    <a:pt x="235" y="659"/>
                  </a:lnTo>
                  <a:lnTo>
                    <a:pt x="282" y="926"/>
                  </a:lnTo>
                  <a:lnTo>
                    <a:pt x="362" y="1129"/>
                  </a:lnTo>
                  <a:lnTo>
                    <a:pt x="553" y="1428"/>
                  </a:lnTo>
                  <a:lnTo>
                    <a:pt x="442" y="1144"/>
                  </a:lnTo>
                  <a:lnTo>
                    <a:pt x="425" y="892"/>
                  </a:lnTo>
                  <a:lnTo>
                    <a:pt x="471" y="720"/>
                  </a:lnTo>
                  <a:lnTo>
                    <a:pt x="584" y="549"/>
                  </a:lnTo>
                  <a:lnTo>
                    <a:pt x="677" y="407"/>
                  </a:lnTo>
                  <a:lnTo>
                    <a:pt x="899" y="691"/>
                  </a:lnTo>
                  <a:lnTo>
                    <a:pt x="677" y="1928"/>
                  </a:lnTo>
                  <a:lnTo>
                    <a:pt x="471" y="2226"/>
                  </a:lnTo>
                  <a:lnTo>
                    <a:pt x="408" y="2728"/>
                  </a:lnTo>
                  <a:lnTo>
                    <a:pt x="171" y="2916"/>
                  </a:lnTo>
                  <a:lnTo>
                    <a:pt x="0" y="2650"/>
                  </a:lnTo>
                  <a:lnTo>
                    <a:pt x="59" y="3448"/>
                  </a:lnTo>
                  <a:lnTo>
                    <a:pt x="362" y="3308"/>
                  </a:lnTo>
                  <a:lnTo>
                    <a:pt x="537" y="2899"/>
                  </a:lnTo>
                  <a:lnTo>
                    <a:pt x="695" y="2399"/>
                  </a:lnTo>
                  <a:lnTo>
                    <a:pt x="757" y="1944"/>
                  </a:lnTo>
                  <a:lnTo>
                    <a:pt x="868" y="1663"/>
                  </a:lnTo>
                  <a:lnTo>
                    <a:pt x="1057" y="517"/>
                  </a:lnTo>
                  <a:lnTo>
                    <a:pt x="662" y="251"/>
                  </a:lnTo>
                  <a:lnTo>
                    <a:pt x="251" y="0"/>
                  </a:lnTo>
                  <a:lnTo>
                    <a:pt x="220" y="18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
            <p:cNvSpPr/>
            <p:nvPr/>
          </p:nvSpPr>
          <p:spPr>
            <a:xfrm>
              <a:off x="3667320" y="890640"/>
              <a:ext cx="214200" cy="190440"/>
            </a:xfrm>
            <a:custGeom>
              <a:avLst/>
              <a:gdLst/>
              <a:ahLst/>
              <a:rect l="l" t="t" r="r" b="b"/>
              <a:pathLst>
                <a:path w="3032" h="2698">
                  <a:moveTo>
                    <a:pt x="678" y="0"/>
                  </a:moveTo>
                  <a:lnTo>
                    <a:pt x="473" y="1003"/>
                  </a:lnTo>
                  <a:lnTo>
                    <a:pt x="805" y="1569"/>
                  </a:lnTo>
                  <a:lnTo>
                    <a:pt x="1074" y="1539"/>
                  </a:lnTo>
                  <a:lnTo>
                    <a:pt x="885" y="1694"/>
                  </a:lnTo>
                  <a:lnTo>
                    <a:pt x="551" y="1661"/>
                  </a:lnTo>
                  <a:lnTo>
                    <a:pt x="473" y="1867"/>
                  </a:lnTo>
                  <a:lnTo>
                    <a:pt x="520" y="2134"/>
                  </a:lnTo>
                  <a:lnTo>
                    <a:pt x="1342" y="1789"/>
                  </a:lnTo>
                  <a:lnTo>
                    <a:pt x="1389" y="1883"/>
                  </a:lnTo>
                  <a:lnTo>
                    <a:pt x="1106" y="2087"/>
                  </a:lnTo>
                  <a:lnTo>
                    <a:pt x="1074" y="2479"/>
                  </a:lnTo>
                  <a:lnTo>
                    <a:pt x="1247" y="2479"/>
                  </a:lnTo>
                  <a:lnTo>
                    <a:pt x="1389" y="2181"/>
                  </a:lnTo>
                  <a:lnTo>
                    <a:pt x="1644" y="2276"/>
                  </a:lnTo>
                  <a:lnTo>
                    <a:pt x="1879" y="1945"/>
                  </a:lnTo>
                  <a:lnTo>
                    <a:pt x="2086" y="2117"/>
                  </a:lnTo>
                  <a:lnTo>
                    <a:pt x="2606" y="2103"/>
                  </a:lnTo>
                  <a:lnTo>
                    <a:pt x="2781" y="2009"/>
                  </a:lnTo>
                  <a:lnTo>
                    <a:pt x="3032" y="2494"/>
                  </a:lnTo>
                  <a:lnTo>
                    <a:pt x="2937" y="2604"/>
                  </a:lnTo>
                  <a:lnTo>
                    <a:pt x="2781" y="2619"/>
                  </a:lnTo>
                  <a:lnTo>
                    <a:pt x="2544" y="2587"/>
                  </a:lnTo>
                  <a:lnTo>
                    <a:pt x="2052" y="2587"/>
                  </a:lnTo>
                  <a:lnTo>
                    <a:pt x="1153" y="2698"/>
                  </a:lnTo>
                  <a:lnTo>
                    <a:pt x="331" y="2416"/>
                  </a:lnTo>
                  <a:lnTo>
                    <a:pt x="0" y="1821"/>
                  </a:lnTo>
                  <a:lnTo>
                    <a:pt x="236" y="690"/>
                  </a:lnTo>
                  <a:lnTo>
                    <a:pt x="585" y="142"/>
                  </a:lnTo>
                  <a:lnTo>
                    <a:pt x="678"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p:nvPr/>
          </p:nvSpPr>
          <p:spPr>
            <a:xfrm>
              <a:off x="3656880" y="1029960"/>
              <a:ext cx="72000" cy="93240"/>
            </a:xfrm>
            <a:custGeom>
              <a:avLst/>
              <a:gdLst/>
              <a:ahLst/>
              <a:rect l="l" t="t" r="r" b="b"/>
              <a:pathLst>
                <a:path w="1014" h="1323">
                  <a:moveTo>
                    <a:pt x="1014" y="1323"/>
                  </a:moveTo>
                  <a:lnTo>
                    <a:pt x="885" y="1226"/>
                  </a:lnTo>
                  <a:lnTo>
                    <a:pt x="0" y="72"/>
                  </a:lnTo>
                  <a:lnTo>
                    <a:pt x="0" y="36"/>
                  </a:lnTo>
                  <a:lnTo>
                    <a:pt x="17" y="12"/>
                  </a:lnTo>
                  <a:lnTo>
                    <a:pt x="42" y="0"/>
                  </a:lnTo>
                  <a:lnTo>
                    <a:pt x="77" y="7"/>
                  </a:lnTo>
                  <a:lnTo>
                    <a:pt x="89" y="21"/>
                  </a:lnTo>
                  <a:lnTo>
                    <a:pt x="953" y="1167"/>
                  </a:lnTo>
                  <a:lnTo>
                    <a:pt x="1014" y="1323"/>
                  </a:lnTo>
                  <a:close/>
                </a:path>
              </a:pathLst>
            </a:custGeom>
            <a:solidFill>
              <a:srgbClr val="ffea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9" name=""/>
            <p:cNvSpPr/>
            <p:nvPr/>
          </p:nvSpPr>
          <p:spPr>
            <a:xfrm>
              <a:off x="3852720" y="1018800"/>
              <a:ext cx="135000" cy="62640"/>
            </a:xfrm>
            <a:custGeom>
              <a:avLst/>
              <a:gdLst/>
              <a:ahLst/>
              <a:rect l="l" t="t" r="r" b="b"/>
              <a:pathLst>
                <a:path w="1908" h="884">
                  <a:moveTo>
                    <a:pt x="18" y="576"/>
                  </a:moveTo>
                  <a:lnTo>
                    <a:pt x="600" y="756"/>
                  </a:lnTo>
                  <a:lnTo>
                    <a:pt x="1000" y="756"/>
                  </a:lnTo>
                  <a:lnTo>
                    <a:pt x="1273" y="884"/>
                  </a:lnTo>
                  <a:lnTo>
                    <a:pt x="1326" y="864"/>
                  </a:lnTo>
                  <a:lnTo>
                    <a:pt x="1290" y="720"/>
                  </a:lnTo>
                  <a:lnTo>
                    <a:pt x="1019" y="593"/>
                  </a:lnTo>
                  <a:lnTo>
                    <a:pt x="837" y="593"/>
                  </a:lnTo>
                  <a:lnTo>
                    <a:pt x="837" y="487"/>
                  </a:lnTo>
                  <a:lnTo>
                    <a:pt x="1326" y="324"/>
                  </a:lnTo>
                  <a:lnTo>
                    <a:pt x="1564" y="344"/>
                  </a:lnTo>
                  <a:lnTo>
                    <a:pt x="1673" y="487"/>
                  </a:lnTo>
                  <a:lnTo>
                    <a:pt x="1800" y="576"/>
                  </a:lnTo>
                  <a:lnTo>
                    <a:pt x="1908" y="576"/>
                  </a:lnTo>
                  <a:lnTo>
                    <a:pt x="1673" y="144"/>
                  </a:lnTo>
                  <a:lnTo>
                    <a:pt x="1000" y="0"/>
                  </a:lnTo>
                  <a:lnTo>
                    <a:pt x="202" y="235"/>
                  </a:lnTo>
                  <a:lnTo>
                    <a:pt x="0" y="487"/>
                  </a:lnTo>
                  <a:lnTo>
                    <a:pt x="18" y="576"/>
                  </a:lnTo>
                  <a:close/>
                </a:path>
              </a:pathLst>
            </a:custGeom>
            <a:solidFill>
              <a:srgbClr val="ffc98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70" name=""/>
            <p:cNvSpPr/>
            <p:nvPr/>
          </p:nvSpPr>
          <p:spPr>
            <a:xfrm>
              <a:off x="3579120" y="1045440"/>
              <a:ext cx="154080" cy="83880"/>
            </a:xfrm>
            <a:custGeom>
              <a:avLst/>
              <a:gdLst/>
              <a:ahLst/>
              <a:rect l="l" t="t" r="r" b="b"/>
              <a:pathLst>
                <a:path w="2180" h="1188">
                  <a:moveTo>
                    <a:pt x="0" y="1098"/>
                  </a:moveTo>
                  <a:lnTo>
                    <a:pt x="872" y="1188"/>
                  </a:lnTo>
                  <a:lnTo>
                    <a:pt x="1182" y="1188"/>
                  </a:lnTo>
                  <a:lnTo>
                    <a:pt x="1309" y="1115"/>
                  </a:lnTo>
                  <a:lnTo>
                    <a:pt x="1489" y="1151"/>
                  </a:lnTo>
                  <a:lnTo>
                    <a:pt x="1651" y="1062"/>
                  </a:lnTo>
                  <a:lnTo>
                    <a:pt x="1689" y="1007"/>
                  </a:lnTo>
                  <a:lnTo>
                    <a:pt x="1815" y="953"/>
                  </a:lnTo>
                  <a:lnTo>
                    <a:pt x="1689" y="611"/>
                  </a:lnTo>
                  <a:lnTo>
                    <a:pt x="1345" y="360"/>
                  </a:lnTo>
                  <a:lnTo>
                    <a:pt x="1689" y="467"/>
                  </a:lnTo>
                  <a:lnTo>
                    <a:pt x="2016" y="775"/>
                  </a:lnTo>
                  <a:lnTo>
                    <a:pt x="2164" y="793"/>
                  </a:lnTo>
                  <a:lnTo>
                    <a:pt x="2180" y="719"/>
                  </a:lnTo>
                  <a:lnTo>
                    <a:pt x="2126" y="611"/>
                  </a:lnTo>
                  <a:lnTo>
                    <a:pt x="1762" y="160"/>
                  </a:lnTo>
                  <a:lnTo>
                    <a:pt x="1052" y="0"/>
                  </a:lnTo>
                  <a:lnTo>
                    <a:pt x="945" y="33"/>
                  </a:lnTo>
                  <a:lnTo>
                    <a:pt x="17" y="916"/>
                  </a:lnTo>
                  <a:lnTo>
                    <a:pt x="0" y="1098"/>
                  </a:lnTo>
                  <a:close/>
                </a:path>
              </a:pathLst>
            </a:custGeom>
            <a:solidFill>
              <a:srgbClr val="ffc98e"/>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71" name=""/>
            <p:cNvSpPr/>
            <p:nvPr/>
          </p:nvSpPr>
          <p:spPr>
            <a:xfrm>
              <a:off x="3595320" y="837000"/>
              <a:ext cx="38880" cy="234000"/>
            </a:xfrm>
            <a:custGeom>
              <a:avLst/>
              <a:gdLst/>
              <a:ahLst/>
              <a:rect l="l" t="t" r="r" b="b"/>
              <a:pathLst>
                <a:path w="544" h="3319">
                  <a:moveTo>
                    <a:pt x="326" y="0"/>
                  </a:moveTo>
                  <a:lnTo>
                    <a:pt x="419" y="111"/>
                  </a:lnTo>
                  <a:lnTo>
                    <a:pt x="436" y="236"/>
                  </a:lnTo>
                  <a:lnTo>
                    <a:pt x="345" y="578"/>
                  </a:lnTo>
                  <a:lnTo>
                    <a:pt x="419" y="866"/>
                  </a:lnTo>
                  <a:lnTo>
                    <a:pt x="472" y="1120"/>
                  </a:lnTo>
                  <a:lnTo>
                    <a:pt x="472" y="1317"/>
                  </a:lnTo>
                  <a:lnTo>
                    <a:pt x="472" y="1948"/>
                  </a:lnTo>
                  <a:lnTo>
                    <a:pt x="489" y="2308"/>
                  </a:lnTo>
                  <a:lnTo>
                    <a:pt x="544" y="2704"/>
                  </a:lnTo>
                  <a:lnTo>
                    <a:pt x="146" y="3319"/>
                  </a:lnTo>
                  <a:lnTo>
                    <a:pt x="72" y="2344"/>
                  </a:lnTo>
                  <a:lnTo>
                    <a:pt x="36" y="1660"/>
                  </a:lnTo>
                  <a:lnTo>
                    <a:pt x="0" y="1246"/>
                  </a:lnTo>
                  <a:lnTo>
                    <a:pt x="91" y="813"/>
                  </a:lnTo>
                  <a:lnTo>
                    <a:pt x="199" y="578"/>
                  </a:lnTo>
                  <a:lnTo>
                    <a:pt x="163" y="362"/>
                  </a:lnTo>
                  <a:lnTo>
                    <a:pt x="146" y="200"/>
                  </a:lnTo>
                  <a:lnTo>
                    <a:pt x="235" y="0"/>
                  </a:lnTo>
                  <a:lnTo>
                    <a:pt x="32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
            <p:cNvSpPr/>
            <p:nvPr/>
          </p:nvSpPr>
          <p:spPr>
            <a:xfrm>
              <a:off x="3596760" y="837000"/>
              <a:ext cx="43920" cy="236880"/>
            </a:xfrm>
            <a:custGeom>
              <a:avLst/>
              <a:gdLst/>
              <a:ahLst/>
              <a:rect l="l" t="t" r="r" b="b"/>
              <a:pathLst>
                <a:path w="618" h="3354">
                  <a:moveTo>
                    <a:pt x="291" y="0"/>
                  </a:moveTo>
                  <a:lnTo>
                    <a:pt x="235" y="255"/>
                  </a:lnTo>
                  <a:lnTo>
                    <a:pt x="235" y="382"/>
                  </a:lnTo>
                  <a:lnTo>
                    <a:pt x="343" y="524"/>
                  </a:lnTo>
                  <a:lnTo>
                    <a:pt x="326" y="615"/>
                  </a:lnTo>
                  <a:lnTo>
                    <a:pt x="417" y="957"/>
                  </a:lnTo>
                  <a:lnTo>
                    <a:pt x="326" y="722"/>
                  </a:lnTo>
                  <a:lnTo>
                    <a:pt x="326" y="886"/>
                  </a:lnTo>
                  <a:lnTo>
                    <a:pt x="254" y="1029"/>
                  </a:lnTo>
                  <a:lnTo>
                    <a:pt x="254" y="704"/>
                  </a:lnTo>
                  <a:lnTo>
                    <a:pt x="144" y="993"/>
                  </a:lnTo>
                  <a:lnTo>
                    <a:pt x="89" y="1389"/>
                  </a:lnTo>
                  <a:lnTo>
                    <a:pt x="89" y="1733"/>
                  </a:lnTo>
                  <a:lnTo>
                    <a:pt x="163" y="2488"/>
                  </a:lnTo>
                  <a:lnTo>
                    <a:pt x="180" y="3136"/>
                  </a:lnTo>
                  <a:lnTo>
                    <a:pt x="525" y="2688"/>
                  </a:lnTo>
                  <a:lnTo>
                    <a:pt x="618" y="3048"/>
                  </a:lnTo>
                  <a:lnTo>
                    <a:pt x="36" y="3354"/>
                  </a:lnTo>
                  <a:lnTo>
                    <a:pt x="36" y="2761"/>
                  </a:lnTo>
                  <a:lnTo>
                    <a:pt x="0" y="1804"/>
                  </a:lnTo>
                  <a:lnTo>
                    <a:pt x="0" y="1335"/>
                  </a:lnTo>
                  <a:lnTo>
                    <a:pt x="53" y="957"/>
                  </a:lnTo>
                  <a:lnTo>
                    <a:pt x="108" y="651"/>
                  </a:lnTo>
                  <a:lnTo>
                    <a:pt x="144" y="329"/>
                  </a:lnTo>
                  <a:lnTo>
                    <a:pt x="180" y="129"/>
                  </a:lnTo>
                  <a:lnTo>
                    <a:pt x="254" y="0"/>
                  </a:lnTo>
                  <a:lnTo>
                    <a:pt x="291"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a:off x="3560040" y="653040"/>
              <a:ext cx="169560" cy="186480"/>
            </a:xfrm>
            <a:custGeom>
              <a:avLst/>
              <a:gdLst/>
              <a:ahLst/>
              <a:rect l="l" t="t" r="r" b="b"/>
              <a:pathLst>
                <a:path w="2401" h="2643">
                  <a:moveTo>
                    <a:pt x="0" y="1417"/>
                  </a:moveTo>
                  <a:lnTo>
                    <a:pt x="16" y="1637"/>
                  </a:lnTo>
                  <a:lnTo>
                    <a:pt x="126" y="1943"/>
                  </a:lnTo>
                  <a:lnTo>
                    <a:pt x="244" y="2110"/>
                  </a:lnTo>
                  <a:lnTo>
                    <a:pt x="594" y="2474"/>
                  </a:lnTo>
                  <a:lnTo>
                    <a:pt x="757" y="2643"/>
                  </a:lnTo>
                  <a:lnTo>
                    <a:pt x="1191" y="2355"/>
                  </a:lnTo>
                  <a:lnTo>
                    <a:pt x="1361" y="2442"/>
                  </a:lnTo>
                  <a:lnTo>
                    <a:pt x="1677" y="2474"/>
                  </a:lnTo>
                  <a:lnTo>
                    <a:pt x="1786" y="2330"/>
                  </a:lnTo>
                  <a:lnTo>
                    <a:pt x="1761" y="2179"/>
                  </a:lnTo>
                  <a:lnTo>
                    <a:pt x="1786" y="2143"/>
                  </a:lnTo>
                  <a:lnTo>
                    <a:pt x="1897" y="2110"/>
                  </a:lnTo>
                  <a:lnTo>
                    <a:pt x="1922" y="2010"/>
                  </a:lnTo>
                  <a:lnTo>
                    <a:pt x="2000" y="1952"/>
                  </a:lnTo>
                  <a:lnTo>
                    <a:pt x="2144" y="1707"/>
                  </a:lnTo>
                  <a:lnTo>
                    <a:pt x="2265" y="1741"/>
                  </a:lnTo>
                  <a:lnTo>
                    <a:pt x="2330" y="1690"/>
                  </a:lnTo>
                  <a:lnTo>
                    <a:pt x="2221" y="1157"/>
                  </a:lnTo>
                  <a:lnTo>
                    <a:pt x="2364" y="1074"/>
                  </a:lnTo>
                  <a:lnTo>
                    <a:pt x="2401" y="657"/>
                  </a:lnTo>
                  <a:lnTo>
                    <a:pt x="952" y="0"/>
                  </a:lnTo>
                  <a:lnTo>
                    <a:pt x="304" y="583"/>
                  </a:lnTo>
                  <a:lnTo>
                    <a:pt x="304" y="1030"/>
                  </a:lnTo>
                  <a:lnTo>
                    <a:pt x="0" y="141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3585600" y="636840"/>
              <a:ext cx="160920" cy="75600"/>
            </a:xfrm>
            <a:custGeom>
              <a:avLst/>
              <a:gdLst/>
              <a:ahLst/>
              <a:rect l="l" t="t" r="r" b="b"/>
              <a:pathLst>
                <a:path w="2280" h="1064">
                  <a:moveTo>
                    <a:pt x="0" y="953"/>
                  </a:moveTo>
                  <a:lnTo>
                    <a:pt x="296" y="893"/>
                  </a:lnTo>
                  <a:lnTo>
                    <a:pt x="381" y="979"/>
                  </a:lnTo>
                  <a:lnTo>
                    <a:pt x="552" y="1064"/>
                  </a:lnTo>
                  <a:lnTo>
                    <a:pt x="1184" y="784"/>
                  </a:lnTo>
                  <a:lnTo>
                    <a:pt x="1184" y="507"/>
                  </a:lnTo>
                  <a:lnTo>
                    <a:pt x="1736" y="753"/>
                  </a:lnTo>
                  <a:lnTo>
                    <a:pt x="2280" y="793"/>
                  </a:lnTo>
                  <a:lnTo>
                    <a:pt x="1547" y="0"/>
                  </a:lnTo>
                  <a:lnTo>
                    <a:pt x="237" y="369"/>
                  </a:lnTo>
                  <a:lnTo>
                    <a:pt x="0" y="953"/>
                  </a:lnTo>
                  <a:close/>
                </a:path>
              </a:pathLst>
            </a:custGeom>
            <a:solidFill>
              <a:srgbClr val="70230c"/>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75" name=""/>
            <p:cNvSpPr/>
            <p:nvPr/>
          </p:nvSpPr>
          <p:spPr>
            <a:xfrm>
              <a:off x="3612960" y="743760"/>
              <a:ext cx="98640" cy="95400"/>
            </a:xfrm>
            <a:custGeom>
              <a:avLst/>
              <a:gdLst/>
              <a:ahLst/>
              <a:rect l="l" t="t" r="r" b="b"/>
              <a:pathLst>
                <a:path w="1393" h="1349">
                  <a:moveTo>
                    <a:pt x="49" y="105"/>
                  </a:moveTo>
                  <a:lnTo>
                    <a:pt x="49" y="433"/>
                  </a:lnTo>
                  <a:lnTo>
                    <a:pt x="266" y="678"/>
                  </a:lnTo>
                  <a:lnTo>
                    <a:pt x="628" y="1116"/>
                  </a:lnTo>
                  <a:lnTo>
                    <a:pt x="928" y="1165"/>
                  </a:lnTo>
                  <a:lnTo>
                    <a:pt x="1029" y="1036"/>
                  </a:lnTo>
                  <a:lnTo>
                    <a:pt x="999" y="911"/>
                  </a:lnTo>
                  <a:lnTo>
                    <a:pt x="893" y="964"/>
                  </a:lnTo>
                  <a:lnTo>
                    <a:pt x="853" y="928"/>
                  </a:lnTo>
                  <a:lnTo>
                    <a:pt x="973" y="814"/>
                  </a:lnTo>
                  <a:lnTo>
                    <a:pt x="1097" y="822"/>
                  </a:lnTo>
                  <a:lnTo>
                    <a:pt x="1158" y="776"/>
                  </a:lnTo>
                  <a:lnTo>
                    <a:pt x="1158" y="712"/>
                  </a:lnTo>
                  <a:lnTo>
                    <a:pt x="1249" y="663"/>
                  </a:lnTo>
                  <a:lnTo>
                    <a:pt x="1319" y="482"/>
                  </a:lnTo>
                  <a:lnTo>
                    <a:pt x="1393" y="441"/>
                  </a:lnTo>
                  <a:lnTo>
                    <a:pt x="1264" y="672"/>
                  </a:lnTo>
                  <a:lnTo>
                    <a:pt x="1199" y="729"/>
                  </a:lnTo>
                  <a:lnTo>
                    <a:pt x="1199" y="822"/>
                  </a:lnTo>
                  <a:lnTo>
                    <a:pt x="1166" y="854"/>
                  </a:lnTo>
                  <a:lnTo>
                    <a:pt x="1046" y="869"/>
                  </a:lnTo>
                  <a:lnTo>
                    <a:pt x="1029" y="902"/>
                  </a:lnTo>
                  <a:lnTo>
                    <a:pt x="1063" y="1022"/>
                  </a:lnTo>
                  <a:lnTo>
                    <a:pt x="1057" y="1062"/>
                  </a:lnTo>
                  <a:lnTo>
                    <a:pt x="950" y="1197"/>
                  </a:lnTo>
                  <a:lnTo>
                    <a:pt x="919" y="1206"/>
                  </a:lnTo>
                  <a:lnTo>
                    <a:pt x="701" y="1206"/>
                  </a:lnTo>
                  <a:lnTo>
                    <a:pt x="426" y="1116"/>
                  </a:lnTo>
                  <a:lnTo>
                    <a:pt x="57" y="1349"/>
                  </a:lnTo>
                  <a:lnTo>
                    <a:pt x="201" y="1068"/>
                  </a:lnTo>
                  <a:lnTo>
                    <a:pt x="330" y="1076"/>
                  </a:lnTo>
                  <a:lnTo>
                    <a:pt x="137" y="712"/>
                  </a:lnTo>
                  <a:lnTo>
                    <a:pt x="0" y="583"/>
                  </a:lnTo>
                  <a:lnTo>
                    <a:pt x="0" y="0"/>
                  </a:lnTo>
                  <a:lnTo>
                    <a:pt x="4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3668400" y="784080"/>
              <a:ext cx="11880" cy="15480"/>
            </a:xfrm>
            <a:custGeom>
              <a:avLst/>
              <a:gdLst/>
              <a:ahLst/>
              <a:rect l="l" t="t" r="r" b="b"/>
              <a:pathLst>
                <a:path w="175" h="218">
                  <a:moveTo>
                    <a:pt x="175" y="91"/>
                  </a:moveTo>
                  <a:lnTo>
                    <a:pt x="175" y="0"/>
                  </a:lnTo>
                  <a:lnTo>
                    <a:pt x="78" y="0"/>
                  </a:lnTo>
                  <a:lnTo>
                    <a:pt x="0" y="63"/>
                  </a:lnTo>
                  <a:lnTo>
                    <a:pt x="0" y="218"/>
                  </a:lnTo>
                  <a:lnTo>
                    <a:pt x="175" y="9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77" name=""/>
            <p:cNvSpPr/>
            <p:nvPr/>
          </p:nvSpPr>
          <p:spPr>
            <a:xfrm>
              <a:off x="3680280" y="790200"/>
              <a:ext cx="14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78" name=""/>
            <p:cNvSpPr/>
            <p:nvPr/>
          </p:nvSpPr>
          <p:spPr>
            <a:xfrm>
              <a:off x="3686040" y="699120"/>
              <a:ext cx="43560" cy="77760"/>
            </a:xfrm>
            <a:custGeom>
              <a:avLst/>
              <a:gdLst/>
              <a:ahLst/>
              <a:rect l="l" t="t" r="r" b="b"/>
              <a:pathLst>
                <a:path w="622" h="1099">
                  <a:moveTo>
                    <a:pt x="226" y="957"/>
                  </a:moveTo>
                  <a:lnTo>
                    <a:pt x="259" y="1012"/>
                  </a:lnTo>
                  <a:lnTo>
                    <a:pt x="347" y="1012"/>
                  </a:lnTo>
                  <a:lnTo>
                    <a:pt x="476" y="1069"/>
                  </a:lnTo>
                  <a:lnTo>
                    <a:pt x="548" y="1026"/>
                  </a:lnTo>
                  <a:lnTo>
                    <a:pt x="428" y="502"/>
                  </a:lnTo>
                  <a:lnTo>
                    <a:pt x="347" y="484"/>
                  </a:lnTo>
                  <a:lnTo>
                    <a:pt x="266" y="540"/>
                  </a:lnTo>
                  <a:lnTo>
                    <a:pt x="306" y="453"/>
                  </a:lnTo>
                  <a:lnTo>
                    <a:pt x="243" y="421"/>
                  </a:lnTo>
                  <a:lnTo>
                    <a:pt x="170" y="413"/>
                  </a:lnTo>
                  <a:lnTo>
                    <a:pt x="99" y="406"/>
                  </a:lnTo>
                  <a:lnTo>
                    <a:pt x="0" y="413"/>
                  </a:lnTo>
                  <a:lnTo>
                    <a:pt x="235" y="311"/>
                  </a:lnTo>
                  <a:lnTo>
                    <a:pt x="444" y="375"/>
                  </a:lnTo>
                  <a:lnTo>
                    <a:pt x="533" y="326"/>
                  </a:lnTo>
                  <a:lnTo>
                    <a:pt x="523" y="375"/>
                  </a:lnTo>
                  <a:lnTo>
                    <a:pt x="461" y="438"/>
                  </a:lnTo>
                  <a:lnTo>
                    <a:pt x="582" y="421"/>
                  </a:lnTo>
                  <a:lnTo>
                    <a:pt x="622" y="0"/>
                  </a:lnTo>
                  <a:lnTo>
                    <a:pt x="605" y="438"/>
                  </a:lnTo>
                  <a:lnTo>
                    <a:pt x="468" y="515"/>
                  </a:lnTo>
                  <a:lnTo>
                    <a:pt x="582" y="1026"/>
                  </a:lnTo>
                  <a:lnTo>
                    <a:pt x="493" y="1099"/>
                  </a:lnTo>
                  <a:lnTo>
                    <a:pt x="324" y="1044"/>
                  </a:lnTo>
                  <a:lnTo>
                    <a:pt x="212" y="1044"/>
                  </a:lnTo>
                  <a:lnTo>
                    <a:pt x="179" y="980"/>
                  </a:lnTo>
                  <a:lnTo>
                    <a:pt x="226" y="95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79" name=""/>
            <p:cNvSpPr/>
            <p:nvPr/>
          </p:nvSpPr>
          <p:spPr>
            <a:xfrm>
              <a:off x="3691440" y="733680"/>
              <a:ext cx="14760" cy="11880"/>
            </a:xfrm>
            <a:custGeom>
              <a:avLst/>
              <a:gdLst/>
              <a:ahLst/>
              <a:rect l="l" t="t" r="r" b="b"/>
              <a:pathLst>
                <a:path w="216" h="171">
                  <a:moveTo>
                    <a:pt x="210" y="24"/>
                  </a:moveTo>
                  <a:lnTo>
                    <a:pt x="152" y="0"/>
                  </a:lnTo>
                  <a:lnTo>
                    <a:pt x="152" y="56"/>
                  </a:lnTo>
                  <a:lnTo>
                    <a:pt x="0" y="0"/>
                  </a:lnTo>
                  <a:lnTo>
                    <a:pt x="0" y="49"/>
                  </a:lnTo>
                  <a:lnTo>
                    <a:pt x="178" y="171"/>
                  </a:lnTo>
                  <a:lnTo>
                    <a:pt x="216" y="144"/>
                  </a:lnTo>
                  <a:lnTo>
                    <a:pt x="185" y="104"/>
                  </a:lnTo>
                  <a:lnTo>
                    <a:pt x="185" y="56"/>
                  </a:lnTo>
                  <a:lnTo>
                    <a:pt x="210" y="2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680" name=""/>
            <p:cNvSpPr/>
            <p:nvPr/>
          </p:nvSpPr>
          <p:spPr>
            <a:xfrm>
              <a:off x="3683160" y="745920"/>
              <a:ext cx="17280" cy="15840"/>
            </a:xfrm>
            <a:custGeom>
              <a:avLst/>
              <a:gdLst/>
              <a:ahLst/>
              <a:rect l="l" t="t" r="r" b="b"/>
              <a:pathLst>
                <a:path w="241" h="229">
                  <a:moveTo>
                    <a:pt x="241" y="5"/>
                  </a:moveTo>
                  <a:lnTo>
                    <a:pt x="144" y="5"/>
                  </a:lnTo>
                  <a:lnTo>
                    <a:pt x="144" y="78"/>
                  </a:lnTo>
                  <a:lnTo>
                    <a:pt x="0" y="0"/>
                  </a:lnTo>
                  <a:lnTo>
                    <a:pt x="0" y="78"/>
                  </a:lnTo>
                  <a:lnTo>
                    <a:pt x="66" y="229"/>
                  </a:lnTo>
                  <a:lnTo>
                    <a:pt x="175" y="100"/>
                  </a:lnTo>
                  <a:lnTo>
                    <a:pt x="175" y="54"/>
                  </a:lnTo>
                  <a:lnTo>
                    <a:pt x="217" y="37"/>
                  </a:lnTo>
                  <a:lnTo>
                    <a:pt x="241"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81" name=""/>
            <p:cNvSpPr/>
            <p:nvPr/>
          </p:nvSpPr>
          <p:spPr>
            <a:xfrm>
              <a:off x="3547440" y="636840"/>
              <a:ext cx="207000" cy="119520"/>
            </a:xfrm>
            <a:custGeom>
              <a:avLst/>
              <a:gdLst/>
              <a:ahLst/>
              <a:rect l="l" t="t" r="r" b="b"/>
              <a:pathLst>
                <a:path w="2925" h="1689">
                  <a:moveTo>
                    <a:pt x="1766" y="612"/>
                  </a:moveTo>
                  <a:lnTo>
                    <a:pt x="1766" y="813"/>
                  </a:lnTo>
                  <a:lnTo>
                    <a:pt x="1603" y="862"/>
                  </a:lnTo>
                  <a:lnTo>
                    <a:pt x="1723" y="891"/>
                  </a:lnTo>
                  <a:lnTo>
                    <a:pt x="1650" y="954"/>
                  </a:lnTo>
                  <a:lnTo>
                    <a:pt x="1436" y="949"/>
                  </a:lnTo>
                  <a:lnTo>
                    <a:pt x="1290" y="1177"/>
                  </a:lnTo>
                  <a:lnTo>
                    <a:pt x="1042" y="1052"/>
                  </a:lnTo>
                  <a:lnTo>
                    <a:pt x="985" y="931"/>
                  </a:lnTo>
                  <a:lnTo>
                    <a:pt x="1330" y="931"/>
                  </a:lnTo>
                  <a:lnTo>
                    <a:pt x="1645" y="796"/>
                  </a:lnTo>
                  <a:lnTo>
                    <a:pt x="1427" y="741"/>
                  </a:lnTo>
                  <a:lnTo>
                    <a:pt x="1645" y="683"/>
                  </a:lnTo>
                  <a:lnTo>
                    <a:pt x="1443" y="574"/>
                  </a:lnTo>
                  <a:lnTo>
                    <a:pt x="1290" y="565"/>
                  </a:lnTo>
                  <a:lnTo>
                    <a:pt x="1497" y="502"/>
                  </a:lnTo>
                  <a:lnTo>
                    <a:pt x="1396" y="445"/>
                  </a:lnTo>
                  <a:lnTo>
                    <a:pt x="1201" y="405"/>
                  </a:lnTo>
                  <a:lnTo>
                    <a:pt x="970" y="463"/>
                  </a:lnTo>
                  <a:lnTo>
                    <a:pt x="1129" y="565"/>
                  </a:lnTo>
                  <a:lnTo>
                    <a:pt x="999" y="627"/>
                  </a:lnTo>
                  <a:lnTo>
                    <a:pt x="1123" y="683"/>
                  </a:lnTo>
                  <a:lnTo>
                    <a:pt x="1123" y="741"/>
                  </a:lnTo>
                  <a:lnTo>
                    <a:pt x="759" y="821"/>
                  </a:lnTo>
                  <a:lnTo>
                    <a:pt x="574" y="923"/>
                  </a:lnTo>
                  <a:lnTo>
                    <a:pt x="848" y="885"/>
                  </a:lnTo>
                  <a:lnTo>
                    <a:pt x="934" y="914"/>
                  </a:lnTo>
                  <a:lnTo>
                    <a:pt x="913" y="980"/>
                  </a:lnTo>
                  <a:lnTo>
                    <a:pt x="790" y="931"/>
                  </a:lnTo>
                  <a:lnTo>
                    <a:pt x="574" y="980"/>
                  </a:lnTo>
                  <a:lnTo>
                    <a:pt x="574" y="1177"/>
                  </a:lnTo>
                  <a:lnTo>
                    <a:pt x="719" y="1554"/>
                  </a:lnTo>
                  <a:lnTo>
                    <a:pt x="799" y="1577"/>
                  </a:lnTo>
                  <a:lnTo>
                    <a:pt x="903" y="1529"/>
                  </a:lnTo>
                  <a:lnTo>
                    <a:pt x="807" y="1624"/>
                  </a:lnTo>
                  <a:lnTo>
                    <a:pt x="693" y="1577"/>
                  </a:lnTo>
                  <a:lnTo>
                    <a:pt x="588" y="1291"/>
                  </a:lnTo>
                  <a:lnTo>
                    <a:pt x="477" y="1458"/>
                  </a:lnTo>
                  <a:lnTo>
                    <a:pt x="316" y="1540"/>
                  </a:lnTo>
                  <a:lnTo>
                    <a:pt x="275" y="1689"/>
                  </a:lnTo>
                  <a:lnTo>
                    <a:pt x="68" y="1689"/>
                  </a:lnTo>
                  <a:lnTo>
                    <a:pt x="0" y="1393"/>
                  </a:lnTo>
                  <a:lnTo>
                    <a:pt x="123" y="1131"/>
                  </a:lnTo>
                  <a:lnTo>
                    <a:pt x="123" y="732"/>
                  </a:lnTo>
                  <a:lnTo>
                    <a:pt x="348" y="125"/>
                  </a:lnTo>
                  <a:lnTo>
                    <a:pt x="541" y="0"/>
                  </a:lnTo>
                  <a:lnTo>
                    <a:pt x="1603" y="174"/>
                  </a:lnTo>
                  <a:lnTo>
                    <a:pt x="1805" y="294"/>
                  </a:lnTo>
                  <a:lnTo>
                    <a:pt x="1723" y="358"/>
                  </a:lnTo>
                  <a:lnTo>
                    <a:pt x="1927" y="542"/>
                  </a:lnTo>
                  <a:lnTo>
                    <a:pt x="2169" y="542"/>
                  </a:lnTo>
                  <a:lnTo>
                    <a:pt x="2136" y="612"/>
                  </a:lnTo>
                  <a:lnTo>
                    <a:pt x="2385" y="660"/>
                  </a:lnTo>
                  <a:lnTo>
                    <a:pt x="2338" y="709"/>
                  </a:lnTo>
                  <a:lnTo>
                    <a:pt x="2740" y="756"/>
                  </a:lnTo>
                  <a:lnTo>
                    <a:pt x="2634" y="374"/>
                  </a:lnTo>
                  <a:lnTo>
                    <a:pt x="2829" y="638"/>
                  </a:lnTo>
                  <a:lnTo>
                    <a:pt x="2925" y="891"/>
                  </a:lnTo>
                  <a:lnTo>
                    <a:pt x="2893" y="940"/>
                  </a:lnTo>
                  <a:lnTo>
                    <a:pt x="2651" y="931"/>
                  </a:lnTo>
                  <a:lnTo>
                    <a:pt x="2490" y="914"/>
                  </a:lnTo>
                  <a:lnTo>
                    <a:pt x="2353" y="867"/>
                  </a:lnTo>
                  <a:lnTo>
                    <a:pt x="2442" y="836"/>
                  </a:lnTo>
                  <a:lnTo>
                    <a:pt x="2216" y="813"/>
                  </a:lnTo>
                  <a:lnTo>
                    <a:pt x="2014" y="732"/>
                  </a:lnTo>
                  <a:lnTo>
                    <a:pt x="1828" y="645"/>
                  </a:lnTo>
                  <a:lnTo>
                    <a:pt x="1766"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
            <p:cNvSpPr/>
            <p:nvPr/>
          </p:nvSpPr>
          <p:spPr>
            <a:xfrm>
              <a:off x="3581280" y="609480"/>
              <a:ext cx="165960" cy="81720"/>
            </a:xfrm>
            <a:custGeom>
              <a:avLst/>
              <a:gdLst/>
              <a:ahLst/>
              <a:rect l="l" t="t" r="r" b="b"/>
              <a:pathLst>
                <a:path w="2352" h="1163">
                  <a:moveTo>
                    <a:pt x="2286" y="1163"/>
                  </a:moveTo>
                  <a:lnTo>
                    <a:pt x="1886" y="995"/>
                  </a:lnTo>
                  <a:lnTo>
                    <a:pt x="1933" y="957"/>
                  </a:lnTo>
                  <a:lnTo>
                    <a:pt x="1683" y="855"/>
                  </a:lnTo>
                  <a:lnTo>
                    <a:pt x="1571" y="855"/>
                  </a:lnTo>
                  <a:lnTo>
                    <a:pt x="1465" y="757"/>
                  </a:lnTo>
                  <a:lnTo>
                    <a:pt x="1554" y="686"/>
                  </a:lnTo>
                  <a:lnTo>
                    <a:pt x="1173" y="597"/>
                  </a:lnTo>
                  <a:lnTo>
                    <a:pt x="0" y="439"/>
                  </a:lnTo>
                  <a:lnTo>
                    <a:pt x="155" y="175"/>
                  </a:lnTo>
                  <a:lnTo>
                    <a:pt x="555" y="24"/>
                  </a:lnTo>
                  <a:lnTo>
                    <a:pt x="908" y="0"/>
                  </a:lnTo>
                  <a:lnTo>
                    <a:pt x="1313" y="80"/>
                  </a:lnTo>
                  <a:lnTo>
                    <a:pt x="1650" y="222"/>
                  </a:lnTo>
                  <a:lnTo>
                    <a:pt x="1899" y="430"/>
                  </a:lnTo>
                  <a:lnTo>
                    <a:pt x="2068" y="597"/>
                  </a:lnTo>
                  <a:lnTo>
                    <a:pt x="2223" y="813"/>
                  </a:lnTo>
                  <a:lnTo>
                    <a:pt x="2352" y="1030"/>
                  </a:lnTo>
                  <a:lnTo>
                    <a:pt x="2286" y="116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683" name=""/>
            <p:cNvSpPr/>
            <p:nvPr/>
          </p:nvSpPr>
          <p:spPr>
            <a:xfrm>
              <a:off x="3593880" y="705600"/>
              <a:ext cx="20880" cy="25920"/>
            </a:xfrm>
            <a:custGeom>
              <a:avLst/>
              <a:gdLst/>
              <a:ahLst/>
              <a:rect l="l" t="t" r="r" b="b"/>
              <a:pathLst>
                <a:path w="301" h="373">
                  <a:moveTo>
                    <a:pt x="301" y="151"/>
                  </a:moveTo>
                  <a:lnTo>
                    <a:pt x="178" y="67"/>
                  </a:lnTo>
                  <a:lnTo>
                    <a:pt x="178" y="0"/>
                  </a:lnTo>
                  <a:lnTo>
                    <a:pt x="26" y="26"/>
                  </a:lnTo>
                  <a:lnTo>
                    <a:pt x="0" y="214"/>
                  </a:lnTo>
                  <a:lnTo>
                    <a:pt x="163" y="96"/>
                  </a:lnTo>
                  <a:lnTo>
                    <a:pt x="220" y="142"/>
                  </a:lnTo>
                  <a:lnTo>
                    <a:pt x="107" y="231"/>
                  </a:lnTo>
                  <a:lnTo>
                    <a:pt x="107" y="335"/>
                  </a:lnTo>
                  <a:lnTo>
                    <a:pt x="282" y="373"/>
                  </a:lnTo>
                  <a:lnTo>
                    <a:pt x="251" y="303"/>
                  </a:lnTo>
                  <a:lnTo>
                    <a:pt x="251" y="265"/>
                  </a:lnTo>
                  <a:lnTo>
                    <a:pt x="301" y="206"/>
                  </a:lnTo>
                  <a:lnTo>
                    <a:pt x="301" y="15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84" name=""/>
            <p:cNvSpPr/>
            <p:nvPr/>
          </p:nvSpPr>
          <p:spPr>
            <a:xfrm>
              <a:off x="3629880" y="712440"/>
              <a:ext cx="4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85" name=""/>
            <p:cNvSpPr/>
            <p:nvPr/>
          </p:nvSpPr>
          <p:spPr>
            <a:xfrm>
              <a:off x="3634920" y="716760"/>
              <a:ext cx="468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86" name=""/>
            <p:cNvSpPr/>
            <p:nvPr/>
          </p:nvSpPr>
          <p:spPr>
            <a:xfrm>
              <a:off x="3641400" y="726120"/>
              <a:ext cx="288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87" name=""/>
            <p:cNvSpPr/>
            <p:nvPr/>
          </p:nvSpPr>
          <p:spPr>
            <a:xfrm>
              <a:off x="3646800" y="732960"/>
              <a:ext cx="2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88" name=""/>
            <p:cNvSpPr/>
            <p:nvPr/>
          </p:nvSpPr>
          <p:spPr>
            <a:xfrm>
              <a:off x="3558600" y="753480"/>
              <a:ext cx="43920" cy="74160"/>
            </a:xfrm>
            <a:custGeom>
              <a:avLst/>
              <a:gdLst/>
              <a:ahLst/>
              <a:rect l="l" t="t" r="r" b="b"/>
              <a:pathLst>
                <a:path w="618" h="1047">
                  <a:moveTo>
                    <a:pt x="46" y="18"/>
                  </a:moveTo>
                  <a:lnTo>
                    <a:pt x="46" y="114"/>
                  </a:lnTo>
                  <a:lnTo>
                    <a:pt x="71" y="267"/>
                  </a:lnTo>
                  <a:lnTo>
                    <a:pt x="144" y="458"/>
                  </a:lnTo>
                  <a:lnTo>
                    <a:pt x="218" y="591"/>
                  </a:lnTo>
                  <a:lnTo>
                    <a:pt x="313" y="712"/>
                  </a:lnTo>
                  <a:lnTo>
                    <a:pt x="618" y="1047"/>
                  </a:lnTo>
                  <a:lnTo>
                    <a:pt x="235" y="656"/>
                  </a:lnTo>
                  <a:lnTo>
                    <a:pt x="144" y="515"/>
                  </a:lnTo>
                  <a:lnTo>
                    <a:pt x="57" y="329"/>
                  </a:lnTo>
                  <a:lnTo>
                    <a:pt x="8" y="176"/>
                  </a:lnTo>
                  <a:lnTo>
                    <a:pt x="0" y="74"/>
                  </a:lnTo>
                  <a:lnTo>
                    <a:pt x="0" y="0"/>
                  </a:lnTo>
                  <a:lnTo>
                    <a:pt x="46" y="1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689" name=""/>
            <p:cNvSpPr/>
            <p:nvPr/>
          </p:nvSpPr>
          <p:spPr>
            <a:xfrm>
              <a:off x="3426120" y="757080"/>
              <a:ext cx="135720" cy="96120"/>
            </a:xfrm>
            <a:custGeom>
              <a:avLst/>
              <a:gdLst/>
              <a:ahLst/>
              <a:rect l="l" t="t" r="r" b="b"/>
              <a:pathLst>
                <a:path w="1917" h="1359">
                  <a:moveTo>
                    <a:pt x="1724" y="0"/>
                  </a:moveTo>
                  <a:lnTo>
                    <a:pt x="1566" y="178"/>
                  </a:lnTo>
                  <a:lnTo>
                    <a:pt x="1533" y="315"/>
                  </a:lnTo>
                  <a:lnTo>
                    <a:pt x="1533" y="475"/>
                  </a:lnTo>
                  <a:lnTo>
                    <a:pt x="1628" y="790"/>
                  </a:lnTo>
                  <a:lnTo>
                    <a:pt x="1851" y="1233"/>
                  </a:lnTo>
                  <a:lnTo>
                    <a:pt x="1917" y="1359"/>
                  </a:lnTo>
                  <a:lnTo>
                    <a:pt x="1448" y="893"/>
                  </a:lnTo>
                  <a:lnTo>
                    <a:pt x="1641" y="1033"/>
                  </a:lnTo>
                  <a:lnTo>
                    <a:pt x="1641" y="893"/>
                  </a:lnTo>
                  <a:lnTo>
                    <a:pt x="1555" y="684"/>
                  </a:lnTo>
                  <a:lnTo>
                    <a:pt x="1512" y="538"/>
                  </a:lnTo>
                  <a:lnTo>
                    <a:pt x="1491" y="377"/>
                  </a:lnTo>
                  <a:lnTo>
                    <a:pt x="1395" y="411"/>
                  </a:lnTo>
                  <a:lnTo>
                    <a:pt x="1428" y="589"/>
                  </a:lnTo>
                  <a:lnTo>
                    <a:pt x="1182" y="517"/>
                  </a:lnTo>
                  <a:lnTo>
                    <a:pt x="906" y="631"/>
                  </a:lnTo>
                  <a:lnTo>
                    <a:pt x="1106" y="790"/>
                  </a:lnTo>
                  <a:lnTo>
                    <a:pt x="542" y="695"/>
                  </a:lnTo>
                  <a:lnTo>
                    <a:pt x="182" y="832"/>
                  </a:lnTo>
                  <a:lnTo>
                    <a:pt x="0" y="946"/>
                  </a:lnTo>
                  <a:lnTo>
                    <a:pt x="225" y="769"/>
                  </a:lnTo>
                  <a:lnTo>
                    <a:pt x="415" y="631"/>
                  </a:lnTo>
                  <a:lnTo>
                    <a:pt x="511" y="631"/>
                  </a:lnTo>
                  <a:lnTo>
                    <a:pt x="629" y="485"/>
                  </a:lnTo>
                  <a:lnTo>
                    <a:pt x="939" y="422"/>
                  </a:lnTo>
                  <a:lnTo>
                    <a:pt x="1150" y="315"/>
                  </a:lnTo>
                  <a:lnTo>
                    <a:pt x="1375" y="315"/>
                  </a:lnTo>
                  <a:lnTo>
                    <a:pt x="1595" y="93"/>
                  </a:lnTo>
                  <a:lnTo>
                    <a:pt x="17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a:off x="3535920" y="838440"/>
              <a:ext cx="92520" cy="230400"/>
            </a:xfrm>
            <a:custGeom>
              <a:avLst/>
              <a:gdLst/>
              <a:ahLst/>
              <a:rect l="l" t="t" r="r" b="b"/>
              <a:pathLst>
                <a:path w="1308" h="3264">
                  <a:moveTo>
                    <a:pt x="1097" y="19"/>
                  </a:moveTo>
                  <a:lnTo>
                    <a:pt x="1033" y="145"/>
                  </a:lnTo>
                  <a:lnTo>
                    <a:pt x="1033" y="325"/>
                  </a:lnTo>
                  <a:lnTo>
                    <a:pt x="1075" y="451"/>
                  </a:lnTo>
                  <a:lnTo>
                    <a:pt x="1213" y="461"/>
                  </a:lnTo>
                  <a:lnTo>
                    <a:pt x="1279" y="178"/>
                  </a:lnTo>
                  <a:lnTo>
                    <a:pt x="1308" y="220"/>
                  </a:lnTo>
                  <a:lnTo>
                    <a:pt x="1222" y="558"/>
                  </a:lnTo>
                  <a:lnTo>
                    <a:pt x="1075" y="589"/>
                  </a:lnTo>
                  <a:lnTo>
                    <a:pt x="946" y="872"/>
                  </a:lnTo>
                  <a:lnTo>
                    <a:pt x="893" y="1094"/>
                  </a:lnTo>
                  <a:lnTo>
                    <a:pt x="873" y="1347"/>
                  </a:lnTo>
                  <a:lnTo>
                    <a:pt x="926" y="1967"/>
                  </a:lnTo>
                  <a:lnTo>
                    <a:pt x="946" y="2484"/>
                  </a:lnTo>
                  <a:lnTo>
                    <a:pt x="926" y="2875"/>
                  </a:lnTo>
                  <a:lnTo>
                    <a:pt x="893" y="3264"/>
                  </a:lnTo>
                  <a:lnTo>
                    <a:pt x="500" y="3264"/>
                  </a:lnTo>
                  <a:lnTo>
                    <a:pt x="648" y="3137"/>
                  </a:lnTo>
                  <a:lnTo>
                    <a:pt x="853" y="2695"/>
                  </a:lnTo>
                  <a:lnTo>
                    <a:pt x="862" y="2380"/>
                  </a:lnTo>
                  <a:lnTo>
                    <a:pt x="693" y="2210"/>
                  </a:lnTo>
                  <a:lnTo>
                    <a:pt x="564" y="2255"/>
                  </a:lnTo>
                  <a:lnTo>
                    <a:pt x="775" y="1715"/>
                  </a:lnTo>
                  <a:lnTo>
                    <a:pt x="806" y="1126"/>
                  </a:lnTo>
                  <a:lnTo>
                    <a:pt x="936" y="578"/>
                  </a:lnTo>
                  <a:lnTo>
                    <a:pt x="754" y="789"/>
                  </a:lnTo>
                  <a:lnTo>
                    <a:pt x="553" y="925"/>
                  </a:lnTo>
                  <a:lnTo>
                    <a:pt x="351" y="1000"/>
                  </a:lnTo>
                  <a:lnTo>
                    <a:pt x="169" y="1022"/>
                  </a:lnTo>
                  <a:lnTo>
                    <a:pt x="11" y="1000"/>
                  </a:lnTo>
                  <a:lnTo>
                    <a:pt x="0" y="976"/>
                  </a:lnTo>
                  <a:lnTo>
                    <a:pt x="140" y="936"/>
                  </a:lnTo>
                  <a:lnTo>
                    <a:pt x="307" y="853"/>
                  </a:lnTo>
                  <a:lnTo>
                    <a:pt x="468" y="726"/>
                  </a:lnTo>
                  <a:lnTo>
                    <a:pt x="626" y="548"/>
                  </a:lnTo>
                  <a:lnTo>
                    <a:pt x="724" y="367"/>
                  </a:lnTo>
                  <a:lnTo>
                    <a:pt x="806" y="178"/>
                  </a:lnTo>
                  <a:lnTo>
                    <a:pt x="479" y="356"/>
                  </a:lnTo>
                  <a:lnTo>
                    <a:pt x="457" y="305"/>
                  </a:lnTo>
                  <a:lnTo>
                    <a:pt x="764" y="127"/>
                  </a:lnTo>
                  <a:lnTo>
                    <a:pt x="1086" y="0"/>
                  </a:lnTo>
                  <a:lnTo>
                    <a:pt x="109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a:off x="3634920" y="819360"/>
              <a:ext cx="11160" cy="33840"/>
            </a:xfrm>
            <a:custGeom>
              <a:avLst/>
              <a:gdLst/>
              <a:ahLst/>
              <a:rect l="l" t="t" r="r" b="b"/>
              <a:pathLst>
                <a:path w="161" h="476">
                  <a:moveTo>
                    <a:pt x="44" y="87"/>
                  </a:moveTo>
                  <a:lnTo>
                    <a:pt x="108" y="170"/>
                  </a:lnTo>
                  <a:lnTo>
                    <a:pt x="0" y="476"/>
                  </a:lnTo>
                  <a:lnTo>
                    <a:pt x="161" y="127"/>
                  </a:lnTo>
                  <a:lnTo>
                    <a:pt x="161" y="0"/>
                  </a:lnTo>
                  <a:lnTo>
                    <a:pt x="44" y="87"/>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692" name=""/>
            <p:cNvSpPr/>
            <p:nvPr/>
          </p:nvSpPr>
          <p:spPr>
            <a:xfrm>
              <a:off x="3651840" y="827640"/>
              <a:ext cx="26640" cy="72000"/>
            </a:xfrm>
            <a:custGeom>
              <a:avLst/>
              <a:gdLst/>
              <a:ahLst/>
              <a:rect l="l" t="t" r="r" b="b"/>
              <a:pathLst>
                <a:path w="384" h="1023">
                  <a:moveTo>
                    <a:pt x="84" y="0"/>
                  </a:moveTo>
                  <a:lnTo>
                    <a:pt x="127" y="96"/>
                  </a:lnTo>
                  <a:lnTo>
                    <a:pt x="53" y="203"/>
                  </a:lnTo>
                  <a:lnTo>
                    <a:pt x="11" y="307"/>
                  </a:lnTo>
                  <a:lnTo>
                    <a:pt x="0" y="445"/>
                  </a:lnTo>
                  <a:lnTo>
                    <a:pt x="11" y="591"/>
                  </a:lnTo>
                  <a:lnTo>
                    <a:pt x="31" y="760"/>
                  </a:lnTo>
                  <a:lnTo>
                    <a:pt x="127" y="1023"/>
                  </a:lnTo>
                  <a:lnTo>
                    <a:pt x="53" y="803"/>
                  </a:lnTo>
                  <a:lnTo>
                    <a:pt x="53" y="689"/>
                  </a:lnTo>
                  <a:lnTo>
                    <a:pt x="84" y="538"/>
                  </a:lnTo>
                  <a:lnTo>
                    <a:pt x="169" y="360"/>
                  </a:lnTo>
                  <a:lnTo>
                    <a:pt x="256" y="244"/>
                  </a:lnTo>
                  <a:lnTo>
                    <a:pt x="351" y="127"/>
                  </a:lnTo>
                  <a:lnTo>
                    <a:pt x="384" y="107"/>
                  </a:lnTo>
                  <a:lnTo>
                    <a:pt x="296" y="11"/>
                  </a:lnTo>
                  <a:lnTo>
                    <a:pt x="84"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93" name=""/>
            <p:cNvSpPr/>
            <p:nvPr/>
          </p:nvSpPr>
          <p:spPr>
            <a:xfrm>
              <a:off x="3486600" y="846720"/>
              <a:ext cx="28800" cy="151200"/>
            </a:xfrm>
            <a:custGeom>
              <a:avLst/>
              <a:gdLst/>
              <a:ahLst/>
              <a:rect l="l" t="t" r="r" b="b"/>
              <a:pathLst>
                <a:path w="416" h="2150">
                  <a:moveTo>
                    <a:pt x="43" y="0"/>
                  </a:moveTo>
                  <a:lnTo>
                    <a:pt x="159" y="231"/>
                  </a:lnTo>
                  <a:lnTo>
                    <a:pt x="214" y="442"/>
                  </a:lnTo>
                  <a:lnTo>
                    <a:pt x="225" y="662"/>
                  </a:lnTo>
                  <a:lnTo>
                    <a:pt x="214" y="915"/>
                  </a:lnTo>
                  <a:lnTo>
                    <a:pt x="159" y="1158"/>
                  </a:lnTo>
                  <a:lnTo>
                    <a:pt x="87" y="1284"/>
                  </a:lnTo>
                  <a:lnTo>
                    <a:pt x="0" y="1402"/>
                  </a:lnTo>
                  <a:lnTo>
                    <a:pt x="0" y="2150"/>
                  </a:lnTo>
                  <a:lnTo>
                    <a:pt x="129" y="2033"/>
                  </a:lnTo>
                  <a:lnTo>
                    <a:pt x="65" y="1830"/>
                  </a:lnTo>
                  <a:lnTo>
                    <a:pt x="203" y="1673"/>
                  </a:lnTo>
                  <a:lnTo>
                    <a:pt x="309" y="1506"/>
                  </a:lnTo>
                  <a:lnTo>
                    <a:pt x="372" y="1293"/>
                  </a:lnTo>
                  <a:lnTo>
                    <a:pt x="416" y="1073"/>
                  </a:lnTo>
                  <a:lnTo>
                    <a:pt x="416" y="873"/>
                  </a:lnTo>
                  <a:lnTo>
                    <a:pt x="383" y="631"/>
                  </a:lnTo>
                  <a:lnTo>
                    <a:pt x="320" y="432"/>
                  </a:lnTo>
                  <a:lnTo>
                    <a:pt x="236" y="260"/>
                  </a:lnTo>
                  <a:lnTo>
                    <a:pt x="159" y="144"/>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3438360" y="842040"/>
              <a:ext cx="40320" cy="59400"/>
            </a:xfrm>
            <a:custGeom>
              <a:avLst/>
              <a:gdLst/>
              <a:ahLst/>
              <a:rect l="l" t="t" r="r" b="b"/>
              <a:pathLst>
                <a:path w="573" h="841">
                  <a:moveTo>
                    <a:pt x="573" y="841"/>
                  </a:moveTo>
                  <a:lnTo>
                    <a:pt x="499" y="547"/>
                  </a:lnTo>
                  <a:lnTo>
                    <a:pt x="402" y="324"/>
                  </a:lnTo>
                  <a:lnTo>
                    <a:pt x="285" y="133"/>
                  </a:lnTo>
                  <a:lnTo>
                    <a:pt x="190" y="20"/>
                  </a:lnTo>
                  <a:lnTo>
                    <a:pt x="135" y="0"/>
                  </a:lnTo>
                  <a:lnTo>
                    <a:pt x="84" y="11"/>
                  </a:lnTo>
                  <a:lnTo>
                    <a:pt x="40" y="75"/>
                  </a:lnTo>
                  <a:lnTo>
                    <a:pt x="11" y="229"/>
                  </a:lnTo>
                  <a:lnTo>
                    <a:pt x="0" y="367"/>
                  </a:lnTo>
                  <a:lnTo>
                    <a:pt x="11" y="547"/>
                  </a:lnTo>
                  <a:lnTo>
                    <a:pt x="20" y="367"/>
                  </a:lnTo>
                  <a:lnTo>
                    <a:pt x="53" y="229"/>
                  </a:lnTo>
                  <a:lnTo>
                    <a:pt x="147" y="264"/>
                  </a:lnTo>
                  <a:lnTo>
                    <a:pt x="309" y="441"/>
                  </a:lnTo>
                  <a:lnTo>
                    <a:pt x="457" y="651"/>
                  </a:lnTo>
                  <a:lnTo>
                    <a:pt x="573" y="841"/>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695" name=""/>
            <p:cNvSpPr/>
            <p:nvPr/>
          </p:nvSpPr>
          <p:spPr>
            <a:xfrm>
              <a:off x="3367080" y="834120"/>
              <a:ext cx="79560" cy="246960"/>
            </a:xfrm>
            <a:custGeom>
              <a:avLst/>
              <a:gdLst/>
              <a:ahLst/>
              <a:rect l="l" t="t" r="r" b="b"/>
              <a:pathLst>
                <a:path w="1128" h="3499">
                  <a:moveTo>
                    <a:pt x="961" y="11"/>
                  </a:moveTo>
                  <a:lnTo>
                    <a:pt x="835" y="0"/>
                  </a:lnTo>
                  <a:lnTo>
                    <a:pt x="690" y="11"/>
                  </a:lnTo>
                  <a:lnTo>
                    <a:pt x="559" y="111"/>
                  </a:lnTo>
                  <a:lnTo>
                    <a:pt x="435" y="276"/>
                  </a:lnTo>
                  <a:lnTo>
                    <a:pt x="300" y="509"/>
                  </a:lnTo>
                  <a:lnTo>
                    <a:pt x="177" y="786"/>
                  </a:lnTo>
                  <a:lnTo>
                    <a:pt x="133" y="974"/>
                  </a:lnTo>
                  <a:lnTo>
                    <a:pt x="122" y="1173"/>
                  </a:lnTo>
                  <a:lnTo>
                    <a:pt x="146" y="1362"/>
                  </a:lnTo>
                  <a:lnTo>
                    <a:pt x="157" y="1538"/>
                  </a:lnTo>
                  <a:lnTo>
                    <a:pt x="133" y="1695"/>
                  </a:lnTo>
                  <a:lnTo>
                    <a:pt x="22" y="2215"/>
                  </a:lnTo>
                  <a:lnTo>
                    <a:pt x="22" y="2346"/>
                  </a:lnTo>
                  <a:lnTo>
                    <a:pt x="55" y="2511"/>
                  </a:lnTo>
                  <a:lnTo>
                    <a:pt x="55" y="2690"/>
                  </a:lnTo>
                  <a:lnTo>
                    <a:pt x="0" y="3177"/>
                  </a:lnTo>
                  <a:lnTo>
                    <a:pt x="0" y="3354"/>
                  </a:lnTo>
                  <a:lnTo>
                    <a:pt x="11" y="3499"/>
                  </a:lnTo>
                  <a:lnTo>
                    <a:pt x="31" y="3375"/>
                  </a:lnTo>
                  <a:lnTo>
                    <a:pt x="97" y="3242"/>
                  </a:lnTo>
                  <a:lnTo>
                    <a:pt x="209" y="3100"/>
                  </a:lnTo>
                  <a:lnTo>
                    <a:pt x="279" y="3032"/>
                  </a:lnTo>
                  <a:lnTo>
                    <a:pt x="426" y="2933"/>
                  </a:lnTo>
                  <a:lnTo>
                    <a:pt x="569" y="2857"/>
                  </a:lnTo>
                  <a:lnTo>
                    <a:pt x="781" y="2823"/>
                  </a:lnTo>
                  <a:lnTo>
                    <a:pt x="971" y="2823"/>
                  </a:lnTo>
                  <a:lnTo>
                    <a:pt x="813" y="2779"/>
                  </a:lnTo>
                  <a:lnTo>
                    <a:pt x="658" y="2766"/>
                  </a:lnTo>
                  <a:lnTo>
                    <a:pt x="535" y="2779"/>
                  </a:lnTo>
                  <a:lnTo>
                    <a:pt x="726" y="1993"/>
                  </a:lnTo>
                  <a:lnTo>
                    <a:pt x="882" y="2158"/>
                  </a:lnTo>
                  <a:lnTo>
                    <a:pt x="917" y="2246"/>
                  </a:lnTo>
                  <a:lnTo>
                    <a:pt x="917" y="2326"/>
                  </a:lnTo>
                  <a:lnTo>
                    <a:pt x="870" y="2380"/>
                  </a:lnTo>
                  <a:lnTo>
                    <a:pt x="804" y="2402"/>
                  </a:lnTo>
                  <a:lnTo>
                    <a:pt x="906" y="2424"/>
                  </a:lnTo>
                  <a:lnTo>
                    <a:pt x="993" y="2415"/>
                  </a:lnTo>
                  <a:lnTo>
                    <a:pt x="1061" y="2380"/>
                  </a:lnTo>
                  <a:lnTo>
                    <a:pt x="1105" y="2326"/>
                  </a:lnTo>
                  <a:lnTo>
                    <a:pt x="1128" y="2246"/>
                  </a:lnTo>
                  <a:lnTo>
                    <a:pt x="1128" y="2158"/>
                  </a:lnTo>
                  <a:lnTo>
                    <a:pt x="1071" y="2057"/>
                  </a:lnTo>
                  <a:lnTo>
                    <a:pt x="971" y="1946"/>
                  </a:lnTo>
                  <a:lnTo>
                    <a:pt x="604" y="1559"/>
                  </a:lnTo>
                  <a:lnTo>
                    <a:pt x="512" y="1417"/>
                  </a:lnTo>
                  <a:lnTo>
                    <a:pt x="426" y="1271"/>
                  </a:lnTo>
                  <a:lnTo>
                    <a:pt x="389" y="1118"/>
                  </a:lnTo>
                  <a:lnTo>
                    <a:pt x="368" y="985"/>
                  </a:lnTo>
                  <a:lnTo>
                    <a:pt x="400" y="938"/>
                  </a:lnTo>
                  <a:lnTo>
                    <a:pt x="480" y="1160"/>
                  </a:lnTo>
                  <a:lnTo>
                    <a:pt x="546" y="1317"/>
                  </a:lnTo>
                  <a:lnTo>
                    <a:pt x="648" y="1471"/>
                  </a:lnTo>
                  <a:lnTo>
                    <a:pt x="747" y="1582"/>
                  </a:lnTo>
                  <a:lnTo>
                    <a:pt x="893" y="1682"/>
                  </a:lnTo>
                  <a:lnTo>
                    <a:pt x="982" y="1737"/>
                  </a:lnTo>
                  <a:lnTo>
                    <a:pt x="870" y="1616"/>
                  </a:lnTo>
                  <a:lnTo>
                    <a:pt x="862" y="1527"/>
                  </a:lnTo>
                  <a:lnTo>
                    <a:pt x="739" y="1396"/>
                  </a:lnTo>
                  <a:lnTo>
                    <a:pt x="671" y="1262"/>
                  </a:lnTo>
                  <a:lnTo>
                    <a:pt x="624" y="1129"/>
                  </a:lnTo>
                  <a:lnTo>
                    <a:pt x="604" y="995"/>
                  </a:lnTo>
                  <a:lnTo>
                    <a:pt x="726" y="1151"/>
                  </a:lnTo>
                  <a:lnTo>
                    <a:pt x="835" y="1229"/>
                  </a:lnTo>
                  <a:lnTo>
                    <a:pt x="948" y="1284"/>
                  </a:lnTo>
                  <a:lnTo>
                    <a:pt x="846" y="1173"/>
                  </a:lnTo>
                  <a:lnTo>
                    <a:pt x="813" y="1018"/>
                  </a:lnTo>
                  <a:lnTo>
                    <a:pt x="793" y="818"/>
                  </a:lnTo>
                  <a:lnTo>
                    <a:pt x="793" y="610"/>
                  </a:lnTo>
                  <a:lnTo>
                    <a:pt x="826" y="387"/>
                  </a:lnTo>
                  <a:lnTo>
                    <a:pt x="906" y="121"/>
                  </a:lnTo>
                  <a:lnTo>
                    <a:pt x="9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
            <p:cNvSpPr/>
            <p:nvPr/>
          </p:nvSpPr>
          <p:spPr>
            <a:xfrm>
              <a:off x="3438360" y="947880"/>
              <a:ext cx="42480" cy="14400"/>
            </a:xfrm>
            <a:custGeom>
              <a:avLst/>
              <a:gdLst/>
              <a:ahLst/>
              <a:rect l="l" t="t" r="r" b="b"/>
              <a:pathLst>
                <a:path w="602" h="213">
                  <a:moveTo>
                    <a:pt x="99" y="176"/>
                  </a:moveTo>
                  <a:lnTo>
                    <a:pt x="222" y="213"/>
                  </a:lnTo>
                  <a:lnTo>
                    <a:pt x="357" y="213"/>
                  </a:lnTo>
                  <a:lnTo>
                    <a:pt x="493" y="189"/>
                  </a:lnTo>
                  <a:lnTo>
                    <a:pt x="602" y="122"/>
                  </a:lnTo>
                  <a:lnTo>
                    <a:pt x="524" y="0"/>
                  </a:lnTo>
                  <a:lnTo>
                    <a:pt x="413" y="89"/>
                  </a:lnTo>
                  <a:lnTo>
                    <a:pt x="302" y="122"/>
                  </a:lnTo>
                  <a:lnTo>
                    <a:pt x="180" y="134"/>
                  </a:lnTo>
                  <a:lnTo>
                    <a:pt x="0" y="134"/>
                  </a:lnTo>
                  <a:lnTo>
                    <a:pt x="99" y="17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97" name=""/>
            <p:cNvSpPr/>
            <p:nvPr/>
          </p:nvSpPr>
          <p:spPr>
            <a:xfrm>
              <a:off x="3456720" y="919080"/>
              <a:ext cx="142560" cy="150480"/>
            </a:xfrm>
            <a:custGeom>
              <a:avLst/>
              <a:gdLst/>
              <a:ahLst/>
              <a:rect l="l" t="t" r="r" b="b"/>
              <a:pathLst>
                <a:path w="2010" h="2128">
                  <a:moveTo>
                    <a:pt x="153" y="866"/>
                  </a:moveTo>
                  <a:lnTo>
                    <a:pt x="44" y="997"/>
                  </a:lnTo>
                  <a:lnTo>
                    <a:pt x="211" y="1306"/>
                  </a:lnTo>
                  <a:lnTo>
                    <a:pt x="277" y="1508"/>
                  </a:lnTo>
                  <a:lnTo>
                    <a:pt x="300" y="1618"/>
                  </a:lnTo>
                  <a:lnTo>
                    <a:pt x="324" y="1739"/>
                  </a:lnTo>
                  <a:lnTo>
                    <a:pt x="308" y="1863"/>
                  </a:lnTo>
                  <a:lnTo>
                    <a:pt x="300" y="1950"/>
                  </a:lnTo>
                  <a:lnTo>
                    <a:pt x="0" y="2060"/>
                  </a:lnTo>
                  <a:lnTo>
                    <a:pt x="289" y="1982"/>
                  </a:lnTo>
                  <a:lnTo>
                    <a:pt x="391" y="1972"/>
                  </a:lnTo>
                  <a:lnTo>
                    <a:pt x="491" y="1982"/>
                  </a:lnTo>
                  <a:lnTo>
                    <a:pt x="556" y="2016"/>
                  </a:lnTo>
                  <a:lnTo>
                    <a:pt x="601" y="2047"/>
                  </a:lnTo>
                  <a:lnTo>
                    <a:pt x="668" y="2116"/>
                  </a:lnTo>
                  <a:lnTo>
                    <a:pt x="882" y="2094"/>
                  </a:lnTo>
                  <a:lnTo>
                    <a:pt x="1497" y="2128"/>
                  </a:lnTo>
                  <a:lnTo>
                    <a:pt x="2010" y="2116"/>
                  </a:lnTo>
                  <a:lnTo>
                    <a:pt x="1261" y="2029"/>
                  </a:lnTo>
                  <a:lnTo>
                    <a:pt x="1363" y="1770"/>
                  </a:lnTo>
                  <a:lnTo>
                    <a:pt x="1081" y="1419"/>
                  </a:lnTo>
                  <a:lnTo>
                    <a:pt x="1317" y="1243"/>
                  </a:lnTo>
                  <a:lnTo>
                    <a:pt x="1183" y="1243"/>
                  </a:lnTo>
                  <a:lnTo>
                    <a:pt x="926" y="832"/>
                  </a:lnTo>
                  <a:lnTo>
                    <a:pt x="926" y="654"/>
                  </a:lnTo>
                  <a:lnTo>
                    <a:pt x="1486" y="0"/>
                  </a:lnTo>
                  <a:lnTo>
                    <a:pt x="413" y="1074"/>
                  </a:lnTo>
                  <a:lnTo>
                    <a:pt x="324" y="1452"/>
                  </a:lnTo>
                  <a:lnTo>
                    <a:pt x="277" y="1230"/>
                  </a:lnTo>
                  <a:lnTo>
                    <a:pt x="211" y="974"/>
                  </a:lnTo>
                  <a:lnTo>
                    <a:pt x="153" y="8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3368520" y="1055880"/>
              <a:ext cx="203400" cy="88920"/>
            </a:xfrm>
            <a:custGeom>
              <a:avLst/>
              <a:gdLst/>
              <a:ahLst/>
              <a:rect l="l" t="t" r="r" b="b"/>
              <a:pathLst>
                <a:path w="2883" h="1262">
                  <a:moveTo>
                    <a:pt x="0" y="454"/>
                  </a:moveTo>
                  <a:lnTo>
                    <a:pt x="67" y="920"/>
                  </a:lnTo>
                  <a:lnTo>
                    <a:pt x="100" y="986"/>
                  </a:lnTo>
                  <a:lnTo>
                    <a:pt x="200" y="1060"/>
                  </a:lnTo>
                  <a:lnTo>
                    <a:pt x="291" y="1084"/>
                  </a:lnTo>
                  <a:lnTo>
                    <a:pt x="615" y="1096"/>
                  </a:lnTo>
                  <a:lnTo>
                    <a:pt x="813" y="1153"/>
                  </a:lnTo>
                  <a:lnTo>
                    <a:pt x="949" y="1209"/>
                  </a:lnTo>
                  <a:lnTo>
                    <a:pt x="1028" y="1262"/>
                  </a:lnTo>
                  <a:lnTo>
                    <a:pt x="1240" y="1240"/>
                  </a:lnTo>
                  <a:lnTo>
                    <a:pt x="1406" y="1220"/>
                  </a:lnTo>
                  <a:lnTo>
                    <a:pt x="1597" y="1175"/>
                  </a:lnTo>
                  <a:lnTo>
                    <a:pt x="1777" y="1153"/>
                  </a:lnTo>
                  <a:lnTo>
                    <a:pt x="2012" y="1143"/>
                  </a:lnTo>
                  <a:lnTo>
                    <a:pt x="2883" y="1131"/>
                  </a:lnTo>
                  <a:lnTo>
                    <a:pt x="2839" y="952"/>
                  </a:lnTo>
                  <a:lnTo>
                    <a:pt x="2783" y="851"/>
                  </a:lnTo>
                  <a:lnTo>
                    <a:pt x="2739" y="776"/>
                  </a:lnTo>
                  <a:lnTo>
                    <a:pt x="2683" y="743"/>
                  </a:lnTo>
                  <a:lnTo>
                    <a:pt x="1913" y="633"/>
                  </a:lnTo>
                  <a:lnTo>
                    <a:pt x="1877" y="766"/>
                  </a:lnTo>
                  <a:lnTo>
                    <a:pt x="1866" y="907"/>
                  </a:lnTo>
                  <a:lnTo>
                    <a:pt x="1866" y="1031"/>
                  </a:lnTo>
                  <a:lnTo>
                    <a:pt x="1866" y="1120"/>
                  </a:lnTo>
                  <a:lnTo>
                    <a:pt x="1799" y="1107"/>
                  </a:lnTo>
                  <a:lnTo>
                    <a:pt x="1788" y="952"/>
                  </a:lnTo>
                  <a:lnTo>
                    <a:pt x="1799" y="766"/>
                  </a:lnTo>
                  <a:lnTo>
                    <a:pt x="1819" y="643"/>
                  </a:lnTo>
                  <a:lnTo>
                    <a:pt x="1866" y="489"/>
                  </a:lnTo>
                  <a:lnTo>
                    <a:pt x="1921" y="365"/>
                  </a:lnTo>
                  <a:lnTo>
                    <a:pt x="1819" y="410"/>
                  </a:lnTo>
                  <a:lnTo>
                    <a:pt x="1733" y="476"/>
                  </a:lnTo>
                  <a:lnTo>
                    <a:pt x="1666" y="554"/>
                  </a:lnTo>
                  <a:lnTo>
                    <a:pt x="1655" y="586"/>
                  </a:lnTo>
                  <a:lnTo>
                    <a:pt x="735" y="442"/>
                  </a:lnTo>
                  <a:lnTo>
                    <a:pt x="735" y="343"/>
                  </a:lnTo>
                  <a:lnTo>
                    <a:pt x="771" y="232"/>
                  </a:lnTo>
                  <a:lnTo>
                    <a:pt x="840" y="133"/>
                  </a:lnTo>
                  <a:lnTo>
                    <a:pt x="926" y="65"/>
                  </a:lnTo>
                  <a:lnTo>
                    <a:pt x="1093" y="0"/>
                  </a:lnTo>
                  <a:lnTo>
                    <a:pt x="840" y="23"/>
                  </a:lnTo>
                  <a:lnTo>
                    <a:pt x="558" y="99"/>
                  </a:lnTo>
                  <a:lnTo>
                    <a:pt x="378" y="201"/>
                  </a:lnTo>
                  <a:lnTo>
                    <a:pt x="247" y="311"/>
                  </a:lnTo>
                  <a:lnTo>
                    <a:pt x="135" y="489"/>
                  </a:lnTo>
                  <a:lnTo>
                    <a:pt x="75" y="618"/>
                  </a:lnTo>
                  <a:lnTo>
                    <a:pt x="0" y="45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99" name=""/>
            <p:cNvSpPr/>
            <p:nvPr/>
          </p:nvSpPr>
          <p:spPr>
            <a:xfrm>
              <a:off x="3570120" y="1046880"/>
              <a:ext cx="163080" cy="88920"/>
            </a:xfrm>
            <a:custGeom>
              <a:avLst/>
              <a:gdLst/>
              <a:ahLst/>
              <a:rect l="l" t="t" r="r" b="b"/>
              <a:pathLst>
                <a:path w="2306" h="1263">
                  <a:moveTo>
                    <a:pt x="125" y="1263"/>
                  </a:moveTo>
                  <a:lnTo>
                    <a:pt x="70" y="1163"/>
                  </a:lnTo>
                  <a:lnTo>
                    <a:pt x="34" y="1052"/>
                  </a:lnTo>
                  <a:lnTo>
                    <a:pt x="0" y="917"/>
                  </a:lnTo>
                  <a:lnTo>
                    <a:pt x="0" y="786"/>
                  </a:lnTo>
                  <a:lnTo>
                    <a:pt x="23" y="655"/>
                  </a:lnTo>
                  <a:lnTo>
                    <a:pt x="91" y="532"/>
                  </a:lnTo>
                  <a:lnTo>
                    <a:pt x="180" y="455"/>
                  </a:lnTo>
                  <a:lnTo>
                    <a:pt x="292" y="375"/>
                  </a:lnTo>
                  <a:lnTo>
                    <a:pt x="1131" y="0"/>
                  </a:lnTo>
                  <a:lnTo>
                    <a:pt x="1029" y="121"/>
                  </a:lnTo>
                  <a:lnTo>
                    <a:pt x="929" y="166"/>
                  </a:lnTo>
                  <a:lnTo>
                    <a:pt x="906" y="210"/>
                  </a:lnTo>
                  <a:lnTo>
                    <a:pt x="929" y="343"/>
                  </a:lnTo>
                  <a:lnTo>
                    <a:pt x="916" y="375"/>
                  </a:lnTo>
                  <a:lnTo>
                    <a:pt x="796" y="419"/>
                  </a:lnTo>
                  <a:lnTo>
                    <a:pt x="760" y="475"/>
                  </a:lnTo>
                  <a:lnTo>
                    <a:pt x="807" y="641"/>
                  </a:lnTo>
                  <a:lnTo>
                    <a:pt x="772" y="697"/>
                  </a:lnTo>
                  <a:lnTo>
                    <a:pt x="514" y="864"/>
                  </a:lnTo>
                  <a:lnTo>
                    <a:pt x="323" y="917"/>
                  </a:lnTo>
                  <a:lnTo>
                    <a:pt x="192" y="950"/>
                  </a:lnTo>
                  <a:lnTo>
                    <a:pt x="156" y="995"/>
                  </a:lnTo>
                  <a:lnTo>
                    <a:pt x="156" y="1039"/>
                  </a:lnTo>
                  <a:lnTo>
                    <a:pt x="718" y="1118"/>
                  </a:lnTo>
                  <a:lnTo>
                    <a:pt x="1143" y="1130"/>
                  </a:lnTo>
                  <a:lnTo>
                    <a:pt x="1298" y="1130"/>
                  </a:lnTo>
                  <a:lnTo>
                    <a:pt x="1365" y="1076"/>
                  </a:lnTo>
                  <a:lnTo>
                    <a:pt x="1018" y="864"/>
                  </a:lnTo>
                  <a:lnTo>
                    <a:pt x="1311" y="1019"/>
                  </a:lnTo>
                  <a:lnTo>
                    <a:pt x="1611" y="1118"/>
                  </a:lnTo>
                  <a:lnTo>
                    <a:pt x="1778" y="1052"/>
                  </a:lnTo>
                  <a:lnTo>
                    <a:pt x="1778" y="963"/>
                  </a:lnTo>
                  <a:lnTo>
                    <a:pt x="1454" y="739"/>
                  </a:lnTo>
                  <a:lnTo>
                    <a:pt x="1120" y="542"/>
                  </a:lnTo>
                  <a:lnTo>
                    <a:pt x="1543" y="730"/>
                  </a:lnTo>
                  <a:lnTo>
                    <a:pt x="1836" y="972"/>
                  </a:lnTo>
                  <a:lnTo>
                    <a:pt x="1935" y="917"/>
                  </a:lnTo>
                  <a:lnTo>
                    <a:pt x="1778" y="608"/>
                  </a:lnTo>
                  <a:lnTo>
                    <a:pt x="1243" y="241"/>
                  </a:lnTo>
                  <a:lnTo>
                    <a:pt x="1734" y="288"/>
                  </a:lnTo>
                  <a:lnTo>
                    <a:pt x="2204" y="750"/>
                  </a:lnTo>
                  <a:lnTo>
                    <a:pt x="2306" y="765"/>
                  </a:lnTo>
                  <a:lnTo>
                    <a:pt x="2215" y="807"/>
                  </a:lnTo>
                  <a:lnTo>
                    <a:pt x="2104" y="786"/>
                  </a:lnTo>
                  <a:lnTo>
                    <a:pt x="1734" y="475"/>
                  </a:lnTo>
                  <a:lnTo>
                    <a:pt x="1632" y="455"/>
                  </a:lnTo>
                  <a:lnTo>
                    <a:pt x="1812" y="608"/>
                  </a:lnTo>
                  <a:lnTo>
                    <a:pt x="2003" y="941"/>
                  </a:lnTo>
                  <a:lnTo>
                    <a:pt x="1946" y="1019"/>
                  </a:lnTo>
                  <a:lnTo>
                    <a:pt x="1867" y="1030"/>
                  </a:lnTo>
                  <a:lnTo>
                    <a:pt x="1791" y="1118"/>
                  </a:lnTo>
                  <a:lnTo>
                    <a:pt x="1656" y="1150"/>
                  </a:lnTo>
                  <a:lnTo>
                    <a:pt x="1465" y="1139"/>
                  </a:lnTo>
                  <a:lnTo>
                    <a:pt x="1400" y="1192"/>
                  </a:lnTo>
                  <a:lnTo>
                    <a:pt x="1274" y="1228"/>
                  </a:lnTo>
                  <a:lnTo>
                    <a:pt x="736" y="1216"/>
                  </a:lnTo>
                  <a:lnTo>
                    <a:pt x="305" y="1163"/>
                  </a:lnTo>
                  <a:lnTo>
                    <a:pt x="237" y="1239"/>
                  </a:lnTo>
                  <a:lnTo>
                    <a:pt x="180" y="1263"/>
                  </a:lnTo>
                  <a:lnTo>
                    <a:pt x="125" y="126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00" name=""/>
            <p:cNvSpPr/>
            <p:nvPr/>
          </p:nvSpPr>
          <p:spPr>
            <a:xfrm>
              <a:off x="3620880" y="877320"/>
              <a:ext cx="20880" cy="174960"/>
            </a:xfrm>
            <a:custGeom>
              <a:avLst/>
              <a:gdLst/>
              <a:ahLst/>
              <a:rect l="l" t="t" r="r" b="b"/>
              <a:pathLst>
                <a:path w="300" h="2480">
                  <a:moveTo>
                    <a:pt x="0" y="0"/>
                  </a:moveTo>
                  <a:lnTo>
                    <a:pt x="54" y="142"/>
                  </a:lnTo>
                  <a:lnTo>
                    <a:pt x="122" y="408"/>
                  </a:lnTo>
                  <a:lnTo>
                    <a:pt x="143" y="786"/>
                  </a:lnTo>
                  <a:lnTo>
                    <a:pt x="143" y="1336"/>
                  </a:lnTo>
                  <a:lnTo>
                    <a:pt x="178" y="1814"/>
                  </a:lnTo>
                  <a:lnTo>
                    <a:pt x="245" y="2258"/>
                  </a:lnTo>
                  <a:lnTo>
                    <a:pt x="300" y="2458"/>
                  </a:lnTo>
                  <a:lnTo>
                    <a:pt x="256" y="2480"/>
                  </a:lnTo>
                  <a:lnTo>
                    <a:pt x="188" y="2134"/>
                  </a:lnTo>
                  <a:lnTo>
                    <a:pt x="135" y="1758"/>
                  </a:lnTo>
                  <a:lnTo>
                    <a:pt x="112" y="1403"/>
                  </a:lnTo>
                  <a:lnTo>
                    <a:pt x="101" y="728"/>
                  </a:lnTo>
                  <a:lnTo>
                    <a:pt x="89" y="452"/>
                  </a:lnTo>
                  <a:lnTo>
                    <a:pt x="54"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a:off x="3683160" y="1069560"/>
              <a:ext cx="45720" cy="53640"/>
            </a:xfrm>
            <a:custGeom>
              <a:avLst/>
              <a:gdLst/>
              <a:ahLst/>
              <a:rect l="l" t="t" r="r" b="b"/>
              <a:pathLst>
                <a:path w="650" h="769">
                  <a:moveTo>
                    <a:pt x="0" y="0"/>
                  </a:moveTo>
                  <a:lnTo>
                    <a:pt x="526" y="676"/>
                  </a:lnTo>
                  <a:lnTo>
                    <a:pt x="650" y="769"/>
                  </a:lnTo>
                  <a:lnTo>
                    <a:pt x="593" y="622"/>
                  </a:lnTo>
                  <a:lnTo>
                    <a:pt x="379" y="327"/>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2" name=""/>
            <p:cNvSpPr/>
            <p:nvPr/>
          </p:nvSpPr>
          <p:spPr>
            <a:xfrm>
              <a:off x="3656880" y="1029960"/>
              <a:ext cx="22320" cy="23400"/>
            </a:xfrm>
            <a:custGeom>
              <a:avLst/>
              <a:gdLst/>
              <a:ahLst/>
              <a:rect l="l" t="t" r="r" b="b"/>
              <a:pathLst>
                <a:path w="320" h="328">
                  <a:moveTo>
                    <a:pt x="148" y="283"/>
                  </a:moveTo>
                  <a:lnTo>
                    <a:pt x="0" y="78"/>
                  </a:lnTo>
                  <a:lnTo>
                    <a:pt x="0" y="34"/>
                  </a:lnTo>
                  <a:lnTo>
                    <a:pt x="35" y="0"/>
                  </a:lnTo>
                  <a:lnTo>
                    <a:pt x="79" y="10"/>
                  </a:lnTo>
                  <a:lnTo>
                    <a:pt x="320" y="32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03" name=""/>
            <p:cNvSpPr/>
            <p:nvPr/>
          </p:nvSpPr>
          <p:spPr>
            <a:xfrm>
              <a:off x="3655440" y="1047600"/>
              <a:ext cx="77760" cy="49320"/>
            </a:xfrm>
            <a:custGeom>
              <a:avLst/>
              <a:gdLst/>
              <a:ahLst/>
              <a:rect l="l" t="t" r="r" b="b"/>
              <a:pathLst>
                <a:path w="1097" h="703">
                  <a:moveTo>
                    <a:pt x="0" y="0"/>
                  </a:moveTo>
                  <a:lnTo>
                    <a:pt x="709" y="114"/>
                  </a:lnTo>
                  <a:lnTo>
                    <a:pt x="1097" y="644"/>
                  </a:lnTo>
                  <a:lnTo>
                    <a:pt x="1097" y="703"/>
                  </a:lnTo>
                  <a:lnTo>
                    <a:pt x="1073" y="657"/>
                  </a:lnTo>
                  <a:lnTo>
                    <a:pt x="662" y="169"/>
                  </a:lnTo>
                  <a:lnTo>
                    <a:pt x="47" y="23"/>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04" name=""/>
            <p:cNvSpPr/>
            <p:nvPr/>
          </p:nvSpPr>
          <p:spPr>
            <a:xfrm>
              <a:off x="3662640" y="842760"/>
              <a:ext cx="79200" cy="210600"/>
            </a:xfrm>
            <a:custGeom>
              <a:avLst/>
              <a:gdLst/>
              <a:ahLst/>
              <a:rect l="l" t="t" r="r" b="b"/>
              <a:pathLst>
                <a:path w="1122" h="2984">
                  <a:moveTo>
                    <a:pt x="343" y="0"/>
                  </a:moveTo>
                  <a:lnTo>
                    <a:pt x="584" y="178"/>
                  </a:lnTo>
                  <a:lnTo>
                    <a:pt x="356" y="1366"/>
                  </a:lnTo>
                  <a:lnTo>
                    <a:pt x="183" y="1828"/>
                  </a:lnTo>
                  <a:lnTo>
                    <a:pt x="183" y="2135"/>
                  </a:lnTo>
                  <a:lnTo>
                    <a:pt x="0" y="2656"/>
                  </a:lnTo>
                  <a:lnTo>
                    <a:pt x="92" y="2575"/>
                  </a:lnTo>
                  <a:lnTo>
                    <a:pt x="309" y="2984"/>
                  </a:lnTo>
                  <a:lnTo>
                    <a:pt x="1122" y="2612"/>
                  </a:lnTo>
                  <a:lnTo>
                    <a:pt x="1018" y="2612"/>
                  </a:lnTo>
                  <a:lnTo>
                    <a:pt x="766" y="2703"/>
                  </a:lnTo>
                  <a:lnTo>
                    <a:pt x="629" y="2703"/>
                  </a:lnTo>
                  <a:lnTo>
                    <a:pt x="538" y="2612"/>
                  </a:lnTo>
                  <a:lnTo>
                    <a:pt x="560" y="2497"/>
                  </a:lnTo>
                  <a:lnTo>
                    <a:pt x="183" y="2362"/>
                  </a:lnTo>
                  <a:lnTo>
                    <a:pt x="241" y="2135"/>
                  </a:lnTo>
                  <a:lnTo>
                    <a:pt x="550" y="2385"/>
                  </a:lnTo>
                  <a:lnTo>
                    <a:pt x="867" y="2385"/>
                  </a:lnTo>
                  <a:lnTo>
                    <a:pt x="709" y="2339"/>
                  </a:lnTo>
                  <a:lnTo>
                    <a:pt x="319" y="1841"/>
                  </a:lnTo>
                  <a:lnTo>
                    <a:pt x="319" y="1593"/>
                  </a:lnTo>
                  <a:lnTo>
                    <a:pt x="629" y="1106"/>
                  </a:lnTo>
                  <a:lnTo>
                    <a:pt x="753" y="689"/>
                  </a:lnTo>
                  <a:lnTo>
                    <a:pt x="698" y="382"/>
                  </a:lnTo>
                  <a:lnTo>
                    <a:pt x="722" y="653"/>
                  </a:lnTo>
                  <a:lnTo>
                    <a:pt x="480" y="1030"/>
                  </a:lnTo>
                  <a:lnTo>
                    <a:pt x="616" y="169"/>
                  </a:lnTo>
                  <a:lnTo>
                    <a:pt x="3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5" name=""/>
            <p:cNvSpPr/>
            <p:nvPr/>
          </p:nvSpPr>
          <p:spPr>
            <a:xfrm>
              <a:off x="3696480" y="903240"/>
              <a:ext cx="52920" cy="64800"/>
            </a:xfrm>
            <a:custGeom>
              <a:avLst/>
              <a:gdLst/>
              <a:ahLst/>
              <a:rect l="l" t="t" r="r" b="b"/>
              <a:pathLst>
                <a:path w="751" h="915">
                  <a:moveTo>
                    <a:pt x="309" y="0"/>
                  </a:moveTo>
                  <a:lnTo>
                    <a:pt x="442" y="260"/>
                  </a:lnTo>
                  <a:lnTo>
                    <a:pt x="442" y="453"/>
                  </a:lnTo>
                  <a:lnTo>
                    <a:pt x="538" y="735"/>
                  </a:lnTo>
                  <a:lnTo>
                    <a:pt x="751" y="915"/>
                  </a:lnTo>
                  <a:lnTo>
                    <a:pt x="432" y="735"/>
                  </a:lnTo>
                  <a:lnTo>
                    <a:pt x="0" y="849"/>
                  </a:lnTo>
                  <a:lnTo>
                    <a:pt x="296" y="575"/>
                  </a:lnTo>
                  <a:lnTo>
                    <a:pt x="411" y="564"/>
                  </a:lnTo>
                  <a:lnTo>
                    <a:pt x="411" y="271"/>
                  </a:lnTo>
                  <a:lnTo>
                    <a:pt x="30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06" name=""/>
            <p:cNvSpPr/>
            <p:nvPr/>
          </p:nvSpPr>
          <p:spPr>
            <a:xfrm>
              <a:off x="3711240" y="976320"/>
              <a:ext cx="63360" cy="81000"/>
            </a:xfrm>
            <a:custGeom>
              <a:avLst/>
              <a:gdLst/>
              <a:ahLst/>
              <a:rect l="l" t="t" r="r" b="b"/>
              <a:pathLst>
                <a:path w="902" h="1143">
                  <a:moveTo>
                    <a:pt x="562" y="0"/>
                  </a:moveTo>
                  <a:lnTo>
                    <a:pt x="606" y="352"/>
                  </a:lnTo>
                  <a:lnTo>
                    <a:pt x="377" y="599"/>
                  </a:lnTo>
                  <a:lnTo>
                    <a:pt x="24" y="599"/>
                  </a:lnTo>
                  <a:lnTo>
                    <a:pt x="0" y="644"/>
                  </a:lnTo>
                  <a:lnTo>
                    <a:pt x="37" y="701"/>
                  </a:lnTo>
                  <a:lnTo>
                    <a:pt x="674" y="565"/>
                  </a:lnTo>
                  <a:lnTo>
                    <a:pt x="448" y="578"/>
                  </a:lnTo>
                  <a:lnTo>
                    <a:pt x="629" y="441"/>
                  </a:lnTo>
                  <a:lnTo>
                    <a:pt x="777" y="453"/>
                  </a:lnTo>
                  <a:lnTo>
                    <a:pt x="858" y="588"/>
                  </a:lnTo>
                  <a:lnTo>
                    <a:pt x="479" y="815"/>
                  </a:lnTo>
                  <a:lnTo>
                    <a:pt x="390" y="995"/>
                  </a:lnTo>
                  <a:lnTo>
                    <a:pt x="502" y="1143"/>
                  </a:lnTo>
                  <a:lnTo>
                    <a:pt x="708" y="745"/>
                  </a:lnTo>
                  <a:lnTo>
                    <a:pt x="902" y="621"/>
                  </a:lnTo>
                  <a:lnTo>
                    <a:pt x="871" y="432"/>
                  </a:lnTo>
                  <a:lnTo>
                    <a:pt x="661" y="375"/>
                  </a:lnTo>
                  <a:lnTo>
                    <a:pt x="56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7" name=""/>
            <p:cNvSpPr/>
            <p:nvPr/>
          </p:nvSpPr>
          <p:spPr>
            <a:xfrm>
              <a:off x="3705120" y="1017720"/>
              <a:ext cx="298800" cy="67680"/>
            </a:xfrm>
            <a:custGeom>
              <a:avLst/>
              <a:gdLst/>
              <a:ahLst/>
              <a:rect l="l" t="t" r="r" b="b"/>
              <a:pathLst>
                <a:path w="4238" h="962">
                  <a:moveTo>
                    <a:pt x="0" y="542"/>
                  </a:moveTo>
                  <a:lnTo>
                    <a:pt x="401" y="316"/>
                  </a:lnTo>
                  <a:lnTo>
                    <a:pt x="308" y="532"/>
                  </a:lnTo>
                  <a:lnTo>
                    <a:pt x="308" y="680"/>
                  </a:lnTo>
                  <a:lnTo>
                    <a:pt x="606" y="757"/>
                  </a:lnTo>
                  <a:lnTo>
                    <a:pt x="799" y="284"/>
                  </a:lnTo>
                  <a:lnTo>
                    <a:pt x="879" y="248"/>
                  </a:lnTo>
                  <a:lnTo>
                    <a:pt x="915" y="147"/>
                  </a:lnTo>
                  <a:lnTo>
                    <a:pt x="915" y="579"/>
                  </a:lnTo>
                  <a:lnTo>
                    <a:pt x="1017" y="712"/>
                  </a:lnTo>
                  <a:lnTo>
                    <a:pt x="1121" y="712"/>
                  </a:lnTo>
                  <a:lnTo>
                    <a:pt x="1074" y="488"/>
                  </a:lnTo>
                  <a:lnTo>
                    <a:pt x="1246" y="193"/>
                  </a:lnTo>
                  <a:lnTo>
                    <a:pt x="1347" y="147"/>
                  </a:lnTo>
                  <a:lnTo>
                    <a:pt x="1290" y="488"/>
                  </a:lnTo>
                  <a:lnTo>
                    <a:pt x="1474" y="702"/>
                  </a:lnTo>
                  <a:lnTo>
                    <a:pt x="1508" y="418"/>
                  </a:lnTo>
                  <a:lnTo>
                    <a:pt x="1568" y="295"/>
                  </a:lnTo>
                  <a:lnTo>
                    <a:pt x="1679" y="204"/>
                  </a:lnTo>
                  <a:lnTo>
                    <a:pt x="1599" y="327"/>
                  </a:lnTo>
                  <a:lnTo>
                    <a:pt x="1599" y="441"/>
                  </a:lnTo>
                  <a:lnTo>
                    <a:pt x="2101" y="464"/>
                  </a:lnTo>
                  <a:lnTo>
                    <a:pt x="2181" y="316"/>
                  </a:lnTo>
                  <a:lnTo>
                    <a:pt x="2274" y="193"/>
                  </a:lnTo>
                  <a:lnTo>
                    <a:pt x="3107" y="0"/>
                  </a:lnTo>
                  <a:lnTo>
                    <a:pt x="3758" y="126"/>
                  </a:lnTo>
                  <a:lnTo>
                    <a:pt x="3838" y="204"/>
                  </a:lnTo>
                  <a:lnTo>
                    <a:pt x="4238" y="453"/>
                  </a:lnTo>
                  <a:lnTo>
                    <a:pt x="4178" y="498"/>
                  </a:lnTo>
                  <a:lnTo>
                    <a:pt x="3962" y="453"/>
                  </a:lnTo>
                  <a:lnTo>
                    <a:pt x="4045" y="633"/>
                  </a:lnTo>
                  <a:lnTo>
                    <a:pt x="3975" y="633"/>
                  </a:lnTo>
                  <a:lnTo>
                    <a:pt x="3827" y="579"/>
                  </a:lnTo>
                  <a:lnTo>
                    <a:pt x="3975" y="611"/>
                  </a:lnTo>
                  <a:lnTo>
                    <a:pt x="3985" y="566"/>
                  </a:lnTo>
                  <a:lnTo>
                    <a:pt x="3769" y="170"/>
                  </a:lnTo>
                  <a:lnTo>
                    <a:pt x="3118" y="33"/>
                  </a:lnTo>
                  <a:lnTo>
                    <a:pt x="2672" y="157"/>
                  </a:lnTo>
                  <a:lnTo>
                    <a:pt x="2605" y="261"/>
                  </a:lnTo>
                  <a:lnTo>
                    <a:pt x="2571" y="295"/>
                  </a:lnTo>
                  <a:lnTo>
                    <a:pt x="2285" y="384"/>
                  </a:lnTo>
                  <a:lnTo>
                    <a:pt x="2545" y="542"/>
                  </a:lnTo>
                  <a:lnTo>
                    <a:pt x="2605" y="642"/>
                  </a:lnTo>
                  <a:lnTo>
                    <a:pt x="2605" y="702"/>
                  </a:lnTo>
                  <a:lnTo>
                    <a:pt x="2558" y="712"/>
                  </a:lnTo>
                  <a:lnTo>
                    <a:pt x="2192" y="621"/>
                  </a:lnTo>
                  <a:lnTo>
                    <a:pt x="2137" y="598"/>
                  </a:lnTo>
                  <a:lnTo>
                    <a:pt x="2148" y="691"/>
                  </a:lnTo>
                  <a:lnTo>
                    <a:pt x="2205" y="803"/>
                  </a:lnTo>
                  <a:lnTo>
                    <a:pt x="2274" y="826"/>
                  </a:lnTo>
                  <a:lnTo>
                    <a:pt x="2343" y="826"/>
                  </a:lnTo>
                  <a:lnTo>
                    <a:pt x="2446" y="769"/>
                  </a:lnTo>
                  <a:lnTo>
                    <a:pt x="2343" y="860"/>
                  </a:lnTo>
                  <a:lnTo>
                    <a:pt x="2236" y="871"/>
                  </a:lnTo>
                  <a:lnTo>
                    <a:pt x="1952" y="837"/>
                  </a:lnTo>
                  <a:lnTo>
                    <a:pt x="1654" y="826"/>
                  </a:lnTo>
                  <a:lnTo>
                    <a:pt x="1530" y="860"/>
                  </a:lnTo>
                  <a:lnTo>
                    <a:pt x="1290" y="915"/>
                  </a:lnTo>
                  <a:lnTo>
                    <a:pt x="570" y="962"/>
                  </a:lnTo>
                  <a:lnTo>
                    <a:pt x="401" y="892"/>
                  </a:lnTo>
                  <a:lnTo>
                    <a:pt x="273" y="892"/>
                  </a:lnTo>
                  <a:lnTo>
                    <a:pt x="0" y="54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708" name=""/>
            <p:cNvSpPr/>
            <p:nvPr/>
          </p:nvSpPr>
          <p:spPr>
            <a:xfrm>
              <a:off x="3774240" y="1020240"/>
              <a:ext cx="33120" cy="23760"/>
            </a:xfrm>
            <a:custGeom>
              <a:avLst/>
              <a:gdLst/>
              <a:ahLst/>
              <a:rect l="l" t="t" r="r" b="b"/>
              <a:pathLst>
                <a:path w="470" h="338">
                  <a:moveTo>
                    <a:pt x="67" y="0"/>
                  </a:moveTo>
                  <a:lnTo>
                    <a:pt x="67" y="137"/>
                  </a:lnTo>
                  <a:lnTo>
                    <a:pt x="0" y="338"/>
                  </a:lnTo>
                  <a:lnTo>
                    <a:pt x="250" y="80"/>
                  </a:lnTo>
                  <a:lnTo>
                    <a:pt x="470" y="36"/>
                  </a:lnTo>
                  <a:lnTo>
                    <a:pt x="276" y="0"/>
                  </a:lnTo>
                  <a:lnTo>
                    <a:pt x="182" y="56"/>
                  </a:lnTo>
                  <a:lnTo>
                    <a:pt x="6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09" name=""/>
            <p:cNvSpPr/>
            <p:nvPr/>
          </p:nvSpPr>
          <p:spPr>
            <a:xfrm>
              <a:off x="3813120" y="1022040"/>
              <a:ext cx="44280" cy="7560"/>
            </a:xfrm>
            <a:custGeom>
              <a:avLst/>
              <a:gdLst/>
              <a:ahLst/>
              <a:rect l="l" t="t" r="r" b="b"/>
              <a:pathLst>
                <a:path w="638" h="114">
                  <a:moveTo>
                    <a:pt x="0" y="0"/>
                  </a:moveTo>
                  <a:lnTo>
                    <a:pt x="207" y="114"/>
                  </a:lnTo>
                  <a:lnTo>
                    <a:pt x="400" y="46"/>
                  </a:lnTo>
                  <a:lnTo>
                    <a:pt x="638" y="70"/>
                  </a:lnTo>
                  <a:lnTo>
                    <a:pt x="378"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10" name=""/>
            <p:cNvSpPr/>
            <p:nvPr/>
          </p:nvSpPr>
          <p:spPr>
            <a:xfrm>
              <a:off x="3907800" y="1039320"/>
              <a:ext cx="71280" cy="42840"/>
            </a:xfrm>
            <a:custGeom>
              <a:avLst/>
              <a:gdLst/>
              <a:ahLst/>
              <a:rect l="l" t="t" r="r" b="b"/>
              <a:pathLst>
                <a:path w="1014" h="609">
                  <a:moveTo>
                    <a:pt x="1014" y="284"/>
                  </a:moveTo>
                  <a:lnTo>
                    <a:pt x="899" y="158"/>
                  </a:lnTo>
                  <a:lnTo>
                    <a:pt x="830" y="21"/>
                  </a:lnTo>
                  <a:lnTo>
                    <a:pt x="648" y="32"/>
                  </a:lnTo>
                  <a:lnTo>
                    <a:pt x="468" y="9"/>
                  </a:lnTo>
                  <a:lnTo>
                    <a:pt x="112" y="136"/>
                  </a:lnTo>
                  <a:lnTo>
                    <a:pt x="55" y="0"/>
                  </a:lnTo>
                  <a:lnTo>
                    <a:pt x="21" y="55"/>
                  </a:lnTo>
                  <a:lnTo>
                    <a:pt x="0" y="158"/>
                  </a:lnTo>
                  <a:lnTo>
                    <a:pt x="10" y="247"/>
                  </a:lnTo>
                  <a:lnTo>
                    <a:pt x="68" y="316"/>
                  </a:lnTo>
                  <a:lnTo>
                    <a:pt x="258" y="316"/>
                  </a:lnTo>
                  <a:lnTo>
                    <a:pt x="512" y="451"/>
                  </a:lnTo>
                  <a:lnTo>
                    <a:pt x="533" y="565"/>
                  </a:lnTo>
                  <a:lnTo>
                    <a:pt x="522" y="609"/>
                  </a:lnTo>
                  <a:lnTo>
                    <a:pt x="566" y="576"/>
                  </a:lnTo>
                  <a:lnTo>
                    <a:pt x="555" y="485"/>
                  </a:lnTo>
                  <a:lnTo>
                    <a:pt x="499" y="371"/>
                  </a:lnTo>
                  <a:lnTo>
                    <a:pt x="258" y="284"/>
                  </a:lnTo>
                  <a:lnTo>
                    <a:pt x="146" y="271"/>
                  </a:lnTo>
                  <a:lnTo>
                    <a:pt x="122" y="237"/>
                  </a:lnTo>
                  <a:lnTo>
                    <a:pt x="384" y="158"/>
                  </a:lnTo>
                  <a:lnTo>
                    <a:pt x="566" y="89"/>
                  </a:lnTo>
                  <a:lnTo>
                    <a:pt x="728" y="76"/>
                  </a:lnTo>
                  <a:lnTo>
                    <a:pt x="795" y="76"/>
                  </a:lnTo>
                  <a:lnTo>
                    <a:pt x="842" y="193"/>
                  </a:lnTo>
                  <a:lnTo>
                    <a:pt x="946" y="284"/>
                  </a:lnTo>
                  <a:lnTo>
                    <a:pt x="1014" y="28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11" name=""/>
            <p:cNvSpPr/>
            <p:nvPr/>
          </p:nvSpPr>
          <p:spPr>
            <a:xfrm>
              <a:off x="3894480" y="1068120"/>
              <a:ext cx="46440" cy="14040"/>
            </a:xfrm>
            <a:custGeom>
              <a:avLst/>
              <a:gdLst/>
              <a:ahLst/>
              <a:rect l="l" t="t" r="r" b="b"/>
              <a:pathLst>
                <a:path w="665" h="192">
                  <a:moveTo>
                    <a:pt x="0" y="57"/>
                  </a:moveTo>
                  <a:lnTo>
                    <a:pt x="320" y="68"/>
                  </a:lnTo>
                  <a:lnTo>
                    <a:pt x="538" y="114"/>
                  </a:lnTo>
                  <a:lnTo>
                    <a:pt x="665" y="192"/>
                  </a:lnTo>
                  <a:lnTo>
                    <a:pt x="655" y="159"/>
                  </a:lnTo>
                  <a:lnTo>
                    <a:pt x="493" y="57"/>
                  </a:lnTo>
                  <a:lnTo>
                    <a:pt x="366" y="0"/>
                  </a:lnTo>
                  <a:lnTo>
                    <a:pt x="262" y="0"/>
                  </a:lnTo>
                  <a:lnTo>
                    <a:pt x="0" y="34"/>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12" name=""/>
            <p:cNvSpPr/>
            <p:nvPr/>
          </p:nvSpPr>
          <p:spPr>
            <a:xfrm>
              <a:off x="3387960" y="1124640"/>
              <a:ext cx="309600" cy="75600"/>
            </a:xfrm>
            <a:custGeom>
              <a:avLst/>
              <a:gdLst/>
              <a:ahLst/>
              <a:rect l="l" t="t" r="r" b="b"/>
              <a:pathLst>
                <a:path w="4375" h="1073">
                  <a:moveTo>
                    <a:pt x="155" y="246"/>
                  </a:moveTo>
                  <a:lnTo>
                    <a:pt x="342" y="246"/>
                  </a:lnTo>
                  <a:lnTo>
                    <a:pt x="744" y="431"/>
                  </a:lnTo>
                  <a:lnTo>
                    <a:pt x="1457" y="307"/>
                  </a:lnTo>
                  <a:lnTo>
                    <a:pt x="1955" y="155"/>
                  </a:lnTo>
                  <a:lnTo>
                    <a:pt x="2701" y="155"/>
                  </a:lnTo>
                  <a:lnTo>
                    <a:pt x="2885" y="0"/>
                  </a:lnTo>
                  <a:lnTo>
                    <a:pt x="3477" y="62"/>
                  </a:lnTo>
                  <a:lnTo>
                    <a:pt x="4375" y="1073"/>
                  </a:lnTo>
                  <a:lnTo>
                    <a:pt x="311" y="1073"/>
                  </a:lnTo>
                  <a:lnTo>
                    <a:pt x="30" y="675"/>
                  </a:lnTo>
                  <a:lnTo>
                    <a:pt x="0" y="246"/>
                  </a:lnTo>
                  <a:lnTo>
                    <a:pt x="155" y="24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13" name=""/>
            <p:cNvSpPr/>
            <p:nvPr/>
          </p:nvSpPr>
          <p:spPr>
            <a:xfrm>
              <a:off x="3649680" y="1131120"/>
              <a:ext cx="6552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14" name=""/>
            <p:cNvSpPr/>
            <p:nvPr/>
          </p:nvSpPr>
          <p:spPr>
            <a:xfrm>
              <a:off x="3276720" y="970560"/>
              <a:ext cx="93600" cy="229680"/>
            </a:xfrm>
            <a:custGeom>
              <a:avLst/>
              <a:gdLst/>
              <a:ahLst/>
              <a:rect l="l" t="t" r="r" b="b"/>
              <a:pathLst>
                <a:path w="1335" h="3254">
                  <a:moveTo>
                    <a:pt x="435" y="3254"/>
                  </a:moveTo>
                  <a:lnTo>
                    <a:pt x="0" y="184"/>
                  </a:lnTo>
                  <a:lnTo>
                    <a:pt x="66" y="30"/>
                  </a:lnTo>
                  <a:lnTo>
                    <a:pt x="316" y="0"/>
                  </a:lnTo>
                  <a:lnTo>
                    <a:pt x="655" y="184"/>
                  </a:lnTo>
                  <a:lnTo>
                    <a:pt x="813" y="491"/>
                  </a:lnTo>
                  <a:lnTo>
                    <a:pt x="875" y="1015"/>
                  </a:lnTo>
                  <a:lnTo>
                    <a:pt x="875" y="1659"/>
                  </a:lnTo>
                  <a:lnTo>
                    <a:pt x="1000" y="2152"/>
                  </a:lnTo>
                  <a:lnTo>
                    <a:pt x="1091" y="2397"/>
                  </a:lnTo>
                  <a:lnTo>
                    <a:pt x="1122" y="2705"/>
                  </a:lnTo>
                  <a:lnTo>
                    <a:pt x="1122" y="2918"/>
                  </a:lnTo>
                  <a:lnTo>
                    <a:pt x="1335" y="3254"/>
                  </a:lnTo>
                  <a:lnTo>
                    <a:pt x="435" y="3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
            <p:cNvSpPr/>
            <p:nvPr/>
          </p:nvSpPr>
          <p:spPr>
            <a:xfrm>
              <a:off x="3307680" y="941040"/>
              <a:ext cx="74160" cy="19440"/>
            </a:xfrm>
            <a:custGeom>
              <a:avLst/>
              <a:gdLst/>
              <a:ahLst/>
              <a:rect l="l" t="t" r="r" b="b"/>
              <a:pathLst>
                <a:path w="1045" h="275">
                  <a:moveTo>
                    <a:pt x="0" y="275"/>
                  </a:moveTo>
                  <a:lnTo>
                    <a:pt x="398" y="148"/>
                  </a:lnTo>
                  <a:lnTo>
                    <a:pt x="700" y="62"/>
                  </a:lnTo>
                  <a:lnTo>
                    <a:pt x="1040" y="0"/>
                  </a:lnTo>
                  <a:lnTo>
                    <a:pt x="1045" y="91"/>
                  </a:lnTo>
                  <a:lnTo>
                    <a:pt x="558" y="197"/>
                  </a:lnTo>
                  <a:lnTo>
                    <a:pt x="0" y="27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716" name=""/>
            <p:cNvSpPr/>
            <p:nvPr/>
          </p:nvSpPr>
          <p:spPr>
            <a:xfrm>
              <a:off x="4141080" y="1072440"/>
              <a:ext cx="25200" cy="24480"/>
            </a:xfrm>
            <a:custGeom>
              <a:avLst/>
              <a:gdLst/>
              <a:ahLst/>
              <a:rect l="l" t="t" r="r" b="b"/>
              <a:pathLst>
                <a:path w="360" h="357">
                  <a:moveTo>
                    <a:pt x="360" y="180"/>
                  </a:moveTo>
                  <a:lnTo>
                    <a:pt x="356" y="145"/>
                  </a:lnTo>
                  <a:lnTo>
                    <a:pt x="347" y="116"/>
                  </a:lnTo>
                  <a:lnTo>
                    <a:pt x="336" y="88"/>
                  </a:lnTo>
                  <a:lnTo>
                    <a:pt x="318" y="60"/>
                  </a:lnTo>
                  <a:lnTo>
                    <a:pt x="294" y="40"/>
                  </a:lnTo>
                  <a:lnTo>
                    <a:pt x="269" y="22"/>
                  </a:lnTo>
                  <a:lnTo>
                    <a:pt x="240" y="9"/>
                  </a:lnTo>
                  <a:lnTo>
                    <a:pt x="207" y="1"/>
                  </a:lnTo>
                  <a:lnTo>
                    <a:pt x="176" y="0"/>
                  </a:lnTo>
                  <a:lnTo>
                    <a:pt x="144" y="3"/>
                  </a:lnTo>
                  <a:lnTo>
                    <a:pt x="114" y="11"/>
                  </a:lnTo>
                  <a:lnTo>
                    <a:pt x="87" y="27"/>
                  </a:lnTo>
                  <a:lnTo>
                    <a:pt x="60" y="44"/>
                  </a:lnTo>
                  <a:lnTo>
                    <a:pt x="38" y="67"/>
                  </a:lnTo>
                  <a:lnTo>
                    <a:pt x="21" y="96"/>
                  </a:lnTo>
                  <a:lnTo>
                    <a:pt x="9" y="122"/>
                  </a:lnTo>
                  <a:lnTo>
                    <a:pt x="2" y="153"/>
                  </a:lnTo>
                  <a:lnTo>
                    <a:pt x="0" y="187"/>
                  </a:lnTo>
                  <a:lnTo>
                    <a:pt x="4" y="217"/>
                  </a:lnTo>
                  <a:lnTo>
                    <a:pt x="15" y="249"/>
                  </a:lnTo>
                  <a:lnTo>
                    <a:pt x="29" y="274"/>
                  </a:lnTo>
                  <a:lnTo>
                    <a:pt x="49" y="300"/>
                  </a:lnTo>
                  <a:lnTo>
                    <a:pt x="71" y="320"/>
                  </a:lnTo>
                  <a:lnTo>
                    <a:pt x="102" y="338"/>
                  </a:lnTo>
                  <a:lnTo>
                    <a:pt x="129" y="351"/>
                  </a:lnTo>
                  <a:lnTo>
                    <a:pt x="160" y="355"/>
                  </a:lnTo>
                  <a:lnTo>
                    <a:pt x="191" y="357"/>
                  </a:lnTo>
                  <a:lnTo>
                    <a:pt x="224" y="353"/>
                  </a:lnTo>
                  <a:lnTo>
                    <a:pt x="254" y="342"/>
                  </a:lnTo>
                  <a:lnTo>
                    <a:pt x="282" y="325"/>
                  </a:lnTo>
                  <a:lnTo>
                    <a:pt x="307" y="306"/>
                  </a:lnTo>
                  <a:lnTo>
                    <a:pt x="328" y="282"/>
                  </a:lnTo>
                  <a:lnTo>
                    <a:pt x="343" y="255"/>
                  </a:lnTo>
                  <a:lnTo>
                    <a:pt x="353" y="226"/>
                  </a:lnTo>
                  <a:lnTo>
                    <a:pt x="358" y="196"/>
                  </a:lnTo>
                  <a:lnTo>
                    <a:pt x="360" y="18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17" name=""/>
            <p:cNvSpPr/>
            <p:nvPr/>
          </p:nvSpPr>
          <p:spPr>
            <a:xfrm>
              <a:off x="4134240" y="1068840"/>
              <a:ext cx="25920" cy="27360"/>
            </a:xfrm>
            <a:custGeom>
              <a:avLst/>
              <a:gdLst/>
              <a:ahLst/>
              <a:rect l="l" t="t" r="r" b="b"/>
              <a:pathLst>
                <a:path w="366" h="392">
                  <a:moveTo>
                    <a:pt x="366" y="70"/>
                  </a:moveTo>
                  <a:lnTo>
                    <a:pt x="269" y="24"/>
                  </a:lnTo>
                  <a:lnTo>
                    <a:pt x="242" y="11"/>
                  </a:lnTo>
                  <a:lnTo>
                    <a:pt x="210" y="2"/>
                  </a:lnTo>
                  <a:lnTo>
                    <a:pt x="178" y="0"/>
                  </a:lnTo>
                  <a:lnTo>
                    <a:pt x="144" y="2"/>
                  </a:lnTo>
                  <a:lnTo>
                    <a:pt x="117" y="13"/>
                  </a:lnTo>
                  <a:lnTo>
                    <a:pt x="87" y="26"/>
                  </a:lnTo>
                  <a:lnTo>
                    <a:pt x="62" y="46"/>
                  </a:lnTo>
                  <a:lnTo>
                    <a:pt x="40" y="68"/>
                  </a:lnTo>
                  <a:lnTo>
                    <a:pt x="24" y="95"/>
                  </a:lnTo>
                  <a:lnTo>
                    <a:pt x="11" y="124"/>
                  </a:lnTo>
                  <a:lnTo>
                    <a:pt x="2" y="155"/>
                  </a:lnTo>
                  <a:lnTo>
                    <a:pt x="0" y="186"/>
                  </a:lnTo>
                  <a:lnTo>
                    <a:pt x="7" y="219"/>
                  </a:lnTo>
                  <a:lnTo>
                    <a:pt x="15" y="248"/>
                  </a:lnTo>
                  <a:lnTo>
                    <a:pt x="31" y="275"/>
                  </a:lnTo>
                  <a:lnTo>
                    <a:pt x="51" y="301"/>
                  </a:lnTo>
                  <a:lnTo>
                    <a:pt x="75" y="320"/>
                  </a:lnTo>
                  <a:lnTo>
                    <a:pt x="211" y="392"/>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18" name=""/>
            <p:cNvSpPr/>
            <p:nvPr/>
          </p:nvSpPr>
          <p:spPr>
            <a:xfrm>
              <a:off x="4013280" y="1059480"/>
              <a:ext cx="164520" cy="60840"/>
            </a:xfrm>
            <a:custGeom>
              <a:avLst/>
              <a:gdLst/>
              <a:ahLst/>
              <a:rect l="l" t="t" r="r" b="b"/>
              <a:pathLst>
                <a:path w="2323" h="858">
                  <a:moveTo>
                    <a:pt x="2168" y="333"/>
                  </a:moveTo>
                  <a:lnTo>
                    <a:pt x="2270" y="282"/>
                  </a:lnTo>
                  <a:lnTo>
                    <a:pt x="2308" y="238"/>
                  </a:lnTo>
                  <a:lnTo>
                    <a:pt x="2323" y="180"/>
                  </a:lnTo>
                  <a:lnTo>
                    <a:pt x="2316" y="129"/>
                  </a:lnTo>
                  <a:lnTo>
                    <a:pt x="2278" y="64"/>
                  </a:lnTo>
                  <a:lnTo>
                    <a:pt x="2212" y="15"/>
                  </a:lnTo>
                  <a:lnTo>
                    <a:pt x="2148" y="0"/>
                  </a:lnTo>
                  <a:lnTo>
                    <a:pt x="2074" y="0"/>
                  </a:lnTo>
                  <a:lnTo>
                    <a:pt x="29" y="750"/>
                  </a:lnTo>
                  <a:lnTo>
                    <a:pt x="6" y="773"/>
                  </a:lnTo>
                  <a:lnTo>
                    <a:pt x="0" y="807"/>
                  </a:lnTo>
                  <a:lnTo>
                    <a:pt x="13" y="844"/>
                  </a:lnTo>
                  <a:lnTo>
                    <a:pt x="44" y="858"/>
                  </a:lnTo>
                  <a:lnTo>
                    <a:pt x="86" y="851"/>
                  </a:lnTo>
                  <a:lnTo>
                    <a:pt x="1803" y="462"/>
                  </a:lnTo>
                  <a:lnTo>
                    <a:pt x="1755" y="420"/>
                  </a:lnTo>
                  <a:lnTo>
                    <a:pt x="1732" y="384"/>
                  </a:lnTo>
                  <a:lnTo>
                    <a:pt x="1710" y="324"/>
                  </a:lnTo>
                  <a:lnTo>
                    <a:pt x="1710" y="273"/>
                  </a:lnTo>
                  <a:lnTo>
                    <a:pt x="1732" y="217"/>
                  </a:lnTo>
                  <a:lnTo>
                    <a:pt x="1770" y="166"/>
                  </a:lnTo>
                  <a:lnTo>
                    <a:pt x="1827" y="140"/>
                  </a:lnTo>
                  <a:lnTo>
                    <a:pt x="1877" y="124"/>
                  </a:lnTo>
                  <a:lnTo>
                    <a:pt x="1937" y="129"/>
                  </a:lnTo>
                  <a:lnTo>
                    <a:pt x="2104" y="217"/>
                  </a:lnTo>
                  <a:lnTo>
                    <a:pt x="2148" y="261"/>
                  </a:lnTo>
                  <a:lnTo>
                    <a:pt x="2168" y="309"/>
                  </a:lnTo>
                  <a:lnTo>
                    <a:pt x="2168" y="33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19" name=""/>
            <p:cNvSpPr/>
            <p:nvPr/>
          </p:nvSpPr>
          <p:spPr>
            <a:xfrm flipH="1" flipV="1">
              <a:off x="3945960" y="1081440"/>
              <a:ext cx="6840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720" name=""/>
            <p:cNvSpPr/>
            <p:nvPr/>
          </p:nvSpPr>
          <p:spPr>
            <a:xfrm>
              <a:off x="3986280" y="1017720"/>
              <a:ext cx="183600" cy="42840"/>
            </a:xfrm>
            <a:custGeom>
              <a:avLst/>
              <a:gdLst/>
              <a:ahLst/>
              <a:rect l="l" t="t" r="r" b="b"/>
              <a:pathLst>
                <a:path w="2592" h="611">
                  <a:moveTo>
                    <a:pt x="2592" y="611"/>
                  </a:moveTo>
                  <a:lnTo>
                    <a:pt x="1021" y="8"/>
                  </a:lnTo>
                  <a:lnTo>
                    <a:pt x="949" y="0"/>
                  </a:lnTo>
                  <a:lnTo>
                    <a:pt x="853" y="0"/>
                  </a:lnTo>
                  <a:lnTo>
                    <a:pt x="0" y="323"/>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1" name=""/>
            <p:cNvSpPr/>
            <p:nvPr/>
          </p:nvSpPr>
          <p:spPr>
            <a:xfrm flipV="1">
              <a:off x="3929040" y="1047240"/>
              <a:ext cx="38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22" name=""/>
            <p:cNvSpPr/>
            <p:nvPr/>
          </p:nvSpPr>
          <p:spPr>
            <a:xfrm>
              <a:off x="4091760" y="1098000"/>
              <a:ext cx="17280" cy="10440"/>
            </a:xfrm>
            <a:custGeom>
              <a:avLst/>
              <a:gdLst/>
              <a:ahLst/>
              <a:rect l="l" t="t" r="r" b="b"/>
              <a:pathLst>
                <a:path w="254" h="147">
                  <a:moveTo>
                    <a:pt x="0" y="73"/>
                  </a:moveTo>
                  <a:lnTo>
                    <a:pt x="254" y="147"/>
                  </a:lnTo>
                  <a:lnTo>
                    <a:pt x="254" y="0"/>
                  </a:lnTo>
                  <a:lnTo>
                    <a:pt x="0" y="7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723" name=""/>
            <p:cNvSpPr/>
            <p:nvPr/>
          </p:nvSpPr>
          <p:spPr>
            <a:xfrm>
              <a:off x="4109400" y="1098000"/>
              <a:ext cx="8280" cy="10440"/>
            </a:xfrm>
            <a:custGeom>
              <a:avLst/>
              <a:gdLst/>
              <a:ahLst/>
              <a:rect l="l" t="t" r="r" b="b"/>
              <a:pathLst>
                <a:path w="118" h="147">
                  <a:moveTo>
                    <a:pt x="0" y="147"/>
                  </a:moveTo>
                  <a:lnTo>
                    <a:pt x="118" y="133"/>
                  </a:lnTo>
                  <a:lnTo>
                    <a:pt x="118" y="0"/>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724" name=""/>
            <p:cNvSpPr/>
            <p:nvPr/>
          </p:nvSpPr>
          <p:spPr>
            <a:xfrm>
              <a:off x="4071240" y="842760"/>
              <a:ext cx="348480" cy="263160"/>
            </a:xfrm>
            <a:custGeom>
              <a:avLst/>
              <a:gdLst/>
              <a:ahLst/>
              <a:rect l="l" t="t" r="r" b="b"/>
              <a:pathLst>
                <a:path w="4929" h="3731">
                  <a:moveTo>
                    <a:pt x="0" y="2549"/>
                  </a:moveTo>
                  <a:lnTo>
                    <a:pt x="716" y="0"/>
                  </a:lnTo>
                  <a:lnTo>
                    <a:pt x="1876" y="0"/>
                  </a:lnTo>
                  <a:lnTo>
                    <a:pt x="2846" y="175"/>
                  </a:lnTo>
                  <a:lnTo>
                    <a:pt x="4929" y="1148"/>
                  </a:lnTo>
                  <a:lnTo>
                    <a:pt x="4925" y="3286"/>
                  </a:lnTo>
                  <a:lnTo>
                    <a:pt x="1075" y="3731"/>
                  </a:lnTo>
                  <a:lnTo>
                    <a:pt x="656" y="36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flipH="1">
              <a:off x="4158360" y="842760"/>
              <a:ext cx="44280" cy="21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4147920" y="1095480"/>
              <a:ext cx="18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727" name=""/>
            <p:cNvSpPr/>
            <p:nvPr/>
          </p:nvSpPr>
          <p:spPr>
            <a:xfrm flipH="1">
              <a:off x="4227840" y="854640"/>
              <a:ext cx="44280" cy="24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4088160" y="856800"/>
              <a:ext cx="93600" cy="182160"/>
            </a:xfrm>
            <a:custGeom>
              <a:avLst/>
              <a:gdLst/>
              <a:ahLst/>
              <a:rect l="l" t="t" r="r" b="b"/>
              <a:pathLst>
                <a:path w="1327" h="2579">
                  <a:moveTo>
                    <a:pt x="594" y="0"/>
                  </a:moveTo>
                  <a:lnTo>
                    <a:pt x="0" y="2330"/>
                  </a:lnTo>
                  <a:lnTo>
                    <a:pt x="774" y="2579"/>
                  </a:lnTo>
                  <a:lnTo>
                    <a:pt x="789" y="2508"/>
                  </a:lnTo>
                  <a:lnTo>
                    <a:pt x="207" y="2314"/>
                  </a:lnTo>
                  <a:lnTo>
                    <a:pt x="207" y="2077"/>
                  </a:lnTo>
                  <a:lnTo>
                    <a:pt x="269" y="1577"/>
                  </a:lnTo>
                  <a:lnTo>
                    <a:pt x="342" y="1162"/>
                  </a:lnTo>
                  <a:lnTo>
                    <a:pt x="446" y="797"/>
                  </a:lnTo>
                  <a:lnTo>
                    <a:pt x="567" y="457"/>
                  </a:lnTo>
                  <a:lnTo>
                    <a:pt x="683" y="193"/>
                  </a:lnTo>
                  <a:lnTo>
                    <a:pt x="757" y="86"/>
                  </a:lnTo>
                  <a:lnTo>
                    <a:pt x="1295" y="103"/>
                  </a:lnTo>
                  <a:lnTo>
                    <a:pt x="1327" y="0"/>
                  </a:lnTo>
                  <a:lnTo>
                    <a:pt x="5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4145760" y="856800"/>
              <a:ext cx="36360" cy="18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664800" y="1090080"/>
              <a:ext cx="304560" cy="88920"/>
            </a:xfrm>
            <a:custGeom>
              <a:avLst/>
              <a:gdLst/>
              <a:ahLst/>
              <a:rect l="l" t="t" r="r" b="b"/>
              <a:pathLst>
                <a:path w="4316" h="1260">
                  <a:moveTo>
                    <a:pt x="0" y="614"/>
                  </a:moveTo>
                  <a:lnTo>
                    <a:pt x="2329" y="1260"/>
                  </a:lnTo>
                  <a:lnTo>
                    <a:pt x="4316" y="553"/>
                  </a:lnTo>
                  <a:lnTo>
                    <a:pt x="2050" y="0"/>
                  </a:lnTo>
                  <a:lnTo>
                    <a:pt x="838" y="337"/>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2731" name=""/>
          <p:cNvGrpSpPr/>
          <p:nvPr/>
        </p:nvGrpSpPr>
        <p:grpSpPr>
          <a:xfrm>
            <a:off x="2666880" y="3200400"/>
            <a:ext cx="1371240" cy="1057320"/>
            <a:chOff x="2666880" y="3200400"/>
            <a:chExt cx="1371240" cy="1057320"/>
          </a:xfrm>
        </p:grpSpPr>
        <p:sp>
          <p:nvSpPr>
            <p:cNvPr id="2732" name=""/>
            <p:cNvSpPr/>
            <p:nvPr/>
          </p:nvSpPr>
          <p:spPr>
            <a:xfrm>
              <a:off x="3315240" y="3316320"/>
              <a:ext cx="655200" cy="709920"/>
            </a:xfrm>
            <a:custGeom>
              <a:avLst/>
              <a:gdLst/>
              <a:ahLst/>
              <a:rect l="l" t="t" r="r" b="b"/>
              <a:pathLst>
                <a:path w="6770" h="7343">
                  <a:moveTo>
                    <a:pt x="5043" y="7343"/>
                  </a:moveTo>
                  <a:lnTo>
                    <a:pt x="0" y="5722"/>
                  </a:lnTo>
                  <a:lnTo>
                    <a:pt x="0" y="5646"/>
                  </a:lnTo>
                  <a:lnTo>
                    <a:pt x="1210" y="5043"/>
                  </a:lnTo>
                  <a:lnTo>
                    <a:pt x="984" y="5043"/>
                  </a:lnTo>
                  <a:lnTo>
                    <a:pt x="984" y="4923"/>
                  </a:lnTo>
                  <a:lnTo>
                    <a:pt x="1783" y="4558"/>
                  </a:lnTo>
                  <a:lnTo>
                    <a:pt x="361" y="4558"/>
                  </a:lnTo>
                  <a:lnTo>
                    <a:pt x="361" y="0"/>
                  </a:lnTo>
                  <a:lnTo>
                    <a:pt x="5859" y="0"/>
                  </a:lnTo>
                  <a:lnTo>
                    <a:pt x="5859" y="4558"/>
                  </a:lnTo>
                  <a:lnTo>
                    <a:pt x="4533" y="4558"/>
                  </a:lnTo>
                  <a:lnTo>
                    <a:pt x="5295" y="4923"/>
                  </a:lnTo>
                  <a:lnTo>
                    <a:pt x="5295" y="5043"/>
                  </a:lnTo>
                  <a:lnTo>
                    <a:pt x="2635" y="5043"/>
                  </a:lnTo>
                  <a:lnTo>
                    <a:pt x="6770" y="6113"/>
                  </a:lnTo>
                  <a:lnTo>
                    <a:pt x="6770" y="6207"/>
                  </a:lnTo>
                  <a:lnTo>
                    <a:pt x="5043" y="73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3396600" y="3362760"/>
              <a:ext cx="440280" cy="346320"/>
            </a:xfrm>
            <a:prstGeom prst="rect">
              <a:avLst/>
            </a:pr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3749040" y="4077720"/>
              <a:ext cx="154800" cy="72360"/>
            </a:xfrm>
            <a:custGeom>
              <a:avLst/>
              <a:gdLst/>
              <a:ahLst/>
              <a:rect l="l" t="t" r="r" b="b"/>
              <a:pathLst>
                <a:path w="1595" h="742">
                  <a:moveTo>
                    <a:pt x="878" y="0"/>
                  </a:moveTo>
                  <a:lnTo>
                    <a:pt x="1339" y="0"/>
                  </a:lnTo>
                  <a:lnTo>
                    <a:pt x="1595" y="517"/>
                  </a:lnTo>
                  <a:lnTo>
                    <a:pt x="1534" y="742"/>
                  </a:lnTo>
                  <a:lnTo>
                    <a:pt x="0" y="742"/>
                  </a:lnTo>
                  <a:lnTo>
                    <a:pt x="0" y="529"/>
                  </a:lnTo>
                  <a:lnTo>
                    <a:pt x="878"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35" name=""/>
            <p:cNvSpPr/>
            <p:nvPr/>
          </p:nvSpPr>
          <p:spPr>
            <a:xfrm>
              <a:off x="3318120" y="3904560"/>
              <a:ext cx="208080" cy="105480"/>
            </a:xfrm>
            <a:custGeom>
              <a:avLst/>
              <a:gdLst/>
              <a:ahLst/>
              <a:rect l="l" t="t" r="r" b="b"/>
              <a:pathLst>
                <a:path w="2156" h="1089">
                  <a:moveTo>
                    <a:pt x="1834" y="1089"/>
                  </a:moveTo>
                  <a:lnTo>
                    <a:pt x="1868" y="961"/>
                  </a:lnTo>
                  <a:lnTo>
                    <a:pt x="1988" y="915"/>
                  </a:lnTo>
                  <a:lnTo>
                    <a:pt x="2156" y="869"/>
                  </a:lnTo>
                  <a:lnTo>
                    <a:pt x="2141" y="551"/>
                  </a:lnTo>
                  <a:lnTo>
                    <a:pt x="1700" y="0"/>
                  </a:lnTo>
                  <a:lnTo>
                    <a:pt x="486" y="0"/>
                  </a:lnTo>
                  <a:lnTo>
                    <a:pt x="0" y="274"/>
                  </a:lnTo>
                  <a:lnTo>
                    <a:pt x="1129" y="897"/>
                  </a:lnTo>
                  <a:lnTo>
                    <a:pt x="1505" y="961"/>
                  </a:lnTo>
                  <a:lnTo>
                    <a:pt x="1834" y="1089"/>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3679200" y="4010040"/>
              <a:ext cx="173160" cy="126720"/>
            </a:xfrm>
            <a:custGeom>
              <a:avLst/>
              <a:gdLst/>
              <a:ahLst/>
              <a:rect l="l" t="t" r="r" b="b"/>
              <a:pathLst>
                <a:path w="1785" h="1313">
                  <a:moveTo>
                    <a:pt x="1348" y="1303"/>
                  </a:moveTo>
                  <a:lnTo>
                    <a:pt x="1418" y="1208"/>
                  </a:lnTo>
                  <a:lnTo>
                    <a:pt x="1693" y="1313"/>
                  </a:lnTo>
                  <a:lnTo>
                    <a:pt x="1750" y="1313"/>
                  </a:lnTo>
                  <a:lnTo>
                    <a:pt x="1785" y="1286"/>
                  </a:lnTo>
                  <a:lnTo>
                    <a:pt x="1785" y="1149"/>
                  </a:lnTo>
                  <a:lnTo>
                    <a:pt x="1659" y="782"/>
                  </a:lnTo>
                  <a:lnTo>
                    <a:pt x="1121" y="327"/>
                  </a:lnTo>
                  <a:lnTo>
                    <a:pt x="358" y="0"/>
                  </a:lnTo>
                  <a:lnTo>
                    <a:pt x="0" y="187"/>
                  </a:lnTo>
                  <a:lnTo>
                    <a:pt x="0" y="924"/>
                  </a:lnTo>
                  <a:lnTo>
                    <a:pt x="380" y="1183"/>
                  </a:lnTo>
                  <a:lnTo>
                    <a:pt x="889" y="1223"/>
                  </a:lnTo>
                  <a:lnTo>
                    <a:pt x="1195" y="1313"/>
                  </a:lnTo>
                  <a:lnTo>
                    <a:pt x="1348" y="1303"/>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2666880" y="3478680"/>
              <a:ext cx="893160" cy="725400"/>
            </a:xfrm>
            <a:custGeom>
              <a:avLst/>
              <a:gdLst/>
              <a:ahLst/>
              <a:rect l="l" t="t" r="r" b="b"/>
              <a:pathLst>
                <a:path w="9227" h="7499">
                  <a:moveTo>
                    <a:pt x="8470" y="7073"/>
                  </a:moveTo>
                  <a:lnTo>
                    <a:pt x="8624" y="7073"/>
                  </a:lnTo>
                  <a:lnTo>
                    <a:pt x="8895" y="6908"/>
                  </a:lnTo>
                  <a:lnTo>
                    <a:pt x="9227" y="6135"/>
                  </a:lnTo>
                  <a:lnTo>
                    <a:pt x="9227" y="5853"/>
                  </a:lnTo>
                  <a:lnTo>
                    <a:pt x="8624" y="5711"/>
                  </a:lnTo>
                  <a:lnTo>
                    <a:pt x="6947" y="4816"/>
                  </a:lnTo>
                  <a:lnTo>
                    <a:pt x="6947" y="4539"/>
                  </a:lnTo>
                  <a:lnTo>
                    <a:pt x="7188" y="4379"/>
                  </a:lnTo>
                  <a:lnTo>
                    <a:pt x="6785" y="4379"/>
                  </a:lnTo>
                  <a:lnTo>
                    <a:pt x="6471" y="4307"/>
                  </a:lnTo>
                  <a:lnTo>
                    <a:pt x="5750" y="4307"/>
                  </a:lnTo>
                  <a:lnTo>
                    <a:pt x="5109" y="3922"/>
                  </a:lnTo>
                  <a:lnTo>
                    <a:pt x="4894" y="3343"/>
                  </a:lnTo>
                  <a:lnTo>
                    <a:pt x="4484" y="3151"/>
                  </a:lnTo>
                  <a:lnTo>
                    <a:pt x="4176" y="2280"/>
                  </a:lnTo>
                  <a:lnTo>
                    <a:pt x="4176" y="1971"/>
                  </a:lnTo>
                  <a:lnTo>
                    <a:pt x="3974" y="1414"/>
                  </a:lnTo>
                  <a:lnTo>
                    <a:pt x="3770" y="1226"/>
                  </a:lnTo>
                  <a:lnTo>
                    <a:pt x="3661" y="968"/>
                  </a:lnTo>
                  <a:lnTo>
                    <a:pt x="3404" y="710"/>
                  </a:lnTo>
                  <a:lnTo>
                    <a:pt x="1841" y="0"/>
                  </a:lnTo>
                  <a:lnTo>
                    <a:pt x="1488" y="121"/>
                  </a:lnTo>
                  <a:lnTo>
                    <a:pt x="1434" y="381"/>
                  </a:lnTo>
                  <a:lnTo>
                    <a:pt x="1121" y="449"/>
                  </a:lnTo>
                  <a:lnTo>
                    <a:pt x="993" y="615"/>
                  </a:lnTo>
                  <a:lnTo>
                    <a:pt x="993" y="710"/>
                  </a:lnTo>
                  <a:lnTo>
                    <a:pt x="776" y="870"/>
                  </a:lnTo>
                  <a:lnTo>
                    <a:pt x="776" y="1056"/>
                  </a:lnTo>
                  <a:lnTo>
                    <a:pt x="352" y="1535"/>
                  </a:lnTo>
                  <a:lnTo>
                    <a:pt x="17" y="2519"/>
                  </a:lnTo>
                  <a:lnTo>
                    <a:pt x="0" y="3037"/>
                  </a:lnTo>
                  <a:lnTo>
                    <a:pt x="95" y="4019"/>
                  </a:lnTo>
                  <a:lnTo>
                    <a:pt x="95" y="4912"/>
                  </a:lnTo>
                  <a:lnTo>
                    <a:pt x="148" y="5126"/>
                  </a:lnTo>
                  <a:lnTo>
                    <a:pt x="462" y="5689"/>
                  </a:lnTo>
                  <a:lnTo>
                    <a:pt x="1232" y="6652"/>
                  </a:lnTo>
                  <a:lnTo>
                    <a:pt x="1454" y="7400"/>
                  </a:lnTo>
                  <a:lnTo>
                    <a:pt x="1604" y="7499"/>
                  </a:lnTo>
                  <a:lnTo>
                    <a:pt x="1841" y="7499"/>
                  </a:lnTo>
                  <a:lnTo>
                    <a:pt x="7114" y="6606"/>
                  </a:lnTo>
                  <a:lnTo>
                    <a:pt x="8105" y="6862"/>
                  </a:lnTo>
                  <a:lnTo>
                    <a:pt x="8470" y="70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2827440" y="3549600"/>
              <a:ext cx="194400" cy="227160"/>
            </a:xfrm>
            <a:custGeom>
              <a:avLst/>
              <a:gdLst/>
              <a:ahLst/>
              <a:rect l="l" t="t" r="r" b="b"/>
              <a:pathLst>
                <a:path w="2005" h="2354">
                  <a:moveTo>
                    <a:pt x="0" y="0"/>
                  </a:moveTo>
                  <a:lnTo>
                    <a:pt x="128" y="170"/>
                  </a:lnTo>
                  <a:lnTo>
                    <a:pt x="128" y="381"/>
                  </a:lnTo>
                  <a:lnTo>
                    <a:pt x="693" y="985"/>
                  </a:lnTo>
                  <a:lnTo>
                    <a:pt x="1047" y="985"/>
                  </a:lnTo>
                  <a:lnTo>
                    <a:pt x="1446" y="1552"/>
                  </a:lnTo>
                  <a:lnTo>
                    <a:pt x="1601" y="1156"/>
                  </a:lnTo>
                  <a:lnTo>
                    <a:pt x="1601" y="1434"/>
                  </a:lnTo>
                  <a:lnTo>
                    <a:pt x="1757" y="1928"/>
                  </a:lnTo>
                  <a:lnTo>
                    <a:pt x="1803" y="2209"/>
                  </a:lnTo>
                  <a:lnTo>
                    <a:pt x="2005" y="2354"/>
                  </a:lnTo>
                  <a:lnTo>
                    <a:pt x="1730" y="897"/>
                  </a:lnTo>
                  <a:lnTo>
                    <a:pt x="1580" y="825"/>
                  </a:lnTo>
                  <a:lnTo>
                    <a:pt x="1446" y="1223"/>
                  </a:lnTo>
                  <a:lnTo>
                    <a:pt x="1122" y="807"/>
                  </a:lnTo>
                  <a:lnTo>
                    <a:pt x="238" y="142"/>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
            <p:cNvSpPr/>
            <p:nvPr/>
          </p:nvSpPr>
          <p:spPr>
            <a:xfrm>
              <a:off x="2742120" y="3485520"/>
              <a:ext cx="80280" cy="95760"/>
            </a:xfrm>
            <a:custGeom>
              <a:avLst/>
              <a:gdLst/>
              <a:ahLst/>
              <a:rect l="l" t="t" r="r" b="b"/>
              <a:pathLst>
                <a:path w="828" h="983">
                  <a:moveTo>
                    <a:pt x="0" y="983"/>
                  </a:moveTo>
                  <a:lnTo>
                    <a:pt x="71" y="825"/>
                  </a:lnTo>
                  <a:lnTo>
                    <a:pt x="382" y="637"/>
                  </a:lnTo>
                  <a:lnTo>
                    <a:pt x="382" y="468"/>
                  </a:lnTo>
                  <a:lnTo>
                    <a:pt x="626" y="468"/>
                  </a:lnTo>
                  <a:lnTo>
                    <a:pt x="828" y="725"/>
                  </a:lnTo>
                  <a:lnTo>
                    <a:pt x="750" y="448"/>
                  </a:lnTo>
                  <a:lnTo>
                    <a:pt x="750" y="238"/>
                  </a:lnTo>
                  <a:lnTo>
                    <a:pt x="828" y="48"/>
                  </a:lnTo>
                  <a:lnTo>
                    <a:pt x="733" y="0"/>
                  </a:lnTo>
                  <a:lnTo>
                    <a:pt x="658" y="282"/>
                  </a:lnTo>
                  <a:lnTo>
                    <a:pt x="345" y="376"/>
                  </a:lnTo>
                  <a:lnTo>
                    <a:pt x="217" y="519"/>
                  </a:lnTo>
                  <a:lnTo>
                    <a:pt x="217" y="637"/>
                  </a:lnTo>
                  <a:lnTo>
                    <a:pt x="0" y="797"/>
                  </a:lnTo>
                  <a:lnTo>
                    <a:pt x="0" y="983"/>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2678400" y="3642120"/>
              <a:ext cx="851760" cy="561960"/>
            </a:xfrm>
            <a:custGeom>
              <a:avLst/>
              <a:gdLst/>
              <a:ahLst/>
              <a:rect l="l" t="t" r="r" b="b"/>
              <a:pathLst>
                <a:path w="8798" h="5808">
                  <a:moveTo>
                    <a:pt x="1118" y="0"/>
                  </a:moveTo>
                  <a:lnTo>
                    <a:pt x="841" y="330"/>
                  </a:lnTo>
                  <a:lnTo>
                    <a:pt x="841" y="471"/>
                  </a:lnTo>
                  <a:lnTo>
                    <a:pt x="2956" y="1132"/>
                  </a:lnTo>
                  <a:lnTo>
                    <a:pt x="2481" y="1274"/>
                  </a:lnTo>
                  <a:lnTo>
                    <a:pt x="2794" y="1391"/>
                  </a:lnTo>
                  <a:lnTo>
                    <a:pt x="3048" y="1620"/>
                  </a:lnTo>
                  <a:lnTo>
                    <a:pt x="3617" y="1620"/>
                  </a:lnTo>
                  <a:lnTo>
                    <a:pt x="2882" y="2097"/>
                  </a:lnTo>
                  <a:lnTo>
                    <a:pt x="4095" y="2376"/>
                  </a:lnTo>
                  <a:lnTo>
                    <a:pt x="3450" y="2798"/>
                  </a:lnTo>
                  <a:lnTo>
                    <a:pt x="5029" y="2635"/>
                  </a:lnTo>
                  <a:lnTo>
                    <a:pt x="5232" y="2656"/>
                  </a:lnTo>
                  <a:lnTo>
                    <a:pt x="5383" y="2848"/>
                  </a:lnTo>
                  <a:lnTo>
                    <a:pt x="5291" y="3221"/>
                  </a:lnTo>
                  <a:lnTo>
                    <a:pt x="5786" y="3221"/>
                  </a:lnTo>
                  <a:lnTo>
                    <a:pt x="6762" y="3645"/>
                  </a:lnTo>
                  <a:lnTo>
                    <a:pt x="7036" y="3530"/>
                  </a:lnTo>
                  <a:lnTo>
                    <a:pt x="7363" y="3505"/>
                  </a:lnTo>
                  <a:lnTo>
                    <a:pt x="7052" y="3807"/>
                  </a:lnTo>
                  <a:lnTo>
                    <a:pt x="7052" y="4089"/>
                  </a:lnTo>
                  <a:lnTo>
                    <a:pt x="6798" y="4490"/>
                  </a:lnTo>
                  <a:lnTo>
                    <a:pt x="7207" y="4184"/>
                  </a:lnTo>
                  <a:lnTo>
                    <a:pt x="7461" y="4184"/>
                  </a:lnTo>
                  <a:lnTo>
                    <a:pt x="7419" y="4324"/>
                  </a:lnTo>
                  <a:lnTo>
                    <a:pt x="7593" y="4629"/>
                  </a:lnTo>
                  <a:lnTo>
                    <a:pt x="7593" y="3998"/>
                  </a:lnTo>
                  <a:lnTo>
                    <a:pt x="7883" y="3721"/>
                  </a:lnTo>
                  <a:lnTo>
                    <a:pt x="8067" y="3807"/>
                  </a:lnTo>
                  <a:lnTo>
                    <a:pt x="7939" y="4444"/>
                  </a:lnTo>
                  <a:lnTo>
                    <a:pt x="8285" y="3930"/>
                  </a:lnTo>
                  <a:lnTo>
                    <a:pt x="8456" y="3974"/>
                  </a:lnTo>
                  <a:lnTo>
                    <a:pt x="8195" y="4938"/>
                  </a:lnTo>
                  <a:lnTo>
                    <a:pt x="8798" y="5171"/>
                  </a:lnTo>
                  <a:lnTo>
                    <a:pt x="8544" y="5382"/>
                  </a:lnTo>
                  <a:lnTo>
                    <a:pt x="8342" y="5382"/>
                  </a:lnTo>
                  <a:lnTo>
                    <a:pt x="7957" y="5217"/>
                  </a:lnTo>
                  <a:lnTo>
                    <a:pt x="7533" y="5217"/>
                  </a:lnTo>
                  <a:lnTo>
                    <a:pt x="7074" y="5127"/>
                  </a:lnTo>
                  <a:lnTo>
                    <a:pt x="4555" y="4650"/>
                  </a:lnTo>
                  <a:lnTo>
                    <a:pt x="3415" y="4869"/>
                  </a:lnTo>
                  <a:lnTo>
                    <a:pt x="3797" y="4585"/>
                  </a:lnTo>
                  <a:lnTo>
                    <a:pt x="3797" y="4232"/>
                  </a:lnTo>
                  <a:lnTo>
                    <a:pt x="2624" y="5243"/>
                  </a:lnTo>
                  <a:lnTo>
                    <a:pt x="3547" y="3998"/>
                  </a:lnTo>
                  <a:lnTo>
                    <a:pt x="3246" y="3736"/>
                  </a:lnTo>
                  <a:lnTo>
                    <a:pt x="2845" y="4419"/>
                  </a:lnTo>
                  <a:lnTo>
                    <a:pt x="2003" y="4938"/>
                  </a:lnTo>
                  <a:lnTo>
                    <a:pt x="2003" y="4585"/>
                  </a:lnTo>
                  <a:lnTo>
                    <a:pt x="1710" y="5287"/>
                  </a:lnTo>
                  <a:lnTo>
                    <a:pt x="1817" y="3788"/>
                  </a:lnTo>
                  <a:lnTo>
                    <a:pt x="1450" y="4184"/>
                  </a:lnTo>
                  <a:lnTo>
                    <a:pt x="1561" y="4629"/>
                  </a:lnTo>
                  <a:lnTo>
                    <a:pt x="1561" y="5570"/>
                  </a:lnTo>
                  <a:lnTo>
                    <a:pt x="2498" y="5337"/>
                  </a:lnTo>
                  <a:lnTo>
                    <a:pt x="1628" y="5808"/>
                  </a:lnTo>
                  <a:lnTo>
                    <a:pt x="1412" y="5808"/>
                  </a:lnTo>
                  <a:lnTo>
                    <a:pt x="1303" y="5690"/>
                  </a:lnTo>
                  <a:lnTo>
                    <a:pt x="1084" y="4986"/>
                  </a:lnTo>
                  <a:lnTo>
                    <a:pt x="296" y="3930"/>
                  </a:lnTo>
                  <a:lnTo>
                    <a:pt x="0" y="3317"/>
                  </a:lnTo>
                  <a:lnTo>
                    <a:pt x="326" y="3788"/>
                  </a:lnTo>
                  <a:lnTo>
                    <a:pt x="510" y="3877"/>
                  </a:lnTo>
                  <a:lnTo>
                    <a:pt x="222" y="3150"/>
                  </a:lnTo>
                  <a:lnTo>
                    <a:pt x="34" y="2868"/>
                  </a:lnTo>
                  <a:lnTo>
                    <a:pt x="529" y="2656"/>
                  </a:lnTo>
                  <a:lnTo>
                    <a:pt x="182" y="2427"/>
                  </a:lnTo>
                  <a:lnTo>
                    <a:pt x="529" y="2255"/>
                  </a:lnTo>
                  <a:lnTo>
                    <a:pt x="34" y="1795"/>
                  </a:lnTo>
                  <a:lnTo>
                    <a:pt x="380" y="1795"/>
                  </a:lnTo>
                  <a:lnTo>
                    <a:pt x="380" y="1088"/>
                  </a:lnTo>
                  <a:lnTo>
                    <a:pt x="697" y="330"/>
                  </a:lnTo>
                  <a:lnTo>
                    <a:pt x="1118"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3053160" y="3774960"/>
              <a:ext cx="181800" cy="149760"/>
            </a:xfrm>
            <a:custGeom>
              <a:avLst/>
              <a:gdLst/>
              <a:ahLst/>
              <a:rect l="l" t="t" r="r" b="b"/>
              <a:pathLst>
                <a:path w="1878" h="1552">
                  <a:moveTo>
                    <a:pt x="220" y="0"/>
                  </a:moveTo>
                  <a:lnTo>
                    <a:pt x="409" y="613"/>
                  </a:lnTo>
                  <a:lnTo>
                    <a:pt x="479" y="613"/>
                  </a:lnTo>
                  <a:lnTo>
                    <a:pt x="479" y="46"/>
                  </a:lnTo>
                  <a:lnTo>
                    <a:pt x="846" y="493"/>
                  </a:lnTo>
                  <a:lnTo>
                    <a:pt x="846" y="661"/>
                  </a:lnTo>
                  <a:lnTo>
                    <a:pt x="1273" y="987"/>
                  </a:lnTo>
                  <a:lnTo>
                    <a:pt x="1878" y="1292"/>
                  </a:lnTo>
                  <a:lnTo>
                    <a:pt x="1617" y="1552"/>
                  </a:lnTo>
                  <a:lnTo>
                    <a:pt x="828" y="964"/>
                  </a:lnTo>
                  <a:lnTo>
                    <a:pt x="187" y="588"/>
                  </a:lnTo>
                  <a:lnTo>
                    <a:pt x="0" y="0"/>
                  </a:lnTo>
                  <a:lnTo>
                    <a:pt x="22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2977560" y="3580560"/>
              <a:ext cx="106200" cy="259920"/>
            </a:xfrm>
            <a:custGeom>
              <a:avLst/>
              <a:gdLst/>
              <a:ahLst/>
              <a:rect l="l" t="t" r="r" b="b"/>
              <a:pathLst>
                <a:path w="1108" h="2690">
                  <a:moveTo>
                    <a:pt x="0" y="0"/>
                  </a:moveTo>
                  <a:lnTo>
                    <a:pt x="66" y="227"/>
                  </a:lnTo>
                  <a:lnTo>
                    <a:pt x="66" y="421"/>
                  </a:lnTo>
                  <a:lnTo>
                    <a:pt x="198" y="727"/>
                  </a:lnTo>
                  <a:lnTo>
                    <a:pt x="400" y="1643"/>
                  </a:lnTo>
                  <a:lnTo>
                    <a:pt x="441" y="2005"/>
                  </a:lnTo>
                  <a:lnTo>
                    <a:pt x="906" y="2526"/>
                  </a:lnTo>
                  <a:lnTo>
                    <a:pt x="1108" y="2690"/>
                  </a:lnTo>
                  <a:lnTo>
                    <a:pt x="688" y="1458"/>
                  </a:lnTo>
                  <a:lnTo>
                    <a:pt x="597" y="988"/>
                  </a:lnTo>
                  <a:lnTo>
                    <a:pt x="415" y="697"/>
                  </a:lnTo>
                  <a:lnTo>
                    <a:pt x="415" y="580"/>
                  </a:lnTo>
                  <a:lnTo>
                    <a:pt x="285" y="273"/>
                  </a:lnTo>
                  <a:lnTo>
                    <a:pt x="7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2983320" y="3602880"/>
              <a:ext cx="57960" cy="196200"/>
            </a:xfrm>
            <a:custGeom>
              <a:avLst/>
              <a:gdLst/>
              <a:ahLst/>
              <a:rect l="l" t="t" r="r" b="b"/>
              <a:pathLst>
                <a:path w="597" h="2032">
                  <a:moveTo>
                    <a:pt x="0" y="0"/>
                  </a:moveTo>
                  <a:lnTo>
                    <a:pt x="0" y="170"/>
                  </a:lnTo>
                  <a:lnTo>
                    <a:pt x="122" y="500"/>
                  </a:lnTo>
                  <a:lnTo>
                    <a:pt x="334" y="1416"/>
                  </a:lnTo>
                  <a:lnTo>
                    <a:pt x="383" y="1796"/>
                  </a:lnTo>
                  <a:lnTo>
                    <a:pt x="597" y="2032"/>
                  </a:lnTo>
                  <a:lnTo>
                    <a:pt x="433" y="1143"/>
                  </a:lnTo>
                  <a:lnTo>
                    <a:pt x="275" y="639"/>
                  </a:lnTo>
                  <a:lnTo>
                    <a:pt x="343" y="500"/>
                  </a:lnTo>
                  <a:lnTo>
                    <a:pt x="292" y="500"/>
                  </a:lnTo>
                  <a:lnTo>
                    <a:pt x="168" y="206"/>
                  </a:lnTo>
                  <a:lnTo>
                    <a:pt x="57" y="46"/>
                  </a:lnTo>
                  <a:lnTo>
                    <a:pt x="0"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2849760" y="3200400"/>
              <a:ext cx="241560" cy="82080"/>
            </a:xfrm>
            <a:custGeom>
              <a:avLst/>
              <a:gdLst/>
              <a:ahLst/>
              <a:rect l="l" t="t" r="r" b="b"/>
              <a:pathLst>
                <a:path w="2503" h="843">
                  <a:moveTo>
                    <a:pt x="2503" y="656"/>
                  </a:moveTo>
                  <a:lnTo>
                    <a:pt x="2249" y="408"/>
                  </a:lnTo>
                  <a:lnTo>
                    <a:pt x="1610" y="124"/>
                  </a:lnTo>
                  <a:lnTo>
                    <a:pt x="1005" y="0"/>
                  </a:lnTo>
                  <a:lnTo>
                    <a:pt x="412" y="0"/>
                  </a:lnTo>
                  <a:lnTo>
                    <a:pt x="0" y="308"/>
                  </a:lnTo>
                  <a:lnTo>
                    <a:pt x="1013" y="729"/>
                  </a:lnTo>
                  <a:lnTo>
                    <a:pt x="1355" y="570"/>
                  </a:lnTo>
                  <a:lnTo>
                    <a:pt x="2051" y="843"/>
                  </a:lnTo>
                  <a:lnTo>
                    <a:pt x="2469" y="756"/>
                  </a:lnTo>
                  <a:lnTo>
                    <a:pt x="2503" y="656"/>
                  </a:lnTo>
                  <a:close/>
                </a:path>
              </a:pathLst>
            </a:custGeom>
            <a:solidFill>
              <a:srgbClr val="70230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45" name=""/>
            <p:cNvSpPr/>
            <p:nvPr/>
          </p:nvSpPr>
          <p:spPr>
            <a:xfrm>
              <a:off x="3061440" y="3477960"/>
              <a:ext cx="12600" cy="7560"/>
            </a:xfrm>
            <a:custGeom>
              <a:avLst/>
              <a:gdLst/>
              <a:ahLst/>
              <a:rect l="l" t="t" r="r" b="b"/>
              <a:pathLst>
                <a:path w="139" h="82">
                  <a:moveTo>
                    <a:pt x="139" y="0"/>
                  </a:moveTo>
                  <a:lnTo>
                    <a:pt x="139" y="82"/>
                  </a:lnTo>
                  <a:lnTo>
                    <a:pt x="0" y="82"/>
                  </a:lnTo>
                  <a:lnTo>
                    <a:pt x="139"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46" name=""/>
            <p:cNvSpPr/>
            <p:nvPr/>
          </p:nvSpPr>
          <p:spPr>
            <a:xfrm>
              <a:off x="2856240" y="3324240"/>
              <a:ext cx="254520" cy="248400"/>
            </a:xfrm>
            <a:custGeom>
              <a:avLst/>
              <a:gdLst/>
              <a:ahLst/>
              <a:rect l="l" t="t" r="r" b="b"/>
              <a:pathLst>
                <a:path w="2634" h="2562">
                  <a:moveTo>
                    <a:pt x="2505" y="519"/>
                  </a:moveTo>
                  <a:lnTo>
                    <a:pt x="2344" y="0"/>
                  </a:lnTo>
                  <a:lnTo>
                    <a:pt x="321" y="531"/>
                  </a:lnTo>
                  <a:lnTo>
                    <a:pt x="0" y="1743"/>
                  </a:lnTo>
                  <a:lnTo>
                    <a:pt x="375" y="1941"/>
                  </a:lnTo>
                  <a:lnTo>
                    <a:pt x="786" y="2295"/>
                  </a:lnTo>
                  <a:lnTo>
                    <a:pt x="1228" y="2562"/>
                  </a:lnTo>
                  <a:lnTo>
                    <a:pt x="1396" y="2326"/>
                  </a:lnTo>
                  <a:lnTo>
                    <a:pt x="2093" y="2326"/>
                  </a:lnTo>
                  <a:lnTo>
                    <a:pt x="2213" y="2171"/>
                  </a:lnTo>
                  <a:lnTo>
                    <a:pt x="2213" y="2029"/>
                  </a:lnTo>
                  <a:lnTo>
                    <a:pt x="2182" y="1913"/>
                  </a:lnTo>
                  <a:lnTo>
                    <a:pt x="2282" y="1755"/>
                  </a:lnTo>
                  <a:lnTo>
                    <a:pt x="2282" y="1671"/>
                  </a:lnTo>
                  <a:lnTo>
                    <a:pt x="2118" y="1671"/>
                  </a:lnTo>
                  <a:lnTo>
                    <a:pt x="2333" y="1530"/>
                  </a:lnTo>
                  <a:lnTo>
                    <a:pt x="2382" y="1304"/>
                  </a:lnTo>
                  <a:lnTo>
                    <a:pt x="2516" y="1234"/>
                  </a:lnTo>
                  <a:lnTo>
                    <a:pt x="2625" y="1210"/>
                  </a:lnTo>
                  <a:lnTo>
                    <a:pt x="2634" y="1170"/>
                  </a:lnTo>
                  <a:lnTo>
                    <a:pt x="2616" y="1096"/>
                  </a:lnTo>
                  <a:lnTo>
                    <a:pt x="2382" y="671"/>
                  </a:lnTo>
                  <a:lnTo>
                    <a:pt x="2362" y="635"/>
                  </a:lnTo>
                  <a:lnTo>
                    <a:pt x="2454" y="547"/>
                  </a:lnTo>
                  <a:lnTo>
                    <a:pt x="2505" y="519"/>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3465360" y="3634560"/>
              <a:ext cx="36720" cy="2232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48" name=""/>
            <p:cNvSpPr/>
            <p:nvPr/>
          </p:nvSpPr>
          <p:spPr>
            <a:xfrm>
              <a:off x="3502080" y="3646080"/>
              <a:ext cx="36360" cy="10440"/>
            </a:xfrm>
            <a:prstGeom prst="rect">
              <a:avLst/>
            </a:prstGeom>
            <a:solidFill>
              <a:srgbClr val="00ea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749" name=""/>
            <p:cNvSpPr/>
            <p:nvPr/>
          </p:nvSpPr>
          <p:spPr>
            <a:xfrm>
              <a:off x="3538800" y="3616200"/>
              <a:ext cx="36720" cy="40680"/>
            </a:xfrm>
            <a:prstGeom prst="rect">
              <a:avLst/>
            </a:prstGeom>
            <a:solidFill>
              <a:srgbClr val="ff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50" name=""/>
            <p:cNvSpPr/>
            <p:nvPr/>
          </p:nvSpPr>
          <p:spPr>
            <a:xfrm>
              <a:off x="3575880" y="3604680"/>
              <a:ext cx="36360" cy="52200"/>
            </a:xfrm>
            <a:prstGeom prst="rect">
              <a:avLst/>
            </a:prstGeom>
            <a:solidFill>
              <a:srgbClr val="00ea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1" name=""/>
            <p:cNvSpPr/>
            <p:nvPr/>
          </p:nvSpPr>
          <p:spPr>
            <a:xfrm>
              <a:off x="3612240" y="3640680"/>
              <a:ext cx="36720" cy="16200"/>
            </a:xfrm>
            <a:prstGeom prst="rect">
              <a:avLst/>
            </a:prstGeom>
            <a:solidFill>
              <a:srgbClr val="ff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52" name=""/>
            <p:cNvSpPr/>
            <p:nvPr/>
          </p:nvSpPr>
          <p:spPr>
            <a:xfrm>
              <a:off x="3649320" y="3539880"/>
              <a:ext cx="36720" cy="117000"/>
            </a:xfrm>
            <a:prstGeom prst="rect">
              <a:avLst/>
            </a:pr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
            <p:cNvSpPr/>
            <p:nvPr/>
          </p:nvSpPr>
          <p:spPr>
            <a:xfrm>
              <a:off x="3686040" y="3422520"/>
              <a:ext cx="36360" cy="234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3722760" y="3440160"/>
              <a:ext cx="36720" cy="216720"/>
            </a:xfrm>
            <a:prstGeom prst="rect">
              <a:avLst/>
            </a:pr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3759480" y="3428640"/>
              <a:ext cx="36360" cy="228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3460320" y="3416040"/>
              <a:ext cx="18360" cy="12240"/>
            </a:xfrm>
            <a:prstGeom prst="rect">
              <a:avLst/>
            </a:prstGeom>
            <a:solidFill>
              <a:srgbClr val="00ea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757" name=""/>
            <p:cNvSpPr/>
            <p:nvPr/>
          </p:nvSpPr>
          <p:spPr>
            <a:xfrm>
              <a:off x="3460320" y="3440160"/>
              <a:ext cx="18360" cy="11520"/>
            </a:xfrm>
            <a:prstGeom prst="rect">
              <a:avLst/>
            </a:prstGeom>
            <a:solidFill>
              <a:srgbClr val="ff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58" name=""/>
            <p:cNvSpPr/>
            <p:nvPr/>
          </p:nvSpPr>
          <p:spPr>
            <a:xfrm>
              <a:off x="3077280" y="3423600"/>
              <a:ext cx="33480" cy="31680"/>
            </a:xfrm>
            <a:custGeom>
              <a:avLst/>
              <a:gdLst/>
              <a:ahLst/>
              <a:rect l="l" t="t" r="r" b="b"/>
              <a:pathLst>
                <a:path w="352" h="326">
                  <a:moveTo>
                    <a:pt x="128" y="0"/>
                  </a:moveTo>
                  <a:lnTo>
                    <a:pt x="192" y="120"/>
                  </a:lnTo>
                  <a:lnTo>
                    <a:pt x="91" y="120"/>
                  </a:lnTo>
                  <a:lnTo>
                    <a:pt x="91" y="266"/>
                  </a:lnTo>
                  <a:lnTo>
                    <a:pt x="215" y="198"/>
                  </a:lnTo>
                  <a:lnTo>
                    <a:pt x="352" y="198"/>
                  </a:lnTo>
                  <a:lnTo>
                    <a:pt x="352" y="222"/>
                  </a:lnTo>
                  <a:lnTo>
                    <a:pt x="308" y="240"/>
                  </a:lnTo>
                  <a:lnTo>
                    <a:pt x="228" y="256"/>
                  </a:lnTo>
                  <a:lnTo>
                    <a:pt x="122" y="326"/>
                  </a:lnTo>
                  <a:lnTo>
                    <a:pt x="91" y="326"/>
                  </a:lnTo>
                  <a:lnTo>
                    <a:pt x="0" y="240"/>
                  </a:lnTo>
                  <a:lnTo>
                    <a:pt x="47" y="105"/>
                  </a:lnTo>
                  <a:lnTo>
                    <a:pt x="100" y="84"/>
                  </a:lnTo>
                  <a:lnTo>
                    <a:pt x="12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59" name=""/>
            <p:cNvSpPr/>
            <p:nvPr/>
          </p:nvSpPr>
          <p:spPr>
            <a:xfrm>
              <a:off x="3070440" y="3487680"/>
              <a:ext cx="10440" cy="20160"/>
            </a:xfrm>
            <a:custGeom>
              <a:avLst/>
              <a:gdLst/>
              <a:ahLst/>
              <a:rect l="l" t="t" r="r" b="b"/>
              <a:pathLst>
                <a:path w="107" h="203">
                  <a:moveTo>
                    <a:pt x="53" y="0"/>
                  </a:moveTo>
                  <a:lnTo>
                    <a:pt x="53" y="67"/>
                  </a:lnTo>
                  <a:lnTo>
                    <a:pt x="0" y="203"/>
                  </a:lnTo>
                  <a:lnTo>
                    <a:pt x="107" y="67"/>
                  </a:lnTo>
                  <a:lnTo>
                    <a:pt x="107" y="0"/>
                  </a:lnTo>
                  <a:lnTo>
                    <a:pt x="53"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760" name=""/>
            <p:cNvSpPr/>
            <p:nvPr/>
          </p:nvSpPr>
          <p:spPr>
            <a:xfrm>
              <a:off x="3062880" y="3474000"/>
              <a:ext cx="23040" cy="13320"/>
            </a:xfrm>
            <a:custGeom>
              <a:avLst/>
              <a:gdLst/>
              <a:ahLst/>
              <a:rect l="l" t="t" r="r" b="b"/>
              <a:pathLst>
                <a:path w="235" h="141">
                  <a:moveTo>
                    <a:pt x="137" y="141"/>
                  </a:moveTo>
                  <a:lnTo>
                    <a:pt x="0" y="141"/>
                  </a:lnTo>
                  <a:lnTo>
                    <a:pt x="235"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61" name=""/>
            <p:cNvSpPr/>
            <p:nvPr/>
          </p:nvSpPr>
          <p:spPr>
            <a:xfrm flipV="1">
              <a:off x="3076200" y="348156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62" name=""/>
            <p:cNvSpPr/>
            <p:nvPr/>
          </p:nvSpPr>
          <p:spPr>
            <a:xfrm>
              <a:off x="3062880" y="3389040"/>
              <a:ext cx="23040" cy="17280"/>
            </a:xfrm>
            <a:custGeom>
              <a:avLst/>
              <a:gdLst/>
              <a:ahLst/>
              <a:rect l="l" t="t" r="r" b="b"/>
              <a:pathLst>
                <a:path w="248" h="176">
                  <a:moveTo>
                    <a:pt x="0" y="120"/>
                  </a:moveTo>
                  <a:lnTo>
                    <a:pt x="103" y="176"/>
                  </a:lnTo>
                  <a:lnTo>
                    <a:pt x="103" y="120"/>
                  </a:lnTo>
                  <a:lnTo>
                    <a:pt x="248" y="56"/>
                  </a:lnTo>
                  <a:lnTo>
                    <a:pt x="195" y="0"/>
                  </a:lnTo>
                  <a:lnTo>
                    <a:pt x="0" y="1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63" name=""/>
            <p:cNvSpPr/>
            <p:nvPr/>
          </p:nvSpPr>
          <p:spPr>
            <a:xfrm>
              <a:off x="3048120" y="3371400"/>
              <a:ext cx="52200" cy="17280"/>
            </a:xfrm>
            <a:custGeom>
              <a:avLst/>
              <a:gdLst/>
              <a:ahLst/>
              <a:rect l="l" t="t" r="r" b="b"/>
              <a:pathLst>
                <a:path w="540" h="184">
                  <a:moveTo>
                    <a:pt x="540" y="0"/>
                  </a:moveTo>
                  <a:lnTo>
                    <a:pt x="540" y="50"/>
                  </a:lnTo>
                  <a:lnTo>
                    <a:pt x="395" y="120"/>
                  </a:lnTo>
                  <a:lnTo>
                    <a:pt x="250" y="120"/>
                  </a:lnTo>
                  <a:lnTo>
                    <a:pt x="80" y="184"/>
                  </a:lnTo>
                  <a:lnTo>
                    <a:pt x="0" y="184"/>
                  </a:lnTo>
                  <a:lnTo>
                    <a:pt x="262" y="64"/>
                  </a:lnTo>
                  <a:lnTo>
                    <a:pt x="395" y="64"/>
                  </a:lnTo>
                  <a:lnTo>
                    <a:pt x="54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64" name=""/>
            <p:cNvSpPr/>
            <p:nvPr/>
          </p:nvSpPr>
          <p:spPr>
            <a:xfrm>
              <a:off x="2775240" y="3202200"/>
              <a:ext cx="330840" cy="297000"/>
            </a:xfrm>
            <a:custGeom>
              <a:avLst/>
              <a:gdLst/>
              <a:ahLst/>
              <a:rect l="l" t="t" r="r" b="b"/>
              <a:pathLst>
                <a:path w="3421" h="3075">
                  <a:moveTo>
                    <a:pt x="2835" y="1481"/>
                  </a:moveTo>
                  <a:lnTo>
                    <a:pt x="3005" y="1481"/>
                  </a:lnTo>
                  <a:lnTo>
                    <a:pt x="3326" y="1242"/>
                  </a:lnTo>
                  <a:lnTo>
                    <a:pt x="3421" y="901"/>
                  </a:lnTo>
                  <a:lnTo>
                    <a:pt x="3292" y="651"/>
                  </a:lnTo>
                  <a:lnTo>
                    <a:pt x="2994" y="764"/>
                  </a:lnTo>
                  <a:lnTo>
                    <a:pt x="2807" y="764"/>
                  </a:lnTo>
                  <a:lnTo>
                    <a:pt x="2923" y="533"/>
                  </a:lnTo>
                  <a:lnTo>
                    <a:pt x="2743" y="533"/>
                  </a:lnTo>
                  <a:lnTo>
                    <a:pt x="2639" y="613"/>
                  </a:lnTo>
                  <a:lnTo>
                    <a:pt x="2491" y="651"/>
                  </a:lnTo>
                  <a:lnTo>
                    <a:pt x="2563" y="533"/>
                  </a:lnTo>
                  <a:lnTo>
                    <a:pt x="2213" y="468"/>
                  </a:lnTo>
                  <a:lnTo>
                    <a:pt x="2263" y="373"/>
                  </a:lnTo>
                  <a:lnTo>
                    <a:pt x="2020" y="333"/>
                  </a:lnTo>
                  <a:lnTo>
                    <a:pt x="1688" y="557"/>
                  </a:lnTo>
                  <a:lnTo>
                    <a:pt x="1786" y="279"/>
                  </a:lnTo>
                  <a:lnTo>
                    <a:pt x="1543" y="427"/>
                  </a:lnTo>
                  <a:lnTo>
                    <a:pt x="1513" y="295"/>
                  </a:lnTo>
                  <a:lnTo>
                    <a:pt x="1397" y="295"/>
                  </a:lnTo>
                  <a:lnTo>
                    <a:pt x="1263" y="363"/>
                  </a:lnTo>
                  <a:lnTo>
                    <a:pt x="1263" y="227"/>
                  </a:lnTo>
                  <a:lnTo>
                    <a:pt x="1167" y="295"/>
                  </a:lnTo>
                  <a:lnTo>
                    <a:pt x="1078" y="295"/>
                  </a:lnTo>
                  <a:lnTo>
                    <a:pt x="1167" y="0"/>
                  </a:lnTo>
                  <a:lnTo>
                    <a:pt x="914" y="0"/>
                  </a:lnTo>
                  <a:lnTo>
                    <a:pt x="644" y="81"/>
                  </a:lnTo>
                  <a:lnTo>
                    <a:pt x="332" y="333"/>
                  </a:lnTo>
                  <a:lnTo>
                    <a:pt x="91" y="773"/>
                  </a:lnTo>
                  <a:lnTo>
                    <a:pt x="0" y="1254"/>
                  </a:lnTo>
                  <a:lnTo>
                    <a:pt x="0" y="1548"/>
                  </a:lnTo>
                  <a:lnTo>
                    <a:pt x="271" y="2504"/>
                  </a:lnTo>
                  <a:lnTo>
                    <a:pt x="342" y="2864"/>
                  </a:lnTo>
                  <a:lnTo>
                    <a:pt x="470" y="3021"/>
                  </a:lnTo>
                  <a:lnTo>
                    <a:pt x="634" y="3075"/>
                  </a:lnTo>
                  <a:lnTo>
                    <a:pt x="769" y="3075"/>
                  </a:lnTo>
                  <a:lnTo>
                    <a:pt x="927" y="2954"/>
                  </a:lnTo>
                  <a:lnTo>
                    <a:pt x="927" y="3075"/>
                  </a:lnTo>
                  <a:lnTo>
                    <a:pt x="1085" y="3011"/>
                  </a:lnTo>
                  <a:lnTo>
                    <a:pt x="1223" y="2733"/>
                  </a:lnTo>
                  <a:lnTo>
                    <a:pt x="1231" y="2362"/>
                  </a:lnTo>
                  <a:lnTo>
                    <a:pt x="1271" y="2187"/>
                  </a:lnTo>
                  <a:lnTo>
                    <a:pt x="1397" y="2027"/>
                  </a:lnTo>
                  <a:lnTo>
                    <a:pt x="1513" y="1971"/>
                  </a:lnTo>
                  <a:lnTo>
                    <a:pt x="1688" y="1971"/>
                  </a:lnTo>
                  <a:lnTo>
                    <a:pt x="1856" y="2082"/>
                  </a:lnTo>
                  <a:lnTo>
                    <a:pt x="1980" y="2277"/>
                  </a:lnTo>
                  <a:lnTo>
                    <a:pt x="2219" y="2265"/>
                  </a:lnTo>
                  <a:lnTo>
                    <a:pt x="2219" y="2000"/>
                  </a:lnTo>
                  <a:lnTo>
                    <a:pt x="2419" y="1729"/>
                  </a:lnTo>
                  <a:lnTo>
                    <a:pt x="2659" y="1639"/>
                  </a:lnTo>
                  <a:lnTo>
                    <a:pt x="2751" y="1521"/>
                  </a:lnTo>
                  <a:lnTo>
                    <a:pt x="2545" y="1521"/>
                  </a:lnTo>
                  <a:lnTo>
                    <a:pt x="2669" y="1437"/>
                  </a:lnTo>
                  <a:lnTo>
                    <a:pt x="2969" y="1374"/>
                  </a:lnTo>
                  <a:lnTo>
                    <a:pt x="2913" y="1452"/>
                  </a:lnTo>
                  <a:lnTo>
                    <a:pt x="2835" y="14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
            <p:cNvSpPr/>
            <p:nvPr/>
          </p:nvSpPr>
          <p:spPr>
            <a:xfrm>
              <a:off x="2872800" y="3200400"/>
              <a:ext cx="222480" cy="75240"/>
            </a:xfrm>
            <a:custGeom>
              <a:avLst/>
              <a:gdLst/>
              <a:ahLst/>
              <a:rect l="l" t="t" r="r" b="b"/>
              <a:pathLst>
                <a:path w="2297" h="777">
                  <a:moveTo>
                    <a:pt x="2239" y="601"/>
                  </a:moveTo>
                  <a:lnTo>
                    <a:pt x="2027" y="395"/>
                  </a:lnTo>
                  <a:lnTo>
                    <a:pt x="1400" y="120"/>
                  </a:lnTo>
                  <a:lnTo>
                    <a:pt x="781" y="0"/>
                  </a:lnTo>
                  <a:lnTo>
                    <a:pt x="110" y="0"/>
                  </a:lnTo>
                  <a:lnTo>
                    <a:pt x="0" y="105"/>
                  </a:lnTo>
                  <a:lnTo>
                    <a:pt x="226" y="105"/>
                  </a:lnTo>
                  <a:lnTo>
                    <a:pt x="346" y="187"/>
                  </a:lnTo>
                  <a:lnTo>
                    <a:pt x="462" y="120"/>
                  </a:lnTo>
                  <a:lnTo>
                    <a:pt x="635" y="120"/>
                  </a:lnTo>
                  <a:lnTo>
                    <a:pt x="677" y="256"/>
                  </a:lnTo>
                  <a:lnTo>
                    <a:pt x="921" y="134"/>
                  </a:lnTo>
                  <a:lnTo>
                    <a:pt x="1053" y="256"/>
                  </a:lnTo>
                  <a:lnTo>
                    <a:pt x="1208" y="202"/>
                  </a:lnTo>
                  <a:lnTo>
                    <a:pt x="1502" y="322"/>
                  </a:lnTo>
                  <a:lnTo>
                    <a:pt x="1672" y="322"/>
                  </a:lnTo>
                  <a:lnTo>
                    <a:pt x="1732" y="414"/>
                  </a:lnTo>
                  <a:lnTo>
                    <a:pt x="1636" y="481"/>
                  </a:lnTo>
                  <a:lnTo>
                    <a:pt x="1809" y="481"/>
                  </a:lnTo>
                  <a:lnTo>
                    <a:pt x="1678" y="586"/>
                  </a:lnTo>
                  <a:lnTo>
                    <a:pt x="1807" y="777"/>
                  </a:lnTo>
                  <a:lnTo>
                    <a:pt x="2011" y="504"/>
                  </a:lnTo>
                  <a:lnTo>
                    <a:pt x="2297" y="693"/>
                  </a:lnTo>
                  <a:lnTo>
                    <a:pt x="2239" y="60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66" name=""/>
            <p:cNvSpPr/>
            <p:nvPr/>
          </p:nvSpPr>
          <p:spPr>
            <a:xfrm>
              <a:off x="2894040" y="3403440"/>
              <a:ext cx="178200" cy="173880"/>
            </a:xfrm>
            <a:custGeom>
              <a:avLst/>
              <a:gdLst/>
              <a:ahLst/>
              <a:rect l="l" t="t" r="r" b="b"/>
              <a:pathLst>
                <a:path w="1837" h="1800">
                  <a:moveTo>
                    <a:pt x="70" y="78"/>
                  </a:moveTo>
                  <a:lnTo>
                    <a:pt x="48" y="145"/>
                  </a:lnTo>
                  <a:lnTo>
                    <a:pt x="48" y="252"/>
                  </a:lnTo>
                  <a:lnTo>
                    <a:pt x="208" y="586"/>
                  </a:lnTo>
                  <a:lnTo>
                    <a:pt x="457" y="746"/>
                  </a:lnTo>
                  <a:lnTo>
                    <a:pt x="561" y="746"/>
                  </a:lnTo>
                  <a:lnTo>
                    <a:pt x="675" y="521"/>
                  </a:lnTo>
                  <a:lnTo>
                    <a:pt x="709" y="120"/>
                  </a:lnTo>
                  <a:lnTo>
                    <a:pt x="988" y="52"/>
                  </a:lnTo>
                  <a:lnTo>
                    <a:pt x="1384" y="586"/>
                  </a:lnTo>
                  <a:lnTo>
                    <a:pt x="1438" y="1075"/>
                  </a:lnTo>
                  <a:lnTo>
                    <a:pt x="1494" y="1227"/>
                  </a:lnTo>
                  <a:lnTo>
                    <a:pt x="1408" y="1059"/>
                  </a:lnTo>
                  <a:lnTo>
                    <a:pt x="1356" y="746"/>
                  </a:lnTo>
                  <a:lnTo>
                    <a:pt x="1180" y="634"/>
                  </a:lnTo>
                  <a:lnTo>
                    <a:pt x="1083" y="760"/>
                  </a:lnTo>
                  <a:lnTo>
                    <a:pt x="1083" y="918"/>
                  </a:lnTo>
                  <a:lnTo>
                    <a:pt x="1188" y="1313"/>
                  </a:lnTo>
                  <a:lnTo>
                    <a:pt x="1589" y="1454"/>
                  </a:lnTo>
                  <a:lnTo>
                    <a:pt x="1640" y="1479"/>
                  </a:lnTo>
                  <a:lnTo>
                    <a:pt x="1738" y="1479"/>
                  </a:lnTo>
                  <a:lnTo>
                    <a:pt x="1837" y="1355"/>
                  </a:lnTo>
                  <a:lnTo>
                    <a:pt x="1837" y="1382"/>
                  </a:lnTo>
                  <a:lnTo>
                    <a:pt x="1723" y="1536"/>
                  </a:lnTo>
                  <a:lnTo>
                    <a:pt x="1656" y="1544"/>
                  </a:lnTo>
                  <a:lnTo>
                    <a:pt x="1095" y="1544"/>
                  </a:lnTo>
                  <a:lnTo>
                    <a:pt x="982" y="1592"/>
                  </a:lnTo>
                  <a:lnTo>
                    <a:pt x="833" y="1800"/>
                  </a:lnTo>
                  <a:lnTo>
                    <a:pt x="486" y="1544"/>
                  </a:lnTo>
                  <a:lnTo>
                    <a:pt x="827" y="1732"/>
                  </a:lnTo>
                  <a:lnTo>
                    <a:pt x="929" y="1544"/>
                  </a:lnTo>
                  <a:lnTo>
                    <a:pt x="709" y="1425"/>
                  </a:lnTo>
                  <a:lnTo>
                    <a:pt x="312" y="691"/>
                  </a:lnTo>
                  <a:lnTo>
                    <a:pt x="166" y="598"/>
                  </a:lnTo>
                  <a:lnTo>
                    <a:pt x="0" y="266"/>
                  </a:lnTo>
                  <a:lnTo>
                    <a:pt x="48" y="0"/>
                  </a:lnTo>
                  <a:lnTo>
                    <a:pt x="7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2910600" y="3406320"/>
              <a:ext cx="37440" cy="40680"/>
            </a:xfrm>
            <a:custGeom>
              <a:avLst/>
              <a:gdLst/>
              <a:ahLst/>
              <a:rect l="l" t="t" r="r" b="b"/>
              <a:pathLst>
                <a:path w="395" h="427">
                  <a:moveTo>
                    <a:pt x="395" y="427"/>
                  </a:moveTo>
                  <a:lnTo>
                    <a:pt x="303" y="307"/>
                  </a:lnTo>
                  <a:lnTo>
                    <a:pt x="303" y="199"/>
                  </a:lnTo>
                  <a:lnTo>
                    <a:pt x="359" y="80"/>
                  </a:lnTo>
                  <a:lnTo>
                    <a:pt x="303" y="0"/>
                  </a:lnTo>
                  <a:lnTo>
                    <a:pt x="164" y="0"/>
                  </a:lnTo>
                  <a:lnTo>
                    <a:pt x="32" y="71"/>
                  </a:lnTo>
                  <a:lnTo>
                    <a:pt x="0" y="199"/>
                  </a:lnTo>
                  <a:lnTo>
                    <a:pt x="206" y="27"/>
                  </a:lnTo>
                  <a:lnTo>
                    <a:pt x="271" y="27"/>
                  </a:lnTo>
                  <a:lnTo>
                    <a:pt x="146" y="329"/>
                  </a:lnTo>
                  <a:lnTo>
                    <a:pt x="271" y="427"/>
                  </a:lnTo>
                  <a:lnTo>
                    <a:pt x="395" y="42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68" name=""/>
            <p:cNvSpPr/>
            <p:nvPr/>
          </p:nvSpPr>
          <p:spPr>
            <a:xfrm>
              <a:off x="2912400" y="3432600"/>
              <a:ext cx="10440" cy="21240"/>
            </a:xfrm>
            <a:custGeom>
              <a:avLst/>
              <a:gdLst/>
              <a:ahLst/>
              <a:rect l="l" t="t" r="r" b="b"/>
              <a:pathLst>
                <a:path w="117" h="225">
                  <a:moveTo>
                    <a:pt x="12" y="36"/>
                  </a:moveTo>
                  <a:lnTo>
                    <a:pt x="81" y="225"/>
                  </a:lnTo>
                  <a:lnTo>
                    <a:pt x="117" y="225"/>
                  </a:lnTo>
                  <a:lnTo>
                    <a:pt x="0" y="0"/>
                  </a:lnTo>
                  <a:lnTo>
                    <a:pt x="12" y="3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69" name=""/>
            <p:cNvSpPr/>
            <p:nvPr/>
          </p:nvSpPr>
          <p:spPr>
            <a:xfrm>
              <a:off x="2869200" y="3499200"/>
              <a:ext cx="65520" cy="48240"/>
            </a:xfrm>
            <a:custGeom>
              <a:avLst/>
              <a:gdLst/>
              <a:ahLst/>
              <a:rect l="l" t="t" r="r" b="b"/>
              <a:pathLst>
                <a:path w="681" h="499">
                  <a:moveTo>
                    <a:pt x="0" y="0"/>
                  </a:moveTo>
                  <a:lnTo>
                    <a:pt x="244" y="259"/>
                  </a:lnTo>
                  <a:lnTo>
                    <a:pt x="681" y="499"/>
                  </a:lnTo>
                  <a:lnTo>
                    <a:pt x="224" y="100"/>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770" name=""/>
            <p:cNvSpPr/>
            <p:nvPr/>
          </p:nvSpPr>
          <p:spPr>
            <a:xfrm>
              <a:off x="2807280" y="3485520"/>
              <a:ext cx="16200" cy="71280"/>
            </a:xfrm>
            <a:custGeom>
              <a:avLst/>
              <a:gdLst/>
              <a:ahLst/>
              <a:rect l="l" t="t" r="r" b="b"/>
              <a:pathLst>
                <a:path w="172" h="743">
                  <a:moveTo>
                    <a:pt x="54" y="21"/>
                  </a:moveTo>
                  <a:lnTo>
                    <a:pt x="0" y="298"/>
                  </a:lnTo>
                  <a:lnTo>
                    <a:pt x="0" y="454"/>
                  </a:lnTo>
                  <a:lnTo>
                    <a:pt x="172" y="743"/>
                  </a:lnTo>
                  <a:lnTo>
                    <a:pt x="32" y="454"/>
                  </a:lnTo>
                  <a:lnTo>
                    <a:pt x="32" y="276"/>
                  </a:lnTo>
                  <a:lnTo>
                    <a:pt x="114" y="0"/>
                  </a:lnTo>
                  <a:lnTo>
                    <a:pt x="54"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71" name=""/>
            <p:cNvSpPr/>
            <p:nvPr/>
          </p:nvSpPr>
          <p:spPr>
            <a:xfrm>
              <a:off x="2829240" y="3550680"/>
              <a:ext cx="221400" cy="258840"/>
            </a:xfrm>
            <a:custGeom>
              <a:avLst/>
              <a:gdLst/>
              <a:ahLst/>
              <a:rect l="l" t="t" r="r" b="b"/>
              <a:pathLst>
                <a:path w="2289" h="2681">
                  <a:moveTo>
                    <a:pt x="0" y="0"/>
                  </a:moveTo>
                  <a:lnTo>
                    <a:pt x="591" y="328"/>
                  </a:lnTo>
                  <a:lnTo>
                    <a:pt x="1236" y="880"/>
                  </a:lnTo>
                  <a:lnTo>
                    <a:pt x="1452" y="1152"/>
                  </a:lnTo>
                  <a:lnTo>
                    <a:pt x="1604" y="700"/>
                  </a:lnTo>
                  <a:lnTo>
                    <a:pt x="1745" y="847"/>
                  </a:lnTo>
                  <a:lnTo>
                    <a:pt x="1857" y="1050"/>
                  </a:lnTo>
                  <a:lnTo>
                    <a:pt x="1764" y="1050"/>
                  </a:lnTo>
                  <a:lnTo>
                    <a:pt x="1957" y="1828"/>
                  </a:lnTo>
                  <a:lnTo>
                    <a:pt x="2019" y="2358"/>
                  </a:lnTo>
                  <a:lnTo>
                    <a:pt x="2289" y="2681"/>
                  </a:lnTo>
                  <a:lnTo>
                    <a:pt x="1857" y="2250"/>
                  </a:lnTo>
                  <a:lnTo>
                    <a:pt x="1194" y="1902"/>
                  </a:lnTo>
                  <a:lnTo>
                    <a:pt x="1939" y="2250"/>
                  </a:lnTo>
                  <a:lnTo>
                    <a:pt x="1879" y="1902"/>
                  </a:lnTo>
                  <a:lnTo>
                    <a:pt x="1682" y="1305"/>
                  </a:lnTo>
                  <a:lnTo>
                    <a:pt x="1682" y="1006"/>
                  </a:lnTo>
                  <a:lnTo>
                    <a:pt x="1586" y="898"/>
                  </a:lnTo>
                  <a:lnTo>
                    <a:pt x="1452" y="1379"/>
                  </a:lnTo>
                  <a:lnTo>
                    <a:pt x="1100" y="822"/>
                  </a:lnTo>
                  <a:lnTo>
                    <a:pt x="917" y="748"/>
                  </a:lnTo>
                  <a:lnTo>
                    <a:pt x="743" y="748"/>
                  </a:lnTo>
                  <a:lnTo>
                    <a:pt x="253" y="277"/>
                  </a:lnTo>
                  <a:lnTo>
                    <a:pt x="216" y="1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
            <p:cNvSpPr/>
            <p:nvPr/>
          </p:nvSpPr>
          <p:spPr>
            <a:xfrm>
              <a:off x="2969640" y="3572640"/>
              <a:ext cx="49320" cy="75240"/>
            </a:xfrm>
            <a:custGeom>
              <a:avLst/>
              <a:gdLst/>
              <a:ahLst/>
              <a:rect l="l" t="t" r="r" b="b"/>
              <a:pathLst>
                <a:path w="505" h="779">
                  <a:moveTo>
                    <a:pt x="0" y="0"/>
                  </a:moveTo>
                  <a:lnTo>
                    <a:pt x="152" y="326"/>
                  </a:lnTo>
                  <a:lnTo>
                    <a:pt x="152" y="223"/>
                  </a:lnTo>
                  <a:lnTo>
                    <a:pt x="119" y="101"/>
                  </a:lnTo>
                  <a:lnTo>
                    <a:pt x="371" y="425"/>
                  </a:lnTo>
                  <a:lnTo>
                    <a:pt x="505" y="779"/>
                  </a:lnTo>
                  <a:lnTo>
                    <a:pt x="505" y="653"/>
                  </a:lnTo>
                  <a:lnTo>
                    <a:pt x="405" y="399"/>
                  </a:lnTo>
                  <a:lnTo>
                    <a:pt x="152" y="5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73" name=""/>
            <p:cNvSpPr/>
            <p:nvPr/>
          </p:nvSpPr>
          <p:spPr>
            <a:xfrm>
              <a:off x="3015360" y="3648240"/>
              <a:ext cx="70560" cy="193320"/>
            </a:xfrm>
            <a:custGeom>
              <a:avLst/>
              <a:gdLst/>
              <a:ahLst/>
              <a:rect l="l" t="t" r="r" b="b"/>
              <a:pathLst>
                <a:path w="729" h="1999">
                  <a:moveTo>
                    <a:pt x="0" y="14"/>
                  </a:moveTo>
                  <a:lnTo>
                    <a:pt x="178" y="322"/>
                  </a:lnTo>
                  <a:lnTo>
                    <a:pt x="314" y="875"/>
                  </a:lnTo>
                  <a:lnTo>
                    <a:pt x="625" y="1873"/>
                  </a:lnTo>
                  <a:lnTo>
                    <a:pt x="729" y="1999"/>
                  </a:lnTo>
                  <a:lnTo>
                    <a:pt x="413" y="1022"/>
                  </a:lnTo>
                  <a:lnTo>
                    <a:pt x="236" y="347"/>
                  </a:lnTo>
                  <a:lnTo>
                    <a:pt x="116" y="44"/>
                  </a:lnTo>
                  <a:lnTo>
                    <a:pt x="6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
            <p:cNvSpPr/>
            <p:nvPr/>
          </p:nvSpPr>
          <p:spPr>
            <a:xfrm>
              <a:off x="3062880" y="3752640"/>
              <a:ext cx="21240" cy="23040"/>
            </a:xfrm>
            <a:custGeom>
              <a:avLst/>
              <a:gdLst/>
              <a:ahLst/>
              <a:rect l="l" t="t" r="r" b="b"/>
              <a:pathLst>
                <a:path w="219" h="248">
                  <a:moveTo>
                    <a:pt x="219" y="0"/>
                  </a:moveTo>
                  <a:lnTo>
                    <a:pt x="179" y="124"/>
                  </a:lnTo>
                  <a:lnTo>
                    <a:pt x="0" y="248"/>
                  </a:lnTo>
                  <a:lnTo>
                    <a:pt x="137" y="248"/>
                  </a:lnTo>
                  <a:lnTo>
                    <a:pt x="219" y="150"/>
                  </a:lnTo>
                  <a:lnTo>
                    <a:pt x="21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775" name=""/>
            <p:cNvSpPr/>
            <p:nvPr/>
          </p:nvSpPr>
          <p:spPr>
            <a:xfrm>
              <a:off x="2795400" y="3659760"/>
              <a:ext cx="140040" cy="43200"/>
            </a:xfrm>
            <a:custGeom>
              <a:avLst/>
              <a:gdLst/>
              <a:ahLst/>
              <a:rect l="l" t="t" r="r" b="b"/>
              <a:pathLst>
                <a:path w="1454" h="449">
                  <a:moveTo>
                    <a:pt x="0" y="0"/>
                  </a:moveTo>
                  <a:lnTo>
                    <a:pt x="1001" y="449"/>
                  </a:lnTo>
                  <a:lnTo>
                    <a:pt x="1454" y="449"/>
                  </a:lnTo>
                  <a:lnTo>
                    <a:pt x="803" y="177"/>
                  </a:lnTo>
                  <a:lnTo>
                    <a:pt x="548" y="177"/>
                  </a:lnTo>
                  <a:lnTo>
                    <a:pt x="82"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76" name=""/>
            <p:cNvSpPr/>
            <p:nvPr/>
          </p:nvSpPr>
          <p:spPr>
            <a:xfrm>
              <a:off x="2803320" y="3635640"/>
              <a:ext cx="75240" cy="26640"/>
            </a:xfrm>
            <a:custGeom>
              <a:avLst/>
              <a:gdLst/>
              <a:ahLst/>
              <a:rect l="l" t="t" r="r" b="b"/>
              <a:pathLst>
                <a:path w="777" h="272">
                  <a:moveTo>
                    <a:pt x="777" y="272"/>
                  </a:moveTo>
                  <a:lnTo>
                    <a:pt x="210" y="46"/>
                  </a:lnTo>
                  <a:lnTo>
                    <a:pt x="0" y="46"/>
                  </a:lnTo>
                  <a:lnTo>
                    <a:pt x="230" y="0"/>
                  </a:lnTo>
                  <a:lnTo>
                    <a:pt x="466" y="0"/>
                  </a:lnTo>
                  <a:lnTo>
                    <a:pt x="777" y="27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777" name=""/>
            <p:cNvSpPr/>
            <p:nvPr/>
          </p:nvSpPr>
          <p:spPr>
            <a:xfrm>
              <a:off x="2696760" y="3645360"/>
              <a:ext cx="597960" cy="491400"/>
            </a:xfrm>
            <a:custGeom>
              <a:avLst/>
              <a:gdLst/>
              <a:ahLst/>
              <a:rect l="l" t="t" r="r" b="b"/>
              <a:pathLst>
                <a:path w="6175" h="5078">
                  <a:moveTo>
                    <a:pt x="2584" y="1102"/>
                  </a:moveTo>
                  <a:lnTo>
                    <a:pt x="407" y="571"/>
                  </a:lnTo>
                  <a:lnTo>
                    <a:pt x="545" y="296"/>
                  </a:lnTo>
                  <a:lnTo>
                    <a:pt x="938" y="0"/>
                  </a:lnTo>
                  <a:lnTo>
                    <a:pt x="507" y="296"/>
                  </a:lnTo>
                  <a:lnTo>
                    <a:pt x="216" y="1000"/>
                  </a:lnTo>
                  <a:lnTo>
                    <a:pt x="216" y="1573"/>
                  </a:lnTo>
                  <a:lnTo>
                    <a:pt x="295" y="1124"/>
                  </a:lnTo>
                  <a:lnTo>
                    <a:pt x="741" y="1827"/>
                  </a:lnTo>
                  <a:lnTo>
                    <a:pt x="741" y="2077"/>
                  </a:lnTo>
                  <a:lnTo>
                    <a:pt x="350" y="1775"/>
                  </a:lnTo>
                  <a:lnTo>
                    <a:pt x="489" y="1951"/>
                  </a:lnTo>
                  <a:lnTo>
                    <a:pt x="0" y="1849"/>
                  </a:lnTo>
                  <a:lnTo>
                    <a:pt x="369" y="2077"/>
                  </a:lnTo>
                  <a:lnTo>
                    <a:pt x="835" y="2174"/>
                  </a:lnTo>
                  <a:lnTo>
                    <a:pt x="451" y="2428"/>
                  </a:lnTo>
                  <a:lnTo>
                    <a:pt x="196" y="2428"/>
                  </a:lnTo>
                  <a:lnTo>
                    <a:pt x="432" y="2534"/>
                  </a:lnTo>
                  <a:lnTo>
                    <a:pt x="1100" y="2349"/>
                  </a:lnTo>
                  <a:lnTo>
                    <a:pt x="881" y="2626"/>
                  </a:lnTo>
                  <a:lnTo>
                    <a:pt x="295" y="2878"/>
                  </a:lnTo>
                  <a:lnTo>
                    <a:pt x="919" y="2676"/>
                  </a:lnTo>
                  <a:lnTo>
                    <a:pt x="727" y="2924"/>
                  </a:lnTo>
                  <a:lnTo>
                    <a:pt x="1252" y="3124"/>
                  </a:lnTo>
                  <a:lnTo>
                    <a:pt x="1451" y="2901"/>
                  </a:lnTo>
                  <a:lnTo>
                    <a:pt x="1310" y="3557"/>
                  </a:lnTo>
                  <a:lnTo>
                    <a:pt x="1310" y="3754"/>
                  </a:lnTo>
                  <a:lnTo>
                    <a:pt x="1526" y="3527"/>
                  </a:lnTo>
                  <a:lnTo>
                    <a:pt x="1842" y="2901"/>
                  </a:lnTo>
                  <a:lnTo>
                    <a:pt x="1743" y="3379"/>
                  </a:lnTo>
                  <a:lnTo>
                    <a:pt x="1743" y="3578"/>
                  </a:lnTo>
                  <a:lnTo>
                    <a:pt x="2073" y="2952"/>
                  </a:lnTo>
                  <a:lnTo>
                    <a:pt x="2218" y="3025"/>
                  </a:lnTo>
                  <a:lnTo>
                    <a:pt x="2055" y="3329"/>
                  </a:lnTo>
                  <a:lnTo>
                    <a:pt x="1999" y="3679"/>
                  </a:lnTo>
                  <a:lnTo>
                    <a:pt x="1743" y="4383"/>
                  </a:lnTo>
                  <a:lnTo>
                    <a:pt x="1588" y="4981"/>
                  </a:lnTo>
                  <a:lnTo>
                    <a:pt x="1821" y="4309"/>
                  </a:lnTo>
                  <a:lnTo>
                    <a:pt x="2411" y="3329"/>
                  </a:lnTo>
                  <a:lnTo>
                    <a:pt x="2411" y="3626"/>
                  </a:lnTo>
                  <a:lnTo>
                    <a:pt x="2644" y="3248"/>
                  </a:lnTo>
                  <a:lnTo>
                    <a:pt x="2861" y="3431"/>
                  </a:lnTo>
                  <a:lnTo>
                    <a:pt x="2487" y="4057"/>
                  </a:lnTo>
                  <a:lnTo>
                    <a:pt x="1901" y="4729"/>
                  </a:lnTo>
                  <a:lnTo>
                    <a:pt x="2630" y="4258"/>
                  </a:lnTo>
                  <a:lnTo>
                    <a:pt x="2996" y="3527"/>
                  </a:lnTo>
                  <a:lnTo>
                    <a:pt x="3605" y="3982"/>
                  </a:lnTo>
                  <a:lnTo>
                    <a:pt x="2566" y="5078"/>
                  </a:lnTo>
                  <a:lnTo>
                    <a:pt x="3645" y="4008"/>
                  </a:lnTo>
                  <a:lnTo>
                    <a:pt x="4020" y="4232"/>
                  </a:lnTo>
                  <a:lnTo>
                    <a:pt x="4353" y="4280"/>
                  </a:lnTo>
                  <a:lnTo>
                    <a:pt x="4841" y="4507"/>
                  </a:lnTo>
                  <a:lnTo>
                    <a:pt x="5210" y="4507"/>
                  </a:lnTo>
                  <a:lnTo>
                    <a:pt x="5994" y="4729"/>
                  </a:lnTo>
                  <a:lnTo>
                    <a:pt x="5702" y="4383"/>
                  </a:lnTo>
                  <a:lnTo>
                    <a:pt x="5702" y="4206"/>
                  </a:lnTo>
                  <a:lnTo>
                    <a:pt x="5606" y="4206"/>
                  </a:lnTo>
                  <a:lnTo>
                    <a:pt x="5486" y="3902"/>
                  </a:lnTo>
                  <a:lnTo>
                    <a:pt x="5702" y="3777"/>
                  </a:lnTo>
                  <a:lnTo>
                    <a:pt x="6175" y="3777"/>
                  </a:lnTo>
                  <a:lnTo>
                    <a:pt x="5530" y="3475"/>
                  </a:lnTo>
                  <a:lnTo>
                    <a:pt x="5114" y="3475"/>
                  </a:lnTo>
                  <a:lnTo>
                    <a:pt x="4797" y="3351"/>
                  </a:lnTo>
                  <a:lnTo>
                    <a:pt x="4412" y="3475"/>
                  </a:lnTo>
                  <a:lnTo>
                    <a:pt x="4412" y="3025"/>
                  </a:lnTo>
                  <a:lnTo>
                    <a:pt x="3588" y="2924"/>
                  </a:lnTo>
                  <a:lnTo>
                    <a:pt x="2742" y="2726"/>
                  </a:lnTo>
                  <a:lnTo>
                    <a:pt x="2171" y="2428"/>
                  </a:lnTo>
                  <a:lnTo>
                    <a:pt x="2630" y="2502"/>
                  </a:lnTo>
                  <a:lnTo>
                    <a:pt x="3094" y="2502"/>
                  </a:lnTo>
                  <a:lnTo>
                    <a:pt x="3628" y="2349"/>
                  </a:lnTo>
                  <a:lnTo>
                    <a:pt x="2630" y="2203"/>
                  </a:lnTo>
                  <a:lnTo>
                    <a:pt x="1606" y="1798"/>
                  </a:lnTo>
                  <a:lnTo>
                    <a:pt x="1434" y="1573"/>
                  </a:lnTo>
                  <a:lnTo>
                    <a:pt x="2308" y="1775"/>
                  </a:lnTo>
                  <a:lnTo>
                    <a:pt x="2861" y="1775"/>
                  </a:lnTo>
                  <a:lnTo>
                    <a:pt x="3094" y="1701"/>
                  </a:lnTo>
                  <a:lnTo>
                    <a:pt x="2782" y="1701"/>
                  </a:lnTo>
                  <a:lnTo>
                    <a:pt x="2331" y="1378"/>
                  </a:lnTo>
                  <a:lnTo>
                    <a:pt x="1703" y="1174"/>
                  </a:lnTo>
                  <a:lnTo>
                    <a:pt x="1548" y="1000"/>
                  </a:lnTo>
                  <a:lnTo>
                    <a:pt x="1977" y="1102"/>
                  </a:lnTo>
                  <a:lnTo>
                    <a:pt x="2584" y="1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
            <p:cNvSpPr/>
            <p:nvPr/>
          </p:nvSpPr>
          <p:spPr>
            <a:xfrm>
              <a:off x="2679120" y="3893040"/>
              <a:ext cx="167400" cy="314280"/>
            </a:xfrm>
            <a:custGeom>
              <a:avLst/>
              <a:gdLst/>
              <a:ahLst/>
              <a:rect l="l" t="t" r="r" b="b"/>
              <a:pathLst>
                <a:path w="1728" h="3259">
                  <a:moveTo>
                    <a:pt x="1614" y="400"/>
                  </a:moveTo>
                  <a:lnTo>
                    <a:pt x="1350" y="827"/>
                  </a:lnTo>
                  <a:lnTo>
                    <a:pt x="1350" y="1377"/>
                  </a:lnTo>
                  <a:lnTo>
                    <a:pt x="1177" y="1276"/>
                  </a:lnTo>
                  <a:lnTo>
                    <a:pt x="1432" y="2003"/>
                  </a:lnTo>
                  <a:lnTo>
                    <a:pt x="1530" y="2631"/>
                  </a:lnTo>
                  <a:lnTo>
                    <a:pt x="1394" y="2157"/>
                  </a:lnTo>
                  <a:lnTo>
                    <a:pt x="1078" y="1831"/>
                  </a:lnTo>
                  <a:lnTo>
                    <a:pt x="631" y="1604"/>
                  </a:lnTo>
                  <a:lnTo>
                    <a:pt x="1078" y="2251"/>
                  </a:lnTo>
                  <a:lnTo>
                    <a:pt x="1372" y="3161"/>
                  </a:lnTo>
                  <a:lnTo>
                    <a:pt x="1592" y="3259"/>
                  </a:lnTo>
                  <a:lnTo>
                    <a:pt x="1293" y="3230"/>
                  </a:lnTo>
                  <a:lnTo>
                    <a:pt x="1099" y="2526"/>
                  </a:lnTo>
                  <a:lnTo>
                    <a:pt x="354" y="1505"/>
                  </a:lnTo>
                  <a:lnTo>
                    <a:pt x="0" y="777"/>
                  </a:lnTo>
                  <a:lnTo>
                    <a:pt x="310" y="1328"/>
                  </a:lnTo>
                  <a:lnTo>
                    <a:pt x="1015" y="1706"/>
                  </a:lnTo>
                  <a:lnTo>
                    <a:pt x="751" y="1404"/>
                  </a:lnTo>
                  <a:lnTo>
                    <a:pt x="549" y="1074"/>
                  </a:lnTo>
                  <a:lnTo>
                    <a:pt x="669" y="1127"/>
                  </a:lnTo>
                  <a:lnTo>
                    <a:pt x="807" y="1074"/>
                  </a:lnTo>
                  <a:lnTo>
                    <a:pt x="587" y="901"/>
                  </a:lnTo>
                  <a:lnTo>
                    <a:pt x="1007" y="901"/>
                  </a:lnTo>
                  <a:lnTo>
                    <a:pt x="807" y="696"/>
                  </a:lnTo>
                  <a:lnTo>
                    <a:pt x="492" y="652"/>
                  </a:lnTo>
                  <a:lnTo>
                    <a:pt x="341" y="448"/>
                  </a:lnTo>
                  <a:lnTo>
                    <a:pt x="100" y="326"/>
                  </a:lnTo>
                  <a:lnTo>
                    <a:pt x="587" y="498"/>
                  </a:lnTo>
                  <a:lnTo>
                    <a:pt x="946" y="675"/>
                  </a:lnTo>
                  <a:lnTo>
                    <a:pt x="1198" y="675"/>
                  </a:lnTo>
                  <a:lnTo>
                    <a:pt x="1728" y="0"/>
                  </a:lnTo>
                  <a:lnTo>
                    <a:pt x="1614"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
            <p:cNvSpPr/>
            <p:nvPr/>
          </p:nvSpPr>
          <p:spPr>
            <a:xfrm>
              <a:off x="2668680" y="3516480"/>
              <a:ext cx="131400" cy="431280"/>
            </a:xfrm>
            <a:custGeom>
              <a:avLst/>
              <a:gdLst/>
              <a:ahLst/>
              <a:rect l="l" t="t" r="r" b="b"/>
              <a:pathLst>
                <a:path w="1368" h="4452">
                  <a:moveTo>
                    <a:pt x="99" y="4452"/>
                  </a:moveTo>
                  <a:lnTo>
                    <a:pt x="99" y="3706"/>
                  </a:lnTo>
                  <a:lnTo>
                    <a:pt x="0" y="2706"/>
                  </a:lnTo>
                  <a:lnTo>
                    <a:pt x="23" y="2130"/>
                  </a:lnTo>
                  <a:lnTo>
                    <a:pt x="353" y="1146"/>
                  </a:lnTo>
                  <a:lnTo>
                    <a:pt x="784" y="676"/>
                  </a:lnTo>
                  <a:lnTo>
                    <a:pt x="784" y="501"/>
                  </a:lnTo>
                  <a:lnTo>
                    <a:pt x="1000" y="321"/>
                  </a:lnTo>
                  <a:lnTo>
                    <a:pt x="1000" y="222"/>
                  </a:lnTo>
                  <a:lnTo>
                    <a:pt x="1130" y="73"/>
                  </a:lnTo>
                  <a:lnTo>
                    <a:pt x="136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
            <p:cNvSpPr/>
            <p:nvPr/>
          </p:nvSpPr>
          <p:spPr>
            <a:xfrm>
              <a:off x="3001680" y="3553560"/>
              <a:ext cx="99360" cy="295920"/>
            </a:xfrm>
            <a:custGeom>
              <a:avLst/>
              <a:gdLst/>
              <a:ahLst/>
              <a:rect l="l" t="t" r="r" b="b"/>
              <a:pathLst>
                <a:path w="1021" h="3058">
                  <a:moveTo>
                    <a:pt x="0" y="0"/>
                  </a:moveTo>
                  <a:lnTo>
                    <a:pt x="238" y="228"/>
                  </a:lnTo>
                  <a:lnTo>
                    <a:pt x="316" y="452"/>
                  </a:lnTo>
                  <a:lnTo>
                    <a:pt x="551" y="700"/>
                  </a:lnTo>
                  <a:lnTo>
                    <a:pt x="729" y="1230"/>
                  </a:lnTo>
                  <a:lnTo>
                    <a:pt x="729" y="1502"/>
                  </a:lnTo>
                  <a:lnTo>
                    <a:pt x="1021" y="2349"/>
                  </a:lnTo>
                  <a:lnTo>
                    <a:pt x="1021" y="30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
            <p:cNvSpPr/>
            <p:nvPr/>
          </p:nvSpPr>
          <p:spPr>
            <a:xfrm>
              <a:off x="3101400" y="3778920"/>
              <a:ext cx="37440" cy="91800"/>
            </a:xfrm>
            <a:custGeom>
              <a:avLst/>
              <a:gdLst/>
              <a:ahLst/>
              <a:rect l="l" t="t" r="r" b="b"/>
              <a:pathLst>
                <a:path w="393" h="952">
                  <a:moveTo>
                    <a:pt x="0" y="16"/>
                  </a:moveTo>
                  <a:lnTo>
                    <a:pt x="238" y="397"/>
                  </a:lnTo>
                  <a:lnTo>
                    <a:pt x="238" y="773"/>
                  </a:lnTo>
                  <a:lnTo>
                    <a:pt x="40" y="773"/>
                  </a:lnTo>
                  <a:lnTo>
                    <a:pt x="393" y="952"/>
                  </a:lnTo>
                  <a:lnTo>
                    <a:pt x="273" y="825"/>
                  </a:lnTo>
                  <a:lnTo>
                    <a:pt x="393" y="647"/>
                  </a:lnTo>
                  <a:lnTo>
                    <a:pt x="393" y="420"/>
                  </a:lnTo>
                  <a:lnTo>
                    <a:pt x="0" y="0"/>
                  </a:lnTo>
                  <a:lnTo>
                    <a:pt x="0" y="1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2" name=""/>
            <p:cNvSpPr/>
            <p:nvPr/>
          </p:nvSpPr>
          <p:spPr>
            <a:xfrm>
              <a:off x="3108240" y="3788280"/>
              <a:ext cx="56880" cy="74520"/>
            </a:xfrm>
            <a:custGeom>
              <a:avLst/>
              <a:gdLst/>
              <a:ahLst/>
              <a:rect l="l" t="t" r="r" b="b"/>
              <a:pathLst>
                <a:path w="593" h="780">
                  <a:moveTo>
                    <a:pt x="0" y="0"/>
                  </a:moveTo>
                  <a:lnTo>
                    <a:pt x="357" y="152"/>
                  </a:lnTo>
                  <a:lnTo>
                    <a:pt x="593" y="78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83" name=""/>
            <p:cNvSpPr/>
            <p:nvPr/>
          </p:nvSpPr>
          <p:spPr>
            <a:xfrm>
              <a:off x="3165120" y="3863160"/>
              <a:ext cx="83160" cy="51120"/>
            </a:xfrm>
            <a:custGeom>
              <a:avLst/>
              <a:gdLst/>
              <a:ahLst/>
              <a:rect l="l" t="t" r="r" b="b"/>
              <a:pathLst>
                <a:path w="861" h="526">
                  <a:moveTo>
                    <a:pt x="0" y="0"/>
                  </a:moveTo>
                  <a:lnTo>
                    <a:pt x="174" y="200"/>
                  </a:lnTo>
                  <a:lnTo>
                    <a:pt x="645" y="402"/>
                  </a:lnTo>
                  <a:lnTo>
                    <a:pt x="549" y="526"/>
                  </a:lnTo>
                  <a:lnTo>
                    <a:pt x="861" y="350"/>
                  </a:lnTo>
                  <a:lnTo>
                    <a:pt x="136"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784" name=""/>
            <p:cNvSpPr/>
            <p:nvPr/>
          </p:nvSpPr>
          <p:spPr>
            <a:xfrm>
              <a:off x="3167280" y="3899520"/>
              <a:ext cx="223560" cy="149760"/>
            </a:xfrm>
            <a:custGeom>
              <a:avLst/>
              <a:gdLst/>
              <a:ahLst/>
              <a:rect l="l" t="t" r="r" b="b"/>
              <a:pathLst>
                <a:path w="2312" h="1555">
                  <a:moveTo>
                    <a:pt x="0" y="0"/>
                  </a:moveTo>
                  <a:lnTo>
                    <a:pt x="240" y="0"/>
                  </a:lnTo>
                  <a:lnTo>
                    <a:pt x="511" y="174"/>
                  </a:lnTo>
                  <a:lnTo>
                    <a:pt x="671" y="50"/>
                  </a:lnTo>
                  <a:lnTo>
                    <a:pt x="1036" y="50"/>
                  </a:lnTo>
                  <a:lnTo>
                    <a:pt x="1511" y="252"/>
                  </a:lnTo>
                  <a:lnTo>
                    <a:pt x="1704" y="252"/>
                  </a:lnTo>
                  <a:lnTo>
                    <a:pt x="1648" y="399"/>
                  </a:lnTo>
                  <a:lnTo>
                    <a:pt x="1648" y="551"/>
                  </a:lnTo>
                  <a:lnTo>
                    <a:pt x="2312" y="849"/>
                  </a:lnTo>
                  <a:lnTo>
                    <a:pt x="1963" y="1078"/>
                  </a:lnTo>
                  <a:lnTo>
                    <a:pt x="1867" y="1356"/>
                  </a:lnTo>
                  <a:lnTo>
                    <a:pt x="1585" y="1555"/>
                  </a:lnTo>
                  <a:lnTo>
                    <a:pt x="2023" y="952"/>
                  </a:lnTo>
                  <a:lnTo>
                    <a:pt x="1549" y="753"/>
                  </a:lnTo>
                  <a:lnTo>
                    <a:pt x="1192" y="424"/>
                  </a:lnTo>
                  <a:lnTo>
                    <a:pt x="784" y="275"/>
                  </a:lnTo>
                  <a:lnTo>
                    <a:pt x="433" y="275"/>
                  </a:lnTo>
                  <a:lnTo>
                    <a:pt x="141" y="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
            <p:cNvSpPr/>
            <p:nvPr/>
          </p:nvSpPr>
          <p:spPr>
            <a:xfrm>
              <a:off x="3135240" y="3912480"/>
              <a:ext cx="36000" cy="33480"/>
            </a:xfrm>
            <a:custGeom>
              <a:avLst/>
              <a:gdLst/>
              <a:ahLst/>
              <a:rect l="l" t="t" r="r" b="b"/>
              <a:pathLst>
                <a:path w="372" h="349">
                  <a:moveTo>
                    <a:pt x="0" y="349"/>
                  </a:moveTo>
                  <a:lnTo>
                    <a:pt x="80" y="168"/>
                  </a:lnTo>
                  <a:lnTo>
                    <a:pt x="372" y="0"/>
                  </a:lnTo>
                  <a:lnTo>
                    <a:pt x="236" y="168"/>
                  </a:lnTo>
                  <a:lnTo>
                    <a:pt x="0" y="34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86" name=""/>
            <p:cNvSpPr/>
            <p:nvPr/>
          </p:nvSpPr>
          <p:spPr>
            <a:xfrm>
              <a:off x="3324960" y="3916080"/>
              <a:ext cx="201240" cy="94680"/>
            </a:xfrm>
            <a:custGeom>
              <a:avLst/>
              <a:gdLst/>
              <a:ahLst/>
              <a:rect l="l" t="t" r="r" b="b"/>
              <a:pathLst>
                <a:path w="2074" h="977">
                  <a:moveTo>
                    <a:pt x="1780" y="977"/>
                  </a:moveTo>
                  <a:lnTo>
                    <a:pt x="1334" y="757"/>
                  </a:lnTo>
                  <a:lnTo>
                    <a:pt x="999" y="653"/>
                  </a:lnTo>
                  <a:lnTo>
                    <a:pt x="643" y="353"/>
                  </a:lnTo>
                  <a:lnTo>
                    <a:pt x="643" y="200"/>
                  </a:lnTo>
                  <a:lnTo>
                    <a:pt x="1427" y="653"/>
                  </a:lnTo>
                  <a:lnTo>
                    <a:pt x="1561" y="653"/>
                  </a:lnTo>
                  <a:lnTo>
                    <a:pt x="1802" y="879"/>
                  </a:lnTo>
                  <a:lnTo>
                    <a:pt x="1902" y="826"/>
                  </a:lnTo>
                  <a:lnTo>
                    <a:pt x="1979" y="879"/>
                  </a:lnTo>
                  <a:lnTo>
                    <a:pt x="2074" y="778"/>
                  </a:lnTo>
                  <a:lnTo>
                    <a:pt x="1918" y="778"/>
                  </a:lnTo>
                  <a:lnTo>
                    <a:pt x="1780" y="427"/>
                  </a:lnTo>
                  <a:lnTo>
                    <a:pt x="1840" y="305"/>
                  </a:lnTo>
                  <a:lnTo>
                    <a:pt x="1762" y="305"/>
                  </a:lnTo>
                  <a:lnTo>
                    <a:pt x="1738" y="353"/>
                  </a:lnTo>
                  <a:lnTo>
                    <a:pt x="1486" y="78"/>
                  </a:lnTo>
                  <a:lnTo>
                    <a:pt x="1486" y="278"/>
                  </a:lnTo>
                  <a:lnTo>
                    <a:pt x="1387" y="278"/>
                  </a:lnTo>
                  <a:lnTo>
                    <a:pt x="1189" y="0"/>
                  </a:lnTo>
                  <a:lnTo>
                    <a:pt x="1250" y="152"/>
                  </a:lnTo>
                  <a:lnTo>
                    <a:pt x="861" y="28"/>
                  </a:lnTo>
                  <a:lnTo>
                    <a:pt x="116" y="28"/>
                  </a:lnTo>
                  <a:lnTo>
                    <a:pt x="34" y="124"/>
                  </a:lnTo>
                  <a:lnTo>
                    <a:pt x="0" y="225"/>
                  </a:lnTo>
                  <a:lnTo>
                    <a:pt x="0" y="353"/>
                  </a:lnTo>
                  <a:lnTo>
                    <a:pt x="759" y="703"/>
                  </a:lnTo>
                  <a:lnTo>
                    <a:pt x="876" y="853"/>
                  </a:lnTo>
                  <a:lnTo>
                    <a:pt x="1309" y="853"/>
                  </a:lnTo>
                  <a:lnTo>
                    <a:pt x="1720" y="977"/>
                  </a:lnTo>
                  <a:lnTo>
                    <a:pt x="1780"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a:off x="3334680" y="3902760"/>
              <a:ext cx="193320" cy="86760"/>
            </a:xfrm>
            <a:custGeom>
              <a:avLst/>
              <a:gdLst/>
              <a:ahLst/>
              <a:rect l="l" t="t" r="r" b="b"/>
              <a:pathLst>
                <a:path w="1997" h="903">
                  <a:moveTo>
                    <a:pt x="1997" y="903"/>
                  </a:moveTo>
                  <a:lnTo>
                    <a:pt x="1997" y="573"/>
                  </a:lnTo>
                  <a:lnTo>
                    <a:pt x="1548" y="0"/>
                  </a:lnTo>
                  <a:lnTo>
                    <a:pt x="328" y="0"/>
                  </a:lnTo>
                  <a:lnTo>
                    <a:pt x="0" y="203"/>
                  </a:lnTo>
                  <a:lnTo>
                    <a:pt x="370" y="46"/>
                  </a:lnTo>
                  <a:lnTo>
                    <a:pt x="1528" y="46"/>
                  </a:lnTo>
                  <a:lnTo>
                    <a:pt x="1959" y="573"/>
                  </a:lnTo>
                  <a:lnTo>
                    <a:pt x="1997" y="90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788" name=""/>
            <p:cNvSpPr/>
            <p:nvPr/>
          </p:nvSpPr>
          <p:spPr>
            <a:xfrm>
              <a:off x="3247560" y="3897720"/>
              <a:ext cx="117000" cy="6480"/>
            </a:xfrm>
            <a:custGeom>
              <a:avLst/>
              <a:gdLst/>
              <a:ahLst/>
              <a:rect l="l" t="t" r="r" b="b"/>
              <a:pathLst>
                <a:path w="1215" h="74">
                  <a:moveTo>
                    <a:pt x="0" y="0"/>
                  </a:moveTo>
                  <a:lnTo>
                    <a:pt x="508" y="0"/>
                  </a:lnTo>
                  <a:lnTo>
                    <a:pt x="805" y="74"/>
                  </a:lnTo>
                  <a:lnTo>
                    <a:pt x="1215" y="7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89" name=""/>
            <p:cNvSpPr/>
            <p:nvPr/>
          </p:nvSpPr>
          <p:spPr>
            <a:xfrm>
              <a:off x="3242880" y="4038120"/>
              <a:ext cx="246600" cy="125640"/>
            </a:xfrm>
            <a:custGeom>
              <a:avLst/>
              <a:gdLst/>
              <a:ahLst/>
              <a:rect l="l" t="t" r="r" b="b"/>
              <a:pathLst>
                <a:path w="2547" h="1301">
                  <a:moveTo>
                    <a:pt x="235" y="652"/>
                  </a:moveTo>
                  <a:lnTo>
                    <a:pt x="1846" y="1151"/>
                  </a:lnTo>
                  <a:lnTo>
                    <a:pt x="2137" y="1151"/>
                  </a:lnTo>
                  <a:lnTo>
                    <a:pt x="2547" y="1301"/>
                  </a:lnTo>
                  <a:lnTo>
                    <a:pt x="2156" y="1046"/>
                  </a:lnTo>
                  <a:lnTo>
                    <a:pt x="2351" y="426"/>
                  </a:lnTo>
                  <a:lnTo>
                    <a:pt x="2446" y="0"/>
                  </a:lnTo>
                  <a:lnTo>
                    <a:pt x="2274" y="300"/>
                  </a:lnTo>
                  <a:lnTo>
                    <a:pt x="2156" y="652"/>
                  </a:lnTo>
                  <a:lnTo>
                    <a:pt x="2156" y="924"/>
                  </a:lnTo>
                  <a:lnTo>
                    <a:pt x="1962" y="824"/>
                  </a:lnTo>
                  <a:lnTo>
                    <a:pt x="1782" y="899"/>
                  </a:lnTo>
                  <a:lnTo>
                    <a:pt x="1685" y="824"/>
                  </a:lnTo>
                  <a:lnTo>
                    <a:pt x="1570" y="347"/>
                  </a:lnTo>
                  <a:lnTo>
                    <a:pt x="1431" y="652"/>
                  </a:lnTo>
                  <a:lnTo>
                    <a:pt x="1315" y="652"/>
                  </a:lnTo>
                  <a:lnTo>
                    <a:pt x="1315" y="450"/>
                  </a:lnTo>
                  <a:lnTo>
                    <a:pt x="1431" y="201"/>
                  </a:lnTo>
                  <a:lnTo>
                    <a:pt x="1359" y="201"/>
                  </a:lnTo>
                  <a:lnTo>
                    <a:pt x="881" y="622"/>
                  </a:lnTo>
                  <a:lnTo>
                    <a:pt x="782" y="622"/>
                  </a:lnTo>
                  <a:lnTo>
                    <a:pt x="782" y="399"/>
                  </a:lnTo>
                  <a:lnTo>
                    <a:pt x="691" y="399"/>
                  </a:lnTo>
                  <a:lnTo>
                    <a:pt x="0" y="574"/>
                  </a:lnTo>
                  <a:lnTo>
                    <a:pt x="235" y="6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3424680" y="4012920"/>
              <a:ext cx="19080" cy="70560"/>
            </a:xfrm>
            <a:custGeom>
              <a:avLst/>
              <a:gdLst/>
              <a:ahLst/>
              <a:rect l="l" t="t" r="r" b="b"/>
              <a:pathLst>
                <a:path w="198" h="729">
                  <a:moveTo>
                    <a:pt x="0" y="207"/>
                  </a:moveTo>
                  <a:lnTo>
                    <a:pt x="0" y="729"/>
                  </a:lnTo>
                  <a:lnTo>
                    <a:pt x="198" y="225"/>
                  </a:lnTo>
                  <a:lnTo>
                    <a:pt x="198" y="0"/>
                  </a:lnTo>
                  <a:lnTo>
                    <a:pt x="182" y="207"/>
                  </a:lnTo>
                  <a:lnTo>
                    <a:pt x="82" y="457"/>
                  </a:lnTo>
                  <a:lnTo>
                    <a:pt x="0" y="20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791" name=""/>
            <p:cNvSpPr/>
            <p:nvPr/>
          </p:nvSpPr>
          <p:spPr>
            <a:xfrm>
              <a:off x="3432240" y="3998520"/>
              <a:ext cx="420120" cy="165240"/>
            </a:xfrm>
            <a:custGeom>
              <a:avLst/>
              <a:gdLst/>
              <a:ahLst/>
              <a:rect l="l" t="t" r="r" b="b"/>
              <a:pathLst>
                <a:path w="4346" h="1711">
                  <a:moveTo>
                    <a:pt x="0" y="0"/>
                  </a:moveTo>
                  <a:lnTo>
                    <a:pt x="735" y="375"/>
                  </a:lnTo>
                  <a:lnTo>
                    <a:pt x="1326" y="507"/>
                  </a:lnTo>
                  <a:lnTo>
                    <a:pt x="1326" y="763"/>
                  </a:lnTo>
                  <a:lnTo>
                    <a:pt x="994" y="1551"/>
                  </a:lnTo>
                  <a:lnTo>
                    <a:pt x="725" y="1711"/>
                  </a:lnTo>
                  <a:lnTo>
                    <a:pt x="782" y="1711"/>
                  </a:lnTo>
                  <a:lnTo>
                    <a:pt x="1046" y="1580"/>
                  </a:lnTo>
                  <a:lnTo>
                    <a:pt x="1158" y="1351"/>
                  </a:lnTo>
                  <a:lnTo>
                    <a:pt x="1731" y="1517"/>
                  </a:lnTo>
                  <a:lnTo>
                    <a:pt x="2029" y="1540"/>
                  </a:lnTo>
                  <a:lnTo>
                    <a:pt x="2364" y="1540"/>
                  </a:lnTo>
                  <a:lnTo>
                    <a:pt x="3026" y="1374"/>
                  </a:lnTo>
                  <a:lnTo>
                    <a:pt x="3355" y="1374"/>
                  </a:lnTo>
                  <a:lnTo>
                    <a:pt x="3770" y="1473"/>
                  </a:lnTo>
                  <a:lnTo>
                    <a:pt x="3916" y="1429"/>
                  </a:lnTo>
                  <a:lnTo>
                    <a:pt x="3757" y="1456"/>
                  </a:lnTo>
                  <a:lnTo>
                    <a:pt x="3171" y="1238"/>
                  </a:lnTo>
                  <a:lnTo>
                    <a:pt x="2992" y="1223"/>
                  </a:lnTo>
                  <a:lnTo>
                    <a:pt x="2852" y="1062"/>
                  </a:lnTo>
                  <a:lnTo>
                    <a:pt x="3363" y="1062"/>
                  </a:lnTo>
                  <a:lnTo>
                    <a:pt x="4184" y="1456"/>
                  </a:lnTo>
                  <a:lnTo>
                    <a:pt x="4289" y="1456"/>
                  </a:lnTo>
                  <a:lnTo>
                    <a:pt x="3457" y="990"/>
                  </a:lnTo>
                  <a:lnTo>
                    <a:pt x="3114" y="864"/>
                  </a:lnTo>
                  <a:lnTo>
                    <a:pt x="2805" y="839"/>
                  </a:lnTo>
                  <a:lnTo>
                    <a:pt x="2732" y="776"/>
                  </a:lnTo>
                  <a:lnTo>
                    <a:pt x="2700" y="683"/>
                  </a:lnTo>
                  <a:lnTo>
                    <a:pt x="3557" y="736"/>
                  </a:lnTo>
                  <a:lnTo>
                    <a:pt x="4346" y="1286"/>
                  </a:lnTo>
                  <a:lnTo>
                    <a:pt x="4140" y="990"/>
                  </a:lnTo>
                  <a:lnTo>
                    <a:pt x="3646" y="647"/>
                  </a:lnTo>
                  <a:lnTo>
                    <a:pt x="2636" y="439"/>
                  </a:lnTo>
                  <a:lnTo>
                    <a:pt x="2636" y="339"/>
                  </a:lnTo>
                  <a:lnTo>
                    <a:pt x="2923" y="145"/>
                  </a:lnTo>
                  <a:lnTo>
                    <a:pt x="2770" y="145"/>
                  </a:lnTo>
                  <a:lnTo>
                    <a:pt x="1669" y="491"/>
                  </a:lnTo>
                  <a:lnTo>
                    <a:pt x="1372" y="491"/>
                  </a:lnTo>
                  <a:lnTo>
                    <a:pt x="1244" y="375"/>
                  </a:lnTo>
                  <a:lnTo>
                    <a:pt x="923" y="375"/>
                  </a:lnTo>
                  <a:lnTo>
                    <a:pt x="9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3719880" y="4012920"/>
              <a:ext cx="134280" cy="127440"/>
            </a:xfrm>
            <a:custGeom>
              <a:avLst/>
              <a:gdLst/>
              <a:ahLst/>
              <a:rect l="l" t="t" r="r" b="b"/>
              <a:pathLst>
                <a:path w="1395" h="1319">
                  <a:moveTo>
                    <a:pt x="0" y="0"/>
                  </a:moveTo>
                  <a:lnTo>
                    <a:pt x="742" y="295"/>
                  </a:lnTo>
                  <a:lnTo>
                    <a:pt x="1288" y="752"/>
                  </a:lnTo>
                  <a:lnTo>
                    <a:pt x="1395" y="1132"/>
                  </a:lnTo>
                  <a:lnTo>
                    <a:pt x="1395" y="1275"/>
                  </a:lnTo>
                  <a:lnTo>
                    <a:pt x="1343" y="1319"/>
                  </a:lnTo>
                  <a:lnTo>
                    <a:pt x="1375" y="1256"/>
                  </a:lnTo>
                  <a:lnTo>
                    <a:pt x="1375" y="1118"/>
                  </a:lnTo>
                  <a:lnTo>
                    <a:pt x="1253" y="766"/>
                  </a:lnTo>
                  <a:lnTo>
                    <a:pt x="717" y="3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p:nvPr/>
          </p:nvSpPr>
          <p:spPr>
            <a:xfrm>
              <a:off x="3702600" y="4022640"/>
              <a:ext cx="90720" cy="23040"/>
            </a:xfrm>
            <a:custGeom>
              <a:avLst/>
              <a:gdLst/>
              <a:ahLst/>
              <a:rect l="l" t="t" r="r" b="b"/>
              <a:pathLst>
                <a:path w="938" h="245">
                  <a:moveTo>
                    <a:pt x="0" y="0"/>
                  </a:moveTo>
                  <a:lnTo>
                    <a:pt x="938" y="245"/>
                  </a:lnTo>
                  <a:lnTo>
                    <a:pt x="873" y="203"/>
                  </a:lnTo>
                  <a:lnTo>
                    <a:pt x="0"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794" name=""/>
            <p:cNvSpPr/>
            <p:nvPr/>
          </p:nvSpPr>
          <p:spPr>
            <a:xfrm>
              <a:off x="3750840" y="4079880"/>
              <a:ext cx="154800" cy="71280"/>
            </a:xfrm>
            <a:custGeom>
              <a:avLst/>
              <a:gdLst/>
              <a:ahLst/>
              <a:rect l="l" t="t" r="r" b="b"/>
              <a:pathLst>
                <a:path w="1603" h="741">
                  <a:moveTo>
                    <a:pt x="0" y="512"/>
                  </a:moveTo>
                  <a:lnTo>
                    <a:pt x="0" y="741"/>
                  </a:lnTo>
                  <a:lnTo>
                    <a:pt x="1538" y="741"/>
                  </a:lnTo>
                  <a:lnTo>
                    <a:pt x="1603" y="678"/>
                  </a:lnTo>
                  <a:lnTo>
                    <a:pt x="1603" y="512"/>
                  </a:lnTo>
                  <a:lnTo>
                    <a:pt x="1336" y="0"/>
                  </a:lnTo>
                  <a:lnTo>
                    <a:pt x="871"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95" name=""/>
            <p:cNvSpPr/>
            <p:nvPr/>
          </p:nvSpPr>
          <p:spPr>
            <a:xfrm>
              <a:off x="3899160" y="4129200"/>
              <a:ext cx="6480" cy="21960"/>
            </a:xfrm>
            <a:custGeom>
              <a:avLst/>
              <a:gdLst/>
              <a:ahLst/>
              <a:rect l="l" t="t" r="r" b="b"/>
              <a:pathLst>
                <a:path w="73" h="229">
                  <a:moveTo>
                    <a:pt x="0" y="229"/>
                  </a:moveTo>
                  <a:lnTo>
                    <a:pt x="0" y="45"/>
                  </a:lnTo>
                  <a:lnTo>
                    <a:pt x="73" y="0"/>
                  </a:lnTo>
                  <a:lnTo>
                    <a:pt x="73" y="166"/>
                  </a:lnTo>
                  <a:lnTo>
                    <a:pt x="0" y="22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96" name=""/>
            <p:cNvSpPr/>
            <p:nvPr/>
          </p:nvSpPr>
          <p:spPr>
            <a:xfrm flipH="1">
              <a:off x="3854880" y="4133880"/>
              <a:ext cx="43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97" name=""/>
            <p:cNvSpPr/>
            <p:nvPr/>
          </p:nvSpPr>
          <p:spPr>
            <a:xfrm>
              <a:off x="3853440" y="4119120"/>
              <a:ext cx="36000" cy="6480"/>
            </a:xfrm>
            <a:custGeom>
              <a:avLst/>
              <a:gdLst/>
              <a:ahLst/>
              <a:rect l="l" t="t" r="r" b="b"/>
              <a:pathLst>
                <a:path w="363" h="66">
                  <a:moveTo>
                    <a:pt x="8" y="66"/>
                  </a:moveTo>
                  <a:lnTo>
                    <a:pt x="363" y="66"/>
                  </a:lnTo>
                  <a:lnTo>
                    <a:pt x="363" y="0"/>
                  </a:lnTo>
                  <a:lnTo>
                    <a:pt x="0" y="0"/>
                  </a:lnTo>
                  <a:lnTo>
                    <a:pt x="8" y="6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98" name=""/>
            <p:cNvSpPr/>
            <p:nvPr/>
          </p:nvSpPr>
          <p:spPr>
            <a:xfrm>
              <a:off x="3843720" y="4086720"/>
              <a:ext cx="45360" cy="32400"/>
            </a:xfrm>
            <a:custGeom>
              <a:avLst/>
              <a:gdLst/>
              <a:ahLst/>
              <a:rect l="l" t="t" r="r" b="b"/>
              <a:pathLst>
                <a:path w="462" h="346">
                  <a:moveTo>
                    <a:pt x="462" y="346"/>
                  </a:moveTo>
                  <a:lnTo>
                    <a:pt x="298" y="0"/>
                  </a:lnTo>
                  <a:lnTo>
                    <a:pt x="0" y="0"/>
                  </a:lnTo>
                </a:path>
              </a:pathLst>
            </a:custGeom>
            <a:no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799" name=""/>
            <p:cNvSpPr/>
            <p:nvPr/>
          </p:nvSpPr>
          <p:spPr>
            <a:xfrm>
              <a:off x="2835000" y="4038840"/>
              <a:ext cx="595080" cy="218520"/>
            </a:xfrm>
            <a:custGeom>
              <a:avLst/>
              <a:gdLst/>
              <a:ahLst/>
              <a:rect l="l" t="t" r="r" b="b"/>
              <a:pathLst>
                <a:path w="6153" h="2259">
                  <a:moveTo>
                    <a:pt x="6153" y="2259"/>
                  </a:moveTo>
                  <a:lnTo>
                    <a:pt x="5503" y="1015"/>
                  </a:lnTo>
                  <a:lnTo>
                    <a:pt x="3916" y="519"/>
                  </a:lnTo>
                  <a:lnTo>
                    <a:pt x="3265" y="519"/>
                  </a:lnTo>
                  <a:lnTo>
                    <a:pt x="2644" y="256"/>
                  </a:lnTo>
                  <a:lnTo>
                    <a:pt x="2488" y="0"/>
                  </a:lnTo>
                  <a:lnTo>
                    <a:pt x="2520" y="384"/>
                  </a:lnTo>
                  <a:lnTo>
                    <a:pt x="2276" y="613"/>
                  </a:lnTo>
                  <a:lnTo>
                    <a:pt x="1753" y="796"/>
                  </a:lnTo>
                  <a:lnTo>
                    <a:pt x="1086" y="1246"/>
                  </a:lnTo>
                  <a:lnTo>
                    <a:pt x="861" y="1246"/>
                  </a:lnTo>
                  <a:lnTo>
                    <a:pt x="240" y="1500"/>
                  </a:lnTo>
                  <a:lnTo>
                    <a:pt x="0" y="1737"/>
                  </a:lnTo>
                  <a:lnTo>
                    <a:pt x="122" y="1969"/>
                  </a:lnTo>
                  <a:lnTo>
                    <a:pt x="122" y="2259"/>
                  </a:lnTo>
                  <a:lnTo>
                    <a:pt x="6153" y="2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
            <p:cNvSpPr/>
            <p:nvPr/>
          </p:nvSpPr>
          <p:spPr>
            <a:xfrm>
              <a:off x="3192480" y="3794400"/>
              <a:ext cx="47160" cy="100440"/>
            </a:xfrm>
            <a:custGeom>
              <a:avLst/>
              <a:gdLst/>
              <a:ahLst/>
              <a:rect l="l" t="t" r="r" b="b"/>
              <a:pathLst>
                <a:path w="494" h="1038">
                  <a:moveTo>
                    <a:pt x="0" y="0"/>
                  </a:moveTo>
                  <a:lnTo>
                    <a:pt x="494" y="1038"/>
                  </a:lnTo>
                  <a:lnTo>
                    <a:pt x="0" y="7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
            <p:cNvSpPr/>
            <p:nvPr/>
          </p:nvSpPr>
          <p:spPr>
            <a:xfrm>
              <a:off x="3178800" y="3740040"/>
              <a:ext cx="83160" cy="157680"/>
            </a:xfrm>
            <a:custGeom>
              <a:avLst/>
              <a:gdLst/>
              <a:ahLst/>
              <a:rect l="l" t="t" r="r" b="b"/>
              <a:pathLst>
                <a:path w="864" h="1626">
                  <a:moveTo>
                    <a:pt x="635" y="1593"/>
                  </a:moveTo>
                  <a:lnTo>
                    <a:pt x="0" y="254"/>
                  </a:lnTo>
                  <a:lnTo>
                    <a:pt x="0" y="0"/>
                  </a:lnTo>
                  <a:lnTo>
                    <a:pt x="864" y="16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a:off x="3399480" y="4150440"/>
              <a:ext cx="57960" cy="10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
            <p:cNvSpPr/>
            <p:nvPr/>
          </p:nvSpPr>
          <p:spPr>
            <a:xfrm>
              <a:off x="3179880" y="3740040"/>
              <a:ext cx="1692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04" name=""/>
            <p:cNvSpPr/>
            <p:nvPr/>
          </p:nvSpPr>
          <p:spPr>
            <a:xfrm>
              <a:off x="3316320" y="3864960"/>
              <a:ext cx="123840" cy="37440"/>
            </a:xfrm>
            <a:custGeom>
              <a:avLst/>
              <a:gdLst/>
              <a:ahLst/>
              <a:rect l="l" t="t" r="r" b="b"/>
              <a:pathLst>
                <a:path w="1280" h="393">
                  <a:moveTo>
                    <a:pt x="1280" y="393"/>
                  </a:moveTo>
                  <a:lnTo>
                    <a:pt x="0" y="0"/>
                  </a:lnTo>
                  <a:lnTo>
                    <a:pt x="0" y="54"/>
                  </a:lnTo>
                  <a:lnTo>
                    <a:pt x="1042" y="393"/>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05" name=""/>
            <p:cNvSpPr/>
            <p:nvPr/>
          </p:nvSpPr>
          <p:spPr>
            <a:xfrm>
              <a:off x="3495240" y="3909600"/>
              <a:ext cx="477000" cy="118800"/>
            </a:xfrm>
            <a:custGeom>
              <a:avLst/>
              <a:gdLst/>
              <a:ahLst/>
              <a:rect l="l" t="t" r="r" b="b"/>
              <a:pathLst>
                <a:path w="4924" h="1225">
                  <a:moveTo>
                    <a:pt x="0" y="107"/>
                  </a:moveTo>
                  <a:lnTo>
                    <a:pt x="3220" y="1103"/>
                  </a:lnTo>
                  <a:lnTo>
                    <a:pt x="4924" y="0"/>
                  </a:lnTo>
                  <a:lnTo>
                    <a:pt x="4924" y="89"/>
                  </a:lnTo>
                  <a:lnTo>
                    <a:pt x="3211" y="1225"/>
                  </a:lnTo>
                  <a:lnTo>
                    <a:pt x="68" y="2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flipV="1">
              <a:off x="3805920" y="401724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07" name=""/>
            <p:cNvSpPr/>
            <p:nvPr/>
          </p:nvSpPr>
          <p:spPr>
            <a:xfrm>
              <a:off x="3316320" y="3782880"/>
              <a:ext cx="656280" cy="126720"/>
            </a:xfrm>
            <a:custGeom>
              <a:avLst/>
              <a:gdLst/>
              <a:ahLst/>
              <a:rect l="l" t="t" r="r" b="b"/>
              <a:pathLst>
                <a:path w="6777" h="1317">
                  <a:moveTo>
                    <a:pt x="0" y="851"/>
                  </a:moveTo>
                  <a:lnTo>
                    <a:pt x="1699" y="0"/>
                  </a:lnTo>
                  <a:lnTo>
                    <a:pt x="6777" y="13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
            <p:cNvSpPr/>
            <p:nvPr/>
          </p:nvSpPr>
          <p:spPr>
            <a:xfrm>
              <a:off x="3805920" y="3939480"/>
              <a:ext cx="175320" cy="88920"/>
            </a:xfrm>
            <a:custGeom>
              <a:avLst/>
              <a:gdLst/>
              <a:ahLst/>
              <a:rect l="l" t="t" r="r" b="b"/>
              <a:pathLst>
                <a:path w="1808" h="922">
                  <a:moveTo>
                    <a:pt x="0" y="922"/>
                  </a:moveTo>
                  <a:lnTo>
                    <a:pt x="1808" y="86"/>
                  </a:lnTo>
                  <a:lnTo>
                    <a:pt x="1394" y="0"/>
                  </a:lnTo>
                  <a:lnTo>
                    <a:pt x="0" y="92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09" name=""/>
            <p:cNvSpPr/>
            <p:nvPr/>
          </p:nvSpPr>
          <p:spPr>
            <a:xfrm>
              <a:off x="3402360" y="3816360"/>
              <a:ext cx="471960" cy="153720"/>
            </a:xfrm>
            <a:custGeom>
              <a:avLst/>
              <a:gdLst/>
              <a:ahLst/>
              <a:rect l="l" t="t" r="r" b="b"/>
              <a:pathLst>
                <a:path w="4880" h="1590">
                  <a:moveTo>
                    <a:pt x="0" y="378"/>
                  </a:moveTo>
                  <a:lnTo>
                    <a:pt x="4089" y="1590"/>
                  </a:lnTo>
                  <a:lnTo>
                    <a:pt x="4880" y="1092"/>
                  </a:lnTo>
                  <a:lnTo>
                    <a:pt x="742" y="0"/>
                  </a:lnTo>
                  <a:lnTo>
                    <a:pt x="0" y="37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a:off x="3412080" y="3794400"/>
              <a:ext cx="42480" cy="11520"/>
            </a:xfrm>
            <a:custGeom>
              <a:avLst/>
              <a:gdLst/>
              <a:ahLst/>
              <a:rect l="l" t="t" r="r" b="b"/>
              <a:pathLst>
                <a:path w="447" h="125">
                  <a:moveTo>
                    <a:pt x="210" y="125"/>
                  </a:moveTo>
                  <a:lnTo>
                    <a:pt x="0" y="125"/>
                  </a:lnTo>
                  <a:lnTo>
                    <a:pt x="0" y="0"/>
                  </a:lnTo>
                  <a:lnTo>
                    <a:pt x="447" y="0"/>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11" name=""/>
            <p:cNvSpPr/>
            <p:nvPr/>
          </p:nvSpPr>
          <p:spPr>
            <a:xfrm>
              <a:off x="3531240" y="3794400"/>
              <a:ext cx="297000" cy="11520"/>
            </a:xfrm>
            <a:custGeom>
              <a:avLst/>
              <a:gdLst/>
              <a:ahLst/>
              <a:rect l="l" t="t" r="r" b="b"/>
              <a:pathLst>
                <a:path w="3075" h="125">
                  <a:moveTo>
                    <a:pt x="0" y="0"/>
                  </a:moveTo>
                  <a:lnTo>
                    <a:pt x="3075" y="0"/>
                  </a:lnTo>
                  <a:lnTo>
                    <a:pt x="3075" y="125"/>
                  </a:lnTo>
                  <a:lnTo>
                    <a:pt x="459" y="125"/>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12" name=""/>
            <p:cNvSpPr/>
            <p:nvPr/>
          </p:nvSpPr>
          <p:spPr>
            <a:xfrm flipV="1">
              <a:off x="3412080" y="3757320"/>
              <a:ext cx="7812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13" name=""/>
            <p:cNvSpPr/>
            <p:nvPr/>
          </p:nvSpPr>
          <p:spPr>
            <a:xfrm flipH="1" flipV="1">
              <a:off x="3756240" y="3757320"/>
              <a:ext cx="716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14" name=""/>
            <p:cNvSpPr/>
            <p:nvPr/>
          </p:nvSpPr>
          <p:spPr>
            <a:xfrm>
              <a:off x="3902760" y="3781440"/>
              <a:ext cx="135360" cy="78480"/>
            </a:xfrm>
            <a:prstGeom prst="line">
              <a:avLst/>
            </a:prstGeom>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815" name=""/>
            <p:cNvSpPr/>
            <p:nvPr/>
          </p:nvSpPr>
          <p:spPr>
            <a:xfrm>
              <a:off x="3918240" y="3877560"/>
              <a:ext cx="119880" cy="35640"/>
            </a:xfrm>
            <a:custGeom>
              <a:avLst/>
              <a:gdLst/>
              <a:ahLst/>
              <a:rect l="l" t="t" r="r" b="b"/>
              <a:pathLst>
                <a:path w="1240" h="369">
                  <a:moveTo>
                    <a:pt x="0" y="187"/>
                  </a:moveTo>
                  <a:lnTo>
                    <a:pt x="55" y="187"/>
                  </a:lnTo>
                  <a:lnTo>
                    <a:pt x="124" y="46"/>
                  </a:lnTo>
                  <a:lnTo>
                    <a:pt x="202" y="0"/>
                  </a:lnTo>
                  <a:lnTo>
                    <a:pt x="300" y="124"/>
                  </a:lnTo>
                  <a:lnTo>
                    <a:pt x="378" y="34"/>
                  </a:lnTo>
                  <a:lnTo>
                    <a:pt x="748" y="80"/>
                  </a:lnTo>
                  <a:lnTo>
                    <a:pt x="780" y="203"/>
                  </a:lnTo>
                  <a:lnTo>
                    <a:pt x="845" y="103"/>
                  </a:lnTo>
                  <a:lnTo>
                    <a:pt x="1007" y="118"/>
                  </a:lnTo>
                  <a:lnTo>
                    <a:pt x="1069" y="193"/>
                  </a:lnTo>
                  <a:lnTo>
                    <a:pt x="1147" y="177"/>
                  </a:lnTo>
                  <a:lnTo>
                    <a:pt x="1131" y="143"/>
                  </a:lnTo>
                  <a:lnTo>
                    <a:pt x="1240" y="135"/>
                  </a:lnTo>
                  <a:lnTo>
                    <a:pt x="1240" y="369"/>
                  </a:lnTo>
                  <a:lnTo>
                    <a:pt x="805" y="345"/>
                  </a:lnTo>
                  <a:lnTo>
                    <a:pt x="767" y="283"/>
                  </a:lnTo>
                  <a:lnTo>
                    <a:pt x="723" y="327"/>
                  </a:lnTo>
                  <a:lnTo>
                    <a:pt x="603" y="327"/>
                  </a:lnTo>
                  <a:lnTo>
                    <a:pt x="542" y="159"/>
                  </a:lnTo>
                  <a:lnTo>
                    <a:pt x="542" y="315"/>
                  </a:lnTo>
                  <a:lnTo>
                    <a:pt x="498" y="315"/>
                  </a:lnTo>
                  <a:lnTo>
                    <a:pt x="0" y="18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16" name=""/>
            <p:cNvSpPr/>
            <p:nvPr/>
          </p:nvSpPr>
          <p:spPr>
            <a:xfrm>
              <a:off x="3893040" y="4106880"/>
              <a:ext cx="145080" cy="13320"/>
            </a:xfrm>
            <a:custGeom>
              <a:avLst/>
              <a:gdLst/>
              <a:ahLst/>
              <a:rect l="l" t="t" r="r" b="b"/>
              <a:pathLst>
                <a:path w="1499" h="145">
                  <a:moveTo>
                    <a:pt x="49" y="44"/>
                  </a:moveTo>
                  <a:lnTo>
                    <a:pt x="475" y="44"/>
                  </a:lnTo>
                  <a:lnTo>
                    <a:pt x="982" y="134"/>
                  </a:lnTo>
                  <a:lnTo>
                    <a:pt x="1230" y="134"/>
                  </a:lnTo>
                  <a:lnTo>
                    <a:pt x="1499" y="145"/>
                  </a:lnTo>
                  <a:lnTo>
                    <a:pt x="1499" y="108"/>
                  </a:lnTo>
                  <a:lnTo>
                    <a:pt x="1266" y="80"/>
                  </a:lnTo>
                  <a:lnTo>
                    <a:pt x="1026" y="80"/>
                  </a:lnTo>
                  <a:lnTo>
                    <a:pt x="885" y="70"/>
                  </a:lnTo>
                  <a:lnTo>
                    <a:pt x="543" y="10"/>
                  </a:lnTo>
                  <a:lnTo>
                    <a:pt x="446" y="0"/>
                  </a:lnTo>
                  <a:lnTo>
                    <a:pt x="0" y="0"/>
                  </a:lnTo>
                  <a:lnTo>
                    <a:pt x="49" y="4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17" name=""/>
            <p:cNvSpPr/>
            <p:nvPr/>
          </p:nvSpPr>
          <p:spPr>
            <a:xfrm>
              <a:off x="3351960" y="3318120"/>
              <a:ext cx="532440" cy="439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
            <p:cNvSpPr/>
            <p:nvPr/>
          </p:nvSpPr>
          <p:spPr>
            <a:xfrm>
              <a:off x="3370320" y="3335760"/>
              <a:ext cx="495360" cy="405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a:off x="3398400" y="3364920"/>
              <a:ext cx="440280" cy="346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
            <p:cNvSpPr/>
            <p:nvPr/>
          </p:nvSpPr>
          <p:spPr>
            <a:xfrm>
              <a:off x="3425400" y="3417840"/>
              <a:ext cx="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21" name=""/>
            <p:cNvSpPr/>
            <p:nvPr/>
          </p:nvSpPr>
          <p:spPr>
            <a:xfrm>
              <a:off x="3425400" y="3435480"/>
              <a:ext cx="8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22" name=""/>
            <p:cNvSpPr/>
            <p:nvPr/>
          </p:nvSpPr>
          <p:spPr>
            <a:xfrm>
              <a:off x="3425400" y="3452760"/>
              <a:ext cx="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23" name=""/>
            <p:cNvSpPr/>
            <p:nvPr/>
          </p:nvSpPr>
          <p:spPr>
            <a:xfrm>
              <a:off x="3425400" y="3470400"/>
              <a:ext cx="8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24" name=""/>
            <p:cNvSpPr/>
            <p:nvPr/>
          </p:nvSpPr>
          <p:spPr>
            <a:xfrm>
              <a:off x="3425400" y="3487680"/>
              <a:ext cx="8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25" name=""/>
            <p:cNvSpPr/>
            <p:nvPr/>
          </p:nvSpPr>
          <p:spPr>
            <a:xfrm>
              <a:off x="3425400" y="3506040"/>
              <a:ext cx="8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26" name=""/>
            <p:cNvSpPr/>
            <p:nvPr/>
          </p:nvSpPr>
          <p:spPr>
            <a:xfrm>
              <a:off x="3425400" y="3524400"/>
              <a:ext cx="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27" name=""/>
            <p:cNvSpPr/>
            <p:nvPr/>
          </p:nvSpPr>
          <p:spPr>
            <a:xfrm>
              <a:off x="3425400" y="3540600"/>
              <a:ext cx="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28" name=""/>
            <p:cNvSpPr/>
            <p:nvPr/>
          </p:nvSpPr>
          <p:spPr>
            <a:xfrm>
              <a:off x="3425400" y="3559320"/>
              <a:ext cx="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29" name=""/>
            <p:cNvSpPr/>
            <p:nvPr/>
          </p:nvSpPr>
          <p:spPr>
            <a:xfrm>
              <a:off x="3425400" y="3576600"/>
              <a:ext cx="8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30" name=""/>
            <p:cNvSpPr/>
            <p:nvPr/>
          </p:nvSpPr>
          <p:spPr>
            <a:xfrm>
              <a:off x="3425400" y="3593880"/>
              <a:ext cx="8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31" name=""/>
            <p:cNvSpPr/>
            <p:nvPr/>
          </p:nvSpPr>
          <p:spPr>
            <a:xfrm>
              <a:off x="3425400" y="3611520"/>
              <a:ext cx="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32" name=""/>
            <p:cNvSpPr/>
            <p:nvPr/>
          </p:nvSpPr>
          <p:spPr>
            <a:xfrm>
              <a:off x="3425400" y="3628800"/>
              <a:ext cx="8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33" name=""/>
            <p:cNvSpPr/>
            <p:nvPr/>
          </p:nvSpPr>
          <p:spPr>
            <a:xfrm>
              <a:off x="3425400" y="3646080"/>
              <a:ext cx="8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34" name=""/>
            <p:cNvSpPr/>
            <p:nvPr/>
          </p:nvSpPr>
          <p:spPr>
            <a:xfrm>
              <a:off x="3467160" y="3670200"/>
              <a:ext cx="72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35" name=""/>
            <p:cNvSpPr/>
            <p:nvPr/>
          </p:nvSpPr>
          <p:spPr>
            <a:xfrm>
              <a:off x="3504240" y="3670200"/>
              <a:ext cx="72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36" name=""/>
            <p:cNvSpPr/>
            <p:nvPr/>
          </p:nvSpPr>
          <p:spPr>
            <a:xfrm>
              <a:off x="3540960" y="3670200"/>
              <a:ext cx="108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37" name=""/>
            <p:cNvSpPr/>
            <p:nvPr/>
          </p:nvSpPr>
          <p:spPr>
            <a:xfrm>
              <a:off x="3577680" y="3670200"/>
              <a:ext cx="72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38" name=""/>
            <p:cNvSpPr/>
            <p:nvPr/>
          </p:nvSpPr>
          <p:spPr>
            <a:xfrm>
              <a:off x="3613320" y="3670200"/>
              <a:ext cx="72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39" name=""/>
            <p:cNvSpPr/>
            <p:nvPr/>
          </p:nvSpPr>
          <p:spPr>
            <a:xfrm>
              <a:off x="3651120" y="3670200"/>
              <a:ext cx="72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40" name=""/>
            <p:cNvSpPr/>
            <p:nvPr/>
          </p:nvSpPr>
          <p:spPr>
            <a:xfrm>
              <a:off x="3687120" y="3670200"/>
              <a:ext cx="72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41" name=""/>
            <p:cNvSpPr/>
            <p:nvPr/>
          </p:nvSpPr>
          <p:spPr>
            <a:xfrm>
              <a:off x="3724920" y="3670200"/>
              <a:ext cx="72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42" name=""/>
            <p:cNvSpPr/>
            <p:nvPr/>
          </p:nvSpPr>
          <p:spPr>
            <a:xfrm>
              <a:off x="3760560" y="3670200"/>
              <a:ext cx="108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43" name=""/>
            <p:cNvSpPr/>
            <p:nvPr/>
          </p:nvSpPr>
          <p:spPr>
            <a:xfrm>
              <a:off x="3798360" y="3670200"/>
              <a:ext cx="108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44" name=""/>
            <p:cNvSpPr/>
            <p:nvPr/>
          </p:nvSpPr>
          <p:spPr>
            <a:xfrm>
              <a:off x="3467160" y="3635640"/>
              <a:ext cx="36720" cy="22680"/>
            </a:xfrm>
            <a:prstGeom prst="rect">
              <a:avLst/>
            </a:prstGeom>
            <a:noFill/>
            <a:ln w="0">
              <a:solidFill>
                <a:srgbClr val="000000"/>
              </a:solid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45" name=""/>
            <p:cNvSpPr/>
            <p:nvPr/>
          </p:nvSpPr>
          <p:spPr>
            <a:xfrm>
              <a:off x="3504240" y="3647160"/>
              <a:ext cx="36360" cy="11520"/>
            </a:xfrm>
            <a:prstGeom prst="rect">
              <a:avLst/>
            </a:prstGeom>
            <a:noFill/>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46" name=""/>
            <p:cNvSpPr/>
            <p:nvPr/>
          </p:nvSpPr>
          <p:spPr>
            <a:xfrm>
              <a:off x="3540960" y="3617280"/>
              <a:ext cx="36720" cy="41400"/>
            </a:xfrm>
            <a:prstGeom prst="rect">
              <a:avLst/>
            </a:pr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47" name=""/>
            <p:cNvSpPr/>
            <p:nvPr/>
          </p:nvSpPr>
          <p:spPr>
            <a:xfrm>
              <a:off x="3577680" y="3605760"/>
              <a:ext cx="35640" cy="52920"/>
            </a:xfrm>
            <a:prstGeom prst="rect">
              <a:avLst/>
            </a:prstGeom>
            <a:no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48" name=""/>
            <p:cNvSpPr/>
            <p:nvPr/>
          </p:nvSpPr>
          <p:spPr>
            <a:xfrm>
              <a:off x="3613320" y="3641400"/>
              <a:ext cx="37440" cy="17280"/>
            </a:xfrm>
            <a:prstGeom prst="rect">
              <a:avLst/>
            </a:pr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9" name=""/>
            <p:cNvSpPr/>
            <p:nvPr/>
          </p:nvSpPr>
          <p:spPr>
            <a:xfrm>
              <a:off x="3651120" y="3540600"/>
              <a:ext cx="35640" cy="117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a:off x="3687120" y="3423600"/>
              <a:ext cx="37440" cy="234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a:off x="3724920" y="3441240"/>
              <a:ext cx="35640" cy="217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a:off x="3760560" y="3429360"/>
              <a:ext cx="37440" cy="228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a:off x="3462480" y="3417840"/>
              <a:ext cx="18360" cy="11520"/>
            </a:xfrm>
            <a:prstGeom prst="rect">
              <a:avLst/>
            </a:prstGeom>
            <a:noFill/>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54" name=""/>
            <p:cNvSpPr/>
            <p:nvPr/>
          </p:nvSpPr>
          <p:spPr>
            <a:xfrm>
              <a:off x="3494160" y="3423600"/>
              <a:ext cx="464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55" name=""/>
            <p:cNvSpPr/>
            <p:nvPr/>
          </p:nvSpPr>
          <p:spPr>
            <a:xfrm>
              <a:off x="3462480" y="3441240"/>
              <a:ext cx="18360" cy="11520"/>
            </a:xfrm>
            <a:prstGeom prst="rect">
              <a:avLst/>
            </a:prstGeom>
            <a:noFill/>
            <a:ln w="0">
              <a:solidFill>
                <a:srgbClr val="00000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56" name=""/>
            <p:cNvSpPr/>
            <p:nvPr/>
          </p:nvSpPr>
          <p:spPr>
            <a:xfrm>
              <a:off x="3494160" y="3447000"/>
              <a:ext cx="464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57" name=""/>
            <p:cNvSpPr/>
            <p:nvPr/>
          </p:nvSpPr>
          <p:spPr>
            <a:xfrm>
              <a:off x="3538800" y="3389040"/>
              <a:ext cx="171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58" name=""/>
            <p:cNvSpPr/>
            <p:nvPr/>
          </p:nvSpPr>
          <p:spPr>
            <a:xfrm>
              <a:off x="3448800" y="3406320"/>
              <a:ext cx="353160" cy="252360"/>
            </a:xfrm>
            <a:custGeom>
              <a:avLst/>
              <a:gdLst/>
              <a:ahLst/>
              <a:rect l="l" t="t" r="r" b="b"/>
              <a:pathLst>
                <a:path w="3654" h="2614">
                  <a:moveTo>
                    <a:pt x="0" y="0"/>
                  </a:moveTo>
                  <a:lnTo>
                    <a:pt x="0" y="2614"/>
                  </a:lnTo>
                  <a:lnTo>
                    <a:pt x="3654" y="26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9" name=""/>
          <p:cNvGrpSpPr/>
          <p:nvPr/>
        </p:nvGrpSpPr>
        <p:grpSpPr>
          <a:xfrm>
            <a:off x="1523880" y="1295280"/>
            <a:ext cx="990360" cy="552240"/>
            <a:chOff x="1523880" y="1295280"/>
            <a:chExt cx="990360" cy="552240"/>
          </a:xfrm>
        </p:grpSpPr>
        <p:sp>
          <p:nvSpPr>
            <p:cNvPr id="2860" name=""/>
            <p:cNvSpPr/>
            <p:nvPr/>
          </p:nvSpPr>
          <p:spPr>
            <a:xfrm>
              <a:off x="1523880" y="1362960"/>
              <a:ext cx="505440" cy="350640"/>
            </a:xfrm>
            <a:custGeom>
              <a:avLst/>
              <a:gdLst/>
              <a:ahLst/>
              <a:rect l="l" t="t" r="r" b="b"/>
              <a:pathLst>
                <a:path w="8065" h="5584">
                  <a:moveTo>
                    <a:pt x="0" y="3180"/>
                  </a:moveTo>
                  <a:lnTo>
                    <a:pt x="923" y="3180"/>
                  </a:lnTo>
                  <a:lnTo>
                    <a:pt x="1463" y="0"/>
                  </a:lnTo>
                  <a:lnTo>
                    <a:pt x="4947" y="131"/>
                  </a:lnTo>
                  <a:lnTo>
                    <a:pt x="5071" y="3307"/>
                  </a:lnTo>
                  <a:lnTo>
                    <a:pt x="4367" y="3307"/>
                  </a:lnTo>
                  <a:lnTo>
                    <a:pt x="5430" y="3523"/>
                  </a:lnTo>
                  <a:lnTo>
                    <a:pt x="5430" y="4769"/>
                  </a:lnTo>
                  <a:lnTo>
                    <a:pt x="6027" y="4738"/>
                  </a:lnTo>
                  <a:lnTo>
                    <a:pt x="8065" y="5222"/>
                  </a:lnTo>
                  <a:lnTo>
                    <a:pt x="4205" y="5584"/>
                  </a:lnTo>
                  <a:lnTo>
                    <a:pt x="2834" y="4948"/>
                  </a:lnTo>
                  <a:lnTo>
                    <a:pt x="1501" y="5061"/>
                  </a:lnTo>
                  <a:lnTo>
                    <a:pt x="0" y="3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a:off x="1639080" y="1389240"/>
              <a:ext cx="181080" cy="163440"/>
            </a:xfrm>
            <a:custGeom>
              <a:avLst/>
              <a:gdLst/>
              <a:ahLst/>
              <a:rect l="l" t="t" r="r" b="b"/>
              <a:pathLst>
                <a:path w="2888" h="2601">
                  <a:moveTo>
                    <a:pt x="0" y="0"/>
                  </a:moveTo>
                  <a:lnTo>
                    <a:pt x="70" y="2601"/>
                  </a:lnTo>
                  <a:lnTo>
                    <a:pt x="2888" y="2568"/>
                  </a:lnTo>
                  <a:lnTo>
                    <a:pt x="2798" y="76"/>
                  </a:lnTo>
                  <a:lnTo>
                    <a:pt x="0"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
            <p:cNvSpPr/>
            <p:nvPr/>
          </p:nvSpPr>
          <p:spPr>
            <a:xfrm>
              <a:off x="2077560" y="1495440"/>
              <a:ext cx="397800" cy="329400"/>
            </a:xfrm>
            <a:custGeom>
              <a:avLst/>
              <a:gdLst/>
              <a:ahLst/>
              <a:rect l="l" t="t" r="r" b="b"/>
              <a:pathLst>
                <a:path w="6343" h="5241">
                  <a:moveTo>
                    <a:pt x="117" y="3295"/>
                  </a:moveTo>
                  <a:lnTo>
                    <a:pt x="0" y="2659"/>
                  </a:lnTo>
                  <a:lnTo>
                    <a:pt x="0" y="2423"/>
                  </a:lnTo>
                  <a:lnTo>
                    <a:pt x="614" y="2144"/>
                  </a:lnTo>
                  <a:lnTo>
                    <a:pt x="889" y="2321"/>
                  </a:lnTo>
                  <a:lnTo>
                    <a:pt x="1405" y="2282"/>
                  </a:lnTo>
                  <a:lnTo>
                    <a:pt x="2161" y="2144"/>
                  </a:lnTo>
                  <a:lnTo>
                    <a:pt x="2495" y="1966"/>
                  </a:lnTo>
                  <a:lnTo>
                    <a:pt x="2593" y="1726"/>
                  </a:lnTo>
                  <a:lnTo>
                    <a:pt x="2771" y="1488"/>
                  </a:lnTo>
                  <a:lnTo>
                    <a:pt x="3208" y="1272"/>
                  </a:lnTo>
                  <a:lnTo>
                    <a:pt x="3467" y="952"/>
                  </a:lnTo>
                  <a:lnTo>
                    <a:pt x="4001" y="140"/>
                  </a:lnTo>
                  <a:lnTo>
                    <a:pt x="5668" y="0"/>
                  </a:lnTo>
                  <a:lnTo>
                    <a:pt x="5925" y="179"/>
                  </a:lnTo>
                  <a:lnTo>
                    <a:pt x="5904" y="258"/>
                  </a:lnTo>
                  <a:lnTo>
                    <a:pt x="5805" y="379"/>
                  </a:lnTo>
                  <a:lnTo>
                    <a:pt x="5805" y="576"/>
                  </a:lnTo>
                  <a:lnTo>
                    <a:pt x="5786" y="697"/>
                  </a:lnTo>
                  <a:lnTo>
                    <a:pt x="5709" y="715"/>
                  </a:lnTo>
                  <a:lnTo>
                    <a:pt x="5886" y="1012"/>
                  </a:lnTo>
                  <a:lnTo>
                    <a:pt x="6145" y="1528"/>
                  </a:lnTo>
                  <a:lnTo>
                    <a:pt x="6343" y="1726"/>
                  </a:lnTo>
                  <a:lnTo>
                    <a:pt x="6343" y="2084"/>
                  </a:lnTo>
                  <a:lnTo>
                    <a:pt x="1346" y="5241"/>
                  </a:lnTo>
                  <a:lnTo>
                    <a:pt x="950" y="5040"/>
                  </a:lnTo>
                  <a:lnTo>
                    <a:pt x="790" y="3615"/>
                  </a:lnTo>
                  <a:lnTo>
                    <a:pt x="117" y="3295"/>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3" name=""/>
            <p:cNvSpPr/>
            <p:nvPr/>
          </p:nvSpPr>
          <p:spPr>
            <a:xfrm>
              <a:off x="1918080" y="1782360"/>
              <a:ext cx="221040" cy="64800"/>
            </a:xfrm>
            <a:custGeom>
              <a:avLst/>
              <a:gdLst/>
              <a:ahLst/>
              <a:rect l="l" t="t" r="r" b="b"/>
              <a:pathLst>
                <a:path w="3531" h="1033">
                  <a:moveTo>
                    <a:pt x="0" y="1033"/>
                  </a:moveTo>
                  <a:lnTo>
                    <a:pt x="3193" y="1033"/>
                  </a:lnTo>
                  <a:lnTo>
                    <a:pt x="3531" y="0"/>
                  </a:lnTo>
                  <a:lnTo>
                    <a:pt x="1312" y="220"/>
                  </a:lnTo>
                  <a:lnTo>
                    <a:pt x="0" y="1033"/>
                  </a:lnTo>
                  <a:close/>
                </a:path>
              </a:pathLst>
            </a:custGeom>
            <a:solidFill>
              <a:srgbClr val="00ea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64" name=""/>
            <p:cNvSpPr/>
            <p:nvPr/>
          </p:nvSpPr>
          <p:spPr>
            <a:xfrm>
              <a:off x="2311920" y="1623960"/>
              <a:ext cx="200520" cy="222840"/>
            </a:xfrm>
            <a:custGeom>
              <a:avLst/>
              <a:gdLst/>
              <a:ahLst/>
              <a:rect l="l" t="t" r="r" b="b"/>
              <a:pathLst>
                <a:path w="3192" h="3555">
                  <a:moveTo>
                    <a:pt x="2299" y="3555"/>
                  </a:moveTo>
                  <a:lnTo>
                    <a:pt x="2299" y="2560"/>
                  </a:lnTo>
                  <a:lnTo>
                    <a:pt x="2495" y="1630"/>
                  </a:lnTo>
                  <a:lnTo>
                    <a:pt x="2773" y="994"/>
                  </a:lnTo>
                  <a:lnTo>
                    <a:pt x="2954" y="558"/>
                  </a:lnTo>
                  <a:lnTo>
                    <a:pt x="3192" y="299"/>
                  </a:lnTo>
                  <a:lnTo>
                    <a:pt x="3192" y="216"/>
                  </a:lnTo>
                  <a:lnTo>
                    <a:pt x="3051" y="79"/>
                  </a:lnTo>
                  <a:lnTo>
                    <a:pt x="2914" y="0"/>
                  </a:lnTo>
                  <a:lnTo>
                    <a:pt x="2634" y="22"/>
                  </a:lnTo>
                  <a:lnTo>
                    <a:pt x="2179" y="179"/>
                  </a:lnTo>
                  <a:lnTo>
                    <a:pt x="1525" y="615"/>
                  </a:lnTo>
                  <a:lnTo>
                    <a:pt x="952" y="1251"/>
                  </a:lnTo>
                  <a:lnTo>
                    <a:pt x="455" y="2005"/>
                  </a:lnTo>
                  <a:lnTo>
                    <a:pt x="198" y="2639"/>
                  </a:lnTo>
                  <a:lnTo>
                    <a:pt x="0" y="3555"/>
                  </a:lnTo>
                  <a:lnTo>
                    <a:pt x="2299" y="35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
            <p:cNvSpPr/>
            <p:nvPr/>
          </p:nvSpPr>
          <p:spPr>
            <a:xfrm>
              <a:off x="1844280" y="1630800"/>
              <a:ext cx="237600" cy="60480"/>
            </a:xfrm>
            <a:custGeom>
              <a:avLst/>
              <a:gdLst/>
              <a:ahLst/>
              <a:rect l="l" t="t" r="r" b="b"/>
              <a:pathLst>
                <a:path w="3789" h="959">
                  <a:moveTo>
                    <a:pt x="0" y="314"/>
                  </a:moveTo>
                  <a:lnTo>
                    <a:pt x="484" y="353"/>
                  </a:lnTo>
                  <a:lnTo>
                    <a:pt x="893" y="554"/>
                  </a:lnTo>
                  <a:lnTo>
                    <a:pt x="1159" y="787"/>
                  </a:lnTo>
                  <a:lnTo>
                    <a:pt x="1714" y="891"/>
                  </a:lnTo>
                  <a:lnTo>
                    <a:pt x="2251" y="831"/>
                  </a:lnTo>
                  <a:lnTo>
                    <a:pt x="3789" y="959"/>
                  </a:lnTo>
                  <a:lnTo>
                    <a:pt x="3720" y="456"/>
                  </a:lnTo>
                  <a:lnTo>
                    <a:pt x="2155" y="449"/>
                  </a:lnTo>
                  <a:lnTo>
                    <a:pt x="1874" y="397"/>
                  </a:lnTo>
                  <a:lnTo>
                    <a:pt x="1076" y="0"/>
                  </a:lnTo>
                  <a:lnTo>
                    <a:pt x="845" y="77"/>
                  </a:lnTo>
                  <a:lnTo>
                    <a:pt x="662" y="42"/>
                  </a:lnTo>
                  <a:lnTo>
                    <a:pt x="424" y="42"/>
                  </a:lnTo>
                  <a:lnTo>
                    <a:pt x="344" y="96"/>
                  </a:lnTo>
                  <a:lnTo>
                    <a:pt x="19" y="253"/>
                  </a:lnTo>
                  <a:lnTo>
                    <a:pt x="0" y="314"/>
                  </a:lnTo>
                  <a:close/>
                </a:path>
              </a:pathLst>
            </a:custGeom>
            <a:solidFill>
              <a:srgbClr val="ffc98e"/>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66" name=""/>
            <p:cNvSpPr/>
            <p:nvPr/>
          </p:nvSpPr>
          <p:spPr>
            <a:xfrm>
              <a:off x="2140200" y="1461600"/>
              <a:ext cx="113760" cy="248040"/>
            </a:xfrm>
            <a:custGeom>
              <a:avLst/>
              <a:gdLst/>
              <a:ahLst/>
              <a:rect l="l" t="t" r="r" b="b"/>
              <a:pathLst>
                <a:path w="1809" h="3947">
                  <a:moveTo>
                    <a:pt x="739" y="124"/>
                  </a:moveTo>
                  <a:lnTo>
                    <a:pt x="859" y="53"/>
                  </a:lnTo>
                  <a:lnTo>
                    <a:pt x="1001" y="41"/>
                  </a:lnTo>
                  <a:lnTo>
                    <a:pt x="1051" y="72"/>
                  </a:lnTo>
                  <a:lnTo>
                    <a:pt x="1127" y="20"/>
                  </a:lnTo>
                  <a:lnTo>
                    <a:pt x="1259" y="0"/>
                  </a:lnTo>
                  <a:lnTo>
                    <a:pt x="1308" y="20"/>
                  </a:lnTo>
                  <a:lnTo>
                    <a:pt x="1356" y="53"/>
                  </a:lnTo>
                  <a:lnTo>
                    <a:pt x="1489" y="41"/>
                  </a:lnTo>
                  <a:lnTo>
                    <a:pt x="1618" y="92"/>
                  </a:lnTo>
                  <a:lnTo>
                    <a:pt x="1809" y="512"/>
                  </a:lnTo>
                  <a:lnTo>
                    <a:pt x="1791" y="573"/>
                  </a:lnTo>
                  <a:lnTo>
                    <a:pt x="1211" y="1513"/>
                  </a:lnTo>
                  <a:lnTo>
                    <a:pt x="1120" y="1835"/>
                  </a:lnTo>
                  <a:lnTo>
                    <a:pt x="1022" y="3005"/>
                  </a:lnTo>
                  <a:lnTo>
                    <a:pt x="889" y="3244"/>
                  </a:lnTo>
                  <a:lnTo>
                    <a:pt x="530" y="3335"/>
                  </a:lnTo>
                  <a:lnTo>
                    <a:pt x="281" y="3568"/>
                  </a:lnTo>
                  <a:lnTo>
                    <a:pt x="149" y="3777"/>
                  </a:lnTo>
                  <a:lnTo>
                    <a:pt x="41" y="3947"/>
                  </a:lnTo>
                  <a:lnTo>
                    <a:pt x="0" y="3579"/>
                  </a:lnTo>
                  <a:lnTo>
                    <a:pt x="68" y="3173"/>
                  </a:lnTo>
                  <a:lnTo>
                    <a:pt x="191" y="2748"/>
                  </a:lnTo>
                  <a:lnTo>
                    <a:pt x="340" y="2186"/>
                  </a:lnTo>
                  <a:lnTo>
                    <a:pt x="459" y="1715"/>
                  </a:lnTo>
                  <a:lnTo>
                    <a:pt x="459" y="1513"/>
                  </a:lnTo>
                  <a:lnTo>
                    <a:pt x="438" y="1382"/>
                  </a:lnTo>
                  <a:lnTo>
                    <a:pt x="409" y="1155"/>
                  </a:lnTo>
                  <a:lnTo>
                    <a:pt x="419" y="913"/>
                  </a:lnTo>
                  <a:lnTo>
                    <a:pt x="499" y="704"/>
                  </a:lnTo>
                  <a:lnTo>
                    <a:pt x="530" y="554"/>
                  </a:lnTo>
                  <a:lnTo>
                    <a:pt x="669" y="224"/>
                  </a:lnTo>
                  <a:lnTo>
                    <a:pt x="739" y="124"/>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7" name=""/>
            <p:cNvSpPr/>
            <p:nvPr/>
          </p:nvSpPr>
          <p:spPr>
            <a:xfrm>
              <a:off x="2167920" y="1549440"/>
              <a:ext cx="31680" cy="19080"/>
            </a:xfrm>
            <a:custGeom>
              <a:avLst/>
              <a:gdLst/>
              <a:ahLst/>
              <a:rect l="l" t="t" r="r" b="b"/>
              <a:pathLst>
                <a:path w="505" h="314">
                  <a:moveTo>
                    <a:pt x="11" y="123"/>
                  </a:moveTo>
                  <a:lnTo>
                    <a:pt x="85" y="61"/>
                  </a:lnTo>
                  <a:lnTo>
                    <a:pt x="266" y="0"/>
                  </a:lnTo>
                  <a:lnTo>
                    <a:pt x="505" y="5"/>
                  </a:lnTo>
                  <a:lnTo>
                    <a:pt x="432" y="285"/>
                  </a:lnTo>
                  <a:lnTo>
                    <a:pt x="324" y="231"/>
                  </a:lnTo>
                  <a:lnTo>
                    <a:pt x="218" y="231"/>
                  </a:lnTo>
                  <a:lnTo>
                    <a:pt x="46" y="314"/>
                  </a:lnTo>
                  <a:lnTo>
                    <a:pt x="0" y="279"/>
                  </a:lnTo>
                  <a:lnTo>
                    <a:pt x="11" y="123"/>
                  </a:lnTo>
                  <a:close/>
                </a:path>
              </a:pathLst>
            </a:custGeom>
            <a:solidFill>
              <a:srgbClr val="70230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68" name=""/>
            <p:cNvSpPr/>
            <p:nvPr/>
          </p:nvSpPr>
          <p:spPr>
            <a:xfrm>
              <a:off x="2235240" y="1520280"/>
              <a:ext cx="25200" cy="32400"/>
            </a:xfrm>
            <a:custGeom>
              <a:avLst/>
              <a:gdLst/>
              <a:ahLst/>
              <a:rect l="l" t="t" r="r" b="b"/>
              <a:pathLst>
                <a:path w="410" h="524">
                  <a:moveTo>
                    <a:pt x="104" y="0"/>
                  </a:moveTo>
                  <a:lnTo>
                    <a:pt x="410" y="476"/>
                  </a:lnTo>
                  <a:lnTo>
                    <a:pt x="410" y="494"/>
                  </a:lnTo>
                  <a:lnTo>
                    <a:pt x="389" y="505"/>
                  </a:lnTo>
                  <a:lnTo>
                    <a:pt x="353" y="524"/>
                  </a:lnTo>
                  <a:lnTo>
                    <a:pt x="332" y="515"/>
                  </a:lnTo>
                  <a:lnTo>
                    <a:pt x="0" y="64"/>
                  </a:lnTo>
                  <a:lnTo>
                    <a:pt x="104" y="0"/>
                  </a:lnTo>
                  <a:close/>
                </a:path>
              </a:pathLst>
            </a:custGeom>
            <a:solidFill>
              <a:srgbClr val="ffea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869" name=""/>
            <p:cNvSpPr/>
            <p:nvPr/>
          </p:nvSpPr>
          <p:spPr>
            <a:xfrm>
              <a:off x="2189160" y="1451160"/>
              <a:ext cx="12960" cy="14400"/>
            </a:xfrm>
            <a:custGeom>
              <a:avLst/>
              <a:gdLst/>
              <a:ahLst/>
              <a:rect l="l" t="t" r="r" b="b"/>
              <a:pathLst>
                <a:path w="211" h="233">
                  <a:moveTo>
                    <a:pt x="0" y="0"/>
                  </a:moveTo>
                  <a:lnTo>
                    <a:pt x="78" y="233"/>
                  </a:lnTo>
                  <a:lnTo>
                    <a:pt x="211" y="204"/>
                  </a:lnTo>
                  <a:lnTo>
                    <a:pt x="44" y="39"/>
                  </a:lnTo>
                  <a:lnTo>
                    <a:pt x="0" y="0"/>
                  </a:lnTo>
                  <a:close/>
                </a:path>
              </a:pathLst>
            </a:custGeom>
            <a:solidFill>
              <a:srgbClr val="ffe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70" name=""/>
            <p:cNvSpPr/>
            <p:nvPr/>
          </p:nvSpPr>
          <p:spPr>
            <a:xfrm>
              <a:off x="2193840" y="1549440"/>
              <a:ext cx="21960" cy="24840"/>
            </a:xfrm>
            <a:custGeom>
              <a:avLst/>
              <a:gdLst/>
              <a:ahLst/>
              <a:rect l="l" t="t" r="r" b="b"/>
              <a:pathLst>
                <a:path w="352" h="399">
                  <a:moveTo>
                    <a:pt x="76" y="0"/>
                  </a:moveTo>
                  <a:lnTo>
                    <a:pt x="0" y="144"/>
                  </a:lnTo>
                  <a:lnTo>
                    <a:pt x="43" y="318"/>
                  </a:lnTo>
                  <a:lnTo>
                    <a:pt x="109" y="397"/>
                  </a:lnTo>
                  <a:lnTo>
                    <a:pt x="246" y="399"/>
                  </a:lnTo>
                  <a:lnTo>
                    <a:pt x="333" y="297"/>
                  </a:lnTo>
                  <a:lnTo>
                    <a:pt x="352" y="164"/>
                  </a:lnTo>
                  <a:lnTo>
                    <a:pt x="287" y="65"/>
                  </a:lnTo>
                  <a:lnTo>
                    <a:pt x="202" y="5"/>
                  </a:lnTo>
                  <a:lnTo>
                    <a:pt x="76" y="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71" name=""/>
            <p:cNvSpPr/>
            <p:nvPr/>
          </p:nvSpPr>
          <p:spPr>
            <a:xfrm>
              <a:off x="2256840" y="1322640"/>
              <a:ext cx="178560" cy="184320"/>
            </a:xfrm>
            <a:custGeom>
              <a:avLst/>
              <a:gdLst/>
              <a:ahLst/>
              <a:rect l="l" t="t" r="r" b="b"/>
              <a:pathLst>
                <a:path w="2846" h="2935">
                  <a:moveTo>
                    <a:pt x="573" y="204"/>
                  </a:moveTo>
                  <a:lnTo>
                    <a:pt x="405" y="416"/>
                  </a:lnTo>
                  <a:lnTo>
                    <a:pt x="255" y="1035"/>
                  </a:lnTo>
                  <a:lnTo>
                    <a:pt x="320" y="1222"/>
                  </a:lnTo>
                  <a:lnTo>
                    <a:pt x="309" y="1309"/>
                  </a:lnTo>
                  <a:lnTo>
                    <a:pt x="0" y="1741"/>
                  </a:lnTo>
                  <a:lnTo>
                    <a:pt x="27" y="1822"/>
                  </a:lnTo>
                  <a:lnTo>
                    <a:pt x="276" y="1911"/>
                  </a:lnTo>
                  <a:lnTo>
                    <a:pt x="276" y="2169"/>
                  </a:lnTo>
                  <a:lnTo>
                    <a:pt x="336" y="2201"/>
                  </a:lnTo>
                  <a:lnTo>
                    <a:pt x="283" y="2284"/>
                  </a:lnTo>
                  <a:lnTo>
                    <a:pt x="301" y="2327"/>
                  </a:lnTo>
                  <a:lnTo>
                    <a:pt x="364" y="2408"/>
                  </a:lnTo>
                  <a:lnTo>
                    <a:pt x="364" y="2439"/>
                  </a:lnTo>
                  <a:lnTo>
                    <a:pt x="309" y="2565"/>
                  </a:lnTo>
                  <a:lnTo>
                    <a:pt x="301" y="2665"/>
                  </a:lnTo>
                  <a:lnTo>
                    <a:pt x="355" y="2742"/>
                  </a:lnTo>
                  <a:lnTo>
                    <a:pt x="918" y="2857"/>
                  </a:lnTo>
                  <a:lnTo>
                    <a:pt x="1486" y="2883"/>
                  </a:lnTo>
                  <a:lnTo>
                    <a:pt x="2164" y="2911"/>
                  </a:lnTo>
                  <a:lnTo>
                    <a:pt x="2740" y="2935"/>
                  </a:lnTo>
                  <a:lnTo>
                    <a:pt x="2846" y="2865"/>
                  </a:lnTo>
                  <a:lnTo>
                    <a:pt x="2794" y="2778"/>
                  </a:lnTo>
                  <a:lnTo>
                    <a:pt x="2724" y="2343"/>
                  </a:lnTo>
                  <a:lnTo>
                    <a:pt x="918" y="0"/>
                  </a:lnTo>
                  <a:lnTo>
                    <a:pt x="573" y="204"/>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2289240" y="1296360"/>
              <a:ext cx="128160" cy="46080"/>
            </a:xfrm>
            <a:custGeom>
              <a:avLst/>
              <a:gdLst/>
              <a:ahLst/>
              <a:rect l="l" t="t" r="r" b="b"/>
              <a:pathLst>
                <a:path w="2048" h="741">
                  <a:moveTo>
                    <a:pt x="0" y="602"/>
                  </a:moveTo>
                  <a:lnTo>
                    <a:pt x="316" y="496"/>
                  </a:lnTo>
                  <a:lnTo>
                    <a:pt x="449" y="741"/>
                  </a:lnTo>
                  <a:lnTo>
                    <a:pt x="2048" y="382"/>
                  </a:lnTo>
                  <a:lnTo>
                    <a:pt x="1886" y="176"/>
                  </a:lnTo>
                  <a:lnTo>
                    <a:pt x="1728" y="122"/>
                  </a:lnTo>
                  <a:lnTo>
                    <a:pt x="1633" y="103"/>
                  </a:lnTo>
                  <a:lnTo>
                    <a:pt x="1394" y="0"/>
                  </a:lnTo>
                  <a:lnTo>
                    <a:pt x="1139" y="8"/>
                  </a:lnTo>
                  <a:lnTo>
                    <a:pt x="748" y="59"/>
                  </a:lnTo>
                  <a:lnTo>
                    <a:pt x="370" y="185"/>
                  </a:lnTo>
                  <a:lnTo>
                    <a:pt x="69" y="371"/>
                  </a:lnTo>
                  <a:lnTo>
                    <a:pt x="32" y="502"/>
                  </a:lnTo>
                  <a:lnTo>
                    <a:pt x="0" y="602"/>
                  </a:lnTo>
                  <a:close/>
                </a:path>
              </a:pathLst>
            </a:custGeom>
            <a:solidFill>
              <a:srgbClr val="70230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3" name=""/>
            <p:cNvSpPr/>
            <p:nvPr/>
          </p:nvSpPr>
          <p:spPr>
            <a:xfrm>
              <a:off x="2257560" y="1295280"/>
              <a:ext cx="187920" cy="137880"/>
            </a:xfrm>
            <a:custGeom>
              <a:avLst/>
              <a:gdLst/>
              <a:ahLst/>
              <a:rect l="l" t="t" r="r" b="b"/>
              <a:pathLst>
                <a:path w="2995" h="2197">
                  <a:moveTo>
                    <a:pt x="787" y="567"/>
                  </a:moveTo>
                  <a:lnTo>
                    <a:pt x="581" y="682"/>
                  </a:lnTo>
                  <a:lnTo>
                    <a:pt x="421" y="854"/>
                  </a:lnTo>
                  <a:lnTo>
                    <a:pt x="259" y="1434"/>
                  </a:lnTo>
                  <a:lnTo>
                    <a:pt x="351" y="1500"/>
                  </a:lnTo>
                  <a:lnTo>
                    <a:pt x="1007" y="1461"/>
                  </a:lnTo>
                  <a:lnTo>
                    <a:pt x="361" y="1530"/>
                  </a:lnTo>
                  <a:lnTo>
                    <a:pt x="342" y="1546"/>
                  </a:lnTo>
                  <a:lnTo>
                    <a:pt x="571" y="1648"/>
                  </a:lnTo>
                  <a:lnTo>
                    <a:pt x="606" y="1698"/>
                  </a:lnTo>
                  <a:lnTo>
                    <a:pt x="427" y="1708"/>
                  </a:lnTo>
                  <a:lnTo>
                    <a:pt x="494" y="1766"/>
                  </a:lnTo>
                  <a:lnTo>
                    <a:pt x="361" y="1966"/>
                  </a:lnTo>
                  <a:lnTo>
                    <a:pt x="361" y="1766"/>
                  </a:lnTo>
                  <a:lnTo>
                    <a:pt x="316" y="1739"/>
                  </a:lnTo>
                  <a:lnTo>
                    <a:pt x="246" y="1853"/>
                  </a:lnTo>
                  <a:lnTo>
                    <a:pt x="0" y="2197"/>
                  </a:lnTo>
                  <a:lnTo>
                    <a:pt x="284" y="1739"/>
                  </a:lnTo>
                  <a:lnTo>
                    <a:pt x="284" y="1656"/>
                  </a:lnTo>
                  <a:lnTo>
                    <a:pt x="228" y="1546"/>
                  </a:lnTo>
                  <a:lnTo>
                    <a:pt x="203" y="1497"/>
                  </a:lnTo>
                  <a:lnTo>
                    <a:pt x="238" y="1443"/>
                  </a:lnTo>
                  <a:lnTo>
                    <a:pt x="390" y="846"/>
                  </a:lnTo>
                  <a:lnTo>
                    <a:pt x="444" y="759"/>
                  </a:lnTo>
                  <a:lnTo>
                    <a:pt x="373" y="682"/>
                  </a:lnTo>
                  <a:lnTo>
                    <a:pt x="384" y="580"/>
                  </a:lnTo>
                  <a:lnTo>
                    <a:pt x="454" y="443"/>
                  </a:lnTo>
                  <a:lnTo>
                    <a:pt x="633" y="323"/>
                  </a:lnTo>
                  <a:lnTo>
                    <a:pt x="896" y="211"/>
                  </a:lnTo>
                  <a:lnTo>
                    <a:pt x="691" y="347"/>
                  </a:lnTo>
                  <a:lnTo>
                    <a:pt x="647" y="433"/>
                  </a:lnTo>
                  <a:lnTo>
                    <a:pt x="581" y="471"/>
                  </a:lnTo>
                  <a:lnTo>
                    <a:pt x="560" y="567"/>
                  </a:lnTo>
                  <a:lnTo>
                    <a:pt x="656" y="539"/>
                  </a:lnTo>
                  <a:lnTo>
                    <a:pt x="674" y="495"/>
                  </a:lnTo>
                  <a:lnTo>
                    <a:pt x="787" y="443"/>
                  </a:lnTo>
                  <a:lnTo>
                    <a:pt x="752" y="383"/>
                  </a:lnTo>
                  <a:lnTo>
                    <a:pt x="896" y="377"/>
                  </a:lnTo>
                  <a:lnTo>
                    <a:pt x="880" y="314"/>
                  </a:lnTo>
                  <a:lnTo>
                    <a:pt x="1048" y="299"/>
                  </a:lnTo>
                  <a:lnTo>
                    <a:pt x="1136" y="221"/>
                  </a:lnTo>
                  <a:lnTo>
                    <a:pt x="1373" y="211"/>
                  </a:lnTo>
                  <a:lnTo>
                    <a:pt x="1811" y="144"/>
                  </a:lnTo>
                  <a:lnTo>
                    <a:pt x="2048" y="188"/>
                  </a:lnTo>
                  <a:lnTo>
                    <a:pt x="1740" y="240"/>
                  </a:lnTo>
                  <a:lnTo>
                    <a:pt x="1333" y="340"/>
                  </a:lnTo>
                  <a:lnTo>
                    <a:pt x="1092" y="408"/>
                  </a:lnTo>
                  <a:lnTo>
                    <a:pt x="985" y="539"/>
                  </a:lnTo>
                  <a:lnTo>
                    <a:pt x="946" y="657"/>
                  </a:lnTo>
                  <a:lnTo>
                    <a:pt x="1136" y="545"/>
                  </a:lnTo>
                  <a:lnTo>
                    <a:pt x="1229" y="606"/>
                  </a:lnTo>
                  <a:lnTo>
                    <a:pt x="1373" y="478"/>
                  </a:lnTo>
                  <a:lnTo>
                    <a:pt x="1595" y="443"/>
                  </a:lnTo>
                  <a:lnTo>
                    <a:pt x="1752" y="486"/>
                  </a:lnTo>
                  <a:lnTo>
                    <a:pt x="1946" y="416"/>
                  </a:lnTo>
                  <a:lnTo>
                    <a:pt x="2064" y="401"/>
                  </a:lnTo>
                  <a:lnTo>
                    <a:pt x="2220" y="416"/>
                  </a:lnTo>
                  <a:lnTo>
                    <a:pt x="2193" y="240"/>
                  </a:lnTo>
                  <a:lnTo>
                    <a:pt x="2314" y="246"/>
                  </a:lnTo>
                  <a:lnTo>
                    <a:pt x="2450" y="299"/>
                  </a:lnTo>
                  <a:lnTo>
                    <a:pt x="2288" y="177"/>
                  </a:lnTo>
                  <a:lnTo>
                    <a:pt x="2125" y="163"/>
                  </a:lnTo>
                  <a:lnTo>
                    <a:pt x="2083" y="117"/>
                  </a:lnTo>
                  <a:lnTo>
                    <a:pt x="1855" y="32"/>
                  </a:lnTo>
                  <a:lnTo>
                    <a:pt x="1595" y="40"/>
                  </a:lnTo>
                  <a:lnTo>
                    <a:pt x="1155" y="117"/>
                  </a:lnTo>
                  <a:lnTo>
                    <a:pt x="1606" y="0"/>
                  </a:lnTo>
                  <a:lnTo>
                    <a:pt x="1946" y="24"/>
                  </a:lnTo>
                  <a:lnTo>
                    <a:pt x="2203" y="135"/>
                  </a:lnTo>
                  <a:lnTo>
                    <a:pt x="2450" y="202"/>
                  </a:lnTo>
                  <a:lnTo>
                    <a:pt x="2629" y="323"/>
                  </a:lnTo>
                  <a:lnTo>
                    <a:pt x="2824" y="443"/>
                  </a:lnTo>
                  <a:lnTo>
                    <a:pt x="2995" y="707"/>
                  </a:lnTo>
                  <a:lnTo>
                    <a:pt x="691" y="1310"/>
                  </a:lnTo>
                  <a:lnTo>
                    <a:pt x="691" y="1101"/>
                  </a:lnTo>
                  <a:lnTo>
                    <a:pt x="813" y="828"/>
                  </a:lnTo>
                  <a:lnTo>
                    <a:pt x="787" y="663"/>
                  </a:lnTo>
                  <a:lnTo>
                    <a:pt x="787" y="5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a:off x="2298960" y="1336680"/>
              <a:ext cx="159120" cy="139320"/>
            </a:xfrm>
            <a:custGeom>
              <a:avLst/>
              <a:gdLst/>
              <a:ahLst/>
              <a:rect l="l" t="t" r="r" b="b"/>
              <a:pathLst>
                <a:path w="2545" h="2219">
                  <a:moveTo>
                    <a:pt x="35" y="488"/>
                  </a:moveTo>
                  <a:lnTo>
                    <a:pt x="0" y="647"/>
                  </a:lnTo>
                  <a:lnTo>
                    <a:pt x="76" y="891"/>
                  </a:lnTo>
                  <a:lnTo>
                    <a:pt x="359" y="1098"/>
                  </a:lnTo>
                  <a:lnTo>
                    <a:pt x="377" y="1259"/>
                  </a:lnTo>
                  <a:lnTo>
                    <a:pt x="634" y="1294"/>
                  </a:lnTo>
                  <a:lnTo>
                    <a:pt x="708" y="1147"/>
                  </a:lnTo>
                  <a:lnTo>
                    <a:pt x="650" y="1103"/>
                  </a:lnTo>
                  <a:lnTo>
                    <a:pt x="641" y="993"/>
                  </a:lnTo>
                  <a:lnTo>
                    <a:pt x="708" y="910"/>
                  </a:lnTo>
                  <a:lnTo>
                    <a:pt x="812" y="915"/>
                  </a:lnTo>
                  <a:lnTo>
                    <a:pt x="939" y="1008"/>
                  </a:lnTo>
                  <a:lnTo>
                    <a:pt x="983" y="1216"/>
                  </a:lnTo>
                  <a:lnTo>
                    <a:pt x="963" y="1458"/>
                  </a:lnTo>
                  <a:lnTo>
                    <a:pt x="839" y="1637"/>
                  </a:lnTo>
                  <a:lnTo>
                    <a:pt x="745" y="1671"/>
                  </a:lnTo>
                  <a:lnTo>
                    <a:pt x="685" y="1721"/>
                  </a:lnTo>
                  <a:lnTo>
                    <a:pt x="634" y="1721"/>
                  </a:lnTo>
                  <a:lnTo>
                    <a:pt x="634" y="1591"/>
                  </a:lnTo>
                  <a:lnTo>
                    <a:pt x="691" y="1499"/>
                  </a:lnTo>
                  <a:lnTo>
                    <a:pt x="606" y="1602"/>
                  </a:lnTo>
                  <a:lnTo>
                    <a:pt x="592" y="1787"/>
                  </a:lnTo>
                  <a:lnTo>
                    <a:pt x="565" y="1882"/>
                  </a:lnTo>
                  <a:lnTo>
                    <a:pt x="641" y="1756"/>
                  </a:lnTo>
                  <a:lnTo>
                    <a:pt x="754" y="1741"/>
                  </a:lnTo>
                  <a:lnTo>
                    <a:pt x="878" y="1643"/>
                  </a:lnTo>
                  <a:lnTo>
                    <a:pt x="1009" y="1465"/>
                  </a:lnTo>
                  <a:lnTo>
                    <a:pt x="1199" y="1747"/>
                  </a:lnTo>
                  <a:lnTo>
                    <a:pt x="1317" y="1985"/>
                  </a:lnTo>
                  <a:lnTo>
                    <a:pt x="1547" y="2140"/>
                  </a:lnTo>
                  <a:lnTo>
                    <a:pt x="1658" y="2211"/>
                  </a:lnTo>
                  <a:lnTo>
                    <a:pt x="1922" y="2173"/>
                  </a:lnTo>
                  <a:lnTo>
                    <a:pt x="2007" y="2219"/>
                  </a:lnTo>
                  <a:lnTo>
                    <a:pt x="2197" y="2036"/>
                  </a:lnTo>
                  <a:lnTo>
                    <a:pt x="2339" y="1695"/>
                  </a:lnTo>
                  <a:lnTo>
                    <a:pt x="2384" y="1327"/>
                  </a:lnTo>
                  <a:lnTo>
                    <a:pt x="2495" y="1020"/>
                  </a:lnTo>
                  <a:lnTo>
                    <a:pt x="2545" y="765"/>
                  </a:lnTo>
                  <a:lnTo>
                    <a:pt x="2519" y="438"/>
                  </a:lnTo>
                  <a:lnTo>
                    <a:pt x="2460" y="277"/>
                  </a:lnTo>
                  <a:lnTo>
                    <a:pt x="2330" y="37"/>
                  </a:lnTo>
                  <a:lnTo>
                    <a:pt x="2223" y="0"/>
                  </a:lnTo>
                  <a:lnTo>
                    <a:pt x="35"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a:off x="2256840" y="1413360"/>
              <a:ext cx="33480" cy="46080"/>
            </a:xfrm>
            <a:custGeom>
              <a:avLst/>
              <a:gdLst/>
              <a:ahLst/>
              <a:rect l="l" t="t" r="r" b="b"/>
              <a:pathLst>
                <a:path w="546" h="729">
                  <a:moveTo>
                    <a:pt x="425" y="0"/>
                  </a:moveTo>
                  <a:lnTo>
                    <a:pt x="471" y="96"/>
                  </a:lnTo>
                  <a:lnTo>
                    <a:pt x="368" y="234"/>
                  </a:lnTo>
                  <a:lnTo>
                    <a:pt x="378" y="323"/>
                  </a:lnTo>
                  <a:lnTo>
                    <a:pt x="496" y="523"/>
                  </a:lnTo>
                  <a:lnTo>
                    <a:pt x="546" y="729"/>
                  </a:lnTo>
                  <a:lnTo>
                    <a:pt x="451" y="517"/>
                  </a:lnTo>
                  <a:lnTo>
                    <a:pt x="384" y="430"/>
                  </a:lnTo>
                  <a:lnTo>
                    <a:pt x="359" y="517"/>
                  </a:lnTo>
                  <a:lnTo>
                    <a:pt x="283" y="611"/>
                  </a:lnTo>
                  <a:lnTo>
                    <a:pt x="283" y="486"/>
                  </a:lnTo>
                  <a:lnTo>
                    <a:pt x="50" y="480"/>
                  </a:lnTo>
                  <a:lnTo>
                    <a:pt x="0" y="378"/>
                  </a:lnTo>
                  <a:lnTo>
                    <a:pt x="8" y="323"/>
                  </a:lnTo>
                  <a:lnTo>
                    <a:pt x="35" y="367"/>
                  </a:lnTo>
                  <a:lnTo>
                    <a:pt x="154" y="367"/>
                  </a:lnTo>
                  <a:lnTo>
                    <a:pt x="263" y="419"/>
                  </a:lnTo>
                  <a:lnTo>
                    <a:pt x="305" y="360"/>
                  </a:lnTo>
                  <a:lnTo>
                    <a:pt x="359" y="351"/>
                  </a:lnTo>
                  <a:lnTo>
                    <a:pt x="333" y="258"/>
                  </a:lnTo>
                  <a:lnTo>
                    <a:pt x="340" y="129"/>
                  </a:lnTo>
                  <a:lnTo>
                    <a:pt x="378" y="9"/>
                  </a:lnTo>
                  <a:lnTo>
                    <a:pt x="42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6" name=""/>
            <p:cNvSpPr/>
            <p:nvPr/>
          </p:nvSpPr>
          <p:spPr>
            <a:xfrm>
              <a:off x="2263680" y="1388160"/>
              <a:ext cx="15120" cy="39960"/>
            </a:xfrm>
            <a:custGeom>
              <a:avLst/>
              <a:gdLst/>
              <a:ahLst/>
              <a:rect l="l" t="t" r="r" b="b"/>
              <a:pathLst>
                <a:path w="239" h="642">
                  <a:moveTo>
                    <a:pt x="145" y="60"/>
                  </a:moveTo>
                  <a:lnTo>
                    <a:pt x="51" y="44"/>
                  </a:lnTo>
                  <a:lnTo>
                    <a:pt x="14" y="118"/>
                  </a:lnTo>
                  <a:lnTo>
                    <a:pt x="44" y="318"/>
                  </a:lnTo>
                  <a:lnTo>
                    <a:pt x="106" y="497"/>
                  </a:lnTo>
                  <a:lnTo>
                    <a:pt x="145" y="559"/>
                  </a:lnTo>
                  <a:lnTo>
                    <a:pt x="195" y="598"/>
                  </a:lnTo>
                  <a:lnTo>
                    <a:pt x="239" y="619"/>
                  </a:lnTo>
                  <a:lnTo>
                    <a:pt x="230" y="642"/>
                  </a:lnTo>
                  <a:lnTo>
                    <a:pt x="135" y="606"/>
                  </a:lnTo>
                  <a:lnTo>
                    <a:pt x="60" y="480"/>
                  </a:lnTo>
                  <a:lnTo>
                    <a:pt x="0" y="253"/>
                  </a:lnTo>
                  <a:lnTo>
                    <a:pt x="0" y="68"/>
                  </a:lnTo>
                  <a:lnTo>
                    <a:pt x="33" y="0"/>
                  </a:lnTo>
                  <a:lnTo>
                    <a:pt x="135" y="0"/>
                  </a:lnTo>
                  <a:lnTo>
                    <a:pt x="145" y="6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77" name=""/>
            <p:cNvSpPr/>
            <p:nvPr/>
          </p:nvSpPr>
          <p:spPr>
            <a:xfrm>
              <a:off x="2339640" y="1400760"/>
              <a:ext cx="14040" cy="30240"/>
            </a:xfrm>
            <a:custGeom>
              <a:avLst/>
              <a:gdLst/>
              <a:ahLst/>
              <a:rect l="l" t="t" r="r" b="b"/>
              <a:pathLst>
                <a:path w="228" h="488">
                  <a:moveTo>
                    <a:pt x="17" y="121"/>
                  </a:moveTo>
                  <a:lnTo>
                    <a:pt x="77" y="0"/>
                  </a:lnTo>
                  <a:lnTo>
                    <a:pt x="145" y="0"/>
                  </a:lnTo>
                  <a:lnTo>
                    <a:pt x="228" y="170"/>
                  </a:lnTo>
                  <a:lnTo>
                    <a:pt x="204" y="422"/>
                  </a:lnTo>
                  <a:lnTo>
                    <a:pt x="204" y="187"/>
                  </a:lnTo>
                  <a:lnTo>
                    <a:pt x="154" y="152"/>
                  </a:lnTo>
                  <a:lnTo>
                    <a:pt x="135" y="362"/>
                  </a:lnTo>
                  <a:lnTo>
                    <a:pt x="27" y="488"/>
                  </a:lnTo>
                  <a:lnTo>
                    <a:pt x="58" y="333"/>
                  </a:lnTo>
                  <a:lnTo>
                    <a:pt x="0" y="222"/>
                  </a:lnTo>
                  <a:lnTo>
                    <a:pt x="17" y="1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78" name=""/>
            <p:cNvSpPr/>
            <p:nvPr/>
          </p:nvSpPr>
          <p:spPr>
            <a:xfrm>
              <a:off x="2274480" y="1458360"/>
              <a:ext cx="17640" cy="12960"/>
            </a:xfrm>
            <a:custGeom>
              <a:avLst/>
              <a:gdLst/>
              <a:ahLst/>
              <a:rect l="l" t="t" r="r" b="b"/>
              <a:pathLst>
                <a:path w="286" h="205">
                  <a:moveTo>
                    <a:pt x="0" y="0"/>
                  </a:moveTo>
                  <a:lnTo>
                    <a:pt x="95" y="6"/>
                  </a:lnTo>
                  <a:lnTo>
                    <a:pt x="220" y="76"/>
                  </a:lnTo>
                  <a:lnTo>
                    <a:pt x="257" y="6"/>
                  </a:lnTo>
                  <a:lnTo>
                    <a:pt x="286" y="101"/>
                  </a:lnTo>
                  <a:lnTo>
                    <a:pt x="220" y="205"/>
                  </a:lnTo>
                  <a:lnTo>
                    <a:pt x="201" y="109"/>
                  </a:lnTo>
                  <a:lnTo>
                    <a:pt x="142" y="87"/>
                  </a:lnTo>
                  <a:lnTo>
                    <a:pt x="30" y="76"/>
                  </a:lnTo>
                  <a:lnTo>
                    <a:pt x="0" y="43"/>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9" name=""/>
            <p:cNvSpPr/>
            <p:nvPr/>
          </p:nvSpPr>
          <p:spPr>
            <a:xfrm>
              <a:off x="2274120" y="1457280"/>
              <a:ext cx="156240" cy="52200"/>
            </a:xfrm>
            <a:custGeom>
              <a:avLst/>
              <a:gdLst/>
              <a:ahLst/>
              <a:rect l="l" t="t" r="r" b="b"/>
              <a:pathLst>
                <a:path w="2500" h="831">
                  <a:moveTo>
                    <a:pt x="25" y="162"/>
                  </a:moveTo>
                  <a:lnTo>
                    <a:pt x="25" y="226"/>
                  </a:lnTo>
                  <a:lnTo>
                    <a:pt x="92" y="287"/>
                  </a:lnTo>
                  <a:lnTo>
                    <a:pt x="0" y="436"/>
                  </a:lnTo>
                  <a:lnTo>
                    <a:pt x="0" y="565"/>
                  </a:lnTo>
                  <a:lnTo>
                    <a:pt x="83" y="677"/>
                  </a:lnTo>
                  <a:lnTo>
                    <a:pt x="380" y="771"/>
                  </a:lnTo>
                  <a:lnTo>
                    <a:pt x="654" y="781"/>
                  </a:lnTo>
                  <a:lnTo>
                    <a:pt x="800" y="831"/>
                  </a:lnTo>
                  <a:lnTo>
                    <a:pt x="1192" y="787"/>
                  </a:lnTo>
                  <a:lnTo>
                    <a:pt x="1737" y="795"/>
                  </a:lnTo>
                  <a:lnTo>
                    <a:pt x="2500" y="795"/>
                  </a:lnTo>
                  <a:lnTo>
                    <a:pt x="1236" y="735"/>
                  </a:lnTo>
                  <a:lnTo>
                    <a:pt x="1236" y="447"/>
                  </a:lnTo>
                  <a:lnTo>
                    <a:pt x="1437" y="131"/>
                  </a:lnTo>
                  <a:lnTo>
                    <a:pt x="924" y="465"/>
                  </a:lnTo>
                  <a:lnTo>
                    <a:pt x="981" y="0"/>
                  </a:lnTo>
                  <a:lnTo>
                    <a:pt x="937" y="11"/>
                  </a:lnTo>
                  <a:lnTo>
                    <a:pt x="726" y="309"/>
                  </a:lnTo>
                  <a:lnTo>
                    <a:pt x="646" y="412"/>
                  </a:lnTo>
                  <a:lnTo>
                    <a:pt x="397" y="517"/>
                  </a:lnTo>
                  <a:lnTo>
                    <a:pt x="149" y="573"/>
                  </a:lnTo>
                  <a:lnTo>
                    <a:pt x="73" y="556"/>
                  </a:lnTo>
                  <a:lnTo>
                    <a:pt x="37" y="517"/>
                  </a:lnTo>
                  <a:lnTo>
                    <a:pt x="48" y="436"/>
                  </a:lnTo>
                  <a:lnTo>
                    <a:pt x="108" y="299"/>
                  </a:lnTo>
                  <a:lnTo>
                    <a:pt x="108" y="268"/>
                  </a:lnTo>
                  <a:lnTo>
                    <a:pt x="57" y="181"/>
                  </a:lnTo>
                  <a:lnTo>
                    <a:pt x="25" y="16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80" name=""/>
            <p:cNvSpPr/>
            <p:nvPr/>
          </p:nvSpPr>
          <p:spPr>
            <a:xfrm>
              <a:off x="2426400" y="1469160"/>
              <a:ext cx="16920" cy="37800"/>
            </a:xfrm>
            <a:custGeom>
              <a:avLst/>
              <a:gdLst/>
              <a:ahLst/>
              <a:rect l="l" t="t" r="r" b="b"/>
              <a:pathLst>
                <a:path w="281" h="604">
                  <a:moveTo>
                    <a:pt x="42" y="0"/>
                  </a:moveTo>
                  <a:lnTo>
                    <a:pt x="85" y="408"/>
                  </a:lnTo>
                  <a:lnTo>
                    <a:pt x="281" y="539"/>
                  </a:lnTo>
                  <a:lnTo>
                    <a:pt x="273" y="580"/>
                  </a:lnTo>
                  <a:lnTo>
                    <a:pt x="36" y="604"/>
                  </a:lnTo>
                  <a:lnTo>
                    <a:pt x="75" y="539"/>
                  </a:lnTo>
                  <a:lnTo>
                    <a:pt x="0" y="0"/>
                  </a:lnTo>
                  <a:lnTo>
                    <a:pt x="4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1" name=""/>
            <p:cNvSpPr/>
            <p:nvPr/>
          </p:nvSpPr>
          <p:spPr>
            <a:xfrm>
              <a:off x="2263680" y="1507320"/>
              <a:ext cx="65880" cy="92520"/>
            </a:xfrm>
            <a:custGeom>
              <a:avLst/>
              <a:gdLst/>
              <a:ahLst/>
              <a:rect l="l" t="t" r="r" b="b"/>
              <a:pathLst>
                <a:path w="1047" h="1480">
                  <a:moveTo>
                    <a:pt x="949" y="33"/>
                  </a:moveTo>
                  <a:lnTo>
                    <a:pt x="526" y="272"/>
                  </a:lnTo>
                  <a:lnTo>
                    <a:pt x="208" y="1112"/>
                  </a:lnTo>
                  <a:lnTo>
                    <a:pt x="0" y="1480"/>
                  </a:lnTo>
                  <a:lnTo>
                    <a:pt x="411" y="1014"/>
                  </a:lnTo>
                  <a:lnTo>
                    <a:pt x="605" y="763"/>
                  </a:lnTo>
                  <a:lnTo>
                    <a:pt x="746" y="732"/>
                  </a:lnTo>
                  <a:lnTo>
                    <a:pt x="794" y="968"/>
                  </a:lnTo>
                  <a:lnTo>
                    <a:pt x="808" y="526"/>
                  </a:lnTo>
                  <a:lnTo>
                    <a:pt x="873" y="240"/>
                  </a:lnTo>
                  <a:lnTo>
                    <a:pt x="1047" y="0"/>
                  </a:lnTo>
                  <a:lnTo>
                    <a:pt x="949" y="33"/>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882" name=""/>
            <p:cNvSpPr/>
            <p:nvPr/>
          </p:nvSpPr>
          <p:spPr>
            <a:xfrm>
              <a:off x="2319480" y="1509840"/>
              <a:ext cx="128160" cy="52920"/>
            </a:xfrm>
            <a:custGeom>
              <a:avLst/>
              <a:gdLst/>
              <a:ahLst/>
              <a:rect l="l" t="t" r="r" b="b"/>
              <a:pathLst>
                <a:path w="2046" h="839">
                  <a:moveTo>
                    <a:pt x="0" y="839"/>
                  </a:moveTo>
                  <a:lnTo>
                    <a:pt x="380" y="684"/>
                  </a:lnTo>
                  <a:lnTo>
                    <a:pt x="860" y="525"/>
                  </a:lnTo>
                  <a:lnTo>
                    <a:pt x="1570" y="525"/>
                  </a:lnTo>
                  <a:lnTo>
                    <a:pt x="1903" y="397"/>
                  </a:lnTo>
                  <a:lnTo>
                    <a:pt x="1919" y="192"/>
                  </a:lnTo>
                  <a:lnTo>
                    <a:pt x="2046" y="0"/>
                  </a:lnTo>
                  <a:lnTo>
                    <a:pt x="1969" y="205"/>
                  </a:lnTo>
                  <a:lnTo>
                    <a:pt x="1938" y="478"/>
                  </a:lnTo>
                  <a:lnTo>
                    <a:pt x="1651" y="538"/>
                  </a:lnTo>
                  <a:lnTo>
                    <a:pt x="843" y="571"/>
                  </a:lnTo>
                  <a:lnTo>
                    <a:pt x="222" y="793"/>
                  </a:lnTo>
                  <a:lnTo>
                    <a:pt x="0" y="8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83" name=""/>
            <p:cNvSpPr/>
            <p:nvPr/>
          </p:nvSpPr>
          <p:spPr>
            <a:xfrm>
              <a:off x="2159640" y="1559160"/>
              <a:ext cx="119880" cy="124920"/>
            </a:xfrm>
            <a:custGeom>
              <a:avLst/>
              <a:gdLst/>
              <a:ahLst/>
              <a:rect l="l" t="t" r="r" b="b"/>
              <a:pathLst>
                <a:path w="1918" h="1985">
                  <a:moveTo>
                    <a:pt x="1918" y="253"/>
                  </a:moveTo>
                  <a:lnTo>
                    <a:pt x="1441" y="508"/>
                  </a:lnTo>
                  <a:lnTo>
                    <a:pt x="1253" y="905"/>
                  </a:lnTo>
                  <a:lnTo>
                    <a:pt x="775" y="1491"/>
                  </a:lnTo>
                  <a:lnTo>
                    <a:pt x="775" y="1684"/>
                  </a:lnTo>
                  <a:lnTo>
                    <a:pt x="822" y="1985"/>
                  </a:lnTo>
                  <a:lnTo>
                    <a:pt x="648" y="1761"/>
                  </a:lnTo>
                  <a:lnTo>
                    <a:pt x="316" y="1779"/>
                  </a:lnTo>
                  <a:lnTo>
                    <a:pt x="0" y="1985"/>
                  </a:lnTo>
                  <a:lnTo>
                    <a:pt x="281" y="1663"/>
                  </a:lnTo>
                  <a:lnTo>
                    <a:pt x="412" y="697"/>
                  </a:lnTo>
                  <a:lnTo>
                    <a:pt x="206" y="872"/>
                  </a:lnTo>
                  <a:lnTo>
                    <a:pt x="395" y="80"/>
                  </a:lnTo>
                  <a:lnTo>
                    <a:pt x="281" y="94"/>
                  </a:lnTo>
                  <a:lnTo>
                    <a:pt x="380" y="59"/>
                  </a:lnTo>
                  <a:lnTo>
                    <a:pt x="460" y="59"/>
                  </a:lnTo>
                  <a:lnTo>
                    <a:pt x="554" y="111"/>
                  </a:lnTo>
                  <a:lnTo>
                    <a:pt x="554" y="0"/>
                  </a:lnTo>
                  <a:lnTo>
                    <a:pt x="600" y="159"/>
                  </a:lnTo>
                  <a:lnTo>
                    <a:pt x="648" y="222"/>
                  </a:lnTo>
                  <a:lnTo>
                    <a:pt x="775" y="236"/>
                  </a:lnTo>
                  <a:lnTo>
                    <a:pt x="839" y="186"/>
                  </a:lnTo>
                  <a:lnTo>
                    <a:pt x="885" y="124"/>
                  </a:lnTo>
                  <a:lnTo>
                    <a:pt x="885" y="222"/>
                  </a:lnTo>
                  <a:lnTo>
                    <a:pt x="856" y="284"/>
                  </a:lnTo>
                  <a:lnTo>
                    <a:pt x="839" y="523"/>
                  </a:lnTo>
                  <a:lnTo>
                    <a:pt x="809" y="1109"/>
                  </a:lnTo>
                  <a:lnTo>
                    <a:pt x="1092" y="953"/>
                  </a:lnTo>
                  <a:lnTo>
                    <a:pt x="1219" y="872"/>
                  </a:lnTo>
                  <a:lnTo>
                    <a:pt x="1425" y="444"/>
                  </a:lnTo>
                  <a:lnTo>
                    <a:pt x="1886" y="222"/>
                  </a:lnTo>
                  <a:lnTo>
                    <a:pt x="1918"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
            <p:cNvSpPr/>
            <p:nvPr/>
          </p:nvSpPr>
          <p:spPr>
            <a:xfrm>
              <a:off x="2169360" y="1459800"/>
              <a:ext cx="85320" cy="100080"/>
            </a:xfrm>
            <a:custGeom>
              <a:avLst/>
              <a:gdLst/>
              <a:ahLst/>
              <a:rect l="l" t="t" r="r" b="b"/>
              <a:pathLst>
                <a:path w="1363" h="1601">
                  <a:moveTo>
                    <a:pt x="777" y="1569"/>
                  </a:moveTo>
                  <a:lnTo>
                    <a:pt x="1350" y="651"/>
                  </a:lnTo>
                  <a:lnTo>
                    <a:pt x="1363" y="520"/>
                  </a:lnTo>
                  <a:lnTo>
                    <a:pt x="1159" y="96"/>
                  </a:lnTo>
                  <a:lnTo>
                    <a:pt x="1032" y="77"/>
                  </a:lnTo>
                  <a:lnTo>
                    <a:pt x="1126" y="141"/>
                  </a:lnTo>
                  <a:lnTo>
                    <a:pt x="1317" y="520"/>
                  </a:lnTo>
                  <a:lnTo>
                    <a:pt x="1317" y="601"/>
                  </a:lnTo>
                  <a:lnTo>
                    <a:pt x="1159" y="442"/>
                  </a:lnTo>
                  <a:lnTo>
                    <a:pt x="1159" y="300"/>
                  </a:lnTo>
                  <a:lnTo>
                    <a:pt x="810" y="0"/>
                  </a:lnTo>
                  <a:lnTo>
                    <a:pt x="633" y="63"/>
                  </a:lnTo>
                  <a:lnTo>
                    <a:pt x="810" y="30"/>
                  </a:lnTo>
                  <a:lnTo>
                    <a:pt x="1078" y="314"/>
                  </a:lnTo>
                  <a:lnTo>
                    <a:pt x="1001" y="335"/>
                  </a:lnTo>
                  <a:lnTo>
                    <a:pt x="936" y="361"/>
                  </a:lnTo>
                  <a:lnTo>
                    <a:pt x="796" y="189"/>
                  </a:lnTo>
                  <a:lnTo>
                    <a:pt x="492" y="63"/>
                  </a:lnTo>
                  <a:lnTo>
                    <a:pt x="380" y="96"/>
                  </a:lnTo>
                  <a:lnTo>
                    <a:pt x="492" y="124"/>
                  </a:lnTo>
                  <a:lnTo>
                    <a:pt x="796" y="220"/>
                  </a:lnTo>
                  <a:lnTo>
                    <a:pt x="700" y="314"/>
                  </a:lnTo>
                  <a:lnTo>
                    <a:pt x="274" y="141"/>
                  </a:lnTo>
                  <a:lnTo>
                    <a:pt x="19" y="442"/>
                  </a:lnTo>
                  <a:lnTo>
                    <a:pt x="50" y="634"/>
                  </a:lnTo>
                  <a:lnTo>
                    <a:pt x="191" y="381"/>
                  </a:lnTo>
                  <a:lnTo>
                    <a:pt x="191" y="335"/>
                  </a:lnTo>
                  <a:lnTo>
                    <a:pt x="256" y="189"/>
                  </a:lnTo>
                  <a:lnTo>
                    <a:pt x="444" y="252"/>
                  </a:lnTo>
                  <a:lnTo>
                    <a:pt x="304" y="540"/>
                  </a:lnTo>
                  <a:lnTo>
                    <a:pt x="160" y="808"/>
                  </a:lnTo>
                  <a:lnTo>
                    <a:pt x="67" y="1111"/>
                  </a:lnTo>
                  <a:lnTo>
                    <a:pt x="97" y="1346"/>
                  </a:lnTo>
                  <a:lnTo>
                    <a:pt x="125" y="1412"/>
                  </a:lnTo>
                  <a:lnTo>
                    <a:pt x="0" y="1542"/>
                  </a:lnTo>
                  <a:lnTo>
                    <a:pt x="224" y="1444"/>
                  </a:lnTo>
                  <a:lnTo>
                    <a:pt x="415" y="1460"/>
                  </a:lnTo>
                  <a:lnTo>
                    <a:pt x="415" y="1552"/>
                  </a:lnTo>
                  <a:lnTo>
                    <a:pt x="478" y="1444"/>
                  </a:lnTo>
                  <a:lnTo>
                    <a:pt x="605" y="1460"/>
                  </a:lnTo>
                  <a:lnTo>
                    <a:pt x="683" y="1506"/>
                  </a:lnTo>
                  <a:lnTo>
                    <a:pt x="748" y="1601"/>
                  </a:lnTo>
                  <a:lnTo>
                    <a:pt x="777" y="15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5" name=""/>
            <p:cNvSpPr/>
            <p:nvPr/>
          </p:nvSpPr>
          <p:spPr>
            <a:xfrm>
              <a:off x="2076840" y="1503000"/>
              <a:ext cx="150840" cy="289440"/>
            </a:xfrm>
            <a:custGeom>
              <a:avLst/>
              <a:gdLst/>
              <a:ahLst/>
              <a:rect l="l" t="t" r="r" b="b"/>
              <a:pathLst>
                <a:path w="2411" h="4600">
                  <a:moveTo>
                    <a:pt x="1525" y="0"/>
                  </a:moveTo>
                  <a:lnTo>
                    <a:pt x="1448" y="253"/>
                  </a:lnTo>
                  <a:lnTo>
                    <a:pt x="1429" y="442"/>
                  </a:lnTo>
                  <a:lnTo>
                    <a:pt x="1461" y="634"/>
                  </a:lnTo>
                  <a:lnTo>
                    <a:pt x="1494" y="761"/>
                  </a:lnTo>
                  <a:lnTo>
                    <a:pt x="1494" y="824"/>
                  </a:lnTo>
                  <a:lnTo>
                    <a:pt x="1461" y="870"/>
                  </a:lnTo>
                  <a:lnTo>
                    <a:pt x="1461" y="1029"/>
                  </a:lnTo>
                  <a:lnTo>
                    <a:pt x="1525" y="1048"/>
                  </a:lnTo>
                  <a:lnTo>
                    <a:pt x="1475" y="1111"/>
                  </a:lnTo>
                  <a:lnTo>
                    <a:pt x="1176" y="2269"/>
                  </a:lnTo>
                  <a:lnTo>
                    <a:pt x="1080" y="2759"/>
                  </a:lnTo>
                  <a:lnTo>
                    <a:pt x="1051" y="3047"/>
                  </a:lnTo>
                  <a:lnTo>
                    <a:pt x="1080" y="3223"/>
                  </a:lnTo>
                  <a:lnTo>
                    <a:pt x="1195" y="3065"/>
                  </a:lnTo>
                  <a:lnTo>
                    <a:pt x="1032" y="3331"/>
                  </a:lnTo>
                  <a:lnTo>
                    <a:pt x="827" y="3683"/>
                  </a:lnTo>
                  <a:lnTo>
                    <a:pt x="1097" y="3699"/>
                  </a:lnTo>
                  <a:lnTo>
                    <a:pt x="1413" y="3873"/>
                  </a:lnTo>
                  <a:lnTo>
                    <a:pt x="1635" y="3589"/>
                  </a:lnTo>
                  <a:lnTo>
                    <a:pt x="1967" y="3666"/>
                  </a:lnTo>
                  <a:lnTo>
                    <a:pt x="2158" y="3428"/>
                  </a:lnTo>
                  <a:lnTo>
                    <a:pt x="2175" y="2903"/>
                  </a:lnTo>
                  <a:lnTo>
                    <a:pt x="2271" y="3476"/>
                  </a:lnTo>
                  <a:lnTo>
                    <a:pt x="2411" y="3967"/>
                  </a:lnTo>
                  <a:lnTo>
                    <a:pt x="2383" y="4335"/>
                  </a:lnTo>
                  <a:lnTo>
                    <a:pt x="2316" y="3873"/>
                  </a:lnTo>
                  <a:lnTo>
                    <a:pt x="2158" y="3620"/>
                  </a:lnTo>
                  <a:lnTo>
                    <a:pt x="1953" y="3967"/>
                  </a:lnTo>
                  <a:lnTo>
                    <a:pt x="1572" y="4600"/>
                  </a:lnTo>
                  <a:lnTo>
                    <a:pt x="1207" y="4206"/>
                  </a:lnTo>
                  <a:lnTo>
                    <a:pt x="667" y="4000"/>
                  </a:lnTo>
                  <a:lnTo>
                    <a:pt x="652" y="3794"/>
                  </a:lnTo>
                  <a:lnTo>
                    <a:pt x="777" y="3539"/>
                  </a:lnTo>
                  <a:lnTo>
                    <a:pt x="0" y="3240"/>
                  </a:lnTo>
                  <a:lnTo>
                    <a:pt x="0" y="2301"/>
                  </a:lnTo>
                  <a:lnTo>
                    <a:pt x="95" y="2888"/>
                  </a:lnTo>
                  <a:lnTo>
                    <a:pt x="382" y="2793"/>
                  </a:lnTo>
                  <a:lnTo>
                    <a:pt x="572" y="3047"/>
                  </a:lnTo>
                  <a:lnTo>
                    <a:pt x="842" y="2936"/>
                  </a:lnTo>
                  <a:lnTo>
                    <a:pt x="794" y="2633"/>
                  </a:lnTo>
                  <a:lnTo>
                    <a:pt x="873" y="2334"/>
                  </a:lnTo>
                  <a:lnTo>
                    <a:pt x="842" y="2650"/>
                  </a:lnTo>
                  <a:lnTo>
                    <a:pt x="903" y="2746"/>
                  </a:lnTo>
                  <a:lnTo>
                    <a:pt x="1016" y="2731"/>
                  </a:lnTo>
                  <a:lnTo>
                    <a:pt x="1160" y="2174"/>
                  </a:lnTo>
                  <a:lnTo>
                    <a:pt x="1461" y="1075"/>
                  </a:lnTo>
                  <a:lnTo>
                    <a:pt x="1429" y="1013"/>
                  </a:lnTo>
                  <a:lnTo>
                    <a:pt x="1429" y="824"/>
                  </a:lnTo>
                  <a:lnTo>
                    <a:pt x="1448" y="793"/>
                  </a:lnTo>
                  <a:lnTo>
                    <a:pt x="1398" y="521"/>
                  </a:lnTo>
                  <a:lnTo>
                    <a:pt x="1413" y="253"/>
                  </a:lnTo>
                  <a:lnTo>
                    <a:pt x="15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
            <p:cNvSpPr/>
            <p:nvPr/>
          </p:nvSpPr>
          <p:spPr>
            <a:xfrm>
              <a:off x="2224080" y="1583280"/>
              <a:ext cx="128880" cy="124200"/>
            </a:xfrm>
            <a:custGeom>
              <a:avLst/>
              <a:gdLst/>
              <a:ahLst/>
              <a:rect l="l" t="t" r="r" b="b"/>
              <a:pathLst>
                <a:path w="2062" h="1984">
                  <a:moveTo>
                    <a:pt x="178" y="1112"/>
                  </a:moveTo>
                  <a:lnTo>
                    <a:pt x="556" y="586"/>
                  </a:lnTo>
                  <a:lnTo>
                    <a:pt x="1268" y="129"/>
                  </a:lnTo>
                  <a:lnTo>
                    <a:pt x="2062" y="0"/>
                  </a:lnTo>
                  <a:lnTo>
                    <a:pt x="1288" y="256"/>
                  </a:lnTo>
                  <a:lnTo>
                    <a:pt x="730" y="809"/>
                  </a:lnTo>
                  <a:lnTo>
                    <a:pt x="477" y="1463"/>
                  </a:lnTo>
                  <a:lnTo>
                    <a:pt x="0" y="1984"/>
                  </a:lnTo>
                  <a:lnTo>
                    <a:pt x="351" y="1478"/>
                  </a:lnTo>
                  <a:lnTo>
                    <a:pt x="429" y="1001"/>
                  </a:lnTo>
                  <a:lnTo>
                    <a:pt x="366" y="953"/>
                  </a:lnTo>
                  <a:lnTo>
                    <a:pt x="178" y="1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
            <p:cNvSpPr/>
            <p:nvPr/>
          </p:nvSpPr>
          <p:spPr>
            <a:xfrm>
              <a:off x="2430000" y="1540440"/>
              <a:ext cx="48600" cy="90360"/>
            </a:xfrm>
            <a:custGeom>
              <a:avLst/>
              <a:gdLst/>
              <a:ahLst/>
              <a:rect l="l" t="t" r="r" b="b"/>
              <a:pathLst>
                <a:path w="776" h="1444">
                  <a:moveTo>
                    <a:pt x="107" y="0"/>
                  </a:moveTo>
                  <a:lnTo>
                    <a:pt x="392" y="396"/>
                  </a:lnTo>
                  <a:lnTo>
                    <a:pt x="488" y="760"/>
                  </a:lnTo>
                  <a:lnTo>
                    <a:pt x="741" y="999"/>
                  </a:lnTo>
                  <a:lnTo>
                    <a:pt x="776" y="1365"/>
                  </a:lnTo>
                  <a:lnTo>
                    <a:pt x="615" y="1444"/>
                  </a:lnTo>
                  <a:lnTo>
                    <a:pt x="713" y="1059"/>
                  </a:lnTo>
                  <a:lnTo>
                    <a:pt x="411" y="1013"/>
                  </a:lnTo>
                  <a:lnTo>
                    <a:pt x="362" y="954"/>
                  </a:lnTo>
                  <a:lnTo>
                    <a:pt x="362" y="1189"/>
                  </a:lnTo>
                  <a:lnTo>
                    <a:pt x="268" y="603"/>
                  </a:lnTo>
                  <a:lnTo>
                    <a:pt x="124" y="158"/>
                  </a:lnTo>
                  <a:lnTo>
                    <a:pt x="0" y="29"/>
                  </a:lnTo>
                  <a:lnTo>
                    <a:pt x="107"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88" name=""/>
            <p:cNvSpPr/>
            <p:nvPr/>
          </p:nvSpPr>
          <p:spPr>
            <a:xfrm>
              <a:off x="2032560" y="1588680"/>
              <a:ext cx="481680" cy="258120"/>
            </a:xfrm>
            <a:custGeom>
              <a:avLst/>
              <a:gdLst/>
              <a:ahLst/>
              <a:rect l="l" t="t" r="r" b="b"/>
              <a:pathLst>
                <a:path w="7689" h="4113">
                  <a:moveTo>
                    <a:pt x="7609" y="729"/>
                  </a:moveTo>
                  <a:lnTo>
                    <a:pt x="7451" y="571"/>
                  </a:lnTo>
                  <a:lnTo>
                    <a:pt x="7166" y="571"/>
                  </a:lnTo>
                  <a:lnTo>
                    <a:pt x="6817" y="681"/>
                  </a:lnTo>
                  <a:lnTo>
                    <a:pt x="6296" y="1016"/>
                  </a:lnTo>
                  <a:lnTo>
                    <a:pt x="5693" y="1572"/>
                  </a:lnTo>
                  <a:lnTo>
                    <a:pt x="5294" y="2064"/>
                  </a:lnTo>
                  <a:lnTo>
                    <a:pt x="4960" y="2686"/>
                  </a:lnTo>
                  <a:lnTo>
                    <a:pt x="4740" y="3286"/>
                  </a:lnTo>
                  <a:lnTo>
                    <a:pt x="4566" y="4113"/>
                  </a:lnTo>
                  <a:lnTo>
                    <a:pt x="0" y="4113"/>
                  </a:lnTo>
                  <a:lnTo>
                    <a:pt x="362" y="4036"/>
                  </a:lnTo>
                  <a:lnTo>
                    <a:pt x="270" y="3875"/>
                  </a:lnTo>
                  <a:lnTo>
                    <a:pt x="538" y="3733"/>
                  </a:lnTo>
                  <a:lnTo>
                    <a:pt x="791" y="3829"/>
                  </a:lnTo>
                  <a:lnTo>
                    <a:pt x="1030" y="3781"/>
                  </a:lnTo>
                  <a:lnTo>
                    <a:pt x="1250" y="3430"/>
                  </a:lnTo>
                  <a:lnTo>
                    <a:pt x="1663" y="3158"/>
                  </a:lnTo>
                  <a:lnTo>
                    <a:pt x="1678" y="2700"/>
                  </a:lnTo>
                  <a:lnTo>
                    <a:pt x="1726" y="3463"/>
                  </a:lnTo>
                  <a:lnTo>
                    <a:pt x="1951" y="3637"/>
                  </a:lnTo>
                  <a:lnTo>
                    <a:pt x="2014" y="2811"/>
                  </a:lnTo>
                  <a:lnTo>
                    <a:pt x="2297" y="3158"/>
                  </a:lnTo>
                  <a:lnTo>
                    <a:pt x="2297" y="3492"/>
                  </a:lnTo>
                  <a:lnTo>
                    <a:pt x="2818" y="2574"/>
                  </a:lnTo>
                  <a:lnTo>
                    <a:pt x="3076" y="2653"/>
                  </a:lnTo>
                  <a:lnTo>
                    <a:pt x="3010" y="2302"/>
                  </a:lnTo>
                  <a:lnTo>
                    <a:pt x="3296" y="1984"/>
                  </a:lnTo>
                  <a:lnTo>
                    <a:pt x="3502" y="2017"/>
                  </a:lnTo>
                  <a:lnTo>
                    <a:pt x="4740" y="490"/>
                  </a:lnTo>
                  <a:lnTo>
                    <a:pt x="4391" y="364"/>
                  </a:lnTo>
                  <a:lnTo>
                    <a:pt x="5233" y="0"/>
                  </a:lnTo>
                  <a:lnTo>
                    <a:pt x="6643" y="382"/>
                  </a:lnTo>
                  <a:lnTo>
                    <a:pt x="6658" y="667"/>
                  </a:lnTo>
                  <a:lnTo>
                    <a:pt x="7133" y="538"/>
                  </a:lnTo>
                  <a:lnTo>
                    <a:pt x="7484" y="538"/>
                  </a:lnTo>
                  <a:lnTo>
                    <a:pt x="7689" y="729"/>
                  </a:lnTo>
                  <a:lnTo>
                    <a:pt x="7678" y="889"/>
                  </a:lnTo>
                  <a:lnTo>
                    <a:pt x="7327" y="1395"/>
                  </a:lnTo>
                  <a:lnTo>
                    <a:pt x="7025" y="2096"/>
                  </a:lnTo>
                  <a:lnTo>
                    <a:pt x="6865" y="2765"/>
                  </a:lnTo>
                  <a:lnTo>
                    <a:pt x="6769" y="3384"/>
                  </a:lnTo>
                  <a:lnTo>
                    <a:pt x="6755" y="4001"/>
                  </a:lnTo>
                  <a:lnTo>
                    <a:pt x="6726" y="3210"/>
                  </a:lnTo>
                  <a:lnTo>
                    <a:pt x="6882" y="2273"/>
                  </a:lnTo>
                  <a:lnTo>
                    <a:pt x="7166" y="1539"/>
                  </a:lnTo>
                  <a:lnTo>
                    <a:pt x="7388" y="1127"/>
                  </a:lnTo>
                  <a:lnTo>
                    <a:pt x="6882" y="1510"/>
                  </a:lnTo>
                  <a:lnTo>
                    <a:pt x="6423" y="1967"/>
                  </a:lnTo>
                  <a:lnTo>
                    <a:pt x="6007" y="2430"/>
                  </a:lnTo>
                  <a:lnTo>
                    <a:pt x="6612" y="1652"/>
                  </a:lnTo>
                  <a:lnTo>
                    <a:pt x="7040" y="1255"/>
                  </a:lnTo>
                  <a:lnTo>
                    <a:pt x="7628" y="857"/>
                  </a:lnTo>
                  <a:lnTo>
                    <a:pt x="7609" y="7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a:off x="2082240" y="1626840"/>
              <a:ext cx="70200" cy="24120"/>
            </a:xfrm>
            <a:custGeom>
              <a:avLst/>
              <a:gdLst/>
              <a:ahLst/>
              <a:rect l="l" t="t" r="r" b="b"/>
              <a:pathLst>
                <a:path w="1126" h="381">
                  <a:moveTo>
                    <a:pt x="0" y="318"/>
                  </a:moveTo>
                  <a:lnTo>
                    <a:pt x="521" y="0"/>
                  </a:lnTo>
                  <a:lnTo>
                    <a:pt x="857" y="191"/>
                  </a:lnTo>
                  <a:lnTo>
                    <a:pt x="1126" y="172"/>
                  </a:lnTo>
                  <a:lnTo>
                    <a:pt x="1064" y="303"/>
                  </a:lnTo>
                  <a:lnTo>
                    <a:pt x="775" y="381"/>
                  </a:lnTo>
                  <a:lnTo>
                    <a:pt x="507" y="127"/>
                  </a:lnTo>
                  <a:lnTo>
                    <a:pt x="0" y="31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90" name=""/>
            <p:cNvSpPr/>
            <p:nvPr/>
          </p:nvSpPr>
          <p:spPr>
            <a:xfrm>
              <a:off x="1832760" y="1635120"/>
              <a:ext cx="246600" cy="71640"/>
            </a:xfrm>
            <a:custGeom>
              <a:avLst/>
              <a:gdLst/>
              <a:ahLst/>
              <a:rect l="l" t="t" r="r" b="b"/>
              <a:pathLst>
                <a:path w="3937" h="1147">
                  <a:moveTo>
                    <a:pt x="3937" y="1147"/>
                  </a:moveTo>
                  <a:lnTo>
                    <a:pt x="2750" y="912"/>
                  </a:lnTo>
                  <a:lnTo>
                    <a:pt x="2318" y="864"/>
                  </a:lnTo>
                  <a:lnTo>
                    <a:pt x="2073" y="925"/>
                  </a:lnTo>
                  <a:lnTo>
                    <a:pt x="1772" y="937"/>
                  </a:lnTo>
                  <a:lnTo>
                    <a:pt x="1475" y="882"/>
                  </a:lnTo>
                  <a:lnTo>
                    <a:pt x="1230" y="729"/>
                  </a:lnTo>
                  <a:lnTo>
                    <a:pt x="1041" y="528"/>
                  </a:lnTo>
                  <a:lnTo>
                    <a:pt x="897" y="444"/>
                  </a:lnTo>
                  <a:lnTo>
                    <a:pt x="716" y="385"/>
                  </a:lnTo>
                  <a:lnTo>
                    <a:pt x="671" y="357"/>
                  </a:lnTo>
                  <a:lnTo>
                    <a:pt x="442" y="444"/>
                  </a:lnTo>
                  <a:lnTo>
                    <a:pt x="189" y="700"/>
                  </a:lnTo>
                  <a:lnTo>
                    <a:pt x="106" y="716"/>
                  </a:lnTo>
                  <a:lnTo>
                    <a:pt x="64" y="700"/>
                  </a:lnTo>
                  <a:lnTo>
                    <a:pt x="326" y="357"/>
                  </a:lnTo>
                  <a:lnTo>
                    <a:pt x="95" y="376"/>
                  </a:lnTo>
                  <a:lnTo>
                    <a:pt x="0" y="300"/>
                  </a:lnTo>
                  <a:lnTo>
                    <a:pt x="38" y="247"/>
                  </a:lnTo>
                  <a:lnTo>
                    <a:pt x="570" y="0"/>
                  </a:lnTo>
                  <a:lnTo>
                    <a:pt x="295" y="169"/>
                  </a:lnTo>
                  <a:lnTo>
                    <a:pt x="650" y="64"/>
                  </a:lnTo>
                  <a:lnTo>
                    <a:pt x="760" y="91"/>
                  </a:lnTo>
                  <a:lnTo>
                    <a:pt x="897" y="169"/>
                  </a:lnTo>
                  <a:lnTo>
                    <a:pt x="1202" y="345"/>
                  </a:lnTo>
                  <a:lnTo>
                    <a:pt x="925" y="202"/>
                  </a:lnTo>
                  <a:lnTo>
                    <a:pt x="696" y="110"/>
                  </a:lnTo>
                  <a:lnTo>
                    <a:pt x="642" y="139"/>
                  </a:lnTo>
                  <a:lnTo>
                    <a:pt x="642" y="195"/>
                  </a:lnTo>
                  <a:lnTo>
                    <a:pt x="748" y="263"/>
                  </a:lnTo>
                  <a:lnTo>
                    <a:pt x="974" y="339"/>
                  </a:lnTo>
                  <a:lnTo>
                    <a:pt x="1067" y="437"/>
                  </a:lnTo>
                  <a:lnTo>
                    <a:pt x="1184" y="528"/>
                  </a:lnTo>
                  <a:lnTo>
                    <a:pt x="1457" y="592"/>
                  </a:lnTo>
                  <a:lnTo>
                    <a:pt x="1729" y="638"/>
                  </a:lnTo>
                  <a:lnTo>
                    <a:pt x="1993" y="657"/>
                  </a:lnTo>
                  <a:lnTo>
                    <a:pt x="2261" y="613"/>
                  </a:lnTo>
                  <a:lnTo>
                    <a:pt x="2699" y="621"/>
                  </a:lnTo>
                  <a:lnTo>
                    <a:pt x="3911" y="657"/>
                  </a:lnTo>
                  <a:lnTo>
                    <a:pt x="3937" y="114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91" name=""/>
            <p:cNvSpPr/>
            <p:nvPr/>
          </p:nvSpPr>
          <p:spPr>
            <a:xfrm>
              <a:off x="1874880" y="1630800"/>
              <a:ext cx="202320" cy="31680"/>
            </a:xfrm>
            <a:custGeom>
              <a:avLst/>
              <a:gdLst/>
              <a:ahLst/>
              <a:rect l="l" t="t" r="r" b="b"/>
              <a:pathLst>
                <a:path w="3234" h="506">
                  <a:moveTo>
                    <a:pt x="0" y="46"/>
                  </a:moveTo>
                  <a:lnTo>
                    <a:pt x="390" y="54"/>
                  </a:lnTo>
                  <a:lnTo>
                    <a:pt x="580" y="0"/>
                  </a:lnTo>
                  <a:lnTo>
                    <a:pt x="1442" y="384"/>
                  </a:lnTo>
                  <a:lnTo>
                    <a:pt x="1760" y="438"/>
                  </a:lnTo>
                  <a:lnTo>
                    <a:pt x="3234" y="447"/>
                  </a:lnTo>
                  <a:lnTo>
                    <a:pt x="3234" y="506"/>
                  </a:lnTo>
                  <a:lnTo>
                    <a:pt x="1515" y="447"/>
                  </a:lnTo>
                  <a:lnTo>
                    <a:pt x="1151" y="318"/>
                  </a:lnTo>
                  <a:lnTo>
                    <a:pt x="617" y="46"/>
                  </a:lnTo>
                  <a:lnTo>
                    <a:pt x="542" y="46"/>
                  </a:lnTo>
                  <a:lnTo>
                    <a:pt x="327" y="107"/>
                  </a:lnTo>
                  <a:lnTo>
                    <a:pt x="297" y="81"/>
                  </a:lnTo>
                  <a:lnTo>
                    <a:pt x="0" y="4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92" name=""/>
            <p:cNvSpPr/>
            <p:nvPr/>
          </p:nvSpPr>
          <p:spPr>
            <a:xfrm>
              <a:off x="1524600" y="1726200"/>
              <a:ext cx="615600" cy="121320"/>
            </a:xfrm>
            <a:custGeom>
              <a:avLst/>
              <a:gdLst/>
              <a:ahLst/>
              <a:rect l="l" t="t" r="r" b="b"/>
              <a:pathLst>
                <a:path w="9828" h="1931">
                  <a:moveTo>
                    <a:pt x="9828" y="930"/>
                  </a:moveTo>
                  <a:lnTo>
                    <a:pt x="9323" y="1121"/>
                  </a:lnTo>
                  <a:lnTo>
                    <a:pt x="8438" y="1121"/>
                  </a:lnTo>
                  <a:lnTo>
                    <a:pt x="6358" y="1931"/>
                  </a:lnTo>
                  <a:lnTo>
                    <a:pt x="0" y="1931"/>
                  </a:lnTo>
                  <a:lnTo>
                    <a:pt x="0" y="1007"/>
                  </a:lnTo>
                  <a:lnTo>
                    <a:pt x="9595" y="0"/>
                  </a:lnTo>
                  <a:lnTo>
                    <a:pt x="9595" y="425"/>
                  </a:lnTo>
                  <a:lnTo>
                    <a:pt x="9828" y="541"/>
                  </a:lnTo>
                  <a:lnTo>
                    <a:pt x="9828" y="9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188440" y="1450080"/>
              <a:ext cx="12960" cy="14400"/>
            </a:xfrm>
            <a:custGeom>
              <a:avLst/>
              <a:gdLst/>
              <a:ahLst/>
              <a:rect l="l" t="t" r="r" b="b"/>
              <a:pathLst>
                <a:path w="203" h="230">
                  <a:moveTo>
                    <a:pt x="79" y="230"/>
                  </a:moveTo>
                  <a:lnTo>
                    <a:pt x="0" y="0"/>
                  </a:lnTo>
                  <a:lnTo>
                    <a:pt x="203" y="20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4" name=""/>
            <p:cNvSpPr/>
            <p:nvPr/>
          </p:nvSpPr>
          <p:spPr>
            <a:xfrm>
              <a:off x="2189160" y="1450440"/>
              <a:ext cx="5400" cy="9000"/>
            </a:xfrm>
            <a:custGeom>
              <a:avLst/>
              <a:gdLst/>
              <a:ahLst/>
              <a:rect l="l" t="t" r="r" b="b"/>
              <a:pathLst>
                <a:path w="92" h="141">
                  <a:moveTo>
                    <a:pt x="44" y="141"/>
                  </a:moveTo>
                  <a:lnTo>
                    <a:pt x="67" y="110"/>
                  </a:lnTo>
                  <a:lnTo>
                    <a:pt x="92" y="95"/>
                  </a:lnTo>
                  <a:lnTo>
                    <a:pt x="0" y="0"/>
                  </a:lnTo>
                  <a:lnTo>
                    <a:pt x="44" y="14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95" name=""/>
            <p:cNvSpPr/>
            <p:nvPr/>
          </p:nvSpPr>
          <p:spPr>
            <a:xfrm>
              <a:off x="2236680" y="1519560"/>
              <a:ext cx="23760" cy="33840"/>
            </a:xfrm>
            <a:custGeom>
              <a:avLst/>
              <a:gdLst/>
              <a:ahLst/>
              <a:rect l="l" t="t" r="r" b="b"/>
              <a:pathLst>
                <a:path w="386" h="538">
                  <a:moveTo>
                    <a:pt x="63" y="0"/>
                  </a:moveTo>
                  <a:lnTo>
                    <a:pt x="386" y="486"/>
                  </a:lnTo>
                  <a:lnTo>
                    <a:pt x="386" y="508"/>
                  </a:lnTo>
                  <a:lnTo>
                    <a:pt x="370" y="521"/>
                  </a:lnTo>
                  <a:lnTo>
                    <a:pt x="337" y="538"/>
                  </a:lnTo>
                  <a:lnTo>
                    <a:pt x="314" y="534"/>
                  </a:lnTo>
                  <a:lnTo>
                    <a:pt x="295" y="515"/>
                  </a:lnTo>
                  <a:lnTo>
                    <a:pt x="0" y="101"/>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896" name=""/>
            <p:cNvSpPr/>
            <p:nvPr/>
          </p:nvSpPr>
          <p:spPr>
            <a:xfrm>
              <a:off x="1701000" y="1674360"/>
              <a:ext cx="325440" cy="44640"/>
            </a:xfrm>
            <a:custGeom>
              <a:avLst/>
              <a:gdLst/>
              <a:ahLst/>
              <a:rect l="l" t="t" r="r" b="b"/>
              <a:pathLst>
                <a:path w="5195" h="717">
                  <a:moveTo>
                    <a:pt x="5195" y="316"/>
                  </a:moveTo>
                  <a:lnTo>
                    <a:pt x="1364" y="717"/>
                  </a:lnTo>
                  <a:lnTo>
                    <a:pt x="0" y="170"/>
                  </a:lnTo>
                  <a:lnTo>
                    <a:pt x="0" y="0"/>
                  </a:lnTo>
                  <a:lnTo>
                    <a:pt x="1388" y="569"/>
                  </a:lnTo>
                  <a:lnTo>
                    <a:pt x="5154" y="231"/>
                  </a:lnTo>
                  <a:lnTo>
                    <a:pt x="5195" y="3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97" name=""/>
            <p:cNvSpPr/>
            <p:nvPr/>
          </p:nvSpPr>
          <p:spPr>
            <a:xfrm flipV="1">
              <a:off x="1617480" y="1660320"/>
              <a:ext cx="2674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98" name=""/>
            <p:cNvSpPr/>
            <p:nvPr/>
          </p:nvSpPr>
          <p:spPr>
            <a:xfrm>
              <a:off x="1523880" y="1563120"/>
              <a:ext cx="93600" cy="118080"/>
            </a:xfrm>
            <a:custGeom>
              <a:avLst/>
              <a:gdLst/>
              <a:ahLst/>
              <a:rect l="l" t="t" r="r" b="b"/>
              <a:pathLst>
                <a:path w="1497" h="1877">
                  <a:moveTo>
                    <a:pt x="1497" y="1877"/>
                  </a:moveTo>
                  <a:lnTo>
                    <a:pt x="1497" y="425"/>
                  </a:lnTo>
                  <a:lnTo>
                    <a:pt x="0" y="0"/>
                  </a:lnTo>
                  <a:lnTo>
                    <a:pt x="0" y="1114"/>
                  </a:lnTo>
                  <a:lnTo>
                    <a:pt x="1497" y="18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a:off x="1523880" y="1563120"/>
              <a:ext cx="500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00" name=""/>
            <p:cNvSpPr/>
            <p:nvPr/>
          </p:nvSpPr>
          <p:spPr>
            <a:xfrm>
              <a:off x="1526400" y="1363680"/>
              <a:ext cx="90720" cy="212760"/>
            </a:xfrm>
            <a:custGeom>
              <a:avLst/>
              <a:gdLst/>
              <a:ahLst/>
              <a:rect l="l" t="t" r="r" b="b"/>
              <a:pathLst>
                <a:path w="1455" h="3392">
                  <a:moveTo>
                    <a:pt x="758" y="3220"/>
                  </a:moveTo>
                  <a:lnTo>
                    <a:pt x="758" y="3012"/>
                  </a:lnTo>
                  <a:lnTo>
                    <a:pt x="0" y="2821"/>
                  </a:lnTo>
                  <a:lnTo>
                    <a:pt x="0" y="1302"/>
                  </a:lnTo>
                  <a:lnTo>
                    <a:pt x="758" y="927"/>
                  </a:lnTo>
                  <a:lnTo>
                    <a:pt x="758" y="360"/>
                  </a:lnTo>
                  <a:lnTo>
                    <a:pt x="1411" y="0"/>
                  </a:lnTo>
                  <a:lnTo>
                    <a:pt x="1455" y="3392"/>
                  </a:lnTo>
                  <a:lnTo>
                    <a:pt x="758" y="3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
            <p:cNvSpPr/>
            <p:nvPr/>
          </p:nvSpPr>
          <p:spPr>
            <a:xfrm>
              <a:off x="1614600" y="1363680"/>
              <a:ext cx="226800" cy="212760"/>
            </a:xfrm>
            <a:custGeom>
              <a:avLst/>
              <a:gdLst/>
              <a:ahLst/>
              <a:rect l="l" t="t" r="r" b="b"/>
              <a:pathLst>
                <a:path w="3618" h="3392">
                  <a:moveTo>
                    <a:pt x="44" y="3392"/>
                  </a:moveTo>
                  <a:lnTo>
                    <a:pt x="3618" y="3303"/>
                  </a:lnTo>
                  <a:lnTo>
                    <a:pt x="3492" y="12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
            <p:cNvSpPr/>
            <p:nvPr/>
          </p:nvSpPr>
          <p:spPr>
            <a:xfrm>
              <a:off x="1639080" y="1389240"/>
              <a:ext cx="180360" cy="164160"/>
            </a:xfrm>
            <a:custGeom>
              <a:avLst/>
              <a:gdLst/>
              <a:ahLst/>
              <a:rect l="l" t="t" r="r" b="b"/>
              <a:pathLst>
                <a:path w="2881" h="2614">
                  <a:moveTo>
                    <a:pt x="0" y="0"/>
                  </a:moveTo>
                  <a:lnTo>
                    <a:pt x="63" y="2614"/>
                  </a:lnTo>
                  <a:lnTo>
                    <a:pt x="2881" y="2570"/>
                  </a:lnTo>
                  <a:lnTo>
                    <a:pt x="2784" y="84"/>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
            <p:cNvSpPr/>
            <p:nvPr/>
          </p:nvSpPr>
          <p:spPr>
            <a:xfrm>
              <a:off x="1639080" y="1389240"/>
              <a:ext cx="180360" cy="161640"/>
            </a:xfrm>
            <a:custGeom>
              <a:avLst/>
              <a:gdLst/>
              <a:ahLst/>
              <a:rect l="l" t="t" r="r" b="b"/>
              <a:pathLst>
                <a:path w="2881" h="2570">
                  <a:moveTo>
                    <a:pt x="0" y="84"/>
                  </a:moveTo>
                  <a:lnTo>
                    <a:pt x="2724" y="163"/>
                  </a:lnTo>
                  <a:lnTo>
                    <a:pt x="2819" y="2570"/>
                  </a:lnTo>
                  <a:lnTo>
                    <a:pt x="2881" y="2570"/>
                  </a:lnTo>
                  <a:lnTo>
                    <a:pt x="2784" y="84"/>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a:off x="1617480" y="1584720"/>
              <a:ext cx="245880" cy="50760"/>
            </a:xfrm>
            <a:custGeom>
              <a:avLst/>
              <a:gdLst/>
              <a:ahLst/>
              <a:rect l="l" t="t" r="r" b="b"/>
              <a:pathLst>
                <a:path w="3929" h="823">
                  <a:moveTo>
                    <a:pt x="0" y="104"/>
                  </a:moveTo>
                  <a:lnTo>
                    <a:pt x="3929" y="0"/>
                  </a:lnTo>
                  <a:lnTo>
                    <a:pt x="3929" y="823"/>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05" name=""/>
            <p:cNvSpPr/>
            <p:nvPr/>
          </p:nvSpPr>
          <p:spPr>
            <a:xfrm flipH="1" flipV="1">
              <a:off x="1799640" y="1572120"/>
              <a:ext cx="64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06" name=""/>
            <p:cNvSpPr/>
            <p:nvPr/>
          </p:nvSpPr>
          <p:spPr>
            <a:xfrm>
              <a:off x="1633320" y="1606680"/>
              <a:ext cx="19800" cy="14400"/>
            </a:xfrm>
            <a:custGeom>
              <a:avLst/>
              <a:gdLst/>
              <a:ahLst/>
              <a:rect l="l" t="t" r="r" b="b"/>
              <a:pathLst>
                <a:path w="318" h="231">
                  <a:moveTo>
                    <a:pt x="0" y="0"/>
                  </a:moveTo>
                  <a:lnTo>
                    <a:pt x="0" y="231"/>
                  </a:lnTo>
                  <a:lnTo>
                    <a:pt x="318" y="208"/>
                  </a:lnTo>
                  <a:lnTo>
                    <a:pt x="318" y="4"/>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07" name=""/>
            <p:cNvSpPr/>
            <p:nvPr/>
          </p:nvSpPr>
          <p:spPr>
            <a:xfrm>
              <a:off x="1780200" y="1596240"/>
              <a:ext cx="72720" cy="20520"/>
            </a:xfrm>
            <a:custGeom>
              <a:avLst/>
              <a:gdLst/>
              <a:ahLst/>
              <a:rect l="l" t="t" r="r" b="b"/>
              <a:pathLst>
                <a:path w="1167" h="331">
                  <a:moveTo>
                    <a:pt x="1167" y="0"/>
                  </a:moveTo>
                  <a:lnTo>
                    <a:pt x="0" y="44"/>
                  </a:lnTo>
                  <a:lnTo>
                    <a:pt x="0" y="331"/>
                  </a:lnTo>
                  <a:lnTo>
                    <a:pt x="1167" y="249"/>
                  </a:lnTo>
                  <a:lnTo>
                    <a:pt x="116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08" name=""/>
            <p:cNvSpPr/>
            <p:nvPr/>
          </p:nvSpPr>
          <p:spPr>
            <a:xfrm>
              <a:off x="1863720" y="1620000"/>
              <a:ext cx="292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09" name=""/>
            <p:cNvSpPr/>
            <p:nvPr/>
          </p:nvSpPr>
          <p:spPr>
            <a:xfrm>
              <a:off x="2193840" y="1620000"/>
              <a:ext cx="3852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910" name=""/>
          <p:cNvSpPr/>
          <p:nvPr/>
        </p:nvSpPr>
        <p:spPr>
          <a:xfrm>
            <a:off x="7547400" y="6095880"/>
            <a:ext cx="11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éis</a:t>
            </a:r>
            <a:endParaRPr b="0" lang="en-US" sz="2400" spc="-1" strike="noStrike">
              <a:solidFill>
                <a:srgbClr val="000000"/>
              </a:solidFill>
              <a:latin typeface="Arial"/>
            </a:endParaRPr>
          </a:p>
        </p:txBody>
      </p:sp>
      <p:sp>
        <p:nvSpPr>
          <p:cNvPr id="2911" name=""/>
          <p:cNvSpPr/>
          <p:nvPr/>
        </p:nvSpPr>
        <p:spPr>
          <a:xfrm>
            <a:off x="7848720" y="4419720"/>
            <a:ext cx="304560" cy="1676160"/>
          </a:xfrm>
          <a:custGeom>
            <a:avLst/>
            <a:gdLst/>
            <a:ahLst/>
            <a:rect l="l" t="t" r="r" b="b"/>
            <a:pathLst>
              <a:path w="336" h="1056">
                <a:moveTo>
                  <a:pt x="0" y="0"/>
                </a:moveTo>
                <a:lnTo>
                  <a:pt x="336" y="0"/>
                </a:lnTo>
                <a:lnTo>
                  <a:pt x="336" y="10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
          <p:cNvSpPr/>
          <p:nvPr/>
        </p:nvSpPr>
        <p:spPr>
          <a:xfrm>
            <a:off x="376560" y="450720"/>
            <a:ext cx="1688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resa A</a:t>
            </a:r>
            <a:endParaRPr b="0" lang="en-US" sz="2400" spc="-1" strike="noStrike">
              <a:solidFill>
                <a:srgbClr val="000000"/>
              </a:solidFill>
              <a:latin typeface="Arial"/>
            </a:endParaRPr>
          </a:p>
        </p:txBody>
      </p:sp>
      <p:sp>
        <p:nvSpPr>
          <p:cNvPr id="2913" name=""/>
          <p:cNvSpPr/>
          <p:nvPr/>
        </p:nvSpPr>
        <p:spPr>
          <a:xfrm>
            <a:off x="376560" y="3249720"/>
            <a:ext cx="1688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resa B</a:t>
            </a:r>
            <a:endParaRPr b="0" lang="en-US" sz="2400" spc="-1" strike="noStrike">
              <a:solidFill>
                <a:srgbClr val="000000"/>
              </a:solidFill>
              <a:latin typeface="Arial"/>
            </a:endParaRPr>
          </a:p>
        </p:txBody>
      </p:sp>
      <p:sp>
        <p:nvSpPr>
          <p:cNvPr id="2914" name=""/>
          <p:cNvSpPr/>
          <p:nvPr/>
        </p:nvSpPr>
        <p:spPr>
          <a:xfrm>
            <a:off x="0" y="28440"/>
            <a:ext cx="8994600" cy="41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Relacionamento entre papéis e a estrutura organiz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2916"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ceitos de modelagem de process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o mode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papéis principais das pessoas envolvidas no PDP</a:t>
            </a: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Arial"/>
              </a:rPr>
              <a:t>Visão geral das macro-fa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visão de fases (g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étodos e ferramentas de desenvolvimento de produ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dicadores de desempenho d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ceiros do desenvolvimento colaborativo de produ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Áreas de conhecimen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stão do conhecimento d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ndo o modelo</a:t>
            </a:r>
            <a:endParaRPr b="0" lang="en-US" sz="2400" spc="-1" strike="noStrike">
              <a:solidFill>
                <a:srgbClr val="000000"/>
              </a:solidFill>
              <a:latin typeface="Arial"/>
            </a:endParaRPr>
          </a:p>
        </p:txBody>
      </p:sp>
      <p:sp>
        <p:nvSpPr>
          <p:cNvPr id="2917" name=""/>
          <p:cNvSpPr/>
          <p:nvPr/>
        </p:nvSpPr>
        <p:spPr>
          <a:xfrm>
            <a:off x="5451480" y="2130480"/>
            <a:ext cx="3452760" cy="1339920"/>
          </a:xfrm>
          <a:prstGeom prst="wedgeRectCallout">
            <a:avLst>
              <a:gd name="adj1" fmla="val -79657"/>
              <a:gd name="adj2" fmla="val -25949"/>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Desenvolvim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im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ós-Desenvolvimento</a:t>
            </a:r>
            <a:endParaRPr b="0" lang="en-US" sz="2400" spc="-1" strike="noStrike">
              <a:solidFill>
                <a:srgbClr val="000000"/>
              </a:solidFill>
              <a:latin typeface="Arial"/>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68120" y="1962000"/>
            <a:ext cx="8834760" cy="4749840"/>
          </a:xfrm>
          <a:custGeom>
            <a:avLst/>
            <a:gdLst/>
            <a:ahLst/>
            <a:rect l="l" t="t" r="r" b="b"/>
            <a:pathLst>
              <a:path w="5565" h="2992">
                <a:moveTo>
                  <a:pt x="62" y="33"/>
                </a:moveTo>
                <a:lnTo>
                  <a:pt x="1270" y="0"/>
                </a:lnTo>
                <a:lnTo>
                  <a:pt x="1560" y="246"/>
                </a:lnTo>
                <a:lnTo>
                  <a:pt x="5559" y="240"/>
                </a:lnTo>
                <a:lnTo>
                  <a:pt x="5565" y="2992"/>
                </a:lnTo>
                <a:lnTo>
                  <a:pt x="0" y="2992"/>
                </a:lnTo>
                <a:lnTo>
                  <a:pt x="6" y="229"/>
                </a:lnTo>
                <a:lnTo>
                  <a:pt x="62" y="33"/>
                </a:lnTo>
                <a:close/>
              </a:path>
            </a:pathLst>
          </a:custGeom>
          <a:solidFill>
            <a:srgbClr val="99ccff"/>
          </a:solidFill>
          <a:ln w="9360">
            <a:solidFill>
              <a:srgbClr val="00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291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Visão Geral da Macro-Fase Pré-Desenvolvimento</a:t>
            </a:r>
            <a:endParaRPr b="0" lang="en-US" sz="2400" spc="-1" strike="noStrike">
              <a:solidFill>
                <a:srgbClr val="000096"/>
              </a:solidFill>
              <a:latin typeface="Arial"/>
            </a:endParaRPr>
          </a:p>
        </p:txBody>
      </p:sp>
      <p:grpSp>
        <p:nvGrpSpPr>
          <p:cNvPr id="2920" name=""/>
          <p:cNvGrpSpPr/>
          <p:nvPr/>
        </p:nvGrpSpPr>
        <p:grpSpPr>
          <a:xfrm>
            <a:off x="2239920" y="1835280"/>
            <a:ext cx="4146480" cy="298440"/>
            <a:chOff x="2239920" y="1835280"/>
            <a:chExt cx="4146480" cy="298440"/>
          </a:xfrm>
        </p:grpSpPr>
        <p:sp>
          <p:nvSpPr>
            <p:cNvPr id="2921" name=""/>
            <p:cNvSpPr/>
            <p:nvPr/>
          </p:nvSpPr>
          <p:spPr>
            <a:xfrm>
              <a:off x="2239920" y="1835280"/>
              <a:ext cx="4146480" cy="298440"/>
            </a:xfrm>
            <a:custGeom>
              <a:avLst/>
              <a:gdLst>
                <a:gd name="textAreaLeft" fmla="*/ 0 w 4146480"/>
                <a:gd name="textAreaRight" fmla="*/ 4146840 w 4146480"/>
                <a:gd name="textAreaTop" fmla="*/ 0 h 298440"/>
                <a:gd name="textAreaBottom" fmla="*/ 298800 h 298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
            <p:cNvSpPr/>
            <p:nvPr/>
          </p:nvSpPr>
          <p:spPr>
            <a:xfrm>
              <a:off x="3293640" y="18478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23" name=""/>
          <p:cNvGrpSpPr/>
          <p:nvPr/>
        </p:nvGrpSpPr>
        <p:grpSpPr>
          <a:xfrm>
            <a:off x="6364440" y="1836720"/>
            <a:ext cx="2652480" cy="298440"/>
            <a:chOff x="6364440" y="1836720"/>
            <a:chExt cx="2652480" cy="298440"/>
          </a:xfrm>
        </p:grpSpPr>
        <p:sp>
          <p:nvSpPr>
            <p:cNvPr id="2924" name=""/>
            <p:cNvSpPr/>
            <p:nvPr/>
          </p:nvSpPr>
          <p:spPr>
            <a:xfrm>
              <a:off x="6364440" y="18367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a:off x="7431480" y="18730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2926" name=""/>
          <p:cNvSpPr/>
          <p:nvPr/>
        </p:nvSpPr>
        <p:spPr>
          <a:xfrm>
            <a:off x="8223120" y="19209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2927" name=""/>
          <p:cNvCxnSpPr>
            <a:stCxn id="2924" idx="0"/>
            <a:endCxn id="2928" idx="0"/>
          </p:cNvCxnSpPr>
          <p:nvPr/>
        </p:nvCxnSpPr>
        <p:spPr>
          <a:xfrm rot="5400000">
            <a:off x="4402440" y="-1389960"/>
            <a:ext cx="2160" cy="6455520"/>
          </a:xfrm>
          <a:prstGeom prst="bentConnector3">
            <a:avLst>
              <a:gd name="adj1" fmla="val -14400000"/>
            </a:avLst>
          </a:prstGeom>
          <a:ln w="19080">
            <a:solidFill>
              <a:srgbClr val="000000"/>
            </a:solidFill>
            <a:miter/>
            <a:tailEnd len="med" type="triangle" w="med"/>
          </a:ln>
        </p:spPr>
      </p:cxnSp>
      <p:grpSp>
        <p:nvGrpSpPr>
          <p:cNvPr id="2929" name=""/>
          <p:cNvGrpSpPr/>
          <p:nvPr/>
        </p:nvGrpSpPr>
        <p:grpSpPr>
          <a:xfrm>
            <a:off x="171360" y="1836720"/>
            <a:ext cx="2124000" cy="297000"/>
            <a:chOff x="171360" y="1836720"/>
            <a:chExt cx="2124000" cy="297000"/>
          </a:xfrm>
        </p:grpSpPr>
        <p:sp>
          <p:nvSpPr>
            <p:cNvPr id="2928" name=""/>
            <p:cNvSpPr/>
            <p:nvPr/>
          </p:nvSpPr>
          <p:spPr>
            <a:xfrm>
              <a:off x="171360" y="18367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2930" name=""/>
            <p:cNvSpPr/>
            <p:nvPr/>
          </p:nvSpPr>
          <p:spPr>
            <a:xfrm>
              <a:off x="999000" y="18730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2931" name=""/>
          <p:cNvSpPr/>
          <p:nvPr/>
        </p:nvSpPr>
        <p:spPr>
          <a:xfrm>
            <a:off x="1500120" y="10652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2" name=""/>
          <p:cNvSpPr/>
          <p:nvPr/>
        </p:nvSpPr>
        <p:spPr>
          <a:xfrm>
            <a:off x="330120" y="2482920"/>
            <a:ext cx="8336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bjetivo.</a:t>
            </a:r>
            <a:r>
              <a:rPr b="0" lang="en-US" sz="2400" spc="-1" strike="noStrike">
                <a:solidFill>
                  <a:srgbClr val="000000"/>
                </a:solidFill>
                <a:latin typeface="Arial"/>
              </a:rPr>
              <a:t> Envolve as atividades de definição dos projetos de desenvolvimento  a partir da Estratégia Competitiva da empresa. O final do pré-desenvolvimento é a lista de projetos a ser desenvolvido e o lugar.</a:t>
            </a:r>
            <a:endParaRPr b="0" lang="en-US" sz="2400" spc="-1" strike="noStrike">
              <a:solidFill>
                <a:srgbClr val="000000"/>
              </a:solidFill>
              <a:latin typeface="Arial"/>
            </a:endParaRPr>
          </a:p>
        </p:txBody>
      </p:sp>
      <p:sp>
        <p:nvSpPr>
          <p:cNvPr id="2933" name=""/>
          <p:cNvSpPr/>
          <p:nvPr/>
        </p:nvSpPr>
        <p:spPr>
          <a:xfrm>
            <a:off x="382680" y="4229280"/>
            <a:ext cx="8335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mportância.</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co nos projetos prioritários segundo a estratégia da empresa no curto, médio e longo praz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o eficiente dos recurs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ício mais rápido e mais eficiente dos projeto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itérios claros para os projetos em andament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4" name=""/>
          <p:cNvSpPr/>
          <p:nvPr/>
        </p:nvSpPr>
        <p:spPr>
          <a:xfrm>
            <a:off x="1428840" y="5913360"/>
            <a:ext cx="2824200" cy="944640"/>
          </a:xfrm>
          <a:prstGeom prst="rect">
            <a:avLst/>
          </a:prstGeom>
          <a:solidFill>
            <a:srgbClr val="ff9933"/>
          </a:solidFill>
          <a:ln w="9360">
            <a:solidFill>
              <a:srgbClr val="80808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o de Planejamento Estratégico</a:t>
            </a:r>
            <a:endParaRPr b="0" lang="en-US" sz="1400" spc="-1" strike="noStrike">
              <a:solidFill>
                <a:srgbClr val="000000"/>
              </a:solidFill>
              <a:latin typeface="Arial"/>
            </a:endParaRPr>
          </a:p>
        </p:txBody>
      </p:sp>
      <p:sp>
        <p:nvSpPr>
          <p:cNvPr id="2935" name=""/>
          <p:cNvSpPr/>
          <p:nvPr/>
        </p:nvSpPr>
        <p:spPr>
          <a:xfrm>
            <a:off x="4243320" y="5913360"/>
            <a:ext cx="2338560" cy="623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é-Desenvolvimento</a:t>
            </a:r>
            <a:endParaRPr b="0" lang="en-US" sz="1400" spc="-1" strike="noStrike">
              <a:solidFill>
                <a:srgbClr val="000000"/>
              </a:solidFill>
              <a:latin typeface="Arial"/>
            </a:endParaRPr>
          </a:p>
        </p:txBody>
      </p:sp>
      <p:sp>
        <p:nvSpPr>
          <p:cNvPr id="2936" name=""/>
          <p:cNvSpPr/>
          <p:nvPr/>
        </p:nvSpPr>
        <p:spPr>
          <a:xfrm>
            <a:off x="6553080" y="0"/>
            <a:ext cx="2590920" cy="5911920"/>
          </a:xfrm>
          <a:prstGeom prst="rect">
            <a:avLst/>
          </a:prstGeom>
          <a:gradFill rotWithShape="0">
            <a:gsLst>
              <a:gs pos="0">
                <a:srgbClr val="ffcccc"/>
              </a:gs>
              <a:gs pos="100000">
                <a:srgbClr val="ffff99"/>
              </a:gs>
            </a:gsLst>
            <a:lin ang="10800000"/>
          </a:gra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7" name=""/>
          <p:cNvSpPr/>
          <p:nvPr/>
        </p:nvSpPr>
        <p:spPr>
          <a:xfrm>
            <a:off x="6553080" y="3935520"/>
            <a:ext cx="2590920" cy="2112840"/>
          </a:xfrm>
          <a:prstGeom prst="rect">
            <a:avLst/>
          </a:prstGeom>
          <a:gradFill rotWithShape="0">
            <a:gsLst>
              <a:gs pos="0">
                <a:srgbClr val="ffcccc"/>
              </a:gs>
              <a:gs pos="100000">
                <a:srgbClr val="ffff99"/>
              </a:gs>
            </a:gsLst>
            <a:lin ang="10800000"/>
          </a:gradFill>
          <a:ln w="936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
          <p:cNvSpPr/>
          <p:nvPr/>
        </p:nvSpPr>
        <p:spPr>
          <a:xfrm>
            <a:off x="6553080" y="5965920"/>
            <a:ext cx="2590920" cy="477720"/>
          </a:xfrm>
          <a:prstGeom prst="rect">
            <a:avLst/>
          </a:prstGeom>
          <a:gradFill rotWithShape="0">
            <a:gsLst>
              <a:gs pos="0">
                <a:srgbClr val="ffcccc"/>
              </a:gs>
              <a:gs pos="100000">
                <a:srgbClr val="ffff99"/>
              </a:gs>
            </a:gsLst>
            <a:lin ang="10800000"/>
          </a:gradFill>
          <a:ln w="936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nvolvimento e Pós-Desenvolvimento</a:t>
            </a:r>
            <a:endParaRPr b="0" lang="en-US" sz="1400" spc="-1" strike="noStrike">
              <a:solidFill>
                <a:srgbClr val="000000"/>
              </a:solidFill>
              <a:latin typeface="Arial"/>
            </a:endParaRPr>
          </a:p>
        </p:txBody>
      </p:sp>
      <p:sp>
        <p:nvSpPr>
          <p:cNvPr id="2939" name=""/>
          <p:cNvSpPr/>
          <p:nvPr/>
        </p:nvSpPr>
        <p:spPr>
          <a:xfrm>
            <a:off x="4259160" y="6378480"/>
            <a:ext cx="2333880" cy="479520"/>
          </a:xfrm>
          <a:prstGeom prst="rect">
            <a:avLst/>
          </a:prstGeom>
          <a:solidFill>
            <a:srgbClr val="ccec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0" name=""/>
          <p:cNvSpPr/>
          <p:nvPr/>
        </p:nvSpPr>
        <p:spPr>
          <a:xfrm>
            <a:off x="6568920" y="6419880"/>
            <a:ext cx="2575080" cy="438120"/>
          </a:xfrm>
          <a:prstGeom prst="rect">
            <a:avLst/>
          </a:prstGeom>
          <a:gradFill rotWithShape="0">
            <a:gsLst>
              <a:gs pos="0">
                <a:srgbClr val="ffcccc"/>
              </a:gs>
              <a:gs pos="100000">
                <a:srgbClr val="ffff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
          <p:cNvSpPr/>
          <p:nvPr/>
        </p:nvSpPr>
        <p:spPr>
          <a:xfrm>
            <a:off x="5562720" y="0"/>
            <a:ext cx="990360" cy="39862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
          <p:cNvSpPr/>
          <p:nvPr/>
        </p:nvSpPr>
        <p:spPr>
          <a:xfrm>
            <a:off x="2747880" y="0"/>
            <a:ext cx="1569960" cy="3978360"/>
          </a:xfrm>
          <a:prstGeom prst="rect">
            <a:avLst/>
          </a:prstGeom>
          <a:solidFill>
            <a:srgbClr val="ff9933"/>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3" name=""/>
          <p:cNvSpPr/>
          <p:nvPr/>
        </p:nvSpPr>
        <p:spPr>
          <a:xfrm>
            <a:off x="1427040" y="0"/>
            <a:ext cx="1392480" cy="3962520"/>
          </a:xfrm>
          <a:prstGeom prst="rect">
            <a:avLst/>
          </a:prstGeom>
          <a:solidFill>
            <a:srgbClr val="ff9933"/>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4" name=""/>
          <p:cNvSpPr/>
          <p:nvPr/>
        </p:nvSpPr>
        <p:spPr>
          <a:xfrm rot="10800000">
            <a:off x="-1440" y="-360"/>
            <a:ext cx="1447560" cy="396252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presentação Gráfica</a:t>
            </a:r>
            <a:endParaRPr b="0" lang="en-US" sz="2000" spc="-1" strike="noStrike">
              <a:solidFill>
                <a:srgbClr val="000000"/>
              </a:solidFill>
              <a:latin typeface="Arial"/>
            </a:endParaRPr>
          </a:p>
        </p:txBody>
      </p:sp>
      <p:sp>
        <p:nvSpPr>
          <p:cNvPr id="2945" name=""/>
          <p:cNvSpPr/>
          <p:nvPr/>
        </p:nvSpPr>
        <p:spPr>
          <a:xfrm>
            <a:off x="3187800" y="57675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
          <p:cNvSpPr/>
          <p:nvPr/>
        </p:nvSpPr>
        <p:spPr>
          <a:xfrm>
            <a:off x="6497640" y="22161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7" name=""/>
          <p:cNvSpPr/>
          <p:nvPr/>
        </p:nvSpPr>
        <p:spPr>
          <a:xfrm>
            <a:off x="7531200" y="22161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
          <p:cNvSpPr/>
          <p:nvPr/>
        </p:nvSpPr>
        <p:spPr>
          <a:xfrm>
            <a:off x="8048520" y="22161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9" name=""/>
          <p:cNvSpPr/>
          <p:nvPr/>
        </p:nvSpPr>
        <p:spPr>
          <a:xfrm>
            <a:off x="8721720" y="22161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0" name=""/>
          <p:cNvSpPr/>
          <p:nvPr/>
        </p:nvSpPr>
        <p:spPr>
          <a:xfrm>
            <a:off x="7016760" y="22161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
          <p:cNvSpPr/>
          <p:nvPr/>
        </p:nvSpPr>
        <p:spPr>
          <a:xfrm>
            <a:off x="4243320" y="0"/>
            <a:ext cx="1319400" cy="3962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2" name=""/>
          <p:cNvGrpSpPr/>
          <p:nvPr/>
        </p:nvGrpSpPr>
        <p:grpSpPr>
          <a:xfrm>
            <a:off x="5781600" y="0"/>
            <a:ext cx="3362040" cy="913680"/>
            <a:chOff x="5781600" y="0"/>
            <a:chExt cx="3362040" cy="913680"/>
          </a:xfrm>
        </p:grpSpPr>
        <p:grpSp>
          <p:nvGrpSpPr>
            <p:cNvPr id="2953" name=""/>
            <p:cNvGrpSpPr/>
            <p:nvPr/>
          </p:nvGrpSpPr>
          <p:grpSpPr>
            <a:xfrm>
              <a:off x="6391440" y="0"/>
              <a:ext cx="2441160" cy="596160"/>
              <a:chOff x="6391440" y="0"/>
              <a:chExt cx="2441160" cy="596160"/>
            </a:xfrm>
          </p:grpSpPr>
          <p:sp>
            <p:nvSpPr>
              <p:cNvPr id="2954" name=""/>
              <p:cNvSpPr/>
              <p:nvPr/>
            </p:nvSpPr>
            <p:spPr>
              <a:xfrm>
                <a:off x="7005600" y="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
              <p:cNvSpPr/>
              <p:nvPr/>
            </p:nvSpPr>
            <p:spPr>
              <a:xfrm>
                <a:off x="7448400" y="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
              <p:cNvSpPr/>
              <p:nvPr/>
            </p:nvSpPr>
            <p:spPr>
              <a:xfrm>
                <a:off x="8064360" y="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
              <p:cNvSpPr/>
              <p:nvPr/>
            </p:nvSpPr>
            <p:spPr>
              <a:xfrm>
                <a:off x="6564240" y="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a:off x="6391440" y="14256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9" name=""/>
              <p:cNvSpPr/>
              <p:nvPr/>
            </p:nvSpPr>
            <p:spPr>
              <a:xfrm>
                <a:off x="6466320" y="163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2960" name=""/>
              <p:cNvSpPr/>
              <p:nvPr/>
            </p:nvSpPr>
            <p:spPr>
              <a:xfrm>
                <a:off x="7159680" y="14256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1" name=""/>
              <p:cNvSpPr/>
              <p:nvPr/>
            </p:nvSpPr>
            <p:spPr>
              <a:xfrm>
                <a:off x="7368840" y="163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2962" name=""/>
              <p:cNvSpPr/>
              <p:nvPr/>
            </p:nvSpPr>
            <p:spPr>
              <a:xfrm>
                <a:off x="7602480" y="14256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3" name=""/>
              <p:cNvSpPr/>
              <p:nvPr/>
            </p:nvSpPr>
            <p:spPr>
              <a:xfrm>
                <a:off x="7815600" y="163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2964" name=""/>
              <p:cNvSpPr/>
              <p:nvPr/>
            </p:nvSpPr>
            <p:spPr>
              <a:xfrm>
                <a:off x="8220240" y="14256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
              <p:cNvSpPr/>
              <p:nvPr/>
            </p:nvSpPr>
            <p:spPr>
              <a:xfrm>
                <a:off x="8373960" y="163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2966" name=""/>
              <p:cNvSpPr/>
              <p:nvPr/>
            </p:nvSpPr>
            <p:spPr>
              <a:xfrm>
                <a:off x="6718320" y="14256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
              <p:cNvSpPr/>
              <p:nvPr/>
            </p:nvSpPr>
            <p:spPr>
              <a:xfrm>
                <a:off x="6908400" y="163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2968" name=""/>
              <p:cNvSpPr/>
              <p:nvPr/>
            </p:nvSpPr>
            <p:spPr>
              <a:xfrm>
                <a:off x="6545160" y="28872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9" name=""/>
              <p:cNvSpPr/>
              <p:nvPr/>
            </p:nvSpPr>
            <p:spPr>
              <a:xfrm>
                <a:off x="7313760" y="28872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
              <p:cNvSpPr/>
              <p:nvPr/>
            </p:nvSpPr>
            <p:spPr>
              <a:xfrm>
                <a:off x="7758000" y="28872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1" name=""/>
              <p:cNvGrpSpPr/>
              <p:nvPr/>
            </p:nvGrpSpPr>
            <p:grpSpPr>
              <a:xfrm>
                <a:off x="8310600" y="180720"/>
                <a:ext cx="522000" cy="415440"/>
                <a:chOff x="8310600" y="180720"/>
                <a:chExt cx="522000" cy="415440"/>
              </a:xfrm>
            </p:grpSpPr>
            <p:sp>
              <p:nvSpPr>
                <p:cNvPr id="2972" name=""/>
                <p:cNvSpPr/>
                <p:nvPr/>
              </p:nvSpPr>
              <p:spPr>
                <a:xfrm>
                  <a:off x="8330040" y="19944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3" name=""/>
                <p:cNvSpPr/>
                <p:nvPr/>
              </p:nvSpPr>
              <p:spPr>
                <a:xfrm>
                  <a:off x="8310600" y="18072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4" name=""/>
                <p:cNvSpPr/>
                <p:nvPr/>
              </p:nvSpPr>
              <p:spPr>
                <a:xfrm>
                  <a:off x="8310600" y="18072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5" name=""/>
              <p:cNvGrpSpPr/>
              <p:nvPr/>
            </p:nvGrpSpPr>
            <p:grpSpPr>
              <a:xfrm>
                <a:off x="6870600" y="180720"/>
                <a:ext cx="501480" cy="415440"/>
                <a:chOff x="6870600" y="180720"/>
                <a:chExt cx="501480" cy="415440"/>
              </a:xfrm>
            </p:grpSpPr>
            <p:sp>
              <p:nvSpPr>
                <p:cNvPr id="2976" name=""/>
                <p:cNvSpPr/>
                <p:nvPr/>
              </p:nvSpPr>
              <p:spPr>
                <a:xfrm>
                  <a:off x="6890400" y="19944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7" name=""/>
                <p:cNvSpPr/>
                <p:nvPr/>
              </p:nvSpPr>
              <p:spPr>
                <a:xfrm>
                  <a:off x="6870600" y="18072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
                <p:cNvSpPr/>
                <p:nvPr/>
              </p:nvSpPr>
              <p:spPr>
                <a:xfrm>
                  <a:off x="6870600" y="18072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9" name=""/>
              <p:cNvGrpSpPr/>
              <p:nvPr/>
            </p:nvGrpSpPr>
            <p:grpSpPr>
              <a:xfrm>
                <a:off x="6429240" y="180720"/>
                <a:ext cx="2346480" cy="415440"/>
                <a:chOff x="6429240" y="180720"/>
                <a:chExt cx="2346480" cy="415440"/>
              </a:xfrm>
            </p:grpSpPr>
            <p:grpSp>
              <p:nvGrpSpPr>
                <p:cNvPr id="2980" name=""/>
                <p:cNvGrpSpPr/>
                <p:nvPr/>
              </p:nvGrpSpPr>
              <p:grpSpPr>
                <a:xfrm>
                  <a:off x="6429240" y="180720"/>
                  <a:ext cx="501120" cy="415440"/>
                  <a:chOff x="6429240" y="180720"/>
                  <a:chExt cx="501120" cy="415440"/>
                </a:xfrm>
              </p:grpSpPr>
              <p:sp>
                <p:nvSpPr>
                  <p:cNvPr id="2981" name=""/>
                  <p:cNvSpPr/>
                  <p:nvPr/>
                </p:nvSpPr>
                <p:spPr>
                  <a:xfrm>
                    <a:off x="6446520" y="19944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6429240" y="18072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
                  <p:cNvSpPr/>
                  <p:nvPr/>
                </p:nvSpPr>
                <p:spPr>
                  <a:xfrm>
                    <a:off x="6429240" y="18072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4" name=""/>
                <p:cNvGrpSpPr/>
                <p:nvPr/>
              </p:nvGrpSpPr>
              <p:grpSpPr>
                <a:xfrm>
                  <a:off x="7313760" y="180720"/>
                  <a:ext cx="502560" cy="415440"/>
                  <a:chOff x="7313760" y="180720"/>
                  <a:chExt cx="502560" cy="415440"/>
                </a:xfrm>
              </p:grpSpPr>
              <p:sp>
                <p:nvSpPr>
                  <p:cNvPr id="2985" name=""/>
                  <p:cNvSpPr/>
                  <p:nvPr/>
                </p:nvSpPr>
                <p:spPr>
                  <a:xfrm>
                    <a:off x="7333560" y="19944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
                  <p:cNvSpPr/>
                  <p:nvPr/>
                </p:nvSpPr>
                <p:spPr>
                  <a:xfrm>
                    <a:off x="7313760" y="18072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7" name=""/>
                  <p:cNvSpPr/>
                  <p:nvPr/>
                </p:nvSpPr>
                <p:spPr>
                  <a:xfrm>
                    <a:off x="7313760" y="18072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8" name=""/>
                <p:cNvGrpSpPr/>
                <p:nvPr/>
              </p:nvGrpSpPr>
              <p:grpSpPr>
                <a:xfrm>
                  <a:off x="7777080" y="180720"/>
                  <a:ext cx="498240" cy="415440"/>
                  <a:chOff x="7777080" y="180720"/>
                  <a:chExt cx="498240" cy="415440"/>
                </a:xfrm>
              </p:grpSpPr>
              <p:sp>
                <p:nvSpPr>
                  <p:cNvPr id="2989" name=""/>
                  <p:cNvSpPr/>
                  <p:nvPr/>
                </p:nvSpPr>
                <p:spPr>
                  <a:xfrm>
                    <a:off x="7777080" y="19944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0" name=""/>
                  <p:cNvSpPr/>
                  <p:nvPr/>
                </p:nvSpPr>
                <p:spPr>
                  <a:xfrm>
                    <a:off x="7777080" y="18072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1" name=""/>
                  <p:cNvSpPr/>
                  <p:nvPr/>
                </p:nvSpPr>
                <p:spPr>
                  <a:xfrm>
                    <a:off x="7777080" y="18072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2" name=""/>
                <p:cNvSpPr/>
                <p:nvPr/>
              </p:nvSpPr>
              <p:spPr>
                <a:xfrm>
                  <a:off x="8375760" y="28836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3" name=""/>
                <p:cNvSpPr/>
                <p:nvPr/>
              </p:nvSpPr>
              <p:spPr>
                <a:xfrm>
                  <a:off x="6854760" y="28836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94" name=""/>
            <p:cNvGrpSpPr/>
            <p:nvPr/>
          </p:nvGrpSpPr>
          <p:grpSpPr>
            <a:xfrm>
              <a:off x="6524640" y="158760"/>
              <a:ext cx="2441160" cy="596160"/>
              <a:chOff x="6524640" y="158760"/>
              <a:chExt cx="2441160" cy="596160"/>
            </a:xfrm>
          </p:grpSpPr>
          <p:sp>
            <p:nvSpPr>
              <p:cNvPr id="2995" name=""/>
              <p:cNvSpPr/>
              <p:nvPr/>
            </p:nvSpPr>
            <p:spPr>
              <a:xfrm>
                <a:off x="7138800" y="15876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
              <p:cNvSpPr/>
              <p:nvPr/>
            </p:nvSpPr>
            <p:spPr>
              <a:xfrm>
                <a:off x="7581600" y="15876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
              <p:cNvSpPr/>
              <p:nvPr/>
            </p:nvSpPr>
            <p:spPr>
              <a:xfrm>
                <a:off x="8197560" y="15876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
              <p:cNvSpPr/>
              <p:nvPr/>
            </p:nvSpPr>
            <p:spPr>
              <a:xfrm>
                <a:off x="6697440" y="15876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
              <p:cNvSpPr/>
              <p:nvPr/>
            </p:nvSpPr>
            <p:spPr>
              <a:xfrm>
                <a:off x="6524640" y="30132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
              <p:cNvSpPr/>
              <p:nvPr/>
            </p:nvSpPr>
            <p:spPr>
              <a:xfrm>
                <a:off x="6599520" y="322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001" name=""/>
              <p:cNvSpPr/>
              <p:nvPr/>
            </p:nvSpPr>
            <p:spPr>
              <a:xfrm>
                <a:off x="7292880" y="30132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
              <p:cNvSpPr/>
              <p:nvPr/>
            </p:nvSpPr>
            <p:spPr>
              <a:xfrm>
                <a:off x="7502040" y="322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003" name=""/>
              <p:cNvSpPr/>
              <p:nvPr/>
            </p:nvSpPr>
            <p:spPr>
              <a:xfrm>
                <a:off x="7735680" y="30132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
              <p:cNvSpPr/>
              <p:nvPr/>
            </p:nvSpPr>
            <p:spPr>
              <a:xfrm>
                <a:off x="7948800" y="322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005" name=""/>
              <p:cNvSpPr/>
              <p:nvPr/>
            </p:nvSpPr>
            <p:spPr>
              <a:xfrm>
                <a:off x="8353440" y="30132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
              <p:cNvSpPr/>
              <p:nvPr/>
            </p:nvSpPr>
            <p:spPr>
              <a:xfrm>
                <a:off x="8507160" y="322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007" name=""/>
              <p:cNvSpPr/>
              <p:nvPr/>
            </p:nvSpPr>
            <p:spPr>
              <a:xfrm>
                <a:off x="6851520" y="30132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
              <p:cNvSpPr/>
              <p:nvPr/>
            </p:nvSpPr>
            <p:spPr>
              <a:xfrm>
                <a:off x="7041600" y="322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009" name=""/>
              <p:cNvSpPr/>
              <p:nvPr/>
            </p:nvSpPr>
            <p:spPr>
              <a:xfrm>
                <a:off x="6678360" y="44748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
              <p:cNvSpPr/>
              <p:nvPr/>
            </p:nvSpPr>
            <p:spPr>
              <a:xfrm>
                <a:off x="7446960" y="44748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1" name=""/>
              <p:cNvSpPr/>
              <p:nvPr/>
            </p:nvSpPr>
            <p:spPr>
              <a:xfrm>
                <a:off x="7891200" y="44748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2" name=""/>
              <p:cNvGrpSpPr/>
              <p:nvPr/>
            </p:nvGrpSpPr>
            <p:grpSpPr>
              <a:xfrm>
                <a:off x="8443800" y="339480"/>
                <a:ext cx="522000" cy="415440"/>
                <a:chOff x="8443800" y="339480"/>
                <a:chExt cx="522000" cy="415440"/>
              </a:xfrm>
            </p:grpSpPr>
            <p:sp>
              <p:nvSpPr>
                <p:cNvPr id="3013" name=""/>
                <p:cNvSpPr/>
                <p:nvPr/>
              </p:nvSpPr>
              <p:spPr>
                <a:xfrm>
                  <a:off x="8463240" y="35820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
                <p:cNvSpPr/>
                <p:nvPr/>
              </p:nvSpPr>
              <p:spPr>
                <a:xfrm>
                  <a:off x="8443800" y="3394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5" name=""/>
                <p:cNvSpPr/>
                <p:nvPr/>
              </p:nvSpPr>
              <p:spPr>
                <a:xfrm>
                  <a:off x="8443800" y="3394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6" name=""/>
              <p:cNvGrpSpPr/>
              <p:nvPr/>
            </p:nvGrpSpPr>
            <p:grpSpPr>
              <a:xfrm>
                <a:off x="7003800" y="339480"/>
                <a:ext cx="501480" cy="415440"/>
                <a:chOff x="7003800" y="339480"/>
                <a:chExt cx="501480" cy="415440"/>
              </a:xfrm>
            </p:grpSpPr>
            <p:sp>
              <p:nvSpPr>
                <p:cNvPr id="3017" name=""/>
                <p:cNvSpPr/>
                <p:nvPr/>
              </p:nvSpPr>
              <p:spPr>
                <a:xfrm>
                  <a:off x="7023600" y="35820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a:off x="7003800" y="33948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
                <p:cNvSpPr/>
                <p:nvPr/>
              </p:nvSpPr>
              <p:spPr>
                <a:xfrm>
                  <a:off x="7003800" y="33948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0" name=""/>
              <p:cNvGrpSpPr/>
              <p:nvPr/>
            </p:nvGrpSpPr>
            <p:grpSpPr>
              <a:xfrm>
                <a:off x="6562440" y="339480"/>
                <a:ext cx="2346480" cy="415440"/>
                <a:chOff x="6562440" y="339480"/>
                <a:chExt cx="2346480" cy="415440"/>
              </a:xfrm>
            </p:grpSpPr>
            <p:grpSp>
              <p:nvGrpSpPr>
                <p:cNvPr id="3021" name=""/>
                <p:cNvGrpSpPr/>
                <p:nvPr/>
              </p:nvGrpSpPr>
              <p:grpSpPr>
                <a:xfrm>
                  <a:off x="6562440" y="339480"/>
                  <a:ext cx="501120" cy="415440"/>
                  <a:chOff x="6562440" y="339480"/>
                  <a:chExt cx="501120" cy="415440"/>
                </a:xfrm>
              </p:grpSpPr>
              <p:sp>
                <p:nvSpPr>
                  <p:cNvPr id="3022" name=""/>
                  <p:cNvSpPr/>
                  <p:nvPr/>
                </p:nvSpPr>
                <p:spPr>
                  <a:xfrm>
                    <a:off x="6579720" y="35820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3" name=""/>
                  <p:cNvSpPr/>
                  <p:nvPr/>
                </p:nvSpPr>
                <p:spPr>
                  <a:xfrm>
                    <a:off x="6562440" y="33948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
                  <p:cNvSpPr/>
                  <p:nvPr/>
                </p:nvSpPr>
                <p:spPr>
                  <a:xfrm>
                    <a:off x="6562440" y="33948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5" name=""/>
                <p:cNvGrpSpPr/>
                <p:nvPr/>
              </p:nvGrpSpPr>
              <p:grpSpPr>
                <a:xfrm>
                  <a:off x="7446960" y="339480"/>
                  <a:ext cx="502560" cy="415440"/>
                  <a:chOff x="7446960" y="339480"/>
                  <a:chExt cx="502560" cy="415440"/>
                </a:xfrm>
              </p:grpSpPr>
              <p:sp>
                <p:nvSpPr>
                  <p:cNvPr id="3026" name=""/>
                  <p:cNvSpPr/>
                  <p:nvPr/>
                </p:nvSpPr>
                <p:spPr>
                  <a:xfrm>
                    <a:off x="7466760" y="35820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7" name=""/>
                  <p:cNvSpPr/>
                  <p:nvPr/>
                </p:nvSpPr>
                <p:spPr>
                  <a:xfrm>
                    <a:off x="7446960" y="3394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8" name=""/>
                  <p:cNvSpPr/>
                  <p:nvPr/>
                </p:nvSpPr>
                <p:spPr>
                  <a:xfrm>
                    <a:off x="7446960" y="3394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9" name=""/>
                <p:cNvGrpSpPr/>
                <p:nvPr/>
              </p:nvGrpSpPr>
              <p:grpSpPr>
                <a:xfrm>
                  <a:off x="7910280" y="339480"/>
                  <a:ext cx="498240" cy="415440"/>
                  <a:chOff x="7910280" y="339480"/>
                  <a:chExt cx="498240" cy="415440"/>
                </a:xfrm>
              </p:grpSpPr>
              <p:sp>
                <p:nvSpPr>
                  <p:cNvPr id="3030" name=""/>
                  <p:cNvSpPr/>
                  <p:nvPr/>
                </p:nvSpPr>
                <p:spPr>
                  <a:xfrm>
                    <a:off x="7910280" y="35820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
                  <p:cNvSpPr/>
                  <p:nvPr/>
                </p:nvSpPr>
                <p:spPr>
                  <a:xfrm>
                    <a:off x="7910280" y="33948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a:off x="7910280" y="33948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3" name=""/>
                <p:cNvSpPr/>
                <p:nvPr/>
              </p:nvSpPr>
              <p:spPr>
                <a:xfrm>
                  <a:off x="8508960" y="44712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
                <p:cNvSpPr/>
                <p:nvPr/>
              </p:nvSpPr>
              <p:spPr>
                <a:xfrm>
                  <a:off x="6987960" y="44712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35" name=""/>
            <p:cNvSpPr/>
            <p:nvPr/>
          </p:nvSpPr>
          <p:spPr>
            <a:xfrm>
              <a:off x="6512040" y="272880"/>
              <a:ext cx="403200" cy="16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6" name=""/>
            <p:cNvGrpSpPr/>
            <p:nvPr/>
          </p:nvGrpSpPr>
          <p:grpSpPr>
            <a:xfrm>
              <a:off x="6702480" y="317520"/>
              <a:ext cx="2441160" cy="596160"/>
              <a:chOff x="6702480" y="317520"/>
              <a:chExt cx="2441160" cy="596160"/>
            </a:xfrm>
          </p:grpSpPr>
          <p:sp>
            <p:nvSpPr>
              <p:cNvPr id="3037" name=""/>
              <p:cNvSpPr/>
              <p:nvPr/>
            </p:nvSpPr>
            <p:spPr>
              <a:xfrm>
                <a:off x="7316640" y="31752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
              <p:cNvSpPr/>
              <p:nvPr/>
            </p:nvSpPr>
            <p:spPr>
              <a:xfrm>
                <a:off x="7759440" y="31752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
              <p:cNvSpPr/>
              <p:nvPr/>
            </p:nvSpPr>
            <p:spPr>
              <a:xfrm>
                <a:off x="8375400" y="31752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
              <p:cNvSpPr/>
              <p:nvPr/>
            </p:nvSpPr>
            <p:spPr>
              <a:xfrm>
                <a:off x="6875280" y="31752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
              <p:cNvSpPr/>
              <p:nvPr/>
            </p:nvSpPr>
            <p:spPr>
              <a:xfrm>
                <a:off x="6702480" y="46008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
              <p:cNvSpPr/>
              <p:nvPr/>
            </p:nvSpPr>
            <p:spPr>
              <a:xfrm>
                <a:off x="6777360" y="4809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043" name=""/>
              <p:cNvSpPr/>
              <p:nvPr/>
            </p:nvSpPr>
            <p:spPr>
              <a:xfrm>
                <a:off x="7470720" y="46008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
              <p:cNvSpPr/>
              <p:nvPr/>
            </p:nvSpPr>
            <p:spPr>
              <a:xfrm>
                <a:off x="7679880" y="4809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045" name=""/>
              <p:cNvSpPr/>
              <p:nvPr/>
            </p:nvSpPr>
            <p:spPr>
              <a:xfrm>
                <a:off x="7913520" y="46008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
              <p:cNvSpPr/>
              <p:nvPr/>
            </p:nvSpPr>
            <p:spPr>
              <a:xfrm>
                <a:off x="8126640" y="4809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047" name=""/>
              <p:cNvSpPr/>
              <p:nvPr/>
            </p:nvSpPr>
            <p:spPr>
              <a:xfrm>
                <a:off x="8531280" y="46008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
              <p:cNvSpPr/>
              <p:nvPr/>
            </p:nvSpPr>
            <p:spPr>
              <a:xfrm>
                <a:off x="8685000" y="4809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049" name=""/>
              <p:cNvSpPr/>
              <p:nvPr/>
            </p:nvSpPr>
            <p:spPr>
              <a:xfrm>
                <a:off x="7029360" y="46008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0" name=""/>
              <p:cNvSpPr/>
              <p:nvPr/>
            </p:nvSpPr>
            <p:spPr>
              <a:xfrm>
                <a:off x="7219440" y="4809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051" name=""/>
              <p:cNvSpPr/>
              <p:nvPr/>
            </p:nvSpPr>
            <p:spPr>
              <a:xfrm>
                <a:off x="6856200" y="60624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2" name=""/>
              <p:cNvSpPr/>
              <p:nvPr/>
            </p:nvSpPr>
            <p:spPr>
              <a:xfrm>
                <a:off x="7624800" y="60624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
              <p:cNvSpPr/>
              <p:nvPr/>
            </p:nvSpPr>
            <p:spPr>
              <a:xfrm>
                <a:off x="8069040" y="60624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4" name=""/>
              <p:cNvGrpSpPr/>
              <p:nvPr/>
            </p:nvGrpSpPr>
            <p:grpSpPr>
              <a:xfrm>
                <a:off x="8621640" y="498240"/>
                <a:ext cx="522000" cy="415440"/>
                <a:chOff x="8621640" y="498240"/>
                <a:chExt cx="522000" cy="415440"/>
              </a:xfrm>
            </p:grpSpPr>
            <p:sp>
              <p:nvSpPr>
                <p:cNvPr id="3055" name=""/>
                <p:cNvSpPr/>
                <p:nvPr/>
              </p:nvSpPr>
              <p:spPr>
                <a:xfrm>
                  <a:off x="8641080" y="51696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6" name=""/>
                <p:cNvSpPr/>
                <p:nvPr/>
              </p:nvSpPr>
              <p:spPr>
                <a:xfrm>
                  <a:off x="8621640" y="4982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7" name=""/>
                <p:cNvSpPr/>
                <p:nvPr/>
              </p:nvSpPr>
              <p:spPr>
                <a:xfrm>
                  <a:off x="8621640" y="4982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8" name=""/>
              <p:cNvGrpSpPr/>
              <p:nvPr/>
            </p:nvGrpSpPr>
            <p:grpSpPr>
              <a:xfrm>
                <a:off x="7181640" y="498240"/>
                <a:ext cx="501480" cy="415440"/>
                <a:chOff x="7181640" y="498240"/>
                <a:chExt cx="501480" cy="415440"/>
              </a:xfrm>
            </p:grpSpPr>
            <p:sp>
              <p:nvSpPr>
                <p:cNvPr id="3059" name=""/>
                <p:cNvSpPr/>
                <p:nvPr/>
              </p:nvSpPr>
              <p:spPr>
                <a:xfrm>
                  <a:off x="7201440" y="51696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
                <p:cNvSpPr/>
                <p:nvPr/>
              </p:nvSpPr>
              <p:spPr>
                <a:xfrm>
                  <a:off x="7181640" y="49824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1" name=""/>
                <p:cNvSpPr/>
                <p:nvPr/>
              </p:nvSpPr>
              <p:spPr>
                <a:xfrm>
                  <a:off x="7181640" y="49824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2" name=""/>
              <p:cNvGrpSpPr/>
              <p:nvPr/>
            </p:nvGrpSpPr>
            <p:grpSpPr>
              <a:xfrm>
                <a:off x="6740280" y="498240"/>
                <a:ext cx="2346480" cy="415440"/>
                <a:chOff x="6740280" y="498240"/>
                <a:chExt cx="2346480" cy="415440"/>
              </a:xfrm>
            </p:grpSpPr>
            <p:grpSp>
              <p:nvGrpSpPr>
                <p:cNvPr id="3063" name=""/>
                <p:cNvGrpSpPr/>
                <p:nvPr/>
              </p:nvGrpSpPr>
              <p:grpSpPr>
                <a:xfrm>
                  <a:off x="6740280" y="498240"/>
                  <a:ext cx="501120" cy="415440"/>
                  <a:chOff x="6740280" y="498240"/>
                  <a:chExt cx="501120" cy="415440"/>
                </a:xfrm>
              </p:grpSpPr>
              <p:sp>
                <p:nvSpPr>
                  <p:cNvPr id="3064" name=""/>
                  <p:cNvSpPr/>
                  <p:nvPr/>
                </p:nvSpPr>
                <p:spPr>
                  <a:xfrm>
                    <a:off x="6757560" y="51696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5" name=""/>
                  <p:cNvSpPr/>
                  <p:nvPr/>
                </p:nvSpPr>
                <p:spPr>
                  <a:xfrm>
                    <a:off x="6740280" y="49824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
                  <p:cNvSpPr/>
                  <p:nvPr/>
                </p:nvSpPr>
                <p:spPr>
                  <a:xfrm>
                    <a:off x="6740280" y="49824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7" name=""/>
                <p:cNvGrpSpPr/>
                <p:nvPr/>
              </p:nvGrpSpPr>
              <p:grpSpPr>
                <a:xfrm>
                  <a:off x="7624800" y="498240"/>
                  <a:ext cx="502560" cy="415440"/>
                  <a:chOff x="7624800" y="498240"/>
                  <a:chExt cx="502560" cy="415440"/>
                </a:xfrm>
              </p:grpSpPr>
              <p:sp>
                <p:nvSpPr>
                  <p:cNvPr id="3068" name=""/>
                  <p:cNvSpPr/>
                  <p:nvPr/>
                </p:nvSpPr>
                <p:spPr>
                  <a:xfrm>
                    <a:off x="7644600" y="51696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9" name=""/>
                  <p:cNvSpPr/>
                  <p:nvPr/>
                </p:nvSpPr>
                <p:spPr>
                  <a:xfrm>
                    <a:off x="7624800" y="4982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
                  <p:cNvSpPr/>
                  <p:nvPr/>
                </p:nvSpPr>
                <p:spPr>
                  <a:xfrm>
                    <a:off x="7624800" y="4982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1" name=""/>
                <p:cNvGrpSpPr/>
                <p:nvPr/>
              </p:nvGrpSpPr>
              <p:grpSpPr>
                <a:xfrm>
                  <a:off x="8088120" y="498240"/>
                  <a:ext cx="498240" cy="415440"/>
                  <a:chOff x="8088120" y="498240"/>
                  <a:chExt cx="498240" cy="415440"/>
                </a:xfrm>
              </p:grpSpPr>
              <p:sp>
                <p:nvSpPr>
                  <p:cNvPr id="3072" name=""/>
                  <p:cNvSpPr/>
                  <p:nvPr/>
                </p:nvSpPr>
                <p:spPr>
                  <a:xfrm>
                    <a:off x="8088120" y="51696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3" name=""/>
                  <p:cNvSpPr/>
                  <p:nvPr/>
                </p:nvSpPr>
                <p:spPr>
                  <a:xfrm>
                    <a:off x="8088120" y="49824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
                  <p:cNvSpPr/>
                  <p:nvPr/>
                </p:nvSpPr>
                <p:spPr>
                  <a:xfrm>
                    <a:off x="8088120" y="49824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5" name=""/>
                <p:cNvSpPr/>
                <p:nvPr/>
              </p:nvSpPr>
              <p:spPr>
                <a:xfrm>
                  <a:off x="8686800" y="60588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6" name=""/>
                <p:cNvSpPr/>
                <p:nvPr/>
              </p:nvSpPr>
              <p:spPr>
                <a:xfrm>
                  <a:off x="7165800" y="60588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77" name=""/>
            <p:cNvGrpSpPr/>
            <p:nvPr/>
          </p:nvGrpSpPr>
          <p:grpSpPr>
            <a:xfrm>
              <a:off x="5781600" y="307800"/>
              <a:ext cx="402120" cy="470160"/>
              <a:chOff x="5781600" y="307800"/>
              <a:chExt cx="402120" cy="470160"/>
            </a:xfrm>
          </p:grpSpPr>
          <p:grpSp>
            <p:nvGrpSpPr>
              <p:cNvPr id="3078" name=""/>
              <p:cNvGrpSpPr/>
              <p:nvPr/>
            </p:nvGrpSpPr>
            <p:grpSpPr>
              <a:xfrm>
                <a:off x="5781600" y="307800"/>
                <a:ext cx="247680" cy="325080"/>
                <a:chOff x="5781600" y="307800"/>
                <a:chExt cx="247680" cy="325080"/>
              </a:xfrm>
            </p:grpSpPr>
            <p:grpSp>
              <p:nvGrpSpPr>
                <p:cNvPr id="3079" name=""/>
                <p:cNvGrpSpPr/>
                <p:nvPr/>
              </p:nvGrpSpPr>
              <p:grpSpPr>
                <a:xfrm>
                  <a:off x="5781600" y="307800"/>
                  <a:ext cx="247680" cy="325080"/>
                  <a:chOff x="5781600" y="307800"/>
                  <a:chExt cx="247680" cy="325080"/>
                </a:xfrm>
              </p:grpSpPr>
              <p:sp>
                <p:nvSpPr>
                  <p:cNvPr id="3080" name=""/>
                  <p:cNvSpPr/>
                  <p:nvPr/>
                </p:nvSpPr>
                <p:spPr>
                  <a:xfrm>
                    <a:off x="5781600" y="307800"/>
                    <a:ext cx="247680" cy="325080"/>
                  </a:xfrm>
                  <a:custGeom>
                    <a:avLst/>
                    <a:gdLst/>
                    <a:ahLst/>
                    <a:rect l="l" t="t" r="r" b="b"/>
                    <a:pathLst>
                      <a:path w="113" h="157">
                        <a:moveTo>
                          <a:pt x="96" y="0"/>
                        </a:moveTo>
                        <a:lnTo>
                          <a:pt x="113" y="18"/>
                        </a:lnTo>
                        <a:lnTo>
                          <a:pt x="113" y="157"/>
                        </a:lnTo>
                        <a:lnTo>
                          <a:pt x="0" y="157"/>
                        </a:lnTo>
                        <a:lnTo>
                          <a:pt x="0" y="0"/>
                        </a:lnTo>
                        <a:lnTo>
                          <a:pt x="96"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
                  <p:cNvSpPr/>
                  <p:nvPr/>
                </p:nvSpPr>
                <p:spPr>
                  <a:xfrm>
                    <a:off x="5781600" y="307800"/>
                    <a:ext cx="247680" cy="325080"/>
                  </a:xfrm>
                  <a:custGeom>
                    <a:avLst/>
                    <a:gdLst/>
                    <a:ahLst/>
                    <a:rect l="l" t="t" r="r" b="b"/>
                    <a:pathLst>
                      <a:path w="113" h="157">
                        <a:moveTo>
                          <a:pt x="96" y="0"/>
                        </a:moveTo>
                        <a:lnTo>
                          <a:pt x="113" y="18"/>
                        </a:lnTo>
                        <a:lnTo>
                          <a:pt x="113" y="157"/>
                        </a:lnTo>
                        <a:lnTo>
                          <a:pt x="0" y="157"/>
                        </a:lnTo>
                        <a:lnTo>
                          <a:pt x="0" y="0"/>
                        </a:lnTo>
                        <a:lnTo>
                          <a:pt x="96"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2" name=""/>
                <p:cNvGrpSpPr/>
                <p:nvPr/>
              </p:nvGrpSpPr>
              <p:grpSpPr>
                <a:xfrm>
                  <a:off x="5992920" y="307800"/>
                  <a:ext cx="36360" cy="36720"/>
                  <a:chOff x="5992920" y="307800"/>
                  <a:chExt cx="36360" cy="36720"/>
                </a:xfrm>
              </p:grpSpPr>
              <p:sp>
                <p:nvSpPr>
                  <p:cNvPr id="3083" name=""/>
                  <p:cNvSpPr/>
                  <p:nvPr/>
                </p:nvSpPr>
                <p:spPr>
                  <a:xfrm>
                    <a:off x="5992920" y="307800"/>
                    <a:ext cx="36360" cy="36720"/>
                  </a:xfrm>
                  <a:custGeom>
                    <a:avLst/>
                    <a:gdLst/>
                    <a:ahLst/>
                    <a:rect l="l" t="t" r="r" b="b"/>
                    <a:pathLst>
                      <a:path w="17" h="18">
                        <a:moveTo>
                          <a:pt x="0" y="0"/>
                        </a:moveTo>
                        <a:lnTo>
                          <a:pt x="17" y="18"/>
                        </a:lnTo>
                        <a:lnTo>
                          <a:pt x="0" y="18"/>
                        </a:lnTo>
                        <a:lnTo>
                          <a:pt x="0" y="0"/>
                        </a:lnTo>
                        <a:close/>
                      </a:path>
                    </a:pathLst>
                  </a:custGeom>
                  <a:solidFill>
                    <a:srgbClr val="3399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84" name=""/>
                  <p:cNvSpPr/>
                  <p:nvPr/>
                </p:nvSpPr>
                <p:spPr>
                  <a:xfrm>
                    <a:off x="5992920" y="307800"/>
                    <a:ext cx="36360" cy="36720"/>
                  </a:xfrm>
                  <a:custGeom>
                    <a:avLst/>
                    <a:gdLst/>
                    <a:ahLst/>
                    <a:rect l="l" t="t" r="r" b="b"/>
                    <a:pathLst>
                      <a:path w="17" h="18">
                        <a:moveTo>
                          <a:pt x="0" y="0"/>
                        </a:moveTo>
                        <a:lnTo>
                          <a:pt x="17" y="18"/>
                        </a:lnTo>
                        <a:lnTo>
                          <a:pt x="0" y="18"/>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3085" name=""/>
              <p:cNvGrpSpPr/>
              <p:nvPr/>
            </p:nvGrpSpPr>
            <p:grpSpPr>
              <a:xfrm>
                <a:off x="5859000" y="380160"/>
                <a:ext cx="247680" cy="325080"/>
                <a:chOff x="5859000" y="380160"/>
                <a:chExt cx="247680" cy="325080"/>
              </a:xfrm>
            </p:grpSpPr>
            <p:grpSp>
              <p:nvGrpSpPr>
                <p:cNvPr id="3086" name=""/>
                <p:cNvGrpSpPr/>
                <p:nvPr/>
              </p:nvGrpSpPr>
              <p:grpSpPr>
                <a:xfrm>
                  <a:off x="5859000" y="380160"/>
                  <a:ext cx="247680" cy="325080"/>
                  <a:chOff x="5859000" y="380160"/>
                  <a:chExt cx="247680" cy="325080"/>
                </a:xfrm>
              </p:grpSpPr>
              <p:sp>
                <p:nvSpPr>
                  <p:cNvPr id="3087" name=""/>
                  <p:cNvSpPr/>
                  <p:nvPr/>
                </p:nvSpPr>
                <p:spPr>
                  <a:xfrm>
                    <a:off x="5859000" y="380160"/>
                    <a:ext cx="247680" cy="325080"/>
                  </a:xfrm>
                  <a:custGeom>
                    <a:avLst/>
                    <a:gdLst/>
                    <a:ahLst/>
                    <a:rect l="l" t="t" r="r" b="b"/>
                    <a:pathLst>
                      <a:path w="113" h="157">
                        <a:moveTo>
                          <a:pt x="96" y="0"/>
                        </a:moveTo>
                        <a:lnTo>
                          <a:pt x="113" y="17"/>
                        </a:lnTo>
                        <a:lnTo>
                          <a:pt x="113" y="157"/>
                        </a:lnTo>
                        <a:lnTo>
                          <a:pt x="0" y="157"/>
                        </a:lnTo>
                        <a:lnTo>
                          <a:pt x="0" y="0"/>
                        </a:lnTo>
                        <a:lnTo>
                          <a:pt x="96"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8" name=""/>
                  <p:cNvSpPr/>
                  <p:nvPr/>
                </p:nvSpPr>
                <p:spPr>
                  <a:xfrm>
                    <a:off x="5859000" y="380160"/>
                    <a:ext cx="247680" cy="325080"/>
                  </a:xfrm>
                  <a:custGeom>
                    <a:avLst/>
                    <a:gdLst/>
                    <a:ahLst/>
                    <a:rect l="l" t="t" r="r" b="b"/>
                    <a:pathLst>
                      <a:path w="113" h="157">
                        <a:moveTo>
                          <a:pt x="96" y="0"/>
                        </a:moveTo>
                        <a:lnTo>
                          <a:pt x="113" y="17"/>
                        </a:lnTo>
                        <a:lnTo>
                          <a:pt x="113" y="157"/>
                        </a:lnTo>
                        <a:lnTo>
                          <a:pt x="0" y="157"/>
                        </a:lnTo>
                        <a:lnTo>
                          <a:pt x="0" y="0"/>
                        </a:lnTo>
                        <a:lnTo>
                          <a:pt x="96"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9" name=""/>
                <p:cNvGrpSpPr/>
                <p:nvPr/>
              </p:nvGrpSpPr>
              <p:grpSpPr>
                <a:xfrm>
                  <a:off x="6069600" y="380160"/>
                  <a:ext cx="36720" cy="34920"/>
                  <a:chOff x="6069600" y="380160"/>
                  <a:chExt cx="36720" cy="34920"/>
                </a:xfrm>
              </p:grpSpPr>
              <p:sp>
                <p:nvSpPr>
                  <p:cNvPr id="3090" name=""/>
                  <p:cNvSpPr/>
                  <p:nvPr/>
                </p:nvSpPr>
                <p:spPr>
                  <a:xfrm>
                    <a:off x="6069600" y="380160"/>
                    <a:ext cx="36720" cy="34920"/>
                  </a:xfrm>
                  <a:custGeom>
                    <a:avLst/>
                    <a:gdLst/>
                    <a:ahLst/>
                    <a:rect l="l" t="t" r="r" b="b"/>
                    <a:pathLst>
                      <a:path w="17" h="17">
                        <a:moveTo>
                          <a:pt x="0" y="0"/>
                        </a:moveTo>
                        <a:lnTo>
                          <a:pt x="17" y="17"/>
                        </a:lnTo>
                        <a:lnTo>
                          <a:pt x="0" y="17"/>
                        </a:lnTo>
                        <a:lnTo>
                          <a:pt x="0" y="0"/>
                        </a:lnTo>
                        <a:close/>
                      </a:path>
                    </a:pathLst>
                  </a:custGeom>
                  <a:solidFill>
                    <a:srgbClr val="3399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91" name=""/>
                  <p:cNvSpPr/>
                  <p:nvPr/>
                </p:nvSpPr>
                <p:spPr>
                  <a:xfrm>
                    <a:off x="6069600" y="380160"/>
                    <a:ext cx="36720" cy="34920"/>
                  </a:xfrm>
                  <a:custGeom>
                    <a:avLst/>
                    <a:gdLst/>
                    <a:ahLst/>
                    <a:rect l="l" t="t" r="r" b="b"/>
                    <a:pathLst>
                      <a:path w="17" h="17">
                        <a:moveTo>
                          <a:pt x="0" y="0"/>
                        </a:moveTo>
                        <a:lnTo>
                          <a:pt x="17" y="17"/>
                        </a:lnTo>
                        <a:lnTo>
                          <a:pt x="0" y="17"/>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nvGrpSpPr>
              <p:cNvPr id="3092" name=""/>
              <p:cNvGrpSpPr/>
              <p:nvPr/>
            </p:nvGrpSpPr>
            <p:grpSpPr>
              <a:xfrm>
                <a:off x="5915880" y="452520"/>
                <a:ext cx="267840" cy="325440"/>
                <a:chOff x="5915880" y="452520"/>
                <a:chExt cx="267840" cy="325440"/>
              </a:xfrm>
            </p:grpSpPr>
            <p:grpSp>
              <p:nvGrpSpPr>
                <p:cNvPr id="3093" name=""/>
                <p:cNvGrpSpPr/>
                <p:nvPr/>
              </p:nvGrpSpPr>
              <p:grpSpPr>
                <a:xfrm>
                  <a:off x="5915880" y="452520"/>
                  <a:ext cx="267840" cy="325440"/>
                  <a:chOff x="5915880" y="452520"/>
                  <a:chExt cx="267840" cy="325440"/>
                </a:xfrm>
              </p:grpSpPr>
              <p:sp>
                <p:nvSpPr>
                  <p:cNvPr id="3094" name=""/>
                  <p:cNvSpPr/>
                  <p:nvPr/>
                </p:nvSpPr>
                <p:spPr>
                  <a:xfrm>
                    <a:off x="5915880" y="452520"/>
                    <a:ext cx="267840" cy="325440"/>
                  </a:xfrm>
                  <a:custGeom>
                    <a:avLst/>
                    <a:gdLst/>
                    <a:ahLst/>
                    <a:rect l="l" t="t" r="r" b="b"/>
                    <a:pathLst>
                      <a:path w="122" h="157">
                        <a:moveTo>
                          <a:pt x="105" y="0"/>
                        </a:moveTo>
                        <a:lnTo>
                          <a:pt x="122" y="17"/>
                        </a:lnTo>
                        <a:lnTo>
                          <a:pt x="122" y="157"/>
                        </a:lnTo>
                        <a:lnTo>
                          <a:pt x="0" y="157"/>
                        </a:lnTo>
                        <a:lnTo>
                          <a:pt x="0" y="0"/>
                        </a:lnTo>
                        <a:lnTo>
                          <a:pt x="105"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a:off x="5915880" y="452520"/>
                    <a:ext cx="267840" cy="325440"/>
                  </a:xfrm>
                  <a:custGeom>
                    <a:avLst/>
                    <a:gdLst/>
                    <a:ahLst/>
                    <a:rect l="l" t="t" r="r" b="b"/>
                    <a:pathLst>
                      <a:path w="122" h="157">
                        <a:moveTo>
                          <a:pt x="105" y="0"/>
                        </a:moveTo>
                        <a:lnTo>
                          <a:pt x="122" y="17"/>
                        </a:lnTo>
                        <a:lnTo>
                          <a:pt x="122" y="157"/>
                        </a:lnTo>
                        <a:lnTo>
                          <a:pt x="0" y="157"/>
                        </a:lnTo>
                        <a:lnTo>
                          <a:pt x="0" y="0"/>
                        </a:lnTo>
                        <a:lnTo>
                          <a:pt x="105"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6" name=""/>
                <p:cNvGrpSpPr/>
                <p:nvPr/>
              </p:nvGrpSpPr>
              <p:grpSpPr>
                <a:xfrm>
                  <a:off x="6146640" y="452520"/>
                  <a:ext cx="36720" cy="34920"/>
                  <a:chOff x="6146640" y="452520"/>
                  <a:chExt cx="36720" cy="34920"/>
                </a:xfrm>
              </p:grpSpPr>
              <p:sp>
                <p:nvSpPr>
                  <p:cNvPr id="3097" name=""/>
                  <p:cNvSpPr/>
                  <p:nvPr/>
                </p:nvSpPr>
                <p:spPr>
                  <a:xfrm>
                    <a:off x="6146640" y="452520"/>
                    <a:ext cx="36720" cy="34920"/>
                  </a:xfrm>
                  <a:custGeom>
                    <a:avLst/>
                    <a:gdLst/>
                    <a:ahLst/>
                    <a:rect l="l" t="t" r="r" b="b"/>
                    <a:pathLst>
                      <a:path w="17" h="17">
                        <a:moveTo>
                          <a:pt x="0" y="0"/>
                        </a:moveTo>
                        <a:lnTo>
                          <a:pt x="17" y="17"/>
                        </a:lnTo>
                        <a:lnTo>
                          <a:pt x="0" y="17"/>
                        </a:lnTo>
                        <a:lnTo>
                          <a:pt x="0" y="0"/>
                        </a:lnTo>
                        <a:close/>
                      </a:path>
                    </a:pathLst>
                  </a:custGeom>
                  <a:solidFill>
                    <a:srgbClr val="3399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98" name=""/>
                  <p:cNvSpPr/>
                  <p:nvPr/>
                </p:nvSpPr>
                <p:spPr>
                  <a:xfrm>
                    <a:off x="6146640" y="452520"/>
                    <a:ext cx="36720" cy="34920"/>
                  </a:xfrm>
                  <a:custGeom>
                    <a:avLst/>
                    <a:gdLst/>
                    <a:ahLst/>
                    <a:rect l="l" t="t" r="r" b="b"/>
                    <a:pathLst>
                      <a:path w="17" h="17">
                        <a:moveTo>
                          <a:pt x="0" y="0"/>
                        </a:moveTo>
                        <a:lnTo>
                          <a:pt x="17" y="17"/>
                        </a:lnTo>
                        <a:lnTo>
                          <a:pt x="0" y="17"/>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grpSp>
      <p:grpSp>
        <p:nvGrpSpPr>
          <p:cNvPr id="3099" name=""/>
          <p:cNvGrpSpPr/>
          <p:nvPr/>
        </p:nvGrpSpPr>
        <p:grpSpPr>
          <a:xfrm>
            <a:off x="4027320" y="58680"/>
            <a:ext cx="1335240" cy="796680"/>
            <a:chOff x="4027320" y="58680"/>
            <a:chExt cx="1335240" cy="796680"/>
          </a:xfrm>
        </p:grpSpPr>
        <p:sp>
          <p:nvSpPr>
            <p:cNvPr id="3100" name=""/>
            <p:cNvSpPr/>
            <p:nvPr/>
          </p:nvSpPr>
          <p:spPr>
            <a:xfrm>
              <a:off x="4587840" y="58680"/>
              <a:ext cx="774720" cy="796680"/>
            </a:xfrm>
            <a:prstGeom prst="foldedCorner">
              <a:avLst>
                <a:gd name="adj" fmla="val 125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01" name=""/>
            <p:cNvGrpSpPr/>
            <p:nvPr/>
          </p:nvGrpSpPr>
          <p:grpSpPr>
            <a:xfrm>
              <a:off x="4775040" y="222120"/>
              <a:ext cx="468360" cy="473040"/>
              <a:chOff x="4775040" y="222120"/>
              <a:chExt cx="468360" cy="473040"/>
            </a:xfrm>
          </p:grpSpPr>
          <p:grpSp>
            <p:nvGrpSpPr>
              <p:cNvPr id="3102" name=""/>
              <p:cNvGrpSpPr/>
              <p:nvPr/>
            </p:nvGrpSpPr>
            <p:grpSpPr>
              <a:xfrm>
                <a:off x="4791240" y="302400"/>
                <a:ext cx="48960" cy="312480"/>
                <a:chOff x="4791240" y="302400"/>
                <a:chExt cx="48960" cy="312480"/>
              </a:xfrm>
            </p:grpSpPr>
            <p:sp>
              <p:nvSpPr>
                <p:cNvPr id="3103" name=""/>
                <p:cNvSpPr/>
                <p:nvPr/>
              </p:nvSpPr>
              <p:spPr>
                <a:xfrm>
                  <a:off x="4807440" y="302400"/>
                  <a:ext cx="16200" cy="26640"/>
                </a:xfrm>
                <a:prstGeom prst="ellipse">
                  <a:avLst/>
                </a:prstGeom>
                <a:solidFill>
                  <a:srgbClr val="99cc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04" name=""/>
                <p:cNvSpPr/>
                <p:nvPr/>
              </p:nvSpPr>
              <p:spPr>
                <a:xfrm>
                  <a:off x="4807440" y="37152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05" name=""/>
                <p:cNvSpPr/>
                <p:nvPr/>
              </p:nvSpPr>
              <p:spPr>
                <a:xfrm>
                  <a:off x="4824000" y="44532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06" name=""/>
                <p:cNvSpPr/>
                <p:nvPr/>
              </p:nvSpPr>
              <p:spPr>
                <a:xfrm>
                  <a:off x="4824000" y="516600"/>
                  <a:ext cx="16200" cy="26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07" name=""/>
                <p:cNvSpPr/>
                <p:nvPr/>
              </p:nvSpPr>
              <p:spPr>
                <a:xfrm>
                  <a:off x="4791240" y="462960"/>
                  <a:ext cx="16200" cy="266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08" name=""/>
                <p:cNvSpPr/>
                <p:nvPr/>
              </p:nvSpPr>
              <p:spPr>
                <a:xfrm>
                  <a:off x="4807440" y="588240"/>
                  <a:ext cx="16200" cy="2664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109" name=""/>
              <p:cNvGrpSpPr/>
              <p:nvPr/>
            </p:nvGrpSpPr>
            <p:grpSpPr>
              <a:xfrm>
                <a:off x="4857480" y="373680"/>
                <a:ext cx="55080" cy="214200"/>
                <a:chOff x="4857480" y="373680"/>
                <a:chExt cx="55080" cy="214200"/>
              </a:xfrm>
            </p:grpSpPr>
            <p:sp>
              <p:nvSpPr>
                <p:cNvPr id="3110" name=""/>
                <p:cNvSpPr/>
                <p:nvPr/>
              </p:nvSpPr>
              <p:spPr>
                <a:xfrm>
                  <a:off x="4857480" y="373680"/>
                  <a:ext cx="16560" cy="2664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11" name=""/>
                <p:cNvSpPr/>
                <p:nvPr/>
              </p:nvSpPr>
              <p:spPr>
                <a:xfrm>
                  <a:off x="4896000" y="400320"/>
                  <a:ext cx="16560" cy="26640"/>
                </a:xfrm>
                <a:prstGeom prst="ellipse">
                  <a:avLst/>
                </a:prstGeom>
                <a:solidFill>
                  <a:srgbClr val="0099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12" name=""/>
                <p:cNvSpPr/>
                <p:nvPr/>
              </p:nvSpPr>
              <p:spPr>
                <a:xfrm>
                  <a:off x="4857480" y="426960"/>
                  <a:ext cx="16560" cy="26640"/>
                </a:xfrm>
                <a:prstGeom prst="ellipse">
                  <a:avLst/>
                </a:prstGeom>
                <a:solidFill>
                  <a:srgbClr val="e0fa8e"/>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13" name=""/>
                <p:cNvSpPr/>
                <p:nvPr/>
              </p:nvSpPr>
              <p:spPr>
                <a:xfrm>
                  <a:off x="4896000" y="471960"/>
                  <a:ext cx="16560" cy="26640"/>
                </a:xfrm>
                <a:prstGeom prst="ellipse">
                  <a:avLst/>
                </a:prstGeom>
                <a:solidFill>
                  <a:srgbClr val="00cc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14" name=""/>
                <p:cNvSpPr/>
                <p:nvPr/>
              </p:nvSpPr>
              <p:spPr>
                <a:xfrm>
                  <a:off x="4857480" y="489600"/>
                  <a:ext cx="16560" cy="26640"/>
                </a:xfrm>
                <a:prstGeom prst="ellipse">
                  <a:avLst/>
                </a:prstGeom>
                <a:solidFill>
                  <a:srgbClr val="ffcc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15" name=""/>
                <p:cNvSpPr/>
                <p:nvPr/>
              </p:nvSpPr>
              <p:spPr>
                <a:xfrm>
                  <a:off x="4857480" y="56124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16" name=""/>
                <p:cNvSpPr/>
                <p:nvPr/>
              </p:nvSpPr>
              <p:spPr>
                <a:xfrm>
                  <a:off x="4896000" y="534240"/>
                  <a:ext cx="16560" cy="26640"/>
                </a:xfrm>
                <a:prstGeom prst="ellipse">
                  <a:avLst/>
                </a:prstGeom>
                <a:solidFill>
                  <a:srgbClr val="ffb16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117" name=""/>
              <p:cNvGrpSpPr/>
              <p:nvPr/>
            </p:nvGrpSpPr>
            <p:grpSpPr>
              <a:xfrm>
                <a:off x="4933800" y="418320"/>
                <a:ext cx="78120" cy="115920"/>
                <a:chOff x="4933800" y="418320"/>
                <a:chExt cx="78120" cy="115920"/>
              </a:xfrm>
            </p:grpSpPr>
            <p:sp>
              <p:nvSpPr>
                <p:cNvPr id="3118" name=""/>
                <p:cNvSpPr/>
                <p:nvPr/>
              </p:nvSpPr>
              <p:spPr>
                <a:xfrm>
                  <a:off x="4969800" y="41832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19" name=""/>
                <p:cNvSpPr/>
                <p:nvPr/>
              </p:nvSpPr>
              <p:spPr>
                <a:xfrm>
                  <a:off x="4933800" y="444960"/>
                  <a:ext cx="16560" cy="26640"/>
                </a:xfrm>
                <a:prstGeom prst="ellipse">
                  <a:avLst/>
                </a:prstGeom>
                <a:solidFill>
                  <a:srgbClr val="339966"/>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20" name=""/>
                <p:cNvSpPr/>
                <p:nvPr/>
              </p:nvSpPr>
              <p:spPr>
                <a:xfrm>
                  <a:off x="4995360" y="48960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21" name=""/>
                <p:cNvSpPr/>
                <p:nvPr/>
              </p:nvSpPr>
              <p:spPr>
                <a:xfrm>
                  <a:off x="4938840" y="50760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22" name=""/>
                <p:cNvSpPr/>
                <p:nvPr/>
              </p:nvSpPr>
              <p:spPr>
                <a:xfrm>
                  <a:off x="4995360" y="489600"/>
                  <a:ext cx="16560" cy="26640"/>
                </a:xfrm>
                <a:prstGeom prst="ellipse">
                  <a:avLst/>
                </a:prstGeom>
                <a:solidFill>
                  <a:srgbClr val="ffff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123" name=""/>
              <p:cNvGrpSpPr/>
              <p:nvPr/>
            </p:nvGrpSpPr>
            <p:grpSpPr>
              <a:xfrm>
                <a:off x="5116680" y="445320"/>
                <a:ext cx="98640" cy="59040"/>
                <a:chOff x="5116680" y="445320"/>
                <a:chExt cx="98640" cy="59040"/>
              </a:xfrm>
            </p:grpSpPr>
            <p:sp>
              <p:nvSpPr>
                <p:cNvPr id="3124" name=""/>
                <p:cNvSpPr/>
                <p:nvPr/>
              </p:nvSpPr>
              <p:spPr>
                <a:xfrm>
                  <a:off x="5116680" y="445320"/>
                  <a:ext cx="16200" cy="266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25" name=""/>
                <p:cNvSpPr/>
                <p:nvPr/>
              </p:nvSpPr>
              <p:spPr>
                <a:xfrm>
                  <a:off x="5199120" y="445320"/>
                  <a:ext cx="16200" cy="26640"/>
                </a:xfrm>
                <a:prstGeom prst="ellipse">
                  <a:avLst/>
                </a:prstGeom>
                <a:solidFill>
                  <a:srgbClr val="ffff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26" name=""/>
                <p:cNvSpPr/>
                <p:nvPr/>
              </p:nvSpPr>
              <p:spPr>
                <a:xfrm>
                  <a:off x="5178600" y="477720"/>
                  <a:ext cx="16200" cy="2664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27" name=""/>
                <p:cNvSpPr/>
                <p:nvPr/>
              </p:nvSpPr>
              <p:spPr>
                <a:xfrm>
                  <a:off x="5149440" y="445320"/>
                  <a:ext cx="16200" cy="26640"/>
                </a:xfrm>
                <a:prstGeom prst="ellipse">
                  <a:avLst/>
                </a:prstGeom>
                <a:solidFill>
                  <a:srgbClr val="ffcc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128" name=""/>
              <p:cNvGrpSpPr/>
              <p:nvPr/>
            </p:nvGrpSpPr>
            <p:grpSpPr>
              <a:xfrm>
                <a:off x="5028480" y="427320"/>
                <a:ext cx="71640" cy="71280"/>
                <a:chOff x="5028480" y="427320"/>
                <a:chExt cx="71640" cy="71280"/>
              </a:xfrm>
            </p:grpSpPr>
            <p:sp>
              <p:nvSpPr>
                <p:cNvPr id="3129" name=""/>
                <p:cNvSpPr/>
                <p:nvPr/>
              </p:nvSpPr>
              <p:spPr>
                <a:xfrm>
                  <a:off x="5055840" y="444960"/>
                  <a:ext cx="16560" cy="2664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30" name=""/>
                <p:cNvSpPr/>
                <p:nvPr/>
              </p:nvSpPr>
              <p:spPr>
                <a:xfrm>
                  <a:off x="5083560" y="47196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131" name=""/>
                <p:cNvSpPr/>
                <p:nvPr/>
              </p:nvSpPr>
              <p:spPr>
                <a:xfrm>
                  <a:off x="5028480" y="427320"/>
                  <a:ext cx="16560" cy="2664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132" name=""/>
              <p:cNvSpPr/>
              <p:nvPr/>
            </p:nvSpPr>
            <p:spPr>
              <a:xfrm>
                <a:off x="4818960" y="222120"/>
                <a:ext cx="424440" cy="178560"/>
              </a:xfrm>
              <a:custGeom>
                <a:avLst/>
                <a:gdLst/>
                <a:ahLst/>
                <a:rect l="l" t="t" r="r" b="b"/>
                <a:pathLst>
                  <a:path w="4560" h="1056">
                    <a:moveTo>
                      <a:pt x="0" y="0"/>
                    </a:moveTo>
                    <a:cubicBezTo>
                      <a:pt x="72" y="184"/>
                      <a:pt x="144" y="368"/>
                      <a:pt x="480" y="528"/>
                    </a:cubicBezTo>
                    <a:cubicBezTo>
                      <a:pt x="816" y="688"/>
                      <a:pt x="1336" y="872"/>
                      <a:pt x="2016" y="960"/>
                    </a:cubicBezTo>
                    <a:cubicBezTo>
                      <a:pt x="2696" y="1048"/>
                      <a:pt x="4120" y="1040"/>
                      <a:pt x="4560" y="105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33" name=""/>
              <p:cNvSpPr/>
              <p:nvPr/>
            </p:nvSpPr>
            <p:spPr>
              <a:xfrm flipV="1">
                <a:off x="4818960" y="534600"/>
                <a:ext cx="424440" cy="160560"/>
              </a:xfrm>
              <a:custGeom>
                <a:avLst/>
                <a:gdLst/>
                <a:ahLst/>
                <a:rect l="l" t="t" r="r" b="b"/>
                <a:pathLst>
                  <a:path w="4560" h="1056">
                    <a:moveTo>
                      <a:pt x="0" y="0"/>
                    </a:moveTo>
                    <a:cubicBezTo>
                      <a:pt x="72" y="184"/>
                      <a:pt x="144" y="368"/>
                      <a:pt x="480" y="528"/>
                    </a:cubicBezTo>
                    <a:cubicBezTo>
                      <a:pt x="816" y="688"/>
                      <a:pt x="1336" y="872"/>
                      <a:pt x="2016" y="960"/>
                    </a:cubicBezTo>
                    <a:cubicBezTo>
                      <a:pt x="2696" y="1048"/>
                      <a:pt x="4120" y="1040"/>
                      <a:pt x="4560" y="105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34" name=""/>
              <p:cNvSpPr/>
              <p:nvPr/>
            </p:nvSpPr>
            <p:spPr>
              <a:xfrm>
                <a:off x="4775040" y="407880"/>
                <a:ext cx="459360" cy="117720"/>
              </a:xfrm>
              <a:prstGeom prst="rightArrow">
                <a:avLst>
                  <a:gd name="adj1" fmla="val 73500"/>
                  <a:gd name="adj2" fmla="val 58026"/>
                </a:avLst>
              </a:prstGeom>
              <a:solidFill>
                <a:srgbClr val="6767cd"/>
              </a:solidFill>
              <a:ln w="12600">
                <a:solidFill>
                  <a:srgbClr val="ffffff"/>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5" name=""/>
            <p:cNvSpPr/>
            <p:nvPr/>
          </p:nvSpPr>
          <p:spPr>
            <a:xfrm>
              <a:off x="4027320" y="398160"/>
              <a:ext cx="546120" cy="298440"/>
            </a:xfrm>
            <a:prstGeom prst="rightArrow">
              <a:avLst>
                <a:gd name="adj1" fmla="val 50000"/>
                <a:gd name="adj2" fmla="val 4574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36" name=""/>
          <p:cNvSpPr/>
          <p:nvPr/>
        </p:nvSpPr>
        <p:spPr>
          <a:xfrm>
            <a:off x="2386080" y="311040"/>
            <a:ext cx="817560" cy="3289320"/>
          </a:xfrm>
          <a:custGeom>
            <a:avLst/>
            <a:gdLst/>
            <a:ahLst/>
            <a:rect l="l" t="t" r="r" b="b"/>
            <a:pathLst>
              <a:path w="680" h="2103">
                <a:moveTo>
                  <a:pt x="680" y="0"/>
                </a:moveTo>
                <a:lnTo>
                  <a:pt x="680" y="2103"/>
                </a:lnTo>
                <a:lnTo>
                  <a:pt x="0" y="1065"/>
                </a:lnTo>
                <a:lnTo>
                  <a:pt x="680" y="0"/>
                </a:lnTo>
                <a:close/>
              </a:path>
            </a:pathLst>
          </a:custGeom>
          <a:gradFill rotWithShape="0">
            <a:gsLst>
              <a:gs pos="0">
                <a:srgbClr val="fefefe"/>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7" name=""/>
          <p:cNvSpPr/>
          <p:nvPr/>
        </p:nvSpPr>
        <p:spPr>
          <a:xfrm>
            <a:off x="5283360" y="272880"/>
            <a:ext cx="465120" cy="382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8" name=""/>
          <p:cNvSpPr/>
          <p:nvPr/>
        </p:nvSpPr>
        <p:spPr>
          <a:xfrm>
            <a:off x="3346560" y="347760"/>
            <a:ext cx="574560" cy="55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9" name=""/>
          <p:cNvSpPr/>
          <p:nvPr/>
        </p:nvSpPr>
        <p:spPr>
          <a:xfrm>
            <a:off x="3359160" y="1120680"/>
            <a:ext cx="576360" cy="84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0" name=""/>
          <p:cNvSpPr/>
          <p:nvPr/>
        </p:nvSpPr>
        <p:spPr>
          <a:xfrm>
            <a:off x="3317760" y="1924200"/>
            <a:ext cx="716040" cy="18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1" name=""/>
          <p:cNvSpPr/>
          <p:nvPr/>
        </p:nvSpPr>
        <p:spPr>
          <a:xfrm>
            <a:off x="3330720" y="2120760"/>
            <a:ext cx="576000" cy="56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2" name=""/>
          <p:cNvGrpSpPr/>
          <p:nvPr/>
        </p:nvGrpSpPr>
        <p:grpSpPr>
          <a:xfrm>
            <a:off x="1504800" y="1352520"/>
            <a:ext cx="1301400" cy="1149120"/>
            <a:chOff x="1504800" y="1352520"/>
            <a:chExt cx="1301400" cy="1149120"/>
          </a:xfrm>
        </p:grpSpPr>
        <p:sp>
          <p:nvSpPr>
            <p:cNvPr id="3143" name=""/>
            <p:cNvSpPr/>
            <p:nvPr/>
          </p:nvSpPr>
          <p:spPr>
            <a:xfrm>
              <a:off x="2077200" y="1429560"/>
              <a:ext cx="572400" cy="646200"/>
            </a:xfrm>
            <a:custGeom>
              <a:avLst/>
              <a:gdLst/>
              <a:ahLst/>
              <a:rect l="l" t="t" r="r" b="b"/>
              <a:pathLst>
                <a:path w="253" h="305">
                  <a:moveTo>
                    <a:pt x="0" y="61"/>
                  </a:moveTo>
                  <a:lnTo>
                    <a:pt x="0" y="0"/>
                  </a:lnTo>
                  <a:lnTo>
                    <a:pt x="253" y="0"/>
                  </a:lnTo>
                  <a:lnTo>
                    <a:pt x="253" y="244"/>
                  </a:lnTo>
                  <a:lnTo>
                    <a:pt x="235" y="244"/>
                  </a:lnTo>
                  <a:lnTo>
                    <a:pt x="235" y="253"/>
                  </a:lnTo>
                  <a:lnTo>
                    <a:pt x="235" y="253"/>
                  </a:lnTo>
                  <a:lnTo>
                    <a:pt x="235" y="253"/>
                  </a:lnTo>
                  <a:lnTo>
                    <a:pt x="235" y="262"/>
                  </a:lnTo>
                  <a:lnTo>
                    <a:pt x="235" y="262"/>
                  </a:lnTo>
                  <a:lnTo>
                    <a:pt x="235" y="270"/>
                  </a:lnTo>
                  <a:lnTo>
                    <a:pt x="235" y="270"/>
                  </a:lnTo>
                  <a:lnTo>
                    <a:pt x="235" y="270"/>
                  </a:lnTo>
                  <a:lnTo>
                    <a:pt x="235" y="279"/>
                  </a:lnTo>
                  <a:lnTo>
                    <a:pt x="235" y="279"/>
                  </a:lnTo>
                  <a:lnTo>
                    <a:pt x="235" y="288"/>
                  </a:lnTo>
                  <a:lnTo>
                    <a:pt x="235" y="288"/>
                  </a:lnTo>
                  <a:lnTo>
                    <a:pt x="235" y="296"/>
                  </a:lnTo>
                  <a:lnTo>
                    <a:pt x="235" y="296"/>
                  </a:lnTo>
                  <a:lnTo>
                    <a:pt x="227" y="296"/>
                  </a:lnTo>
                  <a:lnTo>
                    <a:pt x="227" y="305"/>
                  </a:lnTo>
                  <a:lnTo>
                    <a:pt x="227" y="305"/>
                  </a:lnTo>
                  <a:lnTo>
                    <a:pt x="227" y="305"/>
                  </a:lnTo>
                  <a:lnTo>
                    <a:pt x="218" y="305"/>
                  </a:lnTo>
                  <a:lnTo>
                    <a:pt x="218" y="305"/>
                  </a:lnTo>
                  <a:lnTo>
                    <a:pt x="209" y="305"/>
                  </a:lnTo>
                  <a:lnTo>
                    <a:pt x="209" y="305"/>
                  </a:lnTo>
                  <a:lnTo>
                    <a:pt x="209" y="305"/>
                  </a:lnTo>
                  <a:lnTo>
                    <a:pt x="201" y="305"/>
                  </a:lnTo>
                  <a:lnTo>
                    <a:pt x="201" y="305"/>
                  </a:lnTo>
                  <a:lnTo>
                    <a:pt x="201" y="305"/>
                  </a:lnTo>
                  <a:lnTo>
                    <a:pt x="192" y="305"/>
                  </a:lnTo>
                  <a:lnTo>
                    <a:pt x="192" y="305"/>
                  </a:lnTo>
                  <a:lnTo>
                    <a:pt x="192" y="305"/>
                  </a:lnTo>
                  <a:lnTo>
                    <a:pt x="192" y="296"/>
                  </a:lnTo>
                  <a:lnTo>
                    <a:pt x="183" y="296"/>
                  </a:lnTo>
                  <a:lnTo>
                    <a:pt x="183" y="296"/>
                  </a:lnTo>
                  <a:lnTo>
                    <a:pt x="183" y="288"/>
                  </a:lnTo>
                  <a:lnTo>
                    <a:pt x="183" y="288"/>
                  </a:lnTo>
                  <a:lnTo>
                    <a:pt x="183" y="279"/>
                  </a:lnTo>
                  <a:lnTo>
                    <a:pt x="183" y="279"/>
                  </a:lnTo>
                  <a:lnTo>
                    <a:pt x="183" y="270"/>
                  </a:lnTo>
                  <a:lnTo>
                    <a:pt x="183" y="270"/>
                  </a:lnTo>
                  <a:lnTo>
                    <a:pt x="183" y="262"/>
                  </a:lnTo>
                  <a:lnTo>
                    <a:pt x="183" y="262"/>
                  </a:lnTo>
                  <a:lnTo>
                    <a:pt x="183" y="253"/>
                  </a:lnTo>
                  <a:lnTo>
                    <a:pt x="183" y="253"/>
                  </a:lnTo>
                  <a:lnTo>
                    <a:pt x="183" y="253"/>
                  </a:lnTo>
                  <a:lnTo>
                    <a:pt x="183" y="244"/>
                  </a:lnTo>
                  <a:lnTo>
                    <a:pt x="139" y="244"/>
                  </a:lnTo>
                  <a:lnTo>
                    <a:pt x="139" y="235"/>
                  </a:lnTo>
                  <a:lnTo>
                    <a:pt x="139" y="235"/>
                  </a:lnTo>
                  <a:lnTo>
                    <a:pt x="139" y="227"/>
                  </a:lnTo>
                  <a:lnTo>
                    <a:pt x="139" y="227"/>
                  </a:lnTo>
                  <a:lnTo>
                    <a:pt x="139" y="218"/>
                  </a:lnTo>
                  <a:lnTo>
                    <a:pt x="139" y="218"/>
                  </a:lnTo>
                  <a:lnTo>
                    <a:pt x="139" y="218"/>
                  </a:lnTo>
                  <a:lnTo>
                    <a:pt x="139" y="209"/>
                  </a:lnTo>
                  <a:lnTo>
                    <a:pt x="131" y="209"/>
                  </a:lnTo>
                  <a:lnTo>
                    <a:pt x="131" y="209"/>
                  </a:lnTo>
                  <a:lnTo>
                    <a:pt x="131" y="209"/>
                  </a:lnTo>
                  <a:lnTo>
                    <a:pt x="122" y="209"/>
                  </a:lnTo>
                  <a:lnTo>
                    <a:pt x="122" y="209"/>
                  </a:lnTo>
                  <a:lnTo>
                    <a:pt x="113" y="209"/>
                  </a:lnTo>
                  <a:lnTo>
                    <a:pt x="113" y="209"/>
                  </a:lnTo>
                  <a:lnTo>
                    <a:pt x="105" y="209"/>
                  </a:lnTo>
                  <a:lnTo>
                    <a:pt x="105" y="209"/>
                  </a:lnTo>
                  <a:lnTo>
                    <a:pt x="96" y="209"/>
                  </a:lnTo>
                  <a:lnTo>
                    <a:pt x="96" y="209"/>
                  </a:lnTo>
                  <a:lnTo>
                    <a:pt x="87" y="209"/>
                  </a:lnTo>
                  <a:lnTo>
                    <a:pt x="87" y="209"/>
                  </a:lnTo>
                  <a:lnTo>
                    <a:pt x="87" y="201"/>
                  </a:lnTo>
                  <a:lnTo>
                    <a:pt x="87" y="201"/>
                  </a:lnTo>
                  <a:lnTo>
                    <a:pt x="78" y="201"/>
                  </a:lnTo>
                  <a:lnTo>
                    <a:pt x="78" y="192"/>
                  </a:lnTo>
                  <a:lnTo>
                    <a:pt x="78" y="192"/>
                  </a:lnTo>
                  <a:lnTo>
                    <a:pt x="78" y="183"/>
                  </a:lnTo>
                  <a:lnTo>
                    <a:pt x="78" y="183"/>
                  </a:lnTo>
                  <a:lnTo>
                    <a:pt x="78" y="174"/>
                  </a:lnTo>
                  <a:lnTo>
                    <a:pt x="78" y="174"/>
                  </a:lnTo>
                  <a:lnTo>
                    <a:pt x="78" y="166"/>
                  </a:lnTo>
                  <a:lnTo>
                    <a:pt x="78" y="166"/>
                  </a:lnTo>
                  <a:lnTo>
                    <a:pt x="78" y="166"/>
                  </a:lnTo>
                  <a:lnTo>
                    <a:pt x="78" y="166"/>
                  </a:lnTo>
                  <a:lnTo>
                    <a:pt x="70" y="157"/>
                  </a:lnTo>
                  <a:lnTo>
                    <a:pt x="70" y="157"/>
                  </a:lnTo>
                  <a:lnTo>
                    <a:pt x="61" y="157"/>
                  </a:lnTo>
                  <a:lnTo>
                    <a:pt x="61" y="157"/>
                  </a:lnTo>
                  <a:lnTo>
                    <a:pt x="52" y="157"/>
                  </a:lnTo>
                  <a:lnTo>
                    <a:pt x="52" y="157"/>
                  </a:lnTo>
                  <a:lnTo>
                    <a:pt x="44" y="148"/>
                  </a:lnTo>
                  <a:lnTo>
                    <a:pt x="44" y="148"/>
                  </a:lnTo>
                  <a:lnTo>
                    <a:pt x="44" y="148"/>
                  </a:lnTo>
                  <a:lnTo>
                    <a:pt x="35" y="148"/>
                  </a:lnTo>
                  <a:lnTo>
                    <a:pt x="35" y="139"/>
                  </a:lnTo>
                  <a:lnTo>
                    <a:pt x="35" y="139"/>
                  </a:lnTo>
                  <a:lnTo>
                    <a:pt x="35" y="139"/>
                  </a:lnTo>
                  <a:lnTo>
                    <a:pt x="26" y="131"/>
                  </a:lnTo>
                  <a:lnTo>
                    <a:pt x="26" y="131"/>
                  </a:lnTo>
                  <a:lnTo>
                    <a:pt x="26" y="122"/>
                  </a:lnTo>
                  <a:lnTo>
                    <a:pt x="35" y="122"/>
                  </a:lnTo>
                  <a:lnTo>
                    <a:pt x="35" y="113"/>
                  </a:lnTo>
                  <a:lnTo>
                    <a:pt x="35" y="113"/>
                  </a:lnTo>
                  <a:lnTo>
                    <a:pt x="35" y="105"/>
                  </a:lnTo>
                  <a:lnTo>
                    <a:pt x="35" y="105"/>
                  </a:lnTo>
                  <a:lnTo>
                    <a:pt x="35" y="96"/>
                  </a:lnTo>
                  <a:lnTo>
                    <a:pt x="35" y="96"/>
                  </a:lnTo>
                  <a:lnTo>
                    <a:pt x="35" y="87"/>
                  </a:lnTo>
                  <a:lnTo>
                    <a:pt x="35" y="87"/>
                  </a:lnTo>
                  <a:lnTo>
                    <a:pt x="26" y="78"/>
                  </a:lnTo>
                  <a:lnTo>
                    <a:pt x="26" y="78"/>
                  </a:lnTo>
                  <a:lnTo>
                    <a:pt x="26" y="78"/>
                  </a:lnTo>
                  <a:lnTo>
                    <a:pt x="26" y="70"/>
                  </a:lnTo>
                  <a:lnTo>
                    <a:pt x="26" y="70"/>
                  </a:lnTo>
                  <a:lnTo>
                    <a:pt x="17" y="70"/>
                  </a:lnTo>
                  <a:lnTo>
                    <a:pt x="17" y="70"/>
                  </a:lnTo>
                  <a:lnTo>
                    <a:pt x="17" y="70"/>
                  </a:lnTo>
                  <a:lnTo>
                    <a:pt x="9" y="61"/>
                  </a:lnTo>
                  <a:lnTo>
                    <a:pt x="9" y="61"/>
                  </a:lnTo>
                  <a:lnTo>
                    <a:pt x="9" y="61"/>
                  </a:lnTo>
                  <a:lnTo>
                    <a:pt x="0" y="61"/>
                  </a:lnTo>
                  <a:close/>
                </a:path>
              </a:pathLst>
            </a:custGeom>
            <a:solidFill>
              <a:srgbClr val="ff00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
            <p:cNvSpPr/>
            <p:nvPr/>
          </p:nvSpPr>
          <p:spPr>
            <a:xfrm>
              <a:off x="1504800" y="1836000"/>
              <a:ext cx="572400" cy="665640"/>
            </a:xfrm>
            <a:custGeom>
              <a:avLst/>
              <a:gdLst/>
              <a:ahLst/>
              <a:rect l="l" t="t" r="r" b="b"/>
              <a:pathLst>
                <a:path w="253" h="314">
                  <a:moveTo>
                    <a:pt x="253" y="261"/>
                  </a:moveTo>
                  <a:lnTo>
                    <a:pt x="253" y="314"/>
                  </a:lnTo>
                  <a:lnTo>
                    <a:pt x="0" y="314"/>
                  </a:lnTo>
                  <a:lnTo>
                    <a:pt x="0" y="70"/>
                  </a:lnTo>
                  <a:lnTo>
                    <a:pt x="26" y="70"/>
                  </a:lnTo>
                  <a:lnTo>
                    <a:pt x="26" y="61"/>
                  </a:lnTo>
                  <a:lnTo>
                    <a:pt x="26" y="61"/>
                  </a:lnTo>
                  <a:lnTo>
                    <a:pt x="26" y="61"/>
                  </a:lnTo>
                  <a:lnTo>
                    <a:pt x="26" y="52"/>
                  </a:lnTo>
                  <a:lnTo>
                    <a:pt x="26" y="52"/>
                  </a:lnTo>
                  <a:lnTo>
                    <a:pt x="17" y="43"/>
                  </a:lnTo>
                  <a:lnTo>
                    <a:pt x="17" y="43"/>
                  </a:lnTo>
                  <a:lnTo>
                    <a:pt x="17" y="43"/>
                  </a:lnTo>
                  <a:lnTo>
                    <a:pt x="17" y="35"/>
                  </a:lnTo>
                  <a:lnTo>
                    <a:pt x="17" y="35"/>
                  </a:lnTo>
                  <a:lnTo>
                    <a:pt x="17" y="26"/>
                  </a:lnTo>
                  <a:lnTo>
                    <a:pt x="17" y="26"/>
                  </a:lnTo>
                  <a:lnTo>
                    <a:pt x="26" y="17"/>
                  </a:lnTo>
                  <a:lnTo>
                    <a:pt x="26" y="17"/>
                  </a:lnTo>
                  <a:lnTo>
                    <a:pt x="26" y="17"/>
                  </a:lnTo>
                  <a:lnTo>
                    <a:pt x="26" y="9"/>
                  </a:lnTo>
                  <a:lnTo>
                    <a:pt x="35" y="9"/>
                  </a:lnTo>
                  <a:lnTo>
                    <a:pt x="35" y="9"/>
                  </a:lnTo>
                  <a:lnTo>
                    <a:pt x="35" y="9"/>
                  </a:lnTo>
                  <a:lnTo>
                    <a:pt x="44" y="9"/>
                  </a:lnTo>
                  <a:lnTo>
                    <a:pt x="44" y="9"/>
                  </a:lnTo>
                  <a:lnTo>
                    <a:pt x="44" y="0"/>
                  </a:lnTo>
                  <a:lnTo>
                    <a:pt x="52" y="0"/>
                  </a:lnTo>
                  <a:lnTo>
                    <a:pt x="52" y="9"/>
                  </a:lnTo>
                  <a:lnTo>
                    <a:pt x="52" y="9"/>
                  </a:lnTo>
                  <a:lnTo>
                    <a:pt x="61" y="9"/>
                  </a:lnTo>
                  <a:lnTo>
                    <a:pt x="61" y="9"/>
                  </a:lnTo>
                  <a:lnTo>
                    <a:pt x="61" y="9"/>
                  </a:lnTo>
                  <a:lnTo>
                    <a:pt x="70" y="9"/>
                  </a:lnTo>
                  <a:lnTo>
                    <a:pt x="70" y="17"/>
                  </a:lnTo>
                  <a:lnTo>
                    <a:pt x="70" y="17"/>
                  </a:lnTo>
                  <a:lnTo>
                    <a:pt x="70" y="17"/>
                  </a:lnTo>
                  <a:lnTo>
                    <a:pt x="70" y="26"/>
                  </a:lnTo>
                  <a:lnTo>
                    <a:pt x="78" y="26"/>
                  </a:lnTo>
                  <a:lnTo>
                    <a:pt x="78" y="35"/>
                  </a:lnTo>
                  <a:lnTo>
                    <a:pt x="78" y="35"/>
                  </a:lnTo>
                  <a:lnTo>
                    <a:pt x="78" y="43"/>
                  </a:lnTo>
                  <a:lnTo>
                    <a:pt x="70" y="43"/>
                  </a:lnTo>
                  <a:lnTo>
                    <a:pt x="70" y="52"/>
                  </a:lnTo>
                  <a:lnTo>
                    <a:pt x="70" y="52"/>
                  </a:lnTo>
                  <a:lnTo>
                    <a:pt x="70" y="61"/>
                  </a:lnTo>
                  <a:lnTo>
                    <a:pt x="70" y="61"/>
                  </a:lnTo>
                  <a:lnTo>
                    <a:pt x="70" y="61"/>
                  </a:lnTo>
                  <a:lnTo>
                    <a:pt x="70" y="61"/>
                  </a:lnTo>
                  <a:lnTo>
                    <a:pt x="113" y="61"/>
                  </a:lnTo>
                  <a:lnTo>
                    <a:pt x="113" y="78"/>
                  </a:lnTo>
                  <a:lnTo>
                    <a:pt x="113" y="78"/>
                  </a:lnTo>
                  <a:lnTo>
                    <a:pt x="113" y="87"/>
                  </a:lnTo>
                  <a:lnTo>
                    <a:pt x="113" y="87"/>
                  </a:lnTo>
                  <a:lnTo>
                    <a:pt x="113" y="96"/>
                  </a:lnTo>
                  <a:lnTo>
                    <a:pt x="113" y="104"/>
                  </a:lnTo>
                  <a:lnTo>
                    <a:pt x="113" y="104"/>
                  </a:lnTo>
                  <a:lnTo>
                    <a:pt x="122" y="104"/>
                  </a:lnTo>
                  <a:lnTo>
                    <a:pt x="122" y="113"/>
                  </a:lnTo>
                  <a:lnTo>
                    <a:pt x="122" y="113"/>
                  </a:lnTo>
                  <a:lnTo>
                    <a:pt x="122" y="113"/>
                  </a:lnTo>
                  <a:lnTo>
                    <a:pt x="131" y="113"/>
                  </a:lnTo>
                  <a:lnTo>
                    <a:pt x="131" y="113"/>
                  </a:lnTo>
                  <a:lnTo>
                    <a:pt x="131" y="113"/>
                  </a:lnTo>
                  <a:lnTo>
                    <a:pt x="140" y="113"/>
                  </a:lnTo>
                  <a:lnTo>
                    <a:pt x="140" y="113"/>
                  </a:lnTo>
                  <a:lnTo>
                    <a:pt x="148" y="113"/>
                  </a:lnTo>
                  <a:lnTo>
                    <a:pt x="148" y="113"/>
                  </a:lnTo>
                  <a:lnTo>
                    <a:pt x="157" y="113"/>
                  </a:lnTo>
                  <a:lnTo>
                    <a:pt x="157" y="113"/>
                  </a:lnTo>
                  <a:lnTo>
                    <a:pt x="157" y="113"/>
                  </a:lnTo>
                  <a:lnTo>
                    <a:pt x="166" y="113"/>
                  </a:lnTo>
                  <a:lnTo>
                    <a:pt x="166" y="113"/>
                  </a:lnTo>
                  <a:lnTo>
                    <a:pt x="174" y="122"/>
                  </a:lnTo>
                  <a:lnTo>
                    <a:pt x="174" y="122"/>
                  </a:lnTo>
                  <a:lnTo>
                    <a:pt x="174" y="122"/>
                  </a:lnTo>
                  <a:lnTo>
                    <a:pt x="174" y="131"/>
                  </a:lnTo>
                  <a:lnTo>
                    <a:pt x="174" y="131"/>
                  </a:lnTo>
                  <a:lnTo>
                    <a:pt x="174" y="139"/>
                  </a:lnTo>
                  <a:lnTo>
                    <a:pt x="174" y="139"/>
                  </a:lnTo>
                  <a:lnTo>
                    <a:pt x="174" y="148"/>
                  </a:lnTo>
                  <a:lnTo>
                    <a:pt x="174" y="148"/>
                  </a:lnTo>
                  <a:lnTo>
                    <a:pt x="174" y="157"/>
                  </a:lnTo>
                  <a:lnTo>
                    <a:pt x="183" y="157"/>
                  </a:lnTo>
                  <a:lnTo>
                    <a:pt x="183" y="157"/>
                  </a:lnTo>
                  <a:lnTo>
                    <a:pt x="183" y="166"/>
                  </a:lnTo>
                  <a:lnTo>
                    <a:pt x="183" y="166"/>
                  </a:lnTo>
                  <a:lnTo>
                    <a:pt x="192" y="166"/>
                  </a:lnTo>
                  <a:lnTo>
                    <a:pt x="192" y="166"/>
                  </a:lnTo>
                  <a:lnTo>
                    <a:pt x="201" y="166"/>
                  </a:lnTo>
                  <a:lnTo>
                    <a:pt x="201" y="166"/>
                  </a:lnTo>
                  <a:lnTo>
                    <a:pt x="209" y="166"/>
                  </a:lnTo>
                  <a:lnTo>
                    <a:pt x="209" y="174"/>
                  </a:lnTo>
                  <a:lnTo>
                    <a:pt x="209" y="174"/>
                  </a:lnTo>
                  <a:lnTo>
                    <a:pt x="218" y="174"/>
                  </a:lnTo>
                  <a:lnTo>
                    <a:pt x="218" y="174"/>
                  </a:lnTo>
                  <a:lnTo>
                    <a:pt x="218" y="174"/>
                  </a:lnTo>
                  <a:lnTo>
                    <a:pt x="227" y="183"/>
                  </a:lnTo>
                  <a:lnTo>
                    <a:pt x="227" y="183"/>
                  </a:lnTo>
                  <a:lnTo>
                    <a:pt x="227" y="192"/>
                  </a:lnTo>
                  <a:lnTo>
                    <a:pt x="227" y="192"/>
                  </a:lnTo>
                  <a:lnTo>
                    <a:pt x="227" y="200"/>
                  </a:lnTo>
                  <a:lnTo>
                    <a:pt x="227" y="200"/>
                  </a:lnTo>
                  <a:lnTo>
                    <a:pt x="227" y="209"/>
                  </a:lnTo>
                  <a:lnTo>
                    <a:pt x="227" y="209"/>
                  </a:lnTo>
                  <a:lnTo>
                    <a:pt x="218" y="218"/>
                  </a:lnTo>
                  <a:lnTo>
                    <a:pt x="218" y="227"/>
                  </a:lnTo>
                  <a:lnTo>
                    <a:pt x="218" y="227"/>
                  </a:lnTo>
                  <a:lnTo>
                    <a:pt x="218" y="235"/>
                  </a:lnTo>
                  <a:lnTo>
                    <a:pt x="227" y="235"/>
                  </a:lnTo>
                  <a:lnTo>
                    <a:pt x="227" y="235"/>
                  </a:lnTo>
                  <a:lnTo>
                    <a:pt x="227" y="244"/>
                  </a:lnTo>
                  <a:lnTo>
                    <a:pt x="227" y="244"/>
                  </a:lnTo>
                  <a:lnTo>
                    <a:pt x="227" y="253"/>
                  </a:lnTo>
                  <a:lnTo>
                    <a:pt x="235" y="253"/>
                  </a:lnTo>
                  <a:lnTo>
                    <a:pt x="235" y="253"/>
                  </a:lnTo>
                  <a:lnTo>
                    <a:pt x="235" y="253"/>
                  </a:lnTo>
                  <a:lnTo>
                    <a:pt x="244" y="261"/>
                  </a:lnTo>
                  <a:lnTo>
                    <a:pt x="244" y="261"/>
                  </a:lnTo>
                  <a:lnTo>
                    <a:pt x="253" y="261"/>
                  </a:lnTo>
                  <a:lnTo>
                    <a:pt x="253" y="261"/>
                  </a:lnTo>
                  <a:close/>
                </a:path>
              </a:pathLst>
            </a:custGeom>
            <a:solidFill>
              <a:srgbClr val="ccff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
            <p:cNvSpPr/>
            <p:nvPr/>
          </p:nvSpPr>
          <p:spPr>
            <a:xfrm>
              <a:off x="1504800" y="1429560"/>
              <a:ext cx="572400" cy="554760"/>
            </a:xfrm>
            <a:custGeom>
              <a:avLst/>
              <a:gdLst/>
              <a:ahLst/>
              <a:rect l="l" t="t" r="r" b="b"/>
              <a:pathLst>
                <a:path w="253" h="262">
                  <a:moveTo>
                    <a:pt x="253" y="61"/>
                  </a:moveTo>
                  <a:lnTo>
                    <a:pt x="253" y="0"/>
                  </a:lnTo>
                  <a:lnTo>
                    <a:pt x="0" y="0"/>
                  </a:lnTo>
                  <a:lnTo>
                    <a:pt x="0" y="262"/>
                  </a:lnTo>
                  <a:lnTo>
                    <a:pt x="26" y="262"/>
                  </a:lnTo>
                  <a:lnTo>
                    <a:pt x="26" y="253"/>
                  </a:lnTo>
                  <a:lnTo>
                    <a:pt x="26" y="253"/>
                  </a:lnTo>
                  <a:lnTo>
                    <a:pt x="26" y="244"/>
                  </a:lnTo>
                  <a:lnTo>
                    <a:pt x="26" y="244"/>
                  </a:lnTo>
                  <a:lnTo>
                    <a:pt x="17" y="235"/>
                  </a:lnTo>
                  <a:lnTo>
                    <a:pt x="17" y="227"/>
                  </a:lnTo>
                  <a:lnTo>
                    <a:pt x="17" y="227"/>
                  </a:lnTo>
                  <a:lnTo>
                    <a:pt x="17" y="218"/>
                  </a:lnTo>
                  <a:lnTo>
                    <a:pt x="17" y="218"/>
                  </a:lnTo>
                  <a:lnTo>
                    <a:pt x="26" y="209"/>
                  </a:lnTo>
                  <a:lnTo>
                    <a:pt x="26" y="209"/>
                  </a:lnTo>
                  <a:lnTo>
                    <a:pt x="26" y="201"/>
                  </a:lnTo>
                  <a:lnTo>
                    <a:pt x="35" y="201"/>
                  </a:lnTo>
                  <a:lnTo>
                    <a:pt x="35" y="201"/>
                  </a:lnTo>
                  <a:lnTo>
                    <a:pt x="44" y="201"/>
                  </a:lnTo>
                  <a:lnTo>
                    <a:pt x="44" y="201"/>
                  </a:lnTo>
                  <a:lnTo>
                    <a:pt x="52" y="201"/>
                  </a:lnTo>
                  <a:lnTo>
                    <a:pt x="61" y="201"/>
                  </a:lnTo>
                  <a:lnTo>
                    <a:pt x="61" y="201"/>
                  </a:lnTo>
                  <a:lnTo>
                    <a:pt x="61" y="201"/>
                  </a:lnTo>
                  <a:lnTo>
                    <a:pt x="70" y="209"/>
                  </a:lnTo>
                  <a:lnTo>
                    <a:pt x="70" y="209"/>
                  </a:lnTo>
                  <a:lnTo>
                    <a:pt x="70" y="218"/>
                  </a:lnTo>
                  <a:lnTo>
                    <a:pt x="78" y="218"/>
                  </a:lnTo>
                  <a:lnTo>
                    <a:pt x="78" y="227"/>
                  </a:lnTo>
                  <a:lnTo>
                    <a:pt x="78" y="227"/>
                  </a:lnTo>
                  <a:lnTo>
                    <a:pt x="78" y="235"/>
                  </a:lnTo>
                  <a:lnTo>
                    <a:pt x="70" y="235"/>
                  </a:lnTo>
                  <a:lnTo>
                    <a:pt x="70" y="244"/>
                  </a:lnTo>
                  <a:lnTo>
                    <a:pt x="70" y="244"/>
                  </a:lnTo>
                  <a:lnTo>
                    <a:pt x="70" y="253"/>
                  </a:lnTo>
                  <a:lnTo>
                    <a:pt x="70" y="253"/>
                  </a:lnTo>
                  <a:lnTo>
                    <a:pt x="70" y="262"/>
                  </a:lnTo>
                  <a:lnTo>
                    <a:pt x="113" y="262"/>
                  </a:lnTo>
                  <a:lnTo>
                    <a:pt x="113" y="253"/>
                  </a:lnTo>
                  <a:lnTo>
                    <a:pt x="113" y="244"/>
                  </a:lnTo>
                  <a:lnTo>
                    <a:pt x="113" y="235"/>
                  </a:lnTo>
                  <a:lnTo>
                    <a:pt x="113" y="235"/>
                  </a:lnTo>
                  <a:lnTo>
                    <a:pt x="113" y="227"/>
                  </a:lnTo>
                  <a:lnTo>
                    <a:pt x="113" y="218"/>
                  </a:lnTo>
                  <a:lnTo>
                    <a:pt x="113" y="218"/>
                  </a:lnTo>
                  <a:lnTo>
                    <a:pt x="122" y="218"/>
                  </a:lnTo>
                  <a:lnTo>
                    <a:pt x="122" y="209"/>
                  </a:lnTo>
                  <a:lnTo>
                    <a:pt x="122" y="209"/>
                  </a:lnTo>
                  <a:lnTo>
                    <a:pt x="122" y="209"/>
                  </a:lnTo>
                  <a:lnTo>
                    <a:pt x="131" y="209"/>
                  </a:lnTo>
                  <a:lnTo>
                    <a:pt x="131" y="209"/>
                  </a:lnTo>
                  <a:lnTo>
                    <a:pt x="140" y="209"/>
                  </a:lnTo>
                  <a:lnTo>
                    <a:pt x="140" y="209"/>
                  </a:lnTo>
                  <a:lnTo>
                    <a:pt x="140" y="209"/>
                  </a:lnTo>
                  <a:lnTo>
                    <a:pt x="148" y="209"/>
                  </a:lnTo>
                  <a:lnTo>
                    <a:pt x="148" y="209"/>
                  </a:lnTo>
                  <a:lnTo>
                    <a:pt x="157" y="209"/>
                  </a:lnTo>
                  <a:lnTo>
                    <a:pt x="157" y="209"/>
                  </a:lnTo>
                  <a:lnTo>
                    <a:pt x="166" y="209"/>
                  </a:lnTo>
                  <a:lnTo>
                    <a:pt x="166" y="209"/>
                  </a:lnTo>
                  <a:lnTo>
                    <a:pt x="166" y="209"/>
                  </a:lnTo>
                  <a:lnTo>
                    <a:pt x="174" y="201"/>
                  </a:lnTo>
                  <a:lnTo>
                    <a:pt x="174" y="201"/>
                  </a:lnTo>
                  <a:lnTo>
                    <a:pt x="174" y="201"/>
                  </a:lnTo>
                  <a:lnTo>
                    <a:pt x="174" y="192"/>
                  </a:lnTo>
                  <a:lnTo>
                    <a:pt x="174" y="192"/>
                  </a:lnTo>
                  <a:lnTo>
                    <a:pt x="174" y="183"/>
                  </a:lnTo>
                  <a:lnTo>
                    <a:pt x="174" y="183"/>
                  </a:lnTo>
                  <a:lnTo>
                    <a:pt x="174" y="174"/>
                  </a:lnTo>
                  <a:lnTo>
                    <a:pt x="174" y="174"/>
                  </a:lnTo>
                  <a:lnTo>
                    <a:pt x="174" y="166"/>
                  </a:lnTo>
                  <a:lnTo>
                    <a:pt x="183" y="166"/>
                  </a:lnTo>
                  <a:lnTo>
                    <a:pt x="183" y="166"/>
                  </a:lnTo>
                  <a:lnTo>
                    <a:pt x="183" y="157"/>
                  </a:lnTo>
                  <a:lnTo>
                    <a:pt x="192" y="157"/>
                  </a:lnTo>
                  <a:lnTo>
                    <a:pt x="192" y="157"/>
                  </a:lnTo>
                  <a:lnTo>
                    <a:pt x="192" y="157"/>
                  </a:lnTo>
                  <a:lnTo>
                    <a:pt x="201" y="157"/>
                  </a:lnTo>
                  <a:lnTo>
                    <a:pt x="201" y="157"/>
                  </a:lnTo>
                  <a:lnTo>
                    <a:pt x="209" y="157"/>
                  </a:lnTo>
                  <a:lnTo>
                    <a:pt x="209" y="148"/>
                  </a:lnTo>
                  <a:lnTo>
                    <a:pt x="209" y="148"/>
                  </a:lnTo>
                  <a:lnTo>
                    <a:pt x="218" y="148"/>
                  </a:lnTo>
                  <a:lnTo>
                    <a:pt x="218" y="148"/>
                  </a:lnTo>
                  <a:lnTo>
                    <a:pt x="218" y="148"/>
                  </a:lnTo>
                  <a:lnTo>
                    <a:pt x="227" y="139"/>
                  </a:lnTo>
                  <a:lnTo>
                    <a:pt x="227" y="139"/>
                  </a:lnTo>
                  <a:lnTo>
                    <a:pt x="227" y="131"/>
                  </a:lnTo>
                  <a:lnTo>
                    <a:pt x="227" y="131"/>
                  </a:lnTo>
                  <a:lnTo>
                    <a:pt x="227" y="122"/>
                  </a:lnTo>
                  <a:lnTo>
                    <a:pt x="227" y="122"/>
                  </a:lnTo>
                  <a:lnTo>
                    <a:pt x="227" y="113"/>
                  </a:lnTo>
                  <a:lnTo>
                    <a:pt x="227" y="113"/>
                  </a:lnTo>
                  <a:lnTo>
                    <a:pt x="227" y="105"/>
                  </a:lnTo>
                  <a:lnTo>
                    <a:pt x="227" y="96"/>
                  </a:lnTo>
                  <a:lnTo>
                    <a:pt x="227" y="96"/>
                  </a:lnTo>
                  <a:lnTo>
                    <a:pt x="227" y="87"/>
                  </a:lnTo>
                  <a:lnTo>
                    <a:pt x="227" y="87"/>
                  </a:lnTo>
                  <a:lnTo>
                    <a:pt x="227" y="87"/>
                  </a:lnTo>
                  <a:lnTo>
                    <a:pt x="227" y="78"/>
                  </a:lnTo>
                  <a:lnTo>
                    <a:pt x="227" y="78"/>
                  </a:lnTo>
                  <a:lnTo>
                    <a:pt x="235" y="70"/>
                  </a:lnTo>
                  <a:lnTo>
                    <a:pt x="235" y="70"/>
                  </a:lnTo>
                  <a:lnTo>
                    <a:pt x="235" y="70"/>
                  </a:lnTo>
                  <a:lnTo>
                    <a:pt x="244" y="70"/>
                  </a:lnTo>
                  <a:lnTo>
                    <a:pt x="244" y="61"/>
                  </a:lnTo>
                  <a:lnTo>
                    <a:pt x="244" y="61"/>
                  </a:lnTo>
                  <a:lnTo>
                    <a:pt x="253" y="61"/>
                  </a:lnTo>
                  <a:lnTo>
                    <a:pt x="253" y="61"/>
                  </a:lnTo>
                  <a:close/>
                </a:path>
              </a:pathLst>
            </a:custGeom>
            <a:solidFill>
              <a:srgbClr val="ccff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a:off x="1760400" y="1558080"/>
              <a:ext cx="631800" cy="830520"/>
            </a:xfrm>
            <a:custGeom>
              <a:avLst/>
              <a:gdLst/>
              <a:ahLst/>
              <a:rect l="l" t="t" r="r" b="b"/>
              <a:pathLst>
                <a:path w="279" h="392">
                  <a:moveTo>
                    <a:pt x="105" y="78"/>
                  </a:moveTo>
                  <a:lnTo>
                    <a:pt x="105" y="78"/>
                  </a:lnTo>
                  <a:lnTo>
                    <a:pt x="114" y="70"/>
                  </a:lnTo>
                  <a:lnTo>
                    <a:pt x="114" y="70"/>
                  </a:lnTo>
                  <a:lnTo>
                    <a:pt x="114" y="61"/>
                  </a:lnTo>
                  <a:lnTo>
                    <a:pt x="114" y="52"/>
                  </a:lnTo>
                  <a:lnTo>
                    <a:pt x="114" y="52"/>
                  </a:lnTo>
                  <a:lnTo>
                    <a:pt x="105" y="44"/>
                  </a:lnTo>
                  <a:lnTo>
                    <a:pt x="105" y="35"/>
                  </a:lnTo>
                  <a:lnTo>
                    <a:pt x="105" y="35"/>
                  </a:lnTo>
                  <a:lnTo>
                    <a:pt x="105" y="26"/>
                  </a:lnTo>
                  <a:lnTo>
                    <a:pt x="114" y="17"/>
                  </a:lnTo>
                  <a:lnTo>
                    <a:pt x="114" y="17"/>
                  </a:lnTo>
                  <a:lnTo>
                    <a:pt x="122" y="9"/>
                  </a:lnTo>
                  <a:lnTo>
                    <a:pt x="122" y="9"/>
                  </a:lnTo>
                  <a:lnTo>
                    <a:pt x="122" y="0"/>
                  </a:lnTo>
                  <a:lnTo>
                    <a:pt x="131" y="0"/>
                  </a:lnTo>
                  <a:lnTo>
                    <a:pt x="140" y="0"/>
                  </a:lnTo>
                  <a:lnTo>
                    <a:pt x="149" y="0"/>
                  </a:lnTo>
                  <a:lnTo>
                    <a:pt x="157" y="0"/>
                  </a:lnTo>
                  <a:lnTo>
                    <a:pt x="157" y="0"/>
                  </a:lnTo>
                  <a:lnTo>
                    <a:pt x="157" y="9"/>
                  </a:lnTo>
                  <a:lnTo>
                    <a:pt x="166" y="9"/>
                  </a:lnTo>
                  <a:lnTo>
                    <a:pt x="166" y="9"/>
                  </a:lnTo>
                  <a:lnTo>
                    <a:pt x="166" y="17"/>
                  </a:lnTo>
                  <a:lnTo>
                    <a:pt x="175" y="26"/>
                  </a:lnTo>
                  <a:lnTo>
                    <a:pt x="175" y="26"/>
                  </a:lnTo>
                  <a:lnTo>
                    <a:pt x="175" y="35"/>
                  </a:lnTo>
                  <a:lnTo>
                    <a:pt x="175" y="35"/>
                  </a:lnTo>
                  <a:lnTo>
                    <a:pt x="175" y="44"/>
                  </a:lnTo>
                  <a:lnTo>
                    <a:pt x="175" y="52"/>
                  </a:lnTo>
                  <a:lnTo>
                    <a:pt x="175" y="52"/>
                  </a:lnTo>
                  <a:lnTo>
                    <a:pt x="166" y="61"/>
                  </a:lnTo>
                  <a:lnTo>
                    <a:pt x="166" y="70"/>
                  </a:lnTo>
                  <a:lnTo>
                    <a:pt x="166" y="70"/>
                  </a:lnTo>
                  <a:lnTo>
                    <a:pt x="175" y="78"/>
                  </a:lnTo>
                  <a:lnTo>
                    <a:pt x="175" y="78"/>
                  </a:lnTo>
                  <a:lnTo>
                    <a:pt x="175" y="87"/>
                  </a:lnTo>
                  <a:lnTo>
                    <a:pt x="184" y="87"/>
                  </a:lnTo>
                  <a:lnTo>
                    <a:pt x="184" y="87"/>
                  </a:lnTo>
                  <a:lnTo>
                    <a:pt x="192" y="87"/>
                  </a:lnTo>
                  <a:lnTo>
                    <a:pt x="192" y="96"/>
                  </a:lnTo>
                  <a:lnTo>
                    <a:pt x="201" y="96"/>
                  </a:lnTo>
                  <a:lnTo>
                    <a:pt x="201" y="96"/>
                  </a:lnTo>
                  <a:lnTo>
                    <a:pt x="210" y="96"/>
                  </a:lnTo>
                  <a:lnTo>
                    <a:pt x="210" y="96"/>
                  </a:lnTo>
                  <a:lnTo>
                    <a:pt x="210" y="105"/>
                  </a:lnTo>
                  <a:lnTo>
                    <a:pt x="218" y="105"/>
                  </a:lnTo>
                  <a:lnTo>
                    <a:pt x="218" y="105"/>
                  </a:lnTo>
                  <a:lnTo>
                    <a:pt x="218" y="113"/>
                  </a:lnTo>
                  <a:lnTo>
                    <a:pt x="218" y="113"/>
                  </a:lnTo>
                  <a:lnTo>
                    <a:pt x="218" y="113"/>
                  </a:lnTo>
                  <a:lnTo>
                    <a:pt x="218" y="122"/>
                  </a:lnTo>
                  <a:lnTo>
                    <a:pt x="218" y="122"/>
                  </a:lnTo>
                  <a:lnTo>
                    <a:pt x="218" y="131"/>
                  </a:lnTo>
                  <a:lnTo>
                    <a:pt x="218" y="131"/>
                  </a:lnTo>
                  <a:lnTo>
                    <a:pt x="218" y="140"/>
                  </a:lnTo>
                  <a:lnTo>
                    <a:pt x="218" y="140"/>
                  </a:lnTo>
                  <a:lnTo>
                    <a:pt x="227" y="140"/>
                  </a:lnTo>
                  <a:lnTo>
                    <a:pt x="227" y="148"/>
                  </a:lnTo>
                  <a:lnTo>
                    <a:pt x="227" y="148"/>
                  </a:lnTo>
                  <a:lnTo>
                    <a:pt x="236" y="148"/>
                  </a:lnTo>
                  <a:lnTo>
                    <a:pt x="236" y="148"/>
                  </a:lnTo>
                  <a:lnTo>
                    <a:pt x="245" y="148"/>
                  </a:lnTo>
                  <a:lnTo>
                    <a:pt x="245" y="148"/>
                  </a:lnTo>
                  <a:lnTo>
                    <a:pt x="253" y="148"/>
                  </a:lnTo>
                  <a:lnTo>
                    <a:pt x="253" y="148"/>
                  </a:lnTo>
                  <a:lnTo>
                    <a:pt x="262" y="148"/>
                  </a:lnTo>
                  <a:lnTo>
                    <a:pt x="262" y="148"/>
                  </a:lnTo>
                  <a:lnTo>
                    <a:pt x="262" y="148"/>
                  </a:lnTo>
                  <a:lnTo>
                    <a:pt x="271" y="148"/>
                  </a:lnTo>
                  <a:lnTo>
                    <a:pt x="271" y="148"/>
                  </a:lnTo>
                  <a:lnTo>
                    <a:pt x="271" y="148"/>
                  </a:lnTo>
                  <a:lnTo>
                    <a:pt x="279" y="148"/>
                  </a:lnTo>
                  <a:lnTo>
                    <a:pt x="279" y="157"/>
                  </a:lnTo>
                  <a:lnTo>
                    <a:pt x="279" y="157"/>
                  </a:lnTo>
                  <a:lnTo>
                    <a:pt x="279" y="166"/>
                  </a:lnTo>
                  <a:lnTo>
                    <a:pt x="279" y="166"/>
                  </a:lnTo>
                  <a:lnTo>
                    <a:pt x="279" y="174"/>
                  </a:lnTo>
                  <a:lnTo>
                    <a:pt x="279" y="183"/>
                  </a:lnTo>
                  <a:lnTo>
                    <a:pt x="279" y="192"/>
                  </a:lnTo>
                  <a:lnTo>
                    <a:pt x="279" y="209"/>
                  </a:lnTo>
                  <a:lnTo>
                    <a:pt x="279" y="218"/>
                  </a:lnTo>
                  <a:lnTo>
                    <a:pt x="279" y="218"/>
                  </a:lnTo>
                  <a:lnTo>
                    <a:pt x="279" y="227"/>
                  </a:lnTo>
                  <a:lnTo>
                    <a:pt x="279" y="227"/>
                  </a:lnTo>
                  <a:lnTo>
                    <a:pt x="271" y="227"/>
                  </a:lnTo>
                  <a:lnTo>
                    <a:pt x="271" y="235"/>
                  </a:lnTo>
                  <a:lnTo>
                    <a:pt x="271" y="235"/>
                  </a:lnTo>
                  <a:lnTo>
                    <a:pt x="262" y="235"/>
                  </a:lnTo>
                  <a:lnTo>
                    <a:pt x="262" y="235"/>
                  </a:lnTo>
                  <a:lnTo>
                    <a:pt x="253" y="235"/>
                  </a:lnTo>
                  <a:lnTo>
                    <a:pt x="253" y="235"/>
                  </a:lnTo>
                  <a:lnTo>
                    <a:pt x="245" y="235"/>
                  </a:lnTo>
                  <a:lnTo>
                    <a:pt x="245" y="235"/>
                  </a:lnTo>
                  <a:lnTo>
                    <a:pt x="245" y="235"/>
                  </a:lnTo>
                  <a:lnTo>
                    <a:pt x="236" y="235"/>
                  </a:lnTo>
                  <a:lnTo>
                    <a:pt x="236" y="235"/>
                  </a:lnTo>
                  <a:lnTo>
                    <a:pt x="227" y="235"/>
                  </a:lnTo>
                  <a:lnTo>
                    <a:pt x="227" y="235"/>
                  </a:lnTo>
                  <a:lnTo>
                    <a:pt x="227" y="235"/>
                  </a:lnTo>
                  <a:lnTo>
                    <a:pt x="227" y="235"/>
                  </a:lnTo>
                  <a:lnTo>
                    <a:pt x="218" y="244"/>
                  </a:lnTo>
                  <a:lnTo>
                    <a:pt x="218" y="244"/>
                  </a:lnTo>
                  <a:lnTo>
                    <a:pt x="218" y="244"/>
                  </a:lnTo>
                  <a:lnTo>
                    <a:pt x="218" y="253"/>
                  </a:lnTo>
                  <a:lnTo>
                    <a:pt x="218" y="253"/>
                  </a:lnTo>
                  <a:lnTo>
                    <a:pt x="218" y="253"/>
                  </a:lnTo>
                  <a:lnTo>
                    <a:pt x="218" y="262"/>
                  </a:lnTo>
                  <a:lnTo>
                    <a:pt x="218" y="270"/>
                  </a:lnTo>
                  <a:lnTo>
                    <a:pt x="218" y="270"/>
                  </a:lnTo>
                  <a:lnTo>
                    <a:pt x="218" y="279"/>
                  </a:lnTo>
                  <a:lnTo>
                    <a:pt x="210" y="279"/>
                  </a:lnTo>
                  <a:lnTo>
                    <a:pt x="210" y="279"/>
                  </a:lnTo>
                  <a:lnTo>
                    <a:pt x="210" y="288"/>
                  </a:lnTo>
                  <a:lnTo>
                    <a:pt x="201" y="288"/>
                  </a:lnTo>
                  <a:lnTo>
                    <a:pt x="201" y="288"/>
                  </a:lnTo>
                  <a:lnTo>
                    <a:pt x="192" y="288"/>
                  </a:lnTo>
                  <a:lnTo>
                    <a:pt x="192" y="288"/>
                  </a:lnTo>
                  <a:lnTo>
                    <a:pt x="192" y="288"/>
                  </a:lnTo>
                  <a:lnTo>
                    <a:pt x="184" y="288"/>
                  </a:lnTo>
                  <a:lnTo>
                    <a:pt x="184" y="297"/>
                  </a:lnTo>
                  <a:lnTo>
                    <a:pt x="175" y="297"/>
                  </a:lnTo>
                  <a:lnTo>
                    <a:pt x="175" y="297"/>
                  </a:lnTo>
                  <a:lnTo>
                    <a:pt x="175" y="297"/>
                  </a:lnTo>
                  <a:lnTo>
                    <a:pt x="166" y="305"/>
                  </a:lnTo>
                  <a:lnTo>
                    <a:pt x="166" y="305"/>
                  </a:lnTo>
                  <a:lnTo>
                    <a:pt x="166" y="314"/>
                  </a:lnTo>
                  <a:lnTo>
                    <a:pt x="166" y="314"/>
                  </a:lnTo>
                  <a:lnTo>
                    <a:pt x="166" y="323"/>
                  </a:lnTo>
                  <a:lnTo>
                    <a:pt x="166" y="323"/>
                  </a:lnTo>
                  <a:lnTo>
                    <a:pt x="175" y="331"/>
                  </a:lnTo>
                  <a:lnTo>
                    <a:pt x="175" y="340"/>
                  </a:lnTo>
                  <a:lnTo>
                    <a:pt x="175" y="340"/>
                  </a:lnTo>
                  <a:lnTo>
                    <a:pt x="175" y="349"/>
                  </a:lnTo>
                  <a:lnTo>
                    <a:pt x="175" y="358"/>
                  </a:lnTo>
                  <a:lnTo>
                    <a:pt x="166" y="358"/>
                  </a:lnTo>
                  <a:lnTo>
                    <a:pt x="166" y="366"/>
                  </a:lnTo>
                  <a:lnTo>
                    <a:pt x="166" y="366"/>
                  </a:lnTo>
                  <a:lnTo>
                    <a:pt x="166" y="375"/>
                  </a:lnTo>
                  <a:lnTo>
                    <a:pt x="166" y="375"/>
                  </a:lnTo>
                  <a:lnTo>
                    <a:pt x="157" y="384"/>
                  </a:lnTo>
                  <a:lnTo>
                    <a:pt x="157" y="384"/>
                  </a:lnTo>
                  <a:lnTo>
                    <a:pt x="157" y="384"/>
                  </a:lnTo>
                  <a:lnTo>
                    <a:pt x="149" y="384"/>
                  </a:lnTo>
                  <a:lnTo>
                    <a:pt x="149" y="384"/>
                  </a:lnTo>
                  <a:lnTo>
                    <a:pt x="140" y="392"/>
                  </a:lnTo>
                  <a:lnTo>
                    <a:pt x="140" y="392"/>
                  </a:lnTo>
                  <a:lnTo>
                    <a:pt x="131" y="392"/>
                  </a:lnTo>
                  <a:lnTo>
                    <a:pt x="131" y="392"/>
                  </a:lnTo>
                  <a:lnTo>
                    <a:pt x="122" y="384"/>
                  </a:lnTo>
                  <a:lnTo>
                    <a:pt x="122" y="384"/>
                  </a:lnTo>
                  <a:lnTo>
                    <a:pt x="122" y="384"/>
                  </a:lnTo>
                  <a:lnTo>
                    <a:pt x="114" y="384"/>
                  </a:lnTo>
                  <a:lnTo>
                    <a:pt x="114" y="375"/>
                  </a:lnTo>
                  <a:lnTo>
                    <a:pt x="114" y="375"/>
                  </a:lnTo>
                  <a:lnTo>
                    <a:pt x="114" y="375"/>
                  </a:lnTo>
                  <a:lnTo>
                    <a:pt x="105" y="366"/>
                  </a:lnTo>
                  <a:lnTo>
                    <a:pt x="105" y="366"/>
                  </a:lnTo>
                  <a:lnTo>
                    <a:pt x="105" y="358"/>
                  </a:lnTo>
                  <a:lnTo>
                    <a:pt x="105" y="358"/>
                  </a:lnTo>
                  <a:lnTo>
                    <a:pt x="105" y="349"/>
                  </a:lnTo>
                  <a:lnTo>
                    <a:pt x="105" y="349"/>
                  </a:lnTo>
                  <a:lnTo>
                    <a:pt x="105" y="340"/>
                  </a:lnTo>
                  <a:lnTo>
                    <a:pt x="105" y="340"/>
                  </a:lnTo>
                  <a:lnTo>
                    <a:pt x="114" y="331"/>
                  </a:lnTo>
                  <a:lnTo>
                    <a:pt x="114" y="331"/>
                  </a:lnTo>
                  <a:lnTo>
                    <a:pt x="114" y="323"/>
                  </a:lnTo>
                  <a:lnTo>
                    <a:pt x="114" y="323"/>
                  </a:lnTo>
                  <a:lnTo>
                    <a:pt x="114" y="314"/>
                  </a:lnTo>
                  <a:lnTo>
                    <a:pt x="105" y="314"/>
                  </a:lnTo>
                  <a:lnTo>
                    <a:pt x="105" y="314"/>
                  </a:lnTo>
                  <a:lnTo>
                    <a:pt x="105" y="305"/>
                  </a:lnTo>
                  <a:lnTo>
                    <a:pt x="105" y="305"/>
                  </a:lnTo>
                  <a:lnTo>
                    <a:pt x="96" y="305"/>
                  </a:lnTo>
                  <a:lnTo>
                    <a:pt x="96" y="305"/>
                  </a:lnTo>
                  <a:lnTo>
                    <a:pt x="96" y="297"/>
                  </a:lnTo>
                  <a:lnTo>
                    <a:pt x="88" y="297"/>
                  </a:lnTo>
                  <a:lnTo>
                    <a:pt x="88" y="297"/>
                  </a:lnTo>
                  <a:lnTo>
                    <a:pt x="79" y="297"/>
                  </a:lnTo>
                  <a:lnTo>
                    <a:pt x="79" y="297"/>
                  </a:lnTo>
                  <a:lnTo>
                    <a:pt x="79" y="297"/>
                  </a:lnTo>
                  <a:lnTo>
                    <a:pt x="70" y="297"/>
                  </a:lnTo>
                  <a:lnTo>
                    <a:pt x="70" y="288"/>
                  </a:lnTo>
                  <a:lnTo>
                    <a:pt x="61" y="288"/>
                  </a:lnTo>
                  <a:lnTo>
                    <a:pt x="61" y="288"/>
                  </a:lnTo>
                  <a:lnTo>
                    <a:pt x="61" y="279"/>
                  </a:lnTo>
                  <a:lnTo>
                    <a:pt x="61" y="279"/>
                  </a:lnTo>
                  <a:lnTo>
                    <a:pt x="61" y="270"/>
                  </a:lnTo>
                  <a:lnTo>
                    <a:pt x="61" y="270"/>
                  </a:lnTo>
                  <a:lnTo>
                    <a:pt x="61" y="262"/>
                  </a:lnTo>
                  <a:lnTo>
                    <a:pt x="61" y="262"/>
                  </a:lnTo>
                  <a:lnTo>
                    <a:pt x="61" y="253"/>
                  </a:lnTo>
                  <a:lnTo>
                    <a:pt x="61" y="253"/>
                  </a:lnTo>
                  <a:lnTo>
                    <a:pt x="53" y="244"/>
                  </a:lnTo>
                  <a:lnTo>
                    <a:pt x="53" y="244"/>
                  </a:lnTo>
                  <a:lnTo>
                    <a:pt x="53" y="244"/>
                  </a:lnTo>
                  <a:lnTo>
                    <a:pt x="44" y="244"/>
                  </a:lnTo>
                  <a:lnTo>
                    <a:pt x="44" y="244"/>
                  </a:lnTo>
                  <a:lnTo>
                    <a:pt x="35" y="244"/>
                  </a:lnTo>
                  <a:lnTo>
                    <a:pt x="35" y="244"/>
                  </a:lnTo>
                  <a:lnTo>
                    <a:pt x="35" y="244"/>
                  </a:lnTo>
                  <a:lnTo>
                    <a:pt x="27" y="244"/>
                  </a:lnTo>
                  <a:lnTo>
                    <a:pt x="27" y="244"/>
                  </a:lnTo>
                  <a:lnTo>
                    <a:pt x="18" y="244"/>
                  </a:lnTo>
                  <a:lnTo>
                    <a:pt x="18" y="244"/>
                  </a:lnTo>
                  <a:lnTo>
                    <a:pt x="9" y="244"/>
                  </a:lnTo>
                  <a:lnTo>
                    <a:pt x="9" y="244"/>
                  </a:lnTo>
                  <a:lnTo>
                    <a:pt x="9" y="244"/>
                  </a:lnTo>
                  <a:lnTo>
                    <a:pt x="0" y="235"/>
                  </a:lnTo>
                  <a:lnTo>
                    <a:pt x="0" y="235"/>
                  </a:lnTo>
                  <a:lnTo>
                    <a:pt x="0" y="235"/>
                  </a:lnTo>
                  <a:lnTo>
                    <a:pt x="0" y="227"/>
                  </a:lnTo>
                  <a:lnTo>
                    <a:pt x="0" y="218"/>
                  </a:lnTo>
                  <a:lnTo>
                    <a:pt x="0" y="209"/>
                  </a:lnTo>
                  <a:lnTo>
                    <a:pt x="0" y="201"/>
                  </a:lnTo>
                  <a:lnTo>
                    <a:pt x="0" y="201"/>
                  </a:lnTo>
                  <a:lnTo>
                    <a:pt x="0" y="192"/>
                  </a:lnTo>
                  <a:lnTo>
                    <a:pt x="0" y="183"/>
                  </a:lnTo>
                  <a:lnTo>
                    <a:pt x="0" y="174"/>
                  </a:lnTo>
                  <a:lnTo>
                    <a:pt x="0" y="166"/>
                  </a:lnTo>
                  <a:lnTo>
                    <a:pt x="0" y="166"/>
                  </a:lnTo>
                  <a:lnTo>
                    <a:pt x="0" y="157"/>
                  </a:lnTo>
                  <a:lnTo>
                    <a:pt x="0" y="157"/>
                  </a:lnTo>
                  <a:lnTo>
                    <a:pt x="9" y="148"/>
                  </a:lnTo>
                  <a:lnTo>
                    <a:pt x="9" y="148"/>
                  </a:lnTo>
                  <a:lnTo>
                    <a:pt x="9" y="148"/>
                  </a:lnTo>
                  <a:lnTo>
                    <a:pt x="9" y="148"/>
                  </a:lnTo>
                  <a:lnTo>
                    <a:pt x="18" y="148"/>
                  </a:lnTo>
                  <a:lnTo>
                    <a:pt x="18" y="148"/>
                  </a:lnTo>
                  <a:lnTo>
                    <a:pt x="27" y="148"/>
                  </a:lnTo>
                  <a:lnTo>
                    <a:pt x="27" y="148"/>
                  </a:lnTo>
                  <a:lnTo>
                    <a:pt x="35" y="148"/>
                  </a:lnTo>
                  <a:lnTo>
                    <a:pt x="35" y="148"/>
                  </a:lnTo>
                  <a:lnTo>
                    <a:pt x="44" y="148"/>
                  </a:lnTo>
                  <a:lnTo>
                    <a:pt x="44" y="148"/>
                  </a:lnTo>
                  <a:lnTo>
                    <a:pt x="53" y="148"/>
                  </a:lnTo>
                  <a:lnTo>
                    <a:pt x="53" y="148"/>
                  </a:lnTo>
                  <a:lnTo>
                    <a:pt x="53" y="140"/>
                  </a:lnTo>
                  <a:lnTo>
                    <a:pt x="61" y="140"/>
                  </a:lnTo>
                  <a:lnTo>
                    <a:pt x="61" y="140"/>
                  </a:lnTo>
                  <a:lnTo>
                    <a:pt x="61" y="131"/>
                  </a:lnTo>
                  <a:lnTo>
                    <a:pt x="61" y="131"/>
                  </a:lnTo>
                  <a:lnTo>
                    <a:pt x="61" y="122"/>
                  </a:lnTo>
                  <a:lnTo>
                    <a:pt x="61" y="122"/>
                  </a:lnTo>
                  <a:lnTo>
                    <a:pt x="61" y="113"/>
                  </a:lnTo>
                  <a:lnTo>
                    <a:pt x="61" y="105"/>
                  </a:lnTo>
                  <a:lnTo>
                    <a:pt x="61" y="105"/>
                  </a:lnTo>
                  <a:lnTo>
                    <a:pt x="61" y="105"/>
                  </a:lnTo>
                  <a:lnTo>
                    <a:pt x="70" y="96"/>
                  </a:lnTo>
                  <a:lnTo>
                    <a:pt x="70" y="96"/>
                  </a:lnTo>
                  <a:lnTo>
                    <a:pt x="79" y="96"/>
                  </a:lnTo>
                  <a:lnTo>
                    <a:pt x="79" y="96"/>
                  </a:lnTo>
                  <a:lnTo>
                    <a:pt x="88" y="96"/>
                  </a:lnTo>
                  <a:lnTo>
                    <a:pt x="88" y="87"/>
                  </a:lnTo>
                  <a:lnTo>
                    <a:pt x="96" y="87"/>
                  </a:lnTo>
                  <a:lnTo>
                    <a:pt x="96" y="87"/>
                  </a:lnTo>
                  <a:lnTo>
                    <a:pt x="105" y="87"/>
                  </a:lnTo>
                  <a:lnTo>
                    <a:pt x="105" y="78"/>
                  </a:lnTo>
                  <a:close/>
                </a:path>
              </a:pathLst>
            </a:custGeom>
            <a:solidFill>
              <a:srgbClr val="ffcccc"/>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
            <p:cNvSpPr/>
            <p:nvPr/>
          </p:nvSpPr>
          <p:spPr>
            <a:xfrm>
              <a:off x="2077200" y="1946880"/>
              <a:ext cx="572400" cy="554760"/>
            </a:xfrm>
            <a:custGeom>
              <a:avLst/>
              <a:gdLst/>
              <a:ahLst/>
              <a:rect l="l" t="t" r="r" b="b"/>
              <a:pathLst>
                <a:path w="253" h="262">
                  <a:moveTo>
                    <a:pt x="0" y="209"/>
                  </a:moveTo>
                  <a:lnTo>
                    <a:pt x="0" y="262"/>
                  </a:lnTo>
                  <a:lnTo>
                    <a:pt x="253" y="262"/>
                  </a:lnTo>
                  <a:lnTo>
                    <a:pt x="253" y="0"/>
                  </a:lnTo>
                  <a:lnTo>
                    <a:pt x="235" y="0"/>
                  </a:lnTo>
                  <a:lnTo>
                    <a:pt x="227" y="9"/>
                  </a:lnTo>
                  <a:lnTo>
                    <a:pt x="227" y="9"/>
                  </a:lnTo>
                  <a:lnTo>
                    <a:pt x="235" y="18"/>
                  </a:lnTo>
                  <a:lnTo>
                    <a:pt x="235" y="18"/>
                  </a:lnTo>
                  <a:lnTo>
                    <a:pt x="235" y="26"/>
                  </a:lnTo>
                  <a:lnTo>
                    <a:pt x="235" y="35"/>
                  </a:lnTo>
                  <a:lnTo>
                    <a:pt x="235" y="35"/>
                  </a:lnTo>
                  <a:lnTo>
                    <a:pt x="235" y="44"/>
                  </a:lnTo>
                  <a:lnTo>
                    <a:pt x="235" y="44"/>
                  </a:lnTo>
                  <a:lnTo>
                    <a:pt x="227" y="52"/>
                  </a:lnTo>
                  <a:lnTo>
                    <a:pt x="227" y="52"/>
                  </a:lnTo>
                  <a:lnTo>
                    <a:pt x="227" y="61"/>
                  </a:lnTo>
                  <a:lnTo>
                    <a:pt x="218" y="61"/>
                  </a:lnTo>
                  <a:lnTo>
                    <a:pt x="218" y="61"/>
                  </a:lnTo>
                  <a:lnTo>
                    <a:pt x="218" y="61"/>
                  </a:lnTo>
                  <a:lnTo>
                    <a:pt x="209" y="61"/>
                  </a:lnTo>
                  <a:lnTo>
                    <a:pt x="201" y="61"/>
                  </a:lnTo>
                  <a:lnTo>
                    <a:pt x="201" y="61"/>
                  </a:lnTo>
                  <a:lnTo>
                    <a:pt x="192" y="61"/>
                  </a:lnTo>
                  <a:lnTo>
                    <a:pt x="192" y="61"/>
                  </a:lnTo>
                  <a:lnTo>
                    <a:pt x="183" y="52"/>
                  </a:lnTo>
                  <a:lnTo>
                    <a:pt x="183" y="52"/>
                  </a:lnTo>
                  <a:lnTo>
                    <a:pt x="183" y="44"/>
                  </a:lnTo>
                  <a:lnTo>
                    <a:pt x="183" y="44"/>
                  </a:lnTo>
                  <a:lnTo>
                    <a:pt x="183" y="35"/>
                  </a:lnTo>
                  <a:lnTo>
                    <a:pt x="183" y="35"/>
                  </a:lnTo>
                  <a:lnTo>
                    <a:pt x="183" y="26"/>
                  </a:lnTo>
                  <a:lnTo>
                    <a:pt x="183" y="26"/>
                  </a:lnTo>
                  <a:lnTo>
                    <a:pt x="183" y="18"/>
                  </a:lnTo>
                  <a:lnTo>
                    <a:pt x="183" y="18"/>
                  </a:lnTo>
                  <a:lnTo>
                    <a:pt x="183" y="9"/>
                  </a:lnTo>
                  <a:lnTo>
                    <a:pt x="183" y="9"/>
                  </a:lnTo>
                  <a:lnTo>
                    <a:pt x="183" y="0"/>
                  </a:lnTo>
                  <a:lnTo>
                    <a:pt x="139" y="0"/>
                  </a:lnTo>
                  <a:lnTo>
                    <a:pt x="139" y="9"/>
                  </a:lnTo>
                  <a:lnTo>
                    <a:pt x="139" y="18"/>
                  </a:lnTo>
                  <a:lnTo>
                    <a:pt x="139" y="26"/>
                  </a:lnTo>
                  <a:lnTo>
                    <a:pt x="139" y="26"/>
                  </a:lnTo>
                  <a:lnTo>
                    <a:pt x="139" y="35"/>
                  </a:lnTo>
                  <a:lnTo>
                    <a:pt x="139" y="35"/>
                  </a:lnTo>
                  <a:lnTo>
                    <a:pt x="139" y="44"/>
                  </a:lnTo>
                  <a:lnTo>
                    <a:pt x="139" y="44"/>
                  </a:lnTo>
                  <a:lnTo>
                    <a:pt x="131" y="44"/>
                  </a:lnTo>
                  <a:lnTo>
                    <a:pt x="131" y="52"/>
                  </a:lnTo>
                  <a:lnTo>
                    <a:pt x="131" y="52"/>
                  </a:lnTo>
                  <a:lnTo>
                    <a:pt x="122" y="52"/>
                  </a:lnTo>
                  <a:lnTo>
                    <a:pt x="122" y="52"/>
                  </a:lnTo>
                  <a:lnTo>
                    <a:pt x="122" y="52"/>
                  </a:lnTo>
                  <a:lnTo>
                    <a:pt x="113" y="52"/>
                  </a:lnTo>
                  <a:lnTo>
                    <a:pt x="113" y="52"/>
                  </a:lnTo>
                  <a:lnTo>
                    <a:pt x="105" y="52"/>
                  </a:lnTo>
                  <a:lnTo>
                    <a:pt x="105" y="52"/>
                  </a:lnTo>
                  <a:lnTo>
                    <a:pt x="105" y="52"/>
                  </a:lnTo>
                  <a:lnTo>
                    <a:pt x="96" y="52"/>
                  </a:lnTo>
                  <a:lnTo>
                    <a:pt x="96" y="52"/>
                  </a:lnTo>
                  <a:lnTo>
                    <a:pt x="87" y="52"/>
                  </a:lnTo>
                  <a:lnTo>
                    <a:pt x="87" y="52"/>
                  </a:lnTo>
                  <a:lnTo>
                    <a:pt x="87" y="52"/>
                  </a:lnTo>
                  <a:lnTo>
                    <a:pt x="78" y="61"/>
                  </a:lnTo>
                  <a:lnTo>
                    <a:pt x="78" y="61"/>
                  </a:lnTo>
                  <a:lnTo>
                    <a:pt x="78" y="70"/>
                  </a:lnTo>
                  <a:lnTo>
                    <a:pt x="78" y="70"/>
                  </a:lnTo>
                  <a:lnTo>
                    <a:pt x="78" y="79"/>
                  </a:lnTo>
                  <a:lnTo>
                    <a:pt x="78" y="79"/>
                  </a:lnTo>
                  <a:lnTo>
                    <a:pt x="78" y="87"/>
                  </a:lnTo>
                  <a:lnTo>
                    <a:pt x="78" y="87"/>
                  </a:lnTo>
                  <a:lnTo>
                    <a:pt x="78" y="87"/>
                  </a:lnTo>
                  <a:lnTo>
                    <a:pt x="78" y="96"/>
                  </a:lnTo>
                  <a:lnTo>
                    <a:pt x="70" y="96"/>
                  </a:lnTo>
                  <a:lnTo>
                    <a:pt x="70" y="96"/>
                  </a:lnTo>
                  <a:lnTo>
                    <a:pt x="70" y="105"/>
                  </a:lnTo>
                  <a:lnTo>
                    <a:pt x="61" y="105"/>
                  </a:lnTo>
                  <a:lnTo>
                    <a:pt x="61" y="105"/>
                  </a:lnTo>
                  <a:lnTo>
                    <a:pt x="61" y="105"/>
                  </a:lnTo>
                  <a:lnTo>
                    <a:pt x="52" y="105"/>
                  </a:lnTo>
                  <a:lnTo>
                    <a:pt x="52" y="105"/>
                  </a:lnTo>
                  <a:lnTo>
                    <a:pt x="44" y="105"/>
                  </a:lnTo>
                  <a:lnTo>
                    <a:pt x="44" y="114"/>
                  </a:lnTo>
                  <a:lnTo>
                    <a:pt x="35" y="114"/>
                  </a:lnTo>
                  <a:lnTo>
                    <a:pt x="35" y="114"/>
                  </a:lnTo>
                  <a:lnTo>
                    <a:pt x="35" y="114"/>
                  </a:lnTo>
                  <a:lnTo>
                    <a:pt x="35" y="122"/>
                  </a:lnTo>
                  <a:lnTo>
                    <a:pt x="26" y="122"/>
                  </a:lnTo>
                  <a:lnTo>
                    <a:pt x="26" y="122"/>
                  </a:lnTo>
                  <a:lnTo>
                    <a:pt x="26" y="131"/>
                  </a:lnTo>
                  <a:lnTo>
                    <a:pt x="26" y="140"/>
                  </a:lnTo>
                  <a:lnTo>
                    <a:pt x="26" y="140"/>
                  </a:lnTo>
                  <a:lnTo>
                    <a:pt x="26" y="148"/>
                  </a:lnTo>
                  <a:lnTo>
                    <a:pt x="35" y="148"/>
                  </a:lnTo>
                  <a:lnTo>
                    <a:pt x="35" y="157"/>
                  </a:lnTo>
                  <a:lnTo>
                    <a:pt x="35" y="157"/>
                  </a:lnTo>
                  <a:lnTo>
                    <a:pt x="35" y="166"/>
                  </a:lnTo>
                  <a:lnTo>
                    <a:pt x="35" y="166"/>
                  </a:lnTo>
                  <a:lnTo>
                    <a:pt x="35" y="175"/>
                  </a:lnTo>
                  <a:lnTo>
                    <a:pt x="26" y="175"/>
                  </a:lnTo>
                  <a:lnTo>
                    <a:pt x="26" y="183"/>
                  </a:lnTo>
                  <a:lnTo>
                    <a:pt x="26" y="183"/>
                  </a:lnTo>
                  <a:lnTo>
                    <a:pt x="26" y="192"/>
                  </a:lnTo>
                  <a:lnTo>
                    <a:pt x="26" y="192"/>
                  </a:lnTo>
                  <a:lnTo>
                    <a:pt x="17" y="201"/>
                  </a:lnTo>
                  <a:lnTo>
                    <a:pt x="17" y="201"/>
                  </a:lnTo>
                  <a:lnTo>
                    <a:pt x="17" y="201"/>
                  </a:lnTo>
                  <a:lnTo>
                    <a:pt x="9" y="201"/>
                  </a:lnTo>
                  <a:lnTo>
                    <a:pt x="9" y="209"/>
                  </a:lnTo>
                  <a:lnTo>
                    <a:pt x="0" y="209"/>
                  </a:lnTo>
                  <a:lnTo>
                    <a:pt x="0" y="209"/>
                  </a:lnTo>
                  <a:close/>
                </a:path>
              </a:pathLst>
            </a:custGeom>
            <a:solidFill>
              <a:srgbClr val="00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
            <p:cNvSpPr/>
            <p:nvPr/>
          </p:nvSpPr>
          <p:spPr>
            <a:xfrm>
              <a:off x="2018160" y="1354320"/>
              <a:ext cx="788040" cy="75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
            <p:cNvSpPr/>
            <p:nvPr/>
          </p:nvSpPr>
          <p:spPr>
            <a:xfrm>
              <a:off x="2314080" y="135252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adada"/>
                  </a:solidFill>
                  <a:latin typeface="Arial Narrow"/>
                </a:rPr>
                <a:t>?</a:t>
              </a:r>
              <a:endParaRPr b="0" lang="en-US" sz="3000" spc="-1" strike="noStrike">
                <a:solidFill>
                  <a:srgbClr val="000000"/>
                </a:solidFill>
                <a:latin typeface="Arial"/>
              </a:endParaRPr>
            </a:p>
          </p:txBody>
        </p:sp>
        <p:sp>
          <p:nvSpPr>
            <p:cNvPr id="3150" name=""/>
            <p:cNvSpPr/>
            <p:nvPr/>
          </p:nvSpPr>
          <p:spPr>
            <a:xfrm>
              <a:off x="1552320" y="1512000"/>
              <a:ext cx="299880" cy="2037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
            <p:cNvSpPr/>
            <p:nvPr/>
          </p:nvSpPr>
          <p:spPr>
            <a:xfrm>
              <a:off x="1552320" y="2029320"/>
              <a:ext cx="299880" cy="2055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2" name=""/>
            <p:cNvSpPr/>
            <p:nvPr/>
          </p:nvSpPr>
          <p:spPr>
            <a:xfrm>
              <a:off x="1869120" y="1807200"/>
              <a:ext cx="375840" cy="20412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
            <p:cNvSpPr/>
            <p:nvPr/>
          </p:nvSpPr>
          <p:spPr>
            <a:xfrm>
              <a:off x="1710720" y="1660680"/>
              <a:ext cx="297720" cy="2037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
            <p:cNvSpPr/>
            <p:nvPr/>
          </p:nvSpPr>
          <p:spPr>
            <a:xfrm>
              <a:off x="1710720" y="2029320"/>
              <a:ext cx="377640" cy="3506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5" name=""/>
            <p:cNvGrpSpPr/>
            <p:nvPr/>
          </p:nvGrpSpPr>
          <p:grpSpPr>
            <a:xfrm>
              <a:off x="2185920" y="1807200"/>
              <a:ext cx="374040" cy="648000"/>
              <a:chOff x="2185920" y="1807200"/>
              <a:chExt cx="374040" cy="648000"/>
            </a:xfrm>
          </p:grpSpPr>
          <p:sp>
            <p:nvSpPr>
              <p:cNvPr id="3156" name=""/>
              <p:cNvSpPr/>
              <p:nvPr/>
            </p:nvSpPr>
            <p:spPr>
              <a:xfrm>
                <a:off x="2185920" y="2103480"/>
                <a:ext cx="295200" cy="2055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
              <p:cNvSpPr/>
              <p:nvPr/>
            </p:nvSpPr>
            <p:spPr>
              <a:xfrm>
                <a:off x="2262600" y="2252160"/>
                <a:ext cx="297360" cy="20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a:off x="2262600" y="1807200"/>
                <a:ext cx="218520" cy="2793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59" name=""/>
          <p:cNvGrpSpPr/>
          <p:nvPr/>
        </p:nvGrpSpPr>
        <p:grpSpPr>
          <a:xfrm>
            <a:off x="3206880" y="0"/>
            <a:ext cx="844200" cy="3844080"/>
            <a:chOff x="3206880" y="0"/>
            <a:chExt cx="844200" cy="3844080"/>
          </a:xfrm>
        </p:grpSpPr>
        <p:sp>
          <p:nvSpPr>
            <p:cNvPr id="3160" name=""/>
            <p:cNvSpPr/>
            <p:nvPr/>
          </p:nvSpPr>
          <p:spPr>
            <a:xfrm>
              <a:off x="3266640" y="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1" name=""/>
            <p:cNvSpPr/>
            <p:nvPr/>
          </p:nvSpPr>
          <p:spPr>
            <a:xfrm>
              <a:off x="3266640" y="1908720"/>
              <a:ext cx="360" cy="273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
            <p:cNvSpPr/>
            <p:nvPr/>
          </p:nvSpPr>
          <p:spPr>
            <a:xfrm>
              <a:off x="3266640" y="2929680"/>
              <a:ext cx="360" cy="273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3" name=""/>
            <p:cNvGrpSpPr/>
            <p:nvPr/>
          </p:nvGrpSpPr>
          <p:grpSpPr>
            <a:xfrm>
              <a:off x="3206880" y="187560"/>
              <a:ext cx="844200" cy="736560"/>
              <a:chOff x="3206880" y="187560"/>
              <a:chExt cx="844200" cy="736560"/>
            </a:xfrm>
          </p:grpSpPr>
          <p:sp>
            <p:nvSpPr>
              <p:cNvPr id="3164" name=""/>
              <p:cNvSpPr/>
              <p:nvPr/>
            </p:nvSpPr>
            <p:spPr>
              <a:xfrm>
                <a:off x="3206880" y="200880"/>
                <a:ext cx="844200" cy="723240"/>
              </a:xfrm>
              <a:custGeom>
                <a:avLst/>
                <a:gdLst/>
                <a:ahLst/>
                <a:rect l="l" t="t" r="r" b="b"/>
                <a:pathLst>
                  <a:path w="393" h="358">
                    <a:moveTo>
                      <a:pt x="393" y="87"/>
                    </a:moveTo>
                    <a:lnTo>
                      <a:pt x="393" y="0"/>
                    </a:lnTo>
                    <a:lnTo>
                      <a:pt x="0" y="0"/>
                    </a:lnTo>
                    <a:lnTo>
                      <a:pt x="0" y="358"/>
                    </a:lnTo>
                    <a:lnTo>
                      <a:pt x="35" y="358"/>
                    </a:lnTo>
                    <a:lnTo>
                      <a:pt x="35" y="349"/>
                    </a:lnTo>
                    <a:lnTo>
                      <a:pt x="35" y="340"/>
                    </a:lnTo>
                    <a:lnTo>
                      <a:pt x="35" y="340"/>
                    </a:lnTo>
                    <a:lnTo>
                      <a:pt x="35" y="332"/>
                    </a:lnTo>
                    <a:lnTo>
                      <a:pt x="26" y="323"/>
                    </a:lnTo>
                    <a:lnTo>
                      <a:pt x="26" y="314"/>
                    </a:lnTo>
                    <a:lnTo>
                      <a:pt x="26" y="305"/>
                    </a:lnTo>
                    <a:lnTo>
                      <a:pt x="26" y="305"/>
                    </a:lnTo>
                    <a:lnTo>
                      <a:pt x="35" y="297"/>
                    </a:lnTo>
                    <a:lnTo>
                      <a:pt x="35" y="288"/>
                    </a:lnTo>
                    <a:lnTo>
                      <a:pt x="35" y="288"/>
                    </a:lnTo>
                    <a:lnTo>
                      <a:pt x="44" y="279"/>
                    </a:lnTo>
                    <a:lnTo>
                      <a:pt x="53" y="279"/>
                    </a:lnTo>
                    <a:lnTo>
                      <a:pt x="53" y="271"/>
                    </a:lnTo>
                    <a:lnTo>
                      <a:pt x="61" y="271"/>
                    </a:lnTo>
                    <a:lnTo>
                      <a:pt x="70" y="271"/>
                    </a:lnTo>
                    <a:lnTo>
                      <a:pt x="79" y="271"/>
                    </a:lnTo>
                    <a:lnTo>
                      <a:pt x="87" y="271"/>
                    </a:lnTo>
                    <a:lnTo>
                      <a:pt x="87" y="279"/>
                    </a:lnTo>
                    <a:lnTo>
                      <a:pt x="96" y="279"/>
                    </a:lnTo>
                    <a:lnTo>
                      <a:pt x="105" y="288"/>
                    </a:lnTo>
                    <a:lnTo>
                      <a:pt x="105" y="288"/>
                    </a:lnTo>
                    <a:lnTo>
                      <a:pt x="114" y="297"/>
                    </a:lnTo>
                    <a:lnTo>
                      <a:pt x="114" y="305"/>
                    </a:lnTo>
                    <a:lnTo>
                      <a:pt x="114" y="305"/>
                    </a:lnTo>
                    <a:lnTo>
                      <a:pt x="114" y="314"/>
                    </a:lnTo>
                    <a:lnTo>
                      <a:pt x="114" y="323"/>
                    </a:lnTo>
                    <a:lnTo>
                      <a:pt x="114" y="323"/>
                    </a:lnTo>
                    <a:lnTo>
                      <a:pt x="114" y="332"/>
                    </a:lnTo>
                    <a:lnTo>
                      <a:pt x="105" y="340"/>
                    </a:lnTo>
                    <a:lnTo>
                      <a:pt x="105" y="340"/>
                    </a:lnTo>
                    <a:lnTo>
                      <a:pt x="105" y="349"/>
                    </a:lnTo>
                    <a:lnTo>
                      <a:pt x="105" y="358"/>
                    </a:lnTo>
                    <a:lnTo>
                      <a:pt x="175" y="358"/>
                    </a:lnTo>
                    <a:lnTo>
                      <a:pt x="175" y="340"/>
                    </a:lnTo>
                    <a:lnTo>
                      <a:pt x="175" y="332"/>
                    </a:lnTo>
                    <a:lnTo>
                      <a:pt x="175" y="323"/>
                    </a:lnTo>
                    <a:lnTo>
                      <a:pt x="175" y="323"/>
                    </a:lnTo>
                    <a:lnTo>
                      <a:pt x="175" y="314"/>
                    </a:lnTo>
                    <a:lnTo>
                      <a:pt x="175" y="305"/>
                    </a:lnTo>
                    <a:lnTo>
                      <a:pt x="183" y="305"/>
                    </a:lnTo>
                    <a:lnTo>
                      <a:pt x="183" y="297"/>
                    </a:lnTo>
                    <a:lnTo>
                      <a:pt x="183" y="297"/>
                    </a:lnTo>
                    <a:lnTo>
                      <a:pt x="192" y="288"/>
                    </a:lnTo>
                    <a:lnTo>
                      <a:pt x="192" y="288"/>
                    </a:lnTo>
                    <a:lnTo>
                      <a:pt x="201" y="288"/>
                    </a:lnTo>
                    <a:lnTo>
                      <a:pt x="201" y="288"/>
                    </a:lnTo>
                    <a:lnTo>
                      <a:pt x="210" y="288"/>
                    </a:lnTo>
                    <a:lnTo>
                      <a:pt x="210" y="288"/>
                    </a:lnTo>
                    <a:lnTo>
                      <a:pt x="218" y="288"/>
                    </a:lnTo>
                    <a:lnTo>
                      <a:pt x="227" y="288"/>
                    </a:lnTo>
                    <a:lnTo>
                      <a:pt x="227" y="288"/>
                    </a:lnTo>
                    <a:lnTo>
                      <a:pt x="236" y="288"/>
                    </a:lnTo>
                    <a:lnTo>
                      <a:pt x="244" y="288"/>
                    </a:lnTo>
                    <a:lnTo>
                      <a:pt x="244" y="288"/>
                    </a:lnTo>
                    <a:lnTo>
                      <a:pt x="253" y="288"/>
                    </a:lnTo>
                    <a:lnTo>
                      <a:pt x="262" y="288"/>
                    </a:lnTo>
                    <a:lnTo>
                      <a:pt x="262" y="279"/>
                    </a:lnTo>
                    <a:lnTo>
                      <a:pt x="271" y="279"/>
                    </a:lnTo>
                    <a:lnTo>
                      <a:pt x="271" y="271"/>
                    </a:lnTo>
                    <a:lnTo>
                      <a:pt x="271" y="271"/>
                    </a:lnTo>
                    <a:lnTo>
                      <a:pt x="271" y="262"/>
                    </a:lnTo>
                    <a:lnTo>
                      <a:pt x="271" y="253"/>
                    </a:lnTo>
                    <a:lnTo>
                      <a:pt x="271" y="253"/>
                    </a:lnTo>
                    <a:lnTo>
                      <a:pt x="271" y="244"/>
                    </a:lnTo>
                    <a:lnTo>
                      <a:pt x="271" y="236"/>
                    </a:lnTo>
                    <a:lnTo>
                      <a:pt x="271" y="236"/>
                    </a:lnTo>
                    <a:lnTo>
                      <a:pt x="279" y="227"/>
                    </a:lnTo>
                    <a:lnTo>
                      <a:pt x="279" y="227"/>
                    </a:lnTo>
                    <a:lnTo>
                      <a:pt x="279" y="218"/>
                    </a:lnTo>
                    <a:lnTo>
                      <a:pt x="288" y="218"/>
                    </a:lnTo>
                    <a:lnTo>
                      <a:pt x="297" y="218"/>
                    </a:lnTo>
                    <a:lnTo>
                      <a:pt x="297" y="218"/>
                    </a:lnTo>
                    <a:lnTo>
                      <a:pt x="305" y="218"/>
                    </a:lnTo>
                    <a:lnTo>
                      <a:pt x="314" y="218"/>
                    </a:lnTo>
                    <a:lnTo>
                      <a:pt x="314" y="209"/>
                    </a:lnTo>
                    <a:lnTo>
                      <a:pt x="323" y="209"/>
                    </a:lnTo>
                    <a:lnTo>
                      <a:pt x="332" y="209"/>
                    </a:lnTo>
                    <a:lnTo>
                      <a:pt x="332" y="209"/>
                    </a:lnTo>
                    <a:lnTo>
                      <a:pt x="340" y="201"/>
                    </a:lnTo>
                    <a:lnTo>
                      <a:pt x="340" y="201"/>
                    </a:lnTo>
                    <a:lnTo>
                      <a:pt x="340" y="192"/>
                    </a:lnTo>
                    <a:lnTo>
                      <a:pt x="349" y="192"/>
                    </a:lnTo>
                    <a:lnTo>
                      <a:pt x="349" y="183"/>
                    </a:lnTo>
                    <a:lnTo>
                      <a:pt x="349" y="183"/>
                    </a:lnTo>
                    <a:lnTo>
                      <a:pt x="349" y="175"/>
                    </a:lnTo>
                    <a:lnTo>
                      <a:pt x="349" y="166"/>
                    </a:lnTo>
                    <a:lnTo>
                      <a:pt x="349" y="157"/>
                    </a:lnTo>
                    <a:lnTo>
                      <a:pt x="340" y="148"/>
                    </a:lnTo>
                    <a:lnTo>
                      <a:pt x="340" y="148"/>
                    </a:lnTo>
                    <a:lnTo>
                      <a:pt x="340" y="140"/>
                    </a:lnTo>
                    <a:lnTo>
                      <a:pt x="340" y="131"/>
                    </a:lnTo>
                    <a:lnTo>
                      <a:pt x="340" y="131"/>
                    </a:lnTo>
                    <a:lnTo>
                      <a:pt x="340" y="122"/>
                    </a:lnTo>
                    <a:lnTo>
                      <a:pt x="349" y="113"/>
                    </a:lnTo>
                    <a:lnTo>
                      <a:pt x="349" y="113"/>
                    </a:lnTo>
                    <a:lnTo>
                      <a:pt x="349" y="105"/>
                    </a:lnTo>
                    <a:lnTo>
                      <a:pt x="358" y="105"/>
                    </a:lnTo>
                    <a:lnTo>
                      <a:pt x="358" y="96"/>
                    </a:lnTo>
                    <a:lnTo>
                      <a:pt x="367" y="96"/>
                    </a:lnTo>
                    <a:lnTo>
                      <a:pt x="367" y="96"/>
                    </a:lnTo>
                    <a:lnTo>
                      <a:pt x="375" y="87"/>
                    </a:lnTo>
                    <a:lnTo>
                      <a:pt x="384" y="87"/>
                    </a:lnTo>
                    <a:lnTo>
                      <a:pt x="384" y="87"/>
                    </a:lnTo>
                    <a:lnTo>
                      <a:pt x="393" y="87"/>
                    </a:lnTo>
                    <a:close/>
                  </a:path>
                </a:pathLst>
              </a:custGeom>
              <a:solidFill>
                <a:srgbClr val="ccff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
              <p:cNvSpPr/>
              <p:nvPr/>
            </p:nvSpPr>
            <p:spPr>
              <a:xfrm>
                <a:off x="3278880" y="187560"/>
                <a:ext cx="348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Narrow"/>
                  </a:rPr>
                  <a:t>  </a:t>
                </a:r>
                <a:r>
                  <a:rPr b="1" lang="en-US" sz="3000" spc="-1" strike="noStrike">
                    <a:solidFill>
                      <a:srgbClr val="333399"/>
                    </a:solidFill>
                    <a:latin typeface="Arial Narrow"/>
                  </a:rPr>
                  <a:t>$</a:t>
                </a:r>
                <a:endParaRPr b="0" lang="en-US" sz="3000" spc="-1" strike="noStrike">
                  <a:solidFill>
                    <a:srgbClr val="000000"/>
                  </a:solidFill>
                  <a:latin typeface="Arial"/>
                </a:endParaRPr>
              </a:p>
            </p:txBody>
          </p:sp>
          <p:grpSp>
            <p:nvGrpSpPr>
              <p:cNvPr id="3166" name=""/>
              <p:cNvGrpSpPr/>
              <p:nvPr/>
            </p:nvGrpSpPr>
            <p:grpSpPr>
              <a:xfrm>
                <a:off x="3254040" y="261000"/>
                <a:ext cx="656640" cy="479520"/>
                <a:chOff x="3254040" y="261000"/>
                <a:chExt cx="656640" cy="479520"/>
              </a:xfrm>
            </p:grpSpPr>
            <p:sp>
              <p:nvSpPr>
                <p:cNvPr id="3167" name=""/>
                <p:cNvSpPr/>
                <p:nvPr/>
              </p:nvSpPr>
              <p:spPr>
                <a:xfrm>
                  <a:off x="3476880" y="455040"/>
                  <a:ext cx="433800" cy="28548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
                <p:cNvSpPr/>
                <p:nvPr/>
              </p:nvSpPr>
              <p:spPr>
                <a:xfrm>
                  <a:off x="3254040" y="261000"/>
                  <a:ext cx="431280" cy="28512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69" name=""/>
            <p:cNvGrpSpPr/>
            <p:nvPr/>
          </p:nvGrpSpPr>
          <p:grpSpPr>
            <a:xfrm>
              <a:off x="3220200" y="1084680"/>
              <a:ext cx="815400" cy="817200"/>
              <a:chOff x="3220200" y="1084680"/>
              <a:chExt cx="815400" cy="817200"/>
            </a:xfrm>
          </p:grpSpPr>
          <p:sp>
            <p:nvSpPr>
              <p:cNvPr id="3170" name=""/>
              <p:cNvSpPr/>
              <p:nvPr/>
            </p:nvSpPr>
            <p:spPr>
              <a:xfrm>
                <a:off x="3220200" y="1084680"/>
                <a:ext cx="815400" cy="817200"/>
              </a:xfrm>
              <a:custGeom>
                <a:avLst/>
                <a:gdLst/>
                <a:ahLst/>
                <a:rect l="l" t="t" r="r" b="b"/>
                <a:pathLst>
                  <a:path w="393" h="419">
                    <a:moveTo>
                      <a:pt x="393" y="349"/>
                    </a:moveTo>
                    <a:lnTo>
                      <a:pt x="393" y="419"/>
                    </a:lnTo>
                    <a:lnTo>
                      <a:pt x="0" y="419"/>
                    </a:lnTo>
                    <a:lnTo>
                      <a:pt x="0" y="87"/>
                    </a:lnTo>
                    <a:lnTo>
                      <a:pt x="35" y="87"/>
                    </a:lnTo>
                    <a:lnTo>
                      <a:pt x="35" y="78"/>
                    </a:lnTo>
                    <a:lnTo>
                      <a:pt x="35" y="78"/>
                    </a:lnTo>
                    <a:lnTo>
                      <a:pt x="35" y="70"/>
                    </a:lnTo>
                    <a:lnTo>
                      <a:pt x="35" y="70"/>
                    </a:lnTo>
                    <a:lnTo>
                      <a:pt x="35" y="61"/>
                    </a:lnTo>
                    <a:lnTo>
                      <a:pt x="35" y="61"/>
                    </a:lnTo>
                    <a:lnTo>
                      <a:pt x="26" y="52"/>
                    </a:lnTo>
                    <a:lnTo>
                      <a:pt x="26" y="44"/>
                    </a:lnTo>
                    <a:lnTo>
                      <a:pt x="26" y="44"/>
                    </a:lnTo>
                    <a:lnTo>
                      <a:pt x="26" y="35"/>
                    </a:lnTo>
                    <a:lnTo>
                      <a:pt x="26" y="35"/>
                    </a:lnTo>
                    <a:lnTo>
                      <a:pt x="26" y="26"/>
                    </a:lnTo>
                    <a:lnTo>
                      <a:pt x="35" y="26"/>
                    </a:lnTo>
                    <a:lnTo>
                      <a:pt x="35" y="17"/>
                    </a:lnTo>
                    <a:lnTo>
                      <a:pt x="35" y="17"/>
                    </a:lnTo>
                    <a:lnTo>
                      <a:pt x="44" y="9"/>
                    </a:lnTo>
                    <a:lnTo>
                      <a:pt x="44" y="9"/>
                    </a:lnTo>
                    <a:lnTo>
                      <a:pt x="53" y="0"/>
                    </a:lnTo>
                    <a:lnTo>
                      <a:pt x="53" y="0"/>
                    </a:lnTo>
                    <a:lnTo>
                      <a:pt x="61" y="0"/>
                    </a:lnTo>
                    <a:lnTo>
                      <a:pt x="70" y="0"/>
                    </a:lnTo>
                    <a:lnTo>
                      <a:pt x="70" y="0"/>
                    </a:lnTo>
                    <a:lnTo>
                      <a:pt x="79" y="0"/>
                    </a:lnTo>
                    <a:lnTo>
                      <a:pt x="79" y="0"/>
                    </a:lnTo>
                    <a:lnTo>
                      <a:pt x="87" y="0"/>
                    </a:lnTo>
                    <a:lnTo>
                      <a:pt x="87" y="0"/>
                    </a:lnTo>
                    <a:lnTo>
                      <a:pt x="96" y="0"/>
                    </a:lnTo>
                    <a:lnTo>
                      <a:pt x="96" y="9"/>
                    </a:lnTo>
                    <a:lnTo>
                      <a:pt x="96" y="9"/>
                    </a:lnTo>
                    <a:lnTo>
                      <a:pt x="105" y="9"/>
                    </a:lnTo>
                    <a:lnTo>
                      <a:pt x="105" y="17"/>
                    </a:lnTo>
                    <a:lnTo>
                      <a:pt x="114" y="17"/>
                    </a:lnTo>
                    <a:lnTo>
                      <a:pt x="114" y="26"/>
                    </a:lnTo>
                    <a:lnTo>
                      <a:pt x="114" y="35"/>
                    </a:lnTo>
                    <a:lnTo>
                      <a:pt x="114" y="35"/>
                    </a:lnTo>
                    <a:lnTo>
                      <a:pt x="114" y="44"/>
                    </a:lnTo>
                    <a:lnTo>
                      <a:pt x="114" y="52"/>
                    </a:lnTo>
                    <a:lnTo>
                      <a:pt x="114" y="52"/>
                    </a:lnTo>
                    <a:lnTo>
                      <a:pt x="114" y="61"/>
                    </a:lnTo>
                    <a:lnTo>
                      <a:pt x="114" y="70"/>
                    </a:lnTo>
                    <a:lnTo>
                      <a:pt x="105" y="70"/>
                    </a:lnTo>
                    <a:lnTo>
                      <a:pt x="105" y="78"/>
                    </a:lnTo>
                    <a:lnTo>
                      <a:pt x="114" y="78"/>
                    </a:lnTo>
                    <a:lnTo>
                      <a:pt x="114" y="78"/>
                    </a:lnTo>
                    <a:lnTo>
                      <a:pt x="175" y="78"/>
                    </a:lnTo>
                    <a:lnTo>
                      <a:pt x="175" y="96"/>
                    </a:lnTo>
                    <a:lnTo>
                      <a:pt x="175" y="105"/>
                    </a:lnTo>
                    <a:lnTo>
                      <a:pt x="175" y="113"/>
                    </a:lnTo>
                    <a:lnTo>
                      <a:pt x="175" y="113"/>
                    </a:lnTo>
                    <a:lnTo>
                      <a:pt x="175" y="122"/>
                    </a:lnTo>
                    <a:lnTo>
                      <a:pt x="175" y="131"/>
                    </a:lnTo>
                    <a:lnTo>
                      <a:pt x="175" y="139"/>
                    </a:lnTo>
                    <a:lnTo>
                      <a:pt x="183" y="139"/>
                    </a:lnTo>
                    <a:lnTo>
                      <a:pt x="183" y="139"/>
                    </a:lnTo>
                    <a:lnTo>
                      <a:pt x="192" y="148"/>
                    </a:lnTo>
                    <a:lnTo>
                      <a:pt x="192" y="148"/>
                    </a:lnTo>
                    <a:lnTo>
                      <a:pt x="201" y="148"/>
                    </a:lnTo>
                    <a:lnTo>
                      <a:pt x="201" y="148"/>
                    </a:lnTo>
                    <a:lnTo>
                      <a:pt x="210" y="148"/>
                    </a:lnTo>
                    <a:lnTo>
                      <a:pt x="210" y="148"/>
                    </a:lnTo>
                    <a:lnTo>
                      <a:pt x="218" y="148"/>
                    </a:lnTo>
                    <a:lnTo>
                      <a:pt x="227" y="148"/>
                    </a:lnTo>
                    <a:lnTo>
                      <a:pt x="227" y="148"/>
                    </a:lnTo>
                    <a:lnTo>
                      <a:pt x="236" y="148"/>
                    </a:lnTo>
                    <a:lnTo>
                      <a:pt x="244" y="148"/>
                    </a:lnTo>
                    <a:lnTo>
                      <a:pt x="244" y="148"/>
                    </a:lnTo>
                    <a:lnTo>
                      <a:pt x="253" y="148"/>
                    </a:lnTo>
                    <a:lnTo>
                      <a:pt x="262" y="148"/>
                    </a:lnTo>
                    <a:lnTo>
                      <a:pt x="262" y="157"/>
                    </a:lnTo>
                    <a:lnTo>
                      <a:pt x="271" y="157"/>
                    </a:lnTo>
                    <a:lnTo>
                      <a:pt x="271" y="166"/>
                    </a:lnTo>
                    <a:lnTo>
                      <a:pt x="271" y="166"/>
                    </a:lnTo>
                    <a:lnTo>
                      <a:pt x="271" y="174"/>
                    </a:lnTo>
                    <a:lnTo>
                      <a:pt x="271" y="183"/>
                    </a:lnTo>
                    <a:lnTo>
                      <a:pt x="271" y="183"/>
                    </a:lnTo>
                    <a:lnTo>
                      <a:pt x="271" y="192"/>
                    </a:lnTo>
                    <a:lnTo>
                      <a:pt x="271" y="201"/>
                    </a:lnTo>
                    <a:lnTo>
                      <a:pt x="271" y="201"/>
                    </a:lnTo>
                    <a:lnTo>
                      <a:pt x="279" y="209"/>
                    </a:lnTo>
                    <a:lnTo>
                      <a:pt x="279" y="209"/>
                    </a:lnTo>
                    <a:lnTo>
                      <a:pt x="279" y="218"/>
                    </a:lnTo>
                    <a:lnTo>
                      <a:pt x="288" y="218"/>
                    </a:lnTo>
                    <a:lnTo>
                      <a:pt x="297" y="218"/>
                    </a:lnTo>
                    <a:lnTo>
                      <a:pt x="297" y="218"/>
                    </a:lnTo>
                    <a:lnTo>
                      <a:pt x="305" y="218"/>
                    </a:lnTo>
                    <a:lnTo>
                      <a:pt x="314" y="227"/>
                    </a:lnTo>
                    <a:lnTo>
                      <a:pt x="314" y="227"/>
                    </a:lnTo>
                    <a:lnTo>
                      <a:pt x="323" y="227"/>
                    </a:lnTo>
                    <a:lnTo>
                      <a:pt x="332" y="227"/>
                    </a:lnTo>
                    <a:lnTo>
                      <a:pt x="332" y="227"/>
                    </a:lnTo>
                    <a:lnTo>
                      <a:pt x="340" y="235"/>
                    </a:lnTo>
                    <a:lnTo>
                      <a:pt x="340" y="235"/>
                    </a:lnTo>
                    <a:lnTo>
                      <a:pt x="340" y="244"/>
                    </a:lnTo>
                    <a:lnTo>
                      <a:pt x="349" y="244"/>
                    </a:lnTo>
                    <a:lnTo>
                      <a:pt x="349" y="253"/>
                    </a:lnTo>
                    <a:lnTo>
                      <a:pt x="349" y="262"/>
                    </a:lnTo>
                    <a:lnTo>
                      <a:pt x="349" y="262"/>
                    </a:lnTo>
                    <a:lnTo>
                      <a:pt x="349" y="270"/>
                    </a:lnTo>
                    <a:lnTo>
                      <a:pt x="349" y="279"/>
                    </a:lnTo>
                    <a:lnTo>
                      <a:pt x="340" y="288"/>
                    </a:lnTo>
                    <a:lnTo>
                      <a:pt x="340" y="288"/>
                    </a:lnTo>
                    <a:lnTo>
                      <a:pt x="340" y="296"/>
                    </a:lnTo>
                    <a:lnTo>
                      <a:pt x="340" y="305"/>
                    </a:lnTo>
                    <a:lnTo>
                      <a:pt x="340" y="314"/>
                    </a:lnTo>
                    <a:lnTo>
                      <a:pt x="340" y="314"/>
                    </a:lnTo>
                    <a:lnTo>
                      <a:pt x="349" y="323"/>
                    </a:lnTo>
                    <a:lnTo>
                      <a:pt x="349" y="323"/>
                    </a:lnTo>
                    <a:lnTo>
                      <a:pt x="349" y="331"/>
                    </a:lnTo>
                    <a:lnTo>
                      <a:pt x="358" y="331"/>
                    </a:lnTo>
                    <a:lnTo>
                      <a:pt x="358" y="340"/>
                    </a:lnTo>
                    <a:lnTo>
                      <a:pt x="367" y="340"/>
                    </a:lnTo>
                    <a:lnTo>
                      <a:pt x="367" y="340"/>
                    </a:lnTo>
                    <a:lnTo>
                      <a:pt x="375" y="349"/>
                    </a:lnTo>
                    <a:lnTo>
                      <a:pt x="384" y="349"/>
                    </a:lnTo>
                    <a:lnTo>
                      <a:pt x="384" y="349"/>
                    </a:lnTo>
                    <a:lnTo>
                      <a:pt x="393" y="349"/>
                    </a:lnTo>
                    <a:close/>
                  </a:path>
                </a:pathLst>
              </a:custGeom>
              <a:solidFill>
                <a:srgbClr val="ccffcc"/>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1" name=""/>
              <p:cNvSpPr/>
              <p:nvPr/>
            </p:nvSpPr>
            <p:spPr>
              <a:xfrm>
                <a:off x="3366360" y="1401120"/>
                <a:ext cx="2613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Narrow"/>
                  </a:rPr>
                  <a:t> </a:t>
                </a:r>
                <a:r>
                  <a:rPr b="1" lang="en-US" sz="3000" spc="-1" strike="noStrike">
                    <a:solidFill>
                      <a:srgbClr val="000099"/>
                    </a:solidFill>
                    <a:latin typeface="Arial Narrow"/>
                  </a:rPr>
                  <a:t>$</a:t>
                </a:r>
                <a:endParaRPr b="0" lang="en-US" sz="3000" spc="-1" strike="noStrike">
                  <a:solidFill>
                    <a:srgbClr val="000000"/>
                  </a:solidFill>
                  <a:latin typeface="Arial"/>
                </a:endParaRPr>
              </a:p>
            </p:txBody>
          </p:sp>
          <p:grpSp>
            <p:nvGrpSpPr>
              <p:cNvPr id="3172" name=""/>
              <p:cNvGrpSpPr/>
              <p:nvPr/>
            </p:nvGrpSpPr>
            <p:grpSpPr>
              <a:xfrm>
                <a:off x="3265920" y="1341720"/>
                <a:ext cx="707760" cy="460800"/>
                <a:chOff x="3265920" y="1341720"/>
                <a:chExt cx="707760" cy="460800"/>
              </a:xfrm>
            </p:grpSpPr>
            <p:sp>
              <p:nvSpPr>
                <p:cNvPr id="3173" name=""/>
                <p:cNvSpPr/>
                <p:nvPr/>
              </p:nvSpPr>
              <p:spPr>
                <a:xfrm>
                  <a:off x="3465000" y="1341720"/>
                  <a:ext cx="508680" cy="46080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4" name=""/>
                <p:cNvSpPr/>
                <p:nvPr/>
              </p:nvSpPr>
              <p:spPr>
                <a:xfrm>
                  <a:off x="3265920" y="1341720"/>
                  <a:ext cx="398520" cy="27432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75" name=""/>
            <p:cNvGrpSpPr/>
            <p:nvPr/>
          </p:nvGrpSpPr>
          <p:grpSpPr>
            <a:xfrm>
              <a:off x="3237840" y="2090160"/>
              <a:ext cx="779760" cy="853560"/>
              <a:chOff x="3237840" y="2090160"/>
              <a:chExt cx="779760" cy="853560"/>
            </a:xfrm>
          </p:grpSpPr>
          <p:sp>
            <p:nvSpPr>
              <p:cNvPr id="3176" name=""/>
              <p:cNvSpPr/>
              <p:nvPr/>
            </p:nvSpPr>
            <p:spPr>
              <a:xfrm>
                <a:off x="3237840" y="2090160"/>
                <a:ext cx="755280" cy="853560"/>
              </a:xfrm>
              <a:custGeom>
                <a:avLst/>
                <a:gdLst/>
                <a:ahLst/>
                <a:rect l="l" t="t" r="r" b="b"/>
                <a:pathLst>
                  <a:path w="436" h="523">
                    <a:moveTo>
                      <a:pt x="166" y="113"/>
                    </a:moveTo>
                    <a:lnTo>
                      <a:pt x="166" y="105"/>
                    </a:lnTo>
                    <a:lnTo>
                      <a:pt x="175" y="96"/>
                    </a:lnTo>
                    <a:lnTo>
                      <a:pt x="175" y="96"/>
                    </a:lnTo>
                    <a:lnTo>
                      <a:pt x="175" y="87"/>
                    </a:lnTo>
                    <a:lnTo>
                      <a:pt x="175" y="70"/>
                    </a:lnTo>
                    <a:lnTo>
                      <a:pt x="166" y="70"/>
                    </a:lnTo>
                    <a:lnTo>
                      <a:pt x="166" y="52"/>
                    </a:lnTo>
                    <a:lnTo>
                      <a:pt x="166" y="44"/>
                    </a:lnTo>
                    <a:lnTo>
                      <a:pt x="166" y="44"/>
                    </a:lnTo>
                    <a:lnTo>
                      <a:pt x="166" y="35"/>
                    </a:lnTo>
                    <a:lnTo>
                      <a:pt x="175" y="26"/>
                    </a:lnTo>
                    <a:lnTo>
                      <a:pt x="175" y="17"/>
                    </a:lnTo>
                    <a:lnTo>
                      <a:pt x="183" y="9"/>
                    </a:lnTo>
                    <a:lnTo>
                      <a:pt x="192" y="0"/>
                    </a:lnTo>
                    <a:lnTo>
                      <a:pt x="192" y="0"/>
                    </a:lnTo>
                    <a:lnTo>
                      <a:pt x="201" y="0"/>
                    </a:lnTo>
                    <a:lnTo>
                      <a:pt x="218" y="0"/>
                    </a:lnTo>
                    <a:lnTo>
                      <a:pt x="227" y="0"/>
                    </a:lnTo>
                    <a:lnTo>
                      <a:pt x="236" y="0"/>
                    </a:lnTo>
                    <a:lnTo>
                      <a:pt x="244" y="0"/>
                    </a:lnTo>
                    <a:lnTo>
                      <a:pt x="244" y="9"/>
                    </a:lnTo>
                    <a:lnTo>
                      <a:pt x="253" y="9"/>
                    </a:lnTo>
                    <a:lnTo>
                      <a:pt x="253" y="17"/>
                    </a:lnTo>
                    <a:lnTo>
                      <a:pt x="262" y="17"/>
                    </a:lnTo>
                    <a:lnTo>
                      <a:pt x="262" y="26"/>
                    </a:lnTo>
                    <a:lnTo>
                      <a:pt x="271" y="35"/>
                    </a:lnTo>
                    <a:lnTo>
                      <a:pt x="271" y="44"/>
                    </a:lnTo>
                    <a:lnTo>
                      <a:pt x="271" y="52"/>
                    </a:lnTo>
                    <a:lnTo>
                      <a:pt x="271" y="61"/>
                    </a:lnTo>
                    <a:lnTo>
                      <a:pt x="262" y="61"/>
                    </a:lnTo>
                    <a:lnTo>
                      <a:pt x="262" y="70"/>
                    </a:lnTo>
                    <a:lnTo>
                      <a:pt x="262" y="87"/>
                    </a:lnTo>
                    <a:lnTo>
                      <a:pt x="262" y="87"/>
                    </a:lnTo>
                    <a:lnTo>
                      <a:pt x="262" y="96"/>
                    </a:lnTo>
                    <a:lnTo>
                      <a:pt x="262" y="96"/>
                    </a:lnTo>
                    <a:lnTo>
                      <a:pt x="271" y="105"/>
                    </a:lnTo>
                    <a:lnTo>
                      <a:pt x="271" y="113"/>
                    </a:lnTo>
                    <a:lnTo>
                      <a:pt x="279" y="113"/>
                    </a:lnTo>
                    <a:lnTo>
                      <a:pt x="288" y="122"/>
                    </a:lnTo>
                    <a:lnTo>
                      <a:pt x="297" y="122"/>
                    </a:lnTo>
                    <a:lnTo>
                      <a:pt x="297" y="122"/>
                    </a:lnTo>
                    <a:lnTo>
                      <a:pt x="305" y="122"/>
                    </a:lnTo>
                    <a:lnTo>
                      <a:pt x="314" y="122"/>
                    </a:lnTo>
                    <a:lnTo>
                      <a:pt x="323" y="131"/>
                    </a:lnTo>
                    <a:lnTo>
                      <a:pt x="323" y="131"/>
                    </a:lnTo>
                    <a:lnTo>
                      <a:pt x="332" y="131"/>
                    </a:lnTo>
                    <a:lnTo>
                      <a:pt x="332" y="140"/>
                    </a:lnTo>
                    <a:lnTo>
                      <a:pt x="332" y="140"/>
                    </a:lnTo>
                    <a:lnTo>
                      <a:pt x="340" y="148"/>
                    </a:lnTo>
                    <a:lnTo>
                      <a:pt x="340" y="148"/>
                    </a:lnTo>
                    <a:lnTo>
                      <a:pt x="340" y="157"/>
                    </a:lnTo>
                    <a:lnTo>
                      <a:pt x="340" y="157"/>
                    </a:lnTo>
                    <a:lnTo>
                      <a:pt x="340" y="166"/>
                    </a:lnTo>
                    <a:lnTo>
                      <a:pt x="340" y="174"/>
                    </a:lnTo>
                    <a:lnTo>
                      <a:pt x="340" y="174"/>
                    </a:lnTo>
                    <a:lnTo>
                      <a:pt x="340" y="183"/>
                    </a:lnTo>
                    <a:lnTo>
                      <a:pt x="340" y="192"/>
                    </a:lnTo>
                    <a:lnTo>
                      <a:pt x="349" y="192"/>
                    </a:lnTo>
                    <a:lnTo>
                      <a:pt x="349" y="192"/>
                    </a:lnTo>
                    <a:lnTo>
                      <a:pt x="358" y="201"/>
                    </a:lnTo>
                    <a:lnTo>
                      <a:pt x="367" y="201"/>
                    </a:lnTo>
                    <a:lnTo>
                      <a:pt x="367" y="201"/>
                    </a:lnTo>
                    <a:lnTo>
                      <a:pt x="375" y="201"/>
                    </a:lnTo>
                    <a:lnTo>
                      <a:pt x="384" y="201"/>
                    </a:lnTo>
                    <a:lnTo>
                      <a:pt x="384" y="201"/>
                    </a:lnTo>
                    <a:lnTo>
                      <a:pt x="393" y="201"/>
                    </a:lnTo>
                    <a:lnTo>
                      <a:pt x="401" y="201"/>
                    </a:lnTo>
                    <a:lnTo>
                      <a:pt x="401" y="201"/>
                    </a:lnTo>
                    <a:lnTo>
                      <a:pt x="410" y="201"/>
                    </a:lnTo>
                    <a:lnTo>
                      <a:pt x="419" y="201"/>
                    </a:lnTo>
                    <a:lnTo>
                      <a:pt x="419" y="201"/>
                    </a:lnTo>
                    <a:lnTo>
                      <a:pt x="419" y="201"/>
                    </a:lnTo>
                    <a:lnTo>
                      <a:pt x="428" y="209"/>
                    </a:lnTo>
                    <a:lnTo>
                      <a:pt x="428" y="209"/>
                    </a:lnTo>
                    <a:lnTo>
                      <a:pt x="436" y="218"/>
                    </a:lnTo>
                    <a:lnTo>
                      <a:pt x="436" y="218"/>
                    </a:lnTo>
                    <a:lnTo>
                      <a:pt x="436" y="227"/>
                    </a:lnTo>
                    <a:lnTo>
                      <a:pt x="436" y="236"/>
                    </a:lnTo>
                    <a:lnTo>
                      <a:pt x="436" y="253"/>
                    </a:lnTo>
                    <a:lnTo>
                      <a:pt x="436" y="262"/>
                    </a:lnTo>
                    <a:lnTo>
                      <a:pt x="436" y="279"/>
                    </a:lnTo>
                    <a:lnTo>
                      <a:pt x="436" y="288"/>
                    </a:lnTo>
                    <a:lnTo>
                      <a:pt x="428" y="297"/>
                    </a:lnTo>
                    <a:lnTo>
                      <a:pt x="428" y="305"/>
                    </a:lnTo>
                    <a:lnTo>
                      <a:pt x="428" y="305"/>
                    </a:lnTo>
                    <a:lnTo>
                      <a:pt x="428" y="314"/>
                    </a:lnTo>
                    <a:lnTo>
                      <a:pt x="419" y="314"/>
                    </a:lnTo>
                    <a:lnTo>
                      <a:pt x="419" y="314"/>
                    </a:lnTo>
                    <a:lnTo>
                      <a:pt x="410" y="314"/>
                    </a:lnTo>
                    <a:lnTo>
                      <a:pt x="401" y="314"/>
                    </a:lnTo>
                    <a:lnTo>
                      <a:pt x="393" y="314"/>
                    </a:lnTo>
                    <a:lnTo>
                      <a:pt x="393" y="314"/>
                    </a:lnTo>
                    <a:lnTo>
                      <a:pt x="384" y="314"/>
                    </a:lnTo>
                    <a:lnTo>
                      <a:pt x="375" y="314"/>
                    </a:lnTo>
                    <a:lnTo>
                      <a:pt x="375" y="314"/>
                    </a:lnTo>
                    <a:lnTo>
                      <a:pt x="367" y="314"/>
                    </a:lnTo>
                    <a:lnTo>
                      <a:pt x="358" y="314"/>
                    </a:lnTo>
                    <a:lnTo>
                      <a:pt x="358" y="314"/>
                    </a:lnTo>
                    <a:lnTo>
                      <a:pt x="349" y="314"/>
                    </a:lnTo>
                    <a:lnTo>
                      <a:pt x="349" y="323"/>
                    </a:lnTo>
                    <a:lnTo>
                      <a:pt x="349" y="323"/>
                    </a:lnTo>
                    <a:lnTo>
                      <a:pt x="340" y="323"/>
                    </a:lnTo>
                    <a:lnTo>
                      <a:pt x="340" y="331"/>
                    </a:lnTo>
                    <a:lnTo>
                      <a:pt x="340" y="331"/>
                    </a:lnTo>
                    <a:lnTo>
                      <a:pt x="340" y="340"/>
                    </a:lnTo>
                    <a:lnTo>
                      <a:pt x="340" y="340"/>
                    </a:lnTo>
                    <a:lnTo>
                      <a:pt x="340" y="349"/>
                    </a:lnTo>
                    <a:lnTo>
                      <a:pt x="340" y="358"/>
                    </a:lnTo>
                    <a:lnTo>
                      <a:pt x="340" y="366"/>
                    </a:lnTo>
                    <a:lnTo>
                      <a:pt x="332" y="366"/>
                    </a:lnTo>
                    <a:lnTo>
                      <a:pt x="332" y="375"/>
                    </a:lnTo>
                    <a:lnTo>
                      <a:pt x="332" y="384"/>
                    </a:lnTo>
                    <a:lnTo>
                      <a:pt x="323" y="384"/>
                    </a:lnTo>
                    <a:lnTo>
                      <a:pt x="323" y="384"/>
                    </a:lnTo>
                    <a:lnTo>
                      <a:pt x="314" y="384"/>
                    </a:lnTo>
                    <a:lnTo>
                      <a:pt x="305" y="384"/>
                    </a:lnTo>
                    <a:lnTo>
                      <a:pt x="305" y="393"/>
                    </a:lnTo>
                    <a:lnTo>
                      <a:pt x="297" y="393"/>
                    </a:lnTo>
                    <a:lnTo>
                      <a:pt x="288" y="393"/>
                    </a:lnTo>
                    <a:lnTo>
                      <a:pt x="288" y="393"/>
                    </a:lnTo>
                    <a:lnTo>
                      <a:pt x="279" y="393"/>
                    </a:lnTo>
                    <a:lnTo>
                      <a:pt x="279" y="401"/>
                    </a:lnTo>
                    <a:lnTo>
                      <a:pt x="271" y="401"/>
                    </a:lnTo>
                    <a:lnTo>
                      <a:pt x="271" y="410"/>
                    </a:lnTo>
                    <a:lnTo>
                      <a:pt x="262" y="410"/>
                    </a:lnTo>
                    <a:lnTo>
                      <a:pt x="262" y="419"/>
                    </a:lnTo>
                    <a:lnTo>
                      <a:pt x="262" y="427"/>
                    </a:lnTo>
                    <a:lnTo>
                      <a:pt x="262" y="427"/>
                    </a:lnTo>
                    <a:lnTo>
                      <a:pt x="262" y="436"/>
                    </a:lnTo>
                    <a:lnTo>
                      <a:pt x="262" y="445"/>
                    </a:lnTo>
                    <a:lnTo>
                      <a:pt x="262" y="454"/>
                    </a:lnTo>
                    <a:lnTo>
                      <a:pt x="262" y="454"/>
                    </a:lnTo>
                    <a:lnTo>
                      <a:pt x="271" y="462"/>
                    </a:lnTo>
                    <a:lnTo>
                      <a:pt x="271" y="471"/>
                    </a:lnTo>
                    <a:lnTo>
                      <a:pt x="262" y="480"/>
                    </a:lnTo>
                    <a:lnTo>
                      <a:pt x="262" y="489"/>
                    </a:lnTo>
                    <a:lnTo>
                      <a:pt x="262" y="497"/>
                    </a:lnTo>
                    <a:lnTo>
                      <a:pt x="262" y="497"/>
                    </a:lnTo>
                    <a:lnTo>
                      <a:pt x="253" y="506"/>
                    </a:lnTo>
                    <a:lnTo>
                      <a:pt x="253" y="515"/>
                    </a:lnTo>
                    <a:lnTo>
                      <a:pt x="244" y="515"/>
                    </a:lnTo>
                    <a:lnTo>
                      <a:pt x="244" y="523"/>
                    </a:lnTo>
                    <a:lnTo>
                      <a:pt x="236" y="523"/>
                    </a:lnTo>
                    <a:lnTo>
                      <a:pt x="236" y="523"/>
                    </a:lnTo>
                    <a:lnTo>
                      <a:pt x="227" y="523"/>
                    </a:lnTo>
                    <a:lnTo>
                      <a:pt x="227" y="523"/>
                    </a:lnTo>
                    <a:lnTo>
                      <a:pt x="218" y="523"/>
                    </a:lnTo>
                    <a:lnTo>
                      <a:pt x="210" y="523"/>
                    </a:lnTo>
                    <a:lnTo>
                      <a:pt x="201" y="523"/>
                    </a:lnTo>
                    <a:lnTo>
                      <a:pt x="192" y="523"/>
                    </a:lnTo>
                    <a:lnTo>
                      <a:pt x="192" y="523"/>
                    </a:lnTo>
                    <a:lnTo>
                      <a:pt x="183" y="523"/>
                    </a:lnTo>
                    <a:lnTo>
                      <a:pt x="183" y="515"/>
                    </a:lnTo>
                    <a:lnTo>
                      <a:pt x="175" y="515"/>
                    </a:lnTo>
                    <a:lnTo>
                      <a:pt x="175" y="506"/>
                    </a:lnTo>
                    <a:lnTo>
                      <a:pt x="166" y="506"/>
                    </a:lnTo>
                    <a:lnTo>
                      <a:pt x="166" y="497"/>
                    </a:lnTo>
                    <a:lnTo>
                      <a:pt x="166" y="497"/>
                    </a:lnTo>
                    <a:lnTo>
                      <a:pt x="166" y="489"/>
                    </a:lnTo>
                    <a:lnTo>
                      <a:pt x="166" y="480"/>
                    </a:lnTo>
                    <a:lnTo>
                      <a:pt x="166" y="480"/>
                    </a:lnTo>
                    <a:lnTo>
                      <a:pt x="166" y="471"/>
                    </a:lnTo>
                    <a:lnTo>
                      <a:pt x="166" y="462"/>
                    </a:lnTo>
                    <a:lnTo>
                      <a:pt x="166" y="454"/>
                    </a:lnTo>
                    <a:lnTo>
                      <a:pt x="166" y="454"/>
                    </a:lnTo>
                    <a:lnTo>
                      <a:pt x="175" y="445"/>
                    </a:lnTo>
                    <a:lnTo>
                      <a:pt x="175" y="436"/>
                    </a:lnTo>
                    <a:lnTo>
                      <a:pt x="175" y="436"/>
                    </a:lnTo>
                    <a:lnTo>
                      <a:pt x="166" y="427"/>
                    </a:lnTo>
                    <a:lnTo>
                      <a:pt x="166" y="427"/>
                    </a:lnTo>
                    <a:lnTo>
                      <a:pt x="166" y="419"/>
                    </a:lnTo>
                    <a:lnTo>
                      <a:pt x="157" y="419"/>
                    </a:lnTo>
                    <a:lnTo>
                      <a:pt x="157" y="410"/>
                    </a:lnTo>
                    <a:lnTo>
                      <a:pt x="157" y="410"/>
                    </a:lnTo>
                    <a:lnTo>
                      <a:pt x="148" y="410"/>
                    </a:lnTo>
                    <a:lnTo>
                      <a:pt x="140" y="410"/>
                    </a:lnTo>
                    <a:lnTo>
                      <a:pt x="140" y="401"/>
                    </a:lnTo>
                    <a:lnTo>
                      <a:pt x="131" y="401"/>
                    </a:lnTo>
                    <a:lnTo>
                      <a:pt x="122" y="401"/>
                    </a:lnTo>
                    <a:lnTo>
                      <a:pt x="122" y="401"/>
                    </a:lnTo>
                    <a:lnTo>
                      <a:pt x="114" y="401"/>
                    </a:lnTo>
                    <a:lnTo>
                      <a:pt x="105" y="401"/>
                    </a:lnTo>
                    <a:lnTo>
                      <a:pt x="105" y="393"/>
                    </a:lnTo>
                    <a:lnTo>
                      <a:pt x="96" y="393"/>
                    </a:lnTo>
                    <a:lnTo>
                      <a:pt x="96" y="384"/>
                    </a:lnTo>
                    <a:lnTo>
                      <a:pt x="96" y="384"/>
                    </a:lnTo>
                    <a:lnTo>
                      <a:pt x="96" y="375"/>
                    </a:lnTo>
                    <a:lnTo>
                      <a:pt x="96" y="366"/>
                    </a:lnTo>
                    <a:lnTo>
                      <a:pt x="96" y="358"/>
                    </a:lnTo>
                    <a:lnTo>
                      <a:pt x="96" y="358"/>
                    </a:lnTo>
                    <a:lnTo>
                      <a:pt x="96" y="349"/>
                    </a:lnTo>
                    <a:lnTo>
                      <a:pt x="96" y="349"/>
                    </a:lnTo>
                    <a:lnTo>
                      <a:pt x="87" y="340"/>
                    </a:lnTo>
                    <a:lnTo>
                      <a:pt x="87" y="340"/>
                    </a:lnTo>
                    <a:lnTo>
                      <a:pt x="79" y="331"/>
                    </a:lnTo>
                    <a:lnTo>
                      <a:pt x="79" y="331"/>
                    </a:lnTo>
                    <a:lnTo>
                      <a:pt x="70" y="331"/>
                    </a:lnTo>
                    <a:lnTo>
                      <a:pt x="61" y="331"/>
                    </a:lnTo>
                    <a:lnTo>
                      <a:pt x="61" y="323"/>
                    </a:lnTo>
                    <a:lnTo>
                      <a:pt x="53" y="323"/>
                    </a:lnTo>
                    <a:lnTo>
                      <a:pt x="53" y="331"/>
                    </a:lnTo>
                    <a:lnTo>
                      <a:pt x="44" y="331"/>
                    </a:lnTo>
                    <a:lnTo>
                      <a:pt x="35" y="331"/>
                    </a:lnTo>
                    <a:lnTo>
                      <a:pt x="35" y="331"/>
                    </a:lnTo>
                    <a:lnTo>
                      <a:pt x="26" y="331"/>
                    </a:lnTo>
                    <a:lnTo>
                      <a:pt x="18" y="331"/>
                    </a:lnTo>
                    <a:lnTo>
                      <a:pt x="18" y="331"/>
                    </a:lnTo>
                    <a:lnTo>
                      <a:pt x="9" y="323"/>
                    </a:lnTo>
                    <a:lnTo>
                      <a:pt x="9" y="323"/>
                    </a:lnTo>
                    <a:lnTo>
                      <a:pt x="0" y="314"/>
                    </a:lnTo>
                    <a:lnTo>
                      <a:pt x="0" y="314"/>
                    </a:lnTo>
                    <a:lnTo>
                      <a:pt x="0" y="305"/>
                    </a:lnTo>
                    <a:lnTo>
                      <a:pt x="0" y="297"/>
                    </a:lnTo>
                    <a:lnTo>
                      <a:pt x="0" y="288"/>
                    </a:lnTo>
                    <a:lnTo>
                      <a:pt x="0" y="279"/>
                    </a:lnTo>
                    <a:lnTo>
                      <a:pt x="0" y="262"/>
                    </a:lnTo>
                    <a:lnTo>
                      <a:pt x="0" y="253"/>
                    </a:lnTo>
                    <a:lnTo>
                      <a:pt x="0" y="244"/>
                    </a:lnTo>
                    <a:lnTo>
                      <a:pt x="0" y="236"/>
                    </a:lnTo>
                    <a:lnTo>
                      <a:pt x="0" y="227"/>
                    </a:lnTo>
                    <a:lnTo>
                      <a:pt x="0" y="218"/>
                    </a:lnTo>
                    <a:lnTo>
                      <a:pt x="0" y="209"/>
                    </a:lnTo>
                    <a:lnTo>
                      <a:pt x="0" y="209"/>
                    </a:lnTo>
                    <a:lnTo>
                      <a:pt x="9" y="209"/>
                    </a:lnTo>
                    <a:lnTo>
                      <a:pt x="9" y="201"/>
                    </a:lnTo>
                    <a:lnTo>
                      <a:pt x="18" y="201"/>
                    </a:lnTo>
                    <a:lnTo>
                      <a:pt x="18" y="201"/>
                    </a:lnTo>
                    <a:lnTo>
                      <a:pt x="26" y="201"/>
                    </a:lnTo>
                    <a:lnTo>
                      <a:pt x="26" y="201"/>
                    </a:lnTo>
                    <a:lnTo>
                      <a:pt x="35" y="201"/>
                    </a:lnTo>
                    <a:lnTo>
                      <a:pt x="44" y="201"/>
                    </a:lnTo>
                    <a:lnTo>
                      <a:pt x="53" y="201"/>
                    </a:lnTo>
                    <a:lnTo>
                      <a:pt x="53" y="201"/>
                    </a:lnTo>
                    <a:lnTo>
                      <a:pt x="61" y="201"/>
                    </a:lnTo>
                    <a:lnTo>
                      <a:pt x="70" y="201"/>
                    </a:lnTo>
                    <a:lnTo>
                      <a:pt x="79" y="201"/>
                    </a:lnTo>
                    <a:lnTo>
                      <a:pt x="79" y="192"/>
                    </a:lnTo>
                    <a:lnTo>
                      <a:pt x="87" y="192"/>
                    </a:lnTo>
                    <a:lnTo>
                      <a:pt x="87" y="192"/>
                    </a:lnTo>
                    <a:lnTo>
                      <a:pt x="96" y="183"/>
                    </a:lnTo>
                    <a:lnTo>
                      <a:pt x="96" y="174"/>
                    </a:lnTo>
                    <a:lnTo>
                      <a:pt x="96" y="174"/>
                    </a:lnTo>
                    <a:lnTo>
                      <a:pt x="96" y="166"/>
                    </a:lnTo>
                    <a:lnTo>
                      <a:pt x="96" y="157"/>
                    </a:lnTo>
                    <a:lnTo>
                      <a:pt x="96" y="148"/>
                    </a:lnTo>
                    <a:lnTo>
                      <a:pt x="96" y="148"/>
                    </a:lnTo>
                    <a:lnTo>
                      <a:pt x="96" y="140"/>
                    </a:lnTo>
                    <a:lnTo>
                      <a:pt x="105" y="140"/>
                    </a:lnTo>
                    <a:lnTo>
                      <a:pt x="105" y="131"/>
                    </a:lnTo>
                    <a:lnTo>
                      <a:pt x="114" y="131"/>
                    </a:lnTo>
                    <a:lnTo>
                      <a:pt x="114" y="131"/>
                    </a:lnTo>
                    <a:lnTo>
                      <a:pt x="122" y="122"/>
                    </a:lnTo>
                    <a:lnTo>
                      <a:pt x="131" y="122"/>
                    </a:lnTo>
                    <a:lnTo>
                      <a:pt x="140" y="122"/>
                    </a:lnTo>
                    <a:lnTo>
                      <a:pt x="140" y="122"/>
                    </a:lnTo>
                    <a:lnTo>
                      <a:pt x="148" y="122"/>
                    </a:lnTo>
                    <a:lnTo>
                      <a:pt x="157" y="113"/>
                    </a:lnTo>
                    <a:lnTo>
                      <a:pt x="166" y="113"/>
                    </a:lnTo>
                    <a:close/>
                  </a:path>
                </a:pathLst>
              </a:custGeom>
              <a:solidFill>
                <a:srgbClr val="ffcccc"/>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7" name=""/>
              <p:cNvSpPr/>
              <p:nvPr/>
            </p:nvSpPr>
            <p:spPr>
              <a:xfrm>
                <a:off x="3283920" y="2329560"/>
                <a:ext cx="348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Narrow"/>
                  </a:rPr>
                  <a:t>  </a:t>
                </a:r>
                <a:r>
                  <a:rPr b="1" lang="en-US" sz="3000" spc="-1" strike="noStrike">
                    <a:solidFill>
                      <a:srgbClr val="000099"/>
                    </a:solidFill>
                    <a:latin typeface="Arial Narrow"/>
                  </a:rPr>
                  <a:t>$</a:t>
                </a:r>
                <a:endParaRPr b="0" lang="en-US" sz="3000" spc="-1" strike="noStrike">
                  <a:solidFill>
                    <a:srgbClr val="000000"/>
                  </a:solidFill>
                  <a:latin typeface="Arial"/>
                </a:endParaRPr>
              </a:p>
            </p:txBody>
          </p:sp>
          <p:grpSp>
            <p:nvGrpSpPr>
              <p:cNvPr id="3178" name=""/>
              <p:cNvGrpSpPr/>
              <p:nvPr/>
            </p:nvGrpSpPr>
            <p:grpSpPr>
              <a:xfrm>
                <a:off x="3290400" y="2211120"/>
                <a:ext cx="727200" cy="639360"/>
                <a:chOff x="3290400" y="2211120"/>
                <a:chExt cx="727200" cy="639360"/>
              </a:xfrm>
            </p:grpSpPr>
            <p:sp>
              <p:nvSpPr>
                <p:cNvPr id="3179" name=""/>
                <p:cNvSpPr/>
                <p:nvPr/>
              </p:nvSpPr>
              <p:spPr>
                <a:xfrm>
                  <a:off x="3442680" y="2337840"/>
                  <a:ext cx="348120" cy="18540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0" name=""/>
                <p:cNvSpPr/>
                <p:nvPr/>
              </p:nvSpPr>
              <p:spPr>
                <a:xfrm>
                  <a:off x="3804840" y="2337840"/>
                  <a:ext cx="212760" cy="257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1" name=""/>
                <p:cNvSpPr/>
                <p:nvPr/>
              </p:nvSpPr>
              <p:spPr>
                <a:xfrm>
                  <a:off x="3290400" y="2211120"/>
                  <a:ext cx="289440" cy="18540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2" name=""/>
                <p:cNvSpPr/>
                <p:nvPr/>
              </p:nvSpPr>
              <p:spPr>
                <a:xfrm>
                  <a:off x="3290400" y="2536560"/>
                  <a:ext cx="349920" cy="31392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83" name=""/>
            <p:cNvGrpSpPr/>
            <p:nvPr/>
          </p:nvGrpSpPr>
          <p:grpSpPr>
            <a:xfrm>
              <a:off x="3222720" y="3132720"/>
              <a:ext cx="781920" cy="711360"/>
              <a:chOff x="3222720" y="3132720"/>
              <a:chExt cx="781920" cy="711360"/>
            </a:xfrm>
          </p:grpSpPr>
          <p:sp>
            <p:nvSpPr>
              <p:cNvPr id="3184" name=""/>
              <p:cNvSpPr/>
              <p:nvPr/>
            </p:nvSpPr>
            <p:spPr>
              <a:xfrm>
                <a:off x="3222720" y="3189600"/>
                <a:ext cx="781920" cy="654480"/>
              </a:xfrm>
              <a:custGeom>
                <a:avLst/>
                <a:gdLst/>
                <a:ahLst/>
                <a:rect l="l" t="t" r="r" b="b"/>
                <a:pathLst>
                  <a:path w="392" h="349">
                    <a:moveTo>
                      <a:pt x="0" y="279"/>
                    </a:moveTo>
                    <a:lnTo>
                      <a:pt x="0" y="349"/>
                    </a:lnTo>
                    <a:lnTo>
                      <a:pt x="392" y="349"/>
                    </a:lnTo>
                    <a:lnTo>
                      <a:pt x="392" y="0"/>
                    </a:lnTo>
                    <a:lnTo>
                      <a:pt x="358" y="0"/>
                    </a:lnTo>
                    <a:lnTo>
                      <a:pt x="358" y="9"/>
                    </a:lnTo>
                    <a:lnTo>
                      <a:pt x="358" y="9"/>
                    </a:lnTo>
                    <a:lnTo>
                      <a:pt x="358" y="17"/>
                    </a:lnTo>
                    <a:lnTo>
                      <a:pt x="358" y="26"/>
                    </a:lnTo>
                    <a:lnTo>
                      <a:pt x="358" y="35"/>
                    </a:lnTo>
                    <a:lnTo>
                      <a:pt x="366" y="35"/>
                    </a:lnTo>
                    <a:lnTo>
                      <a:pt x="366" y="44"/>
                    </a:lnTo>
                    <a:lnTo>
                      <a:pt x="358" y="52"/>
                    </a:lnTo>
                    <a:lnTo>
                      <a:pt x="358" y="61"/>
                    </a:lnTo>
                    <a:lnTo>
                      <a:pt x="358" y="61"/>
                    </a:lnTo>
                    <a:lnTo>
                      <a:pt x="349" y="70"/>
                    </a:lnTo>
                    <a:lnTo>
                      <a:pt x="349" y="78"/>
                    </a:lnTo>
                    <a:lnTo>
                      <a:pt x="340" y="78"/>
                    </a:lnTo>
                    <a:lnTo>
                      <a:pt x="331" y="78"/>
                    </a:lnTo>
                    <a:lnTo>
                      <a:pt x="331" y="78"/>
                    </a:lnTo>
                    <a:lnTo>
                      <a:pt x="323" y="78"/>
                    </a:lnTo>
                    <a:lnTo>
                      <a:pt x="314" y="78"/>
                    </a:lnTo>
                    <a:lnTo>
                      <a:pt x="305" y="78"/>
                    </a:lnTo>
                    <a:lnTo>
                      <a:pt x="296" y="78"/>
                    </a:lnTo>
                    <a:lnTo>
                      <a:pt x="296" y="78"/>
                    </a:lnTo>
                    <a:lnTo>
                      <a:pt x="288" y="70"/>
                    </a:lnTo>
                    <a:lnTo>
                      <a:pt x="288" y="61"/>
                    </a:lnTo>
                    <a:lnTo>
                      <a:pt x="279" y="61"/>
                    </a:lnTo>
                    <a:lnTo>
                      <a:pt x="279" y="52"/>
                    </a:lnTo>
                    <a:lnTo>
                      <a:pt x="279" y="44"/>
                    </a:lnTo>
                    <a:lnTo>
                      <a:pt x="279" y="44"/>
                    </a:lnTo>
                    <a:lnTo>
                      <a:pt x="279" y="35"/>
                    </a:lnTo>
                    <a:lnTo>
                      <a:pt x="279" y="26"/>
                    </a:lnTo>
                    <a:lnTo>
                      <a:pt x="279" y="26"/>
                    </a:lnTo>
                    <a:lnTo>
                      <a:pt x="279" y="17"/>
                    </a:lnTo>
                    <a:lnTo>
                      <a:pt x="279" y="9"/>
                    </a:lnTo>
                    <a:lnTo>
                      <a:pt x="279" y="9"/>
                    </a:lnTo>
                    <a:lnTo>
                      <a:pt x="279" y="0"/>
                    </a:lnTo>
                    <a:lnTo>
                      <a:pt x="218" y="0"/>
                    </a:lnTo>
                    <a:lnTo>
                      <a:pt x="218" y="9"/>
                    </a:lnTo>
                    <a:lnTo>
                      <a:pt x="218" y="17"/>
                    </a:lnTo>
                    <a:lnTo>
                      <a:pt x="218" y="26"/>
                    </a:lnTo>
                    <a:lnTo>
                      <a:pt x="218" y="35"/>
                    </a:lnTo>
                    <a:lnTo>
                      <a:pt x="218" y="44"/>
                    </a:lnTo>
                    <a:lnTo>
                      <a:pt x="209" y="44"/>
                    </a:lnTo>
                    <a:lnTo>
                      <a:pt x="209" y="52"/>
                    </a:lnTo>
                    <a:lnTo>
                      <a:pt x="209" y="52"/>
                    </a:lnTo>
                    <a:lnTo>
                      <a:pt x="209" y="61"/>
                    </a:lnTo>
                    <a:lnTo>
                      <a:pt x="201" y="61"/>
                    </a:lnTo>
                    <a:lnTo>
                      <a:pt x="201" y="61"/>
                    </a:lnTo>
                    <a:lnTo>
                      <a:pt x="192" y="61"/>
                    </a:lnTo>
                    <a:lnTo>
                      <a:pt x="192" y="61"/>
                    </a:lnTo>
                    <a:lnTo>
                      <a:pt x="183" y="61"/>
                    </a:lnTo>
                    <a:lnTo>
                      <a:pt x="174" y="61"/>
                    </a:lnTo>
                    <a:lnTo>
                      <a:pt x="174" y="61"/>
                    </a:lnTo>
                    <a:lnTo>
                      <a:pt x="166" y="61"/>
                    </a:lnTo>
                    <a:lnTo>
                      <a:pt x="157" y="61"/>
                    </a:lnTo>
                    <a:lnTo>
                      <a:pt x="157" y="61"/>
                    </a:lnTo>
                    <a:lnTo>
                      <a:pt x="148" y="61"/>
                    </a:lnTo>
                    <a:lnTo>
                      <a:pt x="139" y="61"/>
                    </a:lnTo>
                    <a:lnTo>
                      <a:pt x="139" y="70"/>
                    </a:lnTo>
                    <a:lnTo>
                      <a:pt x="131" y="70"/>
                    </a:lnTo>
                    <a:lnTo>
                      <a:pt x="131" y="70"/>
                    </a:lnTo>
                    <a:lnTo>
                      <a:pt x="122" y="78"/>
                    </a:lnTo>
                    <a:lnTo>
                      <a:pt x="122" y="78"/>
                    </a:lnTo>
                    <a:lnTo>
                      <a:pt x="122" y="87"/>
                    </a:lnTo>
                    <a:lnTo>
                      <a:pt x="122" y="96"/>
                    </a:lnTo>
                    <a:lnTo>
                      <a:pt x="122" y="96"/>
                    </a:lnTo>
                    <a:lnTo>
                      <a:pt x="122" y="105"/>
                    </a:lnTo>
                    <a:lnTo>
                      <a:pt x="122" y="113"/>
                    </a:lnTo>
                    <a:lnTo>
                      <a:pt x="122" y="113"/>
                    </a:lnTo>
                    <a:lnTo>
                      <a:pt x="113" y="122"/>
                    </a:lnTo>
                    <a:lnTo>
                      <a:pt x="113" y="122"/>
                    </a:lnTo>
                    <a:lnTo>
                      <a:pt x="113" y="131"/>
                    </a:lnTo>
                    <a:lnTo>
                      <a:pt x="105" y="131"/>
                    </a:lnTo>
                    <a:lnTo>
                      <a:pt x="105" y="131"/>
                    </a:lnTo>
                    <a:lnTo>
                      <a:pt x="96" y="140"/>
                    </a:lnTo>
                    <a:lnTo>
                      <a:pt x="87" y="140"/>
                    </a:lnTo>
                    <a:lnTo>
                      <a:pt x="87" y="140"/>
                    </a:lnTo>
                    <a:lnTo>
                      <a:pt x="78" y="140"/>
                    </a:lnTo>
                    <a:lnTo>
                      <a:pt x="70" y="140"/>
                    </a:lnTo>
                    <a:lnTo>
                      <a:pt x="70" y="140"/>
                    </a:lnTo>
                    <a:lnTo>
                      <a:pt x="61" y="148"/>
                    </a:lnTo>
                    <a:lnTo>
                      <a:pt x="61" y="148"/>
                    </a:lnTo>
                    <a:lnTo>
                      <a:pt x="52" y="148"/>
                    </a:lnTo>
                    <a:lnTo>
                      <a:pt x="52" y="157"/>
                    </a:lnTo>
                    <a:lnTo>
                      <a:pt x="44" y="157"/>
                    </a:lnTo>
                    <a:lnTo>
                      <a:pt x="44" y="166"/>
                    </a:lnTo>
                    <a:lnTo>
                      <a:pt x="44" y="166"/>
                    </a:lnTo>
                    <a:lnTo>
                      <a:pt x="44" y="174"/>
                    </a:lnTo>
                    <a:lnTo>
                      <a:pt x="44" y="183"/>
                    </a:lnTo>
                    <a:lnTo>
                      <a:pt x="44" y="183"/>
                    </a:lnTo>
                    <a:lnTo>
                      <a:pt x="44" y="192"/>
                    </a:lnTo>
                    <a:lnTo>
                      <a:pt x="44" y="201"/>
                    </a:lnTo>
                    <a:lnTo>
                      <a:pt x="44" y="209"/>
                    </a:lnTo>
                    <a:lnTo>
                      <a:pt x="52" y="218"/>
                    </a:lnTo>
                    <a:lnTo>
                      <a:pt x="52" y="218"/>
                    </a:lnTo>
                    <a:lnTo>
                      <a:pt x="44" y="227"/>
                    </a:lnTo>
                    <a:lnTo>
                      <a:pt x="44" y="235"/>
                    </a:lnTo>
                    <a:lnTo>
                      <a:pt x="44" y="235"/>
                    </a:lnTo>
                    <a:lnTo>
                      <a:pt x="44" y="244"/>
                    </a:lnTo>
                    <a:lnTo>
                      <a:pt x="44" y="253"/>
                    </a:lnTo>
                    <a:lnTo>
                      <a:pt x="35" y="253"/>
                    </a:lnTo>
                    <a:lnTo>
                      <a:pt x="35" y="262"/>
                    </a:lnTo>
                    <a:lnTo>
                      <a:pt x="26" y="262"/>
                    </a:lnTo>
                    <a:lnTo>
                      <a:pt x="26" y="270"/>
                    </a:lnTo>
                    <a:lnTo>
                      <a:pt x="17" y="270"/>
                    </a:lnTo>
                    <a:lnTo>
                      <a:pt x="17" y="270"/>
                    </a:lnTo>
                    <a:lnTo>
                      <a:pt x="9" y="279"/>
                    </a:lnTo>
                    <a:lnTo>
                      <a:pt x="0" y="279"/>
                    </a:lnTo>
                    <a:lnTo>
                      <a:pt x="0" y="279"/>
                    </a:lnTo>
                    <a:close/>
                  </a:path>
                </a:pathLst>
              </a:custGeom>
              <a:solidFill>
                <a:srgbClr val="00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5" name=""/>
              <p:cNvSpPr/>
              <p:nvPr/>
            </p:nvSpPr>
            <p:spPr>
              <a:xfrm>
                <a:off x="3324960" y="3355560"/>
                <a:ext cx="348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Narrow"/>
                  </a:rPr>
                  <a:t>  </a:t>
                </a:r>
                <a:r>
                  <a:rPr b="1" lang="en-US" sz="3000" spc="-1" strike="noStrike">
                    <a:solidFill>
                      <a:srgbClr val="333399"/>
                    </a:solidFill>
                    <a:latin typeface="Arial Narrow"/>
                  </a:rPr>
                  <a:t>$</a:t>
                </a:r>
                <a:endParaRPr b="0" lang="en-US" sz="3000" spc="-1" strike="noStrike">
                  <a:solidFill>
                    <a:srgbClr val="000000"/>
                  </a:solidFill>
                  <a:latin typeface="Arial"/>
                </a:endParaRPr>
              </a:p>
            </p:txBody>
          </p:sp>
          <p:grpSp>
            <p:nvGrpSpPr>
              <p:cNvPr id="3186" name=""/>
              <p:cNvGrpSpPr/>
              <p:nvPr/>
            </p:nvGrpSpPr>
            <p:grpSpPr>
              <a:xfrm>
                <a:off x="3386160" y="3132720"/>
                <a:ext cx="542520" cy="636480"/>
                <a:chOff x="3386160" y="3132720"/>
                <a:chExt cx="542520" cy="636480"/>
              </a:xfrm>
            </p:grpSpPr>
            <p:sp>
              <p:nvSpPr>
                <p:cNvPr id="3187" name=""/>
                <p:cNvSpPr/>
                <p:nvPr/>
              </p:nvSpPr>
              <p:spPr>
                <a:xfrm>
                  <a:off x="3386160" y="3425760"/>
                  <a:ext cx="436680" cy="1958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
                <p:cNvSpPr/>
                <p:nvPr/>
              </p:nvSpPr>
              <p:spPr>
                <a:xfrm>
                  <a:off x="3492000" y="3573360"/>
                  <a:ext cx="436680" cy="1958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9" name=""/>
                <p:cNvSpPr/>
                <p:nvPr/>
              </p:nvSpPr>
              <p:spPr>
                <a:xfrm>
                  <a:off x="3492000" y="3132720"/>
                  <a:ext cx="330840" cy="27828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90" name=""/>
            <p:cNvSpPr/>
            <p:nvPr/>
          </p:nvSpPr>
          <p:spPr>
            <a:xfrm>
              <a:off x="3265560" y="92628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c"/>
                  </a:solidFill>
                  <a:latin typeface="Arial Narrow"/>
                </a:rPr>
                <a:t>B</a:t>
              </a:r>
              <a:endParaRPr b="0" lang="en-US" sz="1800" spc="-1" strike="noStrike">
                <a:solidFill>
                  <a:srgbClr val="000000"/>
                </a:solidFill>
                <a:latin typeface="Arial"/>
              </a:endParaRPr>
            </a:p>
          </p:txBody>
        </p:sp>
      </p:grpSp>
      <p:sp>
        <p:nvSpPr>
          <p:cNvPr id="3191" name=""/>
          <p:cNvSpPr/>
          <p:nvPr/>
        </p:nvSpPr>
        <p:spPr>
          <a:xfrm>
            <a:off x="2747880" y="3938760"/>
            <a:ext cx="1569960" cy="1017360"/>
          </a:xfrm>
          <a:prstGeom prst="rect">
            <a:avLst/>
          </a:prstGeom>
          <a:solidFill>
            <a:srgbClr val="ff9933"/>
          </a:soli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no Estratégico  da Unidade de Negócio (PEUN)</a:t>
            </a:r>
            <a:endParaRPr b="0" lang="en-US" sz="1400" spc="-1" strike="noStrike">
              <a:solidFill>
                <a:srgbClr val="000000"/>
              </a:solidFill>
              <a:latin typeface="Arial"/>
            </a:endParaRPr>
          </a:p>
        </p:txBody>
      </p:sp>
      <p:sp>
        <p:nvSpPr>
          <p:cNvPr id="3192" name=""/>
          <p:cNvSpPr/>
          <p:nvPr/>
        </p:nvSpPr>
        <p:spPr>
          <a:xfrm>
            <a:off x="4243320" y="3938760"/>
            <a:ext cx="1319400" cy="10141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fólio de Produtos</a:t>
            </a:r>
            <a:endParaRPr b="0" lang="en-US" sz="1400" spc="-1" strike="noStrike">
              <a:solidFill>
                <a:srgbClr val="000000"/>
              </a:solidFill>
              <a:latin typeface="Arial"/>
            </a:endParaRPr>
          </a:p>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ta de Projeto</a:t>
            </a:r>
            <a:endParaRPr b="0" lang="en-US" sz="1400" spc="-1" strike="noStrike">
              <a:solidFill>
                <a:srgbClr val="000000"/>
              </a:solidFill>
              <a:latin typeface="Arial"/>
            </a:endParaRPr>
          </a:p>
        </p:txBody>
      </p:sp>
      <p:sp>
        <p:nvSpPr>
          <p:cNvPr id="3193" name=""/>
          <p:cNvSpPr/>
          <p:nvPr/>
        </p:nvSpPr>
        <p:spPr>
          <a:xfrm>
            <a:off x="1428840" y="3938760"/>
            <a:ext cx="1392120" cy="1020600"/>
          </a:xfrm>
          <a:prstGeom prst="rect">
            <a:avLst/>
          </a:prstGeom>
          <a:solidFill>
            <a:srgbClr val="ff9933"/>
          </a:soli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no Estratégico d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rporação (PEC)</a:t>
            </a:r>
            <a:endParaRPr b="0" lang="en-US" sz="1400" spc="-1" strike="noStrike">
              <a:solidFill>
                <a:srgbClr val="000000"/>
              </a:solidFill>
              <a:latin typeface="Arial"/>
            </a:endParaRPr>
          </a:p>
        </p:txBody>
      </p:sp>
      <p:sp>
        <p:nvSpPr>
          <p:cNvPr id="3194" name=""/>
          <p:cNvSpPr/>
          <p:nvPr/>
        </p:nvSpPr>
        <p:spPr>
          <a:xfrm>
            <a:off x="5562720" y="3938760"/>
            <a:ext cx="990360" cy="10141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o do Projeto</a:t>
            </a:r>
            <a:endParaRPr b="0" lang="en-US" sz="1400" spc="-1" strike="noStrike">
              <a:solidFill>
                <a:srgbClr val="000000"/>
              </a:solidFill>
              <a:latin typeface="Arial"/>
            </a:endParaRPr>
          </a:p>
        </p:txBody>
      </p:sp>
      <p:sp>
        <p:nvSpPr>
          <p:cNvPr id="3195" name=""/>
          <p:cNvSpPr/>
          <p:nvPr/>
        </p:nvSpPr>
        <p:spPr>
          <a:xfrm>
            <a:off x="0" y="3938760"/>
            <a:ext cx="1447920" cy="102060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os Principa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6" name=""/>
          <p:cNvSpPr/>
          <p:nvPr/>
        </p:nvSpPr>
        <p:spPr>
          <a:xfrm>
            <a:off x="1428840" y="4952880"/>
            <a:ext cx="1392120" cy="1020960"/>
          </a:xfrm>
          <a:prstGeom prst="rect">
            <a:avLst/>
          </a:prstGeom>
          <a:solidFill>
            <a:srgbClr val="ff9933"/>
          </a:soli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nejamento Estratégico da Corporação</a:t>
            </a:r>
            <a:endParaRPr b="0" lang="en-US" sz="1400" spc="-1" strike="noStrike">
              <a:solidFill>
                <a:srgbClr val="000000"/>
              </a:solidFill>
              <a:latin typeface="Arial"/>
            </a:endParaRPr>
          </a:p>
        </p:txBody>
      </p:sp>
      <p:sp>
        <p:nvSpPr>
          <p:cNvPr id="3197" name=""/>
          <p:cNvSpPr/>
          <p:nvPr/>
        </p:nvSpPr>
        <p:spPr>
          <a:xfrm>
            <a:off x="0" y="4952880"/>
            <a:ext cx="1447920" cy="102096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8" name=""/>
          <p:cNvSpPr/>
          <p:nvPr/>
        </p:nvSpPr>
        <p:spPr>
          <a:xfrm>
            <a:off x="0" y="5913360"/>
            <a:ext cx="1447920" cy="94464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9" name=""/>
          <p:cNvSpPr/>
          <p:nvPr/>
        </p:nvSpPr>
        <p:spPr>
          <a:xfrm>
            <a:off x="4243320" y="6434280"/>
            <a:ext cx="4900680" cy="442800"/>
          </a:xfrm>
          <a:prstGeom prst="rect">
            <a:avLst/>
          </a:prstGeom>
          <a:noFill/>
          <a:ln w="9360">
            <a:solidFill>
              <a:srgbClr val="808080"/>
            </a:solidFill>
            <a:miter/>
          </a:ln>
        </p:spPr>
        <p:style>
          <a:lnRef idx="0"/>
          <a:fillRef idx="0"/>
          <a:effectRef idx="0"/>
          <a:fontRef idx="minor"/>
        </p:style>
        <p:txBody>
          <a:bodyPr lIns="90000" rIns="90000" tIns="46800" bIns="46800" anchor="ctr">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 de Desenvolvimento de Produtos</a:t>
            </a:r>
            <a:endParaRPr b="0" lang="en-US" sz="1400" spc="-1" strike="noStrike">
              <a:solidFill>
                <a:srgbClr val="000000"/>
              </a:solidFill>
              <a:latin typeface="Arial"/>
            </a:endParaRPr>
          </a:p>
        </p:txBody>
      </p:sp>
      <p:grpSp>
        <p:nvGrpSpPr>
          <p:cNvPr id="3200" name=""/>
          <p:cNvGrpSpPr/>
          <p:nvPr/>
        </p:nvGrpSpPr>
        <p:grpSpPr>
          <a:xfrm>
            <a:off x="5803920" y="979560"/>
            <a:ext cx="3362040" cy="913680"/>
            <a:chOff x="5803920" y="979560"/>
            <a:chExt cx="3362040" cy="913680"/>
          </a:xfrm>
        </p:grpSpPr>
        <p:grpSp>
          <p:nvGrpSpPr>
            <p:cNvPr id="3201" name=""/>
            <p:cNvGrpSpPr/>
            <p:nvPr/>
          </p:nvGrpSpPr>
          <p:grpSpPr>
            <a:xfrm>
              <a:off x="6413760" y="979560"/>
              <a:ext cx="2441160" cy="596160"/>
              <a:chOff x="6413760" y="979560"/>
              <a:chExt cx="2441160" cy="596160"/>
            </a:xfrm>
          </p:grpSpPr>
          <p:sp>
            <p:nvSpPr>
              <p:cNvPr id="3202" name=""/>
              <p:cNvSpPr/>
              <p:nvPr/>
            </p:nvSpPr>
            <p:spPr>
              <a:xfrm>
                <a:off x="7027920" y="97956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3" name=""/>
              <p:cNvSpPr/>
              <p:nvPr/>
            </p:nvSpPr>
            <p:spPr>
              <a:xfrm>
                <a:off x="7470720" y="97956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4" name=""/>
              <p:cNvSpPr/>
              <p:nvPr/>
            </p:nvSpPr>
            <p:spPr>
              <a:xfrm>
                <a:off x="8086680" y="97956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5" name=""/>
              <p:cNvSpPr/>
              <p:nvPr/>
            </p:nvSpPr>
            <p:spPr>
              <a:xfrm>
                <a:off x="6586560" y="97956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6" name=""/>
              <p:cNvSpPr/>
              <p:nvPr/>
            </p:nvSpPr>
            <p:spPr>
              <a:xfrm>
                <a:off x="6413760" y="112212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7" name=""/>
              <p:cNvSpPr/>
              <p:nvPr/>
            </p:nvSpPr>
            <p:spPr>
              <a:xfrm>
                <a:off x="6488640" y="11430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208" name=""/>
              <p:cNvSpPr/>
              <p:nvPr/>
            </p:nvSpPr>
            <p:spPr>
              <a:xfrm>
                <a:off x="7182000" y="112212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9" name=""/>
              <p:cNvSpPr/>
              <p:nvPr/>
            </p:nvSpPr>
            <p:spPr>
              <a:xfrm>
                <a:off x="7391160" y="11430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210" name=""/>
              <p:cNvSpPr/>
              <p:nvPr/>
            </p:nvSpPr>
            <p:spPr>
              <a:xfrm>
                <a:off x="7624800" y="112212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1" name=""/>
              <p:cNvSpPr/>
              <p:nvPr/>
            </p:nvSpPr>
            <p:spPr>
              <a:xfrm>
                <a:off x="7837920" y="11430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212" name=""/>
              <p:cNvSpPr/>
              <p:nvPr/>
            </p:nvSpPr>
            <p:spPr>
              <a:xfrm>
                <a:off x="8242560" y="112212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3" name=""/>
              <p:cNvSpPr/>
              <p:nvPr/>
            </p:nvSpPr>
            <p:spPr>
              <a:xfrm>
                <a:off x="8396280" y="11430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214" name=""/>
              <p:cNvSpPr/>
              <p:nvPr/>
            </p:nvSpPr>
            <p:spPr>
              <a:xfrm>
                <a:off x="6740640" y="112212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5" name=""/>
              <p:cNvSpPr/>
              <p:nvPr/>
            </p:nvSpPr>
            <p:spPr>
              <a:xfrm>
                <a:off x="6930720" y="11430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216" name=""/>
              <p:cNvSpPr/>
              <p:nvPr/>
            </p:nvSpPr>
            <p:spPr>
              <a:xfrm>
                <a:off x="6567480" y="126828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7" name=""/>
              <p:cNvSpPr/>
              <p:nvPr/>
            </p:nvSpPr>
            <p:spPr>
              <a:xfrm>
                <a:off x="7336080" y="126828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8" name=""/>
              <p:cNvSpPr/>
              <p:nvPr/>
            </p:nvSpPr>
            <p:spPr>
              <a:xfrm>
                <a:off x="7780320" y="126828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9" name=""/>
              <p:cNvGrpSpPr/>
              <p:nvPr/>
            </p:nvGrpSpPr>
            <p:grpSpPr>
              <a:xfrm>
                <a:off x="8332920" y="1160280"/>
                <a:ext cx="522000" cy="415440"/>
                <a:chOff x="8332920" y="1160280"/>
                <a:chExt cx="522000" cy="415440"/>
              </a:xfrm>
            </p:grpSpPr>
            <p:sp>
              <p:nvSpPr>
                <p:cNvPr id="3220" name=""/>
                <p:cNvSpPr/>
                <p:nvPr/>
              </p:nvSpPr>
              <p:spPr>
                <a:xfrm>
                  <a:off x="8352360" y="117900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1" name=""/>
                <p:cNvSpPr/>
                <p:nvPr/>
              </p:nvSpPr>
              <p:spPr>
                <a:xfrm>
                  <a:off x="8332920" y="11602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2" name=""/>
                <p:cNvSpPr/>
                <p:nvPr/>
              </p:nvSpPr>
              <p:spPr>
                <a:xfrm>
                  <a:off x="8332920" y="11602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3" name=""/>
              <p:cNvGrpSpPr/>
              <p:nvPr/>
            </p:nvGrpSpPr>
            <p:grpSpPr>
              <a:xfrm>
                <a:off x="6892920" y="1160280"/>
                <a:ext cx="501480" cy="415440"/>
                <a:chOff x="6892920" y="1160280"/>
                <a:chExt cx="501480" cy="415440"/>
              </a:xfrm>
            </p:grpSpPr>
            <p:sp>
              <p:nvSpPr>
                <p:cNvPr id="3224" name=""/>
                <p:cNvSpPr/>
                <p:nvPr/>
              </p:nvSpPr>
              <p:spPr>
                <a:xfrm>
                  <a:off x="6912720" y="117900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5" name=""/>
                <p:cNvSpPr/>
                <p:nvPr/>
              </p:nvSpPr>
              <p:spPr>
                <a:xfrm>
                  <a:off x="6892920" y="116028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6" name=""/>
                <p:cNvSpPr/>
                <p:nvPr/>
              </p:nvSpPr>
              <p:spPr>
                <a:xfrm>
                  <a:off x="6892920" y="116028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7" name=""/>
              <p:cNvGrpSpPr/>
              <p:nvPr/>
            </p:nvGrpSpPr>
            <p:grpSpPr>
              <a:xfrm>
                <a:off x="6451560" y="1160280"/>
                <a:ext cx="2346480" cy="415440"/>
                <a:chOff x="6451560" y="1160280"/>
                <a:chExt cx="2346480" cy="415440"/>
              </a:xfrm>
            </p:grpSpPr>
            <p:grpSp>
              <p:nvGrpSpPr>
                <p:cNvPr id="3228" name=""/>
                <p:cNvGrpSpPr/>
                <p:nvPr/>
              </p:nvGrpSpPr>
              <p:grpSpPr>
                <a:xfrm>
                  <a:off x="6451560" y="1160280"/>
                  <a:ext cx="501120" cy="415440"/>
                  <a:chOff x="6451560" y="1160280"/>
                  <a:chExt cx="501120" cy="415440"/>
                </a:xfrm>
              </p:grpSpPr>
              <p:sp>
                <p:nvSpPr>
                  <p:cNvPr id="3229" name=""/>
                  <p:cNvSpPr/>
                  <p:nvPr/>
                </p:nvSpPr>
                <p:spPr>
                  <a:xfrm>
                    <a:off x="6468840" y="117900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0" name=""/>
                  <p:cNvSpPr/>
                  <p:nvPr/>
                </p:nvSpPr>
                <p:spPr>
                  <a:xfrm>
                    <a:off x="6451560" y="116028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1" name=""/>
                  <p:cNvSpPr/>
                  <p:nvPr/>
                </p:nvSpPr>
                <p:spPr>
                  <a:xfrm>
                    <a:off x="6451560" y="116028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2" name=""/>
                <p:cNvGrpSpPr/>
                <p:nvPr/>
              </p:nvGrpSpPr>
              <p:grpSpPr>
                <a:xfrm>
                  <a:off x="7336080" y="1160280"/>
                  <a:ext cx="502560" cy="415440"/>
                  <a:chOff x="7336080" y="1160280"/>
                  <a:chExt cx="502560" cy="415440"/>
                </a:xfrm>
              </p:grpSpPr>
              <p:sp>
                <p:nvSpPr>
                  <p:cNvPr id="3233" name=""/>
                  <p:cNvSpPr/>
                  <p:nvPr/>
                </p:nvSpPr>
                <p:spPr>
                  <a:xfrm>
                    <a:off x="7355880" y="117900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4" name=""/>
                  <p:cNvSpPr/>
                  <p:nvPr/>
                </p:nvSpPr>
                <p:spPr>
                  <a:xfrm>
                    <a:off x="7336080" y="11602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5" name=""/>
                  <p:cNvSpPr/>
                  <p:nvPr/>
                </p:nvSpPr>
                <p:spPr>
                  <a:xfrm>
                    <a:off x="7336080" y="11602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6" name=""/>
                <p:cNvGrpSpPr/>
                <p:nvPr/>
              </p:nvGrpSpPr>
              <p:grpSpPr>
                <a:xfrm>
                  <a:off x="7799400" y="1160280"/>
                  <a:ext cx="498240" cy="415440"/>
                  <a:chOff x="7799400" y="1160280"/>
                  <a:chExt cx="498240" cy="415440"/>
                </a:xfrm>
              </p:grpSpPr>
              <p:sp>
                <p:nvSpPr>
                  <p:cNvPr id="3237" name=""/>
                  <p:cNvSpPr/>
                  <p:nvPr/>
                </p:nvSpPr>
                <p:spPr>
                  <a:xfrm>
                    <a:off x="7799400" y="117900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8" name=""/>
                  <p:cNvSpPr/>
                  <p:nvPr/>
                </p:nvSpPr>
                <p:spPr>
                  <a:xfrm>
                    <a:off x="7799400" y="116028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9" name=""/>
                  <p:cNvSpPr/>
                  <p:nvPr/>
                </p:nvSpPr>
                <p:spPr>
                  <a:xfrm>
                    <a:off x="7799400" y="116028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0" name=""/>
                <p:cNvSpPr/>
                <p:nvPr/>
              </p:nvSpPr>
              <p:spPr>
                <a:xfrm>
                  <a:off x="8398080" y="126792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1" name=""/>
                <p:cNvSpPr/>
                <p:nvPr/>
              </p:nvSpPr>
              <p:spPr>
                <a:xfrm>
                  <a:off x="6877080" y="126792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242" name=""/>
            <p:cNvGrpSpPr/>
            <p:nvPr/>
          </p:nvGrpSpPr>
          <p:grpSpPr>
            <a:xfrm>
              <a:off x="6546960" y="1138320"/>
              <a:ext cx="2441160" cy="596160"/>
              <a:chOff x="6546960" y="1138320"/>
              <a:chExt cx="2441160" cy="596160"/>
            </a:xfrm>
          </p:grpSpPr>
          <p:sp>
            <p:nvSpPr>
              <p:cNvPr id="3243" name=""/>
              <p:cNvSpPr/>
              <p:nvPr/>
            </p:nvSpPr>
            <p:spPr>
              <a:xfrm>
                <a:off x="7161120" y="113832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
              <p:cNvSpPr/>
              <p:nvPr/>
            </p:nvSpPr>
            <p:spPr>
              <a:xfrm>
                <a:off x="7603920" y="113832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5" name=""/>
              <p:cNvSpPr/>
              <p:nvPr/>
            </p:nvSpPr>
            <p:spPr>
              <a:xfrm>
                <a:off x="8219880" y="113832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6" name=""/>
              <p:cNvSpPr/>
              <p:nvPr/>
            </p:nvSpPr>
            <p:spPr>
              <a:xfrm>
                <a:off x="6719760" y="113832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
              <p:cNvSpPr/>
              <p:nvPr/>
            </p:nvSpPr>
            <p:spPr>
              <a:xfrm>
                <a:off x="6546960" y="128088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8" name=""/>
              <p:cNvSpPr/>
              <p:nvPr/>
            </p:nvSpPr>
            <p:spPr>
              <a:xfrm>
                <a:off x="6621840" y="1301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249" name=""/>
              <p:cNvSpPr/>
              <p:nvPr/>
            </p:nvSpPr>
            <p:spPr>
              <a:xfrm>
                <a:off x="7315200" y="128088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
              <p:cNvSpPr/>
              <p:nvPr/>
            </p:nvSpPr>
            <p:spPr>
              <a:xfrm>
                <a:off x="7524360" y="1301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251" name=""/>
              <p:cNvSpPr/>
              <p:nvPr/>
            </p:nvSpPr>
            <p:spPr>
              <a:xfrm>
                <a:off x="7758000" y="128088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
              <p:cNvSpPr/>
              <p:nvPr/>
            </p:nvSpPr>
            <p:spPr>
              <a:xfrm>
                <a:off x="7971120" y="1301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253" name=""/>
              <p:cNvSpPr/>
              <p:nvPr/>
            </p:nvSpPr>
            <p:spPr>
              <a:xfrm>
                <a:off x="8375760" y="128088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4" name=""/>
              <p:cNvSpPr/>
              <p:nvPr/>
            </p:nvSpPr>
            <p:spPr>
              <a:xfrm>
                <a:off x="8529480" y="1301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255" name=""/>
              <p:cNvSpPr/>
              <p:nvPr/>
            </p:nvSpPr>
            <p:spPr>
              <a:xfrm>
                <a:off x="6873840" y="128088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
              <p:cNvSpPr/>
              <p:nvPr/>
            </p:nvSpPr>
            <p:spPr>
              <a:xfrm>
                <a:off x="7063920" y="1301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257" name=""/>
              <p:cNvSpPr/>
              <p:nvPr/>
            </p:nvSpPr>
            <p:spPr>
              <a:xfrm>
                <a:off x="6700680" y="142704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
              <p:cNvSpPr/>
              <p:nvPr/>
            </p:nvSpPr>
            <p:spPr>
              <a:xfrm>
                <a:off x="7469280" y="142704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9" name=""/>
              <p:cNvSpPr/>
              <p:nvPr/>
            </p:nvSpPr>
            <p:spPr>
              <a:xfrm>
                <a:off x="7913520" y="142704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0" name=""/>
              <p:cNvGrpSpPr/>
              <p:nvPr/>
            </p:nvGrpSpPr>
            <p:grpSpPr>
              <a:xfrm>
                <a:off x="8466120" y="1319040"/>
                <a:ext cx="522000" cy="415440"/>
                <a:chOff x="8466120" y="1319040"/>
                <a:chExt cx="522000" cy="415440"/>
              </a:xfrm>
            </p:grpSpPr>
            <p:sp>
              <p:nvSpPr>
                <p:cNvPr id="3261" name=""/>
                <p:cNvSpPr/>
                <p:nvPr/>
              </p:nvSpPr>
              <p:spPr>
                <a:xfrm>
                  <a:off x="8485560" y="133776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
                <p:cNvSpPr/>
                <p:nvPr/>
              </p:nvSpPr>
              <p:spPr>
                <a:xfrm>
                  <a:off x="8466120" y="13190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
                <p:cNvSpPr/>
                <p:nvPr/>
              </p:nvSpPr>
              <p:spPr>
                <a:xfrm>
                  <a:off x="8466120" y="13190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4" name=""/>
              <p:cNvGrpSpPr/>
              <p:nvPr/>
            </p:nvGrpSpPr>
            <p:grpSpPr>
              <a:xfrm>
                <a:off x="7026120" y="1319040"/>
                <a:ext cx="501480" cy="415440"/>
                <a:chOff x="7026120" y="1319040"/>
                <a:chExt cx="501480" cy="415440"/>
              </a:xfrm>
            </p:grpSpPr>
            <p:sp>
              <p:nvSpPr>
                <p:cNvPr id="3265" name=""/>
                <p:cNvSpPr/>
                <p:nvPr/>
              </p:nvSpPr>
              <p:spPr>
                <a:xfrm>
                  <a:off x="7045920" y="133776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6" name=""/>
                <p:cNvSpPr/>
                <p:nvPr/>
              </p:nvSpPr>
              <p:spPr>
                <a:xfrm>
                  <a:off x="7026120" y="131904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
                <p:cNvSpPr/>
                <p:nvPr/>
              </p:nvSpPr>
              <p:spPr>
                <a:xfrm>
                  <a:off x="7026120" y="131904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8" name=""/>
              <p:cNvGrpSpPr/>
              <p:nvPr/>
            </p:nvGrpSpPr>
            <p:grpSpPr>
              <a:xfrm>
                <a:off x="6584760" y="1319040"/>
                <a:ext cx="2346480" cy="415440"/>
                <a:chOff x="6584760" y="1319040"/>
                <a:chExt cx="2346480" cy="415440"/>
              </a:xfrm>
            </p:grpSpPr>
            <p:grpSp>
              <p:nvGrpSpPr>
                <p:cNvPr id="3269" name=""/>
                <p:cNvGrpSpPr/>
                <p:nvPr/>
              </p:nvGrpSpPr>
              <p:grpSpPr>
                <a:xfrm>
                  <a:off x="6584760" y="1319040"/>
                  <a:ext cx="501120" cy="415440"/>
                  <a:chOff x="6584760" y="1319040"/>
                  <a:chExt cx="501120" cy="415440"/>
                </a:xfrm>
              </p:grpSpPr>
              <p:sp>
                <p:nvSpPr>
                  <p:cNvPr id="3270" name=""/>
                  <p:cNvSpPr/>
                  <p:nvPr/>
                </p:nvSpPr>
                <p:spPr>
                  <a:xfrm>
                    <a:off x="6602040" y="133776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
                  <p:cNvSpPr/>
                  <p:nvPr/>
                </p:nvSpPr>
                <p:spPr>
                  <a:xfrm>
                    <a:off x="6584760" y="131904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
                  <p:cNvSpPr/>
                  <p:nvPr/>
                </p:nvSpPr>
                <p:spPr>
                  <a:xfrm>
                    <a:off x="6584760" y="131904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3" name=""/>
                <p:cNvGrpSpPr/>
                <p:nvPr/>
              </p:nvGrpSpPr>
              <p:grpSpPr>
                <a:xfrm>
                  <a:off x="7469280" y="1319040"/>
                  <a:ext cx="502560" cy="415440"/>
                  <a:chOff x="7469280" y="1319040"/>
                  <a:chExt cx="502560" cy="415440"/>
                </a:xfrm>
              </p:grpSpPr>
              <p:sp>
                <p:nvSpPr>
                  <p:cNvPr id="3274" name=""/>
                  <p:cNvSpPr/>
                  <p:nvPr/>
                </p:nvSpPr>
                <p:spPr>
                  <a:xfrm>
                    <a:off x="7489080" y="133776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
                  <p:cNvSpPr/>
                  <p:nvPr/>
                </p:nvSpPr>
                <p:spPr>
                  <a:xfrm>
                    <a:off x="7469280" y="13190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
                  <p:cNvSpPr/>
                  <p:nvPr/>
                </p:nvSpPr>
                <p:spPr>
                  <a:xfrm>
                    <a:off x="7469280" y="13190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7" name=""/>
                <p:cNvGrpSpPr/>
                <p:nvPr/>
              </p:nvGrpSpPr>
              <p:grpSpPr>
                <a:xfrm>
                  <a:off x="7932600" y="1319040"/>
                  <a:ext cx="498240" cy="415440"/>
                  <a:chOff x="7932600" y="1319040"/>
                  <a:chExt cx="498240" cy="415440"/>
                </a:xfrm>
              </p:grpSpPr>
              <p:sp>
                <p:nvSpPr>
                  <p:cNvPr id="3278" name=""/>
                  <p:cNvSpPr/>
                  <p:nvPr/>
                </p:nvSpPr>
                <p:spPr>
                  <a:xfrm>
                    <a:off x="7932600" y="133776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
                  <p:cNvSpPr/>
                  <p:nvPr/>
                </p:nvSpPr>
                <p:spPr>
                  <a:xfrm>
                    <a:off x="7932600" y="131904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
                  <p:cNvSpPr/>
                  <p:nvPr/>
                </p:nvSpPr>
                <p:spPr>
                  <a:xfrm>
                    <a:off x="7932600" y="131904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1" name=""/>
                <p:cNvSpPr/>
                <p:nvPr/>
              </p:nvSpPr>
              <p:spPr>
                <a:xfrm>
                  <a:off x="8531280" y="142668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
                <p:cNvSpPr/>
                <p:nvPr/>
              </p:nvSpPr>
              <p:spPr>
                <a:xfrm>
                  <a:off x="7010280" y="142668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83" name=""/>
            <p:cNvSpPr/>
            <p:nvPr/>
          </p:nvSpPr>
          <p:spPr>
            <a:xfrm>
              <a:off x="6534360" y="1252440"/>
              <a:ext cx="403200" cy="16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4" name=""/>
            <p:cNvGrpSpPr/>
            <p:nvPr/>
          </p:nvGrpSpPr>
          <p:grpSpPr>
            <a:xfrm>
              <a:off x="6724800" y="1297080"/>
              <a:ext cx="2441160" cy="596160"/>
              <a:chOff x="6724800" y="1297080"/>
              <a:chExt cx="2441160" cy="596160"/>
            </a:xfrm>
          </p:grpSpPr>
          <p:sp>
            <p:nvSpPr>
              <p:cNvPr id="3285" name=""/>
              <p:cNvSpPr/>
              <p:nvPr/>
            </p:nvSpPr>
            <p:spPr>
              <a:xfrm>
                <a:off x="7338960" y="129708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
              <p:cNvSpPr/>
              <p:nvPr/>
            </p:nvSpPr>
            <p:spPr>
              <a:xfrm>
                <a:off x="7781760" y="129708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7" name=""/>
              <p:cNvSpPr/>
              <p:nvPr/>
            </p:nvSpPr>
            <p:spPr>
              <a:xfrm>
                <a:off x="8397720" y="129708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
              <p:cNvSpPr/>
              <p:nvPr/>
            </p:nvSpPr>
            <p:spPr>
              <a:xfrm>
                <a:off x="6897600" y="129708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
              <p:cNvSpPr/>
              <p:nvPr/>
            </p:nvSpPr>
            <p:spPr>
              <a:xfrm>
                <a:off x="6724800" y="143964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0" name=""/>
              <p:cNvSpPr/>
              <p:nvPr/>
            </p:nvSpPr>
            <p:spPr>
              <a:xfrm>
                <a:off x="6799680" y="1460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291" name=""/>
              <p:cNvSpPr/>
              <p:nvPr/>
            </p:nvSpPr>
            <p:spPr>
              <a:xfrm>
                <a:off x="7493040" y="143964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2" name=""/>
              <p:cNvSpPr/>
              <p:nvPr/>
            </p:nvSpPr>
            <p:spPr>
              <a:xfrm>
                <a:off x="7702200" y="1460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293" name=""/>
              <p:cNvSpPr/>
              <p:nvPr/>
            </p:nvSpPr>
            <p:spPr>
              <a:xfrm>
                <a:off x="7935840" y="143964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4" name=""/>
              <p:cNvSpPr/>
              <p:nvPr/>
            </p:nvSpPr>
            <p:spPr>
              <a:xfrm>
                <a:off x="8148960" y="1460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295" name=""/>
              <p:cNvSpPr/>
              <p:nvPr/>
            </p:nvSpPr>
            <p:spPr>
              <a:xfrm>
                <a:off x="8553600" y="143964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6" name=""/>
              <p:cNvSpPr/>
              <p:nvPr/>
            </p:nvSpPr>
            <p:spPr>
              <a:xfrm>
                <a:off x="8707320" y="1460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297" name=""/>
              <p:cNvSpPr/>
              <p:nvPr/>
            </p:nvSpPr>
            <p:spPr>
              <a:xfrm>
                <a:off x="7051680" y="143964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8" name=""/>
              <p:cNvSpPr/>
              <p:nvPr/>
            </p:nvSpPr>
            <p:spPr>
              <a:xfrm>
                <a:off x="7241760" y="1460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299" name=""/>
              <p:cNvSpPr/>
              <p:nvPr/>
            </p:nvSpPr>
            <p:spPr>
              <a:xfrm>
                <a:off x="6878520" y="158580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0" name=""/>
              <p:cNvSpPr/>
              <p:nvPr/>
            </p:nvSpPr>
            <p:spPr>
              <a:xfrm>
                <a:off x="7647120" y="158580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1" name=""/>
              <p:cNvSpPr/>
              <p:nvPr/>
            </p:nvSpPr>
            <p:spPr>
              <a:xfrm>
                <a:off x="8091360" y="158580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2" name=""/>
              <p:cNvGrpSpPr/>
              <p:nvPr/>
            </p:nvGrpSpPr>
            <p:grpSpPr>
              <a:xfrm>
                <a:off x="8643960" y="1477800"/>
                <a:ext cx="522000" cy="415440"/>
                <a:chOff x="8643960" y="1477800"/>
                <a:chExt cx="522000" cy="415440"/>
              </a:xfrm>
            </p:grpSpPr>
            <p:sp>
              <p:nvSpPr>
                <p:cNvPr id="3303" name=""/>
                <p:cNvSpPr/>
                <p:nvPr/>
              </p:nvSpPr>
              <p:spPr>
                <a:xfrm>
                  <a:off x="8663400" y="149652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4" name=""/>
                <p:cNvSpPr/>
                <p:nvPr/>
              </p:nvSpPr>
              <p:spPr>
                <a:xfrm>
                  <a:off x="8643960" y="147780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5" name=""/>
                <p:cNvSpPr/>
                <p:nvPr/>
              </p:nvSpPr>
              <p:spPr>
                <a:xfrm>
                  <a:off x="8643960" y="147780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6" name=""/>
              <p:cNvGrpSpPr/>
              <p:nvPr/>
            </p:nvGrpSpPr>
            <p:grpSpPr>
              <a:xfrm>
                <a:off x="7203960" y="1477800"/>
                <a:ext cx="501480" cy="415440"/>
                <a:chOff x="7203960" y="1477800"/>
                <a:chExt cx="501480" cy="415440"/>
              </a:xfrm>
            </p:grpSpPr>
            <p:sp>
              <p:nvSpPr>
                <p:cNvPr id="3307" name=""/>
                <p:cNvSpPr/>
                <p:nvPr/>
              </p:nvSpPr>
              <p:spPr>
                <a:xfrm>
                  <a:off x="7223760" y="149652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8" name=""/>
                <p:cNvSpPr/>
                <p:nvPr/>
              </p:nvSpPr>
              <p:spPr>
                <a:xfrm>
                  <a:off x="7203960" y="147780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9" name=""/>
                <p:cNvSpPr/>
                <p:nvPr/>
              </p:nvSpPr>
              <p:spPr>
                <a:xfrm>
                  <a:off x="7203960" y="147780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0" name=""/>
              <p:cNvGrpSpPr/>
              <p:nvPr/>
            </p:nvGrpSpPr>
            <p:grpSpPr>
              <a:xfrm>
                <a:off x="6762600" y="1477800"/>
                <a:ext cx="2346480" cy="415440"/>
                <a:chOff x="6762600" y="1477800"/>
                <a:chExt cx="2346480" cy="415440"/>
              </a:xfrm>
            </p:grpSpPr>
            <p:grpSp>
              <p:nvGrpSpPr>
                <p:cNvPr id="3311" name=""/>
                <p:cNvGrpSpPr/>
                <p:nvPr/>
              </p:nvGrpSpPr>
              <p:grpSpPr>
                <a:xfrm>
                  <a:off x="6762600" y="1477800"/>
                  <a:ext cx="501120" cy="415440"/>
                  <a:chOff x="6762600" y="1477800"/>
                  <a:chExt cx="501120" cy="415440"/>
                </a:xfrm>
              </p:grpSpPr>
              <p:sp>
                <p:nvSpPr>
                  <p:cNvPr id="3312" name=""/>
                  <p:cNvSpPr/>
                  <p:nvPr/>
                </p:nvSpPr>
                <p:spPr>
                  <a:xfrm>
                    <a:off x="6779880" y="149652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3" name=""/>
                  <p:cNvSpPr/>
                  <p:nvPr/>
                </p:nvSpPr>
                <p:spPr>
                  <a:xfrm>
                    <a:off x="6762600" y="147780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4" name=""/>
                  <p:cNvSpPr/>
                  <p:nvPr/>
                </p:nvSpPr>
                <p:spPr>
                  <a:xfrm>
                    <a:off x="6762600" y="147780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5" name=""/>
                <p:cNvGrpSpPr/>
                <p:nvPr/>
              </p:nvGrpSpPr>
              <p:grpSpPr>
                <a:xfrm>
                  <a:off x="7647120" y="1477800"/>
                  <a:ext cx="502560" cy="415440"/>
                  <a:chOff x="7647120" y="1477800"/>
                  <a:chExt cx="502560" cy="415440"/>
                </a:xfrm>
              </p:grpSpPr>
              <p:sp>
                <p:nvSpPr>
                  <p:cNvPr id="3316" name=""/>
                  <p:cNvSpPr/>
                  <p:nvPr/>
                </p:nvSpPr>
                <p:spPr>
                  <a:xfrm>
                    <a:off x="7666920" y="149652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7" name=""/>
                  <p:cNvSpPr/>
                  <p:nvPr/>
                </p:nvSpPr>
                <p:spPr>
                  <a:xfrm>
                    <a:off x="7647120" y="147780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8" name=""/>
                  <p:cNvSpPr/>
                  <p:nvPr/>
                </p:nvSpPr>
                <p:spPr>
                  <a:xfrm>
                    <a:off x="7647120" y="147780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9" name=""/>
                <p:cNvGrpSpPr/>
                <p:nvPr/>
              </p:nvGrpSpPr>
              <p:grpSpPr>
                <a:xfrm>
                  <a:off x="8110440" y="1477800"/>
                  <a:ext cx="498240" cy="415440"/>
                  <a:chOff x="8110440" y="1477800"/>
                  <a:chExt cx="498240" cy="415440"/>
                </a:xfrm>
              </p:grpSpPr>
              <p:sp>
                <p:nvSpPr>
                  <p:cNvPr id="3320" name=""/>
                  <p:cNvSpPr/>
                  <p:nvPr/>
                </p:nvSpPr>
                <p:spPr>
                  <a:xfrm>
                    <a:off x="8110440" y="149652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
                  <p:cNvSpPr/>
                  <p:nvPr/>
                </p:nvSpPr>
                <p:spPr>
                  <a:xfrm>
                    <a:off x="8110440" y="147780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2" name=""/>
                  <p:cNvSpPr/>
                  <p:nvPr/>
                </p:nvSpPr>
                <p:spPr>
                  <a:xfrm>
                    <a:off x="8110440" y="147780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3" name=""/>
                <p:cNvSpPr/>
                <p:nvPr/>
              </p:nvSpPr>
              <p:spPr>
                <a:xfrm>
                  <a:off x="8709120" y="158544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4" name=""/>
                <p:cNvSpPr/>
                <p:nvPr/>
              </p:nvSpPr>
              <p:spPr>
                <a:xfrm>
                  <a:off x="7188120" y="158544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25" name=""/>
            <p:cNvGrpSpPr/>
            <p:nvPr/>
          </p:nvGrpSpPr>
          <p:grpSpPr>
            <a:xfrm>
              <a:off x="5803920" y="1287360"/>
              <a:ext cx="402120" cy="470160"/>
              <a:chOff x="5803920" y="1287360"/>
              <a:chExt cx="402120" cy="470160"/>
            </a:xfrm>
          </p:grpSpPr>
          <p:grpSp>
            <p:nvGrpSpPr>
              <p:cNvPr id="3326" name=""/>
              <p:cNvGrpSpPr/>
              <p:nvPr/>
            </p:nvGrpSpPr>
            <p:grpSpPr>
              <a:xfrm>
                <a:off x="5803920" y="1287360"/>
                <a:ext cx="247680" cy="325080"/>
                <a:chOff x="5803920" y="1287360"/>
                <a:chExt cx="247680" cy="325080"/>
              </a:xfrm>
            </p:grpSpPr>
            <p:grpSp>
              <p:nvGrpSpPr>
                <p:cNvPr id="3327" name=""/>
                <p:cNvGrpSpPr/>
                <p:nvPr/>
              </p:nvGrpSpPr>
              <p:grpSpPr>
                <a:xfrm>
                  <a:off x="5803920" y="1287360"/>
                  <a:ext cx="247680" cy="325080"/>
                  <a:chOff x="5803920" y="1287360"/>
                  <a:chExt cx="247680" cy="325080"/>
                </a:xfrm>
              </p:grpSpPr>
              <p:sp>
                <p:nvSpPr>
                  <p:cNvPr id="3328" name=""/>
                  <p:cNvSpPr/>
                  <p:nvPr/>
                </p:nvSpPr>
                <p:spPr>
                  <a:xfrm>
                    <a:off x="5803920" y="1287360"/>
                    <a:ext cx="247680" cy="325080"/>
                  </a:xfrm>
                  <a:custGeom>
                    <a:avLst/>
                    <a:gdLst/>
                    <a:ahLst/>
                    <a:rect l="l" t="t" r="r" b="b"/>
                    <a:pathLst>
                      <a:path w="113" h="157">
                        <a:moveTo>
                          <a:pt x="96" y="0"/>
                        </a:moveTo>
                        <a:lnTo>
                          <a:pt x="113" y="18"/>
                        </a:lnTo>
                        <a:lnTo>
                          <a:pt x="113" y="157"/>
                        </a:lnTo>
                        <a:lnTo>
                          <a:pt x="0" y="157"/>
                        </a:lnTo>
                        <a:lnTo>
                          <a:pt x="0" y="0"/>
                        </a:lnTo>
                        <a:lnTo>
                          <a:pt x="96"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9" name=""/>
                  <p:cNvSpPr/>
                  <p:nvPr/>
                </p:nvSpPr>
                <p:spPr>
                  <a:xfrm>
                    <a:off x="5803920" y="1287360"/>
                    <a:ext cx="247680" cy="325080"/>
                  </a:xfrm>
                  <a:custGeom>
                    <a:avLst/>
                    <a:gdLst/>
                    <a:ahLst/>
                    <a:rect l="l" t="t" r="r" b="b"/>
                    <a:pathLst>
                      <a:path w="113" h="157">
                        <a:moveTo>
                          <a:pt x="96" y="0"/>
                        </a:moveTo>
                        <a:lnTo>
                          <a:pt x="113" y="18"/>
                        </a:lnTo>
                        <a:lnTo>
                          <a:pt x="113" y="157"/>
                        </a:lnTo>
                        <a:lnTo>
                          <a:pt x="0" y="157"/>
                        </a:lnTo>
                        <a:lnTo>
                          <a:pt x="0" y="0"/>
                        </a:lnTo>
                        <a:lnTo>
                          <a:pt x="96"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0" name=""/>
                <p:cNvGrpSpPr/>
                <p:nvPr/>
              </p:nvGrpSpPr>
              <p:grpSpPr>
                <a:xfrm>
                  <a:off x="6015240" y="1287360"/>
                  <a:ext cx="36360" cy="36720"/>
                  <a:chOff x="6015240" y="1287360"/>
                  <a:chExt cx="36360" cy="36720"/>
                </a:xfrm>
              </p:grpSpPr>
              <p:sp>
                <p:nvSpPr>
                  <p:cNvPr id="3331" name=""/>
                  <p:cNvSpPr/>
                  <p:nvPr/>
                </p:nvSpPr>
                <p:spPr>
                  <a:xfrm>
                    <a:off x="6015240" y="1287360"/>
                    <a:ext cx="36360" cy="36720"/>
                  </a:xfrm>
                  <a:custGeom>
                    <a:avLst/>
                    <a:gdLst/>
                    <a:ahLst/>
                    <a:rect l="l" t="t" r="r" b="b"/>
                    <a:pathLst>
                      <a:path w="17" h="18">
                        <a:moveTo>
                          <a:pt x="0" y="0"/>
                        </a:moveTo>
                        <a:lnTo>
                          <a:pt x="17" y="18"/>
                        </a:lnTo>
                        <a:lnTo>
                          <a:pt x="0" y="18"/>
                        </a:lnTo>
                        <a:lnTo>
                          <a:pt x="0" y="0"/>
                        </a:lnTo>
                        <a:close/>
                      </a:path>
                    </a:pathLst>
                  </a:custGeom>
                  <a:solidFill>
                    <a:srgbClr val="3399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32" name=""/>
                  <p:cNvSpPr/>
                  <p:nvPr/>
                </p:nvSpPr>
                <p:spPr>
                  <a:xfrm>
                    <a:off x="6015240" y="1287360"/>
                    <a:ext cx="36360" cy="36720"/>
                  </a:xfrm>
                  <a:custGeom>
                    <a:avLst/>
                    <a:gdLst/>
                    <a:ahLst/>
                    <a:rect l="l" t="t" r="r" b="b"/>
                    <a:pathLst>
                      <a:path w="17" h="18">
                        <a:moveTo>
                          <a:pt x="0" y="0"/>
                        </a:moveTo>
                        <a:lnTo>
                          <a:pt x="17" y="18"/>
                        </a:lnTo>
                        <a:lnTo>
                          <a:pt x="0" y="18"/>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3333" name=""/>
              <p:cNvGrpSpPr/>
              <p:nvPr/>
            </p:nvGrpSpPr>
            <p:grpSpPr>
              <a:xfrm>
                <a:off x="5881320" y="1359720"/>
                <a:ext cx="247680" cy="325080"/>
                <a:chOff x="5881320" y="1359720"/>
                <a:chExt cx="247680" cy="325080"/>
              </a:xfrm>
            </p:grpSpPr>
            <p:grpSp>
              <p:nvGrpSpPr>
                <p:cNvPr id="3334" name=""/>
                <p:cNvGrpSpPr/>
                <p:nvPr/>
              </p:nvGrpSpPr>
              <p:grpSpPr>
                <a:xfrm>
                  <a:off x="5881320" y="1359720"/>
                  <a:ext cx="247680" cy="325080"/>
                  <a:chOff x="5881320" y="1359720"/>
                  <a:chExt cx="247680" cy="325080"/>
                </a:xfrm>
              </p:grpSpPr>
              <p:sp>
                <p:nvSpPr>
                  <p:cNvPr id="3335" name=""/>
                  <p:cNvSpPr/>
                  <p:nvPr/>
                </p:nvSpPr>
                <p:spPr>
                  <a:xfrm>
                    <a:off x="5881320" y="1359720"/>
                    <a:ext cx="247680" cy="325080"/>
                  </a:xfrm>
                  <a:custGeom>
                    <a:avLst/>
                    <a:gdLst/>
                    <a:ahLst/>
                    <a:rect l="l" t="t" r="r" b="b"/>
                    <a:pathLst>
                      <a:path w="113" h="157">
                        <a:moveTo>
                          <a:pt x="96" y="0"/>
                        </a:moveTo>
                        <a:lnTo>
                          <a:pt x="113" y="17"/>
                        </a:lnTo>
                        <a:lnTo>
                          <a:pt x="113" y="157"/>
                        </a:lnTo>
                        <a:lnTo>
                          <a:pt x="0" y="157"/>
                        </a:lnTo>
                        <a:lnTo>
                          <a:pt x="0" y="0"/>
                        </a:lnTo>
                        <a:lnTo>
                          <a:pt x="96"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6" name=""/>
                  <p:cNvSpPr/>
                  <p:nvPr/>
                </p:nvSpPr>
                <p:spPr>
                  <a:xfrm>
                    <a:off x="5881320" y="1359720"/>
                    <a:ext cx="247680" cy="325080"/>
                  </a:xfrm>
                  <a:custGeom>
                    <a:avLst/>
                    <a:gdLst/>
                    <a:ahLst/>
                    <a:rect l="l" t="t" r="r" b="b"/>
                    <a:pathLst>
                      <a:path w="113" h="157">
                        <a:moveTo>
                          <a:pt x="96" y="0"/>
                        </a:moveTo>
                        <a:lnTo>
                          <a:pt x="113" y="17"/>
                        </a:lnTo>
                        <a:lnTo>
                          <a:pt x="113" y="157"/>
                        </a:lnTo>
                        <a:lnTo>
                          <a:pt x="0" y="157"/>
                        </a:lnTo>
                        <a:lnTo>
                          <a:pt x="0" y="0"/>
                        </a:lnTo>
                        <a:lnTo>
                          <a:pt x="96"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7" name=""/>
                <p:cNvGrpSpPr/>
                <p:nvPr/>
              </p:nvGrpSpPr>
              <p:grpSpPr>
                <a:xfrm>
                  <a:off x="6091920" y="1359720"/>
                  <a:ext cx="36720" cy="34920"/>
                  <a:chOff x="6091920" y="1359720"/>
                  <a:chExt cx="36720" cy="34920"/>
                </a:xfrm>
              </p:grpSpPr>
              <p:sp>
                <p:nvSpPr>
                  <p:cNvPr id="3338" name=""/>
                  <p:cNvSpPr/>
                  <p:nvPr/>
                </p:nvSpPr>
                <p:spPr>
                  <a:xfrm>
                    <a:off x="6091920" y="1359720"/>
                    <a:ext cx="36720" cy="34920"/>
                  </a:xfrm>
                  <a:custGeom>
                    <a:avLst/>
                    <a:gdLst/>
                    <a:ahLst/>
                    <a:rect l="l" t="t" r="r" b="b"/>
                    <a:pathLst>
                      <a:path w="17" h="17">
                        <a:moveTo>
                          <a:pt x="0" y="0"/>
                        </a:moveTo>
                        <a:lnTo>
                          <a:pt x="17" y="17"/>
                        </a:lnTo>
                        <a:lnTo>
                          <a:pt x="0" y="17"/>
                        </a:lnTo>
                        <a:lnTo>
                          <a:pt x="0" y="0"/>
                        </a:lnTo>
                        <a:close/>
                      </a:path>
                    </a:pathLst>
                  </a:custGeom>
                  <a:solidFill>
                    <a:srgbClr val="3399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39" name=""/>
                  <p:cNvSpPr/>
                  <p:nvPr/>
                </p:nvSpPr>
                <p:spPr>
                  <a:xfrm>
                    <a:off x="6091920" y="1359720"/>
                    <a:ext cx="36720" cy="34920"/>
                  </a:xfrm>
                  <a:custGeom>
                    <a:avLst/>
                    <a:gdLst/>
                    <a:ahLst/>
                    <a:rect l="l" t="t" r="r" b="b"/>
                    <a:pathLst>
                      <a:path w="17" h="17">
                        <a:moveTo>
                          <a:pt x="0" y="0"/>
                        </a:moveTo>
                        <a:lnTo>
                          <a:pt x="17" y="17"/>
                        </a:lnTo>
                        <a:lnTo>
                          <a:pt x="0" y="17"/>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nvGrpSpPr>
              <p:cNvPr id="3340" name=""/>
              <p:cNvGrpSpPr/>
              <p:nvPr/>
            </p:nvGrpSpPr>
            <p:grpSpPr>
              <a:xfrm>
                <a:off x="5938200" y="1432080"/>
                <a:ext cx="267840" cy="325440"/>
                <a:chOff x="5938200" y="1432080"/>
                <a:chExt cx="267840" cy="325440"/>
              </a:xfrm>
            </p:grpSpPr>
            <p:grpSp>
              <p:nvGrpSpPr>
                <p:cNvPr id="3341" name=""/>
                <p:cNvGrpSpPr/>
                <p:nvPr/>
              </p:nvGrpSpPr>
              <p:grpSpPr>
                <a:xfrm>
                  <a:off x="5938200" y="1432080"/>
                  <a:ext cx="267840" cy="325440"/>
                  <a:chOff x="5938200" y="1432080"/>
                  <a:chExt cx="267840" cy="325440"/>
                </a:xfrm>
              </p:grpSpPr>
              <p:sp>
                <p:nvSpPr>
                  <p:cNvPr id="3342" name=""/>
                  <p:cNvSpPr/>
                  <p:nvPr/>
                </p:nvSpPr>
                <p:spPr>
                  <a:xfrm>
                    <a:off x="5938200" y="1432080"/>
                    <a:ext cx="267840" cy="325440"/>
                  </a:xfrm>
                  <a:custGeom>
                    <a:avLst/>
                    <a:gdLst/>
                    <a:ahLst/>
                    <a:rect l="l" t="t" r="r" b="b"/>
                    <a:pathLst>
                      <a:path w="122" h="157">
                        <a:moveTo>
                          <a:pt x="105" y="0"/>
                        </a:moveTo>
                        <a:lnTo>
                          <a:pt x="122" y="17"/>
                        </a:lnTo>
                        <a:lnTo>
                          <a:pt x="122" y="157"/>
                        </a:lnTo>
                        <a:lnTo>
                          <a:pt x="0" y="157"/>
                        </a:lnTo>
                        <a:lnTo>
                          <a:pt x="0" y="0"/>
                        </a:lnTo>
                        <a:lnTo>
                          <a:pt x="105"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3" name=""/>
                  <p:cNvSpPr/>
                  <p:nvPr/>
                </p:nvSpPr>
                <p:spPr>
                  <a:xfrm>
                    <a:off x="5938200" y="1432080"/>
                    <a:ext cx="267840" cy="325440"/>
                  </a:xfrm>
                  <a:custGeom>
                    <a:avLst/>
                    <a:gdLst/>
                    <a:ahLst/>
                    <a:rect l="l" t="t" r="r" b="b"/>
                    <a:pathLst>
                      <a:path w="122" h="157">
                        <a:moveTo>
                          <a:pt x="105" y="0"/>
                        </a:moveTo>
                        <a:lnTo>
                          <a:pt x="122" y="17"/>
                        </a:lnTo>
                        <a:lnTo>
                          <a:pt x="122" y="157"/>
                        </a:lnTo>
                        <a:lnTo>
                          <a:pt x="0" y="157"/>
                        </a:lnTo>
                        <a:lnTo>
                          <a:pt x="0" y="0"/>
                        </a:lnTo>
                        <a:lnTo>
                          <a:pt x="105"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4" name=""/>
                <p:cNvGrpSpPr/>
                <p:nvPr/>
              </p:nvGrpSpPr>
              <p:grpSpPr>
                <a:xfrm>
                  <a:off x="6168960" y="1432080"/>
                  <a:ext cx="36720" cy="34920"/>
                  <a:chOff x="6168960" y="1432080"/>
                  <a:chExt cx="36720" cy="34920"/>
                </a:xfrm>
              </p:grpSpPr>
              <p:sp>
                <p:nvSpPr>
                  <p:cNvPr id="3345" name=""/>
                  <p:cNvSpPr/>
                  <p:nvPr/>
                </p:nvSpPr>
                <p:spPr>
                  <a:xfrm>
                    <a:off x="6168960" y="1432080"/>
                    <a:ext cx="36720" cy="34920"/>
                  </a:xfrm>
                  <a:custGeom>
                    <a:avLst/>
                    <a:gdLst/>
                    <a:ahLst/>
                    <a:rect l="l" t="t" r="r" b="b"/>
                    <a:pathLst>
                      <a:path w="17" h="17">
                        <a:moveTo>
                          <a:pt x="0" y="0"/>
                        </a:moveTo>
                        <a:lnTo>
                          <a:pt x="17" y="17"/>
                        </a:lnTo>
                        <a:lnTo>
                          <a:pt x="0" y="17"/>
                        </a:lnTo>
                        <a:lnTo>
                          <a:pt x="0" y="0"/>
                        </a:lnTo>
                        <a:close/>
                      </a:path>
                    </a:pathLst>
                  </a:custGeom>
                  <a:solidFill>
                    <a:srgbClr val="3399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46" name=""/>
                  <p:cNvSpPr/>
                  <p:nvPr/>
                </p:nvSpPr>
                <p:spPr>
                  <a:xfrm>
                    <a:off x="6168960" y="1432080"/>
                    <a:ext cx="36720" cy="34920"/>
                  </a:xfrm>
                  <a:custGeom>
                    <a:avLst/>
                    <a:gdLst/>
                    <a:ahLst/>
                    <a:rect l="l" t="t" r="r" b="b"/>
                    <a:pathLst>
                      <a:path w="17" h="17">
                        <a:moveTo>
                          <a:pt x="0" y="0"/>
                        </a:moveTo>
                        <a:lnTo>
                          <a:pt x="17" y="17"/>
                        </a:lnTo>
                        <a:lnTo>
                          <a:pt x="0" y="17"/>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grpSp>
      <p:grpSp>
        <p:nvGrpSpPr>
          <p:cNvPr id="3347" name=""/>
          <p:cNvGrpSpPr/>
          <p:nvPr/>
        </p:nvGrpSpPr>
        <p:grpSpPr>
          <a:xfrm>
            <a:off x="5803920" y="1938240"/>
            <a:ext cx="3362040" cy="913680"/>
            <a:chOff x="5803920" y="1938240"/>
            <a:chExt cx="3362040" cy="913680"/>
          </a:xfrm>
        </p:grpSpPr>
        <p:grpSp>
          <p:nvGrpSpPr>
            <p:cNvPr id="3348" name=""/>
            <p:cNvGrpSpPr/>
            <p:nvPr/>
          </p:nvGrpSpPr>
          <p:grpSpPr>
            <a:xfrm>
              <a:off x="6413760" y="1938240"/>
              <a:ext cx="2441160" cy="596160"/>
              <a:chOff x="6413760" y="1938240"/>
              <a:chExt cx="2441160" cy="596160"/>
            </a:xfrm>
          </p:grpSpPr>
          <p:sp>
            <p:nvSpPr>
              <p:cNvPr id="3349" name=""/>
              <p:cNvSpPr/>
              <p:nvPr/>
            </p:nvSpPr>
            <p:spPr>
              <a:xfrm>
                <a:off x="7027920" y="193824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0" name=""/>
              <p:cNvSpPr/>
              <p:nvPr/>
            </p:nvSpPr>
            <p:spPr>
              <a:xfrm>
                <a:off x="7470720" y="193824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
              <p:cNvSpPr/>
              <p:nvPr/>
            </p:nvSpPr>
            <p:spPr>
              <a:xfrm>
                <a:off x="8086680" y="193824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
              <p:cNvSpPr/>
              <p:nvPr/>
            </p:nvSpPr>
            <p:spPr>
              <a:xfrm>
                <a:off x="6586560" y="193824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3" name=""/>
              <p:cNvSpPr/>
              <p:nvPr/>
            </p:nvSpPr>
            <p:spPr>
              <a:xfrm>
                <a:off x="6413760" y="208080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4" name=""/>
              <p:cNvSpPr/>
              <p:nvPr/>
            </p:nvSpPr>
            <p:spPr>
              <a:xfrm>
                <a:off x="6488640" y="21016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355" name=""/>
              <p:cNvSpPr/>
              <p:nvPr/>
            </p:nvSpPr>
            <p:spPr>
              <a:xfrm>
                <a:off x="7182000" y="208080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6" name=""/>
              <p:cNvSpPr/>
              <p:nvPr/>
            </p:nvSpPr>
            <p:spPr>
              <a:xfrm>
                <a:off x="7391160" y="21016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357" name=""/>
              <p:cNvSpPr/>
              <p:nvPr/>
            </p:nvSpPr>
            <p:spPr>
              <a:xfrm>
                <a:off x="7624800" y="208080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
              <p:cNvSpPr/>
              <p:nvPr/>
            </p:nvSpPr>
            <p:spPr>
              <a:xfrm>
                <a:off x="7837920" y="21016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359" name=""/>
              <p:cNvSpPr/>
              <p:nvPr/>
            </p:nvSpPr>
            <p:spPr>
              <a:xfrm>
                <a:off x="8242560" y="208080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
              <p:cNvSpPr/>
              <p:nvPr/>
            </p:nvSpPr>
            <p:spPr>
              <a:xfrm>
                <a:off x="8396280" y="21016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361" name=""/>
              <p:cNvSpPr/>
              <p:nvPr/>
            </p:nvSpPr>
            <p:spPr>
              <a:xfrm>
                <a:off x="6740640" y="208080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2" name=""/>
              <p:cNvSpPr/>
              <p:nvPr/>
            </p:nvSpPr>
            <p:spPr>
              <a:xfrm>
                <a:off x="6930720" y="21016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363" name=""/>
              <p:cNvSpPr/>
              <p:nvPr/>
            </p:nvSpPr>
            <p:spPr>
              <a:xfrm>
                <a:off x="6567480" y="222696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
              <p:cNvSpPr/>
              <p:nvPr/>
            </p:nvSpPr>
            <p:spPr>
              <a:xfrm>
                <a:off x="7336080" y="222696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5" name=""/>
              <p:cNvSpPr/>
              <p:nvPr/>
            </p:nvSpPr>
            <p:spPr>
              <a:xfrm>
                <a:off x="7780320" y="222696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66" name=""/>
              <p:cNvGrpSpPr/>
              <p:nvPr/>
            </p:nvGrpSpPr>
            <p:grpSpPr>
              <a:xfrm>
                <a:off x="8332920" y="2118960"/>
                <a:ext cx="522000" cy="415440"/>
                <a:chOff x="8332920" y="2118960"/>
                <a:chExt cx="522000" cy="415440"/>
              </a:xfrm>
            </p:grpSpPr>
            <p:sp>
              <p:nvSpPr>
                <p:cNvPr id="3367" name=""/>
                <p:cNvSpPr/>
                <p:nvPr/>
              </p:nvSpPr>
              <p:spPr>
                <a:xfrm>
                  <a:off x="8352360" y="213768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
                <p:cNvSpPr/>
                <p:nvPr/>
              </p:nvSpPr>
              <p:spPr>
                <a:xfrm>
                  <a:off x="8332920" y="211896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9" name=""/>
                <p:cNvSpPr/>
                <p:nvPr/>
              </p:nvSpPr>
              <p:spPr>
                <a:xfrm>
                  <a:off x="8332920" y="211896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0" name=""/>
              <p:cNvGrpSpPr/>
              <p:nvPr/>
            </p:nvGrpSpPr>
            <p:grpSpPr>
              <a:xfrm>
                <a:off x="6892920" y="2118960"/>
                <a:ext cx="501480" cy="415440"/>
                <a:chOff x="6892920" y="2118960"/>
                <a:chExt cx="501480" cy="415440"/>
              </a:xfrm>
            </p:grpSpPr>
            <p:sp>
              <p:nvSpPr>
                <p:cNvPr id="3371" name=""/>
                <p:cNvSpPr/>
                <p:nvPr/>
              </p:nvSpPr>
              <p:spPr>
                <a:xfrm>
                  <a:off x="6912720" y="213768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
                <p:cNvSpPr/>
                <p:nvPr/>
              </p:nvSpPr>
              <p:spPr>
                <a:xfrm>
                  <a:off x="6892920" y="211896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3" name=""/>
                <p:cNvSpPr/>
                <p:nvPr/>
              </p:nvSpPr>
              <p:spPr>
                <a:xfrm>
                  <a:off x="6892920" y="211896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4" name=""/>
              <p:cNvGrpSpPr/>
              <p:nvPr/>
            </p:nvGrpSpPr>
            <p:grpSpPr>
              <a:xfrm>
                <a:off x="6451560" y="2118960"/>
                <a:ext cx="2346480" cy="415440"/>
                <a:chOff x="6451560" y="2118960"/>
                <a:chExt cx="2346480" cy="415440"/>
              </a:xfrm>
            </p:grpSpPr>
            <p:grpSp>
              <p:nvGrpSpPr>
                <p:cNvPr id="3375" name=""/>
                <p:cNvGrpSpPr/>
                <p:nvPr/>
              </p:nvGrpSpPr>
              <p:grpSpPr>
                <a:xfrm>
                  <a:off x="6451560" y="2118960"/>
                  <a:ext cx="501120" cy="415440"/>
                  <a:chOff x="6451560" y="2118960"/>
                  <a:chExt cx="501120" cy="415440"/>
                </a:xfrm>
              </p:grpSpPr>
              <p:sp>
                <p:nvSpPr>
                  <p:cNvPr id="3376" name=""/>
                  <p:cNvSpPr/>
                  <p:nvPr/>
                </p:nvSpPr>
                <p:spPr>
                  <a:xfrm>
                    <a:off x="6468840" y="213768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
                  <p:cNvSpPr/>
                  <p:nvPr/>
                </p:nvSpPr>
                <p:spPr>
                  <a:xfrm>
                    <a:off x="6451560" y="211896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
                  <p:cNvSpPr/>
                  <p:nvPr/>
                </p:nvSpPr>
                <p:spPr>
                  <a:xfrm>
                    <a:off x="6451560" y="211896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9" name=""/>
                <p:cNvGrpSpPr/>
                <p:nvPr/>
              </p:nvGrpSpPr>
              <p:grpSpPr>
                <a:xfrm>
                  <a:off x="7336080" y="2118960"/>
                  <a:ext cx="502560" cy="415440"/>
                  <a:chOff x="7336080" y="2118960"/>
                  <a:chExt cx="502560" cy="415440"/>
                </a:xfrm>
              </p:grpSpPr>
              <p:sp>
                <p:nvSpPr>
                  <p:cNvPr id="3380" name=""/>
                  <p:cNvSpPr/>
                  <p:nvPr/>
                </p:nvSpPr>
                <p:spPr>
                  <a:xfrm>
                    <a:off x="7355880" y="213768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
                  <p:cNvSpPr/>
                  <p:nvPr/>
                </p:nvSpPr>
                <p:spPr>
                  <a:xfrm>
                    <a:off x="7336080" y="211896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
                  <p:cNvSpPr/>
                  <p:nvPr/>
                </p:nvSpPr>
                <p:spPr>
                  <a:xfrm>
                    <a:off x="7336080" y="211896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3" name=""/>
                <p:cNvGrpSpPr/>
                <p:nvPr/>
              </p:nvGrpSpPr>
              <p:grpSpPr>
                <a:xfrm>
                  <a:off x="7799400" y="2118960"/>
                  <a:ext cx="498240" cy="415440"/>
                  <a:chOff x="7799400" y="2118960"/>
                  <a:chExt cx="498240" cy="415440"/>
                </a:xfrm>
              </p:grpSpPr>
              <p:sp>
                <p:nvSpPr>
                  <p:cNvPr id="3384" name=""/>
                  <p:cNvSpPr/>
                  <p:nvPr/>
                </p:nvSpPr>
                <p:spPr>
                  <a:xfrm>
                    <a:off x="7799400" y="213768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
                  <p:cNvSpPr/>
                  <p:nvPr/>
                </p:nvSpPr>
                <p:spPr>
                  <a:xfrm>
                    <a:off x="7799400" y="211896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
                  <p:cNvSpPr/>
                  <p:nvPr/>
                </p:nvSpPr>
                <p:spPr>
                  <a:xfrm>
                    <a:off x="7799400" y="211896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7" name=""/>
                <p:cNvSpPr/>
                <p:nvPr/>
              </p:nvSpPr>
              <p:spPr>
                <a:xfrm>
                  <a:off x="8398080" y="222660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
                <p:cNvSpPr/>
                <p:nvPr/>
              </p:nvSpPr>
              <p:spPr>
                <a:xfrm>
                  <a:off x="6877080" y="222660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89" name=""/>
            <p:cNvGrpSpPr/>
            <p:nvPr/>
          </p:nvGrpSpPr>
          <p:grpSpPr>
            <a:xfrm>
              <a:off x="6546960" y="2097000"/>
              <a:ext cx="2441160" cy="596160"/>
              <a:chOff x="6546960" y="2097000"/>
              <a:chExt cx="2441160" cy="596160"/>
            </a:xfrm>
          </p:grpSpPr>
          <p:sp>
            <p:nvSpPr>
              <p:cNvPr id="3390" name=""/>
              <p:cNvSpPr/>
              <p:nvPr/>
            </p:nvSpPr>
            <p:spPr>
              <a:xfrm>
                <a:off x="7161120" y="209700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1" name=""/>
              <p:cNvSpPr/>
              <p:nvPr/>
            </p:nvSpPr>
            <p:spPr>
              <a:xfrm>
                <a:off x="7603920" y="209700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
              <p:cNvSpPr/>
              <p:nvPr/>
            </p:nvSpPr>
            <p:spPr>
              <a:xfrm>
                <a:off x="8219880" y="209700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3" name=""/>
              <p:cNvSpPr/>
              <p:nvPr/>
            </p:nvSpPr>
            <p:spPr>
              <a:xfrm>
                <a:off x="6719760" y="209700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
              <p:cNvSpPr/>
              <p:nvPr/>
            </p:nvSpPr>
            <p:spPr>
              <a:xfrm>
                <a:off x="6546960" y="223956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
              <p:cNvSpPr/>
              <p:nvPr/>
            </p:nvSpPr>
            <p:spPr>
              <a:xfrm>
                <a:off x="6621840" y="2260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396" name=""/>
              <p:cNvSpPr/>
              <p:nvPr/>
            </p:nvSpPr>
            <p:spPr>
              <a:xfrm>
                <a:off x="7315200" y="223956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7" name=""/>
              <p:cNvSpPr/>
              <p:nvPr/>
            </p:nvSpPr>
            <p:spPr>
              <a:xfrm>
                <a:off x="7524360" y="2260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398" name=""/>
              <p:cNvSpPr/>
              <p:nvPr/>
            </p:nvSpPr>
            <p:spPr>
              <a:xfrm>
                <a:off x="7758000" y="223956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9" name=""/>
              <p:cNvSpPr/>
              <p:nvPr/>
            </p:nvSpPr>
            <p:spPr>
              <a:xfrm>
                <a:off x="7971120" y="2260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400" name=""/>
              <p:cNvSpPr/>
              <p:nvPr/>
            </p:nvSpPr>
            <p:spPr>
              <a:xfrm>
                <a:off x="8375760" y="223956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1" name=""/>
              <p:cNvSpPr/>
              <p:nvPr/>
            </p:nvSpPr>
            <p:spPr>
              <a:xfrm>
                <a:off x="8529480" y="2260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402" name=""/>
              <p:cNvSpPr/>
              <p:nvPr/>
            </p:nvSpPr>
            <p:spPr>
              <a:xfrm>
                <a:off x="6873840" y="223956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3" name=""/>
              <p:cNvSpPr/>
              <p:nvPr/>
            </p:nvSpPr>
            <p:spPr>
              <a:xfrm>
                <a:off x="7063920" y="226044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404" name=""/>
              <p:cNvSpPr/>
              <p:nvPr/>
            </p:nvSpPr>
            <p:spPr>
              <a:xfrm>
                <a:off x="6700680" y="238572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5" name=""/>
              <p:cNvSpPr/>
              <p:nvPr/>
            </p:nvSpPr>
            <p:spPr>
              <a:xfrm>
                <a:off x="7469280" y="238572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6" name=""/>
              <p:cNvSpPr/>
              <p:nvPr/>
            </p:nvSpPr>
            <p:spPr>
              <a:xfrm>
                <a:off x="7913520" y="238572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7" name=""/>
              <p:cNvGrpSpPr/>
              <p:nvPr/>
            </p:nvGrpSpPr>
            <p:grpSpPr>
              <a:xfrm>
                <a:off x="8466120" y="2277720"/>
                <a:ext cx="522000" cy="415440"/>
                <a:chOff x="8466120" y="2277720"/>
                <a:chExt cx="522000" cy="415440"/>
              </a:xfrm>
            </p:grpSpPr>
            <p:sp>
              <p:nvSpPr>
                <p:cNvPr id="3408" name=""/>
                <p:cNvSpPr/>
                <p:nvPr/>
              </p:nvSpPr>
              <p:spPr>
                <a:xfrm>
                  <a:off x="8485560" y="229644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9" name=""/>
                <p:cNvSpPr/>
                <p:nvPr/>
              </p:nvSpPr>
              <p:spPr>
                <a:xfrm>
                  <a:off x="8466120" y="227772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0" name=""/>
                <p:cNvSpPr/>
                <p:nvPr/>
              </p:nvSpPr>
              <p:spPr>
                <a:xfrm>
                  <a:off x="8466120" y="227772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1" name=""/>
              <p:cNvGrpSpPr/>
              <p:nvPr/>
            </p:nvGrpSpPr>
            <p:grpSpPr>
              <a:xfrm>
                <a:off x="7026120" y="2277720"/>
                <a:ext cx="501480" cy="415440"/>
                <a:chOff x="7026120" y="2277720"/>
                <a:chExt cx="501480" cy="415440"/>
              </a:xfrm>
            </p:grpSpPr>
            <p:sp>
              <p:nvSpPr>
                <p:cNvPr id="3412" name=""/>
                <p:cNvSpPr/>
                <p:nvPr/>
              </p:nvSpPr>
              <p:spPr>
                <a:xfrm>
                  <a:off x="7045920" y="229644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3" name=""/>
                <p:cNvSpPr/>
                <p:nvPr/>
              </p:nvSpPr>
              <p:spPr>
                <a:xfrm>
                  <a:off x="7026120" y="227772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
                <p:cNvSpPr/>
                <p:nvPr/>
              </p:nvSpPr>
              <p:spPr>
                <a:xfrm>
                  <a:off x="7026120" y="227772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5" name=""/>
              <p:cNvGrpSpPr/>
              <p:nvPr/>
            </p:nvGrpSpPr>
            <p:grpSpPr>
              <a:xfrm>
                <a:off x="6584760" y="2277720"/>
                <a:ext cx="2346480" cy="415440"/>
                <a:chOff x="6584760" y="2277720"/>
                <a:chExt cx="2346480" cy="415440"/>
              </a:xfrm>
            </p:grpSpPr>
            <p:grpSp>
              <p:nvGrpSpPr>
                <p:cNvPr id="3416" name=""/>
                <p:cNvGrpSpPr/>
                <p:nvPr/>
              </p:nvGrpSpPr>
              <p:grpSpPr>
                <a:xfrm>
                  <a:off x="6584760" y="2277720"/>
                  <a:ext cx="501120" cy="415440"/>
                  <a:chOff x="6584760" y="2277720"/>
                  <a:chExt cx="501120" cy="415440"/>
                </a:xfrm>
              </p:grpSpPr>
              <p:sp>
                <p:nvSpPr>
                  <p:cNvPr id="3417" name=""/>
                  <p:cNvSpPr/>
                  <p:nvPr/>
                </p:nvSpPr>
                <p:spPr>
                  <a:xfrm>
                    <a:off x="6602040" y="229644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8" name=""/>
                  <p:cNvSpPr/>
                  <p:nvPr/>
                </p:nvSpPr>
                <p:spPr>
                  <a:xfrm>
                    <a:off x="6584760" y="227772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9" name=""/>
                  <p:cNvSpPr/>
                  <p:nvPr/>
                </p:nvSpPr>
                <p:spPr>
                  <a:xfrm>
                    <a:off x="6584760" y="227772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0" name=""/>
                <p:cNvGrpSpPr/>
                <p:nvPr/>
              </p:nvGrpSpPr>
              <p:grpSpPr>
                <a:xfrm>
                  <a:off x="7469280" y="2277720"/>
                  <a:ext cx="502560" cy="415440"/>
                  <a:chOff x="7469280" y="2277720"/>
                  <a:chExt cx="502560" cy="415440"/>
                </a:xfrm>
              </p:grpSpPr>
              <p:sp>
                <p:nvSpPr>
                  <p:cNvPr id="3421" name=""/>
                  <p:cNvSpPr/>
                  <p:nvPr/>
                </p:nvSpPr>
                <p:spPr>
                  <a:xfrm>
                    <a:off x="7489080" y="229644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
                  <p:cNvSpPr/>
                  <p:nvPr/>
                </p:nvSpPr>
                <p:spPr>
                  <a:xfrm>
                    <a:off x="7469280" y="227772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3" name=""/>
                  <p:cNvSpPr/>
                  <p:nvPr/>
                </p:nvSpPr>
                <p:spPr>
                  <a:xfrm>
                    <a:off x="7469280" y="227772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4" name=""/>
                <p:cNvGrpSpPr/>
                <p:nvPr/>
              </p:nvGrpSpPr>
              <p:grpSpPr>
                <a:xfrm>
                  <a:off x="7932600" y="2277720"/>
                  <a:ext cx="498240" cy="415440"/>
                  <a:chOff x="7932600" y="2277720"/>
                  <a:chExt cx="498240" cy="415440"/>
                </a:xfrm>
              </p:grpSpPr>
              <p:sp>
                <p:nvSpPr>
                  <p:cNvPr id="3425" name=""/>
                  <p:cNvSpPr/>
                  <p:nvPr/>
                </p:nvSpPr>
                <p:spPr>
                  <a:xfrm>
                    <a:off x="7932600" y="229644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6" name=""/>
                  <p:cNvSpPr/>
                  <p:nvPr/>
                </p:nvSpPr>
                <p:spPr>
                  <a:xfrm>
                    <a:off x="7932600" y="227772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
                  <p:cNvSpPr/>
                  <p:nvPr/>
                </p:nvSpPr>
                <p:spPr>
                  <a:xfrm>
                    <a:off x="7932600" y="227772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8" name=""/>
                <p:cNvSpPr/>
                <p:nvPr/>
              </p:nvSpPr>
              <p:spPr>
                <a:xfrm>
                  <a:off x="8531280" y="238536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9" name=""/>
                <p:cNvSpPr/>
                <p:nvPr/>
              </p:nvSpPr>
              <p:spPr>
                <a:xfrm>
                  <a:off x="7010280" y="238536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0" name=""/>
            <p:cNvSpPr/>
            <p:nvPr/>
          </p:nvSpPr>
          <p:spPr>
            <a:xfrm>
              <a:off x="6534360" y="2211120"/>
              <a:ext cx="403200" cy="16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1" name=""/>
            <p:cNvGrpSpPr/>
            <p:nvPr/>
          </p:nvGrpSpPr>
          <p:grpSpPr>
            <a:xfrm>
              <a:off x="6724800" y="2255760"/>
              <a:ext cx="2441160" cy="596160"/>
              <a:chOff x="6724800" y="2255760"/>
              <a:chExt cx="2441160" cy="596160"/>
            </a:xfrm>
          </p:grpSpPr>
          <p:sp>
            <p:nvSpPr>
              <p:cNvPr id="3432" name=""/>
              <p:cNvSpPr/>
              <p:nvPr/>
            </p:nvSpPr>
            <p:spPr>
              <a:xfrm>
                <a:off x="7338960" y="225576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3" name=""/>
              <p:cNvSpPr/>
              <p:nvPr/>
            </p:nvSpPr>
            <p:spPr>
              <a:xfrm>
                <a:off x="7781760" y="225576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4" name=""/>
              <p:cNvSpPr/>
              <p:nvPr/>
            </p:nvSpPr>
            <p:spPr>
              <a:xfrm>
                <a:off x="8397720" y="225576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5" name=""/>
              <p:cNvSpPr/>
              <p:nvPr/>
            </p:nvSpPr>
            <p:spPr>
              <a:xfrm>
                <a:off x="6897600" y="225576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6" name=""/>
              <p:cNvSpPr/>
              <p:nvPr/>
            </p:nvSpPr>
            <p:spPr>
              <a:xfrm>
                <a:off x="6724800" y="239832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7" name=""/>
              <p:cNvSpPr/>
              <p:nvPr/>
            </p:nvSpPr>
            <p:spPr>
              <a:xfrm>
                <a:off x="6799680" y="2419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438" name=""/>
              <p:cNvSpPr/>
              <p:nvPr/>
            </p:nvSpPr>
            <p:spPr>
              <a:xfrm>
                <a:off x="7493040" y="239832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9" name=""/>
              <p:cNvSpPr/>
              <p:nvPr/>
            </p:nvSpPr>
            <p:spPr>
              <a:xfrm>
                <a:off x="7702200" y="2419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440" name=""/>
              <p:cNvSpPr/>
              <p:nvPr/>
            </p:nvSpPr>
            <p:spPr>
              <a:xfrm>
                <a:off x="7935840" y="239832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1" name=""/>
              <p:cNvSpPr/>
              <p:nvPr/>
            </p:nvSpPr>
            <p:spPr>
              <a:xfrm>
                <a:off x="8148960" y="2419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442" name=""/>
              <p:cNvSpPr/>
              <p:nvPr/>
            </p:nvSpPr>
            <p:spPr>
              <a:xfrm>
                <a:off x="8553600" y="239832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3" name=""/>
              <p:cNvSpPr/>
              <p:nvPr/>
            </p:nvSpPr>
            <p:spPr>
              <a:xfrm>
                <a:off x="8707320" y="2419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444" name=""/>
              <p:cNvSpPr/>
              <p:nvPr/>
            </p:nvSpPr>
            <p:spPr>
              <a:xfrm>
                <a:off x="7051680" y="239832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5" name=""/>
              <p:cNvSpPr/>
              <p:nvPr/>
            </p:nvSpPr>
            <p:spPr>
              <a:xfrm>
                <a:off x="7241760" y="24192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446" name=""/>
              <p:cNvSpPr/>
              <p:nvPr/>
            </p:nvSpPr>
            <p:spPr>
              <a:xfrm>
                <a:off x="6878520" y="254448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7" name=""/>
              <p:cNvSpPr/>
              <p:nvPr/>
            </p:nvSpPr>
            <p:spPr>
              <a:xfrm>
                <a:off x="7647120" y="254448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8" name=""/>
              <p:cNvSpPr/>
              <p:nvPr/>
            </p:nvSpPr>
            <p:spPr>
              <a:xfrm>
                <a:off x="8091360" y="254448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9" name=""/>
              <p:cNvGrpSpPr/>
              <p:nvPr/>
            </p:nvGrpSpPr>
            <p:grpSpPr>
              <a:xfrm>
                <a:off x="8643960" y="2436480"/>
                <a:ext cx="522000" cy="415440"/>
                <a:chOff x="8643960" y="2436480"/>
                <a:chExt cx="522000" cy="415440"/>
              </a:xfrm>
            </p:grpSpPr>
            <p:sp>
              <p:nvSpPr>
                <p:cNvPr id="3450" name=""/>
                <p:cNvSpPr/>
                <p:nvPr/>
              </p:nvSpPr>
              <p:spPr>
                <a:xfrm>
                  <a:off x="8663400" y="245520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1" name=""/>
                <p:cNvSpPr/>
                <p:nvPr/>
              </p:nvSpPr>
              <p:spPr>
                <a:xfrm>
                  <a:off x="8643960" y="24364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2" name=""/>
                <p:cNvSpPr/>
                <p:nvPr/>
              </p:nvSpPr>
              <p:spPr>
                <a:xfrm>
                  <a:off x="8643960" y="24364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3" name=""/>
              <p:cNvGrpSpPr/>
              <p:nvPr/>
            </p:nvGrpSpPr>
            <p:grpSpPr>
              <a:xfrm>
                <a:off x="7203960" y="2436480"/>
                <a:ext cx="501480" cy="415440"/>
                <a:chOff x="7203960" y="2436480"/>
                <a:chExt cx="501480" cy="415440"/>
              </a:xfrm>
            </p:grpSpPr>
            <p:sp>
              <p:nvSpPr>
                <p:cNvPr id="3454" name=""/>
                <p:cNvSpPr/>
                <p:nvPr/>
              </p:nvSpPr>
              <p:spPr>
                <a:xfrm>
                  <a:off x="7223760" y="245520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5" name=""/>
                <p:cNvSpPr/>
                <p:nvPr/>
              </p:nvSpPr>
              <p:spPr>
                <a:xfrm>
                  <a:off x="7203960" y="243648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6" name=""/>
                <p:cNvSpPr/>
                <p:nvPr/>
              </p:nvSpPr>
              <p:spPr>
                <a:xfrm>
                  <a:off x="7203960" y="243648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7" name=""/>
              <p:cNvGrpSpPr/>
              <p:nvPr/>
            </p:nvGrpSpPr>
            <p:grpSpPr>
              <a:xfrm>
                <a:off x="6762600" y="2436480"/>
                <a:ext cx="2346480" cy="415440"/>
                <a:chOff x="6762600" y="2436480"/>
                <a:chExt cx="2346480" cy="415440"/>
              </a:xfrm>
            </p:grpSpPr>
            <p:grpSp>
              <p:nvGrpSpPr>
                <p:cNvPr id="3458" name=""/>
                <p:cNvGrpSpPr/>
                <p:nvPr/>
              </p:nvGrpSpPr>
              <p:grpSpPr>
                <a:xfrm>
                  <a:off x="6762600" y="2436480"/>
                  <a:ext cx="501120" cy="415440"/>
                  <a:chOff x="6762600" y="2436480"/>
                  <a:chExt cx="501120" cy="415440"/>
                </a:xfrm>
              </p:grpSpPr>
              <p:sp>
                <p:nvSpPr>
                  <p:cNvPr id="3459" name=""/>
                  <p:cNvSpPr/>
                  <p:nvPr/>
                </p:nvSpPr>
                <p:spPr>
                  <a:xfrm>
                    <a:off x="6779880" y="245520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
                  <p:cNvSpPr/>
                  <p:nvPr/>
                </p:nvSpPr>
                <p:spPr>
                  <a:xfrm>
                    <a:off x="6762600" y="243648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
                  <p:cNvSpPr/>
                  <p:nvPr/>
                </p:nvSpPr>
                <p:spPr>
                  <a:xfrm>
                    <a:off x="6762600" y="243648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2" name=""/>
                <p:cNvGrpSpPr/>
                <p:nvPr/>
              </p:nvGrpSpPr>
              <p:grpSpPr>
                <a:xfrm>
                  <a:off x="7647120" y="2436480"/>
                  <a:ext cx="502560" cy="415440"/>
                  <a:chOff x="7647120" y="2436480"/>
                  <a:chExt cx="502560" cy="415440"/>
                </a:xfrm>
              </p:grpSpPr>
              <p:sp>
                <p:nvSpPr>
                  <p:cNvPr id="3463" name=""/>
                  <p:cNvSpPr/>
                  <p:nvPr/>
                </p:nvSpPr>
                <p:spPr>
                  <a:xfrm>
                    <a:off x="7666920" y="245520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
                  <p:cNvSpPr/>
                  <p:nvPr/>
                </p:nvSpPr>
                <p:spPr>
                  <a:xfrm>
                    <a:off x="7647120" y="24364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5" name=""/>
                  <p:cNvSpPr/>
                  <p:nvPr/>
                </p:nvSpPr>
                <p:spPr>
                  <a:xfrm>
                    <a:off x="7647120" y="243648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6" name=""/>
                <p:cNvGrpSpPr/>
                <p:nvPr/>
              </p:nvGrpSpPr>
              <p:grpSpPr>
                <a:xfrm>
                  <a:off x="8110440" y="2436480"/>
                  <a:ext cx="498240" cy="415440"/>
                  <a:chOff x="8110440" y="2436480"/>
                  <a:chExt cx="498240" cy="415440"/>
                </a:xfrm>
              </p:grpSpPr>
              <p:sp>
                <p:nvSpPr>
                  <p:cNvPr id="3467" name=""/>
                  <p:cNvSpPr/>
                  <p:nvPr/>
                </p:nvSpPr>
                <p:spPr>
                  <a:xfrm>
                    <a:off x="8110440" y="245520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8" name=""/>
                  <p:cNvSpPr/>
                  <p:nvPr/>
                </p:nvSpPr>
                <p:spPr>
                  <a:xfrm>
                    <a:off x="8110440" y="243648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9" name=""/>
                  <p:cNvSpPr/>
                  <p:nvPr/>
                </p:nvSpPr>
                <p:spPr>
                  <a:xfrm>
                    <a:off x="8110440" y="243648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0" name=""/>
                <p:cNvSpPr/>
                <p:nvPr/>
              </p:nvSpPr>
              <p:spPr>
                <a:xfrm>
                  <a:off x="8709120" y="254412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1" name=""/>
                <p:cNvSpPr/>
                <p:nvPr/>
              </p:nvSpPr>
              <p:spPr>
                <a:xfrm>
                  <a:off x="7188120" y="254412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72" name=""/>
            <p:cNvGrpSpPr/>
            <p:nvPr/>
          </p:nvGrpSpPr>
          <p:grpSpPr>
            <a:xfrm>
              <a:off x="5803920" y="2246040"/>
              <a:ext cx="402120" cy="470160"/>
              <a:chOff x="5803920" y="2246040"/>
              <a:chExt cx="402120" cy="470160"/>
            </a:xfrm>
          </p:grpSpPr>
          <p:grpSp>
            <p:nvGrpSpPr>
              <p:cNvPr id="3473" name=""/>
              <p:cNvGrpSpPr/>
              <p:nvPr/>
            </p:nvGrpSpPr>
            <p:grpSpPr>
              <a:xfrm>
                <a:off x="5803920" y="2246040"/>
                <a:ext cx="247680" cy="325080"/>
                <a:chOff x="5803920" y="2246040"/>
                <a:chExt cx="247680" cy="325080"/>
              </a:xfrm>
            </p:grpSpPr>
            <p:grpSp>
              <p:nvGrpSpPr>
                <p:cNvPr id="3474" name=""/>
                <p:cNvGrpSpPr/>
                <p:nvPr/>
              </p:nvGrpSpPr>
              <p:grpSpPr>
                <a:xfrm>
                  <a:off x="5803920" y="2246040"/>
                  <a:ext cx="247680" cy="325080"/>
                  <a:chOff x="5803920" y="2246040"/>
                  <a:chExt cx="247680" cy="325080"/>
                </a:xfrm>
              </p:grpSpPr>
              <p:sp>
                <p:nvSpPr>
                  <p:cNvPr id="3475" name=""/>
                  <p:cNvSpPr/>
                  <p:nvPr/>
                </p:nvSpPr>
                <p:spPr>
                  <a:xfrm>
                    <a:off x="5803920" y="2246040"/>
                    <a:ext cx="247680" cy="325080"/>
                  </a:xfrm>
                  <a:custGeom>
                    <a:avLst/>
                    <a:gdLst/>
                    <a:ahLst/>
                    <a:rect l="l" t="t" r="r" b="b"/>
                    <a:pathLst>
                      <a:path w="113" h="157">
                        <a:moveTo>
                          <a:pt x="96" y="0"/>
                        </a:moveTo>
                        <a:lnTo>
                          <a:pt x="113" y="18"/>
                        </a:lnTo>
                        <a:lnTo>
                          <a:pt x="113" y="157"/>
                        </a:lnTo>
                        <a:lnTo>
                          <a:pt x="0" y="157"/>
                        </a:lnTo>
                        <a:lnTo>
                          <a:pt x="0" y="0"/>
                        </a:lnTo>
                        <a:lnTo>
                          <a:pt x="96"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
                  <p:cNvSpPr/>
                  <p:nvPr/>
                </p:nvSpPr>
                <p:spPr>
                  <a:xfrm>
                    <a:off x="5803920" y="2246040"/>
                    <a:ext cx="247680" cy="325080"/>
                  </a:xfrm>
                  <a:custGeom>
                    <a:avLst/>
                    <a:gdLst/>
                    <a:ahLst/>
                    <a:rect l="l" t="t" r="r" b="b"/>
                    <a:pathLst>
                      <a:path w="113" h="157">
                        <a:moveTo>
                          <a:pt x="96" y="0"/>
                        </a:moveTo>
                        <a:lnTo>
                          <a:pt x="113" y="18"/>
                        </a:lnTo>
                        <a:lnTo>
                          <a:pt x="113" y="157"/>
                        </a:lnTo>
                        <a:lnTo>
                          <a:pt x="0" y="157"/>
                        </a:lnTo>
                        <a:lnTo>
                          <a:pt x="0" y="0"/>
                        </a:lnTo>
                        <a:lnTo>
                          <a:pt x="96"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7" name=""/>
                <p:cNvGrpSpPr/>
                <p:nvPr/>
              </p:nvGrpSpPr>
              <p:grpSpPr>
                <a:xfrm>
                  <a:off x="6015240" y="2246040"/>
                  <a:ext cx="36360" cy="36720"/>
                  <a:chOff x="6015240" y="2246040"/>
                  <a:chExt cx="36360" cy="36720"/>
                </a:xfrm>
              </p:grpSpPr>
              <p:sp>
                <p:nvSpPr>
                  <p:cNvPr id="3478" name=""/>
                  <p:cNvSpPr/>
                  <p:nvPr/>
                </p:nvSpPr>
                <p:spPr>
                  <a:xfrm>
                    <a:off x="6015240" y="2246040"/>
                    <a:ext cx="36360" cy="36720"/>
                  </a:xfrm>
                  <a:custGeom>
                    <a:avLst/>
                    <a:gdLst/>
                    <a:ahLst/>
                    <a:rect l="l" t="t" r="r" b="b"/>
                    <a:pathLst>
                      <a:path w="17" h="18">
                        <a:moveTo>
                          <a:pt x="0" y="0"/>
                        </a:moveTo>
                        <a:lnTo>
                          <a:pt x="17" y="18"/>
                        </a:lnTo>
                        <a:lnTo>
                          <a:pt x="0" y="18"/>
                        </a:lnTo>
                        <a:lnTo>
                          <a:pt x="0" y="0"/>
                        </a:lnTo>
                        <a:close/>
                      </a:path>
                    </a:pathLst>
                  </a:custGeom>
                  <a:solidFill>
                    <a:srgbClr val="3399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79" name=""/>
                  <p:cNvSpPr/>
                  <p:nvPr/>
                </p:nvSpPr>
                <p:spPr>
                  <a:xfrm>
                    <a:off x="6015240" y="2246040"/>
                    <a:ext cx="36360" cy="36720"/>
                  </a:xfrm>
                  <a:custGeom>
                    <a:avLst/>
                    <a:gdLst/>
                    <a:ahLst/>
                    <a:rect l="l" t="t" r="r" b="b"/>
                    <a:pathLst>
                      <a:path w="17" h="18">
                        <a:moveTo>
                          <a:pt x="0" y="0"/>
                        </a:moveTo>
                        <a:lnTo>
                          <a:pt x="17" y="18"/>
                        </a:lnTo>
                        <a:lnTo>
                          <a:pt x="0" y="18"/>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3480" name=""/>
              <p:cNvGrpSpPr/>
              <p:nvPr/>
            </p:nvGrpSpPr>
            <p:grpSpPr>
              <a:xfrm>
                <a:off x="5881320" y="2318400"/>
                <a:ext cx="247680" cy="325080"/>
                <a:chOff x="5881320" y="2318400"/>
                <a:chExt cx="247680" cy="325080"/>
              </a:xfrm>
            </p:grpSpPr>
            <p:grpSp>
              <p:nvGrpSpPr>
                <p:cNvPr id="3481" name=""/>
                <p:cNvGrpSpPr/>
                <p:nvPr/>
              </p:nvGrpSpPr>
              <p:grpSpPr>
                <a:xfrm>
                  <a:off x="5881320" y="2318400"/>
                  <a:ext cx="247680" cy="325080"/>
                  <a:chOff x="5881320" y="2318400"/>
                  <a:chExt cx="247680" cy="325080"/>
                </a:xfrm>
              </p:grpSpPr>
              <p:sp>
                <p:nvSpPr>
                  <p:cNvPr id="3482" name=""/>
                  <p:cNvSpPr/>
                  <p:nvPr/>
                </p:nvSpPr>
                <p:spPr>
                  <a:xfrm>
                    <a:off x="5881320" y="2318400"/>
                    <a:ext cx="247680" cy="325080"/>
                  </a:xfrm>
                  <a:custGeom>
                    <a:avLst/>
                    <a:gdLst/>
                    <a:ahLst/>
                    <a:rect l="l" t="t" r="r" b="b"/>
                    <a:pathLst>
                      <a:path w="113" h="157">
                        <a:moveTo>
                          <a:pt x="96" y="0"/>
                        </a:moveTo>
                        <a:lnTo>
                          <a:pt x="113" y="17"/>
                        </a:lnTo>
                        <a:lnTo>
                          <a:pt x="113" y="157"/>
                        </a:lnTo>
                        <a:lnTo>
                          <a:pt x="0" y="157"/>
                        </a:lnTo>
                        <a:lnTo>
                          <a:pt x="0" y="0"/>
                        </a:lnTo>
                        <a:lnTo>
                          <a:pt x="96"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3" name=""/>
                  <p:cNvSpPr/>
                  <p:nvPr/>
                </p:nvSpPr>
                <p:spPr>
                  <a:xfrm>
                    <a:off x="5881320" y="2318400"/>
                    <a:ext cx="247680" cy="325080"/>
                  </a:xfrm>
                  <a:custGeom>
                    <a:avLst/>
                    <a:gdLst/>
                    <a:ahLst/>
                    <a:rect l="l" t="t" r="r" b="b"/>
                    <a:pathLst>
                      <a:path w="113" h="157">
                        <a:moveTo>
                          <a:pt x="96" y="0"/>
                        </a:moveTo>
                        <a:lnTo>
                          <a:pt x="113" y="17"/>
                        </a:lnTo>
                        <a:lnTo>
                          <a:pt x="113" y="157"/>
                        </a:lnTo>
                        <a:lnTo>
                          <a:pt x="0" y="157"/>
                        </a:lnTo>
                        <a:lnTo>
                          <a:pt x="0" y="0"/>
                        </a:lnTo>
                        <a:lnTo>
                          <a:pt x="96"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4" name=""/>
                <p:cNvGrpSpPr/>
                <p:nvPr/>
              </p:nvGrpSpPr>
              <p:grpSpPr>
                <a:xfrm>
                  <a:off x="6091920" y="2318400"/>
                  <a:ext cx="36720" cy="34920"/>
                  <a:chOff x="6091920" y="2318400"/>
                  <a:chExt cx="36720" cy="34920"/>
                </a:xfrm>
              </p:grpSpPr>
              <p:sp>
                <p:nvSpPr>
                  <p:cNvPr id="3485" name=""/>
                  <p:cNvSpPr/>
                  <p:nvPr/>
                </p:nvSpPr>
                <p:spPr>
                  <a:xfrm>
                    <a:off x="6091920" y="2318400"/>
                    <a:ext cx="36720" cy="34920"/>
                  </a:xfrm>
                  <a:custGeom>
                    <a:avLst/>
                    <a:gdLst/>
                    <a:ahLst/>
                    <a:rect l="l" t="t" r="r" b="b"/>
                    <a:pathLst>
                      <a:path w="17" h="17">
                        <a:moveTo>
                          <a:pt x="0" y="0"/>
                        </a:moveTo>
                        <a:lnTo>
                          <a:pt x="17" y="17"/>
                        </a:lnTo>
                        <a:lnTo>
                          <a:pt x="0" y="17"/>
                        </a:lnTo>
                        <a:lnTo>
                          <a:pt x="0" y="0"/>
                        </a:lnTo>
                        <a:close/>
                      </a:path>
                    </a:pathLst>
                  </a:custGeom>
                  <a:solidFill>
                    <a:srgbClr val="3399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86" name=""/>
                  <p:cNvSpPr/>
                  <p:nvPr/>
                </p:nvSpPr>
                <p:spPr>
                  <a:xfrm>
                    <a:off x="6091920" y="2318400"/>
                    <a:ext cx="36720" cy="34920"/>
                  </a:xfrm>
                  <a:custGeom>
                    <a:avLst/>
                    <a:gdLst/>
                    <a:ahLst/>
                    <a:rect l="l" t="t" r="r" b="b"/>
                    <a:pathLst>
                      <a:path w="17" h="17">
                        <a:moveTo>
                          <a:pt x="0" y="0"/>
                        </a:moveTo>
                        <a:lnTo>
                          <a:pt x="17" y="17"/>
                        </a:lnTo>
                        <a:lnTo>
                          <a:pt x="0" y="17"/>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nvGrpSpPr>
              <p:cNvPr id="3487" name=""/>
              <p:cNvGrpSpPr/>
              <p:nvPr/>
            </p:nvGrpSpPr>
            <p:grpSpPr>
              <a:xfrm>
                <a:off x="5938200" y="2390760"/>
                <a:ext cx="267840" cy="325440"/>
                <a:chOff x="5938200" y="2390760"/>
                <a:chExt cx="267840" cy="325440"/>
              </a:xfrm>
            </p:grpSpPr>
            <p:grpSp>
              <p:nvGrpSpPr>
                <p:cNvPr id="3488" name=""/>
                <p:cNvGrpSpPr/>
                <p:nvPr/>
              </p:nvGrpSpPr>
              <p:grpSpPr>
                <a:xfrm>
                  <a:off x="5938200" y="2390760"/>
                  <a:ext cx="267840" cy="325440"/>
                  <a:chOff x="5938200" y="2390760"/>
                  <a:chExt cx="267840" cy="325440"/>
                </a:xfrm>
              </p:grpSpPr>
              <p:sp>
                <p:nvSpPr>
                  <p:cNvPr id="3489" name=""/>
                  <p:cNvSpPr/>
                  <p:nvPr/>
                </p:nvSpPr>
                <p:spPr>
                  <a:xfrm>
                    <a:off x="5938200" y="2390760"/>
                    <a:ext cx="267840" cy="325440"/>
                  </a:xfrm>
                  <a:custGeom>
                    <a:avLst/>
                    <a:gdLst/>
                    <a:ahLst/>
                    <a:rect l="l" t="t" r="r" b="b"/>
                    <a:pathLst>
                      <a:path w="122" h="157">
                        <a:moveTo>
                          <a:pt x="105" y="0"/>
                        </a:moveTo>
                        <a:lnTo>
                          <a:pt x="122" y="17"/>
                        </a:lnTo>
                        <a:lnTo>
                          <a:pt x="122" y="157"/>
                        </a:lnTo>
                        <a:lnTo>
                          <a:pt x="0" y="157"/>
                        </a:lnTo>
                        <a:lnTo>
                          <a:pt x="0" y="0"/>
                        </a:lnTo>
                        <a:lnTo>
                          <a:pt x="105"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
                  <p:cNvSpPr/>
                  <p:nvPr/>
                </p:nvSpPr>
                <p:spPr>
                  <a:xfrm>
                    <a:off x="5938200" y="2390760"/>
                    <a:ext cx="267840" cy="325440"/>
                  </a:xfrm>
                  <a:custGeom>
                    <a:avLst/>
                    <a:gdLst/>
                    <a:ahLst/>
                    <a:rect l="l" t="t" r="r" b="b"/>
                    <a:pathLst>
                      <a:path w="122" h="157">
                        <a:moveTo>
                          <a:pt x="105" y="0"/>
                        </a:moveTo>
                        <a:lnTo>
                          <a:pt x="122" y="17"/>
                        </a:lnTo>
                        <a:lnTo>
                          <a:pt x="122" y="157"/>
                        </a:lnTo>
                        <a:lnTo>
                          <a:pt x="0" y="157"/>
                        </a:lnTo>
                        <a:lnTo>
                          <a:pt x="0" y="0"/>
                        </a:lnTo>
                        <a:lnTo>
                          <a:pt x="105"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91" name=""/>
                <p:cNvGrpSpPr/>
                <p:nvPr/>
              </p:nvGrpSpPr>
              <p:grpSpPr>
                <a:xfrm>
                  <a:off x="6168960" y="2390760"/>
                  <a:ext cx="36720" cy="34920"/>
                  <a:chOff x="6168960" y="2390760"/>
                  <a:chExt cx="36720" cy="34920"/>
                </a:xfrm>
              </p:grpSpPr>
              <p:sp>
                <p:nvSpPr>
                  <p:cNvPr id="3492" name=""/>
                  <p:cNvSpPr/>
                  <p:nvPr/>
                </p:nvSpPr>
                <p:spPr>
                  <a:xfrm>
                    <a:off x="6168960" y="2390760"/>
                    <a:ext cx="36720" cy="34920"/>
                  </a:xfrm>
                  <a:custGeom>
                    <a:avLst/>
                    <a:gdLst/>
                    <a:ahLst/>
                    <a:rect l="l" t="t" r="r" b="b"/>
                    <a:pathLst>
                      <a:path w="17" h="17">
                        <a:moveTo>
                          <a:pt x="0" y="0"/>
                        </a:moveTo>
                        <a:lnTo>
                          <a:pt x="17" y="17"/>
                        </a:lnTo>
                        <a:lnTo>
                          <a:pt x="0" y="17"/>
                        </a:lnTo>
                        <a:lnTo>
                          <a:pt x="0" y="0"/>
                        </a:lnTo>
                        <a:close/>
                      </a:path>
                    </a:pathLst>
                  </a:custGeom>
                  <a:solidFill>
                    <a:srgbClr val="3399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93" name=""/>
                  <p:cNvSpPr/>
                  <p:nvPr/>
                </p:nvSpPr>
                <p:spPr>
                  <a:xfrm>
                    <a:off x="6168960" y="2390760"/>
                    <a:ext cx="36720" cy="34920"/>
                  </a:xfrm>
                  <a:custGeom>
                    <a:avLst/>
                    <a:gdLst/>
                    <a:ahLst/>
                    <a:rect l="l" t="t" r="r" b="b"/>
                    <a:pathLst>
                      <a:path w="17" h="17">
                        <a:moveTo>
                          <a:pt x="0" y="0"/>
                        </a:moveTo>
                        <a:lnTo>
                          <a:pt x="17" y="17"/>
                        </a:lnTo>
                        <a:lnTo>
                          <a:pt x="0" y="17"/>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grpSp>
      <p:grpSp>
        <p:nvGrpSpPr>
          <p:cNvPr id="3494" name=""/>
          <p:cNvGrpSpPr/>
          <p:nvPr/>
        </p:nvGrpSpPr>
        <p:grpSpPr>
          <a:xfrm>
            <a:off x="5803920" y="2965320"/>
            <a:ext cx="3362040" cy="913680"/>
            <a:chOff x="5803920" y="2965320"/>
            <a:chExt cx="3362040" cy="913680"/>
          </a:xfrm>
        </p:grpSpPr>
        <p:grpSp>
          <p:nvGrpSpPr>
            <p:cNvPr id="3495" name=""/>
            <p:cNvGrpSpPr/>
            <p:nvPr/>
          </p:nvGrpSpPr>
          <p:grpSpPr>
            <a:xfrm>
              <a:off x="6413760" y="2965320"/>
              <a:ext cx="2441160" cy="596160"/>
              <a:chOff x="6413760" y="2965320"/>
              <a:chExt cx="2441160" cy="596160"/>
            </a:xfrm>
          </p:grpSpPr>
          <p:sp>
            <p:nvSpPr>
              <p:cNvPr id="3496" name=""/>
              <p:cNvSpPr/>
              <p:nvPr/>
            </p:nvSpPr>
            <p:spPr>
              <a:xfrm>
                <a:off x="7027920" y="296532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7" name=""/>
              <p:cNvSpPr/>
              <p:nvPr/>
            </p:nvSpPr>
            <p:spPr>
              <a:xfrm>
                <a:off x="7470720" y="296532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8" name=""/>
              <p:cNvSpPr/>
              <p:nvPr/>
            </p:nvSpPr>
            <p:spPr>
              <a:xfrm>
                <a:off x="8086680" y="296532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9" name=""/>
              <p:cNvSpPr/>
              <p:nvPr/>
            </p:nvSpPr>
            <p:spPr>
              <a:xfrm>
                <a:off x="6586560" y="296532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0" name=""/>
              <p:cNvSpPr/>
              <p:nvPr/>
            </p:nvSpPr>
            <p:spPr>
              <a:xfrm>
                <a:off x="6413760" y="310788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
              <p:cNvSpPr/>
              <p:nvPr/>
            </p:nvSpPr>
            <p:spPr>
              <a:xfrm>
                <a:off x="6488640" y="3128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502" name=""/>
              <p:cNvSpPr/>
              <p:nvPr/>
            </p:nvSpPr>
            <p:spPr>
              <a:xfrm>
                <a:off x="7182000" y="310788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3" name=""/>
              <p:cNvSpPr/>
              <p:nvPr/>
            </p:nvSpPr>
            <p:spPr>
              <a:xfrm>
                <a:off x="7391160" y="3128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504" name=""/>
              <p:cNvSpPr/>
              <p:nvPr/>
            </p:nvSpPr>
            <p:spPr>
              <a:xfrm>
                <a:off x="7624800" y="310788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
              <p:cNvSpPr/>
              <p:nvPr/>
            </p:nvSpPr>
            <p:spPr>
              <a:xfrm>
                <a:off x="7837920" y="3128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506" name=""/>
              <p:cNvSpPr/>
              <p:nvPr/>
            </p:nvSpPr>
            <p:spPr>
              <a:xfrm>
                <a:off x="8242560" y="310788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
              <p:cNvSpPr/>
              <p:nvPr/>
            </p:nvSpPr>
            <p:spPr>
              <a:xfrm>
                <a:off x="8396280" y="3128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508" name=""/>
              <p:cNvSpPr/>
              <p:nvPr/>
            </p:nvSpPr>
            <p:spPr>
              <a:xfrm>
                <a:off x="6740640" y="310788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9" name=""/>
              <p:cNvSpPr/>
              <p:nvPr/>
            </p:nvSpPr>
            <p:spPr>
              <a:xfrm>
                <a:off x="6930720" y="31287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510" name=""/>
              <p:cNvSpPr/>
              <p:nvPr/>
            </p:nvSpPr>
            <p:spPr>
              <a:xfrm>
                <a:off x="6567480" y="325404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1" name=""/>
              <p:cNvSpPr/>
              <p:nvPr/>
            </p:nvSpPr>
            <p:spPr>
              <a:xfrm>
                <a:off x="7336080" y="325404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
              <p:cNvSpPr/>
              <p:nvPr/>
            </p:nvSpPr>
            <p:spPr>
              <a:xfrm>
                <a:off x="7780320" y="325404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3" name=""/>
              <p:cNvGrpSpPr/>
              <p:nvPr/>
            </p:nvGrpSpPr>
            <p:grpSpPr>
              <a:xfrm>
                <a:off x="8332920" y="3146040"/>
                <a:ext cx="522000" cy="415440"/>
                <a:chOff x="8332920" y="3146040"/>
                <a:chExt cx="522000" cy="415440"/>
              </a:xfrm>
            </p:grpSpPr>
            <p:sp>
              <p:nvSpPr>
                <p:cNvPr id="3514" name=""/>
                <p:cNvSpPr/>
                <p:nvPr/>
              </p:nvSpPr>
              <p:spPr>
                <a:xfrm>
                  <a:off x="8352360" y="316476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5" name=""/>
                <p:cNvSpPr/>
                <p:nvPr/>
              </p:nvSpPr>
              <p:spPr>
                <a:xfrm>
                  <a:off x="8332920" y="31460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6" name=""/>
                <p:cNvSpPr/>
                <p:nvPr/>
              </p:nvSpPr>
              <p:spPr>
                <a:xfrm>
                  <a:off x="8332920" y="31460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7" name=""/>
              <p:cNvGrpSpPr/>
              <p:nvPr/>
            </p:nvGrpSpPr>
            <p:grpSpPr>
              <a:xfrm>
                <a:off x="6892920" y="3146040"/>
                <a:ext cx="501480" cy="415440"/>
                <a:chOff x="6892920" y="3146040"/>
                <a:chExt cx="501480" cy="415440"/>
              </a:xfrm>
            </p:grpSpPr>
            <p:sp>
              <p:nvSpPr>
                <p:cNvPr id="3518" name=""/>
                <p:cNvSpPr/>
                <p:nvPr/>
              </p:nvSpPr>
              <p:spPr>
                <a:xfrm>
                  <a:off x="6912720" y="316476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9" name=""/>
                <p:cNvSpPr/>
                <p:nvPr/>
              </p:nvSpPr>
              <p:spPr>
                <a:xfrm>
                  <a:off x="6892920" y="314604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0" name=""/>
                <p:cNvSpPr/>
                <p:nvPr/>
              </p:nvSpPr>
              <p:spPr>
                <a:xfrm>
                  <a:off x="6892920" y="314604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1" name=""/>
              <p:cNvGrpSpPr/>
              <p:nvPr/>
            </p:nvGrpSpPr>
            <p:grpSpPr>
              <a:xfrm>
                <a:off x="6451560" y="3146040"/>
                <a:ext cx="2346480" cy="415440"/>
                <a:chOff x="6451560" y="3146040"/>
                <a:chExt cx="2346480" cy="415440"/>
              </a:xfrm>
            </p:grpSpPr>
            <p:grpSp>
              <p:nvGrpSpPr>
                <p:cNvPr id="3522" name=""/>
                <p:cNvGrpSpPr/>
                <p:nvPr/>
              </p:nvGrpSpPr>
              <p:grpSpPr>
                <a:xfrm>
                  <a:off x="6451560" y="3146040"/>
                  <a:ext cx="501120" cy="415440"/>
                  <a:chOff x="6451560" y="3146040"/>
                  <a:chExt cx="501120" cy="415440"/>
                </a:xfrm>
              </p:grpSpPr>
              <p:sp>
                <p:nvSpPr>
                  <p:cNvPr id="3523" name=""/>
                  <p:cNvSpPr/>
                  <p:nvPr/>
                </p:nvSpPr>
                <p:spPr>
                  <a:xfrm>
                    <a:off x="6468840" y="316476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
                  <p:cNvSpPr/>
                  <p:nvPr/>
                </p:nvSpPr>
                <p:spPr>
                  <a:xfrm>
                    <a:off x="6451560" y="314604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
                  <p:cNvSpPr/>
                  <p:nvPr/>
                </p:nvSpPr>
                <p:spPr>
                  <a:xfrm>
                    <a:off x="6451560" y="314604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6" name=""/>
                <p:cNvGrpSpPr/>
                <p:nvPr/>
              </p:nvGrpSpPr>
              <p:grpSpPr>
                <a:xfrm>
                  <a:off x="7336080" y="3146040"/>
                  <a:ext cx="502560" cy="415440"/>
                  <a:chOff x="7336080" y="3146040"/>
                  <a:chExt cx="502560" cy="415440"/>
                </a:xfrm>
              </p:grpSpPr>
              <p:sp>
                <p:nvSpPr>
                  <p:cNvPr id="3527" name=""/>
                  <p:cNvSpPr/>
                  <p:nvPr/>
                </p:nvSpPr>
                <p:spPr>
                  <a:xfrm>
                    <a:off x="7355880" y="316476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8" name=""/>
                  <p:cNvSpPr/>
                  <p:nvPr/>
                </p:nvSpPr>
                <p:spPr>
                  <a:xfrm>
                    <a:off x="7336080" y="31460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9" name=""/>
                  <p:cNvSpPr/>
                  <p:nvPr/>
                </p:nvSpPr>
                <p:spPr>
                  <a:xfrm>
                    <a:off x="7336080" y="314604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0" name=""/>
                <p:cNvGrpSpPr/>
                <p:nvPr/>
              </p:nvGrpSpPr>
              <p:grpSpPr>
                <a:xfrm>
                  <a:off x="7799400" y="3146040"/>
                  <a:ext cx="498240" cy="415440"/>
                  <a:chOff x="7799400" y="3146040"/>
                  <a:chExt cx="498240" cy="415440"/>
                </a:xfrm>
              </p:grpSpPr>
              <p:sp>
                <p:nvSpPr>
                  <p:cNvPr id="3531" name=""/>
                  <p:cNvSpPr/>
                  <p:nvPr/>
                </p:nvSpPr>
                <p:spPr>
                  <a:xfrm>
                    <a:off x="7799400" y="316476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2" name=""/>
                  <p:cNvSpPr/>
                  <p:nvPr/>
                </p:nvSpPr>
                <p:spPr>
                  <a:xfrm>
                    <a:off x="7799400" y="314604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3" name=""/>
                  <p:cNvSpPr/>
                  <p:nvPr/>
                </p:nvSpPr>
                <p:spPr>
                  <a:xfrm>
                    <a:off x="7799400" y="314604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4" name=""/>
                <p:cNvSpPr/>
                <p:nvPr/>
              </p:nvSpPr>
              <p:spPr>
                <a:xfrm>
                  <a:off x="8398080" y="325368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5" name=""/>
                <p:cNvSpPr/>
                <p:nvPr/>
              </p:nvSpPr>
              <p:spPr>
                <a:xfrm>
                  <a:off x="6877080" y="325368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536" name=""/>
            <p:cNvGrpSpPr/>
            <p:nvPr/>
          </p:nvGrpSpPr>
          <p:grpSpPr>
            <a:xfrm>
              <a:off x="6546960" y="3124080"/>
              <a:ext cx="2441160" cy="596160"/>
              <a:chOff x="6546960" y="3124080"/>
              <a:chExt cx="2441160" cy="596160"/>
            </a:xfrm>
          </p:grpSpPr>
          <p:sp>
            <p:nvSpPr>
              <p:cNvPr id="3537" name=""/>
              <p:cNvSpPr/>
              <p:nvPr/>
            </p:nvSpPr>
            <p:spPr>
              <a:xfrm>
                <a:off x="7161120" y="312408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8" name=""/>
              <p:cNvSpPr/>
              <p:nvPr/>
            </p:nvSpPr>
            <p:spPr>
              <a:xfrm>
                <a:off x="7603920" y="312408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9" name=""/>
              <p:cNvSpPr/>
              <p:nvPr/>
            </p:nvSpPr>
            <p:spPr>
              <a:xfrm>
                <a:off x="8219880" y="312408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0" name=""/>
              <p:cNvSpPr/>
              <p:nvPr/>
            </p:nvSpPr>
            <p:spPr>
              <a:xfrm>
                <a:off x="6719760" y="312408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
              <p:cNvSpPr/>
              <p:nvPr/>
            </p:nvSpPr>
            <p:spPr>
              <a:xfrm>
                <a:off x="6546960" y="326664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2" name=""/>
              <p:cNvSpPr/>
              <p:nvPr/>
            </p:nvSpPr>
            <p:spPr>
              <a:xfrm>
                <a:off x="6621840" y="3287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543" name=""/>
              <p:cNvSpPr/>
              <p:nvPr/>
            </p:nvSpPr>
            <p:spPr>
              <a:xfrm>
                <a:off x="7315200" y="326664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4" name=""/>
              <p:cNvSpPr/>
              <p:nvPr/>
            </p:nvSpPr>
            <p:spPr>
              <a:xfrm>
                <a:off x="7524360" y="3287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545" name=""/>
              <p:cNvSpPr/>
              <p:nvPr/>
            </p:nvSpPr>
            <p:spPr>
              <a:xfrm>
                <a:off x="7758000" y="326664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6" name=""/>
              <p:cNvSpPr/>
              <p:nvPr/>
            </p:nvSpPr>
            <p:spPr>
              <a:xfrm>
                <a:off x="7971120" y="3287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547" name=""/>
              <p:cNvSpPr/>
              <p:nvPr/>
            </p:nvSpPr>
            <p:spPr>
              <a:xfrm>
                <a:off x="8375760" y="326664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8" name=""/>
              <p:cNvSpPr/>
              <p:nvPr/>
            </p:nvSpPr>
            <p:spPr>
              <a:xfrm>
                <a:off x="8529480" y="3287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549" name=""/>
              <p:cNvSpPr/>
              <p:nvPr/>
            </p:nvSpPr>
            <p:spPr>
              <a:xfrm>
                <a:off x="6873840" y="326664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0" name=""/>
              <p:cNvSpPr/>
              <p:nvPr/>
            </p:nvSpPr>
            <p:spPr>
              <a:xfrm>
                <a:off x="7063920" y="328752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551" name=""/>
              <p:cNvSpPr/>
              <p:nvPr/>
            </p:nvSpPr>
            <p:spPr>
              <a:xfrm>
                <a:off x="6700680" y="341280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2" name=""/>
              <p:cNvSpPr/>
              <p:nvPr/>
            </p:nvSpPr>
            <p:spPr>
              <a:xfrm>
                <a:off x="7469280" y="341280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3" name=""/>
              <p:cNvSpPr/>
              <p:nvPr/>
            </p:nvSpPr>
            <p:spPr>
              <a:xfrm>
                <a:off x="7913520" y="341280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4" name=""/>
              <p:cNvGrpSpPr/>
              <p:nvPr/>
            </p:nvGrpSpPr>
            <p:grpSpPr>
              <a:xfrm>
                <a:off x="8466120" y="3304800"/>
                <a:ext cx="522000" cy="415440"/>
                <a:chOff x="8466120" y="3304800"/>
                <a:chExt cx="522000" cy="415440"/>
              </a:xfrm>
            </p:grpSpPr>
            <p:sp>
              <p:nvSpPr>
                <p:cNvPr id="3555" name=""/>
                <p:cNvSpPr/>
                <p:nvPr/>
              </p:nvSpPr>
              <p:spPr>
                <a:xfrm>
                  <a:off x="8485560" y="332352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6" name=""/>
                <p:cNvSpPr/>
                <p:nvPr/>
              </p:nvSpPr>
              <p:spPr>
                <a:xfrm>
                  <a:off x="8466120" y="330480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7" name=""/>
                <p:cNvSpPr/>
                <p:nvPr/>
              </p:nvSpPr>
              <p:spPr>
                <a:xfrm>
                  <a:off x="8466120" y="330480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8" name=""/>
              <p:cNvGrpSpPr/>
              <p:nvPr/>
            </p:nvGrpSpPr>
            <p:grpSpPr>
              <a:xfrm>
                <a:off x="7026120" y="3304800"/>
                <a:ext cx="501480" cy="415440"/>
                <a:chOff x="7026120" y="3304800"/>
                <a:chExt cx="501480" cy="415440"/>
              </a:xfrm>
            </p:grpSpPr>
            <p:sp>
              <p:nvSpPr>
                <p:cNvPr id="3559" name=""/>
                <p:cNvSpPr/>
                <p:nvPr/>
              </p:nvSpPr>
              <p:spPr>
                <a:xfrm>
                  <a:off x="7045920" y="332352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0" name=""/>
                <p:cNvSpPr/>
                <p:nvPr/>
              </p:nvSpPr>
              <p:spPr>
                <a:xfrm>
                  <a:off x="7026120" y="330480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1" name=""/>
                <p:cNvSpPr/>
                <p:nvPr/>
              </p:nvSpPr>
              <p:spPr>
                <a:xfrm>
                  <a:off x="7026120" y="330480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62" name=""/>
              <p:cNvGrpSpPr/>
              <p:nvPr/>
            </p:nvGrpSpPr>
            <p:grpSpPr>
              <a:xfrm>
                <a:off x="6584760" y="3304800"/>
                <a:ext cx="2346480" cy="415440"/>
                <a:chOff x="6584760" y="3304800"/>
                <a:chExt cx="2346480" cy="415440"/>
              </a:xfrm>
            </p:grpSpPr>
            <p:grpSp>
              <p:nvGrpSpPr>
                <p:cNvPr id="3563" name=""/>
                <p:cNvGrpSpPr/>
                <p:nvPr/>
              </p:nvGrpSpPr>
              <p:grpSpPr>
                <a:xfrm>
                  <a:off x="6584760" y="3304800"/>
                  <a:ext cx="501120" cy="415440"/>
                  <a:chOff x="6584760" y="3304800"/>
                  <a:chExt cx="501120" cy="415440"/>
                </a:xfrm>
              </p:grpSpPr>
              <p:sp>
                <p:nvSpPr>
                  <p:cNvPr id="3564" name=""/>
                  <p:cNvSpPr/>
                  <p:nvPr/>
                </p:nvSpPr>
                <p:spPr>
                  <a:xfrm>
                    <a:off x="6602040" y="332352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5" name=""/>
                  <p:cNvSpPr/>
                  <p:nvPr/>
                </p:nvSpPr>
                <p:spPr>
                  <a:xfrm>
                    <a:off x="6584760" y="330480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6" name=""/>
                  <p:cNvSpPr/>
                  <p:nvPr/>
                </p:nvSpPr>
                <p:spPr>
                  <a:xfrm>
                    <a:off x="6584760" y="330480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67" name=""/>
                <p:cNvGrpSpPr/>
                <p:nvPr/>
              </p:nvGrpSpPr>
              <p:grpSpPr>
                <a:xfrm>
                  <a:off x="7469280" y="3304800"/>
                  <a:ext cx="502560" cy="415440"/>
                  <a:chOff x="7469280" y="3304800"/>
                  <a:chExt cx="502560" cy="415440"/>
                </a:xfrm>
              </p:grpSpPr>
              <p:sp>
                <p:nvSpPr>
                  <p:cNvPr id="3568" name=""/>
                  <p:cNvSpPr/>
                  <p:nvPr/>
                </p:nvSpPr>
                <p:spPr>
                  <a:xfrm>
                    <a:off x="7489080" y="332352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9" name=""/>
                  <p:cNvSpPr/>
                  <p:nvPr/>
                </p:nvSpPr>
                <p:spPr>
                  <a:xfrm>
                    <a:off x="7469280" y="330480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0" name=""/>
                  <p:cNvSpPr/>
                  <p:nvPr/>
                </p:nvSpPr>
                <p:spPr>
                  <a:xfrm>
                    <a:off x="7469280" y="330480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1" name=""/>
                <p:cNvGrpSpPr/>
                <p:nvPr/>
              </p:nvGrpSpPr>
              <p:grpSpPr>
                <a:xfrm>
                  <a:off x="7932600" y="3304800"/>
                  <a:ext cx="498240" cy="415440"/>
                  <a:chOff x="7932600" y="3304800"/>
                  <a:chExt cx="498240" cy="415440"/>
                </a:xfrm>
              </p:grpSpPr>
              <p:sp>
                <p:nvSpPr>
                  <p:cNvPr id="3572" name=""/>
                  <p:cNvSpPr/>
                  <p:nvPr/>
                </p:nvSpPr>
                <p:spPr>
                  <a:xfrm>
                    <a:off x="7932600" y="332352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3" name=""/>
                  <p:cNvSpPr/>
                  <p:nvPr/>
                </p:nvSpPr>
                <p:spPr>
                  <a:xfrm>
                    <a:off x="7932600" y="330480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4" name=""/>
                  <p:cNvSpPr/>
                  <p:nvPr/>
                </p:nvSpPr>
                <p:spPr>
                  <a:xfrm>
                    <a:off x="7932600" y="330480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5" name=""/>
                <p:cNvSpPr/>
                <p:nvPr/>
              </p:nvSpPr>
              <p:spPr>
                <a:xfrm>
                  <a:off x="8531280" y="341244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6" name=""/>
                <p:cNvSpPr/>
                <p:nvPr/>
              </p:nvSpPr>
              <p:spPr>
                <a:xfrm>
                  <a:off x="7010280" y="341244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577" name=""/>
            <p:cNvSpPr/>
            <p:nvPr/>
          </p:nvSpPr>
          <p:spPr>
            <a:xfrm>
              <a:off x="6534360" y="3238200"/>
              <a:ext cx="403200" cy="16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8" name=""/>
            <p:cNvGrpSpPr/>
            <p:nvPr/>
          </p:nvGrpSpPr>
          <p:grpSpPr>
            <a:xfrm>
              <a:off x="6724800" y="3282840"/>
              <a:ext cx="2441160" cy="596160"/>
              <a:chOff x="6724800" y="3282840"/>
              <a:chExt cx="2441160" cy="596160"/>
            </a:xfrm>
          </p:grpSpPr>
          <p:sp>
            <p:nvSpPr>
              <p:cNvPr id="3579" name=""/>
              <p:cNvSpPr/>
              <p:nvPr/>
            </p:nvSpPr>
            <p:spPr>
              <a:xfrm>
                <a:off x="7338960" y="328284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0" name=""/>
              <p:cNvSpPr/>
              <p:nvPr/>
            </p:nvSpPr>
            <p:spPr>
              <a:xfrm>
                <a:off x="7781760" y="328284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1" name=""/>
              <p:cNvSpPr/>
              <p:nvPr/>
            </p:nvSpPr>
            <p:spPr>
              <a:xfrm>
                <a:off x="8397720" y="3282840"/>
                <a:ext cx="40320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2" name=""/>
              <p:cNvSpPr/>
              <p:nvPr/>
            </p:nvSpPr>
            <p:spPr>
              <a:xfrm>
                <a:off x="6897600" y="3282840"/>
                <a:ext cx="482760" cy="16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3" name=""/>
              <p:cNvSpPr/>
              <p:nvPr/>
            </p:nvSpPr>
            <p:spPr>
              <a:xfrm>
                <a:off x="6724800" y="3425400"/>
                <a:ext cx="42192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4" name=""/>
              <p:cNvSpPr/>
              <p:nvPr/>
            </p:nvSpPr>
            <p:spPr>
              <a:xfrm>
                <a:off x="6799680" y="34462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2</a:t>
                </a:r>
                <a:endParaRPr b="0" lang="en-US" sz="800" spc="-1" strike="noStrike">
                  <a:solidFill>
                    <a:srgbClr val="000000"/>
                  </a:solidFill>
                  <a:latin typeface="Arial"/>
                </a:endParaRPr>
              </a:p>
            </p:txBody>
          </p:sp>
          <p:sp>
            <p:nvSpPr>
              <p:cNvPr id="3585" name=""/>
              <p:cNvSpPr/>
              <p:nvPr/>
            </p:nvSpPr>
            <p:spPr>
              <a:xfrm>
                <a:off x="7493040" y="3425400"/>
                <a:ext cx="50148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6" name=""/>
              <p:cNvSpPr/>
              <p:nvPr/>
            </p:nvSpPr>
            <p:spPr>
              <a:xfrm>
                <a:off x="7702200" y="34462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4</a:t>
                </a:r>
                <a:endParaRPr b="0" lang="en-US" sz="800" spc="-1" strike="noStrike">
                  <a:solidFill>
                    <a:srgbClr val="000000"/>
                  </a:solidFill>
                  <a:latin typeface="Arial"/>
                </a:endParaRPr>
              </a:p>
            </p:txBody>
          </p:sp>
          <p:sp>
            <p:nvSpPr>
              <p:cNvPr id="3587" name=""/>
              <p:cNvSpPr/>
              <p:nvPr/>
            </p:nvSpPr>
            <p:spPr>
              <a:xfrm>
                <a:off x="7935840" y="3425400"/>
                <a:ext cx="50184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8" name=""/>
              <p:cNvSpPr/>
              <p:nvPr/>
            </p:nvSpPr>
            <p:spPr>
              <a:xfrm>
                <a:off x="8148960" y="34462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5</a:t>
                </a:r>
                <a:endParaRPr b="0" lang="en-US" sz="800" spc="-1" strike="noStrike">
                  <a:solidFill>
                    <a:srgbClr val="000000"/>
                  </a:solidFill>
                  <a:latin typeface="Arial"/>
                </a:endParaRPr>
              </a:p>
            </p:txBody>
          </p:sp>
          <p:sp>
            <p:nvSpPr>
              <p:cNvPr id="3589" name=""/>
              <p:cNvSpPr/>
              <p:nvPr/>
            </p:nvSpPr>
            <p:spPr>
              <a:xfrm>
                <a:off x="8553600" y="3425400"/>
                <a:ext cx="4032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0" name=""/>
              <p:cNvSpPr/>
              <p:nvPr/>
            </p:nvSpPr>
            <p:spPr>
              <a:xfrm>
                <a:off x="8707320" y="34462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6</a:t>
                </a:r>
                <a:endParaRPr b="0" lang="en-US" sz="800" spc="-1" strike="noStrike">
                  <a:solidFill>
                    <a:srgbClr val="000000"/>
                  </a:solidFill>
                  <a:latin typeface="Arial"/>
                </a:endParaRPr>
              </a:p>
            </p:txBody>
          </p:sp>
          <p:sp>
            <p:nvSpPr>
              <p:cNvPr id="3591" name=""/>
              <p:cNvSpPr/>
              <p:nvPr/>
            </p:nvSpPr>
            <p:spPr>
              <a:xfrm>
                <a:off x="7051680" y="3425400"/>
                <a:ext cx="48240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2" name=""/>
              <p:cNvSpPr/>
              <p:nvPr/>
            </p:nvSpPr>
            <p:spPr>
              <a:xfrm>
                <a:off x="7241760" y="344628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ac"/>
                    </a:solidFill>
                    <a:latin typeface="Arial Narrow"/>
                  </a:rPr>
                  <a:t>3.3</a:t>
                </a:r>
                <a:endParaRPr b="0" lang="en-US" sz="800" spc="-1" strike="noStrike">
                  <a:solidFill>
                    <a:srgbClr val="000000"/>
                  </a:solidFill>
                  <a:latin typeface="Arial"/>
                </a:endParaRPr>
              </a:p>
            </p:txBody>
          </p:sp>
          <p:sp>
            <p:nvSpPr>
              <p:cNvPr id="3593" name=""/>
              <p:cNvSpPr/>
              <p:nvPr/>
            </p:nvSpPr>
            <p:spPr>
              <a:xfrm>
                <a:off x="6878520" y="3571560"/>
                <a:ext cx="4050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4" name=""/>
              <p:cNvSpPr/>
              <p:nvPr/>
            </p:nvSpPr>
            <p:spPr>
              <a:xfrm>
                <a:off x="7647120" y="3571560"/>
                <a:ext cx="50292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
              <p:cNvSpPr/>
              <p:nvPr/>
            </p:nvSpPr>
            <p:spPr>
              <a:xfrm>
                <a:off x="8091360" y="3571560"/>
                <a:ext cx="4986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6" name=""/>
              <p:cNvGrpSpPr/>
              <p:nvPr/>
            </p:nvGrpSpPr>
            <p:grpSpPr>
              <a:xfrm>
                <a:off x="8643960" y="3463560"/>
                <a:ext cx="522000" cy="415440"/>
                <a:chOff x="8643960" y="3463560"/>
                <a:chExt cx="522000" cy="415440"/>
              </a:xfrm>
            </p:grpSpPr>
            <p:sp>
              <p:nvSpPr>
                <p:cNvPr id="3597" name=""/>
                <p:cNvSpPr/>
                <p:nvPr/>
              </p:nvSpPr>
              <p:spPr>
                <a:xfrm>
                  <a:off x="8663400" y="3482280"/>
                  <a:ext cx="502560" cy="396720"/>
                </a:xfrm>
                <a:custGeom>
                  <a:avLst/>
                  <a:gdLst/>
                  <a:ahLst/>
                  <a:rect l="l" t="t" r="r" b="b"/>
                  <a:pathLst>
                    <a:path w="227" h="192">
                      <a:moveTo>
                        <a:pt x="0" y="0"/>
                      </a:moveTo>
                      <a:lnTo>
                        <a:pt x="183" y="0"/>
                      </a:lnTo>
                      <a:lnTo>
                        <a:pt x="227" y="96"/>
                      </a:lnTo>
                      <a:lnTo>
                        <a:pt x="183" y="192"/>
                      </a:lnTo>
                      <a:lnTo>
                        <a:pt x="0" y="192"/>
                      </a:lnTo>
                      <a:lnTo>
                        <a:pt x="35" y="96"/>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8" name=""/>
                <p:cNvSpPr/>
                <p:nvPr/>
              </p:nvSpPr>
              <p:spPr>
                <a:xfrm>
                  <a:off x="8643960" y="346356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9" name=""/>
                <p:cNvSpPr/>
                <p:nvPr/>
              </p:nvSpPr>
              <p:spPr>
                <a:xfrm>
                  <a:off x="8643960" y="346356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9999"/>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0" name=""/>
              <p:cNvGrpSpPr/>
              <p:nvPr/>
            </p:nvGrpSpPr>
            <p:grpSpPr>
              <a:xfrm>
                <a:off x="7203960" y="3463560"/>
                <a:ext cx="501480" cy="415440"/>
                <a:chOff x="7203960" y="3463560"/>
                <a:chExt cx="501480" cy="415440"/>
              </a:xfrm>
            </p:grpSpPr>
            <p:sp>
              <p:nvSpPr>
                <p:cNvPr id="3601" name=""/>
                <p:cNvSpPr/>
                <p:nvPr/>
              </p:nvSpPr>
              <p:spPr>
                <a:xfrm>
                  <a:off x="7223760" y="3482280"/>
                  <a:ext cx="48132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2" name=""/>
                <p:cNvSpPr/>
                <p:nvPr/>
              </p:nvSpPr>
              <p:spPr>
                <a:xfrm>
                  <a:off x="7203960" y="3463560"/>
                  <a:ext cx="501480" cy="396720"/>
                </a:xfrm>
                <a:custGeom>
                  <a:avLst/>
                  <a:gdLst/>
                  <a:ahLst/>
                  <a:rect l="l" t="t" r="r" b="b"/>
                  <a:pathLst>
                    <a:path w="227" h="192">
                      <a:moveTo>
                        <a:pt x="0" y="0"/>
                      </a:moveTo>
                      <a:lnTo>
                        <a:pt x="184"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3" name=""/>
                <p:cNvSpPr/>
                <p:nvPr/>
              </p:nvSpPr>
              <p:spPr>
                <a:xfrm>
                  <a:off x="7203960" y="3463560"/>
                  <a:ext cx="501480" cy="396720"/>
                </a:xfrm>
                <a:custGeom>
                  <a:avLst/>
                  <a:gdLst/>
                  <a:ahLst/>
                  <a:rect l="l" t="t" r="r" b="b"/>
                  <a:pathLst>
                    <a:path w="227" h="192">
                      <a:moveTo>
                        <a:pt x="0" y="0"/>
                      </a:moveTo>
                      <a:lnTo>
                        <a:pt x="184"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4" name=""/>
              <p:cNvGrpSpPr/>
              <p:nvPr/>
            </p:nvGrpSpPr>
            <p:grpSpPr>
              <a:xfrm>
                <a:off x="6762600" y="3463560"/>
                <a:ext cx="2346480" cy="415440"/>
                <a:chOff x="6762600" y="3463560"/>
                <a:chExt cx="2346480" cy="415440"/>
              </a:xfrm>
            </p:grpSpPr>
            <p:grpSp>
              <p:nvGrpSpPr>
                <p:cNvPr id="3605" name=""/>
                <p:cNvGrpSpPr/>
                <p:nvPr/>
              </p:nvGrpSpPr>
              <p:grpSpPr>
                <a:xfrm>
                  <a:off x="6762600" y="3463560"/>
                  <a:ext cx="501120" cy="415440"/>
                  <a:chOff x="6762600" y="3463560"/>
                  <a:chExt cx="501120" cy="415440"/>
                </a:xfrm>
              </p:grpSpPr>
              <p:sp>
                <p:nvSpPr>
                  <p:cNvPr id="3606" name=""/>
                  <p:cNvSpPr/>
                  <p:nvPr/>
                </p:nvSpPr>
                <p:spPr>
                  <a:xfrm>
                    <a:off x="6779880" y="3482280"/>
                    <a:ext cx="483840" cy="396720"/>
                  </a:xfrm>
                  <a:custGeom>
                    <a:avLst/>
                    <a:gdLst/>
                    <a:ahLst/>
                    <a:rect l="l" t="t" r="r" b="b"/>
                    <a:pathLst>
                      <a:path w="219" h="192">
                        <a:moveTo>
                          <a:pt x="0" y="0"/>
                        </a:moveTo>
                        <a:lnTo>
                          <a:pt x="184" y="0"/>
                        </a:lnTo>
                        <a:lnTo>
                          <a:pt x="219" y="96"/>
                        </a:lnTo>
                        <a:lnTo>
                          <a:pt x="184"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7" name=""/>
                  <p:cNvSpPr/>
                  <p:nvPr/>
                </p:nvSpPr>
                <p:spPr>
                  <a:xfrm>
                    <a:off x="6762600" y="3463560"/>
                    <a:ext cx="481320" cy="396720"/>
                  </a:xfrm>
                  <a:custGeom>
                    <a:avLst/>
                    <a:gdLst/>
                    <a:ahLst/>
                    <a:rect l="l" t="t" r="r" b="b"/>
                    <a:pathLst>
                      <a:path w="218" h="192">
                        <a:moveTo>
                          <a:pt x="0" y="0"/>
                        </a:moveTo>
                        <a:lnTo>
                          <a:pt x="183" y="0"/>
                        </a:lnTo>
                        <a:lnTo>
                          <a:pt x="218" y="105"/>
                        </a:lnTo>
                        <a:lnTo>
                          <a:pt x="183" y="192"/>
                        </a:lnTo>
                        <a:lnTo>
                          <a:pt x="8" y="192"/>
                        </a:lnTo>
                        <a:lnTo>
                          <a:pt x="43"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8" name=""/>
                  <p:cNvSpPr/>
                  <p:nvPr/>
                </p:nvSpPr>
                <p:spPr>
                  <a:xfrm>
                    <a:off x="6762600" y="3463560"/>
                    <a:ext cx="481320" cy="396720"/>
                  </a:xfrm>
                  <a:custGeom>
                    <a:avLst/>
                    <a:gdLst/>
                    <a:ahLst/>
                    <a:rect l="l" t="t" r="r" b="b"/>
                    <a:pathLst>
                      <a:path w="218" h="192">
                        <a:moveTo>
                          <a:pt x="0" y="0"/>
                        </a:moveTo>
                        <a:lnTo>
                          <a:pt x="183" y="0"/>
                        </a:lnTo>
                        <a:lnTo>
                          <a:pt x="218" y="105"/>
                        </a:lnTo>
                        <a:lnTo>
                          <a:pt x="183" y="192"/>
                        </a:lnTo>
                        <a:lnTo>
                          <a:pt x="8" y="192"/>
                        </a:lnTo>
                        <a:lnTo>
                          <a:pt x="43"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9" name=""/>
                <p:cNvGrpSpPr/>
                <p:nvPr/>
              </p:nvGrpSpPr>
              <p:grpSpPr>
                <a:xfrm>
                  <a:off x="7647120" y="3463560"/>
                  <a:ext cx="502560" cy="415440"/>
                  <a:chOff x="7647120" y="3463560"/>
                  <a:chExt cx="502560" cy="415440"/>
                </a:xfrm>
              </p:grpSpPr>
              <p:sp>
                <p:nvSpPr>
                  <p:cNvPr id="3610" name=""/>
                  <p:cNvSpPr/>
                  <p:nvPr/>
                </p:nvSpPr>
                <p:spPr>
                  <a:xfrm>
                    <a:off x="7666920" y="3482280"/>
                    <a:ext cx="482400" cy="396720"/>
                  </a:xfrm>
                  <a:custGeom>
                    <a:avLst/>
                    <a:gdLst/>
                    <a:ahLst/>
                    <a:rect l="l" t="t" r="r" b="b"/>
                    <a:pathLst>
                      <a:path w="218" h="192">
                        <a:moveTo>
                          <a:pt x="0" y="0"/>
                        </a:moveTo>
                        <a:lnTo>
                          <a:pt x="183" y="0"/>
                        </a:lnTo>
                        <a:lnTo>
                          <a:pt x="218" y="96"/>
                        </a:lnTo>
                        <a:lnTo>
                          <a:pt x="183" y="192"/>
                        </a:lnTo>
                        <a:lnTo>
                          <a:pt x="0" y="192"/>
                        </a:lnTo>
                        <a:lnTo>
                          <a:pt x="35"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1" name=""/>
                  <p:cNvSpPr/>
                  <p:nvPr/>
                </p:nvSpPr>
                <p:spPr>
                  <a:xfrm>
                    <a:off x="7647120" y="3463560"/>
                    <a:ext cx="502560" cy="396720"/>
                  </a:xfrm>
                  <a:custGeom>
                    <a:avLst/>
                    <a:gdLst/>
                    <a:ahLst/>
                    <a:rect l="l" t="t" r="r" b="b"/>
                    <a:pathLst>
                      <a:path w="227" h="192">
                        <a:moveTo>
                          <a:pt x="0" y="0"/>
                        </a:moveTo>
                        <a:lnTo>
                          <a:pt x="183" y="0"/>
                        </a:lnTo>
                        <a:lnTo>
                          <a:pt x="227" y="105"/>
                        </a:lnTo>
                        <a:lnTo>
                          <a:pt x="192" y="192"/>
                        </a:lnTo>
                        <a:lnTo>
                          <a:pt x="9" y="192"/>
                        </a:lnTo>
                        <a:lnTo>
                          <a:pt x="44"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2" name=""/>
                  <p:cNvSpPr/>
                  <p:nvPr/>
                </p:nvSpPr>
                <p:spPr>
                  <a:xfrm>
                    <a:off x="7647120" y="3463560"/>
                    <a:ext cx="502560" cy="396720"/>
                  </a:xfrm>
                  <a:custGeom>
                    <a:avLst/>
                    <a:gdLst/>
                    <a:ahLst/>
                    <a:rect l="l" t="t" r="r" b="b"/>
                    <a:pathLst>
                      <a:path w="227" h="192">
                        <a:moveTo>
                          <a:pt x="0" y="0"/>
                        </a:moveTo>
                        <a:lnTo>
                          <a:pt x="183" y="0"/>
                        </a:lnTo>
                        <a:lnTo>
                          <a:pt x="227" y="105"/>
                        </a:lnTo>
                        <a:lnTo>
                          <a:pt x="192" y="192"/>
                        </a:lnTo>
                        <a:lnTo>
                          <a:pt x="9" y="192"/>
                        </a:lnTo>
                        <a:lnTo>
                          <a:pt x="44"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3" name=""/>
                <p:cNvGrpSpPr/>
                <p:nvPr/>
              </p:nvGrpSpPr>
              <p:grpSpPr>
                <a:xfrm>
                  <a:off x="8110440" y="3463560"/>
                  <a:ext cx="498240" cy="415440"/>
                  <a:chOff x="8110440" y="3463560"/>
                  <a:chExt cx="498240" cy="415440"/>
                </a:xfrm>
              </p:grpSpPr>
              <p:sp>
                <p:nvSpPr>
                  <p:cNvPr id="3614" name=""/>
                  <p:cNvSpPr/>
                  <p:nvPr/>
                </p:nvSpPr>
                <p:spPr>
                  <a:xfrm>
                    <a:off x="8110440" y="3482280"/>
                    <a:ext cx="498240" cy="396720"/>
                  </a:xfrm>
                  <a:custGeom>
                    <a:avLst/>
                    <a:gdLst/>
                    <a:ahLst/>
                    <a:rect l="l" t="t" r="r" b="b"/>
                    <a:pathLst>
                      <a:path w="227" h="192">
                        <a:moveTo>
                          <a:pt x="0" y="0"/>
                        </a:moveTo>
                        <a:lnTo>
                          <a:pt x="183" y="0"/>
                        </a:lnTo>
                        <a:lnTo>
                          <a:pt x="227" y="96"/>
                        </a:lnTo>
                        <a:lnTo>
                          <a:pt x="192" y="192"/>
                        </a:lnTo>
                        <a:lnTo>
                          <a:pt x="9" y="192"/>
                        </a:lnTo>
                        <a:lnTo>
                          <a:pt x="44" y="9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5" name=""/>
                  <p:cNvSpPr/>
                  <p:nvPr/>
                </p:nvSpPr>
                <p:spPr>
                  <a:xfrm>
                    <a:off x="8110440" y="3463560"/>
                    <a:ext cx="478440" cy="396720"/>
                  </a:xfrm>
                  <a:custGeom>
                    <a:avLst/>
                    <a:gdLst/>
                    <a:ahLst/>
                    <a:rect l="l" t="t" r="r" b="b"/>
                    <a:pathLst>
                      <a:path w="218" h="192">
                        <a:moveTo>
                          <a:pt x="0" y="0"/>
                        </a:moveTo>
                        <a:lnTo>
                          <a:pt x="183" y="0"/>
                        </a:lnTo>
                        <a:lnTo>
                          <a:pt x="218" y="105"/>
                        </a:lnTo>
                        <a:lnTo>
                          <a:pt x="183" y="192"/>
                        </a:lnTo>
                        <a:lnTo>
                          <a:pt x="0" y="192"/>
                        </a:lnTo>
                        <a:lnTo>
                          <a:pt x="35" y="105"/>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6" name=""/>
                  <p:cNvSpPr/>
                  <p:nvPr/>
                </p:nvSpPr>
                <p:spPr>
                  <a:xfrm>
                    <a:off x="8110440" y="3463560"/>
                    <a:ext cx="478440" cy="396720"/>
                  </a:xfrm>
                  <a:custGeom>
                    <a:avLst/>
                    <a:gdLst/>
                    <a:ahLst/>
                    <a:rect l="l" t="t" r="r" b="b"/>
                    <a:pathLst>
                      <a:path w="218" h="192">
                        <a:moveTo>
                          <a:pt x="0" y="0"/>
                        </a:moveTo>
                        <a:lnTo>
                          <a:pt x="183" y="0"/>
                        </a:lnTo>
                        <a:lnTo>
                          <a:pt x="218" y="105"/>
                        </a:lnTo>
                        <a:lnTo>
                          <a:pt x="183" y="192"/>
                        </a:lnTo>
                        <a:lnTo>
                          <a:pt x="0" y="192"/>
                        </a:lnTo>
                        <a:lnTo>
                          <a:pt x="35" y="105"/>
                        </a:lnTo>
                        <a:lnTo>
                          <a:pt x="0" y="0"/>
                        </a:lnTo>
                      </a:path>
                    </a:pathLst>
                  </a:custGeom>
                  <a:solidFill>
                    <a:srgbClr val="ffff00"/>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7" name=""/>
                <p:cNvSpPr/>
                <p:nvPr/>
              </p:nvSpPr>
              <p:spPr>
                <a:xfrm>
                  <a:off x="8709120" y="3571200"/>
                  <a:ext cx="39996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8" name=""/>
                <p:cNvSpPr/>
                <p:nvPr/>
              </p:nvSpPr>
              <p:spPr>
                <a:xfrm>
                  <a:off x="7188120" y="3571200"/>
                  <a:ext cx="4968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19" name=""/>
            <p:cNvGrpSpPr/>
            <p:nvPr/>
          </p:nvGrpSpPr>
          <p:grpSpPr>
            <a:xfrm>
              <a:off x="5803920" y="3273120"/>
              <a:ext cx="402120" cy="470160"/>
              <a:chOff x="5803920" y="3273120"/>
              <a:chExt cx="402120" cy="470160"/>
            </a:xfrm>
          </p:grpSpPr>
          <p:grpSp>
            <p:nvGrpSpPr>
              <p:cNvPr id="3620" name=""/>
              <p:cNvGrpSpPr/>
              <p:nvPr/>
            </p:nvGrpSpPr>
            <p:grpSpPr>
              <a:xfrm>
                <a:off x="5803920" y="3273120"/>
                <a:ext cx="247680" cy="325080"/>
                <a:chOff x="5803920" y="3273120"/>
                <a:chExt cx="247680" cy="325080"/>
              </a:xfrm>
            </p:grpSpPr>
            <p:grpSp>
              <p:nvGrpSpPr>
                <p:cNvPr id="3621" name=""/>
                <p:cNvGrpSpPr/>
                <p:nvPr/>
              </p:nvGrpSpPr>
              <p:grpSpPr>
                <a:xfrm>
                  <a:off x="5803920" y="3273120"/>
                  <a:ext cx="247680" cy="325080"/>
                  <a:chOff x="5803920" y="3273120"/>
                  <a:chExt cx="247680" cy="325080"/>
                </a:xfrm>
              </p:grpSpPr>
              <p:sp>
                <p:nvSpPr>
                  <p:cNvPr id="3622" name=""/>
                  <p:cNvSpPr/>
                  <p:nvPr/>
                </p:nvSpPr>
                <p:spPr>
                  <a:xfrm>
                    <a:off x="5803920" y="3273120"/>
                    <a:ext cx="247680" cy="325080"/>
                  </a:xfrm>
                  <a:custGeom>
                    <a:avLst/>
                    <a:gdLst/>
                    <a:ahLst/>
                    <a:rect l="l" t="t" r="r" b="b"/>
                    <a:pathLst>
                      <a:path w="113" h="157">
                        <a:moveTo>
                          <a:pt x="96" y="0"/>
                        </a:moveTo>
                        <a:lnTo>
                          <a:pt x="113" y="18"/>
                        </a:lnTo>
                        <a:lnTo>
                          <a:pt x="113" y="157"/>
                        </a:lnTo>
                        <a:lnTo>
                          <a:pt x="0" y="157"/>
                        </a:lnTo>
                        <a:lnTo>
                          <a:pt x="0" y="0"/>
                        </a:lnTo>
                        <a:lnTo>
                          <a:pt x="96"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3" name=""/>
                  <p:cNvSpPr/>
                  <p:nvPr/>
                </p:nvSpPr>
                <p:spPr>
                  <a:xfrm>
                    <a:off x="5803920" y="3273120"/>
                    <a:ext cx="247680" cy="325080"/>
                  </a:xfrm>
                  <a:custGeom>
                    <a:avLst/>
                    <a:gdLst/>
                    <a:ahLst/>
                    <a:rect l="l" t="t" r="r" b="b"/>
                    <a:pathLst>
                      <a:path w="113" h="157">
                        <a:moveTo>
                          <a:pt x="96" y="0"/>
                        </a:moveTo>
                        <a:lnTo>
                          <a:pt x="113" y="18"/>
                        </a:lnTo>
                        <a:lnTo>
                          <a:pt x="113" y="157"/>
                        </a:lnTo>
                        <a:lnTo>
                          <a:pt x="0" y="157"/>
                        </a:lnTo>
                        <a:lnTo>
                          <a:pt x="0" y="0"/>
                        </a:lnTo>
                        <a:lnTo>
                          <a:pt x="96"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4" name=""/>
                <p:cNvGrpSpPr/>
                <p:nvPr/>
              </p:nvGrpSpPr>
              <p:grpSpPr>
                <a:xfrm>
                  <a:off x="6015240" y="3273120"/>
                  <a:ext cx="36360" cy="36720"/>
                  <a:chOff x="6015240" y="3273120"/>
                  <a:chExt cx="36360" cy="36720"/>
                </a:xfrm>
              </p:grpSpPr>
              <p:sp>
                <p:nvSpPr>
                  <p:cNvPr id="3625" name=""/>
                  <p:cNvSpPr/>
                  <p:nvPr/>
                </p:nvSpPr>
                <p:spPr>
                  <a:xfrm>
                    <a:off x="6015240" y="3273120"/>
                    <a:ext cx="36360" cy="36720"/>
                  </a:xfrm>
                  <a:custGeom>
                    <a:avLst/>
                    <a:gdLst/>
                    <a:ahLst/>
                    <a:rect l="l" t="t" r="r" b="b"/>
                    <a:pathLst>
                      <a:path w="17" h="18">
                        <a:moveTo>
                          <a:pt x="0" y="0"/>
                        </a:moveTo>
                        <a:lnTo>
                          <a:pt x="17" y="18"/>
                        </a:lnTo>
                        <a:lnTo>
                          <a:pt x="0" y="18"/>
                        </a:lnTo>
                        <a:lnTo>
                          <a:pt x="0" y="0"/>
                        </a:lnTo>
                        <a:close/>
                      </a:path>
                    </a:pathLst>
                  </a:custGeom>
                  <a:solidFill>
                    <a:srgbClr val="3399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26" name=""/>
                  <p:cNvSpPr/>
                  <p:nvPr/>
                </p:nvSpPr>
                <p:spPr>
                  <a:xfrm>
                    <a:off x="6015240" y="3273120"/>
                    <a:ext cx="36360" cy="36720"/>
                  </a:xfrm>
                  <a:custGeom>
                    <a:avLst/>
                    <a:gdLst/>
                    <a:ahLst/>
                    <a:rect l="l" t="t" r="r" b="b"/>
                    <a:pathLst>
                      <a:path w="17" h="18">
                        <a:moveTo>
                          <a:pt x="0" y="0"/>
                        </a:moveTo>
                        <a:lnTo>
                          <a:pt x="17" y="18"/>
                        </a:lnTo>
                        <a:lnTo>
                          <a:pt x="0" y="18"/>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3627" name=""/>
              <p:cNvGrpSpPr/>
              <p:nvPr/>
            </p:nvGrpSpPr>
            <p:grpSpPr>
              <a:xfrm>
                <a:off x="5881320" y="3345480"/>
                <a:ext cx="247680" cy="325080"/>
                <a:chOff x="5881320" y="3345480"/>
                <a:chExt cx="247680" cy="325080"/>
              </a:xfrm>
            </p:grpSpPr>
            <p:grpSp>
              <p:nvGrpSpPr>
                <p:cNvPr id="3628" name=""/>
                <p:cNvGrpSpPr/>
                <p:nvPr/>
              </p:nvGrpSpPr>
              <p:grpSpPr>
                <a:xfrm>
                  <a:off x="5881320" y="3345480"/>
                  <a:ext cx="247680" cy="325080"/>
                  <a:chOff x="5881320" y="3345480"/>
                  <a:chExt cx="247680" cy="325080"/>
                </a:xfrm>
              </p:grpSpPr>
              <p:sp>
                <p:nvSpPr>
                  <p:cNvPr id="3629" name=""/>
                  <p:cNvSpPr/>
                  <p:nvPr/>
                </p:nvSpPr>
                <p:spPr>
                  <a:xfrm>
                    <a:off x="5881320" y="3345480"/>
                    <a:ext cx="247680" cy="325080"/>
                  </a:xfrm>
                  <a:custGeom>
                    <a:avLst/>
                    <a:gdLst/>
                    <a:ahLst/>
                    <a:rect l="l" t="t" r="r" b="b"/>
                    <a:pathLst>
                      <a:path w="113" h="157">
                        <a:moveTo>
                          <a:pt x="96" y="0"/>
                        </a:moveTo>
                        <a:lnTo>
                          <a:pt x="113" y="17"/>
                        </a:lnTo>
                        <a:lnTo>
                          <a:pt x="113" y="157"/>
                        </a:lnTo>
                        <a:lnTo>
                          <a:pt x="0" y="157"/>
                        </a:lnTo>
                        <a:lnTo>
                          <a:pt x="0" y="0"/>
                        </a:lnTo>
                        <a:lnTo>
                          <a:pt x="96"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0" name=""/>
                  <p:cNvSpPr/>
                  <p:nvPr/>
                </p:nvSpPr>
                <p:spPr>
                  <a:xfrm>
                    <a:off x="5881320" y="3345480"/>
                    <a:ext cx="247680" cy="325080"/>
                  </a:xfrm>
                  <a:custGeom>
                    <a:avLst/>
                    <a:gdLst/>
                    <a:ahLst/>
                    <a:rect l="l" t="t" r="r" b="b"/>
                    <a:pathLst>
                      <a:path w="113" h="157">
                        <a:moveTo>
                          <a:pt x="96" y="0"/>
                        </a:moveTo>
                        <a:lnTo>
                          <a:pt x="113" y="17"/>
                        </a:lnTo>
                        <a:lnTo>
                          <a:pt x="113" y="157"/>
                        </a:lnTo>
                        <a:lnTo>
                          <a:pt x="0" y="157"/>
                        </a:lnTo>
                        <a:lnTo>
                          <a:pt x="0" y="0"/>
                        </a:lnTo>
                        <a:lnTo>
                          <a:pt x="96"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1" name=""/>
                <p:cNvGrpSpPr/>
                <p:nvPr/>
              </p:nvGrpSpPr>
              <p:grpSpPr>
                <a:xfrm>
                  <a:off x="6091920" y="3345480"/>
                  <a:ext cx="36720" cy="34920"/>
                  <a:chOff x="6091920" y="3345480"/>
                  <a:chExt cx="36720" cy="34920"/>
                </a:xfrm>
              </p:grpSpPr>
              <p:sp>
                <p:nvSpPr>
                  <p:cNvPr id="3632" name=""/>
                  <p:cNvSpPr/>
                  <p:nvPr/>
                </p:nvSpPr>
                <p:spPr>
                  <a:xfrm>
                    <a:off x="6091920" y="3345480"/>
                    <a:ext cx="36720" cy="34920"/>
                  </a:xfrm>
                  <a:custGeom>
                    <a:avLst/>
                    <a:gdLst/>
                    <a:ahLst/>
                    <a:rect l="l" t="t" r="r" b="b"/>
                    <a:pathLst>
                      <a:path w="17" h="17">
                        <a:moveTo>
                          <a:pt x="0" y="0"/>
                        </a:moveTo>
                        <a:lnTo>
                          <a:pt x="17" y="17"/>
                        </a:lnTo>
                        <a:lnTo>
                          <a:pt x="0" y="17"/>
                        </a:lnTo>
                        <a:lnTo>
                          <a:pt x="0" y="0"/>
                        </a:lnTo>
                        <a:close/>
                      </a:path>
                    </a:pathLst>
                  </a:custGeom>
                  <a:solidFill>
                    <a:srgbClr val="3399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33" name=""/>
                  <p:cNvSpPr/>
                  <p:nvPr/>
                </p:nvSpPr>
                <p:spPr>
                  <a:xfrm>
                    <a:off x="6091920" y="3345480"/>
                    <a:ext cx="36720" cy="34920"/>
                  </a:xfrm>
                  <a:custGeom>
                    <a:avLst/>
                    <a:gdLst/>
                    <a:ahLst/>
                    <a:rect l="l" t="t" r="r" b="b"/>
                    <a:pathLst>
                      <a:path w="17" h="17">
                        <a:moveTo>
                          <a:pt x="0" y="0"/>
                        </a:moveTo>
                        <a:lnTo>
                          <a:pt x="17" y="17"/>
                        </a:lnTo>
                        <a:lnTo>
                          <a:pt x="0" y="17"/>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nvGrpSpPr>
              <p:cNvPr id="3634" name=""/>
              <p:cNvGrpSpPr/>
              <p:nvPr/>
            </p:nvGrpSpPr>
            <p:grpSpPr>
              <a:xfrm>
                <a:off x="5938200" y="3417840"/>
                <a:ext cx="267840" cy="325440"/>
                <a:chOff x="5938200" y="3417840"/>
                <a:chExt cx="267840" cy="325440"/>
              </a:xfrm>
            </p:grpSpPr>
            <p:grpSp>
              <p:nvGrpSpPr>
                <p:cNvPr id="3635" name=""/>
                <p:cNvGrpSpPr/>
                <p:nvPr/>
              </p:nvGrpSpPr>
              <p:grpSpPr>
                <a:xfrm>
                  <a:off x="5938200" y="3417840"/>
                  <a:ext cx="267840" cy="325440"/>
                  <a:chOff x="5938200" y="3417840"/>
                  <a:chExt cx="267840" cy="325440"/>
                </a:xfrm>
              </p:grpSpPr>
              <p:sp>
                <p:nvSpPr>
                  <p:cNvPr id="3636" name=""/>
                  <p:cNvSpPr/>
                  <p:nvPr/>
                </p:nvSpPr>
                <p:spPr>
                  <a:xfrm>
                    <a:off x="5938200" y="3417840"/>
                    <a:ext cx="267840" cy="325440"/>
                  </a:xfrm>
                  <a:custGeom>
                    <a:avLst/>
                    <a:gdLst/>
                    <a:ahLst/>
                    <a:rect l="l" t="t" r="r" b="b"/>
                    <a:pathLst>
                      <a:path w="122" h="157">
                        <a:moveTo>
                          <a:pt x="105" y="0"/>
                        </a:moveTo>
                        <a:lnTo>
                          <a:pt x="122" y="17"/>
                        </a:lnTo>
                        <a:lnTo>
                          <a:pt x="122" y="157"/>
                        </a:lnTo>
                        <a:lnTo>
                          <a:pt x="0" y="157"/>
                        </a:lnTo>
                        <a:lnTo>
                          <a:pt x="0" y="0"/>
                        </a:lnTo>
                        <a:lnTo>
                          <a:pt x="105"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7" name=""/>
                  <p:cNvSpPr/>
                  <p:nvPr/>
                </p:nvSpPr>
                <p:spPr>
                  <a:xfrm>
                    <a:off x="5938200" y="3417840"/>
                    <a:ext cx="267840" cy="325440"/>
                  </a:xfrm>
                  <a:custGeom>
                    <a:avLst/>
                    <a:gdLst/>
                    <a:ahLst/>
                    <a:rect l="l" t="t" r="r" b="b"/>
                    <a:pathLst>
                      <a:path w="122" h="157">
                        <a:moveTo>
                          <a:pt x="105" y="0"/>
                        </a:moveTo>
                        <a:lnTo>
                          <a:pt x="122" y="17"/>
                        </a:lnTo>
                        <a:lnTo>
                          <a:pt x="122" y="157"/>
                        </a:lnTo>
                        <a:lnTo>
                          <a:pt x="0" y="157"/>
                        </a:lnTo>
                        <a:lnTo>
                          <a:pt x="0" y="0"/>
                        </a:lnTo>
                        <a:lnTo>
                          <a:pt x="105" y="0"/>
                        </a:lnTo>
                      </a:path>
                    </a:pathLst>
                  </a:custGeom>
                  <a:solidFill>
                    <a:srgbClr val="3399ff"/>
                  </a:solidFill>
                  <a:ln cap="rnd"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8" name=""/>
                <p:cNvGrpSpPr/>
                <p:nvPr/>
              </p:nvGrpSpPr>
              <p:grpSpPr>
                <a:xfrm>
                  <a:off x="6168960" y="3417840"/>
                  <a:ext cx="36720" cy="34920"/>
                  <a:chOff x="6168960" y="3417840"/>
                  <a:chExt cx="36720" cy="34920"/>
                </a:xfrm>
              </p:grpSpPr>
              <p:sp>
                <p:nvSpPr>
                  <p:cNvPr id="3639" name=""/>
                  <p:cNvSpPr/>
                  <p:nvPr/>
                </p:nvSpPr>
                <p:spPr>
                  <a:xfrm>
                    <a:off x="6168960" y="3417840"/>
                    <a:ext cx="36720" cy="34920"/>
                  </a:xfrm>
                  <a:custGeom>
                    <a:avLst/>
                    <a:gdLst/>
                    <a:ahLst/>
                    <a:rect l="l" t="t" r="r" b="b"/>
                    <a:pathLst>
                      <a:path w="17" h="17">
                        <a:moveTo>
                          <a:pt x="0" y="0"/>
                        </a:moveTo>
                        <a:lnTo>
                          <a:pt x="17" y="17"/>
                        </a:lnTo>
                        <a:lnTo>
                          <a:pt x="0" y="17"/>
                        </a:lnTo>
                        <a:lnTo>
                          <a:pt x="0" y="0"/>
                        </a:lnTo>
                        <a:close/>
                      </a:path>
                    </a:pathLst>
                  </a:custGeom>
                  <a:solidFill>
                    <a:srgbClr val="3399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40" name=""/>
                  <p:cNvSpPr/>
                  <p:nvPr/>
                </p:nvSpPr>
                <p:spPr>
                  <a:xfrm>
                    <a:off x="6168960" y="3417840"/>
                    <a:ext cx="36720" cy="34920"/>
                  </a:xfrm>
                  <a:custGeom>
                    <a:avLst/>
                    <a:gdLst/>
                    <a:ahLst/>
                    <a:rect l="l" t="t" r="r" b="b"/>
                    <a:pathLst>
                      <a:path w="17" h="17">
                        <a:moveTo>
                          <a:pt x="0" y="0"/>
                        </a:moveTo>
                        <a:lnTo>
                          <a:pt x="17" y="17"/>
                        </a:lnTo>
                        <a:lnTo>
                          <a:pt x="0" y="17"/>
                        </a:lnTo>
                        <a:lnTo>
                          <a:pt x="0" y="0"/>
                        </a:lnTo>
                      </a:path>
                    </a:pathLst>
                  </a:custGeom>
                  <a:solidFill>
                    <a:srgbClr val="3399ff"/>
                  </a:solidFill>
                  <a:ln cap="rnd" w="144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grpSp>
      <p:grpSp>
        <p:nvGrpSpPr>
          <p:cNvPr id="3641" name=""/>
          <p:cNvGrpSpPr/>
          <p:nvPr/>
        </p:nvGrpSpPr>
        <p:grpSpPr>
          <a:xfrm>
            <a:off x="4067280" y="1039680"/>
            <a:ext cx="1334520" cy="796680"/>
            <a:chOff x="4067280" y="1039680"/>
            <a:chExt cx="1334520" cy="796680"/>
          </a:xfrm>
        </p:grpSpPr>
        <p:sp>
          <p:nvSpPr>
            <p:cNvPr id="3642" name=""/>
            <p:cNvSpPr/>
            <p:nvPr/>
          </p:nvSpPr>
          <p:spPr>
            <a:xfrm>
              <a:off x="4627440" y="1039680"/>
              <a:ext cx="774360" cy="796680"/>
            </a:xfrm>
            <a:prstGeom prst="foldedCorner">
              <a:avLst>
                <a:gd name="adj" fmla="val 125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3" name=""/>
            <p:cNvGrpSpPr/>
            <p:nvPr/>
          </p:nvGrpSpPr>
          <p:grpSpPr>
            <a:xfrm>
              <a:off x="4814640" y="1203120"/>
              <a:ext cx="468000" cy="473040"/>
              <a:chOff x="4814640" y="1203120"/>
              <a:chExt cx="468000" cy="473040"/>
            </a:xfrm>
          </p:grpSpPr>
          <p:grpSp>
            <p:nvGrpSpPr>
              <p:cNvPr id="3644" name=""/>
              <p:cNvGrpSpPr/>
              <p:nvPr/>
            </p:nvGrpSpPr>
            <p:grpSpPr>
              <a:xfrm>
                <a:off x="4830840" y="1283400"/>
                <a:ext cx="48960" cy="312480"/>
                <a:chOff x="4830840" y="1283400"/>
                <a:chExt cx="48960" cy="312480"/>
              </a:xfrm>
            </p:grpSpPr>
            <p:sp>
              <p:nvSpPr>
                <p:cNvPr id="3645" name=""/>
                <p:cNvSpPr/>
                <p:nvPr/>
              </p:nvSpPr>
              <p:spPr>
                <a:xfrm>
                  <a:off x="4847040" y="1283400"/>
                  <a:ext cx="16200" cy="26640"/>
                </a:xfrm>
                <a:prstGeom prst="ellipse">
                  <a:avLst/>
                </a:prstGeom>
                <a:solidFill>
                  <a:srgbClr val="99cc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46" name=""/>
                <p:cNvSpPr/>
                <p:nvPr/>
              </p:nvSpPr>
              <p:spPr>
                <a:xfrm>
                  <a:off x="4847040" y="135252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47" name=""/>
                <p:cNvSpPr/>
                <p:nvPr/>
              </p:nvSpPr>
              <p:spPr>
                <a:xfrm>
                  <a:off x="4863600" y="142632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48" name=""/>
                <p:cNvSpPr/>
                <p:nvPr/>
              </p:nvSpPr>
              <p:spPr>
                <a:xfrm>
                  <a:off x="4863600" y="1497600"/>
                  <a:ext cx="16200" cy="26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49" name=""/>
                <p:cNvSpPr/>
                <p:nvPr/>
              </p:nvSpPr>
              <p:spPr>
                <a:xfrm>
                  <a:off x="4830840" y="1443960"/>
                  <a:ext cx="16200" cy="266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50" name=""/>
                <p:cNvSpPr/>
                <p:nvPr/>
              </p:nvSpPr>
              <p:spPr>
                <a:xfrm>
                  <a:off x="4847040" y="1569240"/>
                  <a:ext cx="16200" cy="2664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651" name=""/>
              <p:cNvGrpSpPr/>
              <p:nvPr/>
            </p:nvGrpSpPr>
            <p:grpSpPr>
              <a:xfrm>
                <a:off x="4897080" y="1354680"/>
                <a:ext cx="55080" cy="214200"/>
                <a:chOff x="4897080" y="1354680"/>
                <a:chExt cx="55080" cy="214200"/>
              </a:xfrm>
            </p:grpSpPr>
            <p:sp>
              <p:nvSpPr>
                <p:cNvPr id="3652" name=""/>
                <p:cNvSpPr/>
                <p:nvPr/>
              </p:nvSpPr>
              <p:spPr>
                <a:xfrm>
                  <a:off x="4897080" y="1354680"/>
                  <a:ext cx="16560" cy="2664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53" name=""/>
                <p:cNvSpPr/>
                <p:nvPr/>
              </p:nvSpPr>
              <p:spPr>
                <a:xfrm>
                  <a:off x="4935600" y="1381320"/>
                  <a:ext cx="16560" cy="26640"/>
                </a:xfrm>
                <a:prstGeom prst="ellipse">
                  <a:avLst/>
                </a:prstGeom>
                <a:solidFill>
                  <a:srgbClr val="0099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54" name=""/>
                <p:cNvSpPr/>
                <p:nvPr/>
              </p:nvSpPr>
              <p:spPr>
                <a:xfrm>
                  <a:off x="4897080" y="1407960"/>
                  <a:ext cx="16560" cy="26640"/>
                </a:xfrm>
                <a:prstGeom prst="ellipse">
                  <a:avLst/>
                </a:prstGeom>
                <a:solidFill>
                  <a:srgbClr val="e0fa8e"/>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55" name=""/>
                <p:cNvSpPr/>
                <p:nvPr/>
              </p:nvSpPr>
              <p:spPr>
                <a:xfrm>
                  <a:off x="4935600" y="1452960"/>
                  <a:ext cx="16560" cy="26640"/>
                </a:xfrm>
                <a:prstGeom prst="ellipse">
                  <a:avLst/>
                </a:prstGeom>
                <a:solidFill>
                  <a:srgbClr val="00cc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56" name=""/>
                <p:cNvSpPr/>
                <p:nvPr/>
              </p:nvSpPr>
              <p:spPr>
                <a:xfrm>
                  <a:off x="4897080" y="1470600"/>
                  <a:ext cx="16560" cy="26640"/>
                </a:xfrm>
                <a:prstGeom prst="ellipse">
                  <a:avLst/>
                </a:prstGeom>
                <a:solidFill>
                  <a:srgbClr val="ffcc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57" name=""/>
                <p:cNvSpPr/>
                <p:nvPr/>
              </p:nvSpPr>
              <p:spPr>
                <a:xfrm>
                  <a:off x="4897080" y="154224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58" name=""/>
                <p:cNvSpPr/>
                <p:nvPr/>
              </p:nvSpPr>
              <p:spPr>
                <a:xfrm>
                  <a:off x="4935600" y="1515240"/>
                  <a:ext cx="16560" cy="26640"/>
                </a:xfrm>
                <a:prstGeom prst="ellipse">
                  <a:avLst/>
                </a:prstGeom>
                <a:solidFill>
                  <a:srgbClr val="ffb16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659" name=""/>
              <p:cNvGrpSpPr/>
              <p:nvPr/>
            </p:nvGrpSpPr>
            <p:grpSpPr>
              <a:xfrm>
                <a:off x="4973040" y="1399320"/>
                <a:ext cx="78120" cy="115920"/>
                <a:chOff x="4973040" y="1399320"/>
                <a:chExt cx="78120" cy="115920"/>
              </a:xfrm>
            </p:grpSpPr>
            <p:sp>
              <p:nvSpPr>
                <p:cNvPr id="3660" name=""/>
                <p:cNvSpPr/>
                <p:nvPr/>
              </p:nvSpPr>
              <p:spPr>
                <a:xfrm>
                  <a:off x="5009040" y="139932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61" name=""/>
                <p:cNvSpPr/>
                <p:nvPr/>
              </p:nvSpPr>
              <p:spPr>
                <a:xfrm>
                  <a:off x="4973040" y="1425960"/>
                  <a:ext cx="16560" cy="26640"/>
                </a:xfrm>
                <a:prstGeom prst="ellipse">
                  <a:avLst/>
                </a:prstGeom>
                <a:solidFill>
                  <a:srgbClr val="339966"/>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62" name=""/>
                <p:cNvSpPr/>
                <p:nvPr/>
              </p:nvSpPr>
              <p:spPr>
                <a:xfrm>
                  <a:off x="5034600" y="147060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63" name=""/>
                <p:cNvSpPr/>
                <p:nvPr/>
              </p:nvSpPr>
              <p:spPr>
                <a:xfrm>
                  <a:off x="4978080" y="148860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64" name=""/>
                <p:cNvSpPr/>
                <p:nvPr/>
              </p:nvSpPr>
              <p:spPr>
                <a:xfrm>
                  <a:off x="5034600" y="1470600"/>
                  <a:ext cx="16560" cy="26640"/>
                </a:xfrm>
                <a:prstGeom prst="ellipse">
                  <a:avLst/>
                </a:prstGeom>
                <a:solidFill>
                  <a:srgbClr val="ffff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665" name=""/>
              <p:cNvGrpSpPr/>
              <p:nvPr/>
            </p:nvGrpSpPr>
            <p:grpSpPr>
              <a:xfrm>
                <a:off x="5155920" y="1426320"/>
                <a:ext cx="98640" cy="59040"/>
                <a:chOff x="5155920" y="1426320"/>
                <a:chExt cx="98640" cy="59040"/>
              </a:xfrm>
            </p:grpSpPr>
            <p:sp>
              <p:nvSpPr>
                <p:cNvPr id="3666" name=""/>
                <p:cNvSpPr/>
                <p:nvPr/>
              </p:nvSpPr>
              <p:spPr>
                <a:xfrm>
                  <a:off x="5155920" y="1426320"/>
                  <a:ext cx="16200" cy="266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67" name=""/>
                <p:cNvSpPr/>
                <p:nvPr/>
              </p:nvSpPr>
              <p:spPr>
                <a:xfrm>
                  <a:off x="5238360" y="1426320"/>
                  <a:ext cx="16200" cy="26640"/>
                </a:xfrm>
                <a:prstGeom prst="ellipse">
                  <a:avLst/>
                </a:prstGeom>
                <a:solidFill>
                  <a:srgbClr val="ffff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68" name=""/>
                <p:cNvSpPr/>
                <p:nvPr/>
              </p:nvSpPr>
              <p:spPr>
                <a:xfrm>
                  <a:off x="5217840" y="1458720"/>
                  <a:ext cx="16200" cy="2664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69" name=""/>
                <p:cNvSpPr/>
                <p:nvPr/>
              </p:nvSpPr>
              <p:spPr>
                <a:xfrm>
                  <a:off x="5188680" y="1426320"/>
                  <a:ext cx="16200" cy="26640"/>
                </a:xfrm>
                <a:prstGeom prst="ellipse">
                  <a:avLst/>
                </a:prstGeom>
                <a:solidFill>
                  <a:srgbClr val="ffcc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670" name=""/>
              <p:cNvGrpSpPr/>
              <p:nvPr/>
            </p:nvGrpSpPr>
            <p:grpSpPr>
              <a:xfrm>
                <a:off x="5068080" y="1408320"/>
                <a:ext cx="71280" cy="71280"/>
                <a:chOff x="5068080" y="1408320"/>
                <a:chExt cx="71280" cy="71280"/>
              </a:xfrm>
            </p:grpSpPr>
            <p:sp>
              <p:nvSpPr>
                <p:cNvPr id="3671" name=""/>
                <p:cNvSpPr/>
                <p:nvPr/>
              </p:nvSpPr>
              <p:spPr>
                <a:xfrm>
                  <a:off x="5095440" y="1425960"/>
                  <a:ext cx="16200" cy="2664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72" name=""/>
                <p:cNvSpPr/>
                <p:nvPr/>
              </p:nvSpPr>
              <p:spPr>
                <a:xfrm>
                  <a:off x="5123160" y="145296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73" name=""/>
                <p:cNvSpPr/>
                <p:nvPr/>
              </p:nvSpPr>
              <p:spPr>
                <a:xfrm>
                  <a:off x="5068080" y="1408320"/>
                  <a:ext cx="16200" cy="2664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674" name=""/>
              <p:cNvSpPr/>
              <p:nvPr/>
            </p:nvSpPr>
            <p:spPr>
              <a:xfrm>
                <a:off x="4858560" y="1203120"/>
                <a:ext cx="424080" cy="178560"/>
              </a:xfrm>
              <a:custGeom>
                <a:avLst/>
                <a:gdLst/>
                <a:ahLst/>
                <a:rect l="l" t="t" r="r" b="b"/>
                <a:pathLst>
                  <a:path w="4560" h="1056">
                    <a:moveTo>
                      <a:pt x="0" y="0"/>
                    </a:moveTo>
                    <a:cubicBezTo>
                      <a:pt x="72" y="184"/>
                      <a:pt x="144" y="368"/>
                      <a:pt x="480" y="528"/>
                    </a:cubicBezTo>
                    <a:cubicBezTo>
                      <a:pt x="816" y="688"/>
                      <a:pt x="1336" y="872"/>
                      <a:pt x="2016" y="960"/>
                    </a:cubicBezTo>
                    <a:cubicBezTo>
                      <a:pt x="2696" y="1048"/>
                      <a:pt x="4120" y="1040"/>
                      <a:pt x="4560" y="105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75" name=""/>
              <p:cNvSpPr/>
              <p:nvPr/>
            </p:nvSpPr>
            <p:spPr>
              <a:xfrm flipV="1">
                <a:off x="4858560" y="1515600"/>
                <a:ext cx="424080" cy="160560"/>
              </a:xfrm>
              <a:custGeom>
                <a:avLst/>
                <a:gdLst/>
                <a:ahLst/>
                <a:rect l="l" t="t" r="r" b="b"/>
                <a:pathLst>
                  <a:path w="4560" h="1056">
                    <a:moveTo>
                      <a:pt x="0" y="0"/>
                    </a:moveTo>
                    <a:cubicBezTo>
                      <a:pt x="72" y="184"/>
                      <a:pt x="144" y="368"/>
                      <a:pt x="480" y="528"/>
                    </a:cubicBezTo>
                    <a:cubicBezTo>
                      <a:pt x="816" y="688"/>
                      <a:pt x="1336" y="872"/>
                      <a:pt x="2016" y="960"/>
                    </a:cubicBezTo>
                    <a:cubicBezTo>
                      <a:pt x="2696" y="1048"/>
                      <a:pt x="4120" y="1040"/>
                      <a:pt x="4560" y="105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76" name=""/>
              <p:cNvSpPr/>
              <p:nvPr/>
            </p:nvSpPr>
            <p:spPr>
              <a:xfrm>
                <a:off x="4814640" y="1388880"/>
                <a:ext cx="459000" cy="117720"/>
              </a:xfrm>
              <a:prstGeom prst="rightArrow">
                <a:avLst>
                  <a:gd name="adj1" fmla="val 73500"/>
                  <a:gd name="adj2" fmla="val 57981"/>
                </a:avLst>
              </a:prstGeom>
              <a:solidFill>
                <a:srgbClr val="6767cd"/>
              </a:solidFill>
              <a:ln w="12600">
                <a:solidFill>
                  <a:srgbClr val="ffffff"/>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7" name=""/>
            <p:cNvSpPr/>
            <p:nvPr/>
          </p:nvSpPr>
          <p:spPr>
            <a:xfrm>
              <a:off x="4067280" y="1379160"/>
              <a:ext cx="545760" cy="298440"/>
            </a:xfrm>
            <a:prstGeom prst="rightArrow">
              <a:avLst>
                <a:gd name="adj1" fmla="val 50000"/>
                <a:gd name="adj2" fmla="val 4571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8" name=""/>
          <p:cNvGrpSpPr/>
          <p:nvPr/>
        </p:nvGrpSpPr>
        <p:grpSpPr>
          <a:xfrm>
            <a:off x="4068720" y="1998720"/>
            <a:ext cx="1335240" cy="796680"/>
            <a:chOff x="4068720" y="1998720"/>
            <a:chExt cx="1335240" cy="796680"/>
          </a:xfrm>
        </p:grpSpPr>
        <p:sp>
          <p:nvSpPr>
            <p:cNvPr id="3679" name=""/>
            <p:cNvSpPr/>
            <p:nvPr/>
          </p:nvSpPr>
          <p:spPr>
            <a:xfrm>
              <a:off x="4629240" y="1998720"/>
              <a:ext cx="774720" cy="796680"/>
            </a:xfrm>
            <a:prstGeom prst="foldedCorner">
              <a:avLst>
                <a:gd name="adj" fmla="val 125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0" name=""/>
            <p:cNvGrpSpPr/>
            <p:nvPr/>
          </p:nvGrpSpPr>
          <p:grpSpPr>
            <a:xfrm>
              <a:off x="4816440" y="2162160"/>
              <a:ext cx="468360" cy="473040"/>
              <a:chOff x="4816440" y="2162160"/>
              <a:chExt cx="468360" cy="473040"/>
            </a:xfrm>
          </p:grpSpPr>
          <p:grpSp>
            <p:nvGrpSpPr>
              <p:cNvPr id="3681" name=""/>
              <p:cNvGrpSpPr/>
              <p:nvPr/>
            </p:nvGrpSpPr>
            <p:grpSpPr>
              <a:xfrm>
                <a:off x="4832640" y="2242440"/>
                <a:ext cx="48960" cy="312480"/>
                <a:chOff x="4832640" y="2242440"/>
                <a:chExt cx="48960" cy="312480"/>
              </a:xfrm>
            </p:grpSpPr>
            <p:sp>
              <p:nvSpPr>
                <p:cNvPr id="3682" name=""/>
                <p:cNvSpPr/>
                <p:nvPr/>
              </p:nvSpPr>
              <p:spPr>
                <a:xfrm>
                  <a:off x="4848840" y="2242440"/>
                  <a:ext cx="16200" cy="26640"/>
                </a:xfrm>
                <a:prstGeom prst="ellipse">
                  <a:avLst/>
                </a:prstGeom>
                <a:solidFill>
                  <a:srgbClr val="99cc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83" name=""/>
                <p:cNvSpPr/>
                <p:nvPr/>
              </p:nvSpPr>
              <p:spPr>
                <a:xfrm>
                  <a:off x="4848840" y="231156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84" name=""/>
                <p:cNvSpPr/>
                <p:nvPr/>
              </p:nvSpPr>
              <p:spPr>
                <a:xfrm>
                  <a:off x="4865400" y="238536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85" name=""/>
                <p:cNvSpPr/>
                <p:nvPr/>
              </p:nvSpPr>
              <p:spPr>
                <a:xfrm>
                  <a:off x="4865400" y="2456640"/>
                  <a:ext cx="16200" cy="26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86" name=""/>
                <p:cNvSpPr/>
                <p:nvPr/>
              </p:nvSpPr>
              <p:spPr>
                <a:xfrm>
                  <a:off x="4832640" y="2403000"/>
                  <a:ext cx="16200" cy="266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87" name=""/>
                <p:cNvSpPr/>
                <p:nvPr/>
              </p:nvSpPr>
              <p:spPr>
                <a:xfrm>
                  <a:off x="4848840" y="2528280"/>
                  <a:ext cx="16200" cy="2664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688" name=""/>
              <p:cNvGrpSpPr/>
              <p:nvPr/>
            </p:nvGrpSpPr>
            <p:grpSpPr>
              <a:xfrm>
                <a:off x="4898880" y="2313720"/>
                <a:ext cx="55080" cy="214200"/>
                <a:chOff x="4898880" y="2313720"/>
                <a:chExt cx="55080" cy="214200"/>
              </a:xfrm>
            </p:grpSpPr>
            <p:sp>
              <p:nvSpPr>
                <p:cNvPr id="3689" name=""/>
                <p:cNvSpPr/>
                <p:nvPr/>
              </p:nvSpPr>
              <p:spPr>
                <a:xfrm>
                  <a:off x="4898880" y="2313720"/>
                  <a:ext cx="16560" cy="2664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90" name=""/>
                <p:cNvSpPr/>
                <p:nvPr/>
              </p:nvSpPr>
              <p:spPr>
                <a:xfrm>
                  <a:off x="4937400" y="2340360"/>
                  <a:ext cx="16560" cy="26640"/>
                </a:xfrm>
                <a:prstGeom prst="ellipse">
                  <a:avLst/>
                </a:prstGeom>
                <a:solidFill>
                  <a:srgbClr val="0099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91" name=""/>
                <p:cNvSpPr/>
                <p:nvPr/>
              </p:nvSpPr>
              <p:spPr>
                <a:xfrm>
                  <a:off x="4898880" y="2367000"/>
                  <a:ext cx="16560" cy="26640"/>
                </a:xfrm>
                <a:prstGeom prst="ellipse">
                  <a:avLst/>
                </a:prstGeom>
                <a:solidFill>
                  <a:srgbClr val="e0fa8e"/>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92" name=""/>
                <p:cNvSpPr/>
                <p:nvPr/>
              </p:nvSpPr>
              <p:spPr>
                <a:xfrm>
                  <a:off x="4937400" y="2412000"/>
                  <a:ext cx="16560" cy="26640"/>
                </a:xfrm>
                <a:prstGeom prst="ellipse">
                  <a:avLst/>
                </a:prstGeom>
                <a:solidFill>
                  <a:srgbClr val="00cc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93" name=""/>
                <p:cNvSpPr/>
                <p:nvPr/>
              </p:nvSpPr>
              <p:spPr>
                <a:xfrm>
                  <a:off x="4898880" y="2429640"/>
                  <a:ext cx="16560" cy="26640"/>
                </a:xfrm>
                <a:prstGeom prst="ellipse">
                  <a:avLst/>
                </a:prstGeom>
                <a:solidFill>
                  <a:srgbClr val="ffcc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94" name=""/>
                <p:cNvSpPr/>
                <p:nvPr/>
              </p:nvSpPr>
              <p:spPr>
                <a:xfrm>
                  <a:off x="4898880" y="250128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95" name=""/>
                <p:cNvSpPr/>
                <p:nvPr/>
              </p:nvSpPr>
              <p:spPr>
                <a:xfrm>
                  <a:off x="4937400" y="2474280"/>
                  <a:ext cx="16560" cy="26640"/>
                </a:xfrm>
                <a:prstGeom prst="ellipse">
                  <a:avLst/>
                </a:prstGeom>
                <a:solidFill>
                  <a:srgbClr val="ffb16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696" name=""/>
              <p:cNvGrpSpPr/>
              <p:nvPr/>
            </p:nvGrpSpPr>
            <p:grpSpPr>
              <a:xfrm>
                <a:off x="4975200" y="2358360"/>
                <a:ext cx="78120" cy="115920"/>
                <a:chOff x="4975200" y="2358360"/>
                <a:chExt cx="78120" cy="115920"/>
              </a:xfrm>
            </p:grpSpPr>
            <p:sp>
              <p:nvSpPr>
                <p:cNvPr id="3697" name=""/>
                <p:cNvSpPr/>
                <p:nvPr/>
              </p:nvSpPr>
              <p:spPr>
                <a:xfrm>
                  <a:off x="5011200" y="235836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98" name=""/>
                <p:cNvSpPr/>
                <p:nvPr/>
              </p:nvSpPr>
              <p:spPr>
                <a:xfrm>
                  <a:off x="4975200" y="2385000"/>
                  <a:ext cx="16560" cy="26640"/>
                </a:xfrm>
                <a:prstGeom prst="ellipse">
                  <a:avLst/>
                </a:prstGeom>
                <a:solidFill>
                  <a:srgbClr val="339966"/>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699" name=""/>
                <p:cNvSpPr/>
                <p:nvPr/>
              </p:nvSpPr>
              <p:spPr>
                <a:xfrm>
                  <a:off x="5036760" y="242964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00" name=""/>
                <p:cNvSpPr/>
                <p:nvPr/>
              </p:nvSpPr>
              <p:spPr>
                <a:xfrm>
                  <a:off x="4980240" y="244764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01" name=""/>
                <p:cNvSpPr/>
                <p:nvPr/>
              </p:nvSpPr>
              <p:spPr>
                <a:xfrm>
                  <a:off x="5036760" y="2429640"/>
                  <a:ext cx="16560" cy="26640"/>
                </a:xfrm>
                <a:prstGeom prst="ellipse">
                  <a:avLst/>
                </a:prstGeom>
                <a:solidFill>
                  <a:srgbClr val="ffff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702" name=""/>
              <p:cNvGrpSpPr/>
              <p:nvPr/>
            </p:nvGrpSpPr>
            <p:grpSpPr>
              <a:xfrm>
                <a:off x="5158080" y="2385360"/>
                <a:ext cx="98640" cy="59040"/>
                <a:chOff x="5158080" y="2385360"/>
                <a:chExt cx="98640" cy="59040"/>
              </a:xfrm>
            </p:grpSpPr>
            <p:sp>
              <p:nvSpPr>
                <p:cNvPr id="3703" name=""/>
                <p:cNvSpPr/>
                <p:nvPr/>
              </p:nvSpPr>
              <p:spPr>
                <a:xfrm>
                  <a:off x="5158080" y="2385360"/>
                  <a:ext cx="16200" cy="266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04" name=""/>
                <p:cNvSpPr/>
                <p:nvPr/>
              </p:nvSpPr>
              <p:spPr>
                <a:xfrm>
                  <a:off x="5240520" y="2385360"/>
                  <a:ext cx="16200" cy="26640"/>
                </a:xfrm>
                <a:prstGeom prst="ellipse">
                  <a:avLst/>
                </a:prstGeom>
                <a:solidFill>
                  <a:srgbClr val="ffff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05" name=""/>
                <p:cNvSpPr/>
                <p:nvPr/>
              </p:nvSpPr>
              <p:spPr>
                <a:xfrm>
                  <a:off x="5220000" y="2417760"/>
                  <a:ext cx="16200" cy="2664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06" name=""/>
                <p:cNvSpPr/>
                <p:nvPr/>
              </p:nvSpPr>
              <p:spPr>
                <a:xfrm>
                  <a:off x="5190840" y="2385360"/>
                  <a:ext cx="16200" cy="26640"/>
                </a:xfrm>
                <a:prstGeom prst="ellipse">
                  <a:avLst/>
                </a:prstGeom>
                <a:solidFill>
                  <a:srgbClr val="ffcc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707" name=""/>
              <p:cNvGrpSpPr/>
              <p:nvPr/>
            </p:nvGrpSpPr>
            <p:grpSpPr>
              <a:xfrm>
                <a:off x="5069880" y="2367360"/>
                <a:ext cx="71640" cy="71280"/>
                <a:chOff x="5069880" y="2367360"/>
                <a:chExt cx="71640" cy="71280"/>
              </a:xfrm>
            </p:grpSpPr>
            <p:sp>
              <p:nvSpPr>
                <p:cNvPr id="3708" name=""/>
                <p:cNvSpPr/>
                <p:nvPr/>
              </p:nvSpPr>
              <p:spPr>
                <a:xfrm>
                  <a:off x="5097240" y="2385000"/>
                  <a:ext cx="16560" cy="2664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09" name=""/>
                <p:cNvSpPr/>
                <p:nvPr/>
              </p:nvSpPr>
              <p:spPr>
                <a:xfrm>
                  <a:off x="5124960" y="241200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10" name=""/>
                <p:cNvSpPr/>
                <p:nvPr/>
              </p:nvSpPr>
              <p:spPr>
                <a:xfrm>
                  <a:off x="5069880" y="2367360"/>
                  <a:ext cx="16560" cy="2664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711" name=""/>
              <p:cNvSpPr/>
              <p:nvPr/>
            </p:nvSpPr>
            <p:spPr>
              <a:xfrm>
                <a:off x="4860360" y="2162160"/>
                <a:ext cx="424440" cy="178560"/>
              </a:xfrm>
              <a:custGeom>
                <a:avLst/>
                <a:gdLst/>
                <a:ahLst/>
                <a:rect l="l" t="t" r="r" b="b"/>
                <a:pathLst>
                  <a:path w="4560" h="1056">
                    <a:moveTo>
                      <a:pt x="0" y="0"/>
                    </a:moveTo>
                    <a:cubicBezTo>
                      <a:pt x="72" y="184"/>
                      <a:pt x="144" y="368"/>
                      <a:pt x="480" y="528"/>
                    </a:cubicBezTo>
                    <a:cubicBezTo>
                      <a:pt x="816" y="688"/>
                      <a:pt x="1336" y="872"/>
                      <a:pt x="2016" y="960"/>
                    </a:cubicBezTo>
                    <a:cubicBezTo>
                      <a:pt x="2696" y="1048"/>
                      <a:pt x="4120" y="1040"/>
                      <a:pt x="4560" y="105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12" name=""/>
              <p:cNvSpPr/>
              <p:nvPr/>
            </p:nvSpPr>
            <p:spPr>
              <a:xfrm flipV="1">
                <a:off x="4860360" y="2474640"/>
                <a:ext cx="424440" cy="160560"/>
              </a:xfrm>
              <a:custGeom>
                <a:avLst/>
                <a:gdLst/>
                <a:ahLst/>
                <a:rect l="l" t="t" r="r" b="b"/>
                <a:pathLst>
                  <a:path w="4560" h="1056">
                    <a:moveTo>
                      <a:pt x="0" y="0"/>
                    </a:moveTo>
                    <a:cubicBezTo>
                      <a:pt x="72" y="184"/>
                      <a:pt x="144" y="368"/>
                      <a:pt x="480" y="528"/>
                    </a:cubicBezTo>
                    <a:cubicBezTo>
                      <a:pt x="816" y="688"/>
                      <a:pt x="1336" y="872"/>
                      <a:pt x="2016" y="960"/>
                    </a:cubicBezTo>
                    <a:cubicBezTo>
                      <a:pt x="2696" y="1048"/>
                      <a:pt x="4120" y="1040"/>
                      <a:pt x="4560" y="105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13" name=""/>
              <p:cNvSpPr/>
              <p:nvPr/>
            </p:nvSpPr>
            <p:spPr>
              <a:xfrm>
                <a:off x="4816440" y="2347920"/>
                <a:ext cx="459360" cy="117720"/>
              </a:xfrm>
              <a:prstGeom prst="rightArrow">
                <a:avLst>
                  <a:gd name="adj1" fmla="val 73500"/>
                  <a:gd name="adj2" fmla="val 58026"/>
                </a:avLst>
              </a:prstGeom>
              <a:solidFill>
                <a:srgbClr val="6767cd"/>
              </a:solidFill>
              <a:ln w="12600">
                <a:solidFill>
                  <a:srgbClr val="ffffff"/>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4" name=""/>
            <p:cNvSpPr/>
            <p:nvPr/>
          </p:nvSpPr>
          <p:spPr>
            <a:xfrm>
              <a:off x="4068720" y="2338200"/>
              <a:ext cx="546120" cy="298440"/>
            </a:xfrm>
            <a:prstGeom prst="rightArrow">
              <a:avLst>
                <a:gd name="adj1" fmla="val 50000"/>
                <a:gd name="adj2" fmla="val 4574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15" name=""/>
          <p:cNvGrpSpPr/>
          <p:nvPr/>
        </p:nvGrpSpPr>
        <p:grpSpPr>
          <a:xfrm>
            <a:off x="4067280" y="3025800"/>
            <a:ext cx="1334520" cy="796680"/>
            <a:chOff x="4067280" y="3025800"/>
            <a:chExt cx="1334520" cy="796680"/>
          </a:xfrm>
        </p:grpSpPr>
        <p:sp>
          <p:nvSpPr>
            <p:cNvPr id="3716" name=""/>
            <p:cNvSpPr/>
            <p:nvPr/>
          </p:nvSpPr>
          <p:spPr>
            <a:xfrm>
              <a:off x="4627440" y="3025800"/>
              <a:ext cx="774360" cy="796680"/>
            </a:xfrm>
            <a:prstGeom prst="foldedCorner">
              <a:avLst>
                <a:gd name="adj" fmla="val 125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7" name=""/>
            <p:cNvGrpSpPr/>
            <p:nvPr/>
          </p:nvGrpSpPr>
          <p:grpSpPr>
            <a:xfrm>
              <a:off x="4814640" y="3189240"/>
              <a:ext cx="468000" cy="473040"/>
              <a:chOff x="4814640" y="3189240"/>
              <a:chExt cx="468000" cy="473040"/>
            </a:xfrm>
          </p:grpSpPr>
          <p:grpSp>
            <p:nvGrpSpPr>
              <p:cNvPr id="3718" name=""/>
              <p:cNvGrpSpPr/>
              <p:nvPr/>
            </p:nvGrpSpPr>
            <p:grpSpPr>
              <a:xfrm>
                <a:off x="4830840" y="3269520"/>
                <a:ext cx="48960" cy="312480"/>
                <a:chOff x="4830840" y="3269520"/>
                <a:chExt cx="48960" cy="312480"/>
              </a:xfrm>
            </p:grpSpPr>
            <p:sp>
              <p:nvSpPr>
                <p:cNvPr id="3719" name=""/>
                <p:cNvSpPr/>
                <p:nvPr/>
              </p:nvSpPr>
              <p:spPr>
                <a:xfrm>
                  <a:off x="4847040" y="3269520"/>
                  <a:ext cx="16200" cy="26640"/>
                </a:xfrm>
                <a:prstGeom prst="ellipse">
                  <a:avLst/>
                </a:prstGeom>
                <a:solidFill>
                  <a:srgbClr val="99cc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20" name=""/>
                <p:cNvSpPr/>
                <p:nvPr/>
              </p:nvSpPr>
              <p:spPr>
                <a:xfrm>
                  <a:off x="4847040" y="333864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21" name=""/>
                <p:cNvSpPr/>
                <p:nvPr/>
              </p:nvSpPr>
              <p:spPr>
                <a:xfrm>
                  <a:off x="4863600" y="341244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22" name=""/>
                <p:cNvSpPr/>
                <p:nvPr/>
              </p:nvSpPr>
              <p:spPr>
                <a:xfrm>
                  <a:off x="4863600" y="3483720"/>
                  <a:ext cx="16200" cy="26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23" name=""/>
                <p:cNvSpPr/>
                <p:nvPr/>
              </p:nvSpPr>
              <p:spPr>
                <a:xfrm>
                  <a:off x="4830840" y="3430080"/>
                  <a:ext cx="16200" cy="266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24" name=""/>
                <p:cNvSpPr/>
                <p:nvPr/>
              </p:nvSpPr>
              <p:spPr>
                <a:xfrm>
                  <a:off x="4847040" y="3555360"/>
                  <a:ext cx="16200" cy="2664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725" name=""/>
              <p:cNvGrpSpPr/>
              <p:nvPr/>
            </p:nvGrpSpPr>
            <p:grpSpPr>
              <a:xfrm>
                <a:off x="4897080" y="3340800"/>
                <a:ext cx="55080" cy="214200"/>
                <a:chOff x="4897080" y="3340800"/>
                <a:chExt cx="55080" cy="214200"/>
              </a:xfrm>
            </p:grpSpPr>
            <p:sp>
              <p:nvSpPr>
                <p:cNvPr id="3726" name=""/>
                <p:cNvSpPr/>
                <p:nvPr/>
              </p:nvSpPr>
              <p:spPr>
                <a:xfrm>
                  <a:off x="4897080" y="3340800"/>
                  <a:ext cx="16560" cy="2664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27" name=""/>
                <p:cNvSpPr/>
                <p:nvPr/>
              </p:nvSpPr>
              <p:spPr>
                <a:xfrm>
                  <a:off x="4935600" y="3367440"/>
                  <a:ext cx="16560" cy="26640"/>
                </a:xfrm>
                <a:prstGeom prst="ellipse">
                  <a:avLst/>
                </a:prstGeom>
                <a:solidFill>
                  <a:srgbClr val="0099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28" name=""/>
                <p:cNvSpPr/>
                <p:nvPr/>
              </p:nvSpPr>
              <p:spPr>
                <a:xfrm>
                  <a:off x="4897080" y="3394080"/>
                  <a:ext cx="16560" cy="26640"/>
                </a:xfrm>
                <a:prstGeom prst="ellipse">
                  <a:avLst/>
                </a:prstGeom>
                <a:solidFill>
                  <a:srgbClr val="e0fa8e"/>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29" name=""/>
                <p:cNvSpPr/>
                <p:nvPr/>
              </p:nvSpPr>
              <p:spPr>
                <a:xfrm>
                  <a:off x="4935600" y="3439080"/>
                  <a:ext cx="16560" cy="26640"/>
                </a:xfrm>
                <a:prstGeom prst="ellipse">
                  <a:avLst/>
                </a:prstGeom>
                <a:solidFill>
                  <a:srgbClr val="00cc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30" name=""/>
                <p:cNvSpPr/>
                <p:nvPr/>
              </p:nvSpPr>
              <p:spPr>
                <a:xfrm>
                  <a:off x="4897080" y="3456720"/>
                  <a:ext cx="16560" cy="26640"/>
                </a:xfrm>
                <a:prstGeom prst="ellipse">
                  <a:avLst/>
                </a:prstGeom>
                <a:solidFill>
                  <a:srgbClr val="ffcc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31" name=""/>
                <p:cNvSpPr/>
                <p:nvPr/>
              </p:nvSpPr>
              <p:spPr>
                <a:xfrm>
                  <a:off x="4897080" y="352836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32" name=""/>
                <p:cNvSpPr/>
                <p:nvPr/>
              </p:nvSpPr>
              <p:spPr>
                <a:xfrm>
                  <a:off x="4935600" y="3501360"/>
                  <a:ext cx="16560" cy="26640"/>
                </a:xfrm>
                <a:prstGeom prst="ellipse">
                  <a:avLst/>
                </a:prstGeom>
                <a:solidFill>
                  <a:srgbClr val="ffb16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733" name=""/>
              <p:cNvGrpSpPr/>
              <p:nvPr/>
            </p:nvGrpSpPr>
            <p:grpSpPr>
              <a:xfrm>
                <a:off x="4973040" y="3385440"/>
                <a:ext cx="78120" cy="115920"/>
                <a:chOff x="4973040" y="3385440"/>
                <a:chExt cx="78120" cy="115920"/>
              </a:xfrm>
            </p:grpSpPr>
            <p:sp>
              <p:nvSpPr>
                <p:cNvPr id="3734" name=""/>
                <p:cNvSpPr/>
                <p:nvPr/>
              </p:nvSpPr>
              <p:spPr>
                <a:xfrm>
                  <a:off x="5009040" y="338544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35" name=""/>
                <p:cNvSpPr/>
                <p:nvPr/>
              </p:nvSpPr>
              <p:spPr>
                <a:xfrm>
                  <a:off x="4973040" y="3412080"/>
                  <a:ext cx="16560" cy="26640"/>
                </a:xfrm>
                <a:prstGeom prst="ellipse">
                  <a:avLst/>
                </a:prstGeom>
                <a:solidFill>
                  <a:srgbClr val="339966"/>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36" name=""/>
                <p:cNvSpPr/>
                <p:nvPr/>
              </p:nvSpPr>
              <p:spPr>
                <a:xfrm>
                  <a:off x="5034600" y="345672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37" name=""/>
                <p:cNvSpPr/>
                <p:nvPr/>
              </p:nvSpPr>
              <p:spPr>
                <a:xfrm>
                  <a:off x="4978080" y="3474720"/>
                  <a:ext cx="1656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38" name=""/>
                <p:cNvSpPr/>
                <p:nvPr/>
              </p:nvSpPr>
              <p:spPr>
                <a:xfrm>
                  <a:off x="5034600" y="3456720"/>
                  <a:ext cx="16560" cy="26640"/>
                </a:xfrm>
                <a:prstGeom prst="ellipse">
                  <a:avLst/>
                </a:prstGeom>
                <a:solidFill>
                  <a:srgbClr val="ffff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739" name=""/>
              <p:cNvGrpSpPr/>
              <p:nvPr/>
            </p:nvGrpSpPr>
            <p:grpSpPr>
              <a:xfrm>
                <a:off x="5155920" y="3412440"/>
                <a:ext cx="98640" cy="59040"/>
                <a:chOff x="5155920" y="3412440"/>
                <a:chExt cx="98640" cy="59040"/>
              </a:xfrm>
            </p:grpSpPr>
            <p:sp>
              <p:nvSpPr>
                <p:cNvPr id="3740" name=""/>
                <p:cNvSpPr/>
                <p:nvPr/>
              </p:nvSpPr>
              <p:spPr>
                <a:xfrm>
                  <a:off x="5155920" y="3412440"/>
                  <a:ext cx="16200" cy="266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41" name=""/>
                <p:cNvSpPr/>
                <p:nvPr/>
              </p:nvSpPr>
              <p:spPr>
                <a:xfrm>
                  <a:off x="5238360" y="3412440"/>
                  <a:ext cx="16200" cy="26640"/>
                </a:xfrm>
                <a:prstGeom prst="ellipse">
                  <a:avLst/>
                </a:prstGeom>
                <a:solidFill>
                  <a:srgbClr val="ffff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42" name=""/>
                <p:cNvSpPr/>
                <p:nvPr/>
              </p:nvSpPr>
              <p:spPr>
                <a:xfrm>
                  <a:off x="5217840" y="3444840"/>
                  <a:ext cx="16200" cy="2664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43" name=""/>
                <p:cNvSpPr/>
                <p:nvPr/>
              </p:nvSpPr>
              <p:spPr>
                <a:xfrm>
                  <a:off x="5188680" y="3412440"/>
                  <a:ext cx="16200" cy="26640"/>
                </a:xfrm>
                <a:prstGeom prst="ellipse">
                  <a:avLst/>
                </a:prstGeom>
                <a:solidFill>
                  <a:srgbClr val="ffcc99"/>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3744" name=""/>
              <p:cNvGrpSpPr/>
              <p:nvPr/>
            </p:nvGrpSpPr>
            <p:grpSpPr>
              <a:xfrm>
                <a:off x="5068080" y="3394440"/>
                <a:ext cx="71280" cy="71280"/>
                <a:chOff x="5068080" y="3394440"/>
                <a:chExt cx="71280" cy="71280"/>
              </a:xfrm>
            </p:grpSpPr>
            <p:sp>
              <p:nvSpPr>
                <p:cNvPr id="3745" name=""/>
                <p:cNvSpPr/>
                <p:nvPr/>
              </p:nvSpPr>
              <p:spPr>
                <a:xfrm>
                  <a:off x="5095440" y="3412080"/>
                  <a:ext cx="16200" cy="2664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46" name=""/>
                <p:cNvSpPr/>
                <p:nvPr/>
              </p:nvSpPr>
              <p:spPr>
                <a:xfrm>
                  <a:off x="5123160" y="3439080"/>
                  <a:ext cx="16200" cy="266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747" name=""/>
                <p:cNvSpPr/>
                <p:nvPr/>
              </p:nvSpPr>
              <p:spPr>
                <a:xfrm>
                  <a:off x="5068080" y="3394440"/>
                  <a:ext cx="16200" cy="2664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748" name=""/>
              <p:cNvSpPr/>
              <p:nvPr/>
            </p:nvSpPr>
            <p:spPr>
              <a:xfrm>
                <a:off x="4858560" y="3189240"/>
                <a:ext cx="424080" cy="178560"/>
              </a:xfrm>
              <a:custGeom>
                <a:avLst/>
                <a:gdLst/>
                <a:ahLst/>
                <a:rect l="l" t="t" r="r" b="b"/>
                <a:pathLst>
                  <a:path w="4560" h="1056">
                    <a:moveTo>
                      <a:pt x="0" y="0"/>
                    </a:moveTo>
                    <a:cubicBezTo>
                      <a:pt x="72" y="184"/>
                      <a:pt x="144" y="368"/>
                      <a:pt x="480" y="528"/>
                    </a:cubicBezTo>
                    <a:cubicBezTo>
                      <a:pt x="816" y="688"/>
                      <a:pt x="1336" y="872"/>
                      <a:pt x="2016" y="960"/>
                    </a:cubicBezTo>
                    <a:cubicBezTo>
                      <a:pt x="2696" y="1048"/>
                      <a:pt x="4120" y="1040"/>
                      <a:pt x="4560" y="105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49" name=""/>
              <p:cNvSpPr/>
              <p:nvPr/>
            </p:nvSpPr>
            <p:spPr>
              <a:xfrm flipV="1">
                <a:off x="4858560" y="3501720"/>
                <a:ext cx="424080" cy="160560"/>
              </a:xfrm>
              <a:custGeom>
                <a:avLst/>
                <a:gdLst/>
                <a:ahLst/>
                <a:rect l="l" t="t" r="r" b="b"/>
                <a:pathLst>
                  <a:path w="4560" h="1056">
                    <a:moveTo>
                      <a:pt x="0" y="0"/>
                    </a:moveTo>
                    <a:cubicBezTo>
                      <a:pt x="72" y="184"/>
                      <a:pt x="144" y="368"/>
                      <a:pt x="480" y="528"/>
                    </a:cubicBezTo>
                    <a:cubicBezTo>
                      <a:pt x="816" y="688"/>
                      <a:pt x="1336" y="872"/>
                      <a:pt x="2016" y="960"/>
                    </a:cubicBezTo>
                    <a:cubicBezTo>
                      <a:pt x="2696" y="1048"/>
                      <a:pt x="4120" y="1040"/>
                      <a:pt x="4560" y="105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50" name=""/>
              <p:cNvSpPr/>
              <p:nvPr/>
            </p:nvSpPr>
            <p:spPr>
              <a:xfrm>
                <a:off x="4814640" y="3375000"/>
                <a:ext cx="459000" cy="117720"/>
              </a:xfrm>
              <a:prstGeom prst="rightArrow">
                <a:avLst>
                  <a:gd name="adj1" fmla="val 73500"/>
                  <a:gd name="adj2" fmla="val 57981"/>
                </a:avLst>
              </a:prstGeom>
              <a:solidFill>
                <a:srgbClr val="6767cd"/>
              </a:solidFill>
              <a:ln w="12600">
                <a:solidFill>
                  <a:srgbClr val="ffffff"/>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1" name=""/>
            <p:cNvSpPr/>
            <p:nvPr/>
          </p:nvSpPr>
          <p:spPr>
            <a:xfrm>
              <a:off x="4067280" y="3365280"/>
              <a:ext cx="545760" cy="298440"/>
            </a:xfrm>
            <a:prstGeom prst="rightArrow">
              <a:avLst>
                <a:gd name="adj1" fmla="val 50000"/>
                <a:gd name="adj2" fmla="val 4571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52" name=""/>
          <p:cNvSpPr/>
          <p:nvPr/>
        </p:nvSpPr>
        <p:spPr>
          <a:xfrm>
            <a:off x="2747880" y="4952880"/>
            <a:ext cx="1569960" cy="1017720"/>
          </a:xfrm>
          <a:prstGeom prst="rect">
            <a:avLst/>
          </a:prstGeom>
          <a:solidFill>
            <a:srgbClr val="ff9933"/>
          </a:soli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nejamento Estratégico do Negócio</a:t>
            </a:r>
            <a:endParaRPr b="0" lang="en-US" sz="1400" spc="-1" strike="noStrike">
              <a:solidFill>
                <a:srgbClr val="000000"/>
              </a:solidFill>
              <a:latin typeface="Arial"/>
            </a:endParaRPr>
          </a:p>
        </p:txBody>
      </p:sp>
      <p:sp>
        <p:nvSpPr>
          <p:cNvPr id="3753" name=""/>
          <p:cNvSpPr/>
          <p:nvPr/>
        </p:nvSpPr>
        <p:spPr>
          <a:xfrm>
            <a:off x="4243320" y="4952880"/>
            <a:ext cx="1319400" cy="101304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 Estratégico de Produtos </a:t>
            </a:r>
            <a:endParaRPr b="0" lang="en-US" sz="1400" spc="-1" strike="noStrike">
              <a:solidFill>
                <a:srgbClr val="000000"/>
              </a:solidFill>
              <a:latin typeface="Arial"/>
            </a:endParaRPr>
          </a:p>
        </p:txBody>
      </p:sp>
      <p:sp>
        <p:nvSpPr>
          <p:cNvPr id="3754" name=""/>
          <p:cNvSpPr/>
          <p:nvPr/>
        </p:nvSpPr>
        <p:spPr>
          <a:xfrm>
            <a:off x="5562720" y="4952880"/>
            <a:ext cx="990360" cy="10144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laneja</a:t>
            </a:r>
            <a:r>
              <a:rPr b="0" lang="en-US" sz="1400" spc="-1" strike="noStrike">
                <a:solidFill>
                  <a:srgbClr val="000000"/>
                </a:solidFill>
                <a:latin typeface="Arial"/>
              </a:rPr>
              <a:t>-</a:t>
            </a:r>
            <a:r>
              <a:rPr b="0" lang="pt-BR" sz="1400" spc="-1" strike="noStrike">
                <a:solidFill>
                  <a:srgbClr val="000000"/>
                </a:solidFill>
                <a:latin typeface="Arial"/>
              </a:rPr>
              <a:t>mento do Projeto</a:t>
            </a:r>
            <a:endParaRPr b="0" lang="en-US" sz="1400" spc="-1" strike="noStrike">
              <a:solidFill>
                <a:srgbClr val="000000"/>
              </a:solidFill>
              <a:latin typeface="Arial"/>
            </a:endParaRPr>
          </a:p>
        </p:txBody>
      </p:sp>
      <p:sp>
        <p:nvSpPr>
          <p:cNvPr id="375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6" name=""/>
          <p:cNvSpPr/>
          <p:nvPr/>
        </p:nvSpPr>
        <p:spPr>
          <a:xfrm>
            <a:off x="168120" y="1962000"/>
            <a:ext cx="8834760" cy="4749840"/>
          </a:xfrm>
          <a:custGeom>
            <a:avLst/>
            <a:gdLst/>
            <a:ahLst/>
            <a:rect l="l" t="t" r="r" b="b"/>
            <a:pathLst>
              <a:path w="5565" h="2992">
                <a:moveTo>
                  <a:pt x="62" y="33"/>
                </a:moveTo>
                <a:lnTo>
                  <a:pt x="1270" y="0"/>
                </a:lnTo>
                <a:lnTo>
                  <a:pt x="1560" y="246"/>
                </a:lnTo>
                <a:lnTo>
                  <a:pt x="5559" y="240"/>
                </a:lnTo>
                <a:lnTo>
                  <a:pt x="5565" y="2992"/>
                </a:lnTo>
                <a:lnTo>
                  <a:pt x="0" y="2992"/>
                </a:lnTo>
                <a:lnTo>
                  <a:pt x="6" y="229"/>
                </a:lnTo>
                <a:lnTo>
                  <a:pt x="62" y="33"/>
                </a:lnTo>
                <a:close/>
              </a:path>
            </a:pathLst>
          </a:custGeom>
          <a:solidFill>
            <a:srgbClr val="99ccff"/>
          </a:solidFill>
          <a:ln w="9360">
            <a:solidFill>
              <a:srgbClr val="00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375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Visão Geral da Macro-Fase Pré-Desenvolvimento</a:t>
            </a:r>
            <a:endParaRPr b="0" lang="en-US" sz="2400" spc="-1" strike="noStrike">
              <a:solidFill>
                <a:srgbClr val="000096"/>
              </a:solidFill>
              <a:latin typeface="Arial"/>
            </a:endParaRPr>
          </a:p>
        </p:txBody>
      </p:sp>
      <p:grpSp>
        <p:nvGrpSpPr>
          <p:cNvPr id="3758" name=""/>
          <p:cNvGrpSpPr/>
          <p:nvPr/>
        </p:nvGrpSpPr>
        <p:grpSpPr>
          <a:xfrm>
            <a:off x="2239920" y="1835280"/>
            <a:ext cx="4146480" cy="298440"/>
            <a:chOff x="2239920" y="1835280"/>
            <a:chExt cx="4146480" cy="298440"/>
          </a:xfrm>
        </p:grpSpPr>
        <p:sp>
          <p:nvSpPr>
            <p:cNvPr id="3759" name=""/>
            <p:cNvSpPr/>
            <p:nvPr/>
          </p:nvSpPr>
          <p:spPr>
            <a:xfrm>
              <a:off x="2239920" y="1835280"/>
              <a:ext cx="4146480" cy="298440"/>
            </a:xfrm>
            <a:custGeom>
              <a:avLst/>
              <a:gdLst>
                <a:gd name="textAreaLeft" fmla="*/ 0 w 4146480"/>
                <a:gd name="textAreaRight" fmla="*/ 4146840 w 4146480"/>
                <a:gd name="textAreaTop" fmla="*/ 0 h 298440"/>
                <a:gd name="textAreaBottom" fmla="*/ 298800 h 298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0" name=""/>
            <p:cNvSpPr/>
            <p:nvPr/>
          </p:nvSpPr>
          <p:spPr>
            <a:xfrm>
              <a:off x="3293640" y="18478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61" name=""/>
          <p:cNvGrpSpPr/>
          <p:nvPr/>
        </p:nvGrpSpPr>
        <p:grpSpPr>
          <a:xfrm>
            <a:off x="6364440" y="1836720"/>
            <a:ext cx="2652480" cy="298440"/>
            <a:chOff x="6364440" y="1836720"/>
            <a:chExt cx="2652480" cy="298440"/>
          </a:xfrm>
        </p:grpSpPr>
        <p:sp>
          <p:nvSpPr>
            <p:cNvPr id="3762" name=""/>
            <p:cNvSpPr/>
            <p:nvPr/>
          </p:nvSpPr>
          <p:spPr>
            <a:xfrm>
              <a:off x="6364440" y="18367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3" name=""/>
            <p:cNvSpPr/>
            <p:nvPr/>
          </p:nvSpPr>
          <p:spPr>
            <a:xfrm>
              <a:off x="7431480" y="18730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3764" name=""/>
          <p:cNvSpPr/>
          <p:nvPr/>
        </p:nvSpPr>
        <p:spPr>
          <a:xfrm>
            <a:off x="8223120" y="19209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3765" name=""/>
          <p:cNvCxnSpPr>
            <a:stCxn id="3762" idx="0"/>
            <a:endCxn id="3766" idx="0"/>
          </p:cNvCxnSpPr>
          <p:nvPr/>
        </p:nvCxnSpPr>
        <p:spPr>
          <a:xfrm rot="5400000">
            <a:off x="4402440" y="-1389960"/>
            <a:ext cx="2160" cy="6455520"/>
          </a:xfrm>
          <a:prstGeom prst="bentConnector3">
            <a:avLst>
              <a:gd name="adj1" fmla="val -14400000"/>
            </a:avLst>
          </a:prstGeom>
          <a:ln w="19080">
            <a:solidFill>
              <a:srgbClr val="000000"/>
            </a:solidFill>
            <a:miter/>
            <a:tailEnd len="med" type="triangle" w="med"/>
          </a:ln>
        </p:spPr>
      </p:cxnSp>
      <p:grpSp>
        <p:nvGrpSpPr>
          <p:cNvPr id="3767" name=""/>
          <p:cNvGrpSpPr/>
          <p:nvPr/>
        </p:nvGrpSpPr>
        <p:grpSpPr>
          <a:xfrm>
            <a:off x="171360" y="1836720"/>
            <a:ext cx="2124000" cy="297000"/>
            <a:chOff x="171360" y="1836720"/>
            <a:chExt cx="2124000" cy="297000"/>
          </a:xfrm>
        </p:grpSpPr>
        <p:sp>
          <p:nvSpPr>
            <p:cNvPr id="3766" name=""/>
            <p:cNvSpPr/>
            <p:nvPr/>
          </p:nvSpPr>
          <p:spPr>
            <a:xfrm>
              <a:off x="171360" y="18367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3768" name=""/>
            <p:cNvSpPr/>
            <p:nvPr/>
          </p:nvSpPr>
          <p:spPr>
            <a:xfrm>
              <a:off x="999000" y="18730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3769" name=""/>
          <p:cNvSpPr/>
          <p:nvPr/>
        </p:nvSpPr>
        <p:spPr>
          <a:xfrm>
            <a:off x="1500120" y="10652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0" name=""/>
          <p:cNvSpPr/>
          <p:nvPr/>
        </p:nvSpPr>
        <p:spPr>
          <a:xfrm>
            <a:off x="330120" y="2482920"/>
            <a:ext cx="833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í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ejamento Estratégico do Negócio concluído (Corporação e Unidade de Negócio)</a:t>
            </a:r>
            <a:endParaRPr b="0" lang="en-US" sz="2400" spc="-1" strike="noStrike">
              <a:solidFill>
                <a:srgbClr val="000000"/>
              </a:solidFill>
              <a:latin typeface="Arial"/>
            </a:endParaRPr>
          </a:p>
        </p:txBody>
      </p:sp>
      <p:sp>
        <p:nvSpPr>
          <p:cNvPr id="3771" name=""/>
          <p:cNvSpPr/>
          <p:nvPr/>
        </p:nvSpPr>
        <p:spPr>
          <a:xfrm>
            <a:off x="382680" y="4229280"/>
            <a:ext cx="833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Arial"/>
              </a:rPr>
              <a:t>Fim:</a:t>
            </a:r>
            <a:r>
              <a:rPr b="0" lang="pt-BR"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ortfolio de produtos definid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Minuta dos projetos elabor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2" name=""/>
          <p:cNvSpPr/>
          <p:nvPr/>
        </p:nvSpPr>
        <p:spPr>
          <a:xfrm>
            <a:off x="123840" y="1979640"/>
            <a:ext cx="8834400" cy="4732200"/>
          </a:xfrm>
          <a:custGeom>
            <a:avLst/>
            <a:gdLst/>
            <a:ahLst/>
            <a:rect l="l" t="t" r="r" b="b"/>
            <a:pathLst>
              <a:path w="5565" h="2981">
                <a:moveTo>
                  <a:pt x="1477" y="0"/>
                </a:moveTo>
                <a:lnTo>
                  <a:pt x="3747" y="11"/>
                </a:lnTo>
                <a:lnTo>
                  <a:pt x="4351" y="291"/>
                </a:lnTo>
                <a:lnTo>
                  <a:pt x="5565" y="291"/>
                </a:lnTo>
                <a:lnTo>
                  <a:pt x="5565" y="2970"/>
                </a:lnTo>
                <a:lnTo>
                  <a:pt x="6" y="2981"/>
                </a:lnTo>
                <a:lnTo>
                  <a:pt x="0" y="291"/>
                </a:lnTo>
                <a:lnTo>
                  <a:pt x="1292" y="291"/>
                </a:lnTo>
                <a:lnTo>
                  <a:pt x="1477" y="0"/>
                </a:lnTo>
                <a:close/>
              </a:path>
            </a:pathLst>
          </a:custGeom>
          <a:solidFill>
            <a:srgbClr val="ffff00"/>
          </a:solidFill>
          <a:ln w="9360">
            <a:solidFill>
              <a:srgbClr val="00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377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Visão Geral da Macro-Fase Pré-Desenvolvimento</a:t>
            </a:r>
            <a:endParaRPr b="0" lang="en-US" sz="2400" spc="-1" strike="noStrike">
              <a:solidFill>
                <a:srgbClr val="000096"/>
              </a:solidFill>
              <a:latin typeface="Arial"/>
            </a:endParaRPr>
          </a:p>
        </p:txBody>
      </p:sp>
      <p:grpSp>
        <p:nvGrpSpPr>
          <p:cNvPr id="3774" name=""/>
          <p:cNvGrpSpPr/>
          <p:nvPr/>
        </p:nvGrpSpPr>
        <p:grpSpPr>
          <a:xfrm>
            <a:off x="2239920" y="1835280"/>
            <a:ext cx="4146480" cy="298440"/>
            <a:chOff x="2239920" y="1835280"/>
            <a:chExt cx="4146480" cy="298440"/>
          </a:xfrm>
        </p:grpSpPr>
        <p:sp>
          <p:nvSpPr>
            <p:cNvPr id="3775" name=""/>
            <p:cNvSpPr/>
            <p:nvPr/>
          </p:nvSpPr>
          <p:spPr>
            <a:xfrm>
              <a:off x="2239920" y="1835280"/>
              <a:ext cx="4146480" cy="298440"/>
            </a:xfrm>
            <a:custGeom>
              <a:avLst/>
              <a:gdLst>
                <a:gd name="textAreaLeft" fmla="*/ 0 w 4146480"/>
                <a:gd name="textAreaRight" fmla="*/ 4146840 w 4146480"/>
                <a:gd name="textAreaTop" fmla="*/ 0 h 298440"/>
                <a:gd name="textAreaBottom" fmla="*/ 298800 h 298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6" name=""/>
            <p:cNvSpPr/>
            <p:nvPr/>
          </p:nvSpPr>
          <p:spPr>
            <a:xfrm>
              <a:off x="3293640" y="18478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77" name=""/>
          <p:cNvGrpSpPr/>
          <p:nvPr/>
        </p:nvGrpSpPr>
        <p:grpSpPr>
          <a:xfrm>
            <a:off x="6364440" y="1836720"/>
            <a:ext cx="2652480" cy="298440"/>
            <a:chOff x="6364440" y="1836720"/>
            <a:chExt cx="2652480" cy="298440"/>
          </a:xfrm>
        </p:grpSpPr>
        <p:sp>
          <p:nvSpPr>
            <p:cNvPr id="3778" name=""/>
            <p:cNvSpPr/>
            <p:nvPr/>
          </p:nvSpPr>
          <p:spPr>
            <a:xfrm>
              <a:off x="6364440" y="18367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
            <p:cNvSpPr/>
            <p:nvPr/>
          </p:nvSpPr>
          <p:spPr>
            <a:xfrm>
              <a:off x="7431480" y="18730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3780" name=""/>
          <p:cNvSpPr/>
          <p:nvPr/>
        </p:nvSpPr>
        <p:spPr>
          <a:xfrm>
            <a:off x="8223120" y="19209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3781" name=""/>
          <p:cNvCxnSpPr>
            <a:stCxn id="3778" idx="0"/>
            <a:endCxn id="3782" idx="0"/>
          </p:cNvCxnSpPr>
          <p:nvPr/>
        </p:nvCxnSpPr>
        <p:spPr>
          <a:xfrm rot="5400000">
            <a:off x="4402440" y="-1389960"/>
            <a:ext cx="2160" cy="6455520"/>
          </a:xfrm>
          <a:prstGeom prst="bentConnector3">
            <a:avLst>
              <a:gd name="adj1" fmla="val -14400000"/>
            </a:avLst>
          </a:prstGeom>
          <a:ln w="19080">
            <a:solidFill>
              <a:srgbClr val="000000"/>
            </a:solidFill>
            <a:miter/>
            <a:tailEnd len="med" type="triangle" w="med"/>
          </a:ln>
        </p:spPr>
      </p:cxnSp>
      <p:grpSp>
        <p:nvGrpSpPr>
          <p:cNvPr id="3783" name=""/>
          <p:cNvGrpSpPr/>
          <p:nvPr/>
        </p:nvGrpSpPr>
        <p:grpSpPr>
          <a:xfrm>
            <a:off x="171360" y="1836720"/>
            <a:ext cx="2124000" cy="297000"/>
            <a:chOff x="171360" y="1836720"/>
            <a:chExt cx="2124000" cy="297000"/>
          </a:xfrm>
        </p:grpSpPr>
        <p:sp>
          <p:nvSpPr>
            <p:cNvPr id="3782" name=""/>
            <p:cNvSpPr/>
            <p:nvPr/>
          </p:nvSpPr>
          <p:spPr>
            <a:xfrm>
              <a:off x="171360" y="18367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3784" name=""/>
            <p:cNvSpPr/>
            <p:nvPr/>
          </p:nvSpPr>
          <p:spPr>
            <a:xfrm>
              <a:off x="999000" y="18730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3785" name=""/>
          <p:cNvSpPr/>
          <p:nvPr/>
        </p:nvSpPr>
        <p:spPr>
          <a:xfrm>
            <a:off x="1500120" y="10652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6" name=""/>
          <p:cNvSpPr/>
          <p:nvPr/>
        </p:nvSpPr>
        <p:spPr>
          <a:xfrm>
            <a:off x="330120" y="2482920"/>
            <a:ext cx="833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escrição.</a:t>
            </a:r>
            <a:r>
              <a:rPr b="0" lang="en-US" sz="2400" spc="-1" strike="noStrike">
                <a:solidFill>
                  <a:srgbClr val="000000"/>
                </a:solidFill>
                <a:latin typeface="Arial"/>
              </a:rPr>
              <a:t> Envolve as atividades de desenvolvimento dos projetos definidos e aprovados na fase anterior. Nesta macro-fase cada produto é gerenciado como um projeto.</a:t>
            </a:r>
            <a:endParaRPr b="0" lang="en-US" sz="2400" spc="-1" strike="noStrike">
              <a:solidFill>
                <a:srgbClr val="000000"/>
              </a:solidFill>
              <a:latin typeface="Arial"/>
            </a:endParaRPr>
          </a:p>
        </p:txBody>
      </p:sp>
      <p:sp>
        <p:nvSpPr>
          <p:cNvPr id="3787" name=""/>
          <p:cNvSpPr/>
          <p:nvPr/>
        </p:nvSpPr>
        <p:spPr>
          <a:xfrm>
            <a:off x="357120" y="3836880"/>
            <a:ext cx="8336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í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uta do projeto aprovada</a:t>
            </a:r>
            <a:endParaRPr b="0" lang="en-US" sz="2400" spc="-1" strike="noStrike">
              <a:solidFill>
                <a:srgbClr val="000000"/>
              </a:solidFill>
              <a:latin typeface="Arial"/>
            </a:endParaRPr>
          </a:p>
        </p:txBody>
      </p:sp>
      <p:sp>
        <p:nvSpPr>
          <p:cNvPr id="3788" name=""/>
          <p:cNvSpPr/>
          <p:nvPr/>
        </p:nvSpPr>
        <p:spPr>
          <a:xfrm>
            <a:off x="368280" y="5027760"/>
            <a:ext cx="833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i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os os documentos de especificação do produto foram preparados e aprov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aracterísticas do desenvolvimento de produtos</a:t>
            </a:r>
            <a:endParaRPr b="0" lang="en-US" sz="2400" spc="-1" strike="noStrike">
              <a:solidFill>
                <a:srgbClr val="000096"/>
              </a:solidFill>
              <a:latin typeface="Arial"/>
            </a:endParaRPr>
          </a:p>
        </p:txBody>
      </p:sp>
      <p:grpSp>
        <p:nvGrpSpPr>
          <p:cNvPr id="3790" name=""/>
          <p:cNvGrpSpPr/>
          <p:nvPr/>
        </p:nvGrpSpPr>
        <p:grpSpPr>
          <a:xfrm>
            <a:off x="-996480" y="1922040"/>
            <a:ext cx="9833400" cy="3740760"/>
            <a:chOff x="-996480" y="1922040"/>
            <a:chExt cx="9833400" cy="3740760"/>
          </a:xfrm>
        </p:grpSpPr>
        <p:sp>
          <p:nvSpPr>
            <p:cNvPr id="3791" name=""/>
            <p:cNvSpPr/>
            <p:nvPr/>
          </p:nvSpPr>
          <p:spPr>
            <a:xfrm>
              <a:off x="377640" y="2408400"/>
              <a:ext cx="8303400" cy="2538360"/>
            </a:xfrm>
            <a:custGeom>
              <a:avLst/>
              <a:gdLst/>
              <a:ahLst/>
              <a:rect l="l" t="t" r="r" b="b"/>
              <a:pathLst>
                <a:path w="5004" h="1309">
                  <a:moveTo>
                    <a:pt x="0" y="628"/>
                  </a:moveTo>
                  <a:lnTo>
                    <a:pt x="224" y="1309"/>
                  </a:lnTo>
                  <a:lnTo>
                    <a:pt x="5004" y="1279"/>
                  </a:lnTo>
                  <a:lnTo>
                    <a:pt x="4944" y="673"/>
                  </a:lnTo>
                  <a:lnTo>
                    <a:pt x="1578" y="15"/>
                  </a:lnTo>
                  <a:lnTo>
                    <a:pt x="448" y="0"/>
                  </a:lnTo>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2" name=""/>
            <p:cNvGrpSpPr/>
            <p:nvPr/>
          </p:nvGrpSpPr>
          <p:grpSpPr>
            <a:xfrm>
              <a:off x="2067840" y="3476520"/>
              <a:ext cx="3882960" cy="2140560"/>
              <a:chOff x="2067840" y="3476520"/>
              <a:chExt cx="3882960" cy="2140560"/>
            </a:xfrm>
          </p:grpSpPr>
          <p:sp>
            <p:nvSpPr>
              <p:cNvPr id="3793" name=""/>
              <p:cNvSpPr/>
              <p:nvPr/>
            </p:nvSpPr>
            <p:spPr>
              <a:xfrm>
                <a:off x="3201840" y="3476520"/>
                <a:ext cx="2748960" cy="2140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4" name=""/>
              <p:cNvSpPr/>
              <p:nvPr/>
            </p:nvSpPr>
            <p:spPr>
              <a:xfrm>
                <a:off x="4761720" y="5169240"/>
                <a:ext cx="745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empo</a:t>
                </a:r>
                <a:endParaRPr b="0" lang="en-US" sz="1600" spc="-1" strike="noStrike">
                  <a:solidFill>
                    <a:srgbClr val="000000"/>
                  </a:solidFill>
                  <a:latin typeface="Arial"/>
                </a:endParaRPr>
              </a:p>
            </p:txBody>
          </p:sp>
          <p:grpSp>
            <p:nvGrpSpPr>
              <p:cNvPr id="3795" name=""/>
              <p:cNvGrpSpPr/>
              <p:nvPr/>
            </p:nvGrpSpPr>
            <p:grpSpPr>
              <a:xfrm>
                <a:off x="3571560" y="4027320"/>
                <a:ext cx="126000" cy="1208880"/>
                <a:chOff x="3571560" y="4027320"/>
                <a:chExt cx="126000" cy="1208880"/>
              </a:xfrm>
            </p:grpSpPr>
            <p:sp>
              <p:nvSpPr>
                <p:cNvPr id="3796" name=""/>
                <p:cNvSpPr/>
                <p:nvPr/>
              </p:nvSpPr>
              <p:spPr>
                <a:xfrm>
                  <a:off x="3642120" y="4143240"/>
                  <a:ext cx="0" cy="1092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7" name=""/>
                <p:cNvSpPr/>
                <p:nvPr/>
              </p:nvSpPr>
              <p:spPr>
                <a:xfrm>
                  <a:off x="3571560" y="4027320"/>
                  <a:ext cx="126000" cy="181800"/>
                </a:xfrm>
                <a:custGeom>
                  <a:avLst/>
                  <a:gdLst/>
                  <a:ahLst/>
                  <a:rect l="l" t="t" r="r" b="b"/>
                  <a:pathLst>
                    <a:path w="82" h="102">
                      <a:moveTo>
                        <a:pt x="42" y="0"/>
                      </a:moveTo>
                      <a:lnTo>
                        <a:pt x="0" y="101"/>
                      </a:lnTo>
                      <a:lnTo>
                        <a:pt x="81" y="101"/>
                      </a:lnTo>
                      <a:lnTo>
                        <a:pt x="4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8" name=""/>
              <p:cNvGrpSpPr/>
              <p:nvPr/>
            </p:nvGrpSpPr>
            <p:grpSpPr>
              <a:xfrm>
                <a:off x="3654720" y="5165280"/>
                <a:ext cx="1968840" cy="106200"/>
                <a:chOff x="3654720" y="5165280"/>
                <a:chExt cx="1968840" cy="106200"/>
              </a:xfrm>
            </p:grpSpPr>
            <p:sp>
              <p:nvSpPr>
                <p:cNvPr id="3799" name=""/>
                <p:cNvSpPr/>
                <p:nvPr/>
              </p:nvSpPr>
              <p:spPr>
                <a:xfrm>
                  <a:off x="3654720" y="5222160"/>
                  <a:ext cx="187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0" name=""/>
                <p:cNvSpPr/>
                <p:nvPr/>
              </p:nvSpPr>
              <p:spPr>
                <a:xfrm>
                  <a:off x="5396040" y="5165280"/>
                  <a:ext cx="227520" cy="106200"/>
                </a:xfrm>
                <a:custGeom>
                  <a:avLst/>
                  <a:gdLst/>
                  <a:ahLst/>
                  <a:rect l="l" t="t" r="r" b="b"/>
                  <a:pathLst>
                    <a:path w="148" h="60">
                      <a:moveTo>
                        <a:pt x="147" y="30"/>
                      </a:moveTo>
                      <a:lnTo>
                        <a:pt x="0" y="0"/>
                      </a:lnTo>
                      <a:lnTo>
                        <a:pt x="0" y="59"/>
                      </a:lnTo>
                      <a:lnTo>
                        <a:pt x="147" y="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1" name=""/>
              <p:cNvGrpSpPr/>
              <p:nvPr/>
            </p:nvGrpSpPr>
            <p:grpSpPr>
              <a:xfrm>
                <a:off x="2067840" y="4287240"/>
                <a:ext cx="3590640" cy="1266840"/>
                <a:chOff x="2067840" y="4287240"/>
                <a:chExt cx="3590640" cy="1266840"/>
              </a:xfrm>
            </p:grpSpPr>
            <p:sp>
              <p:nvSpPr>
                <p:cNvPr id="3802" name=""/>
                <p:cNvSpPr/>
                <p:nvPr/>
              </p:nvSpPr>
              <p:spPr>
                <a:xfrm>
                  <a:off x="2067840" y="4287240"/>
                  <a:ext cx="3590640" cy="1266840"/>
                </a:xfrm>
                <a:custGeom>
                  <a:avLst/>
                  <a:gdLst/>
                  <a:ahLst/>
                  <a:rect l="l" t="t" r="r" b="b"/>
                  <a:pathLst>
                    <a:path stroke="0" w="21600" h="21600">
                      <a:moveTo>
                        <a:pt x="10781" y="0"/>
                      </a:moveTo>
                      <a:arcTo wR="10800" hR="10800" stAng="-5405891" swAng="5386508"/>
                      <a:lnTo>
                        <a:pt x="10800" y="10800"/>
                      </a:lnTo>
                      <a:close/>
                    </a:path>
                    <a:path fill="none" w="21600" h="21600">
                      <a:moveTo>
                        <a:pt x="10781" y="0"/>
                      </a:moveTo>
                      <a:arcTo wR="10800" hR="10800" stAng="-5405891" swAng="5386508"/>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3" name=""/>
                <p:cNvSpPr/>
                <p:nvPr/>
              </p:nvSpPr>
              <p:spPr>
                <a:xfrm>
                  <a:off x="2078640" y="4301640"/>
                  <a:ext cx="3559680" cy="1234440"/>
                </a:xfrm>
                <a:custGeom>
                  <a:avLst/>
                  <a:gdLst/>
                  <a:ahLst/>
                  <a:rect l="l" t="t" r="r" b="b"/>
                  <a:pathLst>
                    <a:path stroke="0" w="21600" h="21600">
                      <a:moveTo>
                        <a:pt x="10791" y="0"/>
                      </a:moveTo>
                      <a:arcTo wR="10800" hR="10800" stAng="-5402968" swAng="5412931"/>
                      <a:lnTo>
                        <a:pt x="10800" y="10800"/>
                      </a:lnTo>
                      <a:close/>
                    </a:path>
                    <a:path fill="none" w="21600" h="21600">
                      <a:moveTo>
                        <a:pt x="10791" y="0"/>
                      </a:moveTo>
                      <a:arcTo wR="10800" hR="10800" stAng="-5402968" swAng="5412931"/>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04" name=""/>
              <p:cNvGrpSpPr/>
              <p:nvPr/>
            </p:nvGrpSpPr>
            <p:grpSpPr>
              <a:xfrm>
                <a:off x="3266280" y="4009680"/>
                <a:ext cx="336600" cy="367920"/>
                <a:chOff x="3266280" y="4009680"/>
                <a:chExt cx="336600" cy="367920"/>
              </a:xfrm>
            </p:grpSpPr>
            <p:sp>
              <p:nvSpPr>
                <p:cNvPr id="3805" name=""/>
                <p:cNvSpPr/>
                <p:nvPr/>
              </p:nvSpPr>
              <p:spPr>
                <a:xfrm>
                  <a:off x="3266280" y="4009680"/>
                  <a:ext cx="336600" cy="367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6" name=""/>
                <p:cNvSpPr/>
                <p:nvPr/>
              </p:nvSpPr>
              <p:spPr>
                <a:xfrm>
                  <a:off x="3398400" y="4225680"/>
                  <a:ext cx="67320" cy="136080"/>
                </a:xfrm>
                <a:custGeom>
                  <a:avLst/>
                  <a:gdLst/>
                  <a:ahLst/>
                  <a:rect l="l" t="t" r="r" b="b"/>
                  <a:pathLst>
                    <a:path w="44" h="76">
                      <a:moveTo>
                        <a:pt x="0" y="0"/>
                      </a:moveTo>
                      <a:lnTo>
                        <a:pt x="43" y="0"/>
                      </a:lnTo>
                      <a:lnTo>
                        <a:pt x="43" y="75"/>
                      </a:lnTo>
                      <a:lnTo>
                        <a:pt x="0" y="7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
                <p:cNvSpPr/>
                <p:nvPr/>
              </p:nvSpPr>
              <p:spPr>
                <a:xfrm>
                  <a:off x="3398400" y="4225680"/>
                  <a:ext cx="81360" cy="150120"/>
                </a:xfrm>
                <a:custGeom>
                  <a:avLst/>
                  <a:gdLst/>
                  <a:ahLst/>
                  <a:rect l="l" t="t" r="r" b="b"/>
                  <a:pathLst>
                    <a:path w="53" h="84">
                      <a:moveTo>
                        <a:pt x="0" y="0"/>
                      </a:moveTo>
                      <a:lnTo>
                        <a:pt x="52" y="0"/>
                      </a:lnTo>
                      <a:lnTo>
                        <a:pt x="52" y="83"/>
                      </a:lnTo>
                      <a:lnTo>
                        <a:pt x="0" y="83"/>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
                <p:cNvSpPr/>
                <p:nvPr/>
              </p:nvSpPr>
              <p:spPr>
                <a:xfrm>
                  <a:off x="3373560" y="4136400"/>
                  <a:ext cx="113760" cy="106920"/>
                </a:xfrm>
                <a:custGeom>
                  <a:avLst/>
                  <a:gdLst/>
                  <a:ahLst/>
                  <a:rect l="l" t="t" r="r" b="b"/>
                  <a:pathLst>
                    <a:path w="74" h="60">
                      <a:moveTo>
                        <a:pt x="37" y="0"/>
                      </a:moveTo>
                      <a:lnTo>
                        <a:pt x="40" y="0"/>
                      </a:lnTo>
                      <a:lnTo>
                        <a:pt x="44" y="0"/>
                      </a:lnTo>
                      <a:lnTo>
                        <a:pt x="48" y="1"/>
                      </a:lnTo>
                      <a:lnTo>
                        <a:pt x="49" y="1"/>
                      </a:lnTo>
                      <a:lnTo>
                        <a:pt x="53" y="3"/>
                      </a:lnTo>
                      <a:lnTo>
                        <a:pt x="56" y="4"/>
                      </a:lnTo>
                      <a:lnTo>
                        <a:pt x="58" y="6"/>
                      </a:lnTo>
                      <a:lnTo>
                        <a:pt x="64" y="9"/>
                      </a:lnTo>
                      <a:lnTo>
                        <a:pt x="65" y="11"/>
                      </a:lnTo>
                      <a:lnTo>
                        <a:pt x="67" y="12"/>
                      </a:lnTo>
                      <a:lnTo>
                        <a:pt x="69" y="15"/>
                      </a:lnTo>
                      <a:lnTo>
                        <a:pt x="71" y="18"/>
                      </a:lnTo>
                      <a:lnTo>
                        <a:pt x="71" y="19"/>
                      </a:lnTo>
                      <a:lnTo>
                        <a:pt x="73" y="22"/>
                      </a:lnTo>
                      <a:lnTo>
                        <a:pt x="73" y="27"/>
                      </a:lnTo>
                      <a:lnTo>
                        <a:pt x="73" y="30"/>
                      </a:lnTo>
                      <a:lnTo>
                        <a:pt x="73" y="32"/>
                      </a:lnTo>
                      <a:lnTo>
                        <a:pt x="73" y="35"/>
                      </a:lnTo>
                      <a:lnTo>
                        <a:pt x="71" y="38"/>
                      </a:lnTo>
                      <a:lnTo>
                        <a:pt x="71" y="40"/>
                      </a:lnTo>
                      <a:lnTo>
                        <a:pt x="69" y="43"/>
                      </a:lnTo>
                      <a:lnTo>
                        <a:pt x="67" y="45"/>
                      </a:lnTo>
                      <a:lnTo>
                        <a:pt x="65" y="48"/>
                      </a:lnTo>
                      <a:lnTo>
                        <a:pt x="64" y="50"/>
                      </a:lnTo>
                      <a:lnTo>
                        <a:pt x="58" y="51"/>
                      </a:lnTo>
                      <a:lnTo>
                        <a:pt x="56" y="53"/>
                      </a:lnTo>
                      <a:lnTo>
                        <a:pt x="53" y="54"/>
                      </a:lnTo>
                      <a:lnTo>
                        <a:pt x="49" y="56"/>
                      </a:lnTo>
                      <a:lnTo>
                        <a:pt x="48" y="57"/>
                      </a:lnTo>
                      <a:lnTo>
                        <a:pt x="44" y="57"/>
                      </a:lnTo>
                      <a:lnTo>
                        <a:pt x="40" y="59"/>
                      </a:lnTo>
                      <a:lnTo>
                        <a:pt x="37" y="59"/>
                      </a:lnTo>
                      <a:lnTo>
                        <a:pt x="32" y="59"/>
                      </a:lnTo>
                      <a:lnTo>
                        <a:pt x="29" y="57"/>
                      </a:lnTo>
                      <a:lnTo>
                        <a:pt x="25" y="57"/>
                      </a:lnTo>
                      <a:lnTo>
                        <a:pt x="23" y="56"/>
                      </a:lnTo>
                      <a:lnTo>
                        <a:pt x="20" y="54"/>
                      </a:lnTo>
                      <a:lnTo>
                        <a:pt x="16" y="53"/>
                      </a:lnTo>
                      <a:lnTo>
                        <a:pt x="15" y="51"/>
                      </a:lnTo>
                      <a:lnTo>
                        <a:pt x="9" y="50"/>
                      </a:lnTo>
                      <a:lnTo>
                        <a:pt x="7" y="48"/>
                      </a:lnTo>
                      <a:lnTo>
                        <a:pt x="6" y="45"/>
                      </a:lnTo>
                      <a:lnTo>
                        <a:pt x="4" y="43"/>
                      </a:lnTo>
                      <a:lnTo>
                        <a:pt x="2" y="40"/>
                      </a:lnTo>
                      <a:lnTo>
                        <a:pt x="2" y="38"/>
                      </a:lnTo>
                      <a:lnTo>
                        <a:pt x="0" y="35"/>
                      </a:lnTo>
                      <a:lnTo>
                        <a:pt x="0" y="32"/>
                      </a:lnTo>
                      <a:lnTo>
                        <a:pt x="0" y="30"/>
                      </a:lnTo>
                      <a:lnTo>
                        <a:pt x="0" y="27"/>
                      </a:lnTo>
                      <a:lnTo>
                        <a:pt x="0" y="22"/>
                      </a:lnTo>
                      <a:lnTo>
                        <a:pt x="2" y="19"/>
                      </a:lnTo>
                      <a:lnTo>
                        <a:pt x="2" y="18"/>
                      </a:lnTo>
                      <a:lnTo>
                        <a:pt x="4" y="15"/>
                      </a:lnTo>
                      <a:lnTo>
                        <a:pt x="6" y="12"/>
                      </a:lnTo>
                      <a:lnTo>
                        <a:pt x="7" y="11"/>
                      </a:lnTo>
                      <a:lnTo>
                        <a:pt x="9" y="9"/>
                      </a:lnTo>
                      <a:lnTo>
                        <a:pt x="15" y="6"/>
                      </a:lnTo>
                      <a:lnTo>
                        <a:pt x="16" y="4"/>
                      </a:lnTo>
                      <a:lnTo>
                        <a:pt x="20" y="3"/>
                      </a:lnTo>
                      <a:lnTo>
                        <a:pt x="23" y="1"/>
                      </a:lnTo>
                      <a:lnTo>
                        <a:pt x="25" y="1"/>
                      </a:lnTo>
                      <a:lnTo>
                        <a:pt x="29" y="0"/>
                      </a:lnTo>
                      <a:lnTo>
                        <a:pt x="32" y="0"/>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9" name=""/>
                <p:cNvSpPr/>
                <p:nvPr/>
              </p:nvSpPr>
              <p:spPr>
                <a:xfrm>
                  <a:off x="3373560" y="4136400"/>
                  <a:ext cx="129240" cy="123120"/>
                </a:xfrm>
                <a:custGeom>
                  <a:avLst/>
                  <a:gdLst/>
                  <a:ahLst/>
                  <a:rect l="l" t="t" r="r" b="b"/>
                  <a:pathLst>
                    <a:path w="84" h="69">
                      <a:moveTo>
                        <a:pt x="43" y="0"/>
                      </a:moveTo>
                      <a:lnTo>
                        <a:pt x="43" y="0"/>
                      </a:lnTo>
                      <a:lnTo>
                        <a:pt x="46" y="0"/>
                      </a:lnTo>
                      <a:lnTo>
                        <a:pt x="50" y="0"/>
                      </a:lnTo>
                      <a:lnTo>
                        <a:pt x="55" y="1"/>
                      </a:lnTo>
                      <a:lnTo>
                        <a:pt x="56" y="1"/>
                      </a:lnTo>
                      <a:lnTo>
                        <a:pt x="61" y="4"/>
                      </a:lnTo>
                      <a:lnTo>
                        <a:pt x="64" y="5"/>
                      </a:lnTo>
                      <a:lnTo>
                        <a:pt x="66" y="7"/>
                      </a:lnTo>
                      <a:lnTo>
                        <a:pt x="73" y="11"/>
                      </a:lnTo>
                      <a:lnTo>
                        <a:pt x="74" y="12"/>
                      </a:lnTo>
                      <a:lnTo>
                        <a:pt x="76" y="13"/>
                      </a:lnTo>
                      <a:lnTo>
                        <a:pt x="79" y="17"/>
                      </a:lnTo>
                      <a:lnTo>
                        <a:pt x="81" y="21"/>
                      </a:lnTo>
                      <a:lnTo>
                        <a:pt x="81" y="22"/>
                      </a:lnTo>
                      <a:lnTo>
                        <a:pt x="83" y="26"/>
                      </a:lnTo>
                      <a:lnTo>
                        <a:pt x="83" y="32"/>
                      </a:lnTo>
                      <a:lnTo>
                        <a:pt x="83" y="34"/>
                      </a:lnTo>
                      <a:lnTo>
                        <a:pt x="83" y="36"/>
                      </a:lnTo>
                      <a:lnTo>
                        <a:pt x="83" y="40"/>
                      </a:lnTo>
                      <a:lnTo>
                        <a:pt x="81" y="44"/>
                      </a:lnTo>
                      <a:lnTo>
                        <a:pt x="81" y="46"/>
                      </a:lnTo>
                      <a:lnTo>
                        <a:pt x="79" y="50"/>
                      </a:lnTo>
                      <a:lnTo>
                        <a:pt x="76" y="52"/>
                      </a:lnTo>
                      <a:lnTo>
                        <a:pt x="74" y="56"/>
                      </a:lnTo>
                      <a:lnTo>
                        <a:pt x="73" y="57"/>
                      </a:lnTo>
                      <a:lnTo>
                        <a:pt x="66" y="58"/>
                      </a:lnTo>
                      <a:lnTo>
                        <a:pt x="64" y="61"/>
                      </a:lnTo>
                      <a:lnTo>
                        <a:pt x="61" y="62"/>
                      </a:lnTo>
                      <a:lnTo>
                        <a:pt x="56" y="64"/>
                      </a:lnTo>
                      <a:lnTo>
                        <a:pt x="55" y="66"/>
                      </a:lnTo>
                      <a:lnTo>
                        <a:pt x="50" y="66"/>
                      </a:lnTo>
                      <a:lnTo>
                        <a:pt x="46" y="68"/>
                      </a:lnTo>
                      <a:lnTo>
                        <a:pt x="43" y="68"/>
                      </a:lnTo>
                      <a:lnTo>
                        <a:pt x="36" y="68"/>
                      </a:lnTo>
                      <a:lnTo>
                        <a:pt x="33" y="66"/>
                      </a:lnTo>
                      <a:lnTo>
                        <a:pt x="28" y="66"/>
                      </a:lnTo>
                      <a:lnTo>
                        <a:pt x="26" y="64"/>
                      </a:lnTo>
                      <a:lnTo>
                        <a:pt x="22" y="62"/>
                      </a:lnTo>
                      <a:lnTo>
                        <a:pt x="18" y="61"/>
                      </a:lnTo>
                      <a:lnTo>
                        <a:pt x="17" y="58"/>
                      </a:lnTo>
                      <a:lnTo>
                        <a:pt x="10" y="57"/>
                      </a:lnTo>
                      <a:lnTo>
                        <a:pt x="8" y="56"/>
                      </a:lnTo>
                      <a:lnTo>
                        <a:pt x="7" y="52"/>
                      </a:lnTo>
                      <a:lnTo>
                        <a:pt x="4" y="50"/>
                      </a:lnTo>
                      <a:lnTo>
                        <a:pt x="2" y="46"/>
                      </a:lnTo>
                      <a:lnTo>
                        <a:pt x="2" y="44"/>
                      </a:lnTo>
                      <a:lnTo>
                        <a:pt x="0" y="40"/>
                      </a:lnTo>
                      <a:lnTo>
                        <a:pt x="0" y="36"/>
                      </a:lnTo>
                      <a:lnTo>
                        <a:pt x="0" y="34"/>
                      </a:lnTo>
                      <a:lnTo>
                        <a:pt x="0" y="32"/>
                      </a:lnTo>
                      <a:lnTo>
                        <a:pt x="0" y="26"/>
                      </a:lnTo>
                      <a:lnTo>
                        <a:pt x="2" y="22"/>
                      </a:lnTo>
                      <a:lnTo>
                        <a:pt x="2" y="21"/>
                      </a:lnTo>
                      <a:lnTo>
                        <a:pt x="4" y="17"/>
                      </a:lnTo>
                      <a:lnTo>
                        <a:pt x="7" y="13"/>
                      </a:lnTo>
                      <a:lnTo>
                        <a:pt x="8" y="12"/>
                      </a:lnTo>
                      <a:lnTo>
                        <a:pt x="10" y="11"/>
                      </a:lnTo>
                      <a:lnTo>
                        <a:pt x="17" y="7"/>
                      </a:lnTo>
                      <a:lnTo>
                        <a:pt x="18" y="5"/>
                      </a:lnTo>
                      <a:lnTo>
                        <a:pt x="22" y="4"/>
                      </a:lnTo>
                      <a:lnTo>
                        <a:pt x="26" y="1"/>
                      </a:lnTo>
                      <a:lnTo>
                        <a:pt x="28" y="1"/>
                      </a:lnTo>
                      <a:lnTo>
                        <a:pt x="33" y="0"/>
                      </a:lnTo>
                      <a:lnTo>
                        <a:pt x="36" y="0"/>
                      </a:lnTo>
                      <a:lnTo>
                        <a:pt x="43"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
                <p:cNvSpPr/>
                <p:nvPr/>
              </p:nvSpPr>
              <p:spPr>
                <a:xfrm>
                  <a:off x="3453840" y="4057920"/>
                  <a:ext cx="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811" name=""/>
                <p:cNvSpPr/>
                <p:nvPr/>
              </p:nvSpPr>
              <p:spPr>
                <a:xfrm>
                  <a:off x="3336840" y="4120200"/>
                  <a:ext cx="45720" cy="5544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812" name=""/>
                <p:cNvSpPr/>
                <p:nvPr/>
              </p:nvSpPr>
              <p:spPr>
                <a:xfrm flipV="1">
                  <a:off x="3513600" y="4091400"/>
                  <a:ext cx="55080" cy="8748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813" name=""/>
                <p:cNvSpPr/>
                <p:nvPr/>
              </p:nvSpPr>
              <p:spPr>
                <a:xfrm>
                  <a:off x="3513600" y="4195080"/>
                  <a:ext cx="7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4" name=""/>
                <p:cNvSpPr/>
                <p:nvPr/>
              </p:nvSpPr>
              <p:spPr>
                <a:xfrm flipH="1">
                  <a:off x="3284280" y="4195080"/>
                  <a:ext cx="12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15" name=""/>
              <p:cNvSpPr/>
              <p:nvPr/>
            </p:nvSpPr>
            <p:spPr>
              <a:xfrm>
                <a:off x="3210120" y="3515400"/>
                <a:ext cx="2665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Quantidade de Escolhas</a:t>
                </a:r>
                <a:endParaRPr b="0" lang="en-US" sz="1800" spc="-1" strike="noStrike">
                  <a:solidFill>
                    <a:srgbClr val="000000"/>
                  </a:solidFill>
                  <a:latin typeface="Arial"/>
                </a:endParaRPr>
              </a:p>
            </p:txBody>
          </p:sp>
        </p:grpSp>
        <p:grpSp>
          <p:nvGrpSpPr>
            <p:cNvPr id="3816" name=""/>
            <p:cNvGrpSpPr/>
            <p:nvPr/>
          </p:nvGrpSpPr>
          <p:grpSpPr>
            <a:xfrm>
              <a:off x="-996480" y="3430080"/>
              <a:ext cx="3695400" cy="2232720"/>
              <a:chOff x="-996480" y="3430080"/>
              <a:chExt cx="3695400" cy="2232720"/>
            </a:xfrm>
          </p:grpSpPr>
          <p:sp>
            <p:nvSpPr>
              <p:cNvPr id="3817" name=""/>
              <p:cNvSpPr/>
              <p:nvPr/>
            </p:nvSpPr>
            <p:spPr>
              <a:xfrm>
                <a:off x="311040" y="3430080"/>
                <a:ext cx="2387880" cy="2218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18" name=""/>
              <p:cNvGrpSpPr/>
              <p:nvPr/>
            </p:nvGrpSpPr>
            <p:grpSpPr>
              <a:xfrm>
                <a:off x="-996480" y="3519000"/>
                <a:ext cx="3590640" cy="2143800"/>
                <a:chOff x="-996480" y="3519000"/>
                <a:chExt cx="3590640" cy="2143800"/>
              </a:xfrm>
            </p:grpSpPr>
            <p:sp>
              <p:nvSpPr>
                <p:cNvPr id="3819" name=""/>
                <p:cNvSpPr/>
                <p:nvPr/>
              </p:nvSpPr>
              <p:spPr>
                <a:xfrm>
                  <a:off x="1560600" y="5308200"/>
                  <a:ext cx="885960" cy="354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0" name=""/>
                <p:cNvSpPr/>
                <p:nvPr/>
              </p:nvSpPr>
              <p:spPr>
                <a:xfrm>
                  <a:off x="1562040" y="5180040"/>
                  <a:ext cx="745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empo</a:t>
                  </a:r>
                  <a:endParaRPr b="0" lang="en-US" sz="1600" spc="-1" strike="noStrike">
                    <a:solidFill>
                      <a:srgbClr val="000000"/>
                    </a:solidFill>
                    <a:latin typeface="Arial"/>
                  </a:endParaRPr>
                </a:p>
              </p:txBody>
            </p:sp>
            <p:sp>
              <p:nvSpPr>
                <p:cNvPr id="3821" name=""/>
                <p:cNvSpPr/>
                <p:nvPr/>
              </p:nvSpPr>
              <p:spPr>
                <a:xfrm>
                  <a:off x="576720" y="4125960"/>
                  <a:ext cx="0" cy="112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2" name=""/>
                <p:cNvSpPr/>
                <p:nvPr/>
              </p:nvSpPr>
              <p:spPr>
                <a:xfrm>
                  <a:off x="507240" y="4003560"/>
                  <a:ext cx="126000" cy="191520"/>
                </a:xfrm>
                <a:custGeom>
                  <a:avLst/>
                  <a:gdLst/>
                  <a:ahLst/>
                  <a:rect l="l" t="t" r="r" b="b"/>
                  <a:pathLst>
                    <a:path w="82" h="104">
                      <a:moveTo>
                        <a:pt x="42" y="0"/>
                      </a:moveTo>
                      <a:lnTo>
                        <a:pt x="0" y="103"/>
                      </a:lnTo>
                      <a:lnTo>
                        <a:pt x="81" y="103"/>
                      </a:lnTo>
                      <a:lnTo>
                        <a:pt x="4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3" name=""/>
                <p:cNvSpPr/>
                <p:nvPr/>
              </p:nvSpPr>
              <p:spPr>
                <a:xfrm>
                  <a:off x="590040" y="5238720"/>
                  <a:ext cx="187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4" name=""/>
                <p:cNvSpPr/>
                <p:nvPr/>
              </p:nvSpPr>
              <p:spPr>
                <a:xfrm>
                  <a:off x="2332080" y="5178600"/>
                  <a:ext cx="227520" cy="112320"/>
                </a:xfrm>
                <a:custGeom>
                  <a:avLst/>
                  <a:gdLst/>
                  <a:ahLst/>
                  <a:rect l="l" t="t" r="r" b="b"/>
                  <a:pathLst>
                    <a:path w="148" h="61">
                      <a:moveTo>
                        <a:pt x="147" y="29"/>
                      </a:moveTo>
                      <a:lnTo>
                        <a:pt x="0" y="0"/>
                      </a:lnTo>
                      <a:lnTo>
                        <a:pt x="0" y="60"/>
                      </a:lnTo>
                      <a:lnTo>
                        <a:pt x="147" y="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
                <p:cNvSpPr/>
                <p:nvPr/>
              </p:nvSpPr>
              <p:spPr>
                <a:xfrm>
                  <a:off x="-996480" y="4271040"/>
                  <a:ext cx="3590640" cy="1310040"/>
                </a:xfrm>
                <a:custGeom>
                  <a:avLst/>
                  <a:gdLst/>
                  <a:ahLst/>
                  <a:rect l="l" t="t" r="r" b="b"/>
                  <a:pathLst>
                    <a:path stroke="0" w="21600" h="21600">
                      <a:moveTo>
                        <a:pt x="10781" y="0"/>
                      </a:moveTo>
                      <a:arcTo wR="10800" hR="10800" stAng="-5405891" swAng="5386508"/>
                      <a:lnTo>
                        <a:pt x="10800" y="10800"/>
                      </a:lnTo>
                      <a:close/>
                    </a:path>
                    <a:path fill="none" w="21600" h="21600">
                      <a:moveTo>
                        <a:pt x="10781" y="0"/>
                      </a:moveTo>
                      <a:arcTo wR="10800" hR="10800" stAng="-5405891" swAng="5386508"/>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6" name=""/>
                <p:cNvSpPr/>
                <p:nvPr/>
              </p:nvSpPr>
              <p:spPr>
                <a:xfrm>
                  <a:off x="-986400" y="4284720"/>
                  <a:ext cx="3560400" cy="1278720"/>
                </a:xfrm>
                <a:custGeom>
                  <a:avLst/>
                  <a:gdLst/>
                  <a:ahLst/>
                  <a:rect l="l" t="t" r="r" b="b"/>
                  <a:pathLst>
                    <a:path stroke="0" w="21600" h="21600">
                      <a:moveTo>
                        <a:pt x="10791" y="0"/>
                      </a:moveTo>
                      <a:arcTo wR="10800" hR="10800" stAng="-5402968" swAng="5412931"/>
                      <a:lnTo>
                        <a:pt x="10800" y="10800"/>
                      </a:lnTo>
                      <a:close/>
                    </a:path>
                    <a:path fill="none" w="21600" h="21600">
                      <a:moveTo>
                        <a:pt x="10791" y="0"/>
                      </a:moveTo>
                      <a:arcTo wR="10800" hR="10800" stAng="-5402968" swAng="5412931"/>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7" name=""/>
                <p:cNvSpPr/>
                <p:nvPr/>
              </p:nvSpPr>
              <p:spPr>
                <a:xfrm>
                  <a:off x="336240" y="3519000"/>
                  <a:ext cx="2008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rau de Incerteza</a:t>
                  </a:r>
                  <a:endParaRPr b="0" lang="en-US" sz="1800" spc="-1" strike="noStrike">
                    <a:solidFill>
                      <a:srgbClr val="000000"/>
                    </a:solidFill>
                    <a:latin typeface="Arial"/>
                  </a:endParaRPr>
                </a:p>
              </p:txBody>
            </p:sp>
            <p:sp>
              <p:nvSpPr>
                <p:cNvPr id="3828" name=""/>
                <p:cNvSpPr/>
                <p:nvPr/>
              </p:nvSpPr>
              <p:spPr>
                <a:xfrm>
                  <a:off x="305280" y="3840480"/>
                  <a:ext cx="317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grpSp>
        <p:grpSp>
          <p:nvGrpSpPr>
            <p:cNvPr id="3829" name=""/>
            <p:cNvGrpSpPr/>
            <p:nvPr/>
          </p:nvGrpSpPr>
          <p:grpSpPr>
            <a:xfrm>
              <a:off x="6502680" y="3436200"/>
              <a:ext cx="2334240" cy="2175120"/>
              <a:chOff x="6502680" y="3436200"/>
              <a:chExt cx="2334240" cy="2175120"/>
            </a:xfrm>
          </p:grpSpPr>
          <p:sp>
            <p:nvSpPr>
              <p:cNvPr id="3830" name=""/>
              <p:cNvSpPr/>
              <p:nvPr/>
            </p:nvSpPr>
            <p:spPr>
              <a:xfrm>
                <a:off x="6546960" y="3436200"/>
                <a:ext cx="2289960" cy="2175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31" name=""/>
              <p:cNvGrpSpPr/>
              <p:nvPr/>
            </p:nvGrpSpPr>
            <p:grpSpPr>
              <a:xfrm>
                <a:off x="6502680" y="3436200"/>
                <a:ext cx="2133720" cy="2145240"/>
                <a:chOff x="6502680" y="3436200"/>
                <a:chExt cx="2133720" cy="2145240"/>
              </a:xfrm>
            </p:grpSpPr>
            <p:grpSp>
              <p:nvGrpSpPr>
                <p:cNvPr id="3832" name=""/>
                <p:cNvGrpSpPr/>
                <p:nvPr/>
              </p:nvGrpSpPr>
              <p:grpSpPr>
                <a:xfrm>
                  <a:off x="6590520" y="4058640"/>
                  <a:ext cx="311040" cy="542520"/>
                  <a:chOff x="6590520" y="4058640"/>
                  <a:chExt cx="311040" cy="542520"/>
                </a:xfrm>
              </p:grpSpPr>
              <p:sp>
                <p:nvSpPr>
                  <p:cNvPr id="3833" name=""/>
                  <p:cNvSpPr/>
                  <p:nvPr/>
                </p:nvSpPr>
                <p:spPr>
                  <a:xfrm>
                    <a:off x="6617160" y="4288680"/>
                    <a:ext cx="284400" cy="312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4" name=""/>
                  <p:cNvSpPr/>
                  <p:nvPr/>
                </p:nvSpPr>
                <p:spPr>
                  <a:xfrm>
                    <a:off x="6590520" y="405864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3835" name=""/>
                <p:cNvSpPr/>
                <p:nvPr/>
              </p:nvSpPr>
              <p:spPr>
                <a:xfrm>
                  <a:off x="7718040" y="5249160"/>
                  <a:ext cx="745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empo</a:t>
                  </a:r>
                  <a:endParaRPr b="0" lang="en-US" sz="1600" spc="-1" strike="noStrike">
                    <a:solidFill>
                      <a:srgbClr val="000000"/>
                    </a:solidFill>
                    <a:latin typeface="Arial"/>
                  </a:endParaRPr>
                </a:p>
              </p:txBody>
            </p:sp>
            <p:grpSp>
              <p:nvGrpSpPr>
                <p:cNvPr id="3836" name=""/>
                <p:cNvGrpSpPr/>
                <p:nvPr/>
              </p:nvGrpSpPr>
              <p:grpSpPr>
                <a:xfrm>
                  <a:off x="6824160" y="4211640"/>
                  <a:ext cx="105480" cy="1146960"/>
                  <a:chOff x="6824160" y="4211640"/>
                  <a:chExt cx="105480" cy="1146960"/>
                </a:xfrm>
              </p:grpSpPr>
              <p:sp>
                <p:nvSpPr>
                  <p:cNvPr id="3837" name=""/>
                  <p:cNvSpPr/>
                  <p:nvPr/>
                </p:nvSpPr>
                <p:spPr>
                  <a:xfrm>
                    <a:off x="6882840" y="4321440"/>
                    <a:ext cx="0" cy="103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8" name=""/>
                  <p:cNvSpPr/>
                  <p:nvPr/>
                </p:nvSpPr>
                <p:spPr>
                  <a:xfrm>
                    <a:off x="6824160" y="4211640"/>
                    <a:ext cx="105480" cy="172440"/>
                  </a:xfrm>
                  <a:custGeom>
                    <a:avLst/>
                    <a:gdLst/>
                    <a:ahLst/>
                    <a:rect l="l" t="t" r="r" b="b"/>
                    <a:pathLst>
                      <a:path w="63" h="86">
                        <a:moveTo>
                          <a:pt x="32" y="0"/>
                        </a:moveTo>
                        <a:lnTo>
                          <a:pt x="0" y="85"/>
                        </a:lnTo>
                        <a:lnTo>
                          <a:pt x="62" y="85"/>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9" name=""/>
                <p:cNvGrpSpPr/>
                <p:nvPr/>
              </p:nvGrpSpPr>
              <p:grpSpPr>
                <a:xfrm>
                  <a:off x="6901920" y="5285520"/>
                  <a:ext cx="1591920" cy="100440"/>
                  <a:chOff x="6901920" y="5285520"/>
                  <a:chExt cx="1591920" cy="100440"/>
                </a:xfrm>
              </p:grpSpPr>
              <p:sp>
                <p:nvSpPr>
                  <p:cNvPr id="3840" name=""/>
                  <p:cNvSpPr/>
                  <p:nvPr/>
                </p:nvSpPr>
                <p:spPr>
                  <a:xfrm>
                    <a:off x="6901920" y="5343840"/>
                    <a:ext cx="151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1" name=""/>
                  <p:cNvSpPr/>
                  <p:nvPr/>
                </p:nvSpPr>
                <p:spPr>
                  <a:xfrm>
                    <a:off x="8307360" y="5285520"/>
                    <a:ext cx="186480" cy="100440"/>
                  </a:xfrm>
                  <a:custGeom>
                    <a:avLst/>
                    <a:gdLst/>
                    <a:ahLst/>
                    <a:rect l="l" t="t" r="r" b="b"/>
                    <a:pathLst>
                      <a:path w="110" h="50">
                        <a:moveTo>
                          <a:pt x="109" y="25"/>
                        </a:moveTo>
                        <a:lnTo>
                          <a:pt x="0" y="0"/>
                        </a:lnTo>
                        <a:lnTo>
                          <a:pt x="0" y="49"/>
                        </a:lnTo>
                        <a:lnTo>
                          <a:pt x="109" y="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2" name=""/>
                <p:cNvGrpSpPr/>
                <p:nvPr/>
              </p:nvGrpSpPr>
              <p:grpSpPr>
                <a:xfrm>
                  <a:off x="7053120" y="4353120"/>
                  <a:ext cx="1560960" cy="807840"/>
                  <a:chOff x="7053120" y="4353120"/>
                  <a:chExt cx="1560960" cy="807840"/>
                </a:xfrm>
              </p:grpSpPr>
              <p:sp>
                <p:nvSpPr>
                  <p:cNvPr id="3843" name=""/>
                  <p:cNvSpPr/>
                  <p:nvPr/>
                </p:nvSpPr>
                <p:spPr>
                  <a:xfrm>
                    <a:off x="7053120" y="4353120"/>
                    <a:ext cx="1549080" cy="795960"/>
                  </a:xfrm>
                  <a:custGeom>
                    <a:avLst/>
                    <a:gdLst/>
                    <a:ahLst/>
                    <a:rect l="l" t="t" r="r" b="b"/>
                    <a:pathLst>
                      <a:path w="913" h="397">
                        <a:moveTo>
                          <a:pt x="0" y="396"/>
                        </a:moveTo>
                        <a:lnTo>
                          <a:pt x="0" y="375"/>
                        </a:lnTo>
                        <a:lnTo>
                          <a:pt x="0" y="355"/>
                        </a:lnTo>
                        <a:lnTo>
                          <a:pt x="0" y="336"/>
                        </a:lnTo>
                        <a:lnTo>
                          <a:pt x="0" y="316"/>
                        </a:lnTo>
                        <a:lnTo>
                          <a:pt x="0" y="296"/>
                        </a:lnTo>
                        <a:lnTo>
                          <a:pt x="10" y="275"/>
                        </a:lnTo>
                        <a:lnTo>
                          <a:pt x="28" y="257"/>
                        </a:lnTo>
                        <a:lnTo>
                          <a:pt x="46" y="236"/>
                        </a:lnTo>
                        <a:lnTo>
                          <a:pt x="66" y="218"/>
                        </a:lnTo>
                        <a:lnTo>
                          <a:pt x="76" y="197"/>
                        </a:lnTo>
                        <a:lnTo>
                          <a:pt x="93" y="177"/>
                        </a:lnTo>
                        <a:lnTo>
                          <a:pt x="101" y="157"/>
                        </a:lnTo>
                        <a:lnTo>
                          <a:pt x="121" y="138"/>
                        </a:lnTo>
                        <a:lnTo>
                          <a:pt x="149" y="118"/>
                        </a:lnTo>
                        <a:lnTo>
                          <a:pt x="177" y="111"/>
                        </a:lnTo>
                        <a:lnTo>
                          <a:pt x="205" y="106"/>
                        </a:lnTo>
                        <a:lnTo>
                          <a:pt x="232" y="91"/>
                        </a:lnTo>
                        <a:lnTo>
                          <a:pt x="260" y="84"/>
                        </a:lnTo>
                        <a:lnTo>
                          <a:pt x="290" y="79"/>
                        </a:lnTo>
                        <a:lnTo>
                          <a:pt x="316" y="66"/>
                        </a:lnTo>
                        <a:lnTo>
                          <a:pt x="346" y="59"/>
                        </a:lnTo>
                        <a:lnTo>
                          <a:pt x="371" y="52"/>
                        </a:lnTo>
                        <a:lnTo>
                          <a:pt x="402" y="46"/>
                        </a:lnTo>
                        <a:lnTo>
                          <a:pt x="427" y="46"/>
                        </a:lnTo>
                        <a:lnTo>
                          <a:pt x="457" y="39"/>
                        </a:lnTo>
                        <a:lnTo>
                          <a:pt x="485" y="39"/>
                        </a:lnTo>
                        <a:lnTo>
                          <a:pt x="510" y="34"/>
                        </a:lnTo>
                        <a:lnTo>
                          <a:pt x="541" y="27"/>
                        </a:lnTo>
                        <a:lnTo>
                          <a:pt x="566" y="27"/>
                        </a:lnTo>
                        <a:lnTo>
                          <a:pt x="596" y="20"/>
                        </a:lnTo>
                        <a:lnTo>
                          <a:pt x="622" y="13"/>
                        </a:lnTo>
                        <a:lnTo>
                          <a:pt x="652" y="13"/>
                        </a:lnTo>
                        <a:lnTo>
                          <a:pt x="680" y="13"/>
                        </a:lnTo>
                        <a:lnTo>
                          <a:pt x="707" y="7"/>
                        </a:lnTo>
                        <a:lnTo>
                          <a:pt x="735" y="7"/>
                        </a:lnTo>
                        <a:lnTo>
                          <a:pt x="773" y="7"/>
                        </a:lnTo>
                        <a:lnTo>
                          <a:pt x="801" y="0"/>
                        </a:lnTo>
                        <a:lnTo>
                          <a:pt x="829" y="0"/>
                        </a:lnTo>
                        <a:lnTo>
                          <a:pt x="856" y="0"/>
                        </a:lnTo>
                        <a:lnTo>
                          <a:pt x="884" y="0"/>
                        </a:lnTo>
                        <a:lnTo>
                          <a:pt x="912" y="0"/>
                        </a:lnTo>
                        <a:lnTo>
                          <a:pt x="0" y="39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4" name=""/>
                  <p:cNvSpPr/>
                  <p:nvPr/>
                </p:nvSpPr>
                <p:spPr>
                  <a:xfrm>
                    <a:off x="7053120" y="4353120"/>
                    <a:ext cx="1560960" cy="807840"/>
                  </a:xfrm>
                  <a:custGeom>
                    <a:avLst/>
                    <a:gdLst/>
                    <a:ahLst/>
                    <a:rect l="l" t="t" r="r" b="b"/>
                    <a:pathLst>
                      <a:path w="920" h="403">
                        <a:moveTo>
                          <a:pt x="0" y="402"/>
                        </a:moveTo>
                        <a:lnTo>
                          <a:pt x="0" y="380"/>
                        </a:lnTo>
                        <a:lnTo>
                          <a:pt x="0" y="360"/>
                        </a:lnTo>
                        <a:lnTo>
                          <a:pt x="0" y="340"/>
                        </a:lnTo>
                        <a:lnTo>
                          <a:pt x="0" y="320"/>
                        </a:lnTo>
                        <a:lnTo>
                          <a:pt x="0" y="300"/>
                        </a:lnTo>
                        <a:lnTo>
                          <a:pt x="10" y="280"/>
                        </a:lnTo>
                        <a:lnTo>
                          <a:pt x="28" y="260"/>
                        </a:lnTo>
                        <a:lnTo>
                          <a:pt x="46" y="240"/>
                        </a:lnTo>
                        <a:lnTo>
                          <a:pt x="66" y="222"/>
                        </a:lnTo>
                        <a:lnTo>
                          <a:pt x="76" y="201"/>
                        </a:lnTo>
                        <a:lnTo>
                          <a:pt x="94" y="182"/>
                        </a:lnTo>
                        <a:lnTo>
                          <a:pt x="102" y="161"/>
                        </a:lnTo>
                        <a:lnTo>
                          <a:pt x="122" y="140"/>
                        </a:lnTo>
                        <a:lnTo>
                          <a:pt x="151" y="119"/>
                        </a:lnTo>
                        <a:lnTo>
                          <a:pt x="179" y="114"/>
                        </a:lnTo>
                        <a:lnTo>
                          <a:pt x="207" y="107"/>
                        </a:lnTo>
                        <a:lnTo>
                          <a:pt x="233" y="93"/>
                        </a:lnTo>
                        <a:lnTo>
                          <a:pt x="263" y="86"/>
                        </a:lnTo>
                        <a:lnTo>
                          <a:pt x="291" y="80"/>
                        </a:lnTo>
                        <a:lnTo>
                          <a:pt x="319" y="68"/>
                        </a:lnTo>
                        <a:lnTo>
                          <a:pt x="347" y="61"/>
                        </a:lnTo>
                        <a:lnTo>
                          <a:pt x="375" y="53"/>
                        </a:lnTo>
                        <a:lnTo>
                          <a:pt x="403" y="47"/>
                        </a:lnTo>
                        <a:lnTo>
                          <a:pt x="431" y="47"/>
                        </a:lnTo>
                        <a:lnTo>
                          <a:pt x="460" y="40"/>
                        </a:lnTo>
                        <a:lnTo>
                          <a:pt x="488" y="40"/>
                        </a:lnTo>
                        <a:lnTo>
                          <a:pt x="516" y="33"/>
                        </a:lnTo>
                        <a:lnTo>
                          <a:pt x="544" y="28"/>
                        </a:lnTo>
                        <a:lnTo>
                          <a:pt x="572" y="28"/>
                        </a:lnTo>
                        <a:lnTo>
                          <a:pt x="600" y="21"/>
                        </a:lnTo>
                        <a:lnTo>
                          <a:pt x="628" y="12"/>
                        </a:lnTo>
                        <a:lnTo>
                          <a:pt x="656" y="12"/>
                        </a:lnTo>
                        <a:lnTo>
                          <a:pt x="686" y="12"/>
                        </a:lnTo>
                        <a:lnTo>
                          <a:pt x="712" y="7"/>
                        </a:lnTo>
                        <a:lnTo>
                          <a:pt x="740" y="7"/>
                        </a:lnTo>
                        <a:lnTo>
                          <a:pt x="779" y="7"/>
                        </a:lnTo>
                        <a:lnTo>
                          <a:pt x="807" y="0"/>
                        </a:lnTo>
                        <a:lnTo>
                          <a:pt x="835" y="0"/>
                        </a:lnTo>
                        <a:lnTo>
                          <a:pt x="863" y="0"/>
                        </a:lnTo>
                        <a:lnTo>
                          <a:pt x="891" y="0"/>
                        </a:lnTo>
                        <a:lnTo>
                          <a:pt x="919"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5" name=""/>
                <p:cNvSpPr/>
                <p:nvPr/>
              </p:nvSpPr>
              <p:spPr>
                <a:xfrm>
                  <a:off x="6988320" y="403704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85%</a:t>
                  </a:r>
                  <a:endParaRPr b="0" lang="en-US" sz="1800" spc="-1" strike="noStrike">
                    <a:solidFill>
                      <a:srgbClr val="000000"/>
                    </a:solidFill>
                    <a:latin typeface="Arial"/>
                  </a:endParaRPr>
                </a:p>
              </p:txBody>
            </p:sp>
            <p:sp>
              <p:nvSpPr>
                <p:cNvPr id="3846" name=""/>
                <p:cNvSpPr/>
                <p:nvPr/>
              </p:nvSpPr>
              <p:spPr>
                <a:xfrm>
                  <a:off x="6502680" y="3436200"/>
                  <a:ext cx="21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fluência no Custo</a:t>
                  </a:r>
                  <a:endParaRPr b="0" lang="en-US" sz="1800" spc="-1" strike="noStrike">
                    <a:solidFill>
                      <a:srgbClr val="000000"/>
                    </a:solidFill>
                    <a:latin typeface="Arial"/>
                  </a:endParaRPr>
                </a:p>
              </p:txBody>
            </p:sp>
          </p:grpSp>
        </p:grpSp>
        <p:grpSp>
          <p:nvGrpSpPr>
            <p:cNvPr id="3847" name=""/>
            <p:cNvGrpSpPr/>
            <p:nvPr/>
          </p:nvGrpSpPr>
          <p:grpSpPr>
            <a:xfrm>
              <a:off x="1037520" y="1922040"/>
              <a:ext cx="5874120" cy="520200"/>
              <a:chOff x="1037520" y="1922040"/>
              <a:chExt cx="5874120" cy="520200"/>
            </a:xfrm>
          </p:grpSpPr>
          <p:sp>
            <p:nvSpPr>
              <p:cNvPr id="3848" name=""/>
              <p:cNvSpPr/>
              <p:nvPr/>
            </p:nvSpPr>
            <p:spPr>
              <a:xfrm>
                <a:off x="3499200" y="1922040"/>
                <a:ext cx="1043640" cy="520200"/>
              </a:xfrm>
              <a:custGeom>
                <a:avLst/>
                <a:gdLst>
                  <a:gd name="textAreaLeft" fmla="*/ 0 w 1043640"/>
                  <a:gd name="textAreaRight" fmla="*/ 1044000 w 1043640"/>
                  <a:gd name="textAreaTop" fmla="*/ 0 h 520200"/>
                  <a:gd name="textAreaBottom" fmla="*/ 520560 h 52020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3849" name=""/>
              <p:cNvSpPr/>
              <p:nvPr/>
            </p:nvSpPr>
            <p:spPr>
              <a:xfrm>
                <a:off x="2387160" y="1922040"/>
                <a:ext cx="1074240" cy="520200"/>
              </a:xfrm>
              <a:custGeom>
                <a:avLst/>
                <a:gdLst>
                  <a:gd name="textAreaLeft" fmla="*/ 0 w 1074240"/>
                  <a:gd name="textAreaRight" fmla="*/ 1074600 w 1074240"/>
                  <a:gd name="textAreaTop" fmla="*/ 0 h 520200"/>
                  <a:gd name="textAreaBottom" fmla="*/ 520560 h 52020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3850" name=""/>
              <p:cNvSpPr/>
              <p:nvPr/>
            </p:nvSpPr>
            <p:spPr>
              <a:xfrm>
                <a:off x="1037520" y="1922040"/>
                <a:ext cx="1302840" cy="520200"/>
              </a:xfrm>
              <a:custGeom>
                <a:avLst/>
                <a:gdLst>
                  <a:gd name="textAreaLeft" fmla="*/ 0 w 1302840"/>
                  <a:gd name="textAreaRight" fmla="*/ 1303200 w 1302840"/>
                  <a:gd name="textAreaTop" fmla="*/ 0 h 520200"/>
                  <a:gd name="textAreaBottom" fmla="*/ 520560 h 52020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3851" name=""/>
              <p:cNvSpPr/>
              <p:nvPr/>
            </p:nvSpPr>
            <p:spPr>
              <a:xfrm>
                <a:off x="5749560" y="1922040"/>
                <a:ext cx="1162080" cy="520200"/>
              </a:xfrm>
              <a:custGeom>
                <a:avLst/>
                <a:gdLst>
                  <a:gd name="textAreaLeft" fmla="*/ 0 w 1162080"/>
                  <a:gd name="textAreaRight" fmla="*/ 1162080 w 1162080"/>
                  <a:gd name="textAreaTop" fmla="*/ 0 h 520200"/>
                  <a:gd name="textAreaBottom" fmla="*/ 520560 h 52020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3852" name=""/>
              <p:cNvSpPr/>
              <p:nvPr/>
            </p:nvSpPr>
            <p:spPr>
              <a:xfrm>
                <a:off x="4593960" y="1922040"/>
                <a:ext cx="1102680" cy="520200"/>
              </a:xfrm>
              <a:custGeom>
                <a:avLst/>
                <a:gdLst>
                  <a:gd name="textAreaLeft" fmla="*/ 0 w 1102680"/>
                  <a:gd name="textAreaRight" fmla="*/ 1102680 w 1102680"/>
                  <a:gd name="textAreaTop" fmla="*/ 0 h 520200"/>
                  <a:gd name="textAreaBottom" fmla="*/ 520560 h 52020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grpSp>
        <p:sp>
          <p:nvSpPr>
            <p:cNvPr id="3853" name=""/>
            <p:cNvSpPr/>
            <p:nvPr/>
          </p:nvSpPr>
          <p:spPr>
            <a:xfrm rot="5400000">
              <a:off x="5912640" y="4320720"/>
              <a:ext cx="647640" cy="351720"/>
            </a:xfrm>
            <a:custGeom>
              <a:avLst/>
              <a:gdLst/>
              <a:ahLst/>
              <a:rect l="l" t="t" r="r" b="b"/>
              <a:pathLst>
                <a:path w="394" h="212">
                  <a:moveTo>
                    <a:pt x="0" y="106"/>
                  </a:moveTo>
                  <a:lnTo>
                    <a:pt x="49" y="106"/>
                  </a:lnTo>
                  <a:lnTo>
                    <a:pt x="49" y="211"/>
                  </a:lnTo>
                  <a:lnTo>
                    <a:pt x="344" y="211"/>
                  </a:lnTo>
                  <a:lnTo>
                    <a:pt x="344" y="106"/>
                  </a:lnTo>
                  <a:lnTo>
                    <a:pt x="393" y="106"/>
                  </a:lnTo>
                  <a:lnTo>
                    <a:pt x="197" y="0"/>
                  </a:lnTo>
                  <a:lnTo>
                    <a:pt x="0" y="10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4" name=""/>
            <p:cNvSpPr/>
            <p:nvPr/>
          </p:nvSpPr>
          <p:spPr>
            <a:xfrm>
              <a:off x="2669760" y="4075920"/>
              <a:ext cx="551520" cy="7315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X</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57"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Arial"/>
              </a:rPr>
              <a:t>Conceitos de modelagem de process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o mode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papéis principais das pessoas envolvidas n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as macro-f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visão de fases (g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étodos e ferramentas de desenvolvimento de produ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dicadores de desempenho d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ceiros do desenvolvimento colaborativo de produ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Áreas de conhecimen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stão do conhecimento d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ndo o modelo</a:t>
            </a:r>
            <a:endParaRPr b="0" lang="en-US" sz="2400" spc="-1" strike="noStrike">
              <a:solidFill>
                <a:srgbClr val="000000"/>
              </a:solidFill>
              <a:latin typeface="Arial"/>
            </a:endParaRPr>
          </a:p>
        </p:txBody>
      </p:sp>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O problema da evolução do custo de modificação</a:t>
            </a:r>
            <a:endParaRPr b="0" lang="en-US" sz="2400" spc="-1" strike="noStrike">
              <a:solidFill>
                <a:srgbClr val="000096"/>
              </a:solidFill>
              <a:latin typeface="Arial"/>
            </a:endParaRPr>
          </a:p>
        </p:txBody>
      </p:sp>
      <p:grpSp>
        <p:nvGrpSpPr>
          <p:cNvPr id="3856" name=""/>
          <p:cNvGrpSpPr/>
          <p:nvPr/>
        </p:nvGrpSpPr>
        <p:grpSpPr>
          <a:xfrm>
            <a:off x="681120" y="1611720"/>
            <a:ext cx="7237080" cy="4392720"/>
            <a:chOff x="681120" y="1611720"/>
            <a:chExt cx="7237080" cy="4392720"/>
          </a:xfrm>
        </p:grpSpPr>
        <p:sp>
          <p:nvSpPr>
            <p:cNvPr id="3857" name=""/>
            <p:cNvSpPr/>
            <p:nvPr/>
          </p:nvSpPr>
          <p:spPr>
            <a:xfrm>
              <a:off x="681120" y="2151000"/>
              <a:ext cx="7237080" cy="2170800"/>
            </a:xfrm>
            <a:custGeom>
              <a:avLst/>
              <a:gdLst/>
              <a:ahLst/>
              <a:rect l="l" t="t" r="r" b="b"/>
              <a:pathLst>
                <a:path w="3456" h="912">
                  <a:moveTo>
                    <a:pt x="1017" y="673"/>
                  </a:moveTo>
                  <a:lnTo>
                    <a:pt x="1466" y="845"/>
                  </a:lnTo>
                  <a:lnTo>
                    <a:pt x="2109" y="912"/>
                  </a:lnTo>
                  <a:lnTo>
                    <a:pt x="2618" y="650"/>
                  </a:lnTo>
                  <a:lnTo>
                    <a:pt x="3456" y="15"/>
                  </a:lnTo>
                  <a:lnTo>
                    <a:pt x="0" y="0"/>
                  </a:lnTo>
                </a:path>
              </a:pathLst>
            </a:custGeom>
            <a:gradFill rotWithShape="0">
              <a:gsLst>
                <a:gs pos="0">
                  <a:srgbClr val="ffff00"/>
                </a:gs>
                <a:gs pos="50000">
                  <a:srgbClr val="dddddd"/>
                </a:gs>
                <a:gs pos="100000">
                  <a:srgbClr val="fff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8" name=""/>
            <p:cNvGrpSpPr/>
            <p:nvPr/>
          </p:nvGrpSpPr>
          <p:grpSpPr>
            <a:xfrm>
              <a:off x="2259000" y="3262320"/>
              <a:ext cx="3822120" cy="2742120"/>
              <a:chOff x="2259000" y="3262320"/>
              <a:chExt cx="3822120" cy="2742120"/>
            </a:xfrm>
          </p:grpSpPr>
          <p:sp>
            <p:nvSpPr>
              <p:cNvPr id="3859" name=""/>
              <p:cNvSpPr/>
              <p:nvPr/>
            </p:nvSpPr>
            <p:spPr>
              <a:xfrm>
                <a:off x="2632680" y="3396240"/>
                <a:ext cx="3448440" cy="2608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60" name=""/>
              <p:cNvGrpSpPr/>
              <p:nvPr/>
            </p:nvGrpSpPr>
            <p:grpSpPr>
              <a:xfrm>
                <a:off x="2972160" y="3886560"/>
                <a:ext cx="388440" cy="665640"/>
                <a:chOff x="2972160" y="3886560"/>
                <a:chExt cx="388440" cy="665640"/>
              </a:xfrm>
            </p:grpSpPr>
            <p:sp>
              <p:nvSpPr>
                <p:cNvPr id="3861" name=""/>
                <p:cNvSpPr/>
                <p:nvPr/>
              </p:nvSpPr>
              <p:spPr>
                <a:xfrm>
                  <a:off x="3001320" y="4176360"/>
                  <a:ext cx="359280" cy="375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2" name=""/>
                <p:cNvSpPr/>
                <p:nvPr/>
              </p:nvSpPr>
              <p:spPr>
                <a:xfrm>
                  <a:off x="2972160" y="388656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3863" name=""/>
              <p:cNvGrpSpPr/>
              <p:nvPr/>
            </p:nvGrpSpPr>
            <p:grpSpPr>
              <a:xfrm>
                <a:off x="4132080" y="5304960"/>
                <a:ext cx="939600" cy="625320"/>
                <a:chOff x="4132080" y="5304960"/>
                <a:chExt cx="939600" cy="625320"/>
              </a:xfrm>
            </p:grpSpPr>
            <p:sp>
              <p:nvSpPr>
                <p:cNvPr id="3864" name=""/>
                <p:cNvSpPr/>
                <p:nvPr/>
              </p:nvSpPr>
              <p:spPr>
                <a:xfrm>
                  <a:off x="4159080" y="5556960"/>
                  <a:ext cx="912600" cy="373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5" name=""/>
                <p:cNvSpPr/>
                <p:nvPr/>
              </p:nvSpPr>
              <p:spPr>
                <a:xfrm>
                  <a:off x="4132080" y="5304960"/>
                  <a:ext cx="745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empo</a:t>
                  </a:r>
                  <a:endParaRPr b="0" lang="en-US" sz="1600" spc="-1" strike="noStrike">
                    <a:solidFill>
                      <a:srgbClr val="000000"/>
                    </a:solidFill>
                    <a:latin typeface="Arial"/>
                  </a:endParaRPr>
                </a:p>
              </p:txBody>
            </p:sp>
          </p:grpSp>
          <p:grpSp>
            <p:nvGrpSpPr>
              <p:cNvPr id="3866" name=""/>
              <p:cNvGrpSpPr/>
              <p:nvPr/>
            </p:nvGrpSpPr>
            <p:grpSpPr>
              <a:xfrm>
                <a:off x="3264840" y="4083840"/>
                <a:ext cx="137520" cy="1379520"/>
                <a:chOff x="3264840" y="4083840"/>
                <a:chExt cx="137520" cy="1379520"/>
              </a:xfrm>
            </p:grpSpPr>
            <p:sp>
              <p:nvSpPr>
                <p:cNvPr id="3867" name=""/>
                <p:cNvSpPr/>
                <p:nvPr/>
              </p:nvSpPr>
              <p:spPr>
                <a:xfrm>
                  <a:off x="3337920" y="4217760"/>
                  <a:ext cx="0" cy="124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8" name=""/>
                <p:cNvSpPr/>
                <p:nvPr/>
              </p:nvSpPr>
              <p:spPr>
                <a:xfrm>
                  <a:off x="3264840" y="4083840"/>
                  <a:ext cx="137520" cy="204480"/>
                </a:xfrm>
                <a:custGeom>
                  <a:avLst/>
                  <a:gdLst/>
                  <a:ahLst/>
                  <a:rect l="l" t="t" r="r" b="b"/>
                  <a:pathLst>
                    <a:path w="66" h="81">
                      <a:moveTo>
                        <a:pt x="33" y="0"/>
                      </a:moveTo>
                      <a:lnTo>
                        <a:pt x="0" y="80"/>
                      </a:lnTo>
                      <a:lnTo>
                        <a:pt x="65" y="80"/>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9" name=""/>
              <p:cNvGrpSpPr/>
              <p:nvPr/>
            </p:nvGrpSpPr>
            <p:grpSpPr>
              <a:xfrm>
                <a:off x="3346560" y="5378760"/>
                <a:ext cx="2017440" cy="115920"/>
                <a:chOff x="3346560" y="5378760"/>
                <a:chExt cx="2017440" cy="115920"/>
              </a:xfrm>
            </p:grpSpPr>
            <p:sp>
              <p:nvSpPr>
                <p:cNvPr id="3870" name=""/>
                <p:cNvSpPr/>
                <p:nvPr/>
              </p:nvSpPr>
              <p:spPr>
                <a:xfrm>
                  <a:off x="3346560" y="5443200"/>
                  <a:ext cx="19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1" name=""/>
                <p:cNvSpPr/>
                <p:nvPr/>
              </p:nvSpPr>
              <p:spPr>
                <a:xfrm>
                  <a:off x="5126040" y="5378760"/>
                  <a:ext cx="237960" cy="115920"/>
                </a:xfrm>
                <a:custGeom>
                  <a:avLst/>
                  <a:gdLst/>
                  <a:ahLst/>
                  <a:rect l="l" t="t" r="r" b="b"/>
                  <a:pathLst>
                    <a:path w="114" h="47">
                      <a:moveTo>
                        <a:pt x="113" y="23"/>
                      </a:moveTo>
                      <a:lnTo>
                        <a:pt x="0" y="0"/>
                      </a:lnTo>
                      <a:lnTo>
                        <a:pt x="0" y="46"/>
                      </a:lnTo>
                      <a:lnTo>
                        <a:pt x="113"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2" name=""/>
              <p:cNvGrpSpPr/>
              <p:nvPr/>
            </p:nvGrpSpPr>
            <p:grpSpPr>
              <a:xfrm>
                <a:off x="2259000" y="3262320"/>
                <a:ext cx="2824560" cy="2067840"/>
                <a:chOff x="2259000" y="3262320"/>
                <a:chExt cx="2824560" cy="2067840"/>
              </a:xfrm>
            </p:grpSpPr>
            <p:sp>
              <p:nvSpPr>
                <p:cNvPr id="3873" name=""/>
                <p:cNvSpPr/>
                <p:nvPr/>
              </p:nvSpPr>
              <p:spPr>
                <a:xfrm>
                  <a:off x="2259000" y="3262320"/>
                  <a:ext cx="2824560" cy="2067840"/>
                </a:xfrm>
                <a:custGeom>
                  <a:avLst/>
                  <a:gdLst/>
                  <a:ahLst/>
                  <a:rect l="l" t="t" r="r" b="b"/>
                  <a:pathLst>
                    <a:path stroke="0" w="21600" h="21600">
                      <a:moveTo>
                        <a:pt x="21600" y="10747"/>
                      </a:moveTo>
                      <a:arcTo wR="10800" hR="10800" stAng="-16786" swAng="5442363"/>
                      <a:lnTo>
                        <a:pt x="10800" y="10800"/>
                      </a:lnTo>
                      <a:close/>
                    </a:path>
                    <a:path fill="none" w="21600" h="21600">
                      <a:moveTo>
                        <a:pt x="21600" y="10747"/>
                      </a:moveTo>
                      <a:arcTo wR="10800" hR="10800" stAng="-16786" swAng="5442363"/>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4" name=""/>
                <p:cNvSpPr/>
                <p:nvPr/>
              </p:nvSpPr>
              <p:spPr>
                <a:xfrm>
                  <a:off x="2274840" y="3276720"/>
                  <a:ext cx="2779560" cy="2023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5" name=""/>
              <p:cNvSpPr/>
              <p:nvPr/>
            </p:nvSpPr>
            <p:spPr>
              <a:xfrm>
                <a:off x="2661840" y="3377160"/>
                <a:ext cx="2374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usto de Modificação</a:t>
                </a:r>
                <a:endParaRPr b="0" lang="en-US" sz="1800" spc="-1" strike="noStrike">
                  <a:solidFill>
                    <a:srgbClr val="000000"/>
                  </a:solidFill>
                  <a:latin typeface="Arial"/>
                </a:endParaRPr>
              </a:p>
            </p:txBody>
          </p:sp>
        </p:grpSp>
        <p:grpSp>
          <p:nvGrpSpPr>
            <p:cNvPr id="3876" name=""/>
            <p:cNvGrpSpPr/>
            <p:nvPr/>
          </p:nvGrpSpPr>
          <p:grpSpPr>
            <a:xfrm>
              <a:off x="739440" y="1611720"/>
              <a:ext cx="7090920" cy="520560"/>
              <a:chOff x="739440" y="1611720"/>
              <a:chExt cx="7090920" cy="520560"/>
            </a:xfrm>
          </p:grpSpPr>
          <p:sp>
            <p:nvSpPr>
              <p:cNvPr id="3877" name=""/>
              <p:cNvSpPr/>
              <p:nvPr/>
            </p:nvSpPr>
            <p:spPr>
              <a:xfrm>
                <a:off x="3816360" y="1611720"/>
                <a:ext cx="1043640" cy="520560"/>
              </a:xfrm>
              <a:custGeom>
                <a:avLst/>
                <a:gdLst>
                  <a:gd name="textAreaLeft" fmla="*/ 0 w 1043640"/>
                  <a:gd name="textAreaRight" fmla="*/ 1044000 w 1043640"/>
                  <a:gd name="textAreaTop" fmla="*/ 0 h 520560"/>
                  <a:gd name="textAreaBottom" fmla="*/ 520920 h 52056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3878" name=""/>
              <p:cNvSpPr/>
              <p:nvPr/>
            </p:nvSpPr>
            <p:spPr>
              <a:xfrm>
                <a:off x="2417760" y="1611720"/>
                <a:ext cx="1074240" cy="520560"/>
              </a:xfrm>
              <a:custGeom>
                <a:avLst/>
                <a:gdLst>
                  <a:gd name="textAreaLeft" fmla="*/ 0 w 1074240"/>
                  <a:gd name="textAreaRight" fmla="*/ 1074600 w 1074240"/>
                  <a:gd name="textAreaTop" fmla="*/ 0 h 520560"/>
                  <a:gd name="textAreaBottom" fmla="*/ 520920 h 52056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3879" name=""/>
              <p:cNvSpPr/>
              <p:nvPr/>
            </p:nvSpPr>
            <p:spPr>
              <a:xfrm>
                <a:off x="739440" y="1611720"/>
                <a:ext cx="1302840" cy="520560"/>
              </a:xfrm>
              <a:custGeom>
                <a:avLst/>
                <a:gdLst>
                  <a:gd name="textAreaLeft" fmla="*/ 0 w 1302840"/>
                  <a:gd name="textAreaRight" fmla="*/ 1303200 w 1302840"/>
                  <a:gd name="textAreaTop" fmla="*/ 0 h 520560"/>
                  <a:gd name="textAreaBottom" fmla="*/ 520920 h 52056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3880" name=""/>
              <p:cNvSpPr/>
              <p:nvPr/>
            </p:nvSpPr>
            <p:spPr>
              <a:xfrm>
                <a:off x="6668280" y="1611720"/>
                <a:ext cx="1162080" cy="520560"/>
              </a:xfrm>
              <a:custGeom>
                <a:avLst/>
                <a:gdLst>
                  <a:gd name="textAreaLeft" fmla="*/ 0 w 1162080"/>
                  <a:gd name="textAreaRight" fmla="*/ 1162080 w 1162080"/>
                  <a:gd name="textAreaTop" fmla="*/ 0 h 520560"/>
                  <a:gd name="textAreaBottom" fmla="*/ 520920 h 52056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3881" name=""/>
              <p:cNvSpPr/>
              <p:nvPr/>
            </p:nvSpPr>
            <p:spPr>
              <a:xfrm>
                <a:off x="5203080" y="1611720"/>
                <a:ext cx="1102680" cy="520560"/>
              </a:xfrm>
              <a:custGeom>
                <a:avLst/>
                <a:gdLst>
                  <a:gd name="textAreaLeft" fmla="*/ 0 w 1102680"/>
                  <a:gd name="textAreaRight" fmla="*/ 1102680 w 1102680"/>
                  <a:gd name="textAreaTop" fmla="*/ 0 h 520560"/>
                  <a:gd name="textAreaBottom" fmla="*/ 520920 h 52056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O objetivo da Engenharia Simultânea</a:t>
            </a:r>
            <a:endParaRPr b="0" lang="en-US" sz="2400" spc="-1" strike="noStrike">
              <a:solidFill>
                <a:srgbClr val="000096"/>
              </a:solidFill>
              <a:latin typeface="Arial"/>
            </a:endParaRPr>
          </a:p>
        </p:txBody>
      </p:sp>
      <p:grpSp>
        <p:nvGrpSpPr>
          <p:cNvPr id="3883" name=""/>
          <p:cNvGrpSpPr/>
          <p:nvPr/>
        </p:nvGrpSpPr>
        <p:grpSpPr>
          <a:xfrm>
            <a:off x="661320" y="1346040"/>
            <a:ext cx="7893000" cy="5081400"/>
            <a:chOff x="661320" y="1346040"/>
            <a:chExt cx="7893000" cy="5081400"/>
          </a:xfrm>
        </p:grpSpPr>
        <p:grpSp>
          <p:nvGrpSpPr>
            <p:cNvPr id="3884" name=""/>
            <p:cNvGrpSpPr/>
            <p:nvPr/>
          </p:nvGrpSpPr>
          <p:grpSpPr>
            <a:xfrm>
              <a:off x="1444320" y="1700280"/>
              <a:ext cx="7110000" cy="4727160"/>
              <a:chOff x="1444320" y="1700280"/>
              <a:chExt cx="7110000" cy="4727160"/>
            </a:xfrm>
          </p:grpSpPr>
          <p:grpSp>
            <p:nvGrpSpPr>
              <p:cNvPr id="3885" name=""/>
              <p:cNvGrpSpPr/>
              <p:nvPr/>
            </p:nvGrpSpPr>
            <p:grpSpPr>
              <a:xfrm>
                <a:off x="1444320" y="1700280"/>
                <a:ext cx="5943240" cy="4727160"/>
                <a:chOff x="1444320" y="1700280"/>
                <a:chExt cx="5943240" cy="4727160"/>
              </a:xfrm>
            </p:grpSpPr>
            <p:grpSp>
              <p:nvGrpSpPr>
                <p:cNvPr id="3886" name=""/>
                <p:cNvGrpSpPr/>
                <p:nvPr/>
              </p:nvGrpSpPr>
              <p:grpSpPr>
                <a:xfrm>
                  <a:off x="1444320" y="2476800"/>
                  <a:ext cx="341280" cy="3839400"/>
                  <a:chOff x="1444320" y="2476800"/>
                  <a:chExt cx="341280" cy="3839400"/>
                </a:xfrm>
              </p:grpSpPr>
              <p:sp>
                <p:nvSpPr>
                  <p:cNvPr id="3887" name=""/>
                  <p:cNvSpPr/>
                  <p:nvPr/>
                </p:nvSpPr>
                <p:spPr>
                  <a:xfrm>
                    <a:off x="1657440" y="2835360"/>
                    <a:ext cx="0" cy="348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8" name=""/>
                  <p:cNvSpPr/>
                  <p:nvPr/>
                </p:nvSpPr>
                <p:spPr>
                  <a:xfrm>
                    <a:off x="1444320" y="2476800"/>
                    <a:ext cx="341280" cy="550440"/>
                  </a:xfrm>
                  <a:custGeom>
                    <a:avLst/>
                    <a:gdLst/>
                    <a:ahLst/>
                    <a:rect l="l" t="t" r="r" b="b"/>
                    <a:pathLst>
                      <a:path w="139" h="143">
                        <a:moveTo>
                          <a:pt x="69" y="0"/>
                        </a:moveTo>
                        <a:lnTo>
                          <a:pt x="0" y="142"/>
                        </a:lnTo>
                        <a:lnTo>
                          <a:pt x="138" y="142"/>
                        </a:lnTo>
                        <a:lnTo>
                          <a:pt x="69"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9" name=""/>
                <p:cNvGrpSpPr/>
                <p:nvPr/>
              </p:nvGrpSpPr>
              <p:grpSpPr>
                <a:xfrm>
                  <a:off x="1657800" y="1700280"/>
                  <a:ext cx="5729760" cy="4727160"/>
                  <a:chOff x="1657800" y="1700280"/>
                  <a:chExt cx="5729760" cy="4727160"/>
                </a:xfrm>
              </p:grpSpPr>
              <p:grpSp>
                <p:nvGrpSpPr>
                  <p:cNvPr id="3890" name=""/>
                  <p:cNvGrpSpPr/>
                  <p:nvPr/>
                </p:nvGrpSpPr>
                <p:grpSpPr>
                  <a:xfrm>
                    <a:off x="1677600" y="6124680"/>
                    <a:ext cx="5709960" cy="302760"/>
                    <a:chOff x="1677600" y="6124680"/>
                    <a:chExt cx="5709960" cy="302760"/>
                  </a:xfrm>
                </p:grpSpPr>
                <p:sp>
                  <p:nvSpPr>
                    <p:cNvPr id="3891" name=""/>
                    <p:cNvSpPr/>
                    <p:nvPr/>
                  </p:nvSpPr>
                  <p:spPr>
                    <a:xfrm>
                      <a:off x="1677600" y="6308280"/>
                      <a:ext cx="5450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2" name=""/>
                    <p:cNvSpPr/>
                    <p:nvPr/>
                  </p:nvSpPr>
                  <p:spPr>
                    <a:xfrm>
                      <a:off x="6751080" y="6124680"/>
                      <a:ext cx="636480" cy="302760"/>
                    </a:xfrm>
                    <a:custGeom>
                      <a:avLst/>
                      <a:gdLst/>
                      <a:ahLst/>
                      <a:rect l="l" t="t" r="r" b="b"/>
                      <a:pathLst>
                        <a:path w="259" h="79">
                          <a:moveTo>
                            <a:pt x="258" y="40"/>
                          </a:moveTo>
                          <a:lnTo>
                            <a:pt x="0" y="0"/>
                          </a:lnTo>
                          <a:lnTo>
                            <a:pt x="0" y="78"/>
                          </a:lnTo>
                          <a:lnTo>
                            <a:pt x="258" y="4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3" name=""/>
                  <p:cNvSpPr/>
                  <p:nvPr/>
                </p:nvSpPr>
                <p:spPr>
                  <a:xfrm>
                    <a:off x="1657800" y="3281040"/>
                    <a:ext cx="5497920" cy="2158560"/>
                  </a:xfrm>
                  <a:custGeom>
                    <a:avLst/>
                    <a:gdLst/>
                    <a:ahLst/>
                    <a:rect l="l" t="t" r="r" b="b"/>
                    <a:pathLst>
                      <a:path w="2236" h="561">
                        <a:moveTo>
                          <a:pt x="0" y="560"/>
                        </a:moveTo>
                        <a:lnTo>
                          <a:pt x="73" y="560"/>
                        </a:lnTo>
                        <a:lnTo>
                          <a:pt x="127" y="560"/>
                        </a:lnTo>
                        <a:lnTo>
                          <a:pt x="187" y="548"/>
                        </a:lnTo>
                        <a:lnTo>
                          <a:pt x="243" y="548"/>
                        </a:lnTo>
                        <a:lnTo>
                          <a:pt x="299" y="548"/>
                        </a:lnTo>
                        <a:lnTo>
                          <a:pt x="357" y="536"/>
                        </a:lnTo>
                        <a:lnTo>
                          <a:pt x="414" y="524"/>
                        </a:lnTo>
                        <a:lnTo>
                          <a:pt x="474" y="512"/>
                        </a:lnTo>
                        <a:lnTo>
                          <a:pt x="528" y="502"/>
                        </a:lnTo>
                        <a:lnTo>
                          <a:pt x="589" y="487"/>
                        </a:lnTo>
                        <a:lnTo>
                          <a:pt x="645" y="478"/>
                        </a:lnTo>
                        <a:lnTo>
                          <a:pt x="705" y="466"/>
                        </a:lnTo>
                        <a:lnTo>
                          <a:pt x="760" y="454"/>
                        </a:lnTo>
                        <a:lnTo>
                          <a:pt x="819" y="429"/>
                        </a:lnTo>
                        <a:lnTo>
                          <a:pt x="875" y="393"/>
                        </a:lnTo>
                        <a:lnTo>
                          <a:pt x="914" y="357"/>
                        </a:lnTo>
                        <a:lnTo>
                          <a:pt x="950" y="321"/>
                        </a:lnTo>
                        <a:lnTo>
                          <a:pt x="1023" y="305"/>
                        </a:lnTo>
                        <a:lnTo>
                          <a:pt x="1010" y="250"/>
                        </a:lnTo>
                        <a:lnTo>
                          <a:pt x="1030" y="214"/>
                        </a:lnTo>
                        <a:lnTo>
                          <a:pt x="1046" y="179"/>
                        </a:lnTo>
                        <a:lnTo>
                          <a:pt x="1107" y="143"/>
                        </a:lnTo>
                        <a:lnTo>
                          <a:pt x="1141" y="106"/>
                        </a:lnTo>
                        <a:lnTo>
                          <a:pt x="1181" y="73"/>
                        </a:lnTo>
                        <a:lnTo>
                          <a:pt x="1241" y="48"/>
                        </a:lnTo>
                        <a:lnTo>
                          <a:pt x="1297" y="24"/>
                        </a:lnTo>
                        <a:lnTo>
                          <a:pt x="1352" y="12"/>
                        </a:lnTo>
                        <a:lnTo>
                          <a:pt x="1411" y="0"/>
                        </a:lnTo>
                        <a:lnTo>
                          <a:pt x="1468" y="0"/>
                        </a:lnTo>
                        <a:lnTo>
                          <a:pt x="1526" y="0"/>
                        </a:lnTo>
                        <a:lnTo>
                          <a:pt x="1582" y="12"/>
                        </a:lnTo>
                        <a:lnTo>
                          <a:pt x="1643" y="24"/>
                        </a:lnTo>
                        <a:lnTo>
                          <a:pt x="1699" y="48"/>
                        </a:lnTo>
                        <a:lnTo>
                          <a:pt x="1757" y="58"/>
                        </a:lnTo>
                        <a:lnTo>
                          <a:pt x="1814" y="82"/>
                        </a:lnTo>
                        <a:lnTo>
                          <a:pt x="1870" y="119"/>
                        </a:lnTo>
                        <a:lnTo>
                          <a:pt x="1909" y="155"/>
                        </a:lnTo>
                        <a:lnTo>
                          <a:pt x="1947" y="190"/>
                        </a:lnTo>
                        <a:lnTo>
                          <a:pt x="1984" y="226"/>
                        </a:lnTo>
                        <a:lnTo>
                          <a:pt x="2024" y="262"/>
                        </a:lnTo>
                        <a:lnTo>
                          <a:pt x="2064" y="298"/>
                        </a:lnTo>
                        <a:lnTo>
                          <a:pt x="2100" y="334"/>
                        </a:lnTo>
                        <a:lnTo>
                          <a:pt x="2120" y="370"/>
                        </a:lnTo>
                        <a:lnTo>
                          <a:pt x="2138" y="405"/>
                        </a:lnTo>
                        <a:lnTo>
                          <a:pt x="2179" y="441"/>
                        </a:lnTo>
                        <a:lnTo>
                          <a:pt x="2215" y="478"/>
                        </a:lnTo>
                        <a:lnTo>
                          <a:pt x="2215" y="512"/>
                        </a:lnTo>
                        <a:lnTo>
                          <a:pt x="2235" y="548"/>
                        </a:lnTo>
                      </a:path>
                    </a:pathLst>
                  </a:custGeom>
                  <a:noFill/>
                  <a:ln cap="rnd" w="507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4" name=""/>
                  <p:cNvSpPr/>
                  <p:nvPr/>
                </p:nvSpPr>
                <p:spPr>
                  <a:xfrm>
                    <a:off x="1718280" y="1700280"/>
                    <a:ext cx="2883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Número de Alterações</a:t>
                    </a:r>
                    <a:endParaRPr b="0" lang="en-US" sz="2000" spc="-1" strike="noStrike">
                      <a:solidFill>
                        <a:srgbClr val="000000"/>
                      </a:solidFill>
                      <a:latin typeface="Arial"/>
                    </a:endParaRPr>
                  </a:p>
                </p:txBody>
              </p:sp>
            </p:grpSp>
          </p:grpSp>
          <p:grpSp>
            <p:nvGrpSpPr>
              <p:cNvPr id="3895" name=""/>
              <p:cNvGrpSpPr/>
              <p:nvPr/>
            </p:nvGrpSpPr>
            <p:grpSpPr>
              <a:xfrm>
                <a:off x="1569600" y="1919160"/>
                <a:ext cx="6984720" cy="3970080"/>
                <a:chOff x="1569600" y="1919160"/>
                <a:chExt cx="6984720" cy="3970080"/>
              </a:xfrm>
            </p:grpSpPr>
            <p:grpSp>
              <p:nvGrpSpPr>
                <p:cNvPr id="3896" name=""/>
                <p:cNvGrpSpPr/>
                <p:nvPr/>
              </p:nvGrpSpPr>
              <p:grpSpPr>
                <a:xfrm>
                  <a:off x="1569600" y="3161520"/>
                  <a:ext cx="5806440" cy="2727720"/>
                  <a:chOff x="1569600" y="3161520"/>
                  <a:chExt cx="5806440" cy="2727720"/>
                </a:xfrm>
              </p:grpSpPr>
              <p:sp>
                <p:nvSpPr>
                  <p:cNvPr id="3897" name=""/>
                  <p:cNvSpPr/>
                  <p:nvPr/>
                </p:nvSpPr>
                <p:spPr>
                  <a:xfrm>
                    <a:off x="1569600" y="3161520"/>
                    <a:ext cx="5806440" cy="2727720"/>
                  </a:xfrm>
                  <a:custGeom>
                    <a:avLst/>
                    <a:gdLst/>
                    <a:ahLst/>
                    <a:rect l="l" t="t" r="r" b="b"/>
                    <a:pathLst>
                      <a:path w="2362" h="709">
                        <a:moveTo>
                          <a:pt x="28" y="604"/>
                        </a:moveTo>
                        <a:lnTo>
                          <a:pt x="0" y="607"/>
                        </a:lnTo>
                        <a:lnTo>
                          <a:pt x="28" y="599"/>
                        </a:lnTo>
                        <a:lnTo>
                          <a:pt x="54" y="583"/>
                        </a:lnTo>
                        <a:lnTo>
                          <a:pt x="82" y="583"/>
                        </a:lnTo>
                        <a:lnTo>
                          <a:pt x="118" y="567"/>
                        </a:lnTo>
                        <a:lnTo>
                          <a:pt x="137" y="546"/>
                        </a:lnTo>
                        <a:lnTo>
                          <a:pt x="163" y="530"/>
                        </a:lnTo>
                        <a:lnTo>
                          <a:pt x="191" y="521"/>
                        </a:lnTo>
                        <a:lnTo>
                          <a:pt x="209" y="498"/>
                        </a:lnTo>
                        <a:lnTo>
                          <a:pt x="227" y="474"/>
                        </a:lnTo>
                        <a:lnTo>
                          <a:pt x="245" y="444"/>
                        </a:lnTo>
                        <a:lnTo>
                          <a:pt x="271" y="428"/>
                        </a:lnTo>
                        <a:lnTo>
                          <a:pt x="281" y="396"/>
                        </a:lnTo>
                        <a:lnTo>
                          <a:pt x="289" y="365"/>
                        </a:lnTo>
                        <a:lnTo>
                          <a:pt x="299" y="335"/>
                        </a:lnTo>
                        <a:lnTo>
                          <a:pt x="299" y="312"/>
                        </a:lnTo>
                        <a:lnTo>
                          <a:pt x="317" y="287"/>
                        </a:lnTo>
                        <a:lnTo>
                          <a:pt x="317" y="266"/>
                        </a:lnTo>
                        <a:lnTo>
                          <a:pt x="317" y="241"/>
                        </a:lnTo>
                        <a:lnTo>
                          <a:pt x="335" y="210"/>
                        </a:lnTo>
                        <a:lnTo>
                          <a:pt x="335" y="187"/>
                        </a:lnTo>
                        <a:lnTo>
                          <a:pt x="344" y="162"/>
                        </a:lnTo>
                        <a:lnTo>
                          <a:pt x="362" y="141"/>
                        </a:lnTo>
                        <a:lnTo>
                          <a:pt x="380" y="116"/>
                        </a:lnTo>
                        <a:lnTo>
                          <a:pt x="380" y="93"/>
                        </a:lnTo>
                        <a:lnTo>
                          <a:pt x="398" y="69"/>
                        </a:lnTo>
                        <a:lnTo>
                          <a:pt x="426" y="63"/>
                        </a:lnTo>
                        <a:lnTo>
                          <a:pt x="444" y="32"/>
                        </a:lnTo>
                        <a:lnTo>
                          <a:pt x="470" y="32"/>
                        </a:lnTo>
                        <a:lnTo>
                          <a:pt x="506" y="16"/>
                        </a:lnTo>
                        <a:lnTo>
                          <a:pt x="534" y="0"/>
                        </a:lnTo>
                        <a:lnTo>
                          <a:pt x="561" y="0"/>
                        </a:lnTo>
                        <a:lnTo>
                          <a:pt x="589" y="0"/>
                        </a:lnTo>
                        <a:lnTo>
                          <a:pt x="615" y="0"/>
                        </a:lnTo>
                        <a:lnTo>
                          <a:pt x="643" y="0"/>
                        </a:lnTo>
                        <a:lnTo>
                          <a:pt x="669" y="0"/>
                        </a:lnTo>
                        <a:lnTo>
                          <a:pt x="705" y="0"/>
                        </a:lnTo>
                        <a:lnTo>
                          <a:pt x="733" y="7"/>
                        </a:lnTo>
                        <a:lnTo>
                          <a:pt x="759" y="23"/>
                        </a:lnTo>
                        <a:lnTo>
                          <a:pt x="787" y="32"/>
                        </a:lnTo>
                        <a:lnTo>
                          <a:pt x="814" y="55"/>
                        </a:lnTo>
                        <a:lnTo>
                          <a:pt x="832" y="79"/>
                        </a:lnTo>
                        <a:lnTo>
                          <a:pt x="850" y="101"/>
                        </a:lnTo>
                        <a:lnTo>
                          <a:pt x="868" y="125"/>
                        </a:lnTo>
                        <a:lnTo>
                          <a:pt x="868" y="148"/>
                        </a:lnTo>
                        <a:lnTo>
                          <a:pt x="868" y="172"/>
                        </a:lnTo>
                        <a:lnTo>
                          <a:pt x="878" y="194"/>
                        </a:lnTo>
                        <a:lnTo>
                          <a:pt x="886" y="218"/>
                        </a:lnTo>
                        <a:lnTo>
                          <a:pt x="886" y="241"/>
                        </a:lnTo>
                        <a:lnTo>
                          <a:pt x="904" y="272"/>
                        </a:lnTo>
                        <a:lnTo>
                          <a:pt x="904" y="303"/>
                        </a:lnTo>
                        <a:lnTo>
                          <a:pt x="904" y="335"/>
                        </a:lnTo>
                        <a:lnTo>
                          <a:pt x="904" y="359"/>
                        </a:lnTo>
                        <a:lnTo>
                          <a:pt x="896" y="389"/>
                        </a:lnTo>
                        <a:lnTo>
                          <a:pt x="904" y="412"/>
                        </a:lnTo>
                        <a:lnTo>
                          <a:pt x="904" y="436"/>
                        </a:lnTo>
                        <a:lnTo>
                          <a:pt x="904" y="458"/>
                        </a:lnTo>
                        <a:lnTo>
                          <a:pt x="922" y="490"/>
                        </a:lnTo>
                        <a:lnTo>
                          <a:pt x="940" y="514"/>
                        </a:lnTo>
                        <a:lnTo>
                          <a:pt x="968" y="537"/>
                        </a:lnTo>
                        <a:lnTo>
                          <a:pt x="995" y="552"/>
                        </a:lnTo>
                        <a:lnTo>
                          <a:pt x="1023" y="567"/>
                        </a:lnTo>
                        <a:lnTo>
                          <a:pt x="1049" y="583"/>
                        </a:lnTo>
                        <a:lnTo>
                          <a:pt x="1077" y="583"/>
                        </a:lnTo>
                        <a:lnTo>
                          <a:pt x="1103" y="599"/>
                        </a:lnTo>
                        <a:lnTo>
                          <a:pt x="1131" y="615"/>
                        </a:lnTo>
                        <a:lnTo>
                          <a:pt x="1167" y="623"/>
                        </a:lnTo>
                        <a:lnTo>
                          <a:pt x="1193" y="630"/>
                        </a:lnTo>
                        <a:lnTo>
                          <a:pt x="1221" y="639"/>
                        </a:lnTo>
                        <a:lnTo>
                          <a:pt x="1258" y="639"/>
                        </a:lnTo>
                        <a:lnTo>
                          <a:pt x="1294" y="639"/>
                        </a:lnTo>
                        <a:lnTo>
                          <a:pt x="1320" y="639"/>
                        </a:lnTo>
                        <a:lnTo>
                          <a:pt x="1348" y="639"/>
                        </a:lnTo>
                        <a:lnTo>
                          <a:pt x="1374" y="639"/>
                        </a:lnTo>
                        <a:lnTo>
                          <a:pt x="1402" y="639"/>
                        </a:lnTo>
                        <a:lnTo>
                          <a:pt x="1428" y="639"/>
                        </a:lnTo>
                        <a:lnTo>
                          <a:pt x="1456" y="655"/>
                        </a:lnTo>
                        <a:lnTo>
                          <a:pt x="1483" y="670"/>
                        </a:lnTo>
                        <a:lnTo>
                          <a:pt x="1511" y="670"/>
                        </a:lnTo>
                        <a:lnTo>
                          <a:pt x="1537" y="670"/>
                        </a:lnTo>
                        <a:lnTo>
                          <a:pt x="1565" y="670"/>
                        </a:lnTo>
                        <a:lnTo>
                          <a:pt x="1591" y="676"/>
                        </a:lnTo>
                        <a:lnTo>
                          <a:pt x="1619" y="685"/>
                        </a:lnTo>
                        <a:lnTo>
                          <a:pt x="1645" y="685"/>
                        </a:lnTo>
                        <a:lnTo>
                          <a:pt x="1673" y="692"/>
                        </a:lnTo>
                        <a:lnTo>
                          <a:pt x="1700" y="692"/>
                        </a:lnTo>
                        <a:lnTo>
                          <a:pt x="1728" y="701"/>
                        </a:lnTo>
                        <a:lnTo>
                          <a:pt x="1754" y="701"/>
                        </a:lnTo>
                        <a:lnTo>
                          <a:pt x="1782" y="701"/>
                        </a:lnTo>
                        <a:lnTo>
                          <a:pt x="1808" y="701"/>
                        </a:lnTo>
                        <a:lnTo>
                          <a:pt x="1836" y="701"/>
                        </a:lnTo>
                        <a:lnTo>
                          <a:pt x="1872" y="701"/>
                        </a:lnTo>
                        <a:lnTo>
                          <a:pt x="1899" y="701"/>
                        </a:lnTo>
                        <a:lnTo>
                          <a:pt x="1935" y="701"/>
                        </a:lnTo>
                        <a:lnTo>
                          <a:pt x="1963" y="701"/>
                        </a:lnTo>
                        <a:lnTo>
                          <a:pt x="1989" y="701"/>
                        </a:lnTo>
                        <a:lnTo>
                          <a:pt x="2017" y="701"/>
                        </a:lnTo>
                        <a:lnTo>
                          <a:pt x="2053" y="701"/>
                        </a:lnTo>
                        <a:lnTo>
                          <a:pt x="2079" y="701"/>
                        </a:lnTo>
                        <a:lnTo>
                          <a:pt x="2116" y="701"/>
                        </a:lnTo>
                        <a:lnTo>
                          <a:pt x="2144" y="701"/>
                        </a:lnTo>
                        <a:lnTo>
                          <a:pt x="2170" y="701"/>
                        </a:lnTo>
                        <a:lnTo>
                          <a:pt x="2198" y="701"/>
                        </a:lnTo>
                        <a:lnTo>
                          <a:pt x="2224" y="708"/>
                        </a:lnTo>
                        <a:lnTo>
                          <a:pt x="2252" y="701"/>
                        </a:lnTo>
                        <a:lnTo>
                          <a:pt x="2278" y="701"/>
                        </a:lnTo>
                        <a:lnTo>
                          <a:pt x="2306" y="701"/>
                        </a:lnTo>
                        <a:lnTo>
                          <a:pt x="2333" y="708"/>
                        </a:lnTo>
                        <a:lnTo>
                          <a:pt x="2361" y="701"/>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8" name=""/>
                  <p:cNvGrpSpPr/>
                  <p:nvPr/>
                </p:nvGrpSpPr>
                <p:grpSpPr>
                  <a:xfrm>
                    <a:off x="3939480" y="3750120"/>
                    <a:ext cx="2095560" cy="2099160"/>
                    <a:chOff x="3939480" y="3750120"/>
                    <a:chExt cx="2095560" cy="2099160"/>
                  </a:xfrm>
                </p:grpSpPr>
                <p:grpSp>
                  <p:nvGrpSpPr>
                    <p:cNvPr id="3899" name=""/>
                    <p:cNvGrpSpPr/>
                    <p:nvPr/>
                  </p:nvGrpSpPr>
                  <p:grpSpPr>
                    <a:xfrm>
                      <a:off x="3939480" y="3750120"/>
                      <a:ext cx="1606320" cy="1947960"/>
                      <a:chOff x="3939480" y="3750120"/>
                      <a:chExt cx="1606320" cy="1947960"/>
                    </a:xfrm>
                  </p:grpSpPr>
                  <p:grpSp>
                    <p:nvGrpSpPr>
                      <p:cNvPr id="3900" name=""/>
                      <p:cNvGrpSpPr/>
                      <p:nvPr/>
                    </p:nvGrpSpPr>
                    <p:grpSpPr>
                      <a:xfrm>
                        <a:off x="5322600" y="5279760"/>
                        <a:ext cx="223200" cy="418320"/>
                        <a:chOff x="5322600" y="5279760"/>
                        <a:chExt cx="223200" cy="418320"/>
                      </a:xfrm>
                    </p:grpSpPr>
                    <p:sp>
                      <p:nvSpPr>
                        <p:cNvPr id="3901" name=""/>
                        <p:cNvSpPr/>
                        <p:nvPr/>
                      </p:nvSpPr>
                      <p:spPr>
                        <a:xfrm>
                          <a:off x="5322600" y="5279760"/>
                          <a:ext cx="127800" cy="245160"/>
                        </a:xfrm>
                        <a:custGeom>
                          <a:avLst/>
                          <a:gdLst/>
                          <a:ahLst/>
                          <a:rect l="l" t="t" r="r" b="b"/>
                          <a:pathLst>
                            <a:path w="52" h="64">
                              <a:moveTo>
                                <a:pt x="0" y="0"/>
                              </a:moveTo>
                              <a:lnTo>
                                <a:pt x="10" y="63"/>
                              </a:lnTo>
                              <a:lnTo>
                                <a:pt x="51" y="21"/>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2" name=""/>
                        <p:cNvSpPr/>
                        <p:nvPr/>
                      </p:nvSpPr>
                      <p:spPr>
                        <a:xfrm>
                          <a:off x="5408640" y="5505840"/>
                          <a:ext cx="137160" cy="192240"/>
                        </a:xfrm>
                        <a:custGeom>
                          <a:avLst/>
                          <a:gdLst/>
                          <a:ahLst/>
                          <a:rect l="l" t="t" r="r" b="b"/>
                          <a:pathLst>
                            <a:path w="56" h="50">
                              <a:moveTo>
                                <a:pt x="4" y="0"/>
                              </a:moveTo>
                              <a:lnTo>
                                <a:pt x="0" y="49"/>
                              </a:lnTo>
                              <a:lnTo>
                                <a:pt x="55" y="38"/>
                              </a:lnTo>
                              <a:lnTo>
                                <a:pt x="4"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03" name=""/>
                      <p:cNvGrpSpPr/>
                      <p:nvPr/>
                    </p:nvGrpSpPr>
                    <p:grpSpPr>
                      <a:xfrm>
                        <a:off x="3939480" y="3750120"/>
                        <a:ext cx="1535400" cy="1852560"/>
                        <a:chOff x="3939480" y="3750120"/>
                        <a:chExt cx="1535400" cy="1852560"/>
                      </a:xfrm>
                    </p:grpSpPr>
                    <p:sp>
                      <p:nvSpPr>
                        <p:cNvPr id="3904" name=""/>
                        <p:cNvSpPr/>
                        <p:nvPr/>
                      </p:nvSpPr>
                      <p:spPr>
                        <a:xfrm>
                          <a:off x="3939480" y="3750120"/>
                          <a:ext cx="1535400" cy="1852560"/>
                        </a:xfrm>
                        <a:custGeom>
                          <a:avLst/>
                          <a:gdLst/>
                          <a:ahLst/>
                          <a:rect l="l" t="t" r="r" b="b"/>
                          <a:pathLst>
                            <a:path w="625" h="482">
                              <a:moveTo>
                                <a:pt x="623" y="196"/>
                              </a:moveTo>
                              <a:lnTo>
                                <a:pt x="605" y="197"/>
                              </a:lnTo>
                              <a:lnTo>
                                <a:pt x="593" y="197"/>
                              </a:lnTo>
                              <a:lnTo>
                                <a:pt x="570" y="196"/>
                              </a:lnTo>
                              <a:lnTo>
                                <a:pt x="539" y="190"/>
                              </a:lnTo>
                              <a:lnTo>
                                <a:pt x="528" y="189"/>
                              </a:lnTo>
                              <a:lnTo>
                                <a:pt x="514" y="184"/>
                              </a:lnTo>
                              <a:lnTo>
                                <a:pt x="494" y="174"/>
                              </a:lnTo>
                              <a:lnTo>
                                <a:pt x="478" y="162"/>
                              </a:lnTo>
                              <a:lnTo>
                                <a:pt x="463" y="153"/>
                              </a:lnTo>
                              <a:lnTo>
                                <a:pt x="450" y="142"/>
                              </a:lnTo>
                              <a:lnTo>
                                <a:pt x="429" y="130"/>
                              </a:lnTo>
                              <a:lnTo>
                                <a:pt x="401" y="116"/>
                              </a:lnTo>
                              <a:lnTo>
                                <a:pt x="358" y="105"/>
                              </a:lnTo>
                              <a:lnTo>
                                <a:pt x="335" y="105"/>
                              </a:lnTo>
                              <a:lnTo>
                                <a:pt x="297" y="99"/>
                              </a:lnTo>
                              <a:lnTo>
                                <a:pt x="255" y="93"/>
                              </a:lnTo>
                              <a:lnTo>
                                <a:pt x="230" y="88"/>
                              </a:lnTo>
                              <a:lnTo>
                                <a:pt x="210" y="81"/>
                              </a:lnTo>
                              <a:lnTo>
                                <a:pt x="174" y="71"/>
                              </a:lnTo>
                              <a:lnTo>
                                <a:pt x="136" y="55"/>
                              </a:lnTo>
                              <a:lnTo>
                                <a:pt x="116" y="44"/>
                              </a:lnTo>
                              <a:lnTo>
                                <a:pt x="90" y="33"/>
                              </a:lnTo>
                              <a:lnTo>
                                <a:pt x="64" y="19"/>
                              </a:lnTo>
                              <a:lnTo>
                                <a:pt x="36" y="2"/>
                              </a:lnTo>
                              <a:lnTo>
                                <a:pt x="30" y="0"/>
                              </a:lnTo>
                              <a:lnTo>
                                <a:pt x="24" y="0"/>
                              </a:lnTo>
                              <a:lnTo>
                                <a:pt x="18" y="4"/>
                              </a:lnTo>
                              <a:lnTo>
                                <a:pt x="13" y="8"/>
                              </a:lnTo>
                              <a:lnTo>
                                <a:pt x="8" y="15"/>
                              </a:lnTo>
                              <a:lnTo>
                                <a:pt x="2" y="39"/>
                              </a:lnTo>
                              <a:lnTo>
                                <a:pt x="0" y="51"/>
                              </a:lnTo>
                              <a:lnTo>
                                <a:pt x="3" y="67"/>
                              </a:lnTo>
                              <a:lnTo>
                                <a:pt x="16" y="84"/>
                              </a:lnTo>
                              <a:lnTo>
                                <a:pt x="34" y="99"/>
                              </a:lnTo>
                              <a:lnTo>
                                <a:pt x="58" y="115"/>
                              </a:lnTo>
                              <a:lnTo>
                                <a:pt x="67" y="121"/>
                              </a:lnTo>
                              <a:lnTo>
                                <a:pt x="87" y="125"/>
                              </a:lnTo>
                              <a:lnTo>
                                <a:pt x="116" y="136"/>
                              </a:lnTo>
                              <a:lnTo>
                                <a:pt x="146" y="149"/>
                              </a:lnTo>
                              <a:lnTo>
                                <a:pt x="195" y="173"/>
                              </a:lnTo>
                              <a:lnTo>
                                <a:pt x="144" y="182"/>
                              </a:lnTo>
                              <a:lnTo>
                                <a:pt x="116" y="187"/>
                              </a:lnTo>
                              <a:lnTo>
                                <a:pt x="90" y="193"/>
                              </a:lnTo>
                              <a:lnTo>
                                <a:pt x="76" y="199"/>
                              </a:lnTo>
                              <a:lnTo>
                                <a:pt x="60" y="205"/>
                              </a:lnTo>
                              <a:lnTo>
                                <a:pt x="44" y="211"/>
                              </a:lnTo>
                              <a:lnTo>
                                <a:pt x="34" y="217"/>
                              </a:lnTo>
                              <a:lnTo>
                                <a:pt x="26" y="222"/>
                              </a:lnTo>
                              <a:lnTo>
                                <a:pt x="18" y="230"/>
                              </a:lnTo>
                              <a:lnTo>
                                <a:pt x="11" y="237"/>
                              </a:lnTo>
                              <a:lnTo>
                                <a:pt x="8" y="251"/>
                              </a:lnTo>
                              <a:lnTo>
                                <a:pt x="8" y="259"/>
                              </a:lnTo>
                              <a:lnTo>
                                <a:pt x="8" y="271"/>
                              </a:lnTo>
                              <a:lnTo>
                                <a:pt x="10" y="281"/>
                              </a:lnTo>
                              <a:lnTo>
                                <a:pt x="13" y="287"/>
                              </a:lnTo>
                              <a:lnTo>
                                <a:pt x="31" y="296"/>
                              </a:lnTo>
                              <a:lnTo>
                                <a:pt x="74" y="314"/>
                              </a:lnTo>
                              <a:lnTo>
                                <a:pt x="67" y="328"/>
                              </a:lnTo>
                              <a:lnTo>
                                <a:pt x="66" y="339"/>
                              </a:lnTo>
                              <a:lnTo>
                                <a:pt x="66" y="350"/>
                              </a:lnTo>
                              <a:lnTo>
                                <a:pt x="70" y="355"/>
                              </a:lnTo>
                              <a:lnTo>
                                <a:pt x="78" y="362"/>
                              </a:lnTo>
                              <a:lnTo>
                                <a:pt x="87" y="368"/>
                              </a:lnTo>
                              <a:lnTo>
                                <a:pt x="94" y="374"/>
                              </a:lnTo>
                              <a:lnTo>
                                <a:pt x="110" y="379"/>
                              </a:lnTo>
                              <a:lnTo>
                                <a:pt x="125" y="380"/>
                              </a:lnTo>
                              <a:lnTo>
                                <a:pt x="133" y="380"/>
                              </a:lnTo>
                              <a:lnTo>
                                <a:pt x="141" y="389"/>
                              </a:lnTo>
                              <a:lnTo>
                                <a:pt x="143" y="399"/>
                              </a:lnTo>
                              <a:lnTo>
                                <a:pt x="146" y="407"/>
                              </a:lnTo>
                              <a:lnTo>
                                <a:pt x="148" y="413"/>
                              </a:lnTo>
                              <a:lnTo>
                                <a:pt x="156" y="420"/>
                              </a:lnTo>
                              <a:lnTo>
                                <a:pt x="162" y="425"/>
                              </a:lnTo>
                              <a:lnTo>
                                <a:pt x="171" y="431"/>
                              </a:lnTo>
                              <a:lnTo>
                                <a:pt x="182" y="436"/>
                              </a:lnTo>
                              <a:lnTo>
                                <a:pt x="195" y="437"/>
                              </a:lnTo>
                              <a:lnTo>
                                <a:pt x="205" y="440"/>
                              </a:lnTo>
                              <a:lnTo>
                                <a:pt x="217" y="437"/>
                              </a:lnTo>
                              <a:lnTo>
                                <a:pt x="237" y="431"/>
                              </a:lnTo>
                              <a:lnTo>
                                <a:pt x="237" y="446"/>
                              </a:lnTo>
                              <a:lnTo>
                                <a:pt x="237" y="453"/>
                              </a:lnTo>
                              <a:lnTo>
                                <a:pt x="243" y="460"/>
                              </a:lnTo>
                              <a:lnTo>
                                <a:pt x="248" y="465"/>
                              </a:lnTo>
                              <a:lnTo>
                                <a:pt x="259" y="470"/>
                              </a:lnTo>
                              <a:lnTo>
                                <a:pt x="271" y="474"/>
                              </a:lnTo>
                              <a:lnTo>
                                <a:pt x="281" y="480"/>
                              </a:lnTo>
                              <a:lnTo>
                                <a:pt x="291" y="481"/>
                              </a:lnTo>
                              <a:lnTo>
                                <a:pt x="301" y="481"/>
                              </a:lnTo>
                              <a:lnTo>
                                <a:pt x="313" y="480"/>
                              </a:lnTo>
                              <a:lnTo>
                                <a:pt x="323" y="480"/>
                              </a:lnTo>
                              <a:lnTo>
                                <a:pt x="333" y="474"/>
                              </a:lnTo>
                              <a:lnTo>
                                <a:pt x="341" y="469"/>
                              </a:lnTo>
                              <a:lnTo>
                                <a:pt x="353" y="460"/>
                              </a:lnTo>
                              <a:lnTo>
                                <a:pt x="379" y="457"/>
                              </a:lnTo>
                              <a:lnTo>
                                <a:pt x="399" y="452"/>
                              </a:lnTo>
                              <a:lnTo>
                                <a:pt x="412" y="448"/>
                              </a:lnTo>
                              <a:lnTo>
                                <a:pt x="437" y="436"/>
                              </a:lnTo>
                              <a:lnTo>
                                <a:pt x="444" y="436"/>
                              </a:lnTo>
                              <a:lnTo>
                                <a:pt x="462" y="436"/>
                              </a:lnTo>
                              <a:lnTo>
                                <a:pt x="478" y="431"/>
                              </a:lnTo>
                              <a:lnTo>
                                <a:pt x="494" y="424"/>
                              </a:lnTo>
                              <a:lnTo>
                                <a:pt x="508" y="423"/>
                              </a:lnTo>
                              <a:lnTo>
                                <a:pt x="526" y="419"/>
                              </a:lnTo>
                              <a:lnTo>
                                <a:pt x="540" y="416"/>
                              </a:lnTo>
                              <a:lnTo>
                                <a:pt x="557" y="413"/>
                              </a:lnTo>
                              <a:lnTo>
                                <a:pt x="570" y="412"/>
                              </a:lnTo>
                              <a:lnTo>
                                <a:pt x="585" y="413"/>
                              </a:lnTo>
                              <a:lnTo>
                                <a:pt x="596" y="417"/>
                              </a:lnTo>
                              <a:lnTo>
                                <a:pt x="624" y="407"/>
                              </a:lnTo>
                              <a:lnTo>
                                <a:pt x="623" y="196"/>
                              </a:lnTo>
                            </a:path>
                          </a:pathLst>
                        </a:custGeom>
                        <a:solidFill>
                          <a:srgbClr val="ffa0a0"/>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5" name=""/>
                        <p:cNvGrpSpPr/>
                        <p:nvPr/>
                      </p:nvGrpSpPr>
                      <p:grpSpPr>
                        <a:xfrm>
                          <a:off x="3990600" y="3823200"/>
                          <a:ext cx="1368720" cy="1714320"/>
                          <a:chOff x="3990600" y="3823200"/>
                          <a:chExt cx="1368720" cy="1714320"/>
                        </a:xfrm>
                      </p:grpSpPr>
                      <p:grpSp>
                        <p:nvGrpSpPr>
                          <p:cNvPr id="3906" name=""/>
                          <p:cNvGrpSpPr/>
                          <p:nvPr/>
                        </p:nvGrpSpPr>
                        <p:grpSpPr>
                          <a:xfrm>
                            <a:off x="3990600" y="3823200"/>
                            <a:ext cx="1368720" cy="1714320"/>
                            <a:chOff x="3990600" y="3823200"/>
                            <a:chExt cx="1368720" cy="1714320"/>
                          </a:xfrm>
                        </p:grpSpPr>
                        <p:sp>
                          <p:nvSpPr>
                            <p:cNvPr id="3907" name=""/>
                            <p:cNvSpPr/>
                            <p:nvPr/>
                          </p:nvSpPr>
                          <p:spPr>
                            <a:xfrm>
                              <a:off x="4265640" y="4809600"/>
                              <a:ext cx="459360" cy="418680"/>
                            </a:xfrm>
                            <a:custGeom>
                              <a:avLst/>
                              <a:gdLst/>
                              <a:ahLst/>
                              <a:rect l="l" t="t" r="r" b="b"/>
                              <a:pathLst>
                                <a:path w="187" h="109">
                                  <a:moveTo>
                                    <a:pt x="56" y="17"/>
                                  </a:moveTo>
                                  <a:lnTo>
                                    <a:pt x="64" y="17"/>
                                  </a:lnTo>
                                  <a:lnTo>
                                    <a:pt x="69" y="17"/>
                                  </a:lnTo>
                                  <a:lnTo>
                                    <a:pt x="77" y="16"/>
                                  </a:lnTo>
                                  <a:lnTo>
                                    <a:pt x="85" y="12"/>
                                  </a:lnTo>
                                  <a:lnTo>
                                    <a:pt x="92" y="11"/>
                                  </a:lnTo>
                                  <a:lnTo>
                                    <a:pt x="100" y="7"/>
                                  </a:lnTo>
                                  <a:lnTo>
                                    <a:pt x="110" y="6"/>
                                  </a:lnTo>
                                  <a:lnTo>
                                    <a:pt x="122" y="4"/>
                                  </a:lnTo>
                                  <a:lnTo>
                                    <a:pt x="130" y="2"/>
                                  </a:lnTo>
                                  <a:lnTo>
                                    <a:pt x="140" y="0"/>
                                  </a:lnTo>
                                  <a:lnTo>
                                    <a:pt x="148" y="0"/>
                                  </a:lnTo>
                                  <a:lnTo>
                                    <a:pt x="156" y="0"/>
                                  </a:lnTo>
                                  <a:lnTo>
                                    <a:pt x="161" y="2"/>
                                  </a:lnTo>
                                  <a:lnTo>
                                    <a:pt x="168" y="4"/>
                                  </a:lnTo>
                                  <a:lnTo>
                                    <a:pt x="171" y="7"/>
                                  </a:lnTo>
                                  <a:lnTo>
                                    <a:pt x="178" y="15"/>
                                  </a:lnTo>
                                  <a:lnTo>
                                    <a:pt x="182" y="19"/>
                                  </a:lnTo>
                                  <a:lnTo>
                                    <a:pt x="186" y="27"/>
                                  </a:lnTo>
                                  <a:lnTo>
                                    <a:pt x="186" y="33"/>
                                  </a:lnTo>
                                  <a:lnTo>
                                    <a:pt x="186" y="40"/>
                                  </a:lnTo>
                                  <a:lnTo>
                                    <a:pt x="182" y="45"/>
                                  </a:lnTo>
                                  <a:lnTo>
                                    <a:pt x="178" y="52"/>
                                  </a:lnTo>
                                  <a:lnTo>
                                    <a:pt x="174" y="59"/>
                                  </a:lnTo>
                                  <a:lnTo>
                                    <a:pt x="166" y="64"/>
                                  </a:lnTo>
                                  <a:lnTo>
                                    <a:pt x="160" y="68"/>
                                  </a:lnTo>
                                  <a:lnTo>
                                    <a:pt x="154" y="72"/>
                                  </a:lnTo>
                                  <a:lnTo>
                                    <a:pt x="148" y="75"/>
                                  </a:lnTo>
                                  <a:lnTo>
                                    <a:pt x="142" y="78"/>
                                  </a:lnTo>
                                  <a:lnTo>
                                    <a:pt x="133" y="81"/>
                                  </a:lnTo>
                                  <a:lnTo>
                                    <a:pt x="128" y="84"/>
                                  </a:lnTo>
                                  <a:lnTo>
                                    <a:pt x="105" y="89"/>
                                  </a:lnTo>
                                  <a:lnTo>
                                    <a:pt x="80" y="96"/>
                                  </a:lnTo>
                                  <a:lnTo>
                                    <a:pt x="64" y="97"/>
                                  </a:lnTo>
                                  <a:lnTo>
                                    <a:pt x="41" y="102"/>
                                  </a:lnTo>
                                  <a:lnTo>
                                    <a:pt x="24" y="108"/>
                                  </a:lnTo>
                                  <a:lnTo>
                                    <a:pt x="0" y="108"/>
                                  </a:lnTo>
                                  <a:lnTo>
                                    <a:pt x="0" y="10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8" name=""/>
                            <p:cNvSpPr/>
                            <p:nvPr/>
                          </p:nvSpPr>
                          <p:spPr>
                            <a:xfrm>
                              <a:off x="4115880" y="4637160"/>
                              <a:ext cx="385200" cy="356760"/>
                            </a:xfrm>
                            <a:custGeom>
                              <a:avLst/>
                              <a:gdLst/>
                              <a:ahLst/>
                              <a:rect l="l" t="t" r="r" b="b"/>
                              <a:pathLst>
                                <a:path w="157" h="93">
                                  <a:moveTo>
                                    <a:pt x="118" y="0"/>
                                  </a:moveTo>
                                  <a:lnTo>
                                    <a:pt x="125" y="0"/>
                                  </a:lnTo>
                                  <a:lnTo>
                                    <a:pt x="130" y="2"/>
                                  </a:lnTo>
                                  <a:lnTo>
                                    <a:pt x="135" y="4"/>
                                  </a:lnTo>
                                  <a:lnTo>
                                    <a:pt x="140" y="7"/>
                                  </a:lnTo>
                                  <a:lnTo>
                                    <a:pt x="145" y="8"/>
                                  </a:lnTo>
                                  <a:lnTo>
                                    <a:pt x="150" y="15"/>
                                  </a:lnTo>
                                  <a:lnTo>
                                    <a:pt x="155" y="17"/>
                                  </a:lnTo>
                                  <a:lnTo>
                                    <a:pt x="156" y="21"/>
                                  </a:lnTo>
                                  <a:lnTo>
                                    <a:pt x="156" y="28"/>
                                  </a:lnTo>
                                  <a:lnTo>
                                    <a:pt x="156" y="33"/>
                                  </a:lnTo>
                                  <a:lnTo>
                                    <a:pt x="155" y="36"/>
                                  </a:lnTo>
                                  <a:lnTo>
                                    <a:pt x="153" y="44"/>
                                  </a:lnTo>
                                  <a:lnTo>
                                    <a:pt x="146" y="48"/>
                                  </a:lnTo>
                                  <a:lnTo>
                                    <a:pt x="140" y="52"/>
                                  </a:lnTo>
                                  <a:lnTo>
                                    <a:pt x="135" y="56"/>
                                  </a:lnTo>
                                  <a:lnTo>
                                    <a:pt x="127" y="59"/>
                                  </a:lnTo>
                                  <a:lnTo>
                                    <a:pt x="118" y="62"/>
                                  </a:lnTo>
                                  <a:lnTo>
                                    <a:pt x="104" y="68"/>
                                  </a:lnTo>
                                  <a:lnTo>
                                    <a:pt x="92" y="73"/>
                                  </a:lnTo>
                                  <a:lnTo>
                                    <a:pt x="86" y="76"/>
                                  </a:lnTo>
                                  <a:lnTo>
                                    <a:pt x="74" y="81"/>
                                  </a:lnTo>
                                  <a:lnTo>
                                    <a:pt x="66" y="86"/>
                                  </a:lnTo>
                                  <a:lnTo>
                                    <a:pt x="58" y="90"/>
                                  </a:lnTo>
                                  <a:lnTo>
                                    <a:pt x="51" y="92"/>
                                  </a:lnTo>
                                  <a:lnTo>
                                    <a:pt x="43" y="92"/>
                                  </a:lnTo>
                                  <a:lnTo>
                                    <a:pt x="34" y="92"/>
                                  </a:lnTo>
                                  <a:lnTo>
                                    <a:pt x="28" y="90"/>
                                  </a:lnTo>
                                  <a:lnTo>
                                    <a:pt x="20" y="90"/>
                                  </a:lnTo>
                                  <a:lnTo>
                                    <a:pt x="15" y="86"/>
                                  </a:lnTo>
                                  <a:lnTo>
                                    <a:pt x="8" y="86"/>
                                  </a:lnTo>
                                  <a:lnTo>
                                    <a:pt x="0" y="8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9" name=""/>
                            <p:cNvSpPr/>
                            <p:nvPr/>
                          </p:nvSpPr>
                          <p:spPr>
                            <a:xfrm>
                              <a:off x="4521240" y="4890600"/>
                              <a:ext cx="355680" cy="525600"/>
                            </a:xfrm>
                            <a:custGeom>
                              <a:avLst/>
                              <a:gdLst/>
                              <a:ahLst/>
                              <a:rect l="l" t="t" r="r" b="b"/>
                              <a:pathLst>
                                <a:path w="145" h="137">
                                  <a:moveTo>
                                    <a:pt x="82" y="6"/>
                                  </a:moveTo>
                                  <a:lnTo>
                                    <a:pt x="90" y="4"/>
                                  </a:lnTo>
                                  <a:lnTo>
                                    <a:pt x="96" y="2"/>
                                  </a:lnTo>
                                  <a:lnTo>
                                    <a:pt x="106" y="0"/>
                                  </a:lnTo>
                                  <a:lnTo>
                                    <a:pt x="114" y="0"/>
                                  </a:lnTo>
                                  <a:lnTo>
                                    <a:pt x="120" y="0"/>
                                  </a:lnTo>
                                  <a:lnTo>
                                    <a:pt x="124" y="2"/>
                                  </a:lnTo>
                                  <a:lnTo>
                                    <a:pt x="131" y="6"/>
                                  </a:lnTo>
                                  <a:lnTo>
                                    <a:pt x="136" y="11"/>
                                  </a:lnTo>
                                  <a:lnTo>
                                    <a:pt x="141" y="16"/>
                                  </a:lnTo>
                                  <a:lnTo>
                                    <a:pt x="144" y="20"/>
                                  </a:lnTo>
                                  <a:lnTo>
                                    <a:pt x="144" y="28"/>
                                  </a:lnTo>
                                  <a:lnTo>
                                    <a:pt x="142" y="35"/>
                                  </a:lnTo>
                                  <a:lnTo>
                                    <a:pt x="141" y="45"/>
                                  </a:lnTo>
                                  <a:lnTo>
                                    <a:pt x="134" y="52"/>
                                  </a:lnTo>
                                  <a:lnTo>
                                    <a:pt x="131" y="57"/>
                                  </a:lnTo>
                                  <a:lnTo>
                                    <a:pt x="126" y="63"/>
                                  </a:lnTo>
                                  <a:lnTo>
                                    <a:pt x="120" y="66"/>
                                  </a:lnTo>
                                  <a:lnTo>
                                    <a:pt x="114" y="71"/>
                                  </a:lnTo>
                                  <a:lnTo>
                                    <a:pt x="106" y="75"/>
                                  </a:lnTo>
                                  <a:lnTo>
                                    <a:pt x="95" y="81"/>
                                  </a:lnTo>
                                  <a:lnTo>
                                    <a:pt x="82" y="88"/>
                                  </a:lnTo>
                                  <a:lnTo>
                                    <a:pt x="74" y="90"/>
                                  </a:lnTo>
                                  <a:lnTo>
                                    <a:pt x="68" y="95"/>
                                  </a:lnTo>
                                  <a:lnTo>
                                    <a:pt x="62" y="100"/>
                                  </a:lnTo>
                                  <a:lnTo>
                                    <a:pt x="54" y="105"/>
                                  </a:lnTo>
                                  <a:lnTo>
                                    <a:pt x="46" y="112"/>
                                  </a:lnTo>
                                  <a:lnTo>
                                    <a:pt x="39" y="116"/>
                                  </a:lnTo>
                                  <a:lnTo>
                                    <a:pt x="29" y="123"/>
                                  </a:lnTo>
                                  <a:lnTo>
                                    <a:pt x="21" y="126"/>
                                  </a:lnTo>
                                  <a:lnTo>
                                    <a:pt x="14" y="131"/>
                                  </a:lnTo>
                                  <a:lnTo>
                                    <a:pt x="6" y="135"/>
                                  </a:lnTo>
                                  <a:lnTo>
                                    <a:pt x="0" y="13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0" name=""/>
                            <p:cNvGrpSpPr/>
                            <p:nvPr/>
                          </p:nvGrpSpPr>
                          <p:grpSpPr>
                            <a:xfrm>
                              <a:off x="3990600" y="3823200"/>
                              <a:ext cx="1368720" cy="1714320"/>
                              <a:chOff x="3990600" y="3823200"/>
                              <a:chExt cx="1368720" cy="1714320"/>
                            </a:xfrm>
                          </p:grpSpPr>
                          <p:grpSp>
                            <p:nvGrpSpPr>
                              <p:cNvPr id="3911" name=""/>
                              <p:cNvGrpSpPr/>
                              <p:nvPr/>
                            </p:nvGrpSpPr>
                            <p:grpSpPr>
                              <a:xfrm>
                                <a:off x="4106160" y="4367880"/>
                                <a:ext cx="1253160" cy="1169640"/>
                                <a:chOff x="4106160" y="4367880"/>
                                <a:chExt cx="1253160" cy="1169640"/>
                              </a:xfrm>
                            </p:grpSpPr>
                            <p:grpSp>
                              <p:nvGrpSpPr>
                                <p:cNvPr id="3912" name=""/>
                                <p:cNvGrpSpPr/>
                                <p:nvPr/>
                              </p:nvGrpSpPr>
                              <p:grpSpPr>
                                <a:xfrm>
                                  <a:off x="4106160" y="4574880"/>
                                  <a:ext cx="241920" cy="183600"/>
                                  <a:chOff x="4106160" y="4574880"/>
                                  <a:chExt cx="241920" cy="183600"/>
                                </a:xfrm>
                              </p:grpSpPr>
                              <p:sp>
                                <p:nvSpPr>
                                  <p:cNvPr id="3913" name=""/>
                                  <p:cNvSpPr/>
                                  <p:nvPr/>
                                </p:nvSpPr>
                                <p:spPr>
                                  <a:xfrm>
                                    <a:off x="4152240" y="4643280"/>
                                    <a:ext cx="195840" cy="115200"/>
                                  </a:xfrm>
                                  <a:custGeom>
                                    <a:avLst/>
                                    <a:gdLst/>
                                    <a:ahLst/>
                                    <a:rect l="l" t="t" r="r" b="b"/>
                                    <a:pathLst>
                                      <a:path w="80" h="30">
                                        <a:moveTo>
                                          <a:pt x="79" y="0"/>
                                        </a:moveTo>
                                        <a:lnTo>
                                          <a:pt x="71" y="0"/>
                                        </a:lnTo>
                                        <a:lnTo>
                                          <a:pt x="61" y="1"/>
                                        </a:lnTo>
                                        <a:lnTo>
                                          <a:pt x="56" y="1"/>
                                        </a:lnTo>
                                        <a:lnTo>
                                          <a:pt x="49" y="2"/>
                                        </a:lnTo>
                                        <a:lnTo>
                                          <a:pt x="39" y="5"/>
                                        </a:lnTo>
                                        <a:lnTo>
                                          <a:pt x="31" y="8"/>
                                        </a:lnTo>
                                        <a:lnTo>
                                          <a:pt x="23" y="10"/>
                                        </a:lnTo>
                                        <a:lnTo>
                                          <a:pt x="18" y="15"/>
                                        </a:lnTo>
                                        <a:lnTo>
                                          <a:pt x="9" y="18"/>
                                        </a:lnTo>
                                        <a:lnTo>
                                          <a:pt x="6" y="24"/>
                                        </a:lnTo>
                                        <a:lnTo>
                                          <a:pt x="0" y="2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4" name=""/>
                                  <p:cNvSpPr/>
                                  <p:nvPr/>
                                </p:nvSpPr>
                                <p:spPr>
                                  <a:xfrm>
                                    <a:off x="4106160" y="4677840"/>
                                    <a:ext cx="70200" cy="42480"/>
                                  </a:xfrm>
                                  <a:custGeom>
                                    <a:avLst/>
                                    <a:gdLst/>
                                    <a:ahLst/>
                                    <a:rect l="l" t="t" r="r" b="b"/>
                                    <a:pathLst>
                                      <a:path w="29" h="11">
                                        <a:moveTo>
                                          <a:pt x="28" y="10"/>
                                        </a:moveTo>
                                        <a:lnTo>
                                          <a:pt x="25" y="6"/>
                                        </a:lnTo>
                                        <a:lnTo>
                                          <a:pt x="22" y="4"/>
                                        </a:lnTo>
                                        <a:lnTo>
                                          <a:pt x="19" y="1"/>
                                        </a:lnTo>
                                        <a:lnTo>
                                          <a:pt x="15" y="0"/>
                                        </a:lnTo>
                                        <a:lnTo>
                                          <a:pt x="9" y="0"/>
                                        </a:lnTo>
                                        <a:lnTo>
                                          <a:pt x="0" y="0"/>
                                        </a:lnTo>
                                      </a:path>
                                    </a:pathLst>
                                  </a:custGeom>
                                  <a:noFill/>
                                  <a:ln cap="rnd" w="255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915" name=""/>
                                  <p:cNvSpPr/>
                                  <p:nvPr/>
                                </p:nvSpPr>
                                <p:spPr>
                                  <a:xfrm>
                                    <a:off x="4286880" y="4574880"/>
                                    <a:ext cx="38520" cy="72720"/>
                                  </a:xfrm>
                                  <a:custGeom>
                                    <a:avLst/>
                                    <a:gdLst/>
                                    <a:ahLst/>
                                    <a:rect l="l" t="t" r="r" b="b"/>
                                    <a:pathLst>
                                      <a:path w="16" h="19">
                                        <a:moveTo>
                                          <a:pt x="15" y="18"/>
                                        </a:moveTo>
                                        <a:lnTo>
                                          <a:pt x="13" y="14"/>
                                        </a:lnTo>
                                        <a:lnTo>
                                          <a:pt x="11" y="8"/>
                                        </a:lnTo>
                                        <a:lnTo>
                                          <a:pt x="9" y="6"/>
                                        </a:lnTo>
                                        <a:lnTo>
                                          <a:pt x="4" y="2"/>
                                        </a:lnTo>
                                        <a:lnTo>
                                          <a:pt x="0" y="0"/>
                                        </a:lnTo>
                                      </a:path>
                                    </a:pathLst>
                                  </a:custGeom>
                                  <a:noFill/>
                                  <a:ln cap="rnd" w="255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3916" name=""/>
                                <p:cNvSpPr/>
                                <p:nvPr/>
                              </p:nvSpPr>
                              <p:spPr>
                                <a:xfrm>
                                  <a:off x="4292280" y="4701960"/>
                                  <a:ext cx="83160" cy="191160"/>
                                </a:xfrm>
                                <a:custGeom>
                                  <a:avLst/>
                                  <a:gdLst/>
                                  <a:ahLst/>
                                  <a:rect l="l" t="t" r="r" b="b"/>
                                  <a:pathLst>
                                    <a:path w="34" h="50">
                                      <a:moveTo>
                                        <a:pt x="20" y="0"/>
                                      </a:moveTo>
                                      <a:lnTo>
                                        <a:pt x="17" y="2"/>
                                      </a:lnTo>
                                      <a:lnTo>
                                        <a:pt x="10" y="6"/>
                                      </a:lnTo>
                                      <a:lnTo>
                                        <a:pt x="7" y="10"/>
                                      </a:lnTo>
                                      <a:lnTo>
                                        <a:pt x="5" y="12"/>
                                      </a:lnTo>
                                      <a:lnTo>
                                        <a:pt x="0" y="18"/>
                                      </a:lnTo>
                                      <a:lnTo>
                                        <a:pt x="0" y="23"/>
                                      </a:lnTo>
                                      <a:lnTo>
                                        <a:pt x="0" y="28"/>
                                      </a:lnTo>
                                      <a:lnTo>
                                        <a:pt x="2" y="32"/>
                                      </a:lnTo>
                                      <a:lnTo>
                                        <a:pt x="7" y="37"/>
                                      </a:lnTo>
                                      <a:lnTo>
                                        <a:pt x="10" y="40"/>
                                      </a:lnTo>
                                      <a:lnTo>
                                        <a:pt x="15" y="43"/>
                                      </a:lnTo>
                                      <a:lnTo>
                                        <a:pt x="18" y="45"/>
                                      </a:lnTo>
                                      <a:lnTo>
                                        <a:pt x="25" y="48"/>
                                      </a:lnTo>
                                      <a:lnTo>
                                        <a:pt x="33" y="4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7" name=""/>
                                <p:cNvSpPr/>
                                <p:nvPr/>
                              </p:nvSpPr>
                              <p:spPr>
                                <a:xfrm>
                                  <a:off x="4534920" y="4847040"/>
                                  <a:ext cx="152280" cy="184320"/>
                                </a:xfrm>
                                <a:custGeom>
                                  <a:avLst/>
                                  <a:gdLst/>
                                  <a:ahLst/>
                                  <a:rect l="l" t="t" r="r" b="b"/>
                                  <a:pathLst>
                                    <a:path w="62" h="48">
                                      <a:moveTo>
                                        <a:pt x="28" y="0"/>
                                      </a:moveTo>
                                      <a:lnTo>
                                        <a:pt x="24" y="4"/>
                                      </a:lnTo>
                                      <a:lnTo>
                                        <a:pt x="18" y="5"/>
                                      </a:lnTo>
                                      <a:lnTo>
                                        <a:pt x="12" y="9"/>
                                      </a:lnTo>
                                      <a:lnTo>
                                        <a:pt x="6" y="14"/>
                                      </a:lnTo>
                                      <a:lnTo>
                                        <a:pt x="2" y="19"/>
                                      </a:lnTo>
                                      <a:lnTo>
                                        <a:pt x="0" y="22"/>
                                      </a:lnTo>
                                      <a:lnTo>
                                        <a:pt x="0" y="30"/>
                                      </a:lnTo>
                                      <a:lnTo>
                                        <a:pt x="2" y="33"/>
                                      </a:lnTo>
                                      <a:lnTo>
                                        <a:pt x="3" y="38"/>
                                      </a:lnTo>
                                      <a:lnTo>
                                        <a:pt x="8" y="42"/>
                                      </a:lnTo>
                                      <a:lnTo>
                                        <a:pt x="12" y="43"/>
                                      </a:lnTo>
                                      <a:lnTo>
                                        <a:pt x="18" y="47"/>
                                      </a:lnTo>
                                      <a:lnTo>
                                        <a:pt x="26" y="47"/>
                                      </a:lnTo>
                                      <a:lnTo>
                                        <a:pt x="34" y="47"/>
                                      </a:lnTo>
                                      <a:lnTo>
                                        <a:pt x="41" y="46"/>
                                      </a:lnTo>
                                      <a:lnTo>
                                        <a:pt x="46" y="42"/>
                                      </a:lnTo>
                                      <a:lnTo>
                                        <a:pt x="52" y="41"/>
                                      </a:lnTo>
                                      <a:lnTo>
                                        <a:pt x="61" y="3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8" name=""/>
                                <p:cNvSpPr/>
                                <p:nvPr/>
                              </p:nvSpPr>
                              <p:spPr>
                                <a:xfrm>
                                  <a:off x="4691880" y="5042880"/>
                                  <a:ext cx="152280" cy="76320"/>
                                </a:xfrm>
                                <a:custGeom>
                                  <a:avLst/>
                                  <a:gdLst/>
                                  <a:ahLst/>
                                  <a:rect l="l" t="t" r="r" b="b"/>
                                  <a:pathLst>
                                    <a:path w="62" h="20">
                                      <a:moveTo>
                                        <a:pt x="61" y="0"/>
                                      </a:moveTo>
                                      <a:lnTo>
                                        <a:pt x="44" y="11"/>
                                      </a:lnTo>
                                      <a:lnTo>
                                        <a:pt x="34" y="17"/>
                                      </a:lnTo>
                                      <a:lnTo>
                                        <a:pt x="28" y="19"/>
                                      </a:lnTo>
                                      <a:lnTo>
                                        <a:pt x="25" y="19"/>
                                      </a:lnTo>
                                      <a:lnTo>
                                        <a:pt x="15" y="17"/>
                                      </a:lnTo>
                                      <a:lnTo>
                                        <a:pt x="6" y="15"/>
                                      </a:lnTo>
                                      <a:lnTo>
                                        <a:pt x="2" y="12"/>
                                      </a:lnTo>
                                      <a:lnTo>
                                        <a:pt x="0" y="5"/>
                                      </a:lnTo>
                                      <a:lnTo>
                                        <a:pt x="2" y="0"/>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19" name=""/>
                                <p:cNvSpPr/>
                                <p:nvPr/>
                              </p:nvSpPr>
                              <p:spPr>
                                <a:xfrm>
                                  <a:off x="4721400" y="5081040"/>
                                  <a:ext cx="223560" cy="456480"/>
                                </a:xfrm>
                                <a:custGeom>
                                  <a:avLst/>
                                  <a:gdLst/>
                                  <a:ahLst/>
                                  <a:rect l="l" t="t" r="r" b="b"/>
                                  <a:pathLst>
                                    <a:path w="91" h="119">
                                      <a:moveTo>
                                        <a:pt x="52" y="0"/>
                                      </a:moveTo>
                                      <a:lnTo>
                                        <a:pt x="60" y="0"/>
                                      </a:lnTo>
                                      <a:lnTo>
                                        <a:pt x="64" y="0"/>
                                      </a:lnTo>
                                      <a:lnTo>
                                        <a:pt x="70" y="1"/>
                                      </a:lnTo>
                                      <a:lnTo>
                                        <a:pt x="77" y="5"/>
                                      </a:lnTo>
                                      <a:lnTo>
                                        <a:pt x="80" y="10"/>
                                      </a:lnTo>
                                      <a:lnTo>
                                        <a:pt x="84" y="16"/>
                                      </a:lnTo>
                                      <a:lnTo>
                                        <a:pt x="88" y="21"/>
                                      </a:lnTo>
                                      <a:lnTo>
                                        <a:pt x="90" y="28"/>
                                      </a:lnTo>
                                      <a:lnTo>
                                        <a:pt x="90" y="34"/>
                                      </a:lnTo>
                                      <a:lnTo>
                                        <a:pt x="87" y="41"/>
                                      </a:lnTo>
                                      <a:lnTo>
                                        <a:pt x="80" y="49"/>
                                      </a:lnTo>
                                      <a:lnTo>
                                        <a:pt x="72" y="57"/>
                                      </a:lnTo>
                                      <a:lnTo>
                                        <a:pt x="69" y="61"/>
                                      </a:lnTo>
                                      <a:lnTo>
                                        <a:pt x="56" y="71"/>
                                      </a:lnTo>
                                      <a:lnTo>
                                        <a:pt x="46" y="78"/>
                                      </a:lnTo>
                                      <a:lnTo>
                                        <a:pt x="41" y="83"/>
                                      </a:lnTo>
                                      <a:lnTo>
                                        <a:pt x="34" y="90"/>
                                      </a:lnTo>
                                      <a:lnTo>
                                        <a:pt x="26" y="97"/>
                                      </a:lnTo>
                                      <a:lnTo>
                                        <a:pt x="14" y="107"/>
                                      </a:lnTo>
                                      <a:lnTo>
                                        <a:pt x="0" y="11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0" name=""/>
                                <p:cNvSpPr/>
                                <p:nvPr/>
                              </p:nvSpPr>
                              <p:spPr>
                                <a:xfrm>
                                  <a:off x="4797720" y="5150880"/>
                                  <a:ext cx="112680" cy="106920"/>
                                </a:xfrm>
                                <a:custGeom>
                                  <a:avLst/>
                                  <a:gdLst/>
                                  <a:ahLst/>
                                  <a:rect l="l" t="t" r="r" b="b"/>
                                  <a:pathLst>
                                    <a:path w="46" h="28">
                                      <a:moveTo>
                                        <a:pt x="45" y="16"/>
                                      </a:moveTo>
                                      <a:lnTo>
                                        <a:pt x="37" y="20"/>
                                      </a:lnTo>
                                      <a:lnTo>
                                        <a:pt x="31" y="23"/>
                                      </a:lnTo>
                                      <a:lnTo>
                                        <a:pt x="23" y="27"/>
                                      </a:lnTo>
                                      <a:lnTo>
                                        <a:pt x="15" y="27"/>
                                      </a:lnTo>
                                      <a:lnTo>
                                        <a:pt x="10" y="27"/>
                                      </a:lnTo>
                                      <a:lnTo>
                                        <a:pt x="3" y="23"/>
                                      </a:lnTo>
                                      <a:lnTo>
                                        <a:pt x="1" y="22"/>
                                      </a:lnTo>
                                      <a:lnTo>
                                        <a:pt x="0" y="16"/>
                                      </a:lnTo>
                                      <a:lnTo>
                                        <a:pt x="0" y="11"/>
                                      </a:lnTo>
                                      <a:lnTo>
                                        <a:pt x="1" y="6"/>
                                      </a:lnTo>
                                      <a:lnTo>
                                        <a:pt x="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1" name=""/>
                                <p:cNvSpPr/>
                                <p:nvPr/>
                              </p:nvSpPr>
                              <p:spPr>
                                <a:xfrm>
                                  <a:off x="4404960" y="4413960"/>
                                  <a:ext cx="258120" cy="307080"/>
                                </a:xfrm>
                                <a:custGeom>
                                  <a:avLst/>
                                  <a:gdLst/>
                                  <a:ahLst/>
                                  <a:rect l="l" t="t" r="r" b="b"/>
                                  <a:pathLst>
                                    <a:path w="105" h="80">
                                      <a:moveTo>
                                        <a:pt x="104" y="79"/>
                                      </a:moveTo>
                                      <a:lnTo>
                                        <a:pt x="96" y="79"/>
                                      </a:lnTo>
                                      <a:lnTo>
                                        <a:pt x="88" y="78"/>
                                      </a:lnTo>
                                      <a:lnTo>
                                        <a:pt x="83" y="75"/>
                                      </a:lnTo>
                                      <a:lnTo>
                                        <a:pt x="75" y="74"/>
                                      </a:lnTo>
                                      <a:lnTo>
                                        <a:pt x="65" y="70"/>
                                      </a:lnTo>
                                      <a:lnTo>
                                        <a:pt x="58" y="67"/>
                                      </a:lnTo>
                                      <a:lnTo>
                                        <a:pt x="50" y="63"/>
                                      </a:lnTo>
                                      <a:lnTo>
                                        <a:pt x="47" y="57"/>
                                      </a:lnTo>
                                      <a:lnTo>
                                        <a:pt x="42" y="51"/>
                                      </a:lnTo>
                                      <a:lnTo>
                                        <a:pt x="38" y="46"/>
                                      </a:lnTo>
                                      <a:lnTo>
                                        <a:pt x="37" y="39"/>
                                      </a:lnTo>
                                      <a:lnTo>
                                        <a:pt x="32" y="33"/>
                                      </a:lnTo>
                                      <a:lnTo>
                                        <a:pt x="27" y="29"/>
                                      </a:lnTo>
                                      <a:lnTo>
                                        <a:pt x="22" y="26"/>
                                      </a:lnTo>
                                      <a:lnTo>
                                        <a:pt x="19" y="18"/>
                                      </a:lnTo>
                                      <a:lnTo>
                                        <a:pt x="15" y="12"/>
                                      </a:lnTo>
                                      <a:lnTo>
                                        <a:pt x="10" y="2"/>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2" name=""/>
                                <p:cNvSpPr/>
                                <p:nvPr/>
                              </p:nvSpPr>
                              <p:spPr>
                                <a:xfrm>
                                  <a:off x="5248800" y="4966200"/>
                                  <a:ext cx="51480" cy="345240"/>
                                </a:xfrm>
                                <a:custGeom>
                                  <a:avLst/>
                                  <a:gdLst/>
                                  <a:ahLst/>
                                  <a:rect l="l" t="t" r="r" b="b"/>
                                  <a:pathLst>
                                    <a:path w="21" h="90">
                                      <a:moveTo>
                                        <a:pt x="0" y="0"/>
                                      </a:moveTo>
                                      <a:lnTo>
                                        <a:pt x="8" y="10"/>
                                      </a:lnTo>
                                      <a:lnTo>
                                        <a:pt x="12" y="16"/>
                                      </a:lnTo>
                                      <a:lnTo>
                                        <a:pt x="18" y="30"/>
                                      </a:lnTo>
                                      <a:lnTo>
                                        <a:pt x="20" y="43"/>
                                      </a:lnTo>
                                      <a:lnTo>
                                        <a:pt x="20" y="55"/>
                                      </a:lnTo>
                                      <a:lnTo>
                                        <a:pt x="18" y="63"/>
                                      </a:lnTo>
                                      <a:lnTo>
                                        <a:pt x="14" y="73"/>
                                      </a:lnTo>
                                      <a:lnTo>
                                        <a:pt x="10" y="80"/>
                                      </a:lnTo>
                                      <a:lnTo>
                                        <a:pt x="2" y="8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3" name=""/>
                                <p:cNvSpPr/>
                                <p:nvPr/>
                              </p:nvSpPr>
                              <p:spPr>
                                <a:xfrm>
                                  <a:off x="5305680" y="5131440"/>
                                  <a:ext cx="53640" cy="187920"/>
                                </a:xfrm>
                                <a:custGeom>
                                  <a:avLst/>
                                  <a:gdLst/>
                                  <a:ahLst/>
                                  <a:rect l="l" t="t" r="r" b="b"/>
                                  <a:pathLst>
                                    <a:path w="22" h="49">
                                      <a:moveTo>
                                        <a:pt x="20" y="0"/>
                                      </a:moveTo>
                                      <a:lnTo>
                                        <a:pt x="21" y="6"/>
                                      </a:lnTo>
                                      <a:lnTo>
                                        <a:pt x="21" y="12"/>
                                      </a:lnTo>
                                      <a:lnTo>
                                        <a:pt x="20" y="20"/>
                                      </a:lnTo>
                                      <a:lnTo>
                                        <a:pt x="18" y="28"/>
                                      </a:lnTo>
                                      <a:lnTo>
                                        <a:pt x="13" y="34"/>
                                      </a:lnTo>
                                      <a:lnTo>
                                        <a:pt x="8" y="41"/>
                                      </a:lnTo>
                                      <a:lnTo>
                                        <a:pt x="0"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4" name=""/>
                                <p:cNvSpPr/>
                                <p:nvPr/>
                              </p:nvSpPr>
                              <p:spPr>
                                <a:xfrm>
                                  <a:off x="5096880" y="4367880"/>
                                  <a:ext cx="142200" cy="353160"/>
                                </a:xfrm>
                                <a:custGeom>
                                  <a:avLst/>
                                  <a:gdLst/>
                                  <a:ahLst/>
                                  <a:rect l="l" t="t" r="r" b="b"/>
                                  <a:pathLst>
                                    <a:path w="58" h="92">
                                      <a:moveTo>
                                        <a:pt x="0" y="0"/>
                                      </a:moveTo>
                                      <a:lnTo>
                                        <a:pt x="10" y="10"/>
                                      </a:lnTo>
                                      <a:lnTo>
                                        <a:pt x="18" y="17"/>
                                      </a:lnTo>
                                      <a:lnTo>
                                        <a:pt x="26" y="22"/>
                                      </a:lnTo>
                                      <a:lnTo>
                                        <a:pt x="31" y="27"/>
                                      </a:lnTo>
                                      <a:lnTo>
                                        <a:pt x="38" y="30"/>
                                      </a:lnTo>
                                      <a:lnTo>
                                        <a:pt x="44" y="38"/>
                                      </a:lnTo>
                                      <a:lnTo>
                                        <a:pt x="49" y="42"/>
                                      </a:lnTo>
                                      <a:lnTo>
                                        <a:pt x="54" y="49"/>
                                      </a:lnTo>
                                      <a:lnTo>
                                        <a:pt x="56" y="55"/>
                                      </a:lnTo>
                                      <a:lnTo>
                                        <a:pt x="57" y="62"/>
                                      </a:lnTo>
                                      <a:lnTo>
                                        <a:pt x="57" y="73"/>
                                      </a:lnTo>
                                      <a:lnTo>
                                        <a:pt x="57" y="9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5" name=""/>
                              <p:cNvSpPr/>
                              <p:nvPr/>
                            </p:nvSpPr>
                            <p:spPr>
                              <a:xfrm>
                                <a:off x="3990600" y="3823200"/>
                                <a:ext cx="156960" cy="103320"/>
                              </a:xfrm>
                              <a:custGeom>
                                <a:avLst/>
                                <a:gdLst/>
                                <a:ahLst/>
                                <a:rect l="l" t="t" r="r" b="b"/>
                                <a:pathLst>
                                  <a:path w="64" h="27">
                                    <a:moveTo>
                                      <a:pt x="63" y="14"/>
                                    </a:moveTo>
                                    <a:lnTo>
                                      <a:pt x="63" y="18"/>
                                    </a:lnTo>
                                    <a:lnTo>
                                      <a:pt x="59" y="24"/>
                                    </a:lnTo>
                                    <a:lnTo>
                                      <a:pt x="55" y="25"/>
                                    </a:lnTo>
                                    <a:lnTo>
                                      <a:pt x="51" y="26"/>
                                    </a:lnTo>
                                    <a:lnTo>
                                      <a:pt x="41" y="25"/>
                                    </a:lnTo>
                                    <a:lnTo>
                                      <a:pt x="35" y="24"/>
                                    </a:lnTo>
                                    <a:lnTo>
                                      <a:pt x="25" y="20"/>
                                    </a:lnTo>
                                    <a:lnTo>
                                      <a:pt x="18" y="14"/>
                                    </a:lnTo>
                                    <a:lnTo>
                                      <a:pt x="12" y="12"/>
                                    </a:lnTo>
                                    <a:lnTo>
                                      <a:pt x="7" y="6"/>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26" name=""/>
                          <p:cNvSpPr/>
                          <p:nvPr/>
                        </p:nvSpPr>
                        <p:spPr>
                          <a:xfrm>
                            <a:off x="4874760" y="4990320"/>
                            <a:ext cx="186480" cy="42480"/>
                          </a:xfrm>
                          <a:custGeom>
                            <a:avLst/>
                            <a:gdLst/>
                            <a:ahLst/>
                            <a:rect l="l" t="t" r="r" b="b"/>
                            <a:pathLst>
                              <a:path w="76" h="11">
                                <a:moveTo>
                                  <a:pt x="75" y="4"/>
                                </a:moveTo>
                                <a:lnTo>
                                  <a:pt x="64" y="6"/>
                                </a:lnTo>
                                <a:lnTo>
                                  <a:pt x="53" y="9"/>
                                </a:lnTo>
                                <a:lnTo>
                                  <a:pt x="47" y="9"/>
                                </a:lnTo>
                                <a:lnTo>
                                  <a:pt x="39" y="10"/>
                                </a:lnTo>
                                <a:lnTo>
                                  <a:pt x="28" y="10"/>
                                </a:lnTo>
                                <a:lnTo>
                                  <a:pt x="23" y="10"/>
                                </a:lnTo>
                                <a:lnTo>
                                  <a:pt x="18" y="9"/>
                                </a:lnTo>
                                <a:lnTo>
                                  <a:pt x="13" y="6"/>
                                </a:lnTo>
                                <a:lnTo>
                                  <a:pt x="7" y="4"/>
                                </a:lnTo>
                                <a:lnTo>
                                  <a:pt x="0" y="0"/>
                                </a:lnTo>
                              </a:path>
                            </a:pathLst>
                          </a:custGeom>
                          <a:noFill/>
                          <a:ln cap="rnd" w="255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grpSp>
                <p:grpSp>
                  <p:nvGrpSpPr>
                    <p:cNvPr id="3927" name=""/>
                    <p:cNvGrpSpPr/>
                    <p:nvPr/>
                  </p:nvGrpSpPr>
                  <p:grpSpPr>
                    <a:xfrm>
                      <a:off x="5330520" y="4465080"/>
                      <a:ext cx="704520" cy="1384200"/>
                      <a:chOff x="5330520" y="4465080"/>
                      <a:chExt cx="704520" cy="1384200"/>
                    </a:xfrm>
                  </p:grpSpPr>
                  <p:sp>
                    <p:nvSpPr>
                      <p:cNvPr id="3928" name=""/>
                      <p:cNvSpPr/>
                      <p:nvPr/>
                    </p:nvSpPr>
                    <p:spPr>
                      <a:xfrm>
                        <a:off x="5330520" y="4496400"/>
                        <a:ext cx="345600" cy="1121760"/>
                      </a:xfrm>
                      <a:custGeom>
                        <a:avLst/>
                        <a:gdLst/>
                        <a:ahLst/>
                        <a:rect l="l" t="t" r="r" b="b"/>
                        <a:pathLst>
                          <a:path w="141" h="292">
                            <a:moveTo>
                              <a:pt x="138" y="4"/>
                            </a:moveTo>
                            <a:lnTo>
                              <a:pt x="125" y="7"/>
                            </a:lnTo>
                            <a:lnTo>
                              <a:pt x="39" y="0"/>
                            </a:lnTo>
                            <a:lnTo>
                              <a:pt x="43" y="28"/>
                            </a:lnTo>
                            <a:lnTo>
                              <a:pt x="47" y="52"/>
                            </a:lnTo>
                            <a:lnTo>
                              <a:pt x="47" y="87"/>
                            </a:lnTo>
                            <a:lnTo>
                              <a:pt x="45" y="121"/>
                            </a:lnTo>
                            <a:lnTo>
                              <a:pt x="43" y="140"/>
                            </a:lnTo>
                            <a:lnTo>
                              <a:pt x="37" y="176"/>
                            </a:lnTo>
                            <a:lnTo>
                              <a:pt x="32" y="200"/>
                            </a:lnTo>
                            <a:lnTo>
                              <a:pt x="27" y="216"/>
                            </a:lnTo>
                            <a:lnTo>
                              <a:pt x="20" y="232"/>
                            </a:lnTo>
                            <a:lnTo>
                              <a:pt x="11" y="252"/>
                            </a:lnTo>
                            <a:lnTo>
                              <a:pt x="5" y="263"/>
                            </a:lnTo>
                            <a:lnTo>
                              <a:pt x="0" y="269"/>
                            </a:lnTo>
                            <a:lnTo>
                              <a:pt x="70" y="291"/>
                            </a:lnTo>
                            <a:lnTo>
                              <a:pt x="109" y="204"/>
                            </a:lnTo>
                            <a:lnTo>
                              <a:pt x="134" y="118"/>
                            </a:lnTo>
                            <a:lnTo>
                              <a:pt x="140" y="51"/>
                            </a:lnTo>
                            <a:lnTo>
                              <a:pt x="138"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
                      <p:cNvSpPr/>
                      <p:nvPr/>
                    </p:nvSpPr>
                    <p:spPr>
                      <a:xfrm>
                        <a:off x="5409000" y="4465080"/>
                        <a:ext cx="626040" cy="1384200"/>
                      </a:xfrm>
                      <a:custGeom>
                        <a:avLst/>
                        <a:gdLst/>
                        <a:ahLst/>
                        <a:rect l="l" t="t" r="r" b="b"/>
                        <a:pathLst>
                          <a:path w="255" h="360">
                            <a:moveTo>
                              <a:pt x="254" y="0"/>
                            </a:moveTo>
                            <a:lnTo>
                              <a:pt x="254" y="359"/>
                            </a:lnTo>
                            <a:lnTo>
                              <a:pt x="0" y="319"/>
                            </a:lnTo>
                            <a:lnTo>
                              <a:pt x="14" y="300"/>
                            </a:lnTo>
                            <a:lnTo>
                              <a:pt x="35" y="263"/>
                            </a:lnTo>
                            <a:lnTo>
                              <a:pt x="45" y="242"/>
                            </a:lnTo>
                            <a:lnTo>
                              <a:pt x="51" y="234"/>
                            </a:lnTo>
                            <a:lnTo>
                              <a:pt x="56" y="216"/>
                            </a:lnTo>
                            <a:lnTo>
                              <a:pt x="62" y="201"/>
                            </a:lnTo>
                            <a:lnTo>
                              <a:pt x="68" y="184"/>
                            </a:lnTo>
                            <a:lnTo>
                              <a:pt x="74" y="167"/>
                            </a:lnTo>
                            <a:lnTo>
                              <a:pt x="81" y="139"/>
                            </a:lnTo>
                            <a:lnTo>
                              <a:pt x="86" y="115"/>
                            </a:lnTo>
                            <a:lnTo>
                              <a:pt x="89" y="84"/>
                            </a:lnTo>
                            <a:lnTo>
                              <a:pt x="91" y="60"/>
                            </a:lnTo>
                            <a:lnTo>
                              <a:pt x="91" y="32"/>
                            </a:lnTo>
                            <a:lnTo>
                              <a:pt x="91" y="11"/>
                            </a:lnTo>
                            <a:lnTo>
                              <a:pt x="25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930" name=""/>
                <p:cNvGrpSpPr/>
                <p:nvPr/>
              </p:nvGrpSpPr>
              <p:grpSpPr>
                <a:xfrm>
                  <a:off x="6262920" y="1919160"/>
                  <a:ext cx="2291400" cy="3399840"/>
                  <a:chOff x="6262920" y="1919160"/>
                  <a:chExt cx="2291400" cy="3399840"/>
                </a:xfrm>
              </p:grpSpPr>
              <p:grpSp>
                <p:nvGrpSpPr>
                  <p:cNvPr id="3931" name=""/>
                  <p:cNvGrpSpPr/>
                  <p:nvPr/>
                </p:nvGrpSpPr>
                <p:grpSpPr>
                  <a:xfrm>
                    <a:off x="6421320" y="1919160"/>
                    <a:ext cx="2133000" cy="1541880"/>
                    <a:chOff x="6421320" y="1919160"/>
                    <a:chExt cx="2133000" cy="1541880"/>
                  </a:xfrm>
                </p:grpSpPr>
                <p:sp>
                  <p:nvSpPr>
                    <p:cNvPr id="3932" name=""/>
                    <p:cNvSpPr/>
                    <p:nvPr/>
                  </p:nvSpPr>
                  <p:spPr>
                    <a:xfrm>
                      <a:off x="6421320" y="1919160"/>
                      <a:ext cx="2115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c0128"/>
                          </a:solidFill>
                          <a:latin typeface="Arial"/>
                        </a:rPr>
                        <a:t>Engenharia</a:t>
                      </a:r>
                      <a:endParaRPr b="0" lang="en-US" sz="2800" spc="-1" strike="noStrike">
                        <a:solidFill>
                          <a:srgbClr val="000000"/>
                        </a:solidFill>
                        <a:latin typeface="Arial"/>
                      </a:endParaRPr>
                    </a:p>
                  </p:txBody>
                </p:sp>
                <p:sp>
                  <p:nvSpPr>
                    <p:cNvPr id="3933" name=""/>
                    <p:cNvSpPr/>
                    <p:nvPr/>
                  </p:nvSpPr>
                  <p:spPr>
                    <a:xfrm>
                      <a:off x="6477120" y="2945520"/>
                      <a:ext cx="2077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c0128"/>
                          </a:solidFill>
                          <a:latin typeface="Arial"/>
                        </a:rPr>
                        <a:t>Simultânea</a:t>
                      </a:r>
                      <a:endParaRPr b="0" lang="en-US" sz="2800" spc="-1" strike="noStrike">
                        <a:solidFill>
                          <a:srgbClr val="000000"/>
                        </a:solidFill>
                        <a:latin typeface="Arial"/>
                      </a:endParaRPr>
                    </a:p>
                  </p:txBody>
                </p:sp>
              </p:grpSp>
              <p:grpSp>
                <p:nvGrpSpPr>
                  <p:cNvPr id="3934" name=""/>
                  <p:cNvGrpSpPr/>
                  <p:nvPr/>
                </p:nvGrpSpPr>
                <p:grpSpPr>
                  <a:xfrm>
                    <a:off x="6262920" y="4435200"/>
                    <a:ext cx="2201760" cy="883800"/>
                    <a:chOff x="6262920" y="4435200"/>
                    <a:chExt cx="2201760" cy="883800"/>
                  </a:xfrm>
                </p:grpSpPr>
                <p:sp>
                  <p:nvSpPr>
                    <p:cNvPr id="3935" name=""/>
                    <p:cNvSpPr/>
                    <p:nvPr/>
                  </p:nvSpPr>
                  <p:spPr>
                    <a:xfrm flipH="1">
                      <a:off x="6451560" y="4435200"/>
                      <a:ext cx="2013120" cy="741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6" name=""/>
                    <p:cNvSpPr/>
                    <p:nvPr/>
                  </p:nvSpPr>
                  <p:spPr>
                    <a:xfrm>
                      <a:off x="6262920" y="4969440"/>
                      <a:ext cx="471240" cy="349560"/>
                    </a:xfrm>
                    <a:custGeom>
                      <a:avLst/>
                      <a:gdLst/>
                      <a:ahLst/>
                      <a:rect l="l" t="t" r="r" b="b"/>
                      <a:pathLst>
                        <a:path w="192" h="91">
                          <a:moveTo>
                            <a:pt x="0" y="90"/>
                          </a:moveTo>
                          <a:lnTo>
                            <a:pt x="191" y="86"/>
                          </a:lnTo>
                          <a:lnTo>
                            <a:pt x="157" y="0"/>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3937" name=""/>
            <p:cNvSpPr/>
            <p:nvPr/>
          </p:nvSpPr>
          <p:spPr>
            <a:xfrm>
              <a:off x="661320" y="1346040"/>
              <a:ext cx="1364040" cy="4870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da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mudanças</a:t>
              </a:r>
              <a:endParaRPr b="0" lang="en-US" sz="1600" spc="-1" strike="noStrike">
                <a:solidFill>
                  <a:srgbClr val="000000"/>
                </a:solidFill>
                <a:latin typeface="Arial"/>
              </a:endParaRPr>
            </a:p>
          </p:txBody>
        </p:sp>
        <p:sp>
          <p:nvSpPr>
            <p:cNvPr id="3938" name=""/>
            <p:cNvSpPr/>
            <p:nvPr/>
          </p:nvSpPr>
          <p:spPr>
            <a:xfrm>
              <a:off x="7738560" y="6010560"/>
              <a:ext cx="7758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9" name=""/>
          <p:cNvSpPr/>
          <p:nvPr/>
        </p:nvSpPr>
        <p:spPr>
          <a:xfrm>
            <a:off x="123840" y="1979640"/>
            <a:ext cx="8834400" cy="4732200"/>
          </a:xfrm>
          <a:custGeom>
            <a:avLst/>
            <a:gdLst/>
            <a:ahLst/>
            <a:rect l="l" t="t" r="r" b="b"/>
            <a:pathLst>
              <a:path w="5565" h="2981">
                <a:moveTo>
                  <a:pt x="1477" y="0"/>
                </a:moveTo>
                <a:lnTo>
                  <a:pt x="3747" y="11"/>
                </a:lnTo>
                <a:lnTo>
                  <a:pt x="4351" y="291"/>
                </a:lnTo>
                <a:lnTo>
                  <a:pt x="5565" y="291"/>
                </a:lnTo>
                <a:lnTo>
                  <a:pt x="5565" y="2970"/>
                </a:lnTo>
                <a:lnTo>
                  <a:pt x="6" y="2981"/>
                </a:lnTo>
                <a:lnTo>
                  <a:pt x="0" y="291"/>
                </a:lnTo>
                <a:lnTo>
                  <a:pt x="1292" y="291"/>
                </a:lnTo>
                <a:lnTo>
                  <a:pt x="1477" y="0"/>
                </a:lnTo>
                <a:close/>
              </a:path>
            </a:pathLst>
          </a:custGeom>
          <a:solidFill>
            <a:srgbClr val="ffff00"/>
          </a:solidFill>
          <a:ln w="9360">
            <a:solidFill>
              <a:srgbClr val="00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394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Visão Geral da Macro-Fase Pré-Desenvolvimento</a:t>
            </a:r>
            <a:endParaRPr b="0" lang="en-US" sz="2400" spc="-1" strike="noStrike">
              <a:solidFill>
                <a:srgbClr val="000096"/>
              </a:solidFill>
              <a:latin typeface="Arial"/>
            </a:endParaRPr>
          </a:p>
        </p:txBody>
      </p:sp>
      <p:grpSp>
        <p:nvGrpSpPr>
          <p:cNvPr id="3941" name=""/>
          <p:cNvGrpSpPr/>
          <p:nvPr/>
        </p:nvGrpSpPr>
        <p:grpSpPr>
          <a:xfrm>
            <a:off x="2239920" y="1835280"/>
            <a:ext cx="4146480" cy="298440"/>
            <a:chOff x="2239920" y="1835280"/>
            <a:chExt cx="4146480" cy="298440"/>
          </a:xfrm>
        </p:grpSpPr>
        <p:sp>
          <p:nvSpPr>
            <p:cNvPr id="3942" name=""/>
            <p:cNvSpPr/>
            <p:nvPr/>
          </p:nvSpPr>
          <p:spPr>
            <a:xfrm>
              <a:off x="2239920" y="1835280"/>
              <a:ext cx="4146480" cy="298440"/>
            </a:xfrm>
            <a:custGeom>
              <a:avLst/>
              <a:gdLst>
                <a:gd name="textAreaLeft" fmla="*/ 0 w 4146480"/>
                <a:gd name="textAreaRight" fmla="*/ 4146840 w 4146480"/>
                <a:gd name="textAreaTop" fmla="*/ 0 h 298440"/>
                <a:gd name="textAreaBottom" fmla="*/ 298800 h 298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3" name=""/>
            <p:cNvSpPr/>
            <p:nvPr/>
          </p:nvSpPr>
          <p:spPr>
            <a:xfrm>
              <a:off x="3293640" y="18478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944" name=""/>
          <p:cNvGrpSpPr/>
          <p:nvPr/>
        </p:nvGrpSpPr>
        <p:grpSpPr>
          <a:xfrm>
            <a:off x="6364440" y="1836720"/>
            <a:ext cx="2652480" cy="298440"/>
            <a:chOff x="6364440" y="1836720"/>
            <a:chExt cx="2652480" cy="298440"/>
          </a:xfrm>
        </p:grpSpPr>
        <p:sp>
          <p:nvSpPr>
            <p:cNvPr id="3945" name=""/>
            <p:cNvSpPr/>
            <p:nvPr/>
          </p:nvSpPr>
          <p:spPr>
            <a:xfrm>
              <a:off x="6364440" y="18367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6" name=""/>
            <p:cNvSpPr/>
            <p:nvPr/>
          </p:nvSpPr>
          <p:spPr>
            <a:xfrm>
              <a:off x="7431480" y="18730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3947" name=""/>
          <p:cNvSpPr/>
          <p:nvPr/>
        </p:nvSpPr>
        <p:spPr>
          <a:xfrm>
            <a:off x="8223120" y="19209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3948" name=""/>
          <p:cNvCxnSpPr>
            <a:stCxn id="3945" idx="0"/>
            <a:endCxn id="3949" idx="0"/>
          </p:cNvCxnSpPr>
          <p:nvPr/>
        </p:nvCxnSpPr>
        <p:spPr>
          <a:xfrm rot="5400000">
            <a:off x="4402440" y="-1389960"/>
            <a:ext cx="2160" cy="6455520"/>
          </a:xfrm>
          <a:prstGeom prst="bentConnector3">
            <a:avLst>
              <a:gd name="adj1" fmla="val -14400000"/>
            </a:avLst>
          </a:prstGeom>
          <a:ln w="19080">
            <a:solidFill>
              <a:srgbClr val="000000"/>
            </a:solidFill>
            <a:miter/>
            <a:tailEnd len="med" type="triangle" w="med"/>
          </a:ln>
        </p:spPr>
      </p:cxnSp>
      <p:grpSp>
        <p:nvGrpSpPr>
          <p:cNvPr id="3950" name=""/>
          <p:cNvGrpSpPr/>
          <p:nvPr/>
        </p:nvGrpSpPr>
        <p:grpSpPr>
          <a:xfrm>
            <a:off x="171360" y="1836720"/>
            <a:ext cx="2124000" cy="297000"/>
            <a:chOff x="171360" y="1836720"/>
            <a:chExt cx="2124000" cy="297000"/>
          </a:xfrm>
        </p:grpSpPr>
        <p:sp>
          <p:nvSpPr>
            <p:cNvPr id="3949" name=""/>
            <p:cNvSpPr/>
            <p:nvPr/>
          </p:nvSpPr>
          <p:spPr>
            <a:xfrm>
              <a:off x="171360" y="18367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3951" name=""/>
            <p:cNvSpPr/>
            <p:nvPr/>
          </p:nvSpPr>
          <p:spPr>
            <a:xfrm>
              <a:off x="999000" y="18730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3952" name=""/>
          <p:cNvSpPr/>
          <p:nvPr/>
        </p:nvSpPr>
        <p:spPr>
          <a:xfrm>
            <a:off x="1500120" y="10652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3" name=""/>
          <p:cNvSpPr/>
          <p:nvPr/>
        </p:nvSpPr>
        <p:spPr>
          <a:xfrm>
            <a:off x="304920" y="2463840"/>
            <a:ext cx="8335800" cy="452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mportância.</a:t>
            </a:r>
            <a:r>
              <a:rPr b="0" lang="pt-BR" sz="2800" spc="-1" strike="noStrike">
                <a:solidFill>
                  <a:srgbClr val="000000"/>
                </a:solidFill>
                <a:latin typeface="Arial"/>
              </a:rPr>
              <a:t>   É nesta fase que se realiza a concepção do produto e, portanto, é fundamental para o seu desempenho técnico e quanto ao atendimento aos requisitos do mercado. Nesta fase também são definidos os processos de fabricação e montagem, influenciando sobremaneira no custo do produto final.</a:t>
            </a:r>
            <a:endParaRPr b="0" lang="en-US" sz="2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4" name=""/>
          <p:cNvSpPr/>
          <p:nvPr/>
        </p:nvSpPr>
        <p:spPr>
          <a:xfrm>
            <a:off x="84240" y="1955880"/>
            <a:ext cx="8864640" cy="4808520"/>
          </a:xfrm>
          <a:custGeom>
            <a:avLst/>
            <a:gdLst/>
            <a:ahLst/>
            <a:rect l="l" t="t" r="r" b="b"/>
            <a:pathLst>
              <a:path w="5638" h="3029">
                <a:moveTo>
                  <a:pt x="4038" y="91"/>
                </a:moveTo>
                <a:lnTo>
                  <a:pt x="5520" y="0"/>
                </a:lnTo>
                <a:lnTo>
                  <a:pt x="5632" y="277"/>
                </a:lnTo>
                <a:lnTo>
                  <a:pt x="5638" y="3029"/>
                </a:lnTo>
                <a:lnTo>
                  <a:pt x="6" y="3024"/>
                </a:lnTo>
                <a:lnTo>
                  <a:pt x="0" y="277"/>
                </a:lnTo>
                <a:lnTo>
                  <a:pt x="3942" y="272"/>
                </a:lnTo>
                <a:lnTo>
                  <a:pt x="4038" y="91"/>
                </a:lnTo>
                <a:close/>
              </a:path>
            </a:pathLst>
          </a:custGeom>
          <a:solidFill>
            <a:srgbClr val="ffcc99"/>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95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Visão Geral da Macro-Fase Pré-Desenvolvimento</a:t>
            </a:r>
            <a:endParaRPr b="0" lang="en-US" sz="2400" spc="-1" strike="noStrike">
              <a:solidFill>
                <a:srgbClr val="000096"/>
              </a:solidFill>
              <a:latin typeface="Arial"/>
            </a:endParaRPr>
          </a:p>
        </p:txBody>
      </p:sp>
      <p:grpSp>
        <p:nvGrpSpPr>
          <p:cNvPr id="3956" name=""/>
          <p:cNvGrpSpPr/>
          <p:nvPr/>
        </p:nvGrpSpPr>
        <p:grpSpPr>
          <a:xfrm>
            <a:off x="2239920" y="1835280"/>
            <a:ext cx="4146480" cy="298440"/>
            <a:chOff x="2239920" y="1835280"/>
            <a:chExt cx="4146480" cy="298440"/>
          </a:xfrm>
        </p:grpSpPr>
        <p:sp>
          <p:nvSpPr>
            <p:cNvPr id="3957" name=""/>
            <p:cNvSpPr/>
            <p:nvPr/>
          </p:nvSpPr>
          <p:spPr>
            <a:xfrm>
              <a:off x="2239920" y="1835280"/>
              <a:ext cx="4146480" cy="298440"/>
            </a:xfrm>
            <a:custGeom>
              <a:avLst/>
              <a:gdLst>
                <a:gd name="textAreaLeft" fmla="*/ 0 w 4146480"/>
                <a:gd name="textAreaRight" fmla="*/ 4146840 w 4146480"/>
                <a:gd name="textAreaTop" fmla="*/ 0 h 298440"/>
                <a:gd name="textAreaBottom" fmla="*/ 298800 h 298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8" name=""/>
            <p:cNvSpPr/>
            <p:nvPr/>
          </p:nvSpPr>
          <p:spPr>
            <a:xfrm>
              <a:off x="3293640" y="18478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959" name=""/>
          <p:cNvGrpSpPr/>
          <p:nvPr/>
        </p:nvGrpSpPr>
        <p:grpSpPr>
          <a:xfrm>
            <a:off x="6364440" y="1836720"/>
            <a:ext cx="2652480" cy="298440"/>
            <a:chOff x="6364440" y="1836720"/>
            <a:chExt cx="2652480" cy="298440"/>
          </a:xfrm>
        </p:grpSpPr>
        <p:sp>
          <p:nvSpPr>
            <p:cNvPr id="3960" name=""/>
            <p:cNvSpPr/>
            <p:nvPr/>
          </p:nvSpPr>
          <p:spPr>
            <a:xfrm>
              <a:off x="6364440" y="18367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1" name=""/>
            <p:cNvSpPr/>
            <p:nvPr/>
          </p:nvSpPr>
          <p:spPr>
            <a:xfrm>
              <a:off x="7431480" y="18730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3962" name=""/>
          <p:cNvSpPr/>
          <p:nvPr/>
        </p:nvSpPr>
        <p:spPr>
          <a:xfrm>
            <a:off x="8223120" y="19209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3963" name=""/>
          <p:cNvCxnSpPr>
            <a:stCxn id="3960" idx="0"/>
            <a:endCxn id="3964" idx="0"/>
          </p:cNvCxnSpPr>
          <p:nvPr/>
        </p:nvCxnSpPr>
        <p:spPr>
          <a:xfrm rot="5400000">
            <a:off x="4402440" y="-1389960"/>
            <a:ext cx="2160" cy="6455520"/>
          </a:xfrm>
          <a:prstGeom prst="bentConnector3">
            <a:avLst>
              <a:gd name="adj1" fmla="val -14400000"/>
            </a:avLst>
          </a:prstGeom>
          <a:ln w="19080">
            <a:solidFill>
              <a:srgbClr val="000000"/>
            </a:solidFill>
            <a:miter/>
            <a:tailEnd len="med" type="triangle" w="med"/>
          </a:ln>
        </p:spPr>
      </p:cxnSp>
      <p:grpSp>
        <p:nvGrpSpPr>
          <p:cNvPr id="3965" name=""/>
          <p:cNvGrpSpPr/>
          <p:nvPr/>
        </p:nvGrpSpPr>
        <p:grpSpPr>
          <a:xfrm>
            <a:off x="171360" y="1836720"/>
            <a:ext cx="2124000" cy="297000"/>
            <a:chOff x="171360" y="1836720"/>
            <a:chExt cx="2124000" cy="297000"/>
          </a:xfrm>
        </p:grpSpPr>
        <p:sp>
          <p:nvSpPr>
            <p:cNvPr id="3964" name=""/>
            <p:cNvSpPr/>
            <p:nvPr/>
          </p:nvSpPr>
          <p:spPr>
            <a:xfrm>
              <a:off x="171360" y="18367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3966" name=""/>
            <p:cNvSpPr/>
            <p:nvPr/>
          </p:nvSpPr>
          <p:spPr>
            <a:xfrm>
              <a:off x="999000" y="18730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3967" name=""/>
          <p:cNvSpPr/>
          <p:nvPr/>
        </p:nvSpPr>
        <p:spPr>
          <a:xfrm>
            <a:off x="1500120" y="10652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8" name=""/>
          <p:cNvSpPr/>
          <p:nvPr/>
        </p:nvSpPr>
        <p:spPr>
          <a:xfrm>
            <a:off x="330120" y="2482920"/>
            <a:ext cx="8336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efinição. </a:t>
            </a:r>
            <a:r>
              <a:rPr b="0" lang="en-US" sz="2400" spc="-1" strike="noStrike">
                <a:solidFill>
                  <a:srgbClr val="000000"/>
                </a:solidFill>
                <a:latin typeface="Arial"/>
              </a:rPr>
              <a:t>A macro-fase de desenvolvimento compreende a retirada sistemática do produto do mercado e, finalmente, uma avaliação de todo o ciclo de vida do produto, parar que as experiências contrapostas ao que foi planejado anteriormente sirvam de referência a desenvolvimento futu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í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duto Lança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duto Retirado do Mer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grpSp>
        <p:nvGrpSpPr>
          <p:cNvPr id="3970" name=""/>
          <p:cNvGrpSpPr/>
          <p:nvPr/>
        </p:nvGrpSpPr>
        <p:grpSpPr>
          <a:xfrm>
            <a:off x="433440" y="1708200"/>
            <a:ext cx="8277120" cy="1817640"/>
            <a:chOff x="433440" y="1708200"/>
            <a:chExt cx="8277120" cy="1817640"/>
          </a:xfrm>
        </p:grpSpPr>
        <p:sp>
          <p:nvSpPr>
            <p:cNvPr id="3971" name=""/>
            <p:cNvSpPr/>
            <p:nvPr/>
          </p:nvSpPr>
          <p:spPr>
            <a:xfrm>
              <a:off x="433440" y="2522520"/>
              <a:ext cx="8277120" cy="1003320"/>
            </a:xfrm>
            <a:prstGeom prst="roundRect">
              <a:avLst>
                <a:gd name="adj" fmla="val 16667"/>
              </a:avLst>
            </a:prstGeom>
            <a:solidFill>
              <a:srgbClr val="ffff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3972" name=""/>
            <p:cNvGrpSpPr/>
            <p:nvPr/>
          </p:nvGrpSpPr>
          <p:grpSpPr>
            <a:xfrm>
              <a:off x="660600" y="2892600"/>
              <a:ext cx="7789320" cy="142200"/>
              <a:chOff x="660600" y="2892600"/>
              <a:chExt cx="7789320" cy="142200"/>
            </a:xfrm>
          </p:grpSpPr>
          <p:sp>
            <p:nvSpPr>
              <p:cNvPr id="3973" name=""/>
              <p:cNvSpPr/>
              <p:nvPr/>
            </p:nvSpPr>
            <p:spPr>
              <a:xfrm>
                <a:off x="660600" y="2894400"/>
                <a:ext cx="215280" cy="140400"/>
              </a:xfrm>
              <a:custGeom>
                <a:avLst/>
                <a:gdLst>
                  <a:gd name="textAreaLeft" fmla="*/ 0 w 215280"/>
                  <a:gd name="textAreaRight" fmla="*/ 215640 w 215280"/>
                  <a:gd name="textAreaTop" fmla="*/ 0 h 140400"/>
                  <a:gd name="textAreaBottom" fmla="*/ 140760 h 140400"/>
                </a:gdLst>
                <a:ahLst/>
                <a:rect l="textAreaLeft" t="textAreaTop" r="textAreaRight" b="textAreaBottom"/>
                <a:pathLst>
                  <a:path w="21600" h="21600">
                    <a:moveTo>
                      <a:pt x="0" y="0"/>
                    </a:moveTo>
                    <a:lnTo>
                      <a:pt x="15329" y="0"/>
                    </a:lnTo>
                    <a:lnTo>
                      <a:pt x="21600" y="10800"/>
                    </a:lnTo>
                    <a:lnTo>
                      <a:pt x="15329"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3974" name=""/>
              <p:cNvSpPr/>
              <p:nvPr/>
            </p:nvSpPr>
            <p:spPr>
              <a:xfrm>
                <a:off x="845280" y="2892600"/>
                <a:ext cx="1189080" cy="140760"/>
              </a:xfrm>
              <a:custGeom>
                <a:avLst/>
                <a:gdLst>
                  <a:gd name="textAreaLeft" fmla="*/ 0 w 1189080"/>
                  <a:gd name="textAreaRight" fmla="*/ 1189440 w 1189080"/>
                  <a:gd name="textAreaTop" fmla="*/ 0 h 140760"/>
                  <a:gd name="textAreaBottom" fmla="*/ 141120 h 140760"/>
                </a:gdLst>
                <a:ahLst/>
                <a:rect l="textAreaLeft" t="textAreaTop" r="textAreaRight" b="textAreaBottom"/>
                <a:pathLst>
                  <a:path w="21600" h="21600">
                    <a:moveTo>
                      <a:pt x="0" y="0"/>
                    </a:moveTo>
                    <a:lnTo>
                      <a:pt x="20177" y="0"/>
                    </a:lnTo>
                    <a:lnTo>
                      <a:pt x="21600" y="10800"/>
                    </a:lnTo>
                    <a:lnTo>
                      <a:pt x="20177" y="21600"/>
                    </a:lnTo>
                    <a:lnTo>
                      <a:pt x="0" y="21600"/>
                    </a:lnTo>
                    <a:lnTo>
                      <a:pt x="1423" y="10800"/>
                    </a:lnTo>
                    <a:close/>
                  </a:path>
                </a:pathLst>
              </a:custGeom>
              <a:solidFill>
                <a:srgbClr val="7dd19b"/>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5" name=""/>
              <p:cNvSpPr/>
              <p:nvPr/>
            </p:nvSpPr>
            <p:spPr>
              <a:xfrm>
                <a:off x="2001960" y="2894400"/>
                <a:ext cx="6447960" cy="140400"/>
              </a:xfrm>
              <a:custGeom>
                <a:avLst/>
                <a:gdLst>
                  <a:gd name="textAreaLeft" fmla="*/ 0 w 6447960"/>
                  <a:gd name="textAreaRight" fmla="*/ 6448320 w 6447960"/>
                  <a:gd name="textAreaTop" fmla="*/ 0 h 140400"/>
                  <a:gd name="textAreaBottom" fmla="*/ 140760 h 140400"/>
                </a:gdLst>
                <a:ahLst/>
                <a:rect l="textAreaLeft" t="textAreaTop" r="textAreaRight" b="textAreaBottom"/>
                <a:pathLst>
                  <a:path w="21600" h="21600">
                    <a:moveTo>
                      <a:pt x="0" y="0"/>
                    </a:moveTo>
                    <a:lnTo>
                      <a:pt x="21316" y="0"/>
                    </a:lnTo>
                    <a:lnTo>
                      <a:pt x="21600" y="10800"/>
                    </a:lnTo>
                    <a:lnTo>
                      <a:pt x="21316" y="21600"/>
                    </a:lnTo>
                    <a:lnTo>
                      <a:pt x="0" y="21600"/>
                    </a:lnTo>
                    <a:lnTo>
                      <a:pt x="284" y="10800"/>
                    </a:lnTo>
                    <a:close/>
                  </a:path>
                </a:pathLst>
              </a:custGeom>
              <a:solidFill>
                <a:srgbClr val="fb996d"/>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6" name=""/>
            <p:cNvSpPr/>
            <p:nvPr/>
          </p:nvSpPr>
          <p:spPr>
            <a:xfrm>
              <a:off x="5555880" y="2077920"/>
              <a:ext cx="2651760" cy="3052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ós-desenvolvimento </a:t>
              </a:r>
              <a:endParaRPr b="0" lang="en-US" sz="2000" spc="-1" strike="noStrike">
                <a:solidFill>
                  <a:srgbClr val="000000"/>
                </a:solidFill>
                <a:latin typeface="Arial"/>
              </a:endParaRPr>
            </a:p>
          </p:txBody>
        </p:sp>
        <p:sp>
          <p:nvSpPr>
            <p:cNvPr id="3977" name=""/>
            <p:cNvSpPr/>
            <p:nvPr/>
          </p:nvSpPr>
          <p:spPr>
            <a:xfrm>
              <a:off x="5882760" y="3106800"/>
              <a:ext cx="698040" cy="3052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s</a:t>
              </a:r>
              <a:endParaRPr b="0" lang="en-US" sz="2000" spc="-1" strike="noStrike">
                <a:solidFill>
                  <a:srgbClr val="000000"/>
                </a:solidFill>
                <a:latin typeface="Arial"/>
              </a:endParaRPr>
            </a:p>
          </p:txBody>
        </p:sp>
        <p:sp>
          <p:nvSpPr>
            <p:cNvPr id="3978" name=""/>
            <p:cNvSpPr/>
            <p:nvPr/>
          </p:nvSpPr>
          <p:spPr>
            <a:xfrm>
              <a:off x="652680" y="3106800"/>
              <a:ext cx="612720" cy="3052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s</a:t>
              </a:r>
              <a:endParaRPr b="0" lang="en-US" sz="2000" spc="-1" strike="noStrike">
                <a:solidFill>
                  <a:srgbClr val="000000"/>
                </a:solidFill>
                <a:latin typeface="Arial"/>
              </a:endParaRPr>
            </a:p>
          </p:txBody>
        </p:sp>
        <p:sp>
          <p:nvSpPr>
            <p:cNvPr id="3979" name=""/>
            <p:cNvSpPr/>
            <p:nvPr/>
          </p:nvSpPr>
          <p:spPr>
            <a:xfrm>
              <a:off x="1292760" y="3106800"/>
              <a:ext cx="896040" cy="3052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es</a:t>
              </a:r>
              <a:endParaRPr b="0" lang="en-US" sz="2000" spc="-1" strike="noStrike">
                <a:solidFill>
                  <a:srgbClr val="000000"/>
                </a:solidFill>
                <a:latin typeface="Arial"/>
              </a:endParaRPr>
            </a:p>
          </p:txBody>
        </p:sp>
        <p:sp>
          <p:nvSpPr>
            <p:cNvPr id="3980" name=""/>
            <p:cNvSpPr/>
            <p:nvPr/>
          </p:nvSpPr>
          <p:spPr>
            <a:xfrm>
              <a:off x="695520" y="2997360"/>
              <a:ext cx="58680" cy="195120"/>
            </a:xfrm>
            <a:prstGeom prst="line">
              <a:avLst/>
            </a:prstGeom>
            <a:ln w="2844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3981" name=""/>
            <p:cNvSpPr/>
            <p:nvPr/>
          </p:nvSpPr>
          <p:spPr>
            <a:xfrm>
              <a:off x="1467000" y="2955960"/>
              <a:ext cx="95040" cy="249120"/>
            </a:xfrm>
            <a:prstGeom prst="line">
              <a:avLst/>
            </a:prstGeom>
            <a:ln w="2844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3982" name=""/>
            <p:cNvSpPr/>
            <p:nvPr/>
          </p:nvSpPr>
          <p:spPr>
            <a:xfrm flipH="1">
              <a:off x="6240600" y="2968560"/>
              <a:ext cx="71280" cy="265320"/>
            </a:xfrm>
            <a:prstGeom prst="line">
              <a:avLst/>
            </a:prstGeom>
            <a:ln w="2844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3983" name=""/>
            <p:cNvSpPr/>
            <p:nvPr/>
          </p:nvSpPr>
          <p:spPr>
            <a:xfrm>
              <a:off x="2444040" y="2077920"/>
              <a:ext cx="2170080" cy="3052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nvolvimento </a:t>
              </a:r>
              <a:endParaRPr b="0" lang="en-US" sz="2000" spc="-1" strike="noStrike">
                <a:solidFill>
                  <a:srgbClr val="000000"/>
                </a:solidFill>
                <a:latin typeface="Arial"/>
              </a:endParaRPr>
            </a:p>
          </p:txBody>
        </p:sp>
        <p:sp>
          <p:nvSpPr>
            <p:cNvPr id="3984" name=""/>
            <p:cNvSpPr/>
            <p:nvPr/>
          </p:nvSpPr>
          <p:spPr>
            <a:xfrm>
              <a:off x="1263240" y="1708200"/>
              <a:ext cx="2608920" cy="3052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desenvolvimento </a:t>
              </a:r>
              <a:endParaRPr b="0" lang="en-US" sz="2000" spc="-1" strike="noStrike">
                <a:solidFill>
                  <a:srgbClr val="000000"/>
                </a:solidFill>
                <a:latin typeface="Arial"/>
              </a:endParaRPr>
            </a:p>
          </p:txBody>
        </p:sp>
        <p:cxnSp>
          <p:nvCxnSpPr>
            <p:cNvPr id="3985" name=""/>
            <p:cNvCxnSpPr>
              <a:stCxn id="3984" idx="1"/>
              <a:endCxn id="3973" idx="0"/>
            </p:cNvCxnSpPr>
            <p:nvPr/>
          </p:nvCxnSpPr>
          <p:spPr>
            <a:xfrm flipV="1" rot="10800000">
              <a:off x="735840" y="1859040"/>
              <a:ext cx="532440" cy="1033920"/>
            </a:xfrm>
            <a:prstGeom prst="bentConnector2">
              <a:avLst/>
            </a:prstGeom>
            <a:ln w="3240">
              <a:solidFill>
                <a:srgbClr val="000000"/>
              </a:solidFill>
              <a:miter/>
            </a:ln>
          </p:spPr>
        </p:cxnSp>
        <p:cxnSp>
          <p:nvCxnSpPr>
            <p:cNvPr id="3986" name=""/>
            <p:cNvCxnSpPr>
              <a:stCxn id="3983" idx="1"/>
              <a:endCxn id="3974" idx="0"/>
            </p:cNvCxnSpPr>
            <p:nvPr/>
          </p:nvCxnSpPr>
          <p:spPr>
            <a:xfrm flipV="1" rot="10800000">
              <a:off x="1399320" y="2229480"/>
              <a:ext cx="1048320" cy="662760"/>
            </a:xfrm>
            <a:prstGeom prst="bentConnector2">
              <a:avLst/>
            </a:prstGeom>
            <a:ln w="3240">
              <a:solidFill>
                <a:srgbClr val="000000"/>
              </a:solidFill>
              <a:miter/>
            </a:ln>
          </p:spPr>
        </p:cxnSp>
        <p:cxnSp>
          <p:nvCxnSpPr>
            <p:cNvPr id="3987" name=""/>
            <p:cNvCxnSpPr>
              <a:stCxn id="3976" idx="1"/>
              <a:endCxn id="3975" idx="0"/>
            </p:cNvCxnSpPr>
            <p:nvPr/>
          </p:nvCxnSpPr>
          <p:spPr>
            <a:xfrm flipV="1" rot="10800000">
              <a:off x="5182560" y="2229480"/>
              <a:ext cx="378360" cy="664200"/>
            </a:xfrm>
            <a:prstGeom prst="bentConnector2">
              <a:avLst/>
            </a:prstGeom>
            <a:ln w="3240">
              <a:solidFill>
                <a:srgbClr val="000000"/>
              </a:solidFill>
              <a:miter/>
            </a:ln>
          </p:spPr>
        </p:cxnSp>
      </p:grpSp>
      <p:sp>
        <p:nvSpPr>
          <p:cNvPr id="3988" name=""/>
          <p:cNvSpPr/>
          <p:nvPr/>
        </p:nvSpPr>
        <p:spPr>
          <a:xfrm>
            <a:off x="303120" y="3624120"/>
            <a:ext cx="5792760" cy="2764080"/>
          </a:xfrm>
          <a:prstGeom prst="wedgeRectCallout">
            <a:avLst>
              <a:gd name="adj1" fmla="val 32791"/>
              <a:gd name="adj2" fmla="val -68611"/>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ompanhar Produto/ Process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izar atualizaçõ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por melhoria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ilar lições apren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irar produto do mercad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parar retirad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r a retirada do produ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3990"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eitos de modelagem de process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 geral do modelo</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s papéis principais das pessoas envolvidas n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 geral das fases</a:t>
            </a:r>
            <a:endParaRPr b="0" lang="en-US" sz="2800" spc="-1" strike="noStrike">
              <a:solidFill>
                <a:srgbClr val="000000"/>
              </a:solidFill>
              <a:latin typeface="Arial"/>
            </a:endParaRPr>
          </a:p>
          <a:p>
            <a:pPr marL="332640" indent="-3326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Revisão de fases (gat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étodos e ferramentas de desenvolvimento de produt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cadores de desempenho d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ceiros do desenvolvimento colaborativo de produt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Áreas de conhecimento</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estão do conhecimento d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aracterizando o modelo</a:t>
            </a:r>
            <a:endParaRPr b="0" lang="en-US" sz="2800" spc="-1" strike="noStrike">
              <a:solidFill>
                <a:srgbClr val="000000"/>
              </a:solidFill>
              <a:latin typeface="Arial"/>
            </a:endParaRPr>
          </a:p>
        </p:txBody>
      </p:sp>
    </p:spTree>
  </p:cSld>
  <p:transition>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Visão geral do processo de desenvolvimento de produtos</a:t>
            </a:r>
            <a:endParaRPr b="0" lang="en-US" sz="2400" spc="-1" strike="noStrike">
              <a:solidFill>
                <a:srgbClr val="000096"/>
              </a:solidFill>
              <a:latin typeface="Arial"/>
            </a:endParaRPr>
          </a:p>
        </p:txBody>
      </p:sp>
      <p:grpSp>
        <p:nvGrpSpPr>
          <p:cNvPr id="3992" name=""/>
          <p:cNvGrpSpPr/>
          <p:nvPr/>
        </p:nvGrpSpPr>
        <p:grpSpPr>
          <a:xfrm>
            <a:off x="4680" y="1455840"/>
            <a:ext cx="9063000" cy="4572000"/>
            <a:chOff x="4680" y="1455840"/>
            <a:chExt cx="9063000" cy="4572000"/>
          </a:xfrm>
        </p:grpSpPr>
        <p:sp>
          <p:nvSpPr>
            <p:cNvPr id="3993" name=""/>
            <p:cNvSpPr/>
            <p:nvPr/>
          </p:nvSpPr>
          <p:spPr>
            <a:xfrm>
              <a:off x="790560" y="5753160"/>
              <a:ext cx="7886880" cy="27468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lhoria do processo de desenvolvimento de produtos</a:t>
              </a:r>
              <a:endParaRPr b="0" lang="en-US" sz="1800" spc="-1" strike="noStrike">
                <a:solidFill>
                  <a:srgbClr val="000000"/>
                </a:solidFill>
                <a:latin typeface="Arial"/>
              </a:endParaRPr>
            </a:p>
          </p:txBody>
        </p:sp>
        <p:sp>
          <p:nvSpPr>
            <p:cNvPr id="3994" name=""/>
            <p:cNvSpPr/>
            <p:nvPr/>
          </p:nvSpPr>
          <p:spPr>
            <a:xfrm>
              <a:off x="2340000" y="5389560"/>
              <a:ext cx="6092640" cy="27468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erenciamento de mudanças de engenharia</a:t>
              </a:r>
              <a:endParaRPr b="0" lang="en-US" sz="1800" spc="-1" strike="noStrike">
                <a:solidFill>
                  <a:srgbClr val="000000"/>
                </a:solidFill>
                <a:latin typeface="Arial"/>
              </a:endParaRPr>
            </a:p>
          </p:txBody>
        </p:sp>
        <p:sp>
          <p:nvSpPr>
            <p:cNvPr id="3995" name=""/>
            <p:cNvSpPr/>
            <p:nvPr/>
          </p:nvSpPr>
          <p:spPr>
            <a:xfrm>
              <a:off x="4680" y="5335560"/>
              <a:ext cx="1209960" cy="549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ces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 apoio</a:t>
              </a:r>
              <a:endParaRPr b="0" lang="en-US" sz="1800" spc="-1" strike="noStrike">
                <a:solidFill>
                  <a:srgbClr val="000000"/>
                </a:solidFill>
                <a:latin typeface="Arial"/>
              </a:endParaRPr>
            </a:p>
          </p:txBody>
        </p:sp>
        <p:sp>
          <p:nvSpPr>
            <p:cNvPr id="3996" name=""/>
            <p:cNvSpPr/>
            <p:nvPr/>
          </p:nvSpPr>
          <p:spPr>
            <a:xfrm>
              <a:off x="13255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3997" name=""/>
            <p:cNvSpPr/>
            <p:nvPr/>
          </p:nvSpPr>
          <p:spPr>
            <a:xfrm>
              <a:off x="3314880" y="5097600"/>
              <a:ext cx="111096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3998" name=""/>
            <p:cNvSpPr/>
            <p:nvPr/>
          </p:nvSpPr>
          <p:spPr>
            <a:xfrm>
              <a:off x="53053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3999" name=""/>
            <p:cNvSpPr/>
            <p:nvPr/>
          </p:nvSpPr>
          <p:spPr>
            <a:xfrm>
              <a:off x="72961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4000" name=""/>
            <p:cNvGrpSpPr/>
            <p:nvPr/>
          </p:nvGrpSpPr>
          <p:grpSpPr>
            <a:xfrm>
              <a:off x="76320" y="1455840"/>
              <a:ext cx="8991360" cy="3591000"/>
              <a:chOff x="76320" y="1455840"/>
              <a:chExt cx="8991360" cy="3591000"/>
            </a:xfrm>
          </p:grpSpPr>
          <p:grpSp>
            <p:nvGrpSpPr>
              <p:cNvPr id="4001" name=""/>
              <p:cNvGrpSpPr/>
              <p:nvPr/>
            </p:nvGrpSpPr>
            <p:grpSpPr>
              <a:xfrm>
                <a:off x="76320" y="1614600"/>
                <a:ext cx="8991360" cy="3432240"/>
                <a:chOff x="76320" y="1614600"/>
                <a:chExt cx="8991360" cy="3432240"/>
              </a:xfrm>
            </p:grpSpPr>
            <p:sp>
              <p:nvSpPr>
                <p:cNvPr id="4002" name=""/>
                <p:cNvSpPr/>
                <p:nvPr/>
              </p:nvSpPr>
              <p:spPr>
                <a:xfrm>
                  <a:off x="76320" y="1614600"/>
                  <a:ext cx="8991360" cy="343224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003" name=""/>
                <p:cNvSpPr/>
                <p:nvPr/>
              </p:nvSpPr>
              <p:spPr>
                <a:xfrm>
                  <a:off x="795240" y="2863800"/>
                  <a:ext cx="7291440" cy="1660680"/>
                </a:xfrm>
                <a:custGeom>
                  <a:avLst/>
                  <a:gdLst/>
                  <a:ahLst/>
                  <a:rect l="l" t="t" r="r" b="b"/>
                  <a:pathLst>
                    <a:path w="4593" h="1046">
                      <a:moveTo>
                        <a:pt x="771" y="20"/>
                      </a:moveTo>
                      <a:lnTo>
                        <a:pt x="0" y="1046"/>
                      </a:lnTo>
                      <a:lnTo>
                        <a:pt x="4593" y="1016"/>
                      </a:lnTo>
                      <a:lnTo>
                        <a:pt x="3302" y="0"/>
                      </a:lnTo>
                    </a:path>
                  </a:pathLst>
                </a:custGeom>
                <a:gradFill rotWithShape="0">
                  <a:gsLst>
                    <a:gs pos="0">
                      <a:srgbClr val="ffcc99"/>
                    </a:gs>
                    <a:gs pos="100000">
                      <a:srgbClr val="99ccff"/>
                    </a:gs>
                  </a:gsLst>
                  <a:lin ang="10800000"/>
                </a:gra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4004" name=""/>
                <p:cNvGrpSpPr/>
                <p:nvPr/>
              </p:nvGrpSpPr>
              <p:grpSpPr>
                <a:xfrm>
                  <a:off x="2239920" y="2225520"/>
                  <a:ext cx="4146480" cy="298800"/>
                  <a:chOff x="2239920" y="2225520"/>
                  <a:chExt cx="4146480" cy="298800"/>
                </a:xfrm>
              </p:grpSpPr>
              <p:sp>
                <p:nvSpPr>
                  <p:cNvPr id="4005" name=""/>
                  <p:cNvSpPr/>
                  <p:nvPr/>
                </p:nvSpPr>
                <p:spPr>
                  <a:xfrm>
                    <a:off x="2239920" y="2225520"/>
                    <a:ext cx="4146480" cy="298800"/>
                  </a:xfrm>
                  <a:custGeom>
                    <a:avLst/>
                    <a:gdLst>
                      <a:gd name="textAreaLeft" fmla="*/ 0 w 4146480"/>
                      <a:gd name="textAreaRight" fmla="*/ 4146840 w 4146480"/>
                      <a:gd name="textAreaTop" fmla="*/ 0 h 298800"/>
                      <a:gd name="textAreaBottom" fmla="*/ 299160 h 2988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6" name=""/>
                  <p:cNvSpPr/>
                  <p:nvPr/>
                </p:nvSpPr>
                <p:spPr>
                  <a:xfrm>
                    <a:off x="3293640" y="22384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007" name=""/>
                <p:cNvGrpSpPr/>
                <p:nvPr/>
              </p:nvGrpSpPr>
              <p:grpSpPr>
                <a:xfrm>
                  <a:off x="962280" y="4336560"/>
                  <a:ext cx="6981840" cy="534600"/>
                  <a:chOff x="962280" y="4336560"/>
                  <a:chExt cx="6981840" cy="534600"/>
                </a:xfrm>
              </p:grpSpPr>
              <p:grpSp>
                <p:nvGrpSpPr>
                  <p:cNvPr id="4008" name=""/>
                  <p:cNvGrpSpPr/>
                  <p:nvPr/>
                </p:nvGrpSpPr>
                <p:grpSpPr>
                  <a:xfrm>
                    <a:off x="2259720" y="4350600"/>
                    <a:ext cx="5684400" cy="520560"/>
                    <a:chOff x="2259720" y="4350600"/>
                    <a:chExt cx="5684400" cy="520560"/>
                  </a:xfrm>
                </p:grpSpPr>
                <p:sp>
                  <p:nvSpPr>
                    <p:cNvPr id="4009" name=""/>
                    <p:cNvSpPr/>
                    <p:nvPr/>
                  </p:nvSpPr>
                  <p:spPr>
                    <a:xfrm>
                      <a:off x="4633920" y="4350600"/>
                      <a:ext cx="1043640" cy="520560"/>
                    </a:xfrm>
                    <a:custGeom>
                      <a:avLst/>
                      <a:gdLst>
                        <a:gd name="textAreaLeft" fmla="*/ 0 w 1043640"/>
                        <a:gd name="textAreaRight" fmla="*/ 1044000 w 1043640"/>
                        <a:gd name="textAreaTop" fmla="*/ 0 h 520560"/>
                        <a:gd name="textAreaBottom" fmla="*/ 520920 h 52056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4010" name=""/>
                    <p:cNvSpPr/>
                    <p:nvPr/>
                  </p:nvSpPr>
                  <p:spPr>
                    <a:xfrm>
                      <a:off x="3557520" y="4350600"/>
                      <a:ext cx="1074240" cy="520560"/>
                    </a:xfrm>
                    <a:custGeom>
                      <a:avLst/>
                      <a:gdLst>
                        <a:gd name="textAreaLeft" fmla="*/ 0 w 1074240"/>
                        <a:gd name="textAreaRight" fmla="*/ 1074600 w 1074240"/>
                        <a:gd name="textAreaTop" fmla="*/ 0 h 520560"/>
                        <a:gd name="textAreaBottom" fmla="*/ 520920 h 52056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4011" name=""/>
                    <p:cNvSpPr/>
                    <p:nvPr/>
                  </p:nvSpPr>
                  <p:spPr>
                    <a:xfrm>
                      <a:off x="2259720" y="4350600"/>
                      <a:ext cx="1302840" cy="520560"/>
                    </a:xfrm>
                    <a:custGeom>
                      <a:avLst/>
                      <a:gdLst>
                        <a:gd name="textAreaLeft" fmla="*/ 0 w 1302840"/>
                        <a:gd name="textAreaRight" fmla="*/ 1303200 w 1302840"/>
                        <a:gd name="textAreaTop" fmla="*/ 0 h 520560"/>
                        <a:gd name="textAreaBottom" fmla="*/ 520920 h 52056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4012" name=""/>
                    <p:cNvSpPr/>
                    <p:nvPr/>
                  </p:nvSpPr>
                  <p:spPr>
                    <a:xfrm>
                      <a:off x="6782040" y="4350600"/>
                      <a:ext cx="1162080" cy="520560"/>
                    </a:xfrm>
                    <a:custGeom>
                      <a:avLst/>
                      <a:gdLst>
                        <a:gd name="textAreaLeft" fmla="*/ 0 w 1162080"/>
                        <a:gd name="textAreaRight" fmla="*/ 1162080 w 1162080"/>
                        <a:gd name="textAreaTop" fmla="*/ 0 h 520560"/>
                        <a:gd name="textAreaBottom" fmla="*/ 520920 h 52056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4013" name=""/>
                    <p:cNvSpPr/>
                    <p:nvPr/>
                  </p:nvSpPr>
                  <p:spPr>
                    <a:xfrm>
                      <a:off x="5676840" y="4350600"/>
                      <a:ext cx="1102680" cy="520560"/>
                    </a:xfrm>
                    <a:custGeom>
                      <a:avLst/>
                      <a:gdLst>
                        <a:gd name="textAreaLeft" fmla="*/ 0 w 1102680"/>
                        <a:gd name="textAreaRight" fmla="*/ 1102680 w 1102680"/>
                        <a:gd name="textAreaTop" fmla="*/ 0 h 520560"/>
                        <a:gd name="textAreaBottom" fmla="*/ 520920 h 52056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grpSp>
              <p:sp>
                <p:nvSpPr>
                  <p:cNvPr id="4014" name=""/>
                  <p:cNvSpPr/>
                  <p:nvPr/>
                </p:nvSpPr>
                <p:spPr>
                  <a:xfrm>
                    <a:off x="962280" y="4336560"/>
                    <a:ext cx="1270800" cy="520200"/>
                  </a:xfrm>
                  <a:custGeom>
                    <a:avLst/>
                    <a:gdLst>
                      <a:gd name="textAreaLeft" fmla="*/ 0 w 1270800"/>
                      <a:gd name="textAreaRight" fmla="*/ 1271160 w 1270800"/>
                      <a:gd name="textAreaTop" fmla="*/ 0 h 520200"/>
                      <a:gd name="textAreaBottom" fmla="*/ 520560 h 5202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p:txBody>
              </p:sp>
            </p:grpSp>
            <p:grpSp>
              <p:nvGrpSpPr>
                <p:cNvPr id="4015" name=""/>
                <p:cNvGrpSpPr/>
                <p:nvPr/>
              </p:nvGrpSpPr>
              <p:grpSpPr>
                <a:xfrm>
                  <a:off x="6364440" y="2227320"/>
                  <a:ext cx="2652480" cy="298440"/>
                  <a:chOff x="6364440" y="2227320"/>
                  <a:chExt cx="2652480" cy="298440"/>
                </a:xfrm>
              </p:grpSpPr>
              <p:sp>
                <p:nvSpPr>
                  <p:cNvPr id="4016" name=""/>
                  <p:cNvSpPr/>
                  <p:nvPr/>
                </p:nvSpPr>
                <p:spPr>
                  <a:xfrm>
                    <a:off x="6364440" y="22273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7" name=""/>
                  <p:cNvSpPr/>
                  <p:nvPr/>
                </p:nvSpPr>
                <p:spPr>
                  <a:xfrm>
                    <a:off x="7431480" y="22636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4018" name=""/>
                <p:cNvSpPr/>
                <p:nvPr/>
              </p:nvSpPr>
              <p:spPr>
                <a:xfrm>
                  <a:off x="8223120" y="23115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4019" name=""/>
                <p:cNvCxnSpPr>
                  <a:stCxn id="4016" idx="0"/>
                  <a:endCxn id="4020" idx="0"/>
                </p:cNvCxnSpPr>
                <p:nvPr/>
              </p:nvCxnSpPr>
              <p:spPr>
                <a:xfrm rot="5400000">
                  <a:off x="4402440" y="-999360"/>
                  <a:ext cx="2160" cy="6455520"/>
                </a:xfrm>
                <a:prstGeom prst="bentConnector3">
                  <a:avLst>
                    <a:gd name="adj1" fmla="val -14400000"/>
                  </a:avLst>
                </a:prstGeom>
                <a:ln w="19080">
                  <a:solidFill>
                    <a:srgbClr val="000000"/>
                  </a:solidFill>
                  <a:miter/>
                  <a:tailEnd len="med" type="triangle" w="med"/>
                </a:ln>
              </p:spPr>
            </p:cxnSp>
            <p:grpSp>
              <p:nvGrpSpPr>
                <p:cNvPr id="4021" name=""/>
                <p:cNvGrpSpPr/>
                <p:nvPr/>
              </p:nvGrpSpPr>
              <p:grpSpPr>
                <a:xfrm>
                  <a:off x="171360" y="2227320"/>
                  <a:ext cx="2124000" cy="297000"/>
                  <a:chOff x="171360" y="2227320"/>
                  <a:chExt cx="2124000" cy="297000"/>
                </a:xfrm>
              </p:grpSpPr>
              <p:sp>
                <p:nvSpPr>
                  <p:cNvPr id="4020" name=""/>
                  <p:cNvSpPr/>
                  <p:nvPr/>
                </p:nvSpPr>
                <p:spPr>
                  <a:xfrm>
                    <a:off x="171360" y="22273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4022" name=""/>
                  <p:cNvSpPr/>
                  <p:nvPr/>
                </p:nvSpPr>
                <p:spPr>
                  <a:xfrm>
                    <a:off x="999000" y="22636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4023" name=""/>
                <p:cNvSpPr/>
                <p:nvPr/>
              </p:nvSpPr>
              <p:spPr>
                <a:xfrm>
                  <a:off x="185760" y="2597040"/>
                  <a:ext cx="1335240" cy="787680"/>
                </a:xfrm>
                <a:custGeom>
                  <a:avLst/>
                  <a:gdLst>
                    <a:gd name="textAreaLeft" fmla="*/ 0 w 1335240"/>
                    <a:gd name="textAreaRight" fmla="*/ 1335600 w 1335240"/>
                    <a:gd name="textAreaTop" fmla="*/ 0 h 787680"/>
                    <a:gd name="textAreaBottom" fmla="*/ 788040 h 78768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ratégico dos Produtos</a:t>
                  </a:r>
                  <a:endParaRPr b="0" lang="en-US" sz="1400" spc="-1" strike="noStrike">
                    <a:solidFill>
                      <a:srgbClr val="000000"/>
                    </a:solidFill>
                    <a:latin typeface="Arial"/>
                  </a:endParaRPr>
                </a:p>
              </p:txBody>
            </p:sp>
            <p:grpSp>
              <p:nvGrpSpPr>
                <p:cNvPr id="4024" name=""/>
                <p:cNvGrpSpPr/>
                <p:nvPr/>
              </p:nvGrpSpPr>
              <p:grpSpPr>
                <a:xfrm>
                  <a:off x="6164280" y="2577960"/>
                  <a:ext cx="2871720" cy="933480"/>
                  <a:chOff x="6164280" y="2577960"/>
                  <a:chExt cx="2871720" cy="933480"/>
                </a:xfrm>
              </p:grpSpPr>
              <p:sp>
                <p:nvSpPr>
                  <p:cNvPr id="4025" name=""/>
                  <p:cNvSpPr/>
                  <p:nvPr/>
                </p:nvSpPr>
                <p:spPr>
                  <a:xfrm>
                    <a:off x="6164280" y="2577960"/>
                    <a:ext cx="1257120" cy="830520"/>
                  </a:xfrm>
                  <a:custGeom>
                    <a:avLst/>
                    <a:gdLst>
                      <a:gd name="textAreaLeft" fmla="*/ 0 w 1257120"/>
                      <a:gd name="textAreaRight" fmla="*/ 1257480 w 125712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4026" name=""/>
                  <p:cNvSpPr/>
                  <p:nvPr/>
                </p:nvSpPr>
                <p:spPr>
                  <a:xfrm>
                    <a:off x="7421400" y="2577960"/>
                    <a:ext cx="1270080" cy="830520"/>
                  </a:xfrm>
                  <a:custGeom>
                    <a:avLst/>
                    <a:gdLst>
                      <a:gd name="textAreaLeft" fmla="*/ 0 w 1270080"/>
                      <a:gd name="textAreaRight" fmla="*/ 1270440 w 127008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4027" name=""/>
                  <p:cNvSpPr/>
                  <p:nvPr/>
                </p:nvSpPr>
                <p:spPr>
                  <a:xfrm>
                    <a:off x="6249960" y="2641680"/>
                    <a:ext cx="1268280" cy="830160"/>
                  </a:xfrm>
                  <a:custGeom>
                    <a:avLst/>
                    <a:gdLst>
                      <a:gd name="textAreaLeft" fmla="*/ 0 w 1268280"/>
                      <a:gd name="textAreaRight" fmla="*/ 1268640 w 12682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4028" name=""/>
                  <p:cNvSpPr/>
                  <p:nvPr/>
                </p:nvSpPr>
                <p:spPr>
                  <a:xfrm>
                    <a:off x="7535880" y="2641680"/>
                    <a:ext cx="1270080" cy="830160"/>
                  </a:xfrm>
                  <a:custGeom>
                    <a:avLst/>
                    <a:gdLst>
                      <a:gd name="textAreaLeft" fmla="*/ 0 w 1270080"/>
                      <a:gd name="textAreaRight" fmla="*/ 1270440 w 12700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4029" name=""/>
                  <p:cNvSpPr/>
                  <p:nvPr/>
                </p:nvSpPr>
                <p:spPr>
                  <a:xfrm>
                    <a:off x="7694640" y="2681280"/>
                    <a:ext cx="1341360" cy="830160"/>
                  </a:xfrm>
                  <a:custGeom>
                    <a:avLst/>
                    <a:gdLst>
                      <a:gd name="textAreaLeft" fmla="*/ 0 w 1341360"/>
                      <a:gd name="textAreaRight" fmla="*/ 1341720 w 1341360"/>
                      <a:gd name="textAreaTop" fmla="*/ 0 h 830160"/>
                      <a:gd name="textAreaBottom" fmla="*/ 830520 h 83016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ontinu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p:txBody>
              </p:sp>
              <p:sp>
                <p:nvSpPr>
                  <p:cNvPr id="4030" name=""/>
                  <p:cNvSpPr/>
                  <p:nvPr/>
                </p:nvSpPr>
                <p:spPr>
                  <a:xfrm>
                    <a:off x="6348240" y="2681280"/>
                    <a:ext cx="1400400" cy="830160"/>
                  </a:xfrm>
                  <a:custGeom>
                    <a:avLst/>
                    <a:gdLst>
                      <a:gd name="textAreaLeft" fmla="*/ 0 w 1400400"/>
                      <a:gd name="textAreaRight" fmla="*/ 1400400 w 1400400"/>
                      <a:gd name="textAreaTop" fmla="*/ 0 h 830160"/>
                      <a:gd name="textAreaBottom" fmla="*/ 830520 h 83016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panh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a:t>
                    </a:r>
                    <a:endParaRPr b="0" lang="en-US" sz="1400" spc="-1" strike="noStrike">
                      <a:solidFill>
                        <a:srgbClr val="000000"/>
                      </a:solidFill>
                      <a:latin typeface="Arial"/>
                    </a:endParaRPr>
                  </a:p>
                </p:txBody>
              </p:sp>
            </p:grpSp>
            <p:grpSp>
              <p:nvGrpSpPr>
                <p:cNvPr id="4031" name=""/>
                <p:cNvGrpSpPr/>
                <p:nvPr/>
              </p:nvGrpSpPr>
              <p:grpSpPr>
                <a:xfrm>
                  <a:off x="2413080" y="2565000"/>
                  <a:ext cx="3600360" cy="407880"/>
                  <a:chOff x="2413080" y="2565000"/>
                  <a:chExt cx="3600360" cy="407880"/>
                </a:xfrm>
              </p:grpSpPr>
              <p:sp>
                <p:nvSpPr>
                  <p:cNvPr id="4032" name=""/>
                  <p:cNvSpPr/>
                  <p:nvPr/>
                </p:nvSpPr>
                <p:spPr>
                  <a:xfrm flipV="1">
                    <a:off x="241308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3" name=""/>
                  <p:cNvSpPr/>
                  <p:nvPr/>
                </p:nvSpPr>
                <p:spPr>
                  <a:xfrm flipV="1">
                    <a:off x="31338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4" name=""/>
                  <p:cNvSpPr/>
                  <p:nvPr/>
                </p:nvSpPr>
                <p:spPr>
                  <a:xfrm flipV="1">
                    <a:off x="385596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5" name=""/>
                  <p:cNvSpPr/>
                  <p:nvPr/>
                </p:nvSpPr>
                <p:spPr>
                  <a:xfrm flipV="1">
                    <a:off x="457668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6" name=""/>
                  <p:cNvSpPr/>
                  <p:nvPr/>
                </p:nvSpPr>
                <p:spPr>
                  <a:xfrm flipV="1">
                    <a:off x="52992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7" name=""/>
                <p:cNvGrpSpPr/>
                <p:nvPr/>
              </p:nvGrpSpPr>
              <p:grpSpPr>
                <a:xfrm>
                  <a:off x="2565360" y="2717640"/>
                  <a:ext cx="3600360" cy="407880"/>
                  <a:chOff x="2565360" y="2717640"/>
                  <a:chExt cx="3600360" cy="407880"/>
                </a:xfrm>
              </p:grpSpPr>
              <p:sp>
                <p:nvSpPr>
                  <p:cNvPr id="4038" name=""/>
                  <p:cNvSpPr/>
                  <p:nvPr/>
                </p:nvSpPr>
                <p:spPr>
                  <a:xfrm flipV="1">
                    <a:off x="256536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9" name=""/>
                  <p:cNvSpPr/>
                  <p:nvPr/>
                </p:nvSpPr>
                <p:spPr>
                  <a:xfrm flipV="1">
                    <a:off x="3286080" y="271728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0" name=""/>
                  <p:cNvSpPr/>
                  <p:nvPr/>
                </p:nvSpPr>
                <p:spPr>
                  <a:xfrm flipV="1">
                    <a:off x="400860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1" name=""/>
                  <p:cNvSpPr/>
                  <p:nvPr/>
                </p:nvSpPr>
                <p:spPr>
                  <a:xfrm flipV="1">
                    <a:off x="472932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2" name=""/>
                  <p:cNvSpPr/>
                  <p:nvPr/>
                </p:nvSpPr>
                <p:spPr>
                  <a:xfrm flipV="1">
                    <a:off x="545148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3" name=""/>
                <p:cNvGrpSpPr/>
                <p:nvPr/>
              </p:nvGrpSpPr>
              <p:grpSpPr>
                <a:xfrm>
                  <a:off x="2717640" y="2869920"/>
                  <a:ext cx="3600720" cy="407880"/>
                  <a:chOff x="2717640" y="2869920"/>
                  <a:chExt cx="3600720" cy="407880"/>
                </a:xfrm>
              </p:grpSpPr>
              <p:sp>
                <p:nvSpPr>
                  <p:cNvPr id="4044" name=""/>
                  <p:cNvSpPr/>
                  <p:nvPr/>
                </p:nvSpPr>
                <p:spPr>
                  <a:xfrm flipV="1">
                    <a:off x="271764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5" name=""/>
                  <p:cNvSpPr/>
                  <p:nvPr/>
                </p:nvSpPr>
                <p:spPr>
                  <a:xfrm flipV="1">
                    <a:off x="34383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6" name=""/>
                  <p:cNvSpPr/>
                  <p:nvPr/>
                </p:nvSpPr>
                <p:spPr>
                  <a:xfrm flipV="1">
                    <a:off x="416088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7" name=""/>
                  <p:cNvSpPr/>
                  <p:nvPr/>
                </p:nvSpPr>
                <p:spPr>
                  <a:xfrm flipV="1">
                    <a:off x="488160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8" name=""/>
                  <p:cNvSpPr/>
                  <p:nvPr/>
                </p:nvSpPr>
                <p:spPr>
                  <a:xfrm flipV="1">
                    <a:off x="56037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9" name=""/>
                <p:cNvGrpSpPr/>
                <p:nvPr/>
              </p:nvGrpSpPr>
              <p:grpSpPr>
                <a:xfrm>
                  <a:off x="1565280" y="2606760"/>
                  <a:ext cx="950760" cy="671400"/>
                  <a:chOff x="1565280" y="2606760"/>
                  <a:chExt cx="950760" cy="671400"/>
                </a:xfrm>
              </p:grpSpPr>
              <p:sp>
                <p:nvSpPr>
                  <p:cNvPr id="4050" name=""/>
                  <p:cNvSpPr/>
                  <p:nvPr/>
                </p:nvSpPr>
                <p:spPr>
                  <a:xfrm>
                    <a:off x="1565280" y="2606760"/>
                    <a:ext cx="646200" cy="366480"/>
                  </a:xfrm>
                  <a:custGeom>
                    <a:avLst/>
                    <a:gdLst>
                      <a:gd name="textAreaLeft" fmla="*/ 0 w 646200"/>
                      <a:gd name="textAreaRight" fmla="*/ 646560 w 646200"/>
                      <a:gd name="textAreaTop" fmla="*/ 0 h 366480"/>
                      <a:gd name="textAreaBottom" fmla="*/ 366840 h 36648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
                  <p:cNvSpPr/>
                  <p:nvPr/>
                </p:nvSpPr>
                <p:spPr>
                  <a:xfrm>
                    <a:off x="1717560" y="2759040"/>
                    <a:ext cx="646200" cy="366840"/>
                  </a:xfrm>
                  <a:custGeom>
                    <a:avLst/>
                    <a:gdLst>
                      <a:gd name="textAreaLeft" fmla="*/ 0 w 646200"/>
                      <a:gd name="textAreaRight" fmla="*/ 646560 w 64620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
                  <p:cNvSpPr/>
                  <p:nvPr/>
                </p:nvSpPr>
                <p:spPr>
                  <a:xfrm>
                    <a:off x="1870200" y="2911320"/>
                    <a:ext cx="645840" cy="366840"/>
                  </a:xfrm>
                  <a:custGeom>
                    <a:avLst/>
                    <a:gdLst>
                      <a:gd name="textAreaLeft" fmla="*/ 0 w 645840"/>
                      <a:gd name="textAreaRight" fmla="*/ 646200 w 64584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3" name=""/>
                <p:cNvGrpSpPr/>
                <p:nvPr/>
              </p:nvGrpSpPr>
              <p:grpSpPr>
                <a:xfrm>
                  <a:off x="279720" y="3220920"/>
                  <a:ext cx="6232320" cy="776520"/>
                  <a:chOff x="279720" y="3220920"/>
                  <a:chExt cx="6232320" cy="776520"/>
                </a:xfrm>
              </p:grpSpPr>
              <p:sp>
                <p:nvSpPr>
                  <p:cNvPr id="4054" name=""/>
                  <p:cNvSpPr/>
                  <p:nvPr/>
                </p:nvSpPr>
                <p:spPr>
                  <a:xfrm>
                    <a:off x="279720" y="3670200"/>
                    <a:ext cx="9799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ates &gt;&gt;</a:t>
                    </a:r>
                    <a:endParaRPr b="0" lang="en-US" sz="1600" spc="-1" strike="noStrike">
                      <a:solidFill>
                        <a:srgbClr val="000000"/>
                      </a:solidFill>
                      <a:latin typeface="Arial"/>
                    </a:endParaRPr>
                  </a:p>
                </p:txBody>
              </p:sp>
              <p:grpSp>
                <p:nvGrpSpPr>
                  <p:cNvPr id="4055" name=""/>
                  <p:cNvGrpSpPr/>
                  <p:nvPr/>
                </p:nvGrpSpPr>
                <p:grpSpPr>
                  <a:xfrm>
                    <a:off x="3319560" y="3220920"/>
                    <a:ext cx="185760" cy="617400"/>
                    <a:chOff x="3319560" y="3220920"/>
                    <a:chExt cx="185760" cy="617400"/>
                  </a:xfrm>
                </p:grpSpPr>
                <p:sp>
                  <p:nvSpPr>
                    <p:cNvPr id="4056" name=""/>
                    <p:cNvSpPr/>
                    <p:nvPr/>
                  </p:nvSpPr>
                  <p:spPr>
                    <a:xfrm>
                      <a:off x="331956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4057" name=""/>
                    <p:cNvSpPr/>
                    <p:nvPr/>
                  </p:nvSpPr>
                  <p:spPr>
                    <a:xfrm flipV="1">
                      <a:off x="341172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sp>
                <p:nvSpPr>
                  <p:cNvPr id="4058" name=""/>
                  <p:cNvSpPr/>
                  <p:nvPr/>
                </p:nvSpPr>
                <p:spPr>
                  <a:xfrm>
                    <a:off x="1208160" y="3497400"/>
                    <a:ext cx="5303880" cy="500040"/>
                  </a:xfrm>
                  <a:prstGeom prst="roundRect">
                    <a:avLst>
                      <a:gd name="adj" fmla="val 50000"/>
                    </a:avLst>
                  </a:prstGeom>
                  <a:noFill/>
                  <a:ln w="936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4059" name=""/>
                  <p:cNvGrpSpPr/>
                  <p:nvPr/>
                </p:nvGrpSpPr>
                <p:grpSpPr>
                  <a:xfrm>
                    <a:off x="6219720" y="3395160"/>
                    <a:ext cx="185400" cy="474840"/>
                    <a:chOff x="6219720" y="3395160"/>
                    <a:chExt cx="185400" cy="474840"/>
                  </a:xfrm>
                </p:grpSpPr>
                <p:sp>
                  <p:nvSpPr>
                    <p:cNvPr id="4060" name=""/>
                    <p:cNvSpPr/>
                    <p:nvPr/>
                  </p:nvSpPr>
                  <p:spPr>
                    <a:xfrm>
                      <a:off x="6219720" y="359856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4061" name=""/>
                    <p:cNvSpPr/>
                    <p:nvPr/>
                  </p:nvSpPr>
                  <p:spPr>
                    <a:xfrm flipV="1">
                      <a:off x="6311520" y="3395160"/>
                      <a:ext cx="0" cy="20628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4062" name=""/>
                  <p:cNvGrpSpPr/>
                  <p:nvPr/>
                </p:nvGrpSpPr>
                <p:grpSpPr>
                  <a:xfrm>
                    <a:off x="4748040" y="3220920"/>
                    <a:ext cx="185760" cy="617400"/>
                    <a:chOff x="4748040" y="3220920"/>
                    <a:chExt cx="185760" cy="617400"/>
                  </a:xfrm>
                </p:grpSpPr>
                <p:sp>
                  <p:nvSpPr>
                    <p:cNvPr id="4063" name=""/>
                    <p:cNvSpPr/>
                    <p:nvPr/>
                  </p:nvSpPr>
                  <p:spPr>
                    <a:xfrm>
                      <a:off x="474804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4064" name=""/>
                    <p:cNvSpPr/>
                    <p:nvPr/>
                  </p:nvSpPr>
                  <p:spPr>
                    <a:xfrm flipV="1">
                      <a:off x="484020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4065" name=""/>
                  <p:cNvGrpSpPr/>
                  <p:nvPr/>
                </p:nvGrpSpPr>
                <p:grpSpPr>
                  <a:xfrm>
                    <a:off x="5464080" y="3220920"/>
                    <a:ext cx="185760" cy="617400"/>
                    <a:chOff x="5464080" y="3220920"/>
                    <a:chExt cx="185760" cy="617400"/>
                  </a:xfrm>
                </p:grpSpPr>
                <p:sp>
                  <p:nvSpPr>
                    <p:cNvPr id="4066" name=""/>
                    <p:cNvSpPr/>
                    <p:nvPr/>
                  </p:nvSpPr>
                  <p:spPr>
                    <a:xfrm>
                      <a:off x="546408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4067" name=""/>
                    <p:cNvSpPr/>
                    <p:nvPr/>
                  </p:nvSpPr>
                  <p:spPr>
                    <a:xfrm flipV="1">
                      <a:off x="555624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4068" name=""/>
                  <p:cNvGrpSpPr/>
                  <p:nvPr/>
                </p:nvGrpSpPr>
                <p:grpSpPr>
                  <a:xfrm>
                    <a:off x="2422440" y="3252960"/>
                    <a:ext cx="185760" cy="585720"/>
                    <a:chOff x="2422440" y="3252960"/>
                    <a:chExt cx="185760" cy="585720"/>
                  </a:xfrm>
                </p:grpSpPr>
                <p:sp>
                  <p:nvSpPr>
                    <p:cNvPr id="4069" name=""/>
                    <p:cNvSpPr/>
                    <p:nvPr/>
                  </p:nvSpPr>
                  <p:spPr>
                    <a:xfrm flipV="1">
                      <a:off x="25146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070" name=""/>
                    <p:cNvSpPr/>
                    <p:nvPr/>
                  </p:nvSpPr>
                  <p:spPr>
                    <a:xfrm>
                      <a:off x="2422440" y="356724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4071" name=""/>
                  <p:cNvGrpSpPr/>
                  <p:nvPr/>
                </p:nvGrpSpPr>
                <p:grpSpPr>
                  <a:xfrm>
                    <a:off x="4035600" y="3252960"/>
                    <a:ext cx="185400" cy="585720"/>
                    <a:chOff x="4035600" y="3252960"/>
                    <a:chExt cx="185400" cy="585720"/>
                  </a:xfrm>
                </p:grpSpPr>
                <p:sp>
                  <p:nvSpPr>
                    <p:cNvPr id="4072" name=""/>
                    <p:cNvSpPr/>
                    <p:nvPr/>
                  </p:nvSpPr>
                  <p:spPr>
                    <a:xfrm flipV="1">
                      <a:off x="41274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073" name=""/>
                    <p:cNvSpPr/>
                    <p:nvPr/>
                  </p:nvSpPr>
                  <p:spPr>
                    <a:xfrm>
                      <a:off x="4035600" y="356724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4074" name=""/>
                  <p:cNvGrpSpPr/>
                  <p:nvPr/>
                </p:nvGrpSpPr>
                <p:grpSpPr>
                  <a:xfrm>
                    <a:off x="3597120" y="3277800"/>
                    <a:ext cx="141480" cy="473400"/>
                    <a:chOff x="3597120" y="3277800"/>
                    <a:chExt cx="141480" cy="473400"/>
                  </a:xfrm>
                </p:grpSpPr>
                <p:sp>
                  <p:nvSpPr>
                    <p:cNvPr id="4075" name=""/>
                    <p:cNvSpPr/>
                    <p:nvPr/>
                  </p:nvSpPr>
                  <p:spPr>
                    <a:xfrm flipV="1">
                      <a:off x="36687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076" name=""/>
                    <p:cNvSpPr/>
                    <p:nvPr/>
                  </p:nvSpPr>
                  <p:spPr>
                    <a:xfrm>
                      <a:off x="35971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4077" name=""/>
                  <p:cNvGrpSpPr/>
                  <p:nvPr/>
                </p:nvGrpSpPr>
                <p:grpSpPr>
                  <a:xfrm>
                    <a:off x="3784680" y="3277800"/>
                    <a:ext cx="141120" cy="473400"/>
                    <a:chOff x="3784680" y="3277800"/>
                    <a:chExt cx="141120" cy="473400"/>
                  </a:xfrm>
                </p:grpSpPr>
                <p:sp>
                  <p:nvSpPr>
                    <p:cNvPr id="4078" name=""/>
                    <p:cNvSpPr/>
                    <p:nvPr/>
                  </p:nvSpPr>
                  <p:spPr>
                    <a:xfrm flipV="1">
                      <a:off x="38559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079" name=""/>
                    <p:cNvSpPr/>
                    <p:nvPr/>
                  </p:nvSpPr>
                  <p:spPr>
                    <a:xfrm>
                      <a:off x="378468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4080" name=""/>
                  <p:cNvGrpSpPr/>
                  <p:nvPr/>
                </p:nvGrpSpPr>
                <p:grpSpPr>
                  <a:xfrm>
                    <a:off x="4284720" y="3277800"/>
                    <a:ext cx="141120" cy="473400"/>
                    <a:chOff x="4284720" y="3277800"/>
                    <a:chExt cx="141120" cy="473400"/>
                  </a:xfrm>
                </p:grpSpPr>
                <p:sp>
                  <p:nvSpPr>
                    <p:cNvPr id="4081" name=""/>
                    <p:cNvSpPr/>
                    <p:nvPr/>
                  </p:nvSpPr>
                  <p:spPr>
                    <a:xfrm flipV="1">
                      <a:off x="435600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082" name=""/>
                    <p:cNvSpPr/>
                    <p:nvPr/>
                  </p:nvSpPr>
                  <p:spPr>
                    <a:xfrm>
                      <a:off x="428472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4083" name=""/>
                  <p:cNvGrpSpPr/>
                  <p:nvPr/>
                </p:nvGrpSpPr>
                <p:grpSpPr>
                  <a:xfrm>
                    <a:off x="4498920" y="3277800"/>
                    <a:ext cx="141480" cy="473400"/>
                    <a:chOff x="4498920" y="3277800"/>
                    <a:chExt cx="141480" cy="473400"/>
                  </a:xfrm>
                </p:grpSpPr>
                <p:sp>
                  <p:nvSpPr>
                    <p:cNvPr id="4084" name=""/>
                    <p:cNvSpPr/>
                    <p:nvPr/>
                  </p:nvSpPr>
                  <p:spPr>
                    <a:xfrm flipV="1">
                      <a:off x="45705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085" name=""/>
                    <p:cNvSpPr/>
                    <p:nvPr/>
                  </p:nvSpPr>
                  <p:spPr>
                    <a:xfrm>
                      <a:off x="44989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4086" name=""/>
                  <p:cNvGrpSpPr/>
                  <p:nvPr/>
                </p:nvGrpSpPr>
                <p:grpSpPr>
                  <a:xfrm>
                    <a:off x="3051000" y="3277800"/>
                    <a:ext cx="141480" cy="473400"/>
                    <a:chOff x="3051000" y="3277800"/>
                    <a:chExt cx="141480" cy="473400"/>
                  </a:xfrm>
                </p:grpSpPr>
                <p:sp>
                  <p:nvSpPr>
                    <p:cNvPr id="4087" name=""/>
                    <p:cNvSpPr/>
                    <p:nvPr/>
                  </p:nvSpPr>
                  <p:spPr>
                    <a:xfrm flipV="1">
                      <a:off x="312264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088" name=""/>
                    <p:cNvSpPr/>
                    <p:nvPr/>
                  </p:nvSpPr>
                  <p:spPr>
                    <a:xfrm>
                      <a:off x="305100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4089" name=""/>
                  <p:cNvGrpSpPr/>
                  <p:nvPr/>
                </p:nvGrpSpPr>
                <p:grpSpPr>
                  <a:xfrm>
                    <a:off x="5164200" y="3277800"/>
                    <a:ext cx="141120" cy="473400"/>
                    <a:chOff x="5164200" y="3277800"/>
                    <a:chExt cx="141120" cy="473400"/>
                  </a:xfrm>
                </p:grpSpPr>
                <p:sp>
                  <p:nvSpPr>
                    <p:cNvPr id="4090" name=""/>
                    <p:cNvSpPr/>
                    <p:nvPr/>
                  </p:nvSpPr>
                  <p:spPr>
                    <a:xfrm flipV="1">
                      <a:off x="523548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091" name=""/>
                    <p:cNvSpPr/>
                    <p:nvPr/>
                  </p:nvSpPr>
                  <p:spPr>
                    <a:xfrm>
                      <a:off x="516420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grpSp>
          <p:sp>
            <p:nvSpPr>
              <p:cNvPr id="4092" name=""/>
              <p:cNvSpPr/>
              <p:nvPr/>
            </p:nvSpPr>
            <p:spPr>
              <a:xfrm>
                <a:off x="1500120" y="14558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093" name=""/>
          <p:cNvGrpSpPr/>
          <p:nvPr/>
        </p:nvGrpSpPr>
        <p:grpSpPr>
          <a:xfrm>
            <a:off x="-61200" y="2373840"/>
            <a:ext cx="2808000" cy="2010240"/>
            <a:chOff x="-61200" y="2373840"/>
            <a:chExt cx="2808000" cy="2010240"/>
          </a:xfrm>
        </p:grpSpPr>
        <p:grpSp>
          <p:nvGrpSpPr>
            <p:cNvPr id="4094" name=""/>
            <p:cNvGrpSpPr/>
            <p:nvPr/>
          </p:nvGrpSpPr>
          <p:grpSpPr>
            <a:xfrm>
              <a:off x="-61200" y="2795400"/>
              <a:ext cx="1917360" cy="1588680"/>
              <a:chOff x="-61200" y="2795400"/>
              <a:chExt cx="1917360" cy="1588680"/>
            </a:xfrm>
          </p:grpSpPr>
          <p:grpSp>
            <p:nvGrpSpPr>
              <p:cNvPr id="4095" name=""/>
              <p:cNvGrpSpPr/>
              <p:nvPr/>
            </p:nvGrpSpPr>
            <p:grpSpPr>
              <a:xfrm>
                <a:off x="-18000" y="2795400"/>
                <a:ext cx="1863360" cy="1562040"/>
                <a:chOff x="-18000" y="2795400"/>
                <a:chExt cx="1863360" cy="1562040"/>
              </a:xfrm>
            </p:grpSpPr>
            <p:grpSp>
              <p:nvGrpSpPr>
                <p:cNvPr id="4096" name=""/>
                <p:cNvGrpSpPr/>
                <p:nvPr/>
              </p:nvGrpSpPr>
              <p:grpSpPr>
                <a:xfrm>
                  <a:off x="-18000" y="2795400"/>
                  <a:ext cx="1863360" cy="1562040"/>
                  <a:chOff x="-18000" y="2795400"/>
                  <a:chExt cx="1863360" cy="1562040"/>
                </a:xfrm>
              </p:grpSpPr>
              <p:sp>
                <p:nvSpPr>
                  <p:cNvPr id="4097" name=""/>
                  <p:cNvSpPr/>
                  <p:nvPr/>
                </p:nvSpPr>
                <p:spPr>
                  <a:xfrm rot="15622800">
                    <a:off x="16200" y="3233880"/>
                    <a:ext cx="1098360" cy="997200"/>
                  </a:xfrm>
                  <a:custGeom>
                    <a:avLst/>
                    <a:gdLst/>
                    <a:ahLst/>
                    <a:rect l="l" t="t" r="r" b="b"/>
                    <a:pathLst>
                      <a:path w="1003" h="685">
                        <a:moveTo>
                          <a:pt x="21" y="685"/>
                        </a:moveTo>
                        <a:lnTo>
                          <a:pt x="6" y="604"/>
                        </a:lnTo>
                        <a:lnTo>
                          <a:pt x="0" y="526"/>
                        </a:lnTo>
                        <a:lnTo>
                          <a:pt x="3" y="472"/>
                        </a:lnTo>
                        <a:lnTo>
                          <a:pt x="12" y="423"/>
                        </a:lnTo>
                        <a:lnTo>
                          <a:pt x="27" y="369"/>
                        </a:lnTo>
                        <a:lnTo>
                          <a:pt x="51" y="315"/>
                        </a:lnTo>
                        <a:lnTo>
                          <a:pt x="81" y="258"/>
                        </a:lnTo>
                        <a:lnTo>
                          <a:pt x="111" y="213"/>
                        </a:lnTo>
                        <a:lnTo>
                          <a:pt x="147" y="168"/>
                        </a:lnTo>
                        <a:lnTo>
                          <a:pt x="189" y="129"/>
                        </a:lnTo>
                        <a:lnTo>
                          <a:pt x="231" y="96"/>
                        </a:lnTo>
                        <a:lnTo>
                          <a:pt x="276" y="69"/>
                        </a:lnTo>
                        <a:lnTo>
                          <a:pt x="331" y="45"/>
                        </a:lnTo>
                        <a:lnTo>
                          <a:pt x="394" y="24"/>
                        </a:lnTo>
                        <a:lnTo>
                          <a:pt x="448" y="9"/>
                        </a:lnTo>
                        <a:lnTo>
                          <a:pt x="514" y="0"/>
                        </a:lnTo>
                        <a:lnTo>
                          <a:pt x="598" y="0"/>
                        </a:lnTo>
                        <a:lnTo>
                          <a:pt x="661" y="12"/>
                        </a:lnTo>
                        <a:lnTo>
                          <a:pt x="736" y="30"/>
                        </a:lnTo>
                        <a:lnTo>
                          <a:pt x="811" y="63"/>
                        </a:lnTo>
                        <a:lnTo>
                          <a:pt x="877" y="102"/>
                        </a:lnTo>
                        <a:lnTo>
                          <a:pt x="922" y="141"/>
                        </a:lnTo>
                        <a:lnTo>
                          <a:pt x="967" y="186"/>
                        </a:lnTo>
                        <a:lnTo>
                          <a:pt x="1003" y="231"/>
                        </a:lnTo>
                        <a:lnTo>
                          <a:pt x="907" y="159"/>
                        </a:lnTo>
                        <a:lnTo>
                          <a:pt x="856" y="129"/>
                        </a:lnTo>
                        <a:lnTo>
                          <a:pt x="802" y="108"/>
                        </a:lnTo>
                        <a:lnTo>
                          <a:pt x="733" y="87"/>
                        </a:lnTo>
                        <a:lnTo>
                          <a:pt x="667" y="78"/>
                        </a:lnTo>
                        <a:lnTo>
                          <a:pt x="595" y="75"/>
                        </a:lnTo>
                        <a:lnTo>
                          <a:pt x="541" y="78"/>
                        </a:lnTo>
                        <a:lnTo>
                          <a:pt x="484" y="87"/>
                        </a:lnTo>
                        <a:lnTo>
                          <a:pt x="427" y="102"/>
                        </a:lnTo>
                        <a:lnTo>
                          <a:pt x="373" y="120"/>
                        </a:lnTo>
                        <a:lnTo>
                          <a:pt x="313" y="150"/>
                        </a:lnTo>
                        <a:lnTo>
                          <a:pt x="267" y="177"/>
                        </a:lnTo>
                        <a:lnTo>
                          <a:pt x="228" y="210"/>
                        </a:lnTo>
                        <a:lnTo>
                          <a:pt x="183" y="246"/>
                        </a:lnTo>
                        <a:lnTo>
                          <a:pt x="147" y="285"/>
                        </a:lnTo>
                        <a:lnTo>
                          <a:pt x="111" y="339"/>
                        </a:lnTo>
                        <a:lnTo>
                          <a:pt x="78" y="396"/>
                        </a:lnTo>
                        <a:lnTo>
                          <a:pt x="57" y="450"/>
                        </a:lnTo>
                        <a:lnTo>
                          <a:pt x="39" y="514"/>
                        </a:lnTo>
                        <a:lnTo>
                          <a:pt x="27" y="592"/>
                        </a:lnTo>
                        <a:lnTo>
                          <a:pt x="21" y="68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8" name=""/>
                  <p:cNvSpPr/>
                  <p:nvPr/>
                </p:nvSpPr>
                <p:spPr>
                  <a:xfrm rot="15622800">
                    <a:off x="534600" y="2882520"/>
                    <a:ext cx="1211400" cy="1224360"/>
                  </a:xfrm>
                  <a:custGeom>
                    <a:avLst/>
                    <a:gdLst/>
                    <a:ahLst/>
                    <a:rect l="l" t="t" r="r" b="b"/>
                    <a:pathLst>
                      <a:path w="1106" h="841">
                        <a:moveTo>
                          <a:pt x="0" y="511"/>
                        </a:moveTo>
                        <a:lnTo>
                          <a:pt x="63" y="583"/>
                        </a:lnTo>
                        <a:lnTo>
                          <a:pt x="132" y="646"/>
                        </a:lnTo>
                        <a:lnTo>
                          <a:pt x="195" y="682"/>
                        </a:lnTo>
                        <a:lnTo>
                          <a:pt x="286" y="721"/>
                        </a:lnTo>
                        <a:lnTo>
                          <a:pt x="358" y="742"/>
                        </a:lnTo>
                        <a:lnTo>
                          <a:pt x="424" y="751"/>
                        </a:lnTo>
                        <a:lnTo>
                          <a:pt x="502" y="751"/>
                        </a:lnTo>
                        <a:lnTo>
                          <a:pt x="559" y="745"/>
                        </a:lnTo>
                        <a:lnTo>
                          <a:pt x="628" y="733"/>
                        </a:lnTo>
                        <a:lnTo>
                          <a:pt x="697" y="712"/>
                        </a:lnTo>
                        <a:lnTo>
                          <a:pt x="754" y="682"/>
                        </a:lnTo>
                        <a:lnTo>
                          <a:pt x="808" y="649"/>
                        </a:lnTo>
                        <a:lnTo>
                          <a:pt x="856" y="616"/>
                        </a:lnTo>
                        <a:lnTo>
                          <a:pt x="904" y="568"/>
                        </a:lnTo>
                        <a:lnTo>
                          <a:pt x="952" y="514"/>
                        </a:lnTo>
                        <a:lnTo>
                          <a:pt x="989" y="463"/>
                        </a:lnTo>
                        <a:lnTo>
                          <a:pt x="1010" y="412"/>
                        </a:lnTo>
                        <a:lnTo>
                          <a:pt x="1037" y="331"/>
                        </a:lnTo>
                        <a:lnTo>
                          <a:pt x="1055" y="247"/>
                        </a:lnTo>
                        <a:lnTo>
                          <a:pt x="1058" y="172"/>
                        </a:lnTo>
                        <a:lnTo>
                          <a:pt x="1046" y="90"/>
                        </a:lnTo>
                        <a:lnTo>
                          <a:pt x="1019" y="0"/>
                        </a:lnTo>
                        <a:lnTo>
                          <a:pt x="1046" y="48"/>
                        </a:lnTo>
                        <a:lnTo>
                          <a:pt x="1076" y="117"/>
                        </a:lnTo>
                        <a:lnTo>
                          <a:pt x="1091" y="181"/>
                        </a:lnTo>
                        <a:lnTo>
                          <a:pt x="1106" y="241"/>
                        </a:lnTo>
                        <a:lnTo>
                          <a:pt x="1103" y="292"/>
                        </a:lnTo>
                        <a:lnTo>
                          <a:pt x="1100" y="361"/>
                        </a:lnTo>
                        <a:lnTo>
                          <a:pt x="1064" y="493"/>
                        </a:lnTo>
                        <a:lnTo>
                          <a:pt x="1028" y="565"/>
                        </a:lnTo>
                        <a:lnTo>
                          <a:pt x="983" y="628"/>
                        </a:lnTo>
                        <a:lnTo>
                          <a:pt x="934" y="682"/>
                        </a:lnTo>
                        <a:lnTo>
                          <a:pt x="886" y="721"/>
                        </a:lnTo>
                        <a:lnTo>
                          <a:pt x="820" y="766"/>
                        </a:lnTo>
                        <a:lnTo>
                          <a:pt x="754" y="796"/>
                        </a:lnTo>
                        <a:lnTo>
                          <a:pt x="691" y="817"/>
                        </a:lnTo>
                        <a:lnTo>
                          <a:pt x="610" y="838"/>
                        </a:lnTo>
                        <a:lnTo>
                          <a:pt x="550" y="841"/>
                        </a:lnTo>
                        <a:lnTo>
                          <a:pt x="484" y="841"/>
                        </a:lnTo>
                        <a:lnTo>
                          <a:pt x="418" y="829"/>
                        </a:lnTo>
                        <a:lnTo>
                          <a:pt x="346" y="814"/>
                        </a:lnTo>
                        <a:lnTo>
                          <a:pt x="298" y="796"/>
                        </a:lnTo>
                        <a:lnTo>
                          <a:pt x="234" y="763"/>
                        </a:lnTo>
                        <a:lnTo>
                          <a:pt x="180" y="733"/>
                        </a:lnTo>
                        <a:lnTo>
                          <a:pt x="129" y="691"/>
                        </a:lnTo>
                        <a:lnTo>
                          <a:pt x="75" y="634"/>
                        </a:lnTo>
                        <a:lnTo>
                          <a:pt x="24" y="562"/>
                        </a:lnTo>
                        <a:lnTo>
                          <a:pt x="0" y="5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99" name=""/>
                <p:cNvGrpSpPr/>
                <p:nvPr/>
              </p:nvGrpSpPr>
              <p:grpSpPr>
                <a:xfrm>
                  <a:off x="15840" y="2871360"/>
                  <a:ext cx="1756080" cy="1418400"/>
                  <a:chOff x="15840" y="2871360"/>
                  <a:chExt cx="1756080" cy="1418400"/>
                </a:xfrm>
              </p:grpSpPr>
              <p:sp>
                <p:nvSpPr>
                  <p:cNvPr id="4100" name=""/>
                  <p:cNvSpPr/>
                  <p:nvPr/>
                </p:nvSpPr>
                <p:spPr>
                  <a:xfrm rot="15622800">
                    <a:off x="1389240" y="3681000"/>
                    <a:ext cx="313920" cy="404640"/>
                  </a:xfrm>
                  <a:custGeom>
                    <a:avLst/>
                    <a:gdLst/>
                    <a:ahLst/>
                    <a:rect l="l" t="t" r="r" b="b"/>
                    <a:pathLst>
                      <a:path w="287" h="278">
                        <a:moveTo>
                          <a:pt x="0" y="0"/>
                        </a:moveTo>
                        <a:lnTo>
                          <a:pt x="30" y="56"/>
                        </a:lnTo>
                        <a:lnTo>
                          <a:pt x="59" y="99"/>
                        </a:lnTo>
                        <a:lnTo>
                          <a:pt x="90" y="138"/>
                        </a:lnTo>
                        <a:lnTo>
                          <a:pt x="138" y="185"/>
                        </a:lnTo>
                        <a:lnTo>
                          <a:pt x="174" y="215"/>
                        </a:lnTo>
                        <a:lnTo>
                          <a:pt x="220" y="244"/>
                        </a:lnTo>
                        <a:lnTo>
                          <a:pt x="287" y="278"/>
                        </a:lnTo>
                        <a:lnTo>
                          <a:pt x="212" y="176"/>
                        </a:lnTo>
                        <a:lnTo>
                          <a:pt x="170" y="152"/>
                        </a:lnTo>
                        <a:lnTo>
                          <a:pt x="140" y="131"/>
                        </a:lnTo>
                        <a:lnTo>
                          <a:pt x="96" y="101"/>
                        </a:lnTo>
                        <a:lnTo>
                          <a:pt x="62" y="69"/>
                        </a:lnTo>
                        <a:lnTo>
                          <a:pt x="35" y="4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1" name=""/>
                  <p:cNvSpPr/>
                  <p:nvPr/>
                </p:nvSpPr>
                <p:spPr>
                  <a:xfrm rot="15622800">
                    <a:off x="772200" y="2595600"/>
                    <a:ext cx="112680" cy="794520"/>
                  </a:xfrm>
                  <a:custGeom>
                    <a:avLst/>
                    <a:gdLst/>
                    <a:ahLst/>
                    <a:rect l="l" t="t" r="r" b="b"/>
                    <a:pathLst>
                      <a:path w="103" h="546">
                        <a:moveTo>
                          <a:pt x="19" y="0"/>
                        </a:moveTo>
                        <a:lnTo>
                          <a:pt x="39" y="37"/>
                        </a:lnTo>
                        <a:lnTo>
                          <a:pt x="52" y="69"/>
                        </a:lnTo>
                        <a:lnTo>
                          <a:pt x="66" y="102"/>
                        </a:lnTo>
                        <a:lnTo>
                          <a:pt x="76" y="134"/>
                        </a:lnTo>
                        <a:lnTo>
                          <a:pt x="84" y="164"/>
                        </a:lnTo>
                        <a:lnTo>
                          <a:pt x="99" y="217"/>
                        </a:lnTo>
                        <a:lnTo>
                          <a:pt x="103" y="269"/>
                        </a:lnTo>
                        <a:lnTo>
                          <a:pt x="100" y="349"/>
                        </a:lnTo>
                        <a:lnTo>
                          <a:pt x="93" y="403"/>
                        </a:lnTo>
                        <a:lnTo>
                          <a:pt x="82" y="447"/>
                        </a:lnTo>
                        <a:lnTo>
                          <a:pt x="65" y="493"/>
                        </a:lnTo>
                        <a:lnTo>
                          <a:pt x="42" y="546"/>
                        </a:lnTo>
                        <a:lnTo>
                          <a:pt x="0" y="443"/>
                        </a:lnTo>
                        <a:lnTo>
                          <a:pt x="19" y="398"/>
                        </a:lnTo>
                        <a:lnTo>
                          <a:pt x="28" y="374"/>
                        </a:lnTo>
                        <a:lnTo>
                          <a:pt x="39" y="343"/>
                        </a:lnTo>
                        <a:lnTo>
                          <a:pt x="46" y="311"/>
                        </a:lnTo>
                        <a:lnTo>
                          <a:pt x="52" y="262"/>
                        </a:lnTo>
                        <a:lnTo>
                          <a:pt x="55" y="221"/>
                        </a:lnTo>
                        <a:lnTo>
                          <a:pt x="55" y="160"/>
                        </a:lnTo>
                        <a:lnTo>
                          <a:pt x="46" y="105"/>
                        </a:lnTo>
                        <a:lnTo>
                          <a:pt x="36" y="60"/>
                        </a:lnTo>
                        <a:lnTo>
                          <a:pt x="30" y="36"/>
                        </a:lnTo>
                        <a:lnTo>
                          <a:pt x="1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
                  <p:cNvSpPr/>
                  <p:nvPr/>
                </p:nvSpPr>
                <p:spPr>
                  <a:xfrm rot="15622800">
                    <a:off x="-51840" y="3412440"/>
                    <a:ext cx="446760" cy="240120"/>
                  </a:xfrm>
                  <a:custGeom>
                    <a:avLst/>
                    <a:gdLst/>
                    <a:ahLst/>
                    <a:rect l="l" t="t" r="r" b="b"/>
                    <a:pathLst>
                      <a:path w="408" h="165">
                        <a:moveTo>
                          <a:pt x="0" y="0"/>
                        </a:moveTo>
                        <a:lnTo>
                          <a:pt x="31" y="60"/>
                        </a:lnTo>
                        <a:lnTo>
                          <a:pt x="79" y="57"/>
                        </a:lnTo>
                        <a:lnTo>
                          <a:pt x="123" y="60"/>
                        </a:lnTo>
                        <a:lnTo>
                          <a:pt x="164" y="66"/>
                        </a:lnTo>
                        <a:lnTo>
                          <a:pt x="202" y="73"/>
                        </a:lnTo>
                        <a:lnTo>
                          <a:pt x="240" y="83"/>
                        </a:lnTo>
                        <a:lnTo>
                          <a:pt x="266" y="91"/>
                        </a:lnTo>
                        <a:lnTo>
                          <a:pt x="300" y="105"/>
                        </a:lnTo>
                        <a:lnTo>
                          <a:pt x="339" y="124"/>
                        </a:lnTo>
                        <a:lnTo>
                          <a:pt x="408" y="165"/>
                        </a:lnTo>
                        <a:lnTo>
                          <a:pt x="368" y="123"/>
                        </a:lnTo>
                        <a:lnTo>
                          <a:pt x="340" y="102"/>
                        </a:lnTo>
                        <a:lnTo>
                          <a:pt x="303" y="78"/>
                        </a:lnTo>
                        <a:lnTo>
                          <a:pt x="280" y="64"/>
                        </a:lnTo>
                        <a:lnTo>
                          <a:pt x="229" y="40"/>
                        </a:lnTo>
                        <a:lnTo>
                          <a:pt x="196" y="28"/>
                        </a:lnTo>
                        <a:lnTo>
                          <a:pt x="169" y="19"/>
                        </a:lnTo>
                        <a:lnTo>
                          <a:pt x="144" y="13"/>
                        </a:lnTo>
                        <a:lnTo>
                          <a:pt x="105" y="6"/>
                        </a:lnTo>
                        <a:lnTo>
                          <a:pt x="64" y="1"/>
                        </a:lnTo>
                        <a:lnTo>
                          <a:pt x="18"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3" name=""/>
                  <p:cNvSpPr/>
                  <p:nvPr/>
                </p:nvSpPr>
                <p:spPr>
                  <a:xfrm rot="15622800">
                    <a:off x="714240" y="3890520"/>
                    <a:ext cx="142560" cy="563400"/>
                  </a:xfrm>
                  <a:custGeom>
                    <a:avLst/>
                    <a:gdLst/>
                    <a:ahLst/>
                    <a:rect l="l" t="t" r="r" b="b"/>
                    <a:pathLst>
                      <a:path w="130" h="387">
                        <a:moveTo>
                          <a:pt x="0" y="297"/>
                        </a:moveTo>
                        <a:lnTo>
                          <a:pt x="3" y="267"/>
                        </a:lnTo>
                        <a:lnTo>
                          <a:pt x="5" y="234"/>
                        </a:lnTo>
                        <a:lnTo>
                          <a:pt x="14" y="181"/>
                        </a:lnTo>
                        <a:lnTo>
                          <a:pt x="24" y="139"/>
                        </a:lnTo>
                        <a:lnTo>
                          <a:pt x="38" y="101"/>
                        </a:lnTo>
                        <a:lnTo>
                          <a:pt x="56" y="62"/>
                        </a:lnTo>
                        <a:lnTo>
                          <a:pt x="72" y="32"/>
                        </a:lnTo>
                        <a:lnTo>
                          <a:pt x="92" y="0"/>
                        </a:lnTo>
                        <a:lnTo>
                          <a:pt x="130" y="50"/>
                        </a:lnTo>
                        <a:lnTo>
                          <a:pt x="108" y="80"/>
                        </a:lnTo>
                        <a:lnTo>
                          <a:pt x="92" y="107"/>
                        </a:lnTo>
                        <a:lnTo>
                          <a:pt x="79" y="132"/>
                        </a:lnTo>
                        <a:lnTo>
                          <a:pt x="60" y="167"/>
                        </a:lnTo>
                        <a:lnTo>
                          <a:pt x="48" y="198"/>
                        </a:lnTo>
                        <a:lnTo>
                          <a:pt x="41" y="228"/>
                        </a:lnTo>
                        <a:lnTo>
                          <a:pt x="32" y="258"/>
                        </a:lnTo>
                        <a:lnTo>
                          <a:pt x="26" y="291"/>
                        </a:lnTo>
                        <a:lnTo>
                          <a:pt x="21" y="331"/>
                        </a:lnTo>
                        <a:lnTo>
                          <a:pt x="17" y="371"/>
                        </a:lnTo>
                        <a:lnTo>
                          <a:pt x="10" y="387"/>
                        </a:lnTo>
                        <a:lnTo>
                          <a:pt x="0" y="29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04" name=""/>
              <p:cNvSpPr/>
              <p:nvPr/>
            </p:nvSpPr>
            <p:spPr>
              <a:xfrm rot="15622800">
                <a:off x="325440" y="2748600"/>
                <a:ext cx="1263960" cy="16084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5" name=""/>
              <p:cNvGrpSpPr/>
              <p:nvPr/>
            </p:nvGrpSpPr>
            <p:grpSpPr>
              <a:xfrm>
                <a:off x="-61200" y="2869560"/>
                <a:ext cx="1797120" cy="1514520"/>
                <a:chOff x="-61200" y="2869560"/>
                <a:chExt cx="1797120" cy="1514520"/>
              </a:xfrm>
            </p:grpSpPr>
            <p:sp>
              <p:nvSpPr>
                <p:cNvPr id="4106" name=""/>
                <p:cNvSpPr/>
                <p:nvPr/>
              </p:nvSpPr>
              <p:spPr>
                <a:xfrm rot="15622800">
                  <a:off x="222120" y="2842200"/>
                  <a:ext cx="1234080" cy="1569240"/>
                </a:xfrm>
                <a:prstGeom prst="ellipse">
                  <a:avLst/>
                </a:prstGeom>
                <a:noFill/>
                <a:ln w="63360">
                  <a:solidFill>
                    <a:srgbClr val="9f9f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7" name=""/>
                <p:cNvSpPr/>
                <p:nvPr/>
              </p:nvSpPr>
              <p:spPr>
                <a:xfrm rot="15622800">
                  <a:off x="205560" y="2822400"/>
                  <a:ext cx="1263600" cy="16084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8" name=""/>
                <p:cNvSpPr/>
                <p:nvPr/>
              </p:nvSpPr>
              <p:spPr>
                <a:xfrm rot="15622800">
                  <a:off x="241200" y="2865240"/>
                  <a:ext cx="1193400" cy="1522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09" name=""/>
            <p:cNvGrpSpPr/>
            <p:nvPr/>
          </p:nvGrpSpPr>
          <p:grpSpPr>
            <a:xfrm>
              <a:off x="1457280" y="2373840"/>
              <a:ext cx="1289520" cy="863280"/>
              <a:chOff x="1457280" y="2373840"/>
              <a:chExt cx="1289520" cy="863280"/>
            </a:xfrm>
          </p:grpSpPr>
          <p:sp>
            <p:nvSpPr>
              <p:cNvPr id="4110" name=""/>
              <p:cNvSpPr/>
              <p:nvPr/>
            </p:nvSpPr>
            <p:spPr>
              <a:xfrm rot="15622800">
                <a:off x="1779840" y="2230200"/>
                <a:ext cx="617760" cy="1176120"/>
              </a:xfrm>
              <a:custGeom>
                <a:avLst/>
                <a:gdLst/>
                <a:ahLst/>
                <a:rect l="l" t="t" r="r" b="b"/>
                <a:pathLst>
                  <a:path w="564" h="808">
                    <a:moveTo>
                      <a:pt x="0" y="60"/>
                    </a:moveTo>
                    <a:lnTo>
                      <a:pt x="400" y="808"/>
                    </a:lnTo>
                    <a:lnTo>
                      <a:pt x="564" y="725"/>
                    </a:lnTo>
                    <a:lnTo>
                      <a:pt x="162" y="0"/>
                    </a:lnTo>
                    <a:lnTo>
                      <a:pt x="0" y="6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1" name=""/>
              <p:cNvSpPr/>
              <p:nvPr/>
            </p:nvSpPr>
            <p:spPr>
              <a:xfrm rot="15622800">
                <a:off x="1500120" y="3003120"/>
                <a:ext cx="190080" cy="237600"/>
              </a:xfrm>
              <a:custGeom>
                <a:avLst/>
                <a:gdLst/>
                <a:ahLst/>
                <a:rect l="l" t="t" r="r" b="b"/>
                <a:pathLst>
                  <a:path stroke="0" w="21600" h="21600">
                    <a:moveTo>
                      <a:pt x="439" y="13846"/>
                    </a:moveTo>
                    <a:arcTo wR="10800" hR="10800" stAng="9816983" swAng="10707533"/>
                    <a:lnTo>
                      <a:pt x="10800" y="10800"/>
                    </a:lnTo>
                    <a:close/>
                  </a:path>
                  <a:path fill="none" w="21600" h="21600">
                    <a:moveTo>
                      <a:pt x="439" y="13846"/>
                    </a:moveTo>
                    <a:arcTo wR="10800" hR="10800" stAng="9816983" swAng="10707533"/>
                  </a:path>
                </a:pathLst>
              </a:custGeom>
              <a:solidFill>
                <a:srgbClr val="5f3f1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2" name=""/>
              <p:cNvSpPr/>
              <p:nvPr/>
            </p:nvSpPr>
            <p:spPr>
              <a:xfrm rot="15622800">
                <a:off x="1524960" y="2981520"/>
                <a:ext cx="192600" cy="261000"/>
              </a:xfrm>
              <a:custGeom>
                <a:avLst/>
                <a:gdLst/>
                <a:ahLst/>
                <a:rect l="l" t="t" r="r" b="b"/>
                <a:pathLst>
                  <a:path stroke="0" w="21600" h="21600">
                    <a:moveTo>
                      <a:pt x="69" y="12020"/>
                    </a:moveTo>
                    <a:arcTo wR="10800" hR="10800" stAng="10410941" swAng="10069629"/>
                    <a:lnTo>
                      <a:pt x="10800" y="10800"/>
                    </a:lnTo>
                    <a:close/>
                  </a:path>
                  <a:path fill="none" w="21600" h="21600">
                    <a:moveTo>
                      <a:pt x="69" y="12020"/>
                    </a:moveTo>
                    <a:arcTo wR="10800" hR="10800" stAng="10410941" swAng="10069629"/>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3" name=""/>
              <p:cNvSpPr/>
              <p:nvPr/>
            </p:nvSpPr>
            <p:spPr>
              <a:xfrm rot="15622800">
                <a:off x="1591200" y="3001320"/>
                <a:ext cx="117000" cy="300960"/>
              </a:xfrm>
              <a:custGeom>
                <a:avLst/>
                <a:gdLst/>
                <a:ahLst/>
                <a:rect l="l" t="t" r="r" b="b"/>
                <a:pathLst>
                  <a:path w="107" h="207">
                    <a:moveTo>
                      <a:pt x="3" y="96"/>
                    </a:moveTo>
                    <a:lnTo>
                      <a:pt x="0" y="82"/>
                    </a:lnTo>
                    <a:lnTo>
                      <a:pt x="0" y="69"/>
                    </a:lnTo>
                    <a:lnTo>
                      <a:pt x="2" y="58"/>
                    </a:lnTo>
                    <a:lnTo>
                      <a:pt x="6" y="42"/>
                    </a:lnTo>
                    <a:lnTo>
                      <a:pt x="12" y="29"/>
                    </a:lnTo>
                    <a:lnTo>
                      <a:pt x="21" y="17"/>
                    </a:lnTo>
                    <a:lnTo>
                      <a:pt x="31" y="7"/>
                    </a:lnTo>
                    <a:lnTo>
                      <a:pt x="41" y="0"/>
                    </a:lnTo>
                    <a:lnTo>
                      <a:pt x="107" y="112"/>
                    </a:lnTo>
                    <a:lnTo>
                      <a:pt x="95" y="119"/>
                    </a:lnTo>
                    <a:lnTo>
                      <a:pt x="87" y="127"/>
                    </a:lnTo>
                    <a:lnTo>
                      <a:pt x="79" y="135"/>
                    </a:lnTo>
                    <a:lnTo>
                      <a:pt x="73" y="145"/>
                    </a:lnTo>
                    <a:lnTo>
                      <a:pt x="66" y="163"/>
                    </a:lnTo>
                    <a:lnTo>
                      <a:pt x="62" y="187"/>
                    </a:lnTo>
                    <a:lnTo>
                      <a:pt x="62" y="207"/>
                    </a:lnTo>
                    <a:lnTo>
                      <a:pt x="3" y="96"/>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4" name=""/>
              <p:cNvSpPr/>
              <p:nvPr/>
            </p:nvSpPr>
            <p:spPr>
              <a:xfrm rot="15622800">
                <a:off x="1499040" y="3004560"/>
                <a:ext cx="189720" cy="237960"/>
              </a:xfrm>
              <a:custGeom>
                <a:avLst/>
                <a:gdLst/>
                <a:ahLst/>
                <a:rect l="l" t="t" r="r" b="b"/>
                <a:pathLst>
                  <a:path stroke="0" w="21600" h="21600">
                    <a:moveTo>
                      <a:pt x="403" y="13724"/>
                    </a:moveTo>
                    <a:arcTo wR="10800" hR="10800" stAng="9857570" swAng="5117964"/>
                    <a:lnTo>
                      <a:pt x="10800" y="10800"/>
                    </a:lnTo>
                    <a:close/>
                  </a:path>
                  <a:path fill="none" w="21600" h="21600">
                    <a:moveTo>
                      <a:pt x="403" y="13724"/>
                    </a:moveTo>
                    <a:arcTo wR="10800" hR="10800" stAng="9857570" swAng="511796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5" name=""/>
              <p:cNvSpPr/>
              <p:nvPr/>
            </p:nvSpPr>
            <p:spPr>
              <a:xfrm rot="15622800">
                <a:off x="1650240" y="2908440"/>
                <a:ext cx="190800" cy="237600"/>
              </a:xfrm>
              <a:custGeom>
                <a:avLst/>
                <a:gdLst/>
                <a:ahLst/>
                <a:rect l="l" t="t" r="r" b="b"/>
                <a:pathLst>
                  <a:path stroke="0" w="21600" h="21600">
                    <a:moveTo>
                      <a:pt x="365" y="13584"/>
                    </a:moveTo>
                    <a:arcTo wR="10800" hR="10800" stAng="9903788" swAng="10696462"/>
                    <a:lnTo>
                      <a:pt x="10800" y="10800"/>
                    </a:lnTo>
                    <a:close/>
                  </a:path>
                  <a:path fill="none" w="21600" h="21600">
                    <a:moveTo>
                      <a:pt x="365" y="13584"/>
                    </a:moveTo>
                    <a:arcTo wR="10800" hR="10800" stAng="9903788" swAng="1069646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6" name=""/>
              <p:cNvGrpSpPr/>
              <p:nvPr/>
            </p:nvGrpSpPr>
            <p:grpSpPr>
              <a:xfrm>
                <a:off x="1634040" y="2887920"/>
                <a:ext cx="289800" cy="243000"/>
                <a:chOff x="1634040" y="2887920"/>
                <a:chExt cx="289800" cy="243000"/>
              </a:xfrm>
            </p:grpSpPr>
            <p:grpSp>
              <p:nvGrpSpPr>
                <p:cNvPr id="4117" name=""/>
                <p:cNvGrpSpPr/>
                <p:nvPr/>
              </p:nvGrpSpPr>
              <p:grpSpPr>
                <a:xfrm>
                  <a:off x="1634040" y="2901960"/>
                  <a:ext cx="266400" cy="228960"/>
                  <a:chOff x="1634040" y="2901960"/>
                  <a:chExt cx="266400" cy="228960"/>
                </a:xfrm>
              </p:grpSpPr>
              <p:sp>
                <p:nvSpPr>
                  <p:cNvPr id="4118" name=""/>
                  <p:cNvSpPr/>
                  <p:nvPr/>
                </p:nvSpPr>
                <p:spPr>
                  <a:xfrm rot="15622800">
                    <a:off x="1671840" y="2898360"/>
                    <a:ext cx="190440" cy="23724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9" name=""/>
                  <p:cNvSpPr/>
                  <p:nvPr/>
                </p:nvSpPr>
                <p:spPr>
                  <a:xfrm rot="15622800">
                    <a:off x="1671120" y="2897640"/>
                    <a:ext cx="191880" cy="237600"/>
                  </a:xfrm>
                  <a:custGeom>
                    <a:avLst/>
                    <a:gdLst/>
                    <a:ahLst/>
                    <a:rect l="l" t="t" r="r" b="b"/>
                    <a:pathLst>
                      <a:path stroke="0" w="21600" h="21600">
                        <a:moveTo>
                          <a:pt x="266" y="13180"/>
                        </a:moveTo>
                        <a:arcTo wR="10800" hR="10800" stAng="10036009" swAng="4423841"/>
                        <a:lnTo>
                          <a:pt x="10800" y="10800"/>
                        </a:lnTo>
                        <a:close/>
                      </a:path>
                      <a:path fill="none" w="21600" h="21600">
                        <a:moveTo>
                          <a:pt x="266" y="13180"/>
                        </a:moveTo>
                        <a:arcTo wR="10800" hR="10800" stAng="10036009" swAng="4423841"/>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0" name=""/>
                  <p:cNvSpPr/>
                  <p:nvPr/>
                </p:nvSpPr>
                <p:spPr>
                  <a:xfrm rot="15622800">
                    <a:off x="1671840" y="2897280"/>
                    <a:ext cx="190440" cy="23724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1" name=""/>
                <p:cNvSpPr/>
                <p:nvPr/>
              </p:nvSpPr>
              <p:spPr>
                <a:xfrm rot="15622800">
                  <a:off x="1695600" y="2883240"/>
                  <a:ext cx="190800" cy="23688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22" name=""/>
              <p:cNvGrpSpPr/>
              <p:nvPr/>
            </p:nvGrpSpPr>
            <p:grpSpPr>
              <a:xfrm>
                <a:off x="1680120" y="2862000"/>
                <a:ext cx="290160" cy="242640"/>
                <a:chOff x="1680120" y="2862000"/>
                <a:chExt cx="290160" cy="242640"/>
              </a:xfrm>
            </p:grpSpPr>
            <p:grpSp>
              <p:nvGrpSpPr>
                <p:cNvPr id="4123" name=""/>
                <p:cNvGrpSpPr/>
                <p:nvPr/>
              </p:nvGrpSpPr>
              <p:grpSpPr>
                <a:xfrm>
                  <a:off x="1680120" y="2875680"/>
                  <a:ext cx="266040" cy="228960"/>
                  <a:chOff x="1680120" y="2875680"/>
                  <a:chExt cx="266040" cy="228960"/>
                </a:xfrm>
              </p:grpSpPr>
              <p:sp>
                <p:nvSpPr>
                  <p:cNvPr id="4124" name=""/>
                  <p:cNvSpPr/>
                  <p:nvPr/>
                </p:nvSpPr>
                <p:spPr>
                  <a:xfrm rot="15622800">
                    <a:off x="1717200" y="2871720"/>
                    <a:ext cx="191160" cy="23724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5" name=""/>
                  <p:cNvSpPr/>
                  <p:nvPr/>
                </p:nvSpPr>
                <p:spPr>
                  <a:xfrm rot="15622800">
                    <a:off x="1716840" y="2871360"/>
                    <a:ext cx="191880" cy="237240"/>
                  </a:xfrm>
                  <a:custGeom>
                    <a:avLst/>
                    <a:gdLst/>
                    <a:ahLst/>
                    <a:rect l="l" t="t" r="r" b="b"/>
                    <a:pathLst>
                      <a:path stroke="0" w="21600" h="21600">
                        <a:moveTo>
                          <a:pt x="238" y="13054"/>
                        </a:moveTo>
                        <a:arcTo wR="10800" hR="10800" stAng="10077178" swAng="4382672"/>
                        <a:lnTo>
                          <a:pt x="10800" y="10800"/>
                        </a:lnTo>
                        <a:close/>
                      </a:path>
                      <a:path fill="none" w="21600" h="21600">
                        <a:moveTo>
                          <a:pt x="238" y="13054"/>
                        </a:moveTo>
                        <a:arcTo wR="10800" hR="10800" stAng="10077178" swAng="4382672"/>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6" name=""/>
                  <p:cNvSpPr/>
                  <p:nvPr/>
                </p:nvSpPr>
                <p:spPr>
                  <a:xfrm rot="15622800">
                    <a:off x="1717560" y="2871360"/>
                    <a:ext cx="190080" cy="23724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7" name=""/>
                <p:cNvSpPr/>
                <p:nvPr/>
              </p:nvSpPr>
              <p:spPr>
                <a:xfrm rot="15622800">
                  <a:off x="1742040" y="2856960"/>
                  <a:ext cx="190440" cy="23724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28" name=""/>
              <p:cNvGrpSpPr/>
              <p:nvPr/>
            </p:nvGrpSpPr>
            <p:grpSpPr>
              <a:xfrm>
                <a:off x="1722600" y="2847600"/>
                <a:ext cx="266760" cy="229680"/>
                <a:chOff x="1722600" y="2847600"/>
                <a:chExt cx="266760" cy="229680"/>
              </a:xfrm>
            </p:grpSpPr>
            <p:sp>
              <p:nvSpPr>
                <p:cNvPr id="4129" name=""/>
                <p:cNvSpPr/>
                <p:nvPr/>
              </p:nvSpPr>
              <p:spPr>
                <a:xfrm rot="15622800">
                  <a:off x="1760400" y="2844360"/>
                  <a:ext cx="191160" cy="23760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
                <p:cNvSpPr/>
                <p:nvPr/>
              </p:nvSpPr>
              <p:spPr>
                <a:xfrm rot="15622800">
                  <a:off x="1759320" y="2843280"/>
                  <a:ext cx="192600" cy="237960"/>
                </a:xfrm>
                <a:custGeom>
                  <a:avLst/>
                  <a:gdLst/>
                  <a:ahLst/>
                  <a:rect l="l" t="t" r="r" b="b"/>
                  <a:pathLst>
                    <a:path stroke="0" w="21600" h="21600">
                      <a:moveTo>
                        <a:pt x="211" y="12927"/>
                      </a:moveTo>
                      <a:arcTo wR="10800" hR="10800" stAng="10118559" swAng="4341291"/>
                      <a:lnTo>
                        <a:pt x="10800" y="10800"/>
                      </a:lnTo>
                      <a:close/>
                    </a:path>
                    <a:path fill="none" w="21600" h="21600">
                      <a:moveTo>
                        <a:pt x="211" y="12927"/>
                      </a:moveTo>
                      <a:arcTo wR="10800" hR="10800" stAng="10118559" swAng="4341291"/>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1" name=""/>
              <p:cNvGrpSpPr/>
              <p:nvPr/>
            </p:nvGrpSpPr>
            <p:grpSpPr>
              <a:xfrm>
                <a:off x="1722600" y="2833920"/>
                <a:ext cx="290160" cy="242280"/>
                <a:chOff x="1722600" y="2833920"/>
                <a:chExt cx="290160" cy="242280"/>
              </a:xfrm>
            </p:grpSpPr>
            <p:sp>
              <p:nvSpPr>
                <p:cNvPr id="4132" name=""/>
                <p:cNvSpPr/>
                <p:nvPr/>
              </p:nvSpPr>
              <p:spPr>
                <a:xfrm rot="15622800">
                  <a:off x="1759680" y="2843280"/>
                  <a:ext cx="191520" cy="23724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3" name=""/>
                <p:cNvSpPr/>
                <p:nvPr/>
              </p:nvSpPr>
              <p:spPr>
                <a:xfrm rot="15622800">
                  <a:off x="1783800" y="2829240"/>
                  <a:ext cx="191160" cy="23724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4" name=""/>
              <p:cNvGrpSpPr/>
              <p:nvPr/>
            </p:nvGrpSpPr>
            <p:grpSpPr>
              <a:xfrm>
                <a:off x="1534680" y="2434680"/>
                <a:ext cx="1119960" cy="770760"/>
                <a:chOff x="1534680" y="2434680"/>
                <a:chExt cx="1119960" cy="770760"/>
              </a:xfrm>
            </p:grpSpPr>
            <p:sp>
              <p:nvSpPr>
                <p:cNvPr id="4135" name=""/>
                <p:cNvSpPr/>
                <p:nvPr/>
              </p:nvSpPr>
              <p:spPr>
                <a:xfrm flipV="1">
                  <a:off x="1534680" y="2434680"/>
                  <a:ext cx="961200" cy="60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
                <p:cNvSpPr/>
                <p:nvPr/>
              </p:nvSpPr>
              <p:spPr>
                <a:xfrm flipV="1">
                  <a:off x="1647720" y="2588040"/>
                  <a:ext cx="1006920" cy="61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7" name=""/>
              <p:cNvGrpSpPr/>
              <p:nvPr/>
            </p:nvGrpSpPr>
            <p:grpSpPr>
              <a:xfrm>
                <a:off x="1765080" y="2808720"/>
                <a:ext cx="285480" cy="241200"/>
                <a:chOff x="1765080" y="2808720"/>
                <a:chExt cx="285480" cy="241200"/>
              </a:xfrm>
            </p:grpSpPr>
            <p:grpSp>
              <p:nvGrpSpPr>
                <p:cNvPr id="4138" name=""/>
                <p:cNvGrpSpPr/>
                <p:nvPr/>
              </p:nvGrpSpPr>
              <p:grpSpPr>
                <a:xfrm>
                  <a:off x="1765080" y="2820960"/>
                  <a:ext cx="266040" cy="228960"/>
                  <a:chOff x="1765080" y="2820960"/>
                  <a:chExt cx="266040" cy="228960"/>
                </a:xfrm>
              </p:grpSpPr>
              <p:sp>
                <p:nvSpPr>
                  <p:cNvPr id="4139" name=""/>
                  <p:cNvSpPr/>
                  <p:nvPr/>
                </p:nvSpPr>
                <p:spPr>
                  <a:xfrm rot="15622800">
                    <a:off x="1802880" y="2817360"/>
                    <a:ext cx="190800" cy="236880"/>
                  </a:xfrm>
                  <a:custGeom>
                    <a:avLst/>
                    <a:gdLst/>
                    <a:ahLst/>
                    <a:rect l="l" t="t" r="r" b="b"/>
                    <a:pathLst>
                      <a:path stroke="0" w="21600" h="21600">
                        <a:moveTo>
                          <a:pt x="187" y="12799"/>
                        </a:moveTo>
                        <a:arcTo wR="10800" hR="10800" stAng="10160141" swAng="10708688"/>
                        <a:lnTo>
                          <a:pt x="10800" y="10800"/>
                        </a:lnTo>
                        <a:close/>
                      </a:path>
                      <a:path fill="none" w="21600" h="21600">
                        <a:moveTo>
                          <a:pt x="187" y="12799"/>
                        </a:moveTo>
                        <a:arcTo wR="10800" hR="10800" stAng="10160141" swAng="10708688"/>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
                  <p:cNvSpPr/>
                  <p:nvPr/>
                </p:nvSpPr>
                <p:spPr>
                  <a:xfrm rot="15622800">
                    <a:off x="1801800" y="2816640"/>
                    <a:ext cx="191880" cy="237240"/>
                  </a:xfrm>
                  <a:custGeom>
                    <a:avLst/>
                    <a:gdLst/>
                    <a:ahLst/>
                    <a:rect l="l" t="t" r="r" b="b"/>
                    <a:pathLst>
                      <a:path stroke="0" w="21600" h="21600">
                        <a:moveTo>
                          <a:pt x="187" y="12799"/>
                        </a:moveTo>
                        <a:arcTo wR="10800" hR="10800" stAng="10160141" swAng="4299709"/>
                        <a:lnTo>
                          <a:pt x="10800" y="10800"/>
                        </a:lnTo>
                        <a:close/>
                      </a:path>
                      <a:path fill="none" w="21600" h="21600">
                        <a:moveTo>
                          <a:pt x="187" y="12799"/>
                        </a:moveTo>
                        <a:arcTo wR="10800" hR="10800" stAng="10160141" swAng="4299709"/>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1" name=""/>
                <p:cNvSpPr/>
                <p:nvPr/>
              </p:nvSpPr>
              <p:spPr>
                <a:xfrm rot="15622800">
                  <a:off x="1802160" y="2816280"/>
                  <a:ext cx="191160" cy="23724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
                <p:cNvSpPr/>
                <p:nvPr/>
              </p:nvSpPr>
              <p:spPr>
                <a:xfrm rot="15622800">
                  <a:off x="1822320" y="2804040"/>
                  <a:ext cx="190800" cy="23688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3" name=""/>
              <p:cNvSpPr/>
              <p:nvPr/>
            </p:nvSpPr>
            <p:spPr>
              <a:xfrm rot="15622800">
                <a:off x="2029680" y="2344680"/>
                <a:ext cx="380880" cy="869040"/>
              </a:xfrm>
              <a:custGeom>
                <a:avLst/>
                <a:gdLst/>
                <a:ahLst/>
                <a:rect l="l" t="t" r="r" b="b"/>
                <a:pathLst>
                  <a:path w="348" h="597">
                    <a:moveTo>
                      <a:pt x="44" y="0"/>
                    </a:moveTo>
                    <a:lnTo>
                      <a:pt x="31" y="8"/>
                    </a:lnTo>
                    <a:lnTo>
                      <a:pt x="21" y="16"/>
                    </a:lnTo>
                    <a:lnTo>
                      <a:pt x="12" y="26"/>
                    </a:lnTo>
                    <a:lnTo>
                      <a:pt x="8" y="36"/>
                    </a:lnTo>
                    <a:lnTo>
                      <a:pt x="4" y="47"/>
                    </a:lnTo>
                    <a:lnTo>
                      <a:pt x="1" y="58"/>
                    </a:lnTo>
                    <a:lnTo>
                      <a:pt x="0" y="71"/>
                    </a:lnTo>
                    <a:lnTo>
                      <a:pt x="0" y="86"/>
                    </a:lnTo>
                    <a:lnTo>
                      <a:pt x="270" y="597"/>
                    </a:lnTo>
                    <a:lnTo>
                      <a:pt x="348" y="543"/>
                    </a:lnTo>
                    <a:lnTo>
                      <a:pt x="44"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
              <p:cNvSpPr/>
              <p:nvPr/>
            </p:nvSpPr>
            <p:spPr>
              <a:xfrm rot="15622800">
                <a:off x="2493720" y="2365560"/>
                <a:ext cx="208080" cy="266400"/>
              </a:xfrm>
              <a:prstGeom prst="ellipse">
                <a:avLst/>
              </a:prstGeom>
              <a:solidFill>
                <a:srgbClr val="7f5f3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5">
                                  <p:stCondLst>
                                    <p:cond delay="0"/>
                                  </p:stCondLst>
                                  <p:childTnLst>
                                    <p:set>
                                      <p:cBhvr>
                                        <p:cTn id="95" dur="1" fill="hold">
                                          <p:stCondLst>
                                            <p:cond delay="0"/>
                                          </p:stCondLst>
                                        </p:cTn>
                                        <p:tgtEl>
                                          <p:spTgt spid="4093"/>
                                        </p:tgtEl>
                                        <p:attrNameLst>
                                          <p:attrName>style.visibility</p:attrName>
                                        </p:attrNameLst>
                                      </p:cBhvr>
                                      <p:to>
                                        <p:strVal val="visible"/>
                                      </p:to>
                                    </p:set>
                                    <p:anim calcmode="lin" valueType="num">
                                      <p:cBhvr additive="repl">
                                        <p:cTn id="96" dur="1000" fill="hold"/>
                                        <p:tgtEl>
                                          <p:spTgt spid="4093"/>
                                        </p:tgtEl>
                                        <p:attrNameLst>
                                          <p:attrName>ppt_w</p:attrName>
                                        </p:attrNameLst>
                                      </p:cBhvr>
                                      <p:tavLst>
                                        <p:tav tm="0">
                                          <p:val>
                                            <p:fltVal val="0"/>
                                          </p:val>
                                        </p:tav>
                                        <p:tav tm="100000">
                                          <p:val>
                                            <p:strVal val="#ppt_w"/>
                                          </p:val>
                                        </p:tav>
                                      </p:tavLst>
                                    </p:anim>
                                    <p:anim calcmode="lin" valueType="num">
                                      <p:cBhvr additive="repl">
                                        <p:cTn id="97" dur="1000" fill="hold"/>
                                        <p:tgtEl>
                                          <p:spTgt spid="4093"/>
                                        </p:tgtEl>
                                        <p:attrNameLst>
                                          <p:attrName>ppt_h</p:attrName>
                                        </p:attrNameLst>
                                      </p:cBhvr>
                                      <p:tavLst>
                                        <p:tav tm="0">
                                          <p:val>
                                            <p:fltVal val="0"/>
                                          </p:val>
                                        </p:tav>
                                        <p:tav tm="100000">
                                          <p:val>
                                            <p:strVal val="#ppt_h"/>
                                          </p:val>
                                        </p:tav>
                                      </p:tavLst>
                                    </p:anim>
                                    <p:anim calcmode="lin" valueType="num">
                                      <p:cBhvr additive="repl">
                                        <p:cTn id="98" dur="1000" fill="hold"/>
                                        <p:tgtEl>
                                          <p:spTgt spid="4093"/>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40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Processo da sistemática de gates</a:t>
            </a:r>
            <a:endParaRPr b="0" lang="en-US" sz="2400" spc="-1" strike="noStrike">
              <a:solidFill>
                <a:srgbClr val="000096"/>
              </a:solidFill>
              <a:latin typeface="Arial"/>
            </a:endParaRPr>
          </a:p>
        </p:txBody>
      </p:sp>
      <p:sp>
        <p:nvSpPr>
          <p:cNvPr id="4146" name=""/>
          <p:cNvSpPr/>
          <p:nvPr/>
        </p:nvSpPr>
        <p:spPr>
          <a:xfrm>
            <a:off x="3610080" y="1698480"/>
            <a:ext cx="3360600" cy="569880"/>
          </a:xfrm>
          <a:custGeom>
            <a:avLst/>
            <a:gdLst/>
            <a:ahLst/>
            <a:rect l="l" t="t" r="r" b="b"/>
            <a:pathLst>
              <a:path w="2117" h="359">
                <a:moveTo>
                  <a:pt x="1047" y="15"/>
                </a:moveTo>
                <a:lnTo>
                  <a:pt x="0" y="359"/>
                </a:lnTo>
                <a:lnTo>
                  <a:pt x="2117" y="359"/>
                </a:lnTo>
                <a:lnTo>
                  <a:pt x="1496" y="0"/>
                </a:lnTo>
              </a:path>
            </a:pathLst>
          </a:custGeom>
          <a:solidFill>
            <a:srgbClr val="99cc00">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47" name=""/>
          <p:cNvSpPr/>
          <p:nvPr/>
        </p:nvSpPr>
        <p:spPr>
          <a:xfrm>
            <a:off x="1722600" y="3111480"/>
            <a:ext cx="1946160" cy="439920"/>
          </a:xfrm>
          <a:custGeom>
            <a:avLst/>
            <a:gdLst/>
            <a:ahLst/>
            <a:rect l="l" t="t" r="r" b="b"/>
            <a:pathLst>
              <a:path w="1226" h="277">
                <a:moveTo>
                  <a:pt x="1174" y="0"/>
                </a:moveTo>
                <a:lnTo>
                  <a:pt x="1226" y="277"/>
                </a:lnTo>
                <a:lnTo>
                  <a:pt x="0" y="277"/>
                </a:lnTo>
                <a:lnTo>
                  <a:pt x="1174" y="0"/>
                </a:lnTo>
                <a:close/>
              </a:path>
            </a:pathLst>
          </a:custGeom>
          <a:solidFill>
            <a:srgbClr val="ff0000">
              <a:alpha val="50000"/>
            </a:srgbClr>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148" name=""/>
          <p:cNvSpPr/>
          <p:nvPr/>
        </p:nvSpPr>
        <p:spPr>
          <a:xfrm>
            <a:off x="5261040" y="3122640"/>
            <a:ext cx="3360600" cy="428760"/>
          </a:xfrm>
          <a:custGeom>
            <a:avLst/>
            <a:gdLst/>
            <a:ahLst/>
            <a:rect l="l" t="t" r="r" b="b"/>
            <a:pathLst>
              <a:path w="2117" h="270">
                <a:moveTo>
                  <a:pt x="1055" y="0"/>
                </a:moveTo>
                <a:lnTo>
                  <a:pt x="0" y="255"/>
                </a:lnTo>
                <a:lnTo>
                  <a:pt x="2117" y="270"/>
                </a:lnTo>
                <a:lnTo>
                  <a:pt x="1055" y="0"/>
                </a:lnTo>
                <a:close/>
              </a:path>
            </a:pathLst>
          </a:custGeom>
          <a:solidFill>
            <a:srgbClr val="ff0000">
              <a:alpha val="50000"/>
            </a:srgbClr>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149" name=""/>
          <p:cNvSpPr/>
          <p:nvPr/>
        </p:nvSpPr>
        <p:spPr>
          <a:xfrm>
            <a:off x="6246720" y="4192560"/>
            <a:ext cx="2801880" cy="2173320"/>
          </a:xfrm>
          <a:custGeom>
            <a:avLst/>
            <a:gdLst/>
            <a:ahLst/>
            <a:rect l="l" t="t" r="r" b="b"/>
            <a:pathLst>
              <a:path w="1765" h="1369">
                <a:moveTo>
                  <a:pt x="0" y="30"/>
                </a:moveTo>
                <a:lnTo>
                  <a:pt x="0" y="1369"/>
                </a:lnTo>
                <a:lnTo>
                  <a:pt x="1765" y="1369"/>
                </a:lnTo>
                <a:lnTo>
                  <a:pt x="1765" y="224"/>
                </a:lnTo>
                <a:lnTo>
                  <a:pt x="1488" y="0"/>
                </a:lnTo>
              </a:path>
            </a:pathLst>
          </a:custGeom>
          <a:solidFill>
            <a:srgbClr val="ffccff"/>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150" name=""/>
          <p:cNvSpPr/>
          <p:nvPr/>
        </p:nvSpPr>
        <p:spPr>
          <a:xfrm>
            <a:off x="3456000" y="4216320"/>
            <a:ext cx="2790720" cy="2149560"/>
          </a:xfrm>
          <a:custGeom>
            <a:avLst/>
            <a:gdLst/>
            <a:ahLst/>
            <a:rect l="l" t="t" r="r" b="b"/>
            <a:pathLst>
              <a:path w="1758" h="1354">
                <a:moveTo>
                  <a:pt x="1758" y="15"/>
                </a:moveTo>
                <a:lnTo>
                  <a:pt x="1758" y="1354"/>
                </a:lnTo>
                <a:lnTo>
                  <a:pt x="0" y="1354"/>
                </a:lnTo>
                <a:lnTo>
                  <a:pt x="0" y="456"/>
                </a:lnTo>
                <a:lnTo>
                  <a:pt x="1152" y="0"/>
                </a:lnTo>
              </a:path>
            </a:pathLst>
          </a:custGeom>
          <a:solidFill>
            <a:srgbClr val="eaeaea"/>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4151" name=""/>
          <p:cNvGrpSpPr/>
          <p:nvPr/>
        </p:nvGrpSpPr>
        <p:grpSpPr>
          <a:xfrm>
            <a:off x="4292640" y="1116000"/>
            <a:ext cx="2916360" cy="627120"/>
            <a:chOff x="4292640" y="1116000"/>
            <a:chExt cx="2916360" cy="627120"/>
          </a:xfrm>
        </p:grpSpPr>
        <p:sp>
          <p:nvSpPr>
            <p:cNvPr id="4152" name=""/>
            <p:cNvSpPr/>
            <p:nvPr/>
          </p:nvSpPr>
          <p:spPr>
            <a:xfrm>
              <a:off x="6042240" y="1116000"/>
              <a:ext cx="1166760" cy="627120"/>
            </a:xfrm>
            <a:custGeom>
              <a:avLst/>
              <a:gdLst>
                <a:gd name="textAreaLeft" fmla="*/ 0 w 1166760"/>
                <a:gd name="textAreaRight" fmla="*/ 1167120 w 1166760"/>
                <a:gd name="textAreaTop" fmla="*/ 0 h 627120"/>
                <a:gd name="textAreaBottom" fmla="*/ 627480 h 62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3" name=""/>
            <p:cNvSpPr/>
            <p:nvPr/>
          </p:nvSpPr>
          <p:spPr>
            <a:xfrm>
              <a:off x="5167440" y="1116000"/>
              <a:ext cx="1166760" cy="627120"/>
            </a:xfrm>
            <a:custGeom>
              <a:avLst/>
              <a:gdLst>
                <a:gd name="textAreaLeft" fmla="*/ 0 w 1166760"/>
                <a:gd name="textAreaRight" fmla="*/ 1167120 w 1166760"/>
                <a:gd name="textAreaTop" fmla="*/ 0 h 627120"/>
                <a:gd name="textAreaBottom" fmla="*/ 627480 h 62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4" name=""/>
            <p:cNvSpPr/>
            <p:nvPr/>
          </p:nvSpPr>
          <p:spPr>
            <a:xfrm>
              <a:off x="4292640" y="1116000"/>
              <a:ext cx="1166760" cy="627120"/>
            </a:xfrm>
            <a:custGeom>
              <a:avLst/>
              <a:gdLst>
                <a:gd name="textAreaLeft" fmla="*/ 0 w 1166760"/>
                <a:gd name="textAreaRight" fmla="*/ 1167120 w 1166760"/>
                <a:gd name="textAreaTop" fmla="*/ 0 h 627120"/>
                <a:gd name="textAreaBottom" fmla="*/ 627480 h 62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55" name=""/>
          <p:cNvSpPr/>
          <p:nvPr/>
        </p:nvSpPr>
        <p:spPr>
          <a:xfrm>
            <a:off x="4309560" y="806400"/>
            <a:ext cx="2831400" cy="3052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to do produto ABC</a:t>
            </a:r>
            <a:endParaRPr b="0" lang="en-US" sz="2000" spc="-1" strike="noStrike">
              <a:solidFill>
                <a:srgbClr val="000000"/>
              </a:solidFill>
              <a:latin typeface="Arial"/>
            </a:endParaRPr>
          </a:p>
        </p:txBody>
      </p:sp>
      <p:grpSp>
        <p:nvGrpSpPr>
          <p:cNvPr id="4156" name=""/>
          <p:cNvGrpSpPr/>
          <p:nvPr/>
        </p:nvGrpSpPr>
        <p:grpSpPr>
          <a:xfrm>
            <a:off x="3449160" y="2247840"/>
            <a:ext cx="3722760" cy="1239480"/>
            <a:chOff x="3449160" y="2247840"/>
            <a:chExt cx="3722760" cy="1239480"/>
          </a:xfrm>
        </p:grpSpPr>
        <p:grpSp>
          <p:nvGrpSpPr>
            <p:cNvPr id="4157" name=""/>
            <p:cNvGrpSpPr/>
            <p:nvPr/>
          </p:nvGrpSpPr>
          <p:grpSpPr>
            <a:xfrm>
              <a:off x="6816960" y="2634840"/>
              <a:ext cx="245160" cy="852480"/>
              <a:chOff x="6816960" y="2634840"/>
              <a:chExt cx="245160" cy="852480"/>
            </a:xfrm>
          </p:grpSpPr>
          <p:sp>
            <p:nvSpPr>
              <p:cNvPr id="4158" name=""/>
              <p:cNvSpPr/>
              <p:nvPr/>
            </p:nvSpPr>
            <p:spPr>
              <a:xfrm>
                <a:off x="6939000" y="2634840"/>
                <a:ext cx="0" cy="8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9" name=""/>
              <p:cNvSpPr/>
              <p:nvPr/>
            </p:nvSpPr>
            <p:spPr>
              <a:xfrm rot="2700000">
                <a:off x="6843960" y="2931480"/>
                <a:ext cx="190800" cy="155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60" name=""/>
            <p:cNvSpPr/>
            <p:nvPr/>
          </p:nvSpPr>
          <p:spPr>
            <a:xfrm>
              <a:off x="3569040" y="2247840"/>
              <a:ext cx="3602880" cy="387000"/>
            </a:xfrm>
            <a:custGeom>
              <a:avLst/>
              <a:gdLst>
                <a:gd name="textAreaLeft" fmla="*/ 0 w 3602880"/>
                <a:gd name="textAreaRight" fmla="*/ 3603240 w 3602880"/>
                <a:gd name="textAreaTop" fmla="*/ 0 h 387000"/>
                <a:gd name="textAreaBottom" fmla="*/ 387360 h 387000"/>
              </a:gdLst>
              <a:ahLst/>
              <a:rect l="textAreaLeft" t="textAreaTop" r="textAreaRight" b="textAreaBottom"/>
              <a:pathLst>
                <a:path w="21600" h="21600">
                  <a:moveTo>
                    <a:pt x="0" y="0"/>
                  </a:moveTo>
                  <a:lnTo>
                    <a:pt x="20582" y="0"/>
                  </a:lnTo>
                  <a:lnTo>
                    <a:pt x="21600" y="10800"/>
                  </a:lnTo>
                  <a:lnTo>
                    <a:pt x="20582" y="21600"/>
                  </a:lnTo>
                  <a:lnTo>
                    <a:pt x="0" y="21600"/>
                  </a:lnTo>
                  <a:lnTo>
                    <a:pt x="1018" y="10800"/>
                  </a:lnTo>
                  <a:close/>
                </a:path>
              </a:pathLst>
            </a:custGeom>
            <a:solidFill>
              <a:srgbClr val="99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161" name=""/>
            <p:cNvGrpSpPr/>
            <p:nvPr/>
          </p:nvGrpSpPr>
          <p:grpSpPr>
            <a:xfrm>
              <a:off x="3449160" y="2629440"/>
              <a:ext cx="245160" cy="852480"/>
              <a:chOff x="3449160" y="2629440"/>
              <a:chExt cx="245160" cy="852480"/>
            </a:xfrm>
          </p:grpSpPr>
          <p:sp>
            <p:nvSpPr>
              <p:cNvPr id="4162" name=""/>
              <p:cNvSpPr/>
              <p:nvPr/>
            </p:nvSpPr>
            <p:spPr>
              <a:xfrm>
                <a:off x="3571200" y="2629440"/>
                <a:ext cx="0" cy="8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3" name=""/>
              <p:cNvSpPr/>
              <p:nvPr/>
            </p:nvSpPr>
            <p:spPr>
              <a:xfrm rot="2700000">
                <a:off x="3476160" y="2926080"/>
                <a:ext cx="190800" cy="155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164" name=""/>
          <p:cNvSpPr/>
          <p:nvPr/>
        </p:nvSpPr>
        <p:spPr>
          <a:xfrm>
            <a:off x="2152800" y="3503520"/>
            <a:ext cx="1533240" cy="730440"/>
          </a:xfrm>
          <a:prstGeom prst="rect">
            <a:avLst/>
          </a:prstGeom>
          <a:solidFill>
            <a:srgbClr val="ffffff"/>
          </a:solidFill>
          <a:ln w="324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finição de critérios para próximo gate</a:t>
            </a:r>
            <a:endParaRPr b="0" lang="en-US" sz="1600" spc="-1" strike="noStrike">
              <a:solidFill>
                <a:srgbClr val="000000"/>
              </a:solidFill>
              <a:latin typeface="Arial"/>
            </a:endParaRPr>
          </a:p>
        </p:txBody>
      </p:sp>
      <p:sp>
        <p:nvSpPr>
          <p:cNvPr id="4165" name=""/>
          <p:cNvSpPr/>
          <p:nvPr/>
        </p:nvSpPr>
        <p:spPr>
          <a:xfrm>
            <a:off x="7155000" y="3503520"/>
            <a:ext cx="1533240" cy="730440"/>
          </a:xfrm>
          <a:prstGeom prst="rect">
            <a:avLst/>
          </a:prstGeom>
          <a:solidFill>
            <a:srgbClr val="ffccff"/>
          </a:solidFill>
          <a:ln w="3240">
            <a:solidFill>
              <a:srgbClr val="000000"/>
            </a:solidFill>
            <a:prstDash val="sysDot"/>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finição de critérios para próximo gate</a:t>
            </a:r>
            <a:endParaRPr b="0" lang="en-US" sz="1600" spc="-1" strike="noStrike">
              <a:solidFill>
                <a:srgbClr val="000000"/>
              </a:solidFill>
              <a:latin typeface="Arial"/>
            </a:endParaRPr>
          </a:p>
        </p:txBody>
      </p:sp>
      <p:sp>
        <p:nvSpPr>
          <p:cNvPr id="4166" name=""/>
          <p:cNvSpPr/>
          <p:nvPr/>
        </p:nvSpPr>
        <p:spPr>
          <a:xfrm>
            <a:off x="6248520" y="3500280"/>
            <a:ext cx="904680" cy="736920"/>
          </a:xfrm>
          <a:prstGeom prst="rect">
            <a:avLst/>
          </a:prstGeom>
          <a:solidFill>
            <a:srgbClr val="ffccff"/>
          </a:solidFill>
          <a:ln w="324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prov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gate</a:t>
            </a:r>
            <a:endParaRPr b="0" lang="en-US" sz="1600" spc="-1" strike="noStrike">
              <a:solidFill>
                <a:srgbClr val="000000"/>
              </a:solidFill>
              <a:latin typeface="Arial"/>
            </a:endParaRPr>
          </a:p>
        </p:txBody>
      </p:sp>
      <p:sp>
        <p:nvSpPr>
          <p:cNvPr id="4167" name=""/>
          <p:cNvSpPr/>
          <p:nvPr/>
        </p:nvSpPr>
        <p:spPr>
          <a:xfrm>
            <a:off x="5213520" y="3500280"/>
            <a:ext cx="1035000" cy="736920"/>
          </a:xfrm>
          <a:prstGeom prst="rect">
            <a:avLst/>
          </a:prstGeom>
          <a:solidFill>
            <a:srgbClr val="eaeaea"/>
          </a:solidFill>
          <a:ln w="324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avaliação </a:t>
            </a:r>
            <a:endParaRPr b="0" lang="en-US" sz="1600" spc="-1" strike="noStrike">
              <a:solidFill>
                <a:srgbClr val="000000"/>
              </a:solidFill>
              <a:latin typeface="Arial"/>
            </a:endParaRPr>
          </a:p>
        </p:txBody>
      </p:sp>
      <p:sp>
        <p:nvSpPr>
          <p:cNvPr id="4168" name=""/>
          <p:cNvSpPr/>
          <p:nvPr/>
        </p:nvSpPr>
        <p:spPr>
          <a:xfrm>
            <a:off x="3962520" y="3308400"/>
            <a:ext cx="943200" cy="2746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érios</a:t>
            </a:r>
            <a:endParaRPr b="0" lang="en-US" sz="1800" spc="-1" strike="noStrike">
              <a:solidFill>
                <a:srgbClr val="000000"/>
              </a:solidFill>
              <a:latin typeface="Arial"/>
            </a:endParaRPr>
          </a:p>
        </p:txBody>
      </p:sp>
      <p:grpSp>
        <p:nvGrpSpPr>
          <p:cNvPr id="4169" name=""/>
          <p:cNvGrpSpPr/>
          <p:nvPr/>
        </p:nvGrpSpPr>
        <p:grpSpPr>
          <a:xfrm>
            <a:off x="7039080" y="4346640"/>
            <a:ext cx="1371240" cy="686880"/>
            <a:chOff x="7039080" y="4346640"/>
            <a:chExt cx="1371240" cy="686880"/>
          </a:xfrm>
        </p:grpSpPr>
        <p:grpSp>
          <p:nvGrpSpPr>
            <p:cNvPr id="4170" name=""/>
            <p:cNvGrpSpPr/>
            <p:nvPr/>
          </p:nvGrpSpPr>
          <p:grpSpPr>
            <a:xfrm>
              <a:off x="7039080" y="4346640"/>
              <a:ext cx="1371240" cy="686880"/>
              <a:chOff x="7039080" y="4346640"/>
              <a:chExt cx="1371240" cy="686880"/>
            </a:xfrm>
          </p:grpSpPr>
          <p:sp>
            <p:nvSpPr>
              <p:cNvPr id="4171" name=""/>
              <p:cNvSpPr/>
              <p:nvPr/>
            </p:nvSpPr>
            <p:spPr>
              <a:xfrm>
                <a:off x="7349760" y="4537080"/>
                <a:ext cx="293760" cy="291600"/>
              </a:xfrm>
              <a:custGeom>
                <a:avLst/>
                <a:gdLst/>
                <a:ahLst/>
                <a:rect l="l" t="t" r="r" b="b"/>
                <a:pathLst>
                  <a:path w="3542" h="2755">
                    <a:moveTo>
                      <a:pt x="3542" y="2755"/>
                    </a:moveTo>
                    <a:lnTo>
                      <a:pt x="3452" y="2648"/>
                    </a:lnTo>
                    <a:lnTo>
                      <a:pt x="3415" y="2476"/>
                    </a:lnTo>
                    <a:lnTo>
                      <a:pt x="3307" y="2404"/>
                    </a:lnTo>
                    <a:lnTo>
                      <a:pt x="3290" y="2296"/>
                    </a:lnTo>
                    <a:lnTo>
                      <a:pt x="3355" y="2222"/>
                    </a:lnTo>
                    <a:lnTo>
                      <a:pt x="3355" y="2141"/>
                    </a:lnTo>
                    <a:lnTo>
                      <a:pt x="3314" y="2052"/>
                    </a:lnTo>
                    <a:lnTo>
                      <a:pt x="3248" y="1954"/>
                    </a:lnTo>
                    <a:lnTo>
                      <a:pt x="3248" y="1791"/>
                    </a:lnTo>
                    <a:lnTo>
                      <a:pt x="3307" y="1724"/>
                    </a:lnTo>
                    <a:lnTo>
                      <a:pt x="3299" y="1652"/>
                    </a:lnTo>
                    <a:lnTo>
                      <a:pt x="3233" y="1604"/>
                    </a:lnTo>
                    <a:lnTo>
                      <a:pt x="3200" y="1503"/>
                    </a:lnTo>
                    <a:lnTo>
                      <a:pt x="3209" y="1417"/>
                    </a:lnTo>
                    <a:lnTo>
                      <a:pt x="3191" y="1286"/>
                    </a:lnTo>
                    <a:lnTo>
                      <a:pt x="3166" y="1114"/>
                    </a:lnTo>
                    <a:lnTo>
                      <a:pt x="3166" y="910"/>
                    </a:lnTo>
                    <a:lnTo>
                      <a:pt x="3166" y="754"/>
                    </a:lnTo>
                    <a:lnTo>
                      <a:pt x="3161" y="592"/>
                    </a:lnTo>
                    <a:lnTo>
                      <a:pt x="3125" y="451"/>
                    </a:lnTo>
                    <a:lnTo>
                      <a:pt x="3092" y="360"/>
                    </a:lnTo>
                    <a:lnTo>
                      <a:pt x="2712" y="171"/>
                    </a:lnTo>
                    <a:lnTo>
                      <a:pt x="2492" y="110"/>
                    </a:lnTo>
                    <a:lnTo>
                      <a:pt x="2279" y="68"/>
                    </a:lnTo>
                    <a:lnTo>
                      <a:pt x="2044" y="0"/>
                    </a:lnTo>
                    <a:lnTo>
                      <a:pt x="890" y="27"/>
                    </a:lnTo>
                    <a:lnTo>
                      <a:pt x="556" y="85"/>
                    </a:lnTo>
                    <a:lnTo>
                      <a:pt x="222" y="205"/>
                    </a:lnTo>
                    <a:lnTo>
                      <a:pt x="123" y="264"/>
                    </a:lnTo>
                    <a:lnTo>
                      <a:pt x="40" y="461"/>
                    </a:lnTo>
                    <a:lnTo>
                      <a:pt x="40" y="1145"/>
                    </a:lnTo>
                    <a:lnTo>
                      <a:pt x="0" y="1235"/>
                    </a:lnTo>
                    <a:lnTo>
                      <a:pt x="540" y="2755"/>
                    </a:lnTo>
                    <a:lnTo>
                      <a:pt x="3542" y="27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2" name=""/>
              <p:cNvSpPr/>
              <p:nvPr/>
            </p:nvSpPr>
            <p:spPr>
              <a:xfrm>
                <a:off x="7363080" y="4543920"/>
                <a:ext cx="133200" cy="144720"/>
              </a:xfrm>
              <a:custGeom>
                <a:avLst/>
                <a:gdLst/>
                <a:ahLst/>
                <a:rect l="l" t="t" r="r" b="b"/>
                <a:pathLst>
                  <a:path w="1609" h="1365">
                    <a:moveTo>
                      <a:pt x="1609" y="1365"/>
                    </a:moveTo>
                    <a:lnTo>
                      <a:pt x="1148" y="499"/>
                    </a:lnTo>
                    <a:lnTo>
                      <a:pt x="1019" y="323"/>
                    </a:lnTo>
                    <a:lnTo>
                      <a:pt x="763" y="187"/>
                    </a:lnTo>
                    <a:lnTo>
                      <a:pt x="493" y="121"/>
                    </a:lnTo>
                    <a:lnTo>
                      <a:pt x="279" y="130"/>
                    </a:lnTo>
                    <a:lnTo>
                      <a:pt x="0" y="169"/>
                    </a:lnTo>
                    <a:lnTo>
                      <a:pt x="67" y="121"/>
                    </a:lnTo>
                    <a:lnTo>
                      <a:pt x="353" y="31"/>
                    </a:lnTo>
                    <a:lnTo>
                      <a:pt x="650" y="0"/>
                    </a:lnTo>
                    <a:lnTo>
                      <a:pt x="862" y="31"/>
                    </a:lnTo>
                    <a:lnTo>
                      <a:pt x="1102" y="255"/>
                    </a:lnTo>
                    <a:lnTo>
                      <a:pt x="1264" y="547"/>
                    </a:lnTo>
                    <a:lnTo>
                      <a:pt x="1346" y="767"/>
                    </a:lnTo>
                    <a:lnTo>
                      <a:pt x="1609" y="1365"/>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3" name=""/>
              <p:cNvSpPr/>
              <p:nvPr/>
            </p:nvSpPr>
            <p:spPr>
              <a:xfrm>
                <a:off x="7351920" y="4582800"/>
                <a:ext cx="68400" cy="140400"/>
              </a:xfrm>
              <a:custGeom>
                <a:avLst/>
                <a:gdLst/>
                <a:ahLst/>
                <a:rect l="l" t="t" r="r" b="b"/>
                <a:pathLst>
                  <a:path w="829" h="1330">
                    <a:moveTo>
                      <a:pt x="548" y="586"/>
                    </a:moveTo>
                    <a:lnTo>
                      <a:pt x="484" y="464"/>
                    </a:lnTo>
                    <a:lnTo>
                      <a:pt x="394" y="360"/>
                    </a:lnTo>
                    <a:lnTo>
                      <a:pt x="304" y="286"/>
                    </a:lnTo>
                    <a:lnTo>
                      <a:pt x="205" y="235"/>
                    </a:lnTo>
                    <a:lnTo>
                      <a:pt x="156" y="226"/>
                    </a:lnTo>
                    <a:lnTo>
                      <a:pt x="221" y="374"/>
                    </a:lnTo>
                    <a:lnTo>
                      <a:pt x="359" y="554"/>
                    </a:lnTo>
                    <a:lnTo>
                      <a:pt x="516" y="694"/>
                    </a:lnTo>
                    <a:lnTo>
                      <a:pt x="714" y="835"/>
                    </a:lnTo>
                    <a:lnTo>
                      <a:pt x="745" y="851"/>
                    </a:lnTo>
                    <a:lnTo>
                      <a:pt x="829" y="1100"/>
                    </a:lnTo>
                    <a:lnTo>
                      <a:pt x="756" y="1158"/>
                    </a:lnTo>
                    <a:lnTo>
                      <a:pt x="809" y="1330"/>
                    </a:lnTo>
                    <a:lnTo>
                      <a:pt x="631" y="1305"/>
                    </a:lnTo>
                    <a:lnTo>
                      <a:pt x="703" y="1275"/>
                    </a:lnTo>
                    <a:lnTo>
                      <a:pt x="590" y="1127"/>
                    </a:lnTo>
                    <a:lnTo>
                      <a:pt x="304" y="1013"/>
                    </a:lnTo>
                    <a:lnTo>
                      <a:pt x="128" y="888"/>
                    </a:lnTo>
                    <a:lnTo>
                      <a:pt x="82" y="851"/>
                    </a:lnTo>
                    <a:lnTo>
                      <a:pt x="106" y="923"/>
                    </a:lnTo>
                    <a:lnTo>
                      <a:pt x="179" y="1028"/>
                    </a:lnTo>
                    <a:lnTo>
                      <a:pt x="39" y="906"/>
                    </a:lnTo>
                    <a:lnTo>
                      <a:pt x="7" y="791"/>
                    </a:lnTo>
                    <a:lnTo>
                      <a:pt x="0" y="743"/>
                    </a:lnTo>
                    <a:lnTo>
                      <a:pt x="48" y="586"/>
                    </a:lnTo>
                    <a:lnTo>
                      <a:pt x="64" y="0"/>
                    </a:lnTo>
                    <a:lnTo>
                      <a:pt x="286" y="148"/>
                    </a:lnTo>
                    <a:lnTo>
                      <a:pt x="431" y="307"/>
                    </a:lnTo>
                    <a:lnTo>
                      <a:pt x="509" y="448"/>
                    </a:lnTo>
                    <a:lnTo>
                      <a:pt x="548" y="586"/>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4" name=""/>
              <p:cNvSpPr/>
              <p:nvPr/>
            </p:nvSpPr>
            <p:spPr>
              <a:xfrm>
                <a:off x="7370280" y="4694040"/>
                <a:ext cx="48960" cy="75240"/>
              </a:xfrm>
              <a:custGeom>
                <a:avLst/>
                <a:gdLst/>
                <a:ahLst/>
                <a:rect l="l" t="t" r="r" b="b"/>
                <a:pathLst>
                  <a:path w="593" h="716">
                    <a:moveTo>
                      <a:pt x="19" y="0"/>
                    </a:moveTo>
                    <a:lnTo>
                      <a:pt x="132" y="54"/>
                    </a:lnTo>
                    <a:lnTo>
                      <a:pt x="190" y="187"/>
                    </a:lnTo>
                    <a:lnTo>
                      <a:pt x="331" y="268"/>
                    </a:lnTo>
                    <a:lnTo>
                      <a:pt x="222" y="259"/>
                    </a:lnTo>
                    <a:lnTo>
                      <a:pt x="289" y="310"/>
                    </a:lnTo>
                    <a:lnTo>
                      <a:pt x="455" y="358"/>
                    </a:lnTo>
                    <a:lnTo>
                      <a:pt x="534" y="448"/>
                    </a:lnTo>
                    <a:lnTo>
                      <a:pt x="492" y="538"/>
                    </a:lnTo>
                    <a:lnTo>
                      <a:pt x="388" y="473"/>
                    </a:lnTo>
                    <a:lnTo>
                      <a:pt x="354" y="529"/>
                    </a:lnTo>
                    <a:lnTo>
                      <a:pt x="503" y="587"/>
                    </a:lnTo>
                    <a:lnTo>
                      <a:pt x="593" y="554"/>
                    </a:lnTo>
                    <a:lnTo>
                      <a:pt x="518" y="716"/>
                    </a:lnTo>
                    <a:lnTo>
                      <a:pt x="275" y="554"/>
                    </a:lnTo>
                    <a:lnTo>
                      <a:pt x="0" y="220"/>
                    </a:lnTo>
                    <a:lnTo>
                      <a:pt x="19" y="0"/>
                    </a:lnTo>
                    <a:close/>
                  </a:path>
                </a:pathLst>
              </a:custGeom>
              <a:solidFill>
                <a:srgbClr val="70230c"/>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75" name=""/>
              <p:cNvSpPr/>
              <p:nvPr/>
            </p:nvSpPr>
            <p:spPr>
              <a:xfrm>
                <a:off x="7424640" y="4761720"/>
                <a:ext cx="101880" cy="84600"/>
              </a:xfrm>
              <a:custGeom>
                <a:avLst/>
                <a:gdLst/>
                <a:ahLst/>
                <a:rect l="l" t="t" r="r" b="b"/>
                <a:pathLst>
                  <a:path w="1232" h="800">
                    <a:moveTo>
                      <a:pt x="141" y="141"/>
                    </a:moveTo>
                    <a:lnTo>
                      <a:pt x="188" y="171"/>
                    </a:lnTo>
                    <a:lnTo>
                      <a:pt x="215" y="0"/>
                    </a:lnTo>
                    <a:lnTo>
                      <a:pt x="282" y="254"/>
                    </a:lnTo>
                    <a:lnTo>
                      <a:pt x="248" y="325"/>
                    </a:lnTo>
                    <a:lnTo>
                      <a:pt x="575" y="435"/>
                    </a:lnTo>
                    <a:lnTo>
                      <a:pt x="764" y="595"/>
                    </a:lnTo>
                    <a:lnTo>
                      <a:pt x="1174" y="595"/>
                    </a:lnTo>
                    <a:lnTo>
                      <a:pt x="1232" y="717"/>
                    </a:lnTo>
                    <a:lnTo>
                      <a:pt x="764" y="800"/>
                    </a:lnTo>
                    <a:lnTo>
                      <a:pt x="0" y="341"/>
                    </a:lnTo>
                    <a:lnTo>
                      <a:pt x="141" y="141"/>
                    </a:lnTo>
                    <a:close/>
                  </a:path>
                </a:pathLst>
              </a:custGeom>
              <a:solidFill>
                <a:srgbClr val="70230c"/>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176" name=""/>
              <p:cNvSpPr/>
              <p:nvPr/>
            </p:nvSpPr>
            <p:spPr>
              <a:xfrm>
                <a:off x="7432560" y="4580280"/>
                <a:ext cx="185400" cy="205560"/>
              </a:xfrm>
              <a:custGeom>
                <a:avLst/>
                <a:gdLst/>
                <a:ahLst/>
                <a:rect l="l" t="t" r="r" b="b"/>
                <a:pathLst>
                  <a:path w="2241" h="1943">
                    <a:moveTo>
                      <a:pt x="1241" y="0"/>
                    </a:moveTo>
                    <a:lnTo>
                      <a:pt x="1308" y="277"/>
                    </a:lnTo>
                    <a:lnTo>
                      <a:pt x="1314" y="623"/>
                    </a:lnTo>
                    <a:lnTo>
                      <a:pt x="1250" y="1053"/>
                    </a:lnTo>
                    <a:lnTo>
                      <a:pt x="1133" y="1404"/>
                    </a:lnTo>
                    <a:lnTo>
                      <a:pt x="1232" y="1496"/>
                    </a:lnTo>
                    <a:lnTo>
                      <a:pt x="1035" y="1559"/>
                    </a:lnTo>
                    <a:lnTo>
                      <a:pt x="674" y="1519"/>
                    </a:lnTo>
                    <a:lnTo>
                      <a:pt x="248" y="1528"/>
                    </a:lnTo>
                    <a:lnTo>
                      <a:pt x="0" y="1544"/>
                    </a:lnTo>
                    <a:lnTo>
                      <a:pt x="149" y="1722"/>
                    </a:lnTo>
                    <a:lnTo>
                      <a:pt x="1133" y="1803"/>
                    </a:lnTo>
                    <a:lnTo>
                      <a:pt x="1815" y="1943"/>
                    </a:lnTo>
                    <a:lnTo>
                      <a:pt x="1898" y="1886"/>
                    </a:lnTo>
                    <a:lnTo>
                      <a:pt x="1802" y="1812"/>
                    </a:lnTo>
                    <a:lnTo>
                      <a:pt x="1872" y="1748"/>
                    </a:lnTo>
                    <a:lnTo>
                      <a:pt x="2013" y="1722"/>
                    </a:lnTo>
                    <a:lnTo>
                      <a:pt x="2241" y="1739"/>
                    </a:lnTo>
                    <a:lnTo>
                      <a:pt x="2064" y="1634"/>
                    </a:lnTo>
                    <a:lnTo>
                      <a:pt x="1956" y="1501"/>
                    </a:lnTo>
                    <a:lnTo>
                      <a:pt x="1965" y="1404"/>
                    </a:lnTo>
                    <a:lnTo>
                      <a:pt x="2151" y="1307"/>
                    </a:lnTo>
                    <a:lnTo>
                      <a:pt x="2202" y="1168"/>
                    </a:lnTo>
                    <a:lnTo>
                      <a:pt x="2103" y="1215"/>
                    </a:lnTo>
                    <a:lnTo>
                      <a:pt x="1995" y="1210"/>
                    </a:lnTo>
                    <a:lnTo>
                      <a:pt x="1971" y="1168"/>
                    </a:lnTo>
                    <a:lnTo>
                      <a:pt x="2064" y="1075"/>
                    </a:lnTo>
                    <a:lnTo>
                      <a:pt x="1979" y="1071"/>
                    </a:lnTo>
                    <a:lnTo>
                      <a:pt x="1988" y="972"/>
                    </a:lnTo>
                    <a:lnTo>
                      <a:pt x="2028" y="832"/>
                    </a:lnTo>
                    <a:lnTo>
                      <a:pt x="2120" y="876"/>
                    </a:lnTo>
                    <a:lnTo>
                      <a:pt x="2151" y="963"/>
                    </a:lnTo>
                    <a:lnTo>
                      <a:pt x="2186" y="840"/>
                    </a:lnTo>
                    <a:lnTo>
                      <a:pt x="2145" y="537"/>
                    </a:lnTo>
                    <a:lnTo>
                      <a:pt x="2168" y="311"/>
                    </a:lnTo>
                    <a:lnTo>
                      <a:pt x="2094" y="645"/>
                    </a:lnTo>
                    <a:lnTo>
                      <a:pt x="1979" y="816"/>
                    </a:lnTo>
                    <a:lnTo>
                      <a:pt x="1760" y="1134"/>
                    </a:lnTo>
                    <a:lnTo>
                      <a:pt x="1608" y="1282"/>
                    </a:lnTo>
                    <a:lnTo>
                      <a:pt x="1398" y="1422"/>
                    </a:lnTo>
                    <a:lnTo>
                      <a:pt x="1331" y="1429"/>
                    </a:lnTo>
                    <a:lnTo>
                      <a:pt x="1398" y="1307"/>
                    </a:lnTo>
                    <a:lnTo>
                      <a:pt x="1430" y="1111"/>
                    </a:lnTo>
                    <a:lnTo>
                      <a:pt x="1446" y="800"/>
                    </a:lnTo>
                    <a:lnTo>
                      <a:pt x="1430" y="521"/>
                    </a:lnTo>
                    <a:lnTo>
                      <a:pt x="1398" y="269"/>
                    </a:lnTo>
                    <a:lnTo>
                      <a:pt x="1349" y="113"/>
                    </a:lnTo>
                    <a:lnTo>
                      <a:pt x="1241"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7" name=""/>
              <p:cNvSpPr/>
              <p:nvPr/>
            </p:nvSpPr>
            <p:spPr>
              <a:xfrm>
                <a:off x="7587360" y="4791600"/>
                <a:ext cx="46800" cy="37080"/>
              </a:xfrm>
              <a:custGeom>
                <a:avLst/>
                <a:gdLst/>
                <a:ahLst/>
                <a:rect l="l" t="t" r="r" b="b"/>
                <a:pathLst>
                  <a:path w="567" h="351">
                    <a:moveTo>
                      <a:pt x="129" y="0"/>
                    </a:moveTo>
                    <a:lnTo>
                      <a:pt x="198" y="72"/>
                    </a:lnTo>
                    <a:lnTo>
                      <a:pt x="173" y="162"/>
                    </a:lnTo>
                    <a:lnTo>
                      <a:pt x="237" y="114"/>
                    </a:lnTo>
                    <a:lnTo>
                      <a:pt x="261" y="251"/>
                    </a:lnTo>
                    <a:lnTo>
                      <a:pt x="355" y="169"/>
                    </a:lnTo>
                    <a:lnTo>
                      <a:pt x="426" y="219"/>
                    </a:lnTo>
                    <a:lnTo>
                      <a:pt x="375" y="268"/>
                    </a:lnTo>
                    <a:lnTo>
                      <a:pt x="417" y="327"/>
                    </a:lnTo>
                    <a:lnTo>
                      <a:pt x="507" y="309"/>
                    </a:lnTo>
                    <a:lnTo>
                      <a:pt x="567" y="351"/>
                    </a:lnTo>
                    <a:lnTo>
                      <a:pt x="204" y="351"/>
                    </a:lnTo>
                    <a:lnTo>
                      <a:pt x="0" y="196"/>
                    </a:lnTo>
                    <a:lnTo>
                      <a:pt x="23" y="37"/>
                    </a:lnTo>
                    <a:lnTo>
                      <a:pt x="129" y="0"/>
                    </a:lnTo>
                    <a:close/>
                  </a:path>
                </a:pathLst>
              </a:custGeom>
              <a:solidFill>
                <a:srgbClr val="70230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78" name=""/>
              <p:cNvSpPr/>
              <p:nvPr/>
            </p:nvSpPr>
            <p:spPr>
              <a:xfrm>
                <a:off x="7605720" y="4723560"/>
                <a:ext cx="12960" cy="20880"/>
              </a:xfrm>
              <a:custGeom>
                <a:avLst/>
                <a:gdLst/>
                <a:ahLst/>
                <a:rect l="l" t="t" r="r" b="b"/>
                <a:pathLst>
                  <a:path w="156" h="200">
                    <a:moveTo>
                      <a:pt x="0" y="79"/>
                    </a:moveTo>
                    <a:lnTo>
                      <a:pt x="81" y="79"/>
                    </a:lnTo>
                    <a:lnTo>
                      <a:pt x="74" y="137"/>
                    </a:lnTo>
                    <a:lnTo>
                      <a:pt x="18" y="128"/>
                    </a:lnTo>
                    <a:lnTo>
                      <a:pt x="127" y="200"/>
                    </a:lnTo>
                    <a:lnTo>
                      <a:pt x="156" y="0"/>
                    </a:lnTo>
                    <a:lnTo>
                      <a:pt x="0" y="79"/>
                    </a:lnTo>
                    <a:close/>
                  </a:path>
                </a:pathLst>
              </a:custGeom>
              <a:solidFill>
                <a:srgbClr val="70230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179" name=""/>
              <p:cNvSpPr/>
              <p:nvPr/>
            </p:nvSpPr>
            <p:spPr>
              <a:xfrm>
                <a:off x="7508880" y="4778640"/>
                <a:ext cx="80280" cy="65880"/>
              </a:xfrm>
              <a:custGeom>
                <a:avLst/>
                <a:gdLst/>
                <a:ahLst/>
                <a:rect l="l" t="t" r="r" b="b"/>
                <a:pathLst>
                  <a:path w="966" h="621">
                    <a:moveTo>
                      <a:pt x="0" y="237"/>
                    </a:moveTo>
                    <a:lnTo>
                      <a:pt x="70" y="310"/>
                    </a:lnTo>
                    <a:lnTo>
                      <a:pt x="138" y="432"/>
                    </a:lnTo>
                    <a:lnTo>
                      <a:pt x="171" y="545"/>
                    </a:lnTo>
                    <a:lnTo>
                      <a:pt x="303" y="621"/>
                    </a:lnTo>
                    <a:lnTo>
                      <a:pt x="484" y="596"/>
                    </a:lnTo>
                    <a:lnTo>
                      <a:pt x="681" y="561"/>
                    </a:lnTo>
                    <a:lnTo>
                      <a:pt x="966" y="450"/>
                    </a:lnTo>
                    <a:lnTo>
                      <a:pt x="966" y="220"/>
                    </a:lnTo>
                    <a:lnTo>
                      <a:pt x="910" y="81"/>
                    </a:lnTo>
                    <a:lnTo>
                      <a:pt x="562" y="0"/>
                    </a:lnTo>
                    <a:lnTo>
                      <a:pt x="244" y="160"/>
                    </a:lnTo>
                    <a:lnTo>
                      <a:pt x="0" y="237"/>
                    </a:lnTo>
                    <a:close/>
                  </a:path>
                </a:pathLst>
              </a:custGeom>
              <a:solidFill>
                <a:srgbClr val="ffc98e"/>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180" name=""/>
              <p:cNvSpPr/>
              <p:nvPr/>
            </p:nvSpPr>
            <p:spPr>
              <a:xfrm>
                <a:off x="7498440" y="4599720"/>
                <a:ext cx="10440" cy="11880"/>
              </a:xfrm>
              <a:custGeom>
                <a:avLst/>
                <a:gdLst/>
                <a:ahLst/>
                <a:rect l="l" t="t" r="r" b="b"/>
                <a:pathLst>
                  <a:path w="125" h="113">
                    <a:moveTo>
                      <a:pt x="90" y="0"/>
                    </a:moveTo>
                    <a:lnTo>
                      <a:pt x="33" y="14"/>
                    </a:lnTo>
                    <a:lnTo>
                      <a:pt x="0" y="69"/>
                    </a:lnTo>
                    <a:lnTo>
                      <a:pt x="42" y="113"/>
                    </a:lnTo>
                    <a:lnTo>
                      <a:pt x="99" y="113"/>
                    </a:lnTo>
                    <a:lnTo>
                      <a:pt x="125" y="78"/>
                    </a:lnTo>
                    <a:lnTo>
                      <a:pt x="125" y="30"/>
                    </a:lnTo>
                    <a:lnTo>
                      <a:pt x="90" y="0"/>
                    </a:lnTo>
                    <a:close/>
                  </a:path>
                </a:pathLst>
              </a:custGeom>
              <a:solidFill>
                <a:srgbClr val="ffea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181" name=""/>
              <p:cNvSpPr/>
              <p:nvPr/>
            </p:nvSpPr>
            <p:spPr>
              <a:xfrm>
                <a:off x="7507800" y="4674240"/>
                <a:ext cx="7200" cy="9360"/>
              </a:xfrm>
              <a:custGeom>
                <a:avLst/>
                <a:gdLst/>
                <a:ahLst/>
                <a:rect l="l" t="t" r="r" b="b"/>
                <a:pathLst>
                  <a:path w="88" h="94">
                    <a:moveTo>
                      <a:pt x="82" y="21"/>
                    </a:moveTo>
                    <a:lnTo>
                      <a:pt x="55" y="0"/>
                    </a:lnTo>
                    <a:lnTo>
                      <a:pt x="7" y="12"/>
                    </a:lnTo>
                    <a:lnTo>
                      <a:pt x="0" y="69"/>
                    </a:lnTo>
                    <a:lnTo>
                      <a:pt x="42" y="94"/>
                    </a:lnTo>
                    <a:lnTo>
                      <a:pt x="88" y="69"/>
                    </a:lnTo>
                    <a:lnTo>
                      <a:pt x="82" y="21"/>
                    </a:lnTo>
                    <a:close/>
                  </a:path>
                </a:pathLst>
              </a:custGeom>
              <a:solidFill>
                <a:srgbClr val="ffe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82" name=""/>
              <p:cNvSpPr/>
              <p:nvPr/>
            </p:nvSpPr>
            <p:spPr>
              <a:xfrm>
                <a:off x="7445880" y="4381920"/>
                <a:ext cx="95400" cy="212760"/>
              </a:xfrm>
              <a:custGeom>
                <a:avLst/>
                <a:gdLst/>
                <a:ahLst/>
                <a:rect l="l" t="t" r="r" b="b"/>
                <a:pathLst>
                  <a:path w="1157" h="2007">
                    <a:moveTo>
                      <a:pt x="35" y="1688"/>
                    </a:moveTo>
                    <a:lnTo>
                      <a:pt x="95" y="1780"/>
                    </a:lnTo>
                    <a:lnTo>
                      <a:pt x="251" y="1881"/>
                    </a:lnTo>
                    <a:lnTo>
                      <a:pt x="411" y="1937"/>
                    </a:lnTo>
                    <a:lnTo>
                      <a:pt x="596" y="1976"/>
                    </a:lnTo>
                    <a:lnTo>
                      <a:pt x="789" y="2007"/>
                    </a:lnTo>
                    <a:lnTo>
                      <a:pt x="895" y="1971"/>
                    </a:lnTo>
                    <a:lnTo>
                      <a:pt x="945" y="1911"/>
                    </a:lnTo>
                    <a:lnTo>
                      <a:pt x="956" y="1766"/>
                    </a:lnTo>
                    <a:lnTo>
                      <a:pt x="915" y="1577"/>
                    </a:lnTo>
                    <a:lnTo>
                      <a:pt x="875" y="1422"/>
                    </a:lnTo>
                    <a:lnTo>
                      <a:pt x="961" y="1317"/>
                    </a:lnTo>
                    <a:lnTo>
                      <a:pt x="1055" y="1143"/>
                    </a:lnTo>
                    <a:lnTo>
                      <a:pt x="1093" y="1009"/>
                    </a:lnTo>
                    <a:lnTo>
                      <a:pt x="1148" y="772"/>
                    </a:lnTo>
                    <a:lnTo>
                      <a:pt x="1157" y="648"/>
                    </a:lnTo>
                    <a:lnTo>
                      <a:pt x="1157" y="480"/>
                    </a:lnTo>
                    <a:lnTo>
                      <a:pt x="1125" y="231"/>
                    </a:lnTo>
                    <a:lnTo>
                      <a:pt x="994" y="14"/>
                    </a:lnTo>
                    <a:lnTo>
                      <a:pt x="411" y="0"/>
                    </a:lnTo>
                    <a:lnTo>
                      <a:pt x="129" y="378"/>
                    </a:lnTo>
                    <a:lnTo>
                      <a:pt x="0" y="576"/>
                    </a:lnTo>
                    <a:lnTo>
                      <a:pt x="5" y="733"/>
                    </a:lnTo>
                    <a:lnTo>
                      <a:pt x="69" y="1056"/>
                    </a:lnTo>
                    <a:lnTo>
                      <a:pt x="23" y="1568"/>
                    </a:lnTo>
                    <a:lnTo>
                      <a:pt x="35" y="168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3" name=""/>
              <p:cNvSpPr/>
              <p:nvPr/>
            </p:nvSpPr>
            <p:spPr>
              <a:xfrm>
                <a:off x="7450560" y="4472640"/>
                <a:ext cx="10440" cy="24480"/>
              </a:xfrm>
              <a:custGeom>
                <a:avLst/>
                <a:gdLst/>
                <a:ahLst/>
                <a:rect l="l" t="t" r="r" b="b"/>
                <a:pathLst>
                  <a:path w="129" h="233">
                    <a:moveTo>
                      <a:pt x="33" y="12"/>
                    </a:moveTo>
                    <a:lnTo>
                      <a:pt x="67" y="0"/>
                    </a:lnTo>
                    <a:lnTo>
                      <a:pt x="101" y="25"/>
                    </a:lnTo>
                    <a:lnTo>
                      <a:pt x="129" y="79"/>
                    </a:lnTo>
                    <a:lnTo>
                      <a:pt x="123" y="194"/>
                    </a:lnTo>
                    <a:lnTo>
                      <a:pt x="81" y="233"/>
                    </a:lnTo>
                    <a:lnTo>
                      <a:pt x="0" y="194"/>
                    </a:lnTo>
                    <a:lnTo>
                      <a:pt x="0" y="95"/>
                    </a:lnTo>
                    <a:lnTo>
                      <a:pt x="33" y="12"/>
                    </a:lnTo>
                    <a:close/>
                  </a:path>
                </a:pathLst>
              </a:custGeom>
              <a:solidFill>
                <a:srgbClr val="ffea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84" name=""/>
              <p:cNvSpPr/>
              <p:nvPr/>
            </p:nvSpPr>
            <p:spPr>
              <a:xfrm>
                <a:off x="7536960" y="4479480"/>
                <a:ext cx="3240" cy="12600"/>
              </a:xfrm>
              <a:custGeom>
                <a:avLst/>
                <a:gdLst/>
                <a:ahLst/>
                <a:rect l="l" t="t" r="r" b="b"/>
                <a:pathLst>
                  <a:path w="44" h="123">
                    <a:moveTo>
                      <a:pt x="24" y="0"/>
                    </a:moveTo>
                    <a:lnTo>
                      <a:pt x="0" y="123"/>
                    </a:lnTo>
                    <a:lnTo>
                      <a:pt x="28" y="121"/>
                    </a:lnTo>
                    <a:lnTo>
                      <a:pt x="44" y="88"/>
                    </a:lnTo>
                    <a:lnTo>
                      <a:pt x="39" y="42"/>
                    </a:lnTo>
                    <a:lnTo>
                      <a:pt x="24" y="0"/>
                    </a:lnTo>
                    <a:close/>
                  </a:path>
                </a:pathLst>
              </a:custGeom>
              <a:solidFill>
                <a:srgbClr val="ffea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85" name=""/>
              <p:cNvSpPr/>
              <p:nvPr/>
            </p:nvSpPr>
            <p:spPr>
              <a:xfrm>
                <a:off x="7060680" y="4567680"/>
                <a:ext cx="433440" cy="410040"/>
              </a:xfrm>
              <a:custGeom>
                <a:avLst/>
                <a:gdLst/>
                <a:ahLst/>
                <a:rect l="l" t="t" r="r" b="b"/>
                <a:pathLst>
                  <a:path w="5233" h="3878">
                    <a:moveTo>
                      <a:pt x="4452" y="3024"/>
                    </a:moveTo>
                    <a:lnTo>
                      <a:pt x="4030" y="2787"/>
                    </a:lnTo>
                    <a:lnTo>
                      <a:pt x="3672" y="2893"/>
                    </a:lnTo>
                    <a:lnTo>
                      <a:pt x="3525" y="2812"/>
                    </a:lnTo>
                    <a:lnTo>
                      <a:pt x="3052" y="2393"/>
                    </a:lnTo>
                    <a:lnTo>
                      <a:pt x="2947" y="3010"/>
                    </a:lnTo>
                    <a:lnTo>
                      <a:pt x="3131" y="3089"/>
                    </a:lnTo>
                    <a:lnTo>
                      <a:pt x="3356" y="2999"/>
                    </a:lnTo>
                    <a:lnTo>
                      <a:pt x="3608" y="3076"/>
                    </a:lnTo>
                    <a:lnTo>
                      <a:pt x="3790" y="3063"/>
                    </a:lnTo>
                    <a:lnTo>
                      <a:pt x="4318" y="3052"/>
                    </a:lnTo>
                    <a:lnTo>
                      <a:pt x="4468" y="3234"/>
                    </a:lnTo>
                    <a:lnTo>
                      <a:pt x="4410" y="3612"/>
                    </a:lnTo>
                    <a:lnTo>
                      <a:pt x="4336" y="3681"/>
                    </a:lnTo>
                    <a:lnTo>
                      <a:pt x="3845" y="3681"/>
                    </a:lnTo>
                    <a:lnTo>
                      <a:pt x="1901" y="3878"/>
                    </a:lnTo>
                    <a:lnTo>
                      <a:pt x="11" y="3654"/>
                    </a:lnTo>
                    <a:lnTo>
                      <a:pt x="0" y="1987"/>
                    </a:lnTo>
                    <a:lnTo>
                      <a:pt x="103" y="1510"/>
                    </a:lnTo>
                    <a:lnTo>
                      <a:pt x="304" y="1037"/>
                    </a:lnTo>
                    <a:lnTo>
                      <a:pt x="408" y="892"/>
                    </a:lnTo>
                    <a:lnTo>
                      <a:pt x="685" y="590"/>
                    </a:lnTo>
                    <a:lnTo>
                      <a:pt x="975" y="394"/>
                    </a:lnTo>
                    <a:lnTo>
                      <a:pt x="1213" y="248"/>
                    </a:lnTo>
                    <a:lnTo>
                      <a:pt x="1466" y="145"/>
                    </a:lnTo>
                    <a:lnTo>
                      <a:pt x="1572" y="0"/>
                    </a:lnTo>
                    <a:lnTo>
                      <a:pt x="2604" y="343"/>
                    </a:lnTo>
                    <a:lnTo>
                      <a:pt x="2747" y="514"/>
                    </a:lnTo>
                    <a:lnTo>
                      <a:pt x="2947" y="643"/>
                    </a:lnTo>
                    <a:lnTo>
                      <a:pt x="3172" y="828"/>
                    </a:lnTo>
                    <a:lnTo>
                      <a:pt x="3474" y="1210"/>
                    </a:lnTo>
                    <a:lnTo>
                      <a:pt x="4307" y="1995"/>
                    </a:lnTo>
                    <a:lnTo>
                      <a:pt x="4491" y="2079"/>
                    </a:lnTo>
                    <a:lnTo>
                      <a:pt x="4544" y="2236"/>
                    </a:lnTo>
                    <a:lnTo>
                      <a:pt x="4956" y="2340"/>
                    </a:lnTo>
                    <a:lnTo>
                      <a:pt x="5140" y="2551"/>
                    </a:lnTo>
                    <a:lnTo>
                      <a:pt x="5233" y="2812"/>
                    </a:lnTo>
                    <a:lnTo>
                      <a:pt x="4452" y="3024"/>
                    </a:lnTo>
                    <a:close/>
                  </a:path>
                </a:pathLst>
              </a:cu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6" name=""/>
              <p:cNvSpPr/>
              <p:nvPr/>
            </p:nvSpPr>
            <p:spPr>
              <a:xfrm>
                <a:off x="7494480" y="4795560"/>
                <a:ext cx="66960" cy="134640"/>
              </a:xfrm>
              <a:custGeom>
                <a:avLst/>
                <a:gdLst/>
                <a:ahLst/>
                <a:rect l="l" t="t" r="r" b="b"/>
                <a:pathLst>
                  <a:path w="803" h="1268">
                    <a:moveTo>
                      <a:pt x="0" y="23"/>
                    </a:moveTo>
                    <a:lnTo>
                      <a:pt x="0" y="44"/>
                    </a:lnTo>
                    <a:lnTo>
                      <a:pt x="12" y="69"/>
                    </a:lnTo>
                    <a:lnTo>
                      <a:pt x="708" y="1183"/>
                    </a:lnTo>
                    <a:lnTo>
                      <a:pt x="803" y="1268"/>
                    </a:lnTo>
                    <a:lnTo>
                      <a:pt x="759" y="1139"/>
                    </a:lnTo>
                    <a:lnTo>
                      <a:pt x="61" y="5"/>
                    </a:lnTo>
                    <a:lnTo>
                      <a:pt x="19" y="0"/>
                    </a:lnTo>
                    <a:lnTo>
                      <a:pt x="0" y="23"/>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7" name=""/>
              <p:cNvSpPr/>
              <p:nvPr/>
            </p:nvSpPr>
            <p:spPr>
              <a:xfrm>
                <a:off x="7444080" y="4853520"/>
                <a:ext cx="100080" cy="81000"/>
              </a:xfrm>
              <a:custGeom>
                <a:avLst/>
                <a:gdLst/>
                <a:ahLst/>
                <a:rect l="l" t="t" r="r" b="b"/>
                <a:pathLst>
                  <a:path w="1202" h="775">
                    <a:moveTo>
                      <a:pt x="0" y="289"/>
                    </a:moveTo>
                    <a:lnTo>
                      <a:pt x="63" y="132"/>
                    </a:lnTo>
                    <a:lnTo>
                      <a:pt x="182" y="66"/>
                    </a:lnTo>
                    <a:lnTo>
                      <a:pt x="287" y="81"/>
                    </a:lnTo>
                    <a:lnTo>
                      <a:pt x="487" y="118"/>
                    </a:lnTo>
                    <a:lnTo>
                      <a:pt x="607" y="28"/>
                    </a:lnTo>
                    <a:lnTo>
                      <a:pt x="709" y="0"/>
                    </a:lnTo>
                    <a:lnTo>
                      <a:pt x="1147" y="66"/>
                    </a:lnTo>
                    <a:lnTo>
                      <a:pt x="1188" y="171"/>
                    </a:lnTo>
                    <a:lnTo>
                      <a:pt x="1135" y="199"/>
                    </a:lnTo>
                    <a:lnTo>
                      <a:pt x="793" y="224"/>
                    </a:lnTo>
                    <a:lnTo>
                      <a:pt x="1162" y="382"/>
                    </a:lnTo>
                    <a:lnTo>
                      <a:pt x="1202" y="475"/>
                    </a:lnTo>
                    <a:lnTo>
                      <a:pt x="1174" y="552"/>
                    </a:lnTo>
                    <a:lnTo>
                      <a:pt x="1068" y="630"/>
                    </a:lnTo>
                    <a:lnTo>
                      <a:pt x="1029" y="738"/>
                    </a:lnTo>
                    <a:lnTo>
                      <a:pt x="709" y="775"/>
                    </a:lnTo>
                    <a:lnTo>
                      <a:pt x="130" y="710"/>
                    </a:lnTo>
                    <a:lnTo>
                      <a:pt x="0" y="289"/>
                    </a:lnTo>
                    <a:close/>
                  </a:path>
                </a:pathLst>
              </a:custGeom>
              <a:solidFill>
                <a:srgbClr val="ffc98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88" name=""/>
              <p:cNvSpPr/>
              <p:nvPr/>
            </p:nvSpPr>
            <p:spPr>
              <a:xfrm>
                <a:off x="7185600" y="4455000"/>
                <a:ext cx="135720" cy="202320"/>
              </a:xfrm>
              <a:custGeom>
                <a:avLst/>
                <a:gdLst/>
                <a:ahLst/>
                <a:rect l="l" t="t" r="r" b="b"/>
                <a:pathLst>
                  <a:path w="1639" h="1907">
                    <a:moveTo>
                      <a:pt x="0" y="538"/>
                    </a:moveTo>
                    <a:lnTo>
                      <a:pt x="53" y="850"/>
                    </a:lnTo>
                    <a:lnTo>
                      <a:pt x="73" y="949"/>
                    </a:lnTo>
                    <a:lnTo>
                      <a:pt x="127" y="1008"/>
                    </a:lnTo>
                    <a:lnTo>
                      <a:pt x="99" y="1109"/>
                    </a:lnTo>
                    <a:lnTo>
                      <a:pt x="154" y="1217"/>
                    </a:lnTo>
                    <a:lnTo>
                      <a:pt x="207" y="1305"/>
                    </a:lnTo>
                    <a:lnTo>
                      <a:pt x="272" y="1409"/>
                    </a:lnTo>
                    <a:lnTo>
                      <a:pt x="495" y="1599"/>
                    </a:lnTo>
                    <a:lnTo>
                      <a:pt x="784" y="1907"/>
                    </a:lnTo>
                    <a:lnTo>
                      <a:pt x="822" y="1859"/>
                    </a:lnTo>
                    <a:lnTo>
                      <a:pt x="881" y="1736"/>
                    </a:lnTo>
                    <a:lnTo>
                      <a:pt x="905" y="1598"/>
                    </a:lnTo>
                    <a:lnTo>
                      <a:pt x="1030" y="1630"/>
                    </a:lnTo>
                    <a:lnTo>
                      <a:pt x="1155" y="1617"/>
                    </a:lnTo>
                    <a:lnTo>
                      <a:pt x="1213" y="1584"/>
                    </a:lnTo>
                    <a:lnTo>
                      <a:pt x="1270" y="1522"/>
                    </a:lnTo>
                    <a:lnTo>
                      <a:pt x="1429" y="1179"/>
                    </a:lnTo>
                    <a:lnTo>
                      <a:pt x="1510" y="1077"/>
                    </a:lnTo>
                    <a:lnTo>
                      <a:pt x="1572" y="905"/>
                    </a:lnTo>
                    <a:lnTo>
                      <a:pt x="1586" y="718"/>
                    </a:lnTo>
                    <a:lnTo>
                      <a:pt x="1618" y="632"/>
                    </a:lnTo>
                    <a:lnTo>
                      <a:pt x="1635" y="575"/>
                    </a:lnTo>
                    <a:lnTo>
                      <a:pt x="1639" y="261"/>
                    </a:lnTo>
                    <a:lnTo>
                      <a:pt x="1609" y="118"/>
                    </a:lnTo>
                    <a:lnTo>
                      <a:pt x="1540" y="0"/>
                    </a:lnTo>
                    <a:lnTo>
                      <a:pt x="207" y="155"/>
                    </a:lnTo>
                    <a:lnTo>
                      <a:pt x="0" y="53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9" name=""/>
              <p:cNvSpPr/>
              <p:nvPr/>
            </p:nvSpPr>
            <p:spPr>
              <a:xfrm>
                <a:off x="7243920" y="4665960"/>
                <a:ext cx="30240" cy="204120"/>
              </a:xfrm>
              <a:custGeom>
                <a:avLst/>
                <a:gdLst/>
                <a:ahLst/>
                <a:rect l="l" t="t" r="r" b="b"/>
                <a:pathLst>
                  <a:path w="369" h="1920">
                    <a:moveTo>
                      <a:pt x="92" y="0"/>
                    </a:moveTo>
                    <a:lnTo>
                      <a:pt x="40" y="52"/>
                    </a:lnTo>
                    <a:lnTo>
                      <a:pt x="0" y="142"/>
                    </a:lnTo>
                    <a:lnTo>
                      <a:pt x="27" y="313"/>
                    </a:lnTo>
                    <a:lnTo>
                      <a:pt x="14" y="973"/>
                    </a:lnTo>
                    <a:lnTo>
                      <a:pt x="40" y="1433"/>
                    </a:lnTo>
                    <a:lnTo>
                      <a:pt x="119" y="1920"/>
                    </a:lnTo>
                    <a:lnTo>
                      <a:pt x="200" y="1920"/>
                    </a:lnTo>
                    <a:lnTo>
                      <a:pt x="319" y="1920"/>
                    </a:lnTo>
                    <a:lnTo>
                      <a:pt x="369" y="1841"/>
                    </a:lnTo>
                    <a:lnTo>
                      <a:pt x="263" y="1498"/>
                    </a:lnTo>
                    <a:lnTo>
                      <a:pt x="212" y="1169"/>
                    </a:lnTo>
                    <a:lnTo>
                      <a:pt x="200" y="776"/>
                    </a:lnTo>
                    <a:lnTo>
                      <a:pt x="159" y="313"/>
                    </a:lnTo>
                    <a:lnTo>
                      <a:pt x="185" y="211"/>
                    </a:lnTo>
                    <a:lnTo>
                      <a:pt x="159" y="66"/>
                    </a:lnTo>
                    <a:lnTo>
                      <a:pt x="9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0" name=""/>
              <p:cNvSpPr/>
              <p:nvPr/>
            </p:nvSpPr>
            <p:spPr>
              <a:xfrm>
                <a:off x="7259040" y="4403160"/>
                <a:ext cx="75600" cy="99000"/>
              </a:xfrm>
              <a:custGeom>
                <a:avLst/>
                <a:gdLst/>
                <a:ahLst/>
                <a:rect l="l" t="t" r="r" b="b"/>
                <a:pathLst>
                  <a:path w="914" h="936">
                    <a:moveTo>
                      <a:pt x="635" y="499"/>
                    </a:moveTo>
                    <a:lnTo>
                      <a:pt x="714" y="607"/>
                    </a:lnTo>
                    <a:lnTo>
                      <a:pt x="844" y="936"/>
                    </a:lnTo>
                    <a:lnTo>
                      <a:pt x="899" y="855"/>
                    </a:lnTo>
                    <a:lnTo>
                      <a:pt x="914" y="581"/>
                    </a:lnTo>
                    <a:lnTo>
                      <a:pt x="914" y="510"/>
                    </a:lnTo>
                    <a:lnTo>
                      <a:pt x="859" y="462"/>
                    </a:lnTo>
                    <a:lnTo>
                      <a:pt x="767" y="381"/>
                    </a:lnTo>
                    <a:lnTo>
                      <a:pt x="686" y="224"/>
                    </a:lnTo>
                    <a:lnTo>
                      <a:pt x="541" y="79"/>
                    </a:lnTo>
                    <a:lnTo>
                      <a:pt x="356" y="40"/>
                    </a:lnTo>
                    <a:lnTo>
                      <a:pt x="145" y="0"/>
                    </a:lnTo>
                    <a:lnTo>
                      <a:pt x="0" y="51"/>
                    </a:lnTo>
                    <a:lnTo>
                      <a:pt x="15" y="593"/>
                    </a:lnTo>
                    <a:lnTo>
                      <a:pt x="635" y="499"/>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1" name=""/>
              <p:cNvSpPr/>
              <p:nvPr/>
            </p:nvSpPr>
            <p:spPr>
              <a:xfrm>
                <a:off x="7250400" y="4510080"/>
                <a:ext cx="20160" cy="10080"/>
              </a:xfrm>
              <a:custGeom>
                <a:avLst/>
                <a:gdLst/>
                <a:ahLst/>
                <a:rect l="l" t="t" r="r" b="b"/>
                <a:pathLst>
                  <a:path w="251" h="93">
                    <a:moveTo>
                      <a:pt x="0" y="55"/>
                    </a:moveTo>
                    <a:lnTo>
                      <a:pt x="147" y="70"/>
                    </a:lnTo>
                    <a:lnTo>
                      <a:pt x="251" y="93"/>
                    </a:lnTo>
                    <a:lnTo>
                      <a:pt x="196" y="0"/>
                    </a:lnTo>
                    <a:lnTo>
                      <a:pt x="53" y="0"/>
                    </a:lnTo>
                    <a:lnTo>
                      <a:pt x="0" y="5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92" name=""/>
              <p:cNvSpPr/>
              <p:nvPr/>
            </p:nvSpPr>
            <p:spPr>
              <a:xfrm>
                <a:off x="7297560" y="4521960"/>
                <a:ext cx="15120" cy="11520"/>
              </a:xfrm>
              <a:custGeom>
                <a:avLst/>
                <a:gdLst/>
                <a:ahLst/>
                <a:rect l="l" t="t" r="r" b="b"/>
                <a:pathLst>
                  <a:path w="183" h="119">
                    <a:moveTo>
                      <a:pt x="0" y="66"/>
                    </a:moveTo>
                    <a:lnTo>
                      <a:pt x="106" y="119"/>
                    </a:lnTo>
                    <a:lnTo>
                      <a:pt x="183" y="105"/>
                    </a:lnTo>
                    <a:lnTo>
                      <a:pt x="172" y="77"/>
                    </a:lnTo>
                    <a:lnTo>
                      <a:pt x="37" y="0"/>
                    </a:lnTo>
                    <a:lnTo>
                      <a:pt x="0" y="66"/>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193" name=""/>
              <p:cNvSpPr/>
              <p:nvPr/>
            </p:nvSpPr>
            <p:spPr>
              <a:xfrm>
                <a:off x="7475760" y="4448880"/>
                <a:ext cx="18360" cy="9360"/>
              </a:xfrm>
              <a:custGeom>
                <a:avLst/>
                <a:gdLst/>
                <a:ahLst/>
                <a:rect l="l" t="t" r="r" b="b"/>
                <a:pathLst>
                  <a:path w="218" h="86">
                    <a:moveTo>
                      <a:pt x="0" y="14"/>
                    </a:moveTo>
                    <a:lnTo>
                      <a:pt x="62" y="60"/>
                    </a:lnTo>
                    <a:lnTo>
                      <a:pt x="97" y="86"/>
                    </a:lnTo>
                    <a:lnTo>
                      <a:pt x="181" y="86"/>
                    </a:lnTo>
                    <a:lnTo>
                      <a:pt x="218" y="58"/>
                    </a:lnTo>
                    <a:lnTo>
                      <a:pt x="177" y="9"/>
                    </a:lnTo>
                    <a:lnTo>
                      <a:pt x="103" y="0"/>
                    </a:lnTo>
                    <a:lnTo>
                      <a:pt x="20" y="9"/>
                    </a:lnTo>
                    <a:lnTo>
                      <a:pt x="0" y="14"/>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94" name=""/>
              <p:cNvSpPr/>
              <p:nvPr/>
            </p:nvSpPr>
            <p:spPr>
              <a:xfrm>
                <a:off x="7515000" y="4452480"/>
                <a:ext cx="17640" cy="8280"/>
              </a:xfrm>
              <a:custGeom>
                <a:avLst/>
                <a:gdLst/>
                <a:ahLst/>
                <a:rect l="l" t="t" r="r" b="b"/>
                <a:pathLst>
                  <a:path w="216" h="83">
                    <a:moveTo>
                      <a:pt x="0" y="48"/>
                    </a:moveTo>
                    <a:lnTo>
                      <a:pt x="50" y="7"/>
                    </a:lnTo>
                    <a:lnTo>
                      <a:pt x="130" y="0"/>
                    </a:lnTo>
                    <a:lnTo>
                      <a:pt x="216" y="35"/>
                    </a:lnTo>
                    <a:lnTo>
                      <a:pt x="163" y="66"/>
                    </a:lnTo>
                    <a:lnTo>
                      <a:pt x="121" y="81"/>
                    </a:lnTo>
                    <a:lnTo>
                      <a:pt x="75" y="83"/>
                    </a:lnTo>
                    <a:lnTo>
                      <a:pt x="18" y="62"/>
                    </a:lnTo>
                    <a:lnTo>
                      <a:pt x="0" y="48"/>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195" name=""/>
              <p:cNvSpPr/>
              <p:nvPr/>
            </p:nvSpPr>
            <p:spPr>
              <a:xfrm>
                <a:off x="7488360" y="4503960"/>
                <a:ext cx="28080" cy="7560"/>
              </a:xfrm>
              <a:custGeom>
                <a:avLst/>
                <a:gdLst/>
                <a:ahLst/>
                <a:rect l="l" t="t" r="r" b="b"/>
                <a:pathLst>
                  <a:path w="350" h="67">
                    <a:moveTo>
                      <a:pt x="0" y="4"/>
                    </a:moveTo>
                    <a:lnTo>
                      <a:pt x="82" y="50"/>
                    </a:lnTo>
                    <a:lnTo>
                      <a:pt x="203" y="67"/>
                    </a:lnTo>
                    <a:lnTo>
                      <a:pt x="260" y="65"/>
                    </a:lnTo>
                    <a:lnTo>
                      <a:pt x="299" y="46"/>
                    </a:lnTo>
                    <a:lnTo>
                      <a:pt x="332" y="21"/>
                    </a:lnTo>
                    <a:lnTo>
                      <a:pt x="350" y="0"/>
                    </a:lnTo>
                    <a:lnTo>
                      <a:pt x="249" y="6"/>
                    </a:lnTo>
                    <a:lnTo>
                      <a:pt x="194" y="14"/>
                    </a:lnTo>
                    <a:lnTo>
                      <a:pt x="108" y="4"/>
                    </a:lnTo>
                    <a:lnTo>
                      <a:pt x="0" y="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196" name=""/>
              <p:cNvSpPr/>
              <p:nvPr/>
            </p:nvSpPr>
            <p:spPr>
              <a:xfrm>
                <a:off x="7968960" y="4534560"/>
                <a:ext cx="391680" cy="442440"/>
              </a:xfrm>
              <a:custGeom>
                <a:avLst/>
                <a:gdLst/>
                <a:ahLst/>
                <a:rect l="l" t="t" r="r" b="b"/>
                <a:pathLst>
                  <a:path w="4729" h="4178">
                    <a:moveTo>
                      <a:pt x="602" y="3182"/>
                    </a:moveTo>
                    <a:lnTo>
                      <a:pt x="1411" y="2760"/>
                    </a:lnTo>
                    <a:lnTo>
                      <a:pt x="1677" y="2463"/>
                    </a:lnTo>
                    <a:lnTo>
                      <a:pt x="1928" y="3087"/>
                    </a:lnTo>
                    <a:lnTo>
                      <a:pt x="1940" y="3300"/>
                    </a:lnTo>
                    <a:lnTo>
                      <a:pt x="1846" y="3325"/>
                    </a:lnTo>
                    <a:lnTo>
                      <a:pt x="1640" y="3288"/>
                    </a:lnTo>
                    <a:lnTo>
                      <a:pt x="1486" y="3279"/>
                    </a:lnTo>
                    <a:lnTo>
                      <a:pt x="1398" y="3241"/>
                    </a:lnTo>
                    <a:lnTo>
                      <a:pt x="1218" y="3265"/>
                    </a:lnTo>
                    <a:lnTo>
                      <a:pt x="1050" y="3230"/>
                    </a:lnTo>
                    <a:lnTo>
                      <a:pt x="844" y="3168"/>
                    </a:lnTo>
                    <a:lnTo>
                      <a:pt x="672" y="3254"/>
                    </a:lnTo>
                    <a:lnTo>
                      <a:pt x="541" y="3491"/>
                    </a:lnTo>
                    <a:lnTo>
                      <a:pt x="640" y="3841"/>
                    </a:lnTo>
                    <a:lnTo>
                      <a:pt x="1070" y="3903"/>
                    </a:lnTo>
                    <a:lnTo>
                      <a:pt x="1640" y="4032"/>
                    </a:lnTo>
                    <a:lnTo>
                      <a:pt x="2013" y="4139"/>
                    </a:lnTo>
                    <a:lnTo>
                      <a:pt x="2919" y="4178"/>
                    </a:lnTo>
                    <a:lnTo>
                      <a:pt x="3270" y="4153"/>
                    </a:lnTo>
                    <a:lnTo>
                      <a:pt x="3620" y="4056"/>
                    </a:lnTo>
                    <a:lnTo>
                      <a:pt x="4667" y="2951"/>
                    </a:lnTo>
                    <a:lnTo>
                      <a:pt x="4729" y="1824"/>
                    </a:lnTo>
                    <a:lnTo>
                      <a:pt x="4584" y="1298"/>
                    </a:lnTo>
                    <a:lnTo>
                      <a:pt x="4425" y="1019"/>
                    </a:lnTo>
                    <a:lnTo>
                      <a:pt x="4138" y="639"/>
                    </a:lnTo>
                    <a:lnTo>
                      <a:pt x="3595" y="384"/>
                    </a:lnTo>
                    <a:lnTo>
                      <a:pt x="3450" y="422"/>
                    </a:lnTo>
                    <a:lnTo>
                      <a:pt x="3342" y="362"/>
                    </a:lnTo>
                    <a:lnTo>
                      <a:pt x="3256" y="194"/>
                    </a:lnTo>
                    <a:lnTo>
                      <a:pt x="3053" y="121"/>
                    </a:lnTo>
                    <a:lnTo>
                      <a:pt x="2872" y="0"/>
                    </a:lnTo>
                    <a:lnTo>
                      <a:pt x="2666" y="12"/>
                    </a:lnTo>
                    <a:lnTo>
                      <a:pt x="1709" y="602"/>
                    </a:lnTo>
                    <a:lnTo>
                      <a:pt x="1558" y="720"/>
                    </a:lnTo>
                    <a:lnTo>
                      <a:pt x="1460" y="817"/>
                    </a:lnTo>
                    <a:lnTo>
                      <a:pt x="1281" y="911"/>
                    </a:lnTo>
                    <a:lnTo>
                      <a:pt x="1070" y="1503"/>
                    </a:lnTo>
                    <a:lnTo>
                      <a:pt x="1064" y="1702"/>
                    </a:lnTo>
                    <a:lnTo>
                      <a:pt x="989" y="1979"/>
                    </a:lnTo>
                    <a:lnTo>
                      <a:pt x="808" y="2039"/>
                    </a:lnTo>
                    <a:lnTo>
                      <a:pt x="723" y="2136"/>
                    </a:lnTo>
                    <a:lnTo>
                      <a:pt x="699" y="2259"/>
                    </a:lnTo>
                    <a:lnTo>
                      <a:pt x="578" y="2377"/>
                    </a:lnTo>
                    <a:lnTo>
                      <a:pt x="240" y="2606"/>
                    </a:lnTo>
                    <a:lnTo>
                      <a:pt x="0" y="2917"/>
                    </a:lnTo>
                    <a:lnTo>
                      <a:pt x="277" y="3145"/>
                    </a:lnTo>
                    <a:lnTo>
                      <a:pt x="602" y="31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7" name=""/>
              <p:cNvSpPr/>
              <p:nvPr/>
            </p:nvSpPr>
            <p:spPr>
              <a:xfrm>
                <a:off x="8008920" y="4648320"/>
                <a:ext cx="115200" cy="230400"/>
              </a:xfrm>
              <a:custGeom>
                <a:avLst/>
                <a:gdLst/>
                <a:ahLst/>
                <a:rect l="l" t="t" r="r" b="b"/>
                <a:pathLst>
                  <a:path w="1387" h="2184">
                    <a:moveTo>
                      <a:pt x="691" y="312"/>
                    </a:moveTo>
                    <a:lnTo>
                      <a:pt x="679" y="433"/>
                    </a:lnTo>
                    <a:lnTo>
                      <a:pt x="712" y="479"/>
                    </a:lnTo>
                    <a:lnTo>
                      <a:pt x="807" y="528"/>
                    </a:lnTo>
                    <a:lnTo>
                      <a:pt x="859" y="578"/>
                    </a:lnTo>
                    <a:lnTo>
                      <a:pt x="859" y="683"/>
                    </a:lnTo>
                    <a:lnTo>
                      <a:pt x="664" y="731"/>
                    </a:lnTo>
                    <a:lnTo>
                      <a:pt x="605" y="731"/>
                    </a:lnTo>
                    <a:lnTo>
                      <a:pt x="555" y="671"/>
                    </a:lnTo>
                    <a:lnTo>
                      <a:pt x="508" y="899"/>
                    </a:lnTo>
                    <a:lnTo>
                      <a:pt x="290" y="1031"/>
                    </a:lnTo>
                    <a:lnTo>
                      <a:pt x="664" y="899"/>
                    </a:lnTo>
                    <a:lnTo>
                      <a:pt x="749" y="899"/>
                    </a:lnTo>
                    <a:lnTo>
                      <a:pt x="712" y="945"/>
                    </a:lnTo>
                    <a:lnTo>
                      <a:pt x="447" y="1103"/>
                    </a:lnTo>
                    <a:lnTo>
                      <a:pt x="726" y="1103"/>
                    </a:lnTo>
                    <a:lnTo>
                      <a:pt x="737" y="1213"/>
                    </a:lnTo>
                    <a:lnTo>
                      <a:pt x="133" y="1273"/>
                    </a:lnTo>
                    <a:lnTo>
                      <a:pt x="0" y="1369"/>
                    </a:lnTo>
                    <a:lnTo>
                      <a:pt x="170" y="1426"/>
                    </a:lnTo>
                    <a:lnTo>
                      <a:pt x="279" y="1525"/>
                    </a:lnTo>
                    <a:lnTo>
                      <a:pt x="290" y="1593"/>
                    </a:lnTo>
                    <a:lnTo>
                      <a:pt x="181" y="1690"/>
                    </a:lnTo>
                    <a:lnTo>
                      <a:pt x="181" y="1810"/>
                    </a:lnTo>
                    <a:lnTo>
                      <a:pt x="242" y="1932"/>
                    </a:lnTo>
                    <a:lnTo>
                      <a:pt x="84" y="2075"/>
                    </a:lnTo>
                    <a:lnTo>
                      <a:pt x="218" y="2184"/>
                    </a:lnTo>
                    <a:lnTo>
                      <a:pt x="373" y="2098"/>
                    </a:lnTo>
                    <a:lnTo>
                      <a:pt x="472" y="2123"/>
                    </a:lnTo>
                    <a:lnTo>
                      <a:pt x="679" y="1964"/>
                    </a:lnTo>
                    <a:lnTo>
                      <a:pt x="989" y="1630"/>
                    </a:lnTo>
                    <a:lnTo>
                      <a:pt x="1207" y="1379"/>
                    </a:lnTo>
                    <a:lnTo>
                      <a:pt x="1350" y="1752"/>
                    </a:lnTo>
                    <a:lnTo>
                      <a:pt x="1387" y="1358"/>
                    </a:lnTo>
                    <a:lnTo>
                      <a:pt x="1387" y="1199"/>
                    </a:lnTo>
                    <a:lnTo>
                      <a:pt x="1242" y="1093"/>
                    </a:lnTo>
                    <a:lnTo>
                      <a:pt x="1122" y="923"/>
                    </a:lnTo>
                    <a:lnTo>
                      <a:pt x="1014" y="740"/>
                    </a:lnTo>
                    <a:lnTo>
                      <a:pt x="930" y="528"/>
                    </a:lnTo>
                    <a:lnTo>
                      <a:pt x="834" y="228"/>
                    </a:lnTo>
                    <a:lnTo>
                      <a:pt x="800" y="0"/>
                    </a:lnTo>
                    <a:lnTo>
                      <a:pt x="700" y="215"/>
                    </a:lnTo>
                    <a:lnTo>
                      <a:pt x="691" y="312"/>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8" name=""/>
              <p:cNvSpPr/>
              <p:nvPr/>
            </p:nvSpPr>
            <p:spPr>
              <a:xfrm>
                <a:off x="8067240" y="4649760"/>
                <a:ext cx="236520" cy="331560"/>
              </a:xfrm>
              <a:custGeom>
                <a:avLst/>
                <a:gdLst/>
                <a:ahLst/>
                <a:rect l="l" t="t" r="r" b="b"/>
                <a:pathLst>
                  <a:path w="2861" h="3124">
                    <a:moveTo>
                      <a:pt x="988" y="1321"/>
                    </a:moveTo>
                    <a:lnTo>
                      <a:pt x="1377" y="1443"/>
                    </a:lnTo>
                    <a:lnTo>
                      <a:pt x="1691" y="1504"/>
                    </a:lnTo>
                    <a:lnTo>
                      <a:pt x="1909" y="1095"/>
                    </a:lnTo>
                    <a:lnTo>
                      <a:pt x="1895" y="698"/>
                    </a:lnTo>
                    <a:lnTo>
                      <a:pt x="2146" y="231"/>
                    </a:lnTo>
                    <a:lnTo>
                      <a:pt x="2642" y="0"/>
                    </a:lnTo>
                    <a:lnTo>
                      <a:pt x="2232" y="399"/>
                    </a:lnTo>
                    <a:lnTo>
                      <a:pt x="2111" y="770"/>
                    </a:lnTo>
                    <a:lnTo>
                      <a:pt x="2111" y="1168"/>
                    </a:lnTo>
                    <a:lnTo>
                      <a:pt x="2350" y="985"/>
                    </a:lnTo>
                    <a:lnTo>
                      <a:pt x="2665" y="627"/>
                    </a:lnTo>
                    <a:lnTo>
                      <a:pt x="2861" y="420"/>
                    </a:lnTo>
                    <a:lnTo>
                      <a:pt x="2861" y="590"/>
                    </a:lnTo>
                    <a:lnTo>
                      <a:pt x="2642" y="1010"/>
                    </a:lnTo>
                    <a:lnTo>
                      <a:pt x="2280" y="1478"/>
                    </a:lnTo>
                    <a:lnTo>
                      <a:pt x="1981" y="1741"/>
                    </a:lnTo>
                    <a:lnTo>
                      <a:pt x="1773" y="1838"/>
                    </a:lnTo>
                    <a:lnTo>
                      <a:pt x="1773" y="1959"/>
                    </a:lnTo>
                    <a:lnTo>
                      <a:pt x="1918" y="2188"/>
                    </a:lnTo>
                    <a:lnTo>
                      <a:pt x="2063" y="2545"/>
                    </a:lnTo>
                    <a:lnTo>
                      <a:pt x="1955" y="2451"/>
                    </a:lnTo>
                    <a:lnTo>
                      <a:pt x="1836" y="2333"/>
                    </a:lnTo>
                    <a:lnTo>
                      <a:pt x="1665" y="2257"/>
                    </a:lnTo>
                    <a:lnTo>
                      <a:pt x="1508" y="2222"/>
                    </a:lnTo>
                    <a:lnTo>
                      <a:pt x="1388" y="2197"/>
                    </a:lnTo>
                    <a:lnTo>
                      <a:pt x="1460" y="2429"/>
                    </a:lnTo>
                    <a:lnTo>
                      <a:pt x="1691" y="2621"/>
                    </a:lnTo>
                    <a:lnTo>
                      <a:pt x="1872" y="2725"/>
                    </a:lnTo>
                    <a:lnTo>
                      <a:pt x="1785" y="2534"/>
                    </a:lnTo>
                    <a:lnTo>
                      <a:pt x="1981" y="2582"/>
                    </a:lnTo>
                    <a:lnTo>
                      <a:pt x="2052" y="2750"/>
                    </a:lnTo>
                    <a:lnTo>
                      <a:pt x="2025" y="2978"/>
                    </a:lnTo>
                    <a:lnTo>
                      <a:pt x="1895" y="3110"/>
                    </a:lnTo>
                    <a:lnTo>
                      <a:pt x="1665" y="3124"/>
                    </a:lnTo>
                    <a:lnTo>
                      <a:pt x="1425" y="3001"/>
                    </a:lnTo>
                    <a:lnTo>
                      <a:pt x="1326" y="2796"/>
                    </a:lnTo>
                    <a:lnTo>
                      <a:pt x="1181" y="2400"/>
                    </a:lnTo>
                    <a:lnTo>
                      <a:pt x="988" y="2284"/>
                    </a:lnTo>
                    <a:lnTo>
                      <a:pt x="485" y="2391"/>
                    </a:lnTo>
                    <a:lnTo>
                      <a:pt x="171" y="2568"/>
                    </a:lnTo>
                    <a:lnTo>
                      <a:pt x="134" y="2499"/>
                    </a:lnTo>
                    <a:lnTo>
                      <a:pt x="217" y="2319"/>
                    </a:lnTo>
                    <a:lnTo>
                      <a:pt x="0" y="2400"/>
                    </a:lnTo>
                    <a:lnTo>
                      <a:pt x="87" y="2271"/>
                    </a:lnTo>
                    <a:lnTo>
                      <a:pt x="362" y="2197"/>
                    </a:lnTo>
                    <a:lnTo>
                      <a:pt x="558" y="2222"/>
                    </a:lnTo>
                    <a:lnTo>
                      <a:pt x="676" y="2234"/>
                    </a:lnTo>
                    <a:lnTo>
                      <a:pt x="950" y="2174"/>
                    </a:lnTo>
                    <a:lnTo>
                      <a:pt x="988" y="1321"/>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9" name=""/>
              <p:cNvSpPr/>
              <p:nvPr/>
            </p:nvSpPr>
            <p:spPr>
              <a:xfrm>
                <a:off x="8144280" y="4649040"/>
                <a:ext cx="41760" cy="150840"/>
              </a:xfrm>
              <a:custGeom>
                <a:avLst/>
                <a:gdLst/>
                <a:ahLst/>
                <a:rect l="l" t="t" r="r" b="b"/>
                <a:pathLst>
                  <a:path w="507" h="1428">
                    <a:moveTo>
                      <a:pt x="143" y="1404"/>
                    </a:moveTo>
                    <a:lnTo>
                      <a:pt x="180" y="1130"/>
                    </a:lnTo>
                    <a:lnTo>
                      <a:pt x="242" y="780"/>
                    </a:lnTo>
                    <a:lnTo>
                      <a:pt x="242" y="613"/>
                    </a:lnTo>
                    <a:lnTo>
                      <a:pt x="194" y="446"/>
                    </a:lnTo>
                    <a:lnTo>
                      <a:pt x="206" y="312"/>
                    </a:lnTo>
                    <a:lnTo>
                      <a:pt x="266" y="134"/>
                    </a:lnTo>
                    <a:lnTo>
                      <a:pt x="507" y="158"/>
                    </a:lnTo>
                    <a:lnTo>
                      <a:pt x="143" y="0"/>
                    </a:lnTo>
                    <a:lnTo>
                      <a:pt x="0" y="325"/>
                    </a:lnTo>
                    <a:lnTo>
                      <a:pt x="21" y="1428"/>
                    </a:lnTo>
                    <a:lnTo>
                      <a:pt x="143" y="1404"/>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0" name=""/>
              <p:cNvSpPr/>
              <p:nvPr/>
            </p:nvSpPr>
            <p:spPr>
              <a:xfrm>
                <a:off x="8195760" y="4532760"/>
                <a:ext cx="164880" cy="452520"/>
              </a:xfrm>
              <a:custGeom>
                <a:avLst/>
                <a:gdLst/>
                <a:ahLst/>
                <a:rect l="l" t="t" r="r" b="b"/>
                <a:pathLst>
                  <a:path w="1991" h="4272">
                    <a:moveTo>
                      <a:pt x="48" y="182"/>
                    </a:moveTo>
                    <a:lnTo>
                      <a:pt x="181" y="445"/>
                    </a:lnTo>
                    <a:lnTo>
                      <a:pt x="134" y="922"/>
                    </a:lnTo>
                    <a:lnTo>
                      <a:pt x="325" y="240"/>
                    </a:lnTo>
                    <a:lnTo>
                      <a:pt x="409" y="217"/>
                    </a:lnTo>
                    <a:lnTo>
                      <a:pt x="495" y="339"/>
                    </a:lnTo>
                    <a:lnTo>
                      <a:pt x="468" y="468"/>
                    </a:lnTo>
                    <a:lnTo>
                      <a:pt x="371" y="694"/>
                    </a:lnTo>
                    <a:lnTo>
                      <a:pt x="543" y="519"/>
                    </a:lnTo>
                    <a:lnTo>
                      <a:pt x="613" y="540"/>
                    </a:lnTo>
                    <a:lnTo>
                      <a:pt x="251" y="1092"/>
                    </a:lnTo>
                    <a:lnTo>
                      <a:pt x="903" y="481"/>
                    </a:lnTo>
                    <a:lnTo>
                      <a:pt x="1304" y="661"/>
                    </a:lnTo>
                    <a:lnTo>
                      <a:pt x="1387" y="936"/>
                    </a:lnTo>
                    <a:lnTo>
                      <a:pt x="1664" y="1189"/>
                    </a:lnTo>
                    <a:lnTo>
                      <a:pt x="1687" y="1452"/>
                    </a:lnTo>
                    <a:lnTo>
                      <a:pt x="1822" y="1659"/>
                    </a:lnTo>
                    <a:lnTo>
                      <a:pt x="1738" y="1909"/>
                    </a:lnTo>
                    <a:lnTo>
                      <a:pt x="1422" y="2038"/>
                    </a:lnTo>
                    <a:lnTo>
                      <a:pt x="1433" y="2138"/>
                    </a:lnTo>
                    <a:lnTo>
                      <a:pt x="1712" y="2366"/>
                    </a:lnTo>
                    <a:lnTo>
                      <a:pt x="1496" y="2388"/>
                    </a:lnTo>
                    <a:lnTo>
                      <a:pt x="1253" y="2280"/>
                    </a:lnTo>
                    <a:lnTo>
                      <a:pt x="1747" y="2748"/>
                    </a:lnTo>
                    <a:lnTo>
                      <a:pt x="1687" y="2806"/>
                    </a:lnTo>
                    <a:lnTo>
                      <a:pt x="1350" y="2748"/>
                    </a:lnTo>
                    <a:lnTo>
                      <a:pt x="1350" y="3061"/>
                    </a:lnTo>
                    <a:lnTo>
                      <a:pt x="1182" y="3252"/>
                    </a:lnTo>
                    <a:lnTo>
                      <a:pt x="1073" y="3156"/>
                    </a:lnTo>
                    <a:lnTo>
                      <a:pt x="806" y="3636"/>
                    </a:lnTo>
                    <a:lnTo>
                      <a:pt x="506" y="3898"/>
                    </a:lnTo>
                    <a:lnTo>
                      <a:pt x="387" y="4199"/>
                    </a:lnTo>
                    <a:lnTo>
                      <a:pt x="481" y="4272"/>
                    </a:lnTo>
                    <a:lnTo>
                      <a:pt x="1290" y="3995"/>
                    </a:lnTo>
                    <a:lnTo>
                      <a:pt x="1991" y="2833"/>
                    </a:lnTo>
                    <a:lnTo>
                      <a:pt x="1991" y="1821"/>
                    </a:lnTo>
                    <a:lnTo>
                      <a:pt x="1798" y="1199"/>
                    </a:lnTo>
                    <a:lnTo>
                      <a:pt x="1653" y="947"/>
                    </a:lnTo>
                    <a:lnTo>
                      <a:pt x="1521" y="828"/>
                    </a:lnTo>
                    <a:lnTo>
                      <a:pt x="1387" y="613"/>
                    </a:lnTo>
                    <a:lnTo>
                      <a:pt x="831" y="358"/>
                    </a:lnTo>
                    <a:lnTo>
                      <a:pt x="686" y="433"/>
                    </a:lnTo>
                    <a:lnTo>
                      <a:pt x="613" y="358"/>
                    </a:lnTo>
                    <a:lnTo>
                      <a:pt x="578" y="228"/>
                    </a:lnTo>
                    <a:lnTo>
                      <a:pt x="361" y="108"/>
                    </a:lnTo>
                    <a:lnTo>
                      <a:pt x="244" y="97"/>
                    </a:lnTo>
                    <a:lnTo>
                      <a:pt x="134" y="0"/>
                    </a:lnTo>
                    <a:lnTo>
                      <a:pt x="0" y="11"/>
                    </a:lnTo>
                    <a:lnTo>
                      <a:pt x="48" y="182"/>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1" name=""/>
              <p:cNvSpPr/>
              <p:nvPr/>
            </p:nvSpPr>
            <p:spPr>
              <a:xfrm>
                <a:off x="8124840" y="4623480"/>
                <a:ext cx="36360" cy="259920"/>
              </a:xfrm>
              <a:custGeom>
                <a:avLst/>
                <a:gdLst/>
                <a:ahLst/>
                <a:rect l="l" t="t" r="r" b="b"/>
                <a:pathLst>
                  <a:path w="434" h="2461">
                    <a:moveTo>
                      <a:pt x="276" y="0"/>
                    </a:moveTo>
                    <a:lnTo>
                      <a:pt x="166" y="72"/>
                    </a:lnTo>
                    <a:lnTo>
                      <a:pt x="106" y="204"/>
                    </a:lnTo>
                    <a:lnTo>
                      <a:pt x="96" y="326"/>
                    </a:lnTo>
                    <a:lnTo>
                      <a:pt x="106" y="688"/>
                    </a:lnTo>
                    <a:lnTo>
                      <a:pt x="72" y="962"/>
                    </a:lnTo>
                    <a:lnTo>
                      <a:pt x="37" y="1275"/>
                    </a:lnTo>
                    <a:lnTo>
                      <a:pt x="0" y="1504"/>
                    </a:lnTo>
                    <a:lnTo>
                      <a:pt x="0" y="1780"/>
                    </a:lnTo>
                    <a:lnTo>
                      <a:pt x="10" y="2029"/>
                    </a:lnTo>
                    <a:lnTo>
                      <a:pt x="145" y="2461"/>
                    </a:lnTo>
                    <a:lnTo>
                      <a:pt x="434" y="2391"/>
                    </a:lnTo>
                    <a:lnTo>
                      <a:pt x="311" y="1993"/>
                    </a:lnTo>
                    <a:lnTo>
                      <a:pt x="263" y="1684"/>
                    </a:lnTo>
                    <a:lnTo>
                      <a:pt x="287" y="1407"/>
                    </a:lnTo>
                    <a:lnTo>
                      <a:pt x="337" y="1130"/>
                    </a:lnTo>
                    <a:lnTo>
                      <a:pt x="397" y="879"/>
                    </a:lnTo>
                    <a:lnTo>
                      <a:pt x="397" y="734"/>
                    </a:lnTo>
                    <a:lnTo>
                      <a:pt x="360" y="602"/>
                    </a:lnTo>
                    <a:lnTo>
                      <a:pt x="311" y="519"/>
                    </a:lnTo>
                    <a:lnTo>
                      <a:pt x="325" y="194"/>
                    </a:lnTo>
                    <a:lnTo>
                      <a:pt x="337" y="12"/>
                    </a:lnTo>
                    <a:lnTo>
                      <a:pt x="276" y="0"/>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2" name=""/>
              <p:cNvSpPr/>
              <p:nvPr/>
            </p:nvSpPr>
            <p:spPr>
              <a:xfrm>
                <a:off x="7917840" y="4822920"/>
                <a:ext cx="109440" cy="114120"/>
              </a:xfrm>
              <a:custGeom>
                <a:avLst/>
                <a:gdLst/>
                <a:ahLst/>
                <a:rect l="l" t="t" r="r" b="b"/>
                <a:pathLst>
                  <a:path w="1314" h="1079">
                    <a:moveTo>
                      <a:pt x="374" y="0"/>
                    </a:moveTo>
                    <a:lnTo>
                      <a:pt x="300" y="35"/>
                    </a:lnTo>
                    <a:lnTo>
                      <a:pt x="300" y="97"/>
                    </a:lnTo>
                    <a:lnTo>
                      <a:pt x="194" y="143"/>
                    </a:lnTo>
                    <a:lnTo>
                      <a:pt x="167" y="192"/>
                    </a:lnTo>
                    <a:lnTo>
                      <a:pt x="129" y="335"/>
                    </a:lnTo>
                    <a:lnTo>
                      <a:pt x="24" y="395"/>
                    </a:lnTo>
                    <a:lnTo>
                      <a:pt x="0" y="613"/>
                    </a:lnTo>
                    <a:lnTo>
                      <a:pt x="59" y="830"/>
                    </a:lnTo>
                    <a:lnTo>
                      <a:pt x="290" y="934"/>
                    </a:lnTo>
                    <a:lnTo>
                      <a:pt x="662" y="1056"/>
                    </a:lnTo>
                    <a:lnTo>
                      <a:pt x="938" y="1068"/>
                    </a:lnTo>
                    <a:lnTo>
                      <a:pt x="1241" y="1079"/>
                    </a:lnTo>
                    <a:lnTo>
                      <a:pt x="1217" y="925"/>
                    </a:lnTo>
                    <a:lnTo>
                      <a:pt x="1217" y="817"/>
                    </a:lnTo>
                    <a:lnTo>
                      <a:pt x="1229" y="699"/>
                    </a:lnTo>
                    <a:lnTo>
                      <a:pt x="1314" y="529"/>
                    </a:lnTo>
                    <a:lnTo>
                      <a:pt x="1229" y="480"/>
                    </a:lnTo>
                    <a:lnTo>
                      <a:pt x="1156" y="408"/>
                    </a:lnTo>
                    <a:lnTo>
                      <a:pt x="1096" y="309"/>
                    </a:lnTo>
                    <a:lnTo>
                      <a:pt x="1024" y="226"/>
                    </a:lnTo>
                    <a:lnTo>
                      <a:pt x="950" y="167"/>
                    </a:lnTo>
                    <a:lnTo>
                      <a:pt x="879" y="143"/>
                    </a:lnTo>
                    <a:lnTo>
                      <a:pt x="769" y="167"/>
                    </a:lnTo>
                    <a:lnTo>
                      <a:pt x="637" y="204"/>
                    </a:lnTo>
                    <a:lnTo>
                      <a:pt x="588" y="180"/>
                    </a:lnTo>
                    <a:lnTo>
                      <a:pt x="528" y="59"/>
                    </a:lnTo>
                    <a:lnTo>
                      <a:pt x="470" y="26"/>
                    </a:lnTo>
                    <a:lnTo>
                      <a:pt x="374"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3" name=""/>
              <p:cNvSpPr/>
              <p:nvPr/>
            </p:nvSpPr>
            <p:spPr>
              <a:xfrm>
                <a:off x="8066520" y="4398840"/>
                <a:ext cx="149760" cy="227880"/>
              </a:xfrm>
              <a:custGeom>
                <a:avLst/>
                <a:gdLst/>
                <a:ahLst/>
                <a:rect l="l" t="t" r="r" b="b"/>
                <a:pathLst>
                  <a:path w="1808" h="2151">
                    <a:moveTo>
                      <a:pt x="1784" y="591"/>
                    </a:moveTo>
                    <a:lnTo>
                      <a:pt x="1808" y="681"/>
                    </a:lnTo>
                    <a:lnTo>
                      <a:pt x="1803" y="758"/>
                    </a:lnTo>
                    <a:lnTo>
                      <a:pt x="1773" y="877"/>
                    </a:lnTo>
                    <a:lnTo>
                      <a:pt x="1698" y="1052"/>
                    </a:lnTo>
                    <a:lnTo>
                      <a:pt x="1573" y="1178"/>
                    </a:lnTo>
                    <a:lnTo>
                      <a:pt x="1459" y="1701"/>
                    </a:lnTo>
                    <a:lnTo>
                      <a:pt x="1289" y="1884"/>
                    </a:lnTo>
                    <a:lnTo>
                      <a:pt x="1164" y="2022"/>
                    </a:lnTo>
                    <a:lnTo>
                      <a:pt x="1091" y="2133"/>
                    </a:lnTo>
                    <a:lnTo>
                      <a:pt x="1045" y="2151"/>
                    </a:lnTo>
                    <a:lnTo>
                      <a:pt x="835" y="1868"/>
                    </a:lnTo>
                    <a:lnTo>
                      <a:pt x="657" y="1890"/>
                    </a:lnTo>
                    <a:lnTo>
                      <a:pt x="569" y="1890"/>
                    </a:lnTo>
                    <a:lnTo>
                      <a:pt x="512" y="1852"/>
                    </a:lnTo>
                    <a:lnTo>
                      <a:pt x="477" y="1791"/>
                    </a:lnTo>
                    <a:lnTo>
                      <a:pt x="429" y="1628"/>
                    </a:lnTo>
                    <a:lnTo>
                      <a:pt x="289" y="1351"/>
                    </a:lnTo>
                    <a:lnTo>
                      <a:pt x="141" y="1169"/>
                    </a:lnTo>
                    <a:lnTo>
                      <a:pt x="107" y="1022"/>
                    </a:lnTo>
                    <a:lnTo>
                      <a:pt x="76" y="872"/>
                    </a:lnTo>
                    <a:lnTo>
                      <a:pt x="28" y="653"/>
                    </a:lnTo>
                    <a:lnTo>
                      <a:pt x="0" y="353"/>
                    </a:lnTo>
                    <a:lnTo>
                      <a:pt x="24" y="208"/>
                    </a:lnTo>
                    <a:lnTo>
                      <a:pt x="76" y="99"/>
                    </a:lnTo>
                    <a:lnTo>
                      <a:pt x="1324" y="0"/>
                    </a:lnTo>
                    <a:lnTo>
                      <a:pt x="1698" y="433"/>
                    </a:lnTo>
                    <a:lnTo>
                      <a:pt x="1784" y="591"/>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4" name=""/>
              <p:cNvSpPr/>
              <p:nvPr/>
            </p:nvSpPr>
            <p:spPr>
              <a:xfrm>
                <a:off x="8080560" y="4487040"/>
                <a:ext cx="12240" cy="11880"/>
              </a:xfrm>
              <a:custGeom>
                <a:avLst/>
                <a:gdLst/>
                <a:ahLst/>
                <a:rect l="l" t="t" r="r" b="b"/>
                <a:pathLst>
                  <a:path w="152" h="113">
                    <a:moveTo>
                      <a:pt x="0" y="83"/>
                    </a:moveTo>
                    <a:lnTo>
                      <a:pt x="49" y="113"/>
                    </a:lnTo>
                    <a:lnTo>
                      <a:pt x="152" y="79"/>
                    </a:lnTo>
                    <a:lnTo>
                      <a:pt x="152" y="0"/>
                    </a:lnTo>
                    <a:lnTo>
                      <a:pt x="33" y="16"/>
                    </a:lnTo>
                    <a:lnTo>
                      <a:pt x="0" y="83"/>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205" name=""/>
              <p:cNvSpPr/>
              <p:nvPr/>
            </p:nvSpPr>
            <p:spPr>
              <a:xfrm>
                <a:off x="8127000" y="4475160"/>
                <a:ext cx="18360" cy="8280"/>
              </a:xfrm>
              <a:custGeom>
                <a:avLst/>
                <a:gdLst/>
                <a:ahLst/>
                <a:rect l="l" t="t" r="r" b="b"/>
                <a:pathLst>
                  <a:path w="231" h="83">
                    <a:moveTo>
                      <a:pt x="27" y="83"/>
                    </a:moveTo>
                    <a:lnTo>
                      <a:pt x="130" y="74"/>
                    </a:lnTo>
                    <a:lnTo>
                      <a:pt x="231" y="47"/>
                    </a:lnTo>
                    <a:lnTo>
                      <a:pt x="104" y="0"/>
                    </a:lnTo>
                    <a:lnTo>
                      <a:pt x="0" y="0"/>
                    </a:lnTo>
                    <a:lnTo>
                      <a:pt x="27" y="83"/>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206" name=""/>
              <p:cNvSpPr/>
              <p:nvPr/>
            </p:nvSpPr>
            <p:spPr>
              <a:xfrm>
                <a:off x="8067240" y="4368240"/>
                <a:ext cx="119880" cy="47160"/>
              </a:xfrm>
              <a:custGeom>
                <a:avLst/>
                <a:gdLst/>
                <a:ahLst/>
                <a:rect l="l" t="t" r="r" b="b"/>
                <a:pathLst>
                  <a:path w="1451" h="452">
                    <a:moveTo>
                      <a:pt x="110" y="41"/>
                    </a:moveTo>
                    <a:lnTo>
                      <a:pt x="237" y="0"/>
                    </a:lnTo>
                    <a:lnTo>
                      <a:pt x="603" y="0"/>
                    </a:lnTo>
                    <a:lnTo>
                      <a:pt x="1255" y="165"/>
                    </a:lnTo>
                    <a:lnTo>
                      <a:pt x="1451" y="391"/>
                    </a:lnTo>
                    <a:lnTo>
                      <a:pt x="1134" y="318"/>
                    </a:lnTo>
                    <a:lnTo>
                      <a:pt x="981" y="360"/>
                    </a:lnTo>
                    <a:lnTo>
                      <a:pt x="846" y="424"/>
                    </a:lnTo>
                    <a:lnTo>
                      <a:pt x="647" y="452"/>
                    </a:lnTo>
                    <a:lnTo>
                      <a:pt x="426" y="444"/>
                    </a:lnTo>
                    <a:lnTo>
                      <a:pt x="218" y="391"/>
                    </a:lnTo>
                    <a:lnTo>
                      <a:pt x="68" y="318"/>
                    </a:lnTo>
                    <a:lnTo>
                      <a:pt x="16" y="251"/>
                    </a:lnTo>
                    <a:lnTo>
                      <a:pt x="0" y="186"/>
                    </a:lnTo>
                    <a:lnTo>
                      <a:pt x="4" y="129"/>
                    </a:lnTo>
                    <a:lnTo>
                      <a:pt x="110" y="41"/>
                    </a:lnTo>
                    <a:close/>
                  </a:path>
                </a:pathLst>
              </a:custGeom>
              <a:solidFill>
                <a:srgbClr val="7023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207" name=""/>
              <p:cNvSpPr/>
              <p:nvPr/>
            </p:nvSpPr>
            <p:spPr>
              <a:xfrm>
                <a:off x="8160840" y="4412520"/>
                <a:ext cx="58320" cy="65880"/>
              </a:xfrm>
              <a:custGeom>
                <a:avLst/>
                <a:gdLst/>
                <a:ahLst/>
                <a:rect l="l" t="t" r="r" b="b"/>
                <a:pathLst>
                  <a:path w="700" h="629">
                    <a:moveTo>
                      <a:pt x="666" y="482"/>
                    </a:moveTo>
                    <a:lnTo>
                      <a:pt x="548" y="411"/>
                    </a:lnTo>
                    <a:lnTo>
                      <a:pt x="449" y="405"/>
                    </a:lnTo>
                    <a:lnTo>
                      <a:pt x="392" y="482"/>
                    </a:lnTo>
                    <a:lnTo>
                      <a:pt x="378" y="629"/>
                    </a:lnTo>
                    <a:lnTo>
                      <a:pt x="173" y="604"/>
                    </a:lnTo>
                    <a:lnTo>
                      <a:pt x="182" y="528"/>
                    </a:lnTo>
                    <a:lnTo>
                      <a:pt x="139" y="433"/>
                    </a:lnTo>
                    <a:lnTo>
                      <a:pt x="76" y="374"/>
                    </a:lnTo>
                    <a:lnTo>
                      <a:pt x="36" y="350"/>
                    </a:lnTo>
                    <a:lnTo>
                      <a:pt x="0" y="141"/>
                    </a:lnTo>
                    <a:lnTo>
                      <a:pt x="286" y="0"/>
                    </a:lnTo>
                    <a:lnTo>
                      <a:pt x="588" y="110"/>
                    </a:lnTo>
                    <a:lnTo>
                      <a:pt x="632" y="360"/>
                    </a:lnTo>
                    <a:lnTo>
                      <a:pt x="700" y="447"/>
                    </a:lnTo>
                    <a:lnTo>
                      <a:pt x="666" y="48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208" name=""/>
              <p:cNvSpPr/>
              <p:nvPr/>
            </p:nvSpPr>
            <p:spPr>
              <a:xfrm>
                <a:off x="8154720" y="4399920"/>
                <a:ext cx="64080" cy="67320"/>
              </a:xfrm>
              <a:custGeom>
                <a:avLst/>
                <a:gdLst/>
                <a:ahLst/>
                <a:rect l="l" t="t" r="r" b="b"/>
                <a:pathLst>
                  <a:path w="775" h="641">
                    <a:moveTo>
                      <a:pt x="747" y="575"/>
                    </a:moveTo>
                    <a:lnTo>
                      <a:pt x="701" y="518"/>
                    </a:lnTo>
                    <a:lnTo>
                      <a:pt x="643" y="461"/>
                    </a:lnTo>
                    <a:lnTo>
                      <a:pt x="608" y="397"/>
                    </a:lnTo>
                    <a:lnTo>
                      <a:pt x="617" y="309"/>
                    </a:lnTo>
                    <a:lnTo>
                      <a:pt x="586" y="261"/>
                    </a:lnTo>
                    <a:lnTo>
                      <a:pt x="530" y="230"/>
                    </a:lnTo>
                    <a:lnTo>
                      <a:pt x="496" y="226"/>
                    </a:lnTo>
                    <a:lnTo>
                      <a:pt x="440" y="230"/>
                    </a:lnTo>
                    <a:lnTo>
                      <a:pt x="488" y="316"/>
                    </a:lnTo>
                    <a:lnTo>
                      <a:pt x="571" y="397"/>
                    </a:lnTo>
                    <a:lnTo>
                      <a:pt x="440" y="316"/>
                    </a:lnTo>
                    <a:lnTo>
                      <a:pt x="343" y="274"/>
                    </a:lnTo>
                    <a:lnTo>
                      <a:pt x="242" y="283"/>
                    </a:lnTo>
                    <a:lnTo>
                      <a:pt x="161" y="288"/>
                    </a:lnTo>
                    <a:lnTo>
                      <a:pt x="118" y="300"/>
                    </a:lnTo>
                    <a:lnTo>
                      <a:pt x="152" y="371"/>
                    </a:lnTo>
                    <a:lnTo>
                      <a:pt x="320" y="378"/>
                    </a:lnTo>
                    <a:lnTo>
                      <a:pt x="454" y="447"/>
                    </a:lnTo>
                    <a:lnTo>
                      <a:pt x="336" y="447"/>
                    </a:lnTo>
                    <a:lnTo>
                      <a:pt x="384" y="518"/>
                    </a:lnTo>
                    <a:lnTo>
                      <a:pt x="413" y="602"/>
                    </a:lnTo>
                    <a:lnTo>
                      <a:pt x="378" y="641"/>
                    </a:lnTo>
                    <a:lnTo>
                      <a:pt x="274" y="586"/>
                    </a:lnTo>
                    <a:lnTo>
                      <a:pt x="182" y="542"/>
                    </a:lnTo>
                    <a:lnTo>
                      <a:pt x="161" y="503"/>
                    </a:lnTo>
                    <a:lnTo>
                      <a:pt x="90" y="480"/>
                    </a:lnTo>
                    <a:lnTo>
                      <a:pt x="57" y="378"/>
                    </a:lnTo>
                    <a:lnTo>
                      <a:pt x="48" y="239"/>
                    </a:lnTo>
                    <a:lnTo>
                      <a:pt x="23" y="191"/>
                    </a:lnTo>
                    <a:lnTo>
                      <a:pt x="39" y="136"/>
                    </a:lnTo>
                    <a:lnTo>
                      <a:pt x="0" y="127"/>
                    </a:lnTo>
                    <a:lnTo>
                      <a:pt x="48" y="78"/>
                    </a:lnTo>
                    <a:lnTo>
                      <a:pt x="175" y="63"/>
                    </a:lnTo>
                    <a:lnTo>
                      <a:pt x="343" y="85"/>
                    </a:lnTo>
                    <a:lnTo>
                      <a:pt x="518" y="0"/>
                    </a:lnTo>
                    <a:lnTo>
                      <a:pt x="622" y="94"/>
                    </a:lnTo>
                    <a:lnTo>
                      <a:pt x="678" y="182"/>
                    </a:lnTo>
                    <a:lnTo>
                      <a:pt x="692" y="274"/>
                    </a:lnTo>
                    <a:lnTo>
                      <a:pt x="701" y="406"/>
                    </a:lnTo>
                    <a:lnTo>
                      <a:pt x="705" y="489"/>
                    </a:lnTo>
                    <a:lnTo>
                      <a:pt x="775" y="595"/>
                    </a:lnTo>
                    <a:lnTo>
                      <a:pt x="747" y="575"/>
                    </a:lnTo>
                    <a:close/>
                  </a:path>
                </a:pathLst>
              </a:custGeom>
              <a:solidFill>
                <a:srgbClr val="b5b5b5"/>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09" name=""/>
              <p:cNvSpPr/>
              <p:nvPr/>
            </p:nvSpPr>
            <p:spPr>
              <a:xfrm>
                <a:off x="7719840" y="4487760"/>
                <a:ext cx="357840" cy="338760"/>
              </a:xfrm>
              <a:custGeom>
                <a:avLst/>
                <a:gdLst/>
                <a:ahLst/>
                <a:rect l="l" t="t" r="r" b="b"/>
                <a:pathLst>
                  <a:path w="4318" h="3200">
                    <a:moveTo>
                      <a:pt x="4072" y="2092"/>
                    </a:moveTo>
                    <a:lnTo>
                      <a:pt x="4095" y="1897"/>
                    </a:lnTo>
                    <a:lnTo>
                      <a:pt x="4208" y="1706"/>
                    </a:lnTo>
                    <a:lnTo>
                      <a:pt x="4318" y="1345"/>
                    </a:lnTo>
                    <a:lnTo>
                      <a:pt x="4249" y="1246"/>
                    </a:lnTo>
                    <a:lnTo>
                      <a:pt x="4090" y="1246"/>
                    </a:lnTo>
                    <a:lnTo>
                      <a:pt x="3986" y="1086"/>
                    </a:lnTo>
                    <a:lnTo>
                      <a:pt x="3929" y="1035"/>
                    </a:lnTo>
                    <a:lnTo>
                      <a:pt x="3909" y="1035"/>
                    </a:lnTo>
                    <a:lnTo>
                      <a:pt x="3808" y="1057"/>
                    </a:lnTo>
                    <a:lnTo>
                      <a:pt x="3498" y="561"/>
                    </a:lnTo>
                    <a:lnTo>
                      <a:pt x="3329" y="459"/>
                    </a:lnTo>
                    <a:lnTo>
                      <a:pt x="3087" y="139"/>
                    </a:lnTo>
                    <a:lnTo>
                      <a:pt x="2935" y="99"/>
                    </a:lnTo>
                    <a:lnTo>
                      <a:pt x="2834" y="132"/>
                    </a:lnTo>
                    <a:lnTo>
                      <a:pt x="2723" y="113"/>
                    </a:lnTo>
                    <a:lnTo>
                      <a:pt x="2615" y="148"/>
                    </a:lnTo>
                    <a:lnTo>
                      <a:pt x="2327" y="180"/>
                    </a:lnTo>
                    <a:lnTo>
                      <a:pt x="2237" y="148"/>
                    </a:lnTo>
                    <a:lnTo>
                      <a:pt x="2126" y="189"/>
                    </a:lnTo>
                    <a:lnTo>
                      <a:pt x="2057" y="113"/>
                    </a:lnTo>
                    <a:lnTo>
                      <a:pt x="1973" y="31"/>
                    </a:lnTo>
                    <a:lnTo>
                      <a:pt x="1914" y="0"/>
                    </a:lnTo>
                    <a:lnTo>
                      <a:pt x="1232" y="249"/>
                    </a:lnTo>
                    <a:lnTo>
                      <a:pt x="1171" y="420"/>
                    </a:lnTo>
                    <a:lnTo>
                      <a:pt x="853" y="589"/>
                    </a:lnTo>
                    <a:lnTo>
                      <a:pt x="632" y="627"/>
                    </a:lnTo>
                    <a:lnTo>
                      <a:pt x="441" y="807"/>
                    </a:lnTo>
                    <a:lnTo>
                      <a:pt x="413" y="910"/>
                    </a:lnTo>
                    <a:lnTo>
                      <a:pt x="371" y="1015"/>
                    </a:lnTo>
                    <a:lnTo>
                      <a:pt x="259" y="1356"/>
                    </a:lnTo>
                    <a:lnTo>
                      <a:pt x="210" y="1624"/>
                    </a:lnTo>
                    <a:lnTo>
                      <a:pt x="270" y="1854"/>
                    </a:lnTo>
                    <a:lnTo>
                      <a:pt x="180" y="2075"/>
                    </a:lnTo>
                    <a:lnTo>
                      <a:pt x="90" y="2103"/>
                    </a:lnTo>
                    <a:lnTo>
                      <a:pt x="0" y="2193"/>
                    </a:lnTo>
                    <a:lnTo>
                      <a:pt x="191" y="2792"/>
                    </a:lnTo>
                    <a:lnTo>
                      <a:pt x="399" y="2861"/>
                    </a:lnTo>
                    <a:lnTo>
                      <a:pt x="761" y="2613"/>
                    </a:lnTo>
                    <a:lnTo>
                      <a:pt x="1042" y="1945"/>
                    </a:lnTo>
                    <a:lnTo>
                      <a:pt x="1211" y="2262"/>
                    </a:lnTo>
                    <a:lnTo>
                      <a:pt x="1303" y="2771"/>
                    </a:lnTo>
                    <a:lnTo>
                      <a:pt x="1232" y="2903"/>
                    </a:lnTo>
                    <a:lnTo>
                      <a:pt x="1204" y="3129"/>
                    </a:lnTo>
                    <a:lnTo>
                      <a:pt x="1261" y="3200"/>
                    </a:lnTo>
                    <a:lnTo>
                      <a:pt x="3408" y="2892"/>
                    </a:lnTo>
                    <a:lnTo>
                      <a:pt x="3355" y="1517"/>
                    </a:lnTo>
                    <a:lnTo>
                      <a:pt x="3569" y="1695"/>
                    </a:lnTo>
                    <a:lnTo>
                      <a:pt x="3707" y="1714"/>
                    </a:lnTo>
                    <a:lnTo>
                      <a:pt x="3777" y="1846"/>
                    </a:lnTo>
                    <a:lnTo>
                      <a:pt x="3938" y="1854"/>
                    </a:lnTo>
                    <a:lnTo>
                      <a:pt x="4028" y="1994"/>
                    </a:lnTo>
                    <a:lnTo>
                      <a:pt x="4072" y="20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0" name=""/>
              <p:cNvSpPr/>
              <p:nvPr/>
            </p:nvSpPr>
            <p:spPr>
              <a:xfrm>
                <a:off x="7903440" y="4786200"/>
                <a:ext cx="33120" cy="29520"/>
              </a:xfrm>
              <a:custGeom>
                <a:avLst/>
                <a:gdLst/>
                <a:ahLst/>
                <a:rect l="l" t="t" r="r" b="b"/>
                <a:pathLst>
                  <a:path w="400" h="279">
                    <a:moveTo>
                      <a:pt x="279" y="0"/>
                    </a:moveTo>
                    <a:lnTo>
                      <a:pt x="130" y="0"/>
                    </a:lnTo>
                    <a:lnTo>
                      <a:pt x="8" y="83"/>
                    </a:lnTo>
                    <a:lnTo>
                      <a:pt x="0" y="242"/>
                    </a:lnTo>
                    <a:lnTo>
                      <a:pt x="40" y="279"/>
                    </a:lnTo>
                    <a:lnTo>
                      <a:pt x="391" y="210"/>
                    </a:lnTo>
                    <a:lnTo>
                      <a:pt x="400" y="162"/>
                    </a:lnTo>
                    <a:lnTo>
                      <a:pt x="349" y="30"/>
                    </a:lnTo>
                    <a:lnTo>
                      <a:pt x="279" y="0"/>
                    </a:lnTo>
                    <a:close/>
                  </a:path>
                </a:pathLst>
              </a:custGeom>
              <a:solidFill>
                <a:srgbClr val="ffea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211" name=""/>
              <p:cNvSpPr/>
              <p:nvPr/>
            </p:nvSpPr>
            <p:spPr>
              <a:xfrm>
                <a:off x="7737840" y="4588920"/>
                <a:ext cx="18360" cy="104040"/>
              </a:xfrm>
              <a:custGeom>
                <a:avLst/>
                <a:gdLst/>
                <a:ahLst/>
                <a:rect l="l" t="t" r="r" b="b"/>
                <a:pathLst>
                  <a:path w="231" h="977">
                    <a:moveTo>
                      <a:pt x="183" y="0"/>
                    </a:moveTo>
                    <a:lnTo>
                      <a:pt x="183" y="283"/>
                    </a:lnTo>
                    <a:lnTo>
                      <a:pt x="231" y="659"/>
                    </a:lnTo>
                    <a:lnTo>
                      <a:pt x="90" y="648"/>
                    </a:lnTo>
                    <a:lnTo>
                      <a:pt x="210" y="856"/>
                    </a:lnTo>
                    <a:lnTo>
                      <a:pt x="148" y="977"/>
                    </a:lnTo>
                    <a:lnTo>
                      <a:pt x="0" y="687"/>
                    </a:lnTo>
                    <a:lnTo>
                      <a:pt x="0" y="560"/>
                    </a:lnTo>
                    <a:lnTo>
                      <a:pt x="130" y="129"/>
                    </a:lnTo>
                    <a:lnTo>
                      <a:pt x="183"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2" name=""/>
              <p:cNvSpPr/>
              <p:nvPr/>
            </p:nvSpPr>
            <p:spPr>
              <a:xfrm>
                <a:off x="7724520" y="4631040"/>
                <a:ext cx="83160" cy="158400"/>
              </a:xfrm>
              <a:custGeom>
                <a:avLst/>
                <a:gdLst/>
                <a:ahLst/>
                <a:rect l="l" t="t" r="r" b="b"/>
                <a:pathLst>
                  <a:path w="1008" h="1494">
                    <a:moveTo>
                      <a:pt x="0" y="778"/>
                    </a:moveTo>
                    <a:lnTo>
                      <a:pt x="28" y="837"/>
                    </a:lnTo>
                    <a:lnTo>
                      <a:pt x="28" y="975"/>
                    </a:lnTo>
                    <a:lnTo>
                      <a:pt x="99" y="1156"/>
                    </a:lnTo>
                    <a:lnTo>
                      <a:pt x="159" y="1048"/>
                    </a:lnTo>
                    <a:lnTo>
                      <a:pt x="281" y="1305"/>
                    </a:lnTo>
                    <a:lnTo>
                      <a:pt x="120" y="1378"/>
                    </a:lnTo>
                    <a:lnTo>
                      <a:pt x="342" y="1494"/>
                    </a:lnTo>
                    <a:lnTo>
                      <a:pt x="648" y="1385"/>
                    </a:lnTo>
                    <a:lnTo>
                      <a:pt x="839" y="1057"/>
                    </a:lnTo>
                    <a:lnTo>
                      <a:pt x="883" y="820"/>
                    </a:lnTo>
                    <a:lnTo>
                      <a:pt x="911" y="589"/>
                    </a:lnTo>
                    <a:lnTo>
                      <a:pt x="1008" y="310"/>
                    </a:lnTo>
                    <a:lnTo>
                      <a:pt x="869" y="30"/>
                    </a:lnTo>
                    <a:lnTo>
                      <a:pt x="812" y="0"/>
                    </a:lnTo>
                    <a:lnTo>
                      <a:pt x="710" y="279"/>
                    </a:lnTo>
                    <a:lnTo>
                      <a:pt x="779" y="350"/>
                    </a:lnTo>
                    <a:lnTo>
                      <a:pt x="890" y="400"/>
                    </a:lnTo>
                    <a:lnTo>
                      <a:pt x="770" y="679"/>
                    </a:lnTo>
                    <a:lnTo>
                      <a:pt x="770" y="848"/>
                    </a:lnTo>
                    <a:lnTo>
                      <a:pt x="648" y="1026"/>
                    </a:lnTo>
                    <a:lnTo>
                      <a:pt x="438" y="1057"/>
                    </a:lnTo>
                    <a:lnTo>
                      <a:pt x="307" y="589"/>
                    </a:lnTo>
                    <a:lnTo>
                      <a:pt x="69" y="736"/>
                    </a:lnTo>
                    <a:lnTo>
                      <a:pt x="0" y="77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3" name=""/>
              <p:cNvSpPr/>
              <p:nvPr/>
            </p:nvSpPr>
            <p:spPr>
              <a:xfrm>
                <a:off x="7801920" y="4537800"/>
                <a:ext cx="195120" cy="290520"/>
              </a:xfrm>
              <a:custGeom>
                <a:avLst/>
                <a:gdLst/>
                <a:ahLst/>
                <a:rect l="l" t="t" r="r" b="b"/>
                <a:pathLst>
                  <a:path w="2355" h="2742">
                    <a:moveTo>
                      <a:pt x="303" y="558"/>
                    </a:moveTo>
                    <a:lnTo>
                      <a:pt x="413" y="639"/>
                    </a:lnTo>
                    <a:lnTo>
                      <a:pt x="289" y="1119"/>
                    </a:lnTo>
                    <a:lnTo>
                      <a:pt x="289" y="1398"/>
                    </a:lnTo>
                    <a:lnTo>
                      <a:pt x="630" y="1476"/>
                    </a:lnTo>
                    <a:lnTo>
                      <a:pt x="604" y="411"/>
                    </a:lnTo>
                    <a:lnTo>
                      <a:pt x="630" y="208"/>
                    </a:lnTo>
                    <a:lnTo>
                      <a:pt x="503" y="150"/>
                    </a:lnTo>
                    <a:lnTo>
                      <a:pt x="382" y="231"/>
                    </a:lnTo>
                    <a:lnTo>
                      <a:pt x="360" y="208"/>
                    </a:lnTo>
                    <a:lnTo>
                      <a:pt x="450" y="143"/>
                    </a:lnTo>
                    <a:lnTo>
                      <a:pt x="503" y="72"/>
                    </a:lnTo>
                    <a:lnTo>
                      <a:pt x="833" y="0"/>
                    </a:lnTo>
                    <a:lnTo>
                      <a:pt x="991" y="84"/>
                    </a:lnTo>
                    <a:lnTo>
                      <a:pt x="943" y="121"/>
                    </a:lnTo>
                    <a:lnTo>
                      <a:pt x="833" y="112"/>
                    </a:lnTo>
                    <a:lnTo>
                      <a:pt x="782" y="252"/>
                    </a:lnTo>
                    <a:lnTo>
                      <a:pt x="1092" y="1558"/>
                    </a:lnTo>
                    <a:lnTo>
                      <a:pt x="1413" y="1747"/>
                    </a:lnTo>
                    <a:lnTo>
                      <a:pt x="1965" y="2035"/>
                    </a:lnTo>
                    <a:lnTo>
                      <a:pt x="1905" y="1875"/>
                    </a:lnTo>
                    <a:lnTo>
                      <a:pt x="2207" y="1993"/>
                    </a:lnTo>
                    <a:lnTo>
                      <a:pt x="2297" y="1773"/>
                    </a:lnTo>
                    <a:lnTo>
                      <a:pt x="2345" y="1785"/>
                    </a:lnTo>
                    <a:lnTo>
                      <a:pt x="2306" y="2145"/>
                    </a:lnTo>
                    <a:lnTo>
                      <a:pt x="2355" y="2343"/>
                    </a:lnTo>
                    <a:lnTo>
                      <a:pt x="2133" y="2393"/>
                    </a:lnTo>
                    <a:lnTo>
                      <a:pt x="1598" y="2356"/>
                    </a:lnTo>
                    <a:lnTo>
                      <a:pt x="1723" y="2272"/>
                    </a:lnTo>
                    <a:lnTo>
                      <a:pt x="1644" y="2126"/>
                    </a:lnTo>
                    <a:lnTo>
                      <a:pt x="1732" y="2085"/>
                    </a:lnTo>
                    <a:lnTo>
                      <a:pt x="1503" y="2015"/>
                    </a:lnTo>
                    <a:lnTo>
                      <a:pt x="1503" y="2165"/>
                    </a:lnTo>
                    <a:lnTo>
                      <a:pt x="1444" y="2334"/>
                    </a:lnTo>
                    <a:lnTo>
                      <a:pt x="1246" y="2405"/>
                    </a:lnTo>
                    <a:lnTo>
                      <a:pt x="1273" y="2384"/>
                    </a:lnTo>
                    <a:lnTo>
                      <a:pt x="1135" y="2043"/>
                    </a:lnTo>
                    <a:lnTo>
                      <a:pt x="863" y="1868"/>
                    </a:lnTo>
                    <a:lnTo>
                      <a:pt x="591" y="1826"/>
                    </a:lnTo>
                    <a:lnTo>
                      <a:pt x="663" y="1916"/>
                    </a:lnTo>
                    <a:lnTo>
                      <a:pt x="624" y="1936"/>
                    </a:lnTo>
                    <a:lnTo>
                      <a:pt x="773" y="1976"/>
                    </a:lnTo>
                    <a:lnTo>
                      <a:pt x="1054" y="2204"/>
                    </a:lnTo>
                    <a:lnTo>
                      <a:pt x="1171" y="2322"/>
                    </a:lnTo>
                    <a:lnTo>
                      <a:pt x="962" y="2315"/>
                    </a:lnTo>
                    <a:lnTo>
                      <a:pt x="734" y="2246"/>
                    </a:lnTo>
                    <a:lnTo>
                      <a:pt x="923" y="2405"/>
                    </a:lnTo>
                    <a:lnTo>
                      <a:pt x="743" y="2463"/>
                    </a:lnTo>
                    <a:lnTo>
                      <a:pt x="521" y="2601"/>
                    </a:lnTo>
                    <a:lnTo>
                      <a:pt x="851" y="2525"/>
                    </a:lnTo>
                    <a:lnTo>
                      <a:pt x="552" y="2742"/>
                    </a:lnTo>
                    <a:lnTo>
                      <a:pt x="250" y="2742"/>
                    </a:lnTo>
                    <a:lnTo>
                      <a:pt x="213" y="2652"/>
                    </a:lnTo>
                    <a:lnTo>
                      <a:pt x="303" y="2272"/>
                    </a:lnTo>
                    <a:lnTo>
                      <a:pt x="270" y="2114"/>
                    </a:lnTo>
                    <a:lnTo>
                      <a:pt x="0" y="1178"/>
                    </a:lnTo>
                    <a:lnTo>
                      <a:pt x="81" y="720"/>
                    </a:lnTo>
                    <a:lnTo>
                      <a:pt x="303" y="55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4" name=""/>
              <p:cNvSpPr/>
              <p:nvPr/>
            </p:nvSpPr>
            <p:spPr>
              <a:xfrm>
                <a:off x="7894080" y="4497480"/>
                <a:ext cx="70560" cy="65160"/>
              </a:xfrm>
              <a:custGeom>
                <a:avLst/>
                <a:gdLst/>
                <a:ahLst/>
                <a:rect l="l" t="t" r="r" b="b"/>
                <a:pathLst>
                  <a:path w="851" h="616">
                    <a:moveTo>
                      <a:pt x="0" y="385"/>
                    </a:moveTo>
                    <a:lnTo>
                      <a:pt x="77" y="207"/>
                    </a:lnTo>
                    <a:lnTo>
                      <a:pt x="77" y="348"/>
                    </a:lnTo>
                    <a:lnTo>
                      <a:pt x="299" y="97"/>
                    </a:lnTo>
                    <a:lnTo>
                      <a:pt x="378" y="616"/>
                    </a:lnTo>
                    <a:lnTo>
                      <a:pt x="417" y="227"/>
                    </a:lnTo>
                    <a:lnTo>
                      <a:pt x="618" y="69"/>
                    </a:lnTo>
                    <a:lnTo>
                      <a:pt x="740" y="97"/>
                    </a:lnTo>
                    <a:lnTo>
                      <a:pt x="851" y="7"/>
                    </a:lnTo>
                    <a:lnTo>
                      <a:pt x="721" y="40"/>
                    </a:lnTo>
                    <a:lnTo>
                      <a:pt x="653" y="40"/>
                    </a:lnTo>
                    <a:lnTo>
                      <a:pt x="618" y="0"/>
                    </a:lnTo>
                    <a:lnTo>
                      <a:pt x="521" y="69"/>
                    </a:lnTo>
                    <a:lnTo>
                      <a:pt x="389" y="47"/>
                    </a:lnTo>
                    <a:lnTo>
                      <a:pt x="279" y="40"/>
                    </a:lnTo>
                    <a:lnTo>
                      <a:pt x="118" y="77"/>
                    </a:lnTo>
                    <a:lnTo>
                      <a:pt x="21" y="189"/>
                    </a:lnTo>
                    <a:lnTo>
                      <a:pt x="0" y="385"/>
                    </a:lnTo>
                    <a:close/>
                  </a:path>
                </a:pathLst>
              </a:custGeom>
              <a:solidFill>
                <a:srgbClr val="b5b5b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15" name=""/>
              <p:cNvSpPr/>
              <p:nvPr/>
            </p:nvSpPr>
            <p:spPr>
              <a:xfrm>
                <a:off x="7971120" y="4557600"/>
                <a:ext cx="66600" cy="167760"/>
              </a:xfrm>
              <a:custGeom>
                <a:avLst/>
                <a:gdLst/>
                <a:ahLst/>
                <a:rect l="l" t="t" r="r" b="b"/>
                <a:pathLst>
                  <a:path w="811" h="1587">
                    <a:moveTo>
                      <a:pt x="481" y="171"/>
                    </a:moveTo>
                    <a:lnTo>
                      <a:pt x="481" y="429"/>
                    </a:lnTo>
                    <a:lnTo>
                      <a:pt x="380" y="600"/>
                    </a:lnTo>
                    <a:lnTo>
                      <a:pt x="239" y="429"/>
                    </a:lnTo>
                    <a:lnTo>
                      <a:pt x="128" y="259"/>
                    </a:lnTo>
                    <a:lnTo>
                      <a:pt x="239" y="860"/>
                    </a:lnTo>
                    <a:lnTo>
                      <a:pt x="207" y="1257"/>
                    </a:lnTo>
                    <a:lnTo>
                      <a:pt x="0" y="1556"/>
                    </a:lnTo>
                    <a:lnTo>
                      <a:pt x="170" y="1587"/>
                    </a:lnTo>
                    <a:lnTo>
                      <a:pt x="361" y="1483"/>
                    </a:lnTo>
                    <a:lnTo>
                      <a:pt x="318" y="840"/>
                    </a:lnTo>
                    <a:lnTo>
                      <a:pt x="509" y="1049"/>
                    </a:lnTo>
                    <a:lnTo>
                      <a:pt x="640" y="1049"/>
                    </a:lnTo>
                    <a:lnTo>
                      <a:pt x="541" y="939"/>
                    </a:lnTo>
                    <a:lnTo>
                      <a:pt x="521" y="770"/>
                    </a:lnTo>
                    <a:lnTo>
                      <a:pt x="582" y="600"/>
                    </a:lnTo>
                    <a:lnTo>
                      <a:pt x="659" y="489"/>
                    </a:lnTo>
                    <a:lnTo>
                      <a:pt x="721" y="392"/>
                    </a:lnTo>
                    <a:lnTo>
                      <a:pt x="762" y="528"/>
                    </a:lnTo>
                    <a:lnTo>
                      <a:pt x="811" y="400"/>
                    </a:lnTo>
                    <a:lnTo>
                      <a:pt x="780" y="293"/>
                    </a:lnTo>
                    <a:lnTo>
                      <a:pt x="721" y="150"/>
                    </a:lnTo>
                    <a:lnTo>
                      <a:pt x="548" y="0"/>
                    </a:lnTo>
                    <a:lnTo>
                      <a:pt x="481" y="171"/>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6" name=""/>
              <p:cNvSpPr/>
              <p:nvPr/>
            </p:nvSpPr>
            <p:spPr>
              <a:xfrm>
                <a:off x="8032680" y="4615200"/>
                <a:ext cx="45360" cy="64080"/>
              </a:xfrm>
              <a:custGeom>
                <a:avLst/>
                <a:gdLst/>
                <a:ahLst/>
                <a:rect l="l" t="t" r="r" b="b"/>
                <a:pathLst>
                  <a:path w="552" h="609">
                    <a:moveTo>
                      <a:pt x="152" y="0"/>
                    </a:moveTo>
                    <a:lnTo>
                      <a:pt x="31" y="152"/>
                    </a:lnTo>
                    <a:lnTo>
                      <a:pt x="132" y="293"/>
                    </a:lnTo>
                    <a:lnTo>
                      <a:pt x="373" y="133"/>
                    </a:lnTo>
                    <a:lnTo>
                      <a:pt x="453" y="293"/>
                    </a:lnTo>
                    <a:lnTo>
                      <a:pt x="0" y="609"/>
                    </a:lnTo>
                    <a:lnTo>
                      <a:pt x="420" y="541"/>
                    </a:lnTo>
                    <a:lnTo>
                      <a:pt x="552" y="133"/>
                    </a:lnTo>
                    <a:lnTo>
                      <a:pt x="453" y="42"/>
                    </a:lnTo>
                    <a:lnTo>
                      <a:pt x="299" y="62"/>
                    </a:lnTo>
                    <a:lnTo>
                      <a:pt x="193" y="23"/>
                    </a:lnTo>
                    <a:lnTo>
                      <a:pt x="152" y="0"/>
                    </a:lnTo>
                    <a:close/>
                  </a:path>
                </a:pathLst>
              </a:custGeom>
              <a:solidFill>
                <a:srgbClr val="b5b5b5"/>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217" name=""/>
              <p:cNvSpPr/>
              <p:nvPr/>
            </p:nvSpPr>
            <p:spPr>
              <a:xfrm>
                <a:off x="7853760" y="4532760"/>
                <a:ext cx="68040" cy="259920"/>
              </a:xfrm>
              <a:custGeom>
                <a:avLst/>
                <a:gdLst/>
                <a:ahLst/>
                <a:rect l="l" t="t" r="r" b="b"/>
                <a:pathLst>
                  <a:path w="820" h="2453">
                    <a:moveTo>
                      <a:pt x="186" y="21"/>
                    </a:moveTo>
                    <a:lnTo>
                      <a:pt x="178" y="110"/>
                    </a:lnTo>
                    <a:lnTo>
                      <a:pt x="136" y="198"/>
                    </a:lnTo>
                    <a:lnTo>
                      <a:pt x="119" y="228"/>
                    </a:lnTo>
                    <a:lnTo>
                      <a:pt x="186" y="309"/>
                    </a:lnTo>
                    <a:lnTo>
                      <a:pt x="288" y="487"/>
                    </a:lnTo>
                    <a:lnTo>
                      <a:pt x="400" y="817"/>
                    </a:lnTo>
                    <a:lnTo>
                      <a:pt x="520" y="1245"/>
                    </a:lnTo>
                    <a:lnTo>
                      <a:pt x="693" y="1806"/>
                    </a:lnTo>
                    <a:lnTo>
                      <a:pt x="820" y="2125"/>
                    </a:lnTo>
                    <a:lnTo>
                      <a:pt x="672" y="2453"/>
                    </a:lnTo>
                    <a:lnTo>
                      <a:pt x="347" y="2204"/>
                    </a:lnTo>
                    <a:lnTo>
                      <a:pt x="68" y="708"/>
                    </a:lnTo>
                    <a:lnTo>
                      <a:pt x="46" y="440"/>
                    </a:lnTo>
                    <a:lnTo>
                      <a:pt x="68" y="270"/>
                    </a:lnTo>
                    <a:lnTo>
                      <a:pt x="68" y="228"/>
                    </a:lnTo>
                    <a:lnTo>
                      <a:pt x="0" y="141"/>
                    </a:lnTo>
                    <a:lnTo>
                      <a:pt x="6" y="0"/>
                    </a:lnTo>
                    <a:lnTo>
                      <a:pt x="149" y="11"/>
                    </a:lnTo>
                    <a:lnTo>
                      <a:pt x="186"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8" name=""/>
              <p:cNvSpPr/>
              <p:nvPr/>
            </p:nvSpPr>
            <p:spPr>
              <a:xfrm>
                <a:off x="7850520" y="4532760"/>
                <a:ext cx="71640" cy="262440"/>
              </a:xfrm>
              <a:custGeom>
                <a:avLst/>
                <a:gdLst/>
                <a:ahLst/>
                <a:rect l="l" t="t" r="r" b="b"/>
                <a:pathLst>
                  <a:path w="862" h="2474">
                    <a:moveTo>
                      <a:pt x="152" y="11"/>
                    </a:moveTo>
                    <a:lnTo>
                      <a:pt x="129" y="251"/>
                    </a:lnTo>
                    <a:lnTo>
                      <a:pt x="178" y="670"/>
                    </a:lnTo>
                    <a:lnTo>
                      <a:pt x="281" y="1141"/>
                    </a:lnTo>
                    <a:lnTo>
                      <a:pt x="461" y="1863"/>
                    </a:lnTo>
                    <a:lnTo>
                      <a:pt x="499" y="2174"/>
                    </a:lnTo>
                    <a:lnTo>
                      <a:pt x="691" y="2370"/>
                    </a:lnTo>
                    <a:lnTo>
                      <a:pt x="811" y="2112"/>
                    </a:lnTo>
                    <a:lnTo>
                      <a:pt x="629" y="1694"/>
                    </a:lnTo>
                    <a:lnTo>
                      <a:pt x="519" y="1257"/>
                    </a:lnTo>
                    <a:lnTo>
                      <a:pt x="422" y="876"/>
                    </a:lnTo>
                    <a:lnTo>
                      <a:pt x="288" y="468"/>
                    </a:lnTo>
                    <a:lnTo>
                      <a:pt x="211" y="309"/>
                    </a:lnTo>
                    <a:lnTo>
                      <a:pt x="170" y="228"/>
                    </a:lnTo>
                    <a:lnTo>
                      <a:pt x="288" y="389"/>
                    </a:lnTo>
                    <a:lnTo>
                      <a:pt x="409" y="738"/>
                    </a:lnTo>
                    <a:lnTo>
                      <a:pt x="562" y="1195"/>
                    </a:lnTo>
                    <a:lnTo>
                      <a:pt x="714" y="1705"/>
                    </a:lnTo>
                    <a:lnTo>
                      <a:pt x="783" y="1936"/>
                    </a:lnTo>
                    <a:lnTo>
                      <a:pt x="862" y="2112"/>
                    </a:lnTo>
                    <a:lnTo>
                      <a:pt x="721" y="2474"/>
                    </a:lnTo>
                    <a:lnTo>
                      <a:pt x="380" y="2193"/>
                    </a:lnTo>
                    <a:lnTo>
                      <a:pt x="251" y="1505"/>
                    </a:lnTo>
                    <a:lnTo>
                      <a:pt x="119" y="717"/>
                    </a:lnTo>
                    <a:lnTo>
                      <a:pt x="110" y="440"/>
                    </a:lnTo>
                    <a:lnTo>
                      <a:pt x="88" y="228"/>
                    </a:lnTo>
                    <a:lnTo>
                      <a:pt x="0" y="110"/>
                    </a:lnTo>
                    <a:lnTo>
                      <a:pt x="60" y="0"/>
                    </a:lnTo>
                    <a:lnTo>
                      <a:pt x="152" y="11"/>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9" name=""/>
              <p:cNvSpPr/>
              <p:nvPr/>
            </p:nvSpPr>
            <p:spPr>
              <a:xfrm>
                <a:off x="7785360" y="4524480"/>
                <a:ext cx="47520" cy="108360"/>
              </a:xfrm>
              <a:custGeom>
                <a:avLst/>
                <a:gdLst/>
                <a:ahLst/>
                <a:rect l="l" t="t" r="r" b="b"/>
                <a:pathLst>
                  <a:path w="578" h="1028">
                    <a:moveTo>
                      <a:pt x="42" y="938"/>
                    </a:moveTo>
                    <a:lnTo>
                      <a:pt x="37" y="775"/>
                    </a:lnTo>
                    <a:lnTo>
                      <a:pt x="0" y="360"/>
                    </a:lnTo>
                    <a:lnTo>
                      <a:pt x="37" y="276"/>
                    </a:lnTo>
                    <a:lnTo>
                      <a:pt x="293" y="0"/>
                    </a:lnTo>
                    <a:lnTo>
                      <a:pt x="523" y="48"/>
                    </a:lnTo>
                    <a:lnTo>
                      <a:pt x="578" y="184"/>
                    </a:lnTo>
                    <a:lnTo>
                      <a:pt x="528" y="247"/>
                    </a:lnTo>
                    <a:lnTo>
                      <a:pt x="563" y="465"/>
                    </a:lnTo>
                    <a:lnTo>
                      <a:pt x="486" y="487"/>
                    </a:lnTo>
                    <a:lnTo>
                      <a:pt x="464" y="705"/>
                    </a:lnTo>
                    <a:lnTo>
                      <a:pt x="406" y="805"/>
                    </a:lnTo>
                    <a:lnTo>
                      <a:pt x="358" y="874"/>
                    </a:lnTo>
                    <a:lnTo>
                      <a:pt x="305" y="938"/>
                    </a:lnTo>
                    <a:lnTo>
                      <a:pt x="263" y="1028"/>
                    </a:lnTo>
                    <a:lnTo>
                      <a:pt x="92" y="1001"/>
                    </a:lnTo>
                    <a:lnTo>
                      <a:pt x="42" y="938"/>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0" name=""/>
              <p:cNvSpPr/>
              <p:nvPr/>
            </p:nvSpPr>
            <p:spPr>
              <a:xfrm>
                <a:off x="7789320" y="4355640"/>
                <a:ext cx="107280" cy="172800"/>
              </a:xfrm>
              <a:custGeom>
                <a:avLst/>
                <a:gdLst/>
                <a:ahLst/>
                <a:rect l="l" t="t" r="r" b="b"/>
                <a:pathLst>
                  <a:path w="1289" h="1630">
                    <a:moveTo>
                      <a:pt x="37" y="717"/>
                    </a:moveTo>
                    <a:lnTo>
                      <a:pt x="0" y="784"/>
                    </a:lnTo>
                    <a:lnTo>
                      <a:pt x="0" y="915"/>
                    </a:lnTo>
                    <a:lnTo>
                      <a:pt x="85" y="1036"/>
                    </a:lnTo>
                    <a:lnTo>
                      <a:pt x="200" y="1120"/>
                    </a:lnTo>
                    <a:lnTo>
                      <a:pt x="235" y="1120"/>
                    </a:lnTo>
                    <a:lnTo>
                      <a:pt x="298" y="1263"/>
                    </a:lnTo>
                    <a:lnTo>
                      <a:pt x="348" y="1395"/>
                    </a:lnTo>
                    <a:lnTo>
                      <a:pt x="447" y="1508"/>
                    </a:lnTo>
                    <a:lnTo>
                      <a:pt x="555" y="1572"/>
                    </a:lnTo>
                    <a:lnTo>
                      <a:pt x="705" y="1621"/>
                    </a:lnTo>
                    <a:lnTo>
                      <a:pt x="855" y="1630"/>
                    </a:lnTo>
                    <a:lnTo>
                      <a:pt x="947" y="1579"/>
                    </a:lnTo>
                    <a:lnTo>
                      <a:pt x="1019" y="1494"/>
                    </a:lnTo>
                    <a:lnTo>
                      <a:pt x="1090" y="1374"/>
                    </a:lnTo>
                    <a:lnTo>
                      <a:pt x="1118" y="1263"/>
                    </a:lnTo>
                    <a:lnTo>
                      <a:pt x="1140" y="1056"/>
                    </a:lnTo>
                    <a:lnTo>
                      <a:pt x="1203" y="1001"/>
                    </a:lnTo>
                    <a:lnTo>
                      <a:pt x="1284" y="889"/>
                    </a:lnTo>
                    <a:lnTo>
                      <a:pt x="1289" y="768"/>
                    </a:lnTo>
                    <a:lnTo>
                      <a:pt x="1274" y="662"/>
                    </a:lnTo>
                    <a:lnTo>
                      <a:pt x="1261" y="627"/>
                    </a:lnTo>
                    <a:lnTo>
                      <a:pt x="1203" y="595"/>
                    </a:lnTo>
                    <a:lnTo>
                      <a:pt x="1118" y="325"/>
                    </a:lnTo>
                    <a:lnTo>
                      <a:pt x="1012" y="94"/>
                    </a:lnTo>
                    <a:lnTo>
                      <a:pt x="692" y="0"/>
                    </a:lnTo>
                    <a:lnTo>
                      <a:pt x="270" y="85"/>
                    </a:lnTo>
                    <a:lnTo>
                      <a:pt x="85" y="247"/>
                    </a:lnTo>
                    <a:lnTo>
                      <a:pt x="41" y="429"/>
                    </a:lnTo>
                    <a:lnTo>
                      <a:pt x="41" y="657"/>
                    </a:lnTo>
                    <a:lnTo>
                      <a:pt x="37" y="717"/>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1" name=""/>
              <p:cNvSpPr/>
              <p:nvPr/>
            </p:nvSpPr>
            <p:spPr>
              <a:xfrm>
                <a:off x="7814520" y="4458240"/>
                <a:ext cx="18360" cy="13320"/>
              </a:xfrm>
              <a:custGeom>
                <a:avLst/>
                <a:gdLst/>
                <a:ahLst/>
                <a:rect l="l" t="t" r="r" b="b"/>
                <a:pathLst>
                  <a:path w="223" h="120">
                    <a:moveTo>
                      <a:pt x="223" y="6"/>
                    </a:moveTo>
                    <a:lnTo>
                      <a:pt x="223" y="41"/>
                    </a:lnTo>
                    <a:lnTo>
                      <a:pt x="140" y="108"/>
                    </a:lnTo>
                    <a:lnTo>
                      <a:pt x="57" y="120"/>
                    </a:lnTo>
                    <a:lnTo>
                      <a:pt x="0" y="78"/>
                    </a:lnTo>
                    <a:lnTo>
                      <a:pt x="16" y="0"/>
                    </a:lnTo>
                    <a:lnTo>
                      <a:pt x="92" y="28"/>
                    </a:lnTo>
                    <a:lnTo>
                      <a:pt x="140" y="35"/>
                    </a:lnTo>
                    <a:lnTo>
                      <a:pt x="223" y="6"/>
                    </a:lnTo>
                    <a:close/>
                  </a:path>
                </a:pathLst>
              </a:custGeom>
              <a:solidFill>
                <a:srgbClr val="ffc98e"/>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22" name=""/>
              <p:cNvSpPr/>
              <p:nvPr/>
            </p:nvSpPr>
            <p:spPr>
              <a:xfrm>
                <a:off x="7857720" y="4447440"/>
                <a:ext cx="19800" cy="15120"/>
              </a:xfrm>
              <a:custGeom>
                <a:avLst/>
                <a:gdLst/>
                <a:ahLst/>
                <a:rect l="l" t="t" r="r" b="b"/>
                <a:pathLst>
                  <a:path w="245" h="141">
                    <a:moveTo>
                      <a:pt x="0" y="85"/>
                    </a:moveTo>
                    <a:lnTo>
                      <a:pt x="18" y="112"/>
                    </a:lnTo>
                    <a:lnTo>
                      <a:pt x="117" y="141"/>
                    </a:lnTo>
                    <a:lnTo>
                      <a:pt x="212" y="134"/>
                    </a:lnTo>
                    <a:lnTo>
                      <a:pt x="245" y="79"/>
                    </a:lnTo>
                    <a:lnTo>
                      <a:pt x="238" y="0"/>
                    </a:lnTo>
                    <a:lnTo>
                      <a:pt x="179" y="42"/>
                    </a:lnTo>
                    <a:lnTo>
                      <a:pt x="139" y="79"/>
                    </a:lnTo>
                    <a:lnTo>
                      <a:pt x="83" y="90"/>
                    </a:lnTo>
                    <a:lnTo>
                      <a:pt x="0" y="85"/>
                    </a:lnTo>
                    <a:close/>
                  </a:path>
                </a:pathLst>
              </a:custGeom>
              <a:solidFill>
                <a:srgbClr val="ffc98e"/>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223" name=""/>
              <p:cNvSpPr/>
              <p:nvPr/>
            </p:nvSpPr>
            <p:spPr>
              <a:xfrm>
                <a:off x="7842960" y="4452480"/>
                <a:ext cx="10440" cy="25200"/>
              </a:xfrm>
              <a:custGeom>
                <a:avLst/>
                <a:gdLst/>
                <a:ahLst/>
                <a:rect l="l" t="t" r="r" b="b"/>
                <a:pathLst>
                  <a:path w="120" h="235">
                    <a:moveTo>
                      <a:pt x="57" y="37"/>
                    </a:moveTo>
                    <a:lnTo>
                      <a:pt x="37" y="0"/>
                    </a:lnTo>
                    <a:lnTo>
                      <a:pt x="13" y="16"/>
                    </a:lnTo>
                    <a:lnTo>
                      <a:pt x="22" y="141"/>
                    </a:lnTo>
                    <a:lnTo>
                      <a:pt x="0" y="169"/>
                    </a:lnTo>
                    <a:lnTo>
                      <a:pt x="13" y="220"/>
                    </a:lnTo>
                    <a:lnTo>
                      <a:pt x="64" y="235"/>
                    </a:lnTo>
                    <a:lnTo>
                      <a:pt x="108" y="220"/>
                    </a:lnTo>
                    <a:lnTo>
                      <a:pt x="120" y="178"/>
                    </a:lnTo>
                    <a:lnTo>
                      <a:pt x="112" y="148"/>
                    </a:lnTo>
                    <a:lnTo>
                      <a:pt x="78" y="121"/>
                    </a:lnTo>
                    <a:lnTo>
                      <a:pt x="57" y="37"/>
                    </a:lnTo>
                    <a:close/>
                  </a:path>
                </a:pathLst>
              </a:custGeom>
              <a:solidFill>
                <a:srgbClr val="ffc98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24" name=""/>
              <p:cNvSpPr/>
              <p:nvPr/>
            </p:nvSpPr>
            <p:spPr>
              <a:xfrm>
                <a:off x="7835040" y="4467600"/>
                <a:ext cx="3960" cy="3960"/>
              </a:xfrm>
              <a:custGeom>
                <a:avLst/>
                <a:gdLst/>
                <a:ahLst/>
                <a:rect l="l" t="t" r="r" b="b"/>
                <a:pathLst>
                  <a:path w="51" h="42">
                    <a:moveTo>
                      <a:pt x="25" y="0"/>
                    </a:moveTo>
                    <a:lnTo>
                      <a:pt x="0" y="25"/>
                    </a:lnTo>
                    <a:lnTo>
                      <a:pt x="25" y="42"/>
                    </a:lnTo>
                    <a:lnTo>
                      <a:pt x="51" y="7"/>
                    </a:lnTo>
                    <a:lnTo>
                      <a:pt x="25" y="0"/>
                    </a:lnTo>
                    <a:close/>
                  </a:path>
                </a:pathLst>
              </a:custGeom>
              <a:solidFill>
                <a:srgbClr val="ffc98e"/>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225" name=""/>
              <p:cNvSpPr/>
              <p:nvPr/>
            </p:nvSpPr>
            <p:spPr>
              <a:xfrm>
                <a:off x="7854840" y="4465080"/>
                <a:ext cx="3960" cy="3960"/>
              </a:xfrm>
              <a:custGeom>
                <a:avLst/>
                <a:gdLst/>
                <a:ahLst/>
                <a:rect l="l" t="t" r="r" b="b"/>
                <a:pathLst>
                  <a:path w="48" h="36">
                    <a:moveTo>
                      <a:pt x="0" y="6"/>
                    </a:moveTo>
                    <a:lnTo>
                      <a:pt x="21" y="36"/>
                    </a:lnTo>
                    <a:lnTo>
                      <a:pt x="48" y="6"/>
                    </a:lnTo>
                    <a:lnTo>
                      <a:pt x="25" y="0"/>
                    </a:lnTo>
                    <a:lnTo>
                      <a:pt x="0" y="6"/>
                    </a:lnTo>
                    <a:close/>
                  </a:path>
                </a:pathLst>
              </a:custGeom>
              <a:solidFill>
                <a:srgbClr val="ffc98e"/>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226" name=""/>
              <p:cNvSpPr/>
              <p:nvPr/>
            </p:nvSpPr>
            <p:spPr>
              <a:xfrm>
                <a:off x="7837920" y="4493160"/>
                <a:ext cx="27720" cy="7200"/>
              </a:xfrm>
              <a:custGeom>
                <a:avLst/>
                <a:gdLst/>
                <a:ahLst/>
                <a:rect l="l" t="t" r="r" b="b"/>
                <a:pathLst>
                  <a:path w="343" h="70">
                    <a:moveTo>
                      <a:pt x="0" y="44"/>
                    </a:moveTo>
                    <a:lnTo>
                      <a:pt x="128" y="70"/>
                    </a:lnTo>
                    <a:lnTo>
                      <a:pt x="235" y="55"/>
                    </a:lnTo>
                    <a:lnTo>
                      <a:pt x="322" y="21"/>
                    </a:lnTo>
                    <a:lnTo>
                      <a:pt x="343" y="7"/>
                    </a:lnTo>
                    <a:lnTo>
                      <a:pt x="297" y="0"/>
                    </a:lnTo>
                    <a:lnTo>
                      <a:pt x="214" y="21"/>
                    </a:lnTo>
                    <a:lnTo>
                      <a:pt x="135" y="26"/>
                    </a:lnTo>
                    <a:lnTo>
                      <a:pt x="20" y="21"/>
                    </a:lnTo>
                    <a:lnTo>
                      <a:pt x="0" y="44"/>
                    </a:lnTo>
                    <a:close/>
                  </a:path>
                </a:pathLst>
              </a:custGeom>
              <a:solidFill>
                <a:srgbClr val="ffc98e"/>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227" name=""/>
              <p:cNvSpPr/>
              <p:nvPr/>
            </p:nvSpPr>
            <p:spPr>
              <a:xfrm>
                <a:off x="7801920" y="4388760"/>
                <a:ext cx="29520" cy="44640"/>
              </a:xfrm>
              <a:custGeom>
                <a:avLst/>
                <a:gdLst/>
                <a:ahLst/>
                <a:rect l="l" t="t" r="r" b="b"/>
                <a:pathLst>
                  <a:path w="363" h="429">
                    <a:moveTo>
                      <a:pt x="226" y="35"/>
                    </a:moveTo>
                    <a:lnTo>
                      <a:pt x="158" y="99"/>
                    </a:lnTo>
                    <a:lnTo>
                      <a:pt x="127" y="182"/>
                    </a:lnTo>
                    <a:lnTo>
                      <a:pt x="127" y="266"/>
                    </a:lnTo>
                    <a:lnTo>
                      <a:pt x="149" y="337"/>
                    </a:lnTo>
                    <a:lnTo>
                      <a:pt x="363" y="394"/>
                    </a:lnTo>
                    <a:lnTo>
                      <a:pt x="185" y="389"/>
                    </a:lnTo>
                    <a:lnTo>
                      <a:pt x="63" y="429"/>
                    </a:lnTo>
                    <a:lnTo>
                      <a:pt x="79" y="380"/>
                    </a:lnTo>
                    <a:lnTo>
                      <a:pt x="33" y="323"/>
                    </a:lnTo>
                    <a:lnTo>
                      <a:pt x="6" y="231"/>
                    </a:lnTo>
                    <a:lnTo>
                      <a:pt x="0" y="134"/>
                    </a:lnTo>
                    <a:lnTo>
                      <a:pt x="19" y="62"/>
                    </a:lnTo>
                    <a:lnTo>
                      <a:pt x="68" y="14"/>
                    </a:lnTo>
                    <a:lnTo>
                      <a:pt x="136" y="0"/>
                    </a:lnTo>
                    <a:lnTo>
                      <a:pt x="192" y="7"/>
                    </a:lnTo>
                    <a:lnTo>
                      <a:pt x="226" y="35"/>
                    </a:lnTo>
                    <a:close/>
                  </a:path>
                </a:pathLst>
              </a:custGeom>
              <a:solidFill>
                <a:srgbClr val="ffc98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28" name=""/>
              <p:cNvSpPr/>
              <p:nvPr/>
            </p:nvSpPr>
            <p:spPr>
              <a:xfrm>
                <a:off x="7847640" y="4411800"/>
                <a:ext cx="25560" cy="15840"/>
              </a:xfrm>
              <a:custGeom>
                <a:avLst/>
                <a:gdLst/>
                <a:ahLst/>
                <a:rect l="l" t="t" r="r" b="b"/>
                <a:pathLst>
                  <a:path w="314" h="154">
                    <a:moveTo>
                      <a:pt x="70" y="115"/>
                    </a:moveTo>
                    <a:lnTo>
                      <a:pt x="226" y="34"/>
                    </a:lnTo>
                    <a:lnTo>
                      <a:pt x="314" y="30"/>
                    </a:lnTo>
                    <a:lnTo>
                      <a:pt x="249" y="0"/>
                    </a:lnTo>
                    <a:lnTo>
                      <a:pt x="176" y="30"/>
                    </a:lnTo>
                    <a:lnTo>
                      <a:pt x="0" y="154"/>
                    </a:lnTo>
                    <a:lnTo>
                      <a:pt x="70" y="115"/>
                    </a:lnTo>
                    <a:close/>
                  </a:path>
                </a:pathLst>
              </a:custGeom>
              <a:solidFill>
                <a:srgbClr val="ffc98e"/>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29" name=""/>
              <p:cNvSpPr/>
              <p:nvPr/>
            </p:nvSpPr>
            <p:spPr>
              <a:xfrm>
                <a:off x="7792920" y="4438800"/>
                <a:ext cx="8280" cy="6840"/>
              </a:xfrm>
              <a:custGeom>
                <a:avLst/>
                <a:gdLst/>
                <a:ahLst/>
                <a:rect l="l" t="t" r="r" b="b"/>
                <a:pathLst>
                  <a:path w="105" h="60">
                    <a:moveTo>
                      <a:pt x="0" y="44"/>
                    </a:moveTo>
                    <a:lnTo>
                      <a:pt x="96" y="60"/>
                    </a:lnTo>
                    <a:lnTo>
                      <a:pt x="105" y="31"/>
                    </a:lnTo>
                    <a:lnTo>
                      <a:pt x="48" y="0"/>
                    </a:lnTo>
                    <a:lnTo>
                      <a:pt x="0" y="0"/>
                    </a:lnTo>
                    <a:lnTo>
                      <a:pt x="0" y="44"/>
                    </a:lnTo>
                    <a:close/>
                  </a:path>
                </a:pathLst>
              </a:custGeom>
              <a:solidFill>
                <a:srgbClr val="ffc98e"/>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30" name=""/>
              <p:cNvSpPr/>
              <p:nvPr/>
            </p:nvSpPr>
            <p:spPr>
              <a:xfrm>
                <a:off x="7882920" y="4423680"/>
                <a:ext cx="8280" cy="11880"/>
              </a:xfrm>
              <a:custGeom>
                <a:avLst/>
                <a:gdLst/>
                <a:ahLst/>
                <a:rect l="l" t="t" r="r" b="b"/>
                <a:pathLst>
                  <a:path w="99" h="111">
                    <a:moveTo>
                      <a:pt x="0" y="111"/>
                    </a:moveTo>
                    <a:lnTo>
                      <a:pt x="19" y="111"/>
                    </a:lnTo>
                    <a:lnTo>
                      <a:pt x="99" y="35"/>
                    </a:lnTo>
                    <a:lnTo>
                      <a:pt x="90" y="0"/>
                    </a:lnTo>
                    <a:lnTo>
                      <a:pt x="55" y="0"/>
                    </a:lnTo>
                    <a:lnTo>
                      <a:pt x="7" y="39"/>
                    </a:lnTo>
                    <a:lnTo>
                      <a:pt x="0" y="111"/>
                    </a:lnTo>
                    <a:close/>
                  </a:path>
                </a:pathLst>
              </a:custGeom>
              <a:solidFill>
                <a:srgbClr val="ffc98e"/>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231" name=""/>
              <p:cNvSpPr/>
              <p:nvPr/>
            </p:nvSpPr>
            <p:spPr>
              <a:xfrm>
                <a:off x="7846560" y="4511880"/>
                <a:ext cx="12600" cy="8280"/>
              </a:xfrm>
              <a:custGeom>
                <a:avLst/>
                <a:gdLst/>
                <a:ahLst/>
                <a:rect l="l" t="t" r="r" b="b"/>
                <a:pathLst>
                  <a:path w="154" h="84">
                    <a:moveTo>
                      <a:pt x="27" y="7"/>
                    </a:moveTo>
                    <a:lnTo>
                      <a:pt x="0" y="49"/>
                    </a:lnTo>
                    <a:lnTo>
                      <a:pt x="32" y="84"/>
                    </a:lnTo>
                    <a:lnTo>
                      <a:pt x="140" y="69"/>
                    </a:lnTo>
                    <a:lnTo>
                      <a:pt x="154" y="27"/>
                    </a:lnTo>
                    <a:lnTo>
                      <a:pt x="127" y="0"/>
                    </a:lnTo>
                    <a:lnTo>
                      <a:pt x="27" y="7"/>
                    </a:lnTo>
                    <a:close/>
                  </a:path>
                </a:pathLst>
              </a:custGeom>
              <a:solidFill>
                <a:srgbClr val="ffc98e"/>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232" name=""/>
              <p:cNvSpPr/>
              <p:nvPr/>
            </p:nvSpPr>
            <p:spPr>
              <a:xfrm>
                <a:off x="7791480" y="4574520"/>
                <a:ext cx="14400" cy="35280"/>
              </a:xfrm>
              <a:custGeom>
                <a:avLst/>
                <a:gdLst/>
                <a:ahLst/>
                <a:rect l="l" t="t" r="r" b="b"/>
                <a:pathLst>
                  <a:path w="172" h="336">
                    <a:moveTo>
                      <a:pt x="7" y="42"/>
                    </a:moveTo>
                    <a:lnTo>
                      <a:pt x="51" y="211"/>
                    </a:lnTo>
                    <a:lnTo>
                      <a:pt x="73" y="336"/>
                    </a:lnTo>
                    <a:lnTo>
                      <a:pt x="156" y="336"/>
                    </a:lnTo>
                    <a:lnTo>
                      <a:pt x="172" y="279"/>
                    </a:lnTo>
                    <a:lnTo>
                      <a:pt x="99" y="231"/>
                    </a:lnTo>
                    <a:lnTo>
                      <a:pt x="73" y="147"/>
                    </a:lnTo>
                    <a:lnTo>
                      <a:pt x="78" y="75"/>
                    </a:lnTo>
                    <a:lnTo>
                      <a:pt x="0" y="0"/>
                    </a:lnTo>
                    <a:lnTo>
                      <a:pt x="7" y="42"/>
                    </a:lnTo>
                    <a:close/>
                  </a:path>
                </a:pathLst>
              </a:custGeom>
              <a:solidFill>
                <a:srgbClr val="ffc98e"/>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233" name=""/>
              <p:cNvSpPr/>
              <p:nvPr/>
            </p:nvSpPr>
            <p:spPr>
              <a:xfrm>
                <a:off x="7791840" y="4550760"/>
                <a:ext cx="21600" cy="12600"/>
              </a:xfrm>
              <a:custGeom>
                <a:avLst/>
                <a:gdLst/>
                <a:ahLst/>
                <a:rect l="l" t="t" r="r" b="b"/>
                <a:pathLst>
                  <a:path w="264" h="122">
                    <a:moveTo>
                      <a:pt x="0" y="106"/>
                    </a:moveTo>
                    <a:lnTo>
                      <a:pt x="13" y="122"/>
                    </a:lnTo>
                    <a:lnTo>
                      <a:pt x="57" y="78"/>
                    </a:lnTo>
                    <a:lnTo>
                      <a:pt x="114" y="97"/>
                    </a:lnTo>
                    <a:lnTo>
                      <a:pt x="140" y="53"/>
                    </a:lnTo>
                    <a:lnTo>
                      <a:pt x="264" y="106"/>
                    </a:lnTo>
                    <a:lnTo>
                      <a:pt x="127" y="0"/>
                    </a:lnTo>
                    <a:lnTo>
                      <a:pt x="101" y="14"/>
                    </a:lnTo>
                    <a:lnTo>
                      <a:pt x="32" y="64"/>
                    </a:lnTo>
                    <a:lnTo>
                      <a:pt x="0" y="106"/>
                    </a:lnTo>
                    <a:close/>
                  </a:path>
                </a:pathLst>
              </a:custGeom>
              <a:solidFill>
                <a:srgbClr val="ffc98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4" name=""/>
              <p:cNvSpPr/>
              <p:nvPr/>
            </p:nvSpPr>
            <p:spPr>
              <a:xfrm>
                <a:off x="7809480" y="4592160"/>
                <a:ext cx="8280" cy="15840"/>
              </a:xfrm>
              <a:custGeom>
                <a:avLst/>
                <a:gdLst/>
                <a:ahLst/>
                <a:rect l="l" t="t" r="r" b="b"/>
                <a:pathLst>
                  <a:path w="106" h="147">
                    <a:moveTo>
                      <a:pt x="0" y="44"/>
                    </a:moveTo>
                    <a:lnTo>
                      <a:pt x="41" y="85"/>
                    </a:lnTo>
                    <a:lnTo>
                      <a:pt x="63" y="147"/>
                    </a:lnTo>
                    <a:lnTo>
                      <a:pt x="106" y="92"/>
                    </a:lnTo>
                    <a:lnTo>
                      <a:pt x="99" y="35"/>
                    </a:lnTo>
                    <a:lnTo>
                      <a:pt x="63" y="9"/>
                    </a:lnTo>
                    <a:lnTo>
                      <a:pt x="7" y="0"/>
                    </a:lnTo>
                    <a:lnTo>
                      <a:pt x="0" y="44"/>
                    </a:lnTo>
                    <a:close/>
                  </a:path>
                </a:pathLst>
              </a:custGeom>
              <a:solidFill>
                <a:srgbClr val="ffc98e"/>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35" name=""/>
              <p:cNvSpPr/>
              <p:nvPr/>
            </p:nvSpPr>
            <p:spPr>
              <a:xfrm>
                <a:off x="7817760" y="4443120"/>
                <a:ext cx="20520" cy="9720"/>
              </a:xfrm>
              <a:custGeom>
                <a:avLst/>
                <a:gdLst/>
                <a:ahLst/>
                <a:rect l="l" t="t" r="r" b="b"/>
                <a:pathLst>
                  <a:path w="244" h="94">
                    <a:moveTo>
                      <a:pt x="0" y="34"/>
                    </a:moveTo>
                    <a:lnTo>
                      <a:pt x="45" y="81"/>
                    </a:lnTo>
                    <a:lnTo>
                      <a:pt x="89" y="94"/>
                    </a:lnTo>
                    <a:lnTo>
                      <a:pt x="114" y="94"/>
                    </a:lnTo>
                    <a:lnTo>
                      <a:pt x="167" y="94"/>
                    </a:lnTo>
                    <a:lnTo>
                      <a:pt x="244" y="43"/>
                    </a:lnTo>
                    <a:lnTo>
                      <a:pt x="204" y="0"/>
                    </a:lnTo>
                    <a:lnTo>
                      <a:pt x="123" y="9"/>
                    </a:lnTo>
                    <a:lnTo>
                      <a:pt x="45" y="28"/>
                    </a:lnTo>
                    <a:lnTo>
                      <a:pt x="0" y="3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36" name=""/>
              <p:cNvSpPr/>
              <p:nvPr/>
            </p:nvSpPr>
            <p:spPr>
              <a:xfrm>
                <a:off x="7854480" y="4438800"/>
                <a:ext cx="17640" cy="9360"/>
              </a:xfrm>
              <a:custGeom>
                <a:avLst/>
                <a:gdLst/>
                <a:ahLst/>
                <a:rect l="l" t="t" r="r" b="b"/>
                <a:pathLst>
                  <a:path w="221" h="85">
                    <a:moveTo>
                      <a:pt x="0" y="70"/>
                    </a:moveTo>
                    <a:lnTo>
                      <a:pt x="44" y="7"/>
                    </a:lnTo>
                    <a:lnTo>
                      <a:pt x="129" y="0"/>
                    </a:lnTo>
                    <a:lnTo>
                      <a:pt x="221" y="7"/>
                    </a:lnTo>
                    <a:lnTo>
                      <a:pt x="216" y="26"/>
                    </a:lnTo>
                    <a:lnTo>
                      <a:pt x="185" y="57"/>
                    </a:lnTo>
                    <a:lnTo>
                      <a:pt x="115" y="85"/>
                    </a:lnTo>
                    <a:lnTo>
                      <a:pt x="51" y="85"/>
                    </a:lnTo>
                    <a:lnTo>
                      <a:pt x="9" y="85"/>
                    </a:lnTo>
                    <a:lnTo>
                      <a:pt x="0" y="7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37" name=""/>
              <p:cNvSpPr/>
              <p:nvPr/>
            </p:nvSpPr>
            <p:spPr>
              <a:xfrm>
                <a:off x="7239240" y="4490280"/>
                <a:ext cx="45000" cy="37080"/>
              </a:xfrm>
              <a:custGeom>
                <a:avLst/>
                <a:gdLst/>
                <a:ahLst/>
                <a:rect l="l" t="t" r="r" b="b"/>
                <a:pathLst>
                  <a:path w="546" h="352">
                    <a:moveTo>
                      <a:pt x="53" y="229"/>
                    </a:moveTo>
                    <a:lnTo>
                      <a:pt x="126" y="174"/>
                    </a:lnTo>
                    <a:lnTo>
                      <a:pt x="163" y="161"/>
                    </a:lnTo>
                    <a:lnTo>
                      <a:pt x="313" y="161"/>
                    </a:lnTo>
                    <a:lnTo>
                      <a:pt x="387" y="167"/>
                    </a:lnTo>
                    <a:lnTo>
                      <a:pt x="194" y="94"/>
                    </a:lnTo>
                    <a:lnTo>
                      <a:pt x="60" y="94"/>
                    </a:lnTo>
                    <a:lnTo>
                      <a:pt x="9" y="82"/>
                    </a:lnTo>
                    <a:lnTo>
                      <a:pt x="0" y="75"/>
                    </a:lnTo>
                    <a:lnTo>
                      <a:pt x="145" y="0"/>
                    </a:lnTo>
                    <a:lnTo>
                      <a:pt x="224" y="13"/>
                    </a:lnTo>
                    <a:lnTo>
                      <a:pt x="313" y="64"/>
                    </a:lnTo>
                    <a:lnTo>
                      <a:pt x="415" y="108"/>
                    </a:lnTo>
                    <a:lnTo>
                      <a:pt x="498" y="130"/>
                    </a:lnTo>
                    <a:lnTo>
                      <a:pt x="546" y="198"/>
                    </a:lnTo>
                    <a:lnTo>
                      <a:pt x="521" y="255"/>
                    </a:lnTo>
                    <a:lnTo>
                      <a:pt x="484" y="255"/>
                    </a:lnTo>
                    <a:lnTo>
                      <a:pt x="431" y="322"/>
                    </a:lnTo>
                    <a:lnTo>
                      <a:pt x="376" y="329"/>
                    </a:lnTo>
                    <a:lnTo>
                      <a:pt x="286" y="352"/>
                    </a:lnTo>
                    <a:lnTo>
                      <a:pt x="365" y="280"/>
                    </a:lnTo>
                    <a:lnTo>
                      <a:pt x="401" y="235"/>
                    </a:lnTo>
                    <a:lnTo>
                      <a:pt x="401" y="218"/>
                    </a:lnTo>
                    <a:lnTo>
                      <a:pt x="365" y="209"/>
                    </a:lnTo>
                    <a:lnTo>
                      <a:pt x="304" y="191"/>
                    </a:lnTo>
                    <a:lnTo>
                      <a:pt x="286" y="235"/>
                    </a:lnTo>
                    <a:lnTo>
                      <a:pt x="282" y="205"/>
                    </a:lnTo>
                    <a:lnTo>
                      <a:pt x="256" y="205"/>
                    </a:lnTo>
                    <a:lnTo>
                      <a:pt x="253" y="225"/>
                    </a:lnTo>
                    <a:lnTo>
                      <a:pt x="277" y="244"/>
                    </a:lnTo>
                    <a:lnTo>
                      <a:pt x="268" y="266"/>
                    </a:lnTo>
                    <a:lnTo>
                      <a:pt x="84" y="244"/>
                    </a:lnTo>
                    <a:lnTo>
                      <a:pt x="53" y="22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38" name=""/>
              <p:cNvSpPr/>
              <p:nvPr/>
            </p:nvSpPr>
            <p:spPr>
              <a:xfrm>
                <a:off x="7247880" y="4520160"/>
                <a:ext cx="18360" cy="4680"/>
              </a:xfrm>
              <a:custGeom>
                <a:avLst/>
                <a:gdLst/>
                <a:ahLst/>
                <a:rect l="l" t="t" r="r" b="b"/>
                <a:pathLst>
                  <a:path w="224" h="49">
                    <a:moveTo>
                      <a:pt x="0" y="0"/>
                    </a:moveTo>
                    <a:lnTo>
                      <a:pt x="40" y="33"/>
                    </a:lnTo>
                    <a:lnTo>
                      <a:pt x="139" y="49"/>
                    </a:lnTo>
                    <a:lnTo>
                      <a:pt x="224" y="3"/>
                    </a:lnTo>
                    <a:lnTo>
                      <a:pt x="132" y="15"/>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39" name=""/>
              <p:cNvSpPr/>
              <p:nvPr/>
            </p:nvSpPr>
            <p:spPr>
              <a:xfrm>
                <a:off x="7266240" y="4510080"/>
                <a:ext cx="5040" cy="10080"/>
              </a:xfrm>
              <a:custGeom>
                <a:avLst/>
                <a:gdLst/>
                <a:ahLst/>
                <a:rect l="l" t="t" r="r" b="b"/>
                <a:pathLst>
                  <a:path w="64" h="98">
                    <a:moveTo>
                      <a:pt x="0" y="0"/>
                    </a:moveTo>
                    <a:lnTo>
                      <a:pt x="53" y="98"/>
                    </a:lnTo>
                    <a:lnTo>
                      <a:pt x="64" y="81"/>
                    </a:lnTo>
                    <a:lnTo>
                      <a:pt x="34" y="20"/>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40" name=""/>
              <p:cNvSpPr/>
              <p:nvPr/>
            </p:nvSpPr>
            <p:spPr>
              <a:xfrm>
                <a:off x="7288200" y="4509000"/>
                <a:ext cx="33480" cy="55080"/>
              </a:xfrm>
              <a:custGeom>
                <a:avLst/>
                <a:gdLst/>
                <a:ahLst/>
                <a:rect l="l" t="t" r="r" b="b"/>
                <a:pathLst>
                  <a:path w="406" h="514">
                    <a:moveTo>
                      <a:pt x="0" y="10"/>
                    </a:moveTo>
                    <a:lnTo>
                      <a:pt x="0" y="63"/>
                    </a:lnTo>
                    <a:lnTo>
                      <a:pt x="28" y="99"/>
                    </a:lnTo>
                    <a:lnTo>
                      <a:pt x="12" y="388"/>
                    </a:lnTo>
                    <a:lnTo>
                      <a:pt x="35" y="514"/>
                    </a:lnTo>
                    <a:lnTo>
                      <a:pt x="28" y="380"/>
                    </a:lnTo>
                    <a:lnTo>
                      <a:pt x="39" y="213"/>
                    </a:lnTo>
                    <a:lnTo>
                      <a:pt x="146" y="288"/>
                    </a:lnTo>
                    <a:lnTo>
                      <a:pt x="105" y="201"/>
                    </a:lnTo>
                    <a:lnTo>
                      <a:pt x="197" y="235"/>
                    </a:lnTo>
                    <a:lnTo>
                      <a:pt x="275" y="222"/>
                    </a:lnTo>
                    <a:lnTo>
                      <a:pt x="202" y="201"/>
                    </a:lnTo>
                    <a:lnTo>
                      <a:pt x="202" y="178"/>
                    </a:lnTo>
                    <a:lnTo>
                      <a:pt x="233" y="160"/>
                    </a:lnTo>
                    <a:lnTo>
                      <a:pt x="294" y="208"/>
                    </a:lnTo>
                    <a:lnTo>
                      <a:pt x="328" y="189"/>
                    </a:lnTo>
                    <a:lnTo>
                      <a:pt x="250" y="114"/>
                    </a:lnTo>
                    <a:lnTo>
                      <a:pt x="202" y="85"/>
                    </a:lnTo>
                    <a:lnTo>
                      <a:pt x="202" y="65"/>
                    </a:lnTo>
                    <a:lnTo>
                      <a:pt x="321" y="90"/>
                    </a:lnTo>
                    <a:lnTo>
                      <a:pt x="356" y="132"/>
                    </a:lnTo>
                    <a:lnTo>
                      <a:pt x="344" y="164"/>
                    </a:lnTo>
                    <a:lnTo>
                      <a:pt x="406" y="141"/>
                    </a:lnTo>
                    <a:lnTo>
                      <a:pt x="406" y="54"/>
                    </a:lnTo>
                    <a:lnTo>
                      <a:pt x="365" y="17"/>
                    </a:lnTo>
                    <a:lnTo>
                      <a:pt x="270" y="17"/>
                    </a:lnTo>
                    <a:lnTo>
                      <a:pt x="79" y="0"/>
                    </a:lnTo>
                    <a:lnTo>
                      <a:pt x="35" y="10"/>
                    </a:lnTo>
                    <a:lnTo>
                      <a:pt x="0" y="1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41" name=""/>
              <p:cNvSpPr/>
              <p:nvPr/>
            </p:nvSpPr>
            <p:spPr>
              <a:xfrm>
                <a:off x="7286760" y="4567680"/>
                <a:ext cx="3960" cy="6480"/>
              </a:xfrm>
              <a:custGeom>
                <a:avLst/>
                <a:gdLst/>
                <a:ahLst/>
                <a:rect l="l" t="t" r="r" b="b"/>
                <a:pathLst>
                  <a:path w="44" h="62">
                    <a:moveTo>
                      <a:pt x="0" y="46"/>
                    </a:moveTo>
                    <a:lnTo>
                      <a:pt x="28" y="62"/>
                    </a:lnTo>
                    <a:lnTo>
                      <a:pt x="44" y="49"/>
                    </a:lnTo>
                    <a:lnTo>
                      <a:pt x="35" y="0"/>
                    </a:lnTo>
                    <a:lnTo>
                      <a:pt x="0" y="4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2" name=""/>
              <p:cNvSpPr/>
              <p:nvPr/>
            </p:nvSpPr>
            <p:spPr>
              <a:xfrm>
                <a:off x="7242480" y="4560840"/>
                <a:ext cx="53640" cy="36360"/>
              </a:xfrm>
              <a:custGeom>
                <a:avLst/>
                <a:gdLst/>
                <a:ahLst/>
                <a:rect l="l" t="t" r="r" b="b"/>
                <a:pathLst>
                  <a:path w="647" h="347">
                    <a:moveTo>
                      <a:pt x="509" y="114"/>
                    </a:moveTo>
                    <a:lnTo>
                      <a:pt x="466" y="117"/>
                    </a:lnTo>
                    <a:lnTo>
                      <a:pt x="374" y="29"/>
                    </a:lnTo>
                    <a:lnTo>
                      <a:pt x="311" y="0"/>
                    </a:lnTo>
                    <a:lnTo>
                      <a:pt x="219" y="31"/>
                    </a:lnTo>
                    <a:lnTo>
                      <a:pt x="219" y="57"/>
                    </a:lnTo>
                    <a:lnTo>
                      <a:pt x="258" y="64"/>
                    </a:lnTo>
                    <a:lnTo>
                      <a:pt x="120" y="105"/>
                    </a:lnTo>
                    <a:lnTo>
                      <a:pt x="0" y="181"/>
                    </a:lnTo>
                    <a:lnTo>
                      <a:pt x="23" y="225"/>
                    </a:lnTo>
                    <a:lnTo>
                      <a:pt x="95" y="220"/>
                    </a:lnTo>
                    <a:lnTo>
                      <a:pt x="157" y="237"/>
                    </a:lnTo>
                    <a:lnTo>
                      <a:pt x="240" y="193"/>
                    </a:lnTo>
                    <a:lnTo>
                      <a:pt x="357" y="211"/>
                    </a:lnTo>
                    <a:lnTo>
                      <a:pt x="461" y="200"/>
                    </a:lnTo>
                    <a:lnTo>
                      <a:pt x="521" y="257"/>
                    </a:lnTo>
                    <a:lnTo>
                      <a:pt x="567" y="279"/>
                    </a:lnTo>
                    <a:lnTo>
                      <a:pt x="620" y="347"/>
                    </a:lnTo>
                    <a:lnTo>
                      <a:pt x="647" y="334"/>
                    </a:lnTo>
                    <a:lnTo>
                      <a:pt x="643" y="225"/>
                    </a:lnTo>
                    <a:lnTo>
                      <a:pt x="567" y="105"/>
                    </a:lnTo>
                    <a:lnTo>
                      <a:pt x="509" y="1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3" name=""/>
              <p:cNvSpPr/>
              <p:nvPr/>
            </p:nvSpPr>
            <p:spPr>
              <a:xfrm>
                <a:off x="7272360" y="4543920"/>
                <a:ext cx="5760" cy="9360"/>
              </a:xfrm>
              <a:custGeom>
                <a:avLst/>
                <a:gdLst/>
                <a:ahLst/>
                <a:rect l="l" t="t" r="r" b="b"/>
                <a:pathLst>
                  <a:path w="72" h="86">
                    <a:moveTo>
                      <a:pt x="0" y="55"/>
                    </a:moveTo>
                    <a:lnTo>
                      <a:pt x="37" y="86"/>
                    </a:lnTo>
                    <a:lnTo>
                      <a:pt x="72" y="24"/>
                    </a:lnTo>
                    <a:lnTo>
                      <a:pt x="60" y="0"/>
                    </a:lnTo>
                    <a:lnTo>
                      <a:pt x="0" y="5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44" name=""/>
              <p:cNvSpPr/>
              <p:nvPr/>
            </p:nvSpPr>
            <p:spPr>
              <a:xfrm>
                <a:off x="7260480" y="4589640"/>
                <a:ext cx="24840" cy="13320"/>
              </a:xfrm>
              <a:custGeom>
                <a:avLst/>
                <a:gdLst/>
                <a:ahLst/>
                <a:rect l="l" t="t" r="r" b="b"/>
                <a:pathLst>
                  <a:path w="302" h="129">
                    <a:moveTo>
                      <a:pt x="0" y="26"/>
                    </a:moveTo>
                    <a:lnTo>
                      <a:pt x="48" y="0"/>
                    </a:lnTo>
                    <a:lnTo>
                      <a:pt x="302" y="42"/>
                    </a:lnTo>
                    <a:lnTo>
                      <a:pt x="279" y="129"/>
                    </a:lnTo>
                    <a:lnTo>
                      <a:pt x="228" y="98"/>
                    </a:lnTo>
                    <a:lnTo>
                      <a:pt x="30" y="98"/>
                    </a:lnTo>
                    <a:lnTo>
                      <a:pt x="0" y="2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45" name=""/>
              <p:cNvSpPr/>
              <p:nvPr/>
            </p:nvSpPr>
            <p:spPr>
              <a:xfrm>
                <a:off x="7219800" y="4401360"/>
                <a:ext cx="105120" cy="72720"/>
              </a:xfrm>
              <a:custGeom>
                <a:avLst/>
                <a:gdLst/>
                <a:ahLst/>
                <a:rect l="l" t="t" r="r" b="b"/>
                <a:pathLst>
                  <a:path w="1275" h="682">
                    <a:moveTo>
                      <a:pt x="934" y="170"/>
                    </a:moveTo>
                    <a:lnTo>
                      <a:pt x="1037" y="159"/>
                    </a:lnTo>
                    <a:lnTo>
                      <a:pt x="1037" y="136"/>
                    </a:lnTo>
                    <a:lnTo>
                      <a:pt x="970" y="92"/>
                    </a:lnTo>
                    <a:lnTo>
                      <a:pt x="834" y="42"/>
                    </a:lnTo>
                    <a:lnTo>
                      <a:pt x="730" y="25"/>
                    </a:lnTo>
                    <a:lnTo>
                      <a:pt x="431" y="7"/>
                    </a:lnTo>
                    <a:lnTo>
                      <a:pt x="652" y="0"/>
                    </a:lnTo>
                    <a:lnTo>
                      <a:pt x="868" y="18"/>
                    </a:lnTo>
                    <a:lnTo>
                      <a:pt x="1037" y="73"/>
                    </a:lnTo>
                    <a:lnTo>
                      <a:pt x="1157" y="154"/>
                    </a:lnTo>
                    <a:lnTo>
                      <a:pt x="1249" y="251"/>
                    </a:lnTo>
                    <a:lnTo>
                      <a:pt x="1275" y="325"/>
                    </a:lnTo>
                    <a:lnTo>
                      <a:pt x="1275" y="387"/>
                    </a:lnTo>
                    <a:lnTo>
                      <a:pt x="1217" y="449"/>
                    </a:lnTo>
                    <a:lnTo>
                      <a:pt x="1104" y="530"/>
                    </a:lnTo>
                    <a:lnTo>
                      <a:pt x="943" y="578"/>
                    </a:lnTo>
                    <a:lnTo>
                      <a:pt x="730" y="631"/>
                    </a:lnTo>
                    <a:lnTo>
                      <a:pt x="315" y="664"/>
                    </a:lnTo>
                    <a:lnTo>
                      <a:pt x="0" y="682"/>
                    </a:lnTo>
                    <a:lnTo>
                      <a:pt x="703" y="504"/>
                    </a:lnTo>
                    <a:lnTo>
                      <a:pt x="864" y="449"/>
                    </a:lnTo>
                    <a:lnTo>
                      <a:pt x="952" y="407"/>
                    </a:lnTo>
                    <a:lnTo>
                      <a:pt x="975" y="387"/>
                    </a:lnTo>
                    <a:lnTo>
                      <a:pt x="970" y="374"/>
                    </a:lnTo>
                    <a:lnTo>
                      <a:pt x="917" y="367"/>
                    </a:lnTo>
                    <a:lnTo>
                      <a:pt x="1074" y="325"/>
                    </a:lnTo>
                    <a:lnTo>
                      <a:pt x="1086" y="304"/>
                    </a:lnTo>
                    <a:lnTo>
                      <a:pt x="1157" y="306"/>
                    </a:lnTo>
                    <a:lnTo>
                      <a:pt x="1161" y="284"/>
                    </a:lnTo>
                    <a:lnTo>
                      <a:pt x="1136" y="271"/>
                    </a:lnTo>
                    <a:lnTo>
                      <a:pt x="1018" y="242"/>
                    </a:lnTo>
                    <a:lnTo>
                      <a:pt x="1123" y="242"/>
                    </a:lnTo>
                    <a:lnTo>
                      <a:pt x="1123" y="216"/>
                    </a:lnTo>
                    <a:lnTo>
                      <a:pt x="1044" y="189"/>
                    </a:lnTo>
                    <a:lnTo>
                      <a:pt x="934" y="17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246" name=""/>
              <p:cNvSpPr/>
              <p:nvPr/>
            </p:nvSpPr>
            <p:spPr>
              <a:xfrm>
                <a:off x="7182000" y="4401360"/>
                <a:ext cx="115200" cy="144000"/>
              </a:xfrm>
              <a:custGeom>
                <a:avLst/>
                <a:gdLst/>
                <a:ahLst/>
                <a:rect l="l" t="t" r="r" b="b"/>
                <a:pathLst>
                  <a:path w="1400" h="1354">
                    <a:moveTo>
                      <a:pt x="585" y="668"/>
                    </a:moveTo>
                    <a:lnTo>
                      <a:pt x="486" y="811"/>
                    </a:lnTo>
                    <a:lnTo>
                      <a:pt x="468" y="885"/>
                    </a:lnTo>
                    <a:lnTo>
                      <a:pt x="413" y="947"/>
                    </a:lnTo>
                    <a:lnTo>
                      <a:pt x="352" y="1130"/>
                    </a:lnTo>
                    <a:lnTo>
                      <a:pt x="277" y="1118"/>
                    </a:lnTo>
                    <a:lnTo>
                      <a:pt x="233" y="1002"/>
                    </a:lnTo>
                    <a:lnTo>
                      <a:pt x="171" y="975"/>
                    </a:lnTo>
                    <a:lnTo>
                      <a:pt x="110" y="991"/>
                    </a:lnTo>
                    <a:lnTo>
                      <a:pt x="67" y="1064"/>
                    </a:lnTo>
                    <a:lnTo>
                      <a:pt x="97" y="1354"/>
                    </a:lnTo>
                    <a:lnTo>
                      <a:pt x="46" y="1263"/>
                    </a:lnTo>
                    <a:lnTo>
                      <a:pt x="0" y="730"/>
                    </a:lnTo>
                    <a:lnTo>
                      <a:pt x="40" y="627"/>
                    </a:lnTo>
                    <a:lnTo>
                      <a:pt x="110" y="438"/>
                    </a:lnTo>
                    <a:lnTo>
                      <a:pt x="270" y="242"/>
                    </a:lnTo>
                    <a:lnTo>
                      <a:pt x="486" y="71"/>
                    </a:lnTo>
                    <a:lnTo>
                      <a:pt x="754" y="11"/>
                    </a:lnTo>
                    <a:lnTo>
                      <a:pt x="976" y="0"/>
                    </a:lnTo>
                    <a:lnTo>
                      <a:pt x="1095" y="55"/>
                    </a:lnTo>
                    <a:lnTo>
                      <a:pt x="1160" y="124"/>
                    </a:lnTo>
                    <a:lnTo>
                      <a:pt x="1286" y="165"/>
                    </a:lnTo>
                    <a:lnTo>
                      <a:pt x="1240" y="165"/>
                    </a:lnTo>
                    <a:lnTo>
                      <a:pt x="1240" y="189"/>
                    </a:lnTo>
                    <a:lnTo>
                      <a:pt x="1342" y="223"/>
                    </a:lnTo>
                    <a:lnTo>
                      <a:pt x="1270" y="251"/>
                    </a:lnTo>
                    <a:lnTo>
                      <a:pt x="1277" y="271"/>
                    </a:lnTo>
                    <a:lnTo>
                      <a:pt x="1314" y="290"/>
                    </a:lnTo>
                    <a:lnTo>
                      <a:pt x="1229" y="318"/>
                    </a:lnTo>
                    <a:lnTo>
                      <a:pt x="1277" y="365"/>
                    </a:lnTo>
                    <a:lnTo>
                      <a:pt x="1125" y="403"/>
                    </a:lnTo>
                    <a:lnTo>
                      <a:pt x="1125" y="413"/>
                    </a:lnTo>
                    <a:lnTo>
                      <a:pt x="1266" y="424"/>
                    </a:lnTo>
                    <a:lnTo>
                      <a:pt x="1116" y="470"/>
                    </a:lnTo>
                    <a:lnTo>
                      <a:pt x="1400" y="438"/>
                    </a:lnTo>
                    <a:lnTo>
                      <a:pt x="1383" y="530"/>
                    </a:lnTo>
                    <a:lnTo>
                      <a:pt x="864" y="631"/>
                    </a:lnTo>
                    <a:lnTo>
                      <a:pt x="585"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7" name=""/>
              <p:cNvSpPr/>
              <p:nvPr/>
            </p:nvSpPr>
            <p:spPr>
              <a:xfrm>
                <a:off x="7290000" y="4448880"/>
                <a:ext cx="46800" cy="167040"/>
              </a:xfrm>
              <a:custGeom>
                <a:avLst/>
                <a:gdLst/>
                <a:ahLst/>
                <a:rect l="l" t="t" r="r" b="b"/>
                <a:pathLst>
                  <a:path w="567" h="1578">
                    <a:moveTo>
                      <a:pt x="320" y="150"/>
                    </a:moveTo>
                    <a:lnTo>
                      <a:pt x="358" y="245"/>
                    </a:lnTo>
                    <a:lnTo>
                      <a:pt x="358" y="635"/>
                    </a:lnTo>
                    <a:lnTo>
                      <a:pt x="304" y="761"/>
                    </a:lnTo>
                    <a:lnTo>
                      <a:pt x="304" y="904"/>
                    </a:lnTo>
                    <a:lnTo>
                      <a:pt x="239" y="1119"/>
                    </a:lnTo>
                    <a:lnTo>
                      <a:pt x="147" y="1255"/>
                    </a:lnTo>
                    <a:lnTo>
                      <a:pt x="0" y="1578"/>
                    </a:lnTo>
                    <a:lnTo>
                      <a:pt x="90" y="1471"/>
                    </a:lnTo>
                    <a:lnTo>
                      <a:pt x="198" y="1211"/>
                    </a:lnTo>
                    <a:lnTo>
                      <a:pt x="270" y="1105"/>
                    </a:lnTo>
                    <a:lnTo>
                      <a:pt x="341" y="941"/>
                    </a:lnTo>
                    <a:lnTo>
                      <a:pt x="341" y="794"/>
                    </a:lnTo>
                    <a:lnTo>
                      <a:pt x="484" y="704"/>
                    </a:lnTo>
                    <a:lnTo>
                      <a:pt x="567" y="455"/>
                    </a:lnTo>
                    <a:lnTo>
                      <a:pt x="567" y="261"/>
                    </a:lnTo>
                    <a:lnTo>
                      <a:pt x="558" y="121"/>
                    </a:lnTo>
                    <a:lnTo>
                      <a:pt x="532" y="42"/>
                    </a:lnTo>
                    <a:lnTo>
                      <a:pt x="468" y="0"/>
                    </a:lnTo>
                    <a:lnTo>
                      <a:pt x="521" y="60"/>
                    </a:lnTo>
                    <a:lnTo>
                      <a:pt x="532" y="110"/>
                    </a:lnTo>
                    <a:lnTo>
                      <a:pt x="521" y="139"/>
                    </a:lnTo>
                    <a:lnTo>
                      <a:pt x="444" y="90"/>
                    </a:lnTo>
                    <a:lnTo>
                      <a:pt x="437" y="97"/>
                    </a:lnTo>
                    <a:lnTo>
                      <a:pt x="488" y="178"/>
                    </a:lnTo>
                    <a:lnTo>
                      <a:pt x="505" y="305"/>
                    </a:lnTo>
                    <a:lnTo>
                      <a:pt x="505" y="429"/>
                    </a:lnTo>
                    <a:lnTo>
                      <a:pt x="468" y="275"/>
                    </a:lnTo>
                    <a:lnTo>
                      <a:pt x="345" y="110"/>
                    </a:lnTo>
                    <a:lnTo>
                      <a:pt x="32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8" name=""/>
              <p:cNvSpPr/>
              <p:nvPr/>
            </p:nvSpPr>
            <p:spPr>
              <a:xfrm>
                <a:off x="7199280" y="4545720"/>
                <a:ext cx="87480" cy="110880"/>
              </a:xfrm>
              <a:custGeom>
                <a:avLst/>
                <a:gdLst/>
                <a:ahLst/>
                <a:rect l="l" t="t" r="r" b="b"/>
                <a:pathLst>
                  <a:path w="1057" h="1050">
                    <a:moveTo>
                      <a:pt x="90" y="0"/>
                    </a:moveTo>
                    <a:lnTo>
                      <a:pt x="68" y="195"/>
                    </a:lnTo>
                    <a:lnTo>
                      <a:pt x="72" y="281"/>
                    </a:lnTo>
                    <a:lnTo>
                      <a:pt x="105" y="356"/>
                    </a:lnTo>
                    <a:lnTo>
                      <a:pt x="158" y="424"/>
                    </a:lnTo>
                    <a:lnTo>
                      <a:pt x="259" y="506"/>
                    </a:lnTo>
                    <a:lnTo>
                      <a:pt x="558" y="651"/>
                    </a:lnTo>
                    <a:lnTo>
                      <a:pt x="842" y="758"/>
                    </a:lnTo>
                    <a:lnTo>
                      <a:pt x="925" y="762"/>
                    </a:lnTo>
                    <a:lnTo>
                      <a:pt x="995" y="758"/>
                    </a:lnTo>
                    <a:lnTo>
                      <a:pt x="1057" y="730"/>
                    </a:lnTo>
                    <a:lnTo>
                      <a:pt x="1006" y="767"/>
                    </a:lnTo>
                    <a:lnTo>
                      <a:pt x="944" y="783"/>
                    </a:lnTo>
                    <a:lnTo>
                      <a:pt x="863" y="785"/>
                    </a:lnTo>
                    <a:lnTo>
                      <a:pt x="753" y="767"/>
                    </a:lnTo>
                    <a:lnTo>
                      <a:pt x="753" y="817"/>
                    </a:lnTo>
                    <a:lnTo>
                      <a:pt x="738" y="882"/>
                    </a:lnTo>
                    <a:lnTo>
                      <a:pt x="661" y="1009"/>
                    </a:lnTo>
                    <a:lnTo>
                      <a:pt x="704" y="901"/>
                    </a:lnTo>
                    <a:lnTo>
                      <a:pt x="709" y="824"/>
                    </a:lnTo>
                    <a:lnTo>
                      <a:pt x="624" y="861"/>
                    </a:lnTo>
                    <a:lnTo>
                      <a:pt x="624" y="978"/>
                    </a:lnTo>
                    <a:lnTo>
                      <a:pt x="598" y="1013"/>
                    </a:lnTo>
                    <a:lnTo>
                      <a:pt x="624" y="1050"/>
                    </a:lnTo>
                    <a:lnTo>
                      <a:pt x="591" y="1050"/>
                    </a:lnTo>
                    <a:lnTo>
                      <a:pt x="506" y="1009"/>
                    </a:lnTo>
                    <a:lnTo>
                      <a:pt x="328" y="843"/>
                    </a:lnTo>
                    <a:lnTo>
                      <a:pt x="215" y="721"/>
                    </a:lnTo>
                    <a:lnTo>
                      <a:pt x="98" y="567"/>
                    </a:lnTo>
                    <a:lnTo>
                      <a:pt x="0" y="370"/>
                    </a:lnTo>
                    <a:lnTo>
                      <a:pt x="107" y="541"/>
                    </a:lnTo>
                    <a:lnTo>
                      <a:pt x="204" y="633"/>
                    </a:lnTo>
                    <a:lnTo>
                      <a:pt x="81" y="411"/>
                    </a:lnTo>
                    <a:lnTo>
                      <a:pt x="52" y="288"/>
                    </a:lnTo>
                    <a:lnTo>
                      <a:pt x="52" y="213"/>
                    </a:lnTo>
                    <a:lnTo>
                      <a:pt x="68" y="91"/>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9" name=""/>
              <p:cNvSpPr/>
              <p:nvPr/>
            </p:nvSpPr>
            <p:spPr>
              <a:xfrm>
                <a:off x="7191360" y="4513680"/>
                <a:ext cx="14400" cy="32760"/>
              </a:xfrm>
              <a:custGeom>
                <a:avLst/>
                <a:gdLst/>
                <a:ahLst/>
                <a:rect l="l" t="t" r="r" b="b"/>
                <a:pathLst>
                  <a:path w="180" h="312">
                    <a:moveTo>
                      <a:pt x="37" y="0"/>
                    </a:moveTo>
                    <a:lnTo>
                      <a:pt x="88" y="7"/>
                    </a:lnTo>
                    <a:lnTo>
                      <a:pt x="175" y="62"/>
                    </a:lnTo>
                    <a:lnTo>
                      <a:pt x="180" y="164"/>
                    </a:lnTo>
                    <a:lnTo>
                      <a:pt x="146" y="147"/>
                    </a:lnTo>
                    <a:lnTo>
                      <a:pt x="136" y="134"/>
                    </a:lnTo>
                    <a:lnTo>
                      <a:pt x="94" y="171"/>
                    </a:lnTo>
                    <a:lnTo>
                      <a:pt x="94" y="185"/>
                    </a:lnTo>
                    <a:lnTo>
                      <a:pt x="125" y="204"/>
                    </a:lnTo>
                    <a:lnTo>
                      <a:pt x="155" y="301"/>
                    </a:lnTo>
                    <a:lnTo>
                      <a:pt x="132" y="312"/>
                    </a:lnTo>
                    <a:lnTo>
                      <a:pt x="100" y="257"/>
                    </a:lnTo>
                    <a:lnTo>
                      <a:pt x="19" y="233"/>
                    </a:lnTo>
                    <a:lnTo>
                      <a:pt x="0" y="111"/>
                    </a:lnTo>
                    <a:lnTo>
                      <a:pt x="19" y="95"/>
                    </a:lnTo>
                    <a:lnTo>
                      <a:pt x="105" y="53"/>
                    </a:lnTo>
                    <a:lnTo>
                      <a:pt x="81" y="26"/>
                    </a:lnTo>
                    <a:lnTo>
                      <a:pt x="37"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250" name=""/>
              <p:cNvSpPr/>
              <p:nvPr/>
            </p:nvSpPr>
            <p:spPr>
              <a:xfrm>
                <a:off x="7192800" y="4545000"/>
                <a:ext cx="5760" cy="1440"/>
              </a:xfrm>
              <a:custGeom>
                <a:avLst/>
                <a:gdLst/>
                <a:ahLst/>
                <a:rect l="l" t="t" r="r" b="b"/>
                <a:pathLst>
                  <a:path w="69" h="17">
                    <a:moveTo>
                      <a:pt x="0" y="0"/>
                    </a:moveTo>
                    <a:lnTo>
                      <a:pt x="69" y="17"/>
                    </a:lnTo>
                    <a:lnTo>
                      <a:pt x="7" y="17"/>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1" name=""/>
              <p:cNvSpPr/>
              <p:nvPr/>
            </p:nvSpPr>
            <p:spPr>
              <a:xfrm>
                <a:off x="7191360" y="4553280"/>
                <a:ext cx="11880" cy="20160"/>
              </a:xfrm>
              <a:custGeom>
                <a:avLst/>
                <a:gdLst/>
                <a:ahLst/>
                <a:rect l="l" t="t" r="r" b="b"/>
                <a:pathLst>
                  <a:path w="143" h="195">
                    <a:moveTo>
                      <a:pt x="0" y="0"/>
                    </a:moveTo>
                    <a:lnTo>
                      <a:pt x="26" y="23"/>
                    </a:lnTo>
                    <a:lnTo>
                      <a:pt x="67" y="37"/>
                    </a:lnTo>
                    <a:lnTo>
                      <a:pt x="143" y="18"/>
                    </a:lnTo>
                    <a:lnTo>
                      <a:pt x="114" y="85"/>
                    </a:lnTo>
                    <a:lnTo>
                      <a:pt x="61" y="103"/>
                    </a:lnTo>
                    <a:lnTo>
                      <a:pt x="33" y="195"/>
                    </a:lnTo>
                    <a:lnTo>
                      <a:pt x="6" y="140"/>
                    </a:lnTo>
                    <a:lnTo>
                      <a:pt x="6" y="112"/>
                    </a:lnTo>
                    <a:lnTo>
                      <a:pt x="33" y="85"/>
                    </a:lnTo>
                    <a:lnTo>
                      <a:pt x="15" y="41"/>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252" name=""/>
              <p:cNvSpPr/>
              <p:nvPr/>
            </p:nvSpPr>
            <p:spPr>
              <a:xfrm>
                <a:off x="7211520" y="4515840"/>
                <a:ext cx="576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253" name=""/>
              <p:cNvSpPr/>
              <p:nvPr/>
            </p:nvSpPr>
            <p:spPr>
              <a:xfrm>
                <a:off x="7212600" y="4510800"/>
                <a:ext cx="86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54" name=""/>
              <p:cNvSpPr/>
              <p:nvPr/>
            </p:nvSpPr>
            <p:spPr>
              <a:xfrm>
                <a:off x="7218000" y="4520880"/>
                <a:ext cx="7920" cy="2772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255" name=""/>
              <p:cNvSpPr/>
              <p:nvPr/>
            </p:nvSpPr>
            <p:spPr>
              <a:xfrm>
                <a:off x="7223400" y="4531320"/>
                <a:ext cx="576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256" name=""/>
              <p:cNvSpPr/>
              <p:nvPr/>
            </p:nvSpPr>
            <p:spPr>
              <a:xfrm>
                <a:off x="7253640" y="4471920"/>
                <a:ext cx="60840" cy="17640"/>
              </a:xfrm>
              <a:custGeom>
                <a:avLst/>
                <a:gdLst/>
                <a:ahLst/>
                <a:rect l="l" t="t" r="r" b="b"/>
                <a:pathLst>
                  <a:path w="743" h="165">
                    <a:moveTo>
                      <a:pt x="0" y="0"/>
                    </a:moveTo>
                    <a:lnTo>
                      <a:pt x="116" y="18"/>
                    </a:lnTo>
                    <a:lnTo>
                      <a:pt x="351" y="101"/>
                    </a:lnTo>
                    <a:lnTo>
                      <a:pt x="519" y="138"/>
                    </a:lnTo>
                    <a:lnTo>
                      <a:pt x="743" y="165"/>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57" name=""/>
              <p:cNvSpPr/>
              <p:nvPr/>
            </p:nvSpPr>
            <p:spPr>
              <a:xfrm>
                <a:off x="7266240" y="4469400"/>
                <a:ext cx="40320" cy="14400"/>
              </a:xfrm>
              <a:custGeom>
                <a:avLst/>
                <a:gdLst/>
                <a:ahLst/>
                <a:rect l="l" t="t" r="r" b="b"/>
                <a:pathLst>
                  <a:path w="491" h="134">
                    <a:moveTo>
                      <a:pt x="0" y="0"/>
                    </a:moveTo>
                    <a:lnTo>
                      <a:pt x="82" y="28"/>
                    </a:lnTo>
                    <a:lnTo>
                      <a:pt x="260" y="88"/>
                    </a:lnTo>
                    <a:lnTo>
                      <a:pt x="491" y="134"/>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58" name=""/>
              <p:cNvSpPr/>
              <p:nvPr/>
            </p:nvSpPr>
            <p:spPr>
              <a:xfrm>
                <a:off x="7158240" y="4573800"/>
                <a:ext cx="29520" cy="61560"/>
              </a:xfrm>
              <a:custGeom>
                <a:avLst/>
                <a:gdLst/>
                <a:ahLst/>
                <a:rect l="l" t="t" r="r" b="b"/>
                <a:pathLst>
                  <a:path w="365" h="579">
                    <a:moveTo>
                      <a:pt x="365" y="0"/>
                    </a:moveTo>
                    <a:lnTo>
                      <a:pt x="277" y="129"/>
                    </a:lnTo>
                    <a:lnTo>
                      <a:pt x="277" y="265"/>
                    </a:lnTo>
                    <a:lnTo>
                      <a:pt x="350" y="579"/>
                    </a:lnTo>
                    <a:lnTo>
                      <a:pt x="224" y="290"/>
                    </a:lnTo>
                    <a:lnTo>
                      <a:pt x="224" y="199"/>
                    </a:lnTo>
                    <a:lnTo>
                      <a:pt x="0" y="199"/>
                    </a:lnTo>
                    <a:lnTo>
                      <a:pt x="187" y="76"/>
                    </a:lnTo>
                    <a:lnTo>
                      <a:pt x="277" y="76"/>
                    </a:lnTo>
                    <a:lnTo>
                      <a:pt x="365"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59" name=""/>
              <p:cNvSpPr/>
              <p:nvPr/>
            </p:nvSpPr>
            <p:spPr>
              <a:xfrm>
                <a:off x="7039080" y="4613400"/>
                <a:ext cx="348480" cy="420120"/>
              </a:xfrm>
              <a:custGeom>
                <a:avLst/>
                <a:gdLst/>
                <a:ahLst/>
                <a:rect l="l" t="t" r="r" b="b"/>
                <a:pathLst>
                  <a:path w="4215" h="3969">
                    <a:moveTo>
                      <a:pt x="1158" y="0"/>
                    </a:moveTo>
                    <a:lnTo>
                      <a:pt x="897" y="255"/>
                    </a:lnTo>
                    <a:lnTo>
                      <a:pt x="743" y="466"/>
                    </a:lnTo>
                    <a:lnTo>
                      <a:pt x="743" y="706"/>
                    </a:lnTo>
                    <a:lnTo>
                      <a:pt x="920" y="591"/>
                    </a:lnTo>
                    <a:lnTo>
                      <a:pt x="920" y="756"/>
                    </a:lnTo>
                    <a:lnTo>
                      <a:pt x="1314" y="1684"/>
                    </a:lnTo>
                    <a:lnTo>
                      <a:pt x="1224" y="1582"/>
                    </a:lnTo>
                    <a:lnTo>
                      <a:pt x="1134" y="1582"/>
                    </a:lnTo>
                    <a:lnTo>
                      <a:pt x="1072" y="1610"/>
                    </a:lnTo>
                    <a:lnTo>
                      <a:pt x="1031" y="1644"/>
                    </a:lnTo>
                    <a:lnTo>
                      <a:pt x="1174" y="1960"/>
                    </a:lnTo>
                    <a:lnTo>
                      <a:pt x="1448" y="2451"/>
                    </a:lnTo>
                    <a:lnTo>
                      <a:pt x="1868" y="2890"/>
                    </a:lnTo>
                    <a:lnTo>
                      <a:pt x="2031" y="3026"/>
                    </a:lnTo>
                    <a:lnTo>
                      <a:pt x="2031" y="3116"/>
                    </a:lnTo>
                    <a:lnTo>
                      <a:pt x="1930" y="3239"/>
                    </a:lnTo>
                    <a:lnTo>
                      <a:pt x="1930" y="3380"/>
                    </a:lnTo>
                    <a:lnTo>
                      <a:pt x="2129" y="3343"/>
                    </a:lnTo>
                    <a:lnTo>
                      <a:pt x="2158" y="3295"/>
                    </a:lnTo>
                    <a:lnTo>
                      <a:pt x="2145" y="3228"/>
                    </a:lnTo>
                    <a:lnTo>
                      <a:pt x="2094" y="3191"/>
                    </a:lnTo>
                    <a:lnTo>
                      <a:pt x="2296" y="3239"/>
                    </a:lnTo>
                    <a:lnTo>
                      <a:pt x="2435" y="3228"/>
                    </a:lnTo>
                    <a:lnTo>
                      <a:pt x="2575" y="3178"/>
                    </a:lnTo>
                    <a:lnTo>
                      <a:pt x="2712" y="3065"/>
                    </a:lnTo>
                    <a:lnTo>
                      <a:pt x="2815" y="2967"/>
                    </a:lnTo>
                    <a:lnTo>
                      <a:pt x="2749" y="3076"/>
                    </a:lnTo>
                    <a:lnTo>
                      <a:pt x="2700" y="3166"/>
                    </a:lnTo>
                    <a:lnTo>
                      <a:pt x="2903" y="3191"/>
                    </a:lnTo>
                    <a:lnTo>
                      <a:pt x="3154" y="3203"/>
                    </a:lnTo>
                    <a:lnTo>
                      <a:pt x="3357" y="3154"/>
                    </a:lnTo>
                    <a:lnTo>
                      <a:pt x="3433" y="2855"/>
                    </a:lnTo>
                    <a:lnTo>
                      <a:pt x="3468" y="2855"/>
                    </a:lnTo>
                    <a:lnTo>
                      <a:pt x="3494" y="2890"/>
                    </a:lnTo>
                    <a:lnTo>
                      <a:pt x="3521" y="2991"/>
                    </a:lnTo>
                    <a:lnTo>
                      <a:pt x="3535" y="3076"/>
                    </a:lnTo>
                    <a:lnTo>
                      <a:pt x="4203" y="3039"/>
                    </a:lnTo>
                    <a:lnTo>
                      <a:pt x="4215" y="3116"/>
                    </a:lnTo>
                    <a:lnTo>
                      <a:pt x="4215" y="3178"/>
                    </a:lnTo>
                    <a:lnTo>
                      <a:pt x="4189" y="3254"/>
                    </a:lnTo>
                    <a:lnTo>
                      <a:pt x="4037" y="3265"/>
                    </a:lnTo>
                    <a:lnTo>
                      <a:pt x="3913" y="3343"/>
                    </a:lnTo>
                    <a:lnTo>
                      <a:pt x="3683" y="3390"/>
                    </a:lnTo>
                    <a:lnTo>
                      <a:pt x="3481" y="3380"/>
                    </a:lnTo>
                    <a:lnTo>
                      <a:pt x="3281" y="3441"/>
                    </a:lnTo>
                    <a:lnTo>
                      <a:pt x="3105" y="3481"/>
                    </a:lnTo>
                    <a:lnTo>
                      <a:pt x="2852" y="3492"/>
                    </a:lnTo>
                    <a:lnTo>
                      <a:pt x="2547" y="3457"/>
                    </a:lnTo>
                    <a:lnTo>
                      <a:pt x="2320" y="3481"/>
                    </a:lnTo>
                    <a:lnTo>
                      <a:pt x="2129" y="3542"/>
                    </a:lnTo>
                    <a:lnTo>
                      <a:pt x="1990" y="3620"/>
                    </a:lnTo>
                    <a:lnTo>
                      <a:pt x="1615" y="3516"/>
                    </a:lnTo>
                    <a:lnTo>
                      <a:pt x="681" y="3969"/>
                    </a:lnTo>
                    <a:lnTo>
                      <a:pt x="0" y="3969"/>
                    </a:lnTo>
                    <a:lnTo>
                      <a:pt x="176" y="1723"/>
                    </a:lnTo>
                    <a:lnTo>
                      <a:pt x="328" y="1244"/>
                    </a:lnTo>
                    <a:lnTo>
                      <a:pt x="266" y="1558"/>
                    </a:lnTo>
                    <a:lnTo>
                      <a:pt x="418" y="2059"/>
                    </a:lnTo>
                    <a:lnTo>
                      <a:pt x="418" y="2500"/>
                    </a:lnTo>
                    <a:lnTo>
                      <a:pt x="591" y="2977"/>
                    </a:lnTo>
                    <a:lnTo>
                      <a:pt x="681" y="2977"/>
                    </a:lnTo>
                    <a:lnTo>
                      <a:pt x="907" y="2488"/>
                    </a:lnTo>
                    <a:lnTo>
                      <a:pt x="602" y="1886"/>
                    </a:lnTo>
                    <a:lnTo>
                      <a:pt x="556" y="1697"/>
                    </a:lnTo>
                    <a:lnTo>
                      <a:pt x="528" y="1497"/>
                    </a:lnTo>
                    <a:lnTo>
                      <a:pt x="556" y="1281"/>
                    </a:lnTo>
                    <a:lnTo>
                      <a:pt x="681" y="780"/>
                    </a:lnTo>
                    <a:lnTo>
                      <a:pt x="618" y="729"/>
                    </a:lnTo>
                    <a:lnTo>
                      <a:pt x="577" y="665"/>
                    </a:lnTo>
                    <a:lnTo>
                      <a:pt x="567" y="618"/>
                    </a:lnTo>
                    <a:lnTo>
                      <a:pt x="441" y="905"/>
                    </a:lnTo>
                    <a:lnTo>
                      <a:pt x="540" y="591"/>
                    </a:lnTo>
                    <a:lnTo>
                      <a:pt x="591" y="517"/>
                    </a:lnTo>
                    <a:lnTo>
                      <a:pt x="769" y="317"/>
                    </a:lnTo>
                    <a:lnTo>
                      <a:pt x="943" y="139"/>
                    </a:lnTo>
                    <a:lnTo>
                      <a:pt x="11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0" name=""/>
              <p:cNvSpPr/>
              <p:nvPr/>
            </p:nvSpPr>
            <p:spPr>
              <a:xfrm>
                <a:off x="7151760" y="4665960"/>
                <a:ext cx="107640" cy="224640"/>
              </a:xfrm>
              <a:custGeom>
                <a:avLst/>
                <a:gdLst/>
                <a:ahLst/>
                <a:rect l="l" t="t" r="r" b="b"/>
                <a:pathLst>
                  <a:path w="1300" h="2125">
                    <a:moveTo>
                      <a:pt x="0" y="140"/>
                    </a:moveTo>
                    <a:lnTo>
                      <a:pt x="378" y="378"/>
                    </a:lnTo>
                    <a:lnTo>
                      <a:pt x="641" y="829"/>
                    </a:lnTo>
                    <a:lnTo>
                      <a:pt x="641" y="1020"/>
                    </a:lnTo>
                    <a:lnTo>
                      <a:pt x="984" y="1318"/>
                    </a:lnTo>
                    <a:lnTo>
                      <a:pt x="1111" y="1556"/>
                    </a:lnTo>
                    <a:lnTo>
                      <a:pt x="1083" y="967"/>
                    </a:lnTo>
                    <a:lnTo>
                      <a:pt x="1083" y="589"/>
                    </a:lnTo>
                    <a:lnTo>
                      <a:pt x="1111" y="327"/>
                    </a:lnTo>
                    <a:lnTo>
                      <a:pt x="1072" y="266"/>
                    </a:lnTo>
                    <a:lnTo>
                      <a:pt x="984" y="378"/>
                    </a:lnTo>
                    <a:lnTo>
                      <a:pt x="906" y="424"/>
                    </a:lnTo>
                    <a:lnTo>
                      <a:pt x="998" y="327"/>
                    </a:lnTo>
                    <a:lnTo>
                      <a:pt x="1072" y="165"/>
                    </a:lnTo>
                    <a:lnTo>
                      <a:pt x="1160" y="27"/>
                    </a:lnTo>
                    <a:lnTo>
                      <a:pt x="1212" y="0"/>
                    </a:lnTo>
                    <a:lnTo>
                      <a:pt x="1160" y="80"/>
                    </a:lnTo>
                    <a:lnTo>
                      <a:pt x="1224" y="304"/>
                    </a:lnTo>
                    <a:lnTo>
                      <a:pt x="1160" y="304"/>
                    </a:lnTo>
                    <a:lnTo>
                      <a:pt x="1146" y="516"/>
                    </a:lnTo>
                    <a:lnTo>
                      <a:pt x="1184" y="1120"/>
                    </a:lnTo>
                    <a:lnTo>
                      <a:pt x="1247" y="1723"/>
                    </a:lnTo>
                    <a:lnTo>
                      <a:pt x="1300" y="1910"/>
                    </a:lnTo>
                    <a:lnTo>
                      <a:pt x="1035" y="2059"/>
                    </a:lnTo>
                    <a:lnTo>
                      <a:pt x="1146" y="1961"/>
                    </a:lnTo>
                    <a:lnTo>
                      <a:pt x="1095" y="1881"/>
                    </a:lnTo>
                    <a:lnTo>
                      <a:pt x="971" y="1910"/>
                    </a:lnTo>
                    <a:lnTo>
                      <a:pt x="694" y="2099"/>
                    </a:lnTo>
                    <a:lnTo>
                      <a:pt x="606" y="2125"/>
                    </a:lnTo>
                    <a:lnTo>
                      <a:pt x="593" y="2086"/>
                    </a:lnTo>
                    <a:lnTo>
                      <a:pt x="756" y="1934"/>
                    </a:lnTo>
                    <a:lnTo>
                      <a:pt x="1095" y="1821"/>
                    </a:lnTo>
                    <a:lnTo>
                      <a:pt x="1045" y="1685"/>
                    </a:lnTo>
                    <a:lnTo>
                      <a:pt x="1045" y="1547"/>
                    </a:lnTo>
                    <a:lnTo>
                      <a:pt x="998" y="1470"/>
                    </a:lnTo>
                    <a:lnTo>
                      <a:pt x="606" y="1169"/>
                    </a:lnTo>
                    <a:lnTo>
                      <a:pt x="138" y="841"/>
                    </a:lnTo>
                    <a:lnTo>
                      <a:pt x="657" y="1154"/>
                    </a:lnTo>
                    <a:lnTo>
                      <a:pt x="390" y="46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1" name=""/>
              <p:cNvSpPr/>
              <p:nvPr/>
            </p:nvSpPr>
            <p:spPr>
              <a:xfrm>
                <a:off x="7217280" y="4888800"/>
                <a:ext cx="17280" cy="49680"/>
              </a:xfrm>
              <a:custGeom>
                <a:avLst/>
                <a:gdLst/>
                <a:ahLst/>
                <a:rect l="l" t="t" r="r" b="b"/>
                <a:pathLst>
                  <a:path w="203" h="466">
                    <a:moveTo>
                      <a:pt x="203" y="0"/>
                    </a:moveTo>
                    <a:lnTo>
                      <a:pt x="111" y="51"/>
                    </a:lnTo>
                    <a:lnTo>
                      <a:pt x="0" y="403"/>
                    </a:lnTo>
                    <a:lnTo>
                      <a:pt x="99" y="466"/>
                    </a:lnTo>
                    <a:lnTo>
                      <a:pt x="203" y="378"/>
                    </a:lnTo>
                    <a:lnTo>
                      <a:pt x="203" y="136"/>
                    </a:lnTo>
                    <a:lnTo>
                      <a:pt x="152" y="136"/>
                    </a:lnTo>
                    <a:lnTo>
                      <a:pt x="152" y="76"/>
                    </a:lnTo>
                    <a:lnTo>
                      <a:pt x="203"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62" name=""/>
              <p:cNvSpPr/>
              <p:nvPr/>
            </p:nvSpPr>
            <p:spPr>
              <a:xfrm>
                <a:off x="7235280" y="4876200"/>
                <a:ext cx="41760" cy="63360"/>
              </a:xfrm>
              <a:custGeom>
                <a:avLst/>
                <a:gdLst/>
                <a:ahLst/>
                <a:rect l="l" t="t" r="r" b="b"/>
                <a:pathLst>
                  <a:path w="506" h="599">
                    <a:moveTo>
                      <a:pt x="138" y="162"/>
                    </a:moveTo>
                    <a:lnTo>
                      <a:pt x="317" y="0"/>
                    </a:lnTo>
                    <a:lnTo>
                      <a:pt x="506" y="72"/>
                    </a:lnTo>
                    <a:lnTo>
                      <a:pt x="506" y="173"/>
                    </a:lnTo>
                    <a:lnTo>
                      <a:pt x="391" y="325"/>
                    </a:lnTo>
                    <a:lnTo>
                      <a:pt x="0" y="599"/>
                    </a:lnTo>
                    <a:lnTo>
                      <a:pt x="279" y="364"/>
                    </a:lnTo>
                    <a:lnTo>
                      <a:pt x="317" y="274"/>
                    </a:lnTo>
                    <a:lnTo>
                      <a:pt x="329" y="198"/>
                    </a:lnTo>
                    <a:lnTo>
                      <a:pt x="317" y="138"/>
                    </a:lnTo>
                    <a:lnTo>
                      <a:pt x="279" y="112"/>
                    </a:lnTo>
                    <a:lnTo>
                      <a:pt x="230" y="112"/>
                    </a:lnTo>
                    <a:lnTo>
                      <a:pt x="138" y="16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63" name=""/>
              <p:cNvSpPr/>
              <p:nvPr/>
            </p:nvSpPr>
            <p:spPr>
              <a:xfrm>
                <a:off x="7284240" y="4853520"/>
                <a:ext cx="257760" cy="105120"/>
              </a:xfrm>
              <a:custGeom>
                <a:avLst/>
                <a:gdLst/>
                <a:ahLst/>
                <a:rect l="l" t="t" r="r" b="b"/>
                <a:pathLst>
                  <a:path w="3106" h="992">
                    <a:moveTo>
                      <a:pt x="0" y="215"/>
                    </a:moveTo>
                    <a:lnTo>
                      <a:pt x="430" y="377"/>
                    </a:lnTo>
                    <a:lnTo>
                      <a:pt x="540" y="268"/>
                    </a:lnTo>
                    <a:lnTo>
                      <a:pt x="770" y="268"/>
                    </a:lnTo>
                    <a:lnTo>
                      <a:pt x="896" y="364"/>
                    </a:lnTo>
                    <a:lnTo>
                      <a:pt x="1010" y="327"/>
                    </a:lnTo>
                    <a:lnTo>
                      <a:pt x="1603" y="314"/>
                    </a:lnTo>
                    <a:lnTo>
                      <a:pt x="2017" y="226"/>
                    </a:lnTo>
                    <a:lnTo>
                      <a:pt x="2589" y="0"/>
                    </a:lnTo>
                    <a:lnTo>
                      <a:pt x="2663" y="49"/>
                    </a:lnTo>
                    <a:lnTo>
                      <a:pt x="2676" y="100"/>
                    </a:lnTo>
                    <a:lnTo>
                      <a:pt x="2614" y="162"/>
                    </a:lnTo>
                    <a:lnTo>
                      <a:pt x="2689" y="238"/>
                    </a:lnTo>
                    <a:lnTo>
                      <a:pt x="2713" y="302"/>
                    </a:lnTo>
                    <a:lnTo>
                      <a:pt x="2689" y="377"/>
                    </a:lnTo>
                    <a:lnTo>
                      <a:pt x="3091" y="413"/>
                    </a:lnTo>
                    <a:lnTo>
                      <a:pt x="3106" y="439"/>
                    </a:lnTo>
                    <a:lnTo>
                      <a:pt x="2689" y="461"/>
                    </a:lnTo>
                    <a:lnTo>
                      <a:pt x="2689" y="500"/>
                    </a:lnTo>
                    <a:lnTo>
                      <a:pt x="2713" y="540"/>
                    </a:lnTo>
                    <a:lnTo>
                      <a:pt x="3078" y="553"/>
                    </a:lnTo>
                    <a:lnTo>
                      <a:pt x="3043" y="602"/>
                    </a:lnTo>
                    <a:lnTo>
                      <a:pt x="2737" y="665"/>
                    </a:lnTo>
                    <a:lnTo>
                      <a:pt x="2737" y="715"/>
                    </a:lnTo>
                    <a:lnTo>
                      <a:pt x="2953" y="715"/>
                    </a:lnTo>
                    <a:lnTo>
                      <a:pt x="2977" y="680"/>
                    </a:lnTo>
                    <a:lnTo>
                      <a:pt x="2965" y="740"/>
                    </a:lnTo>
                    <a:lnTo>
                      <a:pt x="2589" y="791"/>
                    </a:lnTo>
                    <a:lnTo>
                      <a:pt x="2160" y="814"/>
                    </a:lnTo>
                    <a:lnTo>
                      <a:pt x="1992" y="814"/>
                    </a:lnTo>
                    <a:lnTo>
                      <a:pt x="1753" y="854"/>
                    </a:lnTo>
                    <a:lnTo>
                      <a:pt x="1676" y="992"/>
                    </a:lnTo>
                    <a:lnTo>
                      <a:pt x="1314" y="992"/>
                    </a:lnTo>
                    <a:lnTo>
                      <a:pt x="1641" y="953"/>
                    </a:lnTo>
                    <a:lnTo>
                      <a:pt x="1692" y="867"/>
                    </a:lnTo>
                    <a:lnTo>
                      <a:pt x="1715" y="752"/>
                    </a:lnTo>
                    <a:lnTo>
                      <a:pt x="1715" y="641"/>
                    </a:lnTo>
                    <a:lnTo>
                      <a:pt x="1676" y="489"/>
                    </a:lnTo>
                    <a:lnTo>
                      <a:pt x="1630" y="364"/>
                    </a:lnTo>
                    <a:lnTo>
                      <a:pt x="1010" y="377"/>
                    </a:lnTo>
                    <a:lnTo>
                      <a:pt x="881" y="401"/>
                    </a:lnTo>
                    <a:lnTo>
                      <a:pt x="669" y="314"/>
                    </a:lnTo>
                    <a:lnTo>
                      <a:pt x="468" y="473"/>
                    </a:lnTo>
                    <a:lnTo>
                      <a:pt x="415" y="401"/>
                    </a:lnTo>
                    <a:lnTo>
                      <a:pt x="0"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4" name=""/>
              <p:cNvSpPr/>
              <p:nvPr/>
            </p:nvSpPr>
            <p:spPr>
              <a:xfrm>
                <a:off x="7355880" y="4906800"/>
                <a:ext cx="29520" cy="15120"/>
              </a:xfrm>
              <a:custGeom>
                <a:avLst/>
                <a:gdLst/>
                <a:ahLst/>
                <a:rect l="l" t="t" r="r" b="b"/>
                <a:pathLst>
                  <a:path w="366" h="150">
                    <a:moveTo>
                      <a:pt x="366" y="114"/>
                    </a:moveTo>
                    <a:lnTo>
                      <a:pt x="200" y="0"/>
                    </a:lnTo>
                    <a:lnTo>
                      <a:pt x="0" y="40"/>
                    </a:lnTo>
                    <a:lnTo>
                      <a:pt x="38" y="93"/>
                    </a:lnTo>
                    <a:lnTo>
                      <a:pt x="302" y="150"/>
                    </a:lnTo>
                    <a:lnTo>
                      <a:pt x="366" y="11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265" name=""/>
              <p:cNvSpPr/>
              <p:nvPr/>
            </p:nvSpPr>
            <p:spPr>
              <a:xfrm>
                <a:off x="7254360" y="4642920"/>
                <a:ext cx="25560" cy="231120"/>
              </a:xfrm>
              <a:custGeom>
                <a:avLst/>
                <a:gdLst/>
                <a:ahLst/>
                <a:rect l="l" t="t" r="r" b="b"/>
                <a:pathLst>
                  <a:path w="315" h="2186">
                    <a:moveTo>
                      <a:pt x="175" y="2133"/>
                    </a:moveTo>
                    <a:lnTo>
                      <a:pt x="214" y="2085"/>
                    </a:lnTo>
                    <a:lnTo>
                      <a:pt x="214" y="1958"/>
                    </a:lnTo>
                    <a:lnTo>
                      <a:pt x="124" y="1633"/>
                    </a:lnTo>
                    <a:lnTo>
                      <a:pt x="62" y="1180"/>
                    </a:lnTo>
                    <a:lnTo>
                      <a:pt x="49" y="796"/>
                    </a:lnTo>
                    <a:lnTo>
                      <a:pt x="21" y="540"/>
                    </a:lnTo>
                    <a:lnTo>
                      <a:pt x="49" y="466"/>
                    </a:lnTo>
                    <a:lnTo>
                      <a:pt x="49" y="325"/>
                    </a:lnTo>
                    <a:lnTo>
                      <a:pt x="0" y="213"/>
                    </a:lnTo>
                    <a:lnTo>
                      <a:pt x="73" y="277"/>
                    </a:lnTo>
                    <a:lnTo>
                      <a:pt x="99" y="213"/>
                    </a:lnTo>
                    <a:lnTo>
                      <a:pt x="111" y="127"/>
                    </a:lnTo>
                    <a:lnTo>
                      <a:pt x="111" y="0"/>
                    </a:lnTo>
                    <a:lnTo>
                      <a:pt x="124" y="104"/>
                    </a:lnTo>
                    <a:lnTo>
                      <a:pt x="136" y="213"/>
                    </a:lnTo>
                    <a:lnTo>
                      <a:pt x="111" y="341"/>
                    </a:lnTo>
                    <a:lnTo>
                      <a:pt x="73" y="466"/>
                    </a:lnTo>
                    <a:lnTo>
                      <a:pt x="49" y="551"/>
                    </a:lnTo>
                    <a:lnTo>
                      <a:pt x="111" y="1292"/>
                    </a:lnTo>
                    <a:lnTo>
                      <a:pt x="185" y="1732"/>
                    </a:lnTo>
                    <a:lnTo>
                      <a:pt x="262" y="1958"/>
                    </a:lnTo>
                    <a:lnTo>
                      <a:pt x="315" y="2186"/>
                    </a:lnTo>
                    <a:lnTo>
                      <a:pt x="175"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6" name=""/>
              <p:cNvSpPr/>
              <p:nvPr/>
            </p:nvSpPr>
            <p:spPr>
              <a:xfrm>
                <a:off x="7281000" y="4626000"/>
                <a:ext cx="143640" cy="259920"/>
              </a:xfrm>
              <a:custGeom>
                <a:avLst/>
                <a:gdLst/>
                <a:ahLst/>
                <a:rect l="l" t="t" r="r" b="b"/>
                <a:pathLst>
                  <a:path w="1731" h="2462">
                    <a:moveTo>
                      <a:pt x="152" y="0"/>
                    </a:moveTo>
                    <a:lnTo>
                      <a:pt x="379" y="203"/>
                    </a:lnTo>
                    <a:lnTo>
                      <a:pt x="440" y="376"/>
                    </a:lnTo>
                    <a:lnTo>
                      <a:pt x="480" y="541"/>
                    </a:lnTo>
                    <a:lnTo>
                      <a:pt x="480" y="800"/>
                    </a:lnTo>
                    <a:lnTo>
                      <a:pt x="368" y="1646"/>
                    </a:lnTo>
                    <a:lnTo>
                      <a:pt x="267" y="1747"/>
                    </a:lnTo>
                    <a:lnTo>
                      <a:pt x="0" y="1784"/>
                    </a:lnTo>
                    <a:lnTo>
                      <a:pt x="368" y="1772"/>
                    </a:lnTo>
                    <a:lnTo>
                      <a:pt x="254" y="2450"/>
                    </a:lnTo>
                    <a:lnTo>
                      <a:pt x="278" y="2462"/>
                    </a:lnTo>
                    <a:lnTo>
                      <a:pt x="406" y="1881"/>
                    </a:lnTo>
                    <a:lnTo>
                      <a:pt x="883" y="2273"/>
                    </a:lnTo>
                    <a:lnTo>
                      <a:pt x="996" y="2273"/>
                    </a:lnTo>
                    <a:lnTo>
                      <a:pt x="1174" y="2185"/>
                    </a:lnTo>
                    <a:lnTo>
                      <a:pt x="1363" y="2035"/>
                    </a:lnTo>
                    <a:lnTo>
                      <a:pt x="1500" y="1895"/>
                    </a:lnTo>
                    <a:lnTo>
                      <a:pt x="1603" y="1759"/>
                    </a:lnTo>
                    <a:lnTo>
                      <a:pt x="1462" y="1881"/>
                    </a:lnTo>
                    <a:lnTo>
                      <a:pt x="1363" y="1809"/>
                    </a:lnTo>
                    <a:lnTo>
                      <a:pt x="1480" y="1734"/>
                    </a:lnTo>
                    <a:lnTo>
                      <a:pt x="1238" y="1809"/>
                    </a:lnTo>
                    <a:lnTo>
                      <a:pt x="950" y="1846"/>
                    </a:lnTo>
                    <a:lnTo>
                      <a:pt x="669" y="1846"/>
                    </a:lnTo>
                    <a:lnTo>
                      <a:pt x="555" y="1846"/>
                    </a:lnTo>
                    <a:lnTo>
                      <a:pt x="469" y="1784"/>
                    </a:lnTo>
                    <a:lnTo>
                      <a:pt x="647" y="1708"/>
                    </a:lnTo>
                    <a:lnTo>
                      <a:pt x="1012" y="1708"/>
                    </a:lnTo>
                    <a:lnTo>
                      <a:pt x="1300" y="1545"/>
                    </a:lnTo>
                    <a:lnTo>
                      <a:pt x="1012" y="1631"/>
                    </a:lnTo>
                    <a:lnTo>
                      <a:pt x="647" y="1631"/>
                    </a:lnTo>
                    <a:lnTo>
                      <a:pt x="440" y="1685"/>
                    </a:lnTo>
                    <a:lnTo>
                      <a:pt x="440" y="1496"/>
                    </a:lnTo>
                    <a:lnTo>
                      <a:pt x="987" y="1409"/>
                    </a:lnTo>
                    <a:lnTo>
                      <a:pt x="781" y="892"/>
                    </a:lnTo>
                    <a:lnTo>
                      <a:pt x="555" y="592"/>
                    </a:lnTo>
                    <a:lnTo>
                      <a:pt x="555" y="415"/>
                    </a:lnTo>
                    <a:lnTo>
                      <a:pt x="1570" y="1444"/>
                    </a:lnTo>
                    <a:lnTo>
                      <a:pt x="1731" y="1519"/>
                    </a:lnTo>
                    <a:lnTo>
                      <a:pt x="1642" y="1332"/>
                    </a:lnTo>
                    <a:lnTo>
                      <a:pt x="733" y="477"/>
                    </a:lnTo>
                    <a:lnTo>
                      <a:pt x="620" y="267"/>
                    </a:lnTo>
                    <a:lnTo>
                      <a:pt x="304" y="51"/>
                    </a:lnTo>
                    <a:lnTo>
                      <a:pt x="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7" name=""/>
              <p:cNvSpPr/>
              <p:nvPr/>
            </p:nvSpPr>
            <p:spPr>
              <a:xfrm>
                <a:off x="7367040" y="4826160"/>
                <a:ext cx="64800" cy="61560"/>
              </a:xfrm>
              <a:custGeom>
                <a:avLst/>
                <a:gdLst/>
                <a:ahLst/>
                <a:rect l="l" t="t" r="r" b="b"/>
                <a:pathLst>
                  <a:path w="783" h="580">
                    <a:moveTo>
                      <a:pt x="0" y="442"/>
                    </a:moveTo>
                    <a:lnTo>
                      <a:pt x="317" y="378"/>
                    </a:lnTo>
                    <a:lnTo>
                      <a:pt x="670" y="580"/>
                    </a:lnTo>
                    <a:lnTo>
                      <a:pt x="783" y="540"/>
                    </a:lnTo>
                    <a:lnTo>
                      <a:pt x="504" y="378"/>
                    </a:lnTo>
                    <a:lnTo>
                      <a:pt x="619" y="166"/>
                    </a:lnTo>
                    <a:lnTo>
                      <a:pt x="619" y="0"/>
                    </a:lnTo>
                    <a:lnTo>
                      <a:pt x="402" y="265"/>
                    </a:lnTo>
                    <a:lnTo>
                      <a:pt x="216" y="362"/>
                    </a:lnTo>
                    <a:lnTo>
                      <a:pt x="0" y="44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68" name=""/>
              <p:cNvSpPr/>
              <p:nvPr/>
            </p:nvSpPr>
            <p:spPr>
              <a:xfrm>
                <a:off x="7414200" y="4782960"/>
                <a:ext cx="81360" cy="74520"/>
              </a:xfrm>
              <a:custGeom>
                <a:avLst/>
                <a:gdLst/>
                <a:ahLst/>
                <a:rect l="l" t="t" r="r" b="b"/>
                <a:pathLst>
                  <a:path w="984" h="703">
                    <a:moveTo>
                      <a:pt x="189" y="314"/>
                    </a:moveTo>
                    <a:lnTo>
                      <a:pt x="367" y="212"/>
                    </a:lnTo>
                    <a:lnTo>
                      <a:pt x="744" y="364"/>
                    </a:lnTo>
                    <a:lnTo>
                      <a:pt x="744" y="500"/>
                    </a:lnTo>
                    <a:lnTo>
                      <a:pt x="442" y="579"/>
                    </a:lnTo>
                    <a:lnTo>
                      <a:pt x="809" y="567"/>
                    </a:lnTo>
                    <a:lnTo>
                      <a:pt x="984" y="703"/>
                    </a:lnTo>
                    <a:lnTo>
                      <a:pt x="870" y="450"/>
                    </a:lnTo>
                    <a:lnTo>
                      <a:pt x="707" y="265"/>
                    </a:lnTo>
                    <a:lnTo>
                      <a:pt x="343" y="164"/>
                    </a:lnTo>
                    <a:lnTo>
                      <a:pt x="202" y="0"/>
                    </a:lnTo>
                    <a:lnTo>
                      <a:pt x="0" y="164"/>
                    </a:lnTo>
                    <a:lnTo>
                      <a:pt x="178" y="63"/>
                    </a:lnTo>
                    <a:lnTo>
                      <a:pt x="239" y="149"/>
                    </a:lnTo>
                    <a:lnTo>
                      <a:pt x="189" y="3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69" name=""/>
              <p:cNvSpPr/>
              <p:nvPr/>
            </p:nvSpPr>
            <p:spPr>
              <a:xfrm>
                <a:off x="7500960" y="4851720"/>
                <a:ext cx="48240" cy="43920"/>
              </a:xfrm>
              <a:custGeom>
                <a:avLst/>
                <a:gdLst/>
                <a:ahLst/>
                <a:rect l="l" t="t" r="r" b="b"/>
                <a:pathLst>
                  <a:path w="581" h="415">
                    <a:moveTo>
                      <a:pt x="22" y="0"/>
                    </a:moveTo>
                    <a:lnTo>
                      <a:pt x="464" y="37"/>
                    </a:lnTo>
                    <a:lnTo>
                      <a:pt x="581" y="240"/>
                    </a:lnTo>
                    <a:lnTo>
                      <a:pt x="581" y="288"/>
                    </a:lnTo>
                    <a:lnTo>
                      <a:pt x="492" y="316"/>
                    </a:lnTo>
                    <a:lnTo>
                      <a:pt x="363" y="240"/>
                    </a:lnTo>
                    <a:lnTo>
                      <a:pt x="187" y="240"/>
                    </a:lnTo>
                    <a:lnTo>
                      <a:pt x="477" y="351"/>
                    </a:lnTo>
                    <a:lnTo>
                      <a:pt x="492" y="415"/>
                    </a:lnTo>
                    <a:lnTo>
                      <a:pt x="453" y="367"/>
                    </a:lnTo>
                    <a:lnTo>
                      <a:pt x="22" y="229"/>
                    </a:lnTo>
                    <a:lnTo>
                      <a:pt x="0" y="192"/>
                    </a:lnTo>
                    <a:lnTo>
                      <a:pt x="464" y="176"/>
                    </a:lnTo>
                    <a:lnTo>
                      <a:pt x="453" y="75"/>
                    </a:lnTo>
                    <a:lnTo>
                      <a:pt x="22"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70" name=""/>
              <p:cNvSpPr/>
              <p:nvPr/>
            </p:nvSpPr>
            <p:spPr>
              <a:xfrm>
                <a:off x="7524720" y="4890600"/>
                <a:ext cx="19080" cy="37080"/>
              </a:xfrm>
              <a:custGeom>
                <a:avLst/>
                <a:gdLst/>
                <a:ahLst/>
                <a:rect l="l" t="t" r="r" b="b"/>
                <a:pathLst>
                  <a:path w="228" h="352">
                    <a:moveTo>
                      <a:pt x="186" y="99"/>
                    </a:moveTo>
                    <a:lnTo>
                      <a:pt x="186" y="163"/>
                    </a:lnTo>
                    <a:lnTo>
                      <a:pt x="96" y="210"/>
                    </a:lnTo>
                    <a:lnTo>
                      <a:pt x="0" y="275"/>
                    </a:lnTo>
                    <a:lnTo>
                      <a:pt x="72" y="352"/>
                    </a:lnTo>
                    <a:lnTo>
                      <a:pt x="125" y="249"/>
                    </a:lnTo>
                    <a:lnTo>
                      <a:pt x="228" y="187"/>
                    </a:lnTo>
                    <a:lnTo>
                      <a:pt x="228" y="74"/>
                    </a:lnTo>
                    <a:lnTo>
                      <a:pt x="186" y="0"/>
                    </a:lnTo>
                    <a:lnTo>
                      <a:pt x="186" y="9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71" name=""/>
              <p:cNvSpPr/>
              <p:nvPr/>
            </p:nvSpPr>
            <p:spPr>
              <a:xfrm>
                <a:off x="7530840" y="4874400"/>
                <a:ext cx="30240" cy="55080"/>
              </a:xfrm>
              <a:custGeom>
                <a:avLst/>
                <a:gdLst/>
                <a:ahLst/>
                <a:rect l="l" t="t" r="r" b="b"/>
                <a:pathLst>
                  <a:path w="369" h="514">
                    <a:moveTo>
                      <a:pt x="129" y="71"/>
                    </a:moveTo>
                    <a:lnTo>
                      <a:pt x="325" y="396"/>
                    </a:lnTo>
                    <a:lnTo>
                      <a:pt x="369" y="514"/>
                    </a:lnTo>
                    <a:lnTo>
                      <a:pt x="269" y="429"/>
                    </a:lnTo>
                    <a:lnTo>
                      <a:pt x="0" y="0"/>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72" name=""/>
              <p:cNvSpPr/>
              <p:nvPr/>
            </p:nvSpPr>
            <p:spPr>
              <a:xfrm>
                <a:off x="7495200" y="4795560"/>
                <a:ext cx="33480" cy="60840"/>
              </a:xfrm>
              <a:custGeom>
                <a:avLst/>
                <a:gdLst/>
                <a:ahLst/>
                <a:rect l="l" t="t" r="r" b="b"/>
                <a:pathLst>
                  <a:path w="413" h="576">
                    <a:moveTo>
                      <a:pt x="319" y="558"/>
                    </a:moveTo>
                    <a:lnTo>
                      <a:pt x="0" y="46"/>
                    </a:lnTo>
                    <a:lnTo>
                      <a:pt x="0" y="23"/>
                    </a:lnTo>
                    <a:lnTo>
                      <a:pt x="0" y="14"/>
                    </a:lnTo>
                    <a:lnTo>
                      <a:pt x="22" y="0"/>
                    </a:lnTo>
                    <a:lnTo>
                      <a:pt x="37" y="0"/>
                    </a:lnTo>
                    <a:lnTo>
                      <a:pt x="59" y="5"/>
                    </a:lnTo>
                    <a:lnTo>
                      <a:pt x="413" y="576"/>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273" name=""/>
              <p:cNvSpPr/>
              <p:nvPr/>
            </p:nvSpPr>
            <p:spPr>
              <a:xfrm>
                <a:off x="7442640" y="4858200"/>
                <a:ext cx="39600" cy="26280"/>
              </a:xfrm>
              <a:custGeom>
                <a:avLst/>
                <a:gdLst/>
                <a:ahLst/>
                <a:rect l="l" t="t" r="r" b="b"/>
                <a:pathLst>
                  <a:path w="477" h="244">
                    <a:moveTo>
                      <a:pt x="67" y="181"/>
                    </a:moveTo>
                    <a:lnTo>
                      <a:pt x="99" y="82"/>
                    </a:lnTo>
                    <a:lnTo>
                      <a:pt x="180" y="34"/>
                    </a:lnTo>
                    <a:lnTo>
                      <a:pt x="279" y="34"/>
                    </a:lnTo>
                    <a:lnTo>
                      <a:pt x="427" y="62"/>
                    </a:lnTo>
                    <a:lnTo>
                      <a:pt x="477" y="34"/>
                    </a:lnTo>
                    <a:lnTo>
                      <a:pt x="310" y="0"/>
                    </a:lnTo>
                    <a:lnTo>
                      <a:pt x="198" y="0"/>
                    </a:lnTo>
                    <a:lnTo>
                      <a:pt x="99" y="34"/>
                    </a:lnTo>
                    <a:lnTo>
                      <a:pt x="51" y="99"/>
                    </a:lnTo>
                    <a:lnTo>
                      <a:pt x="0" y="244"/>
                    </a:lnTo>
                    <a:lnTo>
                      <a:pt x="67" y="18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74" name=""/>
              <p:cNvSpPr/>
              <p:nvPr/>
            </p:nvSpPr>
            <p:spPr>
              <a:xfrm>
                <a:off x="7412400" y="4357440"/>
                <a:ext cx="133560" cy="209160"/>
              </a:xfrm>
              <a:custGeom>
                <a:avLst/>
                <a:gdLst/>
                <a:ahLst/>
                <a:rect l="l" t="t" r="r" b="b"/>
                <a:pathLst>
                  <a:path w="1617" h="1969">
                    <a:moveTo>
                      <a:pt x="1578" y="822"/>
                    </a:moveTo>
                    <a:lnTo>
                      <a:pt x="1615" y="694"/>
                    </a:lnTo>
                    <a:lnTo>
                      <a:pt x="1617" y="512"/>
                    </a:lnTo>
                    <a:lnTo>
                      <a:pt x="1573" y="350"/>
                    </a:lnTo>
                    <a:lnTo>
                      <a:pt x="1506" y="233"/>
                    </a:lnTo>
                    <a:lnTo>
                      <a:pt x="1413" y="123"/>
                    </a:lnTo>
                    <a:lnTo>
                      <a:pt x="1275" y="48"/>
                    </a:lnTo>
                    <a:lnTo>
                      <a:pt x="980" y="0"/>
                    </a:lnTo>
                    <a:lnTo>
                      <a:pt x="710" y="73"/>
                    </a:lnTo>
                    <a:lnTo>
                      <a:pt x="565" y="198"/>
                    </a:lnTo>
                    <a:lnTo>
                      <a:pt x="439" y="417"/>
                    </a:lnTo>
                    <a:lnTo>
                      <a:pt x="404" y="631"/>
                    </a:lnTo>
                    <a:lnTo>
                      <a:pt x="351" y="818"/>
                    </a:lnTo>
                    <a:lnTo>
                      <a:pt x="356" y="910"/>
                    </a:lnTo>
                    <a:lnTo>
                      <a:pt x="404" y="1026"/>
                    </a:lnTo>
                    <a:lnTo>
                      <a:pt x="393" y="1095"/>
                    </a:lnTo>
                    <a:lnTo>
                      <a:pt x="268" y="1185"/>
                    </a:lnTo>
                    <a:lnTo>
                      <a:pt x="171" y="1270"/>
                    </a:lnTo>
                    <a:lnTo>
                      <a:pt x="106" y="1411"/>
                    </a:lnTo>
                    <a:lnTo>
                      <a:pt x="106" y="1484"/>
                    </a:lnTo>
                    <a:lnTo>
                      <a:pt x="116" y="1554"/>
                    </a:lnTo>
                    <a:lnTo>
                      <a:pt x="130" y="1597"/>
                    </a:lnTo>
                    <a:lnTo>
                      <a:pt x="112" y="1653"/>
                    </a:lnTo>
                    <a:lnTo>
                      <a:pt x="0" y="1754"/>
                    </a:lnTo>
                    <a:lnTo>
                      <a:pt x="160" y="1712"/>
                    </a:lnTo>
                    <a:lnTo>
                      <a:pt x="347" y="1657"/>
                    </a:lnTo>
                    <a:lnTo>
                      <a:pt x="415" y="1861"/>
                    </a:lnTo>
                    <a:lnTo>
                      <a:pt x="479" y="1969"/>
                    </a:lnTo>
                    <a:lnTo>
                      <a:pt x="450" y="1872"/>
                    </a:lnTo>
                    <a:lnTo>
                      <a:pt x="450" y="1800"/>
                    </a:lnTo>
                    <a:lnTo>
                      <a:pt x="468" y="1758"/>
                    </a:lnTo>
                    <a:lnTo>
                      <a:pt x="505" y="1754"/>
                    </a:lnTo>
                    <a:lnTo>
                      <a:pt x="565" y="1769"/>
                    </a:lnTo>
                    <a:lnTo>
                      <a:pt x="628" y="1826"/>
                    </a:lnTo>
                    <a:lnTo>
                      <a:pt x="685" y="1904"/>
                    </a:lnTo>
                    <a:lnTo>
                      <a:pt x="639" y="1754"/>
                    </a:lnTo>
                    <a:lnTo>
                      <a:pt x="618" y="1641"/>
                    </a:lnTo>
                    <a:lnTo>
                      <a:pt x="604" y="1507"/>
                    </a:lnTo>
                    <a:lnTo>
                      <a:pt x="611" y="1411"/>
                    </a:lnTo>
                    <a:lnTo>
                      <a:pt x="674" y="1507"/>
                    </a:lnTo>
                    <a:lnTo>
                      <a:pt x="765" y="1593"/>
                    </a:lnTo>
                    <a:lnTo>
                      <a:pt x="870" y="1666"/>
                    </a:lnTo>
                    <a:lnTo>
                      <a:pt x="980" y="1703"/>
                    </a:lnTo>
                    <a:lnTo>
                      <a:pt x="888" y="1666"/>
                    </a:lnTo>
                    <a:lnTo>
                      <a:pt x="802" y="1613"/>
                    </a:lnTo>
                    <a:lnTo>
                      <a:pt x="717" y="1533"/>
                    </a:lnTo>
                    <a:lnTo>
                      <a:pt x="671" y="1466"/>
                    </a:lnTo>
                    <a:lnTo>
                      <a:pt x="632" y="1399"/>
                    </a:lnTo>
                    <a:lnTo>
                      <a:pt x="618" y="1339"/>
                    </a:lnTo>
                    <a:lnTo>
                      <a:pt x="611" y="1261"/>
                    </a:lnTo>
                    <a:lnTo>
                      <a:pt x="598" y="1180"/>
                    </a:lnTo>
                    <a:lnTo>
                      <a:pt x="591" y="1042"/>
                    </a:lnTo>
                    <a:lnTo>
                      <a:pt x="584" y="1237"/>
                    </a:lnTo>
                    <a:lnTo>
                      <a:pt x="569" y="1261"/>
                    </a:lnTo>
                    <a:lnTo>
                      <a:pt x="538" y="1277"/>
                    </a:lnTo>
                    <a:lnTo>
                      <a:pt x="499" y="1261"/>
                    </a:lnTo>
                    <a:lnTo>
                      <a:pt x="479" y="1217"/>
                    </a:lnTo>
                    <a:lnTo>
                      <a:pt x="479" y="1167"/>
                    </a:lnTo>
                    <a:lnTo>
                      <a:pt x="494" y="1114"/>
                    </a:lnTo>
                    <a:lnTo>
                      <a:pt x="523" y="1072"/>
                    </a:lnTo>
                    <a:lnTo>
                      <a:pt x="487" y="1092"/>
                    </a:lnTo>
                    <a:lnTo>
                      <a:pt x="429" y="963"/>
                    </a:lnTo>
                    <a:lnTo>
                      <a:pt x="411" y="910"/>
                    </a:lnTo>
                    <a:lnTo>
                      <a:pt x="404" y="853"/>
                    </a:lnTo>
                    <a:lnTo>
                      <a:pt x="411" y="804"/>
                    </a:lnTo>
                    <a:lnTo>
                      <a:pt x="436" y="776"/>
                    </a:lnTo>
                    <a:lnTo>
                      <a:pt x="461" y="751"/>
                    </a:lnTo>
                    <a:lnTo>
                      <a:pt x="487" y="751"/>
                    </a:lnTo>
                    <a:lnTo>
                      <a:pt x="514" y="767"/>
                    </a:lnTo>
                    <a:lnTo>
                      <a:pt x="538" y="804"/>
                    </a:lnTo>
                    <a:lnTo>
                      <a:pt x="565" y="890"/>
                    </a:lnTo>
                    <a:lnTo>
                      <a:pt x="574" y="782"/>
                    </a:lnTo>
                    <a:lnTo>
                      <a:pt x="622" y="687"/>
                    </a:lnTo>
                    <a:lnTo>
                      <a:pt x="697" y="549"/>
                    </a:lnTo>
                    <a:lnTo>
                      <a:pt x="741" y="435"/>
                    </a:lnTo>
                    <a:lnTo>
                      <a:pt x="798" y="354"/>
                    </a:lnTo>
                    <a:lnTo>
                      <a:pt x="888" y="304"/>
                    </a:lnTo>
                    <a:lnTo>
                      <a:pt x="1038" y="286"/>
                    </a:lnTo>
                    <a:lnTo>
                      <a:pt x="1195" y="304"/>
                    </a:lnTo>
                    <a:lnTo>
                      <a:pt x="1393" y="343"/>
                    </a:lnTo>
                    <a:lnTo>
                      <a:pt x="1470" y="406"/>
                    </a:lnTo>
                    <a:lnTo>
                      <a:pt x="1520" y="519"/>
                    </a:lnTo>
                    <a:lnTo>
                      <a:pt x="1549" y="641"/>
                    </a:lnTo>
                    <a:lnTo>
                      <a:pt x="1569" y="883"/>
                    </a:lnTo>
                    <a:lnTo>
                      <a:pt x="1578" y="8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5" name=""/>
              <p:cNvSpPr/>
              <p:nvPr/>
            </p:nvSpPr>
            <p:spPr>
              <a:xfrm>
                <a:off x="7474320" y="4461840"/>
                <a:ext cx="67320" cy="124560"/>
              </a:xfrm>
              <a:custGeom>
                <a:avLst/>
                <a:gdLst/>
                <a:ahLst/>
                <a:rect l="l" t="t" r="r" b="b"/>
                <a:pathLst>
                  <a:path w="817" h="1173">
                    <a:moveTo>
                      <a:pt x="817" y="0"/>
                    </a:moveTo>
                    <a:lnTo>
                      <a:pt x="786" y="103"/>
                    </a:lnTo>
                    <a:lnTo>
                      <a:pt x="718" y="359"/>
                    </a:lnTo>
                    <a:lnTo>
                      <a:pt x="634" y="514"/>
                    </a:lnTo>
                    <a:lnTo>
                      <a:pt x="569" y="608"/>
                    </a:lnTo>
                    <a:lnTo>
                      <a:pt x="481" y="703"/>
                    </a:lnTo>
                    <a:lnTo>
                      <a:pt x="417" y="723"/>
                    </a:lnTo>
                    <a:lnTo>
                      <a:pt x="305" y="732"/>
                    </a:lnTo>
                    <a:lnTo>
                      <a:pt x="187" y="707"/>
                    </a:lnTo>
                    <a:lnTo>
                      <a:pt x="94" y="661"/>
                    </a:lnTo>
                    <a:lnTo>
                      <a:pt x="0" y="596"/>
                    </a:lnTo>
                    <a:lnTo>
                      <a:pt x="57" y="692"/>
                    </a:lnTo>
                    <a:lnTo>
                      <a:pt x="136" y="758"/>
                    </a:lnTo>
                    <a:lnTo>
                      <a:pt x="206" y="800"/>
                    </a:lnTo>
                    <a:lnTo>
                      <a:pt x="300" y="825"/>
                    </a:lnTo>
                    <a:lnTo>
                      <a:pt x="380" y="825"/>
                    </a:lnTo>
                    <a:lnTo>
                      <a:pt x="329" y="1173"/>
                    </a:lnTo>
                    <a:lnTo>
                      <a:pt x="376" y="1064"/>
                    </a:lnTo>
                    <a:lnTo>
                      <a:pt x="443" y="795"/>
                    </a:lnTo>
                    <a:lnTo>
                      <a:pt x="477" y="747"/>
                    </a:lnTo>
                    <a:lnTo>
                      <a:pt x="527" y="820"/>
                    </a:lnTo>
                    <a:lnTo>
                      <a:pt x="574" y="940"/>
                    </a:lnTo>
                    <a:lnTo>
                      <a:pt x="551" y="800"/>
                    </a:lnTo>
                    <a:lnTo>
                      <a:pt x="503" y="707"/>
                    </a:lnTo>
                    <a:lnTo>
                      <a:pt x="579" y="617"/>
                    </a:lnTo>
                    <a:lnTo>
                      <a:pt x="668" y="493"/>
                    </a:lnTo>
                    <a:lnTo>
                      <a:pt x="720" y="373"/>
                    </a:lnTo>
                    <a:lnTo>
                      <a:pt x="754" y="286"/>
                    </a:lnTo>
                    <a:lnTo>
                      <a:pt x="793" y="115"/>
                    </a:lnTo>
                    <a:lnTo>
                      <a:pt x="8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6" name=""/>
              <p:cNvSpPr/>
              <p:nvPr/>
            </p:nvSpPr>
            <p:spPr>
              <a:xfrm>
                <a:off x="7448760" y="4443840"/>
                <a:ext cx="7920" cy="22680"/>
              </a:xfrm>
              <a:custGeom>
                <a:avLst/>
                <a:gdLst/>
                <a:ahLst/>
                <a:rect l="l" t="t" r="r" b="b"/>
                <a:pathLst>
                  <a:path w="99" h="215">
                    <a:moveTo>
                      <a:pt x="11" y="0"/>
                    </a:moveTo>
                    <a:lnTo>
                      <a:pt x="48" y="7"/>
                    </a:lnTo>
                    <a:lnTo>
                      <a:pt x="91" y="60"/>
                    </a:lnTo>
                    <a:lnTo>
                      <a:pt x="99" y="111"/>
                    </a:lnTo>
                    <a:lnTo>
                      <a:pt x="94" y="145"/>
                    </a:lnTo>
                    <a:lnTo>
                      <a:pt x="60" y="162"/>
                    </a:lnTo>
                    <a:lnTo>
                      <a:pt x="55" y="180"/>
                    </a:lnTo>
                    <a:lnTo>
                      <a:pt x="73" y="215"/>
                    </a:lnTo>
                    <a:lnTo>
                      <a:pt x="22" y="169"/>
                    </a:lnTo>
                    <a:lnTo>
                      <a:pt x="22" y="145"/>
                    </a:lnTo>
                    <a:lnTo>
                      <a:pt x="36" y="123"/>
                    </a:lnTo>
                    <a:lnTo>
                      <a:pt x="55" y="106"/>
                    </a:lnTo>
                    <a:lnTo>
                      <a:pt x="84" y="92"/>
                    </a:lnTo>
                    <a:lnTo>
                      <a:pt x="73" y="65"/>
                    </a:lnTo>
                    <a:lnTo>
                      <a:pt x="60" y="42"/>
                    </a:lnTo>
                    <a:lnTo>
                      <a:pt x="36" y="28"/>
                    </a:lnTo>
                    <a:lnTo>
                      <a:pt x="11" y="60"/>
                    </a:lnTo>
                    <a:lnTo>
                      <a:pt x="11" y="79"/>
                    </a:lnTo>
                    <a:lnTo>
                      <a:pt x="0" y="53"/>
                    </a:lnTo>
                    <a:lnTo>
                      <a:pt x="0" y="17"/>
                    </a:lnTo>
                    <a:lnTo>
                      <a:pt x="11"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277" name=""/>
              <p:cNvSpPr/>
              <p:nvPr/>
            </p:nvSpPr>
            <p:spPr>
              <a:xfrm>
                <a:off x="7459200" y="4451760"/>
                <a:ext cx="360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78" name=""/>
              <p:cNvSpPr/>
              <p:nvPr/>
            </p:nvSpPr>
            <p:spPr>
              <a:xfrm>
                <a:off x="7461360" y="4455720"/>
                <a:ext cx="50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279" name=""/>
              <p:cNvSpPr/>
              <p:nvPr/>
            </p:nvSpPr>
            <p:spPr>
              <a:xfrm>
                <a:off x="7466040" y="4470120"/>
                <a:ext cx="32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80" name=""/>
              <p:cNvSpPr/>
              <p:nvPr/>
            </p:nvSpPr>
            <p:spPr>
              <a:xfrm>
                <a:off x="7452000" y="4473360"/>
                <a:ext cx="5760" cy="16560"/>
              </a:xfrm>
              <a:custGeom>
                <a:avLst/>
                <a:gdLst/>
                <a:ahLst/>
                <a:rect l="l" t="t" r="r" b="b"/>
                <a:pathLst>
                  <a:path w="77" h="162">
                    <a:moveTo>
                      <a:pt x="33" y="0"/>
                    </a:moveTo>
                    <a:lnTo>
                      <a:pt x="59" y="28"/>
                    </a:lnTo>
                    <a:lnTo>
                      <a:pt x="72" y="63"/>
                    </a:lnTo>
                    <a:lnTo>
                      <a:pt x="77" y="112"/>
                    </a:lnTo>
                    <a:lnTo>
                      <a:pt x="72" y="145"/>
                    </a:lnTo>
                    <a:lnTo>
                      <a:pt x="54" y="158"/>
                    </a:lnTo>
                    <a:lnTo>
                      <a:pt x="33" y="162"/>
                    </a:lnTo>
                    <a:lnTo>
                      <a:pt x="8" y="158"/>
                    </a:lnTo>
                    <a:lnTo>
                      <a:pt x="0" y="116"/>
                    </a:lnTo>
                    <a:lnTo>
                      <a:pt x="44" y="123"/>
                    </a:lnTo>
                    <a:lnTo>
                      <a:pt x="51" y="88"/>
                    </a:lnTo>
                    <a:lnTo>
                      <a:pt x="59" y="63"/>
                    </a:lnTo>
                    <a:lnTo>
                      <a:pt x="54" y="37"/>
                    </a:lnTo>
                    <a:lnTo>
                      <a:pt x="33"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281" name=""/>
              <p:cNvSpPr/>
              <p:nvPr/>
            </p:nvSpPr>
            <p:spPr>
              <a:xfrm>
                <a:off x="7360560" y="4528800"/>
                <a:ext cx="235800" cy="159120"/>
              </a:xfrm>
              <a:custGeom>
                <a:avLst/>
                <a:gdLst/>
                <a:ahLst/>
                <a:rect l="l" t="t" r="r" b="b"/>
                <a:pathLst>
                  <a:path w="2847" h="1510">
                    <a:moveTo>
                      <a:pt x="1072" y="246"/>
                    </a:moveTo>
                    <a:lnTo>
                      <a:pt x="1129" y="369"/>
                    </a:lnTo>
                    <a:lnTo>
                      <a:pt x="1228" y="441"/>
                    </a:lnTo>
                    <a:lnTo>
                      <a:pt x="1369" y="516"/>
                    </a:lnTo>
                    <a:lnTo>
                      <a:pt x="1558" y="567"/>
                    </a:lnTo>
                    <a:lnTo>
                      <a:pt x="1798" y="606"/>
                    </a:lnTo>
                    <a:lnTo>
                      <a:pt x="1903" y="576"/>
                    </a:lnTo>
                    <a:lnTo>
                      <a:pt x="1945" y="507"/>
                    </a:lnTo>
                    <a:lnTo>
                      <a:pt x="1969" y="408"/>
                    </a:lnTo>
                    <a:lnTo>
                      <a:pt x="1969" y="345"/>
                    </a:lnTo>
                    <a:lnTo>
                      <a:pt x="1929" y="239"/>
                    </a:lnTo>
                    <a:lnTo>
                      <a:pt x="1890" y="171"/>
                    </a:lnTo>
                    <a:lnTo>
                      <a:pt x="1839" y="120"/>
                    </a:lnTo>
                    <a:lnTo>
                      <a:pt x="1903" y="32"/>
                    </a:lnTo>
                    <a:lnTo>
                      <a:pt x="1945" y="0"/>
                    </a:lnTo>
                    <a:lnTo>
                      <a:pt x="2160" y="113"/>
                    </a:lnTo>
                    <a:lnTo>
                      <a:pt x="2400" y="162"/>
                    </a:lnTo>
                    <a:lnTo>
                      <a:pt x="2630" y="252"/>
                    </a:lnTo>
                    <a:lnTo>
                      <a:pt x="2847" y="378"/>
                    </a:lnTo>
                    <a:lnTo>
                      <a:pt x="2556" y="252"/>
                    </a:lnTo>
                    <a:lnTo>
                      <a:pt x="2342" y="191"/>
                    </a:lnTo>
                    <a:lnTo>
                      <a:pt x="2202" y="171"/>
                    </a:lnTo>
                    <a:lnTo>
                      <a:pt x="2052" y="171"/>
                    </a:lnTo>
                    <a:lnTo>
                      <a:pt x="1987" y="215"/>
                    </a:lnTo>
                    <a:lnTo>
                      <a:pt x="2004" y="387"/>
                    </a:lnTo>
                    <a:lnTo>
                      <a:pt x="1987" y="484"/>
                    </a:lnTo>
                    <a:lnTo>
                      <a:pt x="1953" y="590"/>
                    </a:lnTo>
                    <a:lnTo>
                      <a:pt x="1903" y="655"/>
                    </a:lnTo>
                    <a:lnTo>
                      <a:pt x="1789" y="760"/>
                    </a:lnTo>
                    <a:lnTo>
                      <a:pt x="1789" y="707"/>
                    </a:lnTo>
                    <a:lnTo>
                      <a:pt x="1749" y="673"/>
                    </a:lnTo>
                    <a:lnTo>
                      <a:pt x="1708" y="687"/>
                    </a:lnTo>
                    <a:lnTo>
                      <a:pt x="1696" y="738"/>
                    </a:lnTo>
                    <a:lnTo>
                      <a:pt x="1720" y="770"/>
                    </a:lnTo>
                    <a:lnTo>
                      <a:pt x="1756" y="779"/>
                    </a:lnTo>
                    <a:lnTo>
                      <a:pt x="1731" y="813"/>
                    </a:lnTo>
                    <a:lnTo>
                      <a:pt x="1674" y="802"/>
                    </a:lnTo>
                    <a:lnTo>
                      <a:pt x="1648" y="760"/>
                    </a:lnTo>
                    <a:lnTo>
                      <a:pt x="1659" y="707"/>
                    </a:lnTo>
                    <a:lnTo>
                      <a:pt x="1681" y="666"/>
                    </a:lnTo>
                    <a:lnTo>
                      <a:pt x="1720" y="648"/>
                    </a:lnTo>
                    <a:lnTo>
                      <a:pt x="1780" y="624"/>
                    </a:lnTo>
                    <a:lnTo>
                      <a:pt x="1433" y="567"/>
                    </a:lnTo>
                    <a:lnTo>
                      <a:pt x="1235" y="500"/>
                    </a:lnTo>
                    <a:lnTo>
                      <a:pt x="1353" y="795"/>
                    </a:lnTo>
                    <a:lnTo>
                      <a:pt x="1549" y="1289"/>
                    </a:lnTo>
                    <a:lnTo>
                      <a:pt x="1648" y="1510"/>
                    </a:lnTo>
                    <a:lnTo>
                      <a:pt x="1358" y="903"/>
                    </a:lnTo>
                    <a:lnTo>
                      <a:pt x="1201" y="576"/>
                    </a:lnTo>
                    <a:lnTo>
                      <a:pt x="1046" y="378"/>
                    </a:lnTo>
                    <a:lnTo>
                      <a:pt x="896" y="239"/>
                    </a:lnTo>
                    <a:lnTo>
                      <a:pt x="774" y="156"/>
                    </a:lnTo>
                    <a:lnTo>
                      <a:pt x="668" y="147"/>
                    </a:lnTo>
                    <a:lnTo>
                      <a:pt x="525" y="162"/>
                    </a:lnTo>
                    <a:lnTo>
                      <a:pt x="106" y="270"/>
                    </a:lnTo>
                    <a:lnTo>
                      <a:pt x="0" y="345"/>
                    </a:lnTo>
                    <a:lnTo>
                      <a:pt x="106" y="239"/>
                    </a:lnTo>
                    <a:lnTo>
                      <a:pt x="493" y="94"/>
                    </a:lnTo>
                    <a:lnTo>
                      <a:pt x="749" y="90"/>
                    </a:lnTo>
                    <a:lnTo>
                      <a:pt x="995" y="15"/>
                    </a:lnTo>
                    <a:lnTo>
                      <a:pt x="107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2" name=""/>
              <p:cNvSpPr/>
              <p:nvPr/>
            </p:nvSpPr>
            <p:spPr>
              <a:xfrm>
                <a:off x="7345080" y="4572720"/>
                <a:ext cx="93960" cy="181440"/>
              </a:xfrm>
              <a:custGeom>
                <a:avLst/>
                <a:gdLst/>
                <a:ahLst/>
                <a:rect l="l" t="t" r="r" b="b"/>
                <a:pathLst>
                  <a:path w="1134" h="1714">
                    <a:moveTo>
                      <a:pt x="159" y="0"/>
                    </a:moveTo>
                    <a:lnTo>
                      <a:pt x="264" y="31"/>
                    </a:lnTo>
                    <a:lnTo>
                      <a:pt x="365" y="113"/>
                    </a:lnTo>
                    <a:lnTo>
                      <a:pt x="447" y="229"/>
                    </a:lnTo>
                    <a:lnTo>
                      <a:pt x="521" y="367"/>
                    </a:lnTo>
                    <a:lnTo>
                      <a:pt x="570" y="484"/>
                    </a:lnTo>
                    <a:lnTo>
                      <a:pt x="611" y="591"/>
                    </a:lnTo>
                    <a:lnTo>
                      <a:pt x="491" y="409"/>
                    </a:lnTo>
                    <a:lnTo>
                      <a:pt x="387" y="288"/>
                    </a:lnTo>
                    <a:lnTo>
                      <a:pt x="264" y="205"/>
                    </a:lnTo>
                    <a:lnTo>
                      <a:pt x="167" y="157"/>
                    </a:lnTo>
                    <a:lnTo>
                      <a:pt x="167" y="319"/>
                    </a:lnTo>
                    <a:lnTo>
                      <a:pt x="222" y="499"/>
                    </a:lnTo>
                    <a:lnTo>
                      <a:pt x="312" y="646"/>
                    </a:lnTo>
                    <a:lnTo>
                      <a:pt x="413" y="754"/>
                    </a:lnTo>
                    <a:lnTo>
                      <a:pt x="598" y="886"/>
                    </a:lnTo>
                    <a:lnTo>
                      <a:pt x="768" y="998"/>
                    </a:lnTo>
                    <a:lnTo>
                      <a:pt x="860" y="1049"/>
                    </a:lnTo>
                    <a:lnTo>
                      <a:pt x="818" y="925"/>
                    </a:lnTo>
                    <a:lnTo>
                      <a:pt x="923" y="1132"/>
                    </a:lnTo>
                    <a:lnTo>
                      <a:pt x="976" y="1301"/>
                    </a:lnTo>
                    <a:lnTo>
                      <a:pt x="1007" y="1508"/>
                    </a:lnTo>
                    <a:lnTo>
                      <a:pt x="1081" y="1631"/>
                    </a:lnTo>
                    <a:lnTo>
                      <a:pt x="1134" y="1714"/>
                    </a:lnTo>
                    <a:lnTo>
                      <a:pt x="959" y="1559"/>
                    </a:lnTo>
                    <a:lnTo>
                      <a:pt x="959" y="1642"/>
                    </a:lnTo>
                    <a:lnTo>
                      <a:pt x="877" y="1665"/>
                    </a:lnTo>
                    <a:lnTo>
                      <a:pt x="918" y="1609"/>
                    </a:lnTo>
                    <a:lnTo>
                      <a:pt x="908" y="1534"/>
                    </a:lnTo>
                    <a:lnTo>
                      <a:pt x="703" y="1402"/>
                    </a:lnTo>
                    <a:lnTo>
                      <a:pt x="877" y="1411"/>
                    </a:lnTo>
                    <a:lnTo>
                      <a:pt x="736" y="1204"/>
                    </a:lnTo>
                    <a:lnTo>
                      <a:pt x="853" y="1195"/>
                    </a:lnTo>
                    <a:lnTo>
                      <a:pt x="869" y="1147"/>
                    </a:lnTo>
                    <a:lnTo>
                      <a:pt x="703" y="1141"/>
                    </a:lnTo>
                    <a:lnTo>
                      <a:pt x="494" y="1077"/>
                    </a:lnTo>
                    <a:lnTo>
                      <a:pt x="249" y="967"/>
                    </a:lnTo>
                    <a:lnTo>
                      <a:pt x="99" y="860"/>
                    </a:lnTo>
                    <a:lnTo>
                      <a:pt x="84" y="886"/>
                    </a:lnTo>
                    <a:lnTo>
                      <a:pt x="143" y="985"/>
                    </a:lnTo>
                    <a:lnTo>
                      <a:pt x="240" y="1077"/>
                    </a:lnTo>
                    <a:lnTo>
                      <a:pt x="339" y="1132"/>
                    </a:lnTo>
                    <a:lnTo>
                      <a:pt x="413" y="1338"/>
                    </a:lnTo>
                    <a:lnTo>
                      <a:pt x="644" y="1402"/>
                    </a:lnTo>
                    <a:lnTo>
                      <a:pt x="482" y="1386"/>
                    </a:lnTo>
                    <a:lnTo>
                      <a:pt x="556" y="1460"/>
                    </a:lnTo>
                    <a:lnTo>
                      <a:pt x="763" y="1508"/>
                    </a:lnTo>
                    <a:lnTo>
                      <a:pt x="853" y="1582"/>
                    </a:lnTo>
                    <a:lnTo>
                      <a:pt x="826" y="1631"/>
                    </a:lnTo>
                    <a:lnTo>
                      <a:pt x="694" y="1591"/>
                    </a:lnTo>
                    <a:lnTo>
                      <a:pt x="598" y="1600"/>
                    </a:lnTo>
                    <a:lnTo>
                      <a:pt x="51" y="1107"/>
                    </a:lnTo>
                    <a:lnTo>
                      <a:pt x="21" y="943"/>
                    </a:lnTo>
                    <a:lnTo>
                      <a:pt x="9" y="826"/>
                    </a:lnTo>
                    <a:lnTo>
                      <a:pt x="51" y="770"/>
                    </a:lnTo>
                    <a:lnTo>
                      <a:pt x="21" y="642"/>
                    </a:lnTo>
                    <a:lnTo>
                      <a:pt x="0" y="443"/>
                    </a:lnTo>
                    <a:lnTo>
                      <a:pt x="25" y="279"/>
                    </a:lnTo>
                    <a:lnTo>
                      <a:pt x="77" y="132"/>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3" name=""/>
              <p:cNvSpPr/>
              <p:nvPr/>
            </p:nvSpPr>
            <p:spPr>
              <a:xfrm>
                <a:off x="7410960" y="4746600"/>
                <a:ext cx="26280" cy="42480"/>
              </a:xfrm>
              <a:custGeom>
                <a:avLst/>
                <a:gdLst/>
                <a:ahLst/>
                <a:rect l="l" t="t" r="r" b="b"/>
                <a:pathLst>
                  <a:path w="318" h="399">
                    <a:moveTo>
                      <a:pt x="0" y="138"/>
                    </a:moveTo>
                    <a:lnTo>
                      <a:pt x="87" y="23"/>
                    </a:lnTo>
                    <a:lnTo>
                      <a:pt x="168" y="0"/>
                    </a:lnTo>
                    <a:lnTo>
                      <a:pt x="221" y="72"/>
                    </a:lnTo>
                    <a:lnTo>
                      <a:pt x="221" y="336"/>
                    </a:lnTo>
                    <a:lnTo>
                      <a:pt x="285" y="106"/>
                    </a:lnTo>
                    <a:lnTo>
                      <a:pt x="318" y="196"/>
                    </a:lnTo>
                    <a:lnTo>
                      <a:pt x="318" y="295"/>
                    </a:lnTo>
                    <a:lnTo>
                      <a:pt x="246" y="399"/>
                    </a:lnTo>
                    <a:lnTo>
                      <a:pt x="186" y="399"/>
                    </a:lnTo>
                    <a:lnTo>
                      <a:pt x="39" y="261"/>
                    </a:lnTo>
                    <a:lnTo>
                      <a:pt x="0" y="13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84" name=""/>
              <p:cNvSpPr/>
              <p:nvPr/>
            </p:nvSpPr>
            <p:spPr>
              <a:xfrm>
                <a:off x="7434000" y="4583880"/>
                <a:ext cx="193320" cy="227880"/>
              </a:xfrm>
              <a:custGeom>
                <a:avLst/>
                <a:gdLst/>
                <a:ahLst/>
                <a:rect l="l" t="t" r="r" b="b"/>
                <a:pathLst>
                  <a:path w="2335" h="2151">
                    <a:moveTo>
                      <a:pt x="87" y="1633"/>
                    </a:moveTo>
                    <a:lnTo>
                      <a:pt x="112" y="1705"/>
                    </a:lnTo>
                    <a:lnTo>
                      <a:pt x="123" y="1896"/>
                    </a:lnTo>
                    <a:lnTo>
                      <a:pt x="0" y="1953"/>
                    </a:lnTo>
                    <a:lnTo>
                      <a:pt x="39" y="1978"/>
                    </a:lnTo>
                    <a:lnTo>
                      <a:pt x="182" y="1953"/>
                    </a:lnTo>
                    <a:lnTo>
                      <a:pt x="742" y="2068"/>
                    </a:lnTo>
                    <a:lnTo>
                      <a:pt x="732" y="2032"/>
                    </a:lnTo>
                    <a:lnTo>
                      <a:pt x="732" y="2011"/>
                    </a:lnTo>
                    <a:lnTo>
                      <a:pt x="758" y="1997"/>
                    </a:lnTo>
                    <a:lnTo>
                      <a:pt x="791" y="2002"/>
                    </a:lnTo>
                    <a:lnTo>
                      <a:pt x="806" y="2032"/>
                    </a:lnTo>
                    <a:lnTo>
                      <a:pt x="830" y="2061"/>
                    </a:lnTo>
                    <a:lnTo>
                      <a:pt x="883" y="2068"/>
                    </a:lnTo>
                    <a:lnTo>
                      <a:pt x="958" y="2127"/>
                    </a:lnTo>
                    <a:lnTo>
                      <a:pt x="938" y="2068"/>
                    </a:lnTo>
                    <a:lnTo>
                      <a:pt x="1180" y="2011"/>
                    </a:lnTo>
                    <a:lnTo>
                      <a:pt x="1477" y="1845"/>
                    </a:lnTo>
                    <a:lnTo>
                      <a:pt x="1807" y="1930"/>
                    </a:lnTo>
                    <a:lnTo>
                      <a:pt x="1872" y="2061"/>
                    </a:lnTo>
                    <a:lnTo>
                      <a:pt x="1872" y="2142"/>
                    </a:lnTo>
                    <a:lnTo>
                      <a:pt x="1883" y="2151"/>
                    </a:lnTo>
                    <a:lnTo>
                      <a:pt x="1897" y="2061"/>
                    </a:lnTo>
                    <a:lnTo>
                      <a:pt x="1823" y="1912"/>
                    </a:lnTo>
                    <a:lnTo>
                      <a:pt x="1666" y="1815"/>
                    </a:lnTo>
                    <a:lnTo>
                      <a:pt x="1731" y="1714"/>
                    </a:lnTo>
                    <a:lnTo>
                      <a:pt x="1855" y="1668"/>
                    </a:lnTo>
                    <a:lnTo>
                      <a:pt x="2003" y="1642"/>
                    </a:lnTo>
                    <a:lnTo>
                      <a:pt x="2189" y="1674"/>
                    </a:lnTo>
                    <a:lnTo>
                      <a:pt x="2226" y="1705"/>
                    </a:lnTo>
                    <a:lnTo>
                      <a:pt x="2235" y="1804"/>
                    </a:lnTo>
                    <a:lnTo>
                      <a:pt x="2285" y="1887"/>
                    </a:lnTo>
                    <a:lnTo>
                      <a:pt x="2335" y="1771"/>
                    </a:lnTo>
                    <a:lnTo>
                      <a:pt x="2309" y="1700"/>
                    </a:lnTo>
                    <a:lnTo>
                      <a:pt x="2219" y="1608"/>
                    </a:lnTo>
                    <a:lnTo>
                      <a:pt x="2102" y="1510"/>
                    </a:lnTo>
                    <a:lnTo>
                      <a:pt x="2010" y="1402"/>
                    </a:lnTo>
                    <a:lnTo>
                      <a:pt x="1929" y="1439"/>
                    </a:lnTo>
                    <a:lnTo>
                      <a:pt x="1883" y="1559"/>
                    </a:lnTo>
                    <a:lnTo>
                      <a:pt x="1839" y="1536"/>
                    </a:lnTo>
                    <a:lnTo>
                      <a:pt x="1883" y="1428"/>
                    </a:lnTo>
                    <a:lnTo>
                      <a:pt x="1929" y="1338"/>
                    </a:lnTo>
                    <a:lnTo>
                      <a:pt x="2138" y="1255"/>
                    </a:lnTo>
                    <a:lnTo>
                      <a:pt x="2235" y="1165"/>
                    </a:lnTo>
                    <a:lnTo>
                      <a:pt x="2189" y="1041"/>
                    </a:lnTo>
                    <a:lnTo>
                      <a:pt x="2169" y="1142"/>
                    </a:lnTo>
                    <a:lnTo>
                      <a:pt x="2063" y="1206"/>
                    </a:lnTo>
                    <a:lnTo>
                      <a:pt x="1962" y="1232"/>
                    </a:lnTo>
                    <a:lnTo>
                      <a:pt x="1883" y="1239"/>
                    </a:lnTo>
                    <a:lnTo>
                      <a:pt x="1855" y="1213"/>
                    </a:lnTo>
                    <a:lnTo>
                      <a:pt x="1872" y="1181"/>
                    </a:lnTo>
                    <a:lnTo>
                      <a:pt x="2039" y="1066"/>
                    </a:lnTo>
                    <a:lnTo>
                      <a:pt x="2169" y="943"/>
                    </a:lnTo>
                    <a:lnTo>
                      <a:pt x="2197" y="1001"/>
                    </a:lnTo>
                    <a:lnTo>
                      <a:pt x="2201" y="868"/>
                    </a:lnTo>
                    <a:lnTo>
                      <a:pt x="2180" y="720"/>
                    </a:lnTo>
                    <a:lnTo>
                      <a:pt x="2169" y="565"/>
                    </a:lnTo>
                    <a:lnTo>
                      <a:pt x="2180" y="337"/>
                    </a:lnTo>
                    <a:lnTo>
                      <a:pt x="2153" y="114"/>
                    </a:lnTo>
                    <a:lnTo>
                      <a:pt x="2111" y="0"/>
                    </a:lnTo>
                    <a:lnTo>
                      <a:pt x="2144" y="182"/>
                    </a:lnTo>
                    <a:lnTo>
                      <a:pt x="2144" y="400"/>
                    </a:lnTo>
                    <a:lnTo>
                      <a:pt x="2111" y="582"/>
                    </a:lnTo>
                    <a:lnTo>
                      <a:pt x="1982" y="868"/>
                    </a:lnTo>
                    <a:lnTo>
                      <a:pt x="2088" y="706"/>
                    </a:lnTo>
                    <a:lnTo>
                      <a:pt x="2127" y="771"/>
                    </a:lnTo>
                    <a:lnTo>
                      <a:pt x="2144" y="861"/>
                    </a:lnTo>
                    <a:lnTo>
                      <a:pt x="2120" y="936"/>
                    </a:lnTo>
                    <a:lnTo>
                      <a:pt x="2003" y="1041"/>
                    </a:lnTo>
                    <a:lnTo>
                      <a:pt x="1865" y="1125"/>
                    </a:lnTo>
                    <a:lnTo>
                      <a:pt x="1872" y="1050"/>
                    </a:lnTo>
                    <a:lnTo>
                      <a:pt x="1673" y="1273"/>
                    </a:lnTo>
                    <a:lnTo>
                      <a:pt x="1402" y="1476"/>
                    </a:lnTo>
                    <a:lnTo>
                      <a:pt x="1169" y="1584"/>
                    </a:lnTo>
                    <a:lnTo>
                      <a:pt x="965" y="1633"/>
                    </a:lnTo>
                    <a:lnTo>
                      <a:pt x="615" y="1600"/>
                    </a:lnTo>
                    <a:lnTo>
                      <a:pt x="410" y="1608"/>
                    </a:lnTo>
                    <a:lnTo>
                      <a:pt x="195" y="1626"/>
                    </a:lnTo>
                    <a:lnTo>
                      <a:pt x="87" y="1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5" name=""/>
              <p:cNvSpPr/>
              <p:nvPr/>
            </p:nvSpPr>
            <p:spPr>
              <a:xfrm>
                <a:off x="7535520" y="4574520"/>
                <a:ext cx="14400" cy="149040"/>
              </a:xfrm>
              <a:custGeom>
                <a:avLst/>
                <a:gdLst/>
                <a:ahLst/>
                <a:rect l="l" t="t" r="r" b="b"/>
                <a:pathLst>
                  <a:path w="180" h="1411">
                    <a:moveTo>
                      <a:pt x="0" y="33"/>
                    </a:moveTo>
                    <a:lnTo>
                      <a:pt x="99" y="263"/>
                    </a:lnTo>
                    <a:lnTo>
                      <a:pt x="129" y="483"/>
                    </a:lnTo>
                    <a:lnTo>
                      <a:pt x="124" y="802"/>
                    </a:lnTo>
                    <a:lnTo>
                      <a:pt x="81" y="1075"/>
                    </a:lnTo>
                    <a:lnTo>
                      <a:pt x="9" y="1411"/>
                    </a:lnTo>
                    <a:lnTo>
                      <a:pt x="90" y="1386"/>
                    </a:lnTo>
                    <a:lnTo>
                      <a:pt x="140" y="1303"/>
                    </a:lnTo>
                    <a:lnTo>
                      <a:pt x="171" y="1140"/>
                    </a:lnTo>
                    <a:lnTo>
                      <a:pt x="180" y="886"/>
                    </a:lnTo>
                    <a:lnTo>
                      <a:pt x="171" y="556"/>
                    </a:lnTo>
                    <a:lnTo>
                      <a:pt x="145" y="344"/>
                    </a:lnTo>
                    <a:lnTo>
                      <a:pt x="105" y="180"/>
                    </a:lnTo>
                    <a:lnTo>
                      <a:pt x="39" y="22"/>
                    </a:lnTo>
                    <a:lnTo>
                      <a:pt x="9"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6" name=""/>
              <p:cNvSpPr/>
              <p:nvPr/>
            </p:nvSpPr>
            <p:spPr>
              <a:xfrm>
                <a:off x="7504560" y="4672080"/>
                <a:ext cx="11520" cy="15120"/>
              </a:xfrm>
              <a:custGeom>
                <a:avLst/>
                <a:gdLst/>
                <a:ahLst/>
                <a:rect l="l" t="t" r="r" b="b"/>
                <a:pathLst>
                  <a:path w="141" h="141">
                    <a:moveTo>
                      <a:pt x="101" y="7"/>
                    </a:moveTo>
                    <a:lnTo>
                      <a:pt x="66" y="7"/>
                    </a:lnTo>
                    <a:lnTo>
                      <a:pt x="42" y="31"/>
                    </a:lnTo>
                    <a:lnTo>
                      <a:pt x="51" y="62"/>
                    </a:lnTo>
                    <a:lnTo>
                      <a:pt x="77" y="88"/>
                    </a:lnTo>
                    <a:lnTo>
                      <a:pt x="110" y="72"/>
                    </a:lnTo>
                    <a:lnTo>
                      <a:pt x="123" y="49"/>
                    </a:lnTo>
                    <a:lnTo>
                      <a:pt x="123" y="31"/>
                    </a:lnTo>
                    <a:lnTo>
                      <a:pt x="141" y="62"/>
                    </a:lnTo>
                    <a:lnTo>
                      <a:pt x="123" y="113"/>
                    </a:lnTo>
                    <a:lnTo>
                      <a:pt x="77" y="141"/>
                    </a:lnTo>
                    <a:lnTo>
                      <a:pt x="18" y="106"/>
                    </a:lnTo>
                    <a:lnTo>
                      <a:pt x="0" y="49"/>
                    </a:lnTo>
                    <a:lnTo>
                      <a:pt x="42" y="7"/>
                    </a:lnTo>
                    <a:lnTo>
                      <a:pt x="66" y="0"/>
                    </a:lnTo>
                    <a:lnTo>
                      <a:pt x="101"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287" name=""/>
              <p:cNvSpPr/>
              <p:nvPr/>
            </p:nvSpPr>
            <p:spPr>
              <a:xfrm>
                <a:off x="7605720" y="4710960"/>
                <a:ext cx="21600" cy="53280"/>
              </a:xfrm>
              <a:custGeom>
                <a:avLst/>
                <a:gdLst/>
                <a:ahLst/>
                <a:rect l="l" t="t" r="r" b="b"/>
                <a:pathLst>
                  <a:path w="265" h="505">
                    <a:moveTo>
                      <a:pt x="215" y="0"/>
                    </a:moveTo>
                    <a:lnTo>
                      <a:pt x="215" y="71"/>
                    </a:lnTo>
                    <a:lnTo>
                      <a:pt x="0" y="193"/>
                    </a:lnTo>
                    <a:lnTo>
                      <a:pt x="131" y="152"/>
                    </a:lnTo>
                    <a:lnTo>
                      <a:pt x="131" y="277"/>
                    </a:lnTo>
                    <a:lnTo>
                      <a:pt x="57" y="258"/>
                    </a:lnTo>
                    <a:lnTo>
                      <a:pt x="239" y="431"/>
                    </a:lnTo>
                    <a:lnTo>
                      <a:pt x="265" y="505"/>
                    </a:lnTo>
                    <a:lnTo>
                      <a:pt x="255" y="405"/>
                    </a:lnTo>
                    <a:lnTo>
                      <a:pt x="180" y="308"/>
                    </a:lnTo>
                    <a:lnTo>
                      <a:pt x="180" y="143"/>
                    </a:lnTo>
                    <a:lnTo>
                      <a:pt x="233" y="92"/>
                    </a:lnTo>
                    <a:lnTo>
                      <a:pt x="233" y="51"/>
                    </a:lnTo>
                    <a:lnTo>
                      <a:pt x="215"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88" name=""/>
              <p:cNvSpPr/>
              <p:nvPr/>
            </p:nvSpPr>
            <p:spPr>
              <a:xfrm>
                <a:off x="7580520" y="4769280"/>
                <a:ext cx="75960" cy="56880"/>
              </a:xfrm>
              <a:custGeom>
                <a:avLst/>
                <a:gdLst/>
                <a:ahLst/>
                <a:rect l="l" t="t" r="r" b="b"/>
                <a:pathLst>
                  <a:path w="918" h="541">
                    <a:moveTo>
                      <a:pt x="529" y="181"/>
                    </a:moveTo>
                    <a:lnTo>
                      <a:pt x="520" y="211"/>
                    </a:lnTo>
                    <a:lnTo>
                      <a:pt x="470" y="211"/>
                    </a:lnTo>
                    <a:lnTo>
                      <a:pt x="379" y="55"/>
                    </a:lnTo>
                    <a:lnTo>
                      <a:pt x="217" y="0"/>
                    </a:lnTo>
                    <a:lnTo>
                      <a:pt x="35" y="55"/>
                    </a:lnTo>
                    <a:lnTo>
                      <a:pt x="0" y="123"/>
                    </a:lnTo>
                    <a:lnTo>
                      <a:pt x="65" y="186"/>
                    </a:lnTo>
                    <a:lnTo>
                      <a:pt x="123" y="294"/>
                    </a:lnTo>
                    <a:lnTo>
                      <a:pt x="245" y="172"/>
                    </a:lnTo>
                    <a:lnTo>
                      <a:pt x="373" y="195"/>
                    </a:lnTo>
                    <a:lnTo>
                      <a:pt x="553" y="283"/>
                    </a:lnTo>
                    <a:lnTo>
                      <a:pt x="613" y="319"/>
                    </a:lnTo>
                    <a:lnTo>
                      <a:pt x="619" y="411"/>
                    </a:lnTo>
                    <a:lnTo>
                      <a:pt x="529" y="474"/>
                    </a:lnTo>
                    <a:lnTo>
                      <a:pt x="619" y="541"/>
                    </a:lnTo>
                    <a:lnTo>
                      <a:pt x="918" y="541"/>
                    </a:lnTo>
                    <a:lnTo>
                      <a:pt x="793" y="424"/>
                    </a:lnTo>
                    <a:lnTo>
                      <a:pt x="727" y="424"/>
                    </a:lnTo>
                    <a:lnTo>
                      <a:pt x="660" y="253"/>
                    </a:lnTo>
                    <a:lnTo>
                      <a:pt x="577" y="204"/>
                    </a:lnTo>
                    <a:lnTo>
                      <a:pt x="529" y="18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89" name=""/>
              <p:cNvSpPr/>
              <p:nvPr/>
            </p:nvSpPr>
            <p:spPr>
              <a:xfrm>
                <a:off x="7518240" y="4795560"/>
                <a:ext cx="108000" cy="48960"/>
              </a:xfrm>
              <a:custGeom>
                <a:avLst/>
                <a:gdLst/>
                <a:ahLst/>
                <a:rect l="l" t="t" r="r" b="b"/>
                <a:pathLst>
                  <a:path w="1305" h="464">
                    <a:moveTo>
                      <a:pt x="1248" y="185"/>
                    </a:moveTo>
                    <a:lnTo>
                      <a:pt x="1184" y="130"/>
                    </a:lnTo>
                    <a:lnTo>
                      <a:pt x="1149" y="53"/>
                    </a:lnTo>
                    <a:lnTo>
                      <a:pt x="1066" y="71"/>
                    </a:lnTo>
                    <a:lnTo>
                      <a:pt x="1033" y="242"/>
                    </a:lnTo>
                    <a:lnTo>
                      <a:pt x="1089" y="293"/>
                    </a:lnTo>
                    <a:lnTo>
                      <a:pt x="944" y="293"/>
                    </a:lnTo>
                    <a:lnTo>
                      <a:pt x="826" y="341"/>
                    </a:lnTo>
                    <a:lnTo>
                      <a:pt x="497" y="433"/>
                    </a:lnTo>
                    <a:lnTo>
                      <a:pt x="308" y="464"/>
                    </a:lnTo>
                    <a:lnTo>
                      <a:pt x="149" y="464"/>
                    </a:lnTo>
                    <a:lnTo>
                      <a:pt x="50" y="433"/>
                    </a:lnTo>
                    <a:lnTo>
                      <a:pt x="0" y="350"/>
                    </a:lnTo>
                    <a:lnTo>
                      <a:pt x="50" y="350"/>
                    </a:lnTo>
                    <a:lnTo>
                      <a:pt x="200" y="415"/>
                    </a:lnTo>
                    <a:lnTo>
                      <a:pt x="349" y="424"/>
                    </a:lnTo>
                    <a:lnTo>
                      <a:pt x="547" y="392"/>
                    </a:lnTo>
                    <a:lnTo>
                      <a:pt x="769" y="311"/>
                    </a:lnTo>
                    <a:lnTo>
                      <a:pt x="826" y="286"/>
                    </a:lnTo>
                    <a:lnTo>
                      <a:pt x="769" y="176"/>
                    </a:lnTo>
                    <a:lnTo>
                      <a:pt x="695" y="110"/>
                    </a:lnTo>
                    <a:lnTo>
                      <a:pt x="605" y="14"/>
                    </a:lnTo>
                    <a:lnTo>
                      <a:pt x="769" y="46"/>
                    </a:lnTo>
                    <a:lnTo>
                      <a:pt x="810" y="110"/>
                    </a:lnTo>
                    <a:lnTo>
                      <a:pt x="870" y="64"/>
                    </a:lnTo>
                    <a:lnTo>
                      <a:pt x="870" y="130"/>
                    </a:lnTo>
                    <a:lnTo>
                      <a:pt x="1033" y="0"/>
                    </a:lnTo>
                    <a:lnTo>
                      <a:pt x="1257" y="46"/>
                    </a:lnTo>
                    <a:lnTo>
                      <a:pt x="1305" y="145"/>
                    </a:lnTo>
                    <a:lnTo>
                      <a:pt x="1248" y="18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0" name=""/>
              <p:cNvSpPr/>
              <p:nvPr/>
            </p:nvSpPr>
            <p:spPr>
              <a:xfrm>
                <a:off x="7592040" y="4827960"/>
                <a:ext cx="248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91" name=""/>
              <p:cNvSpPr/>
              <p:nvPr/>
            </p:nvSpPr>
            <p:spPr>
              <a:xfrm>
                <a:off x="7536960" y="4478760"/>
                <a:ext cx="4320" cy="13320"/>
              </a:xfrm>
              <a:custGeom>
                <a:avLst/>
                <a:gdLst/>
                <a:ahLst/>
                <a:rect l="l" t="t" r="r" b="b"/>
                <a:pathLst>
                  <a:path w="50" h="123">
                    <a:moveTo>
                      <a:pt x="32" y="0"/>
                    </a:moveTo>
                    <a:lnTo>
                      <a:pt x="50" y="42"/>
                    </a:lnTo>
                    <a:lnTo>
                      <a:pt x="50" y="83"/>
                    </a:lnTo>
                    <a:lnTo>
                      <a:pt x="32" y="118"/>
                    </a:lnTo>
                    <a:lnTo>
                      <a:pt x="14" y="123"/>
                    </a:lnTo>
                    <a:lnTo>
                      <a:pt x="0" y="123"/>
                    </a:lnTo>
                    <a:lnTo>
                      <a:pt x="0" y="111"/>
                    </a:lnTo>
                    <a:lnTo>
                      <a:pt x="19" y="111"/>
                    </a:lnTo>
                    <a:lnTo>
                      <a:pt x="32" y="83"/>
                    </a:lnTo>
                    <a:lnTo>
                      <a:pt x="39" y="48"/>
                    </a:lnTo>
                    <a:lnTo>
                      <a:pt x="19" y="12"/>
                    </a:lnTo>
                    <a:lnTo>
                      <a:pt x="3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92" name=""/>
              <p:cNvSpPr/>
              <p:nvPr/>
            </p:nvSpPr>
            <p:spPr>
              <a:xfrm>
                <a:off x="7471800" y="4445640"/>
                <a:ext cx="25560" cy="15120"/>
              </a:xfrm>
              <a:custGeom>
                <a:avLst/>
                <a:gdLst/>
                <a:ahLst/>
                <a:rect l="l" t="t" r="r" b="b"/>
                <a:pathLst>
                  <a:path w="311" h="142">
                    <a:moveTo>
                      <a:pt x="0" y="49"/>
                    </a:moveTo>
                    <a:lnTo>
                      <a:pt x="48" y="39"/>
                    </a:lnTo>
                    <a:lnTo>
                      <a:pt x="14" y="26"/>
                    </a:lnTo>
                    <a:lnTo>
                      <a:pt x="55" y="0"/>
                    </a:lnTo>
                    <a:lnTo>
                      <a:pt x="117" y="1"/>
                    </a:lnTo>
                    <a:lnTo>
                      <a:pt x="179" y="1"/>
                    </a:lnTo>
                    <a:lnTo>
                      <a:pt x="255" y="37"/>
                    </a:lnTo>
                    <a:lnTo>
                      <a:pt x="218" y="37"/>
                    </a:lnTo>
                    <a:lnTo>
                      <a:pt x="267" y="83"/>
                    </a:lnTo>
                    <a:lnTo>
                      <a:pt x="278" y="54"/>
                    </a:lnTo>
                    <a:lnTo>
                      <a:pt x="311" y="107"/>
                    </a:lnTo>
                    <a:lnTo>
                      <a:pt x="273" y="142"/>
                    </a:lnTo>
                    <a:lnTo>
                      <a:pt x="276" y="109"/>
                    </a:lnTo>
                    <a:lnTo>
                      <a:pt x="223" y="122"/>
                    </a:lnTo>
                    <a:lnTo>
                      <a:pt x="188" y="120"/>
                    </a:lnTo>
                    <a:lnTo>
                      <a:pt x="240" y="109"/>
                    </a:lnTo>
                    <a:lnTo>
                      <a:pt x="253" y="92"/>
                    </a:lnTo>
                    <a:lnTo>
                      <a:pt x="235" y="61"/>
                    </a:lnTo>
                    <a:lnTo>
                      <a:pt x="191" y="39"/>
                    </a:lnTo>
                    <a:lnTo>
                      <a:pt x="156" y="37"/>
                    </a:lnTo>
                    <a:lnTo>
                      <a:pt x="101" y="41"/>
                    </a:lnTo>
                    <a:lnTo>
                      <a:pt x="60" y="46"/>
                    </a:lnTo>
                    <a:lnTo>
                      <a:pt x="95" y="81"/>
                    </a:lnTo>
                    <a:lnTo>
                      <a:pt x="140" y="109"/>
                    </a:lnTo>
                    <a:lnTo>
                      <a:pt x="122" y="122"/>
                    </a:lnTo>
                    <a:lnTo>
                      <a:pt x="106" y="104"/>
                    </a:lnTo>
                    <a:lnTo>
                      <a:pt x="71" y="109"/>
                    </a:lnTo>
                    <a:lnTo>
                      <a:pt x="66" y="81"/>
                    </a:lnTo>
                    <a:lnTo>
                      <a:pt x="36" y="79"/>
                    </a:lnTo>
                    <a:lnTo>
                      <a:pt x="43" y="61"/>
                    </a:lnTo>
                    <a:lnTo>
                      <a:pt x="0"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293" name=""/>
              <p:cNvSpPr/>
              <p:nvPr/>
            </p:nvSpPr>
            <p:spPr>
              <a:xfrm>
                <a:off x="7514280" y="4448880"/>
                <a:ext cx="21600" cy="12600"/>
              </a:xfrm>
              <a:custGeom>
                <a:avLst/>
                <a:gdLst/>
                <a:ahLst/>
                <a:rect l="l" t="t" r="r" b="b"/>
                <a:pathLst>
                  <a:path w="263" h="121">
                    <a:moveTo>
                      <a:pt x="0" y="75"/>
                    </a:moveTo>
                    <a:lnTo>
                      <a:pt x="26" y="31"/>
                    </a:lnTo>
                    <a:lnTo>
                      <a:pt x="92" y="0"/>
                    </a:lnTo>
                    <a:lnTo>
                      <a:pt x="127" y="0"/>
                    </a:lnTo>
                    <a:lnTo>
                      <a:pt x="109" y="24"/>
                    </a:lnTo>
                    <a:lnTo>
                      <a:pt x="145" y="24"/>
                    </a:lnTo>
                    <a:lnTo>
                      <a:pt x="151" y="5"/>
                    </a:lnTo>
                    <a:lnTo>
                      <a:pt x="175" y="17"/>
                    </a:lnTo>
                    <a:lnTo>
                      <a:pt x="208" y="12"/>
                    </a:lnTo>
                    <a:lnTo>
                      <a:pt x="217" y="29"/>
                    </a:lnTo>
                    <a:lnTo>
                      <a:pt x="259" y="24"/>
                    </a:lnTo>
                    <a:lnTo>
                      <a:pt x="226" y="58"/>
                    </a:lnTo>
                    <a:lnTo>
                      <a:pt x="263" y="77"/>
                    </a:lnTo>
                    <a:lnTo>
                      <a:pt x="208" y="86"/>
                    </a:lnTo>
                    <a:lnTo>
                      <a:pt x="206" y="104"/>
                    </a:lnTo>
                    <a:lnTo>
                      <a:pt x="180" y="97"/>
                    </a:lnTo>
                    <a:lnTo>
                      <a:pt x="151" y="121"/>
                    </a:lnTo>
                    <a:lnTo>
                      <a:pt x="134" y="110"/>
                    </a:lnTo>
                    <a:lnTo>
                      <a:pt x="97" y="110"/>
                    </a:lnTo>
                    <a:lnTo>
                      <a:pt x="151" y="97"/>
                    </a:lnTo>
                    <a:lnTo>
                      <a:pt x="184" y="77"/>
                    </a:lnTo>
                    <a:lnTo>
                      <a:pt x="206" y="68"/>
                    </a:lnTo>
                    <a:lnTo>
                      <a:pt x="169" y="51"/>
                    </a:lnTo>
                    <a:lnTo>
                      <a:pt x="134" y="38"/>
                    </a:lnTo>
                    <a:lnTo>
                      <a:pt x="85" y="31"/>
                    </a:lnTo>
                    <a:lnTo>
                      <a:pt x="37" y="58"/>
                    </a:lnTo>
                    <a:lnTo>
                      <a:pt x="0" y="7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94" name=""/>
              <p:cNvSpPr/>
              <p:nvPr/>
            </p:nvSpPr>
            <p:spPr>
              <a:xfrm>
                <a:off x="7516440" y="4458240"/>
                <a:ext cx="3600" cy="2160"/>
              </a:xfrm>
              <a:custGeom>
                <a:avLst/>
                <a:gdLst/>
                <a:ahLst/>
                <a:rect l="l" t="t" r="r" b="b"/>
                <a:pathLst>
                  <a:path w="51" h="17">
                    <a:moveTo>
                      <a:pt x="14" y="0"/>
                    </a:moveTo>
                    <a:lnTo>
                      <a:pt x="51" y="17"/>
                    </a:lnTo>
                    <a:lnTo>
                      <a:pt x="0" y="4"/>
                    </a:lnTo>
                    <a:lnTo>
                      <a:pt x="1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295" name=""/>
              <p:cNvSpPr/>
              <p:nvPr/>
            </p:nvSpPr>
            <p:spPr>
              <a:xfrm>
                <a:off x="7473960" y="4433760"/>
                <a:ext cx="25560" cy="15120"/>
              </a:xfrm>
              <a:custGeom>
                <a:avLst/>
                <a:gdLst/>
                <a:ahLst/>
                <a:rect l="l" t="t" r="r" b="b"/>
                <a:pathLst>
                  <a:path w="310" h="140">
                    <a:moveTo>
                      <a:pt x="0" y="28"/>
                    </a:moveTo>
                    <a:lnTo>
                      <a:pt x="93" y="0"/>
                    </a:lnTo>
                    <a:lnTo>
                      <a:pt x="238" y="57"/>
                    </a:lnTo>
                    <a:lnTo>
                      <a:pt x="310" y="140"/>
                    </a:lnTo>
                    <a:lnTo>
                      <a:pt x="244" y="74"/>
                    </a:lnTo>
                    <a:lnTo>
                      <a:pt x="145" y="28"/>
                    </a:lnTo>
                    <a:lnTo>
                      <a:pt x="81" y="21"/>
                    </a:lnTo>
                    <a:lnTo>
                      <a:pt x="0" y="2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296" name=""/>
              <p:cNvSpPr/>
              <p:nvPr/>
            </p:nvSpPr>
            <p:spPr>
              <a:xfrm>
                <a:off x="7516440" y="4438080"/>
                <a:ext cx="19800" cy="6480"/>
              </a:xfrm>
              <a:custGeom>
                <a:avLst/>
                <a:gdLst/>
                <a:ahLst/>
                <a:rect l="l" t="t" r="r" b="b"/>
                <a:pathLst>
                  <a:path w="245" h="64">
                    <a:moveTo>
                      <a:pt x="0" y="64"/>
                    </a:moveTo>
                    <a:lnTo>
                      <a:pt x="86" y="31"/>
                    </a:lnTo>
                    <a:lnTo>
                      <a:pt x="157" y="18"/>
                    </a:lnTo>
                    <a:lnTo>
                      <a:pt x="218" y="18"/>
                    </a:lnTo>
                    <a:lnTo>
                      <a:pt x="245" y="35"/>
                    </a:lnTo>
                    <a:lnTo>
                      <a:pt x="229" y="0"/>
                    </a:lnTo>
                    <a:lnTo>
                      <a:pt x="168" y="0"/>
                    </a:lnTo>
                    <a:lnTo>
                      <a:pt x="69" y="18"/>
                    </a:lnTo>
                    <a:lnTo>
                      <a:pt x="0" y="6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97" name=""/>
              <p:cNvSpPr/>
              <p:nvPr/>
            </p:nvSpPr>
            <p:spPr>
              <a:xfrm>
                <a:off x="7493760" y="4485600"/>
                <a:ext cx="16200" cy="10800"/>
              </a:xfrm>
              <a:custGeom>
                <a:avLst/>
                <a:gdLst/>
                <a:ahLst/>
                <a:rect l="l" t="t" r="r" b="b"/>
                <a:pathLst>
                  <a:path w="207" h="103">
                    <a:moveTo>
                      <a:pt x="207" y="38"/>
                    </a:moveTo>
                    <a:lnTo>
                      <a:pt x="152" y="73"/>
                    </a:lnTo>
                    <a:lnTo>
                      <a:pt x="130" y="66"/>
                    </a:lnTo>
                    <a:lnTo>
                      <a:pt x="101" y="38"/>
                    </a:lnTo>
                    <a:lnTo>
                      <a:pt x="58" y="29"/>
                    </a:lnTo>
                    <a:lnTo>
                      <a:pt x="11" y="22"/>
                    </a:lnTo>
                    <a:lnTo>
                      <a:pt x="11" y="0"/>
                    </a:lnTo>
                    <a:lnTo>
                      <a:pt x="0" y="22"/>
                    </a:lnTo>
                    <a:lnTo>
                      <a:pt x="11" y="38"/>
                    </a:lnTo>
                    <a:lnTo>
                      <a:pt x="67" y="57"/>
                    </a:lnTo>
                    <a:lnTo>
                      <a:pt x="125" y="103"/>
                    </a:lnTo>
                    <a:lnTo>
                      <a:pt x="148" y="103"/>
                    </a:lnTo>
                    <a:lnTo>
                      <a:pt x="207" y="66"/>
                    </a:lnTo>
                    <a:lnTo>
                      <a:pt x="207" y="3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98" name=""/>
              <p:cNvSpPr/>
              <p:nvPr/>
            </p:nvSpPr>
            <p:spPr>
              <a:xfrm>
                <a:off x="7509600" y="4446360"/>
                <a:ext cx="4320" cy="18360"/>
              </a:xfrm>
              <a:custGeom>
                <a:avLst/>
                <a:gdLst/>
                <a:ahLst/>
                <a:rect l="l" t="t" r="r" b="b"/>
                <a:pathLst>
                  <a:path w="57" h="172">
                    <a:moveTo>
                      <a:pt x="57" y="0"/>
                    </a:moveTo>
                    <a:lnTo>
                      <a:pt x="15" y="51"/>
                    </a:lnTo>
                    <a:lnTo>
                      <a:pt x="0" y="106"/>
                    </a:lnTo>
                    <a:lnTo>
                      <a:pt x="4" y="141"/>
                    </a:lnTo>
                    <a:lnTo>
                      <a:pt x="33" y="172"/>
                    </a:lnTo>
                    <a:lnTo>
                      <a:pt x="15" y="134"/>
                    </a:lnTo>
                    <a:lnTo>
                      <a:pt x="15" y="95"/>
                    </a:lnTo>
                    <a:lnTo>
                      <a:pt x="28" y="49"/>
                    </a:lnTo>
                    <a:lnTo>
                      <a:pt x="5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299" name=""/>
              <p:cNvSpPr/>
              <p:nvPr/>
            </p:nvSpPr>
            <p:spPr>
              <a:xfrm>
                <a:off x="7481880" y="4448880"/>
                <a:ext cx="6480" cy="7560"/>
              </a:xfrm>
              <a:custGeom>
                <a:avLst/>
                <a:gdLst/>
                <a:ahLst/>
                <a:rect l="l" t="t" r="r" b="b"/>
                <a:pathLst>
                  <a:path w="81" h="74">
                    <a:moveTo>
                      <a:pt x="0" y="6"/>
                    </a:moveTo>
                    <a:lnTo>
                      <a:pt x="6" y="57"/>
                    </a:lnTo>
                    <a:lnTo>
                      <a:pt x="30" y="74"/>
                    </a:lnTo>
                    <a:lnTo>
                      <a:pt x="57" y="74"/>
                    </a:lnTo>
                    <a:lnTo>
                      <a:pt x="72" y="39"/>
                    </a:lnTo>
                    <a:lnTo>
                      <a:pt x="81" y="17"/>
                    </a:lnTo>
                    <a:lnTo>
                      <a:pt x="57" y="32"/>
                    </a:lnTo>
                    <a:lnTo>
                      <a:pt x="37" y="50"/>
                    </a:lnTo>
                    <a:lnTo>
                      <a:pt x="30" y="39"/>
                    </a:lnTo>
                    <a:lnTo>
                      <a:pt x="34" y="0"/>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300" name=""/>
              <p:cNvSpPr/>
              <p:nvPr/>
            </p:nvSpPr>
            <p:spPr>
              <a:xfrm>
                <a:off x="7518960" y="4452480"/>
                <a:ext cx="7200" cy="6480"/>
              </a:xfrm>
              <a:custGeom>
                <a:avLst/>
                <a:gdLst/>
                <a:ahLst/>
                <a:rect l="l" t="t" r="r" b="b"/>
                <a:pathLst>
                  <a:path w="92" h="64">
                    <a:moveTo>
                      <a:pt x="0" y="12"/>
                    </a:moveTo>
                    <a:lnTo>
                      <a:pt x="5" y="64"/>
                    </a:lnTo>
                    <a:lnTo>
                      <a:pt x="64" y="64"/>
                    </a:lnTo>
                    <a:lnTo>
                      <a:pt x="89" y="35"/>
                    </a:lnTo>
                    <a:lnTo>
                      <a:pt x="92" y="0"/>
                    </a:lnTo>
                    <a:lnTo>
                      <a:pt x="55" y="0"/>
                    </a:lnTo>
                    <a:lnTo>
                      <a:pt x="64" y="31"/>
                    </a:lnTo>
                    <a:lnTo>
                      <a:pt x="41" y="42"/>
                    </a:lnTo>
                    <a:lnTo>
                      <a:pt x="27"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301" name=""/>
              <p:cNvSpPr/>
              <p:nvPr/>
            </p:nvSpPr>
            <p:spPr>
              <a:xfrm>
                <a:off x="7487640" y="4503240"/>
                <a:ext cx="28440" cy="3240"/>
              </a:xfrm>
              <a:custGeom>
                <a:avLst/>
                <a:gdLst/>
                <a:ahLst/>
                <a:rect l="l" t="t" r="r" b="b"/>
                <a:pathLst>
                  <a:path w="350" h="31">
                    <a:moveTo>
                      <a:pt x="0" y="5"/>
                    </a:moveTo>
                    <a:lnTo>
                      <a:pt x="111" y="0"/>
                    </a:lnTo>
                    <a:lnTo>
                      <a:pt x="198" y="14"/>
                    </a:lnTo>
                    <a:lnTo>
                      <a:pt x="251" y="5"/>
                    </a:lnTo>
                    <a:lnTo>
                      <a:pt x="350" y="14"/>
                    </a:lnTo>
                    <a:lnTo>
                      <a:pt x="276" y="24"/>
                    </a:lnTo>
                    <a:lnTo>
                      <a:pt x="198" y="31"/>
                    </a:lnTo>
                    <a:lnTo>
                      <a:pt x="46" y="18"/>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302" name=""/>
              <p:cNvSpPr/>
              <p:nvPr/>
            </p:nvSpPr>
            <p:spPr>
              <a:xfrm>
                <a:off x="7493040" y="4509000"/>
                <a:ext cx="19080" cy="4320"/>
              </a:xfrm>
              <a:custGeom>
                <a:avLst/>
                <a:gdLst/>
                <a:ahLst/>
                <a:rect l="l" t="t" r="r" b="b"/>
                <a:pathLst>
                  <a:path w="233" h="42">
                    <a:moveTo>
                      <a:pt x="0" y="0"/>
                    </a:moveTo>
                    <a:lnTo>
                      <a:pt x="60" y="35"/>
                    </a:lnTo>
                    <a:lnTo>
                      <a:pt x="159" y="42"/>
                    </a:lnTo>
                    <a:lnTo>
                      <a:pt x="233" y="7"/>
                    </a:lnTo>
                    <a:lnTo>
                      <a:pt x="164" y="24"/>
                    </a:lnTo>
                    <a:lnTo>
                      <a:pt x="77" y="17"/>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03" name=""/>
              <p:cNvSpPr/>
              <p:nvPr/>
            </p:nvSpPr>
            <p:spPr>
              <a:xfrm>
                <a:off x="7786080" y="4522680"/>
                <a:ext cx="49320" cy="54000"/>
              </a:xfrm>
              <a:custGeom>
                <a:avLst/>
                <a:gdLst/>
                <a:ahLst/>
                <a:rect l="l" t="t" r="r" b="b"/>
                <a:pathLst>
                  <a:path w="595" h="512">
                    <a:moveTo>
                      <a:pt x="97" y="215"/>
                    </a:moveTo>
                    <a:lnTo>
                      <a:pt x="120" y="122"/>
                    </a:lnTo>
                    <a:lnTo>
                      <a:pt x="305" y="0"/>
                    </a:lnTo>
                    <a:lnTo>
                      <a:pt x="498" y="68"/>
                    </a:lnTo>
                    <a:lnTo>
                      <a:pt x="395" y="68"/>
                    </a:lnTo>
                    <a:lnTo>
                      <a:pt x="514" y="209"/>
                    </a:lnTo>
                    <a:lnTo>
                      <a:pt x="569" y="191"/>
                    </a:lnTo>
                    <a:lnTo>
                      <a:pt x="525" y="96"/>
                    </a:lnTo>
                    <a:lnTo>
                      <a:pt x="595" y="209"/>
                    </a:lnTo>
                    <a:lnTo>
                      <a:pt x="551" y="261"/>
                    </a:lnTo>
                    <a:lnTo>
                      <a:pt x="595" y="503"/>
                    </a:lnTo>
                    <a:lnTo>
                      <a:pt x="533" y="512"/>
                    </a:lnTo>
                    <a:lnTo>
                      <a:pt x="464" y="494"/>
                    </a:lnTo>
                    <a:lnTo>
                      <a:pt x="542" y="486"/>
                    </a:lnTo>
                    <a:lnTo>
                      <a:pt x="475" y="329"/>
                    </a:lnTo>
                    <a:lnTo>
                      <a:pt x="351" y="200"/>
                    </a:lnTo>
                    <a:lnTo>
                      <a:pt x="489" y="311"/>
                    </a:lnTo>
                    <a:lnTo>
                      <a:pt x="542" y="424"/>
                    </a:lnTo>
                    <a:lnTo>
                      <a:pt x="510" y="244"/>
                    </a:lnTo>
                    <a:lnTo>
                      <a:pt x="305" y="41"/>
                    </a:lnTo>
                    <a:lnTo>
                      <a:pt x="261" y="122"/>
                    </a:lnTo>
                    <a:lnTo>
                      <a:pt x="305" y="173"/>
                    </a:lnTo>
                    <a:lnTo>
                      <a:pt x="228" y="173"/>
                    </a:lnTo>
                    <a:lnTo>
                      <a:pt x="323" y="306"/>
                    </a:lnTo>
                    <a:lnTo>
                      <a:pt x="191" y="209"/>
                    </a:lnTo>
                    <a:lnTo>
                      <a:pt x="0" y="373"/>
                    </a:lnTo>
                    <a:lnTo>
                      <a:pt x="17" y="253"/>
                    </a:lnTo>
                    <a:lnTo>
                      <a:pt x="97" y="2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04" name=""/>
              <p:cNvSpPr/>
              <p:nvPr/>
            </p:nvSpPr>
            <p:spPr>
              <a:xfrm>
                <a:off x="7794000" y="4558320"/>
                <a:ext cx="34920" cy="55800"/>
              </a:xfrm>
              <a:custGeom>
                <a:avLst/>
                <a:gdLst/>
                <a:ahLst/>
                <a:rect l="l" t="t" r="r" b="b"/>
                <a:pathLst>
                  <a:path w="417" h="531">
                    <a:moveTo>
                      <a:pt x="351" y="198"/>
                    </a:moveTo>
                    <a:lnTo>
                      <a:pt x="307" y="183"/>
                    </a:lnTo>
                    <a:lnTo>
                      <a:pt x="254" y="114"/>
                    </a:lnTo>
                    <a:lnTo>
                      <a:pt x="208" y="114"/>
                    </a:lnTo>
                    <a:lnTo>
                      <a:pt x="146" y="62"/>
                    </a:lnTo>
                    <a:lnTo>
                      <a:pt x="146" y="104"/>
                    </a:lnTo>
                    <a:lnTo>
                      <a:pt x="94" y="114"/>
                    </a:lnTo>
                    <a:lnTo>
                      <a:pt x="44" y="53"/>
                    </a:lnTo>
                    <a:lnTo>
                      <a:pt x="72" y="132"/>
                    </a:lnTo>
                    <a:lnTo>
                      <a:pt x="0" y="132"/>
                    </a:lnTo>
                    <a:lnTo>
                      <a:pt x="87" y="189"/>
                    </a:lnTo>
                    <a:lnTo>
                      <a:pt x="78" y="270"/>
                    </a:lnTo>
                    <a:lnTo>
                      <a:pt x="131" y="383"/>
                    </a:lnTo>
                    <a:lnTo>
                      <a:pt x="131" y="305"/>
                    </a:lnTo>
                    <a:lnTo>
                      <a:pt x="164" y="279"/>
                    </a:lnTo>
                    <a:lnTo>
                      <a:pt x="182" y="321"/>
                    </a:lnTo>
                    <a:lnTo>
                      <a:pt x="219" y="288"/>
                    </a:lnTo>
                    <a:lnTo>
                      <a:pt x="272" y="288"/>
                    </a:lnTo>
                    <a:lnTo>
                      <a:pt x="340" y="347"/>
                    </a:lnTo>
                    <a:lnTo>
                      <a:pt x="332" y="436"/>
                    </a:lnTo>
                    <a:lnTo>
                      <a:pt x="291" y="531"/>
                    </a:lnTo>
                    <a:lnTo>
                      <a:pt x="383" y="383"/>
                    </a:lnTo>
                    <a:lnTo>
                      <a:pt x="413" y="288"/>
                    </a:lnTo>
                    <a:lnTo>
                      <a:pt x="417" y="156"/>
                    </a:lnTo>
                    <a:lnTo>
                      <a:pt x="383" y="156"/>
                    </a:lnTo>
                    <a:lnTo>
                      <a:pt x="323" y="42"/>
                    </a:lnTo>
                    <a:lnTo>
                      <a:pt x="261" y="0"/>
                    </a:lnTo>
                    <a:lnTo>
                      <a:pt x="314" y="77"/>
                    </a:lnTo>
                    <a:lnTo>
                      <a:pt x="351" y="148"/>
                    </a:lnTo>
                    <a:lnTo>
                      <a:pt x="351" y="19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305" name=""/>
              <p:cNvSpPr/>
              <p:nvPr/>
            </p:nvSpPr>
            <p:spPr>
              <a:xfrm>
                <a:off x="7751520" y="4565880"/>
                <a:ext cx="141840" cy="259200"/>
              </a:xfrm>
              <a:custGeom>
                <a:avLst/>
                <a:gdLst/>
                <a:ahLst/>
                <a:rect l="l" t="t" r="r" b="b"/>
                <a:pathLst>
                  <a:path w="1712" h="2448">
                    <a:moveTo>
                      <a:pt x="420" y="0"/>
                    </a:moveTo>
                    <a:lnTo>
                      <a:pt x="499" y="424"/>
                    </a:lnTo>
                    <a:lnTo>
                      <a:pt x="522" y="451"/>
                    </a:lnTo>
                    <a:lnTo>
                      <a:pt x="561" y="468"/>
                    </a:lnTo>
                    <a:lnTo>
                      <a:pt x="534" y="495"/>
                    </a:lnTo>
                    <a:lnTo>
                      <a:pt x="483" y="486"/>
                    </a:lnTo>
                    <a:lnTo>
                      <a:pt x="475" y="550"/>
                    </a:lnTo>
                    <a:lnTo>
                      <a:pt x="499" y="599"/>
                    </a:lnTo>
                    <a:lnTo>
                      <a:pt x="540" y="615"/>
                    </a:lnTo>
                    <a:lnTo>
                      <a:pt x="589" y="606"/>
                    </a:lnTo>
                    <a:lnTo>
                      <a:pt x="611" y="479"/>
                    </a:lnTo>
                    <a:lnTo>
                      <a:pt x="663" y="479"/>
                    </a:lnTo>
                    <a:lnTo>
                      <a:pt x="711" y="451"/>
                    </a:lnTo>
                    <a:lnTo>
                      <a:pt x="743" y="398"/>
                    </a:lnTo>
                    <a:lnTo>
                      <a:pt x="743" y="461"/>
                    </a:lnTo>
                    <a:lnTo>
                      <a:pt x="771" y="451"/>
                    </a:lnTo>
                    <a:lnTo>
                      <a:pt x="824" y="424"/>
                    </a:lnTo>
                    <a:lnTo>
                      <a:pt x="798" y="461"/>
                    </a:lnTo>
                    <a:lnTo>
                      <a:pt x="743" y="530"/>
                    </a:lnTo>
                    <a:lnTo>
                      <a:pt x="699" y="650"/>
                    </a:lnTo>
                    <a:lnTo>
                      <a:pt x="909" y="415"/>
                    </a:lnTo>
                    <a:lnTo>
                      <a:pt x="945" y="444"/>
                    </a:lnTo>
                    <a:lnTo>
                      <a:pt x="815" y="798"/>
                    </a:lnTo>
                    <a:lnTo>
                      <a:pt x="824" y="1260"/>
                    </a:lnTo>
                    <a:lnTo>
                      <a:pt x="1172" y="1295"/>
                    </a:lnTo>
                    <a:lnTo>
                      <a:pt x="1331" y="1371"/>
                    </a:lnTo>
                    <a:lnTo>
                      <a:pt x="1417" y="1371"/>
                    </a:lnTo>
                    <a:lnTo>
                      <a:pt x="1460" y="1442"/>
                    </a:lnTo>
                    <a:lnTo>
                      <a:pt x="1172" y="1332"/>
                    </a:lnTo>
                    <a:lnTo>
                      <a:pt x="953" y="1314"/>
                    </a:lnTo>
                    <a:lnTo>
                      <a:pt x="1059" y="1380"/>
                    </a:lnTo>
                    <a:lnTo>
                      <a:pt x="953" y="1380"/>
                    </a:lnTo>
                    <a:lnTo>
                      <a:pt x="798" y="1362"/>
                    </a:lnTo>
                    <a:lnTo>
                      <a:pt x="909" y="1459"/>
                    </a:lnTo>
                    <a:lnTo>
                      <a:pt x="1296" y="1523"/>
                    </a:lnTo>
                    <a:lnTo>
                      <a:pt x="971" y="1493"/>
                    </a:lnTo>
                    <a:lnTo>
                      <a:pt x="1172" y="1611"/>
                    </a:lnTo>
                    <a:lnTo>
                      <a:pt x="1147" y="1636"/>
                    </a:lnTo>
                    <a:lnTo>
                      <a:pt x="875" y="1503"/>
                    </a:lnTo>
                    <a:lnTo>
                      <a:pt x="918" y="1636"/>
                    </a:lnTo>
                    <a:lnTo>
                      <a:pt x="1349" y="1747"/>
                    </a:lnTo>
                    <a:lnTo>
                      <a:pt x="1626" y="1921"/>
                    </a:lnTo>
                    <a:lnTo>
                      <a:pt x="1349" y="1867"/>
                    </a:lnTo>
                    <a:lnTo>
                      <a:pt x="1191" y="1765"/>
                    </a:lnTo>
                    <a:lnTo>
                      <a:pt x="953" y="1701"/>
                    </a:lnTo>
                    <a:lnTo>
                      <a:pt x="1068" y="1826"/>
                    </a:lnTo>
                    <a:lnTo>
                      <a:pt x="1712" y="2049"/>
                    </a:lnTo>
                    <a:lnTo>
                      <a:pt x="1068" y="1867"/>
                    </a:lnTo>
                    <a:lnTo>
                      <a:pt x="884" y="1736"/>
                    </a:lnTo>
                    <a:lnTo>
                      <a:pt x="895" y="1809"/>
                    </a:lnTo>
                    <a:lnTo>
                      <a:pt x="1068" y="1973"/>
                    </a:lnTo>
                    <a:lnTo>
                      <a:pt x="1321" y="2024"/>
                    </a:lnTo>
                    <a:lnTo>
                      <a:pt x="1460" y="2121"/>
                    </a:lnTo>
                    <a:lnTo>
                      <a:pt x="1259" y="2097"/>
                    </a:lnTo>
                    <a:lnTo>
                      <a:pt x="1008" y="1973"/>
                    </a:lnTo>
                    <a:lnTo>
                      <a:pt x="934" y="1982"/>
                    </a:lnTo>
                    <a:lnTo>
                      <a:pt x="971" y="2112"/>
                    </a:lnTo>
                    <a:lnTo>
                      <a:pt x="1033" y="2156"/>
                    </a:lnTo>
                    <a:lnTo>
                      <a:pt x="1349" y="2171"/>
                    </a:lnTo>
                    <a:lnTo>
                      <a:pt x="1024" y="2330"/>
                    </a:lnTo>
                    <a:lnTo>
                      <a:pt x="980" y="2314"/>
                    </a:lnTo>
                    <a:lnTo>
                      <a:pt x="909" y="2084"/>
                    </a:lnTo>
                    <a:lnTo>
                      <a:pt x="831" y="2339"/>
                    </a:lnTo>
                    <a:lnTo>
                      <a:pt x="849" y="2448"/>
                    </a:lnTo>
                    <a:lnTo>
                      <a:pt x="760" y="2354"/>
                    </a:lnTo>
                    <a:lnTo>
                      <a:pt x="895" y="2013"/>
                    </a:lnTo>
                    <a:lnTo>
                      <a:pt x="884" y="1921"/>
                    </a:lnTo>
                    <a:lnTo>
                      <a:pt x="824" y="1765"/>
                    </a:lnTo>
                    <a:lnTo>
                      <a:pt x="778" y="1563"/>
                    </a:lnTo>
                    <a:lnTo>
                      <a:pt x="674" y="1304"/>
                    </a:lnTo>
                    <a:lnTo>
                      <a:pt x="554" y="1523"/>
                    </a:lnTo>
                    <a:lnTo>
                      <a:pt x="554" y="1747"/>
                    </a:lnTo>
                    <a:lnTo>
                      <a:pt x="316" y="2033"/>
                    </a:lnTo>
                    <a:lnTo>
                      <a:pt x="0" y="2148"/>
                    </a:lnTo>
                    <a:lnTo>
                      <a:pt x="37" y="1973"/>
                    </a:lnTo>
                    <a:lnTo>
                      <a:pt x="217" y="1791"/>
                    </a:lnTo>
                    <a:lnTo>
                      <a:pt x="437" y="1685"/>
                    </a:lnTo>
                    <a:lnTo>
                      <a:pt x="534" y="1436"/>
                    </a:lnTo>
                    <a:lnTo>
                      <a:pt x="522" y="1314"/>
                    </a:lnTo>
                    <a:lnTo>
                      <a:pt x="611" y="1026"/>
                    </a:lnTo>
                    <a:lnTo>
                      <a:pt x="510" y="1000"/>
                    </a:lnTo>
                    <a:lnTo>
                      <a:pt x="420" y="938"/>
                    </a:lnTo>
                    <a:lnTo>
                      <a:pt x="522" y="650"/>
                    </a:lnTo>
                    <a:lnTo>
                      <a:pt x="475" y="627"/>
                    </a:lnTo>
                    <a:lnTo>
                      <a:pt x="448" y="541"/>
                    </a:lnTo>
                    <a:lnTo>
                      <a:pt x="448" y="433"/>
                    </a:lnTo>
                    <a:lnTo>
                      <a:pt x="420" y="53"/>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6" name=""/>
              <p:cNvSpPr/>
              <p:nvPr/>
            </p:nvSpPr>
            <p:spPr>
              <a:xfrm>
                <a:off x="7720560" y="4588200"/>
                <a:ext cx="56880" cy="184680"/>
              </a:xfrm>
              <a:custGeom>
                <a:avLst/>
                <a:gdLst/>
                <a:ahLst/>
                <a:rect l="l" t="t" r="r" b="b"/>
                <a:pathLst>
                  <a:path w="691" h="1748">
                    <a:moveTo>
                      <a:pt x="691" y="312"/>
                    </a:moveTo>
                    <a:lnTo>
                      <a:pt x="586" y="572"/>
                    </a:lnTo>
                    <a:lnTo>
                      <a:pt x="516" y="729"/>
                    </a:lnTo>
                    <a:lnTo>
                      <a:pt x="392" y="982"/>
                    </a:lnTo>
                    <a:lnTo>
                      <a:pt x="334" y="1017"/>
                    </a:lnTo>
                    <a:lnTo>
                      <a:pt x="351" y="1243"/>
                    </a:lnTo>
                    <a:lnTo>
                      <a:pt x="412" y="1527"/>
                    </a:lnTo>
                    <a:lnTo>
                      <a:pt x="472" y="1748"/>
                    </a:lnTo>
                    <a:lnTo>
                      <a:pt x="388" y="1485"/>
                    </a:lnTo>
                    <a:lnTo>
                      <a:pt x="334" y="1233"/>
                    </a:lnTo>
                    <a:lnTo>
                      <a:pt x="243" y="1171"/>
                    </a:lnTo>
                    <a:lnTo>
                      <a:pt x="254" y="1330"/>
                    </a:lnTo>
                    <a:lnTo>
                      <a:pt x="351" y="1591"/>
                    </a:lnTo>
                    <a:lnTo>
                      <a:pt x="239" y="1345"/>
                    </a:lnTo>
                    <a:lnTo>
                      <a:pt x="193" y="1153"/>
                    </a:lnTo>
                    <a:lnTo>
                      <a:pt x="87" y="1153"/>
                    </a:lnTo>
                    <a:lnTo>
                      <a:pt x="0" y="1227"/>
                    </a:lnTo>
                    <a:lnTo>
                      <a:pt x="87" y="1139"/>
                    </a:lnTo>
                    <a:lnTo>
                      <a:pt x="157" y="1112"/>
                    </a:lnTo>
                    <a:lnTo>
                      <a:pt x="219" y="895"/>
                    </a:lnTo>
                    <a:lnTo>
                      <a:pt x="219" y="782"/>
                    </a:lnTo>
                    <a:lnTo>
                      <a:pt x="175" y="721"/>
                    </a:lnTo>
                    <a:lnTo>
                      <a:pt x="175" y="644"/>
                    </a:lnTo>
                    <a:lnTo>
                      <a:pt x="279" y="235"/>
                    </a:lnTo>
                    <a:lnTo>
                      <a:pt x="388" y="0"/>
                    </a:lnTo>
                    <a:lnTo>
                      <a:pt x="307" y="341"/>
                    </a:lnTo>
                    <a:lnTo>
                      <a:pt x="219" y="685"/>
                    </a:lnTo>
                    <a:lnTo>
                      <a:pt x="307" y="798"/>
                    </a:lnTo>
                    <a:lnTo>
                      <a:pt x="366" y="914"/>
                    </a:lnTo>
                    <a:lnTo>
                      <a:pt x="606" y="462"/>
                    </a:lnTo>
                    <a:lnTo>
                      <a:pt x="691"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7" name=""/>
              <p:cNvSpPr/>
              <p:nvPr/>
            </p:nvSpPr>
            <p:spPr>
              <a:xfrm>
                <a:off x="7762680" y="4681440"/>
                <a:ext cx="6480" cy="45720"/>
              </a:xfrm>
              <a:custGeom>
                <a:avLst/>
                <a:gdLst/>
                <a:ahLst/>
                <a:rect l="l" t="t" r="r" b="b"/>
                <a:pathLst>
                  <a:path w="83" h="431">
                    <a:moveTo>
                      <a:pt x="0" y="0"/>
                    </a:moveTo>
                    <a:lnTo>
                      <a:pt x="51" y="106"/>
                    </a:lnTo>
                    <a:lnTo>
                      <a:pt x="51" y="297"/>
                    </a:lnTo>
                    <a:lnTo>
                      <a:pt x="83" y="385"/>
                    </a:lnTo>
                    <a:lnTo>
                      <a:pt x="42" y="431"/>
                    </a:lnTo>
                    <a:lnTo>
                      <a:pt x="24" y="203"/>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308" name=""/>
              <p:cNvSpPr/>
              <p:nvPr/>
            </p:nvSpPr>
            <p:spPr>
              <a:xfrm>
                <a:off x="7720560" y="4721040"/>
                <a:ext cx="34920" cy="72000"/>
              </a:xfrm>
              <a:custGeom>
                <a:avLst/>
                <a:gdLst/>
                <a:ahLst/>
                <a:rect l="l" t="t" r="r" b="b"/>
                <a:pathLst>
                  <a:path w="427" h="680">
                    <a:moveTo>
                      <a:pt x="0" y="0"/>
                    </a:moveTo>
                    <a:lnTo>
                      <a:pt x="175" y="532"/>
                    </a:lnTo>
                    <a:lnTo>
                      <a:pt x="307" y="543"/>
                    </a:lnTo>
                    <a:lnTo>
                      <a:pt x="427" y="629"/>
                    </a:lnTo>
                    <a:lnTo>
                      <a:pt x="366" y="680"/>
                    </a:lnTo>
                    <a:lnTo>
                      <a:pt x="175" y="611"/>
                    </a:lnTo>
                    <a:lnTo>
                      <a:pt x="81" y="323"/>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309" name=""/>
              <p:cNvSpPr/>
              <p:nvPr/>
            </p:nvSpPr>
            <p:spPr>
              <a:xfrm>
                <a:off x="7726320" y="4708440"/>
                <a:ext cx="10440" cy="34560"/>
              </a:xfrm>
              <a:custGeom>
                <a:avLst/>
                <a:gdLst/>
                <a:ahLst/>
                <a:rect l="l" t="t" r="r" b="b"/>
                <a:pathLst>
                  <a:path w="131" h="329">
                    <a:moveTo>
                      <a:pt x="131" y="14"/>
                    </a:moveTo>
                    <a:lnTo>
                      <a:pt x="43" y="329"/>
                    </a:lnTo>
                    <a:lnTo>
                      <a:pt x="0" y="226"/>
                    </a:lnTo>
                    <a:lnTo>
                      <a:pt x="112" y="0"/>
                    </a:lnTo>
                    <a:lnTo>
                      <a:pt x="131"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310" name=""/>
              <p:cNvSpPr/>
              <p:nvPr/>
            </p:nvSpPr>
            <p:spPr>
              <a:xfrm>
                <a:off x="7742520" y="4617000"/>
                <a:ext cx="8280" cy="32760"/>
              </a:xfrm>
              <a:custGeom>
                <a:avLst/>
                <a:gdLst/>
                <a:ahLst/>
                <a:rect l="l" t="t" r="r" b="b"/>
                <a:pathLst>
                  <a:path w="103" h="319">
                    <a:moveTo>
                      <a:pt x="71" y="0"/>
                    </a:moveTo>
                    <a:lnTo>
                      <a:pt x="71" y="171"/>
                    </a:lnTo>
                    <a:lnTo>
                      <a:pt x="103" y="319"/>
                    </a:lnTo>
                    <a:lnTo>
                      <a:pt x="0" y="210"/>
                    </a:lnTo>
                    <a:lnTo>
                      <a:pt x="7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311" name=""/>
              <p:cNvSpPr/>
              <p:nvPr/>
            </p:nvSpPr>
            <p:spPr>
              <a:xfrm>
                <a:off x="7753680" y="4539600"/>
                <a:ext cx="44280" cy="75240"/>
              </a:xfrm>
              <a:custGeom>
                <a:avLst/>
                <a:gdLst/>
                <a:ahLst/>
                <a:rect l="l" t="t" r="r" b="b"/>
                <a:pathLst>
                  <a:path w="533" h="711">
                    <a:moveTo>
                      <a:pt x="0" y="393"/>
                    </a:moveTo>
                    <a:lnTo>
                      <a:pt x="60" y="393"/>
                    </a:lnTo>
                    <a:lnTo>
                      <a:pt x="174" y="520"/>
                    </a:lnTo>
                    <a:lnTo>
                      <a:pt x="254" y="711"/>
                    </a:lnTo>
                    <a:lnTo>
                      <a:pt x="189" y="503"/>
                    </a:lnTo>
                    <a:lnTo>
                      <a:pt x="93" y="329"/>
                    </a:lnTo>
                    <a:lnTo>
                      <a:pt x="51" y="305"/>
                    </a:lnTo>
                    <a:lnTo>
                      <a:pt x="227" y="164"/>
                    </a:lnTo>
                    <a:lnTo>
                      <a:pt x="427" y="141"/>
                    </a:lnTo>
                    <a:lnTo>
                      <a:pt x="533" y="0"/>
                    </a:lnTo>
                    <a:lnTo>
                      <a:pt x="306" y="35"/>
                    </a:lnTo>
                    <a:lnTo>
                      <a:pt x="189" y="153"/>
                    </a:lnTo>
                    <a:lnTo>
                      <a:pt x="21" y="305"/>
                    </a:lnTo>
                    <a:lnTo>
                      <a:pt x="0" y="3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312" name=""/>
              <p:cNvSpPr/>
              <p:nvPr/>
            </p:nvSpPr>
            <p:spPr>
              <a:xfrm>
                <a:off x="7816680" y="4510080"/>
                <a:ext cx="9720" cy="16560"/>
              </a:xfrm>
              <a:custGeom>
                <a:avLst/>
                <a:gdLst/>
                <a:ahLst/>
                <a:rect l="l" t="t" r="r" b="b"/>
                <a:pathLst>
                  <a:path w="118" h="158">
                    <a:moveTo>
                      <a:pt x="63" y="0"/>
                    </a:moveTo>
                    <a:lnTo>
                      <a:pt x="0" y="158"/>
                    </a:lnTo>
                    <a:lnTo>
                      <a:pt x="26" y="158"/>
                    </a:lnTo>
                    <a:lnTo>
                      <a:pt x="118" y="38"/>
                    </a:lnTo>
                    <a:lnTo>
                      <a:pt x="63"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313" name=""/>
              <p:cNvSpPr/>
              <p:nvPr/>
            </p:nvSpPr>
            <p:spPr>
              <a:xfrm>
                <a:off x="7829280" y="4556520"/>
                <a:ext cx="81360" cy="64440"/>
              </a:xfrm>
              <a:custGeom>
                <a:avLst/>
                <a:gdLst/>
                <a:ahLst/>
                <a:rect l="l" t="t" r="r" b="b"/>
                <a:pathLst>
                  <a:path w="985" h="611">
                    <a:moveTo>
                      <a:pt x="55" y="194"/>
                    </a:moveTo>
                    <a:lnTo>
                      <a:pt x="107" y="264"/>
                    </a:lnTo>
                    <a:lnTo>
                      <a:pt x="182" y="334"/>
                    </a:lnTo>
                    <a:lnTo>
                      <a:pt x="199" y="354"/>
                    </a:lnTo>
                    <a:lnTo>
                      <a:pt x="257" y="334"/>
                    </a:lnTo>
                    <a:lnTo>
                      <a:pt x="254" y="387"/>
                    </a:lnTo>
                    <a:lnTo>
                      <a:pt x="301" y="424"/>
                    </a:lnTo>
                    <a:lnTo>
                      <a:pt x="413" y="470"/>
                    </a:lnTo>
                    <a:lnTo>
                      <a:pt x="479" y="502"/>
                    </a:lnTo>
                    <a:lnTo>
                      <a:pt x="538" y="543"/>
                    </a:lnTo>
                    <a:lnTo>
                      <a:pt x="580" y="585"/>
                    </a:lnTo>
                    <a:lnTo>
                      <a:pt x="901" y="20"/>
                    </a:lnTo>
                    <a:lnTo>
                      <a:pt x="938" y="0"/>
                    </a:lnTo>
                    <a:lnTo>
                      <a:pt x="976" y="0"/>
                    </a:lnTo>
                    <a:lnTo>
                      <a:pt x="985" y="20"/>
                    </a:lnTo>
                    <a:lnTo>
                      <a:pt x="967" y="29"/>
                    </a:lnTo>
                    <a:lnTo>
                      <a:pt x="936" y="29"/>
                    </a:lnTo>
                    <a:lnTo>
                      <a:pt x="899" y="48"/>
                    </a:lnTo>
                    <a:lnTo>
                      <a:pt x="865" y="90"/>
                    </a:lnTo>
                    <a:lnTo>
                      <a:pt x="580" y="611"/>
                    </a:lnTo>
                    <a:lnTo>
                      <a:pt x="459" y="565"/>
                    </a:lnTo>
                    <a:lnTo>
                      <a:pt x="538" y="578"/>
                    </a:lnTo>
                    <a:lnTo>
                      <a:pt x="485" y="532"/>
                    </a:lnTo>
                    <a:lnTo>
                      <a:pt x="404" y="486"/>
                    </a:lnTo>
                    <a:lnTo>
                      <a:pt x="325" y="458"/>
                    </a:lnTo>
                    <a:lnTo>
                      <a:pt x="296" y="453"/>
                    </a:lnTo>
                    <a:lnTo>
                      <a:pt x="362" y="519"/>
                    </a:lnTo>
                    <a:lnTo>
                      <a:pt x="301" y="475"/>
                    </a:lnTo>
                    <a:lnTo>
                      <a:pt x="257" y="440"/>
                    </a:lnTo>
                    <a:lnTo>
                      <a:pt x="204" y="383"/>
                    </a:lnTo>
                    <a:lnTo>
                      <a:pt x="136" y="315"/>
                    </a:lnTo>
                    <a:lnTo>
                      <a:pt x="74" y="269"/>
                    </a:lnTo>
                    <a:lnTo>
                      <a:pt x="24" y="224"/>
                    </a:lnTo>
                    <a:lnTo>
                      <a:pt x="0" y="185"/>
                    </a:lnTo>
                    <a:lnTo>
                      <a:pt x="55" y="19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314" name=""/>
              <p:cNvSpPr/>
              <p:nvPr/>
            </p:nvSpPr>
            <p:spPr>
              <a:xfrm>
                <a:off x="7829280" y="4494960"/>
                <a:ext cx="23760" cy="37080"/>
              </a:xfrm>
              <a:custGeom>
                <a:avLst/>
                <a:gdLst/>
                <a:ahLst/>
                <a:rect l="l" t="t" r="r" b="b"/>
                <a:pathLst>
                  <a:path w="281" h="354">
                    <a:moveTo>
                      <a:pt x="0" y="338"/>
                    </a:moveTo>
                    <a:lnTo>
                      <a:pt x="199" y="42"/>
                    </a:lnTo>
                    <a:lnTo>
                      <a:pt x="228" y="17"/>
                    </a:lnTo>
                    <a:lnTo>
                      <a:pt x="254" y="0"/>
                    </a:lnTo>
                    <a:lnTo>
                      <a:pt x="281" y="6"/>
                    </a:lnTo>
                    <a:lnTo>
                      <a:pt x="241" y="22"/>
                    </a:lnTo>
                    <a:lnTo>
                      <a:pt x="206" y="54"/>
                    </a:lnTo>
                    <a:lnTo>
                      <a:pt x="4" y="354"/>
                    </a:lnTo>
                    <a:lnTo>
                      <a:pt x="0" y="338"/>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315" name=""/>
              <p:cNvSpPr/>
              <p:nvPr/>
            </p:nvSpPr>
            <p:spPr>
              <a:xfrm>
                <a:off x="7831800" y="4532760"/>
                <a:ext cx="57600" cy="25200"/>
              </a:xfrm>
              <a:custGeom>
                <a:avLst/>
                <a:gdLst/>
                <a:ahLst/>
                <a:rect l="l" t="t" r="r" b="b"/>
                <a:pathLst>
                  <a:path w="696" h="242">
                    <a:moveTo>
                      <a:pt x="0" y="242"/>
                    </a:moveTo>
                    <a:lnTo>
                      <a:pt x="39" y="215"/>
                    </a:lnTo>
                    <a:lnTo>
                      <a:pt x="81" y="180"/>
                    </a:lnTo>
                    <a:lnTo>
                      <a:pt x="131" y="111"/>
                    </a:lnTo>
                    <a:lnTo>
                      <a:pt x="156" y="69"/>
                    </a:lnTo>
                    <a:lnTo>
                      <a:pt x="180" y="49"/>
                    </a:lnTo>
                    <a:lnTo>
                      <a:pt x="208" y="31"/>
                    </a:lnTo>
                    <a:lnTo>
                      <a:pt x="248" y="21"/>
                    </a:lnTo>
                    <a:lnTo>
                      <a:pt x="369" y="0"/>
                    </a:lnTo>
                    <a:lnTo>
                      <a:pt x="439" y="3"/>
                    </a:lnTo>
                    <a:lnTo>
                      <a:pt x="527" y="40"/>
                    </a:lnTo>
                    <a:lnTo>
                      <a:pt x="592" y="88"/>
                    </a:lnTo>
                    <a:lnTo>
                      <a:pt x="696" y="137"/>
                    </a:lnTo>
                    <a:lnTo>
                      <a:pt x="617" y="125"/>
                    </a:lnTo>
                    <a:lnTo>
                      <a:pt x="564" y="106"/>
                    </a:lnTo>
                    <a:lnTo>
                      <a:pt x="527" y="86"/>
                    </a:lnTo>
                    <a:lnTo>
                      <a:pt x="483" y="75"/>
                    </a:lnTo>
                    <a:lnTo>
                      <a:pt x="459" y="79"/>
                    </a:lnTo>
                    <a:lnTo>
                      <a:pt x="435" y="150"/>
                    </a:lnTo>
                    <a:lnTo>
                      <a:pt x="384" y="211"/>
                    </a:lnTo>
                    <a:lnTo>
                      <a:pt x="421" y="152"/>
                    </a:lnTo>
                    <a:lnTo>
                      <a:pt x="447" y="69"/>
                    </a:lnTo>
                    <a:lnTo>
                      <a:pt x="447" y="49"/>
                    </a:lnTo>
                    <a:lnTo>
                      <a:pt x="430" y="28"/>
                    </a:lnTo>
                    <a:lnTo>
                      <a:pt x="384" y="16"/>
                    </a:lnTo>
                    <a:lnTo>
                      <a:pt x="329" y="21"/>
                    </a:lnTo>
                    <a:lnTo>
                      <a:pt x="313" y="44"/>
                    </a:lnTo>
                    <a:lnTo>
                      <a:pt x="343" y="222"/>
                    </a:lnTo>
                    <a:lnTo>
                      <a:pt x="325" y="222"/>
                    </a:lnTo>
                    <a:lnTo>
                      <a:pt x="256" y="198"/>
                    </a:lnTo>
                    <a:lnTo>
                      <a:pt x="195" y="174"/>
                    </a:lnTo>
                    <a:lnTo>
                      <a:pt x="164" y="150"/>
                    </a:lnTo>
                    <a:lnTo>
                      <a:pt x="145" y="137"/>
                    </a:lnTo>
                    <a:lnTo>
                      <a:pt x="108" y="174"/>
                    </a:lnTo>
                    <a:lnTo>
                      <a:pt x="67" y="210"/>
                    </a:lnTo>
                    <a:lnTo>
                      <a:pt x="25" y="231"/>
                    </a:lnTo>
                    <a:lnTo>
                      <a:pt x="0" y="24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16" name=""/>
              <p:cNvSpPr/>
              <p:nvPr/>
            </p:nvSpPr>
            <p:spPr>
              <a:xfrm>
                <a:off x="7886880" y="4493880"/>
                <a:ext cx="32400" cy="46440"/>
              </a:xfrm>
              <a:custGeom>
                <a:avLst/>
                <a:gdLst/>
                <a:ahLst/>
                <a:rect l="l" t="t" r="r" b="b"/>
                <a:pathLst>
                  <a:path w="385" h="439">
                    <a:moveTo>
                      <a:pt x="0" y="0"/>
                    </a:moveTo>
                    <a:lnTo>
                      <a:pt x="40" y="55"/>
                    </a:lnTo>
                    <a:lnTo>
                      <a:pt x="63" y="111"/>
                    </a:lnTo>
                    <a:lnTo>
                      <a:pt x="86" y="256"/>
                    </a:lnTo>
                    <a:lnTo>
                      <a:pt x="75" y="439"/>
                    </a:lnTo>
                    <a:lnTo>
                      <a:pt x="114" y="274"/>
                    </a:lnTo>
                    <a:lnTo>
                      <a:pt x="148" y="189"/>
                    </a:lnTo>
                    <a:lnTo>
                      <a:pt x="204" y="107"/>
                    </a:lnTo>
                    <a:lnTo>
                      <a:pt x="235" y="111"/>
                    </a:lnTo>
                    <a:lnTo>
                      <a:pt x="211" y="256"/>
                    </a:lnTo>
                    <a:lnTo>
                      <a:pt x="215" y="292"/>
                    </a:lnTo>
                    <a:lnTo>
                      <a:pt x="385" y="74"/>
                    </a:lnTo>
                    <a:lnTo>
                      <a:pt x="310" y="26"/>
                    </a:lnTo>
                    <a:lnTo>
                      <a:pt x="252" y="67"/>
                    </a:lnTo>
                    <a:lnTo>
                      <a:pt x="204" y="58"/>
                    </a:lnTo>
                    <a:lnTo>
                      <a:pt x="112" y="81"/>
                    </a:lnTo>
                    <a:lnTo>
                      <a:pt x="81" y="81"/>
                    </a:lnTo>
                    <a:lnTo>
                      <a:pt x="37" y="26"/>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7" name=""/>
              <p:cNvSpPr/>
              <p:nvPr/>
            </p:nvSpPr>
            <p:spPr>
              <a:xfrm>
                <a:off x="7855920" y="4553280"/>
                <a:ext cx="68040" cy="245520"/>
              </a:xfrm>
              <a:custGeom>
                <a:avLst/>
                <a:gdLst/>
                <a:ahLst/>
                <a:rect l="l" t="t" r="r" b="b"/>
                <a:pathLst>
                  <a:path w="819" h="2318">
                    <a:moveTo>
                      <a:pt x="102" y="23"/>
                    </a:moveTo>
                    <a:lnTo>
                      <a:pt x="196" y="140"/>
                    </a:lnTo>
                    <a:lnTo>
                      <a:pt x="275" y="327"/>
                    </a:lnTo>
                    <a:lnTo>
                      <a:pt x="424" y="714"/>
                    </a:lnTo>
                    <a:lnTo>
                      <a:pt x="579" y="1265"/>
                    </a:lnTo>
                    <a:lnTo>
                      <a:pt x="712" y="1680"/>
                    </a:lnTo>
                    <a:lnTo>
                      <a:pt x="819" y="1925"/>
                    </a:lnTo>
                    <a:lnTo>
                      <a:pt x="660" y="2318"/>
                    </a:lnTo>
                    <a:lnTo>
                      <a:pt x="526" y="2190"/>
                    </a:lnTo>
                    <a:lnTo>
                      <a:pt x="252" y="1992"/>
                    </a:lnTo>
                    <a:lnTo>
                      <a:pt x="35" y="546"/>
                    </a:lnTo>
                    <a:lnTo>
                      <a:pt x="0" y="274"/>
                    </a:lnTo>
                    <a:lnTo>
                      <a:pt x="17" y="103"/>
                    </a:lnTo>
                    <a:lnTo>
                      <a:pt x="35" y="41"/>
                    </a:lnTo>
                    <a:lnTo>
                      <a:pt x="35" y="0"/>
                    </a:lnTo>
                    <a:lnTo>
                      <a:pt x="60" y="41"/>
                    </a:lnTo>
                    <a:lnTo>
                      <a:pt x="53" y="134"/>
                    </a:lnTo>
                    <a:lnTo>
                      <a:pt x="60" y="292"/>
                    </a:lnTo>
                    <a:lnTo>
                      <a:pt x="77" y="465"/>
                    </a:lnTo>
                    <a:lnTo>
                      <a:pt x="116" y="707"/>
                    </a:lnTo>
                    <a:lnTo>
                      <a:pt x="284" y="1487"/>
                    </a:lnTo>
                    <a:lnTo>
                      <a:pt x="343" y="1953"/>
                    </a:lnTo>
                    <a:lnTo>
                      <a:pt x="360" y="2010"/>
                    </a:lnTo>
                    <a:lnTo>
                      <a:pt x="512" y="2142"/>
                    </a:lnTo>
                    <a:lnTo>
                      <a:pt x="642" y="2252"/>
                    </a:lnTo>
                    <a:lnTo>
                      <a:pt x="734" y="2019"/>
                    </a:lnTo>
                    <a:lnTo>
                      <a:pt x="778" y="1925"/>
                    </a:lnTo>
                    <a:lnTo>
                      <a:pt x="651" y="1604"/>
                    </a:lnTo>
                    <a:lnTo>
                      <a:pt x="561" y="1296"/>
                    </a:lnTo>
                    <a:lnTo>
                      <a:pt x="433" y="863"/>
                    </a:lnTo>
                    <a:lnTo>
                      <a:pt x="351" y="555"/>
                    </a:lnTo>
                    <a:lnTo>
                      <a:pt x="235" y="239"/>
                    </a:lnTo>
                    <a:lnTo>
                      <a:pt x="162" y="116"/>
                    </a:lnTo>
                    <a:lnTo>
                      <a:pt x="10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8" name=""/>
              <p:cNvSpPr/>
              <p:nvPr/>
            </p:nvSpPr>
            <p:spPr>
              <a:xfrm>
                <a:off x="7836480" y="4630320"/>
                <a:ext cx="187560" cy="197280"/>
              </a:xfrm>
              <a:custGeom>
                <a:avLst/>
                <a:gdLst/>
                <a:ahLst/>
                <a:rect l="l" t="t" r="r" b="b"/>
                <a:pathLst>
                  <a:path w="2266" h="1862">
                    <a:moveTo>
                      <a:pt x="947" y="954"/>
                    </a:moveTo>
                    <a:lnTo>
                      <a:pt x="1211" y="1046"/>
                    </a:lnTo>
                    <a:lnTo>
                      <a:pt x="1455" y="1180"/>
                    </a:lnTo>
                    <a:lnTo>
                      <a:pt x="1630" y="1244"/>
                    </a:lnTo>
                    <a:lnTo>
                      <a:pt x="1747" y="1362"/>
                    </a:lnTo>
                    <a:lnTo>
                      <a:pt x="1925" y="1436"/>
                    </a:lnTo>
                    <a:lnTo>
                      <a:pt x="1914" y="1348"/>
                    </a:lnTo>
                    <a:lnTo>
                      <a:pt x="1764" y="1189"/>
                    </a:lnTo>
                    <a:lnTo>
                      <a:pt x="1582" y="1055"/>
                    </a:lnTo>
                    <a:lnTo>
                      <a:pt x="1854" y="1194"/>
                    </a:lnTo>
                    <a:lnTo>
                      <a:pt x="1905" y="908"/>
                    </a:lnTo>
                    <a:lnTo>
                      <a:pt x="1815" y="921"/>
                    </a:lnTo>
                    <a:lnTo>
                      <a:pt x="1747" y="908"/>
                    </a:lnTo>
                    <a:lnTo>
                      <a:pt x="1663" y="855"/>
                    </a:lnTo>
                    <a:lnTo>
                      <a:pt x="1738" y="839"/>
                    </a:lnTo>
                    <a:lnTo>
                      <a:pt x="1815" y="765"/>
                    </a:lnTo>
                    <a:lnTo>
                      <a:pt x="1863" y="682"/>
                    </a:lnTo>
                    <a:lnTo>
                      <a:pt x="1905" y="506"/>
                    </a:lnTo>
                    <a:lnTo>
                      <a:pt x="1914" y="273"/>
                    </a:lnTo>
                    <a:lnTo>
                      <a:pt x="1872" y="0"/>
                    </a:lnTo>
                    <a:lnTo>
                      <a:pt x="2048" y="168"/>
                    </a:lnTo>
                    <a:lnTo>
                      <a:pt x="2131" y="308"/>
                    </a:lnTo>
                    <a:lnTo>
                      <a:pt x="2110" y="325"/>
                    </a:lnTo>
                    <a:lnTo>
                      <a:pt x="1988" y="242"/>
                    </a:lnTo>
                    <a:lnTo>
                      <a:pt x="2013" y="541"/>
                    </a:lnTo>
                    <a:lnTo>
                      <a:pt x="2165" y="839"/>
                    </a:lnTo>
                    <a:lnTo>
                      <a:pt x="2206" y="1014"/>
                    </a:lnTo>
                    <a:lnTo>
                      <a:pt x="2149" y="1079"/>
                    </a:lnTo>
                    <a:lnTo>
                      <a:pt x="2156" y="1180"/>
                    </a:lnTo>
                    <a:lnTo>
                      <a:pt x="2266" y="1348"/>
                    </a:lnTo>
                    <a:lnTo>
                      <a:pt x="2266" y="1398"/>
                    </a:lnTo>
                    <a:lnTo>
                      <a:pt x="2215" y="1459"/>
                    </a:lnTo>
                    <a:lnTo>
                      <a:pt x="2013" y="1593"/>
                    </a:lnTo>
                    <a:lnTo>
                      <a:pt x="1896" y="1680"/>
                    </a:lnTo>
                    <a:lnTo>
                      <a:pt x="1738" y="1862"/>
                    </a:lnTo>
                    <a:lnTo>
                      <a:pt x="1496" y="1862"/>
                    </a:lnTo>
                    <a:lnTo>
                      <a:pt x="1444" y="1833"/>
                    </a:lnTo>
                    <a:lnTo>
                      <a:pt x="1356" y="1824"/>
                    </a:lnTo>
                    <a:lnTo>
                      <a:pt x="1305" y="1862"/>
                    </a:lnTo>
                    <a:lnTo>
                      <a:pt x="0" y="1862"/>
                    </a:lnTo>
                    <a:lnTo>
                      <a:pt x="169" y="1752"/>
                    </a:lnTo>
                    <a:lnTo>
                      <a:pt x="344" y="1662"/>
                    </a:lnTo>
                    <a:lnTo>
                      <a:pt x="542" y="1578"/>
                    </a:lnTo>
                    <a:lnTo>
                      <a:pt x="747" y="1512"/>
                    </a:lnTo>
                    <a:lnTo>
                      <a:pt x="830" y="1496"/>
                    </a:lnTo>
                    <a:lnTo>
                      <a:pt x="865" y="1545"/>
                    </a:lnTo>
                    <a:lnTo>
                      <a:pt x="837" y="1668"/>
                    </a:lnTo>
                    <a:lnTo>
                      <a:pt x="877" y="1721"/>
                    </a:lnTo>
                    <a:lnTo>
                      <a:pt x="1178" y="1680"/>
                    </a:lnTo>
                    <a:lnTo>
                      <a:pt x="1187" y="1653"/>
                    </a:lnTo>
                    <a:lnTo>
                      <a:pt x="1174" y="1629"/>
                    </a:lnTo>
                    <a:lnTo>
                      <a:pt x="947" y="1653"/>
                    </a:lnTo>
                    <a:lnTo>
                      <a:pt x="911" y="1635"/>
                    </a:lnTo>
                    <a:lnTo>
                      <a:pt x="906" y="1545"/>
                    </a:lnTo>
                    <a:lnTo>
                      <a:pt x="964" y="1503"/>
                    </a:lnTo>
                    <a:lnTo>
                      <a:pt x="994" y="1539"/>
                    </a:lnTo>
                    <a:lnTo>
                      <a:pt x="1037" y="1593"/>
                    </a:lnTo>
                    <a:lnTo>
                      <a:pt x="1103" y="1593"/>
                    </a:lnTo>
                    <a:lnTo>
                      <a:pt x="1139" y="1521"/>
                    </a:lnTo>
                    <a:lnTo>
                      <a:pt x="1019" y="1479"/>
                    </a:lnTo>
                    <a:lnTo>
                      <a:pt x="969" y="1470"/>
                    </a:lnTo>
                    <a:lnTo>
                      <a:pt x="1156" y="1459"/>
                    </a:lnTo>
                    <a:lnTo>
                      <a:pt x="1428" y="1452"/>
                    </a:lnTo>
                    <a:lnTo>
                      <a:pt x="1571" y="1459"/>
                    </a:lnTo>
                    <a:lnTo>
                      <a:pt x="1413" y="1398"/>
                    </a:lnTo>
                    <a:lnTo>
                      <a:pt x="1331" y="1319"/>
                    </a:lnTo>
                    <a:lnTo>
                      <a:pt x="1437" y="1353"/>
                    </a:lnTo>
                    <a:lnTo>
                      <a:pt x="1707" y="1459"/>
                    </a:lnTo>
                    <a:lnTo>
                      <a:pt x="1848" y="1479"/>
                    </a:lnTo>
                    <a:lnTo>
                      <a:pt x="1531" y="1256"/>
                    </a:lnTo>
                    <a:lnTo>
                      <a:pt x="1266" y="1106"/>
                    </a:lnTo>
                    <a:lnTo>
                      <a:pt x="1095" y="1064"/>
                    </a:lnTo>
                    <a:lnTo>
                      <a:pt x="1037" y="1002"/>
                    </a:lnTo>
                    <a:lnTo>
                      <a:pt x="947" y="9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9" name=""/>
              <p:cNvSpPr/>
              <p:nvPr/>
            </p:nvSpPr>
            <p:spPr>
              <a:xfrm>
                <a:off x="7927200" y="4494960"/>
                <a:ext cx="36360" cy="20880"/>
              </a:xfrm>
              <a:custGeom>
                <a:avLst/>
                <a:gdLst/>
                <a:ahLst/>
                <a:rect l="l" t="t" r="r" b="b"/>
                <a:pathLst>
                  <a:path w="443" h="201">
                    <a:moveTo>
                      <a:pt x="0" y="69"/>
                    </a:moveTo>
                    <a:lnTo>
                      <a:pt x="0" y="201"/>
                    </a:lnTo>
                    <a:lnTo>
                      <a:pt x="236" y="46"/>
                    </a:lnTo>
                    <a:lnTo>
                      <a:pt x="261" y="69"/>
                    </a:lnTo>
                    <a:lnTo>
                      <a:pt x="351" y="78"/>
                    </a:lnTo>
                    <a:lnTo>
                      <a:pt x="443" y="19"/>
                    </a:lnTo>
                    <a:lnTo>
                      <a:pt x="342" y="51"/>
                    </a:lnTo>
                    <a:lnTo>
                      <a:pt x="287" y="46"/>
                    </a:lnTo>
                    <a:lnTo>
                      <a:pt x="236" y="0"/>
                    </a:lnTo>
                    <a:lnTo>
                      <a:pt x="134" y="69"/>
                    </a:lnTo>
                    <a:lnTo>
                      <a:pt x="0" y="6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20" name=""/>
              <p:cNvSpPr/>
              <p:nvPr/>
            </p:nvSpPr>
            <p:spPr>
              <a:xfrm>
                <a:off x="7975080" y="4502520"/>
                <a:ext cx="57240" cy="114480"/>
              </a:xfrm>
              <a:custGeom>
                <a:avLst/>
                <a:gdLst/>
                <a:ahLst/>
                <a:rect l="l" t="t" r="r" b="b"/>
                <a:pathLst>
                  <a:path w="701" h="1079">
                    <a:moveTo>
                      <a:pt x="0" y="0"/>
                    </a:moveTo>
                    <a:lnTo>
                      <a:pt x="281" y="374"/>
                    </a:lnTo>
                    <a:lnTo>
                      <a:pt x="424" y="438"/>
                    </a:lnTo>
                    <a:lnTo>
                      <a:pt x="438" y="688"/>
                    </a:lnTo>
                    <a:lnTo>
                      <a:pt x="519" y="823"/>
                    </a:lnTo>
                    <a:lnTo>
                      <a:pt x="519" y="1079"/>
                    </a:lnTo>
                    <a:lnTo>
                      <a:pt x="551" y="1035"/>
                    </a:lnTo>
                    <a:lnTo>
                      <a:pt x="551" y="680"/>
                    </a:lnTo>
                    <a:lnTo>
                      <a:pt x="659" y="747"/>
                    </a:lnTo>
                    <a:lnTo>
                      <a:pt x="684" y="862"/>
                    </a:lnTo>
                    <a:lnTo>
                      <a:pt x="701" y="754"/>
                    </a:lnTo>
                    <a:lnTo>
                      <a:pt x="627" y="583"/>
                    </a:lnTo>
                    <a:lnTo>
                      <a:pt x="361" y="316"/>
                    </a:lnTo>
                    <a:lnTo>
                      <a:pt x="253" y="28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1" name=""/>
              <p:cNvSpPr/>
              <p:nvPr/>
            </p:nvSpPr>
            <p:spPr>
              <a:xfrm>
                <a:off x="7945200" y="4549680"/>
                <a:ext cx="30960" cy="55800"/>
              </a:xfrm>
              <a:custGeom>
                <a:avLst/>
                <a:gdLst/>
                <a:ahLst/>
                <a:rect l="l" t="t" r="r" b="b"/>
                <a:pathLst>
                  <a:path w="378" h="533">
                    <a:moveTo>
                      <a:pt x="0" y="257"/>
                    </a:moveTo>
                    <a:lnTo>
                      <a:pt x="70" y="107"/>
                    </a:lnTo>
                    <a:lnTo>
                      <a:pt x="143" y="98"/>
                    </a:lnTo>
                    <a:lnTo>
                      <a:pt x="235" y="118"/>
                    </a:lnTo>
                    <a:lnTo>
                      <a:pt x="253" y="0"/>
                    </a:lnTo>
                    <a:lnTo>
                      <a:pt x="378" y="533"/>
                    </a:lnTo>
                    <a:lnTo>
                      <a:pt x="235" y="272"/>
                    </a:lnTo>
                    <a:lnTo>
                      <a:pt x="166" y="233"/>
                    </a:lnTo>
                    <a:lnTo>
                      <a:pt x="83" y="222"/>
                    </a:lnTo>
                    <a:lnTo>
                      <a:pt x="0" y="25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322" name=""/>
              <p:cNvSpPr/>
              <p:nvPr/>
            </p:nvSpPr>
            <p:spPr>
              <a:xfrm>
                <a:off x="8016120" y="4589640"/>
                <a:ext cx="59400" cy="122760"/>
              </a:xfrm>
              <a:custGeom>
                <a:avLst/>
                <a:gdLst/>
                <a:ahLst/>
                <a:rect l="l" t="t" r="r" b="b"/>
                <a:pathLst>
                  <a:path w="717" h="1161">
                    <a:moveTo>
                      <a:pt x="261" y="0"/>
                    </a:moveTo>
                    <a:lnTo>
                      <a:pt x="252" y="99"/>
                    </a:lnTo>
                    <a:lnTo>
                      <a:pt x="177" y="240"/>
                    </a:lnTo>
                    <a:lnTo>
                      <a:pt x="76" y="390"/>
                    </a:lnTo>
                    <a:lnTo>
                      <a:pt x="34" y="509"/>
                    </a:lnTo>
                    <a:lnTo>
                      <a:pt x="34" y="572"/>
                    </a:lnTo>
                    <a:lnTo>
                      <a:pt x="67" y="656"/>
                    </a:lnTo>
                    <a:lnTo>
                      <a:pt x="94" y="724"/>
                    </a:lnTo>
                    <a:lnTo>
                      <a:pt x="0" y="724"/>
                    </a:lnTo>
                    <a:lnTo>
                      <a:pt x="127" y="763"/>
                    </a:lnTo>
                    <a:lnTo>
                      <a:pt x="177" y="889"/>
                    </a:lnTo>
                    <a:lnTo>
                      <a:pt x="325" y="889"/>
                    </a:lnTo>
                    <a:lnTo>
                      <a:pt x="496" y="1161"/>
                    </a:lnTo>
                    <a:lnTo>
                      <a:pt x="535" y="1091"/>
                    </a:lnTo>
                    <a:lnTo>
                      <a:pt x="535" y="970"/>
                    </a:lnTo>
                    <a:lnTo>
                      <a:pt x="643" y="774"/>
                    </a:lnTo>
                    <a:lnTo>
                      <a:pt x="717" y="473"/>
                    </a:lnTo>
                    <a:lnTo>
                      <a:pt x="616" y="756"/>
                    </a:lnTo>
                    <a:lnTo>
                      <a:pt x="560" y="733"/>
                    </a:lnTo>
                    <a:lnTo>
                      <a:pt x="595" y="673"/>
                    </a:lnTo>
                    <a:lnTo>
                      <a:pt x="217" y="839"/>
                    </a:lnTo>
                    <a:lnTo>
                      <a:pt x="210" y="763"/>
                    </a:lnTo>
                    <a:lnTo>
                      <a:pt x="127" y="708"/>
                    </a:lnTo>
                    <a:lnTo>
                      <a:pt x="337" y="524"/>
                    </a:lnTo>
                    <a:lnTo>
                      <a:pt x="184" y="608"/>
                    </a:lnTo>
                    <a:lnTo>
                      <a:pt x="153" y="524"/>
                    </a:lnTo>
                    <a:lnTo>
                      <a:pt x="159" y="422"/>
                    </a:lnTo>
                    <a:lnTo>
                      <a:pt x="201" y="341"/>
                    </a:lnTo>
                    <a:lnTo>
                      <a:pt x="344" y="168"/>
                    </a:lnTo>
                    <a:lnTo>
                      <a:pt x="360" y="99"/>
                    </a:lnTo>
                    <a:lnTo>
                      <a:pt x="344" y="58"/>
                    </a:lnTo>
                    <a:lnTo>
                      <a:pt x="293" y="58"/>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3" name=""/>
              <p:cNvSpPr/>
              <p:nvPr/>
            </p:nvSpPr>
            <p:spPr>
              <a:xfrm>
                <a:off x="8027640" y="4717800"/>
                <a:ext cx="64080" cy="53280"/>
              </a:xfrm>
              <a:custGeom>
                <a:avLst/>
                <a:gdLst/>
                <a:ahLst/>
                <a:rect l="l" t="t" r="r" b="b"/>
                <a:pathLst>
                  <a:path w="775" h="510">
                    <a:moveTo>
                      <a:pt x="0" y="510"/>
                    </a:moveTo>
                    <a:lnTo>
                      <a:pt x="92" y="353"/>
                    </a:lnTo>
                    <a:lnTo>
                      <a:pt x="472" y="182"/>
                    </a:lnTo>
                    <a:lnTo>
                      <a:pt x="672" y="182"/>
                    </a:lnTo>
                    <a:lnTo>
                      <a:pt x="775" y="118"/>
                    </a:lnTo>
                    <a:lnTo>
                      <a:pt x="540" y="118"/>
                    </a:lnTo>
                    <a:lnTo>
                      <a:pt x="393" y="171"/>
                    </a:lnTo>
                    <a:lnTo>
                      <a:pt x="327" y="143"/>
                    </a:lnTo>
                    <a:lnTo>
                      <a:pt x="342" y="0"/>
                    </a:lnTo>
                    <a:lnTo>
                      <a:pt x="261" y="14"/>
                    </a:lnTo>
                    <a:lnTo>
                      <a:pt x="261" y="171"/>
                    </a:lnTo>
                    <a:lnTo>
                      <a:pt x="197" y="251"/>
                    </a:lnTo>
                    <a:lnTo>
                      <a:pt x="105" y="261"/>
                    </a:lnTo>
                    <a:lnTo>
                      <a:pt x="12" y="393"/>
                    </a:lnTo>
                    <a:lnTo>
                      <a:pt x="0" y="51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324" name=""/>
              <p:cNvSpPr/>
              <p:nvPr/>
            </p:nvSpPr>
            <p:spPr>
              <a:xfrm>
                <a:off x="8032680" y="4868640"/>
                <a:ext cx="98640" cy="47160"/>
              </a:xfrm>
              <a:custGeom>
                <a:avLst/>
                <a:gdLst/>
                <a:ahLst/>
                <a:rect l="l" t="t" r="r" b="b"/>
                <a:pathLst>
                  <a:path w="1191" h="446">
                    <a:moveTo>
                      <a:pt x="1191" y="174"/>
                    </a:moveTo>
                    <a:lnTo>
                      <a:pt x="841" y="283"/>
                    </a:lnTo>
                    <a:lnTo>
                      <a:pt x="622" y="446"/>
                    </a:lnTo>
                    <a:lnTo>
                      <a:pt x="609" y="374"/>
                    </a:lnTo>
                    <a:lnTo>
                      <a:pt x="912" y="176"/>
                    </a:lnTo>
                    <a:lnTo>
                      <a:pt x="877" y="137"/>
                    </a:lnTo>
                    <a:lnTo>
                      <a:pt x="708" y="149"/>
                    </a:lnTo>
                    <a:lnTo>
                      <a:pt x="490" y="213"/>
                    </a:lnTo>
                    <a:lnTo>
                      <a:pt x="512" y="108"/>
                    </a:lnTo>
                    <a:lnTo>
                      <a:pt x="313" y="96"/>
                    </a:lnTo>
                    <a:lnTo>
                      <a:pt x="205" y="55"/>
                    </a:lnTo>
                    <a:lnTo>
                      <a:pt x="69" y="24"/>
                    </a:lnTo>
                    <a:lnTo>
                      <a:pt x="0" y="61"/>
                    </a:lnTo>
                    <a:lnTo>
                      <a:pt x="80" y="0"/>
                    </a:lnTo>
                    <a:lnTo>
                      <a:pt x="246" y="47"/>
                    </a:lnTo>
                    <a:lnTo>
                      <a:pt x="409" y="77"/>
                    </a:lnTo>
                    <a:lnTo>
                      <a:pt x="537" y="73"/>
                    </a:lnTo>
                    <a:lnTo>
                      <a:pt x="652" y="55"/>
                    </a:lnTo>
                    <a:lnTo>
                      <a:pt x="749" y="112"/>
                    </a:lnTo>
                    <a:lnTo>
                      <a:pt x="1028" y="96"/>
                    </a:lnTo>
                    <a:lnTo>
                      <a:pt x="1164" y="154"/>
                    </a:lnTo>
                    <a:lnTo>
                      <a:pt x="1191" y="17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25" name=""/>
              <p:cNvSpPr/>
              <p:nvPr/>
            </p:nvSpPr>
            <p:spPr>
              <a:xfrm>
                <a:off x="7915320" y="4822200"/>
                <a:ext cx="145080" cy="129240"/>
              </a:xfrm>
              <a:custGeom>
                <a:avLst/>
                <a:gdLst/>
                <a:ahLst/>
                <a:rect l="l" t="t" r="r" b="b"/>
                <a:pathLst>
                  <a:path w="1754" h="1222">
                    <a:moveTo>
                      <a:pt x="1289" y="666"/>
                    </a:moveTo>
                    <a:lnTo>
                      <a:pt x="1258" y="826"/>
                    </a:lnTo>
                    <a:lnTo>
                      <a:pt x="1258" y="945"/>
                    </a:lnTo>
                    <a:lnTo>
                      <a:pt x="1289" y="1042"/>
                    </a:lnTo>
                    <a:lnTo>
                      <a:pt x="1311" y="1098"/>
                    </a:lnTo>
                    <a:lnTo>
                      <a:pt x="1754" y="1222"/>
                    </a:lnTo>
                    <a:lnTo>
                      <a:pt x="1293" y="1160"/>
                    </a:lnTo>
                    <a:lnTo>
                      <a:pt x="1251" y="1098"/>
                    </a:lnTo>
                    <a:lnTo>
                      <a:pt x="876" y="1092"/>
                    </a:lnTo>
                    <a:lnTo>
                      <a:pt x="576" y="1035"/>
                    </a:lnTo>
                    <a:lnTo>
                      <a:pt x="311" y="955"/>
                    </a:lnTo>
                    <a:lnTo>
                      <a:pt x="93" y="860"/>
                    </a:lnTo>
                    <a:lnTo>
                      <a:pt x="69" y="826"/>
                    </a:lnTo>
                    <a:lnTo>
                      <a:pt x="51" y="749"/>
                    </a:lnTo>
                    <a:lnTo>
                      <a:pt x="0" y="652"/>
                    </a:lnTo>
                    <a:lnTo>
                      <a:pt x="12" y="615"/>
                    </a:lnTo>
                    <a:lnTo>
                      <a:pt x="32" y="588"/>
                    </a:lnTo>
                    <a:lnTo>
                      <a:pt x="32" y="452"/>
                    </a:lnTo>
                    <a:lnTo>
                      <a:pt x="51" y="406"/>
                    </a:lnTo>
                    <a:lnTo>
                      <a:pt x="80" y="382"/>
                    </a:lnTo>
                    <a:lnTo>
                      <a:pt x="58" y="433"/>
                    </a:lnTo>
                    <a:lnTo>
                      <a:pt x="51" y="547"/>
                    </a:lnTo>
                    <a:lnTo>
                      <a:pt x="58" y="613"/>
                    </a:lnTo>
                    <a:lnTo>
                      <a:pt x="230" y="756"/>
                    </a:lnTo>
                    <a:lnTo>
                      <a:pt x="258" y="749"/>
                    </a:lnTo>
                    <a:lnTo>
                      <a:pt x="278" y="670"/>
                    </a:lnTo>
                    <a:lnTo>
                      <a:pt x="170" y="494"/>
                    </a:lnTo>
                    <a:lnTo>
                      <a:pt x="140" y="344"/>
                    </a:lnTo>
                    <a:lnTo>
                      <a:pt x="201" y="202"/>
                    </a:lnTo>
                    <a:lnTo>
                      <a:pt x="201" y="426"/>
                    </a:lnTo>
                    <a:lnTo>
                      <a:pt x="361" y="786"/>
                    </a:lnTo>
                    <a:lnTo>
                      <a:pt x="438" y="802"/>
                    </a:lnTo>
                    <a:lnTo>
                      <a:pt x="489" y="770"/>
                    </a:lnTo>
                    <a:lnTo>
                      <a:pt x="480" y="685"/>
                    </a:lnTo>
                    <a:lnTo>
                      <a:pt x="320" y="286"/>
                    </a:lnTo>
                    <a:lnTo>
                      <a:pt x="320" y="166"/>
                    </a:lnTo>
                    <a:lnTo>
                      <a:pt x="320" y="72"/>
                    </a:lnTo>
                    <a:lnTo>
                      <a:pt x="361" y="0"/>
                    </a:lnTo>
                    <a:lnTo>
                      <a:pt x="343" y="136"/>
                    </a:lnTo>
                    <a:lnTo>
                      <a:pt x="350" y="272"/>
                    </a:lnTo>
                    <a:lnTo>
                      <a:pt x="451" y="540"/>
                    </a:lnTo>
                    <a:lnTo>
                      <a:pt x="493" y="560"/>
                    </a:lnTo>
                    <a:lnTo>
                      <a:pt x="535" y="516"/>
                    </a:lnTo>
                    <a:lnTo>
                      <a:pt x="553" y="468"/>
                    </a:lnTo>
                    <a:lnTo>
                      <a:pt x="546" y="362"/>
                    </a:lnTo>
                    <a:lnTo>
                      <a:pt x="528" y="219"/>
                    </a:lnTo>
                    <a:lnTo>
                      <a:pt x="553" y="215"/>
                    </a:lnTo>
                    <a:lnTo>
                      <a:pt x="581" y="459"/>
                    </a:lnTo>
                    <a:lnTo>
                      <a:pt x="570" y="523"/>
                    </a:lnTo>
                    <a:lnTo>
                      <a:pt x="541" y="569"/>
                    </a:lnTo>
                    <a:lnTo>
                      <a:pt x="498" y="613"/>
                    </a:lnTo>
                    <a:lnTo>
                      <a:pt x="511" y="740"/>
                    </a:lnTo>
                    <a:lnTo>
                      <a:pt x="504" y="826"/>
                    </a:lnTo>
                    <a:lnTo>
                      <a:pt x="456" y="844"/>
                    </a:lnTo>
                    <a:lnTo>
                      <a:pt x="392" y="839"/>
                    </a:lnTo>
                    <a:lnTo>
                      <a:pt x="311" y="795"/>
                    </a:lnTo>
                    <a:lnTo>
                      <a:pt x="265" y="802"/>
                    </a:lnTo>
                    <a:lnTo>
                      <a:pt x="93" y="724"/>
                    </a:lnTo>
                    <a:lnTo>
                      <a:pt x="87" y="806"/>
                    </a:lnTo>
                    <a:lnTo>
                      <a:pt x="152" y="867"/>
                    </a:lnTo>
                    <a:lnTo>
                      <a:pt x="504" y="986"/>
                    </a:lnTo>
                    <a:lnTo>
                      <a:pt x="792" y="1048"/>
                    </a:lnTo>
                    <a:lnTo>
                      <a:pt x="1042" y="1058"/>
                    </a:lnTo>
                    <a:lnTo>
                      <a:pt x="1238" y="1058"/>
                    </a:lnTo>
                    <a:lnTo>
                      <a:pt x="1229" y="955"/>
                    </a:lnTo>
                    <a:lnTo>
                      <a:pt x="1238" y="826"/>
                    </a:lnTo>
                    <a:lnTo>
                      <a:pt x="1263" y="722"/>
                    </a:lnTo>
                    <a:lnTo>
                      <a:pt x="1289"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6" name=""/>
              <p:cNvSpPr/>
              <p:nvPr/>
            </p:nvSpPr>
            <p:spPr>
              <a:xfrm>
                <a:off x="7958520" y="4822200"/>
                <a:ext cx="69480" cy="57600"/>
              </a:xfrm>
              <a:custGeom>
                <a:avLst/>
                <a:gdLst/>
                <a:ahLst/>
                <a:rect l="l" t="t" r="r" b="b"/>
                <a:pathLst>
                  <a:path w="846" h="547">
                    <a:moveTo>
                      <a:pt x="0" y="30"/>
                    </a:moveTo>
                    <a:lnTo>
                      <a:pt x="45" y="94"/>
                    </a:lnTo>
                    <a:lnTo>
                      <a:pt x="101" y="210"/>
                    </a:lnTo>
                    <a:lnTo>
                      <a:pt x="36" y="219"/>
                    </a:lnTo>
                    <a:lnTo>
                      <a:pt x="36" y="237"/>
                    </a:lnTo>
                    <a:lnTo>
                      <a:pt x="174" y="246"/>
                    </a:lnTo>
                    <a:lnTo>
                      <a:pt x="322" y="254"/>
                    </a:lnTo>
                    <a:lnTo>
                      <a:pt x="248" y="233"/>
                    </a:lnTo>
                    <a:lnTo>
                      <a:pt x="394" y="178"/>
                    </a:lnTo>
                    <a:lnTo>
                      <a:pt x="472" y="189"/>
                    </a:lnTo>
                    <a:lnTo>
                      <a:pt x="598" y="297"/>
                    </a:lnTo>
                    <a:lnTo>
                      <a:pt x="675" y="422"/>
                    </a:lnTo>
                    <a:lnTo>
                      <a:pt x="767" y="512"/>
                    </a:lnTo>
                    <a:lnTo>
                      <a:pt x="820" y="547"/>
                    </a:lnTo>
                    <a:lnTo>
                      <a:pt x="846" y="523"/>
                    </a:lnTo>
                    <a:lnTo>
                      <a:pt x="758" y="468"/>
                    </a:lnTo>
                    <a:lnTo>
                      <a:pt x="679" y="392"/>
                    </a:lnTo>
                    <a:lnTo>
                      <a:pt x="611" y="286"/>
                    </a:lnTo>
                    <a:lnTo>
                      <a:pt x="534" y="184"/>
                    </a:lnTo>
                    <a:lnTo>
                      <a:pt x="394" y="136"/>
                    </a:lnTo>
                    <a:lnTo>
                      <a:pt x="317" y="154"/>
                    </a:lnTo>
                    <a:lnTo>
                      <a:pt x="223" y="189"/>
                    </a:lnTo>
                    <a:lnTo>
                      <a:pt x="161" y="184"/>
                    </a:lnTo>
                    <a:lnTo>
                      <a:pt x="244" y="90"/>
                    </a:lnTo>
                    <a:lnTo>
                      <a:pt x="283" y="30"/>
                    </a:lnTo>
                    <a:lnTo>
                      <a:pt x="275" y="0"/>
                    </a:lnTo>
                    <a:lnTo>
                      <a:pt x="223" y="79"/>
                    </a:lnTo>
                    <a:lnTo>
                      <a:pt x="119" y="154"/>
                    </a:lnTo>
                    <a:lnTo>
                      <a:pt x="0" y="3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327" name=""/>
              <p:cNvSpPr/>
              <p:nvPr/>
            </p:nvSpPr>
            <p:spPr>
              <a:xfrm>
                <a:off x="7788600" y="4348080"/>
                <a:ext cx="109440" cy="130320"/>
              </a:xfrm>
              <a:custGeom>
                <a:avLst/>
                <a:gdLst/>
                <a:ahLst/>
                <a:rect l="l" t="t" r="r" b="b"/>
                <a:pathLst>
                  <a:path w="1323" h="1233">
                    <a:moveTo>
                      <a:pt x="680" y="329"/>
                    </a:moveTo>
                    <a:lnTo>
                      <a:pt x="759" y="233"/>
                    </a:lnTo>
                    <a:lnTo>
                      <a:pt x="833" y="191"/>
                    </a:lnTo>
                    <a:lnTo>
                      <a:pt x="918" y="186"/>
                    </a:lnTo>
                    <a:lnTo>
                      <a:pt x="1026" y="239"/>
                    </a:lnTo>
                    <a:lnTo>
                      <a:pt x="1086" y="329"/>
                    </a:lnTo>
                    <a:lnTo>
                      <a:pt x="1116" y="433"/>
                    </a:lnTo>
                    <a:lnTo>
                      <a:pt x="1128" y="539"/>
                    </a:lnTo>
                    <a:lnTo>
                      <a:pt x="1123" y="648"/>
                    </a:lnTo>
                    <a:lnTo>
                      <a:pt x="1112" y="753"/>
                    </a:lnTo>
                    <a:lnTo>
                      <a:pt x="1141" y="857"/>
                    </a:lnTo>
                    <a:lnTo>
                      <a:pt x="1165" y="744"/>
                    </a:lnTo>
                    <a:lnTo>
                      <a:pt x="1242" y="689"/>
                    </a:lnTo>
                    <a:lnTo>
                      <a:pt x="1291" y="728"/>
                    </a:lnTo>
                    <a:lnTo>
                      <a:pt x="1305" y="857"/>
                    </a:lnTo>
                    <a:lnTo>
                      <a:pt x="1296" y="960"/>
                    </a:lnTo>
                    <a:lnTo>
                      <a:pt x="1238" y="1046"/>
                    </a:lnTo>
                    <a:lnTo>
                      <a:pt x="1209" y="1083"/>
                    </a:lnTo>
                    <a:lnTo>
                      <a:pt x="1152" y="1127"/>
                    </a:lnTo>
                    <a:lnTo>
                      <a:pt x="1222" y="1101"/>
                    </a:lnTo>
                    <a:lnTo>
                      <a:pt x="1310" y="966"/>
                    </a:lnTo>
                    <a:lnTo>
                      <a:pt x="1323" y="834"/>
                    </a:lnTo>
                    <a:lnTo>
                      <a:pt x="1296" y="696"/>
                    </a:lnTo>
                    <a:lnTo>
                      <a:pt x="1242" y="666"/>
                    </a:lnTo>
                    <a:lnTo>
                      <a:pt x="1242" y="585"/>
                    </a:lnTo>
                    <a:lnTo>
                      <a:pt x="1183" y="323"/>
                    </a:lnTo>
                    <a:lnTo>
                      <a:pt x="1086" y="175"/>
                    </a:lnTo>
                    <a:lnTo>
                      <a:pt x="971" y="74"/>
                    </a:lnTo>
                    <a:lnTo>
                      <a:pt x="840" y="32"/>
                    </a:lnTo>
                    <a:lnTo>
                      <a:pt x="629" y="0"/>
                    </a:lnTo>
                    <a:lnTo>
                      <a:pt x="392" y="32"/>
                    </a:lnTo>
                    <a:lnTo>
                      <a:pt x="213" y="131"/>
                    </a:lnTo>
                    <a:lnTo>
                      <a:pt x="97" y="255"/>
                    </a:lnTo>
                    <a:lnTo>
                      <a:pt x="26" y="404"/>
                    </a:lnTo>
                    <a:lnTo>
                      <a:pt x="12" y="562"/>
                    </a:lnTo>
                    <a:lnTo>
                      <a:pt x="26" y="786"/>
                    </a:lnTo>
                    <a:lnTo>
                      <a:pt x="0" y="857"/>
                    </a:lnTo>
                    <a:lnTo>
                      <a:pt x="23" y="995"/>
                    </a:lnTo>
                    <a:lnTo>
                      <a:pt x="97" y="1113"/>
                    </a:lnTo>
                    <a:lnTo>
                      <a:pt x="198" y="1196"/>
                    </a:lnTo>
                    <a:lnTo>
                      <a:pt x="249" y="1201"/>
                    </a:lnTo>
                    <a:lnTo>
                      <a:pt x="279" y="1233"/>
                    </a:lnTo>
                    <a:lnTo>
                      <a:pt x="264" y="1152"/>
                    </a:lnTo>
                    <a:lnTo>
                      <a:pt x="213" y="1187"/>
                    </a:lnTo>
                    <a:lnTo>
                      <a:pt x="104" y="1106"/>
                    </a:lnTo>
                    <a:lnTo>
                      <a:pt x="33" y="973"/>
                    </a:lnTo>
                    <a:lnTo>
                      <a:pt x="26" y="868"/>
                    </a:lnTo>
                    <a:lnTo>
                      <a:pt x="49" y="843"/>
                    </a:lnTo>
                    <a:lnTo>
                      <a:pt x="121" y="857"/>
                    </a:lnTo>
                    <a:lnTo>
                      <a:pt x="213" y="936"/>
                    </a:lnTo>
                    <a:lnTo>
                      <a:pt x="194" y="830"/>
                    </a:lnTo>
                    <a:lnTo>
                      <a:pt x="167" y="771"/>
                    </a:lnTo>
                    <a:lnTo>
                      <a:pt x="130" y="668"/>
                    </a:lnTo>
                    <a:lnTo>
                      <a:pt x="108" y="551"/>
                    </a:lnTo>
                    <a:lnTo>
                      <a:pt x="108" y="459"/>
                    </a:lnTo>
                    <a:lnTo>
                      <a:pt x="130" y="382"/>
                    </a:lnTo>
                    <a:lnTo>
                      <a:pt x="171" y="323"/>
                    </a:lnTo>
                    <a:lnTo>
                      <a:pt x="227" y="281"/>
                    </a:lnTo>
                    <a:lnTo>
                      <a:pt x="286" y="265"/>
                    </a:lnTo>
                    <a:lnTo>
                      <a:pt x="354" y="281"/>
                    </a:lnTo>
                    <a:lnTo>
                      <a:pt x="420" y="318"/>
                    </a:lnTo>
                    <a:lnTo>
                      <a:pt x="466" y="355"/>
                    </a:lnTo>
                    <a:lnTo>
                      <a:pt x="521" y="369"/>
                    </a:lnTo>
                    <a:lnTo>
                      <a:pt x="607" y="362"/>
                    </a:lnTo>
                    <a:lnTo>
                      <a:pt x="655" y="345"/>
                    </a:lnTo>
                    <a:lnTo>
                      <a:pt x="680"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8" name=""/>
              <p:cNvSpPr/>
              <p:nvPr/>
            </p:nvSpPr>
            <p:spPr>
              <a:xfrm>
                <a:off x="7812720" y="4440600"/>
                <a:ext cx="34920" cy="8280"/>
              </a:xfrm>
              <a:custGeom>
                <a:avLst/>
                <a:gdLst/>
                <a:ahLst/>
                <a:rect l="l" t="t" r="r" b="b"/>
                <a:pathLst>
                  <a:path w="424" h="83">
                    <a:moveTo>
                      <a:pt x="0" y="42"/>
                    </a:moveTo>
                    <a:lnTo>
                      <a:pt x="74" y="22"/>
                    </a:lnTo>
                    <a:lnTo>
                      <a:pt x="157" y="15"/>
                    </a:lnTo>
                    <a:lnTo>
                      <a:pt x="274" y="15"/>
                    </a:lnTo>
                    <a:lnTo>
                      <a:pt x="338" y="8"/>
                    </a:lnTo>
                    <a:lnTo>
                      <a:pt x="424" y="0"/>
                    </a:lnTo>
                    <a:lnTo>
                      <a:pt x="389" y="46"/>
                    </a:lnTo>
                    <a:lnTo>
                      <a:pt x="300" y="52"/>
                    </a:lnTo>
                    <a:lnTo>
                      <a:pt x="305" y="83"/>
                    </a:lnTo>
                    <a:lnTo>
                      <a:pt x="263" y="52"/>
                    </a:lnTo>
                    <a:lnTo>
                      <a:pt x="204" y="46"/>
                    </a:lnTo>
                    <a:lnTo>
                      <a:pt x="129" y="56"/>
                    </a:lnTo>
                    <a:lnTo>
                      <a:pt x="210" y="28"/>
                    </a:lnTo>
                    <a:lnTo>
                      <a:pt x="134" y="28"/>
                    </a:lnTo>
                    <a:lnTo>
                      <a:pt x="63" y="42"/>
                    </a:lnTo>
                    <a:lnTo>
                      <a:pt x="0" y="4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329" name=""/>
              <p:cNvSpPr/>
              <p:nvPr/>
            </p:nvSpPr>
            <p:spPr>
              <a:xfrm>
                <a:off x="7811280" y="4442040"/>
                <a:ext cx="26280" cy="17640"/>
              </a:xfrm>
              <a:custGeom>
                <a:avLst/>
                <a:gdLst/>
                <a:ahLst/>
                <a:rect l="l" t="t" r="r" b="b"/>
                <a:pathLst>
                  <a:path w="318" h="161">
                    <a:moveTo>
                      <a:pt x="0" y="22"/>
                    </a:moveTo>
                    <a:lnTo>
                      <a:pt x="24" y="50"/>
                    </a:lnTo>
                    <a:lnTo>
                      <a:pt x="92" y="74"/>
                    </a:lnTo>
                    <a:lnTo>
                      <a:pt x="138" y="108"/>
                    </a:lnTo>
                    <a:lnTo>
                      <a:pt x="119" y="127"/>
                    </a:lnTo>
                    <a:lnTo>
                      <a:pt x="175" y="161"/>
                    </a:lnTo>
                    <a:lnTo>
                      <a:pt x="237" y="145"/>
                    </a:lnTo>
                    <a:lnTo>
                      <a:pt x="281" y="117"/>
                    </a:lnTo>
                    <a:lnTo>
                      <a:pt x="228" y="108"/>
                    </a:lnTo>
                    <a:lnTo>
                      <a:pt x="318" y="59"/>
                    </a:lnTo>
                    <a:lnTo>
                      <a:pt x="310" y="44"/>
                    </a:lnTo>
                    <a:lnTo>
                      <a:pt x="222" y="97"/>
                    </a:lnTo>
                    <a:lnTo>
                      <a:pt x="175" y="103"/>
                    </a:lnTo>
                    <a:lnTo>
                      <a:pt x="119" y="81"/>
                    </a:lnTo>
                    <a:lnTo>
                      <a:pt x="99" y="53"/>
                    </a:lnTo>
                    <a:lnTo>
                      <a:pt x="156" y="32"/>
                    </a:lnTo>
                    <a:lnTo>
                      <a:pt x="99" y="39"/>
                    </a:lnTo>
                    <a:lnTo>
                      <a:pt x="77" y="0"/>
                    </a:lnTo>
                    <a:lnTo>
                      <a:pt x="0"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30" name=""/>
              <p:cNvSpPr/>
              <p:nvPr/>
            </p:nvSpPr>
            <p:spPr>
              <a:xfrm>
                <a:off x="7850520" y="4430160"/>
                <a:ext cx="27000" cy="8280"/>
              </a:xfrm>
              <a:custGeom>
                <a:avLst/>
                <a:gdLst/>
                <a:ahLst/>
                <a:rect l="l" t="t" r="r" b="b"/>
                <a:pathLst>
                  <a:path w="327" h="85">
                    <a:moveTo>
                      <a:pt x="0" y="85"/>
                    </a:moveTo>
                    <a:lnTo>
                      <a:pt x="211" y="0"/>
                    </a:lnTo>
                    <a:lnTo>
                      <a:pt x="269" y="12"/>
                    </a:lnTo>
                    <a:lnTo>
                      <a:pt x="327" y="35"/>
                    </a:lnTo>
                    <a:lnTo>
                      <a:pt x="253" y="28"/>
                    </a:lnTo>
                    <a:lnTo>
                      <a:pt x="200" y="28"/>
                    </a:lnTo>
                    <a:lnTo>
                      <a:pt x="130" y="48"/>
                    </a:lnTo>
                    <a:lnTo>
                      <a:pt x="0" y="8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331" name=""/>
              <p:cNvSpPr/>
              <p:nvPr/>
            </p:nvSpPr>
            <p:spPr>
              <a:xfrm>
                <a:off x="7852320" y="4438800"/>
                <a:ext cx="21600" cy="10080"/>
              </a:xfrm>
              <a:custGeom>
                <a:avLst/>
                <a:gdLst/>
                <a:ahLst/>
                <a:rect l="l" t="t" r="r" b="b"/>
                <a:pathLst>
                  <a:path w="261" h="99">
                    <a:moveTo>
                      <a:pt x="0" y="53"/>
                    </a:moveTo>
                    <a:lnTo>
                      <a:pt x="70" y="2"/>
                    </a:lnTo>
                    <a:lnTo>
                      <a:pt x="166" y="0"/>
                    </a:lnTo>
                    <a:lnTo>
                      <a:pt x="261" y="11"/>
                    </a:lnTo>
                    <a:lnTo>
                      <a:pt x="224" y="57"/>
                    </a:lnTo>
                    <a:lnTo>
                      <a:pt x="166" y="85"/>
                    </a:lnTo>
                    <a:lnTo>
                      <a:pt x="116" y="99"/>
                    </a:lnTo>
                    <a:lnTo>
                      <a:pt x="42" y="88"/>
                    </a:lnTo>
                    <a:lnTo>
                      <a:pt x="116" y="88"/>
                    </a:lnTo>
                    <a:lnTo>
                      <a:pt x="193" y="57"/>
                    </a:lnTo>
                    <a:lnTo>
                      <a:pt x="240" y="15"/>
                    </a:lnTo>
                    <a:lnTo>
                      <a:pt x="153" y="11"/>
                    </a:lnTo>
                    <a:lnTo>
                      <a:pt x="83" y="15"/>
                    </a:lnTo>
                    <a:lnTo>
                      <a:pt x="30" y="53"/>
                    </a:lnTo>
                    <a:lnTo>
                      <a:pt x="0" y="5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32" name=""/>
              <p:cNvSpPr/>
              <p:nvPr/>
            </p:nvSpPr>
            <p:spPr>
              <a:xfrm>
                <a:off x="7846920" y="4433760"/>
                <a:ext cx="20520" cy="29520"/>
              </a:xfrm>
              <a:custGeom>
                <a:avLst/>
                <a:gdLst/>
                <a:ahLst/>
                <a:rect l="l" t="t" r="r" b="b"/>
                <a:pathLst>
                  <a:path w="248" h="281">
                    <a:moveTo>
                      <a:pt x="173" y="11"/>
                    </a:moveTo>
                    <a:lnTo>
                      <a:pt x="248" y="25"/>
                    </a:lnTo>
                    <a:lnTo>
                      <a:pt x="158" y="25"/>
                    </a:lnTo>
                    <a:lnTo>
                      <a:pt x="122" y="63"/>
                    </a:lnTo>
                    <a:lnTo>
                      <a:pt x="74" y="94"/>
                    </a:lnTo>
                    <a:lnTo>
                      <a:pt x="55" y="133"/>
                    </a:lnTo>
                    <a:lnTo>
                      <a:pt x="55" y="186"/>
                    </a:lnTo>
                    <a:lnTo>
                      <a:pt x="74" y="281"/>
                    </a:lnTo>
                    <a:lnTo>
                      <a:pt x="43" y="191"/>
                    </a:lnTo>
                    <a:lnTo>
                      <a:pt x="37" y="142"/>
                    </a:lnTo>
                    <a:lnTo>
                      <a:pt x="34" y="105"/>
                    </a:lnTo>
                    <a:lnTo>
                      <a:pt x="0" y="63"/>
                    </a:lnTo>
                    <a:lnTo>
                      <a:pt x="140" y="21"/>
                    </a:lnTo>
                    <a:lnTo>
                      <a:pt x="204" y="0"/>
                    </a:lnTo>
                    <a:lnTo>
                      <a:pt x="173" y="1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3" name=""/>
              <p:cNvSpPr/>
              <p:nvPr/>
            </p:nvSpPr>
            <p:spPr>
              <a:xfrm>
                <a:off x="7839360" y="4444560"/>
                <a:ext cx="3600" cy="24480"/>
              </a:xfrm>
              <a:custGeom>
                <a:avLst/>
                <a:gdLst/>
                <a:ahLst/>
                <a:rect l="l" t="t" r="r" b="b"/>
                <a:pathLst>
                  <a:path w="48" h="233">
                    <a:moveTo>
                      <a:pt x="0" y="10"/>
                    </a:moveTo>
                    <a:lnTo>
                      <a:pt x="22" y="90"/>
                    </a:lnTo>
                    <a:lnTo>
                      <a:pt x="27" y="153"/>
                    </a:lnTo>
                    <a:lnTo>
                      <a:pt x="39" y="233"/>
                    </a:lnTo>
                    <a:lnTo>
                      <a:pt x="48" y="149"/>
                    </a:lnTo>
                    <a:lnTo>
                      <a:pt x="41" y="85"/>
                    </a:lnTo>
                    <a:lnTo>
                      <a:pt x="35" y="32"/>
                    </a:lnTo>
                    <a:lnTo>
                      <a:pt x="27" y="0"/>
                    </a:lnTo>
                    <a:lnTo>
                      <a:pt x="0" y="1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34" name=""/>
              <p:cNvSpPr/>
              <p:nvPr/>
            </p:nvSpPr>
            <p:spPr>
              <a:xfrm>
                <a:off x="7855920" y="4448160"/>
                <a:ext cx="14400" cy="5760"/>
              </a:xfrm>
              <a:custGeom>
                <a:avLst/>
                <a:gdLst/>
                <a:ahLst/>
                <a:rect l="l" t="t" r="r" b="b"/>
                <a:pathLst>
                  <a:path w="171" h="55">
                    <a:moveTo>
                      <a:pt x="32" y="11"/>
                    </a:moveTo>
                    <a:lnTo>
                      <a:pt x="0" y="44"/>
                    </a:lnTo>
                    <a:lnTo>
                      <a:pt x="65" y="55"/>
                    </a:lnTo>
                    <a:lnTo>
                      <a:pt x="106" y="44"/>
                    </a:lnTo>
                    <a:lnTo>
                      <a:pt x="171" y="11"/>
                    </a:lnTo>
                    <a:lnTo>
                      <a:pt x="124" y="11"/>
                    </a:lnTo>
                    <a:lnTo>
                      <a:pt x="81" y="0"/>
                    </a:lnTo>
                    <a:lnTo>
                      <a:pt x="32" y="1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35" name=""/>
              <p:cNvSpPr/>
              <p:nvPr/>
            </p:nvSpPr>
            <p:spPr>
              <a:xfrm>
                <a:off x="7793280" y="4447440"/>
                <a:ext cx="13680" cy="17640"/>
              </a:xfrm>
              <a:custGeom>
                <a:avLst/>
                <a:gdLst/>
                <a:ahLst/>
                <a:rect l="l" t="t" r="r" b="b"/>
                <a:pathLst>
                  <a:path w="174" h="170">
                    <a:moveTo>
                      <a:pt x="157" y="30"/>
                    </a:moveTo>
                    <a:lnTo>
                      <a:pt x="88" y="6"/>
                    </a:lnTo>
                    <a:lnTo>
                      <a:pt x="0" y="0"/>
                    </a:lnTo>
                    <a:lnTo>
                      <a:pt x="33" y="20"/>
                    </a:lnTo>
                    <a:lnTo>
                      <a:pt x="51" y="90"/>
                    </a:lnTo>
                    <a:lnTo>
                      <a:pt x="77" y="129"/>
                    </a:lnTo>
                    <a:lnTo>
                      <a:pt x="60" y="78"/>
                    </a:lnTo>
                    <a:lnTo>
                      <a:pt x="70" y="37"/>
                    </a:lnTo>
                    <a:lnTo>
                      <a:pt x="104" y="44"/>
                    </a:lnTo>
                    <a:lnTo>
                      <a:pt x="97" y="78"/>
                    </a:lnTo>
                    <a:lnTo>
                      <a:pt x="108" y="123"/>
                    </a:lnTo>
                    <a:lnTo>
                      <a:pt x="136" y="136"/>
                    </a:lnTo>
                    <a:lnTo>
                      <a:pt x="174" y="170"/>
                    </a:lnTo>
                    <a:lnTo>
                      <a:pt x="157" y="123"/>
                    </a:lnTo>
                    <a:lnTo>
                      <a:pt x="167" y="83"/>
                    </a:lnTo>
                    <a:lnTo>
                      <a:pt x="160" y="59"/>
                    </a:lnTo>
                    <a:lnTo>
                      <a:pt x="157" y="3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36" name=""/>
              <p:cNvSpPr/>
              <p:nvPr/>
            </p:nvSpPr>
            <p:spPr>
              <a:xfrm>
                <a:off x="7883640" y="4429440"/>
                <a:ext cx="10440" cy="30240"/>
              </a:xfrm>
              <a:custGeom>
                <a:avLst/>
                <a:gdLst/>
                <a:ahLst/>
                <a:rect l="l" t="t" r="r" b="b"/>
                <a:pathLst>
                  <a:path w="129" h="292">
                    <a:moveTo>
                      <a:pt x="0" y="116"/>
                    </a:moveTo>
                    <a:lnTo>
                      <a:pt x="23" y="109"/>
                    </a:lnTo>
                    <a:lnTo>
                      <a:pt x="63" y="55"/>
                    </a:lnTo>
                    <a:lnTo>
                      <a:pt x="116" y="0"/>
                    </a:lnTo>
                    <a:lnTo>
                      <a:pt x="104" y="46"/>
                    </a:lnTo>
                    <a:lnTo>
                      <a:pt x="129" y="90"/>
                    </a:lnTo>
                    <a:lnTo>
                      <a:pt x="129" y="147"/>
                    </a:lnTo>
                    <a:lnTo>
                      <a:pt x="104" y="199"/>
                    </a:lnTo>
                    <a:lnTo>
                      <a:pt x="116" y="136"/>
                    </a:lnTo>
                    <a:lnTo>
                      <a:pt x="113" y="105"/>
                    </a:lnTo>
                    <a:lnTo>
                      <a:pt x="83" y="76"/>
                    </a:lnTo>
                    <a:lnTo>
                      <a:pt x="69" y="109"/>
                    </a:lnTo>
                    <a:lnTo>
                      <a:pt x="92" y="147"/>
                    </a:lnTo>
                    <a:lnTo>
                      <a:pt x="83" y="184"/>
                    </a:lnTo>
                    <a:lnTo>
                      <a:pt x="54" y="199"/>
                    </a:lnTo>
                    <a:lnTo>
                      <a:pt x="37" y="228"/>
                    </a:lnTo>
                    <a:lnTo>
                      <a:pt x="19" y="292"/>
                    </a:lnTo>
                    <a:lnTo>
                      <a:pt x="17" y="237"/>
                    </a:lnTo>
                    <a:lnTo>
                      <a:pt x="30" y="184"/>
                    </a:lnTo>
                    <a:lnTo>
                      <a:pt x="19" y="164"/>
                    </a:lnTo>
                    <a:lnTo>
                      <a:pt x="0" y="143"/>
                    </a:lnTo>
                    <a:lnTo>
                      <a:pt x="0" y="11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37" name=""/>
              <p:cNvSpPr/>
              <p:nvPr/>
            </p:nvSpPr>
            <p:spPr>
              <a:xfrm>
                <a:off x="7823880" y="4444560"/>
                <a:ext cx="7920" cy="6840"/>
              </a:xfrm>
              <a:custGeom>
                <a:avLst/>
                <a:gdLst/>
                <a:ahLst/>
                <a:rect l="l" t="t" r="r" b="b"/>
                <a:pathLst>
                  <a:path w="99" h="63">
                    <a:moveTo>
                      <a:pt x="0" y="14"/>
                    </a:moveTo>
                    <a:lnTo>
                      <a:pt x="16" y="46"/>
                    </a:lnTo>
                    <a:lnTo>
                      <a:pt x="42" y="63"/>
                    </a:lnTo>
                    <a:lnTo>
                      <a:pt x="81" y="50"/>
                    </a:lnTo>
                    <a:lnTo>
                      <a:pt x="99" y="32"/>
                    </a:lnTo>
                    <a:lnTo>
                      <a:pt x="99" y="0"/>
                    </a:lnTo>
                    <a:lnTo>
                      <a:pt x="64" y="4"/>
                    </a:lnTo>
                    <a:lnTo>
                      <a:pt x="69" y="21"/>
                    </a:lnTo>
                    <a:lnTo>
                      <a:pt x="53" y="35"/>
                    </a:lnTo>
                    <a:lnTo>
                      <a:pt x="42" y="26"/>
                    </a:lnTo>
                    <a:lnTo>
                      <a:pt x="37" y="4"/>
                    </a:lnTo>
                    <a:lnTo>
                      <a:pt x="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38" name=""/>
              <p:cNvSpPr/>
              <p:nvPr/>
            </p:nvSpPr>
            <p:spPr>
              <a:xfrm>
                <a:off x="7859160" y="4438800"/>
                <a:ext cx="7200" cy="6840"/>
              </a:xfrm>
              <a:custGeom>
                <a:avLst/>
                <a:gdLst/>
                <a:ahLst/>
                <a:rect l="l" t="t" r="r" b="b"/>
                <a:pathLst>
                  <a:path w="92" h="61">
                    <a:moveTo>
                      <a:pt x="0" y="17"/>
                    </a:moveTo>
                    <a:lnTo>
                      <a:pt x="9" y="55"/>
                    </a:lnTo>
                    <a:lnTo>
                      <a:pt x="42" y="61"/>
                    </a:lnTo>
                    <a:lnTo>
                      <a:pt x="74" y="51"/>
                    </a:lnTo>
                    <a:lnTo>
                      <a:pt x="92" y="31"/>
                    </a:lnTo>
                    <a:lnTo>
                      <a:pt x="86" y="0"/>
                    </a:lnTo>
                    <a:lnTo>
                      <a:pt x="64" y="0"/>
                    </a:lnTo>
                    <a:lnTo>
                      <a:pt x="60" y="33"/>
                    </a:lnTo>
                    <a:lnTo>
                      <a:pt x="37" y="33"/>
                    </a:lnTo>
                    <a:lnTo>
                      <a:pt x="27" y="13"/>
                    </a:lnTo>
                    <a:lnTo>
                      <a:pt x="0" y="1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39" name=""/>
              <p:cNvSpPr/>
              <p:nvPr/>
            </p:nvSpPr>
            <p:spPr>
              <a:xfrm>
                <a:off x="7833240" y="4467600"/>
                <a:ext cx="30960" cy="21240"/>
              </a:xfrm>
              <a:custGeom>
                <a:avLst/>
                <a:gdLst/>
                <a:ahLst/>
                <a:rect l="l" t="t" r="r" b="b"/>
                <a:pathLst>
                  <a:path w="374" h="198">
                    <a:moveTo>
                      <a:pt x="31" y="0"/>
                    </a:moveTo>
                    <a:lnTo>
                      <a:pt x="0" y="37"/>
                    </a:lnTo>
                    <a:lnTo>
                      <a:pt x="0" y="79"/>
                    </a:lnTo>
                    <a:lnTo>
                      <a:pt x="26" y="90"/>
                    </a:lnTo>
                    <a:lnTo>
                      <a:pt x="46" y="132"/>
                    </a:lnTo>
                    <a:lnTo>
                      <a:pt x="127" y="163"/>
                    </a:lnTo>
                    <a:lnTo>
                      <a:pt x="199" y="198"/>
                    </a:lnTo>
                    <a:lnTo>
                      <a:pt x="235" y="198"/>
                    </a:lnTo>
                    <a:lnTo>
                      <a:pt x="305" y="120"/>
                    </a:lnTo>
                    <a:lnTo>
                      <a:pt x="360" y="90"/>
                    </a:lnTo>
                    <a:lnTo>
                      <a:pt x="374" y="37"/>
                    </a:lnTo>
                    <a:lnTo>
                      <a:pt x="365" y="22"/>
                    </a:lnTo>
                    <a:lnTo>
                      <a:pt x="342" y="0"/>
                    </a:lnTo>
                    <a:lnTo>
                      <a:pt x="354" y="25"/>
                    </a:lnTo>
                    <a:lnTo>
                      <a:pt x="347" y="46"/>
                    </a:lnTo>
                    <a:lnTo>
                      <a:pt x="325" y="46"/>
                    </a:lnTo>
                    <a:lnTo>
                      <a:pt x="285" y="69"/>
                    </a:lnTo>
                    <a:lnTo>
                      <a:pt x="261" y="97"/>
                    </a:lnTo>
                    <a:lnTo>
                      <a:pt x="235" y="120"/>
                    </a:lnTo>
                    <a:lnTo>
                      <a:pt x="187" y="127"/>
                    </a:lnTo>
                    <a:lnTo>
                      <a:pt x="141" y="117"/>
                    </a:lnTo>
                    <a:lnTo>
                      <a:pt x="107" y="97"/>
                    </a:lnTo>
                    <a:lnTo>
                      <a:pt x="63" y="79"/>
                    </a:lnTo>
                    <a:lnTo>
                      <a:pt x="26" y="79"/>
                    </a:lnTo>
                    <a:lnTo>
                      <a:pt x="8" y="60"/>
                    </a:lnTo>
                    <a:lnTo>
                      <a:pt x="15" y="37"/>
                    </a:lnTo>
                    <a:lnTo>
                      <a:pt x="31"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40" name=""/>
              <p:cNvSpPr/>
              <p:nvPr/>
            </p:nvSpPr>
            <p:spPr>
              <a:xfrm>
                <a:off x="7830360" y="4487760"/>
                <a:ext cx="42840" cy="9360"/>
              </a:xfrm>
              <a:custGeom>
                <a:avLst/>
                <a:gdLst/>
                <a:ahLst/>
                <a:rect l="l" t="t" r="r" b="b"/>
                <a:pathLst>
                  <a:path w="520" h="90">
                    <a:moveTo>
                      <a:pt x="48" y="60"/>
                    </a:moveTo>
                    <a:lnTo>
                      <a:pt x="101" y="40"/>
                    </a:lnTo>
                    <a:lnTo>
                      <a:pt x="174" y="23"/>
                    </a:lnTo>
                    <a:lnTo>
                      <a:pt x="259" y="24"/>
                    </a:lnTo>
                    <a:lnTo>
                      <a:pt x="343" y="7"/>
                    </a:lnTo>
                    <a:lnTo>
                      <a:pt x="488" y="23"/>
                    </a:lnTo>
                    <a:lnTo>
                      <a:pt x="511" y="0"/>
                    </a:lnTo>
                    <a:lnTo>
                      <a:pt x="520" y="31"/>
                    </a:lnTo>
                    <a:lnTo>
                      <a:pt x="501" y="46"/>
                    </a:lnTo>
                    <a:lnTo>
                      <a:pt x="477" y="31"/>
                    </a:lnTo>
                    <a:lnTo>
                      <a:pt x="417" y="24"/>
                    </a:lnTo>
                    <a:lnTo>
                      <a:pt x="327" y="46"/>
                    </a:lnTo>
                    <a:lnTo>
                      <a:pt x="253" y="64"/>
                    </a:lnTo>
                    <a:lnTo>
                      <a:pt x="128" y="60"/>
                    </a:lnTo>
                    <a:lnTo>
                      <a:pt x="41" y="70"/>
                    </a:lnTo>
                    <a:lnTo>
                      <a:pt x="20" y="90"/>
                    </a:lnTo>
                    <a:lnTo>
                      <a:pt x="0" y="79"/>
                    </a:lnTo>
                    <a:lnTo>
                      <a:pt x="4" y="53"/>
                    </a:lnTo>
                    <a:lnTo>
                      <a:pt x="27" y="46"/>
                    </a:lnTo>
                    <a:lnTo>
                      <a:pt x="48" y="6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41" name=""/>
              <p:cNvSpPr/>
              <p:nvPr/>
            </p:nvSpPr>
            <p:spPr>
              <a:xfrm>
                <a:off x="7839720" y="4500000"/>
                <a:ext cx="23760" cy="10080"/>
              </a:xfrm>
              <a:custGeom>
                <a:avLst/>
                <a:gdLst/>
                <a:ahLst/>
                <a:rect l="l" t="t" r="r" b="b"/>
                <a:pathLst>
                  <a:path w="286" h="94">
                    <a:moveTo>
                      <a:pt x="0" y="22"/>
                    </a:moveTo>
                    <a:lnTo>
                      <a:pt x="64" y="31"/>
                    </a:lnTo>
                    <a:lnTo>
                      <a:pt x="123" y="31"/>
                    </a:lnTo>
                    <a:lnTo>
                      <a:pt x="194" y="26"/>
                    </a:lnTo>
                    <a:lnTo>
                      <a:pt x="286" y="0"/>
                    </a:lnTo>
                    <a:lnTo>
                      <a:pt x="231" y="46"/>
                    </a:lnTo>
                    <a:lnTo>
                      <a:pt x="244" y="83"/>
                    </a:lnTo>
                    <a:lnTo>
                      <a:pt x="171" y="83"/>
                    </a:lnTo>
                    <a:lnTo>
                      <a:pt x="64" y="94"/>
                    </a:lnTo>
                    <a:lnTo>
                      <a:pt x="70" y="63"/>
                    </a:lnTo>
                    <a:lnTo>
                      <a:pt x="0" y="2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42" name=""/>
              <p:cNvSpPr/>
              <p:nvPr/>
            </p:nvSpPr>
            <p:spPr>
              <a:xfrm>
                <a:off x="7809840" y="4466160"/>
                <a:ext cx="75600" cy="64080"/>
              </a:xfrm>
              <a:custGeom>
                <a:avLst/>
                <a:gdLst/>
                <a:ahLst/>
                <a:rect l="l" t="t" r="r" b="b"/>
                <a:pathLst>
                  <a:path w="911" h="609">
                    <a:moveTo>
                      <a:pt x="0" y="83"/>
                    </a:moveTo>
                    <a:lnTo>
                      <a:pt x="96" y="339"/>
                    </a:lnTo>
                    <a:lnTo>
                      <a:pt x="157" y="438"/>
                    </a:lnTo>
                    <a:lnTo>
                      <a:pt x="226" y="498"/>
                    </a:lnTo>
                    <a:lnTo>
                      <a:pt x="304" y="546"/>
                    </a:lnTo>
                    <a:lnTo>
                      <a:pt x="394" y="576"/>
                    </a:lnTo>
                    <a:lnTo>
                      <a:pt x="487" y="609"/>
                    </a:lnTo>
                    <a:lnTo>
                      <a:pt x="570" y="609"/>
                    </a:lnTo>
                    <a:lnTo>
                      <a:pt x="669" y="581"/>
                    </a:lnTo>
                    <a:lnTo>
                      <a:pt x="735" y="535"/>
                    </a:lnTo>
                    <a:lnTo>
                      <a:pt x="793" y="464"/>
                    </a:lnTo>
                    <a:lnTo>
                      <a:pt x="848" y="374"/>
                    </a:lnTo>
                    <a:lnTo>
                      <a:pt x="883" y="288"/>
                    </a:lnTo>
                    <a:lnTo>
                      <a:pt x="898" y="183"/>
                    </a:lnTo>
                    <a:lnTo>
                      <a:pt x="911" y="0"/>
                    </a:lnTo>
                    <a:lnTo>
                      <a:pt x="892" y="14"/>
                    </a:lnTo>
                    <a:lnTo>
                      <a:pt x="869" y="265"/>
                    </a:lnTo>
                    <a:lnTo>
                      <a:pt x="839" y="353"/>
                    </a:lnTo>
                    <a:lnTo>
                      <a:pt x="793" y="434"/>
                    </a:lnTo>
                    <a:lnTo>
                      <a:pt x="724" y="517"/>
                    </a:lnTo>
                    <a:lnTo>
                      <a:pt x="659" y="558"/>
                    </a:lnTo>
                    <a:lnTo>
                      <a:pt x="659" y="528"/>
                    </a:lnTo>
                    <a:lnTo>
                      <a:pt x="595" y="551"/>
                    </a:lnTo>
                    <a:lnTo>
                      <a:pt x="511" y="557"/>
                    </a:lnTo>
                    <a:lnTo>
                      <a:pt x="450" y="551"/>
                    </a:lnTo>
                    <a:lnTo>
                      <a:pt x="392" y="528"/>
                    </a:lnTo>
                    <a:lnTo>
                      <a:pt x="408" y="558"/>
                    </a:lnTo>
                    <a:lnTo>
                      <a:pt x="293" y="524"/>
                    </a:lnTo>
                    <a:lnTo>
                      <a:pt x="203" y="445"/>
                    </a:lnTo>
                    <a:lnTo>
                      <a:pt x="138" y="368"/>
                    </a:lnTo>
                    <a:lnTo>
                      <a:pt x="90" y="279"/>
                    </a:lnTo>
                    <a:lnTo>
                      <a:pt x="10" y="74"/>
                    </a:lnTo>
                    <a:lnTo>
                      <a:pt x="0" y="8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43" name=""/>
              <p:cNvSpPr/>
              <p:nvPr/>
            </p:nvSpPr>
            <p:spPr>
              <a:xfrm>
                <a:off x="7816680" y="4475160"/>
                <a:ext cx="15120" cy="29520"/>
              </a:xfrm>
              <a:custGeom>
                <a:avLst/>
                <a:gdLst/>
                <a:ahLst/>
                <a:rect l="l" t="t" r="r" b="b"/>
                <a:pathLst>
                  <a:path w="187" h="278">
                    <a:moveTo>
                      <a:pt x="22" y="58"/>
                    </a:moveTo>
                    <a:lnTo>
                      <a:pt x="97" y="53"/>
                    </a:lnTo>
                    <a:lnTo>
                      <a:pt x="134" y="36"/>
                    </a:lnTo>
                    <a:lnTo>
                      <a:pt x="187" y="0"/>
                    </a:lnTo>
                    <a:lnTo>
                      <a:pt x="157" y="58"/>
                    </a:lnTo>
                    <a:lnTo>
                      <a:pt x="111" y="117"/>
                    </a:lnTo>
                    <a:lnTo>
                      <a:pt x="118" y="181"/>
                    </a:lnTo>
                    <a:lnTo>
                      <a:pt x="163" y="278"/>
                    </a:lnTo>
                    <a:lnTo>
                      <a:pt x="111" y="207"/>
                    </a:lnTo>
                    <a:lnTo>
                      <a:pt x="77" y="133"/>
                    </a:lnTo>
                    <a:lnTo>
                      <a:pt x="40" y="117"/>
                    </a:lnTo>
                    <a:lnTo>
                      <a:pt x="0" y="64"/>
                    </a:lnTo>
                    <a:lnTo>
                      <a:pt x="22" y="5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44" name=""/>
              <p:cNvSpPr/>
              <p:nvPr/>
            </p:nvSpPr>
            <p:spPr>
              <a:xfrm>
                <a:off x="7865640" y="4471200"/>
                <a:ext cx="12960" cy="23760"/>
              </a:xfrm>
              <a:custGeom>
                <a:avLst/>
                <a:gdLst/>
                <a:ahLst/>
                <a:rect l="l" t="t" r="r" b="b"/>
                <a:pathLst>
                  <a:path w="156" h="222">
                    <a:moveTo>
                      <a:pt x="0" y="0"/>
                    </a:moveTo>
                    <a:lnTo>
                      <a:pt x="31" y="29"/>
                    </a:lnTo>
                    <a:lnTo>
                      <a:pt x="94" y="68"/>
                    </a:lnTo>
                    <a:lnTo>
                      <a:pt x="112" y="94"/>
                    </a:lnTo>
                    <a:lnTo>
                      <a:pt x="124" y="140"/>
                    </a:lnTo>
                    <a:lnTo>
                      <a:pt x="117" y="222"/>
                    </a:lnTo>
                    <a:lnTo>
                      <a:pt x="134" y="136"/>
                    </a:lnTo>
                    <a:lnTo>
                      <a:pt x="156" y="46"/>
                    </a:lnTo>
                    <a:lnTo>
                      <a:pt x="156" y="9"/>
                    </a:lnTo>
                    <a:lnTo>
                      <a:pt x="88" y="13"/>
                    </a:lnTo>
                    <a:lnTo>
                      <a:pt x="37"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45" name=""/>
              <p:cNvSpPr/>
              <p:nvPr/>
            </p:nvSpPr>
            <p:spPr>
              <a:xfrm>
                <a:off x="8046000" y="4600800"/>
                <a:ext cx="54360" cy="30240"/>
              </a:xfrm>
              <a:custGeom>
                <a:avLst/>
                <a:gdLst/>
                <a:ahLst/>
                <a:rect l="l" t="t" r="r" b="b"/>
                <a:pathLst>
                  <a:path w="652" h="291">
                    <a:moveTo>
                      <a:pt x="50" y="0"/>
                    </a:moveTo>
                    <a:lnTo>
                      <a:pt x="59" y="44"/>
                    </a:lnTo>
                    <a:lnTo>
                      <a:pt x="59" y="85"/>
                    </a:lnTo>
                    <a:lnTo>
                      <a:pt x="34" y="126"/>
                    </a:lnTo>
                    <a:lnTo>
                      <a:pt x="0" y="152"/>
                    </a:lnTo>
                    <a:lnTo>
                      <a:pt x="136" y="291"/>
                    </a:lnTo>
                    <a:lnTo>
                      <a:pt x="294" y="192"/>
                    </a:lnTo>
                    <a:lnTo>
                      <a:pt x="384" y="291"/>
                    </a:lnTo>
                    <a:lnTo>
                      <a:pt x="452" y="233"/>
                    </a:lnTo>
                    <a:lnTo>
                      <a:pt x="583" y="152"/>
                    </a:lnTo>
                    <a:lnTo>
                      <a:pt x="652" y="69"/>
                    </a:lnTo>
                    <a:lnTo>
                      <a:pt x="553" y="152"/>
                    </a:lnTo>
                    <a:lnTo>
                      <a:pt x="410" y="210"/>
                    </a:lnTo>
                    <a:lnTo>
                      <a:pt x="343" y="159"/>
                    </a:lnTo>
                    <a:lnTo>
                      <a:pt x="184" y="159"/>
                    </a:lnTo>
                    <a:lnTo>
                      <a:pt x="94" y="9"/>
                    </a:lnTo>
                    <a:lnTo>
                      <a:pt x="5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46" name=""/>
              <p:cNvSpPr/>
              <p:nvPr/>
            </p:nvSpPr>
            <p:spPr>
              <a:xfrm>
                <a:off x="8067960" y="4476960"/>
                <a:ext cx="34920" cy="46440"/>
              </a:xfrm>
              <a:custGeom>
                <a:avLst/>
                <a:gdLst/>
                <a:ahLst/>
                <a:rect l="l" t="t" r="r" b="b"/>
                <a:pathLst>
                  <a:path w="419" h="442">
                    <a:moveTo>
                      <a:pt x="36" y="0"/>
                    </a:moveTo>
                    <a:lnTo>
                      <a:pt x="134" y="35"/>
                    </a:lnTo>
                    <a:lnTo>
                      <a:pt x="260" y="13"/>
                    </a:lnTo>
                    <a:lnTo>
                      <a:pt x="382" y="42"/>
                    </a:lnTo>
                    <a:lnTo>
                      <a:pt x="396" y="0"/>
                    </a:lnTo>
                    <a:lnTo>
                      <a:pt x="419" y="92"/>
                    </a:lnTo>
                    <a:lnTo>
                      <a:pt x="419" y="189"/>
                    </a:lnTo>
                    <a:lnTo>
                      <a:pt x="403" y="334"/>
                    </a:lnTo>
                    <a:lnTo>
                      <a:pt x="373" y="442"/>
                    </a:lnTo>
                    <a:lnTo>
                      <a:pt x="396" y="316"/>
                    </a:lnTo>
                    <a:lnTo>
                      <a:pt x="396" y="260"/>
                    </a:lnTo>
                    <a:lnTo>
                      <a:pt x="290" y="327"/>
                    </a:lnTo>
                    <a:lnTo>
                      <a:pt x="269" y="327"/>
                    </a:lnTo>
                    <a:lnTo>
                      <a:pt x="260" y="308"/>
                    </a:lnTo>
                    <a:lnTo>
                      <a:pt x="359" y="202"/>
                    </a:lnTo>
                    <a:lnTo>
                      <a:pt x="352" y="145"/>
                    </a:lnTo>
                    <a:lnTo>
                      <a:pt x="246" y="214"/>
                    </a:lnTo>
                    <a:lnTo>
                      <a:pt x="274" y="165"/>
                    </a:lnTo>
                    <a:lnTo>
                      <a:pt x="260" y="154"/>
                    </a:lnTo>
                    <a:lnTo>
                      <a:pt x="253" y="110"/>
                    </a:lnTo>
                    <a:lnTo>
                      <a:pt x="218" y="110"/>
                    </a:lnTo>
                    <a:lnTo>
                      <a:pt x="154" y="175"/>
                    </a:lnTo>
                    <a:lnTo>
                      <a:pt x="134" y="175"/>
                    </a:lnTo>
                    <a:lnTo>
                      <a:pt x="134" y="141"/>
                    </a:lnTo>
                    <a:lnTo>
                      <a:pt x="163" y="103"/>
                    </a:lnTo>
                    <a:lnTo>
                      <a:pt x="62" y="79"/>
                    </a:lnTo>
                    <a:lnTo>
                      <a:pt x="62" y="117"/>
                    </a:lnTo>
                    <a:lnTo>
                      <a:pt x="90" y="161"/>
                    </a:lnTo>
                    <a:lnTo>
                      <a:pt x="29" y="117"/>
                    </a:lnTo>
                    <a:lnTo>
                      <a:pt x="0" y="55"/>
                    </a:lnTo>
                    <a:lnTo>
                      <a:pt x="7" y="13"/>
                    </a:lnTo>
                    <a:lnTo>
                      <a:pt x="36"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47" name=""/>
              <p:cNvSpPr/>
              <p:nvPr/>
            </p:nvSpPr>
            <p:spPr>
              <a:xfrm>
                <a:off x="8077320" y="4497480"/>
                <a:ext cx="8280" cy="5760"/>
              </a:xfrm>
              <a:custGeom>
                <a:avLst/>
                <a:gdLst/>
                <a:ahLst/>
                <a:rect l="l" t="t" r="r" b="b"/>
                <a:pathLst>
                  <a:path w="96" h="60">
                    <a:moveTo>
                      <a:pt x="13" y="0"/>
                    </a:moveTo>
                    <a:lnTo>
                      <a:pt x="96" y="35"/>
                    </a:lnTo>
                    <a:lnTo>
                      <a:pt x="96" y="57"/>
                    </a:lnTo>
                    <a:lnTo>
                      <a:pt x="72" y="60"/>
                    </a:lnTo>
                    <a:lnTo>
                      <a:pt x="4" y="29"/>
                    </a:lnTo>
                    <a:lnTo>
                      <a:pt x="0" y="7"/>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48" name=""/>
              <p:cNvSpPr/>
              <p:nvPr/>
            </p:nvSpPr>
            <p:spPr>
              <a:xfrm>
                <a:off x="8103600" y="4449960"/>
                <a:ext cx="54360" cy="50400"/>
              </a:xfrm>
              <a:custGeom>
                <a:avLst/>
                <a:gdLst/>
                <a:ahLst/>
                <a:rect l="l" t="t" r="r" b="b"/>
                <a:pathLst>
                  <a:path w="655" h="483">
                    <a:moveTo>
                      <a:pt x="0" y="132"/>
                    </a:moveTo>
                    <a:lnTo>
                      <a:pt x="41" y="279"/>
                    </a:lnTo>
                    <a:lnTo>
                      <a:pt x="103" y="351"/>
                    </a:lnTo>
                    <a:lnTo>
                      <a:pt x="103" y="473"/>
                    </a:lnTo>
                    <a:lnTo>
                      <a:pt x="161" y="362"/>
                    </a:lnTo>
                    <a:lnTo>
                      <a:pt x="364" y="483"/>
                    </a:lnTo>
                    <a:lnTo>
                      <a:pt x="521" y="376"/>
                    </a:lnTo>
                    <a:lnTo>
                      <a:pt x="352" y="376"/>
                    </a:lnTo>
                    <a:lnTo>
                      <a:pt x="297" y="356"/>
                    </a:lnTo>
                    <a:lnTo>
                      <a:pt x="224" y="356"/>
                    </a:lnTo>
                    <a:lnTo>
                      <a:pt x="217" y="332"/>
                    </a:lnTo>
                    <a:lnTo>
                      <a:pt x="329" y="314"/>
                    </a:lnTo>
                    <a:lnTo>
                      <a:pt x="329" y="259"/>
                    </a:lnTo>
                    <a:lnTo>
                      <a:pt x="391" y="224"/>
                    </a:lnTo>
                    <a:lnTo>
                      <a:pt x="323" y="224"/>
                    </a:lnTo>
                    <a:lnTo>
                      <a:pt x="308" y="208"/>
                    </a:lnTo>
                    <a:lnTo>
                      <a:pt x="426" y="160"/>
                    </a:lnTo>
                    <a:lnTo>
                      <a:pt x="479" y="107"/>
                    </a:lnTo>
                    <a:lnTo>
                      <a:pt x="631" y="169"/>
                    </a:lnTo>
                    <a:lnTo>
                      <a:pt x="655" y="160"/>
                    </a:lnTo>
                    <a:lnTo>
                      <a:pt x="527" y="0"/>
                    </a:lnTo>
                    <a:lnTo>
                      <a:pt x="479" y="0"/>
                    </a:lnTo>
                    <a:lnTo>
                      <a:pt x="290" y="99"/>
                    </a:lnTo>
                    <a:lnTo>
                      <a:pt x="140" y="187"/>
                    </a:lnTo>
                    <a:lnTo>
                      <a:pt x="134" y="238"/>
                    </a:lnTo>
                    <a:lnTo>
                      <a:pt x="90" y="245"/>
                    </a:lnTo>
                    <a:lnTo>
                      <a:pt x="0" y="1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49" name=""/>
              <p:cNvSpPr/>
              <p:nvPr/>
            </p:nvSpPr>
            <p:spPr>
              <a:xfrm>
                <a:off x="8134200" y="4473360"/>
                <a:ext cx="15840" cy="8280"/>
              </a:xfrm>
              <a:custGeom>
                <a:avLst/>
                <a:gdLst/>
                <a:ahLst/>
                <a:rect l="l" t="t" r="r" b="b"/>
                <a:pathLst>
                  <a:path w="191" h="81">
                    <a:moveTo>
                      <a:pt x="0" y="0"/>
                    </a:moveTo>
                    <a:lnTo>
                      <a:pt x="34" y="65"/>
                    </a:lnTo>
                    <a:lnTo>
                      <a:pt x="20" y="81"/>
                    </a:lnTo>
                    <a:lnTo>
                      <a:pt x="176" y="72"/>
                    </a:lnTo>
                    <a:lnTo>
                      <a:pt x="191" y="50"/>
                    </a:lnTo>
                    <a:lnTo>
                      <a:pt x="101" y="0"/>
                    </a:lnTo>
                    <a:lnTo>
                      <a:pt x="29"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350" name=""/>
              <p:cNvSpPr/>
              <p:nvPr/>
            </p:nvSpPr>
            <p:spPr>
              <a:xfrm>
                <a:off x="8098920" y="4524480"/>
                <a:ext cx="32400" cy="24480"/>
              </a:xfrm>
              <a:custGeom>
                <a:avLst/>
                <a:gdLst/>
                <a:ahLst/>
                <a:rect l="l" t="t" r="r" b="b"/>
                <a:pathLst>
                  <a:path w="396" h="226">
                    <a:moveTo>
                      <a:pt x="0" y="41"/>
                    </a:moveTo>
                    <a:lnTo>
                      <a:pt x="69" y="83"/>
                    </a:lnTo>
                    <a:lnTo>
                      <a:pt x="136" y="83"/>
                    </a:lnTo>
                    <a:lnTo>
                      <a:pt x="228" y="14"/>
                    </a:lnTo>
                    <a:lnTo>
                      <a:pt x="297" y="0"/>
                    </a:lnTo>
                    <a:lnTo>
                      <a:pt x="302" y="14"/>
                    </a:lnTo>
                    <a:lnTo>
                      <a:pt x="339" y="26"/>
                    </a:lnTo>
                    <a:lnTo>
                      <a:pt x="396" y="14"/>
                    </a:lnTo>
                    <a:lnTo>
                      <a:pt x="359" y="63"/>
                    </a:lnTo>
                    <a:lnTo>
                      <a:pt x="219" y="109"/>
                    </a:lnTo>
                    <a:lnTo>
                      <a:pt x="214" y="180"/>
                    </a:lnTo>
                    <a:lnTo>
                      <a:pt x="168" y="226"/>
                    </a:lnTo>
                    <a:lnTo>
                      <a:pt x="99" y="118"/>
                    </a:lnTo>
                    <a:lnTo>
                      <a:pt x="46" y="104"/>
                    </a:lnTo>
                    <a:lnTo>
                      <a:pt x="0" y="63"/>
                    </a:lnTo>
                    <a:lnTo>
                      <a:pt x="0" y="41"/>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51" name=""/>
              <p:cNvSpPr/>
              <p:nvPr/>
            </p:nvSpPr>
            <p:spPr>
              <a:xfrm>
                <a:off x="8116920" y="4511880"/>
                <a:ext cx="12600" cy="5760"/>
              </a:xfrm>
              <a:custGeom>
                <a:avLst/>
                <a:gdLst/>
                <a:ahLst/>
                <a:rect l="l" t="t" r="r" b="b"/>
                <a:pathLst>
                  <a:path w="155" h="58">
                    <a:moveTo>
                      <a:pt x="0" y="58"/>
                    </a:moveTo>
                    <a:lnTo>
                      <a:pt x="106" y="32"/>
                    </a:lnTo>
                    <a:lnTo>
                      <a:pt x="155" y="44"/>
                    </a:lnTo>
                    <a:lnTo>
                      <a:pt x="106" y="0"/>
                    </a:lnTo>
                    <a:lnTo>
                      <a:pt x="41" y="0"/>
                    </a:lnTo>
                    <a:lnTo>
                      <a:pt x="0" y="5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52" name=""/>
              <p:cNvSpPr/>
              <p:nvPr/>
            </p:nvSpPr>
            <p:spPr>
              <a:xfrm>
                <a:off x="8131680" y="4519440"/>
                <a:ext cx="27000" cy="48240"/>
              </a:xfrm>
              <a:custGeom>
                <a:avLst/>
                <a:gdLst/>
                <a:ahLst/>
                <a:rect l="l" t="t" r="r" b="b"/>
                <a:pathLst>
                  <a:path w="323" h="453">
                    <a:moveTo>
                      <a:pt x="0" y="0"/>
                    </a:moveTo>
                    <a:lnTo>
                      <a:pt x="7" y="54"/>
                    </a:lnTo>
                    <a:lnTo>
                      <a:pt x="84" y="119"/>
                    </a:lnTo>
                    <a:lnTo>
                      <a:pt x="169" y="229"/>
                    </a:lnTo>
                    <a:lnTo>
                      <a:pt x="99" y="275"/>
                    </a:lnTo>
                    <a:lnTo>
                      <a:pt x="209" y="453"/>
                    </a:lnTo>
                    <a:lnTo>
                      <a:pt x="282" y="453"/>
                    </a:lnTo>
                    <a:lnTo>
                      <a:pt x="323" y="299"/>
                    </a:lnTo>
                    <a:lnTo>
                      <a:pt x="308" y="250"/>
                    </a:lnTo>
                    <a:lnTo>
                      <a:pt x="224" y="222"/>
                    </a:lnTo>
                    <a:lnTo>
                      <a:pt x="205" y="119"/>
                    </a:lnTo>
                    <a:lnTo>
                      <a:pt x="104" y="42"/>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353" name=""/>
              <p:cNvSpPr/>
              <p:nvPr/>
            </p:nvSpPr>
            <p:spPr>
              <a:xfrm>
                <a:off x="8074440" y="4501440"/>
                <a:ext cx="33480" cy="87840"/>
              </a:xfrm>
              <a:custGeom>
                <a:avLst/>
                <a:gdLst/>
                <a:ahLst/>
                <a:rect l="l" t="t" r="r" b="b"/>
                <a:pathLst>
                  <a:path w="411" h="827">
                    <a:moveTo>
                      <a:pt x="290" y="272"/>
                    </a:moveTo>
                    <a:lnTo>
                      <a:pt x="197" y="272"/>
                    </a:lnTo>
                    <a:lnTo>
                      <a:pt x="121" y="230"/>
                    </a:lnTo>
                    <a:lnTo>
                      <a:pt x="51" y="167"/>
                    </a:lnTo>
                    <a:lnTo>
                      <a:pt x="0" y="0"/>
                    </a:lnTo>
                    <a:lnTo>
                      <a:pt x="29" y="193"/>
                    </a:lnTo>
                    <a:lnTo>
                      <a:pt x="160" y="378"/>
                    </a:lnTo>
                    <a:lnTo>
                      <a:pt x="282" y="629"/>
                    </a:lnTo>
                    <a:lnTo>
                      <a:pt x="342" y="708"/>
                    </a:lnTo>
                    <a:lnTo>
                      <a:pt x="395" y="827"/>
                    </a:lnTo>
                    <a:lnTo>
                      <a:pt x="354" y="636"/>
                    </a:lnTo>
                    <a:lnTo>
                      <a:pt x="411" y="609"/>
                    </a:lnTo>
                    <a:lnTo>
                      <a:pt x="354" y="565"/>
                    </a:lnTo>
                    <a:lnTo>
                      <a:pt x="354" y="530"/>
                    </a:lnTo>
                    <a:lnTo>
                      <a:pt x="386" y="507"/>
                    </a:lnTo>
                    <a:lnTo>
                      <a:pt x="319" y="523"/>
                    </a:lnTo>
                    <a:lnTo>
                      <a:pt x="282" y="507"/>
                    </a:lnTo>
                    <a:lnTo>
                      <a:pt x="268" y="466"/>
                    </a:lnTo>
                    <a:lnTo>
                      <a:pt x="268" y="356"/>
                    </a:lnTo>
                    <a:lnTo>
                      <a:pt x="290" y="27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54" name=""/>
              <p:cNvSpPr/>
              <p:nvPr/>
            </p:nvSpPr>
            <p:spPr>
              <a:xfrm>
                <a:off x="8110440" y="4547160"/>
                <a:ext cx="30960" cy="7560"/>
              </a:xfrm>
              <a:custGeom>
                <a:avLst/>
                <a:gdLst/>
                <a:ahLst/>
                <a:rect l="l" t="t" r="r" b="b"/>
                <a:pathLst>
                  <a:path w="381" h="76">
                    <a:moveTo>
                      <a:pt x="0" y="76"/>
                    </a:moveTo>
                    <a:lnTo>
                      <a:pt x="175" y="40"/>
                    </a:lnTo>
                    <a:lnTo>
                      <a:pt x="260" y="0"/>
                    </a:lnTo>
                    <a:lnTo>
                      <a:pt x="313" y="0"/>
                    </a:lnTo>
                    <a:lnTo>
                      <a:pt x="381" y="21"/>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355" name=""/>
              <p:cNvSpPr/>
              <p:nvPr/>
            </p:nvSpPr>
            <p:spPr>
              <a:xfrm>
                <a:off x="8112960" y="4557600"/>
                <a:ext cx="25560" cy="20160"/>
              </a:xfrm>
              <a:custGeom>
                <a:avLst/>
                <a:gdLst/>
                <a:ahLst/>
                <a:rect l="l" t="t" r="r" b="b"/>
                <a:pathLst>
                  <a:path w="316" h="191">
                    <a:moveTo>
                      <a:pt x="0" y="79"/>
                    </a:moveTo>
                    <a:lnTo>
                      <a:pt x="242" y="26"/>
                    </a:lnTo>
                    <a:lnTo>
                      <a:pt x="295" y="0"/>
                    </a:lnTo>
                    <a:lnTo>
                      <a:pt x="303" y="19"/>
                    </a:lnTo>
                    <a:lnTo>
                      <a:pt x="219" y="64"/>
                    </a:lnTo>
                    <a:lnTo>
                      <a:pt x="235" y="112"/>
                    </a:lnTo>
                    <a:lnTo>
                      <a:pt x="316" y="191"/>
                    </a:lnTo>
                    <a:lnTo>
                      <a:pt x="228" y="162"/>
                    </a:lnTo>
                    <a:lnTo>
                      <a:pt x="150" y="162"/>
                    </a:lnTo>
                    <a:lnTo>
                      <a:pt x="72" y="182"/>
                    </a:lnTo>
                    <a:lnTo>
                      <a:pt x="46" y="191"/>
                    </a:lnTo>
                    <a:lnTo>
                      <a:pt x="60" y="156"/>
                    </a:lnTo>
                    <a:lnTo>
                      <a:pt x="24" y="99"/>
                    </a:lnTo>
                    <a:lnTo>
                      <a:pt x="0" y="7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356" name=""/>
              <p:cNvSpPr/>
              <p:nvPr/>
            </p:nvSpPr>
            <p:spPr>
              <a:xfrm>
                <a:off x="8047440" y="4370040"/>
                <a:ext cx="141840" cy="109080"/>
              </a:xfrm>
              <a:custGeom>
                <a:avLst/>
                <a:gdLst/>
                <a:ahLst/>
                <a:rect l="l" t="t" r="r" b="b"/>
                <a:pathLst>
                  <a:path w="1704" h="1028">
                    <a:moveTo>
                      <a:pt x="159" y="340"/>
                    </a:moveTo>
                    <a:lnTo>
                      <a:pt x="122" y="404"/>
                    </a:lnTo>
                    <a:lnTo>
                      <a:pt x="0" y="551"/>
                    </a:lnTo>
                    <a:lnTo>
                      <a:pt x="0" y="609"/>
                    </a:lnTo>
                    <a:lnTo>
                      <a:pt x="76" y="749"/>
                    </a:lnTo>
                    <a:lnTo>
                      <a:pt x="48" y="874"/>
                    </a:lnTo>
                    <a:lnTo>
                      <a:pt x="111" y="978"/>
                    </a:lnTo>
                    <a:lnTo>
                      <a:pt x="245" y="987"/>
                    </a:lnTo>
                    <a:lnTo>
                      <a:pt x="286" y="1028"/>
                    </a:lnTo>
                    <a:lnTo>
                      <a:pt x="252" y="692"/>
                    </a:lnTo>
                    <a:lnTo>
                      <a:pt x="252" y="588"/>
                    </a:lnTo>
                    <a:lnTo>
                      <a:pt x="265" y="507"/>
                    </a:lnTo>
                    <a:lnTo>
                      <a:pt x="286" y="457"/>
                    </a:lnTo>
                    <a:lnTo>
                      <a:pt x="408" y="507"/>
                    </a:lnTo>
                    <a:lnTo>
                      <a:pt x="555" y="529"/>
                    </a:lnTo>
                    <a:lnTo>
                      <a:pt x="738" y="529"/>
                    </a:lnTo>
                    <a:lnTo>
                      <a:pt x="966" y="507"/>
                    </a:lnTo>
                    <a:lnTo>
                      <a:pt x="851" y="503"/>
                    </a:lnTo>
                    <a:lnTo>
                      <a:pt x="708" y="434"/>
                    </a:lnTo>
                    <a:lnTo>
                      <a:pt x="865" y="441"/>
                    </a:lnTo>
                    <a:lnTo>
                      <a:pt x="992" y="434"/>
                    </a:lnTo>
                    <a:lnTo>
                      <a:pt x="1162" y="397"/>
                    </a:lnTo>
                    <a:lnTo>
                      <a:pt x="1280" y="349"/>
                    </a:lnTo>
                    <a:lnTo>
                      <a:pt x="1441" y="334"/>
                    </a:lnTo>
                    <a:lnTo>
                      <a:pt x="1513" y="362"/>
                    </a:lnTo>
                    <a:lnTo>
                      <a:pt x="1586" y="397"/>
                    </a:lnTo>
                    <a:lnTo>
                      <a:pt x="1644" y="397"/>
                    </a:lnTo>
                    <a:lnTo>
                      <a:pt x="1704" y="362"/>
                    </a:lnTo>
                    <a:lnTo>
                      <a:pt x="1634" y="272"/>
                    </a:lnTo>
                    <a:lnTo>
                      <a:pt x="1526" y="286"/>
                    </a:lnTo>
                    <a:lnTo>
                      <a:pt x="1441" y="259"/>
                    </a:lnTo>
                    <a:lnTo>
                      <a:pt x="1358" y="250"/>
                    </a:lnTo>
                    <a:lnTo>
                      <a:pt x="1280" y="279"/>
                    </a:lnTo>
                    <a:lnTo>
                      <a:pt x="1139" y="340"/>
                    </a:lnTo>
                    <a:lnTo>
                      <a:pt x="1014" y="371"/>
                    </a:lnTo>
                    <a:lnTo>
                      <a:pt x="878" y="378"/>
                    </a:lnTo>
                    <a:lnTo>
                      <a:pt x="766" y="384"/>
                    </a:lnTo>
                    <a:lnTo>
                      <a:pt x="590" y="362"/>
                    </a:lnTo>
                    <a:lnTo>
                      <a:pt x="696" y="334"/>
                    </a:lnTo>
                    <a:lnTo>
                      <a:pt x="570" y="318"/>
                    </a:lnTo>
                    <a:lnTo>
                      <a:pt x="443" y="291"/>
                    </a:lnTo>
                    <a:lnTo>
                      <a:pt x="379" y="265"/>
                    </a:lnTo>
                    <a:lnTo>
                      <a:pt x="482" y="226"/>
                    </a:lnTo>
                    <a:lnTo>
                      <a:pt x="300" y="201"/>
                    </a:lnTo>
                    <a:lnTo>
                      <a:pt x="265" y="173"/>
                    </a:lnTo>
                    <a:lnTo>
                      <a:pt x="258" y="145"/>
                    </a:lnTo>
                    <a:lnTo>
                      <a:pt x="265" y="102"/>
                    </a:lnTo>
                    <a:lnTo>
                      <a:pt x="295" y="54"/>
                    </a:lnTo>
                    <a:lnTo>
                      <a:pt x="373" y="0"/>
                    </a:lnTo>
                    <a:lnTo>
                      <a:pt x="217" y="67"/>
                    </a:lnTo>
                    <a:lnTo>
                      <a:pt x="60" y="164"/>
                    </a:lnTo>
                    <a:lnTo>
                      <a:pt x="69" y="189"/>
                    </a:lnTo>
                    <a:lnTo>
                      <a:pt x="118" y="286"/>
                    </a:lnTo>
                    <a:lnTo>
                      <a:pt x="159"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7" name=""/>
              <p:cNvSpPr/>
              <p:nvPr/>
            </p:nvSpPr>
            <p:spPr>
              <a:xfrm>
                <a:off x="8085960" y="4346640"/>
                <a:ext cx="137160" cy="278640"/>
              </a:xfrm>
              <a:custGeom>
                <a:avLst/>
                <a:gdLst/>
                <a:ahLst/>
                <a:rect l="l" t="t" r="r" b="b"/>
                <a:pathLst>
                  <a:path w="1658" h="2635">
                    <a:moveTo>
                      <a:pt x="7" y="196"/>
                    </a:moveTo>
                    <a:lnTo>
                      <a:pt x="0" y="216"/>
                    </a:lnTo>
                    <a:lnTo>
                      <a:pt x="14" y="231"/>
                    </a:lnTo>
                    <a:lnTo>
                      <a:pt x="58" y="251"/>
                    </a:lnTo>
                    <a:lnTo>
                      <a:pt x="106" y="260"/>
                    </a:lnTo>
                    <a:lnTo>
                      <a:pt x="185" y="260"/>
                    </a:lnTo>
                    <a:lnTo>
                      <a:pt x="291" y="244"/>
                    </a:lnTo>
                    <a:lnTo>
                      <a:pt x="208" y="279"/>
                    </a:lnTo>
                    <a:lnTo>
                      <a:pt x="114" y="292"/>
                    </a:lnTo>
                    <a:lnTo>
                      <a:pt x="35" y="292"/>
                    </a:lnTo>
                    <a:lnTo>
                      <a:pt x="35" y="315"/>
                    </a:lnTo>
                    <a:lnTo>
                      <a:pt x="58" y="341"/>
                    </a:lnTo>
                    <a:lnTo>
                      <a:pt x="114" y="366"/>
                    </a:lnTo>
                    <a:lnTo>
                      <a:pt x="185" y="354"/>
                    </a:lnTo>
                    <a:lnTo>
                      <a:pt x="231" y="385"/>
                    </a:lnTo>
                    <a:lnTo>
                      <a:pt x="226" y="398"/>
                    </a:lnTo>
                    <a:lnTo>
                      <a:pt x="185" y="420"/>
                    </a:lnTo>
                    <a:lnTo>
                      <a:pt x="141" y="426"/>
                    </a:lnTo>
                    <a:lnTo>
                      <a:pt x="220" y="435"/>
                    </a:lnTo>
                    <a:lnTo>
                      <a:pt x="354" y="435"/>
                    </a:lnTo>
                    <a:lnTo>
                      <a:pt x="510" y="414"/>
                    </a:lnTo>
                    <a:lnTo>
                      <a:pt x="611" y="385"/>
                    </a:lnTo>
                    <a:lnTo>
                      <a:pt x="487" y="426"/>
                    </a:lnTo>
                    <a:lnTo>
                      <a:pt x="345" y="456"/>
                    </a:lnTo>
                    <a:lnTo>
                      <a:pt x="244" y="475"/>
                    </a:lnTo>
                    <a:lnTo>
                      <a:pt x="305" y="504"/>
                    </a:lnTo>
                    <a:lnTo>
                      <a:pt x="437" y="523"/>
                    </a:lnTo>
                    <a:lnTo>
                      <a:pt x="543" y="532"/>
                    </a:lnTo>
                    <a:lnTo>
                      <a:pt x="662" y="532"/>
                    </a:lnTo>
                    <a:lnTo>
                      <a:pt x="741" y="511"/>
                    </a:lnTo>
                    <a:lnTo>
                      <a:pt x="625" y="475"/>
                    </a:lnTo>
                    <a:lnTo>
                      <a:pt x="824" y="398"/>
                    </a:lnTo>
                    <a:lnTo>
                      <a:pt x="763" y="370"/>
                    </a:lnTo>
                    <a:lnTo>
                      <a:pt x="875" y="378"/>
                    </a:lnTo>
                    <a:lnTo>
                      <a:pt x="945" y="414"/>
                    </a:lnTo>
                    <a:lnTo>
                      <a:pt x="1029" y="470"/>
                    </a:lnTo>
                    <a:lnTo>
                      <a:pt x="1095" y="511"/>
                    </a:lnTo>
                    <a:lnTo>
                      <a:pt x="1142" y="622"/>
                    </a:lnTo>
                    <a:lnTo>
                      <a:pt x="1204" y="622"/>
                    </a:lnTo>
                    <a:lnTo>
                      <a:pt x="1257" y="609"/>
                    </a:lnTo>
                    <a:lnTo>
                      <a:pt x="1296" y="580"/>
                    </a:lnTo>
                    <a:lnTo>
                      <a:pt x="1331" y="537"/>
                    </a:lnTo>
                    <a:lnTo>
                      <a:pt x="1354" y="511"/>
                    </a:lnTo>
                    <a:lnTo>
                      <a:pt x="1361" y="559"/>
                    </a:lnTo>
                    <a:lnTo>
                      <a:pt x="1347" y="609"/>
                    </a:lnTo>
                    <a:lnTo>
                      <a:pt x="1310" y="651"/>
                    </a:lnTo>
                    <a:lnTo>
                      <a:pt x="1382" y="651"/>
                    </a:lnTo>
                    <a:lnTo>
                      <a:pt x="1446" y="638"/>
                    </a:lnTo>
                    <a:lnTo>
                      <a:pt x="1485" y="651"/>
                    </a:lnTo>
                    <a:lnTo>
                      <a:pt x="1508" y="684"/>
                    </a:lnTo>
                    <a:lnTo>
                      <a:pt x="1523" y="765"/>
                    </a:lnTo>
                    <a:lnTo>
                      <a:pt x="1517" y="936"/>
                    </a:lnTo>
                    <a:lnTo>
                      <a:pt x="1543" y="996"/>
                    </a:lnTo>
                    <a:lnTo>
                      <a:pt x="1580" y="1030"/>
                    </a:lnTo>
                    <a:lnTo>
                      <a:pt x="1591" y="1073"/>
                    </a:lnTo>
                    <a:lnTo>
                      <a:pt x="1559" y="1073"/>
                    </a:lnTo>
                    <a:lnTo>
                      <a:pt x="1469" y="1014"/>
                    </a:lnTo>
                    <a:lnTo>
                      <a:pt x="1354" y="1009"/>
                    </a:lnTo>
                    <a:lnTo>
                      <a:pt x="1287" y="1095"/>
                    </a:lnTo>
                    <a:lnTo>
                      <a:pt x="1268" y="1226"/>
                    </a:lnTo>
                    <a:lnTo>
                      <a:pt x="1340" y="1284"/>
                    </a:lnTo>
                    <a:lnTo>
                      <a:pt x="1319" y="1457"/>
                    </a:lnTo>
                    <a:lnTo>
                      <a:pt x="1361" y="1374"/>
                    </a:lnTo>
                    <a:lnTo>
                      <a:pt x="1460" y="1330"/>
                    </a:lnTo>
                    <a:lnTo>
                      <a:pt x="1422" y="1240"/>
                    </a:lnTo>
                    <a:lnTo>
                      <a:pt x="1340" y="1219"/>
                    </a:lnTo>
                    <a:lnTo>
                      <a:pt x="1409" y="1143"/>
                    </a:lnTo>
                    <a:lnTo>
                      <a:pt x="1508" y="1212"/>
                    </a:lnTo>
                    <a:lnTo>
                      <a:pt x="1479" y="1106"/>
                    </a:lnTo>
                    <a:lnTo>
                      <a:pt x="1517" y="1095"/>
                    </a:lnTo>
                    <a:lnTo>
                      <a:pt x="1422" y="1099"/>
                    </a:lnTo>
                    <a:lnTo>
                      <a:pt x="1303" y="1189"/>
                    </a:lnTo>
                    <a:lnTo>
                      <a:pt x="1319" y="1099"/>
                    </a:lnTo>
                    <a:lnTo>
                      <a:pt x="1367" y="1035"/>
                    </a:lnTo>
                    <a:lnTo>
                      <a:pt x="1460" y="1035"/>
                    </a:lnTo>
                    <a:lnTo>
                      <a:pt x="1559" y="1095"/>
                    </a:lnTo>
                    <a:lnTo>
                      <a:pt x="1564" y="1198"/>
                    </a:lnTo>
                    <a:lnTo>
                      <a:pt x="1543" y="1316"/>
                    </a:lnTo>
                    <a:lnTo>
                      <a:pt x="1469" y="1435"/>
                    </a:lnTo>
                    <a:lnTo>
                      <a:pt x="1446" y="1519"/>
                    </a:lnTo>
                    <a:lnTo>
                      <a:pt x="1361" y="1560"/>
                    </a:lnTo>
                    <a:lnTo>
                      <a:pt x="1296" y="1493"/>
                    </a:lnTo>
                    <a:lnTo>
                      <a:pt x="1220" y="1968"/>
                    </a:lnTo>
                    <a:lnTo>
                      <a:pt x="1163" y="2261"/>
                    </a:lnTo>
                    <a:lnTo>
                      <a:pt x="939" y="2501"/>
                    </a:lnTo>
                    <a:lnTo>
                      <a:pt x="851" y="2635"/>
                    </a:lnTo>
                    <a:lnTo>
                      <a:pt x="958" y="2492"/>
                    </a:lnTo>
                    <a:lnTo>
                      <a:pt x="1257" y="2174"/>
                    </a:lnTo>
                    <a:lnTo>
                      <a:pt x="1446" y="1827"/>
                    </a:lnTo>
                    <a:lnTo>
                      <a:pt x="1430" y="1807"/>
                    </a:lnTo>
                    <a:lnTo>
                      <a:pt x="1382" y="1811"/>
                    </a:lnTo>
                    <a:lnTo>
                      <a:pt x="1384" y="1730"/>
                    </a:lnTo>
                    <a:lnTo>
                      <a:pt x="1494" y="1701"/>
                    </a:lnTo>
                    <a:lnTo>
                      <a:pt x="1494" y="1624"/>
                    </a:lnTo>
                    <a:lnTo>
                      <a:pt x="1591" y="1592"/>
                    </a:lnTo>
                    <a:lnTo>
                      <a:pt x="1619" y="1457"/>
                    </a:lnTo>
                    <a:lnTo>
                      <a:pt x="1658" y="1394"/>
                    </a:lnTo>
                    <a:lnTo>
                      <a:pt x="1580" y="1350"/>
                    </a:lnTo>
                    <a:lnTo>
                      <a:pt x="1573" y="1306"/>
                    </a:lnTo>
                    <a:lnTo>
                      <a:pt x="1591" y="1240"/>
                    </a:lnTo>
                    <a:lnTo>
                      <a:pt x="1591" y="1154"/>
                    </a:lnTo>
                    <a:lnTo>
                      <a:pt x="1580" y="1122"/>
                    </a:lnTo>
                    <a:lnTo>
                      <a:pt x="1642" y="1143"/>
                    </a:lnTo>
                    <a:lnTo>
                      <a:pt x="1619" y="1057"/>
                    </a:lnTo>
                    <a:lnTo>
                      <a:pt x="1564" y="967"/>
                    </a:lnTo>
                    <a:lnTo>
                      <a:pt x="1550" y="897"/>
                    </a:lnTo>
                    <a:lnTo>
                      <a:pt x="1550" y="813"/>
                    </a:lnTo>
                    <a:lnTo>
                      <a:pt x="1543" y="741"/>
                    </a:lnTo>
                    <a:lnTo>
                      <a:pt x="1550" y="700"/>
                    </a:lnTo>
                    <a:lnTo>
                      <a:pt x="1501" y="580"/>
                    </a:lnTo>
                    <a:lnTo>
                      <a:pt x="1418" y="462"/>
                    </a:lnTo>
                    <a:lnTo>
                      <a:pt x="1326" y="389"/>
                    </a:lnTo>
                    <a:lnTo>
                      <a:pt x="1257" y="341"/>
                    </a:lnTo>
                    <a:lnTo>
                      <a:pt x="1227" y="225"/>
                    </a:lnTo>
                    <a:lnTo>
                      <a:pt x="1137" y="147"/>
                    </a:lnTo>
                    <a:lnTo>
                      <a:pt x="1044" y="119"/>
                    </a:lnTo>
                    <a:lnTo>
                      <a:pt x="909" y="40"/>
                    </a:lnTo>
                    <a:lnTo>
                      <a:pt x="747" y="0"/>
                    </a:lnTo>
                    <a:lnTo>
                      <a:pt x="584" y="4"/>
                    </a:lnTo>
                    <a:lnTo>
                      <a:pt x="427" y="36"/>
                    </a:lnTo>
                    <a:lnTo>
                      <a:pt x="298" y="97"/>
                    </a:lnTo>
                    <a:lnTo>
                      <a:pt x="127" y="161"/>
                    </a:lnTo>
                    <a:lnTo>
                      <a:pt x="7" y="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8" name=""/>
              <p:cNvSpPr/>
              <p:nvPr/>
            </p:nvSpPr>
            <p:spPr>
              <a:xfrm>
                <a:off x="8150040" y="4403160"/>
                <a:ext cx="37080" cy="37080"/>
              </a:xfrm>
              <a:custGeom>
                <a:avLst/>
                <a:gdLst/>
                <a:ahLst/>
                <a:rect l="l" t="t" r="r" b="b"/>
                <a:pathLst>
                  <a:path w="445" h="358">
                    <a:moveTo>
                      <a:pt x="141" y="27"/>
                    </a:moveTo>
                    <a:lnTo>
                      <a:pt x="69" y="48"/>
                    </a:lnTo>
                    <a:lnTo>
                      <a:pt x="0" y="113"/>
                    </a:lnTo>
                    <a:lnTo>
                      <a:pt x="84" y="113"/>
                    </a:lnTo>
                    <a:lnTo>
                      <a:pt x="42" y="209"/>
                    </a:lnTo>
                    <a:lnTo>
                      <a:pt x="93" y="233"/>
                    </a:lnTo>
                    <a:lnTo>
                      <a:pt x="127" y="358"/>
                    </a:lnTo>
                    <a:lnTo>
                      <a:pt x="115" y="222"/>
                    </a:lnTo>
                    <a:lnTo>
                      <a:pt x="163" y="180"/>
                    </a:lnTo>
                    <a:lnTo>
                      <a:pt x="240" y="161"/>
                    </a:lnTo>
                    <a:lnTo>
                      <a:pt x="316" y="161"/>
                    </a:lnTo>
                    <a:lnTo>
                      <a:pt x="385" y="173"/>
                    </a:lnTo>
                    <a:lnTo>
                      <a:pt x="445" y="209"/>
                    </a:lnTo>
                    <a:lnTo>
                      <a:pt x="374" y="161"/>
                    </a:lnTo>
                    <a:lnTo>
                      <a:pt x="268" y="134"/>
                    </a:lnTo>
                    <a:lnTo>
                      <a:pt x="189" y="134"/>
                    </a:lnTo>
                    <a:lnTo>
                      <a:pt x="99" y="161"/>
                    </a:lnTo>
                    <a:lnTo>
                      <a:pt x="106" y="119"/>
                    </a:lnTo>
                    <a:lnTo>
                      <a:pt x="150" y="90"/>
                    </a:lnTo>
                    <a:lnTo>
                      <a:pt x="62" y="90"/>
                    </a:lnTo>
                    <a:lnTo>
                      <a:pt x="99" y="64"/>
                    </a:lnTo>
                    <a:lnTo>
                      <a:pt x="163" y="33"/>
                    </a:lnTo>
                    <a:lnTo>
                      <a:pt x="219" y="42"/>
                    </a:lnTo>
                    <a:lnTo>
                      <a:pt x="316" y="64"/>
                    </a:lnTo>
                    <a:lnTo>
                      <a:pt x="247" y="20"/>
                    </a:lnTo>
                    <a:lnTo>
                      <a:pt x="163" y="0"/>
                    </a:lnTo>
                    <a:lnTo>
                      <a:pt x="141" y="2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359" name=""/>
              <p:cNvSpPr/>
              <p:nvPr/>
            </p:nvSpPr>
            <p:spPr>
              <a:xfrm>
                <a:off x="8161920" y="4446360"/>
                <a:ext cx="31680" cy="32040"/>
              </a:xfrm>
              <a:custGeom>
                <a:avLst/>
                <a:gdLst/>
                <a:ahLst/>
                <a:rect l="l" t="t" r="r" b="b"/>
                <a:pathLst>
                  <a:path w="387" h="303">
                    <a:moveTo>
                      <a:pt x="22" y="18"/>
                    </a:moveTo>
                    <a:lnTo>
                      <a:pt x="115" y="0"/>
                    </a:lnTo>
                    <a:lnTo>
                      <a:pt x="191" y="18"/>
                    </a:lnTo>
                    <a:lnTo>
                      <a:pt x="244" y="53"/>
                    </a:lnTo>
                    <a:lnTo>
                      <a:pt x="281" y="92"/>
                    </a:lnTo>
                    <a:lnTo>
                      <a:pt x="288" y="138"/>
                    </a:lnTo>
                    <a:lnTo>
                      <a:pt x="281" y="156"/>
                    </a:lnTo>
                    <a:lnTo>
                      <a:pt x="255" y="152"/>
                    </a:lnTo>
                    <a:lnTo>
                      <a:pt x="219" y="130"/>
                    </a:lnTo>
                    <a:lnTo>
                      <a:pt x="175" y="92"/>
                    </a:lnTo>
                    <a:lnTo>
                      <a:pt x="127" y="87"/>
                    </a:lnTo>
                    <a:lnTo>
                      <a:pt x="172" y="152"/>
                    </a:lnTo>
                    <a:lnTo>
                      <a:pt x="191" y="207"/>
                    </a:lnTo>
                    <a:lnTo>
                      <a:pt x="182" y="260"/>
                    </a:lnTo>
                    <a:lnTo>
                      <a:pt x="360" y="290"/>
                    </a:lnTo>
                    <a:lnTo>
                      <a:pt x="387" y="303"/>
                    </a:lnTo>
                    <a:lnTo>
                      <a:pt x="147" y="276"/>
                    </a:lnTo>
                    <a:lnTo>
                      <a:pt x="163" y="239"/>
                    </a:lnTo>
                    <a:lnTo>
                      <a:pt x="156" y="191"/>
                    </a:lnTo>
                    <a:lnTo>
                      <a:pt x="121" y="130"/>
                    </a:lnTo>
                    <a:lnTo>
                      <a:pt x="83" y="87"/>
                    </a:lnTo>
                    <a:lnTo>
                      <a:pt x="16" y="53"/>
                    </a:lnTo>
                    <a:lnTo>
                      <a:pt x="0" y="9"/>
                    </a:lnTo>
                    <a:lnTo>
                      <a:pt x="22" y="1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360" name=""/>
              <p:cNvSpPr/>
              <p:nvPr/>
            </p:nvSpPr>
            <p:spPr>
              <a:xfrm>
                <a:off x="8168760" y="4475160"/>
                <a:ext cx="17640" cy="33480"/>
              </a:xfrm>
              <a:custGeom>
                <a:avLst/>
                <a:gdLst/>
                <a:ahLst/>
                <a:rect l="l" t="t" r="r" b="b"/>
                <a:pathLst>
                  <a:path w="214" h="313">
                    <a:moveTo>
                      <a:pt x="89" y="0"/>
                    </a:moveTo>
                    <a:lnTo>
                      <a:pt x="0" y="179"/>
                    </a:lnTo>
                    <a:lnTo>
                      <a:pt x="9" y="313"/>
                    </a:lnTo>
                    <a:lnTo>
                      <a:pt x="214" y="65"/>
                    </a:lnTo>
                    <a:lnTo>
                      <a:pt x="214" y="14"/>
                    </a:lnTo>
                    <a:lnTo>
                      <a:pt x="8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61" name=""/>
              <p:cNvSpPr/>
              <p:nvPr/>
            </p:nvSpPr>
            <p:spPr>
              <a:xfrm>
                <a:off x="8109000" y="4560840"/>
                <a:ext cx="70920" cy="67680"/>
              </a:xfrm>
              <a:custGeom>
                <a:avLst/>
                <a:gdLst/>
                <a:ahLst/>
                <a:rect l="l" t="t" r="r" b="b"/>
                <a:pathLst>
                  <a:path w="857" h="640">
                    <a:moveTo>
                      <a:pt x="857" y="0"/>
                    </a:moveTo>
                    <a:lnTo>
                      <a:pt x="749" y="53"/>
                    </a:lnTo>
                    <a:lnTo>
                      <a:pt x="648" y="198"/>
                    </a:lnTo>
                    <a:lnTo>
                      <a:pt x="514" y="187"/>
                    </a:lnTo>
                    <a:lnTo>
                      <a:pt x="470" y="260"/>
                    </a:lnTo>
                    <a:lnTo>
                      <a:pt x="415" y="297"/>
                    </a:lnTo>
                    <a:lnTo>
                      <a:pt x="276" y="288"/>
                    </a:lnTo>
                    <a:lnTo>
                      <a:pt x="186" y="321"/>
                    </a:lnTo>
                    <a:lnTo>
                      <a:pt x="118" y="345"/>
                    </a:lnTo>
                    <a:lnTo>
                      <a:pt x="48" y="345"/>
                    </a:lnTo>
                    <a:lnTo>
                      <a:pt x="0" y="317"/>
                    </a:lnTo>
                    <a:lnTo>
                      <a:pt x="48" y="359"/>
                    </a:lnTo>
                    <a:lnTo>
                      <a:pt x="105" y="366"/>
                    </a:lnTo>
                    <a:lnTo>
                      <a:pt x="223" y="366"/>
                    </a:lnTo>
                    <a:lnTo>
                      <a:pt x="294" y="391"/>
                    </a:lnTo>
                    <a:lnTo>
                      <a:pt x="382" y="514"/>
                    </a:lnTo>
                    <a:lnTo>
                      <a:pt x="507" y="611"/>
                    </a:lnTo>
                    <a:lnTo>
                      <a:pt x="527" y="640"/>
                    </a:lnTo>
                    <a:lnTo>
                      <a:pt x="564" y="615"/>
                    </a:lnTo>
                    <a:lnTo>
                      <a:pt x="555" y="550"/>
                    </a:lnTo>
                    <a:lnTo>
                      <a:pt x="544" y="461"/>
                    </a:lnTo>
                    <a:lnTo>
                      <a:pt x="555" y="380"/>
                    </a:lnTo>
                    <a:lnTo>
                      <a:pt x="569" y="327"/>
                    </a:lnTo>
                    <a:lnTo>
                      <a:pt x="630" y="267"/>
                    </a:lnTo>
                    <a:lnTo>
                      <a:pt x="685" y="226"/>
                    </a:lnTo>
                    <a:lnTo>
                      <a:pt x="738" y="132"/>
                    </a:lnTo>
                    <a:lnTo>
                      <a:pt x="800" y="57"/>
                    </a:lnTo>
                    <a:lnTo>
                      <a:pt x="857"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362" name=""/>
              <p:cNvSpPr/>
              <p:nvPr/>
            </p:nvSpPr>
            <p:spPr>
              <a:xfrm>
                <a:off x="8164080" y="4520160"/>
                <a:ext cx="5760" cy="36000"/>
              </a:xfrm>
              <a:custGeom>
                <a:avLst/>
                <a:gdLst/>
                <a:ahLst/>
                <a:rect l="l" t="t" r="r" b="b"/>
                <a:pathLst>
                  <a:path w="72" h="339">
                    <a:moveTo>
                      <a:pt x="56" y="0"/>
                    </a:moveTo>
                    <a:lnTo>
                      <a:pt x="0" y="339"/>
                    </a:lnTo>
                    <a:lnTo>
                      <a:pt x="72" y="117"/>
                    </a:lnTo>
                    <a:lnTo>
                      <a:pt x="5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363" name=""/>
              <p:cNvSpPr/>
              <p:nvPr/>
            </p:nvSpPr>
            <p:spPr>
              <a:xfrm>
                <a:off x="8091000" y="4437360"/>
                <a:ext cx="62280" cy="19080"/>
              </a:xfrm>
              <a:custGeom>
                <a:avLst/>
                <a:gdLst/>
                <a:ahLst/>
                <a:rect l="l" t="t" r="r" b="b"/>
                <a:pathLst>
                  <a:path w="747" h="189">
                    <a:moveTo>
                      <a:pt x="0" y="189"/>
                    </a:moveTo>
                    <a:lnTo>
                      <a:pt x="38" y="145"/>
                    </a:lnTo>
                    <a:lnTo>
                      <a:pt x="95" y="117"/>
                    </a:lnTo>
                    <a:lnTo>
                      <a:pt x="189" y="97"/>
                    </a:lnTo>
                    <a:lnTo>
                      <a:pt x="341" y="78"/>
                    </a:lnTo>
                    <a:lnTo>
                      <a:pt x="460" y="39"/>
                    </a:lnTo>
                    <a:lnTo>
                      <a:pt x="581" y="0"/>
                    </a:lnTo>
                    <a:lnTo>
                      <a:pt x="664" y="0"/>
                    </a:lnTo>
                    <a:lnTo>
                      <a:pt x="715" y="29"/>
                    </a:lnTo>
                    <a:lnTo>
                      <a:pt x="747" y="4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64" name=""/>
              <p:cNvSpPr/>
              <p:nvPr/>
            </p:nvSpPr>
            <p:spPr>
              <a:xfrm>
                <a:off x="8105040" y="4430160"/>
                <a:ext cx="46440" cy="11880"/>
              </a:xfrm>
              <a:custGeom>
                <a:avLst/>
                <a:gdLst/>
                <a:ahLst/>
                <a:rect l="l" t="t" r="r" b="b"/>
                <a:pathLst>
                  <a:path w="563" h="118">
                    <a:moveTo>
                      <a:pt x="0" y="118"/>
                    </a:moveTo>
                    <a:lnTo>
                      <a:pt x="134" y="94"/>
                    </a:lnTo>
                    <a:lnTo>
                      <a:pt x="266" y="41"/>
                    </a:lnTo>
                    <a:lnTo>
                      <a:pt x="362" y="4"/>
                    </a:lnTo>
                    <a:lnTo>
                      <a:pt x="436" y="0"/>
                    </a:lnTo>
                    <a:lnTo>
                      <a:pt x="496" y="17"/>
                    </a:lnTo>
                    <a:lnTo>
                      <a:pt x="563" y="48"/>
                    </a:lnTo>
                  </a:path>
                </a:pathLst>
              </a:custGeom>
              <a:noFill/>
              <a:ln w="0">
                <a:solidFill>
                  <a:srgbClr val="000000"/>
                </a:solid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365" name=""/>
              <p:cNvSpPr/>
              <p:nvPr/>
            </p:nvSpPr>
            <p:spPr>
              <a:xfrm>
                <a:off x="8122320" y="4424400"/>
                <a:ext cx="23040" cy="5760"/>
              </a:xfrm>
              <a:custGeom>
                <a:avLst/>
                <a:gdLst/>
                <a:ahLst/>
                <a:rect l="l" t="t" r="r" b="b"/>
                <a:pathLst>
                  <a:path w="279" h="62">
                    <a:moveTo>
                      <a:pt x="0" y="62"/>
                    </a:moveTo>
                    <a:lnTo>
                      <a:pt x="161" y="7"/>
                    </a:lnTo>
                    <a:lnTo>
                      <a:pt x="223" y="0"/>
                    </a:lnTo>
                    <a:lnTo>
                      <a:pt x="279" y="12"/>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66" name=""/>
              <p:cNvSpPr/>
              <p:nvPr/>
            </p:nvSpPr>
            <p:spPr>
              <a:xfrm>
                <a:off x="8148960" y="4461840"/>
                <a:ext cx="8280" cy="13320"/>
              </a:xfrm>
              <a:custGeom>
                <a:avLst/>
                <a:gdLst/>
                <a:ahLst/>
                <a:rect l="l" t="t" r="r" b="b"/>
                <a:pathLst>
                  <a:path w="105" h="128">
                    <a:moveTo>
                      <a:pt x="0" y="0"/>
                    </a:moveTo>
                    <a:lnTo>
                      <a:pt x="0" y="101"/>
                    </a:lnTo>
                    <a:lnTo>
                      <a:pt x="52" y="128"/>
                    </a:lnTo>
                    <a:lnTo>
                      <a:pt x="105" y="39"/>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67" name=""/>
              <p:cNvSpPr/>
              <p:nvPr/>
            </p:nvSpPr>
            <p:spPr>
              <a:xfrm>
                <a:off x="8234280" y="4632840"/>
                <a:ext cx="176040" cy="399960"/>
              </a:xfrm>
              <a:custGeom>
                <a:avLst/>
                <a:gdLst/>
                <a:ahLst/>
                <a:rect l="l" t="t" r="r" b="b"/>
                <a:pathLst>
                  <a:path w="2124" h="3774">
                    <a:moveTo>
                      <a:pt x="1483" y="509"/>
                    </a:moveTo>
                    <a:lnTo>
                      <a:pt x="1612" y="966"/>
                    </a:lnTo>
                    <a:lnTo>
                      <a:pt x="1929" y="1474"/>
                    </a:lnTo>
                    <a:lnTo>
                      <a:pt x="1810" y="2116"/>
                    </a:lnTo>
                    <a:lnTo>
                      <a:pt x="2124" y="3119"/>
                    </a:lnTo>
                    <a:lnTo>
                      <a:pt x="2124" y="3774"/>
                    </a:lnTo>
                    <a:lnTo>
                      <a:pt x="916" y="3766"/>
                    </a:lnTo>
                    <a:lnTo>
                      <a:pt x="0" y="3302"/>
                    </a:lnTo>
                    <a:lnTo>
                      <a:pt x="499" y="2990"/>
                    </a:lnTo>
                    <a:lnTo>
                      <a:pt x="510" y="2782"/>
                    </a:lnTo>
                    <a:lnTo>
                      <a:pt x="589" y="2443"/>
                    </a:lnTo>
                    <a:lnTo>
                      <a:pt x="589" y="2755"/>
                    </a:lnTo>
                    <a:lnTo>
                      <a:pt x="932" y="2375"/>
                    </a:lnTo>
                    <a:lnTo>
                      <a:pt x="995" y="2285"/>
                    </a:lnTo>
                    <a:lnTo>
                      <a:pt x="1024" y="2116"/>
                    </a:lnTo>
                    <a:lnTo>
                      <a:pt x="1063" y="1931"/>
                    </a:lnTo>
                    <a:lnTo>
                      <a:pt x="1301" y="1946"/>
                    </a:lnTo>
                    <a:lnTo>
                      <a:pt x="1377" y="1812"/>
                    </a:lnTo>
                    <a:lnTo>
                      <a:pt x="1206" y="1501"/>
                    </a:lnTo>
                    <a:lnTo>
                      <a:pt x="1377" y="1501"/>
                    </a:lnTo>
                    <a:lnTo>
                      <a:pt x="1377" y="1434"/>
                    </a:lnTo>
                    <a:lnTo>
                      <a:pt x="1232" y="1265"/>
                    </a:lnTo>
                    <a:lnTo>
                      <a:pt x="1246" y="1148"/>
                    </a:lnTo>
                    <a:lnTo>
                      <a:pt x="1457" y="966"/>
                    </a:lnTo>
                    <a:lnTo>
                      <a:pt x="1470" y="717"/>
                    </a:lnTo>
                    <a:lnTo>
                      <a:pt x="1351" y="496"/>
                    </a:lnTo>
                    <a:lnTo>
                      <a:pt x="1324" y="258"/>
                    </a:lnTo>
                    <a:lnTo>
                      <a:pt x="1206" y="0"/>
                    </a:lnTo>
                    <a:lnTo>
                      <a:pt x="1419" y="351"/>
                    </a:lnTo>
                    <a:lnTo>
                      <a:pt x="1483" y="5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8" name=""/>
              <p:cNvSpPr/>
              <p:nvPr/>
            </p:nvSpPr>
            <p:spPr>
              <a:xfrm>
                <a:off x="8207280" y="4533840"/>
                <a:ext cx="60840" cy="92160"/>
              </a:xfrm>
              <a:custGeom>
                <a:avLst/>
                <a:gdLst/>
                <a:ahLst/>
                <a:rect l="l" t="t" r="r" b="b"/>
                <a:pathLst>
                  <a:path w="734" h="874">
                    <a:moveTo>
                      <a:pt x="38" y="65"/>
                    </a:moveTo>
                    <a:lnTo>
                      <a:pt x="156" y="301"/>
                    </a:lnTo>
                    <a:lnTo>
                      <a:pt x="0" y="874"/>
                    </a:lnTo>
                    <a:lnTo>
                      <a:pt x="220" y="222"/>
                    </a:lnTo>
                    <a:lnTo>
                      <a:pt x="220" y="158"/>
                    </a:lnTo>
                    <a:lnTo>
                      <a:pt x="195" y="106"/>
                    </a:lnTo>
                    <a:lnTo>
                      <a:pt x="328" y="158"/>
                    </a:lnTo>
                    <a:lnTo>
                      <a:pt x="420" y="250"/>
                    </a:lnTo>
                    <a:lnTo>
                      <a:pt x="446" y="367"/>
                    </a:lnTo>
                    <a:lnTo>
                      <a:pt x="378" y="547"/>
                    </a:lnTo>
                    <a:lnTo>
                      <a:pt x="486" y="404"/>
                    </a:lnTo>
                    <a:lnTo>
                      <a:pt x="576" y="433"/>
                    </a:lnTo>
                    <a:lnTo>
                      <a:pt x="290" y="874"/>
                    </a:lnTo>
                    <a:lnTo>
                      <a:pt x="734" y="378"/>
                    </a:lnTo>
                    <a:lnTo>
                      <a:pt x="681" y="325"/>
                    </a:lnTo>
                    <a:lnTo>
                      <a:pt x="617" y="367"/>
                    </a:lnTo>
                    <a:lnTo>
                      <a:pt x="499" y="339"/>
                    </a:lnTo>
                    <a:lnTo>
                      <a:pt x="472" y="235"/>
                    </a:lnTo>
                    <a:lnTo>
                      <a:pt x="393" y="158"/>
                    </a:lnTo>
                    <a:lnTo>
                      <a:pt x="248" y="79"/>
                    </a:lnTo>
                    <a:lnTo>
                      <a:pt x="156" y="79"/>
                    </a:lnTo>
                    <a:lnTo>
                      <a:pt x="0" y="0"/>
                    </a:lnTo>
                    <a:lnTo>
                      <a:pt x="38" y="6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9" name=""/>
              <p:cNvSpPr/>
              <p:nvPr/>
            </p:nvSpPr>
            <p:spPr>
              <a:xfrm>
                <a:off x="8278200" y="4577760"/>
                <a:ext cx="52920" cy="52200"/>
              </a:xfrm>
              <a:custGeom>
                <a:avLst/>
                <a:gdLst/>
                <a:ahLst/>
                <a:rect l="l" t="t" r="r" b="b"/>
                <a:pathLst>
                  <a:path w="643" h="496">
                    <a:moveTo>
                      <a:pt x="0" y="0"/>
                    </a:moveTo>
                    <a:lnTo>
                      <a:pt x="198" y="94"/>
                    </a:lnTo>
                    <a:lnTo>
                      <a:pt x="420" y="168"/>
                    </a:lnTo>
                    <a:lnTo>
                      <a:pt x="643" y="496"/>
                    </a:lnTo>
                    <a:lnTo>
                      <a:pt x="500" y="442"/>
                    </a:lnTo>
                    <a:lnTo>
                      <a:pt x="408" y="221"/>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70" name=""/>
              <p:cNvSpPr/>
              <p:nvPr/>
            </p:nvSpPr>
            <p:spPr>
              <a:xfrm>
                <a:off x="8136720" y="4632120"/>
                <a:ext cx="54720" cy="258480"/>
              </a:xfrm>
              <a:custGeom>
                <a:avLst/>
                <a:gdLst/>
                <a:ahLst/>
                <a:rect l="l" t="t" r="r" b="b"/>
                <a:pathLst>
                  <a:path w="667" h="2442">
                    <a:moveTo>
                      <a:pt x="208" y="0"/>
                    </a:moveTo>
                    <a:lnTo>
                      <a:pt x="208" y="88"/>
                    </a:lnTo>
                    <a:lnTo>
                      <a:pt x="618" y="326"/>
                    </a:lnTo>
                    <a:lnTo>
                      <a:pt x="272" y="194"/>
                    </a:lnTo>
                    <a:lnTo>
                      <a:pt x="208" y="440"/>
                    </a:lnTo>
                    <a:lnTo>
                      <a:pt x="272" y="625"/>
                    </a:lnTo>
                    <a:lnTo>
                      <a:pt x="272" y="794"/>
                    </a:lnTo>
                    <a:lnTo>
                      <a:pt x="208" y="1190"/>
                    </a:lnTo>
                    <a:lnTo>
                      <a:pt x="153" y="1543"/>
                    </a:lnTo>
                    <a:lnTo>
                      <a:pt x="185" y="1734"/>
                    </a:lnTo>
                    <a:lnTo>
                      <a:pt x="314" y="1996"/>
                    </a:lnTo>
                    <a:lnTo>
                      <a:pt x="512" y="2218"/>
                    </a:lnTo>
                    <a:lnTo>
                      <a:pt x="667" y="2257"/>
                    </a:lnTo>
                    <a:lnTo>
                      <a:pt x="470" y="2242"/>
                    </a:lnTo>
                    <a:lnTo>
                      <a:pt x="404" y="2273"/>
                    </a:lnTo>
                    <a:lnTo>
                      <a:pt x="404" y="2442"/>
                    </a:lnTo>
                    <a:lnTo>
                      <a:pt x="272" y="2321"/>
                    </a:lnTo>
                    <a:lnTo>
                      <a:pt x="0" y="2400"/>
                    </a:lnTo>
                    <a:lnTo>
                      <a:pt x="245" y="2297"/>
                    </a:lnTo>
                    <a:lnTo>
                      <a:pt x="185" y="2089"/>
                    </a:lnTo>
                    <a:lnTo>
                      <a:pt x="129" y="1801"/>
                    </a:lnTo>
                    <a:lnTo>
                      <a:pt x="116" y="1501"/>
                    </a:lnTo>
                    <a:lnTo>
                      <a:pt x="143" y="1200"/>
                    </a:lnTo>
                    <a:lnTo>
                      <a:pt x="208" y="911"/>
                    </a:lnTo>
                    <a:lnTo>
                      <a:pt x="233" y="756"/>
                    </a:lnTo>
                    <a:lnTo>
                      <a:pt x="233" y="598"/>
                    </a:lnTo>
                    <a:lnTo>
                      <a:pt x="185" y="494"/>
                    </a:lnTo>
                    <a:lnTo>
                      <a:pt x="51" y="440"/>
                    </a:lnTo>
                    <a:lnTo>
                      <a:pt x="185" y="130"/>
                    </a:lnTo>
                    <a:lnTo>
                      <a:pt x="2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1" name=""/>
            <p:cNvSpPr/>
            <p:nvPr/>
          </p:nvSpPr>
          <p:spPr>
            <a:xfrm>
              <a:off x="8056080" y="4628520"/>
              <a:ext cx="90000" cy="258480"/>
            </a:xfrm>
            <a:custGeom>
              <a:avLst/>
              <a:gdLst/>
              <a:ahLst/>
              <a:rect l="l" t="t" r="r" b="b"/>
              <a:pathLst>
                <a:path w="1088" h="2442">
                  <a:moveTo>
                    <a:pt x="1035" y="0"/>
                  </a:moveTo>
                  <a:lnTo>
                    <a:pt x="958" y="116"/>
                  </a:lnTo>
                  <a:lnTo>
                    <a:pt x="943" y="238"/>
                  </a:lnTo>
                  <a:lnTo>
                    <a:pt x="943" y="455"/>
                  </a:lnTo>
                  <a:lnTo>
                    <a:pt x="931" y="784"/>
                  </a:lnTo>
                  <a:lnTo>
                    <a:pt x="866" y="1292"/>
                  </a:lnTo>
                  <a:lnTo>
                    <a:pt x="838" y="1672"/>
                  </a:lnTo>
                  <a:lnTo>
                    <a:pt x="853" y="1894"/>
                  </a:lnTo>
                  <a:lnTo>
                    <a:pt x="890" y="2074"/>
                  </a:lnTo>
                  <a:lnTo>
                    <a:pt x="943" y="2207"/>
                  </a:lnTo>
                  <a:lnTo>
                    <a:pt x="1023" y="2338"/>
                  </a:lnTo>
                  <a:lnTo>
                    <a:pt x="1088" y="2378"/>
                  </a:lnTo>
                  <a:lnTo>
                    <a:pt x="980" y="2442"/>
                  </a:lnTo>
                  <a:lnTo>
                    <a:pt x="866" y="2442"/>
                  </a:lnTo>
                  <a:lnTo>
                    <a:pt x="866" y="2232"/>
                  </a:lnTo>
                  <a:lnTo>
                    <a:pt x="798" y="2052"/>
                  </a:lnTo>
                  <a:lnTo>
                    <a:pt x="576" y="1424"/>
                  </a:lnTo>
                  <a:lnTo>
                    <a:pt x="156" y="1488"/>
                  </a:lnTo>
                  <a:lnTo>
                    <a:pt x="75" y="1474"/>
                  </a:lnTo>
                  <a:lnTo>
                    <a:pt x="391" y="1345"/>
                  </a:lnTo>
                  <a:lnTo>
                    <a:pt x="341" y="1228"/>
                  </a:lnTo>
                  <a:lnTo>
                    <a:pt x="0" y="1228"/>
                  </a:lnTo>
                  <a:lnTo>
                    <a:pt x="260" y="1110"/>
                  </a:lnTo>
                  <a:lnTo>
                    <a:pt x="456" y="1096"/>
                  </a:lnTo>
                  <a:lnTo>
                    <a:pt x="417" y="849"/>
                  </a:lnTo>
                  <a:lnTo>
                    <a:pt x="798" y="1905"/>
                  </a:lnTo>
                  <a:lnTo>
                    <a:pt x="798" y="1608"/>
                  </a:lnTo>
                  <a:lnTo>
                    <a:pt x="838" y="1257"/>
                  </a:lnTo>
                  <a:lnTo>
                    <a:pt x="890" y="863"/>
                  </a:lnTo>
                  <a:lnTo>
                    <a:pt x="919" y="575"/>
                  </a:lnTo>
                  <a:lnTo>
                    <a:pt x="919" y="169"/>
                  </a:lnTo>
                  <a:lnTo>
                    <a:pt x="972" y="53"/>
                  </a:lnTo>
                  <a:lnTo>
                    <a:pt x="10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2" name=""/>
            <p:cNvSpPr/>
            <p:nvPr/>
          </p:nvSpPr>
          <p:spPr>
            <a:xfrm>
              <a:off x="8176680" y="4665960"/>
              <a:ext cx="119880" cy="222840"/>
            </a:xfrm>
            <a:custGeom>
              <a:avLst/>
              <a:gdLst/>
              <a:ahLst/>
              <a:rect l="l" t="t" r="r" b="b"/>
              <a:pathLst>
                <a:path w="1444" h="2100">
                  <a:moveTo>
                    <a:pt x="198" y="1931"/>
                  </a:moveTo>
                  <a:lnTo>
                    <a:pt x="407" y="1995"/>
                  </a:lnTo>
                  <a:lnTo>
                    <a:pt x="589" y="2100"/>
                  </a:lnTo>
                  <a:lnTo>
                    <a:pt x="446" y="1931"/>
                  </a:lnTo>
                  <a:lnTo>
                    <a:pt x="343" y="1841"/>
                  </a:lnTo>
                  <a:lnTo>
                    <a:pt x="248" y="1826"/>
                  </a:lnTo>
                  <a:lnTo>
                    <a:pt x="211" y="1812"/>
                  </a:lnTo>
                  <a:lnTo>
                    <a:pt x="211" y="1632"/>
                  </a:lnTo>
                  <a:lnTo>
                    <a:pt x="264" y="1593"/>
                  </a:lnTo>
                  <a:lnTo>
                    <a:pt x="499" y="1498"/>
                  </a:lnTo>
                  <a:lnTo>
                    <a:pt x="776" y="1318"/>
                  </a:lnTo>
                  <a:lnTo>
                    <a:pt x="1025" y="1070"/>
                  </a:lnTo>
                  <a:lnTo>
                    <a:pt x="1444" y="495"/>
                  </a:lnTo>
                  <a:lnTo>
                    <a:pt x="1444" y="403"/>
                  </a:lnTo>
                  <a:lnTo>
                    <a:pt x="1092" y="834"/>
                  </a:lnTo>
                  <a:lnTo>
                    <a:pt x="710" y="1217"/>
                  </a:lnTo>
                  <a:lnTo>
                    <a:pt x="369" y="1448"/>
                  </a:lnTo>
                  <a:lnTo>
                    <a:pt x="578" y="1081"/>
                  </a:lnTo>
                  <a:lnTo>
                    <a:pt x="684" y="732"/>
                  </a:lnTo>
                  <a:lnTo>
                    <a:pt x="710" y="495"/>
                  </a:lnTo>
                  <a:lnTo>
                    <a:pt x="879" y="140"/>
                  </a:lnTo>
                  <a:lnTo>
                    <a:pt x="1117" y="0"/>
                  </a:lnTo>
                  <a:lnTo>
                    <a:pt x="855" y="127"/>
                  </a:lnTo>
                  <a:lnTo>
                    <a:pt x="644" y="442"/>
                  </a:lnTo>
                  <a:lnTo>
                    <a:pt x="644" y="769"/>
                  </a:lnTo>
                  <a:lnTo>
                    <a:pt x="525" y="1081"/>
                  </a:lnTo>
                  <a:lnTo>
                    <a:pt x="356" y="1371"/>
                  </a:lnTo>
                  <a:lnTo>
                    <a:pt x="184" y="1604"/>
                  </a:lnTo>
                  <a:lnTo>
                    <a:pt x="184" y="1826"/>
                  </a:lnTo>
                  <a:lnTo>
                    <a:pt x="0" y="1905"/>
                  </a:lnTo>
                  <a:lnTo>
                    <a:pt x="198" y="19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3" name=""/>
            <p:cNvSpPr/>
            <p:nvPr/>
          </p:nvSpPr>
          <p:spPr>
            <a:xfrm>
              <a:off x="8173440" y="4897440"/>
              <a:ext cx="67320" cy="81000"/>
            </a:xfrm>
            <a:custGeom>
              <a:avLst/>
              <a:gdLst/>
              <a:ahLst/>
              <a:rect l="l" t="t" r="r" b="b"/>
              <a:pathLst>
                <a:path w="818" h="773">
                  <a:moveTo>
                    <a:pt x="671" y="0"/>
                  </a:moveTo>
                  <a:lnTo>
                    <a:pt x="776" y="184"/>
                  </a:lnTo>
                  <a:lnTo>
                    <a:pt x="818" y="419"/>
                  </a:lnTo>
                  <a:lnTo>
                    <a:pt x="818" y="564"/>
                  </a:lnTo>
                  <a:lnTo>
                    <a:pt x="739" y="758"/>
                  </a:lnTo>
                  <a:lnTo>
                    <a:pt x="606" y="773"/>
                  </a:lnTo>
                  <a:lnTo>
                    <a:pt x="369" y="654"/>
                  </a:lnTo>
                  <a:lnTo>
                    <a:pt x="226" y="498"/>
                  </a:lnTo>
                  <a:lnTo>
                    <a:pt x="0" y="14"/>
                  </a:lnTo>
                  <a:lnTo>
                    <a:pt x="161" y="290"/>
                  </a:lnTo>
                  <a:lnTo>
                    <a:pt x="435" y="512"/>
                  </a:lnTo>
                  <a:lnTo>
                    <a:pt x="739" y="588"/>
                  </a:lnTo>
                  <a:lnTo>
                    <a:pt x="752" y="474"/>
                  </a:lnTo>
                  <a:lnTo>
                    <a:pt x="712" y="327"/>
                  </a:lnTo>
                  <a:lnTo>
                    <a:pt x="620" y="235"/>
                  </a:lnTo>
                  <a:lnTo>
                    <a:pt x="477" y="184"/>
                  </a:lnTo>
                  <a:lnTo>
                    <a:pt x="620" y="147"/>
                  </a:lnTo>
                  <a:lnTo>
                    <a:pt x="671" y="65"/>
                  </a:lnTo>
                  <a:lnTo>
                    <a:pt x="67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4" name=""/>
            <p:cNvSpPr/>
            <p:nvPr/>
          </p:nvSpPr>
          <p:spPr>
            <a:xfrm>
              <a:off x="8034120" y="4916880"/>
              <a:ext cx="174960" cy="64080"/>
            </a:xfrm>
            <a:custGeom>
              <a:avLst/>
              <a:gdLst/>
              <a:ahLst/>
              <a:rect l="l" t="t" r="r" b="b"/>
              <a:pathLst>
                <a:path w="2111" h="613">
                  <a:moveTo>
                    <a:pt x="2111" y="613"/>
                  </a:moveTo>
                  <a:lnTo>
                    <a:pt x="1718" y="602"/>
                  </a:lnTo>
                  <a:lnTo>
                    <a:pt x="1194" y="549"/>
                  </a:lnTo>
                  <a:lnTo>
                    <a:pt x="593" y="380"/>
                  </a:lnTo>
                  <a:lnTo>
                    <a:pt x="103" y="301"/>
                  </a:lnTo>
                  <a:lnTo>
                    <a:pt x="26" y="235"/>
                  </a:lnTo>
                  <a:lnTo>
                    <a:pt x="0" y="90"/>
                  </a:lnTo>
                  <a:lnTo>
                    <a:pt x="353" y="143"/>
                  </a:lnTo>
                  <a:lnTo>
                    <a:pt x="364" y="0"/>
                  </a:lnTo>
                  <a:lnTo>
                    <a:pt x="406" y="143"/>
                  </a:lnTo>
                  <a:lnTo>
                    <a:pt x="643" y="143"/>
                  </a:lnTo>
                  <a:lnTo>
                    <a:pt x="419" y="249"/>
                  </a:lnTo>
                  <a:lnTo>
                    <a:pt x="445" y="328"/>
                  </a:lnTo>
                  <a:lnTo>
                    <a:pt x="929" y="290"/>
                  </a:lnTo>
                  <a:lnTo>
                    <a:pt x="1243" y="301"/>
                  </a:lnTo>
                  <a:lnTo>
                    <a:pt x="1586" y="362"/>
                  </a:lnTo>
                  <a:lnTo>
                    <a:pt x="1773" y="433"/>
                  </a:lnTo>
                  <a:lnTo>
                    <a:pt x="1625" y="249"/>
                  </a:lnTo>
                  <a:lnTo>
                    <a:pt x="1494" y="169"/>
                  </a:lnTo>
                  <a:lnTo>
                    <a:pt x="1221" y="106"/>
                  </a:lnTo>
                  <a:lnTo>
                    <a:pt x="1549" y="106"/>
                  </a:lnTo>
                  <a:lnTo>
                    <a:pt x="1747" y="235"/>
                  </a:lnTo>
                  <a:lnTo>
                    <a:pt x="1821" y="393"/>
                  </a:lnTo>
                  <a:lnTo>
                    <a:pt x="1929" y="496"/>
                  </a:lnTo>
                  <a:lnTo>
                    <a:pt x="2019" y="574"/>
                  </a:lnTo>
                  <a:lnTo>
                    <a:pt x="2111" y="6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75" name=""/>
            <p:cNvSpPr/>
            <p:nvPr/>
          </p:nvSpPr>
          <p:spPr>
            <a:xfrm>
              <a:off x="8034120" y="4794120"/>
              <a:ext cx="75600" cy="77040"/>
            </a:xfrm>
            <a:custGeom>
              <a:avLst/>
              <a:gdLst/>
              <a:ahLst/>
              <a:rect l="l" t="t" r="r" b="b"/>
              <a:pathLst>
                <a:path w="905" h="731">
                  <a:moveTo>
                    <a:pt x="168" y="731"/>
                  </a:moveTo>
                  <a:lnTo>
                    <a:pt x="301" y="612"/>
                  </a:lnTo>
                  <a:lnTo>
                    <a:pt x="301" y="563"/>
                  </a:lnTo>
                  <a:lnTo>
                    <a:pt x="263" y="512"/>
                  </a:lnTo>
                  <a:lnTo>
                    <a:pt x="143" y="457"/>
                  </a:lnTo>
                  <a:lnTo>
                    <a:pt x="26" y="417"/>
                  </a:lnTo>
                  <a:lnTo>
                    <a:pt x="0" y="393"/>
                  </a:lnTo>
                  <a:lnTo>
                    <a:pt x="0" y="340"/>
                  </a:lnTo>
                  <a:lnTo>
                    <a:pt x="26" y="312"/>
                  </a:lnTo>
                  <a:lnTo>
                    <a:pt x="103" y="275"/>
                  </a:lnTo>
                  <a:lnTo>
                    <a:pt x="118" y="312"/>
                  </a:lnTo>
                  <a:lnTo>
                    <a:pt x="158" y="351"/>
                  </a:lnTo>
                  <a:lnTo>
                    <a:pt x="301" y="379"/>
                  </a:lnTo>
                  <a:lnTo>
                    <a:pt x="285" y="287"/>
                  </a:lnTo>
                  <a:lnTo>
                    <a:pt x="221" y="208"/>
                  </a:lnTo>
                  <a:lnTo>
                    <a:pt x="143" y="129"/>
                  </a:lnTo>
                  <a:lnTo>
                    <a:pt x="13" y="54"/>
                  </a:lnTo>
                  <a:lnTo>
                    <a:pt x="90" y="39"/>
                  </a:lnTo>
                  <a:lnTo>
                    <a:pt x="237" y="79"/>
                  </a:lnTo>
                  <a:lnTo>
                    <a:pt x="364" y="158"/>
                  </a:lnTo>
                  <a:lnTo>
                    <a:pt x="472" y="298"/>
                  </a:lnTo>
                  <a:lnTo>
                    <a:pt x="617" y="235"/>
                  </a:lnTo>
                  <a:lnTo>
                    <a:pt x="461" y="158"/>
                  </a:lnTo>
                  <a:lnTo>
                    <a:pt x="433" y="118"/>
                  </a:lnTo>
                  <a:lnTo>
                    <a:pt x="461" y="79"/>
                  </a:lnTo>
                  <a:lnTo>
                    <a:pt x="562" y="39"/>
                  </a:lnTo>
                  <a:lnTo>
                    <a:pt x="747" y="0"/>
                  </a:lnTo>
                  <a:lnTo>
                    <a:pt x="905" y="0"/>
                  </a:lnTo>
                  <a:lnTo>
                    <a:pt x="823" y="158"/>
                  </a:lnTo>
                  <a:lnTo>
                    <a:pt x="643" y="362"/>
                  </a:lnTo>
                  <a:lnTo>
                    <a:pt x="445" y="549"/>
                  </a:lnTo>
                  <a:lnTo>
                    <a:pt x="301" y="667"/>
                  </a:lnTo>
                  <a:lnTo>
                    <a:pt x="168" y="73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376" name=""/>
            <p:cNvSpPr/>
            <p:nvPr/>
          </p:nvSpPr>
          <p:spPr>
            <a:xfrm>
              <a:off x="8073000" y="4628520"/>
              <a:ext cx="12960" cy="82080"/>
            </a:xfrm>
            <a:custGeom>
              <a:avLst/>
              <a:gdLst/>
              <a:ahLst/>
              <a:rect l="l" t="t" r="r" b="b"/>
              <a:pathLst>
                <a:path w="157" h="771">
                  <a:moveTo>
                    <a:pt x="65" y="116"/>
                  </a:moveTo>
                  <a:lnTo>
                    <a:pt x="90" y="378"/>
                  </a:lnTo>
                  <a:lnTo>
                    <a:pt x="132" y="626"/>
                  </a:lnTo>
                  <a:lnTo>
                    <a:pt x="157" y="771"/>
                  </a:lnTo>
                  <a:lnTo>
                    <a:pt x="24" y="354"/>
                  </a:lnTo>
                  <a:lnTo>
                    <a:pt x="0" y="222"/>
                  </a:lnTo>
                  <a:lnTo>
                    <a:pt x="51" y="0"/>
                  </a:lnTo>
                  <a:lnTo>
                    <a:pt x="65" y="11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377" name=""/>
          <p:cNvSpPr/>
          <p:nvPr/>
        </p:nvSpPr>
        <p:spPr>
          <a:xfrm>
            <a:off x="3682800" y="5405400"/>
            <a:ext cx="1854720" cy="54900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envolvimento</a:t>
            </a:r>
            <a:endParaRPr b="0" lang="en-US" sz="1800" spc="-1" strike="noStrike">
              <a:solidFill>
                <a:srgbClr val="000000"/>
              </a:solidFill>
              <a:latin typeface="Arial"/>
            </a:endParaRPr>
          </a:p>
        </p:txBody>
      </p:sp>
      <p:sp>
        <p:nvSpPr>
          <p:cNvPr id="4378" name=""/>
          <p:cNvSpPr/>
          <p:nvPr/>
        </p:nvSpPr>
        <p:spPr>
          <a:xfrm>
            <a:off x="6245280" y="4227480"/>
            <a:ext cx="0" cy="1887480"/>
          </a:xfrm>
          <a:prstGeom prst="line">
            <a:avLst/>
          </a:prstGeom>
          <a:ln w="324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pic>
        <p:nvPicPr>
          <p:cNvPr id="4379" name="" descr=""/>
          <p:cNvPicPr/>
          <p:nvPr/>
        </p:nvPicPr>
        <p:blipFill>
          <a:blip r:embed="rId1"/>
          <a:stretch/>
        </p:blipFill>
        <p:spPr>
          <a:xfrm>
            <a:off x="5931000" y="4854600"/>
            <a:ext cx="658800" cy="723960"/>
          </a:xfrm>
          <a:prstGeom prst="rect">
            <a:avLst/>
          </a:prstGeom>
          <a:ln w="0">
            <a:noFill/>
          </a:ln>
        </p:spPr>
      </p:pic>
      <p:sp>
        <p:nvSpPr>
          <p:cNvPr id="4380" name=""/>
          <p:cNvSpPr/>
          <p:nvPr/>
        </p:nvSpPr>
        <p:spPr>
          <a:xfrm>
            <a:off x="5764680" y="4537080"/>
            <a:ext cx="967680" cy="274680"/>
          </a:xfrm>
          <a:prstGeom prst="rect">
            <a:avLst/>
          </a:prstGeom>
          <a:solidFill>
            <a:srgbClr val="ffffff"/>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ório</a:t>
            </a:r>
            <a:endParaRPr b="0" lang="en-US" sz="1800" spc="-1" strike="noStrike">
              <a:solidFill>
                <a:srgbClr val="000000"/>
              </a:solidFill>
              <a:latin typeface="Arial"/>
            </a:endParaRPr>
          </a:p>
        </p:txBody>
      </p:sp>
      <p:grpSp>
        <p:nvGrpSpPr>
          <p:cNvPr id="4381" name=""/>
          <p:cNvGrpSpPr/>
          <p:nvPr/>
        </p:nvGrpSpPr>
        <p:grpSpPr>
          <a:xfrm>
            <a:off x="7102440" y="5326200"/>
            <a:ext cx="1274760" cy="720360"/>
            <a:chOff x="7102440" y="5326200"/>
            <a:chExt cx="1274760" cy="720360"/>
          </a:xfrm>
        </p:grpSpPr>
        <p:sp>
          <p:nvSpPr>
            <p:cNvPr id="4382" name=""/>
            <p:cNvSpPr/>
            <p:nvPr/>
          </p:nvSpPr>
          <p:spPr>
            <a:xfrm>
              <a:off x="7444080" y="5818320"/>
              <a:ext cx="567000" cy="133200"/>
            </a:xfrm>
            <a:custGeom>
              <a:avLst/>
              <a:gdLst/>
              <a:ahLst/>
              <a:rect l="l" t="t" r="r" b="b"/>
              <a:pathLst>
                <a:path w="7426" h="2003">
                  <a:moveTo>
                    <a:pt x="0" y="0"/>
                  </a:moveTo>
                  <a:lnTo>
                    <a:pt x="7426" y="0"/>
                  </a:lnTo>
                  <a:lnTo>
                    <a:pt x="6050" y="2003"/>
                  </a:lnTo>
                  <a:lnTo>
                    <a:pt x="0" y="2003"/>
                  </a:lnTo>
                  <a:lnTo>
                    <a:pt x="0" y="0"/>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
            <p:cNvSpPr/>
            <p:nvPr/>
          </p:nvSpPr>
          <p:spPr>
            <a:xfrm>
              <a:off x="7668360" y="5825160"/>
              <a:ext cx="345960" cy="41040"/>
            </a:xfrm>
            <a:custGeom>
              <a:avLst/>
              <a:gdLst/>
              <a:ahLst/>
              <a:rect l="l" t="t" r="r" b="b"/>
              <a:pathLst>
                <a:path w="4520" h="620">
                  <a:moveTo>
                    <a:pt x="541" y="620"/>
                  </a:moveTo>
                  <a:lnTo>
                    <a:pt x="0" y="0"/>
                  </a:lnTo>
                  <a:lnTo>
                    <a:pt x="3269" y="0"/>
                  </a:lnTo>
                  <a:lnTo>
                    <a:pt x="4520" y="362"/>
                  </a:lnTo>
                  <a:lnTo>
                    <a:pt x="4520" y="620"/>
                  </a:lnTo>
                  <a:lnTo>
                    <a:pt x="541" y="62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84" name=""/>
            <p:cNvSpPr/>
            <p:nvPr/>
          </p:nvSpPr>
          <p:spPr>
            <a:xfrm>
              <a:off x="7103520" y="5529240"/>
              <a:ext cx="504720" cy="516240"/>
            </a:xfrm>
            <a:custGeom>
              <a:avLst/>
              <a:gdLst/>
              <a:ahLst/>
              <a:rect l="l" t="t" r="r" b="b"/>
              <a:pathLst>
                <a:path w="6609" h="7730">
                  <a:moveTo>
                    <a:pt x="0" y="1307"/>
                  </a:moveTo>
                  <a:lnTo>
                    <a:pt x="0" y="4054"/>
                  </a:lnTo>
                  <a:lnTo>
                    <a:pt x="524" y="4182"/>
                  </a:lnTo>
                  <a:lnTo>
                    <a:pt x="1012" y="4509"/>
                  </a:lnTo>
                  <a:lnTo>
                    <a:pt x="1421" y="4893"/>
                  </a:lnTo>
                  <a:lnTo>
                    <a:pt x="1881" y="5439"/>
                  </a:lnTo>
                  <a:lnTo>
                    <a:pt x="2204" y="6144"/>
                  </a:lnTo>
                  <a:lnTo>
                    <a:pt x="2513" y="7020"/>
                  </a:lnTo>
                  <a:lnTo>
                    <a:pt x="2737" y="7730"/>
                  </a:lnTo>
                  <a:lnTo>
                    <a:pt x="5123" y="7730"/>
                  </a:lnTo>
                  <a:lnTo>
                    <a:pt x="6609" y="6091"/>
                  </a:lnTo>
                  <a:lnTo>
                    <a:pt x="6609" y="5746"/>
                  </a:lnTo>
                  <a:lnTo>
                    <a:pt x="6480" y="5508"/>
                  </a:lnTo>
                  <a:lnTo>
                    <a:pt x="6185" y="5344"/>
                  </a:lnTo>
                  <a:lnTo>
                    <a:pt x="5416" y="5031"/>
                  </a:lnTo>
                  <a:lnTo>
                    <a:pt x="5365" y="4985"/>
                  </a:lnTo>
                  <a:lnTo>
                    <a:pt x="4911" y="4906"/>
                  </a:lnTo>
                  <a:lnTo>
                    <a:pt x="4746" y="4856"/>
                  </a:lnTo>
                  <a:lnTo>
                    <a:pt x="4581" y="3272"/>
                  </a:lnTo>
                  <a:lnTo>
                    <a:pt x="4468" y="2742"/>
                  </a:lnTo>
                  <a:lnTo>
                    <a:pt x="4434" y="2490"/>
                  </a:lnTo>
                  <a:lnTo>
                    <a:pt x="4212" y="2017"/>
                  </a:lnTo>
                  <a:lnTo>
                    <a:pt x="4117" y="1909"/>
                  </a:lnTo>
                  <a:lnTo>
                    <a:pt x="3959" y="1760"/>
                  </a:lnTo>
                  <a:lnTo>
                    <a:pt x="3610" y="1580"/>
                  </a:lnTo>
                  <a:lnTo>
                    <a:pt x="3115" y="1199"/>
                  </a:lnTo>
                  <a:lnTo>
                    <a:pt x="2333" y="417"/>
                  </a:lnTo>
                  <a:lnTo>
                    <a:pt x="1748" y="125"/>
                  </a:lnTo>
                  <a:lnTo>
                    <a:pt x="1222" y="0"/>
                  </a:lnTo>
                  <a:lnTo>
                    <a:pt x="894" y="399"/>
                  </a:lnTo>
                  <a:lnTo>
                    <a:pt x="599" y="582"/>
                  </a:lnTo>
                  <a:lnTo>
                    <a:pt x="146" y="1142"/>
                  </a:lnTo>
                  <a:lnTo>
                    <a:pt x="0" y="1307"/>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5" name=""/>
            <p:cNvSpPr/>
            <p:nvPr/>
          </p:nvSpPr>
          <p:spPr>
            <a:xfrm>
              <a:off x="7720920" y="5561640"/>
              <a:ext cx="649080" cy="482760"/>
            </a:xfrm>
            <a:custGeom>
              <a:avLst/>
              <a:gdLst/>
              <a:ahLst/>
              <a:rect l="l" t="t" r="r" b="b"/>
              <a:pathLst>
                <a:path w="8500" h="7234">
                  <a:moveTo>
                    <a:pt x="1999" y="4964"/>
                  </a:moveTo>
                  <a:lnTo>
                    <a:pt x="2075" y="4850"/>
                  </a:lnTo>
                  <a:lnTo>
                    <a:pt x="2430" y="4721"/>
                  </a:lnTo>
                  <a:lnTo>
                    <a:pt x="2665" y="4593"/>
                  </a:lnTo>
                  <a:lnTo>
                    <a:pt x="2915" y="4406"/>
                  </a:lnTo>
                  <a:lnTo>
                    <a:pt x="3339" y="4350"/>
                  </a:lnTo>
                  <a:lnTo>
                    <a:pt x="3412" y="3980"/>
                  </a:lnTo>
                  <a:lnTo>
                    <a:pt x="3507" y="3739"/>
                  </a:lnTo>
                  <a:lnTo>
                    <a:pt x="3658" y="2910"/>
                  </a:lnTo>
                  <a:lnTo>
                    <a:pt x="3788" y="2312"/>
                  </a:lnTo>
                  <a:lnTo>
                    <a:pt x="3954" y="1906"/>
                  </a:lnTo>
                  <a:lnTo>
                    <a:pt x="4137" y="1651"/>
                  </a:lnTo>
                  <a:lnTo>
                    <a:pt x="4454" y="1540"/>
                  </a:lnTo>
                  <a:lnTo>
                    <a:pt x="4641" y="1356"/>
                  </a:lnTo>
                  <a:lnTo>
                    <a:pt x="4710" y="1277"/>
                  </a:lnTo>
                  <a:lnTo>
                    <a:pt x="4710" y="1116"/>
                  </a:lnTo>
                  <a:lnTo>
                    <a:pt x="4803" y="876"/>
                  </a:lnTo>
                  <a:lnTo>
                    <a:pt x="5123" y="449"/>
                  </a:lnTo>
                  <a:lnTo>
                    <a:pt x="5717" y="76"/>
                  </a:lnTo>
                  <a:lnTo>
                    <a:pt x="6158" y="0"/>
                  </a:lnTo>
                  <a:lnTo>
                    <a:pt x="6737" y="466"/>
                  </a:lnTo>
                  <a:lnTo>
                    <a:pt x="6999" y="648"/>
                  </a:lnTo>
                  <a:lnTo>
                    <a:pt x="7329" y="1042"/>
                  </a:lnTo>
                  <a:lnTo>
                    <a:pt x="7679" y="1589"/>
                  </a:lnTo>
                  <a:lnTo>
                    <a:pt x="8016" y="2312"/>
                  </a:lnTo>
                  <a:lnTo>
                    <a:pt x="8389" y="3147"/>
                  </a:lnTo>
                  <a:lnTo>
                    <a:pt x="8500" y="3499"/>
                  </a:lnTo>
                  <a:lnTo>
                    <a:pt x="7772" y="3776"/>
                  </a:lnTo>
                  <a:lnTo>
                    <a:pt x="7128" y="4350"/>
                  </a:lnTo>
                  <a:lnTo>
                    <a:pt x="6807" y="4795"/>
                  </a:lnTo>
                  <a:lnTo>
                    <a:pt x="6495" y="5330"/>
                  </a:lnTo>
                  <a:lnTo>
                    <a:pt x="6289" y="5980"/>
                  </a:lnTo>
                  <a:lnTo>
                    <a:pt x="6091" y="7234"/>
                  </a:lnTo>
                  <a:lnTo>
                    <a:pt x="0" y="7234"/>
                  </a:lnTo>
                  <a:lnTo>
                    <a:pt x="1355" y="5533"/>
                  </a:lnTo>
                  <a:lnTo>
                    <a:pt x="1999" y="49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
            <p:cNvSpPr/>
            <p:nvPr/>
          </p:nvSpPr>
          <p:spPr>
            <a:xfrm>
              <a:off x="7904880" y="5852520"/>
              <a:ext cx="70560" cy="98640"/>
            </a:xfrm>
            <a:custGeom>
              <a:avLst/>
              <a:gdLst/>
              <a:ahLst/>
              <a:rect l="l" t="t" r="r" b="b"/>
              <a:pathLst>
                <a:path w="927" h="1480">
                  <a:moveTo>
                    <a:pt x="394" y="113"/>
                  </a:moveTo>
                  <a:lnTo>
                    <a:pt x="670" y="386"/>
                  </a:lnTo>
                  <a:lnTo>
                    <a:pt x="670" y="540"/>
                  </a:lnTo>
                  <a:lnTo>
                    <a:pt x="0" y="851"/>
                  </a:lnTo>
                  <a:lnTo>
                    <a:pt x="112" y="1480"/>
                  </a:lnTo>
                  <a:lnTo>
                    <a:pt x="670" y="1245"/>
                  </a:lnTo>
                  <a:lnTo>
                    <a:pt x="778" y="962"/>
                  </a:lnTo>
                  <a:lnTo>
                    <a:pt x="855" y="243"/>
                  </a:lnTo>
                  <a:lnTo>
                    <a:pt x="927" y="0"/>
                  </a:lnTo>
                  <a:lnTo>
                    <a:pt x="479" y="56"/>
                  </a:lnTo>
                  <a:lnTo>
                    <a:pt x="394" y="113"/>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7" name=""/>
            <p:cNvSpPr/>
            <p:nvPr/>
          </p:nvSpPr>
          <p:spPr>
            <a:xfrm>
              <a:off x="7876800" y="5603040"/>
              <a:ext cx="500400" cy="441720"/>
            </a:xfrm>
            <a:custGeom>
              <a:avLst/>
              <a:gdLst/>
              <a:ahLst/>
              <a:rect l="l" t="t" r="r" b="b"/>
              <a:pathLst>
                <a:path w="6551" h="6616">
                  <a:moveTo>
                    <a:pt x="6551" y="2921"/>
                  </a:moveTo>
                  <a:lnTo>
                    <a:pt x="6133" y="3048"/>
                  </a:lnTo>
                  <a:lnTo>
                    <a:pt x="5692" y="3252"/>
                  </a:lnTo>
                  <a:lnTo>
                    <a:pt x="5378" y="3432"/>
                  </a:lnTo>
                  <a:lnTo>
                    <a:pt x="5048" y="3801"/>
                  </a:lnTo>
                  <a:lnTo>
                    <a:pt x="4712" y="4252"/>
                  </a:lnTo>
                  <a:lnTo>
                    <a:pt x="4470" y="4694"/>
                  </a:lnTo>
                  <a:lnTo>
                    <a:pt x="3396" y="6547"/>
                  </a:lnTo>
                  <a:lnTo>
                    <a:pt x="2278" y="6616"/>
                  </a:lnTo>
                  <a:lnTo>
                    <a:pt x="0" y="6616"/>
                  </a:lnTo>
                  <a:lnTo>
                    <a:pt x="108" y="6197"/>
                  </a:lnTo>
                  <a:lnTo>
                    <a:pt x="367" y="6485"/>
                  </a:lnTo>
                  <a:lnTo>
                    <a:pt x="606" y="6524"/>
                  </a:lnTo>
                  <a:lnTo>
                    <a:pt x="457" y="6322"/>
                  </a:lnTo>
                  <a:lnTo>
                    <a:pt x="457" y="5971"/>
                  </a:lnTo>
                  <a:lnTo>
                    <a:pt x="870" y="5599"/>
                  </a:lnTo>
                  <a:lnTo>
                    <a:pt x="1145" y="6227"/>
                  </a:lnTo>
                  <a:lnTo>
                    <a:pt x="1332" y="6524"/>
                  </a:lnTo>
                  <a:lnTo>
                    <a:pt x="1909" y="6098"/>
                  </a:lnTo>
                  <a:lnTo>
                    <a:pt x="2466" y="5252"/>
                  </a:lnTo>
                  <a:lnTo>
                    <a:pt x="1481" y="5671"/>
                  </a:lnTo>
                  <a:lnTo>
                    <a:pt x="2134" y="4837"/>
                  </a:lnTo>
                  <a:lnTo>
                    <a:pt x="1462" y="4936"/>
                  </a:lnTo>
                  <a:lnTo>
                    <a:pt x="1446" y="4751"/>
                  </a:lnTo>
                  <a:lnTo>
                    <a:pt x="2206" y="4103"/>
                  </a:lnTo>
                  <a:lnTo>
                    <a:pt x="2241" y="4435"/>
                  </a:lnTo>
                  <a:lnTo>
                    <a:pt x="2448" y="4498"/>
                  </a:lnTo>
                  <a:lnTo>
                    <a:pt x="3188" y="3956"/>
                  </a:lnTo>
                  <a:lnTo>
                    <a:pt x="3465" y="3342"/>
                  </a:lnTo>
                  <a:lnTo>
                    <a:pt x="3558" y="2377"/>
                  </a:lnTo>
                  <a:lnTo>
                    <a:pt x="3211" y="1477"/>
                  </a:lnTo>
                  <a:lnTo>
                    <a:pt x="4212" y="2342"/>
                  </a:lnTo>
                  <a:lnTo>
                    <a:pt x="5378" y="2694"/>
                  </a:lnTo>
                  <a:lnTo>
                    <a:pt x="5766" y="2960"/>
                  </a:lnTo>
                  <a:lnTo>
                    <a:pt x="6254" y="2881"/>
                  </a:lnTo>
                  <a:lnTo>
                    <a:pt x="6087" y="2248"/>
                  </a:lnTo>
                  <a:lnTo>
                    <a:pt x="5582" y="971"/>
                  </a:lnTo>
                  <a:lnTo>
                    <a:pt x="5140" y="258"/>
                  </a:lnTo>
                  <a:lnTo>
                    <a:pt x="4894" y="0"/>
                  </a:lnTo>
                  <a:lnTo>
                    <a:pt x="5250" y="327"/>
                  </a:lnTo>
                  <a:lnTo>
                    <a:pt x="5634" y="940"/>
                  </a:lnTo>
                  <a:lnTo>
                    <a:pt x="6030" y="1810"/>
                  </a:lnTo>
                  <a:lnTo>
                    <a:pt x="6344" y="2513"/>
                  </a:lnTo>
                  <a:lnTo>
                    <a:pt x="6551" y="2921"/>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8" name=""/>
            <p:cNvSpPr/>
            <p:nvPr/>
          </p:nvSpPr>
          <p:spPr>
            <a:xfrm>
              <a:off x="8140680" y="5563440"/>
              <a:ext cx="60120" cy="57600"/>
            </a:xfrm>
            <a:custGeom>
              <a:avLst/>
              <a:gdLst/>
              <a:ahLst/>
              <a:rect l="l" t="t" r="r" b="b"/>
              <a:pathLst>
                <a:path w="791" h="867">
                  <a:moveTo>
                    <a:pt x="197" y="120"/>
                  </a:moveTo>
                  <a:lnTo>
                    <a:pt x="307" y="199"/>
                  </a:lnTo>
                  <a:lnTo>
                    <a:pt x="386" y="512"/>
                  </a:lnTo>
                  <a:lnTo>
                    <a:pt x="346" y="625"/>
                  </a:lnTo>
                  <a:lnTo>
                    <a:pt x="0" y="867"/>
                  </a:lnTo>
                  <a:lnTo>
                    <a:pt x="791" y="535"/>
                  </a:lnTo>
                  <a:lnTo>
                    <a:pt x="791" y="298"/>
                  </a:lnTo>
                  <a:lnTo>
                    <a:pt x="573" y="0"/>
                  </a:lnTo>
                  <a:lnTo>
                    <a:pt x="346" y="39"/>
                  </a:lnTo>
                  <a:lnTo>
                    <a:pt x="197" y="120"/>
                  </a:lnTo>
                  <a:close/>
                </a:path>
              </a:pathLst>
            </a:custGeom>
            <a:solidFill>
              <a:srgbClr val="70230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389" name=""/>
            <p:cNvSpPr/>
            <p:nvPr/>
          </p:nvSpPr>
          <p:spPr>
            <a:xfrm>
              <a:off x="7467120" y="5486040"/>
              <a:ext cx="531720" cy="353160"/>
            </a:xfrm>
            <a:custGeom>
              <a:avLst/>
              <a:gdLst/>
              <a:ahLst/>
              <a:rect l="l" t="t" r="r" b="b"/>
              <a:pathLst>
                <a:path w="6960" h="5288">
                  <a:moveTo>
                    <a:pt x="2583" y="0"/>
                  </a:moveTo>
                  <a:lnTo>
                    <a:pt x="2425" y="32"/>
                  </a:lnTo>
                  <a:lnTo>
                    <a:pt x="2146" y="173"/>
                  </a:lnTo>
                  <a:lnTo>
                    <a:pt x="1372" y="233"/>
                  </a:lnTo>
                  <a:lnTo>
                    <a:pt x="592" y="498"/>
                  </a:lnTo>
                  <a:lnTo>
                    <a:pt x="229" y="706"/>
                  </a:lnTo>
                  <a:lnTo>
                    <a:pt x="141" y="876"/>
                  </a:lnTo>
                  <a:lnTo>
                    <a:pt x="93" y="1047"/>
                  </a:lnTo>
                  <a:lnTo>
                    <a:pt x="141" y="1374"/>
                  </a:lnTo>
                  <a:lnTo>
                    <a:pt x="229" y="1625"/>
                  </a:lnTo>
                  <a:lnTo>
                    <a:pt x="141" y="2183"/>
                  </a:lnTo>
                  <a:lnTo>
                    <a:pt x="102" y="2308"/>
                  </a:lnTo>
                  <a:lnTo>
                    <a:pt x="32" y="2356"/>
                  </a:lnTo>
                  <a:lnTo>
                    <a:pt x="0" y="2444"/>
                  </a:lnTo>
                  <a:lnTo>
                    <a:pt x="12" y="2620"/>
                  </a:lnTo>
                  <a:lnTo>
                    <a:pt x="155" y="3086"/>
                  </a:lnTo>
                  <a:lnTo>
                    <a:pt x="155" y="3277"/>
                  </a:lnTo>
                  <a:lnTo>
                    <a:pt x="141" y="3525"/>
                  </a:lnTo>
                  <a:lnTo>
                    <a:pt x="126" y="3655"/>
                  </a:lnTo>
                  <a:lnTo>
                    <a:pt x="32" y="3928"/>
                  </a:lnTo>
                  <a:lnTo>
                    <a:pt x="44" y="4198"/>
                  </a:lnTo>
                  <a:lnTo>
                    <a:pt x="556" y="4862"/>
                  </a:lnTo>
                  <a:lnTo>
                    <a:pt x="888" y="4980"/>
                  </a:lnTo>
                  <a:lnTo>
                    <a:pt x="1003" y="5053"/>
                  </a:lnTo>
                  <a:lnTo>
                    <a:pt x="1361" y="5022"/>
                  </a:lnTo>
                  <a:lnTo>
                    <a:pt x="1671" y="5148"/>
                  </a:lnTo>
                  <a:lnTo>
                    <a:pt x="2062" y="5288"/>
                  </a:lnTo>
                  <a:lnTo>
                    <a:pt x="2704" y="4862"/>
                  </a:lnTo>
                  <a:lnTo>
                    <a:pt x="6835" y="4837"/>
                  </a:lnTo>
                  <a:lnTo>
                    <a:pt x="6960" y="4152"/>
                  </a:lnTo>
                  <a:lnTo>
                    <a:pt x="6621" y="4119"/>
                  </a:lnTo>
                  <a:lnTo>
                    <a:pt x="6446" y="3917"/>
                  </a:lnTo>
                  <a:lnTo>
                    <a:pt x="6333" y="3853"/>
                  </a:lnTo>
                  <a:lnTo>
                    <a:pt x="6151" y="3536"/>
                  </a:lnTo>
                  <a:lnTo>
                    <a:pt x="6022" y="3011"/>
                  </a:lnTo>
                  <a:lnTo>
                    <a:pt x="5955" y="2780"/>
                  </a:lnTo>
                  <a:lnTo>
                    <a:pt x="5912" y="2483"/>
                  </a:lnTo>
                  <a:lnTo>
                    <a:pt x="5773" y="2420"/>
                  </a:lnTo>
                  <a:lnTo>
                    <a:pt x="5745" y="2229"/>
                  </a:lnTo>
                  <a:lnTo>
                    <a:pt x="5773" y="1812"/>
                  </a:lnTo>
                  <a:lnTo>
                    <a:pt x="5745" y="1515"/>
                  </a:lnTo>
                  <a:lnTo>
                    <a:pt x="5710" y="1314"/>
                  </a:lnTo>
                  <a:lnTo>
                    <a:pt x="5660" y="1097"/>
                  </a:lnTo>
                  <a:lnTo>
                    <a:pt x="5584" y="998"/>
                  </a:lnTo>
                  <a:lnTo>
                    <a:pt x="5521" y="966"/>
                  </a:lnTo>
                  <a:lnTo>
                    <a:pt x="5424" y="936"/>
                  </a:lnTo>
                  <a:lnTo>
                    <a:pt x="4848" y="717"/>
                  </a:lnTo>
                  <a:lnTo>
                    <a:pt x="4240" y="438"/>
                  </a:lnTo>
                  <a:lnTo>
                    <a:pt x="3850" y="267"/>
                  </a:lnTo>
                  <a:lnTo>
                    <a:pt x="2583"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0" name=""/>
            <p:cNvSpPr/>
            <p:nvPr/>
          </p:nvSpPr>
          <p:spPr>
            <a:xfrm>
              <a:off x="7619400" y="5775840"/>
              <a:ext cx="69120" cy="61920"/>
            </a:xfrm>
            <a:custGeom>
              <a:avLst/>
              <a:gdLst/>
              <a:ahLst/>
              <a:rect l="l" t="t" r="r" b="b"/>
              <a:pathLst>
                <a:path w="904" h="929">
                  <a:moveTo>
                    <a:pt x="626" y="0"/>
                  </a:moveTo>
                  <a:lnTo>
                    <a:pt x="904" y="74"/>
                  </a:lnTo>
                  <a:lnTo>
                    <a:pt x="720" y="221"/>
                  </a:lnTo>
                  <a:lnTo>
                    <a:pt x="477" y="584"/>
                  </a:lnTo>
                  <a:lnTo>
                    <a:pt x="293" y="929"/>
                  </a:lnTo>
                  <a:lnTo>
                    <a:pt x="0" y="843"/>
                  </a:lnTo>
                  <a:lnTo>
                    <a:pt x="26" y="558"/>
                  </a:lnTo>
                  <a:lnTo>
                    <a:pt x="132" y="378"/>
                  </a:lnTo>
                  <a:lnTo>
                    <a:pt x="277" y="228"/>
                  </a:lnTo>
                  <a:lnTo>
                    <a:pt x="487" y="74"/>
                  </a:lnTo>
                  <a:lnTo>
                    <a:pt x="626"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91" name=""/>
            <p:cNvSpPr/>
            <p:nvPr/>
          </p:nvSpPr>
          <p:spPr>
            <a:xfrm>
              <a:off x="7618680" y="5787360"/>
              <a:ext cx="39600" cy="50760"/>
            </a:xfrm>
            <a:custGeom>
              <a:avLst/>
              <a:gdLst/>
              <a:ahLst/>
              <a:rect l="l" t="t" r="r" b="b"/>
              <a:pathLst>
                <a:path w="521" h="763">
                  <a:moveTo>
                    <a:pt x="402" y="0"/>
                  </a:moveTo>
                  <a:lnTo>
                    <a:pt x="249" y="172"/>
                  </a:lnTo>
                  <a:lnTo>
                    <a:pt x="152" y="366"/>
                  </a:lnTo>
                  <a:lnTo>
                    <a:pt x="327" y="378"/>
                  </a:lnTo>
                  <a:lnTo>
                    <a:pt x="521" y="212"/>
                  </a:lnTo>
                  <a:lnTo>
                    <a:pt x="378" y="535"/>
                  </a:lnTo>
                  <a:lnTo>
                    <a:pt x="327" y="763"/>
                  </a:lnTo>
                  <a:lnTo>
                    <a:pt x="0" y="763"/>
                  </a:lnTo>
                  <a:lnTo>
                    <a:pt x="11" y="574"/>
                  </a:lnTo>
                  <a:lnTo>
                    <a:pt x="77" y="322"/>
                  </a:lnTo>
                  <a:lnTo>
                    <a:pt x="207" y="172"/>
                  </a:lnTo>
                  <a:lnTo>
                    <a:pt x="402" y="0"/>
                  </a:lnTo>
                  <a:close/>
                </a:path>
              </a:pathLst>
            </a:custGeom>
            <a:solidFill>
              <a:srgbClr val="b5b5b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92" name=""/>
            <p:cNvSpPr/>
            <p:nvPr/>
          </p:nvSpPr>
          <p:spPr>
            <a:xfrm>
              <a:off x="7652880" y="5488560"/>
              <a:ext cx="114840" cy="259560"/>
            </a:xfrm>
            <a:custGeom>
              <a:avLst/>
              <a:gdLst/>
              <a:ahLst/>
              <a:rect l="l" t="t" r="r" b="b"/>
              <a:pathLst>
                <a:path w="1500" h="3892">
                  <a:moveTo>
                    <a:pt x="143" y="0"/>
                  </a:moveTo>
                  <a:lnTo>
                    <a:pt x="1500" y="561"/>
                  </a:lnTo>
                  <a:lnTo>
                    <a:pt x="1500" y="1046"/>
                  </a:lnTo>
                  <a:lnTo>
                    <a:pt x="1426" y="1553"/>
                  </a:lnTo>
                  <a:lnTo>
                    <a:pt x="1336" y="2078"/>
                  </a:lnTo>
                  <a:lnTo>
                    <a:pt x="1193" y="2760"/>
                  </a:lnTo>
                  <a:lnTo>
                    <a:pt x="1053" y="3259"/>
                  </a:lnTo>
                  <a:lnTo>
                    <a:pt x="815" y="3892"/>
                  </a:lnTo>
                  <a:lnTo>
                    <a:pt x="774" y="3293"/>
                  </a:lnTo>
                  <a:lnTo>
                    <a:pt x="642" y="2523"/>
                  </a:lnTo>
                  <a:lnTo>
                    <a:pt x="560" y="2041"/>
                  </a:lnTo>
                  <a:lnTo>
                    <a:pt x="488" y="1659"/>
                  </a:lnTo>
                  <a:lnTo>
                    <a:pt x="338" y="1336"/>
                  </a:lnTo>
                  <a:lnTo>
                    <a:pt x="172" y="995"/>
                  </a:lnTo>
                  <a:lnTo>
                    <a:pt x="43" y="705"/>
                  </a:lnTo>
                  <a:lnTo>
                    <a:pt x="0" y="497"/>
                  </a:lnTo>
                  <a:lnTo>
                    <a:pt x="0" y="301"/>
                  </a:lnTo>
                  <a:lnTo>
                    <a:pt x="66" y="121"/>
                  </a:lnTo>
                  <a:lnTo>
                    <a:pt x="1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3" name=""/>
            <p:cNvSpPr/>
            <p:nvPr/>
          </p:nvSpPr>
          <p:spPr>
            <a:xfrm>
              <a:off x="7693200" y="5557320"/>
              <a:ext cx="37080" cy="192240"/>
            </a:xfrm>
            <a:custGeom>
              <a:avLst/>
              <a:gdLst/>
              <a:ahLst/>
              <a:rect l="l" t="t" r="r" b="b"/>
              <a:pathLst>
                <a:path w="486" h="2874">
                  <a:moveTo>
                    <a:pt x="194" y="0"/>
                  </a:moveTo>
                  <a:lnTo>
                    <a:pt x="51" y="126"/>
                  </a:lnTo>
                  <a:lnTo>
                    <a:pt x="139" y="455"/>
                  </a:lnTo>
                  <a:lnTo>
                    <a:pt x="0" y="806"/>
                  </a:lnTo>
                  <a:lnTo>
                    <a:pt x="81" y="1235"/>
                  </a:lnTo>
                  <a:lnTo>
                    <a:pt x="178" y="1853"/>
                  </a:lnTo>
                  <a:lnTo>
                    <a:pt x="265" y="2463"/>
                  </a:lnTo>
                  <a:lnTo>
                    <a:pt x="328" y="2874"/>
                  </a:lnTo>
                  <a:lnTo>
                    <a:pt x="486" y="2371"/>
                  </a:lnTo>
                  <a:lnTo>
                    <a:pt x="459" y="1973"/>
                  </a:lnTo>
                  <a:lnTo>
                    <a:pt x="440" y="1265"/>
                  </a:lnTo>
                  <a:lnTo>
                    <a:pt x="436" y="857"/>
                  </a:lnTo>
                  <a:lnTo>
                    <a:pt x="401" y="622"/>
                  </a:lnTo>
                  <a:lnTo>
                    <a:pt x="365" y="477"/>
                  </a:lnTo>
                  <a:lnTo>
                    <a:pt x="440" y="248"/>
                  </a:lnTo>
                  <a:lnTo>
                    <a:pt x="355" y="24"/>
                  </a:lnTo>
                  <a:lnTo>
                    <a:pt x="19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4" name=""/>
            <p:cNvSpPr/>
            <p:nvPr/>
          </p:nvSpPr>
          <p:spPr>
            <a:xfrm>
              <a:off x="7693200" y="5558760"/>
              <a:ext cx="35280" cy="157320"/>
            </a:xfrm>
            <a:custGeom>
              <a:avLst/>
              <a:gdLst/>
              <a:ahLst/>
              <a:rect l="l" t="t" r="r" b="b"/>
              <a:pathLst>
                <a:path w="459" h="2362">
                  <a:moveTo>
                    <a:pt x="365" y="94"/>
                  </a:moveTo>
                  <a:lnTo>
                    <a:pt x="288" y="79"/>
                  </a:lnTo>
                  <a:lnTo>
                    <a:pt x="207" y="169"/>
                  </a:lnTo>
                  <a:lnTo>
                    <a:pt x="247" y="433"/>
                  </a:lnTo>
                  <a:lnTo>
                    <a:pt x="288" y="433"/>
                  </a:lnTo>
                  <a:lnTo>
                    <a:pt x="385" y="272"/>
                  </a:lnTo>
                  <a:lnTo>
                    <a:pt x="355" y="523"/>
                  </a:lnTo>
                  <a:lnTo>
                    <a:pt x="440" y="875"/>
                  </a:lnTo>
                  <a:lnTo>
                    <a:pt x="436" y="1701"/>
                  </a:lnTo>
                  <a:lnTo>
                    <a:pt x="459" y="2362"/>
                  </a:lnTo>
                  <a:lnTo>
                    <a:pt x="401" y="2000"/>
                  </a:lnTo>
                  <a:lnTo>
                    <a:pt x="365" y="1542"/>
                  </a:lnTo>
                  <a:lnTo>
                    <a:pt x="355" y="1097"/>
                  </a:lnTo>
                  <a:lnTo>
                    <a:pt x="339" y="848"/>
                  </a:lnTo>
                  <a:lnTo>
                    <a:pt x="265" y="613"/>
                  </a:lnTo>
                  <a:lnTo>
                    <a:pt x="247" y="940"/>
                  </a:lnTo>
                  <a:lnTo>
                    <a:pt x="178" y="1009"/>
                  </a:lnTo>
                  <a:lnTo>
                    <a:pt x="139" y="940"/>
                  </a:lnTo>
                  <a:lnTo>
                    <a:pt x="207" y="606"/>
                  </a:lnTo>
                  <a:lnTo>
                    <a:pt x="104" y="769"/>
                  </a:lnTo>
                  <a:lnTo>
                    <a:pt x="51" y="1085"/>
                  </a:lnTo>
                  <a:lnTo>
                    <a:pt x="0" y="797"/>
                  </a:lnTo>
                  <a:lnTo>
                    <a:pt x="139" y="446"/>
                  </a:lnTo>
                  <a:lnTo>
                    <a:pt x="69" y="117"/>
                  </a:lnTo>
                  <a:lnTo>
                    <a:pt x="171" y="0"/>
                  </a:lnTo>
                  <a:lnTo>
                    <a:pt x="339" y="15"/>
                  </a:lnTo>
                  <a:lnTo>
                    <a:pt x="365" y="94"/>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5" name=""/>
            <p:cNvSpPr/>
            <p:nvPr/>
          </p:nvSpPr>
          <p:spPr>
            <a:xfrm>
              <a:off x="7721280" y="5528520"/>
              <a:ext cx="46800" cy="182520"/>
            </a:xfrm>
            <a:custGeom>
              <a:avLst/>
              <a:gdLst/>
              <a:ahLst/>
              <a:rect l="l" t="t" r="r" b="b"/>
              <a:pathLst>
                <a:path w="620" h="2734">
                  <a:moveTo>
                    <a:pt x="94" y="1255"/>
                  </a:moveTo>
                  <a:lnTo>
                    <a:pt x="266" y="953"/>
                  </a:lnTo>
                  <a:lnTo>
                    <a:pt x="394" y="758"/>
                  </a:lnTo>
                  <a:lnTo>
                    <a:pt x="354" y="1204"/>
                  </a:lnTo>
                  <a:lnTo>
                    <a:pt x="266" y="1709"/>
                  </a:lnTo>
                  <a:lnTo>
                    <a:pt x="106" y="2410"/>
                  </a:lnTo>
                  <a:lnTo>
                    <a:pt x="130" y="2734"/>
                  </a:lnTo>
                  <a:lnTo>
                    <a:pt x="369" y="1831"/>
                  </a:lnTo>
                  <a:lnTo>
                    <a:pt x="525" y="1125"/>
                  </a:lnTo>
                  <a:lnTo>
                    <a:pt x="589" y="703"/>
                  </a:lnTo>
                  <a:lnTo>
                    <a:pt x="620" y="224"/>
                  </a:lnTo>
                  <a:lnTo>
                    <a:pt x="608" y="0"/>
                  </a:lnTo>
                  <a:lnTo>
                    <a:pt x="477" y="105"/>
                  </a:lnTo>
                  <a:lnTo>
                    <a:pt x="477" y="277"/>
                  </a:lnTo>
                  <a:lnTo>
                    <a:pt x="428" y="540"/>
                  </a:lnTo>
                  <a:lnTo>
                    <a:pt x="233" y="899"/>
                  </a:lnTo>
                  <a:lnTo>
                    <a:pt x="75" y="639"/>
                  </a:lnTo>
                  <a:lnTo>
                    <a:pt x="0" y="945"/>
                  </a:lnTo>
                  <a:lnTo>
                    <a:pt x="71" y="1140"/>
                  </a:lnTo>
                  <a:lnTo>
                    <a:pt x="94" y="1255"/>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6" name=""/>
            <p:cNvSpPr/>
            <p:nvPr/>
          </p:nvSpPr>
          <p:spPr>
            <a:xfrm>
              <a:off x="7683480" y="5565960"/>
              <a:ext cx="20520" cy="42120"/>
            </a:xfrm>
            <a:custGeom>
              <a:avLst/>
              <a:gdLst/>
              <a:ahLst/>
              <a:rect l="l" t="t" r="r" b="b"/>
              <a:pathLst>
                <a:path w="268" h="627">
                  <a:moveTo>
                    <a:pt x="108" y="627"/>
                  </a:moveTo>
                  <a:lnTo>
                    <a:pt x="0" y="249"/>
                  </a:lnTo>
                  <a:lnTo>
                    <a:pt x="159" y="0"/>
                  </a:lnTo>
                  <a:lnTo>
                    <a:pt x="268" y="329"/>
                  </a:lnTo>
                  <a:lnTo>
                    <a:pt x="198" y="512"/>
                  </a:lnTo>
                  <a:lnTo>
                    <a:pt x="108" y="627"/>
                  </a:lnTo>
                  <a:close/>
                </a:path>
              </a:pathLst>
            </a:custGeom>
            <a:solidFill>
              <a:srgbClr val="b5b5b5"/>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397" name=""/>
            <p:cNvSpPr/>
            <p:nvPr/>
          </p:nvSpPr>
          <p:spPr>
            <a:xfrm>
              <a:off x="7652880" y="5488560"/>
              <a:ext cx="16200" cy="59760"/>
            </a:xfrm>
            <a:custGeom>
              <a:avLst/>
              <a:gdLst/>
              <a:ahLst/>
              <a:rect l="l" t="t" r="r" b="b"/>
              <a:pathLst>
                <a:path w="211" h="900">
                  <a:moveTo>
                    <a:pt x="211" y="549"/>
                  </a:moveTo>
                  <a:lnTo>
                    <a:pt x="161" y="681"/>
                  </a:lnTo>
                  <a:lnTo>
                    <a:pt x="132" y="780"/>
                  </a:lnTo>
                  <a:lnTo>
                    <a:pt x="119" y="900"/>
                  </a:lnTo>
                  <a:lnTo>
                    <a:pt x="50" y="705"/>
                  </a:lnTo>
                  <a:lnTo>
                    <a:pt x="0" y="561"/>
                  </a:lnTo>
                  <a:lnTo>
                    <a:pt x="0" y="354"/>
                  </a:lnTo>
                  <a:lnTo>
                    <a:pt x="43" y="209"/>
                  </a:lnTo>
                  <a:lnTo>
                    <a:pt x="96" y="66"/>
                  </a:lnTo>
                  <a:lnTo>
                    <a:pt x="143" y="0"/>
                  </a:lnTo>
                  <a:lnTo>
                    <a:pt x="182" y="323"/>
                  </a:lnTo>
                  <a:lnTo>
                    <a:pt x="211" y="549"/>
                  </a:lnTo>
                  <a:close/>
                </a:path>
              </a:pathLst>
            </a:custGeom>
            <a:solidFill>
              <a:srgbClr val="b5b5b5"/>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98" name=""/>
            <p:cNvSpPr/>
            <p:nvPr/>
          </p:nvSpPr>
          <p:spPr>
            <a:xfrm>
              <a:off x="7647480" y="5894280"/>
              <a:ext cx="259560" cy="128160"/>
            </a:xfrm>
            <a:custGeom>
              <a:avLst/>
              <a:gdLst/>
              <a:ahLst/>
              <a:rect l="l" t="t" r="r" b="b"/>
              <a:pathLst>
                <a:path w="3405" h="1922">
                  <a:moveTo>
                    <a:pt x="2938" y="0"/>
                  </a:moveTo>
                  <a:lnTo>
                    <a:pt x="2852" y="59"/>
                  </a:lnTo>
                  <a:lnTo>
                    <a:pt x="2017" y="375"/>
                  </a:lnTo>
                  <a:lnTo>
                    <a:pt x="1040" y="587"/>
                  </a:lnTo>
                  <a:lnTo>
                    <a:pt x="581" y="949"/>
                  </a:lnTo>
                  <a:lnTo>
                    <a:pt x="565" y="1028"/>
                  </a:lnTo>
                  <a:lnTo>
                    <a:pt x="191" y="1074"/>
                  </a:lnTo>
                  <a:lnTo>
                    <a:pt x="0" y="1173"/>
                  </a:lnTo>
                  <a:lnTo>
                    <a:pt x="0" y="1274"/>
                  </a:lnTo>
                  <a:lnTo>
                    <a:pt x="1980" y="1922"/>
                  </a:lnTo>
                  <a:lnTo>
                    <a:pt x="2246" y="1371"/>
                  </a:lnTo>
                  <a:lnTo>
                    <a:pt x="3405" y="501"/>
                  </a:lnTo>
                  <a:lnTo>
                    <a:pt x="3331" y="241"/>
                  </a:lnTo>
                  <a:lnTo>
                    <a:pt x="3094" y="0"/>
                  </a:lnTo>
                  <a:lnTo>
                    <a:pt x="2938"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9" name=""/>
            <p:cNvSpPr/>
            <p:nvPr/>
          </p:nvSpPr>
          <p:spPr>
            <a:xfrm>
              <a:off x="7693200" y="5963760"/>
              <a:ext cx="23040" cy="11160"/>
            </a:xfrm>
            <a:custGeom>
              <a:avLst/>
              <a:gdLst/>
              <a:ahLst/>
              <a:rect l="l" t="t" r="r" b="b"/>
              <a:pathLst>
                <a:path w="308" h="163">
                  <a:moveTo>
                    <a:pt x="34" y="51"/>
                  </a:moveTo>
                  <a:lnTo>
                    <a:pt x="0" y="81"/>
                  </a:lnTo>
                  <a:lnTo>
                    <a:pt x="4" y="123"/>
                  </a:lnTo>
                  <a:lnTo>
                    <a:pt x="31" y="143"/>
                  </a:lnTo>
                  <a:lnTo>
                    <a:pt x="244" y="163"/>
                  </a:lnTo>
                  <a:lnTo>
                    <a:pt x="297" y="132"/>
                  </a:lnTo>
                  <a:lnTo>
                    <a:pt x="308" y="77"/>
                  </a:lnTo>
                  <a:lnTo>
                    <a:pt x="279" y="18"/>
                  </a:lnTo>
                  <a:lnTo>
                    <a:pt x="226" y="0"/>
                  </a:lnTo>
                  <a:lnTo>
                    <a:pt x="34" y="51"/>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0" name=""/>
            <p:cNvSpPr/>
            <p:nvPr/>
          </p:nvSpPr>
          <p:spPr>
            <a:xfrm>
              <a:off x="7648200" y="5970600"/>
              <a:ext cx="24120" cy="9360"/>
            </a:xfrm>
            <a:custGeom>
              <a:avLst/>
              <a:gdLst/>
              <a:ahLst/>
              <a:rect l="l" t="t" r="r" b="b"/>
              <a:pathLst>
                <a:path w="319" h="145">
                  <a:moveTo>
                    <a:pt x="0" y="111"/>
                  </a:moveTo>
                  <a:lnTo>
                    <a:pt x="13" y="40"/>
                  </a:lnTo>
                  <a:lnTo>
                    <a:pt x="109" y="0"/>
                  </a:lnTo>
                  <a:lnTo>
                    <a:pt x="209" y="0"/>
                  </a:lnTo>
                  <a:lnTo>
                    <a:pt x="294" y="33"/>
                  </a:lnTo>
                  <a:lnTo>
                    <a:pt x="319" y="99"/>
                  </a:lnTo>
                  <a:lnTo>
                    <a:pt x="308" y="134"/>
                  </a:lnTo>
                  <a:lnTo>
                    <a:pt x="282" y="145"/>
                  </a:lnTo>
                  <a:lnTo>
                    <a:pt x="0" y="111"/>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01" name=""/>
            <p:cNvSpPr/>
            <p:nvPr/>
          </p:nvSpPr>
          <p:spPr>
            <a:xfrm>
              <a:off x="7552080" y="5828040"/>
              <a:ext cx="135000" cy="79560"/>
            </a:xfrm>
            <a:custGeom>
              <a:avLst/>
              <a:gdLst/>
              <a:ahLst/>
              <a:rect l="l" t="t" r="r" b="b"/>
              <a:pathLst>
                <a:path w="1763" h="1187">
                  <a:moveTo>
                    <a:pt x="0" y="653"/>
                  </a:moveTo>
                  <a:lnTo>
                    <a:pt x="115" y="226"/>
                  </a:lnTo>
                  <a:lnTo>
                    <a:pt x="569" y="0"/>
                  </a:lnTo>
                  <a:lnTo>
                    <a:pt x="827" y="131"/>
                  </a:lnTo>
                  <a:lnTo>
                    <a:pt x="1193" y="157"/>
                  </a:lnTo>
                  <a:lnTo>
                    <a:pt x="1268" y="226"/>
                  </a:lnTo>
                  <a:lnTo>
                    <a:pt x="1290" y="291"/>
                  </a:lnTo>
                  <a:lnTo>
                    <a:pt x="1464" y="376"/>
                  </a:lnTo>
                  <a:lnTo>
                    <a:pt x="1572" y="458"/>
                  </a:lnTo>
                  <a:lnTo>
                    <a:pt x="1624" y="466"/>
                  </a:lnTo>
                  <a:lnTo>
                    <a:pt x="1763" y="553"/>
                  </a:lnTo>
                  <a:lnTo>
                    <a:pt x="1756" y="629"/>
                  </a:lnTo>
                  <a:lnTo>
                    <a:pt x="1585" y="783"/>
                  </a:lnTo>
                  <a:lnTo>
                    <a:pt x="1597" y="911"/>
                  </a:lnTo>
                  <a:lnTo>
                    <a:pt x="1657" y="917"/>
                  </a:lnTo>
                  <a:lnTo>
                    <a:pt x="1659" y="1035"/>
                  </a:lnTo>
                  <a:lnTo>
                    <a:pt x="1488" y="1176"/>
                  </a:lnTo>
                  <a:lnTo>
                    <a:pt x="1027" y="1187"/>
                  </a:lnTo>
                  <a:lnTo>
                    <a:pt x="0" y="653"/>
                  </a:lnTo>
                  <a:close/>
                </a:path>
              </a:pathLst>
            </a:custGeom>
            <a:solidFill>
              <a:srgbClr val="ffc98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2" name=""/>
            <p:cNvSpPr/>
            <p:nvPr/>
          </p:nvSpPr>
          <p:spPr>
            <a:xfrm>
              <a:off x="7513560" y="5864760"/>
              <a:ext cx="103320" cy="65160"/>
            </a:xfrm>
            <a:custGeom>
              <a:avLst/>
              <a:gdLst/>
              <a:ahLst/>
              <a:rect l="l" t="t" r="r" b="b"/>
              <a:pathLst>
                <a:path w="1351" h="980">
                  <a:moveTo>
                    <a:pt x="0" y="393"/>
                  </a:moveTo>
                  <a:lnTo>
                    <a:pt x="4" y="296"/>
                  </a:lnTo>
                  <a:lnTo>
                    <a:pt x="16" y="176"/>
                  </a:lnTo>
                  <a:lnTo>
                    <a:pt x="66" y="17"/>
                  </a:lnTo>
                  <a:lnTo>
                    <a:pt x="389" y="5"/>
                  </a:lnTo>
                  <a:lnTo>
                    <a:pt x="514" y="0"/>
                  </a:lnTo>
                  <a:lnTo>
                    <a:pt x="837" y="31"/>
                  </a:lnTo>
                  <a:lnTo>
                    <a:pt x="998" y="81"/>
                  </a:lnTo>
                  <a:lnTo>
                    <a:pt x="1095" y="145"/>
                  </a:lnTo>
                  <a:lnTo>
                    <a:pt x="1249" y="259"/>
                  </a:lnTo>
                  <a:lnTo>
                    <a:pt x="1330" y="409"/>
                  </a:lnTo>
                  <a:lnTo>
                    <a:pt x="1351" y="563"/>
                  </a:lnTo>
                  <a:lnTo>
                    <a:pt x="1351" y="708"/>
                  </a:lnTo>
                  <a:lnTo>
                    <a:pt x="1330" y="846"/>
                  </a:lnTo>
                  <a:lnTo>
                    <a:pt x="1270" y="980"/>
                  </a:lnTo>
                  <a:lnTo>
                    <a:pt x="1240" y="773"/>
                  </a:lnTo>
                  <a:lnTo>
                    <a:pt x="1185" y="628"/>
                  </a:lnTo>
                  <a:lnTo>
                    <a:pt x="1072" y="487"/>
                  </a:lnTo>
                  <a:lnTo>
                    <a:pt x="945" y="369"/>
                  </a:lnTo>
                  <a:lnTo>
                    <a:pt x="756" y="316"/>
                  </a:lnTo>
                  <a:lnTo>
                    <a:pt x="589" y="294"/>
                  </a:lnTo>
                  <a:lnTo>
                    <a:pt x="362" y="296"/>
                  </a:lnTo>
                  <a:lnTo>
                    <a:pt x="0" y="39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03" name=""/>
            <p:cNvSpPr/>
            <p:nvPr/>
          </p:nvSpPr>
          <p:spPr>
            <a:xfrm>
              <a:off x="7936200" y="5330880"/>
              <a:ext cx="298800" cy="215640"/>
            </a:xfrm>
            <a:custGeom>
              <a:avLst/>
              <a:gdLst/>
              <a:ahLst/>
              <a:rect l="l" t="t" r="r" b="b"/>
              <a:pathLst>
                <a:path w="3911" h="3232">
                  <a:moveTo>
                    <a:pt x="426" y="1795"/>
                  </a:moveTo>
                  <a:lnTo>
                    <a:pt x="180" y="1718"/>
                  </a:lnTo>
                  <a:lnTo>
                    <a:pt x="37" y="1609"/>
                  </a:lnTo>
                  <a:lnTo>
                    <a:pt x="0" y="1478"/>
                  </a:lnTo>
                  <a:lnTo>
                    <a:pt x="26" y="1333"/>
                  </a:lnTo>
                  <a:lnTo>
                    <a:pt x="37" y="1160"/>
                  </a:lnTo>
                  <a:lnTo>
                    <a:pt x="120" y="995"/>
                  </a:lnTo>
                  <a:lnTo>
                    <a:pt x="237" y="905"/>
                  </a:lnTo>
                  <a:lnTo>
                    <a:pt x="346" y="850"/>
                  </a:lnTo>
                  <a:lnTo>
                    <a:pt x="386" y="749"/>
                  </a:lnTo>
                  <a:lnTo>
                    <a:pt x="459" y="689"/>
                  </a:lnTo>
                  <a:lnTo>
                    <a:pt x="614" y="659"/>
                  </a:lnTo>
                  <a:lnTo>
                    <a:pt x="777" y="433"/>
                  </a:lnTo>
                  <a:lnTo>
                    <a:pt x="1035" y="292"/>
                  </a:lnTo>
                  <a:lnTo>
                    <a:pt x="1300" y="268"/>
                  </a:lnTo>
                  <a:lnTo>
                    <a:pt x="1515" y="90"/>
                  </a:lnTo>
                  <a:lnTo>
                    <a:pt x="1707" y="57"/>
                  </a:lnTo>
                  <a:lnTo>
                    <a:pt x="1914" y="65"/>
                  </a:lnTo>
                  <a:lnTo>
                    <a:pt x="2221" y="0"/>
                  </a:lnTo>
                  <a:lnTo>
                    <a:pt x="2474" y="39"/>
                  </a:lnTo>
                  <a:lnTo>
                    <a:pt x="2624" y="79"/>
                  </a:lnTo>
                  <a:lnTo>
                    <a:pt x="2795" y="90"/>
                  </a:lnTo>
                  <a:lnTo>
                    <a:pt x="2933" y="178"/>
                  </a:lnTo>
                  <a:lnTo>
                    <a:pt x="3048" y="281"/>
                  </a:lnTo>
                  <a:lnTo>
                    <a:pt x="3254" y="332"/>
                  </a:lnTo>
                  <a:lnTo>
                    <a:pt x="3440" y="468"/>
                  </a:lnTo>
                  <a:lnTo>
                    <a:pt x="3659" y="714"/>
                  </a:lnTo>
                  <a:lnTo>
                    <a:pt x="3788" y="943"/>
                  </a:lnTo>
                  <a:lnTo>
                    <a:pt x="3880" y="1259"/>
                  </a:lnTo>
                  <a:lnTo>
                    <a:pt x="3911" y="1609"/>
                  </a:lnTo>
                  <a:lnTo>
                    <a:pt x="3850" y="1936"/>
                  </a:lnTo>
                  <a:lnTo>
                    <a:pt x="3647" y="2254"/>
                  </a:lnTo>
                  <a:lnTo>
                    <a:pt x="3331" y="2704"/>
                  </a:lnTo>
                  <a:lnTo>
                    <a:pt x="2819" y="3232"/>
                  </a:lnTo>
                  <a:lnTo>
                    <a:pt x="1349" y="2428"/>
                  </a:lnTo>
                  <a:lnTo>
                    <a:pt x="426" y="1795"/>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4" name=""/>
            <p:cNvSpPr/>
            <p:nvPr/>
          </p:nvSpPr>
          <p:spPr>
            <a:xfrm>
              <a:off x="7953480" y="5438160"/>
              <a:ext cx="191880" cy="189720"/>
            </a:xfrm>
            <a:custGeom>
              <a:avLst/>
              <a:gdLst/>
              <a:ahLst/>
              <a:rect l="l" t="t" r="r" b="b"/>
              <a:pathLst>
                <a:path w="2514" h="2843">
                  <a:moveTo>
                    <a:pt x="1734" y="570"/>
                  </a:moveTo>
                  <a:lnTo>
                    <a:pt x="1644" y="621"/>
                  </a:lnTo>
                  <a:lnTo>
                    <a:pt x="1556" y="744"/>
                  </a:lnTo>
                  <a:lnTo>
                    <a:pt x="1262" y="645"/>
                  </a:lnTo>
                  <a:lnTo>
                    <a:pt x="840" y="232"/>
                  </a:lnTo>
                  <a:lnTo>
                    <a:pt x="524" y="146"/>
                  </a:lnTo>
                  <a:lnTo>
                    <a:pt x="409" y="0"/>
                  </a:lnTo>
                  <a:lnTo>
                    <a:pt x="330" y="41"/>
                  </a:lnTo>
                  <a:lnTo>
                    <a:pt x="242" y="159"/>
                  </a:lnTo>
                  <a:lnTo>
                    <a:pt x="156" y="645"/>
                  </a:lnTo>
                  <a:lnTo>
                    <a:pt x="178" y="744"/>
                  </a:lnTo>
                  <a:lnTo>
                    <a:pt x="242" y="854"/>
                  </a:lnTo>
                  <a:lnTo>
                    <a:pt x="264" y="984"/>
                  </a:lnTo>
                  <a:lnTo>
                    <a:pt x="264" y="1125"/>
                  </a:lnTo>
                  <a:lnTo>
                    <a:pt x="229" y="1252"/>
                  </a:lnTo>
                  <a:lnTo>
                    <a:pt x="0" y="1713"/>
                  </a:lnTo>
                  <a:lnTo>
                    <a:pt x="24" y="1790"/>
                  </a:lnTo>
                  <a:lnTo>
                    <a:pt x="303" y="1773"/>
                  </a:lnTo>
                  <a:lnTo>
                    <a:pt x="384" y="1979"/>
                  </a:lnTo>
                  <a:lnTo>
                    <a:pt x="460" y="2003"/>
                  </a:lnTo>
                  <a:lnTo>
                    <a:pt x="547" y="2170"/>
                  </a:lnTo>
                  <a:lnTo>
                    <a:pt x="483" y="2267"/>
                  </a:lnTo>
                  <a:lnTo>
                    <a:pt x="483" y="2298"/>
                  </a:lnTo>
                  <a:lnTo>
                    <a:pt x="596" y="2419"/>
                  </a:lnTo>
                  <a:lnTo>
                    <a:pt x="596" y="2504"/>
                  </a:lnTo>
                  <a:lnTo>
                    <a:pt x="561" y="2579"/>
                  </a:lnTo>
                  <a:lnTo>
                    <a:pt x="572" y="2698"/>
                  </a:lnTo>
                  <a:lnTo>
                    <a:pt x="622" y="2735"/>
                  </a:lnTo>
                  <a:lnTo>
                    <a:pt x="723" y="2764"/>
                  </a:lnTo>
                  <a:lnTo>
                    <a:pt x="1402" y="2698"/>
                  </a:lnTo>
                  <a:lnTo>
                    <a:pt x="1684" y="2843"/>
                  </a:lnTo>
                  <a:lnTo>
                    <a:pt x="1824" y="2612"/>
                  </a:lnTo>
                  <a:lnTo>
                    <a:pt x="1963" y="2483"/>
                  </a:lnTo>
                  <a:lnTo>
                    <a:pt x="2209" y="2232"/>
                  </a:lnTo>
                  <a:lnTo>
                    <a:pt x="2514" y="1979"/>
                  </a:lnTo>
                  <a:lnTo>
                    <a:pt x="2260" y="1162"/>
                  </a:lnTo>
                  <a:lnTo>
                    <a:pt x="2165" y="667"/>
                  </a:lnTo>
                  <a:lnTo>
                    <a:pt x="1951" y="524"/>
                  </a:lnTo>
                  <a:lnTo>
                    <a:pt x="1734" y="57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5" name=""/>
            <p:cNvSpPr/>
            <p:nvPr/>
          </p:nvSpPr>
          <p:spPr>
            <a:xfrm>
              <a:off x="8068680" y="5531400"/>
              <a:ext cx="24840" cy="21600"/>
            </a:xfrm>
            <a:custGeom>
              <a:avLst/>
              <a:gdLst/>
              <a:ahLst/>
              <a:rect l="l" t="t" r="r" b="b"/>
              <a:pathLst>
                <a:path w="334" h="330">
                  <a:moveTo>
                    <a:pt x="230" y="0"/>
                  </a:moveTo>
                  <a:lnTo>
                    <a:pt x="155" y="20"/>
                  </a:lnTo>
                  <a:lnTo>
                    <a:pt x="65" y="47"/>
                  </a:lnTo>
                  <a:lnTo>
                    <a:pt x="0" y="130"/>
                  </a:lnTo>
                  <a:lnTo>
                    <a:pt x="0" y="231"/>
                  </a:lnTo>
                  <a:lnTo>
                    <a:pt x="52" y="321"/>
                  </a:lnTo>
                  <a:lnTo>
                    <a:pt x="155" y="330"/>
                  </a:lnTo>
                  <a:lnTo>
                    <a:pt x="281" y="291"/>
                  </a:lnTo>
                  <a:lnTo>
                    <a:pt x="334" y="215"/>
                  </a:lnTo>
                  <a:lnTo>
                    <a:pt x="334" y="104"/>
                  </a:lnTo>
                  <a:lnTo>
                    <a:pt x="291" y="47"/>
                  </a:lnTo>
                  <a:lnTo>
                    <a:pt x="230" y="0"/>
                  </a:lnTo>
                  <a:close/>
                </a:path>
              </a:pathLst>
            </a:custGeom>
            <a:solidFill>
              <a:srgbClr val="ffea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406" name=""/>
            <p:cNvSpPr/>
            <p:nvPr/>
          </p:nvSpPr>
          <p:spPr>
            <a:xfrm>
              <a:off x="7990200" y="5574600"/>
              <a:ext cx="13320" cy="14760"/>
            </a:xfrm>
            <a:custGeom>
              <a:avLst/>
              <a:gdLst/>
              <a:ahLst/>
              <a:rect l="l" t="t" r="r" b="b"/>
              <a:pathLst>
                <a:path w="179" h="227">
                  <a:moveTo>
                    <a:pt x="0" y="137"/>
                  </a:moveTo>
                  <a:lnTo>
                    <a:pt x="0" y="227"/>
                  </a:lnTo>
                  <a:lnTo>
                    <a:pt x="168" y="130"/>
                  </a:lnTo>
                  <a:lnTo>
                    <a:pt x="179" y="0"/>
                  </a:lnTo>
                  <a:lnTo>
                    <a:pt x="51" y="84"/>
                  </a:lnTo>
                  <a:lnTo>
                    <a:pt x="0" y="137"/>
                  </a:lnTo>
                  <a:close/>
                </a:path>
              </a:pathLst>
            </a:custGeom>
            <a:solidFill>
              <a:srgbClr val="ff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07" name=""/>
            <p:cNvSpPr/>
            <p:nvPr/>
          </p:nvSpPr>
          <p:spPr>
            <a:xfrm>
              <a:off x="7988040" y="5569200"/>
              <a:ext cx="18360" cy="14400"/>
            </a:xfrm>
            <a:custGeom>
              <a:avLst/>
              <a:gdLst/>
              <a:ahLst/>
              <a:rect l="l" t="t" r="r" b="b"/>
              <a:pathLst>
                <a:path w="242" h="213">
                  <a:moveTo>
                    <a:pt x="0" y="51"/>
                  </a:moveTo>
                  <a:lnTo>
                    <a:pt x="64" y="213"/>
                  </a:lnTo>
                  <a:lnTo>
                    <a:pt x="203" y="152"/>
                  </a:lnTo>
                  <a:lnTo>
                    <a:pt x="242" y="39"/>
                  </a:lnTo>
                  <a:lnTo>
                    <a:pt x="124" y="0"/>
                  </a:lnTo>
                  <a:lnTo>
                    <a:pt x="0" y="5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08" name=""/>
            <p:cNvSpPr/>
            <p:nvPr/>
          </p:nvSpPr>
          <p:spPr>
            <a:xfrm>
              <a:off x="7970760" y="5490000"/>
              <a:ext cx="20520" cy="15840"/>
            </a:xfrm>
            <a:custGeom>
              <a:avLst/>
              <a:gdLst/>
              <a:ahLst/>
              <a:rect l="l" t="t" r="r" b="b"/>
              <a:pathLst>
                <a:path w="270" h="242">
                  <a:moveTo>
                    <a:pt x="136" y="40"/>
                  </a:moveTo>
                  <a:lnTo>
                    <a:pt x="270" y="242"/>
                  </a:lnTo>
                  <a:lnTo>
                    <a:pt x="28" y="102"/>
                  </a:lnTo>
                  <a:lnTo>
                    <a:pt x="0" y="28"/>
                  </a:lnTo>
                  <a:lnTo>
                    <a:pt x="55" y="0"/>
                  </a:lnTo>
                  <a:lnTo>
                    <a:pt x="136" y="40"/>
                  </a:lnTo>
                  <a:close/>
                </a:path>
              </a:pathLst>
            </a:custGeom>
            <a:solidFill>
              <a:srgbClr val="0cc10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09" name=""/>
            <p:cNvSpPr/>
            <p:nvPr/>
          </p:nvSpPr>
          <p:spPr>
            <a:xfrm>
              <a:off x="7214760" y="5356080"/>
              <a:ext cx="249840" cy="149400"/>
            </a:xfrm>
            <a:custGeom>
              <a:avLst/>
              <a:gdLst/>
              <a:ahLst/>
              <a:rect l="l" t="t" r="r" b="b"/>
              <a:pathLst>
                <a:path w="3274" h="2237">
                  <a:moveTo>
                    <a:pt x="19" y="2140"/>
                  </a:moveTo>
                  <a:lnTo>
                    <a:pt x="35" y="1930"/>
                  </a:lnTo>
                  <a:lnTo>
                    <a:pt x="0" y="1342"/>
                  </a:lnTo>
                  <a:lnTo>
                    <a:pt x="61" y="1035"/>
                  </a:lnTo>
                  <a:lnTo>
                    <a:pt x="229" y="760"/>
                  </a:lnTo>
                  <a:lnTo>
                    <a:pt x="397" y="468"/>
                  </a:lnTo>
                  <a:lnTo>
                    <a:pt x="740" y="226"/>
                  </a:lnTo>
                  <a:lnTo>
                    <a:pt x="1169" y="77"/>
                  </a:lnTo>
                  <a:lnTo>
                    <a:pt x="1511" y="7"/>
                  </a:lnTo>
                  <a:lnTo>
                    <a:pt x="1894" y="0"/>
                  </a:lnTo>
                  <a:lnTo>
                    <a:pt x="2338" y="127"/>
                  </a:lnTo>
                  <a:lnTo>
                    <a:pt x="2654" y="296"/>
                  </a:lnTo>
                  <a:lnTo>
                    <a:pt x="2922" y="487"/>
                  </a:lnTo>
                  <a:lnTo>
                    <a:pt x="3103" y="549"/>
                  </a:lnTo>
                  <a:lnTo>
                    <a:pt x="3252" y="694"/>
                  </a:lnTo>
                  <a:lnTo>
                    <a:pt x="3274" y="844"/>
                  </a:lnTo>
                  <a:lnTo>
                    <a:pt x="3223" y="945"/>
                  </a:lnTo>
                  <a:lnTo>
                    <a:pt x="3078" y="973"/>
                  </a:lnTo>
                  <a:lnTo>
                    <a:pt x="136" y="2237"/>
                  </a:lnTo>
                  <a:lnTo>
                    <a:pt x="19" y="214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0" name=""/>
            <p:cNvSpPr/>
            <p:nvPr/>
          </p:nvSpPr>
          <p:spPr>
            <a:xfrm>
              <a:off x="7206120" y="5405760"/>
              <a:ext cx="267480" cy="206640"/>
            </a:xfrm>
            <a:custGeom>
              <a:avLst/>
              <a:gdLst/>
              <a:ahLst/>
              <a:rect l="l" t="t" r="r" b="b"/>
              <a:pathLst>
                <a:path w="3504" h="3096">
                  <a:moveTo>
                    <a:pt x="0" y="1865"/>
                  </a:moveTo>
                  <a:lnTo>
                    <a:pt x="345" y="1955"/>
                  </a:lnTo>
                  <a:lnTo>
                    <a:pt x="710" y="2087"/>
                  </a:lnTo>
                  <a:lnTo>
                    <a:pt x="1097" y="2344"/>
                  </a:lnTo>
                  <a:lnTo>
                    <a:pt x="1365" y="2591"/>
                  </a:lnTo>
                  <a:lnTo>
                    <a:pt x="1696" y="2953"/>
                  </a:lnTo>
                  <a:lnTo>
                    <a:pt x="2865" y="3096"/>
                  </a:lnTo>
                  <a:lnTo>
                    <a:pt x="2921" y="3023"/>
                  </a:lnTo>
                  <a:lnTo>
                    <a:pt x="2921" y="2889"/>
                  </a:lnTo>
                  <a:lnTo>
                    <a:pt x="2949" y="2817"/>
                  </a:lnTo>
                  <a:lnTo>
                    <a:pt x="3024" y="2740"/>
                  </a:lnTo>
                  <a:lnTo>
                    <a:pt x="3017" y="2600"/>
                  </a:lnTo>
                  <a:lnTo>
                    <a:pt x="2826" y="2469"/>
                  </a:lnTo>
                  <a:lnTo>
                    <a:pt x="3032" y="2419"/>
                  </a:lnTo>
                  <a:lnTo>
                    <a:pt x="3098" y="2213"/>
                  </a:lnTo>
                  <a:lnTo>
                    <a:pt x="3173" y="2167"/>
                  </a:lnTo>
                  <a:lnTo>
                    <a:pt x="3362" y="2177"/>
                  </a:lnTo>
                  <a:lnTo>
                    <a:pt x="3472" y="2158"/>
                  </a:lnTo>
                  <a:lnTo>
                    <a:pt x="3504" y="2118"/>
                  </a:lnTo>
                  <a:lnTo>
                    <a:pt x="3494" y="2068"/>
                  </a:lnTo>
                  <a:lnTo>
                    <a:pt x="3223" y="1378"/>
                  </a:lnTo>
                  <a:lnTo>
                    <a:pt x="3248" y="1303"/>
                  </a:lnTo>
                  <a:lnTo>
                    <a:pt x="3310" y="1222"/>
                  </a:lnTo>
                  <a:lnTo>
                    <a:pt x="3278" y="826"/>
                  </a:lnTo>
                  <a:lnTo>
                    <a:pt x="3239" y="538"/>
                  </a:lnTo>
                  <a:lnTo>
                    <a:pt x="3149" y="242"/>
                  </a:lnTo>
                  <a:lnTo>
                    <a:pt x="2296" y="0"/>
                  </a:lnTo>
                  <a:lnTo>
                    <a:pt x="83" y="1630"/>
                  </a:lnTo>
                  <a:lnTo>
                    <a:pt x="0" y="1865"/>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
            <p:cNvSpPr/>
            <p:nvPr/>
          </p:nvSpPr>
          <p:spPr>
            <a:xfrm>
              <a:off x="7434720" y="5505480"/>
              <a:ext cx="9360" cy="8280"/>
            </a:xfrm>
            <a:custGeom>
              <a:avLst/>
              <a:gdLst/>
              <a:ahLst/>
              <a:rect l="l" t="t" r="r" b="b"/>
              <a:pathLst>
                <a:path w="122" h="129">
                  <a:moveTo>
                    <a:pt x="122" y="0"/>
                  </a:moveTo>
                  <a:lnTo>
                    <a:pt x="71" y="129"/>
                  </a:lnTo>
                  <a:lnTo>
                    <a:pt x="0" y="26"/>
                  </a:lnTo>
                  <a:lnTo>
                    <a:pt x="122"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412" name=""/>
            <p:cNvSpPr/>
            <p:nvPr/>
          </p:nvSpPr>
          <p:spPr>
            <a:xfrm>
              <a:off x="7719480" y="5758920"/>
              <a:ext cx="129960" cy="49680"/>
            </a:xfrm>
            <a:custGeom>
              <a:avLst/>
              <a:gdLst/>
              <a:ahLst/>
              <a:rect l="l" t="t" r="r" b="b"/>
              <a:pathLst>
                <a:path w="1699" h="744">
                  <a:moveTo>
                    <a:pt x="0" y="80"/>
                  </a:moveTo>
                  <a:lnTo>
                    <a:pt x="42" y="0"/>
                  </a:lnTo>
                  <a:lnTo>
                    <a:pt x="814" y="300"/>
                  </a:lnTo>
                  <a:lnTo>
                    <a:pt x="1517" y="616"/>
                  </a:lnTo>
                  <a:lnTo>
                    <a:pt x="1699" y="744"/>
                  </a:lnTo>
                  <a:lnTo>
                    <a:pt x="1460" y="708"/>
                  </a:lnTo>
                  <a:lnTo>
                    <a:pt x="206" y="157"/>
                  </a:lnTo>
                  <a:lnTo>
                    <a:pt x="0" y="8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13" name=""/>
            <p:cNvSpPr/>
            <p:nvPr/>
          </p:nvSpPr>
          <p:spPr>
            <a:xfrm>
              <a:off x="7670880" y="5767920"/>
              <a:ext cx="152640" cy="82080"/>
            </a:xfrm>
            <a:custGeom>
              <a:avLst/>
              <a:gdLst/>
              <a:ahLst/>
              <a:rect l="l" t="t" r="r" b="b"/>
              <a:pathLst>
                <a:path w="2003" h="1230">
                  <a:moveTo>
                    <a:pt x="80" y="253"/>
                  </a:moveTo>
                  <a:lnTo>
                    <a:pt x="278" y="218"/>
                  </a:lnTo>
                  <a:lnTo>
                    <a:pt x="477" y="195"/>
                  </a:lnTo>
                  <a:lnTo>
                    <a:pt x="945" y="11"/>
                  </a:lnTo>
                  <a:lnTo>
                    <a:pt x="1262" y="11"/>
                  </a:lnTo>
                  <a:lnTo>
                    <a:pt x="1646" y="0"/>
                  </a:lnTo>
                  <a:lnTo>
                    <a:pt x="2003" y="345"/>
                  </a:lnTo>
                  <a:lnTo>
                    <a:pt x="1973" y="393"/>
                  </a:lnTo>
                  <a:lnTo>
                    <a:pt x="1941" y="380"/>
                  </a:lnTo>
                  <a:lnTo>
                    <a:pt x="1927" y="472"/>
                  </a:lnTo>
                  <a:lnTo>
                    <a:pt x="1869" y="534"/>
                  </a:lnTo>
                  <a:lnTo>
                    <a:pt x="1578" y="725"/>
                  </a:lnTo>
                  <a:lnTo>
                    <a:pt x="1491" y="861"/>
                  </a:lnTo>
                  <a:lnTo>
                    <a:pt x="1297" y="991"/>
                  </a:lnTo>
                  <a:lnTo>
                    <a:pt x="1229" y="1112"/>
                  </a:lnTo>
                  <a:lnTo>
                    <a:pt x="926" y="1221"/>
                  </a:lnTo>
                  <a:lnTo>
                    <a:pt x="848" y="1230"/>
                  </a:lnTo>
                  <a:lnTo>
                    <a:pt x="539" y="1158"/>
                  </a:lnTo>
                  <a:lnTo>
                    <a:pt x="34" y="855"/>
                  </a:lnTo>
                  <a:lnTo>
                    <a:pt x="0" y="419"/>
                  </a:lnTo>
                  <a:lnTo>
                    <a:pt x="80" y="253"/>
                  </a:lnTo>
                  <a:close/>
                </a:path>
              </a:pathLst>
            </a:custGeom>
            <a:solidFill>
              <a:srgbClr val="ffc98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4" name=""/>
            <p:cNvSpPr/>
            <p:nvPr/>
          </p:nvSpPr>
          <p:spPr>
            <a:xfrm>
              <a:off x="7652880" y="5378400"/>
              <a:ext cx="173880" cy="180000"/>
            </a:xfrm>
            <a:custGeom>
              <a:avLst/>
              <a:gdLst/>
              <a:ahLst/>
              <a:rect l="l" t="t" r="r" b="b"/>
              <a:pathLst>
                <a:path w="2284" h="2689">
                  <a:moveTo>
                    <a:pt x="166" y="357"/>
                  </a:moveTo>
                  <a:lnTo>
                    <a:pt x="55" y="468"/>
                  </a:lnTo>
                  <a:lnTo>
                    <a:pt x="0" y="597"/>
                  </a:lnTo>
                  <a:lnTo>
                    <a:pt x="0" y="740"/>
                  </a:lnTo>
                  <a:lnTo>
                    <a:pt x="14" y="869"/>
                  </a:lnTo>
                  <a:lnTo>
                    <a:pt x="75" y="1095"/>
                  </a:lnTo>
                  <a:lnTo>
                    <a:pt x="187" y="1190"/>
                  </a:lnTo>
                  <a:lnTo>
                    <a:pt x="148" y="1552"/>
                  </a:lnTo>
                  <a:lnTo>
                    <a:pt x="172" y="1731"/>
                  </a:lnTo>
                  <a:lnTo>
                    <a:pt x="247" y="2225"/>
                  </a:lnTo>
                  <a:lnTo>
                    <a:pt x="326" y="2329"/>
                  </a:lnTo>
                  <a:lnTo>
                    <a:pt x="479" y="2513"/>
                  </a:lnTo>
                  <a:lnTo>
                    <a:pt x="715" y="2689"/>
                  </a:lnTo>
                  <a:lnTo>
                    <a:pt x="1117" y="2548"/>
                  </a:lnTo>
                  <a:lnTo>
                    <a:pt x="1238" y="2467"/>
                  </a:lnTo>
                  <a:lnTo>
                    <a:pt x="1399" y="2357"/>
                  </a:lnTo>
                  <a:lnTo>
                    <a:pt x="1473" y="2252"/>
                  </a:lnTo>
                  <a:lnTo>
                    <a:pt x="1567" y="2201"/>
                  </a:lnTo>
                  <a:lnTo>
                    <a:pt x="1858" y="1681"/>
                  </a:lnTo>
                  <a:lnTo>
                    <a:pt x="1971" y="1690"/>
                  </a:lnTo>
                  <a:lnTo>
                    <a:pt x="2040" y="1607"/>
                  </a:lnTo>
                  <a:lnTo>
                    <a:pt x="2157" y="1439"/>
                  </a:lnTo>
                  <a:lnTo>
                    <a:pt x="2199" y="1298"/>
                  </a:lnTo>
                  <a:lnTo>
                    <a:pt x="2199" y="1190"/>
                  </a:lnTo>
                  <a:lnTo>
                    <a:pt x="2284" y="423"/>
                  </a:lnTo>
                  <a:lnTo>
                    <a:pt x="987" y="0"/>
                  </a:lnTo>
                  <a:lnTo>
                    <a:pt x="341" y="263"/>
                  </a:lnTo>
                  <a:lnTo>
                    <a:pt x="166" y="35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5" name=""/>
            <p:cNvSpPr/>
            <p:nvPr/>
          </p:nvSpPr>
          <p:spPr>
            <a:xfrm>
              <a:off x="7701120" y="5429160"/>
              <a:ext cx="39600" cy="39600"/>
            </a:xfrm>
            <a:custGeom>
              <a:avLst/>
              <a:gdLst/>
              <a:ahLst/>
              <a:rect l="l" t="t" r="r" b="b"/>
              <a:pathLst>
                <a:path w="516" h="592">
                  <a:moveTo>
                    <a:pt x="0" y="0"/>
                  </a:moveTo>
                  <a:lnTo>
                    <a:pt x="230" y="592"/>
                  </a:lnTo>
                  <a:lnTo>
                    <a:pt x="351" y="521"/>
                  </a:lnTo>
                  <a:lnTo>
                    <a:pt x="424" y="449"/>
                  </a:lnTo>
                  <a:lnTo>
                    <a:pt x="481" y="357"/>
                  </a:lnTo>
                  <a:lnTo>
                    <a:pt x="516" y="246"/>
                  </a:lnTo>
                  <a:lnTo>
                    <a:pt x="445" y="145"/>
                  </a:lnTo>
                  <a:lnTo>
                    <a:pt x="288" y="46"/>
                  </a:lnTo>
                  <a:lnTo>
                    <a:pt x="131" y="9"/>
                  </a:lnTo>
                  <a:lnTo>
                    <a:pt x="0" y="0"/>
                  </a:lnTo>
                  <a:close/>
                </a:path>
              </a:pathLst>
            </a:custGeom>
            <a:solidFill>
              <a:srgbClr val="00ea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16" name=""/>
            <p:cNvSpPr/>
            <p:nvPr/>
          </p:nvSpPr>
          <p:spPr>
            <a:xfrm>
              <a:off x="7770960" y="5451120"/>
              <a:ext cx="30240" cy="31320"/>
            </a:xfrm>
            <a:custGeom>
              <a:avLst/>
              <a:gdLst/>
              <a:ahLst/>
              <a:rect l="l" t="t" r="r" b="b"/>
              <a:pathLst>
                <a:path w="404" h="473">
                  <a:moveTo>
                    <a:pt x="0" y="0"/>
                  </a:moveTo>
                  <a:lnTo>
                    <a:pt x="231" y="473"/>
                  </a:lnTo>
                  <a:lnTo>
                    <a:pt x="303" y="376"/>
                  </a:lnTo>
                  <a:lnTo>
                    <a:pt x="393" y="242"/>
                  </a:lnTo>
                  <a:lnTo>
                    <a:pt x="404" y="146"/>
                  </a:lnTo>
                  <a:lnTo>
                    <a:pt x="171" y="34"/>
                  </a:lnTo>
                  <a:lnTo>
                    <a:pt x="0" y="0"/>
                  </a:lnTo>
                  <a:close/>
                </a:path>
              </a:pathLst>
            </a:custGeom>
            <a:solidFill>
              <a:srgbClr val="00ea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17" name=""/>
            <p:cNvSpPr/>
            <p:nvPr/>
          </p:nvSpPr>
          <p:spPr>
            <a:xfrm>
              <a:off x="7680960" y="5436720"/>
              <a:ext cx="15480" cy="29160"/>
            </a:xfrm>
            <a:custGeom>
              <a:avLst/>
              <a:gdLst/>
              <a:ahLst/>
              <a:rect l="l" t="t" r="r" b="b"/>
              <a:pathLst>
                <a:path w="210" h="443">
                  <a:moveTo>
                    <a:pt x="39" y="0"/>
                  </a:moveTo>
                  <a:lnTo>
                    <a:pt x="210" y="443"/>
                  </a:lnTo>
                  <a:lnTo>
                    <a:pt x="97" y="374"/>
                  </a:lnTo>
                  <a:lnTo>
                    <a:pt x="39" y="302"/>
                  </a:lnTo>
                  <a:lnTo>
                    <a:pt x="10" y="226"/>
                  </a:lnTo>
                  <a:lnTo>
                    <a:pt x="0" y="97"/>
                  </a:lnTo>
                  <a:lnTo>
                    <a:pt x="39" y="0"/>
                  </a:lnTo>
                  <a:close/>
                </a:path>
              </a:pathLst>
            </a:custGeom>
            <a:solidFill>
              <a:srgbClr val="00ea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418" name=""/>
            <p:cNvSpPr/>
            <p:nvPr/>
          </p:nvSpPr>
          <p:spPr>
            <a:xfrm>
              <a:off x="7751520" y="5453640"/>
              <a:ext cx="22320" cy="32040"/>
            </a:xfrm>
            <a:custGeom>
              <a:avLst/>
              <a:gdLst/>
              <a:ahLst/>
              <a:rect l="l" t="t" r="r" b="b"/>
              <a:pathLst>
                <a:path w="292" h="480">
                  <a:moveTo>
                    <a:pt x="32" y="0"/>
                  </a:moveTo>
                  <a:lnTo>
                    <a:pt x="292" y="480"/>
                  </a:lnTo>
                  <a:lnTo>
                    <a:pt x="131" y="432"/>
                  </a:lnTo>
                  <a:lnTo>
                    <a:pt x="32" y="386"/>
                  </a:lnTo>
                  <a:lnTo>
                    <a:pt x="0" y="224"/>
                  </a:lnTo>
                  <a:lnTo>
                    <a:pt x="32" y="0"/>
                  </a:lnTo>
                  <a:close/>
                </a:path>
              </a:pathLst>
            </a:custGeom>
            <a:solidFill>
              <a:srgbClr val="00ea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419" name=""/>
            <p:cNvSpPr/>
            <p:nvPr/>
          </p:nvSpPr>
          <p:spPr>
            <a:xfrm>
              <a:off x="7684200" y="5432400"/>
              <a:ext cx="16920" cy="34920"/>
            </a:xfrm>
            <a:custGeom>
              <a:avLst/>
              <a:gdLst/>
              <a:ahLst/>
              <a:rect l="l" t="t" r="r" b="b"/>
              <a:pathLst>
                <a:path w="222" h="523">
                  <a:moveTo>
                    <a:pt x="0" y="119"/>
                  </a:moveTo>
                  <a:lnTo>
                    <a:pt x="150" y="493"/>
                  </a:lnTo>
                  <a:lnTo>
                    <a:pt x="222" y="523"/>
                  </a:lnTo>
                  <a:lnTo>
                    <a:pt x="17" y="0"/>
                  </a:lnTo>
                  <a:lnTo>
                    <a:pt x="0" y="1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20" name=""/>
            <p:cNvSpPr/>
            <p:nvPr/>
          </p:nvSpPr>
          <p:spPr>
            <a:xfrm>
              <a:off x="7753680" y="5453280"/>
              <a:ext cx="21960" cy="32760"/>
            </a:xfrm>
            <a:custGeom>
              <a:avLst/>
              <a:gdLst/>
              <a:ahLst/>
              <a:rect l="l" t="t" r="r" b="b"/>
              <a:pathLst>
                <a:path w="288" h="498">
                  <a:moveTo>
                    <a:pt x="0" y="35"/>
                  </a:moveTo>
                  <a:lnTo>
                    <a:pt x="224" y="498"/>
                  </a:lnTo>
                  <a:lnTo>
                    <a:pt x="288" y="477"/>
                  </a:lnTo>
                  <a:lnTo>
                    <a:pt x="36" y="0"/>
                  </a:lnTo>
                  <a:lnTo>
                    <a:pt x="0" y="35"/>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21" name=""/>
            <p:cNvSpPr/>
            <p:nvPr/>
          </p:nvSpPr>
          <p:spPr>
            <a:xfrm>
              <a:off x="7666920" y="5335560"/>
              <a:ext cx="186840" cy="123840"/>
            </a:xfrm>
            <a:custGeom>
              <a:avLst/>
              <a:gdLst/>
              <a:ahLst/>
              <a:rect l="l" t="t" r="r" b="b"/>
              <a:pathLst>
                <a:path w="2454" h="1848">
                  <a:moveTo>
                    <a:pt x="226" y="1063"/>
                  </a:moveTo>
                  <a:lnTo>
                    <a:pt x="323" y="1046"/>
                  </a:lnTo>
                  <a:lnTo>
                    <a:pt x="672" y="790"/>
                  </a:lnTo>
                  <a:lnTo>
                    <a:pt x="943" y="817"/>
                  </a:lnTo>
                  <a:lnTo>
                    <a:pt x="1804" y="960"/>
                  </a:lnTo>
                  <a:lnTo>
                    <a:pt x="2092" y="1063"/>
                  </a:lnTo>
                  <a:lnTo>
                    <a:pt x="1965" y="1735"/>
                  </a:lnTo>
                  <a:lnTo>
                    <a:pt x="2037" y="1848"/>
                  </a:lnTo>
                  <a:lnTo>
                    <a:pt x="2297" y="1666"/>
                  </a:lnTo>
                  <a:lnTo>
                    <a:pt x="2357" y="1544"/>
                  </a:lnTo>
                  <a:lnTo>
                    <a:pt x="2419" y="1364"/>
                  </a:lnTo>
                  <a:lnTo>
                    <a:pt x="2454" y="1248"/>
                  </a:lnTo>
                  <a:lnTo>
                    <a:pt x="2444" y="1122"/>
                  </a:lnTo>
                  <a:lnTo>
                    <a:pt x="2403" y="1059"/>
                  </a:lnTo>
                  <a:lnTo>
                    <a:pt x="2223" y="1009"/>
                  </a:lnTo>
                  <a:lnTo>
                    <a:pt x="2025" y="380"/>
                  </a:lnTo>
                  <a:lnTo>
                    <a:pt x="1848" y="173"/>
                  </a:lnTo>
                  <a:lnTo>
                    <a:pt x="1472" y="11"/>
                  </a:lnTo>
                  <a:lnTo>
                    <a:pt x="1264" y="0"/>
                  </a:lnTo>
                  <a:lnTo>
                    <a:pt x="1004" y="27"/>
                  </a:lnTo>
                  <a:lnTo>
                    <a:pt x="760" y="76"/>
                  </a:lnTo>
                  <a:lnTo>
                    <a:pt x="554" y="207"/>
                  </a:lnTo>
                  <a:lnTo>
                    <a:pt x="202" y="633"/>
                  </a:lnTo>
                  <a:lnTo>
                    <a:pt x="0" y="982"/>
                  </a:lnTo>
                  <a:lnTo>
                    <a:pt x="88" y="1035"/>
                  </a:lnTo>
                  <a:lnTo>
                    <a:pt x="127" y="1162"/>
                  </a:lnTo>
                  <a:lnTo>
                    <a:pt x="226" y="1063"/>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2" name=""/>
            <p:cNvSpPr/>
            <p:nvPr/>
          </p:nvSpPr>
          <p:spPr>
            <a:xfrm>
              <a:off x="7763040" y="5453640"/>
              <a:ext cx="13320" cy="8280"/>
            </a:xfrm>
            <a:custGeom>
              <a:avLst/>
              <a:gdLst/>
              <a:ahLst/>
              <a:rect l="l" t="t" r="r" b="b"/>
              <a:pathLst>
                <a:path w="171" h="132">
                  <a:moveTo>
                    <a:pt x="0" y="51"/>
                  </a:moveTo>
                  <a:lnTo>
                    <a:pt x="72" y="132"/>
                  </a:lnTo>
                  <a:lnTo>
                    <a:pt x="171" y="40"/>
                  </a:lnTo>
                  <a:lnTo>
                    <a:pt x="102" y="0"/>
                  </a:lnTo>
                  <a:lnTo>
                    <a:pt x="17" y="0"/>
                  </a:lnTo>
                  <a:lnTo>
                    <a:pt x="0" y="51"/>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423" name=""/>
            <p:cNvSpPr/>
            <p:nvPr/>
          </p:nvSpPr>
          <p:spPr>
            <a:xfrm>
              <a:off x="7704360" y="5437440"/>
              <a:ext cx="18720" cy="9720"/>
            </a:xfrm>
            <a:custGeom>
              <a:avLst/>
              <a:gdLst/>
              <a:ahLst/>
              <a:rect l="l" t="t" r="r" b="b"/>
              <a:pathLst>
                <a:path w="251" h="148">
                  <a:moveTo>
                    <a:pt x="0" y="46"/>
                  </a:moveTo>
                  <a:lnTo>
                    <a:pt x="83" y="127"/>
                  </a:lnTo>
                  <a:lnTo>
                    <a:pt x="182" y="148"/>
                  </a:lnTo>
                  <a:lnTo>
                    <a:pt x="251" y="35"/>
                  </a:lnTo>
                  <a:lnTo>
                    <a:pt x="140" y="0"/>
                  </a:lnTo>
                  <a:lnTo>
                    <a:pt x="24" y="12"/>
                  </a:lnTo>
                  <a:lnTo>
                    <a:pt x="0" y="4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24" name=""/>
            <p:cNvSpPr/>
            <p:nvPr/>
          </p:nvSpPr>
          <p:spPr>
            <a:xfrm>
              <a:off x="7936560" y="5442480"/>
              <a:ext cx="44280" cy="62280"/>
            </a:xfrm>
            <a:custGeom>
              <a:avLst/>
              <a:gdLst/>
              <a:ahLst/>
              <a:rect l="l" t="t" r="r" b="b"/>
              <a:pathLst>
                <a:path w="585" h="936">
                  <a:moveTo>
                    <a:pt x="532" y="0"/>
                  </a:moveTo>
                  <a:lnTo>
                    <a:pt x="464" y="79"/>
                  </a:lnTo>
                  <a:lnTo>
                    <a:pt x="407" y="22"/>
                  </a:lnTo>
                  <a:lnTo>
                    <a:pt x="315" y="22"/>
                  </a:lnTo>
                  <a:lnTo>
                    <a:pt x="137" y="129"/>
                  </a:lnTo>
                  <a:lnTo>
                    <a:pt x="18" y="277"/>
                  </a:lnTo>
                  <a:lnTo>
                    <a:pt x="0" y="398"/>
                  </a:lnTo>
                  <a:lnTo>
                    <a:pt x="18" y="532"/>
                  </a:lnTo>
                  <a:lnTo>
                    <a:pt x="62" y="592"/>
                  </a:lnTo>
                  <a:lnTo>
                    <a:pt x="112" y="620"/>
                  </a:lnTo>
                  <a:lnTo>
                    <a:pt x="62" y="562"/>
                  </a:lnTo>
                  <a:lnTo>
                    <a:pt x="53" y="484"/>
                  </a:lnTo>
                  <a:lnTo>
                    <a:pt x="77" y="407"/>
                  </a:lnTo>
                  <a:lnTo>
                    <a:pt x="143" y="301"/>
                  </a:lnTo>
                  <a:lnTo>
                    <a:pt x="222" y="262"/>
                  </a:lnTo>
                  <a:lnTo>
                    <a:pt x="264" y="235"/>
                  </a:lnTo>
                  <a:lnTo>
                    <a:pt x="222" y="301"/>
                  </a:lnTo>
                  <a:lnTo>
                    <a:pt x="200" y="407"/>
                  </a:lnTo>
                  <a:lnTo>
                    <a:pt x="213" y="484"/>
                  </a:lnTo>
                  <a:lnTo>
                    <a:pt x="235" y="558"/>
                  </a:lnTo>
                  <a:lnTo>
                    <a:pt x="283" y="613"/>
                  </a:lnTo>
                  <a:lnTo>
                    <a:pt x="350" y="659"/>
                  </a:lnTo>
                  <a:lnTo>
                    <a:pt x="350" y="688"/>
                  </a:lnTo>
                  <a:lnTo>
                    <a:pt x="378" y="735"/>
                  </a:lnTo>
                  <a:lnTo>
                    <a:pt x="435" y="776"/>
                  </a:lnTo>
                  <a:lnTo>
                    <a:pt x="486" y="936"/>
                  </a:lnTo>
                  <a:lnTo>
                    <a:pt x="479" y="754"/>
                  </a:lnTo>
                  <a:lnTo>
                    <a:pt x="506" y="730"/>
                  </a:lnTo>
                  <a:lnTo>
                    <a:pt x="585" y="747"/>
                  </a:lnTo>
                  <a:lnTo>
                    <a:pt x="474" y="688"/>
                  </a:lnTo>
                  <a:lnTo>
                    <a:pt x="382" y="652"/>
                  </a:lnTo>
                  <a:lnTo>
                    <a:pt x="389" y="507"/>
                  </a:lnTo>
                  <a:lnTo>
                    <a:pt x="455" y="228"/>
                  </a:lnTo>
                  <a:lnTo>
                    <a:pt x="53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25" name=""/>
            <p:cNvSpPr/>
            <p:nvPr/>
          </p:nvSpPr>
          <p:spPr>
            <a:xfrm>
              <a:off x="7968960" y="5493240"/>
              <a:ext cx="23760" cy="27720"/>
            </a:xfrm>
            <a:custGeom>
              <a:avLst/>
              <a:gdLst/>
              <a:ahLst/>
              <a:rect l="l" t="t" r="r" b="b"/>
              <a:pathLst>
                <a:path w="310" h="417">
                  <a:moveTo>
                    <a:pt x="0" y="0"/>
                  </a:moveTo>
                  <a:lnTo>
                    <a:pt x="126" y="96"/>
                  </a:lnTo>
                  <a:lnTo>
                    <a:pt x="310" y="202"/>
                  </a:lnTo>
                  <a:lnTo>
                    <a:pt x="297" y="237"/>
                  </a:lnTo>
                  <a:lnTo>
                    <a:pt x="310" y="248"/>
                  </a:lnTo>
                  <a:lnTo>
                    <a:pt x="126" y="417"/>
                  </a:lnTo>
                  <a:lnTo>
                    <a:pt x="115" y="387"/>
                  </a:lnTo>
                  <a:lnTo>
                    <a:pt x="163" y="302"/>
                  </a:lnTo>
                  <a:lnTo>
                    <a:pt x="143" y="242"/>
                  </a:lnTo>
                  <a:lnTo>
                    <a:pt x="27" y="248"/>
                  </a:lnTo>
                  <a:lnTo>
                    <a:pt x="80" y="202"/>
                  </a:lnTo>
                  <a:lnTo>
                    <a:pt x="108" y="173"/>
                  </a:lnTo>
                  <a:lnTo>
                    <a:pt x="55" y="92"/>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426" name=""/>
            <p:cNvSpPr/>
            <p:nvPr/>
          </p:nvSpPr>
          <p:spPr>
            <a:xfrm>
              <a:off x="7953480" y="5511960"/>
              <a:ext cx="30960" cy="56520"/>
            </a:xfrm>
            <a:custGeom>
              <a:avLst/>
              <a:gdLst/>
              <a:ahLst/>
              <a:rect l="l" t="t" r="r" b="b"/>
              <a:pathLst>
                <a:path w="409" h="848">
                  <a:moveTo>
                    <a:pt x="264" y="0"/>
                  </a:moveTo>
                  <a:lnTo>
                    <a:pt x="252" y="55"/>
                  </a:lnTo>
                  <a:lnTo>
                    <a:pt x="202" y="200"/>
                  </a:lnTo>
                  <a:lnTo>
                    <a:pt x="97" y="401"/>
                  </a:lnTo>
                  <a:lnTo>
                    <a:pt x="0" y="606"/>
                  </a:lnTo>
                  <a:lnTo>
                    <a:pt x="0" y="661"/>
                  </a:lnTo>
                  <a:lnTo>
                    <a:pt x="61" y="696"/>
                  </a:lnTo>
                  <a:lnTo>
                    <a:pt x="220" y="719"/>
                  </a:lnTo>
                  <a:lnTo>
                    <a:pt x="317" y="740"/>
                  </a:lnTo>
                  <a:lnTo>
                    <a:pt x="338" y="753"/>
                  </a:lnTo>
                  <a:lnTo>
                    <a:pt x="354" y="809"/>
                  </a:lnTo>
                  <a:lnTo>
                    <a:pt x="365" y="848"/>
                  </a:lnTo>
                  <a:lnTo>
                    <a:pt x="354" y="740"/>
                  </a:lnTo>
                  <a:lnTo>
                    <a:pt x="328" y="696"/>
                  </a:lnTo>
                  <a:lnTo>
                    <a:pt x="354" y="666"/>
                  </a:lnTo>
                  <a:lnTo>
                    <a:pt x="409" y="633"/>
                  </a:lnTo>
                  <a:lnTo>
                    <a:pt x="391" y="615"/>
                  </a:lnTo>
                  <a:lnTo>
                    <a:pt x="338" y="615"/>
                  </a:lnTo>
                  <a:lnTo>
                    <a:pt x="202" y="641"/>
                  </a:lnTo>
                  <a:lnTo>
                    <a:pt x="97" y="666"/>
                  </a:lnTo>
                  <a:lnTo>
                    <a:pt x="35" y="661"/>
                  </a:lnTo>
                  <a:lnTo>
                    <a:pt x="13" y="626"/>
                  </a:lnTo>
                  <a:lnTo>
                    <a:pt x="13" y="590"/>
                  </a:lnTo>
                  <a:lnTo>
                    <a:pt x="218" y="200"/>
                  </a:lnTo>
                  <a:lnTo>
                    <a:pt x="233" y="120"/>
                  </a:lnTo>
                  <a:lnTo>
                    <a:pt x="264"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27" name=""/>
            <p:cNvSpPr/>
            <p:nvPr/>
          </p:nvSpPr>
          <p:spPr>
            <a:xfrm>
              <a:off x="7981200" y="5539680"/>
              <a:ext cx="34560" cy="45360"/>
            </a:xfrm>
            <a:custGeom>
              <a:avLst/>
              <a:gdLst/>
              <a:ahLst/>
              <a:rect l="l" t="t" r="r" b="b"/>
              <a:pathLst>
                <a:path w="452" h="679">
                  <a:moveTo>
                    <a:pt x="0" y="0"/>
                  </a:moveTo>
                  <a:lnTo>
                    <a:pt x="28" y="101"/>
                  </a:lnTo>
                  <a:lnTo>
                    <a:pt x="72" y="180"/>
                  </a:lnTo>
                  <a:lnTo>
                    <a:pt x="154" y="277"/>
                  </a:lnTo>
                  <a:lnTo>
                    <a:pt x="283" y="338"/>
                  </a:lnTo>
                  <a:lnTo>
                    <a:pt x="404" y="433"/>
                  </a:lnTo>
                  <a:lnTo>
                    <a:pt x="424" y="484"/>
                  </a:lnTo>
                  <a:lnTo>
                    <a:pt x="452" y="679"/>
                  </a:lnTo>
                  <a:lnTo>
                    <a:pt x="404" y="574"/>
                  </a:lnTo>
                  <a:lnTo>
                    <a:pt x="283" y="463"/>
                  </a:lnTo>
                  <a:lnTo>
                    <a:pt x="184" y="457"/>
                  </a:lnTo>
                  <a:lnTo>
                    <a:pt x="53" y="495"/>
                  </a:lnTo>
                  <a:lnTo>
                    <a:pt x="0" y="457"/>
                  </a:lnTo>
                  <a:lnTo>
                    <a:pt x="72" y="413"/>
                  </a:lnTo>
                  <a:lnTo>
                    <a:pt x="166" y="403"/>
                  </a:lnTo>
                  <a:lnTo>
                    <a:pt x="256" y="394"/>
                  </a:lnTo>
                  <a:lnTo>
                    <a:pt x="120" y="281"/>
                  </a:lnTo>
                  <a:lnTo>
                    <a:pt x="53" y="175"/>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428" name=""/>
            <p:cNvSpPr/>
            <p:nvPr/>
          </p:nvSpPr>
          <p:spPr>
            <a:xfrm>
              <a:off x="7991640" y="5573880"/>
              <a:ext cx="13680" cy="11160"/>
            </a:xfrm>
            <a:custGeom>
              <a:avLst/>
              <a:gdLst/>
              <a:ahLst/>
              <a:rect l="l" t="t" r="r" b="b"/>
              <a:pathLst>
                <a:path w="182" h="170">
                  <a:moveTo>
                    <a:pt x="182" y="0"/>
                  </a:moveTo>
                  <a:lnTo>
                    <a:pt x="123" y="85"/>
                  </a:lnTo>
                  <a:lnTo>
                    <a:pt x="62" y="111"/>
                  </a:lnTo>
                  <a:lnTo>
                    <a:pt x="0" y="146"/>
                  </a:lnTo>
                  <a:lnTo>
                    <a:pt x="0" y="170"/>
                  </a:lnTo>
                  <a:lnTo>
                    <a:pt x="92" y="115"/>
                  </a:lnTo>
                  <a:lnTo>
                    <a:pt x="147" y="99"/>
                  </a:lnTo>
                  <a:lnTo>
                    <a:pt x="173" y="30"/>
                  </a:lnTo>
                  <a:lnTo>
                    <a:pt x="18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29" name=""/>
            <p:cNvSpPr/>
            <p:nvPr/>
          </p:nvSpPr>
          <p:spPr>
            <a:xfrm>
              <a:off x="7991640" y="5560560"/>
              <a:ext cx="102960" cy="77400"/>
            </a:xfrm>
            <a:custGeom>
              <a:avLst/>
              <a:gdLst/>
              <a:ahLst/>
              <a:rect l="l" t="t" r="r" b="b"/>
              <a:pathLst>
                <a:path w="1349" h="1162">
                  <a:moveTo>
                    <a:pt x="0" y="465"/>
                  </a:moveTo>
                  <a:lnTo>
                    <a:pt x="97" y="579"/>
                  </a:lnTo>
                  <a:lnTo>
                    <a:pt x="117" y="634"/>
                  </a:lnTo>
                  <a:lnTo>
                    <a:pt x="117" y="664"/>
                  </a:lnTo>
                  <a:lnTo>
                    <a:pt x="92" y="724"/>
                  </a:lnTo>
                  <a:lnTo>
                    <a:pt x="81" y="770"/>
                  </a:lnTo>
                  <a:lnTo>
                    <a:pt x="81" y="827"/>
                  </a:lnTo>
                  <a:lnTo>
                    <a:pt x="97" y="880"/>
                  </a:lnTo>
                  <a:lnTo>
                    <a:pt x="120" y="899"/>
                  </a:lnTo>
                  <a:lnTo>
                    <a:pt x="198" y="860"/>
                  </a:lnTo>
                  <a:lnTo>
                    <a:pt x="268" y="814"/>
                  </a:lnTo>
                  <a:lnTo>
                    <a:pt x="327" y="728"/>
                  </a:lnTo>
                  <a:lnTo>
                    <a:pt x="345" y="634"/>
                  </a:lnTo>
                  <a:lnTo>
                    <a:pt x="345" y="564"/>
                  </a:lnTo>
                  <a:lnTo>
                    <a:pt x="394" y="814"/>
                  </a:lnTo>
                  <a:lnTo>
                    <a:pt x="505" y="786"/>
                  </a:lnTo>
                  <a:lnTo>
                    <a:pt x="646" y="724"/>
                  </a:lnTo>
                  <a:lnTo>
                    <a:pt x="730" y="643"/>
                  </a:lnTo>
                  <a:lnTo>
                    <a:pt x="802" y="568"/>
                  </a:lnTo>
                  <a:lnTo>
                    <a:pt x="897" y="454"/>
                  </a:lnTo>
                  <a:lnTo>
                    <a:pt x="958" y="408"/>
                  </a:lnTo>
                  <a:lnTo>
                    <a:pt x="1051" y="368"/>
                  </a:lnTo>
                  <a:lnTo>
                    <a:pt x="1125" y="309"/>
                  </a:lnTo>
                  <a:lnTo>
                    <a:pt x="1176" y="238"/>
                  </a:lnTo>
                  <a:lnTo>
                    <a:pt x="1224" y="152"/>
                  </a:lnTo>
                  <a:lnTo>
                    <a:pt x="1257" y="0"/>
                  </a:lnTo>
                  <a:lnTo>
                    <a:pt x="1242" y="223"/>
                  </a:lnTo>
                  <a:lnTo>
                    <a:pt x="1219" y="376"/>
                  </a:lnTo>
                  <a:lnTo>
                    <a:pt x="1164" y="482"/>
                  </a:lnTo>
                  <a:lnTo>
                    <a:pt x="1120" y="568"/>
                  </a:lnTo>
                  <a:lnTo>
                    <a:pt x="1120" y="634"/>
                  </a:lnTo>
                  <a:lnTo>
                    <a:pt x="1153" y="705"/>
                  </a:lnTo>
                  <a:lnTo>
                    <a:pt x="1196" y="790"/>
                  </a:lnTo>
                  <a:lnTo>
                    <a:pt x="1219" y="851"/>
                  </a:lnTo>
                  <a:lnTo>
                    <a:pt x="1226" y="920"/>
                  </a:lnTo>
                  <a:lnTo>
                    <a:pt x="1349" y="746"/>
                  </a:lnTo>
                  <a:lnTo>
                    <a:pt x="1219" y="992"/>
                  </a:lnTo>
                  <a:lnTo>
                    <a:pt x="1160" y="1132"/>
                  </a:lnTo>
                  <a:lnTo>
                    <a:pt x="1160" y="1162"/>
                  </a:lnTo>
                  <a:lnTo>
                    <a:pt x="1090" y="1091"/>
                  </a:lnTo>
                  <a:lnTo>
                    <a:pt x="1000" y="987"/>
                  </a:lnTo>
                  <a:lnTo>
                    <a:pt x="922" y="959"/>
                  </a:lnTo>
                  <a:lnTo>
                    <a:pt x="844" y="926"/>
                  </a:lnTo>
                  <a:lnTo>
                    <a:pt x="712" y="926"/>
                  </a:lnTo>
                  <a:lnTo>
                    <a:pt x="277" y="1021"/>
                  </a:lnTo>
                  <a:lnTo>
                    <a:pt x="173" y="1012"/>
                  </a:lnTo>
                  <a:lnTo>
                    <a:pt x="112" y="986"/>
                  </a:lnTo>
                  <a:lnTo>
                    <a:pt x="48" y="920"/>
                  </a:lnTo>
                  <a:lnTo>
                    <a:pt x="30" y="851"/>
                  </a:lnTo>
                  <a:lnTo>
                    <a:pt x="35" y="786"/>
                  </a:lnTo>
                  <a:lnTo>
                    <a:pt x="62" y="724"/>
                  </a:lnTo>
                  <a:lnTo>
                    <a:pt x="81" y="664"/>
                  </a:lnTo>
                  <a:lnTo>
                    <a:pt x="81" y="610"/>
                  </a:lnTo>
                  <a:lnTo>
                    <a:pt x="48" y="548"/>
                  </a:lnTo>
                  <a:lnTo>
                    <a:pt x="0" y="46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430" name=""/>
            <p:cNvSpPr/>
            <p:nvPr/>
          </p:nvSpPr>
          <p:spPr>
            <a:xfrm>
              <a:off x="7983000" y="5349960"/>
              <a:ext cx="254880" cy="276120"/>
            </a:xfrm>
            <a:custGeom>
              <a:avLst/>
              <a:gdLst/>
              <a:ahLst/>
              <a:rect l="l" t="t" r="r" b="b"/>
              <a:pathLst>
                <a:path w="3329" h="4141">
                  <a:moveTo>
                    <a:pt x="64" y="1229"/>
                  </a:moveTo>
                  <a:lnTo>
                    <a:pt x="103" y="1344"/>
                  </a:lnTo>
                  <a:lnTo>
                    <a:pt x="174" y="1418"/>
                  </a:lnTo>
                  <a:lnTo>
                    <a:pt x="271" y="1457"/>
                  </a:lnTo>
                  <a:lnTo>
                    <a:pt x="462" y="1480"/>
                  </a:lnTo>
                  <a:lnTo>
                    <a:pt x="618" y="1457"/>
                  </a:lnTo>
                  <a:lnTo>
                    <a:pt x="774" y="1395"/>
                  </a:lnTo>
                  <a:lnTo>
                    <a:pt x="521" y="1406"/>
                  </a:lnTo>
                  <a:lnTo>
                    <a:pt x="361" y="1367"/>
                  </a:lnTo>
                  <a:lnTo>
                    <a:pt x="271" y="1291"/>
                  </a:lnTo>
                  <a:lnTo>
                    <a:pt x="214" y="1199"/>
                  </a:lnTo>
                  <a:lnTo>
                    <a:pt x="361" y="1261"/>
                  </a:lnTo>
                  <a:lnTo>
                    <a:pt x="488" y="1280"/>
                  </a:lnTo>
                  <a:lnTo>
                    <a:pt x="679" y="1261"/>
                  </a:lnTo>
                  <a:lnTo>
                    <a:pt x="850" y="1206"/>
                  </a:lnTo>
                  <a:lnTo>
                    <a:pt x="1030" y="1081"/>
                  </a:lnTo>
                  <a:lnTo>
                    <a:pt x="926" y="1241"/>
                  </a:lnTo>
                  <a:lnTo>
                    <a:pt x="1104" y="1137"/>
                  </a:lnTo>
                  <a:lnTo>
                    <a:pt x="1263" y="1081"/>
                  </a:lnTo>
                  <a:lnTo>
                    <a:pt x="1413" y="1081"/>
                  </a:lnTo>
                  <a:lnTo>
                    <a:pt x="1572" y="1137"/>
                  </a:lnTo>
                  <a:lnTo>
                    <a:pt x="1401" y="1137"/>
                  </a:lnTo>
                  <a:lnTo>
                    <a:pt x="1275" y="1160"/>
                  </a:lnTo>
                  <a:lnTo>
                    <a:pt x="1168" y="1229"/>
                  </a:lnTo>
                  <a:lnTo>
                    <a:pt x="1327" y="1241"/>
                  </a:lnTo>
                  <a:lnTo>
                    <a:pt x="1539" y="1199"/>
                  </a:lnTo>
                  <a:lnTo>
                    <a:pt x="1685" y="1137"/>
                  </a:lnTo>
                  <a:lnTo>
                    <a:pt x="1611" y="1229"/>
                  </a:lnTo>
                  <a:lnTo>
                    <a:pt x="1389" y="1375"/>
                  </a:lnTo>
                  <a:lnTo>
                    <a:pt x="1203" y="1430"/>
                  </a:lnTo>
                  <a:lnTo>
                    <a:pt x="1039" y="1443"/>
                  </a:lnTo>
                  <a:lnTo>
                    <a:pt x="1113" y="1344"/>
                  </a:lnTo>
                  <a:lnTo>
                    <a:pt x="926" y="1367"/>
                  </a:lnTo>
                  <a:lnTo>
                    <a:pt x="745" y="1480"/>
                  </a:lnTo>
                  <a:lnTo>
                    <a:pt x="850" y="1517"/>
                  </a:lnTo>
                  <a:lnTo>
                    <a:pt x="754" y="1591"/>
                  </a:lnTo>
                  <a:lnTo>
                    <a:pt x="906" y="1591"/>
                  </a:lnTo>
                  <a:lnTo>
                    <a:pt x="1141" y="1526"/>
                  </a:lnTo>
                  <a:lnTo>
                    <a:pt x="1275" y="1465"/>
                  </a:lnTo>
                  <a:lnTo>
                    <a:pt x="1141" y="1639"/>
                  </a:lnTo>
                  <a:lnTo>
                    <a:pt x="1214" y="1702"/>
                  </a:lnTo>
                  <a:lnTo>
                    <a:pt x="1401" y="1711"/>
                  </a:lnTo>
                  <a:lnTo>
                    <a:pt x="1636" y="1687"/>
                  </a:lnTo>
                  <a:lnTo>
                    <a:pt x="1807" y="1711"/>
                  </a:lnTo>
                  <a:lnTo>
                    <a:pt x="1947" y="1784"/>
                  </a:lnTo>
                  <a:lnTo>
                    <a:pt x="2066" y="1905"/>
                  </a:lnTo>
                  <a:lnTo>
                    <a:pt x="2145" y="2019"/>
                  </a:lnTo>
                  <a:lnTo>
                    <a:pt x="1967" y="1905"/>
                  </a:lnTo>
                  <a:lnTo>
                    <a:pt x="2095" y="2045"/>
                  </a:lnTo>
                  <a:lnTo>
                    <a:pt x="2153" y="2215"/>
                  </a:lnTo>
                  <a:lnTo>
                    <a:pt x="2153" y="2379"/>
                  </a:lnTo>
                  <a:lnTo>
                    <a:pt x="2125" y="2511"/>
                  </a:lnTo>
                  <a:lnTo>
                    <a:pt x="2084" y="2340"/>
                  </a:lnTo>
                  <a:lnTo>
                    <a:pt x="2066" y="2599"/>
                  </a:lnTo>
                  <a:lnTo>
                    <a:pt x="2003" y="2817"/>
                  </a:lnTo>
                  <a:lnTo>
                    <a:pt x="2145" y="2573"/>
                  </a:lnTo>
                  <a:lnTo>
                    <a:pt x="2153" y="2698"/>
                  </a:lnTo>
                  <a:lnTo>
                    <a:pt x="2215" y="2502"/>
                  </a:lnTo>
                  <a:lnTo>
                    <a:pt x="2247" y="2315"/>
                  </a:lnTo>
                  <a:lnTo>
                    <a:pt x="2330" y="2416"/>
                  </a:lnTo>
                  <a:lnTo>
                    <a:pt x="2365" y="2259"/>
                  </a:lnTo>
                  <a:lnTo>
                    <a:pt x="2365" y="2085"/>
                  </a:lnTo>
                  <a:lnTo>
                    <a:pt x="2316" y="1978"/>
                  </a:lnTo>
                  <a:lnTo>
                    <a:pt x="2215" y="1824"/>
                  </a:lnTo>
                  <a:lnTo>
                    <a:pt x="2406" y="1942"/>
                  </a:lnTo>
                  <a:lnTo>
                    <a:pt x="2391" y="1817"/>
                  </a:lnTo>
                  <a:lnTo>
                    <a:pt x="2567" y="1944"/>
                  </a:lnTo>
                  <a:lnTo>
                    <a:pt x="2624" y="2109"/>
                  </a:lnTo>
                  <a:lnTo>
                    <a:pt x="2674" y="1920"/>
                  </a:lnTo>
                  <a:lnTo>
                    <a:pt x="2635" y="1711"/>
                  </a:lnTo>
                  <a:lnTo>
                    <a:pt x="2778" y="1839"/>
                  </a:lnTo>
                  <a:lnTo>
                    <a:pt x="2881" y="1874"/>
                  </a:lnTo>
                  <a:lnTo>
                    <a:pt x="2960" y="1748"/>
                  </a:lnTo>
                  <a:lnTo>
                    <a:pt x="3006" y="1540"/>
                  </a:lnTo>
                  <a:lnTo>
                    <a:pt x="3035" y="1663"/>
                  </a:lnTo>
                  <a:lnTo>
                    <a:pt x="3142" y="1526"/>
                  </a:lnTo>
                  <a:lnTo>
                    <a:pt x="3178" y="1344"/>
                  </a:lnTo>
                  <a:lnTo>
                    <a:pt x="3237" y="1206"/>
                  </a:lnTo>
                  <a:lnTo>
                    <a:pt x="3237" y="1045"/>
                  </a:lnTo>
                  <a:lnTo>
                    <a:pt x="3204" y="839"/>
                  </a:lnTo>
                  <a:lnTo>
                    <a:pt x="3112" y="581"/>
                  </a:lnTo>
                  <a:lnTo>
                    <a:pt x="2925" y="305"/>
                  </a:lnTo>
                  <a:lnTo>
                    <a:pt x="2669" y="72"/>
                  </a:lnTo>
                  <a:lnTo>
                    <a:pt x="2503" y="0"/>
                  </a:lnTo>
                  <a:lnTo>
                    <a:pt x="2778" y="109"/>
                  </a:lnTo>
                  <a:lnTo>
                    <a:pt x="3112" y="491"/>
                  </a:lnTo>
                  <a:lnTo>
                    <a:pt x="3266" y="867"/>
                  </a:lnTo>
                  <a:lnTo>
                    <a:pt x="3319" y="1241"/>
                  </a:lnTo>
                  <a:lnTo>
                    <a:pt x="3319" y="1591"/>
                  </a:lnTo>
                  <a:lnTo>
                    <a:pt x="3266" y="1893"/>
                  </a:lnTo>
                  <a:lnTo>
                    <a:pt x="3197" y="2121"/>
                  </a:lnTo>
                  <a:lnTo>
                    <a:pt x="3096" y="2315"/>
                  </a:lnTo>
                  <a:lnTo>
                    <a:pt x="2971" y="2502"/>
                  </a:lnTo>
                  <a:lnTo>
                    <a:pt x="2863" y="2599"/>
                  </a:lnTo>
                  <a:lnTo>
                    <a:pt x="2807" y="2713"/>
                  </a:lnTo>
                  <a:lnTo>
                    <a:pt x="2784" y="2817"/>
                  </a:lnTo>
                  <a:lnTo>
                    <a:pt x="2784" y="2928"/>
                  </a:lnTo>
                  <a:lnTo>
                    <a:pt x="2807" y="3050"/>
                  </a:lnTo>
                  <a:lnTo>
                    <a:pt x="2846" y="3120"/>
                  </a:lnTo>
                  <a:lnTo>
                    <a:pt x="3006" y="3124"/>
                  </a:lnTo>
                  <a:lnTo>
                    <a:pt x="3112" y="3256"/>
                  </a:lnTo>
                  <a:lnTo>
                    <a:pt x="3142" y="3428"/>
                  </a:lnTo>
                  <a:lnTo>
                    <a:pt x="3290" y="3562"/>
                  </a:lnTo>
                  <a:lnTo>
                    <a:pt x="3329" y="3663"/>
                  </a:lnTo>
                  <a:lnTo>
                    <a:pt x="3096" y="3670"/>
                  </a:lnTo>
                  <a:lnTo>
                    <a:pt x="2710" y="3812"/>
                  </a:lnTo>
                  <a:lnTo>
                    <a:pt x="2255" y="3981"/>
                  </a:lnTo>
                  <a:lnTo>
                    <a:pt x="1912" y="4141"/>
                  </a:lnTo>
                  <a:lnTo>
                    <a:pt x="2381" y="3894"/>
                  </a:lnTo>
                  <a:lnTo>
                    <a:pt x="2710" y="3733"/>
                  </a:lnTo>
                  <a:lnTo>
                    <a:pt x="2778" y="3663"/>
                  </a:lnTo>
                  <a:lnTo>
                    <a:pt x="2750" y="3491"/>
                  </a:lnTo>
                  <a:lnTo>
                    <a:pt x="2653" y="3327"/>
                  </a:lnTo>
                  <a:lnTo>
                    <a:pt x="2549" y="3256"/>
                  </a:lnTo>
                  <a:lnTo>
                    <a:pt x="2187" y="3352"/>
                  </a:lnTo>
                  <a:lnTo>
                    <a:pt x="1848" y="3537"/>
                  </a:lnTo>
                  <a:lnTo>
                    <a:pt x="1560" y="3830"/>
                  </a:lnTo>
                  <a:lnTo>
                    <a:pt x="1795" y="3537"/>
                  </a:lnTo>
                  <a:lnTo>
                    <a:pt x="2084" y="3289"/>
                  </a:lnTo>
                  <a:lnTo>
                    <a:pt x="1980" y="3111"/>
                  </a:lnTo>
                  <a:lnTo>
                    <a:pt x="1894" y="2949"/>
                  </a:lnTo>
                  <a:lnTo>
                    <a:pt x="1857" y="2778"/>
                  </a:lnTo>
                  <a:lnTo>
                    <a:pt x="1830" y="2573"/>
                  </a:lnTo>
                  <a:lnTo>
                    <a:pt x="1772" y="2722"/>
                  </a:lnTo>
                  <a:lnTo>
                    <a:pt x="1685" y="2873"/>
                  </a:lnTo>
                  <a:lnTo>
                    <a:pt x="1646" y="2979"/>
                  </a:lnTo>
                  <a:lnTo>
                    <a:pt x="1624" y="3094"/>
                  </a:lnTo>
                  <a:lnTo>
                    <a:pt x="1545" y="3168"/>
                  </a:lnTo>
                  <a:lnTo>
                    <a:pt x="1503" y="3181"/>
                  </a:lnTo>
                  <a:lnTo>
                    <a:pt x="1389" y="3181"/>
                  </a:lnTo>
                  <a:lnTo>
                    <a:pt x="1350" y="3181"/>
                  </a:lnTo>
                  <a:lnTo>
                    <a:pt x="1309" y="3054"/>
                  </a:lnTo>
                  <a:lnTo>
                    <a:pt x="1203" y="3050"/>
                  </a:lnTo>
                  <a:lnTo>
                    <a:pt x="1350" y="3034"/>
                  </a:lnTo>
                  <a:lnTo>
                    <a:pt x="1429" y="2972"/>
                  </a:lnTo>
                  <a:lnTo>
                    <a:pt x="1452" y="2893"/>
                  </a:lnTo>
                  <a:lnTo>
                    <a:pt x="1452" y="2817"/>
                  </a:lnTo>
                  <a:lnTo>
                    <a:pt x="1401" y="2748"/>
                  </a:lnTo>
                  <a:lnTo>
                    <a:pt x="1309" y="2722"/>
                  </a:lnTo>
                  <a:lnTo>
                    <a:pt x="1429" y="2733"/>
                  </a:lnTo>
                  <a:lnTo>
                    <a:pt x="1475" y="2760"/>
                  </a:lnTo>
                  <a:lnTo>
                    <a:pt x="1585" y="2698"/>
                  </a:lnTo>
                  <a:lnTo>
                    <a:pt x="1659" y="2573"/>
                  </a:lnTo>
                  <a:lnTo>
                    <a:pt x="1723" y="2416"/>
                  </a:lnTo>
                  <a:lnTo>
                    <a:pt x="1747" y="2259"/>
                  </a:lnTo>
                  <a:lnTo>
                    <a:pt x="1747" y="2133"/>
                  </a:lnTo>
                  <a:lnTo>
                    <a:pt x="1723" y="2019"/>
                  </a:lnTo>
                  <a:lnTo>
                    <a:pt x="1646" y="1920"/>
                  </a:lnTo>
                  <a:lnTo>
                    <a:pt x="1560" y="1874"/>
                  </a:lnTo>
                  <a:lnTo>
                    <a:pt x="1475" y="1874"/>
                  </a:lnTo>
                  <a:lnTo>
                    <a:pt x="1334" y="1891"/>
                  </a:lnTo>
                  <a:lnTo>
                    <a:pt x="1214" y="1858"/>
                  </a:lnTo>
                  <a:lnTo>
                    <a:pt x="1066" y="1784"/>
                  </a:lnTo>
                  <a:lnTo>
                    <a:pt x="976" y="1711"/>
                  </a:lnTo>
                  <a:lnTo>
                    <a:pt x="1090" y="1920"/>
                  </a:lnTo>
                  <a:lnTo>
                    <a:pt x="1182" y="2006"/>
                  </a:lnTo>
                  <a:lnTo>
                    <a:pt x="1327" y="2059"/>
                  </a:lnTo>
                  <a:lnTo>
                    <a:pt x="1182" y="2094"/>
                  </a:lnTo>
                  <a:lnTo>
                    <a:pt x="1077" y="2085"/>
                  </a:lnTo>
                  <a:lnTo>
                    <a:pt x="1113" y="2195"/>
                  </a:lnTo>
                  <a:lnTo>
                    <a:pt x="1168" y="2269"/>
                  </a:lnTo>
                  <a:lnTo>
                    <a:pt x="1228" y="2305"/>
                  </a:lnTo>
                  <a:lnTo>
                    <a:pt x="1113" y="2305"/>
                  </a:lnTo>
                  <a:lnTo>
                    <a:pt x="945" y="2305"/>
                  </a:lnTo>
                  <a:lnTo>
                    <a:pt x="844" y="2241"/>
                  </a:lnTo>
                  <a:lnTo>
                    <a:pt x="776" y="2144"/>
                  </a:lnTo>
                  <a:lnTo>
                    <a:pt x="774" y="2094"/>
                  </a:lnTo>
                  <a:lnTo>
                    <a:pt x="645" y="2038"/>
                  </a:lnTo>
                  <a:lnTo>
                    <a:pt x="548" y="1944"/>
                  </a:lnTo>
                  <a:lnTo>
                    <a:pt x="502" y="1824"/>
                  </a:lnTo>
                  <a:lnTo>
                    <a:pt x="470" y="1711"/>
                  </a:lnTo>
                  <a:lnTo>
                    <a:pt x="350" y="1678"/>
                  </a:lnTo>
                  <a:lnTo>
                    <a:pt x="299" y="1628"/>
                  </a:lnTo>
                  <a:lnTo>
                    <a:pt x="231" y="1566"/>
                  </a:lnTo>
                  <a:lnTo>
                    <a:pt x="121" y="1526"/>
                  </a:lnTo>
                  <a:lnTo>
                    <a:pt x="36" y="1443"/>
                  </a:lnTo>
                  <a:lnTo>
                    <a:pt x="0" y="1344"/>
                  </a:lnTo>
                  <a:lnTo>
                    <a:pt x="0" y="1261"/>
                  </a:lnTo>
                  <a:lnTo>
                    <a:pt x="64" y="1160"/>
                  </a:lnTo>
                  <a:lnTo>
                    <a:pt x="64" y="1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1" name=""/>
            <p:cNvSpPr/>
            <p:nvPr/>
          </p:nvSpPr>
          <p:spPr>
            <a:xfrm>
              <a:off x="8083080" y="5426640"/>
              <a:ext cx="80640" cy="33120"/>
            </a:xfrm>
            <a:custGeom>
              <a:avLst/>
              <a:gdLst/>
              <a:ahLst/>
              <a:rect l="l" t="t" r="r" b="b"/>
              <a:pathLst>
                <a:path w="1056" h="495">
                  <a:moveTo>
                    <a:pt x="41" y="274"/>
                  </a:moveTo>
                  <a:lnTo>
                    <a:pt x="166" y="286"/>
                  </a:lnTo>
                  <a:lnTo>
                    <a:pt x="327" y="251"/>
                  </a:lnTo>
                  <a:lnTo>
                    <a:pt x="438" y="177"/>
                  </a:lnTo>
                  <a:lnTo>
                    <a:pt x="560" y="80"/>
                  </a:lnTo>
                  <a:lnTo>
                    <a:pt x="650" y="0"/>
                  </a:lnTo>
                  <a:lnTo>
                    <a:pt x="585" y="136"/>
                  </a:lnTo>
                  <a:lnTo>
                    <a:pt x="477" y="262"/>
                  </a:lnTo>
                  <a:lnTo>
                    <a:pt x="658" y="200"/>
                  </a:lnTo>
                  <a:lnTo>
                    <a:pt x="800" y="200"/>
                  </a:lnTo>
                  <a:lnTo>
                    <a:pt x="922" y="231"/>
                  </a:lnTo>
                  <a:lnTo>
                    <a:pt x="996" y="313"/>
                  </a:lnTo>
                  <a:lnTo>
                    <a:pt x="1056" y="409"/>
                  </a:lnTo>
                  <a:lnTo>
                    <a:pt x="970" y="348"/>
                  </a:lnTo>
                  <a:lnTo>
                    <a:pt x="878" y="321"/>
                  </a:lnTo>
                  <a:lnTo>
                    <a:pt x="775" y="321"/>
                  </a:lnTo>
                  <a:lnTo>
                    <a:pt x="671" y="348"/>
                  </a:lnTo>
                  <a:lnTo>
                    <a:pt x="800" y="409"/>
                  </a:lnTo>
                  <a:lnTo>
                    <a:pt x="618" y="396"/>
                  </a:lnTo>
                  <a:lnTo>
                    <a:pt x="486" y="447"/>
                  </a:lnTo>
                  <a:lnTo>
                    <a:pt x="350" y="484"/>
                  </a:lnTo>
                  <a:lnTo>
                    <a:pt x="201" y="495"/>
                  </a:lnTo>
                  <a:lnTo>
                    <a:pt x="65" y="458"/>
                  </a:lnTo>
                  <a:lnTo>
                    <a:pt x="0" y="396"/>
                  </a:lnTo>
                  <a:lnTo>
                    <a:pt x="150" y="396"/>
                  </a:lnTo>
                  <a:lnTo>
                    <a:pt x="315" y="336"/>
                  </a:lnTo>
                  <a:lnTo>
                    <a:pt x="166" y="336"/>
                  </a:lnTo>
                  <a:lnTo>
                    <a:pt x="65" y="299"/>
                  </a:lnTo>
                  <a:lnTo>
                    <a:pt x="41" y="27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32" name=""/>
            <p:cNvSpPr/>
            <p:nvPr/>
          </p:nvSpPr>
          <p:spPr>
            <a:xfrm>
              <a:off x="8077680" y="5483520"/>
              <a:ext cx="29880" cy="40320"/>
            </a:xfrm>
            <a:custGeom>
              <a:avLst/>
              <a:gdLst/>
              <a:ahLst/>
              <a:rect l="l" t="t" r="r" b="b"/>
              <a:pathLst>
                <a:path w="387" h="613">
                  <a:moveTo>
                    <a:pt x="67" y="60"/>
                  </a:moveTo>
                  <a:lnTo>
                    <a:pt x="152" y="0"/>
                  </a:lnTo>
                  <a:lnTo>
                    <a:pt x="266" y="0"/>
                  </a:lnTo>
                  <a:lnTo>
                    <a:pt x="348" y="46"/>
                  </a:lnTo>
                  <a:lnTo>
                    <a:pt x="387" y="152"/>
                  </a:lnTo>
                  <a:lnTo>
                    <a:pt x="335" y="86"/>
                  </a:lnTo>
                  <a:lnTo>
                    <a:pt x="266" y="60"/>
                  </a:lnTo>
                  <a:lnTo>
                    <a:pt x="164" y="152"/>
                  </a:lnTo>
                  <a:lnTo>
                    <a:pt x="266" y="270"/>
                  </a:lnTo>
                  <a:lnTo>
                    <a:pt x="266" y="429"/>
                  </a:lnTo>
                  <a:lnTo>
                    <a:pt x="90" y="528"/>
                  </a:lnTo>
                  <a:lnTo>
                    <a:pt x="38" y="613"/>
                  </a:lnTo>
                  <a:lnTo>
                    <a:pt x="0" y="613"/>
                  </a:lnTo>
                  <a:lnTo>
                    <a:pt x="14" y="440"/>
                  </a:lnTo>
                  <a:lnTo>
                    <a:pt x="113" y="367"/>
                  </a:lnTo>
                  <a:lnTo>
                    <a:pt x="113" y="306"/>
                  </a:lnTo>
                  <a:lnTo>
                    <a:pt x="38" y="260"/>
                  </a:lnTo>
                  <a:lnTo>
                    <a:pt x="72" y="152"/>
                  </a:lnTo>
                  <a:lnTo>
                    <a:pt x="0" y="71"/>
                  </a:lnTo>
                  <a:lnTo>
                    <a:pt x="67" y="6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433" name=""/>
            <p:cNvSpPr/>
            <p:nvPr/>
          </p:nvSpPr>
          <p:spPr>
            <a:xfrm>
              <a:off x="8094960" y="5497560"/>
              <a:ext cx="12600" cy="28080"/>
            </a:xfrm>
            <a:custGeom>
              <a:avLst/>
              <a:gdLst/>
              <a:ahLst/>
              <a:rect l="l" t="t" r="r" b="b"/>
              <a:pathLst>
                <a:path w="165" h="424">
                  <a:moveTo>
                    <a:pt x="152" y="0"/>
                  </a:moveTo>
                  <a:lnTo>
                    <a:pt x="152" y="120"/>
                  </a:lnTo>
                  <a:lnTo>
                    <a:pt x="101" y="240"/>
                  </a:lnTo>
                  <a:lnTo>
                    <a:pt x="0" y="362"/>
                  </a:lnTo>
                  <a:lnTo>
                    <a:pt x="0" y="424"/>
                  </a:lnTo>
                  <a:lnTo>
                    <a:pt x="66" y="401"/>
                  </a:lnTo>
                  <a:lnTo>
                    <a:pt x="165" y="129"/>
                  </a:lnTo>
                  <a:lnTo>
                    <a:pt x="15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434" name=""/>
            <p:cNvSpPr/>
            <p:nvPr/>
          </p:nvSpPr>
          <p:spPr>
            <a:xfrm>
              <a:off x="7966080" y="5350680"/>
              <a:ext cx="174600" cy="82080"/>
            </a:xfrm>
            <a:custGeom>
              <a:avLst/>
              <a:gdLst/>
              <a:ahLst/>
              <a:rect l="l" t="t" r="r" b="b"/>
              <a:pathLst>
                <a:path w="2291" h="1231">
                  <a:moveTo>
                    <a:pt x="231" y="1231"/>
                  </a:moveTo>
                  <a:lnTo>
                    <a:pt x="124" y="1231"/>
                  </a:lnTo>
                  <a:lnTo>
                    <a:pt x="46" y="1170"/>
                  </a:lnTo>
                  <a:lnTo>
                    <a:pt x="0" y="1071"/>
                  </a:lnTo>
                  <a:lnTo>
                    <a:pt x="0" y="984"/>
                  </a:lnTo>
                  <a:lnTo>
                    <a:pt x="23" y="880"/>
                  </a:lnTo>
                  <a:lnTo>
                    <a:pt x="69" y="829"/>
                  </a:lnTo>
                  <a:lnTo>
                    <a:pt x="132" y="728"/>
                  </a:lnTo>
                  <a:lnTo>
                    <a:pt x="205" y="580"/>
                  </a:lnTo>
                  <a:lnTo>
                    <a:pt x="185" y="682"/>
                  </a:lnTo>
                  <a:lnTo>
                    <a:pt x="124" y="804"/>
                  </a:lnTo>
                  <a:lnTo>
                    <a:pt x="124" y="892"/>
                  </a:lnTo>
                  <a:lnTo>
                    <a:pt x="157" y="974"/>
                  </a:lnTo>
                  <a:lnTo>
                    <a:pt x="221" y="1035"/>
                  </a:lnTo>
                  <a:lnTo>
                    <a:pt x="221" y="912"/>
                  </a:lnTo>
                  <a:lnTo>
                    <a:pt x="304" y="937"/>
                  </a:lnTo>
                  <a:lnTo>
                    <a:pt x="284" y="840"/>
                  </a:lnTo>
                  <a:lnTo>
                    <a:pt x="295" y="728"/>
                  </a:lnTo>
                  <a:lnTo>
                    <a:pt x="352" y="668"/>
                  </a:lnTo>
                  <a:lnTo>
                    <a:pt x="405" y="596"/>
                  </a:lnTo>
                  <a:lnTo>
                    <a:pt x="462" y="513"/>
                  </a:lnTo>
                  <a:lnTo>
                    <a:pt x="521" y="456"/>
                  </a:lnTo>
                  <a:lnTo>
                    <a:pt x="631" y="414"/>
                  </a:lnTo>
                  <a:lnTo>
                    <a:pt x="779" y="380"/>
                  </a:lnTo>
                  <a:lnTo>
                    <a:pt x="950" y="286"/>
                  </a:lnTo>
                  <a:lnTo>
                    <a:pt x="1007" y="179"/>
                  </a:lnTo>
                  <a:lnTo>
                    <a:pt x="985" y="310"/>
                  </a:lnTo>
                  <a:lnTo>
                    <a:pt x="943" y="361"/>
                  </a:lnTo>
                  <a:lnTo>
                    <a:pt x="825" y="481"/>
                  </a:lnTo>
                  <a:lnTo>
                    <a:pt x="1005" y="396"/>
                  </a:lnTo>
                  <a:lnTo>
                    <a:pt x="1097" y="373"/>
                  </a:lnTo>
                  <a:lnTo>
                    <a:pt x="1176" y="276"/>
                  </a:lnTo>
                  <a:lnTo>
                    <a:pt x="1236" y="135"/>
                  </a:lnTo>
                  <a:lnTo>
                    <a:pt x="1236" y="225"/>
                  </a:lnTo>
                  <a:lnTo>
                    <a:pt x="1201" y="373"/>
                  </a:lnTo>
                  <a:lnTo>
                    <a:pt x="1372" y="246"/>
                  </a:lnTo>
                  <a:lnTo>
                    <a:pt x="1468" y="218"/>
                  </a:lnTo>
                  <a:lnTo>
                    <a:pt x="1581" y="232"/>
                  </a:lnTo>
                  <a:lnTo>
                    <a:pt x="1683" y="225"/>
                  </a:lnTo>
                  <a:lnTo>
                    <a:pt x="1776" y="179"/>
                  </a:lnTo>
                  <a:lnTo>
                    <a:pt x="1890" y="80"/>
                  </a:lnTo>
                  <a:lnTo>
                    <a:pt x="1978" y="51"/>
                  </a:lnTo>
                  <a:lnTo>
                    <a:pt x="2088" y="0"/>
                  </a:lnTo>
                  <a:lnTo>
                    <a:pt x="1941" y="87"/>
                  </a:lnTo>
                  <a:lnTo>
                    <a:pt x="2061" y="99"/>
                  </a:lnTo>
                  <a:lnTo>
                    <a:pt x="2291" y="51"/>
                  </a:lnTo>
                  <a:lnTo>
                    <a:pt x="2150" y="150"/>
                  </a:lnTo>
                  <a:lnTo>
                    <a:pt x="1994" y="200"/>
                  </a:lnTo>
                  <a:lnTo>
                    <a:pt x="1855" y="186"/>
                  </a:lnTo>
                  <a:lnTo>
                    <a:pt x="1776" y="225"/>
                  </a:lnTo>
                  <a:lnTo>
                    <a:pt x="1713" y="286"/>
                  </a:lnTo>
                  <a:lnTo>
                    <a:pt x="1683" y="361"/>
                  </a:lnTo>
                  <a:lnTo>
                    <a:pt x="1581" y="421"/>
                  </a:lnTo>
                  <a:lnTo>
                    <a:pt x="1434" y="451"/>
                  </a:lnTo>
                  <a:lnTo>
                    <a:pt x="1321" y="481"/>
                  </a:lnTo>
                  <a:lnTo>
                    <a:pt x="1247" y="571"/>
                  </a:lnTo>
                  <a:lnTo>
                    <a:pt x="1201" y="657"/>
                  </a:lnTo>
                  <a:lnTo>
                    <a:pt x="1183" y="717"/>
                  </a:lnTo>
                  <a:lnTo>
                    <a:pt x="1183" y="557"/>
                  </a:lnTo>
                  <a:lnTo>
                    <a:pt x="1207" y="475"/>
                  </a:lnTo>
                  <a:lnTo>
                    <a:pt x="1069" y="481"/>
                  </a:lnTo>
                  <a:lnTo>
                    <a:pt x="910" y="557"/>
                  </a:lnTo>
                  <a:lnTo>
                    <a:pt x="849" y="633"/>
                  </a:lnTo>
                  <a:lnTo>
                    <a:pt x="809" y="754"/>
                  </a:lnTo>
                  <a:lnTo>
                    <a:pt x="752" y="633"/>
                  </a:lnTo>
                  <a:lnTo>
                    <a:pt x="680" y="717"/>
                  </a:lnTo>
                  <a:lnTo>
                    <a:pt x="631" y="880"/>
                  </a:lnTo>
                  <a:lnTo>
                    <a:pt x="592" y="790"/>
                  </a:lnTo>
                  <a:lnTo>
                    <a:pt x="616" y="682"/>
                  </a:lnTo>
                  <a:lnTo>
                    <a:pt x="680" y="633"/>
                  </a:lnTo>
                  <a:lnTo>
                    <a:pt x="701" y="557"/>
                  </a:lnTo>
                  <a:lnTo>
                    <a:pt x="655" y="528"/>
                  </a:lnTo>
                  <a:lnTo>
                    <a:pt x="548" y="580"/>
                  </a:lnTo>
                  <a:lnTo>
                    <a:pt x="502" y="645"/>
                  </a:lnTo>
                  <a:lnTo>
                    <a:pt x="521" y="717"/>
                  </a:lnTo>
                  <a:lnTo>
                    <a:pt x="491" y="880"/>
                  </a:lnTo>
                  <a:lnTo>
                    <a:pt x="456" y="954"/>
                  </a:lnTo>
                  <a:lnTo>
                    <a:pt x="456" y="1025"/>
                  </a:lnTo>
                  <a:lnTo>
                    <a:pt x="456" y="1048"/>
                  </a:lnTo>
                  <a:lnTo>
                    <a:pt x="385" y="1000"/>
                  </a:lnTo>
                  <a:lnTo>
                    <a:pt x="387" y="1127"/>
                  </a:lnTo>
                  <a:lnTo>
                    <a:pt x="284" y="1048"/>
                  </a:lnTo>
                  <a:lnTo>
                    <a:pt x="284" y="1196"/>
                  </a:lnTo>
                  <a:lnTo>
                    <a:pt x="231" y="123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35" name=""/>
            <p:cNvSpPr/>
            <p:nvPr/>
          </p:nvSpPr>
          <p:spPr>
            <a:xfrm>
              <a:off x="7928640" y="5441400"/>
              <a:ext cx="16200" cy="18360"/>
            </a:xfrm>
            <a:custGeom>
              <a:avLst/>
              <a:gdLst/>
              <a:ahLst/>
              <a:rect l="l" t="t" r="r" b="b"/>
              <a:pathLst>
                <a:path w="217" h="276">
                  <a:moveTo>
                    <a:pt x="0" y="0"/>
                  </a:moveTo>
                  <a:lnTo>
                    <a:pt x="51" y="117"/>
                  </a:lnTo>
                  <a:lnTo>
                    <a:pt x="125" y="165"/>
                  </a:lnTo>
                  <a:lnTo>
                    <a:pt x="217" y="191"/>
                  </a:lnTo>
                  <a:lnTo>
                    <a:pt x="153" y="276"/>
                  </a:lnTo>
                  <a:lnTo>
                    <a:pt x="72" y="239"/>
                  </a:lnTo>
                  <a:lnTo>
                    <a:pt x="8" y="151"/>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36" name=""/>
            <p:cNvSpPr/>
            <p:nvPr/>
          </p:nvSpPr>
          <p:spPr>
            <a:xfrm>
              <a:off x="7929360" y="5326200"/>
              <a:ext cx="235800" cy="127440"/>
            </a:xfrm>
            <a:custGeom>
              <a:avLst/>
              <a:gdLst/>
              <a:ahLst/>
              <a:rect l="l" t="t" r="r" b="b"/>
              <a:pathLst>
                <a:path w="3089" h="1908">
                  <a:moveTo>
                    <a:pt x="267" y="1860"/>
                  </a:moveTo>
                  <a:lnTo>
                    <a:pt x="145" y="1812"/>
                  </a:lnTo>
                  <a:lnTo>
                    <a:pt x="55" y="1722"/>
                  </a:lnTo>
                  <a:lnTo>
                    <a:pt x="16" y="1584"/>
                  </a:lnTo>
                  <a:lnTo>
                    <a:pt x="0" y="1492"/>
                  </a:lnTo>
                  <a:lnTo>
                    <a:pt x="27" y="1429"/>
                  </a:lnTo>
                  <a:lnTo>
                    <a:pt x="78" y="1374"/>
                  </a:lnTo>
                  <a:lnTo>
                    <a:pt x="64" y="1302"/>
                  </a:lnTo>
                  <a:lnTo>
                    <a:pt x="87" y="1155"/>
                  </a:lnTo>
                  <a:lnTo>
                    <a:pt x="152" y="1058"/>
                  </a:lnTo>
                  <a:lnTo>
                    <a:pt x="249" y="985"/>
                  </a:lnTo>
                  <a:lnTo>
                    <a:pt x="359" y="936"/>
                  </a:lnTo>
                  <a:lnTo>
                    <a:pt x="420" y="846"/>
                  </a:lnTo>
                  <a:lnTo>
                    <a:pt x="523" y="745"/>
                  </a:lnTo>
                  <a:lnTo>
                    <a:pt x="609" y="738"/>
                  </a:lnTo>
                  <a:lnTo>
                    <a:pt x="514" y="800"/>
                  </a:lnTo>
                  <a:lnTo>
                    <a:pt x="460" y="860"/>
                  </a:lnTo>
                  <a:lnTo>
                    <a:pt x="460" y="886"/>
                  </a:lnTo>
                  <a:lnTo>
                    <a:pt x="560" y="860"/>
                  </a:lnTo>
                  <a:lnTo>
                    <a:pt x="671" y="745"/>
                  </a:lnTo>
                  <a:lnTo>
                    <a:pt x="733" y="641"/>
                  </a:lnTo>
                  <a:lnTo>
                    <a:pt x="816" y="489"/>
                  </a:lnTo>
                  <a:lnTo>
                    <a:pt x="922" y="416"/>
                  </a:lnTo>
                  <a:lnTo>
                    <a:pt x="1040" y="339"/>
                  </a:lnTo>
                  <a:lnTo>
                    <a:pt x="1196" y="319"/>
                  </a:lnTo>
                  <a:lnTo>
                    <a:pt x="1326" y="302"/>
                  </a:lnTo>
                  <a:lnTo>
                    <a:pt x="1387" y="293"/>
                  </a:lnTo>
                  <a:lnTo>
                    <a:pt x="1453" y="183"/>
                  </a:lnTo>
                  <a:lnTo>
                    <a:pt x="1546" y="106"/>
                  </a:lnTo>
                  <a:lnTo>
                    <a:pt x="1724" y="42"/>
                  </a:lnTo>
                  <a:lnTo>
                    <a:pt x="1862" y="62"/>
                  </a:lnTo>
                  <a:lnTo>
                    <a:pt x="1945" y="81"/>
                  </a:lnTo>
                  <a:lnTo>
                    <a:pt x="2058" y="0"/>
                  </a:lnTo>
                  <a:lnTo>
                    <a:pt x="2344" y="0"/>
                  </a:lnTo>
                  <a:lnTo>
                    <a:pt x="2526" y="27"/>
                  </a:lnTo>
                  <a:lnTo>
                    <a:pt x="2655" y="67"/>
                  </a:lnTo>
                  <a:lnTo>
                    <a:pt x="2734" y="132"/>
                  </a:lnTo>
                  <a:lnTo>
                    <a:pt x="2873" y="132"/>
                  </a:lnTo>
                  <a:lnTo>
                    <a:pt x="3013" y="196"/>
                  </a:lnTo>
                  <a:lnTo>
                    <a:pt x="3089" y="293"/>
                  </a:lnTo>
                  <a:lnTo>
                    <a:pt x="3013" y="231"/>
                  </a:lnTo>
                  <a:lnTo>
                    <a:pt x="2895" y="173"/>
                  </a:lnTo>
                  <a:lnTo>
                    <a:pt x="2774" y="183"/>
                  </a:lnTo>
                  <a:lnTo>
                    <a:pt x="2577" y="132"/>
                  </a:lnTo>
                  <a:lnTo>
                    <a:pt x="2367" y="132"/>
                  </a:lnTo>
                  <a:lnTo>
                    <a:pt x="2190" y="173"/>
                  </a:lnTo>
                  <a:lnTo>
                    <a:pt x="2017" y="245"/>
                  </a:lnTo>
                  <a:lnTo>
                    <a:pt x="1922" y="319"/>
                  </a:lnTo>
                  <a:lnTo>
                    <a:pt x="1862" y="330"/>
                  </a:lnTo>
                  <a:lnTo>
                    <a:pt x="1890" y="157"/>
                  </a:lnTo>
                  <a:lnTo>
                    <a:pt x="1763" y="132"/>
                  </a:lnTo>
                  <a:lnTo>
                    <a:pt x="1653" y="207"/>
                  </a:lnTo>
                  <a:lnTo>
                    <a:pt x="1592" y="330"/>
                  </a:lnTo>
                  <a:lnTo>
                    <a:pt x="1339" y="339"/>
                  </a:lnTo>
                  <a:lnTo>
                    <a:pt x="1093" y="416"/>
                  </a:lnTo>
                  <a:lnTo>
                    <a:pt x="882" y="583"/>
                  </a:lnTo>
                  <a:lnTo>
                    <a:pt x="772" y="779"/>
                  </a:lnTo>
                  <a:lnTo>
                    <a:pt x="647" y="860"/>
                  </a:lnTo>
                  <a:lnTo>
                    <a:pt x="477" y="936"/>
                  </a:lnTo>
                  <a:lnTo>
                    <a:pt x="317" y="985"/>
                  </a:lnTo>
                  <a:lnTo>
                    <a:pt x="227" y="1082"/>
                  </a:lnTo>
                  <a:lnTo>
                    <a:pt x="209" y="1245"/>
                  </a:lnTo>
                  <a:lnTo>
                    <a:pt x="267" y="1390"/>
                  </a:lnTo>
                  <a:lnTo>
                    <a:pt x="359" y="1471"/>
                  </a:lnTo>
                  <a:lnTo>
                    <a:pt x="460" y="1535"/>
                  </a:lnTo>
                  <a:lnTo>
                    <a:pt x="278" y="1499"/>
                  </a:lnTo>
                  <a:lnTo>
                    <a:pt x="145" y="1429"/>
                  </a:lnTo>
                  <a:lnTo>
                    <a:pt x="124" y="1554"/>
                  </a:lnTo>
                  <a:lnTo>
                    <a:pt x="209" y="1676"/>
                  </a:lnTo>
                  <a:lnTo>
                    <a:pt x="359" y="1730"/>
                  </a:lnTo>
                  <a:lnTo>
                    <a:pt x="477" y="1730"/>
                  </a:lnTo>
                  <a:lnTo>
                    <a:pt x="647" y="1710"/>
                  </a:lnTo>
                  <a:lnTo>
                    <a:pt x="574" y="1835"/>
                  </a:lnTo>
                  <a:lnTo>
                    <a:pt x="449" y="1908"/>
                  </a:lnTo>
                  <a:lnTo>
                    <a:pt x="267" y="1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7" name=""/>
            <p:cNvSpPr/>
            <p:nvPr/>
          </p:nvSpPr>
          <p:spPr>
            <a:xfrm>
              <a:off x="8110800" y="5531760"/>
              <a:ext cx="23760" cy="65160"/>
            </a:xfrm>
            <a:custGeom>
              <a:avLst/>
              <a:gdLst/>
              <a:ahLst/>
              <a:rect l="l" t="t" r="r" b="b"/>
              <a:pathLst>
                <a:path w="309" h="976">
                  <a:moveTo>
                    <a:pt x="186" y="0"/>
                  </a:moveTo>
                  <a:lnTo>
                    <a:pt x="186" y="187"/>
                  </a:lnTo>
                  <a:lnTo>
                    <a:pt x="147" y="459"/>
                  </a:lnTo>
                  <a:lnTo>
                    <a:pt x="101" y="666"/>
                  </a:lnTo>
                  <a:lnTo>
                    <a:pt x="0" y="976"/>
                  </a:lnTo>
                  <a:lnTo>
                    <a:pt x="136" y="831"/>
                  </a:lnTo>
                  <a:lnTo>
                    <a:pt x="241" y="605"/>
                  </a:lnTo>
                  <a:lnTo>
                    <a:pt x="288" y="446"/>
                  </a:lnTo>
                  <a:lnTo>
                    <a:pt x="309" y="296"/>
                  </a:lnTo>
                  <a:lnTo>
                    <a:pt x="18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38" name=""/>
            <p:cNvSpPr/>
            <p:nvPr/>
          </p:nvSpPr>
          <p:spPr>
            <a:xfrm>
              <a:off x="8011080" y="5706720"/>
              <a:ext cx="341640" cy="338760"/>
            </a:xfrm>
            <a:custGeom>
              <a:avLst/>
              <a:gdLst/>
              <a:ahLst/>
              <a:rect l="l" t="t" r="r" b="b"/>
              <a:pathLst>
                <a:path w="4469" h="5071">
                  <a:moveTo>
                    <a:pt x="4469" y="1452"/>
                  </a:moveTo>
                  <a:lnTo>
                    <a:pt x="3878" y="1759"/>
                  </a:lnTo>
                  <a:lnTo>
                    <a:pt x="3544" y="2040"/>
                  </a:lnTo>
                  <a:lnTo>
                    <a:pt x="3228" y="2346"/>
                  </a:lnTo>
                  <a:lnTo>
                    <a:pt x="2956" y="2784"/>
                  </a:lnTo>
                  <a:lnTo>
                    <a:pt x="2733" y="3276"/>
                  </a:lnTo>
                  <a:lnTo>
                    <a:pt x="2578" y="3865"/>
                  </a:lnTo>
                  <a:lnTo>
                    <a:pt x="2483" y="4482"/>
                  </a:lnTo>
                  <a:lnTo>
                    <a:pt x="2421" y="5071"/>
                  </a:lnTo>
                  <a:lnTo>
                    <a:pt x="0" y="5071"/>
                  </a:lnTo>
                  <a:lnTo>
                    <a:pt x="282" y="4821"/>
                  </a:lnTo>
                  <a:lnTo>
                    <a:pt x="499" y="4544"/>
                  </a:lnTo>
                  <a:lnTo>
                    <a:pt x="657" y="4297"/>
                  </a:lnTo>
                  <a:lnTo>
                    <a:pt x="900" y="4080"/>
                  </a:lnTo>
                  <a:lnTo>
                    <a:pt x="1182" y="3924"/>
                  </a:lnTo>
                  <a:lnTo>
                    <a:pt x="1525" y="3087"/>
                  </a:lnTo>
                  <a:lnTo>
                    <a:pt x="1089" y="3243"/>
                  </a:lnTo>
                  <a:lnTo>
                    <a:pt x="99" y="3801"/>
                  </a:lnTo>
                  <a:lnTo>
                    <a:pt x="900" y="3214"/>
                  </a:lnTo>
                  <a:lnTo>
                    <a:pt x="1525" y="2784"/>
                  </a:lnTo>
                  <a:lnTo>
                    <a:pt x="1835" y="2443"/>
                  </a:lnTo>
                  <a:lnTo>
                    <a:pt x="2055" y="2100"/>
                  </a:lnTo>
                  <a:lnTo>
                    <a:pt x="2209" y="1698"/>
                  </a:lnTo>
                  <a:lnTo>
                    <a:pt x="2306" y="1362"/>
                  </a:lnTo>
                  <a:lnTo>
                    <a:pt x="2145" y="894"/>
                  </a:lnTo>
                  <a:lnTo>
                    <a:pt x="1771" y="307"/>
                  </a:lnTo>
                  <a:lnTo>
                    <a:pt x="1459" y="0"/>
                  </a:lnTo>
                  <a:lnTo>
                    <a:pt x="1894" y="341"/>
                  </a:lnTo>
                  <a:lnTo>
                    <a:pt x="2306" y="894"/>
                  </a:lnTo>
                  <a:lnTo>
                    <a:pt x="2456" y="1298"/>
                  </a:lnTo>
                  <a:lnTo>
                    <a:pt x="2610" y="1698"/>
                  </a:lnTo>
                  <a:lnTo>
                    <a:pt x="2707" y="2135"/>
                  </a:lnTo>
                  <a:lnTo>
                    <a:pt x="3076" y="1913"/>
                  </a:lnTo>
                  <a:lnTo>
                    <a:pt x="2578" y="2346"/>
                  </a:lnTo>
                  <a:lnTo>
                    <a:pt x="2209" y="2784"/>
                  </a:lnTo>
                  <a:lnTo>
                    <a:pt x="2020" y="3119"/>
                  </a:lnTo>
                  <a:lnTo>
                    <a:pt x="1894" y="3463"/>
                  </a:lnTo>
                  <a:lnTo>
                    <a:pt x="1802" y="3801"/>
                  </a:lnTo>
                  <a:lnTo>
                    <a:pt x="1617" y="4177"/>
                  </a:lnTo>
                  <a:lnTo>
                    <a:pt x="1459" y="4423"/>
                  </a:lnTo>
                  <a:lnTo>
                    <a:pt x="1432" y="4669"/>
                  </a:lnTo>
                  <a:lnTo>
                    <a:pt x="1432" y="4857"/>
                  </a:lnTo>
                  <a:lnTo>
                    <a:pt x="1556" y="4509"/>
                  </a:lnTo>
                  <a:lnTo>
                    <a:pt x="1736" y="4177"/>
                  </a:lnTo>
                  <a:lnTo>
                    <a:pt x="1958" y="3865"/>
                  </a:lnTo>
                  <a:lnTo>
                    <a:pt x="2055" y="3619"/>
                  </a:lnTo>
                  <a:lnTo>
                    <a:pt x="2270" y="3340"/>
                  </a:lnTo>
                  <a:lnTo>
                    <a:pt x="2639" y="3054"/>
                  </a:lnTo>
                  <a:lnTo>
                    <a:pt x="2920" y="2658"/>
                  </a:lnTo>
                  <a:lnTo>
                    <a:pt x="3228" y="2226"/>
                  </a:lnTo>
                  <a:lnTo>
                    <a:pt x="3602" y="1883"/>
                  </a:lnTo>
                  <a:lnTo>
                    <a:pt x="3943" y="1637"/>
                  </a:lnTo>
                  <a:lnTo>
                    <a:pt x="4469" y="1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9" name=""/>
            <p:cNvSpPr/>
            <p:nvPr/>
          </p:nvSpPr>
          <p:spPr>
            <a:xfrm>
              <a:off x="7988040" y="5778720"/>
              <a:ext cx="134280" cy="142560"/>
            </a:xfrm>
            <a:custGeom>
              <a:avLst/>
              <a:gdLst/>
              <a:ahLst/>
              <a:rect l="l" t="t" r="r" b="b"/>
              <a:pathLst>
                <a:path w="1765" h="2135">
                  <a:moveTo>
                    <a:pt x="1710" y="0"/>
                  </a:moveTo>
                  <a:lnTo>
                    <a:pt x="1765" y="61"/>
                  </a:lnTo>
                  <a:lnTo>
                    <a:pt x="1425" y="744"/>
                  </a:lnTo>
                  <a:lnTo>
                    <a:pt x="994" y="1147"/>
                  </a:lnTo>
                  <a:lnTo>
                    <a:pt x="743" y="1579"/>
                  </a:lnTo>
                  <a:lnTo>
                    <a:pt x="0" y="2135"/>
                  </a:lnTo>
                  <a:lnTo>
                    <a:pt x="306" y="1482"/>
                  </a:lnTo>
                  <a:lnTo>
                    <a:pt x="1020" y="645"/>
                  </a:lnTo>
                  <a:lnTo>
                    <a:pt x="1579" y="248"/>
                  </a:lnTo>
                  <a:lnTo>
                    <a:pt x="17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0" name=""/>
            <p:cNvSpPr/>
            <p:nvPr/>
          </p:nvSpPr>
          <p:spPr>
            <a:xfrm>
              <a:off x="8248320" y="5599080"/>
              <a:ext cx="109080" cy="162720"/>
            </a:xfrm>
            <a:custGeom>
              <a:avLst/>
              <a:gdLst/>
              <a:ahLst/>
              <a:rect l="l" t="t" r="r" b="b"/>
              <a:pathLst>
                <a:path w="1430" h="2441">
                  <a:moveTo>
                    <a:pt x="0" y="0"/>
                  </a:moveTo>
                  <a:lnTo>
                    <a:pt x="374" y="373"/>
                  </a:lnTo>
                  <a:lnTo>
                    <a:pt x="745" y="929"/>
                  </a:lnTo>
                  <a:lnTo>
                    <a:pt x="1430" y="2441"/>
                  </a:lnTo>
                  <a:lnTo>
                    <a:pt x="718" y="961"/>
                  </a:lnTo>
                  <a:lnTo>
                    <a:pt x="347" y="40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1" name=""/>
            <p:cNvSpPr/>
            <p:nvPr/>
          </p:nvSpPr>
          <p:spPr>
            <a:xfrm>
              <a:off x="7945200" y="5628600"/>
              <a:ext cx="174600" cy="322560"/>
            </a:xfrm>
            <a:custGeom>
              <a:avLst/>
              <a:gdLst/>
              <a:ahLst/>
              <a:rect l="l" t="t" r="r" b="b"/>
              <a:pathLst>
                <a:path w="2285" h="4830">
                  <a:moveTo>
                    <a:pt x="2285" y="0"/>
                  </a:moveTo>
                  <a:lnTo>
                    <a:pt x="1736" y="296"/>
                  </a:lnTo>
                  <a:lnTo>
                    <a:pt x="1471" y="507"/>
                  </a:lnTo>
                  <a:lnTo>
                    <a:pt x="1198" y="646"/>
                  </a:lnTo>
                  <a:lnTo>
                    <a:pt x="862" y="1140"/>
                  </a:lnTo>
                  <a:lnTo>
                    <a:pt x="688" y="1755"/>
                  </a:lnTo>
                  <a:lnTo>
                    <a:pt x="620" y="2283"/>
                  </a:lnTo>
                  <a:lnTo>
                    <a:pt x="559" y="2690"/>
                  </a:lnTo>
                  <a:lnTo>
                    <a:pt x="446" y="3017"/>
                  </a:lnTo>
                  <a:lnTo>
                    <a:pt x="365" y="3412"/>
                  </a:lnTo>
                  <a:lnTo>
                    <a:pt x="286" y="3753"/>
                  </a:lnTo>
                  <a:lnTo>
                    <a:pt x="270" y="4021"/>
                  </a:lnTo>
                  <a:lnTo>
                    <a:pt x="224" y="4254"/>
                  </a:lnTo>
                  <a:lnTo>
                    <a:pt x="207" y="4383"/>
                  </a:lnTo>
                  <a:lnTo>
                    <a:pt x="132" y="4577"/>
                  </a:lnTo>
                  <a:lnTo>
                    <a:pt x="0" y="4830"/>
                  </a:lnTo>
                  <a:lnTo>
                    <a:pt x="240" y="4421"/>
                  </a:lnTo>
                  <a:lnTo>
                    <a:pt x="381" y="4104"/>
                  </a:lnTo>
                  <a:lnTo>
                    <a:pt x="574" y="3689"/>
                  </a:lnTo>
                  <a:lnTo>
                    <a:pt x="688" y="3368"/>
                  </a:lnTo>
                  <a:lnTo>
                    <a:pt x="780" y="2986"/>
                  </a:lnTo>
                  <a:lnTo>
                    <a:pt x="826" y="2430"/>
                  </a:lnTo>
                  <a:lnTo>
                    <a:pt x="766" y="3006"/>
                  </a:lnTo>
                  <a:lnTo>
                    <a:pt x="574" y="3592"/>
                  </a:lnTo>
                  <a:lnTo>
                    <a:pt x="305" y="4083"/>
                  </a:lnTo>
                  <a:lnTo>
                    <a:pt x="365" y="3592"/>
                  </a:lnTo>
                  <a:lnTo>
                    <a:pt x="497" y="3006"/>
                  </a:lnTo>
                  <a:lnTo>
                    <a:pt x="607" y="2718"/>
                  </a:lnTo>
                  <a:lnTo>
                    <a:pt x="730" y="1920"/>
                  </a:lnTo>
                  <a:lnTo>
                    <a:pt x="862" y="1377"/>
                  </a:lnTo>
                  <a:lnTo>
                    <a:pt x="1022" y="973"/>
                  </a:lnTo>
                  <a:lnTo>
                    <a:pt x="1229" y="692"/>
                  </a:lnTo>
                  <a:lnTo>
                    <a:pt x="1532" y="523"/>
                  </a:lnTo>
                  <a:lnTo>
                    <a:pt x="1833" y="268"/>
                  </a:lnTo>
                  <a:lnTo>
                    <a:pt x="2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2" name=""/>
            <p:cNvSpPr/>
            <p:nvPr/>
          </p:nvSpPr>
          <p:spPr>
            <a:xfrm>
              <a:off x="7701120" y="5851800"/>
              <a:ext cx="279000" cy="194760"/>
            </a:xfrm>
            <a:custGeom>
              <a:avLst/>
              <a:gdLst/>
              <a:ahLst/>
              <a:rect l="l" t="t" r="r" b="b"/>
              <a:pathLst>
                <a:path w="3654" h="2924">
                  <a:moveTo>
                    <a:pt x="3236" y="1418"/>
                  </a:moveTo>
                  <a:lnTo>
                    <a:pt x="3179" y="1729"/>
                  </a:lnTo>
                  <a:lnTo>
                    <a:pt x="3291" y="2195"/>
                  </a:lnTo>
                  <a:lnTo>
                    <a:pt x="3543" y="2562"/>
                  </a:lnTo>
                  <a:lnTo>
                    <a:pt x="3654" y="2845"/>
                  </a:lnTo>
                  <a:lnTo>
                    <a:pt x="3432" y="2654"/>
                  </a:lnTo>
                  <a:lnTo>
                    <a:pt x="3261" y="2237"/>
                  </a:lnTo>
                  <a:lnTo>
                    <a:pt x="3192" y="1925"/>
                  </a:lnTo>
                  <a:lnTo>
                    <a:pt x="2796" y="2272"/>
                  </a:lnTo>
                  <a:lnTo>
                    <a:pt x="2796" y="2592"/>
                  </a:lnTo>
                  <a:lnTo>
                    <a:pt x="3015" y="2924"/>
                  </a:lnTo>
                  <a:lnTo>
                    <a:pt x="2777" y="2668"/>
                  </a:lnTo>
                  <a:lnTo>
                    <a:pt x="2715" y="2527"/>
                  </a:lnTo>
                  <a:lnTo>
                    <a:pt x="2683" y="2356"/>
                  </a:lnTo>
                  <a:lnTo>
                    <a:pt x="2683" y="2237"/>
                  </a:lnTo>
                  <a:lnTo>
                    <a:pt x="2733" y="2114"/>
                  </a:lnTo>
                  <a:lnTo>
                    <a:pt x="2937" y="1815"/>
                  </a:lnTo>
                  <a:lnTo>
                    <a:pt x="2983" y="1775"/>
                  </a:lnTo>
                  <a:lnTo>
                    <a:pt x="3131" y="1753"/>
                  </a:lnTo>
                  <a:lnTo>
                    <a:pt x="3131" y="1683"/>
                  </a:lnTo>
                  <a:lnTo>
                    <a:pt x="2904" y="1608"/>
                  </a:lnTo>
                  <a:lnTo>
                    <a:pt x="2808" y="1619"/>
                  </a:lnTo>
                  <a:lnTo>
                    <a:pt x="2427" y="2068"/>
                  </a:lnTo>
                  <a:lnTo>
                    <a:pt x="2505" y="1826"/>
                  </a:lnTo>
                  <a:lnTo>
                    <a:pt x="2268" y="1826"/>
                  </a:lnTo>
                  <a:lnTo>
                    <a:pt x="1579" y="2045"/>
                  </a:lnTo>
                  <a:lnTo>
                    <a:pt x="1401" y="2356"/>
                  </a:lnTo>
                  <a:lnTo>
                    <a:pt x="1309" y="2578"/>
                  </a:lnTo>
                  <a:lnTo>
                    <a:pt x="1296" y="2832"/>
                  </a:lnTo>
                  <a:lnTo>
                    <a:pt x="1265" y="2608"/>
                  </a:lnTo>
                  <a:lnTo>
                    <a:pt x="1276" y="2452"/>
                  </a:lnTo>
                  <a:lnTo>
                    <a:pt x="1447" y="2015"/>
                  </a:lnTo>
                  <a:lnTo>
                    <a:pt x="1039" y="1889"/>
                  </a:lnTo>
                  <a:lnTo>
                    <a:pt x="797" y="1859"/>
                  </a:lnTo>
                  <a:lnTo>
                    <a:pt x="493" y="1909"/>
                  </a:lnTo>
                  <a:lnTo>
                    <a:pt x="219" y="1925"/>
                  </a:lnTo>
                  <a:lnTo>
                    <a:pt x="0" y="1874"/>
                  </a:lnTo>
                  <a:lnTo>
                    <a:pt x="255" y="1889"/>
                  </a:lnTo>
                  <a:lnTo>
                    <a:pt x="529" y="1859"/>
                  </a:lnTo>
                  <a:lnTo>
                    <a:pt x="828" y="1799"/>
                  </a:lnTo>
                  <a:lnTo>
                    <a:pt x="973" y="1775"/>
                  </a:lnTo>
                  <a:lnTo>
                    <a:pt x="1199" y="1826"/>
                  </a:lnTo>
                  <a:lnTo>
                    <a:pt x="1436" y="1826"/>
                  </a:lnTo>
                  <a:lnTo>
                    <a:pt x="1639" y="1753"/>
                  </a:lnTo>
                  <a:lnTo>
                    <a:pt x="1821" y="1619"/>
                  </a:lnTo>
                  <a:lnTo>
                    <a:pt x="1982" y="1481"/>
                  </a:lnTo>
                  <a:lnTo>
                    <a:pt x="2091" y="1367"/>
                  </a:lnTo>
                  <a:lnTo>
                    <a:pt x="2224" y="1176"/>
                  </a:lnTo>
                  <a:lnTo>
                    <a:pt x="2224" y="1257"/>
                  </a:lnTo>
                  <a:lnTo>
                    <a:pt x="2634" y="1107"/>
                  </a:lnTo>
                  <a:lnTo>
                    <a:pt x="2591" y="955"/>
                  </a:lnTo>
                  <a:lnTo>
                    <a:pt x="2476" y="777"/>
                  </a:lnTo>
                  <a:lnTo>
                    <a:pt x="2314" y="648"/>
                  </a:lnTo>
                  <a:lnTo>
                    <a:pt x="2188" y="648"/>
                  </a:lnTo>
                  <a:lnTo>
                    <a:pt x="2268" y="527"/>
                  </a:lnTo>
                  <a:lnTo>
                    <a:pt x="2556" y="393"/>
                  </a:lnTo>
                  <a:lnTo>
                    <a:pt x="2746" y="316"/>
                  </a:lnTo>
                  <a:lnTo>
                    <a:pt x="2983" y="141"/>
                  </a:lnTo>
                  <a:lnTo>
                    <a:pt x="3131" y="30"/>
                  </a:lnTo>
                  <a:lnTo>
                    <a:pt x="3592" y="0"/>
                  </a:lnTo>
                  <a:lnTo>
                    <a:pt x="3573" y="30"/>
                  </a:lnTo>
                  <a:lnTo>
                    <a:pt x="3140" y="74"/>
                  </a:lnTo>
                  <a:lnTo>
                    <a:pt x="2886" y="316"/>
                  </a:lnTo>
                  <a:lnTo>
                    <a:pt x="2591" y="461"/>
                  </a:lnTo>
                  <a:lnTo>
                    <a:pt x="2492" y="478"/>
                  </a:lnTo>
                  <a:lnTo>
                    <a:pt x="2314" y="558"/>
                  </a:lnTo>
                  <a:lnTo>
                    <a:pt x="2476" y="635"/>
                  </a:lnTo>
                  <a:lnTo>
                    <a:pt x="2634" y="777"/>
                  </a:lnTo>
                  <a:lnTo>
                    <a:pt x="2733" y="916"/>
                  </a:lnTo>
                  <a:lnTo>
                    <a:pt x="2796" y="1107"/>
                  </a:lnTo>
                  <a:lnTo>
                    <a:pt x="2832" y="1386"/>
                  </a:lnTo>
                  <a:lnTo>
                    <a:pt x="3370" y="1176"/>
                  </a:lnTo>
                  <a:lnTo>
                    <a:pt x="3236" y="1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3" name=""/>
            <p:cNvSpPr/>
            <p:nvPr/>
          </p:nvSpPr>
          <p:spPr>
            <a:xfrm>
              <a:off x="7421760" y="5421600"/>
              <a:ext cx="46800" cy="76680"/>
            </a:xfrm>
            <a:custGeom>
              <a:avLst/>
              <a:gdLst/>
              <a:ahLst/>
              <a:rect l="l" t="t" r="r" b="b"/>
              <a:pathLst>
                <a:path w="620" h="1156">
                  <a:moveTo>
                    <a:pt x="519" y="950"/>
                  </a:moveTo>
                  <a:lnTo>
                    <a:pt x="620" y="971"/>
                  </a:lnTo>
                  <a:lnTo>
                    <a:pt x="620" y="1059"/>
                  </a:lnTo>
                  <a:lnTo>
                    <a:pt x="547" y="1088"/>
                  </a:lnTo>
                  <a:lnTo>
                    <a:pt x="341" y="1098"/>
                  </a:lnTo>
                  <a:lnTo>
                    <a:pt x="242" y="1059"/>
                  </a:lnTo>
                  <a:lnTo>
                    <a:pt x="169" y="1075"/>
                  </a:lnTo>
                  <a:lnTo>
                    <a:pt x="0" y="1156"/>
                  </a:lnTo>
                  <a:lnTo>
                    <a:pt x="116" y="1015"/>
                  </a:lnTo>
                  <a:lnTo>
                    <a:pt x="305" y="909"/>
                  </a:lnTo>
                  <a:lnTo>
                    <a:pt x="429" y="978"/>
                  </a:lnTo>
                  <a:lnTo>
                    <a:pt x="464" y="964"/>
                  </a:lnTo>
                  <a:lnTo>
                    <a:pt x="452" y="782"/>
                  </a:lnTo>
                  <a:lnTo>
                    <a:pt x="429" y="540"/>
                  </a:lnTo>
                  <a:lnTo>
                    <a:pt x="393" y="293"/>
                  </a:lnTo>
                  <a:lnTo>
                    <a:pt x="305" y="24"/>
                  </a:lnTo>
                  <a:lnTo>
                    <a:pt x="351" y="0"/>
                  </a:lnTo>
                  <a:lnTo>
                    <a:pt x="413" y="202"/>
                  </a:lnTo>
                  <a:lnTo>
                    <a:pt x="464" y="540"/>
                  </a:lnTo>
                  <a:lnTo>
                    <a:pt x="489" y="941"/>
                  </a:lnTo>
                  <a:lnTo>
                    <a:pt x="519" y="95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444" name=""/>
            <p:cNvSpPr/>
            <p:nvPr/>
          </p:nvSpPr>
          <p:spPr>
            <a:xfrm>
              <a:off x="7429320" y="5494320"/>
              <a:ext cx="23040" cy="34920"/>
            </a:xfrm>
            <a:custGeom>
              <a:avLst/>
              <a:gdLst/>
              <a:ahLst/>
              <a:rect l="l" t="t" r="r" b="b"/>
              <a:pathLst>
                <a:path w="298" h="529">
                  <a:moveTo>
                    <a:pt x="298" y="0"/>
                  </a:moveTo>
                  <a:lnTo>
                    <a:pt x="263" y="99"/>
                  </a:lnTo>
                  <a:lnTo>
                    <a:pt x="37" y="169"/>
                  </a:lnTo>
                  <a:lnTo>
                    <a:pt x="77" y="266"/>
                  </a:lnTo>
                  <a:lnTo>
                    <a:pt x="167" y="344"/>
                  </a:lnTo>
                  <a:lnTo>
                    <a:pt x="0" y="494"/>
                  </a:lnTo>
                  <a:lnTo>
                    <a:pt x="7" y="529"/>
                  </a:lnTo>
                  <a:lnTo>
                    <a:pt x="107" y="501"/>
                  </a:lnTo>
                  <a:lnTo>
                    <a:pt x="206" y="400"/>
                  </a:lnTo>
                  <a:lnTo>
                    <a:pt x="206" y="330"/>
                  </a:lnTo>
                  <a:lnTo>
                    <a:pt x="99" y="213"/>
                  </a:lnTo>
                  <a:lnTo>
                    <a:pt x="198" y="160"/>
                  </a:lnTo>
                  <a:lnTo>
                    <a:pt x="173" y="213"/>
                  </a:lnTo>
                  <a:lnTo>
                    <a:pt x="263" y="160"/>
                  </a:lnTo>
                  <a:lnTo>
                    <a:pt x="294" y="83"/>
                  </a:lnTo>
                  <a:lnTo>
                    <a:pt x="298"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45" name=""/>
            <p:cNvSpPr/>
            <p:nvPr/>
          </p:nvSpPr>
          <p:spPr>
            <a:xfrm>
              <a:off x="7421400" y="5495040"/>
              <a:ext cx="54720" cy="77760"/>
            </a:xfrm>
            <a:custGeom>
              <a:avLst/>
              <a:gdLst/>
              <a:ahLst/>
              <a:rect l="l" t="t" r="r" b="b"/>
              <a:pathLst>
                <a:path w="721" h="1164">
                  <a:moveTo>
                    <a:pt x="433" y="0"/>
                  </a:moveTo>
                  <a:lnTo>
                    <a:pt x="440" y="73"/>
                  </a:lnTo>
                  <a:lnTo>
                    <a:pt x="721" y="779"/>
                  </a:lnTo>
                  <a:lnTo>
                    <a:pt x="679" y="846"/>
                  </a:lnTo>
                  <a:lnTo>
                    <a:pt x="599" y="878"/>
                  </a:lnTo>
                  <a:lnTo>
                    <a:pt x="373" y="864"/>
                  </a:lnTo>
                  <a:lnTo>
                    <a:pt x="295" y="899"/>
                  </a:lnTo>
                  <a:lnTo>
                    <a:pt x="242" y="1095"/>
                  </a:lnTo>
                  <a:lnTo>
                    <a:pt x="0" y="1164"/>
                  </a:lnTo>
                  <a:lnTo>
                    <a:pt x="11" y="1084"/>
                  </a:lnTo>
                  <a:lnTo>
                    <a:pt x="76" y="1095"/>
                  </a:lnTo>
                  <a:lnTo>
                    <a:pt x="217" y="1065"/>
                  </a:lnTo>
                  <a:lnTo>
                    <a:pt x="265" y="882"/>
                  </a:lnTo>
                  <a:lnTo>
                    <a:pt x="202" y="832"/>
                  </a:lnTo>
                  <a:lnTo>
                    <a:pt x="217" y="814"/>
                  </a:lnTo>
                  <a:lnTo>
                    <a:pt x="362" y="779"/>
                  </a:lnTo>
                  <a:lnTo>
                    <a:pt x="518" y="814"/>
                  </a:lnTo>
                  <a:lnTo>
                    <a:pt x="606" y="802"/>
                  </a:lnTo>
                  <a:lnTo>
                    <a:pt x="679" y="756"/>
                  </a:lnTo>
                  <a:lnTo>
                    <a:pt x="449" y="194"/>
                  </a:lnTo>
                  <a:lnTo>
                    <a:pt x="373" y="97"/>
                  </a:lnTo>
                  <a:lnTo>
                    <a:pt x="43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46" name=""/>
            <p:cNvSpPr/>
            <p:nvPr/>
          </p:nvSpPr>
          <p:spPr>
            <a:xfrm>
              <a:off x="7414560" y="5533920"/>
              <a:ext cx="25560" cy="52200"/>
            </a:xfrm>
            <a:custGeom>
              <a:avLst/>
              <a:gdLst/>
              <a:ahLst/>
              <a:rect l="l" t="t" r="r" b="b"/>
              <a:pathLst>
                <a:path w="339" h="788">
                  <a:moveTo>
                    <a:pt x="339" y="0"/>
                  </a:moveTo>
                  <a:lnTo>
                    <a:pt x="319" y="120"/>
                  </a:lnTo>
                  <a:lnTo>
                    <a:pt x="288" y="209"/>
                  </a:lnTo>
                  <a:lnTo>
                    <a:pt x="233" y="283"/>
                  </a:lnTo>
                  <a:lnTo>
                    <a:pt x="152" y="382"/>
                  </a:lnTo>
                  <a:lnTo>
                    <a:pt x="97" y="428"/>
                  </a:lnTo>
                  <a:lnTo>
                    <a:pt x="72" y="391"/>
                  </a:lnTo>
                  <a:lnTo>
                    <a:pt x="42" y="583"/>
                  </a:lnTo>
                  <a:lnTo>
                    <a:pt x="0" y="788"/>
                  </a:lnTo>
                  <a:lnTo>
                    <a:pt x="97" y="599"/>
                  </a:lnTo>
                  <a:lnTo>
                    <a:pt x="127" y="463"/>
                  </a:lnTo>
                  <a:lnTo>
                    <a:pt x="266" y="329"/>
                  </a:lnTo>
                  <a:lnTo>
                    <a:pt x="319" y="221"/>
                  </a:lnTo>
                  <a:lnTo>
                    <a:pt x="339" y="101"/>
                  </a:lnTo>
                  <a:lnTo>
                    <a:pt x="33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47" name=""/>
            <p:cNvSpPr/>
            <p:nvPr/>
          </p:nvSpPr>
          <p:spPr>
            <a:xfrm>
              <a:off x="7419960" y="5570280"/>
              <a:ext cx="16200" cy="9000"/>
            </a:xfrm>
            <a:custGeom>
              <a:avLst/>
              <a:gdLst/>
              <a:ahLst/>
              <a:rect l="l" t="t" r="r" b="b"/>
              <a:pathLst>
                <a:path w="216" h="137">
                  <a:moveTo>
                    <a:pt x="49" y="0"/>
                  </a:moveTo>
                  <a:lnTo>
                    <a:pt x="216" y="117"/>
                  </a:lnTo>
                  <a:lnTo>
                    <a:pt x="216" y="137"/>
                  </a:lnTo>
                  <a:lnTo>
                    <a:pt x="0" y="61"/>
                  </a:lnTo>
                  <a:lnTo>
                    <a:pt x="0" y="6"/>
                  </a:lnTo>
                  <a:lnTo>
                    <a:pt x="4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48" name=""/>
            <p:cNvSpPr/>
            <p:nvPr/>
          </p:nvSpPr>
          <p:spPr>
            <a:xfrm>
              <a:off x="7425000" y="5587920"/>
              <a:ext cx="11880" cy="9000"/>
            </a:xfrm>
            <a:custGeom>
              <a:avLst/>
              <a:gdLst/>
              <a:ahLst/>
              <a:rect l="l" t="t" r="r" b="b"/>
              <a:pathLst>
                <a:path w="159" h="136">
                  <a:moveTo>
                    <a:pt x="152" y="0"/>
                  </a:moveTo>
                  <a:lnTo>
                    <a:pt x="0" y="31"/>
                  </a:lnTo>
                  <a:lnTo>
                    <a:pt x="0" y="97"/>
                  </a:lnTo>
                  <a:lnTo>
                    <a:pt x="67" y="136"/>
                  </a:lnTo>
                  <a:lnTo>
                    <a:pt x="159" y="31"/>
                  </a:lnTo>
                  <a:lnTo>
                    <a:pt x="1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49" name=""/>
            <p:cNvSpPr/>
            <p:nvPr/>
          </p:nvSpPr>
          <p:spPr>
            <a:xfrm>
              <a:off x="7179840" y="5509800"/>
              <a:ext cx="249120" cy="125640"/>
            </a:xfrm>
            <a:custGeom>
              <a:avLst/>
              <a:gdLst/>
              <a:ahLst/>
              <a:rect l="l" t="t" r="r" b="b"/>
              <a:pathLst>
                <a:path w="3264" h="1881">
                  <a:moveTo>
                    <a:pt x="3264" y="1419"/>
                  </a:moveTo>
                  <a:lnTo>
                    <a:pt x="3264" y="1489"/>
                  </a:lnTo>
                  <a:lnTo>
                    <a:pt x="3204" y="1586"/>
                  </a:lnTo>
                  <a:lnTo>
                    <a:pt x="3082" y="1626"/>
                  </a:lnTo>
                  <a:lnTo>
                    <a:pt x="2943" y="1617"/>
                  </a:lnTo>
                  <a:lnTo>
                    <a:pt x="2679" y="1593"/>
                  </a:lnTo>
                  <a:lnTo>
                    <a:pt x="2515" y="1617"/>
                  </a:lnTo>
                  <a:lnTo>
                    <a:pt x="2400" y="1687"/>
                  </a:lnTo>
                  <a:lnTo>
                    <a:pt x="2646" y="1881"/>
                  </a:lnTo>
                  <a:lnTo>
                    <a:pt x="2086" y="1531"/>
                  </a:lnTo>
                  <a:lnTo>
                    <a:pt x="1563" y="1226"/>
                  </a:lnTo>
                  <a:lnTo>
                    <a:pt x="1058" y="920"/>
                  </a:lnTo>
                  <a:lnTo>
                    <a:pt x="602" y="775"/>
                  </a:lnTo>
                  <a:lnTo>
                    <a:pt x="390" y="718"/>
                  </a:lnTo>
                  <a:lnTo>
                    <a:pt x="752" y="800"/>
                  </a:lnTo>
                  <a:lnTo>
                    <a:pt x="1183" y="920"/>
                  </a:lnTo>
                  <a:lnTo>
                    <a:pt x="1533" y="1139"/>
                  </a:lnTo>
                  <a:lnTo>
                    <a:pt x="1381" y="839"/>
                  </a:lnTo>
                  <a:lnTo>
                    <a:pt x="1067" y="593"/>
                  </a:lnTo>
                  <a:lnTo>
                    <a:pt x="655" y="410"/>
                  </a:lnTo>
                  <a:lnTo>
                    <a:pt x="231" y="316"/>
                  </a:lnTo>
                  <a:lnTo>
                    <a:pt x="0" y="551"/>
                  </a:lnTo>
                  <a:lnTo>
                    <a:pt x="196" y="270"/>
                  </a:lnTo>
                  <a:lnTo>
                    <a:pt x="602" y="351"/>
                  </a:lnTo>
                  <a:lnTo>
                    <a:pt x="1026" y="496"/>
                  </a:lnTo>
                  <a:lnTo>
                    <a:pt x="1446" y="751"/>
                  </a:lnTo>
                  <a:lnTo>
                    <a:pt x="1734" y="1012"/>
                  </a:lnTo>
                  <a:lnTo>
                    <a:pt x="1957" y="1270"/>
                  </a:lnTo>
                  <a:lnTo>
                    <a:pt x="1673" y="775"/>
                  </a:lnTo>
                  <a:lnTo>
                    <a:pt x="1914" y="1067"/>
                  </a:lnTo>
                  <a:lnTo>
                    <a:pt x="1914" y="839"/>
                  </a:lnTo>
                  <a:lnTo>
                    <a:pt x="1807" y="661"/>
                  </a:lnTo>
                  <a:lnTo>
                    <a:pt x="1807" y="551"/>
                  </a:lnTo>
                  <a:lnTo>
                    <a:pt x="1673" y="399"/>
                  </a:lnTo>
                  <a:lnTo>
                    <a:pt x="1600" y="242"/>
                  </a:lnTo>
                  <a:lnTo>
                    <a:pt x="1543" y="53"/>
                  </a:lnTo>
                  <a:lnTo>
                    <a:pt x="1591" y="0"/>
                  </a:lnTo>
                  <a:lnTo>
                    <a:pt x="1607" y="138"/>
                  </a:lnTo>
                  <a:lnTo>
                    <a:pt x="1683" y="316"/>
                  </a:lnTo>
                  <a:lnTo>
                    <a:pt x="1778" y="424"/>
                  </a:lnTo>
                  <a:lnTo>
                    <a:pt x="1866" y="535"/>
                  </a:lnTo>
                  <a:lnTo>
                    <a:pt x="1914" y="558"/>
                  </a:lnTo>
                  <a:lnTo>
                    <a:pt x="1987" y="551"/>
                  </a:lnTo>
                  <a:lnTo>
                    <a:pt x="2066" y="480"/>
                  </a:lnTo>
                  <a:lnTo>
                    <a:pt x="2086" y="602"/>
                  </a:lnTo>
                  <a:lnTo>
                    <a:pt x="2061" y="718"/>
                  </a:lnTo>
                  <a:lnTo>
                    <a:pt x="2013" y="782"/>
                  </a:lnTo>
                  <a:lnTo>
                    <a:pt x="1965" y="800"/>
                  </a:lnTo>
                  <a:lnTo>
                    <a:pt x="2031" y="984"/>
                  </a:lnTo>
                  <a:lnTo>
                    <a:pt x="2086" y="1160"/>
                  </a:lnTo>
                  <a:lnTo>
                    <a:pt x="2255" y="1067"/>
                  </a:lnTo>
                  <a:lnTo>
                    <a:pt x="2156" y="839"/>
                  </a:lnTo>
                  <a:lnTo>
                    <a:pt x="2280" y="1035"/>
                  </a:lnTo>
                  <a:lnTo>
                    <a:pt x="2365" y="1052"/>
                  </a:lnTo>
                  <a:lnTo>
                    <a:pt x="2495" y="1052"/>
                  </a:lnTo>
                  <a:lnTo>
                    <a:pt x="2635" y="1234"/>
                  </a:lnTo>
                  <a:lnTo>
                    <a:pt x="2741" y="1300"/>
                  </a:lnTo>
                  <a:lnTo>
                    <a:pt x="2852" y="1277"/>
                  </a:lnTo>
                  <a:lnTo>
                    <a:pt x="3068" y="1173"/>
                  </a:lnTo>
                  <a:lnTo>
                    <a:pt x="3082" y="1347"/>
                  </a:lnTo>
                  <a:lnTo>
                    <a:pt x="3140" y="1507"/>
                  </a:lnTo>
                  <a:lnTo>
                    <a:pt x="3204" y="1507"/>
                  </a:lnTo>
                  <a:lnTo>
                    <a:pt x="3248" y="1467"/>
                  </a:lnTo>
                  <a:lnTo>
                    <a:pt x="3264" y="1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0" name=""/>
            <p:cNvSpPr/>
            <p:nvPr/>
          </p:nvSpPr>
          <p:spPr>
            <a:xfrm>
              <a:off x="7205400" y="5353920"/>
              <a:ext cx="261000" cy="176040"/>
            </a:xfrm>
            <a:custGeom>
              <a:avLst/>
              <a:gdLst/>
              <a:ahLst/>
              <a:rect l="l" t="t" r="r" b="b"/>
              <a:pathLst>
                <a:path w="3415" h="2637">
                  <a:moveTo>
                    <a:pt x="3195" y="1078"/>
                  </a:moveTo>
                  <a:lnTo>
                    <a:pt x="3340" y="1037"/>
                  </a:lnTo>
                  <a:lnTo>
                    <a:pt x="3415" y="882"/>
                  </a:lnTo>
                  <a:lnTo>
                    <a:pt x="3380" y="721"/>
                  </a:lnTo>
                  <a:lnTo>
                    <a:pt x="3198" y="547"/>
                  </a:lnTo>
                  <a:lnTo>
                    <a:pt x="3009" y="477"/>
                  </a:lnTo>
                  <a:lnTo>
                    <a:pt x="2778" y="299"/>
                  </a:lnTo>
                  <a:lnTo>
                    <a:pt x="2418" y="119"/>
                  </a:lnTo>
                  <a:lnTo>
                    <a:pt x="1996" y="0"/>
                  </a:lnTo>
                  <a:lnTo>
                    <a:pt x="1457" y="46"/>
                  </a:lnTo>
                  <a:lnTo>
                    <a:pt x="1033" y="167"/>
                  </a:lnTo>
                  <a:lnTo>
                    <a:pt x="798" y="279"/>
                  </a:lnTo>
                  <a:lnTo>
                    <a:pt x="514" y="444"/>
                  </a:lnTo>
                  <a:lnTo>
                    <a:pt x="145" y="1078"/>
                  </a:lnTo>
                  <a:lnTo>
                    <a:pt x="81" y="1490"/>
                  </a:lnTo>
                  <a:lnTo>
                    <a:pt x="145" y="1963"/>
                  </a:lnTo>
                  <a:lnTo>
                    <a:pt x="90" y="2228"/>
                  </a:lnTo>
                  <a:lnTo>
                    <a:pt x="0" y="2637"/>
                  </a:lnTo>
                  <a:lnTo>
                    <a:pt x="97" y="2439"/>
                  </a:lnTo>
                  <a:lnTo>
                    <a:pt x="288" y="2415"/>
                  </a:lnTo>
                  <a:lnTo>
                    <a:pt x="479" y="1756"/>
                  </a:lnTo>
                  <a:lnTo>
                    <a:pt x="212" y="2101"/>
                  </a:lnTo>
                  <a:lnTo>
                    <a:pt x="127" y="1426"/>
                  </a:lnTo>
                  <a:lnTo>
                    <a:pt x="196" y="1068"/>
                  </a:lnTo>
                  <a:lnTo>
                    <a:pt x="535" y="497"/>
                  </a:lnTo>
                  <a:lnTo>
                    <a:pt x="873" y="255"/>
                  </a:lnTo>
                  <a:lnTo>
                    <a:pt x="1395" y="75"/>
                  </a:lnTo>
                  <a:lnTo>
                    <a:pt x="1923" y="52"/>
                  </a:lnTo>
                  <a:lnTo>
                    <a:pt x="2503" y="218"/>
                  </a:lnTo>
                  <a:lnTo>
                    <a:pt x="2863" y="419"/>
                  </a:lnTo>
                  <a:lnTo>
                    <a:pt x="3024" y="547"/>
                  </a:lnTo>
                  <a:lnTo>
                    <a:pt x="3226" y="617"/>
                  </a:lnTo>
                  <a:lnTo>
                    <a:pt x="3352" y="753"/>
                  </a:lnTo>
                  <a:lnTo>
                    <a:pt x="3358" y="882"/>
                  </a:lnTo>
                  <a:lnTo>
                    <a:pt x="3306" y="949"/>
                  </a:lnTo>
                  <a:lnTo>
                    <a:pt x="3151" y="1037"/>
                  </a:lnTo>
                  <a:lnTo>
                    <a:pt x="3195" y="10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1" name=""/>
            <p:cNvSpPr/>
            <p:nvPr/>
          </p:nvSpPr>
          <p:spPr>
            <a:xfrm>
              <a:off x="7216560" y="5365800"/>
              <a:ext cx="242640" cy="178200"/>
            </a:xfrm>
            <a:custGeom>
              <a:avLst/>
              <a:gdLst/>
              <a:ahLst/>
              <a:rect l="l" t="t" r="r" b="b"/>
              <a:pathLst>
                <a:path w="3177" h="2674">
                  <a:moveTo>
                    <a:pt x="3039" y="881"/>
                  </a:moveTo>
                  <a:lnTo>
                    <a:pt x="3177" y="784"/>
                  </a:lnTo>
                  <a:lnTo>
                    <a:pt x="3172" y="664"/>
                  </a:lnTo>
                  <a:lnTo>
                    <a:pt x="3039" y="494"/>
                  </a:lnTo>
                  <a:lnTo>
                    <a:pt x="3011" y="565"/>
                  </a:lnTo>
                  <a:lnTo>
                    <a:pt x="2886" y="472"/>
                  </a:lnTo>
                  <a:lnTo>
                    <a:pt x="2421" y="420"/>
                  </a:lnTo>
                  <a:lnTo>
                    <a:pt x="2220" y="420"/>
                  </a:lnTo>
                  <a:lnTo>
                    <a:pt x="2567" y="355"/>
                  </a:lnTo>
                  <a:lnTo>
                    <a:pt x="2580" y="296"/>
                  </a:lnTo>
                  <a:lnTo>
                    <a:pt x="2255" y="136"/>
                  </a:lnTo>
                  <a:lnTo>
                    <a:pt x="1840" y="0"/>
                  </a:lnTo>
                  <a:lnTo>
                    <a:pt x="1312" y="7"/>
                  </a:lnTo>
                  <a:lnTo>
                    <a:pt x="826" y="166"/>
                  </a:lnTo>
                  <a:lnTo>
                    <a:pt x="510" y="408"/>
                  </a:lnTo>
                  <a:lnTo>
                    <a:pt x="309" y="733"/>
                  </a:lnTo>
                  <a:lnTo>
                    <a:pt x="233" y="975"/>
                  </a:lnTo>
                  <a:lnTo>
                    <a:pt x="233" y="1230"/>
                  </a:lnTo>
                  <a:lnTo>
                    <a:pt x="279" y="1464"/>
                  </a:lnTo>
                  <a:lnTo>
                    <a:pt x="279" y="1658"/>
                  </a:lnTo>
                  <a:lnTo>
                    <a:pt x="0" y="2257"/>
                  </a:lnTo>
                  <a:lnTo>
                    <a:pt x="275" y="2271"/>
                  </a:lnTo>
                  <a:lnTo>
                    <a:pt x="528" y="2456"/>
                  </a:lnTo>
                  <a:lnTo>
                    <a:pt x="756" y="2674"/>
                  </a:lnTo>
                  <a:lnTo>
                    <a:pt x="877" y="2557"/>
                  </a:lnTo>
                  <a:lnTo>
                    <a:pt x="952" y="2364"/>
                  </a:lnTo>
                  <a:lnTo>
                    <a:pt x="1123" y="2225"/>
                  </a:lnTo>
                  <a:lnTo>
                    <a:pt x="1114" y="1980"/>
                  </a:lnTo>
                  <a:lnTo>
                    <a:pt x="1183" y="1769"/>
                  </a:lnTo>
                  <a:lnTo>
                    <a:pt x="1319" y="1694"/>
                  </a:lnTo>
                  <a:lnTo>
                    <a:pt x="1437" y="1709"/>
                  </a:lnTo>
                  <a:lnTo>
                    <a:pt x="1497" y="1780"/>
                  </a:lnTo>
                  <a:lnTo>
                    <a:pt x="1554" y="1914"/>
                  </a:lnTo>
                  <a:lnTo>
                    <a:pt x="1875" y="2034"/>
                  </a:lnTo>
                  <a:lnTo>
                    <a:pt x="2009" y="1780"/>
                  </a:lnTo>
                  <a:lnTo>
                    <a:pt x="2525" y="1549"/>
                  </a:lnTo>
                  <a:lnTo>
                    <a:pt x="2516" y="1367"/>
                  </a:lnTo>
                  <a:lnTo>
                    <a:pt x="2421" y="1230"/>
                  </a:lnTo>
                  <a:lnTo>
                    <a:pt x="2490" y="1167"/>
                  </a:lnTo>
                  <a:lnTo>
                    <a:pt x="2455" y="832"/>
                  </a:lnTo>
                  <a:lnTo>
                    <a:pt x="2615" y="814"/>
                  </a:lnTo>
                  <a:lnTo>
                    <a:pt x="2824" y="832"/>
                  </a:lnTo>
                  <a:lnTo>
                    <a:pt x="3006" y="870"/>
                  </a:lnTo>
                  <a:lnTo>
                    <a:pt x="3039" y="8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2" name=""/>
            <p:cNvSpPr/>
            <p:nvPr/>
          </p:nvSpPr>
          <p:spPr>
            <a:xfrm>
              <a:off x="7411680" y="5455800"/>
              <a:ext cx="8280" cy="40320"/>
            </a:xfrm>
            <a:custGeom>
              <a:avLst/>
              <a:gdLst/>
              <a:ahLst/>
              <a:rect l="l" t="t" r="r" b="b"/>
              <a:pathLst>
                <a:path w="111" h="609">
                  <a:moveTo>
                    <a:pt x="53" y="609"/>
                  </a:moveTo>
                  <a:lnTo>
                    <a:pt x="0" y="459"/>
                  </a:lnTo>
                  <a:lnTo>
                    <a:pt x="39" y="307"/>
                  </a:lnTo>
                  <a:lnTo>
                    <a:pt x="0" y="0"/>
                  </a:lnTo>
                  <a:lnTo>
                    <a:pt x="111" y="466"/>
                  </a:lnTo>
                  <a:lnTo>
                    <a:pt x="105" y="563"/>
                  </a:lnTo>
                  <a:lnTo>
                    <a:pt x="53" y="60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453" name=""/>
            <p:cNvSpPr/>
            <p:nvPr/>
          </p:nvSpPr>
          <p:spPr>
            <a:xfrm>
              <a:off x="7310160" y="5489640"/>
              <a:ext cx="26280" cy="43560"/>
            </a:xfrm>
            <a:custGeom>
              <a:avLst/>
              <a:gdLst/>
              <a:ahLst/>
              <a:rect l="l" t="t" r="r" b="b"/>
              <a:pathLst>
                <a:path w="343" h="655">
                  <a:moveTo>
                    <a:pt x="266" y="172"/>
                  </a:moveTo>
                  <a:lnTo>
                    <a:pt x="343" y="60"/>
                  </a:lnTo>
                  <a:lnTo>
                    <a:pt x="275" y="0"/>
                  </a:lnTo>
                  <a:lnTo>
                    <a:pt x="132" y="0"/>
                  </a:lnTo>
                  <a:lnTo>
                    <a:pt x="28" y="113"/>
                  </a:lnTo>
                  <a:lnTo>
                    <a:pt x="0" y="327"/>
                  </a:lnTo>
                  <a:lnTo>
                    <a:pt x="79" y="106"/>
                  </a:lnTo>
                  <a:lnTo>
                    <a:pt x="196" y="83"/>
                  </a:lnTo>
                  <a:lnTo>
                    <a:pt x="108" y="277"/>
                  </a:lnTo>
                  <a:lnTo>
                    <a:pt x="108" y="429"/>
                  </a:lnTo>
                  <a:lnTo>
                    <a:pt x="60" y="417"/>
                  </a:lnTo>
                  <a:lnTo>
                    <a:pt x="23" y="387"/>
                  </a:lnTo>
                  <a:lnTo>
                    <a:pt x="60" y="523"/>
                  </a:lnTo>
                  <a:lnTo>
                    <a:pt x="132" y="655"/>
                  </a:lnTo>
                  <a:lnTo>
                    <a:pt x="119" y="539"/>
                  </a:lnTo>
                  <a:lnTo>
                    <a:pt x="189" y="484"/>
                  </a:lnTo>
                  <a:lnTo>
                    <a:pt x="297" y="558"/>
                  </a:lnTo>
                  <a:lnTo>
                    <a:pt x="316" y="523"/>
                  </a:lnTo>
                  <a:lnTo>
                    <a:pt x="297" y="473"/>
                  </a:lnTo>
                  <a:lnTo>
                    <a:pt x="332" y="387"/>
                  </a:lnTo>
                  <a:lnTo>
                    <a:pt x="314" y="304"/>
                  </a:lnTo>
                  <a:lnTo>
                    <a:pt x="240" y="297"/>
                  </a:lnTo>
                  <a:lnTo>
                    <a:pt x="224" y="207"/>
                  </a:lnTo>
                  <a:lnTo>
                    <a:pt x="266" y="17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454" name=""/>
            <p:cNvSpPr/>
            <p:nvPr/>
          </p:nvSpPr>
          <p:spPr>
            <a:xfrm>
              <a:off x="7321680" y="5527440"/>
              <a:ext cx="10800" cy="11520"/>
            </a:xfrm>
            <a:custGeom>
              <a:avLst/>
              <a:gdLst/>
              <a:ahLst/>
              <a:rect l="l" t="t" r="r" b="b"/>
              <a:pathLst>
                <a:path w="143" h="175">
                  <a:moveTo>
                    <a:pt x="0" y="90"/>
                  </a:moveTo>
                  <a:lnTo>
                    <a:pt x="86" y="0"/>
                  </a:lnTo>
                  <a:lnTo>
                    <a:pt x="143" y="20"/>
                  </a:lnTo>
                  <a:lnTo>
                    <a:pt x="104" y="175"/>
                  </a:lnTo>
                  <a:lnTo>
                    <a:pt x="0" y="9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5" name=""/>
            <p:cNvSpPr/>
            <p:nvPr/>
          </p:nvSpPr>
          <p:spPr>
            <a:xfrm>
              <a:off x="7439760" y="5525280"/>
              <a:ext cx="15480" cy="11520"/>
            </a:xfrm>
            <a:custGeom>
              <a:avLst/>
              <a:gdLst/>
              <a:ahLst/>
              <a:rect l="l" t="t" r="r" b="b"/>
              <a:pathLst>
                <a:path w="207" h="175">
                  <a:moveTo>
                    <a:pt x="11" y="132"/>
                  </a:moveTo>
                  <a:lnTo>
                    <a:pt x="207" y="175"/>
                  </a:lnTo>
                  <a:lnTo>
                    <a:pt x="0" y="0"/>
                  </a:lnTo>
                  <a:lnTo>
                    <a:pt x="11" y="13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6" name=""/>
            <p:cNvSpPr/>
            <p:nvPr/>
          </p:nvSpPr>
          <p:spPr>
            <a:xfrm>
              <a:off x="7102440" y="5553720"/>
              <a:ext cx="72360" cy="73080"/>
            </a:xfrm>
            <a:custGeom>
              <a:avLst/>
              <a:gdLst/>
              <a:ahLst/>
              <a:rect l="l" t="t" r="r" b="b"/>
              <a:pathLst>
                <a:path w="947" h="1096">
                  <a:moveTo>
                    <a:pt x="947" y="0"/>
                  </a:moveTo>
                  <a:lnTo>
                    <a:pt x="628" y="164"/>
                  </a:lnTo>
                  <a:lnTo>
                    <a:pt x="167" y="643"/>
                  </a:lnTo>
                  <a:lnTo>
                    <a:pt x="0" y="883"/>
                  </a:lnTo>
                  <a:lnTo>
                    <a:pt x="0" y="1096"/>
                  </a:lnTo>
                  <a:lnTo>
                    <a:pt x="270" y="672"/>
                  </a:lnTo>
                  <a:lnTo>
                    <a:pt x="628" y="235"/>
                  </a:lnTo>
                  <a:lnTo>
                    <a:pt x="94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57" name=""/>
            <p:cNvSpPr/>
            <p:nvPr/>
          </p:nvSpPr>
          <p:spPr>
            <a:xfrm>
              <a:off x="7102440" y="5646240"/>
              <a:ext cx="769320" cy="399600"/>
            </a:xfrm>
            <a:custGeom>
              <a:avLst/>
              <a:gdLst/>
              <a:ahLst/>
              <a:rect l="l" t="t" r="r" b="b"/>
              <a:pathLst>
                <a:path w="10071" h="5987">
                  <a:moveTo>
                    <a:pt x="3078" y="337"/>
                  </a:moveTo>
                  <a:lnTo>
                    <a:pt x="2554" y="961"/>
                  </a:lnTo>
                  <a:lnTo>
                    <a:pt x="2043" y="1895"/>
                  </a:lnTo>
                  <a:lnTo>
                    <a:pt x="989" y="2609"/>
                  </a:lnTo>
                  <a:lnTo>
                    <a:pt x="508" y="2393"/>
                  </a:lnTo>
                  <a:lnTo>
                    <a:pt x="0" y="2301"/>
                  </a:lnTo>
                  <a:lnTo>
                    <a:pt x="413" y="2423"/>
                  </a:lnTo>
                  <a:lnTo>
                    <a:pt x="796" y="2635"/>
                  </a:lnTo>
                  <a:lnTo>
                    <a:pt x="1109" y="2900"/>
                  </a:lnTo>
                  <a:lnTo>
                    <a:pt x="1446" y="3279"/>
                  </a:lnTo>
                  <a:lnTo>
                    <a:pt x="1758" y="3760"/>
                  </a:lnTo>
                  <a:lnTo>
                    <a:pt x="2119" y="4719"/>
                  </a:lnTo>
                  <a:lnTo>
                    <a:pt x="2336" y="5343"/>
                  </a:lnTo>
                  <a:lnTo>
                    <a:pt x="2457" y="5987"/>
                  </a:lnTo>
                  <a:lnTo>
                    <a:pt x="3945" y="5987"/>
                  </a:lnTo>
                  <a:lnTo>
                    <a:pt x="2982" y="4482"/>
                  </a:lnTo>
                  <a:lnTo>
                    <a:pt x="2527" y="3187"/>
                  </a:lnTo>
                  <a:lnTo>
                    <a:pt x="2578" y="2444"/>
                  </a:lnTo>
                  <a:lnTo>
                    <a:pt x="2624" y="3158"/>
                  </a:lnTo>
                  <a:lnTo>
                    <a:pt x="3052" y="4288"/>
                  </a:lnTo>
                  <a:lnTo>
                    <a:pt x="3991" y="5701"/>
                  </a:lnTo>
                  <a:lnTo>
                    <a:pt x="4281" y="5750"/>
                  </a:lnTo>
                  <a:lnTo>
                    <a:pt x="4378" y="5987"/>
                  </a:lnTo>
                  <a:lnTo>
                    <a:pt x="8152" y="5987"/>
                  </a:lnTo>
                  <a:lnTo>
                    <a:pt x="8322" y="5892"/>
                  </a:lnTo>
                  <a:lnTo>
                    <a:pt x="8722" y="5701"/>
                  </a:lnTo>
                  <a:lnTo>
                    <a:pt x="9113" y="5674"/>
                  </a:lnTo>
                  <a:lnTo>
                    <a:pt x="9135" y="5604"/>
                  </a:lnTo>
                  <a:lnTo>
                    <a:pt x="8843" y="5534"/>
                  </a:lnTo>
                  <a:lnTo>
                    <a:pt x="8530" y="5358"/>
                  </a:lnTo>
                  <a:lnTo>
                    <a:pt x="8242" y="5173"/>
                  </a:lnTo>
                  <a:lnTo>
                    <a:pt x="7839" y="5097"/>
                  </a:lnTo>
                  <a:lnTo>
                    <a:pt x="7546" y="5002"/>
                  </a:lnTo>
                  <a:lnTo>
                    <a:pt x="7168" y="4956"/>
                  </a:lnTo>
                  <a:lnTo>
                    <a:pt x="7168" y="4885"/>
                  </a:lnTo>
                  <a:lnTo>
                    <a:pt x="7452" y="4811"/>
                  </a:lnTo>
                  <a:lnTo>
                    <a:pt x="7767" y="4811"/>
                  </a:lnTo>
                  <a:lnTo>
                    <a:pt x="8080" y="4719"/>
                  </a:lnTo>
                  <a:lnTo>
                    <a:pt x="8652" y="4624"/>
                  </a:lnTo>
                  <a:lnTo>
                    <a:pt x="8992" y="4530"/>
                  </a:lnTo>
                  <a:lnTo>
                    <a:pt x="8821" y="4530"/>
                  </a:lnTo>
                  <a:lnTo>
                    <a:pt x="8627" y="4602"/>
                  </a:lnTo>
                  <a:lnTo>
                    <a:pt x="8339" y="4644"/>
                  </a:lnTo>
                  <a:lnTo>
                    <a:pt x="8030" y="4666"/>
                  </a:lnTo>
                  <a:lnTo>
                    <a:pt x="7818" y="4736"/>
                  </a:lnTo>
                  <a:lnTo>
                    <a:pt x="7818" y="4644"/>
                  </a:lnTo>
                  <a:lnTo>
                    <a:pt x="7931" y="4530"/>
                  </a:lnTo>
                  <a:lnTo>
                    <a:pt x="8201" y="4339"/>
                  </a:lnTo>
                  <a:lnTo>
                    <a:pt x="9234" y="4069"/>
                  </a:lnTo>
                  <a:lnTo>
                    <a:pt x="10071" y="3735"/>
                  </a:lnTo>
                  <a:lnTo>
                    <a:pt x="9159" y="4069"/>
                  </a:lnTo>
                  <a:lnTo>
                    <a:pt x="8516" y="4165"/>
                  </a:lnTo>
                  <a:lnTo>
                    <a:pt x="8272" y="4218"/>
                  </a:lnTo>
                  <a:lnTo>
                    <a:pt x="6778" y="4218"/>
                  </a:lnTo>
                  <a:lnTo>
                    <a:pt x="7117" y="4023"/>
                  </a:lnTo>
                  <a:lnTo>
                    <a:pt x="7382" y="3976"/>
                  </a:lnTo>
                  <a:lnTo>
                    <a:pt x="7594" y="3877"/>
                  </a:lnTo>
                  <a:lnTo>
                    <a:pt x="7670" y="3827"/>
                  </a:lnTo>
                  <a:lnTo>
                    <a:pt x="7670" y="3710"/>
                  </a:lnTo>
                  <a:lnTo>
                    <a:pt x="7643" y="3664"/>
                  </a:lnTo>
                  <a:lnTo>
                    <a:pt x="7522" y="3640"/>
                  </a:lnTo>
                  <a:lnTo>
                    <a:pt x="7474" y="3735"/>
                  </a:lnTo>
                  <a:lnTo>
                    <a:pt x="7353" y="3785"/>
                  </a:lnTo>
                  <a:lnTo>
                    <a:pt x="6832" y="3735"/>
                  </a:lnTo>
                  <a:lnTo>
                    <a:pt x="6685" y="3594"/>
                  </a:lnTo>
                  <a:lnTo>
                    <a:pt x="6731" y="3804"/>
                  </a:lnTo>
                  <a:lnTo>
                    <a:pt x="6731" y="3976"/>
                  </a:lnTo>
                  <a:lnTo>
                    <a:pt x="6661" y="4218"/>
                  </a:lnTo>
                  <a:lnTo>
                    <a:pt x="6661" y="3976"/>
                  </a:lnTo>
                  <a:lnTo>
                    <a:pt x="6441" y="3710"/>
                  </a:lnTo>
                  <a:lnTo>
                    <a:pt x="6589" y="4023"/>
                  </a:lnTo>
                  <a:lnTo>
                    <a:pt x="6589" y="4311"/>
                  </a:lnTo>
                  <a:lnTo>
                    <a:pt x="5434" y="5026"/>
                  </a:lnTo>
                  <a:lnTo>
                    <a:pt x="5265" y="4574"/>
                  </a:lnTo>
                  <a:lnTo>
                    <a:pt x="5265" y="3877"/>
                  </a:lnTo>
                  <a:lnTo>
                    <a:pt x="5602" y="3710"/>
                  </a:lnTo>
                  <a:lnTo>
                    <a:pt x="6107" y="3594"/>
                  </a:lnTo>
                  <a:lnTo>
                    <a:pt x="5773" y="3521"/>
                  </a:lnTo>
                  <a:lnTo>
                    <a:pt x="6056" y="3279"/>
                  </a:lnTo>
                  <a:lnTo>
                    <a:pt x="5173" y="3760"/>
                  </a:lnTo>
                  <a:lnTo>
                    <a:pt x="4810" y="3187"/>
                  </a:lnTo>
                  <a:lnTo>
                    <a:pt x="4666" y="1754"/>
                  </a:lnTo>
                  <a:lnTo>
                    <a:pt x="4500" y="790"/>
                  </a:lnTo>
                  <a:lnTo>
                    <a:pt x="4256" y="242"/>
                  </a:lnTo>
                  <a:lnTo>
                    <a:pt x="3964" y="0"/>
                  </a:lnTo>
                  <a:lnTo>
                    <a:pt x="4187" y="242"/>
                  </a:lnTo>
                  <a:lnTo>
                    <a:pt x="4424" y="693"/>
                  </a:lnTo>
                  <a:lnTo>
                    <a:pt x="4544" y="1271"/>
                  </a:lnTo>
                  <a:lnTo>
                    <a:pt x="4620" y="2181"/>
                  </a:lnTo>
                  <a:lnTo>
                    <a:pt x="4712" y="3140"/>
                  </a:lnTo>
                  <a:lnTo>
                    <a:pt x="3611" y="1531"/>
                  </a:lnTo>
                  <a:lnTo>
                    <a:pt x="4019" y="2469"/>
                  </a:lnTo>
                  <a:lnTo>
                    <a:pt x="4782" y="3543"/>
                  </a:lnTo>
                  <a:lnTo>
                    <a:pt x="4782" y="3947"/>
                  </a:lnTo>
                  <a:lnTo>
                    <a:pt x="4544" y="4549"/>
                  </a:lnTo>
                  <a:lnTo>
                    <a:pt x="5047" y="3947"/>
                  </a:lnTo>
                  <a:lnTo>
                    <a:pt x="5148" y="4288"/>
                  </a:lnTo>
                  <a:lnTo>
                    <a:pt x="5148" y="4574"/>
                  </a:lnTo>
                  <a:lnTo>
                    <a:pt x="4666" y="5125"/>
                  </a:lnTo>
                  <a:lnTo>
                    <a:pt x="4208" y="4736"/>
                  </a:lnTo>
                  <a:lnTo>
                    <a:pt x="3964" y="4908"/>
                  </a:lnTo>
                  <a:lnTo>
                    <a:pt x="3899" y="4811"/>
                  </a:lnTo>
                  <a:lnTo>
                    <a:pt x="4019" y="4359"/>
                  </a:lnTo>
                  <a:lnTo>
                    <a:pt x="3991" y="4189"/>
                  </a:lnTo>
                  <a:lnTo>
                    <a:pt x="2744" y="2589"/>
                  </a:lnTo>
                  <a:lnTo>
                    <a:pt x="2716" y="2324"/>
                  </a:lnTo>
                  <a:lnTo>
                    <a:pt x="2716" y="1824"/>
                  </a:lnTo>
                  <a:lnTo>
                    <a:pt x="2767" y="1339"/>
                  </a:lnTo>
                  <a:lnTo>
                    <a:pt x="2883" y="840"/>
                  </a:lnTo>
                  <a:lnTo>
                    <a:pt x="3078" y="482"/>
                  </a:lnTo>
                  <a:lnTo>
                    <a:pt x="3345" y="173"/>
                  </a:lnTo>
                  <a:lnTo>
                    <a:pt x="3078"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8" name=""/>
            <p:cNvSpPr/>
            <p:nvPr/>
          </p:nvSpPr>
          <p:spPr>
            <a:xfrm>
              <a:off x="7466400" y="5848560"/>
              <a:ext cx="77400" cy="44280"/>
            </a:xfrm>
            <a:custGeom>
              <a:avLst/>
              <a:gdLst/>
              <a:ahLst/>
              <a:rect l="l" t="t" r="r" b="b"/>
              <a:pathLst>
                <a:path w="1016" h="665">
                  <a:moveTo>
                    <a:pt x="6" y="0"/>
                  </a:moveTo>
                  <a:lnTo>
                    <a:pt x="218" y="118"/>
                  </a:lnTo>
                  <a:lnTo>
                    <a:pt x="705" y="173"/>
                  </a:lnTo>
                  <a:lnTo>
                    <a:pt x="705" y="228"/>
                  </a:lnTo>
                  <a:lnTo>
                    <a:pt x="1016" y="240"/>
                  </a:lnTo>
                  <a:lnTo>
                    <a:pt x="697" y="275"/>
                  </a:lnTo>
                  <a:lnTo>
                    <a:pt x="653" y="446"/>
                  </a:lnTo>
                  <a:lnTo>
                    <a:pt x="626" y="662"/>
                  </a:lnTo>
                  <a:lnTo>
                    <a:pt x="596" y="665"/>
                  </a:lnTo>
                  <a:lnTo>
                    <a:pt x="615" y="406"/>
                  </a:lnTo>
                  <a:lnTo>
                    <a:pt x="653" y="235"/>
                  </a:lnTo>
                  <a:lnTo>
                    <a:pt x="218" y="178"/>
                  </a:lnTo>
                  <a:lnTo>
                    <a:pt x="0" y="99"/>
                  </a:lnTo>
                  <a:lnTo>
                    <a:pt x="6"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9" name=""/>
            <p:cNvSpPr/>
            <p:nvPr/>
          </p:nvSpPr>
          <p:spPr>
            <a:xfrm>
              <a:off x="7548840" y="5826240"/>
              <a:ext cx="139320" cy="70920"/>
            </a:xfrm>
            <a:custGeom>
              <a:avLst/>
              <a:gdLst/>
              <a:ahLst/>
              <a:rect l="l" t="t" r="r" b="b"/>
              <a:pathLst>
                <a:path w="1821" h="1066">
                  <a:moveTo>
                    <a:pt x="0" y="706"/>
                  </a:moveTo>
                  <a:lnTo>
                    <a:pt x="137" y="242"/>
                  </a:lnTo>
                  <a:lnTo>
                    <a:pt x="597" y="0"/>
                  </a:lnTo>
                  <a:lnTo>
                    <a:pt x="906" y="137"/>
                  </a:lnTo>
                  <a:lnTo>
                    <a:pt x="1268" y="176"/>
                  </a:lnTo>
                  <a:lnTo>
                    <a:pt x="1330" y="227"/>
                  </a:lnTo>
                  <a:lnTo>
                    <a:pt x="1341" y="317"/>
                  </a:lnTo>
                  <a:lnTo>
                    <a:pt x="1504" y="360"/>
                  </a:lnTo>
                  <a:lnTo>
                    <a:pt x="1634" y="459"/>
                  </a:lnTo>
                  <a:lnTo>
                    <a:pt x="1708" y="488"/>
                  </a:lnTo>
                  <a:lnTo>
                    <a:pt x="1819" y="579"/>
                  </a:lnTo>
                  <a:lnTo>
                    <a:pt x="1821" y="655"/>
                  </a:lnTo>
                  <a:lnTo>
                    <a:pt x="1763" y="706"/>
                  </a:lnTo>
                  <a:lnTo>
                    <a:pt x="1634" y="822"/>
                  </a:lnTo>
                  <a:lnTo>
                    <a:pt x="1637" y="910"/>
                  </a:lnTo>
                  <a:lnTo>
                    <a:pt x="1612" y="800"/>
                  </a:lnTo>
                  <a:lnTo>
                    <a:pt x="1785" y="640"/>
                  </a:lnTo>
                  <a:lnTo>
                    <a:pt x="1785" y="584"/>
                  </a:lnTo>
                  <a:lnTo>
                    <a:pt x="1637" y="499"/>
                  </a:lnTo>
                  <a:lnTo>
                    <a:pt x="1577" y="512"/>
                  </a:lnTo>
                  <a:lnTo>
                    <a:pt x="1504" y="503"/>
                  </a:lnTo>
                  <a:lnTo>
                    <a:pt x="1370" y="579"/>
                  </a:lnTo>
                  <a:lnTo>
                    <a:pt x="1543" y="448"/>
                  </a:lnTo>
                  <a:lnTo>
                    <a:pt x="1471" y="383"/>
                  </a:lnTo>
                  <a:lnTo>
                    <a:pt x="1341" y="356"/>
                  </a:lnTo>
                  <a:lnTo>
                    <a:pt x="1341" y="409"/>
                  </a:lnTo>
                  <a:lnTo>
                    <a:pt x="1394" y="503"/>
                  </a:lnTo>
                  <a:lnTo>
                    <a:pt x="1319" y="413"/>
                  </a:lnTo>
                  <a:lnTo>
                    <a:pt x="1268" y="247"/>
                  </a:lnTo>
                  <a:lnTo>
                    <a:pt x="1205" y="192"/>
                  </a:lnTo>
                  <a:lnTo>
                    <a:pt x="885" y="176"/>
                  </a:lnTo>
                  <a:lnTo>
                    <a:pt x="641" y="47"/>
                  </a:lnTo>
                  <a:lnTo>
                    <a:pt x="161" y="264"/>
                  </a:lnTo>
                  <a:lnTo>
                    <a:pt x="90" y="552"/>
                  </a:lnTo>
                  <a:lnTo>
                    <a:pt x="321" y="574"/>
                  </a:lnTo>
                  <a:lnTo>
                    <a:pt x="590" y="655"/>
                  </a:lnTo>
                  <a:lnTo>
                    <a:pt x="791" y="822"/>
                  </a:lnTo>
                  <a:lnTo>
                    <a:pt x="1053" y="719"/>
                  </a:lnTo>
                  <a:lnTo>
                    <a:pt x="873" y="930"/>
                  </a:lnTo>
                  <a:lnTo>
                    <a:pt x="873" y="1066"/>
                  </a:lnTo>
                  <a:lnTo>
                    <a:pt x="786" y="851"/>
                  </a:lnTo>
                  <a:lnTo>
                    <a:pt x="597" y="699"/>
                  </a:lnTo>
                  <a:lnTo>
                    <a:pt x="403" y="633"/>
                  </a:lnTo>
                  <a:lnTo>
                    <a:pt x="173" y="614"/>
                  </a:lnTo>
                  <a:lnTo>
                    <a:pt x="0" y="70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460" name=""/>
            <p:cNvSpPr/>
            <p:nvPr/>
          </p:nvSpPr>
          <p:spPr>
            <a:xfrm>
              <a:off x="7541280" y="5880960"/>
              <a:ext cx="68400" cy="30600"/>
            </a:xfrm>
            <a:custGeom>
              <a:avLst/>
              <a:gdLst/>
              <a:ahLst/>
              <a:rect l="l" t="t" r="r" b="b"/>
              <a:pathLst>
                <a:path w="895" h="462">
                  <a:moveTo>
                    <a:pt x="0" y="69"/>
                  </a:moveTo>
                  <a:lnTo>
                    <a:pt x="363" y="91"/>
                  </a:lnTo>
                  <a:lnTo>
                    <a:pt x="593" y="177"/>
                  </a:lnTo>
                  <a:lnTo>
                    <a:pt x="764" y="313"/>
                  </a:lnTo>
                  <a:lnTo>
                    <a:pt x="844" y="462"/>
                  </a:lnTo>
                  <a:lnTo>
                    <a:pt x="895" y="421"/>
                  </a:lnTo>
                  <a:lnTo>
                    <a:pt x="791" y="262"/>
                  </a:lnTo>
                  <a:lnTo>
                    <a:pt x="642" y="126"/>
                  </a:lnTo>
                  <a:lnTo>
                    <a:pt x="427" y="20"/>
                  </a:lnTo>
                  <a:lnTo>
                    <a:pt x="180" y="0"/>
                  </a:lnTo>
                  <a:lnTo>
                    <a:pt x="13" y="0"/>
                  </a:lnTo>
                  <a:lnTo>
                    <a:pt x="0" y="6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61" name=""/>
            <p:cNvSpPr/>
            <p:nvPr/>
          </p:nvSpPr>
          <p:spPr>
            <a:xfrm>
              <a:off x="7658640" y="5968800"/>
              <a:ext cx="15480" cy="12240"/>
            </a:xfrm>
            <a:custGeom>
              <a:avLst/>
              <a:gdLst/>
              <a:ahLst/>
              <a:rect l="l" t="t" r="r" b="b"/>
              <a:pathLst>
                <a:path w="203" h="182">
                  <a:moveTo>
                    <a:pt x="0" y="20"/>
                  </a:moveTo>
                  <a:lnTo>
                    <a:pt x="95" y="22"/>
                  </a:lnTo>
                  <a:lnTo>
                    <a:pt x="146" y="62"/>
                  </a:lnTo>
                  <a:lnTo>
                    <a:pt x="169" y="97"/>
                  </a:lnTo>
                  <a:lnTo>
                    <a:pt x="169" y="133"/>
                  </a:lnTo>
                  <a:lnTo>
                    <a:pt x="146" y="182"/>
                  </a:lnTo>
                  <a:lnTo>
                    <a:pt x="181" y="167"/>
                  </a:lnTo>
                  <a:lnTo>
                    <a:pt x="203" y="121"/>
                  </a:lnTo>
                  <a:lnTo>
                    <a:pt x="194" y="86"/>
                  </a:lnTo>
                  <a:lnTo>
                    <a:pt x="165" y="38"/>
                  </a:lnTo>
                  <a:lnTo>
                    <a:pt x="130" y="20"/>
                  </a:lnTo>
                  <a:lnTo>
                    <a:pt x="40" y="0"/>
                  </a:lnTo>
                  <a:lnTo>
                    <a:pt x="0" y="2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62" name=""/>
            <p:cNvSpPr/>
            <p:nvPr/>
          </p:nvSpPr>
          <p:spPr>
            <a:xfrm>
              <a:off x="7692120" y="5961960"/>
              <a:ext cx="27360" cy="13320"/>
            </a:xfrm>
            <a:custGeom>
              <a:avLst/>
              <a:gdLst/>
              <a:ahLst/>
              <a:rect l="l" t="t" r="r" b="b"/>
              <a:pathLst>
                <a:path w="360" h="197">
                  <a:moveTo>
                    <a:pt x="245" y="26"/>
                  </a:moveTo>
                  <a:lnTo>
                    <a:pt x="286" y="51"/>
                  </a:lnTo>
                  <a:lnTo>
                    <a:pt x="309" y="100"/>
                  </a:lnTo>
                  <a:lnTo>
                    <a:pt x="296" y="138"/>
                  </a:lnTo>
                  <a:lnTo>
                    <a:pt x="261" y="177"/>
                  </a:lnTo>
                  <a:lnTo>
                    <a:pt x="63" y="166"/>
                  </a:lnTo>
                  <a:lnTo>
                    <a:pt x="28" y="150"/>
                  </a:lnTo>
                  <a:lnTo>
                    <a:pt x="24" y="104"/>
                  </a:lnTo>
                  <a:lnTo>
                    <a:pt x="28" y="100"/>
                  </a:lnTo>
                  <a:lnTo>
                    <a:pt x="0" y="104"/>
                  </a:lnTo>
                  <a:lnTo>
                    <a:pt x="0" y="138"/>
                  </a:lnTo>
                  <a:lnTo>
                    <a:pt x="39" y="186"/>
                  </a:lnTo>
                  <a:lnTo>
                    <a:pt x="296" y="197"/>
                  </a:lnTo>
                  <a:lnTo>
                    <a:pt x="349" y="150"/>
                  </a:lnTo>
                  <a:lnTo>
                    <a:pt x="360" y="87"/>
                  </a:lnTo>
                  <a:lnTo>
                    <a:pt x="325" y="26"/>
                  </a:lnTo>
                  <a:lnTo>
                    <a:pt x="274" y="0"/>
                  </a:lnTo>
                  <a:lnTo>
                    <a:pt x="245" y="2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463" name=""/>
            <p:cNvSpPr/>
            <p:nvPr/>
          </p:nvSpPr>
          <p:spPr>
            <a:xfrm>
              <a:off x="7988040" y="5573160"/>
              <a:ext cx="46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464" name=""/>
            <p:cNvSpPr/>
            <p:nvPr/>
          </p:nvSpPr>
          <p:spPr>
            <a:xfrm>
              <a:off x="8051400" y="5497560"/>
              <a:ext cx="21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65" name=""/>
            <p:cNvSpPr/>
            <p:nvPr/>
          </p:nvSpPr>
          <p:spPr>
            <a:xfrm>
              <a:off x="8047080" y="5498280"/>
              <a:ext cx="36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66" name=""/>
            <p:cNvSpPr/>
            <p:nvPr/>
          </p:nvSpPr>
          <p:spPr>
            <a:xfrm>
              <a:off x="8042760" y="550404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7" name=""/>
            <p:cNvSpPr/>
            <p:nvPr/>
          </p:nvSpPr>
          <p:spPr>
            <a:xfrm flipH="1">
              <a:off x="8037720" y="5513760"/>
              <a:ext cx="360" cy="2448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468" name=""/>
            <p:cNvSpPr/>
            <p:nvPr/>
          </p:nvSpPr>
          <p:spPr>
            <a:xfrm flipH="1">
              <a:off x="8030160" y="5521680"/>
              <a:ext cx="216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69" name=""/>
            <p:cNvSpPr/>
            <p:nvPr/>
          </p:nvSpPr>
          <p:spPr>
            <a:xfrm flipH="1">
              <a:off x="8022960" y="55346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70" name=""/>
            <p:cNvSpPr/>
            <p:nvPr/>
          </p:nvSpPr>
          <p:spPr>
            <a:xfrm>
              <a:off x="8067960" y="5531400"/>
              <a:ext cx="16920" cy="22320"/>
            </a:xfrm>
            <a:custGeom>
              <a:avLst/>
              <a:gdLst/>
              <a:ahLst/>
              <a:rect l="l" t="t" r="r" b="b"/>
              <a:pathLst>
                <a:path w="226" h="341">
                  <a:moveTo>
                    <a:pt x="191" y="0"/>
                  </a:moveTo>
                  <a:lnTo>
                    <a:pt x="155" y="0"/>
                  </a:lnTo>
                  <a:lnTo>
                    <a:pt x="125" y="5"/>
                  </a:lnTo>
                  <a:lnTo>
                    <a:pt x="104" y="14"/>
                  </a:lnTo>
                  <a:lnTo>
                    <a:pt x="70" y="31"/>
                  </a:lnTo>
                  <a:lnTo>
                    <a:pt x="46" y="47"/>
                  </a:lnTo>
                  <a:lnTo>
                    <a:pt x="28" y="70"/>
                  </a:lnTo>
                  <a:lnTo>
                    <a:pt x="12" y="104"/>
                  </a:lnTo>
                  <a:lnTo>
                    <a:pt x="0" y="130"/>
                  </a:lnTo>
                  <a:lnTo>
                    <a:pt x="0" y="160"/>
                  </a:lnTo>
                  <a:lnTo>
                    <a:pt x="0" y="192"/>
                  </a:lnTo>
                  <a:lnTo>
                    <a:pt x="0" y="215"/>
                  </a:lnTo>
                  <a:lnTo>
                    <a:pt x="12" y="249"/>
                  </a:lnTo>
                  <a:lnTo>
                    <a:pt x="33" y="273"/>
                  </a:lnTo>
                  <a:lnTo>
                    <a:pt x="51" y="301"/>
                  </a:lnTo>
                  <a:lnTo>
                    <a:pt x="74" y="321"/>
                  </a:lnTo>
                  <a:lnTo>
                    <a:pt x="104" y="337"/>
                  </a:lnTo>
                  <a:lnTo>
                    <a:pt x="129" y="341"/>
                  </a:lnTo>
                  <a:lnTo>
                    <a:pt x="164" y="341"/>
                  </a:lnTo>
                  <a:lnTo>
                    <a:pt x="196" y="341"/>
                  </a:lnTo>
                  <a:lnTo>
                    <a:pt x="226" y="337"/>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471" name=""/>
            <p:cNvSpPr/>
            <p:nvPr/>
          </p:nvSpPr>
          <p:spPr>
            <a:xfrm flipV="1">
              <a:off x="7441560" y="5503680"/>
              <a:ext cx="28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72" name=""/>
            <p:cNvSpPr/>
            <p:nvPr/>
          </p:nvSpPr>
          <p:spPr>
            <a:xfrm>
              <a:off x="7347240" y="5491800"/>
              <a:ext cx="1260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73" name=""/>
            <p:cNvSpPr/>
            <p:nvPr/>
          </p:nvSpPr>
          <p:spPr>
            <a:xfrm>
              <a:off x="7355880" y="5496840"/>
              <a:ext cx="1368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474" name=""/>
            <p:cNvSpPr/>
            <p:nvPr/>
          </p:nvSpPr>
          <p:spPr>
            <a:xfrm>
              <a:off x="7365240" y="5503320"/>
              <a:ext cx="1332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75" name=""/>
            <p:cNvSpPr/>
            <p:nvPr/>
          </p:nvSpPr>
          <p:spPr>
            <a:xfrm>
              <a:off x="7376760" y="5511600"/>
              <a:ext cx="9360" cy="22680"/>
            </a:xfrm>
            <a:prstGeom prst="line">
              <a:avLst/>
            </a:prstGeom>
            <a:ln w="0">
              <a:solidFill>
                <a:srgbClr val="000000"/>
              </a:solid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476" name=""/>
            <p:cNvSpPr/>
            <p:nvPr/>
          </p:nvSpPr>
          <p:spPr>
            <a:xfrm>
              <a:off x="7715880" y="5335200"/>
              <a:ext cx="137880" cy="144720"/>
            </a:xfrm>
            <a:custGeom>
              <a:avLst/>
              <a:gdLst/>
              <a:ahLst/>
              <a:rect l="l" t="t" r="r" b="b"/>
              <a:pathLst>
                <a:path w="1810" h="2171">
                  <a:moveTo>
                    <a:pt x="1367" y="1125"/>
                  </a:moveTo>
                  <a:lnTo>
                    <a:pt x="1215" y="1136"/>
                  </a:lnTo>
                  <a:lnTo>
                    <a:pt x="1090" y="1113"/>
                  </a:lnTo>
                  <a:lnTo>
                    <a:pt x="1033" y="1060"/>
                  </a:lnTo>
                  <a:lnTo>
                    <a:pt x="1120" y="1095"/>
                  </a:lnTo>
                  <a:lnTo>
                    <a:pt x="1206" y="1073"/>
                  </a:lnTo>
                  <a:lnTo>
                    <a:pt x="1265" y="1062"/>
                  </a:lnTo>
                  <a:lnTo>
                    <a:pt x="1145" y="1037"/>
                  </a:lnTo>
                  <a:lnTo>
                    <a:pt x="1044" y="998"/>
                  </a:lnTo>
                  <a:lnTo>
                    <a:pt x="973" y="998"/>
                  </a:lnTo>
                  <a:lnTo>
                    <a:pt x="890" y="1020"/>
                  </a:lnTo>
                  <a:lnTo>
                    <a:pt x="813" y="1023"/>
                  </a:lnTo>
                  <a:lnTo>
                    <a:pt x="740" y="1035"/>
                  </a:lnTo>
                  <a:lnTo>
                    <a:pt x="606" y="998"/>
                  </a:lnTo>
                  <a:lnTo>
                    <a:pt x="556" y="981"/>
                  </a:lnTo>
                  <a:lnTo>
                    <a:pt x="424" y="910"/>
                  </a:lnTo>
                  <a:lnTo>
                    <a:pt x="338" y="878"/>
                  </a:lnTo>
                  <a:lnTo>
                    <a:pt x="263" y="853"/>
                  </a:lnTo>
                  <a:lnTo>
                    <a:pt x="122" y="840"/>
                  </a:lnTo>
                  <a:lnTo>
                    <a:pt x="0" y="829"/>
                  </a:lnTo>
                  <a:lnTo>
                    <a:pt x="178" y="813"/>
                  </a:lnTo>
                  <a:lnTo>
                    <a:pt x="345" y="820"/>
                  </a:lnTo>
                  <a:lnTo>
                    <a:pt x="470" y="840"/>
                  </a:lnTo>
                  <a:lnTo>
                    <a:pt x="574" y="866"/>
                  </a:lnTo>
                  <a:lnTo>
                    <a:pt x="648" y="840"/>
                  </a:lnTo>
                  <a:lnTo>
                    <a:pt x="848" y="820"/>
                  </a:lnTo>
                  <a:lnTo>
                    <a:pt x="986" y="829"/>
                  </a:lnTo>
                  <a:lnTo>
                    <a:pt x="878" y="779"/>
                  </a:lnTo>
                  <a:lnTo>
                    <a:pt x="756" y="746"/>
                  </a:lnTo>
                  <a:lnTo>
                    <a:pt x="648" y="746"/>
                  </a:lnTo>
                  <a:lnTo>
                    <a:pt x="534" y="721"/>
                  </a:lnTo>
                  <a:lnTo>
                    <a:pt x="435" y="689"/>
                  </a:lnTo>
                  <a:lnTo>
                    <a:pt x="597" y="721"/>
                  </a:lnTo>
                  <a:lnTo>
                    <a:pt x="705" y="708"/>
                  </a:lnTo>
                  <a:lnTo>
                    <a:pt x="813" y="703"/>
                  </a:lnTo>
                  <a:lnTo>
                    <a:pt x="908" y="703"/>
                  </a:lnTo>
                  <a:lnTo>
                    <a:pt x="779" y="629"/>
                  </a:lnTo>
                  <a:lnTo>
                    <a:pt x="648" y="587"/>
                  </a:lnTo>
                  <a:lnTo>
                    <a:pt x="779" y="606"/>
                  </a:lnTo>
                  <a:lnTo>
                    <a:pt x="890" y="613"/>
                  </a:lnTo>
                  <a:lnTo>
                    <a:pt x="1019" y="647"/>
                  </a:lnTo>
                  <a:lnTo>
                    <a:pt x="883" y="548"/>
                  </a:lnTo>
                  <a:lnTo>
                    <a:pt x="756" y="479"/>
                  </a:lnTo>
                  <a:lnTo>
                    <a:pt x="899" y="509"/>
                  </a:lnTo>
                  <a:lnTo>
                    <a:pt x="1061" y="548"/>
                  </a:lnTo>
                  <a:lnTo>
                    <a:pt x="986" y="465"/>
                  </a:lnTo>
                  <a:lnTo>
                    <a:pt x="864" y="394"/>
                  </a:lnTo>
                  <a:lnTo>
                    <a:pt x="1039" y="444"/>
                  </a:lnTo>
                  <a:lnTo>
                    <a:pt x="1129" y="479"/>
                  </a:lnTo>
                  <a:lnTo>
                    <a:pt x="1083" y="387"/>
                  </a:lnTo>
                  <a:lnTo>
                    <a:pt x="962" y="281"/>
                  </a:lnTo>
                  <a:lnTo>
                    <a:pt x="1090" y="317"/>
                  </a:lnTo>
                  <a:lnTo>
                    <a:pt x="1235" y="419"/>
                  </a:lnTo>
                  <a:lnTo>
                    <a:pt x="1206" y="320"/>
                  </a:lnTo>
                  <a:lnTo>
                    <a:pt x="1129" y="262"/>
                  </a:lnTo>
                  <a:lnTo>
                    <a:pt x="1256" y="330"/>
                  </a:lnTo>
                  <a:lnTo>
                    <a:pt x="1109" y="191"/>
                  </a:lnTo>
                  <a:lnTo>
                    <a:pt x="899" y="101"/>
                  </a:lnTo>
                  <a:lnTo>
                    <a:pt x="727" y="27"/>
                  </a:lnTo>
                  <a:lnTo>
                    <a:pt x="516" y="0"/>
                  </a:lnTo>
                  <a:lnTo>
                    <a:pt x="793" y="0"/>
                  </a:lnTo>
                  <a:lnTo>
                    <a:pt x="1085" y="75"/>
                  </a:lnTo>
                  <a:lnTo>
                    <a:pt x="1332" y="216"/>
                  </a:lnTo>
                  <a:lnTo>
                    <a:pt x="1519" y="444"/>
                  </a:lnTo>
                  <a:lnTo>
                    <a:pt x="1609" y="613"/>
                  </a:lnTo>
                  <a:lnTo>
                    <a:pt x="1639" y="779"/>
                  </a:lnTo>
                  <a:lnTo>
                    <a:pt x="1623" y="981"/>
                  </a:lnTo>
                  <a:lnTo>
                    <a:pt x="1613" y="1011"/>
                  </a:lnTo>
                  <a:lnTo>
                    <a:pt x="1725" y="1011"/>
                  </a:lnTo>
                  <a:lnTo>
                    <a:pt x="1810" y="1113"/>
                  </a:lnTo>
                  <a:lnTo>
                    <a:pt x="1810" y="1290"/>
                  </a:lnTo>
                  <a:lnTo>
                    <a:pt x="1784" y="1130"/>
                  </a:lnTo>
                  <a:lnTo>
                    <a:pt x="1740" y="1095"/>
                  </a:lnTo>
                  <a:lnTo>
                    <a:pt x="1669" y="1095"/>
                  </a:lnTo>
                  <a:lnTo>
                    <a:pt x="1716" y="1194"/>
                  </a:lnTo>
                  <a:lnTo>
                    <a:pt x="1694" y="1314"/>
                  </a:lnTo>
                  <a:lnTo>
                    <a:pt x="1630" y="1422"/>
                  </a:lnTo>
                  <a:lnTo>
                    <a:pt x="1609" y="1266"/>
                  </a:lnTo>
                  <a:lnTo>
                    <a:pt x="1542" y="1152"/>
                  </a:lnTo>
                  <a:lnTo>
                    <a:pt x="1542" y="1360"/>
                  </a:lnTo>
                  <a:lnTo>
                    <a:pt x="1519" y="1497"/>
                  </a:lnTo>
                  <a:lnTo>
                    <a:pt x="1473" y="1304"/>
                  </a:lnTo>
                  <a:lnTo>
                    <a:pt x="1448" y="1447"/>
                  </a:lnTo>
                  <a:lnTo>
                    <a:pt x="1388" y="1629"/>
                  </a:lnTo>
                  <a:lnTo>
                    <a:pt x="1448" y="1609"/>
                  </a:lnTo>
                  <a:lnTo>
                    <a:pt x="1428" y="1776"/>
                  </a:lnTo>
                  <a:lnTo>
                    <a:pt x="1519" y="1567"/>
                  </a:lnTo>
                  <a:lnTo>
                    <a:pt x="1510" y="1730"/>
                  </a:lnTo>
                  <a:lnTo>
                    <a:pt x="1613" y="1510"/>
                  </a:lnTo>
                  <a:lnTo>
                    <a:pt x="1573" y="1710"/>
                  </a:lnTo>
                  <a:lnTo>
                    <a:pt x="1669" y="1625"/>
                  </a:lnTo>
                  <a:lnTo>
                    <a:pt x="1795" y="1371"/>
                  </a:lnTo>
                  <a:lnTo>
                    <a:pt x="1694" y="1653"/>
                  </a:lnTo>
                  <a:lnTo>
                    <a:pt x="1600" y="1752"/>
                  </a:lnTo>
                  <a:lnTo>
                    <a:pt x="1422" y="1883"/>
                  </a:lnTo>
                  <a:lnTo>
                    <a:pt x="1316" y="1922"/>
                  </a:lnTo>
                  <a:lnTo>
                    <a:pt x="1204" y="2068"/>
                  </a:lnTo>
                  <a:lnTo>
                    <a:pt x="1109" y="2171"/>
                  </a:lnTo>
                  <a:lnTo>
                    <a:pt x="1226" y="1922"/>
                  </a:lnTo>
                  <a:lnTo>
                    <a:pt x="1235" y="1653"/>
                  </a:lnTo>
                  <a:lnTo>
                    <a:pt x="1250" y="1482"/>
                  </a:lnTo>
                  <a:lnTo>
                    <a:pt x="1307" y="1302"/>
                  </a:lnTo>
                  <a:lnTo>
                    <a:pt x="1402" y="1136"/>
                  </a:lnTo>
                  <a:lnTo>
                    <a:pt x="1367" y="1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7" name=""/>
            <p:cNvSpPr/>
            <p:nvPr/>
          </p:nvSpPr>
          <p:spPr>
            <a:xfrm>
              <a:off x="7661520" y="5335200"/>
              <a:ext cx="117720" cy="106200"/>
            </a:xfrm>
            <a:custGeom>
              <a:avLst/>
              <a:gdLst/>
              <a:ahLst/>
              <a:rect l="l" t="t" r="r" b="b"/>
              <a:pathLst>
                <a:path w="1547" h="1598">
                  <a:moveTo>
                    <a:pt x="1038" y="25"/>
                  </a:moveTo>
                  <a:lnTo>
                    <a:pt x="877" y="75"/>
                  </a:lnTo>
                  <a:lnTo>
                    <a:pt x="669" y="163"/>
                  </a:lnTo>
                  <a:lnTo>
                    <a:pt x="491" y="284"/>
                  </a:lnTo>
                  <a:lnTo>
                    <a:pt x="369" y="422"/>
                  </a:lnTo>
                  <a:lnTo>
                    <a:pt x="268" y="606"/>
                  </a:lnTo>
                  <a:lnTo>
                    <a:pt x="183" y="746"/>
                  </a:lnTo>
                  <a:lnTo>
                    <a:pt x="106" y="884"/>
                  </a:lnTo>
                  <a:lnTo>
                    <a:pt x="0" y="1060"/>
                  </a:lnTo>
                  <a:lnTo>
                    <a:pt x="77" y="1023"/>
                  </a:lnTo>
                  <a:lnTo>
                    <a:pt x="157" y="1062"/>
                  </a:lnTo>
                  <a:lnTo>
                    <a:pt x="146" y="1176"/>
                  </a:lnTo>
                  <a:lnTo>
                    <a:pt x="159" y="1262"/>
                  </a:lnTo>
                  <a:lnTo>
                    <a:pt x="159" y="1360"/>
                  </a:lnTo>
                  <a:lnTo>
                    <a:pt x="97" y="1389"/>
                  </a:lnTo>
                  <a:lnTo>
                    <a:pt x="49" y="1348"/>
                  </a:lnTo>
                  <a:lnTo>
                    <a:pt x="25" y="1389"/>
                  </a:lnTo>
                  <a:lnTo>
                    <a:pt x="27" y="1583"/>
                  </a:lnTo>
                  <a:lnTo>
                    <a:pt x="62" y="1598"/>
                  </a:lnTo>
                  <a:lnTo>
                    <a:pt x="111" y="1429"/>
                  </a:lnTo>
                  <a:lnTo>
                    <a:pt x="168" y="1436"/>
                  </a:lnTo>
                  <a:lnTo>
                    <a:pt x="168" y="1567"/>
                  </a:lnTo>
                  <a:lnTo>
                    <a:pt x="304" y="1145"/>
                  </a:lnTo>
                  <a:lnTo>
                    <a:pt x="319" y="1020"/>
                  </a:lnTo>
                  <a:lnTo>
                    <a:pt x="194" y="1130"/>
                  </a:lnTo>
                  <a:lnTo>
                    <a:pt x="176" y="1035"/>
                  </a:lnTo>
                  <a:lnTo>
                    <a:pt x="106" y="991"/>
                  </a:lnTo>
                  <a:lnTo>
                    <a:pt x="198" y="878"/>
                  </a:lnTo>
                  <a:lnTo>
                    <a:pt x="231" y="840"/>
                  </a:lnTo>
                  <a:lnTo>
                    <a:pt x="662" y="829"/>
                  </a:lnTo>
                  <a:lnTo>
                    <a:pt x="231" y="941"/>
                  </a:lnTo>
                  <a:lnTo>
                    <a:pt x="207" y="1011"/>
                  </a:lnTo>
                  <a:lnTo>
                    <a:pt x="434" y="977"/>
                  </a:lnTo>
                  <a:lnTo>
                    <a:pt x="355" y="1062"/>
                  </a:lnTo>
                  <a:lnTo>
                    <a:pt x="515" y="991"/>
                  </a:lnTo>
                  <a:lnTo>
                    <a:pt x="743" y="829"/>
                  </a:lnTo>
                  <a:lnTo>
                    <a:pt x="963" y="820"/>
                  </a:lnTo>
                  <a:lnTo>
                    <a:pt x="917" y="746"/>
                  </a:lnTo>
                  <a:lnTo>
                    <a:pt x="921" y="719"/>
                  </a:lnTo>
                  <a:lnTo>
                    <a:pt x="1053" y="680"/>
                  </a:lnTo>
                  <a:lnTo>
                    <a:pt x="978" y="636"/>
                  </a:lnTo>
                  <a:lnTo>
                    <a:pt x="985" y="574"/>
                  </a:lnTo>
                  <a:lnTo>
                    <a:pt x="1082" y="519"/>
                  </a:lnTo>
                  <a:lnTo>
                    <a:pt x="1038" y="465"/>
                  </a:lnTo>
                  <a:lnTo>
                    <a:pt x="1053" y="394"/>
                  </a:lnTo>
                  <a:lnTo>
                    <a:pt x="978" y="336"/>
                  </a:lnTo>
                  <a:lnTo>
                    <a:pt x="886" y="330"/>
                  </a:lnTo>
                  <a:lnTo>
                    <a:pt x="1014" y="284"/>
                  </a:lnTo>
                  <a:lnTo>
                    <a:pt x="1167" y="281"/>
                  </a:lnTo>
                  <a:lnTo>
                    <a:pt x="1093" y="233"/>
                  </a:lnTo>
                  <a:lnTo>
                    <a:pt x="1167" y="198"/>
                  </a:lnTo>
                  <a:lnTo>
                    <a:pt x="985" y="161"/>
                  </a:lnTo>
                  <a:lnTo>
                    <a:pt x="814" y="161"/>
                  </a:lnTo>
                  <a:lnTo>
                    <a:pt x="662" y="191"/>
                  </a:lnTo>
                  <a:lnTo>
                    <a:pt x="886" y="101"/>
                  </a:lnTo>
                  <a:lnTo>
                    <a:pt x="1110" y="41"/>
                  </a:lnTo>
                  <a:lnTo>
                    <a:pt x="1289" y="25"/>
                  </a:lnTo>
                  <a:lnTo>
                    <a:pt x="1547" y="25"/>
                  </a:lnTo>
                  <a:lnTo>
                    <a:pt x="1466" y="0"/>
                  </a:lnTo>
                  <a:lnTo>
                    <a:pt x="1185" y="0"/>
                  </a:lnTo>
                  <a:lnTo>
                    <a:pt x="1038"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8" name=""/>
            <p:cNvSpPr/>
            <p:nvPr/>
          </p:nvSpPr>
          <p:spPr>
            <a:xfrm>
              <a:off x="7656120" y="5410440"/>
              <a:ext cx="9360" cy="22320"/>
            </a:xfrm>
            <a:custGeom>
              <a:avLst/>
              <a:gdLst/>
              <a:ahLst/>
              <a:rect l="l" t="t" r="r" b="b"/>
              <a:pathLst>
                <a:path w="134" h="334">
                  <a:moveTo>
                    <a:pt x="132" y="6"/>
                  </a:moveTo>
                  <a:lnTo>
                    <a:pt x="134" y="68"/>
                  </a:lnTo>
                  <a:lnTo>
                    <a:pt x="86" y="112"/>
                  </a:lnTo>
                  <a:lnTo>
                    <a:pt x="49" y="195"/>
                  </a:lnTo>
                  <a:lnTo>
                    <a:pt x="37" y="273"/>
                  </a:lnTo>
                  <a:lnTo>
                    <a:pt x="17" y="334"/>
                  </a:lnTo>
                  <a:lnTo>
                    <a:pt x="0" y="329"/>
                  </a:lnTo>
                  <a:lnTo>
                    <a:pt x="3" y="218"/>
                  </a:lnTo>
                  <a:lnTo>
                    <a:pt x="28" y="128"/>
                  </a:lnTo>
                  <a:lnTo>
                    <a:pt x="63" y="36"/>
                  </a:lnTo>
                  <a:lnTo>
                    <a:pt x="99" y="0"/>
                  </a:lnTo>
                  <a:lnTo>
                    <a:pt x="132"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479" name=""/>
            <p:cNvSpPr/>
            <p:nvPr/>
          </p:nvSpPr>
          <p:spPr>
            <a:xfrm>
              <a:off x="7651080" y="5409360"/>
              <a:ext cx="44280" cy="135000"/>
            </a:xfrm>
            <a:custGeom>
              <a:avLst/>
              <a:gdLst/>
              <a:ahLst/>
              <a:rect l="l" t="t" r="r" b="b"/>
              <a:pathLst>
                <a:path w="583" h="2024">
                  <a:moveTo>
                    <a:pt x="90" y="0"/>
                  </a:moveTo>
                  <a:lnTo>
                    <a:pt x="40" y="85"/>
                  </a:lnTo>
                  <a:lnTo>
                    <a:pt x="18" y="191"/>
                  </a:lnTo>
                  <a:lnTo>
                    <a:pt x="18" y="281"/>
                  </a:lnTo>
                  <a:lnTo>
                    <a:pt x="49" y="397"/>
                  </a:lnTo>
                  <a:lnTo>
                    <a:pt x="79" y="485"/>
                  </a:lnTo>
                  <a:lnTo>
                    <a:pt x="111" y="606"/>
                  </a:lnTo>
                  <a:lnTo>
                    <a:pt x="139" y="663"/>
                  </a:lnTo>
                  <a:lnTo>
                    <a:pt x="205" y="692"/>
                  </a:lnTo>
                  <a:lnTo>
                    <a:pt x="245" y="676"/>
                  </a:lnTo>
                  <a:lnTo>
                    <a:pt x="317" y="316"/>
                  </a:lnTo>
                  <a:lnTo>
                    <a:pt x="356" y="258"/>
                  </a:lnTo>
                  <a:lnTo>
                    <a:pt x="302" y="546"/>
                  </a:lnTo>
                  <a:lnTo>
                    <a:pt x="211" y="1001"/>
                  </a:lnTo>
                  <a:lnTo>
                    <a:pt x="211" y="1093"/>
                  </a:lnTo>
                  <a:lnTo>
                    <a:pt x="356" y="1549"/>
                  </a:lnTo>
                  <a:lnTo>
                    <a:pt x="583" y="1823"/>
                  </a:lnTo>
                  <a:lnTo>
                    <a:pt x="489" y="1793"/>
                  </a:lnTo>
                  <a:lnTo>
                    <a:pt x="317" y="1570"/>
                  </a:lnTo>
                  <a:lnTo>
                    <a:pt x="220" y="1390"/>
                  </a:lnTo>
                  <a:lnTo>
                    <a:pt x="293" y="1803"/>
                  </a:lnTo>
                  <a:lnTo>
                    <a:pt x="471" y="2024"/>
                  </a:lnTo>
                  <a:lnTo>
                    <a:pt x="245" y="1768"/>
                  </a:lnTo>
                  <a:lnTo>
                    <a:pt x="194" y="1616"/>
                  </a:lnTo>
                  <a:lnTo>
                    <a:pt x="172" y="1441"/>
                  </a:lnTo>
                  <a:lnTo>
                    <a:pt x="183" y="1282"/>
                  </a:lnTo>
                  <a:lnTo>
                    <a:pt x="159" y="1231"/>
                  </a:lnTo>
                  <a:lnTo>
                    <a:pt x="139" y="1129"/>
                  </a:lnTo>
                  <a:lnTo>
                    <a:pt x="161" y="1015"/>
                  </a:lnTo>
                  <a:lnTo>
                    <a:pt x="205" y="738"/>
                  </a:lnTo>
                  <a:lnTo>
                    <a:pt x="134" y="692"/>
                  </a:lnTo>
                  <a:lnTo>
                    <a:pt x="79" y="627"/>
                  </a:lnTo>
                  <a:lnTo>
                    <a:pt x="62" y="477"/>
                  </a:lnTo>
                  <a:lnTo>
                    <a:pt x="0" y="300"/>
                  </a:lnTo>
                  <a:lnTo>
                    <a:pt x="0" y="201"/>
                  </a:lnTo>
                  <a:lnTo>
                    <a:pt x="38" y="85"/>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0" name=""/>
            <p:cNvSpPr/>
            <p:nvPr/>
          </p:nvSpPr>
          <p:spPr>
            <a:xfrm>
              <a:off x="7683480" y="5462280"/>
              <a:ext cx="126360" cy="99360"/>
            </a:xfrm>
            <a:custGeom>
              <a:avLst/>
              <a:gdLst/>
              <a:ahLst/>
              <a:rect l="l" t="t" r="r" b="b"/>
              <a:pathLst>
                <a:path w="1657" h="1485">
                  <a:moveTo>
                    <a:pt x="272" y="727"/>
                  </a:moveTo>
                  <a:lnTo>
                    <a:pt x="244" y="745"/>
                  </a:lnTo>
                  <a:lnTo>
                    <a:pt x="351" y="844"/>
                  </a:lnTo>
                  <a:lnTo>
                    <a:pt x="300" y="929"/>
                  </a:lnTo>
                  <a:lnTo>
                    <a:pt x="198" y="1000"/>
                  </a:lnTo>
                  <a:lnTo>
                    <a:pt x="62" y="1000"/>
                  </a:lnTo>
                  <a:lnTo>
                    <a:pt x="129" y="1077"/>
                  </a:lnTo>
                  <a:lnTo>
                    <a:pt x="292" y="1192"/>
                  </a:lnTo>
                  <a:lnTo>
                    <a:pt x="156" y="1226"/>
                  </a:lnTo>
                  <a:lnTo>
                    <a:pt x="0" y="1171"/>
                  </a:lnTo>
                  <a:lnTo>
                    <a:pt x="132" y="1321"/>
                  </a:lnTo>
                  <a:lnTo>
                    <a:pt x="277" y="1485"/>
                  </a:lnTo>
                  <a:lnTo>
                    <a:pt x="438" y="1485"/>
                  </a:lnTo>
                  <a:lnTo>
                    <a:pt x="634" y="1402"/>
                  </a:lnTo>
                  <a:lnTo>
                    <a:pt x="767" y="1272"/>
                  </a:lnTo>
                  <a:lnTo>
                    <a:pt x="670" y="1303"/>
                  </a:lnTo>
                  <a:lnTo>
                    <a:pt x="560" y="1206"/>
                  </a:lnTo>
                  <a:lnTo>
                    <a:pt x="731" y="1182"/>
                  </a:lnTo>
                  <a:lnTo>
                    <a:pt x="892" y="1125"/>
                  </a:lnTo>
                  <a:lnTo>
                    <a:pt x="835" y="1226"/>
                  </a:lnTo>
                  <a:lnTo>
                    <a:pt x="996" y="1116"/>
                  </a:lnTo>
                  <a:lnTo>
                    <a:pt x="1028" y="1070"/>
                  </a:lnTo>
                  <a:lnTo>
                    <a:pt x="1162" y="975"/>
                  </a:lnTo>
                  <a:lnTo>
                    <a:pt x="1215" y="874"/>
                  </a:lnTo>
                  <a:lnTo>
                    <a:pt x="1637" y="134"/>
                  </a:lnTo>
                  <a:lnTo>
                    <a:pt x="1657" y="0"/>
                  </a:lnTo>
                  <a:lnTo>
                    <a:pt x="1162" y="922"/>
                  </a:lnTo>
                  <a:lnTo>
                    <a:pt x="1070" y="984"/>
                  </a:lnTo>
                  <a:lnTo>
                    <a:pt x="920" y="1019"/>
                  </a:lnTo>
                  <a:lnTo>
                    <a:pt x="846" y="1109"/>
                  </a:lnTo>
                  <a:lnTo>
                    <a:pt x="721" y="1141"/>
                  </a:lnTo>
                  <a:lnTo>
                    <a:pt x="634" y="1125"/>
                  </a:lnTo>
                  <a:lnTo>
                    <a:pt x="593" y="1077"/>
                  </a:lnTo>
                  <a:lnTo>
                    <a:pt x="560" y="975"/>
                  </a:lnTo>
                  <a:lnTo>
                    <a:pt x="549" y="890"/>
                  </a:lnTo>
                  <a:lnTo>
                    <a:pt x="650" y="855"/>
                  </a:lnTo>
                  <a:lnTo>
                    <a:pt x="634" y="835"/>
                  </a:lnTo>
                  <a:lnTo>
                    <a:pt x="525" y="844"/>
                  </a:lnTo>
                  <a:lnTo>
                    <a:pt x="394" y="800"/>
                  </a:lnTo>
                  <a:lnTo>
                    <a:pt x="303" y="745"/>
                  </a:lnTo>
                  <a:lnTo>
                    <a:pt x="27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1" name=""/>
            <p:cNvSpPr/>
            <p:nvPr/>
          </p:nvSpPr>
          <p:spPr>
            <a:xfrm>
              <a:off x="7684200" y="5493240"/>
              <a:ext cx="71280" cy="28800"/>
            </a:xfrm>
            <a:custGeom>
              <a:avLst/>
              <a:gdLst/>
              <a:ahLst/>
              <a:rect l="l" t="t" r="r" b="b"/>
              <a:pathLst>
                <a:path w="934" h="431">
                  <a:moveTo>
                    <a:pt x="152" y="83"/>
                  </a:moveTo>
                  <a:lnTo>
                    <a:pt x="152" y="0"/>
                  </a:lnTo>
                  <a:lnTo>
                    <a:pt x="77" y="0"/>
                  </a:lnTo>
                  <a:lnTo>
                    <a:pt x="0" y="64"/>
                  </a:lnTo>
                  <a:lnTo>
                    <a:pt x="33" y="219"/>
                  </a:lnTo>
                  <a:lnTo>
                    <a:pt x="152" y="114"/>
                  </a:lnTo>
                  <a:lnTo>
                    <a:pt x="418" y="205"/>
                  </a:lnTo>
                  <a:lnTo>
                    <a:pt x="485" y="259"/>
                  </a:lnTo>
                  <a:lnTo>
                    <a:pt x="611" y="259"/>
                  </a:lnTo>
                  <a:lnTo>
                    <a:pt x="844" y="316"/>
                  </a:lnTo>
                  <a:lnTo>
                    <a:pt x="842" y="387"/>
                  </a:lnTo>
                  <a:lnTo>
                    <a:pt x="888" y="431"/>
                  </a:lnTo>
                  <a:lnTo>
                    <a:pt x="934" y="367"/>
                  </a:lnTo>
                  <a:lnTo>
                    <a:pt x="881" y="254"/>
                  </a:lnTo>
                  <a:lnTo>
                    <a:pt x="844" y="265"/>
                  </a:lnTo>
                  <a:lnTo>
                    <a:pt x="620" y="219"/>
                  </a:lnTo>
                  <a:lnTo>
                    <a:pt x="521" y="228"/>
                  </a:lnTo>
                  <a:lnTo>
                    <a:pt x="482" y="171"/>
                  </a:lnTo>
                  <a:lnTo>
                    <a:pt x="194" y="99"/>
                  </a:lnTo>
                  <a:lnTo>
                    <a:pt x="152" y="8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82" name=""/>
            <p:cNvSpPr/>
            <p:nvPr/>
          </p:nvSpPr>
          <p:spPr>
            <a:xfrm>
              <a:off x="7712280" y="5474520"/>
              <a:ext cx="36000" cy="31320"/>
            </a:xfrm>
            <a:custGeom>
              <a:avLst/>
              <a:gdLst/>
              <a:ahLst/>
              <a:rect l="l" t="t" r="r" b="b"/>
              <a:pathLst>
                <a:path w="472" h="465">
                  <a:moveTo>
                    <a:pt x="28" y="113"/>
                  </a:moveTo>
                  <a:lnTo>
                    <a:pt x="64" y="96"/>
                  </a:lnTo>
                  <a:lnTo>
                    <a:pt x="154" y="195"/>
                  </a:lnTo>
                  <a:lnTo>
                    <a:pt x="248" y="206"/>
                  </a:lnTo>
                  <a:lnTo>
                    <a:pt x="302" y="159"/>
                  </a:lnTo>
                  <a:lnTo>
                    <a:pt x="309" y="0"/>
                  </a:lnTo>
                  <a:lnTo>
                    <a:pt x="345" y="168"/>
                  </a:lnTo>
                  <a:lnTo>
                    <a:pt x="391" y="242"/>
                  </a:lnTo>
                  <a:lnTo>
                    <a:pt x="472" y="242"/>
                  </a:lnTo>
                  <a:lnTo>
                    <a:pt x="470" y="263"/>
                  </a:lnTo>
                  <a:lnTo>
                    <a:pt x="345" y="270"/>
                  </a:lnTo>
                  <a:lnTo>
                    <a:pt x="224" y="292"/>
                  </a:lnTo>
                  <a:lnTo>
                    <a:pt x="217" y="410"/>
                  </a:lnTo>
                  <a:lnTo>
                    <a:pt x="154" y="401"/>
                  </a:lnTo>
                  <a:lnTo>
                    <a:pt x="149" y="465"/>
                  </a:lnTo>
                  <a:lnTo>
                    <a:pt x="110" y="391"/>
                  </a:lnTo>
                  <a:lnTo>
                    <a:pt x="173" y="270"/>
                  </a:lnTo>
                  <a:lnTo>
                    <a:pt x="92" y="175"/>
                  </a:lnTo>
                  <a:lnTo>
                    <a:pt x="11" y="175"/>
                  </a:lnTo>
                  <a:lnTo>
                    <a:pt x="0" y="145"/>
                  </a:lnTo>
                  <a:lnTo>
                    <a:pt x="28" y="11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83" name=""/>
            <p:cNvSpPr/>
            <p:nvPr/>
          </p:nvSpPr>
          <p:spPr>
            <a:xfrm>
              <a:off x="7736040" y="5445360"/>
              <a:ext cx="70200" cy="42480"/>
            </a:xfrm>
            <a:custGeom>
              <a:avLst/>
              <a:gdLst/>
              <a:ahLst/>
              <a:rect l="l" t="t" r="r" b="b"/>
              <a:pathLst>
                <a:path w="924" h="640">
                  <a:moveTo>
                    <a:pt x="36" y="71"/>
                  </a:moveTo>
                  <a:lnTo>
                    <a:pt x="92" y="92"/>
                  </a:lnTo>
                  <a:lnTo>
                    <a:pt x="75" y="177"/>
                  </a:lnTo>
                  <a:lnTo>
                    <a:pt x="29" y="334"/>
                  </a:lnTo>
                  <a:lnTo>
                    <a:pt x="0" y="517"/>
                  </a:lnTo>
                  <a:lnTo>
                    <a:pt x="25" y="613"/>
                  </a:lnTo>
                  <a:lnTo>
                    <a:pt x="42" y="431"/>
                  </a:lnTo>
                  <a:lnTo>
                    <a:pt x="92" y="304"/>
                  </a:lnTo>
                  <a:lnTo>
                    <a:pt x="132" y="517"/>
                  </a:lnTo>
                  <a:lnTo>
                    <a:pt x="128" y="594"/>
                  </a:lnTo>
                  <a:lnTo>
                    <a:pt x="178" y="535"/>
                  </a:lnTo>
                  <a:lnTo>
                    <a:pt x="477" y="640"/>
                  </a:lnTo>
                  <a:lnTo>
                    <a:pt x="601" y="620"/>
                  </a:lnTo>
                  <a:lnTo>
                    <a:pt x="694" y="565"/>
                  </a:lnTo>
                  <a:lnTo>
                    <a:pt x="756" y="480"/>
                  </a:lnTo>
                  <a:lnTo>
                    <a:pt x="811" y="408"/>
                  </a:lnTo>
                  <a:lnTo>
                    <a:pt x="680" y="565"/>
                  </a:lnTo>
                  <a:lnTo>
                    <a:pt x="601" y="594"/>
                  </a:lnTo>
                  <a:lnTo>
                    <a:pt x="500" y="604"/>
                  </a:lnTo>
                  <a:lnTo>
                    <a:pt x="424" y="594"/>
                  </a:lnTo>
                  <a:lnTo>
                    <a:pt x="334" y="558"/>
                  </a:lnTo>
                  <a:lnTo>
                    <a:pt x="246" y="466"/>
                  </a:lnTo>
                  <a:lnTo>
                    <a:pt x="253" y="359"/>
                  </a:lnTo>
                  <a:lnTo>
                    <a:pt x="394" y="480"/>
                  </a:lnTo>
                  <a:lnTo>
                    <a:pt x="420" y="414"/>
                  </a:lnTo>
                  <a:lnTo>
                    <a:pt x="299" y="238"/>
                  </a:lnTo>
                  <a:lnTo>
                    <a:pt x="299" y="141"/>
                  </a:lnTo>
                  <a:lnTo>
                    <a:pt x="429" y="133"/>
                  </a:lnTo>
                  <a:lnTo>
                    <a:pt x="477" y="157"/>
                  </a:lnTo>
                  <a:lnTo>
                    <a:pt x="429" y="258"/>
                  </a:lnTo>
                  <a:lnTo>
                    <a:pt x="530" y="293"/>
                  </a:lnTo>
                  <a:lnTo>
                    <a:pt x="659" y="293"/>
                  </a:lnTo>
                  <a:lnTo>
                    <a:pt x="671" y="271"/>
                  </a:lnTo>
                  <a:lnTo>
                    <a:pt x="552" y="141"/>
                  </a:lnTo>
                  <a:lnTo>
                    <a:pt x="694" y="166"/>
                  </a:lnTo>
                  <a:lnTo>
                    <a:pt x="842" y="238"/>
                  </a:lnTo>
                  <a:lnTo>
                    <a:pt x="827" y="348"/>
                  </a:lnTo>
                  <a:lnTo>
                    <a:pt x="866" y="286"/>
                  </a:lnTo>
                  <a:lnTo>
                    <a:pt x="912" y="274"/>
                  </a:lnTo>
                  <a:lnTo>
                    <a:pt x="924" y="223"/>
                  </a:lnTo>
                  <a:lnTo>
                    <a:pt x="650" y="104"/>
                  </a:lnTo>
                  <a:lnTo>
                    <a:pt x="585" y="36"/>
                  </a:lnTo>
                  <a:lnTo>
                    <a:pt x="369" y="0"/>
                  </a:lnTo>
                  <a:lnTo>
                    <a:pt x="223" y="5"/>
                  </a:lnTo>
                  <a:lnTo>
                    <a:pt x="189" y="58"/>
                  </a:lnTo>
                  <a:lnTo>
                    <a:pt x="46" y="11"/>
                  </a:lnTo>
                  <a:lnTo>
                    <a:pt x="36" y="7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484" name=""/>
            <p:cNvSpPr/>
            <p:nvPr/>
          </p:nvSpPr>
          <p:spPr>
            <a:xfrm>
              <a:off x="7761960" y="5453640"/>
              <a:ext cx="4680" cy="6120"/>
            </a:xfrm>
            <a:custGeom>
              <a:avLst/>
              <a:gdLst/>
              <a:ahLst/>
              <a:rect l="l" t="t" r="r" b="b"/>
              <a:pathLst>
                <a:path w="64" h="90">
                  <a:moveTo>
                    <a:pt x="0" y="0"/>
                  </a:moveTo>
                  <a:lnTo>
                    <a:pt x="18" y="90"/>
                  </a:lnTo>
                  <a:lnTo>
                    <a:pt x="6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485" name=""/>
            <p:cNvSpPr/>
            <p:nvPr/>
          </p:nvSpPr>
          <p:spPr>
            <a:xfrm>
              <a:off x="7682760" y="5423400"/>
              <a:ext cx="58320" cy="21600"/>
            </a:xfrm>
            <a:custGeom>
              <a:avLst/>
              <a:gdLst/>
              <a:ahLst/>
              <a:rect l="l" t="t" r="r" b="b"/>
              <a:pathLst>
                <a:path w="774" h="328">
                  <a:moveTo>
                    <a:pt x="759" y="328"/>
                  </a:moveTo>
                  <a:lnTo>
                    <a:pt x="774" y="293"/>
                  </a:lnTo>
                  <a:lnTo>
                    <a:pt x="678" y="185"/>
                  </a:lnTo>
                  <a:lnTo>
                    <a:pt x="443" y="46"/>
                  </a:lnTo>
                  <a:lnTo>
                    <a:pt x="270" y="64"/>
                  </a:lnTo>
                  <a:lnTo>
                    <a:pt x="173" y="23"/>
                  </a:lnTo>
                  <a:lnTo>
                    <a:pt x="18" y="0"/>
                  </a:lnTo>
                  <a:lnTo>
                    <a:pt x="0" y="23"/>
                  </a:lnTo>
                  <a:lnTo>
                    <a:pt x="51" y="64"/>
                  </a:lnTo>
                  <a:lnTo>
                    <a:pt x="245" y="104"/>
                  </a:lnTo>
                  <a:lnTo>
                    <a:pt x="337" y="127"/>
                  </a:lnTo>
                  <a:lnTo>
                    <a:pt x="452" y="134"/>
                  </a:lnTo>
                  <a:lnTo>
                    <a:pt x="607" y="219"/>
                  </a:lnTo>
                  <a:lnTo>
                    <a:pt x="706" y="300"/>
                  </a:lnTo>
                  <a:lnTo>
                    <a:pt x="735" y="328"/>
                  </a:lnTo>
                  <a:lnTo>
                    <a:pt x="759" y="32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486" name=""/>
            <p:cNvSpPr/>
            <p:nvPr/>
          </p:nvSpPr>
          <p:spPr>
            <a:xfrm>
              <a:off x="7679880" y="5426640"/>
              <a:ext cx="61560" cy="43560"/>
            </a:xfrm>
            <a:custGeom>
              <a:avLst/>
              <a:gdLst/>
              <a:ahLst/>
              <a:rect l="l" t="t" r="r" b="b"/>
              <a:pathLst>
                <a:path w="807" h="655">
                  <a:moveTo>
                    <a:pt x="132" y="32"/>
                  </a:moveTo>
                  <a:lnTo>
                    <a:pt x="88" y="93"/>
                  </a:lnTo>
                  <a:lnTo>
                    <a:pt x="51" y="227"/>
                  </a:lnTo>
                  <a:lnTo>
                    <a:pt x="37" y="359"/>
                  </a:lnTo>
                  <a:lnTo>
                    <a:pt x="77" y="466"/>
                  </a:lnTo>
                  <a:lnTo>
                    <a:pt x="132" y="535"/>
                  </a:lnTo>
                  <a:lnTo>
                    <a:pt x="249" y="595"/>
                  </a:lnTo>
                  <a:lnTo>
                    <a:pt x="383" y="634"/>
                  </a:lnTo>
                  <a:lnTo>
                    <a:pt x="501" y="625"/>
                  </a:lnTo>
                  <a:lnTo>
                    <a:pt x="581" y="595"/>
                  </a:lnTo>
                  <a:lnTo>
                    <a:pt x="651" y="551"/>
                  </a:lnTo>
                  <a:lnTo>
                    <a:pt x="708" y="480"/>
                  </a:lnTo>
                  <a:lnTo>
                    <a:pt x="761" y="392"/>
                  </a:lnTo>
                  <a:lnTo>
                    <a:pt x="409" y="480"/>
                  </a:lnTo>
                  <a:lnTo>
                    <a:pt x="480" y="381"/>
                  </a:lnTo>
                  <a:lnTo>
                    <a:pt x="576" y="359"/>
                  </a:lnTo>
                  <a:lnTo>
                    <a:pt x="736" y="359"/>
                  </a:lnTo>
                  <a:lnTo>
                    <a:pt x="807" y="288"/>
                  </a:lnTo>
                  <a:lnTo>
                    <a:pt x="807" y="359"/>
                  </a:lnTo>
                  <a:lnTo>
                    <a:pt x="708" y="530"/>
                  </a:lnTo>
                  <a:lnTo>
                    <a:pt x="611" y="611"/>
                  </a:lnTo>
                  <a:lnTo>
                    <a:pt x="491" y="636"/>
                  </a:lnTo>
                  <a:lnTo>
                    <a:pt x="383" y="655"/>
                  </a:lnTo>
                  <a:lnTo>
                    <a:pt x="222" y="611"/>
                  </a:lnTo>
                  <a:lnTo>
                    <a:pt x="88" y="530"/>
                  </a:lnTo>
                  <a:lnTo>
                    <a:pt x="26" y="434"/>
                  </a:lnTo>
                  <a:lnTo>
                    <a:pt x="0" y="282"/>
                  </a:lnTo>
                  <a:lnTo>
                    <a:pt x="26" y="117"/>
                  </a:lnTo>
                  <a:lnTo>
                    <a:pt x="95" y="0"/>
                  </a:lnTo>
                  <a:lnTo>
                    <a:pt x="132" y="3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487" name=""/>
            <p:cNvSpPr/>
            <p:nvPr/>
          </p:nvSpPr>
          <p:spPr>
            <a:xfrm>
              <a:off x="7700760" y="5434920"/>
              <a:ext cx="31680" cy="12600"/>
            </a:xfrm>
            <a:custGeom>
              <a:avLst/>
              <a:gdLst/>
              <a:ahLst/>
              <a:rect l="l" t="t" r="r" b="b"/>
              <a:pathLst>
                <a:path w="412" h="189">
                  <a:moveTo>
                    <a:pt x="15" y="110"/>
                  </a:moveTo>
                  <a:lnTo>
                    <a:pt x="0" y="50"/>
                  </a:lnTo>
                  <a:lnTo>
                    <a:pt x="34" y="0"/>
                  </a:lnTo>
                  <a:lnTo>
                    <a:pt x="207" y="0"/>
                  </a:lnTo>
                  <a:lnTo>
                    <a:pt x="393" y="99"/>
                  </a:lnTo>
                  <a:lnTo>
                    <a:pt x="412" y="160"/>
                  </a:lnTo>
                  <a:lnTo>
                    <a:pt x="378" y="189"/>
                  </a:lnTo>
                  <a:lnTo>
                    <a:pt x="165" y="185"/>
                  </a:lnTo>
                  <a:lnTo>
                    <a:pt x="200" y="154"/>
                  </a:lnTo>
                  <a:lnTo>
                    <a:pt x="154" y="119"/>
                  </a:lnTo>
                  <a:lnTo>
                    <a:pt x="165" y="84"/>
                  </a:lnTo>
                  <a:lnTo>
                    <a:pt x="200" y="84"/>
                  </a:lnTo>
                  <a:lnTo>
                    <a:pt x="165" y="50"/>
                  </a:lnTo>
                  <a:lnTo>
                    <a:pt x="55" y="68"/>
                  </a:lnTo>
                  <a:lnTo>
                    <a:pt x="15" y="1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88" name=""/>
            <p:cNvSpPr/>
            <p:nvPr/>
          </p:nvSpPr>
          <p:spPr>
            <a:xfrm>
              <a:off x="7793640" y="5460120"/>
              <a:ext cx="28440" cy="33840"/>
            </a:xfrm>
            <a:custGeom>
              <a:avLst/>
              <a:gdLst/>
              <a:ahLst/>
              <a:rect l="l" t="t" r="r" b="b"/>
              <a:pathLst>
                <a:path w="374" h="514">
                  <a:moveTo>
                    <a:pt x="0" y="492"/>
                  </a:moveTo>
                  <a:lnTo>
                    <a:pt x="64" y="514"/>
                  </a:lnTo>
                  <a:lnTo>
                    <a:pt x="136" y="485"/>
                  </a:lnTo>
                  <a:lnTo>
                    <a:pt x="231" y="371"/>
                  </a:lnTo>
                  <a:lnTo>
                    <a:pt x="297" y="243"/>
                  </a:lnTo>
                  <a:lnTo>
                    <a:pt x="369" y="95"/>
                  </a:lnTo>
                  <a:lnTo>
                    <a:pt x="374" y="12"/>
                  </a:lnTo>
                  <a:lnTo>
                    <a:pt x="359" y="0"/>
                  </a:lnTo>
                  <a:lnTo>
                    <a:pt x="334" y="100"/>
                  </a:lnTo>
                  <a:lnTo>
                    <a:pt x="255" y="277"/>
                  </a:lnTo>
                  <a:lnTo>
                    <a:pt x="168" y="426"/>
                  </a:lnTo>
                  <a:lnTo>
                    <a:pt x="110" y="452"/>
                  </a:lnTo>
                  <a:lnTo>
                    <a:pt x="64" y="381"/>
                  </a:lnTo>
                  <a:lnTo>
                    <a:pt x="0" y="452"/>
                  </a:lnTo>
                  <a:lnTo>
                    <a:pt x="0" y="49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489" name=""/>
            <p:cNvSpPr/>
            <p:nvPr/>
          </p:nvSpPr>
          <p:spPr>
            <a:xfrm>
              <a:off x="7806960" y="5464440"/>
              <a:ext cx="6480" cy="15480"/>
            </a:xfrm>
            <a:custGeom>
              <a:avLst/>
              <a:gdLst/>
              <a:ahLst/>
              <a:rect l="l" t="t" r="r" b="b"/>
              <a:pathLst>
                <a:path w="85" h="233">
                  <a:moveTo>
                    <a:pt x="0" y="134"/>
                  </a:moveTo>
                  <a:lnTo>
                    <a:pt x="14" y="233"/>
                  </a:lnTo>
                  <a:lnTo>
                    <a:pt x="85" y="122"/>
                  </a:lnTo>
                  <a:lnTo>
                    <a:pt x="82" y="0"/>
                  </a:lnTo>
                  <a:lnTo>
                    <a:pt x="0" y="13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490" name=""/>
            <p:cNvSpPr/>
            <p:nvPr/>
          </p:nvSpPr>
          <p:spPr>
            <a:xfrm>
              <a:off x="7678080" y="5417280"/>
              <a:ext cx="7200" cy="20520"/>
            </a:xfrm>
            <a:custGeom>
              <a:avLst/>
              <a:gdLst/>
              <a:ahLst/>
              <a:rect l="l" t="t" r="r" b="b"/>
              <a:pathLst>
                <a:path w="103" h="311">
                  <a:moveTo>
                    <a:pt x="103" y="180"/>
                  </a:moveTo>
                  <a:lnTo>
                    <a:pt x="33" y="0"/>
                  </a:lnTo>
                  <a:lnTo>
                    <a:pt x="0" y="57"/>
                  </a:lnTo>
                  <a:lnTo>
                    <a:pt x="52" y="311"/>
                  </a:lnTo>
                  <a:lnTo>
                    <a:pt x="103" y="18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91" name=""/>
            <p:cNvSpPr/>
            <p:nvPr/>
          </p:nvSpPr>
          <p:spPr>
            <a:xfrm>
              <a:off x="7799040" y="5460120"/>
              <a:ext cx="17640" cy="9360"/>
            </a:xfrm>
            <a:custGeom>
              <a:avLst/>
              <a:gdLst/>
              <a:ahLst/>
              <a:rect l="l" t="t" r="r" b="b"/>
              <a:pathLst>
                <a:path w="231" h="149">
                  <a:moveTo>
                    <a:pt x="51" y="51"/>
                  </a:moveTo>
                  <a:lnTo>
                    <a:pt x="231" y="0"/>
                  </a:lnTo>
                  <a:lnTo>
                    <a:pt x="222" y="35"/>
                  </a:lnTo>
                  <a:lnTo>
                    <a:pt x="0" y="149"/>
                  </a:lnTo>
                  <a:lnTo>
                    <a:pt x="51" y="5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92" name=""/>
            <p:cNvSpPr/>
            <p:nvPr/>
          </p:nvSpPr>
          <p:spPr>
            <a:xfrm>
              <a:off x="7747560" y="5486400"/>
              <a:ext cx="12240" cy="25920"/>
            </a:xfrm>
            <a:custGeom>
              <a:avLst/>
              <a:gdLst/>
              <a:ahLst/>
              <a:rect l="l" t="t" r="r" b="b"/>
              <a:pathLst>
                <a:path w="161" h="392">
                  <a:moveTo>
                    <a:pt x="0" y="76"/>
                  </a:moveTo>
                  <a:lnTo>
                    <a:pt x="13" y="0"/>
                  </a:lnTo>
                  <a:lnTo>
                    <a:pt x="161" y="216"/>
                  </a:lnTo>
                  <a:lnTo>
                    <a:pt x="117" y="392"/>
                  </a:lnTo>
                  <a:lnTo>
                    <a:pt x="57" y="277"/>
                  </a:lnTo>
                  <a:lnTo>
                    <a:pt x="0" y="7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493" name=""/>
            <p:cNvSpPr/>
            <p:nvPr/>
          </p:nvSpPr>
          <p:spPr>
            <a:xfrm>
              <a:off x="7684560" y="5476320"/>
              <a:ext cx="28440" cy="16920"/>
            </a:xfrm>
            <a:custGeom>
              <a:avLst/>
              <a:gdLst/>
              <a:ahLst/>
              <a:rect l="l" t="t" r="r" b="b"/>
              <a:pathLst>
                <a:path w="376" h="258">
                  <a:moveTo>
                    <a:pt x="376" y="0"/>
                  </a:moveTo>
                  <a:lnTo>
                    <a:pt x="257" y="159"/>
                  </a:lnTo>
                  <a:lnTo>
                    <a:pt x="83" y="207"/>
                  </a:lnTo>
                  <a:lnTo>
                    <a:pt x="0" y="258"/>
                  </a:lnTo>
                  <a:lnTo>
                    <a:pt x="145" y="85"/>
                  </a:lnTo>
                  <a:lnTo>
                    <a:pt x="37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494" name=""/>
            <p:cNvSpPr/>
            <p:nvPr/>
          </p:nvSpPr>
          <p:spPr>
            <a:xfrm>
              <a:off x="7480080" y="5486400"/>
              <a:ext cx="177120" cy="106200"/>
            </a:xfrm>
            <a:custGeom>
              <a:avLst/>
              <a:gdLst/>
              <a:ahLst/>
              <a:rect l="l" t="t" r="r" b="b"/>
              <a:pathLst>
                <a:path w="2322" h="1591">
                  <a:moveTo>
                    <a:pt x="337" y="1464"/>
                  </a:moveTo>
                  <a:lnTo>
                    <a:pt x="92" y="1187"/>
                  </a:lnTo>
                  <a:lnTo>
                    <a:pt x="16" y="929"/>
                  </a:lnTo>
                  <a:lnTo>
                    <a:pt x="0" y="784"/>
                  </a:lnTo>
                  <a:lnTo>
                    <a:pt x="142" y="613"/>
                  </a:lnTo>
                  <a:lnTo>
                    <a:pt x="491" y="447"/>
                  </a:lnTo>
                  <a:lnTo>
                    <a:pt x="1063" y="251"/>
                  </a:lnTo>
                  <a:lnTo>
                    <a:pt x="1584" y="157"/>
                  </a:lnTo>
                  <a:lnTo>
                    <a:pt x="2021" y="117"/>
                  </a:lnTo>
                  <a:lnTo>
                    <a:pt x="2322" y="0"/>
                  </a:lnTo>
                  <a:lnTo>
                    <a:pt x="2166" y="117"/>
                  </a:lnTo>
                  <a:lnTo>
                    <a:pt x="2036" y="297"/>
                  </a:lnTo>
                  <a:lnTo>
                    <a:pt x="1975" y="583"/>
                  </a:lnTo>
                  <a:lnTo>
                    <a:pt x="1959" y="807"/>
                  </a:lnTo>
                  <a:lnTo>
                    <a:pt x="1959" y="1099"/>
                  </a:lnTo>
                  <a:lnTo>
                    <a:pt x="1944" y="1307"/>
                  </a:lnTo>
                  <a:lnTo>
                    <a:pt x="1849" y="1591"/>
                  </a:lnTo>
                  <a:lnTo>
                    <a:pt x="1819" y="1561"/>
                  </a:lnTo>
                  <a:lnTo>
                    <a:pt x="1898" y="1337"/>
                  </a:lnTo>
                  <a:lnTo>
                    <a:pt x="1929" y="1136"/>
                  </a:lnTo>
                  <a:lnTo>
                    <a:pt x="1929" y="807"/>
                  </a:lnTo>
                  <a:lnTo>
                    <a:pt x="1944" y="508"/>
                  </a:lnTo>
                  <a:lnTo>
                    <a:pt x="1863" y="383"/>
                  </a:lnTo>
                  <a:lnTo>
                    <a:pt x="1692" y="297"/>
                  </a:lnTo>
                  <a:lnTo>
                    <a:pt x="1439" y="251"/>
                  </a:lnTo>
                  <a:lnTo>
                    <a:pt x="1263" y="238"/>
                  </a:lnTo>
                  <a:lnTo>
                    <a:pt x="1074" y="266"/>
                  </a:lnTo>
                  <a:lnTo>
                    <a:pt x="474" y="457"/>
                  </a:lnTo>
                  <a:lnTo>
                    <a:pt x="127" y="688"/>
                  </a:lnTo>
                  <a:lnTo>
                    <a:pt x="81" y="869"/>
                  </a:lnTo>
                  <a:lnTo>
                    <a:pt x="81" y="1040"/>
                  </a:lnTo>
                  <a:lnTo>
                    <a:pt x="142" y="1211"/>
                  </a:lnTo>
                  <a:lnTo>
                    <a:pt x="337" y="14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5" name=""/>
            <p:cNvSpPr/>
            <p:nvPr/>
          </p:nvSpPr>
          <p:spPr>
            <a:xfrm>
              <a:off x="7470000" y="5555160"/>
              <a:ext cx="214920" cy="275400"/>
            </a:xfrm>
            <a:custGeom>
              <a:avLst/>
              <a:gdLst/>
              <a:ahLst/>
              <a:rect l="l" t="t" r="r" b="b"/>
              <a:pathLst>
                <a:path w="2817" h="4129">
                  <a:moveTo>
                    <a:pt x="61" y="0"/>
                  </a:moveTo>
                  <a:lnTo>
                    <a:pt x="79" y="122"/>
                  </a:lnTo>
                  <a:lnTo>
                    <a:pt x="156" y="299"/>
                  </a:lnTo>
                  <a:lnTo>
                    <a:pt x="285" y="470"/>
                  </a:lnTo>
                  <a:lnTo>
                    <a:pt x="470" y="662"/>
                  </a:lnTo>
                  <a:lnTo>
                    <a:pt x="802" y="910"/>
                  </a:lnTo>
                  <a:lnTo>
                    <a:pt x="1350" y="1369"/>
                  </a:lnTo>
                  <a:lnTo>
                    <a:pt x="1138" y="829"/>
                  </a:lnTo>
                  <a:lnTo>
                    <a:pt x="1454" y="1305"/>
                  </a:lnTo>
                  <a:lnTo>
                    <a:pt x="1677" y="1664"/>
                  </a:lnTo>
                  <a:lnTo>
                    <a:pt x="1868" y="1950"/>
                  </a:lnTo>
                  <a:lnTo>
                    <a:pt x="2037" y="2215"/>
                  </a:lnTo>
                  <a:lnTo>
                    <a:pt x="2180" y="2361"/>
                  </a:lnTo>
                  <a:lnTo>
                    <a:pt x="2475" y="2672"/>
                  </a:lnTo>
                  <a:lnTo>
                    <a:pt x="2242" y="2056"/>
                  </a:lnTo>
                  <a:lnTo>
                    <a:pt x="2009" y="1492"/>
                  </a:lnTo>
                  <a:lnTo>
                    <a:pt x="1772" y="959"/>
                  </a:lnTo>
                  <a:lnTo>
                    <a:pt x="1624" y="583"/>
                  </a:lnTo>
                  <a:lnTo>
                    <a:pt x="1595" y="470"/>
                  </a:lnTo>
                  <a:lnTo>
                    <a:pt x="1646" y="427"/>
                  </a:lnTo>
                  <a:lnTo>
                    <a:pt x="1989" y="535"/>
                  </a:lnTo>
                  <a:lnTo>
                    <a:pt x="2307" y="726"/>
                  </a:lnTo>
                  <a:lnTo>
                    <a:pt x="2463" y="851"/>
                  </a:lnTo>
                  <a:lnTo>
                    <a:pt x="2162" y="669"/>
                  </a:lnTo>
                  <a:lnTo>
                    <a:pt x="1835" y="548"/>
                  </a:lnTo>
                  <a:lnTo>
                    <a:pt x="1657" y="486"/>
                  </a:lnTo>
                  <a:lnTo>
                    <a:pt x="2009" y="1291"/>
                  </a:lnTo>
                  <a:lnTo>
                    <a:pt x="2364" y="2150"/>
                  </a:lnTo>
                  <a:lnTo>
                    <a:pt x="2635" y="2879"/>
                  </a:lnTo>
                  <a:lnTo>
                    <a:pt x="2817" y="3350"/>
                  </a:lnTo>
                  <a:lnTo>
                    <a:pt x="2560" y="3350"/>
                  </a:lnTo>
                  <a:lnTo>
                    <a:pt x="2261" y="3534"/>
                  </a:lnTo>
                  <a:lnTo>
                    <a:pt x="2055" y="3758"/>
                  </a:lnTo>
                  <a:lnTo>
                    <a:pt x="1989" y="3930"/>
                  </a:lnTo>
                  <a:lnTo>
                    <a:pt x="1945" y="4129"/>
                  </a:lnTo>
                  <a:lnTo>
                    <a:pt x="1945" y="3899"/>
                  </a:lnTo>
                  <a:lnTo>
                    <a:pt x="2009" y="3695"/>
                  </a:lnTo>
                  <a:lnTo>
                    <a:pt x="2147" y="3559"/>
                  </a:lnTo>
                  <a:lnTo>
                    <a:pt x="2429" y="3332"/>
                  </a:lnTo>
                  <a:lnTo>
                    <a:pt x="2136" y="3255"/>
                  </a:lnTo>
                  <a:lnTo>
                    <a:pt x="2085" y="3317"/>
                  </a:lnTo>
                  <a:lnTo>
                    <a:pt x="2009" y="3271"/>
                  </a:lnTo>
                  <a:lnTo>
                    <a:pt x="1989" y="3064"/>
                  </a:lnTo>
                  <a:lnTo>
                    <a:pt x="1835" y="3015"/>
                  </a:lnTo>
                  <a:lnTo>
                    <a:pt x="1200" y="3368"/>
                  </a:lnTo>
                  <a:lnTo>
                    <a:pt x="1138" y="3633"/>
                  </a:lnTo>
                  <a:lnTo>
                    <a:pt x="1565" y="3396"/>
                  </a:lnTo>
                  <a:lnTo>
                    <a:pt x="1090" y="3695"/>
                  </a:lnTo>
                  <a:lnTo>
                    <a:pt x="912" y="3899"/>
                  </a:lnTo>
                  <a:lnTo>
                    <a:pt x="1009" y="3984"/>
                  </a:lnTo>
                  <a:lnTo>
                    <a:pt x="1406" y="3608"/>
                  </a:lnTo>
                  <a:lnTo>
                    <a:pt x="1360" y="3804"/>
                  </a:lnTo>
                  <a:lnTo>
                    <a:pt x="1565" y="4071"/>
                  </a:lnTo>
                  <a:lnTo>
                    <a:pt x="936" y="4044"/>
                  </a:lnTo>
                  <a:lnTo>
                    <a:pt x="741" y="3949"/>
                  </a:lnTo>
                  <a:lnTo>
                    <a:pt x="600" y="3984"/>
                  </a:lnTo>
                  <a:lnTo>
                    <a:pt x="218" y="3758"/>
                  </a:lnTo>
                  <a:lnTo>
                    <a:pt x="33" y="3462"/>
                  </a:lnTo>
                  <a:lnTo>
                    <a:pt x="0" y="3130"/>
                  </a:lnTo>
                  <a:lnTo>
                    <a:pt x="79" y="3176"/>
                  </a:lnTo>
                  <a:lnTo>
                    <a:pt x="268" y="2965"/>
                  </a:lnTo>
                  <a:lnTo>
                    <a:pt x="448" y="2923"/>
                  </a:lnTo>
                  <a:lnTo>
                    <a:pt x="378" y="3086"/>
                  </a:lnTo>
                  <a:lnTo>
                    <a:pt x="378" y="3281"/>
                  </a:lnTo>
                  <a:lnTo>
                    <a:pt x="901" y="3050"/>
                  </a:lnTo>
                  <a:lnTo>
                    <a:pt x="1026" y="3064"/>
                  </a:lnTo>
                  <a:lnTo>
                    <a:pt x="681" y="3306"/>
                  </a:lnTo>
                  <a:lnTo>
                    <a:pt x="681" y="3462"/>
                  </a:lnTo>
                  <a:lnTo>
                    <a:pt x="1189" y="3189"/>
                  </a:lnTo>
                  <a:lnTo>
                    <a:pt x="1360" y="3189"/>
                  </a:lnTo>
                  <a:lnTo>
                    <a:pt x="1578" y="3064"/>
                  </a:lnTo>
                  <a:lnTo>
                    <a:pt x="1486" y="2907"/>
                  </a:lnTo>
                  <a:lnTo>
                    <a:pt x="1263" y="2767"/>
                  </a:lnTo>
                  <a:lnTo>
                    <a:pt x="1026" y="2688"/>
                  </a:lnTo>
                  <a:lnTo>
                    <a:pt x="802" y="2672"/>
                  </a:lnTo>
                  <a:lnTo>
                    <a:pt x="912" y="2612"/>
                  </a:lnTo>
                  <a:lnTo>
                    <a:pt x="741" y="2563"/>
                  </a:lnTo>
                  <a:lnTo>
                    <a:pt x="518" y="2612"/>
                  </a:lnTo>
                  <a:lnTo>
                    <a:pt x="331" y="2688"/>
                  </a:lnTo>
                  <a:lnTo>
                    <a:pt x="79" y="2855"/>
                  </a:lnTo>
                  <a:lnTo>
                    <a:pt x="393" y="2626"/>
                  </a:lnTo>
                  <a:lnTo>
                    <a:pt x="710" y="2517"/>
                  </a:lnTo>
                  <a:lnTo>
                    <a:pt x="947" y="2481"/>
                  </a:lnTo>
                  <a:lnTo>
                    <a:pt x="1122" y="2481"/>
                  </a:lnTo>
                  <a:lnTo>
                    <a:pt x="1360" y="2330"/>
                  </a:lnTo>
                  <a:lnTo>
                    <a:pt x="1350" y="2215"/>
                  </a:lnTo>
                  <a:lnTo>
                    <a:pt x="539" y="2422"/>
                  </a:lnTo>
                  <a:lnTo>
                    <a:pt x="993" y="2169"/>
                  </a:lnTo>
                  <a:lnTo>
                    <a:pt x="1215" y="2169"/>
                  </a:lnTo>
                  <a:lnTo>
                    <a:pt x="1251" y="2119"/>
                  </a:lnTo>
                  <a:lnTo>
                    <a:pt x="1286" y="1980"/>
                  </a:lnTo>
                  <a:lnTo>
                    <a:pt x="1251" y="1747"/>
                  </a:lnTo>
                  <a:lnTo>
                    <a:pt x="1138" y="1556"/>
                  </a:lnTo>
                  <a:lnTo>
                    <a:pt x="963" y="1337"/>
                  </a:lnTo>
                  <a:lnTo>
                    <a:pt x="730" y="1088"/>
                  </a:lnTo>
                  <a:lnTo>
                    <a:pt x="507" y="882"/>
                  </a:lnTo>
                  <a:lnTo>
                    <a:pt x="378" y="741"/>
                  </a:lnTo>
                  <a:lnTo>
                    <a:pt x="378" y="882"/>
                  </a:lnTo>
                  <a:lnTo>
                    <a:pt x="463" y="1042"/>
                  </a:lnTo>
                  <a:lnTo>
                    <a:pt x="741" y="1358"/>
                  </a:lnTo>
                  <a:lnTo>
                    <a:pt x="463" y="1165"/>
                  </a:lnTo>
                  <a:lnTo>
                    <a:pt x="207" y="1042"/>
                  </a:lnTo>
                  <a:lnTo>
                    <a:pt x="156" y="1007"/>
                  </a:lnTo>
                  <a:lnTo>
                    <a:pt x="79" y="1270"/>
                  </a:lnTo>
                  <a:lnTo>
                    <a:pt x="94" y="814"/>
                  </a:lnTo>
                  <a:lnTo>
                    <a:pt x="110" y="438"/>
                  </a:lnTo>
                  <a:lnTo>
                    <a:pt x="50" y="122"/>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6" name=""/>
            <p:cNvSpPr/>
            <p:nvPr/>
          </p:nvSpPr>
          <p:spPr>
            <a:xfrm>
              <a:off x="7465680" y="5641200"/>
              <a:ext cx="67680" cy="105480"/>
            </a:xfrm>
            <a:custGeom>
              <a:avLst/>
              <a:gdLst/>
              <a:ahLst/>
              <a:rect l="l" t="t" r="r" b="b"/>
              <a:pathLst>
                <a:path w="884" h="1588">
                  <a:moveTo>
                    <a:pt x="42" y="0"/>
                  </a:moveTo>
                  <a:lnTo>
                    <a:pt x="10" y="105"/>
                  </a:lnTo>
                  <a:lnTo>
                    <a:pt x="10" y="215"/>
                  </a:lnTo>
                  <a:lnTo>
                    <a:pt x="107" y="360"/>
                  </a:lnTo>
                  <a:lnTo>
                    <a:pt x="342" y="498"/>
                  </a:lnTo>
                  <a:lnTo>
                    <a:pt x="884" y="671"/>
                  </a:lnTo>
                  <a:lnTo>
                    <a:pt x="642" y="828"/>
                  </a:lnTo>
                  <a:lnTo>
                    <a:pt x="423" y="1019"/>
                  </a:lnTo>
                  <a:lnTo>
                    <a:pt x="167" y="1272"/>
                  </a:lnTo>
                  <a:lnTo>
                    <a:pt x="42" y="1588"/>
                  </a:lnTo>
                  <a:lnTo>
                    <a:pt x="136" y="1247"/>
                  </a:lnTo>
                  <a:lnTo>
                    <a:pt x="167" y="945"/>
                  </a:lnTo>
                  <a:lnTo>
                    <a:pt x="183" y="1190"/>
                  </a:lnTo>
                  <a:lnTo>
                    <a:pt x="423" y="909"/>
                  </a:lnTo>
                  <a:lnTo>
                    <a:pt x="520" y="814"/>
                  </a:lnTo>
                  <a:lnTo>
                    <a:pt x="199" y="659"/>
                  </a:lnTo>
                  <a:lnTo>
                    <a:pt x="167" y="828"/>
                  </a:lnTo>
                  <a:lnTo>
                    <a:pt x="118" y="671"/>
                  </a:lnTo>
                  <a:lnTo>
                    <a:pt x="22" y="426"/>
                  </a:lnTo>
                  <a:lnTo>
                    <a:pt x="0" y="235"/>
                  </a:lnTo>
                  <a:lnTo>
                    <a:pt x="0" y="78"/>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7" name=""/>
            <p:cNvSpPr/>
            <p:nvPr/>
          </p:nvSpPr>
          <p:spPr>
            <a:xfrm>
              <a:off x="7477560" y="5642280"/>
              <a:ext cx="93240" cy="52200"/>
            </a:xfrm>
            <a:custGeom>
              <a:avLst/>
              <a:gdLst/>
              <a:ahLst/>
              <a:rect l="l" t="t" r="r" b="b"/>
              <a:pathLst>
                <a:path w="1220" h="786">
                  <a:moveTo>
                    <a:pt x="62" y="18"/>
                  </a:moveTo>
                  <a:lnTo>
                    <a:pt x="223" y="0"/>
                  </a:lnTo>
                  <a:lnTo>
                    <a:pt x="491" y="91"/>
                  </a:lnTo>
                  <a:lnTo>
                    <a:pt x="733" y="251"/>
                  </a:lnTo>
                  <a:lnTo>
                    <a:pt x="1028" y="502"/>
                  </a:lnTo>
                  <a:lnTo>
                    <a:pt x="1220" y="739"/>
                  </a:lnTo>
                  <a:lnTo>
                    <a:pt x="1169" y="786"/>
                  </a:lnTo>
                  <a:lnTo>
                    <a:pt x="996" y="629"/>
                  </a:lnTo>
                  <a:lnTo>
                    <a:pt x="793" y="484"/>
                  </a:lnTo>
                  <a:lnTo>
                    <a:pt x="572" y="376"/>
                  </a:lnTo>
                  <a:lnTo>
                    <a:pt x="376" y="262"/>
                  </a:lnTo>
                  <a:lnTo>
                    <a:pt x="0" y="18"/>
                  </a:lnTo>
                  <a:lnTo>
                    <a:pt x="62" y="1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98" name=""/>
            <p:cNvSpPr/>
            <p:nvPr/>
          </p:nvSpPr>
          <p:spPr>
            <a:xfrm>
              <a:off x="7651080" y="5486400"/>
              <a:ext cx="119520" cy="296640"/>
            </a:xfrm>
            <a:custGeom>
              <a:avLst/>
              <a:gdLst/>
              <a:ahLst/>
              <a:rect l="l" t="t" r="r" b="b"/>
              <a:pathLst>
                <a:path w="1568" h="4437">
                  <a:moveTo>
                    <a:pt x="161" y="83"/>
                  </a:moveTo>
                  <a:lnTo>
                    <a:pt x="99" y="205"/>
                  </a:lnTo>
                  <a:lnTo>
                    <a:pt x="49" y="383"/>
                  </a:lnTo>
                  <a:lnTo>
                    <a:pt x="49" y="583"/>
                  </a:lnTo>
                  <a:lnTo>
                    <a:pt x="99" y="774"/>
                  </a:lnTo>
                  <a:lnTo>
                    <a:pt x="257" y="1090"/>
                  </a:lnTo>
                  <a:lnTo>
                    <a:pt x="431" y="1400"/>
                  </a:lnTo>
                  <a:lnTo>
                    <a:pt x="543" y="1767"/>
                  </a:lnTo>
                  <a:lnTo>
                    <a:pt x="637" y="2172"/>
                  </a:lnTo>
                  <a:lnTo>
                    <a:pt x="719" y="2690"/>
                  </a:lnTo>
                  <a:lnTo>
                    <a:pt x="826" y="3398"/>
                  </a:lnTo>
                  <a:lnTo>
                    <a:pt x="877" y="3846"/>
                  </a:lnTo>
                  <a:lnTo>
                    <a:pt x="1057" y="3270"/>
                  </a:lnTo>
                  <a:lnTo>
                    <a:pt x="1192" y="2743"/>
                  </a:lnTo>
                  <a:lnTo>
                    <a:pt x="1347" y="2033"/>
                  </a:lnTo>
                  <a:lnTo>
                    <a:pt x="1444" y="1496"/>
                  </a:lnTo>
                  <a:lnTo>
                    <a:pt x="1471" y="1148"/>
                  </a:lnTo>
                  <a:lnTo>
                    <a:pt x="1490" y="830"/>
                  </a:lnTo>
                  <a:lnTo>
                    <a:pt x="1506" y="664"/>
                  </a:lnTo>
                  <a:lnTo>
                    <a:pt x="1568" y="567"/>
                  </a:lnTo>
                  <a:lnTo>
                    <a:pt x="1554" y="1169"/>
                  </a:lnTo>
                  <a:lnTo>
                    <a:pt x="1444" y="1908"/>
                  </a:lnTo>
                  <a:lnTo>
                    <a:pt x="1301" y="2582"/>
                  </a:lnTo>
                  <a:lnTo>
                    <a:pt x="1154" y="3195"/>
                  </a:lnTo>
                  <a:lnTo>
                    <a:pt x="971" y="3778"/>
                  </a:lnTo>
                  <a:lnTo>
                    <a:pt x="730" y="4394"/>
                  </a:lnTo>
                  <a:lnTo>
                    <a:pt x="637" y="4437"/>
                  </a:lnTo>
                  <a:lnTo>
                    <a:pt x="826" y="3917"/>
                  </a:lnTo>
                  <a:lnTo>
                    <a:pt x="683" y="2848"/>
                  </a:lnTo>
                  <a:lnTo>
                    <a:pt x="559" y="2015"/>
                  </a:lnTo>
                  <a:lnTo>
                    <a:pt x="402" y="1512"/>
                  </a:lnTo>
                  <a:lnTo>
                    <a:pt x="183" y="1090"/>
                  </a:lnTo>
                  <a:lnTo>
                    <a:pt x="49" y="784"/>
                  </a:lnTo>
                  <a:lnTo>
                    <a:pt x="0" y="602"/>
                  </a:lnTo>
                  <a:lnTo>
                    <a:pt x="0" y="394"/>
                  </a:lnTo>
                  <a:lnTo>
                    <a:pt x="49" y="189"/>
                  </a:lnTo>
                  <a:lnTo>
                    <a:pt x="161" y="0"/>
                  </a:lnTo>
                  <a:lnTo>
                    <a:pt x="161"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
            <p:cNvSpPr/>
            <p:nvPr/>
          </p:nvSpPr>
          <p:spPr>
            <a:xfrm>
              <a:off x="7643880" y="5784120"/>
              <a:ext cx="120960" cy="67320"/>
            </a:xfrm>
            <a:custGeom>
              <a:avLst/>
              <a:gdLst/>
              <a:ahLst/>
              <a:rect l="l" t="t" r="r" b="b"/>
              <a:pathLst>
                <a:path w="1582" h="1002">
                  <a:moveTo>
                    <a:pt x="457" y="0"/>
                  </a:moveTo>
                  <a:lnTo>
                    <a:pt x="321" y="103"/>
                  </a:lnTo>
                  <a:lnTo>
                    <a:pt x="191" y="235"/>
                  </a:lnTo>
                  <a:lnTo>
                    <a:pt x="81" y="363"/>
                  </a:lnTo>
                  <a:lnTo>
                    <a:pt x="20" y="529"/>
                  </a:lnTo>
                  <a:lnTo>
                    <a:pt x="0" y="765"/>
                  </a:lnTo>
                  <a:lnTo>
                    <a:pt x="68" y="718"/>
                  </a:lnTo>
                  <a:lnTo>
                    <a:pt x="1174" y="1002"/>
                  </a:lnTo>
                  <a:lnTo>
                    <a:pt x="1296" y="988"/>
                  </a:lnTo>
                  <a:lnTo>
                    <a:pt x="1582" y="857"/>
                  </a:lnTo>
                  <a:lnTo>
                    <a:pt x="1246" y="975"/>
                  </a:lnTo>
                  <a:lnTo>
                    <a:pt x="1187" y="940"/>
                  </a:lnTo>
                  <a:lnTo>
                    <a:pt x="969" y="889"/>
                  </a:lnTo>
                  <a:lnTo>
                    <a:pt x="855" y="698"/>
                  </a:lnTo>
                  <a:lnTo>
                    <a:pt x="775" y="640"/>
                  </a:lnTo>
                  <a:lnTo>
                    <a:pt x="523" y="564"/>
                  </a:lnTo>
                  <a:lnTo>
                    <a:pt x="429" y="468"/>
                  </a:lnTo>
                  <a:lnTo>
                    <a:pt x="397" y="373"/>
                  </a:lnTo>
                  <a:lnTo>
                    <a:pt x="383" y="248"/>
                  </a:lnTo>
                  <a:lnTo>
                    <a:pt x="383" y="128"/>
                  </a:lnTo>
                  <a:lnTo>
                    <a:pt x="457"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00" name=""/>
            <p:cNvSpPr/>
            <p:nvPr/>
          </p:nvSpPr>
          <p:spPr>
            <a:xfrm>
              <a:off x="7678080" y="5764320"/>
              <a:ext cx="139680" cy="26640"/>
            </a:xfrm>
            <a:custGeom>
              <a:avLst/>
              <a:gdLst/>
              <a:ahLst/>
              <a:rect l="l" t="t" r="r" b="b"/>
              <a:pathLst>
                <a:path w="1828" h="404">
                  <a:moveTo>
                    <a:pt x="57" y="281"/>
                  </a:moveTo>
                  <a:lnTo>
                    <a:pt x="281" y="250"/>
                  </a:lnTo>
                  <a:lnTo>
                    <a:pt x="862" y="31"/>
                  </a:lnTo>
                  <a:lnTo>
                    <a:pt x="1115" y="46"/>
                  </a:lnTo>
                  <a:lnTo>
                    <a:pt x="1528" y="0"/>
                  </a:lnTo>
                  <a:lnTo>
                    <a:pt x="1587" y="31"/>
                  </a:lnTo>
                  <a:lnTo>
                    <a:pt x="1767" y="301"/>
                  </a:lnTo>
                  <a:lnTo>
                    <a:pt x="1560" y="88"/>
                  </a:lnTo>
                  <a:lnTo>
                    <a:pt x="1479" y="88"/>
                  </a:lnTo>
                  <a:lnTo>
                    <a:pt x="1053" y="88"/>
                  </a:lnTo>
                  <a:lnTo>
                    <a:pt x="1198" y="151"/>
                  </a:lnTo>
                  <a:lnTo>
                    <a:pt x="1440" y="202"/>
                  </a:lnTo>
                  <a:lnTo>
                    <a:pt x="1828" y="404"/>
                  </a:lnTo>
                  <a:lnTo>
                    <a:pt x="1355" y="238"/>
                  </a:lnTo>
                  <a:lnTo>
                    <a:pt x="892" y="112"/>
                  </a:lnTo>
                  <a:lnTo>
                    <a:pt x="798" y="112"/>
                  </a:lnTo>
                  <a:lnTo>
                    <a:pt x="339" y="281"/>
                  </a:lnTo>
                  <a:lnTo>
                    <a:pt x="0" y="332"/>
                  </a:lnTo>
                  <a:lnTo>
                    <a:pt x="57" y="28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501" name=""/>
            <p:cNvSpPr/>
            <p:nvPr/>
          </p:nvSpPr>
          <p:spPr>
            <a:xfrm>
              <a:off x="7681680" y="5558760"/>
              <a:ext cx="50040" cy="161280"/>
            </a:xfrm>
            <a:custGeom>
              <a:avLst/>
              <a:gdLst/>
              <a:ahLst/>
              <a:rect l="l" t="t" r="r" b="b"/>
              <a:pathLst>
                <a:path w="655" h="2417">
                  <a:moveTo>
                    <a:pt x="0" y="325"/>
                  </a:moveTo>
                  <a:lnTo>
                    <a:pt x="60" y="218"/>
                  </a:lnTo>
                  <a:lnTo>
                    <a:pt x="157" y="112"/>
                  </a:lnTo>
                  <a:lnTo>
                    <a:pt x="281" y="0"/>
                  </a:lnTo>
                  <a:lnTo>
                    <a:pt x="378" y="24"/>
                  </a:lnTo>
                  <a:lnTo>
                    <a:pt x="235" y="121"/>
                  </a:lnTo>
                  <a:lnTo>
                    <a:pt x="328" y="437"/>
                  </a:lnTo>
                  <a:lnTo>
                    <a:pt x="500" y="468"/>
                  </a:lnTo>
                  <a:lnTo>
                    <a:pt x="539" y="250"/>
                  </a:lnTo>
                  <a:lnTo>
                    <a:pt x="539" y="136"/>
                  </a:lnTo>
                  <a:lnTo>
                    <a:pt x="500" y="24"/>
                  </a:lnTo>
                  <a:lnTo>
                    <a:pt x="585" y="136"/>
                  </a:lnTo>
                  <a:lnTo>
                    <a:pt x="585" y="312"/>
                  </a:lnTo>
                  <a:lnTo>
                    <a:pt x="550" y="486"/>
                  </a:lnTo>
                  <a:lnTo>
                    <a:pt x="618" y="749"/>
                  </a:lnTo>
                  <a:lnTo>
                    <a:pt x="645" y="1242"/>
                  </a:lnTo>
                  <a:lnTo>
                    <a:pt x="629" y="1823"/>
                  </a:lnTo>
                  <a:lnTo>
                    <a:pt x="655" y="2342"/>
                  </a:lnTo>
                  <a:lnTo>
                    <a:pt x="629" y="2417"/>
                  </a:lnTo>
                  <a:lnTo>
                    <a:pt x="569" y="1885"/>
                  </a:lnTo>
                  <a:lnTo>
                    <a:pt x="569" y="1332"/>
                  </a:lnTo>
                  <a:lnTo>
                    <a:pt x="569" y="894"/>
                  </a:lnTo>
                  <a:lnTo>
                    <a:pt x="519" y="620"/>
                  </a:lnTo>
                  <a:lnTo>
                    <a:pt x="458" y="534"/>
                  </a:lnTo>
                  <a:lnTo>
                    <a:pt x="328" y="468"/>
                  </a:lnTo>
                  <a:lnTo>
                    <a:pt x="157" y="802"/>
                  </a:lnTo>
                  <a:lnTo>
                    <a:pt x="126" y="703"/>
                  </a:lnTo>
                  <a:lnTo>
                    <a:pt x="262" y="453"/>
                  </a:lnTo>
                  <a:lnTo>
                    <a:pt x="187" y="182"/>
                  </a:lnTo>
                  <a:lnTo>
                    <a:pt x="106" y="281"/>
                  </a:lnTo>
                  <a:lnTo>
                    <a:pt x="29" y="437"/>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2" name=""/>
            <p:cNvSpPr/>
            <p:nvPr/>
          </p:nvSpPr>
          <p:spPr>
            <a:xfrm>
              <a:off x="7721280" y="5542920"/>
              <a:ext cx="44280" cy="61200"/>
            </a:xfrm>
            <a:custGeom>
              <a:avLst/>
              <a:gdLst/>
              <a:ahLst/>
              <a:rect l="l" t="t" r="r" b="b"/>
              <a:pathLst>
                <a:path w="585" h="919">
                  <a:moveTo>
                    <a:pt x="0" y="251"/>
                  </a:moveTo>
                  <a:lnTo>
                    <a:pt x="191" y="396"/>
                  </a:lnTo>
                  <a:lnTo>
                    <a:pt x="233" y="664"/>
                  </a:lnTo>
                  <a:lnTo>
                    <a:pt x="426" y="300"/>
                  </a:lnTo>
                  <a:lnTo>
                    <a:pt x="585" y="0"/>
                  </a:lnTo>
                  <a:lnTo>
                    <a:pt x="534" y="242"/>
                  </a:lnTo>
                  <a:lnTo>
                    <a:pt x="174" y="919"/>
                  </a:lnTo>
                  <a:lnTo>
                    <a:pt x="198" y="761"/>
                  </a:lnTo>
                  <a:lnTo>
                    <a:pt x="50" y="508"/>
                  </a:lnTo>
                  <a:lnTo>
                    <a:pt x="0" y="25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503" name=""/>
            <p:cNvSpPr/>
            <p:nvPr/>
          </p:nvSpPr>
          <p:spPr>
            <a:xfrm>
              <a:off x="7719480" y="5758920"/>
              <a:ext cx="31680" cy="10440"/>
            </a:xfrm>
            <a:custGeom>
              <a:avLst/>
              <a:gdLst/>
              <a:ahLst/>
              <a:rect l="l" t="t" r="r" b="b"/>
              <a:pathLst>
                <a:path w="416" h="166">
                  <a:moveTo>
                    <a:pt x="218" y="166"/>
                  </a:moveTo>
                  <a:lnTo>
                    <a:pt x="0" y="80"/>
                  </a:lnTo>
                  <a:lnTo>
                    <a:pt x="42" y="0"/>
                  </a:lnTo>
                  <a:lnTo>
                    <a:pt x="416" y="150"/>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04" name=""/>
            <p:cNvSpPr/>
            <p:nvPr/>
          </p:nvSpPr>
          <p:spPr>
            <a:xfrm>
              <a:off x="7731000" y="5639760"/>
              <a:ext cx="266760" cy="203040"/>
            </a:xfrm>
            <a:custGeom>
              <a:avLst/>
              <a:gdLst/>
              <a:ahLst/>
              <a:rect l="l" t="t" r="r" b="b"/>
              <a:pathLst>
                <a:path w="3494" h="3036">
                  <a:moveTo>
                    <a:pt x="1119" y="2271"/>
                  </a:moveTo>
                  <a:lnTo>
                    <a:pt x="1130" y="2336"/>
                  </a:lnTo>
                  <a:lnTo>
                    <a:pt x="1101" y="2414"/>
                  </a:lnTo>
                  <a:lnTo>
                    <a:pt x="1054" y="2433"/>
                  </a:lnTo>
                  <a:lnTo>
                    <a:pt x="284" y="2338"/>
                  </a:lnTo>
                  <a:lnTo>
                    <a:pt x="292" y="2407"/>
                  </a:lnTo>
                  <a:lnTo>
                    <a:pt x="404" y="2387"/>
                  </a:lnTo>
                  <a:lnTo>
                    <a:pt x="852" y="2442"/>
                  </a:lnTo>
                  <a:lnTo>
                    <a:pt x="771" y="2609"/>
                  </a:lnTo>
                  <a:lnTo>
                    <a:pt x="428" y="2668"/>
                  </a:lnTo>
                  <a:lnTo>
                    <a:pt x="158" y="2552"/>
                  </a:lnTo>
                  <a:lnTo>
                    <a:pt x="68" y="2568"/>
                  </a:lnTo>
                  <a:lnTo>
                    <a:pt x="151" y="2638"/>
                  </a:lnTo>
                  <a:lnTo>
                    <a:pt x="446" y="2679"/>
                  </a:lnTo>
                  <a:lnTo>
                    <a:pt x="752" y="2656"/>
                  </a:lnTo>
                  <a:lnTo>
                    <a:pt x="670" y="2780"/>
                  </a:lnTo>
                  <a:lnTo>
                    <a:pt x="481" y="2895"/>
                  </a:lnTo>
                  <a:lnTo>
                    <a:pt x="158" y="2910"/>
                  </a:lnTo>
                  <a:lnTo>
                    <a:pt x="0" y="2895"/>
                  </a:lnTo>
                  <a:lnTo>
                    <a:pt x="268" y="2954"/>
                  </a:lnTo>
                  <a:lnTo>
                    <a:pt x="455" y="2932"/>
                  </a:lnTo>
                  <a:lnTo>
                    <a:pt x="418" y="3036"/>
                  </a:lnTo>
                  <a:lnTo>
                    <a:pt x="455" y="3025"/>
                  </a:lnTo>
                  <a:lnTo>
                    <a:pt x="525" y="2910"/>
                  </a:lnTo>
                  <a:lnTo>
                    <a:pt x="697" y="2789"/>
                  </a:lnTo>
                  <a:lnTo>
                    <a:pt x="784" y="2668"/>
                  </a:lnTo>
                  <a:lnTo>
                    <a:pt x="3327" y="2668"/>
                  </a:lnTo>
                  <a:lnTo>
                    <a:pt x="3390" y="2495"/>
                  </a:lnTo>
                  <a:lnTo>
                    <a:pt x="3424" y="2200"/>
                  </a:lnTo>
                  <a:lnTo>
                    <a:pt x="3454" y="1985"/>
                  </a:lnTo>
                  <a:lnTo>
                    <a:pt x="2977" y="1849"/>
                  </a:lnTo>
                  <a:lnTo>
                    <a:pt x="3041" y="1780"/>
                  </a:lnTo>
                  <a:lnTo>
                    <a:pt x="3109" y="1833"/>
                  </a:lnTo>
                  <a:lnTo>
                    <a:pt x="3494" y="1886"/>
                  </a:lnTo>
                  <a:lnTo>
                    <a:pt x="3494" y="1844"/>
                  </a:lnTo>
                  <a:lnTo>
                    <a:pt x="3159" y="1785"/>
                  </a:lnTo>
                  <a:lnTo>
                    <a:pt x="2995" y="1598"/>
                  </a:lnTo>
                  <a:lnTo>
                    <a:pt x="2813" y="1805"/>
                  </a:lnTo>
                  <a:lnTo>
                    <a:pt x="2479" y="2336"/>
                  </a:lnTo>
                  <a:lnTo>
                    <a:pt x="2345" y="2236"/>
                  </a:lnTo>
                  <a:lnTo>
                    <a:pt x="2472" y="1955"/>
                  </a:lnTo>
                  <a:lnTo>
                    <a:pt x="2714" y="1671"/>
                  </a:lnTo>
                  <a:lnTo>
                    <a:pt x="2868" y="1559"/>
                  </a:lnTo>
                  <a:lnTo>
                    <a:pt x="2742" y="1303"/>
                  </a:lnTo>
                  <a:lnTo>
                    <a:pt x="2582" y="745"/>
                  </a:lnTo>
                  <a:lnTo>
                    <a:pt x="2707" y="1328"/>
                  </a:lnTo>
                  <a:lnTo>
                    <a:pt x="2771" y="1535"/>
                  </a:lnTo>
                  <a:lnTo>
                    <a:pt x="2544" y="1550"/>
                  </a:lnTo>
                  <a:lnTo>
                    <a:pt x="2272" y="692"/>
                  </a:lnTo>
                  <a:lnTo>
                    <a:pt x="2424" y="552"/>
                  </a:lnTo>
                  <a:lnTo>
                    <a:pt x="1962" y="803"/>
                  </a:lnTo>
                  <a:lnTo>
                    <a:pt x="1962" y="735"/>
                  </a:lnTo>
                  <a:lnTo>
                    <a:pt x="2037" y="602"/>
                  </a:lnTo>
                  <a:lnTo>
                    <a:pt x="2345" y="369"/>
                  </a:lnTo>
                  <a:lnTo>
                    <a:pt x="2439" y="210"/>
                  </a:lnTo>
                  <a:lnTo>
                    <a:pt x="2540" y="614"/>
                  </a:lnTo>
                  <a:lnTo>
                    <a:pt x="2525" y="180"/>
                  </a:lnTo>
                  <a:lnTo>
                    <a:pt x="2403" y="90"/>
                  </a:lnTo>
                  <a:lnTo>
                    <a:pt x="2318" y="88"/>
                  </a:lnTo>
                  <a:lnTo>
                    <a:pt x="2311" y="0"/>
                  </a:lnTo>
                  <a:lnTo>
                    <a:pt x="2311" y="157"/>
                  </a:lnTo>
                  <a:lnTo>
                    <a:pt x="2340" y="297"/>
                  </a:lnTo>
                  <a:lnTo>
                    <a:pt x="2177" y="480"/>
                  </a:lnTo>
                  <a:lnTo>
                    <a:pt x="1905" y="563"/>
                  </a:lnTo>
                  <a:lnTo>
                    <a:pt x="1852" y="231"/>
                  </a:lnTo>
                  <a:lnTo>
                    <a:pt x="1742" y="552"/>
                  </a:lnTo>
                  <a:lnTo>
                    <a:pt x="1485" y="745"/>
                  </a:lnTo>
                  <a:lnTo>
                    <a:pt x="1220" y="818"/>
                  </a:lnTo>
                  <a:lnTo>
                    <a:pt x="944" y="871"/>
                  </a:lnTo>
                  <a:lnTo>
                    <a:pt x="1352" y="835"/>
                  </a:lnTo>
                  <a:lnTo>
                    <a:pt x="1589" y="783"/>
                  </a:lnTo>
                  <a:lnTo>
                    <a:pt x="1371" y="976"/>
                  </a:lnTo>
                  <a:lnTo>
                    <a:pt x="1169" y="1240"/>
                  </a:lnTo>
                  <a:lnTo>
                    <a:pt x="953" y="1621"/>
                  </a:lnTo>
                  <a:lnTo>
                    <a:pt x="842" y="1895"/>
                  </a:lnTo>
                  <a:lnTo>
                    <a:pt x="1087" y="2165"/>
                  </a:lnTo>
                  <a:lnTo>
                    <a:pt x="1191" y="2271"/>
                  </a:lnTo>
                  <a:lnTo>
                    <a:pt x="1172" y="2312"/>
                  </a:lnTo>
                  <a:lnTo>
                    <a:pt x="1331" y="2374"/>
                  </a:lnTo>
                  <a:lnTo>
                    <a:pt x="1415" y="1937"/>
                  </a:lnTo>
                  <a:lnTo>
                    <a:pt x="1589" y="1211"/>
                  </a:lnTo>
                  <a:lnTo>
                    <a:pt x="1698" y="930"/>
                  </a:lnTo>
                  <a:lnTo>
                    <a:pt x="1707" y="1134"/>
                  </a:lnTo>
                  <a:lnTo>
                    <a:pt x="1608" y="1510"/>
                  </a:lnTo>
                  <a:lnTo>
                    <a:pt x="1485" y="2137"/>
                  </a:lnTo>
                  <a:lnTo>
                    <a:pt x="1446" y="2433"/>
                  </a:lnTo>
                  <a:lnTo>
                    <a:pt x="1365" y="2396"/>
                  </a:lnTo>
                  <a:lnTo>
                    <a:pt x="1523" y="2517"/>
                  </a:lnTo>
                  <a:lnTo>
                    <a:pt x="1317" y="2483"/>
                  </a:lnTo>
                  <a:lnTo>
                    <a:pt x="1147" y="2407"/>
                  </a:lnTo>
                  <a:lnTo>
                    <a:pt x="1147" y="2324"/>
                  </a:lnTo>
                  <a:lnTo>
                    <a:pt x="1119" y="2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5" name=""/>
            <p:cNvSpPr/>
            <p:nvPr/>
          </p:nvSpPr>
          <p:spPr>
            <a:xfrm>
              <a:off x="7788600" y="5514840"/>
              <a:ext cx="121320" cy="163440"/>
            </a:xfrm>
            <a:custGeom>
              <a:avLst/>
              <a:gdLst/>
              <a:ahLst/>
              <a:rect l="l" t="t" r="r" b="b"/>
              <a:pathLst>
                <a:path w="1593" h="2446">
                  <a:moveTo>
                    <a:pt x="0" y="0"/>
                  </a:moveTo>
                  <a:lnTo>
                    <a:pt x="406" y="122"/>
                  </a:lnTo>
                  <a:lnTo>
                    <a:pt x="969" y="385"/>
                  </a:lnTo>
                  <a:lnTo>
                    <a:pt x="1273" y="442"/>
                  </a:lnTo>
                  <a:lnTo>
                    <a:pt x="1294" y="537"/>
                  </a:lnTo>
                  <a:lnTo>
                    <a:pt x="1360" y="512"/>
                  </a:lnTo>
                  <a:lnTo>
                    <a:pt x="1457" y="673"/>
                  </a:lnTo>
                  <a:lnTo>
                    <a:pt x="1554" y="965"/>
                  </a:lnTo>
                  <a:lnTo>
                    <a:pt x="1593" y="1323"/>
                  </a:lnTo>
                  <a:lnTo>
                    <a:pt x="1593" y="1552"/>
                  </a:lnTo>
                  <a:lnTo>
                    <a:pt x="1538" y="1879"/>
                  </a:lnTo>
                  <a:lnTo>
                    <a:pt x="1432" y="2137"/>
                  </a:lnTo>
                  <a:lnTo>
                    <a:pt x="1273" y="2285"/>
                  </a:lnTo>
                  <a:lnTo>
                    <a:pt x="1100" y="2446"/>
                  </a:lnTo>
                  <a:lnTo>
                    <a:pt x="1266" y="2191"/>
                  </a:lnTo>
                  <a:lnTo>
                    <a:pt x="1432" y="1863"/>
                  </a:lnTo>
                  <a:lnTo>
                    <a:pt x="1513" y="1552"/>
                  </a:lnTo>
                  <a:lnTo>
                    <a:pt x="1531" y="1180"/>
                  </a:lnTo>
                  <a:lnTo>
                    <a:pt x="1503" y="910"/>
                  </a:lnTo>
                  <a:lnTo>
                    <a:pt x="1425" y="644"/>
                  </a:lnTo>
                  <a:lnTo>
                    <a:pt x="1335" y="567"/>
                  </a:lnTo>
                  <a:lnTo>
                    <a:pt x="1259" y="1238"/>
                  </a:lnTo>
                  <a:lnTo>
                    <a:pt x="1133" y="1904"/>
                  </a:lnTo>
                  <a:lnTo>
                    <a:pt x="1243" y="1226"/>
                  </a:lnTo>
                  <a:lnTo>
                    <a:pt x="1266" y="537"/>
                  </a:lnTo>
                  <a:lnTo>
                    <a:pt x="918" y="408"/>
                  </a:lnTo>
                  <a:lnTo>
                    <a:pt x="182" y="14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6" name=""/>
            <p:cNvSpPr/>
            <p:nvPr/>
          </p:nvSpPr>
          <p:spPr>
            <a:xfrm>
              <a:off x="7761240" y="5532120"/>
              <a:ext cx="77040" cy="237600"/>
            </a:xfrm>
            <a:custGeom>
              <a:avLst/>
              <a:gdLst/>
              <a:ahLst/>
              <a:rect l="l" t="t" r="r" b="b"/>
              <a:pathLst>
                <a:path w="1005" h="3558">
                  <a:moveTo>
                    <a:pt x="479" y="0"/>
                  </a:moveTo>
                  <a:lnTo>
                    <a:pt x="611" y="380"/>
                  </a:lnTo>
                  <a:lnTo>
                    <a:pt x="717" y="888"/>
                  </a:lnTo>
                  <a:lnTo>
                    <a:pt x="965" y="791"/>
                  </a:lnTo>
                  <a:lnTo>
                    <a:pt x="1005" y="842"/>
                  </a:lnTo>
                  <a:lnTo>
                    <a:pt x="954" y="1274"/>
                  </a:lnTo>
                  <a:lnTo>
                    <a:pt x="837" y="1712"/>
                  </a:lnTo>
                  <a:lnTo>
                    <a:pt x="645" y="2285"/>
                  </a:lnTo>
                  <a:lnTo>
                    <a:pt x="456" y="2747"/>
                  </a:lnTo>
                  <a:lnTo>
                    <a:pt x="231" y="3288"/>
                  </a:lnTo>
                  <a:lnTo>
                    <a:pt x="71" y="3533"/>
                  </a:lnTo>
                  <a:lnTo>
                    <a:pt x="0" y="3558"/>
                  </a:lnTo>
                  <a:lnTo>
                    <a:pt x="184" y="3263"/>
                  </a:lnTo>
                  <a:lnTo>
                    <a:pt x="385" y="2782"/>
                  </a:lnTo>
                  <a:lnTo>
                    <a:pt x="550" y="2320"/>
                  </a:lnTo>
                  <a:lnTo>
                    <a:pt x="694" y="1916"/>
                  </a:lnTo>
                  <a:lnTo>
                    <a:pt x="827" y="1514"/>
                  </a:lnTo>
                  <a:lnTo>
                    <a:pt x="879" y="1193"/>
                  </a:lnTo>
                  <a:lnTo>
                    <a:pt x="924" y="896"/>
                  </a:lnTo>
                  <a:lnTo>
                    <a:pt x="420" y="1108"/>
                  </a:lnTo>
                  <a:lnTo>
                    <a:pt x="670" y="905"/>
                  </a:lnTo>
                  <a:lnTo>
                    <a:pt x="670" y="870"/>
                  </a:lnTo>
                  <a:lnTo>
                    <a:pt x="597" y="439"/>
                  </a:lnTo>
                  <a:lnTo>
                    <a:pt x="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7" name=""/>
            <p:cNvSpPr/>
            <p:nvPr/>
          </p:nvSpPr>
          <p:spPr>
            <a:xfrm flipH="1">
              <a:off x="7462080" y="5818320"/>
              <a:ext cx="5112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8" name=""/>
            <p:cNvSpPr/>
            <p:nvPr/>
          </p:nvSpPr>
          <p:spPr>
            <a:xfrm>
              <a:off x="7683480" y="5839560"/>
              <a:ext cx="243720" cy="26640"/>
            </a:xfrm>
            <a:custGeom>
              <a:avLst/>
              <a:gdLst/>
              <a:ahLst/>
              <a:rect l="l" t="t" r="r" b="b"/>
              <a:pathLst>
                <a:path w="3188" h="401">
                  <a:moveTo>
                    <a:pt x="0" y="0"/>
                  </a:moveTo>
                  <a:lnTo>
                    <a:pt x="343" y="401"/>
                  </a:lnTo>
                  <a:lnTo>
                    <a:pt x="3188" y="401"/>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509" name=""/>
            <p:cNvSpPr/>
            <p:nvPr/>
          </p:nvSpPr>
          <p:spPr>
            <a:xfrm>
              <a:off x="7785720" y="5824080"/>
              <a:ext cx="192960" cy="15480"/>
            </a:xfrm>
            <a:custGeom>
              <a:avLst/>
              <a:gdLst/>
              <a:ahLst/>
              <a:rect l="l" t="t" r="r" b="b"/>
              <a:pathLst>
                <a:path w="2533" h="230">
                  <a:moveTo>
                    <a:pt x="0" y="0"/>
                  </a:moveTo>
                  <a:lnTo>
                    <a:pt x="1752" y="0"/>
                  </a:lnTo>
                  <a:lnTo>
                    <a:pt x="2533" y="23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10" name=""/>
            <p:cNvSpPr/>
            <p:nvPr/>
          </p:nvSpPr>
          <p:spPr>
            <a:xfrm>
              <a:off x="7684560" y="5898960"/>
              <a:ext cx="1764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4511" name=""/>
          <p:cNvSpPr/>
          <p:nvPr/>
        </p:nvSpPr>
        <p:spPr>
          <a:xfrm>
            <a:off x="7539840" y="4745160"/>
            <a:ext cx="493560" cy="731520"/>
          </a:xfrm>
          <a:prstGeom prst="rect">
            <a:avLst/>
          </a:prstGeom>
          <a:no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t>
            </a:r>
            <a:endParaRPr b="0" lang="en-US" sz="4800" spc="-1" strike="noStrike">
              <a:solidFill>
                <a:srgbClr val="000000"/>
              </a:solidFill>
              <a:latin typeface="Arial"/>
            </a:endParaRPr>
          </a:p>
        </p:txBody>
      </p:sp>
      <p:grpSp>
        <p:nvGrpSpPr>
          <p:cNvPr id="4512" name=""/>
          <p:cNvGrpSpPr/>
          <p:nvPr/>
        </p:nvGrpSpPr>
        <p:grpSpPr>
          <a:xfrm>
            <a:off x="4057560" y="4618080"/>
            <a:ext cx="1371240" cy="686880"/>
            <a:chOff x="4057560" y="4618080"/>
            <a:chExt cx="1371240" cy="686880"/>
          </a:xfrm>
        </p:grpSpPr>
        <p:grpSp>
          <p:nvGrpSpPr>
            <p:cNvPr id="4513" name=""/>
            <p:cNvGrpSpPr/>
            <p:nvPr/>
          </p:nvGrpSpPr>
          <p:grpSpPr>
            <a:xfrm>
              <a:off x="4057560" y="4618080"/>
              <a:ext cx="1371240" cy="686880"/>
              <a:chOff x="4057560" y="4618080"/>
              <a:chExt cx="1371240" cy="686880"/>
            </a:xfrm>
          </p:grpSpPr>
          <p:sp>
            <p:nvSpPr>
              <p:cNvPr id="4514" name=""/>
              <p:cNvSpPr/>
              <p:nvPr/>
            </p:nvSpPr>
            <p:spPr>
              <a:xfrm>
                <a:off x="4368240" y="4808520"/>
                <a:ext cx="293760" cy="291600"/>
              </a:xfrm>
              <a:custGeom>
                <a:avLst/>
                <a:gdLst/>
                <a:ahLst/>
                <a:rect l="l" t="t" r="r" b="b"/>
                <a:pathLst>
                  <a:path w="3542" h="2755">
                    <a:moveTo>
                      <a:pt x="3542" y="2755"/>
                    </a:moveTo>
                    <a:lnTo>
                      <a:pt x="3452" y="2648"/>
                    </a:lnTo>
                    <a:lnTo>
                      <a:pt x="3415" y="2476"/>
                    </a:lnTo>
                    <a:lnTo>
                      <a:pt x="3307" y="2404"/>
                    </a:lnTo>
                    <a:lnTo>
                      <a:pt x="3290" y="2296"/>
                    </a:lnTo>
                    <a:lnTo>
                      <a:pt x="3355" y="2222"/>
                    </a:lnTo>
                    <a:lnTo>
                      <a:pt x="3355" y="2141"/>
                    </a:lnTo>
                    <a:lnTo>
                      <a:pt x="3314" y="2052"/>
                    </a:lnTo>
                    <a:lnTo>
                      <a:pt x="3248" y="1954"/>
                    </a:lnTo>
                    <a:lnTo>
                      <a:pt x="3248" y="1791"/>
                    </a:lnTo>
                    <a:lnTo>
                      <a:pt x="3307" y="1724"/>
                    </a:lnTo>
                    <a:lnTo>
                      <a:pt x="3299" y="1652"/>
                    </a:lnTo>
                    <a:lnTo>
                      <a:pt x="3233" y="1604"/>
                    </a:lnTo>
                    <a:lnTo>
                      <a:pt x="3200" y="1503"/>
                    </a:lnTo>
                    <a:lnTo>
                      <a:pt x="3209" y="1417"/>
                    </a:lnTo>
                    <a:lnTo>
                      <a:pt x="3191" y="1286"/>
                    </a:lnTo>
                    <a:lnTo>
                      <a:pt x="3166" y="1114"/>
                    </a:lnTo>
                    <a:lnTo>
                      <a:pt x="3166" y="910"/>
                    </a:lnTo>
                    <a:lnTo>
                      <a:pt x="3166" y="754"/>
                    </a:lnTo>
                    <a:lnTo>
                      <a:pt x="3161" y="592"/>
                    </a:lnTo>
                    <a:lnTo>
                      <a:pt x="3125" y="451"/>
                    </a:lnTo>
                    <a:lnTo>
                      <a:pt x="3092" y="360"/>
                    </a:lnTo>
                    <a:lnTo>
                      <a:pt x="2712" y="171"/>
                    </a:lnTo>
                    <a:lnTo>
                      <a:pt x="2492" y="110"/>
                    </a:lnTo>
                    <a:lnTo>
                      <a:pt x="2279" y="68"/>
                    </a:lnTo>
                    <a:lnTo>
                      <a:pt x="2044" y="0"/>
                    </a:lnTo>
                    <a:lnTo>
                      <a:pt x="890" y="27"/>
                    </a:lnTo>
                    <a:lnTo>
                      <a:pt x="556" y="85"/>
                    </a:lnTo>
                    <a:lnTo>
                      <a:pt x="222" y="205"/>
                    </a:lnTo>
                    <a:lnTo>
                      <a:pt x="123" y="264"/>
                    </a:lnTo>
                    <a:lnTo>
                      <a:pt x="40" y="461"/>
                    </a:lnTo>
                    <a:lnTo>
                      <a:pt x="40" y="1145"/>
                    </a:lnTo>
                    <a:lnTo>
                      <a:pt x="0" y="1235"/>
                    </a:lnTo>
                    <a:lnTo>
                      <a:pt x="540" y="2755"/>
                    </a:lnTo>
                    <a:lnTo>
                      <a:pt x="3542" y="27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5" name=""/>
              <p:cNvSpPr/>
              <p:nvPr/>
            </p:nvSpPr>
            <p:spPr>
              <a:xfrm>
                <a:off x="4381560" y="4815360"/>
                <a:ext cx="133200" cy="144720"/>
              </a:xfrm>
              <a:custGeom>
                <a:avLst/>
                <a:gdLst/>
                <a:ahLst/>
                <a:rect l="l" t="t" r="r" b="b"/>
                <a:pathLst>
                  <a:path w="1609" h="1365">
                    <a:moveTo>
                      <a:pt x="1609" y="1365"/>
                    </a:moveTo>
                    <a:lnTo>
                      <a:pt x="1148" y="499"/>
                    </a:lnTo>
                    <a:lnTo>
                      <a:pt x="1019" y="323"/>
                    </a:lnTo>
                    <a:lnTo>
                      <a:pt x="763" y="187"/>
                    </a:lnTo>
                    <a:lnTo>
                      <a:pt x="493" y="121"/>
                    </a:lnTo>
                    <a:lnTo>
                      <a:pt x="279" y="130"/>
                    </a:lnTo>
                    <a:lnTo>
                      <a:pt x="0" y="169"/>
                    </a:lnTo>
                    <a:lnTo>
                      <a:pt x="67" y="121"/>
                    </a:lnTo>
                    <a:lnTo>
                      <a:pt x="353" y="31"/>
                    </a:lnTo>
                    <a:lnTo>
                      <a:pt x="650" y="0"/>
                    </a:lnTo>
                    <a:lnTo>
                      <a:pt x="862" y="31"/>
                    </a:lnTo>
                    <a:lnTo>
                      <a:pt x="1102" y="255"/>
                    </a:lnTo>
                    <a:lnTo>
                      <a:pt x="1264" y="547"/>
                    </a:lnTo>
                    <a:lnTo>
                      <a:pt x="1346" y="767"/>
                    </a:lnTo>
                    <a:lnTo>
                      <a:pt x="1609" y="1365"/>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6" name=""/>
              <p:cNvSpPr/>
              <p:nvPr/>
            </p:nvSpPr>
            <p:spPr>
              <a:xfrm>
                <a:off x="4370400" y="4854240"/>
                <a:ext cx="68400" cy="140400"/>
              </a:xfrm>
              <a:custGeom>
                <a:avLst/>
                <a:gdLst/>
                <a:ahLst/>
                <a:rect l="l" t="t" r="r" b="b"/>
                <a:pathLst>
                  <a:path w="829" h="1330">
                    <a:moveTo>
                      <a:pt x="548" y="586"/>
                    </a:moveTo>
                    <a:lnTo>
                      <a:pt x="484" y="464"/>
                    </a:lnTo>
                    <a:lnTo>
                      <a:pt x="394" y="360"/>
                    </a:lnTo>
                    <a:lnTo>
                      <a:pt x="304" y="286"/>
                    </a:lnTo>
                    <a:lnTo>
                      <a:pt x="205" y="235"/>
                    </a:lnTo>
                    <a:lnTo>
                      <a:pt x="156" y="226"/>
                    </a:lnTo>
                    <a:lnTo>
                      <a:pt x="221" y="374"/>
                    </a:lnTo>
                    <a:lnTo>
                      <a:pt x="359" y="554"/>
                    </a:lnTo>
                    <a:lnTo>
                      <a:pt x="516" y="694"/>
                    </a:lnTo>
                    <a:lnTo>
                      <a:pt x="714" y="835"/>
                    </a:lnTo>
                    <a:lnTo>
                      <a:pt x="745" y="851"/>
                    </a:lnTo>
                    <a:lnTo>
                      <a:pt x="829" y="1100"/>
                    </a:lnTo>
                    <a:lnTo>
                      <a:pt x="756" y="1158"/>
                    </a:lnTo>
                    <a:lnTo>
                      <a:pt x="809" y="1330"/>
                    </a:lnTo>
                    <a:lnTo>
                      <a:pt x="631" y="1305"/>
                    </a:lnTo>
                    <a:lnTo>
                      <a:pt x="703" y="1275"/>
                    </a:lnTo>
                    <a:lnTo>
                      <a:pt x="590" y="1127"/>
                    </a:lnTo>
                    <a:lnTo>
                      <a:pt x="304" y="1013"/>
                    </a:lnTo>
                    <a:lnTo>
                      <a:pt x="128" y="888"/>
                    </a:lnTo>
                    <a:lnTo>
                      <a:pt x="82" y="851"/>
                    </a:lnTo>
                    <a:lnTo>
                      <a:pt x="106" y="923"/>
                    </a:lnTo>
                    <a:lnTo>
                      <a:pt x="179" y="1028"/>
                    </a:lnTo>
                    <a:lnTo>
                      <a:pt x="39" y="906"/>
                    </a:lnTo>
                    <a:lnTo>
                      <a:pt x="7" y="791"/>
                    </a:lnTo>
                    <a:lnTo>
                      <a:pt x="0" y="743"/>
                    </a:lnTo>
                    <a:lnTo>
                      <a:pt x="48" y="586"/>
                    </a:lnTo>
                    <a:lnTo>
                      <a:pt x="64" y="0"/>
                    </a:lnTo>
                    <a:lnTo>
                      <a:pt x="286" y="148"/>
                    </a:lnTo>
                    <a:lnTo>
                      <a:pt x="431" y="307"/>
                    </a:lnTo>
                    <a:lnTo>
                      <a:pt x="509" y="448"/>
                    </a:lnTo>
                    <a:lnTo>
                      <a:pt x="548" y="586"/>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7" name=""/>
              <p:cNvSpPr/>
              <p:nvPr/>
            </p:nvSpPr>
            <p:spPr>
              <a:xfrm>
                <a:off x="4388760" y="4965480"/>
                <a:ext cx="48960" cy="75240"/>
              </a:xfrm>
              <a:custGeom>
                <a:avLst/>
                <a:gdLst/>
                <a:ahLst/>
                <a:rect l="l" t="t" r="r" b="b"/>
                <a:pathLst>
                  <a:path w="593" h="716">
                    <a:moveTo>
                      <a:pt x="19" y="0"/>
                    </a:moveTo>
                    <a:lnTo>
                      <a:pt x="132" y="54"/>
                    </a:lnTo>
                    <a:lnTo>
                      <a:pt x="190" y="187"/>
                    </a:lnTo>
                    <a:lnTo>
                      <a:pt x="331" y="268"/>
                    </a:lnTo>
                    <a:lnTo>
                      <a:pt x="222" y="259"/>
                    </a:lnTo>
                    <a:lnTo>
                      <a:pt x="289" y="310"/>
                    </a:lnTo>
                    <a:lnTo>
                      <a:pt x="455" y="358"/>
                    </a:lnTo>
                    <a:lnTo>
                      <a:pt x="534" y="448"/>
                    </a:lnTo>
                    <a:lnTo>
                      <a:pt x="492" y="538"/>
                    </a:lnTo>
                    <a:lnTo>
                      <a:pt x="388" y="473"/>
                    </a:lnTo>
                    <a:lnTo>
                      <a:pt x="354" y="529"/>
                    </a:lnTo>
                    <a:lnTo>
                      <a:pt x="503" y="587"/>
                    </a:lnTo>
                    <a:lnTo>
                      <a:pt x="593" y="554"/>
                    </a:lnTo>
                    <a:lnTo>
                      <a:pt x="518" y="716"/>
                    </a:lnTo>
                    <a:lnTo>
                      <a:pt x="275" y="554"/>
                    </a:lnTo>
                    <a:lnTo>
                      <a:pt x="0" y="220"/>
                    </a:lnTo>
                    <a:lnTo>
                      <a:pt x="19" y="0"/>
                    </a:lnTo>
                    <a:close/>
                  </a:path>
                </a:pathLst>
              </a:custGeom>
              <a:solidFill>
                <a:srgbClr val="70230c"/>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18" name=""/>
              <p:cNvSpPr/>
              <p:nvPr/>
            </p:nvSpPr>
            <p:spPr>
              <a:xfrm>
                <a:off x="4443120" y="5033160"/>
                <a:ext cx="101880" cy="84600"/>
              </a:xfrm>
              <a:custGeom>
                <a:avLst/>
                <a:gdLst/>
                <a:ahLst/>
                <a:rect l="l" t="t" r="r" b="b"/>
                <a:pathLst>
                  <a:path w="1232" h="800">
                    <a:moveTo>
                      <a:pt x="141" y="141"/>
                    </a:moveTo>
                    <a:lnTo>
                      <a:pt x="188" y="171"/>
                    </a:lnTo>
                    <a:lnTo>
                      <a:pt x="215" y="0"/>
                    </a:lnTo>
                    <a:lnTo>
                      <a:pt x="282" y="254"/>
                    </a:lnTo>
                    <a:lnTo>
                      <a:pt x="248" y="325"/>
                    </a:lnTo>
                    <a:lnTo>
                      <a:pt x="575" y="435"/>
                    </a:lnTo>
                    <a:lnTo>
                      <a:pt x="764" y="595"/>
                    </a:lnTo>
                    <a:lnTo>
                      <a:pt x="1174" y="595"/>
                    </a:lnTo>
                    <a:lnTo>
                      <a:pt x="1232" y="717"/>
                    </a:lnTo>
                    <a:lnTo>
                      <a:pt x="764" y="800"/>
                    </a:lnTo>
                    <a:lnTo>
                      <a:pt x="0" y="341"/>
                    </a:lnTo>
                    <a:lnTo>
                      <a:pt x="141" y="141"/>
                    </a:lnTo>
                    <a:close/>
                  </a:path>
                </a:pathLst>
              </a:custGeom>
              <a:solidFill>
                <a:srgbClr val="70230c"/>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519" name=""/>
              <p:cNvSpPr/>
              <p:nvPr/>
            </p:nvSpPr>
            <p:spPr>
              <a:xfrm>
                <a:off x="4451040" y="4851720"/>
                <a:ext cx="185400" cy="205560"/>
              </a:xfrm>
              <a:custGeom>
                <a:avLst/>
                <a:gdLst/>
                <a:ahLst/>
                <a:rect l="l" t="t" r="r" b="b"/>
                <a:pathLst>
                  <a:path w="2241" h="1943">
                    <a:moveTo>
                      <a:pt x="1241" y="0"/>
                    </a:moveTo>
                    <a:lnTo>
                      <a:pt x="1308" y="277"/>
                    </a:lnTo>
                    <a:lnTo>
                      <a:pt x="1314" y="623"/>
                    </a:lnTo>
                    <a:lnTo>
                      <a:pt x="1250" y="1053"/>
                    </a:lnTo>
                    <a:lnTo>
                      <a:pt x="1133" y="1404"/>
                    </a:lnTo>
                    <a:lnTo>
                      <a:pt x="1232" y="1496"/>
                    </a:lnTo>
                    <a:lnTo>
                      <a:pt x="1035" y="1559"/>
                    </a:lnTo>
                    <a:lnTo>
                      <a:pt x="674" y="1519"/>
                    </a:lnTo>
                    <a:lnTo>
                      <a:pt x="248" y="1528"/>
                    </a:lnTo>
                    <a:lnTo>
                      <a:pt x="0" y="1544"/>
                    </a:lnTo>
                    <a:lnTo>
                      <a:pt x="149" y="1722"/>
                    </a:lnTo>
                    <a:lnTo>
                      <a:pt x="1133" y="1803"/>
                    </a:lnTo>
                    <a:lnTo>
                      <a:pt x="1815" y="1943"/>
                    </a:lnTo>
                    <a:lnTo>
                      <a:pt x="1898" y="1886"/>
                    </a:lnTo>
                    <a:lnTo>
                      <a:pt x="1802" y="1812"/>
                    </a:lnTo>
                    <a:lnTo>
                      <a:pt x="1872" y="1748"/>
                    </a:lnTo>
                    <a:lnTo>
                      <a:pt x="2013" y="1722"/>
                    </a:lnTo>
                    <a:lnTo>
                      <a:pt x="2241" y="1739"/>
                    </a:lnTo>
                    <a:lnTo>
                      <a:pt x="2064" y="1634"/>
                    </a:lnTo>
                    <a:lnTo>
                      <a:pt x="1956" y="1501"/>
                    </a:lnTo>
                    <a:lnTo>
                      <a:pt x="1965" y="1404"/>
                    </a:lnTo>
                    <a:lnTo>
                      <a:pt x="2151" y="1307"/>
                    </a:lnTo>
                    <a:lnTo>
                      <a:pt x="2202" y="1168"/>
                    </a:lnTo>
                    <a:lnTo>
                      <a:pt x="2103" y="1215"/>
                    </a:lnTo>
                    <a:lnTo>
                      <a:pt x="1995" y="1210"/>
                    </a:lnTo>
                    <a:lnTo>
                      <a:pt x="1971" y="1168"/>
                    </a:lnTo>
                    <a:lnTo>
                      <a:pt x="2064" y="1075"/>
                    </a:lnTo>
                    <a:lnTo>
                      <a:pt x="1979" y="1071"/>
                    </a:lnTo>
                    <a:lnTo>
                      <a:pt x="1988" y="972"/>
                    </a:lnTo>
                    <a:lnTo>
                      <a:pt x="2028" y="832"/>
                    </a:lnTo>
                    <a:lnTo>
                      <a:pt x="2120" y="876"/>
                    </a:lnTo>
                    <a:lnTo>
                      <a:pt x="2151" y="963"/>
                    </a:lnTo>
                    <a:lnTo>
                      <a:pt x="2186" y="840"/>
                    </a:lnTo>
                    <a:lnTo>
                      <a:pt x="2145" y="537"/>
                    </a:lnTo>
                    <a:lnTo>
                      <a:pt x="2168" y="311"/>
                    </a:lnTo>
                    <a:lnTo>
                      <a:pt x="2094" y="645"/>
                    </a:lnTo>
                    <a:lnTo>
                      <a:pt x="1979" y="816"/>
                    </a:lnTo>
                    <a:lnTo>
                      <a:pt x="1760" y="1134"/>
                    </a:lnTo>
                    <a:lnTo>
                      <a:pt x="1608" y="1282"/>
                    </a:lnTo>
                    <a:lnTo>
                      <a:pt x="1398" y="1422"/>
                    </a:lnTo>
                    <a:lnTo>
                      <a:pt x="1331" y="1429"/>
                    </a:lnTo>
                    <a:lnTo>
                      <a:pt x="1398" y="1307"/>
                    </a:lnTo>
                    <a:lnTo>
                      <a:pt x="1430" y="1111"/>
                    </a:lnTo>
                    <a:lnTo>
                      <a:pt x="1446" y="800"/>
                    </a:lnTo>
                    <a:lnTo>
                      <a:pt x="1430" y="521"/>
                    </a:lnTo>
                    <a:lnTo>
                      <a:pt x="1398" y="269"/>
                    </a:lnTo>
                    <a:lnTo>
                      <a:pt x="1349" y="113"/>
                    </a:lnTo>
                    <a:lnTo>
                      <a:pt x="1241"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0" name=""/>
              <p:cNvSpPr/>
              <p:nvPr/>
            </p:nvSpPr>
            <p:spPr>
              <a:xfrm>
                <a:off x="4605840" y="5063040"/>
                <a:ext cx="46800" cy="37080"/>
              </a:xfrm>
              <a:custGeom>
                <a:avLst/>
                <a:gdLst/>
                <a:ahLst/>
                <a:rect l="l" t="t" r="r" b="b"/>
                <a:pathLst>
                  <a:path w="567" h="351">
                    <a:moveTo>
                      <a:pt x="129" y="0"/>
                    </a:moveTo>
                    <a:lnTo>
                      <a:pt x="198" y="72"/>
                    </a:lnTo>
                    <a:lnTo>
                      <a:pt x="173" y="162"/>
                    </a:lnTo>
                    <a:lnTo>
                      <a:pt x="237" y="114"/>
                    </a:lnTo>
                    <a:lnTo>
                      <a:pt x="261" y="251"/>
                    </a:lnTo>
                    <a:lnTo>
                      <a:pt x="355" y="169"/>
                    </a:lnTo>
                    <a:lnTo>
                      <a:pt x="426" y="219"/>
                    </a:lnTo>
                    <a:lnTo>
                      <a:pt x="375" y="268"/>
                    </a:lnTo>
                    <a:lnTo>
                      <a:pt x="417" y="327"/>
                    </a:lnTo>
                    <a:lnTo>
                      <a:pt x="507" y="309"/>
                    </a:lnTo>
                    <a:lnTo>
                      <a:pt x="567" y="351"/>
                    </a:lnTo>
                    <a:lnTo>
                      <a:pt x="204" y="351"/>
                    </a:lnTo>
                    <a:lnTo>
                      <a:pt x="0" y="196"/>
                    </a:lnTo>
                    <a:lnTo>
                      <a:pt x="23" y="37"/>
                    </a:lnTo>
                    <a:lnTo>
                      <a:pt x="129" y="0"/>
                    </a:lnTo>
                    <a:close/>
                  </a:path>
                </a:pathLst>
              </a:custGeom>
              <a:solidFill>
                <a:srgbClr val="70230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21" name=""/>
              <p:cNvSpPr/>
              <p:nvPr/>
            </p:nvSpPr>
            <p:spPr>
              <a:xfrm>
                <a:off x="4624200" y="4995000"/>
                <a:ext cx="12960" cy="20880"/>
              </a:xfrm>
              <a:custGeom>
                <a:avLst/>
                <a:gdLst/>
                <a:ahLst/>
                <a:rect l="l" t="t" r="r" b="b"/>
                <a:pathLst>
                  <a:path w="156" h="200">
                    <a:moveTo>
                      <a:pt x="0" y="79"/>
                    </a:moveTo>
                    <a:lnTo>
                      <a:pt x="81" y="79"/>
                    </a:lnTo>
                    <a:lnTo>
                      <a:pt x="74" y="137"/>
                    </a:lnTo>
                    <a:lnTo>
                      <a:pt x="18" y="128"/>
                    </a:lnTo>
                    <a:lnTo>
                      <a:pt x="127" y="200"/>
                    </a:lnTo>
                    <a:lnTo>
                      <a:pt x="156" y="0"/>
                    </a:lnTo>
                    <a:lnTo>
                      <a:pt x="0" y="79"/>
                    </a:lnTo>
                    <a:close/>
                  </a:path>
                </a:pathLst>
              </a:custGeom>
              <a:solidFill>
                <a:srgbClr val="70230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522" name=""/>
              <p:cNvSpPr/>
              <p:nvPr/>
            </p:nvSpPr>
            <p:spPr>
              <a:xfrm>
                <a:off x="4527360" y="5050080"/>
                <a:ext cx="80280" cy="65880"/>
              </a:xfrm>
              <a:custGeom>
                <a:avLst/>
                <a:gdLst/>
                <a:ahLst/>
                <a:rect l="l" t="t" r="r" b="b"/>
                <a:pathLst>
                  <a:path w="966" h="621">
                    <a:moveTo>
                      <a:pt x="0" y="237"/>
                    </a:moveTo>
                    <a:lnTo>
                      <a:pt x="70" y="310"/>
                    </a:lnTo>
                    <a:lnTo>
                      <a:pt x="138" y="432"/>
                    </a:lnTo>
                    <a:lnTo>
                      <a:pt x="171" y="545"/>
                    </a:lnTo>
                    <a:lnTo>
                      <a:pt x="303" y="621"/>
                    </a:lnTo>
                    <a:lnTo>
                      <a:pt x="484" y="596"/>
                    </a:lnTo>
                    <a:lnTo>
                      <a:pt x="681" y="561"/>
                    </a:lnTo>
                    <a:lnTo>
                      <a:pt x="966" y="450"/>
                    </a:lnTo>
                    <a:lnTo>
                      <a:pt x="966" y="220"/>
                    </a:lnTo>
                    <a:lnTo>
                      <a:pt x="910" y="81"/>
                    </a:lnTo>
                    <a:lnTo>
                      <a:pt x="562" y="0"/>
                    </a:lnTo>
                    <a:lnTo>
                      <a:pt x="244" y="160"/>
                    </a:lnTo>
                    <a:lnTo>
                      <a:pt x="0" y="237"/>
                    </a:lnTo>
                    <a:close/>
                  </a:path>
                </a:pathLst>
              </a:custGeom>
              <a:solidFill>
                <a:srgbClr val="ffc98e"/>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523" name=""/>
              <p:cNvSpPr/>
              <p:nvPr/>
            </p:nvSpPr>
            <p:spPr>
              <a:xfrm>
                <a:off x="4516920" y="4871160"/>
                <a:ext cx="10440" cy="11880"/>
              </a:xfrm>
              <a:custGeom>
                <a:avLst/>
                <a:gdLst/>
                <a:ahLst/>
                <a:rect l="l" t="t" r="r" b="b"/>
                <a:pathLst>
                  <a:path w="125" h="113">
                    <a:moveTo>
                      <a:pt x="90" y="0"/>
                    </a:moveTo>
                    <a:lnTo>
                      <a:pt x="33" y="14"/>
                    </a:lnTo>
                    <a:lnTo>
                      <a:pt x="0" y="69"/>
                    </a:lnTo>
                    <a:lnTo>
                      <a:pt x="42" y="113"/>
                    </a:lnTo>
                    <a:lnTo>
                      <a:pt x="99" y="113"/>
                    </a:lnTo>
                    <a:lnTo>
                      <a:pt x="125" y="78"/>
                    </a:lnTo>
                    <a:lnTo>
                      <a:pt x="125" y="30"/>
                    </a:lnTo>
                    <a:lnTo>
                      <a:pt x="90" y="0"/>
                    </a:lnTo>
                    <a:close/>
                  </a:path>
                </a:pathLst>
              </a:custGeom>
              <a:solidFill>
                <a:srgbClr val="ffea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524" name=""/>
              <p:cNvSpPr/>
              <p:nvPr/>
            </p:nvSpPr>
            <p:spPr>
              <a:xfrm>
                <a:off x="4526280" y="4945680"/>
                <a:ext cx="7200" cy="9360"/>
              </a:xfrm>
              <a:custGeom>
                <a:avLst/>
                <a:gdLst/>
                <a:ahLst/>
                <a:rect l="l" t="t" r="r" b="b"/>
                <a:pathLst>
                  <a:path w="88" h="94">
                    <a:moveTo>
                      <a:pt x="82" y="21"/>
                    </a:moveTo>
                    <a:lnTo>
                      <a:pt x="55" y="0"/>
                    </a:lnTo>
                    <a:lnTo>
                      <a:pt x="7" y="12"/>
                    </a:lnTo>
                    <a:lnTo>
                      <a:pt x="0" y="69"/>
                    </a:lnTo>
                    <a:lnTo>
                      <a:pt x="42" y="94"/>
                    </a:lnTo>
                    <a:lnTo>
                      <a:pt x="88" y="69"/>
                    </a:lnTo>
                    <a:lnTo>
                      <a:pt x="82" y="21"/>
                    </a:lnTo>
                    <a:close/>
                  </a:path>
                </a:pathLst>
              </a:custGeom>
              <a:solidFill>
                <a:srgbClr val="ffe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25" name=""/>
              <p:cNvSpPr/>
              <p:nvPr/>
            </p:nvSpPr>
            <p:spPr>
              <a:xfrm>
                <a:off x="4464360" y="4653360"/>
                <a:ext cx="95400" cy="212760"/>
              </a:xfrm>
              <a:custGeom>
                <a:avLst/>
                <a:gdLst/>
                <a:ahLst/>
                <a:rect l="l" t="t" r="r" b="b"/>
                <a:pathLst>
                  <a:path w="1157" h="2007">
                    <a:moveTo>
                      <a:pt x="35" y="1688"/>
                    </a:moveTo>
                    <a:lnTo>
                      <a:pt x="95" y="1780"/>
                    </a:lnTo>
                    <a:lnTo>
                      <a:pt x="251" y="1881"/>
                    </a:lnTo>
                    <a:lnTo>
                      <a:pt x="411" y="1937"/>
                    </a:lnTo>
                    <a:lnTo>
                      <a:pt x="596" y="1976"/>
                    </a:lnTo>
                    <a:lnTo>
                      <a:pt x="789" y="2007"/>
                    </a:lnTo>
                    <a:lnTo>
                      <a:pt x="895" y="1971"/>
                    </a:lnTo>
                    <a:lnTo>
                      <a:pt x="945" y="1911"/>
                    </a:lnTo>
                    <a:lnTo>
                      <a:pt x="956" y="1766"/>
                    </a:lnTo>
                    <a:lnTo>
                      <a:pt x="915" y="1577"/>
                    </a:lnTo>
                    <a:lnTo>
                      <a:pt x="875" y="1422"/>
                    </a:lnTo>
                    <a:lnTo>
                      <a:pt x="961" y="1317"/>
                    </a:lnTo>
                    <a:lnTo>
                      <a:pt x="1055" y="1143"/>
                    </a:lnTo>
                    <a:lnTo>
                      <a:pt x="1093" y="1009"/>
                    </a:lnTo>
                    <a:lnTo>
                      <a:pt x="1148" y="772"/>
                    </a:lnTo>
                    <a:lnTo>
                      <a:pt x="1157" y="648"/>
                    </a:lnTo>
                    <a:lnTo>
                      <a:pt x="1157" y="480"/>
                    </a:lnTo>
                    <a:lnTo>
                      <a:pt x="1125" y="231"/>
                    </a:lnTo>
                    <a:lnTo>
                      <a:pt x="994" y="14"/>
                    </a:lnTo>
                    <a:lnTo>
                      <a:pt x="411" y="0"/>
                    </a:lnTo>
                    <a:lnTo>
                      <a:pt x="129" y="378"/>
                    </a:lnTo>
                    <a:lnTo>
                      <a:pt x="0" y="576"/>
                    </a:lnTo>
                    <a:lnTo>
                      <a:pt x="5" y="733"/>
                    </a:lnTo>
                    <a:lnTo>
                      <a:pt x="69" y="1056"/>
                    </a:lnTo>
                    <a:lnTo>
                      <a:pt x="23" y="1568"/>
                    </a:lnTo>
                    <a:lnTo>
                      <a:pt x="35" y="168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6" name=""/>
              <p:cNvSpPr/>
              <p:nvPr/>
            </p:nvSpPr>
            <p:spPr>
              <a:xfrm>
                <a:off x="4469040" y="4744080"/>
                <a:ext cx="10440" cy="24480"/>
              </a:xfrm>
              <a:custGeom>
                <a:avLst/>
                <a:gdLst/>
                <a:ahLst/>
                <a:rect l="l" t="t" r="r" b="b"/>
                <a:pathLst>
                  <a:path w="129" h="233">
                    <a:moveTo>
                      <a:pt x="33" y="12"/>
                    </a:moveTo>
                    <a:lnTo>
                      <a:pt x="67" y="0"/>
                    </a:lnTo>
                    <a:lnTo>
                      <a:pt x="101" y="25"/>
                    </a:lnTo>
                    <a:lnTo>
                      <a:pt x="129" y="79"/>
                    </a:lnTo>
                    <a:lnTo>
                      <a:pt x="123" y="194"/>
                    </a:lnTo>
                    <a:lnTo>
                      <a:pt x="81" y="233"/>
                    </a:lnTo>
                    <a:lnTo>
                      <a:pt x="0" y="194"/>
                    </a:lnTo>
                    <a:lnTo>
                      <a:pt x="0" y="95"/>
                    </a:lnTo>
                    <a:lnTo>
                      <a:pt x="33" y="12"/>
                    </a:lnTo>
                    <a:close/>
                  </a:path>
                </a:pathLst>
              </a:custGeom>
              <a:solidFill>
                <a:srgbClr val="ffea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527" name=""/>
              <p:cNvSpPr/>
              <p:nvPr/>
            </p:nvSpPr>
            <p:spPr>
              <a:xfrm>
                <a:off x="4555440" y="4750920"/>
                <a:ext cx="3240" cy="12600"/>
              </a:xfrm>
              <a:custGeom>
                <a:avLst/>
                <a:gdLst/>
                <a:ahLst/>
                <a:rect l="l" t="t" r="r" b="b"/>
                <a:pathLst>
                  <a:path w="44" h="123">
                    <a:moveTo>
                      <a:pt x="24" y="0"/>
                    </a:moveTo>
                    <a:lnTo>
                      <a:pt x="0" y="123"/>
                    </a:lnTo>
                    <a:lnTo>
                      <a:pt x="28" y="121"/>
                    </a:lnTo>
                    <a:lnTo>
                      <a:pt x="44" y="88"/>
                    </a:lnTo>
                    <a:lnTo>
                      <a:pt x="39" y="42"/>
                    </a:lnTo>
                    <a:lnTo>
                      <a:pt x="24" y="0"/>
                    </a:lnTo>
                    <a:close/>
                  </a:path>
                </a:pathLst>
              </a:custGeom>
              <a:solidFill>
                <a:srgbClr val="ffea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28" name=""/>
              <p:cNvSpPr/>
              <p:nvPr/>
            </p:nvSpPr>
            <p:spPr>
              <a:xfrm>
                <a:off x="4079160" y="4839120"/>
                <a:ext cx="433440" cy="410040"/>
              </a:xfrm>
              <a:custGeom>
                <a:avLst/>
                <a:gdLst/>
                <a:ahLst/>
                <a:rect l="l" t="t" r="r" b="b"/>
                <a:pathLst>
                  <a:path w="5233" h="3878">
                    <a:moveTo>
                      <a:pt x="4452" y="3024"/>
                    </a:moveTo>
                    <a:lnTo>
                      <a:pt x="4030" y="2787"/>
                    </a:lnTo>
                    <a:lnTo>
                      <a:pt x="3672" y="2893"/>
                    </a:lnTo>
                    <a:lnTo>
                      <a:pt x="3525" y="2812"/>
                    </a:lnTo>
                    <a:lnTo>
                      <a:pt x="3052" y="2393"/>
                    </a:lnTo>
                    <a:lnTo>
                      <a:pt x="2947" y="3010"/>
                    </a:lnTo>
                    <a:lnTo>
                      <a:pt x="3131" y="3089"/>
                    </a:lnTo>
                    <a:lnTo>
                      <a:pt x="3356" y="2999"/>
                    </a:lnTo>
                    <a:lnTo>
                      <a:pt x="3608" y="3076"/>
                    </a:lnTo>
                    <a:lnTo>
                      <a:pt x="3790" y="3063"/>
                    </a:lnTo>
                    <a:lnTo>
                      <a:pt x="4318" y="3052"/>
                    </a:lnTo>
                    <a:lnTo>
                      <a:pt x="4468" y="3234"/>
                    </a:lnTo>
                    <a:lnTo>
                      <a:pt x="4410" y="3612"/>
                    </a:lnTo>
                    <a:lnTo>
                      <a:pt x="4336" y="3681"/>
                    </a:lnTo>
                    <a:lnTo>
                      <a:pt x="3845" y="3681"/>
                    </a:lnTo>
                    <a:lnTo>
                      <a:pt x="1901" y="3878"/>
                    </a:lnTo>
                    <a:lnTo>
                      <a:pt x="11" y="3654"/>
                    </a:lnTo>
                    <a:lnTo>
                      <a:pt x="0" y="1987"/>
                    </a:lnTo>
                    <a:lnTo>
                      <a:pt x="103" y="1510"/>
                    </a:lnTo>
                    <a:lnTo>
                      <a:pt x="304" y="1037"/>
                    </a:lnTo>
                    <a:lnTo>
                      <a:pt x="408" y="892"/>
                    </a:lnTo>
                    <a:lnTo>
                      <a:pt x="685" y="590"/>
                    </a:lnTo>
                    <a:lnTo>
                      <a:pt x="975" y="394"/>
                    </a:lnTo>
                    <a:lnTo>
                      <a:pt x="1213" y="248"/>
                    </a:lnTo>
                    <a:lnTo>
                      <a:pt x="1466" y="145"/>
                    </a:lnTo>
                    <a:lnTo>
                      <a:pt x="1572" y="0"/>
                    </a:lnTo>
                    <a:lnTo>
                      <a:pt x="2604" y="343"/>
                    </a:lnTo>
                    <a:lnTo>
                      <a:pt x="2747" y="514"/>
                    </a:lnTo>
                    <a:lnTo>
                      <a:pt x="2947" y="643"/>
                    </a:lnTo>
                    <a:lnTo>
                      <a:pt x="3172" y="828"/>
                    </a:lnTo>
                    <a:lnTo>
                      <a:pt x="3474" y="1210"/>
                    </a:lnTo>
                    <a:lnTo>
                      <a:pt x="4307" y="1995"/>
                    </a:lnTo>
                    <a:lnTo>
                      <a:pt x="4491" y="2079"/>
                    </a:lnTo>
                    <a:lnTo>
                      <a:pt x="4544" y="2236"/>
                    </a:lnTo>
                    <a:lnTo>
                      <a:pt x="4956" y="2340"/>
                    </a:lnTo>
                    <a:lnTo>
                      <a:pt x="5140" y="2551"/>
                    </a:lnTo>
                    <a:lnTo>
                      <a:pt x="5233" y="2812"/>
                    </a:lnTo>
                    <a:lnTo>
                      <a:pt x="4452" y="3024"/>
                    </a:lnTo>
                    <a:close/>
                  </a:path>
                </a:pathLst>
              </a:custGeom>
              <a:solidFill>
                <a:srgbClr val="00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9" name=""/>
              <p:cNvSpPr/>
              <p:nvPr/>
            </p:nvSpPr>
            <p:spPr>
              <a:xfrm>
                <a:off x="4512960" y="5067000"/>
                <a:ext cx="66960" cy="134640"/>
              </a:xfrm>
              <a:custGeom>
                <a:avLst/>
                <a:gdLst/>
                <a:ahLst/>
                <a:rect l="l" t="t" r="r" b="b"/>
                <a:pathLst>
                  <a:path w="803" h="1268">
                    <a:moveTo>
                      <a:pt x="0" y="23"/>
                    </a:moveTo>
                    <a:lnTo>
                      <a:pt x="0" y="44"/>
                    </a:lnTo>
                    <a:lnTo>
                      <a:pt x="12" y="69"/>
                    </a:lnTo>
                    <a:lnTo>
                      <a:pt x="708" y="1183"/>
                    </a:lnTo>
                    <a:lnTo>
                      <a:pt x="803" y="1268"/>
                    </a:lnTo>
                    <a:lnTo>
                      <a:pt x="759" y="1139"/>
                    </a:lnTo>
                    <a:lnTo>
                      <a:pt x="61" y="5"/>
                    </a:lnTo>
                    <a:lnTo>
                      <a:pt x="19" y="0"/>
                    </a:lnTo>
                    <a:lnTo>
                      <a:pt x="0" y="23"/>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0" name=""/>
              <p:cNvSpPr/>
              <p:nvPr/>
            </p:nvSpPr>
            <p:spPr>
              <a:xfrm>
                <a:off x="4462560" y="5124960"/>
                <a:ext cx="100080" cy="81000"/>
              </a:xfrm>
              <a:custGeom>
                <a:avLst/>
                <a:gdLst/>
                <a:ahLst/>
                <a:rect l="l" t="t" r="r" b="b"/>
                <a:pathLst>
                  <a:path w="1202" h="775">
                    <a:moveTo>
                      <a:pt x="0" y="289"/>
                    </a:moveTo>
                    <a:lnTo>
                      <a:pt x="63" y="132"/>
                    </a:lnTo>
                    <a:lnTo>
                      <a:pt x="182" y="66"/>
                    </a:lnTo>
                    <a:lnTo>
                      <a:pt x="287" y="81"/>
                    </a:lnTo>
                    <a:lnTo>
                      <a:pt x="487" y="118"/>
                    </a:lnTo>
                    <a:lnTo>
                      <a:pt x="607" y="28"/>
                    </a:lnTo>
                    <a:lnTo>
                      <a:pt x="709" y="0"/>
                    </a:lnTo>
                    <a:lnTo>
                      <a:pt x="1147" y="66"/>
                    </a:lnTo>
                    <a:lnTo>
                      <a:pt x="1188" y="171"/>
                    </a:lnTo>
                    <a:lnTo>
                      <a:pt x="1135" y="199"/>
                    </a:lnTo>
                    <a:lnTo>
                      <a:pt x="793" y="224"/>
                    </a:lnTo>
                    <a:lnTo>
                      <a:pt x="1162" y="382"/>
                    </a:lnTo>
                    <a:lnTo>
                      <a:pt x="1202" y="475"/>
                    </a:lnTo>
                    <a:lnTo>
                      <a:pt x="1174" y="552"/>
                    </a:lnTo>
                    <a:lnTo>
                      <a:pt x="1068" y="630"/>
                    </a:lnTo>
                    <a:lnTo>
                      <a:pt x="1029" y="738"/>
                    </a:lnTo>
                    <a:lnTo>
                      <a:pt x="709" y="775"/>
                    </a:lnTo>
                    <a:lnTo>
                      <a:pt x="130" y="710"/>
                    </a:lnTo>
                    <a:lnTo>
                      <a:pt x="0" y="289"/>
                    </a:lnTo>
                    <a:close/>
                  </a:path>
                </a:pathLst>
              </a:custGeom>
              <a:solidFill>
                <a:srgbClr val="ffc98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31" name=""/>
              <p:cNvSpPr/>
              <p:nvPr/>
            </p:nvSpPr>
            <p:spPr>
              <a:xfrm>
                <a:off x="4204080" y="4726440"/>
                <a:ext cx="135720" cy="202320"/>
              </a:xfrm>
              <a:custGeom>
                <a:avLst/>
                <a:gdLst/>
                <a:ahLst/>
                <a:rect l="l" t="t" r="r" b="b"/>
                <a:pathLst>
                  <a:path w="1639" h="1907">
                    <a:moveTo>
                      <a:pt x="0" y="538"/>
                    </a:moveTo>
                    <a:lnTo>
                      <a:pt x="53" y="850"/>
                    </a:lnTo>
                    <a:lnTo>
                      <a:pt x="73" y="949"/>
                    </a:lnTo>
                    <a:lnTo>
                      <a:pt x="127" y="1008"/>
                    </a:lnTo>
                    <a:lnTo>
                      <a:pt x="99" y="1109"/>
                    </a:lnTo>
                    <a:lnTo>
                      <a:pt x="154" y="1217"/>
                    </a:lnTo>
                    <a:lnTo>
                      <a:pt x="207" y="1305"/>
                    </a:lnTo>
                    <a:lnTo>
                      <a:pt x="272" y="1409"/>
                    </a:lnTo>
                    <a:lnTo>
                      <a:pt x="495" y="1599"/>
                    </a:lnTo>
                    <a:lnTo>
                      <a:pt x="784" y="1907"/>
                    </a:lnTo>
                    <a:lnTo>
                      <a:pt x="822" y="1859"/>
                    </a:lnTo>
                    <a:lnTo>
                      <a:pt x="881" y="1736"/>
                    </a:lnTo>
                    <a:lnTo>
                      <a:pt x="905" y="1598"/>
                    </a:lnTo>
                    <a:lnTo>
                      <a:pt x="1030" y="1630"/>
                    </a:lnTo>
                    <a:lnTo>
                      <a:pt x="1155" y="1617"/>
                    </a:lnTo>
                    <a:lnTo>
                      <a:pt x="1213" y="1584"/>
                    </a:lnTo>
                    <a:lnTo>
                      <a:pt x="1270" y="1522"/>
                    </a:lnTo>
                    <a:lnTo>
                      <a:pt x="1429" y="1179"/>
                    </a:lnTo>
                    <a:lnTo>
                      <a:pt x="1510" y="1077"/>
                    </a:lnTo>
                    <a:lnTo>
                      <a:pt x="1572" y="905"/>
                    </a:lnTo>
                    <a:lnTo>
                      <a:pt x="1586" y="718"/>
                    </a:lnTo>
                    <a:lnTo>
                      <a:pt x="1618" y="632"/>
                    </a:lnTo>
                    <a:lnTo>
                      <a:pt x="1635" y="575"/>
                    </a:lnTo>
                    <a:lnTo>
                      <a:pt x="1639" y="261"/>
                    </a:lnTo>
                    <a:lnTo>
                      <a:pt x="1609" y="118"/>
                    </a:lnTo>
                    <a:lnTo>
                      <a:pt x="1540" y="0"/>
                    </a:lnTo>
                    <a:lnTo>
                      <a:pt x="207" y="155"/>
                    </a:lnTo>
                    <a:lnTo>
                      <a:pt x="0" y="53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2" name=""/>
              <p:cNvSpPr/>
              <p:nvPr/>
            </p:nvSpPr>
            <p:spPr>
              <a:xfrm>
                <a:off x="4262400" y="4937400"/>
                <a:ext cx="30240" cy="204120"/>
              </a:xfrm>
              <a:custGeom>
                <a:avLst/>
                <a:gdLst/>
                <a:ahLst/>
                <a:rect l="l" t="t" r="r" b="b"/>
                <a:pathLst>
                  <a:path w="369" h="1920">
                    <a:moveTo>
                      <a:pt x="92" y="0"/>
                    </a:moveTo>
                    <a:lnTo>
                      <a:pt x="40" y="52"/>
                    </a:lnTo>
                    <a:lnTo>
                      <a:pt x="0" y="142"/>
                    </a:lnTo>
                    <a:lnTo>
                      <a:pt x="27" y="313"/>
                    </a:lnTo>
                    <a:lnTo>
                      <a:pt x="14" y="973"/>
                    </a:lnTo>
                    <a:lnTo>
                      <a:pt x="40" y="1433"/>
                    </a:lnTo>
                    <a:lnTo>
                      <a:pt x="119" y="1920"/>
                    </a:lnTo>
                    <a:lnTo>
                      <a:pt x="200" y="1920"/>
                    </a:lnTo>
                    <a:lnTo>
                      <a:pt x="319" y="1920"/>
                    </a:lnTo>
                    <a:lnTo>
                      <a:pt x="369" y="1841"/>
                    </a:lnTo>
                    <a:lnTo>
                      <a:pt x="263" y="1498"/>
                    </a:lnTo>
                    <a:lnTo>
                      <a:pt x="212" y="1169"/>
                    </a:lnTo>
                    <a:lnTo>
                      <a:pt x="200" y="776"/>
                    </a:lnTo>
                    <a:lnTo>
                      <a:pt x="159" y="313"/>
                    </a:lnTo>
                    <a:lnTo>
                      <a:pt x="185" y="211"/>
                    </a:lnTo>
                    <a:lnTo>
                      <a:pt x="159" y="66"/>
                    </a:lnTo>
                    <a:lnTo>
                      <a:pt x="9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3" name=""/>
              <p:cNvSpPr/>
              <p:nvPr/>
            </p:nvSpPr>
            <p:spPr>
              <a:xfrm>
                <a:off x="4277520" y="4674600"/>
                <a:ext cx="75600" cy="99000"/>
              </a:xfrm>
              <a:custGeom>
                <a:avLst/>
                <a:gdLst/>
                <a:ahLst/>
                <a:rect l="l" t="t" r="r" b="b"/>
                <a:pathLst>
                  <a:path w="914" h="936">
                    <a:moveTo>
                      <a:pt x="635" y="499"/>
                    </a:moveTo>
                    <a:lnTo>
                      <a:pt x="714" y="607"/>
                    </a:lnTo>
                    <a:lnTo>
                      <a:pt x="844" y="936"/>
                    </a:lnTo>
                    <a:lnTo>
                      <a:pt x="899" y="855"/>
                    </a:lnTo>
                    <a:lnTo>
                      <a:pt x="914" y="581"/>
                    </a:lnTo>
                    <a:lnTo>
                      <a:pt x="914" y="510"/>
                    </a:lnTo>
                    <a:lnTo>
                      <a:pt x="859" y="462"/>
                    </a:lnTo>
                    <a:lnTo>
                      <a:pt x="767" y="381"/>
                    </a:lnTo>
                    <a:lnTo>
                      <a:pt x="686" y="224"/>
                    </a:lnTo>
                    <a:lnTo>
                      <a:pt x="541" y="79"/>
                    </a:lnTo>
                    <a:lnTo>
                      <a:pt x="356" y="40"/>
                    </a:lnTo>
                    <a:lnTo>
                      <a:pt x="145" y="0"/>
                    </a:lnTo>
                    <a:lnTo>
                      <a:pt x="0" y="51"/>
                    </a:lnTo>
                    <a:lnTo>
                      <a:pt x="15" y="593"/>
                    </a:lnTo>
                    <a:lnTo>
                      <a:pt x="635" y="499"/>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4" name=""/>
              <p:cNvSpPr/>
              <p:nvPr/>
            </p:nvSpPr>
            <p:spPr>
              <a:xfrm>
                <a:off x="4268880" y="4781520"/>
                <a:ext cx="20160" cy="10080"/>
              </a:xfrm>
              <a:custGeom>
                <a:avLst/>
                <a:gdLst/>
                <a:ahLst/>
                <a:rect l="l" t="t" r="r" b="b"/>
                <a:pathLst>
                  <a:path w="251" h="93">
                    <a:moveTo>
                      <a:pt x="0" y="55"/>
                    </a:moveTo>
                    <a:lnTo>
                      <a:pt x="147" y="70"/>
                    </a:lnTo>
                    <a:lnTo>
                      <a:pt x="251" y="93"/>
                    </a:lnTo>
                    <a:lnTo>
                      <a:pt x="196" y="0"/>
                    </a:lnTo>
                    <a:lnTo>
                      <a:pt x="53" y="0"/>
                    </a:lnTo>
                    <a:lnTo>
                      <a:pt x="0" y="5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535" name=""/>
              <p:cNvSpPr/>
              <p:nvPr/>
            </p:nvSpPr>
            <p:spPr>
              <a:xfrm>
                <a:off x="4316040" y="4793400"/>
                <a:ext cx="15120" cy="11520"/>
              </a:xfrm>
              <a:custGeom>
                <a:avLst/>
                <a:gdLst/>
                <a:ahLst/>
                <a:rect l="l" t="t" r="r" b="b"/>
                <a:pathLst>
                  <a:path w="183" h="119">
                    <a:moveTo>
                      <a:pt x="0" y="66"/>
                    </a:moveTo>
                    <a:lnTo>
                      <a:pt x="106" y="119"/>
                    </a:lnTo>
                    <a:lnTo>
                      <a:pt x="183" y="105"/>
                    </a:lnTo>
                    <a:lnTo>
                      <a:pt x="172" y="77"/>
                    </a:lnTo>
                    <a:lnTo>
                      <a:pt x="37" y="0"/>
                    </a:lnTo>
                    <a:lnTo>
                      <a:pt x="0" y="66"/>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36" name=""/>
              <p:cNvSpPr/>
              <p:nvPr/>
            </p:nvSpPr>
            <p:spPr>
              <a:xfrm>
                <a:off x="4494240" y="4720320"/>
                <a:ext cx="18360" cy="9360"/>
              </a:xfrm>
              <a:custGeom>
                <a:avLst/>
                <a:gdLst/>
                <a:ahLst/>
                <a:rect l="l" t="t" r="r" b="b"/>
                <a:pathLst>
                  <a:path w="218" h="86">
                    <a:moveTo>
                      <a:pt x="0" y="14"/>
                    </a:moveTo>
                    <a:lnTo>
                      <a:pt x="62" y="60"/>
                    </a:lnTo>
                    <a:lnTo>
                      <a:pt x="97" y="86"/>
                    </a:lnTo>
                    <a:lnTo>
                      <a:pt x="181" y="86"/>
                    </a:lnTo>
                    <a:lnTo>
                      <a:pt x="218" y="58"/>
                    </a:lnTo>
                    <a:lnTo>
                      <a:pt x="177" y="9"/>
                    </a:lnTo>
                    <a:lnTo>
                      <a:pt x="103" y="0"/>
                    </a:lnTo>
                    <a:lnTo>
                      <a:pt x="20" y="9"/>
                    </a:lnTo>
                    <a:lnTo>
                      <a:pt x="0" y="14"/>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7" name=""/>
              <p:cNvSpPr/>
              <p:nvPr/>
            </p:nvSpPr>
            <p:spPr>
              <a:xfrm>
                <a:off x="4533480" y="4723920"/>
                <a:ext cx="17640" cy="8280"/>
              </a:xfrm>
              <a:custGeom>
                <a:avLst/>
                <a:gdLst/>
                <a:ahLst/>
                <a:rect l="l" t="t" r="r" b="b"/>
                <a:pathLst>
                  <a:path w="216" h="83">
                    <a:moveTo>
                      <a:pt x="0" y="48"/>
                    </a:moveTo>
                    <a:lnTo>
                      <a:pt x="50" y="7"/>
                    </a:lnTo>
                    <a:lnTo>
                      <a:pt x="130" y="0"/>
                    </a:lnTo>
                    <a:lnTo>
                      <a:pt x="216" y="35"/>
                    </a:lnTo>
                    <a:lnTo>
                      <a:pt x="163" y="66"/>
                    </a:lnTo>
                    <a:lnTo>
                      <a:pt x="121" y="81"/>
                    </a:lnTo>
                    <a:lnTo>
                      <a:pt x="75" y="83"/>
                    </a:lnTo>
                    <a:lnTo>
                      <a:pt x="18" y="62"/>
                    </a:lnTo>
                    <a:lnTo>
                      <a:pt x="0" y="48"/>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38" name=""/>
              <p:cNvSpPr/>
              <p:nvPr/>
            </p:nvSpPr>
            <p:spPr>
              <a:xfrm>
                <a:off x="4506840" y="4775400"/>
                <a:ext cx="28080" cy="7560"/>
              </a:xfrm>
              <a:custGeom>
                <a:avLst/>
                <a:gdLst/>
                <a:ahLst/>
                <a:rect l="l" t="t" r="r" b="b"/>
                <a:pathLst>
                  <a:path w="350" h="67">
                    <a:moveTo>
                      <a:pt x="0" y="4"/>
                    </a:moveTo>
                    <a:lnTo>
                      <a:pt x="82" y="50"/>
                    </a:lnTo>
                    <a:lnTo>
                      <a:pt x="203" y="67"/>
                    </a:lnTo>
                    <a:lnTo>
                      <a:pt x="260" y="65"/>
                    </a:lnTo>
                    <a:lnTo>
                      <a:pt x="299" y="46"/>
                    </a:lnTo>
                    <a:lnTo>
                      <a:pt x="332" y="21"/>
                    </a:lnTo>
                    <a:lnTo>
                      <a:pt x="350" y="0"/>
                    </a:lnTo>
                    <a:lnTo>
                      <a:pt x="249" y="6"/>
                    </a:lnTo>
                    <a:lnTo>
                      <a:pt x="194" y="14"/>
                    </a:lnTo>
                    <a:lnTo>
                      <a:pt x="108" y="4"/>
                    </a:lnTo>
                    <a:lnTo>
                      <a:pt x="0" y="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539" name=""/>
              <p:cNvSpPr/>
              <p:nvPr/>
            </p:nvSpPr>
            <p:spPr>
              <a:xfrm>
                <a:off x="4987440" y="4806000"/>
                <a:ext cx="391680" cy="442440"/>
              </a:xfrm>
              <a:custGeom>
                <a:avLst/>
                <a:gdLst/>
                <a:ahLst/>
                <a:rect l="l" t="t" r="r" b="b"/>
                <a:pathLst>
                  <a:path w="4729" h="4178">
                    <a:moveTo>
                      <a:pt x="602" y="3182"/>
                    </a:moveTo>
                    <a:lnTo>
                      <a:pt x="1411" y="2760"/>
                    </a:lnTo>
                    <a:lnTo>
                      <a:pt x="1677" y="2463"/>
                    </a:lnTo>
                    <a:lnTo>
                      <a:pt x="1928" y="3087"/>
                    </a:lnTo>
                    <a:lnTo>
                      <a:pt x="1940" y="3300"/>
                    </a:lnTo>
                    <a:lnTo>
                      <a:pt x="1846" y="3325"/>
                    </a:lnTo>
                    <a:lnTo>
                      <a:pt x="1640" y="3288"/>
                    </a:lnTo>
                    <a:lnTo>
                      <a:pt x="1486" y="3279"/>
                    </a:lnTo>
                    <a:lnTo>
                      <a:pt x="1398" y="3241"/>
                    </a:lnTo>
                    <a:lnTo>
                      <a:pt x="1218" y="3265"/>
                    </a:lnTo>
                    <a:lnTo>
                      <a:pt x="1050" y="3230"/>
                    </a:lnTo>
                    <a:lnTo>
                      <a:pt x="844" y="3168"/>
                    </a:lnTo>
                    <a:lnTo>
                      <a:pt x="672" y="3254"/>
                    </a:lnTo>
                    <a:lnTo>
                      <a:pt x="541" y="3491"/>
                    </a:lnTo>
                    <a:lnTo>
                      <a:pt x="640" y="3841"/>
                    </a:lnTo>
                    <a:lnTo>
                      <a:pt x="1070" y="3903"/>
                    </a:lnTo>
                    <a:lnTo>
                      <a:pt x="1640" y="4032"/>
                    </a:lnTo>
                    <a:lnTo>
                      <a:pt x="2013" y="4139"/>
                    </a:lnTo>
                    <a:lnTo>
                      <a:pt x="2919" y="4178"/>
                    </a:lnTo>
                    <a:lnTo>
                      <a:pt x="3270" y="4153"/>
                    </a:lnTo>
                    <a:lnTo>
                      <a:pt x="3620" y="4056"/>
                    </a:lnTo>
                    <a:lnTo>
                      <a:pt x="4667" y="2951"/>
                    </a:lnTo>
                    <a:lnTo>
                      <a:pt x="4729" y="1824"/>
                    </a:lnTo>
                    <a:lnTo>
                      <a:pt x="4584" y="1298"/>
                    </a:lnTo>
                    <a:lnTo>
                      <a:pt x="4425" y="1019"/>
                    </a:lnTo>
                    <a:lnTo>
                      <a:pt x="4138" y="639"/>
                    </a:lnTo>
                    <a:lnTo>
                      <a:pt x="3595" y="384"/>
                    </a:lnTo>
                    <a:lnTo>
                      <a:pt x="3450" y="422"/>
                    </a:lnTo>
                    <a:lnTo>
                      <a:pt x="3342" y="362"/>
                    </a:lnTo>
                    <a:lnTo>
                      <a:pt x="3256" y="194"/>
                    </a:lnTo>
                    <a:lnTo>
                      <a:pt x="3053" y="121"/>
                    </a:lnTo>
                    <a:lnTo>
                      <a:pt x="2872" y="0"/>
                    </a:lnTo>
                    <a:lnTo>
                      <a:pt x="2666" y="12"/>
                    </a:lnTo>
                    <a:lnTo>
                      <a:pt x="1709" y="602"/>
                    </a:lnTo>
                    <a:lnTo>
                      <a:pt x="1558" y="720"/>
                    </a:lnTo>
                    <a:lnTo>
                      <a:pt x="1460" y="817"/>
                    </a:lnTo>
                    <a:lnTo>
                      <a:pt x="1281" y="911"/>
                    </a:lnTo>
                    <a:lnTo>
                      <a:pt x="1070" y="1503"/>
                    </a:lnTo>
                    <a:lnTo>
                      <a:pt x="1064" y="1702"/>
                    </a:lnTo>
                    <a:lnTo>
                      <a:pt x="989" y="1979"/>
                    </a:lnTo>
                    <a:lnTo>
                      <a:pt x="808" y="2039"/>
                    </a:lnTo>
                    <a:lnTo>
                      <a:pt x="723" y="2136"/>
                    </a:lnTo>
                    <a:lnTo>
                      <a:pt x="699" y="2259"/>
                    </a:lnTo>
                    <a:lnTo>
                      <a:pt x="578" y="2377"/>
                    </a:lnTo>
                    <a:lnTo>
                      <a:pt x="240" y="2606"/>
                    </a:lnTo>
                    <a:lnTo>
                      <a:pt x="0" y="2917"/>
                    </a:lnTo>
                    <a:lnTo>
                      <a:pt x="277" y="3145"/>
                    </a:lnTo>
                    <a:lnTo>
                      <a:pt x="602" y="31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0" name=""/>
              <p:cNvSpPr/>
              <p:nvPr/>
            </p:nvSpPr>
            <p:spPr>
              <a:xfrm>
                <a:off x="5027400" y="4919760"/>
                <a:ext cx="115200" cy="230400"/>
              </a:xfrm>
              <a:custGeom>
                <a:avLst/>
                <a:gdLst/>
                <a:ahLst/>
                <a:rect l="l" t="t" r="r" b="b"/>
                <a:pathLst>
                  <a:path w="1387" h="2184">
                    <a:moveTo>
                      <a:pt x="691" y="312"/>
                    </a:moveTo>
                    <a:lnTo>
                      <a:pt x="679" y="433"/>
                    </a:lnTo>
                    <a:lnTo>
                      <a:pt x="712" y="479"/>
                    </a:lnTo>
                    <a:lnTo>
                      <a:pt x="807" y="528"/>
                    </a:lnTo>
                    <a:lnTo>
                      <a:pt x="859" y="578"/>
                    </a:lnTo>
                    <a:lnTo>
                      <a:pt x="859" y="683"/>
                    </a:lnTo>
                    <a:lnTo>
                      <a:pt x="664" y="731"/>
                    </a:lnTo>
                    <a:lnTo>
                      <a:pt x="605" y="731"/>
                    </a:lnTo>
                    <a:lnTo>
                      <a:pt x="555" y="671"/>
                    </a:lnTo>
                    <a:lnTo>
                      <a:pt x="508" y="899"/>
                    </a:lnTo>
                    <a:lnTo>
                      <a:pt x="290" y="1031"/>
                    </a:lnTo>
                    <a:lnTo>
                      <a:pt x="664" y="899"/>
                    </a:lnTo>
                    <a:lnTo>
                      <a:pt x="749" y="899"/>
                    </a:lnTo>
                    <a:lnTo>
                      <a:pt x="712" y="945"/>
                    </a:lnTo>
                    <a:lnTo>
                      <a:pt x="447" y="1103"/>
                    </a:lnTo>
                    <a:lnTo>
                      <a:pt x="726" y="1103"/>
                    </a:lnTo>
                    <a:lnTo>
                      <a:pt x="737" y="1213"/>
                    </a:lnTo>
                    <a:lnTo>
                      <a:pt x="133" y="1273"/>
                    </a:lnTo>
                    <a:lnTo>
                      <a:pt x="0" y="1369"/>
                    </a:lnTo>
                    <a:lnTo>
                      <a:pt x="170" y="1426"/>
                    </a:lnTo>
                    <a:lnTo>
                      <a:pt x="279" y="1525"/>
                    </a:lnTo>
                    <a:lnTo>
                      <a:pt x="290" y="1593"/>
                    </a:lnTo>
                    <a:lnTo>
                      <a:pt x="181" y="1690"/>
                    </a:lnTo>
                    <a:lnTo>
                      <a:pt x="181" y="1810"/>
                    </a:lnTo>
                    <a:lnTo>
                      <a:pt x="242" y="1932"/>
                    </a:lnTo>
                    <a:lnTo>
                      <a:pt x="84" y="2075"/>
                    </a:lnTo>
                    <a:lnTo>
                      <a:pt x="218" y="2184"/>
                    </a:lnTo>
                    <a:lnTo>
                      <a:pt x="373" y="2098"/>
                    </a:lnTo>
                    <a:lnTo>
                      <a:pt x="472" y="2123"/>
                    </a:lnTo>
                    <a:lnTo>
                      <a:pt x="679" y="1964"/>
                    </a:lnTo>
                    <a:lnTo>
                      <a:pt x="989" y="1630"/>
                    </a:lnTo>
                    <a:lnTo>
                      <a:pt x="1207" y="1379"/>
                    </a:lnTo>
                    <a:lnTo>
                      <a:pt x="1350" y="1752"/>
                    </a:lnTo>
                    <a:lnTo>
                      <a:pt x="1387" y="1358"/>
                    </a:lnTo>
                    <a:lnTo>
                      <a:pt x="1387" y="1199"/>
                    </a:lnTo>
                    <a:lnTo>
                      <a:pt x="1242" y="1093"/>
                    </a:lnTo>
                    <a:lnTo>
                      <a:pt x="1122" y="923"/>
                    </a:lnTo>
                    <a:lnTo>
                      <a:pt x="1014" y="740"/>
                    </a:lnTo>
                    <a:lnTo>
                      <a:pt x="930" y="528"/>
                    </a:lnTo>
                    <a:lnTo>
                      <a:pt x="834" y="228"/>
                    </a:lnTo>
                    <a:lnTo>
                      <a:pt x="800" y="0"/>
                    </a:lnTo>
                    <a:lnTo>
                      <a:pt x="700" y="215"/>
                    </a:lnTo>
                    <a:lnTo>
                      <a:pt x="691" y="312"/>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1" name=""/>
              <p:cNvSpPr/>
              <p:nvPr/>
            </p:nvSpPr>
            <p:spPr>
              <a:xfrm>
                <a:off x="5085720" y="4921200"/>
                <a:ext cx="236520" cy="331560"/>
              </a:xfrm>
              <a:custGeom>
                <a:avLst/>
                <a:gdLst/>
                <a:ahLst/>
                <a:rect l="l" t="t" r="r" b="b"/>
                <a:pathLst>
                  <a:path w="2861" h="3124">
                    <a:moveTo>
                      <a:pt x="988" y="1321"/>
                    </a:moveTo>
                    <a:lnTo>
                      <a:pt x="1377" y="1443"/>
                    </a:lnTo>
                    <a:lnTo>
                      <a:pt x="1691" y="1504"/>
                    </a:lnTo>
                    <a:lnTo>
                      <a:pt x="1909" y="1095"/>
                    </a:lnTo>
                    <a:lnTo>
                      <a:pt x="1895" y="698"/>
                    </a:lnTo>
                    <a:lnTo>
                      <a:pt x="2146" y="231"/>
                    </a:lnTo>
                    <a:lnTo>
                      <a:pt x="2642" y="0"/>
                    </a:lnTo>
                    <a:lnTo>
                      <a:pt x="2232" y="399"/>
                    </a:lnTo>
                    <a:lnTo>
                      <a:pt x="2111" y="770"/>
                    </a:lnTo>
                    <a:lnTo>
                      <a:pt x="2111" y="1168"/>
                    </a:lnTo>
                    <a:lnTo>
                      <a:pt x="2350" y="985"/>
                    </a:lnTo>
                    <a:lnTo>
                      <a:pt x="2665" y="627"/>
                    </a:lnTo>
                    <a:lnTo>
                      <a:pt x="2861" y="420"/>
                    </a:lnTo>
                    <a:lnTo>
                      <a:pt x="2861" y="590"/>
                    </a:lnTo>
                    <a:lnTo>
                      <a:pt x="2642" y="1010"/>
                    </a:lnTo>
                    <a:lnTo>
                      <a:pt x="2280" y="1478"/>
                    </a:lnTo>
                    <a:lnTo>
                      <a:pt x="1981" y="1741"/>
                    </a:lnTo>
                    <a:lnTo>
                      <a:pt x="1773" y="1838"/>
                    </a:lnTo>
                    <a:lnTo>
                      <a:pt x="1773" y="1959"/>
                    </a:lnTo>
                    <a:lnTo>
                      <a:pt x="1918" y="2188"/>
                    </a:lnTo>
                    <a:lnTo>
                      <a:pt x="2063" y="2545"/>
                    </a:lnTo>
                    <a:lnTo>
                      <a:pt x="1955" y="2451"/>
                    </a:lnTo>
                    <a:lnTo>
                      <a:pt x="1836" y="2333"/>
                    </a:lnTo>
                    <a:lnTo>
                      <a:pt x="1665" y="2257"/>
                    </a:lnTo>
                    <a:lnTo>
                      <a:pt x="1508" y="2222"/>
                    </a:lnTo>
                    <a:lnTo>
                      <a:pt x="1388" y="2197"/>
                    </a:lnTo>
                    <a:lnTo>
                      <a:pt x="1460" y="2429"/>
                    </a:lnTo>
                    <a:lnTo>
                      <a:pt x="1691" y="2621"/>
                    </a:lnTo>
                    <a:lnTo>
                      <a:pt x="1872" y="2725"/>
                    </a:lnTo>
                    <a:lnTo>
                      <a:pt x="1785" y="2534"/>
                    </a:lnTo>
                    <a:lnTo>
                      <a:pt x="1981" y="2582"/>
                    </a:lnTo>
                    <a:lnTo>
                      <a:pt x="2052" y="2750"/>
                    </a:lnTo>
                    <a:lnTo>
                      <a:pt x="2025" y="2978"/>
                    </a:lnTo>
                    <a:lnTo>
                      <a:pt x="1895" y="3110"/>
                    </a:lnTo>
                    <a:lnTo>
                      <a:pt x="1665" y="3124"/>
                    </a:lnTo>
                    <a:lnTo>
                      <a:pt x="1425" y="3001"/>
                    </a:lnTo>
                    <a:lnTo>
                      <a:pt x="1326" y="2796"/>
                    </a:lnTo>
                    <a:lnTo>
                      <a:pt x="1181" y="2400"/>
                    </a:lnTo>
                    <a:lnTo>
                      <a:pt x="988" y="2284"/>
                    </a:lnTo>
                    <a:lnTo>
                      <a:pt x="485" y="2391"/>
                    </a:lnTo>
                    <a:lnTo>
                      <a:pt x="171" y="2568"/>
                    </a:lnTo>
                    <a:lnTo>
                      <a:pt x="134" y="2499"/>
                    </a:lnTo>
                    <a:lnTo>
                      <a:pt x="217" y="2319"/>
                    </a:lnTo>
                    <a:lnTo>
                      <a:pt x="0" y="2400"/>
                    </a:lnTo>
                    <a:lnTo>
                      <a:pt x="87" y="2271"/>
                    </a:lnTo>
                    <a:lnTo>
                      <a:pt x="362" y="2197"/>
                    </a:lnTo>
                    <a:lnTo>
                      <a:pt x="558" y="2222"/>
                    </a:lnTo>
                    <a:lnTo>
                      <a:pt x="676" y="2234"/>
                    </a:lnTo>
                    <a:lnTo>
                      <a:pt x="950" y="2174"/>
                    </a:lnTo>
                    <a:lnTo>
                      <a:pt x="988" y="1321"/>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2" name=""/>
              <p:cNvSpPr/>
              <p:nvPr/>
            </p:nvSpPr>
            <p:spPr>
              <a:xfrm>
                <a:off x="5162760" y="4920480"/>
                <a:ext cx="41760" cy="150840"/>
              </a:xfrm>
              <a:custGeom>
                <a:avLst/>
                <a:gdLst/>
                <a:ahLst/>
                <a:rect l="l" t="t" r="r" b="b"/>
                <a:pathLst>
                  <a:path w="507" h="1428">
                    <a:moveTo>
                      <a:pt x="143" y="1404"/>
                    </a:moveTo>
                    <a:lnTo>
                      <a:pt x="180" y="1130"/>
                    </a:lnTo>
                    <a:lnTo>
                      <a:pt x="242" y="780"/>
                    </a:lnTo>
                    <a:lnTo>
                      <a:pt x="242" y="613"/>
                    </a:lnTo>
                    <a:lnTo>
                      <a:pt x="194" y="446"/>
                    </a:lnTo>
                    <a:lnTo>
                      <a:pt x="206" y="312"/>
                    </a:lnTo>
                    <a:lnTo>
                      <a:pt x="266" y="134"/>
                    </a:lnTo>
                    <a:lnTo>
                      <a:pt x="507" y="158"/>
                    </a:lnTo>
                    <a:lnTo>
                      <a:pt x="143" y="0"/>
                    </a:lnTo>
                    <a:lnTo>
                      <a:pt x="0" y="325"/>
                    </a:lnTo>
                    <a:lnTo>
                      <a:pt x="21" y="1428"/>
                    </a:lnTo>
                    <a:lnTo>
                      <a:pt x="143" y="1404"/>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3" name=""/>
              <p:cNvSpPr/>
              <p:nvPr/>
            </p:nvSpPr>
            <p:spPr>
              <a:xfrm>
                <a:off x="5214240" y="4804200"/>
                <a:ext cx="164880" cy="452520"/>
              </a:xfrm>
              <a:custGeom>
                <a:avLst/>
                <a:gdLst/>
                <a:ahLst/>
                <a:rect l="l" t="t" r="r" b="b"/>
                <a:pathLst>
                  <a:path w="1991" h="4272">
                    <a:moveTo>
                      <a:pt x="48" y="182"/>
                    </a:moveTo>
                    <a:lnTo>
                      <a:pt x="181" y="445"/>
                    </a:lnTo>
                    <a:lnTo>
                      <a:pt x="134" y="922"/>
                    </a:lnTo>
                    <a:lnTo>
                      <a:pt x="325" y="240"/>
                    </a:lnTo>
                    <a:lnTo>
                      <a:pt x="409" y="217"/>
                    </a:lnTo>
                    <a:lnTo>
                      <a:pt x="495" y="339"/>
                    </a:lnTo>
                    <a:lnTo>
                      <a:pt x="468" y="468"/>
                    </a:lnTo>
                    <a:lnTo>
                      <a:pt x="371" y="694"/>
                    </a:lnTo>
                    <a:lnTo>
                      <a:pt x="543" y="519"/>
                    </a:lnTo>
                    <a:lnTo>
                      <a:pt x="613" y="540"/>
                    </a:lnTo>
                    <a:lnTo>
                      <a:pt x="251" y="1092"/>
                    </a:lnTo>
                    <a:lnTo>
                      <a:pt x="903" y="481"/>
                    </a:lnTo>
                    <a:lnTo>
                      <a:pt x="1304" y="661"/>
                    </a:lnTo>
                    <a:lnTo>
                      <a:pt x="1387" y="936"/>
                    </a:lnTo>
                    <a:lnTo>
                      <a:pt x="1664" y="1189"/>
                    </a:lnTo>
                    <a:lnTo>
                      <a:pt x="1687" y="1452"/>
                    </a:lnTo>
                    <a:lnTo>
                      <a:pt x="1822" y="1659"/>
                    </a:lnTo>
                    <a:lnTo>
                      <a:pt x="1738" y="1909"/>
                    </a:lnTo>
                    <a:lnTo>
                      <a:pt x="1422" y="2038"/>
                    </a:lnTo>
                    <a:lnTo>
                      <a:pt x="1433" y="2138"/>
                    </a:lnTo>
                    <a:lnTo>
                      <a:pt x="1712" y="2366"/>
                    </a:lnTo>
                    <a:lnTo>
                      <a:pt x="1496" y="2388"/>
                    </a:lnTo>
                    <a:lnTo>
                      <a:pt x="1253" y="2280"/>
                    </a:lnTo>
                    <a:lnTo>
                      <a:pt x="1747" y="2748"/>
                    </a:lnTo>
                    <a:lnTo>
                      <a:pt x="1687" y="2806"/>
                    </a:lnTo>
                    <a:lnTo>
                      <a:pt x="1350" y="2748"/>
                    </a:lnTo>
                    <a:lnTo>
                      <a:pt x="1350" y="3061"/>
                    </a:lnTo>
                    <a:lnTo>
                      <a:pt x="1182" y="3252"/>
                    </a:lnTo>
                    <a:lnTo>
                      <a:pt x="1073" y="3156"/>
                    </a:lnTo>
                    <a:lnTo>
                      <a:pt x="806" y="3636"/>
                    </a:lnTo>
                    <a:lnTo>
                      <a:pt x="506" y="3898"/>
                    </a:lnTo>
                    <a:lnTo>
                      <a:pt x="387" y="4199"/>
                    </a:lnTo>
                    <a:lnTo>
                      <a:pt x="481" y="4272"/>
                    </a:lnTo>
                    <a:lnTo>
                      <a:pt x="1290" y="3995"/>
                    </a:lnTo>
                    <a:lnTo>
                      <a:pt x="1991" y="2833"/>
                    </a:lnTo>
                    <a:lnTo>
                      <a:pt x="1991" y="1821"/>
                    </a:lnTo>
                    <a:lnTo>
                      <a:pt x="1798" y="1199"/>
                    </a:lnTo>
                    <a:lnTo>
                      <a:pt x="1653" y="947"/>
                    </a:lnTo>
                    <a:lnTo>
                      <a:pt x="1521" y="828"/>
                    </a:lnTo>
                    <a:lnTo>
                      <a:pt x="1387" y="613"/>
                    </a:lnTo>
                    <a:lnTo>
                      <a:pt x="831" y="358"/>
                    </a:lnTo>
                    <a:lnTo>
                      <a:pt x="686" y="433"/>
                    </a:lnTo>
                    <a:lnTo>
                      <a:pt x="613" y="358"/>
                    </a:lnTo>
                    <a:lnTo>
                      <a:pt x="578" y="228"/>
                    </a:lnTo>
                    <a:lnTo>
                      <a:pt x="361" y="108"/>
                    </a:lnTo>
                    <a:lnTo>
                      <a:pt x="244" y="97"/>
                    </a:lnTo>
                    <a:lnTo>
                      <a:pt x="134" y="0"/>
                    </a:lnTo>
                    <a:lnTo>
                      <a:pt x="0" y="11"/>
                    </a:lnTo>
                    <a:lnTo>
                      <a:pt x="48" y="182"/>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4" name=""/>
              <p:cNvSpPr/>
              <p:nvPr/>
            </p:nvSpPr>
            <p:spPr>
              <a:xfrm>
                <a:off x="5143320" y="4894920"/>
                <a:ext cx="36360" cy="259920"/>
              </a:xfrm>
              <a:custGeom>
                <a:avLst/>
                <a:gdLst/>
                <a:ahLst/>
                <a:rect l="l" t="t" r="r" b="b"/>
                <a:pathLst>
                  <a:path w="434" h="2461">
                    <a:moveTo>
                      <a:pt x="276" y="0"/>
                    </a:moveTo>
                    <a:lnTo>
                      <a:pt x="166" y="72"/>
                    </a:lnTo>
                    <a:lnTo>
                      <a:pt x="106" y="204"/>
                    </a:lnTo>
                    <a:lnTo>
                      <a:pt x="96" y="326"/>
                    </a:lnTo>
                    <a:lnTo>
                      <a:pt x="106" y="688"/>
                    </a:lnTo>
                    <a:lnTo>
                      <a:pt x="72" y="962"/>
                    </a:lnTo>
                    <a:lnTo>
                      <a:pt x="37" y="1275"/>
                    </a:lnTo>
                    <a:lnTo>
                      <a:pt x="0" y="1504"/>
                    </a:lnTo>
                    <a:lnTo>
                      <a:pt x="0" y="1780"/>
                    </a:lnTo>
                    <a:lnTo>
                      <a:pt x="10" y="2029"/>
                    </a:lnTo>
                    <a:lnTo>
                      <a:pt x="145" y="2461"/>
                    </a:lnTo>
                    <a:lnTo>
                      <a:pt x="434" y="2391"/>
                    </a:lnTo>
                    <a:lnTo>
                      <a:pt x="311" y="1993"/>
                    </a:lnTo>
                    <a:lnTo>
                      <a:pt x="263" y="1684"/>
                    </a:lnTo>
                    <a:lnTo>
                      <a:pt x="287" y="1407"/>
                    </a:lnTo>
                    <a:lnTo>
                      <a:pt x="337" y="1130"/>
                    </a:lnTo>
                    <a:lnTo>
                      <a:pt x="397" y="879"/>
                    </a:lnTo>
                    <a:lnTo>
                      <a:pt x="397" y="734"/>
                    </a:lnTo>
                    <a:lnTo>
                      <a:pt x="360" y="602"/>
                    </a:lnTo>
                    <a:lnTo>
                      <a:pt x="311" y="519"/>
                    </a:lnTo>
                    <a:lnTo>
                      <a:pt x="325" y="194"/>
                    </a:lnTo>
                    <a:lnTo>
                      <a:pt x="337" y="12"/>
                    </a:lnTo>
                    <a:lnTo>
                      <a:pt x="276" y="0"/>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5" name=""/>
              <p:cNvSpPr/>
              <p:nvPr/>
            </p:nvSpPr>
            <p:spPr>
              <a:xfrm>
                <a:off x="4936320" y="5094360"/>
                <a:ext cx="109440" cy="114120"/>
              </a:xfrm>
              <a:custGeom>
                <a:avLst/>
                <a:gdLst/>
                <a:ahLst/>
                <a:rect l="l" t="t" r="r" b="b"/>
                <a:pathLst>
                  <a:path w="1314" h="1079">
                    <a:moveTo>
                      <a:pt x="374" y="0"/>
                    </a:moveTo>
                    <a:lnTo>
                      <a:pt x="300" y="35"/>
                    </a:lnTo>
                    <a:lnTo>
                      <a:pt x="300" y="97"/>
                    </a:lnTo>
                    <a:lnTo>
                      <a:pt x="194" y="143"/>
                    </a:lnTo>
                    <a:lnTo>
                      <a:pt x="167" y="192"/>
                    </a:lnTo>
                    <a:lnTo>
                      <a:pt x="129" y="335"/>
                    </a:lnTo>
                    <a:lnTo>
                      <a:pt x="24" y="395"/>
                    </a:lnTo>
                    <a:lnTo>
                      <a:pt x="0" y="613"/>
                    </a:lnTo>
                    <a:lnTo>
                      <a:pt x="59" y="830"/>
                    </a:lnTo>
                    <a:lnTo>
                      <a:pt x="290" y="934"/>
                    </a:lnTo>
                    <a:lnTo>
                      <a:pt x="662" y="1056"/>
                    </a:lnTo>
                    <a:lnTo>
                      <a:pt x="938" y="1068"/>
                    </a:lnTo>
                    <a:lnTo>
                      <a:pt x="1241" y="1079"/>
                    </a:lnTo>
                    <a:lnTo>
                      <a:pt x="1217" y="925"/>
                    </a:lnTo>
                    <a:lnTo>
                      <a:pt x="1217" y="817"/>
                    </a:lnTo>
                    <a:lnTo>
                      <a:pt x="1229" y="699"/>
                    </a:lnTo>
                    <a:lnTo>
                      <a:pt x="1314" y="529"/>
                    </a:lnTo>
                    <a:lnTo>
                      <a:pt x="1229" y="480"/>
                    </a:lnTo>
                    <a:lnTo>
                      <a:pt x="1156" y="408"/>
                    </a:lnTo>
                    <a:lnTo>
                      <a:pt x="1096" y="309"/>
                    </a:lnTo>
                    <a:lnTo>
                      <a:pt x="1024" y="226"/>
                    </a:lnTo>
                    <a:lnTo>
                      <a:pt x="950" y="167"/>
                    </a:lnTo>
                    <a:lnTo>
                      <a:pt x="879" y="143"/>
                    </a:lnTo>
                    <a:lnTo>
                      <a:pt x="769" y="167"/>
                    </a:lnTo>
                    <a:lnTo>
                      <a:pt x="637" y="204"/>
                    </a:lnTo>
                    <a:lnTo>
                      <a:pt x="588" y="180"/>
                    </a:lnTo>
                    <a:lnTo>
                      <a:pt x="528" y="59"/>
                    </a:lnTo>
                    <a:lnTo>
                      <a:pt x="470" y="26"/>
                    </a:lnTo>
                    <a:lnTo>
                      <a:pt x="374"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6" name=""/>
              <p:cNvSpPr/>
              <p:nvPr/>
            </p:nvSpPr>
            <p:spPr>
              <a:xfrm>
                <a:off x="5085000" y="4670280"/>
                <a:ext cx="149760" cy="227880"/>
              </a:xfrm>
              <a:custGeom>
                <a:avLst/>
                <a:gdLst/>
                <a:ahLst/>
                <a:rect l="l" t="t" r="r" b="b"/>
                <a:pathLst>
                  <a:path w="1808" h="2151">
                    <a:moveTo>
                      <a:pt x="1784" y="591"/>
                    </a:moveTo>
                    <a:lnTo>
                      <a:pt x="1808" y="681"/>
                    </a:lnTo>
                    <a:lnTo>
                      <a:pt x="1803" y="758"/>
                    </a:lnTo>
                    <a:lnTo>
                      <a:pt x="1773" y="877"/>
                    </a:lnTo>
                    <a:lnTo>
                      <a:pt x="1698" y="1052"/>
                    </a:lnTo>
                    <a:lnTo>
                      <a:pt x="1573" y="1178"/>
                    </a:lnTo>
                    <a:lnTo>
                      <a:pt x="1459" y="1701"/>
                    </a:lnTo>
                    <a:lnTo>
                      <a:pt x="1289" y="1884"/>
                    </a:lnTo>
                    <a:lnTo>
                      <a:pt x="1164" y="2022"/>
                    </a:lnTo>
                    <a:lnTo>
                      <a:pt x="1091" y="2133"/>
                    </a:lnTo>
                    <a:lnTo>
                      <a:pt x="1045" y="2151"/>
                    </a:lnTo>
                    <a:lnTo>
                      <a:pt x="835" y="1868"/>
                    </a:lnTo>
                    <a:lnTo>
                      <a:pt x="657" y="1890"/>
                    </a:lnTo>
                    <a:lnTo>
                      <a:pt x="569" y="1890"/>
                    </a:lnTo>
                    <a:lnTo>
                      <a:pt x="512" y="1852"/>
                    </a:lnTo>
                    <a:lnTo>
                      <a:pt x="477" y="1791"/>
                    </a:lnTo>
                    <a:lnTo>
                      <a:pt x="429" y="1628"/>
                    </a:lnTo>
                    <a:lnTo>
                      <a:pt x="289" y="1351"/>
                    </a:lnTo>
                    <a:lnTo>
                      <a:pt x="141" y="1169"/>
                    </a:lnTo>
                    <a:lnTo>
                      <a:pt x="107" y="1022"/>
                    </a:lnTo>
                    <a:lnTo>
                      <a:pt x="76" y="872"/>
                    </a:lnTo>
                    <a:lnTo>
                      <a:pt x="28" y="653"/>
                    </a:lnTo>
                    <a:lnTo>
                      <a:pt x="0" y="353"/>
                    </a:lnTo>
                    <a:lnTo>
                      <a:pt x="24" y="208"/>
                    </a:lnTo>
                    <a:lnTo>
                      <a:pt x="76" y="99"/>
                    </a:lnTo>
                    <a:lnTo>
                      <a:pt x="1324" y="0"/>
                    </a:lnTo>
                    <a:lnTo>
                      <a:pt x="1698" y="433"/>
                    </a:lnTo>
                    <a:lnTo>
                      <a:pt x="1784" y="591"/>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7" name=""/>
              <p:cNvSpPr/>
              <p:nvPr/>
            </p:nvSpPr>
            <p:spPr>
              <a:xfrm>
                <a:off x="5099040" y="4758480"/>
                <a:ext cx="12240" cy="11880"/>
              </a:xfrm>
              <a:custGeom>
                <a:avLst/>
                <a:gdLst/>
                <a:ahLst/>
                <a:rect l="l" t="t" r="r" b="b"/>
                <a:pathLst>
                  <a:path w="152" h="113">
                    <a:moveTo>
                      <a:pt x="0" y="83"/>
                    </a:moveTo>
                    <a:lnTo>
                      <a:pt x="49" y="113"/>
                    </a:lnTo>
                    <a:lnTo>
                      <a:pt x="152" y="79"/>
                    </a:lnTo>
                    <a:lnTo>
                      <a:pt x="152" y="0"/>
                    </a:lnTo>
                    <a:lnTo>
                      <a:pt x="33" y="16"/>
                    </a:lnTo>
                    <a:lnTo>
                      <a:pt x="0" y="83"/>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548" name=""/>
              <p:cNvSpPr/>
              <p:nvPr/>
            </p:nvSpPr>
            <p:spPr>
              <a:xfrm>
                <a:off x="5145480" y="4746600"/>
                <a:ext cx="18360" cy="8280"/>
              </a:xfrm>
              <a:custGeom>
                <a:avLst/>
                <a:gdLst/>
                <a:ahLst/>
                <a:rect l="l" t="t" r="r" b="b"/>
                <a:pathLst>
                  <a:path w="231" h="83">
                    <a:moveTo>
                      <a:pt x="27" y="83"/>
                    </a:moveTo>
                    <a:lnTo>
                      <a:pt x="130" y="74"/>
                    </a:lnTo>
                    <a:lnTo>
                      <a:pt x="231" y="47"/>
                    </a:lnTo>
                    <a:lnTo>
                      <a:pt x="104" y="0"/>
                    </a:lnTo>
                    <a:lnTo>
                      <a:pt x="0" y="0"/>
                    </a:lnTo>
                    <a:lnTo>
                      <a:pt x="27" y="83"/>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49" name=""/>
              <p:cNvSpPr/>
              <p:nvPr/>
            </p:nvSpPr>
            <p:spPr>
              <a:xfrm>
                <a:off x="5085720" y="4639680"/>
                <a:ext cx="119880" cy="47160"/>
              </a:xfrm>
              <a:custGeom>
                <a:avLst/>
                <a:gdLst/>
                <a:ahLst/>
                <a:rect l="l" t="t" r="r" b="b"/>
                <a:pathLst>
                  <a:path w="1451" h="452">
                    <a:moveTo>
                      <a:pt x="110" y="41"/>
                    </a:moveTo>
                    <a:lnTo>
                      <a:pt x="237" y="0"/>
                    </a:lnTo>
                    <a:lnTo>
                      <a:pt x="603" y="0"/>
                    </a:lnTo>
                    <a:lnTo>
                      <a:pt x="1255" y="165"/>
                    </a:lnTo>
                    <a:lnTo>
                      <a:pt x="1451" y="391"/>
                    </a:lnTo>
                    <a:lnTo>
                      <a:pt x="1134" y="318"/>
                    </a:lnTo>
                    <a:lnTo>
                      <a:pt x="981" y="360"/>
                    </a:lnTo>
                    <a:lnTo>
                      <a:pt x="846" y="424"/>
                    </a:lnTo>
                    <a:lnTo>
                      <a:pt x="647" y="452"/>
                    </a:lnTo>
                    <a:lnTo>
                      <a:pt x="426" y="444"/>
                    </a:lnTo>
                    <a:lnTo>
                      <a:pt x="218" y="391"/>
                    </a:lnTo>
                    <a:lnTo>
                      <a:pt x="68" y="318"/>
                    </a:lnTo>
                    <a:lnTo>
                      <a:pt x="16" y="251"/>
                    </a:lnTo>
                    <a:lnTo>
                      <a:pt x="0" y="186"/>
                    </a:lnTo>
                    <a:lnTo>
                      <a:pt x="4" y="129"/>
                    </a:lnTo>
                    <a:lnTo>
                      <a:pt x="110" y="41"/>
                    </a:lnTo>
                    <a:close/>
                  </a:path>
                </a:pathLst>
              </a:custGeom>
              <a:solidFill>
                <a:srgbClr val="7023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550" name=""/>
              <p:cNvSpPr/>
              <p:nvPr/>
            </p:nvSpPr>
            <p:spPr>
              <a:xfrm>
                <a:off x="5179320" y="4683960"/>
                <a:ext cx="58320" cy="65880"/>
              </a:xfrm>
              <a:custGeom>
                <a:avLst/>
                <a:gdLst/>
                <a:ahLst/>
                <a:rect l="l" t="t" r="r" b="b"/>
                <a:pathLst>
                  <a:path w="700" h="629">
                    <a:moveTo>
                      <a:pt x="666" y="482"/>
                    </a:moveTo>
                    <a:lnTo>
                      <a:pt x="548" y="411"/>
                    </a:lnTo>
                    <a:lnTo>
                      <a:pt x="449" y="405"/>
                    </a:lnTo>
                    <a:lnTo>
                      <a:pt x="392" y="482"/>
                    </a:lnTo>
                    <a:lnTo>
                      <a:pt x="378" y="629"/>
                    </a:lnTo>
                    <a:lnTo>
                      <a:pt x="173" y="604"/>
                    </a:lnTo>
                    <a:lnTo>
                      <a:pt x="182" y="528"/>
                    </a:lnTo>
                    <a:lnTo>
                      <a:pt x="139" y="433"/>
                    </a:lnTo>
                    <a:lnTo>
                      <a:pt x="76" y="374"/>
                    </a:lnTo>
                    <a:lnTo>
                      <a:pt x="36" y="350"/>
                    </a:lnTo>
                    <a:lnTo>
                      <a:pt x="0" y="141"/>
                    </a:lnTo>
                    <a:lnTo>
                      <a:pt x="286" y="0"/>
                    </a:lnTo>
                    <a:lnTo>
                      <a:pt x="588" y="110"/>
                    </a:lnTo>
                    <a:lnTo>
                      <a:pt x="632" y="360"/>
                    </a:lnTo>
                    <a:lnTo>
                      <a:pt x="700" y="447"/>
                    </a:lnTo>
                    <a:lnTo>
                      <a:pt x="666" y="48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551" name=""/>
              <p:cNvSpPr/>
              <p:nvPr/>
            </p:nvSpPr>
            <p:spPr>
              <a:xfrm>
                <a:off x="5173200" y="4671360"/>
                <a:ext cx="64080" cy="67320"/>
              </a:xfrm>
              <a:custGeom>
                <a:avLst/>
                <a:gdLst/>
                <a:ahLst/>
                <a:rect l="l" t="t" r="r" b="b"/>
                <a:pathLst>
                  <a:path w="775" h="641">
                    <a:moveTo>
                      <a:pt x="747" y="575"/>
                    </a:moveTo>
                    <a:lnTo>
                      <a:pt x="701" y="518"/>
                    </a:lnTo>
                    <a:lnTo>
                      <a:pt x="643" y="461"/>
                    </a:lnTo>
                    <a:lnTo>
                      <a:pt x="608" y="397"/>
                    </a:lnTo>
                    <a:lnTo>
                      <a:pt x="617" y="309"/>
                    </a:lnTo>
                    <a:lnTo>
                      <a:pt x="586" y="261"/>
                    </a:lnTo>
                    <a:lnTo>
                      <a:pt x="530" y="230"/>
                    </a:lnTo>
                    <a:lnTo>
                      <a:pt x="496" y="226"/>
                    </a:lnTo>
                    <a:lnTo>
                      <a:pt x="440" y="230"/>
                    </a:lnTo>
                    <a:lnTo>
                      <a:pt x="488" y="316"/>
                    </a:lnTo>
                    <a:lnTo>
                      <a:pt x="571" y="397"/>
                    </a:lnTo>
                    <a:lnTo>
                      <a:pt x="440" y="316"/>
                    </a:lnTo>
                    <a:lnTo>
                      <a:pt x="343" y="274"/>
                    </a:lnTo>
                    <a:lnTo>
                      <a:pt x="242" y="283"/>
                    </a:lnTo>
                    <a:lnTo>
                      <a:pt x="161" y="288"/>
                    </a:lnTo>
                    <a:lnTo>
                      <a:pt x="118" y="300"/>
                    </a:lnTo>
                    <a:lnTo>
                      <a:pt x="152" y="371"/>
                    </a:lnTo>
                    <a:lnTo>
                      <a:pt x="320" y="378"/>
                    </a:lnTo>
                    <a:lnTo>
                      <a:pt x="454" y="447"/>
                    </a:lnTo>
                    <a:lnTo>
                      <a:pt x="336" y="447"/>
                    </a:lnTo>
                    <a:lnTo>
                      <a:pt x="384" y="518"/>
                    </a:lnTo>
                    <a:lnTo>
                      <a:pt x="413" y="602"/>
                    </a:lnTo>
                    <a:lnTo>
                      <a:pt x="378" y="641"/>
                    </a:lnTo>
                    <a:lnTo>
                      <a:pt x="274" y="586"/>
                    </a:lnTo>
                    <a:lnTo>
                      <a:pt x="182" y="542"/>
                    </a:lnTo>
                    <a:lnTo>
                      <a:pt x="161" y="503"/>
                    </a:lnTo>
                    <a:lnTo>
                      <a:pt x="90" y="480"/>
                    </a:lnTo>
                    <a:lnTo>
                      <a:pt x="57" y="378"/>
                    </a:lnTo>
                    <a:lnTo>
                      <a:pt x="48" y="239"/>
                    </a:lnTo>
                    <a:lnTo>
                      <a:pt x="23" y="191"/>
                    </a:lnTo>
                    <a:lnTo>
                      <a:pt x="39" y="136"/>
                    </a:lnTo>
                    <a:lnTo>
                      <a:pt x="0" y="127"/>
                    </a:lnTo>
                    <a:lnTo>
                      <a:pt x="48" y="78"/>
                    </a:lnTo>
                    <a:lnTo>
                      <a:pt x="175" y="63"/>
                    </a:lnTo>
                    <a:lnTo>
                      <a:pt x="343" y="85"/>
                    </a:lnTo>
                    <a:lnTo>
                      <a:pt x="518" y="0"/>
                    </a:lnTo>
                    <a:lnTo>
                      <a:pt x="622" y="94"/>
                    </a:lnTo>
                    <a:lnTo>
                      <a:pt x="678" y="182"/>
                    </a:lnTo>
                    <a:lnTo>
                      <a:pt x="692" y="274"/>
                    </a:lnTo>
                    <a:lnTo>
                      <a:pt x="701" y="406"/>
                    </a:lnTo>
                    <a:lnTo>
                      <a:pt x="705" y="489"/>
                    </a:lnTo>
                    <a:lnTo>
                      <a:pt x="775" y="595"/>
                    </a:lnTo>
                    <a:lnTo>
                      <a:pt x="747" y="575"/>
                    </a:lnTo>
                    <a:close/>
                  </a:path>
                </a:pathLst>
              </a:custGeom>
              <a:solidFill>
                <a:srgbClr val="b5b5b5"/>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52" name=""/>
              <p:cNvSpPr/>
              <p:nvPr/>
            </p:nvSpPr>
            <p:spPr>
              <a:xfrm>
                <a:off x="4738320" y="4759200"/>
                <a:ext cx="357840" cy="338760"/>
              </a:xfrm>
              <a:custGeom>
                <a:avLst/>
                <a:gdLst/>
                <a:ahLst/>
                <a:rect l="l" t="t" r="r" b="b"/>
                <a:pathLst>
                  <a:path w="4318" h="3200">
                    <a:moveTo>
                      <a:pt x="4072" y="2092"/>
                    </a:moveTo>
                    <a:lnTo>
                      <a:pt x="4095" y="1897"/>
                    </a:lnTo>
                    <a:lnTo>
                      <a:pt x="4208" y="1706"/>
                    </a:lnTo>
                    <a:lnTo>
                      <a:pt x="4318" y="1345"/>
                    </a:lnTo>
                    <a:lnTo>
                      <a:pt x="4249" y="1246"/>
                    </a:lnTo>
                    <a:lnTo>
                      <a:pt x="4090" y="1246"/>
                    </a:lnTo>
                    <a:lnTo>
                      <a:pt x="3986" y="1086"/>
                    </a:lnTo>
                    <a:lnTo>
                      <a:pt x="3929" y="1035"/>
                    </a:lnTo>
                    <a:lnTo>
                      <a:pt x="3909" y="1035"/>
                    </a:lnTo>
                    <a:lnTo>
                      <a:pt x="3808" y="1057"/>
                    </a:lnTo>
                    <a:lnTo>
                      <a:pt x="3498" y="561"/>
                    </a:lnTo>
                    <a:lnTo>
                      <a:pt x="3329" y="459"/>
                    </a:lnTo>
                    <a:lnTo>
                      <a:pt x="3087" y="139"/>
                    </a:lnTo>
                    <a:lnTo>
                      <a:pt x="2935" y="99"/>
                    </a:lnTo>
                    <a:lnTo>
                      <a:pt x="2834" y="132"/>
                    </a:lnTo>
                    <a:lnTo>
                      <a:pt x="2723" y="113"/>
                    </a:lnTo>
                    <a:lnTo>
                      <a:pt x="2615" y="148"/>
                    </a:lnTo>
                    <a:lnTo>
                      <a:pt x="2327" y="180"/>
                    </a:lnTo>
                    <a:lnTo>
                      <a:pt x="2237" y="148"/>
                    </a:lnTo>
                    <a:lnTo>
                      <a:pt x="2126" y="189"/>
                    </a:lnTo>
                    <a:lnTo>
                      <a:pt x="2057" y="113"/>
                    </a:lnTo>
                    <a:lnTo>
                      <a:pt x="1973" y="31"/>
                    </a:lnTo>
                    <a:lnTo>
                      <a:pt x="1914" y="0"/>
                    </a:lnTo>
                    <a:lnTo>
                      <a:pt x="1232" y="249"/>
                    </a:lnTo>
                    <a:lnTo>
                      <a:pt x="1171" y="420"/>
                    </a:lnTo>
                    <a:lnTo>
                      <a:pt x="853" y="589"/>
                    </a:lnTo>
                    <a:lnTo>
                      <a:pt x="632" y="627"/>
                    </a:lnTo>
                    <a:lnTo>
                      <a:pt x="441" y="807"/>
                    </a:lnTo>
                    <a:lnTo>
                      <a:pt x="413" y="910"/>
                    </a:lnTo>
                    <a:lnTo>
                      <a:pt x="371" y="1015"/>
                    </a:lnTo>
                    <a:lnTo>
                      <a:pt x="259" y="1356"/>
                    </a:lnTo>
                    <a:lnTo>
                      <a:pt x="210" y="1624"/>
                    </a:lnTo>
                    <a:lnTo>
                      <a:pt x="270" y="1854"/>
                    </a:lnTo>
                    <a:lnTo>
                      <a:pt x="180" y="2075"/>
                    </a:lnTo>
                    <a:lnTo>
                      <a:pt x="90" y="2103"/>
                    </a:lnTo>
                    <a:lnTo>
                      <a:pt x="0" y="2193"/>
                    </a:lnTo>
                    <a:lnTo>
                      <a:pt x="191" y="2792"/>
                    </a:lnTo>
                    <a:lnTo>
                      <a:pt x="399" y="2861"/>
                    </a:lnTo>
                    <a:lnTo>
                      <a:pt x="761" y="2613"/>
                    </a:lnTo>
                    <a:lnTo>
                      <a:pt x="1042" y="1945"/>
                    </a:lnTo>
                    <a:lnTo>
                      <a:pt x="1211" y="2262"/>
                    </a:lnTo>
                    <a:lnTo>
                      <a:pt x="1303" y="2771"/>
                    </a:lnTo>
                    <a:lnTo>
                      <a:pt x="1232" y="2903"/>
                    </a:lnTo>
                    <a:lnTo>
                      <a:pt x="1204" y="3129"/>
                    </a:lnTo>
                    <a:lnTo>
                      <a:pt x="1261" y="3200"/>
                    </a:lnTo>
                    <a:lnTo>
                      <a:pt x="3408" y="2892"/>
                    </a:lnTo>
                    <a:lnTo>
                      <a:pt x="3355" y="1517"/>
                    </a:lnTo>
                    <a:lnTo>
                      <a:pt x="3569" y="1695"/>
                    </a:lnTo>
                    <a:lnTo>
                      <a:pt x="3707" y="1714"/>
                    </a:lnTo>
                    <a:lnTo>
                      <a:pt x="3777" y="1846"/>
                    </a:lnTo>
                    <a:lnTo>
                      <a:pt x="3938" y="1854"/>
                    </a:lnTo>
                    <a:lnTo>
                      <a:pt x="4028" y="1994"/>
                    </a:lnTo>
                    <a:lnTo>
                      <a:pt x="4072" y="20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3" name=""/>
              <p:cNvSpPr/>
              <p:nvPr/>
            </p:nvSpPr>
            <p:spPr>
              <a:xfrm>
                <a:off x="4921920" y="5057640"/>
                <a:ext cx="33120" cy="29520"/>
              </a:xfrm>
              <a:custGeom>
                <a:avLst/>
                <a:gdLst/>
                <a:ahLst/>
                <a:rect l="l" t="t" r="r" b="b"/>
                <a:pathLst>
                  <a:path w="400" h="279">
                    <a:moveTo>
                      <a:pt x="279" y="0"/>
                    </a:moveTo>
                    <a:lnTo>
                      <a:pt x="130" y="0"/>
                    </a:lnTo>
                    <a:lnTo>
                      <a:pt x="8" y="83"/>
                    </a:lnTo>
                    <a:lnTo>
                      <a:pt x="0" y="242"/>
                    </a:lnTo>
                    <a:lnTo>
                      <a:pt x="40" y="279"/>
                    </a:lnTo>
                    <a:lnTo>
                      <a:pt x="391" y="210"/>
                    </a:lnTo>
                    <a:lnTo>
                      <a:pt x="400" y="162"/>
                    </a:lnTo>
                    <a:lnTo>
                      <a:pt x="349" y="30"/>
                    </a:lnTo>
                    <a:lnTo>
                      <a:pt x="279" y="0"/>
                    </a:lnTo>
                    <a:close/>
                  </a:path>
                </a:pathLst>
              </a:custGeom>
              <a:solidFill>
                <a:srgbClr val="ffea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554" name=""/>
              <p:cNvSpPr/>
              <p:nvPr/>
            </p:nvSpPr>
            <p:spPr>
              <a:xfrm>
                <a:off x="4756320" y="4860360"/>
                <a:ext cx="18360" cy="104040"/>
              </a:xfrm>
              <a:custGeom>
                <a:avLst/>
                <a:gdLst/>
                <a:ahLst/>
                <a:rect l="l" t="t" r="r" b="b"/>
                <a:pathLst>
                  <a:path w="231" h="977">
                    <a:moveTo>
                      <a:pt x="183" y="0"/>
                    </a:moveTo>
                    <a:lnTo>
                      <a:pt x="183" y="283"/>
                    </a:lnTo>
                    <a:lnTo>
                      <a:pt x="231" y="659"/>
                    </a:lnTo>
                    <a:lnTo>
                      <a:pt x="90" y="648"/>
                    </a:lnTo>
                    <a:lnTo>
                      <a:pt x="210" y="856"/>
                    </a:lnTo>
                    <a:lnTo>
                      <a:pt x="148" y="977"/>
                    </a:lnTo>
                    <a:lnTo>
                      <a:pt x="0" y="687"/>
                    </a:lnTo>
                    <a:lnTo>
                      <a:pt x="0" y="560"/>
                    </a:lnTo>
                    <a:lnTo>
                      <a:pt x="130" y="129"/>
                    </a:lnTo>
                    <a:lnTo>
                      <a:pt x="183"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5" name=""/>
              <p:cNvSpPr/>
              <p:nvPr/>
            </p:nvSpPr>
            <p:spPr>
              <a:xfrm>
                <a:off x="4743000" y="4902480"/>
                <a:ext cx="83160" cy="158400"/>
              </a:xfrm>
              <a:custGeom>
                <a:avLst/>
                <a:gdLst/>
                <a:ahLst/>
                <a:rect l="l" t="t" r="r" b="b"/>
                <a:pathLst>
                  <a:path w="1008" h="1494">
                    <a:moveTo>
                      <a:pt x="0" y="778"/>
                    </a:moveTo>
                    <a:lnTo>
                      <a:pt x="28" y="837"/>
                    </a:lnTo>
                    <a:lnTo>
                      <a:pt x="28" y="975"/>
                    </a:lnTo>
                    <a:lnTo>
                      <a:pt x="99" y="1156"/>
                    </a:lnTo>
                    <a:lnTo>
                      <a:pt x="159" y="1048"/>
                    </a:lnTo>
                    <a:lnTo>
                      <a:pt x="281" y="1305"/>
                    </a:lnTo>
                    <a:lnTo>
                      <a:pt x="120" y="1378"/>
                    </a:lnTo>
                    <a:lnTo>
                      <a:pt x="342" y="1494"/>
                    </a:lnTo>
                    <a:lnTo>
                      <a:pt x="648" y="1385"/>
                    </a:lnTo>
                    <a:lnTo>
                      <a:pt x="839" y="1057"/>
                    </a:lnTo>
                    <a:lnTo>
                      <a:pt x="883" y="820"/>
                    </a:lnTo>
                    <a:lnTo>
                      <a:pt x="911" y="589"/>
                    </a:lnTo>
                    <a:lnTo>
                      <a:pt x="1008" y="310"/>
                    </a:lnTo>
                    <a:lnTo>
                      <a:pt x="869" y="30"/>
                    </a:lnTo>
                    <a:lnTo>
                      <a:pt x="812" y="0"/>
                    </a:lnTo>
                    <a:lnTo>
                      <a:pt x="710" y="279"/>
                    </a:lnTo>
                    <a:lnTo>
                      <a:pt x="779" y="350"/>
                    </a:lnTo>
                    <a:lnTo>
                      <a:pt x="890" y="400"/>
                    </a:lnTo>
                    <a:lnTo>
                      <a:pt x="770" y="679"/>
                    </a:lnTo>
                    <a:lnTo>
                      <a:pt x="770" y="848"/>
                    </a:lnTo>
                    <a:lnTo>
                      <a:pt x="648" y="1026"/>
                    </a:lnTo>
                    <a:lnTo>
                      <a:pt x="438" y="1057"/>
                    </a:lnTo>
                    <a:lnTo>
                      <a:pt x="307" y="589"/>
                    </a:lnTo>
                    <a:lnTo>
                      <a:pt x="69" y="736"/>
                    </a:lnTo>
                    <a:lnTo>
                      <a:pt x="0" y="77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6" name=""/>
              <p:cNvSpPr/>
              <p:nvPr/>
            </p:nvSpPr>
            <p:spPr>
              <a:xfrm>
                <a:off x="4820400" y="4809240"/>
                <a:ext cx="195120" cy="290520"/>
              </a:xfrm>
              <a:custGeom>
                <a:avLst/>
                <a:gdLst/>
                <a:ahLst/>
                <a:rect l="l" t="t" r="r" b="b"/>
                <a:pathLst>
                  <a:path w="2355" h="2742">
                    <a:moveTo>
                      <a:pt x="303" y="558"/>
                    </a:moveTo>
                    <a:lnTo>
                      <a:pt x="413" y="639"/>
                    </a:lnTo>
                    <a:lnTo>
                      <a:pt x="289" y="1119"/>
                    </a:lnTo>
                    <a:lnTo>
                      <a:pt x="289" y="1398"/>
                    </a:lnTo>
                    <a:lnTo>
                      <a:pt x="630" y="1476"/>
                    </a:lnTo>
                    <a:lnTo>
                      <a:pt x="604" y="411"/>
                    </a:lnTo>
                    <a:lnTo>
                      <a:pt x="630" y="208"/>
                    </a:lnTo>
                    <a:lnTo>
                      <a:pt x="503" y="150"/>
                    </a:lnTo>
                    <a:lnTo>
                      <a:pt x="382" y="231"/>
                    </a:lnTo>
                    <a:lnTo>
                      <a:pt x="360" y="208"/>
                    </a:lnTo>
                    <a:lnTo>
                      <a:pt x="450" y="143"/>
                    </a:lnTo>
                    <a:lnTo>
                      <a:pt x="503" y="72"/>
                    </a:lnTo>
                    <a:lnTo>
                      <a:pt x="833" y="0"/>
                    </a:lnTo>
                    <a:lnTo>
                      <a:pt x="991" y="84"/>
                    </a:lnTo>
                    <a:lnTo>
                      <a:pt x="943" y="121"/>
                    </a:lnTo>
                    <a:lnTo>
                      <a:pt x="833" y="112"/>
                    </a:lnTo>
                    <a:lnTo>
                      <a:pt x="782" y="252"/>
                    </a:lnTo>
                    <a:lnTo>
                      <a:pt x="1092" y="1558"/>
                    </a:lnTo>
                    <a:lnTo>
                      <a:pt x="1413" y="1747"/>
                    </a:lnTo>
                    <a:lnTo>
                      <a:pt x="1965" y="2035"/>
                    </a:lnTo>
                    <a:lnTo>
                      <a:pt x="1905" y="1875"/>
                    </a:lnTo>
                    <a:lnTo>
                      <a:pt x="2207" y="1993"/>
                    </a:lnTo>
                    <a:lnTo>
                      <a:pt x="2297" y="1773"/>
                    </a:lnTo>
                    <a:lnTo>
                      <a:pt x="2345" y="1785"/>
                    </a:lnTo>
                    <a:lnTo>
                      <a:pt x="2306" y="2145"/>
                    </a:lnTo>
                    <a:lnTo>
                      <a:pt x="2355" y="2343"/>
                    </a:lnTo>
                    <a:lnTo>
                      <a:pt x="2133" y="2393"/>
                    </a:lnTo>
                    <a:lnTo>
                      <a:pt x="1598" y="2356"/>
                    </a:lnTo>
                    <a:lnTo>
                      <a:pt x="1723" y="2272"/>
                    </a:lnTo>
                    <a:lnTo>
                      <a:pt x="1644" y="2126"/>
                    </a:lnTo>
                    <a:lnTo>
                      <a:pt x="1732" y="2085"/>
                    </a:lnTo>
                    <a:lnTo>
                      <a:pt x="1503" y="2015"/>
                    </a:lnTo>
                    <a:lnTo>
                      <a:pt x="1503" y="2165"/>
                    </a:lnTo>
                    <a:lnTo>
                      <a:pt x="1444" y="2334"/>
                    </a:lnTo>
                    <a:lnTo>
                      <a:pt x="1246" y="2405"/>
                    </a:lnTo>
                    <a:lnTo>
                      <a:pt x="1273" y="2384"/>
                    </a:lnTo>
                    <a:lnTo>
                      <a:pt x="1135" y="2043"/>
                    </a:lnTo>
                    <a:lnTo>
                      <a:pt x="863" y="1868"/>
                    </a:lnTo>
                    <a:lnTo>
                      <a:pt x="591" y="1826"/>
                    </a:lnTo>
                    <a:lnTo>
                      <a:pt x="663" y="1916"/>
                    </a:lnTo>
                    <a:lnTo>
                      <a:pt x="624" y="1936"/>
                    </a:lnTo>
                    <a:lnTo>
                      <a:pt x="773" y="1976"/>
                    </a:lnTo>
                    <a:lnTo>
                      <a:pt x="1054" y="2204"/>
                    </a:lnTo>
                    <a:lnTo>
                      <a:pt x="1171" y="2322"/>
                    </a:lnTo>
                    <a:lnTo>
                      <a:pt x="962" y="2315"/>
                    </a:lnTo>
                    <a:lnTo>
                      <a:pt x="734" y="2246"/>
                    </a:lnTo>
                    <a:lnTo>
                      <a:pt x="923" y="2405"/>
                    </a:lnTo>
                    <a:lnTo>
                      <a:pt x="743" y="2463"/>
                    </a:lnTo>
                    <a:lnTo>
                      <a:pt x="521" y="2601"/>
                    </a:lnTo>
                    <a:lnTo>
                      <a:pt x="851" y="2525"/>
                    </a:lnTo>
                    <a:lnTo>
                      <a:pt x="552" y="2742"/>
                    </a:lnTo>
                    <a:lnTo>
                      <a:pt x="250" y="2742"/>
                    </a:lnTo>
                    <a:lnTo>
                      <a:pt x="213" y="2652"/>
                    </a:lnTo>
                    <a:lnTo>
                      <a:pt x="303" y="2272"/>
                    </a:lnTo>
                    <a:lnTo>
                      <a:pt x="270" y="2114"/>
                    </a:lnTo>
                    <a:lnTo>
                      <a:pt x="0" y="1178"/>
                    </a:lnTo>
                    <a:lnTo>
                      <a:pt x="81" y="720"/>
                    </a:lnTo>
                    <a:lnTo>
                      <a:pt x="303" y="55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7" name=""/>
              <p:cNvSpPr/>
              <p:nvPr/>
            </p:nvSpPr>
            <p:spPr>
              <a:xfrm>
                <a:off x="4912560" y="4768920"/>
                <a:ext cx="70560" cy="65160"/>
              </a:xfrm>
              <a:custGeom>
                <a:avLst/>
                <a:gdLst/>
                <a:ahLst/>
                <a:rect l="l" t="t" r="r" b="b"/>
                <a:pathLst>
                  <a:path w="851" h="616">
                    <a:moveTo>
                      <a:pt x="0" y="385"/>
                    </a:moveTo>
                    <a:lnTo>
                      <a:pt x="77" y="207"/>
                    </a:lnTo>
                    <a:lnTo>
                      <a:pt x="77" y="348"/>
                    </a:lnTo>
                    <a:lnTo>
                      <a:pt x="299" y="97"/>
                    </a:lnTo>
                    <a:lnTo>
                      <a:pt x="378" y="616"/>
                    </a:lnTo>
                    <a:lnTo>
                      <a:pt x="417" y="227"/>
                    </a:lnTo>
                    <a:lnTo>
                      <a:pt x="618" y="69"/>
                    </a:lnTo>
                    <a:lnTo>
                      <a:pt x="740" y="97"/>
                    </a:lnTo>
                    <a:lnTo>
                      <a:pt x="851" y="7"/>
                    </a:lnTo>
                    <a:lnTo>
                      <a:pt x="721" y="40"/>
                    </a:lnTo>
                    <a:lnTo>
                      <a:pt x="653" y="40"/>
                    </a:lnTo>
                    <a:lnTo>
                      <a:pt x="618" y="0"/>
                    </a:lnTo>
                    <a:lnTo>
                      <a:pt x="521" y="69"/>
                    </a:lnTo>
                    <a:lnTo>
                      <a:pt x="389" y="47"/>
                    </a:lnTo>
                    <a:lnTo>
                      <a:pt x="279" y="40"/>
                    </a:lnTo>
                    <a:lnTo>
                      <a:pt x="118" y="77"/>
                    </a:lnTo>
                    <a:lnTo>
                      <a:pt x="21" y="189"/>
                    </a:lnTo>
                    <a:lnTo>
                      <a:pt x="0" y="385"/>
                    </a:lnTo>
                    <a:close/>
                  </a:path>
                </a:pathLst>
              </a:custGeom>
              <a:solidFill>
                <a:srgbClr val="b5b5b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58" name=""/>
              <p:cNvSpPr/>
              <p:nvPr/>
            </p:nvSpPr>
            <p:spPr>
              <a:xfrm>
                <a:off x="4989600" y="4829040"/>
                <a:ext cx="66600" cy="167760"/>
              </a:xfrm>
              <a:custGeom>
                <a:avLst/>
                <a:gdLst/>
                <a:ahLst/>
                <a:rect l="l" t="t" r="r" b="b"/>
                <a:pathLst>
                  <a:path w="811" h="1587">
                    <a:moveTo>
                      <a:pt x="481" y="171"/>
                    </a:moveTo>
                    <a:lnTo>
                      <a:pt x="481" y="429"/>
                    </a:lnTo>
                    <a:lnTo>
                      <a:pt x="380" y="600"/>
                    </a:lnTo>
                    <a:lnTo>
                      <a:pt x="239" y="429"/>
                    </a:lnTo>
                    <a:lnTo>
                      <a:pt x="128" y="259"/>
                    </a:lnTo>
                    <a:lnTo>
                      <a:pt x="239" y="860"/>
                    </a:lnTo>
                    <a:lnTo>
                      <a:pt x="207" y="1257"/>
                    </a:lnTo>
                    <a:lnTo>
                      <a:pt x="0" y="1556"/>
                    </a:lnTo>
                    <a:lnTo>
                      <a:pt x="170" y="1587"/>
                    </a:lnTo>
                    <a:lnTo>
                      <a:pt x="361" y="1483"/>
                    </a:lnTo>
                    <a:lnTo>
                      <a:pt x="318" y="840"/>
                    </a:lnTo>
                    <a:lnTo>
                      <a:pt x="509" y="1049"/>
                    </a:lnTo>
                    <a:lnTo>
                      <a:pt x="640" y="1049"/>
                    </a:lnTo>
                    <a:lnTo>
                      <a:pt x="541" y="939"/>
                    </a:lnTo>
                    <a:lnTo>
                      <a:pt x="521" y="770"/>
                    </a:lnTo>
                    <a:lnTo>
                      <a:pt x="582" y="600"/>
                    </a:lnTo>
                    <a:lnTo>
                      <a:pt x="659" y="489"/>
                    </a:lnTo>
                    <a:lnTo>
                      <a:pt x="721" y="392"/>
                    </a:lnTo>
                    <a:lnTo>
                      <a:pt x="762" y="528"/>
                    </a:lnTo>
                    <a:lnTo>
                      <a:pt x="811" y="400"/>
                    </a:lnTo>
                    <a:lnTo>
                      <a:pt x="780" y="293"/>
                    </a:lnTo>
                    <a:lnTo>
                      <a:pt x="721" y="150"/>
                    </a:lnTo>
                    <a:lnTo>
                      <a:pt x="548" y="0"/>
                    </a:lnTo>
                    <a:lnTo>
                      <a:pt x="481" y="171"/>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9" name=""/>
              <p:cNvSpPr/>
              <p:nvPr/>
            </p:nvSpPr>
            <p:spPr>
              <a:xfrm>
                <a:off x="5051160" y="4886640"/>
                <a:ext cx="45360" cy="64080"/>
              </a:xfrm>
              <a:custGeom>
                <a:avLst/>
                <a:gdLst/>
                <a:ahLst/>
                <a:rect l="l" t="t" r="r" b="b"/>
                <a:pathLst>
                  <a:path w="552" h="609">
                    <a:moveTo>
                      <a:pt x="152" y="0"/>
                    </a:moveTo>
                    <a:lnTo>
                      <a:pt x="31" y="152"/>
                    </a:lnTo>
                    <a:lnTo>
                      <a:pt x="132" y="293"/>
                    </a:lnTo>
                    <a:lnTo>
                      <a:pt x="373" y="133"/>
                    </a:lnTo>
                    <a:lnTo>
                      <a:pt x="453" y="293"/>
                    </a:lnTo>
                    <a:lnTo>
                      <a:pt x="0" y="609"/>
                    </a:lnTo>
                    <a:lnTo>
                      <a:pt x="420" y="541"/>
                    </a:lnTo>
                    <a:lnTo>
                      <a:pt x="552" y="133"/>
                    </a:lnTo>
                    <a:lnTo>
                      <a:pt x="453" y="42"/>
                    </a:lnTo>
                    <a:lnTo>
                      <a:pt x="299" y="62"/>
                    </a:lnTo>
                    <a:lnTo>
                      <a:pt x="193" y="23"/>
                    </a:lnTo>
                    <a:lnTo>
                      <a:pt x="152" y="0"/>
                    </a:lnTo>
                    <a:close/>
                  </a:path>
                </a:pathLst>
              </a:custGeom>
              <a:solidFill>
                <a:srgbClr val="b5b5b5"/>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560" name=""/>
              <p:cNvSpPr/>
              <p:nvPr/>
            </p:nvSpPr>
            <p:spPr>
              <a:xfrm>
                <a:off x="4872240" y="4804200"/>
                <a:ext cx="68040" cy="259920"/>
              </a:xfrm>
              <a:custGeom>
                <a:avLst/>
                <a:gdLst/>
                <a:ahLst/>
                <a:rect l="l" t="t" r="r" b="b"/>
                <a:pathLst>
                  <a:path w="820" h="2453">
                    <a:moveTo>
                      <a:pt x="186" y="21"/>
                    </a:moveTo>
                    <a:lnTo>
                      <a:pt x="178" y="110"/>
                    </a:lnTo>
                    <a:lnTo>
                      <a:pt x="136" y="198"/>
                    </a:lnTo>
                    <a:lnTo>
                      <a:pt x="119" y="228"/>
                    </a:lnTo>
                    <a:lnTo>
                      <a:pt x="186" y="309"/>
                    </a:lnTo>
                    <a:lnTo>
                      <a:pt x="288" y="487"/>
                    </a:lnTo>
                    <a:lnTo>
                      <a:pt x="400" y="817"/>
                    </a:lnTo>
                    <a:lnTo>
                      <a:pt x="520" y="1245"/>
                    </a:lnTo>
                    <a:lnTo>
                      <a:pt x="693" y="1806"/>
                    </a:lnTo>
                    <a:lnTo>
                      <a:pt x="820" y="2125"/>
                    </a:lnTo>
                    <a:lnTo>
                      <a:pt x="672" y="2453"/>
                    </a:lnTo>
                    <a:lnTo>
                      <a:pt x="347" y="2204"/>
                    </a:lnTo>
                    <a:lnTo>
                      <a:pt x="68" y="708"/>
                    </a:lnTo>
                    <a:lnTo>
                      <a:pt x="46" y="440"/>
                    </a:lnTo>
                    <a:lnTo>
                      <a:pt x="68" y="270"/>
                    </a:lnTo>
                    <a:lnTo>
                      <a:pt x="68" y="228"/>
                    </a:lnTo>
                    <a:lnTo>
                      <a:pt x="0" y="141"/>
                    </a:lnTo>
                    <a:lnTo>
                      <a:pt x="6" y="0"/>
                    </a:lnTo>
                    <a:lnTo>
                      <a:pt x="149" y="11"/>
                    </a:lnTo>
                    <a:lnTo>
                      <a:pt x="186"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1" name=""/>
              <p:cNvSpPr/>
              <p:nvPr/>
            </p:nvSpPr>
            <p:spPr>
              <a:xfrm>
                <a:off x="4869000" y="4804200"/>
                <a:ext cx="71640" cy="262440"/>
              </a:xfrm>
              <a:custGeom>
                <a:avLst/>
                <a:gdLst/>
                <a:ahLst/>
                <a:rect l="l" t="t" r="r" b="b"/>
                <a:pathLst>
                  <a:path w="862" h="2474">
                    <a:moveTo>
                      <a:pt x="152" y="11"/>
                    </a:moveTo>
                    <a:lnTo>
                      <a:pt x="129" y="251"/>
                    </a:lnTo>
                    <a:lnTo>
                      <a:pt x="178" y="670"/>
                    </a:lnTo>
                    <a:lnTo>
                      <a:pt x="281" y="1141"/>
                    </a:lnTo>
                    <a:lnTo>
                      <a:pt x="461" y="1863"/>
                    </a:lnTo>
                    <a:lnTo>
                      <a:pt x="499" y="2174"/>
                    </a:lnTo>
                    <a:lnTo>
                      <a:pt x="691" y="2370"/>
                    </a:lnTo>
                    <a:lnTo>
                      <a:pt x="811" y="2112"/>
                    </a:lnTo>
                    <a:lnTo>
                      <a:pt x="629" y="1694"/>
                    </a:lnTo>
                    <a:lnTo>
                      <a:pt x="519" y="1257"/>
                    </a:lnTo>
                    <a:lnTo>
                      <a:pt x="422" y="876"/>
                    </a:lnTo>
                    <a:lnTo>
                      <a:pt x="288" y="468"/>
                    </a:lnTo>
                    <a:lnTo>
                      <a:pt x="211" y="309"/>
                    </a:lnTo>
                    <a:lnTo>
                      <a:pt x="170" y="228"/>
                    </a:lnTo>
                    <a:lnTo>
                      <a:pt x="288" y="389"/>
                    </a:lnTo>
                    <a:lnTo>
                      <a:pt x="409" y="738"/>
                    </a:lnTo>
                    <a:lnTo>
                      <a:pt x="562" y="1195"/>
                    </a:lnTo>
                    <a:lnTo>
                      <a:pt x="714" y="1705"/>
                    </a:lnTo>
                    <a:lnTo>
                      <a:pt x="783" y="1936"/>
                    </a:lnTo>
                    <a:lnTo>
                      <a:pt x="862" y="2112"/>
                    </a:lnTo>
                    <a:lnTo>
                      <a:pt x="721" y="2474"/>
                    </a:lnTo>
                    <a:lnTo>
                      <a:pt x="380" y="2193"/>
                    </a:lnTo>
                    <a:lnTo>
                      <a:pt x="251" y="1505"/>
                    </a:lnTo>
                    <a:lnTo>
                      <a:pt x="119" y="717"/>
                    </a:lnTo>
                    <a:lnTo>
                      <a:pt x="110" y="440"/>
                    </a:lnTo>
                    <a:lnTo>
                      <a:pt x="88" y="228"/>
                    </a:lnTo>
                    <a:lnTo>
                      <a:pt x="0" y="110"/>
                    </a:lnTo>
                    <a:lnTo>
                      <a:pt x="60" y="0"/>
                    </a:lnTo>
                    <a:lnTo>
                      <a:pt x="152" y="11"/>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2" name=""/>
              <p:cNvSpPr/>
              <p:nvPr/>
            </p:nvSpPr>
            <p:spPr>
              <a:xfrm>
                <a:off x="4803840" y="4795920"/>
                <a:ext cx="47520" cy="108360"/>
              </a:xfrm>
              <a:custGeom>
                <a:avLst/>
                <a:gdLst/>
                <a:ahLst/>
                <a:rect l="l" t="t" r="r" b="b"/>
                <a:pathLst>
                  <a:path w="578" h="1028">
                    <a:moveTo>
                      <a:pt x="42" y="938"/>
                    </a:moveTo>
                    <a:lnTo>
                      <a:pt x="37" y="775"/>
                    </a:lnTo>
                    <a:lnTo>
                      <a:pt x="0" y="360"/>
                    </a:lnTo>
                    <a:lnTo>
                      <a:pt x="37" y="276"/>
                    </a:lnTo>
                    <a:lnTo>
                      <a:pt x="293" y="0"/>
                    </a:lnTo>
                    <a:lnTo>
                      <a:pt x="523" y="48"/>
                    </a:lnTo>
                    <a:lnTo>
                      <a:pt x="578" y="184"/>
                    </a:lnTo>
                    <a:lnTo>
                      <a:pt x="528" y="247"/>
                    </a:lnTo>
                    <a:lnTo>
                      <a:pt x="563" y="465"/>
                    </a:lnTo>
                    <a:lnTo>
                      <a:pt x="486" y="487"/>
                    </a:lnTo>
                    <a:lnTo>
                      <a:pt x="464" y="705"/>
                    </a:lnTo>
                    <a:lnTo>
                      <a:pt x="406" y="805"/>
                    </a:lnTo>
                    <a:lnTo>
                      <a:pt x="358" y="874"/>
                    </a:lnTo>
                    <a:lnTo>
                      <a:pt x="305" y="938"/>
                    </a:lnTo>
                    <a:lnTo>
                      <a:pt x="263" y="1028"/>
                    </a:lnTo>
                    <a:lnTo>
                      <a:pt x="92" y="1001"/>
                    </a:lnTo>
                    <a:lnTo>
                      <a:pt x="42" y="938"/>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3" name=""/>
              <p:cNvSpPr/>
              <p:nvPr/>
            </p:nvSpPr>
            <p:spPr>
              <a:xfrm>
                <a:off x="4807800" y="4627080"/>
                <a:ext cx="107280" cy="172800"/>
              </a:xfrm>
              <a:custGeom>
                <a:avLst/>
                <a:gdLst/>
                <a:ahLst/>
                <a:rect l="l" t="t" r="r" b="b"/>
                <a:pathLst>
                  <a:path w="1289" h="1630">
                    <a:moveTo>
                      <a:pt x="37" y="717"/>
                    </a:moveTo>
                    <a:lnTo>
                      <a:pt x="0" y="784"/>
                    </a:lnTo>
                    <a:lnTo>
                      <a:pt x="0" y="915"/>
                    </a:lnTo>
                    <a:lnTo>
                      <a:pt x="85" y="1036"/>
                    </a:lnTo>
                    <a:lnTo>
                      <a:pt x="200" y="1120"/>
                    </a:lnTo>
                    <a:lnTo>
                      <a:pt x="235" y="1120"/>
                    </a:lnTo>
                    <a:lnTo>
                      <a:pt x="298" y="1263"/>
                    </a:lnTo>
                    <a:lnTo>
                      <a:pt x="348" y="1395"/>
                    </a:lnTo>
                    <a:lnTo>
                      <a:pt x="447" y="1508"/>
                    </a:lnTo>
                    <a:lnTo>
                      <a:pt x="555" y="1572"/>
                    </a:lnTo>
                    <a:lnTo>
                      <a:pt x="705" y="1621"/>
                    </a:lnTo>
                    <a:lnTo>
                      <a:pt x="855" y="1630"/>
                    </a:lnTo>
                    <a:lnTo>
                      <a:pt x="947" y="1579"/>
                    </a:lnTo>
                    <a:lnTo>
                      <a:pt x="1019" y="1494"/>
                    </a:lnTo>
                    <a:lnTo>
                      <a:pt x="1090" y="1374"/>
                    </a:lnTo>
                    <a:lnTo>
                      <a:pt x="1118" y="1263"/>
                    </a:lnTo>
                    <a:lnTo>
                      <a:pt x="1140" y="1056"/>
                    </a:lnTo>
                    <a:lnTo>
                      <a:pt x="1203" y="1001"/>
                    </a:lnTo>
                    <a:lnTo>
                      <a:pt x="1284" y="889"/>
                    </a:lnTo>
                    <a:lnTo>
                      <a:pt x="1289" y="768"/>
                    </a:lnTo>
                    <a:lnTo>
                      <a:pt x="1274" y="662"/>
                    </a:lnTo>
                    <a:lnTo>
                      <a:pt x="1261" y="627"/>
                    </a:lnTo>
                    <a:lnTo>
                      <a:pt x="1203" y="595"/>
                    </a:lnTo>
                    <a:lnTo>
                      <a:pt x="1118" y="325"/>
                    </a:lnTo>
                    <a:lnTo>
                      <a:pt x="1012" y="94"/>
                    </a:lnTo>
                    <a:lnTo>
                      <a:pt x="692" y="0"/>
                    </a:lnTo>
                    <a:lnTo>
                      <a:pt x="270" y="85"/>
                    </a:lnTo>
                    <a:lnTo>
                      <a:pt x="85" y="247"/>
                    </a:lnTo>
                    <a:lnTo>
                      <a:pt x="41" y="429"/>
                    </a:lnTo>
                    <a:lnTo>
                      <a:pt x="41" y="657"/>
                    </a:lnTo>
                    <a:lnTo>
                      <a:pt x="37" y="717"/>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4" name=""/>
              <p:cNvSpPr/>
              <p:nvPr/>
            </p:nvSpPr>
            <p:spPr>
              <a:xfrm>
                <a:off x="4833000" y="4729680"/>
                <a:ext cx="18360" cy="13320"/>
              </a:xfrm>
              <a:custGeom>
                <a:avLst/>
                <a:gdLst/>
                <a:ahLst/>
                <a:rect l="l" t="t" r="r" b="b"/>
                <a:pathLst>
                  <a:path w="223" h="120">
                    <a:moveTo>
                      <a:pt x="223" y="6"/>
                    </a:moveTo>
                    <a:lnTo>
                      <a:pt x="223" y="41"/>
                    </a:lnTo>
                    <a:lnTo>
                      <a:pt x="140" y="108"/>
                    </a:lnTo>
                    <a:lnTo>
                      <a:pt x="57" y="120"/>
                    </a:lnTo>
                    <a:lnTo>
                      <a:pt x="0" y="78"/>
                    </a:lnTo>
                    <a:lnTo>
                      <a:pt x="16" y="0"/>
                    </a:lnTo>
                    <a:lnTo>
                      <a:pt x="92" y="28"/>
                    </a:lnTo>
                    <a:lnTo>
                      <a:pt x="140" y="35"/>
                    </a:lnTo>
                    <a:lnTo>
                      <a:pt x="223" y="6"/>
                    </a:lnTo>
                    <a:close/>
                  </a:path>
                </a:pathLst>
              </a:custGeom>
              <a:solidFill>
                <a:srgbClr val="ffc98e"/>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65" name=""/>
              <p:cNvSpPr/>
              <p:nvPr/>
            </p:nvSpPr>
            <p:spPr>
              <a:xfrm>
                <a:off x="4876200" y="4718880"/>
                <a:ext cx="19800" cy="15120"/>
              </a:xfrm>
              <a:custGeom>
                <a:avLst/>
                <a:gdLst/>
                <a:ahLst/>
                <a:rect l="l" t="t" r="r" b="b"/>
                <a:pathLst>
                  <a:path w="245" h="141">
                    <a:moveTo>
                      <a:pt x="0" y="85"/>
                    </a:moveTo>
                    <a:lnTo>
                      <a:pt x="18" y="112"/>
                    </a:lnTo>
                    <a:lnTo>
                      <a:pt x="117" y="141"/>
                    </a:lnTo>
                    <a:lnTo>
                      <a:pt x="212" y="134"/>
                    </a:lnTo>
                    <a:lnTo>
                      <a:pt x="245" y="79"/>
                    </a:lnTo>
                    <a:lnTo>
                      <a:pt x="238" y="0"/>
                    </a:lnTo>
                    <a:lnTo>
                      <a:pt x="179" y="42"/>
                    </a:lnTo>
                    <a:lnTo>
                      <a:pt x="139" y="79"/>
                    </a:lnTo>
                    <a:lnTo>
                      <a:pt x="83" y="90"/>
                    </a:lnTo>
                    <a:lnTo>
                      <a:pt x="0" y="85"/>
                    </a:lnTo>
                    <a:close/>
                  </a:path>
                </a:pathLst>
              </a:custGeom>
              <a:solidFill>
                <a:srgbClr val="ffc98e"/>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566" name=""/>
              <p:cNvSpPr/>
              <p:nvPr/>
            </p:nvSpPr>
            <p:spPr>
              <a:xfrm>
                <a:off x="4861440" y="4723920"/>
                <a:ext cx="10440" cy="25200"/>
              </a:xfrm>
              <a:custGeom>
                <a:avLst/>
                <a:gdLst/>
                <a:ahLst/>
                <a:rect l="l" t="t" r="r" b="b"/>
                <a:pathLst>
                  <a:path w="120" h="235">
                    <a:moveTo>
                      <a:pt x="57" y="37"/>
                    </a:moveTo>
                    <a:lnTo>
                      <a:pt x="37" y="0"/>
                    </a:lnTo>
                    <a:lnTo>
                      <a:pt x="13" y="16"/>
                    </a:lnTo>
                    <a:lnTo>
                      <a:pt x="22" y="141"/>
                    </a:lnTo>
                    <a:lnTo>
                      <a:pt x="0" y="169"/>
                    </a:lnTo>
                    <a:lnTo>
                      <a:pt x="13" y="220"/>
                    </a:lnTo>
                    <a:lnTo>
                      <a:pt x="64" y="235"/>
                    </a:lnTo>
                    <a:lnTo>
                      <a:pt x="108" y="220"/>
                    </a:lnTo>
                    <a:lnTo>
                      <a:pt x="120" y="178"/>
                    </a:lnTo>
                    <a:lnTo>
                      <a:pt x="112" y="148"/>
                    </a:lnTo>
                    <a:lnTo>
                      <a:pt x="78" y="121"/>
                    </a:lnTo>
                    <a:lnTo>
                      <a:pt x="57" y="37"/>
                    </a:lnTo>
                    <a:close/>
                  </a:path>
                </a:pathLst>
              </a:custGeom>
              <a:solidFill>
                <a:srgbClr val="ffc98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567" name=""/>
              <p:cNvSpPr/>
              <p:nvPr/>
            </p:nvSpPr>
            <p:spPr>
              <a:xfrm>
                <a:off x="4853520" y="4739040"/>
                <a:ext cx="3960" cy="3960"/>
              </a:xfrm>
              <a:custGeom>
                <a:avLst/>
                <a:gdLst/>
                <a:ahLst/>
                <a:rect l="l" t="t" r="r" b="b"/>
                <a:pathLst>
                  <a:path w="51" h="42">
                    <a:moveTo>
                      <a:pt x="25" y="0"/>
                    </a:moveTo>
                    <a:lnTo>
                      <a:pt x="0" y="25"/>
                    </a:lnTo>
                    <a:lnTo>
                      <a:pt x="25" y="42"/>
                    </a:lnTo>
                    <a:lnTo>
                      <a:pt x="51" y="7"/>
                    </a:lnTo>
                    <a:lnTo>
                      <a:pt x="25" y="0"/>
                    </a:lnTo>
                    <a:close/>
                  </a:path>
                </a:pathLst>
              </a:custGeom>
              <a:solidFill>
                <a:srgbClr val="ffc98e"/>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568" name=""/>
              <p:cNvSpPr/>
              <p:nvPr/>
            </p:nvSpPr>
            <p:spPr>
              <a:xfrm>
                <a:off x="4873320" y="4736520"/>
                <a:ext cx="3960" cy="3960"/>
              </a:xfrm>
              <a:custGeom>
                <a:avLst/>
                <a:gdLst/>
                <a:ahLst/>
                <a:rect l="l" t="t" r="r" b="b"/>
                <a:pathLst>
                  <a:path w="48" h="36">
                    <a:moveTo>
                      <a:pt x="0" y="6"/>
                    </a:moveTo>
                    <a:lnTo>
                      <a:pt x="21" y="36"/>
                    </a:lnTo>
                    <a:lnTo>
                      <a:pt x="48" y="6"/>
                    </a:lnTo>
                    <a:lnTo>
                      <a:pt x="25" y="0"/>
                    </a:lnTo>
                    <a:lnTo>
                      <a:pt x="0" y="6"/>
                    </a:lnTo>
                    <a:close/>
                  </a:path>
                </a:pathLst>
              </a:custGeom>
              <a:solidFill>
                <a:srgbClr val="ffc98e"/>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569" name=""/>
              <p:cNvSpPr/>
              <p:nvPr/>
            </p:nvSpPr>
            <p:spPr>
              <a:xfrm>
                <a:off x="4856400" y="4764600"/>
                <a:ext cx="27720" cy="7200"/>
              </a:xfrm>
              <a:custGeom>
                <a:avLst/>
                <a:gdLst/>
                <a:ahLst/>
                <a:rect l="l" t="t" r="r" b="b"/>
                <a:pathLst>
                  <a:path w="343" h="70">
                    <a:moveTo>
                      <a:pt x="0" y="44"/>
                    </a:moveTo>
                    <a:lnTo>
                      <a:pt x="128" y="70"/>
                    </a:lnTo>
                    <a:lnTo>
                      <a:pt x="235" y="55"/>
                    </a:lnTo>
                    <a:lnTo>
                      <a:pt x="322" y="21"/>
                    </a:lnTo>
                    <a:lnTo>
                      <a:pt x="343" y="7"/>
                    </a:lnTo>
                    <a:lnTo>
                      <a:pt x="297" y="0"/>
                    </a:lnTo>
                    <a:lnTo>
                      <a:pt x="214" y="21"/>
                    </a:lnTo>
                    <a:lnTo>
                      <a:pt x="135" y="26"/>
                    </a:lnTo>
                    <a:lnTo>
                      <a:pt x="20" y="21"/>
                    </a:lnTo>
                    <a:lnTo>
                      <a:pt x="0" y="44"/>
                    </a:lnTo>
                    <a:close/>
                  </a:path>
                </a:pathLst>
              </a:custGeom>
              <a:solidFill>
                <a:srgbClr val="ffc98e"/>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70" name=""/>
              <p:cNvSpPr/>
              <p:nvPr/>
            </p:nvSpPr>
            <p:spPr>
              <a:xfrm>
                <a:off x="4820400" y="4660200"/>
                <a:ext cx="29520" cy="44640"/>
              </a:xfrm>
              <a:custGeom>
                <a:avLst/>
                <a:gdLst/>
                <a:ahLst/>
                <a:rect l="l" t="t" r="r" b="b"/>
                <a:pathLst>
                  <a:path w="363" h="429">
                    <a:moveTo>
                      <a:pt x="226" y="35"/>
                    </a:moveTo>
                    <a:lnTo>
                      <a:pt x="158" y="99"/>
                    </a:lnTo>
                    <a:lnTo>
                      <a:pt x="127" y="182"/>
                    </a:lnTo>
                    <a:lnTo>
                      <a:pt x="127" y="266"/>
                    </a:lnTo>
                    <a:lnTo>
                      <a:pt x="149" y="337"/>
                    </a:lnTo>
                    <a:lnTo>
                      <a:pt x="363" y="394"/>
                    </a:lnTo>
                    <a:lnTo>
                      <a:pt x="185" y="389"/>
                    </a:lnTo>
                    <a:lnTo>
                      <a:pt x="63" y="429"/>
                    </a:lnTo>
                    <a:lnTo>
                      <a:pt x="79" y="380"/>
                    </a:lnTo>
                    <a:lnTo>
                      <a:pt x="33" y="323"/>
                    </a:lnTo>
                    <a:lnTo>
                      <a:pt x="6" y="231"/>
                    </a:lnTo>
                    <a:lnTo>
                      <a:pt x="0" y="134"/>
                    </a:lnTo>
                    <a:lnTo>
                      <a:pt x="19" y="62"/>
                    </a:lnTo>
                    <a:lnTo>
                      <a:pt x="68" y="14"/>
                    </a:lnTo>
                    <a:lnTo>
                      <a:pt x="136" y="0"/>
                    </a:lnTo>
                    <a:lnTo>
                      <a:pt x="192" y="7"/>
                    </a:lnTo>
                    <a:lnTo>
                      <a:pt x="226" y="35"/>
                    </a:lnTo>
                    <a:close/>
                  </a:path>
                </a:pathLst>
              </a:custGeom>
              <a:solidFill>
                <a:srgbClr val="ffc98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71" name=""/>
              <p:cNvSpPr/>
              <p:nvPr/>
            </p:nvSpPr>
            <p:spPr>
              <a:xfrm>
                <a:off x="4866120" y="4683240"/>
                <a:ext cx="25560" cy="15840"/>
              </a:xfrm>
              <a:custGeom>
                <a:avLst/>
                <a:gdLst/>
                <a:ahLst/>
                <a:rect l="l" t="t" r="r" b="b"/>
                <a:pathLst>
                  <a:path w="314" h="154">
                    <a:moveTo>
                      <a:pt x="70" y="115"/>
                    </a:moveTo>
                    <a:lnTo>
                      <a:pt x="226" y="34"/>
                    </a:lnTo>
                    <a:lnTo>
                      <a:pt x="314" y="30"/>
                    </a:lnTo>
                    <a:lnTo>
                      <a:pt x="249" y="0"/>
                    </a:lnTo>
                    <a:lnTo>
                      <a:pt x="176" y="30"/>
                    </a:lnTo>
                    <a:lnTo>
                      <a:pt x="0" y="154"/>
                    </a:lnTo>
                    <a:lnTo>
                      <a:pt x="70" y="115"/>
                    </a:lnTo>
                    <a:close/>
                  </a:path>
                </a:pathLst>
              </a:custGeom>
              <a:solidFill>
                <a:srgbClr val="ffc98e"/>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72" name=""/>
              <p:cNvSpPr/>
              <p:nvPr/>
            </p:nvSpPr>
            <p:spPr>
              <a:xfrm>
                <a:off x="4811400" y="4710240"/>
                <a:ext cx="8280" cy="6840"/>
              </a:xfrm>
              <a:custGeom>
                <a:avLst/>
                <a:gdLst/>
                <a:ahLst/>
                <a:rect l="l" t="t" r="r" b="b"/>
                <a:pathLst>
                  <a:path w="105" h="60">
                    <a:moveTo>
                      <a:pt x="0" y="44"/>
                    </a:moveTo>
                    <a:lnTo>
                      <a:pt x="96" y="60"/>
                    </a:lnTo>
                    <a:lnTo>
                      <a:pt x="105" y="31"/>
                    </a:lnTo>
                    <a:lnTo>
                      <a:pt x="48" y="0"/>
                    </a:lnTo>
                    <a:lnTo>
                      <a:pt x="0" y="0"/>
                    </a:lnTo>
                    <a:lnTo>
                      <a:pt x="0" y="44"/>
                    </a:lnTo>
                    <a:close/>
                  </a:path>
                </a:pathLst>
              </a:custGeom>
              <a:solidFill>
                <a:srgbClr val="ffc98e"/>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573" name=""/>
              <p:cNvSpPr/>
              <p:nvPr/>
            </p:nvSpPr>
            <p:spPr>
              <a:xfrm>
                <a:off x="4901400" y="4695120"/>
                <a:ext cx="8280" cy="11880"/>
              </a:xfrm>
              <a:custGeom>
                <a:avLst/>
                <a:gdLst/>
                <a:ahLst/>
                <a:rect l="l" t="t" r="r" b="b"/>
                <a:pathLst>
                  <a:path w="99" h="111">
                    <a:moveTo>
                      <a:pt x="0" y="111"/>
                    </a:moveTo>
                    <a:lnTo>
                      <a:pt x="19" y="111"/>
                    </a:lnTo>
                    <a:lnTo>
                      <a:pt x="99" y="35"/>
                    </a:lnTo>
                    <a:lnTo>
                      <a:pt x="90" y="0"/>
                    </a:lnTo>
                    <a:lnTo>
                      <a:pt x="55" y="0"/>
                    </a:lnTo>
                    <a:lnTo>
                      <a:pt x="7" y="39"/>
                    </a:lnTo>
                    <a:lnTo>
                      <a:pt x="0" y="111"/>
                    </a:lnTo>
                    <a:close/>
                  </a:path>
                </a:pathLst>
              </a:custGeom>
              <a:solidFill>
                <a:srgbClr val="ffc98e"/>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574" name=""/>
              <p:cNvSpPr/>
              <p:nvPr/>
            </p:nvSpPr>
            <p:spPr>
              <a:xfrm>
                <a:off x="4865040" y="4783320"/>
                <a:ext cx="12600" cy="8280"/>
              </a:xfrm>
              <a:custGeom>
                <a:avLst/>
                <a:gdLst/>
                <a:ahLst/>
                <a:rect l="l" t="t" r="r" b="b"/>
                <a:pathLst>
                  <a:path w="154" h="84">
                    <a:moveTo>
                      <a:pt x="27" y="7"/>
                    </a:moveTo>
                    <a:lnTo>
                      <a:pt x="0" y="49"/>
                    </a:lnTo>
                    <a:lnTo>
                      <a:pt x="32" y="84"/>
                    </a:lnTo>
                    <a:lnTo>
                      <a:pt x="140" y="69"/>
                    </a:lnTo>
                    <a:lnTo>
                      <a:pt x="154" y="27"/>
                    </a:lnTo>
                    <a:lnTo>
                      <a:pt x="127" y="0"/>
                    </a:lnTo>
                    <a:lnTo>
                      <a:pt x="27" y="7"/>
                    </a:lnTo>
                    <a:close/>
                  </a:path>
                </a:pathLst>
              </a:custGeom>
              <a:solidFill>
                <a:srgbClr val="ffc98e"/>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75" name=""/>
              <p:cNvSpPr/>
              <p:nvPr/>
            </p:nvSpPr>
            <p:spPr>
              <a:xfrm>
                <a:off x="4809960" y="4845960"/>
                <a:ext cx="14400" cy="35280"/>
              </a:xfrm>
              <a:custGeom>
                <a:avLst/>
                <a:gdLst/>
                <a:ahLst/>
                <a:rect l="l" t="t" r="r" b="b"/>
                <a:pathLst>
                  <a:path w="172" h="336">
                    <a:moveTo>
                      <a:pt x="7" y="42"/>
                    </a:moveTo>
                    <a:lnTo>
                      <a:pt x="51" y="211"/>
                    </a:lnTo>
                    <a:lnTo>
                      <a:pt x="73" y="336"/>
                    </a:lnTo>
                    <a:lnTo>
                      <a:pt x="156" y="336"/>
                    </a:lnTo>
                    <a:lnTo>
                      <a:pt x="172" y="279"/>
                    </a:lnTo>
                    <a:lnTo>
                      <a:pt x="99" y="231"/>
                    </a:lnTo>
                    <a:lnTo>
                      <a:pt x="73" y="147"/>
                    </a:lnTo>
                    <a:lnTo>
                      <a:pt x="78" y="75"/>
                    </a:lnTo>
                    <a:lnTo>
                      <a:pt x="0" y="0"/>
                    </a:lnTo>
                    <a:lnTo>
                      <a:pt x="7" y="42"/>
                    </a:lnTo>
                    <a:close/>
                  </a:path>
                </a:pathLst>
              </a:custGeom>
              <a:solidFill>
                <a:srgbClr val="ffc98e"/>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76" name=""/>
              <p:cNvSpPr/>
              <p:nvPr/>
            </p:nvSpPr>
            <p:spPr>
              <a:xfrm>
                <a:off x="4810320" y="4822200"/>
                <a:ext cx="21600" cy="12600"/>
              </a:xfrm>
              <a:custGeom>
                <a:avLst/>
                <a:gdLst/>
                <a:ahLst/>
                <a:rect l="l" t="t" r="r" b="b"/>
                <a:pathLst>
                  <a:path w="264" h="122">
                    <a:moveTo>
                      <a:pt x="0" y="106"/>
                    </a:moveTo>
                    <a:lnTo>
                      <a:pt x="13" y="122"/>
                    </a:lnTo>
                    <a:lnTo>
                      <a:pt x="57" y="78"/>
                    </a:lnTo>
                    <a:lnTo>
                      <a:pt x="114" y="97"/>
                    </a:lnTo>
                    <a:lnTo>
                      <a:pt x="140" y="53"/>
                    </a:lnTo>
                    <a:lnTo>
                      <a:pt x="264" y="106"/>
                    </a:lnTo>
                    <a:lnTo>
                      <a:pt x="127" y="0"/>
                    </a:lnTo>
                    <a:lnTo>
                      <a:pt x="101" y="14"/>
                    </a:lnTo>
                    <a:lnTo>
                      <a:pt x="32" y="64"/>
                    </a:lnTo>
                    <a:lnTo>
                      <a:pt x="0" y="106"/>
                    </a:lnTo>
                    <a:close/>
                  </a:path>
                </a:pathLst>
              </a:custGeom>
              <a:solidFill>
                <a:srgbClr val="ffc98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77" name=""/>
              <p:cNvSpPr/>
              <p:nvPr/>
            </p:nvSpPr>
            <p:spPr>
              <a:xfrm>
                <a:off x="4827960" y="4863600"/>
                <a:ext cx="8280" cy="15840"/>
              </a:xfrm>
              <a:custGeom>
                <a:avLst/>
                <a:gdLst/>
                <a:ahLst/>
                <a:rect l="l" t="t" r="r" b="b"/>
                <a:pathLst>
                  <a:path w="106" h="147">
                    <a:moveTo>
                      <a:pt x="0" y="44"/>
                    </a:moveTo>
                    <a:lnTo>
                      <a:pt x="41" y="85"/>
                    </a:lnTo>
                    <a:lnTo>
                      <a:pt x="63" y="147"/>
                    </a:lnTo>
                    <a:lnTo>
                      <a:pt x="106" y="92"/>
                    </a:lnTo>
                    <a:lnTo>
                      <a:pt x="99" y="35"/>
                    </a:lnTo>
                    <a:lnTo>
                      <a:pt x="63" y="9"/>
                    </a:lnTo>
                    <a:lnTo>
                      <a:pt x="7" y="0"/>
                    </a:lnTo>
                    <a:lnTo>
                      <a:pt x="0" y="44"/>
                    </a:lnTo>
                    <a:close/>
                  </a:path>
                </a:pathLst>
              </a:custGeom>
              <a:solidFill>
                <a:srgbClr val="ffc98e"/>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78" name=""/>
              <p:cNvSpPr/>
              <p:nvPr/>
            </p:nvSpPr>
            <p:spPr>
              <a:xfrm>
                <a:off x="4836240" y="4714560"/>
                <a:ext cx="20520" cy="9720"/>
              </a:xfrm>
              <a:custGeom>
                <a:avLst/>
                <a:gdLst/>
                <a:ahLst/>
                <a:rect l="l" t="t" r="r" b="b"/>
                <a:pathLst>
                  <a:path w="244" h="94">
                    <a:moveTo>
                      <a:pt x="0" y="34"/>
                    </a:moveTo>
                    <a:lnTo>
                      <a:pt x="45" y="81"/>
                    </a:lnTo>
                    <a:lnTo>
                      <a:pt x="89" y="94"/>
                    </a:lnTo>
                    <a:lnTo>
                      <a:pt x="114" y="94"/>
                    </a:lnTo>
                    <a:lnTo>
                      <a:pt x="167" y="94"/>
                    </a:lnTo>
                    <a:lnTo>
                      <a:pt x="244" y="43"/>
                    </a:lnTo>
                    <a:lnTo>
                      <a:pt x="204" y="0"/>
                    </a:lnTo>
                    <a:lnTo>
                      <a:pt x="123" y="9"/>
                    </a:lnTo>
                    <a:lnTo>
                      <a:pt x="45" y="28"/>
                    </a:lnTo>
                    <a:lnTo>
                      <a:pt x="0" y="3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579" name=""/>
              <p:cNvSpPr/>
              <p:nvPr/>
            </p:nvSpPr>
            <p:spPr>
              <a:xfrm>
                <a:off x="4872960" y="4710240"/>
                <a:ext cx="17640" cy="9360"/>
              </a:xfrm>
              <a:custGeom>
                <a:avLst/>
                <a:gdLst/>
                <a:ahLst/>
                <a:rect l="l" t="t" r="r" b="b"/>
                <a:pathLst>
                  <a:path w="221" h="85">
                    <a:moveTo>
                      <a:pt x="0" y="70"/>
                    </a:moveTo>
                    <a:lnTo>
                      <a:pt x="44" y="7"/>
                    </a:lnTo>
                    <a:lnTo>
                      <a:pt x="129" y="0"/>
                    </a:lnTo>
                    <a:lnTo>
                      <a:pt x="221" y="7"/>
                    </a:lnTo>
                    <a:lnTo>
                      <a:pt x="216" y="26"/>
                    </a:lnTo>
                    <a:lnTo>
                      <a:pt x="185" y="57"/>
                    </a:lnTo>
                    <a:lnTo>
                      <a:pt x="115" y="85"/>
                    </a:lnTo>
                    <a:lnTo>
                      <a:pt x="51" y="85"/>
                    </a:lnTo>
                    <a:lnTo>
                      <a:pt x="9" y="85"/>
                    </a:lnTo>
                    <a:lnTo>
                      <a:pt x="0" y="7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80" name=""/>
              <p:cNvSpPr/>
              <p:nvPr/>
            </p:nvSpPr>
            <p:spPr>
              <a:xfrm>
                <a:off x="4257720" y="4761720"/>
                <a:ext cx="45000" cy="37080"/>
              </a:xfrm>
              <a:custGeom>
                <a:avLst/>
                <a:gdLst/>
                <a:ahLst/>
                <a:rect l="l" t="t" r="r" b="b"/>
                <a:pathLst>
                  <a:path w="546" h="352">
                    <a:moveTo>
                      <a:pt x="53" y="229"/>
                    </a:moveTo>
                    <a:lnTo>
                      <a:pt x="126" y="174"/>
                    </a:lnTo>
                    <a:lnTo>
                      <a:pt x="163" y="161"/>
                    </a:lnTo>
                    <a:lnTo>
                      <a:pt x="313" y="161"/>
                    </a:lnTo>
                    <a:lnTo>
                      <a:pt x="387" y="167"/>
                    </a:lnTo>
                    <a:lnTo>
                      <a:pt x="194" y="94"/>
                    </a:lnTo>
                    <a:lnTo>
                      <a:pt x="60" y="94"/>
                    </a:lnTo>
                    <a:lnTo>
                      <a:pt x="9" y="82"/>
                    </a:lnTo>
                    <a:lnTo>
                      <a:pt x="0" y="75"/>
                    </a:lnTo>
                    <a:lnTo>
                      <a:pt x="145" y="0"/>
                    </a:lnTo>
                    <a:lnTo>
                      <a:pt x="224" y="13"/>
                    </a:lnTo>
                    <a:lnTo>
                      <a:pt x="313" y="64"/>
                    </a:lnTo>
                    <a:lnTo>
                      <a:pt x="415" y="108"/>
                    </a:lnTo>
                    <a:lnTo>
                      <a:pt x="498" y="130"/>
                    </a:lnTo>
                    <a:lnTo>
                      <a:pt x="546" y="198"/>
                    </a:lnTo>
                    <a:lnTo>
                      <a:pt x="521" y="255"/>
                    </a:lnTo>
                    <a:lnTo>
                      <a:pt x="484" y="255"/>
                    </a:lnTo>
                    <a:lnTo>
                      <a:pt x="431" y="322"/>
                    </a:lnTo>
                    <a:lnTo>
                      <a:pt x="376" y="329"/>
                    </a:lnTo>
                    <a:lnTo>
                      <a:pt x="286" y="352"/>
                    </a:lnTo>
                    <a:lnTo>
                      <a:pt x="365" y="280"/>
                    </a:lnTo>
                    <a:lnTo>
                      <a:pt x="401" y="235"/>
                    </a:lnTo>
                    <a:lnTo>
                      <a:pt x="401" y="218"/>
                    </a:lnTo>
                    <a:lnTo>
                      <a:pt x="365" y="209"/>
                    </a:lnTo>
                    <a:lnTo>
                      <a:pt x="304" y="191"/>
                    </a:lnTo>
                    <a:lnTo>
                      <a:pt x="286" y="235"/>
                    </a:lnTo>
                    <a:lnTo>
                      <a:pt x="282" y="205"/>
                    </a:lnTo>
                    <a:lnTo>
                      <a:pt x="256" y="205"/>
                    </a:lnTo>
                    <a:lnTo>
                      <a:pt x="253" y="225"/>
                    </a:lnTo>
                    <a:lnTo>
                      <a:pt x="277" y="244"/>
                    </a:lnTo>
                    <a:lnTo>
                      <a:pt x="268" y="266"/>
                    </a:lnTo>
                    <a:lnTo>
                      <a:pt x="84" y="244"/>
                    </a:lnTo>
                    <a:lnTo>
                      <a:pt x="53" y="22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81" name=""/>
              <p:cNvSpPr/>
              <p:nvPr/>
            </p:nvSpPr>
            <p:spPr>
              <a:xfrm>
                <a:off x="4266360" y="4791600"/>
                <a:ext cx="18360" cy="4680"/>
              </a:xfrm>
              <a:custGeom>
                <a:avLst/>
                <a:gdLst/>
                <a:ahLst/>
                <a:rect l="l" t="t" r="r" b="b"/>
                <a:pathLst>
                  <a:path w="224" h="49">
                    <a:moveTo>
                      <a:pt x="0" y="0"/>
                    </a:moveTo>
                    <a:lnTo>
                      <a:pt x="40" y="33"/>
                    </a:lnTo>
                    <a:lnTo>
                      <a:pt x="139" y="49"/>
                    </a:lnTo>
                    <a:lnTo>
                      <a:pt x="224" y="3"/>
                    </a:lnTo>
                    <a:lnTo>
                      <a:pt x="132" y="15"/>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82" name=""/>
              <p:cNvSpPr/>
              <p:nvPr/>
            </p:nvSpPr>
            <p:spPr>
              <a:xfrm>
                <a:off x="4284720" y="4781520"/>
                <a:ext cx="5040" cy="10080"/>
              </a:xfrm>
              <a:custGeom>
                <a:avLst/>
                <a:gdLst/>
                <a:ahLst/>
                <a:rect l="l" t="t" r="r" b="b"/>
                <a:pathLst>
                  <a:path w="64" h="98">
                    <a:moveTo>
                      <a:pt x="0" y="0"/>
                    </a:moveTo>
                    <a:lnTo>
                      <a:pt x="53" y="98"/>
                    </a:lnTo>
                    <a:lnTo>
                      <a:pt x="64" y="81"/>
                    </a:lnTo>
                    <a:lnTo>
                      <a:pt x="34" y="20"/>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583" name=""/>
              <p:cNvSpPr/>
              <p:nvPr/>
            </p:nvSpPr>
            <p:spPr>
              <a:xfrm>
                <a:off x="4306680" y="4780440"/>
                <a:ext cx="33480" cy="55080"/>
              </a:xfrm>
              <a:custGeom>
                <a:avLst/>
                <a:gdLst/>
                <a:ahLst/>
                <a:rect l="l" t="t" r="r" b="b"/>
                <a:pathLst>
                  <a:path w="406" h="514">
                    <a:moveTo>
                      <a:pt x="0" y="10"/>
                    </a:moveTo>
                    <a:lnTo>
                      <a:pt x="0" y="63"/>
                    </a:lnTo>
                    <a:lnTo>
                      <a:pt x="28" y="99"/>
                    </a:lnTo>
                    <a:lnTo>
                      <a:pt x="12" y="388"/>
                    </a:lnTo>
                    <a:lnTo>
                      <a:pt x="35" y="514"/>
                    </a:lnTo>
                    <a:lnTo>
                      <a:pt x="28" y="380"/>
                    </a:lnTo>
                    <a:lnTo>
                      <a:pt x="39" y="213"/>
                    </a:lnTo>
                    <a:lnTo>
                      <a:pt x="146" y="288"/>
                    </a:lnTo>
                    <a:lnTo>
                      <a:pt x="105" y="201"/>
                    </a:lnTo>
                    <a:lnTo>
                      <a:pt x="197" y="235"/>
                    </a:lnTo>
                    <a:lnTo>
                      <a:pt x="275" y="222"/>
                    </a:lnTo>
                    <a:lnTo>
                      <a:pt x="202" y="201"/>
                    </a:lnTo>
                    <a:lnTo>
                      <a:pt x="202" y="178"/>
                    </a:lnTo>
                    <a:lnTo>
                      <a:pt x="233" y="160"/>
                    </a:lnTo>
                    <a:lnTo>
                      <a:pt x="294" y="208"/>
                    </a:lnTo>
                    <a:lnTo>
                      <a:pt x="328" y="189"/>
                    </a:lnTo>
                    <a:lnTo>
                      <a:pt x="250" y="114"/>
                    </a:lnTo>
                    <a:lnTo>
                      <a:pt x="202" y="85"/>
                    </a:lnTo>
                    <a:lnTo>
                      <a:pt x="202" y="65"/>
                    </a:lnTo>
                    <a:lnTo>
                      <a:pt x="321" y="90"/>
                    </a:lnTo>
                    <a:lnTo>
                      <a:pt x="356" y="132"/>
                    </a:lnTo>
                    <a:lnTo>
                      <a:pt x="344" y="164"/>
                    </a:lnTo>
                    <a:lnTo>
                      <a:pt x="406" y="141"/>
                    </a:lnTo>
                    <a:lnTo>
                      <a:pt x="406" y="54"/>
                    </a:lnTo>
                    <a:lnTo>
                      <a:pt x="365" y="17"/>
                    </a:lnTo>
                    <a:lnTo>
                      <a:pt x="270" y="17"/>
                    </a:lnTo>
                    <a:lnTo>
                      <a:pt x="79" y="0"/>
                    </a:lnTo>
                    <a:lnTo>
                      <a:pt x="35" y="10"/>
                    </a:lnTo>
                    <a:lnTo>
                      <a:pt x="0" y="1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584" name=""/>
              <p:cNvSpPr/>
              <p:nvPr/>
            </p:nvSpPr>
            <p:spPr>
              <a:xfrm>
                <a:off x="4305240" y="4839120"/>
                <a:ext cx="3960" cy="6480"/>
              </a:xfrm>
              <a:custGeom>
                <a:avLst/>
                <a:gdLst/>
                <a:ahLst/>
                <a:rect l="l" t="t" r="r" b="b"/>
                <a:pathLst>
                  <a:path w="44" h="62">
                    <a:moveTo>
                      <a:pt x="0" y="46"/>
                    </a:moveTo>
                    <a:lnTo>
                      <a:pt x="28" y="62"/>
                    </a:lnTo>
                    <a:lnTo>
                      <a:pt x="44" y="49"/>
                    </a:lnTo>
                    <a:lnTo>
                      <a:pt x="35" y="0"/>
                    </a:lnTo>
                    <a:lnTo>
                      <a:pt x="0" y="4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85" name=""/>
              <p:cNvSpPr/>
              <p:nvPr/>
            </p:nvSpPr>
            <p:spPr>
              <a:xfrm>
                <a:off x="4260960" y="4832280"/>
                <a:ext cx="53640" cy="36360"/>
              </a:xfrm>
              <a:custGeom>
                <a:avLst/>
                <a:gdLst/>
                <a:ahLst/>
                <a:rect l="l" t="t" r="r" b="b"/>
                <a:pathLst>
                  <a:path w="647" h="347">
                    <a:moveTo>
                      <a:pt x="509" y="114"/>
                    </a:moveTo>
                    <a:lnTo>
                      <a:pt x="466" y="117"/>
                    </a:lnTo>
                    <a:lnTo>
                      <a:pt x="374" y="29"/>
                    </a:lnTo>
                    <a:lnTo>
                      <a:pt x="311" y="0"/>
                    </a:lnTo>
                    <a:lnTo>
                      <a:pt x="219" y="31"/>
                    </a:lnTo>
                    <a:lnTo>
                      <a:pt x="219" y="57"/>
                    </a:lnTo>
                    <a:lnTo>
                      <a:pt x="258" y="64"/>
                    </a:lnTo>
                    <a:lnTo>
                      <a:pt x="120" y="105"/>
                    </a:lnTo>
                    <a:lnTo>
                      <a:pt x="0" y="181"/>
                    </a:lnTo>
                    <a:lnTo>
                      <a:pt x="23" y="225"/>
                    </a:lnTo>
                    <a:lnTo>
                      <a:pt x="95" y="220"/>
                    </a:lnTo>
                    <a:lnTo>
                      <a:pt x="157" y="237"/>
                    </a:lnTo>
                    <a:lnTo>
                      <a:pt x="240" y="193"/>
                    </a:lnTo>
                    <a:lnTo>
                      <a:pt x="357" y="211"/>
                    </a:lnTo>
                    <a:lnTo>
                      <a:pt x="461" y="200"/>
                    </a:lnTo>
                    <a:lnTo>
                      <a:pt x="521" y="257"/>
                    </a:lnTo>
                    <a:lnTo>
                      <a:pt x="567" y="279"/>
                    </a:lnTo>
                    <a:lnTo>
                      <a:pt x="620" y="347"/>
                    </a:lnTo>
                    <a:lnTo>
                      <a:pt x="647" y="334"/>
                    </a:lnTo>
                    <a:lnTo>
                      <a:pt x="643" y="225"/>
                    </a:lnTo>
                    <a:lnTo>
                      <a:pt x="567" y="105"/>
                    </a:lnTo>
                    <a:lnTo>
                      <a:pt x="509" y="1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6" name=""/>
              <p:cNvSpPr/>
              <p:nvPr/>
            </p:nvSpPr>
            <p:spPr>
              <a:xfrm>
                <a:off x="4290840" y="4815360"/>
                <a:ext cx="5760" cy="9360"/>
              </a:xfrm>
              <a:custGeom>
                <a:avLst/>
                <a:gdLst/>
                <a:ahLst/>
                <a:rect l="l" t="t" r="r" b="b"/>
                <a:pathLst>
                  <a:path w="72" h="86">
                    <a:moveTo>
                      <a:pt x="0" y="55"/>
                    </a:moveTo>
                    <a:lnTo>
                      <a:pt x="37" y="86"/>
                    </a:lnTo>
                    <a:lnTo>
                      <a:pt x="72" y="24"/>
                    </a:lnTo>
                    <a:lnTo>
                      <a:pt x="60" y="0"/>
                    </a:lnTo>
                    <a:lnTo>
                      <a:pt x="0" y="5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87" name=""/>
              <p:cNvSpPr/>
              <p:nvPr/>
            </p:nvSpPr>
            <p:spPr>
              <a:xfrm>
                <a:off x="4278960" y="4861080"/>
                <a:ext cx="24840" cy="13320"/>
              </a:xfrm>
              <a:custGeom>
                <a:avLst/>
                <a:gdLst/>
                <a:ahLst/>
                <a:rect l="l" t="t" r="r" b="b"/>
                <a:pathLst>
                  <a:path w="302" h="129">
                    <a:moveTo>
                      <a:pt x="0" y="26"/>
                    </a:moveTo>
                    <a:lnTo>
                      <a:pt x="48" y="0"/>
                    </a:lnTo>
                    <a:lnTo>
                      <a:pt x="302" y="42"/>
                    </a:lnTo>
                    <a:lnTo>
                      <a:pt x="279" y="129"/>
                    </a:lnTo>
                    <a:lnTo>
                      <a:pt x="228" y="98"/>
                    </a:lnTo>
                    <a:lnTo>
                      <a:pt x="30" y="98"/>
                    </a:lnTo>
                    <a:lnTo>
                      <a:pt x="0" y="2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88" name=""/>
              <p:cNvSpPr/>
              <p:nvPr/>
            </p:nvSpPr>
            <p:spPr>
              <a:xfrm>
                <a:off x="4238280" y="4672800"/>
                <a:ext cx="105120" cy="72720"/>
              </a:xfrm>
              <a:custGeom>
                <a:avLst/>
                <a:gdLst/>
                <a:ahLst/>
                <a:rect l="l" t="t" r="r" b="b"/>
                <a:pathLst>
                  <a:path w="1275" h="682">
                    <a:moveTo>
                      <a:pt x="934" y="170"/>
                    </a:moveTo>
                    <a:lnTo>
                      <a:pt x="1037" y="159"/>
                    </a:lnTo>
                    <a:lnTo>
                      <a:pt x="1037" y="136"/>
                    </a:lnTo>
                    <a:lnTo>
                      <a:pt x="970" y="92"/>
                    </a:lnTo>
                    <a:lnTo>
                      <a:pt x="834" y="42"/>
                    </a:lnTo>
                    <a:lnTo>
                      <a:pt x="730" y="25"/>
                    </a:lnTo>
                    <a:lnTo>
                      <a:pt x="431" y="7"/>
                    </a:lnTo>
                    <a:lnTo>
                      <a:pt x="652" y="0"/>
                    </a:lnTo>
                    <a:lnTo>
                      <a:pt x="868" y="18"/>
                    </a:lnTo>
                    <a:lnTo>
                      <a:pt x="1037" y="73"/>
                    </a:lnTo>
                    <a:lnTo>
                      <a:pt x="1157" y="154"/>
                    </a:lnTo>
                    <a:lnTo>
                      <a:pt x="1249" y="251"/>
                    </a:lnTo>
                    <a:lnTo>
                      <a:pt x="1275" y="325"/>
                    </a:lnTo>
                    <a:lnTo>
                      <a:pt x="1275" y="387"/>
                    </a:lnTo>
                    <a:lnTo>
                      <a:pt x="1217" y="449"/>
                    </a:lnTo>
                    <a:lnTo>
                      <a:pt x="1104" y="530"/>
                    </a:lnTo>
                    <a:lnTo>
                      <a:pt x="943" y="578"/>
                    </a:lnTo>
                    <a:lnTo>
                      <a:pt x="730" y="631"/>
                    </a:lnTo>
                    <a:lnTo>
                      <a:pt x="315" y="664"/>
                    </a:lnTo>
                    <a:lnTo>
                      <a:pt x="0" y="682"/>
                    </a:lnTo>
                    <a:lnTo>
                      <a:pt x="703" y="504"/>
                    </a:lnTo>
                    <a:lnTo>
                      <a:pt x="864" y="449"/>
                    </a:lnTo>
                    <a:lnTo>
                      <a:pt x="952" y="407"/>
                    </a:lnTo>
                    <a:lnTo>
                      <a:pt x="975" y="387"/>
                    </a:lnTo>
                    <a:lnTo>
                      <a:pt x="970" y="374"/>
                    </a:lnTo>
                    <a:lnTo>
                      <a:pt x="917" y="367"/>
                    </a:lnTo>
                    <a:lnTo>
                      <a:pt x="1074" y="325"/>
                    </a:lnTo>
                    <a:lnTo>
                      <a:pt x="1086" y="304"/>
                    </a:lnTo>
                    <a:lnTo>
                      <a:pt x="1157" y="306"/>
                    </a:lnTo>
                    <a:lnTo>
                      <a:pt x="1161" y="284"/>
                    </a:lnTo>
                    <a:lnTo>
                      <a:pt x="1136" y="271"/>
                    </a:lnTo>
                    <a:lnTo>
                      <a:pt x="1018" y="242"/>
                    </a:lnTo>
                    <a:lnTo>
                      <a:pt x="1123" y="242"/>
                    </a:lnTo>
                    <a:lnTo>
                      <a:pt x="1123" y="216"/>
                    </a:lnTo>
                    <a:lnTo>
                      <a:pt x="1044" y="189"/>
                    </a:lnTo>
                    <a:lnTo>
                      <a:pt x="934" y="17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589" name=""/>
              <p:cNvSpPr/>
              <p:nvPr/>
            </p:nvSpPr>
            <p:spPr>
              <a:xfrm>
                <a:off x="4200480" y="4672800"/>
                <a:ext cx="115200" cy="144000"/>
              </a:xfrm>
              <a:custGeom>
                <a:avLst/>
                <a:gdLst/>
                <a:ahLst/>
                <a:rect l="l" t="t" r="r" b="b"/>
                <a:pathLst>
                  <a:path w="1400" h="1354">
                    <a:moveTo>
                      <a:pt x="585" y="668"/>
                    </a:moveTo>
                    <a:lnTo>
                      <a:pt x="486" y="811"/>
                    </a:lnTo>
                    <a:lnTo>
                      <a:pt x="468" y="885"/>
                    </a:lnTo>
                    <a:lnTo>
                      <a:pt x="413" y="947"/>
                    </a:lnTo>
                    <a:lnTo>
                      <a:pt x="352" y="1130"/>
                    </a:lnTo>
                    <a:lnTo>
                      <a:pt x="277" y="1118"/>
                    </a:lnTo>
                    <a:lnTo>
                      <a:pt x="233" y="1002"/>
                    </a:lnTo>
                    <a:lnTo>
                      <a:pt x="171" y="975"/>
                    </a:lnTo>
                    <a:lnTo>
                      <a:pt x="110" y="991"/>
                    </a:lnTo>
                    <a:lnTo>
                      <a:pt x="67" y="1064"/>
                    </a:lnTo>
                    <a:lnTo>
                      <a:pt x="97" y="1354"/>
                    </a:lnTo>
                    <a:lnTo>
                      <a:pt x="46" y="1263"/>
                    </a:lnTo>
                    <a:lnTo>
                      <a:pt x="0" y="730"/>
                    </a:lnTo>
                    <a:lnTo>
                      <a:pt x="40" y="627"/>
                    </a:lnTo>
                    <a:lnTo>
                      <a:pt x="110" y="438"/>
                    </a:lnTo>
                    <a:lnTo>
                      <a:pt x="270" y="242"/>
                    </a:lnTo>
                    <a:lnTo>
                      <a:pt x="486" y="71"/>
                    </a:lnTo>
                    <a:lnTo>
                      <a:pt x="754" y="11"/>
                    </a:lnTo>
                    <a:lnTo>
                      <a:pt x="976" y="0"/>
                    </a:lnTo>
                    <a:lnTo>
                      <a:pt x="1095" y="55"/>
                    </a:lnTo>
                    <a:lnTo>
                      <a:pt x="1160" y="124"/>
                    </a:lnTo>
                    <a:lnTo>
                      <a:pt x="1286" y="165"/>
                    </a:lnTo>
                    <a:lnTo>
                      <a:pt x="1240" y="165"/>
                    </a:lnTo>
                    <a:lnTo>
                      <a:pt x="1240" y="189"/>
                    </a:lnTo>
                    <a:lnTo>
                      <a:pt x="1342" y="223"/>
                    </a:lnTo>
                    <a:lnTo>
                      <a:pt x="1270" y="251"/>
                    </a:lnTo>
                    <a:lnTo>
                      <a:pt x="1277" y="271"/>
                    </a:lnTo>
                    <a:lnTo>
                      <a:pt x="1314" y="290"/>
                    </a:lnTo>
                    <a:lnTo>
                      <a:pt x="1229" y="318"/>
                    </a:lnTo>
                    <a:lnTo>
                      <a:pt x="1277" y="365"/>
                    </a:lnTo>
                    <a:lnTo>
                      <a:pt x="1125" y="403"/>
                    </a:lnTo>
                    <a:lnTo>
                      <a:pt x="1125" y="413"/>
                    </a:lnTo>
                    <a:lnTo>
                      <a:pt x="1266" y="424"/>
                    </a:lnTo>
                    <a:lnTo>
                      <a:pt x="1116" y="470"/>
                    </a:lnTo>
                    <a:lnTo>
                      <a:pt x="1400" y="438"/>
                    </a:lnTo>
                    <a:lnTo>
                      <a:pt x="1383" y="530"/>
                    </a:lnTo>
                    <a:lnTo>
                      <a:pt x="864" y="631"/>
                    </a:lnTo>
                    <a:lnTo>
                      <a:pt x="585"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0" name=""/>
              <p:cNvSpPr/>
              <p:nvPr/>
            </p:nvSpPr>
            <p:spPr>
              <a:xfrm>
                <a:off x="4308480" y="4720320"/>
                <a:ext cx="46800" cy="167040"/>
              </a:xfrm>
              <a:custGeom>
                <a:avLst/>
                <a:gdLst/>
                <a:ahLst/>
                <a:rect l="l" t="t" r="r" b="b"/>
                <a:pathLst>
                  <a:path w="567" h="1578">
                    <a:moveTo>
                      <a:pt x="320" y="150"/>
                    </a:moveTo>
                    <a:lnTo>
                      <a:pt x="358" y="245"/>
                    </a:lnTo>
                    <a:lnTo>
                      <a:pt x="358" y="635"/>
                    </a:lnTo>
                    <a:lnTo>
                      <a:pt x="304" y="761"/>
                    </a:lnTo>
                    <a:lnTo>
                      <a:pt x="304" y="904"/>
                    </a:lnTo>
                    <a:lnTo>
                      <a:pt x="239" y="1119"/>
                    </a:lnTo>
                    <a:lnTo>
                      <a:pt x="147" y="1255"/>
                    </a:lnTo>
                    <a:lnTo>
                      <a:pt x="0" y="1578"/>
                    </a:lnTo>
                    <a:lnTo>
                      <a:pt x="90" y="1471"/>
                    </a:lnTo>
                    <a:lnTo>
                      <a:pt x="198" y="1211"/>
                    </a:lnTo>
                    <a:lnTo>
                      <a:pt x="270" y="1105"/>
                    </a:lnTo>
                    <a:lnTo>
                      <a:pt x="341" y="941"/>
                    </a:lnTo>
                    <a:lnTo>
                      <a:pt x="341" y="794"/>
                    </a:lnTo>
                    <a:lnTo>
                      <a:pt x="484" y="704"/>
                    </a:lnTo>
                    <a:lnTo>
                      <a:pt x="567" y="455"/>
                    </a:lnTo>
                    <a:lnTo>
                      <a:pt x="567" y="261"/>
                    </a:lnTo>
                    <a:lnTo>
                      <a:pt x="558" y="121"/>
                    </a:lnTo>
                    <a:lnTo>
                      <a:pt x="532" y="42"/>
                    </a:lnTo>
                    <a:lnTo>
                      <a:pt x="468" y="0"/>
                    </a:lnTo>
                    <a:lnTo>
                      <a:pt x="521" y="60"/>
                    </a:lnTo>
                    <a:lnTo>
                      <a:pt x="532" y="110"/>
                    </a:lnTo>
                    <a:lnTo>
                      <a:pt x="521" y="139"/>
                    </a:lnTo>
                    <a:lnTo>
                      <a:pt x="444" y="90"/>
                    </a:lnTo>
                    <a:lnTo>
                      <a:pt x="437" y="97"/>
                    </a:lnTo>
                    <a:lnTo>
                      <a:pt x="488" y="178"/>
                    </a:lnTo>
                    <a:lnTo>
                      <a:pt x="505" y="305"/>
                    </a:lnTo>
                    <a:lnTo>
                      <a:pt x="505" y="429"/>
                    </a:lnTo>
                    <a:lnTo>
                      <a:pt x="468" y="275"/>
                    </a:lnTo>
                    <a:lnTo>
                      <a:pt x="345" y="110"/>
                    </a:lnTo>
                    <a:lnTo>
                      <a:pt x="32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1" name=""/>
              <p:cNvSpPr/>
              <p:nvPr/>
            </p:nvSpPr>
            <p:spPr>
              <a:xfrm>
                <a:off x="4217760" y="4817160"/>
                <a:ext cx="87480" cy="110880"/>
              </a:xfrm>
              <a:custGeom>
                <a:avLst/>
                <a:gdLst/>
                <a:ahLst/>
                <a:rect l="l" t="t" r="r" b="b"/>
                <a:pathLst>
                  <a:path w="1057" h="1050">
                    <a:moveTo>
                      <a:pt x="90" y="0"/>
                    </a:moveTo>
                    <a:lnTo>
                      <a:pt x="68" y="195"/>
                    </a:lnTo>
                    <a:lnTo>
                      <a:pt x="72" y="281"/>
                    </a:lnTo>
                    <a:lnTo>
                      <a:pt x="105" y="356"/>
                    </a:lnTo>
                    <a:lnTo>
                      <a:pt x="158" y="424"/>
                    </a:lnTo>
                    <a:lnTo>
                      <a:pt x="259" y="506"/>
                    </a:lnTo>
                    <a:lnTo>
                      <a:pt x="558" y="651"/>
                    </a:lnTo>
                    <a:lnTo>
                      <a:pt x="842" y="758"/>
                    </a:lnTo>
                    <a:lnTo>
                      <a:pt x="925" y="762"/>
                    </a:lnTo>
                    <a:lnTo>
                      <a:pt x="995" y="758"/>
                    </a:lnTo>
                    <a:lnTo>
                      <a:pt x="1057" y="730"/>
                    </a:lnTo>
                    <a:lnTo>
                      <a:pt x="1006" y="767"/>
                    </a:lnTo>
                    <a:lnTo>
                      <a:pt x="944" y="783"/>
                    </a:lnTo>
                    <a:lnTo>
                      <a:pt x="863" y="785"/>
                    </a:lnTo>
                    <a:lnTo>
                      <a:pt x="753" y="767"/>
                    </a:lnTo>
                    <a:lnTo>
                      <a:pt x="753" y="817"/>
                    </a:lnTo>
                    <a:lnTo>
                      <a:pt x="738" y="882"/>
                    </a:lnTo>
                    <a:lnTo>
                      <a:pt x="661" y="1009"/>
                    </a:lnTo>
                    <a:lnTo>
                      <a:pt x="704" y="901"/>
                    </a:lnTo>
                    <a:lnTo>
                      <a:pt x="709" y="824"/>
                    </a:lnTo>
                    <a:lnTo>
                      <a:pt x="624" y="861"/>
                    </a:lnTo>
                    <a:lnTo>
                      <a:pt x="624" y="978"/>
                    </a:lnTo>
                    <a:lnTo>
                      <a:pt x="598" y="1013"/>
                    </a:lnTo>
                    <a:lnTo>
                      <a:pt x="624" y="1050"/>
                    </a:lnTo>
                    <a:lnTo>
                      <a:pt x="591" y="1050"/>
                    </a:lnTo>
                    <a:lnTo>
                      <a:pt x="506" y="1009"/>
                    </a:lnTo>
                    <a:lnTo>
                      <a:pt x="328" y="843"/>
                    </a:lnTo>
                    <a:lnTo>
                      <a:pt x="215" y="721"/>
                    </a:lnTo>
                    <a:lnTo>
                      <a:pt x="98" y="567"/>
                    </a:lnTo>
                    <a:lnTo>
                      <a:pt x="0" y="370"/>
                    </a:lnTo>
                    <a:lnTo>
                      <a:pt x="107" y="541"/>
                    </a:lnTo>
                    <a:lnTo>
                      <a:pt x="204" y="633"/>
                    </a:lnTo>
                    <a:lnTo>
                      <a:pt x="81" y="411"/>
                    </a:lnTo>
                    <a:lnTo>
                      <a:pt x="52" y="288"/>
                    </a:lnTo>
                    <a:lnTo>
                      <a:pt x="52" y="213"/>
                    </a:lnTo>
                    <a:lnTo>
                      <a:pt x="68" y="91"/>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2" name=""/>
              <p:cNvSpPr/>
              <p:nvPr/>
            </p:nvSpPr>
            <p:spPr>
              <a:xfrm>
                <a:off x="4209840" y="4785120"/>
                <a:ext cx="14400" cy="32760"/>
              </a:xfrm>
              <a:custGeom>
                <a:avLst/>
                <a:gdLst/>
                <a:ahLst/>
                <a:rect l="l" t="t" r="r" b="b"/>
                <a:pathLst>
                  <a:path w="180" h="312">
                    <a:moveTo>
                      <a:pt x="37" y="0"/>
                    </a:moveTo>
                    <a:lnTo>
                      <a:pt x="88" y="7"/>
                    </a:lnTo>
                    <a:lnTo>
                      <a:pt x="175" y="62"/>
                    </a:lnTo>
                    <a:lnTo>
                      <a:pt x="180" y="164"/>
                    </a:lnTo>
                    <a:lnTo>
                      <a:pt x="146" y="147"/>
                    </a:lnTo>
                    <a:lnTo>
                      <a:pt x="136" y="134"/>
                    </a:lnTo>
                    <a:lnTo>
                      <a:pt x="94" y="171"/>
                    </a:lnTo>
                    <a:lnTo>
                      <a:pt x="94" y="185"/>
                    </a:lnTo>
                    <a:lnTo>
                      <a:pt x="125" y="204"/>
                    </a:lnTo>
                    <a:lnTo>
                      <a:pt x="155" y="301"/>
                    </a:lnTo>
                    <a:lnTo>
                      <a:pt x="132" y="312"/>
                    </a:lnTo>
                    <a:lnTo>
                      <a:pt x="100" y="257"/>
                    </a:lnTo>
                    <a:lnTo>
                      <a:pt x="19" y="233"/>
                    </a:lnTo>
                    <a:lnTo>
                      <a:pt x="0" y="111"/>
                    </a:lnTo>
                    <a:lnTo>
                      <a:pt x="19" y="95"/>
                    </a:lnTo>
                    <a:lnTo>
                      <a:pt x="105" y="53"/>
                    </a:lnTo>
                    <a:lnTo>
                      <a:pt x="81" y="26"/>
                    </a:lnTo>
                    <a:lnTo>
                      <a:pt x="37"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593" name=""/>
              <p:cNvSpPr/>
              <p:nvPr/>
            </p:nvSpPr>
            <p:spPr>
              <a:xfrm>
                <a:off x="4211280" y="4816440"/>
                <a:ext cx="5760" cy="1440"/>
              </a:xfrm>
              <a:custGeom>
                <a:avLst/>
                <a:gdLst/>
                <a:ahLst/>
                <a:rect l="l" t="t" r="r" b="b"/>
                <a:pathLst>
                  <a:path w="69" h="17">
                    <a:moveTo>
                      <a:pt x="0" y="0"/>
                    </a:moveTo>
                    <a:lnTo>
                      <a:pt x="69" y="17"/>
                    </a:lnTo>
                    <a:lnTo>
                      <a:pt x="7" y="17"/>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4" name=""/>
              <p:cNvSpPr/>
              <p:nvPr/>
            </p:nvSpPr>
            <p:spPr>
              <a:xfrm>
                <a:off x="4209840" y="4824720"/>
                <a:ext cx="11880" cy="20160"/>
              </a:xfrm>
              <a:custGeom>
                <a:avLst/>
                <a:gdLst/>
                <a:ahLst/>
                <a:rect l="l" t="t" r="r" b="b"/>
                <a:pathLst>
                  <a:path w="143" h="195">
                    <a:moveTo>
                      <a:pt x="0" y="0"/>
                    </a:moveTo>
                    <a:lnTo>
                      <a:pt x="26" y="23"/>
                    </a:lnTo>
                    <a:lnTo>
                      <a:pt x="67" y="37"/>
                    </a:lnTo>
                    <a:lnTo>
                      <a:pt x="143" y="18"/>
                    </a:lnTo>
                    <a:lnTo>
                      <a:pt x="114" y="85"/>
                    </a:lnTo>
                    <a:lnTo>
                      <a:pt x="61" y="103"/>
                    </a:lnTo>
                    <a:lnTo>
                      <a:pt x="33" y="195"/>
                    </a:lnTo>
                    <a:lnTo>
                      <a:pt x="6" y="140"/>
                    </a:lnTo>
                    <a:lnTo>
                      <a:pt x="6" y="112"/>
                    </a:lnTo>
                    <a:lnTo>
                      <a:pt x="33" y="85"/>
                    </a:lnTo>
                    <a:lnTo>
                      <a:pt x="15" y="41"/>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595" name=""/>
              <p:cNvSpPr/>
              <p:nvPr/>
            </p:nvSpPr>
            <p:spPr>
              <a:xfrm>
                <a:off x="4230000" y="4787280"/>
                <a:ext cx="576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596" name=""/>
              <p:cNvSpPr/>
              <p:nvPr/>
            </p:nvSpPr>
            <p:spPr>
              <a:xfrm>
                <a:off x="4231080" y="4782240"/>
                <a:ext cx="86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97" name=""/>
              <p:cNvSpPr/>
              <p:nvPr/>
            </p:nvSpPr>
            <p:spPr>
              <a:xfrm>
                <a:off x="4236480" y="4792320"/>
                <a:ext cx="7920" cy="2772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598" name=""/>
              <p:cNvSpPr/>
              <p:nvPr/>
            </p:nvSpPr>
            <p:spPr>
              <a:xfrm>
                <a:off x="4241880" y="4802760"/>
                <a:ext cx="576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99" name=""/>
              <p:cNvSpPr/>
              <p:nvPr/>
            </p:nvSpPr>
            <p:spPr>
              <a:xfrm>
                <a:off x="4272120" y="4743360"/>
                <a:ext cx="60840" cy="17640"/>
              </a:xfrm>
              <a:custGeom>
                <a:avLst/>
                <a:gdLst/>
                <a:ahLst/>
                <a:rect l="l" t="t" r="r" b="b"/>
                <a:pathLst>
                  <a:path w="743" h="165">
                    <a:moveTo>
                      <a:pt x="0" y="0"/>
                    </a:moveTo>
                    <a:lnTo>
                      <a:pt x="116" y="18"/>
                    </a:lnTo>
                    <a:lnTo>
                      <a:pt x="351" y="101"/>
                    </a:lnTo>
                    <a:lnTo>
                      <a:pt x="519" y="138"/>
                    </a:lnTo>
                    <a:lnTo>
                      <a:pt x="743" y="165"/>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00" name=""/>
              <p:cNvSpPr/>
              <p:nvPr/>
            </p:nvSpPr>
            <p:spPr>
              <a:xfrm>
                <a:off x="4284720" y="4740840"/>
                <a:ext cx="40320" cy="14400"/>
              </a:xfrm>
              <a:custGeom>
                <a:avLst/>
                <a:gdLst/>
                <a:ahLst/>
                <a:rect l="l" t="t" r="r" b="b"/>
                <a:pathLst>
                  <a:path w="491" h="134">
                    <a:moveTo>
                      <a:pt x="0" y="0"/>
                    </a:moveTo>
                    <a:lnTo>
                      <a:pt x="82" y="28"/>
                    </a:lnTo>
                    <a:lnTo>
                      <a:pt x="260" y="88"/>
                    </a:lnTo>
                    <a:lnTo>
                      <a:pt x="491" y="134"/>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01" name=""/>
              <p:cNvSpPr/>
              <p:nvPr/>
            </p:nvSpPr>
            <p:spPr>
              <a:xfrm>
                <a:off x="4176720" y="4845240"/>
                <a:ext cx="29520" cy="61560"/>
              </a:xfrm>
              <a:custGeom>
                <a:avLst/>
                <a:gdLst/>
                <a:ahLst/>
                <a:rect l="l" t="t" r="r" b="b"/>
                <a:pathLst>
                  <a:path w="365" h="579">
                    <a:moveTo>
                      <a:pt x="365" y="0"/>
                    </a:moveTo>
                    <a:lnTo>
                      <a:pt x="277" y="129"/>
                    </a:lnTo>
                    <a:lnTo>
                      <a:pt x="277" y="265"/>
                    </a:lnTo>
                    <a:lnTo>
                      <a:pt x="350" y="579"/>
                    </a:lnTo>
                    <a:lnTo>
                      <a:pt x="224" y="290"/>
                    </a:lnTo>
                    <a:lnTo>
                      <a:pt x="224" y="199"/>
                    </a:lnTo>
                    <a:lnTo>
                      <a:pt x="0" y="199"/>
                    </a:lnTo>
                    <a:lnTo>
                      <a:pt x="187" y="76"/>
                    </a:lnTo>
                    <a:lnTo>
                      <a:pt x="277" y="76"/>
                    </a:lnTo>
                    <a:lnTo>
                      <a:pt x="365"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02" name=""/>
              <p:cNvSpPr/>
              <p:nvPr/>
            </p:nvSpPr>
            <p:spPr>
              <a:xfrm>
                <a:off x="4057560" y="4884840"/>
                <a:ext cx="348480" cy="420120"/>
              </a:xfrm>
              <a:custGeom>
                <a:avLst/>
                <a:gdLst/>
                <a:ahLst/>
                <a:rect l="l" t="t" r="r" b="b"/>
                <a:pathLst>
                  <a:path w="4215" h="3969">
                    <a:moveTo>
                      <a:pt x="1158" y="0"/>
                    </a:moveTo>
                    <a:lnTo>
                      <a:pt x="897" y="255"/>
                    </a:lnTo>
                    <a:lnTo>
                      <a:pt x="743" y="466"/>
                    </a:lnTo>
                    <a:lnTo>
                      <a:pt x="743" y="706"/>
                    </a:lnTo>
                    <a:lnTo>
                      <a:pt x="920" y="591"/>
                    </a:lnTo>
                    <a:lnTo>
                      <a:pt x="920" y="756"/>
                    </a:lnTo>
                    <a:lnTo>
                      <a:pt x="1314" y="1684"/>
                    </a:lnTo>
                    <a:lnTo>
                      <a:pt x="1224" y="1582"/>
                    </a:lnTo>
                    <a:lnTo>
                      <a:pt x="1134" y="1582"/>
                    </a:lnTo>
                    <a:lnTo>
                      <a:pt x="1072" y="1610"/>
                    </a:lnTo>
                    <a:lnTo>
                      <a:pt x="1031" y="1644"/>
                    </a:lnTo>
                    <a:lnTo>
                      <a:pt x="1174" y="1960"/>
                    </a:lnTo>
                    <a:lnTo>
                      <a:pt x="1448" y="2451"/>
                    </a:lnTo>
                    <a:lnTo>
                      <a:pt x="1868" y="2890"/>
                    </a:lnTo>
                    <a:lnTo>
                      <a:pt x="2031" y="3026"/>
                    </a:lnTo>
                    <a:lnTo>
                      <a:pt x="2031" y="3116"/>
                    </a:lnTo>
                    <a:lnTo>
                      <a:pt x="1930" y="3239"/>
                    </a:lnTo>
                    <a:lnTo>
                      <a:pt x="1930" y="3380"/>
                    </a:lnTo>
                    <a:lnTo>
                      <a:pt x="2129" y="3343"/>
                    </a:lnTo>
                    <a:lnTo>
                      <a:pt x="2158" y="3295"/>
                    </a:lnTo>
                    <a:lnTo>
                      <a:pt x="2145" y="3228"/>
                    </a:lnTo>
                    <a:lnTo>
                      <a:pt x="2094" y="3191"/>
                    </a:lnTo>
                    <a:lnTo>
                      <a:pt x="2296" y="3239"/>
                    </a:lnTo>
                    <a:lnTo>
                      <a:pt x="2435" y="3228"/>
                    </a:lnTo>
                    <a:lnTo>
                      <a:pt x="2575" y="3178"/>
                    </a:lnTo>
                    <a:lnTo>
                      <a:pt x="2712" y="3065"/>
                    </a:lnTo>
                    <a:lnTo>
                      <a:pt x="2815" y="2967"/>
                    </a:lnTo>
                    <a:lnTo>
                      <a:pt x="2749" y="3076"/>
                    </a:lnTo>
                    <a:lnTo>
                      <a:pt x="2700" y="3166"/>
                    </a:lnTo>
                    <a:lnTo>
                      <a:pt x="2903" y="3191"/>
                    </a:lnTo>
                    <a:lnTo>
                      <a:pt x="3154" y="3203"/>
                    </a:lnTo>
                    <a:lnTo>
                      <a:pt x="3357" y="3154"/>
                    </a:lnTo>
                    <a:lnTo>
                      <a:pt x="3433" y="2855"/>
                    </a:lnTo>
                    <a:lnTo>
                      <a:pt x="3468" y="2855"/>
                    </a:lnTo>
                    <a:lnTo>
                      <a:pt x="3494" y="2890"/>
                    </a:lnTo>
                    <a:lnTo>
                      <a:pt x="3521" y="2991"/>
                    </a:lnTo>
                    <a:lnTo>
                      <a:pt x="3535" y="3076"/>
                    </a:lnTo>
                    <a:lnTo>
                      <a:pt x="4203" y="3039"/>
                    </a:lnTo>
                    <a:lnTo>
                      <a:pt x="4215" y="3116"/>
                    </a:lnTo>
                    <a:lnTo>
                      <a:pt x="4215" y="3178"/>
                    </a:lnTo>
                    <a:lnTo>
                      <a:pt x="4189" y="3254"/>
                    </a:lnTo>
                    <a:lnTo>
                      <a:pt x="4037" y="3265"/>
                    </a:lnTo>
                    <a:lnTo>
                      <a:pt x="3913" y="3343"/>
                    </a:lnTo>
                    <a:lnTo>
                      <a:pt x="3683" y="3390"/>
                    </a:lnTo>
                    <a:lnTo>
                      <a:pt x="3481" y="3380"/>
                    </a:lnTo>
                    <a:lnTo>
                      <a:pt x="3281" y="3441"/>
                    </a:lnTo>
                    <a:lnTo>
                      <a:pt x="3105" y="3481"/>
                    </a:lnTo>
                    <a:lnTo>
                      <a:pt x="2852" y="3492"/>
                    </a:lnTo>
                    <a:lnTo>
                      <a:pt x="2547" y="3457"/>
                    </a:lnTo>
                    <a:lnTo>
                      <a:pt x="2320" y="3481"/>
                    </a:lnTo>
                    <a:lnTo>
                      <a:pt x="2129" y="3542"/>
                    </a:lnTo>
                    <a:lnTo>
                      <a:pt x="1990" y="3620"/>
                    </a:lnTo>
                    <a:lnTo>
                      <a:pt x="1615" y="3516"/>
                    </a:lnTo>
                    <a:lnTo>
                      <a:pt x="681" y="3969"/>
                    </a:lnTo>
                    <a:lnTo>
                      <a:pt x="0" y="3969"/>
                    </a:lnTo>
                    <a:lnTo>
                      <a:pt x="176" y="1723"/>
                    </a:lnTo>
                    <a:lnTo>
                      <a:pt x="328" y="1244"/>
                    </a:lnTo>
                    <a:lnTo>
                      <a:pt x="266" y="1558"/>
                    </a:lnTo>
                    <a:lnTo>
                      <a:pt x="418" y="2059"/>
                    </a:lnTo>
                    <a:lnTo>
                      <a:pt x="418" y="2500"/>
                    </a:lnTo>
                    <a:lnTo>
                      <a:pt x="591" y="2977"/>
                    </a:lnTo>
                    <a:lnTo>
                      <a:pt x="681" y="2977"/>
                    </a:lnTo>
                    <a:lnTo>
                      <a:pt x="907" y="2488"/>
                    </a:lnTo>
                    <a:lnTo>
                      <a:pt x="602" y="1886"/>
                    </a:lnTo>
                    <a:lnTo>
                      <a:pt x="556" y="1697"/>
                    </a:lnTo>
                    <a:lnTo>
                      <a:pt x="528" y="1497"/>
                    </a:lnTo>
                    <a:lnTo>
                      <a:pt x="556" y="1281"/>
                    </a:lnTo>
                    <a:lnTo>
                      <a:pt x="681" y="780"/>
                    </a:lnTo>
                    <a:lnTo>
                      <a:pt x="618" y="729"/>
                    </a:lnTo>
                    <a:lnTo>
                      <a:pt x="577" y="665"/>
                    </a:lnTo>
                    <a:lnTo>
                      <a:pt x="567" y="618"/>
                    </a:lnTo>
                    <a:lnTo>
                      <a:pt x="441" y="905"/>
                    </a:lnTo>
                    <a:lnTo>
                      <a:pt x="540" y="591"/>
                    </a:lnTo>
                    <a:lnTo>
                      <a:pt x="591" y="517"/>
                    </a:lnTo>
                    <a:lnTo>
                      <a:pt x="769" y="317"/>
                    </a:lnTo>
                    <a:lnTo>
                      <a:pt x="943" y="139"/>
                    </a:lnTo>
                    <a:lnTo>
                      <a:pt x="11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3" name=""/>
              <p:cNvSpPr/>
              <p:nvPr/>
            </p:nvSpPr>
            <p:spPr>
              <a:xfrm>
                <a:off x="4170240" y="4937400"/>
                <a:ext cx="107640" cy="224640"/>
              </a:xfrm>
              <a:custGeom>
                <a:avLst/>
                <a:gdLst/>
                <a:ahLst/>
                <a:rect l="l" t="t" r="r" b="b"/>
                <a:pathLst>
                  <a:path w="1300" h="2125">
                    <a:moveTo>
                      <a:pt x="0" y="140"/>
                    </a:moveTo>
                    <a:lnTo>
                      <a:pt x="378" y="378"/>
                    </a:lnTo>
                    <a:lnTo>
                      <a:pt x="641" y="829"/>
                    </a:lnTo>
                    <a:lnTo>
                      <a:pt x="641" y="1020"/>
                    </a:lnTo>
                    <a:lnTo>
                      <a:pt x="984" y="1318"/>
                    </a:lnTo>
                    <a:lnTo>
                      <a:pt x="1111" y="1556"/>
                    </a:lnTo>
                    <a:lnTo>
                      <a:pt x="1083" y="967"/>
                    </a:lnTo>
                    <a:lnTo>
                      <a:pt x="1083" y="589"/>
                    </a:lnTo>
                    <a:lnTo>
                      <a:pt x="1111" y="327"/>
                    </a:lnTo>
                    <a:lnTo>
                      <a:pt x="1072" y="266"/>
                    </a:lnTo>
                    <a:lnTo>
                      <a:pt x="984" y="378"/>
                    </a:lnTo>
                    <a:lnTo>
                      <a:pt x="906" y="424"/>
                    </a:lnTo>
                    <a:lnTo>
                      <a:pt x="998" y="327"/>
                    </a:lnTo>
                    <a:lnTo>
                      <a:pt x="1072" y="165"/>
                    </a:lnTo>
                    <a:lnTo>
                      <a:pt x="1160" y="27"/>
                    </a:lnTo>
                    <a:lnTo>
                      <a:pt x="1212" y="0"/>
                    </a:lnTo>
                    <a:lnTo>
                      <a:pt x="1160" y="80"/>
                    </a:lnTo>
                    <a:lnTo>
                      <a:pt x="1224" y="304"/>
                    </a:lnTo>
                    <a:lnTo>
                      <a:pt x="1160" y="304"/>
                    </a:lnTo>
                    <a:lnTo>
                      <a:pt x="1146" y="516"/>
                    </a:lnTo>
                    <a:lnTo>
                      <a:pt x="1184" y="1120"/>
                    </a:lnTo>
                    <a:lnTo>
                      <a:pt x="1247" y="1723"/>
                    </a:lnTo>
                    <a:lnTo>
                      <a:pt x="1300" y="1910"/>
                    </a:lnTo>
                    <a:lnTo>
                      <a:pt x="1035" y="2059"/>
                    </a:lnTo>
                    <a:lnTo>
                      <a:pt x="1146" y="1961"/>
                    </a:lnTo>
                    <a:lnTo>
                      <a:pt x="1095" y="1881"/>
                    </a:lnTo>
                    <a:lnTo>
                      <a:pt x="971" y="1910"/>
                    </a:lnTo>
                    <a:lnTo>
                      <a:pt x="694" y="2099"/>
                    </a:lnTo>
                    <a:lnTo>
                      <a:pt x="606" y="2125"/>
                    </a:lnTo>
                    <a:lnTo>
                      <a:pt x="593" y="2086"/>
                    </a:lnTo>
                    <a:lnTo>
                      <a:pt x="756" y="1934"/>
                    </a:lnTo>
                    <a:lnTo>
                      <a:pt x="1095" y="1821"/>
                    </a:lnTo>
                    <a:lnTo>
                      <a:pt x="1045" y="1685"/>
                    </a:lnTo>
                    <a:lnTo>
                      <a:pt x="1045" y="1547"/>
                    </a:lnTo>
                    <a:lnTo>
                      <a:pt x="998" y="1470"/>
                    </a:lnTo>
                    <a:lnTo>
                      <a:pt x="606" y="1169"/>
                    </a:lnTo>
                    <a:lnTo>
                      <a:pt x="138" y="841"/>
                    </a:lnTo>
                    <a:lnTo>
                      <a:pt x="657" y="1154"/>
                    </a:lnTo>
                    <a:lnTo>
                      <a:pt x="390" y="46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4" name=""/>
              <p:cNvSpPr/>
              <p:nvPr/>
            </p:nvSpPr>
            <p:spPr>
              <a:xfrm>
                <a:off x="4235760" y="5160240"/>
                <a:ext cx="17280" cy="49680"/>
              </a:xfrm>
              <a:custGeom>
                <a:avLst/>
                <a:gdLst/>
                <a:ahLst/>
                <a:rect l="l" t="t" r="r" b="b"/>
                <a:pathLst>
                  <a:path w="203" h="466">
                    <a:moveTo>
                      <a:pt x="203" y="0"/>
                    </a:moveTo>
                    <a:lnTo>
                      <a:pt x="111" y="51"/>
                    </a:lnTo>
                    <a:lnTo>
                      <a:pt x="0" y="403"/>
                    </a:lnTo>
                    <a:lnTo>
                      <a:pt x="99" y="466"/>
                    </a:lnTo>
                    <a:lnTo>
                      <a:pt x="203" y="378"/>
                    </a:lnTo>
                    <a:lnTo>
                      <a:pt x="203" y="136"/>
                    </a:lnTo>
                    <a:lnTo>
                      <a:pt x="152" y="136"/>
                    </a:lnTo>
                    <a:lnTo>
                      <a:pt x="152" y="76"/>
                    </a:lnTo>
                    <a:lnTo>
                      <a:pt x="203"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5" name=""/>
              <p:cNvSpPr/>
              <p:nvPr/>
            </p:nvSpPr>
            <p:spPr>
              <a:xfrm>
                <a:off x="4253760" y="5147640"/>
                <a:ext cx="41760" cy="63360"/>
              </a:xfrm>
              <a:custGeom>
                <a:avLst/>
                <a:gdLst/>
                <a:ahLst/>
                <a:rect l="l" t="t" r="r" b="b"/>
                <a:pathLst>
                  <a:path w="506" h="599">
                    <a:moveTo>
                      <a:pt x="138" y="162"/>
                    </a:moveTo>
                    <a:lnTo>
                      <a:pt x="317" y="0"/>
                    </a:lnTo>
                    <a:lnTo>
                      <a:pt x="506" y="72"/>
                    </a:lnTo>
                    <a:lnTo>
                      <a:pt x="506" y="173"/>
                    </a:lnTo>
                    <a:lnTo>
                      <a:pt x="391" y="325"/>
                    </a:lnTo>
                    <a:lnTo>
                      <a:pt x="0" y="599"/>
                    </a:lnTo>
                    <a:lnTo>
                      <a:pt x="279" y="364"/>
                    </a:lnTo>
                    <a:lnTo>
                      <a:pt x="317" y="274"/>
                    </a:lnTo>
                    <a:lnTo>
                      <a:pt x="329" y="198"/>
                    </a:lnTo>
                    <a:lnTo>
                      <a:pt x="317" y="138"/>
                    </a:lnTo>
                    <a:lnTo>
                      <a:pt x="279" y="112"/>
                    </a:lnTo>
                    <a:lnTo>
                      <a:pt x="230" y="112"/>
                    </a:lnTo>
                    <a:lnTo>
                      <a:pt x="138" y="16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06" name=""/>
              <p:cNvSpPr/>
              <p:nvPr/>
            </p:nvSpPr>
            <p:spPr>
              <a:xfrm>
                <a:off x="4302720" y="5124960"/>
                <a:ext cx="257760" cy="105120"/>
              </a:xfrm>
              <a:custGeom>
                <a:avLst/>
                <a:gdLst/>
                <a:ahLst/>
                <a:rect l="l" t="t" r="r" b="b"/>
                <a:pathLst>
                  <a:path w="3106" h="992">
                    <a:moveTo>
                      <a:pt x="0" y="215"/>
                    </a:moveTo>
                    <a:lnTo>
                      <a:pt x="430" y="377"/>
                    </a:lnTo>
                    <a:lnTo>
                      <a:pt x="540" y="268"/>
                    </a:lnTo>
                    <a:lnTo>
                      <a:pt x="770" y="268"/>
                    </a:lnTo>
                    <a:lnTo>
                      <a:pt x="896" y="364"/>
                    </a:lnTo>
                    <a:lnTo>
                      <a:pt x="1010" y="327"/>
                    </a:lnTo>
                    <a:lnTo>
                      <a:pt x="1603" y="314"/>
                    </a:lnTo>
                    <a:lnTo>
                      <a:pt x="2017" y="226"/>
                    </a:lnTo>
                    <a:lnTo>
                      <a:pt x="2589" y="0"/>
                    </a:lnTo>
                    <a:lnTo>
                      <a:pt x="2663" y="49"/>
                    </a:lnTo>
                    <a:lnTo>
                      <a:pt x="2676" y="100"/>
                    </a:lnTo>
                    <a:lnTo>
                      <a:pt x="2614" y="162"/>
                    </a:lnTo>
                    <a:lnTo>
                      <a:pt x="2689" y="238"/>
                    </a:lnTo>
                    <a:lnTo>
                      <a:pt x="2713" y="302"/>
                    </a:lnTo>
                    <a:lnTo>
                      <a:pt x="2689" y="377"/>
                    </a:lnTo>
                    <a:lnTo>
                      <a:pt x="3091" y="413"/>
                    </a:lnTo>
                    <a:lnTo>
                      <a:pt x="3106" y="439"/>
                    </a:lnTo>
                    <a:lnTo>
                      <a:pt x="2689" y="461"/>
                    </a:lnTo>
                    <a:lnTo>
                      <a:pt x="2689" y="500"/>
                    </a:lnTo>
                    <a:lnTo>
                      <a:pt x="2713" y="540"/>
                    </a:lnTo>
                    <a:lnTo>
                      <a:pt x="3078" y="553"/>
                    </a:lnTo>
                    <a:lnTo>
                      <a:pt x="3043" y="602"/>
                    </a:lnTo>
                    <a:lnTo>
                      <a:pt x="2737" y="665"/>
                    </a:lnTo>
                    <a:lnTo>
                      <a:pt x="2737" y="715"/>
                    </a:lnTo>
                    <a:lnTo>
                      <a:pt x="2953" y="715"/>
                    </a:lnTo>
                    <a:lnTo>
                      <a:pt x="2977" y="680"/>
                    </a:lnTo>
                    <a:lnTo>
                      <a:pt x="2965" y="740"/>
                    </a:lnTo>
                    <a:lnTo>
                      <a:pt x="2589" y="791"/>
                    </a:lnTo>
                    <a:lnTo>
                      <a:pt x="2160" y="814"/>
                    </a:lnTo>
                    <a:lnTo>
                      <a:pt x="1992" y="814"/>
                    </a:lnTo>
                    <a:lnTo>
                      <a:pt x="1753" y="854"/>
                    </a:lnTo>
                    <a:lnTo>
                      <a:pt x="1676" y="992"/>
                    </a:lnTo>
                    <a:lnTo>
                      <a:pt x="1314" y="992"/>
                    </a:lnTo>
                    <a:lnTo>
                      <a:pt x="1641" y="953"/>
                    </a:lnTo>
                    <a:lnTo>
                      <a:pt x="1692" y="867"/>
                    </a:lnTo>
                    <a:lnTo>
                      <a:pt x="1715" y="752"/>
                    </a:lnTo>
                    <a:lnTo>
                      <a:pt x="1715" y="641"/>
                    </a:lnTo>
                    <a:lnTo>
                      <a:pt x="1676" y="489"/>
                    </a:lnTo>
                    <a:lnTo>
                      <a:pt x="1630" y="364"/>
                    </a:lnTo>
                    <a:lnTo>
                      <a:pt x="1010" y="377"/>
                    </a:lnTo>
                    <a:lnTo>
                      <a:pt x="881" y="401"/>
                    </a:lnTo>
                    <a:lnTo>
                      <a:pt x="669" y="314"/>
                    </a:lnTo>
                    <a:lnTo>
                      <a:pt x="468" y="473"/>
                    </a:lnTo>
                    <a:lnTo>
                      <a:pt x="415" y="401"/>
                    </a:lnTo>
                    <a:lnTo>
                      <a:pt x="0"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7" name=""/>
              <p:cNvSpPr/>
              <p:nvPr/>
            </p:nvSpPr>
            <p:spPr>
              <a:xfrm>
                <a:off x="4374360" y="5178240"/>
                <a:ext cx="29520" cy="15120"/>
              </a:xfrm>
              <a:custGeom>
                <a:avLst/>
                <a:gdLst/>
                <a:ahLst/>
                <a:rect l="l" t="t" r="r" b="b"/>
                <a:pathLst>
                  <a:path w="366" h="150">
                    <a:moveTo>
                      <a:pt x="366" y="114"/>
                    </a:moveTo>
                    <a:lnTo>
                      <a:pt x="200" y="0"/>
                    </a:lnTo>
                    <a:lnTo>
                      <a:pt x="0" y="40"/>
                    </a:lnTo>
                    <a:lnTo>
                      <a:pt x="38" y="93"/>
                    </a:lnTo>
                    <a:lnTo>
                      <a:pt x="302" y="150"/>
                    </a:lnTo>
                    <a:lnTo>
                      <a:pt x="366" y="11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608" name=""/>
              <p:cNvSpPr/>
              <p:nvPr/>
            </p:nvSpPr>
            <p:spPr>
              <a:xfrm>
                <a:off x="4272840" y="4914360"/>
                <a:ext cx="25560" cy="231120"/>
              </a:xfrm>
              <a:custGeom>
                <a:avLst/>
                <a:gdLst/>
                <a:ahLst/>
                <a:rect l="l" t="t" r="r" b="b"/>
                <a:pathLst>
                  <a:path w="315" h="2186">
                    <a:moveTo>
                      <a:pt x="175" y="2133"/>
                    </a:moveTo>
                    <a:lnTo>
                      <a:pt x="214" y="2085"/>
                    </a:lnTo>
                    <a:lnTo>
                      <a:pt x="214" y="1958"/>
                    </a:lnTo>
                    <a:lnTo>
                      <a:pt x="124" y="1633"/>
                    </a:lnTo>
                    <a:lnTo>
                      <a:pt x="62" y="1180"/>
                    </a:lnTo>
                    <a:lnTo>
                      <a:pt x="49" y="796"/>
                    </a:lnTo>
                    <a:lnTo>
                      <a:pt x="21" y="540"/>
                    </a:lnTo>
                    <a:lnTo>
                      <a:pt x="49" y="466"/>
                    </a:lnTo>
                    <a:lnTo>
                      <a:pt x="49" y="325"/>
                    </a:lnTo>
                    <a:lnTo>
                      <a:pt x="0" y="213"/>
                    </a:lnTo>
                    <a:lnTo>
                      <a:pt x="73" y="277"/>
                    </a:lnTo>
                    <a:lnTo>
                      <a:pt x="99" y="213"/>
                    </a:lnTo>
                    <a:lnTo>
                      <a:pt x="111" y="127"/>
                    </a:lnTo>
                    <a:lnTo>
                      <a:pt x="111" y="0"/>
                    </a:lnTo>
                    <a:lnTo>
                      <a:pt x="124" y="104"/>
                    </a:lnTo>
                    <a:lnTo>
                      <a:pt x="136" y="213"/>
                    </a:lnTo>
                    <a:lnTo>
                      <a:pt x="111" y="341"/>
                    </a:lnTo>
                    <a:lnTo>
                      <a:pt x="73" y="466"/>
                    </a:lnTo>
                    <a:lnTo>
                      <a:pt x="49" y="551"/>
                    </a:lnTo>
                    <a:lnTo>
                      <a:pt x="111" y="1292"/>
                    </a:lnTo>
                    <a:lnTo>
                      <a:pt x="185" y="1732"/>
                    </a:lnTo>
                    <a:lnTo>
                      <a:pt x="262" y="1958"/>
                    </a:lnTo>
                    <a:lnTo>
                      <a:pt x="315" y="2186"/>
                    </a:lnTo>
                    <a:lnTo>
                      <a:pt x="175"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9" name=""/>
              <p:cNvSpPr/>
              <p:nvPr/>
            </p:nvSpPr>
            <p:spPr>
              <a:xfrm>
                <a:off x="4299480" y="4897440"/>
                <a:ext cx="143640" cy="259920"/>
              </a:xfrm>
              <a:custGeom>
                <a:avLst/>
                <a:gdLst/>
                <a:ahLst/>
                <a:rect l="l" t="t" r="r" b="b"/>
                <a:pathLst>
                  <a:path w="1731" h="2462">
                    <a:moveTo>
                      <a:pt x="152" y="0"/>
                    </a:moveTo>
                    <a:lnTo>
                      <a:pt x="379" y="203"/>
                    </a:lnTo>
                    <a:lnTo>
                      <a:pt x="440" y="376"/>
                    </a:lnTo>
                    <a:lnTo>
                      <a:pt x="480" y="541"/>
                    </a:lnTo>
                    <a:lnTo>
                      <a:pt x="480" y="800"/>
                    </a:lnTo>
                    <a:lnTo>
                      <a:pt x="368" y="1646"/>
                    </a:lnTo>
                    <a:lnTo>
                      <a:pt x="267" y="1747"/>
                    </a:lnTo>
                    <a:lnTo>
                      <a:pt x="0" y="1784"/>
                    </a:lnTo>
                    <a:lnTo>
                      <a:pt x="368" y="1772"/>
                    </a:lnTo>
                    <a:lnTo>
                      <a:pt x="254" y="2450"/>
                    </a:lnTo>
                    <a:lnTo>
                      <a:pt x="278" y="2462"/>
                    </a:lnTo>
                    <a:lnTo>
                      <a:pt x="406" y="1881"/>
                    </a:lnTo>
                    <a:lnTo>
                      <a:pt x="883" y="2273"/>
                    </a:lnTo>
                    <a:lnTo>
                      <a:pt x="996" y="2273"/>
                    </a:lnTo>
                    <a:lnTo>
                      <a:pt x="1174" y="2185"/>
                    </a:lnTo>
                    <a:lnTo>
                      <a:pt x="1363" y="2035"/>
                    </a:lnTo>
                    <a:lnTo>
                      <a:pt x="1500" y="1895"/>
                    </a:lnTo>
                    <a:lnTo>
                      <a:pt x="1603" y="1759"/>
                    </a:lnTo>
                    <a:lnTo>
                      <a:pt x="1462" y="1881"/>
                    </a:lnTo>
                    <a:lnTo>
                      <a:pt x="1363" y="1809"/>
                    </a:lnTo>
                    <a:lnTo>
                      <a:pt x="1480" y="1734"/>
                    </a:lnTo>
                    <a:lnTo>
                      <a:pt x="1238" y="1809"/>
                    </a:lnTo>
                    <a:lnTo>
                      <a:pt x="950" y="1846"/>
                    </a:lnTo>
                    <a:lnTo>
                      <a:pt x="669" y="1846"/>
                    </a:lnTo>
                    <a:lnTo>
                      <a:pt x="555" y="1846"/>
                    </a:lnTo>
                    <a:lnTo>
                      <a:pt x="469" y="1784"/>
                    </a:lnTo>
                    <a:lnTo>
                      <a:pt x="647" y="1708"/>
                    </a:lnTo>
                    <a:lnTo>
                      <a:pt x="1012" y="1708"/>
                    </a:lnTo>
                    <a:lnTo>
                      <a:pt x="1300" y="1545"/>
                    </a:lnTo>
                    <a:lnTo>
                      <a:pt x="1012" y="1631"/>
                    </a:lnTo>
                    <a:lnTo>
                      <a:pt x="647" y="1631"/>
                    </a:lnTo>
                    <a:lnTo>
                      <a:pt x="440" y="1685"/>
                    </a:lnTo>
                    <a:lnTo>
                      <a:pt x="440" y="1496"/>
                    </a:lnTo>
                    <a:lnTo>
                      <a:pt x="987" y="1409"/>
                    </a:lnTo>
                    <a:lnTo>
                      <a:pt x="781" y="892"/>
                    </a:lnTo>
                    <a:lnTo>
                      <a:pt x="555" y="592"/>
                    </a:lnTo>
                    <a:lnTo>
                      <a:pt x="555" y="415"/>
                    </a:lnTo>
                    <a:lnTo>
                      <a:pt x="1570" y="1444"/>
                    </a:lnTo>
                    <a:lnTo>
                      <a:pt x="1731" y="1519"/>
                    </a:lnTo>
                    <a:lnTo>
                      <a:pt x="1642" y="1332"/>
                    </a:lnTo>
                    <a:lnTo>
                      <a:pt x="733" y="477"/>
                    </a:lnTo>
                    <a:lnTo>
                      <a:pt x="620" y="267"/>
                    </a:lnTo>
                    <a:lnTo>
                      <a:pt x="304" y="51"/>
                    </a:lnTo>
                    <a:lnTo>
                      <a:pt x="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0" name=""/>
              <p:cNvSpPr/>
              <p:nvPr/>
            </p:nvSpPr>
            <p:spPr>
              <a:xfrm>
                <a:off x="4385520" y="5097600"/>
                <a:ext cx="64800" cy="61560"/>
              </a:xfrm>
              <a:custGeom>
                <a:avLst/>
                <a:gdLst/>
                <a:ahLst/>
                <a:rect l="l" t="t" r="r" b="b"/>
                <a:pathLst>
                  <a:path w="783" h="580">
                    <a:moveTo>
                      <a:pt x="0" y="442"/>
                    </a:moveTo>
                    <a:lnTo>
                      <a:pt x="317" y="378"/>
                    </a:lnTo>
                    <a:lnTo>
                      <a:pt x="670" y="580"/>
                    </a:lnTo>
                    <a:lnTo>
                      <a:pt x="783" y="540"/>
                    </a:lnTo>
                    <a:lnTo>
                      <a:pt x="504" y="378"/>
                    </a:lnTo>
                    <a:lnTo>
                      <a:pt x="619" y="166"/>
                    </a:lnTo>
                    <a:lnTo>
                      <a:pt x="619" y="0"/>
                    </a:lnTo>
                    <a:lnTo>
                      <a:pt x="402" y="265"/>
                    </a:lnTo>
                    <a:lnTo>
                      <a:pt x="216" y="362"/>
                    </a:lnTo>
                    <a:lnTo>
                      <a:pt x="0" y="44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11" name=""/>
              <p:cNvSpPr/>
              <p:nvPr/>
            </p:nvSpPr>
            <p:spPr>
              <a:xfrm>
                <a:off x="4432680" y="5054400"/>
                <a:ext cx="81360" cy="74520"/>
              </a:xfrm>
              <a:custGeom>
                <a:avLst/>
                <a:gdLst/>
                <a:ahLst/>
                <a:rect l="l" t="t" r="r" b="b"/>
                <a:pathLst>
                  <a:path w="984" h="703">
                    <a:moveTo>
                      <a:pt x="189" y="314"/>
                    </a:moveTo>
                    <a:lnTo>
                      <a:pt x="367" y="212"/>
                    </a:lnTo>
                    <a:lnTo>
                      <a:pt x="744" y="364"/>
                    </a:lnTo>
                    <a:lnTo>
                      <a:pt x="744" y="500"/>
                    </a:lnTo>
                    <a:lnTo>
                      <a:pt x="442" y="579"/>
                    </a:lnTo>
                    <a:lnTo>
                      <a:pt x="809" y="567"/>
                    </a:lnTo>
                    <a:lnTo>
                      <a:pt x="984" y="703"/>
                    </a:lnTo>
                    <a:lnTo>
                      <a:pt x="870" y="450"/>
                    </a:lnTo>
                    <a:lnTo>
                      <a:pt x="707" y="265"/>
                    </a:lnTo>
                    <a:lnTo>
                      <a:pt x="343" y="164"/>
                    </a:lnTo>
                    <a:lnTo>
                      <a:pt x="202" y="0"/>
                    </a:lnTo>
                    <a:lnTo>
                      <a:pt x="0" y="164"/>
                    </a:lnTo>
                    <a:lnTo>
                      <a:pt x="178" y="63"/>
                    </a:lnTo>
                    <a:lnTo>
                      <a:pt x="239" y="149"/>
                    </a:lnTo>
                    <a:lnTo>
                      <a:pt x="189" y="3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12" name=""/>
              <p:cNvSpPr/>
              <p:nvPr/>
            </p:nvSpPr>
            <p:spPr>
              <a:xfrm>
                <a:off x="4519440" y="5123160"/>
                <a:ext cx="48240" cy="43920"/>
              </a:xfrm>
              <a:custGeom>
                <a:avLst/>
                <a:gdLst/>
                <a:ahLst/>
                <a:rect l="l" t="t" r="r" b="b"/>
                <a:pathLst>
                  <a:path w="581" h="415">
                    <a:moveTo>
                      <a:pt x="22" y="0"/>
                    </a:moveTo>
                    <a:lnTo>
                      <a:pt x="464" y="37"/>
                    </a:lnTo>
                    <a:lnTo>
                      <a:pt x="581" y="240"/>
                    </a:lnTo>
                    <a:lnTo>
                      <a:pt x="581" y="288"/>
                    </a:lnTo>
                    <a:lnTo>
                      <a:pt x="492" y="316"/>
                    </a:lnTo>
                    <a:lnTo>
                      <a:pt x="363" y="240"/>
                    </a:lnTo>
                    <a:lnTo>
                      <a:pt x="187" y="240"/>
                    </a:lnTo>
                    <a:lnTo>
                      <a:pt x="477" y="351"/>
                    </a:lnTo>
                    <a:lnTo>
                      <a:pt x="492" y="415"/>
                    </a:lnTo>
                    <a:lnTo>
                      <a:pt x="453" y="367"/>
                    </a:lnTo>
                    <a:lnTo>
                      <a:pt x="22" y="229"/>
                    </a:lnTo>
                    <a:lnTo>
                      <a:pt x="0" y="192"/>
                    </a:lnTo>
                    <a:lnTo>
                      <a:pt x="464" y="176"/>
                    </a:lnTo>
                    <a:lnTo>
                      <a:pt x="453" y="75"/>
                    </a:lnTo>
                    <a:lnTo>
                      <a:pt x="22"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13" name=""/>
              <p:cNvSpPr/>
              <p:nvPr/>
            </p:nvSpPr>
            <p:spPr>
              <a:xfrm>
                <a:off x="4543200" y="5162040"/>
                <a:ext cx="19080" cy="37080"/>
              </a:xfrm>
              <a:custGeom>
                <a:avLst/>
                <a:gdLst/>
                <a:ahLst/>
                <a:rect l="l" t="t" r="r" b="b"/>
                <a:pathLst>
                  <a:path w="228" h="352">
                    <a:moveTo>
                      <a:pt x="186" y="99"/>
                    </a:moveTo>
                    <a:lnTo>
                      <a:pt x="186" y="163"/>
                    </a:lnTo>
                    <a:lnTo>
                      <a:pt x="96" y="210"/>
                    </a:lnTo>
                    <a:lnTo>
                      <a:pt x="0" y="275"/>
                    </a:lnTo>
                    <a:lnTo>
                      <a:pt x="72" y="352"/>
                    </a:lnTo>
                    <a:lnTo>
                      <a:pt x="125" y="249"/>
                    </a:lnTo>
                    <a:lnTo>
                      <a:pt x="228" y="187"/>
                    </a:lnTo>
                    <a:lnTo>
                      <a:pt x="228" y="74"/>
                    </a:lnTo>
                    <a:lnTo>
                      <a:pt x="186" y="0"/>
                    </a:lnTo>
                    <a:lnTo>
                      <a:pt x="186" y="9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614" name=""/>
              <p:cNvSpPr/>
              <p:nvPr/>
            </p:nvSpPr>
            <p:spPr>
              <a:xfrm>
                <a:off x="4549320" y="5145840"/>
                <a:ext cx="30240" cy="55080"/>
              </a:xfrm>
              <a:custGeom>
                <a:avLst/>
                <a:gdLst/>
                <a:ahLst/>
                <a:rect l="l" t="t" r="r" b="b"/>
                <a:pathLst>
                  <a:path w="369" h="514">
                    <a:moveTo>
                      <a:pt x="129" y="71"/>
                    </a:moveTo>
                    <a:lnTo>
                      <a:pt x="325" y="396"/>
                    </a:lnTo>
                    <a:lnTo>
                      <a:pt x="369" y="514"/>
                    </a:lnTo>
                    <a:lnTo>
                      <a:pt x="269" y="429"/>
                    </a:lnTo>
                    <a:lnTo>
                      <a:pt x="0" y="0"/>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615" name=""/>
              <p:cNvSpPr/>
              <p:nvPr/>
            </p:nvSpPr>
            <p:spPr>
              <a:xfrm>
                <a:off x="4513680" y="5067000"/>
                <a:ext cx="33480" cy="60840"/>
              </a:xfrm>
              <a:custGeom>
                <a:avLst/>
                <a:gdLst/>
                <a:ahLst/>
                <a:rect l="l" t="t" r="r" b="b"/>
                <a:pathLst>
                  <a:path w="413" h="576">
                    <a:moveTo>
                      <a:pt x="319" y="558"/>
                    </a:moveTo>
                    <a:lnTo>
                      <a:pt x="0" y="46"/>
                    </a:lnTo>
                    <a:lnTo>
                      <a:pt x="0" y="23"/>
                    </a:lnTo>
                    <a:lnTo>
                      <a:pt x="0" y="14"/>
                    </a:lnTo>
                    <a:lnTo>
                      <a:pt x="22" y="0"/>
                    </a:lnTo>
                    <a:lnTo>
                      <a:pt x="37" y="0"/>
                    </a:lnTo>
                    <a:lnTo>
                      <a:pt x="59" y="5"/>
                    </a:lnTo>
                    <a:lnTo>
                      <a:pt x="413" y="576"/>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16" name=""/>
              <p:cNvSpPr/>
              <p:nvPr/>
            </p:nvSpPr>
            <p:spPr>
              <a:xfrm>
                <a:off x="4461120" y="5129640"/>
                <a:ext cx="39600" cy="26280"/>
              </a:xfrm>
              <a:custGeom>
                <a:avLst/>
                <a:gdLst/>
                <a:ahLst/>
                <a:rect l="l" t="t" r="r" b="b"/>
                <a:pathLst>
                  <a:path w="477" h="244">
                    <a:moveTo>
                      <a:pt x="67" y="181"/>
                    </a:moveTo>
                    <a:lnTo>
                      <a:pt x="99" y="82"/>
                    </a:lnTo>
                    <a:lnTo>
                      <a:pt x="180" y="34"/>
                    </a:lnTo>
                    <a:lnTo>
                      <a:pt x="279" y="34"/>
                    </a:lnTo>
                    <a:lnTo>
                      <a:pt x="427" y="62"/>
                    </a:lnTo>
                    <a:lnTo>
                      <a:pt x="477" y="34"/>
                    </a:lnTo>
                    <a:lnTo>
                      <a:pt x="310" y="0"/>
                    </a:lnTo>
                    <a:lnTo>
                      <a:pt x="198" y="0"/>
                    </a:lnTo>
                    <a:lnTo>
                      <a:pt x="99" y="34"/>
                    </a:lnTo>
                    <a:lnTo>
                      <a:pt x="51" y="99"/>
                    </a:lnTo>
                    <a:lnTo>
                      <a:pt x="0" y="244"/>
                    </a:lnTo>
                    <a:lnTo>
                      <a:pt x="67" y="18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17" name=""/>
              <p:cNvSpPr/>
              <p:nvPr/>
            </p:nvSpPr>
            <p:spPr>
              <a:xfrm>
                <a:off x="4430880" y="4628880"/>
                <a:ext cx="133560" cy="209160"/>
              </a:xfrm>
              <a:custGeom>
                <a:avLst/>
                <a:gdLst/>
                <a:ahLst/>
                <a:rect l="l" t="t" r="r" b="b"/>
                <a:pathLst>
                  <a:path w="1617" h="1969">
                    <a:moveTo>
                      <a:pt x="1578" y="822"/>
                    </a:moveTo>
                    <a:lnTo>
                      <a:pt x="1615" y="694"/>
                    </a:lnTo>
                    <a:lnTo>
                      <a:pt x="1617" y="512"/>
                    </a:lnTo>
                    <a:lnTo>
                      <a:pt x="1573" y="350"/>
                    </a:lnTo>
                    <a:lnTo>
                      <a:pt x="1506" y="233"/>
                    </a:lnTo>
                    <a:lnTo>
                      <a:pt x="1413" y="123"/>
                    </a:lnTo>
                    <a:lnTo>
                      <a:pt x="1275" y="48"/>
                    </a:lnTo>
                    <a:lnTo>
                      <a:pt x="980" y="0"/>
                    </a:lnTo>
                    <a:lnTo>
                      <a:pt x="710" y="73"/>
                    </a:lnTo>
                    <a:lnTo>
                      <a:pt x="565" y="198"/>
                    </a:lnTo>
                    <a:lnTo>
                      <a:pt x="439" y="417"/>
                    </a:lnTo>
                    <a:lnTo>
                      <a:pt x="404" y="631"/>
                    </a:lnTo>
                    <a:lnTo>
                      <a:pt x="351" y="818"/>
                    </a:lnTo>
                    <a:lnTo>
                      <a:pt x="356" y="910"/>
                    </a:lnTo>
                    <a:lnTo>
                      <a:pt x="404" y="1026"/>
                    </a:lnTo>
                    <a:lnTo>
                      <a:pt x="393" y="1095"/>
                    </a:lnTo>
                    <a:lnTo>
                      <a:pt x="268" y="1185"/>
                    </a:lnTo>
                    <a:lnTo>
                      <a:pt x="171" y="1270"/>
                    </a:lnTo>
                    <a:lnTo>
                      <a:pt x="106" y="1411"/>
                    </a:lnTo>
                    <a:lnTo>
                      <a:pt x="106" y="1484"/>
                    </a:lnTo>
                    <a:lnTo>
                      <a:pt x="116" y="1554"/>
                    </a:lnTo>
                    <a:lnTo>
                      <a:pt x="130" y="1597"/>
                    </a:lnTo>
                    <a:lnTo>
                      <a:pt x="112" y="1653"/>
                    </a:lnTo>
                    <a:lnTo>
                      <a:pt x="0" y="1754"/>
                    </a:lnTo>
                    <a:lnTo>
                      <a:pt x="160" y="1712"/>
                    </a:lnTo>
                    <a:lnTo>
                      <a:pt x="347" y="1657"/>
                    </a:lnTo>
                    <a:lnTo>
                      <a:pt x="415" y="1861"/>
                    </a:lnTo>
                    <a:lnTo>
                      <a:pt x="479" y="1969"/>
                    </a:lnTo>
                    <a:lnTo>
                      <a:pt x="450" y="1872"/>
                    </a:lnTo>
                    <a:lnTo>
                      <a:pt x="450" y="1800"/>
                    </a:lnTo>
                    <a:lnTo>
                      <a:pt x="468" y="1758"/>
                    </a:lnTo>
                    <a:lnTo>
                      <a:pt x="505" y="1754"/>
                    </a:lnTo>
                    <a:lnTo>
                      <a:pt x="565" y="1769"/>
                    </a:lnTo>
                    <a:lnTo>
                      <a:pt x="628" y="1826"/>
                    </a:lnTo>
                    <a:lnTo>
                      <a:pt x="685" y="1904"/>
                    </a:lnTo>
                    <a:lnTo>
                      <a:pt x="639" y="1754"/>
                    </a:lnTo>
                    <a:lnTo>
                      <a:pt x="618" y="1641"/>
                    </a:lnTo>
                    <a:lnTo>
                      <a:pt x="604" y="1507"/>
                    </a:lnTo>
                    <a:lnTo>
                      <a:pt x="611" y="1411"/>
                    </a:lnTo>
                    <a:lnTo>
                      <a:pt x="674" y="1507"/>
                    </a:lnTo>
                    <a:lnTo>
                      <a:pt x="765" y="1593"/>
                    </a:lnTo>
                    <a:lnTo>
                      <a:pt x="870" y="1666"/>
                    </a:lnTo>
                    <a:lnTo>
                      <a:pt x="980" y="1703"/>
                    </a:lnTo>
                    <a:lnTo>
                      <a:pt x="888" y="1666"/>
                    </a:lnTo>
                    <a:lnTo>
                      <a:pt x="802" y="1613"/>
                    </a:lnTo>
                    <a:lnTo>
                      <a:pt x="717" y="1533"/>
                    </a:lnTo>
                    <a:lnTo>
                      <a:pt x="671" y="1466"/>
                    </a:lnTo>
                    <a:lnTo>
                      <a:pt x="632" y="1399"/>
                    </a:lnTo>
                    <a:lnTo>
                      <a:pt x="618" y="1339"/>
                    </a:lnTo>
                    <a:lnTo>
                      <a:pt x="611" y="1261"/>
                    </a:lnTo>
                    <a:lnTo>
                      <a:pt x="598" y="1180"/>
                    </a:lnTo>
                    <a:lnTo>
                      <a:pt x="591" y="1042"/>
                    </a:lnTo>
                    <a:lnTo>
                      <a:pt x="584" y="1237"/>
                    </a:lnTo>
                    <a:lnTo>
                      <a:pt x="569" y="1261"/>
                    </a:lnTo>
                    <a:lnTo>
                      <a:pt x="538" y="1277"/>
                    </a:lnTo>
                    <a:lnTo>
                      <a:pt x="499" y="1261"/>
                    </a:lnTo>
                    <a:lnTo>
                      <a:pt x="479" y="1217"/>
                    </a:lnTo>
                    <a:lnTo>
                      <a:pt x="479" y="1167"/>
                    </a:lnTo>
                    <a:lnTo>
                      <a:pt x="494" y="1114"/>
                    </a:lnTo>
                    <a:lnTo>
                      <a:pt x="523" y="1072"/>
                    </a:lnTo>
                    <a:lnTo>
                      <a:pt x="487" y="1092"/>
                    </a:lnTo>
                    <a:lnTo>
                      <a:pt x="429" y="963"/>
                    </a:lnTo>
                    <a:lnTo>
                      <a:pt x="411" y="910"/>
                    </a:lnTo>
                    <a:lnTo>
                      <a:pt x="404" y="853"/>
                    </a:lnTo>
                    <a:lnTo>
                      <a:pt x="411" y="804"/>
                    </a:lnTo>
                    <a:lnTo>
                      <a:pt x="436" y="776"/>
                    </a:lnTo>
                    <a:lnTo>
                      <a:pt x="461" y="751"/>
                    </a:lnTo>
                    <a:lnTo>
                      <a:pt x="487" y="751"/>
                    </a:lnTo>
                    <a:lnTo>
                      <a:pt x="514" y="767"/>
                    </a:lnTo>
                    <a:lnTo>
                      <a:pt x="538" y="804"/>
                    </a:lnTo>
                    <a:lnTo>
                      <a:pt x="565" y="890"/>
                    </a:lnTo>
                    <a:lnTo>
                      <a:pt x="574" y="782"/>
                    </a:lnTo>
                    <a:lnTo>
                      <a:pt x="622" y="687"/>
                    </a:lnTo>
                    <a:lnTo>
                      <a:pt x="697" y="549"/>
                    </a:lnTo>
                    <a:lnTo>
                      <a:pt x="741" y="435"/>
                    </a:lnTo>
                    <a:lnTo>
                      <a:pt x="798" y="354"/>
                    </a:lnTo>
                    <a:lnTo>
                      <a:pt x="888" y="304"/>
                    </a:lnTo>
                    <a:lnTo>
                      <a:pt x="1038" y="286"/>
                    </a:lnTo>
                    <a:lnTo>
                      <a:pt x="1195" y="304"/>
                    </a:lnTo>
                    <a:lnTo>
                      <a:pt x="1393" y="343"/>
                    </a:lnTo>
                    <a:lnTo>
                      <a:pt x="1470" y="406"/>
                    </a:lnTo>
                    <a:lnTo>
                      <a:pt x="1520" y="519"/>
                    </a:lnTo>
                    <a:lnTo>
                      <a:pt x="1549" y="641"/>
                    </a:lnTo>
                    <a:lnTo>
                      <a:pt x="1569" y="883"/>
                    </a:lnTo>
                    <a:lnTo>
                      <a:pt x="1578" y="8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8" name=""/>
              <p:cNvSpPr/>
              <p:nvPr/>
            </p:nvSpPr>
            <p:spPr>
              <a:xfrm>
                <a:off x="4492800" y="4733280"/>
                <a:ext cx="67320" cy="124560"/>
              </a:xfrm>
              <a:custGeom>
                <a:avLst/>
                <a:gdLst/>
                <a:ahLst/>
                <a:rect l="l" t="t" r="r" b="b"/>
                <a:pathLst>
                  <a:path w="817" h="1173">
                    <a:moveTo>
                      <a:pt x="817" y="0"/>
                    </a:moveTo>
                    <a:lnTo>
                      <a:pt x="786" y="103"/>
                    </a:lnTo>
                    <a:lnTo>
                      <a:pt x="718" y="359"/>
                    </a:lnTo>
                    <a:lnTo>
                      <a:pt x="634" y="514"/>
                    </a:lnTo>
                    <a:lnTo>
                      <a:pt x="569" y="608"/>
                    </a:lnTo>
                    <a:lnTo>
                      <a:pt x="481" y="703"/>
                    </a:lnTo>
                    <a:lnTo>
                      <a:pt x="417" y="723"/>
                    </a:lnTo>
                    <a:lnTo>
                      <a:pt x="305" y="732"/>
                    </a:lnTo>
                    <a:lnTo>
                      <a:pt x="187" y="707"/>
                    </a:lnTo>
                    <a:lnTo>
                      <a:pt x="94" y="661"/>
                    </a:lnTo>
                    <a:lnTo>
                      <a:pt x="0" y="596"/>
                    </a:lnTo>
                    <a:lnTo>
                      <a:pt x="57" y="692"/>
                    </a:lnTo>
                    <a:lnTo>
                      <a:pt x="136" y="758"/>
                    </a:lnTo>
                    <a:lnTo>
                      <a:pt x="206" y="800"/>
                    </a:lnTo>
                    <a:lnTo>
                      <a:pt x="300" y="825"/>
                    </a:lnTo>
                    <a:lnTo>
                      <a:pt x="380" y="825"/>
                    </a:lnTo>
                    <a:lnTo>
                      <a:pt x="329" y="1173"/>
                    </a:lnTo>
                    <a:lnTo>
                      <a:pt x="376" y="1064"/>
                    </a:lnTo>
                    <a:lnTo>
                      <a:pt x="443" y="795"/>
                    </a:lnTo>
                    <a:lnTo>
                      <a:pt x="477" y="747"/>
                    </a:lnTo>
                    <a:lnTo>
                      <a:pt x="527" y="820"/>
                    </a:lnTo>
                    <a:lnTo>
                      <a:pt x="574" y="940"/>
                    </a:lnTo>
                    <a:lnTo>
                      <a:pt x="551" y="800"/>
                    </a:lnTo>
                    <a:lnTo>
                      <a:pt x="503" y="707"/>
                    </a:lnTo>
                    <a:lnTo>
                      <a:pt x="579" y="617"/>
                    </a:lnTo>
                    <a:lnTo>
                      <a:pt x="668" y="493"/>
                    </a:lnTo>
                    <a:lnTo>
                      <a:pt x="720" y="373"/>
                    </a:lnTo>
                    <a:lnTo>
                      <a:pt x="754" y="286"/>
                    </a:lnTo>
                    <a:lnTo>
                      <a:pt x="793" y="115"/>
                    </a:lnTo>
                    <a:lnTo>
                      <a:pt x="8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9" name=""/>
              <p:cNvSpPr/>
              <p:nvPr/>
            </p:nvSpPr>
            <p:spPr>
              <a:xfrm>
                <a:off x="4467240" y="4715280"/>
                <a:ext cx="7920" cy="22680"/>
              </a:xfrm>
              <a:custGeom>
                <a:avLst/>
                <a:gdLst/>
                <a:ahLst/>
                <a:rect l="l" t="t" r="r" b="b"/>
                <a:pathLst>
                  <a:path w="99" h="215">
                    <a:moveTo>
                      <a:pt x="11" y="0"/>
                    </a:moveTo>
                    <a:lnTo>
                      <a:pt x="48" y="7"/>
                    </a:lnTo>
                    <a:lnTo>
                      <a:pt x="91" y="60"/>
                    </a:lnTo>
                    <a:lnTo>
                      <a:pt x="99" y="111"/>
                    </a:lnTo>
                    <a:lnTo>
                      <a:pt x="94" y="145"/>
                    </a:lnTo>
                    <a:lnTo>
                      <a:pt x="60" y="162"/>
                    </a:lnTo>
                    <a:lnTo>
                      <a:pt x="55" y="180"/>
                    </a:lnTo>
                    <a:lnTo>
                      <a:pt x="73" y="215"/>
                    </a:lnTo>
                    <a:lnTo>
                      <a:pt x="22" y="169"/>
                    </a:lnTo>
                    <a:lnTo>
                      <a:pt x="22" y="145"/>
                    </a:lnTo>
                    <a:lnTo>
                      <a:pt x="36" y="123"/>
                    </a:lnTo>
                    <a:lnTo>
                      <a:pt x="55" y="106"/>
                    </a:lnTo>
                    <a:lnTo>
                      <a:pt x="84" y="92"/>
                    </a:lnTo>
                    <a:lnTo>
                      <a:pt x="73" y="65"/>
                    </a:lnTo>
                    <a:lnTo>
                      <a:pt x="60" y="42"/>
                    </a:lnTo>
                    <a:lnTo>
                      <a:pt x="36" y="28"/>
                    </a:lnTo>
                    <a:lnTo>
                      <a:pt x="11" y="60"/>
                    </a:lnTo>
                    <a:lnTo>
                      <a:pt x="11" y="79"/>
                    </a:lnTo>
                    <a:lnTo>
                      <a:pt x="0" y="53"/>
                    </a:lnTo>
                    <a:lnTo>
                      <a:pt x="0" y="17"/>
                    </a:lnTo>
                    <a:lnTo>
                      <a:pt x="11"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620" name=""/>
              <p:cNvSpPr/>
              <p:nvPr/>
            </p:nvSpPr>
            <p:spPr>
              <a:xfrm>
                <a:off x="4477680" y="4723200"/>
                <a:ext cx="360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21" name=""/>
              <p:cNvSpPr/>
              <p:nvPr/>
            </p:nvSpPr>
            <p:spPr>
              <a:xfrm>
                <a:off x="4479840" y="4727160"/>
                <a:ext cx="50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22" name=""/>
              <p:cNvSpPr/>
              <p:nvPr/>
            </p:nvSpPr>
            <p:spPr>
              <a:xfrm>
                <a:off x="4484520" y="4741560"/>
                <a:ext cx="32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23" name=""/>
              <p:cNvSpPr/>
              <p:nvPr/>
            </p:nvSpPr>
            <p:spPr>
              <a:xfrm>
                <a:off x="4470480" y="4744800"/>
                <a:ext cx="5760" cy="16560"/>
              </a:xfrm>
              <a:custGeom>
                <a:avLst/>
                <a:gdLst/>
                <a:ahLst/>
                <a:rect l="l" t="t" r="r" b="b"/>
                <a:pathLst>
                  <a:path w="77" h="162">
                    <a:moveTo>
                      <a:pt x="33" y="0"/>
                    </a:moveTo>
                    <a:lnTo>
                      <a:pt x="59" y="28"/>
                    </a:lnTo>
                    <a:lnTo>
                      <a:pt x="72" y="63"/>
                    </a:lnTo>
                    <a:lnTo>
                      <a:pt x="77" y="112"/>
                    </a:lnTo>
                    <a:lnTo>
                      <a:pt x="72" y="145"/>
                    </a:lnTo>
                    <a:lnTo>
                      <a:pt x="54" y="158"/>
                    </a:lnTo>
                    <a:lnTo>
                      <a:pt x="33" y="162"/>
                    </a:lnTo>
                    <a:lnTo>
                      <a:pt x="8" y="158"/>
                    </a:lnTo>
                    <a:lnTo>
                      <a:pt x="0" y="116"/>
                    </a:lnTo>
                    <a:lnTo>
                      <a:pt x="44" y="123"/>
                    </a:lnTo>
                    <a:lnTo>
                      <a:pt x="51" y="88"/>
                    </a:lnTo>
                    <a:lnTo>
                      <a:pt x="59" y="63"/>
                    </a:lnTo>
                    <a:lnTo>
                      <a:pt x="54" y="37"/>
                    </a:lnTo>
                    <a:lnTo>
                      <a:pt x="33"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24" name=""/>
              <p:cNvSpPr/>
              <p:nvPr/>
            </p:nvSpPr>
            <p:spPr>
              <a:xfrm>
                <a:off x="4379040" y="4800240"/>
                <a:ext cx="235800" cy="159120"/>
              </a:xfrm>
              <a:custGeom>
                <a:avLst/>
                <a:gdLst/>
                <a:ahLst/>
                <a:rect l="l" t="t" r="r" b="b"/>
                <a:pathLst>
                  <a:path w="2847" h="1510">
                    <a:moveTo>
                      <a:pt x="1072" y="246"/>
                    </a:moveTo>
                    <a:lnTo>
                      <a:pt x="1129" y="369"/>
                    </a:lnTo>
                    <a:lnTo>
                      <a:pt x="1228" y="441"/>
                    </a:lnTo>
                    <a:lnTo>
                      <a:pt x="1369" y="516"/>
                    </a:lnTo>
                    <a:lnTo>
                      <a:pt x="1558" y="567"/>
                    </a:lnTo>
                    <a:lnTo>
                      <a:pt x="1798" y="606"/>
                    </a:lnTo>
                    <a:lnTo>
                      <a:pt x="1903" y="576"/>
                    </a:lnTo>
                    <a:lnTo>
                      <a:pt x="1945" y="507"/>
                    </a:lnTo>
                    <a:lnTo>
                      <a:pt x="1969" y="408"/>
                    </a:lnTo>
                    <a:lnTo>
                      <a:pt x="1969" y="345"/>
                    </a:lnTo>
                    <a:lnTo>
                      <a:pt x="1929" y="239"/>
                    </a:lnTo>
                    <a:lnTo>
                      <a:pt x="1890" y="171"/>
                    </a:lnTo>
                    <a:lnTo>
                      <a:pt x="1839" y="120"/>
                    </a:lnTo>
                    <a:lnTo>
                      <a:pt x="1903" y="32"/>
                    </a:lnTo>
                    <a:lnTo>
                      <a:pt x="1945" y="0"/>
                    </a:lnTo>
                    <a:lnTo>
                      <a:pt x="2160" y="113"/>
                    </a:lnTo>
                    <a:lnTo>
                      <a:pt x="2400" y="162"/>
                    </a:lnTo>
                    <a:lnTo>
                      <a:pt x="2630" y="252"/>
                    </a:lnTo>
                    <a:lnTo>
                      <a:pt x="2847" y="378"/>
                    </a:lnTo>
                    <a:lnTo>
                      <a:pt x="2556" y="252"/>
                    </a:lnTo>
                    <a:lnTo>
                      <a:pt x="2342" y="191"/>
                    </a:lnTo>
                    <a:lnTo>
                      <a:pt x="2202" y="171"/>
                    </a:lnTo>
                    <a:lnTo>
                      <a:pt x="2052" y="171"/>
                    </a:lnTo>
                    <a:lnTo>
                      <a:pt x="1987" y="215"/>
                    </a:lnTo>
                    <a:lnTo>
                      <a:pt x="2004" y="387"/>
                    </a:lnTo>
                    <a:lnTo>
                      <a:pt x="1987" y="484"/>
                    </a:lnTo>
                    <a:lnTo>
                      <a:pt x="1953" y="590"/>
                    </a:lnTo>
                    <a:lnTo>
                      <a:pt x="1903" y="655"/>
                    </a:lnTo>
                    <a:lnTo>
                      <a:pt x="1789" y="760"/>
                    </a:lnTo>
                    <a:lnTo>
                      <a:pt x="1789" y="707"/>
                    </a:lnTo>
                    <a:lnTo>
                      <a:pt x="1749" y="673"/>
                    </a:lnTo>
                    <a:lnTo>
                      <a:pt x="1708" y="687"/>
                    </a:lnTo>
                    <a:lnTo>
                      <a:pt x="1696" y="738"/>
                    </a:lnTo>
                    <a:lnTo>
                      <a:pt x="1720" y="770"/>
                    </a:lnTo>
                    <a:lnTo>
                      <a:pt x="1756" y="779"/>
                    </a:lnTo>
                    <a:lnTo>
                      <a:pt x="1731" y="813"/>
                    </a:lnTo>
                    <a:lnTo>
                      <a:pt x="1674" y="802"/>
                    </a:lnTo>
                    <a:lnTo>
                      <a:pt x="1648" y="760"/>
                    </a:lnTo>
                    <a:lnTo>
                      <a:pt x="1659" y="707"/>
                    </a:lnTo>
                    <a:lnTo>
                      <a:pt x="1681" y="666"/>
                    </a:lnTo>
                    <a:lnTo>
                      <a:pt x="1720" y="648"/>
                    </a:lnTo>
                    <a:lnTo>
                      <a:pt x="1780" y="624"/>
                    </a:lnTo>
                    <a:lnTo>
                      <a:pt x="1433" y="567"/>
                    </a:lnTo>
                    <a:lnTo>
                      <a:pt x="1235" y="500"/>
                    </a:lnTo>
                    <a:lnTo>
                      <a:pt x="1353" y="795"/>
                    </a:lnTo>
                    <a:lnTo>
                      <a:pt x="1549" y="1289"/>
                    </a:lnTo>
                    <a:lnTo>
                      <a:pt x="1648" y="1510"/>
                    </a:lnTo>
                    <a:lnTo>
                      <a:pt x="1358" y="903"/>
                    </a:lnTo>
                    <a:lnTo>
                      <a:pt x="1201" y="576"/>
                    </a:lnTo>
                    <a:lnTo>
                      <a:pt x="1046" y="378"/>
                    </a:lnTo>
                    <a:lnTo>
                      <a:pt x="896" y="239"/>
                    </a:lnTo>
                    <a:lnTo>
                      <a:pt x="774" y="156"/>
                    </a:lnTo>
                    <a:lnTo>
                      <a:pt x="668" y="147"/>
                    </a:lnTo>
                    <a:lnTo>
                      <a:pt x="525" y="162"/>
                    </a:lnTo>
                    <a:lnTo>
                      <a:pt x="106" y="270"/>
                    </a:lnTo>
                    <a:lnTo>
                      <a:pt x="0" y="345"/>
                    </a:lnTo>
                    <a:lnTo>
                      <a:pt x="106" y="239"/>
                    </a:lnTo>
                    <a:lnTo>
                      <a:pt x="493" y="94"/>
                    </a:lnTo>
                    <a:lnTo>
                      <a:pt x="749" y="90"/>
                    </a:lnTo>
                    <a:lnTo>
                      <a:pt x="995" y="15"/>
                    </a:lnTo>
                    <a:lnTo>
                      <a:pt x="107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5" name=""/>
              <p:cNvSpPr/>
              <p:nvPr/>
            </p:nvSpPr>
            <p:spPr>
              <a:xfrm>
                <a:off x="4363560" y="4844160"/>
                <a:ext cx="93960" cy="181440"/>
              </a:xfrm>
              <a:custGeom>
                <a:avLst/>
                <a:gdLst/>
                <a:ahLst/>
                <a:rect l="l" t="t" r="r" b="b"/>
                <a:pathLst>
                  <a:path w="1134" h="1714">
                    <a:moveTo>
                      <a:pt x="159" y="0"/>
                    </a:moveTo>
                    <a:lnTo>
                      <a:pt x="264" y="31"/>
                    </a:lnTo>
                    <a:lnTo>
                      <a:pt x="365" y="113"/>
                    </a:lnTo>
                    <a:lnTo>
                      <a:pt x="447" y="229"/>
                    </a:lnTo>
                    <a:lnTo>
                      <a:pt x="521" y="367"/>
                    </a:lnTo>
                    <a:lnTo>
                      <a:pt x="570" y="484"/>
                    </a:lnTo>
                    <a:lnTo>
                      <a:pt x="611" y="591"/>
                    </a:lnTo>
                    <a:lnTo>
                      <a:pt x="491" y="409"/>
                    </a:lnTo>
                    <a:lnTo>
                      <a:pt x="387" y="288"/>
                    </a:lnTo>
                    <a:lnTo>
                      <a:pt x="264" y="205"/>
                    </a:lnTo>
                    <a:lnTo>
                      <a:pt x="167" y="157"/>
                    </a:lnTo>
                    <a:lnTo>
                      <a:pt x="167" y="319"/>
                    </a:lnTo>
                    <a:lnTo>
                      <a:pt x="222" y="499"/>
                    </a:lnTo>
                    <a:lnTo>
                      <a:pt x="312" y="646"/>
                    </a:lnTo>
                    <a:lnTo>
                      <a:pt x="413" y="754"/>
                    </a:lnTo>
                    <a:lnTo>
                      <a:pt x="598" y="886"/>
                    </a:lnTo>
                    <a:lnTo>
                      <a:pt x="768" y="998"/>
                    </a:lnTo>
                    <a:lnTo>
                      <a:pt x="860" y="1049"/>
                    </a:lnTo>
                    <a:lnTo>
                      <a:pt x="818" y="925"/>
                    </a:lnTo>
                    <a:lnTo>
                      <a:pt x="923" y="1132"/>
                    </a:lnTo>
                    <a:lnTo>
                      <a:pt x="976" y="1301"/>
                    </a:lnTo>
                    <a:lnTo>
                      <a:pt x="1007" y="1508"/>
                    </a:lnTo>
                    <a:lnTo>
                      <a:pt x="1081" y="1631"/>
                    </a:lnTo>
                    <a:lnTo>
                      <a:pt x="1134" y="1714"/>
                    </a:lnTo>
                    <a:lnTo>
                      <a:pt x="959" y="1559"/>
                    </a:lnTo>
                    <a:lnTo>
                      <a:pt x="959" y="1642"/>
                    </a:lnTo>
                    <a:lnTo>
                      <a:pt x="877" y="1665"/>
                    </a:lnTo>
                    <a:lnTo>
                      <a:pt x="918" y="1609"/>
                    </a:lnTo>
                    <a:lnTo>
                      <a:pt x="908" y="1534"/>
                    </a:lnTo>
                    <a:lnTo>
                      <a:pt x="703" y="1402"/>
                    </a:lnTo>
                    <a:lnTo>
                      <a:pt x="877" y="1411"/>
                    </a:lnTo>
                    <a:lnTo>
                      <a:pt x="736" y="1204"/>
                    </a:lnTo>
                    <a:lnTo>
                      <a:pt x="853" y="1195"/>
                    </a:lnTo>
                    <a:lnTo>
                      <a:pt x="869" y="1147"/>
                    </a:lnTo>
                    <a:lnTo>
                      <a:pt x="703" y="1141"/>
                    </a:lnTo>
                    <a:lnTo>
                      <a:pt x="494" y="1077"/>
                    </a:lnTo>
                    <a:lnTo>
                      <a:pt x="249" y="967"/>
                    </a:lnTo>
                    <a:lnTo>
                      <a:pt x="99" y="860"/>
                    </a:lnTo>
                    <a:lnTo>
                      <a:pt x="84" y="886"/>
                    </a:lnTo>
                    <a:lnTo>
                      <a:pt x="143" y="985"/>
                    </a:lnTo>
                    <a:lnTo>
                      <a:pt x="240" y="1077"/>
                    </a:lnTo>
                    <a:lnTo>
                      <a:pt x="339" y="1132"/>
                    </a:lnTo>
                    <a:lnTo>
                      <a:pt x="413" y="1338"/>
                    </a:lnTo>
                    <a:lnTo>
                      <a:pt x="644" y="1402"/>
                    </a:lnTo>
                    <a:lnTo>
                      <a:pt x="482" y="1386"/>
                    </a:lnTo>
                    <a:lnTo>
                      <a:pt x="556" y="1460"/>
                    </a:lnTo>
                    <a:lnTo>
                      <a:pt x="763" y="1508"/>
                    </a:lnTo>
                    <a:lnTo>
                      <a:pt x="853" y="1582"/>
                    </a:lnTo>
                    <a:lnTo>
                      <a:pt x="826" y="1631"/>
                    </a:lnTo>
                    <a:lnTo>
                      <a:pt x="694" y="1591"/>
                    </a:lnTo>
                    <a:lnTo>
                      <a:pt x="598" y="1600"/>
                    </a:lnTo>
                    <a:lnTo>
                      <a:pt x="51" y="1107"/>
                    </a:lnTo>
                    <a:lnTo>
                      <a:pt x="21" y="943"/>
                    </a:lnTo>
                    <a:lnTo>
                      <a:pt x="9" y="826"/>
                    </a:lnTo>
                    <a:lnTo>
                      <a:pt x="51" y="770"/>
                    </a:lnTo>
                    <a:lnTo>
                      <a:pt x="21" y="642"/>
                    </a:lnTo>
                    <a:lnTo>
                      <a:pt x="0" y="443"/>
                    </a:lnTo>
                    <a:lnTo>
                      <a:pt x="25" y="279"/>
                    </a:lnTo>
                    <a:lnTo>
                      <a:pt x="77" y="132"/>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6" name=""/>
              <p:cNvSpPr/>
              <p:nvPr/>
            </p:nvSpPr>
            <p:spPr>
              <a:xfrm>
                <a:off x="4429440" y="5018040"/>
                <a:ext cx="26280" cy="42480"/>
              </a:xfrm>
              <a:custGeom>
                <a:avLst/>
                <a:gdLst/>
                <a:ahLst/>
                <a:rect l="l" t="t" r="r" b="b"/>
                <a:pathLst>
                  <a:path w="318" h="399">
                    <a:moveTo>
                      <a:pt x="0" y="138"/>
                    </a:moveTo>
                    <a:lnTo>
                      <a:pt x="87" y="23"/>
                    </a:lnTo>
                    <a:lnTo>
                      <a:pt x="168" y="0"/>
                    </a:lnTo>
                    <a:lnTo>
                      <a:pt x="221" y="72"/>
                    </a:lnTo>
                    <a:lnTo>
                      <a:pt x="221" y="336"/>
                    </a:lnTo>
                    <a:lnTo>
                      <a:pt x="285" y="106"/>
                    </a:lnTo>
                    <a:lnTo>
                      <a:pt x="318" y="196"/>
                    </a:lnTo>
                    <a:lnTo>
                      <a:pt x="318" y="295"/>
                    </a:lnTo>
                    <a:lnTo>
                      <a:pt x="246" y="399"/>
                    </a:lnTo>
                    <a:lnTo>
                      <a:pt x="186" y="399"/>
                    </a:lnTo>
                    <a:lnTo>
                      <a:pt x="39" y="261"/>
                    </a:lnTo>
                    <a:lnTo>
                      <a:pt x="0" y="13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27" name=""/>
              <p:cNvSpPr/>
              <p:nvPr/>
            </p:nvSpPr>
            <p:spPr>
              <a:xfrm>
                <a:off x="4452480" y="4855320"/>
                <a:ext cx="193320" cy="227880"/>
              </a:xfrm>
              <a:custGeom>
                <a:avLst/>
                <a:gdLst/>
                <a:ahLst/>
                <a:rect l="l" t="t" r="r" b="b"/>
                <a:pathLst>
                  <a:path w="2335" h="2151">
                    <a:moveTo>
                      <a:pt x="87" y="1633"/>
                    </a:moveTo>
                    <a:lnTo>
                      <a:pt x="112" y="1705"/>
                    </a:lnTo>
                    <a:lnTo>
                      <a:pt x="123" y="1896"/>
                    </a:lnTo>
                    <a:lnTo>
                      <a:pt x="0" y="1953"/>
                    </a:lnTo>
                    <a:lnTo>
                      <a:pt x="39" y="1978"/>
                    </a:lnTo>
                    <a:lnTo>
                      <a:pt x="182" y="1953"/>
                    </a:lnTo>
                    <a:lnTo>
                      <a:pt x="742" y="2068"/>
                    </a:lnTo>
                    <a:lnTo>
                      <a:pt x="732" y="2032"/>
                    </a:lnTo>
                    <a:lnTo>
                      <a:pt x="732" y="2011"/>
                    </a:lnTo>
                    <a:lnTo>
                      <a:pt x="758" y="1997"/>
                    </a:lnTo>
                    <a:lnTo>
                      <a:pt x="791" y="2002"/>
                    </a:lnTo>
                    <a:lnTo>
                      <a:pt x="806" y="2032"/>
                    </a:lnTo>
                    <a:lnTo>
                      <a:pt x="830" y="2061"/>
                    </a:lnTo>
                    <a:lnTo>
                      <a:pt x="883" y="2068"/>
                    </a:lnTo>
                    <a:lnTo>
                      <a:pt x="958" y="2127"/>
                    </a:lnTo>
                    <a:lnTo>
                      <a:pt x="938" y="2068"/>
                    </a:lnTo>
                    <a:lnTo>
                      <a:pt x="1180" y="2011"/>
                    </a:lnTo>
                    <a:lnTo>
                      <a:pt x="1477" y="1845"/>
                    </a:lnTo>
                    <a:lnTo>
                      <a:pt x="1807" y="1930"/>
                    </a:lnTo>
                    <a:lnTo>
                      <a:pt x="1872" y="2061"/>
                    </a:lnTo>
                    <a:lnTo>
                      <a:pt x="1872" y="2142"/>
                    </a:lnTo>
                    <a:lnTo>
                      <a:pt x="1883" y="2151"/>
                    </a:lnTo>
                    <a:lnTo>
                      <a:pt x="1897" y="2061"/>
                    </a:lnTo>
                    <a:lnTo>
                      <a:pt x="1823" y="1912"/>
                    </a:lnTo>
                    <a:lnTo>
                      <a:pt x="1666" y="1815"/>
                    </a:lnTo>
                    <a:lnTo>
                      <a:pt x="1731" y="1714"/>
                    </a:lnTo>
                    <a:lnTo>
                      <a:pt x="1855" y="1668"/>
                    </a:lnTo>
                    <a:lnTo>
                      <a:pt x="2003" y="1642"/>
                    </a:lnTo>
                    <a:lnTo>
                      <a:pt x="2189" y="1674"/>
                    </a:lnTo>
                    <a:lnTo>
                      <a:pt x="2226" y="1705"/>
                    </a:lnTo>
                    <a:lnTo>
                      <a:pt x="2235" y="1804"/>
                    </a:lnTo>
                    <a:lnTo>
                      <a:pt x="2285" y="1887"/>
                    </a:lnTo>
                    <a:lnTo>
                      <a:pt x="2335" y="1771"/>
                    </a:lnTo>
                    <a:lnTo>
                      <a:pt x="2309" y="1700"/>
                    </a:lnTo>
                    <a:lnTo>
                      <a:pt x="2219" y="1608"/>
                    </a:lnTo>
                    <a:lnTo>
                      <a:pt x="2102" y="1510"/>
                    </a:lnTo>
                    <a:lnTo>
                      <a:pt x="2010" y="1402"/>
                    </a:lnTo>
                    <a:lnTo>
                      <a:pt x="1929" y="1439"/>
                    </a:lnTo>
                    <a:lnTo>
                      <a:pt x="1883" y="1559"/>
                    </a:lnTo>
                    <a:lnTo>
                      <a:pt x="1839" y="1536"/>
                    </a:lnTo>
                    <a:lnTo>
                      <a:pt x="1883" y="1428"/>
                    </a:lnTo>
                    <a:lnTo>
                      <a:pt x="1929" y="1338"/>
                    </a:lnTo>
                    <a:lnTo>
                      <a:pt x="2138" y="1255"/>
                    </a:lnTo>
                    <a:lnTo>
                      <a:pt x="2235" y="1165"/>
                    </a:lnTo>
                    <a:lnTo>
                      <a:pt x="2189" y="1041"/>
                    </a:lnTo>
                    <a:lnTo>
                      <a:pt x="2169" y="1142"/>
                    </a:lnTo>
                    <a:lnTo>
                      <a:pt x="2063" y="1206"/>
                    </a:lnTo>
                    <a:lnTo>
                      <a:pt x="1962" y="1232"/>
                    </a:lnTo>
                    <a:lnTo>
                      <a:pt x="1883" y="1239"/>
                    </a:lnTo>
                    <a:lnTo>
                      <a:pt x="1855" y="1213"/>
                    </a:lnTo>
                    <a:lnTo>
                      <a:pt x="1872" y="1181"/>
                    </a:lnTo>
                    <a:lnTo>
                      <a:pt x="2039" y="1066"/>
                    </a:lnTo>
                    <a:lnTo>
                      <a:pt x="2169" y="943"/>
                    </a:lnTo>
                    <a:lnTo>
                      <a:pt x="2197" y="1001"/>
                    </a:lnTo>
                    <a:lnTo>
                      <a:pt x="2201" y="868"/>
                    </a:lnTo>
                    <a:lnTo>
                      <a:pt x="2180" y="720"/>
                    </a:lnTo>
                    <a:lnTo>
                      <a:pt x="2169" y="565"/>
                    </a:lnTo>
                    <a:lnTo>
                      <a:pt x="2180" y="337"/>
                    </a:lnTo>
                    <a:lnTo>
                      <a:pt x="2153" y="114"/>
                    </a:lnTo>
                    <a:lnTo>
                      <a:pt x="2111" y="0"/>
                    </a:lnTo>
                    <a:lnTo>
                      <a:pt x="2144" y="182"/>
                    </a:lnTo>
                    <a:lnTo>
                      <a:pt x="2144" y="400"/>
                    </a:lnTo>
                    <a:lnTo>
                      <a:pt x="2111" y="582"/>
                    </a:lnTo>
                    <a:lnTo>
                      <a:pt x="1982" y="868"/>
                    </a:lnTo>
                    <a:lnTo>
                      <a:pt x="2088" y="706"/>
                    </a:lnTo>
                    <a:lnTo>
                      <a:pt x="2127" y="771"/>
                    </a:lnTo>
                    <a:lnTo>
                      <a:pt x="2144" y="861"/>
                    </a:lnTo>
                    <a:lnTo>
                      <a:pt x="2120" y="936"/>
                    </a:lnTo>
                    <a:lnTo>
                      <a:pt x="2003" y="1041"/>
                    </a:lnTo>
                    <a:lnTo>
                      <a:pt x="1865" y="1125"/>
                    </a:lnTo>
                    <a:lnTo>
                      <a:pt x="1872" y="1050"/>
                    </a:lnTo>
                    <a:lnTo>
                      <a:pt x="1673" y="1273"/>
                    </a:lnTo>
                    <a:lnTo>
                      <a:pt x="1402" y="1476"/>
                    </a:lnTo>
                    <a:lnTo>
                      <a:pt x="1169" y="1584"/>
                    </a:lnTo>
                    <a:lnTo>
                      <a:pt x="965" y="1633"/>
                    </a:lnTo>
                    <a:lnTo>
                      <a:pt x="615" y="1600"/>
                    </a:lnTo>
                    <a:lnTo>
                      <a:pt x="410" y="1608"/>
                    </a:lnTo>
                    <a:lnTo>
                      <a:pt x="195" y="1626"/>
                    </a:lnTo>
                    <a:lnTo>
                      <a:pt x="87" y="1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8" name=""/>
              <p:cNvSpPr/>
              <p:nvPr/>
            </p:nvSpPr>
            <p:spPr>
              <a:xfrm>
                <a:off x="4554000" y="4845960"/>
                <a:ext cx="14400" cy="149040"/>
              </a:xfrm>
              <a:custGeom>
                <a:avLst/>
                <a:gdLst/>
                <a:ahLst/>
                <a:rect l="l" t="t" r="r" b="b"/>
                <a:pathLst>
                  <a:path w="180" h="1411">
                    <a:moveTo>
                      <a:pt x="0" y="33"/>
                    </a:moveTo>
                    <a:lnTo>
                      <a:pt x="99" y="263"/>
                    </a:lnTo>
                    <a:lnTo>
                      <a:pt x="129" y="483"/>
                    </a:lnTo>
                    <a:lnTo>
                      <a:pt x="124" y="802"/>
                    </a:lnTo>
                    <a:lnTo>
                      <a:pt x="81" y="1075"/>
                    </a:lnTo>
                    <a:lnTo>
                      <a:pt x="9" y="1411"/>
                    </a:lnTo>
                    <a:lnTo>
                      <a:pt x="90" y="1386"/>
                    </a:lnTo>
                    <a:lnTo>
                      <a:pt x="140" y="1303"/>
                    </a:lnTo>
                    <a:lnTo>
                      <a:pt x="171" y="1140"/>
                    </a:lnTo>
                    <a:lnTo>
                      <a:pt x="180" y="886"/>
                    </a:lnTo>
                    <a:lnTo>
                      <a:pt x="171" y="556"/>
                    </a:lnTo>
                    <a:lnTo>
                      <a:pt x="145" y="344"/>
                    </a:lnTo>
                    <a:lnTo>
                      <a:pt x="105" y="180"/>
                    </a:lnTo>
                    <a:lnTo>
                      <a:pt x="39" y="22"/>
                    </a:lnTo>
                    <a:lnTo>
                      <a:pt x="9"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9" name=""/>
              <p:cNvSpPr/>
              <p:nvPr/>
            </p:nvSpPr>
            <p:spPr>
              <a:xfrm>
                <a:off x="4523040" y="4943520"/>
                <a:ext cx="11520" cy="15120"/>
              </a:xfrm>
              <a:custGeom>
                <a:avLst/>
                <a:gdLst/>
                <a:ahLst/>
                <a:rect l="l" t="t" r="r" b="b"/>
                <a:pathLst>
                  <a:path w="141" h="141">
                    <a:moveTo>
                      <a:pt x="101" y="7"/>
                    </a:moveTo>
                    <a:lnTo>
                      <a:pt x="66" y="7"/>
                    </a:lnTo>
                    <a:lnTo>
                      <a:pt x="42" y="31"/>
                    </a:lnTo>
                    <a:lnTo>
                      <a:pt x="51" y="62"/>
                    </a:lnTo>
                    <a:lnTo>
                      <a:pt x="77" y="88"/>
                    </a:lnTo>
                    <a:lnTo>
                      <a:pt x="110" y="72"/>
                    </a:lnTo>
                    <a:lnTo>
                      <a:pt x="123" y="49"/>
                    </a:lnTo>
                    <a:lnTo>
                      <a:pt x="123" y="31"/>
                    </a:lnTo>
                    <a:lnTo>
                      <a:pt x="141" y="62"/>
                    </a:lnTo>
                    <a:lnTo>
                      <a:pt x="123" y="113"/>
                    </a:lnTo>
                    <a:lnTo>
                      <a:pt x="77" y="141"/>
                    </a:lnTo>
                    <a:lnTo>
                      <a:pt x="18" y="106"/>
                    </a:lnTo>
                    <a:lnTo>
                      <a:pt x="0" y="49"/>
                    </a:lnTo>
                    <a:lnTo>
                      <a:pt x="42" y="7"/>
                    </a:lnTo>
                    <a:lnTo>
                      <a:pt x="66" y="0"/>
                    </a:lnTo>
                    <a:lnTo>
                      <a:pt x="101"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630" name=""/>
              <p:cNvSpPr/>
              <p:nvPr/>
            </p:nvSpPr>
            <p:spPr>
              <a:xfrm>
                <a:off x="4624200" y="4982400"/>
                <a:ext cx="21600" cy="53280"/>
              </a:xfrm>
              <a:custGeom>
                <a:avLst/>
                <a:gdLst/>
                <a:ahLst/>
                <a:rect l="l" t="t" r="r" b="b"/>
                <a:pathLst>
                  <a:path w="265" h="505">
                    <a:moveTo>
                      <a:pt x="215" y="0"/>
                    </a:moveTo>
                    <a:lnTo>
                      <a:pt x="215" y="71"/>
                    </a:lnTo>
                    <a:lnTo>
                      <a:pt x="0" y="193"/>
                    </a:lnTo>
                    <a:lnTo>
                      <a:pt x="131" y="152"/>
                    </a:lnTo>
                    <a:lnTo>
                      <a:pt x="131" y="277"/>
                    </a:lnTo>
                    <a:lnTo>
                      <a:pt x="57" y="258"/>
                    </a:lnTo>
                    <a:lnTo>
                      <a:pt x="239" y="431"/>
                    </a:lnTo>
                    <a:lnTo>
                      <a:pt x="265" y="505"/>
                    </a:lnTo>
                    <a:lnTo>
                      <a:pt x="255" y="405"/>
                    </a:lnTo>
                    <a:lnTo>
                      <a:pt x="180" y="308"/>
                    </a:lnTo>
                    <a:lnTo>
                      <a:pt x="180" y="143"/>
                    </a:lnTo>
                    <a:lnTo>
                      <a:pt x="233" y="92"/>
                    </a:lnTo>
                    <a:lnTo>
                      <a:pt x="233" y="51"/>
                    </a:lnTo>
                    <a:lnTo>
                      <a:pt x="215"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31" name=""/>
              <p:cNvSpPr/>
              <p:nvPr/>
            </p:nvSpPr>
            <p:spPr>
              <a:xfrm>
                <a:off x="4599000" y="5040720"/>
                <a:ext cx="75960" cy="56880"/>
              </a:xfrm>
              <a:custGeom>
                <a:avLst/>
                <a:gdLst/>
                <a:ahLst/>
                <a:rect l="l" t="t" r="r" b="b"/>
                <a:pathLst>
                  <a:path w="918" h="541">
                    <a:moveTo>
                      <a:pt x="529" y="181"/>
                    </a:moveTo>
                    <a:lnTo>
                      <a:pt x="520" y="211"/>
                    </a:lnTo>
                    <a:lnTo>
                      <a:pt x="470" y="211"/>
                    </a:lnTo>
                    <a:lnTo>
                      <a:pt x="379" y="55"/>
                    </a:lnTo>
                    <a:lnTo>
                      <a:pt x="217" y="0"/>
                    </a:lnTo>
                    <a:lnTo>
                      <a:pt x="35" y="55"/>
                    </a:lnTo>
                    <a:lnTo>
                      <a:pt x="0" y="123"/>
                    </a:lnTo>
                    <a:lnTo>
                      <a:pt x="65" y="186"/>
                    </a:lnTo>
                    <a:lnTo>
                      <a:pt x="123" y="294"/>
                    </a:lnTo>
                    <a:lnTo>
                      <a:pt x="245" y="172"/>
                    </a:lnTo>
                    <a:lnTo>
                      <a:pt x="373" y="195"/>
                    </a:lnTo>
                    <a:lnTo>
                      <a:pt x="553" y="283"/>
                    </a:lnTo>
                    <a:lnTo>
                      <a:pt x="613" y="319"/>
                    </a:lnTo>
                    <a:lnTo>
                      <a:pt x="619" y="411"/>
                    </a:lnTo>
                    <a:lnTo>
                      <a:pt x="529" y="474"/>
                    </a:lnTo>
                    <a:lnTo>
                      <a:pt x="619" y="541"/>
                    </a:lnTo>
                    <a:lnTo>
                      <a:pt x="918" y="541"/>
                    </a:lnTo>
                    <a:lnTo>
                      <a:pt x="793" y="424"/>
                    </a:lnTo>
                    <a:lnTo>
                      <a:pt x="727" y="424"/>
                    </a:lnTo>
                    <a:lnTo>
                      <a:pt x="660" y="253"/>
                    </a:lnTo>
                    <a:lnTo>
                      <a:pt x="577" y="204"/>
                    </a:lnTo>
                    <a:lnTo>
                      <a:pt x="529" y="18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2" name=""/>
              <p:cNvSpPr/>
              <p:nvPr/>
            </p:nvSpPr>
            <p:spPr>
              <a:xfrm>
                <a:off x="4536720" y="5067000"/>
                <a:ext cx="108000" cy="48960"/>
              </a:xfrm>
              <a:custGeom>
                <a:avLst/>
                <a:gdLst/>
                <a:ahLst/>
                <a:rect l="l" t="t" r="r" b="b"/>
                <a:pathLst>
                  <a:path w="1305" h="464">
                    <a:moveTo>
                      <a:pt x="1248" y="185"/>
                    </a:moveTo>
                    <a:lnTo>
                      <a:pt x="1184" y="130"/>
                    </a:lnTo>
                    <a:lnTo>
                      <a:pt x="1149" y="53"/>
                    </a:lnTo>
                    <a:lnTo>
                      <a:pt x="1066" y="71"/>
                    </a:lnTo>
                    <a:lnTo>
                      <a:pt x="1033" y="242"/>
                    </a:lnTo>
                    <a:lnTo>
                      <a:pt x="1089" y="293"/>
                    </a:lnTo>
                    <a:lnTo>
                      <a:pt x="944" y="293"/>
                    </a:lnTo>
                    <a:lnTo>
                      <a:pt x="826" y="341"/>
                    </a:lnTo>
                    <a:lnTo>
                      <a:pt x="497" y="433"/>
                    </a:lnTo>
                    <a:lnTo>
                      <a:pt x="308" y="464"/>
                    </a:lnTo>
                    <a:lnTo>
                      <a:pt x="149" y="464"/>
                    </a:lnTo>
                    <a:lnTo>
                      <a:pt x="50" y="433"/>
                    </a:lnTo>
                    <a:lnTo>
                      <a:pt x="0" y="350"/>
                    </a:lnTo>
                    <a:lnTo>
                      <a:pt x="50" y="350"/>
                    </a:lnTo>
                    <a:lnTo>
                      <a:pt x="200" y="415"/>
                    </a:lnTo>
                    <a:lnTo>
                      <a:pt x="349" y="424"/>
                    </a:lnTo>
                    <a:lnTo>
                      <a:pt x="547" y="392"/>
                    </a:lnTo>
                    <a:lnTo>
                      <a:pt x="769" y="311"/>
                    </a:lnTo>
                    <a:lnTo>
                      <a:pt x="826" y="286"/>
                    </a:lnTo>
                    <a:lnTo>
                      <a:pt x="769" y="176"/>
                    </a:lnTo>
                    <a:lnTo>
                      <a:pt x="695" y="110"/>
                    </a:lnTo>
                    <a:lnTo>
                      <a:pt x="605" y="14"/>
                    </a:lnTo>
                    <a:lnTo>
                      <a:pt x="769" y="46"/>
                    </a:lnTo>
                    <a:lnTo>
                      <a:pt x="810" y="110"/>
                    </a:lnTo>
                    <a:lnTo>
                      <a:pt x="870" y="64"/>
                    </a:lnTo>
                    <a:lnTo>
                      <a:pt x="870" y="130"/>
                    </a:lnTo>
                    <a:lnTo>
                      <a:pt x="1033" y="0"/>
                    </a:lnTo>
                    <a:lnTo>
                      <a:pt x="1257" y="46"/>
                    </a:lnTo>
                    <a:lnTo>
                      <a:pt x="1305" y="145"/>
                    </a:lnTo>
                    <a:lnTo>
                      <a:pt x="1248" y="18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633" name=""/>
              <p:cNvSpPr/>
              <p:nvPr/>
            </p:nvSpPr>
            <p:spPr>
              <a:xfrm>
                <a:off x="4610520" y="5099400"/>
                <a:ext cx="248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34" name=""/>
              <p:cNvSpPr/>
              <p:nvPr/>
            </p:nvSpPr>
            <p:spPr>
              <a:xfrm>
                <a:off x="4555440" y="4750200"/>
                <a:ext cx="4320" cy="13320"/>
              </a:xfrm>
              <a:custGeom>
                <a:avLst/>
                <a:gdLst/>
                <a:ahLst/>
                <a:rect l="l" t="t" r="r" b="b"/>
                <a:pathLst>
                  <a:path w="50" h="123">
                    <a:moveTo>
                      <a:pt x="32" y="0"/>
                    </a:moveTo>
                    <a:lnTo>
                      <a:pt x="50" y="42"/>
                    </a:lnTo>
                    <a:lnTo>
                      <a:pt x="50" y="83"/>
                    </a:lnTo>
                    <a:lnTo>
                      <a:pt x="32" y="118"/>
                    </a:lnTo>
                    <a:lnTo>
                      <a:pt x="14" y="123"/>
                    </a:lnTo>
                    <a:lnTo>
                      <a:pt x="0" y="123"/>
                    </a:lnTo>
                    <a:lnTo>
                      <a:pt x="0" y="111"/>
                    </a:lnTo>
                    <a:lnTo>
                      <a:pt x="19" y="111"/>
                    </a:lnTo>
                    <a:lnTo>
                      <a:pt x="32" y="83"/>
                    </a:lnTo>
                    <a:lnTo>
                      <a:pt x="39" y="48"/>
                    </a:lnTo>
                    <a:lnTo>
                      <a:pt x="19" y="12"/>
                    </a:lnTo>
                    <a:lnTo>
                      <a:pt x="3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35" name=""/>
              <p:cNvSpPr/>
              <p:nvPr/>
            </p:nvSpPr>
            <p:spPr>
              <a:xfrm>
                <a:off x="4490280" y="4717080"/>
                <a:ext cx="25560" cy="15120"/>
              </a:xfrm>
              <a:custGeom>
                <a:avLst/>
                <a:gdLst/>
                <a:ahLst/>
                <a:rect l="l" t="t" r="r" b="b"/>
                <a:pathLst>
                  <a:path w="311" h="142">
                    <a:moveTo>
                      <a:pt x="0" y="49"/>
                    </a:moveTo>
                    <a:lnTo>
                      <a:pt x="48" y="39"/>
                    </a:lnTo>
                    <a:lnTo>
                      <a:pt x="14" y="26"/>
                    </a:lnTo>
                    <a:lnTo>
                      <a:pt x="55" y="0"/>
                    </a:lnTo>
                    <a:lnTo>
                      <a:pt x="117" y="1"/>
                    </a:lnTo>
                    <a:lnTo>
                      <a:pt x="179" y="1"/>
                    </a:lnTo>
                    <a:lnTo>
                      <a:pt x="255" y="37"/>
                    </a:lnTo>
                    <a:lnTo>
                      <a:pt x="218" y="37"/>
                    </a:lnTo>
                    <a:lnTo>
                      <a:pt x="267" y="83"/>
                    </a:lnTo>
                    <a:lnTo>
                      <a:pt x="278" y="54"/>
                    </a:lnTo>
                    <a:lnTo>
                      <a:pt x="311" y="107"/>
                    </a:lnTo>
                    <a:lnTo>
                      <a:pt x="273" y="142"/>
                    </a:lnTo>
                    <a:lnTo>
                      <a:pt x="276" y="109"/>
                    </a:lnTo>
                    <a:lnTo>
                      <a:pt x="223" y="122"/>
                    </a:lnTo>
                    <a:lnTo>
                      <a:pt x="188" y="120"/>
                    </a:lnTo>
                    <a:lnTo>
                      <a:pt x="240" y="109"/>
                    </a:lnTo>
                    <a:lnTo>
                      <a:pt x="253" y="92"/>
                    </a:lnTo>
                    <a:lnTo>
                      <a:pt x="235" y="61"/>
                    </a:lnTo>
                    <a:lnTo>
                      <a:pt x="191" y="39"/>
                    </a:lnTo>
                    <a:lnTo>
                      <a:pt x="156" y="37"/>
                    </a:lnTo>
                    <a:lnTo>
                      <a:pt x="101" y="41"/>
                    </a:lnTo>
                    <a:lnTo>
                      <a:pt x="60" y="46"/>
                    </a:lnTo>
                    <a:lnTo>
                      <a:pt x="95" y="81"/>
                    </a:lnTo>
                    <a:lnTo>
                      <a:pt x="140" y="109"/>
                    </a:lnTo>
                    <a:lnTo>
                      <a:pt x="122" y="122"/>
                    </a:lnTo>
                    <a:lnTo>
                      <a:pt x="106" y="104"/>
                    </a:lnTo>
                    <a:lnTo>
                      <a:pt x="71" y="109"/>
                    </a:lnTo>
                    <a:lnTo>
                      <a:pt x="66" y="81"/>
                    </a:lnTo>
                    <a:lnTo>
                      <a:pt x="36" y="79"/>
                    </a:lnTo>
                    <a:lnTo>
                      <a:pt x="43" y="61"/>
                    </a:lnTo>
                    <a:lnTo>
                      <a:pt x="0"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636" name=""/>
              <p:cNvSpPr/>
              <p:nvPr/>
            </p:nvSpPr>
            <p:spPr>
              <a:xfrm>
                <a:off x="4532760" y="4720320"/>
                <a:ext cx="21600" cy="12600"/>
              </a:xfrm>
              <a:custGeom>
                <a:avLst/>
                <a:gdLst/>
                <a:ahLst/>
                <a:rect l="l" t="t" r="r" b="b"/>
                <a:pathLst>
                  <a:path w="263" h="121">
                    <a:moveTo>
                      <a:pt x="0" y="75"/>
                    </a:moveTo>
                    <a:lnTo>
                      <a:pt x="26" y="31"/>
                    </a:lnTo>
                    <a:lnTo>
                      <a:pt x="92" y="0"/>
                    </a:lnTo>
                    <a:lnTo>
                      <a:pt x="127" y="0"/>
                    </a:lnTo>
                    <a:lnTo>
                      <a:pt x="109" y="24"/>
                    </a:lnTo>
                    <a:lnTo>
                      <a:pt x="145" y="24"/>
                    </a:lnTo>
                    <a:lnTo>
                      <a:pt x="151" y="5"/>
                    </a:lnTo>
                    <a:lnTo>
                      <a:pt x="175" y="17"/>
                    </a:lnTo>
                    <a:lnTo>
                      <a:pt x="208" y="12"/>
                    </a:lnTo>
                    <a:lnTo>
                      <a:pt x="217" y="29"/>
                    </a:lnTo>
                    <a:lnTo>
                      <a:pt x="259" y="24"/>
                    </a:lnTo>
                    <a:lnTo>
                      <a:pt x="226" y="58"/>
                    </a:lnTo>
                    <a:lnTo>
                      <a:pt x="263" y="77"/>
                    </a:lnTo>
                    <a:lnTo>
                      <a:pt x="208" y="86"/>
                    </a:lnTo>
                    <a:lnTo>
                      <a:pt x="206" y="104"/>
                    </a:lnTo>
                    <a:lnTo>
                      <a:pt x="180" y="97"/>
                    </a:lnTo>
                    <a:lnTo>
                      <a:pt x="151" y="121"/>
                    </a:lnTo>
                    <a:lnTo>
                      <a:pt x="134" y="110"/>
                    </a:lnTo>
                    <a:lnTo>
                      <a:pt x="97" y="110"/>
                    </a:lnTo>
                    <a:lnTo>
                      <a:pt x="151" y="97"/>
                    </a:lnTo>
                    <a:lnTo>
                      <a:pt x="184" y="77"/>
                    </a:lnTo>
                    <a:lnTo>
                      <a:pt x="206" y="68"/>
                    </a:lnTo>
                    <a:lnTo>
                      <a:pt x="169" y="51"/>
                    </a:lnTo>
                    <a:lnTo>
                      <a:pt x="134" y="38"/>
                    </a:lnTo>
                    <a:lnTo>
                      <a:pt x="85" y="31"/>
                    </a:lnTo>
                    <a:lnTo>
                      <a:pt x="37" y="58"/>
                    </a:lnTo>
                    <a:lnTo>
                      <a:pt x="0" y="7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7" name=""/>
              <p:cNvSpPr/>
              <p:nvPr/>
            </p:nvSpPr>
            <p:spPr>
              <a:xfrm>
                <a:off x="4534920" y="4729680"/>
                <a:ext cx="3600" cy="2160"/>
              </a:xfrm>
              <a:custGeom>
                <a:avLst/>
                <a:gdLst/>
                <a:ahLst/>
                <a:rect l="l" t="t" r="r" b="b"/>
                <a:pathLst>
                  <a:path w="51" h="17">
                    <a:moveTo>
                      <a:pt x="14" y="0"/>
                    </a:moveTo>
                    <a:lnTo>
                      <a:pt x="51" y="17"/>
                    </a:lnTo>
                    <a:lnTo>
                      <a:pt x="0" y="4"/>
                    </a:lnTo>
                    <a:lnTo>
                      <a:pt x="1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38" name=""/>
              <p:cNvSpPr/>
              <p:nvPr/>
            </p:nvSpPr>
            <p:spPr>
              <a:xfrm>
                <a:off x="4492440" y="4705200"/>
                <a:ext cx="25560" cy="15120"/>
              </a:xfrm>
              <a:custGeom>
                <a:avLst/>
                <a:gdLst/>
                <a:ahLst/>
                <a:rect l="l" t="t" r="r" b="b"/>
                <a:pathLst>
                  <a:path w="310" h="140">
                    <a:moveTo>
                      <a:pt x="0" y="28"/>
                    </a:moveTo>
                    <a:lnTo>
                      <a:pt x="93" y="0"/>
                    </a:lnTo>
                    <a:lnTo>
                      <a:pt x="238" y="57"/>
                    </a:lnTo>
                    <a:lnTo>
                      <a:pt x="310" y="140"/>
                    </a:lnTo>
                    <a:lnTo>
                      <a:pt x="244" y="74"/>
                    </a:lnTo>
                    <a:lnTo>
                      <a:pt x="145" y="28"/>
                    </a:lnTo>
                    <a:lnTo>
                      <a:pt x="81" y="21"/>
                    </a:lnTo>
                    <a:lnTo>
                      <a:pt x="0" y="2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639" name=""/>
              <p:cNvSpPr/>
              <p:nvPr/>
            </p:nvSpPr>
            <p:spPr>
              <a:xfrm>
                <a:off x="4534920" y="4709520"/>
                <a:ext cx="19800" cy="6480"/>
              </a:xfrm>
              <a:custGeom>
                <a:avLst/>
                <a:gdLst/>
                <a:ahLst/>
                <a:rect l="l" t="t" r="r" b="b"/>
                <a:pathLst>
                  <a:path w="245" h="64">
                    <a:moveTo>
                      <a:pt x="0" y="64"/>
                    </a:moveTo>
                    <a:lnTo>
                      <a:pt x="86" y="31"/>
                    </a:lnTo>
                    <a:lnTo>
                      <a:pt x="157" y="18"/>
                    </a:lnTo>
                    <a:lnTo>
                      <a:pt x="218" y="18"/>
                    </a:lnTo>
                    <a:lnTo>
                      <a:pt x="245" y="35"/>
                    </a:lnTo>
                    <a:lnTo>
                      <a:pt x="229" y="0"/>
                    </a:lnTo>
                    <a:lnTo>
                      <a:pt x="168" y="0"/>
                    </a:lnTo>
                    <a:lnTo>
                      <a:pt x="69" y="18"/>
                    </a:lnTo>
                    <a:lnTo>
                      <a:pt x="0" y="6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40" name=""/>
              <p:cNvSpPr/>
              <p:nvPr/>
            </p:nvSpPr>
            <p:spPr>
              <a:xfrm>
                <a:off x="4512240" y="4757040"/>
                <a:ext cx="16200" cy="10800"/>
              </a:xfrm>
              <a:custGeom>
                <a:avLst/>
                <a:gdLst/>
                <a:ahLst/>
                <a:rect l="l" t="t" r="r" b="b"/>
                <a:pathLst>
                  <a:path w="207" h="103">
                    <a:moveTo>
                      <a:pt x="207" y="38"/>
                    </a:moveTo>
                    <a:lnTo>
                      <a:pt x="152" y="73"/>
                    </a:lnTo>
                    <a:lnTo>
                      <a:pt x="130" y="66"/>
                    </a:lnTo>
                    <a:lnTo>
                      <a:pt x="101" y="38"/>
                    </a:lnTo>
                    <a:lnTo>
                      <a:pt x="58" y="29"/>
                    </a:lnTo>
                    <a:lnTo>
                      <a:pt x="11" y="22"/>
                    </a:lnTo>
                    <a:lnTo>
                      <a:pt x="11" y="0"/>
                    </a:lnTo>
                    <a:lnTo>
                      <a:pt x="0" y="22"/>
                    </a:lnTo>
                    <a:lnTo>
                      <a:pt x="11" y="38"/>
                    </a:lnTo>
                    <a:lnTo>
                      <a:pt x="67" y="57"/>
                    </a:lnTo>
                    <a:lnTo>
                      <a:pt x="125" y="103"/>
                    </a:lnTo>
                    <a:lnTo>
                      <a:pt x="148" y="103"/>
                    </a:lnTo>
                    <a:lnTo>
                      <a:pt x="207" y="66"/>
                    </a:lnTo>
                    <a:lnTo>
                      <a:pt x="207" y="3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41" name=""/>
              <p:cNvSpPr/>
              <p:nvPr/>
            </p:nvSpPr>
            <p:spPr>
              <a:xfrm>
                <a:off x="4528080" y="4717800"/>
                <a:ext cx="4320" cy="18360"/>
              </a:xfrm>
              <a:custGeom>
                <a:avLst/>
                <a:gdLst/>
                <a:ahLst/>
                <a:rect l="l" t="t" r="r" b="b"/>
                <a:pathLst>
                  <a:path w="57" h="172">
                    <a:moveTo>
                      <a:pt x="57" y="0"/>
                    </a:moveTo>
                    <a:lnTo>
                      <a:pt x="15" y="51"/>
                    </a:lnTo>
                    <a:lnTo>
                      <a:pt x="0" y="106"/>
                    </a:lnTo>
                    <a:lnTo>
                      <a:pt x="4" y="141"/>
                    </a:lnTo>
                    <a:lnTo>
                      <a:pt x="33" y="172"/>
                    </a:lnTo>
                    <a:lnTo>
                      <a:pt x="15" y="134"/>
                    </a:lnTo>
                    <a:lnTo>
                      <a:pt x="15" y="95"/>
                    </a:lnTo>
                    <a:lnTo>
                      <a:pt x="28" y="49"/>
                    </a:lnTo>
                    <a:lnTo>
                      <a:pt x="5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42" name=""/>
              <p:cNvSpPr/>
              <p:nvPr/>
            </p:nvSpPr>
            <p:spPr>
              <a:xfrm>
                <a:off x="4500360" y="4720320"/>
                <a:ext cx="6480" cy="7560"/>
              </a:xfrm>
              <a:custGeom>
                <a:avLst/>
                <a:gdLst/>
                <a:ahLst/>
                <a:rect l="l" t="t" r="r" b="b"/>
                <a:pathLst>
                  <a:path w="81" h="74">
                    <a:moveTo>
                      <a:pt x="0" y="6"/>
                    </a:moveTo>
                    <a:lnTo>
                      <a:pt x="6" y="57"/>
                    </a:lnTo>
                    <a:lnTo>
                      <a:pt x="30" y="74"/>
                    </a:lnTo>
                    <a:lnTo>
                      <a:pt x="57" y="74"/>
                    </a:lnTo>
                    <a:lnTo>
                      <a:pt x="72" y="39"/>
                    </a:lnTo>
                    <a:lnTo>
                      <a:pt x="81" y="17"/>
                    </a:lnTo>
                    <a:lnTo>
                      <a:pt x="57" y="32"/>
                    </a:lnTo>
                    <a:lnTo>
                      <a:pt x="37" y="50"/>
                    </a:lnTo>
                    <a:lnTo>
                      <a:pt x="30" y="39"/>
                    </a:lnTo>
                    <a:lnTo>
                      <a:pt x="34" y="0"/>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643" name=""/>
              <p:cNvSpPr/>
              <p:nvPr/>
            </p:nvSpPr>
            <p:spPr>
              <a:xfrm>
                <a:off x="4537440" y="4723920"/>
                <a:ext cx="7200" cy="6480"/>
              </a:xfrm>
              <a:custGeom>
                <a:avLst/>
                <a:gdLst/>
                <a:ahLst/>
                <a:rect l="l" t="t" r="r" b="b"/>
                <a:pathLst>
                  <a:path w="92" h="64">
                    <a:moveTo>
                      <a:pt x="0" y="12"/>
                    </a:moveTo>
                    <a:lnTo>
                      <a:pt x="5" y="64"/>
                    </a:lnTo>
                    <a:lnTo>
                      <a:pt x="64" y="64"/>
                    </a:lnTo>
                    <a:lnTo>
                      <a:pt x="89" y="35"/>
                    </a:lnTo>
                    <a:lnTo>
                      <a:pt x="92" y="0"/>
                    </a:lnTo>
                    <a:lnTo>
                      <a:pt x="55" y="0"/>
                    </a:lnTo>
                    <a:lnTo>
                      <a:pt x="64" y="31"/>
                    </a:lnTo>
                    <a:lnTo>
                      <a:pt x="41" y="42"/>
                    </a:lnTo>
                    <a:lnTo>
                      <a:pt x="27"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44" name=""/>
              <p:cNvSpPr/>
              <p:nvPr/>
            </p:nvSpPr>
            <p:spPr>
              <a:xfrm>
                <a:off x="4506120" y="4774680"/>
                <a:ext cx="28440" cy="3240"/>
              </a:xfrm>
              <a:custGeom>
                <a:avLst/>
                <a:gdLst/>
                <a:ahLst/>
                <a:rect l="l" t="t" r="r" b="b"/>
                <a:pathLst>
                  <a:path w="350" h="31">
                    <a:moveTo>
                      <a:pt x="0" y="5"/>
                    </a:moveTo>
                    <a:lnTo>
                      <a:pt x="111" y="0"/>
                    </a:lnTo>
                    <a:lnTo>
                      <a:pt x="198" y="14"/>
                    </a:lnTo>
                    <a:lnTo>
                      <a:pt x="251" y="5"/>
                    </a:lnTo>
                    <a:lnTo>
                      <a:pt x="350" y="14"/>
                    </a:lnTo>
                    <a:lnTo>
                      <a:pt x="276" y="24"/>
                    </a:lnTo>
                    <a:lnTo>
                      <a:pt x="198" y="31"/>
                    </a:lnTo>
                    <a:lnTo>
                      <a:pt x="46" y="18"/>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45" name=""/>
              <p:cNvSpPr/>
              <p:nvPr/>
            </p:nvSpPr>
            <p:spPr>
              <a:xfrm>
                <a:off x="4511520" y="4780440"/>
                <a:ext cx="19080" cy="4320"/>
              </a:xfrm>
              <a:custGeom>
                <a:avLst/>
                <a:gdLst/>
                <a:ahLst/>
                <a:rect l="l" t="t" r="r" b="b"/>
                <a:pathLst>
                  <a:path w="233" h="42">
                    <a:moveTo>
                      <a:pt x="0" y="0"/>
                    </a:moveTo>
                    <a:lnTo>
                      <a:pt x="60" y="35"/>
                    </a:lnTo>
                    <a:lnTo>
                      <a:pt x="159" y="42"/>
                    </a:lnTo>
                    <a:lnTo>
                      <a:pt x="233" y="7"/>
                    </a:lnTo>
                    <a:lnTo>
                      <a:pt x="164" y="24"/>
                    </a:lnTo>
                    <a:lnTo>
                      <a:pt x="77" y="17"/>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646" name=""/>
              <p:cNvSpPr/>
              <p:nvPr/>
            </p:nvSpPr>
            <p:spPr>
              <a:xfrm>
                <a:off x="4804560" y="4794120"/>
                <a:ext cx="49320" cy="54000"/>
              </a:xfrm>
              <a:custGeom>
                <a:avLst/>
                <a:gdLst/>
                <a:ahLst/>
                <a:rect l="l" t="t" r="r" b="b"/>
                <a:pathLst>
                  <a:path w="595" h="512">
                    <a:moveTo>
                      <a:pt x="97" y="215"/>
                    </a:moveTo>
                    <a:lnTo>
                      <a:pt x="120" y="122"/>
                    </a:lnTo>
                    <a:lnTo>
                      <a:pt x="305" y="0"/>
                    </a:lnTo>
                    <a:lnTo>
                      <a:pt x="498" y="68"/>
                    </a:lnTo>
                    <a:lnTo>
                      <a:pt x="395" y="68"/>
                    </a:lnTo>
                    <a:lnTo>
                      <a:pt x="514" y="209"/>
                    </a:lnTo>
                    <a:lnTo>
                      <a:pt x="569" y="191"/>
                    </a:lnTo>
                    <a:lnTo>
                      <a:pt x="525" y="96"/>
                    </a:lnTo>
                    <a:lnTo>
                      <a:pt x="595" y="209"/>
                    </a:lnTo>
                    <a:lnTo>
                      <a:pt x="551" y="261"/>
                    </a:lnTo>
                    <a:lnTo>
                      <a:pt x="595" y="503"/>
                    </a:lnTo>
                    <a:lnTo>
                      <a:pt x="533" y="512"/>
                    </a:lnTo>
                    <a:lnTo>
                      <a:pt x="464" y="494"/>
                    </a:lnTo>
                    <a:lnTo>
                      <a:pt x="542" y="486"/>
                    </a:lnTo>
                    <a:lnTo>
                      <a:pt x="475" y="329"/>
                    </a:lnTo>
                    <a:lnTo>
                      <a:pt x="351" y="200"/>
                    </a:lnTo>
                    <a:lnTo>
                      <a:pt x="489" y="311"/>
                    </a:lnTo>
                    <a:lnTo>
                      <a:pt x="542" y="424"/>
                    </a:lnTo>
                    <a:lnTo>
                      <a:pt x="510" y="244"/>
                    </a:lnTo>
                    <a:lnTo>
                      <a:pt x="305" y="41"/>
                    </a:lnTo>
                    <a:lnTo>
                      <a:pt x="261" y="122"/>
                    </a:lnTo>
                    <a:lnTo>
                      <a:pt x="305" y="173"/>
                    </a:lnTo>
                    <a:lnTo>
                      <a:pt x="228" y="173"/>
                    </a:lnTo>
                    <a:lnTo>
                      <a:pt x="323" y="306"/>
                    </a:lnTo>
                    <a:lnTo>
                      <a:pt x="191" y="209"/>
                    </a:lnTo>
                    <a:lnTo>
                      <a:pt x="0" y="373"/>
                    </a:lnTo>
                    <a:lnTo>
                      <a:pt x="17" y="253"/>
                    </a:lnTo>
                    <a:lnTo>
                      <a:pt x="97" y="2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47" name=""/>
              <p:cNvSpPr/>
              <p:nvPr/>
            </p:nvSpPr>
            <p:spPr>
              <a:xfrm>
                <a:off x="4812480" y="4829760"/>
                <a:ext cx="34920" cy="55800"/>
              </a:xfrm>
              <a:custGeom>
                <a:avLst/>
                <a:gdLst/>
                <a:ahLst/>
                <a:rect l="l" t="t" r="r" b="b"/>
                <a:pathLst>
                  <a:path w="417" h="531">
                    <a:moveTo>
                      <a:pt x="351" y="198"/>
                    </a:moveTo>
                    <a:lnTo>
                      <a:pt x="307" y="183"/>
                    </a:lnTo>
                    <a:lnTo>
                      <a:pt x="254" y="114"/>
                    </a:lnTo>
                    <a:lnTo>
                      <a:pt x="208" y="114"/>
                    </a:lnTo>
                    <a:lnTo>
                      <a:pt x="146" y="62"/>
                    </a:lnTo>
                    <a:lnTo>
                      <a:pt x="146" y="104"/>
                    </a:lnTo>
                    <a:lnTo>
                      <a:pt x="94" y="114"/>
                    </a:lnTo>
                    <a:lnTo>
                      <a:pt x="44" y="53"/>
                    </a:lnTo>
                    <a:lnTo>
                      <a:pt x="72" y="132"/>
                    </a:lnTo>
                    <a:lnTo>
                      <a:pt x="0" y="132"/>
                    </a:lnTo>
                    <a:lnTo>
                      <a:pt x="87" y="189"/>
                    </a:lnTo>
                    <a:lnTo>
                      <a:pt x="78" y="270"/>
                    </a:lnTo>
                    <a:lnTo>
                      <a:pt x="131" y="383"/>
                    </a:lnTo>
                    <a:lnTo>
                      <a:pt x="131" y="305"/>
                    </a:lnTo>
                    <a:lnTo>
                      <a:pt x="164" y="279"/>
                    </a:lnTo>
                    <a:lnTo>
                      <a:pt x="182" y="321"/>
                    </a:lnTo>
                    <a:lnTo>
                      <a:pt x="219" y="288"/>
                    </a:lnTo>
                    <a:lnTo>
                      <a:pt x="272" y="288"/>
                    </a:lnTo>
                    <a:lnTo>
                      <a:pt x="340" y="347"/>
                    </a:lnTo>
                    <a:lnTo>
                      <a:pt x="332" y="436"/>
                    </a:lnTo>
                    <a:lnTo>
                      <a:pt x="291" y="531"/>
                    </a:lnTo>
                    <a:lnTo>
                      <a:pt x="383" y="383"/>
                    </a:lnTo>
                    <a:lnTo>
                      <a:pt x="413" y="288"/>
                    </a:lnTo>
                    <a:lnTo>
                      <a:pt x="417" y="156"/>
                    </a:lnTo>
                    <a:lnTo>
                      <a:pt x="383" y="156"/>
                    </a:lnTo>
                    <a:lnTo>
                      <a:pt x="323" y="42"/>
                    </a:lnTo>
                    <a:lnTo>
                      <a:pt x="261" y="0"/>
                    </a:lnTo>
                    <a:lnTo>
                      <a:pt x="314" y="77"/>
                    </a:lnTo>
                    <a:lnTo>
                      <a:pt x="351" y="148"/>
                    </a:lnTo>
                    <a:lnTo>
                      <a:pt x="351" y="19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48" name=""/>
              <p:cNvSpPr/>
              <p:nvPr/>
            </p:nvSpPr>
            <p:spPr>
              <a:xfrm>
                <a:off x="4770000" y="4837320"/>
                <a:ext cx="141840" cy="259200"/>
              </a:xfrm>
              <a:custGeom>
                <a:avLst/>
                <a:gdLst/>
                <a:ahLst/>
                <a:rect l="l" t="t" r="r" b="b"/>
                <a:pathLst>
                  <a:path w="1712" h="2448">
                    <a:moveTo>
                      <a:pt x="420" y="0"/>
                    </a:moveTo>
                    <a:lnTo>
                      <a:pt x="499" y="424"/>
                    </a:lnTo>
                    <a:lnTo>
                      <a:pt x="522" y="451"/>
                    </a:lnTo>
                    <a:lnTo>
                      <a:pt x="561" y="468"/>
                    </a:lnTo>
                    <a:lnTo>
                      <a:pt x="534" y="495"/>
                    </a:lnTo>
                    <a:lnTo>
                      <a:pt x="483" y="486"/>
                    </a:lnTo>
                    <a:lnTo>
                      <a:pt x="475" y="550"/>
                    </a:lnTo>
                    <a:lnTo>
                      <a:pt x="499" y="599"/>
                    </a:lnTo>
                    <a:lnTo>
                      <a:pt x="540" y="615"/>
                    </a:lnTo>
                    <a:lnTo>
                      <a:pt x="589" y="606"/>
                    </a:lnTo>
                    <a:lnTo>
                      <a:pt x="611" y="479"/>
                    </a:lnTo>
                    <a:lnTo>
                      <a:pt x="663" y="479"/>
                    </a:lnTo>
                    <a:lnTo>
                      <a:pt x="711" y="451"/>
                    </a:lnTo>
                    <a:lnTo>
                      <a:pt x="743" y="398"/>
                    </a:lnTo>
                    <a:lnTo>
                      <a:pt x="743" y="461"/>
                    </a:lnTo>
                    <a:lnTo>
                      <a:pt x="771" y="451"/>
                    </a:lnTo>
                    <a:lnTo>
                      <a:pt x="824" y="424"/>
                    </a:lnTo>
                    <a:lnTo>
                      <a:pt x="798" y="461"/>
                    </a:lnTo>
                    <a:lnTo>
                      <a:pt x="743" y="530"/>
                    </a:lnTo>
                    <a:lnTo>
                      <a:pt x="699" y="650"/>
                    </a:lnTo>
                    <a:lnTo>
                      <a:pt x="909" y="415"/>
                    </a:lnTo>
                    <a:lnTo>
                      <a:pt x="945" y="444"/>
                    </a:lnTo>
                    <a:lnTo>
                      <a:pt x="815" y="798"/>
                    </a:lnTo>
                    <a:lnTo>
                      <a:pt x="824" y="1260"/>
                    </a:lnTo>
                    <a:lnTo>
                      <a:pt x="1172" y="1295"/>
                    </a:lnTo>
                    <a:lnTo>
                      <a:pt x="1331" y="1371"/>
                    </a:lnTo>
                    <a:lnTo>
                      <a:pt x="1417" y="1371"/>
                    </a:lnTo>
                    <a:lnTo>
                      <a:pt x="1460" y="1442"/>
                    </a:lnTo>
                    <a:lnTo>
                      <a:pt x="1172" y="1332"/>
                    </a:lnTo>
                    <a:lnTo>
                      <a:pt x="953" y="1314"/>
                    </a:lnTo>
                    <a:lnTo>
                      <a:pt x="1059" y="1380"/>
                    </a:lnTo>
                    <a:lnTo>
                      <a:pt x="953" y="1380"/>
                    </a:lnTo>
                    <a:lnTo>
                      <a:pt x="798" y="1362"/>
                    </a:lnTo>
                    <a:lnTo>
                      <a:pt x="909" y="1459"/>
                    </a:lnTo>
                    <a:lnTo>
                      <a:pt x="1296" y="1523"/>
                    </a:lnTo>
                    <a:lnTo>
                      <a:pt x="971" y="1493"/>
                    </a:lnTo>
                    <a:lnTo>
                      <a:pt x="1172" y="1611"/>
                    </a:lnTo>
                    <a:lnTo>
                      <a:pt x="1147" y="1636"/>
                    </a:lnTo>
                    <a:lnTo>
                      <a:pt x="875" y="1503"/>
                    </a:lnTo>
                    <a:lnTo>
                      <a:pt x="918" y="1636"/>
                    </a:lnTo>
                    <a:lnTo>
                      <a:pt x="1349" y="1747"/>
                    </a:lnTo>
                    <a:lnTo>
                      <a:pt x="1626" y="1921"/>
                    </a:lnTo>
                    <a:lnTo>
                      <a:pt x="1349" y="1867"/>
                    </a:lnTo>
                    <a:lnTo>
                      <a:pt x="1191" y="1765"/>
                    </a:lnTo>
                    <a:lnTo>
                      <a:pt x="953" y="1701"/>
                    </a:lnTo>
                    <a:lnTo>
                      <a:pt x="1068" y="1826"/>
                    </a:lnTo>
                    <a:lnTo>
                      <a:pt x="1712" y="2049"/>
                    </a:lnTo>
                    <a:lnTo>
                      <a:pt x="1068" y="1867"/>
                    </a:lnTo>
                    <a:lnTo>
                      <a:pt x="884" y="1736"/>
                    </a:lnTo>
                    <a:lnTo>
                      <a:pt x="895" y="1809"/>
                    </a:lnTo>
                    <a:lnTo>
                      <a:pt x="1068" y="1973"/>
                    </a:lnTo>
                    <a:lnTo>
                      <a:pt x="1321" y="2024"/>
                    </a:lnTo>
                    <a:lnTo>
                      <a:pt x="1460" y="2121"/>
                    </a:lnTo>
                    <a:lnTo>
                      <a:pt x="1259" y="2097"/>
                    </a:lnTo>
                    <a:lnTo>
                      <a:pt x="1008" y="1973"/>
                    </a:lnTo>
                    <a:lnTo>
                      <a:pt x="934" y="1982"/>
                    </a:lnTo>
                    <a:lnTo>
                      <a:pt x="971" y="2112"/>
                    </a:lnTo>
                    <a:lnTo>
                      <a:pt x="1033" y="2156"/>
                    </a:lnTo>
                    <a:lnTo>
                      <a:pt x="1349" y="2171"/>
                    </a:lnTo>
                    <a:lnTo>
                      <a:pt x="1024" y="2330"/>
                    </a:lnTo>
                    <a:lnTo>
                      <a:pt x="980" y="2314"/>
                    </a:lnTo>
                    <a:lnTo>
                      <a:pt x="909" y="2084"/>
                    </a:lnTo>
                    <a:lnTo>
                      <a:pt x="831" y="2339"/>
                    </a:lnTo>
                    <a:lnTo>
                      <a:pt x="849" y="2448"/>
                    </a:lnTo>
                    <a:lnTo>
                      <a:pt x="760" y="2354"/>
                    </a:lnTo>
                    <a:lnTo>
                      <a:pt x="895" y="2013"/>
                    </a:lnTo>
                    <a:lnTo>
                      <a:pt x="884" y="1921"/>
                    </a:lnTo>
                    <a:lnTo>
                      <a:pt x="824" y="1765"/>
                    </a:lnTo>
                    <a:lnTo>
                      <a:pt x="778" y="1563"/>
                    </a:lnTo>
                    <a:lnTo>
                      <a:pt x="674" y="1304"/>
                    </a:lnTo>
                    <a:lnTo>
                      <a:pt x="554" y="1523"/>
                    </a:lnTo>
                    <a:lnTo>
                      <a:pt x="554" y="1747"/>
                    </a:lnTo>
                    <a:lnTo>
                      <a:pt x="316" y="2033"/>
                    </a:lnTo>
                    <a:lnTo>
                      <a:pt x="0" y="2148"/>
                    </a:lnTo>
                    <a:lnTo>
                      <a:pt x="37" y="1973"/>
                    </a:lnTo>
                    <a:lnTo>
                      <a:pt x="217" y="1791"/>
                    </a:lnTo>
                    <a:lnTo>
                      <a:pt x="437" y="1685"/>
                    </a:lnTo>
                    <a:lnTo>
                      <a:pt x="534" y="1436"/>
                    </a:lnTo>
                    <a:lnTo>
                      <a:pt x="522" y="1314"/>
                    </a:lnTo>
                    <a:lnTo>
                      <a:pt x="611" y="1026"/>
                    </a:lnTo>
                    <a:lnTo>
                      <a:pt x="510" y="1000"/>
                    </a:lnTo>
                    <a:lnTo>
                      <a:pt x="420" y="938"/>
                    </a:lnTo>
                    <a:lnTo>
                      <a:pt x="522" y="650"/>
                    </a:lnTo>
                    <a:lnTo>
                      <a:pt x="475" y="627"/>
                    </a:lnTo>
                    <a:lnTo>
                      <a:pt x="448" y="541"/>
                    </a:lnTo>
                    <a:lnTo>
                      <a:pt x="448" y="433"/>
                    </a:lnTo>
                    <a:lnTo>
                      <a:pt x="420" y="53"/>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9" name=""/>
              <p:cNvSpPr/>
              <p:nvPr/>
            </p:nvSpPr>
            <p:spPr>
              <a:xfrm>
                <a:off x="4739040" y="4859640"/>
                <a:ext cx="56880" cy="184680"/>
              </a:xfrm>
              <a:custGeom>
                <a:avLst/>
                <a:gdLst/>
                <a:ahLst/>
                <a:rect l="l" t="t" r="r" b="b"/>
                <a:pathLst>
                  <a:path w="691" h="1748">
                    <a:moveTo>
                      <a:pt x="691" y="312"/>
                    </a:moveTo>
                    <a:lnTo>
                      <a:pt x="586" y="572"/>
                    </a:lnTo>
                    <a:lnTo>
                      <a:pt x="516" y="729"/>
                    </a:lnTo>
                    <a:lnTo>
                      <a:pt x="392" y="982"/>
                    </a:lnTo>
                    <a:lnTo>
                      <a:pt x="334" y="1017"/>
                    </a:lnTo>
                    <a:lnTo>
                      <a:pt x="351" y="1243"/>
                    </a:lnTo>
                    <a:lnTo>
                      <a:pt x="412" y="1527"/>
                    </a:lnTo>
                    <a:lnTo>
                      <a:pt x="472" y="1748"/>
                    </a:lnTo>
                    <a:lnTo>
                      <a:pt x="388" y="1485"/>
                    </a:lnTo>
                    <a:lnTo>
                      <a:pt x="334" y="1233"/>
                    </a:lnTo>
                    <a:lnTo>
                      <a:pt x="243" y="1171"/>
                    </a:lnTo>
                    <a:lnTo>
                      <a:pt x="254" y="1330"/>
                    </a:lnTo>
                    <a:lnTo>
                      <a:pt x="351" y="1591"/>
                    </a:lnTo>
                    <a:lnTo>
                      <a:pt x="239" y="1345"/>
                    </a:lnTo>
                    <a:lnTo>
                      <a:pt x="193" y="1153"/>
                    </a:lnTo>
                    <a:lnTo>
                      <a:pt x="87" y="1153"/>
                    </a:lnTo>
                    <a:lnTo>
                      <a:pt x="0" y="1227"/>
                    </a:lnTo>
                    <a:lnTo>
                      <a:pt x="87" y="1139"/>
                    </a:lnTo>
                    <a:lnTo>
                      <a:pt x="157" y="1112"/>
                    </a:lnTo>
                    <a:lnTo>
                      <a:pt x="219" y="895"/>
                    </a:lnTo>
                    <a:lnTo>
                      <a:pt x="219" y="782"/>
                    </a:lnTo>
                    <a:lnTo>
                      <a:pt x="175" y="721"/>
                    </a:lnTo>
                    <a:lnTo>
                      <a:pt x="175" y="644"/>
                    </a:lnTo>
                    <a:lnTo>
                      <a:pt x="279" y="235"/>
                    </a:lnTo>
                    <a:lnTo>
                      <a:pt x="388" y="0"/>
                    </a:lnTo>
                    <a:lnTo>
                      <a:pt x="307" y="341"/>
                    </a:lnTo>
                    <a:lnTo>
                      <a:pt x="219" y="685"/>
                    </a:lnTo>
                    <a:lnTo>
                      <a:pt x="307" y="798"/>
                    </a:lnTo>
                    <a:lnTo>
                      <a:pt x="366" y="914"/>
                    </a:lnTo>
                    <a:lnTo>
                      <a:pt x="606" y="462"/>
                    </a:lnTo>
                    <a:lnTo>
                      <a:pt x="691"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0" name=""/>
              <p:cNvSpPr/>
              <p:nvPr/>
            </p:nvSpPr>
            <p:spPr>
              <a:xfrm>
                <a:off x="4781160" y="4952880"/>
                <a:ext cx="6480" cy="45720"/>
              </a:xfrm>
              <a:custGeom>
                <a:avLst/>
                <a:gdLst/>
                <a:ahLst/>
                <a:rect l="l" t="t" r="r" b="b"/>
                <a:pathLst>
                  <a:path w="83" h="431">
                    <a:moveTo>
                      <a:pt x="0" y="0"/>
                    </a:moveTo>
                    <a:lnTo>
                      <a:pt x="51" y="106"/>
                    </a:lnTo>
                    <a:lnTo>
                      <a:pt x="51" y="297"/>
                    </a:lnTo>
                    <a:lnTo>
                      <a:pt x="83" y="385"/>
                    </a:lnTo>
                    <a:lnTo>
                      <a:pt x="42" y="431"/>
                    </a:lnTo>
                    <a:lnTo>
                      <a:pt x="24" y="203"/>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51" name=""/>
              <p:cNvSpPr/>
              <p:nvPr/>
            </p:nvSpPr>
            <p:spPr>
              <a:xfrm>
                <a:off x="4739040" y="4992480"/>
                <a:ext cx="34920" cy="72000"/>
              </a:xfrm>
              <a:custGeom>
                <a:avLst/>
                <a:gdLst/>
                <a:ahLst/>
                <a:rect l="l" t="t" r="r" b="b"/>
                <a:pathLst>
                  <a:path w="427" h="680">
                    <a:moveTo>
                      <a:pt x="0" y="0"/>
                    </a:moveTo>
                    <a:lnTo>
                      <a:pt x="175" y="532"/>
                    </a:lnTo>
                    <a:lnTo>
                      <a:pt x="307" y="543"/>
                    </a:lnTo>
                    <a:lnTo>
                      <a:pt x="427" y="629"/>
                    </a:lnTo>
                    <a:lnTo>
                      <a:pt x="366" y="680"/>
                    </a:lnTo>
                    <a:lnTo>
                      <a:pt x="175" y="611"/>
                    </a:lnTo>
                    <a:lnTo>
                      <a:pt x="81" y="323"/>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52" name=""/>
              <p:cNvSpPr/>
              <p:nvPr/>
            </p:nvSpPr>
            <p:spPr>
              <a:xfrm>
                <a:off x="4744800" y="4979880"/>
                <a:ext cx="10440" cy="34560"/>
              </a:xfrm>
              <a:custGeom>
                <a:avLst/>
                <a:gdLst/>
                <a:ahLst/>
                <a:rect l="l" t="t" r="r" b="b"/>
                <a:pathLst>
                  <a:path w="131" h="329">
                    <a:moveTo>
                      <a:pt x="131" y="14"/>
                    </a:moveTo>
                    <a:lnTo>
                      <a:pt x="43" y="329"/>
                    </a:lnTo>
                    <a:lnTo>
                      <a:pt x="0" y="226"/>
                    </a:lnTo>
                    <a:lnTo>
                      <a:pt x="112" y="0"/>
                    </a:lnTo>
                    <a:lnTo>
                      <a:pt x="131"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653" name=""/>
              <p:cNvSpPr/>
              <p:nvPr/>
            </p:nvSpPr>
            <p:spPr>
              <a:xfrm>
                <a:off x="4761000" y="4888440"/>
                <a:ext cx="8280" cy="32760"/>
              </a:xfrm>
              <a:custGeom>
                <a:avLst/>
                <a:gdLst/>
                <a:ahLst/>
                <a:rect l="l" t="t" r="r" b="b"/>
                <a:pathLst>
                  <a:path w="103" h="319">
                    <a:moveTo>
                      <a:pt x="71" y="0"/>
                    </a:moveTo>
                    <a:lnTo>
                      <a:pt x="71" y="171"/>
                    </a:lnTo>
                    <a:lnTo>
                      <a:pt x="103" y="319"/>
                    </a:lnTo>
                    <a:lnTo>
                      <a:pt x="0" y="210"/>
                    </a:lnTo>
                    <a:lnTo>
                      <a:pt x="7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54" name=""/>
              <p:cNvSpPr/>
              <p:nvPr/>
            </p:nvSpPr>
            <p:spPr>
              <a:xfrm>
                <a:off x="4772160" y="4811040"/>
                <a:ext cx="44280" cy="75240"/>
              </a:xfrm>
              <a:custGeom>
                <a:avLst/>
                <a:gdLst/>
                <a:ahLst/>
                <a:rect l="l" t="t" r="r" b="b"/>
                <a:pathLst>
                  <a:path w="533" h="711">
                    <a:moveTo>
                      <a:pt x="0" y="393"/>
                    </a:moveTo>
                    <a:lnTo>
                      <a:pt x="60" y="393"/>
                    </a:lnTo>
                    <a:lnTo>
                      <a:pt x="174" y="520"/>
                    </a:lnTo>
                    <a:lnTo>
                      <a:pt x="254" y="711"/>
                    </a:lnTo>
                    <a:lnTo>
                      <a:pt x="189" y="503"/>
                    </a:lnTo>
                    <a:lnTo>
                      <a:pt x="93" y="329"/>
                    </a:lnTo>
                    <a:lnTo>
                      <a:pt x="51" y="305"/>
                    </a:lnTo>
                    <a:lnTo>
                      <a:pt x="227" y="164"/>
                    </a:lnTo>
                    <a:lnTo>
                      <a:pt x="427" y="141"/>
                    </a:lnTo>
                    <a:lnTo>
                      <a:pt x="533" y="0"/>
                    </a:lnTo>
                    <a:lnTo>
                      <a:pt x="306" y="35"/>
                    </a:lnTo>
                    <a:lnTo>
                      <a:pt x="189" y="153"/>
                    </a:lnTo>
                    <a:lnTo>
                      <a:pt x="21" y="305"/>
                    </a:lnTo>
                    <a:lnTo>
                      <a:pt x="0" y="3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5" name=""/>
              <p:cNvSpPr/>
              <p:nvPr/>
            </p:nvSpPr>
            <p:spPr>
              <a:xfrm>
                <a:off x="4835160" y="4781520"/>
                <a:ext cx="9720" cy="16560"/>
              </a:xfrm>
              <a:custGeom>
                <a:avLst/>
                <a:gdLst/>
                <a:ahLst/>
                <a:rect l="l" t="t" r="r" b="b"/>
                <a:pathLst>
                  <a:path w="118" h="158">
                    <a:moveTo>
                      <a:pt x="63" y="0"/>
                    </a:moveTo>
                    <a:lnTo>
                      <a:pt x="0" y="158"/>
                    </a:lnTo>
                    <a:lnTo>
                      <a:pt x="26" y="158"/>
                    </a:lnTo>
                    <a:lnTo>
                      <a:pt x="118" y="38"/>
                    </a:lnTo>
                    <a:lnTo>
                      <a:pt x="63"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56" name=""/>
              <p:cNvSpPr/>
              <p:nvPr/>
            </p:nvSpPr>
            <p:spPr>
              <a:xfrm>
                <a:off x="4847760" y="4827960"/>
                <a:ext cx="81360" cy="64440"/>
              </a:xfrm>
              <a:custGeom>
                <a:avLst/>
                <a:gdLst/>
                <a:ahLst/>
                <a:rect l="l" t="t" r="r" b="b"/>
                <a:pathLst>
                  <a:path w="985" h="611">
                    <a:moveTo>
                      <a:pt x="55" y="194"/>
                    </a:moveTo>
                    <a:lnTo>
                      <a:pt x="107" y="264"/>
                    </a:lnTo>
                    <a:lnTo>
                      <a:pt x="182" y="334"/>
                    </a:lnTo>
                    <a:lnTo>
                      <a:pt x="199" y="354"/>
                    </a:lnTo>
                    <a:lnTo>
                      <a:pt x="257" y="334"/>
                    </a:lnTo>
                    <a:lnTo>
                      <a:pt x="254" y="387"/>
                    </a:lnTo>
                    <a:lnTo>
                      <a:pt x="301" y="424"/>
                    </a:lnTo>
                    <a:lnTo>
                      <a:pt x="413" y="470"/>
                    </a:lnTo>
                    <a:lnTo>
                      <a:pt x="479" y="502"/>
                    </a:lnTo>
                    <a:lnTo>
                      <a:pt x="538" y="543"/>
                    </a:lnTo>
                    <a:lnTo>
                      <a:pt x="580" y="585"/>
                    </a:lnTo>
                    <a:lnTo>
                      <a:pt x="901" y="20"/>
                    </a:lnTo>
                    <a:lnTo>
                      <a:pt x="938" y="0"/>
                    </a:lnTo>
                    <a:lnTo>
                      <a:pt x="976" y="0"/>
                    </a:lnTo>
                    <a:lnTo>
                      <a:pt x="985" y="20"/>
                    </a:lnTo>
                    <a:lnTo>
                      <a:pt x="967" y="29"/>
                    </a:lnTo>
                    <a:lnTo>
                      <a:pt x="936" y="29"/>
                    </a:lnTo>
                    <a:lnTo>
                      <a:pt x="899" y="48"/>
                    </a:lnTo>
                    <a:lnTo>
                      <a:pt x="865" y="90"/>
                    </a:lnTo>
                    <a:lnTo>
                      <a:pt x="580" y="611"/>
                    </a:lnTo>
                    <a:lnTo>
                      <a:pt x="459" y="565"/>
                    </a:lnTo>
                    <a:lnTo>
                      <a:pt x="538" y="578"/>
                    </a:lnTo>
                    <a:lnTo>
                      <a:pt x="485" y="532"/>
                    </a:lnTo>
                    <a:lnTo>
                      <a:pt x="404" y="486"/>
                    </a:lnTo>
                    <a:lnTo>
                      <a:pt x="325" y="458"/>
                    </a:lnTo>
                    <a:lnTo>
                      <a:pt x="296" y="453"/>
                    </a:lnTo>
                    <a:lnTo>
                      <a:pt x="362" y="519"/>
                    </a:lnTo>
                    <a:lnTo>
                      <a:pt x="301" y="475"/>
                    </a:lnTo>
                    <a:lnTo>
                      <a:pt x="257" y="440"/>
                    </a:lnTo>
                    <a:lnTo>
                      <a:pt x="204" y="383"/>
                    </a:lnTo>
                    <a:lnTo>
                      <a:pt x="136" y="315"/>
                    </a:lnTo>
                    <a:lnTo>
                      <a:pt x="74" y="269"/>
                    </a:lnTo>
                    <a:lnTo>
                      <a:pt x="24" y="224"/>
                    </a:lnTo>
                    <a:lnTo>
                      <a:pt x="0" y="185"/>
                    </a:lnTo>
                    <a:lnTo>
                      <a:pt x="55" y="19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657" name=""/>
              <p:cNvSpPr/>
              <p:nvPr/>
            </p:nvSpPr>
            <p:spPr>
              <a:xfrm>
                <a:off x="4847760" y="4766400"/>
                <a:ext cx="23760" cy="37080"/>
              </a:xfrm>
              <a:custGeom>
                <a:avLst/>
                <a:gdLst/>
                <a:ahLst/>
                <a:rect l="l" t="t" r="r" b="b"/>
                <a:pathLst>
                  <a:path w="281" h="354">
                    <a:moveTo>
                      <a:pt x="0" y="338"/>
                    </a:moveTo>
                    <a:lnTo>
                      <a:pt x="199" y="42"/>
                    </a:lnTo>
                    <a:lnTo>
                      <a:pt x="228" y="17"/>
                    </a:lnTo>
                    <a:lnTo>
                      <a:pt x="254" y="0"/>
                    </a:lnTo>
                    <a:lnTo>
                      <a:pt x="281" y="6"/>
                    </a:lnTo>
                    <a:lnTo>
                      <a:pt x="241" y="22"/>
                    </a:lnTo>
                    <a:lnTo>
                      <a:pt x="206" y="54"/>
                    </a:lnTo>
                    <a:lnTo>
                      <a:pt x="4" y="354"/>
                    </a:lnTo>
                    <a:lnTo>
                      <a:pt x="0" y="338"/>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658" name=""/>
              <p:cNvSpPr/>
              <p:nvPr/>
            </p:nvSpPr>
            <p:spPr>
              <a:xfrm>
                <a:off x="4850280" y="4804200"/>
                <a:ext cx="57600" cy="25200"/>
              </a:xfrm>
              <a:custGeom>
                <a:avLst/>
                <a:gdLst/>
                <a:ahLst/>
                <a:rect l="l" t="t" r="r" b="b"/>
                <a:pathLst>
                  <a:path w="696" h="242">
                    <a:moveTo>
                      <a:pt x="0" y="242"/>
                    </a:moveTo>
                    <a:lnTo>
                      <a:pt x="39" y="215"/>
                    </a:lnTo>
                    <a:lnTo>
                      <a:pt x="81" y="180"/>
                    </a:lnTo>
                    <a:lnTo>
                      <a:pt x="131" y="111"/>
                    </a:lnTo>
                    <a:lnTo>
                      <a:pt x="156" y="69"/>
                    </a:lnTo>
                    <a:lnTo>
                      <a:pt x="180" y="49"/>
                    </a:lnTo>
                    <a:lnTo>
                      <a:pt x="208" y="31"/>
                    </a:lnTo>
                    <a:lnTo>
                      <a:pt x="248" y="21"/>
                    </a:lnTo>
                    <a:lnTo>
                      <a:pt x="369" y="0"/>
                    </a:lnTo>
                    <a:lnTo>
                      <a:pt x="439" y="3"/>
                    </a:lnTo>
                    <a:lnTo>
                      <a:pt x="527" y="40"/>
                    </a:lnTo>
                    <a:lnTo>
                      <a:pt x="592" y="88"/>
                    </a:lnTo>
                    <a:lnTo>
                      <a:pt x="696" y="137"/>
                    </a:lnTo>
                    <a:lnTo>
                      <a:pt x="617" y="125"/>
                    </a:lnTo>
                    <a:lnTo>
                      <a:pt x="564" y="106"/>
                    </a:lnTo>
                    <a:lnTo>
                      <a:pt x="527" y="86"/>
                    </a:lnTo>
                    <a:lnTo>
                      <a:pt x="483" y="75"/>
                    </a:lnTo>
                    <a:lnTo>
                      <a:pt x="459" y="79"/>
                    </a:lnTo>
                    <a:lnTo>
                      <a:pt x="435" y="150"/>
                    </a:lnTo>
                    <a:lnTo>
                      <a:pt x="384" y="211"/>
                    </a:lnTo>
                    <a:lnTo>
                      <a:pt x="421" y="152"/>
                    </a:lnTo>
                    <a:lnTo>
                      <a:pt x="447" y="69"/>
                    </a:lnTo>
                    <a:lnTo>
                      <a:pt x="447" y="49"/>
                    </a:lnTo>
                    <a:lnTo>
                      <a:pt x="430" y="28"/>
                    </a:lnTo>
                    <a:lnTo>
                      <a:pt x="384" y="16"/>
                    </a:lnTo>
                    <a:lnTo>
                      <a:pt x="329" y="21"/>
                    </a:lnTo>
                    <a:lnTo>
                      <a:pt x="313" y="44"/>
                    </a:lnTo>
                    <a:lnTo>
                      <a:pt x="343" y="222"/>
                    </a:lnTo>
                    <a:lnTo>
                      <a:pt x="325" y="222"/>
                    </a:lnTo>
                    <a:lnTo>
                      <a:pt x="256" y="198"/>
                    </a:lnTo>
                    <a:lnTo>
                      <a:pt x="195" y="174"/>
                    </a:lnTo>
                    <a:lnTo>
                      <a:pt x="164" y="150"/>
                    </a:lnTo>
                    <a:lnTo>
                      <a:pt x="145" y="137"/>
                    </a:lnTo>
                    <a:lnTo>
                      <a:pt x="108" y="174"/>
                    </a:lnTo>
                    <a:lnTo>
                      <a:pt x="67" y="210"/>
                    </a:lnTo>
                    <a:lnTo>
                      <a:pt x="25" y="231"/>
                    </a:lnTo>
                    <a:lnTo>
                      <a:pt x="0" y="24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59" name=""/>
              <p:cNvSpPr/>
              <p:nvPr/>
            </p:nvSpPr>
            <p:spPr>
              <a:xfrm>
                <a:off x="4905360" y="4765320"/>
                <a:ext cx="32400" cy="46440"/>
              </a:xfrm>
              <a:custGeom>
                <a:avLst/>
                <a:gdLst/>
                <a:ahLst/>
                <a:rect l="l" t="t" r="r" b="b"/>
                <a:pathLst>
                  <a:path w="385" h="439">
                    <a:moveTo>
                      <a:pt x="0" y="0"/>
                    </a:moveTo>
                    <a:lnTo>
                      <a:pt x="40" y="55"/>
                    </a:lnTo>
                    <a:lnTo>
                      <a:pt x="63" y="111"/>
                    </a:lnTo>
                    <a:lnTo>
                      <a:pt x="86" y="256"/>
                    </a:lnTo>
                    <a:lnTo>
                      <a:pt x="75" y="439"/>
                    </a:lnTo>
                    <a:lnTo>
                      <a:pt x="114" y="274"/>
                    </a:lnTo>
                    <a:lnTo>
                      <a:pt x="148" y="189"/>
                    </a:lnTo>
                    <a:lnTo>
                      <a:pt x="204" y="107"/>
                    </a:lnTo>
                    <a:lnTo>
                      <a:pt x="235" y="111"/>
                    </a:lnTo>
                    <a:lnTo>
                      <a:pt x="211" y="256"/>
                    </a:lnTo>
                    <a:lnTo>
                      <a:pt x="215" y="292"/>
                    </a:lnTo>
                    <a:lnTo>
                      <a:pt x="385" y="74"/>
                    </a:lnTo>
                    <a:lnTo>
                      <a:pt x="310" y="26"/>
                    </a:lnTo>
                    <a:lnTo>
                      <a:pt x="252" y="67"/>
                    </a:lnTo>
                    <a:lnTo>
                      <a:pt x="204" y="58"/>
                    </a:lnTo>
                    <a:lnTo>
                      <a:pt x="112" y="81"/>
                    </a:lnTo>
                    <a:lnTo>
                      <a:pt x="81" y="81"/>
                    </a:lnTo>
                    <a:lnTo>
                      <a:pt x="37" y="26"/>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60" name=""/>
              <p:cNvSpPr/>
              <p:nvPr/>
            </p:nvSpPr>
            <p:spPr>
              <a:xfrm>
                <a:off x="4874400" y="4824720"/>
                <a:ext cx="68040" cy="245520"/>
              </a:xfrm>
              <a:custGeom>
                <a:avLst/>
                <a:gdLst/>
                <a:ahLst/>
                <a:rect l="l" t="t" r="r" b="b"/>
                <a:pathLst>
                  <a:path w="819" h="2318">
                    <a:moveTo>
                      <a:pt x="102" y="23"/>
                    </a:moveTo>
                    <a:lnTo>
                      <a:pt x="196" y="140"/>
                    </a:lnTo>
                    <a:lnTo>
                      <a:pt x="275" y="327"/>
                    </a:lnTo>
                    <a:lnTo>
                      <a:pt x="424" y="714"/>
                    </a:lnTo>
                    <a:lnTo>
                      <a:pt x="579" y="1265"/>
                    </a:lnTo>
                    <a:lnTo>
                      <a:pt x="712" y="1680"/>
                    </a:lnTo>
                    <a:lnTo>
                      <a:pt x="819" y="1925"/>
                    </a:lnTo>
                    <a:lnTo>
                      <a:pt x="660" y="2318"/>
                    </a:lnTo>
                    <a:lnTo>
                      <a:pt x="526" y="2190"/>
                    </a:lnTo>
                    <a:lnTo>
                      <a:pt x="252" y="1992"/>
                    </a:lnTo>
                    <a:lnTo>
                      <a:pt x="35" y="546"/>
                    </a:lnTo>
                    <a:lnTo>
                      <a:pt x="0" y="274"/>
                    </a:lnTo>
                    <a:lnTo>
                      <a:pt x="17" y="103"/>
                    </a:lnTo>
                    <a:lnTo>
                      <a:pt x="35" y="41"/>
                    </a:lnTo>
                    <a:lnTo>
                      <a:pt x="35" y="0"/>
                    </a:lnTo>
                    <a:lnTo>
                      <a:pt x="60" y="41"/>
                    </a:lnTo>
                    <a:lnTo>
                      <a:pt x="53" y="134"/>
                    </a:lnTo>
                    <a:lnTo>
                      <a:pt x="60" y="292"/>
                    </a:lnTo>
                    <a:lnTo>
                      <a:pt x="77" y="465"/>
                    </a:lnTo>
                    <a:lnTo>
                      <a:pt x="116" y="707"/>
                    </a:lnTo>
                    <a:lnTo>
                      <a:pt x="284" y="1487"/>
                    </a:lnTo>
                    <a:lnTo>
                      <a:pt x="343" y="1953"/>
                    </a:lnTo>
                    <a:lnTo>
                      <a:pt x="360" y="2010"/>
                    </a:lnTo>
                    <a:lnTo>
                      <a:pt x="512" y="2142"/>
                    </a:lnTo>
                    <a:lnTo>
                      <a:pt x="642" y="2252"/>
                    </a:lnTo>
                    <a:lnTo>
                      <a:pt x="734" y="2019"/>
                    </a:lnTo>
                    <a:lnTo>
                      <a:pt x="778" y="1925"/>
                    </a:lnTo>
                    <a:lnTo>
                      <a:pt x="651" y="1604"/>
                    </a:lnTo>
                    <a:lnTo>
                      <a:pt x="561" y="1296"/>
                    </a:lnTo>
                    <a:lnTo>
                      <a:pt x="433" y="863"/>
                    </a:lnTo>
                    <a:lnTo>
                      <a:pt x="351" y="555"/>
                    </a:lnTo>
                    <a:lnTo>
                      <a:pt x="235" y="239"/>
                    </a:lnTo>
                    <a:lnTo>
                      <a:pt x="162" y="116"/>
                    </a:lnTo>
                    <a:lnTo>
                      <a:pt x="10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1" name=""/>
              <p:cNvSpPr/>
              <p:nvPr/>
            </p:nvSpPr>
            <p:spPr>
              <a:xfrm>
                <a:off x="4854960" y="4901760"/>
                <a:ext cx="187560" cy="197280"/>
              </a:xfrm>
              <a:custGeom>
                <a:avLst/>
                <a:gdLst/>
                <a:ahLst/>
                <a:rect l="l" t="t" r="r" b="b"/>
                <a:pathLst>
                  <a:path w="2266" h="1862">
                    <a:moveTo>
                      <a:pt x="947" y="954"/>
                    </a:moveTo>
                    <a:lnTo>
                      <a:pt x="1211" y="1046"/>
                    </a:lnTo>
                    <a:lnTo>
                      <a:pt x="1455" y="1180"/>
                    </a:lnTo>
                    <a:lnTo>
                      <a:pt x="1630" y="1244"/>
                    </a:lnTo>
                    <a:lnTo>
                      <a:pt x="1747" y="1362"/>
                    </a:lnTo>
                    <a:lnTo>
                      <a:pt x="1925" y="1436"/>
                    </a:lnTo>
                    <a:lnTo>
                      <a:pt x="1914" y="1348"/>
                    </a:lnTo>
                    <a:lnTo>
                      <a:pt x="1764" y="1189"/>
                    </a:lnTo>
                    <a:lnTo>
                      <a:pt x="1582" y="1055"/>
                    </a:lnTo>
                    <a:lnTo>
                      <a:pt x="1854" y="1194"/>
                    </a:lnTo>
                    <a:lnTo>
                      <a:pt x="1905" y="908"/>
                    </a:lnTo>
                    <a:lnTo>
                      <a:pt x="1815" y="921"/>
                    </a:lnTo>
                    <a:lnTo>
                      <a:pt x="1747" y="908"/>
                    </a:lnTo>
                    <a:lnTo>
                      <a:pt x="1663" y="855"/>
                    </a:lnTo>
                    <a:lnTo>
                      <a:pt x="1738" y="839"/>
                    </a:lnTo>
                    <a:lnTo>
                      <a:pt x="1815" y="765"/>
                    </a:lnTo>
                    <a:lnTo>
                      <a:pt x="1863" y="682"/>
                    </a:lnTo>
                    <a:lnTo>
                      <a:pt x="1905" y="506"/>
                    </a:lnTo>
                    <a:lnTo>
                      <a:pt x="1914" y="273"/>
                    </a:lnTo>
                    <a:lnTo>
                      <a:pt x="1872" y="0"/>
                    </a:lnTo>
                    <a:lnTo>
                      <a:pt x="2048" y="168"/>
                    </a:lnTo>
                    <a:lnTo>
                      <a:pt x="2131" y="308"/>
                    </a:lnTo>
                    <a:lnTo>
                      <a:pt x="2110" y="325"/>
                    </a:lnTo>
                    <a:lnTo>
                      <a:pt x="1988" y="242"/>
                    </a:lnTo>
                    <a:lnTo>
                      <a:pt x="2013" y="541"/>
                    </a:lnTo>
                    <a:lnTo>
                      <a:pt x="2165" y="839"/>
                    </a:lnTo>
                    <a:lnTo>
                      <a:pt x="2206" y="1014"/>
                    </a:lnTo>
                    <a:lnTo>
                      <a:pt x="2149" y="1079"/>
                    </a:lnTo>
                    <a:lnTo>
                      <a:pt x="2156" y="1180"/>
                    </a:lnTo>
                    <a:lnTo>
                      <a:pt x="2266" y="1348"/>
                    </a:lnTo>
                    <a:lnTo>
                      <a:pt x="2266" y="1398"/>
                    </a:lnTo>
                    <a:lnTo>
                      <a:pt x="2215" y="1459"/>
                    </a:lnTo>
                    <a:lnTo>
                      <a:pt x="2013" y="1593"/>
                    </a:lnTo>
                    <a:lnTo>
                      <a:pt x="1896" y="1680"/>
                    </a:lnTo>
                    <a:lnTo>
                      <a:pt x="1738" y="1862"/>
                    </a:lnTo>
                    <a:lnTo>
                      <a:pt x="1496" y="1862"/>
                    </a:lnTo>
                    <a:lnTo>
                      <a:pt x="1444" y="1833"/>
                    </a:lnTo>
                    <a:lnTo>
                      <a:pt x="1356" y="1824"/>
                    </a:lnTo>
                    <a:lnTo>
                      <a:pt x="1305" y="1862"/>
                    </a:lnTo>
                    <a:lnTo>
                      <a:pt x="0" y="1862"/>
                    </a:lnTo>
                    <a:lnTo>
                      <a:pt x="169" y="1752"/>
                    </a:lnTo>
                    <a:lnTo>
                      <a:pt x="344" y="1662"/>
                    </a:lnTo>
                    <a:lnTo>
                      <a:pt x="542" y="1578"/>
                    </a:lnTo>
                    <a:lnTo>
                      <a:pt x="747" y="1512"/>
                    </a:lnTo>
                    <a:lnTo>
                      <a:pt x="830" y="1496"/>
                    </a:lnTo>
                    <a:lnTo>
                      <a:pt x="865" y="1545"/>
                    </a:lnTo>
                    <a:lnTo>
                      <a:pt x="837" y="1668"/>
                    </a:lnTo>
                    <a:lnTo>
                      <a:pt x="877" y="1721"/>
                    </a:lnTo>
                    <a:lnTo>
                      <a:pt x="1178" y="1680"/>
                    </a:lnTo>
                    <a:lnTo>
                      <a:pt x="1187" y="1653"/>
                    </a:lnTo>
                    <a:lnTo>
                      <a:pt x="1174" y="1629"/>
                    </a:lnTo>
                    <a:lnTo>
                      <a:pt x="947" y="1653"/>
                    </a:lnTo>
                    <a:lnTo>
                      <a:pt x="911" y="1635"/>
                    </a:lnTo>
                    <a:lnTo>
                      <a:pt x="906" y="1545"/>
                    </a:lnTo>
                    <a:lnTo>
                      <a:pt x="964" y="1503"/>
                    </a:lnTo>
                    <a:lnTo>
                      <a:pt x="994" y="1539"/>
                    </a:lnTo>
                    <a:lnTo>
                      <a:pt x="1037" y="1593"/>
                    </a:lnTo>
                    <a:lnTo>
                      <a:pt x="1103" y="1593"/>
                    </a:lnTo>
                    <a:lnTo>
                      <a:pt x="1139" y="1521"/>
                    </a:lnTo>
                    <a:lnTo>
                      <a:pt x="1019" y="1479"/>
                    </a:lnTo>
                    <a:lnTo>
                      <a:pt x="969" y="1470"/>
                    </a:lnTo>
                    <a:lnTo>
                      <a:pt x="1156" y="1459"/>
                    </a:lnTo>
                    <a:lnTo>
                      <a:pt x="1428" y="1452"/>
                    </a:lnTo>
                    <a:lnTo>
                      <a:pt x="1571" y="1459"/>
                    </a:lnTo>
                    <a:lnTo>
                      <a:pt x="1413" y="1398"/>
                    </a:lnTo>
                    <a:lnTo>
                      <a:pt x="1331" y="1319"/>
                    </a:lnTo>
                    <a:lnTo>
                      <a:pt x="1437" y="1353"/>
                    </a:lnTo>
                    <a:lnTo>
                      <a:pt x="1707" y="1459"/>
                    </a:lnTo>
                    <a:lnTo>
                      <a:pt x="1848" y="1479"/>
                    </a:lnTo>
                    <a:lnTo>
                      <a:pt x="1531" y="1256"/>
                    </a:lnTo>
                    <a:lnTo>
                      <a:pt x="1266" y="1106"/>
                    </a:lnTo>
                    <a:lnTo>
                      <a:pt x="1095" y="1064"/>
                    </a:lnTo>
                    <a:lnTo>
                      <a:pt x="1037" y="1002"/>
                    </a:lnTo>
                    <a:lnTo>
                      <a:pt x="947" y="9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2" name=""/>
              <p:cNvSpPr/>
              <p:nvPr/>
            </p:nvSpPr>
            <p:spPr>
              <a:xfrm>
                <a:off x="4945680" y="4766400"/>
                <a:ext cx="36360" cy="20880"/>
              </a:xfrm>
              <a:custGeom>
                <a:avLst/>
                <a:gdLst/>
                <a:ahLst/>
                <a:rect l="l" t="t" r="r" b="b"/>
                <a:pathLst>
                  <a:path w="443" h="201">
                    <a:moveTo>
                      <a:pt x="0" y="69"/>
                    </a:moveTo>
                    <a:lnTo>
                      <a:pt x="0" y="201"/>
                    </a:lnTo>
                    <a:lnTo>
                      <a:pt x="236" y="46"/>
                    </a:lnTo>
                    <a:lnTo>
                      <a:pt x="261" y="69"/>
                    </a:lnTo>
                    <a:lnTo>
                      <a:pt x="351" y="78"/>
                    </a:lnTo>
                    <a:lnTo>
                      <a:pt x="443" y="19"/>
                    </a:lnTo>
                    <a:lnTo>
                      <a:pt x="342" y="51"/>
                    </a:lnTo>
                    <a:lnTo>
                      <a:pt x="287" y="46"/>
                    </a:lnTo>
                    <a:lnTo>
                      <a:pt x="236" y="0"/>
                    </a:lnTo>
                    <a:lnTo>
                      <a:pt x="134" y="69"/>
                    </a:lnTo>
                    <a:lnTo>
                      <a:pt x="0" y="6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663" name=""/>
              <p:cNvSpPr/>
              <p:nvPr/>
            </p:nvSpPr>
            <p:spPr>
              <a:xfrm>
                <a:off x="4993560" y="4773960"/>
                <a:ext cx="57240" cy="114480"/>
              </a:xfrm>
              <a:custGeom>
                <a:avLst/>
                <a:gdLst/>
                <a:ahLst/>
                <a:rect l="l" t="t" r="r" b="b"/>
                <a:pathLst>
                  <a:path w="701" h="1079">
                    <a:moveTo>
                      <a:pt x="0" y="0"/>
                    </a:moveTo>
                    <a:lnTo>
                      <a:pt x="281" y="374"/>
                    </a:lnTo>
                    <a:lnTo>
                      <a:pt x="424" y="438"/>
                    </a:lnTo>
                    <a:lnTo>
                      <a:pt x="438" y="688"/>
                    </a:lnTo>
                    <a:lnTo>
                      <a:pt x="519" y="823"/>
                    </a:lnTo>
                    <a:lnTo>
                      <a:pt x="519" y="1079"/>
                    </a:lnTo>
                    <a:lnTo>
                      <a:pt x="551" y="1035"/>
                    </a:lnTo>
                    <a:lnTo>
                      <a:pt x="551" y="680"/>
                    </a:lnTo>
                    <a:lnTo>
                      <a:pt x="659" y="747"/>
                    </a:lnTo>
                    <a:lnTo>
                      <a:pt x="684" y="862"/>
                    </a:lnTo>
                    <a:lnTo>
                      <a:pt x="701" y="754"/>
                    </a:lnTo>
                    <a:lnTo>
                      <a:pt x="627" y="583"/>
                    </a:lnTo>
                    <a:lnTo>
                      <a:pt x="361" y="316"/>
                    </a:lnTo>
                    <a:lnTo>
                      <a:pt x="253" y="28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4" name=""/>
              <p:cNvSpPr/>
              <p:nvPr/>
            </p:nvSpPr>
            <p:spPr>
              <a:xfrm>
                <a:off x="4963680" y="4821120"/>
                <a:ext cx="30960" cy="55800"/>
              </a:xfrm>
              <a:custGeom>
                <a:avLst/>
                <a:gdLst/>
                <a:ahLst/>
                <a:rect l="l" t="t" r="r" b="b"/>
                <a:pathLst>
                  <a:path w="378" h="533">
                    <a:moveTo>
                      <a:pt x="0" y="257"/>
                    </a:moveTo>
                    <a:lnTo>
                      <a:pt x="70" y="107"/>
                    </a:lnTo>
                    <a:lnTo>
                      <a:pt x="143" y="98"/>
                    </a:lnTo>
                    <a:lnTo>
                      <a:pt x="235" y="118"/>
                    </a:lnTo>
                    <a:lnTo>
                      <a:pt x="253" y="0"/>
                    </a:lnTo>
                    <a:lnTo>
                      <a:pt x="378" y="533"/>
                    </a:lnTo>
                    <a:lnTo>
                      <a:pt x="235" y="272"/>
                    </a:lnTo>
                    <a:lnTo>
                      <a:pt x="166" y="233"/>
                    </a:lnTo>
                    <a:lnTo>
                      <a:pt x="83" y="222"/>
                    </a:lnTo>
                    <a:lnTo>
                      <a:pt x="0" y="25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65" name=""/>
              <p:cNvSpPr/>
              <p:nvPr/>
            </p:nvSpPr>
            <p:spPr>
              <a:xfrm>
                <a:off x="5034600" y="4861080"/>
                <a:ext cx="59400" cy="122760"/>
              </a:xfrm>
              <a:custGeom>
                <a:avLst/>
                <a:gdLst/>
                <a:ahLst/>
                <a:rect l="l" t="t" r="r" b="b"/>
                <a:pathLst>
                  <a:path w="717" h="1161">
                    <a:moveTo>
                      <a:pt x="261" y="0"/>
                    </a:moveTo>
                    <a:lnTo>
                      <a:pt x="252" y="99"/>
                    </a:lnTo>
                    <a:lnTo>
                      <a:pt x="177" y="240"/>
                    </a:lnTo>
                    <a:lnTo>
                      <a:pt x="76" y="390"/>
                    </a:lnTo>
                    <a:lnTo>
                      <a:pt x="34" y="509"/>
                    </a:lnTo>
                    <a:lnTo>
                      <a:pt x="34" y="572"/>
                    </a:lnTo>
                    <a:lnTo>
                      <a:pt x="67" y="656"/>
                    </a:lnTo>
                    <a:lnTo>
                      <a:pt x="94" y="724"/>
                    </a:lnTo>
                    <a:lnTo>
                      <a:pt x="0" y="724"/>
                    </a:lnTo>
                    <a:lnTo>
                      <a:pt x="127" y="763"/>
                    </a:lnTo>
                    <a:lnTo>
                      <a:pt x="177" y="889"/>
                    </a:lnTo>
                    <a:lnTo>
                      <a:pt x="325" y="889"/>
                    </a:lnTo>
                    <a:lnTo>
                      <a:pt x="496" y="1161"/>
                    </a:lnTo>
                    <a:lnTo>
                      <a:pt x="535" y="1091"/>
                    </a:lnTo>
                    <a:lnTo>
                      <a:pt x="535" y="970"/>
                    </a:lnTo>
                    <a:lnTo>
                      <a:pt x="643" y="774"/>
                    </a:lnTo>
                    <a:lnTo>
                      <a:pt x="717" y="473"/>
                    </a:lnTo>
                    <a:lnTo>
                      <a:pt x="616" y="756"/>
                    </a:lnTo>
                    <a:lnTo>
                      <a:pt x="560" y="733"/>
                    </a:lnTo>
                    <a:lnTo>
                      <a:pt x="595" y="673"/>
                    </a:lnTo>
                    <a:lnTo>
                      <a:pt x="217" y="839"/>
                    </a:lnTo>
                    <a:lnTo>
                      <a:pt x="210" y="763"/>
                    </a:lnTo>
                    <a:lnTo>
                      <a:pt x="127" y="708"/>
                    </a:lnTo>
                    <a:lnTo>
                      <a:pt x="337" y="524"/>
                    </a:lnTo>
                    <a:lnTo>
                      <a:pt x="184" y="608"/>
                    </a:lnTo>
                    <a:lnTo>
                      <a:pt x="153" y="524"/>
                    </a:lnTo>
                    <a:lnTo>
                      <a:pt x="159" y="422"/>
                    </a:lnTo>
                    <a:lnTo>
                      <a:pt x="201" y="341"/>
                    </a:lnTo>
                    <a:lnTo>
                      <a:pt x="344" y="168"/>
                    </a:lnTo>
                    <a:lnTo>
                      <a:pt x="360" y="99"/>
                    </a:lnTo>
                    <a:lnTo>
                      <a:pt x="344" y="58"/>
                    </a:lnTo>
                    <a:lnTo>
                      <a:pt x="293" y="58"/>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6" name=""/>
              <p:cNvSpPr/>
              <p:nvPr/>
            </p:nvSpPr>
            <p:spPr>
              <a:xfrm>
                <a:off x="5046120" y="4989240"/>
                <a:ext cx="64080" cy="53280"/>
              </a:xfrm>
              <a:custGeom>
                <a:avLst/>
                <a:gdLst/>
                <a:ahLst/>
                <a:rect l="l" t="t" r="r" b="b"/>
                <a:pathLst>
                  <a:path w="775" h="510">
                    <a:moveTo>
                      <a:pt x="0" y="510"/>
                    </a:moveTo>
                    <a:lnTo>
                      <a:pt x="92" y="353"/>
                    </a:lnTo>
                    <a:lnTo>
                      <a:pt x="472" y="182"/>
                    </a:lnTo>
                    <a:lnTo>
                      <a:pt x="672" y="182"/>
                    </a:lnTo>
                    <a:lnTo>
                      <a:pt x="775" y="118"/>
                    </a:lnTo>
                    <a:lnTo>
                      <a:pt x="540" y="118"/>
                    </a:lnTo>
                    <a:lnTo>
                      <a:pt x="393" y="171"/>
                    </a:lnTo>
                    <a:lnTo>
                      <a:pt x="327" y="143"/>
                    </a:lnTo>
                    <a:lnTo>
                      <a:pt x="342" y="0"/>
                    </a:lnTo>
                    <a:lnTo>
                      <a:pt x="261" y="14"/>
                    </a:lnTo>
                    <a:lnTo>
                      <a:pt x="261" y="171"/>
                    </a:lnTo>
                    <a:lnTo>
                      <a:pt x="197" y="251"/>
                    </a:lnTo>
                    <a:lnTo>
                      <a:pt x="105" y="261"/>
                    </a:lnTo>
                    <a:lnTo>
                      <a:pt x="12" y="393"/>
                    </a:lnTo>
                    <a:lnTo>
                      <a:pt x="0" y="51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67" name=""/>
              <p:cNvSpPr/>
              <p:nvPr/>
            </p:nvSpPr>
            <p:spPr>
              <a:xfrm>
                <a:off x="5051160" y="5140080"/>
                <a:ext cx="98640" cy="47160"/>
              </a:xfrm>
              <a:custGeom>
                <a:avLst/>
                <a:gdLst/>
                <a:ahLst/>
                <a:rect l="l" t="t" r="r" b="b"/>
                <a:pathLst>
                  <a:path w="1191" h="446">
                    <a:moveTo>
                      <a:pt x="1191" y="174"/>
                    </a:moveTo>
                    <a:lnTo>
                      <a:pt x="841" y="283"/>
                    </a:lnTo>
                    <a:lnTo>
                      <a:pt x="622" y="446"/>
                    </a:lnTo>
                    <a:lnTo>
                      <a:pt x="609" y="374"/>
                    </a:lnTo>
                    <a:lnTo>
                      <a:pt x="912" y="176"/>
                    </a:lnTo>
                    <a:lnTo>
                      <a:pt x="877" y="137"/>
                    </a:lnTo>
                    <a:lnTo>
                      <a:pt x="708" y="149"/>
                    </a:lnTo>
                    <a:lnTo>
                      <a:pt x="490" y="213"/>
                    </a:lnTo>
                    <a:lnTo>
                      <a:pt x="512" y="108"/>
                    </a:lnTo>
                    <a:lnTo>
                      <a:pt x="313" y="96"/>
                    </a:lnTo>
                    <a:lnTo>
                      <a:pt x="205" y="55"/>
                    </a:lnTo>
                    <a:lnTo>
                      <a:pt x="69" y="24"/>
                    </a:lnTo>
                    <a:lnTo>
                      <a:pt x="0" y="61"/>
                    </a:lnTo>
                    <a:lnTo>
                      <a:pt x="80" y="0"/>
                    </a:lnTo>
                    <a:lnTo>
                      <a:pt x="246" y="47"/>
                    </a:lnTo>
                    <a:lnTo>
                      <a:pt x="409" y="77"/>
                    </a:lnTo>
                    <a:lnTo>
                      <a:pt x="537" y="73"/>
                    </a:lnTo>
                    <a:lnTo>
                      <a:pt x="652" y="55"/>
                    </a:lnTo>
                    <a:lnTo>
                      <a:pt x="749" y="112"/>
                    </a:lnTo>
                    <a:lnTo>
                      <a:pt x="1028" y="96"/>
                    </a:lnTo>
                    <a:lnTo>
                      <a:pt x="1164" y="154"/>
                    </a:lnTo>
                    <a:lnTo>
                      <a:pt x="1191" y="17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68" name=""/>
              <p:cNvSpPr/>
              <p:nvPr/>
            </p:nvSpPr>
            <p:spPr>
              <a:xfrm>
                <a:off x="4933800" y="5093640"/>
                <a:ext cx="145080" cy="129240"/>
              </a:xfrm>
              <a:custGeom>
                <a:avLst/>
                <a:gdLst/>
                <a:ahLst/>
                <a:rect l="l" t="t" r="r" b="b"/>
                <a:pathLst>
                  <a:path w="1754" h="1222">
                    <a:moveTo>
                      <a:pt x="1289" y="666"/>
                    </a:moveTo>
                    <a:lnTo>
                      <a:pt x="1258" y="826"/>
                    </a:lnTo>
                    <a:lnTo>
                      <a:pt x="1258" y="945"/>
                    </a:lnTo>
                    <a:lnTo>
                      <a:pt x="1289" y="1042"/>
                    </a:lnTo>
                    <a:lnTo>
                      <a:pt x="1311" y="1098"/>
                    </a:lnTo>
                    <a:lnTo>
                      <a:pt x="1754" y="1222"/>
                    </a:lnTo>
                    <a:lnTo>
                      <a:pt x="1293" y="1160"/>
                    </a:lnTo>
                    <a:lnTo>
                      <a:pt x="1251" y="1098"/>
                    </a:lnTo>
                    <a:lnTo>
                      <a:pt x="876" y="1092"/>
                    </a:lnTo>
                    <a:lnTo>
                      <a:pt x="576" y="1035"/>
                    </a:lnTo>
                    <a:lnTo>
                      <a:pt x="311" y="955"/>
                    </a:lnTo>
                    <a:lnTo>
                      <a:pt x="93" y="860"/>
                    </a:lnTo>
                    <a:lnTo>
                      <a:pt x="69" y="826"/>
                    </a:lnTo>
                    <a:lnTo>
                      <a:pt x="51" y="749"/>
                    </a:lnTo>
                    <a:lnTo>
                      <a:pt x="0" y="652"/>
                    </a:lnTo>
                    <a:lnTo>
                      <a:pt x="12" y="615"/>
                    </a:lnTo>
                    <a:lnTo>
                      <a:pt x="32" y="588"/>
                    </a:lnTo>
                    <a:lnTo>
                      <a:pt x="32" y="452"/>
                    </a:lnTo>
                    <a:lnTo>
                      <a:pt x="51" y="406"/>
                    </a:lnTo>
                    <a:lnTo>
                      <a:pt x="80" y="382"/>
                    </a:lnTo>
                    <a:lnTo>
                      <a:pt x="58" y="433"/>
                    </a:lnTo>
                    <a:lnTo>
                      <a:pt x="51" y="547"/>
                    </a:lnTo>
                    <a:lnTo>
                      <a:pt x="58" y="613"/>
                    </a:lnTo>
                    <a:lnTo>
                      <a:pt x="230" y="756"/>
                    </a:lnTo>
                    <a:lnTo>
                      <a:pt x="258" y="749"/>
                    </a:lnTo>
                    <a:lnTo>
                      <a:pt x="278" y="670"/>
                    </a:lnTo>
                    <a:lnTo>
                      <a:pt x="170" y="494"/>
                    </a:lnTo>
                    <a:lnTo>
                      <a:pt x="140" y="344"/>
                    </a:lnTo>
                    <a:lnTo>
                      <a:pt x="201" y="202"/>
                    </a:lnTo>
                    <a:lnTo>
                      <a:pt x="201" y="426"/>
                    </a:lnTo>
                    <a:lnTo>
                      <a:pt x="361" y="786"/>
                    </a:lnTo>
                    <a:lnTo>
                      <a:pt x="438" y="802"/>
                    </a:lnTo>
                    <a:lnTo>
                      <a:pt x="489" y="770"/>
                    </a:lnTo>
                    <a:lnTo>
                      <a:pt x="480" y="685"/>
                    </a:lnTo>
                    <a:lnTo>
                      <a:pt x="320" y="286"/>
                    </a:lnTo>
                    <a:lnTo>
                      <a:pt x="320" y="166"/>
                    </a:lnTo>
                    <a:lnTo>
                      <a:pt x="320" y="72"/>
                    </a:lnTo>
                    <a:lnTo>
                      <a:pt x="361" y="0"/>
                    </a:lnTo>
                    <a:lnTo>
                      <a:pt x="343" y="136"/>
                    </a:lnTo>
                    <a:lnTo>
                      <a:pt x="350" y="272"/>
                    </a:lnTo>
                    <a:lnTo>
                      <a:pt x="451" y="540"/>
                    </a:lnTo>
                    <a:lnTo>
                      <a:pt x="493" y="560"/>
                    </a:lnTo>
                    <a:lnTo>
                      <a:pt x="535" y="516"/>
                    </a:lnTo>
                    <a:lnTo>
                      <a:pt x="553" y="468"/>
                    </a:lnTo>
                    <a:lnTo>
                      <a:pt x="546" y="362"/>
                    </a:lnTo>
                    <a:lnTo>
                      <a:pt x="528" y="219"/>
                    </a:lnTo>
                    <a:lnTo>
                      <a:pt x="553" y="215"/>
                    </a:lnTo>
                    <a:lnTo>
                      <a:pt x="581" y="459"/>
                    </a:lnTo>
                    <a:lnTo>
                      <a:pt x="570" y="523"/>
                    </a:lnTo>
                    <a:lnTo>
                      <a:pt x="541" y="569"/>
                    </a:lnTo>
                    <a:lnTo>
                      <a:pt x="498" y="613"/>
                    </a:lnTo>
                    <a:lnTo>
                      <a:pt x="511" y="740"/>
                    </a:lnTo>
                    <a:lnTo>
                      <a:pt x="504" y="826"/>
                    </a:lnTo>
                    <a:lnTo>
                      <a:pt x="456" y="844"/>
                    </a:lnTo>
                    <a:lnTo>
                      <a:pt x="392" y="839"/>
                    </a:lnTo>
                    <a:lnTo>
                      <a:pt x="311" y="795"/>
                    </a:lnTo>
                    <a:lnTo>
                      <a:pt x="265" y="802"/>
                    </a:lnTo>
                    <a:lnTo>
                      <a:pt x="93" y="724"/>
                    </a:lnTo>
                    <a:lnTo>
                      <a:pt x="87" y="806"/>
                    </a:lnTo>
                    <a:lnTo>
                      <a:pt x="152" y="867"/>
                    </a:lnTo>
                    <a:lnTo>
                      <a:pt x="504" y="986"/>
                    </a:lnTo>
                    <a:lnTo>
                      <a:pt x="792" y="1048"/>
                    </a:lnTo>
                    <a:lnTo>
                      <a:pt x="1042" y="1058"/>
                    </a:lnTo>
                    <a:lnTo>
                      <a:pt x="1238" y="1058"/>
                    </a:lnTo>
                    <a:lnTo>
                      <a:pt x="1229" y="955"/>
                    </a:lnTo>
                    <a:lnTo>
                      <a:pt x="1238" y="826"/>
                    </a:lnTo>
                    <a:lnTo>
                      <a:pt x="1263" y="722"/>
                    </a:lnTo>
                    <a:lnTo>
                      <a:pt x="1289"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9" name=""/>
              <p:cNvSpPr/>
              <p:nvPr/>
            </p:nvSpPr>
            <p:spPr>
              <a:xfrm>
                <a:off x="4977000" y="5093640"/>
                <a:ext cx="69480" cy="57600"/>
              </a:xfrm>
              <a:custGeom>
                <a:avLst/>
                <a:gdLst/>
                <a:ahLst/>
                <a:rect l="l" t="t" r="r" b="b"/>
                <a:pathLst>
                  <a:path w="846" h="547">
                    <a:moveTo>
                      <a:pt x="0" y="30"/>
                    </a:moveTo>
                    <a:lnTo>
                      <a:pt x="45" y="94"/>
                    </a:lnTo>
                    <a:lnTo>
                      <a:pt x="101" y="210"/>
                    </a:lnTo>
                    <a:lnTo>
                      <a:pt x="36" y="219"/>
                    </a:lnTo>
                    <a:lnTo>
                      <a:pt x="36" y="237"/>
                    </a:lnTo>
                    <a:lnTo>
                      <a:pt x="174" y="246"/>
                    </a:lnTo>
                    <a:lnTo>
                      <a:pt x="322" y="254"/>
                    </a:lnTo>
                    <a:lnTo>
                      <a:pt x="248" y="233"/>
                    </a:lnTo>
                    <a:lnTo>
                      <a:pt x="394" y="178"/>
                    </a:lnTo>
                    <a:lnTo>
                      <a:pt x="472" y="189"/>
                    </a:lnTo>
                    <a:lnTo>
                      <a:pt x="598" y="297"/>
                    </a:lnTo>
                    <a:lnTo>
                      <a:pt x="675" y="422"/>
                    </a:lnTo>
                    <a:lnTo>
                      <a:pt x="767" y="512"/>
                    </a:lnTo>
                    <a:lnTo>
                      <a:pt x="820" y="547"/>
                    </a:lnTo>
                    <a:lnTo>
                      <a:pt x="846" y="523"/>
                    </a:lnTo>
                    <a:lnTo>
                      <a:pt x="758" y="468"/>
                    </a:lnTo>
                    <a:lnTo>
                      <a:pt x="679" y="392"/>
                    </a:lnTo>
                    <a:lnTo>
                      <a:pt x="611" y="286"/>
                    </a:lnTo>
                    <a:lnTo>
                      <a:pt x="534" y="184"/>
                    </a:lnTo>
                    <a:lnTo>
                      <a:pt x="394" y="136"/>
                    </a:lnTo>
                    <a:lnTo>
                      <a:pt x="317" y="154"/>
                    </a:lnTo>
                    <a:lnTo>
                      <a:pt x="223" y="189"/>
                    </a:lnTo>
                    <a:lnTo>
                      <a:pt x="161" y="184"/>
                    </a:lnTo>
                    <a:lnTo>
                      <a:pt x="244" y="90"/>
                    </a:lnTo>
                    <a:lnTo>
                      <a:pt x="283" y="30"/>
                    </a:lnTo>
                    <a:lnTo>
                      <a:pt x="275" y="0"/>
                    </a:lnTo>
                    <a:lnTo>
                      <a:pt x="223" y="79"/>
                    </a:lnTo>
                    <a:lnTo>
                      <a:pt x="119" y="154"/>
                    </a:lnTo>
                    <a:lnTo>
                      <a:pt x="0" y="3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70" name=""/>
              <p:cNvSpPr/>
              <p:nvPr/>
            </p:nvSpPr>
            <p:spPr>
              <a:xfrm>
                <a:off x="4807080" y="4619520"/>
                <a:ext cx="109440" cy="130320"/>
              </a:xfrm>
              <a:custGeom>
                <a:avLst/>
                <a:gdLst/>
                <a:ahLst/>
                <a:rect l="l" t="t" r="r" b="b"/>
                <a:pathLst>
                  <a:path w="1323" h="1233">
                    <a:moveTo>
                      <a:pt x="680" y="329"/>
                    </a:moveTo>
                    <a:lnTo>
                      <a:pt x="759" y="233"/>
                    </a:lnTo>
                    <a:lnTo>
                      <a:pt x="833" y="191"/>
                    </a:lnTo>
                    <a:lnTo>
                      <a:pt x="918" y="186"/>
                    </a:lnTo>
                    <a:lnTo>
                      <a:pt x="1026" y="239"/>
                    </a:lnTo>
                    <a:lnTo>
                      <a:pt x="1086" y="329"/>
                    </a:lnTo>
                    <a:lnTo>
                      <a:pt x="1116" y="433"/>
                    </a:lnTo>
                    <a:lnTo>
                      <a:pt x="1128" y="539"/>
                    </a:lnTo>
                    <a:lnTo>
                      <a:pt x="1123" y="648"/>
                    </a:lnTo>
                    <a:lnTo>
                      <a:pt x="1112" y="753"/>
                    </a:lnTo>
                    <a:lnTo>
                      <a:pt x="1141" y="857"/>
                    </a:lnTo>
                    <a:lnTo>
                      <a:pt x="1165" y="744"/>
                    </a:lnTo>
                    <a:lnTo>
                      <a:pt x="1242" y="689"/>
                    </a:lnTo>
                    <a:lnTo>
                      <a:pt x="1291" y="728"/>
                    </a:lnTo>
                    <a:lnTo>
                      <a:pt x="1305" y="857"/>
                    </a:lnTo>
                    <a:lnTo>
                      <a:pt x="1296" y="960"/>
                    </a:lnTo>
                    <a:lnTo>
                      <a:pt x="1238" y="1046"/>
                    </a:lnTo>
                    <a:lnTo>
                      <a:pt x="1209" y="1083"/>
                    </a:lnTo>
                    <a:lnTo>
                      <a:pt x="1152" y="1127"/>
                    </a:lnTo>
                    <a:lnTo>
                      <a:pt x="1222" y="1101"/>
                    </a:lnTo>
                    <a:lnTo>
                      <a:pt x="1310" y="966"/>
                    </a:lnTo>
                    <a:lnTo>
                      <a:pt x="1323" y="834"/>
                    </a:lnTo>
                    <a:lnTo>
                      <a:pt x="1296" y="696"/>
                    </a:lnTo>
                    <a:lnTo>
                      <a:pt x="1242" y="666"/>
                    </a:lnTo>
                    <a:lnTo>
                      <a:pt x="1242" y="585"/>
                    </a:lnTo>
                    <a:lnTo>
                      <a:pt x="1183" y="323"/>
                    </a:lnTo>
                    <a:lnTo>
                      <a:pt x="1086" y="175"/>
                    </a:lnTo>
                    <a:lnTo>
                      <a:pt x="971" y="74"/>
                    </a:lnTo>
                    <a:lnTo>
                      <a:pt x="840" y="32"/>
                    </a:lnTo>
                    <a:lnTo>
                      <a:pt x="629" y="0"/>
                    </a:lnTo>
                    <a:lnTo>
                      <a:pt x="392" y="32"/>
                    </a:lnTo>
                    <a:lnTo>
                      <a:pt x="213" y="131"/>
                    </a:lnTo>
                    <a:lnTo>
                      <a:pt x="97" y="255"/>
                    </a:lnTo>
                    <a:lnTo>
                      <a:pt x="26" y="404"/>
                    </a:lnTo>
                    <a:lnTo>
                      <a:pt x="12" y="562"/>
                    </a:lnTo>
                    <a:lnTo>
                      <a:pt x="26" y="786"/>
                    </a:lnTo>
                    <a:lnTo>
                      <a:pt x="0" y="857"/>
                    </a:lnTo>
                    <a:lnTo>
                      <a:pt x="23" y="995"/>
                    </a:lnTo>
                    <a:lnTo>
                      <a:pt x="97" y="1113"/>
                    </a:lnTo>
                    <a:lnTo>
                      <a:pt x="198" y="1196"/>
                    </a:lnTo>
                    <a:lnTo>
                      <a:pt x="249" y="1201"/>
                    </a:lnTo>
                    <a:lnTo>
                      <a:pt x="279" y="1233"/>
                    </a:lnTo>
                    <a:lnTo>
                      <a:pt x="264" y="1152"/>
                    </a:lnTo>
                    <a:lnTo>
                      <a:pt x="213" y="1187"/>
                    </a:lnTo>
                    <a:lnTo>
                      <a:pt x="104" y="1106"/>
                    </a:lnTo>
                    <a:lnTo>
                      <a:pt x="33" y="973"/>
                    </a:lnTo>
                    <a:lnTo>
                      <a:pt x="26" y="868"/>
                    </a:lnTo>
                    <a:lnTo>
                      <a:pt x="49" y="843"/>
                    </a:lnTo>
                    <a:lnTo>
                      <a:pt x="121" y="857"/>
                    </a:lnTo>
                    <a:lnTo>
                      <a:pt x="213" y="936"/>
                    </a:lnTo>
                    <a:lnTo>
                      <a:pt x="194" y="830"/>
                    </a:lnTo>
                    <a:lnTo>
                      <a:pt x="167" y="771"/>
                    </a:lnTo>
                    <a:lnTo>
                      <a:pt x="130" y="668"/>
                    </a:lnTo>
                    <a:lnTo>
                      <a:pt x="108" y="551"/>
                    </a:lnTo>
                    <a:lnTo>
                      <a:pt x="108" y="459"/>
                    </a:lnTo>
                    <a:lnTo>
                      <a:pt x="130" y="382"/>
                    </a:lnTo>
                    <a:lnTo>
                      <a:pt x="171" y="323"/>
                    </a:lnTo>
                    <a:lnTo>
                      <a:pt x="227" y="281"/>
                    </a:lnTo>
                    <a:lnTo>
                      <a:pt x="286" y="265"/>
                    </a:lnTo>
                    <a:lnTo>
                      <a:pt x="354" y="281"/>
                    </a:lnTo>
                    <a:lnTo>
                      <a:pt x="420" y="318"/>
                    </a:lnTo>
                    <a:lnTo>
                      <a:pt x="466" y="355"/>
                    </a:lnTo>
                    <a:lnTo>
                      <a:pt x="521" y="369"/>
                    </a:lnTo>
                    <a:lnTo>
                      <a:pt x="607" y="362"/>
                    </a:lnTo>
                    <a:lnTo>
                      <a:pt x="655" y="345"/>
                    </a:lnTo>
                    <a:lnTo>
                      <a:pt x="680"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1" name=""/>
              <p:cNvSpPr/>
              <p:nvPr/>
            </p:nvSpPr>
            <p:spPr>
              <a:xfrm>
                <a:off x="4831200" y="4712040"/>
                <a:ext cx="34920" cy="8280"/>
              </a:xfrm>
              <a:custGeom>
                <a:avLst/>
                <a:gdLst/>
                <a:ahLst/>
                <a:rect l="l" t="t" r="r" b="b"/>
                <a:pathLst>
                  <a:path w="424" h="83">
                    <a:moveTo>
                      <a:pt x="0" y="42"/>
                    </a:moveTo>
                    <a:lnTo>
                      <a:pt x="74" y="22"/>
                    </a:lnTo>
                    <a:lnTo>
                      <a:pt x="157" y="15"/>
                    </a:lnTo>
                    <a:lnTo>
                      <a:pt x="274" y="15"/>
                    </a:lnTo>
                    <a:lnTo>
                      <a:pt x="338" y="8"/>
                    </a:lnTo>
                    <a:lnTo>
                      <a:pt x="424" y="0"/>
                    </a:lnTo>
                    <a:lnTo>
                      <a:pt x="389" y="46"/>
                    </a:lnTo>
                    <a:lnTo>
                      <a:pt x="300" y="52"/>
                    </a:lnTo>
                    <a:lnTo>
                      <a:pt x="305" y="83"/>
                    </a:lnTo>
                    <a:lnTo>
                      <a:pt x="263" y="52"/>
                    </a:lnTo>
                    <a:lnTo>
                      <a:pt x="204" y="46"/>
                    </a:lnTo>
                    <a:lnTo>
                      <a:pt x="129" y="56"/>
                    </a:lnTo>
                    <a:lnTo>
                      <a:pt x="210" y="28"/>
                    </a:lnTo>
                    <a:lnTo>
                      <a:pt x="134" y="28"/>
                    </a:lnTo>
                    <a:lnTo>
                      <a:pt x="63" y="42"/>
                    </a:lnTo>
                    <a:lnTo>
                      <a:pt x="0" y="4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72" name=""/>
              <p:cNvSpPr/>
              <p:nvPr/>
            </p:nvSpPr>
            <p:spPr>
              <a:xfrm>
                <a:off x="4829760" y="4713480"/>
                <a:ext cx="26280" cy="17640"/>
              </a:xfrm>
              <a:custGeom>
                <a:avLst/>
                <a:gdLst/>
                <a:ahLst/>
                <a:rect l="l" t="t" r="r" b="b"/>
                <a:pathLst>
                  <a:path w="318" h="161">
                    <a:moveTo>
                      <a:pt x="0" y="22"/>
                    </a:moveTo>
                    <a:lnTo>
                      <a:pt x="24" y="50"/>
                    </a:lnTo>
                    <a:lnTo>
                      <a:pt x="92" y="74"/>
                    </a:lnTo>
                    <a:lnTo>
                      <a:pt x="138" y="108"/>
                    </a:lnTo>
                    <a:lnTo>
                      <a:pt x="119" y="127"/>
                    </a:lnTo>
                    <a:lnTo>
                      <a:pt x="175" y="161"/>
                    </a:lnTo>
                    <a:lnTo>
                      <a:pt x="237" y="145"/>
                    </a:lnTo>
                    <a:lnTo>
                      <a:pt x="281" y="117"/>
                    </a:lnTo>
                    <a:lnTo>
                      <a:pt x="228" y="108"/>
                    </a:lnTo>
                    <a:lnTo>
                      <a:pt x="318" y="59"/>
                    </a:lnTo>
                    <a:lnTo>
                      <a:pt x="310" y="44"/>
                    </a:lnTo>
                    <a:lnTo>
                      <a:pt x="222" y="97"/>
                    </a:lnTo>
                    <a:lnTo>
                      <a:pt x="175" y="103"/>
                    </a:lnTo>
                    <a:lnTo>
                      <a:pt x="119" y="81"/>
                    </a:lnTo>
                    <a:lnTo>
                      <a:pt x="99" y="53"/>
                    </a:lnTo>
                    <a:lnTo>
                      <a:pt x="156" y="32"/>
                    </a:lnTo>
                    <a:lnTo>
                      <a:pt x="99" y="39"/>
                    </a:lnTo>
                    <a:lnTo>
                      <a:pt x="77" y="0"/>
                    </a:lnTo>
                    <a:lnTo>
                      <a:pt x="0"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73" name=""/>
              <p:cNvSpPr/>
              <p:nvPr/>
            </p:nvSpPr>
            <p:spPr>
              <a:xfrm>
                <a:off x="4869000" y="4701600"/>
                <a:ext cx="27000" cy="8280"/>
              </a:xfrm>
              <a:custGeom>
                <a:avLst/>
                <a:gdLst/>
                <a:ahLst/>
                <a:rect l="l" t="t" r="r" b="b"/>
                <a:pathLst>
                  <a:path w="327" h="85">
                    <a:moveTo>
                      <a:pt x="0" y="85"/>
                    </a:moveTo>
                    <a:lnTo>
                      <a:pt x="211" y="0"/>
                    </a:lnTo>
                    <a:lnTo>
                      <a:pt x="269" y="12"/>
                    </a:lnTo>
                    <a:lnTo>
                      <a:pt x="327" y="35"/>
                    </a:lnTo>
                    <a:lnTo>
                      <a:pt x="253" y="28"/>
                    </a:lnTo>
                    <a:lnTo>
                      <a:pt x="200" y="28"/>
                    </a:lnTo>
                    <a:lnTo>
                      <a:pt x="130" y="48"/>
                    </a:lnTo>
                    <a:lnTo>
                      <a:pt x="0" y="8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74" name=""/>
              <p:cNvSpPr/>
              <p:nvPr/>
            </p:nvSpPr>
            <p:spPr>
              <a:xfrm>
                <a:off x="4870800" y="4710240"/>
                <a:ext cx="21600" cy="10080"/>
              </a:xfrm>
              <a:custGeom>
                <a:avLst/>
                <a:gdLst/>
                <a:ahLst/>
                <a:rect l="l" t="t" r="r" b="b"/>
                <a:pathLst>
                  <a:path w="261" h="99">
                    <a:moveTo>
                      <a:pt x="0" y="53"/>
                    </a:moveTo>
                    <a:lnTo>
                      <a:pt x="70" y="2"/>
                    </a:lnTo>
                    <a:lnTo>
                      <a:pt x="166" y="0"/>
                    </a:lnTo>
                    <a:lnTo>
                      <a:pt x="261" y="11"/>
                    </a:lnTo>
                    <a:lnTo>
                      <a:pt x="224" y="57"/>
                    </a:lnTo>
                    <a:lnTo>
                      <a:pt x="166" y="85"/>
                    </a:lnTo>
                    <a:lnTo>
                      <a:pt x="116" y="99"/>
                    </a:lnTo>
                    <a:lnTo>
                      <a:pt x="42" y="88"/>
                    </a:lnTo>
                    <a:lnTo>
                      <a:pt x="116" y="88"/>
                    </a:lnTo>
                    <a:lnTo>
                      <a:pt x="193" y="57"/>
                    </a:lnTo>
                    <a:lnTo>
                      <a:pt x="240" y="15"/>
                    </a:lnTo>
                    <a:lnTo>
                      <a:pt x="153" y="11"/>
                    </a:lnTo>
                    <a:lnTo>
                      <a:pt x="83" y="15"/>
                    </a:lnTo>
                    <a:lnTo>
                      <a:pt x="30" y="53"/>
                    </a:lnTo>
                    <a:lnTo>
                      <a:pt x="0" y="5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75" name=""/>
              <p:cNvSpPr/>
              <p:nvPr/>
            </p:nvSpPr>
            <p:spPr>
              <a:xfrm>
                <a:off x="4865400" y="4705200"/>
                <a:ext cx="20520" cy="29520"/>
              </a:xfrm>
              <a:custGeom>
                <a:avLst/>
                <a:gdLst/>
                <a:ahLst/>
                <a:rect l="l" t="t" r="r" b="b"/>
                <a:pathLst>
                  <a:path w="248" h="281">
                    <a:moveTo>
                      <a:pt x="173" y="11"/>
                    </a:moveTo>
                    <a:lnTo>
                      <a:pt x="248" y="25"/>
                    </a:lnTo>
                    <a:lnTo>
                      <a:pt x="158" y="25"/>
                    </a:lnTo>
                    <a:lnTo>
                      <a:pt x="122" y="63"/>
                    </a:lnTo>
                    <a:lnTo>
                      <a:pt x="74" y="94"/>
                    </a:lnTo>
                    <a:lnTo>
                      <a:pt x="55" y="133"/>
                    </a:lnTo>
                    <a:lnTo>
                      <a:pt x="55" y="186"/>
                    </a:lnTo>
                    <a:lnTo>
                      <a:pt x="74" y="281"/>
                    </a:lnTo>
                    <a:lnTo>
                      <a:pt x="43" y="191"/>
                    </a:lnTo>
                    <a:lnTo>
                      <a:pt x="37" y="142"/>
                    </a:lnTo>
                    <a:lnTo>
                      <a:pt x="34" y="105"/>
                    </a:lnTo>
                    <a:lnTo>
                      <a:pt x="0" y="63"/>
                    </a:lnTo>
                    <a:lnTo>
                      <a:pt x="140" y="21"/>
                    </a:lnTo>
                    <a:lnTo>
                      <a:pt x="204" y="0"/>
                    </a:lnTo>
                    <a:lnTo>
                      <a:pt x="173" y="1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676" name=""/>
              <p:cNvSpPr/>
              <p:nvPr/>
            </p:nvSpPr>
            <p:spPr>
              <a:xfrm>
                <a:off x="4857840" y="4716000"/>
                <a:ext cx="3600" cy="24480"/>
              </a:xfrm>
              <a:custGeom>
                <a:avLst/>
                <a:gdLst/>
                <a:ahLst/>
                <a:rect l="l" t="t" r="r" b="b"/>
                <a:pathLst>
                  <a:path w="48" h="233">
                    <a:moveTo>
                      <a:pt x="0" y="10"/>
                    </a:moveTo>
                    <a:lnTo>
                      <a:pt x="22" y="90"/>
                    </a:lnTo>
                    <a:lnTo>
                      <a:pt x="27" y="153"/>
                    </a:lnTo>
                    <a:lnTo>
                      <a:pt x="39" y="233"/>
                    </a:lnTo>
                    <a:lnTo>
                      <a:pt x="48" y="149"/>
                    </a:lnTo>
                    <a:lnTo>
                      <a:pt x="41" y="85"/>
                    </a:lnTo>
                    <a:lnTo>
                      <a:pt x="35" y="32"/>
                    </a:lnTo>
                    <a:lnTo>
                      <a:pt x="27" y="0"/>
                    </a:lnTo>
                    <a:lnTo>
                      <a:pt x="0" y="1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677" name=""/>
              <p:cNvSpPr/>
              <p:nvPr/>
            </p:nvSpPr>
            <p:spPr>
              <a:xfrm>
                <a:off x="4874400" y="4719600"/>
                <a:ext cx="14400" cy="5760"/>
              </a:xfrm>
              <a:custGeom>
                <a:avLst/>
                <a:gdLst/>
                <a:ahLst/>
                <a:rect l="l" t="t" r="r" b="b"/>
                <a:pathLst>
                  <a:path w="171" h="55">
                    <a:moveTo>
                      <a:pt x="32" y="11"/>
                    </a:moveTo>
                    <a:lnTo>
                      <a:pt x="0" y="44"/>
                    </a:lnTo>
                    <a:lnTo>
                      <a:pt x="65" y="55"/>
                    </a:lnTo>
                    <a:lnTo>
                      <a:pt x="106" y="44"/>
                    </a:lnTo>
                    <a:lnTo>
                      <a:pt x="171" y="11"/>
                    </a:lnTo>
                    <a:lnTo>
                      <a:pt x="124" y="11"/>
                    </a:lnTo>
                    <a:lnTo>
                      <a:pt x="81" y="0"/>
                    </a:lnTo>
                    <a:lnTo>
                      <a:pt x="32" y="1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78" name=""/>
              <p:cNvSpPr/>
              <p:nvPr/>
            </p:nvSpPr>
            <p:spPr>
              <a:xfrm>
                <a:off x="4811760" y="4718880"/>
                <a:ext cx="13680" cy="17640"/>
              </a:xfrm>
              <a:custGeom>
                <a:avLst/>
                <a:gdLst/>
                <a:ahLst/>
                <a:rect l="l" t="t" r="r" b="b"/>
                <a:pathLst>
                  <a:path w="174" h="170">
                    <a:moveTo>
                      <a:pt x="157" y="30"/>
                    </a:moveTo>
                    <a:lnTo>
                      <a:pt x="88" y="6"/>
                    </a:lnTo>
                    <a:lnTo>
                      <a:pt x="0" y="0"/>
                    </a:lnTo>
                    <a:lnTo>
                      <a:pt x="33" y="20"/>
                    </a:lnTo>
                    <a:lnTo>
                      <a:pt x="51" y="90"/>
                    </a:lnTo>
                    <a:lnTo>
                      <a:pt x="77" y="129"/>
                    </a:lnTo>
                    <a:lnTo>
                      <a:pt x="60" y="78"/>
                    </a:lnTo>
                    <a:lnTo>
                      <a:pt x="70" y="37"/>
                    </a:lnTo>
                    <a:lnTo>
                      <a:pt x="104" y="44"/>
                    </a:lnTo>
                    <a:lnTo>
                      <a:pt x="97" y="78"/>
                    </a:lnTo>
                    <a:lnTo>
                      <a:pt x="108" y="123"/>
                    </a:lnTo>
                    <a:lnTo>
                      <a:pt x="136" y="136"/>
                    </a:lnTo>
                    <a:lnTo>
                      <a:pt x="174" y="170"/>
                    </a:lnTo>
                    <a:lnTo>
                      <a:pt x="157" y="123"/>
                    </a:lnTo>
                    <a:lnTo>
                      <a:pt x="167" y="83"/>
                    </a:lnTo>
                    <a:lnTo>
                      <a:pt x="160" y="59"/>
                    </a:lnTo>
                    <a:lnTo>
                      <a:pt x="157" y="3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79" name=""/>
              <p:cNvSpPr/>
              <p:nvPr/>
            </p:nvSpPr>
            <p:spPr>
              <a:xfrm>
                <a:off x="4902120" y="4700880"/>
                <a:ext cx="10440" cy="30240"/>
              </a:xfrm>
              <a:custGeom>
                <a:avLst/>
                <a:gdLst/>
                <a:ahLst/>
                <a:rect l="l" t="t" r="r" b="b"/>
                <a:pathLst>
                  <a:path w="129" h="292">
                    <a:moveTo>
                      <a:pt x="0" y="116"/>
                    </a:moveTo>
                    <a:lnTo>
                      <a:pt x="23" y="109"/>
                    </a:lnTo>
                    <a:lnTo>
                      <a:pt x="63" y="55"/>
                    </a:lnTo>
                    <a:lnTo>
                      <a:pt x="116" y="0"/>
                    </a:lnTo>
                    <a:lnTo>
                      <a:pt x="104" y="46"/>
                    </a:lnTo>
                    <a:lnTo>
                      <a:pt x="129" y="90"/>
                    </a:lnTo>
                    <a:lnTo>
                      <a:pt x="129" y="147"/>
                    </a:lnTo>
                    <a:lnTo>
                      <a:pt x="104" y="199"/>
                    </a:lnTo>
                    <a:lnTo>
                      <a:pt x="116" y="136"/>
                    </a:lnTo>
                    <a:lnTo>
                      <a:pt x="113" y="105"/>
                    </a:lnTo>
                    <a:lnTo>
                      <a:pt x="83" y="76"/>
                    </a:lnTo>
                    <a:lnTo>
                      <a:pt x="69" y="109"/>
                    </a:lnTo>
                    <a:lnTo>
                      <a:pt x="92" y="147"/>
                    </a:lnTo>
                    <a:lnTo>
                      <a:pt x="83" y="184"/>
                    </a:lnTo>
                    <a:lnTo>
                      <a:pt x="54" y="199"/>
                    </a:lnTo>
                    <a:lnTo>
                      <a:pt x="37" y="228"/>
                    </a:lnTo>
                    <a:lnTo>
                      <a:pt x="19" y="292"/>
                    </a:lnTo>
                    <a:lnTo>
                      <a:pt x="17" y="237"/>
                    </a:lnTo>
                    <a:lnTo>
                      <a:pt x="30" y="184"/>
                    </a:lnTo>
                    <a:lnTo>
                      <a:pt x="19" y="164"/>
                    </a:lnTo>
                    <a:lnTo>
                      <a:pt x="0" y="143"/>
                    </a:lnTo>
                    <a:lnTo>
                      <a:pt x="0" y="11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80" name=""/>
              <p:cNvSpPr/>
              <p:nvPr/>
            </p:nvSpPr>
            <p:spPr>
              <a:xfrm>
                <a:off x="4842360" y="4716000"/>
                <a:ext cx="7920" cy="6840"/>
              </a:xfrm>
              <a:custGeom>
                <a:avLst/>
                <a:gdLst/>
                <a:ahLst/>
                <a:rect l="l" t="t" r="r" b="b"/>
                <a:pathLst>
                  <a:path w="99" h="63">
                    <a:moveTo>
                      <a:pt x="0" y="14"/>
                    </a:moveTo>
                    <a:lnTo>
                      <a:pt x="16" y="46"/>
                    </a:lnTo>
                    <a:lnTo>
                      <a:pt x="42" y="63"/>
                    </a:lnTo>
                    <a:lnTo>
                      <a:pt x="81" y="50"/>
                    </a:lnTo>
                    <a:lnTo>
                      <a:pt x="99" y="32"/>
                    </a:lnTo>
                    <a:lnTo>
                      <a:pt x="99" y="0"/>
                    </a:lnTo>
                    <a:lnTo>
                      <a:pt x="64" y="4"/>
                    </a:lnTo>
                    <a:lnTo>
                      <a:pt x="69" y="21"/>
                    </a:lnTo>
                    <a:lnTo>
                      <a:pt x="53" y="35"/>
                    </a:lnTo>
                    <a:lnTo>
                      <a:pt x="42" y="26"/>
                    </a:lnTo>
                    <a:lnTo>
                      <a:pt x="37" y="4"/>
                    </a:lnTo>
                    <a:lnTo>
                      <a:pt x="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681" name=""/>
              <p:cNvSpPr/>
              <p:nvPr/>
            </p:nvSpPr>
            <p:spPr>
              <a:xfrm>
                <a:off x="4877640" y="4710240"/>
                <a:ext cx="7200" cy="6840"/>
              </a:xfrm>
              <a:custGeom>
                <a:avLst/>
                <a:gdLst/>
                <a:ahLst/>
                <a:rect l="l" t="t" r="r" b="b"/>
                <a:pathLst>
                  <a:path w="92" h="61">
                    <a:moveTo>
                      <a:pt x="0" y="17"/>
                    </a:moveTo>
                    <a:lnTo>
                      <a:pt x="9" y="55"/>
                    </a:lnTo>
                    <a:lnTo>
                      <a:pt x="42" y="61"/>
                    </a:lnTo>
                    <a:lnTo>
                      <a:pt x="74" y="51"/>
                    </a:lnTo>
                    <a:lnTo>
                      <a:pt x="92" y="31"/>
                    </a:lnTo>
                    <a:lnTo>
                      <a:pt x="86" y="0"/>
                    </a:lnTo>
                    <a:lnTo>
                      <a:pt x="64" y="0"/>
                    </a:lnTo>
                    <a:lnTo>
                      <a:pt x="60" y="33"/>
                    </a:lnTo>
                    <a:lnTo>
                      <a:pt x="37" y="33"/>
                    </a:lnTo>
                    <a:lnTo>
                      <a:pt x="27" y="13"/>
                    </a:lnTo>
                    <a:lnTo>
                      <a:pt x="0" y="1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682" name=""/>
              <p:cNvSpPr/>
              <p:nvPr/>
            </p:nvSpPr>
            <p:spPr>
              <a:xfrm>
                <a:off x="4851720" y="4739040"/>
                <a:ext cx="30960" cy="21240"/>
              </a:xfrm>
              <a:custGeom>
                <a:avLst/>
                <a:gdLst/>
                <a:ahLst/>
                <a:rect l="l" t="t" r="r" b="b"/>
                <a:pathLst>
                  <a:path w="374" h="198">
                    <a:moveTo>
                      <a:pt x="31" y="0"/>
                    </a:moveTo>
                    <a:lnTo>
                      <a:pt x="0" y="37"/>
                    </a:lnTo>
                    <a:lnTo>
                      <a:pt x="0" y="79"/>
                    </a:lnTo>
                    <a:lnTo>
                      <a:pt x="26" y="90"/>
                    </a:lnTo>
                    <a:lnTo>
                      <a:pt x="46" y="132"/>
                    </a:lnTo>
                    <a:lnTo>
                      <a:pt x="127" y="163"/>
                    </a:lnTo>
                    <a:lnTo>
                      <a:pt x="199" y="198"/>
                    </a:lnTo>
                    <a:lnTo>
                      <a:pt x="235" y="198"/>
                    </a:lnTo>
                    <a:lnTo>
                      <a:pt x="305" y="120"/>
                    </a:lnTo>
                    <a:lnTo>
                      <a:pt x="360" y="90"/>
                    </a:lnTo>
                    <a:lnTo>
                      <a:pt x="374" y="37"/>
                    </a:lnTo>
                    <a:lnTo>
                      <a:pt x="365" y="22"/>
                    </a:lnTo>
                    <a:lnTo>
                      <a:pt x="342" y="0"/>
                    </a:lnTo>
                    <a:lnTo>
                      <a:pt x="354" y="25"/>
                    </a:lnTo>
                    <a:lnTo>
                      <a:pt x="347" y="46"/>
                    </a:lnTo>
                    <a:lnTo>
                      <a:pt x="325" y="46"/>
                    </a:lnTo>
                    <a:lnTo>
                      <a:pt x="285" y="69"/>
                    </a:lnTo>
                    <a:lnTo>
                      <a:pt x="261" y="97"/>
                    </a:lnTo>
                    <a:lnTo>
                      <a:pt x="235" y="120"/>
                    </a:lnTo>
                    <a:lnTo>
                      <a:pt x="187" y="127"/>
                    </a:lnTo>
                    <a:lnTo>
                      <a:pt x="141" y="117"/>
                    </a:lnTo>
                    <a:lnTo>
                      <a:pt x="107" y="97"/>
                    </a:lnTo>
                    <a:lnTo>
                      <a:pt x="63" y="79"/>
                    </a:lnTo>
                    <a:lnTo>
                      <a:pt x="26" y="79"/>
                    </a:lnTo>
                    <a:lnTo>
                      <a:pt x="8" y="60"/>
                    </a:lnTo>
                    <a:lnTo>
                      <a:pt x="15" y="37"/>
                    </a:lnTo>
                    <a:lnTo>
                      <a:pt x="31"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683" name=""/>
              <p:cNvSpPr/>
              <p:nvPr/>
            </p:nvSpPr>
            <p:spPr>
              <a:xfrm>
                <a:off x="4848840" y="4759200"/>
                <a:ext cx="42840" cy="9360"/>
              </a:xfrm>
              <a:custGeom>
                <a:avLst/>
                <a:gdLst/>
                <a:ahLst/>
                <a:rect l="l" t="t" r="r" b="b"/>
                <a:pathLst>
                  <a:path w="520" h="90">
                    <a:moveTo>
                      <a:pt x="48" y="60"/>
                    </a:moveTo>
                    <a:lnTo>
                      <a:pt x="101" y="40"/>
                    </a:lnTo>
                    <a:lnTo>
                      <a:pt x="174" y="23"/>
                    </a:lnTo>
                    <a:lnTo>
                      <a:pt x="259" y="24"/>
                    </a:lnTo>
                    <a:lnTo>
                      <a:pt x="343" y="7"/>
                    </a:lnTo>
                    <a:lnTo>
                      <a:pt x="488" y="23"/>
                    </a:lnTo>
                    <a:lnTo>
                      <a:pt x="511" y="0"/>
                    </a:lnTo>
                    <a:lnTo>
                      <a:pt x="520" y="31"/>
                    </a:lnTo>
                    <a:lnTo>
                      <a:pt x="501" y="46"/>
                    </a:lnTo>
                    <a:lnTo>
                      <a:pt x="477" y="31"/>
                    </a:lnTo>
                    <a:lnTo>
                      <a:pt x="417" y="24"/>
                    </a:lnTo>
                    <a:lnTo>
                      <a:pt x="327" y="46"/>
                    </a:lnTo>
                    <a:lnTo>
                      <a:pt x="253" y="64"/>
                    </a:lnTo>
                    <a:lnTo>
                      <a:pt x="128" y="60"/>
                    </a:lnTo>
                    <a:lnTo>
                      <a:pt x="41" y="70"/>
                    </a:lnTo>
                    <a:lnTo>
                      <a:pt x="20" y="90"/>
                    </a:lnTo>
                    <a:lnTo>
                      <a:pt x="0" y="79"/>
                    </a:lnTo>
                    <a:lnTo>
                      <a:pt x="4" y="53"/>
                    </a:lnTo>
                    <a:lnTo>
                      <a:pt x="27" y="46"/>
                    </a:lnTo>
                    <a:lnTo>
                      <a:pt x="48" y="6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84" name=""/>
              <p:cNvSpPr/>
              <p:nvPr/>
            </p:nvSpPr>
            <p:spPr>
              <a:xfrm>
                <a:off x="4858200" y="4771440"/>
                <a:ext cx="23760" cy="10080"/>
              </a:xfrm>
              <a:custGeom>
                <a:avLst/>
                <a:gdLst/>
                <a:ahLst/>
                <a:rect l="l" t="t" r="r" b="b"/>
                <a:pathLst>
                  <a:path w="286" h="94">
                    <a:moveTo>
                      <a:pt x="0" y="22"/>
                    </a:moveTo>
                    <a:lnTo>
                      <a:pt x="64" y="31"/>
                    </a:lnTo>
                    <a:lnTo>
                      <a:pt x="123" y="31"/>
                    </a:lnTo>
                    <a:lnTo>
                      <a:pt x="194" y="26"/>
                    </a:lnTo>
                    <a:lnTo>
                      <a:pt x="286" y="0"/>
                    </a:lnTo>
                    <a:lnTo>
                      <a:pt x="231" y="46"/>
                    </a:lnTo>
                    <a:lnTo>
                      <a:pt x="244" y="83"/>
                    </a:lnTo>
                    <a:lnTo>
                      <a:pt x="171" y="83"/>
                    </a:lnTo>
                    <a:lnTo>
                      <a:pt x="64" y="94"/>
                    </a:lnTo>
                    <a:lnTo>
                      <a:pt x="70" y="63"/>
                    </a:lnTo>
                    <a:lnTo>
                      <a:pt x="0" y="2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85" name=""/>
              <p:cNvSpPr/>
              <p:nvPr/>
            </p:nvSpPr>
            <p:spPr>
              <a:xfrm>
                <a:off x="4828320" y="4737600"/>
                <a:ext cx="75600" cy="64080"/>
              </a:xfrm>
              <a:custGeom>
                <a:avLst/>
                <a:gdLst/>
                <a:ahLst/>
                <a:rect l="l" t="t" r="r" b="b"/>
                <a:pathLst>
                  <a:path w="911" h="609">
                    <a:moveTo>
                      <a:pt x="0" y="83"/>
                    </a:moveTo>
                    <a:lnTo>
                      <a:pt x="96" y="339"/>
                    </a:lnTo>
                    <a:lnTo>
                      <a:pt x="157" y="438"/>
                    </a:lnTo>
                    <a:lnTo>
                      <a:pt x="226" y="498"/>
                    </a:lnTo>
                    <a:lnTo>
                      <a:pt x="304" y="546"/>
                    </a:lnTo>
                    <a:lnTo>
                      <a:pt x="394" y="576"/>
                    </a:lnTo>
                    <a:lnTo>
                      <a:pt x="487" y="609"/>
                    </a:lnTo>
                    <a:lnTo>
                      <a:pt x="570" y="609"/>
                    </a:lnTo>
                    <a:lnTo>
                      <a:pt x="669" y="581"/>
                    </a:lnTo>
                    <a:lnTo>
                      <a:pt x="735" y="535"/>
                    </a:lnTo>
                    <a:lnTo>
                      <a:pt x="793" y="464"/>
                    </a:lnTo>
                    <a:lnTo>
                      <a:pt x="848" y="374"/>
                    </a:lnTo>
                    <a:lnTo>
                      <a:pt x="883" y="288"/>
                    </a:lnTo>
                    <a:lnTo>
                      <a:pt x="898" y="183"/>
                    </a:lnTo>
                    <a:lnTo>
                      <a:pt x="911" y="0"/>
                    </a:lnTo>
                    <a:lnTo>
                      <a:pt x="892" y="14"/>
                    </a:lnTo>
                    <a:lnTo>
                      <a:pt x="869" y="265"/>
                    </a:lnTo>
                    <a:lnTo>
                      <a:pt x="839" y="353"/>
                    </a:lnTo>
                    <a:lnTo>
                      <a:pt x="793" y="434"/>
                    </a:lnTo>
                    <a:lnTo>
                      <a:pt x="724" y="517"/>
                    </a:lnTo>
                    <a:lnTo>
                      <a:pt x="659" y="558"/>
                    </a:lnTo>
                    <a:lnTo>
                      <a:pt x="659" y="528"/>
                    </a:lnTo>
                    <a:lnTo>
                      <a:pt x="595" y="551"/>
                    </a:lnTo>
                    <a:lnTo>
                      <a:pt x="511" y="557"/>
                    </a:lnTo>
                    <a:lnTo>
                      <a:pt x="450" y="551"/>
                    </a:lnTo>
                    <a:lnTo>
                      <a:pt x="392" y="528"/>
                    </a:lnTo>
                    <a:lnTo>
                      <a:pt x="408" y="558"/>
                    </a:lnTo>
                    <a:lnTo>
                      <a:pt x="293" y="524"/>
                    </a:lnTo>
                    <a:lnTo>
                      <a:pt x="203" y="445"/>
                    </a:lnTo>
                    <a:lnTo>
                      <a:pt x="138" y="368"/>
                    </a:lnTo>
                    <a:lnTo>
                      <a:pt x="90" y="279"/>
                    </a:lnTo>
                    <a:lnTo>
                      <a:pt x="10" y="74"/>
                    </a:lnTo>
                    <a:lnTo>
                      <a:pt x="0" y="8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686" name=""/>
              <p:cNvSpPr/>
              <p:nvPr/>
            </p:nvSpPr>
            <p:spPr>
              <a:xfrm>
                <a:off x="4835160" y="4746600"/>
                <a:ext cx="15120" cy="29520"/>
              </a:xfrm>
              <a:custGeom>
                <a:avLst/>
                <a:gdLst/>
                <a:ahLst/>
                <a:rect l="l" t="t" r="r" b="b"/>
                <a:pathLst>
                  <a:path w="187" h="278">
                    <a:moveTo>
                      <a:pt x="22" y="58"/>
                    </a:moveTo>
                    <a:lnTo>
                      <a:pt x="97" y="53"/>
                    </a:lnTo>
                    <a:lnTo>
                      <a:pt x="134" y="36"/>
                    </a:lnTo>
                    <a:lnTo>
                      <a:pt x="187" y="0"/>
                    </a:lnTo>
                    <a:lnTo>
                      <a:pt x="157" y="58"/>
                    </a:lnTo>
                    <a:lnTo>
                      <a:pt x="111" y="117"/>
                    </a:lnTo>
                    <a:lnTo>
                      <a:pt x="118" y="181"/>
                    </a:lnTo>
                    <a:lnTo>
                      <a:pt x="163" y="278"/>
                    </a:lnTo>
                    <a:lnTo>
                      <a:pt x="111" y="207"/>
                    </a:lnTo>
                    <a:lnTo>
                      <a:pt x="77" y="133"/>
                    </a:lnTo>
                    <a:lnTo>
                      <a:pt x="40" y="117"/>
                    </a:lnTo>
                    <a:lnTo>
                      <a:pt x="0" y="64"/>
                    </a:lnTo>
                    <a:lnTo>
                      <a:pt x="22" y="5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687" name=""/>
              <p:cNvSpPr/>
              <p:nvPr/>
            </p:nvSpPr>
            <p:spPr>
              <a:xfrm>
                <a:off x="4884120" y="4742640"/>
                <a:ext cx="12960" cy="23760"/>
              </a:xfrm>
              <a:custGeom>
                <a:avLst/>
                <a:gdLst/>
                <a:ahLst/>
                <a:rect l="l" t="t" r="r" b="b"/>
                <a:pathLst>
                  <a:path w="156" h="222">
                    <a:moveTo>
                      <a:pt x="0" y="0"/>
                    </a:moveTo>
                    <a:lnTo>
                      <a:pt x="31" y="29"/>
                    </a:lnTo>
                    <a:lnTo>
                      <a:pt x="94" y="68"/>
                    </a:lnTo>
                    <a:lnTo>
                      <a:pt x="112" y="94"/>
                    </a:lnTo>
                    <a:lnTo>
                      <a:pt x="124" y="140"/>
                    </a:lnTo>
                    <a:lnTo>
                      <a:pt x="117" y="222"/>
                    </a:lnTo>
                    <a:lnTo>
                      <a:pt x="134" y="136"/>
                    </a:lnTo>
                    <a:lnTo>
                      <a:pt x="156" y="46"/>
                    </a:lnTo>
                    <a:lnTo>
                      <a:pt x="156" y="9"/>
                    </a:lnTo>
                    <a:lnTo>
                      <a:pt x="88" y="13"/>
                    </a:lnTo>
                    <a:lnTo>
                      <a:pt x="37"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688" name=""/>
              <p:cNvSpPr/>
              <p:nvPr/>
            </p:nvSpPr>
            <p:spPr>
              <a:xfrm>
                <a:off x="5064480" y="4872240"/>
                <a:ext cx="54360" cy="30240"/>
              </a:xfrm>
              <a:custGeom>
                <a:avLst/>
                <a:gdLst/>
                <a:ahLst/>
                <a:rect l="l" t="t" r="r" b="b"/>
                <a:pathLst>
                  <a:path w="652" h="291">
                    <a:moveTo>
                      <a:pt x="50" y="0"/>
                    </a:moveTo>
                    <a:lnTo>
                      <a:pt x="59" y="44"/>
                    </a:lnTo>
                    <a:lnTo>
                      <a:pt x="59" y="85"/>
                    </a:lnTo>
                    <a:lnTo>
                      <a:pt x="34" y="126"/>
                    </a:lnTo>
                    <a:lnTo>
                      <a:pt x="0" y="152"/>
                    </a:lnTo>
                    <a:lnTo>
                      <a:pt x="136" y="291"/>
                    </a:lnTo>
                    <a:lnTo>
                      <a:pt x="294" y="192"/>
                    </a:lnTo>
                    <a:lnTo>
                      <a:pt x="384" y="291"/>
                    </a:lnTo>
                    <a:lnTo>
                      <a:pt x="452" y="233"/>
                    </a:lnTo>
                    <a:lnTo>
                      <a:pt x="583" y="152"/>
                    </a:lnTo>
                    <a:lnTo>
                      <a:pt x="652" y="69"/>
                    </a:lnTo>
                    <a:lnTo>
                      <a:pt x="553" y="152"/>
                    </a:lnTo>
                    <a:lnTo>
                      <a:pt x="410" y="210"/>
                    </a:lnTo>
                    <a:lnTo>
                      <a:pt x="343" y="159"/>
                    </a:lnTo>
                    <a:lnTo>
                      <a:pt x="184" y="159"/>
                    </a:lnTo>
                    <a:lnTo>
                      <a:pt x="94" y="9"/>
                    </a:lnTo>
                    <a:lnTo>
                      <a:pt x="5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89" name=""/>
              <p:cNvSpPr/>
              <p:nvPr/>
            </p:nvSpPr>
            <p:spPr>
              <a:xfrm>
                <a:off x="5086440" y="4748400"/>
                <a:ext cx="34920" cy="46440"/>
              </a:xfrm>
              <a:custGeom>
                <a:avLst/>
                <a:gdLst/>
                <a:ahLst/>
                <a:rect l="l" t="t" r="r" b="b"/>
                <a:pathLst>
                  <a:path w="419" h="442">
                    <a:moveTo>
                      <a:pt x="36" y="0"/>
                    </a:moveTo>
                    <a:lnTo>
                      <a:pt x="134" y="35"/>
                    </a:lnTo>
                    <a:lnTo>
                      <a:pt x="260" y="13"/>
                    </a:lnTo>
                    <a:lnTo>
                      <a:pt x="382" y="42"/>
                    </a:lnTo>
                    <a:lnTo>
                      <a:pt x="396" y="0"/>
                    </a:lnTo>
                    <a:lnTo>
                      <a:pt x="419" y="92"/>
                    </a:lnTo>
                    <a:lnTo>
                      <a:pt x="419" y="189"/>
                    </a:lnTo>
                    <a:lnTo>
                      <a:pt x="403" y="334"/>
                    </a:lnTo>
                    <a:lnTo>
                      <a:pt x="373" y="442"/>
                    </a:lnTo>
                    <a:lnTo>
                      <a:pt x="396" y="316"/>
                    </a:lnTo>
                    <a:lnTo>
                      <a:pt x="396" y="260"/>
                    </a:lnTo>
                    <a:lnTo>
                      <a:pt x="290" y="327"/>
                    </a:lnTo>
                    <a:lnTo>
                      <a:pt x="269" y="327"/>
                    </a:lnTo>
                    <a:lnTo>
                      <a:pt x="260" y="308"/>
                    </a:lnTo>
                    <a:lnTo>
                      <a:pt x="359" y="202"/>
                    </a:lnTo>
                    <a:lnTo>
                      <a:pt x="352" y="145"/>
                    </a:lnTo>
                    <a:lnTo>
                      <a:pt x="246" y="214"/>
                    </a:lnTo>
                    <a:lnTo>
                      <a:pt x="274" y="165"/>
                    </a:lnTo>
                    <a:lnTo>
                      <a:pt x="260" y="154"/>
                    </a:lnTo>
                    <a:lnTo>
                      <a:pt x="253" y="110"/>
                    </a:lnTo>
                    <a:lnTo>
                      <a:pt x="218" y="110"/>
                    </a:lnTo>
                    <a:lnTo>
                      <a:pt x="154" y="175"/>
                    </a:lnTo>
                    <a:lnTo>
                      <a:pt x="134" y="175"/>
                    </a:lnTo>
                    <a:lnTo>
                      <a:pt x="134" y="141"/>
                    </a:lnTo>
                    <a:lnTo>
                      <a:pt x="163" y="103"/>
                    </a:lnTo>
                    <a:lnTo>
                      <a:pt x="62" y="79"/>
                    </a:lnTo>
                    <a:lnTo>
                      <a:pt x="62" y="117"/>
                    </a:lnTo>
                    <a:lnTo>
                      <a:pt x="90" y="161"/>
                    </a:lnTo>
                    <a:lnTo>
                      <a:pt x="29" y="117"/>
                    </a:lnTo>
                    <a:lnTo>
                      <a:pt x="0" y="55"/>
                    </a:lnTo>
                    <a:lnTo>
                      <a:pt x="7" y="13"/>
                    </a:lnTo>
                    <a:lnTo>
                      <a:pt x="36"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90" name=""/>
              <p:cNvSpPr/>
              <p:nvPr/>
            </p:nvSpPr>
            <p:spPr>
              <a:xfrm>
                <a:off x="5095800" y="4768920"/>
                <a:ext cx="8280" cy="5760"/>
              </a:xfrm>
              <a:custGeom>
                <a:avLst/>
                <a:gdLst/>
                <a:ahLst/>
                <a:rect l="l" t="t" r="r" b="b"/>
                <a:pathLst>
                  <a:path w="96" h="60">
                    <a:moveTo>
                      <a:pt x="13" y="0"/>
                    </a:moveTo>
                    <a:lnTo>
                      <a:pt x="96" y="35"/>
                    </a:lnTo>
                    <a:lnTo>
                      <a:pt x="96" y="57"/>
                    </a:lnTo>
                    <a:lnTo>
                      <a:pt x="72" y="60"/>
                    </a:lnTo>
                    <a:lnTo>
                      <a:pt x="4" y="29"/>
                    </a:lnTo>
                    <a:lnTo>
                      <a:pt x="0" y="7"/>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91" name=""/>
              <p:cNvSpPr/>
              <p:nvPr/>
            </p:nvSpPr>
            <p:spPr>
              <a:xfrm>
                <a:off x="5122080" y="4721400"/>
                <a:ext cx="54360" cy="50400"/>
              </a:xfrm>
              <a:custGeom>
                <a:avLst/>
                <a:gdLst/>
                <a:ahLst/>
                <a:rect l="l" t="t" r="r" b="b"/>
                <a:pathLst>
                  <a:path w="655" h="483">
                    <a:moveTo>
                      <a:pt x="0" y="132"/>
                    </a:moveTo>
                    <a:lnTo>
                      <a:pt x="41" y="279"/>
                    </a:lnTo>
                    <a:lnTo>
                      <a:pt x="103" y="351"/>
                    </a:lnTo>
                    <a:lnTo>
                      <a:pt x="103" y="473"/>
                    </a:lnTo>
                    <a:lnTo>
                      <a:pt x="161" y="362"/>
                    </a:lnTo>
                    <a:lnTo>
                      <a:pt x="364" y="483"/>
                    </a:lnTo>
                    <a:lnTo>
                      <a:pt x="521" y="376"/>
                    </a:lnTo>
                    <a:lnTo>
                      <a:pt x="352" y="376"/>
                    </a:lnTo>
                    <a:lnTo>
                      <a:pt x="297" y="356"/>
                    </a:lnTo>
                    <a:lnTo>
                      <a:pt x="224" y="356"/>
                    </a:lnTo>
                    <a:lnTo>
                      <a:pt x="217" y="332"/>
                    </a:lnTo>
                    <a:lnTo>
                      <a:pt x="329" y="314"/>
                    </a:lnTo>
                    <a:lnTo>
                      <a:pt x="329" y="259"/>
                    </a:lnTo>
                    <a:lnTo>
                      <a:pt x="391" y="224"/>
                    </a:lnTo>
                    <a:lnTo>
                      <a:pt x="323" y="224"/>
                    </a:lnTo>
                    <a:lnTo>
                      <a:pt x="308" y="208"/>
                    </a:lnTo>
                    <a:lnTo>
                      <a:pt x="426" y="160"/>
                    </a:lnTo>
                    <a:lnTo>
                      <a:pt x="479" y="107"/>
                    </a:lnTo>
                    <a:lnTo>
                      <a:pt x="631" y="169"/>
                    </a:lnTo>
                    <a:lnTo>
                      <a:pt x="655" y="160"/>
                    </a:lnTo>
                    <a:lnTo>
                      <a:pt x="527" y="0"/>
                    </a:lnTo>
                    <a:lnTo>
                      <a:pt x="479" y="0"/>
                    </a:lnTo>
                    <a:lnTo>
                      <a:pt x="290" y="99"/>
                    </a:lnTo>
                    <a:lnTo>
                      <a:pt x="140" y="187"/>
                    </a:lnTo>
                    <a:lnTo>
                      <a:pt x="134" y="238"/>
                    </a:lnTo>
                    <a:lnTo>
                      <a:pt x="90" y="245"/>
                    </a:lnTo>
                    <a:lnTo>
                      <a:pt x="0" y="1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92" name=""/>
              <p:cNvSpPr/>
              <p:nvPr/>
            </p:nvSpPr>
            <p:spPr>
              <a:xfrm>
                <a:off x="5152680" y="4744800"/>
                <a:ext cx="15840" cy="8280"/>
              </a:xfrm>
              <a:custGeom>
                <a:avLst/>
                <a:gdLst/>
                <a:ahLst/>
                <a:rect l="l" t="t" r="r" b="b"/>
                <a:pathLst>
                  <a:path w="191" h="81">
                    <a:moveTo>
                      <a:pt x="0" y="0"/>
                    </a:moveTo>
                    <a:lnTo>
                      <a:pt x="34" y="65"/>
                    </a:lnTo>
                    <a:lnTo>
                      <a:pt x="20" y="81"/>
                    </a:lnTo>
                    <a:lnTo>
                      <a:pt x="176" y="72"/>
                    </a:lnTo>
                    <a:lnTo>
                      <a:pt x="191" y="50"/>
                    </a:lnTo>
                    <a:lnTo>
                      <a:pt x="101" y="0"/>
                    </a:lnTo>
                    <a:lnTo>
                      <a:pt x="29"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93" name=""/>
              <p:cNvSpPr/>
              <p:nvPr/>
            </p:nvSpPr>
            <p:spPr>
              <a:xfrm>
                <a:off x="5117400" y="4795920"/>
                <a:ext cx="32400" cy="24480"/>
              </a:xfrm>
              <a:custGeom>
                <a:avLst/>
                <a:gdLst/>
                <a:ahLst/>
                <a:rect l="l" t="t" r="r" b="b"/>
                <a:pathLst>
                  <a:path w="396" h="226">
                    <a:moveTo>
                      <a:pt x="0" y="41"/>
                    </a:moveTo>
                    <a:lnTo>
                      <a:pt x="69" y="83"/>
                    </a:lnTo>
                    <a:lnTo>
                      <a:pt x="136" y="83"/>
                    </a:lnTo>
                    <a:lnTo>
                      <a:pt x="228" y="14"/>
                    </a:lnTo>
                    <a:lnTo>
                      <a:pt x="297" y="0"/>
                    </a:lnTo>
                    <a:lnTo>
                      <a:pt x="302" y="14"/>
                    </a:lnTo>
                    <a:lnTo>
                      <a:pt x="339" y="26"/>
                    </a:lnTo>
                    <a:lnTo>
                      <a:pt x="396" y="14"/>
                    </a:lnTo>
                    <a:lnTo>
                      <a:pt x="359" y="63"/>
                    </a:lnTo>
                    <a:lnTo>
                      <a:pt x="219" y="109"/>
                    </a:lnTo>
                    <a:lnTo>
                      <a:pt x="214" y="180"/>
                    </a:lnTo>
                    <a:lnTo>
                      <a:pt x="168" y="226"/>
                    </a:lnTo>
                    <a:lnTo>
                      <a:pt x="99" y="118"/>
                    </a:lnTo>
                    <a:lnTo>
                      <a:pt x="46" y="104"/>
                    </a:lnTo>
                    <a:lnTo>
                      <a:pt x="0" y="63"/>
                    </a:lnTo>
                    <a:lnTo>
                      <a:pt x="0" y="41"/>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694" name=""/>
              <p:cNvSpPr/>
              <p:nvPr/>
            </p:nvSpPr>
            <p:spPr>
              <a:xfrm>
                <a:off x="5135400" y="4783320"/>
                <a:ext cx="12600" cy="5760"/>
              </a:xfrm>
              <a:custGeom>
                <a:avLst/>
                <a:gdLst/>
                <a:ahLst/>
                <a:rect l="l" t="t" r="r" b="b"/>
                <a:pathLst>
                  <a:path w="155" h="58">
                    <a:moveTo>
                      <a:pt x="0" y="58"/>
                    </a:moveTo>
                    <a:lnTo>
                      <a:pt x="106" y="32"/>
                    </a:lnTo>
                    <a:lnTo>
                      <a:pt x="155" y="44"/>
                    </a:lnTo>
                    <a:lnTo>
                      <a:pt x="106" y="0"/>
                    </a:lnTo>
                    <a:lnTo>
                      <a:pt x="41" y="0"/>
                    </a:lnTo>
                    <a:lnTo>
                      <a:pt x="0" y="5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95" name=""/>
              <p:cNvSpPr/>
              <p:nvPr/>
            </p:nvSpPr>
            <p:spPr>
              <a:xfrm>
                <a:off x="5150160" y="4790880"/>
                <a:ext cx="27000" cy="48240"/>
              </a:xfrm>
              <a:custGeom>
                <a:avLst/>
                <a:gdLst/>
                <a:ahLst/>
                <a:rect l="l" t="t" r="r" b="b"/>
                <a:pathLst>
                  <a:path w="323" h="453">
                    <a:moveTo>
                      <a:pt x="0" y="0"/>
                    </a:moveTo>
                    <a:lnTo>
                      <a:pt x="7" y="54"/>
                    </a:lnTo>
                    <a:lnTo>
                      <a:pt x="84" y="119"/>
                    </a:lnTo>
                    <a:lnTo>
                      <a:pt x="169" y="229"/>
                    </a:lnTo>
                    <a:lnTo>
                      <a:pt x="99" y="275"/>
                    </a:lnTo>
                    <a:lnTo>
                      <a:pt x="209" y="453"/>
                    </a:lnTo>
                    <a:lnTo>
                      <a:pt x="282" y="453"/>
                    </a:lnTo>
                    <a:lnTo>
                      <a:pt x="323" y="299"/>
                    </a:lnTo>
                    <a:lnTo>
                      <a:pt x="308" y="250"/>
                    </a:lnTo>
                    <a:lnTo>
                      <a:pt x="224" y="222"/>
                    </a:lnTo>
                    <a:lnTo>
                      <a:pt x="205" y="119"/>
                    </a:lnTo>
                    <a:lnTo>
                      <a:pt x="104" y="42"/>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696" name=""/>
              <p:cNvSpPr/>
              <p:nvPr/>
            </p:nvSpPr>
            <p:spPr>
              <a:xfrm>
                <a:off x="5092920" y="4772880"/>
                <a:ext cx="33480" cy="87840"/>
              </a:xfrm>
              <a:custGeom>
                <a:avLst/>
                <a:gdLst/>
                <a:ahLst/>
                <a:rect l="l" t="t" r="r" b="b"/>
                <a:pathLst>
                  <a:path w="411" h="827">
                    <a:moveTo>
                      <a:pt x="290" y="272"/>
                    </a:moveTo>
                    <a:lnTo>
                      <a:pt x="197" y="272"/>
                    </a:lnTo>
                    <a:lnTo>
                      <a:pt x="121" y="230"/>
                    </a:lnTo>
                    <a:lnTo>
                      <a:pt x="51" y="167"/>
                    </a:lnTo>
                    <a:lnTo>
                      <a:pt x="0" y="0"/>
                    </a:lnTo>
                    <a:lnTo>
                      <a:pt x="29" y="193"/>
                    </a:lnTo>
                    <a:lnTo>
                      <a:pt x="160" y="378"/>
                    </a:lnTo>
                    <a:lnTo>
                      <a:pt x="282" y="629"/>
                    </a:lnTo>
                    <a:lnTo>
                      <a:pt x="342" y="708"/>
                    </a:lnTo>
                    <a:lnTo>
                      <a:pt x="395" y="827"/>
                    </a:lnTo>
                    <a:lnTo>
                      <a:pt x="354" y="636"/>
                    </a:lnTo>
                    <a:lnTo>
                      <a:pt x="411" y="609"/>
                    </a:lnTo>
                    <a:lnTo>
                      <a:pt x="354" y="565"/>
                    </a:lnTo>
                    <a:lnTo>
                      <a:pt x="354" y="530"/>
                    </a:lnTo>
                    <a:lnTo>
                      <a:pt x="386" y="507"/>
                    </a:lnTo>
                    <a:lnTo>
                      <a:pt x="319" y="523"/>
                    </a:lnTo>
                    <a:lnTo>
                      <a:pt x="282" y="507"/>
                    </a:lnTo>
                    <a:lnTo>
                      <a:pt x="268" y="466"/>
                    </a:lnTo>
                    <a:lnTo>
                      <a:pt x="268" y="356"/>
                    </a:lnTo>
                    <a:lnTo>
                      <a:pt x="290" y="27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97" name=""/>
              <p:cNvSpPr/>
              <p:nvPr/>
            </p:nvSpPr>
            <p:spPr>
              <a:xfrm>
                <a:off x="5128920" y="4818600"/>
                <a:ext cx="30960" cy="7560"/>
              </a:xfrm>
              <a:custGeom>
                <a:avLst/>
                <a:gdLst/>
                <a:ahLst/>
                <a:rect l="l" t="t" r="r" b="b"/>
                <a:pathLst>
                  <a:path w="381" h="76">
                    <a:moveTo>
                      <a:pt x="0" y="76"/>
                    </a:moveTo>
                    <a:lnTo>
                      <a:pt x="175" y="40"/>
                    </a:lnTo>
                    <a:lnTo>
                      <a:pt x="260" y="0"/>
                    </a:lnTo>
                    <a:lnTo>
                      <a:pt x="313" y="0"/>
                    </a:lnTo>
                    <a:lnTo>
                      <a:pt x="381" y="21"/>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698" name=""/>
              <p:cNvSpPr/>
              <p:nvPr/>
            </p:nvSpPr>
            <p:spPr>
              <a:xfrm>
                <a:off x="5131440" y="4829040"/>
                <a:ext cx="25560" cy="20160"/>
              </a:xfrm>
              <a:custGeom>
                <a:avLst/>
                <a:gdLst/>
                <a:ahLst/>
                <a:rect l="l" t="t" r="r" b="b"/>
                <a:pathLst>
                  <a:path w="316" h="191">
                    <a:moveTo>
                      <a:pt x="0" y="79"/>
                    </a:moveTo>
                    <a:lnTo>
                      <a:pt x="242" y="26"/>
                    </a:lnTo>
                    <a:lnTo>
                      <a:pt x="295" y="0"/>
                    </a:lnTo>
                    <a:lnTo>
                      <a:pt x="303" y="19"/>
                    </a:lnTo>
                    <a:lnTo>
                      <a:pt x="219" y="64"/>
                    </a:lnTo>
                    <a:lnTo>
                      <a:pt x="235" y="112"/>
                    </a:lnTo>
                    <a:lnTo>
                      <a:pt x="316" y="191"/>
                    </a:lnTo>
                    <a:lnTo>
                      <a:pt x="228" y="162"/>
                    </a:lnTo>
                    <a:lnTo>
                      <a:pt x="150" y="162"/>
                    </a:lnTo>
                    <a:lnTo>
                      <a:pt x="72" y="182"/>
                    </a:lnTo>
                    <a:lnTo>
                      <a:pt x="46" y="191"/>
                    </a:lnTo>
                    <a:lnTo>
                      <a:pt x="60" y="156"/>
                    </a:lnTo>
                    <a:lnTo>
                      <a:pt x="24" y="99"/>
                    </a:lnTo>
                    <a:lnTo>
                      <a:pt x="0" y="7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699" name=""/>
              <p:cNvSpPr/>
              <p:nvPr/>
            </p:nvSpPr>
            <p:spPr>
              <a:xfrm>
                <a:off x="5065920" y="4641480"/>
                <a:ext cx="141840" cy="109080"/>
              </a:xfrm>
              <a:custGeom>
                <a:avLst/>
                <a:gdLst/>
                <a:ahLst/>
                <a:rect l="l" t="t" r="r" b="b"/>
                <a:pathLst>
                  <a:path w="1704" h="1028">
                    <a:moveTo>
                      <a:pt x="159" y="340"/>
                    </a:moveTo>
                    <a:lnTo>
                      <a:pt x="122" y="404"/>
                    </a:lnTo>
                    <a:lnTo>
                      <a:pt x="0" y="551"/>
                    </a:lnTo>
                    <a:lnTo>
                      <a:pt x="0" y="609"/>
                    </a:lnTo>
                    <a:lnTo>
                      <a:pt x="76" y="749"/>
                    </a:lnTo>
                    <a:lnTo>
                      <a:pt x="48" y="874"/>
                    </a:lnTo>
                    <a:lnTo>
                      <a:pt x="111" y="978"/>
                    </a:lnTo>
                    <a:lnTo>
                      <a:pt x="245" y="987"/>
                    </a:lnTo>
                    <a:lnTo>
                      <a:pt x="286" y="1028"/>
                    </a:lnTo>
                    <a:lnTo>
                      <a:pt x="252" y="692"/>
                    </a:lnTo>
                    <a:lnTo>
                      <a:pt x="252" y="588"/>
                    </a:lnTo>
                    <a:lnTo>
                      <a:pt x="265" y="507"/>
                    </a:lnTo>
                    <a:lnTo>
                      <a:pt x="286" y="457"/>
                    </a:lnTo>
                    <a:lnTo>
                      <a:pt x="408" y="507"/>
                    </a:lnTo>
                    <a:lnTo>
                      <a:pt x="555" y="529"/>
                    </a:lnTo>
                    <a:lnTo>
                      <a:pt x="738" y="529"/>
                    </a:lnTo>
                    <a:lnTo>
                      <a:pt x="966" y="507"/>
                    </a:lnTo>
                    <a:lnTo>
                      <a:pt x="851" y="503"/>
                    </a:lnTo>
                    <a:lnTo>
                      <a:pt x="708" y="434"/>
                    </a:lnTo>
                    <a:lnTo>
                      <a:pt x="865" y="441"/>
                    </a:lnTo>
                    <a:lnTo>
                      <a:pt x="992" y="434"/>
                    </a:lnTo>
                    <a:lnTo>
                      <a:pt x="1162" y="397"/>
                    </a:lnTo>
                    <a:lnTo>
                      <a:pt x="1280" y="349"/>
                    </a:lnTo>
                    <a:lnTo>
                      <a:pt x="1441" y="334"/>
                    </a:lnTo>
                    <a:lnTo>
                      <a:pt x="1513" y="362"/>
                    </a:lnTo>
                    <a:lnTo>
                      <a:pt x="1586" y="397"/>
                    </a:lnTo>
                    <a:lnTo>
                      <a:pt x="1644" y="397"/>
                    </a:lnTo>
                    <a:lnTo>
                      <a:pt x="1704" y="362"/>
                    </a:lnTo>
                    <a:lnTo>
                      <a:pt x="1634" y="272"/>
                    </a:lnTo>
                    <a:lnTo>
                      <a:pt x="1526" y="286"/>
                    </a:lnTo>
                    <a:lnTo>
                      <a:pt x="1441" y="259"/>
                    </a:lnTo>
                    <a:lnTo>
                      <a:pt x="1358" y="250"/>
                    </a:lnTo>
                    <a:lnTo>
                      <a:pt x="1280" y="279"/>
                    </a:lnTo>
                    <a:lnTo>
                      <a:pt x="1139" y="340"/>
                    </a:lnTo>
                    <a:lnTo>
                      <a:pt x="1014" y="371"/>
                    </a:lnTo>
                    <a:lnTo>
                      <a:pt x="878" y="378"/>
                    </a:lnTo>
                    <a:lnTo>
                      <a:pt x="766" y="384"/>
                    </a:lnTo>
                    <a:lnTo>
                      <a:pt x="590" y="362"/>
                    </a:lnTo>
                    <a:lnTo>
                      <a:pt x="696" y="334"/>
                    </a:lnTo>
                    <a:lnTo>
                      <a:pt x="570" y="318"/>
                    </a:lnTo>
                    <a:lnTo>
                      <a:pt x="443" y="291"/>
                    </a:lnTo>
                    <a:lnTo>
                      <a:pt x="379" y="265"/>
                    </a:lnTo>
                    <a:lnTo>
                      <a:pt x="482" y="226"/>
                    </a:lnTo>
                    <a:lnTo>
                      <a:pt x="300" y="201"/>
                    </a:lnTo>
                    <a:lnTo>
                      <a:pt x="265" y="173"/>
                    </a:lnTo>
                    <a:lnTo>
                      <a:pt x="258" y="145"/>
                    </a:lnTo>
                    <a:lnTo>
                      <a:pt x="265" y="102"/>
                    </a:lnTo>
                    <a:lnTo>
                      <a:pt x="295" y="54"/>
                    </a:lnTo>
                    <a:lnTo>
                      <a:pt x="373" y="0"/>
                    </a:lnTo>
                    <a:lnTo>
                      <a:pt x="217" y="67"/>
                    </a:lnTo>
                    <a:lnTo>
                      <a:pt x="60" y="164"/>
                    </a:lnTo>
                    <a:lnTo>
                      <a:pt x="69" y="189"/>
                    </a:lnTo>
                    <a:lnTo>
                      <a:pt x="118" y="286"/>
                    </a:lnTo>
                    <a:lnTo>
                      <a:pt x="159"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
              <p:cNvSpPr/>
              <p:nvPr/>
            </p:nvSpPr>
            <p:spPr>
              <a:xfrm>
                <a:off x="5104440" y="4618080"/>
                <a:ext cx="137160" cy="278640"/>
              </a:xfrm>
              <a:custGeom>
                <a:avLst/>
                <a:gdLst/>
                <a:ahLst/>
                <a:rect l="l" t="t" r="r" b="b"/>
                <a:pathLst>
                  <a:path w="1658" h="2635">
                    <a:moveTo>
                      <a:pt x="7" y="196"/>
                    </a:moveTo>
                    <a:lnTo>
                      <a:pt x="0" y="216"/>
                    </a:lnTo>
                    <a:lnTo>
                      <a:pt x="14" y="231"/>
                    </a:lnTo>
                    <a:lnTo>
                      <a:pt x="58" y="251"/>
                    </a:lnTo>
                    <a:lnTo>
                      <a:pt x="106" y="260"/>
                    </a:lnTo>
                    <a:lnTo>
                      <a:pt x="185" y="260"/>
                    </a:lnTo>
                    <a:lnTo>
                      <a:pt x="291" y="244"/>
                    </a:lnTo>
                    <a:lnTo>
                      <a:pt x="208" y="279"/>
                    </a:lnTo>
                    <a:lnTo>
                      <a:pt x="114" y="292"/>
                    </a:lnTo>
                    <a:lnTo>
                      <a:pt x="35" y="292"/>
                    </a:lnTo>
                    <a:lnTo>
                      <a:pt x="35" y="315"/>
                    </a:lnTo>
                    <a:lnTo>
                      <a:pt x="58" y="341"/>
                    </a:lnTo>
                    <a:lnTo>
                      <a:pt x="114" y="366"/>
                    </a:lnTo>
                    <a:lnTo>
                      <a:pt x="185" y="354"/>
                    </a:lnTo>
                    <a:lnTo>
                      <a:pt x="231" y="385"/>
                    </a:lnTo>
                    <a:lnTo>
                      <a:pt x="226" y="398"/>
                    </a:lnTo>
                    <a:lnTo>
                      <a:pt x="185" y="420"/>
                    </a:lnTo>
                    <a:lnTo>
                      <a:pt x="141" y="426"/>
                    </a:lnTo>
                    <a:lnTo>
                      <a:pt x="220" y="435"/>
                    </a:lnTo>
                    <a:lnTo>
                      <a:pt x="354" y="435"/>
                    </a:lnTo>
                    <a:lnTo>
                      <a:pt x="510" y="414"/>
                    </a:lnTo>
                    <a:lnTo>
                      <a:pt x="611" y="385"/>
                    </a:lnTo>
                    <a:lnTo>
                      <a:pt x="487" y="426"/>
                    </a:lnTo>
                    <a:lnTo>
                      <a:pt x="345" y="456"/>
                    </a:lnTo>
                    <a:lnTo>
                      <a:pt x="244" y="475"/>
                    </a:lnTo>
                    <a:lnTo>
                      <a:pt x="305" y="504"/>
                    </a:lnTo>
                    <a:lnTo>
                      <a:pt x="437" y="523"/>
                    </a:lnTo>
                    <a:lnTo>
                      <a:pt x="543" y="532"/>
                    </a:lnTo>
                    <a:lnTo>
                      <a:pt x="662" y="532"/>
                    </a:lnTo>
                    <a:lnTo>
                      <a:pt x="741" y="511"/>
                    </a:lnTo>
                    <a:lnTo>
                      <a:pt x="625" y="475"/>
                    </a:lnTo>
                    <a:lnTo>
                      <a:pt x="824" y="398"/>
                    </a:lnTo>
                    <a:lnTo>
                      <a:pt x="763" y="370"/>
                    </a:lnTo>
                    <a:lnTo>
                      <a:pt x="875" y="378"/>
                    </a:lnTo>
                    <a:lnTo>
                      <a:pt x="945" y="414"/>
                    </a:lnTo>
                    <a:lnTo>
                      <a:pt x="1029" y="470"/>
                    </a:lnTo>
                    <a:lnTo>
                      <a:pt x="1095" y="511"/>
                    </a:lnTo>
                    <a:lnTo>
                      <a:pt x="1142" y="622"/>
                    </a:lnTo>
                    <a:lnTo>
                      <a:pt x="1204" y="622"/>
                    </a:lnTo>
                    <a:lnTo>
                      <a:pt x="1257" y="609"/>
                    </a:lnTo>
                    <a:lnTo>
                      <a:pt x="1296" y="580"/>
                    </a:lnTo>
                    <a:lnTo>
                      <a:pt x="1331" y="537"/>
                    </a:lnTo>
                    <a:lnTo>
                      <a:pt x="1354" y="511"/>
                    </a:lnTo>
                    <a:lnTo>
                      <a:pt x="1361" y="559"/>
                    </a:lnTo>
                    <a:lnTo>
                      <a:pt x="1347" y="609"/>
                    </a:lnTo>
                    <a:lnTo>
                      <a:pt x="1310" y="651"/>
                    </a:lnTo>
                    <a:lnTo>
                      <a:pt x="1382" y="651"/>
                    </a:lnTo>
                    <a:lnTo>
                      <a:pt x="1446" y="638"/>
                    </a:lnTo>
                    <a:lnTo>
                      <a:pt x="1485" y="651"/>
                    </a:lnTo>
                    <a:lnTo>
                      <a:pt x="1508" y="684"/>
                    </a:lnTo>
                    <a:lnTo>
                      <a:pt x="1523" y="765"/>
                    </a:lnTo>
                    <a:lnTo>
                      <a:pt x="1517" y="936"/>
                    </a:lnTo>
                    <a:lnTo>
                      <a:pt x="1543" y="996"/>
                    </a:lnTo>
                    <a:lnTo>
                      <a:pt x="1580" y="1030"/>
                    </a:lnTo>
                    <a:lnTo>
                      <a:pt x="1591" y="1073"/>
                    </a:lnTo>
                    <a:lnTo>
                      <a:pt x="1559" y="1073"/>
                    </a:lnTo>
                    <a:lnTo>
                      <a:pt x="1469" y="1014"/>
                    </a:lnTo>
                    <a:lnTo>
                      <a:pt x="1354" y="1009"/>
                    </a:lnTo>
                    <a:lnTo>
                      <a:pt x="1287" y="1095"/>
                    </a:lnTo>
                    <a:lnTo>
                      <a:pt x="1268" y="1226"/>
                    </a:lnTo>
                    <a:lnTo>
                      <a:pt x="1340" y="1284"/>
                    </a:lnTo>
                    <a:lnTo>
                      <a:pt x="1319" y="1457"/>
                    </a:lnTo>
                    <a:lnTo>
                      <a:pt x="1361" y="1374"/>
                    </a:lnTo>
                    <a:lnTo>
                      <a:pt x="1460" y="1330"/>
                    </a:lnTo>
                    <a:lnTo>
                      <a:pt x="1422" y="1240"/>
                    </a:lnTo>
                    <a:lnTo>
                      <a:pt x="1340" y="1219"/>
                    </a:lnTo>
                    <a:lnTo>
                      <a:pt x="1409" y="1143"/>
                    </a:lnTo>
                    <a:lnTo>
                      <a:pt x="1508" y="1212"/>
                    </a:lnTo>
                    <a:lnTo>
                      <a:pt x="1479" y="1106"/>
                    </a:lnTo>
                    <a:lnTo>
                      <a:pt x="1517" y="1095"/>
                    </a:lnTo>
                    <a:lnTo>
                      <a:pt x="1422" y="1099"/>
                    </a:lnTo>
                    <a:lnTo>
                      <a:pt x="1303" y="1189"/>
                    </a:lnTo>
                    <a:lnTo>
                      <a:pt x="1319" y="1099"/>
                    </a:lnTo>
                    <a:lnTo>
                      <a:pt x="1367" y="1035"/>
                    </a:lnTo>
                    <a:lnTo>
                      <a:pt x="1460" y="1035"/>
                    </a:lnTo>
                    <a:lnTo>
                      <a:pt x="1559" y="1095"/>
                    </a:lnTo>
                    <a:lnTo>
                      <a:pt x="1564" y="1198"/>
                    </a:lnTo>
                    <a:lnTo>
                      <a:pt x="1543" y="1316"/>
                    </a:lnTo>
                    <a:lnTo>
                      <a:pt x="1469" y="1435"/>
                    </a:lnTo>
                    <a:lnTo>
                      <a:pt x="1446" y="1519"/>
                    </a:lnTo>
                    <a:lnTo>
                      <a:pt x="1361" y="1560"/>
                    </a:lnTo>
                    <a:lnTo>
                      <a:pt x="1296" y="1493"/>
                    </a:lnTo>
                    <a:lnTo>
                      <a:pt x="1220" y="1968"/>
                    </a:lnTo>
                    <a:lnTo>
                      <a:pt x="1163" y="2261"/>
                    </a:lnTo>
                    <a:lnTo>
                      <a:pt x="939" y="2501"/>
                    </a:lnTo>
                    <a:lnTo>
                      <a:pt x="851" y="2635"/>
                    </a:lnTo>
                    <a:lnTo>
                      <a:pt x="958" y="2492"/>
                    </a:lnTo>
                    <a:lnTo>
                      <a:pt x="1257" y="2174"/>
                    </a:lnTo>
                    <a:lnTo>
                      <a:pt x="1446" y="1827"/>
                    </a:lnTo>
                    <a:lnTo>
                      <a:pt x="1430" y="1807"/>
                    </a:lnTo>
                    <a:lnTo>
                      <a:pt x="1382" y="1811"/>
                    </a:lnTo>
                    <a:lnTo>
                      <a:pt x="1384" y="1730"/>
                    </a:lnTo>
                    <a:lnTo>
                      <a:pt x="1494" y="1701"/>
                    </a:lnTo>
                    <a:lnTo>
                      <a:pt x="1494" y="1624"/>
                    </a:lnTo>
                    <a:lnTo>
                      <a:pt x="1591" y="1592"/>
                    </a:lnTo>
                    <a:lnTo>
                      <a:pt x="1619" y="1457"/>
                    </a:lnTo>
                    <a:lnTo>
                      <a:pt x="1658" y="1394"/>
                    </a:lnTo>
                    <a:lnTo>
                      <a:pt x="1580" y="1350"/>
                    </a:lnTo>
                    <a:lnTo>
                      <a:pt x="1573" y="1306"/>
                    </a:lnTo>
                    <a:lnTo>
                      <a:pt x="1591" y="1240"/>
                    </a:lnTo>
                    <a:lnTo>
                      <a:pt x="1591" y="1154"/>
                    </a:lnTo>
                    <a:lnTo>
                      <a:pt x="1580" y="1122"/>
                    </a:lnTo>
                    <a:lnTo>
                      <a:pt x="1642" y="1143"/>
                    </a:lnTo>
                    <a:lnTo>
                      <a:pt x="1619" y="1057"/>
                    </a:lnTo>
                    <a:lnTo>
                      <a:pt x="1564" y="967"/>
                    </a:lnTo>
                    <a:lnTo>
                      <a:pt x="1550" y="897"/>
                    </a:lnTo>
                    <a:lnTo>
                      <a:pt x="1550" y="813"/>
                    </a:lnTo>
                    <a:lnTo>
                      <a:pt x="1543" y="741"/>
                    </a:lnTo>
                    <a:lnTo>
                      <a:pt x="1550" y="700"/>
                    </a:lnTo>
                    <a:lnTo>
                      <a:pt x="1501" y="580"/>
                    </a:lnTo>
                    <a:lnTo>
                      <a:pt x="1418" y="462"/>
                    </a:lnTo>
                    <a:lnTo>
                      <a:pt x="1326" y="389"/>
                    </a:lnTo>
                    <a:lnTo>
                      <a:pt x="1257" y="341"/>
                    </a:lnTo>
                    <a:lnTo>
                      <a:pt x="1227" y="225"/>
                    </a:lnTo>
                    <a:lnTo>
                      <a:pt x="1137" y="147"/>
                    </a:lnTo>
                    <a:lnTo>
                      <a:pt x="1044" y="119"/>
                    </a:lnTo>
                    <a:lnTo>
                      <a:pt x="909" y="40"/>
                    </a:lnTo>
                    <a:lnTo>
                      <a:pt x="747" y="0"/>
                    </a:lnTo>
                    <a:lnTo>
                      <a:pt x="584" y="4"/>
                    </a:lnTo>
                    <a:lnTo>
                      <a:pt x="427" y="36"/>
                    </a:lnTo>
                    <a:lnTo>
                      <a:pt x="298" y="97"/>
                    </a:lnTo>
                    <a:lnTo>
                      <a:pt x="127" y="161"/>
                    </a:lnTo>
                    <a:lnTo>
                      <a:pt x="7" y="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1" name=""/>
              <p:cNvSpPr/>
              <p:nvPr/>
            </p:nvSpPr>
            <p:spPr>
              <a:xfrm>
                <a:off x="5168520" y="4674600"/>
                <a:ext cx="37080" cy="37080"/>
              </a:xfrm>
              <a:custGeom>
                <a:avLst/>
                <a:gdLst/>
                <a:ahLst/>
                <a:rect l="l" t="t" r="r" b="b"/>
                <a:pathLst>
                  <a:path w="445" h="358">
                    <a:moveTo>
                      <a:pt x="141" y="27"/>
                    </a:moveTo>
                    <a:lnTo>
                      <a:pt x="69" y="48"/>
                    </a:lnTo>
                    <a:lnTo>
                      <a:pt x="0" y="113"/>
                    </a:lnTo>
                    <a:lnTo>
                      <a:pt x="84" y="113"/>
                    </a:lnTo>
                    <a:lnTo>
                      <a:pt x="42" y="209"/>
                    </a:lnTo>
                    <a:lnTo>
                      <a:pt x="93" y="233"/>
                    </a:lnTo>
                    <a:lnTo>
                      <a:pt x="127" y="358"/>
                    </a:lnTo>
                    <a:lnTo>
                      <a:pt x="115" y="222"/>
                    </a:lnTo>
                    <a:lnTo>
                      <a:pt x="163" y="180"/>
                    </a:lnTo>
                    <a:lnTo>
                      <a:pt x="240" y="161"/>
                    </a:lnTo>
                    <a:lnTo>
                      <a:pt x="316" y="161"/>
                    </a:lnTo>
                    <a:lnTo>
                      <a:pt x="385" y="173"/>
                    </a:lnTo>
                    <a:lnTo>
                      <a:pt x="445" y="209"/>
                    </a:lnTo>
                    <a:lnTo>
                      <a:pt x="374" y="161"/>
                    </a:lnTo>
                    <a:lnTo>
                      <a:pt x="268" y="134"/>
                    </a:lnTo>
                    <a:lnTo>
                      <a:pt x="189" y="134"/>
                    </a:lnTo>
                    <a:lnTo>
                      <a:pt x="99" y="161"/>
                    </a:lnTo>
                    <a:lnTo>
                      <a:pt x="106" y="119"/>
                    </a:lnTo>
                    <a:lnTo>
                      <a:pt x="150" y="90"/>
                    </a:lnTo>
                    <a:lnTo>
                      <a:pt x="62" y="90"/>
                    </a:lnTo>
                    <a:lnTo>
                      <a:pt x="99" y="64"/>
                    </a:lnTo>
                    <a:lnTo>
                      <a:pt x="163" y="33"/>
                    </a:lnTo>
                    <a:lnTo>
                      <a:pt x="219" y="42"/>
                    </a:lnTo>
                    <a:lnTo>
                      <a:pt x="316" y="64"/>
                    </a:lnTo>
                    <a:lnTo>
                      <a:pt x="247" y="20"/>
                    </a:lnTo>
                    <a:lnTo>
                      <a:pt x="163" y="0"/>
                    </a:lnTo>
                    <a:lnTo>
                      <a:pt x="141" y="2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702" name=""/>
              <p:cNvSpPr/>
              <p:nvPr/>
            </p:nvSpPr>
            <p:spPr>
              <a:xfrm>
                <a:off x="5180400" y="4717800"/>
                <a:ext cx="31680" cy="32040"/>
              </a:xfrm>
              <a:custGeom>
                <a:avLst/>
                <a:gdLst/>
                <a:ahLst/>
                <a:rect l="l" t="t" r="r" b="b"/>
                <a:pathLst>
                  <a:path w="387" h="303">
                    <a:moveTo>
                      <a:pt x="22" y="18"/>
                    </a:moveTo>
                    <a:lnTo>
                      <a:pt x="115" y="0"/>
                    </a:lnTo>
                    <a:lnTo>
                      <a:pt x="191" y="18"/>
                    </a:lnTo>
                    <a:lnTo>
                      <a:pt x="244" y="53"/>
                    </a:lnTo>
                    <a:lnTo>
                      <a:pt x="281" y="92"/>
                    </a:lnTo>
                    <a:lnTo>
                      <a:pt x="288" y="138"/>
                    </a:lnTo>
                    <a:lnTo>
                      <a:pt x="281" y="156"/>
                    </a:lnTo>
                    <a:lnTo>
                      <a:pt x="255" y="152"/>
                    </a:lnTo>
                    <a:lnTo>
                      <a:pt x="219" y="130"/>
                    </a:lnTo>
                    <a:lnTo>
                      <a:pt x="175" y="92"/>
                    </a:lnTo>
                    <a:lnTo>
                      <a:pt x="127" y="87"/>
                    </a:lnTo>
                    <a:lnTo>
                      <a:pt x="172" y="152"/>
                    </a:lnTo>
                    <a:lnTo>
                      <a:pt x="191" y="207"/>
                    </a:lnTo>
                    <a:lnTo>
                      <a:pt x="182" y="260"/>
                    </a:lnTo>
                    <a:lnTo>
                      <a:pt x="360" y="290"/>
                    </a:lnTo>
                    <a:lnTo>
                      <a:pt x="387" y="303"/>
                    </a:lnTo>
                    <a:lnTo>
                      <a:pt x="147" y="276"/>
                    </a:lnTo>
                    <a:lnTo>
                      <a:pt x="163" y="239"/>
                    </a:lnTo>
                    <a:lnTo>
                      <a:pt x="156" y="191"/>
                    </a:lnTo>
                    <a:lnTo>
                      <a:pt x="121" y="130"/>
                    </a:lnTo>
                    <a:lnTo>
                      <a:pt x="83" y="87"/>
                    </a:lnTo>
                    <a:lnTo>
                      <a:pt x="16" y="53"/>
                    </a:lnTo>
                    <a:lnTo>
                      <a:pt x="0" y="9"/>
                    </a:lnTo>
                    <a:lnTo>
                      <a:pt x="22" y="1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703" name=""/>
              <p:cNvSpPr/>
              <p:nvPr/>
            </p:nvSpPr>
            <p:spPr>
              <a:xfrm>
                <a:off x="5187240" y="4746600"/>
                <a:ext cx="17640" cy="33480"/>
              </a:xfrm>
              <a:custGeom>
                <a:avLst/>
                <a:gdLst/>
                <a:ahLst/>
                <a:rect l="l" t="t" r="r" b="b"/>
                <a:pathLst>
                  <a:path w="214" h="313">
                    <a:moveTo>
                      <a:pt x="89" y="0"/>
                    </a:moveTo>
                    <a:lnTo>
                      <a:pt x="0" y="179"/>
                    </a:lnTo>
                    <a:lnTo>
                      <a:pt x="9" y="313"/>
                    </a:lnTo>
                    <a:lnTo>
                      <a:pt x="214" y="65"/>
                    </a:lnTo>
                    <a:lnTo>
                      <a:pt x="214" y="14"/>
                    </a:lnTo>
                    <a:lnTo>
                      <a:pt x="8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04" name=""/>
              <p:cNvSpPr/>
              <p:nvPr/>
            </p:nvSpPr>
            <p:spPr>
              <a:xfrm>
                <a:off x="5127480" y="4832280"/>
                <a:ext cx="70920" cy="67680"/>
              </a:xfrm>
              <a:custGeom>
                <a:avLst/>
                <a:gdLst/>
                <a:ahLst/>
                <a:rect l="l" t="t" r="r" b="b"/>
                <a:pathLst>
                  <a:path w="857" h="640">
                    <a:moveTo>
                      <a:pt x="857" y="0"/>
                    </a:moveTo>
                    <a:lnTo>
                      <a:pt x="749" y="53"/>
                    </a:lnTo>
                    <a:lnTo>
                      <a:pt x="648" y="198"/>
                    </a:lnTo>
                    <a:lnTo>
                      <a:pt x="514" y="187"/>
                    </a:lnTo>
                    <a:lnTo>
                      <a:pt x="470" y="260"/>
                    </a:lnTo>
                    <a:lnTo>
                      <a:pt x="415" y="297"/>
                    </a:lnTo>
                    <a:lnTo>
                      <a:pt x="276" y="288"/>
                    </a:lnTo>
                    <a:lnTo>
                      <a:pt x="186" y="321"/>
                    </a:lnTo>
                    <a:lnTo>
                      <a:pt x="118" y="345"/>
                    </a:lnTo>
                    <a:lnTo>
                      <a:pt x="48" y="345"/>
                    </a:lnTo>
                    <a:lnTo>
                      <a:pt x="0" y="317"/>
                    </a:lnTo>
                    <a:lnTo>
                      <a:pt x="48" y="359"/>
                    </a:lnTo>
                    <a:lnTo>
                      <a:pt x="105" y="366"/>
                    </a:lnTo>
                    <a:lnTo>
                      <a:pt x="223" y="366"/>
                    </a:lnTo>
                    <a:lnTo>
                      <a:pt x="294" y="391"/>
                    </a:lnTo>
                    <a:lnTo>
                      <a:pt x="382" y="514"/>
                    </a:lnTo>
                    <a:lnTo>
                      <a:pt x="507" y="611"/>
                    </a:lnTo>
                    <a:lnTo>
                      <a:pt x="527" y="640"/>
                    </a:lnTo>
                    <a:lnTo>
                      <a:pt x="564" y="615"/>
                    </a:lnTo>
                    <a:lnTo>
                      <a:pt x="555" y="550"/>
                    </a:lnTo>
                    <a:lnTo>
                      <a:pt x="544" y="461"/>
                    </a:lnTo>
                    <a:lnTo>
                      <a:pt x="555" y="380"/>
                    </a:lnTo>
                    <a:lnTo>
                      <a:pt x="569" y="327"/>
                    </a:lnTo>
                    <a:lnTo>
                      <a:pt x="630" y="267"/>
                    </a:lnTo>
                    <a:lnTo>
                      <a:pt x="685" y="226"/>
                    </a:lnTo>
                    <a:lnTo>
                      <a:pt x="738" y="132"/>
                    </a:lnTo>
                    <a:lnTo>
                      <a:pt x="800" y="57"/>
                    </a:lnTo>
                    <a:lnTo>
                      <a:pt x="857"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705" name=""/>
              <p:cNvSpPr/>
              <p:nvPr/>
            </p:nvSpPr>
            <p:spPr>
              <a:xfrm>
                <a:off x="5182560" y="4791600"/>
                <a:ext cx="5760" cy="36000"/>
              </a:xfrm>
              <a:custGeom>
                <a:avLst/>
                <a:gdLst/>
                <a:ahLst/>
                <a:rect l="l" t="t" r="r" b="b"/>
                <a:pathLst>
                  <a:path w="72" h="339">
                    <a:moveTo>
                      <a:pt x="56" y="0"/>
                    </a:moveTo>
                    <a:lnTo>
                      <a:pt x="0" y="339"/>
                    </a:lnTo>
                    <a:lnTo>
                      <a:pt x="72" y="117"/>
                    </a:lnTo>
                    <a:lnTo>
                      <a:pt x="5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06" name=""/>
              <p:cNvSpPr/>
              <p:nvPr/>
            </p:nvSpPr>
            <p:spPr>
              <a:xfrm>
                <a:off x="5109480" y="4708800"/>
                <a:ext cx="62280" cy="19080"/>
              </a:xfrm>
              <a:custGeom>
                <a:avLst/>
                <a:gdLst/>
                <a:ahLst/>
                <a:rect l="l" t="t" r="r" b="b"/>
                <a:pathLst>
                  <a:path w="747" h="189">
                    <a:moveTo>
                      <a:pt x="0" y="189"/>
                    </a:moveTo>
                    <a:lnTo>
                      <a:pt x="38" y="145"/>
                    </a:lnTo>
                    <a:lnTo>
                      <a:pt x="95" y="117"/>
                    </a:lnTo>
                    <a:lnTo>
                      <a:pt x="189" y="97"/>
                    </a:lnTo>
                    <a:lnTo>
                      <a:pt x="341" y="78"/>
                    </a:lnTo>
                    <a:lnTo>
                      <a:pt x="460" y="39"/>
                    </a:lnTo>
                    <a:lnTo>
                      <a:pt x="581" y="0"/>
                    </a:lnTo>
                    <a:lnTo>
                      <a:pt x="664" y="0"/>
                    </a:lnTo>
                    <a:lnTo>
                      <a:pt x="715" y="29"/>
                    </a:lnTo>
                    <a:lnTo>
                      <a:pt x="747" y="4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07" name=""/>
              <p:cNvSpPr/>
              <p:nvPr/>
            </p:nvSpPr>
            <p:spPr>
              <a:xfrm>
                <a:off x="5123520" y="4701600"/>
                <a:ext cx="46440" cy="11880"/>
              </a:xfrm>
              <a:custGeom>
                <a:avLst/>
                <a:gdLst/>
                <a:ahLst/>
                <a:rect l="l" t="t" r="r" b="b"/>
                <a:pathLst>
                  <a:path w="563" h="118">
                    <a:moveTo>
                      <a:pt x="0" y="118"/>
                    </a:moveTo>
                    <a:lnTo>
                      <a:pt x="134" y="94"/>
                    </a:lnTo>
                    <a:lnTo>
                      <a:pt x="266" y="41"/>
                    </a:lnTo>
                    <a:lnTo>
                      <a:pt x="362" y="4"/>
                    </a:lnTo>
                    <a:lnTo>
                      <a:pt x="436" y="0"/>
                    </a:lnTo>
                    <a:lnTo>
                      <a:pt x="496" y="17"/>
                    </a:lnTo>
                    <a:lnTo>
                      <a:pt x="563" y="48"/>
                    </a:lnTo>
                  </a:path>
                </a:pathLst>
              </a:custGeom>
              <a:noFill/>
              <a:ln w="0">
                <a:solidFill>
                  <a:srgbClr val="000000"/>
                </a:solid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708" name=""/>
              <p:cNvSpPr/>
              <p:nvPr/>
            </p:nvSpPr>
            <p:spPr>
              <a:xfrm>
                <a:off x="5140800" y="4695840"/>
                <a:ext cx="23040" cy="5760"/>
              </a:xfrm>
              <a:custGeom>
                <a:avLst/>
                <a:gdLst/>
                <a:ahLst/>
                <a:rect l="l" t="t" r="r" b="b"/>
                <a:pathLst>
                  <a:path w="279" h="62">
                    <a:moveTo>
                      <a:pt x="0" y="62"/>
                    </a:moveTo>
                    <a:lnTo>
                      <a:pt x="161" y="7"/>
                    </a:lnTo>
                    <a:lnTo>
                      <a:pt x="223" y="0"/>
                    </a:lnTo>
                    <a:lnTo>
                      <a:pt x="279" y="12"/>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709" name=""/>
              <p:cNvSpPr/>
              <p:nvPr/>
            </p:nvSpPr>
            <p:spPr>
              <a:xfrm>
                <a:off x="5167440" y="4733280"/>
                <a:ext cx="8280" cy="13320"/>
              </a:xfrm>
              <a:custGeom>
                <a:avLst/>
                <a:gdLst/>
                <a:ahLst/>
                <a:rect l="l" t="t" r="r" b="b"/>
                <a:pathLst>
                  <a:path w="105" h="128">
                    <a:moveTo>
                      <a:pt x="0" y="0"/>
                    </a:moveTo>
                    <a:lnTo>
                      <a:pt x="0" y="101"/>
                    </a:lnTo>
                    <a:lnTo>
                      <a:pt x="52" y="128"/>
                    </a:lnTo>
                    <a:lnTo>
                      <a:pt x="105" y="39"/>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10" name=""/>
              <p:cNvSpPr/>
              <p:nvPr/>
            </p:nvSpPr>
            <p:spPr>
              <a:xfrm>
                <a:off x="5252760" y="4904280"/>
                <a:ext cx="176040" cy="399960"/>
              </a:xfrm>
              <a:custGeom>
                <a:avLst/>
                <a:gdLst/>
                <a:ahLst/>
                <a:rect l="l" t="t" r="r" b="b"/>
                <a:pathLst>
                  <a:path w="2124" h="3774">
                    <a:moveTo>
                      <a:pt x="1483" y="509"/>
                    </a:moveTo>
                    <a:lnTo>
                      <a:pt x="1612" y="966"/>
                    </a:lnTo>
                    <a:lnTo>
                      <a:pt x="1929" y="1474"/>
                    </a:lnTo>
                    <a:lnTo>
                      <a:pt x="1810" y="2116"/>
                    </a:lnTo>
                    <a:lnTo>
                      <a:pt x="2124" y="3119"/>
                    </a:lnTo>
                    <a:lnTo>
                      <a:pt x="2124" y="3774"/>
                    </a:lnTo>
                    <a:lnTo>
                      <a:pt x="916" y="3766"/>
                    </a:lnTo>
                    <a:lnTo>
                      <a:pt x="0" y="3302"/>
                    </a:lnTo>
                    <a:lnTo>
                      <a:pt x="499" y="2990"/>
                    </a:lnTo>
                    <a:lnTo>
                      <a:pt x="510" y="2782"/>
                    </a:lnTo>
                    <a:lnTo>
                      <a:pt x="589" y="2443"/>
                    </a:lnTo>
                    <a:lnTo>
                      <a:pt x="589" y="2755"/>
                    </a:lnTo>
                    <a:lnTo>
                      <a:pt x="932" y="2375"/>
                    </a:lnTo>
                    <a:lnTo>
                      <a:pt x="995" y="2285"/>
                    </a:lnTo>
                    <a:lnTo>
                      <a:pt x="1024" y="2116"/>
                    </a:lnTo>
                    <a:lnTo>
                      <a:pt x="1063" y="1931"/>
                    </a:lnTo>
                    <a:lnTo>
                      <a:pt x="1301" y="1946"/>
                    </a:lnTo>
                    <a:lnTo>
                      <a:pt x="1377" y="1812"/>
                    </a:lnTo>
                    <a:lnTo>
                      <a:pt x="1206" y="1501"/>
                    </a:lnTo>
                    <a:lnTo>
                      <a:pt x="1377" y="1501"/>
                    </a:lnTo>
                    <a:lnTo>
                      <a:pt x="1377" y="1434"/>
                    </a:lnTo>
                    <a:lnTo>
                      <a:pt x="1232" y="1265"/>
                    </a:lnTo>
                    <a:lnTo>
                      <a:pt x="1246" y="1148"/>
                    </a:lnTo>
                    <a:lnTo>
                      <a:pt x="1457" y="966"/>
                    </a:lnTo>
                    <a:lnTo>
                      <a:pt x="1470" y="717"/>
                    </a:lnTo>
                    <a:lnTo>
                      <a:pt x="1351" y="496"/>
                    </a:lnTo>
                    <a:lnTo>
                      <a:pt x="1324" y="258"/>
                    </a:lnTo>
                    <a:lnTo>
                      <a:pt x="1206" y="0"/>
                    </a:lnTo>
                    <a:lnTo>
                      <a:pt x="1419" y="351"/>
                    </a:lnTo>
                    <a:lnTo>
                      <a:pt x="1483" y="5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1" name=""/>
              <p:cNvSpPr/>
              <p:nvPr/>
            </p:nvSpPr>
            <p:spPr>
              <a:xfrm>
                <a:off x="5225760" y="4805280"/>
                <a:ext cx="60840" cy="92160"/>
              </a:xfrm>
              <a:custGeom>
                <a:avLst/>
                <a:gdLst/>
                <a:ahLst/>
                <a:rect l="l" t="t" r="r" b="b"/>
                <a:pathLst>
                  <a:path w="734" h="874">
                    <a:moveTo>
                      <a:pt x="38" y="65"/>
                    </a:moveTo>
                    <a:lnTo>
                      <a:pt x="156" y="301"/>
                    </a:lnTo>
                    <a:lnTo>
                      <a:pt x="0" y="874"/>
                    </a:lnTo>
                    <a:lnTo>
                      <a:pt x="220" y="222"/>
                    </a:lnTo>
                    <a:lnTo>
                      <a:pt x="220" y="158"/>
                    </a:lnTo>
                    <a:lnTo>
                      <a:pt x="195" y="106"/>
                    </a:lnTo>
                    <a:lnTo>
                      <a:pt x="328" y="158"/>
                    </a:lnTo>
                    <a:lnTo>
                      <a:pt x="420" y="250"/>
                    </a:lnTo>
                    <a:lnTo>
                      <a:pt x="446" y="367"/>
                    </a:lnTo>
                    <a:lnTo>
                      <a:pt x="378" y="547"/>
                    </a:lnTo>
                    <a:lnTo>
                      <a:pt x="486" y="404"/>
                    </a:lnTo>
                    <a:lnTo>
                      <a:pt x="576" y="433"/>
                    </a:lnTo>
                    <a:lnTo>
                      <a:pt x="290" y="874"/>
                    </a:lnTo>
                    <a:lnTo>
                      <a:pt x="734" y="378"/>
                    </a:lnTo>
                    <a:lnTo>
                      <a:pt x="681" y="325"/>
                    </a:lnTo>
                    <a:lnTo>
                      <a:pt x="617" y="367"/>
                    </a:lnTo>
                    <a:lnTo>
                      <a:pt x="499" y="339"/>
                    </a:lnTo>
                    <a:lnTo>
                      <a:pt x="472" y="235"/>
                    </a:lnTo>
                    <a:lnTo>
                      <a:pt x="393" y="158"/>
                    </a:lnTo>
                    <a:lnTo>
                      <a:pt x="248" y="79"/>
                    </a:lnTo>
                    <a:lnTo>
                      <a:pt x="156" y="79"/>
                    </a:lnTo>
                    <a:lnTo>
                      <a:pt x="0" y="0"/>
                    </a:lnTo>
                    <a:lnTo>
                      <a:pt x="38" y="6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2" name=""/>
              <p:cNvSpPr/>
              <p:nvPr/>
            </p:nvSpPr>
            <p:spPr>
              <a:xfrm>
                <a:off x="5296680" y="4849200"/>
                <a:ext cx="52920" cy="52200"/>
              </a:xfrm>
              <a:custGeom>
                <a:avLst/>
                <a:gdLst/>
                <a:ahLst/>
                <a:rect l="l" t="t" r="r" b="b"/>
                <a:pathLst>
                  <a:path w="643" h="496">
                    <a:moveTo>
                      <a:pt x="0" y="0"/>
                    </a:moveTo>
                    <a:lnTo>
                      <a:pt x="198" y="94"/>
                    </a:lnTo>
                    <a:lnTo>
                      <a:pt x="420" y="168"/>
                    </a:lnTo>
                    <a:lnTo>
                      <a:pt x="643" y="496"/>
                    </a:lnTo>
                    <a:lnTo>
                      <a:pt x="500" y="442"/>
                    </a:lnTo>
                    <a:lnTo>
                      <a:pt x="408" y="221"/>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13" name=""/>
              <p:cNvSpPr/>
              <p:nvPr/>
            </p:nvSpPr>
            <p:spPr>
              <a:xfrm>
                <a:off x="5155200" y="4903560"/>
                <a:ext cx="54720" cy="258480"/>
              </a:xfrm>
              <a:custGeom>
                <a:avLst/>
                <a:gdLst/>
                <a:ahLst/>
                <a:rect l="l" t="t" r="r" b="b"/>
                <a:pathLst>
                  <a:path w="667" h="2442">
                    <a:moveTo>
                      <a:pt x="208" y="0"/>
                    </a:moveTo>
                    <a:lnTo>
                      <a:pt x="208" y="88"/>
                    </a:lnTo>
                    <a:lnTo>
                      <a:pt x="618" y="326"/>
                    </a:lnTo>
                    <a:lnTo>
                      <a:pt x="272" y="194"/>
                    </a:lnTo>
                    <a:lnTo>
                      <a:pt x="208" y="440"/>
                    </a:lnTo>
                    <a:lnTo>
                      <a:pt x="272" y="625"/>
                    </a:lnTo>
                    <a:lnTo>
                      <a:pt x="272" y="794"/>
                    </a:lnTo>
                    <a:lnTo>
                      <a:pt x="208" y="1190"/>
                    </a:lnTo>
                    <a:lnTo>
                      <a:pt x="153" y="1543"/>
                    </a:lnTo>
                    <a:lnTo>
                      <a:pt x="185" y="1734"/>
                    </a:lnTo>
                    <a:lnTo>
                      <a:pt x="314" y="1996"/>
                    </a:lnTo>
                    <a:lnTo>
                      <a:pt x="512" y="2218"/>
                    </a:lnTo>
                    <a:lnTo>
                      <a:pt x="667" y="2257"/>
                    </a:lnTo>
                    <a:lnTo>
                      <a:pt x="470" y="2242"/>
                    </a:lnTo>
                    <a:lnTo>
                      <a:pt x="404" y="2273"/>
                    </a:lnTo>
                    <a:lnTo>
                      <a:pt x="404" y="2442"/>
                    </a:lnTo>
                    <a:lnTo>
                      <a:pt x="272" y="2321"/>
                    </a:lnTo>
                    <a:lnTo>
                      <a:pt x="0" y="2400"/>
                    </a:lnTo>
                    <a:lnTo>
                      <a:pt x="245" y="2297"/>
                    </a:lnTo>
                    <a:lnTo>
                      <a:pt x="185" y="2089"/>
                    </a:lnTo>
                    <a:lnTo>
                      <a:pt x="129" y="1801"/>
                    </a:lnTo>
                    <a:lnTo>
                      <a:pt x="116" y="1501"/>
                    </a:lnTo>
                    <a:lnTo>
                      <a:pt x="143" y="1200"/>
                    </a:lnTo>
                    <a:lnTo>
                      <a:pt x="208" y="911"/>
                    </a:lnTo>
                    <a:lnTo>
                      <a:pt x="233" y="756"/>
                    </a:lnTo>
                    <a:lnTo>
                      <a:pt x="233" y="598"/>
                    </a:lnTo>
                    <a:lnTo>
                      <a:pt x="185" y="494"/>
                    </a:lnTo>
                    <a:lnTo>
                      <a:pt x="51" y="440"/>
                    </a:lnTo>
                    <a:lnTo>
                      <a:pt x="185" y="130"/>
                    </a:lnTo>
                    <a:lnTo>
                      <a:pt x="2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4" name=""/>
            <p:cNvSpPr/>
            <p:nvPr/>
          </p:nvSpPr>
          <p:spPr>
            <a:xfrm>
              <a:off x="5074560" y="4899960"/>
              <a:ext cx="90000" cy="258480"/>
            </a:xfrm>
            <a:custGeom>
              <a:avLst/>
              <a:gdLst/>
              <a:ahLst/>
              <a:rect l="l" t="t" r="r" b="b"/>
              <a:pathLst>
                <a:path w="1088" h="2442">
                  <a:moveTo>
                    <a:pt x="1035" y="0"/>
                  </a:moveTo>
                  <a:lnTo>
                    <a:pt x="958" y="116"/>
                  </a:lnTo>
                  <a:lnTo>
                    <a:pt x="943" y="238"/>
                  </a:lnTo>
                  <a:lnTo>
                    <a:pt x="943" y="455"/>
                  </a:lnTo>
                  <a:lnTo>
                    <a:pt x="931" y="784"/>
                  </a:lnTo>
                  <a:lnTo>
                    <a:pt x="866" y="1292"/>
                  </a:lnTo>
                  <a:lnTo>
                    <a:pt x="838" y="1672"/>
                  </a:lnTo>
                  <a:lnTo>
                    <a:pt x="853" y="1894"/>
                  </a:lnTo>
                  <a:lnTo>
                    <a:pt x="890" y="2074"/>
                  </a:lnTo>
                  <a:lnTo>
                    <a:pt x="943" y="2207"/>
                  </a:lnTo>
                  <a:lnTo>
                    <a:pt x="1023" y="2338"/>
                  </a:lnTo>
                  <a:lnTo>
                    <a:pt x="1088" y="2378"/>
                  </a:lnTo>
                  <a:lnTo>
                    <a:pt x="980" y="2442"/>
                  </a:lnTo>
                  <a:lnTo>
                    <a:pt x="866" y="2442"/>
                  </a:lnTo>
                  <a:lnTo>
                    <a:pt x="866" y="2232"/>
                  </a:lnTo>
                  <a:lnTo>
                    <a:pt x="798" y="2052"/>
                  </a:lnTo>
                  <a:lnTo>
                    <a:pt x="576" y="1424"/>
                  </a:lnTo>
                  <a:lnTo>
                    <a:pt x="156" y="1488"/>
                  </a:lnTo>
                  <a:lnTo>
                    <a:pt x="75" y="1474"/>
                  </a:lnTo>
                  <a:lnTo>
                    <a:pt x="391" y="1345"/>
                  </a:lnTo>
                  <a:lnTo>
                    <a:pt x="341" y="1228"/>
                  </a:lnTo>
                  <a:lnTo>
                    <a:pt x="0" y="1228"/>
                  </a:lnTo>
                  <a:lnTo>
                    <a:pt x="260" y="1110"/>
                  </a:lnTo>
                  <a:lnTo>
                    <a:pt x="456" y="1096"/>
                  </a:lnTo>
                  <a:lnTo>
                    <a:pt x="417" y="849"/>
                  </a:lnTo>
                  <a:lnTo>
                    <a:pt x="798" y="1905"/>
                  </a:lnTo>
                  <a:lnTo>
                    <a:pt x="798" y="1608"/>
                  </a:lnTo>
                  <a:lnTo>
                    <a:pt x="838" y="1257"/>
                  </a:lnTo>
                  <a:lnTo>
                    <a:pt x="890" y="863"/>
                  </a:lnTo>
                  <a:lnTo>
                    <a:pt x="919" y="575"/>
                  </a:lnTo>
                  <a:lnTo>
                    <a:pt x="919" y="169"/>
                  </a:lnTo>
                  <a:lnTo>
                    <a:pt x="972" y="53"/>
                  </a:lnTo>
                  <a:lnTo>
                    <a:pt x="10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5" name=""/>
            <p:cNvSpPr/>
            <p:nvPr/>
          </p:nvSpPr>
          <p:spPr>
            <a:xfrm>
              <a:off x="5195160" y="4937400"/>
              <a:ext cx="119880" cy="222840"/>
            </a:xfrm>
            <a:custGeom>
              <a:avLst/>
              <a:gdLst/>
              <a:ahLst/>
              <a:rect l="l" t="t" r="r" b="b"/>
              <a:pathLst>
                <a:path w="1444" h="2100">
                  <a:moveTo>
                    <a:pt x="198" y="1931"/>
                  </a:moveTo>
                  <a:lnTo>
                    <a:pt x="407" y="1995"/>
                  </a:lnTo>
                  <a:lnTo>
                    <a:pt x="589" y="2100"/>
                  </a:lnTo>
                  <a:lnTo>
                    <a:pt x="446" y="1931"/>
                  </a:lnTo>
                  <a:lnTo>
                    <a:pt x="343" y="1841"/>
                  </a:lnTo>
                  <a:lnTo>
                    <a:pt x="248" y="1826"/>
                  </a:lnTo>
                  <a:lnTo>
                    <a:pt x="211" y="1812"/>
                  </a:lnTo>
                  <a:lnTo>
                    <a:pt x="211" y="1632"/>
                  </a:lnTo>
                  <a:lnTo>
                    <a:pt x="264" y="1593"/>
                  </a:lnTo>
                  <a:lnTo>
                    <a:pt x="499" y="1498"/>
                  </a:lnTo>
                  <a:lnTo>
                    <a:pt x="776" y="1318"/>
                  </a:lnTo>
                  <a:lnTo>
                    <a:pt x="1025" y="1070"/>
                  </a:lnTo>
                  <a:lnTo>
                    <a:pt x="1444" y="495"/>
                  </a:lnTo>
                  <a:lnTo>
                    <a:pt x="1444" y="403"/>
                  </a:lnTo>
                  <a:lnTo>
                    <a:pt x="1092" y="834"/>
                  </a:lnTo>
                  <a:lnTo>
                    <a:pt x="710" y="1217"/>
                  </a:lnTo>
                  <a:lnTo>
                    <a:pt x="369" y="1448"/>
                  </a:lnTo>
                  <a:lnTo>
                    <a:pt x="578" y="1081"/>
                  </a:lnTo>
                  <a:lnTo>
                    <a:pt x="684" y="732"/>
                  </a:lnTo>
                  <a:lnTo>
                    <a:pt x="710" y="495"/>
                  </a:lnTo>
                  <a:lnTo>
                    <a:pt x="879" y="140"/>
                  </a:lnTo>
                  <a:lnTo>
                    <a:pt x="1117" y="0"/>
                  </a:lnTo>
                  <a:lnTo>
                    <a:pt x="855" y="127"/>
                  </a:lnTo>
                  <a:lnTo>
                    <a:pt x="644" y="442"/>
                  </a:lnTo>
                  <a:lnTo>
                    <a:pt x="644" y="769"/>
                  </a:lnTo>
                  <a:lnTo>
                    <a:pt x="525" y="1081"/>
                  </a:lnTo>
                  <a:lnTo>
                    <a:pt x="356" y="1371"/>
                  </a:lnTo>
                  <a:lnTo>
                    <a:pt x="184" y="1604"/>
                  </a:lnTo>
                  <a:lnTo>
                    <a:pt x="184" y="1826"/>
                  </a:lnTo>
                  <a:lnTo>
                    <a:pt x="0" y="1905"/>
                  </a:lnTo>
                  <a:lnTo>
                    <a:pt x="198" y="19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6" name=""/>
            <p:cNvSpPr/>
            <p:nvPr/>
          </p:nvSpPr>
          <p:spPr>
            <a:xfrm>
              <a:off x="5191920" y="5168880"/>
              <a:ext cx="67320" cy="81000"/>
            </a:xfrm>
            <a:custGeom>
              <a:avLst/>
              <a:gdLst/>
              <a:ahLst/>
              <a:rect l="l" t="t" r="r" b="b"/>
              <a:pathLst>
                <a:path w="818" h="773">
                  <a:moveTo>
                    <a:pt x="671" y="0"/>
                  </a:moveTo>
                  <a:lnTo>
                    <a:pt x="776" y="184"/>
                  </a:lnTo>
                  <a:lnTo>
                    <a:pt x="818" y="419"/>
                  </a:lnTo>
                  <a:lnTo>
                    <a:pt x="818" y="564"/>
                  </a:lnTo>
                  <a:lnTo>
                    <a:pt x="739" y="758"/>
                  </a:lnTo>
                  <a:lnTo>
                    <a:pt x="606" y="773"/>
                  </a:lnTo>
                  <a:lnTo>
                    <a:pt x="369" y="654"/>
                  </a:lnTo>
                  <a:lnTo>
                    <a:pt x="226" y="498"/>
                  </a:lnTo>
                  <a:lnTo>
                    <a:pt x="0" y="14"/>
                  </a:lnTo>
                  <a:lnTo>
                    <a:pt x="161" y="290"/>
                  </a:lnTo>
                  <a:lnTo>
                    <a:pt x="435" y="512"/>
                  </a:lnTo>
                  <a:lnTo>
                    <a:pt x="739" y="588"/>
                  </a:lnTo>
                  <a:lnTo>
                    <a:pt x="752" y="474"/>
                  </a:lnTo>
                  <a:lnTo>
                    <a:pt x="712" y="327"/>
                  </a:lnTo>
                  <a:lnTo>
                    <a:pt x="620" y="235"/>
                  </a:lnTo>
                  <a:lnTo>
                    <a:pt x="477" y="184"/>
                  </a:lnTo>
                  <a:lnTo>
                    <a:pt x="620" y="147"/>
                  </a:lnTo>
                  <a:lnTo>
                    <a:pt x="671" y="65"/>
                  </a:lnTo>
                  <a:lnTo>
                    <a:pt x="67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17" name=""/>
            <p:cNvSpPr/>
            <p:nvPr/>
          </p:nvSpPr>
          <p:spPr>
            <a:xfrm>
              <a:off x="5052600" y="5188320"/>
              <a:ext cx="174960" cy="64080"/>
            </a:xfrm>
            <a:custGeom>
              <a:avLst/>
              <a:gdLst/>
              <a:ahLst/>
              <a:rect l="l" t="t" r="r" b="b"/>
              <a:pathLst>
                <a:path w="2111" h="613">
                  <a:moveTo>
                    <a:pt x="2111" y="613"/>
                  </a:moveTo>
                  <a:lnTo>
                    <a:pt x="1718" y="602"/>
                  </a:lnTo>
                  <a:lnTo>
                    <a:pt x="1194" y="549"/>
                  </a:lnTo>
                  <a:lnTo>
                    <a:pt x="593" y="380"/>
                  </a:lnTo>
                  <a:lnTo>
                    <a:pt x="103" y="301"/>
                  </a:lnTo>
                  <a:lnTo>
                    <a:pt x="26" y="235"/>
                  </a:lnTo>
                  <a:lnTo>
                    <a:pt x="0" y="90"/>
                  </a:lnTo>
                  <a:lnTo>
                    <a:pt x="353" y="143"/>
                  </a:lnTo>
                  <a:lnTo>
                    <a:pt x="364" y="0"/>
                  </a:lnTo>
                  <a:lnTo>
                    <a:pt x="406" y="143"/>
                  </a:lnTo>
                  <a:lnTo>
                    <a:pt x="643" y="143"/>
                  </a:lnTo>
                  <a:lnTo>
                    <a:pt x="419" y="249"/>
                  </a:lnTo>
                  <a:lnTo>
                    <a:pt x="445" y="328"/>
                  </a:lnTo>
                  <a:lnTo>
                    <a:pt x="929" y="290"/>
                  </a:lnTo>
                  <a:lnTo>
                    <a:pt x="1243" y="301"/>
                  </a:lnTo>
                  <a:lnTo>
                    <a:pt x="1586" y="362"/>
                  </a:lnTo>
                  <a:lnTo>
                    <a:pt x="1773" y="433"/>
                  </a:lnTo>
                  <a:lnTo>
                    <a:pt x="1625" y="249"/>
                  </a:lnTo>
                  <a:lnTo>
                    <a:pt x="1494" y="169"/>
                  </a:lnTo>
                  <a:lnTo>
                    <a:pt x="1221" y="106"/>
                  </a:lnTo>
                  <a:lnTo>
                    <a:pt x="1549" y="106"/>
                  </a:lnTo>
                  <a:lnTo>
                    <a:pt x="1747" y="235"/>
                  </a:lnTo>
                  <a:lnTo>
                    <a:pt x="1821" y="393"/>
                  </a:lnTo>
                  <a:lnTo>
                    <a:pt x="1929" y="496"/>
                  </a:lnTo>
                  <a:lnTo>
                    <a:pt x="2019" y="574"/>
                  </a:lnTo>
                  <a:lnTo>
                    <a:pt x="2111" y="6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18" name=""/>
            <p:cNvSpPr/>
            <p:nvPr/>
          </p:nvSpPr>
          <p:spPr>
            <a:xfrm>
              <a:off x="5052600" y="5065560"/>
              <a:ext cx="75600" cy="77040"/>
            </a:xfrm>
            <a:custGeom>
              <a:avLst/>
              <a:gdLst/>
              <a:ahLst/>
              <a:rect l="l" t="t" r="r" b="b"/>
              <a:pathLst>
                <a:path w="905" h="731">
                  <a:moveTo>
                    <a:pt x="168" y="731"/>
                  </a:moveTo>
                  <a:lnTo>
                    <a:pt x="301" y="612"/>
                  </a:lnTo>
                  <a:lnTo>
                    <a:pt x="301" y="563"/>
                  </a:lnTo>
                  <a:lnTo>
                    <a:pt x="263" y="512"/>
                  </a:lnTo>
                  <a:lnTo>
                    <a:pt x="143" y="457"/>
                  </a:lnTo>
                  <a:lnTo>
                    <a:pt x="26" y="417"/>
                  </a:lnTo>
                  <a:lnTo>
                    <a:pt x="0" y="393"/>
                  </a:lnTo>
                  <a:lnTo>
                    <a:pt x="0" y="340"/>
                  </a:lnTo>
                  <a:lnTo>
                    <a:pt x="26" y="312"/>
                  </a:lnTo>
                  <a:lnTo>
                    <a:pt x="103" y="275"/>
                  </a:lnTo>
                  <a:lnTo>
                    <a:pt x="118" y="312"/>
                  </a:lnTo>
                  <a:lnTo>
                    <a:pt x="158" y="351"/>
                  </a:lnTo>
                  <a:lnTo>
                    <a:pt x="301" y="379"/>
                  </a:lnTo>
                  <a:lnTo>
                    <a:pt x="285" y="287"/>
                  </a:lnTo>
                  <a:lnTo>
                    <a:pt x="221" y="208"/>
                  </a:lnTo>
                  <a:lnTo>
                    <a:pt x="143" y="129"/>
                  </a:lnTo>
                  <a:lnTo>
                    <a:pt x="13" y="54"/>
                  </a:lnTo>
                  <a:lnTo>
                    <a:pt x="90" y="39"/>
                  </a:lnTo>
                  <a:lnTo>
                    <a:pt x="237" y="79"/>
                  </a:lnTo>
                  <a:lnTo>
                    <a:pt x="364" y="158"/>
                  </a:lnTo>
                  <a:lnTo>
                    <a:pt x="472" y="298"/>
                  </a:lnTo>
                  <a:lnTo>
                    <a:pt x="617" y="235"/>
                  </a:lnTo>
                  <a:lnTo>
                    <a:pt x="461" y="158"/>
                  </a:lnTo>
                  <a:lnTo>
                    <a:pt x="433" y="118"/>
                  </a:lnTo>
                  <a:lnTo>
                    <a:pt x="461" y="79"/>
                  </a:lnTo>
                  <a:lnTo>
                    <a:pt x="562" y="39"/>
                  </a:lnTo>
                  <a:lnTo>
                    <a:pt x="747" y="0"/>
                  </a:lnTo>
                  <a:lnTo>
                    <a:pt x="905" y="0"/>
                  </a:lnTo>
                  <a:lnTo>
                    <a:pt x="823" y="158"/>
                  </a:lnTo>
                  <a:lnTo>
                    <a:pt x="643" y="362"/>
                  </a:lnTo>
                  <a:lnTo>
                    <a:pt x="445" y="549"/>
                  </a:lnTo>
                  <a:lnTo>
                    <a:pt x="301" y="667"/>
                  </a:lnTo>
                  <a:lnTo>
                    <a:pt x="168" y="73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719" name=""/>
            <p:cNvSpPr/>
            <p:nvPr/>
          </p:nvSpPr>
          <p:spPr>
            <a:xfrm>
              <a:off x="5091480" y="4899960"/>
              <a:ext cx="12960" cy="82080"/>
            </a:xfrm>
            <a:custGeom>
              <a:avLst/>
              <a:gdLst/>
              <a:ahLst/>
              <a:rect l="l" t="t" r="r" b="b"/>
              <a:pathLst>
                <a:path w="157" h="771">
                  <a:moveTo>
                    <a:pt x="65" y="116"/>
                  </a:moveTo>
                  <a:lnTo>
                    <a:pt x="90" y="378"/>
                  </a:lnTo>
                  <a:lnTo>
                    <a:pt x="132" y="626"/>
                  </a:lnTo>
                  <a:lnTo>
                    <a:pt x="157" y="771"/>
                  </a:lnTo>
                  <a:lnTo>
                    <a:pt x="24" y="354"/>
                  </a:lnTo>
                  <a:lnTo>
                    <a:pt x="0" y="222"/>
                  </a:lnTo>
                  <a:lnTo>
                    <a:pt x="51" y="0"/>
                  </a:lnTo>
                  <a:lnTo>
                    <a:pt x="65" y="11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720" name=""/>
          <p:cNvSpPr/>
          <p:nvPr/>
        </p:nvSpPr>
        <p:spPr>
          <a:xfrm>
            <a:off x="6743160" y="6095880"/>
            <a:ext cx="1918800" cy="2746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e avaliação</a:t>
            </a:r>
            <a:endParaRPr b="0" lang="en-US" sz="1800" spc="-1" strike="noStrike">
              <a:solidFill>
                <a:srgbClr val="000000"/>
              </a:solidFill>
              <a:latin typeface="Arial"/>
            </a:endParaRPr>
          </a:p>
        </p:txBody>
      </p:sp>
      <p:sp>
        <p:nvSpPr>
          <p:cNvPr id="4721" name=""/>
          <p:cNvSpPr/>
          <p:nvPr/>
        </p:nvSpPr>
        <p:spPr>
          <a:xfrm>
            <a:off x="5548320" y="5105520"/>
            <a:ext cx="404640" cy="188640"/>
          </a:xfrm>
          <a:prstGeom prst="rightArrow">
            <a:avLst>
              <a:gd name="adj1" fmla="val 50000"/>
              <a:gd name="adj2" fmla="val 53626"/>
            </a:avLst>
          </a:prstGeom>
          <a:solidFill>
            <a:srgbClr val="ffff00"/>
          </a:solidFill>
          <a:ln w="324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722" name=""/>
          <p:cNvSpPr/>
          <p:nvPr/>
        </p:nvSpPr>
        <p:spPr>
          <a:xfrm>
            <a:off x="6539040" y="5105520"/>
            <a:ext cx="404640" cy="188640"/>
          </a:xfrm>
          <a:prstGeom prst="rightArrow">
            <a:avLst>
              <a:gd name="adj1" fmla="val 50000"/>
              <a:gd name="adj2" fmla="val 53626"/>
            </a:avLst>
          </a:prstGeom>
          <a:solidFill>
            <a:srgbClr val="ffff00"/>
          </a:solidFill>
          <a:ln w="324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723" name=""/>
          <p:cNvSpPr/>
          <p:nvPr/>
        </p:nvSpPr>
        <p:spPr>
          <a:xfrm>
            <a:off x="5013360" y="2286000"/>
            <a:ext cx="725400" cy="3052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e</a:t>
            </a:r>
            <a:endParaRPr b="0" lang="en-US" sz="2000" spc="-1" strike="noStrike">
              <a:solidFill>
                <a:srgbClr val="000000"/>
              </a:solidFill>
              <a:latin typeface="Arial"/>
            </a:endParaRPr>
          </a:p>
        </p:txBody>
      </p:sp>
      <p:sp>
        <p:nvSpPr>
          <p:cNvPr id="4724" name=""/>
          <p:cNvSpPr/>
          <p:nvPr/>
        </p:nvSpPr>
        <p:spPr>
          <a:xfrm>
            <a:off x="2652840" y="2438280"/>
            <a:ext cx="939600" cy="54900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ate anterior</a:t>
            </a:r>
            <a:endParaRPr b="0" lang="en-US" sz="1800" spc="-1" strike="noStrike">
              <a:solidFill>
                <a:srgbClr val="000000"/>
              </a:solidFill>
              <a:latin typeface="Arial"/>
            </a:endParaRPr>
          </a:p>
        </p:txBody>
      </p:sp>
      <p:sp>
        <p:nvSpPr>
          <p:cNvPr id="4725" name=""/>
          <p:cNvSpPr/>
          <p:nvPr/>
        </p:nvSpPr>
        <p:spPr>
          <a:xfrm>
            <a:off x="6961320" y="2538360"/>
            <a:ext cx="812520" cy="54900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ate atual</a:t>
            </a:r>
            <a:endParaRPr b="0" lang="en-US" sz="1800" spc="-1" strike="noStrike">
              <a:solidFill>
                <a:srgbClr val="000000"/>
              </a:solidFill>
              <a:latin typeface="Arial"/>
            </a:endParaRPr>
          </a:p>
        </p:txBody>
      </p:sp>
      <p:grpSp>
        <p:nvGrpSpPr>
          <p:cNvPr id="4726" name=""/>
          <p:cNvGrpSpPr/>
          <p:nvPr/>
        </p:nvGrpSpPr>
        <p:grpSpPr>
          <a:xfrm>
            <a:off x="4200480" y="3578400"/>
            <a:ext cx="519120" cy="599760"/>
            <a:chOff x="4200480" y="3578400"/>
            <a:chExt cx="519120" cy="599760"/>
          </a:xfrm>
        </p:grpSpPr>
        <p:sp>
          <p:nvSpPr>
            <p:cNvPr id="4727" name=""/>
            <p:cNvSpPr/>
            <p:nvPr/>
          </p:nvSpPr>
          <p:spPr>
            <a:xfrm>
              <a:off x="4200480" y="3578400"/>
              <a:ext cx="519120" cy="59976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8" name=""/>
            <p:cNvSpPr/>
            <p:nvPr/>
          </p:nvSpPr>
          <p:spPr>
            <a:xfrm>
              <a:off x="4257720" y="36777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9" name=""/>
            <p:cNvSpPr/>
            <p:nvPr/>
          </p:nvSpPr>
          <p:spPr>
            <a:xfrm>
              <a:off x="4257720" y="37274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0" name=""/>
            <p:cNvSpPr/>
            <p:nvPr/>
          </p:nvSpPr>
          <p:spPr>
            <a:xfrm>
              <a:off x="4257720" y="377712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1" name=""/>
            <p:cNvSpPr/>
            <p:nvPr/>
          </p:nvSpPr>
          <p:spPr>
            <a:xfrm>
              <a:off x="4257720" y="382680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2" name=""/>
            <p:cNvSpPr/>
            <p:nvPr/>
          </p:nvSpPr>
          <p:spPr>
            <a:xfrm>
              <a:off x="4257720" y="387648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3" name=""/>
            <p:cNvSpPr/>
            <p:nvPr/>
          </p:nvSpPr>
          <p:spPr>
            <a:xfrm>
              <a:off x="4257720" y="39261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4" name=""/>
            <p:cNvSpPr/>
            <p:nvPr/>
          </p:nvSpPr>
          <p:spPr>
            <a:xfrm>
              <a:off x="4257720" y="397620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5" name=""/>
            <p:cNvSpPr/>
            <p:nvPr/>
          </p:nvSpPr>
          <p:spPr>
            <a:xfrm>
              <a:off x="4257720" y="402588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6" name=""/>
            <p:cNvSpPr/>
            <p:nvPr/>
          </p:nvSpPr>
          <p:spPr>
            <a:xfrm>
              <a:off x="4257720" y="40755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37" name=""/>
          <p:cNvSpPr/>
          <p:nvPr/>
        </p:nvSpPr>
        <p:spPr>
          <a:xfrm>
            <a:off x="3762360" y="3782880"/>
            <a:ext cx="405000" cy="189000"/>
          </a:xfrm>
          <a:prstGeom prst="rightArrow">
            <a:avLst>
              <a:gd name="adj1" fmla="val 50000"/>
              <a:gd name="adj2" fmla="val 53571"/>
            </a:avLst>
          </a:prstGeom>
          <a:solidFill>
            <a:srgbClr val="ffff00"/>
          </a:solidFill>
          <a:ln w="324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738" name=""/>
          <p:cNvSpPr/>
          <p:nvPr/>
        </p:nvSpPr>
        <p:spPr>
          <a:xfrm>
            <a:off x="4753080" y="3782880"/>
            <a:ext cx="404640" cy="189000"/>
          </a:xfrm>
          <a:prstGeom prst="rightArrow">
            <a:avLst>
              <a:gd name="adj1" fmla="val 50000"/>
              <a:gd name="adj2" fmla="val 53524"/>
            </a:avLst>
          </a:prstGeom>
          <a:solidFill>
            <a:srgbClr val="ffff00"/>
          </a:solidFill>
          <a:ln w="324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4739" name=""/>
          <p:cNvGrpSpPr/>
          <p:nvPr/>
        </p:nvGrpSpPr>
        <p:grpSpPr>
          <a:xfrm>
            <a:off x="8483760" y="4764240"/>
            <a:ext cx="470880" cy="852120"/>
            <a:chOff x="8483760" y="4764240"/>
            <a:chExt cx="470880" cy="852120"/>
          </a:xfrm>
        </p:grpSpPr>
        <p:sp>
          <p:nvSpPr>
            <p:cNvPr id="4740" name=""/>
            <p:cNvSpPr/>
            <p:nvPr/>
          </p:nvSpPr>
          <p:spPr>
            <a:xfrm>
              <a:off x="8505000" y="4930200"/>
              <a:ext cx="124920" cy="17748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ff404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1" name=""/>
            <p:cNvSpPr/>
            <p:nvPr/>
          </p:nvSpPr>
          <p:spPr>
            <a:xfrm>
              <a:off x="8483760" y="4921200"/>
              <a:ext cx="88200" cy="197640"/>
            </a:xfrm>
            <a:custGeom>
              <a:avLst/>
              <a:gdLst/>
              <a:ahLst/>
              <a:rect l="l" t="t" r="r" b="b"/>
              <a:pathLst>
                <a:path w="243" h="556">
                  <a:moveTo>
                    <a:pt x="240" y="0"/>
                  </a:moveTo>
                  <a:lnTo>
                    <a:pt x="0" y="0"/>
                  </a:lnTo>
                  <a:lnTo>
                    <a:pt x="28" y="7"/>
                  </a:lnTo>
                  <a:lnTo>
                    <a:pt x="42" y="14"/>
                  </a:lnTo>
                  <a:lnTo>
                    <a:pt x="54" y="22"/>
                  </a:lnTo>
                  <a:lnTo>
                    <a:pt x="69" y="31"/>
                  </a:lnTo>
                  <a:lnTo>
                    <a:pt x="81" y="42"/>
                  </a:lnTo>
                  <a:lnTo>
                    <a:pt x="90" y="53"/>
                  </a:lnTo>
                  <a:lnTo>
                    <a:pt x="101" y="65"/>
                  </a:lnTo>
                  <a:lnTo>
                    <a:pt x="107" y="76"/>
                  </a:lnTo>
                  <a:lnTo>
                    <a:pt x="114" y="90"/>
                  </a:lnTo>
                  <a:lnTo>
                    <a:pt x="121" y="105"/>
                  </a:lnTo>
                  <a:lnTo>
                    <a:pt x="129" y="121"/>
                  </a:lnTo>
                  <a:lnTo>
                    <a:pt x="133" y="136"/>
                  </a:lnTo>
                  <a:lnTo>
                    <a:pt x="139" y="150"/>
                  </a:lnTo>
                  <a:lnTo>
                    <a:pt x="179" y="333"/>
                  </a:lnTo>
                  <a:lnTo>
                    <a:pt x="194" y="409"/>
                  </a:lnTo>
                  <a:lnTo>
                    <a:pt x="203" y="459"/>
                  </a:lnTo>
                  <a:lnTo>
                    <a:pt x="215" y="510"/>
                  </a:lnTo>
                  <a:lnTo>
                    <a:pt x="233" y="556"/>
                  </a:lnTo>
                  <a:lnTo>
                    <a:pt x="243" y="556"/>
                  </a:lnTo>
                  <a:lnTo>
                    <a:pt x="240" y="0"/>
                  </a:lnTo>
                  <a:close/>
                </a:path>
              </a:pathLst>
            </a:custGeom>
            <a:solidFill>
              <a:srgbClr val="ff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2" name=""/>
            <p:cNvSpPr/>
            <p:nvPr/>
          </p:nvSpPr>
          <p:spPr>
            <a:xfrm>
              <a:off x="8808120" y="4932000"/>
              <a:ext cx="128160" cy="1774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f404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3" name=""/>
            <p:cNvSpPr/>
            <p:nvPr/>
          </p:nvSpPr>
          <p:spPr>
            <a:xfrm>
              <a:off x="8868600" y="4923000"/>
              <a:ext cx="86040" cy="197640"/>
            </a:xfrm>
            <a:custGeom>
              <a:avLst/>
              <a:gdLst/>
              <a:ahLst/>
              <a:rect l="l" t="t" r="r" b="b"/>
              <a:pathLst>
                <a:path w="243" h="556">
                  <a:moveTo>
                    <a:pt x="3" y="0"/>
                  </a:moveTo>
                  <a:lnTo>
                    <a:pt x="243" y="0"/>
                  </a:lnTo>
                  <a:lnTo>
                    <a:pt x="216" y="7"/>
                  </a:lnTo>
                  <a:lnTo>
                    <a:pt x="201" y="14"/>
                  </a:lnTo>
                  <a:lnTo>
                    <a:pt x="189" y="21"/>
                  </a:lnTo>
                  <a:lnTo>
                    <a:pt x="175" y="31"/>
                  </a:lnTo>
                  <a:lnTo>
                    <a:pt x="163" y="42"/>
                  </a:lnTo>
                  <a:lnTo>
                    <a:pt x="153" y="53"/>
                  </a:lnTo>
                  <a:lnTo>
                    <a:pt x="142" y="65"/>
                  </a:lnTo>
                  <a:lnTo>
                    <a:pt x="136" y="75"/>
                  </a:lnTo>
                  <a:lnTo>
                    <a:pt x="129" y="90"/>
                  </a:lnTo>
                  <a:lnTo>
                    <a:pt x="122" y="104"/>
                  </a:lnTo>
                  <a:lnTo>
                    <a:pt x="115" y="121"/>
                  </a:lnTo>
                  <a:lnTo>
                    <a:pt x="110" y="135"/>
                  </a:lnTo>
                  <a:lnTo>
                    <a:pt x="104" y="150"/>
                  </a:lnTo>
                  <a:lnTo>
                    <a:pt x="64" y="333"/>
                  </a:lnTo>
                  <a:lnTo>
                    <a:pt x="50" y="408"/>
                  </a:lnTo>
                  <a:lnTo>
                    <a:pt x="40" y="459"/>
                  </a:lnTo>
                  <a:lnTo>
                    <a:pt x="28" y="509"/>
                  </a:lnTo>
                  <a:lnTo>
                    <a:pt x="10" y="556"/>
                  </a:lnTo>
                  <a:lnTo>
                    <a:pt x="0" y="556"/>
                  </a:lnTo>
                  <a:lnTo>
                    <a:pt x="3" y="0"/>
                  </a:lnTo>
                  <a:close/>
                </a:path>
              </a:pathLst>
            </a:custGeom>
            <a:solidFill>
              <a:srgbClr val="ff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4" name=""/>
            <p:cNvSpPr/>
            <p:nvPr/>
          </p:nvSpPr>
          <p:spPr>
            <a:xfrm>
              <a:off x="8505000" y="5395680"/>
              <a:ext cx="124920" cy="17748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66ff66"/>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5" name=""/>
            <p:cNvSpPr/>
            <p:nvPr/>
          </p:nvSpPr>
          <p:spPr>
            <a:xfrm>
              <a:off x="8483760" y="5386680"/>
              <a:ext cx="88200" cy="197640"/>
            </a:xfrm>
            <a:custGeom>
              <a:avLst/>
              <a:gdLst/>
              <a:ahLst/>
              <a:rect l="l" t="t" r="r" b="b"/>
              <a:pathLst>
                <a:path w="243" h="555">
                  <a:moveTo>
                    <a:pt x="240" y="0"/>
                  </a:moveTo>
                  <a:lnTo>
                    <a:pt x="0" y="0"/>
                  </a:lnTo>
                  <a:lnTo>
                    <a:pt x="28" y="7"/>
                  </a:lnTo>
                  <a:lnTo>
                    <a:pt x="42" y="15"/>
                  </a:lnTo>
                  <a:lnTo>
                    <a:pt x="54" y="22"/>
                  </a:lnTo>
                  <a:lnTo>
                    <a:pt x="69" y="31"/>
                  </a:lnTo>
                  <a:lnTo>
                    <a:pt x="81" y="42"/>
                  </a:lnTo>
                  <a:lnTo>
                    <a:pt x="90" y="53"/>
                  </a:lnTo>
                  <a:lnTo>
                    <a:pt x="101" y="64"/>
                  </a:lnTo>
                  <a:lnTo>
                    <a:pt x="107" y="75"/>
                  </a:lnTo>
                  <a:lnTo>
                    <a:pt x="114" y="89"/>
                  </a:lnTo>
                  <a:lnTo>
                    <a:pt x="121" y="104"/>
                  </a:lnTo>
                  <a:lnTo>
                    <a:pt x="129" y="120"/>
                  </a:lnTo>
                  <a:lnTo>
                    <a:pt x="133" y="135"/>
                  </a:lnTo>
                  <a:lnTo>
                    <a:pt x="139" y="149"/>
                  </a:lnTo>
                  <a:lnTo>
                    <a:pt x="179" y="333"/>
                  </a:lnTo>
                  <a:lnTo>
                    <a:pt x="194" y="409"/>
                  </a:lnTo>
                  <a:lnTo>
                    <a:pt x="203" y="458"/>
                  </a:lnTo>
                  <a:lnTo>
                    <a:pt x="215" y="509"/>
                  </a:lnTo>
                  <a:lnTo>
                    <a:pt x="233" y="555"/>
                  </a:lnTo>
                  <a:lnTo>
                    <a:pt x="243" y="555"/>
                  </a:lnTo>
                  <a:lnTo>
                    <a:pt x="240" y="0"/>
                  </a:lnTo>
                  <a:close/>
                </a:path>
              </a:pathLst>
            </a:custGeom>
            <a:solidFill>
              <a:srgbClr val="ff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6" name=""/>
            <p:cNvSpPr/>
            <p:nvPr/>
          </p:nvSpPr>
          <p:spPr>
            <a:xfrm>
              <a:off x="8808120" y="5397120"/>
              <a:ext cx="128160" cy="1764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66ff66"/>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7" name=""/>
            <p:cNvSpPr/>
            <p:nvPr/>
          </p:nvSpPr>
          <p:spPr>
            <a:xfrm>
              <a:off x="8868600" y="5388480"/>
              <a:ext cx="86040" cy="198000"/>
            </a:xfrm>
            <a:custGeom>
              <a:avLst/>
              <a:gdLst/>
              <a:ahLst/>
              <a:rect l="l" t="t" r="r" b="b"/>
              <a:pathLst>
                <a:path w="243" h="555">
                  <a:moveTo>
                    <a:pt x="3" y="0"/>
                  </a:moveTo>
                  <a:lnTo>
                    <a:pt x="243" y="0"/>
                  </a:lnTo>
                  <a:lnTo>
                    <a:pt x="216" y="7"/>
                  </a:lnTo>
                  <a:lnTo>
                    <a:pt x="201" y="14"/>
                  </a:lnTo>
                  <a:lnTo>
                    <a:pt x="189" y="21"/>
                  </a:lnTo>
                  <a:lnTo>
                    <a:pt x="175" y="31"/>
                  </a:lnTo>
                  <a:lnTo>
                    <a:pt x="163" y="42"/>
                  </a:lnTo>
                  <a:lnTo>
                    <a:pt x="153" y="53"/>
                  </a:lnTo>
                  <a:lnTo>
                    <a:pt x="142" y="64"/>
                  </a:lnTo>
                  <a:lnTo>
                    <a:pt x="136" y="74"/>
                  </a:lnTo>
                  <a:lnTo>
                    <a:pt x="129" y="89"/>
                  </a:lnTo>
                  <a:lnTo>
                    <a:pt x="122" y="103"/>
                  </a:lnTo>
                  <a:lnTo>
                    <a:pt x="115" y="120"/>
                  </a:lnTo>
                  <a:lnTo>
                    <a:pt x="110" y="134"/>
                  </a:lnTo>
                  <a:lnTo>
                    <a:pt x="104" y="149"/>
                  </a:lnTo>
                  <a:lnTo>
                    <a:pt x="64" y="333"/>
                  </a:lnTo>
                  <a:lnTo>
                    <a:pt x="50" y="408"/>
                  </a:lnTo>
                  <a:lnTo>
                    <a:pt x="40" y="458"/>
                  </a:lnTo>
                  <a:lnTo>
                    <a:pt x="28" y="508"/>
                  </a:lnTo>
                  <a:lnTo>
                    <a:pt x="10" y="555"/>
                  </a:lnTo>
                  <a:lnTo>
                    <a:pt x="0" y="555"/>
                  </a:lnTo>
                  <a:lnTo>
                    <a:pt x="3" y="0"/>
                  </a:lnTo>
                  <a:close/>
                </a:path>
              </a:pathLst>
            </a:custGeom>
            <a:solidFill>
              <a:srgbClr val="ff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8" name=""/>
            <p:cNvSpPr/>
            <p:nvPr/>
          </p:nvSpPr>
          <p:spPr>
            <a:xfrm>
              <a:off x="8505000" y="5162040"/>
              <a:ext cx="124920" cy="17748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9" name=""/>
            <p:cNvSpPr/>
            <p:nvPr/>
          </p:nvSpPr>
          <p:spPr>
            <a:xfrm>
              <a:off x="8483760" y="5153040"/>
              <a:ext cx="88200" cy="199440"/>
            </a:xfrm>
            <a:custGeom>
              <a:avLst/>
              <a:gdLst/>
              <a:ahLst/>
              <a:rect l="l" t="t" r="r" b="b"/>
              <a:pathLst>
                <a:path w="243" h="557">
                  <a:moveTo>
                    <a:pt x="240" y="0"/>
                  </a:moveTo>
                  <a:lnTo>
                    <a:pt x="0" y="0"/>
                  </a:lnTo>
                  <a:lnTo>
                    <a:pt x="28" y="7"/>
                  </a:lnTo>
                  <a:lnTo>
                    <a:pt x="42" y="15"/>
                  </a:lnTo>
                  <a:lnTo>
                    <a:pt x="54" y="22"/>
                  </a:lnTo>
                  <a:lnTo>
                    <a:pt x="69" y="31"/>
                  </a:lnTo>
                  <a:lnTo>
                    <a:pt x="81" y="42"/>
                  </a:lnTo>
                  <a:lnTo>
                    <a:pt x="90" y="53"/>
                  </a:lnTo>
                  <a:lnTo>
                    <a:pt x="101" y="65"/>
                  </a:lnTo>
                  <a:lnTo>
                    <a:pt x="107" y="76"/>
                  </a:lnTo>
                  <a:lnTo>
                    <a:pt x="114" y="90"/>
                  </a:lnTo>
                  <a:lnTo>
                    <a:pt x="121" y="105"/>
                  </a:lnTo>
                  <a:lnTo>
                    <a:pt x="129" y="122"/>
                  </a:lnTo>
                  <a:lnTo>
                    <a:pt x="133" y="136"/>
                  </a:lnTo>
                  <a:lnTo>
                    <a:pt x="139" y="150"/>
                  </a:lnTo>
                  <a:lnTo>
                    <a:pt x="179" y="333"/>
                  </a:lnTo>
                  <a:lnTo>
                    <a:pt x="194" y="409"/>
                  </a:lnTo>
                  <a:lnTo>
                    <a:pt x="203" y="459"/>
                  </a:lnTo>
                  <a:lnTo>
                    <a:pt x="215" y="510"/>
                  </a:lnTo>
                  <a:lnTo>
                    <a:pt x="233" y="557"/>
                  </a:lnTo>
                  <a:lnTo>
                    <a:pt x="243" y="557"/>
                  </a:lnTo>
                  <a:lnTo>
                    <a:pt x="240" y="0"/>
                  </a:lnTo>
                  <a:close/>
                </a:path>
              </a:pathLst>
            </a:custGeom>
            <a:solidFill>
              <a:srgbClr val="ff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0" name=""/>
            <p:cNvSpPr/>
            <p:nvPr/>
          </p:nvSpPr>
          <p:spPr>
            <a:xfrm>
              <a:off x="8808120" y="5163840"/>
              <a:ext cx="128160" cy="1774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1" name=""/>
            <p:cNvSpPr/>
            <p:nvPr/>
          </p:nvSpPr>
          <p:spPr>
            <a:xfrm>
              <a:off x="8868600" y="5154840"/>
              <a:ext cx="86040" cy="197640"/>
            </a:xfrm>
            <a:custGeom>
              <a:avLst/>
              <a:gdLst/>
              <a:ahLst/>
              <a:rect l="l" t="t" r="r" b="b"/>
              <a:pathLst>
                <a:path w="243" h="556">
                  <a:moveTo>
                    <a:pt x="3" y="0"/>
                  </a:moveTo>
                  <a:lnTo>
                    <a:pt x="243" y="0"/>
                  </a:lnTo>
                  <a:lnTo>
                    <a:pt x="216" y="7"/>
                  </a:lnTo>
                  <a:lnTo>
                    <a:pt x="201" y="14"/>
                  </a:lnTo>
                  <a:lnTo>
                    <a:pt x="189" y="21"/>
                  </a:lnTo>
                  <a:lnTo>
                    <a:pt x="175" y="31"/>
                  </a:lnTo>
                  <a:lnTo>
                    <a:pt x="163" y="42"/>
                  </a:lnTo>
                  <a:lnTo>
                    <a:pt x="153" y="53"/>
                  </a:lnTo>
                  <a:lnTo>
                    <a:pt x="142" y="65"/>
                  </a:lnTo>
                  <a:lnTo>
                    <a:pt x="136" y="76"/>
                  </a:lnTo>
                  <a:lnTo>
                    <a:pt x="129" y="90"/>
                  </a:lnTo>
                  <a:lnTo>
                    <a:pt x="122" y="104"/>
                  </a:lnTo>
                  <a:lnTo>
                    <a:pt x="115" y="121"/>
                  </a:lnTo>
                  <a:lnTo>
                    <a:pt x="110" y="136"/>
                  </a:lnTo>
                  <a:lnTo>
                    <a:pt x="104" y="150"/>
                  </a:lnTo>
                  <a:lnTo>
                    <a:pt x="64" y="333"/>
                  </a:lnTo>
                  <a:lnTo>
                    <a:pt x="50" y="408"/>
                  </a:lnTo>
                  <a:lnTo>
                    <a:pt x="40" y="459"/>
                  </a:lnTo>
                  <a:lnTo>
                    <a:pt x="28" y="509"/>
                  </a:lnTo>
                  <a:lnTo>
                    <a:pt x="10" y="556"/>
                  </a:lnTo>
                  <a:lnTo>
                    <a:pt x="0" y="556"/>
                  </a:lnTo>
                  <a:lnTo>
                    <a:pt x="3" y="0"/>
                  </a:lnTo>
                  <a:close/>
                </a:path>
              </a:pathLst>
            </a:custGeom>
            <a:solidFill>
              <a:srgbClr val="ff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2" name=""/>
            <p:cNvSpPr/>
            <p:nvPr/>
          </p:nvSpPr>
          <p:spPr>
            <a:xfrm>
              <a:off x="8628840" y="4764240"/>
              <a:ext cx="180360" cy="135720"/>
            </a:xfrm>
            <a:custGeom>
              <a:avLst/>
              <a:gdLst/>
              <a:ahLst/>
              <a:rect l="l" t="t" r="r" b="b"/>
              <a:pathLst>
                <a:path w="500" h="377">
                  <a:moveTo>
                    <a:pt x="160" y="375"/>
                  </a:moveTo>
                  <a:lnTo>
                    <a:pt x="160" y="292"/>
                  </a:lnTo>
                  <a:lnTo>
                    <a:pt x="61" y="292"/>
                  </a:lnTo>
                  <a:lnTo>
                    <a:pt x="50" y="289"/>
                  </a:lnTo>
                  <a:lnTo>
                    <a:pt x="41" y="286"/>
                  </a:lnTo>
                  <a:lnTo>
                    <a:pt x="31" y="280"/>
                  </a:lnTo>
                  <a:lnTo>
                    <a:pt x="21" y="273"/>
                  </a:lnTo>
                  <a:lnTo>
                    <a:pt x="13" y="265"/>
                  </a:lnTo>
                  <a:lnTo>
                    <a:pt x="7" y="255"/>
                  </a:lnTo>
                  <a:lnTo>
                    <a:pt x="3" y="248"/>
                  </a:lnTo>
                  <a:lnTo>
                    <a:pt x="0" y="237"/>
                  </a:lnTo>
                  <a:lnTo>
                    <a:pt x="0" y="226"/>
                  </a:lnTo>
                  <a:lnTo>
                    <a:pt x="0" y="216"/>
                  </a:lnTo>
                  <a:lnTo>
                    <a:pt x="3" y="204"/>
                  </a:lnTo>
                  <a:lnTo>
                    <a:pt x="10" y="191"/>
                  </a:lnTo>
                  <a:lnTo>
                    <a:pt x="19" y="181"/>
                  </a:lnTo>
                  <a:lnTo>
                    <a:pt x="29" y="171"/>
                  </a:lnTo>
                  <a:lnTo>
                    <a:pt x="41" y="163"/>
                  </a:lnTo>
                  <a:lnTo>
                    <a:pt x="49" y="157"/>
                  </a:lnTo>
                  <a:lnTo>
                    <a:pt x="60" y="153"/>
                  </a:lnTo>
                  <a:lnTo>
                    <a:pt x="162" y="153"/>
                  </a:lnTo>
                  <a:lnTo>
                    <a:pt x="162" y="80"/>
                  </a:lnTo>
                  <a:lnTo>
                    <a:pt x="166" y="70"/>
                  </a:lnTo>
                  <a:lnTo>
                    <a:pt x="172" y="58"/>
                  </a:lnTo>
                  <a:lnTo>
                    <a:pt x="178" y="47"/>
                  </a:lnTo>
                  <a:lnTo>
                    <a:pt x="187" y="35"/>
                  </a:lnTo>
                  <a:lnTo>
                    <a:pt x="198" y="24"/>
                  </a:lnTo>
                  <a:lnTo>
                    <a:pt x="209" y="16"/>
                  </a:lnTo>
                  <a:lnTo>
                    <a:pt x="218" y="10"/>
                  </a:lnTo>
                  <a:lnTo>
                    <a:pt x="232" y="4"/>
                  </a:lnTo>
                  <a:lnTo>
                    <a:pt x="246" y="0"/>
                  </a:lnTo>
                  <a:lnTo>
                    <a:pt x="261" y="0"/>
                  </a:lnTo>
                  <a:lnTo>
                    <a:pt x="276" y="3"/>
                  </a:lnTo>
                  <a:lnTo>
                    <a:pt x="289" y="9"/>
                  </a:lnTo>
                  <a:lnTo>
                    <a:pt x="300" y="15"/>
                  </a:lnTo>
                  <a:lnTo>
                    <a:pt x="312" y="24"/>
                  </a:lnTo>
                  <a:lnTo>
                    <a:pt x="325" y="36"/>
                  </a:lnTo>
                  <a:lnTo>
                    <a:pt x="335" y="47"/>
                  </a:lnTo>
                  <a:lnTo>
                    <a:pt x="340" y="58"/>
                  </a:lnTo>
                  <a:lnTo>
                    <a:pt x="345" y="70"/>
                  </a:lnTo>
                  <a:lnTo>
                    <a:pt x="347" y="85"/>
                  </a:lnTo>
                  <a:lnTo>
                    <a:pt x="347" y="152"/>
                  </a:lnTo>
                  <a:lnTo>
                    <a:pt x="443" y="152"/>
                  </a:lnTo>
                  <a:lnTo>
                    <a:pt x="454" y="157"/>
                  </a:lnTo>
                  <a:lnTo>
                    <a:pt x="464" y="163"/>
                  </a:lnTo>
                  <a:lnTo>
                    <a:pt x="473" y="170"/>
                  </a:lnTo>
                  <a:lnTo>
                    <a:pt x="483" y="179"/>
                  </a:lnTo>
                  <a:lnTo>
                    <a:pt x="490" y="189"/>
                  </a:lnTo>
                  <a:lnTo>
                    <a:pt x="496" y="200"/>
                  </a:lnTo>
                  <a:lnTo>
                    <a:pt x="498" y="212"/>
                  </a:lnTo>
                  <a:lnTo>
                    <a:pt x="500" y="223"/>
                  </a:lnTo>
                  <a:lnTo>
                    <a:pt x="500" y="236"/>
                  </a:lnTo>
                  <a:lnTo>
                    <a:pt x="496" y="247"/>
                  </a:lnTo>
                  <a:lnTo>
                    <a:pt x="490" y="259"/>
                  </a:lnTo>
                  <a:lnTo>
                    <a:pt x="483" y="268"/>
                  </a:lnTo>
                  <a:lnTo>
                    <a:pt x="474" y="278"/>
                  </a:lnTo>
                  <a:lnTo>
                    <a:pt x="464" y="284"/>
                  </a:lnTo>
                  <a:lnTo>
                    <a:pt x="442" y="292"/>
                  </a:lnTo>
                  <a:lnTo>
                    <a:pt x="347" y="292"/>
                  </a:lnTo>
                  <a:lnTo>
                    <a:pt x="347" y="377"/>
                  </a:lnTo>
                  <a:lnTo>
                    <a:pt x="160" y="375"/>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3" name=""/>
            <p:cNvSpPr/>
            <p:nvPr/>
          </p:nvSpPr>
          <p:spPr>
            <a:xfrm>
              <a:off x="8695800" y="4821120"/>
              <a:ext cx="49680" cy="50400"/>
            </a:xfrm>
            <a:prstGeom prst="ellipse">
              <a:avLst/>
            </a:prstGeom>
            <a:solidFill>
              <a:srgbClr val="ffa040"/>
            </a:solidFill>
            <a:ln w="324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54" name=""/>
            <p:cNvSpPr/>
            <p:nvPr/>
          </p:nvSpPr>
          <p:spPr>
            <a:xfrm>
              <a:off x="8565840" y="4889160"/>
              <a:ext cx="308160" cy="727200"/>
            </a:xfrm>
            <a:prstGeom prst="rect">
              <a:avLst/>
            </a:prstGeom>
            <a:solidFill>
              <a:srgbClr val="ff8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5" name=""/>
            <p:cNvSpPr/>
            <p:nvPr/>
          </p:nvSpPr>
          <p:spPr>
            <a:xfrm>
              <a:off x="8613000" y="4908960"/>
              <a:ext cx="213840" cy="190800"/>
            </a:xfrm>
            <a:custGeom>
              <a:avLst/>
              <a:gdLst/>
              <a:ahLst/>
              <a:rect l="l" t="t" r="r" b="b"/>
              <a:pathLst>
                <a:path w="595" h="538">
                  <a:moveTo>
                    <a:pt x="0" y="185"/>
                  </a:moveTo>
                  <a:lnTo>
                    <a:pt x="1" y="168"/>
                  </a:lnTo>
                  <a:lnTo>
                    <a:pt x="6" y="150"/>
                  </a:lnTo>
                  <a:lnTo>
                    <a:pt x="13" y="134"/>
                  </a:lnTo>
                  <a:lnTo>
                    <a:pt x="23" y="119"/>
                  </a:lnTo>
                  <a:lnTo>
                    <a:pt x="31" y="107"/>
                  </a:lnTo>
                  <a:lnTo>
                    <a:pt x="41" y="95"/>
                  </a:lnTo>
                  <a:lnTo>
                    <a:pt x="53" y="81"/>
                  </a:lnTo>
                  <a:lnTo>
                    <a:pt x="68" y="68"/>
                  </a:lnTo>
                  <a:lnTo>
                    <a:pt x="88" y="56"/>
                  </a:lnTo>
                  <a:lnTo>
                    <a:pt x="112" y="43"/>
                  </a:lnTo>
                  <a:lnTo>
                    <a:pt x="134" y="32"/>
                  </a:lnTo>
                  <a:lnTo>
                    <a:pt x="162" y="22"/>
                  </a:lnTo>
                  <a:lnTo>
                    <a:pt x="187" y="14"/>
                  </a:lnTo>
                  <a:lnTo>
                    <a:pt x="217" y="8"/>
                  </a:lnTo>
                  <a:lnTo>
                    <a:pt x="244" y="3"/>
                  </a:lnTo>
                  <a:lnTo>
                    <a:pt x="265" y="2"/>
                  </a:lnTo>
                  <a:lnTo>
                    <a:pt x="291" y="0"/>
                  </a:lnTo>
                  <a:lnTo>
                    <a:pt x="317" y="0"/>
                  </a:lnTo>
                  <a:lnTo>
                    <a:pt x="338" y="2"/>
                  </a:lnTo>
                  <a:lnTo>
                    <a:pt x="359" y="4"/>
                  </a:lnTo>
                  <a:lnTo>
                    <a:pt x="383" y="9"/>
                  </a:lnTo>
                  <a:lnTo>
                    <a:pt x="405" y="14"/>
                  </a:lnTo>
                  <a:lnTo>
                    <a:pt x="428" y="21"/>
                  </a:lnTo>
                  <a:lnTo>
                    <a:pt x="448" y="28"/>
                  </a:lnTo>
                  <a:lnTo>
                    <a:pt x="470" y="38"/>
                  </a:lnTo>
                  <a:lnTo>
                    <a:pt x="485" y="45"/>
                  </a:lnTo>
                  <a:lnTo>
                    <a:pt x="499" y="54"/>
                  </a:lnTo>
                  <a:lnTo>
                    <a:pt x="512" y="62"/>
                  </a:lnTo>
                  <a:lnTo>
                    <a:pt x="526" y="72"/>
                  </a:lnTo>
                  <a:lnTo>
                    <a:pt x="539" y="83"/>
                  </a:lnTo>
                  <a:lnTo>
                    <a:pt x="553" y="97"/>
                  </a:lnTo>
                  <a:lnTo>
                    <a:pt x="564" y="110"/>
                  </a:lnTo>
                  <a:lnTo>
                    <a:pt x="572" y="122"/>
                  </a:lnTo>
                  <a:lnTo>
                    <a:pt x="579" y="133"/>
                  </a:lnTo>
                  <a:lnTo>
                    <a:pt x="585" y="145"/>
                  </a:lnTo>
                  <a:lnTo>
                    <a:pt x="590" y="157"/>
                  </a:lnTo>
                  <a:lnTo>
                    <a:pt x="595" y="173"/>
                  </a:lnTo>
                  <a:lnTo>
                    <a:pt x="595" y="538"/>
                  </a:lnTo>
                  <a:lnTo>
                    <a:pt x="1" y="536"/>
                  </a:lnTo>
                  <a:lnTo>
                    <a:pt x="0" y="185"/>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6" name=""/>
            <p:cNvSpPr/>
            <p:nvPr/>
          </p:nvSpPr>
          <p:spPr>
            <a:xfrm>
              <a:off x="8613000" y="4917600"/>
              <a:ext cx="213840" cy="192600"/>
            </a:xfrm>
            <a:custGeom>
              <a:avLst/>
              <a:gdLst/>
              <a:ahLst/>
              <a:rect l="l" t="t" r="r" b="b"/>
              <a:pathLst>
                <a:path w="595" h="539">
                  <a:moveTo>
                    <a:pt x="0" y="184"/>
                  </a:moveTo>
                  <a:lnTo>
                    <a:pt x="1" y="169"/>
                  </a:lnTo>
                  <a:lnTo>
                    <a:pt x="6" y="151"/>
                  </a:lnTo>
                  <a:lnTo>
                    <a:pt x="13" y="135"/>
                  </a:lnTo>
                  <a:lnTo>
                    <a:pt x="23" y="119"/>
                  </a:lnTo>
                  <a:lnTo>
                    <a:pt x="31" y="107"/>
                  </a:lnTo>
                  <a:lnTo>
                    <a:pt x="41" y="95"/>
                  </a:lnTo>
                  <a:lnTo>
                    <a:pt x="53" y="82"/>
                  </a:lnTo>
                  <a:lnTo>
                    <a:pt x="68" y="69"/>
                  </a:lnTo>
                  <a:lnTo>
                    <a:pt x="88" y="57"/>
                  </a:lnTo>
                  <a:lnTo>
                    <a:pt x="112" y="44"/>
                  </a:lnTo>
                  <a:lnTo>
                    <a:pt x="134" y="33"/>
                  </a:lnTo>
                  <a:lnTo>
                    <a:pt x="162" y="23"/>
                  </a:lnTo>
                  <a:lnTo>
                    <a:pt x="187" y="15"/>
                  </a:lnTo>
                  <a:lnTo>
                    <a:pt x="217" y="9"/>
                  </a:lnTo>
                  <a:lnTo>
                    <a:pt x="244" y="4"/>
                  </a:lnTo>
                  <a:lnTo>
                    <a:pt x="265" y="3"/>
                  </a:lnTo>
                  <a:lnTo>
                    <a:pt x="291" y="0"/>
                  </a:lnTo>
                  <a:lnTo>
                    <a:pt x="317" y="0"/>
                  </a:lnTo>
                  <a:lnTo>
                    <a:pt x="338" y="3"/>
                  </a:lnTo>
                  <a:lnTo>
                    <a:pt x="359" y="5"/>
                  </a:lnTo>
                  <a:lnTo>
                    <a:pt x="383" y="10"/>
                  </a:lnTo>
                  <a:lnTo>
                    <a:pt x="405" y="15"/>
                  </a:lnTo>
                  <a:lnTo>
                    <a:pt x="428" y="22"/>
                  </a:lnTo>
                  <a:lnTo>
                    <a:pt x="448" y="29"/>
                  </a:lnTo>
                  <a:lnTo>
                    <a:pt x="470" y="39"/>
                  </a:lnTo>
                  <a:lnTo>
                    <a:pt x="485" y="46"/>
                  </a:lnTo>
                  <a:lnTo>
                    <a:pt x="499" y="55"/>
                  </a:lnTo>
                  <a:lnTo>
                    <a:pt x="512" y="63"/>
                  </a:lnTo>
                  <a:lnTo>
                    <a:pt x="526" y="73"/>
                  </a:lnTo>
                  <a:lnTo>
                    <a:pt x="539" y="83"/>
                  </a:lnTo>
                  <a:lnTo>
                    <a:pt x="553" y="98"/>
                  </a:lnTo>
                  <a:lnTo>
                    <a:pt x="564" y="111"/>
                  </a:lnTo>
                  <a:lnTo>
                    <a:pt x="572" y="123"/>
                  </a:lnTo>
                  <a:lnTo>
                    <a:pt x="579" y="134"/>
                  </a:lnTo>
                  <a:lnTo>
                    <a:pt x="585" y="146"/>
                  </a:lnTo>
                  <a:lnTo>
                    <a:pt x="590" y="158"/>
                  </a:lnTo>
                  <a:lnTo>
                    <a:pt x="595" y="172"/>
                  </a:lnTo>
                  <a:lnTo>
                    <a:pt x="595" y="539"/>
                  </a:lnTo>
                  <a:lnTo>
                    <a:pt x="1" y="536"/>
                  </a:lnTo>
                  <a:lnTo>
                    <a:pt x="0" y="184"/>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7" name=""/>
            <p:cNvSpPr/>
            <p:nvPr/>
          </p:nvSpPr>
          <p:spPr>
            <a:xfrm>
              <a:off x="8627760" y="4926600"/>
              <a:ext cx="181440" cy="180000"/>
            </a:xfrm>
            <a:prstGeom prst="ellipse">
              <a:avLst/>
            </a:prstGeom>
            <a:solidFill>
              <a:srgbClr val="ff404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8" name=""/>
            <p:cNvGrpSpPr/>
            <p:nvPr/>
          </p:nvGrpSpPr>
          <p:grpSpPr>
            <a:xfrm>
              <a:off x="8730000" y="4944600"/>
              <a:ext cx="31680" cy="27720"/>
              <a:chOff x="8730000" y="4944600"/>
              <a:chExt cx="31680" cy="27720"/>
            </a:xfrm>
          </p:grpSpPr>
          <p:sp>
            <p:nvSpPr>
              <p:cNvPr id="4759" name=""/>
              <p:cNvSpPr/>
              <p:nvPr/>
            </p:nvSpPr>
            <p:spPr>
              <a:xfrm>
                <a:off x="8730000" y="4944600"/>
                <a:ext cx="19440" cy="19080"/>
              </a:xfrm>
              <a:prstGeom prst="ellipse">
                <a:avLst/>
              </a:prstGeom>
              <a:solidFill>
                <a:srgbClr val="ffc0c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60" name=""/>
              <p:cNvSpPr/>
              <p:nvPr/>
            </p:nvSpPr>
            <p:spPr>
              <a:xfrm>
                <a:off x="8746200" y="4956840"/>
                <a:ext cx="15480" cy="15480"/>
              </a:xfrm>
              <a:prstGeom prst="ellipse">
                <a:avLst/>
              </a:prstGeom>
              <a:solidFill>
                <a:srgbClr val="ff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4761" name=""/>
            <p:cNvSpPr/>
            <p:nvPr/>
          </p:nvSpPr>
          <p:spPr>
            <a:xfrm>
              <a:off x="8606160" y="5151240"/>
              <a:ext cx="214200" cy="190800"/>
            </a:xfrm>
            <a:custGeom>
              <a:avLst/>
              <a:gdLst/>
              <a:ahLst/>
              <a:rect l="l" t="t" r="r" b="b"/>
              <a:pathLst>
                <a:path w="595" h="538">
                  <a:moveTo>
                    <a:pt x="0" y="185"/>
                  </a:moveTo>
                  <a:lnTo>
                    <a:pt x="1" y="168"/>
                  </a:lnTo>
                  <a:lnTo>
                    <a:pt x="6" y="150"/>
                  </a:lnTo>
                  <a:lnTo>
                    <a:pt x="13" y="135"/>
                  </a:lnTo>
                  <a:lnTo>
                    <a:pt x="23" y="119"/>
                  </a:lnTo>
                  <a:lnTo>
                    <a:pt x="31" y="107"/>
                  </a:lnTo>
                  <a:lnTo>
                    <a:pt x="41" y="95"/>
                  </a:lnTo>
                  <a:lnTo>
                    <a:pt x="53" y="82"/>
                  </a:lnTo>
                  <a:lnTo>
                    <a:pt x="69" y="69"/>
                  </a:lnTo>
                  <a:lnTo>
                    <a:pt x="88" y="57"/>
                  </a:lnTo>
                  <a:lnTo>
                    <a:pt x="112" y="43"/>
                  </a:lnTo>
                  <a:lnTo>
                    <a:pt x="135" y="32"/>
                  </a:lnTo>
                  <a:lnTo>
                    <a:pt x="162" y="23"/>
                  </a:lnTo>
                  <a:lnTo>
                    <a:pt x="189" y="14"/>
                  </a:lnTo>
                  <a:lnTo>
                    <a:pt x="218" y="8"/>
                  </a:lnTo>
                  <a:lnTo>
                    <a:pt x="244" y="4"/>
                  </a:lnTo>
                  <a:lnTo>
                    <a:pt x="266" y="2"/>
                  </a:lnTo>
                  <a:lnTo>
                    <a:pt x="291" y="0"/>
                  </a:lnTo>
                  <a:lnTo>
                    <a:pt x="317" y="0"/>
                  </a:lnTo>
                  <a:lnTo>
                    <a:pt x="338" y="2"/>
                  </a:lnTo>
                  <a:lnTo>
                    <a:pt x="360" y="5"/>
                  </a:lnTo>
                  <a:lnTo>
                    <a:pt x="384" y="10"/>
                  </a:lnTo>
                  <a:lnTo>
                    <a:pt x="405" y="14"/>
                  </a:lnTo>
                  <a:lnTo>
                    <a:pt x="428" y="22"/>
                  </a:lnTo>
                  <a:lnTo>
                    <a:pt x="449" y="29"/>
                  </a:lnTo>
                  <a:lnTo>
                    <a:pt x="470" y="38"/>
                  </a:lnTo>
                  <a:lnTo>
                    <a:pt x="486" y="46"/>
                  </a:lnTo>
                  <a:lnTo>
                    <a:pt x="499" y="54"/>
                  </a:lnTo>
                  <a:lnTo>
                    <a:pt x="512" y="63"/>
                  </a:lnTo>
                  <a:lnTo>
                    <a:pt x="527" y="72"/>
                  </a:lnTo>
                  <a:lnTo>
                    <a:pt x="540" y="83"/>
                  </a:lnTo>
                  <a:lnTo>
                    <a:pt x="553" y="97"/>
                  </a:lnTo>
                  <a:lnTo>
                    <a:pt x="564" y="111"/>
                  </a:lnTo>
                  <a:lnTo>
                    <a:pt x="572" y="123"/>
                  </a:lnTo>
                  <a:lnTo>
                    <a:pt x="580" y="133"/>
                  </a:lnTo>
                  <a:lnTo>
                    <a:pt x="586" y="145"/>
                  </a:lnTo>
                  <a:lnTo>
                    <a:pt x="590" y="157"/>
                  </a:lnTo>
                  <a:lnTo>
                    <a:pt x="595" y="173"/>
                  </a:lnTo>
                  <a:lnTo>
                    <a:pt x="595" y="538"/>
                  </a:lnTo>
                  <a:lnTo>
                    <a:pt x="1" y="536"/>
                  </a:lnTo>
                  <a:lnTo>
                    <a:pt x="0" y="185"/>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2" name=""/>
            <p:cNvSpPr/>
            <p:nvPr/>
          </p:nvSpPr>
          <p:spPr>
            <a:xfrm>
              <a:off x="8607240" y="5158440"/>
              <a:ext cx="213840" cy="192600"/>
            </a:xfrm>
            <a:custGeom>
              <a:avLst/>
              <a:gdLst/>
              <a:ahLst/>
              <a:rect l="l" t="t" r="r" b="b"/>
              <a:pathLst>
                <a:path w="595" h="538">
                  <a:moveTo>
                    <a:pt x="0" y="185"/>
                  </a:moveTo>
                  <a:lnTo>
                    <a:pt x="2" y="168"/>
                  </a:lnTo>
                  <a:lnTo>
                    <a:pt x="6" y="150"/>
                  </a:lnTo>
                  <a:lnTo>
                    <a:pt x="14" y="134"/>
                  </a:lnTo>
                  <a:lnTo>
                    <a:pt x="23" y="119"/>
                  </a:lnTo>
                  <a:lnTo>
                    <a:pt x="32" y="107"/>
                  </a:lnTo>
                  <a:lnTo>
                    <a:pt x="41" y="95"/>
                  </a:lnTo>
                  <a:lnTo>
                    <a:pt x="53" y="82"/>
                  </a:lnTo>
                  <a:lnTo>
                    <a:pt x="69" y="68"/>
                  </a:lnTo>
                  <a:lnTo>
                    <a:pt x="88" y="56"/>
                  </a:lnTo>
                  <a:lnTo>
                    <a:pt x="112" y="43"/>
                  </a:lnTo>
                  <a:lnTo>
                    <a:pt x="135" y="32"/>
                  </a:lnTo>
                  <a:lnTo>
                    <a:pt x="163" y="23"/>
                  </a:lnTo>
                  <a:lnTo>
                    <a:pt x="189" y="14"/>
                  </a:lnTo>
                  <a:lnTo>
                    <a:pt x="218" y="8"/>
                  </a:lnTo>
                  <a:lnTo>
                    <a:pt x="244" y="3"/>
                  </a:lnTo>
                  <a:lnTo>
                    <a:pt x="266" y="2"/>
                  </a:lnTo>
                  <a:lnTo>
                    <a:pt x="291" y="0"/>
                  </a:lnTo>
                  <a:lnTo>
                    <a:pt x="318" y="0"/>
                  </a:lnTo>
                  <a:lnTo>
                    <a:pt x="338" y="2"/>
                  </a:lnTo>
                  <a:lnTo>
                    <a:pt x="360" y="5"/>
                  </a:lnTo>
                  <a:lnTo>
                    <a:pt x="384" y="9"/>
                  </a:lnTo>
                  <a:lnTo>
                    <a:pt x="405" y="14"/>
                  </a:lnTo>
                  <a:lnTo>
                    <a:pt x="428" y="21"/>
                  </a:lnTo>
                  <a:lnTo>
                    <a:pt x="449" y="29"/>
                  </a:lnTo>
                  <a:lnTo>
                    <a:pt x="470" y="38"/>
                  </a:lnTo>
                  <a:lnTo>
                    <a:pt x="486" y="46"/>
                  </a:lnTo>
                  <a:lnTo>
                    <a:pt x="499" y="54"/>
                  </a:lnTo>
                  <a:lnTo>
                    <a:pt x="512" y="62"/>
                  </a:lnTo>
                  <a:lnTo>
                    <a:pt x="527" y="72"/>
                  </a:lnTo>
                  <a:lnTo>
                    <a:pt x="540" y="83"/>
                  </a:lnTo>
                  <a:lnTo>
                    <a:pt x="553" y="97"/>
                  </a:lnTo>
                  <a:lnTo>
                    <a:pt x="564" y="110"/>
                  </a:lnTo>
                  <a:lnTo>
                    <a:pt x="573" y="122"/>
                  </a:lnTo>
                  <a:lnTo>
                    <a:pt x="580" y="133"/>
                  </a:lnTo>
                  <a:lnTo>
                    <a:pt x="586" y="145"/>
                  </a:lnTo>
                  <a:lnTo>
                    <a:pt x="591" y="157"/>
                  </a:lnTo>
                  <a:lnTo>
                    <a:pt x="595" y="173"/>
                  </a:lnTo>
                  <a:lnTo>
                    <a:pt x="595" y="538"/>
                  </a:lnTo>
                  <a:lnTo>
                    <a:pt x="2" y="536"/>
                  </a:lnTo>
                  <a:lnTo>
                    <a:pt x="0" y="185"/>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3" name=""/>
            <p:cNvSpPr/>
            <p:nvPr/>
          </p:nvSpPr>
          <p:spPr>
            <a:xfrm>
              <a:off x="8622000" y="5167080"/>
              <a:ext cx="181440" cy="181800"/>
            </a:xfrm>
            <a:prstGeom prst="ellipse">
              <a:avLst/>
            </a:pr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4" name=""/>
            <p:cNvGrpSpPr/>
            <p:nvPr/>
          </p:nvGrpSpPr>
          <p:grpSpPr>
            <a:xfrm>
              <a:off x="8723880" y="5185080"/>
              <a:ext cx="32040" cy="27720"/>
              <a:chOff x="8723880" y="5185080"/>
              <a:chExt cx="32040" cy="27720"/>
            </a:xfrm>
          </p:grpSpPr>
          <p:sp>
            <p:nvSpPr>
              <p:cNvPr id="4765" name=""/>
              <p:cNvSpPr/>
              <p:nvPr/>
            </p:nvSpPr>
            <p:spPr>
              <a:xfrm>
                <a:off x="8723880" y="5185080"/>
                <a:ext cx="21600" cy="20880"/>
              </a:xfrm>
              <a:prstGeom prst="ellipse">
                <a:avLst/>
              </a:prstGeom>
              <a:solidFill>
                <a:srgbClr val="ffffc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66" name=""/>
              <p:cNvSpPr/>
              <p:nvPr/>
            </p:nvSpPr>
            <p:spPr>
              <a:xfrm>
                <a:off x="8739720" y="5197320"/>
                <a:ext cx="16200" cy="15480"/>
              </a:xfrm>
              <a:prstGeom prst="ellipse">
                <a:avLst/>
              </a:prstGeom>
              <a:solidFill>
                <a:srgbClr val="ffff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4767" name=""/>
            <p:cNvSpPr/>
            <p:nvPr/>
          </p:nvSpPr>
          <p:spPr>
            <a:xfrm>
              <a:off x="8611200" y="5381280"/>
              <a:ext cx="214200" cy="190800"/>
            </a:xfrm>
            <a:custGeom>
              <a:avLst/>
              <a:gdLst/>
              <a:ahLst/>
              <a:rect l="l" t="t" r="r" b="b"/>
              <a:pathLst>
                <a:path w="595" h="537">
                  <a:moveTo>
                    <a:pt x="0" y="184"/>
                  </a:moveTo>
                  <a:lnTo>
                    <a:pt x="1" y="167"/>
                  </a:lnTo>
                  <a:lnTo>
                    <a:pt x="6" y="149"/>
                  </a:lnTo>
                  <a:lnTo>
                    <a:pt x="13" y="134"/>
                  </a:lnTo>
                  <a:lnTo>
                    <a:pt x="22" y="118"/>
                  </a:lnTo>
                  <a:lnTo>
                    <a:pt x="31" y="106"/>
                  </a:lnTo>
                  <a:lnTo>
                    <a:pt x="40" y="94"/>
                  </a:lnTo>
                  <a:lnTo>
                    <a:pt x="52" y="81"/>
                  </a:lnTo>
                  <a:lnTo>
                    <a:pt x="68" y="69"/>
                  </a:lnTo>
                  <a:lnTo>
                    <a:pt x="87" y="57"/>
                  </a:lnTo>
                  <a:lnTo>
                    <a:pt x="111" y="43"/>
                  </a:lnTo>
                  <a:lnTo>
                    <a:pt x="134" y="33"/>
                  </a:lnTo>
                  <a:lnTo>
                    <a:pt x="162" y="23"/>
                  </a:lnTo>
                  <a:lnTo>
                    <a:pt x="188" y="15"/>
                  </a:lnTo>
                  <a:lnTo>
                    <a:pt x="217" y="9"/>
                  </a:lnTo>
                  <a:lnTo>
                    <a:pt x="244" y="4"/>
                  </a:lnTo>
                  <a:lnTo>
                    <a:pt x="265" y="3"/>
                  </a:lnTo>
                  <a:lnTo>
                    <a:pt x="290" y="0"/>
                  </a:lnTo>
                  <a:lnTo>
                    <a:pt x="317" y="0"/>
                  </a:lnTo>
                  <a:lnTo>
                    <a:pt x="337" y="3"/>
                  </a:lnTo>
                  <a:lnTo>
                    <a:pt x="359" y="5"/>
                  </a:lnTo>
                  <a:lnTo>
                    <a:pt x="383" y="10"/>
                  </a:lnTo>
                  <a:lnTo>
                    <a:pt x="405" y="15"/>
                  </a:lnTo>
                  <a:lnTo>
                    <a:pt x="427" y="22"/>
                  </a:lnTo>
                  <a:lnTo>
                    <a:pt x="448" y="29"/>
                  </a:lnTo>
                  <a:lnTo>
                    <a:pt x="470" y="39"/>
                  </a:lnTo>
                  <a:lnTo>
                    <a:pt x="485" y="46"/>
                  </a:lnTo>
                  <a:lnTo>
                    <a:pt x="498" y="54"/>
                  </a:lnTo>
                  <a:lnTo>
                    <a:pt x="512" y="63"/>
                  </a:lnTo>
                  <a:lnTo>
                    <a:pt x="526" y="72"/>
                  </a:lnTo>
                  <a:lnTo>
                    <a:pt x="539" y="82"/>
                  </a:lnTo>
                  <a:lnTo>
                    <a:pt x="553" y="96"/>
                  </a:lnTo>
                  <a:lnTo>
                    <a:pt x="563" y="110"/>
                  </a:lnTo>
                  <a:lnTo>
                    <a:pt x="572" y="122"/>
                  </a:lnTo>
                  <a:lnTo>
                    <a:pt x="579" y="132"/>
                  </a:lnTo>
                  <a:lnTo>
                    <a:pt x="585" y="144"/>
                  </a:lnTo>
                  <a:lnTo>
                    <a:pt x="590" y="156"/>
                  </a:lnTo>
                  <a:lnTo>
                    <a:pt x="595" y="172"/>
                  </a:lnTo>
                  <a:lnTo>
                    <a:pt x="595" y="537"/>
                  </a:lnTo>
                  <a:lnTo>
                    <a:pt x="1" y="535"/>
                  </a:lnTo>
                  <a:lnTo>
                    <a:pt x="0" y="184"/>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8" name=""/>
            <p:cNvSpPr/>
            <p:nvPr/>
          </p:nvSpPr>
          <p:spPr>
            <a:xfrm>
              <a:off x="8613000" y="5386680"/>
              <a:ext cx="213840" cy="192240"/>
            </a:xfrm>
            <a:custGeom>
              <a:avLst/>
              <a:gdLst/>
              <a:ahLst/>
              <a:rect l="l" t="t" r="r" b="b"/>
              <a:pathLst>
                <a:path w="595" h="538">
                  <a:moveTo>
                    <a:pt x="0" y="184"/>
                  </a:moveTo>
                  <a:lnTo>
                    <a:pt x="1" y="167"/>
                  </a:lnTo>
                  <a:lnTo>
                    <a:pt x="6" y="149"/>
                  </a:lnTo>
                  <a:lnTo>
                    <a:pt x="13" y="134"/>
                  </a:lnTo>
                  <a:lnTo>
                    <a:pt x="23" y="118"/>
                  </a:lnTo>
                  <a:lnTo>
                    <a:pt x="31" y="106"/>
                  </a:lnTo>
                  <a:lnTo>
                    <a:pt x="41" y="94"/>
                  </a:lnTo>
                  <a:lnTo>
                    <a:pt x="53" y="81"/>
                  </a:lnTo>
                  <a:lnTo>
                    <a:pt x="68" y="68"/>
                  </a:lnTo>
                  <a:lnTo>
                    <a:pt x="88" y="56"/>
                  </a:lnTo>
                  <a:lnTo>
                    <a:pt x="112" y="44"/>
                  </a:lnTo>
                  <a:lnTo>
                    <a:pt x="134" y="33"/>
                  </a:lnTo>
                  <a:lnTo>
                    <a:pt x="162" y="23"/>
                  </a:lnTo>
                  <a:lnTo>
                    <a:pt x="187" y="15"/>
                  </a:lnTo>
                  <a:lnTo>
                    <a:pt x="217" y="9"/>
                  </a:lnTo>
                  <a:lnTo>
                    <a:pt x="244" y="4"/>
                  </a:lnTo>
                  <a:lnTo>
                    <a:pt x="265" y="3"/>
                  </a:lnTo>
                  <a:lnTo>
                    <a:pt x="291" y="0"/>
                  </a:lnTo>
                  <a:lnTo>
                    <a:pt x="317" y="0"/>
                  </a:lnTo>
                  <a:lnTo>
                    <a:pt x="338" y="3"/>
                  </a:lnTo>
                  <a:lnTo>
                    <a:pt x="359" y="5"/>
                  </a:lnTo>
                  <a:lnTo>
                    <a:pt x="383" y="10"/>
                  </a:lnTo>
                  <a:lnTo>
                    <a:pt x="405" y="15"/>
                  </a:lnTo>
                  <a:lnTo>
                    <a:pt x="428" y="22"/>
                  </a:lnTo>
                  <a:lnTo>
                    <a:pt x="448" y="29"/>
                  </a:lnTo>
                  <a:lnTo>
                    <a:pt x="470" y="39"/>
                  </a:lnTo>
                  <a:lnTo>
                    <a:pt x="485" y="46"/>
                  </a:lnTo>
                  <a:lnTo>
                    <a:pt x="499" y="55"/>
                  </a:lnTo>
                  <a:lnTo>
                    <a:pt x="512" y="62"/>
                  </a:lnTo>
                  <a:lnTo>
                    <a:pt x="526" y="71"/>
                  </a:lnTo>
                  <a:lnTo>
                    <a:pt x="539" y="82"/>
                  </a:lnTo>
                  <a:lnTo>
                    <a:pt x="553" y="97"/>
                  </a:lnTo>
                  <a:lnTo>
                    <a:pt x="564" y="110"/>
                  </a:lnTo>
                  <a:lnTo>
                    <a:pt x="572" y="122"/>
                  </a:lnTo>
                  <a:lnTo>
                    <a:pt x="579" y="133"/>
                  </a:lnTo>
                  <a:lnTo>
                    <a:pt x="585" y="145"/>
                  </a:lnTo>
                  <a:lnTo>
                    <a:pt x="590" y="157"/>
                  </a:lnTo>
                  <a:lnTo>
                    <a:pt x="595" y="172"/>
                  </a:lnTo>
                  <a:lnTo>
                    <a:pt x="595" y="538"/>
                  </a:lnTo>
                  <a:lnTo>
                    <a:pt x="1" y="535"/>
                  </a:lnTo>
                  <a:lnTo>
                    <a:pt x="0" y="184"/>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9" name=""/>
            <p:cNvSpPr/>
            <p:nvPr/>
          </p:nvSpPr>
          <p:spPr>
            <a:xfrm>
              <a:off x="8627760" y="5395680"/>
              <a:ext cx="181440" cy="180000"/>
            </a:xfrm>
            <a:prstGeom prst="ellipse">
              <a:avLst/>
            </a:prstGeom>
            <a:solidFill>
              <a:srgbClr val="66ff66"/>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0" name=""/>
            <p:cNvGrpSpPr/>
            <p:nvPr/>
          </p:nvGrpSpPr>
          <p:grpSpPr>
            <a:xfrm>
              <a:off x="8730000" y="5413320"/>
              <a:ext cx="31680" cy="27720"/>
              <a:chOff x="8730000" y="5413320"/>
              <a:chExt cx="31680" cy="27720"/>
            </a:xfrm>
          </p:grpSpPr>
          <p:sp>
            <p:nvSpPr>
              <p:cNvPr id="4771" name=""/>
              <p:cNvSpPr/>
              <p:nvPr/>
            </p:nvSpPr>
            <p:spPr>
              <a:xfrm>
                <a:off x="8730000" y="5413320"/>
                <a:ext cx="19440" cy="19080"/>
              </a:xfrm>
              <a:prstGeom prst="ellipse">
                <a:avLst/>
              </a:prstGeom>
              <a:solidFill>
                <a:srgbClr val="80ff8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72" name=""/>
              <p:cNvSpPr/>
              <p:nvPr/>
            </p:nvSpPr>
            <p:spPr>
              <a:xfrm>
                <a:off x="8746200" y="5425560"/>
                <a:ext cx="15480" cy="15480"/>
              </a:xfrm>
              <a:prstGeom prst="ellipse">
                <a:avLst/>
              </a:prstGeom>
              <a:solidFill>
                <a:srgbClr val="80ff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grpSp>
        <p:nvGrpSpPr>
          <p:cNvPr id="4773" name=""/>
          <p:cNvGrpSpPr/>
          <p:nvPr/>
        </p:nvGrpSpPr>
        <p:grpSpPr>
          <a:xfrm>
            <a:off x="276120" y="914400"/>
            <a:ext cx="3576600" cy="1274760"/>
            <a:chOff x="276120" y="914400"/>
            <a:chExt cx="3576600" cy="1274760"/>
          </a:xfrm>
        </p:grpSpPr>
        <p:sp>
          <p:nvSpPr>
            <p:cNvPr id="4774" name=""/>
            <p:cNvSpPr/>
            <p:nvPr/>
          </p:nvSpPr>
          <p:spPr>
            <a:xfrm>
              <a:off x="276120" y="914400"/>
              <a:ext cx="3576600" cy="1274760"/>
            </a:xfrm>
            <a:prstGeom prst="rect">
              <a:avLst/>
            </a:prstGeom>
            <a:solidFill>
              <a:srgbClr val="eaeaea"/>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pic>
          <p:nvPicPr>
            <p:cNvPr id="4775" name="" descr=""/>
            <p:cNvPicPr/>
            <p:nvPr/>
          </p:nvPicPr>
          <p:blipFill>
            <a:blip r:embed="rId2"/>
            <a:stretch/>
          </p:blipFill>
          <p:spPr>
            <a:xfrm>
              <a:off x="276120" y="914400"/>
              <a:ext cx="3567960" cy="1200240"/>
            </a:xfrm>
            <a:prstGeom prst="rect">
              <a:avLst/>
            </a:prstGeom>
            <a:ln w="0">
              <a:noFill/>
            </a:ln>
          </p:spPr>
        </p:pic>
      </p:grpSp>
      <p:sp>
        <p:nvSpPr>
          <p:cNvPr id="4776" name=""/>
          <p:cNvSpPr/>
          <p:nvPr/>
        </p:nvSpPr>
        <p:spPr>
          <a:xfrm>
            <a:off x="637920" y="633240"/>
            <a:ext cx="2537280" cy="3052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o de referência</a:t>
            </a:r>
            <a:endParaRPr b="0" lang="en-US" sz="2000" spc="-1" strike="noStrike">
              <a:solidFill>
                <a:srgbClr val="000000"/>
              </a:solidFill>
              <a:latin typeface="Arial"/>
            </a:endParaRPr>
          </a:p>
        </p:txBody>
      </p:sp>
      <p:grpSp>
        <p:nvGrpSpPr>
          <p:cNvPr id="4777" name=""/>
          <p:cNvGrpSpPr/>
          <p:nvPr/>
        </p:nvGrpSpPr>
        <p:grpSpPr>
          <a:xfrm>
            <a:off x="176040" y="3081240"/>
            <a:ext cx="1544400" cy="1673280"/>
            <a:chOff x="176040" y="3081240"/>
            <a:chExt cx="1544400" cy="1673280"/>
          </a:xfrm>
        </p:grpSpPr>
        <p:sp>
          <p:nvSpPr>
            <p:cNvPr id="4778" name=""/>
            <p:cNvSpPr/>
            <p:nvPr/>
          </p:nvSpPr>
          <p:spPr>
            <a:xfrm>
              <a:off x="176040" y="3081240"/>
              <a:ext cx="1544400" cy="1673280"/>
            </a:xfrm>
            <a:prstGeom prst="rect">
              <a:avLst/>
            </a:prstGeom>
            <a:solidFill>
              <a:srgbClr val="ffff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4779" name=""/>
            <p:cNvGrpSpPr/>
            <p:nvPr/>
          </p:nvGrpSpPr>
          <p:grpSpPr>
            <a:xfrm>
              <a:off x="301320" y="3189240"/>
              <a:ext cx="519120" cy="600120"/>
              <a:chOff x="301320" y="3189240"/>
              <a:chExt cx="519120" cy="600120"/>
            </a:xfrm>
          </p:grpSpPr>
          <p:sp>
            <p:nvSpPr>
              <p:cNvPr id="4780" name=""/>
              <p:cNvSpPr/>
              <p:nvPr/>
            </p:nvSpPr>
            <p:spPr>
              <a:xfrm>
                <a:off x="301320" y="3189240"/>
                <a:ext cx="519120" cy="60012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1" name=""/>
              <p:cNvSpPr/>
              <p:nvPr/>
            </p:nvSpPr>
            <p:spPr>
              <a:xfrm>
                <a:off x="358560" y="328860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2" name=""/>
              <p:cNvSpPr/>
              <p:nvPr/>
            </p:nvSpPr>
            <p:spPr>
              <a:xfrm>
                <a:off x="358560" y="333828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3" name=""/>
              <p:cNvSpPr/>
              <p:nvPr/>
            </p:nvSpPr>
            <p:spPr>
              <a:xfrm>
                <a:off x="358560" y="33879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4" name=""/>
              <p:cNvSpPr/>
              <p:nvPr/>
            </p:nvSpPr>
            <p:spPr>
              <a:xfrm>
                <a:off x="358560" y="34376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5" name=""/>
              <p:cNvSpPr/>
              <p:nvPr/>
            </p:nvSpPr>
            <p:spPr>
              <a:xfrm>
                <a:off x="358560" y="348768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6" name=""/>
              <p:cNvSpPr/>
              <p:nvPr/>
            </p:nvSpPr>
            <p:spPr>
              <a:xfrm>
                <a:off x="358560" y="35373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7" name=""/>
              <p:cNvSpPr/>
              <p:nvPr/>
            </p:nvSpPr>
            <p:spPr>
              <a:xfrm>
                <a:off x="358560" y="35870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8" name=""/>
              <p:cNvSpPr/>
              <p:nvPr/>
            </p:nvSpPr>
            <p:spPr>
              <a:xfrm>
                <a:off x="358560" y="363708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9" name=""/>
              <p:cNvSpPr/>
              <p:nvPr/>
            </p:nvSpPr>
            <p:spPr>
              <a:xfrm>
                <a:off x="358560" y="368640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90" name=""/>
            <p:cNvGrpSpPr/>
            <p:nvPr/>
          </p:nvGrpSpPr>
          <p:grpSpPr>
            <a:xfrm>
              <a:off x="507600" y="3448080"/>
              <a:ext cx="519120" cy="600120"/>
              <a:chOff x="507600" y="3448080"/>
              <a:chExt cx="519120" cy="600120"/>
            </a:xfrm>
          </p:grpSpPr>
          <p:sp>
            <p:nvSpPr>
              <p:cNvPr id="4791" name=""/>
              <p:cNvSpPr/>
              <p:nvPr/>
            </p:nvSpPr>
            <p:spPr>
              <a:xfrm>
                <a:off x="507600" y="3448080"/>
                <a:ext cx="519120" cy="60012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2" name=""/>
              <p:cNvSpPr/>
              <p:nvPr/>
            </p:nvSpPr>
            <p:spPr>
              <a:xfrm>
                <a:off x="564840" y="35474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3" name=""/>
              <p:cNvSpPr/>
              <p:nvPr/>
            </p:nvSpPr>
            <p:spPr>
              <a:xfrm>
                <a:off x="564840" y="359712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4" name=""/>
              <p:cNvSpPr/>
              <p:nvPr/>
            </p:nvSpPr>
            <p:spPr>
              <a:xfrm>
                <a:off x="564840" y="364680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5" name=""/>
              <p:cNvSpPr/>
              <p:nvPr/>
            </p:nvSpPr>
            <p:spPr>
              <a:xfrm>
                <a:off x="564840" y="369648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6" name=""/>
              <p:cNvSpPr/>
              <p:nvPr/>
            </p:nvSpPr>
            <p:spPr>
              <a:xfrm>
                <a:off x="564840" y="374652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7" name=""/>
              <p:cNvSpPr/>
              <p:nvPr/>
            </p:nvSpPr>
            <p:spPr>
              <a:xfrm>
                <a:off x="564840" y="379620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8" name=""/>
              <p:cNvSpPr/>
              <p:nvPr/>
            </p:nvSpPr>
            <p:spPr>
              <a:xfrm>
                <a:off x="564840" y="384588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9" name=""/>
              <p:cNvSpPr/>
              <p:nvPr/>
            </p:nvSpPr>
            <p:spPr>
              <a:xfrm>
                <a:off x="564840" y="389592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0" name=""/>
              <p:cNvSpPr/>
              <p:nvPr/>
            </p:nvSpPr>
            <p:spPr>
              <a:xfrm>
                <a:off x="564840" y="39452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01" name=""/>
            <p:cNvGrpSpPr/>
            <p:nvPr/>
          </p:nvGrpSpPr>
          <p:grpSpPr>
            <a:xfrm>
              <a:off x="714240" y="3706920"/>
              <a:ext cx="519120" cy="600120"/>
              <a:chOff x="714240" y="3706920"/>
              <a:chExt cx="519120" cy="600120"/>
            </a:xfrm>
          </p:grpSpPr>
          <p:sp>
            <p:nvSpPr>
              <p:cNvPr id="4802" name=""/>
              <p:cNvSpPr/>
              <p:nvPr/>
            </p:nvSpPr>
            <p:spPr>
              <a:xfrm>
                <a:off x="714240" y="3706920"/>
                <a:ext cx="519120" cy="60012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3" name=""/>
              <p:cNvSpPr/>
              <p:nvPr/>
            </p:nvSpPr>
            <p:spPr>
              <a:xfrm>
                <a:off x="771480" y="380628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4" name=""/>
              <p:cNvSpPr/>
              <p:nvPr/>
            </p:nvSpPr>
            <p:spPr>
              <a:xfrm>
                <a:off x="771480" y="38559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5" name=""/>
              <p:cNvSpPr/>
              <p:nvPr/>
            </p:nvSpPr>
            <p:spPr>
              <a:xfrm>
                <a:off x="771480" y="39056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6" name=""/>
              <p:cNvSpPr/>
              <p:nvPr/>
            </p:nvSpPr>
            <p:spPr>
              <a:xfrm>
                <a:off x="771480" y="395532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7" name=""/>
              <p:cNvSpPr/>
              <p:nvPr/>
            </p:nvSpPr>
            <p:spPr>
              <a:xfrm>
                <a:off x="771480" y="40053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8" name=""/>
              <p:cNvSpPr/>
              <p:nvPr/>
            </p:nvSpPr>
            <p:spPr>
              <a:xfrm>
                <a:off x="771480" y="40550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9" name=""/>
              <p:cNvSpPr/>
              <p:nvPr/>
            </p:nvSpPr>
            <p:spPr>
              <a:xfrm>
                <a:off x="771480" y="410472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0" name=""/>
              <p:cNvSpPr/>
              <p:nvPr/>
            </p:nvSpPr>
            <p:spPr>
              <a:xfrm>
                <a:off x="771480" y="41547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1" name=""/>
              <p:cNvSpPr/>
              <p:nvPr/>
            </p:nvSpPr>
            <p:spPr>
              <a:xfrm>
                <a:off x="771480" y="420408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12" name=""/>
            <p:cNvGrpSpPr/>
            <p:nvPr/>
          </p:nvGrpSpPr>
          <p:grpSpPr>
            <a:xfrm>
              <a:off x="920520" y="3965400"/>
              <a:ext cx="519120" cy="600120"/>
              <a:chOff x="920520" y="3965400"/>
              <a:chExt cx="519120" cy="600120"/>
            </a:xfrm>
          </p:grpSpPr>
          <p:sp>
            <p:nvSpPr>
              <p:cNvPr id="4813" name=""/>
              <p:cNvSpPr/>
              <p:nvPr/>
            </p:nvSpPr>
            <p:spPr>
              <a:xfrm>
                <a:off x="920520" y="3965400"/>
                <a:ext cx="519120" cy="60012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4" name=""/>
              <p:cNvSpPr/>
              <p:nvPr/>
            </p:nvSpPr>
            <p:spPr>
              <a:xfrm>
                <a:off x="977760" y="40647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5" name=""/>
              <p:cNvSpPr/>
              <p:nvPr/>
            </p:nvSpPr>
            <p:spPr>
              <a:xfrm>
                <a:off x="977760" y="41144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6" name=""/>
              <p:cNvSpPr/>
              <p:nvPr/>
            </p:nvSpPr>
            <p:spPr>
              <a:xfrm>
                <a:off x="977760" y="416412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7" name=""/>
              <p:cNvSpPr/>
              <p:nvPr/>
            </p:nvSpPr>
            <p:spPr>
              <a:xfrm>
                <a:off x="977760" y="421380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8" name=""/>
              <p:cNvSpPr/>
              <p:nvPr/>
            </p:nvSpPr>
            <p:spPr>
              <a:xfrm>
                <a:off x="977760" y="42638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9" name=""/>
              <p:cNvSpPr/>
              <p:nvPr/>
            </p:nvSpPr>
            <p:spPr>
              <a:xfrm>
                <a:off x="977760" y="431352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0" name=""/>
              <p:cNvSpPr/>
              <p:nvPr/>
            </p:nvSpPr>
            <p:spPr>
              <a:xfrm>
                <a:off x="977760" y="436320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1" name=""/>
              <p:cNvSpPr/>
              <p:nvPr/>
            </p:nvSpPr>
            <p:spPr>
              <a:xfrm>
                <a:off x="977760" y="441324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2" name=""/>
              <p:cNvSpPr/>
              <p:nvPr/>
            </p:nvSpPr>
            <p:spPr>
              <a:xfrm>
                <a:off x="977760" y="4462560"/>
                <a:ext cx="4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823" name=""/>
          <p:cNvSpPr/>
          <p:nvPr/>
        </p:nvSpPr>
        <p:spPr>
          <a:xfrm rot="5400000">
            <a:off x="1698480" y="3763800"/>
            <a:ext cx="485640" cy="225360"/>
          </a:xfrm>
          <a:prstGeom prst="triangle">
            <a:avLst>
              <a:gd name="adj" fmla="val 50000"/>
            </a:avLst>
          </a:prstGeom>
          <a:solidFill>
            <a:srgbClr val="66ff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824" name=""/>
          <p:cNvSpPr/>
          <p:nvPr/>
        </p:nvSpPr>
        <p:spPr>
          <a:xfrm rot="5400000">
            <a:off x="3852720" y="1349280"/>
            <a:ext cx="485640" cy="225360"/>
          </a:xfrm>
          <a:prstGeom prst="triangle">
            <a:avLst>
              <a:gd name="adj" fmla="val 50000"/>
            </a:avLst>
          </a:prstGeom>
          <a:solidFill>
            <a:srgbClr val="66ff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825" name=""/>
          <p:cNvSpPr/>
          <p:nvPr/>
        </p:nvSpPr>
        <p:spPr>
          <a:xfrm flipH="1">
            <a:off x="213840" y="1757520"/>
            <a:ext cx="1187640" cy="1377720"/>
          </a:xfrm>
          <a:prstGeom prst="line">
            <a:avLst/>
          </a:prstGeom>
          <a:ln w="19080">
            <a:solidFill>
              <a:srgbClr val="000000"/>
            </a:solidFill>
            <a:miter/>
            <a:tailEnd len="med" type="triangle" w="med"/>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826" name=""/>
          <p:cNvSpPr/>
          <p:nvPr/>
        </p:nvSpPr>
        <p:spPr>
          <a:xfrm flipH="1">
            <a:off x="474840" y="1793880"/>
            <a:ext cx="1187280" cy="1376280"/>
          </a:xfrm>
          <a:prstGeom prst="line">
            <a:avLst/>
          </a:prstGeom>
          <a:ln w="19080">
            <a:solidFill>
              <a:srgbClr val="000000"/>
            </a:solidFill>
            <a:miter/>
            <a:tailEnd len="med" type="triangle" w="med"/>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827" name=""/>
          <p:cNvSpPr/>
          <p:nvPr/>
        </p:nvSpPr>
        <p:spPr>
          <a:xfrm flipH="1">
            <a:off x="723960" y="1770120"/>
            <a:ext cx="1224000" cy="1376280"/>
          </a:xfrm>
          <a:prstGeom prst="line">
            <a:avLst/>
          </a:prstGeom>
          <a:ln w="19080">
            <a:solidFill>
              <a:srgbClr val="000000"/>
            </a:solidFill>
            <a:miter/>
            <a:tailEnd len="med" type="triangle" w="med"/>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828" name=""/>
          <p:cNvSpPr/>
          <p:nvPr/>
        </p:nvSpPr>
        <p:spPr>
          <a:xfrm flipH="1">
            <a:off x="960120" y="1757520"/>
            <a:ext cx="1176120" cy="1509480"/>
          </a:xfrm>
          <a:prstGeom prst="line">
            <a:avLst/>
          </a:prstGeom>
          <a:ln w="19080">
            <a:solidFill>
              <a:srgbClr val="000000"/>
            </a:solidFill>
            <a:miter/>
            <a:tailEnd len="med" type="triangle" w="med"/>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829" name=""/>
          <p:cNvSpPr/>
          <p:nvPr/>
        </p:nvSpPr>
        <p:spPr>
          <a:xfrm flipH="1">
            <a:off x="1152360" y="1770120"/>
            <a:ext cx="1222560" cy="1579680"/>
          </a:xfrm>
          <a:prstGeom prst="line">
            <a:avLst/>
          </a:prstGeom>
          <a:ln w="19080">
            <a:solidFill>
              <a:srgbClr val="000000"/>
            </a:solidFill>
            <a:miter/>
            <a:tailEnd len="med" type="triangle" w="med"/>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830" name=""/>
          <p:cNvSpPr/>
          <p:nvPr/>
        </p:nvSpPr>
        <p:spPr>
          <a:xfrm flipH="1">
            <a:off x="1400040" y="1770120"/>
            <a:ext cx="1224000" cy="1612800"/>
          </a:xfrm>
          <a:prstGeom prst="line">
            <a:avLst/>
          </a:prstGeom>
          <a:ln w="19080">
            <a:solidFill>
              <a:srgbClr val="000000"/>
            </a:solidFill>
            <a:miter/>
            <a:tailEnd len="med" type="triangle" w="med"/>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4831" name=""/>
          <p:cNvSpPr/>
          <p:nvPr/>
        </p:nvSpPr>
        <p:spPr>
          <a:xfrm>
            <a:off x="250920" y="4719600"/>
            <a:ext cx="2012760" cy="61020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atálogo” de crité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os de reuniões de avaliação nas sistemáticas de Gates</a:t>
            </a:r>
            <a:endParaRPr b="0" lang="en-US" sz="2400" spc="-1" strike="noStrike">
              <a:solidFill>
                <a:srgbClr val="000096"/>
              </a:solidFill>
              <a:latin typeface="Arial"/>
            </a:endParaRPr>
          </a:p>
        </p:txBody>
      </p:sp>
      <p:sp>
        <p:nvSpPr>
          <p:cNvPr id="4833" name="PlaceHolder 2"/>
          <p:cNvSpPr>
            <a:spLocks noGrp="1"/>
          </p:cNvSpPr>
          <p:nvPr>
            <p:ph/>
          </p:nvPr>
        </p:nvSpPr>
        <p:spPr>
          <a:xfrm>
            <a:off x="112320" y="887400"/>
            <a:ext cx="8574120" cy="5238720"/>
          </a:xfrm>
          <a:prstGeom prst="rect">
            <a:avLst/>
          </a:prstGeom>
          <a:noFill/>
          <a:ln w="0">
            <a:noFill/>
          </a:ln>
        </p:spPr>
        <p:txBody>
          <a:bodyPr lIns="90000" rIns="90000" tIns="46800" bIns="46800" anchor="t">
            <a:normAutofit/>
          </a:bodyPr>
          <a:p>
            <a:pPr marL="343080" indent="-343080">
              <a:lnSpc>
                <a:spcPct val="90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hase Gates</a:t>
            </a:r>
            <a:endParaRPr b="0" lang="en-US" sz="2800" spc="-1" strike="noStrike">
              <a:solidFill>
                <a:srgbClr val="000000"/>
              </a:solidFill>
              <a:latin typeface="Arial"/>
            </a:endParaRPr>
          </a:p>
          <a:p>
            <a:pPr lvl="1" marL="743040" indent="-285840">
              <a:lnSpc>
                <a:spcPct val="90000"/>
              </a:lnSpc>
              <a:spcBef>
                <a:spcPts val="16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Auto-Avaliação.</a:t>
            </a:r>
            <a:r>
              <a:rPr b="0" lang="pt-BR" sz="2400" spc="-1" strike="noStrike">
                <a:solidFill>
                  <a:srgbClr val="000000"/>
                </a:solidFill>
                <a:latin typeface="Arial"/>
              </a:rPr>
              <a:t> Avaliação realizada pelo próprio time de projeto utilizando os critérios-padrão da empresa. É realizada antecipadamente à reunião de gate final.</a:t>
            </a:r>
            <a:endParaRPr b="0" lang="en-US" sz="2400" spc="-1" strike="noStrike">
              <a:solidFill>
                <a:srgbClr val="000000"/>
              </a:solidFill>
              <a:latin typeface="Arial"/>
            </a:endParaRPr>
          </a:p>
          <a:p>
            <a:pPr lvl="1" marL="743040" indent="-285840">
              <a:lnSpc>
                <a:spcPct val="90000"/>
              </a:lnSpc>
              <a:spcBef>
                <a:spcPts val="16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Design Review.</a:t>
            </a:r>
            <a:r>
              <a:rPr b="0" lang="pt-BR" sz="2400" spc="-1" strike="noStrike">
                <a:solidFill>
                  <a:srgbClr val="000000"/>
                </a:solidFill>
                <a:latin typeface="Arial"/>
              </a:rPr>
              <a:t> Avaliação restrita aos aspectos técnicos de projeto, isto, é às especificações, requisitos e testes relacionados com produtos, sistemas, subsistemas e componentes. Realizada por membros do time, especialistas técnicos, parceiros do projeto e gerente de projeto.</a:t>
            </a:r>
            <a:endParaRPr b="0" lang="en-US" sz="2400" spc="-1" strike="noStrike">
              <a:solidFill>
                <a:srgbClr val="000000"/>
              </a:solidFill>
              <a:latin typeface="Arial"/>
            </a:endParaRPr>
          </a:p>
          <a:p>
            <a:pPr lvl="1" marL="743040" indent="-285840">
              <a:lnSpc>
                <a:spcPct val="90000"/>
              </a:lnSpc>
              <a:spcBef>
                <a:spcPts val="16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Project Review.</a:t>
            </a:r>
            <a:r>
              <a:rPr b="0" lang="pt-BR" sz="2400" spc="-1" strike="noStrike">
                <a:solidFill>
                  <a:srgbClr val="000000"/>
                </a:solidFill>
                <a:latin typeface="Arial"/>
              </a:rPr>
              <a:t> Avaliação sobre a programação e andamento do projeto. Tem como foco questões ligadas ao planejamento e estratégias de condução do proje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Diretrizes para reuniões produtivas</a:t>
            </a:r>
            <a:endParaRPr b="0" lang="en-US" sz="2400" spc="-1" strike="noStrike">
              <a:solidFill>
                <a:srgbClr val="000096"/>
              </a:solidFill>
              <a:latin typeface="Arial"/>
            </a:endParaRPr>
          </a:p>
        </p:txBody>
      </p:sp>
      <p:sp>
        <p:nvSpPr>
          <p:cNvPr id="4835" name="PlaceHolder 2"/>
          <p:cNvSpPr>
            <a:spLocks noGrp="1"/>
          </p:cNvSpPr>
          <p:nvPr>
            <p:ph/>
          </p:nvPr>
        </p:nvSpPr>
        <p:spPr>
          <a:xfrm>
            <a:off x="112320" y="887040"/>
            <a:ext cx="8574120" cy="5683320"/>
          </a:xfrm>
          <a:prstGeom prst="rect">
            <a:avLst/>
          </a:prstGeom>
          <a:noFill/>
          <a:ln w="0">
            <a:noFill/>
          </a:ln>
        </p:spPr>
        <p:txBody>
          <a:bodyPr lIns="90000" rIns="90000" tIns="46800" bIns="46800" anchor="t">
            <a:normAutofit fontScale="99000"/>
          </a:bodyPr>
          <a:p>
            <a:pPr marL="528120" indent="-528120">
              <a:lnSpc>
                <a:spcPct val="90000"/>
              </a:lnSpc>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abeleça o tipo de objetivo da reunião</a:t>
            </a:r>
            <a:endParaRPr b="0" lang="en-US" sz="2400" spc="-1" strike="noStrike">
              <a:solidFill>
                <a:srgbClr val="000000"/>
              </a:solidFill>
              <a:latin typeface="Arial"/>
            </a:endParaRPr>
          </a:p>
          <a:p>
            <a:pPr marL="528120" indent="-528120">
              <a:lnSpc>
                <a:spcPct val="90000"/>
              </a:lnSpc>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fina uma pauta e comunique-a antecipadamente</a:t>
            </a:r>
            <a:endParaRPr b="0" lang="en-US" sz="2400" spc="-1" strike="noStrike">
              <a:solidFill>
                <a:srgbClr val="000000"/>
              </a:solidFill>
              <a:latin typeface="Arial"/>
            </a:endParaRPr>
          </a:p>
          <a:p>
            <a:pPr marL="528120" indent="-528120">
              <a:lnSpc>
                <a:spcPct val="90000"/>
              </a:lnSpc>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epare o local e certifique-se antecipadamente de que os recursos necessários estejam preparados</a:t>
            </a:r>
            <a:endParaRPr b="0" lang="en-US" sz="2400" spc="-1" strike="noStrike">
              <a:solidFill>
                <a:srgbClr val="000000"/>
              </a:solidFill>
              <a:latin typeface="Arial"/>
            </a:endParaRPr>
          </a:p>
          <a:p>
            <a:pPr marL="528120" indent="-528120">
              <a:lnSpc>
                <a:spcPct val="90000"/>
              </a:lnSpc>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ija e pratique a pontualidade</a:t>
            </a:r>
            <a:endParaRPr b="0" lang="en-US" sz="2400" spc="-1" strike="noStrike">
              <a:solidFill>
                <a:srgbClr val="000000"/>
              </a:solidFill>
              <a:latin typeface="Arial"/>
            </a:endParaRPr>
          </a:p>
          <a:p>
            <a:pPr marL="528120" indent="-528120">
              <a:lnSpc>
                <a:spcPct val="90000"/>
              </a:lnSpc>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apel de coordenador ou facilitador deve estar bem definido</a:t>
            </a:r>
            <a:endParaRPr b="0" lang="en-US" sz="2400" spc="-1" strike="noStrike">
              <a:solidFill>
                <a:srgbClr val="000000"/>
              </a:solidFill>
              <a:latin typeface="Arial"/>
            </a:endParaRPr>
          </a:p>
          <a:p>
            <a:pPr marL="528120" indent="-528120">
              <a:lnSpc>
                <a:spcPct val="90000"/>
              </a:lnSpc>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scuta rapidamente a pauta com os participantes, identificando metas de tempo para cada assunto\Defina o papel de monitoramenteo de tempo da reunião</a:t>
            </a:r>
            <a:endParaRPr b="0" lang="en-US" sz="2400" spc="-1" strike="noStrike">
              <a:solidFill>
                <a:srgbClr val="000000"/>
              </a:solidFill>
              <a:latin typeface="Arial"/>
            </a:endParaRPr>
          </a:p>
          <a:p>
            <a:pPr marL="528120" indent="-528120">
              <a:lnSpc>
                <a:spcPct val="90000"/>
              </a:lnSpc>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fina o papel de monitoramento de tempo da reunião</a:t>
            </a:r>
            <a:endParaRPr b="0" lang="en-US" sz="2400" spc="-1" strike="noStrike">
              <a:solidFill>
                <a:srgbClr val="000000"/>
              </a:solidFill>
              <a:latin typeface="Arial"/>
            </a:endParaRPr>
          </a:p>
          <a:p>
            <a:pPr marL="528120" indent="-528120">
              <a:lnSpc>
                <a:spcPct val="90000"/>
              </a:lnSpc>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fina o papel de redator da ata</a:t>
            </a:r>
            <a:endParaRPr b="0" lang="en-US" sz="2400" spc="-1" strike="noStrike">
              <a:solidFill>
                <a:srgbClr val="000000"/>
              </a:solidFill>
              <a:latin typeface="Arial"/>
            </a:endParaRPr>
          </a:p>
          <a:p>
            <a:pPr marL="528120" indent="-528120">
              <a:lnSpc>
                <a:spcPct val="90000"/>
              </a:lnSpc>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antenha um ambiente favorável a livre-expre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onceitos de Modelagem de Processo </a:t>
            </a:r>
            <a:endParaRPr b="0" lang="en-US" sz="2400" spc="-1" strike="noStrike">
              <a:solidFill>
                <a:srgbClr val="000096"/>
              </a:solidFill>
              <a:latin typeface="Arial"/>
            </a:endParaRPr>
          </a:p>
        </p:txBody>
      </p:sp>
      <p:sp>
        <p:nvSpPr>
          <p:cNvPr id="59" name=""/>
          <p:cNvSpPr/>
          <p:nvPr/>
        </p:nvSpPr>
        <p:spPr>
          <a:xfrm>
            <a:off x="54000" y="1235160"/>
            <a:ext cx="2651040" cy="1647720"/>
          </a:xfrm>
          <a:prstGeom prst="roundRect">
            <a:avLst>
              <a:gd name="adj" fmla="val 16667"/>
            </a:avLst>
          </a:prstGeom>
          <a:solidFill>
            <a:srgbClr val="ff3300"/>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ção de Processo de Negócio</a:t>
            </a:r>
            <a:endParaRPr b="0" lang="en-US" sz="2400" spc="-1" strike="noStrike">
              <a:solidFill>
                <a:srgbClr val="000000"/>
              </a:solidFill>
              <a:latin typeface="Arial"/>
            </a:endParaRPr>
          </a:p>
        </p:txBody>
      </p:sp>
      <p:sp>
        <p:nvSpPr>
          <p:cNvPr id="60" name=""/>
          <p:cNvSpPr/>
          <p:nvPr/>
        </p:nvSpPr>
        <p:spPr>
          <a:xfrm>
            <a:off x="3139920" y="1279440"/>
            <a:ext cx="2751120" cy="15591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ção de Modelos de Referência</a:t>
            </a:r>
            <a:endParaRPr b="0" lang="en-US" sz="2400" spc="-1" strike="noStrike">
              <a:solidFill>
                <a:srgbClr val="000000"/>
              </a:solidFill>
              <a:latin typeface="Arial"/>
            </a:endParaRPr>
          </a:p>
        </p:txBody>
      </p:sp>
      <p:sp>
        <p:nvSpPr>
          <p:cNvPr id="61" name=""/>
          <p:cNvSpPr/>
          <p:nvPr/>
        </p:nvSpPr>
        <p:spPr>
          <a:xfrm>
            <a:off x="6389640" y="1293840"/>
            <a:ext cx="2617920" cy="15285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ça entre Processos de Negócio e Projetos</a:t>
            </a:r>
            <a:endParaRPr b="0" lang="en-US" sz="2400" spc="-1" strike="noStrike">
              <a:solidFill>
                <a:srgbClr val="000000"/>
              </a:solidFill>
              <a:latin typeface="Arial"/>
            </a:endParaRPr>
          </a:p>
        </p:txBody>
      </p:sp>
      <p:cxnSp>
        <p:nvCxnSpPr>
          <p:cNvPr id="62" name=""/>
          <p:cNvCxnSpPr>
            <a:stCxn id="59" idx="2"/>
            <a:endCxn id="63" idx="0"/>
          </p:cNvCxnSpPr>
          <p:nvPr/>
        </p:nvCxnSpPr>
        <p:spPr>
          <a:xfrm>
            <a:off x="1379160" y="2882520"/>
            <a:ext cx="1080" cy="1842120"/>
          </a:xfrm>
          <a:prstGeom prst="straightConnector1">
            <a:avLst/>
          </a:prstGeom>
          <a:ln w="38160">
            <a:solidFill>
              <a:srgbClr val="000000"/>
            </a:solidFill>
            <a:miter/>
            <a:tailEnd len="med" type="triangle" w="med"/>
          </a:ln>
        </p:spPr>
      </p:cxnSp>
      <p:cxnSp>
        <p:nvCxnSpPr>
          <p:cNvPr id="64" name=""/>
          <p:cNvCxnSpPr>
            <a:stCxn id="60" idx="2"/>
            <a:endCxn id="65" idx="0"/>
          </p:cNvCxnSpPr>
          <p:nvPr/>
        </p:nvCxnSpPr>
        <p:spPr>
          <a:xfrm>
            <a:off x="4516200" y="2838600"/>
            <a:ext cx="1080" cy="1883520"/>
          </a:xfrm>
          <a:prstGeom prst="straightConnector1">
            <a:avLst/>
          </a:prstGeom>
          <a:ln w="38160">
            <a:solidFill>
              <a:srgbClr val="000000"/>
            </a:solidFill>
            <a:miter/>
            <a:tailEnd len="med" type="triangle" w="med"/>
          </a:ln>
        </p:spPr>
      </p:cxnSp>
      <p:cxnSp>
        <p:nvCxnSpPr>
          <p:cNvPr id="66" name=""/>
          <p:cNvCxnSpPr>
            <a:stCxn id="61" idx="2"/>
            <a:endCxn id="67" idx="0"/>
          </p:cNvCxnSpPr>
          <p:nvPr/>
        </p:nvCxnSpPr>
        <p:spPr>
          <a:xfrm>
            <a:off x="7698960" y="2822040"/>
            <a:ext cx="1080" cy="1902600"/>
          </a:xfrm>
          <a:prstGeom prst="straightConnector1">
            <a:avLst/>
          </a:prstGeom>
          <a:ln w="38160">
            <a:solidFill>
              <a:srgbClr val="000000"/>
            </a:solidFill>
            <a:miter/>
            <a:tailEnd len="med" type="triangle" w="med"/>
          </a:ln>
        </p:spPr>
      </p:cxnSp>
      <p:grpSp>
        <p:nvGrpSpPr>
          <p:cNvPr id="68" name=""/>
          <p:cNvGrpSpPr/>
          <p:nvPr/>
        </p:nvGrpSpPr>
        <p:grpSpPr>
          <a:xfrm>
            <a:off x="147600" y="4721400"/>
            <a:ext cx="8736120" cy="1558800"/>
            <a:chOff x="147600" y="4721400"/>
            <a:chExt cx="8736120" cy="1558800"/>
          </a:xfrm>
        </p:grpSpPr>
        <p:sp>
          <p:nvSpPr>
            <p:cNvPr id="65" name=""/>
            <p:cNvSpPr/>
            <p:nvPr/>
          </p:nvSpPr>
          <p:spPr>
            <a:xfrm>
              <a:off x="147600" y="4721400"/>
              <a:ext cx="8736120" cy="15588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o de Referência para o Processo de Desenvolvimento de Produtos</a:t>
              </a:r>
              <a:endParaRPr b="0" lang="en-US" sz="2400" spc="-1" strike="noStrike">
                <a:solidFill>
                  <a:srgbClr val="000000"/>
                </a:solidFill>
                <a:latin typeface="Arial"/>
              </a:endParaRPr>
            </a:p>
          </p:txBody>
        </p:sp>
        <p:sp>
          <p:nvSpPr>
            <p:cNvPr id="63" name=""/>
            <p:cNvSpPr/>
            <p:nvPr/>
          </p:nvSpPr>
          <p:spPr>
            <a:xfrm>
              <a:off x="1233360" y="4724280"/>
              <a:ext cx="292320" cy="17964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 name=""/>
            <p:cNvSpPr/>
            <p:nvPr/>
          </p:nvSpPr>
          <p:spPr>
            <a:xfrm>
              <a:off x="7553160" y="4724280"/>
              <a:ext cx="292320" cy="17964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cxnSp>
        <p:nvCxnSpPr>
          <p:cNvPr id="69" name=""/>
          <p:cNvCxnSpPr>
            <a:stCxn id="59" idx="3"/>
            <a:endCxn id="60" idx="1"/>
          </p:cNvCxnSpPr>
          <p:nvPr/>
        </p:nvCxnSpPr>
        <p:spPr>
          <a:xfrm>
            <a:off x="2705040" y="2058480"/>
            <a:ext cx="435600" cy="1080"/>
          </a:xfrm>
          <a:prstGeom prst="straightConnector1">
            <a:avLst/>
          </a:prstGeom>
          <a:ln w="38160">
            <a:solidFill>
              <a:srgbClr val="000000"/>
            </a:solidFill>
            <a:miter/>
            <a:tailEnd len="med" type="triangle" w="med"/>
          </a:ln>
        </p:spPr>
      </p:cxnSp>
      <p:cxnSp>
        <p:nvCxnSpPr>
          <p:cNvPr id="70" name=""/>
          <p:cNvCxnSpPr>
            <a:stCxn id="60" idx="3"/>
            <a:endCxn id="61" idx="1"/>
          </p:cNvCxnSpPr>
          <p:nvPr/>
        </p:nvCxnSpPr>
        <p:spPr>
          <a:xfrm>
            <a:off x="5890680" y="2058480"/>
            <a:ext cx="499320" cy="10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4837"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ceitos de modelagem de process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o mode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papéis principais das pessoas envolvidas n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as macro-f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visão de fases (gates)</a:t>
            </a: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Arial"/>
              </a:rPr>
              <a:t>Métodos e ferramentas de desenvolvimento de produ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dicadores de desempenho d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ceiros do desenvolvimento colaborativo de produ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Áreas de conhecimen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stão do conhecimento do PD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ndo o modelo</a:t>
            </a:r>
            <a:endParaRPr b="0" lang="en-US" sz="2400" spc="-1" strike="noStrike">
              <a:solidFill>
                <a:srgbClr val="000000"/>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8" name=""/>
          <p:cNvSpPr/>
          <p:nvPr/>
        </p:nvSpPr>
        <p:spPr>
          <a:xfrm>
            <a:off x="200160" y="4815000"/>
            <a:ext cx="8843760" cy="1571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Relação entre o processo e os métodos e ferramentas</a:t>
            </a:r>
            <a:endParaRPr b="0" lang="en-US" sz="2400" spc="-1" strike="noStrike">
              <a:solidFill>
                <a:srgbClr val="000096"/>
              </a:solidFill>
              <a:latin typeface="Arial"/>
            </a:endParaRPr>
          </a:p>
        </p:txBody>
      </p:sp>
      <p:grpSp>
        <p:nvGrpSpPr>
          <p:cNvPr id="4840" name=""/>
          <p:cNvGrpSpPr/>
          <p:nvPr/>
        </p:nvGrpSpPr>
        <p:grpSpPr>
          <a:xfrm>
            <a:off x="171360" y="1443600"/>
            <a:ext cx="8864640" cy="1596600"/>
            <a:chOff x="171360" y="1443600"/>
            <a:chExt cx="8864640" cy="1596600"/>
          </a:xfrm>
        </p:grpSpPr>
        <p:grpSp>
          <p:nvGrpSpPr>
            <p:cNvPr id="4841" name=""/>
            <p:cNvGrpSpPr/>
            <p:nvPr/>
          </p:nvGrpSpPr>
          <p:grpSpPr>
            <a:xfrm>
              <a:off x="2239920" y="1754280"/>
              <a:ext cx="4146480" cy="298440"/>
              <a:chOff x="2239920" y="1754280"/>
              <a:chExt cx="4146480" cy="298440"/>
            </a:xfrm>
          </p:grpSpPr>
          <p:sp>
            <p:nvSpPr>
              <p:cNvPr id="4842" name=""/>
              <p:cNvSpPr/>
              <p:nvPr/>
            </p:nvSpPr>
            <p:spPr>
              <a:xfrm>
                <a:off x="2239920" y="1754280"/>
                <a:ext cx="4146480" cy="298440"/>
              </a:xfrm>
              <a:custGeom>
                <a:avLst/>
                <a:gdLst>
                  <a:gd name="textAreaLeft" fmla="*/ 0 w 4146480"/>
                  <a:gd name="textAreaRight" fmla="*/ 4146840 w 4146480"/>
                  <a:gd name="textAreaTop" fmla="*/ 0 h 298440"/>
                  <a:gd name="textAreaBottom" fmla="*/ 298800 h 298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3" name=""/>
              <p:cNvSpPr/>
              <p:nvPr/>
            </p:nvSpPr>
            <p:spPr>
              <a:xfrm>
                <a:off x="3293640" y="17668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844" name=""/>
            <p:cNvGrpSpPr/>
            <p:nvPr/>
          </p:nvGrpSpPr>
          <p:grpSpPr>
            <a:xfrm>
              <a:off x="6364440" y="1755720"/>
              <a:ext cx="2652480" cy="298440"/>
              <a:chOff x="6364440" y="1755720"/>
              <a:chExt cx="2652480" cy="298440"/>
            </a:xfrm>
          </p:grpSpPr>
          <p:sp>
            <p:nvSpPr>
              <p:cNvPr id="4845" name=""/>
              <p:cNvSpPr/>
              <p:nvPr/>
            </p:nvSpPr>
            <p:spPr>
              <a:xfrm>
                <a:off x="6364440" y="17557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6" name=""/>
              <p:cNvSpPr/>
              <p:nvPr/>
            </p:nvSpPr>
            <p:spPr>
              <a:xfrm>
                <a:off x="7431480" y="17920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4847" name=""/>
            <p:cNvSpPr/>
            <p:nvPr/>
          </p:nvSpPr>
          <p:spPr>
            <a:xfrm>
              <a:off x="8223120" y="18399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4848" name=""/>
            <p:cNvCxnSpPr>
              <a:stCxn id="4845" idx="0"/>
              <a:endCxn id="4849" idx="0"/>
            </p:cNvCxnSpPr>
            <p:nvPr/>
          </p:nvCxnSpPr>
          <p:spPr>
            <a:xfrm rot="5400000">
              <a:off x="4402440" y="-1471680"/>
              <a:ext cx="2520" cy="6455520"/>
            </a:xfrm>
            <a:prstGeom prst="bentConnector3">
              <a:avLst>
                <a:gd name="adj1" fmla="val -14400000"/>
              </a:avLst>
            </a:prstGeom>
            <a:ln w="19080">
              <a:solidFill>
                <a:srgbClr val="000000"/>
              </a:solidFill>
              <a:miter/>
              <a:tailEnd len="med" type="triangle" w="med"/>
            </a:ln>
          </p:spPr>
        </p:cxnSp>
        <p:grpSp>
          <p:nvGrpSpPr>
            <p:cNvPr id="4850" name=""/>
            <p:cNvGrpSpPr/>
            <p:nvPr/>
          </p:nvGrpSpPr>
          <p:grpSpPr>
            <a:xfrm>
              <a:off x="171360" y="1755720"/>
              <a:ext cx="2124000" cy="297000"/>
              <a:chOff x="171360" y="1755720"/>
              <a:chExt cx="2124000" cy="297000"/>
            </a:xfrm>
          </p:grpSpPr>
          <p:sp>
            <p:nvSpPr>
              <p:cNvPr id="4849" name=""/>
              <p:cNvSpPr/>
              <p:nvPr/>
            </p:nvSpPr>
            <p:spPr>
              <a:xfrm>
                <a:off x="171360" y="17557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4851" name=""/>
              <p:cNvSpPr/>
              <p:nvPr/>
            </p:nvSpPr>
            <p:spPr>
              <a:xfrm>
                <a:off x="999000" y="17920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4852" name=""/>
            <p:cNvSpPr/>
            <p:nvPr/>
          </p:nvSpPr>
          <p:spPr>
            <a:xfrm>
              <a:off x="185760" y="2125800"/>
              <a:ext cx="1335240" cy="787320"/>
            </a:xfrm>
            <a:custGeom>
              <a:avLst/>
              <a:gdLst>
                <a:gd name="textAreaLeft" fmla="*/ 0 w 1335240"/>
                <a:gd name="textAreaRight" fmla="*/ 1335600 w 1335240"/>
                <a:gd name="textAreaTop" fmla="*/ 0 h 787320"/>
                <a:gd name="textAreaBottom" fmla="*/ 787680 h 78732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ratégico dos Produtos</a:t>
              </a:r>
              <a:endParaRPr b="0" lang="en-US" sz="1400" spc="-1" strike="noStrike">
                <a:solidFill>
                  <a:srgbClr val="000000"/>
                </a:solidFill>
                <a:latin typeface="Arial"/>
              </a:endParaRPr>
            </a:p>
          </p:txBody>
        </p:sp>
        <p:grpSp>
          <p:nvGrpSpPr>
            <p:cNvPr id="4853" name=""/>
            <p:cNvGrpSpPr/>
            <p:nvPr/>
          </p:nvGrpSpPr>
          <p:grpSpPr>
            <a:xfrm>
              <a:off x="6164280" y="2106720"/>
              <a:ext cx="2871720" cy="933480"/>
              <a:chOff x="6164280" y="2106720"/>
              <a:chExt cx="2871720" cy="933480"/>
            </a:xfrm>
          </p:grpSpPr>
          <p:sp>
            <p:nvSpPr>
              <p:cNvPr id="4854" name=""/>
              <p:cNvSpPr/>
              <p:nvPr/>
            </p:nvSpPr>
            <p:spPr>
              <a:xfrm>
                <a:off x="6164280" y="2106720"/>
                <a:ext cx="1257120" cy="830520"/>
              </a:xfrm>
              <a:custGeom>
                <a:avLst/>
                <a:gdLst>
                  <a:gd name="textAreaLeft" fmla="*/ 0 w 1257120"/>
                  <a:gd name="textAreaRight" fmla="*/ 1257480 w 125712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4855" name=""/>
              <p:cNvSpPr/>
              <p:nvPr/>
            </p:nvSpPr>
            <p:spPr>
              <a:xfrm>
                <a:off x="7421400" y="2106720"/>
                <a:ext cx="1270080" cy="830520"/>
              </a:xfrm>
              <a:custGeom>
                <a:avLst/>
                <a:gdLst>
                  <a:gd name="textAreaLeft" fmla="*/ 0 w 1270080"/>
                  <a:gd name="textAreaRight" fmla="*/ 1270440 w 127008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4856" name=""/>
              <p:cNvSpPr/>
              <p:nvPr/>
            </p:nvSpPr>
            <p:spPr>
              <a:xfrm>
                <a:off x="6249960" y="2170440"/>
                <a:ext cx="1268280" cy="830160"/>
              </a:xfrm>
              <a:custGeom>
                <a:avLst/>
                <a:gdLst>
                  <a:gd name="textAreaLeft" fmla="*/ 0 w 1268280"/>
                  <a:gd name="textAreaRight" fmla="*/ 1268640 w 12682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4857" name=""/>
              <p:cNvSpPr/>
              <p:nvPr/>
            </p:nvSpPr>
            <p:spPr>
              <a:xfrm>
                <a:off x="7535880" y="2170440"/>
                <a:ext cx="1270080" cy="830160"/>
              </a:xfrm>
              <a:custGeom>
                <a:avLst/>
                <a:gdLst>
                  <a:gd name="textAreaLeft" fmla="*/ 0 w 1270080"/>
                  <a:gd name="textAreaRight" fmla="*/ 1270440 w 12700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4858" name=""/>
              <p:cNvSpPr/>
              <p:nvPr/>
            </p:nvSpPr>
            <p:spPr>
              <a:xfrm>
                <a:off x="7694640" y="2210040"/>
                <a:ext cx="1341360" cy="830160"/>
              </a:xfrm>
              <a:custGeom>
                <a:avLst/>
                <a:gdLst>
                  <a:gd name="textAreaLeft" fmla="*/ 0 w 1341360"/>
                  <a:gd name="textAreaRight" fmla="*/ 1341720 w 1341360"/>
                  <a:gd name="textAreaTop" fmla="*/ 0 h 830160"/>
                  <a:gd name="textAreaBottom" fmla="*/ 830520 h 83016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ontinu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p:txBody>
          </p:sp>
          <p:sp>
            <p:nvSpPr>
              <p:cNvPr id="4859" name=""/>
              <p:cNvSpPr/>
              <p:nvPr/>
            </p:nvSpPr>
            <p:spPr>
              <a:xfrm>
                <a:off x="6348240" y="2210040"/>
                <a:ext cx="1400400" cy="830160"/>
              </a:xfrm>
              <a:custGeom>
                <a:avLst/>
                <a:gdLst>
                  <a:gd name="textAreaLeft" fmla="*/ 0 w 1400400"/>
                  <a:gd name="textAreaRight" fmla="*/ 1400400 w 1400400"/>
                  <a:gd name="textAreaTop" fmla="*/ 0 h 830160"/>
                  <a:gd name="textAreaBottom" fmla="*/ 830520 h 83016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panh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a:t>
                </a:r>
                <a:endParaRPr b="0" lang="en-US" sz="1400" spc="-1" strike="noStrike">
                  <a:solidFill>
                    <a:srgbClr val="000000"/>
                  </a:solidFill>
                  <a:latin typeface="Arial"/>
                </a:endParaRPr>
              </a:p>
            </p:txBody>
          </p:sp>
        </p:grpSp>
        <p:grpSp>
          <p:nvGrpSpPr>
            <p:cNvPr id="4860" name=""/>
            <p:cNvGrpSpPr/>
            <p:nvPr/>
          </p:nvGrpSpPr>
          <p:grpSpPr>
            <a:xfrm>
              <a:off x="2413080" y="2093760"/>
              <a:ext cx="3600360" cy="407880"/>
              <a:chOff x="2413080" y="2093760"/>
              <a:chExt cx="3600360" cy="407880"/>
            </a:xfrm>
          </p:grpSpPr>
          <p:sp>
            <p:nvSpPr>
              <p:cNvPr id="4861" name=""/>
              <p:cNvSpPr/>
              <p:nvPr/>
            </p:nvSpPr>
            <p:spPr>
              <a:xfrm flipV="1">
                <a:off x="2413080" y="209340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2" name=""/>
              <p:cNvSpPr/>
              <p:nvPr/>
            </p:nvSpPr>
            <p:spPr>
              <a:xfrm flipV="1">
                <a:off x="3133800" y="209340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3" name=""/>
              <p:cNvSpPr/>
              <p:nvPr/>
            </p:nvSpPr>
            <p:spPr>
              <a:xfrm flipV="1">
                <a:off x="3855960" y="209340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4" name=""/>
              <p:cNvSpPr/>
              <p:nvPr/>
            </p:nvSpPr>
            <p:spPr>
              <a:xfrm flipV="1">
                <a:off x="4576680" y="209340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5" name=""/>
              <p:cNvSpPr/>
              <p:nvPr/>
            </p:nvSpPr>
            <p:spPr>
              <a:xfrm flipV="1">
                <a:off x="5299200" y="209340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6" name=""/>
            <p:cNvGrpSpPr/>
            <p:nvPr/>
          </p:nvGrpSpPr>
          <p:grpSpPr>
            <a:xfrm>
              <a:off x="2565360" y="2246040"/>
              <a:ext cx="3600360" cy="407880"/>
              <a:chOff x="2565360" y="2246040"/>
              <a:chExt cx="3600360" cy="407880"/>
            </a:xfrm>
          </p:grpSpPr>
          <p:sp>
            <p:nvSpPr>
              <p:cNvPr id="4867" name=""/>
              <p:cNvSpPr/>
              <p:nvPr/>
            </p:nvSpPr>
            <p:spPr>
              <a:xfrm flipV="1">
                <a:off x="2565360" y="22456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8" name=""/>
              <p:cNvSpPr/>
              <p:nvPr/>
            </p:nvSpPr>
            <p:spPr>
              <a:xfrm flipV="1">
                <a:off x="3286080" y="224568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9" name=""/>
              <p:cNvSpPr/>
              <p:nvPr/>
            </p:nvSpPr>
            <p:spPr>
              <a:xfrm flipV="1">
                <a:off x="4008600" y="22456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0" name=""/>
              <p:cNvSpPr/>
              <p:nvPr/>
            </p:nvSpPr>
            <p:spPr>
              <a:xfrm flipV="1">
                <a:off x="4729320" y="22456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1" name=""/>
              <p:cNvSpPr/>
              <p:nvPr/>
            </p:nvSpPr>
            <p:spPr>
              <a:xfrm flipV="1">
                <a:off x="5451480" y="22456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2" name=""/>
            <p:cNvGrpSpPr/>
            <p:nvPr/>
          </p:nvGrpSpPr>
          <p:grpSpPr>
            <a:xfrm>
              <a:off x="2717640" y="2398320"/>
              <a:ext cx="3600720" cy="407880"/>
              <a:chOff x="2717640" y="2398320"/>
              <a:chExt cx="3600720" cy="407880"/>
            </a:xfrm>
          </p:grpSpPr>
          <p:sp>
            <p:nvSpPr>
              <p:cNvPr id="4873" name=""/>
              <p:cNvSpPr/>
              <p:nvPr/>
            </p:nvSpPr>
            <p:spPr>
              <a:xfrm flipV="1">
                <a:off x="2717640" y="23979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4" name=""/>
              <p:cNvSpPr/>
              <p:nvPr/>
            </p:nvSpPr>
            <p:spPr>
              <a:xfrm flipV="1">
                <a:off x="3438360" y="23979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5" name=""/>
              <p:cNvSpPr/>
              <p:nvPr/>
            </p:nvSpPr>
            <p:spPr>
              <a:xfrm flipV="1">
                <a:off x="4160880" y="23979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6" name=""/>
              <p:cNvSpPr/>
              <p:nvPr/>
            </p:nvSpPr>
            <p:spPr>
              <a:xfrm flipV="1">
                <a:off x="4881600" y="23979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7" name=""/>
              <p:cNvSpPr/>
              <p:nvPr/>
            </p:nvSpPr>
            <p:spPr>
              <a:xfrm flipV="1">
                <a:off x="5603760" y="23979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8" name=""/>
            <p:cNvGrpSpPr/>
            <p:nvPr/>
          </p:nvGrpSpPr>
          <p:grpSpPr>
            <a:xfrm>
              <a:off x="1565280" y="2135160"/>
              <a:ext cx="950760" cy="671400"/>
              <a:chOff x="1565280" y="2135160"/>
              <a:chExt cx="950760" cy="671400"/>
            </a:xfrm>
          </p:grpSpPr>
          <p:sp>
            <p:nvSpPr>
              <p:cNvPr id="4879" name=""/>
              <p:cNvSpPr/>
              <p:nvPr/>
            </p:nvSpPr>
            <p:spPr>
              <a:xfrm>
                <a:off x="1565280" y="2135160"/>
                <a:ext cx="646200" cy="366480"/>
              </a:xfrm>
              <a:custGeom>
                <a:avLst/>
                <a:gdLst>
                  <a:gd name="textAreaLeft" fmla="*/ 0 w 646200"/>
                  <a:gd name="textAreaRight" fmla="*/ 646560 w 646200"/>
                  <a:gd name="textAreaTop" fmla="*/ 0 h 366480"/>
                  <a:gd name="textAreaBottom" fmla="*/ 366840 h 36648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0" name=""/>
              <p:cNvSpPr/>
              <p:nvPr/>
            </p:nvSpPr>
            <p:spPr>
              <a:xfrm>
                <a:off x="1717560" y="2287440"/>
                <a:ext cx="646200" cy="366840"/>
              </a:xfrm>
              <a:custGeom>
                <a:avLst/>
                <a:gdLst>
                  <a:gd name="textAreaLeft" fmla="*/ 0 w 646200"/>
                  <a:gd name="textAreaRight" fmla="*/ 646560 w 64620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1" name=""/>
              <p:cNvSpPr/>
              <p:nvPr/>
            </p:nvSpPr>
            <p:spPr>
              <a:xfrm>
                <a:off x="1870200" y="2439720"/>
                <a:ext cx="645840" cy="366840"/>
              </a:xfrm>
              <a:custGeom>
                <a:avLst/>
                <a:gdLst>
                  <a:gd name="textAreaLeft" fmla="*/ 0 w 645840"/>
                  <a:gd name="textAreaRight" fmla="*/ 646200 w 64584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82" name=""/>
          <p:cNvSpPr/>
          <p:nvPr/>
        </p:nvSpPr>
        <p:spPr>
          <a:xfrm>
            <a:off x="1500120" y="1098720"/>
            <a:ext cx="6210360" cy="32040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883" name=""/>
          <p:cNvGrpSpPr/>
          <p:nvPr/>
        </p:nvGrpSpPr>
        <p:grpSpPr>
          <a:xfrm>
            <a:off x="498600" y="5146560"/>
            <a:ext cx="8246160" cy="905760"/>
            <a:chOff x="498600" y="5146560"/>
            <a:chExt cx="8246160" cy="905760"/>
          </a:xfrm>
        </p:grpSpPr>
        <p:grpSp>
          <p:nvGrpSpPr>
            <p:cNvPr id="4884" name=""/>
            <p:cNvGrpSpPr/>
            <p:nvPr/>
          </p:nvGrpSpPr>
          <p:grpSpPr>
            <a:xfrm>
              <a:off x="2133000" y="5261400"/>
              <a:ext cx="817560" cy="678240"/>
              <a:chOff x="2133000" y="5261400"/>
              <a:chExt cx="817560" cy="678240"/>
            </a:xfrm>
          </p:grpSpPr>
          <p:sp>
            <p:nvSpPr>
              <p:cNvPr id="4885" name=""/>
              <p:cNvSpPr/>
              <p:nvPr/>
            </p:nvSpPr>
            <p:spPr>
              <a:xfrm>
                <a:off x="2222640" y="5338440"/>
                <a:ext cx="727920" cy="601200"/>
              </a:xfrm>
              <a:custGeom>
                <a:avLst/>
                <a:gdLst/>
                <a:ahLst/>
                <a:rect l="l" t="t" r="r" b="b"/>
                <a:pathLst>
                  <a:path w="9934" h="9946">
                    <a:moveTo>
                      <a:pt x="8690" y="0"/>
                    </a:moveTo>
                    <a:lnTo>
                      <a:pt x="8690" y="8703"/>
                    </a:lnTo>
                    <a:lnTo>
                      <a:pt x="0" y="8703"/>
                    </a:lnTo>
                    <a:lnTo>
                      <a:pt x="0" y="9946"/>
                    </a:lnTo>
                    <a:lnTo>
                      <a:pt x="9934" y="9946"/>
                    </a:lnTo>
                    <a:lnTo>
                      <a:pt x="9934" y="0"/>
                    </a:lnTo>
                    <a:lnTo>
                      <a:pt x="86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6" name=""/>
              <p:cNvSpPr/>
              <p:nvPr/>
            </p:nvSpPr>
            <p:spPr>
              <a:xfrm>
                <a:off x="2133000" y="5261400"/>
                <a:ext cx="728280" cy="606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7" name=""/>
              <p:cNvSpPr/>
              <p:nvPr/>
            </p:nvSpPr>
            <p:spPr>
              <a:xfrm>
                <a:off x="2133000" y="5261400"/>
                <a:ext cx="227160" cy="606600"/>
              </a:xfrm>
              <a:prstGeom prst="rect">
                <a:avLst/>
              </a:prstGeom>
              <a:solidFill>
                <a:srgbClr val="00ea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8" name=""/>
              <p:cNvSpPr/>
              <p:nvPr/>
            </p:nvSpPr>
            <p:spPr>
              <a:xfrm>
                <a:off x="2363040" y="5336280"/>
                <a:ext cx="497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89" name=""/>
              <p:cNvSpPr/>
              <p:nvPr/>
            </p:nvSpPr>
            <p:spPr>
              <a:xfrm>
                <a:off x="2363040" y="5411880"/>
                <a:ext cx="497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0" name=""/>
              <p:cNvSpPr/>
              <p:nvPr/>
            </p:nvSpPr>
            <p:spPr>
              <a:xfrm>
                <a:off x="2363040" y="5489280"/>
                <a:ext cx="497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1" name=""/>
              <p:cNvSpPr/>
              <p:nvPr/>
            </p:nvSpPr>
            <p:spPr>
              <a:xfrm>
                <a:off x="2363040" y="5564160"/>
                <a:ext cx="497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2" name=""/>
              <p:cNvSpPr/>
              <p:nvPr/>
            </p:nvSpPr>
            <p:spPr>
              <a:xfrm>
                <a:off x="2363040" y="5639760"/>
                <a:ext cx="497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3" name=""/>
              <p:cNvSpPr/>
              <p:nvPr/>
            </p:nvSpPr>
            <p:spPr>
              <a:xfrm>
                <a:off x="2363040" y="5715360"/>
                <a:ext cx="497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4" name=""/>
              <p:cNvSpPr/>
              <p:nvPr/>
            </p:nvSpPr>
            <p:spPr>
              <a:xfrm>
                <a:off x="2363040" y="5791320"/>
                <a:ext cx="497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5" name=""/>
              <p:cNvSpPr/>
              <p:nvPr/>
            </p:nvSpPr>
            <p:spPr>
              <a:xfrm>
                <a:off x="2453040" y="5261400"/>
                <a:ext cx="360" cy="60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6" name=""/>
              <p:cNvSpPr/>
              <p:nvPr/>
            </p:nvSpPr>
            <p:spPr>
              <a:xfrm>
                <a:off x="2366280" y="5261400"/>
                <a:ext cx="360" cy="60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7" name=""/>
              <p:cNvSpPr/>
              <p:nvPr/>
            </p:nvSpPr>
            <p:spPr>
              <a:xfrm>
                <a:off x="2543040" y="5261400"/>
                <a:ext cx="360" cy="60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8" name=""/>
              <p:cNvSpPr/>
              <p:nvPr/>
            </p:nvSpPr>
            <p:spPr>
              <a:xfrm>
                <a:off x="2634480" y="5261400"/>
                <a:ext cx="360" cy="60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9" name=""/>
              <p:cNvSpPr/>
              <p:nvPr/>
            </p:nvSpPr>
            <p:spPr>
              <a:xfrm>
                <a:off x="2725920" y="5261400"/>
                <a:ext cx="360" cy="60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0" name=""/>
              <p:cNvSpPr/>
              <p:nvPr/>
            </p:nvSpPr>
            <p:spPr>
              <a:xfrm>
                <a:off x="2817720" y="5261400"/>
                <a:ext cx="360" cy="60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1" name=""/>
              <p:cNvSpPr/>
              <p:nvPr/>
            </p:nvSpPr>
            <p:spPr>
              <a:xfrm>
                <a:off x="2361960" y="5298840"/>
                <a:ext cx="64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2" name=""/>
              <p:cNvSpPr/>
              <p:nvPr/>
            </p:nvSpPr>
            <p:spPr>
              <a:xfrm>
                <a:off x="2361960" y="5526720"/>
                <a:ext cx="64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3" name=""/>
              <p:cNvSpPr/>
              <p:nvPr/>
            </p:nvSpPr>
            <p:spPr>
              <a:xfrm>
                <a:off x="2361960" y="5374800"/>
                <a:ext cx="64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4" name=""/>
              <p:cNvSpPr/>
              <p:nvPr/>
            </p:nvSpPr>
            <p:spPr>
              <a:xfrm>
                <a:off x="2361960" y="5602320"/>
                <a:ext cx="64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5" name=""/>
              <p:cNvSpPr/>
              <p:nvPr/>
            </p:nvSpPr>
            <p:spPr>
              <a:xfrm>
                <a:off x="2361960" y="5754240"/>
                <a:ext cx="64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6" name=""/>
              <p:cNvSpPr/>
              <p:nvPr/>
            </p:nvSpPr>
            <p:spPr>
              <a:xfrm>
                <a:off x="2361960" y="5450400"/>
                <a:ext cx="64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7" name=""/>
              <p:cNvSpPr/>
              <p:nvPr/>
            </p:nvSpPr>
            <p:spPr>
              <a:xfrm>
                <a:off x="2361960" y="5678640"/>
                <a:ext cx="64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8" name=""/>
              <p:cNvSpPr/>
              <p:nvPr/>
            </p:nvSpPr>
            <p:spPr>
              <a:xfrm>
                <a:off x="2361960" y="5829840"/>
                <a:ext cx="64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9" name=""/>
              <p:cNvSpPr/>
              <p:nvPr/>
            </p:nvSpPr>
            <p:spPr>
              <a:xfrm>
                <a:off x="2201400" y="5298840"/>
                <a:ext cx="136440" cy="113040"/>
              </a:xfrm>
              <a:custGeom>
                <a:avLst/>
                <a:gdLst/>
                <a:ahLst/>
                <a:rect l="l" t="t" r="r" b="b"/>
                <a:pathLst>
                  <a:path w="1860" h="1871">
                    <a:moveTo>
                      <a:pt x="1860" y="0"/>
                    </a:moveTo>
                    <a:lnTo>
                      <a:pt x="0" y="1871"/>
                    </a:lnTo>
                    <a:lnTo>
                      <a:pt x="1860" y="1871"/>
                    </a:lnTo>
                    <a:lnTo>
                      <a:pt x="18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0" name=""/>
              <p:cNvSpPr/>
              <p:nvPr/>
            </p:nvSpPr>
            <p:spPr>
              <a:xfrm>
                <a:off x="2201400" y="5298840"/>
                <a:ext cx="136440" cy="113040"/>
              </a:xfrm>
              <a:custGeom>
                <a:avLst/>
                <a:gdLst/>
                <a:ahLst/>
                <a:rect l="l" t="t" r="r" b="b"/>
                <a:pathLst>
                  <a:path w="1860" h="1871">
                    <a:moveTo>
                      <a:pt x="1860" y="0"/>
                    </a:moveTo>
                    <a:lnTo>
                      <a:pt x="0" y="0"/>
                    </a:lnTo>
                    <a:lnTo>
                      <a:pt x="0" y="1871"/>
                    </a:lnTo>
                    <a:lnTo>
                      <a:pt x="18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1" name=""/>
              <p:cNvSpPr/>
              <p:nvPr/>
            </p:nvSpPr>
            <p:spPr>
              <a:xfrm>
                <a:off x="2225880" y="5319360"/>
                <a:ext cx="83520" cy="70920"/>
              </a:xfrm>
              <a:prstGeom prst="rect">
                <a:avLst/>
              </a:prstGeom>
              <a:solidFill>
                <a:srgbClr val="ff0000"/>
              </a:solidFill>
              <a:ln w="0">
                <a:solidFill>
                  <a:srgbClr val="000000"/>
                </a:solid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12" name=""/>
              <p:cNvSpPr/>
              <p:nvPr/>
            </p:nvSpPr>
            <p:spPr>
              <a:xfrm>
                <a:off x="2201400" y="5450400"/>
                <a:ext cx="136440" cy="113400"/>
              </a:xfrm>
              <a:custGeom>
                <a:avLst/>
                <a:gdLst/>
                <a:ahLst/>
                <a:rect l="l" t="t" r="r" b="b"/>
                <a:pathLst>
                  <a:path w="1860" h="1876">
                    <a:moveTo>
                      <a:pt x="1860" y="0"/>
                    </a:moveTo>
                    <a:lnTo>
                      <a:pt x="0" y="1876"/>
                    </a:lnTo>
                    <a:lnTo>
                      <a:pt x="1860" y="1876"/>
                    </a:lnTo>
                    <a:lnTo>
                      <a:pt x="18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3" name=""/>
              <p:cNvSpPr/>
              <p:nvPr/>
            </p:nvSpPr>
            <p:spPr>
              <a:xfrm>
                <a:off x="2201400" y="5450400"/>
                <a:ext cx="136440" cy="113400"/>
              </a:xfrm>
              <a:custGeom>
                <a:avLst/>
                <a:gdLst/>
                <a:ahLst/>
                <a:rect l="l" t="t" r="r" b="b"/>
                <a:pathLst>
                  <a:path w="1860" h="1876">
                    <a:moveTo>
                      <a:pt x="1860" y="0"/>
                    </a:moveTo>
                    <a:lnTo>
                      <a:pt x="0" y="0"/>
                    </a:lnTo>
                    <a:lnTo>
                      <a:pt x="0" y="1876"/>
                    </a:lnTo>
                    <a:lnTo>
                      <a:pt x="18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4" name=""/>
              <p:cNvSpPr/>
              <p:nvPr/>
            </p:nvSpPr>
            <p:spPr>
              <a:xfrm>
                <a:off x="2225880" y="5470560"/>
                <a:ext cx="83520" cy="70920"/>
              </a:xfrm>
              <a:prstGeom prst="rect">
                <a:avLst/>
              </a:prstGeom>
              <a:solidFill>
                <a:srgbClr val="ff0000"/>
              </a:solidFill>
              <a:ln w="0">
                <a:solidFill>
                  <a:srgbClr val="000000"/>
                </a:solid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15" name=""/>
              <p:cNvSpPr/>
              <p:nvPr/>
            </p:nvSpPr>
            <p:spPr>
              <a:xfrm>
                <a:off x="2201400" y="5602320"/>
                <a:ext cx="136440" cy="113040"/>
              </a:xfrm>
              <a:custGeom>
                <a:avLst/>
                <a:gdLst/>
                <a:ahLst/>
                <a:rect l="l" t="t" r="r" b="b"/>
                <a:pathLst>
                  <a:path w="1860" h="1869">
                    <a:moveTo>
                      <a:pt x="1860" y="0"/>
                    </a:moveTo>
                    <a:lnTo>
                      <a:pt x="0" y="1869"/>
                    </a:lnTo>
                    <a:lnTo>
                      <a:pt x="1860" y="1869"/>
                    </a:lnTo>
                    <a:lnTo>
                      <a:pt x="18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6" name=""/>
              <p:cNvSpPr/>
              <p:nvPr/>
            </p:nvSpPr>
            <p:spPr>
              <a:xfrm>
                <a:off x="2201400" y="5602320"/>
                <a:ext cx="136440" cy="113040"/>
              </a:xfrm>
              <a:custGeom>
                <a:avLst/>
                <a:gdLst/>
                <a:ahLst/>
                <a:rect l="l" t="t" r="r" b="b"/>
                <a:pathLst>
                  <a:path w="1860" h="1869">
                    <a:moveTo>
                      <a:pt x="1860" y="0"/>
                    </a:moveTo>
                    <a:lnTo>
                      <a:pt x="0" y="0"/>
                    </a:lnTo>
                    <a:lnTo>
                      <a:pt x="0" y="1869"/>
                    </a:lnTo>
                    <a:lnTo>
                      <a:pt x="18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7" name=""/>
              <p:cNvSpPr/>
              <p:nvPr/>
            </p:nvSpPr>
            <p:spPr>
              <a:xfrm>
                <a:off x="2225880" y="5622480"/>
                <a:ext cx="83520" cy="71640"/>
              </a:xfrm>
              <a:prstGeom prst="rect">
                <a:avLst/>
              </a:prstGeom>
              <a:solidFill>
                <a:srgbClr val="ff0000"/>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918" name=""/>
              <p:cNvSpPr/>
              <p:nvPr/>
            </p:nvSpPr>
            <p:spPr>
              <a:xfrm>
                <a:off x="2202120" y="5754240"/>
                <a:ext cx="42480" cy="36720"/>
              </a:xfrm>
              <a:custGeom>
                <a:avLst/>
                <a:gdLst/>
                <a:ahLst/>
                <a:rect l="l" t="t" r="r" b="b"/>
                <a:pathLst>
                  <a:path w="583" h="606">
                    <a:moveTo>
                      <a:pt x="288" y="0"/>
                    </a:moveTo>
                    <a:lnTo>
                      <a:pt x="455" y="58"/>
                    </a:lnTo>
                    <a:lnTo>
                      <a:pt x="576" y="206"/>
                    </a:lnTo>
                    <a:lnTo>
                      <a:pt x="583" y="330"/>
                    </a:lnTo>
                    <a:lnTo>
                      <a:pt x="535" y="491"/>
                    </a:lnTo>
                    <a:lnTo>
                      <a:pt x="371" y="606"/>
                    </a:lnTo>
                    <a:lnTo>
                      <a:pt x="214" y="606"/>
                    </a:lnTo>
                    <a:lnTo>
                      <a:pt x="47" y="491"/>
                    </a:lnTo>
                    <a:lnTo>
                      <a:pt x="0" y="297"/>
                    </a:lnTo>
                    <a:lnTo>
                      <a:pt x="47" y="132"/>
                    </a:lnTo>
                    <a:lnTo>
                      <a:pt x="214" y="15"/>
                    </a:lnTo>
                    <a:lnTo>
                      <a:pt x="288"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9" name=""/>
              <p:cNvSpPr/>
              <p:nvPr/>
            </p:nvSpPr>
            <p:spPr>
              <a:xfrm>
                <a:off x="2207160" y="5759640"/>
                <a:ext cx="21600" cy="18720"/>
              </a:xfrm>
              <a:custGeom>
                <a:avLst/>
                <a:gdLst/>
                <a:ahLst/>
                <a:rect l="l" t="t" r="r" b="b"/>
                <a:pathLst>
                  <a:path w="295" h="315">
                    <a:moveTo>
                      <a:pt x="145" y="0"/>
                    </a:moveTo>
                    <a:lnTo>
                      <a:pt x="295" y="144"/>
                    </a:lnTo>
                    <a:lnTo>
                      <a:pt x="191" y="315"/>
                    </a:lnTo>
                    <a:lnTo>
                      <a:pt x="35" y="268"/>
                    </a:lnTo>
                    <a:lnTo>
                      <a:pt x="0" y="144"/>
                    </a:lnTo>
                    <a:lnTo>
                      <a:pt x="145" y="0"/>
                    </a:lnTo>
                    <a:close/>
                  </a:path>
                </a:pathLst>
              </a:custGeom>
              <a:solidFill>
                <a:srgbClr val="ffffff"/>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20" name=""/>
              <p:cNvSpPr/>
              <p:nvPr/>
            </p:nvSpPr>
            <p:spPr>
              <a:xfrm>
                <a:off x="2292840" y="5754240"/>
                <a:ext cx="43200" cy="36720"/>
              </a:xfrm>
              <a:custGeom>
                <a:avLst/>
                <a:gdLst/>
                <a:ahLst/>
                <a:rect l="l" t="t" r="r" b="b"/>
                <a:pathLst>
                  <a:path w="591" h="606">
                    <a:moveTo>
                      <a:pt x="297" y="0"/>
                    </a:moveTo>
                    <a:lnTo>
                      <a:pt x="462" y="58"/>
                    </a:lnTo>
                    <a:lnTo>
                      <a:pt x="579" y="206"/>
                    </a:lnTo>
                    <a:lnTo>
                      <a:pt x="591" y="330"/>
                    </a:lnTo>
                    <a:lnTo>
                      <a:pt x="544" y="491"/>
                    </a:lnTo>
                    <a:lnTo>
                      <a:pt x="379" y="606"/>
                    </a:lnTo>
                    <a:lnTo>
                      <a:pt x="202" y="606"/>
                    </a:lnTo>
                    <a:lnTo>
                      <a:pt x="56" y="491"/>
                    </a:lnTo>
                    <a:lnTo>
                      <a:pt x="0" y="297"/>
                    </a:lnTo>
                    <a:lnTo>
                      <a:pt x="56" y="132"/>
                    </a:lnTo>
                    <a:lnTo>
                      <a:pt x="202" y="15"/>
                    </a:lnTo>
                    <a:lnTo>
                      <a:pt x="29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21" name=""/>
              <p:cNvSpPr/>
              <p:nvPr/>
            </p:nvSpPr>
            <p:spPr>
              <a:xfrm>
                <a:off x="2298600" y="5759640"/>
                <a:ext cx="22320" cy="18720"/>
              </a:xfrm>
              <a:custGeom>
                <a:avLst/>
                <a:gdLst/>
                <a:ahLst/>
                <a:rect l="l" t="t" r="r" b="b"/>
                <a:pathLst>
                  <a:path w="300" h="315">
                    <a:moveTo>
                      <a:pt x="148" y="0"/>
                    </a:moveTo>
                    <a:lnTo>
                      <a:pt x="300" y="144"/>
                    </a:lnTo>
                    <a:lnTo>
                      <a:pt x="191" y="315"/>
                    </a:lnTo>
                    <a:lnTo>
                      <a:pt x="33" y="268"/>
                    </a:lnTo>
                    <a:lnTo>
                      <a:pt x="0" y="144"/>
                    </a:lnTo>
                    <a:lnTo>
                      <a:pt x="148" y="0"/>
                    </a:lnTo>
                    <a:close/>
                  </a:path>
                </a:pathLst>
              </a:custGeom>
              <a:solidFill>
                <a:srgbClr val="ffffff"/>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22" name=""/>
              <p:cNvSpPr/>
              <p:nvPr/>
            </p:nvSpPr>
            <p:spPr>
              <a:xfrm>
                <a:off x="2360160" y="5451480"/>
                <a:ext cx="501120" cy="152280"/>
              </a:xfrm>
              <a:custGeom>
                <a:avLst/>
                <a:gdLst/>
                <a:ahLst/>
                <a:rect l="l" t="t" r="r" b="b"/>
                <a:pathLst>
                  <a:path w="6842" h="2521">
                    <a:moveTo>
                      <a:pt x="0" y="1263"/>
                    </a:moveTo>
                    <a:lnTo>
                      <a:pt x="626" y="1263"/>
                    </a:lnTo>
                    <a:lnTo>
                      <a:pt x="626" y="2521"/>
                    </a:lnTo>
                    <a:lnTo>
                      <a:pt x="1869" y="2521"/>
                    </a:lnTo>
                    <a:lnTo>
                      <a:pt x="1869" y="1263"/>
                    </a:lnTo>
                    <a:lnTo>
                      <a:pt x="3098" y="1263"/>
                    </a:lnTo>
                    <a:lnTo>
                      <a:pt x="3098" y="2521"/>
                    </a:lnTo>
                    <a:lnTo>
                      <a:pt x="4343" y="2521"/>
                    </a:lnTo>
                    <a:lnTo>
                      <a:pt x="4343" y="1263"/>
                    </a:lnTo>
                    <a:lnTo>
                      <a:pt x="5599" y="1263"/>
                    </a:lnTo>
                    <a:lnTo>
                      <a:pt x="5599" y="0"/>
                    </a:lnTo>
                    <a:lnTo>
                      <a:pt x="684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3" name=""/>
            <p:cNvGrpSpPr/>
            <p:nvPr/>
          </p:nvGrpSpPr>
          <p:grpSpPr>
            <a:xfrm>
              <a:off x="3349800" y="5146560"/>
              <a:ext cx="1020960" cy="905760"/>
              <a:chOff x="3349800" y="5146560"/>
              <a:chExt cx="1020960" cy="905760"/>
            </a:xfrm>
          </p:grpSpPr>
          <p:sp>
            <p:nvSpPr>
              <p:cNvPr id="4924" name=""/>
              <p:cNvSpPr/>
              <p:nvPr/>
            </p:nvSpPr>
            <p:spPr>
              <a:xfrm>
                <a:off x="3349800" y="5215320"/>
                <a:ext cx="981360" cy="83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5" name=""/>
              <p:cNvSpPr/>
              <p:nvPr/>
            </p:nvSpPr>
            <p:spPr>
              <a:xfrm>
                <a:off x="3389040" y="5146560"/>
                <a:ext cx="981720" cy="837000"/>
              </a:xfrm>
              <a:prstGeom prst="rect">
                <a:avLst/>
              </a:prstGeom>
              <a:solidFill>
                <a:srgbClr val="00ea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6" name=""/>
              <p:cNvSpPr/>
              <p:nvPr/>
            </p:nvSpPr>
            <p:spPr>
              <a:xfrm>
                <a:off x="3393000" y="5289480"/>
                <a:ext cx="97452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7" name=""/>
              <p:cNvSpPr/>
              <p:nvPr/>
            </p:nvSpPr>
            <p:spPr>
              <a:xfrm>
                <a:off x="3393000" y="5426640"/>
                <a:ext cx="97452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8" name=""/>
              <p:cNvSpPr/>
              <p:nvPr/>
            </p:nvSpPr>
            <p:spPr>
              <a:xfrm>
                <a:off x="3393000" y="5564880"/>
                <a:ext cx="97452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9" name=""/>
              <p:cNvSpPr/>
              <p:nvPr/>
            </p:nvSpPr>
            <p:spPr>
              <a:xfrm>
                <a:off x="3393000" y="5707800"/>
                <a:ext cx="97452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30" name=""/>
              <p:cNvSpPr/>
              <p:nvPr/>
            </p:nvSpPr>
            <p:spPr>
              <a:xfrm>
                <a:off x="3393000" y="5845680"/>
                <a:ext cx="97452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31" name=""/>
              <p:cNvSpPr/>
              <p:nvPr/>
            </p:nvSpPr>
            <p:spPr>
              <a:xfrm>
                <a:off x="3531240" y="5150880"/>
                <a:ext cx="360" cy="82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2" name=""/>
              <p:cNvSpPr/>
              <p:nvPr/>
            </p:nvSpPr>
            <p:spPr>
              <a:xfrm>
                <a:off x="3669480" y="5150880"/>
                <a:ext cx="360" cy="82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3" name=""/>
              <p:cNvSpPr/>
              <p:nvPr/>
            </p:nvSpPr>
            <p:spPr>
              <a:xfrm>
                <a:off x="3811320" y="5150880"/>
                <a:ext cx="360" cy="82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4" name=""/>
              <p:cNvSpPr/>
              <p:nvPr/>
            </p:nvSpPr>
            <p:spPr>
              <a:xfrm>
                <a:off x="3953160" y="5150880"/>
                <a:ext cx="360" cy="82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5" name=""/>
              <p:cNvSpPr/>
              <p:nvPr/>
            </p:nvSpPr>
            <p:spPr>
              <a:xfrm>
                <a:off x="4090680" y="5150880"/>
                <a:ext cx="360" cy="82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6" name=""/>
              <p:cNvSpPr/>
              <p:nvPr/>
            </p:nvSpPr>
            <p:spPr>
              <a:xfrm>
                <a:off x="4233600" y="5150880"/>
                <a:ext cx="360" cy="82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7" name=""/>
              <p:cNvSpPr/>
              <p:nvPr/>
            </p:nvSpPr>
            <p:spPr>
              <a:xfrm>
                <a:off x="3389760" y="5279040"/>
                <a:ext cx="901080" cy="604800"/>
              </a:xfrm>
              <a:custGeom>
                <a:avLst/>
                <a:gdLst/>
                <a:ahLst/>
                <a:rect l="l" t="t" r="r" b="b"/>
                <a:pathLst>
                  <a:path w="12933" h="8684">
                    <a:moveTo>
                      <a:pt x="0" y="6507"/>
                    </a:moveTo>
                    <a:lnTo>
                      <a:pt x="0" y="4954"/>
                    </a:lnTo>
                    <a:lnTo>
                      <a:pt x="2131" y="6888"/>
                    </a:lnTo>
                    <a:lnTo>
                      <a:pt x="5185" y="2420"/>
                    </a:lnTo>
                    <a:lnTo>
                      <a:pt x="8230" y="5026"/>
                    </a:lnTo>
                    <a:lnTo>
                      <a:pt x="11191" y="1240"/>
                    </a:lnTo>
                    <a:lnTo>
                      <a:pt x="10466" y="804"/>
                    </a:lnTo>
                    <a:lnTo>
                      <a:pt x="12933" y="0"/>
                    </a:lnTo>
                    <a:lnTo>
                      <a:pt x="12933" y="2359"/>
                    </a:lnTo>
                    <a:lnTo>
                      <a:pt x="12256" y="1926"/>
                    </a:lnTo>
                    <a:lnTo>
                      <a:pt x="8471" y="6764"/>
                    </a:lnTo>
                    <a:lnTo>
                      <a:pt x="5432" y="4161"/>
                    </a:lnTo>
                    <a:lnTo>
                      <a:pt x="2371" y="8684"/>
                    </a:lnTo>
                    <a:lnTo>
                      <a:pt x="0" y="6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8" name=""/>
              <p:cNvSpPr/>
              <p:nvPr/>
            </p:nvSpPr>
            <p:spPr>
              <a:xfrm>
                <a:off x="3389760" y="5231520"/>
                <a:ext cx="901080" cy="603720"/>
              </a:xfrm>
              <a:custGeom>
                <a:avLst/>
                <a:gdLst/>
                <a:ahLst/>
                <a:rect l="l" t="t" r="r" b="b"/>
                <a:pathLst>
                  <a:path w="12933" h="8676">
                    <a:moveTo>
                      <a:pt x="0" y="6503"/>
                    </a:moveTo>
                    <a:lnTo>
                      <a:pt x="0" y="4950"/>
                    </a:lnTo>
                    <a:lnTo>
                      <a:pt x="2131" y="6882"/>
                    </a:lnTo>
                    <a:lnTo>
                      <a:pt x="5185" y="2421"/>
                    </a:lnTo>
                    <a:lnTo>
                      <a:pt x="8230" y="5022"/>
                    </a:lnTo>
                    <a:lnTo>
                      <a:pt x="11191" y="1249"/>
                    </a:lnTo>
                    <a:lnTo>
                      <a:pt x="10466" y="806"/>
                    </a:lnTo>
                    <a:lnTo>
                      <a:pt x="12933" y="0"/>
                    </a:lnTo>
                    <a:lnTo>
                      <a:pt x="12933" y="2351"/>
                    </a:lnTo>
                    <a:lnTo>
                      <a:pt x="12256" y="1923"/>
                    </a:lnTo>
                    <a:lnTo>
                      <a:pt x="8471" y="6760"/>
                    </a:lnTo>
                    <a:lnTo>
                      <a:pt x="5432" y="4156"/>
                    </a:lnTo>
                    <a:lnTo>
                      <a:pt x="2371" y="8676"/>
                    </a:lnTo>
                    <a:lnTo>
                      <a:pt x="0" y="650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9" name=""/>
            <p:cNvGrpSpPr/>
            <p:nvPr/>
          </p:nvGrpSpPr>
          <p:grpSpPr>
            <a:xfrm>
              <a:off x="6105960" y="5226480"/>
              <a:ext cx="539640" cy="743400"/>
              <a:chOff x="6105960" y="5226480"/>
              <a:chExt cx="539640" cy="743400"/>
            </a:xfrm>
          </p:grpSpPr>
          <p:sp>
            <p:nvSpPr>
              <p:cNvPr id="4940" name=""/>
              <p:cNvSpPr/>
              <p:nvPr/>
            </p:nvSpPr>
            <p:spPr>
              <a:xfrm>
                <a:off x="6105960" y="5226480"/>
                <a:ext cx="539640" cy="74340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41" name=""/>
              <p:cNvGrpSpPr/>
              <p:nvPr/>
            </p:nvGrpSpPr>
            <p:grpSpPr>
              <a:xfrm>
                <a:off x="6229440" y="5287680"/>
                <a:ext cx="290880" cy="615960"/>
                <a:chOff x="6229440" y="5287680"/>
                <a:chExt cx="290880" cy="615960"/>
              </a:xfrm>
            </p:grpSpPr>
            <p:sp>
              <p:nvSpPr>
                <p:cNvPr id="4942" name=""/>
                <p:cNvSpPr/>
                <p:nvPr/>
              </p:nvSpPr>
              <p:spPr>
                <a:xfrm>
                  <a:off x="6255000" y="5287680"/>
                  <a:ext cx="85680" cy="87840"/>
                </a:xfrm>
                <a:prstGeom prst="flowChartSummingJunction">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943" name=""/>
                <p:cNvSpPr/>
                <p:nvPr/>
              </p:nvSpPr>
              <p:spPr>
                <a:xfrm>
                  <a:off x="6229440" y="5551560"/>
                  <a:ext cx="137160" cy="87840"/>
                </a:xfrm>
                <a:prstGeom prst="flowChartDecision">
                  <a:avLst/>
                </a:prstGeom>
                <a:solidFill>
                  <a:srgbClr val="ffff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944" name=""/>
                <p:cNvSpPr/>
                <p:nvPr/>
              </p:nvSpPr>
              <p:spPr>
                <a:xfrm>
                  <a:off x="6246360" y="5428440"/>
                  <a:ext cx="102600" cy="7020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945" name=""/>
                <p:cNvSpPr/>
                <p:nvPr/>
              </p:nvSpPr>
              <p:spPr>
                <a:xfrm>
                  <a:off x="6255000" y="5815800"/>
                  <a:ext cx="85680" cy="87840"/>
                </a:xfrm>
                <a:prstGeom prst="flowChartSummingJunction">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946" name=""/>
                <p:cNvSpPr/>
                <p:nvPr/>
              </p:nvSpPr>
              <p:spPr>
                <a:xfrm>
                  <a:off x="6417720" y="5622120"/>
                  <a:ext cx="102600" cy="7020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947" name=""/>
                <p:cNvSpPr/>
                <p:nvPr/>
              </p:nvSpPr>
              <p:spPr>
                <a:xfrm>
                  <a:off x="6417720" y="5727960"/>
                  <a:ext cx="102600" cy="7020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948" name=""/>
                <p:cNvSpPr/>
                <p:nvPr/>
              </p:nvSpPr>
              <p:spPr>
                <a:xfrm>
                  <a:off x="6246360" y="5692680"/>
                  <a:ext cx="102600" cy="7020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cxnSp>
              <p:nvCxnSpPr>
                <p:cNvPr id="4949" name=""/>
                <p:cNvCxnSpPr>
                  <a:stCxn id="4942" idx="4"/>
                  <a:endCxn id="4944" idx="0"/>
                </p:cNvCxnSpPr>
                <p:nvPr/>
              </p:nvCxnSpPr>
              <p:spPr>
                <a:xfrm>
                  <a:off x="6297480" y="5375520"/>
                  <a:ext cx="1080" cy="53280"/>
                </a:xfrm>
                <a:prstGeom prst="straightConnector1">
                  <a:avLst/>
                </a:prstGeom>
                <a:ln w="9360">
                  <a:solidFill>
                    <a:srgbClr val="000000"/>
                  </a:solidFill>
                  <a:miter/>
                </a:ln>
              </p:spPr>
            </p:cxnSp>
            <p:cxnSp>
              <p:nvCxnSpPr>
                <p:cNvPr id="4950" name=""/>
                <p:cNvCxnSpPr>
                  <a:stCxn id="4944" idx="2"/>
                  <a:endCxn id="4943" idx="0"/>
                </p:cNvCxnSpPr>
                <p:nvPr/>
              </p:nvCxnSpPr>
              <p:spPr>
                <a:xfrm>
                  <a:off x="6297480" y="5499000"/>
                  <a:ext cx="1080" cy="53280"/>
                </a:xfrm>
                <a:prstGeom prst="straightConnector1">
                  <a:avLst/>
                </a:prstGeom>
                <a:ln w="9360">
                  <a:solidFill>
                    <a:srgbClr val="000000"/>
                  </a:solidFill>
                  <a:miter/>
                </a:ln>
              </p:spPr>
            </p:cxnSp>
            <p:cxnSp>
              <p:nvCxnSpPr>
                <p:cNvPr id="4951" name=""/>
                <p:cNvCxnSpPr>
                  <a:stCxn id="4943" idx="2"/>
                  <a:endCxn id="4948" idx="0"/>
                </p:cNvCxnSpPr>
                <p:nvPr/>
              </p:nvCxnSpPr>
              <p:spPr>
                <a:xfrm>
                  <a:off x="6297480" y="5639760"/>
                  <a:ext cx="1080" cy="53280"/>
                </a:xfrm>
                <a:prstGeom prst="straightConnector1">
                  <a:avLst/>
                </a:prstGeom>
                <a:ln w="9360">
                  <a:solidFill>
                    <a:srgbClr val="000000"/>
                  </a:solidFill>
                  <a:miter/>
                </a:ln>
              </p:spPr>
            </p:cxnSp>
            <p:cxnSp>
              <p:nvCxnSpPr>
                <p:cNvPr id="4952" name=""/>
                <p:cNvCxnSpPr>
                  <a:stCxn id="4948" idx="2"/>
                  <a:endCxn id="4945" idx="0"/>
                </p:cNvCxnSpPr>
                <p:nvPr/>
              </p:nvCxnSpPr>
              <p:spPr>
                <a:xfrm>
                  <a:off x="6297480" y="5763240"/>
                  <a:ext cx="1080" cy="53280"/>
                </a:xfrm>
                <a:prstGeom prst="straightConnector1">
                  <a:avLst/>
                </a:prstGeom>
                <a:ln w="9360">
                  <a:solidFill>
                    <a:srgbClr val="000000"/>
                  </a:solidFill>
                  <a:miter/>
                </a:ln>
              </p:spPr>
            </p:cxnSp>
            <p:cxnSp>
              <p:nvCxnSpPr>
                <p:cNvPr id="4953" name=""/>
                <p:cNvCxnSpPr>
                  <a:stCxn id="4944" idx="3"/>
                  <a:endCxn id="4946" idx="0"/>
                </p:cNvCxnSpPr>
                <p:nvPr/>
              </p:nvCxnSpPr>
              <p:spPr>
                <a:xfrm>
                  <a:off x="6348960" y="5463720"/>
                  <a:ext cx="120600" cy="159120"/>
                </a:xfrm>
                <a:prstGeom prst="bentConnector2">
                  <a:avLst/>
                </a:prstGeom>
                <a:ln w="9360">
                  <a:solidFill>
                    <a:srgbClr val="000000"/>
                  </a:solidFill>
                  <a:miter/>
                </a:ln>
              </p:spPr>
            </p:cxnSp>
            <p:cxnSp>
              <p:nvCxnSpPr>
                <p:cNvPr id="4954" name=""/>
                <p:cNvCxnSpPr>
                  <a:stCxn id="4946" idx="2"/>
                  <a:endCxn id="4947" idx="0"/>
                </p:cNvCxnSpPr>
                <p:nvPr/>
              </p:nvCxnSpPr>
              <p:spPr>
                <a:xfrm>
                  <a:off x="6468840" y="5692320"/>
                  <a:ext cx="1080" cy="35640"/>
                </a:xfrm>
                <a:prstGeom prst="straightConnector1">
                  <a:avLst/>
                </a:prstGeom>
                <a:ln w="9360">
                  <a:solidFill>
                    <a:srgbClr val="000000"/>
                  </a:solidFill>
                  <a:miter/>
                </a:ln>
              </p:spPr>
            </p:cxnSp>
            <p:cxnSp>
              <p:nvCxnSpPr>
                <p:cNvPr id="4955" name=""/>
                <p:cNvCxnSpPr>
                  <a:stCxn id="4947" idx="2"/>
                  <a:endCxn id="4945" idx="6"/>
                </p:cNvCxnSpPr>
                <p:nvPr/>
              </p:nvCxnSpPr>
              <p:spPr>
                <a:xfrm rot="5400000">
                  <a:off x="6373440" y="5764680"/>
                  <a:ext cx="62280" cy="129240"/>
                </a:xfrm>
                <a:prstGeom prst="bentConnector2">
                  <a:avLst/>
                </a:prstGeom>
                <a:ln w="9360">
                  <a:solidFill>
                    <a:srgbClr val="000000"/>
                  </a:solidFill>
                  <a:miter/>
                </a:ln>
              </p:spPr>
            </p:cxnSp>
          </p:grpSp>
        </p:grpSp>
        <p:pic>
          <p:nvPicPr>
            <p:cNvPr id="4956" name="" descr=""/>
            <p:cNvPicPr/>
            <p:nvPr/>
          </p:nvPicPr>
          <p:blipFill>
            <a:blip r:embed="rId1"/>
            <a:stretch/>
          </p:blipFill>
          <p:spPr>
            <a:xfrm>
              <a:off x="6967080" y="5239800"/>
              <a:ext cx="641520" cy="719280"/>
            </a:xfrm>
            <a:prstGeom prst="rect">
              <a:avLst/>
            </a:prstGeom>
            <a:ln w="0">
              <a:noFill/>
            </a:ln>
          </p:spPr>
        </p:pic>
        <p:grpSp>
          <p:nvGrpSpPr>
            <p:cNvPr id="4957" name=""/>
            <p:cNvGrpSpPr/>
            <p:nvPr/>
          </p:nvGrpSpPr>
          <p:grpSpPr>
            <a:xfrm>
              <a:off x="7753680" y="5170320"/>
              <a:ext cx="991080" cy="855720"/>
              <a:chOff x="7753680" y="5170320"/>
              <a:chExt cx="991080" cy="855720"/>
            </a:xfrm>
          </p:grpSpPr>
          <p:sp>
            <p:nvSpPr>
              <p:cNvPr id="4958" name=""/>
              <p:cNvSpPr/>
              <p:nvPr/>
            </p:nvSpPr>
            <p:spPr>
              <a:xfrm>
                <a:off x="7860960" y="5240880"/>
                <a:ext cx="883800" cy="726120"/>
              </a:xfrm>
              <a:custGeom>
                <a:avLst/>
                <a:gdLst/>
                <a:ahLst/>
                <a:rect l="l" t="t" r="r" b="b"/>
                <a:pathLst>
                  <a:path w="2043" h="1621">
                    <a:moveTo>
                      <a:pt x="0" y="0"/>
                    </a:moveTo>
                    <a:lnTo>
                      <a:pt x="36" y="1621"/>
                    </a:lnTo>
                    <a:lnTo>
                      <a:pt x="1682" y="1550"/>
                    </a:lnTo>
                    <a:lnTo>
                      <a:pt x="2043" y="191"/>
                    </a:lnTo>
                    <a:lnTo>
                      <a:pt x="0" y="0"/>
                    </a:lnTo>
                    <a:close/>
                  </a:path>
                </a:pathLst>
              </a:custGeom>
              <a:solidFill>
                <a:srgbClr val="ad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9" name=""/>
              <p:cNvSpPr/>
              <p:nvPr/>
            </p:nvSpPr>
            <p:spPr>
              <a:xfrm>
                <a:off x="7753680" y="5172120"/>
                <a:ext cx="458280" cy="655560"/>
              </a:xfrm>
              <a:custGeom>
                <a:avLst/>
                <a:gdLst/>
                <a:ahLst/>
                <a:rect l="l" t="t" r="r" b="b"/>
                <a:pathLst>
                  <a:path w="1060" h="1466">
                    <a:moveTo>
                      <a:pt x="711" y="0"/>
                    </a:moveTo>
                    <a:lnTo>
                      <a:pt x="553" y="864"/>
                    </a:lnTo>
                    <a:lnTo>
                      <a:pt x="854" y="903"/>
                    </a:lnTo>
                    <a:lnTo>
                      <a:pt x="890" y="967"/>
                    </a:lnTo>
                    <a:lnTo>
                      <a:pt x="553" y="903"/>
                    </a:lnTo>
                    <a:lnTo>
                      <a:pt x="0" y="1270"/>
                    </a:lnTo>
                    <a:lnTo>
                      <a:pt x="3" y="1414"/>
                    </a:lnTo>
                    <a:lnTo>
                      <a:pt x="164" y="1466"/>
                    </a:lnTo>
                    <a:lnTo>
                      <a:pt x="640" y="1220"/>
                    </a:lnTo>
                    <a:lnTo>
                      <a:pt x="1060" y="630"/>
                    </a:lnTo>
                    <a:lnTo>
                      <a:pt x="898" y="116"/>
                    </a:lnTo>
                    <a:lnTo>
                      <a:pt x="823" y="0"/>
                    </a:lnTo>
                    <a:lnTo>
                      <a:pt x="7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0" name=""/>
              <p:cNvSpPr/>
              <p:nvPr/>
            </p:nvSpPr>
            <p:spPr>
              <a:xfrm>
                <a:off x="7799400" y="5582880"/>
                <a:ext cx="765360" cy="443160"/>
              </a:xfrm>
              <a:custGeom>
                <a:avLst/>
                <a:gdLst/>
                <a:ahLst/>
                <a:rect l="l" t="t" r="r" b="b"/>
                <a:pathLst>
                  <a:path w="1770" h="989">
                    <a:moveTo>
                      <a:pt x="554" y="0"/>
                    </a:moveTo>
                    <a:lnTo>
                      <a:pt x="5" y="388"/>
                    </a:lnTo>
                    <a:lnTo>
                      <a:pt x="0" y="526"/>
                    </a:lnTo>
                    <a:lnTo>
                      <a:pt x="1401" y="989"/>
                    </a:lnTo>
                    <a:lnTo>
                      <a:pt x="1770" y="396"/>
                    </a:lnTo>
                    <a:lnTo>
                      <a:pt x="1770" y="214"/>
                    </a:lnTo>
                    <a:lnTo>
                      <a:pt x="554" y="0"/>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1" name=""/>
              <p:cNvSpPr/>
              <p:nvPr/>
            </p:nvSpPr>
            <p:spPr>
              <a:xfrm>
                <a:off x="8396280" y="5694120"/>
                <a:ext cx="151200" cy="310680"/>
              </a:xfrm>
              <a:custGeom>
                <a:avLst/>
                <a:gdLst/>
                <a:ahLst/>
                <a:rect l="l" t="t" r="r" b="b"/>
                <a:pathLst>
                  <a:path w="350" h="694">
                    <a:moveTo>
                      <a:pt x="349" y="0"/>
                    </a:moveTo>
                    <a:lnTo>
                      <a:pt x="0" y="540"/>
                    </a:lnTo>
                    <a:lnTo>
                      <a:pt x="1" y="694"/>
                    </a:lnTo>
                    <a:lnTo>
                      <a:pt x="350" y="157"/>
                    </a:lnTo>
                    <a:lnTo>
                      <a:pt x="349" y="0"/>
                    </a:lnTo>
                    <a:close/>
                  </a:path>
                </a:pathLst>
              </a:custGeom>
              <a:solidFill>
                <a:srgbClr val="bc72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2" name=""/>
              <p:cNvSpPr/>
              <p:nvPr/>
            </p:nvSpPr>
            <p:spPr>
              <a:xfrm>
                <a:off x="7809840" y="5763960"/>
                <a:ext cx="587160" cy="210960"/>
              </a:xfrm>
              <a:custGeom>
                <a:avLst/>
                <a:gdLst/>
                <a:ahLst/>
                <a:rect l="l" t="t" r="r" b="b"/>
                <a:pathLst>
                  <a:path w="1358" h="471">
                    <a:moveTo>
                      <a:pt x="1" y="0"/>
                    </a:moveTo>
                    <a:lnTo>
                      <a:pt x="0" y="51"/>
                    </a:lnTo>
                    <a:lnTo>
                      <a:pt x="1354" y="471"/>
                    </a:lnTo>
                    <a:lnTo>
                      <a:pt x="1358" y="385"/>
                    </a:lnTo>
                    <a:lnTo>
                      <a:pt x="1" y="0"/>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3" name=""/>
              <p:cNvSpPr/>
              <p:nvPr/>
            </p:nvSpPr>
            <p:spPr>
              <a:xfrm>
                <a:off x="8031960" y="5170320"/>
                <a:ext cx="580320" cy="501120"/>
              </a:xfrm>
              <a:custGeom>
                <a:avLst/>
                <a:gdLst/>
                <a:ahLst/>
                <a:rect l="l" t="t" r="r" b="b"/>
                <a:pathLst>
                  <a:path w="1343" h="1121">
                    <a:moveTo>
                      <a:pt x="155" y="0"/>
                    </a:moveTo>
                    <a:lnTo>
                      <a:pt x="0" y="840"/>
                    </a:lnTo>
                    <a:lnTo>
                      <a:pt x="202" y="867"/>
                    </a:lnTo>
                    <a:lnTo>
                      <a:pt x="186" y="986"/>
                    </a:lnTo>
                    <a:lnTo>
                      <a:pt x="804" y="1121"/>
                    </a:lnTo>
                    <a:lnTo>
                      <a:pt x="819" y="1002"/>
                    </a:lnTo>
                    <a:lnTo>
                      <a:pt x="1089" y="1049"/>
                    </a:lnTo>
                    <a:lnTo>
                      <a:pt x="1196" y="978"/>
                    </a:lnTo>
                    <a:lnTo>
                      <a:pt x="1343" y="281"/>
                    </a:lnTo>
                    <a:lnTo>
                      <a:pt x="1312" y="115"/>
                    </a:lnTo>
                    <a:lnTo>
                      <a:pt x="155" y="0"/>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4" name=""/>
              <p:cNvSpPr/>
              <p:nvPr/>
            </p:nvSpPr>
            <p:spPr>
              <a:xfrm>
                <a:off x="8506800" y="5222880"/>
                <a:ext cx="96840" cy="393120"/>
              </a:xfrm>
              <a:custGeom>
                <a:avLst/>
                <a:gdLst/>
                <a:ahLst/>
                <a:rect l="l" t="t" r="r" b="b"/>
                <a:pathLst>
                  <a:path w="225" h="879">
                    <a:moveTo>
                      <a:pt x="188" y="0"/>
                    </a:moveTo>
                    <a:lnTo>
                      <a:pt x="0" y="879"/>
                    </a:lnTo>
                    <a:lnTo>
                      <a:pt x="69" y="834"/>
                    </a:lnTo>
                    <a:lnTo>
                      <a:pt x="225" y="80"/>
                    </a:lnTo>
                    <a:lnTo>
                      <a:pt x="188" y="0"/>
                    </a:lnTo>
                    <a:close/>
                  </a:path>
                </a:pathLst>
              </a:custGeom>
              <a:solidFill>
                <a:srgbClr val="bc72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5" name=""/>
              <p:cNvSpPr/>
              <p:nvPr/>
            </p:nvSpPr>
            <p:spPr>
              <a:xfrm>
                <a:off x="8079840" y="5240880"/>
                <a:ext cx="466920" cy="338400"/>
              </a:xfrm>
              <a:custGeom>
                <a:avLst/>
                <a:gdLst/>
                <a:ahLst/>
                <a:rect l="l" t="t" r="r" b="b"/>
                <a:pathLst>
                  <a:path w="1078" h="756">
                    <a:moveTo>
                      <a:pt x="118" y="0"/>
                    </a:moveTo>
                    <a:lnTo>
                      <a:pt x="0" y="613"/>
                    </a:lnTo>
                    <a:lnTo>
                      <a:pt x="931" y="756"/>
                    </a:lnTo>
                    <a:lnTo>
                      <a:pt x="1078" y="77"/>
                    </a:lnTo>
                    <a:lnTo>
                      <a:pt x="118" y="0"/>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6" name=""/>
              <p:cNvSpPr/>
              <p:nvPr/>
            </p:nvSpPr>
            <p:spPr>
              <a:xfrm>
                <a:off x="8503560" y="5213880"/>
                <a:ext cx="104400" cy="411840"/>
              </a:xfrm>
              <a:custGeom>
                <a:avLst/>
                <a:gdLst/>
                <a:ahLst/>
                <a:rect l="l" t="t" r="r" b="b"/>
                <a:pathLst>
                  <a:path w="242" h="920">
                    <a:moveTo>
                      <a:pt x="205" y="5"/>
                    </a:moveTo>
                    <a:lnTo>
                      <a:pt x="204" y="2"/>
                    </a:lnTo>
                    <a:lnTo>
                      <a:pt x="202" y="0"/>
                    </a:lnTo>
                    <a:lnTo>
                      <a:pt x="198" y="0"/>
                    </a:lnTo>
                    <a:lnTo>
                      <a:pt x="195" y="0"/>
                    </a:lnTo>
                    <a:lnTo>
                      <a:pt x="193" y="1"/>
                    </a:lnTo>
                    <a:lnTo>
                      <a:pt x="191" y="3"/>
                    </a:lnTo>
                    <a:lnTo>
                      <a:pt x="190" y="7"/>
                    </a:lnTo>
                    <a:lnTo>
                      <a:pt x="190" y="10"/>
                    </a:lnTo>
                    <a:lnTo>
                      <a:pt x="226" y="101"/>
                    </a:lnTo>
                    <a:lnTo>
                      <a:pt x="69" y="845"/>
                    </a:lnTo>
                    <a:lnTo>
                      <a:pt x="2" y="906"/>
                    </a:lnTo>
                    <a:lnTo>
                      <a:pt x="0" y="909"/>
                    </a:lnTo>
                    <a:lnTo>
                      <a:pt x="0" y="912"/>
                    </a:lnTo>
                    <a:lnTo>
                      <a:pt x="0" y="914"/>
                    </a:lnTo>
                    <a:lnTo>
                      <a:pt x="1" y="918"/>
                    </a:lnTo>
                    <a:lnTo>
                      <a:pt x="4" y="919"/>
                    </a:lnTo>
                    <a:lnTo>
                      <a:pt x="7" y="920"/>
                    </a:lnTo>
                    <a:lnTo>
                      <a:pt x="10" y="920"/>
                    </a:lnTo>
                    <a:lnTo>
                      <a:pt x="13" y="918"/>
                    </a:lnTo>
                    <a:lnTo>
                      <a:pt x="84" y="855"/>
                    </a:lnTo>
                    <a:lnTo>
                      <a:pt x="242" y="99"/>
                    </a:lnTo>
                    <a:lnTo>
                      <a:pt x="20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7" name=""/>
              <p:cNvSpPr/>
              <p:nvPr/>
            </p:nvSpPr>
            <p:spPr>
              <a:xfrm>
                <a:off x="8134920" y="5313240"/>
                <a:ext cx="80280" cy="191520"/>
              </a:xfrm>
              <a:custGeom>
                <a:avLst/>
                <a:gdLst/>
                <a:ahLst/>
                <a:rect l="l" t="t" r="r" b="b"/>
                <a:pathLst>
                  <a:path w="185" h="428">
                    <a:moveTo>
                      <a:pt x="116" y="428"/>
                    </a:moveTo>
                    <a:lnTo>
                      <a:pt x="185" y="20"/>
                    </a:lnTo>
                    <a:lnTo>
                      <a:pt x="69" y="0"/>
                    </a:lnTo>
                    <a:lnTo>
                      <a:pt x="0" y="407"/>
                    </a:lnTo>
                    <a:lnTo>
                      <a:pt x="116" y="4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8" name=""/>
              <p:cNvSpPr/>
              <p:nvPr/>
            </p:nvSpPr>
            <p:spPr>
              <a:xfrm>
                <a:off x="8242920" y="5279400"/>
                <a:ext cx="90720" cy="239760"/>
              </a:xfrm>
              <a:custGeom>
                <a:avLst/>
                <a:gdLst/>
                <a:ahLst/>
                <a:rect l="l" t="t" r="r" b="b"/>
                <a:pathLst>
                  <a:path w="208" h="537">
                    <a:moveTo>
                      <a:pt x="116" y="537"/>
                    </a:moveTo>
                    <a:lnTo>
                      <a:pt x="208" y="20"/>
                    </a:lnTo>
                    <a:lnTo>
                      <a:pt x="92" y="0"/>
                    </a:lnTo>
                    <a:lnTo>
                      <a:pt x="0" y="517"/>
                    </a:lnTo>
                    <a:lnTo>
                      <a:pt x="116" y="5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9" name=""/>
              <p:cNvSpPr/>
              <p:nvPr/>
            </p:nvSpPr>
            <p:spPr>
              <a:xfrm>
                <a:off x="8352720" y="5326920"/>
                <a:ext cx="87120" cy="210960"/>
              </a:xfrm>
              <a:custGeom>
                <a:avLst/>
                <a:gdLst/>
                <a:ahLst/>
                <a:rect l="l" t="t" r="r" b="b"/>
                <a:pathLst>
                  <a:path w="202" h="472">
                    <a:moveTo>
                      <a:pt x="117" y="472"/>
                    </a:moveTo>
                    <a:lnTo>
                      <a:pt x="202" y="20"/>
                    </a:lnTo>
                    <a:lnTo>
                      <a:pt x="86" y="0"/>
                    </a:lnTo>
                    <a:lnTo>
                      <a:pt x="0" y="453"/>
                    </a:lnTo>
                    <a:lnTo>
                      <a:pt x="117" y="4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0" name=""/>
              <p:cNvSpPr/>
              <p:nvPr/>
            </p:nvSpPr>
            <p:spPr>
              <a:xfrm>
                <a:off x="8098560" y="5333040"/>
                <a:ext cx="388800" cy="119160"/>
              </a:xfrm>
              <a:custGeom>
                <a:avLst/>
                <a:gdLst/>
                <a:ahLst/>
                <a:rect l="l" t="t" r="r" b="b"/>
                <a:pathLst>
                  <a:path w="898" h="266">
                    <a:moveTo>
                      <a:pt x="896" y="8"/>
                    </a:moveTo>
                    <a:lnTo>
                      <a:pt x="893" y="3"/>
                    </a:lnTo>
                    <a:lnTo>
                      <a:pt x="887" y="1"/>
                    </a:lnTo>
                    <a:lnTo>
                      <a:pt x="881" y="0"/>
                    </a:lnTo>
                    <a:lnTo>
                      <a:pt x="875" y="2"/>
                    </a:lnTo>
                    <a:lnTo>
                      <a:pt x="489" y="227"/>
                    </a:lnTo>
                    <a:lnTo>
                      <a:pt x="303" y="58"/>
                    </a:lnTo>
                    <a:lnTo>
                      <a:pt x="10" y="152"/>
                    </a:lnTo>
                    <a:lnTo>
                      <a:pt x="4" y="155"/>
                    </a:lnTo>
                    <a:lnTo>
                      <a:pt x="1" y="160"/>
                    </a:lnTo>
                    <a:lnTo>
                      <a:pt x="0" y="166"/>
                    </a:lnTo>
                    <a:lnTo>
                      <a:pt x="0" y="172"/>
                    </a:lnTo>
                    <a:lnTo>
                      <a:pt x="3" y="177"/>
                    </a:lnTo>
                    <a:lnTo>
                      <a:pt x="8" y="181"/>
                    </a:lnTo>
                    <a:lnTo>
                      <a:pt x="13" y="182"/>
                    </a:lnTo>
                    <a:lnTo>
                      <a:pt x="19" y="182"/>
                    </a:lnTo>
                    <a:lnTo>
                      <a:pt x="295" y="93"/>
                    </a:lnTo>
                    <a:lnTo>
                      <a:pt x="485" y="266"/>
                    </a:lnTo>
                    <a:lnTo>
                      <a:pt x="890" y="30"/>
                    </a:lnTo>
                    <a:lnTo>
                      <a:pt x="895" y="25"/>
                    </a:lnTo>
                    <a:lnTo>
                      <a:pt x="898" y="21"/>
                    </a:lnTo>
                    <a:lnTo>
                      <a:pt x="898" y="14"/>
                    </a:lnTo>
                    <a:lnTo>
                      <a:pt x="896"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1" name=""/>
              <p:cNvSpPr/>
              <p:nvPr/>
            </p:nvSpPr>
            <p:spPr>
              <a:xfrm>
                <a:off x="8128080" y="5562360"/>
                <a:ext cx="15480" cy="54360"/>
              </a:xfrm>
              <a:custGeom>
                <a:avLst/>
                <a:gdLst/>
                <a:ahLst/>
                <a:rect l="l" t="t" r="r" b="b"/>
                <a:pathLst>
                  <a:path w="36" h="124">
                    <a:moveTo>
                      <a:pt x="21" y="6"/>
                    </a:moveTo>
                    <a:lnTo>
                      <a:pt x="0" y="114"/>
                    </a:lnTo>
                    <a:lnTo>
                      <a:pt x="0" y="114"/>
                    </a:lnTo>
                    <a:lnTo>
                      <a:pt x="0" y="118"/>
                    </a:lnTo>
                    <a:lnTo>
                      <a:pt x="2" y="120"/>
                    </a:lnTo>
                    <a:lnTo>
                      <a:pt x="4" y="122"/>
                    </a:lnTo>
                    <a:lnTo>
                      <a:pt x="6" y="124"/>
                    </a:lnTo>
                    <a:lnTo>
                      <a:pt x="10" y="124"/>
                    </a:lnTo>
                    <a:lnTo>
                      <a:pt x="13" y="122"/>
                    </a:lnTo>
                    <a:lnTo>
                      <a:pt x="14" y="120"/>
                    </a:lnTo>
                    <a:lnTo>
                      <a:pt x="15" y="118"/>
                    </a:lnTo>
                    <a:lnTo>
                      <a:pt x="15" y="118"/>
                    </a:lnTo>
                    <a:lnTo>
                      <a:pt x="36" y="10"/>
                    </a:lnTo>
                    <a:lnTo>
                      <a:pt x="36" y="10"/>
                    </a:lnTo>
                    <a:lnTo>
                      <a:pt x="36" y="6"/>
                    </a:lnTo>
                    <a:lnTo>
                      <a:pt x="35" y="4"/>
                    </a:lnTo>
                    <a:lnTo>
                      <a:pt x="33" y="2"/>
                    </a:lnTo>
                    <a:lnTo>
                      <a:pt x="30" y="0"/>
                    </a:lnTo>
                    <a:lnTo>
                      <a:pt x="27" y="0"/>
                    </a:lnTo>
                    <a:lnTo>
                      <a:pt x="25" y="2"/>
                    </a:lnTo>
                    <a:lnTo>
                      <a:pt x="22" y="4"/>
                    </a:lnTo>
                    <a:lnTo>
                      <a:pt x="21" y="6"/>
                    </a:lnTo>
                    <a:lnTo>
                      <a:pt x="21"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972" name=""/>
              <p:cNvSpPr/>
              <p:nvPr/>
            </p:nvSpPr>
            <p:spPr>
              <a:xfrm>
                <a:off x="8354520" y="5599080"/>
                <a:ext cx="12600" cy="64440"/>
              </a:xfrm>
              <a:custGeom>
                <a:avLst/>
                <a:gdLst/>
                <a:ahLst/>
                <a:rect l="l" t="t" r="r" b="b"/>
                <a:pathLst>
                  <a:path w="30" h="143">
                    <a:moveTo>
                      <a:pt x="14" y="7"/>
                    </a:moveTo>
                    <a:lnTo>
                      <a:pt x="0" y="134"/>
                    </a:lnTo>
                    <a:lnTo>
                      <a:pt x="0" y="134"/>
                    </a:lnTo>
                    <a:lnTo>
                      <a:pt x="0" y="137"/>
                    </a:lnTo>
                    <a:lnTo>
                      <a:pt x="1" y="140"/>
                    </a:lnTo>
                    <a:lnTo>
                      <a:pt x="3" y="142"/>
                    </a:lnTo>
                    <a:lnTo>
                      <a:pt x="7" y="143"/>
                    </a:lnTo>
                    <a:lnTo>
                      <a:pt x="10" y="142"/>
                    </a:lnTo>
                    <a:lnTo>
                      <a:pt x="13" y="141"/>
                    </a:lnTo>
                    <a:lnTo>
                      <a:pt x="14" y="139"/>
                    </a:lnTo>
                    <a:lnTo>
                      <a:pt x="15" y="136"/>
                    </a:lnTo>
                    <a:lnTo>
                      <a:pt x="15" y="136"/>
                    </a:lnTo>
                    <a:lnTo>
                      <a:pt x="30" y="10"/>
                    </a:lnTo>
                    <a:lnTo>
                      <a:pt x="30" y="10"/>
                    </a:lnTo>
                    <a:lnTo>
                      <a:pt x="29" y="6"/>
                    </a:lnTo>
                    <a:lnTo>
                      <a:pt x="28" y="3"/>
                    </a:lnTo>
                    <a:lnTo>
                      <a:pt x="25" y="1"/>
                    </a:lnTo>
                    <a:lnTo>
                      <a:pt x="22" y="0"/>
                    </a:lnTo>
                    <a:lnTo>
                      <a:pt x="19" y="0"/>
                    </a:lnTo>
                    <a:lnTo>
                      <a:pt x="16" y="1"/>
                    </a:lnTo>
                    <a:lnTo>
                      <a:pt x="15" y="4"/>
                    </a:lnTo>
                    <a:lnTo>
                      <a:pt x="14" y="7"/>
                    </a:lnTo>
                    <a:lnTo>
                      <a:pt x="14" y="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973" name=""/>
              <p:cNvSpPr/>
              <p:nvPr/>
            </p:nvSpPr>
            <p:spPr>
              <a:xfrm>
                <a:off x="7852320" y="5856840"/>
                <a:ext cx="171000" cy="75960"/>
              </a:xfrm>
              <a:custGeom>
                <a:avLst/>
                <a:gdLst/>
                <a:ahLst/>
                <a:rect l="l" t="t" r="r" b="b"/>
                <a:pathLst>
                  <a:path w="398" h="171">
                    <a:moveTo>
                      <a:pt x="390" y="129"/>
                    </a:moveTo>
                    <a:lnTo>
                      <a:pt x="21" y="153"/>
                    </a:lnTo>
                    <a:lnTo>
                      <a:pt x="16" y="8"/>
                    </a:lnTo>
                    <a:lnTo>
                      <a:pt x="15" y="5"/>
                    </a:lnTo>
                    <a:lnTo>
                      <a:pt x="14" y="2"/>
                    </a:lnTo>
                    <a:lnTo>
                      <a:pt x="12" y="1"/>
                    </a:lnTo>
                    <a:lnTo>
                      <a:pt x="8" y="0"/>
                    </a:lnTo>
                    <a:lnTo>
                      <a:pt x="5" y="1"/>
                    </a:lnTo>
                    <a:lnTo>
                      <a:pt x="2" y="2"/>
                    </a:lnTo>
                    <a:lnTo>
                      <a:pt x="1" y="6"/>
                    </a:lnTo>
                    <a:lnTo>
                      <a:pt x="0" y="8"/>
                    </a:lnTo>
                    <a:lnTo>
                      <a:pt x="0" y="8"/>
                    </a:lnTo>
                    <a:lnTo>
                      <a:pt x="6" y="171"/>
                    </a:lnTo>
                    <a:lnTo>
                      <a:pt x="391" y="145"/>
                    </a:lnTo>
                    <a:lnTo>
                      <a:pt x="391" y="145"/>
                    </a:lnTo>
                    <a:lnTo>
                      <a:pt x="394" y="144"/>
                    </a:lnTo>
                    <a:lnTo>
                      <a:pt x="396" y="142"/>
                    </a:lnTo>
                    <a:lnTo>
                      <a:pt x="398" y="139"/>
                    </a:lnTo>
                    <a:lnTo>
                      <a:pt x="398" y="136"/>
                    </a:lnTo>
                    <a:lnTo>
                      <a:pt x="396" y="134"/>
                    </a:lnTo>
                    <a:lnTo>
                      <a:pt x="395" y="131"/>
                    </a:lnTo>
                    <a:lnTo>
                      <a:pt x="393" y="130"/>
                    </a:lnTo>
                    <a:lnTo>
                      <a:pt x="390" y="12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74" name=""/>
              <p:cNvSpPr/>
              <p:nvPr/>
            </p:nvSpPr>
            <p:spPr>
              <a:xfrm>
                <a:off x="7852320" y="5863320"/>
                <a:ext cx="185040" cy="75960"/>
              </a:xfrm>
              <a:custGeom>
                <a:avLst/>
                <a:gdLst/>
                <a:ahLst/>
                <a:rect l="l" t="t" r="r" b="b"/>
                <a:pathLst>
                  <a:path w="430" h="170">
                    <a:moveTo>
                      <a:pt x="421" y="129"/>
                    </a:moveTo>
                    <a:lnTo>
                      <a:pt x="421" y="129"/>
                    </a:lnTo>
                    <a:lnTo>
                      <a:pt x="21" y="153"/>
                    </a:lnTo>
                    <a:lnTo>
                      <a:pt x="16" y="8"/>
                    </a:lnTo>
                    <a:lnTo>
                      <a:pt x="16" y="8"/>
                    </a:lnTo>
                    <a:lnTo>
                      <a:pt x="15" y="5"/>
                    </a:lnTo>
                    <a:lnTo>
                      <a:pt x="14" y="2"/>
                    </a:lnTo>
                    <a:lnTo>
                      <a:pt x="12" y="1"/>
                    </a:lnTo>
                    <a:lnTo>
                      <a:pt x="8" y="0"/>
                    </a:lnTo>
                    <a:lnTo>
                      <a:pt x="5" y="1"/>
                    </a:lnTo>
                    <a:lnTo>
                      <a:pt x="2" y="3"/>
                    </a:lnTo>
                    <a:lnTo>
                      <a:pt x="1" y="6"/>
                    </a:lnTo>
                    <a:lnTo>
                      <a:pt x="0" y="9"/>
                    </a:lnTo>
                    <a:lnTo>
                      <a:pt x="0" y="9"/>
                    </a:lnTo>
                    <a:lnTo>
                      <a:pt x="6" y="170"/>
                    </a:lnTo>
                    <a:lnTo>
                      <a:pt x="422" y="145"/>
                    </a:lnTo>
                    <a:lnTo>
                      <a:pt x="425" y="144"/>
                    </a:lnTo>
                    <a:lnTo>
                      <a:pt x="428" y="143"/>
                    </a:lnTo>
                    <a:lnTo>
                      <a:pt x="429" y="139"/>
                    </a:lnTo>
                    <a:lnTo>
                      <a:pt x="430" y="137"/>
                    </a:lnTo>
                    <a:lnTo>
                      <a:pt x="429" y="134"/>
                    </a:lnTo>
                    <a:lnTo>
                      <a:pt x="428" y="131"/>
                    </a:lnTo>
                    <a:lnTo>
                      <a:pt x="424" y="130"/>
                    </a:lnTo>
                    <a:lnTo>
                      <a:pt x="421" y="12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75" name=""/>
              <p:cNvSpPr/>
              <p:nvPr/>
            </p:nvSpPr>
            <p:spPr>
              <a:xfrm>
                <a:off x="7838280" y="5268600"/>
                <a:ext cx="197640" cy="395640"/>
              </a:xfrm>
              <a:custGeom>
                <a:avLst/>
                <a:gdLst/>
                <a:ahLst/>
                <a:rect l="l" t="t" r="r" b="b"/>
                <a:pathLst>
                  <a:path w="457" h="883">
                    <a:moveTo>
                      <a:pt x="450" y="43"/>
                    </a:moveTo>
                    <a:lnTo>
                      <a:pt x="0" y="0"/>
                    </a:lnTo>
                    <a:lnTo>
                      <a:pt x="22" y="875"/>
                    </a:lnTo>
                    <a:lnTo>
                      <a:pt x="23" y="879"/>
                    </a:lnTo>
                    <a:lnTo>
                      <a:pt x="24" y="881"/>
                    </a:lnTo>
                    <a:lnTo>
                      <a:pt x="26" y="882"/>
                    </a:lnTo>
                    <a:lnTo>
                      <a:pt x="30" y="883"/>
                    </a:lnTo>
                    <a:lnTo>
                      <a:pt x="33" y="882"/>
                    </a:lnTo>
                    <a:lnTo>
                      <a:pt x="36" y="881"/>
                    </a:lnTo>
                    <a:lnTo>
                      <a:pt x="37" y="878"/>
                    </a:lnTo>
                    <a:lnTo>
                      <a:pt x="38" y="875"/>
                    </a:lnTo>
                    <a:lnTo>
                      <a:pt x="16" y="17"/>
                    </a:lnTo>
                    <a:lnTo>
                      <a:pt x="448" y="59"/>
                    </a:lnTo>
                    <a:lnTo>
                      <a:pt x="452" y="58"/>
                    </a:lnTo>
                    <a:lnTo>
                      <a:pt x="454" y="56"/>
                    </a:lnTo>
                    <a:lnTo>
                      <a:pt x="456" y="54"/>
                    </a:lnTo>
                    <a:lnTo>
                      <a:pt x="457" y="51"/>
                    </a:lnTo>
                    <a:lnTo>
                      <a:pt x="456" y="48"/>
                    </a:lnTo>
                    <a:lnTo>
                      <a:pt x="455" y="45"/>
                    </a:lnTo>
                    <a:lnTo>
                      <a:pt x="453" y="44"/>
                    </a:lnTo>
                    <a:lnTo>
                      <a:pt x="45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6" name=""/>
              <p:cNvSpPr/>
              <p:nvPr/>
            </p:nvSpPr>
            <p:spPr>
              <a:xfrm>
                <a:off x="8620920" y="5341320"/>
                <a:ext cx="72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77" name=""/>
              <p:cNvSpPr/>
              <p:nvPr/>
            </p:nvSpPr>
            <p:spPr>
              <a:xfrm>
                <a:off x="8503560" y="5341320"/>
                <a:ext cx="204840" cy="564120"/>
              </a:xfrm>
              <a:custGeom>
                <a:avLst/>
                <a:gdLst/>
                <a:ahLst/>
                <a:rect l="l" t="t" r="r" b="b"/>
                <a:pathLst>
                  <a:path w="474" h="1260">
                    <a:moveTo>
                      <a:pt x="272" y="0"/>
                    </a:moveTo>
                    <a:lnTo>
                      <a:pt x="269" y="2"/>
                    </a:lnTo>
                    <a:lnTo>
                      <a:pt x="266" y="3"/>
                    </a:lnTo>
                    <a:lnTo>
                      <a:pt x="264" y="5"/>
                    </a:lnTo>
                    <a:lnTo>
                      <a:pt x="263" y="8"/>
                    </a:lnTo>
                    <a:lnTo>
                      <a:pt x="264" y="11"/>
                    </a:lnTo>
                    <a:lnTo>
                      <a:pt x="265" y="14"/>
                    </a:lnTo>
                    <a:lnTo>
                      <a:pt x="268" y="15"/>
                    </a:lnTo>
                    <a:lnTo>
                      <a:pt x="270" y="17"/>
                    </a:lnTo>
                    <a:lnTo>
                      <a:pt x="453" y="37"/>
                    </a:lnTo>
                    <a:lnTo>
                      <a:pt x="140" y="1236"/>
                    </a:lnTo>
                    <a:lnTo>
                      <a:pt x="8" y="1244"/>
                    </a:lnTo>
                    <a:lnTo>
                      <a:pt x="5" y="1246"/>
                    </a:lnTo>
                    <a:lnTo>
                      <a:pt x="3" y="1248"/>
                    </a:lnTo>
                    <a:lnTo>
                      <a:pt x="1" y="1250"/>
                    </a:lnTo>
                    <a:lnTo>
                      <a:pt x="0" y="1254"/>
                    </a:lnTo>
                    <a:lnTo>
                      <a:pt x="1" y="1257"/>
                    </a:lnTo>
                    <a:lnTo>
                      <a:pt x="3" y="1258"/>
                    </a:lnTo>
                    <a:lnTo>
                      <a:pt x="6" y="1260"/>
                    </a:lnTo>
                    <a:lnTo>
                      <a:pt x="8" y="1260"/>
                    </a:lnTo>
                    <a:lnTo>
                      <a:pt x="151" y="1251"/>
                    </a:lnTo>
                    <a:lnTo>
                      <a:pt x="474" y="23"/>
                    </a:lnTo>
                    <a:lnTo>
                      <a:pt x="2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8" name=""/>
              <p:cNvSpPr/>
              <p:nvPr/>
            </p:nvSpPr>
            <p:spPr>
              <a:xfrm>
                <a:off x="7838280" y="5275080"/>
                <a:ext cx="197640" cy="395640"/>
              </a:xfrm>
              <a:custGeom>
                <a:avLst/>
                <a:gdLst/>
                <a:ahLst/>
                <a:rect l="l" t="t" r="r" b="b"/>
                <a:pathLst>
                  <a:path w="457" h="883">
                    <a:moveTo>
                      <a:pt x="450" y="43"/>
                    </a:moveTo>
                    <a:lnTo>
                      <a:pt x="0" y="0"/>
                    </a:lnTo>
                    <a:lnTo>
                      <a:pt x="22" y="875"/>
                    </a:lnTo>
                    <a:lnTo>
                      <a:pt x="23" y="879"/>
                    </a:lnTo>
                    <a:lnTo>
                      <a:pt x="24" y="881"/>
                    </a:lnTo>
                    <a:lnTo>
                      <a:pt x="26" y="882"/>
                    </a:lnTo>
                    <a:lnTo>
                      <a:pt x="30" y="883"/>
                    </a:lnTo>
                    <a:lnTo>
                      <a:pt x="33" y="882"/>
                    </a:lnTo>
                    <a:lnTo>
                      <a:pt x="36" y="881"/>
                    </a:lnTo>
                    <a:lnTo>
                      <a:pt x="37" y="878"/>
                    </a:lnTo>
                    <a:lnTo>
                      <a:pt x="38" y="875"/>
                    </a:lnTo>
                    <a:lnTo>
                      <a:pt x="16" y="17"/>
                    </a:lnTo>
                    <a:lnTo>
                      <a:pt x="448" y="59"/>
                    </a:lnTo>
                    <a:lnTo>
                      <a:pt x="452" y="58"/>
                    </a:lnTo>
                    <a:lnTo>
                      <a:pt x="454" y="56"/>
                    </a:lnTo>
                    <a:lnTo>
                      <a:pt x="456" y="54"/>
                    </a:lnTo>
                    <a:lnTo>
                      <a:pt x="457" y="51"/>
                    </a:lnTo>
                    <a:lnTo>
                      <a:pt x="456" y="48"/>
                    </a:lnTo>
                    <a:lnTo>
                      <a:pt x="455" y="45"/>
                    </a:lnTo>
                    <a:lnTo>
                      <a:pt x="453" y="44"/>
                    </a:lnTo>
                    <a:lnTo>
                      <a:pt x="45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9" name=""/>
              <p:cNvSpPr/>
              <p:nvPr/>
            </p:nvSpPr>
            <p:spPr>
              <a:xfrm>
                <a:off x="8491320" y="5349960"/>
                <a:ext cx="204840" cy="563040"/>
              </a:xfrm>
              <a:custGeom>
                <a:avLst/>
                <a:gdLst/>
                <a:ahLst/>
                <a:rect l="l" t="t" r="r" b="b"/>
                <a:pathLst>
                  <a:path w="473" h="1259">
                    <a:moveTo>
                      <a:pt x="288" y="0"/>
                    </a:moveTo>
                    <a:lnTo>
                      <a:pt x="284" y="0"/>
                    </a:lnTo>
                    <a:lnTo>
                      <a:pt x="282" y="1"/>
                    </a:lnTo>
                    <a:lnTo>
                      <a:pt x="280" y="3"/>
                    </a:lnTo>
                    <a:lnTo>
                      <a:pt x="278" y="7"/>
                    </a:lnTo>
                    <a:lnTo>
                      <a:pt x="280" y="10"/>
                    </a:lnTo>
                    <a:lnTo>
                      <a:pt x="281" y="13"/>
                    </a:lnTo>
                    <a:lnTo>
                      <a:pt x="283" y="14"/>
                    </a:lnTo>
                    <a:lnTo>
                      <a:pt x="285" y="15"/>
                    </a:lnTo>
                    <a:lnTo>
                      <a:pt x="454" y="36"/>
                    </a:lnTo>
                    <a:lnTo>
                      <a:pt x="139" y="1235"/>
                    </a:lnTo>
                    <a:lnTo>
                      <a:pt x="8" y="1244"/>
                    </a:lnTo>
                    <a:lnTo>
                      <a:pt x="4" y="1245"/>
                    </a:lnTo>
                    <a:lnTo>
                      <a:pt x="2" y="1246"/>
                    </a:lnTo>
                    <a:lnTo>
                      <a:pt x="1" y="1249"/>
                    </a:lnTo>
                    <a:lnTo>
                      <a:pt x="0" y="1252"/>
                    </a:lnTo>
                    <a:lnTo>
                      <a:pt x="1" y="1255"/>
                    </a:lnTo>
                    <a:lnTo>
                      <a:pt x="3" y="1258"/>
                    </a:lnTo>
                    <a:lnTo>
                      <a:pt x="5" y="1259"/>
                    </a:lnTo>
                    <a:lnTo>
                      <a:pt x="9" y="1259"/>
                    </a:lnTo>
                    <a:lnTo>
                      <a:pt x="152" y="1251"/>
                    </a:lnTo>
                    <a:lnTo>
                      <a:pt x="473" y="22"/>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0" name=""/>
              <p:cNvSpPr/>
              <p:nvPr/>
            </p:nvSpPr>
            <p:spPr>
              <a:xfrm>
                <a:off x="8446320" y="5318640"/>
                <a:ext cx="58680" cy="64080"/>
              </a:xfrm>
              <a:custGeom>
                <a:avLst/>
                <a:gdLst/>
                <a:ahLst/>
                <a:rect l="l" t="t" r="r" b="b"/>
                <a:pathLst>
                  <a:path w="135" h="143">
                    <a:moveTo>
                      <a:pt x="0" y="0"/>
                    </a:moveTo>
                    <a:lnTo>
                      <a:pt x="71" y="143"/>
                    </a:lnTo>
                    <a:lnTo>
                      <a:pt x="135" y="16"/>
                    </a:lnTo>
                    <a:lnTo>
                      <a:pt x="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81" name=""/>
              <p:cNvSpPr/>
              <p:nvPr/>
            </p:nvSpPr>
            <p:spPr>
              <a:xfrm>
                <a:off x="8058960" y="5221080"/>
                <a:ext cx="482400" cy="348480"/>
              </a:xfrm>
              <a:custGeom>
                <a:avLst/>
                <a:gdLst/>
                <a:ahLst/>
                <a:rect l="l" t="t" r="r" b="b"/>
                <a:pathLst>
                  <a:path w="1117" h="777">
                    <a:moveTo>
                      <a:pt x="113" y="0"/>
                    </a:moveTo>
                    <a:lnTo>
                      <a:pt x="86" y="151"/>
                    </a:lnTo>
                    <a:lnTo>
                      <a:pt x="102" y="151"/>
                    </a:lnTo>
                    <a:lnTo>
                      <a:pt x="126" y="17"/>
                    </a:lnTo>
                    <a:lnTo>
                      <a:pt x="1097" y="89"/>
                    </a:lnTo>
                    <a:lnTo>
                      <a:pt x="951" y="760"/>
                    </a:lnTo>
                    <a:lnTo>
                      <a:pt x="19" y="616"/>
                    </a:lnTo>
                    <a:lnTo>
                      <a:pt x="102" y="151"/>
                    </a:lnTo>
                    <a:lnTo>
                      <a:pt x="86" y="151"/>
                    </a:lnTo>
                    <a:lnTo>
                      <a:pt x="0" y="630"/>
                    </a:lnTo>
                    <a:lnTo>
                      <a:pt x="964" y="777"/>
                    </a:lnTo>
                    <a:lnTo>
                      <a:pt x="1117" y="74"/>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2" name=""/>
              <p:cNvSpPr/>
              <p:nvPr/>
            </p:nvSpPr>
            <p:spPr>
              <a:xfrm>
                <a:off x="8007840" y="5181840"/>
                <a:ext cx="583560" cy="444960"/>
              </a:xfrm>
              <a:custGeom>
                <a:avLst/>
                <a:gdLst/>
                <a:ahLst/>
                <a:rect l="l" t="t" r="r" b="b"/>
                <a:pathLst>
                  <a:path w="1349" h="994">
                    <a:moveTo>
                      <a:pt x="1316" y="164"/>
                    </a:moveTo>
                    <a:lnTo>
                      <a:pt x="1145" y="976"/>
                    </a:lnTo>
                    <a:lnTo>
                      <a:pt x="18" y="805"/>
                    </a:lnTo>
                    <a:lnTo>
                      <a:pt x="161" y="18"/>
                    </a:lnTo>
                    <a:lnTo>
                      <a:pt x="1332" y="88"/>
                    </a:lnTo>
                    <a:lnTo>
                      <a:pt x="1316" y="164"/>
                    </a:lnTo>
                    <a:lnTo>
                      <a:pt x="1333" y="164"/>
                    </a:lnTo>
                    <a:lnTo>
                      <a:pt x="1349" y="82"/>
                    </a:lnTo>
                    <a:lnTo>
                      <a:pt x="1349" y="78"/>
                    </a:lnTo>
                    <a:lnTo>
                      <a:pt x="1342" y="73"/>
                    </a:lnTo>
                    <a:lnTo>
                      <a:pt x="148" y="0"/>
                    </a:lnTo>
                    <a:lnTo>
                      <a:pt x="0" y="818"/>
                    </a:lnTo>
                    <a:lnTo>
                      <a:pt x="1158" y="994"/>
                    </a:lnTo>
                    <a:lnTo>
                      <a:pt x="1333" y="164"/>
                    </a:lnTo>
                    <a:lnTo>
                      <a:pt x="1316"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3" name=""/>
              <p:cNvSpPr/>
              <p:nvPr/>
            </p:nvSpPr>
            <p:spPr>
              <a:xfrm>
                <a:off x="8337240" y="5951880"/>
                <a:ext cx="88920" cy="52560"/>
              </a:xfrm>
              <a:custGeom>
                <a:avLst/>
                <a:gdLst/>
                <a:ahLst/>
                <a:rect l="l" t="t" r="r" b="b"/>
                <a:pathLst>
                  <a:path w="206" h="118">
                    <a:moveTo>
                      <a:pt x="187" y="0"/>
                    </a:moveTo>
                    <a:lnTo>
                      <a:pt x="144" y="75"/>
                    </a:lnTo>
                    <a:lnTo>
                      <a:pt x="149" y="0"/>
                    </a:lnTo>
                    <a:lnTo>
                      <a:pt x="133" y="0"/>
                    </a:lnTo>
                    <a:lnTo>
                      <a:pt x="126" y="98"/>
                    </a:lnTo>
                    <a:lnTo>
                      <a:pt x="0" y="57"/>
                    </a:lnTo>
                    <a:lnTo>
                      <a:pt x="0" y="74"/>
                    </a:lnTo>
                    <a:lnTo>
                      <a:pt x="137" y="118"/>
                    </a:lnTo>
                    <a:lnTo>
                      <a:pt x="206" y="0"/>
                    </a:lnTo>
                    <a:lnTo>
                      <a:pt x="18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84" name=""/>
              <p:cNvSpPr/>
              <p:nvPr/>
            </p:nvSpPr>
            <p:spPr>
              <a:xfrm>
                <a:off x="7764840" y="5588280"/>
                <a:ext cx="782640" cy="396720"/>
              </a:xfrm>
              <a:custGeom>
                <a:avLst/>
                <a:gdLst/>
                <a:ahLst/>
                <a:rect l="l" t="t" r="r" b="b"/>
                <a:pathLst>
                  <a:path w="1812" h="886">
                    <a:moveTo>
                      <a:pt x="545" y="0"/>
                    </a:moveTo>
                    <a:lnTo>
                      <a:pt x="0" y="350"/>
                    </a:lnTo>
                    <a:lnTo>
                      <a:pt x="5" y="460"/>
                    </a:lnTo>
                    <a:lnTo>
                      <a:pt x="1326" y="886"/>
                    </a:lnTo>
                    <a:lnTo>
                      <a:pt x="1326" y="869"/>
                    </a:lnTo>
                    <a:lnTo>
                      <a:pt x="20" y="448"/>
                    </a:lnTo>
                    <a:lnTo>
                      <a:pt x="15" y="368"/>
                    </a:lnTo>
                    <a:lnTo>
                      <a:pt x="1326" y="737"/>
                    </a:lnTo>
                    <a:lnTo>
                      <a:pt x="1326" y="721"/>
                    </a:lnTo>
                    <a:lnTo>
                      <a:pt x="26" y="355"/>
                    </a:lnTo>
                    <a:lnTo>
                      <a:pt x="549" y="17"/>
                    </a:lnTo>
                    <a:lnTo>
                      <a:pt x="1790" y="240"/>
                    </a:lnTo>
                    <a:lnTo>
                      <a:pt x="1466" y="760"/>
                    </a:lnTo>
                    <a:lnTo>
                      <a:pt x="1326" y="721"/>
                    </a:lnTo>
                    <a:lnTo>
                      <a:pt x="1326" y="737"/>
                    </a:lnTo>
                    <a:lnTo>
                      <a:pt x="1462" y="776"/>
                    </a:lnTo>
                    <a:lnTo>
                      <a:pt x="1459" y="812"/>
                    </a:lnTo>
                    <a:lnTo>
                      <a:pt x="1475" y="812"/>
                    </a:lnTo>
                    <a:lnTo>
                      <a:pt x="1478" y="773"/>
                    </a:lnTo>
                    <a:lnTo>
                      <a:pt x="1793" y="264"/>
                    </a:lnTo>
                    <a:lnTo>
                      <a:pt x="1790" y="345"/>
                    </a:lnTo>
                    <a:lnTo>
                      <a:pt x="1513" y="812"/>
                    </a:lnTo>
                    <a:lnTo>
                      <a:pt x="1532" y="812"/>
                    </a:lnTo>
                    <a:lnTo>
                      <a:pt x="1805" y="349"/>
                    </a:lnTo>
                    <a:lnTo>
                      <a:pt x="1812" y="227"/>
                    </a:lnTo>
                    <a:lnTo>
                      <a:pt x="5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5" name=""/>
              <p:cNvSpPr/>
              <p:nvPr/>
            </p:nvSpPr>
            <p:spPr>
              <a:xfrm>
                <a:off x="7926480" y="5671440"/>
                <a:ext cx="30960" cy="20520"/>
              </a:xfrm>
              <a:custGeom>
                <a:avLst/>
                <a:gdLst/>
                <a:ahLst/>
                <a:rect l="l" t="t" r="r" b="b"/>
                <a:pathLst>
                  <a:path w="72" h="45">
                    <a:moveTo>
                      <a:pt x="36" y="45"/>
                    </a:moveTo>
                    <a:lnTo>
                      <a:pt x="44" y="45"/>
                    </a:lnTo>
                    <a:lnTo>
                      <a:pt x="51" y="43"/>
                    </a:lnTo>
                    <a:lnTo>
                      <a:pt x="56" y="41"/>
                    </a:lnTo>
                    <a:lnTo>
                      <a:pt x="62" y="39"/>
                    </a:lnTo>
                    <a:lnTo>
                      <a:pt x="67" y="35"/>
                    </a:lnTo>
                    <a:lnTo>
                      <a:pt x="70" y="32"/>
                    </a:lnTo>
                    <a:lnTo>
                      <a:pt x="71" y="27"/>
                    </a:lnTo>
                    <a:lnTo>
                      <a:pt x="72" y="23"/>
                    </a:lnTo>
                    <a:lnTo>
                      <a:pt x="71" y="18"/>
                    </a:lnTo>
                    <a:lnTo>
                      <a:pt x="70" y="14"/>
                    </a:lnTo>
                    <a:lnTo>
                      <a:pt x="67" y="10"/>
                    </a:lnTo>
                    <a:lnTo>
                      <a:pt x="62" y="7"/>
                    </a:lnTo>
                    <a:lnTo>
                      <a:pt x="56" y="3"/>
                    </a:lnTo>
                    <a:lnTo>
                      <a:pt x="51" y="2"/>
                    </a:lnTo>
                    <a:lnTo>
                      <a:pt x="44" y="0"/>
                    </a:lnTo>
                    <a:lnTo>
                      <a:pt x="37" y="0"/>
                    </a:lnTo>
                    <a:lnTo>
                      <a:pt x="30" y="0"/>
                    </a:lnTo>
                    <a:lnTo>
                      <a:pt x="23" y="1"/>
                    </a:lnTo>
                    <a:lnTo>
                      <a:pt x="16" y="3"/>
                    </a:lnTo>
                    <a:lnTo>
                      <a:pt x="11" y="5"/>
                    </a:lnTo>
                    <a:lnTo>
                      <a:pt x="7" y="9"/>
                    </a:lnTo>
                    <a:lnTo>
                      <a:pt x="3" y="12"/>
                    </a:lnTo>
                    <a:lnTo>
                      <a:pt x="1" y="17"/>
                    </a:lnTo>
                    <a:lnTo>
                      <a:pt x="0" y="22"/>
                    </a:lnTo>
                    <a:lnTo>
                      <a:pt x="1" y="26"/>
                    </a:lnTo>
                    <a:lnTo>
                      <a:pt x="2" y="30"/>
                    </a:lnTo>
                    <a:lnTo>
                      <a:pt x="6" y="33"/>
                    </a:lnTo>
                    <a:lnTo>
                      <a:pt x="10" y="37"/>
                    </a:lnTo>
                    <a:lnTo>
                      <a:pt x="16" y="40"/>
                    </a:lnTo>
                    <a:lnTo>
                      <a:pt x="22" y="42"/>
                    </a:lnTo>
                    <a:lnTo>
                      <a:pt x="29" y="43"/>
                    </a:lnTo>
                    <a:lnTo>
                      <a:pt x="36" y="45"/>
                    </a:lnTo>
                    <a:close/>
                  </a:path>
                </a:pathLst>
              </a:custGeom>
              <a:solidFill>
                <a:srgbClr val="7fbf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86" name=""/>
              <p:cNvSpPr/>
              <p:nvPr/>
            </p:nvSpPr>
            <p:spPr>
              <a:xfrm>
                <a:off x="7993080" y="5688000"/>
                <a:ext cx="31680" cy="20160"/>
              </a:xfrm>
              <a:custGeom>
                <a:avLst/>
                <a:gdLst/>
                <a:ahLst/>
                <a:rect l="l" t="t" r="r" b="b"/>
                <a:pathLst>
                  <a:path w="74" h="46">
                    <a:moveTo>
                      <a:pt x="37" y="46"/>
                    </a:moveTo>
                    <a:lnTo>
                      <a:pt x="44" y="46"/>
                    </a:lnTo>
                    <a:lnTo>
                      <a:pt x="51" y="45"/>
                    </a:lnTo>
                    <a:lnTo>
                      <a:pt x="58" y="43"/>
                    </a:lnTo>
                    <a:lnTo>
                      <a:pt x="63" y="41"/>
                    </a:lnTo>
                    <a:lnTo>
                      <a:pt x="67" y="37"/>
                    </a:lnTo>
                    <a:lnTo>
                      <a:pt x="71" y="34"/>
                    </a:lnTo>
                    <a:lnTo>
                      <a:pt x="73" y="29"/>
                    </a:lnTo>
                    <a:lnTo>
                      <a:pt x="74" y="25"/>
                    </a:lnTo>
                    <a:lnTo>
                      <a:pt x="73" y="20"/>
                    </a:lnTo>
                    <a:lnTo>
                      <a:pt x="72" y="15"/>
                    </a:lnTo>
                    <a:lnTo>
                      <a:pt x="68" y="12"/>
                    </a:lnTo>
                    <a:lnTo>
                      <a:pt x="64" y="8"/>
                    </a:lnTo>
                    <a:lnTo>
                      <a:pt x="58" y="5"/>
                    </a:lnTo>
                    <a:lnTo>
                      <a:pt x="52" y="3"/>
                    </a:lnTo>
                    <a:lnTo>
                      <a:pt x="45" y="2"/>
                    </a:lnTo>
                    <a:lnTo>
                      <a:pt x="38" y="0"/>
                    </a:lnTo>
                    <a:lnTo>
                      <a:pt x="30" y="0"/>
                    </a:lnTo>
                    <a:lnTo>
                      <a:pt x="23" y="3"/>
                    </a:lnTo>
                    <a:lnTo>
                      <a:pt x="18" y="4"/>
                    </a:lnTo>
                    <a:lnTo>
                      <a:pt x="12" y="7"/>
                    </a:lnTo>
                    <a:lnTo>
                      <a:pt x="7" y="11"/>
                    </a:lnTo>
                    <a:lnTo>
                      <a:pt x="4" y="14"/>
                    </a:lnTo>
                    <a:lnTo>
                      <a:pt x="1" y="19"/>
                    </a:lnTo>
                    <a:lnTo>
                      <a:pt x="0" y="23"/>
                    </a:lnTo>
                    <a:lnTo>
                      <a:pt x="1" y="28"/>
                    </a:lnTo>
                    <a:lnTo>
                      <a:pt x="3" y="32"/>
                    </a:lnTo>
                    <a:lnTo>
                      <a:pt x="6" y="36"/>
                    </a:lnTo>
                    <a:lnTo>
                      <a:pt x="11" y="40"/>
                    </a:lnTo>
                    <a:lnTo>
                      <a:pt x="16" y="42"/>
                    </a:lnTo>
                    <a:lnTo>
                      <a:pt x="22" y="44"/>
                    </a:lnTo>
                    <a:lnTo>
                      <a:pt x="29" y="46"/>
                    </a:lnTo>
                    <a:lnTo>
                      <a:pt x="37" y="46"/>
                    </a:lnTo>
                    <a:close/>
                  </a:path>
                </a:pathLst>
              </a:custGeom>
              <a:solidFill>
                <a:srgbClr val="7fbf7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987" name=""/>
              <p:cNvSpPr/>
              <p:nvPr/>
            </p:nvSpPr>
            <p:spPr>
              <a:xfrm>
                <a:off x="8059680" y="5704920"/>
                <a:ext cx="32760" cy="20160"/>
              </a:xfrm>
              <a:custGeom>
                <a:avLst/>
                <a:gdLst/>
                <a:ahLst/>
                <a:rect l="l" t="t" r="r" b="b"/>
                <a:pathLst>
                  <a:path w="75" h="46">
                    <a:moveTo>
                      <a:pt x="37" y="46"/>
                    </a:moveTo>
                    <a:lnTo>
                      <a:pt x="45" y="46"/>
                    </a:lnTo>
                    <a:lnTo>
                      <a:pt x="52" y="45"/>
                    </a:lnTo>
                    <a:lnTo>
                      <a:pt x="57" y="43"/>
                    </a:lnTo>
                    <a:lnTo>
                      <a:pt x="63" y="41"/>
                    </a:lnTo>
                    <a:lnTo>
                      <a:pt x="68" y="37"/>
                    </a:lnTo>
                    <a:lnTo>
                      <a:pt x="71" y="34"/>
                    </a:lnTo>
                    <a:lnTo>
                      <a:pt x="73" y="29"/>
                    </a:lnTo>
                    <a:lnTo>
                      <a:pt x="75" y="24"/>
                    </a:lnTo>
                    <a:lnTo>
                      <a:pt x="73" y="20"/>
                    </a:lnTo>
                    <a:lnTo>
                      <a:pt x="72" y="15"/>
                    </a:lnTo>
                    <a:lnTo>
                      <a:pt x="69" y="11"/>
                    </a:lnTo>
                    <a:lnTo>
                      <a:pt x="64" y="7"/>
                    </a:lnTo>
                    <a:lnTo>
                      <a:pt x="58" y="4"/>
                    </a:lnTo>
                    <a:lnTo>
                      <a:pt x="53" y="3"/>
                    </a:lnTo>
                    <a:lnTo>
                      <a:pt x="46" y="0"/>
                    </a:lnTo>
                    <a:lnTo>
                      <a:pt x="38" y="0"/>
                    </a:lnTo>
                    <a:lnTo>
                      <a:pt x="30" y="0"/>
                    </a:lnTo>
                    <a:lnTo>
                      <a:pt x="23" y="1"/>
                    </a:lnTo>
                    <a:lnTo>
                      <a:pt x="17" y="4"/>
                    </a:lnTo>
                    <a:lnTo>
                      <a:pt x="11" y="6"/>
                    </a:lnTo>
                    <a:lnTo>
                      <a:pt x="7" y="9"/>
                    </a:lnTo>
                    <a:lnTo>
                      <a:pt x="3" y="13"/>
                    </a:lnTo>
                    <a:lnTo>
                      <a:pt x="1" y="18"/>
                    </a:lnTo>
                    <a:lnTo>
                      <a:pt x="0" y="22"/>
                    </a:lnTo>
                    <a:lnTo>
                      <a:pt x="1" y="27"/>
                    </a:lnTo>
                    <a:lnTo>
                      <a:pt x="2" y="31"/>
                    </a:lnTo>
                    <a:lnTo>
                      <a:pt x="5" y="35"/>
                    </a:lnTo>
                    <a:lnTo>
                      <a:pt x="10" y="39"/>
                    </a:lnTo>
                    <a:lnTo>
                      <a:pt x="16" y="42"/>
                    </a:lnTo>
                    <a:lnTo>
                      <a:pt x="22" y="44"/>
                    </a:lnTo>
                    <a:lnTo>
                      <a:pt x="28" y="46"/>
                    </a:lnTo>
                    <a:lnTo>
                      <a:pt x="37" y="46"/>
                    </a:lnTo>
                    <a:close/>
                  </a:path>
                </a:pathLst>
              </a:custGeom>
              <a:solidFill>
                <a:srgbClr val="7fbf7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988" name=""/>
              <p:cNvSpPr/>
              <p:nvPr/>
            </p:nvSpPr>
            <p:spPr>
              <a:xfrm>
                <a:off x="8127000" y="5720760"/>
                <a:ext cx="32760" cy="20160"/>
              </a:xfrm>
              <a:custGeom>
                <a:avLst/>
                <a:gdLst/>
                <a:ahLst/>
                <a:rect l="l" t="t" r="r" b="b"/>
                <a:pathLst>
                  <a:path w="76" h="46">
                    <a:moveTo>
                      <a:pt x="38" y="46"/>
                    </a:moveTo>
                    <a:lnTo>
                      <a:pt x="46" y="46"/>
                    </a:lnTo>
                    <a:lnTo>
                      <a:pt x="53" y="45"/>
                    </a:lnTo>
                    <a:lnTo>
                      <a:pt x="59" y="43"/>
                    </a:lnTo>
                    <a:lnTo>
                      <a:pt x="65" y="39"/>
                    </a:lnTo>
                    <a:lnTo>
                      <a:pt x="69" y="37"/>
                    </a:lnTo>
                    <a:lnTo>
                      <a:pt x="73" y="32"/>
                    </a:lnTo>
                    <a:lnTo>
                      <a:pt x="75" y="28"/>
                    </a:lnTo>
                    <a:lnTo>
                      <a:pt x="76" y="23"/>
                    </a:lnTo>
                    <a:lnTo>
                      <a:pt x="75" y="19"/>
                    </a:lnTo>
                    <a:lnTo>
                      <a:pt x="74" y="14"/>
                    </a:lnTo>
                    <a:lnTo>
                      <a:pt x="70" y="10"/>
                    </a:lnTo>
                    <a:lnTo>
                      <a:pt x="66" y="7"/>
                    </a:lnTo>
                    <a:lnTo>
                      <a:pt x="60" y="4"/>
                    </a:lnTo>
                    <a:lnTo>
                      <a:pt x="54" y="2"/>
                    </a:lnTo>
                    <a:lnTo>
                      <a:pt x="47" y="0"/>
                    </a:lnTo>
                    <a:lnTo>
                      <a:pt x="39" y="0"/>
                    </a:lnTo>
                    <a:lnTo>
                      <a:pt x="31" y="0"/>
                    </a:lnTo>
                    <a:lnTo>
                      <a:pt x="24" y="1"/>
                    </a:lnTo>
                    <a:lnTo>
                      <a:pt x="17" y="4"/>
                    </a:lnTo>
                    <a:lnTo>
                      <a:pt x="12" y="6"/>
                    </a:lnTo>
                    <a:lnTo>
                      <a:pt x="7" y="9"/>
                    </a:lnTo>
                    <a:lnTo>
                      <a:pt x="4" y="13"/>
                    </a:lnTo>
                    <a:lnTo>
                      <a:pt x="1" y="17"/>
                    </a:lnTo>
                    <a:lnTo>
                      <a:pt x="0" y="22"/>
                    </a:lnTo>
                    <a:lnTo>
                      <a:pt x="1" y="27"/>
                    </a:lnTo>
                    <a:lnTo>
                      <a:pt x="4" y="31"/>
                    </a:lnTo>
                    <a:lnTo>
                      <a:pt x="7" y="35"/>
                    </a:lnTo>
                    <a:lnTo>
                      <a:pt x="12" y="39"/>
                    </a:lnTo>
                    <a:lnTo>
                      <a:pt x="17" y="42"/>
                    </a:lnTo>
                    <a:lnTo>
                      <a:pt x="23" y="44"/>
                    </a:lnTo>
                    <a:lnTo>
                      <a:pt x="30" y="46"/>
                    </a:lnTo>
                    <a:lnTo>
                      <a:pt x="38" y="46"/>
                    </a:lnTo>
                    <a:close/>
                  </a:path>
                </a:pathLst>
              </a:custGeom>
              <a:solidFill>
                <a:srgbClr val="7fbf7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989" name=""/>
              <p:cNvSpPr/>
              <p:nvPr/>
            </p:nvSpPr>
            <p:spPr>
              <a:xfrm>
                <a:off x="8193960" y="5736960"/>
                <a:ext cx="32760" cy="21240"/>
              </a:xfrm>
              <a:custGeom>
                <a:avLst/>
                <a:gdLst/>
                <a:ahLst/>
                <a:rect l="l" t="t" r="r" b="b"/>
                <a:pathLst>
                  <a:path w="77" h="47">
                    <a:moveTo>
                      <a:pt x="38" y="47"/>
                    </a:moveTo>
                    <a:lnTo>
                      <a:pt x="46" y="47"/>
                    </a:lnTo>
                    <a:lnTo>
                      <a:pt x="53" y="46"/>
                    </a:lnTo>
                    <a:lnTo>
                      <a:pt x="59" y="44"/>
                    </a:lnTo>
                    <a:lnTo>
                      <a:pt x="65" y="41"/>
                    </a:lnTo>
                    <a:lnTo>
                      <a:pt x="70" y="38"/>
                    </a:lnTo>
                    <a:lnTo>
                      <a:pt x="73" y="33"/>
                    </a:lnTo>
                    <a:lnTo>
                      <a:pt x="76" y="29"/>
                    </a:lnTo>
                    <a:lnTo>
                      <a:pt x="77" y="24"/>
                    </a:lnTo>
                    <a:lnTo>
                      <a:pt x="76" y="19"/>
                    </a:lnTo>
                    <a:lnTo>
                      <a:pt x="74" y="15"/>
                    </a:lnTo>
                    <a:lnTo>
                      <a:pt x="71" y="11"/>
                    </a:lnTo>
                    <a:lnTo>
                      <a:pt x="66" y="7"/>
                    </a:lnTo>
                    <a:lnTo>
                      <a:pt x="61" y="4"/>
                    </a:lnTo>
                    <a:lnTo>
                      <a:pt x="54" y="2"/>
                    </a:lnTo>
                    <a:lnTo>
                      <a:pt x="47" y="0"/>
                    </a:lnTo>
                    <a:lnTo>
                      <a:pt x="39" y="0"/>
                    </a:lnTo>
                    <a:lnTo>
                      <a:pt x="31" y="0"/>
                    </a:lnTo>
                    <a:lnTo>
                      <a:pt x="24" y="2"/>
                    </a:lnTo>
                    <a:lnTo>
                      <a:pt x="18" y="3"/>
                    </a:lnTo>
                    <a:lnTo>
                      <a:pt x="12" y="7"/>
                    </a:lnTo>
                    <a:lnTo>
                      <a:pt x="6" y="10"/>
                    </a:lnTo>
                    <a:lnTo>
                      <a:pt x="3" y="14"/>
                    </a:lnTo>
                    <a:lnTo>
                      <a:pt x="1" y="18"/>
                    </a:lnTo>
                    <a:lnTo>
                      <a:pt x="0" y="23"/>
                    </a:lnTo>
                    <a:lnTo>
                      <a:pt x="1" y="27"/>
                    </a:lnTo>
                    <a:lnTo>
                      <a:pt x="3" y="32"/>
                    </a:lnTo>
                    <a:lnTo>
                      <a:pt x="6" y="36"/>
                    </a:lnTo>
                    <a:lnTo>
                      <a:pt x="11" y="40"/>
                    </a:lnTo>
                    <a:lnTo>
                      <a:pt x="17" y="42"/>
                    </a:lnTo>
                    <a:lnTo>
                      <a:pt x="23" y="45"/>
                    </a:lnTo>
                    <a:lnTo>
                      <a:pt x="29" y="47"/>
                    </a:lnTo>
                    <a:lnTo>
                      <a:pt x="38" y="47"/>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90" name=""/>
              <p:cNvSpPr/>
              <p:nvPr/>
            </p:nvSpPr>
            <p:spPr>
              <a:xfrm>
                <a:off x="8260560" y="5753160"/>
                <a:ext cx="33480" cy="21240"/>
              </a:xfrm>
              <a:custGeom>
                <a:avLst/>
                <a:gdLst/>
                <a:ahLst/>
                <a:rect l="l" t="t" r="r" b="b"/>
                <a:pathLst>
                  <a:path w="78" h="47">
                    <a:moveTo>
                      <a:pt x="39" y="47"/>
                    </a:moveTo>
                    <a:lnTo>
                      <a:pt x="47" y="47"/>
                    </a:lnTo>
                    <a:lnTo>
                      <a:pt x="54" y="46"/>
                    </a:lnTo>
                    <a:lnTo>
                      <a:pt x="61" y="43"/>
                    </a:lnTo>
                    <a:lnTo>
                      <a:pt x="67" y="41"/>
                    </a:lnTo>
                    <a:lnTo>
                      <a:pt x="71" y="38"/>
                    </a:lnTo>
                    <a:lnTo>
                      <a:pt x="75" y="33"/>
                    </a:lnTo>
                    <a:lnTo>
                      <a:pt x="77" y="28"/>
                    </a:lnTo>
                    <a:lnTo>
                      <a:pt x="78" y="24"/>
                    </a:lnTo>
                    <a:lnTo>
                      <a:pt x="77" y="19"/>
                    </a:lnTo>
                    <a:lnTo>
                      <a:pt x="75" y="15"/>
                    </a:lnTo>
                    <a:lnTo>
                      <a:pt x="71" y="11"/>
                    </a:lnTo>
                    <a:lnTo>
                      <a:pt x="67" y="7"/>
                    </a:lnTo>
                    <a:lnTo>
                      <a:pt x="61" y="4"/>
                    </a:lnTo>
                    <a:lnTo>
                      <a:pt x="55" y="2"/>
                    </a:lnTo>
                    <a:lnTo>
                      <a:pt x="48" y="0"/>
                    </a:lnTo>
                    <a:lnTo>
                      <a:pt x="40" y="0"/>
                    </a:lnTo>
                    <a:lnTo>
                      <a:pt x="32" y="0"/>
                    </a:lnTo>
                    <a:lnTo>
                      <a:pt x="25" y="1"/>
                    </a:lnTo>
                    <a:lnTo>
                      <a:pt x="18" y="3"/>
                    </a:lnTo>
                    <a:lnTo>
                      <a:pt x="13" y="5"/>
                    </a:lnTo>
                    <a:lnTo>
                      <a:pt x="8" y="9"/>
                    </a:lnTo>
                    <a:lnTo>
                      <a:pt x="3" y="14"/>
                    </a:lnTo>
                    <a:lnTo>
                      <a:pt x="1" y="18"/>
                    </a:lnTo>
                    <a:lnTo>
                      <a:pt x="0" y="23"/>
                    </a:lnTo>
                    <a:lnTo>
                      <a:pt x="1" y="27"/>
                    </a:lnTo>
                    <a:lnTo>
                      <a:pt x="3" y="32"/>
                    </a:lnTo>
                    <a:lnTo>
                      <a:pt x="7" y="35"/>
                    </a:lnTo>
                    <a:lnTo>
                      <a:pt x="11" y="40"/>
                    </a:lnTo>
                    <a:lnTo>
                      <a:pt x="17" y="42"/>
                    </a:lnTo>
                    <a:lnTo>
                      <a:pt x="24" y="45"/>
                    </a:lnTo>
                    <a:lnTo>
                      <a:pt x="31" y="47"/>
                    </a:lnTo>
                    <a:lnTo>
                      <a:pt x="39" y="47"/>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91" name=""/>
              <p:cNvSpPr/>
              <p:nvPr/>
            </p:nvSpPr>
            <p:spPr>
              <a:xfrm>
                <a:off x="8327880" y="5769360"/>
                <a:ext cx="33480" cy="21240"/>
              </a:xfrm>
              <a:custGeom>
                <a:avLst/>
                <a:gdLst/>
                <a:ahLst/>
                <a:rect l="l" t="t" r="r" b="b"/>
                <a:pathLst>
                  <a:path w="79" h="49">
                    <a:moveTo>
                      <a:pt x="39" y="49"/>
                    </a:moveTo>
                    <a:lnTo>
                      <a:pt x="47" y="49"/>
                    </a:lnTo>
                    <a:lnTo>
                      <a:pt x="54" y="48"/>
                    </a:lnTo>
                    <a:lnTo>
                      <a:pt x="60" y="45"/>
                    </a:lnTo>
                    <a:lnTo>
                      <a:pt x="67" y="43"/>
                    </a:lnTo>
                    <a:lnTo>
                      <a:pt x="72" y="40"/>
                    </a:lnTo>
                    <a:lnTo>
                      <a:pt x="75" y="35"/>
                    </a:lnTo>
                    <a:lnTo>
                      <a:pt x="78" y="30"/>
                    </a:lnTo>
                    <a:lnTo>
                      <a:pt x="79" y="26"/>
                    </a:lnTo>
                    <a:lnTo>
                      <a:pt x="78" y="21"/>
                    </a:lnTo>
                    <a:lnTo>
                      <a:pt x="75" y="17"/>
                    </a:lnTo>
                    <a:lnTo>
                      <a:pt x="72" y="12"/>
                    </a:lnTo>
                    <a:lnTo>
                      <a:pt x="67" y="8"/>
                    </a:lnTo>
                    <a:lnTo>
                      <a:pt x="62" y="5"/>
                    </a:lnTo>
                    <a:lnTo>
                      <a:pt x="55" y="3"/>
                    </a:lnTo>
                    <a:lnTo>
                      <a:pt x="48" y="2"/>
                    </a:lnTo>
                    <a:lnTo>
                      <a:pt x="40" y="0"/>
                    </a:lnTo>
                    <a:lnTo>
                      <a:pt x="32" y="0"/>
                    </a:lnTo>
                    <a:lnTo>
                      <a:pt x="25" y="3"/>
                    </a:lnTo>
                    <a:lnTo>
                      <a:pt x="18" y="4"/>
                    </a:lnTo>
                    <a:lnTo>
                      <a:pt x="12" y="7"/>
                    </a:lnTo>
                    <a:lnTo>
                      <a:pt x="7" y="11"/>
                    </a:lnTo>
                    <a:lnTo>
                      <a:pt x="4" y="15"/>
                    </a:lnTo>
                    <a:lnTo>
                      <a:pt x="2" y="20"/>
                    </a:lnTo>
                    <a:lnTo>
                      <a:pt x="0" y="25"/>
                    </a:lnTo>
                    <a:lnTo>
                      <a:pt x="0" y="29"/>
                    </a:lnTo>
                    <a:lnTo>
                      <a:pt x="3" y="34"/>
                    </a:lnTo>
                    <a:lnTo>
                      <a:pt x="6" y="37"/>
                    </a:lnTo>
                    <a:lnTo>
                      <a:pt x="11" y="42"/>
                    </a:lnTo>
                    <a:lnTo>
                      <a:pt x="17" y="44"/>
                    </a:lnTo>
                    <a:lnTo>
                      <a:pt x="24" y="46"/>
                    </a:lnTo>
                    <a:lnTo>
                      <a:pt x="30" y="49"/>
                    </a:lnTo>
                    <a:lnTo>
                      <a:pt x="39" y="49"/>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92" name=""/>
              <p:cNvSpPr/>
              <p:nvPr/>
            </p:nvSpPr>
            <p:spPr>
              <a:xfrm>
                <a:off x="8394480" y="5786280"/>
                <a:ext cx="34200" cy="21240"/>
              </a:xfrm>
              <a:custGeom>
                <a:avLst/>
                <a:gdLst/>
                <a:ahLst/>
                <a:rect l="l" t="t" r="r" b="b"/>
                <a:pathLst>
                  <a:path w="79" h="50">
                    <a:moveTo>
                      <a:pt x="39" y="50"/>
                    </a:moveTo>
                    <a:lnTo>
                      <a:pt x="47" y="50"/>
                    </a:lnTo>
                    <a:lnTo>
                      <a:pt x="54" y="47"/>
                    </a:lnTo>
                    <a:lnTo>
                      <a:pt x="61" y="46"/>
                    </a:lnTo>
                    <a:lnTo>
                      <a:pt x="68" y="43"/>
                    </a:lnTo>
                    <a:lnTo>
                      <a:pt x="73" y="39"/>
                    </a:lnTo>
                    <a:lnTo>
                      <a:pt x="76" y="35"/>
                    </a:lnTo>
                    <a:lnTo>
                      <a:pt x="78" y="30"/>
                    </a:lnTo>
                    <a:lnTo>
                      <a:pt x="79" y="26"/>
                    </a:lnTo>
                    <a:lnTo>
                      <a:pt x="78" y="21"/>
                    </a:lnTo>
                    <a:lnTo>
                      <a:pt x="76" y="15"/>
                    </a:lnTo>
                    <a:lnTo>
                      <a:pt x="73" y="12"/>
                    </a:lnTo>
                    <a:lnTo>
                      <a:pt x="68" y="7"/>
                    </a:lnTo>
                    <a:lnTo>
                      <a:pt x="62" y="5"/>
                    </a:lnTo>
                    <a:lnTo>
                      <a:pt x="55" y="3"/>
                    </a:lnTo>
                    <a:lnTo>
                      <a:pt x="48" y="0"/>
                    </a:lnTo>
                    <a:lnTo>
                      <a:pt x="40" y="0"/>
                    </a:lnTo>
                    <a:lnTo>
                      <a:pt x="32" y="0"/>
                    </a:lnTo>
                    <a:lnTo>
                      <a:pt x="25" y="1"/>
                    </a:lnTo>
                    <a:lnTo>
                      <a:pt x="18" y="4"/>
                    </a:lnTo>
                    <a:lnTo>
                      <a:pt x="11" y="6"/>
                    </a:lnTo>
                    <a:lnTo>
                      <a:pt x="7" y="11"/>
                    </a:lnTo>
                    <a:lnTo>
                      <a:pt x="3" y="14"/>
                    </a:lnTo>
                    <a:lnTo>
                      <a:pt x="1" y="19"/>
                    </a:lnTo>
                    <a:lnTo>
                      <a:pt x="0" y="23"/>
                    </a:lnTo>
                    <a:lnTo>
                      <a:pt x="0" y="28"/>
                    </a:lnTo>
                    <a:lnTo>
                      <a:pt x="2" y="34"/>
                    </a:lnTo>
                    <a:lnTo>
                      <a:pt x="6" y="37"/>
                    </a:lnTo>
                    <a:lnTo>
                      <a:pt x="11" y="42"/>
                    </a:lnTo>
                    <a:lnTo>
                      <a:pt x="17" y="44"/>
                    </a:lnTo>
                    <a:lnTo>
                      <a:pt x="24" y="47"/>
                    </a:lnTo>
                    <a:lnTo>
                      <a:pt x="31" y="49"/>
                    </a:lnTo>
                    <a:lnTo>
                      <a:pt x="39" y="50"/>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93" name=""/>
              <p:cNvSpPr/>
              <p:nvPr/>
            </p:nvSpPr>
            <p:spPr>
              <a:xfrm>
                <a:off x="8345880" y="5848200"/>
                <a:ext cx="34560" cy="22320"/>
              </a:xfrm>
              <a:custGeom>
                <a:avLst/>
                <a:gdLst/>
                <a:ahLst/>
                <a:rect l="l" t="t" r="r" b="b"/>
                <a:pathLst>
                  <a:path w="81" h="49">
                    <a:moveTo>
                      <a:pt x="40" y="49"/>
                    </a:moveTo>
                    <a:lnTo>
                      <a:pt x="49" y="49"/>
                    </a:lnTo>
                    <a:lnTo>
                      <a:pt x="55" y="47"/>
                    </a:lnTo>
                    <a:lnTo>
                      <a:pt x="62" y="46"/>
                    </a:lnTo>
                    <a:lnTo>
                      <a:pt x="69" y="42"/>
                    </a:lnTo>
                    <a:lnTo>
                      <a:pt x="74" y="39"/>
                    </a:lnTo>
                    <a:lnTo>
                      <a:pt x="77" y="34"/>
                    </a:lnTo>
                    <a:lnTo>
                      <a:pt x="80" y="30"/>
                    </a:lnTo>
                    <a:lnTo>
                      <a:pt x="81" y="25"/>
                    </a:lnTo>
                    <a:lnTo>
                      <a:pt x="80" y="20"/>
                    </a:lnTo>
                    <a:lnTo>
                      <a:pt x="77" y="15"/>
                    </a:lnTo>
                    <a:lnTo>
                      <a:pt x="74" y="11"/>
                    </a:lnTo>
                    <a:lnTo>
                      <a:pt x="69" y="7"/>
                    </a:lnTo>
                    <a:lnTo>
                      <a:pt x="64" y="4"/>
                    </a:lnTo>
                    <a:lnTo>
                      <a:pt x="57" y="2"/>
                    </a:lnTo>
                    <a:lnTo>
                      <a:pt x="50" y="0"/>
                    </a:lnTo>
                    <a:lnTo>
                      <a:pt x="42" y="0"/>
                    </a:lnTo>
                    <a:lnTo>
                      <a:pt x="34" y="0"/>
                    </a:lnTo>
                    <a:lnTo>
                      <a:pt x="25" y="1"/>
                    </a:lnTo>
                    <a:lnTo>
                      <a:pt x="19" y="3"/>
                    </a:lnTo>
                    <a:lnTo>
                      <a:pt x="13" y="7"/>
                    </a:lnTo>
                    <a:lnTo>
                      <a:pt x="8" y="10"/>
                    </a:lnTo>
                    <a:lnTo>
                      <a:pt x="4" y="15"/>
                    </a:lnTo>
                    <a:lnTo>
                      <a:pt x="1" y="19"/>
                    </a:lnTo>
                    <a:lnTo>
                      <a:pt x="0" y="24"/>
                    </a:lnTo>
                    <a:lnTo>
                      <a:pt x="1" y="28"/>
                    </a:lnTo>
                    <a:lnTo>
                      <a:pt x="4" y="33"/>
                    </a:lnTo>
                    <a:lnTo>
                      <a:pt x="7" y="38"/>
                    </a:lnTo>
                    <a:lnTo>
                      <a:pt x="12" y="41"/>
                    </a:lnTo>
                    <a:lnTo>
                      <a:pt x="19" y="43"/>
                    </a:lnTo>
                    <a:lnTo>
                      <a:pt x="25" y="47"/>
                    </a:lnTo>
                    <a:lnTo>
                      <a:pt x="32" y="48"/>
                    </a:lnTo>
                    <a:lnTo>
                      <a:pt x="40" y="49"/>
                    </a:lnTo>
                    <a:close/>
                  </a:path>
                </a:pathLst>
              </a:custGeom>
              <a:solidFill>
                <a:srgbClr val="7fbf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94" name=""/>
              <p:cNvSpPr/>
              <p:nvPr/>
            </p:nvSpPr>
            <p:spPr>
              <a:xfrm>
                <a:off x="8277840" y="5829120"/>
                <a:ext cx="33480" cy="21240"/>
              </a:xfrm>
              <a:custGeom>
                <a:avLst/>
                <a:gdLst/>
                <a:ahLst/>
                <a:rect l="l" t="t" r="r" b="b"/>
                <a:pathLst>
                  <a:path w="80" h="48">
                    <a:moveTo>
                      <a:pt x="39" y="48"/>
                    </a:moveTo>
                    <a:lnTo>
                      <a:pt x="47" y="48"/>
                    </a:lnTo>
                    <a:lnTo>
                      <a:pt x="54" y="47"/>
                    </a:lnTo>
                    <a:lnTo>
                      <a:pt x="61" y="45"/>
                    </a:lnTo>
                    <a:lnTo>
                      <a:pt x="67" y="43"/>
                    </a:lnTo>
                    <a:lnTo>
                      <a:pt x="72" y="39"/>
                    </a:lnTo>
                    <a:lnTo>
                      <a:pt x="76" y="35"/>
                    </a:lnTo>
                    <a:lnTo>
                      <a:pt x="78" y="30"/>
                    </a:lnTo>
                    <a:lnTo>
                      <a:pt x="80" y="25"/>
                    </a:lnTo>
                    <a:lnTo>
                      <a:pt x="78" y="21"/>
                    </a:lnTo>
                    <a:lnTo>
                      <a:pt x="76" y="16"/>
                    </a:lnTo>
                    <a:lnTo>
                      <a:pt x="73" y="12"/>
                    </a:lnTo>
                    <a:lnTo>
                      <a:pt x="68" y="8"/>
                    </a:lnTo>
                    <a:lnTo>
                      <a:pt x="62" y="5"/>
                    </a:lnTo>
                    <a:lnTo>
                      <a:pt x="55" y="2"/>
                    </a:lnTo>
                    <a:lnTo>
                      <a:pt x="49" y="1"/>
                    </a:lnTo>
                    <a:lnTo>
                      <a:pt x="40" y="0"/>
                    </a:lnTo>
                    <a:lnTo>
                      <a:pt x="32" y="0"/>
                    </a:lnTo>
                    <a:lnTo>
                      <a:pt x="25" y="2"/>
                    </a:lnTo>
                    <a:lnTo>
                      <a:pt x="19" y="3"/>
                    </a:lnTo>
                    <a:lnTo>
                      <a:pt x="12" y="7"/>
                    </a:lnTo>
                    <a:lnTo>
                      <a:pt x="7" y="10"/>
                    </a:lnTo>
                    <a:lnTo>
                      <a:pt x="4" y="15"/>
                    </a:lnTo>
                    <a:lnTo>
                      <a:pt x="1" y="20"/>
                    </a:lnTo>
                    <a:lnTo>
                      <a:pt x="0" y="24"/>
                    </a:lnTo>
                    <a:lnTo>
                      <a:pt x="1" y="29"/>
                    </a:lnTo>
                    <a:lnTo>
                      <a:pt x="4" y="33"/>
                    </a:lnTo>
                    <a:lnTo>
                      <a:pt x="7" y="37"/>
                    </a:lnTo>
                    <a:lnTo>
                      <a:pt x="12" y="41"/>
                    </a:lnTo>
                    <a:lnTo>
                      <a:pt x="17" y="44"/>
                    </a:lnTo>
                    <a:lnTo>
                      <a:pt x="24" y="46"/>
                    </a:lnTo>
                    <a:lnTo>
                      <a:pt x="31" y="48"/>
                    </a:lnTo>
                    <a:lnTo>
                      <a:pt x="39" y="48"/>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95" name=""/>
              <p:cNvSpPr/>
              <p:nvPr/>
            </p:nvSpPr>
            <p:spPr>
              <a:xfrm>
                <a:off x="8208360" y="5810400"/>
                <a:ext cx="33480" cy="21240"/>
              </a:xfrm>
              <a:custGeom>
                <a:avLst/>
                <a:gdLst/>
                <a:ahLst/>
                <a:rect l="l" t="t" r="r" b="b"/>
                <a:pathLst>
                  <a:path w="77" h="47">
                    <a:moveTo>
                      <a:pt x="38" y="47"/>
                    </a:moveTo>
                    <a:lnTo>
                      <a:pt x="46" y="47"/>
                    </a:lnTo>
                    <a:lnTo>
                      <a:pt x="53" y="46"/>
                    </a:lnTo>
                    <a:lnTo>
                      <a:pt x="60" y="43"/>
                    </a:lnTo>
                    <a:lnTo>
                      <a:pt x="66" y="41"/>
                    </a:lnTo>
                    <a:lnTo>
                      <a:pt x="70" y="38"/>
                    </a:lnTo>
                    <a:lnTo>
                      <a:pt x="74" y="33"/>
                    </a:lnTo>
                    <a:lnTo>
                      <a:pt x="76" y="28"/>
                    </a:lnTo>
                    <a:lnTo>
                      <a:pt x="77" y="24"/>
                    </a:lnTo>
                    <a:lnTo>
                      <a:pt x="77" y="19"/>
                    </a:lnTo>
                    <a:lnTo>
                      <a:pt x="75" y="15"/>
                    </a:lnTo>
                    <a:lnTo>
                      <a:pt x="72" y="11"/>
                    </a:lnTo>
                    <a:lnTo>
                      <a:pt x="67" y="6"/>
                    </a:lnTo>
                    <a:lnTo>
                      <a:pt x="61" y="4"/>
                    </a:lnTo>
                    <a:lnTo>
                      <a:pt x="54" y="2"/>
                    </a:lnTo>
                    <a:lnTo>
                      <a:pt x="47" y="0"/>
                    </a:lnTo>
                    <a:lnTo>
                      <a:pt x="39" y="0"/>
                    </a:lnTo>
                    <a:lnTo>
                      <a:pt x="31" y="0"/>
                    </a:lnTo>
                    <a:lnTo>
                      <a:pt x="24" y="1"/>
                    </a:lnTo>
                    <a:lnTo>
                      <a:pt x="17" y="3"/>
                    </a:lnTo>
                    <a:lnTo>
                      <a:pt x="12" y="5"/>
                    </a:lnTo>
                    <a:lnTo>
                      <a:pt x="7" y="9"/>
                    </a:lnTo>
                    <a:lnTo>
                      <a:pt x="4" y="13"/>
                    </a:lnTo>
                    <a:lnTo>
                      <a:pt x="1" y="18"/>
                    </a:lnTo>
                    <a:lnTo>
                      <a:pt x="0" y="23"/>
                    </a:lnTo>
                    <a:lnTo>
                      <a:pt x="0" y="27"/>
                    </a:lnTo>
                    <a:lnTo>
                      <a:pt x="2" y="32"/>
                    </a:lnTo>
                    <a:lnTo>
                      <a:pt x="6" y="35"/>
                    </a:lnTo>
                    <a:lnTo>
                      <a:pt x="10" y="40"/>
                    </a:lnTo>
                    <a:lnTo>
                      <a:pt x="16" y="42"/>
                    </a:lnTo>
                    <a:lnTo>
                      <a:pt x="23" y="44"/>
                    </a:lnTo>
                    <a:lnTo>
                      <a:pt x="30" y="47"/>
                    </a:lnTo>
                    <a:lnTo>
                      <a:pt x="38" y="47"/>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96" name=""/>
              <p:cNvSpPr/>
              <p:nvPr/>
            </p:nvSpPr>
            <p:spPr>
              <a:xfrm>
                <a:off x="8139240" y="5791680"/>
                <a:ext cx="33480" cy="21240"/>
              </a:xfrm>
              <a:custGeom>
                <a:avLst/>
                <a:gdLst/>
                <a:ahLst/>
                <a:rect l="l" t="t" r="r" b="b"/>
                <a:pathLst>
                  <a:path w="77" h="47">
                    <a:moveTo>
                      <a:pt x="38" y="47"/>
                    </a:moveTo>
                    <a:lnTo>
                      <a:pt x="46" y="47"/>
                    </a:lnTo>
                    <a:lnTo>
                      <a:pt x="53" y="46"/>
                    </a:lnTo>
                    <a:lnTo>
                      <a:pt x="60" y="44"/>
                    </a:lnTo>
                    <a:lnTo>
                      <a:pt x="66" y="41"/>
                    </a:lnTo>
                    <a:lnTo>
                      <a:pt x="70" y="38"/>
                    </a:lnTo>
                    <a:lnTo>
                      <a:pt x="74" y="33"/>
                    </a:lnTo>
                    <a:lnTo>
                      <a:pt x="76" y="29"/>
                    </a:lnTo>
                    <a:lnTo>
                      <a:pt x="77" y="24"/>
                    </a:lnTo>
                    <a:lnTo>
                      <a:pt x="76" y="20"/>
                    </a:lnTo>
                    <a:lnTo>
                      <a:pt x="74" y="15"/>
                    </a:lnTo>
                    <a:lnTo>
                      <a:pt x="70" y="11"/>
                    </a:lnTo>
                    <a:lnTo>
                      <a:pt x="66" y="7"/>
                    </a:lnTo>
                    <a:lnTo>
                      <a:pt x="60" y="5"/>
                    </a:lnTo>
                    <a:lnTo>
                      <a:pt x="54" y="2"/>
                    </a:lnTo>
                    <a:lnTo>
                      <a:pt x="47" y="0"/>
                    </a:lnTo>
                    <a:lnTo>
                      <a:pt x="39" y="0"/>
                    </a:lnTo>
                    <a:lnTo>
                      <a:pt x="31" y="0"/>
                    </a:lnTo>
                    <a:lnTo>
                      <a:pt x="24" y="2"/>
                    </a:lnTo>
                    <a:lnTo>
                      <a:pt x="17" y="3"/>
                    </a:lnTo>
                    <a:lnTo>
                      <a:pt x="11" y="7"/>
                    </a:lnTo>
                    <a:lnTo>
                      <a:pt x="7" y="10"/>
                    </a:lnTo>
                    <a:lnTo>
                      <a:pt x="3" y="14"/>
                    </a:lnTo>
                    <a:lnTo>
                      <a:pt x="1" y="18"/>
                    </a:lnTo>
                    <a:lnTo>
                      <a:pt x="0" y="23"/>
                    </a:lnTo>
                    <a:lnTo>
                      <a:pt x="1" y="28"/>
                    </a:lnTo>
                    <a:lnTo>
                      <a:pt x="3" y="32"/>
                    </a:lnTo>
                    <a:lnTo>
                      <a:pt x="7" y="36"/>
                    </a:lnTo>
                    <a:lnTo>
                      <a:pt x="11" y="40"/>
                    </a:lnTo>
                    <a:lnTo>
                      <a:pt x="17" y="43"/>
                    </a:lnTo>
                    <a:lnTo>
                      <a:pt x="23" y="45"/>
                    </a:lnTo>
                    <a:lnTo>
                      <a:pt x="30" y="47"/>
                    </a:lnTo>
                    <a:lnTo>
                      <a:pt x="38" y="47"/>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97" name=""/>
              <p:cNvSpPr/>
              <p:nvPr/>
            </p:nvSpPr>
            <p:spPr>
              <a:xfrm>
                <a:off x="8070120" y="5772960"/>
                <a:ext cx="32760" cy="20160"/>
              </a:xfrm>
              <a:custGeom>
                <a:avLst/>
                <a:gdLst/>
                <a:ahLst/>
                <a:rect l="l" t="t" r="r" b="b"/>
                <a:pathLst>
                  <a:path w="76" h="47">
                    <a:moveTo>
                      <a:pt x="37" y="47"/>
                    </a:moveTo>
                    <a:lnTo>
                      <a:pt x="45" y="47"/>
                    </a:lnTo>
                    <a:lnTo>
                      <a:pt x="52" y="45"/>
                    </a:lnTo>
                    <a:lnTo>
                      <a:pt x="59" y="43"/>
                    </a:lnTo>
                    <a:lnTo>
                      <a:pt x="64" y="40"/>
                    </a:lnTo>
                    <a:lnTo>
                      <a:pt x="69" y="37"/>
                    </a:lnTo>
                    <a:lnTo>
                      <a:pt x="72" y="33"/>
                    </a:lnTo>
                    <a:lnTo>
                      <a:pt x="75" y="28"/>
                    </a:lnTo>
                    <a:lnTo>
                      <a:pt x="76" y="23"/>
                    </a:lnTo>
                    <a:lnTo>
                      <a:pt x="75" y="19"/>
                    </a:lnTo>
                    <a:lnTo>
                      <a:pt x="72" y="14"/>
                    </a:lnTo>
                    <a:lnTo>
                      <a:pt x="69" y="11"/>
                    </a:lnTo>
                    <a:lnTo>
                      <a:pt x="64" y="7"/>
                    </a:lnTo>
                    <a:lnTo>
                      <a:pt x="59" y="4"/>
                    </a:lnTo>
                    <a:lnTo>
                      <a:pt x="53" y="3"/>
                    </a:lnTo>
                    <a:lnTo>
                      <a:pt x="46" y="0"/>
                    </a:lnTo>
                    <a:lnTo>
                      <a:pt x="38" y="0"/>
                    </a:lnTo>
                    <a:lnTo>
                      <a:pt x="30" y="0"/>
                    </a:lnTo>
                    <a:lnTo>
                      <a:pt x="23" y="2"/>
                    </a:lnTo>
                    <a:lnTo>
                      <a:pt x="17" y="4"/>
                    </a:lnTo>
                    <a:lnTo>
                      <a:pt x="11" y="6"/>
                    </a:lnTo>
                    <a:lnTo>
                      <a:pt x="7" y="10"/>
                    </a:lnTo>
                    <a:lnTo>
                      <a:pt x="3" y="13"/>
                    </a:lnTo>
                    <a:lnTo>
                      <a:pt x="1" y="18"/>
                    </a:lnTo>
                    <a:lnTo>
                      <a:pt x="0" y="22"/>
                    </a:lnTo>
                    <a:lnTo>
                      <a:pt x="1" y="27"/>
                    </a:lnTo>
                    <a:lnTo>
                      <a:pt x="2" y="32"/>
                    </a:lnTo>
                    <a:lnTo>
                      <a:pt x="6" y="36"/>
                    </a:lnTo>
                    <a:lnTo>
                      <a:pt x="10" y="40"/>
                    </a:lnTo>
                    <a:lnTo>
                      <a:pt x="16" y="43"/>
                    </a:lnTo>
                    <a:lnTo>
                      <a:pt x="22" y="44"/>
                    </a:lnTo>
                    <a:lnTo>
                      <a:pt x="29" y="47"/>
                    </a:lnTo>
                    <a:lnTo>
                      <a:pt x="37" y="47"/>
                    </a:lnTo>
                    <a:close/>
                  </a:path>
                </a:pathLst>
              </a:custGeom>
              <a:solidFill>
                <a:srgbClr val="7fbf7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998" name=""/>
              <p:cNvSpPr/>
              <p:nvPr/>
            </p:nvSpPr>
            <p:spPr>
              <a:xfrm>
                <a:off x="8001000" y="5753880"/>
                <a:ext cx="32400" cy="20160"/>
              </a:xfrm>
              <a:custGeom>
                <a:avLst/>
                <a:gdLst/>
                <a:ahLst/>
                <a:rect l="l" t="t" r="r" b="b"/>
                <a:pathLst>
                  <a:path w="75" h="46">
                    <a:moveTo>
                      <a:pt x="38" y="46"/>
                    </a:moveTo>
                    <a:lnTo>
                      <a:pt x="46" y="46"/>
                    </a:lnTo>
                    <a:lnTo>
                      <a:pt x="53" y="45"/>
                    </a:lnTo>
                    <a:lnTo>
                      <a:pt x="58" y="42"/>
                    </a:lnTo>
                    <a:lnTo>
                      <a:pt x="64" y="40"/>
                    </a:lnTo>
                    <a:lnTo>
                      <a:pt x="69" y="37"/>
                    </a:lnTo>
                    <a:lnTo>
                      <a:pt x="72" y="33"/>
                    </a:lnTo>
                    <a:lnTo>
                      <a:pt x="73" y="29"/>
                    </a:lnTo>
                    <a:lnTo>
                      <a:pt x="75" y="24"/>
                    </a:lnTo>
                    <a:lnTo>
                      <a:pt x="75" y="19"/>
                    </a:lnTo>
                    <a:lnTo>
                      <a:pt x="72" y="15"/>
                    </a:lnTo>
                    <a:lnTo>
                      <a:pt x="69" y="11"/>
                    </a:lnTo>
                    <a:lnTo>
                      <a:pt x="64" y="7"/>
                    </a:lnTo>
                    <a:lnTo>
                      <a:pt x="58" y="4"/>
                    </a:lnTo>
                    <a:lnTo>
                      <a:pt x="53" y="2"/>
                    </a:lnTo>
                    <a:lnTo>
                      <a:pt x="46" y="0"/>
                    </a:lnTo>
                    <a:lnTo>
                      <a:pt x="38" y="0"/>
                    </a:lnTo>
                    <a:lnTo>
                      <a:pt x="30" y="0"/>
                    </a:lnTo>
                    <a:lnTo>
                      <a:pt x="23" y="1"/>
                    </a:lnTo>
                    <a:lnTo>
                      <a:pt x="17" y="3"/>
                    </a:lnTo>
                    <a:lnTo>
                      <a:pt x="11" y="6"/>
                    </a:lnTo>
                    <a:lnTo>
                      <a:pt x="7" y="9"/>
                    </a:lnTo>
                    <a:lnTo>
                      <a:pt x="3" y="13"/>
                    </a:lnTo>
                    <a:lnTo>
                      <a:pt x="1" y="17"/>
                    </a:lnTo>
                    <a:lnTo>
                      <a:pt x="0" y="22"/>
                    </a:lnTo>
                    <a:lnTo>
                      <a:pt x="1" y="26"/>
                    </a:lnTo>
                    <a:lnTo>
                      <a:pt x="3" y="31"/>
                    </a:lnTo>
                    <a:lnTo>
                      <a:pt x="7" y="36"/>
                    </a:lnTo>
                    <a:lnTo>
                      <a:pt x="11" y="39"/>
                    </a:lnTo>
                    <a:lnTo>
                      <a:pt x="17" y="42"/>
                    </a:lnTo>
                    <a:lnTo>
                      <a:pt x="23" y="44"/>
                    </a:lnTo>
                    <a:lnTo>
                      <a:pt x="30" y="46"/>
                    </a:lnTo>
                    <a:lnTo>
                      <a:pt x="38" y="46"/>
                    </a:lnTo>
                    <a:close/>
                  </a:path>
                </a:pathLst>
              </a:custGeom>
              <a:solidFill>
                <a:srgbClr val="7fbf7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999" name=""/>
              <p:cNvSpPr/>
              <p:nvPr/>
            </p:nvSpPr>
            <p:spPr>
              <a:xfrm>
                <a:off x="7932600" y="5735160"/>
                <a:ext cx="31680" cy="20520"/>
              </a:xfrm>
              <a:custGeom>
                <a:avLst/>
                <a:gdLst/>
                <a:ahLst/>
                <a:rect l="l" t="t" r="r" b="b"/>
                <a:pathLst>
                  <a:path w="73" h="45">
                    <a:moveTo>
                      <a:pt x="37" y="45"/>
                    </a:moveTo>
                    <a:lnTo>
                      <a:pt x="43" y="45"/>
                    </a:lnTo>
                    <a:lnTo>
                      <a:pt x="50" y="44"/>
                    </a:lnTo>
                    <a:lnTo>
                      <a:pt x="57" y="42"/>
                    </a:lnTo>
                    <a:lnTo>
                      <a:pt x="62" y="40"/>
                    </a:lnTo>
                    <a:lnTo>
                      <a:pt x="67" y="36"/>
                    </a:lnTo>
                    <a:lnTo>
                      <a:pt x="70" y="33"/>
                    </a:lnTo>
                    <a:lnTo>
                      <a:pt x="72" y="28"/>
                    </a:lnTo>
                    <a:lnTo>
                      <a:pt x="73" y="23"/>
                    </a:lnTo>
                    <a:lnTo>
                      <a:pt x="72" y="19"/>
                    </a:lnTo>
                    <a:lnTo>
                      <a:pt x="71" y="14"/>
                    </a:lnTo>
                    <a:lnTo>
                      <a:pt x="68" y="11"/>
                    </a:lnTo>
                    <a:lnTo>
                      <a:pt x="63" y="7"/>
                    </a:lnTo>
                    <a:lnTo>
                      <a:pt x="57" y="4"/>
                    </a:lnTo>
                    <a:lnTo>
                      <a:pt x="52" y="3"/>
                    </a:lnTo>
                    <a:lnTo>
                      <a:pt x="45" y="0"/>
                    </a:lnTo>
                    <a:lnTo>
                      <a:pt x="37" y="0"/>
                    </a:lnTo>
                    <a:lnTo>
                      <a:pt x="30" y="0"/>
                    </a:lnTo>
                    <a:lnTo>
                      <a:pt x="23" y="2"/>
                    </a:lnTo>
                    <a:lnTo>
                      <a:pt x="16" y="4"/>
                    </a:lnTo>
                    <a:lnTo>
                      <a:pt x="11" y="6"/>
                    </a:lnTo>
                    <a:lnTo>
                      <a:pt x="7" y="10"/>
                    </a:lnTo>
                    <a:lnTo>
                      <a:pt x="3" y="13"/>
                    </a:lnTo>
                    <a:lnTo>
                      <a:pt x="1" y="18"/>
                    </a:lnTo>
                    <a:lnTo>
                      <a:pt x="0" y="22"/>
                    </a:lnTo>
                    <a:lnTo>
                      <a:pt x="1" y="27"/>
                    </a:lnTo>
                    <a:lnTo>
                      <a:pt x="2" y="31"/>
                    </a:lnTo>
                    <a:lnTo>
                      <a:pt x="5" y="35"/>
                    </a:lnTo>
                    <a:lnTo>
                      <a:pt x="10" y="38"/>
                    </a:lnTo>
                    <a:lnTo>
                      <a:pt x="16" y="42"/>
                    </a:lnTo>
                    <a:lnTo>
                      <a:pt x="22" y="43"/>
                    </a:lnTo>
                    <a:lnTo>
                      <a:pt x="28" y="45"/>
                    </a:lnTo>
                    <a:lnTo>
                      <a:pt x="37" y="45"/>
                    </a:lnTo>
                    <a:close/>
                  </a:path>
                </a:pathLst>
              </a:custGeom>
              <a:solidFill>
                <a:srgbClr val="7fbf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00" name=""/>
              <p:cNvSpPr/>
              <p:nvPr/>
            </p:nvSpPr>
            <p:spPr>
              <a:xfrm>
                <a:off x="7863480" y="5716440"/>
                <a:ext cx="32040" cy="19440"/>
              </a:xfrm>
              <a:custGeom>
                <a:avLst/>
                <a:gdLst/>
                <a:ahLst/>
                <a:rect l="l" t="t" r="r" b="b"/>
                <a:pathLst>
                  <a:path w="72" h="45">
                    <a:moveTo>
                      <a:pt x="35" y="45"/>
                    </a:moveTo>
                    <a:lnTo>
                      <a:pt x="42" y="45"/>
                    </a:lnTo>
                    <a:lnTo>
                      <a:pt x="49" y="44"/>
                    </a:lnTo>
                    <a:lnTo>
                      <a:pt x="56" y="41"/>
                    </a:lnTo>
                    <a:lnTo>
                      <a:pt x="61" y="39"/>
                    </a:lnTo>
                    <a:lnTo>
                      <a:pt x="65" y="35"/>
                    </a:lnTo>
                    <a:lnTo>
                      <a:pt x="69" y="32"/>
                    </a:lnTo>
                    <a:lnTo>
                      <a:pt x="71" y="27"/>
                    </a:lnTo>
                    <a:lnTo>
                      <a:pt x="72" y="23"/>
                    </a:lnTo>
                    <a:lnTo>
                      <a:pt x="71" y="18"/>
                    </a:lnTo>
                    <a:lnTo>
                      <a:pt x="70" y="14"/>
                    </a:lnTo>
                    <a:lnTo>
                      <a:pt x="67" y="10"/>
                    </a:lnTo>
                    <a:lnTo>
                      <a:pt x="62" y="7"/>
                    </a:lnTo>
                    <a:lnTo>
                      <a:pt x="56" y="3"/>
                    </a:lnTo>
                    <a:lnTo>
                      <a:pt x="50" y="2"/>
                    </a:lnTo>
                    <a:lnTo>
                      <a:pt x="43" y="0"/>
                    </a:lnTo>
                    <a:lnTo>
                      <a:pt x="37" y="0"/>
                    </a:lnTo>
                    <a:lnTo>
                      <a:pt x="28" y="0"/>
                    </a:lnTo>
                    <a:lnTo>
                      <a:pt x="22" y="1"/>
                    </a:lnTo>
                    <a:lnTo>
                      <a:pt x="16" y="3"/>
                    </a:lnTo>
                    <a:lnTo>
                      <a:pt x="10" y="6"/>
                    </a:lnTo>
                    <a:lnTo>
                      <a:pt x="5" y="9"/>
                    </a:lnTo>
                    <a:lnTo>
                      <a:pt x="2" y="12"/>
                    </a:lnTo>
                    <a:lnTo>
                      <a:pt x="1" y="17"/>
                    </a:lnTo>
                    <a:lnTo>
                      <a:pt x="0" y="22"/>
                    </a:lnTo>
                    <a:lnTo>
                      <a:pt x="0" y="26"/>
                    </a:lnTo>
                    <a:lnTo>
                      <a:pt x="2" y="31"/>
                    </a:lnTo>
                    <a:lnTo>
                      <a:pt x="5" y="34"/>
                    </a:lnTo>
                    <a:lnTo>
                      <a:pt x="9" y="38"/>
                    </a:lnTo>
                    <a:lnTo>
                      <a:pt x="15" y="41"/>
                    </a:lnTo>
                    <a:lnTo>
                      <a:pt x="20" y="42"/>
                    </a:lnTo>
                    <a:lnTo>
                      <a:pt x="27" y="45"/>
                    </a:lnTo>
                    <a:lnTo>
                      <a:pt x="35" y="45"/>
                    </a:lnTo>
                    <a:close/>
                  </a:path>
                </a:pathLst>
              </a:custGeom>
              <a:solidFill>
                <a:srgbClr val="7fbf7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001" name=""/>
              <p:cNvSpPr/>
              <p:nvPr/>
            </p:nvSpPr>
            <p:spPr>
              <a:xfrm>
                <a:off x="7984440" y="5626800"/>
                <a:ext cx="31680" cy="20160"/>
              </a:xfrm>
              <a:custGeom>
                <a:avLst/>
                <a:gdLst/>
                <a:ahLst/>
                <a:rect l="l" t="t" r="r" b="b"/>
                <a:pathLst>
                  <a:path w="72" h="44">
                    <a:moveTo>
                      <a:pt x="35" y="44"/>
                    </a:moveTo>
                    <a:lnTo>
                      <a:pt x="42" y="44"/>
                    </a:lnTo>
                    <a:lnTo>
                      <a:pt x="49" y="43"/>
                    </a:lnTo>
                    <a:lnTo>
                      <a:pt x="56" y="41"/>
                    </a:lnTo>
                    <a:lnTo>
                      <a:pt x="61" y="39"/>
                    </a:lnTo>
                    <a:lnTo>
                      <a:pt x="65" y="35"/>
                    </a:lnTo>
                    <a:lnTo>
                      <a:pt x="69" y="32"/>
                    </a:lnTo>
                    <a:lnTo>
                      <a:pt x="71" y="27"/>
                    </a:lnTo>
                    <a:lnTo>
                      <a:pt x="72" y="23"/>
                    </a:lnTo>
                    <a:lnTo>
                      <a:pt x="71" y="18"/>
                    </a:lnTo>
                    <a:lnTo>
                      <a:pt x="70" y="13"/>
                    </a:lnTo>
                    <a:lnTo>
                      <a:pt x="67" y="10"/>
                    </a:lnTo>
                    <a:lnTo>
                      <a:pt x="62" y="6"/>
                    </a:lnTo>
                    <a:lnTo>
                      <a:pt x="56" y="3"/>
                    </a:lnTo>
                    <a:lnTo>
                      <a:pt x="50" y="2"/>
                    </a:lnTo>
                    <a:lnTo>
                      <a:pt x="43" y="0"/>
                    </a:lnTo>
                    <a:lnTo>
                      <a:pt x="37" y="0"/>
                    </a:lnTo>
                    <a:lnTo>
                      <a:pt x="28" y="0"/>
                    </a:lnTo>
                    <a:lnTo>
                      <a:pt x="22" y="1"/>
                    </a:lnTo>
                    <a:lnTo>
                      <a:pt x="16" y="3"/>
                    </a:lnTo>
                    <a:lnTo>
                      <a:pt x="10" y="5"/>
                    </a:lnTo>
                    <a:lnTo>
                      <a:pt x="5" y="9"/>
                    </a:lnTo>
                    <a:lnTo>
                      <a:pt x="2" y="12"/>
                    </a:lnTo>
                    <a:lnTo>
                      <a:pt x="1" y="16"/>
                    </a:lnTo>
                    <a:lnTo>
                      <a:pt x="0" y="20"/>
                    </a:lnTo>
                    <a:lnTo>
                      <a:pt x="0" y="25"/>
                    </a:lnTo>
                    <a:lnTo>
                      <a:pt x="2" y="29"/>
                    </a:lnTo>
                    <a:lnTo>
                      <a:pt x="5" y="33"/>
                    </a:lnTo>
                    <a:lnTo>
                      <a:pt x="9" y="36"/>
                    </a:lnTo>
                    <a:lnTo>
                      <a:pt x="15" y="40"/>
                    </a:lnTo>
                    <a:lnTo>
                      <a:pt x="20" y="42"/>
                    </a:lnTo>
                    <a:lnTo>
                      <a:pt x="27" y="43"/>
                    </a:lnTo>
                    <a:lnTo>
                      <a:pt x="35" y="44"/>
                    </a:lnTo>
                    <a:close/>
                  </a:path>
                </a:pathLst>
              </a:custGeom>
              <a:solidFill>
                <a:srgbClr val="7fbf7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002" name=""/>
              <p:cNvSpPr/>
              <p:nvPr/>
            </p:nvSpPr>
            <p:spPr>
              <a:xfrm>
                <a:off x="8048520" y="5641200"/>
                <a:ext cx="31680" cy="19440"/>
              </a:xfrm>
              <a:custGeom>
                <a:avLst/>
                <a:gdLst/>
                <a:ahLst/>
                <a:rect l="l" t="t" r="r" b="b"/>
                <a:pathLst>
                  <a:path w="74" h="45">
                    <a:moveTo>
                      <a:pt x="36" y="45"/>
                    </a:moveTo>
                    <a:lnTo>
                      <a:pt x="44" y="45"/>
                    </a:lnTo>
                    <a:lnTo>
                      <a:pt x="51" y="43"/>
                    </a:lnTo>
                    <a:lnTo>
                      <a:pt x="57" y="41"/>
                    </a:lnTo>
                    <a:lnTo>
                      <a:pt x="62" y="39"/>
                    </a:lnTo>
                    <a:lnTo>
                      <a:pt x="67" y="35"/>
                    </a:lnTo>
                    <a:lnTo>
                      <a:pt x="70" y="32"/>
                    </a:lnTo>
                    <a:lnTo>
                      <a:pt x="73" y="28"/>
                    </a:lnTo>
                    <a:lnTo>
                      <a:pt x="74" y="24"/>
                    </a:lnTo>
                    <a:lnTo>
                      <a:pt x="73" y="19"/>
                    </a:lnTo>
                    <a:lnTo>
                      <a:pt x="72" y="15"/>
                    </a:lnTo>
                    <a:lnTo>
                      <a:pt x="68" y="11"/>
                    </a:lnTo>
                    <a:lnTo>
                      <a:pt x="64" y="7"/>
                    </a:lnTo>
                    <a:lnTo>
                      <a:pt x="58" y="4"/>
                    </a:lnTo>
                    <a:lnTo>
                      <a:pt x="52" y="2"/>
                    </a:lnTo>
                    <a:lnTo>
                      <a:pt x="45" y="0"/>
                    </a:lnTo>
                    <a:lnTo>
                      <a:pt x="37" y="0"/>
                    </a:lnTo>
                    <a:lnTo>
                      <a:pt x="29" y="0"/>
                    </a:lnTo>
                    <a:lnTo>
                      <a:pt x="22" y="1"/>
                    </a:lnTo>
                    <a:lnTo>
                      <a:pt x="16" y="3"/>
                    </a:lnTo>
                    <a:lnTo>
                      <a:pt x="11" y="5"/>
                    </a:lnTo>
                    <a:lnTo>
                      <a:pt x="6" y="9"/>
                    </a:lnTo>
                    <a:lnTo>
                      <a:pt x="2" y="12"/>
                    </a:lnTo>
                    <a:lnTo>
                      <a:pt x="1" y="17"/>
                    </a:lnTo>
                    <a:lnTo>
                      <a:pt x="0" y="21"/>
                    </a:lnTo>
                    <a:lnTo>
                      <a:pt x="0" y="26"/>
                    </a:lnTo>
                    <a:lnTo>
                      <a:pt x="2" y="31"/>
                    </a:lnTo>
                    <a:lnTo>
                      <a:pt x="6" y="34"/>
                    </a:lnTo>
                    <a:lnTo>
                      <a:pt x="9" y="38"/>
                    </a:lnTo>
                    <a:lnTo>
                      <a:pt x="15" y="41"/>
                    </a:lnTo>
                    <a:lnTo>
                      <a:pt x="21" y="42"/>
                    </a:lnTo>
                    <a:lnTo>
                      <a:pt x="28" y="45"/>
                    </a:lnTo>
                    <a:lnTo>
                      <a:pt x="36" y="45"/>
                    </a:lnTo>
                    <a:close/>
                  </a:path>
                </a:pathLst>
              </a:custGeom>
              <a:solidFill>
                <a:srgbClr val="7fbf7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003" name=""/>
              <p:cNvSpPr/>
              <p:nvPr/>
            </p:nvSpPr>
            <p:spPr>
              <a:xfrm>
                <a:off x="8111520" y="5654880"/>
                <a:ext cx="32760" cy="20160"/>
              </a:xfrm>
              <a:custGeom>
                <a:avLst/>
                <a:gdLst/>
                <a:ahLst/>
                <a:rect l="l" t="t" r="r" b="b"/>
                <a:pathLst>
                  <a:path w="74" h="46">
                    <a:moveTo>
                      <a:pt x="36" y="46"/>
                    </a:moveTo>
                    <a:lnTo>
                      <a:pt x="44" y="46"/>
                    </a:lnTo>
                    <a:lnTo>
                      <a:pt x="51" y="45"/>
                    </a:lnTo>
                    <a:lnTo>
                      <a:pt x="57" y="42"/>
                    </a:lnTo>
                    <a:lnTo>
                      <a:pt x="63" y="40"/>
                    </a:lnTo>
                    <a:lnTo>
                      <a:pt x="68" y="37"/>
                    </a:lnTo>
                    <a:lnTo>
                      <a:pt x="71" y="33"/>
                    </a:lnTo>
                    <a:lnTo>
                      <a:pt x="73" y="28"/>
                    </a:lnTo>
                    <a:lnTo>
                      <a:pt x="74" y="24"/>
                    </a:lnTo>
                    <a:lnTo>
                      <a:pt x="74" y="19"/>
                    </a:lnTo>
                    <a:lnTo>
                      <a:pt x="72" y="15"/>
                    </a:lnTo>
                    <a:lnTo>
                      <a:pt x="69" y="11"/>
                    </a:lnTo>
                    <a:lnTo>
                      <a:pt x="64" y="7"/>
                    </a:lnTo>
                    <a:lnTo>
                      <a:pt x="58" y="4"/>
                    </a:lnTo>
                    <a:lnTo>
                      <a:pt x="53" y="2"/>
                    </a:lnTo>
                    <a:lnTo>
                      <a:pt x="46" y="0"/>
                    </a:lnTo>
                    <a:lnTo>
                      <a:pt x="38" y="0"/>
                    </a:lnTo>
                    <a:lnTo>
                      <a:pt x="29" y="0"/>
                    </a:lnTo>
                    <a:lnTo>
                      <a:pt x="23" y="1"/>
                    </a:lnTo>
                    <a:lnTo>
                      <a:pt x="17" y="3"/>
                    </a:lnTo>
                    <a:lnTo>
                      <a:pt x="11" y="5"/>
                    </a:lnTo>
                    <a:lnTo>
                      <a:pt x="6" y="9"/>
                    </a:lnTo>
                    <a:lnTo>
                      <a:pt x="3" y="12"/>
                    </a:lnTo>
                    <a:lnTo>
                      <a:pt x="1" y="17"/>
                    </a:lnTo>
                    <a:lnTo>
                      <a:pt x="0" y="22"/>
                    </a:lnTo>
                    <a:lnTo>
                      <a:pt x="1" y="26"/>
                    </a:lnTo>
                    <a:lnTo>
                      <a:pt x="2" y="31"/>
                    </a:lnTo>
                    <a:lnTo>
                      <a:pt x="5" y="34"/>
                    </a:lnTo>
                    <a:lnTo>
                      <a:pt x="10" y="38"/>
                    </a:lnTo>
                    <a:lnTo>
                      <a:pt x="16" y="41"/>
                    </a:lnTo>
                    <a:lnTo>
                      <a:pt x="21" y="43"/>
                    </a:lnTo>
                    <a:lnTo>
                      <a:pt x="28" y="45"/>
                    </a:lnTo>
                    <a:lnTo>
                      <a:pt x="36" y="46"/>
                    </a:lnTo>
                    <a:close/>
                  </a:path>
                </a:pathLst>
              </a:custGeom>
              <a:solidFill>
                <a:srgbClr val="7fbf7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004" name=""/>
              <p:cNvSpPr/>
              <p:nvPr/>
            </p:nvSpPr>
            <p:spPr>
              <a:xfrm>
                <a:off x="8175600" y="5668920"/>
                <a:ext cx="32760" cy="20520"/>
              </a:xfrm>
              <a:custGeom>
                <a:avLst/>
                <a:gdLst/>
                <a:ahLst/>
                <a:rect l="l" t="t" r="r" b="b"/>
                <a:pathLst>
                  <a:path w="76" h="46">
                    <a:moveTo>
                      <a:pt x="38" y="46"/>
                    </a:moveTo>
                    <a:lnTo>
                      <a:pt x="46" y="46"/>
                    </a:lnTo>
                    <a:lnTo>
                      <a:pt x="53" y="45"/>
                    </a:lnTo>
                    <a:lnTo>
                      <a:pt x="59" y="42"/>
                    </a:lnTo>
                    <a:lnTo>
                      <a:pt x="65" y="40"/>
                    </a:lnTo>
                    <a:lnTo>
                      <a:pt x="69" y="37"/>
                    </a:lnTo>
                    <a:lnTo>
                      <a:pt x="73" y="33"/>
                    </a:lnTo>
                    <a:lnTo>
                      <a:pt x="75" y="29"/>
                    </a:lnTo>
                    <a:lnTo>
                      <a:pt x="76" y="24"/>
                    </a:lnTo>
                    <a:lnTo>
                      <a:pt x="75" y="19"/>
                    </a:lnTo>
                    <a:lnTo>
                      <a:pt x="74" y="15"/>
                    </a:lnTo>
                    <a:lnTo>
                      <a:pt x="70" y="11"/>
                    </a:lnTo>
                    <a:lnTo>
                      <a:pt x="66" y="7"/>
                    </a:lnTo>
                    <a:lnTo>
                      <a:pt x="60" y="4"/>
                    </a:lnTo>
                    <a:lnTo>
                      <a:pt x="54" y="2"/>
                    </a:lnTo>
                    <a:lnTo>
                      <a:pt x="47" y="0"/>
                    </a:lnTo>
                    <a:lnTo>
                      <a:pt x="39" y="0"/>
                    </a:lnTo>
                    <a:lnTo>
                      <a:pt x="31" y="0"/>
                    </a:lnTo>
                    <a:lnTo>
                      <a:pt x="24" y="1"/>
                    </a:lnTo>
                    <a:lnTo>
                      <a:pt x="18" y="3"/>
                    </a:lnTo>
                    <a:lnTo>
                      <a:pt x="13" y="6"/>
                    </a:lnTo>
                    <a:lnTo>
                      <a:pt x="7" y="9"/>
                    </a:lnTo>
                    <a:lnTo>
                      <a:pt x="3" y="12"/>
                    </a:lnTo>
                    <a:lnTo>
                      <a:pt x="1" y="17"/>
                    </a:lnTo>
                    <a:lnTo>
                      <a:pt x="0" y="22"/>
                    </a:lnTo>
                    <a:lnTo>
                      <a:pt x="1" y="26"/>
                    </a:lnTo>
                    <a:lnTo>
                      <a:pt x="2" y="31"/>
                    </a:lnTo>
                    <a:lnTo>
                      <a:pt x="6" y="34"/>
                    </a:lnTo>
                    <a:lnTo>
                      <a:pt x="10" y="39"/>
                    </a:lnTo>
                    <a:lnTo>
                      <a:pt x="16" y="41"/>
                    </a:lnTo>
                    <a:lnTo>
                      <a:pt x="23" y="44"/>
                    </a:lnTo>
                    <a:lnTo>
                      <a:pt x="30" y="46"/>
                    </a:lnTo>
                    <a:lnTo>
                      <a:pt x="38" y="46"/>
                    </a:lnTo>
                    <a:close/>
                  </a:path>
                </a:pathLst>
              </a:custGeom>
              <a:solidFill>
                <a:srgbClr val="7fbf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05" name=""/>
              <p:cNvSpPr/>
              <p:nvPr/>
            </p:nvSpPr>
            <p:spPr>
              <a:xfrm>
                <a:off x="8239680" y="5682240"/>
                <a:ext cx="32400" cy="21240"/>
              </a:xfrm>
              <a:custGeom>
                <a:avLst/>
                <a:gdLst/>
                <a:ahLst/>
                <a:rect l="l" t="t" r="r" b="b"/>
                <a:pathLst>
                  <a:path w="77" h="47">
                    <a:moveTo>
                      <a:pt x="38" y="47"/>
                    </a:moveTo>
                    <a:lnTo>
                      <a:pt x="46" y="47"/>
                    </a:lnTo>
                    <a:lnTo>
                      <a:pt x="53" y="46"/>
                    </a:lnTo>
                    <a:lnTo>
                      <a:pt x="59" y="44"/>
                    </a:lnTo>
                    <a:lnTo>
                      <a:pt x="65" y="41"/>
                    </a:lnTo>
                    <a:lnTo>
                      <a:pt x="70" y="38"/>
                    </a:lnTo>
                    <a:lnTo>
                      <a:pt x="73" y="33"/>
                    </a:lnTo>
                    <a:lnTo>
                      <a:pt x="76" y="29"/>
                    </a:lnTo>
                    <a:lnTo>
                      <a:pt x="77" y="24"/>
                    </a:lnTo>
                    <a:lnTo>
                      <a:pt x="76" y="19"/>
                    </a:lnTo>
                    <a:lnTo>
                      <a:pt x="74" y="15"/>
                    </a:lnTo>
                    <a:lnTo>
                      <a:pt x="71" y="11"/>
                    </a:lnTo>
                    <a:lnTo>
                      <a:pt x="66" y="7"/>
                    </a:lnTo>
                    <a:lnTo>
                      <a:pt x="61" y="5"/>
                    </a:lnTo>
                    <a:lnTo>
                      <a:pt x="54" y="2"/>
                    </a:lnTo>
                    <a:lnTo>
                      <a:pt x="47" y="0"/>
                    </a:lnTo>
                    <a:lnTo>
                      <a:pt x="39" y="0"/>
                    </a:lnTo>
                    <a:lnTo>
                      <a:pt x="31" y="0"/>
                    </a:lnTo>
                    <a:lnTo>
                      <a:pt x="24" y="1"/>
                    </a:lnTo>
                    <a:lnTo>
                      <a:pt x="17" y="3"/>
                    </a:lnTo>
                    <a:lnTo>
                      <a:pt x="11" y="6"/>
                    </a:lnTo>
                    <a:lnTo>
                      <a:pt x="6" y="9"/>
                    </a:lnTo>
                    <a:lnTo>
                      <a:pt x="3" y="14"/>
                    </a:lnTo>
                    <a:lnTo>
                      <a:pt x="1" y="18"/>
                    </a:lnTo>
                    <a:lnTo>
                      <a:pt x="0" y="23"/>
                    </a:lnTo>
                    <a:lnTo>
                      <a:pt x="1" y="28"/>
                    </a:lnTo>
                    <a:lnTo>
                      <a:pt x="2" y="32"/>
                    </a:lnTo>
                    <a:lnTo>
                      <a:pt x="5" y="36"/>
                    </a:lnTo>
                    <a:lnTo>
                      <a:pt x="10" y="39"/>
                    </a:lnTo>
                    <a:lnTo>
                      <a:pt x="16" y="43"/>
                    </a:lnTo>
                    <a:lnTo>
                      <a:pt x="23" y="45"/>
                    </a:lnTo>
                    <a:lnTo>
                      <a:pt x="29" y="46"/>
                    </a:lnTo>
                    <a:lnTo>
                      <a:pt x="38" y="47"/>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006" name=""/>
              <p:cNvSpPr/>
              <p:nvPr/>
            </p:nvSpPr>
            <p:spPr>
              <a:xfrm>
                <a:off x="8303760" y="5696640"/>
                <a:ext cx="33480" cy="21240"/>
              </a:xfrm>
              <a:custGeom>
                <a:avLst/>
                <a:gdLst/>
                <a:ahLst/>
                <a:rect l="l" t="t" r="r" b="b"/>
                <a:pathLst>
                  <a:path w="78" h="48">
                    <a:moveTo>
                      <a:pt x="38" y="48"/>
                    </a:moveTo>
                    <a:lnTo>
                      <a:pt x="46" y="48"/>
                    </a:lnTo>
                    <a:lnTo>
                      <a:pt x="53" y="46"/>
                    </a:lnTo>
                    <a:lnTo>
                      <a:pt x="60" y="45"/>
                    </a:lnTo>
                    <a:lnTo>
                      <a:pt x="66" y="41"/>
                    </a:lnTo>
                    <a:lnTo>
                      <a:pt x="70" y="38"/>
                    </a:lnTo>
                    <a:lnTo>
                      <a:pt x="75" y="35"/>
                    </a:lnTo>
                    <a:lnTo>
                      <a:pt x="77" y="30"/>
                    </a:lnTo>
                    <a:lnTo>
                      <a:pt x="78" y="25"/>
                    </a:lnTo>
                    <a:lnTo>
                      <a:pt x="77" y="21"/>
                    </a:lnTo>
                    <a:lnTo>
                      <a:pt x="75" y="15"/>
                    </a:lnTo>
                    <a:lnTo>
                      <a:pt x="71" y="12"/>
                    </a:lnTo>
                    <a:lnTo>
                      <a:pt x="67" y="7"/>
                    </a:lnTo>
                    <a:lnTo>
                      <a:pt x="61" y="5"/>
                    </a:lnTo>
                    <a:lnTo>
                      <a:pt x="54" y="2"/>
                    </a:lnTo>
                    <a:lnTo>
                      <a:pt x="47" y="0"/>
                    </a:lnTo>
                    <a:lnTo>
                      <a:pt x="39" y="0"/>
                    </a:lnTo>
                    <a:lnTo>
                      <a:pt x="31" y="0"/>
                    </a:lnTo>
                    <a:lnTo>
                      <a:pt x="24" y="1"/>
                    </a:lnTo>
                    <a:lnTo>
                      <a:pt x="17" y="3"/>
                    </a:lnTo>
                    <a:lnTo>
                      <a:pt x="12" y="6"/>
                    </a:lnTo>
                    <a:lnTo>
                      <a:pt x="7" y="9"/>
                    </a:lnTo>
                    <a:lnTo>
                      <a:pt x="3" y="14"/>
                    </a:lnTo>
                    <a:lnTo>
                      <a:pt x="1" y="18"/>
                    </a:lnTo>
                    <a:lnTo>
                      <a:pt x="0" y="23"/>
                    </a:lnTo>
                    <a:lnTo>
                      <a:pt x="1" y="28"/>
                    </a:lnTo>
                    <a:lnTo>
                      <a:pt x="3" y="32"/>
                    </a:lnTo>
                    <a:lnTo>
                      <a:pt x="7" y="37"/>
                    </a:lnTo>
                    <a:lnTo>
                      <a:pt x="12" y="40"/>
                    </a:lnTo>
                    <a:lnTo>
                      <a:pt x="17" y="43"/>
                    </a:lnTo>
                    <a:lnTo>
                      <a:pt x="23" y="46"/>
                    </a:lnTo>
                    <a:lnTo>
                      <a:pt x="30" y="47"/>
                    </a:lnTo>
                    <a:lnTo>
                      <a:pt x="38" y="48"/>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007" name=""/>
              <p:cNvSpPr/>
              <p:nvPr/>
            </p:nvSpPr>
            <p:spPr>
              <a:xfrm>
                <a:off x="8366760" y="5711040"/>
                <a:ext cx="33480" cy="21240"/>
              </a:xfrm>
              <a:custGeom>
                <a:avLst/>
                <a:gdLst/>
                <a:ahLst/>
                <a:rect l="l" t="t" r="r" b="b"/>
                <a:pathLst>
                  <a:path w="78" h="48">
                    <a:moveTo>
                      <a:pt x="39" y="48"/>
                    </a:moveTo>
                    <a:lnTo>
                      <a:pt x="47" y="48"/>
                    </a:lnTo>
                    <a:lnTo>
                      <a:pt x="54" y="47"/>
                    </a:lnTo>
                    <a:lnTo>
                      <a:pt x="61" y="45"/>
                    </a:lnTo>
                    <a:lnTo>
                      <a:pt x="66" y="43"/>
                    </a:lnTo>
                    <a:lnTo>
                      <a:pt x="71" y="39"/>
                    </a:lnTo>
                    <a:lnTo>
                      <a:pt x="74" y="35"/>
                    </a:lnTo>
                    <a:lnTo>
                      <a:pt x="77" y="30"/>
                    </a:lnTo>
                    <a:lnTo>
                      <a:pt x="78" y="25"/>
                    </a:lnTo>
                    <a:lnTo>
                      <a:pt x="78" y="21"/>
                    </a:lnTo>
                    <a:lnTo>
                      <a:pt x="76" y="15"/>
                    </a:lnTo>
                    <a:lnTo>
                      <a:pt x="72" y="12"/>
                    </a:lnTo>
                    <a:lnTo>
                      <a:pt x="68" y="7"/>
                    </a:lnTo>
                    <a:lnTo>
                      <a:pt x="62" y="5"/>
                    </a:lnTo>
                    <a:lnTo>
                      <a:pt x="55" y="2"/>
                    </a:lnTo>
                    <a:lnTo>
                      <a:pt x="48" y="0"/>
                    </a:lnTo>
                    <a:lnTo>
                      <a:pt x="40" y="0"/>
                    </a:lnTo>
                    <a:lnTo>
                      <a:pt x="32" y="0"/>
                    </a:lnTo>
                    <a:lnTo>
                      <a:pt x="25" y="1"/>
                    </a:lnTo>
                    <a:lnTo>
                      <a:pt x="18" y="4"/>
                    </a:lnTo>
                    <a:lnTo>
                      <a:pt x="11" y="6"/>
                    </a:lnTo>
                    <a:lnTo>
                      <a:pt x="6" y="9"/>
                    </a:lnTo>
                    <a:lnTo>
                      <a:pt x="3" y="14"/>
                    </a:lnTo>
                    <a:lnTo>
                      <a:pt x="1" y="19"/>
                    </a:lnTo>
                    <a:lnTo>
                      <a:pt x="0" y="23"/>
                    </a:lnTo>
                    <a:lnTo>
                      <a:pt x="1" y="28"/>
                    </a:lnTo>
                    <a:lnTo>
                      <a:pt x="3" y="32"/>
                    </a:lnTo>
                    <a:lnTo>
                      <a:pt x="6" y="37"/>
                    </a:lnTo>
                    <a:lnTo>
                      <a:pt x="11" y="40"/>
                    </a:lnTo>
                    <a:lnTo>
                      <a:pt x="17" y="44"/>
                    </a:lnTo>
                    <a:lnTo>
                      <a:pt x="24" y="46"/>
                    </a:lnTo>
                    <a:lnTo>
                      <a:pt x="31" y="48"/>
                    </a:lnTo>
                    <a:lnTo>
                      <a:pt x="39" y="48"/>
                    </a:lnTo>
                    <a:close/>
                  </a:path>
                </a:pathLst>
              </a:custGeom>
              <a:solidFill>
                <a:srgbClr val="7fb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008" name=""/>
              <p:cNvSpPr/>
              <p:nvPr/>
            </p:nvSpPr>
            <p:spPr>
              <a:xfrm>
                <a:off x="8430840" y="5724720"/>
                <a:ext cx="34560" cy="22320"/>
              </a:xfrm>
              <a:custGeom>
                <a:avLst/>
                <a:gdLst/>
                <a:ahLst/>
                <a:rect l="l" t="t" r="r" b="b"/>
                <a:pathLst>
                  <a:path w="80" h="50">
                    <a:moveTo>
                      <a:pt x="39" y="50"/>
                    </a:moveTo>
                    <a:lnTo>
                      <a:pt x="47" y="50"/>
                    </a:lnTo>
                    <a:lnTo>
                      <a:pt x="54" y="47"/>
                    </a:lnTo>
                    <a:lnTo>
                      <a:pt x="61" y="46"/>
                    </a:lnTo>
                    <a:lnTo>
                      <a:pt x="68" y="43"/>
                    </a:lnTo>
                    <a:lnTo>
                      <a:pt x="73" y="39"/>
                    </a:lnTo>
                    <a:lnTo>
                      <a:pt x="76" y="35"/>
                    </a:lnTo>
                    <a:lnTo>
                      <a:pt x="78" y="30"/>
                    </a:lnTo>
                    <a:lnTo>
                      <a:pt x="80" y="26"/>
                    </a:lnTo>
                    <a:lnTo>
                      <a:pt x="80" y="21"/>
                    </a:lnTo>
                    <a:lnTo>
                      <a:pt x="77" y="16"/>
                    </a:lnTo>
                    <a:lnTo>
                      <a:pt x="74" y="12"/>
                    </a:lnTo>
                    <a:lnTo>
                      <a:pt x="69" y="8"/>
                    </a:lnTo>
                    <a:lnTo>
                      <a:pt x="62" y="5"/>
                    </a:lnTo>
                    <a:lnTo>
                      <a:pt x="55" y="2"/>
                    </a:lnTo>
                    <a:lnTo>
                      <a:pt x="48" y="1"/>
                    </a:lnTo>
                    <a:lnTo>
                      <a:pt x="40" y="0"/>
                    </a:lnTo>
                    <a:lnTo>
                      <a:pt x="32" y="0"/>
                    </a:lnTo>
                    <a:lnTo>
                      <a:pt x="25" y="1"/>
                    </a:lnTo>
                    <a:lnTo>
                      <a:pt x="18" y="4"/>
                    </a:lnTo>
                    <a:lnTo>
                      <a:pt x="12" y="6"/>
                    </a:lnTo>
                    <a:lnTo>
                      <a:pt x="7" y="11"/>
                    </a:lnTo>
                    <a:lnTo>
                      <a:pt x="3" y="14"/>
                    </a:lnTo>
                    <a:lnTo>
                      <a:pt x="1" y="19"/>
                    </a:lnTo>
                    <a:lnTo>
                      <a:pt x="0" y="23"/>
                    </a:lnTo>
                    <a:lnTo>
                      <a:pt x="0" y="28"/>
                    </a:lnTo>
                    <a:lnTo>
                      <a:pt x="2" y="34"/>
                    </a:lnTo>
                    <a:lnTo>
                      <a:pt x="6" y="37"/>
                    </a:lnTo>
                    <a:lnTo>
                      <a:pt x="12" y="42"/>
                    </a:lnTo>
                    <a:lnTo>
                      <a:pt x="17" y="44"/>
                    </a:lnTo>
                    <a:lnTo>
                      <a:pt x="24" y="47"/>
                    </a:lnTo>
                    <a:lnTo>
                      <a:pt x="31" y="49"/>
                    </a:lnTo>
                    <a:lnTo>
                      <a:pt x="39" y="50"/>
                    </a:lnTo>
                    <a:close/>
                  </a:path>
                </a:pathLst>
              </a:custGeom>
              <a:solidFill>
                <a:srgbClr val="7fbf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09" name=""/>
              <p:cNvSpPr/>
              <p:nvPr/>
            </p:nvSpPr>
            <p:spPr>
              <a:xfrm>
                <a:off x="7933680" y="5664600"/>
                <a:ext cx="30960" cy="20520"/>
              </a:xfrm>
              <a:custGeom>
                <a:avLst/>
                <a:gdLst/>
                <a:ahLst/>
                <a:rect l="l" t="t" r="r" b="b"/>
                <a:pathLst>
                  <a:path w="73" h="45">
                    <a:moveTo>
                      <a:pt x="36" y="45"/>
                    </a:moveTo>
                    <a:lnTo>
                      <a:pt x="43" y="45"/>
                    </a:lnTo>
                    <a:lnTo>
                      <a:pt x="50" y="43"/>
                    </a:lnTo>
                    <a:lnTo>
                      <a:pt x="56" y="41"/>
                    </a:lnTo>
                    <a:lnTo>
                      <a:pt x="61" y="39"/>
                    </a:lnTo>
                    <a:lnTo>
                      <a:pt x="66" y="35"/>
                    </a:lnTo>
                    <a:lnTo>
                      <a:pt x="69" y="32"/>
                    </a:lnTo>
                    <a:lnTo>
                      <a:pt x="71" y="27"/>
                    </a:lnTo>
                    <a:lnTo>
                      <a:pt x="73" y="23"/>
                    </a:lnTo>
                    <a:lnTo>
                      <a:pt x="71" y="18"/>
                    </a:lnTo>
                    <a:lnTo>
                      <a:pt x="70" y="13"/>
                    </a:lnTo>
                    <a:lnTo>
                      <a:pt x="67" y="10"/>
                    </a:lnTo>
                    <a:lnTo>
                      <a:pt x="62" y="6"/>
                    </a:lnTo>
                    <a:lnTo>
                      <a:pt x="56" y="3"/>
                    </a:lnTo>
                    <a:lnTo>
                      <a:pt x="51" y="2"/>
                    </a:lnTo>
                    <a:lnTo>
                      <a:pt x="44" y="0"/>
                    </a:lnTo>
                    <a:lnTo>
                      <a:pt x="37" y="0"/>
                    </a:lnTo>
                    <a:lnTo>
                      <a:pt x="29" y="0"/>
                    </a:lnTo>
                    <a:lnTo>
                      <a:pt x="22" y="1"/>
                    </a:lnTo>
                    <a:lnTo>
                      <a:pt x="16" y="3"/>
                    </a:lnTo>
                    <a:lnTo>
                      <a:pt x="10" y="5"/>
                    </a:lnTo>
                    <a:lnTo>
                      <a:pt x="6" y="9"/>
                    </a:lnTo>
                    <a:lnTo>
                      <a:pt x="2" y="12"/>
                    </a:lnTo>
                    <a:lnTo>
                      <a:pt x="1" y="17"/>
                    </a:lnTo>
                    <a:lnTo>
                      <a:pt x="0" y="21"/>
                    </a:lnTo>
                    <a:lnTo>
                      <a:pt x="1" y="26"/>
                    </a:lnTo>
                    <a:lnTo>
                      <a:pt x="2" y="31"/>
                    </a:lnTo>
                    <a:lnTo>
                      <a:pt x="6" y="34"/>
                    </a:lnTo>
                    <a:lnTo>
                      <a:pt x="10" y="38"/>
                    </a:lnTo>
                    <a:lnTo>
                      <a:pt x="16" y="41"/>
                    </a:lnTo>
                    <a:lnTo>
                      <a:pt x="22" y="42"/>
                    </a:lnTo>
                    <a:lnTo>
                      <a:pt x="29" y="45"/>
                    </a:lnTo>
                    <a:lnTo>
                      <a:pt x="36" y="4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10" name=""/>
              <p:cNvSpPr/>
              <p:nvPr/>
            </p:nvSpPr>
            <p:spPr>
              <a:xfrm>
                <a:off x="7999920" y="5681520"/>
                <a:ext cx="31680" cy="19440"/>
              </a:xfrm>
              <a:custGeom>
                <a:avLst/>
                <a:gdLst/>
                <a:ahLst/>
                <a:rect l="l" t="t" r="r" b="b"/>
                <a:pathLst>
                  <a:path w="74" h="45">
                    <a:moveTo>
                      <a:pt x="37" y="45"/>
                    </a:moveTo>
                    <a:lnTo>
                      <a:pt x="44" y="45"/>
                    </a:lnTo>
                    <a:lnTo>
                      <a:pt x="51" y="44"/>
                    </a:lnTo>
                    <a:lnTo>
                      <a:pt x="58" y="42"/>
                    </a:lnTo>
                    <a:lnTo>
                      <a:pt x="63" y="40"/>
                    </a:lnTo>
                    <a:lnTo>
                      <a:pt x="67" y="36"/>
                    </a:lnTo>
                    <a:lnTo>
                      <a:pt x="71" y="33"/>
                    </a:lnTo>
                    <a:lnTo>
                      <a:pt x="73" y="28"/>
                    </a:lnTo>
                    <a:lnTo>
                      <a:pt x="74" y="23"/>
                    </a:lnTo>
                    <a:lnTo>
                      <a:pt x="73" y="19"/>
                    </a:lnTo>
                    <a:lnTo>
                      <a:pt x="72" y="14"/>
                    </a:lnTo>
                    <a:lnTo>
                      <a:pt x="68" y="11"/>
                    </a:lnTo>
                    <a:lnTo>
                      <a:pt x="64" y="7"/>
                    </a:lnTo>
                    <a:lnTo>
                      <a:pt x="58" y="4"/>
                    </a:lnTo>
                    <a:lnTo>
                      <a:pt x="52" y="3"/>
                    </a:lnTo>
                    <a:lnTo>
                      <a:pt x="45" y="0"/>
                    </a:lnTo>
                    <a:lnTo>
                      <a:pt x="37" y="0"/>
                    </a:lnTo>
                    <a:lnTo>
                      <a:pt x="30" y="0"/>
                    </a:lnTo>
                    <a:lnTo>
                      <a:pt x="23" y="2"/>
                    </a:lnTo>
                    <a:lnTo>
                      <a:pt x="17" y="4"/>
                    </a:lnTo>
                    <a:lnTo>
                      <a:pt x="12" y="6"/>
                    </a:lnTo>
                    <a:lnTo>
                      <a:pt x="7" y="10"/>
                    </a:lnTo>
                    <a:lnTo>
                      <a:pt x="4" y="13"/>
                    </a:lnTo>
                    <a:lnTo>
                      <a:pt x="2" y="18"/>
                    </a:lnTo>
                    <a:lnTo>
                      <a:pt x="0" y="22"/>
                    </a:lnTo>
                    <a:lnTo>
                      <a:pt x="2" y="27"/>
                    </a:lnTo>
                    <a:lnTo>
                      <a:pt x="3" y="32"/>
                    </a:lnTo>
                    <a:lnTo>
                      <a:pt x="6" y="35"/>
                    </a:lnTo>
                    <a:lnTo>
                      <a:pt x="11" y="38"/>
                    </a:lnTo>
                    <a:lnTo>
                      <a:pt x="17" y="42"/>
                    </a:lnTo>
                    <a:lnTo>
                      <a:pt x="22" y="43"/>
                    </a:lnTo>
                    <a:lnTo>
                      <a:pt x="29" y="45"/>
                    </a:lnTo>
                    <a:lnTo>
                      <a:pt x="37" y="4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011" name=""/>
              <p:cNvSpPr/>
              <p:nvPr/>
            </p:nvSpPr>
            <p:spPr>
              <a:xfrm>
                <a:off x="8066880" y="5697720"/>
                <a:ext cx="32400" cy="20520"/>
              </a:xfrm>
              <a:custGeom>
                <a:avLst/>
                <a:gdLst/>
                <a:ahLst/>
                <a:rect l="l" t="t" r="r" b="b"/>
                <a:pathLst>
                  <a:path w="75" h="46">
                    <a:moveTo>
                      <a:pt x="37" y="46"/>
                    </a:moveTo>
                    <a:lnTo>
                      <a:pt x="45" y="46"/>
                    </a:lnTo>
                    <a:lnTo>
                      <a:pt x="52" y="45"/>
                    </a:lnTo>
                    <a:lnTo>
                      <a:pt x="57" y="43"/>
                    </a:lnTo>
                    <a:lnTo>
                      <a:pt x="63" y="40"/>
                    </a:lnTo>
                    <a:lnTo>
                      <a:pt x="68" y="37"/>
                    </a:lnTo>
                    <a:lnTo>
                      <a:pt x="71" y="34"/>
                    </a:lnTo>
                    <a:lnTo>
                      <a:pt x="74" y="29"/>
                    </a:lnTo>
                    <a:lnTo>
                      <a:pt x="75" y="24"/>
                    </a:lnTo>
                    <a:lnTo>
                      <a:pt x="74" y="20"/>
                    </a:lnTo>
                    <a:lnTo>
                      <a:pt x="72" y="15"/>
                    </a:lnTo>
                    <a:lnTo>
                      <a:pt x="69" y="12"/>
                    </a:lnTo>
                    <a:lnTo>
                      <a:pt x="64" y="8"/>
                    </a:lnTo>
                    <a:lnTo>
                      <a:pt x="59" y="5"/>
                    </a:lnTo>
                    <a:lnTo>
                      <a:pt x="53" y="2"/>
                    </a:lnTo>
                    <a:lnTo>
                      <a:pt x="46" y="1"/>
                    </a:lnTo>
                    <a:lnTo>
                      <a:pt x="38" y="0"/>
                    </a:lnTo>
                    <a:lnTo>
                      <a:pt x="30" y="0"/>
                    </a:lnTo>
                    <a:lnTo>
                      <a:pt x="23" y="2"/>
                    </a:lnTo>
                    <a:lnTo>
                      <a:pt x="17" y="4"/>
                    </a:lnTo>
                    <a:lnTo>
                      <a:pt x="11" y="7"/>
                    </a:lnTo>
                    <a:lnTo>
                      <a:pt x="7" y="11"/>
                    </a:lnTo>
                    <a:lnTo>
                      <a:pt x="3" y="14"/>
                    </a:lnTo>
                    <a:lnTo>
                      <a:pt x="1" y="19"/>
                    </a:lnTo>
                    <a:lnTo>
                      <a:pt x="0" y="23"/>
                    </a:lnTo>
                    <a:lnTo>
                      <a:pt x="1" y="28"/>
                    </a:lnTo>
                    <a:lnTo>
                      <a:pt x="2" y="32"/>
                    </a:lnTo>
                    <a:lnTo>
                      <a:pt x="6" y="36"/>
                    </a:lnTo>
                    <a:lnTo>
                      <a:pt x="10" y="39"/>
                    </a:lnTo>
                    <a:lnTo>
                      <a:pt x="16" y="43"/>
                    </a:lnTo>
                    <a:lnTo>
                      <a:pt x="22" y="44"/>
                    </a:lnTo>
                    <a:lnTo>
                      <a:pt x="29" y="46"/>
                    </a:lnTo>
                    <a:lnTo>
                      <a:pt x="37"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12" name=""/>
              <p:cNvSpPr/>
              <p:nvPr/>
            </p:nvSpPr>
            <p:spPr>
              <a:xfrm>
                <a:off x="8134200" y="5713920"/>
                <a:ext cx="32400" cy="20160"/>
              </a:xfrm>
              <a:custGeom>
                <a:avLst/>
                <a:gdLst/>
                <a:ahLst/>
                <a:rect l="l" t="t" r="r" b="b"/>
                <a:pathLst>
                  <a:path w="76" h="46">
                    <a:moveTo>
                      <a:pt x="38" y="46"/>
                    </a:moveTo>
                    <a:lnTo>
                      <a:pt x="46" y="46"/>
                    </a:lnTo>
                    <a:lnTo>
                      <a:pt x="53" y="45"/>
                    </a:lnTo>
                    <a:lnTo>
                      <a:pt x="59" y="43"/>
                    </a:lnTo>
                    <a:lnTo>
                      <a:pt x="65" y="40"/>
                    </a:lnTo>
                    <a:lnTo>
                      <a:pt x="69" y="37"/>
                    </a:lnTo>
                    <a:lnTo>
                      <a:pt x="73" y="33"/>
                    </a:lnTo>
                    <a:lnTo>
                      <a:pt x="75" y="29"/>
                    </a:lnTo>
                    <a:lnTo>
                      <a:pt x="76" y="24"/>
                    </a:lnTo>
                    <a:lnTo>
                      <a:pt x="75" y="20"/>
                    </a:lnTo>
                    <a:lnTo>
                      <a:pt x="74" y="15"/>
                    </a:lnTo>
                    <a:lnTo>
                      <a:pt x="71" y="10"/>
                    </a:lnTo>
                    <a:lnTo>
                      <a:pt x="66" y="7"/>
                    </a:lnTo>
                    <a:lnTo>
                      <a:pt x="60" y="3"/>
                    </a:lnTo>
                    <a:lnTo>
                      <a:pt x="53" y="2"/>
                    </a:lnTo>
                    <a:lnTo>
                      <a:pt x="46" y="0"/>
                    </a:lnTo>
                    <a:lnTo>
                      <a:pt x="38" y="0"/>
                    </a:lnTo>
                    <a:lnTo>
                      <a:pt x="30" y="0"/>
                    </a:lnTo>
                    <a:lnTo>
                      <a:pt x="23" y="1"/>
                    </a:lnTo>
                    <a:lnTo>
                      <a:pt x="18" y="3"/>
                    </a:lnTo>
                    <a:lnTo>
                      <a:pt x="12" y="6"/>
                    </a:lnTo>
                    <a:lnTo>
                      <a:pt x="7" y="9"/>
                    </a:lnTo>
                    <a:lnTo>
                      <a:pt x="4" y="13"/>
                    </a:lnTo>
                    <a:lnTo>
                      <a:pt x="1" y="17"/>
                    </a:lnTo>
                    <a:lnTo>
                      <a:pt x="0" y="22"/>
                    </a:lnTo>
                    <a:lnTo>
                      <a:pt x="1" y="26"/>
                    </a:lnTo>
                    <a:lnTo>
                      <a:pt x="3" y="31"/>
                    </a:lnTo>
                    <a:lnTo>
                      <a:pt x="6" y="36"/>
                    </a:lnTo>
                    <a:lnTo>
                      <a:pt x="11" y="39"/>
                    </a:lnTo>
                    <a:lnTo>
                      <a:pt x="16" y="43"/>
                    </a:lnTo>
                    <a:lnTo>
                      <a:pt x="23" y="44"/>
                    </a:lnTo>
                    <a:lnTo>
                      <a:pt x="30" y="46"/>
                    </a:lnTo>
                    <a:lnTo>
                      <a:pt x="38" y="4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013" name=""/>
              <p:cNvSpPr/>
              <p:nvPr/>
            </p:nvSpPr>
            <p:spPr>
              <a:xfrm>
                <a:off x="8200800" y="5729760"/>
                <a:ext cx="32760" cy="20160"/>
              </a:xfrm>
              <a:custGeom>
                <a:avLst/>
                <a:gdLst/>
                <a:ahLst/>
                <a:rect l="l" t="t" r="r" b="b"/>
                <a:pathLst>
                  <a:path w="77" h="47">
                    <a:moveTo>
                      <a:pt x="38" y="47"/>
                    </a:moveTo>
                    <a:lnTo>
                      <a:pt x="46" y="47"/>
                    </a:lnTo>
                    <a:lnTo>
                      <a:pt x="53" y="46"/>
                    </a:lnTo>
                    <a:lnTo>
                      <a:pt x="60" y="43"/>
                    </a:lnTo>
                    <a:lnTo>
                      <a:pt x="65" y="41"/>
                    </a:lnTo>
                    <a:lnTo>
                      <a:pt x="70" y="38"/>
                    </a:lnTo>
                    <a:lnTo>
                      <a:pt x="73" y="33"/>
                    </a:lnTo>
                    <a:lnTo>
                      <a:pt x="76" y="29"/>
                    </a:lnTo>
                    <a:lnTo>
                      <a:pt x="77" y="24"/>
                    </a:lnTo>
                    <a:lnTo>
                      <a:pt x="76" y="19"/>
                    </a:lnTo>
                    <a:lnTo>
                      <a:pt x="73" y="15"/>
                    </a:lnTo>
                    <a:lnTo>
                      <a:pt x="70" y="11"/>
                    </a:lnTo>
                    <a:lnTo>
                      <a:pt x="65" y="8"/>
                    </a:lnTo>
                    <a:lnTo>
                      <a:pt x="60" y="4"/>
                    </a:lnTo>
                    <a:lnTo>
                      <a:pt x="54" y="2"/>
                    </a:lnTo>
                    <a:lnTo>
                      <a:pt x="47" y="1"/>
                    </a:lnTo>
                    <a:lnTo>
                      <a:pt x="39" y="0"/>
                    </a:lnTo>
                    <a:lnTo>
                      <a:pt x="31" y="0"/>
                    </a:lnTo>
                    <a:lnTo>
                      <a:pt x="24" y="2"/>
                    </a:lnTo>
                    <a:lnTo>
                      <a:pt x="17" y="3"/>
                    </a:lnTo>
                    <a:lnTo>
                      <a:pt x="11" y="7"/>
                    </a:lnTo>
                    <a:lnTo>
                      <a:pt x="7" y="10"/>
                    </a:lnTo>
                    <a:lnTo>
                      <a:pt x="3" y="14"/>
                    </a:lnTo>
                    <a:lnTo>
                      <a:pt x="1" y="18"/>
                    </a:lnTo>
                    <a:lnTo>
                      <a:pt x="0" y="23"/>
                    </a:lnTo>
                    <a:lnTo>
                      <a:pt x="1" y="27"/>
                    </a:lnTo>
                    <a:lnTo>
                      <a:pt x="3" y="32"/>
                    </a:lnTo>
                    <a:lnTo>
                      <a:pt x="7" y="37"/>
                    </a:lnTo>
                    <a:lnTo>
                      <a:pt x="11" y="40"/>
                    </a:lnTo>
                    <a:lnTo>
                      <a:pt x="17" y="43"/>
                    </a:lnTo>
                    <a:lnTo>
                      <a:pt x="23" y="45"/>
                    </a:lnTo>
                    <a:lnTo>
                      <a:pt x="30" y="47"/>
                    </a:lnTo>
                    <a:lnTo>
                      <a:pt x="38" y="4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014" name=""/>
              <p:cNvSpPr/>
              <p:nvPr/>
            </p:nvSpPr>
            <p:spPr>
              <a:xfrm>
                <a:off x="8267400" y="5745960"/>
                <a:ext cx="33480" cy="21240"/>
              </a:xfrm>
              <a:custGeom>
                <a:avLst/>
                <a:gdLst/>
                <a:ahLst/>
                <a:rect l="l" t="t" r="r" b="b"/>
                <a:pathLst>
                  <a:path w="78" h="48">
                    <a:moveTo>
                      <a:pt x="39" y="48"/>
                    </a:moveTo>
                    <a:lnTo>
                      <a:pt x="47" y="48"/>
                    </a:lnTo>
                    <a:lnTo>
                      <a:pt x="54" y="46"/>
                    </a:lnTo>
                    <a:lnTo>
                      <a:pt x="61" y="44"/>
                    </a:lnTo>
                    <a:lnTo>
                      <a:pt x="67" y="41"/>
                    </a:lnTo>
                    <a:lnTo>
                      <a:pt x="72" y="38"/>
                    </a:lnTo>
                    <a:lnTo>
                      <a:pt x="75" y="33"/>
                    </a:lnTo>
                    <a:lnTo>
                      <a:pt x="77" y="28"/>
                    </a:lnTo>
                    <a:lnTo>
                      <a:pt x="78" y="24"/>
                    </a:lnTo>
                    <a:lnTo>
                      <a:pt x="77" y="19"/>
                    </a:lnTo>
                    <a:lnTo>
                      <a:pt x="75" y="15"/>
                    </a:lnTo>
                    <a:lnTo>
                      <a:pt x="72" y="11"/>
                    </a:lnTo>
                    <a:lnTo>
                      <a:pt x="67" y="6"/>
                    </a:lnTo>
                    <a:lnTo>
                      <a:pt x="61" y="4"/>
                    </a:lnTo>
                    <a:lnTo>
                      <a:pt x="54" y="2"/>
                    </a:lnTo>
                    <a:lnTo>
                      <a:pt x="47" y="0"/>
                    </a:lnTo>
                    <a:lnTo>
                      <a:pt x="39" y="0"/>
                    </a:lnTo>
                    <a:lnTo>
                      <a:pt x="31" y="0"/>
                    </a:lnTo>
                    <a:lnTo>
                      <a:pt x="24" y="2"/>
                    </a:lnTo>
                    <a:lnTo>
                      <a:pt x="17" y="3"/>
                    </a:lnTo>
                    <a:lnTo>
                      <a:pt x="12" y="6"/>
                    </a:lnTo>
                    <a:lnTo>
                      <a:pt x="7" y="10"/>
                    </a:lnTo>
                    <a:lnTo>
                      <a:pt x="4" y="13"/>
                    </a:lnTo>
                    <a:lnTo>
                      <a:pt x="1" y="18"/>
                    </a:lnTo>
                    <a:lnTo>
                      <a:pt x="0" y="23"/>
                    </a:lnTo>
                    <a:lnTo>
                      <a:pt x="1" y="27"/>
                    </a:lnTo>
                    <a:lnTo>
                      <a:pt x="4" y="32"/>
                    </a:lnTo>
                    <a:lnTo>
                      <a:pt x="7" y="36"/>
                    </a:lnTo>
                    <a:lnTo>
                      <a:pt x="12" y="40"/>
                    </a:lnTo>
                    <a:lnTo>
                      <a:pt x="17" y="43"/>
                    </a:lnTo>
                    <a:lnTo>
                      <a:pt x="24" y="46"/>
                    </a:lnTo>
                    <a:lnTo>
                      <a:pt x="31" y="47"/>
                    </a:lnTo>
                    <a:lnTo>
                      <a:pt x="39" y="4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015" name=""/>
              <p:cNvSpPr/>
              <p:nvPr/>
            </p:nvSpPr>
            <p:spPr>
              <a:xfrm>
                <a:off x="8334000" y="5762160"/>
                <a:ext cx="34560" cy="22320"/>
              </a:xfrm>
              <a:custGeom>
                <a:avLst/>
                <a:gdLst/>
                <a:ahLst/>
                <a:rect l="l" t="t" r="r" b="b"/>
                <a:pathLst>
                  <a:path w="80" h="50">
                    <a:moveTo>
                      <a:pt x="40" y="50"/>
                    </a:moveTo>
                    <a:lnTo>
                      <a:pt x="48" y="50"/>
                    </a:lnTo>
                    <a:lnTo>
                      <a:pt x="55" y="47"/>
                    </a:lnTo>
                    <a:lnTo>
                      <a:pt x="62" y="46"/>
                    </a:lnTo>
                    <a:lnTo>
                      <a:pt x="68" y="43"/>
                    </a:lnTo>
                    <a:lnTo>
                      <a:pt x="73" y="39"/>
                    </a:lnTo>
                    <a:lnTo>
                      <a:pt x="77" y="35"/>
                    </a:lnTo>
                    <a:lnTo>
                      <a:pt x="79" y="30"/>
                    </a:lnTo>
                    <a:lnTo>
                      <a:pt x="80" y="26"/>
                    </a:lnTo>
                    <a:lnTo>
                      <a:pt x="79" y="21"/>
                    </a:lnTo>
                    <a:lnTo>
                      <a:pt x="77" y="16"/>
                    </a:lnTo>
                    <a:lnTo>
                      <a:pt x="73" y="12"/>
                    </a:lnTo>
                    <a:lnTo>
                      <a:pt x="68" y="8"/>
                    </a:lnTo>
                    <a:lnTo>
                      <a:pt x="63" y="5"/>
                    </a:lnTo>
                    <a:lnTo>
                      <a:pt x="56" y="3"/>
                    </a:lnTo>
                    <a:lnTo>
                      <a:pt x="49" y="1"/>
                    </a:lnTo>
                    <a:lnTo>
                      <a:pt x="41" y="0"/>
                    </a:lnTo>
                    <a:lnTo>
                      <a:pt x="33" y="0"/>
                    </a:lnTo>
                    <a:lnTo>
                      <a:pt x="26" y="3"/>
                    </a:lnTo>
                    <a:lnTo>
                      <a:pt x="19" y="4"/>
                    </a:lnTo>
                    <a:lnTo>
                      <a:pt x="13" y="7"/>
                    </a:lnTo>
                    <a:lnTo>
                      <a:pt x="9" y="11"/>
                    </a:lnTo>
                    <a:lnTo>
                      <a:pt x="4" y="15"/>
                    </a:lnTo>
                    <a:lnTo>
                      <a:pt x="2" y="20"/>
                    </a:lnTo>
                    <a:lnTo>
                      <a:pt x="0" y="24"/>
                    </a:lnTo>
                    <a:lnTo>
                      <a:pt x="2" y="29"/>
                    </a:lnTo>
                    <a:lnTo>
                      <a:pt x="4" y="34"/>
                    </a:lnTo>
                    <a:lnTo>
                      <a:pt x="7" y="38"/>
                    </a:lnTo>
                    <a:lnTo>
                      <a:pt x="12" y="42"/>
                    </a:lnTo>
                    <a:lnTo>
                      <a:pt x="18" y="45"/>
                    </a:lnTo>
                    <a:lnTo>
                      <a:pt x="25" y="47"/>
                    </a:lnTo>
                    <a:lnTo>
                      <a:pt x="32" y="49"/>
                    </a:lnTo>
                    <a:lnTo>
                      <a:pt x="40" y="5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16" name=""/>
              <p:cNvSpPr/>
              <p:nvPr/>
            </p:nvSpPr>
            <p:spPr>
              <a:xfrm>
                <a:off x="8400600" y="5779080"/>
                <a:ext cx="35280" cy="21240"/>
              </a:xfrm>
              <a:custGeom>
                <a:avLst/>
                <a:gdLst/>
                <a:ahLst/>
                <a:rect l="l" t="t" r="r" b="b"/>
                <a:pathLst>
                  <a:path w="81" h="50">
                    <a:moveTo>
                      <a:pt x="40" y="50"/>
                    </a:moveTo>
                    <a:lnTo>
                      <a:pt x="48" y="50"/>
                    </a:lnTo>
                    <a:lnTo>
                      <a:pt x="55" y="47"/>
                    </a:lnTo>
                    <a:lnTo>
                      <a:pt x="62" y="46"/>
                    </a:lnTo>
                    <a:lnTo>
                      <a:pt x="69" y="43"/>
                    </a:lnTo>
                    <a:lnTo>
                      <a:pt x="74" y="39"/>
                    </a:lnTo>
                    <a:lnTo>
                      <a:pt x="77" y="35"/>
                    </a:lnTo>
                    <a:lnTo>
                      <a:pt x="79" y="30"/>
                    </a:lnTo>
                    <a:lnTo>
                      <a:pt x="81" y="25"/>
                    </a:lnTo>
                    <a:lnTo>
                      <a:pt x="79" y="21"/>
                    </a:lnTo>
                    <a:lnTo>
                      <a:pt x="77" y="15"/>
                    </a:lnTo>
                    <a:lnTo>
                      <a:pt x="74" y="12"/>
                    </a:lnTo>
                    <a:lnTo>
                      <a:pt x="69" y="7"/>
                    </a:lnTo>
                    <a:lnTo>
                      <a:pt x="63" y="5"/>
                    </a:lnTo>
                    <a:lnTo>
                      <a:pt x="56" y="2"/>
                    </a:lnTo>
                    <a:lnTo>
                      <a:pt x="49" y="0"/>
                    </a:lnTo>
                    <a:lnTo>
                      <a:pt x="41" y="0"/>
                    </a:lnTo>
                    <a:lnTo>
                      <a:pt x="33" y="0"/>
                    </a:lnTo>
                    <a:lnTo>
                      <a:pt x="25" y="2"/>
                    </a:lnTo>
                    <a:lnTo>
                      <a:pt x="18" y="4"/>
                    </a:lnTo>
                    <a:lnTo>
                      <a:pt x="13" y="7"/>
                    </a:lnTo>
                    <a:lnTo>
                      <a:pt x="8" y="10"/>
                    </a:lnTo>
                    <a:lnTo>
                      <a:pt x="3" y="15"/>
                    </a:lnTo>
                    <a:lnTo>
                      <a:pt x="1" y="20"/>
                    </a:lnTo>
                    <a:lnTo>
                      <a:pt x="0" y="24"/>
                    </a:lnTo>
                    <a:lnTo>
                      <a:pt x="1" y="29"/>
                    </a:lnTo>
                    <a:lnTo>
                      <a:pt x="3" y="34"/>
                    </a:lnTo>
                    <a:lnTo>
                      <a:pt x="7" y="38"/>
                    </a:lnTo>
                    <a:lnTo>
                      <a:pt x="11" y="42"/>
                    </a:lnTo>
                    <a:lnTo>
                      <a:pt x="18" y="45"/>
                    </a:lnTo>
                    <a:lnTo>
                      <a:pt x="25" y="47"/>
                    </a:lnTo>
                    <a:lnTo>
                      <a:pt x="32" y="49"/>
                    </a:lnTo>
                    <a:lnTo>
                      <a:pt x="40" y="5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017" name=""/>
              <p:cNvSpPr/>
              <p:nvPr/>
            </p:nvSpPr>
            <p:spPr>
              <a:xfrm>
                <a:off x="8352720" y="5841000"/>
                <a:ext cx="34560" cy="22320"/>
              </a:xfrm>
              <a:custGeom>
                <a:avLst/>
                <a:gdLst/>
                <a:ahLst/>
                <a:rect l="l" t="t" r="r" b="b"/>
                <a:pathLst>
                  <a:path w="81" h="49">
                    <a:moveTo>
                      <a:pt x="41" y="49"/>
                    </a:moveTo>
                    <a:lnTo>
                      <a:pt x="49" y="49"/>
                    </a:lnTo>
                    <a:lnTo>
                      <a:pt x="56" y="47"/>
                    </a:lnTo>
                    <a:lnTo>
                      <a:pt x="62" y="46"/>
                    </a:lnTo>
                    <a:lnTo>
                      <a:pt x="68" y="42"/>
                    </a:lnTo>
                    <a:lnTo>
                      <a:pt x="73" y="39"/>
                    </a:lnTo>
                    <a:lnTo>
                      <a:pt x="77" y="34"/>
                    </a:lnTo>
                    <a:lnTo>
                      <a:pt x="80" y="29"/>
                    </a:lnTo>
                    <a:lnTo>
                      <a:pt x="81" y="25"/>
                    </a:lnTo>
                    <a:lnTo>
                      <a:pt x="80" y="20"/>
                    </a:lnTo>
                    <a:lnTo>
                      <a:pt x="77" y="14"/>
                    </a:lnTo>
                    <a:lnTo>
                      <a:pt x="74" y="11"/>
                    </a:lnTo>
                    <a:lnTo>
                      <a:pt x="69" y="6"/>
                    </a:lnTo>
                    <a:lnTo>
                      <a:pt x="64" y="4"/>
                    </a:lnTo>
                    <a:lnTo>
                      <a:pt x="57" y="2"/>
                    </a:lnTo>
                    <a:lnTo>
                      <a:pt x="49" y="0"/>
                    </a:lnTo>
                    <a:lnTo>
                      <a:pt x="41" y="0"/>
                    </a:lnTo>
                    <a:lnTo>
                      <a:pt x="33" y="0"/>
                    </a:lnTo>
                    <a:lnTo>
                      <a:pt x="26" y="2"/>
                    </a:lnTo>
                    <a:lnTo>
                      <a:pt x="19" y="3"/>
                    </a:lnTo>
                    <a:lnTo>
                      <a:pt x="12" y="6"/>
                    </a:lnTo>
                    <a:lnTo>
                      <a:pt x="7" y="10"/>
                    </a:lnTo>
                    <a:lnTo>
                      <a:pt x="4" y="14"/>
                    </a:lnTo>
                    <a:lnTo>
                      <a:pt x="1" y="19"/>
                    </a:lnTo>
                    <a:lnTo>
                      <a:pt x="0" y="24"/>
                    </a:lnTo>
                    <a:lnTo>
                      <a:pt x="1" y="28"/>
                    </a:lnTo>
                    <a:lnTo>
                      <a:pt x="4" y="33"/>
                    </a:lnTo>
                    <a:lnTo>
                      <a:pt x="7" y="38"/>
                    </a:lnTo>
                    <a:lnTo>
                      <a:pt x="12" y="41"/>
                    </a:lnTo>
                    <a:lnTo>
                      <a:pt x="18" y="44"/>
                    </a:lnTo>
                    <a:lnTo>
                      <a:pt x="24" y="47"/>
                    </a:lnTo>
                    <a:lnTo>
                      <a:pt x="33" y="48"/>
                    </a:lnTo>
                    <a:lnTo>
                      <a:pt x="41" y="4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18" name=""/>
              <p:cNvSpPr/>
              <p:nvPr/>
            </p:nvSpPr>
            <p:spPr>
              <a:xfrm>
                <a:off x="8284680" y="5821920"/>
                <a:ext cx="33480" cy="22320"/>
              </a:xfrm>
              <a:custGeom>
                <a:avLst/>
                <a:gdLst/>
                <a:ahLst/>
                <a:rect l="l" t="t" r="r" b="b"/>
                <a:pathLst>
                  <a:path w="79" h="49">
                    <a:moveTo>
                      <a:pt x="39" y="49"/>
                    </a:moveTo>
                    <a:lnTo>
                      <a:pt x="47" y="49"/>
                    </a:lnTo>
                    <a:lnTo>
                      <a:pt x="54" y="47"/>
                    </a:lnTo>
                    <a:lnTo>
                      <a:pt x="61" y="46"/>
                    </a:lnTo>
                    <a:lnTo>
                      <a:pt x="67" y="43"/>
                    </a:lnTo>
                    <a:lnTo>
                      <a:pt x="72" y="39"/>
                    </a:lnTo>
                    <a:lnTo>
                      <a:pt x="75" y="34"/>
                    </a:lnTo>
                    <a:lnTo>
                      <a:pt x="77" y="30"/>
                    </a:lnTo>
                    <a:lnTo>
                      <a:pt x="79" y="25"/>
                    </a:lnTo>
                    <a:lnTo>
                      <a:pt x="79" y="21"/>
                    </a:lnTo>
                    <a:lnTo>
                      <a:pt x="76" y="16"/>
                    </a:lnTo>
                    <a:lnTo>
                      <a:pt x="73" y="11"/>
                    </a:lnTo>
                    <a:lnTo>
                      <a:pt x="68" y="8"/>
                    </a:lnTo>
                    <a:lnTo>
                      <a:pt x="61" y="4"/>
                    </a:lnTo>
                    <a:lnTo>
                      <a:pt x="54" y="2"/>
                    </a:lnTo>
                    <a:lnTo>
                      <a:pt x="47" y="1"/>
                    </a:lnTo>
                    <a:lnTo>
                      <a:pt x="39" y="0"/>
                    </a:lnTo>
                    <a:lnTo>
                      <a:pt x="31" y="0"/>
                    </a:lnTo>
                    <a:lnTo>
                      <a:pt x="24" y="2"/>
                    </a:lnTo>
                    <a:lnTo>
                      <a:pt x="18" y="3"/>
                    </a:lnTo>
                    <a:lnTo>
                      <a:pt x="12" y="7"/>
                    </a:lnTo>
                    <a:lnTo>
                      <a:pt x="7" y="10"/>
                    </a:lnTo>
                    <a:lnTo>
                      <a:pt x="4" y="15"/>
                    </a:lnTo>
                    <a:lnTo>
                      <a:pt x="1" y="19"/>
                    </a:lnTo>
                    <a:lnTo>
                      <a:pt x="0" y="24"/>
                    </a:lnTo>
                    <a:lnTo>
                      <a:pt x="1" y="29"/>
                    </a:lnTo>
                    <a:lnTo>
                      <a:pt x="4" y="33"/>
                    </a:lnTo>
                    <a:lnTo>
                      <a:pt x="7" y="38"/>
                    </a:lnTo>
                    <a:lnTo>
                      <a:pt x="12" y="41"/>
                    </a:lnTo>
                    <a:lnTo>
                      <a:pt x="18" y="45"/>
                    </a:lnTo>
                    <a:lnTo>
                      <a:pt x="24" y="47"/>
                    </a:lnTo>
                    <a:lnTo>
                      <a:pt x="31" y="48"/>
                    </a:lnTo>
                    <a:lnTo>
                      <a:pt x="39" y="4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19" name=""/>
              <p:cNvSpPr/>
              <p:nvPr/>
            </p:nvSpPr>
            <p:spPr>
              <a:xfrm>
                <a:off x="8215560" y="5803560"/>
                <a:ext cx="33480" cy="21240"/>
              </a:xfrm>
              <a:custGeom>
                <a:avLst/>
                <a:gdLst/>
                <a:ahLst/>
                <a:rect l="l" t="t" r="r" b="b"/>
                <a:pathLst>
                  <a:path w="78" h="49">
                    <a:moveTo>
                      <a:pt x="39" y="49"/>
                    </a:moveTo>
                    <a:lnTo>
                      <a:pt x="47" y="49"/>
                    </a:lnTo>
                    <a:lnTo>
                      <a:pt x="54" y="46"/>
                    </a:lnTo>
                    <a:lnTo>
                      <a:pt x="61" y="45"/>
                    </a:lnTo>
                    <a:lnTo>
                      <a:pt x="67" y="42"/>
                    </a:lnTo>
                    <a:lnTo>
                      <a:pt x="72" y="38"/>
                    </a:lnTo>
                    <a:lnTo>
                      <a:pt x="75" y="34"/>
                    </a:lnTo>
                    <a:lnTo>
                      <a:pt x="77" y="29"/>
                    </a:lnTo>
                    <a:lnTo>
                      <a:pt x="78" y="25"/>
                    </a:lnTo>
                    <a:lnTo>
                      <a:pt x="77" y="20"/>
                    </a:lnTo>
                    <a:lnTo>
                      <a:pt x="75" y="15"/>
                    </a:lnTo>
                    <a:lnTo>
                      <a:pt x="72" y="12"/>
                    </a:lnTo>
                    <a:lnTo>
                      <a:pt x="67" y="7"/>
                    </a:lnTo>
                    <a:lnTo>
                      <a:pt x="61" y="5"/>
                    </a:lnTo>
                    <a:lnTo>
                      <a:pt x="55" y="3"/>
                    </a:lnTo>
                    <a:lnTo>
                      <a:pt x="48" y="0"/>
                    </a:lnTo>
                    <a:lnTo>
                      <a:pt x="40" y="0"/>
                    </a:lnTo>
                    <a:lnTo>
                      <a:pt x="32" y="0"/>
                    </a:lnTo>
                    <a:lnTo>
                      <a:pt x="25" y="3"/>
                    </a:lnTo>
                    <a:lnTo>
                      <a:pt x="19" y="4"/>
                    </a:lnTo>
                    <a:lnTo>
                      <a:pt x="13" y="7"/>
                    </a:lnTo>
                    <a:lnTo>
                      <a:pt x="8" y="11"/>
                    </a:lnTo>
                    <a:lnTo>
                      <a:pt x="4" y="14"/>
                    </a:lnTo>
                    <a:lnTo>
                      <a:pt x="1" y="19"/>
                    </a:lnTo>
                    <a:lnTo>
                      <a:pt x="0" y="23"/>
                    </a:lnTo>
                    <a:lnTo>
                      <a:pt x="1" y="28"/>
                    </a:lnTo>
                    <a:lnTo>
                      <a:pt x="4" y="33"/>
                    </a:lnTo>
                    <a:lnTo>
                      <a:pt x="7" y="37"/>
                    </a:lnTo>
                    <a:lnTo>
                      <a:pt x="12" y="41"/>
                    </a:lnTo>
                    <a:lnTo>
                      <a:pt x="17" y="44"/>
                    </a:lnTo>
                    <a:lnTo>
                      <a:pt x="24" y="46"/>
                    </a:lnTo>
                    <a:lnTo>
                      <a:pt x="31" y="48"/>
                    </a:lnTo>
                    <a:lnTo>
                      <a:pt x="39" y="4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020" name=""/>
              <p:cNvSpPr/>
              <p:nvPr/>
            </p:nvSpPr>
            <p:spPr>
              <a:xfrm>
                <a:off x="8146080" y="5784480"/>
                <a:ext cx="33480" cy="21240"/>
              </a:xfrm>
              <a:custGeom>
                <a:avLst/>
                <a:gdLst/>
                <a:ahLst/>
                <a:rect l="l" t="t" r="r" b="b"/>
                <a:pathLst>
                  <a:path w="77" h="47">
                    <a:moveTo>
                      <a:pt x="38" y="47"/>
                    </a:moveTo>
                    <a:lnTo>
                      <a:pt x="46" y="47"/>
                    </a:lnTo>
                    <a:lnTo>
                      <a:pt x="53" y="46"/>
                    </a:lnTo>
                    <a:lnTo>
                      <a:pt x="60" y="44"/>
                    </a:lnTo>
                    <a:lnTo>
                      <a:pt x="66" y="41"/>
                    </a:lnTo>
                    <a:lnTo>
                      <a:pt x="70" y="38"/>
                    </a:lnTo>
                    <a:lnTo>
                      <a:pt x="74" y="34"/>
                    </a:lnTo>
                    <a:lnTo>
                      <a:pt x="76" y="30"/>
                    </a:lnTo>
                    <a:lnTo>
                      <a:pt x="77" y="25"/>
                    </a:lnTo>
                    <a:lnTo>
                      <a:pt x="76" y="21"/>
                    </a:lnTo>
                    <a:lnTo>
                      <a:pt x="74" y="16"/>
                    </a:lnTo>
                    <a:lnTo>
                      <a:pt x="70" y="11"/>
                    </a:lnTo>
                    <a:lnTo>
                      <a:pt x="66" y="8"/>
                    </a:lnTo>
                    <a:lnTo>
                      <a:pt x="60" y="4"/>
                    </a:lnTo>
                    <a:lnTo>
                      <a:pt x="54" y="2"/>
                    </a:lnTo>
                    <a:lnTo>
                      <a:pt x="47" y="1"/>
                    </a:lnTo>
                    <a:lnTo>
                      <a:pt x="39" y="0"/>
                    </a:lnTo>
                    <a:lnTo>
                      <a:pt x="31" y="0"/>
                    </a:lnTo>
                    <a:lnTo>
                      <a:pt x="24" y="2"/>
                    </a:lnTo>
                    <a:lnTo>
                      <a:pt x="17" y="3"/>
                    </a:lnTo>
                    <a:lnTo>
                      <a:pt x="12" y="7"/>
                    </a:lnTo>
                    <a:lnTo>
                      <a:pt x="7" y="10"/>
                    </a:lnTo>
                    <a:lnTo>
                      <a:pt x="3" y="14"/>
                    </a:lnTo>
                    <a:lnTo>
                      <a:pt x="1" y="18"/>
                    </a:lnTo>
                    <a:lnTo>
                      <a:pt x="0" y="23"/>
                    </a:lnTo>
                    <a:lnTo>
                      <a:pt x="1" y="27"/>
                    </a:lnTo>
                    <a:lnTo>
                      <a:pt x="3" y="32"/>
                    </a:lnTo>
                    <a:lnTo>
                      <a:pt x="7" y="37"/>
                    </a:lnTo>
                    <a:lnTo>
                      <a:pt x="12" y="40"/>
                    </a:lnTo>
                    <a:lnTo>
                      <a:pt x="17" y="44"/>
                    </a:lnTo>
                    <a:lnTo>
                      <a:pt x="23" y="45"/>
                    </a:lnTo>
                    <a:lnTo>
                      <a:pt x="30" y="47"/>
                    </a:lnTo>
                    <a:lnTo>
                      <a:pt x="38" y="4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021" name=""/>
              <p:cNvSpPr/>
              <p:nvPr/>
            </p:nvSpPr>
            <p:spPr>
              <a:xfrm>
                <a:off x="8078040" y="5765760"/>
                <a:ext cx="32760" cy="20520"/>
              </a:xfrm>
              <a:custGeom>
                <a:avLst/>
                <a:gdLst/>
                <a:ahLst/>
                <a:rect l="l" t="t" r="r" b="b"/>
                <a:pathLst>
                  <a:path w="76" h="46">
                    <a:moveTo>
                      <a:pt x="37" y="46"/>
                    </a:moveTo>
                    <a:lnTo>
                      <a:pt x="45" y="46"/>
                    </a:lnTo>
                    <a:lnTo>
                      <a:pt x="52" y="45"/>
                    </a:lnTo>
                    <a:lnTo>
                      <a:pt x="58" y="43"/>
                    </a:lnTo>
                    <a:lnTo>
                      <a:pt x="63" y="41"/>
                    </a:lnTo>
                    <a:lnTo>
                      <a:pt x="69" y="37"/>
                    </a:lnTo>
                    <a:lnTo>
                      <a:pt x="73" y="34"/>
                    </a:lnTo>
                    <a:lnTo>
                      <a:pt x="75" y="29"/>
                    </a:lnTo>
                    <a:lnTo>
                      <a:pt x="76" y="25"/>
                    </a:lnTo>
                    <a:lnTo>
                      <a:pt x="75" y="20"/>
                    </a:lnTo>
                    <a:lnTo>
                      <a:pt x="73" y="15"/>
                    </a:lnTo>
                    <a:lnTo>
                      <a:pt x="69" y="11"/>
                    </a:lnTo>
                    <a:lnTo>
                      <a:pt x="65" y="7"/>
                    </a:lnTo>
                    <a:lnTo>
                      <a:pt x="59" y="4"/>
                    </a:lnTo>
                    <a:lnTo>
                      <a:pt x="53" y="3"/>
                    </a:lnTo>
                    <a:lnTo>
                      <a:pt x="46" y="0"/>
                    </a:lnTo>
                    <a:lnTo>
                      <a:pt x="38" y="0"/>
                    </a:lnTo>
                    <a:lnTo>
                      <a:pt x="30" y="0"/>
                    </a:lnTo>
                    <a:lnTo>
                      <a:pt x="23" y="1"/>
                    </a:lnTo>
                    <a:lnTo>
                      <a:pt x="17" y="4"/>
                    </a:lnTo>
                    <a:lnTo>
                      <a:pt x="12" y="6"/>
                    </a:lnTo>
                    <a:lnTo>
                      <a:pt x="7" y="10"/>
                    </a:lnTo>
                    <a:lnTo>
                      <a:pt x="3" y="14"/>
                    </a:lnTo>
                    <a:lnTo>
                      <a:pt x="1" y="19"/>
                    </a:lnTo>
                    <a:lnTo>
                      <a:pt x="0" y="23"/>
                    </a:lnTo>
                    <a:lnTo>
                      <a:pt x="0" y="28"/>
                    </a:lnTo>
                    <a:lnTo>
                      <a:pt x="2" y="33"/>
                    </a:lnTo>
                    <a:lnTo>
                      <a:pt x="6" y="36"/>
                    </a:lnTo>
                    <a:lnTo>
                      <a:pt x="10" y="39"/>
                    </a:lnTo>
                    <a:lnTo>
                      <a:pt x="16" y="43"/>
                    </a:lnTo>
                    <a:lnTo>
                      <a:pt x="22" y="44"/>
                    </a:lnTo>
                    <a:lnTo>
                      <a:pt x="29" y="46"/>
                    </a:lnTo>
                    <a:lnTo>
                      <a:pt x="37"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2" name=""/>
              <p:cNvSpPr/>
              <p:nvPr/>
            </p:nvSpPr>
            <p:spPr>
              <a:xfrm>
                <a:off x="8007840" y="5747040"/>
                <a:ext cx="32400" cy="20160"/>
              </a:xfrm>
              <a:custGeom>
                <a:avLst/>
                <a:gdLst/>
                <a:ahLst/>
                <a:rect l="l" t="t" r="r" b="b"/>
                <a:pathLst>
                  <a:path w="75" h="46">
                    <a:moveTo>
                      <a:pt x="37" y="46"/>
                    </a:moveTo>
                    <a:lnTo>
                      <a:pt x="45" y="46"/>
                    </a:lnTo>
                    <a:lnTo>
                      <a:pt x="52" y="45"/>
                    </a:lnTo>
                    <a:lnTo>
                      <a:pt x="57" y="42"/>
                    </a:lnTo>
                    <a:lnTo>
                      <a:pt x="63" y="40"/>
                    </a:lnTo>
                    <a:lnTo>
                      <a:pt x="68" y="37"/>
                    </a:lnTo>
                    <a:lnTo>
                      <a:pt x="71" y="33"/>
                    </a:lnTo>
                    <a:lnTo>
                      <a:pt x="74" y="29"/>
                    </a:lnTo>
                    <a:lnTo>
                      <a:pt x="75" y="24"/>
                    </a:lnTo>
                    <a:lnTo>
                      <a:pt x="74" y="19"/>
                    </a:lnTo>
                    <a:lnTo>
                      <a:pt x="72" y="15"/>
                    </a:lnTo>
                    <a:lnTo>
                      <a:pt x="69" y="11"/>
                    </a:lnTo>
                    <a:lnTo>
                      <a:pt x="64" y="8"/>
                    </a:lnTo>
                    <a:lnTo>
                      <a:pt x="59" y="4"/>
                    </a:lnTo>
                    <a:lnTo>
                      <a:pt x="53" y="2"/>
                    </a:lnTo>
                    <a:lnTo>
                      <a:pt x="46" y="1"/>
                    </a:lnTo>
                    <a:lnTo>
                      <a:pt x="38" y="0"/>
                    </a:lnTo>
                    <a:lnTo>
                      <a:pt x="30" y="0"/>
                    </a:lnTo>
                    <a:lnTo>
                      <a:pt x="23" y="2"/>
                    </a:lnTo>
                    <a:lnTo>
                      <a:pt x="17" y="3"/>
                    </a:lnTo>
                    <a:lnTo>
                      <a:pt x="11" y="7"/>
                    </a:lnTo>
                    <a:lnTo>
                      <a:pt x="7" y="10"/>
                    </a:lnTo>
                    <a:lnTo>
                      <a:pt x="3" y="14"/>
                    </a:lnTo>
                    <a:lnTo>
                      <a:pt x="1" y="18"/>
                    </a:lnTo>
                    <a:lnTo>
                      <a:pt x="0" y="23"/>
                    </a:lnTo>
                    <a:lnTo>
                      <a:pt x="1" y="27"/>
                    </a:lnTo>
                    <a:lnTo>
                      <a:pt x="2" y="32"/>
                    </a:lnTo>
                    <a:lnTo>
                      <a:pt x="6" y="35"/>
                    </a:lnTo>
                    <a:lnTo>
                      <a:pt x="10" y="39"/>
                    </a:lnTo>
                    <a:lnTo>
                      <a:pt x="16" y="42"/>
                    </a:lnTo>
                    <a:lnTo>
                      <a:pt x="22" y="43"/>
                    </a:lnTo>
                    <a:lnTo>
                      <a:pt x="29" y="46"/>
                    </a:lnTo>
                    <a:lnTo>
                      <a:pt x="37" y="4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023" name=""/>
              <p:cNvSpPr/>
              <p:nvPr/>
            </p:nvSpPr>
            <p:spPr>
              <a:xfrm>
                <a:off x="7939800" y="5727960"/>
                <a:ext cx="31680" cy="20520"/>
              </a:xfrm>
              <a:custGeom>
                <a:avLst/>
                <a:gdLst/>
                <a:ahLst/>
                <a:rect l="l" t="t" r="r" b="b"/>
                <a:pathLst>
                  <a:path w="74" h="45">
                    <a:moveTo>
                      <a:pt x="37" y="45"/>
                    </a:moveTo>
                    <a:lnTo>
                      <a:pt x="44" y="45"/>
                    </a:lnTo>
                    <a:lnTo>
                      <a:pt x="51" y="44"/>
                    </a:lnTo>
                    <a:lnTo>
                      <a:pt x="57" y="42"/>
                    </a:lnTo>
                    <a:lnTo>
                      <a:pt x="62" y="39"/>
                    </a:lnTo>
                    <a:lnTo>
                      <a:pt x="67" y="36"/>
                    </a:lnTo>
                    <a:lnTo>
                      <a:pt x="70" y="33"/>
                    </a:lnTo>
                    <a:lnTo>
                      <a:pt x="72" y="28"/>
                    </a:lnTo>
                    <a:lnTo>
                      <a:pt x="74" y="23"/>
                    </a:lnTo>
                    <a:lnTo>
                      <a:pt x="72" y="19"/>
                    </a:lnTo>
                    <a:lnTo>
                      <a:pt x="71" y="14"/>
                    </a:lnTo>
                    <a:lnTo>
                      <a:pt x="68" y="11"/>
                    </a:lnTo>
                    <a:lnTo>
                      <a:pt x="63" y="7"/>
                    </a:lnTo>
                    <a:lnTo>
                      <a:pt x="57" y="4"/>
                    </a:lnTo>
                    <a:lnTo>
                      <a:pt x="52" y="3"/>
                    </a:lnTo>
                    <a:lnTo>
                      <a:pt x="45" y="0"/>
                    </a:lnTo>
                    <a:lnTo>
                      <a:pt x="37" y="0"/>
                    </a:lnTo>
                    <a:lnTo>
                      <a:pt x="30" y="0"/>
                    </a:lnTo>
                    <a:lnTo>
                      <a:pt x="23" y="1"/>
                    </a:lnTo>
                    <a:lnTo>
                      <a:pt x="16" y="4"/>
                    </a:lnTo>
                    <a:lnTo>
                      <a:pt x="11" y="6"/>
                    </a:lnTo>
                    <a:lnTo>
                      <a:pt x="7" y="9"/>
                    </a:lnTo>
                    <a:lnTo>
                      <a:pt x="3" y="13"/>
                    </a:lnTo>
                    <a:lnTo>
                      <a:pt x="1" y="18"/>
                    </a:lnTo>
                    <a:lnTo>
                      <a:pt x="0" y="22"/>
                    </a:lnTo>
                    <a:lnTo>
                      <a:pt x="1" y="27"/>
                    </a:lnTo>
                    <a:lnTo>
                      <a:pt x="2" y="31"/>
                    </a:lnTo>
                    <a:lnTo>
                      <a:pt x="6" y="35"/>
                    </a:lnTo>
                    <a:lnTo>
                      <a:pt x="10" y="38"/>
                    </a:lnTo>
                    <a:lnTo>
                      <a:pt x="16" y="42"/>
                    </a:lnTo>
                    <a:lnTo>
                      <a:pt x="22" y="43"/>
                    </a:lnTo>
                    <a:lnTo>
                      <a:pt x="29" y="45"/>
                    </a:lnTo>
                    <a:lnTo>
                      <a:pt x="37" y="4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4" name=""/>
              <p:cNvSpPr/>
              <p:nvPr/>
            </p:nvSpPr>
            <p:spPr>
              <a:xfrm>
                <a:off x="7870320" y="5709240"/>
                <a:ext cx="31680" cy="19440"/>
              </a:xfrm>
              <a:custGeom>
                <a:avLst/>
                <a:gdLst/>
                <a:ahLst/>
                <a:rect l="l" t="t" r="r" b="b"/>
                <a:pathLst>
                  <a:path w="73" h="45">
                    <a:moveTo>
                      <a:pt x="37" y="45"/>
                    </a:moveTo>
                    <a:lnTo>
                      <a:pt x="43" y="45"/>
                    </a:lnTo>
                    <a:lnTo>
                      <a:pt x="50" y="43"/>
                    </a:lnTo>
                    <a:lnTo>
                      <a:pt x="56" y="41"/>
                    </a:lnTo>
                    <a:lnTo>
                      <a:pt x="62" y="39"/>
                    </a:lnTo>
                    <a:lnTo>
                      <a:pt x="66" y="35"/>
                    </a:lnTo>
                    <a:lnTo>
                      <a:pt x="70" y="32"/>
                    </a:lnTo>
                    <a:lnTo>
                      <a:pt x="72" y="27"/>
                    </a:lnTo>
                    <a:lnTo>
                      <a:pt x="73" y="23"/>
                    </a:lnTo>
                    <a:lnTo>
                      <a:pt x="72" y="18"/>
                    </a:lnTo>
                    <a:lnTo>
                      <a:pt x="71" y="13"/>
                    </a:lnTo>
                    <a:lnTo>
                      <a:pt x="68" y="10"/>
                    </a:lnTo>
                    <a:lnTo>
                      <a:pt x="63" y="7"/>
                    </a:lnTo>
                    <a:lnTo>
                      <a:pt x="57" y="4"/>
                    </a:lnTo>
                    <a:lnTo>
                      <a:pt x="52" y="2"/>
                    </a:lnTo>
                    <a:lnTo>
                      <a:pt x="45" y="1"/>
                    </a:lnTo>
                    <a:lnTo>
                      <a:pt x="37" y="0"/>
                    </a:lnTo>
                    <a:lnTo>
                      <a:pt x="30" y="0"/>
                    </a:lnTo>
                    <a:lnTo>
                      <a:pt x="23" y="1"/>
                    </a:lnTo>
                    <a:lnTo>
                      <a:pt x="17" y="3"/>
                    </a:lnTo>
                    <a:lnTo>
                      <a:pt x="11" y="5"/>
                    </a:lnTo>
                    <a:lnTo>
                      <a:pt x="7" y="9"/>
                    </a:lnTo>
                    <a:lnTo>
                      <a:pt x="3" y="12"/>
                    </a:lnTo>
                    <a:lnTo>
                      <a:pt x="1" y="17"/>
                    </a:lnTo>
                    <a:lnTo>
                      <a:pt x="0" y="22"/>
                    </a:lnTo>
                    <a:lnTo>
                      <a:pt x="1" y="26"/>
                    </a:lnTo>
                    <a:lnTo>
                      <a:pt x="2" y="31"/>
                    </a:lnTo>
                    <a:lnTo>
                      <a:pt x="5" y="34"/>
                    </a:lnTo>
                    <a:lnTo>
                      <a:pt x="10" y="38"/>
                    </a:lnTo>
                    <a:lnTo>
                      <a:pt x="16" y="41"/>
                    </a:lnTo>
                    <a:lnTo>
                      <a:pt x="22" y="42"/>
                    </a:lnTo>
                    <a:lnTo>
                      <a:pt x="28" y="45"/>
                    </a:lnTo>
                    <a:lnTo>
                      <a:pt x="37" y="4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025" name=""/>
              <p:cNvSpPr/>
              <p:nvPr/>
            </p:nvSpPr>
            <p:spPr>
              <a:xfrm>
                <a:off x="7991280" y="5619960"/>
                <a:ext cx="31680" cy="20160"/>
              </a:xfrm>
              <a:custGeom>
                <a:avLst/>
                <a:gdLst/>
                <a:ahLst/>
                <a:rect l="l" t="t" r="r" b="b"/>
                <a:pathLst>
                  <a:path w="73" h="45">
                    <a:moveTo>
                      <a:pt x="35" y="45"/>
                    </a:moveTo>
                    <a:lnTo>
                      <a:pt x="43" y="45"/>
                    </a:lnTo>
                    <a:lnTo>
                      <a:pt x="50" y="44"/>
                    </a:lnTo>
                    <a:lnTo>
                      <a:pt x="56" y="42"/>
                    </a:lnTo>
                    <a:lnTo>
                      <a:pt x="62" y="40"/>
                    </a:lnTo>
                    <a:lnTo>
                      <a:pt x="67" y="36"/>
                    </a:lnTo>
                    <a:lnTo>
                      <a:pt x="70" y="33"/>
                    </a:lnTo>
                    <a:lnTo>
                      <a:pt x="72" y="28"/>
                    </a:lnTo>
                    <a:lnTo>
                      <a:pt x="73" y="23"/>
                    </a:lnTo>
                    <a:lnTo>
                      <a:pt x="72" y="19"/>
                    </a:lnTo>
                    <a:lnTo>
                      <a:pt x="71" y="15"/>
                    </a:lnTo>
                    <a:lnTo>
                      <a:pt x="68" y="12"/>
                    </a:lnTo>
                    <a:lnTo>
                      <a:pt x="63" y="8"/>
                    </a:lnTo>
                    <a:lnTo>
                      <a:pt x="57" y="5"/>
                    </a:lnTo>
                    <a:lnTo>
                      <a:pt x="52" y="3"/>
                    </a:lnTo>
                    <a:lnTo>
                      <a:pt x="45" y="2"/>
                    </a:lnTo>
                    <a:lnTo>
                      <a:pt x="38" y="0"/>
                    </a:lnTo>
                    <a:lnTo>
                      <a:pt x="30" y="0"/>
                    </a:lnTo>
                    <a:lnTo>
                      <a:pt x="23" y="2"/>
                    </a:lnTo>
                    <a:lnTo>
                      <a:pt x="17" y="4"/>
                    </a:lnTo>
                    <a:lnTo>
                      <a:pt x="11" y="6"/>
                    </a:lnTo>
                    <a:lnTo>
                      <a:pt x="7" y="10"/>
                    </a:lnTo>
                    <a:lnTo>
                      <a:pt x="3" y="13"/>
                    </a:lnTo>
                    <a:lnTo>
                      <a:pt x="1" y="18"/>
                    </a:lnTo>
                    <a:lnTo>
                      <a:pt x="0" y="22"/>
                    </a:lnTo>
                    <a:lnTo>
                      <a:pt x="1" y="27"/>
                    </a:lnTo>
                    <a:lnTo>
                      <a:pt x="2" y="30"/>
                    </a:lnTo>
                    <a:lnTo>
                      <a:pt x="5" y="35"/>
                    </a:lnTo>
                    <a:lnTo>
                      <a:pt x="10" y="38"/>
                    </a:lnTo>
                    <a:lnTo>
                      <a:pt x="16" y="41"/>
                    </a:lnTo>
                    <a:lnTo>
                      <a:pt x="22" y="43"/>
                    </a:lnTo>
                    <a:lnTo>
                      <a:pt x="28" y="45"/>
                    </a:lnTo>
                    <a:lnTo>
                      <a:pt x="35" y="4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026" name=""/>
              <p:cNvSpPr/>
              <p:nvPr/>
            </p:nvSpPr>
            <p:spPr>
              <a:xfrm>
                <a:off x="8055360" y="5634000"/>
                <a:ext cx="30960" cy="20520"/>
              </a:xfrm>
              <a:custGeom>
                <a:avLst/>
                <a:gdLst/>
                <a:ahLst/>
                <a:rect l="l" t="t" r="r" b="b"/>
                <a:pathLst>
                  <a:path w="74" h="47">
                    <a:moveTo>
                      <a:pt x="37" y="47"/>
                    </a:moveTo>
                    <a:lnTo>
                      <a:pt x="44" y="47"/>
                    </a:lnTo>
                    <a:lnTo>
                      <a:pt x="51" y="45"/>
                    </a:lnTo>
                    <a:lnTo>
                      <a:pt x="58" y="43"/>
                    </a:lnTo>
                    <a:lnTo>
                      <a:pt x="62" y="41"/>
                    </a:lnTo>
                    <a:lnTo>
                      <a:pt x="67" y="37"/>
                    </a:lnTo>
                    <a:lnTo>
                      <a:pt x="70" y="34"/>
                    </a:lnTo>
                    <a:lnTo>
                      <a:pt x="73" y="29"/>
                    </a:lnTo>
                    <a:lnTo>
                      <a:pt x="74" y="25"/>
                    </a:lnTo>
                    <a:lnTo>
                      <a:pt x="74" y="20"/>
                    </a:lnTo>
                    <a:lnTo>
                      <a:pt x="72" y="15"/>
                    </a:lnTo>
                    <a:lnTo>
                      <a:pt x="68" y="12"/>
                    </a:lnTo>
                    <a:lnTo>
                      <a:pt x="65" y="9"/>
                    </a:lnTo>
                    <a:lnTo>
                      <a:pt x="59" y="5"/>
                    </a:lnTo>
                    <a:lnTo>
                      <a:pt x="53" y="3"/>
                    </a:lnTo>
                    <a:lnTo>
                      <a:pt x="46" y="2"/>
                    </a:lnTo>
                    <a:lnTo>
                      <a:pt x="38" y="0"/>
                    </a:lnTo>
                    <a:lnTo>
                      <a:pt x="30" y="0"/>
                    </a:lnTo>
                    <a:lnTo>
                      <a:pt x="23" y="2"/>
                    </a:lnTo>
                    <a:lnTo>
                      <a:pt x="17" y="4"/>
                    </a:lnTo>
                    <a:lnTo>
                      <a:pt x="12" y="6"/>
                    </a:lnTo>
                    <a:lnTo>
                      <a:pt x="7" y="10"/>
                    </a:lnTo>
                    <a:lnTo>
                      <a:pt x="4" y="13"/>
                    </a:lnTo>
                    <a:lnTo>
                      <a:pt x="1" y="18"/>
                    </a:lnTo>
                    <a:lnTo>
                      <a:pt x="0" y="22"/>
                    </a:lnTo>
                    <a:lnTo>
                      <a:pt x="1" y="27"/>
                    </a:lnTo>
                    <a:lnTo>
                      <a:pt x="2" y="32"/>
                    </a:lnTo>
                    <a:lnTo>
                      <a:pt x="6" y="35"/>
                    </a:lnTo>
                    <a:lnTo>
                      <a:pt x="11" y="38"/>
                    </a:lnTo>
                    <a:lnTo>
                      <a:pt x="16" y="42"/>
                    </a:lnTo>
                    <a:lnTo>
                      <a:pt x="22" y="44"/>
                    </a:lnTo>
                    <a:lnTo>
                      <a:pt x="29" y="45"/>
                    </a:lnTo>
                    <a:lnTo>
                      <a:pt x="37" y="4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7" name=""/>
              <p:cNvSpPr/>
              <p:nvPr/>
            </p:nvSpPr>
            <p:spPr>
              <a:xfrm>
                <a:off x="8118360" y="5647320"/>
                <a:ext cx="32760" cy="20520"/>
              </a:xfrm>
              <a:custGeom>
                <a:avLst/>
                <a:gdLst/>
                <a:ahLst/>
                <a:rect l="l" t="t" r="r" b="b"/>
                <a:pathLst>
                  <a:path w="75" h="46">
                    <a:moveTo>
                      <a:pt x="37" y="46"/>
                    </a:moveTo>
                    <a:lnTo>
                      <a:pt x="45" y="46"/>
                    </a:lnTo>
                    <a:lnTo>
                      <a:pt x="52" y="44"/>
                    </a:lnTo>
                    <a:lnTo>
                      <a:pt x="57" y="42"/>
                    </a:lnTo>
                    <a:lnTo>
                      <a:pt x="63" y="40"/>
                    </a:lnTo>
                    <a:lnTo>
                      <a:pt x="68" y="36"/>
                    </a:lnTo>
                    <a:lnTo>
                      <a:pt x="71" y="33"/>
                    </a:lnTo>
                    <a:lnTo>
                      <a:pt x="73" y="28"/>
                    </a:lnTo>
                    <a:lnTo>
                      <a:pt x="75" y="24"/>
                    </a:lnTo>
                    <a:lnTo>
                      <a:pt x="73" y="19"/>
                    </a:lnTo>
                    <a:lnTo>
                      <a:pt x="72" y="15"/>
                    </a:lnTo>
                    <a:lnTo>
                      <a:pt x="69" y="11"/>
                    </a:lnTo>
                    <a:lnTo>
                      <a:pt x="64" y="8"/>
                    </a:lnTo>
                    <a:lnTo>
                      <a:pt x="58" y="4"/>
                    </a:lnTo>
                    <a:lnTo>
                      <a:pt x="53" y="2"/>
                    </a:lnTo>
                    <a:lnTo>
                      <a:pt x="46" y="1"/>
                    </a:lnTo>
                    <a:lnTo>
                      <a:pt x="38" y="0"/>
                    </a:lnTo>
                    <a:lnTo>
                      <a:pt x="30" y="0"/>
                    </a:lnTo>
                    <a:lnTo>
                      <a:pt x="23" y="1"/>
                    </a:lnTo>
                    <a:lnTo>
                      <a:pt x="17" y="3"/>
                    </a:lnTo>
                    <a:lnTo>
                      <a:pt x="11" y="5"/>
                    </a:lnTo>
                    <a:lnTo>
                      <a:pt x="7" y="9"/>
                    </a:lnTo>
                    <a:lnTo>
                      <a:pt x="3" y="12"/>
                    </a:lnTo>
                    <a:lnTo>
                      <a:pt x="1" y="17"/>
                    </a:lnTo>
                    <a:lnTo>
                      <a:pt x="0" y="21"/>
                    </a:lnTo>
                    <a:lnTo>
                      <a:pt x="1" y="26"/>
                    </a:lnTo>
                    <a:lnTo>
                      <a:pt x="2" y="31"/>
                    </a:lnTo>
                    <a:lnTo>
                      <a:pt x="5" y="34"/>
                    </a:lnTo>
                    <a:lnTo>
                      <a:pt x="10" y="39"/>
                    </a:lnTo>
                    <a:lnTo>
                      <a:pt x="16" y="41"/>
                    </a:lnTo>
                    <a:lnTo>
                      <a:pt x="22" y="43"/>
                    </a:lnTo>
                    <a:lnTo>
                      <a:pt x="28" y="46"/>
                    </a:lnTo>
                    <a:lnTo>
                      <a:pt x="37"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8" name=""/>
              <p:cNvSpPr/>
              <p:nvPr/>
            </p:nvSpPr>
            <p:spPr>
              <a:xfrm>
                <a:off x="8182800" y="5661720"/>
                <a:ext cx="32400" cy="20160"/>
              </a:xfrm>
              <a:custGeom>
                <a:avLst/>
                <a:gdLst/>
                <a:ahLst/>
                <a:rect l="l" t="t" r="r" b="b"/>
                <a:pathLst>
                  <a:path w="76" h="47">
                    <a:moveTo>
                      <a:pt x="37" y="47"/>
                    </a:moveTo>
                    <a:lnTo>
                      <a:pt x="45" y="47"/>
                    </a:lnTo>
                    <a:lnTo>
                      <a:pt x="52" y="46"/>
                    </a:lnTo>
                    <a:lnTo>
                      <a:pt x="59" y="43"/>
                    </a:lnTo>
                    <a:lnTo>
                      <a:pt x="65" y="40"/>
                    </a:lnTo>
                    <a:lnTo>
                      <a:pt x="69" y="38"/>
                    </a:lnTo>
                    <a:lnTo>
                      <a:pt x="73" y="33"/>
                    </a:lnTo>
                    <a:lnTo>
                      <a:pt x="75" y="28"/>
                    </a:lnTo>
                    <a:lnTo>
                      <a:pt x="76" y="24"/>
                    </a:lnTo>
                    <a:lnTo>
                      <a:pt x="75" y="19"/>
                    </a:lnTo>
                    <a:lnTo>
                      <a:pt x="74" y="15"/>
                    </a:lnTo>
                    <a:lnTo>
                      <a:pt x="70" y="11"/>
                    </a:lnTo>
                    <a:lnTo>
                      <a:pt x="66" y="8"/>
                    </a:lnTo>
                    <a:lnTo>
                      <a:pt x="60" y="4"/>
                    </a:lnTo>
                    <a:lnTo>
                      <a:pt x="54" y="2"/>
                    </a:lnTo>
                    <a:lnTo>
                      <a:pt x="47" y="1"/>
                    </a:lnTo>
                    <a:lnTo>
                      <a:pt x="39" y="0"/>
                    </a:lnTo>
                    <a:lnTo>
                      <a:pt x="31" y="0"/>
                    </a:lnTo>
                    <a:lnTo>
                      <a:pt x="24" y="1"/>
                    </a:lnTo>
                    <a:lnTo>
                      <a:pt x="17" y="3"/>
                    </a:lnTo>
                    <a:lnTo>
                      <a:pt x="12" y="5"/>
                    </a:lnTo>
                    <a:lnTo>
                      <a:pt x="7" y="9"/>
                    </a:lnTo>
                    <a:lnTo>
                      <a:pt x="4" y="13"/>
                    </a:lnTo>
                    <a:lnTo>
                      <a:pt x="1" y="18"/>
                    </a:lnTo>
                    <a:lnTo>
                      <a:pt x="0" y="23"/>
                    </a:lnTo>
                    <a:lnTo>
                      <a:pt x="1" y="27"/>
                    </a:lnTo>
                    <a:lnTo>
                      <a:pt x="2" y="32"/>
                    </a:lnTo>
                    <a:lnTo>
                      <a:pt x="6" y="35"/>
                    </a:lnTo>
                    <a:lnTo>
                      <a:pt x="11" y="39"/>
                    </a:lnTo>
                    <a:lnTo>
                      <a:pt x="16" y="42"/>
                    </a:lnTo>
                    <a:lnTo>
                      <a:pt x="22" y="45"/>
                    </a:lnTo>
                    <a:lnTo>
                      <a:pt x="29" y="46"/>
                    </a:lnTo>
                    <a:lnTo>
                      <a:pt x="37" y="4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029" name=""/>
              <p:cNvSpPr/>
              <p:nvPr/>
            </p:nvSpPr>
            <p:spPr>
              <a:xfrm>
                <a:off x="8246520" y="5675400"/>
                <a:ext cx="32760" cy="21240"/>
              </a:xfrm>
              <a:custGeom>
                <a:avLst/>
                <a:gdLst/>
                <a:ahLst/>
                <a:rect l="l" t="t" r="r" b="b"/>
                <a:pathLst>
                  <a:path w="77" h="47">
                    <a:moveTo>
                      <a:pt x="38" y="47"/>
                    </a:moveTo>
                    <a:lnTo>
                      <a:pt x="46" y="47"/>
                    </a:lnTo>
                    <a:lnTo>
                      <a:pt x="53" y="46"/>
                    </a:lnTo>
                    <a:lnTo>
                      <a:pt x="58" y="44"/>
                    </a:lnTo>
                    <a:lnTo>
                      <a:pt x="64" y="41"/>
                    </a:lnTo>
                    <a:lnTo>
                      <a:pt x="70" y="38"/>
                    </a:lnTo>
                    <a:lnTo>
                      <a:pt x="73" y="34"/>
                    </a:lnTo>
                    <a:lnTo>
                      <a:pt x="76" y="30"/>
                    </a:lnTo>
                    <a:lnTo>
                      <a:pt x="77" y="25"/>
                    </a:lnTo>
                    <a:lnTo>
                      <a:pt x="76" y="21"/>
                    </a:lnTo>
                    <a:lnTo>
                      <a:pt x="73" y="16"/>
                    </a:lnTo>
                    <a:lnTo>
                      <a:pt x="70" y="11"/>
                    </a:lnTo>
                    <a:lnTo>
                      <a:pt x="65" y="8"/>
                    </a:lnTo>
                    <a:lnTo>
                      <a:pt x="60" y="4"/>
                    </a:lnTo>
                    <a:lnTo>
                      <a:pt x="54" y="2"/>
                    </a:lnTo>
                    <a:lnTo>
                      <a:pt x="47" y="1"/>
                    </a:lnTo>
                    <a:lnTo>
                      <a:pt x="39" y="0"/>
                    </a:lnTo>
                    <a:lnTo>
                      <a:pt x="31" y="0"/>
                    </a:lnTo>
                    <a:lnTo>
                      <a:pt x="24" y="1"/>
                    </a:lnTo>
                    <a:lnTo>
                      <a:pt x="17" y="3"/>
                    </a:lnTo>
                    <a:lnTo>
                      <a:pt x="11" y="6"/>
                    </a:lnTo>
                    <a:lnTo>
                      <a:pt x="7" y="9"/>
                    </a:lnTo>
                    <a:lnTo>
                      <a:pt x="3" y="14"/>
                    </a:lnTo>
                    <a:lnTo>
                      <a:pt x="1" y="18"/>
                    </a:lnTo>
                    <a:lnTo>
                      <a:pt x="0" y="23"/>
                    </a:lnTo>
                    <a:lnTo>
                      <a:pt x="1" y="27"/>
                    </a:lnTo>
                    <a:lnTo>
                      <a:pt x="2" y="32"/>
                    </a:lnTo>
                    <a:lnTo>
                      <a:pt x="5" y="35"/>
                    </a:lnTo>
                    <a:lnTo>
                      <a:pt x="10" y="40"/>
                    </a:lnTo>
                    <a:lnTo>
                      <a:pt x="16" y="42"/>
                    </a:lnTo>
                    <a:lnTo>
                      <a:pt x="23" y="45"/>
                    </a:lnTo>
                    <a:lnTo>
                      <a:pt x="30" y="47"/>
                    </a:lnTo>
                    <a:lnTo>
                      <a:pt x="38" y="4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030" name=""/>
              <p:cNvSpPr/>
              <p:nvPr/>
            </p:nvSpPr>
            <p:spPr>
              <a:xfrm>
                <a:off x="8310600" y="5689800"/>
                <a:ext cx="32760" cy="21240"/>
              </a:xfrm>
              <a:custGeom>
                <a:avLst/>
                <a:gdLst/>
                <a:ahLst/>
                <a:rect l="l" t="t" r="r" b="b"/>
                <a:pathLst>
                  <a:path w="77" h="48">
                    <a:moveTo>
                      <a:pt x="38" y="48"/>
                    </a:moveTo>
                    <a:lnTo>
                      <a:pt x="46" y="48"/>
                    </a:lnTo>
                    <a:lnTo>
                      <a:pt x="53" y="46"/>
                    </a:lnTo>
                    <a:lnTo>
                      <a:pt x="60" y="45"/>
                    </a:lnTo>
                    <a:lnTo>
                      <a:pt x="66" y="41"/>
                    </a:lnTo>
                    <a:lnTo>
                      <a:pt x="70" y="38"/>
                    </a:lnTo>
                    <a:lnTo>
                      <a:pt x="74" y="34"/>
                    </a:lnTo>
                    <a:lnTo>
                      <a:pt x="76" y="30"/>
                    </a:lnTo>
                    <a:lnTo>
                      <a:pt x="77" y="25"/>
                    </a:lnTo>
                    <a:lnTo>
                      <a:pt x="77" y="21"/>
                    </a:lnTo>
                    <a:lnTo>
                      <a:pt x="75" y="16"/>
                    </a:lnTo>
                    <a:lnTo>
                      <a:pt x="72" y="11"/>
                    </a:lnTo>
                    <a:lnTo>
                      <a:pt x="67" y="8"/>
                    </a:lnTo>
                    <a:lnTo>
                      <a:pt x="61" y="4"/>
                    </a:lnTo>
                    <a:lnTo>
                      <a:pt x="54" y="2"/>
                    </a:lnTo>
                    <a:lnTo>
                      <a:pt x="47" y="1"/>
                    </a:lnTo>
                    <a:lnTo>
                      <a:pt x="39" y="0"/>
                    </a:lnTo>
                    <a:lnTo>
                      <a:pt x="31" y="0"/>
                    </a:lnTo>
                    <a:lnTo>
                      <a:pt x="24" y="2"/>
                    </a:lnTo>
                    <a:lnTo>
                      <a:pt x="17" y="3"/>
                    </a:lnTo>
                    <a:lnTo>
                      <a:pt x="12" y="7"/>
                    </a:lnTo>
                    <a:lnTo>
                      <a:pt x="7" y="10"/>
                    </a:lnTo>
                    <a:lnTo>
                      <a:pt x="4" y="14"/>
                    </a:lnTo>
                    <a:lnTo>
                      <a:pt x="1" y="18"/>
                    </a:lnTo>
                    <a:lnTo>
                      <a:pt x="0" y="23"/>
                    </a:lnTo>
                    <a:lnTo>
                      <a:pt x="0" y="28"/>
                    </a:lnTo>
                    <a:lnTo>
                      <a:pt x="2" y="32"/>
                    </a:lnTo>
                    <a:lnTo>
                      <a:pt x="6" y="37"/>
                    </a:lnTo>
                    <a:lnTo>
                      <a:pt x="11" y="40"/>
                    </a:lnTo>
                    <a:lnTo>
                      <a:pt x="16" y="44"/>
                    </a:lnTo>
                    <a:lnTo>
                      <a:pt x="23" y="46"/>
                    </a:lnTo>
                    <a:lnTo>
                      <a:pt x="30" y="47"/>
                    </a:lnTo>
                    <a:lnTo>
                      <a:pt x="38" y="4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031" name=""/>
              <p:cNvSpPr/>
              <p:nvPr/>
            </p:nvSpPr>
            <p:spPr>
              <a:xfrm>
                <a:off x="8373600" y="5703120"/>
                <a:ext cx="34560" cy="22320"/>
              </a:xfrm>
              <a:custGeom>
                <a:avLst/>
                <a:gdLst/>
                <a:ahLst/>
                <a:rect l="l" t="t" r="r" b="b"/>
                <a:pathLst>
                  <a:path w="78" h="48">
                    <a:moveTo>
                      <a:pt x="38" y="48"/>
                    </a:moveTo>
                    <a:lnTo>
                      <a:pt x="46" y="48"/>
                    </a:lnTo>
                    <a:lnTo>
                      <a:pt x="53" y="47"/>
                    </a:lnTo>
                    <a:lnTo>
                      <a:pt x="60" y="45"/>
                    </a:lnTo>
                    <a:lnTo>
                      <a:pt x="66" y="43"/>
                    </a:lnTo>
                    <a:lnTo>
                      <a:pt x="71" y="39"/>
                    </a:lnTo>
                    <a:lnTo>
                      <a:pt x="75" y="35"/>
                    </a:lnTo>
                    <a:lnTo>
                      <a:pt x="77" y="30"/>
                    </a:lnTo>
                    <a:lnTo>
                      <a:pt x="78" y="25"/>
                    </a:lnTo>
                    <a:lnTo>
                      <a:pt x="78" y="21"/>
                    </a:lnTo>
                    <a:lnTo>
                      <a:pt x="76" y="16"/>
                    </a:lnTo>
                    <a:lnTo>
                      <a:pt x="72" y="11"/>
                    </a:lnTo>
                    <a:lnTo>
                      <a:pt x="68" y="8"/>
                    </a:lnTo>
                    <a:lnTo>
                      <a:pt x="61" y="5"/>
                    </a:lnTo>
                    <a:lnTo>
                      <a:pt x="54" y="2"/>
                    </a:lnTo>
                    <a:lnTo>
                      <a:pt x="47" y="1"/>
                    </a:lnTo>
                    <a:lnTo>
                      <a:pt x="39" y="0"/>
                    </a:lnTo>
                    <a:lnTo>
                      <a:pt x="31" y="0"/>
                    </a:lnTo>
                    <a:lnTo>
                      <a:pt x="24" y="2"/>
                    </a:lnTo>
                    <a:lnTo>
                      <a:pt x="17" y="3"/>
                    </a:lnTo>
                    <a:lnTo>
                      <a:pt x="11" y="7"/>
                    </a:lnTo>
                    <a:lnTo>
                      <a:pt x="7" y="10"/>
                    </a:lnTo>
                    <a:lnTo>
                      <a:pt x="3" y="14"/>
                    </a:lnTo>
                    <a:lnTo>
                      <a:pt x="1" y="18"/>
                    </a:lnTo>
                    <a:lnTo>
                      <a:pt x="0" y="23"/>
                    </a:lnTo>
                    <a:lnTo>
                      <a:pt x="0" y="28"/>
                    </a:lnTo>
                    <a:lnTo>
                      <a:pt x="2" y="32"/>
                    </a:lnTo>
                    <a:lnTo>
                      <a:pt x="5" y="37"/>
                    </a:lnTo>
                    <a:lnTo>
                      <a:pt x="10" y="40"/>
                    </a:lnTo>
                    <a:lnTo>
                      <a:pt x="16" y="44"/>
                    </a:lnTo>
                    <a:lnTo>
                      <a:pt x="23" y="46"/>
                    </a:lnTo>
                    <a:lnTo>
                      <a:pt x="30" y="48"/>
                    </a:lnTo>
                    <a:lnTo>
                      <a:pt x="38" y="4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32" name=""/>
              <p:cNvSpPr/>
              <p:nvPr/>
            </p:nvSpPr>
            <p:spPr>
              <a:xfrm>
                <a:off x="8437680" y="5717160"/>
                <a:ext cx="34200" cy="22320"/>
              </a:xfrm>
              <a:custGeom>
                <a:avLst/>
                <a:gdLst/>
                <a:ahLst/>
                <a:rect l="l" t="t" r="r" b="b"/>
                <a:pathLst>
                  <a:path w="81" h="50">
                    <a:moveTo>
                      <a:pt x="40" y="50"/>
                    </a:moveTo>
                    <a:lnTo>
                      <a:pt x="48" y="50"/>
                    </a:lnTo>
                    <a:lnTo>
                      <a:pt x="55" y="48"/>
                    </a:lnTo>
                    <a:lnTo>
                      <a:pt x="62" y="46"/>
                    </a:lnTo>
                    <a:lnTo>
                      <a:pt x="69" y="43"/>
                    </a:lnTo>
                    <a:lnTo>
                      <a:pt x="74" y="39"/>
                    </a:lnTo>
                    <a:lnTo>
                      <a:pt x="77" y="36"/>
                    </a:lnTo>
                    <a:lnTo>
                      <a:pt x="80" y="31"/>
                    </a:lnTo>
                    <a:lnTo>
                      <a:pt x="81" y="27"/>
                    </a:lnTo>
                    <a:lnTo>
                      <a:pt x="80" y="22"/>
                    </a:lnTo>
                    <a:lnTo>
                      <a:pt x="77" y="16"/>
                    </a:lnTo>
                    <a:lnTo>
                      <a:pt x="74" y="13"/>
                    </a:lnTo>
                    <a:lnTo>
                      <a:pt x="69" y="8"/>
                    </a:lnTo>
                    <a:lnTo>
                      <a:pt x="63" y="6"/>
                    </a:lnTo>
                    <a:lnTo>
                      <a:pt x="56" y="2"/>
                    </a:lnTo>
                    <a:lnTo>
                      <a:pt x="50" y="1"/>
                    </a:lnTo>
                    <a:lnTo>
                      <a:pt x="41" y="0"/>
                    </a:lnTo>
                    <a:lnTo>
                      <a:pt x="33" y="0"/>
                    </a:lnTo>
                    <a:lnTo>
                      <a:pt x="27" y="2"/>
                    </a:lnTo>
                    <a:lnTo>
                      <a:pt x="20" y="4"/>
                    </a:lnTo>
                    <a:lnTo>
                      <a:pt x="13" y="7"/>
                    </a:lnTo>
                    <a:lnTo>
                      <a:pt x="8" y="10"/>
                    </a:lnTo>
                    <a:lnTo>
                      <a:pt x="3" y="15"/>
                    </a:lnTo>
                    <a:lnTo>
                      <a:pt x="1" y="20"/>
                    </a:lnTo>
                    <a:lnTo>
                      <a:pt x="0" y="24"/>
                    </a:lnTo>
                    <a:lnTo>
                      <a:pt x="1" y="29"/>
                    </a:lnTo>
                    <a:lnTo>
                      <a:pt x="3" y="33"/>
                    </a:lnTo>
                    <a:lnTo>
                      <a:pt x="7" y="38"/>
                    </a:lnTo>
                    <a:lnTo>
                      <a:pt x="12" y="42"/>
                    </a:lnTo>
                    <a:lnTo>
                      <a:pt x="17" y="44"/>
                    </a:lnTo>
                    <a:lnTo>
                      <a:pt x="24" y="47"/>
                    </a:lnTo>
                    <a:lnTo>
                      <a:pt x="32" y="48"/>
                    </a:lnTo>
                    <a:lnTo>
                      <a:pt x="40" y="5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33" name=""/>
              <p:cNvSpPr/>
              <p:nvPr/>
            </p:nvSpPr>
            <p:spPr>
              <a:xfrm>
                <a:off x="8134200" y="5565240"/>
                <a:ext cx="226440" cy="78480"/>
              </a:xfrm>
              <a:custGeom>
                <a:avLst/>
                <a:gdLst/>
                <a:ahLst/>
                <a:rect l="l" t="t" r="r" b="b"/>
                <a:pathLst>
                  <a:path w="525" h="176">
                    <a:moveTo>
                      <a:pt x="0" y="34"/>
                    </a:moveTo>
                    <a:lnTo>
                      <a:pt x="524" y="176"/>
                    </a:lnTo>
                    <a:lnTo>
                      <a:pt x="525" y="84"/>
                    </a:lnTo>
                    <a:lnTo>
                      <a:pt x="6" y="0"/>
                    </a:lnTo>
                    <a:lnTo>
                      <a:pt x="0"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5034" name=""/>
            <p:cNvGrpSpPr/>
            <p:nvPr/>
          </p:nvGrpSpPr>
          <p:grpSpPr>
            <a:xfrm>
              <a:off x="498600" y="5164200"/>
              <a:ext cx="1330560" cy="870480"/>
              <a:chOff x="498600" y="5164200"/>
              <a:chExt cx="1330560" cy="870480"/>
            </a:xfrm>
          </p:grpSpPr>
          <p:sp>
            <p:nvSpPr>
              <p:cNvPr id="5035" name=""/>
              <p:cNvSpPr/>
              <p:nvPr/>
            </p:nvSpPr>
            <p:spPr>
              <a:xfrm>
                <a:off x="741960" y="5674680"/>
                <a:ext cx="1087200" cy="360000"/>
              </a:xfrm>
              <a:custGeom>
                <a:avLst/>
                <a:gdLst/>
                <a:ahLst/>
                <a:rect l="l" t="t" r="r" b="b"/>
                <a:pathLst>
                  <a:path w="4059" h="1783">
                    <a:moveTo>
                      <a:pt x="0" y="1620"/>
                    </a:moveTo>
                    <a:lnTo>
                      <a:pt x="159" y="1694"/>
                    </a:lnTo>
                    <a:lnTo>
                      <a:pt x="2000" y="1620"/>
                    </a:lnTo>
                    <a:lnTo>
                      <a:pt x="2544" y="1783"/>
                    </a:lnTo>
                    <a:lnTo>
                      <a:pt x="2764" y="1753"/>
                    </a:lnTo>
                    <a:lnTo>
                      <a:pt x="4059" y="679"/>
                    </a:lnTo>
                    <a:lnTo>
                      <a:pt x="4044" y="589"/>
                    </a:lnTo>
                    <a:lnTo>
                      <a:pt x="3500" y="354"/>
                    </a:lnTo>
                    <a:lnTo>
                      <a:pt x="3500" y="163"/>
                    </a:lnTo>
                    <a:lnTo>
                      <a:pt x="2970" y="0"/>
                    </a:lnTo>
                    <a:lnTo>
                      <a:pt x="308" y="1268"/>
                    </a:lnTo>
                    <a:lnTo>
                      <a:pt x="42" y="1532"/>
                    </a:lnTo>
                    <a:lnTo>
                      <a:pt x="0" y="1620"/>
                    </a:lnTo>
                    <a:lnTo>
                      <a:pt x="0" y="162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6" name=""/>
              <p:cNvSpPr/>
              <p:nvPr/>
            </p:nvSpPr>
            <p:spPr>
              <a:xfrm>
                <a:off x="583560" y="5259600"/>
                <a:ext cx="885240" cy="713520"/>
              </a:xfrm>
              <a:custGeom>
                <a:avLst/>
                <a:gdLst/>
                <a:ahLst/>
                <a:rect l="l" t="t" r="r" b="b"/>
                <a:pathLst>
                  <a:path w="3306" h="3530">
                    <a:moveTo>
                      <a:pt x="119" y="0"/>
                    </a:moveTo>
                    <a:lnTo>
                      <a:pt x="121" y="395"/>
                    </a:lnTo>
                    <a:lnTo>
                      <a:pt x="13" y="683"/>
                    </a:lnTo>
                    <a:lnTo>
                      <a:pt x="469" y="1053"/>
                    </a:lnTo>
                    <a:lnTo>
                      <a:pt x="0" y="2051"/>
                    </a:lnTo>
                    <a:lnTo>
                      <a:pt x="722" y="3530"/>
                    </a:lnTo>
                    <a:lnTo>
                      <a:pt x="2254" y="3332"/>
                    </a:lnTo>
                    <a:lnTo>
                      <a:pt x="3306" y="2424"/>
                    </a:lnTo>
                    <a:lnTo>
                      <a:pt x="2287" y="285"/>
                    </a:lnTo>
                    <a:lnTo>
                      <a:pt x="119" y="0"/>
                    </a:lnTo>
                    <a:lnTo>
                      <a:pt x="1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7" name=""/>
              <p:cNvSpPr/>
              <p:nvPr/>
            </p:nvSpPr>
            <p:spPr>
              <a:xfrm>
                <a:off x="552960" y="5501160"/>
                <a:ext cx="200160" cy="254520"/>
              </a:xfrm>
              <a:custGeom>
                <a:avLst/>
                <a:gdLst/>
                <a:ahLst/>
                <a:rect l="l" t="t" r="r" b="b"/>
                <a:pathLst>
                  <a:path w="750" h="1260">
                    <a:moveTo>
                      <a:pt x="386" y="0"/>
                    </a:moveTo>
                    <a:lnTo>
                      <a:pt x="0" y="62"/>
                    </a:lnTo>
                    <a:lnTo>
                      <a:pt x="48" y="175"/>
                    </a:lnTo>
                    <a:lnTo>
                      <a:pt x="750" y="1260"/>
                    </a:lnTo>
                    <a:lnTo>
                      <a:pt x="438" y="163"/>
                    </a:lnTo>
                    <a:lnTo>
                      <a:pt x="386" y="0"/>
                    </a:lnTo>
                    <a:lnTo>
                      <a:pt x="386"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8" name=""/>
              <p:cNvSpPr/>
              <p:nvPr/>
            </p:nvSpPr>
            <p:spPr>
              <a:xfrm>
                <a:off x="527400" y="5626800"/>
                <a:ext cx="498600" cy="357480"/>
              </a:xfrm>
              <a:custGeom>
                <a:avLst/>
                <a:gdLst/>
                <a:ahLst/>
                <a:rect l="l" t="t" r="r" b="b"/>
                <a:pathLst>
                  <a:path w="1862" h="1770">
                    <a:moveTo>
                      <a:pt x="318" y="0"/>
                    </a:moveTo>
                    <a:lnTo>
                      <a:pt x="0" y="120"/>
                    </a:lnTo>
                    <a:lnTo>
                      <a:pt x="845" y="1770"/>
                    </a:lnTo>
                    <a:lnTo>
                      <a:pt x="1862" y="1715"/>
                    </a:lnTo>
                    <a:lnTo>
                      <a:pt x="926" y="1523"/>
                    </a:lnTo>
                    <a:lnTo>
                      <a:pt x="263" y="202"/>
                    </a:lnTo>
                    <a:lnTo>
                      <a:pt x="318" y="0"/>
                    </a:lnTo>
                    <a:lnTo>
                      <a:pt x="318"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9" name=""/>
              <p:cNvSpPr/>
              <p:nvPr/>
            </p:nvSpPr>
            <p:spPr>
              <a:xfrm>
                <a:off x="509760" y="5171400"/>
                <a:ext cx="583560" cy="222840"/>
              </a:xfrm>
              <a:custGeom>
                <a:avLst/>
                <a:gdLst/>
                <a:ahLst/>
                <a:rect l="l" t="t" r="r" b="b"/>
                <a:pathLst>
                  <a:path w="2181" h="1100">
                    <a:moveTo>
                      <a:pt x="1884" y="0"/>
                    </a:moveTo>
                    <a:lnTo>
                      <a:pt x="25" y="353"/>
                    </a:lnTo>
                    <a:lnTo>
                      <a:pt x="0" y="431"/>
                    </a:lnTo>
                    <a:lnTo>
                      <a:pt x="1789" y="1100"/>
                    </a:lnTo>
                    <a:lnTo>
                      <a:pt x="2181" y="941"/>
                    </a:lnTo>
                    <a:lnTo>
                      <a:pt x="1087" y="585"/>
                    </a:lnTo>
                    <a:lnTo>
                      <a:pt x="1943" y="97"/>
                    </a:lnTo>
                    <a:lnTo>
                      <a:pt x="1884" y="0"/>
                    </a:lnTo>
                    <a:lnTo>
                      <a:pt x="1884" y="0"/>
                    </a:lnTo>
                    <a:close/>
                  </a:path>
                </a:pathLst>
              </a:custGeom>
              <a:solidFill>
                <a:srgbClr val="f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0" name=""/>
              <p:cNvSpPr/>
              <p:nvPr/>
            </p:nvSpPr>
            <p:spPr>
              <a:xfrm>
                <a:off x="523440" y="5361480"/>
                <a:ext cx="622440" cy="212040"/>
              </a:xfrm>
              <a:custGeom>
                <a:avLst/>
                <a:gdLst/>
                <a:ahLst/>
                <a:rect l="l" t="t" r="r" b="b"/>
                <a:pathLst>
                  <a:path w="2325" h="1051">
                    <a:moveTo>
                      <a:pt x="310" y="0"/>
                    </a:moveTo>
                    <a:lnTo>
                      <a:pt x="0" y="129"/>
                    </a:lnTo>
                    <a:lnTo>
                      <a:pt x="0" y="220"/>
                    </a:lnTo>
                    <a:lnTo>
                      <a:pt x="1738" y="1051"/>
                    </a:lnTo>
                    <a:lnTo>
                      <a:pt x="2291" y="884"/>
                    </a:lnTo>
                    <a:lnTo>
                      <a:pt x="2325" y="734"/>
                    </a:lnTo>
                    <a:lnTo>
                      <a:pt x="2027" y="709"/>
                    </a:lnTo>
                    <a:lnTo>
                      <a:pt x="1730" y="819"/>
                    </a:lnTo>
                    <a:lnTo>
                      <a:pt x="266" y="165"/>
                    </a:lnTo>
                    <a:lnTo>
                      <a:pt x="310" y="0"/>
                    </a:lnTo>
                    <a:lnTo>
                      <a:pt x="310" y="0"/>
                    </a:lnTo>
                    <a:close/>
                  </a:path>
                </a:pathLst>
              </a:custGeom>
              <a:solidFill>
                <a:srgbClr val="f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1" name=""/>
              <p:cNvSpPr/>
              <p:nvPr/>
            </p:nvSpPr>
            <p:spPr>
              <a:xfrm>
                <a:off x="633240" y="5461920"/>
                <a:ext cx="468720" cy="281160"/>
              </a:xfrm>
              <a:custGeom>
                <a:avLst/>
                <a:gdLst/>
                <a:ahLst/>
                <a:rect l="l" t="t" r="r" b="b"/>
                <a:pathLst>
                  <a:path w="1751" h="1391">
                    <a:moveTo>
                      <a:pt x="7" y="76"/>
                    </a:moveTo>
                    <a:lnTo>
                      <a:pt x="0" y="232"/>
                    </a:lnTo>
                    <a:lnTo>
                      <a:pt x="13" y="405"/>
                    </a:lnTo>
                    <a:lnTo>
                      <a:pt x="101" y="494"/>
                    </a:lnTo>
                    <a:lnTo>
                      <a:pt x="291" y="540"/>
                    </a:lnTo>
                    <a:lnTo>
                      <a:pt x="1036" y="1087"/>
                    </a:lnTo>
                    <a:lnTo>
                      <a:pt x="1365" y="1340"/>
                    </a:lnTo>
                    <a:lnTo>
                      <a:pt x="1603" y="1391"/>
                    </a:lnTo>
                    <a:lnTo>
                      <a:pt x="1570" y="1076"/>
                    </a:lnTo>
                    <a:lnTo>
                      <a:pt x="1751" y="599"/>
                    </a:lnTo>
                    <a:lnTo>
                      <a:pt x="1384" y="580"/>
                    </a:lnTo>
                    <a:lnTo>
                      <a:pt x="64" y="0"/>
                    </a:lnTo>
                    <a:lnTo>
                      <a:pt x="7" y="76"/>
                    </a:lnTo>
                    <a:lnTo>
                      <a:pt x="7" y="76"/>
                    </a:lnTo>
                    <a:close/>
                  </a:path>
                </a:pathLst>
              </a:custGeom>
              <a:solidFill>
                <a:srgbClr val="f7a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2" name=""/>
              <p:cNvSpPr/>
              <p:nvPr/>
            </p:nvSpPr>
            <p:spPr>
              <a:xfrm>
                <a:off x="919080" y="5222160"/>
                <a:ext cx="567720" cy="101160"/>
              </a:xfrm>
              <a:custGeom>
                <a:avLst/>
                <a:gdLst/>
                <a:ahLst/>
                <a:rect l="l" t="t" r="r" b="b"/>
                <a:pathLst>
                  <a:path w="2120" h="502">
                    <a:moveTo>
                      <a:pt x="0" y="376"/>
                    </a:moveTo>
                    <a:lnTo>
                      <a:pt x="69" y="351"/>
                    </a:lnTo>
                    <a:lnTo>
                      <a:pt x="246" y="306"/>
                    </a:lnTo>
                    <a:lnTo>
                      <a:pt x="362" y="277"/>
                    </a:lnTo>
                    <a:lnTo>
                      <a:pt x="493" y="245"/>
                    </a:lnTo>
                    <a:lnTo>
                      <a:pt x="632" y="213"/>
                    </a:lnTo>
                    <a:lnTo>
                      <a:pt x="776" y="178"/>
                    </a:lnTo>
                    <a:lnTo>
                      <a:pt x="921" y="144"/>
                    </a:lnTo>
                    <a:lnTo>
                      <a:pt x="1059" y="112"/>
                    </a:lnTo>
                    <a:lnTo>
                      <a:pt x="1191" y="81"/>
                    </a:lnTo>
                    <a:lnTo>
                      <a:pt x="1307" y="55"/>
                    </a:lnTo>
                    <a:lnTo>
                      <a:pt x="1482" y="15"/>
                    </a:lnTo>
                    <a:lnTo>
                      <a:pt x="1548" y="0"/>
                    </a:lnTo>
                    <a:lnTo>
                      <a:pt x="2120" y="97"/>
                    </a:lnTo>
                    <a:lnTo>
                      <a:pt x="204" y="502"/>
                    </a:lnTo>
                    <a:lnTo>
                      <a:pt x="0" y="376"/>
                    </a:lnTo>
                    <a:lnTo>
                      <a:pt x="0" y="376"/>
                    </a:lnTo>
                    <a:close/>
                  </a:path>
                </a:pathLst>
              </a:custGeom>
              <a:solidFill>
                <a:srgbClr val="f0ea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3" name=""/>
              <p:cNvSpPr/>
              <p:nvPr/>
            </p:nvSpPr>
            <p:spPr>
              <a:xfrm>
                <a:off x="910800" y="5590800"/>
                <a:ext cx="89280" cy="108360"/>
              </a:xfrm>
              <a:custGeom>
                <a:avLst/>
                <a:gdLst/>
                <a:ahLst/>
                <a:rect l="l" t="t" r="r" b="b"/>
                <a:pathLst>
                  <a:path w="335" h="536">
                    <a:moveTo>
                      <a:pt x="97" y="0"/>
                    </a:moveTo>
                    <a:lnTo>
                      <a:pt x="335" y="26"/>
                    </a:lnTo>
                    <a:lnTo>
                      <a:pt x="175" y="309"/>
                    </a:lnTo>
                    <a:lnTo>
                      <a:pt x="143" y="536"/>
                    </a:lnTo>
                    <a:lnTo>
                      <a:pt x="0" y="450"/>
                    </a:lnTo>
                    <a:lnTo>
                      <a:pt x="32" y="102"/>
                    </a:lnTo>
                    <a:lnTo>
                      <a:pt x="97" y="0"/>
                    </a:lnTo>
                    <a:lnTo>
                      <a:pt x="97" y="0"/>
                    </a:lnTo>
                    <a:close/>
                  </a:path>
                </a:pathLst>
              </a:custGeom>
              <a:solidFill>
                <a:srgbClr val="f0ea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4" name=""/>
              <p:cNvSpPr/>
              <p:nvPr/>
            </p:nvSpPr>
            <p:spPr>
              <a:xfrm>
                <a:off x="845640" y="5698800"/>
                <a:ext cx="145800" cy="64080"/>
              </a:xfrm>
              <a:custGeom>
                <a:avLst/>
                <a:gdLst/>
                <a:ahLst/>
                <a:rect l="l" t="t" r="r" b="b"/>
                <a:pathLst>
                  <a:path w="545" h="317">
                    <a:moveTo>
                      <a:pt x="0" y="21"/>
                    </a:moveTo>
                    <a:lnTo>
                      <a:pt x="224" y="0"/>
                    </a:lnTo>
                    <a:lnTo>
                      <a:pt x="545" y="258"/>
                    </a:lnTo>
                    <a:lnTo>
                      <a:pt x="57" y="317"/>
                    </a:lnTo>
                    <a:lnTo>
                      <a:pt x="0" y="21"/>
                    </a:lnTo>
                    <a:lnTo>
                      <a:pt x="0" y="21"/>
                    </a:lnTo>
                    <a:close/>
                  </a:path>
                </a:pathLst>
              </a:custGeom>
              <a:solidFill>
                <a:srgbClr val="f0eab2"/>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45" name=""/>
              <p:cNvSpPr/>
              <p:nvPr/>
            </p:nvSpPr>
            <p:spPr>
              <a:xfrm>
                <a:off x="806040" y="5769000"/>
                <a:ext cx="820440" cy="195480"/>
              </a:xfrm>
              <a:custGeom>
                <a:avLst/>
                <a:gdLst/>
                <a:ahLst/>
                <a:rect l="l" t="t" r="r" b="b"/>
                <a:pathLst>
                  <a:path w="3063" h="967">
                    <a:moveTo>
                      <a:pt x="200" y="387"/>
                    </a:moveTo>
                    <a:lnTo>
                      <a:pt x="168" y="579"/>
                    </a:lnTo>
                    <a:lnTo>
                      <a:pt x="0" y="773"/>
                    </a:lnTo>
                    <a:lnTo>
                      <a:pt x="727" y="967"/>
                    </a:lnTo>
                    <a:lnTo>
                      <a:pt x="2170" y="832"/>
                    </a:lnTo>
                    <a:lnTo>
                      <a:pt x="2272" y="792"/>
                    </a:lnTo>
                    <a:lnTo>
                      <a:pt x="2464" y="832"/>
                    </a:lnTo>
                    <a:lnTo>
                      <a:pt x="2632" y="811"/>
                    </a:lnTo>
                    <a:lnTo>
                      <a:pt x="2818" y="781"/>
                    </a:lnTo>
                    <a:lnTo>
                      <a:pt x="2862" y="747"/>
                    </a:lnTo>
                    <a:lnTo>
                      <a:pt x="2932" y="688"/>
                    </a:lnTo>
                    <a:lnTo>
                      <a:pt x="2997" y="631"/>
                    </a:lnTo>
                    <a:lnTo>
                      <a:pt x="3025" y="606"/>
                    </a:lnTo>
                    <a:lnTo>
                      <a:pt x="3063" y="239"/>
                    </a:lnTo>
                    <a:lnTo>
                      <a:pt x="2858" y="0"/>
                    </a:lnTo>
                    <a:lnTo>
                      <a:pt x="1854" y="180"/>
                    </a:lnTo>
                    <a:lnTo>
                      <a:pt x="200" y="387"/>
                    </a:lnTo>
                    <a:lnTo>
                      <a:pt x="200" y="38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
              <p:cNvSpPr/>
              <p:nvPr/>
            </p:nvSpPr>
            <p:spPr>
              <a:xfrm>
                <a:off x="582120" y="5519520"/>
                <a:ext cx="1056240" cy="450000"/>
              </a:xfrm>
              <a:custGeom>
                <a:avLst/>
                <a:gdLst/>
                <a:ahLst/>
                <a:rect l="l" t="t" r="r" b="b"/>
                <a:pathLst>
                  <a:path w="3945" h="2228">
                    <a:moveTo>
                      <a:pt x="19" y="38"/>
                    </a:moveTo>
                    <a:lnTo>
                      <a:pt x="173" y="0"/>
                    </a:lnTo>
                    <a:lnTo>
                      <a:pt x="264" y="238"/>
                    </a:lnTo>
                    <a:lnTo>
                      <a:pt x="393" y="274"/>
                    </a:lnTo>
                    <a:lnTo>
                      <a:pt x="1133" y="812"/>
                    </a:lnTo>
                    <a:lnTo>
                      <a:pt x="861" y="876"/>
                    </a:lnTo>
                    <a:lnTo>
                      <a:pt x="1042" y="1205"/>
                    </a:lnTo>
                    <a:lnTo>
                      <a:pt x="1654" y="1141"/>
                    </a:lnTo>
                    <a:lnTo>
                      <a:pt x="2053" y="1262"/>
                    </a:lnTo>
                    <a:lnTo>
                      <a:pt x="3160" y="909"/>
                    </a:lnTo>
                    <a:lnTo>
                      <a:pt x="3713" y="941"/>
                    </a:lnTo>
                    <a:lnTo>
                      <a:pt x="3945" y="1249"/>
                    </a:lnTo>
                    <a:lnTo>
                      <a:pt x="3882" y="1838"/>
                    </a:lnTo>
                    <a:lnTo>
                      <a:pt x="3681" y="2004"/>
                    </a:lnTo>
                    <a:lnTo>
                      <a:pt x="3268" y="2080"/>
                    </a:lnTo>
                    <a:lnTo>
                      <a:pt x="3076" y="2036"/>
                    </a:lnTo>
                    <a:lnTo>
                      <a:pt x="2922" y="2087"/>
                    </a:lnTo>
                    <a:lnTo>
                      <a:pt x="1435" y="2228"/>
                    </a:lnTo>
                    <a:lnTo>
                      <a:pt x="722" y="2053"/>
                    </a:lnTo>
                    <a:lnTo>
                      <a:pt x="1241" y="1977"/>
                    </a:lnTo>
                    <a:lnTo>
                      <a:pt x="3289" y="1815"/>
                    </a:lnTo>
                    <a:lnTo>
                      <a:pt x="3616" y="1796"/>
                    </a:lnTo>
                    <a:lnTo>
                      <a:pt x="3745" y="1494"/>
                    </a:lnTo>
                    <a:lnTo>
                      <a:pt x="3724" y="1460"/>
                    </a:lnTo>
                    <a:lnTo>
                      <a:pt x="3677" y="1384"/>
                    </a:lnTo>
                    <a:lnTo>
                      <a:pt x="3650" y="1342"/>
                    </a:lnTo>
                    <a:lnTo>
                      <a:pt x="3626" y="1304"/>
                    </a:lnTo>
                    <a:lnTo>
                      <a:pt x="3591" y="1262"/>
                    </a:lnTo>
                    <a:lnTo>
                      <a:pt x="3266" y="1296"/>
                    </a:lnTo>
                    <a:lnTo>
                      <a:pt x="3055" y="1325"/>
                    </a:lnTo>
                    <a:lnTo>
                      <a:pt x="2960" y="1340"/>
                    </a:lnTo>
                    <a:lnTo>
                      <a:pt x="1009" y="1564"/>
                    </a:lnTo>
                    <a:lnTo>
                      <a:pt x="905" y="1593"/>
                    </a:lnTo>
                    <a:lnTo>
                      <a:pt x="0" y="154"/>
                    </a:lnTo>
                    <a:lnTo>
                      <a:pt x="591" y="914"/>
                    </a:lnTo>
                    <a:lnTo>
                      <a:pt x="19" y="38"/>
                    </a:lnTo>
                    <a:lnTo>
                      <a:pt x="19" y="38"/>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7" name=""/>
              <p:cNvSpPr/>
              <p:nvPr/>
            </p:nvSpPr>
            <p:spPr>
              <a:xfrm>
                <a:off x="1305720" y="5695200"/>
                <a:ext cx="204480" cy="46440"/>
              </a:xfrm>
              <a:custGeom>
                <a:avLst/>
                <a:gdLst/>
                <a:ahLst/>
                <a:rect l="l" t="t" r="r" b="b"/>
                <a:pathLst>
                  <a:path w="764" h="230">
                    <a:moveTo>
                      <a:pt x="0" y="230"/>
                    </a:moveTo>
                    <a:lnTo>
                      <a:pt x="545" y="207"/>
                    </a:lnTo>
                    <a:lnTo>
                      <a:pt x="764" y="182"/>
                    </a:lnTo>
                    <a:lnTo>
                      <a:pt x="669" y="87"/>
                    </a:lnTo>
                    <a:lnTo>
                      <a:pt x="703" y="0"/>
                    </a:lnTo>
                    <a:lnTo>
                      <a:pt x="490" y="38"/>
                    </a:lnTo>
                    <a:lnTo>
                      <a:pt x="199" y="159"/>
                    </a:lnTo>
                    <a:lnTo>
                      <a:pt x="0" y="230"/>
                    </a:lnTo>
                    <a:lnTo>
                      <a:pt x="0" y="230"/>
                    </a:lnTo>
                    <a:close/>
                  </a:path>
                </a:pathLst>
              </a:custGeom>
              <a:solidFill>
                <a:srgbClr val="948d4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048" name=""/>
              <p:cNvSpPr/>
              <p:nvPr/>
            </p:nvSpPr>
            <p:spPr>
              <a:xfrm>
                <a:off x="899280" y="5574960"/>
                <a:ext cx="90720" cy="123840"/>
              </a:xfrm>
              <a:custGeom>
                <a:avLst/>
                <a:gdLst/>
                <a:ahLst/>
                <a:rect l="l" t="t" r="r" b="b"/>
                <a:pathLst>
                  <a:path w="341" h="614">
                    <a:moveTo>
                      <a:pt x="12" y="541"/>
                    </a:moveTo>
                    <a:lnTo>
                      <a:pt x="0" y="342"/>
                    </a:lnTo>
                    <a:lnTo>
                      <a:pt x="76" y="123"/>
                    </a:lnTo>
                    <a:lnTo>
                      <a:pt x="141" y="0"/>
                    </a:lnTo>
                    <a:lnTo>
                      <a:pt x="341" y="104"/>
                    </a:lnTo>
                    <a:lnTo>
                      <a:pt x="276" y="137"/>
                    </a:lnTo>
                    <a:lnTo>
                      <a:pt x="154" y="169"/>
                    </a:lnTo>
                    <a:lnTo>
                      <a:pt x="95" y="315"/>
                    </a:lnTo>
                    <a:lnTo>
                      <a:pt x="95" y="471"/>
                    </a:lnTo>
                    <a:lnTo>
                      <a:pt x="187" y="614"/>
                    </a:lnTo>
                    <a:lnTo>
                      <a:pt x="12" y="541"/>
                    </a:lnTo>
                    <a:lnTo>
                      <a:pt x="12" y="541"/>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9" name=""/>
              <p:cNvSpPr/>
              <p:nvPr/>
            </p:nvSpPr>
            <p:spPr>
              <a:xfrm>
                <a:off x="916200" y="5217120"/>
                <a:ext cx="477000" cy="128880"/>
              </a:xfrm>
              <a:custGeom>
                <a:avLst/>
                <a:gdLst/>
                <a:ahLst/>
                <a:rect l="l" t="t" r="r" b="b"/>
                <a:pathLst>
                  <a:path w="1783" h="639">
                    <a:moveTo>
                      <a:pt x="0" y="382"/>
                    </a:moveTo>
                    <a:lnTo>
                      <a:pt x="1430" y="0"/>
                    </a:lnTo>
                    <a:lnTo>
                      <a:pt x="1616" y="40"/>
                    </a:lnTo>
                    <a:lnTo>
                      <a:pt x="346" y="397"/>
                    </a:lnTo>
                    <a:lnTo>
                      <a:pt x="1783" y="156"/>
                    </a:lnTo>
                    <a:lnTo>
                      <a:pt x="375" y="639"/>
                    </a:lnTo>
                    <a:lnTo>
                      <a:pt x="0" y="382"/>
                    </a:lnTo>
                    <a:lnTo>
                      <a:pt x="0" y="382"/>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0" name=""/>
              <p:cNvSpPr/>
              <p:nvPr/>
            </p:nvSpPr>
            <p:spPr>
              <a:xfrm>
                <a:off x="812880" y="5684760"/>
                <a:ext cx="204840" cy="77760"/>
              </a:xfrm>
              <a:custGeom>
                <a:avLst/>
                <a:gdLst/>
                <a:ahLst/>
                <a:rect l="l" t="t" r="r" b="b"/>
                <a:pathLst>
                  <a:path w="766" h="386">
                    <a:moveTo>
                      <a:pt x="0" y="57"/>
                    </a:moveTo>
                    <a:lnTo>
                      <a:pt x="242" y="0"/>
                    </a:lnTo>
                    <a:lnTo>
                      <a:pt x="551" y="170"/>
                    </a:lnTo>
                    <a:lnTo>
                      <a:pt x="766" y="323"/>
                    </a:lnTo>
                    <a:lnTo>
                      <a:pt x="631" y="346"/>
                    </a:lnTo>
                    <a:lnTo>
                      <a:pt x="483" y="249"/>
                    </a:lnTo>
                    <a:lnTo>
                      <a:pt x="375" y="141"/>
                    </a:lnTo>
                    <a:lnTo>
                      <a:pt x="200" y="122"/>
                    </a:lnTo>
                    <a:lnTo>
                      <a:pt x="181" y="386"/>
                    </a:lnTo>
                    <a:lnTo>
                      <a:pt x="0" y="57"/>
                    </a:lnTo>
                    <a:lnTo>
                      <a:pt x="0" y="57"/>
                    </a:lnTo>
                    <a:close/>
                  </a:path>
                </a:pathLst>
              </a:custGeom>
              <a:solidFill>
                <a:srgbClr val="b8ad4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51" name=""/>
              <p:cNvSpPr/>
              <p:nvPr/>
            </p:nvSpPr>
            <p:spPr>
              <a:xfrm>
                <a:off x="1133280" y="5394240"/>
                <a:ext cx="155160" cy="315360"/>
              </a:xfrm>
              <a:custGeom>
                <a:avLst/>
                <a:gdLst/>
                <a:ahLst/>
                <a:rect l="l" t="t" r="r" b="b"/>
                <a:pathLst>
                  <a:path w="582" h="1561">
                    <a:moveTo>
                      <a:pt x="91" y="124"/>
                    </a:moveTo>
                    <a:lnTo>
                      <a:pt x="466" y="0"/>
                    </a:lnTo>
                    <a:lnTo>
                      <a:pt x="582" y="143"/>
                    </a:lnTo>
                    <a:lnTo>
                      <a:pt x="414" y="1000"/>
                    </a:lnTo>
                    <a:lnTo>
                      <a:pt x="240" y="1154"/>
                    </a:lnTo>
                    <a:lnTo>
                      <a:pt x="234" y="1561"/>
                    </a:lnTo>
                    <a:lnTo>
                      <a:pt x="91" y="1399"/>
                    </a:lnTo>
                    <a:lnTo>
                      <a:pt x="63" y="1213"/>
                    </a:lnTo>
                    <a:lnTo>
                      <a:pt x="34" y="1084"/>
                    </a:lnTo>
                    <a:lnTo>
                      <a:pt x="6" y="1023"/>
                    </a:lnTo>
                    <a:lnTo>
                      <a:pt x="0" y="995"/>
                    </a:lnTo>
                    <a:lnTo>
                      <a:pt x="6" y="922"/>
                    </a:lnTo>
                    <a:lnTo>
                      <a:pt x="38" y="708"/>
                    </a:lnTo>
                    <a:lnTo>
                      <a:pt x="78" y="493"/>
                    </a:lnTo>
                    <a:lnTo>
                      <a:pt x="99" y="394"/>
                    </a:lnTo>
                    <a:lnTo>
                      <a:pt x="48" y="156"/>
                    </a:lnTo>
                    <a:lnTo>
                      <a:pt x="91" y="124"/>
                    </a:lnTo>
                    <a:lnTo>
                      <a:pt x="91" y="124"/>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2" name=""/>
              <p:cNvSpPr/>
              <p:nvPr/>
            </p:nvSpPr>
            <p:spPr>
              <a:xfrm>
                <a:off x="1150920" y="5381280"/>
                <a:ext cx="163080" cy="335880"/>
              </a:xfrm>
              <a:custGeom>
                <a:avLst/>
                <a:gdLst/>
                <a:ahLst/>
                <a:rect l="l" t="t" r="r" b="b"/>
                <a:pathLst>
                  <a:path w="610" h="1661">
                    <a:moveTo>
                      <a:pt x="0" y="140"/>
                    </a:moveTo>
                    <a:lnTo>
                      <a:pt x="475" y="0"/>
                    </a:lnTo>
                    <a:lnTo>
                      <a:pt x="610" y="275"/>
                    </a:lnTo>
                    <a:lnTo>
                      <a:pt x="399" y="887"/>
                    </a:lnTo>
                    <a:lnTo>
                      <a:pt x="559" y="1294"/>
                    </a:lnTo>
                    <a:lnTo>
                      <a:pt x="296" y="1235"/>
                    </a:lnTo>
                    <a:lnTo>
                      <a:pt x="180" y="1661"/>
                    </a:lnTo>
                    <a:lnTo>
                      <a:pt x="74" y="1321"/>
                    </a:lnTo>
                    <a:lnTo>
                      <a:pt x="19" y="1003"/>
                    </a:lnTo>
                    <a:lnTo>
                      <a:pt x="116" y="655"/>
                    </a:lnTo>
                    <a:lnTo>
                      <a:pt x="43" y="391"/>
                    </a:lnTo>
                    <a:lnTo>
                      <a:pt x="159" y="275"/>
                    </a:lnTo>
                    <a:lnTo>
                      <a:pt x="296" y="313"/>
                    </a:lnTo>
                    <a:lnTo>
                      <a:pt x="245" y="437"/>
                    </a:lnTo>
                    <a:lnTo>
                      <a:pt x="340" y="501"/>
                    </a:lnTo>
                    <a:lnTo>
                      <a:pt x="148" y="887"/>
                    </a:lnTo>
                    <a:lnTo>
                      <a:pt x="245" y="868"/>
                    </a:lnTo>
                    <a:lnTo>
                      <a:pt x="148" y="1159"/>
                    </a:lnTo>
                    <a:lnTo>
                      <a:pt x="275" y="1011"/>
                    </a:lnTo>
                    <a:lnTo>
                      <a:pt x="334" y="714"/>
                    </a:lnTo>
                    <a:lnTo>
                      <a:pt x="334" y="623"/>
                    </a:lnTo>
                    <a:lnTo>
                      <a:pt x="437" y="405"/>
                    </a:lnTo>
                    <a:lnTo>
                      <a:pt x="367" y="386"/>
                    </a:lnTo>
                    <a:lnTo>
                      <a:pt x="391" y="218"/>
                    </a:lnTo>
                    <a:lnTo>
                      <a:pt x="232" y="192"/>
                    </a:lnTo>
                    <a:lnTo>
                      <a:pt x="256" y="127"/>
                    </a:lnTo>
                    <a:lnTo>
                      <a:pt x="32" y="251"/>
                    </a:lnTo>
                    <a:lnTo>
                      <a:pt x="0" y="140"/>
                    </a:lnTo>
                    <a:lnTo>
                      <a:pt x="0" y="14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3" name=""/>
              <p:cNvSpPr/>
              <p:nvPr/>
            </p:nvSpPr>
            <p:spPr>
              <a:xfrm>
                <a:off x="645840" y="5511240"/>
                <a:ext cx="273600" cy="178560"/>
              </a:xfrm>
              <a:custGeom>
                <a:avLst/>
                <a:gdLst/>
                <a:ahLst/>
                <a:rect l="l" t="t" r="r" b="b"/>
                <a:pathLst>
                  <a:path w="1023" h="884">
                    <a:moveTo>
                      <a:pt x="0" y="175"/>
                    </a:moveTo>
                    <a:lnTo>
                      <a:pt x="78" y="51"/>
                    </a:lnTo>
                    <a:lnTo>
                      <a:pt x="173" y="0"/>
                    </a:lnTo>
                    <a:lnTo>
                      <a:pt x="187" y="124"/>
                    </a:lnTo>
                    <a:lnTo>
                      <a:pt x="451" y="375"/>
                    </a:lnTo>
                    <a:lnTo>
                      <a:pt x="843" y="601"/>
                    </a:lnTo>
                    <a:lnTo>
                      <a:pt x="1023" y="439"/>
                    </a:lnTo>
                    <a:lnTo>
                      <a:pt x="921" y="884"/>
                    </a:lnTo>
                    <a:lnTo>
                      <a:pt x="130" y="297"/>
                    </a:lnTo>
                    <a:lnTo>
                      <a:pt x="27" y="278"/>
                    </a:lnTo>
                    <a:lnTo>
                      <a:pt x="0" y="175"/>
                    </a:lnTo>
                    <a:lnTo>
                      <a:pt x="0" y="175"/>
                    </a:lnTo>
                    <a:close/>
                  </a:path>
                </a:pathLst>
              </a:custGeom>
              <a:solidFill>
                <a:srgbClr val="b56c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4" name=""/>
              <p:cNvSpPr/>
              <p:nvPr/>
            </p:nvSpPr>
            <p:spPr>
              <a:xfrm>
                <a:off x="639360" y="5464440"/>
                <a:ext cx="311040" cy="135360"/>
              </a:xfrm>
              <a:custGeom>
                <a:avLst/>
                <a:gdLst/>
                <a:ahLst/>
                <a:rect l="l" t="t" r="r" b="b"/>
                <a:pathLst>
                  <a:path w="1161" h="671">
                    <a:moveTo>
                      <a:pt x="41" y="52"/>
                    </a:moveTo>
                    <a:lnTo>
                      <a:pt x="0" y="131"/>
                    </a:lnTo>
                    <a:lnTo>
                      <a:pt x="184" y="156"/>
                    </a:lnTo>
                    <a:lnTo>
                      <a:pt x="988" y="574"/>
                    </a:lnTo>
                    <a:lnTo>
                      <a:pt x="1045" y="671"/>
                    </a:lnTo>
                    <a:lnTo>
                      <a:pt x="1161" y="561"/>
                    </a:lnTo>
                    <a:lnTo>
                      <a:pt x="119" y="0"/>
                    </a:lnTo>
                    <a:lnTo>
                      <a:pt x="41" y="52"/>
                    </a:lnTo>
                    <a:lnTo>
                      <a:pt x="41" y="52"/>
                    </a:lnTo>
                    <a:close/>
                  </a:path>
                </a:pathLst>
              </a:custGeom>
              <a:solidFill>
                <a:srgbClr val="b56c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5" name=""/>
              <p:cNvSpPr/>
              <p:nvPr/>
            </p:nvSpPr>
            <p:spPr>
              <a:xfrm>
                <a:off x="960840" y="5540040"/>
                <a:ext cx="779400" cy="234360"/>
              </a:xfrm>
              <a:custGeom>
                <a:avLst/>
                <a:gdLst/>
                <a:ahLst/>
                <a:rect l="l" t="t" r="r" b="b"/>
                <a:pathLst>
                  <a:path w="2909" h="1159">
                    <a:moveTo>
                      <a:pt x="14" y="663"/>
                    </a:moveTo>
                    <a:lnTo>
                      <a:pt x="116" y="844"/>
                    </a:lnTo>
                    <a:lnTo>
                      <a:pt x="291" y="914"/>
                    </a:lnTo>
                    <a:lnTo>
                      <a:pt x="297" y="657"/>
                    </a:lnTo>
                    <a:lnTo>
                      <a:pt x="413" y="367"/>
                    </a:lnTo>
                    <a:lnTo>
                      <a:pt x="259" y="445"/>
                    </a:lnTo>
                    <a:lnTo>
                      <a:pt x="200" y="488"/>
                    </a:lnTo>
                    <a:lnTo>
                      <a:pt x="181" y="406"/>
                    </a:lnTo>
                    <a:lnTo>
                      <a:pt x="189" y="237"/>
                    </a:lnTo>
                    <a:lnTo>
                      <a:pt x="658" y="0"/>
                    </a:lnTo>
                    <a:lnTo>
                      <a:pt x="649" y="300"/>
                    </a:lnTo>
                    <a:lnTo>
                      <a:pt x="563" y="365"/>
                    </a:lnTo>
                    <a:lnTo>
                      <a:pt x="502" y="695"/>
                    </a:lnTo>
                    <a:lnTo>
                      <a:pt x="620" y="941"/>
                    </a:lnTo>
                    <a:lnTo>
                      <a:pt x="2428" y="393"/>
                    </a:lnTo>
                    <a:lnTo>
                      <a:pt x="2293" y="129"/>
                    </a:lnTo>
                    <a:lnTo>
                      <a:pt x="2909" y="386"/>
                    </a:lnTo>
                    <a:lnTo>
                      <a:pt x="2807" y="458"/>
                    </a:lnTo>
                    <a:lnTo>
                      <a:pt x="639" y="1159"/>
                    </a:lnTo>
                    <a:lnTo>
                      <a:pt x="449" y="1114"/>
                    </a:lnTo>
                    <a:lnTo>
                      <a:pt x="59" y="954"/>
                    </a:lnTo>
                    <a:lnTo>
                      <a:pt x="0" y="773"/>
                    </a:lnTo>
                    <a:lnTo>
                      <a:pt x="14" y="663"/>
                    </a:lnTo>
                    <a:lnTo>
                      <a:pt x="14" y="663"/>
                    </a:lnTo>
                    <a:close/>
                  </a:path>
                </a:pathLst>
              </a:custGeom>
              <a:solidFill>
                <a:srgbClr val="b56c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
              <p:cNvSpPr/>
              <p:nvPr/>
            </p:nvSpPr>
            <p:spPr>
              <a:xfrm>
                <a:off x="1254240" y="5439960"/>
                <a:ext cx="462240" cy="152280"/>
              </a:xfrm>
              <a:custGeom>
                <a:avLst/>
                <a:gdLst/>
                <a:ahLst/>
                <a:rect l="l" t="t" r="r" b="b"/>
                <a:pathLst>
                  <a:path w="1726" h="754">
                    <a:moveTo>
                      <a:pt x="129" y="270"/>
                    </a:moveTo>
                    <a:lnTo>
                      <a:pt x="817" y="0"/>
                    </a:lnTo>
                    <a:lnTo>
                      <a:pt x="1726" y="218"/>
                    </a:lnTo>
                    <a:lnTo>
                      <a:pt x="1557" y="328"/>
                    </a:lnTo>
                    <a:lnTo>
                      <a:pt x="19" y="754"/>
                    </a:lnTo>
                    <a:lnTo>
                      <a:pt x="0" y="560"/>
                    </a:lnTo>
                    <a:lnTo>
                      <a:pt x="129" y="270"/>
                    </a:lnTo>
                    <a:lnTo>
                      <a:pt x="129" y="270"/>
                    </a:lnTo>
                    <a:close/>
                  </a:path>
                </a:pathLst>
              </a:custGeom>
              <a:solidFill>
                <a:srgbClr val="b56c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7" name=""/>
              <p:cNvSpPr/>
              <p:nvPr/>
            </p:nvSpPr>
            <p:spPr>
              <a:xfrm>
                <a:off x="532800" y="5395680"/>
                <a:ext cx="478080" cy="200520"/>
              </a:xfrm>
              <a:custGeom>
                <a:avLst/>
                <a:gdLst/>
                <a:ahLst/>
                <a:rect l="l" t="t" r="r" b="b"/>
                <a:pathLst>
                  <a:path w="1788" h="992">
                    <a:moveTo>
                      <a:pt x="0" y="59"/>
                    </a:moveTo>
                    <a:lnTo>
                      <a:pt x="31" y="0"/>
                    </a:lnTo>
                    <a:lnTo>
                      <a:pt x="1788" y="850"/>
                    </a:lnTo>
                    <a:lnTo>
                      <a:pt x="1748" y="992"/>
                    </a:lnTo>
                    <a:lnTo>
                      <a:pt x="0" y="59"/>
                    </a:lnTo>
                    <a:lnTo>
                      <a:pt x="0" y="59"/>
                    </a:lnTo>
                    <a:close/>
                  </a:path>
                </a:pathLst>
              </a:custGeom>
              <a:solidFill>
                <a:srgbClr val="ae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8" name=""/>
              <p:cNvSpPr/>
              <p:nvPr/>
            </p:nvSpPr>
            <p:spPr>
              <a:xfrm>
                <a:off x="613080" y="5266440"/>
                <a:ext cx="963360" cy="245880"/>
              </a:xfrm>
              <a:custGeom>
                <a:avLst/>
                <a:gdLst/>
                <a:ahLst/>
                <a:rect l="l" t="t" r="r" b="b"/>
                <a:pathLst>
                  <a:path w="3597" h="1219">
                    <a:moveTo>
                      <a:pt x="11" y="361"/>
                    </a:moveTo>
                    <a:lnTo>
                      <a:pt x="1570" y="922"/>
                    </a:lnTo>
                    <a:lnTo>
                      <a:pt x="1506" y="1219"/>
                    </a:lnTo>
                    <a:lnTo>
                      <a:pt x="1846" y="1103"/>
                    </a:lnTo>
                    <a:lnTo>
                      <a:pt x="2040" y="1025"/>
                    </a:lnTo>
                    <a:lnTo>
                      <a:pt x="1989" y="761"/>
                    </a:lnTo>
                    <a:lnTo>
                      <a:pt x="2483" y="569"/>
                    </a:lnTo>
                    <a:lnTo>
                      <a:pt x="2580" y="755"/>
                    </a:lnTo>
                    <a:lnTo>
                      <a:pt x="2523" y="1076"/>
                    </a:lnTo>
                    <a:lnTo>
                      <a:pt x="3217" y="740"/>
                    </a:lnTo>
                    <a:lnTo>
                      <a:pt x="3411" y="755"/>
                    </a:lnTo>
                    <a:lnTo>
                      <a:pt x="3597" y="400"/>
                    </a:lnTo>
                    <a:lnTo>
                      <a:pt x="3578" y="137"/>
                    </a:lnTo>
                    <a:lnTo>
                      <a:pt x="3333" y="0"/>
                    </a:lnTo>
                    <a:lnTo>
                      <a:pt x="1538" y="561"/>
                    </a:lnTo>
                    <a:lnTo>
                      <a:pt x="1403" y="631"/>
                    </a:lnTo>
                    <a:lnTo>
                      <a:pt x="0" y="149"/>
                    </a:lnTo>
                    <a:lnTo>
                      <a:pt x="11" y="361"/>
                    </a:lnTo>
                    <a:lnTo>
                      <a:pt x="11" y="36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9" name=""/>
              <p:cNvSpPr/>
              <p:nvPr/>
            </p:nvSpPr>
            <p:spPr>
              <a:xfrm>
                <a:off x="552600" y="5169960"/>
                <a:ext cx="1028880" cy="329400"/>
              </a:xfrm>
              <a:custGeom>
                <a:avLst/>
                <a:gdLst/>
                <a:ahLst/>
                <a:rect l="l" t="t" r="r" b="b"/>
                <a:pathLst>
                  <a:path w="3842" h="1631">
                    <a:moveTo>
                      <a:pt x="0" y="407"/>
                    </a:moveTo>
                    <a:lnTo>
                      <a:pt x="1918" y="0"/>
                    </a:lnTo>
                    <a:lnTo>
                      <a:pt x="2941" y="219"/>
                    </a:lnTo>
                    <a:lnTo>
                      <a:pt x="1275" y="620"/>
                    </a:lnTo>
                    <a:lnTo>
                      <a:pt x="1661" y="755"/>
                    </a:lnTo>
                    <a:lnTo>
                      <a:pt x="3346" y="342"/>
                    </a:lnTo>
                    <a:lnTo>
                      <a:pt x="3517" y="274"/>
                    </a:lnTo>
                    <a:lnTo>
                      <a:pt x="3739" y="394"/>
                    </a:lnTo>
                    <a:lnTo>
                      <a:pt x="3836" y="542"/>
                    </a:lnTo>
                    <a:lnTo>
                      <a:pt x="3842" y="954"/>
                    </a:lnTo>
                    <a:lnTo>
                      <a:pt x="3637" y="1232"/>
                    </a:lnTo>
                    <a:lnTo>
                      <a:pt x="3443" y="1245"/>
                    </a:lnTo>
                    <a:lnTo>
                      <a:pt x="3410" y="1329"/>
                    </a:lnTo>
                    <a:lnTo>
                      <a:pt x="3237" y="1413"/>
                    </a:lnTo>
                    <a:lnTo>
                      <a:pt x="3024" y="1477"/>
                    </a:lnTo>
                    <a:lnTo>
                      <a:pt x="2728" y="1631"/>
                    </a:lnTo>
                    <a:lnTo>
                      <a:pt x="2749" y="1553"/>
                    </a:lnTo>
                    <a:lnTo>
                      <a:pt x="2844" y="1321"/>
                    </a:lnTo>
                    <a:lnTo>
                      <a:pt x="3553" y="1038"/>
                    </a:lnTo>
                    <a:lnTo>
                      <a:pt x="3688" y="871"/>
                    </a:lnTo>
                    <a:lnTo>
                      <a:pt x="3650" y="574"/>
                    </a:lnTo>
                    <a:lnTo>
                      <a:pt x="3553" y="519"/>
                    </a:lnTo>
                    <a:lnTo>
                      <a:pt x="1770" y="1013"/>
                    </a:lnTo>
                    <a:lnTo>
                      <a:pt x="0" y="407"/>
                    </a:lnTo>
                    <a:lnTo>
                      <a:pt x="0" y="407"/>
                    </a:lnTo>
                    <a:close/>
                  </a:path>
                </a:pathLst>
              </a:custGeom>
              <a:solidFill>
                <a:srgbClr val="ae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0" name=""/>
              <p:cNvSpPr/>
              <p:nvPr/>
            </p:nvSpPr>
            <p:spPr>
              <a:xfrm>
                <a:off x="1091880" y="5535000"/>
                <a:ext cx="529200" cy="202680"/>
              </a:xfrm>
              <a:custGeom>
                <a:avLst/>
                <a:gdLst/>
                <a:ahLst/>
                <a:rect l="l" t="t" r="r" b="b"/>
                <a:pathLst>
                  <a:path w="1975" h="1006">
                    <a:moveTo>
                      <a:pt x="656" y="304"/>
                    </a:moveTo>
                    <a:lnTo>
                      <a:pt x="1827" y="0"/>
                    </a:lnTo>
                    <a:lnTo>
                      <a:pt x="1814" y="177"/>
                    </a:lnTo>
                    <a:lnTo>
                      <a:pt x="1833" y="323"/>
                    </a:lnTo>
                    <a:lnTo>
                      <a:pt x="1975" y="426"/>
                    </a:lnTo>
                    <a:lnTo>
                      <a:pt x="148" y="1006"/>
                    </a:lnTo>
                    <a:lnTo>
                      <a:pt x="51" y="954"/>
                    </a:lnTo>
                    <a:lnTo>
                      <a:pt x="0" y="787"/>
                    </a:lnTo>
                    <a:lnTo>
                      <a:pt x="70" y="445"/>
                    </a:lnTo>
                    <a:lnTo>
                      <a:pt x="141" y="407"/>
                    </a:lnTo>
                    <a:lnTo>
                      <a:pt x="316" y="755"/>
                    </a:lnTo>
                    <a:lnTo>
                      <a:pt x="407" y="835"/>
                    </a:lnTo>
                    <a:lnTo>
                      <a:pt x="418" y="529"/>
                    </a:lnTo>
                    <a:lnTo>
                      <a:pt x="527" y="426"/>
                    </a:lnTo>
                    <a:lnTo>
                      <a:pt x="743" y="498"/>
                    </a:lnTo>
                    <a:lnTo>
                      <a:pt x="656" y="304"/>
                    </a:lnTo>
                    <a:lnTo>
                      <a:pt x="656" y="304"/>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1" name=""/>
              <p:cNvSpPr/>
              <p:nvPr/>
            </p:nvSpPr>
            <p:spPr>
              <a:xfrm>
                <a:off x="1002600" y="5468400"/>
                <a:ext cx="160920" cy="68400"/>
              </a:xfrm>
              <a:custGeom>
                <a:avLst/>
                <a:gdLst/>
                <a:ahLst/>
                <a:rect l="l" t="t" r="r" b="b"/>
                <a:pathLst>
                  <a:path w="603" h="340">
                    <a:moveTo>
                      <a:pt x="0" y="295"/>
                    </a:moveTo>
                    <a:lnTo>
                      <a:pt x="400" y="257"/>
                    </a:lnTo>
                    <a:lnTo>
                      <a:pt x="379" y="340"/>
                    </a:lnTo>
                    <a:lnTo>
                      <a:pt x="559" y="270"/>
                    </a:lnTo>
                    <a:lnTo>
                      <a:pt x="603" y="0"/>
                    </a:lnTo>
                    <a:lnTo>
                      <a:pt x="0" y="295"/>
                    </a:lnTo>
                    <a:lnTo>
                      <a:pt x="0" y="295"/>
                    </a:lnTo>
                    <a:close/>
                  </a:path>
                </a:pathLst>
              </a:custGeom>
              <a:solidFill>
                <a:srgbClr val="ae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62" name=""/>
              <p:cNvSpPr/>
              <p:nvPr/>
            </p:nvSpPr>
            <p:spPr>
              <a:xfrm>
                <a:off x="498600" y="5164200"/>
                <a:ext cx="1058400" cy="281880"/>
              </a:xfrm>
              <a:custGeom>
                <a:avLst/>
                <a:gdLst/>
                <a:ahLst/>
                <a:rect l="l" t="t" r="r" b="b"/>
                <a:pathLst>
                  <a:path w="3953" h="1393">
                    <a:moveTo>
                      <a:pt x="32" y="361"/>
                    </a:moveTo>
                    <a:lnTo>
                      <a:pt x="0" y="494"/>
                    </a:lnTo>
                    <a:lnTo>
                      <a:pt x="350" y="669"/>
                    </a:lnTo>
                    <a:lnTo>
                      <a:pt x="394" y="832"/>
                    </a:lnTo>
                    <a:lnTo>
                      <a:pt x="403" y="975"/>
                    </a:lnTo>
                    <a:lnTo>
                      <a:pt x="359" y="1140"/>
                    </a:lnTo>
                    <a:lnTo>
                      <a:pt x="470" y="998"/>
                    </a:lnTo>
                    <a:lnTo>
                      <a:pt x="525" y="832"/>
                    </a:lnTo>
                    <a:lnTo>
                      <a:pt x="513" y="713"/>
                    </a:lnTo>
                    <a:lnTo>
                      <a:pt x="1850" y="1184"/>
                    </a:lnTo>
                    <a:lnTo>
                      <a:pt x="3755" y="547"/>
                    </a:lnTo>
                    <a:lnTo>
                      <a:pt x="3810" y="713"/>
                    </a:lnTo>
                    <a:lnTo>
                      <a:pt x="3810" y="899"/>
                    </a:lnTo>
                    <a:lnTo>
                      <a:pt x="3679" y="1062"/>
                    </a:lnTo>
                    <a:lnTo>
                      <a:pt x="3053" y="1321"/>
                    </a:lnTo>
                    <a:lnTo>
                      <a:pt x="3021" y="1393"/>
                    </a:lnTo>
                    <a:lnTo>
                      <a:pt x="3746" y="1117"/>
                    </a:lnTo>
                    <a:lnTo>
                      <a:pt x="3888" y="1019"/>
                    </a:lnTo>
                    <a:lnTo>
                      <a:pt x="3953" y="855"/>
                    </a:lnTo>
                    <a:lnTo>
                      <a:pt x="3932" y="635"/>
                    </a:lnTo>
                    <a:lnTo>
                      <a:pt x="3833" y="515"/>
                    </a:lnTo>
                    <a:lnTo>
                      <a:pt x="3734" y="471"/>
                    </a:lnTo>
                    <a:lnTo>
                      <a:pt x="3472" y="591"/>
                    </a:lnTo>
                    <a:lnTo>
                      <a:pt x="1894" y="963"/>
                    </a:lnTo>
                    <a:lnTo>
                      <a:pt x="363" y="490"/>
                    </a:lnTo>
                    <a:lnTo>
                      <a:pt x="1806" y="1041"/>
                    </a:lnTo>
                    <a:lnTo>
                      <a:pt x="1806" y="1096"/>
                    </a:lnTo>
                    <a:lnTo>
                      <a:pt x="65" y="460"/>
                    </a:lnTo>
                    <a:lnTo>
                      <a:pt x="120" y="405"/>
                    </a:lnTo>
                    <a:lnTo>
                      <a:pt x="2057" y="55"/>
                    </a:lnTo>
                    <a:lnTo>
                      <a:pt x="3006" y="230"/>
                    </a:lnTo>
                    <a:lnTo>
                      <a:pt x="2004" y="0"/>
                    </a:lnTo>
                    <a:lnTo>
                      <a:pt x="32" y="361"/>
                    </a:lnTo>
                    <a:lnTo>
                      <a:pt x="32"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3" name=""/>
              <p:cNvSpPr/>
              <p:nvPr/>
            </p:nvSpPr>
            <p:spPr>
              <a:xfrm>
                <a:off x="502200" y="5352480"/>
                <a:ext cx="652680" cy="249840"/>
              </a:xfrm>
              <a:custGeom>
                <a:avLst/>
                <a:gdLst/>
                <a:ahLst/>
                <a:rect l="l" t="t" r="r" b="b"/>
                <a:pathLst>
                  <a:path w="2440" h="1236">
                    <a:moveTo>
                      <a:pt x="413" y="0"/>
                    </a:moveTo>
                    <a:lnTo>
                      <a:pt x="36" y="135"/>
                    </a:lnTo>
                    <a:lnTo>
                      <a:pt x="0" y="272"/>
                    </a:lnTo>
                    <a:lnTo>
                      <a:pt x="1856" y="1236"/>
                    </a:lnTo>
                    <a:lnTo>
                      <a:pt x="2369" y="979"/>
                    </a:lnTo>
                    <a:lnTo>
                      <a:pt x="2440" y="806"/>
                    </a:lnTo>
                    <a:lnTo>
                      <a:pt x="1869" y="1028"/>
                    </a:lnTo>
                    <a:lnTo>
                      <a:pt x="578" y="435"/>
                    </a:lnTo>
                    <a:lnTo>
                      <a:pt x="1805" y="1070"/>
                    </a:lnTo>
                    <a:lnTo>
                      <a:pt x="1833" y="1163"/>
                    </a:lnTo>
                    <a:lnTo>
                      <a:pt x="114" y="272"/>
                    </a:lnTo>
                    <a:lnTo>
                      <a:pt x="99" y="192"/>
                    </a:lnTo>
                    <a:lnTo>
                      <a:pt x="407" y="70"/>
                    </a:lnTo>
                    <a:lnTo>
                      <a:pt x="413" y="0"/>
                    </a:lnTo>
                    <a:lnTo>
                      <a:pt x="4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4" name=""/>
              <p:cNvSpPr/>
              <p:nvPr/>
            </p:nvSpPr>
            <p:spPr>
              <a:xfrm>
                <a:off x="617400" y="5381280"/>
                <a:ext cx="546120" cy="152280"/>
              </a:xfrm>
              <a:custGeom>
                <a:avLst/>
                <a:gdLst/>
                <a:ahLst/>
                <a:rect l="l" t="t" r="r" b="b"/>
                <a:pathLst>
                  <a:path w="2040" h="752">
                    <a:moveTo>
                      <a:pt x="0" y="106"/>
                    </a:moveTo>
                    <a:lnTo>
                      <a:pt x="1394" y="752"/>
                    </a:lnTo>
                    <a:lnTo>
                      <a:pt x="2040" y="486"/>
                    </a:lnTo>
                    <a:lnTo>
                      <a:pt x="2040" y="431"/>
                    </a:lnTo>
                    <a:lnTo>
                      <a:pt x="1546" y="621"/>
                    </a:lnTo>
                    <a:lnTo>
                      <a:pt x="1616" y="463"/>
                    </a:lnTo>
                    <a:lnTo>
                      <a:pt x="1865" y="363"/>
                    </a:lnTo>
                    <a:lnTo>
                      <a:pt x="1595" y="393"/>
                    </a:lnTo>
                    <a:lnTo>
                      <a:pt x="1580" y="220"/>
                    </a:lnTo>
                    <a:lnTo>
                      <a:pt x="1489" y="28"/>
                    </a:lnTo>
                    <a:lnTo>
                      <a:pt x="1424" y="72"/>
                    </a:lnTo>
                    <a:lnTo>
                      <a:pt x="1502" y="220"/>
                    </a:lnTo>
                    <a:lnTo>
                      <a:pt x="852" y="0"/>
                    </a:lnTo>
                    <a:lnTo>
                      <a:pt x="1502" y="321"/>
                    </a:lnTo>
                    <a:lnTo>
                      <a:pt x="1521" y="418"/>
                    </a:lnTo>
                    <a:lnTo>
                      <a:pt x="1470" y="538"/>
                    </a:lnTo>
                    <a:lnTo>
                      <a:pt x="460" y="142"/>
                    </a:lnTo>
                    <a:lnTo>
                      <a:pt x="1464" y="600"/>
                    </a:lnTo>
                    <a:lnTo>
                      <a:pt x="1394" y="695"/>
                    </a:lnTo>
                    <a:lnTo>
                      <a:pt x="0"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5" name=""/>
              <p:cNvSpPr/>
              <p:nvPr/>
            </p:nvSpPr>
            <p:spPr>
              <a:xfrm>
                <a:off x="1073160" y="5323320"/>
                <a:ext cx="382320" cy="379800"/>
              </a:xfrm>
              <a:custGeom>
                <a:avLst/>
                <a:gdLst/>
                <a:ahLst/>
                <a:rect l="l" t="t" r="r" b="b"/>
                <a:pathLst>
                  <a:path w="1427" h="1880">
                    <a:moveTo>
                      <a:pt x="0" y="486"/>
                    </a:moveTo>
                    <a:lnTo>
                      <a:pt x="528" y="328"/>
                    </a:lnTo>
                    <a:lnTo>
                      <a:pt x="1427" y="0"/>
                    </a:lnTo>
                    <a:lnTo>
                      <a:pt x="806" y="315"/>
                    </a:lnTo>
                    <a:lnTo>
                      <a:pt x="912" y="444"/>
                    </a:lnTo>
                    <a:lnTo>
                      <a:pt x="912" y="600"/>
                    </a:lnTo>
                    <a:lnTo>
                      <a:pt x="827" y="865"/>
                    </a:lnTo>
                    <a:lnTo>
                      <a:pt x="713" y="1152"/>
                    </a:lnTo>
                    <a:lnTo>
                      <a:pt x="707" y="1307"/>
                    </a:lnTo>
                    <a:lnTo>
                      <a:pt x="813" y="1543"/>
                    </a:lnTo>
                    <a:lnTo>
                      <a:pt x="656" y="1359"/>
                    </a:lnTo>
                    <a:lnTo>
                      <a:pt x="635" y="1157"/>
                    </a:lnTo>
                    <a:lnTo>
                      <a:pt x="756" y="823"/>
                    </a:lnTo>
                    <a:lnTo>
                      <a:pt x="849" y="579"/>
                    </a:lnTo>
                    <a:lnTo>
                      <a:pt x="707" y="323"/>
                    </a:lnTo>
                    <a:lnTo>
                      <a:pt x="313" y="473"/>
                    </a:lnTo>
                    <a:lnTo>
                      <a:pt x="349" y="551"/>
                    </a:lnTo>
                    <a:lnTo>
                      <a:pt x="378" y="750"/>
                    </a:lnTo>
                    <a:lnTo>
                      <a:pt x="342" y="979"/>
                    </a:lnTo>
                    <a:lnTo>
                      <a:pt x="285" y="1201"/>
                    </a:lnTo>
                    <a:lnTo>
                      <a:pt x="264" y="1429"/>
                    </a:lnTo>
                    <a:lnTo>
                      <a:pt x="328" y="1651"/>
                    </a:lnTo>
                    <a:lnTo>
                      <a:pt x="477" y="1880"/>
                    </a:lnTo>
                    <a:lnTo>
                      <a:pt x="321" y="1786"/>
                    </a:lnTo>
                    <a:lnTo>
                      <a:pt x="214" y="1543"/>
                    </a:lnTo>
                    <a:lnTo>
                      <a:pt x="192" y="1273"/>
                    </a:lnTo>
                    <a:lnTo>
                      <a:pt x="271" y="922"/>
                    </a:lnTo>
                    <a:lnTo>
                      <a:pt x="300" y="709"/>
                    </a:lnTo>
                    <a:lnTo>
                      <a:pt x="192" y="501"/>
                    </a:lnTo>
                    <a:lnTo>
                      <a:pt x="0" y="486"/>
                    </a:lnTo>
                    <a:lnTo>
                      <a:pt x="0" y="4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6" name=""/>
              <p:cNvSpPr/>
              <p:nvPr/>
            </p:nvSpPr>
            <p:spPr>
              <a:xfrm>
                <a:off x="1192320" y="5613840"/>
                <a:ext cx="99000" cy="89640"/>
              </a:xfrm>
              <a:custGeom>
                <a:avLst/>
                <a:gdLst/>
                <a:ahLst/>
                <a:rect l="l" t="t" r="r" b="b"/>
                <a:pathLst>
                  <a:path w="370" h="443">
                    <a:moveTo>
                      <a:pt x="34" y="443"/>
                    </a:moveTo>
                    <a:lnTo>
                      <a:pt x="0" y="207"/>
                    </a:lnTo>
                    <a:lnTo>
                      <a:pt x="93" y="0"/>
                    </a:lnTo>
                    <a:lnTo>
                      <a:pt x="178" y="7"/>
                    </a:lnTo>
                    <a:lnTo>
                      <a:pt x="370" y="106"/>
                    </a:lnTo>
                    <a:lnTo>
                      <a:pt x="142" y="85"/>
                    </a:lnTo>
                    <a:lnTo>
                      <a:pt x="62" y="214"/>
                    </a:lnTo>
                    <a:lnTo>
                      <a:pt x="34" y="443"/>
                    </a:lnTo>
                    <a:lnTo>
                      <a:pt x="34" y="44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067" name=""/>
              <p:cNvSpPr/>
              <p:nvPr/>
            </p:nvSpPr>
            <p:spPr>
              <a:xfrm>
                <a:off x="1276200" y="5229360"/>
                <a:ext cx="312480" cy="281880"/>
              </a:xfrm>
              <a:custGeom>
                <a:avLst/>
                <a:gdLst/>
                <a:ahLst/>
                <a:rect l="l" t="t" r="r" b="b"/>
                <a:pathLst>
                  <a:path w="1170" h="1393">
                    <a:moveTo>
                      <a:pt x="86" y="1222"/>
                    </a:moveTo>
                    <a:lnTo>
                      <a:pt x="742" y="922"/>
                    </a:lnTo>
                    <a:lnTo>
                      <a:pt x="896" y="905"/>
                    </a:lnTo>
                    <a:lnTo>
                      <a:pt x="1006" y="800"/>
                    </a:lnTo>
                    <a:lnTo>
                      <a:pt x="1107" y="551"/>
                    </a:lnTo>
                    <a:lnTo>
                      <a:pt x="1063" y="207"/>
                    </a:lnTo>
                    <a:lnTo>
                      <a:pt x="901" y="66"/>
                    </a:lnTo>
                    <a:lnTo>
                      <a:pt x="616" y="160"/>
                    </a:lnTo>
                    <a:lnTo>
                      <a:pt x="852" y="0"/>
                    </a:lnTo>
                    <a:lnTo>
                      <a:pt x="1006" y="51"/>
                    </a:lnTo>
                    <a:lnTo>
                      <a:pt x="1135" y="194"/>
                    </a:lnTo>
                    <a:lnTo>
                      <a:pt x="1170" y="479"/>
                    </a:lnTo>
                    <a:lnTo>
                      <a:pt x="1156" y="678"/>
                    </a:lnTo>
                    <a:lnTo>
                      <a:pt x="1023" y="931"/>
                    </a:lnTo>
                    <a:lnTo>
                      <a:pt x="936" y="984"/>
                    </a:lnTo>
                    <a:lnTo>
                      <a:pt x="778" y="979"/>
                    </a:lnTo>
                    <a:lnTo>
                      <a:pt x="0" y="1393"/>
                    </a:lnTo>
                    <a:lnTo>
                      <a:pt x="86" y="1222"/>
                    </a:lnTo>
                    <a:lnTo>
                      <a:pt x="86" y="1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8" name=""/>
              <p:cNvSpPr/>
              <p:nvPr/>
            </p:nvSpPr>
            <p:spPr>
              <a:xfrm>
                <a:off x="624240" y="5459040"/>
                <a:ext cx="1123560" cy="327600"/>
              </a:xfrm>
              <a:custGeom>
                <a:avLst/>
                <a:gdLst/>
                <a:ahLst/>
                <a:rect l="l" t="t" r="r" b="b"/>
                <a:pathLst>
                  <a:path w="4196" h="1621">
                    <a:moveTo>
                      <a:pt x="57" y="0"/>
                    </a:moveTo>
                    <a:lnTo>
                      <a:pt x="0" y="127"/>
                    </a:lnTo>
                    <a:lnTo>
                      <a:pt x="7" y="414"/>
                    </a:lnTo>
                    <a:lnTo>
                      <a:pt x="85" y="577"/>
                    </a:lnTo>
                    <a:lnTo>
                      <a:pt x="214" y="621"/>
                    </a:lnTo>
                    <a:lnTo>
                      <a:pt x="435" y="805"/>
                    </a:lnTo>
                    <a:lnTo>
                      <a:pt x="977" y="1178"/>
                    </a:lnTo>
                    <a:lnTo>
                      <a:pt x="1099" y="1199"/>
                    </a:lnTo>
                    <a:lnTo>
                      <a:pt x="1254" y="1285"/>
                    </a:lnTo>
                    <a:lnTo>
                      <a:pt x="1306" y="1385"/>
                    </a:lnTo>
                    <a:lnTo>
                      <a:pt x="1718" y="1600"/>
                    </a:lnTo>
                    <a:lnTo>
                      <a:pt x="1891" y="1621"/>
                    </a:lnTo>
                    <a:lnTo>
                      <a:pt x="4196" y="899"/>
                    </a:lnTo>
                    <a:lnTo>
                      <a:pt x="4175" y="743"/>
                    </a:lnTo>
                    <a:lnTo>
                      <a:pt x="3561" y="549"/>
                    </a:lnTo>
                    <a:lnTo>
                      <a:pt x="4131" y="800"/>
                    </a:lnTo>
                    <a:lnTo>
                      <a:pt x="1863" y="1513"/>
                    </a:lnTo>
                    <a:lnTo>
                      <a:pt x="1718" y="1385"/>
                    </a:lnTo>
                    <a:lnTo>
                      <a:pt x="1648" y="1199"/>
                    </a:lnTo>
                    <a:lnTo>
                      <a:pt x="1705" y="834"/>
                    </a:lnTo>
                    <a:lnTo>
                      <a:pt x="1604" y="1013"/>
                    </a:lnTo>
                    <a:lnTo>
                      <a:pt x="1583" y="1199"/>
                    </a:lnTo>
                    <a:lnTo>
                      <a:pt x="1648" y="1435"/>
                    </a:lnTo>
                    <a:lnTo>
                      <a:pt x="1705" y="1513"/>
                    </a:lnTo>
                    <a:lnTo>
                      <a:pt x="1370" y="1349"/>
                    </a:lnTo>
                    <a:lnTo>
                      <a:pt x="1306" y="1191"/>
                    </a:lnTo>
                    <a:lnTo>
                      <a:pt x="1291" y="956"/>
                    </a:lnTo>
                    <a:lnTo>
                      <a:pt x="1334" y="792"/>
                    </a:lnTo>
                    <a:lnTo>
                      <a:pt x="1254" y="914"/>
                    </a:lnTo>
                    <a:lnTo>
                      <a:pt x="1226" y="1085"/>
                    </a:lnTo>
                    <a:lnTo>
                      <a:pt x="1213" y="1186"/>
                    </a:lnTo>
                    <a:lnTo>
                      <a:pt x="1091" y="1106"/>
                    </a:lnTo>
                    <a:lnTo>
                      <a:pt x="1070" y="899"/>
                    </a:lnTo>
                    <a:lnTo>
                      <a:pt x="1135" y="657"/>
                    </a:lnTo>
                    <a:lnTo>
                      <a:pt x="1057" y="764"/>
                    </a:lnTo>
                    <a:lnTo>
                      <a:pt x="1000" y="927"/>
                    </a:lnTo>
                    <a:lnTo>
                      <a:pt x="1000" y="1098"/>
                    </a:lnTo>
                    <a:lnTo>
                      <a:pt x="235" y="570"/>
                    </a:lnTo>
                    <a:lnTo>
                      <a:pt x="228" y="414"/>
                    </a:lnTo>
                    <a:lnTo>
                      <a:pt x="235" y="285"/>
                    </a:lnTo>
                    <a:lnTo>
                      <a:pt x="171" y="370"/>
                    </a:lnTo>
                    <a:lnTo>
                      <a:pt x="135" y="507"/>
                    </a:lnTo>
                    <a:lnTo>
                      <a:pt x="57" y="363"/>
                    </a:lnTo>
                    <a:lnTo>
                      <a:pt x="57" y="155"/>
                    </a:lnTo>
                    <a:lnTo>
                      <a:pt x="192" y="70"/>
                    </a:lnTo>
                    <a:lnTo>
                      <a:pt x="57" y="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9" name=""/>
              <p:cNvSpPr/>
              <p:nvPr/>
            </p:nvSpPr>
            <p:spPr>
              <a:xfrm>
                <a:off x="1084320" y="5600880"/>
                <a:ext cx="103320" cy="118440"/>
              </a:xfrm>
              <a:custGeom>
                <a:avLst/>
                <a:gdLst/>
                <a:ahLst/>
                <a:rect l="l" t="t" r="r" b="b"/>
                <a:pathLst>
                  <a:path w="386" h="586">
                    <a:moveTo>
                      <a:pt x="187" y="0"/>
                    </a:moveTo>
                    <a:lnTo>
                      <a:pt x="101" y="65"/>
                    </a:lnTo>
                    <a:lnTo>
                      <a:pt x="59" y="179"/>
                    </a:lnTo>
                    <a:lnTo>
                      <a:pt x="0" y="451"/>
                    </a:lnTo>
                    <a:lnTo>
                      <a:pt x="59" y="586"/>
                    </a:lnTo>
                    <a:lnTo>
                      <a:pt x="386" y="479"/>
                    </a:lnTo>
                    <a:lnTo>
                      <a:pt x="308" y="399"/>
                    </a:lnTo>
                    <a:lnTo>
                      <a:pt x="101" y="458"/>
                    </a:lnTo>
                    <a:lnTo>
                      <a:pt x="109" y="236"/>
                    </a:lnTo>
                    <a:lnTo>
                      <a:pt x="202" y="15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0" name=""/>
              <p:cNvSpPr/>
              <p:nvPr/>
            </p:nvSpPr>
            <p:spPr>
              <a:xfrm>
                <a:off x="1199520" y="5650200"/>
                <a:ext cx="162360" cy="41400"/>
              </a:xfrm>
              <a:custGeom>
                <a:avLst/>
                <a:gdLst/>
                <a:ahLst/>
                <a:rect l="l" t="t" r="r" b="b"/>
                <a:pathLst>
                  <a:path w="607" h="208">
                    <a:moveTo>
                      <a:pt x="13" y="128"/>
                    </a:moveTo>
                    <a:lnTo>
                      <a:pt x="607" y="0"/>
                    </a:lnTo>
                    <a:lnTo>
                      <a:pt x="0" y="208"/>
                    </a:lnTo>
                    <a:lnTo>
                      <a:pt x="13" y="128"/>
                    </a:lnTo>
                    <a:lnTo>
                      <a:pt x="13" y="12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71" name=""/>
              <p:cNvSpPr/>
              <p:nvPr/>
            </p:nvSpPr>
            <p:spPr>
              <a:xfrm>
                <a:off x="552960" y="5504040"/>
                <a:ext cx="1053000" cy="385920"/>
              </a:xfrm>
              <a:custGeom>
                <a:avLst/>
                <a:gdLst/>
                <a:ahLst/>
                <a:rect l="l" t="t" r="r" b="b"/>
                <a:pathLst>
                  <a:path w="3932" h="1908">
                    <a:moveTo>
                      <a:pt x="314" y="0"/>
                    </a:moveTo>
                    <a:lnTo>
                      <a:pt x="0" y="47"/>
                    </a:lnTo>
                    <a:lnTo>
                      <a:pt x="10" y="162"/>
                    </a:lnTo>
                    <a:lnTo>
                      <a:pt x="993" y="1722"/>
                    </a:lnTo>
                    <a:lnTo>
                      <a:pt x="3619" y="1426"/>
                    </a:lnTo>
                    <a:lnTo>
                      <a:pt x="3740" y="1483"/>
                    </a:lnTo>
                    <a:lnTo>
                      <a:pt x="3809" y="1593"/>
                    </a:lnTo>
                    <a:lnTo>
                      <a:pt x="3725" y="1827"/>
                    </a:lnTo>
                    <a:lnTo>
                      <a:pt x="3290" y="1908"/>
                    </a:lnTo>
                    <a:lnTo>
                      <a:pt x="3744" y="1908"/>
                    </a:lnTo>
                    <a:lnTo>
                      <a:pt x="3932" y="1621"/>
                    </a:lnTo>
                    <a:lnTo>
                      <a:pt x="3921" y="1388"/>
                    </a:lnTo>
                    <a:lnTo>
                      <a:pt x="3839" y="1279"/>
                    </a:lnTo>
                    <a:lnTo>
                      <a:pt x="3383" y="1340"/>
                    </a:lnTo>
                    <a:lnTo>
                      <a:pt x="3299" y="1376"/>
                    </a:lnTo>
                    <a:lnTo>
                      <a:pt x="3200" y="1340"/>
                    </a:lnTo>
                    <a:lnTo>
                      <a:pt x="1136" y="1583"/>
                    </a:lnTo>
                    <a:lnTo>
                      <a:pt x="495" y="684"/>
                    </a:lnTo>
                    <a:lnTo>
                      <a:pt x="1065" y="1591"/>
                    </a:lnTo>
                    <a:lnTo>
                      <a:pt x="1014" y="1667"/>
                    </a:lnTo>
                    <a:lnTo>
                      <a:pt x="40" y="89"/>
                    </a:lnTo>
                    <a:lnTo>
                      <a:pt x="289" y="47"/>
                    </a:lnTo>
                    <a:lnTo>
                      <a:pt x="314" y="0"/>
                    </a:lnTo>
                    <a:lnTo>
                      <a:pt x="3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2" name=""/>
              <p:cNvSpPr/>
              <p:nvPr/>
            </p:nvSpPr>
            <p:spPr>
              <a:xfrm>
                <a:off x="580320" y="5590800"/>
                <a:ext cx="189000" cy="333360"/>
              </a:xfrm>
              <a:custGeom>
                <a:avLst/>
                <a:gdLst/>
                <a:ahLst/>
                <a:rect l="l" t="t" r="r" b="b"/>
                <a:pathLst>
                  <a:path w="705" h="1650">
                    <a:moveTo>
                      <a:pt x="91" y="0"/>
                    </a:moveTo>
                    <a:lnTo>
                      <a:pt x="107" y="121"/>
                    </a:lnTo>
                    <a:lnTo>
                      <a:pt x="86" y="224"/>
                    </a:lnTo>
                    <a:lnTo>
                      <a:pt x="50" y="292"/>
                    </a:lnTo>
                    <a:lnTo>
                      <a:pt x="0" y="328"/>
                    </a:lnTo>
                    <a:lnTo>
                      <a:pt x="185" y="678"/>
                    </a:lnTo>
                    <a:lnTo>
                      <a:pt x="705" y="1650"/>
                    </a:lnTo>
                    <a:lnTo>
                      <a:pt x="321" y="777"/>
                    </a:lnTo>
                    <a:lnTo>
                      <a:pt x="86" y="328"/>
                    </a:lnTo>
                    <a:lnTo>
                      <a:pt x="314" y="598"/>
                    </a:lnTo>
                    <a:lnTo>
                      <a:pt x="135" y="243"/>
                    </a:lnTo>
                    <a:lnTo>
                      <a:pt x="185" y="114"/>
                    </a:lnTo>
                    <a:lnTo>
                      <a:pt x="91"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3" name=""/>
              <p:cNvSpPr/>
              <p:nvPr/>
            </p:nvSpPr>
            <p:spPr>
              <a:xfrm>
                <a:off x="523440" y="5620320"/>
                <a:ext cx="1130040" cy="381600"/>
              </a:xfrm>
              <a:custGeom>
                <a:avLst/>
                <a:gdLst/>
                <a:ahLst/>
                <a:rect l="l" t="t" r="r" b="b"/>
                <a:pathLst>
                  <a:path w="4221" h="1890">
                    <a:moveTo>
                      <a:pt x="329" y="0"/>
                    </a:moveTo>
                    <a:lnTo>
                      <a:pt x="154" y="80"/>
                    </a:lnTo>
                    <a:lnTo>
                      <a:pt x="15" y="110"/>
                    </a:lnTo>
                    <a:lnTo>
                      <a:pt x="0" y="203"/>
                    </a:lnTo>
                    <a:lnTo>
                      <a:pt x="572" y="1279"/>
                    </a:lnTo>
                    <a:lnTo>
                      <a:pt x="818" y="1890"/>
                    </a:lnTo>
                    <a:lnTo>
                      <a:pt x="3259" y="1589"/>
                    </a:lnTo>
                    <a:lnTo>
                      <a:pt x="3350" y="1559"/>
                    </a:lnTo>
                    <a:lnTo>
                      <a:pt x="3480" y="1602"/>
                    </a:lnTo>
                    <a:lnTo>
                      <a:pt x="3923" y="1544"/>
                    </a:lnTo>
                    <a:lnTo>
                      <a:pt x="4120" y="1361"/>
                    </a:lnTo>
                    <a:lnTo>
                      <a:pt x="4221" y="911"/>
                    </a:lnTo>
                    <a:lnTo>
                      <a:pt x="4151" y="587"/>
                    </a:lnTo>
                    <a:lnTo>
                      <a:pt x="3841" y="316"/>
                    </a:lnTo>
                    <a:lnTo>
                      <a:pt x="3234" y="468"/>
                    </a:lnTo>
                    <a:lnTo>
                      <a:pt x="3778" y="479"/>
                    </a:lnTo>
                    <a:lnTo>
                      <a:pt x="4012" y="658"/>
                    </a:lnTo>
                    <a:lnTo>
                      <a:pt x="4116" y="814"/>
                    </a:lnTo>
                    <a:lnTo>
                      <a:pt x="4124" y="1046"/>
                    </a:lnTo>
                    <a:lnTo>
                      <a:pt x="4037" y="1323"/>
                    </a:lnTo>
                    <a:lnTo>
                      <a:pt x="3924" y="1449"/>
                    </a:lnTo>
                    <a:lnTo>
                      <a:pt x="3567" y="1496"/>
                    </a:lnTo>
                    <a:lnTo>
                      <a:pt x="3407" y="1445"/>
                    </a:lnTo>
                    <a:lnTo>
                      <a:pt x="3191" y="1553"/>
                    </a:lnTo>
                    <a:lnTo>
                      <a:pt x="886" y="1753"/>
                    </a:lnTo>
                    <a:lnTo>
                      <a:pt x="69" y="139"/>
                    </a:lnTo>
                    <a:lnTo>
                      <a:pt x="348" y="53"/>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4" name=""/>
              <p:cNvSpPr/>
              <p:nvPr/>
            </p:nvSpPr>
            <p:spPr>
              <a:xfrm>
                <a:off x="775440" y="5807160"/>
                <a:ext cx="571320" cy="127080"/>
              </a:xfrm>
              <a:custGeom>
                <a:avLst/>
                <a:gdLst/>
                <a:ahLst/>
                <a:rect l="l" t="t" r="r" b="b"/>
                <a:pathLst>
                  <a:path w="2134" h="629">
                    <a:moveTo>
                      <a:pt x="0" y="629"/>
                    </a:moveTo>
                    <a:lnTo>
                      <a:pt x="171" y="471"/>
                    </a:lnTo>
                    <a:lnTo>
                      <a:pt x="249" y="329"/>
                    </a:lnTo>
                    <a:lnTo>
                      <a:pt x="228" y="158"/>
                    </a:lnTo>
                    <a:lnTo>
                      <a:pt x="1548" y="0"/>
                    </a:lnTo>
                    <a:lnTo>
                      <a:pt x="371" y="201"/>
                    </a:lnTo>
                    <a:lnTo>
                      <a:pt x="320" y="344"/>
                    </a:lnTo>
                    <a:lnTo>
                      <a:pt x="1327" y="287"/>
                    </a:lnTo>
                    <a:lnTo>
                      <a:pt x="299" y="437"/>
                    </a:lnTo>
                    <a:lnTo>
                      <a:pt x="242" y="494"/>
                    </a:lnTo>
                    <a:lnTo>
                      <a:pt x="185" y="528"/>
                    </a:lnTo>
                    <a:lnTo>
                      <a:pt x="2134" y="422"/>
                    </a:lnTo>
                    <a:lnTo>
                      <a:pt x="0" y="629"/>
                    </a:lnTo>
                    <a:lnTo>
                      <a:pt x="0" y="6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5" name=""/>
              <p:cNvSpPr/>
              <p:nvPr/>
            </p:nvSpPr>
            <p:spPr>
              <a:xfrm>
                <a:off x="776520" y="5684760"/>
                <a:ext cx="261720" cy="86400"/>
              </a:xfrm>
              <a:custGeom>
                <a:avLst/>
                <a:gdLst/>
                <a:ahLst/>
                <a:rect l="l" t="t" r="r" b="b"/>
                <a:pathLst>
                  <a:path w="977" h="428">
                    <a:moveTo>
                      <a:pt x="377" y="0"/>
                    </a:moveTo>
                    <a:lnTo>
                      <a:pt x="0" y="19"/>
                    </a:lnTo>
                    <a:lnTo>
                      <a:pt x="285" y="428"/>
                    </a:lnTo>
                    <a:lnTo>
                      <a:pt x="977" y="375"/>
                    </a:lnTo>
                    <a:lnTo>
                      <a:pt x="901" y="323"/>
                    </a:lnTo>
                    <a:lnTo>
                      <a:pt x="337" y="342"/>
                    </a:lnTo>
                    <a:lnTo>
                      <a:pt x="186" y="92"/>
                    </a:lnTo>
                    <a:lnTo>
                      <a:pt x="464" y="25"/>
                    </a:lnTo>
                    <a:lnTo>
                      <a:pt x="377" y="0"/>
                    </a:lnTo>
                    <a:lnTo>
                      <a:pt x="377"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076" name=""/>
              <p:cNvSpPr/>
              <p:nvPr/>
            </p:nvSpPr>
            <p:spPr>
              <a:xfrm>
                <a:off x="1225440" y="5736960"/>
                <a:ext cx="226440" cy="21960"/>
              </a:xfrm>
              <a:custGeom>
                <a:avLst/>
                <a:gdLst/>
                <a:ahLst/>
                <a:rect l="l" t="t" r="r" b="b"/>
                <a:pathLst>
                  <a:path w="846" h="108">
                    <a:moveTo>
                      <a:pt x="0" y="108"/>
                    </a:moveTo>
                    <a:lnTo>
                      <a:pt x="145" y="91"/>
                    </a:lnTo>
                    <a:lnTo>
                      <a:pt x="434" y="55"/>
                    </a:lnTo>
                    <a:lnTo>
                      <a:pt x="719" y="17"/>
                    </a:lnTo>
                    <a:lnTo>
                      <a:pt x="846" y="0"/>
                    </a:lnTo>
                    <a:lnTo>
                      <a:pt x="211" y="23"/>
                    </a:lnTo>
                    <a:lnTo>
                      <a:pt x="0" y="108"/>
                    </a:lnTo>
                    <a:lnTo>
                      <a:pt x="0" y="10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077" name=""/>
              <p:cNvSpPr/>
              <p:nvPr/>
            </p:nvSpPr>
            <p:spPr>
              <a:xfrm>
                <a:off x="832680" y="5213160"/>
                <a:ext cx="629280" cy="117360"/>
              </a:xfrm>
              <a:custGeom>
                <a:avLst/>
                <a:gdLst/>
                <a:ahLst/>
                <a:rect l="l" t="t" r="r" b="b"/>
                <a:pathLst>
                  <a:path w="2350" h="582">
                    <a:moveTo>
                      <a:pt x="2350" y="126"/>
                    </a:moveTo>
                    <a:lnTo>
                      <a:pt x="1966" y="61"/>
                    </a:lnTo>
                    <a:lnTo>
                      <a:pt x="1896" y="6"/>
                    </a:lnTo>
                    <a:lnTo>
                      <a:pt x="1791" y="0"/>
                    </a:lnTo>
                    <a:lnTo>
                      <a:pt x="0" y="397"/>
                    </a:lnTo>
                    <a:lnTo>
                      <a:pt x="580" y="582"/>
                    </a:lnTo>
                    <a:lnTo>
                      <a:pt x="2097" y="198"/>
                    </a:lnTo>
                    <a:lnTo>
                      <a:pt x="557" y="496"/>
                    </a:lnTo>
                    <a:lnTo>
                      <a:pt x="400" y="394"/>
                    </a:lnTo>
                    <a:lnTo>
                      <a:pt x="1803" y="55"/>
                    </a:lnTo>
                    <a:lnTo>
                      <a:pt x="1902" y="82"/>
                    </a:lnTo>
                    <a:lnTo>
                      <a:pt x="2350" y="126"/>
                    </a:lnTo>
                    <a:lnTo>
                      <a:pt x="235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8" name=""/>
              <p:cNvSpPr/>
              <p:nvPr/>
            </p:nvSpPr>
            <p:spPr>
              <a:xfrm>
                <a:off x="1298880" y="5454720"/>
                <a:ext cx="326160" cy="99360"/>
              </a:xfrm>
              <a:custGeom>
                <a:avLst/>
                <a:gdLst/>
                <a:ahLst/>
                <a:rect l="l" t="t" r="r" b="b"/>
                <a:pathLst>
                  <a:path w="1217" h="492">
                    <a:moveTo>
                      <a:pt x="0" y="492"/>
                    </a:moveTo>
                    <a:lnTo>
                      <a:pt x="350" y="152"/>
                    </a:lnTo>
                    <a:lnTo>
                      <a:pt x="854" y="0"/>
                    </a:lnTo>
                    <a:lnTo>
                      <a:pt x="1217" y="152"/>
                    </a:lnTo>
                    <a:lnTo>
                      <a:pt x="0" y="492"/>
                    </a:lnTo>
                    <a:lnTo>
                      <a:pt x="0" y="492"/>
                    </a:lnTo>
                    <a:close/>
                  </a:path>
                </a:pathLst>
              </a:custGeom>
              <a:solidFill>
                <a:srgbClr val="f7a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9" name=""/>
              <p:cNvSpPr/>
              <p:nvPr/>
            </p:nvSpPr>
            <p:spPr>
              <a:xfrm>
                <a:off x="1139760" y="5431680"/>
                <a:ext cx="579960" cy="305280"/>
              </a:xfrm>
              <a:custGeom>
                <a:avLst/>
                <a:gdLst/>
                <a:ahLst/>
                <a:rect l="l" t="t" r="r" b="b"/>
                <a:pathLst>
                  <a:path w="2165" h="1511">
                    <a:moveTo>
                      <a:pt x="1209" y="0"/>
                    </a:moveTo>
                    <a:lnTo>
                      <a:pt x="2122" y="243"/>
                    </a:lnTo>
                    <a:lnTo>
                      <a:pt x="2165" y="386"/>
                    </a:lnTo>
                    <a:lnTo>
                      <a:pt x="1722" y="536"/>
                    </a:lnTo>
                    <a:lnTo>
                      <a:pt x="1665" y="650"/>
                    </a:lnTo>
                    <a:lnTo>
                      <a:pt x="1694" y="779"/>
                    </a:lnTo>
                    <a:lnTo>
                      <a:pt x="1758" y="872"/>
                    </a:lnTo>
                    <a:lnTo>
                      <a:pt x="1886" y="942"/>
                    </a:lnTo>
                    <a:lnTo>
                      <a:pt x="0" y="1511"/>
                    </a:lnTo>
                    <a:lnTo>
                      <a:pt x="1736" y="922"/>
                    </a:lnTo>
                    <a:lnTo>
                      <a:pt x="1622" y="851"/>
                    </a:lnTo>
                    <a:lnTo>
                      <a:pt x="1066" y="971"/>
                    </a:lnTo>
                    <a:lnTo>
                      <a:pt x="1593" y="771"/>
                    </a:lnTo>
                    <a:lnTo>
                      <a:pt x="1601" y="608"/>
                    </a:lnTo>
                    <a:lnTo>
                      <a:pt x="473" y="857"/>
                    </a:lnTo>
                    <a:lnTo>
                      <a:pt x="445" y="737"/>
                    </a:lnTo>
                    <a:lnTo>
                      <a:pt x="2114" y="291"/>
                    </a:lnTo>
                    <a:lnTo>
                      <a:pt x="1264" y="87"/>
                    </a:lnTo>
                    <a:lnTo>
                      <a:pt x="610" y="302"/>
                    </a:lnTo>
                    <a:lnTo>
                      <a:pt x="1209" y="0"/>
                    </a:lnTo>
                    <a:lnTo>
                      <a:pt x="1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0" name=""/>
              <p:cNvSpPr/>
              <p:nvPr/>
            </p:nvSpPr>
            <p:spPr>
              <a:xfrm>
                <a:off x="1419840" y="5704200"/>
                <a:ext cx="102240" cy="36720"/>
              </a:xfrm>
              <a:custGeom>
                <a:avLst/>
                <a:gdLst/>
                <a:ahLst/>
                <a:rect l="l" t="t" r="r" b="b"/>
                <a:pathLst>
                  <a:path w="383" h="183">
                    <a:moveTo>
                      <a:pt x="253" y="0"/>
                    </a:moveTo>
                    <a:lnTo>
                      <a:pt x="383" y="156"/>
                    </a:lnTo>
                    <a:lnTo>
                      <a:pt x="0" y="183"/>
                    </a:lnTo>
                    <a:lnTo>
                      <a:pt x="217" y="114"/>
                    </a:lnTo>
                    <a:lnTo>
                      <a:pt x="166" y="17"/>
                    </a:lnTo>
                    <a:lnTo>
                      <a:pt x="253" y="0"/>
                    </a:lnTo>
                    <a:lnTo>
                      <a:pt x="25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nvGrpSpPr>
            <p:cNvPr id="5081" name=""/>
            <p:cNvGrpSpPr/>
            <p:nvPr/>
          </p:nvGrpSpPr>
          <p:grpSpPr>
            <a:xfrm>
              <a:off x="4763520" y="5296320"/>
              <a:ext cx="1047240" cy="608400"/>
              <a:chOff x="4763520" y="5296320"/>
              <a:chExt cx="1047240" cy="608400"/>
            </a:xfrm>
          </p:grpSpPr>
          <p:sp>
            <p:nvSpPr>
              <p:cNvPr id="5082" name=""/>
              <p:cNvSpPr/>
              <p:nvPr/>
            </p:nvSpPr>
            <p:spPr>
              <a:xfrm>
                <a:off x="4763520" y="5296320"/>
                <a:ext cx="1047240" cy="579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3" name=""/>
              <p:cNvSpPr/>
              <p:nvPr/>
            </p:nvSpPr>
            <p:spPr>
              <a:xfrm>
                <a:off x="5025600" y="5296320"/>
                <a:ext cx="360" cy="57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4" name=""/>
              <p:cNvSpPr/>
              <p:nvPr/>
            </p:nvSpPr>
            <p:spPr>
              <a:xfrm>
                <a:off x="5286960" y="5296320"/>
                <a:ext cx="360" cy="57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5" name=""/>
              <p:cNvSpPr/>
              <p:nvPr/>
            </p:nvSpPr>
            <p:spPr>
              <a:xfrm>
                <a:off x="5548680" y="5296320"/>
                <a:ext cx="360" cy="57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6" name=""/>
              <p:cNvSpPr/>
              <p:nvPr/>
            </p:nvSpPr>
            <p:spPr>
              <a:xfrm>
                <a:off x="4767120" y="5357520"/>
                <a:ext cx="1039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87" name=""/>
              <p:cNvSpPr/>
              <p:nvPr/>
            </p:nvSpPr>
            <p:spPr>
              <a:xfrm>
                <a:off x="4772520" y="5876640"/>
                <a:ext cx="102780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088" name=""/>
              <p:cNvSpPr/>
              <p:nvPr/>
            </p:nvSpPr>
            <p:spPr>
              <a:xfrm>
                <a:off x="4799880" y="5413320"/>
                <a:ext cx="18756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9" name=""/>
              <p:cNvSpPr/>
              <p:nvPr/>
            </p:nvSpPr>
            <p:spPr>
              <a:xfrm>
                <a:off x="4889520" y="5427720"/>
                <a:ext cx="4680" cy="4320"/>
              </a:xfrm>
              <a:custGeom>
                <a:avLst/>
                <a:gdLst/>
                <a:ahLst/>
                <a:rect l="l" t="t" r="r" b="b"/>
                <a:pathLst>
                  <a:path w="91" h="91">
                    <a:moveTo>
                      <a:pt x="91" y="40"/>
                    </a:moveTo>
                    <a:lnTo>
                      <a:pt x="91" y="30"/>
                    </a:lnTo>
                    <a:lnTo>
                      <a:pt x="81" y="30"/>
                    </a:lnTo>
                    <a:lnTo>
                      <a:pt x="81" y="10"/>
                    </a:lnTo>
                    <a:lnTo>
                      <a:pt x="81" y="10"/>
                    </a:lnTo>
                    <a:lnTo>
                      <a:pt x="61" y="0"/>
                    </a:lnTo>
                    <a:lnTo>
                      <a:pt x="61" y="0"/>
                    </a:lnTo>
                    <a:lnTo>
                      <a:pt x="51" y="0"/>
                    </a:lnTo>
                    <a:lnTo>
                      <a:pt x="30" y="0"/>
                    </a:lnTo>
                    <a:lnTo>
                      <a:pt x="30" y="10"/>
                    </a:lnTo>
                    <a:lnTo>
                      <a:pt x="10" y="10"/>
                    </a:lnTo>
                    <a:lnTo>
                      <a:pt x="10" y="10"/>
                    </a:lnTo>
                    <a:lnTo>
                      <a:pt x="10" y="30"/>
                    </a:lnTo>
                    <a:lnTo>
                      <a:pt x="0" y="30"/>
                    </a:lnTo>
                    <a:lnTo>
                      <a:pt x="0" y="50"/>
                    </a:lnTo>
                    <a:lnTo>
                      <a:pt x="0" y="60"/>
                    </a:lnTo>
                    <a:lnTo>
                      <a:pt x="10" y="60"/>
                    </a:lnTo>
                    <a:lnTo>
                      <a:pt x="10" y="81"/>
                    </a:lnTo>
                    <a:lnTo>
                      <a:pt x="20" y="81"/>
                    </a:lnTo>
                    <a:lnTo>
                      <a:pt x="30" y="81"/>
                    </a:lnTo>
                    <a:lnTo>
                      <a:pt x="30" y="91"/>
                    </a:lnTo>
                    <a:lnTo>
                      <a:pt x="51" y="91"/>
                    </a:lnTo>
                    <a:lnTo>
                      <a:pt x="61" y="91"/>
                    </a:lnTo>
                    <a:lnTo>
                      <a:pt x="71" y="81"/>
                    </a:lnTo>
                    <a:lnTo>
                      <a:pt x="81" y="81"/>
                    </a:lnTo>
                    <a:lnTo>
                      <a:pt x="81" y="70"/>
                    </a:lnTo>
                    <a:lnTo>
                      <a:pt x="91" y="60"/>
                    </a:lnTo>
                    <a:lnTo>
                      <a:pt x="91" y="60"/>
                    </a:lnTo>
                    <a:lnTo>
                      <a:pt x="91"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090" name=""/>
              <p:cNvSpPr/>
              <p:nvPr/>
            </p:nvSpPr>
            <p:spPr>
              <a:xfrm>
                <a:off x="4889520" y="5451840"/>
                <a:ext cx="4680" cy="5040"/>
              </a:xfrm>
              <a:custGeom>
                <a:avLst/>
                <a:gdLst/>
                <a:ahLst/>
                <a:rect l="l" t="t" r="r" b="b"/>
                <a:pathLst>
                  <a:path w="91" h="99">
                    <a:moveTo>
                      <a:pt x="91" y="48"/>
                    </a:moveTo>
                    <a:lnTo>
                      <a:pt x="91" y="38"/>
                    </a:lnTo>
                    <a:lnTo>
                      <a:pt x="81" y="30"/>
                    </a:lnTo>
                    <a:lnTo>
                      <a:pt x="81" y="20"/>
                    </a:lnTo>
                    <a:lnTo>
                      <a:pt x="81" y="10"/>
                    </a:lnTo>
                    <a:lnTo>
                      <a:pt x="61" y="0"/>
                    </a:lnTo>
                    <a:lnTo>
                      <a:pt x="61" y="0"/>
                    </a:lnTo>
                    <a:lnTo>
                      <a:pt x="51" y="0"/>
                    </a:lnTo>
                    <a:lnTo>
                      <a:pt x="30" y="0"/>
                    </a:lnTo>
                    <a:lnTo>
                      <a:pt x="30" y="10"/>
                    </a:lnTo>
                    <a:lnTo>
                      <a:pt x="10" y="10"/>
                    </a:lnTo>
                    <a:lnTo>
                      <a:pt x="10" y="20"/>
                    </a:lnTo>
                    <a:lnTo>
                      <a:pt x="10" y="30"/>
                    </a:lnTo>
                    <a:lnTo>
                      <a:pt x="0" y="38"/>
                    </a:lnTo>
                    <a:lnTo>
                      <a:pt x="0" y="48"/>
                    </a:lnTo>
                    <a:lnTo>
                      <a:pt x="0" y="58"/>
                    </a:lnTo>
                    <a:lnTo>
                      <a:pt x="10" y="69"/>
                    </a:lnTo>
                    <a:lnTo>
                      <a:pt x="10" y="79"/>
                    </a:lnTo>
                    <a:lnTo>
                      <a:pt x="20" y="89"/>
                    </a:lnTo>
                    <a:lnTo>
                      <a:pt x="30" y="89"/>
                    </a:lnTo>
                    <a:lnTo>
                      <a:pt x="30" y="99"/>
                    </a:lnTo>
                    <a:lnTo>
                      <a:pt x="51" y="99"/>
                    </a:lnTo>
                    <a:lnTo>
                      <a:pt x="61" y="99"/>
                    </a:lnTo>
                    <a:lnTo>
                      <a:pt x="71" y="89"/>
                    </a:lnTo>
                    <a:lnTo>
                      <a:pt x="81" y="79"/>
                    </a:lnTo>
                    <a:lnTo>
                      <a:pt x="81" y="69"/>
                    </a:lnTo>
                    <a:lnTo>
                      <a:pt x="91" y="69"/>
                    </a:lnTo>
                    <a:lnTo>
                      <a:pt x="91" y="58"/>
                    </a:lnTo>
                    <a:lnTo>
                      <a:pt x="91" y="48"/>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91" name=""/>
              <p:cNvSpPr/>
              <p:nvPr/>
            </p:nvSpPr>
            <p:spPr>
              <a:xfrm>
                <a:off x="4889520" y="5476680"/>
                <a:ext cx="4680" cy="4320"/>
              </a:xfrm>
              <a:custGeom>
                <a:avLst/>
                <a:gdLst/>
                <a:ahLst/>
                <a:rect l="l" t="t" r="r" b="b"/>
                <a:pathLst>
                  <a:path w="91" h="91">
                    <a:moveTo>
                      <a:pt x="91" y="41"/>
                    </a:moveTo>
                    <a:lnTo>
                      <a:pt x="91" y="31"/>
                    </a:lnTo>
                    <a:lnTo>
                      <a:pt x="81" y="21"/>
                    </a:lnTo>
                    <a:lnTo>
                      <a:pt x="81" y="10"/>
                    </a:lnTo>
                    <a:lnTo>
                      <a:pt x="81" y="0"/>
                    </a:lnTo>
                    <a:lnTo>
                      <a:pt x="61" y="0"/>
                    </a:lnTo>
                    <a:lnTo>
                      <a:pt x="61" y="0"/>
                    </a:lnTo>
                    <a:lnTo>
                      <a:pt x="51" y="0"/>
                    </a:lnTo>
                    <a:lnTo>
                      <a:pt x="30" y="0"/>
                    </a:lnTo>
                    <a:lnTo>
                      <a:pt x="30" y="0"/>
                    </a:lnTo>
                    <a:lnTo>
                      <a:pt x="10" y="0"/>
                    </a:lnTo>
                    <a:lnTo>
                      <a:pt x="10" y="10"/>
                    </a:lnTo>
                    <a:lnTo>
                      <a:pt x="10" y="21"/>
                    </a:lnTo>
                    <a:lnTo>
                      <a:pt x="0" y="31"/>
                    </a:lnTo>
                    <a:lnTo>
                      <a:pt x="0" y="51"/>
                    </a:lnTo>
                    <a:lnTo>
                      <a:pt x="0" y="51"/>
                    </a:lnTo>
                    <a:lnTo>
                      <a:pt x="10" y="61"/>
                    </a:lnTo>
                    <a:lnTo>
                      <a:pt x="10" y="71"/>
                    </a:lnTo>
                    <a:lnTo>
                      <a:pt x="20" y="81"/>
                    </a:lnTo>
                    <a:lnTo>
                      <a:pt x="30" y="81"/>
                    </a:lnTo>
                    <a:lnTo>
                      <a:pt x="30" y="91"/>
                    </a:lnTo>
                    <a:lnTo>
                      <a:pt x="51" y="91"/>
                    </a:lnTo>
                    <a:lnTo>
                      <a:pt x="61" y="91"/>
                    </a:lnTo>
                    <a:lnTo>
                      <a:pt x="71" y="81"/>
                    </a:lnTo>
                    <a:lnTo>
                      <a:pt x="81" y="71"/>
                    </a:lnTo>
                    <a:lnTo>
                      <a:pt x="81" y="71"/>
                    </a:lnTo>
                    <a:lnTo>
                      <a:pt x="91" y="61"/>
                    </a:lnTo>
                    <a:lnTo>
                      <a:pt x="91" y="51"/>
                    </a:lnTo>
                    <a:lnTo>
                      <a:pt x="91" y="41"/>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092" name=""/>
              <p:cNvSpPr/>
              <p:nvPr/>
            </p:nvSpPr>
            <p:spPr>
              <a:xfrm>
                <a:off x="4889520" y="5500800"/>
                <a:ext cx="4680" cy="4320"/>
              </a:xfrm>
              <a:custGeom>
                <a:avLst/>
                <a:gdLst/>
                <a:ahLst/>
                <a:rect l="l" t="t" r="r" b="b"/>
                <a:pathLst>
                  <a:path w="91" h="91">
                    <a:moveTo>
                      <a:pt x="91" y="40"/>
                    </a:moveTo>
                    <a:lnTo>
                      <a:pt x="91" y="40"/>
                    </a:lnTo>
                    <a:lnTo>
                      <a:pt x="81" y="30"/>
                    </a:lnTo>
                    <a:lnTo>
                      <a:pt x="81" y="10"/>
                    </a:lnTo>
                    <a:lnTo>
                      <a:pt x="81" y="10"/>
                    </a:lnTo>
                    <a:lnTo>
                      <a:pt x="61" y="0"/>
                    </a:lnTo>
                    <a:lnTo>
                      <a:pt x="61" y="0"/>
                    </a:lnTo>
                    <a:lnTo>
                      <a:pt x="51" y="0"/>
                    </a:lnTo>
                    <a:lnTo>
                      <a:pt x="30" y="0"/>
                    </a:lnTo>
                    <a:lnTo>
                      <a:pt x="30" y="10"/>
                    </a:lnTo>
                    <a:lnTo>
                      <a:pt x="10" y="10"/>
                    </a:lnTo>
                    <a:lnTo>
                      <a:pt x="10" y="10"/>
                    </a:lnTo>
                    <a:lnTo>
                      <a:pt x="10" y="30"/>
                    </a:lnTo>
                    <a:lnTo>
                      <a:pt x="0" y="40"/>
                    </a:lnTo>
                    <a:lnTo>
                      <a:pt x="0" y="50"/>
                    </a:lnTo>
                    <a:lnTo>
                      <a:pt x="0" y="60"/>
                    </a:lnTo>
                    <a:lnTo>
                      <a:pt x="10" y="60"/>
                    </a:lnTo>
                    <a:lnTo>
                      <a:pt x="10" y="81"/>
                    </a:lnTo>
                    <a:lnTo>
                      <a:pt x="20" y="91"/>
                    </a:lnTo>
                    <a:lnTo>
                      <a:pt x="30" y="91"/>
                    </a:lnTo>
                    <a:lnTo>
                      <a:pt x="30" y="91"/>
                    </a:lnTo>
                    <a:lnTo>
                      <a:pt x="51" y="91"/>
                    </a:lnTo>
                    <a:lnTo>
                      <a:pt x="61" y="91"/>
                    </a:lnTo>
                    <a:lnTo>
                      <a:pt x="71" y="91"/>
                    </a:lnTo>
                    <a:lnTo>
                      <a:pt x="81" y="81"/>
                    </a:lnTo>
                    <a:lnTo>
                      <a:pt x="81" y="70"/>
                    </a:lnTo>
                    <a:lnTo>
                      <a:pt x="91" y="60"/>
                    </a:lnTo>
                    <a:lnTo>
                      <a:pt x="91" y="60"/>
                    </a:lnTo>
                    <a:lnTo>
                      <a:pt x="91"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093" name=""/>
              <p:cNvSpPr/>
              <p:nvPr/>
            </p:nvSpPr>
            <p:spPr>
              <a:xfrm>
                <a:off x="4889520" y="5525280"/>
                <a:ext cx="4680" cy="4320"/>
              </a:xfrm>
              <a:custGeom>
                <a:avLst/>
                <a:gdLst/>
                <a:ahLst/>
                <a:rect l="l" t="t" r="r" b="b"/>
                <a:pathLst>
                  <a:path w="91" h="90">
                    <a:moveTo>
                      <a:pt x="91" y="49"/>
                    </a:moveTo>
                    <a:lnTo>
                      <a:pt x="91" y="39"/>
                    </a:lnTo>
                    <a:lnTo>
                      <a:pt x="81" y="29"/>
                    </a:lnTo>
                    <a:lnTo>
                      <a:pt x="81" y="19"/>
                    </a:lnTo>
                    <a:lnTo>
                      <a:pt x="81" y="10"/>
                    </a:lnTo>
                    <a:lnTo>
                      <a:pt x="61" y="0"/>
                    </a:lnTo>
                    <a:lnTo>
                      <a:pt x="61" y="0"/>
                    </a:lnTo>
                    <a:lnTo>
                      <a:pt x="51" y="0"/>
                    </a:lnTo>
                    <a:lnTo>
                      <a:pt x="30" y="0"/>
                    </a:lnTo>
                    <a:lnTo>
                      <a:pt x="30" y="10"/>
                    </a:lnTo>
                    <a:lnTo>
                      <a:pt x="10" y="10"/>
                    </a:lnTo>
                    <a:lnTo>
                      <a:pt x="10" y="19"/>
                    </a:lnTo>
                    <a:lnTo>
                      <a:pt x="10" y="29"/>
                    </a:lnTo>
                    <a:lnTo>
                      <a:pt x="0" y="39"/>
                    </a:lnTo>
                    <a:lnTo>
                      <a:pt x="0" y="49"/>
                    </a:lnTo>
                    <a:lnTo>
                      <a:pt x="0" y="60"/>
                    </a:lnTo>
                    <a:lnTo>
                      <a:pt x="10" y="70"/>
                    </a:lnTo>
                    <a:lnTo>
                      <a:pt x="10" y="80"/>
                    </a:lnTo>
                    <a:lnTo>
                      <a:pt x="20" y="90"/>
                    </a:lnTo>
                    <a:lnTo>
                      <a:pt x="30" y="90"/>
                    </a:lnTo>
                    <a:lnTo>
                      <a:pt x="30" y="90"/>
                    </a:lnTo>
                    <a:lnTo>
                      <a:pt x="51" y="90"/>
                    </a:lnTo>
                    <a:lnTo>
                      <a:pt x="61" y="90"/>
                    </a:lnTo>
                    <a:lnTo>
                      <a:pt x="71" y="90"/>
                    </a:lnTo>
                    <a:lnTo>
                      <a:pt x="81" y="80"/>
                    </a:lnTo>
                    <a:lnTo>
                      <a:pt x="81" y="70"/>
                    </a:lnTo>
                    <a:lnTo>
                      <a:pt x="91" y="70"/>
                    </a:lnTo>
                    <a:lnTo>
                      <a:pt x="91" y="60"/>
                    </a:lnTo>
                    <a:lnTo>
                      <a:pt x="91" y="49"/>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094" name=""/>
              <p:cNvSpPr/>
              <p:nvPr/>
            </p:nvSpPr>
            <p:spPr>
              <a:xfrm>
                <a:off x="4889520" y="5549760"/>
                <a:ext cx="4680" cy="4680"/>
              </a:xfrm>
              <a:custGeom>
                <a:avLst/>
                <a:gdLst/>
                <a:ahLst/>
                <a:rect l="l" t="t" r="r" b="b"/>
                <a:pathLst>
                  <a:path w="91" h="100">
                    <a:moveTo>
                      <a:pt x="91" y="50"/>
                    </a:moveTo>
                    <a:lnTo>
                      <a:pt x="91" y="40"/>
                    </a:lnTo>
                    <a:lnTo>
                      <a:pt x="81" y="30"/>
                    </a:lnTo>
                    <a:lnTo>
                      <a:pt x="81" y="21"/>
                    </a:lnTo>
                    <a:lnTo>
                      <a:pt x="81" y="11"/>
                    </a:lnTo>
                    <a:lnTo>
                      <a:pt x="61" y="0"/>
                    </a:lnTo>
                    <a:lnTo>
                      <a:pt x="61" y="0"/>
                    </a:lnTo>
                    <a:lnTo>
                      <a:pt x="51" y="0"/>
                    </a:lnTo>
                    <a:lnTo>
                      <a:pt x="30" y="0"/>
                    </a:lnTo>
                    <a:lnTo>
                      <a:pt x="30" y="11"/>
                    </a:lnTo>
                    <a:lnTo>
                      <a:pt x="10" y="11"/>
                    </a:lnTo>
                    <a:lnTo>
                      <a:pt x="10" y="21"/>
                    </a:lnTo>
                    <a:lnTo>
                      <a:pt x="10" y="30"/>
                    </a:lnTo>
                    <a:lnTo>
                      <a:pt x="0" y="40"/>
                    </a:lnTo>
                    <a:lnTo>
                      <a:pt x="0" y="50"/>
                    </a:lnTo>
                    <a:lnTo>
                      <a:pt x="0" y="60"/>
                    </a:lnTo>
                    <a:lnTo>
                      <a:pt x="10" y="70"/>
                    </a:lnTo>
                    <a:lnTo>
                      <a:pt x="10" y="80"/>
                    </a:lnTo>
                    <a:lnTo>
                      <a:pt x="20" y="90"/>
                    </a:lnTo>
                    <a:lnTo>
                      <a:pt x="30" y="90"/>
                    </a:lnTo>
                    <a:lnTo>
                      <a:pt x="30" y="100"/>
                    </a:lnTo>
                    <a:lnTo>
                      <a:pt x="51" y="100"/>
                    </a:lnTo>
                    <a:lnTo>
                      <a:pt x="61" y="100"/>
                    </a:lnTo>
                    <a:lnTo>
                      <a:pt x="71" y="90"/>
                    </a:lnTo>
                    <a:lnTo>
                      <a:pt x="81" y="80"/>
                    </a:lnTo>
                    <a:lnTo>
                      <a:pt x="81" y="80"/>
                    </a:lnTo>
                    <a:lnTo>
                      <a:pt x="91" y="70"/>
                    </a:lnTo>
                    <a:lnTo>
                      <a:pt x="91" y="60"/>
                    </a:lnTo>
                    <a:lnTo>
                      <a:pt x="91" y="5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95" name=""/>
              <p:cNvSpPr/>
              <p:nvPr/>
            </p:nvSpPr>
            <p:spPr>
              <a:xfrm>
                <a:off x="4889520" y="5574600"/>
                <a:ext cx="4680" cy="4320"/>
              </a:xfrm>
              <a:custGeom>
                <a:avLst/>
                <a:gdLst/>
                <a:ahLst/>
                <a:rect l="l" t="t" r="r" b="b"/>
                <a:pathLst>
                  <a:path w="91" h="90">
                    <a:moveTo>
                      <a:pt x="91" y="40"/>
                    </a:moveTo>
                    <a:lnTo>
                      <a:pt x="91" y="30"/>
                    </a:lnTo>
                    <a:lnTo>
                      <a:pt x="81" y="30"/>
                    </a:lnTo>
                    <a:lnTo>
                      <a:pt x="81" y="10"/>
                    </a:lnTo>
                    <a:lnTo>
                      <a:pt x="81" y="0"/>
                    </a:lnTo>
                    <a:lnTo>
                      <a:pt x="61" y="0"/>
                    </a:lnTo>
                    <a:lnTo>
                      <a:pt x="61" y="0"/>
                    </a:lnTo>
                    <a:lnTo>
                      <a:pt x="51" y="0"/>
                    </a:lnTo>
                    <a:lnTo>
                      <a:pt x="30" y="0"/>
                    </a:lnTo>
                    <a:lnTo>
                      <a:pt x="30" y="0"/>
                    </a:lnTo>
                    <a:lnTo>
                      <a:pt x="10" y="0"/>
                    </a:lnTo>
                    <a:lnTo>
                      <a:pt x="10" y="10"/>
                    </a:lnTo>
                    <a:lnTo>
                      <a:pt x="10" y="30"/>
                    </a:lnTo>
                    <a:lnTo>
                      <a:pt x="0" y="30"/>
                    </a:lnTo>
                    <a:lnTo>
                      <a:pt x="0" y="50"/>
                    </a:lnTo>
                    <a:lnTo>
                      <a:pt x="0" y="50"/>
                    </a:lnTo>
                    <a:lnTo>
                      <a:pt x="10" y="60"/>
                    </a:lnTo>
                    <a:lnTo>
                      <a:pt x="10" y="69"/>
                    </a:lnTo>
                    <a:lnTo>
                      <a:pt x="20" y="80"/>
                    </a:lnTo>
                    <a:lnTo>
                      <a:pt x="30" y="80"/>
                    </a:lnTo>
                    <a:lnTo>
                      <a:pt x="30" y="90"/>
                    </a:lnTo>
                    <a:lnTo>
                      <a:pt x="51" y="90"/>
                    </a:lnTo>
                    <a:lnTo>
                      <a:pt x="61" y="90"/>
                    </a:lnTo>
                    <a:lnTo>
                      <a:pt x="71" y="80"/>
                    </a:lnTo>
                    <a:lnTo>
                      <a:pt x="81" y="69"/>
                    </a:lnTo>
                    <a:lnTo>
                      <a:pt x="81" y="69"/>
                    </a:lnTo>
                    <a:lnTo>
                      <a:pt x="91" y="60"/>
                    </a:lnTo>
                    <a:lnTo>
                      <a:pt x="91" y="50"/>
                    </a:lnTo>
                    <a:lnTo>
                      <a:pt x="91"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096" name=""/>
              <p:cNvSpPr/>
              <p:nvPr/>
            </p:nvSpPr>
            <p:spPr>
              <a:xfrm>
                <a:off x="4889520" y="5599080"/>
                <a:ext cx="4680" cy="4680"/>
              </a:xfrm>
              <a:custGeom>
                <a:avLst/>
                <a:gdLst/>
                <a:ahLst/>
                <a:rect l="l" t="t" r="r" b="b"/>
                <a:pathLst>
                  <a:path w="91" h="90">
                    <a:moveTo>
                      <a:pt x="91" y="41"/>
                    </a:moveTo>
                    <a:lnTo>
                      <a:pt x="91" y="31"/>
                    </a:lnTo>
                    <a:lnTo>
                      <a:pt x="81" y="31"/>
                    </a:lnTo>
                    <a:lnTo>
                      <a:pt x="81" y="10"/>
                    </a:lnTo>
                    <a:lnTo>
                      <a:pt x="81" y="10"/>
                    </a:lnTo>
                    <a:lnTo>
                      <a:pt x="61" y="0"/>
                    </a:lnTo>
                    <a:lnTo>
                      <a:pt x="61" y="0"/>
                    </a:lnTo>
                    <a:lnTo>
                      <a:pt x="51" y="0"/>
                    </a:lnTo>
                    <a:lnTo>
                      <a:pt x="30" y="0"/>
                    </a:lnTo>
                    <a:lnTo>
                      <a:pt x="30" y="10"/>
                    </a:lnTo>
                    <a:lnTo>
                      <a:pt x="10" y="10"/>
                    </a:lnTo>
                    <a:lnTo>
                      <a:pt x="10" y="10"/>
                    </a:lnTo>
                    <a:lnTo>
                      <a:pt x="10" y="31"/>
                    </a:lnTo>
                    <a:lnTo>
                      <a:pt x="0" y="31"/>
                    </a:lnTo>
                    <a:lnTo>
                      <a:pt x="0" y="51"/>
                    </a:lnTo>
                    <a:lnTo>
                      <a:pt x="0" y="61"/>
                    </a:lnTo>
                    <a:lnTo>
                      <a:pt x="10" y="61"/>
                    </a:lnTo>
                    <a:lnTo>
                      <a:pt x="10" y="80"/>
                    </a:lnTo>
                    <a:lnTo>
                      <a:pt x="20" y="80"/>
                    </a:lnTo>
                    <a:lnTo>
                      <a:pt x="30" y="80"/>
                    </a:lnTo>
                    <a:lnTo>
                      <a:pt x="30" y="90"/>
                    </a:lnTo>
                    <a:lnTo>
                      <a:pt x="51" y="90"/>
                    </a:lnTo>
                    <a:lnTo>
                      <a:pt x="61" y="90"/>
                    </a:lnTo>
                    <a:lnTo>
                      <a:pt x="71" y="80"/>
                    </a:lnTo>
                    <a:lnTo>
                      <a:pt x="81" y="80"/>
                    </a:lnTo>
                    <a:lnTo>
                      <a:pt x="81" y="70"/>
                    </a:lnTo>
                    <a:lnTo>
                      <a:pt x="91" y="61"/>
                    </a:lnTo>
                    <a:lnTo>
                      <a:pt x="91" y="61"/>
                    </a:lnTo>
                    <a:lnTo>
                      <a:pt x="91" y="41"/>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97" name=""/>
              <p:cNvSpPr/>
              <p:nvPr/>
            </p:nvSpPr>
            <p:spPr>
              <a:xfrm>
                <a:off x="5060160" y="5413320"/>
                <a:ext cx="18756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8" name=""/>
              <p:cNvSpPr/>
              <p:nvPr/>
            </p:nvSpPr>
            <p:spPr>
              <a:xfrm>
                <a:off x="5149440" y="5427720"/>
                <a:ext cx="5040" cy="4320"/>
              </a:xfrm>
              <a:custGeom>
                <a:avLst/>
                <a:gdLst/>
                <a:ahLst/>
                <a:rect l="l" t="t" r="r" b="b"/>
                <a:pathLst>
                  <a:path w="90" h="91">
                    <a:moveTo>
                      <a:pt x="90" y="40"/>
                    </a:moveTo>
                    <a:lnTo>
                      <a:pt x="90" y="30"/>
                    </a:lnTo>
                    <a:lnTo>
                      <a:pt x="80" y="30"/>
                    </a:lnTo>
                    <a:lnTo>
                      <a:pt x="80" y="10"/>
                    </a:lnTo>
                    <a:lnTo>
                      <a:pt x="80" y="10"/>
                    </a:lnTo>
                    <a:lnTo>
                      <a:pt x="60" y="0"/>
                    </a:lnTo>
                    <a:lnTo>
                      <a:pt x="50" y="0"/>
                    </a:lnTo>
                    <a:lnTo>
                      <a:pt x="50" y="0"/>
                    </a:lnTo>
                    <a:lnTo>
                      <a:pt x="31" y="0"/>
                    </a:lnTo>
                    <a:lnTo>
                      <a:pt x="31" y="10"/>
                    </a:lnTo>
                    <a:lnTo>
                      <a:pt x="10" y="10"/>
                    </a:lnTo>
                    <a:lnTo>
                      <a:pt x="0" y="10"/>
                    </a:lnTo>
                    <a:lnTo>
                      <a:pt x="0" y="30"/>
                    </a:lnTo>
                    <a:lnTo>
                      <a:pt x="0" y="30"/>
                    </a:lnTo>
                    <a:lnTo>
                      <a:pt x="0" y="50"/>
                    </a:lnTo>
                    <a:lnTo>
                      <a:pt x="0" y="60"/>
                    </a:lnTo>
                    <a:lnTo>
                      <a:pt x="0" y="60"/>
                    </a:lnTo>
                    <a:lnTo>
                      <a:pt x="10" y="81"/>
                    </a:lnTo>
                    <a:lnTo>
                      <a:pt x="21" y="81"/>
                    </a:lnTo>
                    <a:lnTo>
                      <a:pt x="31" y="81"/>
                    </a:lnTo>
                    <a:lnTo>
                      <a:pt x="31" y="91"/>
                    </a:lnTo>
                    <a:lnTo>
                      <a:pt x="50" y="91"/>
                    </a:lnTo>
                    <a:lnTo>
                      <a:pt x="50" y="91"/>
                    </a:lnTo>
                    <a:lnTo>
                      <a:pt x="70" y="81"/>
                    </a:lnTo>
                    <a:lnTo>
                      <a:pt x="80" y="81"/>
                    </a:lnTo>
                    <a:lnTo>
                      <a:pt x="80" y="70"/>
                    </a:lnTo>
                    <a:lnTo>
                      <a:pt x="90" y="60"/>
                    </a:lnTo>
                    <a:lnTo>
                      <a:pt x="90" y="60"/>
                    </a:lnTo>
                    <a:lnTo>
                      <a:pt x="90"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099" name=""/>
              <p:cNvSpPr/>
              <p:nvPr/>
            </p:nvSpPr>
            <p:spPr>
              <a:xfrm>
                <a:off x="5149440" y="5451840"/>
                <a:ext cx="5040" cy="5040"/>
              </a:xfrm>
              <a:custGeom>
                <a:avLst/>
                <a:gdLst/>
                <a:ahLst/>
                <a:rect l="l" t="t" r="r" b="b"/>
                <a:pathLst>
                  <a:path w="90" h="99">
                    <a:moveTo>
                      <a:pt x="90" y="48"/>
                    </a:moveTo>
                    <a:lnTo>
                      <a:pt x="90" y="38"/>
                    </a:lnTo>
                    <a:lnTo>
                      <a:pt x="80" y="30"/>
                    </a:lnTo>
                    <a:lnTo>
                      <a:pt x="80" y="20"/>
                    </a:lnTo>
                    <a:lnTo>
                      <a:pt x="80" y="10"/>
                    </a:lnTo>
                    <a:lnTo>
                      <a:pt x="60" y="0"/>
                    </a:lnTo>
                    <a:lnTo>
                      <a:pt x="50" y="0"/>
                    </a:lnTo>
                    <a:lnTo>
                      <a:pt x="50" y="0"/>
                    </a:lnTo>
                    <a:lnTo>
                      <a:pt x="31" y="0"/>
                    </a:lnTo>
                    <a:lnTo>
                      <a:pt x="31" y="10"/>
                    </a:lnTo>
                    <a:lnTo>
                      <a:pt x="10" y="10"/>
                    </a:lnTo>
                    <a:lnTo>
                      <a:pt x="0" y="20"/>
                    </a:lnTo>
                    <a:lnTo>
                      <a:pt x="0" y="30"/>
                    </a:lnTo>
                    <a:lnTo>
                      <a:pt x="0" y="38"/>
                    </a:lnTo>
                    <a:lnTo>
                      <a:pt x="0" y="48"/>
                    </a:lnTo>
                    <a:lnTo>
                      <a:pt x="0" y="58"/>
                    </a:lnTo>
                    <a:lnTo>
                      <a:pt x="0" y="69"/>
                    </a:lnTo>
                    <a:lnTo>
                      <a:pt x="10" y="79"/>
                    </a:lnTo>
                    <a:lnTo>
                      <a:pt x="21" y="89"/>
                    </a:lnTo>
                    <a:lnTo>
                      <a:pt x="31" y="89"/>
                    </a:lnTo>
                    <a:lnTo>
                      <a:pt x="31" y="99"/>
                    </a:lnTo>
                    <a:lnTo>
                      <a:pt x="50" y="99"/>
                    </a:lnTo>
                    <a:lnTo>
                      <a:pt x="50" y="99"/>
                    </a:lnTo>
                    <a:lnTo>
                      <a:pt x="70" y="89"/>
                    </a:lnTo>
                    <a:lnTo>
                      <a:pt x="80" y="79"/>
                    </a:lnTo>
                    <a:lnTo>
                      <a:pt x="80" y="69"/>
                    </a:lnTo>
                    <a:lnTo>
                      <a:pt x="90" y="69"/>
                    </a:lnTo>
                    <a:lnTo>
                      <a:pt x="90" y="58"/>
                    </a:lnTo>
                    <a:lnTo>
                      <a:pt x="90" y="48"/>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100" name=""/>
              <p:cNvSpPr/>
              <p:nvPr/>
            </p:nvSpPr>
            <p:spPr>
              <a:xfrm>
                <a:off x="5149440" y="5476680"/>
                <a:ext cx="5040" cy="4320"/>
              </a:xfrm>
              <a:custGeom>
                <a:avLst/>
                <a:gdLst/>
                <a:ahLst/>
                <a:rect l="l" t="t" r="r" b="b"/>
                <a:pathLst>
                  <a:path w="90" h="91">
                    <a:moveTo>
                      <a:pt x="90" y="41"/>
                    </a:moveTo>
                    <a:lnTo>
                      <a:pt x="90" y="31"/>
                    </a:lnTo>
                    <a:lnTo>
                      <a:pt x="80" y="21"/>
                    </a:lnTo>
                    <a:lnTo>
                      <a:pt x="80" y="10"/>
                    </a:lnTo>
                    <a:lnTo>
                      <a:pt x="80" y="0"/>
                    </a:lnTo>
                    <a:lnTo>
                      <a:pt x="60" y="0"/>
                    </a:lnTo>
                    <a:lnTo>
                      <a:pt x="50" y="0"/>
                    </a:lnTo>
                    <a:lnTo>
                      <a:pt x="50" y="0"/>
                    </a:lnTo>
                    <a:lnTo>
                      <a:pt x="31" y="0"/>
                    </a:lnTo>
                    <a:lnTo>
                      <a:pt x="31" y="0"/>
                    </a:lnTo>
                    <a:lnTo>
                      <a:pt x="10" y="0"/>
                    </a:lnTo>
                    <a:lnTo>
                      <a:pt x="0" y="10"/>
                    </a:lnTo>
                    <a:lnTo>
                      <a:pt x="0" y="21"/>
                    </a:lnTo>
                    <a:lnTo>
                      <a:pt x="0" y="31"/>
                    </a:lnTo>
                    <a:lnTo>
                      <a:pt x="0" y="51"/>
                    </a:lnTo>
                    <a:lnTo>
                      <a:pt x="0" y="51"/>
                    </a:lnTo>
                    <a:lnTo>
                      <a:pt x="0" y="61"/>
                    </a:lnTo>
                    <a:lnTo>
                      <a:pt x="10" y="71"/>
                    </a:lnTo>
                    <a:lnTo>
                      <a:pt x="21" y="81"/>
                    </a:lnTo>
                    <a:lnTo>
                      <a:pt x="31" y="81"/>
                    </a:lnTo>
                    <a:lnTo>
                      <a:pt x="31" y="91"/>
                    </a:lnTo>
                    <a:lnTo>
                      <a:pt x="50" y="91"/>
                    </a:lnTo>
                    <a:lnTo>
                      <a:pt x="50" y="91"/>
                    </a:lnTo>
                    <a:lnTo>
                      <a:pt x="70" y="81"/>
                    </a:lnTo>
                    <a:lnTo>
                      <a:pt x="80" y="71"/>
                    </a:lnTo>
                    <a:lnTo>
                      <a:pt x="80" y="71"/>
                    </a:lnTo>
                    <a:lnTo>
                      <a:pt x="90" y="61"/>
                    </a:lnTo>
                    <a:lnTo>
                      <a:pt x="90" y="51"/>
                    </a:lnTo>
                    <a:lnTo>
                      <a:pt x="90" y="41"/>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01" name=""/>
              <p:cNvSpPr/>
              <p:nvPr/>
            </p:nvSpPr>
            <p:spPr>
              <a:xfrm>
                <a:off x="5149440" y="5500800"/>
                <a:ext cx="5040" cy="4320"/>
              </a:xfrm>
              <a:custGeom>
                <a:avLst/>
                <a:gdLst/>
                <a:ahLst/>
                <a:rect l="l" t="t" r="r" b="b"/>
                <a:pathLst>
                  <a:path w="90" h="91">
                    <a:moveTo>
                      <a:pt x="90" y="40"/>
                    </a:moveTo>
                    <a:lnTo>
                      <a:pt x="90" y="40"/>
                    </a:lnTo>
                    <a:lnTo>
                      <a:pt x="80" y="30"/>
                    </a:lnTo>
                    <a:lnTo>
                      <a:pt x="80" y="10"/>
                    </a:lnTo>
                    <a:lnTo>
                      <a:pt x="80" y="10"/>
                    </a:lnTo>
                    <a:lnTo>
                      <a:pt x="60" y="0"/>
                    </a:lnTo>
                    <a:lnTo>
                      <a:pt x="50" y="0"/>
                    </a:lnTo>
                    <a:lnTo>
                      <a:pt x="50" y="0"/>
                    </a:lnTo>
                    <a:lnTo>
                      <a:pt x="31" y="0"/>
                    </a:lnTo>
                    <a:lnTo>
                      <a:pt x="31" y="10"/>
                    </a:lnTo>
                    <a:lnTo>
                      <a:pt x="10" y="10"/>
                    </a:lnTo>
                    <a:lnTo>
                      <a:pt x="0" y="10"/>
                    </a:lnTo>
                    <a:lnTo>
                      <a:pt x="0" y="30"/>
                    </a:lnTo>
                    <a:lnTo>
                      <a:pt x="0" y="40"/>
                    </a:lnTo>
                    <a:lnTo>
                      <a:pt x="0" y="50"/>
                    </a:lnTo>
                    <a:lnTo>
                      <a:pt x="0" y="60"/>
                    </a:lnTo>
                    <a:lnTo>
                      <a:pt x="0" y="60"/>
                    </a:lnTo>
                    <a:lnTo>
                      <a:pt x="10" y="81"/>
                    </a:lnTo>
                    <a:lnTo>
                      <a:pt x="21" y="91"/>
                    </a:lnTo>
                    <a:lnTo>
                      <a:pt x="31" y="91"/>
                    </a:lnTo>
                    <a:lnTo>
                      <a:pt x="31" y="91"/>
                    </a:lnTo>
                    <a:lnTo>
                      <a:pt x="50" y="91"/>
                    </a:lnTo>
                    <a:lnTo>
                      <a:pt x="50" y="91"/>
                    </a:lnTo>
                    <a:lnTo>
                      <a:pt x="70" y="91"/>
                    </a:lnTo>
                    <a:lnTo>
                      <a:pt x="80" y="81"/>
                    </a:lnTo>
                    <a:lnTo>
                      <a:pt x="80" y="70"/>
                    </a:lnTo>
                    <a:lnTo>
                      <a:pt x="90" y="60"/>
                    </a:lnTo>
                    <a:lnTo>
                      <a:pt x="90" y="60"/>
                    </a:lnTo>
                    <a:lnTo>
                      <a:pt x="90"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02" name=""/>
              <p:cNvSpPr/>
              <p:nvPr/>
            </p:nvSpPr>
            <p:spPr>
              <a:xfrm>
                <a:off x="5149440" y="5525280"/>
                <a:ext cx="5040" cy="4320"/>
              </a:xfrm>
              <a:custGeom>
                <a:avLst/>
                <a:gdLst/>
                <a:ahLst/>
                <a:rect l="l" t="t" r="r" b="b"/>
                <a:pathLst>
                  <a:path w="90" h="90">
                    <a:moveTo>
                      <a:pt x="90" y="49"/>
                    </a:moveTo>
                    <a:lnTo>
                      <a:pt x="90" y="39"/>
                    </a:lnTo>
                    <a:lnTo>
                      <a:pt x="80" y="29"/>
                    </a:lnTo>
                    <a:lnTo>
                      <a:pt x="80" y="19"/>
                    </a:lnTo>
                    <a:lnTo>
                      <a:pt x="80" y="10"/>
                    </a:lnTo>
                    <a:lnTo>
                      <a:pt x="60" y="0"/>
                    </a:lnTo>
                    <a:lnTo>
                      <a:pt x="50" y="0"/>
                    </a:lnTo>
                    <a:lnTo>
                      <a:pt x="50" y="0"/>
                    </a:lnTo>
                    <a:lnTo>
                      <a:pt x="31" y="0"/>
                    </a:lnTo>
                    <a:lnTo>
                      <a:pt x="31" y="10"/>
                    </a:lnTo>
                    <a:lnTo>
                      <a:pt x="10" y="10"/>
                    </a:lnTo>
                    <a:lnTo>
                      <a:pt x="0" y="19"/>
                    </a:lnTo>
                    <a:lnTo>
                      <a:pt x="0" y="29"/>
                    </a:lnTo>
                    <a:lnTo>
                      <a:pt x="0" y="39"/>
                    </a:lnTo>
                    <a:lnTo>
                      <a:pt x="0" y="49"/>
                    </a:lnTo>
                    <a:lnTo>
                      <a:pt x="0" y="60"/>
                    </a:lnTo>
                    <a:lnTo>
                      <a:pt x="0" y="70"/>
                    </a:lnTo>
                    <a:lnTo>
                      <a:pt x="10" y="80"/>
                    </a:lnTo>
                    <a:lnTo>
                      <a:pt x="21" y="90"/>
                    </a:lnTo>
                    <a:lnTo>
                      <a:pt x="31" y="90"/>
                    </a:lnTo>
                    <a:lnTo>
                      <a:pt x="31" y="90"/>
                    </a:lnTo>
                    <a:lnTo>
                      <a:pt x="50" y="90"/>
                    </a:lnTo>
                    <a:lnTo>
                      <a:pt x="50" y="90"/>
                    </a:lnTo>
                    <a:lnTo>
                      <a:pt x="70" y="90"/>
                    </a:lnTo>
                    <a:lnTo>
                      <a:pt x="80" y="80"/>
                    </a:lnTo>
                    <a:lnTo>
                      <a:pt x="80" y="70"/>
                    </a:lnTo>
                    <a:lnTo>
                      <a:pt x="90" y="70"/>
                    </a:lnTo>
                    <a:lnTo>
                      <a:pt x="90" y="60"/>
                    </a:lnTo>
                    <a:lnTo>
                      <a:pt x="90" y="49"/>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03" name=""/>
              <p:cNvSpPr/>
              <p:nvPr/>
            </p:nvSpPr>
            <p:spPr>
              <a:xfrm>
                <a:off x="5149440" y="5549760"/>
                <a:ext cx="5040" cy="4680"/>
              </a:xfrm>
              <a:custGeom>
                <a:avLst/>
                <a:gdLst/>
                <a:ahLst/>
                <a:rect l="l" t="t" r="r" b="b"/>
                <a:pathLst>
                  <a:path w="90" h="100">
                    <a:moveTo>
                      <a:pt x="90" y="50"/>
                    </a:moveTo>
                    <a:lnTo>
                      <a:pt x="90" y="40"/>
                    </a:lnTo>
                    <a:lnTo>
                      <a:pt x="80" y="30"/>
                    </a:lnTo>
                    <a:lnTo>
                      <a:pt x="80" y="21"/>
                    </a:lnTo>
                    <a:lnTo>
                      <a:pt x="80" y="11"/>
                    </a:lnTo>
                    <a:lnTo>
                      <a:pt x="60" y="0"/>
                    </a:lnTo>
                    <a:lnTo>
                      <a:pt x="50" y="0"/>
                    </a:lnTo>
                    <a:lnTo>
                      <a:pt x="50" y="0"/>
                    </a:lnTo>
                    <a:lnTo>
                      <a:pt x="31" y="0"/>
                    </a:lnTo>
                    <a:lnTo>
                      <a:pt x="31" y="11"/>
                    </a:lnTo>
                    <a:lnTo>
                      <a:pt x="10" y="11"/>
                    </a:lnTo>
                    <a:lnTo>
                      <a:pt x="0" y="21"/>
                    </a:lnTo>
                    <a:lnTo>
                      <a:pt x="0" y="30"/>
                    </a:lnTo>
                    <a:lnTo>
                      <a:pt x="0" y="40"/>
                    </a:lnTo>
                    <a:lnTo>
                      <a:pt x="0" y="50"/>
                    </a:lnTo>
                    <a:lnTo>
                      <a:pt x="0" y="60"/>
                    </a:lnTo>
                    <a:lnTo>
                      <a:pt x="0" y="70"/>
                    </a:lnTo>
                    <a:lnTo>
                      <a:pt x="10" y="80"/>
                    </a:lnTo>
                    <a:lnTo>
                      <a:pt x="21" y="90"/>
                    </a:lnTo>
                    <a:lnTo>
                      <a:pt x="31" y="90"/>
                    </a:lnTo>
                    <a:lnTo>
                      <a:pt x="31" y="100"/>
                    </a:lnTo>
                    <a:lnTo>
                      <a:pt x="50" y="100"/>
                    </a:lnTo>
                    <a:lnTo>
                      <a:pt x="50" y="100"/>
                    </a:lnTo>
                    <a:lnTo>
                      <a:pt x="70" y="90"/>
                    </a:lnTo>
                    <a:lnTo>
                      <a:pt x="80" y="80"/>
                    </a:lnTo>
                    <a:lnTo>
                      <a:pt x="80" y="80"/>
                    </a:lnTo>
                    <a:lnTo>
                      <a:pt x="90" y="70"/>
                    </a:lnTo>
                    <a:lnTo>
                      <a:pt x="90" y="60"/>
                    </a:lnTo>
                    <a:lnTo>
                      <a:pt x="90" y="5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04" name=""/>
              <p:cNvSpPr/>
              <p:nvPr/>
            </p:nvSpPr>
            <p:spPr>
              <a:xfrm>
                <a:off x="5149440" y="5574600"/>
                <a:ext cx="5040" cy="4320"/>
              </a:xfrm>
              <a:custGeom>
                <a:avLst/>
                <a:gdLst/>
                <a:ahLst/>
                <a:rect l="l" t="t" r="r" b="b"/>
                <a:pathLst>
                  <a:path w="90" h="90">
                    <a:moveTo>
                      <a:pt x="90" y="40"/>
                    </a:moveTo>
                    <a:lnTo>
                      <a:pt x="90" y="30"/>
                    </a:lnTo>
                    <a:lnTo>
                      <a:pt x="80" y="30"/>
                    </a:lnTo>
                    <a:lnTo>
                      <a:pt x="80" y="10"/>
                    </a:lnTo>
                    <a:lnTo>
                      <a:pt x="80" y="0"/>
                    </a:lnTo>
                    <a:lnTo>
                      <a:pt x="60" y="0"/>
                    </a:lnTo>
                    <a:lnTo>
                      <a:pt x="50" y="0"/>
                    </a:lnTo>
                    <a:lnTo>
                      <a:pt x="50" y="0"/>
                    </a:lnTo>
                    <a:lnTo>
                      <a:pt x="31" y="0"/>
                    </a:lnTo>
                    <a:lnTo>
                      <a:pt x="31" y="0"/>
                    </a:lnTo>
                    <a:lnTo>
                      <a:pt x="10" y="0"/>
                    </a:lnTo>
                    <a:lnTo>
                      <a:pt x="0" y="10"/>
                    </a:lnTo>
                    <a:lnTo>
                      <a:pt x="0" y="30"/>
                    </a:lnTo>
                    <a:lnTo>
                      <a:pt x="0" y="30"/>
                    </a:lnTo>
                    <a:lnTo>
                      <a:pt x="0" y="50"/>
                    </a:lnTo>
                    <a:lnTo>
                      <a:pt x="0" y="50"/>
                    </a:lnTo>
                    <a:lnTo>
                      <a:pt x="0" y="60"/>
                    </a:lnTo>
                    <a:lnTo>
                      <a:pt x="10" y="69"/>
                    </a:lnTo>
                    <a:lnTo>
                      <a:pt x="21" y="80"/>
                    </a:lnTo>
                    <a:lnTo>
                      <a:pt x="31" y="80"/>
                    </a:lnTo>
                    <a:lnTo>
                      <a:pt x="31" y="90"/>
                    </a:lnTo>
                    <a:lnTo>
                      <a:pt x="50" y="90"/>
                    </a:lnTo>
                    <a:lnTo>
                      <a:pt x="50" y="90"/>
                    </a:lnTo>
                    <a:lnTo>
                      <a:pt x="70" y="80"/>
                    </a:lnTo>
                    <a:lnTo>
                      <a:pt x="80" y="69"/>
                    </a:lnTo>
                    <a:lnTo>
                      <a:pt x="80" y="69"/>
                    </a:lnTo>
                    <a:lnTo>
                      <a:pt x="90" y="60"/>
                    </a:lnTo>
                    <a:lnTo>
                      <a:pt x="90" y="50"/>
                    </a:lnTo>
                    <a:lnTo>
                      <a:pt x="90"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05" name=""/>
              <p:cNvSpPr/>
              <p:nvPr/>
            </p:nvSpPr>
            <p:spPr>
              <a:xfrm>
                <a:off x="5149440" y="5599080"/>
                <a:ext cx="5040" cy="4680"/>
              </a:xfrm>
              <a:custGeom>
                <a:avLst/>
                <a:gdLst/>
                <a:ahLst/>
                <a:rect l="l" t="t" r="r" b="b"/>
                <a:pathLst>
                  <a:path w="90" h="90">
                    <a:moveTo>
                      <a:pt x="90" y="41"/>
                    </a:moveTo>
                    <a:lnTo>
                      <a:pt x="90" y="31"/>
                    </a:lnTo>
                    <a:lnTo>
                      <a:pt x="80" y="31"/>
                    </a:lnTo>
                    <a:lnTo>
                      <a:pt x="80" y="10"/>
                    </a:lnTo>
                    <a:lnTo>
                      <a:pt x="80" y="10"/>
                    </a:lnTo>
                    <a:lnTo>
                      <a:pt x="60" y="0"/>
                    </a:lnTo>
                    <a:lnTo>
                      <a:pt x="50" y="0"/>
                    </a:lnTo>
                    <a:lnTo>
                      <a:pt x="50" y="0"/>
                    </a:lnTo>
                    <a:lnTo>
                      <a:pt x="31" y="0"/>
                    </a:lnTo>
                    <a:lnTo>
                      <a:pt x="31" y="10"/>
                    </a:lnTo>
                    <a:lnTo>
                      <a:pt x="10" y="10"/>
                    </a:lnTo>
                    <a:lnTo>
                      <a:pt x="0" y="10"/>
                    </a:lnTo>
                    <a:lnTo>
                      <a:pt x="0" y="31"/>
                    </a:lnTo>
                    <a:lnTo>
                      <a:pt x="0" y="31"/>
                    </a:lnTo>
                    <a:lnTo>
                      <a:pt x="0" y="51"/>
                    </a:lnTo>
                    <a:lnTo>
                      <a:pt x="0" y="61"/>
                    </a:lnTo>
                    <a:lnTo>
                      <a:pt x="0" y="61"/>
                    </a:lnTo>
                    <a:lnTo>
                      <a:pt x="10" y="80"/>
                    </a:lnTo>
                    <a:lnTo>
                      <a:pt x="21" y="80"/>
                    </a:lnTo>
                    <a:lnTo>
                      <a:pt x="31" y="80"/>
                    </a:lnTo>
                    <a:lnTo>
                      <a:pt x="31" y="90"/>
                    </a:lnTo>
                    <a:lnTo>
                      <a:pt x="50" y="90"/>
                    </a:lnTo>
                    <a:lnTo>
                      <a:pt x="50" y="90"/>
                    </a:lnTo>
                    <a:lnTo>
                      <a:pt x="70" y="80"/>
                    </a:lnTo>
                    <a:lnTo>
                      <a:pt x="80" y="80"/>
                    </a:lnTo>
                    <a:lnTo>
                      <a:pt x="80" y="70"/>
                    </a:lnTo>
                    <a:lnTo>
                      <a:pt x="90" y="61"/>
                    </a:lnTo>
                    <a:lnTo>
                      <a:pt x="90" y="61"/>
                    </a:lnTo>
                    <a:lnTo>
                      <a:pt x="90" y="41"/>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06" name=""/>
              <p:cNvSpPr/>
              <p:nvPr/>
            </p:nvSpPr>
            <p:spPr>
              <a:xfrm>
                <a:off x="5326560" y="5413320"/>
                <a:ext cx="18756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7" name=""/>
              <p:cNvSpPr/>
              <p:nvPr/>
            </p:nvSpPr>
            <p:spPr>
              <a:xfrm>
                <a:off x="5415840" y="5427720"/>
                <a:ext cx="5400" cy="4320"/>
              </a:xfrm>
              <a:custGeom>
                <a:avLst/>
                <a:gdLst/>
                <a:ahLst/>
                <a:rect l="l" t="t" r="r" b="b"/>
                <a:pathLst>
                  <a:path w="91" h="91">
                    <a:moveTo>
                      <a:pt x="91" y="40"/>
                    </a:moveTo>
                    <a:lnTo>
                      <a:pt x="91" y="30"/>
                    </a:lnTo>
                    <a:lnTo>
                      <a:pt x="81" y="30"/>
                    </a:lnTo>
                    <a:lnTo>
                      <a:pt x="81" y="10"/>
                    </a:lnTo>
                    <a:lnTo>
                      <a:pt x="81" y="10"/>
                    </a:lnTo>
                    <a:lnTo>
                      <a:pt x="61" y="0"/>
                    </a:lnTo>
                    <a:lnTo>
                      <a:pt x="61" y="0"/>
                    </a:lnTo>
                    <a:lnTo>
                      <a:pt x="50" y="0"/>
                    </a:lnTo>
                    <a:lnTo>
                      <a:pt x="40" y="0"/>
                    </a:lnTo>
                    <a:lnTo>
                      <a:pt x="30" y="10"/>
                    </a:lnTo>
                    <a:lnTo>
                      <a:pt x="10" y="10"/>
                    </a:lnTo>
                    <a:lnTo>
                      <a:pt x="10" y="10"/>
                    </a:lnTo>
                    <a:lnTo>
                      <a:pt x="10" y="30"/>
                    </a:lnTo>
                    <a:lnTo>
                      <a:pt x="0" y="30"/>
                    </a:lnTo>
                    <a:lnTo>
                      <a:pt x="0" y="50"/>
                    </a:lnTo>
                    <a:lnTo>
                      <a:pt x="0" y="60"/>
                    </a:lnTo>
                    <a:lnTo>
                      <a:pt x="10" y="60"/>
                    </a:lnTo>
                    <a:lnTo>
                      <a:pt x="10" y="81"/>
                    </a:lnTo>
                    <a:lnTo>
                      <a:pt x="20" y="81"/>
                    </a:lnTo>
                    <a:lnTo>
                      <a:pt x="30" y="81"/>
                    </a:lnTo>
                    <a:lnTo>
                      <a:pt x="40" y="91"/>
                    </a:lnTo>
                    <a:lnTo>
                      <a:pt x="50" y="91"/>
                    </a:lnTo>
                    <a:lnTo>
                      <a:pt x="61" y="91"/>
                    </a:lnTo>
                    <a:lnTo>
                      <a:pt x="71" y="81"/>
                    </a:lnTo>
                    <a:lnTo>
                      <a:pt x="81" y="81"/>
                    </a:lnTo>
                    <a:lnTo>
                      <a:pt x="81" y="70"/>
                    </a:lnTo>
                    <a:lnTo>
                      <a:pt x="91" y="60"/>
                    </a:lnTo>
                    <a:lnTo>
                      <a:pt x="91" y="60"/>
                    </a:lnTo>
                    <a:lnTo>
                      <a:pt x="91"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08" name=""/>
              <p:cNvSpPr/>
              <p:nvPr/>
            </p:nvSpPr>
            <p:spPr>
              <a:xfrm>
                <a:off x="5415840" y="5451840"/>
                <a:ext cx="5400" cy="5040"/>
              </a:xfrm>
              <a:custGeom>
                <a:avLst/>
                <a:gdLst/>
                <a:ahLst/>
                <a:rect l="l" t="t" r="r" b="b"/>
                <a:pathLst>
                  <a:path w="91" h="99">
                    <a:moveTo>
                      <a:pt x="91" y="48"/>
                    </a:moveTo>
                    <a:lnTo>
                      <a:pt x="91" y="38"/>
                    </a:lnTo>
                    <a:lnTo>
                      <a:pt x="81" y="30"/>
                    </a:lnTo>
                    <a:lnTo>
                      <a:pt x="81" y="20"/>
                    </a:lnTo>
                    <a:lnTo>
                      <a:pt x="81" y="10"/>
                    </a:lnTo>
                    <a:lnTo>
                      <a:pt x="61" y="0"/>
                    </a:lnTo>
                    <a:lnTo>
                      <a:pt x="61" y="0"/>
                    </a:lnTo>
                    <a:lnTo>
                      <a:pt x="50" y="0"/>
                    </a:lnTo>
                    <a:lnTo>
                      <a:pt x="40" y="0"/>
                    </a:lnTo>
                    <a:lnTo>
                      <a:pt x="30" y="10"/>
                    </a:lnTo>
                    <a:lnTo>
                      <a:pt x="10" y="10"/>
                    </a:lnTo>
                    <a:lnTo>
                      <a:pt x="10" y="20"/>
                    </a:lnTo>
                    <a:lnTo>
                      <a:pt x="10" y="30"/>
                    </a:lnTo>
                    <a:lnTo>
                      <a:pt x="0" y="38"/>
                    </a:lnTo>
                    <a:lnTo>
                      <a:pt x="0" y="48"/>
                    </a:lnTo>
                    <a:lnTo>
                      <a:pt x="0" y="58"/>
                    </a:lnTo>
                    <a:lnTo>
                      <a:pt x="10" y="69"/>
                    </a:lnTo>
                    <a:lnTo>
                      <a:pt x="10" y="79"/>
                    </a:lnTo>
                    <a:lnTo>
                      <a:pt x="20" y="89"/>
                    </a:lnTo>
                    <a:lnTo>
                      <a:pt x="30" y="89"/>
                    </a:lnTo>
                    <a:lnTo>
                      <a:pt x="40" y="99"/>
                    </a:lnTo>
                    <a:lnTo>
                      <a:pt x="50" y="99"/>
                    </a:lnTo>
                    <a:lnTo>
                      <a:pt x="61" y="99"/>
                    </a:lnTo>
                    <a:lnTo>
                      <a:pt x="71" y="89"/>
                    </a:lnTo>
                    <a:lnTo>
                      <a:pt x="81" y="79"/>
                    </a:lnTo>
                    <a:lnTo>
                      <a:pt x="81" y="69"/>
                    </a:lnTo>
                    <a:lnTo>
                      <a:pt x="91" y="69"/>
                    </a:lnTo>
                    <a:lnTo>
                      <a:pt x="91" y="58"/>
                    </a:lnTo>
                    <a:lnTo>
                      <a:pt x="91" y="48"/>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109" name=""/>
              <p:cNvSpPr/>
              <p:nvPr/>
            </p:nvSpPr>
            <p:spPr>
              <a:xfrm>
                <a:off x="5415840" y="5476680"/>
                <a:ext cx="5400" cy="4320"/>
              </a:xfrm>
              <a:custGeom>
                <a:avLst/>
                <a:gdLst/>
                <a:ahLst/>
                <a:rect l="l" t="t" r="r" b="b"/>
                <a:pathLst>
                  <a:path w="91" h="91">
                    <a:moveTo>
                      <a:pt x="91" y="41"/>
                    </a:moveTo>
                    <a:lnTo>
                      <a:pt x="91" y="31"/>
                    </a:lnTo>
                    <a:lnTo>
                      <a:pt x="81" y="21"/>
                    </a:lnTo>
                    <a:lnTo>
                      <a:pt x="81" y="10"/>
                    </a:lnTo>
                    <a:lnTo>
                      <a:pt x="81" y="0"/>
                    </a:lnTo>
                    <a:lnTo>
                      <a:pt x="61" y="0"/>
                    </a:lnTo>
                    <a:lnTo>
                      <a:pt x="61" y="0"/>
                    </a:lnTo>
                    <a:lnTo>
                      <a:pt x="50" y="0"/>
                    </a:lnTo>
                    <a:lnTo>
                      <a:pt x="40" y="0"/>
                    </a:lnTo>
                    <a:lnTo>
                      <a:pt x="30" y="0"/>
                    </a:lnTo>
                    <a:lnTo>
                      <a:pt x="10" y="0"/>
                    </a:lnTo>
                    <a:lnTo>
                      <a:pt x="10" y="10"/>
                    </a:lnTo>
                    <a:lnTo>
                      <a:pt x="10" y="21"/>
                    </a:lnTo>
                    <a:lnTo>
                      <a:pt x="0" y="31"/>
                    </a:lnTo>
                    <a:lnTo>
                      <a:pt x="0" y="51"/>
                    </a:lnTo>
                    <a:lnTo>
                      <a:pt x="0" y="51"/>
                    </a:lnTo>
                    <a:lnTo>
                      <a:pt x="10" y="61"/>
                    </a:lnTo>
                    <a:lnTo>
                      <a:pt x="10" y="71"/>
                    </a:lnTo>
                    <a:lnTo>
                      <a:pt x="20" y="81"/>
                    </a:lnTo>
                    <a:lnTo>
                      <a:pt x="30" y="81"/>
                    </a:lnTo>
                    <a:lnTo>
                      <a:pt x="40" y="91"/>
                    </a:lnTo>
                    <a:lnTo>
                      <a:pt x="50" y="91"/>
                    </a:lnTo>
                    <a:lnTo>
                      <a:pt x="61" y="91"/>
                    </a:lnTo>
                    <a:lnTo>
                      <a:pt x="71" y="81"/>
                    </a:lnTo>
                    <a:lnTo>
                      <a:pt x="81" y="71"/>
                    </a:lnTo>
                    <a:lnTo>
                      <a:pt x="81" y="71"/>
                    </a:lnTo>
                    <a:lnTo>
                      <a:pt x="91" y="61"/>
                    </a:lnTo>
                    <a:lnTo>
                      <a:pt x="91" y="51"/>
                    </a:lnTo>
                    <a:lnTo>
                      <a:pt x="91" y="41"/>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10" name=""/>
              <p:cNvSpPr/>
              <p:nvPr/>
            </p:nvSpPr>
            <p:spPr>
              <a:xfrm>
                <a:off x="5415840" y="5500800"/>
                <a:ext cx="5400" cy="4320"/>
              </a:xfrm>
              <a:custGeom>
                <a:avLst/>
                <a:gdLst/>
                <a:ahLst/>
                <a:rect l="l" t="t" r="r" b="b"/>
                <a:pathLst>
                  <a:path w="91" h="91">
                    <a:moveTo>
                      <a:pt x="91" y="40"/>
                    </a:moveTo>
                    <a:lnTo>
                      <a:pt x="91" y="40"/>
                    </a:lnTo>
                    <a:lnTo>
                      <a:pt x="81" y="30"/>
                    </a:lnTo>
                    <a:lnTo>
                      <a:pt x="81" y="10"/>
                    </a:lnTo>
                    <a:lnTo>
                      <a:pt x="81" y="10"/>
                    </a:lnTo>
                    <a:lnTo>
                      <a:pt x="61" y="0"/>
                    </a:lnTo>
                    <a:lnTo>
                      <a:pt x="61" y="0"/>
                    </a:lnTo>
                    <a:lnTo>
                      <a:pt x="50" y="0"/>
                    </a:lnTo>
                    <a:lnTo>
                      <a:pt x="40" y="0"/>
                    </a:lnTo>
                    <a:lnTo>
                      <a:pt x="30" y="10"/>
                    </a:lnTo>
                    <a:lnTo>
                      <a:pt x="10" y="10"/>
                    </a:lnTo>
                    <a:lnTo>
                      <a:pt x="10" y="10"/>
                    </a:lnTo>
                    <a:lnTo>
                      <a:pt x="10" y="30"/>
                    </a:lnTo>
                    <a:lnTo>
                      <a:pt x="0" y="40"/>
                    </a:lnTo>
                    <a:lnTo>
                      <a:pt x="0" y="50"/>
                    </a:lnTo>
                    <a:lnTo>
                      <a:pt x="0" y="60"/>
                    </a:lnTo>
                    <a:lnTo>
                      <a:pt x="10" y="60"/>
                    </a:lnTo>
                    <a:lnTo>
                      <a:pt x="10" y="81"/>
                    </a:lnTo>
                    <a:lnTo>
                      <a:pt x="20" y="91"/>
                    </a:lnTo>
                    <a:lnTo>
                      <a:pt x="30" y="91"/>
                    </a:lnTo>
                    <a:lnTo>
                      <a:pt x="40" y="91"/>
                    </a:lnTo>
                    <a:lnTo>
                      <a:pt x="50" y="91"/>
                    </a:lnTo>
                    <a:lnTo>
                      <a:pt x="61" y="91"/>
                    </a:lnTo>
                    <a:lnTo>
                      <a:pt x="71" y="91"/>
                    </a:lnTo>
                    <a:lnTo>
                      <a:pt x="81" y="81"/>
                    </a:lnTo>
                    <a:lnTo>
                      <a:pt x="81" y="70"/>
                    </a:lnTo>
                    <a:lnTo>
                      <a:pt x="91" y="60"/>
                    </a:lnTo>
                    <a:lnTo>
                      <a:pt x="91" y="60"/>
                    </a:lnTo>
                    <a:lnTo>
                      <a:pt x="91"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11" name=""/>
              <p:cNvSpPr/>
              <p:nvPr/>
            </p:nvSpPr>
            <p:spPr>
              <a:xfrm>
                <a:off x="5415840" y="5525280"/>
                <a:ext cx="5400" cy="4320"/>
              </a:xfrm>
              <a:custGeom>
                <a:avLst/>
                <a:gdLst/>
                <a:ahLst/>
                <a:rect l="l" t="t" r="r" b="b"/>
                <a:pathLst>
                  <a:path w="91" h="90">
                    <a:moveTo>
                      <a:pt x="91" y="49"/>
                    </a:moveTo>
                    <a:lnTo>
                      <a:pt x="91" y="39"/>
                    </a:lnTo>
                    <a:lnTo>
                      <a:pt x="81" y="29"/>
                    </a:lnTo>
                    <a:lnTo>
                      <a:pt x="81" y="19"/>
                    </a:lnTo>
                    <a:lnTo>
                      <a:pt x="81" y="10"/>
                    </a:lnTo>
                    <a:lnTo>
                      <a:pt x="61" y="0"/>
                    </a:lnTo>
                    <a:lnTo>
                      <a:pt x="61" y="0"/>
                    </a:lnTo>
                    <a:lnTo>
                      <a:pt x="50" y="0"/>
                    </a:lnTo>
                    <a:lnTo>
                      <a:pt x="40" y="0"/>
                    </a:lnTo>
                    <a:lnTo>
                      <a:pt x="30" y="10"/>
                    </a:lnTo>
                    <a:lnTo>
                      <a:pt x="10" y="10"/>
                    </a:lnTo>
                    <a:lnTo>
                      <a:pt x="10" y="19"/>
                    </a:lnTo>
                    <a:lnTo>
                      <a:pt x="10" y="29"/>
                    </a:lnTo>
                    <a:lnTo>
                      <a:pt x="0" y="39"/>
                    </a:lnTo>
                    <a:lnTo>
                      <a:pt x="0" y="49"/>
                    </a:lnTo>
                    <a:lnTo>
                      <a:pt x="0" y="60"/>
                    </a:lnTo>
                    <a:lnTo>
                      <a:pt x="10" y="70"/>
                    </a:lnTo>
                    <a:lnTo>
                      <a:pt x="10" y="80"/>
                    </a:lnTo>
                    <a:lnTo>
                      <a:pt x="20" y="90"/>
                    </a:lnTo>
                    <a:lnTo>
                      <a:pt x="30" y="90"/>
                    </a:lnTo>
                    <a:lnTo>
                      <a:pt x="40" y="90"/>
                    </a:lnTo>
                    <a:lnTo>
                      <a:pt x="50" y="90"/>
                    </a:lnTo>
                    <a:lnTo>
                      <a:pt x="61" y="90"/>
                    </a:lnTo>
                    <a:lnTo>
                      <a:pt x="71" y="90"/>
                    </a:lnTo>
                    <a:lnTo>
                      <a:pt x="81" y="80"/>
                    </a:lnTo>
                    <a:lnTo>
                      <a:pt x="81" y="70"/>
                    </a:lnTo>
                    <a:lnTo>
                      <a:pt x="91" y="70"/>
                    </a:lnTo>
                    <a:lnTo>
                      <a:pt x="91" y="60"/>
                    </a:lnTo>
                    <a:lnTo>
                      <a:pt x="91" y="49"/>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12" name=""/>
              <p:cNvSpPr/>
              <p:nvPr/>
            </p:nvSpPr>
            <p:spPr>
              <a:xfrm>
                <a:off x="5415840" y="5549760"/>
                <a:ext cx="5400" cy="4680"/>
              </a:xfrm>
              <a:custGeom>
                <a:avLst/>
                <a:gdLst/>
                <a:ahLst/>
                <a:rect l="l" t="t" r="r" b="b"/>
                <a:pathLst>
                  <a:path w="91" h="100">
                    <a:moveTo>
                      <a:pt x="91" y="50"/>
                    </a:moveTo>
                    <a:lnTo>
                      <a:pt x="91" y="40"/>
                    </a:lnTo>
                    <a:lnTo>
                      <a:pt x="81" y="30"/>
                    </a:lnTo>
                    <a:lnTo>
                      <a:pt x="81" y="21"/>
                    </a:lnTo>
                    <a:lnTo>
                      <a:pt x="81" y="11"/>
                    </a:lnTo>
                    <a:lnTo>
                      <a:pt x="61" y="0"/>
                    </a:lnTo>
                    <a:lnTo>
                      <a:pt x="61" y="0"/>
                    </a:lnTo>
                    <a:lnTo>
                      <a:pt x="50" y="0"/>
                    </a:lnTo>
                    <a:lnTo>
                      <a:pt x="40" y="0"/>
                    </a:lnTo>
                    <a:lnTo>
                      <a:pt x="30" y="11"/>
                    </a:lnTo>
                    <a:lnTo>
                      <a:pt x="10" y="11"/>
                    </a:lnTo>
                    <a:lnTo>
                      <a:pt x="10" y="21"/>
                    </a:lnTo>
                    <a:lnTo>
                      <a:pt x="10" y="30"/>
                    </a:lnTo>
                    <a:lnTo>
                      <a:pt x="0" y="40"/>
                    </a:lnTo>
                    <a:lnTo>
                      <a:pt x="0" y="50"/>
                    </a:lnTo>
                    <a:lnTo>
                      <a:pt x="0" y="60"/>
                    </a:lnTo>
                    <a:lnTo>
                      <a:pt x="10" y="70"/>
                    </a:lnTo>
                    <a:lnTo>
                      <a:pt x="10" y="80"/>
                    </a:lnTo>
                    <a:lnTo>
                      <a:pt x="20" y="90"/>
                    </a:lnTo>
                    <a:lnTo>
                      <a:pt x="30" y="90"/>
                    </a:lnTo>
                    <a:lnTo>
                      <a:pt x="40" y="100"/>
                    </a:lnTo>
                    <a:lnTo>
                      <a:pt x="50" y="100"/>
                    </a:lnTo>
                    <a:lnTo>
                      <a:pt x="61" y="100"/>
                    </a:lnTo>
                    <a:lnTo>
                      <a:pt x="71" y="90"/>
                    </a:lnTo>
                    <a:lnTo>
                      <a:pt x="81" y="80"/>
                    </a:lnTo>
                    <a:lnTo>
                      <a:pt x="81" y="80"/>
                    </a:lnTo>
                    <a:lnTo>
                      <a:pt x="91" y="70"/>
                    </a:lnTo>
                    <a:lnTo>
                      <a:pt x="91" y="60"/>
                    </a:lnTo>
                    <a:lnTo>
                      <a:pt x="91" y="5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13" name=""/>
              <p:cNvSpPr/>
              <p:nvPr/>
            </p:nvSpPr>
            <p:spPr>
              <a:xfrm>
                <a:off x="5415840" y="5574600"/>
                <a:ext cx="5400" cy="4320"/>
              </a:xfrm>
              <a:custGeom>
                <a:avLst/>
                <a:gdLst/>
                <a:ahLst/>
                <a:rect l="l" t="t" r="r" b="b"/>
                <a:pathLst>
                  <a:path w="91" h="90">
                    <a:moveTo>
                      <a:pt x="91" y="40"/>
                    </a:moveTo>
                    <a:lnTo>
                      <a:pt x="91" y="30"/>
                    </a:lnTo>
                    <a:lnTo>
                      <a:pt x="81" y="30"/>
                    </a:lnTo>
                    <a:lnTo>
                      <a:pt x="81" y="10"/>
                    </a:lnTo>
                    <a:lnTo>
                      <a:pt x="81" y="0"/>
                    </a:lnTo>
                    <a:lnTo>
                      <a:pt x="61" y="0"/>
                    </a:lnTo>
                    <a:lnTo>
                      <a:pt x="61" y="0"/>
                    </a:lnTo>
                    <a:lnTo>
                      <a:pt x="50" y="0"/>
                    </a:lnTo>
                    <a:lnTo>
                      <a:pt x="40" y="0"/>
                    </a:lnTo>
                    <a:lnTo>
                      <a:pt x="30" y="0"/>
                    </a:lnTo>
                    <a:lnTo>
                      <a:pt x="10" y="0"/>
                    </a:lnTo>
                    <a:lnTo>
                      <a:pt x="10" y="10"/>
                    </a:lnTo>
                    <a:lnTo>
                      <a:pt x="10" y="30"/>
                    </a:lnTo>
                    <a:lnTo>
                      <a:pt x="0" y="30"/>
                    </a:lnTo>
                    <a:lnTo>
                      <a:pt x="0" y="50"/>
                    </a:lnTo>
                    <a:lnTo>
                      <a:pt x="0" y="50"/>
                    </a:lnTo>
                    <a:lnTo>
                      <a:pt x="10" y="60"/>
                    </a:lnTo>
                    <a:lnTo>
                      <a:pt x="10" y="69"/>
                    </a:lnTo>
                    <a:lnTo>
                      <a:pt x="20" y="80"/>
                    </a:lnTo>
                    <a:lnTo>
                      <a:pt x="30" y="80"/>
                    </a:lnTo>
                    <a:lnTo>
                      <a:pt x="40" y="90"/>
                    </a:lnTo>
                    <a:lnTo>
                      <a:pt x="50" y="90"/>
                    </a:lnTo>
                    <a:lnTo>
                      <a:pt x="61" y="90"/>
                    </a:lnTo>
                    <a:lnTo>
                      <a:pt x="71" y="80"/>
                    </a:lnTo>
                    <a:lnTo>
                      <a:pt x="81" y="69"/>
                    </a:lnTo>
                    <a:lnTo>
                      <a:pt x="81" y="69"/>
                    </a:lnTo>
                    <a:lnTo>
                      <a:pt x="91" y="60"/>
                    </a:lnTo>
                    <a:lnTo>
                      <a:pt x="91" y="50"/>
                    </a:lnTo>
                    <a:lnTo>
                      <a:pt x="91"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14" name=""/>
              <p:cNvSpPr/>
              <p:nvPr/>
            </p:nvSpPr>
            <p:spPr>
              <a:xfrm>
                <a:off x="5415840" y="5599080"/>
                <a:ext cx="5400" cy="4680"/>
              </a:xfrm>
              <a:custGeom>
                <a:avLst/>
                <a:gdLst/>
                <a:ahLst/>
                <a:rect l="l" t="t" r="r" b="b"/>
                <a:pathLst>
                  <a:path w="91" h="90">
                    <a:moveTo>
                      <a:pt x="91" y="41"/>
                    </a:moveTo>
                    <a:lnTo>
                      <a:pt x="91" y="31"/>
                    </a:lnTo>
                    <a:lnTo>
                      <a:pt x="81" y="31"/>
                    </a:lnTo>
                    <a:lnTo>
                      <a:pt x="81" y="10"/>
                    </a:lnTo>
                    <a:lnTo>
                      <a:pt x="81" y="10"/>
                    </a:lnTo>
                    <a:lnTo>
                      <a:pt x="61" y="0"/>
                    </a:lnTo>
                    <a:lnTo>
                      <a:pt x="61" y="0"/>
                    </a:lnTo>
                    <a:lnTo>
                      <a:pt x="50" y="0"/>
                    </a:lnTo>
                    <a:lnTo>
                      <a:pt x="40" y="0"/>
                    </a:lnTo>
                    <a:lnTo>
                      <a:pt x="30" y="10"/>
                    </a:lnTo>
                    <a:lnTo>
                      <a:pt x="10" y="10"/>
                    </a:lnTo>
                    <a:lnTo>
                      <a:pt x="10" y="10"/>
                    </a:lnTo>
                    <a:lnTo>
                      <a:pt x="10" y="31"/>
                    </a:lnTo>
                    <a:lnTo>
                      <a:pt x="0" y="31"/>
                    </a:lnTo>
                    <a:lnTo>
                      <a:pt x="0" y="51"/>
                    </a:lnTo>
                    <a:lnTo>
                      <a:pt x="0" y="61"/>
                    </a:lnTo>
                    <a:lnTo>
                      <a:pt x="10" y="61"/>
                    </a:lnTo>
                    <a:lnTo>
                      <a:pt x="10" y="80"/>
                    </a:lnTo>
                    <a:lnTo>
                      <a:pt x="20" y="80"/>
                    </a:lnTo>
                    <a:lnTo>
                      <a:pt x="30" y="80"/>
                    </a:lnTo>
                    <a:lnTo>
                      <a:pt x="40" y="90"/>
                    </a:lnTo>
                    <a:lnTo>
                      <a:pt x="50" y="90"/>
                    </a:lnTo>
                    <a:lnTo>
                      <a:pt x="61" y="90"/>
                    </a:lnTo>
                    <a:lnTo>
                      <a:pt x="71" y="80"/>
                    </a:lnTo>
                    <a:lnTo>
                      <a:pt x="81" y="80"/>
                    </a:lnTo>
                    <a:lnTo>
                      <a:pt x="81" y="70"/>
                    </a:lnTo>
                    <a:lnTo>
                      <a:pt x="91" y="61"/>
                    </a:lnTo>
                    <a:lnTo>
                      <a:pt x="91" y="61"/>
                    </a:lnTo>
                    <a:lnTo>
                      <a:pt x="91" y="41"/>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15" name=""/>
              <p:cNvSpPr/>
              <p:nvPr/>
            </p:nvSpPr>
            <p:spPr>
              <a:xfrm>
                <a:off x="5586840" y="5413320"/>
                <a:ext cx="18684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6" name=""/>
              <p:cNvSpPr/>
              <p:nvPr/>
            </p:nvSpPr>
            <p:spPr>
              <a:xfrm>
                <a:off x="5676120" y="5427720"/>
                <a:ext cx="5400" cy="4320"/>
              </a:xfrm>
              <a:custGeom>
                <a:avLst/>
                <a:gdLst/>
                <a:ahLst/>
                <a:rect l="l" t="t" r="r" b="b"/>
                <a:pathLst>
                  <a:path w="90" h="91">
                    <a:moveTo>
                      <a:pt x="90" y="40"/>
                    </a:moveTo>
                    <a:lnTo>
                      <a:pt x="90" y="30"/>
                    </a:lnTo>
                    <a:lnTo>
                      <a:pt x="80" y="30"/>
                    </a:lnTo>
                    <a:lnTo>
                      <a:pt x="80" y="10"/>
                    </a:lnTo>
                    <a:lnTo>
                      <a:pt x="80" y="10"/>
                    </a:lnTo>
                    <a:lnTo>
                      <a:pt x="60" y="0"/>
                    </a:lnTo>
                    <a:lnTo>
                      <a:pt x="50" y="0"/>
                    </a:lnTo>
                    <a:lnTo>
                      <a:pt x="50" y="0"/>
                    </a:lnTo>
                    <a:lnTo>
                      <a:pt x="31" y="0"/>
                    </a:lnTo>
                    <a:lnTo>
                      <a:pt x="31" y="10"/>
                    </a:lnTo>
                    <a:lnTo>
                      <a:pt x="10" y="10"/>
                    </a:lnTo>
                    <a:lnTo>
                      <a:pt x="10" y="10"/>
                    </a:lnTo>
                    <a:lnTo>
                      <a:pt x="10" y="30"/>
                    </a:lnTo>
                    <a:lnTo>
                      <a:pt x="0" y="30"/>
                    </a:lnTo>
                    <a:lnTo>
                      <a:pt x="0" y="50"/>
                    </a:lnTo>
                    <a:lnTo>
                      <a:pt x="0" y="60"/>
                    </a:lnTo>
                    <a:lnTo>
                      <a:pt x="10" y="60"/>
                    </a:lnTo>
                    <a:lnTo>
                      <a:pt x="10" y="81"/>
                    </a:lnTo>
                    <a:lnTo>
                      <a:pt x="20" y="81"/>
                    </a:lnTo>
                    <a:lnTo>
                      <a:pt x="31" y="81"/>
                    </a:lnTo>
                    <a:lnTo>
                      <a:pt x="31" y="91"/>
                    </a:lnTo>
                    <a:lnTo>
                      <a:pt x="50" y="91"/>
                    </a:lnTo>
                    <a:lnTo>
                      <a:pt x="50" y="91"/>
                    </a:lnTo>
                    <a:lnTo>
                      <a:pt x="70" y="81"/>
                    </a:lnTo>
                    <a:lnTo>
                      <a:pt x="80" y="81"/>
                    </a:lnTo>
                    <a:lnTo>
                      <a:pt x="80" y="70"/>
                    </a:lnTo>
                    <a:lnTo>
                      <a:pt x="90" y="60"/>
                    </a:lnTo>
                    <a:lnTo>
                      <a:pt x="90" y="60"/>
                    </a:lnTo>
                    <a:lnTo>
                      <a:pt x="90"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17" name=""/>
              <p:cNvSpPr/>
              <p:nvPr/>
            </p:nvSpPr>
            <p:spPr>
              <a:xfrm>
                <a:off x="5676120" y="5451840"/>
                <a:ext cx="5400" cy="5040"/>
              </a:xfrm>
              <a:custGeom>
                <a:avLst/>
                <a:gdLst/>
                <a:ahLst/>
                <a:rect l="l" t="t" r="r" b="b"/>
                <a:pathLst>
                  <a:path w="90" h="99">
                    <a:moveTo>
                      <a:pt x="90" y="48"/>
                    </a:moveTo>
                    <a:lnTo>
                      <a:pt x="90" y="38"/>
                    </a:lnTo>
                    <a:lnTo>
                      <a:pt x="80" y="30"/>
                    </a:lnTo>
                    <a:lnTo>
                      <a:pt x="80" y="20"/>
                    </a:lnTo>
                    <a:lnTo>
                      <a:pt x="80" y="10"/>
                    </a:lnTo>
                    <a:lnTo>
                      <a:pt x="60" y="0"/>
                    </a:lnTo>
                    <a:lnTo>
                      <a:pt x="50" y="0"/>
                    </a:lnTo>
                    <a:lnTo>
                      <a:pt x="50" y="0"/>
                    </a:lnTo>
                    <a:lnTo>
                      <a:pt x="31" y="0"/>
                    </a:lnTo>
                    <a:lnTo>
                      <a:pt x="31" y="10"/>
                    </a:lnTo>
                    <a:lnTo>
                      <a:pt x="10" y="10"/>
                    </a:lnTo>
                    <a:lnTo>
                      <a:pt x="10" y="20"/>
                    </a:lnTo>
                    <a:lnTo>
                      <a:pt x="10" y="30"/>
                    </a:lnTo>
                    <a:lnTo>
                      <a:pt x="0" y="38"/>
                    </a:lnTo>
                    <a:lnTo>
                      <a:pt x="0" y="48"/>
                    </a:lnTo>
                    <a:lnTo>
                      <a:pt x="0" y="58"/>
                    </a:lnTo>
                    <a:lnTo>
                      <a:pt x="10" y="69"/>
                    </a:lnTo>
                    <a:lnTo>
                      <a:pt x="10" y="79"/>
                    </a:lnTo>
                    <a:lnTo>
                      <a:pt x="20" y="89"/>
                    </a:lnTo>
                    <a:lnTo>
                      <a:pt x="31" y="89"/>
                    </a:lnTo>
                    <a:lnTo>
                      <a:pt x="31" y="99"/>
                    </a:lnTo>
                    <a:lnTo>
                      <a:pt x="50" y="99"/>
                    </a:lnTo>
                    <a:lnTo>
                      <a:pt x="50" y="99"/>
                    </a:lnTo>
                    <a:lnTo>
                      <a:pt x="70" y="89"/>
                    </a:lnTo>
                    <a:lnTo>
                      <a:pt x="80" y="79"/>
                    </a:lnTo>
                    <a:lnTo>
                      <a:pt x="80" y="69"/>
                    </a:lnTo>
                    <a:lnTo>
                      <a:pt x="90" y="69"/>
                    </a:lnTo>
                    <a:lnTo>
                      <a:pt x="90" y="58"/>
                    </a:lnTo>
                    <a:lnTo>
                      <a:pt x="90" y="48"/>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118" name=""/>
              <p:cNvSpPr/>
              <p:nvPr/>
            </p:nvSpPr>
            <p:spPr>
              <a:xfrm>
                <a:off x="5676120" y="5476680"/>
                <a:ext cx="5400" cy="4320"/>
              </a:xfrm>
              <a:custGeom>
                <a:avLst/>
                <a:gdLst/>
                <a:ahLst/>
                <a:rect l="l" t="t" r="r" b="b"/>
                <a:pathLst>
                  <a:path w="90" h="91">
                    <a:moveTo>
                      <a:pt x="90" y="41"/>
                    </a:moveTo>
                    <a:lnTo>
                      <a:pt x="90" y="31"/>
                    </a:lnTo>
                    <a:lnTo>
                      <a:pt x="80" y="21"/>
                    </a:lnTo>
                    <a:lnTo>
                      <a:pt x="80" y="10"/>
                    </a:lnTo>
                    <a:lnTo>
                      <a:pt x="80" y="0"/>
                    </a:lnTo>
                    <a:lnTo>
                      <a:pt x="60" y="0"/>
                    </a:lnTo>
                    <a:lnTo>
                      <a:pt x="50" y="0"/>
                    </a:lnTo>
                    <a:lnTo>
                      <a:pt x="50" y="0"/>
                    </a:lnTo>
                    <a:lnTo>
                      <a:pt x="31" y="0"/>
                    </a:lnTo>
                    <a:lnTo>
                      <a:pt x="31" y="0"/>
                    </a:lnTo>
                    <a:lnTo>
                      <a:pt x="10" y="0"/>
                    </a:lnTo>
                    <a:lnTo>
                      <a:pt x="10" y="10"/>
                    </a:lnTo>
                    <a:lnTo>
                      <a:pt x="10" y="21"/>
                    </a:lnTo>
                    <a:lnTo>
                      <a:pt x="0" y="31"/>
                    </a:lnTo>
                    <a:lnTo>
                      <a:pt x="0" y="51"/>
                    </a:lnTo>
                    <a:lnTo>
                      <a:pt x="0" y="51"/>
                    </a:lnTo>
                    <a:lnTo>
                      <a:pt x="10" y="61"/>
                    </a:lnTo>
                    <a:lnTo>
                      <a:pt x="10" y="71"/>
                    </a:lnTo>
                    <a:lnTo>
                      <a:pt x="20" y="81"/>
                    </a:lnTo>
                    <a:lnTo>
                      <a:pt x="31" y="81"/>
                    </a:lnTo>
                    <a:lnTo>
                      <a:pt x="31" y="91"/>
                    </a:lnTo>
                    <a:lnTo>
                      <a:pt x="50" y="91"/>
                    </a:lnTo>
                    <a:lnTo>
                      <a:pt x="50" y="91"/>
                    </a:lnTo>
                    <a:lnTo>
                      <a:pt x="70" y="81"/>
                    </a:lnTo>
                    <a:lnTo>
                      <a:pt x="80" y="71"/>
                    </a:lnTo>
                    <a:lnTo>
                      <a:pt x="80" y="71"/>
                    </a:lnTo>
                    <a:lnTo>
                      <a:pt x="90" y="61"/>
                    </a:lnTo>
                    <a:lnTo>
                      <a:pt x="90" y="51"/>
                    </a:lnTo>
                    <a:lnTo>
                      <a:pt x="90" y="41"/>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19" name=""/>
              <p:cNvSpPr/>
              <p:nvPr/>
            </p:nvSpPr>
            <p:spPr>
              <a:xfrm>
                <a:off x="5676120" y="5500800"/>
                <a:ext cx="5400" cy="4320"/>
              </a:xfrm>
              <a:custGeom>
                <a:avLst/>
                <a:gdLst/>
                <a:ahLst/>
                <a:rect l="l" t="t" r="r" b="b"/>
                <a:pathLst>
                  <a:path w="90" h="91">
                    <a:moveTo>
                      <a:pt x="90" y="40"/>
                    </a:moveTo>
                    <a:lnTo>
                      <a:pt x="90" y="40"/>
                    </a:lnTo>
                    <a:lnTo>
                      <a:pt x="80" y="30"/>
                    </a:lnTo>
                    <a:lnTo>
                      <a:pt x="80" y="10"/>
                    </a:lnTo>
                    <a:lnTo>
                      <a:pt x="80" y="10"/>
                    </a:lnTo>
                    <a:lnTo>
                      <a:pt x="60" y="0"/>
                    </a:lnTo>
                    <a:lnTo>
                      <a:pt x="50" y="0"/>
                    </a:lnTo>
                    <a:lnTo>
                      <a:pt x="50" y="0"/>
                    </a:lnTo>
                    <a:lnTo>
                      <a:pt x="31" y="0"/>
                    </a:lnTo>
                    <a:lnTo>
                      <a:pt x="31" y="10"/>
                    </a:lnTo>
                    <a:lnTo>
                      <a:pt x="10" y="10"/>
                    </a:lnTo>
                    <a:lnTo>
                      <a:pt x="10" y="10"/>
                    </a:lnTo>
                    <a:lnTo>
                      <a:pt x="10" y="30"/>
                    </a:lnTo>
                    <a:lnTo>
                      <a:pt x="0" y="40"/>
                    </a:lnTo>
                    <a:lnTo>
                      <a:pt x="0" y="50"/>
                    </a:lnTo>
                    <a:lnTo>
                      <a:pt x="0" y="60"/>
                    </a:lnTo>
                    <a:lnTo>
                      <a:pt x="10" y="60"/>
                    </a:lnTo>
                    <a:lnTo>
                      <a:pt x="10" y="81"/>
                    </a:lnTo>
                    <a:lnTo>
                      <a:pt x="20" y="91"/>
                    </a:lnTo>
                    <a:lnTo>
                      <a:pt x="31" y="91"/>
                    </a:lnTo>
                    <a:lnTo>
                      <a:pt x="31" y="91"/>
                    </a:lnTo>
                    <a:lnTo>
                      <a:pt x="50" y="91"/>
                    </a:lnTo>
                    <a:lnTo>
                      <a:pt x="50" y="91"/>
                    </a:lnTo>
                    <a:lnTo>
                      <a:pt x="70" y="91"/>
                    </a:lnTo>
                    <a:lnTo>
                      <a:pt x="80" y="81"/>
                    </a:lnTo>
                    <a:lnTo>
                      <a:pt x="80" y="70"/>
                    </a:lnTo>
                    <a:lnTo>
                      <a:pt x="90" y="60"/>
                    </a:lnTo>
                    <a:lnTo>
                      <a:pt x="90" y="60"/>
                    </a:lnTo>
                    <a:lnTo>
                      <a:pt x="90"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20" name=""/>
              <p:cNvSpPr/>
              <p:nvPr/>
            </p:nvSpPr>
            <p:spPr>
              <a:xfrm>
                <a:off x="5676120" y="5525280"/>
                <a:ext cx="5400" cy="4320"/>
              </a:xfrm>
              <a:custGeom>
                <a:avLst/>
                <a:gdLst/>
                <a:ahLst/>
                <a:rect l="l" t="t" r="r" b="b"/>
                <a:pathLst>
                  <a:path w="90" h="90">
                    <a:moveTo>
                      <a:pt x="90" y="49"/>
                    </a:moveTo>
                    <a:lnTo>
                      <a:pt x="90" y="39"/>
                    </a:lnTo>
                    <a:lnTo>
                      <a:pt x="80" y="29"/>
                    </a:lnTo>
                    <a:lnTo>
                      <a:pt x="80" y="19"/>
                    </a:lnTo>
                    <a:lnTo>
                      <a:pt x="80" y="10"/>
                    </a:lnTo>
                    <a:lnTo>
                      <a:pt x="60" y="0"/>
                    </a:lnTo>
                    <a:lnTo>
                      <a:pt x="50" y="0"/>
                    </a:lnTo>
                    <a:lnTo>
                      <a:pt x="50" y="0"/>
                    </a:lnTo>
                    <a:lnTo>
                      <a:pt x="31" y="0"/>
                    </a:lnTo>
                    <a:lnTo>
                      <a:pt x="31" y="10"/>
                    </a:lnTo>
                    <a:lnTo>
                      <a:pt x="10" y="10"/>
                    </a:lnTo>
                    <a:lnTo>
                      <a:pt x="10" y="19"/>
                    </a:lnTo>
                    <a:lnTo>
                      <a:pt x="10" y="29"/>
                    </a:lnTo>
                    <a:lnTo>
                      <a:pt x="0" y="39"/>
                    </a:lnTo>
                    <a:lnTo>
                      <a:pt x="0" y="49"/>
                    </a:lnTo>
                    <a:lnTo>
                      <a:pt x="0" y="60"/>
                    </a:lnTo>
                    <a:lnTo>
                      <a:pt x="10" y="70"/>
                    </a:lnTo>
                    <a:lnTo>
                      <a:pt x="10" y="80"/>
                    </a:lnTo>
                    <a:lnTo>
                      <a:pt x="20" y="90"/>
                    </a:lnTo>
                    <a:lnTo>
                      <a:pt x="31" y="90"/>
                    </a:lnTo>
                    <a:lnTo>
                      <a:pt x="31" y="90"/>
                    </a:lnTo>
                    <a:lnTo>
                      <a:pt x="50" y="90"/>
                    </a:lnTo>
                    <a:lnTo>
                      <a:pt x="50" y="90"/>
                    </a:lnTo>
                    <a:lnTo>
                      <a:pt x="70" y="90"/>
                    </a:lnTo>
                    <a:lnTo>
                      <a:pt x="80" y="80"/>
                    </a:lnTo>
                    <a:lnTo>
                      <a:pt x="80" y="70"/>
                    </a:lnTo>
                    <a:lnTo>
                      <a:pt x="90" y="70"/>
                    </a:lnTo>
                    <a:lnTo>
                      <a:pt x="90" y="60"/>
                    </a:lnTo>
                    <a:lnTo>
                      <a:pt x="90" y="49"/>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21" name=""/>
              <p:cNvSpPr/>
              <p:nvPr/>
            </p:nvSpPr>
            <p:spPr>
              <a:xfrm>
                <a:off x="5676120" y="5549760"/>
                <a:ext cx="5400" cy="4680"/>
              </a:xfrm>
              <a:custGeom>
                <a:avLst/>
                <a:gdLst/>
                <a:ahLst/>
                <a:rect l="l" t="t" r="r" b="b"/>
                <a:pathLst>
                  <a:path w="90" h="100">
                    <a:moveTo>
                      <a:pt x="90" y="50"/>
                    </a:moveTo>
                    <a:lnTo>
                      <a:pt x="90" y="40"/>
                    </a:lnTo>
                    <a:lnTo>
                      <a:pt x="80" y="30"/>
                    </a:lnTo>
                    <a:lnTo>
                      <a:pt x="80" y="21"/>
                    </a:lnTo>
                    <a:lnTo>
                      <a:pt x="80" y="11"/>
                    </a:lnTo>
                    <a:lnTo>
                      <a:pt x="60" y="0"/>
                    </a:lnTo>
                    <a:lnTo>
                      <a:pt x="50" y="0"/>
                    </a:lnTo>
                    <a:lnTo>
                      <a:pt x="50" y="0"/>
                    </a:lnTo>
                    <a:lnTo>
                      <a:pt x="31" y="0"/>
                    </a:lnTo>
                    <a:lnTo>
                      <a:pt x="31" y="11"/>
                    </a:lnTo>
                    <a:lnTo>
                      <a:pt x="10" y="11"/>
                    </a:lnTo>
                    <a:lnTo>
                      <a:pt x="10" y="21"/>
                    </a:lnTo>
                    <a:lnTo>
                      <a:pt x="10" y="30"/>
                    </a:lnTo>
                    <a:lnTo>
                      <a:pt x="0" y="40"/>
                    </a:lnTo>
                    <a:lnTo>
                      <a:pt x="0" y="50"/>
                    </a:lnTo>
                    <a:lnTo>
                      <a:pt x="0" y="60"/>
                    </a:lnTo>
                    <a:lnTo>
                      <a:pt x="10" y="70"/>
                    </a:lnTo>
                    <a:lnTo>
                      <a:pt x="10" y="80"/>
                    </a:lnTo>
                    <a:lnTo>
                      <a:pt x="20" y="90"/>
                    </a:lnTo>
                    <a:lnTo>
                      <a:pt x="31" y="90"/>
                    </a:lnTo>
                    <a:lnTo>
                      <a:pt x="31" y="100"/>
                    </a:lnTo>
                    <a:lnTo>
                      <a:pt x="50" y="100"/>
                    </a:lnTo>
                    <a:lnTo>
                      <a:pt x="50" y="100"/>
                    </a:lnTo>
                    <a:lnTo>
                      <a:pt x="70" y="90"/>
                    </a:lnTo>
                    <a:lnTo>
                      <a:pt x="80" y="80"/>
                    </a:lnTo>
                    <a:lnTo>
                      <a:pt x="80" y="80"/>
                    </a:lnTo>
                    <a:lnTo>
                      <a:pt x="90" y="70"/>
                    </a:lnTo>
                    <a:lnTo>
                      <a:pt x="90" y="60"/>
                    </a:lnTo>
                    <a:lnTo>
                      <a:pt x="90" y="5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22" name=""/>
              <p:cNvSpPr/>
              <p:nvPr/>
            </p:nvSpPr>
            <p:spPr>
              <a:xfrm>
                <a:off x="5676120" y="5574600"/>
                <a:ext cx="5400" cy="4320"/>
              </a:xfrm>
              <a:custGeom>
                <a:avLst/>
                <a:gdLst/>
                <a:ahLst/>
                <a:rect l="l" t="t" r="r" b="b"/>
                <a:pathLst>
                  <a:path w="90" h="90">
                    <a:moveTo>
                      <a:pt x="90" y="40"/>
                    </a:moveTo>
                    <a:lnTo>
                      <a:pt x="90" y="30"/>
                    </a:lnTo>
                    <a:lnTo>
                      <a:pt x="80" y="30"/>
                    </a:lnTo>
                    <a:lnTo>
                      <a:pt x="80" y="10"/>
                    </a:lnTo>
                    <a:lnTo>
                      <a:pt x="80" y="0"/>
                    </a:lnTo>
                    <a:lnTo>
                      <a:pt x="60" y="0"/>
                    </a:lnTo>
                    <a:lnTo>
                      <a:pt x="50" y="0"/>
                    </a:lnTo>
                    <a:lnTo>
                      <a:pt x="50" y="0"/>
                    </a:lnTo>
                    <a:lnTo>
                      <a:pt x="31" y="0"/>
                    </a:lnTo>
                    <a:lnTo>
                      <a:pt x="31" y="0"/>
                    </a:lnTo>
                    <a:lnTo>
                      <a:pt x="10" y="0"/>
                    </a:lnTo>
                    <a:lnTo>
                      <a:pt x="10" y="10"/>
                    </a:lnTo>
                    <a:lnTo>
                      <a:pt x="10" y="30"/>
                    </a:lnTo>
                    <a:lnTo>
                      <a:pt x="0" y="30"/>
                    </a:lnTo>
                    <a:lnTo>
                      <a:pt x="0" y="50"/>
                    </a:lnTo>
                    <a:lnTo>
                      <a:pt x="0" y="50"/>
                    </a:lnTo>
                    <a:lnTo>
                      <a:pt x="10" y="60"/>
                    </a:lnTo>
                    <a:lnTo>
                      <a:pt x="10" y="69"/>
                    </a:lnTo>
                    <a:lnTo>
                      <a:pt x="20" y="80"/>
                    </a:lnTo>
                    <a:lnTo>
                      <a:pt x="31" y="80"/>
                    </a:lnTo>
                    <a:lnTo>
                      <a:pt x="31" y="90"/>
                    </a:lnTo>
                    <a:lnTo>
                      <a:pt x="50" y="90"/>
                    </a:lnTo>
                    <a:lnTo>
                      <a:pt x="50" y="90"/>
                    </a:lnTo>
                    <a:lnTo>
                      <a:pt x="70" y="80"/>
                    </a:lnTo>
                    <a:lnTo>
                      <a:pt x="80" y="69"/>
                    </a:lnTo>
                    <a:lnTo>
                      <a:pt x="80" y="69"/>
                    </a:lnTo>
                    <a:lnTo>
                      <a:pt x="90" y="60"/>
                    </a:lnTo>
                    <a:lnTo>
                      <a:pt x="90" y="50"/>
                    </a:lnTo>
                    <a:lnTo>
                      <a:pt x="90" y="40"/>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23" name=""/>
              <p:cNvSpPr/>
              <p:nvPr/>
            </p:nvSpPr>
            <p:spPr>
              <a:xfrm>
                <a:off x="5676120" y="5599080"/>
                <a:ext cx="5400" cy="4680"/>
              </a:xfrm>
              <a:custGeom>
                <a:avLst/>
                <a:gdLst/>
                <a:ahLst/>
                <a:rect l="l" t="t" r="r" b="b"/>
                <a:pathLst>
                  <a:path w="90" h="90">
                    <a:moveTo>
                      <a:pt x="90" y="41"/>
                    </a:moveTo>
                    <a:lnTo>
                      <a:pt x="90" y="31"/>
                    </a:lnTo>
                    <a:lnTo>
                      <a:pt x="80" y="31"/>
                    </a:lnTo>
                    <a:lnTo>
                      <a:pt x="80" y="10"/>
                    </a:lnTo>
                    <a:lnTo>
                      <a:pt x="80" y="10"/>
                    </a:lnTo>
                    <a:lnTo>
                      <a:pt x="60" y="0"/>
                    </a:lnTo>
                    <a:lnTo>
                      <a:pt x="50" y="0"/>
                    </a:lnTo>
                    <a:lnTo>
                      <a:pt x="50" y="0"/>
                    </a:lnTo>
                    <a:lnTo>
                      <a:pt x="31" y="0"/>
                    </a:lnTo>
                    <a:lnTo>
                      <a:pt x="31" y="10"/>
                    </a:lnTo>
                    <a:lnTo>
                      <a:pt x="10" y="10"/>
                    </a:lnTo>
                    <a:lnTo>
                      <a:pt x="10" y="10"/>
                    </a:lnTo>
                    <a:lnTo>
                      <a:pt x="10" y="31"/>
                    </a:lnTo>
                    <a:lnTo>
                      <a:pt x="0" y="31"/>
                    </a:lnTo>
                    <a:lnTo>
                      <a:pt x="0" y="51"/>
                    </a:lnTo>
                    <a:lnTo>
                      <a:pt x="0" y="61"/>
                    </a:lnTo>
                    <a:lnTo>
                      <a:pt x="10" y="61"/>
                    </a:lnTo>
                    <a:lnTo>
                      <a:pt x="10" y="80"/>
                    </a:lnTo>
                    <a:lnTo>
                      <a:pt x="20" y="80"/>
                    </a:lnTo>
                    <a:lnTo>
                      <a:pt x="31" y="80"/>
                    </a:lnTo>
                    <a:lnTo>
                      <a:pt x="31" y="90"/>
                    </a:lnTo>
                    <a:lnTo>
                      <a:pt x="50" y="90"/>
                    </a:lnTo>
                    <a:lnTo>
                      <a:pt x="50" y="90"/>
                    </a:lnTo>
                    <a:lnTo>
                      <a:pt x="70" y="80"/>
                    </a:lnTo>
                    <a:lnTo>
                      <a:pt x="80" y="80"/>
                    </a:lnTo>
                    <a:lnTo>
                      <a:pt x="80" y="70"/>
                    </a:lnTo>
                    <a:lnTo>
                      <a:pt x="90" y="61"/>
                    </a:lnTo>
                    <a:lnTo>
                      <a:pt x="90" y="61"/>
                    </a:lnTo>
                    <a:lnTo>
                      <a:pt x="90" y="41"/>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sp>
        <p:nvSpPr>
          <p:cNvPr id="5124" name=""/>
          <p:cNvSpPr/>
          <p:nvPr/>
        </p:nvSpPr>
        <p:spPr>
          <a:xfrm>
            <a:off x="2962440" y="6188040"/>
            <a:ext cx="3319200" cy="45720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étodos e ferramentas</a:t>
            </a:r>
            <a:endParaRPr b="0" lang="en-US" sz="2000" spc="-1" strike="noStrike">
              <a:solidFill>
                <a:srgbClr val="000000"/>
              </a:solidFill>
              <a:latin typeface="Arial"/>
            </a:endParaRPr>
          </a:p>
        </p:txBody>
      </p:sp>
      <p:sp>
        <p:nvSpPr>
          <p:cNvPr id="5125" name=""/>
          <p:cNvSpPr/>
          <p:nvPr/>
        </p:nvSpPr>
        <p:spPr>
          <a:xfrm>
            <a:off x="2085840" y="2700360"/>
            <a:ext cx="486000" cy="248616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6" name=""/>
          <p:cNvSpPr/>
          <p:nvPr/>
        </p:nvSpPr>
        <p:spPr>
          <a:xfrm>
            <a:off x="4437000" y="2665440"/>
            <a:ext cx="3614760" cy="255744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7" name=""/>
          <p:cNvSpPr/>
          <p:nvPr/>
        </p:nvSpPr>
        <p:spPr>
          <a:xfrm>
            <a:off x="5216400" y="2616120"/>
            <a:ext cx="2872080" cy="255744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8" name=""/>
          <p:cNvSpPr/>
          <p:nvPr/>
        </p:nvSpPr>
        <p:spPr>
          <a:xfrm>
            <a:off x="5996160" y="2567160"/>
            <a:ext cx="2143080" cy="265716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9" name=""/>
          <p:cNvSpPr/>
          <p:nvPr/>
        </p:nvSpPr>
        <p:spPr>
          <a:xfrm>
            <a:off x="3587760" y="2673360"/>
            <a:ext cx="128520" cy="2386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0" name=""/>
          <p:cNvSpPr/>
          <p:nvPr/>
        </p:nvSpPr>
        <p:spPr>
          <a:xfrm>
            <a:off x="3724200" y="2681280"/>
            <a:ext cx="2486160" cy="25146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1" name=""/>
          <p:cNvSpPr/>
          <p:nvPr/>
        </p:nvSpPr>
        <p:spPr>
          <a:xfrm>
            <a:off x="1135080" y="3308400"/>
            <a:ext cx="1849320" cy="631800"/>
          </a:xfrm>
          <a:prstGeom prst="rect">
            <a:avLst/>
          </a:prstGeom>
          <a:solidFill>
            <a:srgbClr val="ffffff"/>
          </a:solidFill>
          <a:ln w="0">
            <a:noFill/>
          </a:ln>
        </p:spPr>
        <p:style>
          <a:lnRef idx="0"/>
          <a:fillRef idx="0"/>
          <a:effectRef idx="0"/>
          <a:fontRef idx="minor"/>
        </p:style>
        <p:txBody>
          <a:bodyPr lIns="18000" rIns="18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o em uma fase / atividade</a:t>
            </a:r>
            <a:endParaRPr b="0" lang="en-US" sz="2000" spc="-1" strike="noStrike">
              <a:solidFill>
                <a:srgbClr val="000000"/>
              </a:solidFill>
              <a:latin typeface="Arial"/>
            </a:endParaRPr>
          </a:p>
        </p:txBody>
      </p:sp>
      <p:sp>
        <p:nvSpPr>
          <p:cNvPr id="5132" name=""/>
          <p:cNvSpPr/>
          <p:nvPr/>
        </p:nvSpPr>
        <p:spPr>
          <a:xfrm>
            <a:off x="6114960" y="3487680"/>
            <a:ext cx="2092320" cy="631800"/>
          </a:xfrm>
          <a:prstGeom prst="rect">
            <a:avLst/>
          </a:prstGeom>
          <a:solidFill>
            <a:srgbClr val="ffffff"/>
          </a:solidFill>
          <a:ln w="0">
            <a:noFill/>
          </a:ln>
        </p:spPr>
        <p:style>
          <a:lnRef idx="0"/>
          <a:fillRef idx="0"/>
          <a:effectRef idx="0"/>
          <a:fontRef idx="minor"/>
        </p:style>
        <p:txBody>
          <a:bodyPr lIns="18000" rIns="18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o em várias fases / atividades</a:t>
            </a:r>
            <a:endParaRPr b="0" lang="en-US" sz="2000" spc="-1" strike="noStrike">
              <a:solidFill>
                <a:srgbClr val="000000"/>
              </a:solidFill>
              <a:latin typeface="Arial"/>
            </a:endParaRPr>
          </a:p>
        </p:txBody>
      </p:sp>
      <p:sp>
        <p:nvSpPr>
          <p:cNvPr id="5133" name=""/>
          <p:cNvSpPr/>
          <p:nvPr/>
        </p:nvSpPr>
        <p:spPr>
          <a:xfrm>
            <a:off x="3000240" y="3844800"/>
            <a:ext cx="2678400" cy="631800"/>
          </a:xfrm>
          <a:prstGeom prst="rect">
            <a:avLst/>
          </a:prstGeom>
          <a:solidFill>
            <a:srgbClr val="ffffff"/>
          </a:solidFill>
          <a:ln w="0">
            <a:noFill/>
          </a:ln>
        </p:spPr>
        <p:style>
          <a:lnRef idx="0"/>
          <a:fillRef idx="0"/>
          <a:effectRef idx="0"/>
          <a:fontRef idx="minor"/>
        </p:style>
        <p:txBody>
          <a:bodyPr lIns="18000" rIns="18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ividade necessita de vários métodos</a:t>
            </a:r>
            <a:endParaRPr b="0" lang="en-US" sz="2000" spc="-1" strike="noStrike">
              <a:solidFill>
                <a:srgbClr val="000000"/>
              </a:solidFill>
              <a:latin typeface="Arial"/>
            </a:endParaRPr>
          </a:p>
        </p:txBody>
      </p:sp>
      <p:sp>
        <p:nvSpPr>
          <p:cNvPr id="5134" name=""/>
          <p:cNvSpPr/>
          <p:nvPr/>
        </p:nvSpPr>
        <p:spPr>
          <a:xfrm>
            <a:off x="399960" y="6249960"/>
            <a:ext cx="2506680" cy="326880"/>
          </a:xfrm>
          <a:prstGeom prst="rect">
            <a:avLst/>
          </a:prstGeom>
          <a:solidFill>
            <a:srgbClr val="ffffff"/>
          </a:solidFill>
          <a:ln w="0">
            <a:noFill/>
          </a:ln>
        </p:spPr>
        <p:style>
          <a:lnRef idx="0"/>
          <a:fillRef idx="0"/>
          <a:effectRef idx="0"/>
          <a:fontRef idx="minor"/>
        </p:style>
        <p:txBody>
          <a:bodyPr lIns="18000" rIns="18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 quadros no liv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ítes de sistemas envolvidos no desenvolvimento de produtos</a:t>
            </a:r>
            <a:endParaRPr b="0" lang="en-US" sz="2400" spc="-1" strike="noStrike">
              <a:solidFill>
                <a:srgbClr val="000096"/>
              </a:solidFill>
              <a:latin typeface="Arial"/>
            </a:endParaRPr>
          </a:p>
        </p:txBody>
      </p:sp>
      <p:grpSp>
        <p:nvGrpSpPr>
          <p:cNvPr id="5136" name=""/>
          <p:cNvGrpSpPr/>
          <p:nvPr/>
        </p:nvGrpSpPr>
        <p:grpSpPr>
          <a:xfrm>
            <a:off x="-136440" y="701640"/>
            <a:ext cx="9280440" cy="6149880"/>
            <a:chOff x="-136440" y="701640"/>
            <a:chExt cx="9280440" cy="6149880"/>
          </a:xfrm>
        </p:grpSpPr>
        <p:sp>
          <p:nvSpPr>
            <p:cNvPr id="5137" name=""/>
            <p:cNvSpPr/>
            <p:nvPr/>
          </p:nvSpPr>
          <p:spPr>
            <a:xfrm>
              <a:off x="2259000" y="701640"/>
              <a:ext cx="4648320" cy="133524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5138" name=""/>
            <p:cNvSpPr/>
            <p:nvPr/>
          </p:nvSpPr>
          <p:spPr>
            <a:xfrm>
              <a:off x="2160720" y="1828800"/>
              <a:ext cx="6852960" cy="1009800"/>
            </a:xfrm>
            <a:custGeom>
              <a:avLst/>
              <a:gdLst/>
              <a:ahLst/>
              <a:rect l="l" t="t" r="r" b="b"/>
              <a:pathLst>
                <a:path w="4317" h="636">
                  <a:moveTo>
                    <a:pt x="0" y="636"/>
                  </a:moveTo>
                  <a:lnTo>
                    <a:pt x="2110" y="0"/>
                  </a:lnTo>
                  <a:lnTo>
                    <a:pt x="2948" y="0"/>
                  </a:lnTo>
                  <a:lnTo>
                    <a:pt x="4317" y="636"/>
                  </a:lnTo>
                </a:path>
              </a:pathLst>
            </a:custGeom>
            <a:solidFill>
              <a:srgbClr val="ffcc99"/>
            </a:solidFill>
            <a:ln w="0">
              <a:noFill/>
            </a:ln>
          </p:spPr>
          <p:style>
            <a:lnRef idx="0"/>
            <a:fillRef idx="0"/>
            <a:effectRef idx="0"/>
            <a:fontRef idx="minor"/>
          </p:style>
          <p:txBody>
            <a:bodyPr wrap="none" lIns="72000" rIns="72000" tIns="0" bIns="0" anchor="ctr">
              <a:noAutofit/>
            </a:bodyPr>
            <a:p>
              <a:endParaRPr b="0" lang="en-US" sz="1800" spc="-1" strike="noStrike">
                <a:solidFill>
                  <a:srgbClr val="000000"/>
                </a:solidFill>
                <a:latin typeface="Arial"/>
              </a:endParaRPr>
            </a:p>
          </p:txBody>
        </p:sp>
        <p:sp>
          <p:nvSpPr>
            <p:cNvPr id="5139" name=""/>
            <p:cNvSpPr/>
            <p:nvPr/>
          </p:nvSpPr>
          <p:spPr>
            <a:xfrm>
              <a:off x="225360" y="1685880"/>
              <a:ext cx="5249880" cy="1139760"/>
            </a:xfrm>
            <a:custGeom>
              <a:avLst/>
              <a:gdLst/>
              <a:ahLst/>
              <a:rect l="l" t="t" r="r" b="b"/>
              <a:pathLst>
                <a:path w="3307" h="718">
                  <a:moveTo>
                    <a:pt x="0" y="718"/>
                  </a:moveTo>
                  <a:lnTo>
                    <a:pt x="1332" y="0"/>
                  </a:lnTo>
                  <a:lnTo>
                    <a:pt x="3307" y="0"/>
                  </a:lnTo>
                  <a:lnTo>
                    <a:pt x="1219" y="711"/>
                  </a:lnTo>
                </a:path>
              </a:pathLst>
            </a:custGeom>
            <a:gradFill rotWithShape="0">
              <a:gsLst>
                <a:gs pos="0">
                  <a:srgbClr val="ffff00"/>
                </a:gs>
                <a:gs pos="100000">
                  <a:srgbClr val="99ccff"/>
                </a:gs>
              </a:gsLst>
              <a:lin ang="10800000"/>
            </a:gra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140" name=""/>
            <p:cNvSpPr/>
            <p:nvPr/>
          </p:nvSpPr>
          <p:spPr>
            <a:xfrm>
              <a:off x="5562720" y="5479920"/>
              <a:ext cx="358128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1" name=""/>
            <p:cNvSpPr/>
            <p:nvPr/>
          </p:nvSpPr>
          <p:spPr>
            <a:xfrm>
              <a:off x="1494360" y="6073920"/>
              <a:ext cx="1598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iberaçã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 produção</a:t>
              </a:r>
              <a:endParaRPr b="0" lang="en-US" sz="2000" spc="-1" strike="noStrike">
                <a:solidFill>
                  <a:srgbClr val="000000"/>
                </a:solidFill>
                <a:latin typeface="Arial"/>
              </a:endParaRPr>
            </a:p>
          </p:txBody>
        </p:sp>
        <p:sp>
          <p:nvSpPr>
            <p:cNvPr id="5142" name=""/>
            <p:cNvSpPr/>
            <p:nvPr/>
          </p:nvSpPr>
          <p:spPr>
            <a:xfrm>
              <a:off x="8161200" y="6075360"/>
              <a:ext cx="949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m da vida</a:t>
              </a:r>
              <a:endParaRPr b="0" lang="en-US" sz="2000" spc="-1" strike="noStrike">
                <a:solidFill>
                  <a:srgbClr val="000000"/>
                </a:solidFill>
                <a:latin typeface="Arial"/>
              </a:endParaRPr>
            </a:p>
          </p:txBody>
        </p:sp>
        <p:sp>
          <p:nvSpPr>
            <p:cNvPr id="5143" name=""/>
            <p:cNvSpPr/>
            <p:nvPr/>
          </p:nvSpPr>
          <p:spPr>
            <a:xfrm>
              <a:off x="-136440" y="6073920"/>
              <a:ext cx="1488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ício 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a idéia</a:t>
              </a:r>
              <a:endParaRPr b="0" lang="en-US" sz="2000" spc="-1" strike="noStrike">
                <a:solidFill>
                  <a:srgbClr val="000000"/>
                </a:solidFill>
                <a:latin typeface="Arial"/>
              </a:endParaRPr>
            </a:p>
          </p:txBody>
        </p:sp>
        <p:sp>
          <p:nvSpPr>
            <p:cNvPr id="5144" name=""/>
            <p:cNvSpPr/>
            <p:nvPr/>
          </p:nvSpPr>
          <p:spPr>
            <a:xfrm>
              <a:off x="6010200" y="607392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nal da produção </a:t>
              </a:r>
              <a:endParaRPr b="0" lang="en-US" sz="2000" spc="-1" strike="noStrike">
                <a:solidFill>
                  <a:srgbClr val="000000"/>
                </a:solidFill>
                <a:latin typeface="Arial"/>
              </a:endParaRPr>
            </a:p>
          </p:txBody>
        </p:sp>
        <p:sp>
          <p:nvSpPr>
            <p:cNvPr id="5145" name=""/>
            <p:cNvSpPr/>
            <p:nvPr/>
          </p:nvSpPr>
          <p:spPr>
            <a:xfrm>
              <a:off x="0" y="2822400"/>
              <a:ext cx="9026640" cy="3343320"/>
            </a:xfrm>
            <a:custGeom>
              <a:avLst/>
              <a:gdLst/>
              <a:ahLst/>
              <a:rect l="l" t="t" r="r" b="b"/>
              <a:pathLst>
                <a:path w="4998" h="1982">
                  <a:moveTo>
                    <a:pt x="91" y="1346"/>
                  </a:moveTo>
                  <a:cubicBezTo>
                    <a:pt x="241" y="538"/>
                    <a:pt x="1996" y="74"/>
                    <a:pt x="2814" y="37"/>
                  </a:cubicBezTo>
                  <a:cubicBezTo>
                    <a:pt x="3632" y="0"/>
                    <a:pt x="4635" y="798"/>
                    <a:pt x="4998" y="1122"/>
                  </a:cubicBezTo>
                  <a:lnTo>
                    <a:pt x="4992" y="1982"/>
                  </a:lnTo>
                  <a:cubicBezTo>
                    <a:pt x="3597" y="1276"/>
                    <a:pt x="3538" y="1235"/>
                    <a:pt x="2764" y="1027"/>
                  </a:cubicBezTo>
                  <a:cubicBezTo>
                    <a:pt x="1990" y="819"/>
                    <a:pt x="598" y="1052"/>
                    <a:pt x="299" y="1201"/>
                  </a:cubicBezTo>
                  <a:cubicBezTo>
                    <a:pt x="0" y="1351"/>
                    <a:pt x="365" y="1190"/>
                    <a:pt x="91" y="1346"/>
                  </a:cubicBezTo>
                  <a:close/>
                </a:path>
              </a:pathLst>
            </a:custGeom>
            <a:solidFill>
              <a:srgbClr val="ffcc00">
                <a:alpha val="50000"/>
              </a:srgbClr>
            </a:solidFill>
            <a:ln w="2844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6" name=""/>
            <p:cNvSpPr/>
            <p:nvPr/>
          </p:nvSpPr>
          <p:spPr>
            <a:xfrm>
              <a:off x="204840" y="4189320"/>
              <a:ext cx="8864640" cy="1914480"/>
            </a:xfrm>
            <a:custGeom>
              <a:avLst/>
              <a:gdLst/>
              <a:ahLst/>
              <a:rect l="l" t="t" r="r" b="b"/>
              <a:pathLst>
                <a:path w="4909" h="1135">
                  <a:moveTo>
                    <a:pt x="0" y="532"/>
                  </a:moveTo>
                  <a:cubicBezTo>
                    <a:pt x="105" y="361"/>
                    <a:pt x="450" y="0"/>
                    <a:pt x="1048" y="74"/>
                  </a:cubicBezTo>
                  <a:cubicBezTo>
                    <a:pt x="1497" y="102"/>
                    <a:pt x="2209" y="619"/>
                    <a:pt x="2693" y="700"/>
                  </a:cubicBezTo>
                  <a:cubicBezTo>
                    <a:pt x="3177" y="781"/>
                    <a:pt x="3583" y="513"/>
                    <a:pt x="3952" y="559"/>
                  </a:cubicBezTo>
                  <a:cubicBezTo>
                    <a:pt x="4335" y="572"/>
                    <a:pt x="4740" y="924"/>
                    <a:pt x="4909" y="976"/>
                  </a:cubicBezTo>
                  <a:lnTo>
                    <a:pt x="4909" y="1135"/>
                  </a:lnTo>
                  <a:cubicBezTo>
                    <a:pt x="4909" y="1135"/>
                    <a:pt x="2428" y="1096"/>
                    <a:pt x="0" y="1096"/>
                  </a:cubicBezTo>
                  <a:lnTo>
                    <a:pt x="0" y="532"/>
                  </a:lnTo>
                  <a:close/>
                </a:path>
              </a:pathLst>
            </a:custGeom>
            <a:solidFill>
              <a:srgbClr val="b5c3fd">
                <a:alpha val="50000"/>
              </a:srgbClr>
            </a:solidFill>
            <a:ln w="2844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7" name=""/>
            <p:cNvSpPr/>
            <p:nvPr/>
          </p:nvSpPr>
          <p:spPr>
            <a:xfrm>
              <a:off x="204840" y="4917960"/>
              <a:ext cx="8864640" cy="1185840"/>
            </a:xfrm>
            <a:custGeom>
              <a:avLst/>
              <a:gdLst/>
              <a:ahLst/>
              <a:rect l="l" t="t" r="r" b="b"/>
              <a:pathLst>
                <a:path w="5028" h="786">
                  <a:moveTo>
                    <a:pt x="12" y="414"/>
                  </a:moveTo>
                  <a:cubicBezTo>
                    <a:pt x="120" y="221"/>
                    <a:pt x="591" y="0"/>
                    <a:pt x="1051" y="21"/>
                  </a:cubicBezTo>
                  <a:cubicBezTo>
                    <a:pt x="1511" y="42"/>
                    <a:pt x="2271" y="522"/>
                    <a:pt x="2770" y="542"/>
                  </a:cubicBezTo>
                  <a:cubicBezTo>
                    <a:pt x="3269" y="562"/>
                    <a:pt x="3672" y="128"/>
                    <a:pt x="4048" y="139"/>
                  </a:cubicBezTo>
                  <a:cubicBezTo>
                    <a:pt x="4440" y="154"/>
                    <a:pt x="4855" y="549"/>
                    <a:pt x="5028" y="607"/>
                  </a:cubicBezTo>
                  <a:lnTo>
                    <a:pt x="5028" y="786"/>
                  </a:lnTo>
                  <a:cubicBezTo>
                    <a:pt x="5028" y="786"/>
                    <a:pt x="2487" y="742"/>
                    <a:pt x="0" y="742"/>
                  </a:cubicBezTo>
                  <a:lnTo>
                    <a:pt x="12" y="414"/>
                  </a:lnTo>
                  <a:close/>
                </a:path>
              </a:pathLst>
            </a:custGeom>
            <a:solidFill>
              <a:srgbClr val="b5c3fd">
                <a:alpha val="50000"/>
              </a:srgbClr>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8" name=""/>
            <p:cNvSpPr/>
            <p:nvPr/>
          </p:nvSpPr>
          <p:spPr>
            <a:xfrm>
              <a:off x="168120" y="5943600"/>
              <a:ext cx="190800" cy="182520"/>
            </a:xfrm>
            <a:prstGeom prst="ellipse">
              <a:avLst/>
            </a:pr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9" name=""/>
            <p:cNvSpPr/>
            <p:nvPr/>
          </p:nvSpPr>
          <p:spPr>
            <a:xfrm>
              <a:off x="2103480" y="5943600"/>
              <a:ext cx="191880" cy="182520"/>
            </a:xfrm>
            <a:prstGeom prst="ellipse">
              <a:avLst/>
            </a:pr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0" name=""/>
            <p:cNvSpPr/>
            <p:nvPr/>
          </p:nvSpPr>
          <p:spPr>
            <a:xfrm flipV="1">
              <a:off x="236520" y="6046920"/>
              <a:ext cx="88311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5151" name=""/>
            <p:cNvGrpSpPr/>
            <p:nvPr/>
          </p:nvGrpSpPr>
          <p:grpSpPr>
            <a:xfrm>
              <a:off x="214200" y="2822400"/>
              <a:ext cx="8813880" cy="3224520"/>
              <a:chOff x="214200" y="2822400"/>
              <a:chExt cx="8813880" cy="3224520"/>
            </a:xfrm>
          </p:grpSpPr>
          <p:sp>
            <p:nvSpPr>
              <p:cNvPr id="5152" name=""/>
              <p:cNvSpPr/>
              <p:nvPr/>
            </p:nvSpPr>
            <p:spPr>
              <a:xfrm>
                <a:off x="214200" y="2822400"/>
                <a:ext cx="1978200" cy="32245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3" name=""/>
              <p:cNvSpPr/>
              <p:nvPr/>
            </p:nvSpPr>
            <p:spPr>
              <a:xfrm>
                <a:off x="2192400" y="2822400"/>
                <a:ext cx="4843440" cy="32245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4" name=""/>
              <p:cNvSpPr/>
              <p:nvPr/>
            </p:nvSpPr>
            <p:spPr>
              <a:xfrm>
                <a:off x="7035840" y="2822400"/>
                <a:ext cx="1992240" cy="32245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5" name=""/>
            <p:cNvSpPr/>
            <p:nvPr/>
          </p:nvSpPr>
          <p:spPr>
            <a:xfrm>
              <a:off x="4411800" y="3078000"/>
              <a:ext cx="98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RM</a:t>
              </a:r>
              <a:endParaRPr b="0" lang="en-US" sz="2800" spc="-1" strike="noStrike">
                <a:solidFill>
                  <a:srgbClr val="000000"/>
                </a:solidFill>
                <a:latin typeface="Arial"/>
              </a:endParaRPr>
            </a:p>
          </p:txBody>
        </p:sp>
        <p:sp>
          <p:nvSpPr>
            <p:cNvPr id="5156" name=""/>
            <p:cNvSpPr/>
            <p:nvPr/>
          </p:nvSpPr>
          <p:spPr>
            <a:xfrm>
              <a:off x="4441680" y="5424480"/>
              <a:ext cx="929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LM</a:t>
              </a:r>
              <a:endParaRPr b="0" lang="en-US" sz="2800" spc="-1" strike="noStrike">
                <a:solidFill>
                  <a:srgbClr val="000000"/>
                </a:solidFill>
                <a:latin typeface="Arial"/>
              </a:endParaRPr>
            </a:p>
          </p:txBody>
        </p:sp>
        <p:sp>
          <p:nvSpPr>
            <p:cNvPr id="5157" name=""/>
            <p:cNvSpPr/>
            <p:nvPr/>
          </p:nvSpPr>
          <p:spPr>
            <a:xfrm>
              <a:off x="1352520" y="3881520"/>
              <a:ext cx="7602480" cy="1974600"/>
            </a:xfrm>
            <a:custGeom>
              <a:avLst/>
              <a:gdLst/>
              <a:ahLst/>
              <a:rect l="l" t="t" r="r" b="b"/>
              <a:pathLst>
                <a:path w="4209" h="1170">
                  <a:moveTo>
                    <a:pt x="2065" y="30"/>
                  </a:moveTo>
                  <a:cubicBezTo>
                    <a:pt x="2813" y="0"/>
                    <a:pt x="3858" y="736"/>
                    <a:pt x="4209" y="910"/>
                  </a:cubicBezTo>
                  <a:lnTo>
                    <a:pt x="4209" y="1170"/>
                  </a:lnTo>
                  <a:cubicBezTo>
                    <a:pt x="3618" y="866"/>
                    <a:pt x="3722" y="856"/>
                    <a:pt x="3399" y="771"/>
                  </a:cubicBezTo>
                  <a:cubicBezTo>
                    <a:pt x="2946" y="653"/>
                    <a:pt x="2681" y="958"/>
                    <a:pt x="2035" y="898"/>
                  </a:cubicBezTo>
                  <a:cubicBezTo>
                    <a:pt x="1388" y="837"/>
                    <a:pt x="820" y="126"/>
                    <a:pt x="0" y="285"/>
                  </a:cubicBezTo>
                  <a:cubicBezTo>
                    <a:pt x="879" y="11"/>
                    <a:pt x="1317" y="60"/>
                    <a:pt x="2065" y="30"/>
                  </a:cubicBezTo>
                  <a:close/>
                </a:path>
              </a:pathLst>
            </a:custGeom>
            <a:solidFill>
              <a:srgbClr val="cc0000">
                <a:alpha val="50000"/>
              </a:srgbClr>
            </a:solidFill>
            <a:ln w="2844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8" name=""/>
            <p:cNvSpPr/>
            <p:nvPr/>
          </p:nvSpPr>
          <p:spPr>
            <a:xfrm>
              <a:off x="6978600" y="5959440"/>
              <a:ext cx="192240" cy="181080"/>
            </a:xfrm>
            <a:prstGeom prst="ellipse">
              <a:avLst/>
            </a:pr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9" name=""/>
            <p:cNvSpPr/>
            <p:nvPr/>
          </p:nvSpPr>
          <p:spPr>
            <a:xfrm>
              <a:off x="4422600" y="4159080"/>
              <a:ext cx="968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M</a:t>
              </a:r>
              <a:endParaRPr b="0" lang="en-US" sz="2800" spc="-1" strike="noStrike">
                <a:solidFill>
                  <a:srgbClr val="000000"/>
                </a:solidFill>
                <a:latin typeface="Arial"/>
              </a:endParaRPr>
            </a:p>
          </p:txBody>
        </p:sp>
        <p:sp>
          <p:nvSpPr>
            <p:cNvPr id="5160" name=""/>
            <p:cNvSpPr/>
            <p:nvPr/>
          </p:nvSpPr>
          <p:spPr>
            <a:xfrm>
              <a:off x="8951760" y="5956200"/>
              <a:ext cx="192240" cy="182520"/>
            </a:xfrm>
            <a:prstGeom prst="ellipse">
              <a:avLst/>
            </a:pr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61" name=""/>
            <p:cNvGrpSpPr/>
            <p:nvPr/>
          </p:nvGrpSpPr>
          <p:grpSpPr>
            <a:xfrm>
              <a:off x="2308320" y="827280"/>
              <a:ext cx="4581360" cy="1089000"/>
              <a:chOff x="2308320" y="827280"/>
              <a:chExt cx="4581360" cy="1089000"/>
            </a:xfrm>
          </p:grpSpPr>
          <p:sp>
            <p:nvSpPr>
              <p:cNvPr id="5162" name=""/>
              <p:cNvSpPr/>
              <p:nvPr/>
            </p:nvSpPr>
            <p:spPr>
              <a:xfrm>
                <a:off x="3378240" y="981000"/>
                <a:ext cx="2143080" cy="216000"/>
              </a:xfrm>
              <a:custGeom>
                <a:avLst/>
                <a:gdLst>
                  <a:gd name="textAreaLeft" fmla="*/ 0 w 2143080"/>
                  <a:gd name="textAreaRight" fmla="*/ 2143440 w 2143080"/>
                  <a:gd name="textAreaTop" fmla="*/ 0 h 216000"/>
                  <a:gd name="textAreaBottom" fmla="*/ 216360 h 2160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nvolvimento</a:t>
                </a:r>
                <a:endParaRPr b="0" lang="en-US" sz="1400" spc="-1" strike="noStrike">
                  <a:solidFill>
                    <a:srgbClr val="000000"/>
                  </a:solidFill>
                  <a:latin typeface="Arial"/>
                </a:endParaRPr>
              </a:p>
            </p:txBody>
          </p:sp>
          <p:sp>
            <p:nvSpPr>
              <p:cNvPr id="5163" name=""/>
              <p:cNvSpPr/>
              <p:nvPr/>
            </p:nvSpPr>
            <p:spPr>
              <a:xfrm>
                <a:off x="5508720" y="982800"/>
                <a:ext cx="1371600" cy="215640"/>
              </a:xfrm>
              <a:custGeom>
                <a:avLst/>
                <a:gdLst>
                  <a:gd name="textAreaLeft" fmla="*/ 0 w 1371600"/>
                  <a:gd name="textAreaRight" fmla="*/ 1371960 w 1371600"/>
                  <a:gd name="textAreaTop" fmla="*/ 0 h 215640"/>
                  <a:gd name="textAreaBottom" fmla="*/ 216000 h 2156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ós</a:t>
                </a:r>
                <a:endParaRPr b="0" lang="en-US" sz="1400" spc="-1" strike="noStrike">
                  <a:solidFill>
                    <a:srgbClr val="000000"/>
                  </a:solidFill>
                  <a:latin typeface="Arial"/>
                </a:endParaRPr>
              </a:p>
            </p:txBody>
          </p:sp>
          <p:sp>
            <p:nvSpPr>
              <p:cNvPr id="5164" name=""/>
              <p:cNvSpPr/>
              <p:nvPr/>
            </p:nvSpPr>
            <p:spPr>
              <a:xfrm>
                <a:off x="6470640" y="1042920"/>
                <a:ext cx="135000" cy="8424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5165" name=""/>
              <p:cNvCxnSpPr>
                <a:stCxn id="5163" idx="0"/>
                <a:endCxn id="5166" idx="0"/>
              </p:cNvCxnSpPr>
              <p:nvPr/>
            </p:nvCxnSpPr>
            <p:spPr>
              <a:xfrm rot="5400000">
                <a:off x="4493520" y="-684360"/>
                <a:ext cx="3600" cy="3337560"/>
              </a:xfrm>
              <a:prstGeom prst="bentConnector3">
                <a:avLst>
                  <a:gd name="adj1" fmla="val -4800000"/>
                </a:avLst>
              </a:prstGeom>
              <a:ln w="19080">
                <a:solidFill>
                  <a:srgbClr val="000000"/>
                </a:solidFill>
                <a:miter/>
                <a:tailEnd len="med" type="triangle" w="med"/>
              </a:ln>
            </p:spPr>
          </p:cxnSp>
          <p:sp>
            <p:nvSpPr>
              <p:cNvPr id="5166" name=""/>
              <p:cNvSpPr/>
              <p:nvPr/>
            </p:nvSpPr>
            <p:spPr>
              <a:xfrm>
                <a:off x="2308320" y="985320"/>
                <a:ext cx="1098360" cy="213840"/>
              </a:xfrm>
              <a:custGeom>
                <a:avLst/>
                <a:gdLst>
                  <a:gd name="textAreaLeft" fmla="*/ 0 w 1098360"/>
                  <a:gd name="textAreaRight" fmla="*/ 1098720 w 1098360"/>
                  <a:gd name="textAreaTop" fmla="*/ 0 h 213840"/>
                  <a:gd name="textAreaBottom" fmla="*/ 214200 h 21384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é</a:t>
                </a:r>
                <a:endParaRPr b="0" lang="en-US" sz="1400" spc="-1" strike="noStrike">
                  <a:solidFill>
                    <a:srgbClr val="000000"/>
                  </a:solidFill>
                  <a:latin typeface="Arial"/>
                </a:endParaRPr>
              </a:p>
            </p:txBody>
          </p:sp>
          <p:sp>
            <p:nvSpPr>
              <p:cNvPr id="5167" name=""/>
              <p:cNvSpPr/>
              <p:nvPr/>
            </p:nvSpPr>
            <p:spPr>
              <a:xfrm>
                <a:off x="2316240" y="1251000"/>
                <a:ext cx="689040" cy="571320"/>
              </a:xfrm>
              <a:custGeom>
                <a:avLst/>
                <a:gdLst>
                  <a:gd name="textAreaLeft" fmla="*/ 0 w 689040"/>
                  <a:gd name="textAreaRight" fmla="*/ 689400 w 689040"/>
                  <a:gd name="textAreaTop" fmla="*/ 0 h 571320"/>
                  <a:gd name="textAreaBottom" fmla="*/ 571680 h 57132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8" name=""/>
              <p:cNvGrpSpPr/>
              <p:nvPr/>
            </p:nvGrpSpPr>
            <p:grpSpPr>
              <a:xfrm>
                <a:off x="5407200" y="1236600"/>
                <a:ext cx="1482480" cy="679680"/>
                <a:chOff x="5407200" y="1236600"/>
                <a:chExt cx="1482480" cy="679680"/>
              </a:xfrm>
            </p:grpSpPr>
            <p:sp>
              <p:nvSpPr>
                <p:cNvPr id="5169" name=""/>
                <p:cNvSpPr/>
                <p:nvPr/>
              </p:nvSpPr>
              <p:spPr>
                <a:xfrm>
                  <a:off x="5407200" y="1236600"/>
                  <a:ext cx="649080" cy="604800"/>
                </a:xfrm>
                <a:custGeom>
                  <a:avLst/>
                  <a:gdLst>
                    <a:gd name="textAreaLeft" fmla="*/ 0 w 649080"/>
                    <a:gd name="textAreaRight" fmla="*/ 649440 w 649080"/>
                    <a:gd name="textAreaTop" fmla="*/ 0 h 604800"/>
                    <a:gd name="textAreaBottom" fmla="*/ 605160 h 6048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5170" name=""/>
                <p:cNvSpPr/>
                <p:nvPr/>
              </p:nvSpPr>
              <p:spPr>
                <a:xfrm>
                  <a:off x="6056280" y="1236600"/>
                  <a:ext cx="655560" cy="604800"/>
                </a:xfrm>
                <a:custGeom>
                  <a:avLst/>
                  <a:gdLst>
                    <a:gd name="textAreaLeft" fmla="*/ 0 w 655560"/>
                    <a:gd name="textAreaRight" fmla="*/ 655920 w 655560"/>
                    <a:gd name="textAreaTop" fmla="*/ 0 h 604800"/>
                    <a:gd name="textAreaBottom" fmla="*/ 605160 h 6048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5171" name=""/>
                <p:cNvSpPr/>
                <p:nvPr/>
              </p:nvSpPr>
              <p:spPr>
                <a:xfrm>
                  <a:off x="5451480" y="1282680"/>
                  <a:ext cx="654120" cy="604800"/>
                </a:xfrm>
                <a:custGeom>
                  <a:avLst/>
                  <a:gdLst>
                    <a:gd name="textAreaLeft" fmla="*/ 0 w 654120"/>
                    <a:gd name="textAreaRight" fmla="*/ 654480 w 654120"/>
                    <a:gd name="textAreaTop" fmla="*/ 0 h 604800"/>
                    <a:gd name="textAreaBottom" fmla="*/ 605160 h 6048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5172" name=""/>
                <p:cNvSpPr/>
                <p:nvPr/>
              </p:nvSpPr>
              <p:spPr>
                <a:xfrm>
                  <a:off x="6114960" y="1282680"/>
                  <a:ext cx="655560" cy="604800"/>
                </a:xfrm>
                <a:custGeom>
                  <a:avLst/>
                  <a:gdLst>
                    <a:gd name="textAreaLeft" fmla="*/ 0 w 655560"/>
                    <a:gd name="textAreaRight" fmla="*/ 655920 w 655560"/>
                    <a:gd name="textAreaTop" fmla="*/ 0 h 604800"/>
                    <a:gd name="textAreaBottom" fmla="*/ 605160 h 6048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5173" name=""/>
                <p:cNvSpPr/>
                <p:nvPr/>
              </p:nvSpPr>
              <p:spPr>
                <a:xfrm>
                  <a:off x="6197760" y="1311120"/>
                  <a:ext cx="691920" cy="605160"/>
                </a:xfrm>
                <a:custGeom>
                  <a:avLst/>
                  <a:gdLst>
                    <a:gd name="textAreaLeft" fmla="*/ 0 w 691920"/>
                    <a:gd name="textAreaRight" fmla="*/ 692280 w 691920"/>
                    <a:gd name="textAreaTop" fmla="*/ 0 h 605160"/>
                    <a:gd name="textAreaBottom" fmla="*/ 605520 h 60516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4" name=""/>
                <p:cNvSpPr/>
                <p:nvPr/>
              </p:nvSpPr>
              <p:spPr>
                <a:xfrm>
                  <a:off x="5502240" y="1311120"/>
                  <a:ext cx="722520" cy="605160"/>
                </a:xfrm>
                <a:custGeom>
                  <a:avLst/>
                  <a:gdLst>
                    <a:gd name="textAreaLeft" fmla="*/ 0 w 722520"/>
                    <a:gd name="textAreaRight" fmla="*/ 722880 w 722520"/>
                    <a:gd name="textAreaTop" fmla="*/ 0 h 605160"/>
                    <a:gd name="textAreaBottom" fmla="*/ 605520 h 60516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5" name=""/>
              <p:cNvGrpSpPr/>
              <p:nvPr/>
            </p:nvGrpSpPr>
            <p:grpSpPr>
              <a:xfrm>
                <a:off x="3467160" y="1228680"/>
                <a:ext cx="1861560" cy="295200"/>
                <a:chOff x="3467160" y="1228680"/>
                <a:chExt cx="1861560" cy="295200"/>
              </a:xfrm>
            </p:grpSpPr>
            <p:sp>
              <p:nvSpPr>
                <p:cNvPr id="5176" name=""/>
                <p:cNvSpPr/>
                <p:nvPr/>
              </p:nvSpPr>
              <p:spPr>
                <a:xfrm flipV="1">
                  <a:off x="3467160" y="1228680"/>
                  <a:ext cx="369360" cy="295200"/>
                </a:xfrm>
                <a:custGeom>
                  <a:avLst/>
                  <a:gdLst>
                    <a:gd name="textAreaLeft" fmla="*/ 0 w 369360"/>
                    <a:gd name="textAreaRight" fmla="*/ 369720 w 369360"/>
                    <a:gd name="textAreaTop" fmla="*/ 0 h 295200"/>
                    <a:gd name="textAreaBottom" fmla="*/ 295200 h 2952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7" name=""/>
                <p:cNvSpPr/>
                <p:nvPr/>
              </p:nvSpPr>
              <p:spPr>
                <a:xfrm flipV="1">
                  <a:off x="3839760" y="1228680"/>
                  <a:ext cx="369360" cy="295200"/>
                </a:xfrm>
                <a:custGeom>
                  <a:avLst/>
                  <a:gdLst>
                    <a:gd name="textAreaLeft" fmla="*/ 0 w 369360"/>
                    <a:gd name="textAreaRight" fmla="*/ 369720 w 369360"/>
                    <a:gd name="textAreaTop" fmla="*/ 0 h 295200"/>
                    <a:gd name="textAreaBottom" fmla="*/ 295200 h 2952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8" name=""/>
                <p:cNvSpPr/>
                <p:nvPr/>
              </p:nvSpPr>
              <p:spPr>
                <a:xfrm flipV="1">
                  <a:off x="4213440" y="1228680"/>
                  <a:ext cx="369360" cy="295200"/>
                </a:xfrm>
                <a:custGeom>
                  <a:avLst/>
                  <a:gdLst>
                    <a:gd name="textAreaLeft" fmla="*/ 0 w 369360"/>
                    <a:gd name="textAreaRight" fmla="*/ 369720 w 369360"/>
                    <a:gd name="textAreaTop" fmla="*/ 0 h 295200"/>
                    <a:gd name="textAreaBottom" fmla="*/ 295200 h 2952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9" name=""/>
                <p:cNvSpPr/>
                <p:nvPr/>
              </p:nvSpPr>
              <p:spPr>
                <a:xfrm flipV="1">
                  <a:off x="4586040" y="1228680"/>
                  <a:ext cx="369360" cy="295200"/>
                </a:xfrm>
                <a:custGeom>
                  <a:avLst/>
                  <a:gdLst>
                    <a:gd name="textAreaLeft" fmla="*/ 0 w 369360"/>
                    <a:gd name="textAreaRight" fmla="*/ 369720 w 369360"/>
                    <a:gd name="textAreaTop" fmla="*/ 0 h 295200"/>
                    <a:gd name="textAreaBottom" fmla="*/ 295200 h 2952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0" name=""/>
                <p:cNvSpPr/>
                <p:nvPr/>
              </p:nvSpPr>
              <p:spPr>
                <a:xfrm flipV="1">
                  <a:off x="4959360" y="1228680"/>
                  <a:ext cx="369360" cy="295200"/>
                </a:xfrm>
                <a:custGeom>
                  <a:avLst/>
                  <a:gdLst>
                    <a:gd name="textAreaLeft" fmla="*/ 0 w 369360"/>
                    <a:gd name="textAreaRight" fmla="*/ 369720 w 369360"/>
                    <a:gd name="textAreaTop" fmla="*/ 0 h 295200"/>
                    <a:gd name="textAreaBottom" fmla="*/ 295200 h 2952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1" name=""/>
              <p:cNvGrpSpPr/>
              <p:nvPr/>
            </p:nvGrpSpPr>
            <p:grpSpPr>
              <a:xfrm>
                <a:off x="3546360" y="1337760"/>
                <a:ext cx="1860480" cy="297000"/>
                <a:chOff x="3546360" y="1337760"/>
                <a:chExt cx="1860480" cy="297000"/>
              </a:xfrm>
            </p:grpSpPr>
            <p:sp>
              <p:nvSpPr>
                <p:cNvPr id="5182" name=""/>
                <p:cNvSpPr/>
                <p:nvPr/>
              </p:nvSpPr>
              <p:spPr>
                <a:xfrm flipV="1">
                  <a:off x="3546360" y="1337400"/>
                  <a:ext cx="369000" cy="297000"/>
                </a:xfrm>
                <a:custGeom>
                  <a:avLst/>
                  <a:gdLst>
                    <a:gd name="textAreaLeft" fmla="*/ 0 w 369000"/>
                    <a:gd name="textAreaRight" fmla="*/ 369360 w 36900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3" name=""/>
                <p:cNvSpPr/>
                <p:nvPr/>
              </p:nvSpPr>
              <p:spPr>
                <a:xfrm flipV="1">
                  <a:off x="3918600" y="1337400"/>
                  <a:ext cx="369000" cy="297000"/>
                </a:xfrm>
                <a:custGeom>
                  <a:avLst/>
                  <a:gdLst>
                    <a:gd name="textAreaLeft" fmla="*/ 0 w 369000"/>
                    <a:gd name="textAreaRight" fmla="*/ 369360 w 36900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4" name=""/>
                <p:cNvSpPr/>
                <p:nvPr/>
              </p:nvSpPr>
              <p:spPr>
                <a:xfrm flipV="1">
                  <a:off x="4292280" y="1337400"/>
                  <a:ext cx="369000" cy="297000"/>
                </a:xfrm>
                <a:custGeom>
                  <a:avLst/>
                  <a:gdLst>
                    <a:gd name="textAreaLeft" fmla="*/ 0 w 369000"/>
                    <a:gd name="textAreaRight" fmla="*/ 369360 w 36900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5" name=""/>
                <p:cNvSpPr/>
                <p:nvPr/>
              </p:nvSpPr>
              <p:spPr>
                <a:xfrm flipV="1">
                  <a:off x="4664520" y="1337400"/>
                  <a:ext cx="369000" cy="297000"/>
                </a:xfrm>
                <a:custGeom>
                  <a:avLst/>
                  <a:gdLst>
                    <a:gd name="textAreaLeft" fmla="*/ 0 w 369000"/>
                    <a:gd name="textAreaRight" fmla="*/ 369360 w 36900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6" name=""/>
                <p:cNvSpPr/>
                <p:nvPr/>
              </p:nvSpPr>
              <p:spPr>
                <a:xfrm flipV="1">
                  <a:off x="5037840" y="1337400"/>
                  <a:ext cx="369000" cy="297000"/>
                </a:xfrm>
                <a:custGeom>
                  <a:avLst/>
                  <a:gdLst>
                    <a:gd name="textAreaLeft" fmla="*/ 0 w 369000"/>
                    <a:gd name="textAreaRight" fmla="*/ 369360 w 36900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7" name=""/>
              <p:cNvGrpSpPr/>
              <p:nvPr/>
            </p:nvGrpSpPr>
            <p:grpSpPr>
              <a:xfrm>
                <a:off x="3624120" y="1449000"/>
                <a:ext cx="1861920" cy="297000"/>
                <a:chOff x="3624120" y="1449000"/>
                <a:chExt cx="1861920" cy="297000"/>
              </a:xfrm>
            </p:grpSpPr>
            <p:sp>
              <p:nvSpPr>
                <p:cNvPr id="5188" name=""/>
                <p:cNvSpPr/>
                <p:nvPr/>
              </p:nvSpPr>
              <p:spPr>
                <a:xfrm flipV="1">
                  <a:off x="3624120" y="1448640"/>
                  <a:ext cx="369360" cy="297000"/>
                </a:xfrm>
                <a:custGeom>
                  <a:avLst/>
                  <a:gdLst>
                    <a:gd name="textAreaLeft" fmla="*/ 0 w 369360"/>
                    <a:gd name="textAreaRight" fmla="*/ 369720 w 36936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9" name=""/>
                <p:cNvSpPr/>
                <p:nvPr/>
              </p:nvSpPr>
              <p:spPr>
                <a:xfrm flipV="1">
                  <a:off x="3996720" y="1448640"/>
                  <a:ext cx="369360" cy="297000"/>
                </a:xfrm>
                <a:custGeom>
                  <a:avLst/>
                  <a:gdLst>
                    <a:gd name="textAreaLeft" fmla="*/ 0 w 369360"/>
                    <a:gd name="textAreaRight" fmla="*/ 369720 w 36936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0" name=""/>
                <p:cNvSpPr/>
                <p:nvPr/>
              </p:nvSpPr>
              <p:spPr>
                <a:xfrm flipV="1">
                  <a:off x="4370400" y="1448640"/>
                  <a:ext cx="369360" cy="297000"/>
                </a:xfrm>
                <a:custGeom>
                  <a:avLst/>
                  <a:gdLst>
                    <a:gd name="textAreaLeft" fmla="*/ 0 w 369360"/>
                    <a:gd name="textAreaRight" fmla="*/ 369720 w 36936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1" name=""/>
                <p:cNvSpPr/>
                <p:nvPr/>
              </p:nvSpPr>
              <p:spPr>
                <a:xfrm flipV="1">
                  <a:off x="4743360" y="1448640"/>
                  <a:ext cx="369360" cy="297000"/>
                </a:xfrm>
                <a:custGeom>
                  <a:avLst/>
                  <a:gdLst>
                    <a:gd name="textAreaLeft" fmla="*/ 0 w 369360"/>
                    <a:gd name="textAreaRight" fmla="*/ 369720 w 36936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2" name=""/>
                <p:cNvSpPr/>
                <p:nvPr/>
              </p:nvSpPr>
              <p:spPr>
                <a:xfrm flipV="1">
                  <a:off x="5116680" y="1448640"/>
                  <a:ext cx="369360" cy="297000"/>
                </a:xfrm>
                <a:custGeom>
                  <a:avLst/>
                  <a:gdLst>
                    <a:gd name="textAreaLeft" fmla="*/ 0 w 369360"/>
                    <a:gd name="textAreaRight" fmla="*/ 369720 w 369360"/>
                    <a:gd name="textAreaTop" fmla="*/ -360 h 297000"/>
                    <a:gd name="textAreaBottom" fmla="*/ 297000 h 2970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3" name=""/>
              <p:cNvGrpSpPr/>
              <p:nvPr/>
            </p:nvGrpSpPr>
            <p:grpSpPr>
              <a:xfrm>
                <a:off x="3029040" y="1257480"/>
                <a:ext cx="491760" cy="488880"/>
                <a:chOff x="3029040" y="1257480"/>
                <a:chExt cx="491760" cy="488880"/>
              </a:xfrm>
            </p:grpSpPr>
            <p:sp>
              <p:nvSpPr>
                <p:cNvPr id="5194" name=""/>
                <p:cNvSpPr/>
                <p:nvPr/>
              </p:nvSpPr>
              <p:spPr>
                <a:xfrm>
                  <a:off x="3029040" y="1257480"/>
                  <a:ext cx="334440" cy="266760"/>
                </a:xfrm>
                <a:custGeom>
                  <a:avLst/>
                  <a:gdLst>
                    <a:gd name="textAreaLeft" fmla="*/ 0 w 334440"/>
                    <a:gd name="textAreaRight" fmla="*/ 334800 w 334440"/>
                    <a:gd name="textAreaTop" fmla="*/ 0 h 266760"/>
                    <a:gd name="textAreaBottom" fmla="*/ 266760 h 2667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5" name=""/>
                <p:cNvSpPr/>
                <p:nvPr/>
              </p:nvSpPr>
              <p:spPr>
                <a:xfrm>
                  <a:off x="3107880" y="1368360"/>
                  <a:ext cx="334440" cy="267120"/>
                </a:xfrm>
                <a:custGeom>
                  <a:avLst/>
                  <a:gdLst>
                    <a:gd name="textAreaLeft" fmla="*/ 0 w 334440"/>
                    <a:gd name="textAreaRight" fmla="*/ 334800 w 334440"/>
                    <a:gd name="textAreaTop" fmla="*/ 0 h 267120"/>
                    <a:gd name="textAreaBottom" fmla="*/ 267480 h 26712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6" name=""/>
                <p:cNvSpPr/>
                <p:nvPr/>
              </p:nvSpPr>
              <p:spPr>
                <a:xfrm>
                  <a:off x="3186720" y="1479240"/>
                  <a:ext cx="334080" cy="267120"/>
                </a:xfrm>
                <a:custGeom>
                  <a:avLst/>
                  <a:gdLst>
                    <a:gd name="textAreaLeft" fmla="*/ 0 w 334080"/>
                    <a:gd name="textAreaRight" fmla="*/ 334440 w 334080"/>
                    <a:gd name="textAreaTop" fmla="*/ 0 h 267120"/>
                    <a:gd name="textAreaBottom" fmla="*/ 267480 h 26712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197" name=""/>
          <p:cNvSpPr/>
          <p:nvPr/>
        </p:nvSpPr>
        <p:spPr>
          <a:xfrm>
            <a:off x="6931800" y="1125360"/>
            <a:ext cx="2217600" cy="641520"/>
          </a:xfrm>
          <a:prstGeom prst="rect">
            <a:avLst/>
          </a:prstGeom>
          <a:noFill/>
          <a:ln w="0">
            <a:noFill/>
          </a:ln>
        </p:spPr>
        <p:style>
          <a:lnRef idx="0"/>
          <a:fillRef idx="0"/>
          <a:effectRef idx="0"/>
          <a:fontRef idx="minor"/>
        </p:style>
        <p:txBody>
          <a:bodyPr wrap="none"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RM: customer relationship m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CM: supply chain m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LM: product life-cycle m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5199"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ceitos de modelagem de process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o modelo</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papéis principais das pessoas envolvidas no PDP</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as macro-fase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visão de fases (gate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étodos e ferramentas de desenvolvimento de produtos</a:t>
            </a:r>
            <a:endParaRPr b="0" lang="en-US" sz="2400" spc="-1" strike="noStrike">
              <a:solidFill>
                <a:srgbClr val="000000"/>
              </a:solidFill>
              <a:latin typeface="Arial"/>
            </a:endParaRPr>
          </a:p>
          <a:p>
            <a:pPr marL="343080" indent="-343080">
              <a:lnSpc>
                <a:spcPct val="11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Arial"/>
              </a:rPr>
              <a:t>Indicadores de desempenho do PDP</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ceiros do desenvolvimento colaborativo de produt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Áreas de conhecimento</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stão do conhecimento do PDP</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ndo o modelo</a:t>
            </a:r>
            <a:endParaRPr b="0" lang="en-US" sz="2400" spc="-1" strike="noStrike">
              <a:solidFill>
                <a:srgbClr val="000000"/>
              </a:solidFill>
              <a:latin typeface="Arial"/>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Uso de indicadores de desempenho no PDP em %</a:t>
            </a:r>
            <a:endParaRPr b="0" lang="en-US" sz="2400" spc="-1" strike="noStrike">
              <a:solidFill>
                <a:srgbClr val="000096"/>
              </a:solidFill>
              <a:latin typeface="Arial"/>
            </a:endParaRPr>
          </a:p>
        </p:txBody>
      </p:sp>
      <p:graphicFrame>
        <p:nvGraphicFramePr>
          <p:cNvPr id="5201" name=""/>
          <p:cNvGraphicFramePr/>
          <p:nvPr/>
        </p:nvGraphicFramePr>
        <p:xfrm>
          <a:off x="0" y="1262160"/>
          <a:ext cx="9144000" cy="4638600"/>
        </p:xfrm>
        <a:graphic>
          <a:graphicData uri="http://schemas.openxmlformats.org/presentationml/2006/ole">
            <p:oleObj progId="Excel.Sheet.12" r:id="rId1" spid="">
              <p:embed/>
              <p:pic>
                <p:nvPicPr>
                  <p:cNvPr id="5202" name="" descr=""/>
                  <p:cNvPicPr/>
                  <p:nvPr/>
                </p:nvPicPr>
                <p:blipFill>
                  <a:blip r:embed="rId2"/>
                  <a:stretch/>
                </p:blipFill>
                <p:spPr>
                  <a:xfrm>
                    <a:off x="0" y="1262160"/>
                    <a:ext cx="9144000" cy="4638600"/>
                  </a:xfrm>
                  <a:prstGeom prst="rect">
                    <a:avLst/>
                  </a:prstGeom>
                  <a:ln w="0">
                    <a:noFill/>
                  </a:ln>
                </p:spPr>
              </p:pic>
            </p:oleObj>
          </a:graphicData>
        </a:graphic>
      </p:graphicFrame>
      <p:sp>
        <p:nvSpPr>
          <p:cNvPr id="5203" name=""/>
          <p:cNvSpPr/>
          <p:nvPr/>
        </p:nvSpPr>
        <p:spPr>
          <a:xfrm>
            <a:off x="122400" y="6073920"/>
            <a:ext cx="8783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Arial"/>
              </a:rPr>
              <a:t>Fonte.</a:t>
            </a:r>
            <a:r>
              <a:rPr b="0" lang="pt-BR" sz="2000" spc="-1" strike="noStrike">
                <a:solidFill>
                  <a:srgbClr val="000000"/>
                </a:solidFill>
                <a:latin typeface="Arial"/>
              </a:rPr>
              <a:t> American Productivity and Quality Center (APQC), Measuring Reserach and Development (R&amp;D) Productivity Webseminar, 3/6/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5205"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ceitos de modelagem de process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o modelo</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papéis principais das pessoas envolvidas no PDP</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geral das macro-fase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visão de fases (gate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étodos e ferramentas de desenvolvimento de produt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dicadores de desempenho do PDP</a:t>
            </a:r>
            <a:endParaRPr b="0" lang="en-US" sz="2400" spc="-1" strike="noStrike">
              <a:solidFill>
                <a:srgbClr val="000000"/>
              </a:solidFill>
              <a:latin typeface="Arial"/>
            </a:endParaRPr>
          </a:p>
          <a:p>
            <a:pPr marL="343080" indent="-343080">
              <a:lnSpc>
                <a:spcPct val="11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Arial"/>
              </a:rPr>
              <a:t>Parceiros do desenvolvimento colaborativo de produt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Áreas de conhecimento</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stão do conhecimento do PDP</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ndo o modelo</a:t>
            </a:r>
            <a:endParaRPr b="0" lang="en-US" sz="2400" spc="-1" strike="noStrike">
              <a:solidFill>
                <a:srgbClr val="000000"/>
              </a:solidFill>
              <a:latin typeface="Arial"/>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os de parceiros potenciais no PDP</a:t>
            </a:r>
            <a:endParaRPr b="0" lang="en-US" sz="2400" spc="-1" strike="noStrike">
              <a:solidFill>
                <a:srgbClr val="000096"/>
              </a:solidFill>
              <a:latin typeface="Arial"/>
            </a:endParaRPr>
          </a:p>
        </p:txBody>
      </p:sp>
      <p:sp>
        <p:nvSpPr>
          <p:cNvPr id="5207" name=""/>
          <p:cNvSpPr/>
          <p:nvPr/>
        </p:nvSpPr>
        <p:spPr>
          <a:xfrm>
            <a:off x="5161320" y="5826240"/>
            <a:ext cx="1310760" cy="54900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nece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serviços</a:t>
            </a:r>
            <a:endParaRPr b="0" lang="en-US" sz="1800" spc="-1" strike="noStrike">
              <a:solidFill>
                <a:srgbClr val="000000"/>
              </a:solidFill>
              <a:latin typeface="Arial"/>
            </a:endParaRPr>
          </a:p>
        </p:txBody>
      </p:sp>
      <p:sp>
        <p:nvSpPr>
          <p:cNvPr id="5208" name=""/>
          <p:cNvSpPr/>
          <p:nvPr/>
        </p:nvSpPr>
        <p:spPr>
          <a:xfrm>
            <a:off x="3823920" y="782640"/>
            <a:ext cx="1499400" cy="54900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nece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tecnologia</a:t>
            </a:r>
            <a:endParaRPr b="0" lang="en-US" sz="1800" spc="-1" strike="noStrike">
              <a:solidFill>
                <a:srgbClr val="000000"/>
              </a:solidFill>
              <a:latin typeface="Arial"/>
            </a:endParaRPr>
          </a:p>
        </p:txBody>
      </p:sp>
      <p:sp>
        <p:nvSpPr>
          <p:cNvPr id="5209" name=""/>
          <p:cNvSpPr/>
          <p:nvPr/>
        </p:nvSpPr>
        <p:spPr>
          <a:xfrm>
            <a:off x="2513160" y="5826240"/>
            <a:ext cx="1310760" cy="54900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nece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material</a:t>
            </a:r>
            <a:endParaRPr b="0" lang="en-US" sz="1800" spc="-1" strike="noStrike">
              <a:solidFill>
                <a:srgbClr val="000000"/>
              </a:solidFill>
              <a:latin typeface="Arial"/>
            </a:endParaRPr>
          </a:p>
        </p:txBody>
      </p:sp>
      <p:sp>
        <p:nvSpPr>
          <p:cNvPr id="5210" name=""/>
          <p:cNvSpPr/>
          <p:nvPr/>
        </p:nvSpPr>
        <p:spPr>
          <a:xfrm>
            <a:off x="2913120" y="5278320"/>
            <a:ext cx="509400" cy="225720"/>
          </a:xfrm>
          <a:prstGeom prst="rect">
            <a:avLst/>
          </a:prstGeom>
          <a:solidFill>
            <a:srgbClr val="99cc00"/>
          </a:solidFill>
          <a:ln w="324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211" name=""/>
          <p:cNvSpPr/>
          <p:nvPr/>
        </p:nvSpPr>
        <p:spPr>
          <a:xfrm>
            <a:off x="5551560" y="5278320"/>
            <a:ext cx="509400" cy="225720"/>
          </a:xfrm>
          <a:prstGeom prst="rect">
            <a:avLst/>
          </a:prstGeom>
          <a:solidFill>
            <a:srgbClr val="99cc00"/>
          </a:solidFill>
          <a:ln w="324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212" name=""/>
          <p:cNvSpPr/>
          <p:nvPr/>
        </p:nvSpPr>
        <p:spPr>
          <a:xfrm>
            <a:off x="2523960" y="1752480"/>
            <a:ext cx="4108680" cy="3764160"/>
          </a:xfrm>
          <a:prstGeom prst="rect">
            <a:avLst/>
          </a:prstGeom>
          <a:solidFill>
            <a:srgbClr val="99cc00"/>
          </a:solidFill>
          <a:ln w="324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13" name=""/>
          <p:cNvSpPr/>
          <p:nvPr/>
        </p:nvSpPr>
        <p:spPr>
          <a:xfrm>
            <a:off x="4222800" y="2048040"/>
            <a:ext cx="1107720" cy="27468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dor</a:t>
            </a:r>
            <a:endParaRPr b="0" lang="en-US" sz="1800" spc="-1" strike="noStrike">
              <a:solidFill>
                <a:srgbClr val="000000"/>
              </a:solidFill>
              <a:latin typeface="Arial"/>
            </a:endParaRPr>
          </a:p>
        </p:txBody>
      </p:sp>
      <p:sp>
        <p:nvSpPr>
          <p:cNvPr id="5214" name=""/>
          <p:cNvSpPr/>
          <p:nvPr/>
        </p:nvSpPr>
        <p:spPr>
          <a:xfrm>
            <a:off x="2629080" y="2722680"/>
            <a:ext cx="1691640" cy="82332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necedo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a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ferramental</a:t>
            </a:r>
            <a:endParaRPr b="0" lang="en-US" sz="1800" spc="-1" strike="noStrike">
              <a:solidFill>
                <a:srgbClr val="000000"/>
              </a:solidFill>
              <a:latin typeface="Arial"/>
            </a:endParaRPr>
          </a:p>
        </p:txBody>
      </p:sp>
      <p:sp>
        <p:nvSpPr>
          <p:cNvPr id="5215" name=""/>
          <p:cNvSpPr/>
          <p:nvPr/>
        </p:nvSpPr>
        <p:spPr>
          <a:xfrm>
            <a:off x="3629520" y="4694400"/>
            <a:ext cx="1742040" cy="54900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nece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mmodities</a:t>
            </a:r>
            <a:endParaRPr b="0" lang="en-US" sz="1800" spc="-1" strike="noStrike">
              <a:solidFill>
                <a:srgbClr val="000000"/>
              </a:solidFill>
              <a:latin typeface="Arial"/>
            </a:endParaRPr>
          </a:p>
        </p:txBody>
      </p:sp>
      <p:sp>
        <p:nvSpPr>
          <p:cNvPr id="5216" name=""/>
          <p:cNvSpPr/>
          <p:nvPr/>
        </p:nvSpPr>
        <p:spPr>
          <a:xfrm>
            <a:off x="4780080" y="2870280"/>
            <a:ext cx="1310760" cy="54900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nece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1o nível</a:t>
            </a:r>
            <a:endParaRPr b="0" lang="en-US" sz="1800" spc="-1" strike="noStrike">
              <a:solidFill>
                <a:srgbClr val="000000"/>
              </a:solidFill>
              <a:latin typeface="Arial"/>
            </a:endParaRPr>
          </a:p>
        </p:txBody>
      </p:sp>
      <p:sp>
        <p:nvSpPr>
          <p:cNvPr id="5217" name=""/>
          <p:cNvSpPr/>
          <p:nvPr/>
        </p:nvSpPr>
        <p:spPr>
          <a:xfrm>
            <a:off x="4781880" y="3913200"/>
            <a:ext cx="1310760" cy="54900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nece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2o nível</a:t>
            </a:r>
            <a:endParaRPr b="0" lang="en-US" sz="1800" spc="-1" strike="noStrike">
              <a:solidFill>
                <a:srgbClr val="000000"/>
              </a:solidFill>
              <a:latin typeface="Arial"/>
            </a:endParaRPr>
          </a:p>
        </p:txBody>
      </p:sp>
      <p:cxnSp>
        <p:nvCxnSpPr>
          <p:cNvPr id="5218" name=""/>
          <p:cNvCxnSpPr>
            <a:stCxn id="5214" idx="0"/>
            <a:endCxn id="5213" idx="1"/>
          </p:cNvCxnSpPr>
          <p:nvPr/>
        </p:nvCxnSpPr>
        <p:spPr>
          <a:xfrm flipH="1" flipV="1" rot="5400000">
            <a:off x="3580200" y="2081880"/>
            <a:ext cx="535680" cy="746640"/>
          </a:xfrm>
          <a:prstGeom prst="bentConnector2">
            <a:avLst/>
          </a:prstGeom>
          <a:ln w="3240">
            <a:solidFill>
              <a:srgbClr val="000000"/>
            </a:solidFill>
            <a:miter/>
            <a:tailEnd len="med" type="triangle" w="med"/>
          </a:ln>
        </p:spPr>
      </p:cxnSp>
      <p:cxnSp>
        <p:nvCxnSpPr>
          <p:cNvPr id="5219" name=""/>
          <p:cNvCxnSpPr>
            <a:stCxn id="5216" idx="0"/>
            <a:endCxn id="5213" idx="2"/>
          </p:cNvCxnSpPr>
          <p:nvPr/>
        </p:nvCxnSpPr>
        <p:spPr>
          <a:xfrm flipV="1" rot="16200000">
            <a:off x="4833360" y="2267640"/>
            <a:ext cx="545400" cy="659520"/>
          </a:xfrm>
          <a:prstGeom prst="bentConnector3">
            <a:avLst>
              <a:gd name="adj1" fmla="val 49801"/>
            </a:avLst>
          </a:prstGeom>
          <a:ln w="3240">
            <a:solidFill>
              <a:srgbClr val="000000"/>
            </a:solidFill>
            <a:miter/>
            <a:tailEnd len="med" type="triangle" w="med"/>
          </a:ln>
        </p:spPr>
      </p:cxnSp>
      <p:cxnSp>
        <p:nvCxnSpPr>
          <p:cNvPr id="5220" name=""/>
          <p:cNvCxnSpPr>
            <a:stCxn id="5217" idx="0"/>
            <a:endCxn id="5216" idx="2"/>
          </p:cNvCxnSpPr>
          <p:nvPr/>
        </p:nvCxnSpPr>
        <p:spPr>
          <a:xfrm flipH="1" flipV="1">
            <a:off x="5435280" y="3421800"/>
            <a:ext cx="2160" cy="491400"/>
          </a:xfrm>
          <a:prstGeom prst="straightConnector1">
            <a:avLst/>
          </a:prstGeom>
          <a:ln w="3240">
            <a:solidFill>
              <a:srgbClr val="000000"/>
            </a:solidFill>
            <a:miter/>
            <a:tailEnd len="med" type="triangle" w="med"/>
          </a:ln>
        </p:spPr>
      </p:cxnSp>
      <p:cxnSp>
        <p:nvCxnSpPr>
          <p:cNvPr id="5221" name=""/>
          <p:cNvCxnSpPr>
            <a:stCxn id="5216" idx="1"/>
            <a:endCxn id="5214" idx="3"/>
          </p:cNvCxnSpPr>
          <p:nvPr/>
        </p:nvCxnSpPr>
        <p:spPr>
          <a:xfrm flipH="1" flipV="1">
            <a:off x="4322160" y="3136680"/>
            <a:ext cx="456120" cy="10080"/>
          </a:xfrm>
          <a:prstGeom prst="straightConnector1">
            <a:avLst/>
          </a:prstGeom>
          <a:ln w="3240">
            <a:solidFill>
              <a:srgbClr val="000000"/>
            </a:solidFill>
            <a:miter/>
            <a:tailEnd len="med" type="triangle" w="med"/>
          </a:ln>
        </p:spPr>
      </p:cxnSp>
      <p:cxnSp>
        <p:nvCxnSpPr>
          <p:cNvPr id="5222" name=""/>
          <p:cNvCxnSpPr>
            <a:stCxn id="5215" idx="3"/>
            <a:endCxn id="5213" idx="3"/>
          </p:cNvCxnSpPr>
          <p:nvPr/>
        </p:nvCxnSpPr>
        <p:spPr>
          <a:xfrm flipH="1" flipV="1">
            <a:off x="5331960" y="2187360"/>
            <a:ext cx="41760" cy="2783520"/>
          </a:xfrm>
          <a:prstGeom prst="bentConnector3">
            <a:avLst>
              <a:gd name="adj1" fmla="val -2734782"/>
            </a:avLst>
          </a:prstGeom>
          <a:ln w="3240">
            <a:solidFill>
              <a:srgbClr val="000000"/>
            </a:solidFill>
            <a:miter/>
            <a:tailEnd len="med" type="triangle" w="med"/>
          </a:ln>
        </p:spPr>
      </p:cxnSp>
      <p:cxnSp>
        <p:nvCxnSpPr>
          <p:cNvPr id="5223" name=""/>
          <p:cNvCxnSpPr>
            <a:stCxn id="5215" idx="3"/>
            <a:endCxn id="5216" idx="3"/>
          </p:cNvCxnSpPr>
          <p:nvPr/>
        </p:nvCxnSpPr>
        <p:spPr>
          <a:xfrm flipV="1">
            <a:off x="5373720" y="3145680"/>
            <a:ext cx="720000" cy="1824840"/>
          </a:xfrm>
          <a:prstGeom prst="bentConnector3">
            <a:avLst>
              <a:gd name="adj1" fmla="val 131765"/>
            </a:avLst>
          </a:prstGeom>
          <a:ln w="3240">
            <a:solidFill>
              <a:srgbClr val="000000"/>
            </a:solidFill>
            <a:miter/>
            <a:tailEnd len="med" type="triangle" w="med"/>
          </a:ln>
        </p:spPr>
      </p:cxnSp>
      <p:cxnSp>
        <p:nvCxnSpPr>
          <p:cNvPr id="5224" name=""/>
          <p:cNvCxnSpPr>
            <a:stCxn id="5215" idx="3"/>
            <a:endCxn id="5217" idx="3"/>
          </p:cNvCxnSpPr>
          <p:nvPr/>
        </p:nvCxnSpPr>
        <p:spPr>
          <a:xfrm flipV="1">
            <a:off x="5373720" y="4188960"/>
            <a:ext cx="721440" cy="781920"/>
          </a:xfrm>
          <a:prstGeom prst="bentConnector3">
            <a:avLst>
              <a:gd name="adj1" fmla="val 131702"/>
            </a:avLst>
          </a:prstGeom>
          <a:ln w="3240">
            <a:solidFill>
              <a:srgbClr val="000000"/>
            </a:solidFill>
            <a:miter/>
            <a:tailEnd len="med" type="triangle" w="med"/>
          </a:ln>
        </p:spPr>
      </p:cxnSp>
      <p:cxnSp>
        <p:nvCxnSpPr>
          <p:cNvPr id="5225" name=""/>
          <p:cNvCxnSpPr>
            <a:stCxn id="5215" idx="1"/>
            <a:endCxn id="5214" idx="2"/>
          </p:cNvCxnSpPr>
          <p:nvPr/>
        </p:nvCxnSpPr>
        <p:spPr>
          <a:xfrm rot="10800000">
            <a:off x="3474360" y="3548880"/>
            <a:ext cx="153000" cy="1421640"/>
          </a:xfrm>
          <a:prstGeom prst="bentConnector2">
            <a:avLst/>
          </a:prstGeom>
          <a:ln w="3240">
            <a:solidFill>
              <a:srgbClr val="000000"/>
            </a:solidFill>
            <a:miter/>
            <a:tailEnd len="med" type="triangle" w="med"/>
          </a:ln>
        </p:spPr>
      </p:cxnSp>
      <p:cxnSp>
        <p:nvCxnSpPr>
          <p:cNvPr id="5226" name=""/>
          <p:cNvCxnSpPr>
            <a:stCxn id="5208" idx="2"/>
            <a:endCxn id="5212" idx="0"/>
          </p:cNvCxnSpPr>
          <p:nvPr/>
        </p:nvCxnSpPr>
        <p:spPr>
          <a:xfrm>
            <a:off x="4573440" y="1334880"/>
            <a:ext cx="5760" cy="417960"/>
          </a:xfrm>
          <a:prstGeom prst="straightConnector1">
            <a:avLst/>
          </a:prstGeom>
          <a:ln w="3240">
            <a:solidFill>
              <a:srgbClr val="000000"/>
            </a:solidFill>
            <a:miter/>
            <a:tailEnd len="med" type="triangle" w="med"/>
          </a:ln>
        </p:spPr>
      </p:cxnSp>
      <p:cxnSp>
        <p:nvCxnSpPr>
          <p:cNvPr id="5227" name=""/>
          <p:cNvCxnSpPr>
            <a:stCxn id="5207" idx="0"/>
            <a:endCxn id="5211" idx="2"/>
          </p:cNvCxnSpPr>
          <p:nvPr/>
        </p:nvCxnSpPr>
        <p:spPr>
          <a:xfrm flipH="1" flipV="1">
            <a:off x="5806800" y="5503320"/>
            <a:ext cx="10080" cy="322920"/>
          </a:xfrm>
          <a:prstGeom prst="straightConnector1">
            <a:avLst/>
          </a:prstGeom>
          <a:ln w="3240">
            <a:solidFill>
              <a:srgbClr val="000000"/>
            </a:solidFill>
            <a:miter/>
            <a:tailEnd len="med" type="triangle" w="med"/>
          </a:ln>
        </p:spPr>
      </p:cxnSp>
      <p:cxnSp>
        <p:nvCxnSpPr>
          <p:cNvPr id="5228" name=""/>
          <p:cNvCxnSpPr>
            <a:stCxn id="5209" idx="0"/>
            <a:endCxn id="5210" idx="2"/>
          </p:cNvCxnSpPr>
          <p:nvPr/>
        </p:nvCxnSpPr>
        <p:spPr>
          <a:xfrm flipV="1">
            <a:off x="3168360" y="5503320"/>
            <a:ext cx="1080" cy="322920"/>
          </a:xfrm>
          <a:prstGeom prst="straightConnector1">
            <a:avLst/>
          </a:prstGeom>
          <a:ln w="3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9" name=""/>
          <p:cNvGrpSpPr/>
          <p:nvPr/>
        </p:nvGrpSpPr>
        <p:grpSpPr>
          <a:xfrm>
            <a:off x="912240" y="2425680"/>
            <a:ext cx="6878880" cy="808920"/>
            <a:chOff x="912240" y="2425680"/>
            <a:chExt cx="6878880" cy="808920"/>
          </a:xfrm>
        </p:grpSpPr>
        <p:sp>
          <p:nvSpPr>
            <p:cNvPr id="5230" name=""/>
            <p:cNvSpPr/>
            <p:nvPr/>
          </p:nvSpPr>
          <p:spPr>
            <a:xfrm>
              <a:off x="2204640" y="2425680"/>
              <a:ext cx="5502960" cy="258480"/>
            </a:xfrm>
            <a:custGeom>
              <a:avLst/>
              <a:gdLst>
                <a:gd name="textAreaLeft" fmla="*/ 0 w 5502960"/>
                <a:gd name="textAreaRight" fmla="*/ 5503320 w 5502960"/>
                <a:gd name="textAreaTop" fmla="*/ 0 h 258480"/>
                <a:gd name="textAreaBottom" fmla="*/ 258840 h 258480"/>
              </a:gdLst>
              <a:ahLst/>
              <a:rect l="textAreaLeft" t="textAreaTop" r="textAreaRight" b="textAreaBottom"/>
              <a:pathLst>
                <a:path w="21600" h="21600">
                  <a:moveTo>
                    <a:pt x="0" y="0"/>
                  </a:moveTo>
                  <a:lnTo>
                    <a:pt x="21221" y="0"/>
                  </a:lnTo>
                  <a:lnTo>
                    <a:pt x="21600" y="10800"/>
                  </a:lnTo>
                  <a:lnTo>
                    <a:pt x="21221" y="21600"/>
                  </a:lnTo>
                  <a:lnTo>
                    <a:pt x="0" y="21600"/>
                  </a:lnTo>
                  <a:lnTo>
                    <a:pt x="3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envolvimento</a:t>
              </a:r>
              <a:endParaRPr b="0" lang="en-US" sz="2000" spc="-1" strike="noStrike">
                <a:solidFill>
                  <a:srgbClr val="000000"/>
                </a:solidFill>
                <a:latin typeface="Arial"/>
              </a:endParaRPr>
            </a:p>
          </p:txBody>
        </p:sp>
        <p:sp>
          <p:nvSpPr>
            <p:cNvPr id="5231" name=""/>
            <p:cNvSpPr/>
            <p:nvPr/>
          </p:nvSpPr>
          <p:spPr>
            <a:xfrm>
              <a:off x="4523040" y="2697480"/>
              <a:ext cx="1043640" cy="520560"/>
            </a:xfrm>
            <a:custGeom>
              <a:avLst/>
              <a:gdLst>
                <a:gd name="textAreaLeft" fmla="*/ 0 w 1043640"/>
                <a:gd name="textAreaRight" fmla="*/ 1044000 w 1043640"/>
                <a:gd name="textAreaTop" fmla="*/ 0 h 520560"/>
                <a:gd name="textAreaBottom" fmla="*/ 520920 h 52056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5232" name=""/>
            <p:cNvSpPr/>
            <p:nvPr/>
          </p:nvSpPr>
          <p:spPr>
            <a:xfrm>
              <a:off x="3464640" y="2697480"/>
              <a:ext cx="1074240" cy="520560"/>
            </a:xfrm>
            <a:custGeom>
              <a:avLst/>
              <a:gdLst>
                <a:gd name="textAreaLeft" fmla="*/ 0 w 1074240"/>
                <a:gd name="textAreaRight" fmla="*/ 1074600 w 1074240"/>
                <a:gd name="textAreaTop" fmla="*/ 0 h 520560"/>
                <a:gd name="textAreaBottom" fmla="*/ 520920 h 52056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5233" name=""/>
            <p:cNvSpPr/>
            <p:nvPr/>
          </p:nvSpPr>
          <p:spPr>
            <a:xfrm>
              <a:off x="2181240" y="2697480"/>
              <a:ext cx="1302840" cy="520560"/>
            </a:xfrm>
            <a:custGeom>
              <a:avLst/>
              <a:gdLst>
                <a:gd name="textAreaLeft" fmla="*/ 0 w 1302840"/>
                <a:gd name="textAreaRight" fmla="*/ 1303200 w 1302840"/>
                <a:gd name="textAreaTop" fmla="*/ 0 h 520560"/>
                <a:gd name="textAreaBottom" fmla="*/ 520920 h 52056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5234" name=""/>
            <p:cNvSpPr/>
            <p:nvPr/>
          </p:nvSpPr>
          <p:spPr>
            <a:xfrm>
              <a:off x="6629040" y="2697480"/>
              <a:ext cx="1162080" cy="520560"/>
            </a:xfrm>
            <a:custGeom>
              <a:avLst/>
              <a:gdLst>
                <a:gd name="textAreaLeft" fmla="*/ 0 w 1162080"/>
                <a:gd name="textAreaRight" fmla="*/ 1162080 w 1162080"/>
                <a:gd name="textAreaTop" fmla="*/ 0 h 520560"/>
                <a:gd name="textAreaBottom" fmla="*/ 520920 h 52056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5235" name=""/>
            <p:cNvSpPr/>
            <p:nvPr/>
          </p:nvSpPr>
          <p:spPr>
            <a:xfrm>
              <a:off x="5547240" y="2697480"/>
              <a:ext cx="1102680" cy="520560"/>
            </a:xfrm>
            <a:custGeom>
              <a:avLst/>
              <a:gdLst>
                <a:gd name="textAreaLeft" fmla="*/ 0 w 1102680"/>
                <a:gd name="textAreaRight" fmla="*/ 1102680 w 1102680"/>
                <a:gd name="textAreaTop" fmla="*/ 0 h 520560"/>
                <a:gd name="textAreaBottom" fmla="*/ 520920 h 52056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sp>
          <p:nvSpPr>
            <p:cNvPr id="5236" name=""/>
            <p:cNvSpPr/>
            <p:nvPr/>
          </p:nvSpPr>
          <p:spPr>
            <a:xfrm>
              <a:off x="912240" y="2714040"/>
              <a:ext cx="1270440" cy="520560"/>
            </a:xfrm>
            <a:custGeom>
              <a:avLst/>
              <a:gdLst>
                <a:gd name="textAreaLeft" fmla="*/ 0 w 1270440"/>
                <a:gd name="textAreaRight" fmla="*/ 1270800 w 1270440"/>
                <a:gd name="textAreaTop" fmla="*/ 0 h 520560"/>
                <a:gd name="textAreaBottom" fmla="*/ 520920 h 5205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p:txBody>
        </p:sp>
      </p:grpSp>
      <p:sp>
        <p:nvSpPr>
          <p:cNvPr id="5237" name=""/>
          <p:cNvSpPr/>
          <p:nvPr/>
        </p:nvSpPr>
        <p:spPr>
          <a:xfrm>
            <a:off x="1149480" y="6377040"/>
            <a:ext cx="2917800" cy="337680"/>
          </a:xfrm>
          <a:prstGeom prst="borderCallout1">
            <a:avLst>
              <a:gd name="adj1" fmla="val -543"/>
              <a:gd name="adj2" fmla="val -201576"/>
              <a:gd name="adj3" fmla="val -544"/>
              <a:gd name="adj4" fmla="val 15329"/>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ceiro de Risco</a:t>
            </a:r>
            <a:endParaRPr b="0" lang="en-US" sz="2000" spc="-1" strike="noStrike">
              <a:solidFill>
                <a:srgbClr val="000000"/>
              </a:solidFill>
              <a:latin typeface="Arial"/>
            </a:endParaRPr>
          </a:p>
        </p:txBody>
      </p:sp>
      <p:sp>
        <p:nvSpPr>
          <p:cNvPr id="5238" name=""/>
          <p:cNvSpPr/>
          <p:nvPr/>
        </p:nvSpPr>
        <p:spPr>
          <a:xfrm>
            <a:off x="73080" y="1459800"/>
            <a:ext cx="2423880" cy="520560"/>
          </a:xfrm>
          <a:custGeom>
            <a:avLst/>
            <a:gdLst>
              <a:gd name="textAreaLeft" fmla="*/ 0 w 2423880"/>
              <a:gd name="textAreaRight" fmla="*/ 2423880 w 2423880"/>
              <a:gd name="textAreaTop" fmla="*/ 0 h 520560"/>
              <a:gd name="textAreaBottom" fmla="*/ 520920 h 5205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 Estratégico de Produtos</a:t>
            </a:r>
            <a:endParaRPr b="0" lang="en-US" sz="1400" spc="-1" strike="noStrike">
              <a:solidFill>
                <a:srgbClr val="000000"/>
              </a:solidFill>
              <a:latin typeface="Arial"/>
            </a:endParaRPr>
          </a:p>
        </p:txBody>
      </p:sp>
      <p:sp>
        <p:nvSpPr>
          <p:cNvPr id="5239" name=""/>
          <p:cNvSpPr/>
          <p:nvPr/>
        </p:nvSpPr>
        <p:spPr>
          <a:xfrm>
            <a:off x="2938320" y="1882800"/>
            <a:ext cx="2225880" cy="396720"/>
          </a:xfrm>
          <a:prstGeom prst="borderCallout1">
            <a:avLst>
              <a:gd name="adj1" fmla="val 18750"/>
              <a:gd name="adj2" fmla="val -8333"/>
              <a:gd name="adj3" fmla="val 61199"/>
              <a:gd name="adj4" fmla="val -829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ceiro de Risco</a:t>
            </a:r>
            <a:endParaRPr b="0" lang="en-US" sz="2000" spc="-1" strike="noStrike">
              <a:solidFill>
                <a:srgbClr val="000000"/>
              </a:solidFill>
              <a:latin typeface="Arial"/>
            </a:endParaRPr>
          </a:p>
        </p:txBody>
      </p:sp>
      <p:sp>
        <p:nvSpPr>
          <p:cNvPr id="5240" name=""/>
          <p:cNvSpPr/>
          <p:nvPr/>
        </p:nvSpPr>
        <p:spPr>
          <a:xfrm rot="4060200">
            <a:off x="-113400" y="2264400"/>
            <a:ext cx="1255680" cy="441360"/>
          </a:xfrm>
          <a:prstGeom prst="rightArrow">
            <a:avLst>
              <a:gd name="adj1" fmla="val 50000"/>
              <a:gd name="adj2" fmla="val 7112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1" name=""/>
          <p:cNvSpPr/>
          <p:nvPr/>
        </p:nvSpPr>
        <p:spPr>
          <a:xfrm>
            <a:off x="1174680" y="2147760"/>
            <a:ext cx="18525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uta de Projeto</a:t>
            </a:r>
            <a:endParaRPr b="0" lang="en-US" sz="1800" spc="-1" strike="noStrike">
              <a:solidFill>
                <a:srgbClr val="000000"/>
              </a:solidFill>
              <a:latin typeface="Arial"/>
            </a:endParaRPr>
          </a:p>
        </p:txBody>
      </p:sp>
      <p:sp>
        <p:nvSpPr>
          <p:cNvPr id="5242" name=""/>
          <p:cNvSpPr/>
          <p:nvPr/>
        </p:nvSpPr>
        <p:spPr>
          <a:xfrm>
            <a:off x="2298600" y="5587920"/>
            <a:ext cx="4165560" cy="581400"/>
          </a:xfrm>
          <a:prstGeom prst="borderCallout1">
            <a:avLst>
              <a:gd name="adj1" fmla="val -380"/>
              <a:gd name="adj2" fmla="val -82657"/>
              <a:gd name="adj3" fmla="val -381"/>
              <a:gd name="adj4" fmla="val 18000"/>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ceiro de Risco</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senvolvedor (parceiro)</a:t>
            </a:r>
            <a:endParaRPr b="0" lang="en-US" sz="2000" spc="-1" strike="noStrike">
              <a:solidFill>
                <a:srgbClr val="000000"/>
              </a:solidFill>
              <a:latin typeface="Arial"/>
            </a:endParaRPr>
          </a:p>
        </p:txBody>
      </p:sp>
      <p:sp>
        <p:nvSpPr>
          <p:cNvPr id="5243" name=""/>
          <p:cNvSpPr/>
          <p:nvPr/>
        </p:nvSpPr>
        <p:spPr>
          <a:xfrm>
            <a:off x="3578400" y="4799160"/>
            <a:ext cx="4260600" cy="581400"/>
          </a:xfrm>
          <a:prstGeom prst="borderCallout1">
            <a:avLst>
              <a:gd name="adj1" fmla="val -370"/>
              <a:gd name="adj2" fmla="val -55884"/>
              <a:gd name="adj3" fmla="val -372"/>
              <a:gd name="adj4" fmla="val 18000"/>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senvolvedo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ceiro de Tecnologia</a:t>
            </a:r>
            <a:endParaRPr b="0" lang="en-US" sz="2000" spc="-1" strike="noStrike">
              <a:solidFill>
                <a:srgbClr val="000000"/>
              </a:solidFill>
              <a:latin typeface="Arial"/>
            </a:endParaRPr>
          </a:p>
        </p:txBody>
      </p:sp>
      <p:sp>
        <p:nvSpPr>
          <p:cNvPr id="5244" name=""/>
          <p:cNvSpPr/>
          <p:nvPr/>
        </p:nvSpPr>
        <p:spPr>
          <a:xfrm flipH="1">
            <a:off x="4780800" y="3519360"/>
            <a:ext cx="3814920" cy="581400"/>
          </a:xfrm>
          <a:custGeom>
            <a:avLst/>
            <a:gdLst/>
            <a:ahLst/>
            <a:rect l="l" t="t" r="r" b="b"/>
            <a:pathLst>
              <a:path w="21600" h="21600">
                <a:moveTo>
                  <a:pt x="0" y="0"/>
                </a:moveTo>
                <a:lnTo>
                  <a:pt x="21600" y="0"/>
                </a:lnTo>
                <a:lnTo>
                  <a:pt x="21600" y="21600"/>
                </a:lnTo>
                <a:lnTo>
                  <a:pt x="0" y="21600"/>
                </a:lnTo>
                <a:close/>
              </a:path>
              <a:path fill="none" w="21600" h="21600">
                <a:moveTo>
                  <a:pt x="22015" y="4180"/>
                </a:moveTo>
                <a:lnTo>
                  <a:pt x="23159" y="4180"/>
                </a:lnTo>
                <a:lnTo>
                  <a:pt x="23159" y="-4820"/>
                </a:lnTo>
                <a:lnTo>
                  <a:pt x="16313" y="-15572"/>
                </a:lnTo>
              </a:path>
            </a:pathLst>
          </a:cu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necedor de Serviço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necedor de Peças-Padrão</a:t>
            </a:r>
            <a:endParaRPr b="0" lang="en-US" sz="2000" spc="-1" strike="noStrike">
              <a:solidFill>
                <a:srgbClr val="000000"/>
              </a:solidFill>
              <a:latin typeface="Arial"/>
            </a:endParaRPr>
          </a:p>
        </p:txBody>
      </p:sp>
      <p:sp>
        <p:nvSpPr>
          <p:cNvPr id="5245" name=""/>
          <p:cNvSpPr/>
          <p:nvPr/>
        </p:nvSpPr>
        <p:spPr>
          <a:xfrm flipH="1">
            <a:off x="4191120" y="4221000"/>
            <a:ext cx="4039920" cy="337680"/>
          </a:xfrm>
          <a:custGeom>
            <a:avLst/>
            <a:gdLst/>
            <a:ahLst/>
            <a:rect l="l" t="t" r="r" b="b"/>
            <a:pathLst>
              <a:path w="21600" h="21600">
                <a:moveTo>
                  <a:pt x="0" y="0"/>
                </a:moveTo>
                <a:lnTo>
                  <a:pt x="21600" y="0"/>
                </a:lnTo>
                <a:lnTo>
                  <a:pt x="21600" y="21600"/>
                </a:lnTo>
                <a:lnTo>
                  <a:pt x="0" y="21600"/>
                </a:lnTo>
                <a:close/>
              </a:path>
              <a:path fill="none" w="21600" h="21600">
                <a:moveTo>
                  <a:pt x="21992" y="6270"/>
                </a:moveTo>
                <a:lnTo>
                  <a:pt x="23719" y="6270"/>
                </a:lnTo>
                <a:lnTo>
                  <a:pt x="23719" y="-28481"/>
                </a:lnTo>
                <a:lnTo>
                  <a:pt x="18784" y="-70459"/>
                </a:lnTo>
              </a:path>
            </a:pathLst>
          </a:cu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necedor de Serviços</a:t>
            </a:r>
            <a:endParaRPr b="0" lang="en-US" sz="2000" spc="-1" strike="noStrike">
              <a:solidFill>
                <a:srgbClr val="000000"/>
              </a:solidFill>
              <a:latin typeface="Arial"/>
            </a:endParaRPr>
          </a:p>
        </p:txBody>
      </p:sp>
      <p:sp>
        <p:nvSpPr>
          <p:cNvPr id="5246" name=""/>
          <p:cNvSpPr/>
          <p:nvPr/>
        </p:nvSpPr>
        <p:spPr>
          <a:xfrm>
            <a:off x="0" y="904320"/>
            <a:ext cx="7900920" cy="459720"/>
          </a:xfrm>
          <a:prstGeom prst="rect">
            <a:avLst/>
          </a:prstGeom>
          <a:solidFill>
            <a:srgbClr val="ff99ff"/>
          </a:solidFill>
          <a:ln w="11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imento da Tecnologia</a:t>
            </a:r>
            <a:endParaRPr b="0" lang="en-US" sz="2400" spc="-1" strike="noStrike">
              <a:solidFill>
                <a:srgbClr val="000000"/>
              </a:solidFill>
              <a:latin typeface="Arial"/>
            </a:endParaRPr>
          </a:p>
        </p:txBody>
      </p:sp>
      <p:sp>
        <p:nvSpPr>
          <p:cNvPr id="5247" name=""/>
          <p:cNvSpPr/>
          <p:nvPr/>
        </p:nvSpPr>
        <p:spPr>
          <a:xfrm>
            <a:off x="4481640" y="1420920"/>
            <a:ext cx="3673440" cy="330120"/>
          </a:xfrm>
          <a:prstGeom prst="borderCallout1">
            <a:avLst>
              <a:gd name="adj1" fmla="val 18750"/>
              <a:gd name="adj2" fmla="val -8333"/>
              <a:gd name="adj3" fmla="val -50416"/>
              <a:gd name="adj4" fmla="val -1675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ceiro de Tecnologia</a:t>
            </a:r>
            <a:endParaRPr b="0" lang="en-US" sz="2000" spc="-1" strike="noStrike">
              <a:solidFill>
                <a:srgbClr val="000000"/>
              </a:solidFill>
              <a:latin typeface="Arial"/>
            </a:endParaRPr>
          </a:p>
        </p:txBody>
      </p:sp>
      <p:grpSp>
        <p:nvGrpSpPr>
          <p:cNvPr id="5248" name=""/>
          <p:cNvGrpSpPr/>
          <p:nvPr/>
        </p:nvGrpSpPr>
        <p:grpSpPr>
          <a:xfrm>
            <a:off x="522360" y="1882800"/>
            <a:ext cx="587160" cy="662040"/>
            <a:chOff x="522360" y="1882800"/>
            <a:chExt cx="587160" cy="662040"/>
          </a:xfrm>
        </p:grpSpPr>
        <p:sp>
          <p:nvSpPr>
            <p:cNvPr id="5249" name=""/>
            <p:cNvSpPr/>
            <p:nvPr/>
          </p:nvSpPr>
          <p:spPr>
            <a:xfrm>
              <a:off x="522360" y="1882800"/>
              <a:ext cx="587160" cy="6620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0" name=""/>
            <p:cNvSpPr/>
            <p:nvPr/>
          </p:nvSpPr>
          <p:spPr>
            <a:xfrm>
              <a:off x="595800" y="201528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1" name=""/>
            <p:cNvSpPr/>
            <p:nvPr/>
          </p:nvSpPr>
          <p:spPr>
            <a:xfrm>
              <a:off x="595800" y="214740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2" name=""/>
            <p:cNvSpPr/>
            <p:nvPr/>
          </p:nvSpPr>
          <p:spPr>
            <a:xfrm>
              <a:off x="595800" y="227988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3" name=""/>
            <p:cNvSpPr/>
            <p:nvPr/>
          </p:nvSpPr>
          <p:spPr>
            <a:xfrm>
              <a:off x="595800" y="241236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os de parcerias</a:t>
            </a:r>
            <a:endParaRPr b="0" lang="en-US" sz="2400" spc="-1" strike="noStrike">
              <a:solidFill>
                <a:srgbClr val="00009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5" name="PlaceHolder 1"/>
          <p:cNvSpPr>
            <a:spLocks noGrp="1"/>
          </p:cNvSpPr>
          <p:nvPr>
            <p:ph type="title"/>
          </p:nvPr>
        </p:nvSpPr>
        <p:spPr>
          <a:xfrm>
            <a:off x="-360" y="6300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os de sistemas, subsistemas e componentes</a:t>
            </a:r>
            <a:endParaRPr b="0" lang="en-US" sz="2400" spc="-1" strike="noStrike">
              <a:solidFill>
                <a:srgbClr val="000096"/>
              </a:solidFill>
              <a:latin typeface="Arial"/>
            </a:endParaRPr>
          </a:p>
        </p:txBody>
      </p:sp>
      <p:pic>
        <p:nvPicPr>
          <p:cNvPr id="5256" name="" descr=""/>
          <p:cNvPicPr/>
          <p:nvPr/>
        </p:nvPicPr>
        <p:blipFill>
          <a:blip r:embed="rId1"/>
          <a:stretch/>
        </p:blipFill>
        <p:spPr>
          <a:xfrm>
            <a:off x="603360" y="882720"/>
            <a:ext cx="7937280" cy="5946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5258"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eitos de modelagem de process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 geral do modelo</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s papéis principais das pessoas envolvidas n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 geral das fas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visão de fases (gat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étodos e ferramentas de desenvolvimento de produt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cadores de desempenho d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ceiros do desenvolvimento colaborativo de produtos</a:t>
            </a:r>
            <a:endParaRPr b="0" lang="en-US" sz="2800" spc="-1" strike="noStrike">
              <a:solidFill>
                <a:srgbClr val="000000"/>
              </a:solidFill>
              <a:latin typeface="Arial"/>
            </a:endParaRPr>
          </a:p>
          <a:p>
            <a:pPr marL="332640" indent="-3326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Áreas de conhecimento</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estão do conhecimento d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aracterizando o modelo</a:t>
            </a:r>
            <a:endParaRPr b="0" lang="en-US" sz="28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Definição de processo (de negócio)</a:t>
            </a:r>
            <a:endParaRPr b="0" lang="en-US" sz="2400" spc="-1" strike="noStrike">
              <a:solidFill>
                <a:srgbClr val="000096"/>
              </a:solidFill>
              <a:latin typeface="Arial"/>
            </a:endParaRPr>
          </a:p>
        </p:txBody>
      </p:sp>
      <p:sp>
        <p:nvSpPr>
          <p:cNvPr id="72" name=""/>
          <p:cNvSpPr/>
          <p:nvPr/>
        </p:nvSpPr>
        <p:spPr>
          <a:xfrm>
            <a:off x="304920" y="4419720"/>
            <a:ext cx="8610480" cy="21859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Grupo de atividades realizadas numa sequência lógica com o objetivo de produzir um bem ou serviço que tem valor para um grupo específico de clientes</a:t>
            </a:r>
            <a:r>
              <a:rPr b="0" lang="pt-BR"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73" name=""/>
          <p:cNvGrpSpPr/>
          <p:nvPr/>
        </p:nvGrpSpPr>
        <p:grpSpPr>
          <a:xfrm>
            <a:off x="457200" y="1295280"/>
            <a:ext cx="4179960" cy="1648080"/>
            <a:chOff x="457200" y="1295280"/>
            <a:chExt cx="4179960" cy="1648080"/>
          </a:xfrm>
        </p:grpSpPr>
        <p:sp>
          <p:nvSpPr>
            <p:cNvPr id="74" name=""/>
            <p:cNvSpPr/>
            <p:nvPr/>
          </p:nvSpPr>
          <p:spPr>
            <a:xfrm>
              <a:off x="457200" y="1295280"/>
              <a:ext cx="4179960" cy="1648080"/>
            </a:xfrm>
            <a:prstGeom prst="rightArrow">
              <a:avLst>
                <a:gd name="adj1" fmla="val 77731"/>
                <a:gd name="adj2" fmla="val 3279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452680" y="2432160"/>
              <a:ext cx="227160" cy="2332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662120" y="1920960"/>
              <a:ext cx="225360" cy="2332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792520" y="1693800"/>
              <a:ext cx="338040" cy="231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621240" y="2205000"/>
              <a:ext cx="187200" cy="1936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135080" y="2147760"/>
              <a:ext cx="150840" cy="1177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82560" y="2374920"/>
              <a:ext cx="150840" cy="119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31720" y="1693800"/>
              <a:ext cx="227160" cy="231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792520" y="2205000"/>
              <a:ext cx="150840" cy="231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398600" y="2374920"/>
              <a:ext cx="339840" cy="2332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301840" y="1636560"/>
              <a:ext cx="150840" cy="231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770280" y="1693800"/>
              <a:ext cx="227160" cy="231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285920" y="1579680"/>
              <a:ext cx="150840" cy="231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017880" y="2489040"/>
              <a:ext cx="150840" cy="231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189160" y="2090880"/>
              <a:ext cx="150840" cy="231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74800" y="1636560"/>
              <a:ext cx="150840" cy="1177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001960" y="2544840"/>
              <a:ext cx="149040" cy="119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281400" y="2090880"/>
              <a:ext cx="150840" cy="118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319560" y="1579680"/>
              <a:ext cx="150840" cy="118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506760" y="2544840"/>
              <a:ext cx="150840" cy="119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81" idx="3"/>
              <a:endCxn id="86" idx="1"/>
            </p:cNvCxnSpPr>
            <p:nvPr/>
          </p:nvCxnSpPr>
          <p:spPr>
            <a:xfrm flipV="1">
              <a:off x="758880" y="1694880"/>
              <a:ext cx="527760" cy="114840"/>
            </a:xfrm>
            <a:prstGeom prst="straightConnector1">
              <a:avLst/>
            </a:prstGeom>
            <a:ln w="12600">
              <a:solidFill>
                <a:srgbClr val="000000"/>
              </a:solidFill>
              <a:miter/>
              <a:tailEnd len="lg" type="triangle" w="sm"/>
            </a:ln>
          </p:spPr>
        </p:cxnSp>
        <p:cxnSp>
          <p:nvCxnSpPr>
            <p:cNvPr id="95" name=""/>
            <p:cNvCxnSpPr>
              <a:stCxn id="80" idx="3"/>
              <a:endCxn id="79" idx="1"/>
            </p:cNvCxnSpPr>
            <p:nvPr/>
          </p:nvCxnSpPr>
          <p:spPr>
            <a:xfrm flipV="1">
              <a:off x="833400" y="2206440"/>
              <a:ext cx="302400" cy="227520"/>
            </a:xfrm>
            <a:prstGeom prst="straightConnector1">
              <a:avLst/>
            </a:prstGeom>
            <a:ln w="12600">
              <a:solidFill>
                <a:srgbClr val="000000"/>
              </a:solidFill>
              <a:miter/>
              <a:tailEnd len="lg" type="triangle" w="sm"/>
            </a:ln>
          </p:spPr>
        </p:cxnSp>
        <p:cxnSp>
          <p:nvCxnSpPr>
            <p:cNvPr id="96" name=""/>
            <p:cNvCxnSpPr>
              <a:stCxn id="79" idx="2"/>
              <a:endCxn id="83" idx="1"/>
            </p:cNvCxnSpPr>
            <p:nvPr/>
          </p:nvCxnSpPr>
          <p:spPr>
            <a:xfrm>
              <a:off x="1209240" y="2265480"/>
              <a:ext cx="189720" cy="227520"/>
            </a:xfrm>
            <a:prstGeom prst="straightConnector1">
              <a:avLst/>
            </a:prstGeom>
            <a:ln w="12600">
              <a:solidFill>
                <a:srgbClr val="000000"/>
              </a:solidFill>
              <a:miter/>
              <a:tailEnd len="lg" type="triangle" w="sm"/>
            </a:ln>
          </p:spPr>
        </p:cxnSp>
        <p:cxnSp>
          <p:nvCxnSpPr>
            <p:cNvPr id="97" name=""/>
            <p:cNvCxnSpPr>
              <a:stCxn id="79" idx="0"/>
              <a:endCxn id="86" idx="2"/>
            </p:cNvCxnSpPr>
            <p:nvPr/>
          </p:nvCxnSpPr>
          <p:spPr>
            <a:xfrm flipV="1">
              <a:off x="1209240" y="1810440"/>
              <a:ext cx="151560" cy="337320"/>
            </a:xfrm>
            <a:prstGeom prst="straightConnector1">
              <a:avLst/>
            </a:prstGeom>
            <a:ln w="12600">
              <a:solidFill>
                <a:srgbClr val="000000"/>
              </a:solidFill>
              <a:miter/>
              <a:tailEnd len="lg" type="triangle" w="sm"/>
            </a:ln>
          </p:spPr>
        </p:cxnSp>
        <p:cxnSp>
          <p:nvCxnSpPr>
            <p:cNvPr id="98" name=""/>
            <p:cNvCxnSpPr>
              <a:stCxn id="86" idx="3"/>
              <a:endCxn id="89" idx="1"/>
            </p:cNvCxnSpPr>
            <p:nvPr/>
          </p:nvCxnSpPr>
          <p:spPr>
            <a:xfrm>
              <a:off x="1436400" y="1695240"/>
              <a:ext cx="338760" cy="1080"/>
            </a:xfrm>
            <a:prstGeom prst="straightConnector1">
              <a:avLst/>
            </a:prstGeom>
            <a:ln w="12600">
              <a:solidFill>
                <a:srgbClr val="000000"/>
              </a:solidFill>
              <a:miter/>
              <a:tailEnd len="lg" type="triangle" w="sm"/>
            </a:ln>
          </p:spPr>
        </p:cxnSp>
        <p:cxnSp>
          <p:nvCxnSpPr>
            <p:cNvPr id="99" name=""/>
            <p:cNvCxnSpPr>
              <a:stCxn id="83" idx="0"/>
              <a:endCxn id="76" idx="2"/>
            </p:cNvCxnSpPr>
            <p:nvPr/>
          </p:nvCxnSpPr>
          <p:spPr>
            <a:xfrm flipV="1">
              <a:off x="1568160" y="2153520"/>
              <a:ext cx="207000" cy="221400"/>
            </a:xfrm>
            <a:prstGeom prst="straightConnector1">
              <a:avLst/>
            </a:prstGeom>
            <a:ln w="12600">
              <a:solidFill>
                <a:srgbClr val="000000"/>
              </a:solidFill>
              <a:miter/>
              <a:tailEnd len="lg" type="triangle" w="sm"/>
            </a:ln>
          </p:spPr>
        </p:cxnSp>
        <p:cxnSp>
          <p:nvCxnSpPr>
            <p:cNvPr id="100" name=""/>
            <p:cNvCxnSpPr>
              <a:stCxn id="76" idx="0"/>
              <a:endCxn id="89" idx="2"/>
            </p:cNvCxnSpPr>
            <p:nvPr/>
          </p:nvCxnSpPr>
          <p:spPr>
            <a:xfrm flipV="1">
              <a:off x="1774800" y="1753920"/>
              <a:ext cx="76680" cy="167040"/>
            </a:xfrm>
            <a:prstGeom prst="straightConnector1">
              <a:avLst/>
            </a:prstGeom>
            <a:ln w="12600">
              <a:solidFill>
                <a:srgbClr val="000000"/>
              </a:solidFill>
              <a:miter/>
              <a:tailEnd len="lg" type="triangle" w="sm"/>
            </a:ln>
          </p:spPr>
        </p:cxnSp>
        <p:cxnSp>
          <p:nvCxnSpPr>
            <p:cNvPr id="101" name=""/>
            <p:cNvCxnSpPr>
              <a:stCxn id="76" idx="3"/>
              <a:endCxn id="88" idx="1"/>
            </p:cNvCxnSpPr>
            <p:nvPr/>
          </p:nvCxnSpPr>
          <p:spPr>
            <a:xfrm>
              <a:off x="1887480" y="2038320"/>
              <a:ext cx="302400" cy="169200"/>
            </a:xfrm>
            <a:prstGeom prst="straightConnector1">
              <a:avLst/>
            </a:prstGeom>
            <a:ln w="12600">
              <a:solidFill>
                <a:srgbClr val="000000"/>
              </a:solidFill>
              <a:miter/>
              <a:tailEnd len="lg" type="triangle" w="sm"/>
            </a:ln>
          </p:spPr>
        </p:cxnSp>
        <p:cxnSp>
          <p:nvCxnSpPr>
            <p:cNvPr id="102" name=""/>
            <p:cNvCxnSpPr>
              <a:stCxn id="83" idx="3"/>
              <a:endCxn id="90" idx="1"/>
            </p:cNvCxnSpPr>
            <p:nvPr/>
          </p:nvCxnSpPr>
          <p:spPr>
            <a:xfrm>
              <a:off x="1738440" y="2491920"/>
              <a:ext cx="264240" cy="113400"/>
            </a:xfrm>
            <a:prstGeom prst="straightConnector1">
              <a:avLst/>
            </a:prstGeom>
            <a:ln w="12600">
              <a:solidFill>
                <a:srgbClr val="000000"/>
              </a:solidFill>
              <a:miter/>
              <a:tailEnd len="lg" type="triangle" w="sm"/>
            </a:ln>
          </p:spPr>
        </p:cxnSp>
        <p:cxnSp>
          <p:nvCxnSpPr>
            <p:cNvPr id="103" name=""/>
            <p:cNvCxnSpPr>
              <a:stCxn id="90" idx="3"/>
              <a:endCxn id="75" idx="1"/>
            </p:cNvCxnSpPr>
            <p:nvPr/>
          </p:nvCxnSpPr>
          <p:spPr>
            <a:xfrm flipV="1">
              <a:off x="2151000" y="2549160"/>
              <a:ext cx="302400" cy="56160"/>
            </a:xfrm>
            <a:prstGeom prst="straightConnector1">
              <a:avLst/>
            </a:prstGeom>
            <a:ln w="12600">
              <a:solidFill>
                <a:srgbClr val="000000"/>
              </a:solidFill>
              <a:miter/>
              <a:tailEnd len="lg" type="triangle" w="sm"/>
            </a:ln>
          </p:spPr>
        </p:cxnSp>
        <p:cxnSp>
          <p:nvCxnSpPr>
            <p:cNvPr id="104" name=""/>
            <p:cNvCxnSpPr>
              <a:stCxn id="88" idx="2"/>
              <a:endCxn id="75" idx="0"/>
            </p:cNvCxnSpPr>
            <p:nvPr/>
          </p:nvCxnSpPr>
          <p:spPr>
            <a:xfrm>
              <a:off x="2265120" y="2322000"/>
              <a:ext cx="300600" cy="110520"/>
            </a:xfrm>
            <a:prstGeom prst="straightConnector1">
              <a:avLst/>
            </a:prstGeom>
            <a:ln w="12600">
              <a:solidFill>
                <a:srgbClr val="000000"/>
              </a:solidFill>
              <a:miter/>
              <a:tailEnd len="lg" type="triangle" w="sm"/>
            </a:ln>
          </p:spPr>
        </p:cxnSp>
        <p:cxnSp>
          <p:nvCxnSpPr>
            <p:cNvPr id="105" name=""/>
            <p:cNvCxnSpPr>
              <a:stCxn id="88" idx="0"/>
              <a:endCxn id="84" idx="2"/>
            </p:cNvCxnSpPr>
            <p:nvPr/>
          </p:nvCxnSpPr>
          <p:spPr>
            <a:xfrm flipV="1">
              <a:off x="2265120" y="1868040"/>
              <a:ext cx="113400" cy="223200"/>
            </a:xfrm>
            <a:prstGeom prst="straightConnector1">
              <a:avLst/>
            </a:prstGeom>
            <a:ln w="12600">
              <a:solidFill>
                <a:srgbClr val="000000"/>
              </a:solidFill>
              <a:miter/>
              <a:tailEnd len="lg" type="triangle" w="sm"/>
            </a:ln>
          </p:spPr>
        </p:cxnSp>
        <p:cxnSp>
          <p:nvCxnSpPr>
            <p:cNvPr id="106" name=""/>
            <p:cNvCxnSpPr>
              <a:stCxn id="89" idx="3"/>
              <a:endCxn id="84" idx="1"/>
            </p:cNvCxnSpPr>
            <p:nvPr/>
          </p:nvCxnSpPr>
          <p:spPr>
            <a:xfrm>
              <a:off x="1925280" y="1695600"/>
              <a:ext cx="376920" cy="57600"/>
            </a:xfrm>
            <a:prstGeom prst="straightConnector1">
              <a:avLst/>
            </a:prstGeom>
            <a:ln w="12600">
              <a:solidFill>
                <a:srgbClr val="000000"/>
              </a:solidFill>
              <a:miter/>
              <a:tailEnd len="lg" type="triangle" w="sm"/>
            </a:ln>
          </p:spPr>
        </p:cxnSp>
        <p:cxnSp>
          <p:nvCxnSpPr>
            <p:cNvPr id="107" name=""/>
            <p:cNvCxnSpPr>
              <a:stCxn id="84" idx="3"/>
              <a:endCxn id="77" idx="1"/>
            </p:cNvCxnSpPr>
            <p:nvPr/>
          </p:nvCxnSpPr>
          <p:spPr>
            <a:xfrm>
              <a:off x="2452680" y="1752120"/>
              <a:ext cx="340200" cy="57960"/>
            </a:xfrm>
            <a:prstGeom prst="straightConnector1">
              <a:avLst/>
            </a:prstGeom>
            <a:ln w="12600">
              <a:solidFill>
                <a:srgbClr val="000000"/>
              </a:solidFill>
              <a:miter/>
              <a:tailEnd len="lg" type="triangle" w="sm"/>
            </a:ln>
          </p:spPr>
        </p:cxnSp>
        <p:cxnSp>
          <p:nvCxnSpPr>
            <p:cNvPr id="108" name=""/>
            <p:cNvCxnSpPr>
              <a:stCxn id="109" idx="3"/>
              <a:endCxn id="77" idx="1"/>
            </p:cNvCxnSpPr>
            <p:nvPr/>
          </p:nvCxnSpPr>
          <p:spPr>
            <a:xfrm flipV="1">
              <a:off x="2679480" y="1809720"/>
              <a:ext cx="113400" cy="295560"/>
            </a:xfrm>
            <a:prstGeom prst="straightConnector1">
              <a:avLst/>
            </a:prstGeom>
            <a:ln w="12600">
              <a:solidFill>
                <a:srgbClr val="000000"/>
              </a:solidFill>
              <a:miter/>
              <a:tailEnd len="lg" type="triangle" w="sm"/>
            </a:ln>
          </p:spPr>
        </p:cxnSp>
        <p:cxnSp>
          <p:nvCxnSpPr>
            <p:cNvPr id="110" name=""/>
            <p:cNvCxnSpPr>
              <a:stCxn id="75" idx="3"/>
              <a:endCxn id="87" idx="1"/>
            </p:cNvCxnSpPr>
            <p:nvPr/>
          </p:nvCxnSpPr>
          <p:spPr>
            <a:xfrm>
              <a:off x="2679480" y="2549520"/>
              <a:ext cx="338760" cy="56160"/>
            </a:xfrm>
            <a:prstGeom prst="straightConnector1">
              <a:avLst/>
            </a:prstGeom>
            <a:ln w="12600">
              <a:solidFill>
                <a:srgbClr val="000000"/>
              </a:solidFill>
              <a:miter/>
              <a:tailEnd len="lg" type="triangle" w="sm"/>
            </a:ln>
          </p:spPr>
        </p:cxnSp>
        <p:cxnSp>
          <p:nvCxnSpPr>
            <p:cNvPr id="111" name=""/>
            <p:cNvCxnSpPr>
              <a:stCxn id="77" idx="2"/>
              <a:endCxn id="82" idx="0"/>
            </p:cNvCxnSpPr>
            <p:nvPr/>
          </p:nvCxnSpPr>
          <p:spPr>
            <a:xfrm flipH="1">
              <a:off x="2866680" y="1925640"/>
              <a:ext cx="94320" cy="280080"/>
            </a:xfrm>
            <a:prstGeom prst="straightConnector1">
              <a:avLst/>
            </a:prstGeom>
            <a:ln w="12600">
              <a:solidFill>
                <a:srgbClr val="000000"/>
              </a:solidFill>
              <a:miter/>
              <a:tailEnd len="lg" type="triangle" w="sm"/>
            </a:ln>
          </p:spPr>
        </p:cxnSp>
        <p:cxnSp>
          <p:nvCxnSpPr>
            <p:cNvPr id="112" name=""/>
            <p:cNvCxnSpPr>
              <a:stCxn id="77" idx="3"/>
              <a:endCxn id="92" idx="1"/>
            </p:cNvCxnSpPr>
            <p:nvPr/>
          </p:nvCxnSpPr>
          <p:spPr>
            <a:xfrm flipV="1">
              <a:off x="3130200" y="1638000"/>
              <a:ext cx="189720" cy="172080"/>
            </a:xfrm>
            <a:prstGeom prst="straightConnector1">
              <a:avLst/>
            </a:prstGeom>
            <a:ln w="12600">
              <a:solidFill>
                <a:srgbClr val="000000"/>
              </a:solidFill>
              <a:miter/>
              <a:tailEnd len="lg" type="triangle" w="sm"/>
            </a:ln>
          </p:spPr>
        </p:cxnSp>
        <p:cxnSp>
          <p:nvCxnSpPr>
            <p:cNvPr id="113" name=""/>
            <p:cNvCxnSpPr>
              <a:stCxn id="92" idx="3"/>
              <a:endCxn id="85" idx="0"/>
            </p:cNvCxnSpPr>
            <p:nvPr/>
          </p:nvCxnSpPr>
          <p:spPr>
            <a:xfrm>
              <a:off x="3470040" y="1638360"/>
              <a:ext cx="415080" cy="56160"/>
            </a:xfrm>
            <a:prstGeom prst="straightConnector1">
              <a:avLst/>
            </a:prstGeom>
            <a:ln w="12600">
              <a:solidFill>
                <a:srgbClr val="000000"/>
              </a:solidFill>
              <a:miter/>
              <a:tailEnd len="lg" type="triangle" w="sm"/>
            </a:ln>
          </p:spPr>
        </p:cxnSp>
        <p:cxnSp>
          <p:nvCxnSpPr>
            <p:cNvPr id="114" name=""/>
            <p:cNvCxnSpPr>
              <a:stCxn id="91" idx="3"/>
              <a:endCxn id="78" idx="1"/>
            </p:cNvCxnSpPr>
            <p:nvPr/>
          </p:nvCxnSpPr>
          <p:spPr>
            <a:xfrm>
              <a:off x="3431880" y="2149200"/>
              <a:ext cx="189720" cy="153000"/>
            </a:xfrm>
            <a:prstGeom prst="straightConnector1">
              <a:avLst/>
            </a:prstGeom>
            <a:ln w="12600">
              <a:solidFill>
                <a:srgbClr val="000000"/>
              </a:solidFill>
              <a:miter/>
              <a:tailEnd len="lg" type="triangle" w="sm"/>
            </a:ln>
          </p:spPr>
        </p:cxnSp>
        <p:cxnSp>
          <p:nvCxnSpPr>
            <p:cNvPr id="115" name=""/>
            <p:cNvCxnSpPr>
              <a:stCxn id="87" idx="3"/>
              <a:endCxn id="91" idx="2"/>
            </p:cNvCxnSpPr>
            <p:nvPr/>
          </p:nvCxnSpPr>
          <p:spPr>
            <a:xfrm flipV="1">
              <a:off x="3168720" y="2209320"/>
              <a:ext cx="187920" cy="396000"/>
            </a:xfrm>
            <a:prstGeom prst="straightConnector1">
              <a:avLst/>
            </a:prstGeom>
            <a:ln w="12600">
              <a:solidFill>
                <a:srgbClr val="000000"/>
              </a:solidFill>
              <a:miter/>
              <a:tailEnd len="lg" type="triangle" w="sm"/>
            </a:ln>
          </p:spPr>
        </p:cxnSp>
        <p:cxnSp>
          <p:nvCxnSpPr>
            <p:cNvPr id="116" name=""/>
            <p:cNvCxnSpPr>
              <a:stCxn id="85" idx="2"/>
              <a:endCxn id="78" idx="0"/>
            </p:cNvCxnSpPr>
            <p:nvPr/>
          </p:nvCxnSpPr>
          <p:spPr>
            <a:xfrm flipH="1">
              <a:off x="3714480" y="1925640"/>
              <a:ext cx="170640" cy="280080"/>
            </a:xfrm>
            <a:prstGeom prst="straightConnector1">
              <a:avLst/>
            </a:prstGeom>
            <a:ln w="12600">
              <a:solidFill>
                <a:srgbClr val="000000"/>
              </a:solidFill>
              <a:miter/>
              <a:tailEnd len="lg" type="triangle" w="sm"/>
            </a:ln>
          </p:spPr>
        </p:cxnSp>
        <p:cxnSp>
          <p:nvCxnSpPr>
            <p:cNvPr id="117" name=""/>
            <p:cNvCxnSpPr>
              <a:stCxn id="93" idx="0"/>
              <a:endCxn id="78" idx="2"/>
            </p:cNvCxnSpPr>
            <p:nvPr/>
          </p:nvCxnSpPr>
          <p:spPr>
            <a:xfrm flipV="1">
              <a:off x="3583080" y="2398320"/>
              <a:ext cx="132480" cy="146880"/>
            </a:xfrm>
            <a:prstGeom prst="straightConnector1">
              <a:avLst/>
            </a:prstGeom>
            <a:ln w="12600">
              <a:solidFill>
                <a:srgbClr val="000000"/>
              </a:solidFill>
              <a:miter/>
              <a:tailEnd len="lg" type="triangle" w="sm"/>
            </a:ln>
          </p:spPr>
        </p:cxnSp>
        <p:sp>
          <p:nvSpPr>
            <p:cNvPr id="118" name=""/>
            <p:cNvSpPr/>
            <p:nvPr/>
          </p:nvSpPr>
          <p:spPr>
            <a:xfrm>
              <a:off x="4033800" y="2205000"/>
              <a:ext cx="189000" cy="1936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9" name=""/>
            <p:cNvCxnSpPr>
              <a:stCxn id="78" idx="3"/>
              <a:endCxn id="118" idx="1"/>
            </p:cNvCxnSpPr>
            <p:nvPr/>
          </p:nvCxnSpPr>
          <p:spPr>
            <a:xfrm>
              <a:off x="3808440" y="2301480"/>
              <a:ext cx="226080" cy="1080"/>
            </a:xfrm>
            <a:prstGeom prst="straightConnector1">
              <a:avLst/>
            </a:prstGeom>
            <a:ln w="12600">
              <a:solidFill>
                <a:srgbClr val="000000"/>
              </a:solidFill>
              <a:miter/>
              <a:tailEnd len="lg" type="triangle" w="sm"/>
            </a:ln>
          </p:spPr>
        </p:cxnSp>
        <p:cxnSp>
          <p:nvCxnSpPr>
            <p:cNvPr id="120" name=""/>
            <p:cNvCxnSpPr>
              <a:stCxn id="85" idx="3"/>
              <a:endCxn id="118" idx="0"/>
            </p:cNvCxnSpPr>
            <p:nvPr/>
          </p:nvCxnSpPr>
          <p:spPr>
            <a:xfrm>
              <a:off x="3997440" y="1809720"/>
              <a:ext cx="132480" cy="396000"/>
            </a:xfrm>
            <a:prstGeom prst="straightConnector1">
              <a:avLst/>
            </a:prstGeom>
            <a:ln w="12600">
              <a:solidFill>
                <a:srgbClr val="000000"/>
              </a:solidFill>
              <a:miter/>
              <a:tailEnd len="lg" type="triangle" w="sm"/>
            </a:ln>
          </p:spPr>
        </p:cxnSp>
        <p:cxnSp>
          <p:nvCxnSpPr>
            <p:cNvPr id="121" name=""/>
            <p:cNvCxnSpPr>
              <a:stCxn id="93" idx="3"/>
              <a:endCxn id="118" idx="2"/>
            </p:cNvCxnSpPr>
            <p:nvPr/>
          </p:nvCxnSpPr>
          <p:spPr>
            <a:xfrm flipV="1">
              <a:off x="3657600" y="2397960"/>
              <a:ext cx="472320" cy="207000"/>
            </a:xfrm>
            <a:prstGeom prst="straightConnector1">
              <a:avLst/>
            </a:prstGeom>
            <a:ln w="12600">
              <a:solidFill>
                <a:srgbClr val="000000"/>
              </a:solidFill>
              <a:miter/>
              <a:tailEnd len="lg" type="triangle" w="sm"/>
            </a:ln>
          </p:spPr>
        </p:cxnSp>
        <p:cxnSp>
          <p:nvCxnSpPr>
            <p:cNvPr id="122" name=""/>
            <p:cNvCxnSpPr>
              <a:stCxn id="79" idx="3"/>
              <a:endCxn id="76" idx="1"/>
            </p:cNvCxnSpPr>
            <p:nvPr/>
          </p:nvCxnSpPr>
          <p:spPr>
            <a:xfrm flipV="1">
              <a:off x="1285560" y="2037960"/>
              <a:ext cx="376920" cy="169200"/>
            </a:xfrm>
            <a:prstGeom prst="straightConnector1">
              <a:avLst/>
            </a:prstGeom>
            <a:ln w="12600">
              <a:solidFill>
                <a:srgbClr val="000000"/>
              </a:solidFill>
              <a:miter/>
              <a:tailEnd len="lg" type="triangle" w="sm"/>
            </a:ln>
          </p:spPr>
        </p:cxnSp>
        <p:cxnSp>
          <p:nvCxnSpPr>
            <p:cNvPr id="123" name=""/>
            <p:cNvCxnSpPr>
              <a:stCxn id="88" idx="3"/>
              <a:endCxn id="109" idx="1"/>
            </p:cNvCxnSpPr>
            <p:nvPr/>
          </p:nvCxnSpPr>
          <p:spPr>
            <a:xfrm flipV="1">
              <a:off x="2339640" y="2104200"/>
              <a:ext cx="189720" cy="102600"/>
            </a:xfrm>
            <a:prstGeom prst="straightConnector1">
              <a:avLst/>
            </a:prstGeom>
            <a:ln w="12600">
              <a:solidFill>
                <a:srgbClr val="000000"/>
              </a:solidFill>
              <a:miter/>
              <a:tailEnd len="lg" type="triangle" w="sm"/>
            </a:ln>
          </p:spPr>
        </p:cxnSp>
        <p:cxnSp>
          <p:nvCxnSpPr>
            <p:cNvPr id="124" name=""/>
            <p:cNvCxnSpPr>
              <a:stCxn id="82" idx="3"/>
              <a:endCxn id="91" idx="1"/>
            </p:cNvCxnSpPr>
            <p:nvPr/>
          </p:nvCxnSpPr>
          <p:spPr>
            <a:xfrm flipV="1">
              <a:off x="2943000" y="2149200"/>
              <a:ext cx="338760" cy="172080"/>
            </a:xfrm>
            <a:prstGeom prst="straightConnector1">
              <a:avLst/>
            </a:prstGeom>
            <a:ln w="12600">
              <a:solidFill>
                <a:srgbClr val="000000"/>
              </a:solidFill>
              <a:miter/>
              <a:tailEnd len="lg" type="triangle" w="sm"/>
            </a:ln>
          </p:spPr>
        </p:cxnSp>
        <p:cxnSp>
          <p:nvCxnSpPr>
            <p:cNvPr id="125" name=""/>
            <p:cNvCxnSpPr>
              <a:stCxn id="109" idx="2"/>
              <a:endCxn id="82" idx="1"/>
            </p:cNvCxnSpPr>
            <p:nvPr/>
          </p:nvCxnSpPr>
          <p:spPr>
            <a:xfrm>
              <a:off x="2603160" y="2176200"/>
              <a:ext cx="189720" cy="144720"/>
            </a:xfrm>
            <a:prstGeom prst="straightConnector1">
              <a:avLst/>
            </a:prstGeom>
            <a:ln w="12600">
              <a:solidFill>
                <a:srgbClr val="000000"/>
              </a:solidFill>
              <a:miter/>
              <a:tailEnd len="lg" type="triangle" w="sm"/>
            </a:ln>
          </p:spPr>
        </p:cxnSp>
        <p:sp>
          <p:nvSpPr>
            <p:cNvPr id="109" name=""/>
            <p:cNvSpPr/>
            <p:nvPr/>
          </p:nvSpPr>
          <p:spPr>
            <a:xfrm>
              <a:off x="2529000" y="2033640"/>
              <a:ext cx="150840" cy="142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6388200" y="1216080"/>
            <a:ext cx="2703240" cy="2073240"/>
          </a:xfrm>
          <a:prstGeom prst="rect">
            <a:avLst/>
          </a:prstGeom>
          <a:ln w="0">
            <a:noFill/>
          </a:ln>
        </p:spPr>
      </p:pic>
      <p:pic>
        <p:nvPicPr>
          <p:cNvPr id="127" name="" descr=""/>
          <p:cNvPicPr/>
          <p:nvPr/>
        </p:nvPicPr>
        <p:blipFill>
          <a:blip r:embed="rId2"/>
          <a:stretch/>
        </p:blipFill>
        <p:spPr>
          <a:xfrm>
            <a:off x="4589640" y="1380960"/>
            <a:ext cx="1695240" cy="1695600"/>
          </a:xfrm>
          <a:prstGeom prst="rect">
            <a:avLst/>
          </a:prstGeom>
          <a:ln w="0">
            <a:noFill/>
          </a:ln>
        </p:spPr>
      </p:pic>
    </p:spTree>
  </p:cSld>
  <p:transition>
    <p:pull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2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2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3" presetSubtype="16">
                                  <p:stCondLst>
                                    <p:cond delay="0"/>
                                  </p:stCondLst>
                                  <p:childTnLst>
                                    <p:set>
                                      <p:cBhvr>
                                        <p:cTn id="12" dur="1" fill="hold">
                                          <p:stCondLst>
                                            <p:cond delay="0"/>
                                          </p:stCondLst>
                                        </p:cTn>
                                        <p:tgtEl>
                                          <p:spTgt spid="72"/>
                                        </p:tgtEl>
                                        <p:attrNameLst>
                                          <p:attrName>style.visibility</p:attrName>
                                        </p:attrNameLst>
                                      </p:cBhvr>
                                      <p:to>
                                        <p:strVal val="visible"/>
                                      </p:to>
                                    </p:set>
                                    <p:anim calcmode="lin" valueType="num">
                                      <p:cBhvr additive="repl">
                                        <p:cTn id="13" dur="500" fill="hold"/>
                                        <p:tgtEl>
                                          <p:spTgt spid="72"/>
                                        </p:tgtEl>
                                        <p:attrNameLst>
                                          <p:attrName>ppt_w</p:attrName>
                                        </p:attrNameLst>
                                      </p:cBhvr>
                                      <p:tavLst>
                                        <p:tav tm="0">
                                          <p:val>
                                            <p:fltVal val="0"/>
                                          </p:val>
                                        </p:tav>
                                        <p:tav tm="100000">
                                          <p:val>
                                            <p:strVal val="#ppt_w"/>
                                          </p:val>
                                        </p:tav>
                                      </p:tavLst>
                                    </p:anim>
                                    <p:anim calcmode="lin" valueType="num">
                                      <p:cBhvr additive="repl">
                                        <p:cTn id="14"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9" name="PlaceHolder 1"/>
          <p:cNvSpPr>
            <a:spLocks noGrp="1"/>
          </p:cNvSpPr>
          <p:nvPr>
            <p:ph type="title"/>
          </p:nvPr>
        </p:nvSpPr>
        <p:spPr>
          <a:xfrm>
            <a:off x="-360" y="198000"/>
            <a:ext cx="7388280" cy="45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Distribuição típica das atividades (esforço) por área de conhecimento nas fases do desenvolvimento</a:t>
            </a:r>
            <a:endParaRPr b="0" lang="en-US" sz="2400" spc="-1" strike="noStrike">
              <a:solidFill>
                <a:srgbClr val="000096"/>
              </a:solidFill>
              <a:latin typeface="Arial"/>
            </a:endParaRPr>
          </a:p>
        </p:txBody>
      </p:sp>
      <p:sp>
        <p:nvSpPr>
          <p:cNvPr id="5260" name=""/>
          <p:cNvSpPr/>
          <p:nvPr/>
        </p:nvSpPr>
        <p:spPr>
          <a:xfrm>
            <a:off x="2076480" y="1089000"/>
            <a:ext cx="5749920" cy="344520"/>
          </a:xfrm>
          <a:custGeom>
            <a:avLst/>
            <a:gdLst>
              <a:gd name="textAreaLeft" fmla="*/ 0 w 5749920"/>
              <a:gd name="textAreaRight" fmla="*/ 5750280 w 5749920"/>
              <a:gd name="textAreaTop" fmla="*/ 0 h 344520"/>
              <a:gd name="textAreaBottom" fmla="*/ 344880 h 344520"/>
            </a:gdLst>
            <a:ahLst/>
            <a:rect l="textAreaLeft" t="textAreaTop" r="textAreaRight" b="textAreaBottom"/>
            <a:pathLst>
              <a:path w="21600" h="21600">
                <a:moveTo>
                  <a:pt x="0" y="0"/>
                </a:moveTo>
                <a:lnTo>
                  <a:pt x="21221" y="0"/>
                </a:lnTo>
                <a:lnTo>
                  <a:pt x="21600" y="10800"/>
                </a:lnTo>
                <a:lnTo>
                  <a:pt x="21221" y="21600"/>
                </a:lnTo>
                <a:lnTo>
                  <a:pt x="0" y="21600"/>
                </a:lnTo>
                <a:lnTo>
                  <a:pt x="379" y="10800"/>
                </a:lnTo>
                <a:close/>
              </a:path>
            </a:pathLst>
          </a:custGeom>
          <a:solidFill>
            <a:srgbClr val="ffff66"/>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envolvimento</a:t>
            </a:r>
            <a:endParaRPr b="0" lang="en-US" sz="2000" spc="-1" strike="noStrike">
              <a:solidFill>
                <a:srgbClr val="000000"/>
              </a:solidFill>
              <a:latin typeface="Arial"/>
            </a:endParaRPr>
          </a:p>
        </p:txBody>
      </p:sp>
      <p:sp>
        <p:nvSpPr>
          <p:cNvPr id="5261" name=""/>
          <p:cNvSpPr/>
          <p:nvPr/>
        </p:nvSpPr>
        <p:spPr>
          <a:xfrm>
            <a:off x="4470840" y="1488600"/>
            <a:ext cx="1043640" cy="520200"/>
          </a:xfrm>
          <a:custGeom>
            <a:avLst/>
            <a:gdLst>
              <a:gd name="textAreaLeft" fmla="*/ 0 w 1043640"/>
              <a:gd name="textAreaRight" fmla="*/ 1044000 w 1043640"/>
              <a:gd name="textAreaTop" fmla="*/ 0 h 520200"/>
              <a:gd name="textAreaBottom" fmla="*/ 520560 h 52020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66"/>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5262" name=""/>
          <p:cNvSpPr/>
          <p:nvPr/>
        </p:nvSpPr>
        <p:spPr>
          <a:xfrm>
            <a:off x="3372120" y="1488600"/>
            <a:ext cx="1074240" cy="520200"/>
          </a:xfrm>
          <a:custGeom>
            <a:avLst/>
            <a:gdLst>
              <a:gd name="textAreaLeft" fmla="*/ 0 w 1074240"/>
              <a:gd name="textAreaRight" fmla="*/ 1074600 w 1074240"/>
              <a:gd name="textAreaTop" fmla="*/ 0 h 520200"/>
              <a:gd name="textAreaBottom" fmla="*/ 520560 h 52020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66"/>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5263" name=""/>
          <p:cNvSpPr/>
          <p:nvPr/>
        </p:nvSpPr>
        <p:spPr>
          <a:xfrm>
            <a:off x="2074320" y="1488600"/>
            <a:ext cx="1302840" cy="520200"/>
          </a:xfrm>
          <a:custGeom>
            <a:avLst/>
            <a:gdLst>
              <a:gd name="textAreaLeft" fmla="*/ 0 w 1302840"/>
              <a:gd name="textAreaRight" fmla="*/ 1303200 w 1302840"/>
              <a:gd name="textAreaTop" fmla="*/ 0 h 520200"/>
              <a:gd name="textAreaBottom" fmla="*/ 520560 h 52020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66"/>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5264" name=""/>
          <p:cNvSpPr/>
          <p:nvPr/>
        </p:nvSpPr>
        <p:spPr>
          <a:xfrm>
            <a:off x="6618960" y="1488600"/>
            <a:ext cx="1162080" cy="520200"/>
          </a:xfrm>
          <a:custGeom>
            <a:avLst/>
            <a:gdLst>
              <a:gd name="textAreaLeft" fmla="*/ 0 w 1162080"/>
              <a:gd name="textAreaRight" fmla="*/ 1162080 w 1162080"/>
              <a:gd name="textAreaTop" fmla="*/ 0 h 520200"/>
              <a:gd name="textAreaBottom" fmla="*/ 520560 h 52020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66"/>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5265" name=""/>
          <p:cNvSpPr/>
          <p:nvPr/>
        </p:nvSpPr>
        <p:spPr>
          <a:xfrm>
            <a:off x="5513400" y="1488600"/>
            <a:ext cx="1102680" cy="520200"/>
          </a:xfrm>
          <a:custGeom>
            <a:avLst/>
            <a:gdLst>
              <a:gd name="textAreaLeft" fmla="*/ 0 w 1102680"/>
              <a:gd name="textAreaRight" fmla="*/ 1102680 w 1102680"/>
              <a:gd name="textAreaTop" fmla="*/ 0 h 520200"/>
              <a:gd name="textAreaBottom" fmla="*/ 520560 h 52020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66"/>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sp>
        <p:nvSpPr>
          <p:cNvPr id="5266" name=""/>
          <p:cNvSpPr/>
          <p:nvPr/>
        </p:nvSpPr>
        <p:spPr>
          <a:xfrm>
            <a:off x="206280" y="2193840"/>
            <a:ext cx="1616040" cy="451080"/>
          </a:xfrm>
          <a:prstGeom prst="rect">
            <a:avLst/>
          </a:prstGeom>
          <a:solidFill>
            <a:srgbClr val="ccffff"/>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stão de projetos</a:t>
            </a:r>
            <a:endParaRPr b="0" lang="en-US" sz="1400" spc="-1" strike="noStrike">
              <a:solidFill>
                <a:srgbClr val="000000"/>
              </a:solidFill>
              <a:latin typeface="Arial"/>
            </a:endParaRPr>
          </a:p>
        </p:txBody>
      </p:sp>
      <p:grpSp>
        <p:nvGrpSpPr>
          <p:cNvPr id="5267" name=""/>
          <p:cNvGrpSpPr/>
          <p:nvPr/>
        </p:nvGrpSpPr>
        <p:grpSpPr>
          <a:xfrm>
            <a:off x="1974960" y="2193840"/>
            <a:ext cx="5736960" cy="4514400"/>
            <a:chOff x="1974960" y="2193840"/>
            <a:chExt cx="5736960" cy="4514400"/>
          </a:xfrm>
        </p:grpSpPr>
        <p:sp>
          <p:nvSpPr>
            <p:cNvPr id="5268" name=""/>
            <p:cNvSpPr/>
            <p:nvPr/>
          </p:nvSpPr>
          <p:spPr>
            <a:xfrm>
              <a:off x="1974960" y="2193840"/>
              <a:ext cx="5736960" cy="450720"/>
            </a:xfrm>
            <a:prstGeom prst="rect">
              <a:avLst/>
            </a:prstGeom>
            <a:solidFill>
              <a:srgbClr val="ccffff"/>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69" name=""/>
            <p:cNvSpPr/>
            <p:nvPr/>
          </p:nvSpPr>
          <p:spPr>
            <a:xfrm>
              <a:off x="1974960" y="2701800"/>
              <a:ext cx="5736960" cy="450360"/>
            </a:xfrm>
            <a:prstGeom prst="rect">
              <a:avLst/>
            </a:prstGeom>
            <a:solidFill>
              <a:srgbClr val="ffffff"/>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70" name=""/>
            <p:cNvSpPr/>
            <p:nvPr/>
          </p:nvSpPr>
          <p:spPr>
            <a:xfrm>
              <a:off x="1974960" y="3209760"/>
              <a:ext cx="5736960" cy="450360"/>
            </a:xfrm>
            <a:prstGeom prst="rect">
              <a:avLst/>
            </a:prstGeom>
            <a:solidFill>
              <a:srgbClr val="ffffcc"/>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71" name=""/>
            <p:cNvSpPr/>
            <p:nvPr/>
          </p:nvSpPr>
          <p:spPr>
            <a:xfrm>
              <a:off x="1974960" y="3717720"/>
              <a:ext cx="5736960" cy="450360"/>
            </a:xfrm>
            <a:prstGeom prst="rect">
              <a:avLst/>
            </a:prstGeom>
            <a:solidFill>
              <a:srgbClr val="ffffff"/>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72" name=""/>
            <p:cNvSpPr/>
            <p:nvPr/>
          </p:nvSpPr>
          <p:spPr>
            <a:xfrm>
              <a:off x="1974960" y="4225680"/>
              <a:ext cx="5736960" cy="450360"/>
            </a:xfrm>
            <a:prstGeom prst="rect">
              <a:avLst/>
            </a:prstGeom>
            <a:solidFill>
              <a:srgbClr val="ffe5ff"/>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73" name=""/>
            <p:cNvSpPr/>
            <p:nvPr/>
          </p:nvSpPr>
          <p:spPr>
            <a:xfrm>
              <a:off x="1974960" y="4733640"/>
              <a:ext cx="5736960" cy="450360"/>
            </a:xfrm>
            <a:prstGeom prst="rect">
              <a:avLst/>
            </a:prstGeom>
            <a:solidFill>
              <a:srgbClr val="ffffff"/>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74" name=""/>
            <p:cNvSpPr/>
            <p:nvPr/>
          </p:nvSpPr>
          <p:spPr>
            <a:xfrm>
              <a:off x="1974960" y="5241600"/>
              <a:ext cx="5736960" cy="450360"/>
            </a:xfrm>
            <a:prstGeom prst="rect">
              <a:avLst/>
            </a:prstGeom>
            <a:solidFill>
              <a:srgbClr val="f0f0f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75" name=""/>
            <p:cNvSpPr/>
            <p:nvPr/>
          </p:nvSpPr>
          <p:spPr>
            <a:xfrm>
              <a:off x="1974960" y="5749560"/>
              <a:ext cx="5736960" cy="450720"/>
            </a:xfrm>
            <a:prstGeom prst="rect">
              <a:avLst/>
            </a:prstGeom>
            <a:solidFill>
              <a:srgbClr val="ffffff"/>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76" name=""/>
            <p:cNvSpPr/>
            <p:nvPr/>
          </p:nvSpPr>
          <p:spPr>
            <a:xfrm>
              <a:off x="1974960" y="6257520"/>
              <a:ext cx="5736960" cy="450720"/>
            </a:xfrm>
            <a:prstGeom prst="rect">
              <a:avLst/>
            </a:prstGeom>
            <a:solidFill>
              <a:srgbClr val="ffd9b3"/>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sp>
        <p:nvSpPr>
          <p:cNvPr id="5277" name=""/>
          <p:cNvSpPr/>
          <p:nvPr/>
        </p:nvSpPr>
        <p:spPr>
          <a:xfrm>
            <a:off x="206280" y="2701800"/>
            <a:ext cx="1616040" cy="451080"/>
          </a:xfrm>
          <a:prstGeom prst="rect">
            <a:avLst/>
          </a:prstGeom>
          <a:solidFill>
            <a:srgbClr val="ffffff"/>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io ambiente</a:t>
            </a:r>
            <a:endParaRPr b="0" lang="en-US" sz="1400" spc="-1" strike="noStrike">
              <a:solidFill>
                <a:srgbClr val="000000"/>
              </a:solidFill>
              <a:latin typeface="Arial"/>
            </a:endParaRPr>
          </a:p>
        </p:txBody>
      </p:sp>
      <p:sp>
        <p:nvSpPr>
          <p:cNvPr id="5278" name=""/>
          <p:cNvSpPr/>
          <p:nvPr/>
        </p:nvSpPr>
        <p:spPr>
          <a:xfrm>
            <a:off x="206280" y="3209760"/>
            <a:ext cx="1616040" cy="451080"/>
          </a:xfrm>
          <a:prstGeom prst="rect">
            <a:avLst/>
          </a:prstGeom>
          <a:solidFill>
            <a:srgbClr val="ffffcc"/>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a:t>
            </a:r>
            <a:endParaRPr b="0" lang="en-US" sz="1400" spc="-1" strike="noStrike">
              <a:solidFill>
                <a:srgbClr val="000000"/>
              </a:solidFill>
              <a:latin typeface="Arial"/>
            </a:endParaRPr>
          </a:p>
        </p:txBody>
      </p:sp>
      <p:sp>
        <p:nvSpPr>
          <p:cNvPr id="5279" name=""/>
          <p:cNvSpPr/>
          <p:nvPr/>
        </p:nvSpPr>
        <p:spPr>
          <a:xfrm>
            <a:off x="206280" y="3718080"/>
            <a:ext cx="1616040" cy="450720"/>
          </a:xfrm>
          <a:prstGeom prst="rect">
            <a:avLst/>
          </a:prstGeom>
          <a:solidFill>
            <a:srgbClr val="ffffff"/>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enharia de produto</a:t>
            </a:r>
            <a:endParaRPr b="0" lang="en-US" sz="1400" spc="-1" strike="noStrike">
              <a:solidFill>
                <a:srgbClr val="000000"/>
              </a:solidFill>
              <a:latin typeface="Arial"/>
            </a:endParaRPr>
          </a:p>
        </p:txBody>
      </p:sp>
      <p:sp>
        <p:nvSpPr>
          <p:cNvPr id="5280" name=""/>
          <p:cNvSpPr/>
          <p:nvPr/>
        </p:nvSpPr>
        <p:spPr>
          <a:xfrm>
            <a:off x="206280" y="4226040"/>
            <a:ext cx="1616040" cy="450720"/>
          </a:xfrm>
          <a:prstGeom prst="rect">
            <a:avLst/>
          </a:prstGeom>
          <a:solidFill>
            <a:srgbClr val="ffe5ff"/>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enharia de </a:t>
            </a:r>
            <a:r>
              <a:rPr b="1" lang="pt-BR" sz="1400" spc="-1" strike="noStrike">
                <a:solidFill>
                  <a:srgbClr val="000000"/>
                </a:solidFill>
                <a:latin typeface="Arial"/>
              </a:rPr>
              <a:t>processo</a:t>
            </a:r>
            <a:endParaRPr b="0" lang="en-US" sz="1400" spc="-1" strike="noStrike">
              <a:solidFill>
                <a:srgbClr val="000000"/>
              </a:solidFill>
              <a:latin typeface="Arial"/>
            </a:endParaRPr>
          </a:p>
        </p:txBody>
      </p:sp>
      <p:sp>
        <p:nvSpPr>
          <p:cNvPr id="5281" name=""/>
          <p:cNvSpPr/>
          <p:nvPr/>
        </p:nvSpPr>
        <p:spPr>
          <a:xfrm>
            <a:off x="206280" y="4734000"/>
            <a:ext cx="1616040" cy="450720"/>
          </a:xfrm>
          <a:prstGeom prst="rect">
            <a:avLst/>
          </a:prstGeom>
          <a:solidFill>
            <a:srgbClr val="ffffff"/>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ção</a:t>
            </a:r>
            <a:endParaRPr b="0" lang="en-US" sz="1400" spc="-1" strike="noStrike">
              <a:solidFill>
                <a:srgbClr val="000000"/>
              </a:solidFill>
              <a:latin typeface="Arial"/>
            </a:endParaRPr>
          </a:p>
        </p:txBody>
      </p:sp>
      <p:sp>
        <p:nvSpPr>
          <p:cNvPr id="5282" name=""/>
          <p:cNvSpPr/>
          <p:nvPr/>
        </p:nvSpPr>
        <p:spPr>
          <a:xfrm>
            <a:off x="206280" y="5241960"/>
            <a:ext cx="1616040" cy="450720"/>
          </a:xfrm>
          <a:prstGeom prst="rect">
            <a:avLst/>
          </a:prstGeom>
          <a:solidFill>
            <a:srgbClr val="f0f0f0"/>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rimentos</a:t>
            </a:r>
            <a:endParaRPr b="0" lang="en-US" sz="1400" spc="-1" strike="noStrike">
              <a:solidFill>
                <a:srgbClr val="000000"/>
              </a:solidFill>
              <a:latin typeface="Arial"/>
            </a:endParaRPr>
          </a:p>
        </p:txBody>
      </p:sp>
      <p:sp>
        <p:nvSpPr>
          <p:cNvPr id="5283" name=""/>
          <p:cNvSpPr/>
          <p:nvPr/>
        </p:nvSpPr>
        <p:spPr>
          <a:xfrm>
            <a:off x="206280" y="5749920"/>
            <a:ext cx="1616040" cy="450720"/>
          </a:xfrm>
          <a:prstGeom prst="rect">
            <a:avLst/>
          </a:prstGeom>
          <a:solidFill>
            <a:srgbClr val="ffffff"/>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dade</a:t>
            </a:r>
            <a:endParaRPr b="0" lang="en-US" sz="1400" spc="-1" strike="noStrike">
              <a:solidFill>
                <a:srgbClr val="000000"/>
              </a:solidFill>
              <a:latin typeface="Arial"/>
            </a:endParaRPr>
          </a:p>
        </p:txBody>
      </p:sp>
      <p:sp>
        <p:nvSpPr>
          <p:cNvPr id="5284" name=""/>
          <p:cNvSpPr/>
          <p:nvPr/>
        </p:nvSpPr>
        <p:spPr>
          <a:xfrm>
            <a:off x="206280" y="6257880"/>
            <a:ext cx="1616040" cy="450720"/>
          </a:xfrm>
          <a:prstGeom prst="rect">
            <a:avLst/>
          </a:prstGeom>
          <a:solidFill>
            <a:srgbClr val="ffd9b3"/>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s</a:t>
            </a:r>
            <a:endParaRPr b="0" lang="en-US" sz="1400" spc="-1" strike="noStrike">
              <a:solidFill>
                <a:srgbClr val="000000"/>
              </a:solidFill>
              <a:latin typeface="Arial"/>
            </a:endParaRPr>
          </a:p>
        </p:txBody>
      </p:sp>
      <p:sp>
        <p:nvSpPr>
          <p:cNvPr id="5285" name=""/>
          <p:cNvSpPr/>
          <p:nvPr/>
        </p:nvSpPr>
        <p:spPr>
          <a:xfrm>
            <a:off x="3313080" y="2014560"/>
            <a:ext cx="0" cy="4678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5286" name=""/>
          <p:cNvSpPr/>
          <p:nvPr/>
        </p:nvSpPr>
        <p:spPr>
          <a:xfrm>
            <a:off x="4403880" y="2014560"/>
            <a:ext cx="0" cy="4678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nvGrpSpPr>
          <p:cNvPr id="5287" name=""/>
          <p:cNvGrpSpPr/>
          <p:nvPr/>
        </p:nvGrpSpPr>
        <p:grpSpPr>
          <a:xfrm>
            <a:off x="3422520" y="2389320"/>
            <a:ext cx="890640" cy="217440"/>
            <a:chOff x="3422520" y="2389320"/>
            <a:chExt cx="890640" cy="217440"/>
          </a:xfrm>
        </p:grpSpPr>
        <p:sp>
          <p:nvSpPr>
            <p:cNvPr id="5288" name=""/>
            <p:cNvSpPr/>
            <p:nvPr/>
          </p:nvSpPr>
          <p:spPr>
            <a:xfrm>
              <a:off x="3422520" y="251784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289" name=""/>
            <p:cNvSpPr/>
            <p:nvPr/>
          </p:nvSpPr>
          <p:spPr>
            <a:xfrm>
              <a:off x="3422520" y="238932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290" name=""/>
          <p:cNvSpPr/>
          <p:nvPr/>
        </p:nvSpPr>
        <p:spPr>
          <a:xfrm>
            <a:off x="2225520" y="506268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291" name=""/>
          <p:cNvGrpSpPr/>
          <p:nvPr/>
        </p:nvGrpSpPr>
        <p:grpSpPr>
          <a:xfrm>
            <a:off x="4468680" y="2389320"/>
            <a:ext cx="890640" cy="217440"/>
            <a:chOff x="4468680" y="2389320"/>
            <a:chExt cx="890640" cy="217440"/>
          </a:xfrm>
        </p:grpSpPr>
        <p:sp>
          <p:nvSpPr>
            <p:cNvPr id="5292" name=""/>
            <p:cNvSpPr/>
            <p:nvPr/>
          </p:nvSpPr>
          <p:spPr>
            <a:xfrm>
              <a:off x="4468680" y="251784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293" name=""/>
            <p:cNvSpPr/>
            <p:nvPr/>
          </p:nvSpPr>
          <p:spPr>
            <a:xfrm>
              <a:off x="4468680" y="238932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294" name=""/>
          <p:cNvSpPr/>
          <p:nvPr/>
        </p:nvSpPr>
        <p:spPr>
          <a:xfrm>
            <a:off x="4470480" y="303048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295" name=""/>
          <p:cNvGrpSpPr/>
          <p:nvPr/>
        </p:nvGrpSpPr>
        <p:grpSpPr>
          <a:xfrm>
            <a:off x="5567400" y="2260440"/>
            <a:ext cx="890640" cy="346320"/>
            <a:chOff x="5567400" y="2260440"/>
            <a:chExt cx="890640" cy="346320"/>
          </a:xfrm>
        </p:grpSpPr>
        <p:sp>
          <p:nvSpPr>
            <p:cNvPr id="5296" name=""/>
            <p:cNvSpPr/>
            <p:nvPr/>
          </p:nvSpPr>
          <p:spPr>
            <a:xfrm>
              <a:off x="5567400" y="25178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297" name=""/>
            <p:cNvSpPr/>
            <p:nvPr/>
          </p:nvSpPr>
          <p:spPr>
            <a:xfrm>
              <a:off x="5567400" y="23893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298" name=""/>
            <p:cNvSpPr/>
            <p:nvPr/>
          </p:nvSpPr>
          <p:spPr>
            <a:xfrm>
              <a:off x="5567400" y="22604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grpSp>
        <p:nvGrpSpPr>
          <p:cNvPr id="5299" name=""/>
          <p:cNvGrpSpPr/>
          <p:nvPr/>
        </p:nvGrpSpPr>
        <p:grpSpPr>
          <a:xfrm>
            <a:off x="2225520" y="2901960"/>
            <a:ext cx="2087640" cy="217440"/>
            <a:chOff x="2225520" y="2901960"/>
            <a:chExt cx="2087640" cy="217440"/>
          </a:xfrm>
        </p:grpSpPr>
        <p:sp>
          <p:nvSpPr>
            <p:cNvPr id="5300" name=""/>
            <p:cNvSpPr/>
            <p:nvPr/>
          </p:nvSpPr>
          <p:spPr>
            <a:xfrm>
              <a:off x="2225520" y="303048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01" name=""/>
            <p:cNvSpPr/>
            <p:nvPr/>
          </p:nvSpPr>
          <p:spPr>
            <a:xfrm>
              <a:off x="2225520" y="290196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02" name=""/>
            <p:cNvSpPr/>
            <p:nvPr/>
          </p:nvSpPr>
          <p:spPr>
            <a:xfrm>
              <a:off x="3422520" y="303048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03" name=""/>
            <p:cNvSpPr/>
            <p:nvPr/>
          </p:nvSpPr>
          <p:spPr>
            <a:xfrm>
              <a:off x="3422520" y="290196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304" name=""/>
          <p:cNvSpPr/>
          <p:nvPr/>
        </p:nvSpPr>
        <p:spPr>
          <a:xfrm>
            <a:off x="5567400" y="303048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305" name=""/>
          <p:cNvGrpSpPr/>
          <p:nvPr/>
        </p:nvGrpSpPr>
        <p:grpSpPr>
          <a:xfrm>
            <a:off x="6702480" y="2901960"/>
            <a:ext cx="890640" cy="217440"/>
            <a:chOff x="6702480" y="2901960"/>
            <a:chExt cx="890640" cy="217440"/>
          </a:xfrm>
        </p:grpSpPr>
        <p:sp>
          <p:nvSpPr>
            <p:cNvPr id="5306" name=""/>
            <p:cNvSpPr/>
            <p:nvPr/>
          </p:nvSpPr>
          <p:spPr>
            <a:xfrm>
              <a:off x="6702480" y="303048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07" name=""/>
            <p:cNvSpPr/>
            <p:nvPr/>
          </p:nvSpPr>
          <p:spPr>
            <a:xfrm>
              <a:off x="6702480" y="290196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308" name=""/>
          <p:cNvSpPr/>
          <p:nvPr/>
        </p:nvSpPr>
        <p:spPr>
          <a:xfrm>
            <a:off x="4470480" y="353232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309" name=""/>
          <p:cNvGrpSpPr/>
          <p:nvPr/>
        </p:nvGrpSpPr>
        <p:grpSpPr>
          <a:xfrm>
            <a:off x="6702480" y="3274920"/>
            <a:ext cx="890640" cy="346320"/>
            <a:chOff x="6702480" y="3274920"/>
            <a:chExt cx="890640" cy="346320"/>
          </a:xfrm>
        </p:grpSpPr>
        <p:sp>
          <p:nvSpPr>
            <p:cNvPr id="5310" name=""/>
            <p:cNvSpPr/>
            <p:nvPr/>
          </p:nvSpPr>
          <p:spPr>
            <a:xfrm>
              <a:off x="6702480" y="35323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11" name=""/>
            <p:cNvSpPr/>
            <p:nvPr/>
          </p:nvSpPr>
          <p:spPr>
            <a:xfrm>
              <a:off x="6702480" y="34034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12" name=""/>
            <p:cNvSpPr/>
            <p:nvPr/>
          </p:nvSpPr>
          <p:spPr>
            <a:xfrm>
              <a:off x="6702480" y="32749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grpSp>
        <p:nvGrpSpPr>
          <p:cNvPr id="5313" name=""/>
          <p:cNvGrpSpPr/>
          <p:nvPr/>
        </p:nvGrpSpPr>
        <p:grpSpPr>
          <a:xfrm>
            <a:off x="6702480" y="4933800"/>
            <a:ext cx="890640" cy="217800"/>
            <a:chOff x="6702480" y="4933800"/>
            <a:chExt cx="890640" cy="217800"/>
          </a:xfrm>
        </p:grpSpPr>
        <p:sp>
          <p:nvSpPr>
            <p:cNvPr id="5314" name=""/>
            <p:cNvSpPr/>
            <p:nvPr/>
          </p:nvSpPr>
          <p:spPr>
            <a:xfrm>
              <a:off x="6702480" y="506268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15" name=""/>
            <p:cNvSpPr/>
            <p:nvPr/>
          </p:nvSpPr>
          <p:spPr>
            <a:xfrm>
              <a:off x="6702480" y="493380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316" name=""/>
          <p:cNvSpPr/>
          <p:nvPr/>
        </p:nvSpPr>
        <p:spPr>
          <a:xfrm>
            <a:off x="3422520" y="454356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317" name=""/>
          <p:cNvGrpSpPr/>
          <p:nvPr/>
        </p:nvGrpSpPr>
        <p:grpSpPr>
          <a:xfrm>
            <a:off x="5567400" y="4414680"/>
            <a:ext cx="890640" cy="217800"/>
            <a:chOff x="5567400" y="4414680"/>
            <a:chExt cx="890640" cy="217800"/>
          </a:xfrm>
        </p:grpSpPr>
        <p:sp>
          <p:nvSpPr>
            <p:cNvPr id="5318" name=""/>
            <p:cNvSpPr/>
            <p:nvPr/>
          </p:nvSpPr>
          <p:spPr>
            <a:xfrm>
              <a:off x="5567400" y="454356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19" name=""/>
            <p:cNvSpPr/>
            <p:nvPr/>
          </p:nvSpPr>
          <p:spPr>
            <a:xfrm>
              <a:off x="5567400" y="441468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320" name=""/>
          <p:cNvSpPr/>
          <p:nvPr/>
        </p:nvSpPr>
        <p:spPr>
          <a:xfrm>
            <a:off x="3422520" y="506268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321" name=""/>
          <p:cNvGrpSpPr/>
          <p:nvPr/>
        </p:nvGrpSpPr>
        <p:grpSpPr>
          <a:xfrm>
            <a:off x="3424320" y="3903840"/>
            <a:ext cx="890640" cy="217440"/>
            <a:chOff x="3424320" y="3903840"/>
            <a:chExt cx="890640" cy="217440"/>
          </a:xfrm>
        </p:grpSpPr>
        <p:sp>
          <p:nvSpPr>
            <p:cNvPr id="5322" name=""/>
            <p:cNvSpPr/>
            <p:nvPr/>
          </p:nvSpPr>
          <p:spPr>
            <a:xfrm>
              <a:off x="3424320" y="403236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23" name=""/>
            <p:cNvSpPr/>
            <p:nvPr/>
          </p:nvSpPr>
          <p:spPr>
            <a:xfrm>
              <a:off x="3424320" y="3903840"/>
              <a:ext cx="890640" cy="8856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324" name=""/>
          <p:cNvSpPr/>
          <p:nvPr/>
        </p:nvSpPr>
        <p:spPr>
          <a:xfrm>
            <a:off x="2225520" y="658332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325" name=""/>
          <p:cNvGrpSpPr/>
          <p:nvPr/>
        </p:nvGrpSpPr>
        <p:grpSpPr>
          <a:xfrm>
            <a:off x="4468680" y="6454800"/>
            <a:ext cx="3122640" cy="217440"/>
            <a:chOff x="4468680" y="6454800"/>
            <a:chExt cx="3122640" cy="217440"/>
          </a:xfrm>
        </p:grpSpPr>
        <p:sp>
          <p:nvSpPr>
            <p:cNvPr id="5326" name=""/>
            <p:cNvSpPr/>
            <p:nvPr/>
          </p:nvSpPr>
          <p:spPr>
            <a:xfrm>
              <a:off x="4468680" y="658332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27" name=""/>
            <p:cNvSpPr/>
            <p:nvPr/>
          </p:nvSpPr>
          <p:spPr>
            <a:xfrm>
              <a:off x="4468680" y="645480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28" name=""/>
            <p:cNvSpPr/>
            <p:nvPr/>
          </p:nvSpPr>
          <p:spPr>
            <a:xfrm>
              <a:off x="5567400" y="658332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29" name=""/>
            <p:cNvSpPr/>
            <p:nvPr/>
          </p:nvSpPr>
          <p:spPr>
            <a:xfrm>
              <a:off x="5567400" y="645480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30" name=""/>
            <p:cNvSpPr/>
            <p:nvPr/>
          </p:nvSpPr>
          <p:spPr>
            <a:xfrm>
              <a:off x="6700680" y="658332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31" name=""/>
            <p:cNvSpPr/>
            <p:nvPr/>
          </p:nvSpPr>
          <p:spPr>
            <a:xfrm>
              <a:off x="6700680" y="645480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332" name=""/>
          <p:cNvSpPr/>
          <p:nvPr/>
        </p:nvSpPr>
        <p:spPr>
          <a:xfrm>
            <a:off x="4470480" y="607860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333" name=""/>
          <p:cNvGrpSpPr/>
          <p:nvPr/>
        </p:nvGrpSpPr>
        <p:grpSpPr>
          <a:xfrm>
            <a:off x="5567400" y="5950080"/>
            <a:ext cx="890640" cy="217440"/>
            <a:chOff x="5567400" y="5950080"/>
            <a:chExt cx="890640" cy="217440"/>
          </a:xfrm>
        </p:grpSpPr>
        <p:sp>
          <p:nvSpPr>
            <p:cNvPr id="5334" name=""/>
            <p:cNvSpPr/>
            <p:nvPr/>
          </p:nvSpPr>
          <p:spPr>
            <a:xfrm>
              <a:off x="5567400" y="607860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35" name=""/>
            <p:cNvSpPr/>
            <p:nvPr/>
          </p:nvSpPr>
          <p:spPr>
            <a:xfrm>
              <a:off x="5567400" y="595008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grpSp>
        <p:nvGrpSpPr>
          <p:cNvPr id="5336" name=""/>
          <p:cNvGrpSpPr/>
          <p:nvPr/>
        </p:nvGrpSpPr>
        <p:grpSpPr>
          <a:xfrm>
            <a:off x="6702480" y="5950080"/>
            <a:ext cx="890640" cy="217440"/>
            <a:chOff x="6702480" y="5950080"/>
            <a:chExt cx="890640" cy="217440"/>
          </a:xfrm>
        </p:grpSpPr>
        <p:sp>
          <p:nvSpPr>
            <p:cNvPr id="5337" name=""/>
            <p:cNvSpPr/>
            <p:nvPr/>
          </p:nvSpPr>
          <p:spPr>
            <a:xfrm>
              <a:off x="6702480" y="607860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38" name=""/>
            <p:cNvSpPr/>
            <p:nvPr/>
          </p:nvSpPr>
          <p:spPr>
            <a:xfrm>
              <a:off x="6702480" y="595008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339" name=""/>
          <p:cNvSpPr/>
          <p:nvPr/>
        </p:nvSpPr>
        <p:spPr>
          <a:xfrm>
            <a:off x="2225520" y="557208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340" name=""/>
          <p:cNvGrpSpPr/>
          <p:nvPr/>
        </p:nvGrpSpPr>
        <p:grpSpPr>
          <a:xfrm>
            <a:off x="6702480" y="5443560"/>
            <a:ext cx="890640" cy="217440"/>
            <a:chOff x="6702480" y="5443560"/>
            <a:chExt cx="890640" cy="217440"/>
          </a:xfrm>
        </p:grpSpPr>
        <p:sp>
          <p:nvSpPr>
            <p:cNvPr id="5341" name=""/>
            <p:cNvSpPr/>
            <p:nvPr/>
          </p:nvSpPr>
          <p:spPr>
            <a:xfrm>
              <a:off x="6702480" y="557208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42" name=""/>
            <p:cNvSpPr/>
            <p:nvPr/>
          </p:nvSpPr>
          <p:spPr>
            <a:xfrm>
              <a:off x="6702480" y="544356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343" name=""/>
          <p:cNvSpPr/>
          <p:nvPr/>
        </p:nvSpPr>
        <p:spPr>
          <a:xfrm>
            <a:off x="298440" y="1568520"/>
            <a:ext cx="1589040" cy="48708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Áreas de conhecimento</a:t>
            </a:r>
            <a:endParaRPr b="0" lang="en-US" sz="1600" spc="-1" strike="noStrike">
              <a:solidFill>
                <a:srgbClr val="000000"/>
              </a:solidFill>
              <a:latin typeface="Arial"/>
            </a:endParaRPr>
          </a:p>
        </p:txBody>
      </p:sp>
      <p:sp>
        <p:nvSpPr>
          <p:cNvPr id="5344" name=""/>
          <p:cNvSpPr/>
          <p:nvPr/>
        </p:nvSpPr>
        <p:spPr>
          <a:xfrm>
            <a:off x="2225520" y="454356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45" name=""/>
          <p:cNvSpPr/>
          <p:nvPr/>
        </p:nvSpPr>
        <p:spPr>
          <a:xfrm>
            <a:off x="2225520" y="4032360"/>
            <a:ext cx="890640" cy="88920"/>
          </a:xfrm>
          <a:prstGeom prst="rect">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346" name=""/>
          <p:cNvGrpSpPr/>
          <p:nvPr/>
        </p:nvGrpSpPr>
        <p:grpSpPr>
          <a:xfrm>
            <a:off x="3422520" y="5443560"/>
            <a:ext cx="890640" cy="217440"/>
            <a:chOff x="3422520" y="5443560"/>
            <a:chExt cx="890640" cy="217440"/>
          </a:xfrm>
        </p:grpSpPr>
        <p:sp>
          <p:nvSpPr>
            <p:cNvPr id="5347" name=""/>
            <p:cNvSpPr/>
            <p:nvPr/>
          </p:nvSpPr>
          <p:spPr>
            <a:xfrm>
              <a:off x="3422520" y="557208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48" name=""/>
            <p:cNvSpPr/>
            <p:nvPr/>
          </p:nvSpPr>
          <p:spPr>
            <a:xfrm>
              <a:off x="3422520" y="544356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grpSp>
        <p:nvGrpSpPr>
          <p:cNvPr id="5349" name=""/>
          <p:cNvGrpSpPr/>
          <p:nvPr/>
        </p:nvGrpSpPr>
        <p:grpSpPr>
          <a:xfrm>
            <a:off x="2225520" y="2260440"/>
            <a:ext cx="5367600" cy="4411800"/>
            <a:chOff x="2225520" y="2260440"/>
            <a:chExt cx="5367600" cy="4411800"/>
          </a:xfrm>
        </p:grpSpPr>
        <p:sp>
          <p:nvSpPr>
            <p:cNvPr id="5350" name=""/>
            <p:cNvSpPr/>
            <p:nvPr/>
          </p:nvSpPr>
          <p:spPr>
            <a:xfrm>
              <a:off x="2225520" y="25178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51" name=""/>
            <p:cNvSpPr/>
            <p:nvPr/>
          </p:nvSpPr>
          <p:spPr>
            <a:xfrm>
              <a:off x="2225520" y="23893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52" name=""/>
            <p:cNvSpPr/>
            <p:nvPr/>
          </p:nvSpPr>
          <p:spPr>
            <a:xfrm>
              <a:off x="2225520" y="22604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53" name=""/>
            <p:cNvSpPr/>
            <p:nvPr/>
          </p:nvSpPr>
          <p:spPr>
            <a:xfrm>
              <a:off x="6702480" y="25178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54" name=""/>
            <p:cNvSpPr/>
            <p:nvPr/>
          </p:nvSpPr>
          <p:spPr>
            <a:xfrm>
              <a:off x="6702480" y="23893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55" name=""/>
            <p:cNvSpPr/>
            <p:nvPr/>
          </p:nvSpPr>
          <p:spPr>
            <a:xfrm>
              <a:off x="6702480" y="22604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56" name=""/>
            <p:cNvSpPr/>
            <p:nvPr/>
          </p:nvSpPr>
          <p:spPr>
            <a:xfrm>
              <a:off x="2225520" y="607860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57" name=""/>
            <p:cNvSpPr/>
            <p:nvPr/>
          </p:nvSpPr>
          <p:spPr>
            <a:xfrm>
              <a:off x="2225520" y="595008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58" name=""/>
            <p:cNvSpPr/>
            <p:nvPr/>
          </p:nvSpPr>
          <p:spPr>
            <a:xfrm>
              <a:off x="2225520" y="582120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59" name=""/>
            <p:cNvSpPr/>
            <p:nvPr/>
          </p:nvSpPr>
          <p:spPr>
            <a:xfrm>
              <a:off x="3422520" y="35323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0" name=""/>
            <p:cNvSpPr/>
            <p:nvPr/>
          </p:nvSpPr>
          <p:spPr>
            <a:xfrm>
              <a:off x="3422520" y="34034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1" name=""/>
            <p:cNvSpPr/>
            <p:nvPr/>
          </p:nvSpPr>
          <p:spPr>
            <a:xfrm>
              <a:off x="3422520" y="32749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2" name=""/>
            <p:cNvSpPr/>
            <p:nvPr/>
          </p:nvSpPr>
          <p:spPr>
            <a:xfrm>
              <a:off x="4470480" y="403236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3" name=""/>
            <p:cNvSpPr/>
            <p:nvPr/>
          </p:nvSpPr>
          <p:spPr>
            <a:xfrm>
              <a:off x="4470480" y="3903840"/>
              <a:ext cx="890640" cy="8856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4" name=""/>
            <p:cNvSpPr/>
            <p:nvPr/>
          </p:nvSpPr>
          <p:spPr>
            <a:xfrm>
              <a:off x="4470480" y="377496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5" name=""/>
            <p:cNvSpPr/>
            <p:nvPr/>
          </p:nvSpPr>
          <p:spPr>
            <a:xfrm>
              <a:off x="5567400" y="506268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6" name=""/>
            <p:cNvSpPr/>
            <p:nvPr/>
          </p:nvSpPr>
          <p:spPr>
            <a:xfrm>
              <a:off x="5567400" y="493380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7" name=""/>
            <p:cNvSpPr/>
            <p:nvPr/>
          </p:nvSpPr>
          <p:spPr>
            <a:xfrm>
              <a:off x="5567400" y="480528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8" name=""/>
            <p:cNvSpPr/>
            <p:nvPr/>
          </p:nvSpPr>
          <p:spPr>
            <a:xfrm>
              <a:off x="2225520" y="35323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69" name=""/>
            <p:cNvSpPr/>
            <p:nvPr/>
          </p:nvSpPr>
          <p:spPr>
            <a:xfrm>
              <a:off x="2225520" y="34034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0" name=""/>
            <p:cNvSpPr/>
            <p:nvPr/>
          </p:nvSpPr>
          <p:spPr>
            <a:xfrm>
              <a:off x="2225520" y="32749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1" name=""/>
            <p:cNvSpPr/>
            <p:nvPr/>
          </p:nvSpPr>
          <p:spPr>
            <a:xfrm>
              <a:off x="3422520" y="65833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2" name=""/>
            <p:cNvSpPr/>
            <p:nvPr/>
          </p:nvSpPr>
          <p:spPr>
            <a:xfrm>
              <a:off x="3422520" y="645480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3" name=""/>
            <p:cNvSpPr/>
            <p:nvPr/>
          </p:nvSpPr>
          <p:spPr>
            <a:xfrm>
              <a:off x="3422520" y="632628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4" name=""/>
            <p:cNvSpPr/>
            <p:nvPr/>
          </p:nvSpPr>
          <p:spPr>
            <a:xfrm>
              <a:off x="3422520" y="607860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5" name=""/>
            <p:cNvSpPr/>
            <p:nvPr/>
          </p:nvSpPr>
          <p:spPr>
            <a:xfrm>
              <a:off x="3422520" y="595008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6" name=""/>
            <p:cNvSpPr/>
            <p:nvPr/>
          </p:nvSpPr>
          <p:spPr>
            <a:xfrm>
              <a:off x="3422520" y="582120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7" name=""/>
            <p:cNvSpPr/>
            <p:nvPr/>
          </p:nvSpPr>
          <p:spPr>
            <a:xfrm>
              <a:off x="5567400" y="557208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8" name=""/>
            <p:cNvSpPr/>
            <p:nvPr/>
          </p:nvSpPr>
          <p:spPr>
            <a:xfrm>
              <a:off x="5567400" y="544356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79" name=""/>
            <p:cNvSpPr/>
            <p:nvPr/>
          </p:nvSpPr>
          <p:spPr>
            <a:xfrm>
              <a:off x="5567400" y="53150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380" name=""/>
            <p:cNvGrpSpPr/>
            <p:nvPr/>
          </p:nvGrpSpPr>
          <p:grpSpPr>
            <a:xfrm>
              <a:off x="4479840" y="4272120"/>
              <a:ext cx="890640" cy="345960"/>
              <a:chOff x="4479840" y="4272120"/>
              <a:chExt cx="890640" cy="345960"/>
            </a:xfrm>
          </p:grpSpPr>
          <p:sp>
            <p:nvSpPr>
              <p:cNvPr id="5381" name=""/>
              <p:cNvSpPr/>
              <p:nvPr/>
            </p:nvSpPr>
            <p:spPr>
              <a:xfrm>
                <a:off x="4479840" y="452916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82" name=""/>
              <p:cNvSpPr/>
              <p:nvPr/>
            </p:nvSpPr>
            <p:spPr>
              <a:xfrm>
                <a:off x="4479840" y="440064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83" name=""/>
              <p:cNvSpPr/>
              <p:nvPr/>
            </p:nvSpPr>
            <p:spPr>
              <a:xfrm>
                <a:off x="4479840" y="4272120"/>
                <a:ext cx="890640" cy="88920"/>
              </a:xfrm>
              <a:prstGeom prst="rect">
                <a:avLst/>
              </a:prstGeom>
              <a:solidFill>
                <a:srgbClr val="ff000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grpSp>
      <p:grpSp>
        <p:nvGrpSpPr>
          <p:cNvPr id="5384" name=""/>
          <p:cNvGrpSpPr/>
          <p:nvPr/>
        </p:nvGrpSpPr>
        <p:grpSpPr>
          <a:xfrm>
            <a:off x="4483080" y="5442120"/>
            <a:ext cx="890640" cy="217440"/>
            <a:chOff x="4483080" y="5442120"/>
            <a:chExt cx="890640" cy="217440"/>
          </a:xfrm>
        </p:grpSpPr>
        <p:sp>
          <p:nvSpPr>
            <p:cNvPr id="5385" name=""/>
            <p:cNvSpPr/>
            <p:nvPr/>
          </p:nvSpPr>
          <p:spPr>
            <a:xfrm>
              <a:off x="4483080" y="557064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86" name=""/>
            <p:cNvSpPr/>
            <p:nvPr/>
          </p:nvSpPr>
          <p:spPr>
            <a:xfrm>
              <a:off x="4483080" y="544212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grpSp>
        <p:nvGrpSpPr>
          <p:cNvPr id="5387" name=""/>
          <p:cNvGrpSpPr/>
          <p:nvPr/>
        </p:nvGrpSpPr>
        <p:grpSpPr>
          <a:xfrm>
            <a:off x="4470480" y="4929120"/>
            <a:ext cx="890640" cy="217440"/>
            <a:chOff x="4470480" y="4929120"/>
            <a:chExt cx="890640" cy="217440"/>
          </a:xfrm>
        </p:grpSpPr>
        <p:sp>
          <p:nvSpPr>
            <p:cNvPr id="5388" name=""/>
            <p:cNvSpPr/>
            <p:nvPr/>
          </p:nvSpPr>
          <p:spPr>
            <a:xfrm>
              <a:off x="4470480" y="505764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389" name=""/>
            <p:cNvSpPr/>
            <p:nvPr/>
          </p:nvSpPr>
          <p:spPr>
            <a:xfrm>
              <a:off x="4470480" y="4929120"/>
              <a:ext cx="890640" cy="88920"/>
            </a:xfrm>
            <a:prstGeom prst="rect">
              <a:avLst/>
            </a:prstGeom>
            <a:solidFill>
              <a:srgbClr val="ff9966"/>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sp>
        <p:nvSpPr>
          <p:cNvPr id="5390" name=""/>
          <p:cNvSpPr/>
          <p:nvPr/>
        </p:nvSpPr>
        <p:spPr>
          <a:xfrm>
            <a:off x="5462640" y="2014560"/>
            <a:ext cx="0" cy="4678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5391" name=""/>
          <p:cNvSpPr/>
          <p:nvPr/>
        </p:nvSpPr>
        <p:spPr>
          <a:xfrm>
            <a:off x="6591240" y="2014560"/>
            <a:ext cx="0" cy="4678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5393"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eitos de modelagem de process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 geral do modelo</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s papéis principais das pessoas envolvidas n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 geral das fas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visão de fases (gat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étodos e ferramentas de desenvolvimento de produt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cadores de desempenho d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ceiros do desenvolvimento colaborativo de produt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Áreas de conhecimento</a:t>
            </a:r>
            <a:endParaRPr b="0" lang="en-US" sz="2800" spc="-1" strike="noStrike">
              <a:solidFill>
                <a:srgbClr val="000000"/>
              </a:solidFill>
              <a:latin typeface="Arial"/>
            </a:endParaRPr>
          </a:p>
          <a:p>
            <a:pPr marL="332640" indent="-3326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Gestão do conhecimento d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aracterizando o modelo</a:t>
            </a:r>
            <a:endParaRPr b="0" lang="en-US" sz="2800" spc="-1" strike="noStrike">
              <a:solidFill>
                <a:srgbClr val="000000"/>
              </a:solidFill>
              <a:latin typeface="Arial"/>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Gestão do Conhecimento</a:t>
            </a:r>
            <a:endParaRPr b="0" lang="en-US" sz="2400" spc="-1" strike="noStrike">
              <a:solidFill>
                <a:srgbClr val="000096"/>
              </a:solidFill>
              <a:latin typeface="Arial"/>
            </a:endParaRPr>
          </a:p>
        </p:txBody>
      </p:sp>
      <p:sp>
        <p:nvSpPr>
          <p:cNvPr id="5395" name="PlaceHolder 2"/>
          <p:cNvSpPr>
            <a:spLocks noGrp="1"/>
          </p:cNvSpPr>
          <p:nvPr>
            <p:ph/>
          </p:nvPr>
        </p:nvSpPr>
        <p:spPr>
          <a:xfrm>
            <a:off x="-360" y="1406520"/>
            <a:ext cx="8574120" cy="4043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junto de práticas e atividades destinadas a incentivar e garantir a criação, compartilhamento e disseminação de informações e a troca de experiências, visando a melhoria contínua das competências das pessoas e, consequentemente, o crescimento do conhecimento organizacional.</a:t>
            </a:r>
            <a:endParaRPr b="0" lang="en-US" sz="2800" spc="-1" strike="noStrike">
              <a:solidFill>
                <a:srgbClr val="000000"/>
              </a:solidFill>
              <a:latin typeface="Arial"/>
            </a:endParaRPr>
          </a:p>
        </p:txBody>
      </p:sp>
      <p:sp>
        <p:nvSpPr>
          <p:cNvPr id="5396" name=""/>
          <p:cNvSpPr/>
          <p:nvPr/>
        </p:nvSpPr>
        <p:spPr>
          <a:xfrm>
            <a:off x="253080" y="61689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nte.</a:t>
            </a:r>
            <a:r>
              <a:rPr b="0" lang="en-US" sz="2400" spc="-1" strike="noStrike">
                <a:solidFill>
                  <a:srgbClr val="000000"/>
                </a:solidFill>
                <a:latin typeface="Arial"/>
              </a:rPr>
              <a:t> Página 91 do liv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a:t>
            </a:r>
            <a:endParaRPr b="0" lang="en-US" sz="2400" spc="-1" strike="noStrike">
              <a:solidFill>
                <a:srgbClr val="000096"/>
              </a:solidFill>
              <a:latin typeface="Arial"/>
            </a:endParaRPr>
          </a:p>
        </p:txBody>
      </p:sp>
      <p:sp>
        <p:nvSpPr>
          <p:cNvPr id="5398" name="PlaceHolder 2"/>
          <p:cNvSpPr>
            <a:spLocks noGrp="1"/>
          </p:cNvSpPr>
          <p:nvPr>
            <p:ph/>
          </p:nvPr>
        </p:nvSpPr>
        <p:spPr>
          <a:xfrm>
            <a:off x="112320" y="887400"/>
            <a:ext cx="9031320" cy="5802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eitos de modelagem de process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 geral do modelo</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s papéis principais das pessoas envolvidas n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 geral das fas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visão de fases (gat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étodos e ferramentas de desenvolvimento de produt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cadores de desempenho do PDP</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ceiros do desenvolvimento colaborativo de produto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Áreas de conhecimento</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estão do conhecimento do PDP</a:t>
            </a:r>
            <a:endParaRPr b="0" lang="en-US" sz="2800" spc="-1" strike="noStrike">
              <a:solidFill>
                <a:srgbClr val="000000"/>
              </a:solidFill>
              <a:latin typeface="Arial"/>
            </a:endParaRPr>
          </a:p>
          <a:p>
            <a:pPr marL="332640" indent="-3326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Caracterizando o modelo</a:t>
            </a:r>
            <a:endParaRPr b="0" lang="en-US" sz="2800" spc="-1" strike="noStrike">
              <a:solidFill>
                <a:srgbClr val="000000"/>
              </a:solidFill>
              <a:latin typeface="Arial"/>
            </a:endParaRPr>
          </a:p>
        </p:txBody>
      </p:sp>
    </p:spTree>
  </p:cSld>
  <p:transition>
    <p:cover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99" name="PlaceHolder 1"/>
          <p:cNvSpPr>
            <a:spLocks noGrp="1"/>
          </p:cNvSpPr>
          <p:nvPr>
            <p:ph type="title"/>
          </p:nvPr>
        </p:nvSpPr>
        <p:spPr>
          <a:xfrm>
            <a:off x="0" y="-360"/>
            <a:ext cx="91440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Modelos de referência genéricos, específicos e projetos</a:t>
            </a:r>
            <a:endParaRPr b="0" lang="en-US" sz="2400" spc="-1" strike="noStrike">
              <a:solidFill>
                <a:srgbClr val="000096"/>
              </a:solidFill>
              <a:latin typeface="Arial"/>
            </a:endParaRPr>
          </a:p>
        </p:txBody>
      </p:sp>
      <p:grpSp>
        <p:nvGrpSpPr>
          <p:cNvPr id="5400" name=""/>
          <p:cNvGrpSpPr/>
          <p:nvPr/>
        </p:nvGrpSpPr>
        <p:grpSpPr>
          <a:xfrm>
            <a:off x="281160" y="488880"/>
            <a:ext cx="8672400" cy="6237360"/>
            <a:chOff x="281160" y="488880"/>
            <a:chExt cx="8672400" cy="6237360"/>
          </a:xfrm>
        </p:grpSpPr>
        <p:sp>
          <p:nvSpPr>
            <p:cNvPr id="5401" name=""/>
            <p:cNvSpPr/>
            <p:nvPr/>
          </p:nvSpPr>
          <p:spPr>
            <a:xfrm>
              <a:off x="281160" y="4130640"/>
              <a:ext cx="8632800" cy="1401840"/>
            </a:xfrm>
            <a:prstGeom prst="rect">
              <a:avLst/>
            </a:prstGeom>
            <a:solidFill>
              <a:srgbClr val="c0c0c0"/>
            </a:solidFill>
            <a:ln w="324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402" name=""/>
            <p:cNvSpPr/>
            <p:nvPr/>
          </p:nvSpPr>
          <p:spPr>
            <a:xfrm>
              <a:off x="320760" y="701640"/>
              <a:ext cx="8632800" cy="2884680"/>
            </a:xfrm>
            <a:prstGeom prst="rect">
              <a:avLst/>
            </a:prstGeom>
            <a:solidFill>
              <a:srgbClr val="c0c0c0"/>
            </a:solidFill>
            <a:ln w="324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5403" name=""/>
            <p:cNvGrpSpPr/>
            <p:nvPr/>
          </p:nvGrpSpPr>
          <p:grpSpPr>
            <a:xfrm>
              <a:off x="4200480" y="2779560"/>
              <a:ext cx="1352520" cy="630360"/>
              <a:chOff x="4200480" y="2779560"/>
              <a:chExt cx="1352520" cy="630360"/>
            </a:xfrm>
          </p:grpSpPr>
          <p:sp>
            <p:nvSpPr>
              <p:cNvPr id="5404" name=""/>
              <p:cNvSpPr/>
              <p:nvPr/>
            </p:nvSpPr>
            <p:spPr>
              <a:xfrm>
                <a:off x="4200480" y="2779560"/>
                <a:ext cx="1352520" cy="630360"/>
              </a:xfrm>
              <a:prstGeom prst="rect">
                <a:avLst/>
              </a:prstGeom>
              <a:solidFill>
                <a:srgbClr val="ffcc66"/>
              </a:solidFill>
              <a:ln w="324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405" name=""/>
              <p:cNvSpPr/>
              <p:nvPr/>
            </p:nvSpPr>
            <p:spPr>
              <a:xfrm>
                <a:off x="4312800" y="3141000"/>
                <a:ext cx="149400" cy="1724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6" name=""/>
              <p:cNvSpPr/>
              <p:nvPr/>
            </p:nvSpPr>
            <p:spPr>
              <a:xfrm>
                <a:off x="5087520" y="2973600"/>
                <a:ext cx="123840" cy="1432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7" name=""/>
              <p:cNvSpPr/>
              <p:nvPr/>
            </p:nvSpPr>
            <p:spPr>
              <a:xfrm>
                <a:off x="4537440" y="2973600"/>
                <a:ext cx="99360" cy="1710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8" name=""/>
              <p:cNvSpPr/>
              <p:nvPr/>
            </p:nvSpPr>
            <p:spPr>
              <a:xfrm>
                <a:off x="4687200" y="3183120"/>
                <a:ext cx="99360" cy="171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9" name=""/>
              <p:cNvSpPr/>
              <p:nvPr/>
            </p:nvSpPr>
            <p:spPr>
              <a:xfrm>
                <a:off x="4861440" y="2890440"/>
                <a:ext cx="100440" cy="86400"/>
              </a:xfrm>
              <a:prstGeom prst="rect">
                <a:avLst/>
              </a:prstGeom>
              <a:solidFill>
                <a:srgbClr val="cc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5410" name=""/>
              <p:cNvSpPr/>
              <p:nvPr/>
            </p:nvSpPr>
            <p:spPr>
              <a:xfrm>
                <a:off x="5011200" y="3225600"/>
                <a:ext cx="100440" cy="86400"/>
              </a:xfrm>
              <a:prstGeom prst="rect">
                <a:avLst/>
              </a:prstGeom>
              <a:solidFill>
                <a:srgbClr val="cc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cxnSp>
            <p:nvCxnSpPr>
              <p:cNvPr id="5411" name=""/>
              <p:cNvCxnSpPr>
                <a:stCxn id="5405" idx="3"/>
                <a:endCxn id="5408" idx="1"/>
              </p:cNvCxnSpPr>
              <p:nvPr/>
            </p:nvCxnSpPr>
            <p:spPr>
              <a:xfrm>
                <a:off x="4462560" y="3227400"/>
                <a:ext cx="225360" cy="41400"/>
              </a:xfrm>
              <a:prstGeom prst="straightConnector1">
                <a:avLst/>
              </a:prstGeom>
              <a:ln w="12600">
                <a:solidFill>
                  <a:srgbClr val="000000"/>
                </a:solidFill>
                <a:miter/>
                <a:tailEnd len="lg" type="triangle" w="sm"/>
              </a:ln>
            </p:spPr>
          </p:cxnSp>
          <p:cxnSp>
            <p:nvCxnSpPr>
              <p:cNvPr id="5412" name=""/>
              <p:cNvCxnSpPr>
                <a:stCxn id="5409" idx="3"/>
                <a:endCxn id="5406" idx="1"/>
              </p:cNvCxnSpPr>
              <p:nvPr/>
            </p:nvCxnSpPr>
            <p:spPr>
              <a:xfrm>
                <a:off x="4961880" y="2933640"/>
                <a:ext cx="125640" cy="112680"/>
              </a:xfrm>
              <a:prstGeom prst="straightConnector1">
                <a:avLst/>
              </a:prstGeom>
              <a:ln w="12600">
                <a:solidFill>
                  <a:srgbClr val="000000"/>
                </a:solidFill>
                <a:miter/>
                <a:tailEnd len="lg" type="triangle" w="sm"/>
              </a:ln>
            </p:spPr>
          </p:cxnSp>
          <p:cxnSp>
            <p:nvCxnSpPr>
              <p:cNvPr id="5413" name=""/>
              <p:cNvCxnSpPr>
                <a:stCxn id="5408" idx="3"/>
                <a:endCxn id="5409" idx="2"/>
              </p:cNvCxnSpPr>
              <p:nvPr/>
            </p:nvCxnSpPr>
            <p:spPr>
              <a:xfrm flipV="1">
                <a:off x="4786200" y="2977200"/>
                <a:ext cx="125640" cy="291960"/>
              </a:xfrm>
              <a:prstGeom prst="straightConnector1">
                <a:avLst/>
              </a:prstGeom>
              <a:ln w="12600">
                <a:solidFill>
                  <a:srgbClr val="000000"/>
                </a:solidFill>
                <a:miter/>
                <a:tailEnd len="lg" type="triangle" w="sm"/>
              </a:ln>
            </p:spPr>
          </p:cxnSp>
          <p:cxnSp>
            <p:nvCxnSpPr>
              <p:cNvPr id="5414" name=""/>
              <p:cNvCxnSpPr>
                <a:stCxn id="5410" idx="0"/>
                <a:endCxn id="5406" idx="2"/>
              </p:cNvCxnSpPr>
              <p:nvPr/>
            </p:nvCxnSpPr>
            <p:spPr>
              <a:xfrm flipV="1">
                <a:off x="5061240" y="3116160"/>
                <a:ext cx="87840" cy="109080"/>
              </a:xfrm>
              <a:prstGeom prst="straightConnector1">
                <a:avLst/>
              </a:prstGeom>
              <a:ln w="12600">
                <a:solidFill>
                  <a:srgbClr val="000000"/>
                </a:solidFill>
                <a:miter/>
                <a:tailEnd len="lg" type="triangle" w="sm"/>
              </a:ln>
            </p:spPr>
          </p:cxnSp>
          <p:sp>
            <p:nvSpPr>
              <p:cNvPr id="5415" name=""/>
              <p:cNvSpPr/>
              <p:nvPr/>
            </p:nvSpPr>
            <p:spPr>
              <a:xfrm>
                <a:off x="5361120" y="2973600"/>
                <a:ext cx="124920" cy="1432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416" name=""/>
              <p:cNvCxnSpPr>
                <a:stCxn id="5406" idx="3"/>
                <a:endCxn id="5415" idx="1"/>
              </p:cNvCxnSpPr>
              <p:nvPr/>
            </p:nvCxnSpPr>
            <p:spPr>
              <a:xfrm>
                <a:off x="5211000" y="3045600"/>
                <a:ext cx="150120" cy="1080"/>
              </a:xfrm>
              <a:prstGeom prst="straightConnector1">
                <a:avLst/>
              </a:prstGeom>
              <a:ln w="12600">
                <a:solidFill>
                  <a:srgbClr val="000000"/>
                </a:solidFill>
                <a:miter/>
                <a:tailEnd len="lg" type="triangle" w="sm"/>
              </a:ln>
            </p:spPr>
          </p:cxnSp>
          <p:cxnSp>
            <p:nvCxnSpPr>
              <p:cNvPr id="5417" name=""/>
              <p:cNvCxnSpPr>
                <a:stCxn id="5410" idx="3"/>
                <a:endCxn id="5415" idx="2"/>
              </p:cNvCxnSpPr>
              <p:nvPr/>
            </p:nvCxnSpPr>
            <p:spPr>
              <a:xfrm flipV="1">
                <a:off x="5112000" y="3116160"/>
                <a:ext cx="313200" cy="152280"/>
              </a:xfrm>
              <a:prstGeom prst="straightConnector1">
                <a:avLst/>
              </a:prstGeom>
              <a:ln w="12600">
                <a:solidFill>
                  <a:srgbClr val="000000"/>
                </a:solidFill>
                <a:miter/>
                <a:tailEnd len="lg" type="triangle" w="sm"/>
              </a:ln>
            </p:spPr>
          </p:cxnSp>
          <p:cxnSp>
            <p:nvCxnSpPr>
              <p:cNvPr id="5418" name=""/>
              <p:cNvCxnSpPr>
                <a:stCxn id="5407" idx="3"/>
                <a:endCxn id="5409" idx="1"/>
              </p:cNvCxnSpPr>
              <p:nvPr/>
            </p:nvCxnSpPr>
            <p:spPr>
              <a:xfrm flipV="1">
                <a:off x="4636800" y="2933280"/>
                <a:ext cx="225360" cy="125640"/>
              </a:xfrm>
              <a:prstGeom prst="straightConnector1">
                <a:avLst/>
              </a:prstGeom>
              <a:ln w="12600">
                <a:solidFill>
                  <a:srgbClr val="000000"/>
                </a:solidFill>
                <a:miter/>
                <a:tailEnd len="lg" type="triangle" w="sm"/>
              </a:ln>
            </p:spPr>
          </p:cxnSp>
          <p:cxnSp>
            <p:nvCxnSpPr>
              <p:cNvPr id="5419" name=""/>
              <p:cNvCxnSpPr>
                <a:endCxn id="5407" idx="1"/>
              </p:cNvCxnSpPr>
              <p:nvPr/>
            </p:nvCxnSpPr>
            <p:spPr>
              <a:xfrm>
                <a:off x="4411800" y="2953080"/>
                <a:ext cx="125640" cy="106560"/>
              </a:xfrm>
              <a:prstGeom prst="straightConnector1">
                <a:avLst/>
              </a:prstGeom>
              <a:ln w="12600">
                <a:solidFill>
                  <a:srgbClr val="000000"/>
                </a:solidFill>
                <a:miter/>
                <a:tailEnd len="lg" type="triangle" w="sm"/>
              </a:ln>
            </p:spPr>
          </p:cxnSp>
        </p:grpSp>
        <p:grpSp>
          <p:nvGrpSpPr>
            <p:cNvPr id="5420" name=""/>
            <p:cNvGrpSpPr/>
            <p:nvPr/>
          </p:nvGrpSpPr>
          <p:grpSpPr>
            <a:xfrm>
              <a:off x="7321680" y="2309760"/>
              <a:ext cx="1269720" cy="1100160"/>
              <a:chOff x="7321680" y="2309760"/>
              <a:chExt cx="1269720" cy="1100160"/>
            </a:xfrm>
          </p:grpSpPr>
          <p:sp>
            <p:nvSpPr>
              <p:cNvPr id="5421" name=""/>
              <p:cNvSpPr/>
              <p:nvPr/>
            </p:nvSpPr>
            <p:spPr>
              <a:xfrm>
                <a:off x="7321680" y="2309760"/>
                <a:ext cx="1269720" cy="1100160"/>
              </a:xfrm>
              <a:prstGeom prst="rect">
                <a:avLst/>
              </a:prstGeom>
              <a:solidFill>
                <a:srgbClr val="99ff66"/>
              </a:solidFill>
              <a:ln w="324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422" name=""/>
              <p:cNvSpPr/>
              <p:nvPr/>
            </p:nvSpPr>
            <p:spPr>
              <a:xfrm>
                <a:off x="7667640" y="3098160"/>
                <a:ext cx="222120" cy="1926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3" name=""/>
              <p:cNvSpPr/>
              <p:nvPr/>
            </p:nvSpPr>
            <p:spPr>
              <a:xfrm>
                <a:off x="8001000" y="2488680"/>
                <a:ext cx="333360" cy="1926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4" name=""/>
              <p:cNvSpPr/>
              <p:nvPr/>
            </p:nvSpPr>
            <p:spPr>
              <a:xfrm>
                <a:off x="8001000" y="2910600"/>
                <a:ext cx="147600" cy="191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5" name=""/>
              <p:cNvSpPr/>
              <p:nvPr/>
            </p:nvSpPr>
            <p:spPr>
              <a:xfrm>
                <a:off x="7518240" y="2442960"/>
                <a:ext cx="149400" cy="1900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6" name=""/>
              <p:cNvSpPr/>
              <p:nvPr/>
            </p:nvSpPr>
            <p:spPr>
              <a:xfrm>
                <a:off x="8223120" y="3145680"/>
                <a:ext cx="147600" cy="191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7" name=""/>
              <p:cNvSpPr/>
              <p:nvPr/>
            </p:nvSpPr>
            <p:spPr>
              <a:xfrm>
                <a:off x="7407360" y="2817720"/>
                <a:ext cx="149040" cy="191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428" name=""/>
              <p:cNvCxnSpPr>
                <a:endCxn id="5422" idx="1"/>
              </p:cNvCxnSpPr>
              <p:nvPr/>
            </p:nvCxnSpPr>
            <p:spPr>
              <a:xfrm flipV="1">
                <a:off x="7370280" y="3194640"/>
                <a:ext cx="297720" cy="46440"/>
              </a:xfrm>
              <a:prstGeom prst="straightConnector1">
                <a:avLst/>
              </a:prstGeom>
              <a:ln w="12600">
                <a:solidFill>
                  <a:srgbClr val="000000"/>
                </a:solidFill>
                <a:miter/>
                <a:tailEnd len="lg" type="triangle" w="sm"/>
              </a:ln>
            </p:spPr>
          </p:cxnSp>
          <p:cxnSp>
            <p:nvCxnSpPr>
              <p:cNvPr id="5429" name=""/>
              <p:cNvCxnSpPr>
                <a:stCxn id="5427" idx="2"/>
                <a:endCxn id="5422" idx="0"/>
              </p:cNvCxnSpPr>
              <p:nvPr/>
            </p:nvCxnSpPr>
            <p:spPr>
              <a:xfrm>
                <a:off x="7481520" y="3008880"/>
                <a:ext cx="297720" cy="89640"/>
              </a:xfrm>
              <a:prstGeom prst="straightConnector1">
                <a:avLst/>
              </a:prstGeom>
              <a:ln w="12600">
                <a:solidFill>
                  <a:srgbClr val="000000"/>
                </a:solidFill>
                <a:miter/>
                <a:tailEnd len="lg" type="triangle" w="sm"/>
              </a:ln>
            </p:spPr>
          </p:cxnSp>
          <p:cxnSp>
            <p:nvCxnSpPr>
              <p:cNvPr id="5430" name=""/>
              <p:cNvCxnSpPr>
                <a:stCxn id="5427" idx="0"/>
                <a:endCxn id="5425" idx="2"/>
              </p:cNvCxnSpPr>
              <p:nvPr/>
            </p:nvCxnSpPr>
            <p:spPr>
              <a:xfrm flipV="1">
                <a:off x="7481520" y="2632320"/>
                <a:ext cx="111960" cy="185400"/>
              </a:xfrm>
              <a:prstGeom prst="straightConnector1">
                <a:avLst/>
              </a:prstGeom>
              <a:ln w="12600">
                <a:solidFill>
                  <a:srgbClr val="000000"/>
                </a:solidFill>
                <a:miter/>
                <a:tailEnd len="lg" type="triangle" w="sm"/>
              </a:ln>
            </p:spPr>
          </p:cxnSp>
          <p:cxnSp>
            <p:nvCxnSpPr>
              <p:cNvPr id="5431" name=""/>
              <p:cNvCxnSpPr>
                <a:stCxn id="5425" idx="3"/>
                <a:endCxn id="5423" idx="1"/>
              </p:cNvCxnSpPr>
              <p:nvPr/>
            </p:nvCxnSpPr>
            <p:spPr>
              <a:xfrm>
                <a:off x="7667640" y="2538360"/>
                <a:ext cx="334080" cy="47880"/>
              </a:xfrm>
              <a:prstGeom prst="straightConnector1">
                <a:avLst/>
              </a:prstGeom>
              <a:ln w="12600">
                <a:solidFill>
                  <a:srgbClr val="000000"/>
                </a:solidFill>
                <a:miter/>
                <a:tailEnd len="lg" type="triangle" w="sm"/>
              </a:ln>
            </p:spPr>
          </p:cxnSp>
          <p:cxnSp>
            <p:nvCxnSpPr>
              <p:cNvPr id="5432" name=""/>
              <p:cNvCxnSpPr>
                <a:stCxn id="5433" idx="3"/>
                <a:endCxn id="5423" idx="1"/>
              </p:cNvCxnSpPr>
              <p:nvPr/>
            </p:nvCxnSpPr>
            <p:spPr>
              <a:xfrm flipV="1">
                <a:off x="7889400" y="2585160"/>
                <a:ext cx="111960" cy="244440"/>
              </a:xfrm>
              <a:prstGeom prst="straightConnector1">
                <a:avLst/>
              </a:prstGeom>
              <a:ln w="12600">
                <a:solidFill>
                  <a:srgbClr val="000000"/>
                </a:solidFill>
                <a:miter/>
                <a:tailEnd len="lg" type="triangle" w="sm"/>
              </a:ln>
            </p:spPr>
          </p:cxnSp>
          <p:cxnSp>
            <p:nvCxnSpPr>
              <p:cNvPr id="5434" name=""/>
              <p:cNvCxnSpPr>
                <a:stCxn id="5422" idx="3"/>
                <a:endCxn id="5426" idx="1"/>
              </p:cNvCxnSpPr>
              <p:nvPr/>
            </p:nvCxnSpPr>
            <p:spPr>
              <a:xfrm>
                <a:off x="7889760" y="3195000"/>
                <a:ext cx="334080" cy="46440"/>
              </a:xfrm>
              <a:prstGeom prst="straightConnector1">
                <a:avLst/>
              </a:prstGeom>
              <a:ln w="12600">
                <a:solidFill>
                  <a:srgbClr val="000000"/>
                </a:solidFill>
                <a:miter/>
                <a:tailEnd len="lg" type="triangle" w="sm"/>
              </a:ln>
            </p:spPr>
          </p:cxnSp>
          <p:cxnSp>
            <p:nvCxnSpPr>
              <p:cNvPr id="5435" name=""/>
              <p:cNvCxnSpPr>
                <a:stCxn id="5423" idx="2"/>
                <a:endCxn id="5424" idx="0"/>
              </p:cNvCxnSpPr>
              <p:nvPr/>
            </p:nvCxnSpPr>
            <p:spPr>
              <a:xfrm flipH="1">
                <a:off x="8075160" y="2681640"/>
                <a:ext cx="92880" cy="229680"/>
              </a:xfrm>
              <a:prstGeom prst="straightConnector1">
                <a:avLst/>
              </a:prstGeom>
              <a:ln w="12600">
                <a:solidFill>
                  <a:srgbClr val="000000"/>
                </a:solidFill>
                <a:miter/>
                <a:tailEnd len="lg" type="triangle" w="sm"/>
              </a:ln>
            </p:spPr>
          </p:cxnSp>
          <p:cxnSp>
            <p:nvCxnSpPr>
              <p:cNvPr id="5436" name=""/>
              <p:cNvCxnSpPr>
                <a:stCxn id="5423" idx="3"/>
              </p:cNvCxnSpPr>
              <p:nvPr/>
            </p:nvCxnSpPr>
            <p:spPr>
              <a:xfrm flipV="1">
                <a:off x="8334360" y="2443680"/>
                <a:ext cx="186480" cy="142200"/>
              </a:xfrm>
              <a:prstGeom prst="straightConnector1">
                <a:avLst/>
              </a:prstGeom>
              <a:ln w="12600">
                <a:solidFill>
                  <a:srgbClr val="000000"/>
                </a:solidFill>
                <a:miter/>
                <a:tailEnd len="lg" type="triangle" w="sm"/>
              </a:ln>
            </p:spPr>
          </p:cxnSp>
          <p:cxnSp>
            <p:nvCxnSpPr>
              <p:cNvPr id="5437" name=""/>
              <p:cNvCxnSpPr>
                <a:stCxn id="5427" idx="3"/>
                <a:endCxn id="5433" idx="1"/>
              </p:cNvCxnSpPr>
              <p:nvPr/>
            </p:nvCxnSpPr>
            <p:spPr>
              <a:xfrm flipV="1">
                <a:off x="7556400" y="2829600"/>
                <a:ext cx="185040" cy="83520"/>
              </a:xfrm>
              <a:prstGeom prst="straightConnector1">
                <a:avLst/>
              </a:prstGeom>
              <a:ln w="12600">
                <a:solidFill>
                  <a:srgbClr val="000000"/>
                </a:solidFill>
                <a:miter/>
                <a:tailEnd len="lg" type="triangle" w="sm"/>
              </a:ln>
            </p:spPr>
          </p:cxnSp>
          <p:cxnSp>
            <p:nvCxnSpPr>
              <p:cNvPr id="5438" name=""/>
              <p:cNvCxnSpPr>
                <a:stCxn id="5424" idx="3"/>
              </p:cNvCxnSpPr>
              <p:nvPr/>
            </p:nvCxnSpPr>
            <p:spPr>
              <a:xfrm flipV="1">
                <a:off x="8148600" y="2865960"/>
                <a:ext cx="334080" cy="140400"/>
              </a:xfrm>
              <a:prstGeom prst="straightConnector1">
                <a:avLst/>
              </a:prstGeom>
              <a:ln w="12600">
                <a:solidFill>
                  <a:srgbClr val="000000"/>
                </a:solidFill>
                <a:miter/>
                <a:tailEnd len="lg" type="triangle" w="sm"/>
              </a:ln>
            </p:spPr>
          </p:cxnSp>
          <p:cxnSp>
            <p:nvCxnSpPr>
              <p:cNvPr id="5439" name=""/>
              <p:cNvCxnSpPr>
                <a:stCxn id="5433" idx="2"/>
                <a:endCxn id="5424" idx="1"/>
              </p:cNvCxnSpPr>
              <p:nvPr/>
            </p:nvCxnSpPr>
            <p:spPr>
              <a:xfrm>
                <a:off x="7815240" y="2887560"/>
                <a:ext cx="186480" cy="119160"/>
              </a:xfrm>
              <a:prstGeom prst="straightConnector1">
                <a:avLst/>
              </a:prstGeom>
              <a:ln w="12600">
                <a:solidFill>
                  <a:srgbClr val="000000"/>
                </a:solidFill>
                <a:miter/>
                <a:tailEnd len="lg" type="triangle" w="sm"/>
              </a:ln>
            </p:spPr>
          </p:cxnSp>
          <p:sp>
            <p:nvSpPr>
              <p:cNvPr id="5433" name=""/>
              <p:cNvSpPr/>
              <p:nvPr/>
            </p:nvSpPr>
            <p:spPr>
              <a:xfrm>
                <a:off x="7740720" y="2770560"/>
                <a:ext cx="149040" cy="1170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40" name=""/>
            <p:cNvGrpSpPr/>
            <p:nvPr/>
          </p:nvGrpSpPr>
          <p:grpSpPr>
            <a:xfrm>
              <a:off x="5873760" y="2373480"/>
              <a:ext cx="1233360" cy="1036440"/>
              <a:chOff x="5873760" y="2373480"/>
              <a:chExt cx="1233360" cy="1036440"/>
            </a:xfrm>
          </p:grpSpPr>
          <p:sp>
            <p:nvSpPr>
              <p:cNvPr id="5441" name=""/>
              <p:cNvSpPr/>
              <p:nvPr/>
            </p:nvSpPr>
            <p:spPr>
              <a:xfrm>
                <a:off x="5873760" y="2373480"/>
                <a:ext cx="1233360" cy="1036440"/>
              </a:xfrm>
              <a:prstGeom prst="rect">
                <a:avLst/>
              </a:prstGeom>
              <a:solidFill>
                <a:srgbClr val="ff9999"/>
              </a:solidFill>
              <a:ln w="324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442" name=""/>
              <p:cNvSpPr/>
              <p:nvPr/>
            </p:nvSpPr>
            <p:spPr>
              <a:xfrm>
                <a:off x="6407280" y="2923920"/>
                <a:ext cx="183960" cy="144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3" name=""/>
              <p:cNvSpPr/>
              <p:nvPr/>
            </p:nvSpPr>
            <p:spPr>
              <a:xfrm>
                <a:off x="6554880" y="2543400"/>
                <a:ext cx="222120" cy="1735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4" name=""/>
              <p:cNvSpPr/>
              <p:nvPr/>
            </p:nvSpPr>
            <p:spPr>
              <a:xfrm>
                <a:off x="6072120" y="2840040"/>
                <a:ext cx="149400" cy="87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445" name=""/>
              <p:cNvSpPr/>
              <p:nvPr/>
            </p:nvSpPr>
            <p:spPr>
              <a:xfrm>
                <a:off x="6110280" y="2459880"/>
                <a:ext cx="147600" cy="87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446" name=""/>
              <p:cNvSpPr/>
              <p:nvPr/>
            </p:nvSpPr>
            <p:spPr>
              <a:xfrm>
                <a:off x="6294600" y="3177720"/>
                <a:ext cx="149040" cy="87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cxnSp>
            <p:nvCxnSpPr>
              <p:cNvPr id="5447" name=""/>
              <p:cNvCxnSpPr>
                <a:stCxn id="5445" idx="3"/>
                <a:endCxn id="5443" idx="0"/>
              </p:cNvCxnSpPr>
              <p:nvPr/>
            </p:nvCxnSpPr>
            <p:spPr>
              <a:xfrm>
                <a:off x="6257520" y="2503080"/>
                <a:ext cx="408600" cy="40680"/>
              </a:xfrm>
              <a:prstGeom prst="straightConnector1">
                <a:avLst/>
              </a:prstGeom>
              <a:ln w="12600">
                <a:solidFill>
                  <a:srgbClr val="000000"/>
                </a:solidFill>
                <a:miter/>
                <a:tailEnd len="lg" type="triangle" w="sm"/>
              </a:ln>
            </p:spPr>
          </p:cxnSp>
          <p:cxnSp>
            <p:nvCxnSpPr>
              <p:cNvPr id="5448" name=""/>
              <p:cNvCxnSpPr>
                <a:stCxn id="5444" idx="3"/>
                <a:endCxn id="5442" idx="1"/>
              </p:cNvCxnSpPr>
              <p:nvPr/>
            </p:nvCxnSpPr>
            <p:spPr>
              <a:xfrm>
                <a:off x="6221520" y="2883600"/>
                <a:ext cx="186480" cy="113400"/>
              </a:xfrm>
              <a:prstGeom prst="straightConnector1">
                <a:avLst/>
              </a:prstGeom>
              <a:ln w="12600">
                <a:solidFill>
                  <a:srgbClr val="000000"/>
                </a:solidFill>
                <a:miter/>
                <a:tailEnd len="lg" type="triangle" w="sm"/>
              </a:ln>
            </p:spPr>
          </p:cxnSp>
          <p:cxnSp>
            <p:nvCxnSpPr>
              <p:cNvPr id="5449" name=""/>
              <p:cNvCxnSpPr>
                <a:endCxn id="5444" idx="2"/>
              </p:cNvCxnSpPr>
              <p:nvPr/>
            </p:nvCxnSpPr>
            <p:spPr>
              <a:xfrm flipV="1">
                <a:off x="5960880" y="2927160"/>
                <a:ext cx="186120" cy="294480"/>
              </a:xfrm>
              <a:prstGeom prst="straightConnector1">
                <a:avLst/>
              </a:prstGeom>
              <a:ln w="12600">
                <a:solidFill>
                  <a:srgbClr val="000000"/>
                </a:solidFill>
                <a:miter/>
                <a:tailEnd len="lg" type="triangle" w="sm"/>
              </a:ln>
            </p:spPr>
          </p:cxnSp>
          <p:cxnSp>
            <p:nvCxnSpPr>
              <p:cNvPr id="5450" name=""/>
              <p:cNvCxnSpPr>
                <a:stCxn id="5443" idx="2"/>
                <a:endCxn id="5442" idx="0"/>
              </p:cNvCxnSpPr>
              <p:nvPr/>
            </p:nvCxnSpPr>
            <p:spPr>
              <a:xfrm flipH="1">
                <a:off x="6498720" y="2717280"/>
                <a:ext cx="167040" cy="207360"/>
              </a:xfrm>
              <a:prstGeom prst="straightConnector1">
                <a:avLst/>
              </a:prstGeom>
              <a:ln w="12600">
                <a:solidFill>
                  <a:srgbClr val="000000"/>
                </a:solidFill>
                <a:miter/>
                <a:tailEnd len="lg" type="triangle" w="sm"/>
              </a:ln>
            </p:spPr>
          </p:cxnSp>
          <p:cxnSp>
            <p:nvCxnSpPr>
              <p:cNvPr id="5451" name=""/>
              <p:cNvCxnSpPr>
                <a:stCxn id="5446" idx="0"/>
                <a:endCxn id="5442" idx="2"/>
              </p:cNvCxnSpPr>
              <p:nvPr/>
            </p:nvCxnSpPr>
            <p:spPr>
              <a:xfrm flipV="1">
                <a:off x="6368760" y="3067560"/>
                <a:ext cx="130680" cy="109800"/>
              </a:xfrm>
              <a:prstGeom prst="straightConnector1">
                <a:avLst/>
              </a:prstGeom>
              <a:ln w="12600">
                <a:solidFill>
                  <a:srgbClr val="000000"/>
                </a:solidFill>
                <a:miter/>
                <a:tailEnd len="lg" type="triangle" w="sm"/>
              </a:ln>
            </p:spPr>
          </p:cxnSp>
          <p:sp>
            <p:nvSpPr>
              <p:cNvPr id="5452" name=""/>
              <p:cNvSpPr/>
              <p:nvPr/>
            </p:nvSpPr>
            <p:spPr>
              <a:xfrm>
                <a:off x="6813720" y="2923920"/>
                <a:ext cx="185400" cy="144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453" name=""/>
              <p:cNvCxnSpPr>
                <a:stCxn id="5442" idx="3"/>
                <a:endCxn id="5452" idx="1"/>
              </p:cNvCxnSpPr>
              <p:nvPr/>
            </p:nvCxnSpPr>
            <p:spPr>
              <a:xfrm>
                <a:off x="6591240" y="2996280"/>
                <a:ext cx="223200" cy="1080"/>
              </a:xfrm>
              <a:prstGeom prst="straightConnector1">
                <a:avLst/>
              </a:prstGeom>
              <a:ln w="12600">
                <a:solidFill>
                  <a:srgbClr val="000000"/>
                </a:solidFill>
                <a:miter/>
                <a:tailEnd len="lg" type="triangle" w="sm"/>
              </a:ln>
            </p:spPr>
          </p:cxnSp>
          <p:cxnSp>
            <p:nvCxnSpPr>
              <p:cNvPr id="5454" name=""/>
              <p:cNvCxnSpPr>
                <a:stCxn id="5443" idx="3"/>
                <a:endCxn id="5452" idx="0"/>
              </p:cNvCxnSpPr>
              <p:nvPr/>
            </p:nvCxnSpPr>
            <p:spPr>
              <a:xfrm>
                <a:off x="6777000" y="2630520"/>
                <a:ext cx="131040" cy="293400"/>
              </a:xfrm>
              <a:prstGeom prst="straightConnector1">
                <a:avLst/>
              </a:prstGeom>
              <a:ln w="12600">
                <a:solidFill>
                  <a:srgbClr val="000000"/>
                </a:solidFill>
                <a:miter/>
                <a:tailEnd len="lg" type="triangle" w="sm"/>
              </a:ln>
            </p:spPr>
          </p:cxnSp>
          <p:cxnSp>
            <p:nvCxnSpPr>
              <p:cNvPr id="5455" name=""/>
              <p:cNvCxnSpPr>
                <a:stCxn id="5446" idx="3"/>
                <a:endCxn id="5452" idx="2"/>
              </p:cNvCxnSpPr>
              <p:nvPr/>
            </p:nvCxnSpPr>
            <p:spPr>
              <a:xfrm flipV="1">
                <a:off x="6443640" y="3067920"/>
                <a:ext cx="464400" cy="153360"/>
              </a:xfrm>
              <a:prstGeom prst="straightConnector1">
                <a:avLst/>
              </a:prstGeom>
              <a:ln w="12600">
                <a:solidFill>
                  <a:srgbClr val="000000"/>
                </a:solidFill>
                <a:miter/>
                <a:tailEnd len="lg" type="triangle" w="sm"/>
              </a:ln>
            </p:spPr>
          </p:cxnSp>
        </p:grpSp>
        <p:sp>
          <p:nvSpPr>
            <p:cNvPr id="5456" name=""/>
            <p:cNvSpPr/>
            <p:nvPr/>
          </p:nvSpPr>
          <p:spPr>
            <a:xfrm>
              <a:off x="2746440" y="488880"/>
              <a:ext cx="3841920" cy="305280"/>
            </a:xfrm>
            <a:prstGeom prst="rect">
              <a:avLst/>
            </a:prstGeom>
            <a:solidFill>
              <a:srgbClr val="4d4d4d"/>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os de referência genéricos</a:t>
              </a:r>
              <a:endParaRPr b="0" lang="en-US" sz="2000" spc="-1" strike="noStrike">
                <a:solidFill>
                  <a:srgbClr val="000000"/>
                </a:solidFill>
                <a:latin typeface="Arial"/>
              </a:endParaRPr>
            </a:p>
          </p:txBody>
        </p:sp>
        <p:sp>
          <p:nvSpPr>
            <p:cNvPr id="5457" name=""/>
            <p:cNvSpPr/>
            <p:nvPr/>
          </p:nvSpPr>
          <p:spPr>
            <a:xfrm>
              <a:off x="593640" y="5218200"/>
              <a:ext cx="8318520" cy="1479600"/>
            </a:xfrm>
            <a:custGeom>
              <a:avLst/>
              <a:gdLst/>
              <a:ahLst/>
              <a:rect l="l" t="t" r="r" b="b"/>
              <a:pathLst>
                <a:path w="5240" h="932">
                  <a:moveTo>
                    <a:pt x="94" y="0"/>
                  </a:moveTo>
                  <a:lnTo>
                    <a:pt x="0" y="334"/>
                  </a:lnTo>
                  <a:lnTo>
                    <a:pt x="0" y="932"/>
                  </a:lnTo>
                  <a:lnTo>
                    <a:pt x="5232" y="922"/>
                  </a:lnTo>
                  <a:lnTo>
                    <a:pt x="5240" y="361"/>
                  </a:lnTo>
                  <a:lnTo>
                    <a:pt x="663" y="31"/>
                  </a:lnTo>
                </a:path>
              </a:pathLst>
            </a:custGeom>
            <a:solidFill>
              <a:srgbClr val="ffff00">
                <a:alpha val="50000"/>
              </a:srgbClr>
            </a:solidFill>
            <a:ln w="3240">
              <a:solidFill>
                <a:srgbClr val="000000"/>
              </a:solidFill>
              <a:round/>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458" name=""/>
            <p:cNvGrpSpPr/>
            <p:nvPr/>
          </p:nvGrpSpPr>
          <p:grpSpPr>
            <a:xfrm>
              <a:off x="830160" y="6076800"/>
              <a:ext cx="986040" cy="536760"/>
              <a:chOff x="830160" y="6076800"/>
              <a:chExt cx="986040" cy="536760"/>
            </a:xfrm>
          </p:grpSpPr>
          <p:sp>
            <p:nvSpPr>
              <p:cNvPr id="5459" name=""/>
              <p:cNvSpPr/>
              <p:nvPr/>
            </p:nvSpPr>
            <p:spPr>
              <a:xfrm>
                <a:off x="830160" y="6076800"/>
                <a:ext cx="986040" cy="536760"/>
              </a:xfrm>
              <a:custGeom>
                <a:avLst/>
                <a:gdLst>
                  <a:gd name="textAreaLeft" fmla="*/ 0 w 986040"/>
                  <a:gd name="textAreaRight" fmla="*/ 986400 w 986040"/>
                  <a:gd name="textAreaTop" fmla="*/ 0 h 536760"/>
                  <a:gd name="textAreaBottom" fmla="*/ 537120 h 53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60" name=""/>
              <p:cNvGrpSpPr/>
              <p:nvPr/>
            </p:nvGrpSpPr>
            <p:grpSpPr>
              <a:xfrm>
                <a:off x="895680" y="6139800"/>
                <a:ext cx="739440" cy="347040"/>
                <a:chOff x="895680" y="6139800"/>
                <a:chExt cx="739440" cy="347040"/>
              </a:xfrm>
            </p:grpSpPr>
            <p:sp>
              <p:nvSpPr>
                <p:cNvPr id="5461" name=""/>
                <p:cNvSpPr/>
                <p:nvPr/>
              </p:nvSpPr>
              <p:spPr>
                <a:xfrm>
                  <a:off x="895680" y="613980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62" name=""/>
                <p:cNvSpPr/>
                <p:nvPr/>
              </p:nvSpPr>
              <p:spPr>
                <a:xfrm>
                  <a:off x="950400" y="6139800"/>
                  <a:ext cx="34200" cy="61200"/>
                </a:xfrm>
                <a:prstGeom prst="rect">
                  <a:avLst/>
                </a:prstGeom>
                <a:solidFill>
                  <a:srgbClr val="00ff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63" name=""/>
                <p:cNvSpPr/>
                <p:nvPr/>
              </p:nvSpPr>
              <p:spPr>
                <a:xfrm>
                  <a:off x="1011960" y="620100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64" name=""/>
                <p:cNvSpPr/>
                <p:nvPr/>
              </p:nvSpPr>
              <p:spPr>
                <a:xfrm>
                  <a:off x="1066680" y="620100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65" name=""/>
                <p:cNvSpPr/>
                <p:nvPr/>
              </p:nvSpPr>
              <p:spPr>
                <a:xfrm>
                  <a:off x="1128240" y="620100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66" name=""/>
                <p:cNvSpPr/>
                <p:nvPr/>
              </p:nvSpPr>
              <p:spPr>
                <a:xfrm>
                  <a:off x="1210680" y="61804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67" name=""/>
                <p:cNvSpPr/>
                <p:nvPr/>
              </p:nvSpPr>
              <p:spPr>
                <a:xfrm>
                  <a:off x="1320120" y="61804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68" name=""/>
                <p:cNvSpPr/>
                <p:nvPr/>
              </p:nvSpPr>
              <p:spPr>
                <a:xfrm>
                  <a:off x="1388520" y="6180480"/>
                  <a:ext cx="34200" cy="61200"/>
                </a:xfrm>
                <a:prstGeom prst="rect">
                  <a:avLst/>
                </a:prstGeom>
                <a:solidFill>
                  <a:srgbClr val="00ff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69" name=""/>
                <p:cNvSpPr/>
                <p:nvPr/>
              </p:nvSpPr>
              <p:spPr>
                <a:xfrm>
                  <a:off x="1443600" y="61804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0" name=""/>
                <p:cNvSpPr/>
                <p:nvPr/>
              </p:nvSpPr>
              <p:spPr>
                <a:xfrm>
                  <a:off x="1512000" y="61804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1" name=""/>
                <p:cNvSpPr/>
                <p:nvPr/>
              </p:nvSpPr>
              <p:spPr>
                <a:xfrm>
                  <a:off x="1573560" y="61804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2" name=""/>
                <p:cNvSpPr/>
                <p:nvPr/>
              </p:nvSpPr>
              <p:spPr>
                <a:xfrm>
                  <a:off x="1600920" y="6282720"/>
                  <a:ext cx="34200" cy="61200"/>
                </a:xfrm>
                <a:prstGeom prst="rect">
                  <a:avLst/>
                </a:prstGeom>
                <a:solidFill>
                  <a:srgbClr val="00ff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3" name=""/>
                <p:cNvSpPr/>
                <p:nvPr/>
              </p:nvSpPr>
              <p:spPr>
                <a:xfrm>
                  <a:off x="1484640" y="6343920"/>
                  <a:ext cx="34200" cy="61200"/>
                </a:xfrm>
                <a:prstGeom prst="rect">
                  <a:avLst/>
                </a:prstGeom>
                <a:solidFill>
                  <a:srgbClr val="00ff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4" name=""/>
                <p:cNvSpPr/>
                <p:nvPr/>
              </p:nvSpPr>
              <p:spPr>
                <a:xfrm>
                  <a:off x="1416240" y="63028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5" name=""/>
                <p:cNvSpPr/>
                <p:nvPr/>
              </p:nvSpPr>
              <p:spPr>
                <a:xfrm>
                  <a:off x="1361160" y="63028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6" name=""/>
                <p:cNvSpPr/>
                <p:nvPr/>
              </p:nvSpPr>
              <p:spPr>
                <a:xfrm>
                  <a:off x="1306440" y="63028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7" name=""/>
                <p:cNvSpPr/>
                <p:nvPr/>
              </p:nvSpPr>
              <p:spPr>
                <a:xfrm>
                  <a:off x="1238040" y="63028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8" name=""/>
                <p:cNvSpPr/>
                <p:nvPr/>
              </p:nvSpPr>
              <p:spPr>
                <a:xfrm>
                  <a:off x="1183320" y="6302880"/>
                  <a:ext cx="34200" cy="61200"/>
                </a:xfrm>
                <a:prstGeom prst="rect">
                  <a:avLst/>
                </a:prstGeom>
                <a:solidFill>
                  <a:srgbClr val="00ff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9" name=""/>
                <p:cNvSpPr/>
                <p:nvPr/>
              </p:nvSpPr>
              <p:spPr>
                <a:xfrm>
                  <a:off x="1128240" y="642564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0" name=""/>
                <p:cNvSpPr/>
                <p:nvPr/>
              </p:nvSpPr>
              <p:spPr>
                <a:xfrm>
                  <a:off x="1073520" y="634392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1" name=""/>
                <p:cNvSpPr/>
                <p:nvPr/>
              </p:nvSpPr>
              <p:spPr>
                <a:xfrm>
                  <a:off x="1011960" y="6323400"/>
                  <a:ext cx="34200" cy="61200"/>
                </a:xfrm>
                <a:prstGeom prst="rect">
                  <a:avLst/>
                </a:prstGeom>
                <a:solidFill>
                  <a:srgbClr val="00ff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2" name=""/>
                <p:cNvSpPr/>
                <p:nvPr/>
              </p:nvSpPr>
              <p:spPr>
                <a:xfrm>
                  <a:off x="950400" y="632340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3" name=""/>
                <p:cNvSpPr/>
                <p:nvPr/>
              </p:nvSpPr>
              <p:spPr>
                <a:xfrm>
                  <a:off x="950400" y="624168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4" name=""/>
                <p:cNvSpPr/>
                <p:nvPr/>
              </p:nvSpPr>
              <p:spPr>
                <a:xfrm>
                  <a:off x="950400" y="642564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5" name=""/>
                <p:cNvSpPr/>
                <p:nvPr/>
              </p:nvSpPr>
              <p:spPr>
                <a:xfrm>
                  <a:off x="1018800" y="642564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6" name=""/>
                <p:cNvSpPr/>
                <p:nvPr/>
              </p:nvSpPr>
              <p:spPr>
                <a:xfrm>
                  <a:off x="1190160" y="642564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7" name=""/>
                <p:cNvSpPr/>
                <p:nvPr/>
              </p:nvSpPr>
              <p:spPr>
                <a:xfrm>
                  <a:off x="1251720" y="642564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8" name=""/>
                <p:cNvSpPr/>
                <p:nvPr/>
              </p:nvSpPr>
              <p:spPr>
                <a:xfrm>
                  <a:off x="1361160" y="642564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89" name=""/>
                <p:cNvSpPr/>
                <p:nvPr/>
              </p:nvSpPr>
              <p:spPr>
                <a:xfrm>
                  <a:off x="1416240" y="642564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90" name=""/>
                <p:cNvSpPr/>
                <p:nvPr/>
              </p:nvSpPr>
              <p:spPr>
                <a:xfrm>
                  <a:off x="1484640" y="642564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91" name=""/>
                <p:cNvSpPr/>
                <p:nvPr/>
              </p:nvSpPr>
              <p:spPr>
                <a:xfrm>
                  <a:off x="1546200" y="6384960"/>
                  <a:ext cx="34200" cy="61200"/>
                </a:xfrm>
                <a:prstGeom prst="rect">
                  <a:avLst/>
                </a:prstGeom>
                <a:solidFill>
                  <a:srgbClr val="bbe0e3"/>
                </a:solidFill>
                <a:ln w="1260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cxnSp>
              <p:nvCxnSpPr>
                <p:cNvPr id="5492" name=""/>
                <p:cNvCxnSpPr>
                  <a:stCxn id="5461" idx="3"/>
                  <a:endCxn id="5462" idx="1"/>
                </p:cNvCxnSpPr>
                <p:nvPr/>
              </p:nvCxnSpPr>
              <p:spPr>
                <a:xfrm>
                  <a:off x="929520" y="6170040"/>
                  <a:ext cx="20880" cy="1080"/>
                </a:xfrm>
                <a:prstGeom prst="bentConnector2">
                  <a:avLst/>
                </a:prstGeom>
                <a:ln w="12600">
                  <a:solidFill>
                    <a:srgbClr val="000000"/>
                  </a:solidFill>
                  <a:miter/>
                </a:ln>
              </p:spPr>
            </p:cxnSp>
            <p:cxnSp>
              <p:nvCxnSpPr>
                <p:cNvPr id="5493" name=""/>
                <p:cNvCxnSpPr>
                  <a:stCxn id="5462" idx="3"/>
                  <a:endCxn id="5463" idx="1"/>
                </p:cNvCxnSpPr>
                <p:nvPr/>
              </p:nvCxnSpPr>
              <p:spPr>
                <a:xfrm>
                  <a:off x="984600" y="6170400"/>
                  <a:ext cx="28080" cy="61920"/>
                </a:xfrm>
                <a:prstGeom prst="bentConnector3">
                  <a:avLst>
                    <a:gd name="adj1" fmla="val 49350"/>
                  </a:avLst>
                </a:prstGeom>
                <a:ln w="12600">
                  <a:solidFill>
                    <a:srgbClr val="000000"/>
                  </a:solidFill>
                  <a:miter/>
                </a:ln>
              </p:spPr>
            </p:cxnSp>
            <p:cxnSp>
              <p:nvCxnSpPr>
                <p:cNvPr id="5494" name=""/>
                <p:cNvCxnSpPr>
                  <a:stCxn id="5463" idx="3"/>
                  <a:endCxn id="5464" idx="1"/>
                </p:cNvCxnSpPr>
                <p:nvPr/>
              </p:nvCxnSpPr>
              <p:spPr>
                <a:xfrm>
                  <a:off x="1045800" y="6231240"/>
                  <a:ext cx="20880" cy="1080"/>
                </a:xfrm>
                <a:prstGeom prst="bentConnector2">
                  <a:avLst/>
                </a:prstGeom>
                <a:ln w="12600">
                  <a:solidFill>
                    <a:srgbClr val="000000"/>
                  </a:solidFill>
                  <a:miter/>
                </a:ln>
              </p:spPr>
            </p:cxnSp>
            <p:cxnSp>
              <p:nvCxnSpPr>
                <p:cNvPr id="5495" name=""/>
                <p:cNvCxnSpPr>
                  <a:stCxn id="5464" idx="3"/>
                  <a:endCxn id="5465" idx="1"/>
                </p:cNvCxnSpPr>
                <p:nvPr/>
              </p:nvCxnSpPr>
              <p:spPr>
                <a:xfrm>
                  <a:off x="1100880" y="6231240"/>
                  <a:ext cx="28080" cy="1080"/>
                </a:xfrm>
                <a:prstGeom prst="bentConnector2">
                  <a:avLst/>
                </a:prstGeom>
                <a:ln w="12600">
                  <a:solidFill>
                    <a:srgbClr val="000000"/>
                  </a:solidFill>
                  <a:miter/>
                </a:ln>
              </p:spPr>
            </p:cxnSp>
            <p:cxnSp>
              <p:nvCxnSpPr>
                <p:cNvPr id="5496" name=""/>
                <p:cNvCxnSpPr>
                  <a:stCxn id="5465" idx="3"/>
                  <a:endCxn id="5478" idx="1"/>
                </p:cNvCxnSpPr>
                <p:nvPr/>
              </p:nvCxnSpPr>
              <p:spPr>
                <a:xfrm>
                  <a:off x="1162440" y="6231240"/>
                  <a:ext cx="20880" cy="102600"/>
                </a:xfrm>
                <a:prstGeom prst="bentConnector3">
                  <a:avLst>
                    <a:gd name="adj1" fmla="val 49122"/>
                  </a:avLst>
                </a:prstGeom>
                <a:ln w="12600">
                  <a:solidFill>
                    <a:srgbClr val="000000"/>
                  </a:solidFill>
                  <a:miter/>
                </a:ln>
              </p:spPr>
            </p:cxnSp>
            <p:cxnSp>
              <p:nvCxnSpPr>
                <p:cNvPr id="5497" name=""/>
                <p:cNvCxnSpPr>
                  <a:stCxn id="5465" idx="3"/>
                  <a:endCxn id="5466" idx="1"/>
                </p:cNvCxnSpPr>
                <p:nvPr/>
              </p:nvCxnSpPr>
              <p:spPr>
                <a:xfrm flipV="1">
                  <a:off x="1162440" y="6210720"/>
                  <a:ext cx="48600" cy="20880"/>
                </a:xfrm>
                <a:prstGeom prst="bentConnector3">
                  <a:avLst>
                    <a:gd name="adj1" fmla="val 50000"/>
                  </a:avLst>
                </a:prstGeom>
                <a:ln w="12600">
                  <a:solidFill>
                    <a:srgbClr val="000000"/>
                  </a:solidFill>
                  <a:miter/>
                </a:ln>
              </p:spPr>
            </p:cxnSp>
            <p:cxnSp>
              <p:nvCxnSpPr>
                <p:cNvPr id="5498" name=""/>
                <p:cNvCxnSpPr>
                  <a:stCxn id="5478" idx="3"/>
                  <a:endCxn id="5477" idx="1"/>
                </p:cNvCxnSpPr>
                <p:nvPr/>
              </p:nvCxnSpPr>
              <p:spPr>
                <a:xfrm>
                  <a:off x="1217160" y="6333480"/>
                  <a:ext cx="20880" cy="1080"/>
                </a:xfrm>
                <a:prstGeom prst="bentConnector2">
                  <a:avLst/>
                </a:prstGeom>
                <a:ln w="12600">
                  <a:solidFill>
                    <a:srgbClr val="000000"/>
                  </a:solidFill>
                  <a:miter/>
                </a:ln>
              </p:spPr>
            </p:cxnSp>
            <p:cxnSp>
              <p:nvCxnSpPr>
                <p:cNvPr id="5499" name=""/>
                <p:cNvCxnSpPr>
                  <a:stCxn id="5477" idx="3"/>
                  <a:endCxn id="5476" idx="1"/>
                </p:cNvCxnSpPr>
                <p:nvPr/>
              </p:nvCxnSpPr>
              <p:spPr>
                <a:xfrm>
                  <a:off x="1271880" y="6333480"/>
                  <a:ext cx="34920" cy="1080"/>
                </a:xfrm>
                <a:prstGeom prst="bentConnector2">
                  <a:avLst/>
                </a:prstGeom>
                <a:ln w="12600">
                  <a:solidFill>
                    <a:srgbClr val="000000"/>
                  </a:solidFill>
                  <a:miter/>
                </a:ln>
              </p:spPr>
            </p:cxnSp>
            <p:cxnSp>
              <p:nvCxnSpPr>
                <p:cNvPr id="5500" name=""/>
                <p:cNvCxnSpPr>
                  <a:stCxn id="5466" idx="3"/>
                  <a:endCxn id="5467" idx="1"/>
                </p:cNvCxnSpPr>
                <p:nvPr/>
              </p:nvCxnSpPr>
              <p:spPr>
                <a:xfrm>
                  <a:off x="1244520" y="6210720"/>
                  <a:ext cx="75960" cy="1080"/>
                </a:xfrm>
                <a:prstGeom prst="bentConnector2">
                  <a:avLst/>
                </a:prstGeom>
                <a:ln w="12600">
                  <a:solidFill>
                    <a:srgbClr val="000000"/>
                  </a:solidFill>
                  <a:miter/>
                </a:ln>
              </p:spPr>
            </p:cxnSp>
            <p:cxnSp>
              <p:nvCxnSpPr>
                <p:cNvPr id="5501" name=""/>
                <p:cNvCxnSpPr>
                  <a:stCxn id="5467" idx="3"/>
                  <a:endCxn id="5468" idx="1"/>
                </p:cNvCxnSpPr>
                <p:nvPr/>
              </p:nvCxnSpPr>
              <p:spPr>
                <a:xfrm>
                  <a:off x="1353960" y="6210720"/>
                  <a:ext cx="34920" cy="1080"/>
                </a:xfrm>
                <a:prstGeom prst="bentConnector2">
                  <a:avLst/>
                </a:prstGeom>
                <a:ln w="12600">
                  <a:solidFill>
                    <a:srgbClr val="000000"/>
                  </a:solidFill>
                  <a:miter/>
                </a:ln>
              </p:spPr>
            </p:cxnSp>
            <p:cxnSp>
              <p:nvCxnSpPr>
                <p:cNvPr id="5502" name=""/>
                <p:cNvCxnSpPr>
                  <a:stCxn id="5483" idx="3"/>
                  <a:endCxn id="5463" idx="1"/>
                </p:cNvCxnSpPr>
                <p:nvPr/>
              </p:nvCxnSpPr>
              <p:spPr>
                <a:xfrm flipV="1">
                  <a:off x="984600" y="6230880"/>
                  <a:ext cx="28080" cy="41400"/>
                </a:xfrm>
                <a:prstGeom prst="bentConnector3">
                  <a:avLst>
                    <a:gd name="adj1" fmla="val 49350"/>
                  </a:avLst>
                </a:prstGeom>
                <a:ln w="12600">
                  <a:solidFill>
                    <a:srgbClr val="000000"/>
                  </a:solidFill>
                  <a:miter/>
                </a:ln>
              </p:spPr>
            </p:cxnSp>
            <p:cxnSp>
              <p:nvCxnSpPr>
                <p:cNvPr id="5503" name=""/>
                <p:cNvCxnSpPr>
                  <a:stCxn id="5482" idx="3"/>
                  <a:endCxn id="5481" idx="1"/>
                </p:cNvCxnSpPr>
                <p:nvPr/>
              </p:nvCxnSpPr>
              <p:spPr>
                <a:xfrm>
                  <a:off x="984600" y="6354000"/>
                  <a:ext cx="28080" cy="1080"/>
                </a:xfrm>
                <a:prstGeom prst="bentConnector2">
                  <a:avLst/>
                </a:prstGeom>
                <a:ln w="12600">
                  <a:solidFill>
                    <a:srgbClr val="000000"/>
                  </a:solidFill>
                  <a:miter/>
                </a:ln>
              </p:spPr>
            </p:cxnSp>
            <p:cxnSp>
              <p:nvCxnSpPr>
                <p:cNvPr id="5504" name=""/>
                <p:cNvCxnSpPr>
                  <a:stCxn id="5481" idx="3"/>
                  <a:endCxn id="5464" idx="1"/>
                </p:cNvCxnSpPr>
                <p:nvPr/>
              </p:nvCxnSpPr>
              <p:spPr>
                <a:xfrm flipV="1">
                  <a:off x="1045800" y="6231240"/>
                  <a:ext cx="20880" cy="123120"/>
                </a:xfrm>
                <a:prstGeom prst="bentConnector3">
                  <a:avLst>
                    <a:gd name="adj1" fmla="val 49122"/>
                  </a:avLst>
                </a:prstGeom>
                <a:ln w="12600">
                  <a:solidFill>
                    <a:srgbClr val="000000"/>
                  </a:solidFill>
                  <a:miter/>
                </a:ln>
              </p:spPr>
            </p:cxnSp>
            <p:cxnSp>
              <p:nvCxnSpPr>
                <p:cNvPr id="5505" name=""/>
                <p:cNvCxnSpPr>
                  <a:stCxn id="5477" idx="3"/>
                  <a:endCxn id="5467" idx="1"/>
                </p:cNvCxnSpPr>
                <p:nvPr/>
              </p:nvCxnSpPr>
              <p:spPr>
                <a:xfrm flipV="1">
                  <a:off x="1271880" y="6210720"/>
                  <a:ext cx="48600" cy="123120"/>
                </a:xfrm>
                <a:prstGeom prst="bentConnector3">
                  <a:avLst>
                    <a:gd name="adj1" fmla="val 50000"/>
                  </a:avLst>
                </a:prstGeom>
                <a:ln w="12600">
                  <a:solidFill>
                    <a:srgbClr val="000000"/>
                  </a:solidFill>
                  <a:miter/>
                </a:ln>
              </p:spPr>
            </p:cxnSp>
            <p:cxnSp>
              <p:nvCxnSpPr>
                <p:cNvPr id="5506" name=""/>
                <p:cNvCxnSpPr>
                  <a:stCxn id="5476" idx="3"/>
                  <a:endCxn id="5488" idx="1"/>
                </p:cNvCxnSpPr>
                <p:nvPr/>
              </p:nvCxnSpPr>
              <p:spPr>
                <a:xfrm>
                  <a:off x="1340280" y="6333840"/>
                  <a:ext cx="20880" cy="123120"/>
                </a:xfrm>
                <a:prstGeom prst="bentConnector3">
                  <a:avLst>
                    <a:gd name="adj1" fmla="val 49122"/>
                  </a:avLst>
                </a:prstGeom>
                <a:ln w="12600">
                  <a:solidFill>
                    <a:srgbClr val="000000"/>
                  </a:solidFill>
                  <a:miter/>
                </a:ln>
              </p:spPr>
            </p:cxnSp>
            <p:cxnSp>
              <p:nvCxnSpPr>
                <p:cNvPr id="5507" name=""/>
                <p:cNvCxnSpPr>
                  <a:stCxn id="5476" idx="3"/>
                  <a:endCxn id="5475" idx="1"/>
                </p:cNvCxnSpPr>
                <p:nvPr/>
              </p:nvCxnSpPr>
              <p:spPr>
                <a:xfrm>
                  <a:off x="1340280" y="6333480"/>
                  <a:ext cx="20880" cy="1080"/>
                </a:xfrm>
                <a:prstGeom prst="bentConnector2">
                  <a:avLst/>
                </a:prstGeom>
                <a:ln w="12600">
                  <a:solidFill>
                    <a:srgbClr val="000000"/>
                  </a:solidFill>
                  <a:miter/>
                </a:ln>
              </p:spPr>
            </p:cxnSp>
            <p:cxnSp>
              <p:nvCxnSpPr>
                <p:cNvPr id="5508" name=""/>
                <p:cNvCxnSpPr>
                  <a:stCxn id="5468" idx="3"/>
                  <a:endCxn id="5469" idx="1"/>
                </p:cNvCxnSpPr>
                <p:nvPr/>
              </p:nvCxnSpPr>
              <p:spPr>
                <a:xfrm>
                  <a:off x="1422720" y="6210720"/>
                  <a:ext cx="20880" cy="1080"/>
                </a:xfrm>
                <a:prstGeom prst="bentConnector2">
                  <a:avLst/>
                </a:prstGeom>
                <a:ln w="12600">
                  <a:solidFill>
                    <a:srgbClr val="000000"/>
                  </a:solidFill>
                  <a:miter/>
                </a:ln>
              </p:spPr>
            </p:cxnSp>
            <p:cxnSp>
              <p:nvCxnSpPr>
                <p:cNvPr id="5509" name=""/>
                <p:cNvCxnSpPr>
                  <a:stCxn id="5469" idx="3"/>
                  <a:endCxn id="5470" idx="1"/>
                </p:cNvCxnSpPr>
                <p:nvPr/>
              </p:nvCxnSpPr>
              <p:spPr>
                <a:xfrm>
                  <a:off x="1477440" y="6210720"/>
                  <a:ext cx="34920" cy="1080"/>
                </a:xfrm>
                <a:prstGeom prst="bentConnector2">
                  <a:avLst/>
                </a:prstGeom>
                <a:ln w="12600">
                  <a:solidFill>
                    <a:srgbClr val="000000"/>
                  </a:solidFill>
                  <a:miter/>
                </a:ln>
              </p:spPr>
            </p:cxnSp>
            <p:cxnSp>
              <p:nvCxnSpPr>
                <p:cNvPr id="5510" name=""/>
                <p:cNvCxnSpPr>
                  <a:stCxn id="5470" idx="3"/>
                  <a:endCxn id="5471" idx="1"/>
                </p:cNvCxnSpPr>
                <p:nvPr/>
              </p:nvCxnSpPr>
              <p:spPr>
                <a:xfrm>
                  <a:off x="1546200" y="6210720"/>
                  <a:ext cx="28080" cy="1080"/>
                </a:xfrm>
                <a:prstGeom prst="bentConnector2">
                  <a:avLst/>
                </a:prstGeom>
                <a:ln w="12600">
                  <a:solidFill>
                    <a:srgbClr val="000000"/>
                  </a:solidFill>
                  <a:miter/>
                </a:ln>
              </p:spPr>
            </p:cxnSp>
            <p:cxnSp>
              <p:nvCxnSpPr>
                <p:cNvPr id="5511" name=""/>
                <p:cNvCxnSpPr>
                  <a:stCxn id="5469" idx="3"/>
                  <a:endCxn id="5472" idx="1"/>
                </p:cNvCxnSpPr>
                <p:nvPr/>
              </p:nvCxnSpPr>
              <p:spPr>
                <a:xfrm>
                  <a:off x="1477800" y="6210720"/>
                  <a:ext cx="123840" cy="102600"/>
                </a:xfrm>
                <a:prstGeom prst="bentConnector3">
                  <a:avLst>
                    <a:gd name="adj1" fmla="val 13702"/>
                  </a:avLst>
                </a:prstGeom>
                <a:ln w="12600">
                  <a:solidFill>
                    <a:srgbClr val="000000"/>
                  </a:solidFill>
                  <a:miter/>
                </a:ln>
              </p:spPr>
            </p:cxnSp>
            <p:cxnSp>
              <p:nvCxnSpPr>
                <p:cNvPr id="5512" name=""/>
                <p:cNvCxnSpPr>
                  <a:stCxn id="5484" idx="3"/>
                  <a:endCxn id="5481" idx="1"/>
                </p:cNvCxnSpPr>
                <p:nvPr/>
              </p:nvCxnSpPr>
              <p:spPr>
                <a:xfrm flipV="1">
                  <a:off x="984600" y="6353640"/>
                  <a:ext cx="28080" cy="102600"/>
                </a:xfrm>
                <a:prstGeom prst="bentConnector3">
                  <a:avLst>
                    <a:gd name="adj1" fmla="val 49350"/>
                  </a:avLst>
                </a:prstGeom>
                <a:ln w="12600">
                  <a:solidFill>
                    <a:srgbClr val="000000"/>
                  </a:solidFill>
                  <a:miter/>
                </a:ln>
              </p:spPr>
            </p:cxnSp>
            <p:cxnSp>
              <p:nvCxnSpPr>
                <p:cNvPr id="5513" name=""/>
                <p:cNvCxnSpPr>
                  <a:stCxn id="5461" idx="3"/>
                  <a:endCxn id="5482" idx="1"/>
                </p:cNvCxnSpPr>
                <p:nvPr/>
              </p:nvCxnSpPr>
              <p:spPr>
                <a:xfrm>
                  <a:off x="929520" y="6170400"/>
                  <a:ext cx="20880" cy="184320"/>
                </a:xfrm>
                <a:prstGeom prst="bentConnector3">
                  <a:avLst>
                    <a:gd name="adj1" fmla="val 49122"/>
                  </a:avLst>
                </a:prstGeom>
                <a:ln w="12600">
                  <a:solidFill>
                    <a:srgbClr val="000000"/>
                  </a:solidFill>
                  <a:miter/>
                </a:ln>
              </p:spPr>
            </p:cxnSp>
            <p:cxnSp>
              <p:nvCxnSpPr>
                <p:cNvPr id="5514" name=""/>
                <p:cNvCxnSpPr>
                  <a:stCxn id="5461" idx="3"/>
                  <a:endCxn id="5483" idx="1"/>
                </p:cNvCxnSpPr>
                <p:nvPr/>
              </p:nvCxnSpPr>
              <p:spPr>
                <a:xfrm>
                  <a:off x="929520" y="6170040"/>
                  <a:ext cx="20880" cy="102600"/>
                </a:xfrm>
                <a:prstGeom prst="bentConnector3">
                  <a:avLst>
                    <a:gd name="adj1" fmla="val 49122"/>
                  </a:avLst>
                </a:prstGeom>
                <a:ln w="12600">
                  <a:solidFill>
                    <a:srgbClr val="000000"/>
                  </a:solidFill>
                  <a:miter/>
                </a:ln>
              </p:spPr>
            </p:cxnSp>
            <p:cxnSp>
              <p:nvCxnSpPr>
                <p:cNvPr id="5515" name=""/>
                <p:cNvCxnSpPr>
                  <a:stCxn id="5484" idx="3"/>
                  <a:endCxn id="5485" idx="1"/>
                </p:cNvCxnSpPr>
                <p:nvPr/>
              </p:nvCxnSpPr>
              <p:spPr>
                <a:xfrm>
                  <a:off x="984240" y="6455880"/>
                  <a:ext cx="34920" cy="1080"/>
                </a:xfrm>
                <a:prstGeom prst="bentConnector2">
                  <a:avLst/>
                </a:prstGeom>
                <a:ln w="12600">
                  <a:solidFill>
                    <a:srgbClr val="000000"/>
                  </a:solidFill>
                  <a:miter/>
                </a:ln>
              </p:spPr>
            </p:cxnSp>
            <p:cxnSp>
              <p:nvCxnSpPr>
                <p:cNvPr id="5516" name=""/>
                <p:cNvCxnSpPr>
                  <a:stCxn id="5485" idx="3"/>
                  <a:endCxn id="5480" idx="1"/>
                </p:cNvCxnSpPr>
                <p:nvPr/>
              </p:nvCxnSpPr>
              <p:spPr>
                <a:xfrm flipV="1">
                  <a:off x="1052640" y="6373800"/>
                  <a:ext cx="20880" cy="82440"/>
                </a:xfrm>
                <a:prstGeom prst="bentConnector3">
                  <a:avLst>
                    <a:gd name="adj1" fmla="val 49122"/>
                  </a:avLst>
                </a:prstGeom>
                <a:ln w="12600">
                  <a:solidFill>
                    <a:srgbClr val="000000"/>
                  </a:solidFill>
                  <a:miter/>
                </a:ln>
              </p:spPr>
            </p:cxnSp>
            <p:cxnSp>
              <p:nvCxnSpPr>
                <p:cNvPr id="5517" name=""/>
                <p:cNvCxnSpPr>
                  <a:stCxn id="5480" idx="3"/>
                  <a:endCxn id="5465" idx="1"/>
                </p:cNvCxnSpPr>
                <p:nvPr/>
              </p:nvCxnSpPr>
              <p:spPr>
                <a:xfrm flipV="1">
                  <a:off x="1107360" y="6230880"/>
                  <a:ext cx="20880" cy="143640"/>
                </a:xfrm>
                <a:prstGeom prst="bentConnector3">
                  <a:avLst>
                    <a:gd name="adj1" fmla="val 49122"/>
                  </a:avLst>
                </a:prstGeom>
                <a:ln w="12600">
                  <a:solidFill>
                    <a:srgbClr val="000000"/>
                  </a:solidFill>
                  <a:miter/>
                </a:ln>
              </p:spPr>
            </p:cxnSp>
            <p:cxnSp>
              <p:nvCxnSpPr>
                <p:cNvPr id="5518" name=""/>
                <p:cNvCxnSpPr>
                  <a:stCxn id="5485" idx="3"/>
                  <a:endCxn id="5479" idx="1"/>
                </p:cNvCxnSpPr>
                <p:nvPr/>
              </p:nvCxnSpPr>
              <p:spPr>
                <a:xfrm>
                  <a:off x="1052640" y="6455880"/>
                  <a:ext cx="75960" cy="1080"/>
                </a:xfrm>
                <a:prstGeom prst="bentConnector2">
                  <a:avLst/>
                </a:prstGeom>
                <a:ln w="12600">
                  <a:solidFill>
                    <a:srgbClr val="000000"/>
                  </a:solidFill>
                  <a:miter/>
                </a:ln>
              </p:spPr>
            </p:cxnSp>
            <p:cxnSp>
              <p:nvCxnSpPr>
                <p:cNvPr id="5519" name=""/>
                <p:cNvCxnSpPr>
                  <a:stCxn id="5479" idx="3"/>
                  <a:endCxn id="5486" idx="1"/>
                </p:cNvCxnSpPr>
                <p:nvPr/>
              </p:nvCxnSpPr>
              <p:spPr>
                <a:xfrm>
                  <a:off x="1162800" y="6455880"/>
                  <a:ext cx="28080" cy="1080"/>
                </a:xfrm>
                <a:prstGeom prst="bentConnector2">
                  <a:avLst/>
                </a:prstGeom>
                <a:ln w="12600">
                  <a:solidFill>
                    <a:srgbClr val="000000"/>
                  </a:solidFill>
                  <a:miter/>
                </a:ln>
              </p:spPr>
            </p:cxnSp>
            <p:cxnSp>
              <p:nvCxnSpPr>
                <p:cNvPr id="5520" name=""/>
                <p:cNvCxnSpPr>
                  <a:stCxn id="5486" idx="3"/>
                  <a:endCxn id="5477" idx="1"/>
                </p:cNvCxnSpPr>
                <p:nvPr/>
              </p:nvCxnSpPr>
              <p:spPr>
                <a:xfrm flipV="1">
                  <a:off x="1224360" y="6333480"/>
                  <a:ext cx="14400" cy="123120"/>
                </a:xfrm>
                <a:prstGeom prst="bentConnector3">
                  <a:avLst>
                    <a:gd name="adj1" fmla="val 48717"/>
                  </a:avLst>
                </a:prstGeom>
                <a:ln w="12600">
                  <a:solidFill>
                    <a:srgbClr val="000000"/>
                  </a:solidFill>
                  <a:miter/>
                </a:ln>
              </p:spPr>
            </p:cxnSp>
            <p:cxnSp>
              <p:nvCxnSpPr>
                <p:cNvPr id="5521" name=""/>
                <p:cNvCxnSpPr>
                  <a:stCxn id="5486" idx="3"/>
                  <a:endCxn id="5487" idx="1"/>
                </p:cNvCxnSpPr>
                <p:nvPr/>
              </p:nvCxnSpPr>
              <p:spPr>
                <a:xfrm>
                  <a:off x="1224360" y="6455880"/>
                  <a:ext cx="28080" cy="1080"/>
                </a:xfrm>
                <a:prstGeom prst="bentConnector2">
                  <a:avLst/>
                </a:prstGeom>
                <a:ln w="12600">
                  <a:solidFill>
                    <a:srgbClr val="000000"/>
                  </a:solidFill>
                  <a:miter/>
                </a:ln>
              </p:spPr>
            </p:cxnSp>
            <p:cxnSp>
              <p:nvCxnSpPr>
                <p:cNvPr id="5522" name=""/>
                <p:cNvCxnSpPr>
                  <a:stCxn id="5487" idx="3"/>
                  <a:endCxn id="5476" idx="1"/>
                </p:cNvCxnSpPr>
                <p:nvPr/>
              </p:nvCxnSpPr>
              <p:spPr>
                <a:xfrm flipV="1">
                  <a:off x="1285560" y="6333480"/>
                  <a:ext cx="20880" cy="123120"/>
                </a:xfrm>
                <a:prstGeom prst="bentConnector3">
                  <a:avLst>
                    <a:gd name="adj1" fmla="val 49122"/>
                  </a:avLst>
                </a:prstGeom>
                <a:ln w="12600">
                  <a:solidFill>
                    <a:srgbClr val="000000"/>
                  </a:solidFill>
                  <a:miter/>
                </a:ln>
              </p:spPr>
            </p:cxnSp>
            <p:cxnSp>
              <p:nvCxnSpPr>
                <p:cNvPr id="5523" name=""/>
                <p:cNvCxnSpPr>
                  <a:stCxn id="5475" idx="3"/>
                  <a:endCxn id="5474" idx="1"/>
                </p:cNvCxnSpPr>
                <p:nvPr/>
              </p:nvCxnSpPr>
              <p:spPr>
                <a:xfrm>
                  <a:off x="1395000" y="6333480"/>
                  <a:ext cx="20880" cy="1080"/>
                </a:xfrm>
                <a:prstGeom prst="bentConnector2">
                  <a:avLst/>
                </a:prstGeom>
                <a:ln w="12600">
                  <a:solidFill>
                    <a:srgbClr val="000000"/>
                  </a:solidFill>
                  <a:miter/>
                </a:ln>
              </p:spPr>
            </p:cxnSp>
            <p:cxnSp>
              <p:nvCxnSpPr>
                <p:cNvPr id="5524" name=""/>
                <p:cNvCxnSpPr>
                  <a:stCxn id="5474" idx="3"/>
                  <a:endCxn id="5473" idx="1"/>
                </p:cNvCxnSpPr>
                <p:nvPr/>
              </p:nvCxnSpPr>
              <p:spPr>
                <a:xfrm>
                  <a:off x="1450080" y="6333480"/>
                  <a:ext cx="34920" cy="41400"/>
                </a:xfrm>
                <a:prstGeom prst="bentConnector3">
                  <a:avLst>
                    <a:gd name="adj1" fmla="val 50000"/>
                  </a:avLst>
                </a:prstGeom>
                <a:ln w="12600">
                  <a:solidFill>
                    <a:srgbClr val="000000"/>
                  </a:solidFill>
                  <a:miter/>
                </a:ln>
              </p:spPr>
            </p:cxnSp>
            <p:cxnSp>
              <p:nvCxnSpPr>
                <p:cNvPr id="5525" name=""/>
                <p:cNvCxnSpPr>
                  <a:stCxn id="5488" idx="3"/>
                  <a:endCxn id="5474" idx="1"/>
                </p:cNvCxnSpPr>
                <p:nvPr/>
              </p:nvCxnSpPr>
              <p:spPr>
                <a:xfrm flipV="1">
                  <a:off x="1395000" y="6333480"/>
                  <a:ext cx="20880" cy="123120"/>
                </a:xfrm>
                <a:prstGeom prst="bentConnector3">
                  <a:avLst>
                    <a:gd name="adj1" fmla="val 49122"/>
                  </a:avLst>
                </a:prstGeom>
                <a:ln w="12600">
                  <a:solidFill>
                    <a:srgbClr val="000000"/>
                  </a:solidFill>
                  <a:miter/>
                </a:ln>
              </p:spPr>
            </p:cxnSp>
            <p:cxnSp>
              <p:nvCxnSpPr>
                <p:cNvPr id="5526" name=""/>
                <p:cNvCxnSpPr>
                  <a:stCxn id="5473" idx="3"/>
                  <a:endCxn id="5491" idx="1"/>
                </p:cNvCxnSpPr>
                <p:nvPr/>
              </p:nvCxnSpPr>
              <p:spPr>
                <a:xfrm>
                  <a:off x="1518840" y="6374160"/>
                  <a:ext cx="28080" cy="41400"/>
                </a:xfrm>
                <a:prstGeom prst="bentConnector3">
                  <a:avLst>
                    <a:gd name="adj1" fmla="val 49350"/>
                  </a:avLst>
                </a:prstGeom>
                <a:ln w="12600">
                  <a:solidFill>
                    <a:srgbClr val="000000"/>
                  </a:solidFill>
                  <a:miter/>
                </a:ln>
              </p:spPr>
            </p:cxnSp>
            <p:cxnSp>
              <p:nvCxnSpPr>
                <p:cNvPr id="5527" name=""/>
                <p:cNvCxnSpPr>
                  <a:stCxn id="5488" idx="3"/>
                  <a:endCxn id="5489" idx="1"/>
                </p:cNvCxnSpPr>
                <p:nvPr/>
              </p:nvCxnSpPr>
              <p:spPr>
                <a:xfrm>
                  <a:off x="1395000" y="6455880"/>
                  <a:ext cx="20880" cy="1080"/>
                </a:xfrm>
                <a:prstGeom prst="bentConnector2">
                  <a:avLst/>
                </a:prstGeom>
                <a:ln w="12600">
                  <a:solidFill>
                    <a:srgbClr val="000000"/>
                  </a:solidFill>
                  <a:miter/>
                </a:ln>
              </p:spPr>
            </p:cxnSp>
            <p:cxnSp>
              <p:nvCxnSpPr>
                <p:cNvPr id="5528" name=""/>
                <p:cNvCxnSpPr>
                  <a:stCxn id="5489" idx="3"/>
                  <a:endCxn id="5490" idx="1"/>
                </p:cNvCxnSpPr>
                <p:nvPr/>
              </p:nvCxnSpPr>
              <p:spPr>
                <a:xfrm>
                  <a:off x="1450080" y="6455880"/>
                  <a:ext cx="34920" cy="1080"/>
                </a:xfrm>
                <a:prstGeom prst="bentConnector2">
                  <a:avLst/>
                </a:prstGeom>
                <a:ln w="12600">
                  <a:solidFill>
                    <a:srgbClr val="000000"/>
                  </a:solidFill>
                  <a:miter/>
                </a:ln>
              </p:spPr>
            </p:cxnSp>
            <p:cxnSp>
              <p:nvCxnSpPr>
                <p:cNvPr id="5529" name=""/>
                <p:cNvCxnSpPr>
                  <a:stCxn id="5490" idx="3"/>
                  <a:endCxn id="5491" idx="1"/>
                </p:cNvCxnSpPr>
                <p:nvPr/>
              </p:nvCxnSpPr>
              <p:spPr>
                <a:xfrm flipV="1">
                  <a:off x="1518840" y="6414840"/>
                  <a:ext cx="28080" cy="41400"/>
                </a:xfrm>
                <a:prstGeom prst="bentConnector3">
                  <a:avLst>
                    <a:gd name="adj1" fmla="val 49350"/>
                  </a:avLst>
                </a:prstGeom>
                <a:ln w="12600">
                  <a:solidFill>
                    <a:srgbClr val="000000"/>
                  </a:solidFill>
                  <a:miter/>
                </a:ln>
              </p:spPr>
            </p:cxnSp>
            <p:cxnSp>
              <p:nvCxnSpPr>
                <p:cNvPr id="5530" name=""/>
                <p:cNvCxnSpPr>
                  <a:stCxn id="5491" idx="3"/>
                  <a:endCxn id="5472" idx="1"/>
                </p:cNvCxnSpPr>
                <p:nvPr/>
              </p:nvCxnSpPr>
              <p:spPr>
                <a:xfrm flipV="1">
                  <a:off x="1580040" y="6312600"/>
                  <a:ext cx="20880" cy="102600"/>
                </a:xfrm>
                <a:prstGeom prst="bentConnector3">
                  <a:avLst>
                    <a:gd name="adj1" fmla="val 49122"/>
                  </a:avLst>
                </a:prstGeom>
                <a:ln w="12600">
                  <a:solidFill>
                    <a:srgbClr val="000000"/>
                  </a:solidFill>
                  <a:miter/>
                </a:ln>
              </p:spPr>
            </p:cxnSp>
          </p:grpSp>
        </p:grpSp>
        <p:grpSp>
          <p:nvGrpSpPr>
            <p:cNvPr id="5531" name=""/>
            <p:cNvGrpSpPr/>
            <p:nvPr/>
          </p:nvGrpSpPr>
          <p:grpSpPr>
            <a:xfrm>
              <a:off x="2616120" y="5964120"/>
              <a:ext cx="1271520" cy="762120"/>
              <a:chOff x="2616120" y="5964120"/>
              <a:chExt cx="1271520" cy="762120"/>
            </a:xfrm>
          </p:grpSpPr>
          <p:sp>
            <p:nvSpPr>
              <p:cNvPr id="5532" name=""/>
              <p:cNvSpPr/>
              <p:nvPr/>
            </p:nvSpPr>
            <p:spPr>
              <a:xfrm>
                <a:off x="2616120" y="5964120"/>
                <a:ext cx="1271520" cy="762120"/>
              </a:xfrm>
              <a:custGeom>
                <a:avLst/>
                <a:gdLst>
                  <a:gd name="textAreaLeft" fmla="*/ 158760 w 1271520"/>
                  <a:gd name="textAreaRight" fmla="*/ 1112760 w 127152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33" name=""/>
              <p:cNvGrpSpPr/>
              <p:nvPr/>
            </p:nvGrpSpPr>
            <p:grpSpPr>
              <a:xfrm>
                <a:off x="2771280" y="6217920"/>
                <a:ext cx="960840" cy="253800"/>
                <a:chOff x="2771280" y="6217920"/>
                <a:chExt cx="960840" cy="253800"/>
              </a:xfrm>
            </p:grpSpPr>
            <p:sp>
              <p:nvSpPr>
                <p:cNvPr id="5534" name=""/>
                <p:cNvSpPr/>
                <p:nvPr/>
              </p:nvSpPr>
              <p:spPr>
                <a:xfrm>
                  <a:off x="2771280" y="6233040"/>
                  <a:ext cx="44640" cy="41400"/>
                </a:xfrm>
                <a:prstGeom prst="rect">
                  <a:avLst/>
                </a:prstGeom>
                <a:solidFill>
                  <a:srgbClr val="bbe0e3"/>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35" name=""/>
                <p:cNvSpPr/>
                <p:nvPr/>
              </p:nvSpPr>
              <p:spPr>
                <a:xfrm>
                  <a:off x="2842200" y="6233040"/>
                  <a:ext cx="44640" cy="41400"/>
                </a:xfrm>
                <a:prstGeom prst="rect">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36" name=""/>
                <p:cNvSpPr/>
                <p:nvPr/>
              </p:nvSpPr>
              <p:spPr>
                <a:xfrm>
                  <a:off x="2988360" y="6217920"/>
                  <a:ext cx="4428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37" name=""/>
                <p:cNvSpPr/>
                <p:nvPr/>
              </p:nvSpPr>
              <p:spPr>
                <a:xfrm>
                  <a:off x="3073680" y="6274800"/>
                  <a:ext cx="4428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38" name=""/>
                <p:cNvSpPr/>
                <p:nvPr/>
              </p:nvSpPr>
              <p:spPr>
                <a:xfrm>
                  <a:off x="3236400" y="6274080"/>
                  <a:ext cx="4464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39" name=""/>
                <p:cNvSpPr/>
                <p:nvPr/>
              </p:nvSpPr>
              <p:spPr>
                <a:xfrm>
                  <a:off x="3687840" y="6331320"/>
                  <a:ext cx="44280" cy="4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0" name=""/>
                <p:cNvSpPr/>
                <p:nvPr/>
              </p:nvSpPr>
              <p:spPr>
                <a:xfrm>
                  <a:off x="3536640" y="6373800"/>
                  <a:ext cx="44280" cy="4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1" name=""/>
                <p:cNvSpPr/>
                <p:nvPr/>
              </p:nvSpPr>
              <p:spPr>
                <a:xfrm>
                  <a:off x="3447720" y="6345360"/>
                  <a:ext cx="4464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2" name=""/>
                <p:cNvSpPr/>
                <p:nvPr/>
              </p:nvSpPr>
              <p:spPr>
                <a:xfrm>
                  <a:off x="3376440" y="6345360"/>
                  <a:ext cx="4464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3" name=""/>
                <p:cNvSpPr/>
                <p:nvPr/>
              </p:nvSpPr>
              <p:spPr>
                <a:xfrm>
                  <a:off x="3305520" y="6345360"/>
                  <a:ext cx="4428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4" name=""/>
                <p:cNvSpPr/>
                <p:nvPr/>
              </p:nvSpPr>
              <p:spPr>
                <a:xfrm>
                  <a:off x="3216240" y="6345360"/>
                  <a:ext cx="4428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5" name=""/>
                <p:cNvSpPr/>
                <p:nvPr/>
              </p:nvSpPr>
              <p:spPr>
                <a:xfrm>
                  <a:off x="3145320" y="6345360"/>
                  <a:ext cx="44280" cy="4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6" name=""/>
                <p:cNvSpPr/>
                <p:nvPr/>
              </p:nvSpPr>
              <p:spPr>
                <a:xfrm>
                  <a:off x="3073680" y="6429600"/>
                  <a:ext cx="4428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7" name=""/>
                <p:cNvSpPr/>
                <p:nvPr/>
              </p:nvSpPr>
              <p:spPr>
                <a:xfrm>
                  <a:off x="2957040" y="6330600"/>
                  <a:ext cx="44640" cy="4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8" name=""/>
                <p:cNvSpPr/>
                <p:nvPr/>
              </p:nvSpPr>
              <p:spPr>
                <a:xfrm>
                  <a:off x="2842200" y="6359400"/>
                  <a:ext cx="4464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49" name=""/>
                <p:cNvSpPr/>
                <p:nvPr/>
              </p:nvSpPr>
              <p:spPr>
                <a:xfrm>
                  <a:off x="2842200" y="6302880"/>
                  <a:ext cx="4464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50" name=""/>
                <p:cNvSpPr/>
                <p:nvPr/>
              </p:nvSpPr>
              <p:spPr>
                <a:xfrm>
                  <a:off x="3153600" y="6429600"/>
                  <a:ext cx="4428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51" name=""/>
                <p:cNvSpPr/>
                <p:nvPr/>
              </p:nvSpPr>
              <p:spPr>
                <a:xfrm>
                  <a:off x="3376440" y="6429600"/>
                  <a:ext cx="44640" cy="4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552" name=""/>
                <p:cNvSpPr/>
                <p:nvPr/>
              </p:nvSpPr>
              <p:spPr>
                <a:xfrm>
                  <a:off x="3616920" y="6401880"/>
                  <a:ext cx="44280" cy="41400"/>
                </a:xfrm>
                <a:prstGeom prst="rect">
                  <a:avLst/>
                </a:prstGeom>
                <a:solidFill>
                  <a:srgbClr val="bbe0e3"/>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cxnSp>
              <p:nvCxnSpPr>
                <p:cNvPr id="5553" name=""/>
                <p:cNvCxnSpPr>
                  <a:stCxn id="5534" idx="3"/>
                  <a:endCxn id="5535" idx="1"/>
                </p:cNvCxnSpPr>
                <p:nvPr/>
              </p:nvCxnSpPr>
              <p:spPr>
                <a:xfrm>
                  <a:off x="2815560" y="6253920"/>
                  <a:ext cx="27000" cy="1080"/>
                </a:xfrm>
                <a:prstGeom prst="bentConnector2">
                  <a:avLst/>
                </a:prstGeom>
                <a:ln w="12600">
                  <a:solidFill>
                    <a:srgbClr val="000000"/>
                  </a:solidFill>
                  <a:miter/>
                </a:ln>
              </p:spPr>
            </p:cxnSp>
            <p:cxnSp>
              <p:nvCxnSpPr>
                <p:cNvPr id="5554" name=""/>
                <p:cNvCxnSpPr>
                  <a:endCxn id="5536" idx="1"/>
                </p:cNvCxnSpPr>
                <p:nvPr/>
              </p:nvCxnSpPr>
              <p:spPr>
                <a:xfrm>
                  <a:off x="2961360" y="6238440"/>
                  <a:ext cx="27000" cy="1080"/>
                </a:xfrm>
                <a:prstGeom prst="bentConnector2">
                  <a:avLst/>
                </a:prstGeom>
                <a:ln w="12600">
                  <a:solidFill>
                    <a:srgbClr val="000000"/>
                  </a:solidFill>
                  <a:miter/>
                </a:ln>
              </p:spPr>
            </p:cxnSp>
            <p:cxnSp>
              <p:nvCxnSpPr>
                <p:cNvPr id="5555" name=""/>
                <p:cNvCxnSpPr>
                  <a:stCxn id="5536" idx="3"/>
                  <a:endCxn id="5537" idx="1"/>
                </p:cNvCxnSpPr>
                <p:nvPr/>
              </p:nvCxnSpPr>
              <p:spPr>
                <a:xfrm>
                  <a:off x="3032280" y="6238800"/>
                  <a:ext cx="41400" cy="57600"/>
                </a:xfrm>
                <a:prstGeom prst="bentConnector3">
                  <a:avLst>
                    <a:gd name="adj1" fmla="val 49122"/>
                  </a:avLst>
                </a:prstGeom>
                <a:ln w="12600">
                  <a:solidFill>
                    <a:srgbClr val="000000"/>
                  </a:solidFill>
                  <a:miter/>
                </a:ln>
              </p:spPr>
            </p:cxnSp>
            <p:cxnSp>
              <p:nvCxnSpPr>
                <p:cNvPr id="5556" name=""/>
                <p:cNvCxnSpPr>
                  <a:stCxn id="5537" idx="3"/>
                  <a:endCxn id="5545" idx="1"/>
                </p:cNvCxnSpPr>
                <p:nvPr/>
              </p:nvCxnSpPr>
              <p:spPr>
                <a:xfrm>
                  <a:off x="3117600" y="6296400"/>
                  <a:ext cx="27720" cy="70200"/>
                </a:xfrm>
                <a:prstGeom prst="bentConnector3">
                  <a:avLst>
                    <a:gd name="adj1" fmla="val 50000"/>
                  </a:avLst>
                </a:prstGeom>
                <a:ln w="12600">
                  <a:solidFill>
                    <a:srgbClr val="000000"/>
                  </a:solidFill>
                  <a:miter/>
                </a:ln>
              </p:spPr>
            </p:cxnSp>
            <p:cxnSp>
              <p:nvCxnSpPr>
                <p:cNvPr id="5557" name=""/>
                <p:cNvCxnSpPr>
                  <a:stCxn id="5537" idx="3"/>
                  <a:endCxn id="5538" idx="1"/>
                </p:cNvCxnSpPr>
                <p:nvPr/>
              </p:nvCxnSpPr>
              <p:spPr>
                <a:xfrm flipV="1">
                  <a:off x="3117960" y="6294600"/>
                  <a:ext cx="118800" cy="1080"/>
                </a:xfrm>
                <a:prstGeom prst="bentConnector3">
                  <a:avLst>
                    <a:gd name="adj1" fmla="val 49544"/>
                  </a:avLst>
                </a:prstGeom>
                <a:ln w="12600">
                  <a:solidFill>
                    <a:srgbClr val="000000"/>
                  </a:solidFill>
                  <a:miter/>
                </a:ln>
              </p:spPr>
            </p:cxnSp>
            <p:cxnSp>
              <p:nvCxnSpPr>
                <p:cNvPr id="5558" name=""/>
                <p:cNvCxnSpPr>
                  <a:stCxn id="5545" idx="3"/>
                  <a:endCxn id="5544" idx="1"/>
                </p:cNvCxnSpPr>
                <p:nvPr/>
              </p:nvCxnSpPr>
              <p:spPr>
                <a:xfrm>
                  <a:off x="3189600" y="6366240"/>
                  <a:ext cx="27000" cy="1080"/>
                </a:xfrm>
                <a:prstGeom prst="bentConnector2">
                  <a:avLst/>
                </a:prstGeom>
                <a:ln w="12600">
                  <a:solidFill>
                    <a:srgbClr val="000000"/>
                  </a:solidFill>
                  <a:miter/>
                </a:ln>
              </p:spPr>
            </p:cxnSp>
            <p:cxnSp>
              <p:nvCxnSpPr>
                <p:cNvPr id="5559" name=""/>
                <p:cNvCxnSpPr>
                  <a:stCxn id="5544" idx="3"/>
                  <a:endCxn id="5543" idx="1"/>
                </p:cNvCxnSpPr>
                <p:nvPr/>
              </p:nvCxnSpPr>
              <p:spPr>
                <a:xfrm>
                  <a:off x="3260520" y="6366240"/>
                  <a:ext cx="45000" cy="1080"/>
                </a:xfrm>
                <a:prstGeom prst="bentConnector2">
                  <a:avLst/>
                </a:prstGeom>
                <a:ln w="12600">
                  <a:solidFill>
                    <a:srgbClr val="000000"/>
                  </a:solidFill>
                  <a:miter/>
                </a:ln>
              </p:spPr>
            </p:cxnSp>
            <p:cxnSp>
              <p:nvCxnSpPr>
                <p:cNvPr id="5560" name=""/>
                <p:cNvCxnSpPr>
                  <a:stCxn id="5538" idx="3"/>
                  <a:endCxn id="5543" idx="0"/>
                </p:cNvCxnSpPr>
                <p:nvPr/>
              </p:nvCxnSpPr>
              <p:spPr>
                <a:xfrm>
                  <a:off x="3280680" y="6295320"/>
                  <a:ext cx="47880" cy="50400"/>
                </a:xfrm>
                <a:prstGeom prst="bentConnector2">
                  <a:avLst/>
                </a:prstGeom>
                <a:ln w="12600">
                  <a:solidFill>
                    <a:srgbClr val="000000"/>
                  </a:solidFill>
                  <a:miter/>
                </a:ln>
              </p:spPr>
            </p:cxnSp>
            <p:cxnSp>
              <p:nvCxnSpPr>
                <p:cNvPr id="5561" name=""/>
                <p:cNvCxnSpPr>
                  <a:stCxn id="5549" idx="3"/>
                  <a:endCxn id="5536" idx="1"/>
                </p:cNvCxnSpPr>
                <p:nvPr/>
              </p:nvCxnSpPr>
              <p:spPr>
                <a:xfrm flipV="1">
                  <a:off x="2886480" y="6238440"/>
                  <a:ext cx="101880" cy="85680"/>
                </a:xfrm>
                <a:prstGeom prst="bentConnector3">
                  <a:avLst>
                    <a:gd name="adj1" fmla="val 49645"/>
                  </a:avLst>
                </a:prstGeom>
                <a:ln w="12600">
                  <a:solidFill>
                    <a:srgbClr val="000000"/>
                  </a:solidFill>
                  <a:miter/>
                </a:ln>
              </p:spPr>
            </p:cxnSp>
            <p:cxnSp>
              <p:nvCxnSpPr>
                <p:cNvPr id="5562" name=""/>
                <p:cNvCxnSpPr>
                  <a:stCxn id="5548" idx="3"/>
                  <a:endCxn id="5547" idx="1"/>
                </p:cNvCxnSpPr>
                <p:nvPr/>
              </p:nvCxnSpPr>
              <p:spPr>
                <a:xfrm flipV="1">
                  <a:off x="2886480" y="6351480"/>
                  <a:ext cx="70920" cy="29520"/>
                </a:xfrm>
                <a:prstGeom prst="bentConnector3">
                  <a:avLst>
                    <a:gd name="adj1" fmla="val 49489"/>
                  </a:avLst>
                </a:prstGeom>
                <a:ln w="12600">
                  <a:solidFill>
                    <a:srgbClr val="000000"/>
                  </a:solidFill>
                  <a:miter/>
                </a:ln>
              </p:spPr>
            </p:cxnSp>
            <p:cxnSp>
              <p:nvCxnSpPr>
                <p:cNvPr id="5563" name=""/>
                <p:cNvCxnSpPr>
                  <a:stCxn id="5547" idx="3"/>
                  <a:endCxn id="5536" idx="1"/>
                </p:cNvCxnSpPr>
                <p:nvPr/>
              </p:nvCxnSpPr>
              <p:spPr>
                <a:xfrm flipH="1" flipV="1">
                  <a:off x="2987640" y="6238080"/>
                  <a:ext cx="14040" cy="113400"/>
                </a:xfrm>
                <a:prstGeom prst="bentConnector5">
                  <a:avLst>
                    <a:gd name="adj1" fmla="val -684210"/>
                    <a:gd name="adj2" fmla="val 50000"/>
                    <a:gd name="adj3" fmla="val 784210"/>
                  </a:avLst>
                </a:prstGeom>
                <a:ln w="12600">
                  <a:solidFill>
                    <a:srgbClr val="000000"/>
                  </a:solidFill>
                  <a:miter/>
                </a:ln>
              </p:spPr>
            </p:cxnSp>
            <p:cxnSp>
              <p:nvCxnSpPr>
                <p:cNvPr id="5564" name=""/>
                <p:cNvCxnSpPr>
                  <a:stCxn id="5543" idx="3"/>
                  <a:endCxn id="5551" idx="1"/>
                </p:cNvCxnSpPr>
                <p:nvPr/>
              </p:nvCxnSpPr>
              <p:spPr>
                <a:xfrm>
                  <a:off x="3349440" y="6366240"/>
                  <a:ext cx="27000" cy="84600"/>
                </a:xfrm>
                <a:prstGeom prst="bentConnector3">
                  <a:avLst>
                    <a:gd name="adj1" fmla="val 50000"/>
                  </a:avLst>
                </a:prstGeom>
                <a:ln w="12600">
                  <a:solidFill>
                    <a:srgbClr val="000000"/>
                  </a:solidFill>
                  <a:miter/>
                </a:ln>
              </p:spPr>
            </p:cxnSp>
            <p:cxnSp>
              <p:nvCxnSpPr>
                <p:cNvPr id="5565" name=""/>
                <p:cNvCxnSpPr>
                  <a:stCxn id="5543" idx="3"/>
                  <a:endCxn id="5542" idx="1"/>
                </p:cNvCxnSpPr>
                <p:nvPr/>
              </p:nvCxnSpPr>
              <p:spPr>
                <a:xfrm>
                  <a:off x="3349440" y="6366240"/>
                  <a:ext cx="27000" cy="1080"/>
                </a:xfrm>
                <a:prstGeom prst="bentConnector2">
                  <a:avLst/>
                </a:prstGeom>
                <a:ln w="12600">
                  <a:solidFill>
                    <a:srgbClr val="000000"/>
                  </a:solidFill>
                  <a:miter/>
                </a:ln>
              </p:spPr>
            </p:cxnSp>
            <p:cxnSp>
              <p:nvCxnSpPr>
                <p:cNvPr id="5566" name=""/>
                <p:cNvCxnSpPr>
                  <a:stCxn id="5534" idx="3"/>
                  <a:endCxn id="5548" idx="1"/>
                </p:cNvCxnSpPr>
                <p:nvPr/>
              </p:nvCxnSpPr>
              <p:spPr>
                <a:xfrm>
                  <a:off x="2815560" y="6253920"/>
                  <a:ext cx="27000" cy="126720"/>
                </a:xfrm>
                <a:prstGeom prst="bentConnector3">
                  <a:avLst>
                    <a:gd name="adj1" fmla="val 50000"/>
                  </a:avLst>
                </a:prstGeom>
                <a:ln w="12600">
                  <a:solidFill>
                    <a:srgbClr val="000000"/>
                  </a:solidFill>
                  <a:miter/>
                </a:ln>
              </p:spPr>
            </p:cxnSp>
            <p:cxnSp>
              <p:nvCxnSpPr>
                <p:cNvPr id="5567" name=""/>
                <p:cNvCxnSpPr>
                  <a:stCxn id="5534" idx="3"/>
                  <a:endCxn id="5549" idx="1"/>
                </p:cNvCxnSpPr>
                <p:nvPr/>
              </p:nvCxnSpPr>
              <p:spPr>
                <a:xfrm>
                  <a:off x="2815560" y="6254280"/>
                  <a:ext cx="27000" cy="70200"/>
                </a:xfrm>
                <a:prstGeom prst="bentConnector3">
                  <a:avLst>
                    <a:gd name="adj1" fmla="val 50000"/>
                  </a:avLst>
                </a:prstGeom>
                <a:ln w="12600">
                  <a:solidFill>
                    <a:srgbClr val="000000"/>
                  </a:solidFill>
                  <a:miter/>
                </a:ln>
              </p:spPr>
            </p:cxnSp>
            <p:cxnSp>
              <p:nvCxnSpPr>
                <p:cNvPr id="5568" name=""/>
                <p:cNvCxnSpPr>
                  <a:endCxn id="5545" idx="1"/>
                </p:cNvCxnSpPr>
                <p:nvPr/>
              </p:nvCxnSpPr>
              <p:spPr>
                <a:xfrm flipV="1">
                  <a:off x="2975760" y="6365880"/>
                  <a:ext cx="169920" cy="85320"/>
                </a:xfrm>
                <a:prstGeom prst="bentConnector3">
                  <a:avLst>
                    <a:gd name="adj1" fmla="val 49893"/>
                  </a:avLst>
                </a:prstGeom>
                <a:ln w="12600">
                  <a:solidFill>
                    <a:srgbClr val="000000"/>
                  </a:solidFill>
                  <a:miter/>
                </a:ln>
              </p:spPr>
            </p:cxnSp>
            <p:cxnSp>
              <p:nvCxnSpPr>
                <p:cNvPr id="5569" name=""/>
                <p:cNvCxnSpPr>
                  <a:stCxn id="5546" idx="3"/>
                  <a:endCxn id="5550" idx="1"/>
                </p:cNvCxnSpPr>
                <p:nvPr/>
              </p:nvCxnSpPr>
              <p:spPr>
                <a:xfrm>
                  <a:off x="3117960" y="6450120"/>
                  <a:ext cx="36000" cy="1080"/>
                </a:xfrm>
                <a:prstGeom prst="bentConnector2">
                  <a:avLst/>
                </a:prstGeom>
                <a:ln w="12600">
                  <a:solidFill>
                    <a:srgbClr val="000000"/>
                  </a:solidFill>
                  <a:miter/>
                </a:ln>
              </p:spPr>
            </p:cxnSp>
            <p:cxnSp>
              <p:nvCxnSpPr>
                <p:cNvPr id="5570" name=""/>
                <p:cNvCxnSpPr>
                  <a:stCxn id="5550" idx="3"/>
                  <a:endCxn id="5544" idx="1"/>
                </p:cNvCxnSpPr>
                <p:nvPr/>
              </p:nvCxnSpPr>
              <p:spPr>
                <a:xfrm flipV="1">
                  <a:off x="3198240" y="6365880"/>
                  <a:ext cx="18720" cy="84600"/>
                </a:xfrm>
                <a:prstGeom prst="bentConnector3">
                  <a:avLst>
                    <a:gd name="adj1" fmla="val 49019"/>
                  </a:avLst>
                </a:prstGeom>
                <a:ln w="12600">
                  <a:solidFill>
                    <a:srgbClr val="000000"/>
                  </a:solidFill>
                  <a:miter/>
                </a:ln>
              </p:spPr>
            </p:cxnSp>
            <p:cxnSp>
              <p:nvCxnSpPr>
                <p:cNvPr id="5571" name=""/>
                <p:cNvCxnSpPr>
                  <a:stCxn id="5542" idx="3"/>
                  <a:endCxn id="5541" idx="1"/>
                </p:cNvCxnSpPr>
                <p:nvPr/>
              </p:nvCxnSpPr>
              <p:spPr>
                <a:xfrm>
                  <a:off x="3420720" y="6366240"/>
                  <a:ext cx="27000" cy="1080"/>
                </a:xfrm>
                <a:prstGeom prst="bentConnector2">
                  <a:avLst/>
                </a:prstGeom>
                <a:ln w="12600">
                  <a:solidFill>
                    <a:srgbClr val="000000"/>
                  </a:solidFill>
                  <a:miter/>
                </a:ln>
              </p:spPr>
            </p:cxnSp>
            <p:cxnSp>
              <p:nvCxnSpPr>
                <p:cNvPr id="5572" name=""/>
                <p:cNvCxnSpPr>
                  <a:stCxn id="5541" idx="3"/>
                  <a:endCxn id="5540" idx="1"/>
                </p:cNvCxnSpPr>
                <p:nvPr/>
              </p:nvCxnSpPr>
              <p:spPr>
                <a:xfrm>
                  <a:off x="3492000" y="6366600"/>
                  <a:ext cx="45000" cy="28080"/>
                </a:xfrm>
                <a:prstGeom prst="bentConnector3">
                  <a:avLst>
                    <a:gd name="adj1" fmla="val 50000"/>
                  </a:avLst>
                </a:prstGeom>
                <a:ln w="12600">
                  <a:solidFill>
                    <a:srgbClr val="000000"/>
                  </a:solidFill>
                  <a:miter/>
                </a:ln>
              </p:spPr>
            </p:cxnSp>
            <p:cxnSp>
              <p:nvCxnSpPr>
                <p:cNvPr id="5573" name=""/>
                <p:cNvCxnSpPr>
                  <a:stCxn id="5551" idx="3"/>
                  <a:endCxn id="5541" idx="1"/>
                </p:cNvCxnSpPr>
                <p:nvPr/>
              </p:nvCxnSpPr>
              <p:spPr>
                <a:xfrm flipV="1">
                  <a:off x="3420720" y="6365880"/>
                  <a:ext cx="27000" cy="84600"/>
                </a:xfrm>
                <a:prstGeom prst="bentConnector3">
                  <a:avLst>
                    <a:gd name="adj1" fmla="val 50000"/>
                  </a:avLst>
                </a:prstGeom>
                <a:ln w="12600">
                  <a:solidFill>
                    <a:srgbClr val="000000"/>
                  </a:solidFill>
                  <a:miter/>
                </a:ln>
              </p:spPr>
            </p:cxnSp>
            <p:cxnSp>
              <p:nvCxnSpPr>
                <p:cNvPr id="5574" name=""/>
                <p:cNvCxnSpPr>
                  <a:stCxn id="5540" idx="3"/>
                  <a:endCxn id="5552" idx="1"/>
                </p:cNvCxnSpPr>
                <p:nvPr/>
              </p:nvCxnSpPr>
              <p:spPr>
                <a:xfrm>
                  <a:off x="3581280" y="6394320"/>
                  <a:ext cx="36000" cy="28800"/>
                </a:xfrm>
                <a:prstGeom prst="bentConnector3">
                  <a:avLst>
                    <a:gd name="adj1" fmla="val 49494"/>
                  </a:avLst>
                </a:prstGeom>
                <a:ln w="12600">
                  <a:solidFill>
                    <a:srgbClr val="000000"/>
                  </a:solidFill>
                  <a:miter/>
                </a:ln>
              </p:spPr>
            </p:cxnSp>
            <p:cxnSp>
              <p:nvCxnSpPr>
                <p:cNvPr id="5575" name=""/>
                <p:cNvCxnSpPr>
                  <a:stCxn id="5552" idx="3"/>
                  <a:endCxn id="5539" idx="1"/>
                </p:cNvCxnSpPr>
                <p:nvPr/>
              </p:nvCxnSpPr>
              <p:spPr>
                <a:xfrm flipV="1">
                  <a:off x="3661200" y="6352560"/>
                  <a:ext cx="27000" cy="70200"/>
                </a:xfrm>
                <a:prstGeom prst="bentConnector3">
                  <a:avLst>
                    <a:gd name="adj1" fmla="val 50000"/>
                  </a:avLst>
                </a:prstGeom>
                <a:ln w="12600">
                  <a:solidFill>
                    <a:srgbClr val="000000"/>
                  </a:solidFill>
                  <a:miter/>
                </a:ln>
              </p:spPr>
            </p:cxnSp>
            <p:cxnSp>
              <p:nvCxnSpPr>
                <p:cNvPr id="5576" name=""/>
                <p:cNvCxnSpPr>
                  <a:stCxn id="5548" idx="3"/>
                  <a:endCxn id="5546" idx="1"/>
                </p:cNvCxnSpPr>
                <p:nvPr/>
              </p:nvCxnSpPr>
              <p:spPr>
                <a:xfrm>
                  <a:off x="2886840" y="6380640"/>
                  <a:ext cx="187200" cy="70200"/>
                </a:xfrm>
                <a:prstGeom prst="bentConnector3">
                  <a:avLst>
                    <a:gd name="adj1" fmla="val 49710"/>
                  </a:avLst>
                </a:prstGeom>
                <a:ln w="12600">
                  <a:solidFill>
                    <a:srgbClr val="000000"/>
                  </a:solidFill>
                  <a:miter/>
                </a:ln>
              </p:spPr>
            </p:cxnSp>
          </p:grpSp>
        </p:grpSp>
        <p:grpSp>
          <p:nvGrpSpPr>
            <p:cNvPr id="5577" name=""/>
            <p:cNvGrpSpPr/>
            <p:nvPr/>
          </p:nvGrpSpPr>
          <p:grpSpPr>
            <a:xfrm>
              <a:off x="4624560" y="6059520"/>
              <a:ext cx="1071360" cy="569880"/>
              <a:chOff x="4624560" y="6059520"/>
              <a:chExt cx="1071360" cy="569880"/>
            </a:xfrm>
          </p:grpSpPr>
          <p:sp>
            <p:nvSpPr>
              <p:cNvPr id="5578" name=""/>
              <p:cNvSpPr/>
              <p:nvPr/>
            </p:nvSpPr>
            <p:spPr>
              <a:xfrm>
                <a:off x="4624560" y="6059520"/>
                <a:ext cx="1071360" cy="569880"/>
              </a:xfrm>
              <a:custGeom>
                <a:avLst/>
                <a:gdLst>
                  <a:gd name="textAreaLeft" fmla="*/ 0 w 1071360"/>
                  <a:gd name="textAreaRight" fmla="*/ 1071720 w 1071360"/>
                  <a:gd name="textAreaTop" fmla="*/ 0 h 569880"/>
                  <a:gd name="textAreaBottom" fmla="*/ 570240 h 569880"/>
                </a:gdLst>
                <a:ahLst/>
                <a:rect l="textAreaLeft" t="textAreaTop" r="textAreaRight" b="textAreaBottom"/>
                <a:pathLst>
                  <a:path w="21600" h="21600">
                    <a:moveTo>
                      <a:pt x="0" y="0"/>
                    </a:moveTo>
                    <a:lnTo>
                      <a:pt x="19252" y="0"/>
                    </a:lnTo>
                    <a:lnTo>
                      <a:pt x="21600" y="10800"/>
                    </a:lnTo>
                    <a:lnTo>
                      <a:pt x="19252" y="21600"/>
                    </a:lnTo>
                    <a:lnTo>
                      <a:pt x="0" y="21600"/>
                    </a:lnTo>
                    <a:lnTo>
                      <a:pt x="2348" y="10800"/>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79" name=""/>
              <p:cNvGrpSpPr/>
              <p:nvPr/>
            </p:nvGrpSpPr>
            <p:grpSpPr>
              <a:xfrm>
                <a:off x="4787280" y="6138720"/>
                <a:ext cx="805680" cy="370440"/>
                <a:chOff x="4787280" y="6138720"/>
                <a:chExt cx="805680" cy="370440"/>
              </a:xfrm>
            </p:grpSpPr>
            <p:sp>
              <p:nvSpPr>
                <p:cNvPr id="5580" name=""/>
                <p:cNvSpPr/>
                <p:nvPr/>
              </p:nvSpPr>
              <p:spPr>
                <a:xfrm>
                  <a:off x="4787280" y="619560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81" name=""/>
                <p:cNvSpPr/>
                <p:nvPr/>
              </p:nvSpPr>
              <p:spPr>
                <a:xfrm>
                  <a:off x="4846680" y="6195600"/>
                  <a:ext cx="37080" cy="55080"/>
                </a:xfrm>
                <a:prstGeom prst="rect">
                  <a:avLst/>
                </a:prstGeom>
                <a:solidFill>
                  <a:srgbClr val="00ff00"/>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82" name=""/>
                <p:cNvSpPr/>
                <p:nvPr/>
              </p:nvSpPr>
              <p:spPr>
                <a:xfrm>
                  <a:off x="4973760" y="625068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83" name=""/>
                <p:cNvSpPr/>
                <p:nvPr/>
              </p:nvSpPr>
              <p:spPr>
                <a:xfrm>
                  <a:off x="5040720" y="625068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84" name=""/>
                <p:cNvSpPr/>
                <p:nvPr/>
              </p:nvSpPr>
              <p:spPr>
                <a:xfrm>
                  <a:off x="5127480" y="613872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85" name=""/>
                <p:cNvSpPr/>
                <p:nvPr/>
              </p:nvSpPr>
              <p:spPr>
                <a:xfrm>
                  <a:off x="5324400" y="6232320"/>
                  <a:ext cx="37080" cy="55080"/>
                </a:xfrm>
                <a:prstGeom prst="rect">
                  <a:avLst/>
                </a:prstGeom>
                <a:solidFill>
                  <a:srgbClr val="00ff00"/>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86" name=""/>
                <p:cNvSpPr/>
                <p:nvPr/>
              </p:nvSpPr>
              <p:spPr>
                <a:xfrm>
                  <a:off x="5384160" y="623232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87" name=""/>
                <p:cNvSpPr/>
                <p:nvPr/>
              </p:nvSpPr>
              <p:spPr>
                <a:xfrm>
                  <a:off x="5458680" y="623232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88" name=""/>
                <p:cNvSpPr/>
                <p:nvPr/>
              </p:nvSpPr>
              <p:spPr>
                <a:xfrm>
                  <a:off x="5555880" y="6324480"/>
                  <a:ext cx="37080" cy="55440"/>
                </a:xfrm>
                <a:prstGeom prst="rect">
                  <a:avLst/>
                </a:prstGeom>
                <a:solidFill>
                  <a:srgbClr val="00ff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89" name=""/>
                <p:cNvSpPr/>
                <p:nvPr/>
              </p:nvSpPr>
              <p:spPr>
                <a:xfrm>
                  <a:off x="5428800" y="6380280"/>
                  <a:ext cx="37080" cy="55080"/>
                </a:xfrm>
                <a:prstGeom prst="rect">
                  <a:avLst/>
                </a:prstGeom>
                <a:solidFill>
                  <a:srgbClr val="00ff00"/>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90" name=""/>
                <p:cNvSpPr/>
                <p:nvPr/>
              </p:nvSpPr>
              <p:spPr>
                <a:xfrm>
                  <a:off x="5354280" y="6342840"/>
                  <a:ext cx="37080" cy="55440"/>
                </a:xfrm>
                <a:prstGeom prst="rect">
                  <a:avLst/>
                </a:prstGeom>
                <a:solidFill>
                  <a:srgbClr val="bbe0e3"/>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91" name=""/>
                <p:cNvSpPr/>
                <p:nvPr/>
              </p:nvSpPr>
              <p:spPr>
                <a:xfrm>
                  <a:off x="5294520" y="6342840"/>
                  <a:ext cx="37080" cy="55440"/>
                </a:xfrm>
                <a:prstGeom prst="rect">
                  <a:avLst/>
                </a:prstGeom>
                <a:solidFill>
                  <a:srgbClr val="bbe0e3"/>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92" name=""/>
                <p:cNvSpPr/>
                <p:nvPr/>
              </p:nvSpPr>
              <p:spPr>
                <a:xfrm>
                  <a:off x="5234760" y="6342840"/>
                  <a:ext cx="37080" cy="55440"/>
                </a:xfrm>
                <a:prstGeom prst="rect">
                  <a:avLst/>
                </a:prstGeom>
                <a:solidFill>
                  <a:srgbClr val="bbe0e3"/>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93" name=""/>
                <p:cNvSpPr/>
                <p:nvPr/>
              </p:nvSpPr>
              <p:spPr>
                <a:xfrm>
                  <a:off x="5160240" y="6342840"/>
                  <a:ext cx="37080" cy="55440"/>
                </a:xfrm>
                <a:prstGeom prst="rect">
                  <a:avLst/>
                </a:prstGeom>
                <a:solidFill>
                  <a:srgbClr val="bbe0e3"/>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94" name=""/>
                <p:cNvSpPr/>
                <p:nvPr/>
              </p:nvSpPr>
              <p:spPr>
                <a:xfrm>
                  <a:off x="5100480" y="6342840"/>
                  <a:ext cx="37080" cy="55440"/>
                </a:xfrm>
                <a:prstGeom prst="rect">
                  <a:avLst/>
                </a:prstGeom>
                <a:solidFill>
                  <a:srgbClr val="00ff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95" name=""/>
                <p:cNvSpPr/>
                <p:nvPr/>
              </p:nvSpPr>
              <p:spPr>
                <a:xfrm>
                  <a:off x="5040720" y="645408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96" name=""/>
                <p:cNvSpPr/>
                <p:nvPr/>
              </p:nvSpPr>
              <p:spPr>
                <a:xfrm>
                  <a:off x="4914000" y="6361920"/>
                  <a:ext cx="37080" cy="55080"/>
                </a:xfrm>
                <a:prstGeom prst="rect">
                  <a:avLst/>
                </a:prstGeom>
                <a:solidFill>
                  <a:srgbClr val="00ff00"/>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97" name=""/>
                <p:cNvSpPr/>
                <p:nvPr/>
              </p:nvSpPr>
              <p:spPr>
                <a:xfrm>
                  <a:off x="4846680" y="636192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98" name=""/>
                <p:cNvSpPr/>
                <p:nvPr/>
              </p:nvSpPr>
              <p:spPr>
                <a:xfrm>
                  <a:off x="4846680" y="628776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99" name=""/>
                <p:cNvSpPr/>
                <p:nvPr/>
              </p:nvSpPr>
              <p:spPr>
                <a:xfrm>
                  <a:off x="4846680" y="645408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0" name=""/>
                <p:cNvSpPr/>
                <p:nvPr/>
              </p:nvSpPr>
              <p:spPr>
                <a:xfrm>
                  <a:off x="4921560" y="645408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1" name=""/>
                <p:cNvSpPr/>
                <p:nvPr/>
              </p:nvSpPr>
              <p:spPr>
                <a:xfrm>
                  <a:off x="5108040" y="645408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2" name=""/>
                <p:cNvSpPr/>
                <p:nvPr/>
              </p:nvSpPr>
              <p:spPr>
                <a:xfrm>
                  <a:off x="5294520" y="645408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3" name=""/>
                <p:cNvSpPr/>
                <p:nvPr/>
              </p:nvSpPr>
              <p:spPr>
                <a:xfrm>
                  <a:off x="5496120" y="6417000"/>
                  <a:ext cx="37080" cy="55080"/>
                </a:xfrm>
                <a:prstGeom prst="rect">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cxnSp>
              <p:nvCxnSpPr>
                <p:cNvPr id="5604" name=""/>
                <p:cNvCxnSpPr>
                  <a:stCxn id="5580" idx="3"/>
                  <a:endCxn id="5581" idx="1"/>
                </p:cNvCxnSpPr>
                <p:nvPr/>
              </p:nvCxnSpPr>
              <p:spPr>
                <a:xfrm>
                  <a:off x="4824360" y="6222960"/>
                  <a:ext cx="23040" cy="1080"/>
                </a:xfrm>
                <a:prstGeom prst="bentConnector2">
                  <a:avLst/>
                </a:prstGeom>
                <a:ln w="12600">
                  <a:solidFill>
                    <a:srgbClr val="000000"/>
                  </a:solidFill>
                  <a:miter/>
                </a:ln>
              </p:spPr>
            </p:cxnSp>
            <p:cxnSp>
              <p:nvCxnSpPr>
                <p:cNvPr id="5605" name=""/>
                <p:cNvCxnSpPr>
                  <a:endCxn id="5582" idx="1"/>
                </p:cNvCxnSpPr>
                <p:nvPr/>
              </p:nvCxnSpPr>
              <p:spPr>
                <a:xfrm>
                  <a:off x="4876200" y="6223680"/>
                  <a:ext cx="97560" cy="55080"/>
                </a:xfrm>
                <a:prstGeom prst="bentConnector3">
                  <a:avLst>
                    <a:gd name="adj1" fmla="val 50000"/>
                  </a:avLst>
                </a:prstGeom>
                <a:ln w="12600">
                  <a:solidFill>
                    <a:srgbClr val="000000"/>
                  </a:solidFill>
                  <a:miter/>
                </a:ln>
              </p:spPr>
            </p:cxnSp>
            <p:cxnSp>
              <p:nvCxnSpPr>
                <p:cNvPr id="5606" name=""/>
                <p:cNvCxnSpPr>
                  <a:endCxn id="5582" idx="1"/>
                </p:cNvCxnSpPr>
                <p:nvPr/>
              </p:nvCxnSpPr>
              <p:spPr>
                <a:xfrm>
                  <a:off x="4951080" y="6278400"/>
                  <a:ext cx="23040" cy="1080"/>
                </a:xfrm>
                <a:prstGeom prst="bentConnector2">
                  <a:avLst/>
                </a:prstGeom>
                <a:ln w="12600">
                  <a:solidFill>
                    <a:srgbClr val="000000"/>
                  </a:solidFill>
                  <a:miter/>
                </a:ln>
              </p:spPr>
            </p:cxnSp>
            <p:cxnSp>
              <p:nvCxnSpPr>
                <p:cNvPr id="5607" name=""/>
                <p:cNvCxnSpPr>
                  <a:stCxn id="5582" idx="3"/>
                  <a:endCxn id="5583" idx="1"/>
                </p:cNvCxnSpPr>
                <p:nvPr/>
              </p:nvCxnSpPr>
              <p:spPr>
                <a:xfrm>
                  <a:off x="5010840" y="6278400"/>
                  <a:ext cx="30240" cy="1080"/>
                </a:xfrm>
                <a:prstGeom prst="bentConnector2">
                  <a:avLst/>
                </a:prstGeom>
                <a:ln w="12600">
                  <a:solidFill>
                    <a:srgbClr val="000000"/>
                  </a:solidFill>
                  <a:miter/>
                </a:ln>
              </p:spPr>
            </p:cxnSp>
            <p:cxnSp>
              <p:nvCxnSpPr>
                <p:cNvPr id="5608" name=""/>
                <p:cNvCxnSpPr>
                  <a:stCxn id="5583" idx="3"/>
                  <a:endCxn id="5594" idx="1"/>
                </p:cNvCxnSpPr>
                <p:nvPr/>
              </p:nvCxnSpPr>
              <p:spPr>
                <a:xfrm>
                  <a:off x="5078160" y="6278760"/>
                  <a:ext cx="23040" cy="92880"/>
                </a:xfrm>
                <a:prstGeom prst="bentConnector3">
                  <a:avLst>
                    <a:gd name="adj1" fmla="val 49206"/>
                  </a:avLst>
                </a:prstGeom>
                <a:ln w="12600">
                  <a:solidFill>
                    <a:srgbClr val="000000"/>
                  </a:solidFill>
                  <a:miter/>
                </a:ln>
              </p:spPr>
            </p:cxnSp>
            <p:cxnSp>
              <p:nvCxnSpPr>
                <p:cNvPr id="5609" name=""/>
                <p:cNvCxnSpPr>
                  <a:stCxn id="5583" idx="3"/>
                  <a:endCxn id="5584" idx="1"/>
                </p:cNvCxnSpPr>
                <p:nvPr/>
              </p:nvCxnSpPr>
              <p:spPr>
                <a:xfrm flipV="1">
                  <a:off x="5078160" y="6165720"/>
                  <a:ext cx="49680" cy="112680"/>
                </a:xfrm>
                <a:prstGeom prst="bentConnector3">
                  <a:avLst>
                    <a:gd name="adj1" fmla="val 49635"/>
                  </a:avLst>
                </a:prstGeom>
                <a:ln w="12600">
                  <a:solidFill>
                    <a:srgbClr val="000000"/>
                  </a:solidFill>
                  <a:miter/>
                </a:ln>
              </p:spPr>
            </p:cxnSp>
            <p:cxnSp>
              <p:nvCxnSpPr>
                <p:cNvPr id="5610" name=""/>
                <p:cNvCxnSpPr>
                  <a:stCxn id="5594" idx="3"/>
                  <a:endCxn id="5593" idx="1"/>
                </p:cNvCxnSpPr>
                <p:nvPr/>
              </p:nvCxnSpPr>
              <p:spPr>
                <a:xfrm>
                  <a:off x="5137920" y="6370560"/>
                  <a:ext cx="23040" cy="1080"/>
                </a:xfrm>
                <a:prstGeom prst="bentConnector2">
                  <a:avLst/>
                </a:prstGeom>
                <a:ln w="12600">
                  <a:solidFill>
                    <a:srgbClr val="000000"/>
                  </a:solidFill>
                  <a:miter/>
                </a:ln>
              </p:spPr>
            </p:cxnSp>
            <p:cxnSp>
              <p:nvCxnSpPr>
                <p:cNvPr id="5611" name=""/>
                <p:cNvCxnSpPr>
                  <a:stCxn id="5593" idx="3"/>
                  <a:endCxn id="5592" idx="1"/>
                </p:cNvCxnSpPr>
                <p:nvPr/>
              </p:nvCxnSpPr>
              <p:spPr>
                <a:xfrm>
                  <a:off x="5196960" y="6370560"/>
                  <a:ext cx="37800" cy="1080"/>
                </a:xfrm>
                <a:prstGeom prst="bentConnector2">
                  <a:avLst/>
                </a:prstGeom>
                <a:ln w="12600">
                  <a:solidFill>
                    <a:srgbClr val="000000"/>
                  </a:solidFill>
                  <a:miter/>
                </a:ln>
              </p:spPr>
            </p:cxnSp>
            <p:cxnSp>
              <p:nvCxnSpPr>
                <p:cNvPr id="5612" name=""/>
                <p:cNvCxnSpPr>
                  <a:stCxn id="5584" idx="3"/>
                  <a:endCxn id="5592" idx="0"/>
                </p:cNvCxnSpPr>
                <p:nvPr/>
              </p:nvCxnSpPr>
              <p:spPr>
                <a:xfrm>
                  <a:off x="5164560" y="6166440"/>
                  <a:ext cx="89280" cy="177120"/>
                </a:xfrm>
                <a:prstGeom prst="bentConnector2">
                  <a:avLst/>
                </a:prstGeom>
                <a:ln w="12600">
                  <a:solidFill>
                    <a:srgbClr val="000000"/>
                  </a:solidFill>
                  <a:miter/>
                </a:ln>
              </p:spPr>
            </p:cxnSp>
            <p:cxnSp>
              <p:nvCxnSpPr>
                <p:cNvPr id="5613" name=""/>
                <p:cNvCxnSpPr>
                  <a:stCxn id="5598" idx="3"/>
                  <a:endCxn id="5582" idx="1"/>
                </p:cNvCxnSpPr>
                <p:nvPr/>
              </p:nvCxnSpPr>
              <p:spPr>
                <a:xfrm flipV="1">
                  <a:off x="4884120" y="6278400"/>
                  <a:ext cx="90000" cy="37440"/>
                </a:xfrm>
                <a:prstGeom prst="bentConnector3">
                  <a:avLst>
                    <a:gd name="adj1" fmla="val 49799"/>
                  </a:avLst>
                </a:prstGeom>
                <a:ln w="12600">
                  <a:solidFill>
                    <a:srgbClr val="000000"/>
                  </a:solidFill>
                  <a:miter/>
                </a:ln>
              </p:spPr>
            </p:cxnSp>
            <p:cxnSp>
              <p:nvCxnSpPr>
                <p:cNvPr id="5614" name=""/>
                <p:cNvCxnSpPr>
                  <a:stCxn id="5597" idx="3"/>
                  <a:endCxn id="5596" idx="1"/>
                </p:cNvCxnSpPr>
                <p:nvPr/>
              </p:nvCxnSpPr>
              <p:spPr>
                <a:xfrm>
                  <a:off x="4884120" y="6388920"/>
                  <a:ext cx="30240" cy="1080"/>
                </a:xfrm>
                <a:prstGeom prst="bentConnector2">
                  <a:avLst/>
                </a:prstGeom>
                <a:ln w="12600">
                  <a:solidFill>
                    <a:srgbClr val="000000"/>
                  </a:solidFill>
                  <a:miter/>
                </a:ln>
              </p:spPr>
            </p:cxnSp>
            <p:cxnSp>
              <p:nvCxnSpPr>
                <p:cNvPr id="5615" name=""/>
                <p:cNvCxnSpPr>
                  <a:stCxn id="5596" idx="3"/>
                  <a:endCxn id="5582" idx="1"/>
                </p:cNvCxnSpPr>
                <p:nvPr/>
              </p:nvCxnSpPr>
              <p:spPr>
                <a:xfrm flipV="1">
                  <a:off x="4951080" y="6278040"/>
                  <a:ext cx="23040" cy="111240"/>
                </a:xfrm>
                <a:prstGeom prst="bentConnector3">
                  <a:avLst>
                    <a:gd name="adj1" fmla="val 49206"/>
                  </a:avLst>
                </a:prstGeom>
                <a:ln w="12600">
                  <a:solidFill>
                    <a:srgbClr val="000000"/>
                  </a:solidFill>
                  <a:miter/>
                </a:ln>
              </p:spPr>
            </p:cxnSp>
            <p:cxnSp>
              <p:nvCxnSpPr>
                <p:cNvPr id="5616" name=""/>
                <p:cNvCxnSpPr>
                  <a:stCxn id="5593" idx="3"/>
                  <a:endCxn id="5585" idx="1"/>
                </p:cNvCxnSpPr>
                <p:nvPr/>
              </p:nvCxnSpPr>
              <p:spPr>
                <a:xfrm flipV="1">
                  <a:off x="5197320" y="6260040"/>
                  <a:ext cx="127440" cy="110880"/>
                </a:xfrm>
                <a:prstGeom prst="bentConnector3">
                  <a:avLst>
                    <a:gd name="adj1" fmla="val 49858"/>
                  </a:avLst>
                </a:prstGeom>
                <a:ln w="12600">
                  <a:solidFill>
                    <a:srgbClr val="000000"/>
                  </a:solidFill>
                  <a:miter/>
                </a:ln>
              </p:spPr>
            </p:cxnSp>
            <p:cxnSp>
              <p:nvCxnSpPr>
                <p:cNvPr id="5617" name=""/>
                <p:cNvCxnSpPr>
                  <a:stCxn id="5592" idx="3"/>
                  <a:endCxn id="5602" idx="1"/>
                </p:cNvCxnSpPr>
                <p:nvPr/>
              </p:nvCxnSpPr>
              <p:spPr>
                <a:xfrm>
                  <a:off x="5272200" y="6370920"/>
                  <a:ext cx="23040" cy="110880"/>
                </a:xfrm>
                <a:prstGeom prst="bentConnector3">
                  <a:avLst>
                    <a:gd name="adj1" fmla="val 49206"/>
                  </a:avLst>
                </a:prstGeom>
                <a:ln w="12600">
                  <a:solidFill>
                    <a:srgbClr val="000000"/>
                  </a:solidFill>
                  <a:miter/>
                </a:ln>
              </p:spPr>
            </p:cxnSp>
            <p:cxnSp>
              <p:nvCxnSpPr>
                <p:cNvPr id="5618" name=""/>
                <p:cNvCxnSpPr>
                  <a:stCxn id="5592" idx="3"/>
                  <a:endCxn id="5591" idx="1"/>
                </p:cNvCxnSpPr>
                <p:nvPr/>
              </p:nvCxnSpPr>
              <p:spPr>
                <a:xfrm>
                  <a:off x="5272200" y="6370560"/>
                  <a:ext cx="23040" cy="1080"/>
                </a:xfrm>
                <a:prstGeom prst="bentConnector2">
                  <a:avLst/>
                </a:prstGeom>
                <a:ln w="12600">
                  <a:solidFill>
                    <a:srgbClr val="000000"/>
                  </a:solidFill>
                  <a:miter/>
                </a:ln>
              </p:spPr>
            </p:cxnSp>
            <p:cxnSp>
              <p:nvCxnSpPr>
                <p:cNvPr id="5619" name=""/>
                <p:cNvCxnSpPr>
                  <a:stCxn id="5585" idx="3"/>
                  <a:endCxn id="5586" idx="1"/>
                </p:cNvCxnSpPr>
                <p:nvPr/>
              </p:nvCxnSpPr>
              <p:spPr>
                <a:xfrm>
                  <a:off x="5361840" y="6260040"/>
                  <a:ext cx="23040" cy="1080"/>
                </a:xfrm>
                <a:prstGeom prst="bentConnector2">
                  <a:avLst/>
                </a:prstGeom>
                <a:ln w="12600">
                  <a:solidFill>
                    <a:srgbClr val="000000"/>
                  </a:solidFill>
                  <a:miter/>
                </a:ln>
              </p:spPr>
            </p:cxnSp>
            <p:cxnSp>
              <p:nvCxnSpPr>
                <p:cNvPr id="5620" name=""/>
                <p:cNvCxnSpPr>
                  <a:stCxn id="5586" idx="3"/>
                  <a:endCxn id="5587" idx="1"/>
                </p:cNvCxnSpPr>
                <p:nvPr/>
              </p:nvCxnSpPr>
              <p:spPr>
                <a:xfrm>
                  <a:off x="5420880" y="6260040"/>
                  <a:ext cx="37800" cy="1080"/>
                </a:xfrm>
                <a:prstGeom prst="bentConnector2">
                  <a:avLst/>
                </a:prstGeom>
                <a:ln w="12600">
                  <a:solidFill>
                    <a:srgbClr val="000000"/>
                  </a:solidFill>
                  <a:miter/>
                </a:ln>
              </p:spPr>
            </p:cxnSp>
            <p:cxnSp>
              <p:nvCxnSpPr>
                <p:cNvPr id="5621" name=""/>
                <p:cNvCxnSpPr>
                  <a:stCxn id="5586" idx="3"/>
                  <a:endCxn id="5588" idx="1"/>
                </p:cNvCxnSpPr>
                <p:nvPr/>
              </p:nvCxnSpPr>
              <p:spPr>
                <a:xfrm>
                  <a:off x="5420880" y="6260040"/>
                  <a:ext cx="135000" cy="92520"/>
                </a:xfrm>
                <a:prstGeom prst="bentConnector3">
                  <a:avLst>
                    <a:gd name="adj1" fmla="val 13636"/>
                  </a:avLst>
                </a:prstGeom>
                <a:ln w="12600">
                  <a:solidFill>
                    <a:srgbClr val="000000"/>
                  </a:solidFill>
                  <a:miter/>
                </a:ln>
              </p:spPr>
            </p:cxnSp>
            <p:cxnSp>
              <p:nvCxnSpPr>
                <p:cNvPr id="5622" name=""/>
                <p:cNvCxnSpPr>
                  <a:stCxn id="5599" idx="3"/>
                  <a:endCxn id="5596" idx="1"/>
                </p:cNvCxnSpPr>
                <p:nvPr/>
              </p:nvCxnSpPr>
              <p:spPr>
                <a:xfrm flipV="1">
                  <a:off x="4884120" y="6388560"/>
                  <a:ext cx="30240" cy="92520"/>
                </a:xfrm>
                <a:prstGeom prst="bentConnector3">
                  <a:avLst>
                    <a:gd name="adj1" fmla="val 49397"/>
                  </a:avLst>
                </a:prstGeom>
                <a:ln w="12600">
                  <a:solidFill>
                    <a:srgbClr val="000000"/>
                  </a:solidFill>
                  <a:miter/>
                </a:ln>
              </p:spPr>
            </p:cxnSp>
            <p:cxnSp>
              <p:nvCxnSpPr>
                <p:cNvPr id="5623" name=""/>
                <p:cNvCxnSpPr>
                  <a:stCxn id="5580" idx="3"/>
                  <a:endCxn id="5597" idx="1"/>
                </p:cNvCxnSpPr>
                <p:nvPr/>
              </p:nvCxnSpPr>
              <p:spPr>
                <a:xfrm>
                  <a:off x="4824360" y="6223320"/>
                  <a:ext cx="23040" cy="166320"/>
                </a:xfrm>
                <a:prstGeom prst="bentConnector3">
                  <a:avLst>
                    <a:gd name="adj1" fmla="val 49206"/>
                  </a:avLst>
                </a:prstGeom>
                <a:ln w="12600">
                  <a:solidFill>
                    <a:srgbClr val="000000"/>
                  </a:solidFill>
                  <a:miter/>
                </a:ln>
              </p:spPr>
            </p:cxnSp>
            <p:cxnSp>
              <p:nvCxnSpPr>
                <p:cNvPr id="5624" name=""/>
                <p:cNvCxnSpPr>
                  <a:stCxn id="5580" idx="3"/>
                  <a:endCxn id="5598" idx="1"/>
                </p:cNvCxnSpPr>
                <p:nvPr/>
              </p:nvCxnSpPr>
              <p:spPr>
                <a:xfrm>
                  <a:off x="4824360" y="6223320"/>
                  <a:ext cx="23040" cy="92880"/>
                </a:xfrm>
                <a:prstGeom prst="bentConnector3">
                  <a:avLst>
                    <a:gd name="adj1" fmla="val 49206"/>
                  </a:avLst>
                </a:prstGeom>
                <a:ln w="12600">
                  <a:solidFill>
                    <a:srgbClr val="000000"/>
                  </a:solidFill>
                  <a:miter/>
                </a:ln>
              </p:spPr>
            </p:cxnSp>
            <p:cxnSp>
              <p:nvCxnSpPr>
                <p:cNvPr id="5625" name=""/>
                <p:cNvCxnSpPr>
                  <a:stCxn id="5599" idx="3"/>
                  <a:endCxn id="5600" idx="1"/>
                </p:cNvCxnSpPr>
                <p:nvPr/>
              </p:nvCxnSpPr>
              <p:spPr>
                <a:xfrm>
                  <a:off x="4883760" y="6481080"/>
                  <a:ext cx="37800" cy="1080"/>
                </a:xfrm>
                <a:prstGeom prst="bentConnector2">
                  <a:avLst/>
                </a:prstGeom>
                <a:ln w="12600">
                  <a:solidFill>
                    <a:srgbClr val="000000"/>
                  </a:solidFill>
                  <a:miter/>
                </a:ln>
              </p:spPr>
            </p:cxnSp>
            <p:cxnSp>
              <p:nvCxnSpPr>
                <p:cNvPr id="5626" name=""/>
                <p:cNvCxnSpPr>
                  <a:stCxn id="5600" idx="3"/>
                  <a:endCxn id="5594" idx="1"/>
                </p:cNvCxnSpPr>
                <p:nvPr/>
              </p:nvCxnSpPr>
              <p:spPr>
                <a:xfrm flipV="1">
                  <a:off x="4958280" y="6370560"/>
                  <a:ext cx="142200" cy="111600"/>
                </a:xfrm>
                <a:prstGeom prst="bentConnector3">
                  <a:avLst>
                    <a:gd name="adj1" fmla="val 50000"/>
                  </a:avLst>
                </a:prstGeom>
                <a:ln w="12600">
                  <a:solidFill>
                    <a:srgbClr val="000000"/>
                  </a:solidFill>
                  <a:miter/>
                </a:ln>
              </p:spPr>
            </p:cxnSp>
            <p:cxnSp>
              <p:nvCxnSpPr>
                <p:cNvPr id="5627" name=""/>
                <p:cNvCxnSpPr>
                  <a:stCxn id="5600" idx="3"/>
                  <a:endCxn id="5595" idx="1"/>
                </p:cNvCxnSpPr>
                <p:nvPr/>
              </p:nvCxnSpPr>
              <p:spPr>
                <a:xfrm>
                  <a:off x="4958280" y="6481080"/>
                  <a:ext cx="82440" cy="1080"/>
                </a:xfrm>
                <a:prstGeom prst="bentConnector2">
                  <a:avLst/>
                </a:prstGeom>
                <a:ln w="12600">
                  <a:solidFill>
                    <a:srgbClr val="000000"/>
                  </a:solidFill>
                  <a:miter/>
                </a:ln>
              </p:spPr>
            </p:cxnSp>
            <p:cxnSp>
              <p:nvCxnSpPr>
                <p:cNvPr id="5628" name=""/>
                <p:cNvCxnSpPr>
                  <a:stCxn id="5595" idx="3"/>
                  <a:endCxn id="5601" idx="1"/>
                </p:cNvCxnSpPr>
                <p:nvPr/>
              </p:nvCxnSpPr>
              <p:spPr>
                <a:xfrm>
                  <a:off x="5078160" y="6481080"/>
                  <a:ext cx="30240" cy="1080"/>
                </a:xfrm>
                <a:prstGeom prst="bentConnector2">
                  <a:avLst/>
                </a:prstGeom>
                <a:ln w="12600">
                  <a:solidFill>
                    <a:srgbClr val="000000"/>
                  </a:solidFill>
                  <a:miter/>
                </a:ln>
              </p:spPr>
            </p:cxnSp>
            <p:cxnSp>
              <p:nvCxnSpPr>
                <p:cNvPr id="5629" name=""/>
                <p:cNvCxnSpPr>
                  <a:stCxn id="5601" idx="3"/>
                  <a:endCxn id="5593" idx="1"/>
                </p:cNvCxnSpPr>
                <p:nvPr/>
              </p:nvCxnSpPr>
              <p:spPr>
                <a:xfrm flipV="1">
                  <a:off x="5144760" y="6370560"/>
                  <a:ext cx="15480" cy="110880"/>
                </a:xfrm>
                <a:prstGeom prst="bentConnector3">
                  <a:avLst>
                    <a:gd name="adj1" fmla="val 50000"/>
                  </a:avLst>
                </a:prstGeom>
                <a:ln w="12600">
                  <a:solidFill>
                    <a:srgbClr val="000000"/>
                  </a:solidFill>
                  <a:miter/>
                </a:ln>
              </p:spPr>
            </p:cxnSp>
            <p:cxnSp>
              <p:nvCxnSpPr>
                <p:cNvPr id="5630" name=""/>
                <p:cNvCxnSpPr>
                  <a:stCxn id="5591" idx="3"/>
                  <a:endCxn id="5590" idx="1"/>
                </p:cNvCxnSpPr>
                <p:nvPr/>
              </p:nvCxnSpPr>
              <p:spPr>
                <a:xfrm>
                  <a:off x="5331960" y="6370560"/>
                  <a:ext cx="23040" cy="1080"/>
                </a:xfrm>
                <a:prstGeom prst="bentConnector2">
                  <a:avLst/>
                </a:prstGeom>
                <a:ln w="12600">
                  <a:solidFill>
                    <a:srgbClr val="000000"/>
                  </a:solidFill>
                  <a:miter/>
                </a:ln>
              </p:spPr>
            </p:cxnSp>
            <p:cxnSp>
              <p:nvCxnSpPr>
                <p:cNvPr id="5631" name=""/>
                <p:cNvCxnSpPr>
                  <a:stCxn id="5590" idx="3"/>
                  <a:endCxn id="5589" idx="1"/>
                </p:cNvCxnSpPr>
                <p:nvPr/>
              </p:nvCxnSpPr>
              <p:spPr>
                <a:xfrm>
                  <a:off x="5391000" y="6370920"/>
                  <a:ext cx="37800" cy="37440"/>
                </a:xfrm>
                <a:prstGeom prst="bentConnector3">
                  <a:avLst>
                    <a:gd name="adj1" fmla="val 50000"/>
                  </a:avLst>
                </a:prstGeom>
                <a:ln w="12600">
                  <a:solidFill>
                    <a:srgbClr val="000000"/>
                  </a:solidFill>
                  <a:miter/>
                </a:ln>
              </p:spPr>
            </p:cxnSp>
            <p:cxnSp>
              <p:nvCxnSpPr>
                <p:cNvPr id="5632" name=""/>
                <p:cNvCxnSpPr>
                  <a:stCxn id="5602" idx="3"/>
                  <a:endCxn id="5590" idx="1"/>
                </p:cNvCxnSpPr>
                <p:nvPr/>
              </p:nvCxnSpPr>
              <p:spPr>
                <a:xfrm flipV="1">
                  <a:off x="5331960" y="6370560"/>
                  <a:ext cx="23040" cy="110880"/>
                </a:xfrm>
                <a:prstGeom prst="bentConnector3">
                  <a:avLst>
                    <a:gd name="adj1" fmla="val 49206"/>
                  </a:avLst>
                </a:prstGeom>
                <a:ln w="12600">
                  <a:solidFill>
                    <a:srgbClr val="000000"/>
                  </a:solidFill>
                  <a:miter/>
                </a:ln>
              </p:spPr>
            </p:cxnSp>
            <p:cxnSp>
              <p:nvCxnSpPr>
                <p:cNvPr id="5633" name=""/>
                <p:cNvCxnSpPr>
                  <a:stCxn id="5589" idx="3"/>
                  <a:endCxn id="5603" idx="1"/>
                </p:cNvCxnSpPr>
                <p:nvPr/>
              </p:nvCxnSpPr>
              <p:spPr>
                <a:xfrm>
                  <a:off x="5466240" y="6407640"/>
                  <a:ext cx="30240" cy="37440"/>
                </a:xfrm>
                <a:prstGeom prst="bentConnector3">
                  <a:avLst>
                    <a:gd name="adj1" fmla="val 49397"/>
                  </a:avLst>
                </a:prstGeom>
                <a:ln w="12600">
                  <a:solidFill>
                    <a:srgbClr val="000000"/>
                  </a:solidFill>
                  <a:miter/>
                </a:ln>
              </p:spPr>
            </p:cxnSp>
            <p:cxnSp>
              <p:nvCxnSpPr>
                <p:cNvPr id="5634" name=""/>
                <p:cNvCxnSpPr>
                  <a:stCxn id="5603" idx="3"/>
                  <a:endCxn id="5588" idx="1"/>
                </p:cNvCxnSpPr>
                <p:nvPr/>
              </p:nvCxnSpPr>
              <p:spPr>
                <a:xfrm flipV="1">
                  <a:off x="5533200" y="6351840"/>
                  <a:ext cx="23040" cy="92880"/>
                </a:xfrm>
                <a:prstGeom prst="bentConnector3">
                  <a:avLst>
                    <a:gd name="adj1" fmla="val 49206"/>
                  </a:avLst>
                </a:prstGeom>
                <a:ln w="12600">
                  <a:solidFill>
                    <a:srgbClr val="000000"/>
                  </a:solidFill>
                  <a:miter/>
                </a:ln>
              </p:spPr>
            </p:cxnSp>
          </p:grpSp>
        </p:grpSp>
        <p:sp>
          <p:nvSpPr>
            <p:cNvPr id="5635" name=""/>
            <p:cNvSpPr/>
            <p:nvPr/>
          </p:nvSpPr>
          <p:spPr>
            <a:xfrm>
              <a:off x="607680" y="5670720"/>
              <a:ext cx="1162800" cy="305280"/>
            </a:xfrm>
            <a:prstGeom prst="rect">
              <a:avLst/>
            </a:prstGeom>
            <a:solidFill>
              <a:srgbClr val="ffffff"/>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to 1</a:t>
              </a:r>
              <a:endParaRPr b="0" lang="en-US" sz="2000" spc="-1" strike="noStrike">
                <a:solidFill>
                  <a:srgbClr val="000000"/>
                </a:solidFill>
                <a:latin typeface="Arial"/>
              </a:endParaRPr>
            </a:p>
          </p:txBody>
        </p:sp>
        <p:sp>
          <p:nvSpPr>
            <p:cNvPr id="5636" name=""/>
            <p:cNvSpPr/>
            <p:nvPr/>
          </p:nvSpPr>
          <p:spPr>
            <a:xfrm>
              <a:off x="2647800" y="5670720"/>
              <a:ext cx="1162800" cy="305280"/>
            </a:xfrm>
            <a:prstGeom prst="rect">
              <a:avLst/>
            </a:prstGeom>
            <a:solidFill>
              <a:srgbClr val="ffffff"/>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to 2</a:t>
              </a:r>
              <a:endParaRPr b="0" lang="en-US" sz="2000" spc="-1" strike="noStrike">
                <a:solidFill>
                  <a:srgbClr val="000000"/>
                </a:solidFill>
                <a:latin typeface="Arial"/>
              </a:endParaRPr>
            </a:p>
          </p:txBody>
        </p:sp>
        <p:sp>
          <p:nvSpPr>
            <p:cNvPr id="5637" name=""/>
            <p:cNvSpPr/>
            <p:nvPr/>
          </p:nvSpPr>
          <p:spPr>
            <a:xfrm>
              <a:off x="4568760" y="5670720"/>
              <a:ext cx="1162800" cy="305280"/>
            </a:xfrm>
            <a:prstGeom prst="rect">
              <a:avLst/>
            </a:prstGeom>
            <a:solidFill>
              <a:srgbClr val="ffffff"/>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to 3</a:t>
              </a:r>
              <a:endParaRPr b="0" lang="en-US" sz="2000" spc="-1" strike="noStrike">
                <a:solidFill>
                  <a:srgbClr val="000000"/>
                </a:solidFill>
                <a:latin typeface="Arial"/>
              </a:endParaRPr>
            </a:p>
          </p:txBody>
        </p:sp>
        <p:sp>
          <p:nvSpPr>
            <p:cNvPr id="5638" name=""/>
            <p:cNvSpPr/>
            <p:nvPr/>
          </p:nvSpPr>
          <p:spPr>
            <a:xfrm>
              <a:off x="452520" y="925560"/>
              <a:ext cx="8402400" cy="610200"/>
            </a:xfrm>
            <a:prstGeom prst="rect">
              <a:avLst/>
            </a:prstGeom>
            <a:solidFill>
              <a:srgbClr val="ffffff"/>
            </a:solidFill>
            <a:ln w="0">
              <a:noFill/>
            </a:ln>
          </p:spPr>
          <p:style>
            <a:lnRef idx="0"/>
            <a:fillRef idx="0"/>
            <a:effectRef idx="0"/>
            <a:fontRef idx="minor"/>
          </p:style>
          <p:txBody>
            <a:bodyPr lIns="72000" rIns="72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erenciados por uma combinação de fatores, como: setor, tecnologia, estratégia de fornecimento, responsabilidade, grau de inovação, etc.. </a:t>
              </a:r>
              <a:endParaRPr b="0" lang="en-US" sz="2000" spc="-1" strike="noStrike">
                <a:solidFill>
                  <a:srgbClr val="000000"/>
                </a:solidFill>
                <a:latin typeface="Arial"/>
              </a:endParaRPr>
            </a:p>
          </p:txBody>
        </p:sp>
        <p:sp>
          <p:nvSpPr>
            <p:cNvPr id="5639" name=""/>
            <p:cNvSpPr/>
            <p:nvPr/>
          </p:nvSpPr>
          <p:spPr>
            <a:xfrm>
              <a:off x="767880" y="1801800"/>
              <a:ext cx="1315080" cy="657000"/>
            </a:xfrm>
            <a:prstGeom prst="rect">
              <a:avLst/>
            </a:prstGeom>
            <a:solidFill>
              <a:srgbClr val="ffffff"/>
            </a:solidFill>
            <a:ln w="0">
              <a:noFill/>
            </a:ln>
          </p:spPr>
          <p:style>
            <a:lnRef idx="0"/>
            <a:fillRef idx="0"/>
            <a:effectRef idx="0"/>
            <a:fontRef idx="minor"/>
          </p:style>
          <p:txBody>
            <a:bodyPr wrap="none" lIns="72000" rIns="72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Setor A,B</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 mecânica</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strat: MTS</a:t>
              </a:r>
              <a:endParaRPr b="0" lang="en-US" sz="1600" spc="-1" strike="noStrike">
                <a:solidFill>
                  <a:srgbClr val="000000"/>
                </a:solidFill>
                <a:latin typeface="Arial"/>
              </a:endParaRPr>
            </a:p>
          </p:txBody>
        </p:sp>
        <p:sp>
          <p:nvSpPr>
            <p:cNvPr id="5640" name=""/>
            <p:cNvSpPr/>
            <p:nvPr/>
          </p:nvSpPr>
          <p:spPr>
            <a:xfrm>
              <a:off x="2648160" y="1806480"/>
              <a:ext cx="1348560" cy="657000"/>
            </a:xfrm>
            <a:prstGeom prst="rect">
              <a:avLst/>
            </a:prstGeom>
            <a:solidFill>
              <a:srgbClr val="ffffff"/>
            </a:solidFill>
            <a:ln w="0">
              <a:noFill/>
            </a:ln>
          </p:spPr>
          <p:style>
            <a:lnRef idx="0"/>
            <a:fillRef idx="0"/>
            <a:effectRef idx="0"/>
            <a:fontRef idx="minor"/>
          </p:style>
          <p:txBody>
            <a:bodyPr wrap="none" lIns="72000" rIns="72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Setor A</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 eletrônica</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strat: ETO</a:t>
              </a:r>
              <a:endParaRPr b="0" lang="en-US" sz="1600" spc="-1" strike="noStrike">
                <a:solidFill>
                  <a:srgbClr val="000000"/>
                </a:solidFill>
                <a:latin typeface="Arial"/>
              </a:endParaRPr>
            </a:p>
          </p:txBody>
        </p:sp>
        <p:sp>
          <p:nvSpPr>
            <p:cNvPr id="5641" name=""/>
            <p:cNvSpPr/>
            <p:nvPr/>
          </p:nvSpPr>
          <p:spPr>
            <a:xfrm>
              <a:off x="4228560" y="1836720"/>
              <a:ext cx="1414080" cy="657000"/>
            </a:xfrm>
            <a:prstGeom prst="rect">
              <a:avLst/>
            </a:prstGeom>
            <a:solidFill>
              <a:srgbClr val="ffffff"/>
            </a:solidFill>
            <a:ln w="0">
              <a:noFill/>
            </a:ln>
          </p:spPr>
          <p:style>
            <a:lnRef idx="0"/>
            <a:fillRef idx="0"/>
            <a:effectRef idx="0"/>
            <a:fontRef idx="minor"/>
          </p:style>
          <p:txBody>
            <a:bodyPr wrap="none" lIns="72000" rIns="72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Setor A</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 montagem</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strat: MTO</a:t>
              </a:r>
              <a:endParaRPr b="0" lang="en-US" sz="1600" spc="-1" strike="noStrike">
                <a:solidFill>
                  <a:srgbClr val="000000"/>
                </a:solidFill>
                <a:latin typeface="Arial"/>
              </a:endParaRPr>
            </a:p>
          </p:txBody>
        </p:sp>
        <p:sp>
          <p:nvSpPr>
            <p:cNvPr id="5642" name=""/>
            <p:cNvSpPr/>
            <p:nvPr/>
          </p:nvSpPr>
          <p:spPr>
            <a:xfrm>
              <a:off x="5880240" y="1601640"/>
              <a:ext cx="1585080" cy="657000"/>
            </a:xfrm>
            <a:prstGeom prst="rect">
              <a:avLst/>
            </a:prstGeom>
            <a:solidFill>
              <a:srgbClr val="ffffff"/>
            </a:solidFill>
            <a:ln w="0">
              <a:noFill/>
            </a:ln>
          </p:spPr>
          <p:style>
            <a:lnRef idx="0"/>
            <a:fillRef idx="0"/>
            <a:effectRef idx="0"/>
            <a:fontRef idx="minor"/>
          </p:style>
          <p:txBody>
            <a:bodyPr wrap="none" lIns="72000" rIns="72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Setor B</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 mecatrônica</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strat: MTS</a:t>
              </a:r>
              <a:endParaRPr b="0" lang="en-US" sz="1600" spc="-1" strike="noStrike">
                <a:solidFill>
                  <a:srgbClr val="000000"/>
                </a:solidFill>
                <a:latin typeface="Arial"/>
              </a:endParaRPr>
            </a:p>
          </p:txBody>
        </p:sp>
        <p:sp>
          <p:nvSpPr>
            <p:cNvPr id="5643" name=""/>
            <p:cNvSpPr/>
            <p:nvPr/>
          </p:nvSpPr>
          <p:spPr>
            <a:xfrm>
              <a:off x="7885080" y="1608120"/>
              <a:ext cx="865440" cy="657000"/>
            </a:xfrm>
            <a:prstGeom prst="rect">
              <a:avLst/>
            </a:prstGeom>
            <a:solidFill>
              <a:srgbClr val="ffffff"/>
            </a:solidFill>
            <a:ln w="0">
              <a:noFill/>
            </a:ln>
          </p:spPr>
          <p:style>
            <a:lnRef idx="0"/>
            <a:fillRef idx="0"/>
            <a:effectRef idx="0"/>
            <a:fontRef idx="minor"/>
          </p:style>
          <p:txBody>
            <a:bodyPr wrap="none" lIns="72000" rIns="72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or B</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5644" name=""/>
            <p:cNvSpPr/>
            <p:nvPr/>
          </p:nvSpPr>
          <p:spPr>
            <a:xfrm>
              <a:off x="6039000" y="5740560"/>
              <a:ext cx="2751120" cy="91512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tos derivados de um modelo de referência específico</a:t>
              </a:r>
              <a:endParaRPr b="0" lang="en-US" sz="2000" spc="-1" strike="noStrike">
                <a:solidFill>
                  <a:srgbClr val="000000"/>
                </a:solidFill>
                <a:latin typeface="Arial"/>
              </a:endParaRPr>
            </a:p>
          </p:txBody>
        </p:sp>
        <p:sp>
          <p:nvSpPr>
            <p:cNvPr id="5645" name=""/>
            <p:cNvSpPr/>
            <p:nvPr/>
          </p:nvSpPr>
          <p:spPr>
            <a:xfrm>
              <a:off x="536400" y="3340080"/>
              <a:ext cx="1779840" cy="1549440"/>
            </a:xfrm>
            <a:custGeom>
              <a:avLst/>
              <a:gdLst/>
              <a:ahLst/>
              <a:rect l="l" t="t" r="r" b="b"/>
              <a:pathLst>
                <a:path w="1121" h="976">
                  <a:moveTo>
                    <a:pt x="0" y="23"/>
                  </a:moveTo>
                  <a:lnTo>
                    <a:pt x="130" y="976"/>
                  </a:lnTo>
                  <a:lnTo>
                    <a:pt x="706" y="976"/>
                  </a:lnTo>
                  <a:lnTo>
                    <a:pt x="1121" y="0"/>
                  </a:lnTo>
                </a:path>
              </a:pathLst>
            </a:custGeom>
            <a:solidFill>
              <a:srgbClr val="ffff00">
                <a:alpha val="50000"/>
              </a:srgbClr>
            </a:solidFill>
            <a:ln w="3240">
              <a:solidFill>
                <a:srgbClr val="000000"/>
              </a:solidFill>
              <a:round/>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646" name=""/>
            <p:cNvGrpSpPr/>
            <p:nvPr/>
          </p:nvGrpSpPr>
          <p:grpSpPr>
            <a:xfrm>
              <a:off x="709560" y="4782960"/>
              <a:ext cx="1123920" cy="541440"/>
              <a:chOff x="709560" y="4782960"/>
              <a:chExt cx="1123920" cy="541440"/>
            </a:xfrm>
          </p:grpSpPr>
          <p:sp>
            <p:nvSpPr>
              <p:cNvPr id="5647" name=""/>
              <p:cNvSpPr/>
              <p:nvPr/>
            </p:nvSpPr>
            <p:spPr>
              <a:xfrm>
                <a:off x="709560" y="4782960"/>
                <a:ext cx="1123920" cy="541440"/>
              </a:xfrm>
              <a:prstGeom prst="rightArrow">
                <a:avLst>
                  <a:gd name="adj1" fmla="val 77731"/>
                  <a:gd name="adj2" fmla="val 26841"/>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8" name=""/>
              <p:cNvSpPr/>
              <p:nvPr/>
            </p:nvSpPr>
            <p:spPr>
              <a:xfrm>
                <a:off x="1246320" y="5156280"/>
                <a:ext cx="60480" cy="76680"/>
              </a:xfrm>
              <a:prstGeom prst="rect">
                <a:avLst/>
              </a:prstGeom>
              <a:solidFill>
                <a:srgbClr val="ccffff"/>
              </a:solidFill>
              <a:ln w="324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649" name=""/>
              <p:cNvSpPr/>
              <p:nvPr/>
            </p:nvSpPr>
            <p:spPr>
              <a:xfrm>
                <a:off x="1033200" y="4988160"/>
                <a:ext cx="60480" cy="76680"/>
              </a:xfrm>
              <a:prstGeom prst="rect">
                <a:avLst/>
              </a:prstGeom>
              <a:solidFill>
                <a:srgbClr val="ccffff"/>
              </a:solidFill>
              <a:ln w="324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650" name=""/>
              <p:cNvSpPr/>
              <p:nvPr/>
            </p:nvSpPr>
            <p:spPr>
              <a:xfrm>
                <a:off x="1337400" y="4913280"/>
                <a:ext cx="90720" cy="76680"/>
              </a:xfrm>
              <a:prstGeom prst="rect">
                <a:avLst/>
              </a:prstGeom>
              <a:solidFill>
                <a:srgbClr val="ccffff"/>
              </a:solidFill>
              <a:ln w="324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651" name=""/>
              <p:cNvSpPr/>
              <p:nvPr/>
            </p:nvSpPr>
            <p:spPr>
              <a:xfrm>
                <a:off x="1560240" y="5081760"/>
                <a:ext cx="50040" cy="63720"/>
              </a:xfrm>
              <a:prstGeom prst="rect">
                <a:avLst/>
              </a:prstGeom>
              <a:solidFill>
                <a:srgbClr val="ccffff"/>
              </a:solidFill>
              <a:ln w="324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652" name=""/>
              <p:cNvSpPr/>
              <p:nvPr/>
            </p:nvSpPr>
            <p:spPr>
              <a:xfrm>
                <a:off x="891360" y="5062680"/>
                <a:ext cx="40680" cy="38880"/>
              </a:xfrm>
              <a:prstGeom prst="rect">
                <a:avLst/>
              </a:prstGeom>
              <a:solidFill>
                <a:srgbClr val="ccffff"/>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653" name=""/>
              <p:cNvSpPr/>
              <p:nvPr/>
            </p:nvSpPr>
            <p:spPr>
              <a:xfrm>
                <a:off x="770040" y="5137560"/>
                <a:ext cx="40680" cy="38880"/>
              </a:xfrm>
              <a:prstGeom prst="rect">
                <a:avLst/>
              </a:prstGeom>
              <a:solidFill>
                <a:srgbClr val="ccffff"/>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654" name=""/>
              <p:cNvSpPr/>
              <p:nvPr/>
            </p:nvSpPr>
            <p:spPr>
              <a:xfrm>
                <a:off x="729720" y="4913280"/>
                <a:ext cx="60480" cy="76680"/>
              </a:xfrm>
              <a:prstGeom prst="rect">
                <a:avLst/>
              </a:prstGeom>
              <a:solidFill>
                <a:srgbClr val="ccffff"/>
              </a:solidFill>
              <a:ln w="324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655" name=""/>
              <p:cNvSpPr/>
              <p:nvPr/>
            </p:nvSpPr>
            <p:spPr>
              <a:xfrm>
                <a:off x="1337400" y="5081760"/>
                <a:ext cx="40320" cy="75960"/>
              </a:xfrm>
              <a:prstGeom prst="rect">
                <a:avLst/>
              </a:prstGeom>
              <a:solidFill>
                <a:srgbClr val="ccffff"/>
              </a:solidFill>
              <a:ln w="32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656" name=""/>
              <p:cNvSpPr/>
              <p:nvPr/>
            </p:nvSpPr>
            <p:spPr>
              <a:xfrm>
                <a:off x="962640" y="5137560"/>
                <a:ext cx="90720" cy="76680"/>
              </a:xfrm>
              <a:prstGeom prst="rect">
                <a:avLst/>
              </a:prstGeom>
              <a:solidFill>
                <a:srgbClr val="ccffff"/>
              </a:solidFill>
              <a:ln w="324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657" name=""/>
              <p:cNvSpPr/>
              <p:nvPr/>
            </p:nvSpPr>
            <p:spPr>
              <a:xfrm>
                <a:off x="1205640" y="4895280"/>
                <a:ext cx="40680" cy="75600"/>
              </a:xfrm>
              <a:prstGeom prst="rect">
                <a:avLst/>
              </a:prstGeom>
              <a:solidFill>
                <a:srgbClr val="ccffff"/>
              </a:solidFill>
              <a:ln w="324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658" name=""/>
              <p:cNvSpPr/>
              <p:nvPr/>
            </p:nvSpPr>
            <p:spPr>
              <a:xfrm>
                <a:off x="1600560" y="4913280"/>
                <a:ext cx="60480" cy="76680"/>
              </a:xfrm>
              <a:prstGeom prst="rect">
                <a:avLst/>
              </a:prstGeom>
              <a:solidFill>
                <a:srgbClr val="ccffff"/>
              </a:solidFill>
              <a:ln w="324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659" name=""/>
              <p:cNvSpPr/>
              <p:nvPr/>
            </p:nvSpPr>
            <p:spPr>
              <a:xfrm>
                <a:off x="932400" y="4876200"/>
                <a:ext cx="40320" cy="75960"/>
              </a:xfrm>
              <a:prstGeom prst="rect">
                <a:avLst/>
              </a:prstGeom>
              <a:solidFill>
                <a:srgbClr val="ccffff"/>
              </a:solidFill>
              <a:ln w="32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660" name=""/>
              <p:cNvSpPr/>
              <p:nvPr/>
            </p:nvSpPr>
            <p:spPr>
              <a:xfrm>
                <a:off x="1398240" y="5175000"/>
                <a:ext cx="40320" cy="76320"/>
              </a:xfrm>
              <a:prstGeom prst="rect">
                <a:avLst/>
              </a:prstGeom>
              <a:solidFill>
                <a:srgbClr val="ccffff"/>
              </a:solidFill>
              <a:ln w="32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661" name=""/>
              <p:cNvSpPr/>
              <p:nvPr/>
            </p:nvSpPr>
            <p:spPr>
              <a:xfrm>
                <a:off x="1175040" y="5044680"/>
                <a:ext cx="40680" cy="75960"/>
              </a:xfrm>
              <a:prstGeom prst="rect">
                <a:avLst/>
              </a:prstGeom>
              <a:solidFill>
                <a:srgbClr val="ccffff"/>
              </a:solidFill>
              <a:ln w="32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662" name=""/>
              <p:cNvSpPr/>
              <p:nvPr/>
            </p:nvSpPr>
            <p:spPr>
              <a:xfrm>
                <a:off x="1063800" y="4895280"/>
                <a:ext cx="40680" cy="38520"/>
              </a:xfrm>
              <a:prstGeom prst="rect">
                <a:avLst/>
              </a:prstGeom>
              <a:solidFill>
                <a:srgbClr val="ccffff"/>
              </a:solidFill>
              <a:ln w="32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63" name=""/>
              <p:cNvSpPr/>
              <p:nvPr/>
            </p:nvSpPr>
            <p:spPr>
              <a:xfrm>
                <a:off x="1124280" y="5194080"/>
                <a:ext cx="40680" cy="38520"/>
              </a:xfrm>
              <a:prstGeom prst="rect">
                <a:avLst/>
              </a:prstGeom>
              <a:solidFill>
                <a:srgbClr val="ccffff"/>
              </a:solidFill>
              <a:ln w="32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64" name=""/>
              <p:cNvSpPr/>
              <p:nvPr/>
            </p:nvSpPr>
            <p:spPr>
              <a:xfrm>
                <a:off x="1468800" y="5044680"/>
                <a:ext cx="40680" cy="38520"/>
              </a:xfrm>
              <a:prstGeom prst="rect">
                <a:avLst/>
              </a:prstGeom>
              <a:solidFill>
                <a:srgbClr val="ccffff"/>
              </a:solidFill>
              <a:ln w="32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65" name=""/>
              <p:cNvSpPr/>
              <p:nvPr/>
            </p:nvSpPr>
            <p:spPr>
              <a:xfrm>
                <a:off x="1479240" y="4876200"/>
                <a:ext cx="40320" cy="38520"/>
              </a:xfrm>
              <a:prstGeom prst="rect">
                <a:avLst/>
              </a:prstGeom>
              <a:solidFill>
                <a:srgbClr val="ccffff"/>
              </a:solidFill>
              <a:ln w="32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66" name=""/>
              <p:cNvSpPr/>
              <p:nvPr/>
            </p:nvSpPr>
            <p:spPr>
              <a:xfrm>
                <a:off x="1529640" y="5194080"/>
                <a:ext cx="40680" cy="38520"/>
              </a:xfrm>
              <a:prstGeom prst="rect">
                <a:avLst/>
              </a:prstGeom>
              <a:solidFill>
                <a:srgbClr val="ccffff"/>
              </a:solidFill>
              <a:ln w="32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cxnSp>
            <p:nvCxnSpPr>
              <p:cNvPr id="5667" name=""/>
              <p:cNvCxnSpPr>
                <a:stCxn id="5654" idx="3"/>
                <a:endCxn id="5659" idx="1"/>
              </p:cNvCxnSpPr>
              <p:nvPr/>
            </p:nvCxnSpPr>
            <p:spPr>
              <a:xfrm flipV="1">
                <a:off x="790200" y="4914000"/>
                <a:ext cx="142200" cy="38160"/>
              </a:xfrm>
              <a:prstGeom prst="straightConnector1">
                <a:avLst/>
              </a:prstGeom>
              <a:ln w="3240">
                <a:solidFill>
                  <a:srgbClr val="000000"/>
                </a:solidFill>
                <a:miter/>
              </a:ln>
            </p:spPr>
          </p:cxnSp>
          <p:cxnSp>
            <p:nvCxnSpPr>
              <p:cNvPr id="5668" name=""/>
              <p:cNvCxnSpPr>
                <a:stCxn id="5653" idx="3"/>
                <a:endCxn id="5652" idx="1"/>
              </p:cNvCxnSpPr>
              <p:nvPr/>
            </p:nvCxnSpPr>
            <p:spPr>
              <a:xfrm flipV="1">
                <a:off x="810720" y="5082120"/>
                <a:ext cx="81360" cy="75240"/>
              </a:xfrm>
              <a:prstGeom prst="straightConnector1">
                <a:avLst/>
              </a:prstGeom>
              <a:ln w="3240">
                <a:solidFill>
                  <a:srgbClr val="000000"/>
                </a:solidFill>
                <a:miter/>
              </a:ln>
            </p:spPr>
          </p:cxnSp>
          <p:cxnSp>
            <p:nvCxnSpPr>
              <p:cNvPr id="5669" name=""/>
              <p:cNvCxnSpPr>
                <a:stCxn id="5652" idx="2"/>
                <a:endCxn id="5656" idx="1"/>
              </p:cNvCxnSpPr>
              <p:nvPr/>
            </p:nvCxnSpPr>
            <p:spPr>
              <a:xfrm>
                <a:off x="911880" y="5101560"/>
                <a:ext cx="51120" cy="74520"/>
              </a:xfrm>
              <a:prstGeom prst="straightConnector1">
                <a:avLst/>
              </a:prstGeom>
              <a:ln w="3240">
                <a:solidFill>
                  <a:srgbClr val="000000"/>
                </a:solidFill>
                <a:miter/>
              </a:ln>
            </p:spPr>
          </p:cxnSp>
          <p:cxnSp>
            <p:nvCxnSpPr>
              <p:cNvPr id="5670" name=""/>
              <p:cNvCxnSpPr>
                <a:stCxn id="5652" idx="0"/>
                <a:endCxn id="5659" idx="2"/>
              </p:cNvCxnSpPr>
              <p:nvPr/>
            </p:nvCxnSpPr>
            <p:spPr>
              <a:xfrm flipV="1">
                <a:off x="911880" y="4952160"/>
                <a:ext cx="40680" cy="110880"/>
              </a:xfrm>
              <a:prstGeom prst="straightConnector1">
                <a:avLst/>
              </a:prstGeom>
              <a:ln w="3240">
                <a:solidFill>
                  <a:srgbClr val="000000"/>
                </a:solidFill>
                <a:miter/>
              </a:ln>
            </p:spPr>
          </p:cxnSp>
          <p:cxnSp>
            <p:nvCxnSpPr>
              <p:cNvPr id="5671" name=""/>
              <p:cNvCxnSpPr>
                <a:stCxn id="5659" idx="3"/>
                <a:endCxn id="5662" idx="1"/>
              </p:cNvCxnSpPr>
              <p:nvPr/>
            </p:nvCxnSpPr>
            <p:spPr>
              <a:xfrm>
                <a:off x="972720" y="4914000"/>
                <a:ext cx="91440" cy="1080"/>
              </a:xfrm>
              <a:prstGeom prst="straightConnector1">
                <a:avLst/>
              </a:prstGeom>
              <a:ln w="3240">
                <a:solidFill>
                  <a:srgbClr val="000000"/>
                </a:solidFill>
                <a:miter/>
              </a:ln>
            </p:spPr>
          </p:cxnSp>
          <p:cxnSp>
            <p:nvCxnSpPr>
              <p:cNvPr id="5672" name=""/>
              <p:cNvCxnSpPr>
                <a:stCxn id="5656" idx="0"/>
                <a:endCxn id="5649" idx="2"/>
              </p:cNvCxnSpPr>
              <p:nvPr/>
            </p:nvCxnSpPr>
            <p:spPr>
              <a:xfrm flipV="1">
                <a:off x="1008360" y="5064120"/>
                <a:ext cx="56160" cy="73080"/>
              </a:xfrm>
              <a:prstGeom prst="straightConnector1">
                <a:avLst/>
              </a:prstGeom>
              <a:ln w="3240">
                <a:solidFill>
                  <a:srgbClr val="000000"/>
                </a:solidFill>
                <a:miter/>
              </a:ln>
            </p:spPr>
          </p:cxnSp>
          <p:cxnSp>
            <p:nvCxnSpPr>
              <p:cNvPr id="5673" name=""/>
              <p:cNvCxnSpPr>
                <a:stCxn id="5649" idx="0"/>
                <a:endCxn id="5662" idx="2"/>
              </p:cNvCxnSpPr>
              <p:nvPr/>
            </p:nvCxnSpPr>
            <p:spPr>
              <a:xfrm flipV="1">
                <a:off x="1063800" y="4933440"/>
                <a:ext cx="20880" cy="54720"/>
              </a:xfrm>
              <a:prstGeom prst="straightConnector1">
                <a:avLst/>
              </a:prstGeom>
              <a:ln w="3240">
                <a:solidFill>
                  <a:srgbClr val="000000"/>
                </a:solidFill>
                <a:miter/>
              </a:ln>
            </p:spPr>
          </p:cxnSp>
          <p:cxnSp>
            <p:nvCxnSpPr>
              <p:cNvPr id="5674" name=""/>
              <p:cNvCxnSpPr>
                <a:stCxn id="5649" idx="3"/>
                <a:endCxn id="5661" idx="1"/>
              </p:cNvCxnSpPr>
              <p:nvPr/>
            </p:nvCxnSpPr>
            <p:spPr>
              <a:xfrm>
                <a:off x="1093680" y="5026320"/>
                <a:ext cx="81360" cy="56520"/>
              </a:xfrm>
              <a:prstGeom prst="straightConnector1">
                <a:avLst/>
              </a:prstGeom>
              <a:ln w="3240">
                <a:solidFill>
                  <a:srgbClr val="000000"/>
                </a:solidFill>
                <a:miter/>
              </a:ln>
            </p:spPr>
          </p:cxnSp>
          <p:cxnSp>
            <p:nvCxnSpPr>
              <p:cNvPr id="5675" name=""/>
              <p:cNvCxnSpPr>
                <a:stCxn id="5656" idx="3"/>
                <a:endCxn id="5663" idx="1"/>
              </p:cNvCxnSpPr>
              <p:nvPr/>
            </p:nvCxnSpPr>
            <p:spPr>
              <a:xfrm>
                <a:off x="1053720" y="5175720"/>
                <a:ext cx="71280" cy="37800"/>
              </a:xfrm>
              <a:prstGeom prst="straightConnector1">
                <a:avLst/>
              </a:prstGeom>
              <a:ln w="3240">
                <a:solidFill>
                  <a:srgbClr val="000000"/>
                </a:solidFill>
                <a:miter/>
              </a:ln>
            </p:spPr>
          </p:cxnSp>
          <p:cxnSp>
            <p:nvCxnSpPr>
              <p:cNvPr id="5676" name=""/>
              <p:cNvCxnSpPr>
                <a:stCxn id="5663" idx="3"/>
                <a:endCxn id="5648" idx="1"/>
              </p:cNvCxnSpPr>
              <p:nvPr/>
            </p:nvCxnSpPr>
            <p:spPr>
              <a:xfrm flipV="1">
                <a:off x="1164960" y="5194800"/>
                <a:ext cx="81360" cy="18720"/>
              </a:xfrm>
              <a:prstGeom prst="straightConnector1">
                <a:avLst/>
              </a:prstGeom>
              <a:ln w="3240">
                <a:solidFill>
                  <a:srgbClr val="000000"/>
                </a:solidFill>
                <a:miter/>
              </a:ln>
            </p:spPr>
          </p:cxnSp>
          <p:cxnSp>
            <p:nvCxnSpPr>
              <p:cNvPr id="5677" name=""/>
              <p:cNvCxnSpPr>
                <a:stCxn id="5661" idx="2"/>
                <a:endCxn id="5648" idx="0"/>
              </p:cNvCxnSpPr>
              <p:nvPr/>
            </p:nvCxnSpPr>
            <p:spPr>
              <a:xfrm>
                <a:off x="1195200" y="5121000"/>
                <a:ext cx="81360" cy="36000"/>
              </a:xfrm>
              <a:prstGeom prst="straightConnector1">
                <a:avLst/>
              </a:prstGeom>
              <a:ln w="3240">
                <a:solidFill>
                  <a:srgbClr val="000000"/>
                </a:solidFill>
                <a:miter/>
              </a:ln>
            </p:spPr>
          </p:cxnSp>
          <p:cxnSp>
            <p:nvCxnSpPr>
              <p:cNvPr id="5678" name=""/>
              <p:cNvCxnSpPr>
                <a:stCxn id="5661" idx="0"/>
                <a:endCxn id="5657" idx="2"/>
              </p:cNvCxnSpPr>
              <p:nvPr/>
            </p:nvCxnSpPr>
            <p:spPr>
              <a:xfrm flipV="1">
                <a:off x="1195560" y="4970520"/>
                <a:ext cx="30600" cy="74160"/>
              </a:xfrm>
              <a:prstGeom prst="straightConnector1">
                <a:avLst/>
              </a:prstGeom>
              <a:ln w="3240">
                <a:solidFill>
                  <a:srgbClr val="000000"/>
                </a:solidFill>
                <a:miter/>
              </a:ln>
            </p:spPr>
          </p:cxnSp>
          <p:cxnSp>
            <p:nvCxnSpPr>
              <p:cNvPr id="5679" name=""/>
              <p:cNvCxnSpPr>
                <a:stCxn id="5662" idx="3"/>
                <a:endCxn id="5657" idx="1"/>
              </p:cNvCxnSpPr>
              <p:nvPr/>
            </p:nvCxnSpPr>
            <p:spPr>
              <a:xfrm>
                <a:off x="1104480" y="4914360"/>
                <a:ext cx="101520" cy="19440"/>
              </a:xfrm>
              <a:prstGeom prst="straightConnector1">
                <a:avLst/>
              </a:prstGeom>
              <a:ln w="3240">
                <a:solidFill>
                  <a:srgbClr val="000000"/>
                </a:solidFill>
                <a:miter/>
              </a:ln>
            </p:spPr>
          </p:cxnSp>
          <p:cxnSp>
            <p:nvCxnSpPr>
              <p:cNvPr id="5680" name=""/>
              <p:cNvCxnSpPr>
                <a:stCxn id="5657" idx="3"/>
                <a:endCxn id="5650" idx="1"/>
              </p:cNvCxnSpPr>
              <p:nvPr/>
            </p:nvCxnSpPr>
            <p:spPr>
              <a:xfrm>
                <a:off x="1246320" y="4933440"/>
                <a:ext cx="91440" cy="19440"/>
              </a:xfrm>
              <a:prstGeom prst="straightConnector1">
                <a:avLst/>
              </a:prstGeom>
              <a:ln w="3240">
                <a:solidFill>
                  <a:srgbClr val="000000"/>
                </a:solidFill>
                <a:miter/>
              </a:ln>
            </p:spPr>
          </p:cxnSp>
          <p:cxnSp>
            <p:nvCxnSpPr>
              <p:cNvPr id="5681" name=""/>
              <p:cNvCxnSpPr>
                <a:stCxn id="5682" idx="3"/>
                <a:endCxn id="5650" idx="1"/>
              </p:cNvCxnSpPr>
              <p:nvPr/>
            </p:nvCxnSpPr>
            <p:spPr>
              <a:xfrm flipV="1">
                <a:off x="1307160" y="4951800"/>
                <a:ext cx="30600" cy="97200"/>
              </a:xfrm>
              <a:prstGeom prst="straightConnector1">
                <a:avLst/>
              </a:prstGeom>
              <a:ln w="3240">
                <a:solidFill>
                  <a:srgbClr val="000000"/>
                </a:solidFill>
                <a:miter/>
              </a:ln>
            </p:spPr>
          </p:cxnSp>
          <p:cxnSp>
            <p:nvCxnSpPr>
              <p:cNvPr id="5683" name=""/>
              <p:cNvCxnSpPr>
                <a:stCxn id="5648" idx="3"/>
                <a:endCxn id="5660" idx="1"/>
              </p:cNvCxnSpPr>
              <p:nvPr/>
            </p:nvCxnSpPr>
            <p:spPr>
              <a:xfrm>
                <a:off x="1307160" y="5195160"/>
                <a:ext cx="91440" cy="18720"/>
              </a:xfrm>
              <a:prstGeom prst="straightConnector1">
                <a:avLst/>
              </a:prstGeom>
              <a:ln w="3240">
                <a:solidFill>
                  <a:srgbClr val="000000"/>
                </a:solidFill>
                <a:miter/>
              </a:ln>
            </p:spPr>
          </p:cxnSp>
          <p:cxnSp>
            <p:nvCxnSpPr>
              <p:cNvPr id="5684" name=""/>
              <p:cNvCxnSpPr>
                <a:stCxn id="5650" idx="2"/>
                <a:endCxn id="5655" idx="0"/>
              </p:cNvCxnSpPr>
              <p:nvPr/>
            </p:nvCxnSpPr>
            <p:spPr>
              <a:xfrm flipH="1">
                <a:off x="1356480" y="4989960"/>
                <a:ext cx="26280" cy="91800"/>
              </a:xfrm>
              <a:prstGeom prst="straightConnector1">
                <a:avLst/>
              </a:prstGeom>
              <a:ln w="3240">
                <a:solidFill>
                  <a:srgbClr val="000000"/>
                </a:solidFill>
                <a:miter/>
              </a:ln>
            </p:spPr>
          </p:cxnSp>
          <p:cxnSp>
            <p:nvCxnSpPr>
              <p:cNvPr id="5685" name=""/>
              <p:cNvCxnSpPr>
                <a:stCxn id="5650" idx="3"/>
                <a:endCxn id="5665" idx="1"/>
              </p:cNvCxnSpPr>
              <p:nvPr/>
            </p:nvCxnSpPr>
            <p:spPr>
              <a:xfrm flipV="1">
                <a:off x="1428480" y="4895280"/>
                <a:ext cx="51120" cy="56880"/>
              </a:xfrm>
              <a:prstGeom prst="straightConnector1">
                <a:avLst/>
              </a:prstGeom>
              <a:ln w="3240">
                <a:solidFill>
                  <a:srgbClr val="000000"/>
                </a:solidFill>
                <a:miter/>
              </a:ln>
            </p:spPr>
          </p:cxnSp>
          <p:cxnSp>
            <p:nvCxnSpPr>
              <p:cNvPr id="5686" name=""/>
              <p:cNvCxnSpPr>
                <a:stCxn id="5665" idx="3"/>
                <a:endCxn id="5658" idx="0"/>
              </p:cNvCxnSpPr>
              <p:nvPr/>
            </p:nvCxnSpPr>
            <p:spPr>
              <a:xfrm>
                <a:off x="1519200" y="4895280"/>
                <a:ext cx="111960" cy="18360"/>
              </a:xfrm>
              <a:prstGeom prst="straightConnector1">
                <a:avLst/>
              </a:prstGeom>
              <a:ln w="3240">
                <a:solidFill>
                  <a:srgbClr val="000000"/>
                </a:solidFill>
                <a:miter/>
              </a:ln>
            </p:spPr>
          </p:cxnSp>
          <p:cxnSp>
            <p:nvCxnSpPr>
              <p:cNvPr id="5687" name=""/>
              <p:cNvCxnSpPr>
                <a:stCxn id="5664" idx="3"/>
                <a:endCxn id="5651" idx="1"/>
              </p:cNvCxnSpPr>
              <p:nvPr/>
            </p:nvCxnSpPr>
            <p:spPr>
              <a:xfrm>
                <a:off x="1509480" y="5063760"/>
                <a:ext cx="51120" cy="50400"/>
              </a:xfrm>
              <a:prstGeom prst="straightConnector1">
                <a:avLst/>
              </a:prstGeom>
              <a:ln w="3240">
                <a:solidFill>
                  <a:srgbClr val="000000"/>
                </a:solidFill>
                <a:miter/>
              </a:ln>
            </p:spPr>
          </p:cxnSp>
          <p:cxnSp>
            <p:nvCxnSpPr>
              <p:cNvPr id="5688" name=""/>
              <p:cNvCxnSpPr>
                <a:stCxn id="5660" idx="3"/>
                <a:endCxn id="5664" idx="2"/>
              </p:cNvCxnSpPr>
              <p:nvPr/>
            </p:nvCxnSpPr>
            <p:spPr>
              <a:xfrm flipV="1">
                <a:off x="1438560" y="5082480"/>
                <a:ext cx="51120" cy="130680"/>
              </a:xfrm>
              <a:prstGeom prst="straightConnector1">
                <a:avLst/>
              </a:prstGeom>
              <a:ln w="3240">
                <a:solidFill>
                  <a:srgbClr val="000000"/>
                </a:solidFill>
                <a:miter/>
              </a:ln>
            </p:spPr>
          </p:cxnSp>
          <p:cxnSp>
            <p:nvCxnSpPr>
              <p:cNvPr id="5689" name=""/>
              <p:cNvCxnSpPr>
                <a:stCxn id="5658" idx="2"/>
                <a:endCxn id="5651" idx="0"/>
              </p:cNvCxnSpPr>
              <p:nvPr/>
            </p:nvCxnSpPr>
            <p:spPr>
              <a:xfrm flipH="1">
                <a:off x="1585080" y="4989960"/>
                <a:ext cx="46080" cy="91800"/>
              </a:xfrm>
              <a:prstGeom prst="straightConnector1">
                <a:avLst/>
              </a:prstGeom>
              <a:ln w="3240">
                <a:solidFill>
                  <a:srgbClr val="000000"/>
                </a:solidFill>
                <a:miter/>
              </a:ln>
            </p:spPr>
          </p:cxnSp>
          <p:cxnSp>
            <p:nvCxnSpPr>
              <p:cNvPr id="5690" name=""/>
              <p:cNvCxnSpPr>
                <a:stCxn id="5666" idx="0"/>
                <a:endCxn id="5651" idx="2"/>
              </p:cNvCxnSpPr>
              <p:nvPr/>
            </p:nvCxnSpPr>
            <p:spPr>
              <a:xfrm flipV="1">
                <a:off x="1549800" y="5145120"/>
                <a:ext cx="36000" cy="48960"/>
              </a:xfrm>
              <a:prstGeom prst="straightConnector1">
                <a:avLst/>
              </a:prstGeom>
              <a:ln w="3240">
                <a:solidFill>
                  <a:srgbClr val="000000"/>
                </a:solidFill>
                <a:miter/>
              </a:ln>
            </p:spPr>
          </p:cxnSp>
          <p:sp>
            <p:nvSpPr>
              <p:cNvPr id="5691" name=""/>
              <p:cNvSpPr/>
              <p:nvPr/>
            </p:nvSpPr>
            <p:spPr>
              <a:xfrm>
                <a:off x="1671480" y="5081760"/>
                <a:ext cx="50400" cy="63720"/>
              </a:xfrm>
              <a:prstGeom prst="rect">
                <a:avLst/>
              </a:prstGeom>
              <a:solidFill>
                <a:srgbClr val="ccffff"/>
              </a:solidFill>
              <a:ln w="324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cxnSp>
            <p:nvCxnSpPr>
              <p:cNvPr id="5692" name=""/>
              <p:cNvCxnSpPr>
                <a:stCxn id="5651" idx="3"/>
                <a:endCxn id="5691" idx="1"/>
              </p:cNvCxnSpPr>
              <p:nvPr/>
            </p:nvCxnSpPr>
            <p:spPr>
              <a:xfrm>
                <a:off x="1610640" y="5113440"/>
                <a:ext cx="61200" cy="1080"/>
              </a:xfrm>
              <a:prstGeom prst="straightConnector1">
                <a:avLst/>
              </a:prstGeom>
              <a:ln w="3240">
                <a:solidFill>
                  <a:srgbClr val="000000"/>
                </a:solidFill>
                <a:miter/>
              </a:ln>
            </p:spPr>
          </p:cxnSp>
          <p:cxnSp>
            <p:nvCxnSpPr>
              <p:cNvPr id="5693" name=""/>
              <p:cNvCxnSpPr>
                <a:stCxn id="5658" idx="3"/>
                <a:endCxn id="5691" idx="0"/>
              </p:cNvCxnSpPr>
              <p:nvPr/>
            </p:nvCxnSpPr>
            <p:spPr>
              <a:xfrm>
                <a:off x="1661400" y="4951800"/>
                <a:ext cx="36000" cy="129960"/>
              </a:xfrm>
              <a:prstGeom prst="straightConnector1">
                <a:avLst/>
              </a:prstGeom>
              <a:ln w="3240">
                <a:solidFill>
                  <a:srgbClr val="000000"/>
                </a:solidFill>
                <a:miter/>
              </a:ln>
            </p:spPr>
          </p:cxnSp>
          <p:cxnSp>
            <p:nvCxnSpPr>
              <p:cNvPr id="5694" name=""/>
              <p:cNvCxnSpPr>
                <a:stCxn id="5666" idx="3"/>
                <a:endCxn id="5691" idx="2"/>
              </p:cNvCxnSpPr>
              <p:nvPr/>
            </p:nvCxnSpPr>
            <p:spPr>
              <a:xfrm flipV="1">
                <a:off x="1569960" y="5145120"/>
                <a:ext cx="126720" cy="68400"/>
              </a:xfrm>
              <a:prstGeom prst="straightConnector1">
                <a:avLst/>
              </a:prstGeom>
              <a:ln w="3240">
                <a:solidFill>
                  <a:srgbClr val="000000"/>
                </a:solidFill>
                <a:miter/>
              </a:ln>
            </p:spPr>
          </p:cxnSp>
          <p:cxnSp>
            <p:nvCxnSpPr>
              <p:cNvPr id="5695" name=""/>
              <p:cNvCxnSpPr>
                <a:stCxn id="5652" idx="3"/>
                <a:endCxn id="5649" idx="1"/>
              </p:cNvCxnSpPr>
              <p:nvPr/>
            </p:nvCxnSpPr>
            <p:spPr>
              <a:xfrm flipV="1">
                <a:off x="932400" y="5025960"/>
                <a:ext cx="101520" cy="56520"/>
              </a:xfrm>
              <a:prstGeom prst="straightConnector1">
                <a:avLst/>
              </a:prstGeom>
              <a:ln w="3240">
                <a:solidFill>
                  <a:srgbClr val="000000"/>
                </a:solidFill>
                <a:miter/>
              </a:ln>
            </p:spPr>
          </p:cxnSp>
          <p:cxnSp>
            <p:nvCxnSpPr>
              <p:cNvPr id="5696" name=""/>
              <p:cNvCxnSpPr>
                <a:stCxn id="5661" idx="3"/>
                <a:endCxn id="5682" idx="1"/>
              </p:cNvCxnSpPr>
              <p:nvPr/>
            </p:nvCxnSpPr>
            <p:spPr>
              <a:xfrm flipV="1">
                <a:off x="1215720" y="5048280"/>
                <a:ext cx="50760" cy="34560"/>
              </a:xfrm>
              <a:prstGeom prst="straightConnector1">
                <a:avLst/>
              </a:prstGeom>
              <a:ln w="3240">
                <a:solidFill>
                  <a:srgbClr val="000000"/>
                </a:solidFill>
                <a:miter/>
              </a:ln>
            </p:spPr>
          </p:cxnSp>
          <p:cxnSp>
            <p:nvCxnSpPr>
              <p:cNvPr id="5697" name=""/>
              <p:cNvCxnSpPr>
                <a:stCxn id="5655" idx="3"/>
                <a:endCxn id="5664" idx="1"/>
              </p:cNvCxnSpPr>
              <p:nvPr/>
            </p:nvCxnSpPr>
            <p:spPr>
              <a:xfrm flipV="1">
                <a:off x="1377720" y="5063040"/>
                <a:ext cx="91440" cy="56520"/>
              </a:xfrm>
              <a:prstGeom prst="straightConnector1">
                <a:avLst/>
              </a:prstGeom>
              <a:ln w="3240">
                <a:solidFill>
                  <a:srgbClr val="000000"/>
                </a:solidFill>
                <a:miter/>
              </a:ln>
            </p:spPr>
          </p:cxnSp>
          <p:cxnSp>
            <p:nvCxnSpPr>
              <p:cNvPr id="5698" name=""/>
              <p:cNvCxnSpPr>
                <a:stCxn id="5682" idx="2"/>
                <a:endCxn id="5655" idx="1"/>
              </p:cNvCxnSpPr>
              <p:nvPr/>
            </p:nvCxnSpPr>
            <p:spPr>
              <a:xfrm>
                <a:off x="1286640" y="5072040"/>
                <a:ext cx="51120" cy="47880"/>
              </a:xfrm>
              <a:prstGeom prst="straightConnector1">
                <a:avLst/>
              </a:prstGeom>
              <a:ln w="3240">
                <a:solidFill>
                  <a:srgbClr val="000000"/>
                </a:solidFill>
                <a:miter/>
              </a:ln>
            </p:spPr>
          </p:cxnSp>
          <p:sp>
            <p:nvSpPr>
              <p:cNvPr id="5682" name=""/>
              <p:cNvSpPr/>
              <p:nvPr/>
            </p:nvSpPr>
            <p:spPr>
              <a:xfrm>
                <a:off x="1266120" y="5025600"/>
                <a:ext cx="40680" cy="46440"/>
              </a:xfrm>
              <a:prstGeom prst="rect">
                <a:avLst/>
              </a:prstGeom>
              <a:solidFill>
                <a:srgbClr val="ccffff"/>
              </a:solidFill>
              <a:ln w="324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grpSp>
          <p:nvGrpSpPr>
            <p:cNvPr id="5699" name=""/>
            <p:cNvGrpSpPr/>
            <p:nvPr/>
          </p:nvGrpSpPr>
          <p:grpSpPr>
            <a:xfrm>
              <a:off x="525600" y="2519280"/>
              <a:ext cx="1854000" cy="890640"/>
              <a:chOff x="525600" y="2519280"/>
              <a:chExt cx="1854000" cy="890640"/>
            </a:xfrm>
          </p:grpSpPr>
          <p:sp>
            <p:nvSpPr>
              <p:cNvPr id="5700" name=""/>
              <p:cNvSpPr/>
              <p:nvPr/>
            </p:nvSpPr>
            <p:spPr>
              <a:xfrm>
                <a:off x="525600" y="2519280"/>
                <a:ext cx="1854000" cy="890640"/>
              </a:xfrm>
              <a:prstGeom prst="rect">
                <a:avLst/>
              </a:prstGeom>
              <a:solidFill>
                <a:srgbClr val="ffff00"/>
              </a:solidFill>
              <a:ln w="324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701" name=""/>
              <p:cNvSpPr/>
              <p:nvPr/>
            </p:nvSpPr>
            <p:spPr>
              <a:xfrm>
                <a:off x="628920" y="2891880"/>
                <a:ext cx="203760" cy="207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2" name=""/>
              <p:cNvSpPr/>
              <p:nvPr/>
            </p:nvSpPr>
            <p:spPr>
              <a:xfrm>
                <a:off x="1650600" y="2690280"/>
                <a:ext cx="306000" cy="207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3" name=""/>
              <p:cNvSpPr/>
              <p:nvPr/>
            </p:nvSpPr>
            <p:spPr>
              <a:xfrm>
                <a:off x="1650600" y="3144240"/>
                <a:ext cx="135360" cy="205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4" name=""/>
              <p:cNvSpPr/>
              <p:nvPr/>
            </p:nvSpPr>
            <p:spPr>
              <a:xfrm>
                <a:off x="1207800" y="2640960"/>
                <a:ext cx="136800" cy="204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5" name=""/>
              <p:cNvSpPr/>
              <p:nvPr/>
            </p:nvSpPr>
            <p:spPr>
              <a:xfrm>
                <a:off x="1105560" y="3044160"/>
                <a:ext cx="137160" cy="205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6" name=""/>
              <p:cNvSpPr/>
              <p:nvPr/>
            </p:nvSpPr>
            <p:spPr>
              <a:xfrm>
                <a:off x="731160" y="2640960"/>
                <a:ext cx="136800" cy="1044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7" name=""/>
              <p:cNvSpPr/>
              <p:nvPr/>
            </p:nvSpPr>
            <p:spPr>
              <a:xfrm>
                <a:off x="2092320" y="3044160"/>
                <a:ext cx="137160" cy="1044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8" name=""/>
              <p:cNvSpPr/>
              <p:nvPr/>
            </p:nvSpPr>
            <p:spPr>
              <a:xfrm>
                <a:off x="2127240" y="2590200"/>
                <a:ext cx="135360" cy="1040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709" name=""/>
              <p:cNvCxnSpPr>
                <a:stCxn id="5701" idx="0"/>
                <a:endCxn id="5706" idx="2"/>
              </p:cNvCxnSpPr>
              <p:nvPr/>
            </p:nvCxnSpPr>
            <p:spPr>
              <a:xfrm flipV="1">
                <a:off x="731160" y="2745000"/>
                <a:ext cx="69120" cy="146880"/>
              </a:xfrm>
              <a:prstGeom prst="straightConnector1">
                <a:avLst/>
              </a:prstGeom>
              <a:ln w="12600">
                <a:solidFill>
                  <a:srgbClr val="000000"/>
                </a:solidFill>
                <a:miter/>
                <a:tailEnd len="lg" type="triangle" w="sm"/>
              </a:ln>
            </p:spPr>
          </p:cxnSp>
          <p:cxnSp>
            <p:nvCxnSpPr>
              <p:cNvPr id="5710" name=""/>
              <p:cNvCxnSpPr>
                <a:stCxn id="5701" idx="3"/>
                <a:endCxn id="5705" idx="1"/>
              </p:cNvCxnSpPr>
              <p:nvPr/>
            </p:nvCxnSpPr>
            <p:spPr>
              <a:xfrm>
                <a:off x="832320" y="2995920"/>
                <a:ext cx="273240" cy="151560"/>
              </a:xfrm>
              <a:prstGeom prst="straightConnector1">
                <a:avLst/>
              </a:prstGeom>
              <a:ln w="12600">
                <a:solidFill>
                  <a:srgbClr val="000000"/>
                </a:solidFill>
                <a:miter/>
                <a:tailEnd len="lg" type="triangle" w="sm"/>
              </a:ln>
            </p:spPr>
          </p:cxnSp>
          <p:cxnSp>
            <p:nvCxnSpPr>
              <p:cNvPr id="5711" name=""/>
              <p:cNvCxnSpPr>
                <a:stCxn id="5705" idx="2"/>
              </p:cNvCxnSpPr>
              <p:nvPr/>
            </p:nvCxnSpPr>
            <p:spPr>
              <a:xfrm>
                <a:off x="1173600" y="3249720"/>
                <a:ext cx="273240" cy="96120"/>
              </a:xfrm>
              <a:prstGeom prst="straightConnector1">
                <a:avLst/>
              </a:prstGeom>
              <a:ln w="12600">
                <a:solidFill>
                  <a:srgbClr val="000000"/>
                </a:solidFill>
                <a:miter/>
                <a:tailEnd len="lg" type="triangle" w="sm"/>
              </a:ln>
            </p:spPr>
          </p:cxnSp>
          <p:cxnSp>
            <p:nvCxnSpPr>
              <p:cNvPr id="5712" name=""/>
              <p:cNvCxnSpPr>
                <a:stCxn id="5705" idx="0"/>
                <a:endCxn id="5704" idx="2"/>
              </p:cNvCxnSpPr>
              <p:nvPr/>
            </p:nvCxnSpPr>
            <p:spPr>
              <a:xfrm flipV="1">
                <a:off x="1173600" y="2845080"/>
                <a:ext cx="102600" cy="199440"/>
              </a:xfrm>
              <a:prstGeom prst="straightConnector1">
                <a:avLst/>
              </a:prstGeom>
              <a:ln w="12600">
                <a:solidFill>
                  <a:srgbClr val="000000"/>
                </a:solidFill>
                <a:miter/>
                <a:tailEnd len="lg" type="triangle" w="sm"/>
              </a:ln>
            </p:spPr>
          </p:cxnSp>
          <p:cxnSp>
            <p:nvCxnSpPr>
              <p:cNvPr id="5713" name=""/>
              <p:cNvCxnSpPr>
                <a:stCxn id="5706" idx="3"/>
                <a:endCxn id="5704" idx="1"/>
              </p:cNvCxnSpPr>
              <p:nvPr/>
            </p:nvCxnSpPr>
            <p:spPr>
              <a:xfrm>
                <a:off x="867600" y="2693160"/>
                <a:ext cx="340200" cy="51120"/>
              </a:xfrm>
              <a:prstGeom prst="straightConnector1">
                <a:avLst/>
              </a:prstGeom>
              <a:ln w="12600">
                <a:solidFill>
                  <a:srgbClr val="000000"/>
                </a:solidFill>
                <a:miter/>
                <a:tailEnd len="lg" type="triangle" w="sm"/>
              </a:ln>
            </p:spPr>
          </p:cxnSp>
          <p:cxnSp>
            <p:nvCxnSpPr>
              <p:cNvPr id="5714" name=""/>
              <p:cNvCxnSpPr>
                <a:stCxn id="5704" idx="3"/>
                <a:endCxn id="5702" idx="1"/>
              </p:cNvCxnSpPr>
              <p:nvPr/>
            </p:nvCxnSpPr>
            <p:spPr>
              <a:xfrm>
                <a:off x="1344600" y="2743560"/>
                <a:ext cx="306720" cy="51480"/>
              </a:xfrm>
              <a:prstGeom prst="straightConnector1">
                <a:avLst/>
              </a:prstGeom>
              <a:ln w="12600">
                <a:solidFill>
                  <a:srgbClr val="000000"/>
                </a:solidFill>
                <a:miter/>
                <a:tailEnd len="lg" type="triangle" w="sm"/>
              </a:ln>
            </p:spPr>
          </p:cxnSp>
          <p:cxnSp>
            <p:nvCxnSpPr>
              <p:cNvPr id="5715" name=""/>
              <p:cNvCxnSpPr>
                <a:stCxn id="5716" idx="3"/>
                <a:endCxn id="5702" idx="1"/>
              </p:cNvCxnSpPr>
              <p:nvPr/>
            </p:nvCxnSpPr>
            <p:spPr>
              <a:xfrm flipV="1">
                <a:off x="1548720" y="2793960"/>
                <a:ext cx="102240" cy="263160"/>
              </a:xfrm>
              <a:prstGeom prst="straightConnector1">
                <a:avLst/>
              </a:prstGeom>
              <a:ln w="12600">
                <a:solidFill>
                  <a:srgbClr val="000000"/>
                </a:solidFill>
                <a:miter/>
                <a:tailEnd len="lg" type="triangle" w="sm"/>
              </a:ln>
            </p:spPr>
          </p:cxnSp>
          <p:cxnSp>
            <p:nvCxnSpPr>
              <p:cNvPr id="5717" name=""/>
              <p:cNvCxnSpPr>
                <a:stCxn id="5702" idx="2"/>
                <a:endCxn id="5703" idx="0"/>
              </p:cNvCxnSpPr>
              <p:nvPr/>
            </p:nvCxnSpPr>
            <p:spPr>
              <a:xfrm flipH="1">
                <a:off x="1719000" y="2897640"/>
                <a:ext cx="84960" cy="246960"/>
              </a:xfrm>
              <a:prstGeom prst="straightConnector1">
                <a:avLst/>
              </a:prstGeom>
              <a:ln w="12600">
                <a:solidFill>
                  <a:srgbClr val="000000"/>
                </a:solidFill>
                <a:miter/>
                <a:tailEnd len="lg" type="triangle" w="sm"/>
              </a:ln>
            </p:spPr>
          </p:cxnSp>
          <p:cxnSp>
            <p:nvCxnSpPr>
              <p:cNvPr id="5718" name=""/>
              <p:cNvCxnSpPr>
                <a:stCxn id="5702" idx="3"/>
                <a:endCxn id="5708" idx="1"/>
              </p:cNvCxnSpPr>
              <p:nvPr/>
            </p:nvCxnSpPr>
            <p:spPr>
              <a:xfrm flipV="1">
                <a:off x="1956240" y="2641680"/>
                <a:ext cx="171000" cy="153000"/>
              </a:xfrm>
              <a:prstGeom prst="straightConnector1">
                <a:avLst/>
              </a:prstGeom>
              <a:ln w="12600">
                <a:solidFill>
                  <a:srgbClr val="000000"/>
                </a:solidFill>
                <a:miter/>
                <a:tailEnd len="lg" type="triangle" w="sm"/>
              </a:ln>
            </p:spPr>
          </p:cxnSp>
          <p:cxnSp>
            <p:nvCxnSpPr>
              <p:cNvPr id="5719" name=""/>
              <p:cNvCxnSpPr>
                <a:stCxn id="5705" idx="3"/>
                <a:endCxn id="5716" idx="1"/>
              </p:cNvCxnSpPr>
              <p:nvPr/>
            </p:nvCxnSpPr>
            <p:spPr>
              <a:xfrm flipV="1">
                <a:off x="1242360" y="3056760"/>
                <a:ext cx="169560" cy="90360"/>
              </a:xfrm>
              <a:prstGeom prst="straightConnector1">
                <a:avLst/>
              </a:prstGeom>
              <a:ln w="12600">
                <a:solidFill>
                  <a:srgbClr val="000000"/>
                </a:solidFill>
                <a:miter/>
                <a:tailEnd len="lg" type="triangle" w="sm"/>
              </a:ln>
            </p:spPr>
          </p:cxnSp>
          <p:cxnSp>
            <p:nvCxnSpPr>
              <p:cNvPr id="5720" name=""/>
              <p:cNvCxnSpPr>
                <a:stCxn id="5703" idx="3"/>
                <a:endCxn id="5707" idx="1"/>
              </p:cNvCxnSpPr>
              <p:nvPr/>
            </p:nvCxnSpPr>
            <p:spPr>
              <a:xfrm flipV="1">
                <a:off x="1785960" y="3096000"/>
                <a:ext cx="306720" cy="151200"/>
              </a:xfrm>
              <a:prstGeom prst="straightConnector1">
                <a:avLst/>
              </a:prstGeom>
              <a:ln w="12600">
                <a:solidFill>
                  <a:srgbClr val="000000"/>
                </a:solidFill>
                <a:miter/>
                <a:tailEnd len="lg" type="triangle" w="sm"/>
              </a:ln>
            </p:spPr>
          </p:cxnSp>
          <p:cxnSp>
            <p:nvCxnSpPr>
              <p:cNvPr id="5721" name=""/>
              <p:cNvCxnSpPr>
                <a:stCxn id="5716" idx="2"/>
                <a:endCxn id="5703" idx="1"/>
              </p:cNvCxnSpPr>
              <p:nvPr/>
            </p:nvCxnSpPr>
            <p:spPr>
              <a:xfrm>
                <a:off x="1479600" y="3119400"/>
                <a:ext cx="171000" cy="128160"/>
              </a:xfrm>
              <a:prstGeom prst="straightConnector1">
                <a:avLst/>
              </a:prstGeom>
              <a:ln w="12600">
                <a:solidFill>
                  <a:srgbClr val="000000"/>
                </a:solidFill>
                <a:miter/>
                <a:tailEnd len="lg" type="triangle" w="sm"/>
              </a:ln>
            </p:spPr>
          </p:cxnSp>
          <p:sp>
            <p:nvSpPr>
              <p:cNvPr id="5716" name=""/>
              <p:cNvSpPr/>
              <p:nvPr/>
            </p:nvSpPr>
            <p:spPr>
              <a:xfrm>
                <a:off x="1411560" y="2993400"/>
                <a:ext cx="137160" cy="1260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22" name=""/>
            <p:cNvSpPr/>
            <p:nvPr/>
          </p:nvSpPr>
          <p:spPr>
            <a:xfrm>
              <a:off x="2560680" y="3365640"/>
              <a:ext cx="5608440" cy="1511280"/>
            </a:xfrm>
            <a:custGeom>
              <a:avLst/>
              <a:gdLst/>
              <a:ahLst/>
              <a:rect l="l" t="t" r="r" b="b"/>
              <a:pathLst>
                <a:path w="3533" h="952">
                  <a:moveTo>
                    <a:pt x="0" y="0"/>
                  </a:moveTo>
                  <a:lnTo>
                    <a:pt x="123" y="944"/>
                  </a:lnTo>
                  <a:lnTo>
                    <a:pt x="3517" y="952"/>
                  </a:lnTo>
                  <a:lnTo>
                    <a:pt x="3533" y="852"/>
                  </a:lnTo>
                  <a:lnTo>
                    <a:pt x="906" y="15"/>
                  </a:lnTo>
                </a:path>
              </a:pathLst>
            </a:custGeom>
            <a:solidFill>
              <a:srgbClr val="ffcc99">
                <a:alpha val="50000"/>
              </a:srgbClr>
            </a:solidFill>
            <a:ln w="3240">
              <a:solidFill>
                <a:srgbClr val="000000"/>
              </a:solidFill>
              <a:round/>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5723" name=""/>
            <p:cNvGrpSpPr/>
            <p:nvPr/>
          </p:nvGrpSpPr>
          <p:grpSpPr>
            <a:xfrm>
              <a:off x="2549520" y="2614680"/>
              <a:ext cx="1495440" cy="795240"/>
              <a:chOff x="2549520" y="2614680"/>
              <a:chExt cx="1495440" cy="795240"/>
            </a:xfrm>
          </p:grpSpPr>
          <p:sp>
            <p:nvSpPr>
              <p:cNvPr id="5724" name=""/>
              <p:cNvSpPr/>
              <p:nvPr/>
            </p:nvSpPr>
            <p:spPr>
              <a:xfrm>
                <a:off x="2549520" y="2614680"/>
                <a:ext cx="1495440" cy="795240"/>
              </a:xfrm>
              <a:prstGeom prst="rect">
                <a:avLst/>
              </a:prstGeom>
              <a:solidFill>
                <a:srgbClr val="ff9966"/>
              </a:solidFill>
              <a:ln w="324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725" name=""/>
              <p:cNvSpPr/>
              <p:nvPr/>
            </p:nvSpPr>
            <p:spPr>
              <a:xfrm>
                <a:off x="3581280" y="2905200"/>
                <a:ext cx="194040" cy="1490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6" name=""/>
              <p:cNvSpPr/>
              <p:nvPr/>
            </p:nvSpPr>
            <p:spPr>
              <a:xfrm>
                <a:off x="3127320" y="3050280"/>
                <a:ext cx="130320" cy="75960"/>
              </a:xfrm>
              <a:prstGeom prst="rect">
                <a:avLst/>
              </a:prstGeom>
              <a:solidFill>
                <a:srgbClr val="cc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727" name=""/>
              <p:cNvSpPr/>
              <p:nvPr/>
            </p:nvSpPr>
            <p:spPr>
              <a:xfrm>
                <a:off x="2738160" y="3195360"/>
                <a:ext cx="130320" cy="75960"/>
              </a:xfrm>
              <a:prstGeom prst="rect">
                <a:avLst/>
              </a:prstGeom>
              <a:solidFill>
                <a:srgbClr val="cc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728" name=""/>
              <p:cNvSpPr/>
              <p:nvPr/>
            </p:nvSpPr>
            <p:spPr>
              <a:xfrm>
                <a:off x="2609280" y="2760480"/>
                <a:ext cx="194040" cy="1490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9" name=""/>
              <p:cNvSpPr/>
              <p:nvPr/>
            </p:nvSpPr>
            <p:spPr>
              <a:xfrm>
                <a:off x="3354840" y="3195360"/>
                <a:ext cx="291600" cy="1490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0" name=""/>
              <p:cNvSpPr/>
              <p:nvPr/>
            </p:nvSpPr>
            <p:spPr>
              <a:xfrm>
                <a:off x="3257640" y="2688480"/>
                <a:ext cx="128880" cy="147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1" name=""/>
              <p:cNvSpPr/>
              <p:nvPr/>
            </p:nvSpPr>
            <p:spPr>
              <a:xfrm>
                <a:off x="3678120" y="2724840"/>
                <a:ext cx="130680" cy="74880"/>
              </a:xfrm>
              <a:prstGeom prst="rect">
                <a:avLst/>
              </a:prstGeom>
              <a:solidFill>
                <a:srgbClr val="cc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cxnSp>
            <p:nvCxnSpPr>
              <p:cNvPr id="5732" name=""/>
              <p:cNvCxnSpPr>
                <a:stCxn id="5728" idx="3"/>
                <a:endCxn id="5730" idx="1"/>
              </p:cNvCxnSpPr>
              <p:nvPr/>
            </p:nvCxnSpPr>
            <p:spPr>
              <a:xfrm flipV="1">
                <a:off x="2802960" y="2762280"/>
                <a:ext cx="454680" cy="73440"/>
              </a:xfrm>
              <a:prstGeom prst="straightConnector1">
                <a:avLst/>
              </a:prstGeom>
              <a:ln w="12600">
                <a:solidFill>
                  <a:srgbClr val="000000"/>
                </a:solidFill>
                <a:miter/>
                <a:tailEnd len="lg" type="triangle" w="sm"/>
              </a:ln>
            </p:spPr>
          </p:cxnSp>
          <p:cxnSp>
            <p:nvCxnSpPr>
              <p:cNvPr id="5733" name=""/>
              <p:cNvCxnSpPr>
                <a:stCxn id="5727" idx="3"/>
                <a:endCxn id="5726" idx="1"/>
              </p:cNvCxnSpPr>
              <p:nvPr/>
            </p:nvCxnSpPr>
            <p:spPr>
              <a:xfrm flipV="1">
                <a:off x="2868480" y="3088440"/>
                <a:ext cx="259200" cy="145440"/>
              </a:xfrm>
              <a:prstGeom prst="straightConnector1">
                <a:avLst/>
              </a:prstGeom>
              <a:ln w="12600">
                <a:solidFill>
                  <a:srgbClr val="000000"/>
                </a:solidFill>
                <a:miter/>
                <a:tailEnd len="lg" type="triangle" w="sm"/>
              </a:ln>
            </p:spPr>
          </p:cxnSp>
          <p:cxnSp>
            <p:nvCxnSpPr>
              <p:cNvPr id="5734" name=""/>
              <p:cNvCxnSpPr>
                <a:stCxn id="5726" idx="2"/>
                <a:endCxn id="5729" idx="1"/>
              </p:cNvCxnSpPr>
              <p:nvPr/>
            </p:nvCxnSpPr>
            <p:spPr>
              <a:xfrm>
                <a:off x="3192120" y="3125880"/>
                <a:ext cx="162720" cy="144360"/>
              </a:xfrm>
              <a:prstGeom prst="straightConnector1">
                <a:avLst/>
              </a:prstGeom>
              <a:ln w="12600">
                <a:solidFill>
                  <a:srgbClr val="000000"/>
                </a:solidFill>
                <a:miter/>
                <a:tailEnd len="lg" type="triangle" w="sm"/>
              </a:ln>
            </p:spPr>
          </p:cxnSp>
          <p:cxnSp>
            <p:nvCxnSpPr>
              <p:cNvPr id="5735" name=""/>
              <p:cNvCxnSpPr>
                <a:stCxn id="5726" idx="0"/>
                <a:endCxn id="5730" idx="2"/>
              </p:cNvCxnSpPr>
              <p:nvPr/>
            </p:nvCxnSpPr>
            <p:spPr>
              <a:xfrm flipV="1">
                <a:off x="3192480" y="2835720"/>
                <a:ext cx="131040" cy="214200"/>
              </a:xfrm>
              <a:prstGeom prst="straightConnector1">
                <a:avLst/>
              </a:prstGeom>
              <a:ln w="12600">
                <a:solidFill>
                  <a:srgbClr val="000000"/>
                </a:solidFill>
                <a:miter/>
                <a:tailEnd len="lg" type="triangle" w="sm"/>
              </a:ln>
            </p:spPr>
          </p:cxnSp>
          <p:cxnSp>
            <p:nvCxnSpPr>
              <p:cNvPr id="5736" name=""/>
              <p:cNvCxnSpPr>
                <a:stCxn id="5730" idx="3"/>
                <a:endCxn id="5731" idx="1"/>
              </p:cNvCxnSpPr>
              <p:nvPr/>
            </p:nvCxnSpPr>
            <p:spPr>
              <a:xfrm>
                <a:off x="3386520" y="2762280"/>
                <a:ext cx="291960" cy="1080"/>
              </a:xfrm>
              <a:prstGeom prst="straightConnector1">
                <a:avLst/>
              </a:prstGeom>
              <a:ln w="12600">
                <a:solidFill>
                  <a:srgbClr val="000000"/>
                </a:solidFill>
                <a:miter/>
                <a:tailEnd len="lg" type="triangle" w="sm"/>
              </a:ln>
            </p:spPr>
          </p:cxnSp>
          <p:cxnSp>
            <p:nvCxnSpPr>
              <p:cNvPr id="5737" name=""/>
              <p:cNvCxnSpPr>
                <a:stCxn id="5729" idx="0"/>
                <a:endCxn id="5725" idx="2"/>
              </p:cNvCxnSpPr>
              <p:nvPr/>
            </p:nvCxnSpPr>
            <p:spPr>
              <a:xfrm flipV="1">
                <a:off x="3500280" y="3054240"/>
                <a:ext cx="178200" cy="141120"/>
              </a:xfrm>
              <a:prstGeom prst="straightConnector1">
                <a:avLst/>
              </a:prstGeom>
              <a:ln w="12600">
                <a:solidFill>
                  <a:srgbClr val="000000"/>
                </a:solidFill>
                <a:miter/>
                <a:tailEnd len="lg" type="triangle" w="sm"/>
              </a:ln>
            </p:spPr>
          </p:cxnSp>
          <p:cxnSp>
            <p:nvCxnSpPr>
              <p:cNvPr id="5738" name=""/>
              <p:cNvCxnSpPr>
                <a:stCxn id="5725" idx="0"/>
                <a:endCxn id="5731" idx="2"/>
              </p:cNvCxnSpPr>
              <p:nvPr/>
            </p:nvCxnSpPr>
            <p:spPr>
              <a:xfrm flipV="1">
                <a:off x="3677760" y="2799720"/>
                <a:ext cx="65520" cy="105840"/>
              </a:xfrm>
              <a:prstGeom prst="straightConnector1">
                <a:avLst/>
              </a:prstGeom>
              <a:ln w="12600">
                <a:solidFill>
                  <a:srgbClr val="000000"/>
                </a:solidFill>
                <a:miter/>
                <a:tailEnd len="lg" type="triangle" w="sm"/>
              </a:ln>
            </p:spPr>
          </p:cxnSp>
          <p:cxnSp>
            <p:nvCxnSpPr>
              <p:cNvPr id="5739" name=""/>
              <p:cNvCxnSpPr>
                <a:stCxn id="5729" idx="3"/>
              </p:cNvCxnSpPr>
              <p:nvPr/>
            </p:nvCxnSpPr>
            <p:spPr>
              <a:xfrm>
                <a:off x="3646440" y="3270240"/>
                <a:ext cx="226800" cy="72360"/>
              </a:xfrm>
              <a:prstGeom prst="straightConnector1">
                <a:avLst/>
              </a:prstGeom>
              <a:ln w="12600">
                <a:solidFill>
                  <a:srgbClr val="000000"/>
                </a:solidFill>
                <a:miter/>
                <a:tailEnd len="lg" type="triangle" w="sm"/>
              </a:ln>
            </p:spPr>
          </p:cxnSp>
          <p:cxnSp>
            <p:nvCxnSpPr>
              <p:cNvPr id="5740" name=""/>
              <p:cNvCxnSpPr>
                <a:stCxn id="5726" idx="3"/>
                <a:endCxn id="5725" idx="1"/>
              </p:cNvCxnSpPr>
              <p:nvPr/>
            </p:nvCxnSpPr>
            <p:spPr>
              <a:xfrm flipV="1">
                <a:off x="3257280" y="2980080"/>
                <a:ext cx="324360" cy="108720"/>
              </a:xfrm>
              <a:prstGeom prst="straightConnector1">
                <a:avLst/>
              </a:prstGeom>
              <a:ln w="12600">
                <a:solidFill>
                  <a:srgbClr val="000000"/>
                </a:solidFill>
                <a:miter/>
                <a:tailEnd len="lg" type="triangle" w="sm"/>
              </a:ln>
            </p:spPr>
          </p:cxnSp>
        </p:grpSp>
        <p:grpSp>
          <p:nvGrpSpPr>
            <p:cNvPr id="5741" name=""/>
            <p:cNvGrpSpPr/>
            <p:nvPr/>
          </p:nvGrpSpPr>
          <p:grpSpPr>
            <a:xfrm>
              <a:off x="567360" y="4338720"/>
              <a:ext cx="7663680" cy="305280"/>
              <a:chOff x="567360" y="4338720"/>
              <a:chExt cx="7663680" cy="305280"/>
            </a:xfrm>
          </p:grpSpPr>
          <p:sp>
            <p:nvSpPr>
              <p:cNvPr id="5742" name=""/>
              <p:cNvSpPr/>
              <p:nvPr/>
            </p:nvSpPr>
            <p:spPr>
              <a:xfrm>
                <a:off x="6812280" y="4338720"/>
                <a:ext cx="1418760" cy="305280"/>
              </a:xfrm>
              <a:prstGeom prst="rect">
                <a:avLst/>
              </a:prstGeom>
              <a:solidFill>
                <a:srgbClr val="ffffff"/>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resa D</a:t>
                </a:r>
                <a:endParaRPr b="0" lang="en-US" sz="2000" spc="-1" strike="noStrike">
                  <a:solidFill>
                    <a:srgbClr val="000000"/>
                  </a:solidFill>
                  <a:latin typeface="Arial"/>
                </a:endParaRPr>
              </a:p>
            </p:txBody>
          </p:sp>
          <p:sp>
            <p:nvSpPr>
              <p:cNvPr id="5743" name=""/>
              <p:cNvSpPr/>
              <p:nvPr/>
            </p:nvSpPr>
            <p:spPr>
              <a:xfrm>
                <a:off x="567360" y="4338720"/>
                <a:ext cx="1403640" cy="305280"/>
              </a:xfrm>
              <a:prstGeom prst="rect">
                <a:avLst/>
              </a:prstGeom>
              <a:solidFill>
                <a:srgbClr val="ffffff"/>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resa A</a:t>
                </a:r>
                <a:endParaRPr b="0" lang="en-US" sz="2000" spc="-1" strike="noStrike">
                  <a:solidFill>
                    <a:srgbClr val="000000"/>
                  </a:solidFill>
                  <a:latin typeface="Arial"/>
                </a:endParaRPr>
              </a:p>
            </p:txBody>
          </p:sp>
          <p:sp>
            <p:nvSpPr>
              <p:cNvPr id="5744" name=""/>
              <p:cNvSpPr/>
              <p:nvPr/>
            </p:nvSpPr>
            <p:spPr>
              <a:xfrm>
                <a:off x="2643840" y="4338720"/>
                <a:ext cx="1403640" cy="305280"/>
              </a:xfrm>
              <a:prstGeom prst="rect">
                <a:avLst/>
              </a:prstGeom>
              <a:solidFill>
                <a:srgbClr val="ffffff"/>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resa B</a:t>
                </a:r>
                <a:endParaRPr b="0" lang="en-US" sz="2000" spc="-1" strike="noStrike">
                  <a:solidFill>
                    <a:srgbClr val="000000"/>
                  </a:solidFill>
                  <a:latin typeface="Arial"/>
                </a:endParaRPr>
              </a:p>
            </p:txBody>
          </p:sp>
          <p:sp>
            <p:nvSpPr>
              <p:cNvPr id="5745" name=""/>
              <p:cNvSpPr/>
              <p:nvPr/>
            </p:nvSpPr>
            <p:spPr>
              <a:xfrm>
                <a:off x="4719960" y="4338720"/>
                <a:ext cx="1418760" cy="305280"/>
              </a:xfrm>
              <a:prstGeom prst="rect">
                <a:avLst/>
              </a:prstGeom>
              <a:solidFill>
                <a:srgbClr val="ffffff"/>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resa C</a:t>
                </a:r>
                <a:endParaRPr b="0" lang="en-US" sz="2000" spc="-1" strike="noStrike">
                  <a:solidFill>
                    <a:srgbClr val="000000"/>
                  </a:solidFill>
                  <a:latin typeface="Arial"/>
                </a:endParaRPr>
              </a:p>
            </p:txBody>
          </p:sp>
        </p:grpSp>
        <p:grpSp>
          <p:nvGrpSpPr>
            <p:cNvPr id="5746" name=""/>
            <p:cNvGrpSpPr/>
            <p:nvPr/>
          </p:nvGrpSpPr>
          <p:grpSpPr>
            <a:xfrm>
              <a:off x="2724120" y="4809960"/>
              <a:ext cx="1079640" cy="487440"/>
              <a:chOff x="2724120" y="4809960"/>
              <a:chExt cx="1079640" cy="487440"/>
            </a:xfrm>
          </p:grpSpPr>
          <p:sp>
            <p:nvSpPr>
              <p:cNvPr id="5747" name=""/>
              <p:cNvSpPr/>
              <p:nvPr/>
            </p:nvSpPr>
            <p:spPr>
              <a:xfrm>
                <a:off x="2724120" y="4809960"/>
                <a:ext cx="1079640" cy="487440"/>
              </a:xfrm>
              <a:prstGeom prst="rect">
                <a:avLst/>
              </a:prstGeom>
              <a:solidFill>
                <a:srgbClr val="ff9966"/>
              </a:solidFill>
              <a:ln w="324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748" name=""/>
              <p:cNvSpPr/>
              <p:nvPr/>
            </p:nvSpPr>
            <p:spPr>
              <a:xfrm>
                <a:off x="3141000" y="5076360"/>
                <a:ext cx="93600" cy="46440"/>
              </a:xfrm>
              <a:prstGeom prst="rect">
                <a:avLst/>
              </a:prstGeom>
              <a:solidFill>
                <a:srgbClr val="ccffff"/>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749" name=""/>
              <p:cNvSpPr/>
              <p:nvPr/>
            </p:nvSpPr>
            <p:spPr>
              <a:xfrm>
                <a:off x="2791440" y="5078520"/>
                <a:ext cx="162360" cy="1342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0" name=""/>
              <p:cNvSpPr/>
              <p:nvPr/>
            </p:nvSpPr>
            <p:spPr>
              <a:xfrm>
                <a:off x="2767320" y="4899240"/>
                <a:ext cx="139680" cy="91080"/>
              </a:xfrm>
              <a:prstGeom prst="rect">
                <a:avLst/>
              </a:prstGeom>
              <a:solidFill>
                <a:srgbClr val="cc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751" name=""/>
              <p:cNvSpPr/>
              <p:nvPr/>
            </p:nvSpPr>
            <p:spPr>
              <a:xfrm>
                <a:off x="3304800" y="5166000"/>
                <a:ext cx="210960" cy="91440"/>
              </a:xfrm>
              <a:prstGeom prst="rect">
                <a:avLst/>
              </a:prstGeom>
              <a:solidFill>
                <a:srgbClr val="cc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5752" name=""/>
              <p:cNvSpPr/>
              <p:nvPr/>
            </p:nvSpPr>
            <p:spPr>
              <a:xfrm>
                <a:off x="3234960" y="4855320"/>
                <a:ext cx="92520" cy="90360"/>
              </a:xfrm>
              <a:prstGeom prst="rect">
                <a:avLst/>
              </a:prstGeom>
              <a:solidFill>
                <a:srgbClr val="ff33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753" name=""/>
              <p:cNvSpPr/>
              <p:nvPr/>
            </p:nvSpPr>
            <p:spPr>
              <a:xfrm>
                <a:off x="3538800" y="4878000"/>
                <a:ext cx="93600" cy="45360"/>
              </a:xfrm>
              <a:prstGeom prst="rect">
                <a:avLst/>
              </a:prstGeom>
              <a:solidFill>
                <a:srgbClr val="cc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cxnSp>
            <p:nvCxnSpPr>
              <p:cNvPr id="5754" name=""/>
              <p:cNvCxnSpPr>
                <a:stCxn id="5750" idx="3"/>
                <a:endCxn id="5752" idx="1"/>
              </p:cNvCxnSpPr>
              <p:nvPr/>
            </p:nvCxnSpPr>
            <p:spPr>
              <a:xfrm flipV="1">
                <a:off x="2907360" y="4899960"/>
                <a:ext cx="328320" cy="45360"/>
              </a:xfrm>
              <a:prstGeom prst="straightConnector1">
                <a:avLst/>
              </a:prstGeom>
              <a:ln w="12600">
                <a:solidFill>
                  <a:srgbClr val="000000"/>
                </a:solidFill>
                <a:miter/>
                <a:tailEnd len="lg" type="triangle" w="sm"/>
              </a:ln>
            </p:spPr>
          </p:cxnSp>
          <p:cxnSp>
            <p:nvCxnSpPr>
              <p:cNvPr id="5755" name=""/>
              <p:cNvCxnSpPr>
                <a:stCxn id="5749" idx="3"/>
                <a:endCxn id="5748" idx="1"/>
              </p:cNvCxnSpPr>
              <p:nvPr/>
            </p:nvCxnSpPr>
            <p:spPr>
              <a:xfrm flipV="1">
                <a:off x="2953800" y="5099400"/>
                <a:ext cx="187560" cy="46080"/>
              </a:xfrm>
              <a:prstGeom prst="straightConnector1">
                <a:avLst/>
              </a:prstGeom>
              <a:ln w="12600">
                <a:solidFill>
                  <a:srgbClr val="000000"/>
                </a:solidFill>
                <a:miter/>
                <a:tailEnd len="lg" type="triangle" w="sm"/>
              </a:ln>
            </p:spPr>
          </p:cxnSp>
          <p:cxnSp>
            <p:nvCxnSpPr>
              <p:cNvPr id="5756" name=""/>
              <p:cNvCxnSpPr>
                <a:stCxn id="5748" idx="2"/>
                <a:endCxn id="5751" idx="1"/>
              </p:cNvCxnSpPr>
              <p:nvPr/>
            </p:nvCxnSpPr>
            <p:spPr>
              <a:xfrm>
                <a:off x="3188160" y="5122800"/>
                <a:ext cx="117360" cy="88920"/>
              </a:xfrm>
              <a:prstGeom prst="straightConnector1">
                <a:avLst/>
              </a:prstGeom>
              <a:ln w="12600">
                <a:solidFill>
                  <a:srgbClr val="000000"/>
                </a:solidFill>
                <a:miter/>
                <a:tailEnd len="lg" type="triangle" w="sm"/>
              </a:ln>
            </p:spPr>
          </p:cxnSp>
          <p:cxnSp>
            <p:nvCxnSpPr>
              <p:cNvPr id="5757" name=""/>
              <p:cNvCxnSpPr>
                <a:stCxn id="5748" idx="0"/>
                <a:endCxn id="5752" idx="2"/>
              </p:cNvCxnSpPr>
              <p:nvPr/>
            </p:nvCxnSpPr>
            <p:spPr>
              <a:xfrm flipV="1">
                <a:off x="3188160" y="4945680"/>
                <a:ext cx="94320" cy="131040"/>
              </a:xfrm>
              <a:prstGeom prst="straightConnector1">
                <a:avLst/>
              </a:prstGeom>
              <a:ln w="12600">
                <a:solidFill>
                  <a:srgbClr val="000000"/>
                </a:solidFill>
                <a:miter/>
                <a:tailEnd len="lg" type="triangle" w="sm"/>
              </a:ln>
            </p:spPr>
          </p:cxnSp>
          <p:cxnSp>
            <p:nvCxnSpPr>
              <p:cNvPr id="5758" name=""/>
              <p:cNvCxnSpPr>
                <a:stCxn id="5752" idx="3"/>
                <a:endCxn id="5753" idx="1"/>
              </p:cNvCxnSpPr>
              <p:nvPr/>
            </p:nvCxnSpPr>
            <p:spPr>
              <a:xfrm>
                <a:off x="3327840" y="4899960"/>
                <a:ext cx="211680" cy="1080"/>
              </a:xfrm>
              <a:prstGeom prst="straightConnector1">
                <a:avLst/>
              </a:prstGeom>
              <a:ln w="12600">
                <a:solidFill>
                  <a:srgbClr val="000000"/>
                </a:solidFill>
                <a:miter/>
                <a:tailEnd len="lg" type="triangle" w="sm"/>
              </a:ln>
            </p:spPr>
          </p:cxnSp>
          <p:cxnSp>
            <p:nvCxnSpPr>
              <p:cNvPr id="5759" name=""/>
              <p:cNvCxnSpPr>
                <a:stCxn id="5751" idx="0"/>
              </p:cNvCxnSpPr>
              <p:nvPr/>
            </p:nvCxnSpPr>
            <p:spPr>
              <a:xfrm flipV="1">
                <a:off x="3410280" y="5079240"/>
                <a:ext cx="128880" cy="87120"/>
              </a:xfrm>
              <a:prstGeom prst="straightConnector1">
                <a:avLst/>
              </a:prstGeom>
              <a:ln w="12600">
                <a:solidFill>
                  <a:srgbClr val="000000"/>
                </a:solidFill>
                <a:miter/>
                <a:tailEnd len="lg" type="triangle" w="sm"/>
              </a:ln>
            </p:spPr>
          </p:cxnSp>
          <p:cxnSp>
            <p:nvCxnSpPr>
              <p:cNvPr id="5760" name=""/>
              <p:cNvCxnSpPr>
                <a:stCxn id="5751" idx="3"/>
              </p:cNvCxnSpPr>
              <p:nvPr/>
            </p:nvCxnSpPr>
            <p:spPr>
              <a:xfrm>
                <a:off x="3516120" y="5211720"/>
                <a:ext cx="164160" cy="44640"/>
              </a:xfrm>
              <a:prstGeom prst="straightConnector1">
                <a:avLst/>
              </a:prstGeom>
              <a:ln w="12600">
                <a:solidFill>
                  <a:srgbClr val="000000"/>
                </a:solidFill>
                <a:miter/>
                <a:tailEnd len="lg" type="triangle" w="sm"/>
              </a:ln>
            </p:spPr>
          </p:cxnSp>
          <p:cxnSp>
            <p:nvCxnSpPr>
              <p:cNvPr id="5761" name=""/>
              <p:cNvCxnSpPr>
                <a:stCxn id="5748" idx="3"/>
              </p:cNvCxnSpPr>
              <p:nvPr/>
            </p:nvCxnSpPr>
            <p:spPr>
              <a:xfrm flipV="1">
                <a:off x="3234600" y="5032800"/>
                <a:ext cx="234360" cy="68040"/>
              </a:xfrm>
              <a:prstGeom prst="straightConnector1">
                <a:avLst/>
              </a:prstGeom>
              <a:ln w="12600">
                <a:solidFill>
                  <a:srgbClr val="000000"/>
                </a:solidFill>
                <a:miter/>
                <a:tailEnd len="lg" type="triangle" w="sm"/>
              </a:ln>
            </p:spPr>
          </p:cxnSp>
        </p:grpSp>
        <p:grpSp>
          <p:nvGrpSpPr>
            <p:cNvPr id="5762" name=""/>
            <p:cNvGrpSpPr/>
            <p:nvPr/>
          </p:nvGrpSpPr>
          <p:grpSpPr>
            <a:xfrm>
              <a:off x="4470480" y="4745160"/>
              <a:ext cx="1720440" cy="617400"/>
              <a:chOff x="4470480" y="4745160"/>
              <a:chExt cx="1720440" cy="617400"/>
            </a:xfrm>
          </p:grpSpPr>
          <p:sp>
            <p:nvSpPr>
              <p:cNvPr id="5763" name=""/>
              <p:cNvSpPr/>
              <p:nvPr/>
            </p:nvSpPr>
            <p:spPr>
              <a:xfrm>
                <a:off x="4470480" y="4745160"/>
                <a:ext cx="1720440" cy="617400"/>
              </a:xfrm>
              <a:prstGeom prst="rect">
                <a:avLst/>
              </a:prstGeom>
              <a:solidFill>
                <a:srgbClr val="ff9966"/>
              </a:solidFill>
              <a:ln w="324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764" name=""/>
              <p:cNvSpPr/>
              <p:nvPr/>
            </p:nvSpPr>
            <p:spPr>
              <a:xfrm>
                <a:off x="5657760" y="4970520"/>
                <a:ext cx="222840" cy="115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5" name=""/>
              <p:cNvSpPr/>
              <p:nvPr/>
            </p:nvSpPr>
            <p:spPr>
              <a:xfrm>
                <a:off x="5135040" y="5082840"/>
                <a:ext cx="149760" cy="58680"/>
              </a:xfrm>
              <a:prstGeom prst="rect">
                <a:avLst/>
              </a:prstGeom>
              <a:solidFill>
                <a:srgbClr val="cc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766" name=""/>
              <p:cNvSpPr/>
              <p:nvPr/>
            </p:nvSpPr>
            <p:spPr>
              <a:xfrm>
                <a:off x="4523400" y="5131800"/>
                <a:ext cx="314280" cy="1695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7" name=""/>
              <p:cNvSpPr/>
              <p:nvPr/>
            </p:nvSpPr>
            <p:spPr>
              <a:xfrm>
                <a:off x="4539960" y="4858560"/>
                <a:ext cx="222840" cy="1155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8" name=""/>
              <p:cNvSpPr/>
              <p:nvPr/>
            </p:nvSpPr>
            <p:spPr>
              <a:xfrm>
                <a:off x="5396400" y="5195880"/>
                <a:ext cx="335880" cy="115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9" name=""/>
              <p:cNvSpPr/>
              <p:nvPr/>
            </p:nvSpPr>
            <p:spPr>
              <a:xfrm>
                <a:off x="4916160" y="4794480"/>
                <a:ext cx="516960" cy="123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0" name=""/>
              <p:cNvSpPr/>
              <p:nvPr/>
            </p:nvSpPr>
            <p:spPr>
              <a:xfrm>
                <a:off x="5769360" y="4831200"/>
                <a:ext cx="273600" cy="11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771" name=""/>
              <p:cNvCxnSpPr>
                <a:stCxn id="5767" idx="3"/>
                <a:endCxn id="5769" idx="1"/>
              </p:cNvCxnSpPr>
              <p:nvPr/>
            </p:nvCxnSpPr>
            <p:spPr>
              <a:xfrm flipV="1">
                <a:off x="4762440" y="4855320"/>
                <a:ext cx="153360" cy="60840"/>
              </a:xfrm>
              <a:prstGeom prst="straightConnector1">
                <a:avLst/>
              </a:prstGeom>
              <a:ln w="12600">
                <a:solidFill>
                  <a:srgbClr val="000000"/>
                </a:solidFill>
                <a:miter/>
                <a:tailEnd len="lg" type="triangle" w="sm"/>
              </a:ln>
            </p:spPr>
          </p:cxnSp>
          <p:cxnSp>
            <p:nvCxnSpPr>
              <p:cNvPr id="5772" name=""/>
              <p:cNvCxnSpPr>
                <a:stCxn id="5766" idx="3"/>
                <a:endCxn id="5765" idx="1"/>
              </p:cNvCxnSpPr>
              <p:nvPr/>
            </p:nvCxnSpPr>
            <p:spPr>
              <a:xfrm flipV="1">
                <a:off x="4837680" y="5111280"/>
                <a:ext cx="298080" cy="105480"/>
              </a:xfrm>
              <a:prstGeom prst="straightConnector1">
                <a:avLst/>
              </a:prstGeom>
              <a:ln w="12600">
                <a:solidFill>
                  <a:srgbClr val="000000"/>
                </a:solidFill>
                <a:miter/>
                <a:tailEnd len="lg" type="triangle" w="sm"/>
              </a:ln>
            </p:spPr>
          </p:cxnSp>
          <p:cxnSp>
            <p:nvCxnSpPr>
              <p:cNvPr id="5773" name=""/>
              <p:cNvCxnSpPr>
                <a:stCxn id="5765" idx="2"/>
                <a:endCxn id="5768" idx="1"/>
              </p:cNvCxnSpPr>
              <p:nvPr/>
            </p:nvCxnSpPr>
            <p:spPr>
              <a:xfrm>
                <a:off x="5209920" y="5141520"/>
                <a:ext cx="186840" cy="112680"/>
              </a:xfrm>
              <a:prstGeom prst="straightConnector1">
                <a:avLst/>
              </a:prstGeom>
              <a:ln w="12600">
                <a:solidFill>
                  <a:srgbClr val="000000"/>
                </a:solidFill>
                <a:miter/>
                <a:tailEnd len="lg" type="triangle" w="sm"/>
              </a:ln>
            </p:spPr>
          </p:cxnSp>
          <p:cxnSp>
            <p:nvCxnSpPr>
              <p:cNvPr id="5774" name=""/>
              <p:cNvCxnSpPr>
                <a:stCxn id="5765" idx="0"/>
                <a:endCxn id="5769" idx="2"/>
              </p:cNvCxnSpPr>
              <p:nvPr/>
            </p:nvCxnSpPr>
            <p:spPr>
              <a:xfrm flipH="1" flipV="1">
                <a:off x="5175000" y="4917240"/>
                <a:ext cx="35280" cy="165600"/>
              </a:xfrm>
              <a:prstGeom prst="straightConnector1">
                <a:avLst/>
              </a:prstGeom>
              <a:ln w="12600">
                <a:solidFill>
                  <a:srgbClr val="000000"/>
                </a:solidFill>
                <a:miter/>
                <a:tailEnd len="lg" type="triangle" w="sm"/>
              </a:ln>
            </p:spPr>
          </p:cxnSp>
          <p:cxnSp>
            <p:nvCxnSpPr>
              <p:cNvPr id="5775" name=""/>
              <p:cNvCxnSpPr>
                <a:stCxn id="5769" idx="3"/>
                <a:endCxn id="5770" idx="1"/>
              </p:cNvCxnSpPr>
              <p:nvPr/>
            </p:nvCxnSpPr>
            <p:spPr>
              <a:xfrm>
                <a:off x="5433120" y="4855680"/>
                <a:ext cx="336600" cy="32760"/>
              </a:xfrm>
              <a:prstGeom prst="straightConnector1">
                <a:avLst/>
              </a:prstGeom>
              <a:ln w="12600">
                <a:solidFill>
                  <a:srgbClr val="000000"/>
                </a:solidFill>
                <a:miter/>
                <a:tailEnd len="lg" type="triangle" w="sm"/>
              </a:ln>
            </p:spPr>
          </p:cxnSp>
          <p:cxnSp>
            <p:nvCxnSpPr>
              <p:cNvPr id="5776" name=""/>
              <p:cNvCxnSpPr>
                <a:stCxn id="5768" idx="0"/>
                <a:endCxn id="5764" idx="2"/>
              </p:cNvCxnSpPr>
              <p:nvPr/>
            </p:nvCxnSpPr>
            <p:spPr>
              <a:xfrm flipV="1">
                <a:off x="5564880" y="5086080"/>
                <a:ext cx="205200" cy="110160"/>
              </a:xfrm>
              <a:prstGeom prst="straightConnector1">
                <a:avLst/>
              </a:prstGeom>
              <a:ln w="12600">
                <a:solidFill>
                  <a:srgbClr val="000000"/>
                </a:solidFill>
                <a:miter/>
                <a:tailEnd len="lg" type="triangle" w="sm"/>
              </a:ln>
            </p:spPr>
          </p:cxnSp>
          <p:cxnSp>
            <p:nvCxnSpPr>
              <p:cNvPr id="5777" name=""/>
              <p:cNvCxnSpPr>
                <a:stCxn id="5768" idx="3"/>
              </p:cNvCxnSpPr>
              <p:nvPr/>
            </p:nvCxnSpPr>
            <p:spPr>
              <a:xfrm>
                <a:off x="5732640" y="5253840"/>
                <a:ext cx="262080" cy="56160"/>
              </a:xfrm>
              <a:prstGeom prst="straightConnector1">
                <a:avLst/>
              </a:prstGeom>
              <a:ln w="12600">
                <a:solidFill>
                  <a:srgbClr val="000000"/>
                </a:solidFill>
                <a:miter/>
                <a:tailEnd len="lg" type="triangle" w="sm"/>
              </a:ln>
            </p:spPr>
          </p:cxnSp>
          <p:cxnSp>
            <p:nvCxnSpPr>
              <p:cNvPr id="5778" name=""/>
              <p:cNvCxnSpPr>
                <a:stCxn id="5765" idx="3"/>
                <a:endCxn id="5764" idx="1"/>
              </p:cNvCxnSpPr>
              <p:nvPr/>
            </p:nvCxnSpPr>
            <p:spPr>
              <a:xfrm flipV="1">
                <a:off x="5284800" y="5027760"/>
                <a:ext cx="373320" cy="85680"/>
              </a:xfrm>
              <a:prstGeom prst="straightConnector1">
                <a:avLst/>
              </a:prstGeom>
              <a:ln w="12600">
                <a:solidFill>
                  <a:srgbClr val="000000"/>
                </a:solidFill>
                <a:miter/>
                <a:tailEnd len="lg" type="triangle" w="sm"/>
              </a:ln>
            </p:spPr>
          </p:cxnSp>
          <p:sp>
            <p:nvSpPr>
              <p:cNvPr id="5779" name=""/>
              <p:cNvSpPr/>
              <p:nvPr/>
            </p:nvSpPr>
            <p:spPr>
              <a:xfrm>
                <a:off x="5833080" y="5088960"/>
                <a:ext cx="222840" cy="1155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0" name=""/>
              <p:cNvSpPr/>
              <p:nvPr/>
            </p:nvSpPr>
            <p:spPr>
              <a:xfrm>
                <a:off x="4715280" y="4976640"/>
                <a:ext cx="222840" cy="115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1" name=""/>
              <p:cNvSpPr/>
              <p:nvPr/>
            </p:nvSpPr>
            <p:spPr>
              <a:xfrm>
                <a:off x="5460480" y="4921200"/>
                <a:ext cx="147960" cy="114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2" name=""/>
              <p:cNvSpPr/>
              <p:nvPr/>
            </p:nvSpPr>
            <p:spPr>
              <a:xfrm>
                <a:off x="5635800" y="5039640"/>
                <a:ext cx="147600" cy="114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83" name=""/>
            <p:cNvGrpSpPr/>
            <p:nvPr/>
          </p:nvGrpSpPr>
          <p:grpSpPr>
            <a:xfrm>
              <a:off x="6905520" y="4694400"/>
              <a:ext cx="1293840" cy="758520"/>
              <a:chOff x="6905520" y="4694400"/>
              <a:chExt cx="1293840" cy="758520"/>
            </a:xfrm>
          </p:grpSpPr>
          <p:sp>
            <p:nvSpPr>
              <p:cNvPr id="5784" name=""/>
              <p:cNvSpPr/>
              <p:nvPr/>
            </p:nvSpPr>
            <p:spPr>
              <a:xfrm>
                <a:off x="6905520" y="4694400"/>
                <a:ext cx="1293840" cy="758520"/>
              </a:xfrm>
              <a:prstGeom prst="rect">
                <a:avLst/>
              </a:prstGeom>
              <a:solidFill>
                <a:srgbClr val="ff9966"/>
              </a:solidFill>
              <a:ln w="324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785" name=""/>
              <p:cNvSpPr/>
              <p:nvPr/>
            </p:nvSpPr>
            <p:spPr>
              <a:xfrm>
                <a:off x="7937280" y="4971240"/>
                <a:ext cx="193680" cy="142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6" name=""/>
              <p:cNvSpPr/>
              <p:nvPr/>
            </p:nvSpPr>
            <p:spPr>
              <a:xfrm>
                <a:off x="7483320" y="5109120"/>
                <a:ext cx="130320" cy="72360"/>
              </a:xfrm>
              <a:prstGeom prst="rect">
                <a:avLst/>
              </a:prstGeom>
              <a:solidFill>
                <a:srgbClr val="cc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5787" name=""/>
              <p:cNvSpPr/>
              <p:nvPr/>
            </p:nvSpPr>
            <p:spPr>
              <a:xfrm>
                <a:off x="6965640" y="4833720"/>
                <a:ext cx="193680" cy="142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8" name=""/>
              <p:cNvSpPr/>
              <p:nvPr/>
            </p:nvSpPr>
            <p:spPr>
              <a:xfrm>
                <a:off x="7710480" y="5248080"/>
                <a:ext cx="291960" cy="142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9" name=""/>
              <p:cNvSpPr/>
              <p:nvPr/>
            </p:nvSpPr>
            <p:spPr>
              <a:xfrm>
                <a:off x="7613640" y="4765680"/>
                <a:ext cx="188640" cy="276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0" name=""/>
              <p:cNvSpPr/>
              <p:nvPr/>
            </p:nvSpPr>
            <p:spPr>
              <a:xfrm>
                <a:off x="8034120" y="4800240"/>
                <a:ext cx="130320" cy="70920"/>
              </a:xfrm>
              <a:prstGeom prst="rect">
                <a:avLst/>
              </a:prstGeom>
              <a:solidFill>
                <a:srgbClr val="cc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cxnSp>
            <p:nvCxnSpPr>
              <p:cNvPr id="5791" name=""/>
              <p:cNvCxnSpPr>
                <a:stCxn id="5787" idx="3"/>
                <a:endCxn id="5789" idx="1"/>
              </p:cNvCxnSpPr>
              <p:nvPr/>
            </p:nvCxnSpPr>
            <p:spPr>
              <a:xfrm>
                <a:off x="7159320" y="4904280"/>
                <a:ext cx="455040" cy="1080"/>
              </a:xfrm>
              <a:prstGeom prst="straightConnector1">
                <a:avLst/>
              </a:prstGeom>
              <a:ln w="12600">
                <a:solidFill>
                  <a:srgbClr val="000000"/>
                </a:solidFill>
                <a:miter/>
                <a:tailEnd len="lg" type="triangle" w="sm"/>
              </a:ln>
            </p:spPr>
          </p:cxnSp>
          <p:cxnSp>
            <p:nvCxnSpPr>
              <p:cNvPr id="5792" name=""/>
              <p:cNvCxnSpPr>
                <a:endCxn id="5786" idx="1"/>
              </p:cNvCxnSpPr>
              <p:nvPr/>
            </p:nvCxnSpPr>
            <p:spPr>
              <a:xfrm flipV="1">
                <a:off x="7224120" y="5146920"/>
                <a:ext cx="259560" cy="137880"/>
              </a:xfrm>
              <a:prstGeom prst="straightConnector1">
                <a:avLst/>
              </a:prstGeom>
              <a:ln w="12600">
                <a:solidFill>
                  <a:srgbClr val="000000"/>
                </a:solidFill>
                <a:miter/>
                <a:tailEnd len="lg" type="triangle" w="sm"/>
              </a:ln>
            </p:spPr>
          </p:cxnSp>
          <p:cxnSp>
            <p:nvCxnSpPr>
              <p:cNvPr id="5793" name=""/>
              <p:cNvCxnSpPr>
                <a:stCxn id="5786" idx="2"/>
                <a:endCxn id="5788" idx="1"/>
              </p:cNvCxnSpPr>
              <p:nvPr/>
            </p:nvCxnSpPr>
            <p:spPr>
              <a:xfrm>
                <a:off x="7548480" y="5181120"/>
                <a:ext cx="162720" cy="138600"/>
              </a:xfrm>
              <a:prstGeom prst="straightConnector1">
                <a:avLst/>
              </a:prstGeom>
              <a:ln w="12600">
                <a:solidFill>
                  <a:srgbClr val="000000"/>
                </a:solidFill>
                <a:miter/>
                <a:tailEnd len="lg" type="triangle" w="sm"/>
              </a:ln>
            </p:spPr>
          </p:cxnSp>
          <p:cxnSp>
            <p:nvCxnSpPr>
              <p:cNvPr id="5794" name=""/>
              <p:cNvCxnSpPr>
                <a:stCxn id="5786" idx="0"/>
                <a:endCxn id="5789" idx="2"/>
              </p:cNvCxnSpPr>
              <p:nvPr/>
            </p:nvCxnSpPr>
            <p:spPr>
              <a:xfrm flipV="1">
                <a:off x="7548120" y="5042160"/>
                <a:ext cx="160920" cy="66960"/>
              </a:xfrm>
              <a:prstGeom prst="straightConnector1">
                <a:avLst/>
              </a:prstGeom>
              <a:ln w="12600">
                <a:solidFill>
                  <a:srgbClr val="000000"/>
                </a:solidFill>
                <a:miter/>
                <a:tailEnd len="lg" type="triangle" w="sm"/>
              </a:ln>
            </p:spPr>
          </p:cxnSp>
          <p:cxnSp>
            <p:nvCxnSpPr>
              <p:cNvPr id="5795" name=""/>
              <p:cNvCxnSpPr>
                <a:stCxn id="5788" idx="0"/>
                <a:endCxn id="5785" idx="2"/>
              </p:cNvCxnSpPr>
              <p:nvPr/>
            </p:nvCxnSpPr>
            <p:spPr>
              <a:xfrm flipV="1">
                <a:off x="7856280" y="5113080"/>
                <a:ext cx="178200" cy="135000"/>
              </a:xfrm>
              <a:prstGeom prst="straightConnector1">
                <a:avLst/>
              </a:prstGeom>
              <a:ln w="12600">
                <a:solidFill>
                  <a:srgbClr val="000000"/>
                </a:solidFill>
                <a:miter/>
                <a:tailEnd len="lg" type="triangle" w="sm"/>
              </a:ln>
            </p:spPr>
          </p:cxnSp>
          <p:cxnSp>
            <p:nvCxnSpPr>
              <p:cNvPr id="5796" name=""/>
              <p:cNvCxnSpPr>
                <a:stCxn id="5786" idx="3"/>
                <a:endCxn id="5785" idx="1"/>
              </p:cNvCxnSpPr>
              <p:nvPr/>
            </p:nvCxnSpPr>
            <p:spPr>
              <a:xfrm flipV="1">
                <a:off x="7613280" y="5041800"/>
                <a:ext cx="324360" cy="104760"/>
              </a:xfrm>
              <a:prstGeom prst="straightConnector1">
                <a:avLst/>
              </a:prstGeom>
              <a:ln w="12600">
                <a:solidFill>
                  <a:srgbClr val="000000"/>
                </a:solidFill>
                <a:miter/>
                <a:tailEnd len="lg" type="triangle" w="sm"/>
              </a:ln>
            </p:spPr>
          </p:cxnSp>
          <p:sp>
            <p:nvSpPr>
              <p:cNvPr id="5797" name=""/>
              <p:cNvSpPr/>
              <p:nvPr/>
            </p:nvSpPr>
            <p:spPr>
              <a:xfrm>
                <a:off x="7765920" y="4910760"/>
                <a:ext cx="189000" cy="276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8" name=""/>
              <p:cNvSpPr/>
              <p:nvPr/>
            </p:nvSpPr>
            <p:spPr>
              <a:xfrm>
                <a:off x="6980040" y="5146920"/>
                <a:ext cx="189000" cy="276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9" name=""/>
              <p:cNvSpPr/>
              <p:nvPr/>
            </p:nvSpPr>
            <p:spPr>
              <a:xfrm>
                <a:off x="7118280" y="4978800"/>
                <a:ext cx="193680" cy="142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0" name=""/>
              <p:cNvSpPr/>
              <p:nvPr/>
            </p:nvSpPr>
            <p:spPr>
              <a:xfrm>
                <a:off x="7270560" y="5124240"/>
                <a:ext cx="193680" cy="141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1" name=""/>
              <p:cNvSpPr/>
              <p:nvPr/>
            </p:nvSpPr>
            <p:spPr>
              <a:xfrm>
                <a:off x="7373880" y="4752000"/>
                <a:ext cx="188640" cy="276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2" name=""/>
              <p:cNvSpPr/>
              <p:nvPr/>
            </p:nvSpPr>
            <p:spPr>
              <a:xfrm>
                <a:off x="7422840" y="5269320"/>
                <a:ext cx="193680" cy="142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03" name=""/>
            <p:cNvSpPr/>
            <p:nvPr/>
          </p:nvSpPr>
          <p:spPr>
            <a:xfrm>
              <a:off x="2477520" y="3990960"/>
              <a:ext cx="4011120" cy="305280"/>
            </a:xfrm>
            <a:prstGeom prst="rect">
              <a:avLst/>
            </a:prstGeom>
            <a:solidFill>
              <a:srgbClr val="4d4d4d"/>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os de referência específic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o de Projeto</a:t>
            </a:r>
            <a:endParaRPr b="0" lang="en-US" sz="2400" spc="-1" strike="noStrike">
              <a:solidFill>
                <a:srgbClr val="000096"/>
              </a:solidFill>
              <a:latin typeface="Arial"/>
            </a:endParaRPr>
          </a:p>
        </p:txBody>
      </p:sp>
      <p:grpSp>
        <p:nvGrpSpPr>
          <p:cNvPr id="5805" name=""/>
          <p:cNvGrpSpPr/>
          <p:nvPr/>
        </p:nvGrpSpPr>
        <p:grpSpPr>
          <a:xfrm>
            <a:off x="152280" y="1397160"/>
            <a:ext cx="8834400" cy="460800"/>
            <a:chOff x="152280" y="1397160"/>
            <a:chExt cx="8834400" cy="460800"/>
          </a:xfrm>
        </p:grpSpPr>
        <p:sp>
          <p:nvSpPr>
            <p:cNvPr id="5806" name=""/>
            <p:cNvSpPr/>
            <p:nvPr/>
          </p:nvSpPr>
          <p:spPr>
            <a:xfrm>
              <a:off x="152280" y="1398240"/>
              <a:ext cx="315936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or</a:t>
              </a:r>
              <a:endParaRPr b="0" lang="en-US" sz="2400" spc="-1" strike="noStrike">
                <a:solidFill>
                  <a:srgbClr val="000000"/>
                </a:solidFill>
                <a:latin typeface="Arial"/>
              </a:endParaRPr>
            </a:p>
          </p:txBody>
        </p:sp>
        <p:sp>
          <p:nvSpPr>
            <p:cNvPr id="5807" name=""/>
            <p:cNvSpPr/>
            <p:nvPr/>
          </p:nvSpPr>
          <p:spPr>
            <a:xfrm>
              <a:off x="3309840" y="1397160"/>
              <a:ext cx="567684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bilidade</a:t>
              </a:r>
              <a:endParaRPr b="0" lang="en-US" sz="2400" spc="-1" strike="noStrike">
                <a:solidFill>
                  <a:srgbClr val="000000"/>
                </a:solidFill>
                <a:latin typeface="Arial"/>
              </a:endParaRPr>
            </a:p>
          </p:txBody>
        </p:sp>
      </p:grpSp>
      <p:sp>
        <p:nvSpPr>
          <p:cNvPr id="5808" name=""/>
          <p:cNvSpPr/>
          <p:nvPr/>
        </p:nvSpPr>
        <p:spPr>
          <a:xfrm>
            <a:off x="154080" y="1868400"/>
            <a:ext cx="3159000" cy="935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to Radical</a:t>
            </a:r>
            <a:endParaRPr b="0" lang="en-US" sz="2400" spc="-1" strike="noStrike">
              <a:solidFill>
                <a:srgbClr val="000000"/>
              </a:solidFill>
              <a:latin typeface="Arial"/>
            </a:endParaRPr>
          </a:p>
        </p:txBody>
      </p:sp>
      <p:sp>
        <p:nvSpPr>
          <p:cNvPr id="5809" name=""/>
          <p:cNvSpPr/>
          <p:nvPr/>
        </p:nvSpPr>
        <p:spPr>
          <a:xfrm>
            <a:off x="3311640" y="1862280"/>
            <a:ext cx="567684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mas é preciso considerar uma maior integração com o processo de P&amp;D</a:t>
            </a:r>
            <a:endParaRPr b="0" lang="en-US" sz="2000" spc="-1" strike="noStrike">
              <a:solidFill>
                <a:srgbClr val="000000"/>
              </a:solidFill>
              <a:latin typeface="Arial"/>
            </a:endParaRPr>
          </a:p>
        </p:txBody>
      </p:sp>
      <p:sp>
        <p:nvSpPr>
          <p:cNvPr id="5810" name=""/>
          <p:cNvSpPr/>
          <p:nvPr/>
        </p:nvSpPr>
        <p:spPr>
          <a:xfrm>
            <a:off x="152280" y="2805120"/>
            <a:ext cx="315936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to Plataforma</a:t>
            </a:r>
            <a:endParaRPr b="0" lang="en-US" sz="2400" spc="-1" strike="noStrike">
              <a:solidFill>
                <a:srgbClr val="000000"/>
              </a:solidFill>
              <a:latin typeface="Arial"/>
            </a:endParaRPr>
          </a:p>
        </p:txBody>
      </p:sp>
      <p:sp>
        <p:nvSpPr>
          <p:cNvPr id="5811" name=""/>
          <p:cNvSpPr/>
          <p:nvPr/>
        </p:nvSpPr>
        <p:spPr>
          <a:xfrm>
            <a:off x="3309840" y="2798640"/>
            <a:ext cx="5676840" cy="935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p:txBody>
      </p:sp>
      <p:sp>
        <p:nvSpPr>
          <p:cNvPr id="5812" name=""/>
          <p:cNvSpPr/>
          <p:nvPr/>
        </p:nvSpPr>
        <p:spPr>
          <a:xfrm>
            <a:off x="154080" y="4660920"/>
            <a:ext cx="315900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jeto </a:t>
            </a:r>
            <a:r>
              <a:rPr b="0" i="1" lang="pt-BR" sz="2400" spc="-1" strike="noStrike">
                <a:solidFill>
                  <a:srgbClr val="000000"/>
                </a:solidFill>
                <a:latin typeface="Arial"/>
              </a:rPr>
              <a:t>Follow Source</a:t>
            </a:r>
            <a:endParaRPr b="0" lang="en-US" sz="2400" spc="-1" strike="noStrike">
              <a:solidFill>
                <a:srgbClr val="000000"/>
              </a:solidFill>
              <a:latin typeface="Arial"/>
            </a:endParaRPr>
          </a:p>
        </p:txBody>
      </p:sp>
      <p:sp>
        <p:nvSpPr>
          <p:cNvPr id="5813" name=""/>
          <p:cNvSpPr/>
          <p:nvPr/>
        </p:nvSpPr>
        <p:spPr>
          <a:xfrm>
            <a:off x="3311640" y="4654440"/>
            <a:ext cx="5676840" cy="935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fases do projeto conceitual e derivado devem ser simplificadas</a:t>
            </a:r>
            <a:endParaRPr b="0" lang="en-US" sz="2000" spc="-1" strike="noStrike">
              <a:solidFill>
                <a:srgbClr val="000000"/>
              </a:solidFill>
              <a:latin typeface="Arial"/>
            </a:endParaRPr>
          </a:p>
        </p:txBody>
      </p:sp>
      <p:sp>
        <p:nvSpPr>
          <p:cNvPr id="5814" name=""/>
          <p:cNvSpPr/>
          <p:nvPr/>
        </p:nvSpPr>
        <p:spPr>
          <a:xfrm>
            <a:off x="154080" y="3714840"/>
            <a:ext cx="315900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to Derivado</a:t>
            </a:r>
            <a:endParaRPr b="0" lang="en-US" sz="2400" spc="-1" strike="noStrike">
              <a:solidFill>
                <a:srgbClr val="000000"/>
              </a:solidFill>
              <a:latin typeface="Arial"/>
            </a:endParaRPr>
          </a:p>
        </p:txBody>
      </p:sp>
      <p:sp>
        <p:nvSpPr>
          <p:cNvPr id="5815" name=""/>
          <p:cNvSpPr/>
          <p:nvPr/>
        </p:nvSpPr>
        <p:spPr>
          <a:xfrm>
            <a:off x="3311640" y="3708360"/>
            <a:ext cx="567684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fases iniciais do desenvolvimento podem ser simplifica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1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osição na cadeia de suprimento</a:t>
            </a:r>
            <a:endParaRPr b="0" lang="en-US" sz="2400" spc="-1" strike="noStrike">
              <a:solidFill>
                <a:srgbClr val="000096"/>
              </a:solidFill>
              <a:latin typeface="Arial"/>
            </a:endParaRPr>
          </a:p>
        </p:txBody>
      </p:sp>
      <p:sp>
        <p:nvSpPr>
          <p:cNvPr id="5817" name=""/>
          <p:cNvSpPr/>
          <p:nvPr/>
        </p:nvSpPr>
        <p:spPr>
          <a:xfrm>
            <a:off x="152280" y="568440"/>
            <a:ext cx="257976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or</a:t>
            </a:r>
            <a:endParaRPr b="0" lang="en-US" sz="2400" spc="-1" strike="noStrike">
              <a:solidFill>
                <a:srgbClr val="000000"/>
              </a:solidFill>
              <a:latin typeface="Arial"/>
            </a:endParaRPr>
          </a:p>
        </p:txBody>
      </p:sp>
      <p:sp>
        <p:nvSpPr>
          <p:cNvPr id="5818" name=""/>
          <p:cNvSpPr/>
          <p:nvPr/>
        </p:nvSpPr>
        <p:spPr>
          <a:xfrm>
            <a:off x="2730600" y="568440"/>
            <a:ext cx="625608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bilidade</a:t>
            </a:r>
            <a:endParaRPr b="0" lang="en-US" sz="2400" spc="-1" strike="noStrike">
              <a:solidFill>
                <a:srgbClr val="000000"/>
              </a:solidFill>
              <a:latin typeface="Arial"/>
            </a:endParaRPr>
          </a:p>
        </p:txBody>
      </p:sp>
      <p:grpSp>
        <p:nvGrpSpPr>
          <p:cNvPr id="5819" name=""/>
          <p:cNvGrpSpPr/>
          <p:nvPr/>
        </p:nvGrpSpPr>
        <p:grpSpPr>
          <a:xfrm>
            <a:off x="154080" y="1033560"/>
            <a:ext cx="8834400" cy="422280"/>
            <a:chOff x="154080" y="1033560"/>
            <a:chExt cx="8834400" cy="422280"/>
          </a:xfrm>
        </p:grpSpPr>
        <p:sp>
          <p:nvSpPr>
            <p:cNvPr id="5820" name=""/>
            <p:cNvSpPr/>
            <p:nvPr/>
          </p:nvSpPr>
          <p:spPr>
            <a:xfrm>
              <a:off x="154080" y="1033560"/>
              <a:ext cx="2579760" cy="422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ador</a:t>
              </a:r>
              <a:endParaRPr b="0" lang="en-US" sz="2400" spc="-1" strike="noStrike">
                <a:solidFill>
                  <a:srgbClr val="000000"/>
                </a:solidFill>
                <a:latin typeface="Arial"/>
              </a:endParaRPr>
            </a:p>
          </p:txBody>
        </p:sp>
        <p:sp>
          <p:nvSpPr>
            <p:cNvPr id="5821" name=""/>
            <p:cNvSpPr/>
            <p:nvPr/>
          </p:nvSpPr>
          <p:spPr>
            <a:xfrm>
              <a:off x="2732040" y="1033560"/>
              <a:ext cx="6256440" cy="422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p:txBody>
        </p:sp>
      </p:grpSp>
      <p:grpSp>
        <p:nvGrpSpPr>
          <p:cNvPr id="5822" name=""/>
          <p:cNvGrpSpPr/>
          <p:nvPr/>
        </p:nvGrpSpPr>
        <p:grpSpPr>
          <a:xfrm>
            <a:off x="152280" y="1436760"/>
            <a:ext cx="8834400" cy="1231920"/>
            <a:chOff x="152280" y="1436760"/>
            <a:chExt cx="8834400" cy="1231920"/>
          </a:xfrm>
        </p:grpSpPr>
        <p:sp>
          <p:nvSpPr>
            <p:cNvPr id="5823" name=""/>
            <p:cNvSpPr/>
            <p:nvPr/>
          </p:nvSpPr>
          <p:spPr>
            <a:xfrm>
              <a:off x="152280" y="1436760"/>
              <a:ext cx="2579760" cy="1231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dor de equipamento e ferramental</a:t>
              </a:r>
              <a:endParaRPr b="0" lang="en-US" sz="2400" spc="-1" strike="noStrike">
                <a:solidFill>
                  <a:srgbClr val="000000"/>
                </a:solidFill>
                <a:latin typeface="Arial"/>
              </a:endParaRPr>
            </a:p>
          </p:txBody>
        </p:sp>
        <p:sp>
          <p:nvSpPr>
            <p:cNvPr id="5824" name=""/>
            <p:cNvSpPr/>
            <p:nvPr/>
          </p:nvSpPr>
          <p:spPr>
            <a:xfrm>
              <a:off x="2730600" y="1436760"/>
              <a:ext cx="6256080" cy="1231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o caso de fornecimento de um mesmo produto para mais de um concorrente. No caso de fornecimento sob encomenda vale as mesmas recomendações que ETO.</a:t>
              </a:r>
              <a:endParaRPr b="0" lang="en-US" sz="2000" spc="-1" strike="noStrike">
                <a:solidFill>
                  <a:srgbClr val="000000"/>
                </a:solidFill>
                <a:latin typeface="Arial"/>
              </a:endParaRPr>
            </a:p>
          </p:txBody>
        </p:sp>
      </p:grpSp>
      <p:grpSp>
        <p:nvGrpSpPr>
          <p:cNvPr id="5825" name=""/>
          <p:cNvGrpSpPr/>
          <p:nvPr/>
        </p:nvGrpSpPr>
        <p:grpSpPr>
          <a:xfrm>
            <a:off x="154080" y="2631960"/>
            <a:ext cx="8834400" cy="934920"/>
            <a:chOff x="154080" y="2631960"/>
            <a:chExt cx="8834400" cy="934920"/>
          </a:xfrm>
        </p:grpSpPr>
        <p:sp>
          <p:nvSpPr>
            <p:cNvPr id="5826" name=""/>
            <p:cNvSpPr/>
            <p:nvPr/>
          </p:nvSpPr>
          <p:spPr>
            <a:xfrm>
              <a:off x="154080" y="2631960"/>
              <a:ext cx="257976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dor de primeiro nível</a:t>
              </a:r>
              <a:endParaRPr b="0" lang="en-US" sz="2400" spc="-1" strike="noStrike">
                <a:solidFill>
                  <a:srgbClr val="000000"/>
                </a:solidFill>
                <a:latin typeface="Arial"/>
              </a:endParaRPr>
            </a:p>
          </p:txBody>
        </p:sp>
        <p:sp>
          <p:nvSpPr>
            <p:cNvPr id="5827" name=""/>
            <p:cNvSpPr/>
            <p:nvPr/>
          </p:nvSpPr>
          <p:spPr>
            <a:xfrm>
              <a:off x="2732040" y="2631960"/>
              <a:ext cx="625644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se de lançamento do produto é praticamente eliminada, pois o contato com o montador é feito pelo cliente.</a:t>
              </a:r>
              <a:endParaRPr b="0" lang="en-US" sz="2000" spc="-1" strike="noStrike">
                <a:solidFill>
                  <a:srgbClr val="000000"/>
                </a:solidFill>
                <a:latin typeface="Arial"/>
              </a:endParaRPr>
            </a:p>
          </p:txBody>
        </p:sp>
      </p:grpSp>
      <p:grpSp>
        <p:nvGrpSpPr>
          <p:cNvPr id="5828" name=""/>
          <p:cNvGrpSpPr/>
          <p:nvPr/>
        </p:nvGrpSpPr>
        <p:grpSpPr>
          <a:xfrm>
            <a:off x="154080" y="3525840"/>
            <a:ext cx="8834400" cy="638280"/>
            <a:chOff x="154080" y="3525840"/>
            <a:chExt cx="8834400" cy="638280"/>
          </a:xfrm>
        </p:grpSpPr>
        <p:sp>
          <p:nvSpPr>
            <p:cNvPr id="5829" name=""/>
            <p:cNvSpPr/>
            <p:nvPr/>
          </p:nvSpPr>
          <p:spPr>
            <a:xfrm>
              <a:off x="154080" y="3525840"/>
              <a:ext cx="2579760" cy="63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dor de segundo nível</a:t>
              </a:r>
              <a:endParaRPr b="0" lang="en-US" sz="2400" spc="-1" strike="noStrike">
                <a:solidFill>
                  <a:srgbClr val="000000"/>
                </a:solidFill>
                <a:latin typeface="Arial"/>
              </a:endParaRPr>
            </a:p>
          </p:txBody>
        </p:sp>
        <p:sp>
          <p:nvSpPr>
            <p:cNvPr id="5830" name=""/>
            <p:cNvSpPr/>
            <p:nvPr/>
          </p:nvSpPr>
          <p:spPr>
            <a:xfrm>
              <a:off x="2732040" y="3525840"/>
              <a:ext cx="6256440" cy="63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m ao anterior. O modelo deve ser também simplificado.</a:t>
              </a:r>
              <a:endParaRPr b="0" lang="en-US" sz="2000" spc="-1" strike="noStrike">
                <a:solidFill>
                  <a:srgbClr val="000000"/>
                </a:solidFill>
                <a:latin typeface="Arial"/>
              </a:endParaRPr>
            </a:p>
          </p:txBody>
        </p:sp>
      </p:grpSp>
      <p:grpSp>
        <p:nvGrpSpPr>
          <p:cNvPr id="5831" name=""/>
          <p:cNvGrpSpPr/>
          <p:nvPr/>
        </p:nvGrpSpPr>
        <p:grpSpPr>
          <a:xfrm>
            <a:off x="154080" y="4159080"/>
            <a:ext cx="8834400" cy="673200"/>
            <a:chOff x="154080" y="4159080"/>
            <a:chExt cx="8834400" cy="673200"/>
          </a:xfrm>
        </p:grpSpPr>
        <p:sp>
          <p:nvSpPr>
            <p:cNvPr id="5832" name=""/>
            <p:cNvSpPr/>
            <p:nvPr/>
          </p:nvSpPr>
          <p:spPr>
            <a:xfrm>
              <a:off x="154080" y="4159080"/>
              <a:ext cx="2579760" cy="673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dor de commodities</a:t>
              </a:r>
              <a:endParaRPr b="0" lang="en-US" sz="2400" spc="-1" strike="noStrike">
                <a:solidFill>
                  <a:srgbClr val="000000"/>
                </a:solidFill>
                <a:latin typeface="Arial"/>
              </a:endParaRPr>
            </a:p>
          </p:txBody>
        </p:sp>
        <p:sp>
          <p:nvSpPr>
            <p:cNvPr id="5833" name=""/>
            <p:cNvSpPr/>
            <p:nvPr/>
          </p:nvSpPr>
          <p:spPr>
            <a:xfrm>
              <a:off x="2732040" y="4159080"/>
              <a:ext cx="6256440" cy="673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mas dependendo da complexidade deve ser simplificado.</a:t>
              </a:r>
              <a:endParaRPr b="0" lang="en-US" sz="2000" spc="-1" strike="noStrike">
                <a:solidFill>
                  <a:srgbClr val="000000"/>
                </a:solidFill>
                <a:latin typeface="Arial"/>
              </a:endParaRPr>
            </a:p>
          </p:txBody>
        </p:sp>
      </p:grpSp>
      <p:grpSp>
        <p:nvGrpSpPr>
          <p:cNvPr id="5834" name=""/>
          <p:cNvGrpSpPr/>
          <p:nvPr/>
        </p:nvGrpSpPr>
        <p:grpSpPr>
          <a:xfrm>
            <a:off x="154080" y="4809960"/>
            <a:ext cx="8834400" cy="746280"/>
            <a:chOff x="154080" y="4809960"/>
            <a:chExt cx="8834400" cy="746280"/>
          </a:xfrm>
        </p:grpSpPr>
        <p:sp>
          <p:nvSpPr>
            <p:cNvPr id="5835" name=""/>
            <p:cNvSpPr/>
            <p:nvPr/>
          </p:nvSpPr>
          <p:spPr>
            <a:xfrm>
              <a:off x="154080" y="4809960"/>
              <a:ext cx="2579760" cy="746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dor de matéria-prima</a:t>
              </a:r>
              <a:endParaRPr b="0" lang="en-US" sz="2400" spc="-1" strike="noStrike">
                <a:solidFill>
                  <a:srgbClr val="000000"/>
                </a:solidFill>
                <a:latin typeface="Arial"/>
              </a:endParaRPr>
            </a:p>
          </p:txBody>
        </p:sp>
        <p:sp>
          <p:nvSpPr>
            <p:cNvPr id="5836" name=""/>
            <p:cNvSpPr/>
            <p:nvPr/>
          </p:nvSpPr>
          <p:spPr>
            <a:xfrm>
              <a:off x="2732040" y="4809960"/>
              <a:ext cx="6256440" cy="746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cial, pois a natureza (tecnologia) do material pode exigir outros tipos de atividades</a:t>
              </a:r>
              <a:endParaRPr b="0" lang="en-US" sz="2000" spc="-1" strike="noStrike">
                <a:solidFill>
                  <a:srgbClr val="000000"/>
                </a:solidFill>
                <a:latin typeface="Arial"/>
              </a:endParaRPr>
            </a:p>
          </p:txBody>
        </p:sp>
      </p:grpSp>
      <p:grpSp>
        <p:nvGrpSpPr>
          <p:cNvPr id="5837" name=""/>
          <p:cNvGrpSpPr/>
          <p:nvPr/>
        </p:nvGrpSpPr>
        <p:grpSpPr>
          <a:xfrm>
            <a:off x="154080" y="5499000"/>
            <a:ext cx="8834400" cy="746280"/>
            <a:chOff x="154080" y="5499000"/>
            <a:chExt cx="8834400" cy="746280"/>
          </a:xfrm>
        </p:grpSpPr>
        <p:sp>
          <p:nvSpPr>
            <p:cNvPr id="5838" name=""/>
            <p:cNvSpPr/>
            <p:nvPr/>
          </p:nvSpPr>
          <p:spPr>
            <a:xfrm>
              <a:off x="154080" y="5499000"/>
              <a:ext cx="2579760" cy="746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dor de tecnologia</a:t>
              </a:r>
              <a:endParaRPr b="0" lang="en-US" sz="2400" spc="-1" strike="noStrike">
                <a:solidFill>
                  <a:srgbClr val="000000"/>
                </a:solidFill>
                <a:latin typeface="Arial"/>
              </a:endParaRPr>
            </a:p>
          </p:txBody>
        </p:sp>
        <p:sp>
          <p:nvSpPr>
            <p:cNvPr id="5839" name=""/>
            <p:cNvSpPr/>
            <p:nvPr/>
          </p:nvSpPr>
          <p:spPr>
            <a:xfrm>
              <a:off x="2732040" y="5499000"/>
              <a:ext cx="6256440" cy="746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 é diretamente aplicável, mas é bom que um fornecedor deste tipo conhecça o modelo para contribuir com o PDP de seus clientes</a:t>
              </a:r>
              <a:endParaRPr b="0" lang="en-US" sz="2000" spc="-1" strike="noStrike">
                <a:solidFill>
                  <a:srgbClr val="000000"/>
                </a:solidFill>
                <a:latin typeface="Arial"/>
              </a:endParaRPr>
            </a:p>
          </p:txBody>
        </p:sp>
      </p:grpSp>
      <p:grpSp>
        <p:nvGrpSpPr>
          <p:cNvPr id="5840" name=""/>
          <p:cNvGrpSpPr/>
          <p:nvPr/>
        </p:nvGrpSpPr>
        <p:grpSpPr>
          <a:xfrm>
            <a:off x="154080" y="6229440"/>
            <a:ext cx="8834400" cy="551880"/>
            <a:chOff x="154080" y="6229440"/>
            <a:chExt cx="8834400" cy="551880"/>
          </a:xfrm>
        </p:grpSpPr>
        <p:sp>
          <p:nvSpPr>
            <p:cNvPr id="5841" name=""/>
            <p:cNvSpPr/>
            <p:nvPr/>
          </p:nvSpPr>
          <p:spPr>
            <a:xfrm>
              <a:off x="154080" y="6229440"/>
              <a:ext cx="2579760" cy="551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dor de Serviços</a:t>
              </a:r>
              <a:endParaRPr b="0" lang="en-US" sz="2400" spc="-1" strike="noStrike">
                <a:solidFill>
                  <a:srgbClr val="000000"/>
                </a:solidFill>
                <a:latin typeface="Arial"/>
              </a:endParaRPr>
            </a:p>
          </p:txBody>
        </p:sp>
        <p:sp>
          <p:nvSpPr>
            <p:cNvPr id="5842" name=""/>
            <p:cNvSpPr/>
            <p:nvPr/>
          </p:nvSpPr>
          <p:spPr>
            <a:xfrm>
              <a:off x="2732400" y="6229440"/>
              <a:ext cx="6256080" cy="551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êntico ao fornecedor de tecnologi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Relacionamento na cadeia de suprimentos</a:t>
            </a:r>
            <a:endParaRPr b="0" lang="en-US" sz="2400" spc="-1" strike="noStrike">
              <a:solidFill>
                <a:srgbClr val="000096"/>
              </a:solidFill>
              <a:latin typeface="Arial"/>
            </a:endParaRPr>
          </a:p>
        </p:txBody>
      </p:sp>
      <p:grpSp>
        <p:nvGrpSpPr>
          <p:cNvPr id="5844" name=""/>
          <p:cNvGrpSpPr/>
          <p:nvPr/>
        </p:nvGrpSpPr>
        <p:grpSpPr>
          <a:xfrm>
            <a:off x="144360" y="1092240"/>
            <a:ext cx="8844120" cy="5157720"/>
            <a:chOff x="144360" y="1092240"/>
            <a:chExt cx="8844120" cy="5157720"/>
          </a:xfrm>
        </p:grpSpPr>
        <p:grpSp>
          <p:nvGrpSpPr>
            <p:cNvPr id="5845" name=""/>
            <p:cNvGrpSpPr/>
            <p:nvPr/>
          </p:nvGrpSpPr>
          <p:grpSpPr>
            <a:xfrm>
              <a:off x="152280" y="1092240"/>
              <a:ext cx="8834400" cy="460800"/>
              <a:chOff x="152280" y="1092240"/>
              <a:chExt cx="8834400" cy="460800"/>
            </a:xfrm>
          </p:grpSpPr>
          <p:sp>
            <p:nvSpPr>
              <p:cNvPr id="5846" name=""/>
              <p:cNvSpPr/>
              <p:nvPr/>
            </p:nvSpPr>
            <p:spPr>
              <a:xfrm>
                <a:off x="152280" y="1093320"/>
                <a:ext cx="315936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or</a:t>
                </a:r>
                <a:endParaRPr b="0" lang="en-US" sz="2400" spc="-1" strike="noStrike">
                  <a:solidFill>
                    <a:srgbClr val="000000"/>
                  </a:solidFill>
                  <a:latin typeface="Arial"/>
                </a:endParaRPr>
              </a:p>
            </p:txBody>
          </p:sp>
          <p:sp>
            <p:nvSpPr>
              <p:cNvPr id="5847" name=""/>
              <p:cNvSpPr/>
              <p:nvPr/>
            </p:nvSpPr>
            <p:spPr>
              <a:xfrm>
                <a:off x="3309840" y="1092240"/>
                <a:ext cx="567684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bilidade</a:t>
                </a:r>
                <a:endParaRPr b="0" lang="en-US" sz="2400" spc="-1" strike="noStrike">
                  <a:solidFill>
                    <a:srgbClr val="000000"/>
                  </a:solidFill>
                  <a:latin typeface="Arial"/>
                </a:endParaRPr>
              </a:p>
            </p:txBody>
          </p:sp>
        </p:grpSp>
        <p:sp>
          <p:nvSpPr>
            <p:cNvPr id="5848" name=""/>
            <p:cNvSpPr/>
            <p:nvPr/>
          </p:nvSpPr>
          <p:spPr>
            <a:xfrm>
              <a:off x="154080" y="1563480"/>
              <a:ext cx="3159000" cy="935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ceria de Risco</a:t>
              </a:r>
              <a:endParaRPr b="0" lang="en-US" sz="2400" spc="-1" strike="noStrike">
                <a:solidFill>
                  <a:srgbClr val="000000"/>
                </a:solidFill>
                <a:latin typeface="Arial"/>
              </a:endParaRPr>
            </a:p>
          </p:txBody>
        </p:sp>
        <p:sp>
          <p:nvSpPr>
            <p:cNvPr id="5849" name=""/>
            <p:cNvSpPr/>
            <p:nvPr/>
          </p:nvSpPr>
          <p:spPr>
            <a:xfrm>
              <a:off x="3311640" y="1557360"/>
              <a:ext cx="567684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p:txBody>
        </p:sp>
        <p:grpSp>
          <p:nvGrpSpPr>
            <p:cNvPr id="5850" name=""/>
            <p:cNvGrpSpPr/>
            <p:nvPr/>
          </p:nvGrpSpPr>
          <p:grpSpPr>
            <a:xfrm>
              <a:off x="154080" y="3894120"/>
              <a:ext cx="8834400" cy="482400"/>
              <a:chOff x="154080" y="3894120"/>
              <a:chExt cx="8834400" cy="482400"/>
            </a:xfrm>
          </p:grpSpPr>
          <p:sp>
            <p:nvSpPr>
              <p:cNvPr id="5851" name=""/>
              <p:cNvSpPr/>
              <p:nvPr/>
            </p:nvSpPr>
            <p:spPr>
              <a:xfrm>
                <a:off x="154080" y="3894120"/>
                <a:ext cx="3159000" cy="482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desenvolvedor</a:t>
                </a:r>
                <a:endParaRPr b="0" lang="en-US" sz="2400" spc="-1" strike="noStrike">
                  <a:solidFill>
                    <a:srgbClr val="000000"/>
                  </a:solidFill>
                  <a:latin typeface="Arial"/>
                </a:endParaRPr>
              </a:p>
            </p:txBody>
          </p:sp>
          <p:sp>
            <p:nvSpPr>
              <p:cNvPr id="5852" name=""/>
              <p:cNvSpPr/>
              <p:nvPr/>
            </p:nvSpPr>
            <p:spPr>
              <a:xfrm>
                <a:off x="3311640" y="3894120"/>
                <a:ext cx="5676840" cy="482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p:txBody>
          </p:sp>
        </p:grpSp>
        <p:sp>
          <p:nvSpPr>
            <p:cNvPr id="5853" name=""/>
            <p:cNvSpPr/>
            <p:nvPr/>
          </p:nvSpPr>
          <p:spPr>
            <a:xfrm>
              <a:off x="154080" y="4375080"/>
              <a:ext cx="315900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dor de serviços</a:t>
              </a:r>
              <a:endParaRPr b="0" lang="en-US" sz="2400" spc="-1" strike="noStrike">
                <a:solidFill>
                  <a:srgbClr val="000000"/>
                </a:solidFill>
                <a:latin typeface="Arial"/>
              </a:endParaRPr>
            </a:p>
          </p:txBody>
        </p:sp>
        <p:sp>
          <p:nvSpPr>
            <p:cNvPr id="5854" name=""/>
            <p:cNvSpPr/>
            <p:nvPr/>
          </p:nvSpPr>
          <p:spPr>
            <a:xfrm>
              <a:off x="3311640" y="4368600"/>
              <a:ext cx="5676840" cy="935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é aplicável, mas poderá utilizar o modelo para desenvolvimento de entrega do serviço.</a:t>
              </a:r>
              <a:endParaRPr b="0" lang="en-US" sz="2000" spc="-1" strike="noStrike">
                <a:solidFill>
                  <a:srgbClr val="000000"/>
                </a:solidFill>
                <a:latin typeface="Arial"/>
              </a:endParaRPr>
            </a:p>
          </p:txBody>
        </p:sp>
        <p:sp>
          <p:nvSpPr>
            <p:cNvPr id="5855" name=""/>
            <p:cNvSpPr/>
            <p:nvPr/>
          </p:nvSpPr>
          <p:spPr>
            <a:xfrm>
              <a:off x="144360" y="5314680"/>
              <a:ext cx="3159360" cy="935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dor de peças-padrão</a:t>
              </a:r>
              <a:endParaRPr b="0" lang="en-US" sz="2400" spc="-1" strike="noStrike">
                <a:solidFill>
                  <a:srgbClr val="000000"/>
                </a:solidFill>
                <a:latin typeface="Arial"/>
              </a:endParaRPr>
            </a:p>
          </p:txBody>
        </p:sp>
        <p:sp>
          <p:nvSpPr>
            <p:cNvPr id="5856" name=""/>
            <p:cNvSpPr/>
            <p:nvPr/>
          </p:nvSpPr>
          <p:spPr>
            <a:xfrm>
              <a:off x="3301920" y="5308560"/>
              <a:ext cx="567684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erá ser utilizado para criar um modelo específico onde as fases iniciais devem ser tremendamente simplificadas.</a:t>
              </a:r>
              <a:endParaRPr b="0" lang="en-US" sz="2000" spc="-1" strike="noStrike">
                <a:solidFill>
                  <a:srgbClr val="000000"/>
                </a:solidFill>
                <a:latin typeface="Arial"/>
              </a:endParaRPr>
            </a:p>
          </p:txBody>
        </p:sp>
        <p:sp>
          <p:nvSpPr>
            <p:cNvPr id="5857" name=""/>
            <p:cNvSpPr/>
            <p:nvPr/>
          </p:nvSpPr>
          <p:spPr>
            <a:xfrm>
              <a:off x="152280" y="2493720"/>
              <a:ext cx="3159360" cy="935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ceiro de Tecnologia</a:t>
              </a:r>
              <a:endParaRPr b="0" lang="en-US" sz="2400" spc="-1" strike="noStrike">
                <a:solidFill>
                  <a:srgbClr val="000000"/>
                </a:solidFill>
                <a:latin typeface="Arial"/>
              </a:endParaRPr>
            </a:p>
          </p:txBody>
        </p:sp>
        <p:sp>
          <p:nvSpPr>
            <p:cNvPr id="5858" name=""/>
            <p:cNvSpPr/>
            <p:nvPr/>
          </p:nvSpPr>
          <p:spPr>
            <a:xfrm>
              <a:off x="3311640" y="2493720"/>
              <a:ext cx="5676840" cy="935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 se preocupar com as atividades de prospecção tecnológica e de desenvolvimento, avaliação e testes de novas tecnologias</a:t>
              </a:r>
              <a:endParaRPr b="0" lang="en-US" sz="2000" spc="-1" strike="noStrike">
                <a:solidFill>
                  <a:srgbClr val="000000"/>
                </a:solidFill>
                <a:latin typeface="Arial"/>
              </a:endParaRPr>
            </a:p>
          </p:txBody>
        </p:sp>
        <p:grpSp>
          <p:nvGrpSpPr>
            <p:cNvPr id="5859" name=""/>
            <p:cNvGrpSpPr/>
            <p:nvPr/>
          </p:nvGrpSpPr>
          <p:grpSpPr>
            <a:xfrm>
              <a:off x="154080" y="3403440"/>
              <a:ext cx="8834400" cy="482760"/>
              <a:chOff x="154080" y="3403440"/>
              <a:chExt cx="8834400" cy="482760"/>
            </a:xfrm>
          </p:grpSpPr>
          <p:sp>
            <p:nvSpPr>
              <p:cNvPr id="5860" name=""/>
              <p:cNvSpPr/>
              <p:nvPr/>
            </p:nvSpPr>
            <p:spPr>
              <a:xfrm>
                <a:off x="154080" y="3403440"/>
                <a:ext cx="3159000" cy="482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ceria Estratégica</a:t>
                </a:r>
                <a:endParaRPr b="0" lang="en-US" sz="2400" spc="-1" strike="noStrike">
                  <a:solidFill>
                    <a:srgbClr val="000000"/>
                  </a:solidFill>
                  <a:latin typeface="Arial"/>
                </a:endParaRPr>
              </a:p>
            </p:txBody>
          </p:sp>
          <p:sp>
            <p:nvSpPr>
              <p:cNvPr id="5861" name=""/>
              <p:cNvSpPr/>
              <p:nvPr/>
            </p:nvSpPr>
            <p:spPr>
              <a:xfrm>
                <a:off x="3311640" y="3403440"/>
                <a:ext cx="5676840" cy="482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Estratégia de Produção</a:t>
            </a:r>
            <a:endParaRPr b="0" lang="en-US" sz="2400" spc="-1" strike="noStrike">
              <a:solidFill>
                <a:srgbClr val="000096"/>
              </a:solidFill>
              <a:latin typeface="Arial"/>
            </a:endParaRPr>
          </a:p>
        </p:txBody>
      </p:sp>
      <p:grpSp>
        <p:nvGrpSpPr>
          <p:cNvPr id="5863" name=""/>
          <p:cNvGrpSpPr/>
          <p:nvPr/>
        </p:nvGrpSpPr>
        <p:grpSpPr>
          <a:xfrm>
            <a:off x="152280" y="1073160"/>
            <a:ext cx="8836200" cy="4715640"/>
            <a:chOff x="152280" y="1073160"/>
            <a:chExt cx="8836200" cy="4715640"/>
          </a:xfrm>
        </p:grpSpPr>
        <p:grpSp>
          <p:nvGrpSpPr>
            <p:cNvPr id="5864" name=""/>
            <p:cNvGrpSpPr/>
            <p:nvPr/>
          </p:nvGrpSpPr>
          <p:grpSpPr>
            <a:xfrm>
              <a:off x="152280" y="1073160"/>
              <a:ext cx="8834400" cy="461160"/>
              <a:chOff x="152280" y="1073160"/>
              <a:chExt cx="8834400" cy="461160"/>
            </a:xfrm>
          </p:grpSpPr>
          <p:sp>
            <p:nvSpPr>
              <p:cNvPr id="5865" name=""/>
              <p:cNvSpPr/>
              <p:nvPr/>
            </p:nvSpPr>
            <p:spPr>
              <a:xfrm>
                <a:off x="152280" y="1074600"/>
                <a:ext cx="315936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or</a:t>
                </a:r>
                <a:endParaRPr b="0" lang="en-US" sz="2400" spc="-1" strike="noStrike">
                  <a:solidFill>
                    <a:srgbClr val="000000"/>
                  </a:solidFill>
                  <a:latin typeface="Arial"/>
                </a:endParaRPr>
              </a:p>
            </p:txBody>
          </p:sp>
          <p:sp>
            <p:nvSpPr>
              <p:cNvPr id="5866" name=""/>
              <p:cNvSpPr/>
              <p:nvPr/>
            </p:nvSpPr>
            <p:spPr>
              <a:xfrm>
                <a:off x="3309840" y="1073160"/>
                <a:ext cx="567684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bilidade</a:t>
                </a:r>
                <a:endParaRPr b="0" lang="en-US" sz="2400" spc="-1" strike="noStrike">
                  <a:solidFill>
                    <a:srgbClr val="000000"/>
                  </a:solidFill>
                  <a:latin typeface="Arial"/>
                </a:endParaRPr>
              </a:p>
            </p:txBody>
          </p:sp>
        </p:grpSp>
        <p:sp>
          <p:nvSpPr>
            <p:cNvPr id="5867" name=""/>
            <p:cNvSpPr/>
            <p:nvPr/>
          </p:nvSpPr>
          <p:spPr>
            <a:xfrm>
              <a:off x="154080" y="1544760"/>
              <a:ext cx="315900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ção MTS</a:t>
              </a:r>
              <a:endParaRPr b="0" lang="en-US" sz="2400" spc="-1" strike="noStrike">
                <a:solidFill>
                  <a:srgbClr val="000000"/>
                </a:solidFill>
                <a:latin typeface="Arial"/>
              </a:endParaRPr>
            </a:p>
          </p:txBody>
        </p:sp>
        <p:sp>
          <p:nvSpPr>
            <p:cNvPr id="5868" name=""/>
            <p:cNvSpPr/>
            <p:nvPr/>
          </p:nvSpPr>
          <p:spPr>
            <a:xfrm>
              <a:off x="3311640" y="1538280"/>
              <a:ext cx="567684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p:txBody>
        </p:sp>
        <p:grpSp>
          <p:nvGrpSpPr>
            <p:cNvPr id="5869" name=""/>
            <p:cNvGrpSpPr/>
            <p:nvPr/>
          </p:nvGrpSpPr>
          <p:grpSpPr>
            <a:xfrm>
              <a:off x="154080" y="3843360"/>
              <a:ext cx="8834400" cy="1945440"/>
              <a:chOff x="154080" y="3843360"/>
              <a:chExt cx="8834400" cy="1945440"/>
            </a:xfrm>
          </p:grpSpPr>
          <p:sp>
            <p:nvSpPr>
              <p:cNvPr id="5870" name=""/>
              <p:cNvSpPr/>
              <p:nvPr/>
            </p:nvSpPr>
            <p:spPr>
              <a:xfrm>
                <a:off x="154080" y="3855960"/>
                <a:ext cx="3159000" cy="19328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ção ETO</a:t>
                </a:r>
                <a:endParaRPr b="0" lang="en-US" sz="2400" spc="-1" strike="noStrike">
                  <a:solidFill>
                    <a:srgbClr val="000000"/>
                  </a:solidFill>
                  <a:latin typeface="Arial"/>
                </a:endParaRPr>
              </a:p>
            </p:txBody>
          </p:sp>
          <p:sp>
            <p:nvSpPr>
              <p:cNvPr id="5871" name=""/>
              <p:cNvSpPr/>
              <p:nvPr/>
            </p:nvSpPr>
            <p:spPr>
              <a:xfrm>
                <a:off x="3311640" y="3843360"/>
                <a:ext cx="5676840" cy="1932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pré-desenvolvimento terá que ser modificado. A fase de planejamento estratégico do produto é simplificada, pois a empresa tem menor poder de decisão diante da mais sofisticada e deverá incluir parte das atividades das fases do projeto informacional e de lançamento</a:t>
                </a:r>
                <a:endParaRPr b="0" lang="en-US" sz="2000" spc="-1" strike="noStrike">
                  <a:solidFill>
                    <a:srgbClr val="000000"/>
                  </a:solidFill>
                  <a:latin typeface="Arial"/>
                </a:endParaRPr>
              </a:p>
            </p:txBody>
          </p:sp>
        </p:grpSp>
        <p:sp>
          <p:nvSpPr>
            <p:cNvPr id="5872" name=""/>
            <p:cNvSpPr/>
            <p:nvPr/>
          </p:nvSpPr>
          <p:spPr>
            <a:xfrm>
              <a:off x="152280" y="2475000"/>
              <a:ext cx="315936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ção ATO</a:t>
              </a:r>
              <a:endParaRPr b="0" lang="en-US" sz="2400" spc="-1" strike="noStrike">
                <a:solidFill>
                  <a:srgbClr val="000000"/>
                </a:solidFill>
                <a:latin typeface="Arial"/>
              </a:endParaRPr>
            </a:p>
          </p:txBody>
        </p:sp>
        <p:sp>
          <p:nvSpPr>
            <p:cNvPr id="5873" name=""/>
            <p:cNvSpPr/>
            <p:nvPr/>
          </p:nvSpPr>
          <p:spPr>
            <a:xfrm>
              <a:off x="3311640" y="2475000"/>
              <a:ext cx="5676840" cy="934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 diferença está na forma como o produto é estruturado para facilitar esta estratégia)</a:t>
              </a:r>
              <a:endParaRPr b="0" lang="en-US" sz="2000" spc="-1" strike="noStrike">
                <a:solidFill>
                  <a:srgbClr val="000000"/>
                </a:solidFill>
                <a:latin typeface="Arial"/>
              </a:endParaRPr>
            </a:p>
          </p:txBody>
        </p:sp>
        <p:grpSp>
          <p:nvGrpSpPr>
            <p:cNvPr id="5874" name=""/>
            <p:cNvGrpSpPr/>
            <p:nvPr/>
          </p:nvGrpSpPr>
          <p:grpSpPr>
            <a:xfrm>
              <a:off x="154080" y="3384360"/>
              <a:ext cx="8834400" cy="482760"/>
              <a:chOff x="154080" y="3384360"/>
              <a:chExt cx="8834400" cy="482760"/>
            </a:xfrm>
          </p:grpSpPr>
          <p:sp>
            <p:nvSpPr>
              <p:cNvPr id="5875" name=""/>
              <p:cNvSpPr/>
              <p:nvPr/>
            </p:nvSpPr>
            <p:spPr>
              <a:xfrm>
                <a:off x="154080" y="3384360"/>
                <a:ext cx="3159000" cy="482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ção MTO</a:t>
                </a:r>
                <a:endParaRPr b="0" lang="en-US" sz="2400" spc="-1" strike="noStrike">
                  <a:solidFill>
                    <a:srgbClr val="000000"/>
                  </a:solidFill>
                  <a:latin typeface="Arial"/>
                </a:endParaRPr>
              </a:p>
            </p:txBody>
          </p:sp>
          <p:sp>
            <p:nvSpPr>
              <p:cNvPr id="5876" name=""/>
              <p:cNvSpPr/>
              <p:nvPr/>
            </p:nvSpPr>
            <p:spPr>
              <a:xfrm>
                <a:off x="3311640" y="3384360"/>
                <a:ext cx="5676840" cy="482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7" name=""/>
          <p:cNvSpPr/>
          <p:nvPr/>
        </p:nvSpPr>
        <p:spPr>
          <a:xfrm>
            <a:off x="5776920" y="5872320"/>
            <a:ext cx="3249720" cy="798480"/>
          </a:xfrm>
          <a:prstGeom prst="rightArrow">
            <a:avLst>
              <a:gd name="adj1" fmla="val 75269"/>
              <a:gd name="adj2" fmla="val 122454"/>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8" name=""/>
          <p:cNvSpPr/>
          <p:nvPr/>
        </p:nvSpPr>
        <p:spPr>
          <a:xfrm>
            <a:off x="903240" y="2657520"/>
            <a:ext cx="6469200" cy="2403360"/>
          </a:xfrm>
          <a:custGeom>
            <a:avLst/>
            <a:gdLst/>
            <a:ahLst/>
            <a:rect l="l" t="t" r="r" b="b"/>
            <a:pathLst>
              <a:path w="4128" h="1680">
                <a:moveTo>
                  <a:pt x="2256" y="1584"/>
                </a:moveTo>
                <a:lnTo>
                  <a:pt x="0" y="0"/>
                </a:lnTo>
                <a:lnTo>
                  <a:pt x="4128" y="672"/>
                </a:lnTo>
                <a:lnTo>
                  <a:pt x="3024" y="1680"/>
                </a:lnTo>
                <a:lnTo>
                  <a:pt x="2256" y="158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79" name=""/>
          <p:cNvGrpSpPr/>
          <p:nvPr/>
        </p:nvGrpSpPr>
        <p:grpSpPr>
          <a:xfrm>
            <a:off x="3610080" y="4511520"/>
            <a:ext cx="2620440" cy="1132200"/>
            <a:chOff x="3610080" y="4511520"/>
            <a:chExt cx="2620440" cy="1132200"/>
          </a:xfrm>
        </p:grpSpPr>
        <p:sp>
          <p:nvSpPr>
            <p:cNvPr id="5880" name=""/>
            <p:cNvSpPr/>
            <p:nvPr/>
          </p:nvSpPr>
          <p:spPr>
            <a:xfrm>
              <a:off x="3790080" y="5358960"/>
              <a:ext cx="2333880" cy="28476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1" name=""/>
            <p:cNvSpPr/>
            <p:nvPr/>
          </p:nvSpPr>
          <p:spPr>
            <a:xfrm>
              <a:off x="4251240" y="5259960"/>
              <a:ext cx="1800720" cy="28512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2" name=""/>
            <p:cNvSpPr/>
            <p:nvPr/>
          </p:nvSpPr>
          <p:spPr>
            <a:xfrm>
              <a:off x="3794400" y="4683600"/>
              <a:ext cx="2155680" cy="447840"/>
            </a:xfrm>
            <a:custGeom>
              <a:avLst/>
              <a:gdLst/>
              <a:ahLst/>
              <a:rect l="l" t="t" r="r" b="b"/>
              <a:pathLst>
                <a:path w="4593" h="1046">
                  <a:moveTo>
                    <a:pt x="771" y="20"/>
                  </a:moveTo>
                  <a:lnTo>
                    <a:pt x="0" y="1046"/>
                  </a:lnTo>
                  <a:lnTo>
                    <a:pt x="4593" y="1016"/>
                  </a:lnTo>
                  <a:lnTo>
                    <a:pt x="3302" y="0"/>
                  </a:lnTo>
                </a:path>
              </a:pathLst>
            </a:custGeom>
            <a:gradFill rotWithShape="0">
              <a:gsLst>
                <a:gs pos="0">
                  <a:srgbClr val="ffcc99"/>
                </a:gs>
                <a:gs pos="100000">
                  <a:srgbClr val="99ccff"/>
                </a:gs>
              </a:gsLst>
              <a:lin ang="10800000"/>
            </a:gradFill>
            <a:ln w="0">
              <a:noFill/>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nvGrpSpPr>
            <p:cNvPr id="5883" name=""/>
            <p:cNvGrpSpPr/>
            <p:nvPr/>
          </p:nvGrpSpPr>
          <p:grpSpPr>
            <a:xfrm>
              <a:off x="4221360" y="4511520"/>
              <a:ext cx="1225800" cy="80280"/>
              <a:chOff x="4221360" y="4511520"/>
              <a:chExt cx="1225800" cy="80280"/>
            </a:xfrm>
          </p:grpSpPr>
          <p:sp>
            <p:nvSpPr>
              <p:cNvPr id="5884" name=""/>
              <p:cNvSpPr/>
              <p:nvPr/>
            </p:nvSpPr>
            <p:spPr>
              <a:xfrm>
                <a:off x="4221360" y="4511520"/>
                <a:ext cx="1225800" cy="80280"/>
              </a:xfrm>
              <a:custGeom>
                <a:avLst/>
                <a:gdLst>
                  <a:gd name="textAreaLeft" fmla="*/ 0 w 1225800"/>
                  <a:gd name="textAreaRight" fmla="*/ 1226160 w 1225800"/>
                  <a:gd name="textAreaTop" fmla="*/ 0 h 80280"/>
                  <a:gd name="textAreaBottom" fmla="*/ 80640 h 8028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5" name=""/>
              <p:cNvSpPr/>
              <p:nvPr/>
            </p:nvSpPr>
            <p:spPr>
              <a:xfrm>
                <a:off x="4780800" y="4514760"/>
                <a:ext cx="60480" cy="73800"/>
              </a:xfrm>
              <a:prstGeom prst="rect">
                <a:avLst/>
              </a:prstGeom>
              <a:solidFill>
                <a:srgbClr val="ffff00"/>
              </a:solidFill>
              <a:ln w="0">
                <a:noFill/>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886" name=""/>
            <p:cNvGrpSpPr/>
            <p:nvPr/>
          </p:nvGrpSpPr>
          <p:grpSpPr>
            <a:xfrm>
              <a:off x="3834360" y="5079600"/>
              <a:ext cx="2081520" cy="145800"/>
              <a:chOff x="3834360" y="5079600"/>
              <a:chExt cx="2081520" cy="145800"/>
            </a:xfrm>
          </p:grpSpPr>
          <p:grpSp>
            <p:nvGrpSpPr>
              <p:cNvPr id="5887" name=""/>
              <p:cNvGrpSpPr/>
              <p:nvPr/>
            </p:nvGrpSpPr>
            <p:grpSpPr>
              <a:xfrm>
                <a:off x="4219200" y="5083200"/>
                <a:ext cx="1696680" cy="142200"/>
                <a:chOff x="4219200" y="5083200"/>
                <a:chExt cx="1696680" cy="142200"/>
              </a:xfrm>
            </p:grpSpPr>
            <p:sp>
              <p:nvSpPr>
                <p:cNvPr id="5888" name=""/>
                <p:cNvSpPr/>
                <p:nvPr/>
              </p:nvSpPr>
              <p:spPr>
                <a:xfrm>
                  <a:off x="4921920" y="5083200"/>
                  <a:ext cx="323640" cy="142200"/>
                </a:xfrm>
                <a:custGeom>
                  <a:avLst/>
                  <a:gdLst>
                    <a:gd name="textAreaLeft" fmla="*/ 0 w 323640"/>
                    <a:gd name="textAreaRight" fmla="*/ 324000 w 323640"/>
                    <a:gd name="textAreaTop" fmla="*/ 0 h 142200"/>
                    <a:gd name="textAreaBottom" fmla="*/ 142560 h 14220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9" name=""/>
                <p:cNvSpPr/>
                <p:nvPr/>
              </p:nvSpPr>
              <p:spPr>
                <a:xfrm>
                  <a:off x="4603320" y="5083200"/>
                  <a:ext cx="332640" cy="142200"/>
                </a:xfrm>
                <a:custGeom>
                  <a:avLst/>
                  <a:gdLst>
                    <a:gd name="textAreaLeft" fmla="*/ 0 w 332640"/>
                    <a:gd name="textAreaRight" fmla="*/ 333000 w 332640"/>
                    <a:gd name="textAreaTop" fmla="*/ 0 h 142200"/>
                    <a:gd name="textAreaBottom" fmla="*/ 142560 h 14220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0" name=""/>
                <p:cNvSpPr/>
                <p:nvPr/>
              </p:nvSpPr>
              <p:spPr>
                <a:xfrm>
                  <a:off x="4219200" y="5083200"/>
                  <a:ext cx="401760" cy="142200"/>
                </a:xfrm>
                <a:custGeom>
                  <a:avLst/>
                  <a:gdLst>
                    <a:gd name="textAreaLeft" fmla="*/ 0 w 401760"/>
                    <a:gd name="textAreaRight" fmla="*/ 402120 w 401760"/>
                    <a:gd name="textAreaTop" fmla="*/ 0 h 142200"/>
                    <a:gd name="textAreaBottom" fmla="*/ 142560 h 14220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1" name=""/>
                <p:cNvSpPr/>
                <p:nvPr/>
              </p:nvSpPr>
              <p:spPr>
                <a:xfrm>
                  <a:off x="5556960" y="5083200"/>
                  <a:ext cx="358920" cy="142200"/>
                </a:xfrm>
                <a:custGeom>
                  <a:avLst/>
                  <a:gdLst>
                    <a:gd name="textAreaLeft" fmla="*/ 0 w 358920"/>
                    <a:gd name="textAreaRight" fmla="*/ 359280 w 358920"/>
                    <a:gd name="textAreaTop" fmla="*/ 0 h 142200"/>
                    <a:gd name="textAreaBottom" fmla="*/ 142560 h 14220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2" name=""/>
                <p:cNvSpPr/>
                <p:nvPr/>
              </p:nvSpPr>
              <p:spPr>
                <a:xfrm>
                  <a:off x="5231160" y="5083200"/>
                  <a:ext cx="339120" cy="142200"/>
                </a:xfrm>
                <a:custGeom>
                  <a:avLst/>
                  <a:gdLst>
                    <a:gd name="textAreaLeft" fmla="*/ 0 w 339120"/>
                    <a:gd name="textAreaRight" fmla="*/ 339480 w 339120"/>
                    <a:gd name="textAreaTop" fmla="*/ 0 h 142200"/>
                    <a:gd name="textAreaBottom" fmla="*/ 142560 h 14220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3" name=""/>
              <p:cNvSpPr/>
              <p:nvPr/>
            </p:nvSpPr>
            <p:spPr>
              <a:xfrm>
                <a:off x="3834360" y="5079600"/>
                <a:ext cx="394560" cy="142560"/>
              </a:xfrm>
              <a:custGeom>
                <a:avLst/>
                <a:gdLst>
                  <a:gd name="textAreaLeft" fmla="*/ 0 w 394560"/>
                  <a:gd name="textAreaRight" fmla="*/ 394920 w 394560"/>
                  <a:gd name="textAreaTop" fmla="*/ 0 h 142560"/>
                  <a:gd name="textAreaBottom" fmla="*/ 142920 h 1425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4" name=""/>
            <p:cNvGrpSpPr/>
            <p:nvPr/>
          </p:nvGrpSpPr>
          <p:grpSpPr>
            <a:xfrm>
              <a:off x="5441040" y="4511880"/>
              <a:ext cx="784080" cy="80280"/>
              <a:chOff x="5441040" y="4511880"/>
              <a:chExt cx="784080" cy="80280"/>
            </a:xfrm>
          </p:grpSpPr>
          <p:sp>
            <p:nvSpPr>
              <p:cNvPr id="5895" name=""/>
              <p:cNvSpPr/>
              <p:nvPr/>
            </p:nvSpPr>
            <p:spPr>
              <a:xfrm>
                <a:off x="5441040" y="4511880"/>
                <a:ext cx="784080" cy="80280"/>
              </a:xfrm>
              <a:custGeom>
                <a:avLst/>
                <a:gdLst>
                  <a:gd name="textAreaLeft" fmla="*/ 0 w 784080"/>
                  <a:gd name="textAreaRight" fmla="*/ 784440 w 784080"/>
                  <a:gd name="textAreaTop" fmla="*/ 0 h 80280"/>
                  <a:gd name="textAreaBottom" fmla="*/ 80640 h 8028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96" name=""/>
              <p:cNvSpPr/>
              <p:nvPr/>
            </p:nvSpPr>
            <p:spPr>
              <a:xfrm>
                <a:off x="5811480" y="4521600"/>
                <a:ext cx="42120" cy="65880"/>
              </a:xfrm>
              <a:prstGeom prst="rect">
                <a:avLst/>
              </a:prstGeom>
              <a:noFill/>
              <a:ln w="0">
                <a:noFill/>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7" name=""/>
            <p:cNvSpPr/>
            <p:nvPr/>
          </p:nvSpPr>
          <p:spPr>
            <a:xfrm>
              <a:off x="5990760" y="4534560"/>
              <a:ext cx="77040" cy="30600"/>
            </a:xfrm>
            <a:prstGeom prst="rect">
              <a:avLst/>
            </a:prstGeom>
            <a:noFill/>
            <a:ln w="0">
              <a:noFill/>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nvGrpSpPr>
            <p:cNvPr id="5898" name=""/>
            <p:cNvGrpSpPr/>
            <p:nvPr/>
          </p:nvGrpSpPr>
          <p:grpSpPr>
            <a:xfrm>
              <a:off x="3610080" y="4511880"/>
              <a:ext cx="627840" cy="79920"/>
              <a:chOff x="3610080" y="4511880"/>
              <a:chExt cx="627840" cy="79920"/>
            </a:xfrm>
          </p:grpSpPr>
          <p:sp>
            <p:nvSpPr>
              <p:cNvPr id="5899" name=""/>
              <p:cNvSpPr/>
              <p:nvPr/>
            </p:nvSpPr>
            <p:spPr>
              <a:xfrm>
                <a:off x="3610080" y="4511880"/>
                <a:ext cx="627840" cy="79920"/>
              </a:xfrm>
              <a:custGeom>
                <a:avLst/>
                <a:gdLst>
                  <a:gd name="textAreaLeft" fmla="*/ 0 w 627840"/>
                  <a:gd name="textAreaRight" fmla="*/ 628200 w 627840"/>
                  <a:gd name="textAreaTop" fmla="*/ 0 h 79920"/>
                  <a:gd name="textAreaBottom" fmla="*/ 80280 h 7992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5900" name=""/>
              <p:cNvSpPr/>
              <p:nvPr/>
            </p:nvSpPr>
            <p:spPr>
              <a:xfrm>
                <a:off x="3903480" y="4521600"/>
                <a:ext cx="42120" cy="65880"/>
              </a:xfrm>
              <a:prstGeom prst="rect">
                <a:avLst/>
              </a:prstGeom>
              <a:noFill/>
              <a:ln w="0">
                <a:noFill/>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1" name=""/>
            <p:cNvSpPr/>
            <p:nvPr/>
          </p:nvSpPr>
          <p:spPr>
            <a:xfrm>
              <a:off x="3614040" y="4611600"/>
              <a:ext cx="394560" cy="212400"/>
            </a:xfrm>
            <a:custGeom>
              <a:avLst/>
              <a:gdLst>
                <a:gd name="textAreaLeft" fmla="*/ 0 w 394560"/>
                <a:gd name="textAreaRight" fmla="*/ 394920 w 394560"/>
                <a:gd name="textAreaTop" fmla="*/ 0 h 212400"/>
                <a:gd name="textAreaBottom" fmla="*/ 212760 h 21240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2" name=""/>
            <p:cNvGrpSpPr/>
            <p:nvPr/>
          </p:nvGrpSpPr>
          <p:grpSpPr>
            <a:xfrm>
              <a:off x="5382000" y="4606560"/>
              <a:ext cx="848520" cy="251640"/>
              <a:chOff x="5382000" y="4606560"/>
              <a:chExt cx="848520" cy="251640"/>
            </a:xfrm>
          </p:grpSpPr>
          <p:sp>
            <p:nvSpPr>
              <p:cNvPr id="5903" name=""/>
              <p:cNvSpPr/>
              <p:nvPr/>
            </p:nvSpPr>
            <p:spPr>
              <a:xfrm>
                <a:off x="5382000" y="4606560"/>
                <a:ext cx="371520" cy="223920"/>
              </a:xfrm>
              <a:custGeom>
                <a:avLst/>
                <a:gdLst>
                  <a:gd name="textAreaLeft" fmla="*/ 0 w 371520"/>
                  <a:gd name="textAreaRight" fmla="*/ 371880 w 371520"/>
                  <a:gd name="textAreaTop" fmla="*/ 0 h 223920"/>
                  <a:gd name="textAreaBottom" fmla="*/ 224280 h 2239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5904" name=""/>
              <p:cNvSpPr/>
              <p:nvPr/>
            </p:nvSpPr>
            <p:spPr>
              <a:xfrm>
                <a:off x="5753520" y="4606560"/>
                <a:ext cx="375480" cy="223920"/>
              </a:xfrm>
              <a:custGeom>
                <a:avLst/>
                <a:gdLst>
                  <a:gd name="textAreaLeft" fmla="*/ 0 w 375480"/>
                  <a:gd name="textAreaRight" fmla="*/ 375840 w 375480"/>
                  <a:gd name="textAreaTop" fmla="*/ 0 h 223920"/>
                  <a:gd name="textAreaBottom" fmla="*/ 224280 h 2239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5905" name=""/>
              <p:cNvSpPr/>
              <p:nvPr/>
            </p:nvSpPr>
            <p:spPr>
              <a:xfrm>
                <a:off x="5407200" y="4623480"/>
                <a:ext cx="374760" cy="223920"/>
              </a:xfrm>
              <a:custGeom>
                <a:avLst/>
                <a:gdLst>
                  <a:gd name="textAreaLeft" fmla="*/ 0 w 374760"/>
                  <a:gd name="textAreaRight" fmla="*/ 375120 w 374760"/>
                  <a:gd name="textAreaTop" fmla="*/ 0 h 223920"/>
                  <a:gd name="textAreaBottom" fmla="*/ 224280 h 2239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5906" name=""/>
              <p:cNvSpPr/>
              <p:nvPr/>
            </p:nvSpPr>
            <p:spPr>
              <a:xfrm>
                <a:off x="5787360" y="4623480"/>
                <a:ext cx="375480" cy="223920"/>
              </a:xfrm>
              <a:custGeom>
                <a:avLst/>
                <a:gdLst>
                  <a:gd name="textAreaLeft" fmla="*/ 0 w 375480"/>
                  <a:gd name="textAreaRight" fmla="*/ 375840 w 375480"/>
                  <a:gd name="textAreaTop" fmla="*/ 0 h 223920"/>
                  <a:gd name="textAreaBottom" fmla="*/ 224280 h 2239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5907" name=""/>
              <p:cNvSpPr/>
              <p:nvPr/>
            </p:nvSpPr>
            <p:spPr>
              <a:xfrm>
                <a:off x="5834160" y="4634280"/>
                <a:ext cx="396360" cy="223920"/>
              </a:xfrm>
              <a:custGeom>
                <a:avLst/>
                <a:gdLst>
                  <a:gd name="textAreaLeft" fmla="*/ 0 w 396360"/>
                  <a:gd name="textAreaRight" fmla="*/ 396720 w 396360"/>
                  <a:gd name="textAreaTop" fmla="*/ 0 h 223920"/>
                  <a:gd name="textAreaBottom" fmla="*/ 224280 h 22392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8" name=""/>
              <p:cNvSpPr/>
              <p:nvPr/>
            </p:nvSpPr>
            <p:spPr>
              <a:xfrm>
                <a:off x="5436360" y="4634280"/>
                <a:ext cx="414000" cy="223920"/>
              </a:xfrm>
              <a:custGeom>
                <a:avLst/>
                <a:gdLst>
                  <a:gd name="textAreaLeft" fmla="*/ 0 w 414000"/>
                  <a:gd name="textAreaRight" fmla="*/ 414360 w 414000"/>
                  <a:gd name="textAreaTop" fmla="*/ 0 h 223920"/>
                  <a:gd name="textAreaBottom" fmla="*/ 224280 h 22392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9" name=""/>
            <p:cNvGrpSpPr/>
            <p:nvPr/>
          </p:nvGrpSpPr>
          <p:grpSpPr>
            <a:xfrm>
              <a:off x="4272840" y="4602600"/>
              <a:ext cx="1064160" cy="109800"/>
              <a:chOff x="4272840" y="4602600"/>
              <a:chExt cx="1064160" cy="109800"/>
            </a:xfrm>
          </p:grpSpPr>
          <p:sp>
            <p:nvSpPr>
              <p:cNvPr id="5910" name=""/>
              <p:cNvSpPr/>
              <p:nvPr/>
            </p:nvSpPr>
            <p:spPr>
              <a:xfrm flipV="1">
                <a:off x="4272840" y="46022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1" name=""/>
              <p:cNvSpPr/>
              <p:nvPr/>
            </p:nvSpPr>
            <p:spPr>
              <a:xfrm flipV="1">
                <a:off x="4485960" y="46022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2" name=""/>
              <p:cNvSpPr/>
              <p:nvPr/>
            </p:nvSpPr>
            <p:spPr>
              <a:xfrm flipV="1">
                <a:off x="4699440" y="46022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3" name=""/>
              <p:cNvSpPr/>
              <p:nvPr/>
            </p:nvSpPr>
            <p:spPr>
              <a:xfrm flipV="1">
                <a:off x="4912560" y="46022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4" name=""/>
              <p:cNvSpPr/>
              <p:nvPr/>
            </p:nvSpPr>
            <p:spPr>
              <a:xfrm flipV="1">
                <a:off x="5126040" y="46022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15" name=""/>
            <p:cNvGrpSpPr/>
            <p:nvPr/>
          </p:nvGrpSpPr>
          <p:grpSpPr>
            <a:xfrm>
              <a:off x="4317840" y="4644000"/>
              <a:ext cx="1064160" cy="109800"/>
              <a:chOff x="4317840" y="4644000"/>
              <a:chExt cx="1064160" cy="109800"/>
            </a:xfrm>
          </p:grpSpPr>
          <p:sp>
            <p:nvSpPr>
              <p:cNvPr id="5916" name=""/>
              <p:cNvSpPr/>
              <p:nvPr/>
            </p:nvSpPr>
            <p:spPr>
              <a:xfrm flipV="1">
                <a:off x="4317840" y="46436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7" name=""/>
              <p:cNvSpPr/>
              <p:nvPr/>
            </p:nvSpPr>
            <p:spPr>
              <a:xfrm flipV="1">
                <a:off x="4530960" y="46436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8" name=""/>
              <p:cNvSpPr/>
              <p:nvPr/>
            </p:nvSpPr>
            <p:spPr>
              <a:xfrm flipV="1">
                <a:off x="4744440" y="46436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9" name=""/>
              <p:cNvSpPr/>
              <p:nvPr/>
            </p:nvSpPr>
            <p:spPr>
              <a:xfrm flipV="1">
                <a:off x="4957560" y="46436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0" name=""/>
              <p:cNvSpPr/>
              <p:nvPr/>
            </p:nvSpPr>
            <p:spPr>
              <a:xfrm flipV="1">
                <a:off x="5171040" y="464364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1" name=""/>
            <p:cNvGrpSpPr/>
            <p:nvPr/>
          </p:nvGrpSpPr>
          <p:grpSpPr>
            <a:xfrm>
              <a:off x="4362840" y="4685040"/>
              <a:ext cx="1064160" cy="109800"/>
              <a:chOff x="4362840" y="4685040"/>
              <a:chExt cx="1064160" cy="109800"/>
            </a:xfrm>
          </p:grpSpPr>
          <p:sp>
            <p:nvSpPr>
              <p:cNvPr id="5922" name=""/>
              <p:cNvSpPr/>
              <p:nvPr/>
            </p:nvSpPr>
            <p:spPr>
              <a:xfrm flipV="1">
                <a:off x="4362840" y="468468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3" name=""/>
              <p:cNvSpPr/>
              <p:nvPr/>
            </p:nvSpPr>
            <p:spPr>
              <a:xfrm flipV="1">
                <a:off x="4575960" y="468468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4" name=""/>
              <p:cNvSpPr/>
              <p:nvPr/>
            </p:nvSpPr>
            <p:spPr>
              <a:xfrm flipV="1">
                <a:off x="4789440" y="468468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5" name=""/>
              <p:cNvSpPr/>
              <p:nvPr/>
            </p:nvSpPr>
            <p:spPr>
              <a:xfrm flipV="1">
                <a:off x="5002560" y="468468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6" name=""/>
              <p:cNvSpPr/>
              <p:nvPr/>
            </p:nvSpPr>
            <p:spPr>
              <a:xfrm flipV="1">
                <a:off x="5216040" y="4684680"/>
                <a:ext cx="210960" cy="109800"/>
              </a:xfrm>
              <a:custGeom>
                <a:avLst/>
                <a:gdLst>
                  <a:gd name="textAreaLeft" fmla="*/ 0 w 210960"/>
                  <a:gd name="textAreaRight" fmla="*/ 211320 w 210960"/>
                  <a:gd name="textAreaTop" fmla="*/ -360 h 109800"/>
                  <a:gd name="textAreaBottom" fmla="*/ 109800 h 10980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7" name=""/>
            <p:cNvGrpSpPr/>
            <p:nvPr/>
          </p:nvGrpSpPr>
          <p:grpSpPr>
            <a:xfrm>
              <a:off x="4021920" y="4614120"/>
              <a:ext cx="280800" cy="181080"/>
              <a:chOff x="4021920" y="4614120"/>
              <a:chExt cx="280800" cy="181080"/>
            </a:xfrm>
          </p:grpSpPr>
          <p:sp>
            <p:nvSpPr>
              <p:cNvPr id="5928" name=""/>
              <p:cNvSpPr/>
              <p:nvPr/>
            </p:nvSpPr>
            <p:spPr>
              <a:xfrm>
                <a:off x="4021920" y="4614120"/>
                <a:ext cx="190800" cy="98640"/>
              </a:xfrm>
              <a:custGeom>
                <a:avLst/>
                <a:gdLst>
                  <a:gd name="textAreaLeft" fmla="*/ 0 w 190800"/>
                  <a:gd name="textAreaRight" fmla="*/ 191160 w 190800"/>
                  <a:gd name="textAreaTop" fmla="*/ 0 h 98640"/>
                  <a:gd name="textAreaBottom" fmla="*/ 99000 h 986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9" name=""/>
              <p:cNvSpPr/>
              <p:nvPr/>
            </p:nvSpPr>
            <p:spPr>
              <a:xfrm>
                <a:off x="4066920" y="4655160"/>
                <a:ext cx="190800" cy="99000"/>
              </a:xfrm>
              <a:custGeom>
                <a:avLst/>
                <a:gdLst>
                  <a:gd name="textAreaLeft" fmla="*/ 0 w 190800"/>
                  <a:gd name="textAreaRight" fmla="*/ 191160 w 190800"/>
                  <a:gd name="textAreaTop" fmla="*/ 0 h 99000"/>
                  <a:gd name="textAreaBottom" fmla="*/ 99360 h 990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0" name=""/>
              <p:cNvSpPr/>
              <p:nvPr/>
            </p:nvSpPr>
            <p:spPr>
              <a:xfrm>
                <a:off x="4111920" y="4696200"/>
                <a:ext cx="190800" cy="99000"/>
              </a:xfrm>
              <a:custGeom>
                <a:avLst/>
                <a:gdLst>
                  <a:gd name="textAreaLeft" fmla="*/ 0 w 190800"/>
                  <a:gd name="textAreaRight" fmla="*/ 191160 w 190800"/>
                  <a:gd name="textAreaTop" fmla="*/ 0 h 99000"/>
                  <a:gd name="textAreaBottom" fmla="*/ 99360 h 990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1" name=""/>
            <p:cNvSpPr/>
            <p:nvPr/>
          </p:nvSpPr>
          <p:spPr>
            <a:xfrm>
              <a:off x="3641760" y="4901040"/>
              <a:ext cx="289800" cy="65880"/>
            </a:xfrm>
            <a:prstGeom prst="rect">
              <a:avLst/>
            </a:prstGeom>
            <a:noFill/>
            <a:ln w="0">
              <a:noFill/>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2" name=""/>
          <p:cNvSpPr/>
          <p:nvPr/>
        </p:nvSpPr>
        <p:spPr>
          <a:xfrm>
            <a:off x="5915160" y="6049800"/>
            <a:ext cx="2406600" cy="487800"/>
          </a:xfrm>
          <a:prstGeom prst="rect">
            <a:avLst/>
          </a:prstGeom>
          <a:solidFill>
            <a:srgbClr val="ffffff"/>
          </a:solidFill>
          <a:ln w="3240">
            <a:solidFill>
              <a:srgbClr val="000000"/>
            </a:solidFill>
            <a:miter/>
          </a:ln>
        </p:spPr>
        <p:style>
          <a:lnRef idx="0"/>
          <a:fillRef idx="0"/>
          <a:effectRef idx="0"/>
          <a:fontRef idx="minor"/>
        </p:style>
        <p:txBody>
          <a:bodyPr lIns="72000" rIns="72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izando o modelo</a:t>
            </a:r>
            <a:endParaRPr b="0" lang="en-US" sz="2000" spc="-1" strike="noStrike">
              <a:solidFill>
                <a:srgbClr val="000000"/>
              </a:solidFill>
              <a:latin typeface="Arial"/>
            </a:endParaRPr>
          </a:p>
        </p:txBody>
      </p:sp>
      <p:sp>
        <p:nvSpPr>
          <p:cNvPr id="5933" name=""/>
          <p:cNvSpPr/>
          <p:nvPr/>
        </p:nvSpPr>
        <p:spPr>
          <a:xfrm>
            <a:off x="138240" y="5473800"/>
            <a:ext cx="3848040" cy="1373040"/>
          </a:xfrm>
          <a:prstGeom prst="rightArrow">
            <a:avLst>
              <a:gd name="adj1" fmla="val 75148"/>
              <a:gd name="adj2" fmla="val 10078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4" name=""/>
          <p:cNvSpPr/>
          <p:nvPr/>
        </p:nvSpPr>
        <p:spPr>
          <a:xfrm>
            <a:off x="199800" y="5816520"/>
            <a:ext cx="3032640" cy="30528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itos de modelagem</a:t>
            </a:r>
            <a:endParaRPr b="0" lang="en-US" sz="2000" spc="-1" strike="noStrike">
              <a:solidFill>
                <a:srgbClr val="000000"/>
              </a:solidFill>
              <a:latin typeface="Arial"/>
            </a:endParaRPr>
          </a:p>
        </p:txBody>
      </p:sp>
      <p:sp>
        <p:nvSpPr>
          <p:cNvPr id="5935" name=""/>
          <p:cNvSpPr/>
          <p:nvPr/>
        </p:nvSpPr>
        <p:spPr>
          <a:xfrm>
            <a:off x="201600" y="6159600"/>
            <a:ext cx="2976480" cy="30528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ão do conhecimento</a:t>
            </a:r>
            <a:endParaRPr b="0" lang="en-US" sz="2000" spc="-1" strike="noStrike">
              <a:solidFill>
                <a:srgbClr val="000000"/>
              </a:solidFill>
              <a:latin typeface="Arial"/>
            </a:endParaRPr>
          </a:p>
        </p:txBody>
      </p:sp>
      <p:sp>
        <p:nvSpPr>
          <p:cNvPr id="5936" name=""/>
          <p:cNvSpPr/>
          <p:nvPr/>
        </p:nvSpPr>
        <p:spPr>
          <a:xfrm>
            <a:off x="0" y="4579920"/>
            <a:ext cx="300816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Conceitos Básicos sobre DP e Modelagem</a:t>
            </a:r>
            <a:endParaRPr b="0" lang="en-US" sz="2400" spc="-1" strike="noStrike">
              <a:solidFill>
                <a:srgbClr val="000000"/>
              </a:solidFill>
              <a:latin typeface="Arial"/>
            </a:endParaRPr>
          </a:p>
        </p:txBody>
      </p:sp>
      <p:pic>
        <p:nvPicPr>
          <p:cNvPr id="5937" name="PEOPLE05" descr=""/>
          <p:cNvPicPr/>
          <p:nvPr/>
        </p:nvPicPr>
        <p:blipFill>
          <a:blip r:embed="rId1"/>
          <a:stretch/>
        </p:blipFill>
        <p:spPr>
          <a:xfrm>
            <a:off x="3686040" y="4913280"/>
            <a:ext cx="2934000" cy="1933560"/>
          </a:xfrm>
          <a:prstGeom prst="rect">
            <a:avLst/>
          </a:prstGeom>
          <a:ln w="0">
            <a:noFill/>
          </a:ln>
        </p:spPr>
      </p:pic>
      <p:sp>
        <p:nvSpPr>
          <p:cNvPr id="5938" name=""/>
          <p:cNvSpPr/>
          <p:nvPr/>
        </p:nvSpPr>
        <p:spPr>
          <a:xfrm>
            <a:off x="5313240" y="4729320"/>
            <a:ext cx="2106720" cy="1803240"/>
          </a:xfrm>
          <a:custGeom>
            <a:avLst/>
            <a:gdLst>
              <a:gd name="textAreaLeft" fmla="*/ 0 w 2106720"/>
              <a:gd name="textAreaRight" fmla="*/ 2107080 w 2106720"/>
              <a:gd name="textAreaTop" fmla="*/ 0 h 1803240"/>
              <a:gd name="textAreaBottom" fmla="*/ 1803600 h 1803240"/>
            </a:gdLst>
            <a:ahLst/>
            <a:rect l="textAreaLeft" t="textAreaTop" r="textAreaRight" b="textAreaBottom"/>
            <a:pathLst>
              <a:path w="21600" h="21600">
                <a:moveTo>
                  <a:pt x="5300" y="10800"/>
                </a:moveTo>
                <a:arcTo wR="-5500" hR="-5500" stAng="-10800000" swAng="-5476269"/>
                <a:lnTo>
                  <a:pt x="10560" y="3"/>
                </a:lnTo>
                <a:arcTo wR="10800" hR="10800" stAng="-5476269" swAng="5476269"/>
                <a:lnTo>
                  <a:pt x="24300" y="10800"/>
                </a:lnTo>
                <a:lnTo>
                  <a:pt x="18950" y="16150"/>
                </a:lnTo>
                <a:lnTo>
                  <a:pt x="13600"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9" name=""/>
          <p:cNvSpPr/>
          <p:nvPr/>
        </p:nvSpPr>
        <p:spPr>
          <a:xfrm>
            <a:off x="4062240" y="735120"/>
            <a:ext cx="4662720" cy="2952720"/>
          </a:xfrm>
          <a:custGeom>
            <a:avLst/>
            <a:gdLst/>
            <a:ahLst/>
            <a:rect l="l" t="t" r="r" b="b"/>
            <a:pathLst>
              <a:path w="2976" h="2064">
                <a:moveTo>
                  <a:pt x="0" y="912"/>
                </a:moveTo>
                <a:lnTo>
                  <a:pt x="1248" y="0"/>
                </a:lnTo>
                <a:lnTo>
                  <a:pt x="2976" y="2064"/>
                </a:lnTo>
                <a:lnTo>
                  <a:pt x="1248" y="2016"/>
                </a:lnTo>
                <a:lnTo>
                  <a:pt x="0" y="1920"/>
                </a:lnTo>
                <a:lnTo>
                  <a:pt x="0" y="9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0" name=""/>
          <p:cNvSpPr/>
          <p:nvPr/>
        </p:nvSpPr>
        <p:spPr>
          <a:xfrm>
            <a:off x="376200" y="1170000"/>
            <a:ext cx="4060800" cy="2930400"/>
          </a:xfrm>
          <a:prstGeom prst="roundRect">
            <a:avLst>
              <a:gd name="adj" fmla="val 16667"/>
            </a:avLst>
          </a:prstGeom>
          <a:solidFill>
            <a:srgbClr val="cc99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941" name=""/>
          <p:cNvSpPr/>
          <p:nvPr/>
        </p:nvSpPr>
        <p:spPr>
          <a:xfrm>
            <a:off x="1336680" y="2368440"/>
            <a:ext cx="2127600" cy="54900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ão geral d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nvolvimento </a:t>
            </a:r>
            <a:endParaRPr b="0" lang="en-US" sz="2000" spc="-1" strike="noStrike">
              <a:solidFill>
                <a:srgbClr val="000000"/>
              </a:solidFill>
              <a:latin typeface="Arial"/>
            </a:endParaRPr>
          </a:p>
        </p:txBody>
      </p:sp>
      <p:sp>
        <p:nvSpPr>
          <p:cNvPr id="5942" name=""/>
          <p:cNvSpPr/>
          <p:nvPr/>
        </p:nvSpPr>
        <p:spPr>
          <a:xfrm>
            <a:off x="1109520" y="1736640"/>
            <a:ext cx="2581560" cy="54900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ão geral d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desenvolvimento </a:t>
            </a:r>
            <a:endParaRPr b="0" lang="en-US" sz="2000" spc="-1" strike="noStrike">
              <a:solidFill>
                <a:srgbClr val="000000"/>
              </a:solidFill>
              <a:latin typeface="Arial"/>
            </a:endParaRPr>
          </a:p>
        </p:txBody>
      </p:sp>
      <p:sp>
        <p:nvSpPr>
          <p:cNvPr id="5943" name=""/>
          <p:cNvSpPr/>
          <p:nvPr/>
        </p:nvSpPr>
        <p:spPr>
          <a:xfrm>
            <a:off x="1090800" y="3005280"/>
            <a:ext cx="2624400" cy="549000"/>
          </a:xfrm>
          <a:prstGeom prst="rect">
            <a:avLst/>
          </a:prstGeom>
          <a:solidFill>
            <a:srgbClr val="ffffff"/>
          </a:solidFill>
          <a:ln w="3240">
            <a:solidFill>
              <a:srgbClr val="000000"/>
            </a:solidFill>
            <a:miter/>
          </a:ln>
        </p:spPr>
        <p:style>
          <a:lnRef idx="0"/>
          <a:fillRef idx="0"/>
          <a:effectRef idx="0"/>
          <a:fontRef idx="minor"/>
        </p:style>
        <p:txBody>
          <a:bodyPr wrap="none" lIns="72000" rIns="7200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ão geral d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ós-desenvolvimento </a:t>
            </a:r>
            <a:endParaRPr b="0" lang="en-US" sz="2000" spc="-1" strike="noStrike">
              <a:solidFill>
                <a:srgbClr val="000000"/>
              </a:solidFill>
              <a:latin typeface="Arial"/>
            </a:endParaRPr>
          </a:p>
        </p:txBody>
      </p:sp>
      <p:sp>
        <p:nvSpPr>
          <p:cNvPr id="5944" name=""/>
          <p:cNvSpPr/>
          <p:nvPr/>
        </p:nvSpPr>
        <p:spPr>
          <a:xfrm>
            <a:off x="977760" y="1352520"/>
            <a:ext cx="2963880" cy="274680"/>
          </a:xfrm>
          <a:prstGeom prst="rect">
            <a:avLst/>
          </a:prstGeom>
          <a:solidFill>
            <a:srgbClr val="ffffff"/>
          </a:solidFill>
          <a:ln w="3240">
            <a:solidFill>
              <a:srgbClr val="000000"/>
            </a:solidFill>
            <a:miter/>
          </a:ln>
        </p:spPr>
        <p:style>
          <a:lnRef idx="0"/>
          <a:fillRef idx="0"/>
          <a:effectRef idx="0"/>
          <a:fontRef idx="minor"/>
        </p:style>
        <p:txBody>
          <a:bodyPr lIns="72000" rIns="7200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isão geral</a:t>
            </a:r>
            <a:r>
              <a:rPr b="0" lang="en-US" sz="2000" spc="-1" strike="noStrike">
                <a:solidFill>
                  <a:srgbClr val="000000"/>
                </a:solidFill>
                <a:latin typeface="Arial"/>
              </a:rPr>
              <a:t> </a:t>
            </a:r>
            <a:r>
              <a:rPr b="0" lang="pt-BR" sz="2000" spc="-1" strike="noStrike">
                <a:solidFill>
                  <a:srgbClr val="000000"/>
                </a:solidFill>
                <a:latin typeface="Arial"/>
              </a:rPr>
              <a:t>do modelo</a:t>
            </a:r>
            <a:endParaRPr b="0" lang="en-US" sz="2000" spc="-1" strike="noStrike">
              <a:solidFill>
                <a:srgbClr val="000000"/>
              </a:solidFill>
              <a:latin typeface="Arial"/>
            </a:endParaRPr>
          </a:p>
        </p:txBody>
      </p:sp>
      <p:sp>
        <p:nvSpPr>
          <p:cNvPr id="5945" name=""/>
          <p:cNvSpPr/>
          <p:nvPr/>
        </p:nvSpPr>
        <p:spPr>
          <a:xfrm>
            <a:off x="225360" y="3616200"/>
            <a:ext cx="43624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ividades e Fases</a:t>
            </a:r>
            <a:endParaRPr b="0" lang="en-US" sz="2400" spc="-1" strike="noStrike">
              <a:solidFill>
                <a:srgbClr val="000000"/>
              </a:solidFill>
              <a:latin typeface="Arial"/>
            </a:endParaRPr>
          </a:p>
        </p:txBody>
      </p:sp>
      <p:sp>
        <p:nvSpPr>
          <p:cNvPr id="5946" name=""/>
          <p:cNvSpPr/>
          <p:nvPr/>
        </p:nvSpPr>
        <p:spPr>
          <a:xfrm>
            <a:off x="6845400" y="5205240"/>
            <a:ext cx="2181240" cy="6786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imitações do Modelo</a:t>
            </a:r>
            <a:endParaRPr b="0" lang="en-US" sz="2400" spc="-1" strike="noStrike">
              <a:solidFill>
                <a:srgbClr val="000000"/>
              </a:solidFill>
              <a:latin typeface="Arial"/>
            </a:endParaRPr>
          </a:p>
        </p:txBody>
      </p:sp>
      <p:sp>
        <p:nvSpPr>
          <p:cNvPr id="5947" name=""/>
          <p:cNvSpPr/>
          <p:nvPr/>
        </p:nvSpPr>
        <p:spPr>
          <a:xfrm>
            <a:off x="5942160" y="738360"/>
            <a:ext cx="2859120" cy="3774960"/>
          </a:xfrm>
          <a:prstGeom prst="rect">
            <a:avLst/>
          </a:prstGeom>
          <a:solidFill>
            <a:srgbClr val="cc99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948" name=""/>
          <p:cNvSpPr/>
          <p:nvPr/>
        </p:nvSpPr>
        <p:spPr>
          <a:xfrm>
            <a:off x="6167520" y="803160"/>
            <a:ext cx="2409840" cy="305280"/>
          </a:xfrm>
          <a:prstGeom prst="rect">
            <a:avLst/>
          </a:prstGeom>
          <a:solidFill>
            <a:srgbClr val="ffffff"/>
          </a:solidFill>
          <a:ln w="3240">
            <a:solidFill>
              <a:srgbClr val="000000"/>
            </a:solidFill>
            <a:miter/>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péis</a:t>
            </a:r>
            <a:r>
              <a:rPr b="0" lang="en-US" sz="2000" spc="-1" strike="noStrike">
                <a:solidFill>
                  <a:srgbClr val="000000"/>
                </a:solidFill>
                <a:latin typeface="Arial"/>
              </a:rPr>
              <a:t> </a:t>
            </a:r>
            <a:r>
              <a:rPr b="0" lang="pt-BR" sz="2000" spc="-1" strike="noStrike">
                <a:solidFill>
                  <a:srgbClr val="000000"/>
                </a:solidFill>
                <a:latin typeface="Arial"/>
              </a:rPr>
              <a:t>principais</a:t>
            </a:r>
            <a:endParaRPr b="0" lang="en-US" sz="2000" spc="-1" strike="noStrike">
              <a:solidFill>
                <a:srgbClr val="000000"/>
              </a:solidFill>
              <a:latin typeface="Arial"/>
            </a:endParaRPr>
          </a:p>
        </p:txBody>
      </p:sp>
      <p:sp>
        <p:nvSpPr>
          <p:cNvPr id="5949" name=""/>
          <p:cNvSpPr/>
          <p:nvPr/>
        </p:nvSpPr>
        <p:spPr>
          <a:xfrm>
            <a:off x="6167520" y="1187280"/>
            <a:ext cx="2409840" cy="305280"/>
          </a:xfrm>
          <a:prstGeom prst="rect">
            <a:avLst/>
          </a:prstGeom>
          <a:solidFill>
            <a:srgbClr val="ffffff"/>
          </a:solidFill>
          <a:ln w="3240">
            <a:solidFill>
              <a:srgbClr val="000000"/>
            </a:solidFill>
            <a:miter/>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visão</a:t>
            </a:r>
            <a:r>
              <a:rPr b="0" lang="en-US" sz="2000" spc="-1" strike="noStrike">
                <a:solidFill>
                  <a:srgbClr val="000000"/>
                </a:solidFill>
                <a:latin typeface="Arial"/>
              </a:rPr>
              <a:t> </a:t>
            </a:r>
            <a:r>
              <a:rPr b="0" lang="pt-BR" sz="2000" spc="-1" strike="noStrike">
                <a:solidFill>
                  <a:srgbClr val="000000"/>
                </a:solidFill>
                <a:latin typeface="Arial"/>
              </a:rPr>
              <a:t>de fases</a:t>
            </a:r>
            <a:endParaRPr b="0" lang="en-US" sz="2000" spc="-1" strike="noStrike">
              <a:solidFill>
                <a:srgbClr val="000000"/>
              </a:solidFill>
              <a:latin typeface="Arial"/>
            </a:endParaRPr>
          </a:p>
        </p:txBody>
      </p:sp>
      <p:sp>
        <p:nvSpPr>
          <p:cNvPr id="5950" name=""/>
          <p:cNvSpPr/>
          <p:nvPr/>
        </p:nvSpPr>
        <p:spPr>
          <a:xfrm>
            <a:off x="6165720" y="2341440"/>
            <a:ext cx="2409840" cy="610200"/>
          </a:xfrm>
          <a:prstGeom prst="rect">
            <a:avLst/>
          </a:prstGeom>
          <a:solidFill>
            <a:srgbClr val="ffffff"/>
          </a:solidFill>
          <a:ln w="3240">
            <a:solidFill>
              <a:srgbClr val="000000"/>
            </a:solidFill>
            <a:miter/>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ramen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métodos</a:t>
            </a:r>
            <a:endParaRPr b="0" lang="en-US" sz="2000" spc="-1" strike="noStrike">
              <a:solidFill>
                <a:srgbClr val="000000"/>
              </a:solidFill>
              <a:latin typeface="Arial"/>
            </a:endParaRPr>
          </a:p>
        </p:txBody>
      </p:sp>
      <p:sp>
        <p:nvSpPr>
          <p:cNvPr id="5951" name=""/>
          <p:cNvSpPr/>
          <p:nvPr/>
        </p:nvSpPr>
        <p:spPr>
          <a:xfrm>
            <a:off x="6165720" y="3003480"/>
            <a:ext cx="2409840" cy="610200"/>
          </a:xfrm>
          <a:prstGeom prst="rect">
            <a:avLst/>
          </a:prstGeom>
          <a:solidFill>
            <a:srgbClr val="ffffff"/>
          </a:solidFill>
          <a:ln w="3240">
            <a:solidFill>
              <a:srgbClr val="000000"/>
            </a:solidFill>
            <a:miter/>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dores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mpenho</a:t>
            </a:r>
            <a:endParaRPr b="0" lang="en-US" sz="2000" spc="-1" strike="noStrike">
              <a:solidFill>
                <a:srgbClr val="000000"/>
              </a:solidFill>
              <a:latin typeface="Arial"/>
            </a:endParaRPr>
          </a:p>
        </p:txBody>
      </p:sp>
      <p:sp>
        <p:nvSpPr>
          <p:cNvPr id="5952" name=""/>
          <p:cNvSpPr/>
          <p:nvPr/>
        </p:nvSpPr>
        <p:spPr>
          <a:xfrm>
            <a:off x="6167520" y="1571760"/>
            <a:ext cx="2409840" cy="731520"/>
          </a:xfrm>
          <a:prstGeom prst="rect">
            <a:avLst/>
          </a:prstGeom>
          <a:solidFill>
            <a:srgbClr val="ffffff"/>
          </a:solidFill>
          <a:ln w="3240">
            <a:solidFill>
              <a:srgbClr val="000000"/>
            </a:solidFill>
            <a:miter/>
          </a:ln>
        </p:spPr>
        <p:style>
          <a:lnRef idx="0"/>
          <a:fillRef idx="0"/>
          <a:effectRef idx="0"/>
          <a:fontRef idx="minor"/>
        </p:style>
        <p:txBody>
          <a:bodyPr lIns="72000" rIns="72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ceiros do</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nvolvimento</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aborativo</a:t>
            </a:r>
            <a:endParaRPr b="0" lang="en-US" sz="2000" spc="-1" strike="noStrike">
              <a:solidFill>
                <a:srgbClr val="000000"/>
              </a:solidFill>
              <a:latin typeface="Arial"/>
            </a:endParaRPr>
          </a:p>
        </p:txBody>
      </p:sp>
      <p:sp>
        <p:nvSpPr>
          <p:cNvPr id="5953" name=""/>
          <p:cNvSpPr/>
          <p:nvPr/>
        </p:nvSpPr>
        <p:spPr>
          <a:xfrm>
            <a:off x="6093000" y="4165560"/>
            <a:ext cx="25574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alhes</a:t>
            </a:r>
            <a:endParaRPr b="0" lang="en-US" sz="2400" spc="-1" strike="noStrike">
              <a:solidFill>
                <a:srgbClr val="000000"/>
              </a:solidFill>
              <a:latin typeface="Arial"/>
            </a:endParaRPr>
          </a:p>
        </p:txBody>
      </p:sp>
      <p:sp>
        <p:nvSpPr>
          <p:cNvPr id="5954" name=""/>
          <p:cNvSpPr/>
          <p:nvPr/>
        </p:nvSpPr>
        <p:spPr>
          <a:xfrm>
            <a:off x="6165720" y="3619440"/>
            <a:ext cx="2409840" cy="610200"/>
          </a:xfrm>
          <a:prstGeom prst="rect">
            <a:avLst/>
          </a:prstGeom>
          <a:solidFill>
            <a:srgbClr val="ffffff"/>
          </a:solidFill>
          <a:ln w="3240">
            <a:solidFill>
              <a:srgbClr val="000000"/>
            </a:solidFill>
            <a:miter/>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reas de conhecimento</a:t>
            </a:r>
            <a:endParaRPr b="0" lang="en-US" sz="2000" spc="-1" strike="noStrike">
              <a:solidFill>
                <a:srgbClr val="000000"/>
              </a:solidFill>
              <a:latin typeface="Arial"/>
            </a:endParaRPr>
          </a:p>
        </p:txBody>
      </p:sp>
      <p:sp>
        <p:nvSpPr>
          <p:cNvPr id="5955" name=""/>
          <p:cNvSpPr/>
          <p:nvPr/>
        </p:nvSpPr>
        <p:spPr>
          <a:xfrm>
            <a:off x="1579680" y="841320"/>
            <a:ext cx="4362480" cy="3862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Descrição do Modelo</a:t>
            </a:r>
            <a:endParaRPr b="0" lang="en-US" sz="2400" spc="-1" strike="noStrike">
              <a:solidFill>
                <a:srgbClr val="000000"/>
              </a:solidFill>
              <a:latin typeface="Arial"/>
            </a:endParaRPr>
          </a:p>
        </p:txBody>
      </p:sp>
      <p:sp>
        <p:nvSpPr>
          <p:cNvPr id="595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íntese do que foi visto</a:t>
            </a:r>
            <a:endParaRPr b="0" lang="en-US" sz="2400" spc="-1" strike="noStrike">
              <a:solidFill>
                <a:srgbClr val="0000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Definição de processo - ISO 9000</a:t>
            </a:r>
            <a:endParaRPr b="0" lang="en-US" sz="2400" spc="-1" strike="noStrike">
              <a:solidFill>
                <a:srgbClr val="000096"/>
              </a:solidFill>
              <a:latin typeface="Arial"/>
            </a:endParaRPr>
          </a:p>
        </p:txBody>
      </p:sp>
      <p:sp>
        <p:nvSpPr>
          <p:cNvPr id="129" name="PlaceHolder 2"/>
          <p:cNvSpPr>
            <a:spLocks noGrp="1"/>
          </p:cNvSpPr>
          <p:nvPr>
            <p:ph/>
          </p:nvPr>
        </p:nvSpPr>
        <p:spPr>
          <a:xfrm>
            <a:off x="112320" y="887400"/>
            <a:ext cx="8574120" cy="3965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quer atividade, ou conjunto de atividades, que usam recursos para transformar “entradas” em saí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organizações têm de identificar e gerenciar processos inter-relacionados e interativos para funcionar de forma efica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rma tem a intenção de encorajar a adoção da abordagem por processos.</a:t>
            </a:r>
            <a:endParaRPr b="0" lang="en-US" sz="2800" spc="-1" strike="noStrike">
              <a:solidFill>
                <a:srgbClr val="000000"/>
              </a:solidFill>
              <a:latin typeface="Arial"/>
            </a:endParaRPr>
          </a:p>
        </p:txBody>
      </p:sp>
      <p:sp>
        <p:nvSpPr>
          <p:cNvPr id="130" name=""/>
          <p:cNvSpPr/>
          <p:nvPr/>
        </p:nvSpPr>
        <p:spPr>
          <a:xfrm>
            <a:off x="939960" y="5460840"/>
            <a:ext cx="7387920" cy="853560"/>
          </a:xfrm>
          <a:prstGeom prst="rect">
            <a:avLst/>
          </a:prstGeom>
          <a:noFill/>
          <a:ln w="12600">
            <a:solidFill>
              <a:srgbClr val="ff0000"/>
            </a:solidFill>
            <a:miter/>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Definição bem mais ampla e genérica. Aceita qualquer conjunto de atividades</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3" presetSubtype="16" repeatCount="1000">
                                  <p:stCondLst>
                                    <p:cond delay="0"/>
                                  </p:stCondLst>
                                  <p:childTnLst>
                                    <p:set>
                                      <p:cBhvr>
                                        <p:cTn id="20" dur="1" fill="hold">
                                          <p:stCondLst>
                                            <p:cond delay="0"/>
                                          </p:stCondLst>
                                        </p:cTn>
                                        <p:tgtEl>
                                          <p:spTgt spid="130"/>
                                        </p:tgtEl>
                                        <p:attrNameLst>
                                          <p:attrName>style.visibility</p:attrName>
                                        </p:attrNameLst>
                                      </p:cBhvr>
                                      <p:to>
                                        <p:strVal val="visible"/>
                                      </p:to>
                                    </p:set>
                                    <p:animEffect filter="plus(in)" transition="in">
                                      <p:cBhvr additive="repl">
                                        <p:cTn id="2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7" name="PlaceHolder 1"/>
          <p:cNvSpPr>
            <a:spLocks noGrp="1"/>
          </p:cNvSpPr>
          <p:nvPr>
            <p:ph type="title"/>
          </p:nvPr>
        </p:nvSpPr>
        <p:spPr>
          <a:xfrm>
            <a:off x="76320" y="76320"/>
            <a:ext cx="9067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róxima parte: o modelo de referência</a:t>
            </a:r>
            <a:endParaRPr b="0" lang="en-US" sz="2400" spc="-1" strike="noStrike">
              <a:solidFill>
                <a:srgbClr val="000096"/>
              </a:solidFill>
              <a:latin typeface="Arial"/>
            </a:endParaRPr>
          </a:p>
        </p:txBody>
      </p:sp>
      <p:grpSp>
        <p:nvGrpSpPr>
          <p:cNvPr id="5958" name=""/>
          <p:cNvGrpSpPr/>
          <p:nvPr/>
        </p:nvGrpSpPr>
        <p:grpSpPr>
          <a:xfrm>
            <a:off x="76320" y="909720"/>
            <a:ext cx="8991360" cy="4998600"/>
            <a:chOff x="76320" y="909720"/>
            <a:chExt cx="8991360" cy="4998600"/>
          </a:xfrm>
        </p:grpSpPr>
        <p:grpSp>
          <p:nvGrpSpPr>
            <p:cNvPr id="5959" name=""/>
            <p:cNvGrpSpPr/>
            <p:nvPr/>
          </p:nvGrpSpPr>
          <p:grpSpPr>
            <a:xfrm>
              <a:off x="214200" y="4978440"/>
              <a:ext cx="8672760" cy="929880"/>
              <a:chOff x="214200" y="4978440"/>
              <a:chExt cx="8672760" cy="929880"/>
            </a:xfrm>
          </p:grpSpPr>
          <p:sp>
            <p:nvSpPr>
              <p:cNvPr id="5960" name=""/>
              <p:cNvSpPr/>
              <p:nvPr/>
            </p:nvSpPr>
            <p:spPr>
              <a:xfrm>
                <a:off x="1000080" y="5633640"/>
                <a:ext cx="7886880" cy="27468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lhoria do processo de desenvolvimento de produtos</a:t>
                </a:r>
                <a:endParaRPr b="0" lang="en-US" sz="1800" spc="-1" strike="noStrike">
                  <a:solidFill>
                    <a:srgbClr val="000000"/>
                  </a:solidFill>
                  <a:latin typeface="Arial"/>
                </a:endParaRPr>
              </a:p>
            </p:txBody>
          </p:sp>
          <p:sp>
            <p:nvSpPr>
              <p:cNvPr id="5961" name=""/>
              <p:cNvSpPr/>
              <p:nvPr/>
            </p:nvSpPr>
            <p:spPr>
              <a:xfrm>
                <a:off x="2549520" y="5270040"/>
                <a:ext cx="6093000" cy="27468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erenciamento de mudanças de engenharia</a:t>
                </a:r>
                <a:endParaRPr b="0" lang="en-US" sz="1800" spc="-1" strike="noStrike">
                  <a:solidFill>
                    <a:srgbClr val="000000"/>
                  </a:solidFill>
                  <a:latin typeface="Arial"/>
                </a:endParaRPr>
              </a:p>
            </p:txBody>
          </p:sp>
          <p:sp>
            <p:nvSpPr>
              <p:cNvPr id="5962" name=""/>
              <p:cNvSpPr/>
              <p:nvPr/>
            </p:nvSpPr>
            <p:spPr>
              <a:xfrm>
                <a:off x="214200" y="5216040"/>
                <a:ext cx="1209960" cy="549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ces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 apoio</a:t>
                </a:r>
                <a:endParaRPr b="0" lang="en-US" sz="1800" spc="-1" strike="noStrike">
                  <a:solidFill>
                    <a:srgbClr val="000000"/>
                  </a:solidFill>
                  <a:latin typeface="Arial"/>
                </a:endParaRPr>
              </a:p>
            </p:txBody>
          </p:sp>
          <p:sp>
            <p:nvSpPr>
              <p:cNvPr id="5963" name=""/>
              <p:cNvSpPr/>
              <p:nvPr/>
            </p:nvSpPr>
            <p:spPr>
              <a:xfrm>
                <a:off x="1535040" y="497844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964" name=""/>
              <p:cNvSpPr/>
              <p:nvPr/>
            </p:nvSpPr>
            <p:spPr>
              <a:xfrm>
                <a:off x="3524400" y="4978440"/>
                <a:ext cx="111096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965" name=""/>
              <p:cNvSpPr/>
              <p:nvPr/>
            </p:nvSpPr>
            <p:spPr>
              <a:xfrm>
                <a:off x="5514840" y="497844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966" name=""/>
              <p:cNvSpPr/>
              <p:nvPr/>
            </p:nvSpPr>
            <p:spPr>
              <a:xfrm>
                <a:off x="7505640" y="497844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sp>
          <p:nvSpPr>
            <p:cNvPr id="5967" name=""/>
            <p:cNvSpPr/>
            <p:nvPr/>
          </p:nvSpPr>
          <p:spPr>
            <a:xfrm>
              <a:off x="76320" y="1068480"/>
              <a:ext cx="8991360" cy="304632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5968" name=""/>
            <p:cNvSpPr/>
            <p:nvPr/>
          </p:nvSpPr>
          <p:spPr>
            <a:xfrm>
              <a:off x="795240" y="2317680"/>
              <a:ext cx="7291440" cy="1339920"/>
            </a:xfrm>
            <a:custGeom>
              <a:avLst/>
              <a:gdLst/>
              <a:ahLst/>
              <a:rect l="l" t="t" r="r" b="b"/>
              <a:pathLst>
                <a:path w="4593" h="1046">
                  <a:moveTo>
                    <a:pt x="771" y="20"/>
                  </a:moveTo>
                  <a:lnTo>
                    <a:pt x="0" y="1046"/>
                  </a:lnTo>
                  <a:lnTo>
                    <a:pt x="4593" y="1016"/>
                  </a:lnTo>
                  <a:lnTo>
                    <a:pt x="3302" y="0"/>
                  </a:lnTo>
                </a:path>
              </a:pathLst>
            </a:custGeom>
            <a:gradFill rotWithShape="0">
              <a:gsLst>
                <a:gs pos="0">
                  <a:srgbClr val="ffcc99"/>
                </a:gs>
                <a:gs pos="100000">
                  <a:srgbClr val="99ccff"/>
                </a:gs>
              </a:gsLst>
              <a:lin ang="10800000"/>
            </a:gra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5969" name=""/>
            <p:cNvGrpSpPr/>
            <p:nvPr/>
          </p:nvGrpSpPr>
          <p:grpSpPr>
            <a:xfrm>
              <a:off x="2239920" y="1679400"/>
              <a:ext cx="4146480" cy="298440"/>
              <a:chOff x="2239920" y="1679400"/>
              <a:chExt cx="4146480" cy="298440"/>
            </a:xfrm>
          </p:grpSpPr>
          <p:sp>
            <p:nvSpPr>
              <p:cNvPr id="5970" name=""/>
              <p:cNvSpPr/>
              <p:nvPr/>
            </p:nvSpPr>
            <p:spPr>
              <a:xfrm>
                <a:off x="2239920" y="1679400"/>
                <a:ext cx="4146480" cy="298440"/>
              </a:xfrm>
              <a:custGeom>
                <a:avLst/>
                <a:gdLst>
                  <a:gd name="textAreaLeft" fmla="*/ 0 w 4146480"/>
                  <a:gd name="textAreaRight" fmla="*/ 4146840 w 4146480"/>
                  <a:gd name="textAreaTop" fmla="*/ 0 h 298440"/>
                  <a:gd name="textAreaBottom" fmla="*/ 298800 h 298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1" name=""/>
              <p:cNvSpPr/>
              <p:nvPr/>
            </p:nvSpPr>
            <p:spPr>
              <a:xfrm>
                <a:off x="3293280" y="169236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972" name=""/>
            <p:cNvGrpSpPr/>
            <p:nvPr/>
          </p:nvGrpSpPr>
          <p:grpSpPr>
            <a:xfrm>
              <a:off x="962280" y="3490560"/>
              <a:ext cx="6981480" cy="534600"/>
              <a:chOff x="962280" y="3490560"/>
              <a:chExt cx="6981480" cy="534600"/>
            </a:xfrm>
          </p:grpSpPr>
          <p:grpSp>
            <p:nvGrpSpPr>
              <p:cNvPr id="5973" name=""/>
              <p:cNvGrpSpPr/>
              <p:nvPr/>
            </p:nvGrpSpPr>
            <p:grpSpPr>
              <a:xfrm>
                <a:off x="2259360" y="3504600"/>
                <a:ext cx="5684400" cy="520560"/>
                <a:chOff x="2259360" y="3504600"/>
                <a:chExt cx="5684400" cy="520560"/>
              </a:xfrm>
            </p:grpSpPr>
            <p:sp>
              <p:nvSpPr>
                <p:cNvPr id="5974" name=""/>
                <p:cNvSpPr/>
                <p:nvPr/>
              </p:nvSpPr>
              <p:spPr>
                <a:xfrm>
                  <a:off x="4633560" y="3504600"/>
                  <a:ext cx="1043640" cy="520560"/>
                </a:xfrm>
                <a:custGeom>
                  <a:avLst/>
                  <a:gdLst>
                    <a:gd name="textAreaLeft" fmla="*/ 0 w 1043640"/>
                    <a:gd name="textAreaRight" fmla="*/ 1044000 w 1043640"/>
                    <a:gd name="textAreaTop" fmla="*/ 0 h 520560"/>
                    <a:gd name="textAreaBottom" fmla="*/ 520920 h 52056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5975" name=""/>
                <p:cNvSpPr/>
                <p:nvPr/>
              </p:nvSpPr>
              <p:spPr>
                <a:xfrm>
                  <a:off x="3557160" y="3504600"/>
                  <a:ext cx="1074240" cy="520560"/>
                </a:xfrm>
                <a:custGeom>
                  <a:avLst/>
                  <a:gdLst>
                    <a:gd name="textAreaLeft" fmla="*/ 0 w 1074240"/>
                    <a:gd name="textAreaRight" fmla="*/ 1074600 w 1074240"/>
                    <a:gd name="textAreaTop" fmla="*/ 0 h 520560"/>
                    <a:gd name="textAreaBottom" fmla="*/ 520920 h 52056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5976" name=""/>
                <p:cNvSpPr/>
                <p:nvPr/>
              </p:nvSpPr>
              <p:spPr>
                <a:xfrm>
                  <a:off x="2259360" y="3504600"/>
                  <a:ext cx="1302840" cy="520560"/>
                </a:xfrm>
                <a:custGeom>
                  <a:avLst/>
                  <a:gdLst>
                    <a:gd name="textAreaLeft" fmla="*/ 0 w 1302840"/>
                    <a:gd name="textAreaRight" fmla="*/ 1303200 w 1302840"/>
                    <a:gd name="textAreaTop" fmla="*/ 0 h 520560"/>
                    <a:gd name="textAreaBottom" fmla="*/ 520920 h 52056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5977" name=""/>
                <p:cNvSpPr/>
                <p:nvPr/>
              </p:nvSpPr>
              <p:spPr>
                <a:xfrm>
                  <a:off x="6781680" y="3504600"/>
                  <a:ext cx="1162080" cy="520560"/>
                </a:xfrm>
                <a:custGeom>
                  <a:avLst/>
                  <a:gdLst>
                    <a:gd name="textAreaLeft" fmla="*/ 0 w 1162080"/>
                    <a:gd name="textAreaRight" fmla="*/ 1162080 w 1162080"/>
                    <a:gd name="textAreaTop" fmla="*/ 0 h 520560"/>
                    <a:gd name="textAreaBottom" fmla="*/ 520920 h 52056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5978" name=""/>
                <p:cNvSpPr/>
                <p:nvPr/>
              </p:nvSpPr>
              <p:spPr>
                <a:xfrm>
                  <a:off x="5676480" y="3504600"/>
                  <a:ext cx="1102680" cy="520560"/>
                </a:xfrm>
                <a:custGeom>
                  <a:avLst/>
                  <a:gdLst>
                    <a:gd name="textAreaLeft" fmla="*/ 0 w 1102680"/>
                    <a:gd name="textAreaRight" fmla="*/ 1102680 w 1102680"/>
                    <a:gd name="textAreaTop" fmla="*/ 0 h 520560"/>
                    <a:gd name="textAreaBottom" fmla="*/ 520920 h 52056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grpSp>
          <p:sp>
            <p:nvSpPr>
              <p:cNvPr id="5979" name=""/>
              <p:cNvSpPr/>
              <p:nvPr/>
            </p:nvSpPr>
            <p:spPr>
              <a:xfrm>
                <a:off x="962280" y="3490560"/>
                <a:ext cx="1270800" cy="520200"/>
              </a:xfrm>
              <a:custGeom>
                <a:avLst/>
                <a:gdLst>
                  <a:gd name="textAreaLeft" fmla="*/ 0 w 1270800"/>
                  <a:gd name="textAreaRight" fmla="*/ 1271160 w 1270800"/>
                  <a:gd name="textAreaTop" fmla="*/ 0 h 520200"/>
                  <a:gd name="textAreaBottom" fmla="*/ 520560 h 5202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p:txBody>
          </p:sp>
        </p:grpSp>
        <p:grpSp>
          <p:nvGrpSpPr>
            <p:cNvPr id="5980" name=""/>
            <p:cNvGrpSpPr/>
            <p:nvPr/>
          </p:nvGrpSpPr>
          <p:grpSpPr>
            <a:xfrm>
              <a:off x="6364440" y="1681200"/>
              <a:ext cx="2652480" cy="298440"/>
              <a:chOff x="6364440" y="1681200"/>
              <a:chExt cx="2652480" cy="298440"/>
            </a:xfrm>
          </p:grpSpPr>
          <p:sp>
            <p:nvSpPr>
              <p:cNvPr id="5981" name=""/>
              <p:cNvSpPr/>
              <p:nvPr/>
            </p:nvSpPr>
            <p:spPr>
              <a:xfrm>
                <a:off x="6364440" y="168120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2" name=""/>
              <p:cNvSpPr/>
              <p:nvPr/>
            </p:nvSpPr>
            <p:spPr>
              <a:xfrm>
                <a:off x="7431480" y="171792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5983" name=""/>
            <p:cNvSpPr/>
            <p:nvPr/>
          </p:nvSpPr>
          <p:spPr>
            <a:xfrm>
              <a:off x="8223120" y="176544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5984" name=""/>
            <p:cNvCxnSpPr>
              <a:stCxn id="5981" idx="0"/>
              <a:endCxn id="5985" idx="0"/>
            </p:cNvCxnSpPr>
            <p:nvPr/>
          </p:nvCxnSpPr>
          <p:spPr>
            <a:xfrm rot="5400000">
              <a:off x="4402440" y="-1545480"/>
              <a:ext cx="2160" cy="6455520"/>
            </a:xfrm>
            <a:prstGeom prst="bentConnector3">
              <a:avLst>
                <a:gd name="adj1" fmla="val -14400000"/>
              </a:avLst>
            </a:prstGeom>
            <a:ln w="19080">
              <a:solidFill>
                <a:srgbClr val="000000"/>
              </a:solidFill>
              <a:miter/>
              <a:tailEnd len="med" type="triangle" w="med"/>
            </a:ln>
          </p:spPr>
        </p:cxnSp>
        <p:grpSp>
          <p:nvGrpSpPr>
            <p:cNvPr id="5986" name=""/>
            <p:cNvGrpSpPr/>
            <p:nvPr/>
          </p:nvGrpSpPr>
          <p:grpSpPr>
            <a:xfrm>
              <a:off x="171360" y="1681200"/>
              <a:ext cx="2124000" cy="296640"/>
              <a:chOff x="171360" y="1681200"/>
              <a:chExt cx="2124000" cy="296640"/>
            </a:xfrm>
          </p:grpSpPr>
          <p:sp>
            <p:nvSpPr>
              <p:cNvPr id="5985" name=""/>
              <p:cNvSpPr/>
              <p:nvPr/>
            </p:nvSpPr>
            <p:spPr>
              <a:xfrm>
                <a:off x="171360" y="1681200"/>
                <a:ext cx="2124000" cy="296640"/>
              </a:xfrm>
              <a:custGeom>
                <a:avLst/>
                <a:gdLst>
                  <a:gd name="textAreaLeft" fmla="*/ 0 w 2124000"/>
                  <a:gd name="textAreaRight" fmla="*/ 2124360 w 2124000"/>
                  <a:gd name="textAreaTop" fmla="*/ 0 h 296640"/>
                  <a:gd name="textAreaBottom" fmla="*/ 297000 h 29664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987" name=""/>
              <p:cNvSpPr/>
              <p:nvPr/>
            </p:nvSpPr>
            <p:spPr>
              <a:xfrm>
                <a:off x="998280" y="171756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5988" name=""/>
            <p:cNvSpPr/>
            <p:nvPr/>
          </p:nvSpPr>
          <p:spPr>
            <a:xfrm>
              <a:off x="185760" y="2050920"/>
              <a:ext cx="1335240" cy="787680"/>
            </a:xfrm>
            <a:custGeom>
              <a:avLst/>
              <a:gdLst>
                <a:gd name="textAreaLeft" fmla="*/ 0 w 1335240"/>
                <a:gd name="textAreaRight" fmla="*/ 1335600 w 1335240"/>
                <a:gd name="textAreaTop" fmla="*/ 0 h 787680"/>
                <a:gd name="textAreaBottom" fmla="*/ 788040 h 78768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ratégico dos Produtos</a:t>
              </a:r>
              <a:endParaRPr b="0" lang="en-US" sz="1400" spc="-1" strike="noStrike">
                <a:solidFill>
                  <a:srgbClr val="000000"/>
                </a:solidFill>
                <a:latin typeface="Arial"/>
              </a:endParaRPr>
            </a:p>
          </p:txBody>
        </p:sp>
        <p:grpSp>
          <p:nvGrpSpPr>
            <p:cNvPr id="5989" name=""/>
            <p:cNvGrpSpPr/>
            <p:nvPr/>
          </p:nvGrpSpPr>
          <p:grpSpPr>
            <a:xfrm>
              <a:off x="6164280" y="2031840"/>
              <a:ext cx="2871720" cy="933480"/>
              <a:chOff x="6164280" y="2031840"/>
              <a:chExt cx="2871720" cy="933480"/>
            </a:xfrm>
          </p:grpSpPr>
          <p:sp>
            <p:nvSpPr>
              <p:cNvPr id="5990" name=""/>
              <p:cNvSpPr/>
              <p:nvPr/>
            </p:nvSpPr>
            <p:spPr>
              <a:xfrm>
                <a:off x="6164280" y="2031840"/>
                <a:ext cx="1257120" cy="830520"/>
              </a:xfrm>
              <a:custGeom>
                <a:avLst/>
                <a:gdLst>
                  <a:gd name="textAreaLeft" fmla="*/ 0 w 1257120"/>
                  <a:gd name="textAreaRight" fmla="*/ 1257480 w 125712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5991" name=""/>
              <p:cNvSpPr/>
              <p:nvPr/>
            </p:nvSpPr>
            <p:spPr>
              <a:xfrm>
                <a:off x="7421400" y="2031840"/>
                <a:ext cx="1270080" cy="830520"/>
              </a:xfrm>
              <a:custGeom>
                <a:avLst/>
                <a:gdLst>
                  <a:gd name="textAreaLeft" fmla="*/ 0 w 1270080"/>
                  <a:gd name="textAreaRight" fmla="*/ 1270440 w 127008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5992" name=""/>
              <p:cNvSpPr/>
              <p:nvPr/>
            </p:nvSpPr>
            <p:spPr>
              <a:xfrm>
                <a:off x="6249960" y="2095560"/>
                <a:ext cx="1268280" cy="830160"/>
              </a:xfrm>
              <a:custGeom>
                <a:avLst/>
                <a:gdLst>
                  <a:gd name="textAreaLeft" fmla="*/ 0 w 1268280"/>
                  <a:gd name="textAreaRight" fmla="*/ 1268640 w 12682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5993" name=""/>
              <p:cNvSpPr/>
              <p:nvPr/>
            </p:nvSpPr>
            <p:spPr>
              <a:xfrm>
                <a:off x="7535880" y="2095560"/>
                <a:ext cx="1270080" cy="830160"/>
              </a:xfrm>
              <a:custGeom>
                <a:avLst/>
                <a:gdLst>
                  <a:gd name="textAreaLeft" fmla="*/ 0 w 1270080"/>
                  <a:gd name="textAreaRight" fmla="*/ 1270440 w 12700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5994" name=""/>
              <p:cNvSpPr/>
              <p:nvPr/>
            </p:nvSpPr>
            <p:spPr>
              <a:xfrm>
                <a:off x="7694640" y="2135160"/>
                <a:ext cx="1341360" cy="830160"/>
              </a:xfrm>
              <a:custGeom>
                <a:avLst/>
                <a:gdLst>
                  <a:gd name="textAreaLeft" fmla="*/ 0 w 1341360"/>
                  <a:gd name="textAreaRight" fmla="*/ 1341720 w 1341360"/>
                  <a:gd name="textAreaTop" fmla="*/ 0 h 830160"/>
                  <a:gd name="textAreaBottom" fmla="*/ 830520 h 83016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ontinu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p:txBody>
          </p:sp>
          <p:sp>
            <p:nvSpPr>
              <p:cNvPr id="5995" name=""/>
              <p:cNvSpPr/>
              <p:nvPr/>
            </p:nvSpPr>
            <p:spPr>
              <a:xfrm>
                <a:off x="6348240" y="2135160"/>
                <a:ext cx="1400400" cy="830160"/>
              </a:xfrm>
              <a:custGeom>
                <a:avLst/>
                <a:gdLst>
                  <a:gd name="textAreaLeft" fmla="*/ 0 w 1400400"/>
                  <a:gd name="textAreaRight" fmla="*/ 1400400 w 1400400"/>
                  <a:gd name="textAreaTop" fmla="*/ 0 h 830160"/>
                  <a:gd name="textAreaBottom" fmla="*/ 830520 h 83016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panh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a:t>
                </a:r>
                <a:endParaRPr b="0" lang="en-US" sz="1400" spc="-1" strike="noStrike">
                  <a:solidFill>
                    <a:srgbClr val="000000"/>
                  </a:solidFill>
                  <a:latin typeface="Arial"/>
                </a:endParaRPr>
              </a:p>
            </p:txBody>
          </p:sp>
        </p:grpSp>
        <p:grpSp>
          <p:nvGrpSpPr>
            <p:cNvPr id="5996" name=""/>
            <p:cNvGrpSpPr/>
            <p:nvPr/>
          </p:nvGrpSpPr>
          <p:grpSpPr>
            <a:xfrm>
              <a:off x="2413080" y="2018880"/>
              <a:ext cx="3600000" cy="407880"/>
              <a:chOff x="2413080" y="2018880"/>
              <a:chExt cx="3600000" cy="407880"/>
            </a:xfrm>
          </p:grpSpPr>
          <p:sp>
            <p:nvSpPr>
              <p:cNvPr id="5997" name=""/>
              <p:cNvSpPr/>
              <p:nvPr/>
            </p:nvSpPr>
            <p:spPr>
              <a:xfrm flipV="1">
                <a:off x="2413080" y="201852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8" name=""/>
              <p:cNvSpPr/>
              <p:nvPr/>
            </p:nvSpPr>
            <p:spPr>
              <a:xfrm flipV="1">
                <a:off x="3133440" y="201852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9" name=""/>
              <p:cNvSpPr/>
              <p:nvPr/>
            </p:nvSpPr>
            <p:spPr>
              <a:xfrm flipV="1">
                <a:off x="3855960" y="2018520"/>
                <a:ext cx="713880" cy="407880"/>
              </a:xfrm>
              <a:custGeom>
                <a:avLst/>
                <a:gdLst>
                  <a:gd name="textAreaLeft" fmla="*/ 0 w 713880"/>
                  <a:gd name="textAreaRight" fmla="*/ 714240 w 71388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0" name=""/>
              <p:cNvSpPr/>
              <p:nvPr/>
            </p:nvSpPr>
            <p:spPr>
              <a:xfrm flipV="1">
                <a:off x="4576680" y="2018520"/>
                <a:ext cx="713880" cy="407880"/>
              </a:xfrm>
              <a:custGeom>
                <a:avLst/>
                <a:gdLst>
                  <a:gd name="textAreaLeft" fmla="*/ 0 w 713880"/>
                  <a:gd name="textAreaRight" fmla="*/ 714240 w 71388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1" name=""/>
              <p:cNvSpPr/>
              <p:nvPr/>
            </p:nvSpPr>
            <p:spPr>
              <a:xfrm flipV="1">
                <a:off x="5298840" y="201852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02" name=""/>
            <p:cNvGrpSpPr/>
            <p:nvPr/>
          </p:nvGrpSpPr>
          <p:grpSpPr>
            <a:xfrm>
              <a:off x="2565360" y="2171520"/>
              <a:ext cx="3600000" cy="407880"/>
              <a:chOff x="2565360" y="2171520"/>
              <a:chExt cx="3600000" cy="407880"/>
            </a:xfrm>
          </p:grpSpPr>
          <p:sp>
            <p:nvSpPr>
              <p:cNvPr id="6003" name=""/>
              <p:cNvSpPr/>
              <p:nvPr/>
            </p:nvSpPr>
            <p:spPr>
              <a:xfrm flipV="1">
                <a:off x="2565360" y="21711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4" name=""/>
              <p:cNvSpPr/>
              <p:nvPr/>
            </p:nvSpPr>
            <p:spPr>
              <a:xfrm flipV="1">
                <a:off x="3285720" y="21711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5" name=""/>
              <p:cNvSpPr/>
              <p:nvPr/>
            </p:nvSpPr>
            <p:spPr>
              <a:xfrm flipV="1">
                <a:off x="4008240" y="2171160"/>
                <a:ext cx="713880" cy="407880"/>
              </a:xfrm>
              <a:custGeom>
                <a:avLst/>
                <a:gdLst>
                  <a:gd name="textAreaLeft" fmla="*/ 0 w 713880"/>
                  <a:gd name="textAreaRight" fmla="*/ 714240 w 71388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6" name=""/>
              <p:cNvSpPr/>
              <p:nvPr/>
            </p:nvSpPr>
            <p:spPr>
              <a:xfrm flipV="1">
                <a:off x="4728960" y="2171160"/>
                <a:ext cx="713880" cy="407880"/>
              </a:xfrm>
              <a:custGeom>
                <a:avLst/>
                <a:gdLst>
                  <a:gd name="textAreaLeft" fmla="*/ 0 w 713880"/>
                  <a:gd name="textAreaRight" fmla="*/ 714240 w 71388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7" name=""/>
              <p:cNvSpPr/>
              <p:nvPr/>
            </p:nvSpPr>
            <p:spPr>
              <a:xfrm flipV="1">
                <a:off x="5451120" y="21711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08" name=""/>
            <p:cNvGrpSpPr/>
            <p:nvPr/>
          </p:nvGrpSpPr>
          <p:grpSpPr>
            <a:xfrm>
              <a:off x="2717640" y="2323800"/>
              <a:ext cx="3600720" cy="407880"/>
              <a:chOff x="2717640" y="2323800"/>
              <a:chExt cx="3600720" cy="407880"/>
            </a:xfrm>
          </p:grpSpPr>
          <p:sp>
            <p:nvSpPr>
              <p:cNvPr id="6009" name=""/>
              <p:cNvSpPr/>
              <p:nvPr/>
            </p:nvSpPr>
            <p:spPr>
              <a:xfrm flipV="1">
                <a:off x="2717640" y="23234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0" name=""/>
              <p:cNvSpPr/>
              <p:nvPr/>
            </p:nvSpPr>
            <p:spPr>
              <a:xfrm flipV="1">
                <a:off x="3438360" y="23234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1" name=""/>
              <p:cNvSpPr/>
              <p:nvPr/>
            </p:nvSpPr>
            <p:spPr>
              <a:xfrm flipV="1">
                <a:off x="4160880" y="23234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2" name=""/>
              <p:cNvSpPr/>
              <p:nvPr/>
            </p:nvSpPr>
            <p:spPr>
              <a:xfrm flipV="1">
                <a:off x="4881600" y="23234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3" name=""/>
              <p:cNvSpPr/>
              <p:nvPr/>
            </p:nvSpPr>
            <p:spPr>
              <a:xfrm flipV="1">
                <a:off x="5603760" y="23234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4" name=""/>
            <p:cNvGrpSpPr/>
            <p:nvPr/>
          </p:nvGrpSpPr>
          <p:grpSpPr>
            <a:xfrm>
              <a:off x="1565280" y="2060640"/>
              <a:ext cx="950760" cy="671400"/>
              <a:chOff x="1565280" y="2060640"/>
              <a:chExt cx="950760" cy="671400"/>
            </a:xfrm>
          </p:grpSpPr>
          <p:sp>
            <p:nvSpPr>
              <p:cNvPr id="6015" name=""/>
              <p:cNvSpPr/>
              <p:nvPr/>
            </p:nvSpPr>
            <p:spPr>
              <a:xfrm>
                <a:off x="1565280" y="2060640"/>
                <a:ext cx="646200" cy="366480"/>
              </a:xfrm>
              <a:custGeom>
                <a:avLst/>
                <a:gdLst>
                  <a:gd name="textAreaLeft" fmla="*/ 0 w 646200"/>
                  <a:gd name="textAreaRight" fmla="*/ 646560 w 646200"/>
                  <a:gd name="textAreaTop" fmla="*/ 0 h 366480"/>
                  <a:gd name="textAreaBottom" fmla="*/ 366840 h 36648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6" name=""/>
              <p:cNvSpPr/>
              <p:nvPr/>
            </p:nvSpPr>
            <p:spPr>
              <a:xfrm>
                <a:off x="1717560" y="2212920"/>
                <a:ext cx="646200" cy="366840"/>
              </a:xfrm>
              <a:custGeom>
                <a:avLst/>
                <a:gdLst>
                  <a:gd name="textAreaLeft" fmla="*/ 0 w 646200"/>
                  <a:gd name="textAreaRight" fmla="*/ 646560 w 64620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7" name=""/>
              <p:cNvSpPr/>
              <p:nvPr/>
            </p:nvSpPr>
            <p:spPr>
              <a:xfrm>
                <a:off x="1870200" y="2365200"/>
                <a:ext cx="645840" cy="366840"/>
              </a:xfrm>
              <a:custGeom>
                <a:avLst/>
                <a:gdLst>
                  <a:gd name="textAreaLeft" fmla="*/ 0 w 645840"/>
                  <a:gd name="textAreaRight" fmla="*/ 646200 w 64584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8" name=""/>
            <p:cNvGrpSpPr/>
            <p:nvPr/>
          </p:nvGrpSpPr>
          <p:grpSpPr>
            <a:xfrm>
              <a:off x="279720" y="2674800"/>
              <a:ext cx="6232320" cy="776520"/>
              <a:chOff x="279720" y="2674800"/>
              <a:chExt cx="6232320" cy="776520"/>
            </a:xfrm>
          </p:grpSpPr>
          <p:sp>
            <p:nvSpPr>
              <p:cNvPr id="6019" name=""/>
              <p:cNvSpPr/>
              <p:nvPr/>
            </p:nvSpPr>
            <p:spPr>
              <a:xfrm>
                <a:off x="279720" y="3124080"/>
                <a:ext cx="9799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ates &gt;&gt;</a:t>
                </a:r>
                <a:endParaRPr b="0" lang="en-US" sz="1600" spc="-1" strike="noStrike">
                  <a:solidFill>
                    <a:srgbClr val="000000"/>
                  </a:solidFill>
                  <a:latin typeface="Arial"/>
                </a:endParaRPr>
              </a:p>
            </p:txBody>
          </p:sp>
          <p:grpSp>
            <p:nvGrpSpPr>
              <p:cNvPr id="6020" name=""/>
              <p:cNvGrpSpPr/>
              <p:nvPr/>
            </p:nvGrpSpPr>
            <p:grpSpPr>
              <a:xfrm>
                <a:off x="3319560" y="2674800"/>
                <a:ext cx="185760" cy="617400"/>
                <a:chOff x="3319560" y="2674800"/>
                <a:chExt cx="185760" cy="617400"/>
              </a:xfrm>
            </p:grpSpPr>
            <p:sp>
              <p:nvSpPr>
                <p:cNvPr id="6021" name=""/>
                <p:cNvSpPr/>
                <p:nvPr/>
              </p:nvSpPr>
              <p:spPr>
                <a:xfrm>
                  <a:off x="3319560" y="302076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6022" name=""/>
                <p:cNvSpPr/>
                <p:nvPr/>
              </p:nvSpPr>
              <p:spPr>
                <a:xfrm flipV="1">
                  <a:off x="3411720" y="267480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sp>
            <p:nvSpPr>
              <p:cNvPr id="6023" name=""/>
              <p:cNvSpPr/>
              <p:nvPr/>
            </p:nvSpPr>
            <p:spPr>
              <a:xfrm>
                <a:off x="1208160" y="2951280"/>
                <a:ext cx="5303880" cy="500040"/>
              </a:xfrm>
              <a:prstGeom prst="roundRect">
                <a:avLst>
                  <a:gd name="adj" fmla="val 50000"/>
                </a:avLst>
              </a:prstGeom>
              <a:noFill/>
              <a:ln w="936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6024" name=""/>
              <p:cNvGrpSpPr/>
              <p:nvPr/>
            </p:nvGrpSpPr>
            <p:grpSpPr>
              <a:xfrm>
                <a:off x="6219720" y="2849040"/>
                <a:ext cx="185400" cy="474840"/>
                <a:chOff x="6219720" y="2849040"/>
                <a:chExt cx="185400" cy="474840"/>
              </a:xfrm>
            </p:grpSpPr>
            <p:sp>
              <p:nvSpPr>
                <p:cNvPr id="6025" name=""/>
                <p:cNvSpPr/>
                <p:nvPr/>
              </p:nvSpPr>
              <p:spPr>
                <a:xfrm>
                  <a:off x="6219720" y="305244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6026" name=""/>
                <p:cNvSpPr/>
                <p:nvPr/>
              </p:nvSpPr>
              <p:spPr>
                <a:xfrm flipV="1">
                  <a:off x="6311520" y="2849040"/>
                  <a:ext cx="0" cy="20628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6027" name=""/>
              <p:cNvGrpSpPr/>
              <p:nvPr/>
            </p:nvGrpSpPr>
            <p:grpSpPr>
              <a:xfrm>
                <a:off x="4748040" y="2674800"/>
                <a:ext cx="185760" cy="617400"/>
                <a:chOff x="4748040" y="2674800"/>
                <a:chExt cx="185760" cy="617400"/>
              </a:xfrm>
            </p:grpSpPr>
            <p:sp>
              <p:nvSpPr>
                <p:cNvPr id="6028" name=""/>
                <p:cNvSpPr/>
                <p:nvPr/>
              </p:nvSpPr>
              <p:spPr>
                <a:xfrm>
                  <a:off x="4748040" y="302076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6029" name=""/>
                <p:cNvSpPr/>
                <p:nvPr/>
              </p:nvSpPr>
              <p:spPr>
                <a:xfrm flipV="1">
                  <a:off x="4840200" y="267480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6030" name=""/>
              <p:cNvGrpSpPr/>
              <p:nvPr/>
            </p:nvGrpSpPr>
            <p:grpSpPr>
              <a:xfrm>
                <a:off x="5464080" y="2674800"/>
                <a:ext cx="185760" cy="617400"/>
                <a:chOff x="5464080" y="2674800"/>
                <a:chExt cx="185760" cy="617400"/>
              </a:xfrm>
            </p:grpSpPr>
            <p:sp>
              <p:nvSpPr>
                <p:cNvPr id="6031" name=""/>
                <p:cNvSpPr/>
                <p:nvPr/>
              </p:nvSpPr>
              <p:spPr>
                <a:xfrm>
                  <a:off x="5464080" y="302076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6032" name=""/>
                <p:cNvSpPr/>
                <p:nvPr/>
              </p:nvSpPr>
              <p:spPr>
                <a:xfrm flipV="1">
                  <a:off x="5556240" y="267480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6033" name=""/>
              <p:cNvGrpSpPr/>
              <p:nvPr/>
            </p:nvGrpSpPr>
            <p:grpSpPr>
              <a:xfrm>
                <a:off x="2422440" y="2706840"/>
                <a:ext cx="185760" cy="585720"/>
                <a:chOff x="2422440" y="2706840"/>
                <a:chExt cx="185760" cy="585720"/>
              </a:xfrm>
            </p:grpSpPr>
            <p:sp>
              <p:nvSpPr>
                <p:cNvPr id="6034" name=""/>
                <p:cNvSpPr/>
                <p:nvPr/>
              </p:nvSpPr>
              <p:spPr>
                <a:xfrm flipV="1">
                  <a:off x="2514600" y="270684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6035" name=""/>
                <p:cNvSpPr/>
                <p:nvPr/>
              </p:nvSpPr>
              <p:spPr>
                <a:xfrm>
                  <a:off x="2422440" y="302112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6036" name=""/>
              <p:cNvGrpSpPr/>
              <p:nvPr/>
            </p:nvGrpSpPr>
            <p:grpSpPr>
              <a:xfrm>
                <a:off x="4035600" y="2706840"/>
                <a:ext cx="185400" cy="585720"/>
                <a:chOff x="4035600" y="2706840"/>
                <a:chExt cx="185400" cy="585720"/>
              </a:xfrm>
            </p:grpSpPr>
            <p:sp>
              <p:nvSpPr>
                <p:cNvPr id="6037" name=""/>
                <p:cNvSpPr/>
                <p:nvPr/>
              </p:nvSpPr>
              <p:spPr>
                <a:xfrm flipV="1">
                  <a:off x="4127400" y="270684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6038" name=""/>
                <p:cNvSpPr/>
                <p:nvPr/>
              </p:nvSpPr>
              <p:spPr>
                <a:xfrm>
                  <a:off x="4035600" y="302112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6039" name=""/>
              <p:cNvGrpSpPr/>
              <p:nvPr/>
            </p:nvGrpSpPr>
            <p:grpSpPr>
              <a:xfrm>
                <a:off x="3597120" y="2731680"/>
                <a:ext cx="141480" cy="473400"/>
                <a:chOff x="3597120" y="2731680"/>
                <a:chExt cx="141480" cy="473400"/>
              </a:xfrm>
            </p:grpSpPr>
            <p:sp>
              <p:nvSpPr>
                <p:cNvPr id="6040" name=""/>
                <p:cNvSpPr/>
                <p:nvPr/>
              </p:nvSpPr>
              <p:spPr>
                <a:xfrm flipV="1">
                  <a:off x="3668760" y="273168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6041" name=""/>
                <p:cNvSpPr/>
                <p:nvPr/>
              </p:nvSpPr>
              <p:spPr>
                <a:xfrm>
                  <a:off x="3597120" y="307008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6042" name=""/>
              <p:cNvGrpSpPr/>
              <p:nvPr/>
            </p:nvGrpSpPr>
            <p:grpSpPr>
              <a:xfrm>
                <a:off x="3784680" y="2731680"/>
                <a:ext cx="141120" cy="473400"/>
                <a:chOff x="3784680" y="2731680"/>
                <a:chExt cx="141120" cy="473400"/>
              </a:xfrm>
            </p:grpSpPr>
            <p:sp>
              <p:nvSpPr>
                <p:cNvPr id="6043" name=""/>
                <p:cNvSpPr/>
                <p:nvPr/>
              </p:nvSpPr>
              <p:spPr>
                <a:xfrm flipV="1">
                  <a:off x="3855960" y="273168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6044" name=""/>
                <p:cNvSpPr/>
                <p:nvPr/>
              </p:nvSpPr>
              <p:spPr>
                <a:xfrm>
                  <a:off x="3784680" y="307008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6045" name=""/>
              <p:cNvGrpSpPr/>
              <p:nvPr/>
            </p:nvGrpSpPr>
            <p:grpSpPr>
              <a:xfrm>
                <a:off x="4284720" y="2731680"/>
                <a:ext cx="141120" cy="473400"/>
                <a:chOff x="4284720" y="2731680"/>
                <a:chExt cx="141120" cy="473400"/>
              </a:xfrm>
            </p:grpSpPr>
            <p:sp>
              <p:nvSpPr>
                <p:cNvPr id="6046" name=""/>
                <p:cNvSpPr/>
                <p:nvPr/>
              </p:nvSpPr>
              <p:spPr>
                <a:xfrm flipV="1">
                  <a:off x="4356000" y="273168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6047" name=""/>
                <p:cNvSpPr/>
                <p:nvPr/>
              </p:nvSpPr>
              <p:spPr>
                <a:xfrm>
                  <a:off x="4284720" y="307008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6048" name=""/>
              <p:cNvGrpSpPr/>
              <p:nvPr/>
            </p:nvGrpSpPr>
            <p:grpSpPr>
              <a:xfrm>
                <a:off x="4498920" y="2731680"/>
                <a:ext cx="141480" cy="473400"/>
                <a:chOff x="4498920" y="2731680"/>
                <a:chExt cx="141480" cy="473400"/>
              </a:xfrm>
            </p:grpSpPr>
            <p:sp>
              <p:nvSpPr>
                <p:cNvPr id="6049" name=""/>
                <p:cNvSpPr/>
                <p:nvPr/>
              </p:nvSpPr>
              <p:spPr>
                <a:xfrm flipV="1">
                  <a:off x="4570560" y="273168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6050" name=""/>
                <p:cNvSpPr/>
                <p:nvPr/>
              </p:nvSpPr>
              <p:spPr>
                <a:xfrm>
                  <a:off x="4498920" y="307008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6051" name=""/>
              <p:cNvGrpSpPr/>
              <p:nvPr/>
            </p:nvGrpSpPr>
            <p:grpSpPr>
              <a:xfrm>
                <a:off x="3051000" y="2731680"/>
                <a:ext cx="141480" cy="473400"/>
                <a:chOff x="3051000" y="2731680"/>
                <a:chExt cx="141480" cy="473400"/>
              </a:xfrm>
            </p:grpSpPr>
            <p:sp>
              <p:nvSpPr>
                <p:cNvPr id="6052" name=""/>
                <p:cNvSpPr/>
                <p:nvPr/>
              </p:nvSpPr>
              <p:spPr>
                <a:xfrm flipV="1">
                  <a:off x="3122640" y="273168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6053" name=""/>
                <p:cNvSpPr/>
                <p:nvPr/>
              </p:nvSpPr>
              <p:spPr>
                <a:xfrm>
                  <a:off x="3051000" y="307008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6054" name=""/>
              <p:cNvGrpSpPr/>
              <p:nvPr/>
            </p:nvGrpSpPr>
            <p:grpSpPr>
              <a:xfrm>
                <a:off x="5164200" y="2731680"/>
                <a:ext cx="141120" cy="473400"/>
                <a:chOff x="5164200" y="2731680"/>
                <a:chExt cx="141120" cy="473400"/>
              </a:xfrm>
            </p:grpSpPr>
            <p:sp>
              <p:nvSpPr>
                <p:cNvPr id="6055" name=""/>
                <p:cNvSpPr/>
                <p:nvPr/>
              </p:nvSpPr>
              <p:spPr>
                <a:xfrm flipV="1">
                  <a:off x="5235480" y="273168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6056" name=""/>
                <p:cNvSpPr/>
                <p:nvPr/>
              </p:nvSpPr>
              <p:spPr>
                <a:xfrm>
                  <a:off x="5164200" y="307008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sp>
          <p:nvSpPr>
            <p:cNvPr id="6057" name=""/>
            <p:cNvSpPr/>
            <p:nvPr/>
          </p:nvSpPr>
          <p:spPr>
            <a:xfrm>
              <a:off x="1500120" y="90972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8" name=""/>
            <p:cNvSpPr/>
            <p:nvPr/>
          </p:nvSpPr>
          <p:spPr>
            <a:xfrm>
              <a:off x="2703600" y="4562640"/>
              <a:ext cx="3065400" cy="304560"/>
            </a:xfrm>
            <a:prstGeom prst="rect">
              <a:avLst/>
            </a:prstGeom>
            <a:solidFill>
              <a:srgbClr val="666699"/>
            </a:solidFill>
            <a:ln w="0">
              <a:noFill/>
            </a:ln>
            <a:effectLst>
              <a:outerShdw dist="107932" dir="2700000" blurRad="0" rotWithShape="0">
                <a:srgbClr val="808080"/>
              </a:outerShdw>
            </a:effectLst>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Atividades Genéricas</a:t>
              </a:r>
              <a:endParaRPr b="0" lang="en-US" sz="2000" spc="-1" strike="noStrike">
                <a:solidFill>
                  <a:srgbClr val="000000"/>
                </a:solidFill>
                <a:latin typeface="Arial"/>
              </a:endParaRPr>
            </a:p>
          </p:txBody>
        </p:sp>
        <p:sp>
          <p:nvSpPr>
            <p:cNvPr id="6059" name=""/>
            <p:cNvSpPr/>
            <p:nvPr/>
          </p:nvSpPr>
          <p:spPr>
            <a:xfrm rot="20870400">
              <a:off x="5480280" y="4606560"/>
              <a:ext cx="98892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3</a:t>
              </a:r>
              <a:endParaRPr b="0" lang="en-US" sz="1400" spc="-1" strike="noStrike">
                <a:solidFill>
                  <a:srgbClr val="000000"/>
                </a:solidFill>
                <a:latin typeface="Arial"/>
              </a:endParaRPr>
            </a:p>
          </p:txBody>
        </p:sp>
        <p:cxnSp>
          <p:nvCxnSpPr>
            <p:cNvPr id="6060" name=""/>
            <p:cNvCxnSpPr>
              <a:stCxn id="6058" idx="0"/>
              <a:endCxn id="5976" idx="0"/>
            </p:cNvCxnSpPr>
            <p:nvPr/>
          </p:nvCxnSpPr>
          <p:spPr>
            <a:xfrm flipH="1" flipV="1">
              <a:off x="2852280" y="4028760"/>
              <a:ext cx="1385280" cy="534240"/>
            </a:xfrm>
            <a:prstGeom prst="straightConnector1">
              <a:avLst/>
            </a:prstGeom>
            <a:ln w="12600">
              <a:solidFill>
                <a:srgbClr val="000000"/>
              </a:solidFill>
              <a:miter/>
            </a:ln>
          </p:spPr>
        </p:cxnSp>
        <p:cxnSp>
          <p:nvCxnSpPr>
            <p:cNvPr id="6061" name=""/>
            <p:cNvCxnSpPr>
              <a:stCxn id="6058" idx="0"/>
              <a:endCxn id="5975" idx="0"/>
            </p:cNvCxnSpPr>
            <p:nvPr/>
          </p:nvCxnSpPr>
          <p:spPr>
            <a:xfrm flipH="1" flipV="1">
              <a:off x="4044600" y="4028760"/>
              <a:ext cx="192960" cy="534240"/>
            </a:xfrm>
            <a:prstGeom prst="straightConnector1">
              <a:avLst/>
            </a:prstGeom>
            <a:ln w="12600">
              <a:solidFill>
                <a:srgbClr val="000000"/>
              </a:solidFill>
              <a:miter/>
            </a:ln>
          </p:spPr>
        </p:cxnSp>
        <p:cxnSp>
          <p:nvCxnSpPr>
            <p:cNvPr id="6062" name=""/>
            <p:cNvCxnSpPr>
              <a:stCxn id="6058" idx="0"/>
              <a:endCxn id="5974" idx="0"/>
            </p:cNvCxnSpPr>
            <p:nvPr/>
          </p:nvCxnSpPr>
          <p:spPr>
            <a:xfrm flipV="1">
              <a:off x="4236840" y="4028760"/>
              <a:ext cx="867240" cy="534240"/>
            </a:xfrm>
            <a:prstGeom prst="straightConnector1">
              <a:avLst/>
            </a:prstGeom>
            <a:ln w="12600">
              <a:solidFill>
                <a:srgbClr val="000000"/>
              </a:solidFill>
              <a:miter/>
            </a:ln>
          </p:spPr>
        </p:cxnSp>
        <p:cxnSp>
          <p:nvCxnSpPr>
            <p:cNvPr id="6063" name=""/>
            <p:cNvCxnSpPr>
              <a:stCxn id="6058" idx="0"/>
              <a:endCxn id="5978" idx="0"/>
            </p:cNvCxnSpPr>
            <p:nvPr/>
          </p:nvCxnSpPr>
          <p:spPr>
            <a:xfrm flipV="1">
              <a:off x="4236840" y="4028760"/>
              <a:ext cx="1950120" cy="534240"/>
            </a:xfrm>
            <a:prstGeom prst="straightConnector1">
              <a:avLst/>
            </a:prstGeom>
            <a:ln w="12600">
              <a:solidFill>
                <a:srgbClr val="000000"/>
              </a:solidFill>
              <a:miter/>
            </a:ln>
          </p:spPr>
        </p:cxnSp>
        <p:cxnSp>
          <p:nvCxnSpPr>
            <p:cNvPr id="6064" name=""/>
            <p:cNvCxnSpPr>
              <a:stCxn id="6058" idx="0"/>
              <a:endCxn id="5977" idx="0"/>
            </p:cNvCxnSpPr>
            <p:nvPr/>
          </p:nvCxnSpPr>
          <p:spPr>
            <a:xfrm flipV="1">
              <a:off x="4236840" y="4028760"/>
              <a:ext cx="3075480" cy="534240"/>
            </a:xfrm>
            <a:prstGeom prst="straightConnector1">
              <a:avLst/>
            </a:prstGeom>
            <a:ln w="12600">
              <a:solidFill>
                <a:srgbClr val="000000"/>
              </a:solidFill>
              <a:miter/>
            </a:ln>
          </p:spPr>
        </p:cxnSp>
        <p:sp>
          <p:nvSpPr>
            <p:cNvPr id="6065" name=""/>
            <p:cNvSpPr/>
            <p:nvPr/>
          </p:nvSpPr>
          <p:spPr>
            <a:xfrm rot="20870400">
              <a:off x="169920" y="1848960"/>
              <a:ext cx="98892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4</a:t>
              </a:r>
              <a:endParaRPr b="0" lang="en-US" sz="1400" spc="-1" strike="noStrike">
                <a:solidFill>
                  <a:srgbClr val="000000"/>
                </a:solidFill>
                <a:latin typeface="Arial"/>
              </a:endParaRPr>
            </a:p>
          </p:txBody>
        </p:sp>
        <p:sp>
          <p:nvSpPr>
            <p:cNvPr id="6066" name=""/>
            <p:cNvSpPr/>
            <p:nvPr/>
          </p:nvSpPr>
          <p:spPr>
            <a:xfrm rot="20870400">
              <a:off x="1154160" y="3271320"/>
              <a:ext cx="98892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5</a:t>
              </a:r>
              <a:endParaRPr b="0" lang="en-US" sz="1400" spc="-1" strike="noStrike">
                <a:solidFill>
                  <a:srgbClr val="000000"/>
                </a:solidFill>
                <a:latin typeface="Arial"/>
              </a:endParaRPr>
            </a:p>
          </p:txBody>
        </p:sp>
        <p:sp>
          <p:nvSpPr>
            <p:cNvPr id="6067" name=""/>
            <p:cNvSpPr/>
            <p:nvPr/>
          </p:nvSpPr>
          <p:spPr>
            <a:xfrm rot="20870400">
              <a:off x="2314800" y="3292200"/>
              <a:ext cx="98892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6</a:t>
              </a:r>
              <a:endParaRPr b="0" lang="en-US" sz="1400" spc="-1" strike="noStrike">
                <a:solidFill>
                  <a:srgbClr val="000000"/>
                </a:solidFill>
                <a:latin typeface="Arial"/>
              </a:endParaRPr>
            </a:p>
          </p:txBody>
        </p:sp>
        <p:sp>
          <p:nvSpPr>
            <p:cNvPr id="6068" name=""/>
            <p:cNvSpPr/>
            <p:nvPr/>
          </p:nvSpPr>
          <p:spPr>
            <a:xfrm rot="20870400">
              <a:off x="3546720" y="3288960"/>
              <a:ext cx="98892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7</a:t>
              </a:r>
              <a:endParaRPr b="0" lang="en-US" sz="1400" spc="-1" strike="noStrike">
                <a:solidFill>
                  <a:srgbClr val="000000"/>
                </a:solidFill>
                <a:latin typeface="Arial"/>
              </a:endParaRPr>
            </a:p>
          </p:txBody>
        </p:sp>
        <p:sp>
          <p:nvSpPr>
            <p:cNvPr id="6069" name=""/>
            <p:cNvSpPr/>
            <p:nvPr/>
          </p:nvSpPr>
          <p:spPr>
            <a:xfrm rot="20870400">
              <a:off x="4707000" y="3285720"/>
              <a:ext cx="98892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8</a:t>
              </a:r>
              <a:endParaRPr b="0" lang="en-US" sz="1400" spc="-1" strike="noStrike">
                <a:solidFill>
                  <a:srgbClr val="000000"/>
                </a:solidFill>
                <a:latin typeface="Arial"/>
              </a:endParaRPr>
            </a:p>
          </p:txBody>
        </p:sp>
        <p:sp>
          <p:nvSpPr>
            <p:cNvPr id="6070" name=""/>
            <p:cNvSpPr/>
            <p:nvPr/>
          </p:nvSpPr>
          <p:spPr>
            <a:xfrm rot="20870400">
              <a:off x="5867640" y="3282480"/>
              <a:ext cx="98892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9</a:t>
              </a:r>
              <a:endParaRPr b="0" lang="en-US" sz="1400" spc="-1" strike="noStrike">
                <a:solidFill>
                  <a:srgbClr val="000000"/>
                </a:solidFill>
                <a:latin typeface="Arial"/>
              </a:endParaRPr>
            </a:p>
          </p:txBody>
        </p:sp>
        <p:sp>
          <p:nvSpPr>
            <p:cNvPr id="6071" name=""/>
            <p:cNvSpPr/>
            <p:nvPr/>
          </p:nvSpPr>
          <p:spPr>
            <a:xfrm rot="20870400">
              <a:off x="6976800" y="3279600"/>
              <a:ext cx="109116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10</a:t>
              </a:r>
              <a:endParaRPr b="0" lang="en-US" sz="1400" spc="-1" strike="noStrike">
                <a:solidFill>
                  <a:srgbClr val="000000"/>
                </a:solidFill>
                <a:latin typeface="Arial"/>
              </a:endParaRPr>
            </a:p>
          </p:txBody>
        </p:sp>
        <p:sp>
          <p:nvSpPr>
            <p:cNvPr id="6072" name=""/>
            <p:cNvSpPr/>
            <p:nvPr/>
          </p:nvSpPr>
          <p:spPr>
            <a:xfrm rot="20870400">
              <a:off x="6440040" y="1934640"/>
              <a:ext cx="109116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11</a:t>
              </a:r>
              <a:endParaRPr b="0" lang="en-US" sz="1400" spc="-1" strike="noStrike">
                <a:solidFill>
                  <a:srgbClr val="000000"/>
                </a:solidFill>
                <a:latin typeface="Arial"/>
              </a:endParaRPr>
            </a:p>
          </p:txBody>
        </p:sp>
        <p:sp>
          <p:nvSpPr>
            <p:cNvPr id="6073" name=""/>
            <p:cNvSpPr/>
            <p:nvPr/>
          </p:nvSpPr>
          <p:spPr>
            <a:xfrm rot="20870400">
              <a:off x="7911720" y="2003400"/>
              <a:ext cx="109116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12</a:t>
              </a:r>
              <a:endParaRPr b="0" lang="en-US" sz="1400" spc="-1" strike="noStrike">
                <a:solidFill>
                  <a:srgbClr val="000000"/>
                </a:solidFill>
                <a:latin typeface="Arial"/>
              </a:endParaRPr>
            </a:p>
          </p:txBody>
        </p:sp>
        <p:sp>
          <p:nvSpPr>
            <p:cNvPr id="6074" name=""/>
            <p:cNvSpPr/>
            <p:nvPr/>
          </p:nvSpPr>
          <p:spPr>
            <a:xfrm rot="20870400">
              <a:off x="274320" y="4946760"/>
              <a:ext cx="1091160" cy="213480"/>
            </a:xfrm>
            <a:prstGeom prst="rect">
              <a:avLst/>
            </a:prstGeom>
            <a:solidFill>
              <a:srgbClr val="eaeaea"/>
            </a:solid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ítulo 13</a:t>
              </a:r>
              <a:endParaRPr b="0" lang="en-US" sz="1400" spc="-1" strike="noStrike">
                <a:solidFill>
                  <a:srgbClr val="000000"/>
                </a:solidFill>
                <a:latin typeface="Arial"/>
              </a:endParaRPr>
            </a:p>
          </p:txBody>
        </p:sp>
        <p:cxnSp>
          <p:nvCxnSpPr>
            <p:cNvPr id="6075" name=""/>
            <p:cNvCxnSpPr>
              <a:stCxn id="6058" idx="0"/>
              <a:endCxn id="5979" idx="0"/>
            </p:cNvCxnSpPr>
            <p:nvPr/>
          </p:nvCxnSpPr>
          <p:spPr>
            <a:xfrm flipH="1" flipV="1">
              <a:off x="1533240" y="4014360"/>
              <a:ext cx="2704320" cy="548640"/>
            </a:xfrm>
            <a:prstGeom prst="straightConnector1">
              <a:avLst/>
            </a:prstGeom>
            <a:ln w="12600">
              <a:solidFill>
                <a:srgbClr val="000000"/>
              </a:solidFill>
              <a:miter/>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957240" y="4114800"/>
            <a:ext cx="7391520" cy="1411200"/>
            <a:chOff x="957240" y="4114800"/>
            <a:chExt cx="7391520" cy="1411200"/>
          </a:xfrm>
        </p:grpSpPr>
        <p:sp>
          <p:nvSpPr>
            <p:cNvPr id="132" name=""/>
            <p:cNvSpPr/>
            <p:nvPr/>
          </p:nvSpPr>
          <p:spPr>
            <a:xfrm>
              <a:off x="957240" y="4114800"/>
              <a:ext cx="7391520" cy="14112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86840" y="4884120"/>
              <a:ext cx="16848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sos</a:t>
              </a:r>
              <a:endParaRPr b="0" lang="en-US" sz="2800" spc="-1" strike="noStrike">
                <a:solidFill>
                  <a:srgbClr val="000000"/>
                </a:solidFill>
                <a:latin typeface="Arial"/>
              </a:endParaRPr>
            </a:p>
          </p:txBody>
        </p:sp>
        <p:grpSp>
          <p:nvGrpSpPr>
            <p:cNvPr id="134" name=""/>
            <p:cNvGrpSpPr/>
            <p:nvPr/>
          </p:nvGrpSpPr>
          <p:grpSpPr>
            <a:xfrm>
              <a:off x="5638680" y="4232160"/>
              <a:ext cx="2572920" cy="1165320"/>
              <a:chOff x="5638680" y="4232160"/>
              <a:chExt cx="2572920" cy="1165320"/>
            </a:xfrm>
          </p:grpSpPr>
          <p:grpSp>
            <p:nvGrpSpPr>
              <p:cNvPr id="135" name=""/>
              <p:cNvGrpSpPr/>
              <p:nvPr/>
            </p:nvGrpSpPr>
            <p:grpSpPr>
              <a:xfrm>
                <a:off x="5841720" y="4557600"/>
                <a:ext cx="2321280" cy="514440"/>
                <a:chOff x="5841720" y="4557600"/>
                <a:chExt cx="2321280" cy="514440"/>
              </a:xfrm>
            </p:grpSpPr>
            <p:sp>
              <p:nvSpPr>
                <p:cNvPr id="136" name=""/>
                <p:cNvSpPr/>
                <p:nvPr/>
              </p:nvSpPr>
              <p:spPr>
                <a:xfrm>
                  <a:off x="7854480" y="4856760"/>
                  <a:ext cx="22680" cy="215280"/>
                </a:xfrm>
                <a:prstGeom prst="rect">
                  <a:avLst/>
                </a:prstGeom>
                <a:solidFill>
                  <a:srgbClr val="114ff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40080" y="4850280"/>
                  <a:ext cx="22680" cy="215640"/>
                </a:xfrm>
                <a:prstGeom prst="rect">
                  <a:avLst/>
                </a:prstGeom>
                <a:solidFill>
                  <a:srgbClr val="114ff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887880" y="4642560"/>
                  <a:ext cx="22320" cy="215640"/>
                </a:xfrm>
                <a:prstGeom prst="rect">
                  <a:avLst/>
                </a:prstGeom>
                <a:solidFill>
                  <a:srgbClr val="114ff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061680" y="4852440"/>
                  <a:ext cx="22680" cy="215640"/>
                </a:xfrm>
                <a:prstGeom prst="rect">
                  <a:avLst/>
                </a:prstGeom>
                <a:solidFill>
                  <a:srgbClr val="114ff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941800" y="4638240"/>
                  <a:ext cx="22680" cy="215280"/>
                </a:xfrm>
                <a:prstGeom prst="rect">
                  <a:avLst/>
                </a:prstGeom>
                <a:solidFill>
                  <a:srgbClr val="114ff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995160" y="4557600"/>
                  <a:ext cx="636120" cy="19080"/>
                </a:xfrm>
                <a:prstGeom prst="rect">
                  <a:avLst/>
                </a:prstGeom>
                <a:solidFill>
                  <a:srgbClr val="114ffb"/>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5841720" y="4846320"/>
                  <a:ext cx="2321280" cy="20160"/>
                </a:xfrm>
                <a:prstGeom prst="rect">
                  <a:avLst/>
                </a:prstGeom>
                <a:solidFill>
                  <a:srgbClr val="114ffb"/>
                </a:solidFill>
                <a:ln w="936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43" name=""/>
              <p:cNvGrpSpPr/>
              <p:nvPr/>
            </p:nvGrpSpPr>
            <p:grpSpPr>
              <a:xfrm>
                <a:off x="5811480" y="4974480"/>
                <a:ext cx="561240" cy="423000"/>
                <a:chOff x="5811480" y="4974480"/>
                <a:chExt cx="561240" cy="423000"/>
              </a:xfrm>
            </p:grpSpPr>
            <p:grpSp>
              <p:nvGrpSpPr>
                <p:cNvPr id="144" name=""/>
                <p:cNvGrpSpPr/>
                <p:nvPr/>
              </p:nvGrpSpPr>
              <p:grpSpPr>
                <a:xfrm>
                  <a:off x="5834160" y="5239080"/>
                  <a:ext cx="514440" cy="133560"/>
                  <a:chOff x="5834160" y="5239080"/>
                  <a:chExt cx="514440" cy="133560"/>
                </a:xfrm>
              </p:grpSpPr>
              <p:sp>
                <p:nvSpPr>
                  <p:cNvPr id="145" name=""/>
                  <p:cNvSpPr/>
                  <p:nvPr/>
                </p:nvSpPr>
                <p:spPr>
                  <a:xfrm>
                    <a:off x="5834160" y="5239080"/>
                    <a:ext cx="514440" cy="1335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119640" y="5262120"/>
                    <a:ext cx="178560" cy="61200"/>
                  </a:xfrm>
                  <a:prstGeom prst="rect">
                    <a:avLst/>
                  </a:prstGeom>
                  <a:solidFill>
                    <a:srgbClr val="808080"/>
                  </a:solidFill>
                  <a:ln w="1440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47" name=""/>
                <p:cNvGrpSpPr/>
                <p:nvPr/>
              </p:nvGrpSpPr>
              <p:grpSpPr>
                <a:xfrm>
                  <a:off x="5811480" y="5312160"/>
                  <a:ext cx="561240" cy="85320"/>
                  <a:chOff x="5811480" y="5312160"/>
                  <a:chExt cx="561240" cy="85320"/>
                </a:xfrm>
              </p:grpSpPr>
              <p:sp>
                <p:nvSpPr>
                  <p:cNvPr id="148" name=""/>
                  <p:cNvSpPr/>
                  <p:nvPr/>
                </p:nvSpPr>
                <p:spPr>
                  <a:xfrm>
                    <a:off x="5811480" y="5312160"/>
                    <a:ext cx="561240" cy="85320"/>
                  </a:xfrm>
                  <a:custGeom>
                    <a:avLst/>
                    <a:gdLst/>
                    <a:ahLst/>
                    <a:rect l="l" t="t" r="r" b="b"/>
                    <a:pathLst>
                      <a:path w="1030" h="173">
                        <a:moveTo>
                          <a:pt x="129" y="0"/>
                        </a:moveTo>
                        <a:lnTo>
                          <a:pt x="905" y="0"/>
                        </a:lnTo>
                        <a:lnTo>
                          <a:pt x="1028" y="156"/>
                        </a:lnTo>
                        <a:lnTo>
                          <a:pt x="1030" y="163"/>
                        </a:lnTo>
                        <a:lnTo>
                          <a:pt x="1025" y="170"/>
                        </a:lnTo>
                        <a:lnTo>
                          <a:pt x="1017" y="173"/>
                        </a:lnTo>
                        <a:lnTo>
                          <a:pt x="15" y="173"/>
                        </a:lnTo>
                        <a:lnTo>
                          <a:pt x="6" y="168"/>
                        </a:lnTo>
                        <a:lnTo>
                          <a:pt x="0" y="161"/>
                        </a:lnTo>
                        <a:lnTo>
                          <a:pt x="2" y="152"/>
                        </a:lnTo>
                        <a:lnTo>
                          <a:pt x="129" y="0"/>
                        </a:lnTo>
                        <a:close/>
                      </a:path>
                    </a:pathLst>
                  </a:custGeom>
                  <a:solidFill>
                    <a:srgbClr val="ffffff"/>
                  </a:solidFill>
                  <a:ln w="144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9" name=""/>
                  <p:cNvSpPr/>
                  <p:nvPr/>
                </p:nvSpPr>
                <p:spPr>
                  <a:xfrm>
                    <a:off x="5842800" y="5329800"/>
                    <a:ext cx="372600" cy="54360"/>
                  </a:xfrm>
                  <a:custGeom>
                    <a:avLst/>
                    <a:gdLst/>
                    <a:ahLst/>
                    <a:rect l="l" t="t" r="r" b="b"/>
                    <a:pathLst>
                      <a:path w="684" h="110">
                        <a:moveTo>
                          <a:pt x="92" y="0"/>
                        </a:moveTo>
                        <a:lnTo>
                          <a:pt x="652" y="0"/>
                        </a:lnTo>
                        <a:lnTo>
                          <a:pt x="684" y="110"/>
                        </a:lnTo>
                        <a:lnTo>
                          <a:pt x="0" y="110"/>
                        </a:lnTo>
                        <a:lnTo>
                          <a:pt x="92" y="0"/>
                        </a:lnTo>
                        <a:close/>
                      </a:path>
                    </a:pathLst>
                  </a:custGeom>
                  <a:solidFill>
                    <a:srgbClr val="ffffff"/>
                  </a:solidFill>
                  <a:ln w="144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0" name=""/>
                  <p:cNvSpPr/>
                  <p:nvPr/>
                </p:nvSpPr>
                <p:spPr>
                  <a:xfrm>
                    <a:off x="6227640" y="5329800"/>
                    <a:ext cx="112680" cy="54360"/>
                  </a:xfrm>
                  <a:custGeom>
                    <a:avLst/>
                    <a:gdLst/>
                    <a:ahLst/>
                    <a:rect l="l" t="t" r="r" b="b"/>
                    <a:pathLst>
                      <a:path w="207" h="110">
                        <a:moveTo>
                          <a:pt x="0" y="0"/>
                        </a:moveTo>
                        <a:lnTo>
                          <a:pt x="121" y="0"/>
                        </a:lnTo>
                        <a:lnTo>
                          <a:pt x="207" y="110"/>
                        </a:lnTo>
                        <a:lnTo>
                          <a:pt x="38" y="11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151" name=""/>
                <p:cNvGrpSpPr/>
                <p:nvPr/>
              </p:nvGrpSpPr>
              <p:grpSpPr>
                <a:xfrm>
                  <a:off x="5905080" y="4974480"/>
                  <a:ext cx="374400" cy="260640"/>
                  <a:chOff x="5905080" y="4974480"/>
                  <a:chExt cx="374400" cy="260640"/>
                </a:xfrm>
              </p:grpSpPr>
              <p:sp>
                <p:nvSpPr>
                  <p:cNvPr id="152" name=""/>
                  <p:cNvSpPr/>
                  <p:nvPr/>
                </p:nvSpPr>
                <p:spPr>
                  <a:xfrm>
                    <a:off x="5905080" y="4974480"/>
                    <a:ext cx="374400" cy="260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929560" y="4996080"/>
                    <a:ext cx="325080" cy="220680"/>
                  </a:xfrm>
                  <a:prstGeom prst="rect">
                    <a:avLst/>
                  </a:prstGeom>
                  <a:solidFill>
                    <a:srgbClr val="114ffb"/>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08200" y="4996080"/>
                    <a:ext cx="45720" cy="220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19000" y="5007240"/>
                    <a:ext cx="22320" cy="14040"/>
                  </a:xfrm>
                  <a:prstGeom prst="rect">
                    <a:avLst/>
                  </a:prstGeom>
                  <a:solidFill>
                    <a:srgbClr val="ffffff"/>
                  </a:solidFill>
                  <a:ln w="144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6" name=""/>
                  <p:cNvSpPr/>
                  <p:nvPr/>
                </p:nvSpPr>
                <p:spPr>
                  <a:xfrm>
                    <a:off x="6221160" y="5103360"/>
                    <a:ext cx="16920" cy="13680"/>
                  </a:xfrm>
                  <a:prstGeom prst="ellipse">
                    <a:avLst/>
                  </a:prstGeom>
                  <a:solidFill>
                    <a:srgbClr val="ffffff"/>
                  </a:solidFill>
                  <a:ln w="144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7" name=""/>
                  <p:cNvSpPr/>
                  <p:nvPr/>
                </p:nvSpPr>
                <p:spPr>
                  <a:xfrm>
                    <a:off x="6221160" y="5143320"/>
                    <a:ext cx="16920" cy="14040"/>
                  </a:xfrm>
                  <a:prstGeom prst="ellipse">
                    <a:avLst/>
                  </a:prstGeom>
                  <a:solidFill>
                    <a:srgbClr val="ffffff"/>
                  </a:solidFill>
                  <a:ln w="144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8" name=""/>
                  <p:cNvSpPr/>
                  <p:nvPr/>
                </p:nvSpPr>
                <p:spPr>
                  <a:xfrm>
                    <a:off x="6221160" y="5181840"/>
                    <a:ext cx="16920" cy="13680"/>
                  </a:xfrm>
                  <a:prstGeom prst="ellipse">
                    <a:avLst/>
                  </a:prstGeom>
                  <a:solidFill>
                    <a:srgbClr val="ffffff"/>
                  </a:solidFill>
                  <a:ln w="144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nvGrpSpPr>
              <p:cNvPr id="159" name=""/>
              <p:cNvGrpSpPr/>
              <p:nvPr/>
            </p:nvGrpSpPr>
            <p:grpSpPr>
              <a:xfrm>
                <a:off x="6670080" y="4520880"/>
                <a:ext cx="449280" cy="137520"/>
                <a:chOff x="6670080" y="4520880"/>
                <a:chExt cx="449280" cy="137520"/>
              </a:xfrm>
            </p:grpSpPr>
            <p:sp>
              <p:nvSpPr>
                <p:cNvPr id="160" name=""/>
                <p:cNvSpPr/>
                <p:nvPr/>
              </p:nvSpPr>
              <p:spPr>
                <a:xfrm>
                  <a:off x="6670080" y="4526640"/>
                  <a:ext cx="449280" cy="131760"/>
                </a:xfrm>
                <a:prstGeom prst="rect">
                  <a:avLst/>
                </a:prstGeom>
                <a:solidFill>
                  <a:srgbClr val="c0c0c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71520" y="4618080"/>
                  <a:ext cx="446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162" name=""/>
                <p:cNvGrpSpPr/>
                <p:nvPr/>
              </p:nvGrpSpPr>
              <p:grpSpPr>
                <a:xfrm>
                  <a:off x="6936120" y="4626720"/>
                  <a:ext cx="111240" cy="30960"/>
                  <a:chOff x="6936120" y="4626720"/>
                  <a:chExt cx="111240" cy="30960"/>
                </a:xfrm>
              </p:grpSpPr>
              <p:sp>
                <p:nvSpPr>
                  <p:cNvPr id="163" name=""/>
                  <p:cNvSpPr/>
                  <p:nvPr/>
                </p:nvSpPr>
                <p:spPr>
                  <a:xfrm>
                    <a:off x="6936120" y="4626720"/>
                    <a:ext cx="118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4" name=""/>
                  <p:cNvSpPr/>
                  <p:nvPr/>
                </p:nvSpPr>
                <p:spPr>
                  <a:xfrm>
                    <a:off x="6971400" y="4626720"/>
                    <a:ext cx="118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5" name=""/>
                  <p:cNvSpPr/>
                  <p:nvPr/>
                </p:nvSpPr>
                <p:spPr>
                  <a:xfrm>
                    <a:off x="7004160" y="4626720"/>
                    <a:ext cx="118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6" name=""/>
                  <p:cNvSpPr/>
                  <p:nvPr/>
                </p:nvSpPr>
                <p:spPr>
                  <a:xfrm>
                    <a:off x="7036200" y="4626720"/>
                    <a:ext cx="1116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sp>
              <p:nvSpPr>
                <p:cNvPr id="167" name=""/>
                <p:cNvSpPr/>
                <p:nvPr/>
              </p:nvSpPr>
              <p:spPr>
                <a:xfrm>
                  <a:off x="6728400" y="4520880"/>
                  <a:ext cx="900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grpSp>
            <p:nvGrpSpPr>
              <p:cNvPr id="168" name=""/>
              <p:cNvGrpSpPr/>
              <p:nvPr/>
            </p:nvGrpSpPr>
            <p:grpSpPr>
              <a:xfrm>
                <a:off x="7557120" y="4374720"/>
                <a:ext cx="654480" cy="283320"/>
                <a:chOff x="7557120" y="4374720"/>
                <a:chExt cx="654480" cy="283320"/>
              </a:xfrm>
            </p:grpSpPr>
            <p:grpSp>
              <p:nvGrpSpPr>
                <p:cNvPr id="169" name=""/>
                <p:cNvGrpSpPr/>
                <p:nvPr/>
              </p:nvGrpSpPr>
              <p:grpSpPr>
                <a:xfrm>
                  <a:off x="7557120" y="4374720"/>
                  <a:ext cx="654480" cy="283320"/>
                  <a:chOff x="7557120" y="4374720"/>
                  <a:chExt cx="654480" cy="283320"/>
                </a:xfrm>
              </p:grpSpPr>
              <p:sp>
                <p:nvSpPr>
                  <p:cNvPr id="170" name=""/>
                  <p:cNvSpPr/>
                  <p:nvPr/>
                </p:nvSpPr>
                <p:spPr>
                  <a:xfrm>
                    <a:off x="7587360" y="4524480"/>
                    <a:ext cx="515520" cy="1335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38480" y="4610160"/>
                    <a:ext cx="414360" cy="47160"/>
                  </a:xfrm>
                  <a:prstGeom prst="rect">
                    <a:avLst/>
                  </a:prstGeom>
                  <a:solidFill>
                    <a:srgbClr val="ffffff"/>
                  </a:solidFill>
                  <a:ln w="1440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2" name=""/>
                  <p:cNvSpPr/>
                  <p:nvPr/>
                </p:nvSpPr>
                <p:spPr>
                  <a:xfrm>
                    <a:off x="7567200" y="4388400"/>
                    <a:ext cx="567360" cy="136800"/>
                  </a:xfrm>
                  <a:custGeom>
                    <a:avLst/>
                    <a:gdLst/>
                    <a:ahLst/>
                    <a:rect l="l" t="t" r="r" b="b"/>
                    <a:pathLst>
                      <a:path w="1041" h="277">
                        <a:moveTo>
                          <a:pt x="0" y="223"/>
                        </a:moveTo>
                        <a:lnTo>
                          <a:pt x="44" y="277"/>
                        </a:lnTo>
                        <a:lnTo>
                          <a:pt x="979" y="277"/>
                        </a:lnTo>
                        <a:lnTo>
                          <a:pt x="1041" y="223"/>
                        </a:lnTo>
                        <a:lnTo>
                          <a:pt x="1041" y="0"/>
                        </a:lnTo>
                        <a:lnTo>
                          <a:pt x="0" y="0"/>
                        </a:lnTo>
                        <a:lnTo>
                          <a:pt x="0" y="223"/>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557120" y="4595400"/>
                    <a:ext cx="33480" cy="25200"/>
                  </a:xfrm>
                  <a:prstGeom prst="rect">
                    <a:avLst/>
                  </a:prstGeom>
                  <a:solidFill>
                    <a:srgbClr val="ffffff"/>
                  </a:solidFill>
                  <a:ln w="144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4" name=""/>
                  <p:cNvSpPr/>
                  <p:nvPr/>
                </p:nvSpPr>
                <p:spPr>
                  <a:xfrm>
                    <a:off x="7567200" y="4409640"/>
                    <a:ext cx="572400" cy="360"/>
                  </a:xfrm>
                  <a:prstGeom prst="line">
                    <a:avLst/>
                  </a:prstGeom>
                  <a:ln w="144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
                  <p:cNvSpPr/>
                  <p:nvPr/>
                </p:nvSpPr>
                <p:spPr>
                  <a:xfrm>
                    <a:off x="7709400" y="4374720"/>
                    <a:ext cx="410760" cy="15120"/>
                  </a:xfrm>
                  <a:prstGeom prst="rect">
                    <a:avLst/>
                  </a:prstGeom>
                  <a:solidFill>
                    <a:srgbClr val="ffffff"/>
                  </a:solidFill>
                  <a:ln w="1440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6" name=""/>
                  <p:cNvSpPr/>
                  <p:nvPr/>
                </p:nvSpPr>
                <p:spPr>
                  <a:xfrm>
                    <a:off x="8101080" y="4546440"/>
                    <a:ext cx="110520" cy="44280"/>
                  </a:xfrm>
                  <a:custGeom>
                    <a:avLst/>
                    <a:gdLst/>
                    <a:ahLst/>
                    <a:rect l="l" t="t" r="r" b="b"/>
                    <a:pathLst>
                      <a:path w="203" h="90">
                        <a:moveTo>
                          <a:pt x="0" y="54"/>
                        </a:moveTo>
                        <a:lnTo>
                          <a:pt x="203" y="0"/>
                        </a:lnTo>
                        <a:lnTo>
                          <a:pt x="203" y="33"/>
                        </a:lnTo>
                        <a:lnTo>
                          <a:pt x="0" y="90"/>
                        </a:lnTo>
                        <a:lnTo>
                          <a:pt x="0" y="54"/>
                        </a:lnTo>
                        <a:close/>
                      </a:path>
                    </a:pathLst>
                  </a:custGeom>
                  <a:solidFill>
                    <a:srgbClr val="ffffff"/>
                  </a:solidFill>
                  <a:ln w="144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177" name=""/>
                <p:cNvGrpSpPr/>
                <p:nvPr/>
              </p:nvGrpSpPr>
              <p:grpSpPr>
                <a:xfrm>
                  <a:off x="7616160" y="4428360"/>
                  <a:ext cx="33840" cy="30960"/>
                  <a:chOff x="7616160" y="4428360"/>
                  <a:chExt cx="33840" cy="30960"/>
                </a:xfrm>
              </p:grpSpPr>
              <p:sp>
                <p:nvSpPr>
                  <p:cNvPr id="178" name=""/>
                  <p:cNvSpPr/>
                  <p:nvPr/>
                </p:nvSpPr>
                <p:spPr>
                  <a:xfrm>
                    <a:off x="7617240" y="4429080"/>
                    <a:ext cx="32040" cy="29520"/>
                  </a:xfrm>
                  <a:prstGeom prst="rect">
                    <a:avLst/>
                  </a:prstGeom>
                  <a:solidFill>
                    <a:srgbClr val="ffffff"/>
                  </a:solidFill>
                  <a:ln w="144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9" name=""/>
                  <p:cNvSpPr/>
                  <p:nvPr/>
                </p:nvSpPr>
                <p:spPr>
                  <a:xfrm>
                    <a:off x="7616160" y="4428360"/>
                    <a:ext cx="33840" cy="30960"/>
                  </a:xfrm>
                  <a:custGeom>
                    <a:avLst/>
                    <a:gdLst/>
                    <a:ahLst/>
                    <a:rect l="l" t="t" r="r" b="b"/>
                    <a:pathLst>
                      <a:path w="62" h="63">
                        <a:moveTo>
                          <a:pt x="61" y="11"/>
                        </a:moveTo>
                        <a:lnTo>
                          <a:pt x="9" y="11"/>
                        </a:lnTo>
                        <a:lnTo>
                          <a:pt x="9" y="63"/>
                        </a:lnTo>
                        <a:lnTo>
                          <a:pt x="0" y="63"/>
                        </a:lnTo>
                        <a:lnTo>
                          <a:pt x="0" y="0"/>
                        </a:lnTo>
                        <a:lnTo>
                          <a:pt x="62" y="0"/>
                        </a:lnTo>
                        <a:lnTo>
                          <a:pt x="61" y="1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grpSp>
            <p:nvGrpSpPr>
              <p:cNvPr id="180" name=""/>
              <p:cNvGrpSpPr/>
              <p:nvPr/>
            </p:nvGrpSpPr>
            <p:grpSpPr>
              <a:xfrm>
                <a:off x="5638680" y="4232160"/>
                <a:ext cx="720360" cy="426600"/>
                <a:chOff x="5638680" y="4232160"/>
                <a:chExt cx="720360" cy="426600"/>
              </a:xfrm>
            </p:grpSpPr>
            <p:sp>
              <p:nvSpPr>
                <p:cNvPr id="181" name=""/>
                <p:cNvSpPr/>
                <p:nvPr/>
              </p:nvSpPr>
              <p:spPr>
                <a:xfrm>
                  <a:off x="6061680" y="4504320"/>
                  <a:ext cx="153360" cy="61560"/>
                </a:xfrm>
                <a:custGeom>
                  <a:avLst/>
                  <a:gdLst/>
                  <a:ahLst/>
                  <a:rect l="l" t="t" r="r" b="b"/>
                  <a:pathLst>
                    <a:path w="282" h="125">
                      <a:moveTo>
                        <a:pt x="0" y="13"/>
                      </a:moveTo>
                      <a:lnTo>
                        <a:pt x="104" y="0"/>
                      </a:lnTo>
                      <a:lnTo>
                        <a:pt x="128" y="4"/>
                      </a:lnTo>
                      <a:lnTo>
                        <a:pt x="146" y="16"/>
                      </a:lnTo>
                      <a:lnTo>
                        <a:pt x="171" y="77"/>
                      </a:lnTo>
                      <a:lnTo>
                        <a:pt x="187" y="100"/>
                      </a:lnTo>
                      <a:lnTo>
                        <a:pt x="201" y="112"/>
                      </a:lnTo>
                      <a:lnTo>
                        <a:pt x="216" y="117"/>
                      </a:lnTo>
                      <a:lnTo>
                        <a:pt x="237" y="122"/>
                      </a:lnTo>
                      <a:lnTo>
                        <a:pt x="282" y="125"/>
                      </a:lnTo>
                    </a:path>
                  </a:pathLst>
                </a:custGeom>
                <a:noFill/>
                <a:ln w="2844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nvGrpSpPr>
                <p:cNvPr id="182" name=""/>
                <p:cNvGrpSpPr/>
                <p:nvPr/>
              </p:nvGrpSpPr>
              <p:grpSpPr>
                <a:xfrm>
                  <a:off x="5638680" y="4365360"/>
                  <a:ext cx="560160" cy="293400"/>
                  <a:chOff x="5638680" y="4365360"/>
                  <a:chExt cx="560160" cy="293400"/>
                </a:xfrm>
              </p:grpSpPr>
              <p:grpSp>
                <p:nvGrpSpPr>
                  <p:cNvPr id="183" name=""/>
                  <p:cNvGrpSpPr/>
                  <p:nvPr/>
                </p:nvGrpSpPr>
                <p:grpSpPr>
                  <a:xfrm>
                    <a:off x="5638680" y="4573800"/>
                    <a:ext cx="560160" cy="84960"/>
                    <a:chOff x="5638680" y="4573800"/>
                    <a:chExt cx="560160" cy="84960"/>
                  </a:xfrm>
                </p:grpSpPr>
                <p:sp>
                  <p:nvSpPr>
                    <p:cNvPr id="184" name=""/>
                    <p:cNvSpPr/>
                    <p:nvPr/>
                  </p:nvSpPr>
                  <p:spPr>
                    <a:xfrm>
                      <a:off x="5638680" y="4573800"/>
                      <a:ext cx="560160" cy="84960"/>
                    </a:xfrm>
                    <a:custGeom>
                      <a:avLst/>
                      <a:gdLst/>
                      <a:ahLst/>
                      <a:rect l="l" t="t" r="r" b="b"/>
                      <a:pathLst>
                        <a:path w="1028" h="172">
                          <a:moveTo>
                            <a:pt x="127" y="0"/>
                          </a:moveTo>
                          <a:lnTo>
                            <a:pt x="904" y="0"/>
                          </a:lnTo>
                          <a:lnTo>
                            <a:pt x="1027" y="156"/>
                          </a:lnTo>
                          <a:lnTo>
                            <a:pt x="1028" y="164"/>
                          </a:lnTo>
                          <a:lnTo>
                            <a:pt x="1024" y="170"/>
                          </a:lnTo>
                          <a:lnTo>
                            <a:pt x="1016" y="172"/>
                          </a:lnTo>
                          <a:lnTo>
                            <a:pt x="14" y="172"/>
                          </a:lnTo>
                          <a:lnTo>
                            <a:pt x="4" y="169"/>
                          </a:lnTo>
                          <a:lnTo>
                            <a:pt x="0" y="162"/>
                          </a:lnTo>
                          <a:lnTo>
                            <a:pt x="2" y="153"/>
                          </a:lnTo>
                          <a:lnTo>
                            <a:pt x="127" y="0"/>
                          </a:lnTo>
                          <a:close/>
                        </a:path>
                      </a:pathLst>
                    </a:custGeom>
                    <a:solidFill>
                      <a:srgbClr val="ffffff"/>
                    </a:solidFill>
                    <a:ln w="144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5" name=""/>
                    <p:cNvSpPr/>
                    <p:nvPr/>
                  </p:nvSpPr>
                  <p:spPr>
                    <a:xfrm>
                      <a:off x="5668920" y="4591800"/>
                      <a:ext cx="372600" cy="54720"/>
                    </a:xfrm>
                    <a:custGeom>
                      <a:avLst/>
                      <a:gdLst/>
                      <a:ahLst/>
                      <a:rect l="l" t="t" r="r" b="b"/>
                      <a:pathLst>
                        <a:path w="684" h="111">
                          <a:moveTo>
                            <a:pt x="93" y="0"/>
                          </a:moveTo>
                          <a:lnTo>
                            <a:pt x="652" y="0"/>
                          </a:lnTo>
                          <a:lnTo>
                            <a:pt x="684" y="111"/>
                          </a:lnTo>
                          <a:lnTo>
                            <a:pt x="0" y="111"/>
                          </a:lnTo>
                          <a:lnTo>
                            <a:pt x="93" y="0"/>
                          </a:lnTo>
                          <a:close/>
                        </a:path>
                      </a:pathLst>
                    </a:custGeom>
                    <a:solidFill>
                      <a:srgbClr val="ffffff"/>
                    </a:solidFill>
                    <a:ln w="1440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6" name=""/>
                    <p:cNvSpPr/>
                    <p:nvPr/>
                  </p:nvSpPr>
                  <p:spPr>
                    <a:xfrm>
                      <a:off x="6053760" y="4591800"/>
                      <a:ext cx="112680" cy="54720"/>
                    </a:xfrm>
                    <a:custGeom>
                      <a:avLst/>
                      <a:gdLst/>
                      <a:ahLst/>
                      <a:rect l="l" t="t" r="r" b="b"/>
                      <a:pathLst>
                        <a:path w="207" h="111">
                          <a:moveTo>
                            <a:pt x="0" y="0"/>
                          </a:moveTo>
                          <a:lnTo>
                            <a:pt x="123" y="0"/>
                          </a:lnTo>
                          <a:lnTo>
                            <a:pt x="207" y="111"/>
                          </a:lnTo>
                          <a:lnTo>
                            <a:pt x="39" y="111"/>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87" name=""/>
                  <p:cNvSpPr/>
                  <p:nvPr/>
                </p:nvSpPr>
                <p:spPr>
                  <a:xfrm>
                    <a:off x="5765400" y="4365360"/>
                    <a:ext cx="305280" cy="2055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807880" y="4393440"/>
                    <a:ext cx="220680" cy="141120"/>
                  </a:xfrm>
                  <a:prstGeom prst="rect">
                    <a:avLst/>
                  </a:prstGeom>
                  <a:solidFill>
                    <a:srgbClr val="114ffb"/>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001560" y="4547520"/>
                    <a:ext cx="280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sp>
              <p:nvSpPr>
                <p:cNvPr id="190" name=""/>
                <p:cNvSpPr/>
                <p:nvPr/>
              </p:nvSpPr>
              <p:spPr>
                <a:xfrm>
                  <a:off x="6203880" y="4232160"/>
                  <a:ext cx="155160" cy="407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244200" y="4268520"/>
                  <a:ext cx="93600" cy="1155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35640" y="4383360"/>
                  <a:ext cx="4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253920" y="4300200"/>
                  <a:ext cx="27720" cy="53280"/>
                </a:xfrm>
                <a:prstGeom prst="rect">
                  <a:avLst/>
                </a:prstGeom>
                <a:solidFill>
                  <a:srgbClr val="c0c0c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4" name=""/>
                <p:cNvSpPr/>
                <p:nvPr/>
              </p:nvSpPr>
              <p:spPr>
                <a:xfrm>
                  <a:off x="6264720" y="4268520"/>
                  <a:ext cx="648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18720" y="4290840"/>
                  <a:ext cx="16920" cy="2556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6" name=""/>
                <p:cNvSpPr/>
                <p:nvPr/>
              </p:nvSpPr>
              <p:spPr>
                <a:xfrm>
                  <a:off x="6318720" y="4336200"/>
                  <a:ext cx="15480" cy="2556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197" name=""/>
              <p:cNvGrpSpPr/>
              <p:nvPr/>
            </p:nvGrpSpPr>
            <p:grpSpPr>
              <a:xfrm>
                <a:off x="6681960" y="4974480"/>
                <a:ext cx="560160" cy="423000"/>
                <a:chOff x="6681960" y="4974480"/>
                <a:chExt cx="560160" cy="423000"/>
              </a:xfrm>
            </p:grpSpPr>
            <p:grpSp>
              <p:nvGrpSpPr>
                <p:cNvPr id="198" name=""/>
                <p:cNvGrpSpPr/>
                <p:nvPr/>
              </p:nvGrpSpPr>
              <p:grpSpPr>
                <a:xfrm>
                  <a:off x="6703560" y="5239080"/>
                  <a:ext cx="515520" cy="133560"/>
                  <a:chOff x="6703560" y="5239080"/>
                  <a:chExt cx="515520" cy="133560"/>
                </a:xfrm>
              </p:grpSpPr>
              <p:sp>
                <p:nvSpPr>
                  <p:cNvPr id="199" name=""/>
                  <p:cNvSpPr/>
                  <p:nvPr/>
                </p:nvSpPr>
                <p:spPr>
                  <a:xfrm>
                    <a:off x="6703560" y="5239080"/>
                    <a:ext cx="515520" cy="1335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990120" y="5262120"/>
                    <a:ext cx="177480" cy="61200"/>
                  </a:xfrm>
                  <a:prstGeom prst="rect">
                    <a:avLst/>
                  </a:prstGeom>
                  <a:solidFill>
                    <a:srgbClr val="808080"/>
                  </a:solidFill>
                  <a:ln w="1440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1" name=""/>
                <p:cNvGrpSpPr/>
                <p:nvPr/>
              </p:nvGrpSpPr>
              <p:grpSpPr>
                <a:xfrm>
                  <a:off x="6681960" y="5312160"/>
                  <a:ext cx="560160" cy="85320"/>
                  <a:chOff x="6681960" y="5312160"/>
                  <a:chExt cx="560160" cy="85320"/>
                </a:xfrm>
              </p:grpSpPr>
              <p:sp>
                <p:nvSpPr>
                  <p:cNvPr id="202" name=""/>
                  <p:cNvSpPr/>
                  <p:nvPr/>
                </p:nvSpPr>
                <p:spPr>
                  <a:xfrm>
                    <a:off x="6681960" y="5312160"/>
                    <a:ext cx="560160" cy="85320"/>
                  </a:xfrm>
                  <a:custGeom>
                    <a:avLst/>
                    <a:gdLst/>
                    <a:ahLst/>
                    <a:rect l="l" t="t" r="r" b="b"/>
                    <a:pathLst>
                      <a:path w="1028" h="173">
                        <a:moveTo>
                          <a:pt x="128" y="0"/>
                        </a:moveTo>
                        <a:lnTo>
                          <a:pt x="904" y="0"/>
                        </a:lnTo>
                        <a:lnTo>
                          <a:pt x="1026" y="156"/>
                        </a:lnTo>
                        <a:lnTo>
                          <a:pt x="1028" y="163"/>
                        </a:lnTo>
                        <a:lnTo>
                          <a:pt x="1024" y="170"/>
                        </a:lnTo>
                        <a:lnTo>
                          <a:pt x="1016" y="173"/>
                        </a:lnTo>
                        <a:lnTo>
                          <a:pt x="13" y="173"/>
                        </a:lnTo>
                        <a:lnTo>
                          <a:pt x="5" y="168"/>
                        </a:lnTo>
                        <a:lnTo>
                          <a:pt x="0" y="161"/>
                        </a:lnTo>
                        <a:lnTo>
                          <a:pt x="1" y="152"/>
                        </a:lnTo>
                        <a:lnTo>
                          <a:pt x="128" y="0"/>
                        </a:lnTo>
                        <a:close/>
                      </a:path>
                    </a:pathLst>
                  </a:custGeom>
                  <a:solidFill>
                    <a:srgbClr val="ffffff"/>
                  </a:solidFill>
                  <a:ln w="144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3" name=""/>
                  <p:cNvSpPr/>
                  <p:nvPr/>
                </p:nvSpPr>
                <p:spPr>
                  <a:xfrm>
                    <a:off x="6712200" y="5329800"/>
                    <a:ext cx="372600" cy="54360"/>
                  </a:xfrm>
                  <a:custGeom>
                    <a:avLst/>
                    <a:gdLst/>
                    <a:ahLst/>
                    <a:rect l="l" t="t" r="r" b="b"/>
                    <a:pathLst>
                      <a:path w="684" h="110">
                        <a:moveTo>
                          <a:pt x="93" y="0"/>
                        </a:moveTo>
                        <a:lnTo>
                          <a:pt x="652" y="0"/>
                        </a:lnTo>
                        <a:lnTo>
                          <a:pt x="684" y="110"/>
                        </a:lnTo>
                        <a:lnTo>
                          <a:pt x="0" y="110"/>
                        </a:lnTo>
                        <a:lnTo>
                          <a:pt x="93" y="0"/>
                        </a:lnTo>
                        <a:close/>
                      </a:path>
                    </a:pathLst>
                  </a:custGeom>
                  <a:solidFill>
                    <a:srgbClr val="ffffff"/>
                  </a:solidFill>
                  <a:ln w="144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4" name=""/>
                  <p:cNvSpPr/>
                  <p:nvPr/>
                </p:nvSpPr>
                <p:spPr>
                  <a:xfrm>
                    <a:off x="7097040" y="5329800"/>
                    <a:ext cx="113040" cy="54360"/>
                  </a:xfrm>
                  <a:custGeom>
                    <a:avLst/>
                    <a:gdLst/>
                    <a:ahLst/>
                    <a:rect l="l" t="t" r="r" b="b"/>
                    <a:pathLst>
                      <a:path w="208" h="110">
                        <a:moveTo>
                          <a:pt x="0" y="0"/>
                        </a:moveTo>
                        <a:lnTo>
                          <a:pt x="123" y="0"/>
                        </a:lnTo>
                        <a:lnTo>
                          <a:pt x="208" y="110"/>
                        </a:lnTo>
                        <a:lnTo>
                          <a:pt x="39" y="11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205" name=""/>
                <p:cNvGrpSpPr/>
                <p:nvPr/>
              </p:nvGrpSpPr>
              <p:grpSpPr>
                <a:xfrm>
                  <a:off x="6775560" y="4974480"/>
                  <a:ext cx="373680" cy="260640"/>
                  <a:chOff x="6775560" y="4974480"/>
                  <a:chExt cx="373680" cy="260640"/>
                </a:xfrm>
              </p:grpSpPr>
              <p:sp>
                <p:nvSpPr>
                  <p:cNvPr id="206" name=""/>
                  <p:cNvSpPr/>
                  <p:nvPr/>
                </p:nvSpPr>
                <p:spPr>
                  <a:xfrm>
                    <a:off x="6775560" y="4974480"/>
                    <a:ext cx="373680" cy="260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799320" y="4996080"/>
                    <a:ext cx="325080" cy="220680"/>
                  </a:xfrm>
                  <a:prstGeom prst="rect">
                    <a:avLst/>
                  </a:prstGeom>
                  <a:solidFill>
                    <a:srgbClr val="114ffb"/>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077240" y="4996080"/>
                    <a:ext cx="46080" cy="220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088760" y="5007240"/>
                    <a:ext cx="22680" cy="14040"/>
                  </a:xfrm>
                  <a:prstGeom prst="rect">
                    <a:avLst/>
                  </a:prstGeom>
                  <a:solidFill>
                    <a:srgbClr val="ffffff"/>
                  </a:solidFill>
                  <a:ln w="144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0" name=""/>
                  <p:cNvSpPr/>
                  <p:nvPr/>
                </p:nvSpPr>
                <p:spPr>
                  <a:xfrm>
                    <a:off x="7090920" y="5103360"/>
                    <a:ext cx="16560" cy="13680"/>
                  </a:xfrm>
                  <a:prstGeom prst="ellipse">
                    <a:avLst/>
                  </a:prstGeom>
                  <a:solidFill>
                    <a:srgbClr val="ffffff"/>
                  </a:solidFill>
                  <a:ln w="144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 name=""/>
                  <p:cNvSpPr/>
                  <p:nvPr/>
                </p:nvSpPr>
                <p:spPr>
                  <a:xfrm>
                    <a:off x="7090920" y="5143320"/>
                    <a:ext cx="16560" cy="14040"/>
                  </a:xfrm>
                  <a:prstGeom prst="ellipse">
                    <a:avLst/>
                  </a:prstGeom>
                  <a:solidFill>
                    <a:srgbClr val="ffffff"/>
                  </a:solidFill>
                  <a:ln w="144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12" name=""/>
                  <p:cNvSpPr/>
                  <p:nvPr/>
                </p:nvSpPr>
                <p:spPr>
                  <a:xfrm>
                    <a:off x="7090920" y="5181840"/>
                    <a:ext cx="16560" cy="13680"/>
                  </a:xfrm>
                  <a:prstGeom prst="ellipse">
                    <a:avLst/>
                  </a:prstGeom>
                  <a:solidFill>
                    <a:srgbClr val="ffffff"/>
                  </a:solidFill>
                  <a:ln w="144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nvGrpSpPr>
              <p:cNvPr id="213" name=""/>
              <p:cNvGrpSpPr/>
              <p:nvPr/>
            </p:nvGrpSpPr>
            <p:grpSpPr>
              <a:xfrm>
                <a:off x="7592400" y="4974480"/>
                <a:ext cx="560880" cy="423000"/>
                <a:chOff x="7592400" y="4974480"/>
                <a:chExt cx="560880" cy="423000"/>
              </a:xfrm>
            </p:grpSpPr>
            <p:grpSp>
              <p:nvGrpSpPr>
                <p:cNvPr id="214" name=""/>
                <p:cNvGrpSpPr/>
                <p:nvPr/>
              </p:nvGrpSpPr>
              <p:grpSpPr>
                <a:xfrm>
                  <a:off x="7614000" y="5239080"/>
                  <a:ext cx="515520" cy="133560"/>
                  <a:chOff x="7614000" y="5239080"/>
                  <a:chExt cx="515520" cy="133560"/>
                </a:xfrm>
              </p:grpSpPr>
              <p:sp>
                <p:nvSpPr>
                  <p:cNvPr id="215" name=""/>
                  <p:cNvSpPr/>
                  <p:nvPr/>
                </p:nvSpPr>
                <p:spPr>
                  <a:xfrm>
                    <a:off x="7614000" y="5239080"/>
                    <a:ext cx="515520" cy="1335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900560" y="5262120"/>
                    <a:ext cx="178920" cy="61200"/>
                  </a:xfrm>
                  <a:prstGeom prst="rect">
                    <a:avLst/>
                  </a:prstGeom>
                  <a:solidFill>
                    <a:srgbClr val="808080"/>
                  </a:solidFill>
                  <a:ln w="1440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17" name=""/>
                <p:cNvGrpSpPr/>
                <p:nvPr/>
              </p:nvGrpSpPr>
              <p:grpSpPr>
                <a:xfrm>
                  <a:off x="7592400" y="5312160"/>
                  <a:ext cx="560880" cy="85320"/>
                  <a:chOff x="7592400" y="5312160"/>
                  <a:chExt cx="560880" cy="85320"/>
                </a:xfrm>
              </p:grpSpPr>
              <p:sp>
                <p:nvSpPr>
                  <p:cNvPr id="218" name=""/>
                  <p:cNvSpPr/>
                  <p:nvPr/>
                </p:nvSpPr>
                <p:spPr>
                  <a:xfrm>
                    <a:off x="7592400" y="5312160"/>
                    <a:ext cx="560880" cy="85320"/>
                  </a:xfrm>
                  <a:custGeom>
                    <a:avLst/>
                    <a:gdLst/>
                    <a:ahLst/>
                    <a:rect l="l" t="t" r="r" b="b"/>
                    <a:pathLst>
                      <a:path w="1029" h="173">
                        <a:moveTo>
                          <a:pt x="129" y="0"/>
                        </a:moveTo>
                        <a:lnTo>
                          <a:pt x="905" y="0"/>
                        </a:lnTo>
                        <a:lnTo>
                          <a:pt x="1028" y="156"/>
                        </a:lnTo>
                        <a:lnTo>
                          <a:pt x="1029" y="163"/>
                        </a:lnTo>
                        <a:lnTo>
                          <a:pt x="1025" y="170"/>
                        </a:lnTo>
                        <a:lnTo>
                          <a:pt x="1017" y="173"/>
                        </a:lnTo>
                        <a:lnTo>
                          <a:pt x="14" y="173"/>
                        </a:lnTo>
                        <a:lnTo>
                          <a:pt x="6" y="168"/>
                        </a:lnTo>
                        <a:lnTo>
                          <a:pt x="0" y="161"/>
                        </a:lnTo>
                        <a:lnTo>
                          <a:pt x="2" y="152"/>
                        </a:lnTo>
                        <a:lnTo>
                          <a:pt x="129" y="0"/>
                        </a:lnTo>
                        <a:close/>
                      </a:path>
                    </a:pathLst>
                  </a:custGeom>
                  <a:solidFill>
                    <a:srgbClr val="ffffff"/>
                  </a:solidFill>
                  <a:ln w="144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9" name=""/>
                  <p:cNvSpPr/>
                  <p:nvPr/>
                </p:nvSpPr>
                <p:spPr>
                  <a:xfrm>
                    <a:off x="7623360" y="5329800"/>
                    <a:ext cx="373320" cy="54360"/>
                  </a:xfrm>
                  <a:custGeom>
                    <a:avLst/>
                    <a:gdLst/>
                    <a:ahLst/>
                    <a:rect l="l" t="t" r="r" b="b"/>
                    <a:pathLst>
                      <a:path w="685" h="110">
                        <a:moveTo>
                          <a:pt x="92" y="0"/>
                        </a:moveTo>
                        <a:lnTo>
                          <a:pt x="652" y="0"/>
                        </a:lnTo>
                        <a:lnTo>
                          <a:pt x="685" y="110"/>
                        </a:lnTo>
                        <a:lnTo>
                          <a:pt x="0" y="110"/>
                        </a:lnTo>
                        <a:lnTo>
                          <a:pt x="92" y="0"/>
                        </a:lnTo>
                        <a:close/>
                      </a:path>
                    </a:pathLst>
                  </a:custGeom>
                  <a:solidFill>
                    <a:srgbClr val="ffffff"/>
                  </a:solidFill>
                  <a:ln w="144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0" name=""/>
                  <p:cNvSpPr/>
                  <p:nvPr/>
                </p:nvSpPr>
                <p:spPr>
                  <a:xfrm>
                    <a:off x="8007840" y="5329800"/>
                    <a:ext cx="113760" cy="54360"/>
                  </a:xfrm>
                  <a:custGeom>
                    <a:avLst/>
                    <a:gdLst/>
                    <a:ahLst/>
                    <a:rect l="l" t="t" r="r" b="b"/>
                    <a:pathLst>
                      <a:path w="209" h="110">
                        <a:moveTo>
                          <a:pt x="0" y="0"/>
                        </a:moveTo>
                        <a:lnTo>
                          <a:pt x="123" y="0"/>
                        </a:lnTo>
                        <a:lnTo>
                          <a:pt x="209" y="110"/>
                        </a:lnTo>
                        <a:lnTo>
                          <a:pt x="39" y="11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221" name=""/>
                <p:cNvGrpSpPr/>
                <p:nvPr/>
              </p:nvGrpSpPr>
              <p:grpSpPr>
                <a:xfrm>
                  <a:off x="7686000" y="4974480"/>
                  <a:ext cx="374400" cy="260640"/>
                  <a:chOff x="7686000" y="4974480"/>
                  <a:chExt cx="374400" cy="260640"/>
                </a:xfrm>
              </p:grpSpPr>
              <p:sp>
                <p:nvSpPr>
                  <p:cNvPr id="222" name=""/>
                  <p:cNvSpPr/>
                  <p:nvPr/>
                </p:nvSpPr>
                <p:spPr>
                  <a:xfrm>
                    <a:off x="7686000" y="4974480"/>
                    <a:ext cx="374400" cy="260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10480" y="4996080"/>
                    <a:ext cx="325440" cy="220680"/>
                  </a:xfrm>
                  <a:prstGeom prst="rect">
                    <a:avLst/>
                  </a:prstGeom>
                  <a:solidFill>
                    <a:srgbClr val="114ffb"/>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989120" y="4996080"/>
                    <a:ext cx="45720" cy="220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999920" y="5007240"/>
                    <a:ext cx="22320" cy="14040"/>
                  </a:xfrm>
                  <a:prstGeom prst="rect">
                    <a:avLst/>
                  </a:prstGeom>
                  <a:solidFill>
                    <a:srgbClr val="ffffff"/>
                  </a:solidFill>
                  <a:ln w="144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6" name=""/>
                  <p:cNvSpPr/>
                  <p:nvPr/>
                </p:nvSpPr>
                <p:spPr>
                  <a:xfrm>
                    <a:off x="8002080" y="5103360"/>
                    <a:ext cx="16920" cy="13680"/>
                  </a:xfrm>
                  <a:prstGeom prst="ellipse">
                    <a:avLst/>
                  </a:prstGeom>
                  <a:solidFill>
                    <a:srgbClr val="ffffff"/>
                  </a:solidFill>
                  <a:ln w="144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7" name=""/>
                  <p:cNvSpPr/>
                  <p:nvPr/>
                </p:nvSpPr>
                <p:spPr>
                  <a:xfrm>
                    <a:off x="8002080" y="5143320"/>
                    <a:ext cx="16920" cy="14040"/>
                  </a:xfrm>
                  <a:prstGeom prst="ellipse">
                    <a:avLst/>
                  </a:prstGeom>
                  <a:solidFill>
                    <a:srgbClr val="ffffff"/>
                  </a:solidFill>
                  <a:ln w="144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28" name=""/>
                  <p:cNvSpPr/>
                  <p:nvPr/>
                </p:nvSpPr>
                <p:spPr>
                  <a:xfrm>
                    <a:off x="8002080" y="5181840"/>
                    <a:ext cx="16920" cy="13680"/>
                  </a:xfrm>
                  <a:prstGeom prst="ellipse">
                    <a:avLst/>
                  </a:prstGeom>
                  <a:solidFill>
                    <a:srgbClr val="ffffff"/>
                  </a:solidFill>
                  <a:ln w="144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pic>
          <p:nvPicPr>
            <p:cNvPr id="229" name="" descr=""/>
            <p:cNvPicPr/>
            <p:nvPr/>
          </p:nvPicPr>
          <p:blipFill>
            <a:blip r:embed="rId1"/>
            <a:srcRect l="0" t="0" r="27087" b="0"/>
            <a:stretch/>
          </p:blipFill>
          <p:spPr>
            <a:xfrm>
              <a:off x="1125360" y="4336920"/>
              <a:ext cx="928800" cy="849600"/>
            </a:xfrm>
            <a:prstGeom prst="rect">
              <a:avLst/>
            </a:prstGeom>
            <a:ln w="0">
              <a:noFill/>
            </a:ln>
          </p:spPr>
        </p:pic>
        <p:pic>
          <p:nvPicPr>
            <p:cNvPr id="230" name="" descr=""/>
            <p:cNvPicPr/>
            <p:nvPr/>
          </p:nvPicPr>
          <p:blipFill>
            <a:blip r:embed="rId2"/>
            <a:stretch/>
          </p:blipFill>
          <p:spPr>
            <a:xfrm>
              <a:off x="2432160" y="4235400"/>
              <a:ext cx="982440" cy="1103400"/>
            </a:xfrm>
            <a:prstGeom prst="rect">
              <a:avLst/>
            </a:prstGeom>
            <a:ln w="0">
              <a:noFill/>
            </a:ln>
          </p:spPr>
        </p:pic>
      </p:grpSp>
      <p:sp>
        <p:nvSpPr>
          <p:cNvPr id="231" name=""/>
          <p:cNvSpPr/>
          <p:nvPr/>
        </p:nvSpPr>
        <p:spPr>
          <a:xfrm>
            <a:off x="1221120" y="274248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ividade</a:t>
            </a:r>
            <a:endParaRPr b="0" lang="en-US" sz="2800" spc="-1" strike="noStrike">
              <a:solidFill>
                <a:srgbClr val="000000"/>
              </a:solidFill>
              <a:latin typeface="Arial"/>
            </a:endParaRPr>
          </a:p>
        </p:txBody>
      </p:sp>
      <p:sp>
        <p:nvSpPr>
          <p:cNvPr id="232" name=""/>
          <p:cNvSpPr/>
          <p:nvPr/>
        </p:nvSpPr>
        <p:spPr>
          <a:xfrm>
            <a:off x="6714000" y="2742480"/>
            <a:ext cx="1962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ção</a:t>
            </a:r>
            <a:endParaRPr b="0" lang="en-US" sz="2800" spc="-1" strike="noStrike">
              <a:solidFill>
                <a:srgbClr val="000000"/>
              </a:solidFill>
              <a:latin typeface="Arial"/>
            </a:endParaRPr>
          </a:p>
        </p:txBody>
      </p:sp>
      <p:sp>
        <p:nvSpPr>
          <p:cNvPr id="23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Elementos de um processo (de negócio)</a:t>
            </a:r>
            <a:endParaRPr b="0" lang="en-US" sz="2400" spc="-1" strike="noStrike">
              <a:solidFill>
                <a:srgbClr val="000096"/>
              </a:solidFill>
              <a:latin typeface="Arial"/>
            </a:endParaRPr>
          </a:p>
        </p:txBody>
      </p:sp>
      <p:sp>
        <p:nvSpPr>
          <p:cNvPr id="234" name=""/>
          <p:cNvSpPr/>
          <p:nvPr/>
        </p:nvSpPr>
        <p:spPr>
          <a:xfrm>
            <a:off x="302040" y="1077840"/>
            <a:ext cx="2023200" cy="1373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ratég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dores</a:t>
            </a:r>
            <a:endParaRPr b="0" lang="en-US" sz="2800" spc="-1" strike="noStrike">
              <a:solidFill>
                <a:srgbClr val="000000"/>
              </a:solidFill>
              <a:latin typeface="Arial"/>
            </a:endParaRPr>
          </a:p>
        </p:txBody>
      </p:sp>
      <p:grpSp>
        <p:nvGrpSpPr>
          <p:cNvPr id="235" name=""/>
          <p:cNvGrpSpPr/>
          <p:nvPr/>
        </p:nvGrpSpPr>
        <p:grpSpPr>
          <a:xfrm>
            <a:off x="163440" y="5526000"/>
            <a:ext cx="8980560" cy="1182600"/>
            <a:chOff x="163440" y="5526000"/>
            <a:chExt cx="8980560" cy="1182600"/>
          </a:xfrm>
        </p:grpSpPr>
        <p:sp>
          <p:nvSpPr>
            <p:cNvPr id="236" name=""/>
            <p:cNvSpPr/>
            <p:nvPr/>
          </p:nvSpPr>
          <p:spPr>
            <a:xfrm>
              <a:off x="163440" y="5526000"/>
              <a:ext cx="8980560" cy="11826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614320" y="5860440"/>
              <a:ext cx="38628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ção / Pessoas</a:t>
              </a:r>
              <a:endParaRPr b="0" lang="en-US" sz="2800" spc="-1" strike="noStrike">
                <a:solidFill>
                  <a:srgbClr val="000000"/>
                </a:solidFill>
                <a:latin typeface="Arial"/>
              </a:endParaRPr>
            </a:p>
          </p:txBody>
        </p:sp>
        <p:graphicFrame>
          <p:nvGraphicFramePr>
            <p:cNvPr id="238" name=""/>
            <p:cNvGraphicFramePr/>
            <p:nvPr/>
          </p:nvGraphicFramePr>
          <p:xfrm>
            <a:off x="7040520" y="5627520"/>
            <a:ext cx="1685880" cy="1013040"/>
          </p:xfrm>
          <a:graphic>
            <a:graphicData uri="http://schemas.openxmlformats.org/presentationml/2006/ole">
              <p:oleObj r:id="rId3" spid="">
                <p:embed/>
                <p:pic>
                  <p:nvPicPr>
                    <p:cNvPr id="239" name="" descr=""/>
                    <p:cNvPicPr/>
                    <p:nvPr/>
                  </p:nvPicPr>
                  <p:blipFill>
                    <a:blip r:embed="rId4"/>
                    <a:stretch/>
                  </p:blipFill>
                  <p:spPr>
                    <a:xfrm>
                      <a:off x="7040520" y="5627520"/>
                      <a:ext cx="1685880" cy="1013040"/>
                    </a:xfrm>
                    <a:prstGeom prst="rect">
                      <a:avLst/>
                    </a:prstGeom>
                    <a:ln w="0">
                      <a:noFill/>
                    </a:ln>
                  </p:spPr>
                </p:pic>
              </p:oleObj>
            </a:graphicData>
          </a:graphic>
        </p:graphicFrame>
        <p:grpSp>
          <p:nvGrpSpPr>
            <p:cNvPr id="240" name=""/>
            <p:cNvGrpSpPr/>
            <p:nvPr/>
          </p:nvGrpSpPr>
          <p:grpSpPr>
            <a:xfrm>
              <a:off x="378360" y="5630400"/>
              <a:ext cx="2056680" cy="990360"/>
              <a:chOff x="378360" y="5630400"/>
              <a:chExt cx="2056680" cy="990360"/>
            </a:xfrm>
          </p:grpSpPr>
          <p:cxnSp>
            <p:nvCxnSpPr>
              <p:cNvPr id="241" name=""/>
              <p:cNvCxnSpPr>
                <a:endCxn id="242" idx="1"/>
              </p:cNvCxnSpPr>
              <p:nvPr/>
            </p:nvCxnSpPr>
            <p:spPr>
              <a:xfrm flipV="1" rot="10800000">
                <a:off x="1206720" y="5630400"/>
                <a:ext cx="1058040" cy="214560"/>
              </a:xfrm>
              <a:prstGeom prst="bentConnector2">
                <a:avLst/>
              </a:prstGeom>
              <a:ln w="9360">
                <a:solidFill>
                  <a:srgbClr val="ff9900"/>
                </a:solidFill>
                <a:miter/>
              </a:ln>
            </p:spPr>
          </p:cxnSp>
          <p:cxnSp>
            <p:nvCxnSpPr>
              <p:cNvPr id="243" name=""/>
              <p:cNvCxnSpPr>
                <a:stCxn id="244" idx="0"/>
                <a:endCxn id="245" idx="1"/>
              </p:cNvCxnSpPr>
              <p:nvPr/>
            </p:nvCxnSpPr>
            <p:spPr>
              <a:xfrm flipV="1" rot="10800000">
                <a:off x="864000" y="5630400"/>
                <a:ext cx="1486440" cy="214560"/>
              </a:xfrm>
              <a:prstGeom prst="bentConnector2">
                <a:avLst/>
              </a:prstGeom>
              <a:ln w="9360">
                <a:solidFill>
                  <a:srgbClr val="ff9900"/>
                </a:solidFill>
                <a:miter/>
              </a:ln>
            </p:spPr>
          </p:cxnSp>
          <p:sp>
            <p:nvSpPr>
              <p:cNvPr id="246" name=""/>
              <p:cNvSpPr/>
              <p:nvPr/>
            </p:nvSpPr>
            <p:spPr>
              <a:xfrm rot="5400000">
                <a:off x="2246760" y="5843520"/>
                <a:ext cx="205560" cy="17100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rot="5400000">
                <a:off x="1104120" y="5861880"/>
                <a:ext cx="205560" cy="17100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rot="5400000">
                <a:off x="761040" y="5861880"/>
                <a:ext cx="205560" cy="17100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rot="5400000">
                <a:off x="1959840" y="6172200"/>
                <a:ext cx="207720" cy="17136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5400000">
                <a:off x="1731600" y="6172560"/>
                <a:ext cx="207720" cy="17100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rot="5400000">
                <a:off x="1560240" y="6431400"/>
                <a:ext cx="207720" cy="17100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rot="5400000">
                <a:off x="1388520" y="6172200"/>
                <a:ext cx="207720" cy="17136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5400000">
                <a:off x="931320" y="6172200"/>
                <a:ext cx="207720" cy="17136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5400000">
                <a:off x="588600" y="6172560"/>
                <a:ext cx="207720" cy="17100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5400000">
                <a:off x="360000" y="6172200"/>
                <a:ext cx="207720" cy="17136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4" name=""/>
              <p:cNvCxnSpPr>
                <a:stCxn id="246" idx="2"/>
                <a:endCxn id="247" idx="1"/>
              </p:cNvCxnSpPr>
              <p:nvPr/>
            </p:nvCxnSpPr>
            <p:spPr>
              <a:xfrm flipV="1" rot="10800000">
                <a:off x="2064240" y="5929920"/>
                <a:ext cx="200520" cy="224640"/>
              </a:xfrm>
              <a:prstGeom prst="bentConnector2">
                <a:avLst/>
              </a:prstGeom>
              <a:ln w="9360">
                <a:solidFill>
                  <a:srgbClr val="ff9900"/>
                </a:solidFill>
                <a:miter/>
              </a:ln>
            </p:spPr>
          </p:cxnSp>
          <p:cxnSp>
            <p:nvCxnSpPr>
              <p:cNvPr id="255" name=""/>
              <p:cNvCxnSpPr>
                <a:stCxn id="246" idx="2"/>
                <a:endCxn id="248" idx="1"/>
              </p:cNvCxnSpPr>
              <p:nvPr/>
            </p:nvCxnSpPr>
            <p:spPr>
              <a:xfrm flipV="1" rot="10800000">
                <a:off x="1834920" y="5929920"/>
                <a:ext cx="429120" cy="224640"/>
              </a:xfrm>
              <a:prstGeom prst="bentConnector2">
                <a:avLst/>
              </a:prstGeom>
              <a:ln w="9360">
                <a:solidFill>
                  <a:srgbClr val="ff9900"/>
                </a:solidFill>
                <a:miter/>
              </a:ln>
            </p:spPr>
          </p:cxnSp>
          <p:cxnSp>
            <p:nvCxnSpPr>
              <p:cNvPr id="256" name=""/>
              <p:cNvCxnSpPr>
                <a:stCxn id="246" idx="2"/>
                <a:endCxn id="250" idx="1"/>
              </p:cNvCxnSpPr>
              <p:nvPr/>
            </p:nvCxnSpPr>
            <p:spPr>
              <a:xfrm flipV="1" rot="10800000">
                <a:off x="1492560" y="5929920"/>
                <a:ext cx="772200" cy="224640"/>
              </a:xfrm>
              <a:prstGeom prst="bentConnector2">
                <a:avLst/>
              </a:prstGeom>
              <a:ln w="9360">
                <a:solidFill>
                  <a:srgbClr val="ff9900"/>
                </a:solidFill>
                <a:miter/>
              </a:ln>
            </p:spPr>
          </p:cxnSp>
          <p:cxnSp>
            <p:nvCxnSpPr>
              <p:cNvPr id="257" name=""/>
              <p:cNvCxnSpPr>
                <a:stCxn id="248" idx="2"/>
                <a:endCxn id="249" idx="1"/>
              </p:cNvCxnSpPr>
              <p:nvPr/>
            </p:nvCxnSpPr>
            <p:spPr>
              <a:xfrm flipV="1" rot="10800000">
                <a:off x="1663200" y="6257880"/>
                <a:ext cx="86400" cy="155520"/>
              </a:xfrm>
              <a:prstGeom prst="bentConnector2">
                <a:avLst/>
              </a:prstGeom>
              <a:ln w="9360">
                <a:solidFill>
                  <a:srgbClr val="ff9900"/>
                </a:solidFill>
                <a:miter/>
              </a:ln>
            </p:spPr>
          </p:cxnSp>
          <p:cxnSp>
            <p:nvCxnSpPr>
              <p:cNvPr id="258" name=""/>
              <p:cNvCxnSpPr>
                <a:stCxn id="242" idx="2"/>
                <a:endCxn id="251" idx="1"/>
              </p:cNvCxnSpPr>
              <p:nvPr/>
            </p:nvCxnSpPr>
            <p:spPr>
              <a:xfrm flipV="1" rot="10800000">
                <a:off x="1034640" y="5945400"/>
                <a:ext cx="86400" cy="208440"/>
              </a:xfrm>
              <a:prstGeom prst="bentConnector2">
                <a:avLst/>
              </a:prstGeom>
              <a:ln w="9360">
                <a:solidFill>
                  <a:srgbClr val="ff9900"/>
                </a:solidFill>
                <a:miter/>
              </a:ln>
            </p:spPr>
          </p:cxnSp>
          <p:cxnSp>
            <p:nvCxnSpPr>
              <p:cNvPr id="259" name=""/>
              <p:cNvCxnSpPr>
                <a:stCxn id="245" idx="2"/>
                <a:endCxn id="252" idx="1"/>
              </p:cNvCxnSpPr>
              <p:nvPr/>
            </p:nvCxnSpPr>
            <p:spPr>
              <a:xfrm flipV="1" rot="10800000">
                <a:off x="691560" y="5945400"/>
                <a:ext cx="86400" cy="208440"/>
              </a:xfrm>
              <a:prstGeom prst="bentConnector2">
                <a:avLst/>
              </a:prstGeom>
              <a:ln w="9360">
                <a:solidFill>
                  <a:srgbClr val="ff9900"/>
                </a:solidFill>
                <a:miter/>
              </a:ln>
            </p:spPr>
          </p:cxnSp>
          <p:cxnSp>
            <p:nvCxnSpPr>
              <p:cNvPr id="260" name=""/>
              <p:cNvCxnSpPr>
                <a:stCxn id="245" idx="2"/>
                <a:endCxn id="253" idx="1"/>
              </p:cNvCxnSpPr>
              <p:nvPr/>
            </p:nvCxnSpPr>
            <p:spPr>
              <a:xfrm flipV="1" rot="10800000">
                <a:off x="464040" y="5945400"/>
                <a:ext cx="314280" cy="208440"/>
              </a:xfrm>
              <a:prstGeom prst="bentConnector2">
                <a:avLst/>
              </a:prstGeom>
              <a:ln w="9360">
                <a:solidFill>
                  <a:srgbClr val="ff9900"/>
                </a:solidFill>
                <a:miter/>
              </a:ln>
            </p:spPr>
          </p:cxnSp>
          <p:sp>
            <p:nvSpPr>
              <p:cNvPr id="261" name=""/>
              <p:cNvSpPr/>
              <p:nvPr/>
            </p:nvSpPr>
            <p:spPr>
              <a:xfrm flipV="1">
                <a:off x="2349720" y="5630400"/>
                <a:ext cx="0" cy="19548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2" name=""/>
          <p:cNvGrpSpPr/>
          <p:nvPr/>
        </p:nvGrpSpPr>
        <p:grpSpPr>
          <a:xfrm>
            <a:off x="7391520" y="767520"/>
            <a:ext cx="1539000" cy="1572480"/>
            <a:chOff x="7391520" y="767520"/>
            <a:chExt cx="1539000" cy="1572480"/>
          </a:xfrm>
        </p:grpSpPr>
        <p:sp>
          <p:nvSpPr>
            <p:cNvPr id="263" name=""/>
            <p:cNvSpPr/>
            <p:nvPr/>
          </p:nvSpPr>
          <p:spPr>
            <a:xfrm>
              <a:off x="7463520" y="767520"/>
              <a:ext cx="14670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es</a:t>
              </a:r>
              <a:endParaRPr b="0" lang="en-US" sz="2800" spc="-1" strike="noStrike">
                <a:solidFill>
                  <a:srgbClr val="000000"/>
                </a:solidFill>
                <a:latin typeface="Arial"/>
              </a:endParaRPr>
            </a:p>
          </p:txBody>
        </p:sp>
        <p:pic>
          <p:nvPicPr>
            <p:cNvPr id="264" name="" descr=""/>
            <p:cNvPicPr/>
            <p:nvPr/>
          </p:nvPicPr>
          <p:blipFill>
            <a:blip r:embed="rId5"/>
            <a:stretch/>
          </p:blipFill>
          <p:spPr>
            <a:xfrm>
              <a:off x="7391520" y="1219320"/>
              <a:ext cx="1460520" cy="1120680"/>
            </a:xfrm>
            <a:prstGeom prst="rect">
              <a:avLst/>
            </a:prstGeom>
            <a:ln w="0">
              <a:noFill/>
            </a:ln>
          </p:spPr>
        </p:pic>
      </p:grpSp>
      <p:grpSp>
        <p:nvGrpSpPr>
          <p:cNvPr id="265" name=""/>
          <p:cNvGrpSpPr/>
          <p:nvPr/>
        </p:nvGrpSpPr>
        <p:grpSpPr>
          <a:xfrm>
            <a:off x="2359080" y="1047600"/>
            <a:ext cx="4876920" cy="1233720"/>
            <a:chOff x="2359080" y="1047600"/>
            <a:chExt cx="4876920" cy="1233720"/>
          </a:xfrm>
        </p:grpSpPr>
        <p:sp>
          <p:nvSpPr>
            <p:cNvPr id="266" name=""/>
            <p:cNvSpPr/>
            <p:nvPr/>
          </p:nvSpPr>
          <p:spPr>
            <a:xfrm>
              <a:off x="2359080" y="1047600"/>
              <a:ext cx="4876920" cy="1233720"/>
            </a:xfrm>
            <a:prstGeom prst="rightArrow">
              <a:avLst>
                <a:gd name="adj1" fmla="val 77731"/>
                <a:gd name="adj2" fmla="val 5111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4687920" y="1898640"/>
              <a:ext cx="263520" cy="1746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765600" y="1515960"/>
              <a:ext cx="263520" cy="1746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083200" y="1346040"/>
              <a:ext cx="395280" cy="174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049800" y="1728720"/>
              <a:ext cx="219240" cy="144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149640" y="1685880"/>
              <a:ext cx="176040" cy="88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2" name=""/>
            <p:cNvSpPr/>
            <p:nvPr/>
          </p:nvSpPr>
          <p:spPr>
            <a:xfrm>
              <a:off x="2622600" y="1855800"/>
              <a:ext cx="176040" cy="88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3" name=""/>
            <p:cNvSpPr/>
            <p:nvPr/>
          </p:nvSpPr>
          <p:spPr>
            <a:xfrm>
              <a:off x="2446200" y="1346040"/>
              <a:ext cx="263520" cy="174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083200" y="1728720"/>
              <a:ext cx="176040" cy="173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457440" y="1855800"/>
              <a:ext cx="395280" cy="1746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11520" y="1303200"/>
              <a:ext cx="176400" cy="173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224760" y="1346040"/>
              <a:ext cx="264960" cy="174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325680" y="1260360"/>
              <a:ext cx="176400" cy="173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346720" y="1941480"/>
              <a:ext cx="176040" cy="173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379760" y="1643040"/>
              <a:ext cx="176400" cy="1746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897360" y="1303200"/>
              <a:ext cx="174600" cy="88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82" name=""/>
            <p:cNvSpPr/>
            <p:nvPr/>
          </p:nvSpPr>
          <p:spPr>
            <a:xfrm>
              <a:off x="4160880" y="1982880"/>
              <a:ext cx="174600" cy="88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83" name=""/>
            <p:cNvSpPr/>
            <p:nvPr/>
          </p:nvSpPr>
          <p:spPr>
            <a:xfrm>
              <a:off x="5654520" y="1643040"/>
              <a:ext cx="174960" cy="88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84" name=""/>
            <p:cNvSpPr/>
            <p:nvPr/>
          </p:nvSpPr>
          <p:spPr>
            <a:xfrm>
              <a:off x="5697360" y="1260360"/>
              <a:ext cx="176400" cy="88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85" name=""/>
            <p:cNvSpPr/>
            <p:nvPr/>
          </p:nvSpPr>
          <p:spPr>
            <a:xfrm>
              <a:off x="5918040" y="1982880"/>
              <a:ext cx="174960" cy="88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86" name=""/>
            <p:cNvCxnSpPr>
              <a:stCxn id="273" idx="3"/>
              <a:endCxn id="278" idx="1"/>
            </p:cNvCxnSpPr>
            <p:nvPr/>
          </p:nvCxnSpPr>
          <p:spPr>
            <a:xfrm flipV="1">
              <a:off x="2709360" y="1347480"/>
              <a:ext cx="616680" cy="86400"/>
            </a:xfrm>
            <a:prstGeom prst="straightConnector1">
              <a:avLst/>
            </a:prstGeom>
            <a:ln w="12600">
              <a:solidFill>
                <a:srgbClr val="000000"/>
              </a:solidFill>
              <a:miter/>
              <a:tailEnd len="lg" type="triangle" w="sm"/>
            </a:ln>
          </p:spPr>
        </p:cxnSp>
        <p:cxnSp>
          <p:nvCxnSpPr>
            <p:cNvPr id="287" name=""/>
            <p:cNvCxnSpPr>
              <a:stCxn id="272" idx="3"/>
              <a:endCxn id="271" idx="1"/>
            </p:cNvCxnSpPr>
            <p:nvPr/>
          </p:nvCxnSpPr>
          <p:spPr>
            <a:xfrm flipV="1">
              <a:off x="2798280" y="1729800"/>
              <a:ext cx="351360" cy="170280"/>
            </a:xfrm>
            <a:prstGeom prst="straightConnector1">
              <a:avLst/>
            </a:prstGeom>
            <a:ln w="12600">
              <a:solidFill>
                <a:srgbClr val="000000"/>
              </a:solidFill>
              <a:miter/>
              <a:tailEnd len="lg" type="triangle" w="sm"/>
            </a:ln>
          </p:spPr>
        </p:cxnSp>
        <p:cxnSp>
          <p:nvCxnSpPr>
            <p:cNvPr id="288" name=""/>
            <p:cNvCxnSpPr>
              <a:stCxn id="271" idx="2"/>
              <a:endCxn id="275" idx="1"/>
            </p:cNvCxnSpPr>
            <p:nvPr/>
          </p:nvCxnSpPr>
          <p:spPr>
            <a:xfrm>
              <a:off x="3238560" y="1774800"/>
              <a:ext cx="219600" cy="169200"/>
            </a:xfrm>
            <a:prstGeom prst="straightConnector1">
              <a:avLst/>
            </a:prstGeom>
            <a:ln w="12600">
              <a:solidFill>
                <a:srgbClr val="000000"/>
              </a:solidFill>
              <a:miter/>
              <a:tailEnd len="lg" type="triangle" w="sm"/>
            </a:ln>
          </p:spPr>
        </p:cxnSp>
        <p:cxnSp>
          <p:nvCxnSpPr>
            <p:cNvPr id="289" name=""/>
            <p:cNvCxnSpPr>
              <a:stCxn id="271" idx="0"/>
              <a:endCxn id="278" idx="2"/>
            </p:cNvCxnSpPr>
            <p:nvPr/>
          </p:nvCxnSpPr>
          <p:spPr>
            <a:xfrm flipV="1">
              <a:off x="3238200" y="1432800"/>
              <a:ext cx="175320" cy="253080"/>
            </a:xfrm>
            <a:prstGeom prst="straightConnector1">
              <a:avLst/>
            </a:prstGeom>
            <a:ln w="12600">
              <a:solidFill>
                <a:srgbClr val="000000"/>
              </a:solidFill>
              <a:miter/>
              <a:tailEnd len="lg" type="triangle" w="sm"/>
            </a:ln>
          </p:spPr>
        </p:cxnSp>
        <p:cxnSp>
          <p:nvCxnSpPr>
            <p:cNvPr id="290" name=""/>
            <p:cNvCxnSpPr>
              <a:stCxn id="278" idx="3"/>
              <a:endCxn id="281" idx="1"/>
            </p:cNvCxnSpPr>
            <p:nvPr/>
          </p:nvCxnSpPr>
          <p:spPr>
            <a:xfrm>
              <a:off x="3502080" y="1347480"/>
              <a:ext cx="396000" cy="1080"/>
            </a:xfrm>
            <a:prstGeom prst="straightConnector1">
              <a:avLst/>
            </a:prstGeom>
            <a:ln w="12600">
              <a:solidFill>
                <a:srgbClr val="000000"/>
              </a:solidFill>
              <a:miter/>
              <a:tailEnd len="lg" type="triangle" w="sm"/>
            </a:ln>
          </p:spPr>
        </p:cxnSp>
        <p:cxnSp>
          <p:nvCxnSpPr>
            <p:cNvPr id="291" name=""/>
            <p:cNvCxnSpPr>
              <a:stCxn id="275" idx="0"/>
              <a:endCxn id="268" idx="2"/>
            </p:cNvCxnSpPr>
            <p:nvPr/>
          </p:nvCxnSpPr>
          <p:spPr>
            <a:xfrm flipV="1">
              <a:off x="3654000" y="1689840"/>
              <a:ext cx="243720" cy="165960"/>
            </a:xfrm>
            <a:prstGeom prst="straightConnector1">
              <a:avLst/>
            </a:prstGeom>
            <a:ln w="12600">
              <a:solidFill>
                <a:srgbClr val="000000"/>
              </a:solidFill>
              <a:miter/>
              <a:tailEnd len="lg" type="triangle" w="sm"/>
            </a:ln>
          </p:spPr>
        </p:cxnSp>
        <p:cxnSp>
          <p:nvCxnSpPr>
            <p:cNvPr id="292" name=""/>
            <p:cNvCxnSpPr>
              <a:stCxn id="268" idx="0"/>
              <a:endCxn id="281" idx="2"/>
            </p:cNvCxnSpPr>
            <p:nvPr/>
          </p:nvCxnSpPr>
          <p:spPr>
            <a:xfrm flipV="1">
              <a:off x="3897360" y="1391760"/>
              <a:ext cx="87840" cy="124560"/>
            </a:xfrm>
            <a:prstGeom prst="straightConnector1">
              <a:avLst/>
            </a:prstGeom>
            <a:ln w="12600">
              <a:solidFill>
                <a:srgbClr val="000000"/>
              </a:solidFill>
              <a:miter/>
              <a:tailEnd len="lg" type="triangle" w="sm"/>
            </a:ln>
          </p:spPr>
        </p:cxnSp>
        <p:cxnSp>
          <p:nvCxnSpPr>
            <p:cNvPr id="293" name=""/>
            <p:cNvCxnSpPr>
              <a:stCxn id="268" idx="3"/>
              <a:endCxn id="280" idx="1"/>
            </p:cNvCxnSpPr>
            <p:nvPr/>
          </p:nvCxnSpPr>
          <p:spPr>
            <a:xfrm>
              <a:off x="4029120" y="1603080"/>
              <a:ext cx="351360" cy="127800"/>
            </a:xfrm>
            <a:prstGeom prst="straightConnector1">
              <a:avLst/>
            </a:prstGeom>
            <a:ln w="12600">
              <a:solidFill>
                <a:srgbClr val="000000"/>
              </a:solidFill>
              <a:miter/>
              <a:tailEnd len="lg" type="triangle" w="sm"/>
            </a:ln>
          </p:spPr>
        </p:cxnSp>
        <p:cxnSp>
          <p:nvCxnSpPr>
            <p:cNvPr id="294" name=""/>
            <p:cNvCxnSpPr>
              <a:stCxn id="275" idx="3"/>
              <a:endCxn id="282" idx="1"/>
            </p:cNvCxnSpPr>
            <p:nvPr/>
          </p:nvCxnSpPr>
          <p:spPr>
            <a:xfrm>
              <a:off x="3852720" y="1942920"/>
              <a:ext cx="308880" cy="84600"/>
            </a:xfrm>
            <a:prstGeom prst="straightConnector1">
              <a:avLst/>
            </a:prstGeom>
            <a:ln w="12600">
              <a:solidFill>
                <a:srgbClr val="000000"/>
              </a:solidFill>
              <a:miter/>
              <a:tailEnd len="lg" type="triangle" w="sm"/>
            </a:ln>
          </p:spPr>
        </p:cxnSp>
        <p:cxnSp>
          <p:nvCxnSpPr>
            <p:cNvPr id="295" name=""/>
            <p:cNvCxnSpPr>
              <a:stCxn id="282" idx="3"/>
              <a:endCxn id="267" idx="1"/>
            </p:cNvCxnSpPr>
            <p:nvPr/>
          </p:nvCxnSpPr>
          <p:spPr>
            <a:xfrm flipV="1">
              <a:off x="4335120" y="1985760"/>
              <a:ext cx="353160" cy="41760"/>
            </a:xfrm>
            <a:prstGeom prst="straightConnector1">
              <a:avLst/>
            </a:prstGeom>
            <a:ln w="12600">
              <a:solidFill>
                <a:srgbClr val="000000"/>
              </a:solidFill>
              <a:miter/>
              <a:tailEnd len="lg" type="triangle" w="sm"/>
            </a:ln>
          </p:spPr>
        </p:cxnSp>
        <p:cxnSp>
          <p:nvCxnSpPr>
            <p:cNvPr id="296" name=""/>
            <p:cNvCxnSpPr>
              <a:stCxn id="280" idx="2"/>
              <a:endCxn id="267" idx="0"/>
            </p:cNvCxnSpPr>
            <p:nvPr/>
          </p:nvCxnSpPr>
          <p:spPr>
            <a:xfrm>
              <a:off x="4466880" y="1817280"/>
              <a:ext cx="353160" cy="81360"/>
            </a:xfrm>
            <a:prstGeom prst="straightConnector1">
              <a:avLst/>
            </a:prstGeom>
            <a:ln w="12600">
              <a:solidFill>
                <a:srgbClr val="000000"/>
              </a:solidFill>
              <a:miter/>
              <a:tailEnd len="lg" type="triangle" w="sm"/>
            </a:ln>
          </p:spPr>
        </p:cxnSp>
        <p:cxnSp>
          <p:nvCxnSpPr>
            <p:cNvPr id="297" name=""/>
            <p:cNvCxnSpPr>
              <a:stCxn id="280" idx="0"/>
              <a:endCxn id="276" idx="2"/>
            </p:cNvCxnSpPr>
            <p:nvPr/>
          </p:nvCxnSpPr>
          <p:spPr>
            <a:xfrm flipV="1">
              <a:off x="4467240" y="1476000"/>
              <a:ext cx="132480" cy="167040"/>
            </a:xfrm>
            <a:prstGeom prst="straightConnector1">
              <a:avLst/>
            </a:prstGeom>
            <a:ln w="12600">
              <a:solidFill>
                <a:srgbClr val="000000"/>
              </a:solidFill>
              <a:miter/>
              <a:tailEnd len="lg" type="triangle" w="sm"/>
            </a:ln>
          </p:spPr>
        </p:cxnSp>
        <p:cxnSp>
          <p:nvCxnSpPr>
            <p:cNvPr id="298" name=""/>
            <p:cNvCxnSpPr>
              <a:stCxn id="281" idx="3"/>
              <a:endCxn id="276" idx="1"/>
            </p:cNvCxnSpPr>
            <p:nvPr/>
          </p:nvCxnSpPr>
          <p:spPr>
            <a:xfrm>
              <a:off x="4071600" y="1347480"/>
              <a:ext cx="440280" cy="41760"/>
            </a:xfrm>
            <a:prstGeom prst="straightConnector1">
              <a:avLst/>
            </a:prstGeom>
            <a:ln w="12600">
              <a:solidFill>
                <a:srgbClr val="000000"/>
              </a:solidFill>
              <a:miter/>
              <a:tailEnd len="lg" type="triangle" w="sm"/>
            </a:ln>
          </p:spPr>
        </p:cxnSp>
        <p:cxnSp>
          <p:nvCxnSpPr>
            <p:cNvPr id="299" name=""/>
            <p:cNvCxnSpPr>
              <a:stCxn id="276" idx="3"/>
              <a:endCxn id="269" idx="1"/>
            </p:cNvCxnSpPr>
            <p:nvPr/>
          </p:nvCxnSpPr>
          <p:spPr>
            <a:xfrm>
              <a:off x="4687920" y="1388880"/>
              <a:ext cx="396000" cy="45000"/>
            </a:xfrm>
            <a:prstGeom prst="straightConnector1">
              <a:avLst/>
            </a:prstGeom>
            <a:ln w="12600">
              <a:solidFill>
                <a:srgbClr val="000000"/>
              </a:solidFill>
              <a:miter/>
              <a:tailEnd len="lg" type="triangle" w="sm"/>
            </a:ln>
          </p:spPr>
        </p:cxnSp>
        <p:cxnSp>
          <p:nvCxnSpPr>
            <p:cNvPr id="300" name=""/>
            <p:cNvCxnSpPr>
              <a:stCxn id="301" idx="3"/>
              <a:endCxn id="269" idx="1"/>
            </p:cNvCxnSpPr>
            <p:nvPr/>
          </p:nvCxnSpPr>
          <p:spPr>
            <a:xfrm flipV="1">
              <a:off x="4951440" y="1432800"/>
              <a:ext cx="132480" cy="221400"/>
            </a:xfrm>
            <a:prstGeom prst="straightConnector1">
              <a:avLst/>
            </a:prstGeom>
            <a:ln w="12600">
              <a:solidFill>
                <a:srgbClr val="000000"/>
              </a:solidFill>
              <a:miter/>
              <a:tailEnd len="lg" type="triangle" w="sm"/>
            </a:ln>
          </p:spPr>
        </p:cxnSp>
        <p:cxnSp>
          <p:nvCxnSpPr>
            <p:cNvPr id="302" name=""/>
            <p:cNvCxnSpPr>
              <a:stCxn id="267" idx="3"/>
              <a:endCxn id="279" idx="1"/>
            </p:cNvCxnSpPr>
            <p:nvPr/>
          </p:nvCxnSpPr>
          <p:spPr>
            <a:xfrm>
              <a:off x="4951440" y="1986120"/>
              <a:ext cx="396000" cy="41760"/>
            </a:xfrm>
            <a:prstGeom prst="straightConnector1">
              <a:avLst/>
            </a:prstGeom>
            <a:ln w="12600">
              <a:solidFill>
                <a:srgbClr val="000000"/>
              </a:solidFill>
              <a:miter/>
              <a:tailEnd len="lg" type="triangle" w="sm"/>
            </a:ln>
          </p:spPr>
        </p:cxnSp>
        <p:cxnSp>
          <p:nvCxnSpPr>
            <p:cNvPr id="303" name=""/>
            <p:cNvCxnSpPr>
              <a:stCxn id="269" idx="2"/>
              <a:endCxn id="274" idx="0"/>
            </p:cNvCxnSpPr>
            <p:nvPr/>
          </p:nvCxnSpPr>
          <p:spPr>
            <a:xfrm flipH="1">
              <a:off x="5169600" y="1520640"/>
              <a:ext cx="110520" cy="208440"/>
            </a:xfrm>
            <a:prstGeom prst="straightConnector1">
              <a:avLst/>
            </a:prstGeom>
            <a:ln w="12600">
              <a:solidFill>
                <a:srgbClr val="000000"/>
              </a:solidFill>
              <a:miter/>
              <a:tailEnd len="lg" type="triangle" w="sm"/>
            </a:ln>
          </p:spPr>
        </p:cxnSp>
        <p:cxnSp>
          <p:nvCxnSpPr>
            <p:cNvPr id="304" name=""/>
            <p:cNvCxnSpPr>
              <a:stCxn id="269" idx="3"/>
              <a:endCxn id="284" idx="1"/>
            </p:cNvCxnSpPr>
            <p:nvPr/>
          </p:nvCxnSpPr>
          <p:spPr>
            <a:xfrm flipV="1">
              <a:off x="5478480" y="1304280"/>
              <a:ext cx="219600" cy="129240"/>
            </a:xfrm>
            <a:prstGeom prst="straightConnector1">
              <a:avLst/>
            </a:prstGeom>
            <a:ln w="12600">
              <a:solidFill>
                <a:srgbClr val="000000"/>
              </a:solidFill>
              <a:miter/>
              <a:tailEnd len="lg" type="triangle" w="sm"/>
            </a:ln>
          </p:spPr>
        </p:cxnSp>
        <p:cxnSp>
          <p:nvCxnSpPr>
            <p:cNvPr id="305" name=""/>
            <p:cNvCxnSpPr>
              <a:stCxn id="284" idx="3"/>
              <a:endCxn id="277" idx="0"/>
            </p:cNvCxnSpPr>
            <p:nvPr/>
          </p:nvCxnSpPr>
          <p:spPr>
            <a:xfrm>
              <a:off x="5873400" y="1305000"/>
              <a:ext cx="483480" cy="41760"/>
            </a:xfrm>
            <a:prstGeom prst="straightConnector1">
              <a:avLst/>
            </a:prstGeom>
            <a:ln w="12600">
              <a:solidFill>
                <a:srgbClr val="000000"/>
              </a:solidFill>
              <a:miter/>
              <a:tailEnd len="lg" type="triangle" w="sm"/>
            </a:ln>
          </p:spPr>
        </p:cxnSp>
        <p:cxnSp>
          <p:nvCxnSpPr>
            <p:cNvPr id="306" name=""/>
            <p:cNvCxnSpPr>
              <a:stCxn id="283" idx="3"/>
              <a:endCxn id="270" idx="1"/>
            </p:cNvCxnSpPr>
            <p:nvPr/>
          </p:nvCxnSpPr>
          <p:spPr>
            <a:xfrm>
              <a:off x="5829480" y="1687320"/>
              <a:ext cx="221040" cy="113400"/>
            </a:xfrm>
            <a:prstGeom prst="straightConnector1">
              <a:avLst/>
            </a:prstGeom>
            <a:ln w="12600">
              <a:solidFill>
                <a:srgbClr val="000000"/>
              </a:solidFill>
              <a:miter/>
              <a:tailEnd len="lg" type="triangle" w="sm"/>
            </a:ln>
          </p:spPr>
        </p:cxnSp>
        <p:cxnSp>
          <p:nvCxnSpPr>
            <p:cNvPr id="307" name=""/>
            <p:cNvCxnSpPr>
              <a:stCxn id="279" idx="3"/>
              <a:endCxn id="283" idx="2"/>
            </p:cNvCxnSpPr>
            <p:nvPr/>
          </p:nvCxnSpPr>
          <p:spPr>
            <a:xfrm flipV="1">
              <a:off x="5522400" y="1731960"/>
              <a:ext cx="219960" cy="295560"/>
            </a:xfrm>
            <a:prstGeom prst="straightConnector1">
              <a:avLst/>
            </a:prstGeom>
            <a:ln w="12600">
              <a:solidFill>
                <a:srgbClr val="000000"/>
              </a:solidFill>
              <a:miter/>
              <a:tailEnd len="lg" type="triangle" w="sm"/>
            </a:ln>
          </p:spPr>
        </p:cxnSp>
        <p:cxnSp>
          <p:nvCxnSpPr>
            <p:cNvPr id="308" name=""/>
            <p:cNvCxnSpPr>
              <a:stCxn id="277" idx="2"/>
              <a:endCxn id="270" idx="0"/>
            </p:cNvCxnSpPr>
            <p:nvPr/>
          </p:nvCxnSpPr>
          <p:spPr>
            <a:xfrm flipH="1">
              <a:off x="6158880" y="1520640"/>
              <a:ext cx="197640" cy="208440"/>
            </a:xfrm>
            <a:prstGeom prst="straightConnector1">
              <a:avLst/>
            </a:prstGeom>
            <a:ln w="12600">
              <a:solidFill>
                <a:srgbClr val="000000"/>
              </a:solidFill>
              <a:miter/>
              <a:tailEnd len="lg" type="triangle" w="sm"/>
            </a:ln>
          </p:spPr>
        </p:cxnSp>
        <p:cxnSp>
          <p:nvCxnSpPr>
            <p:cNvPr id="309" name=""/>
            <p:cNvCxnSpPr>
              <a:stCxn id="285" idx="0"/>
              <a:endCxn id="270" idx="2"/>
            </p:cNvCxnSpPr>
            <p:nvPr/>
          </p:nvCxnSpPr>
          <p:spPr>
            <a:xfrm flipV="1">
              <a:off x="6005520" y="1872360"/>
              <a:ext cx="154800" cy="110520"/>
            </a:xfrm>
            <a:prstGeom prst="straightConnector1">
              <a:avLst/>
            </a:prstGeom>
            <a:ln w="12600">
              <a:solidFill>
                <a:srgbClr val="000000"/>
              </a:solidFill>
              <a:miter/>
              <a:tailEnd len="lg" type="triangle" w="sm"/>
            </a:ln>
          </p:spPr>
        </p:cxnSp>
        <p:sp>
          <p:nvSpPr>
            <p:cNvPr id="310" name=""/>
            <p:cNvSpPr/>
            <p:nvPr/>
          </p:nvSpPr>
          <p:spPr>
            <a:xfrm>
              <a:off x="6532560" y="1728720"/>
              <a:ext cx="220680" cy="144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1" name=""/>
            <p:cNvCxnSpPr>
              <a:stCxn id="270" idx="3"/>
              <a:endCxn id="310" idx="1"/>
            </p:cNvCxnSpPr>
            <p:nvPr/>
          </p:nvCxnSpPr>
          <p:spPr>
            <a:xfrm>
              <a:off x="6269040" y="1800000"/>
              <a:ext cx="264240" cy="1080"/>
            </a:xfrm>
            <a:prstGeom prst="straightConnector1">
              <a:avLst/>
            </a:prstGeom>
            <a:ln w="12600">
              <a:solidFill>
                <a:srgbClr val="000000"/>
              </a:solidFill>
              <a:miter/>
              <a:tailEnd len="lg" type="triangle" w="sm"/>
            </a:ln>
          </p:spPr>
        </p:cxnSp>
        <p:cxnSp>
          <p:nvCxnSpPr>
            <p:cNvPr id="312" name=""/>
            <p:cNvCxnSpPr>
              <a:stCxn id="277" idx="3"/>
              <a:endCxn id="310" idx="0"/>
            </p:cNvCxnSpPr>
            <p:nvPr/>
          </p:nvCxnSpPr>
          <p:spPr>
            <a:xfrm>
              <a:off x="6489360" y="1433520"/>
              <a:ext cx="153000" cy="295560"/>
            </a:xfrm>
            <a:prstGeom prst="straightConnector1">
              <a:avLst/>
            </a:prstGeom>
            <a:ln w="12600">
              <a:solidFill>
                <a:srgbClr val="000000"/>
              </a:solidFill>
              <a:miter/>
              <a:tailEnd len="lg" type="triangle" w="sm"/>
            </a:ln>
          </p:spPr>
        </p:cxnSp>
        <p:cxnSp>
          <p:nvCxnSpPr>
            <p:cNvPr id="313" name=""/>
            <p:cNvCxnSpPr>
              <a:stCxn id="285" idx="3"/>
              <a:endCxn id="310" idx="2"/>
            </p:cNvCxnSpPr>
            <p:nvPr/>
          </p:nvCxnSpPr>
          <p:spPr>
            <a:xfrm flipV="1">
              <a:off x="6092640" y="1872720"/>
              <a:ext cx="549720" cy="154800"/>
            </a:xfrm>
            <a:prstGeom prst="straightConnector1">
              <a:avLst/>
            </a:prstGeom>
            <a:ln w="12600">
              <a:solidFill>
                <a:srgbClr val="000000"/>
              </a:solidFill>
              <a:miter/>
              <a:tailEnd len="lg" type="triangle" w="sm"/>
            </a:ln>
          </p:spPr>
        </p:cxnSp>
        <p:cxnSp>
          <p:nvCxnSpPr>
            <p:cNvPr id="314" name=""/>
            <p:cNvCxnSpPr>
              <a:stCxn id="271" idx="3"/>
              <a:endCxn id="268" idx="1"/>
            </p:cNvCxnSpPr>
            <p:nvPr/>
          </p:nvCxnSpPr>
          <p:spPr>
            <a:xfrm flipV="1">
              <a:off x="3325680" y="1602720"/>
              <a:ext cx="440640" cy="127800"/>
            </a:xfrm>
            <a:prstGeom prst="straightConnector1">
              <a:avLst/>
            </a:prstGeom>
            <a:ln w="12600">
              <a:solidFill>
                <a:srgbClr val="000000"/>
              </a:solidFill>
              <a:miter/>
              <a:tailEnd len="lg" type="triangle" w="sm"/>
            </a:ln>
          </p:spPr>
        </p:cxnSp>
        <p:cxnSp>
          <p:nvCxnSpPr>
            <p:cNvPr id="315" name=""/>
            <p:cNvCxnSpPr>
              <a:stCxn id="280" idx="3"/>
              <a:endCxn id="301" idx="1"/>
            </p:cNvCxnSpPr>
            <p:nvPr/>
          </p:nvCxnSpPr>
          <p:spPr>
            <a:xfrm flipV="1">
              <a:off x="4556160" y="1654200"/>
              <a:ext cx="219600" cy="76680"/>
            </a:xfrm>
            <a:prstGeom prst="straightConnector1">
              <a:avLst/>
            </a:prstGeom>
            <a:ln w="12600">
              <a:solidFill>
                <a:srgbClr val="000000"/>
              </a:solidFill>
              <a:miter/>
              <a:tailEnd len="lg" type="triangle" w="sm"/>
            </a:ln>
          </p:spPr>
        </p:cxnSp>
        <p:cxnSp>
          <p:nvCxnSpPr>
            <p:cNvPr id="316" name=""/>
            <p:cNvCxnSpPr>
              <a:stCxn id="274" idx="3"/>
              <a:endCxn id="283" idx="1"/>
            </p:cNvCxnSpPr>
            <p:nvPr/>
          </p:nvCxnSpPr>
          <p:spPr>
            <a:xfrm flipV="1">
              <a:off x="5259240" y="1687320"/>
              <a:ext cx="396000" cy="127440"/>
            </a:xfrm>
            <a:prstGeom prst="straightConnector1">
              <a:avLst/>
            </a:prstGeom>
            <a:ln w="12600">
              <a:solidFill>
                <a:srgbClr val="000000"/>
              </a:solidFill>
              <a:miter/>
              <a:tailEnd len="lg" type="triangle" w="sm"/>
            </a:ln>
          </p:spPr>
        </p:cxnSp>
        <p:cxnSp>
          <p:nvCxnSpPr>
            <p:cNvPr id="317" name=""/>
            <p:cNvCxnSpPr>
              <a:stCxn id="301" idx="2"/>
              <a:endCxn id="274" idx="1"/>
            </p:cNvCxnSpPr>
            <p:nvPr/>
          </p:nvCxnSpPr>
          <p:spPr>
            <a:xfrm>
              <a:off x="4863600" y="1706400"/>
              <a:ext cx="219960" cy="108720"/>
            </a:xfrm>
            <a:prstGeom prst="straightConnector1">
              <a:avLst/>
            </a:prstGeom>
            <a:ln w="12600">
              <a:solidFill>
                <a:srgbClr val="000000"/>
              </a:solidFill>
              <a:miter/>
              <a:tailEnd len="lg" type="triangle" w="sm"/>
            </a:ln>
          </p:spPr>
        </p:cxnSp>
        <p:sp>
          <p:nvSpPr>
            <p:cNvPr id="301" name=""/>
            <p:cNvSpPr/>
            <p:nvPr/>
          </p:nvSpPr>
          <p:spPr>
            <a:xfrm>
              <a:off x="4775040" y="1600200"/>
              <a:ext cx="176400" cy="106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8" name=""/>
          <p:cNvGrpSpPr/>
          <p:nvPr/>
        </p:nvGrpSpPr>
        <p:grpSpPr>
          <a:xfrm>
            <a:off x="3581280" y="1236960"/>
            <a:ext cx="2490120" cy="3619080"/>
            <a:chOff x="3581280" y="1236960"/>
            <a:chExt cx="2490120" cy="3619080"/>
          </a:xfrm>
        </p:grpSpPr>
        <p:grpSp>
          <p:nvGrpSpPr>
            <p:cNvPr id="319" name=""/>
            <p:cNvGrpSpPr/>
            <p:nvPr/>
          </p:nvGrpSpPr>
          <p:grpSpPr>
            <a:xfrm>
              <a:off x="3581280" y="2057400"/>
              <a:ext cx="2087640" cy="2798640"/>
              <a:chOff x="3581280" y="2057400"/>
              <a:chExt cx="2087640" cy="2798640"/>
            </a:xfrm>
          </p:grpSpPr>
          <p:sp>
            <p:nvSpPr>
              <p:cNvPr id="320" name=""/>
              <p:cNvSpPr/>
              <p:nvPr/>
            </p:nvSpPr>
            <p:spPr>
              <a:xfrm>
                <a:off x="3581280" y="2057400"/>
                <a:ext cx="2057400" cy="1676520"/>
              </a:xfrm>
              <a:custGeom>
                <a:avLst/>
                <a:gdLst/>
                <a:ahLst/>
                <a:rect l="l" t="t" r="r" b="b"/>
                <a:pathLst>
                  <a:path w="1296" h="1056">
                    <a:moveTo>
                      <a:pt x="288" y="48"/>
                    </a:moveTo>
                    <a:lnTo>
                      <a:pt x="0" y="1056"/>
                    </a:lnTo>
                    <a:lnTo>
                      <a:pt x="1296" y="1056"/>
                    </a:lnTo>
                    <a:lnTo>
                      <a:pt x="1056" y="0"/>
                    </a:lnTo>
                  </a:path>
                </a:pathLst>
              </a:custGeom>
              <a:solidFill>
                <a:srgbClr val="ffff99"/>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321" name=""/>
              <p:cNvGrpSpPr/>
              <p:nvPr/>
            </p:nvGrpSpPr>
            <p:grpSpPr>
              <a:xfrm>
                <a:off x="3581280" y="2743200"/>
                <a:ext cx="2087640" cy="2112840"/>
                <a:chOff x="3581280" y="2743200"/>
                <a:chExt cx="2087640" cy="2112840"/>
              </a:xfrm>
            </p:grpSpPr>
            <p:sp>
              <p:nvSpPr>
                <p:cNvPr id="322" name=""/>
                <p:cNvSpPr/>
                <p:nvPr/>
              </p:nvSpPr>
              <p:spPr>
                <a:xfrm>
                  <a:off x="3581280" y="2743200"/>
                  <a:ext cx="2087640" cy="21128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781440" y="3287880"/>
                  <a:ext cx="1693440" cy="1021680"/>
                  <a:chOff x="3781440" y="3287880"/>
                  <a:chExt cx="1693440" cy="1021680"/>
                </a:xfrm>
              </p:grpSpPr>
              <p:sp>
                <p:nvSpPr>
                  <p:cNvPr id="324" name=""/>
                  <p:cNvSpPr/>
                  <p:nvPr/>
                </p:nvSpPr>
                <p:spPr>
                  <a:xfrm>
                    <a:off x="4909680" y="3931920"/>
                    <a:ext cx="564840" cy="3776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252320" y="3377880"/>
                    <a:ext cx="375840" cy="3776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781440" y="4115520"/>
                    <a:ext cx="375840" cy="191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7" name=""/>
                  <p:cNvCxnSpPr>
                    <a:stCxn id="326" idx="3"/>
                    <a:endCxn id="324" idx="1"/>
                  </p:cNvCxnSpPr>
                  <p:nvPr/>
                </p:nvCxnSpPr>
                <p:spPr>
                  <a:xfrm flipV="1">
                    <a:off x="4157280" y="4120200"/>
                    <a:ext cx="753120" cy="90720"/>
                  </a:xfrm>
                  <a:prstGeom prst="straightConnector1">
                    <a:avLst/>
                  </a:prstGeom>
                  <a:ln w="12600">
                    <a:solidFill>
                      <a:srgbClr val="000000"/>
                    </a:solidFill>
                    <a:miter/>
                    <a:tailEnd len="lg" type="triangle" w="sm"/>
                  </a:ln>
                </p:spPr>
              </p:cxnSp>
              <p:cxnSp>
                <p:nvCxnSpPr>
                  <p:cNvPr id="328" name=""/>
                  <p:cNvCxnSpPr>
                    <a:stCxn id="325" idx="2"/>
                    <a:endCxn id="324" idx="0"/>
                  </p:cNvCxnSpPr>
                  <p:nvPr/>
                </p:nvCxnSpPr>
                <p:spPr>
                  <a:xfrm>
                    <a:off x="4438440" y="3755880"/>
                    <a:ext cx="753120" cy="176400"/>
                  </a:xfrm>
                  <a:prstGeom prst="straightConnector1">
                    <a:avLst/>
                  </a:prstGeom>
                  <a:ln w="12600">
                    <a:solidFill>
                      <a:srgbClr val="000000"/>
                    </a:solidFill>
                    <a:miter/>
                    <a:tailEnd len="lg" type="triangle" w="sm"/>
                  </a:ln>
                </p:spPr>
              </p:cxnSp>
              <p:cxnSp>
                <p:nvCxnSpPr>
                  <p:cNvPr id="329" name=""/>
                  <p:cNvCxnSpPr>
                    <a:stCxn id="325" idx="3"/>
                    <a:endCxn id="330" idx="1"/>
                  </p:cNvCxnSpPr>
                  <p:nvPr/>
                </p:nvCxnSpPr>
                <p:spPr>
                  <a:xfrm flipV="1">
                    <a:off x="4628160" y="3400920"/>
                    <a:ext cx="471240" cy="165960"/>
                  </a:xfrm>
                  <a:prstGeom prst="straightConnector1">
                    <a:avLst/>
                  </a:prstGeom>
                  <a:ln w="12600">
                    <a:solidFill>
                      <a:srgbClr val="000000"/>
                    </a:solidFill>
                    <a:miter/>
                    <a:tailEnd len="lg" type="triangle" w="sm"/>
                  </a:ln>
                </p:spPr>
              </p:cxnSp>
              <p:sp>
                <p:nvSpPr>
                  <p:cNvPr id="330" name=""/>
                  <p:cNvSpPr/>
                  <p:nvPr/>
                </p:nvSpPr>
                <p:spPr>
                  <a:xfrm>
                    <a:off x="5099040" y="3287880"/>
                    <a:ext cx="375840" cy="2296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31" name=""/>
            <p:cNvGrpSpPr/>
            <p:nvPr/>
          </p:nvGrpSpPr>
          <p:grpSpPr>
            <a:xfrm>
              <a:off x="3811680" y="1236960"/>
              <a:ext cx="2259720" cy="1730880"/>
              <a:chOff x="3811680" y="1236960"/>
              <a:chExt cx="2259720" cy="1730880"/>
            </a:xfrm>
          </p:grpSpPr>
          <p:grpSp>
            <p:nvGrpSpPr>
              <p:cNvPr id="332" name=""/>
              <p:cNvGrpSpPr/>
              <p:nvPr/>
            </p:nvGrpSpPr>
            <p:grpSpPr>
              <a:xfrm>
                <a:off x="3811680" y="1236960"/>
                <a:ext cx="1732680" cy="1535760"/>
                <a:chOff x="3811680" y="1236960"/>
                <a:chExt cx="1732680" cy="1535760"/>
              </a:xfrm>
            </p:grpSpPr>
            <p:grpSp>
              <p:nvGrpSpPr>
                <p:cNvPr id="333" name=""/>
                <p:cNvGrpSpPr/>
                <p:nvPr/>
              </p:nvGrpSpPr>
              <p:grpSpPr>
                <a:xfrm>
                  <a:off x="3840480" y="1311840"/>
                  <a:ext cx="1703880" cy="1436040"/>
                  <a:chOff x="3840480" y="1311840"/>
                  <a:chExt cx="1703880" cy="1436040"/>
                </a:xfrm>
              </p:grpSpPr>
              <p:grpSp>
                <p:nvGrpSpPr>
                  <p:cNvPr id="334" name=""/>
                  <p:cNvGrpSpPr/>
                  <p:nvPr/>
                </p:nvGrpSpPr>
                <p:grpSpPr>
                  <a:xfrm>
                    <a:off x="3840480" y="1311840"/>
                    <a:ext cx="1703880" cy="1436040"/>
                    <a:chOff x="3840480" y="1311840"/>
                    <a:chExt cx="1703880" cy="1436040"/>
                  </a:xfrm>
                </p:grpSpPr>
                <p:sp>
                  <p:nvSpPr>
                    <p:cNvPr id="335" name=""/>
                    <p:cNvSpPr/>
                    <p:nvPr/>
                  </p:nvSpPr>
                  <p:spPr>
                    <a:xfrm rot="20097000">
                      <a:off x="3917880" y="1529640"/>
                      <a:ext cx="1169280" cy="626400"/>
                    </a:xfrm>
                    <a:custGeom>
                      <a:avLst/>
                      <a:gdLst/>
                      <a:ahLst/>
                      <a:rect l="l" t="t" r="r" b="b"/>
                      <a:pathLst>
                        <a:path w="1003" h="685">
                          <a:moveTo>
                            <a:pt x="21" y="685"/>
                          </a:moveTo>
                          <a:lnTo>
                            <a:pt x="6" y="604"/>
                          </a:lnTo>
                          <a:lnTo>
                            <a:pt x="0" y="526"/>
                          </a:lnTo>
                          <a:lnTo>
                            <a:pt x="3" y="472"/>
                          </a:lnTo>
                          <a:lnTo>
                            <a:pt x="12" y="423"/>
                          </a:lnTo>
                          <a:lnTo>
                            <a:pt x="27" y="369"/>
                          </a:lnTo>
                          <a:lnTo>
                            <a:pt x="51" y="315"/>
                          </a:lnTo>
                          <a:lnTo>
                            <a:pt x="81" y="258"/>
                          </a:lnTo>
                          <a:lnTo>
                            <a:pt x="111" y="213"/>
                          </a:lnTo>
                          <a:lnTo>
                            <a:pt x="147" y="168"/>
                          </a:lnTo>
                          <a:lnTo>
                            <a:pt x="189" y="129"/>
                          </a:lnTo>
                          <a:lnTo>
                            <a:pt x="231" y="96"/>
                          </a:lnTo>
                          <a:lnTo>
                            <a:pt x="276" y="69"/>
                          </a:lnTo>
                          <a:lnTo>
                            <a:pt x="331" y="45"/>
                          </a:lnTo>
                          <a:lnTo>
                            <a:pt x="394" y="24"/>
                          </a:lnTo>
                          <a:lnTo>
                            <a:pt x="448" y="9"/>
                          </a:lnTo>
                          <a:lnTo>
                            <a:pt x="514" y="0"/>
                          </a:lnTo>
                          <a:lnTo>
                            <a:pt x="598" y="0"/>
                          </a:lnTo>
                          <a:lnTo>
                            <a:pt x="661" y="12"/>
                          </a:lnTo>
                          <a:lnTo>
                            <a:pt x="736" y="30"/>
                          </a:lnTo>
                          <a:lnTo>
                            <a:pt x="811" y="63"/>
                          </a:lnTo>
                          <a:lnTo>
                            <a:pt x="877" y="102"/>
                          </a:lnTo>
                          <a:lnTo>
                            <a:pt x="922" y="141"/>
                          </a:lnTo>
                          <a:lnTo>
                            <a:pt x="967" y="186"/>
                          </a:lnTo>
                          <a:lnTo>
                            <a:pt x="1003" y="231"/>
                          </a:lnTo>
                          <a:lnTo>
                            <a:pt x="907" y="159"/>
                          </a:lnTo>
                          <a:lnTo>
                            <a:pt x="856" y="129"/>
                          </a:lnTo>
                          <a:lnTo>
                            <a:pt x="802" y="108"/>
                          </a:lnTo>
                          <a:lnTo>
                            <a:pt x="733" y="87"/>
                          </a:lnTo>
                          <a:lnTo>
                            <a:pt x="667" y="78"/>
                          </a:lnTo>
                          <a:lnTo>
                            <a:pt x="595" y="75"/>
                          </a:lnTo>
                          <a:lnTo>
                            <a:pt x="541" y="78"/>
                          </a:lnTo>
                          <a:lnTo>
                            <a:pt x="484" y="87"/>
                          </a:lnTo>
                          <a:lnTo>
                            <a:pt x="427" y="102"/>
                          </a:lnTo>
                          <a:lnTo>
                            <a:pt x="373" y="120"/>
                          </a:lnTo>
                          <a:lnTo>
                            <a:pt x="313" y="150"/>
                          </a:lnTo>
                          <a:lnTo>
                            <a:pt x="267" y="177"/>
                          </a:lnTo>
                          <a:lnTo>
                            <a:pt x="228" y="210"/>
                          </a:lnTo>
                          <a:lnTo>
                            <a:pt x="183" y="246"/>
                          </a:lnTo>
                          <a:lnTo>
                            <a:pt x="147" y="285"/>
                          </a:lnTo>
                          <a:lnTo>
                            <a:pt x="111" y="339"/>
                          </a:lnTo>
                          <a:lnTo>
                            <a:pt x="78" y="396"/>
                          </a:lnTo>
                          <a:lnTo>
                            <a:pt x="57" y="450"/>
                          </a:lnTo>
                          <a:lnTo>
                            <a:pt x="39" y="514"/>
                          </a:lnTo>
                          <a:lnTo>
                            <a:pt x="27" y="592"/>
                          </a:lnTo>
                          <a:lnTo>
                            <a:pt x="21" y="68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0097000">
                      <a:off x="4152240" y="1741680"/>
                      <a:ext cx="1289520" cy="769320"/>
                    </a:xfrm>
                    <a:custGeom>
                      <a:avLst/>
                      <a:gdLst/>
                      <a:ahLst/>
                      <a:rect l="l" t="t" r="r" b="b"/>
                      <a:pathLst>
                        <a:path w="1106" h="841">
                          <a:moveTo>
                            <a:pt x="0" y="511"/>
                          </a:moveTo>
                          <a:lnTo>
                            <a:pt x="63" y="583"/>
                          </a:lnTo>
                          <a:lnTo>
                            <a:pt x="132" y="646"/>
                          </a:lnTo>
                          <a:lnTo>
                            <a:pt x="195" y="682"/>
                          </a:lnTo>
                          <a:lnTo>
                            <a:pt x="286" y="721"/>
                          </a:lnTo>
                          <a:lnTo>
                            <a:pt x="358" y="742"/>
                          </a:lnTo>
                          <a:lnTo>
                            <a:pt x="424" y="751"/>
                          </a:lnTo>
                          <a:lnTo>
                            <a:pt x="502" y="751"/>
                          </a:lnTo>
                          <a:lnTo>
                            <a:pt x="559" y="745"/>
                          </a:lnTo>
                          <a:lnTo>
                            <a:pt x="628" y="733"/>
                          </a:lnTo>
                          <a:lnTo>
                            <a:pt x="697" y="712"/>
                          </a:lnTo>
                          <a:lnTo>
                            <a:pt x="754" y="682"/>
                          </a:lnTo>
                          <a:lnTo>
                            <a:pt x="808" y="649"/>
                          </a:lnTo>
                          <a:lnTo>
                            <a:pt x="856" y="616"/>
                          </a:lnTo>
                          <a:lnTo>
                            <a:pt x="904" y="568"/>
                          </a:lnTo>
                          <a:lnTo>
                            <a:pt x="952" y="514"/>
                          </a:lnTo>
                          <a:lnTo>
                            <a:pt x="989" y="463"/>
                          </a:lnTo>
                          <a:lnTo>
                            <a:pt x="1010" y="412"/>
                          </a:lnTo>
                          <a:lnTo>
                            <a:pt x="1037" y="331"/>
                          </a:lnTo>
                          <a:lnTo>
                            <a:pt x="1055" y="247"/>
                          </a:lnTo>
                          <a:lnTo>
                            <a:pt x="1058" y="172"/>
                          </a:lnTo>
                          <a:lnTo>
                            <a:pt x="1046" y="90"/>
                          </a:lnTo>
                          <a:lnTo>
                            <a:pt x="1019" y="0"/>
                          </a:lnTo>
                          <a:lnTo>
                            <a:pt x="1046" y="48"/>
                          </a:lnTo>
                          <a:lnTo>
                            <a:pt x="1076" y="117"/>
                          </a:lnTo>
                          <a:lnTo>
                            <a:pt x="1091" y="181"/>
                          </a:lnTo>
                          <a:lnTo>
                            <a:pt x="1106" y="241"/>
                          </a:lnTo>
                          <a:lnTo>
                            <a:pt x="1103" y="292"/>
                          </a:lnTo>
                          <a:lnTo>
                            <a:pt x="1100" y="361"/>
                          </a:lnTo>
                          <a:lnTo>
                            <a:pt x="1064" y="493"/>
                          </a:lnTo>
                          <a:lnTo>
                            <a:pt x="1028" y="565"/>
                          </a:lnTo>
                          <a:lnTo>
                            <a:pt x="983" y="628"/>
                          </a:lnTo>
                          <a:lnTo>
                            <a:pt x="934" y="682"/>
                          </a:lnTo>
                          <a:lnTo>
                            <a:pt x="886" y="721"/>
                          </a:lnTo>
                          <a:lnTo>
                            <a:pt x="820" y="766"/>
                          </a:lnTo>
                          <a:lnTo>
                            <a:pt x="754" y="796"/>
                          </a:lnTo>
                          <a:lnTo>
                            <a:pt x="691" y="817"/>
                          </a:lnTo>
                          <a:lnTo>
                            <a:pt x="610" y="838"/>
                          </a:lnTo>
                          <a:lnTo>
                            <a:pt x="550" y="841"/>
                          </a:lnTo>
                          <a:lnTo>
                            <a:pt x="484" y="841"/>
                          </a:lnTo>
                          <a:lnTo>
                            <a:pt x="418" y="829"/>
                          </a:lnTo>
                          <a:lnTo>
                            <a:pt x="346" y="814"/>
                          </a:lnTo>
                          <a:lnTo>
                            <a:pt x="298" y="796"/>
                          </a:lnTo>
                          <a:lnTo>
                            <a:pt x="234" y="763"/>
                          </a:lnTo>
                          <a:lnTo>
                            <a:pt x="180" y="733"/>
                          </a:lnTo>
                          <a:lnTo>
                            <a:pt x="129" y="691"/>
                          </a:lnTo>
                          <a:lnTo>
                            <a:pt x="75" y="634"/>
                          </a:lnTo>
                          <a:lnTo>
                            <a:pt x="24" y="562"/>
                          </a:lnTo>
                          <a:lnTo>
                            <a:pt x="0" y="5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3943440" y="1353240"/>
                    <a:ext cx="1482480" cy="1352880"/>
                    <a:chOff x="3943440" y="1353240"/>
                    <a:chExt cx="1482480" cy="1352880"/>
                  </a:xfrm>
                </p:grpSpPr>
                <p:sp>
                  <p:nvSpPr>
                    <p:cNvPr id="338" name=""/>
                    <p:cNvSpPr/>
                    <p:nvPr/>
                  </p:nvSpPr>
                  <p:spPr>
                    <a:xfrm rot="20097000">
                      <a:off x="4284360" y="2392920"/>
                      <a:ext cx="334440" cy="254160"/>
                    </a:xfrm>
                    <a:custGeom>
                      <a:avLst/>
                      <a:gdLst/>
                      <a:ahLst/>
                      <a:rect l="l" t="t" r="r" b="b"/>
                      <a:pathLst>
                        <a:path w="287" h="278">
                          <a:moveTo>
                            <a:pt x="0" y="0"/>
                          </a:moveTo>
                          <a:lnTo>
                            <a:pt x="30" y="56"/>
                          </a:lnTo>
                          <a:lnTo>
                            <a:pt x="59" y="99"/>
                          </a:lnTo>
                          <a:lnTo>
                            <a:pt x="90" y="138"/>
                          </a:lnTo>
                          <a:lnTo>
                            <a:pt x="138" y="185"/>
                          </a:lnTo>
                          <a:lnTo>
                            <a:pt x="174" y="215"/>
                          </a:lnTo>
                          <a:lnTo>
                            <a:pt x="220" y="244"/>
                          </a:lnTo>
                          <a:lnTo>
                            <a:pt x="287" y="278"/>
                          </a:lnTo>
                          <a:lnTo>
                            <a:pt x="212" y="176"/>
                          </a:lnTo>
                          <a:lnTo>
                            <a:pt x="170" y="152"/>
                          </a:lnTo>
                          <a:lnTo>
                            <a:pt x="140" y="131"/>
                          </a:lnTo>
                          <a:lnTo>
                            <a:pt x="96" y="101"/>
                          </a:lnTo>
                          <a:lnTo>
                            <a:pt x="62" y="69"/>
                          </a:lnTo>
                          <a:lnTo>
                            <a:pt x="35" y="42"/>
                          </a:lnTo>
                          <a:lnTo>
                            <a:pt x="0"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0097000">
                      <a:off x="5205240" y="1502640"/>
                      <a:ext cx="120240" cy="499320"/>
                    </a:xfrm>
                    <a:custGeom>
                      <a:avLst/>
                      <a:gdLst/>
                      <a:ahLst/>
                      <a:rect l="l" t="t" r="r" b="b"/>
                      <a:pathLst>
                        <a:path w="103" h="546">
                          <a:moveTo>
                            <a:pt x="19" y="0"/>
                          </a:moveTo>
                          <a:lnTo>
                            <a:pt x="39" y="37"/>
                          </a:lnTo>
                          <a:lnTo>
                            <a:pt x="52" y="69"/>
                          </a:lnTo>
                          <a:lnTo>
                            <a:pt x="66" y="102"/>
                          </a:lnTo>
                          <a:lnTo>
                            <a:pt x="76" y="134"/>
                          </a:lnTo>
                          <a:lnTo>
                            <a:pt x="84" y="164"/>
                          </a:lnTo>
                          <a:lnTo>
                            <a:pt x="99" y="217"/>
                          </a:lnTo>
                          <a:lnTo>
                            <a:pt x="103" y="269"/>
                          </a:lnTo>
                          <a:lnTo>
                            <a:pt x="100" y="349"/>
                          </a:lnTo>
                          <a:lnTo>
                            <a:pt x="93" y="403"/>
                          </a:lnTo>
                          <a:lnTo>
                            <a:pt x="82" y="447"/>
                          </a:lnTo>
                          <a:lnTo>
                            <a:pt x="65" y="493"/>
                          </a:lnTo>
                          <a:lnTo>
                            <a:pt x="42" y="546"/>
                          </a:lnTo>
                          <a:lnTo>
                            <a:pt x="0" y="443"/>
                          </a:lnTo>
                          <a:lnTo>
                            <a:pt x="19" y="398"/>
                          </a:lnTo>
                          <a:lnTo>
                            <a:pt x="28" y="374"/>
                          </a:lnTo>
                          <a:lnTo>
                            <a:pt x="39" y="343"/>
                          </a:lnTo>
                          <a:lnTo>
                            <a:pt x="46" y="311"/>
                          </a:lnTo>
                          <a:lnTo>
                            <a:pt x="52" y="262"/>
                          </a:lnTo>
                          <a:lnTo>
                            <a:pt x="55" y="221"/>
                          </a:lnTo>
                          <a:lnTo>
                            <a:pt x="55" y="160"/>
                          </a:lnTo>
                          <a:lnTo>
                            <a:pt x="46" y="105"/>
                          </a:lnTo>
                          <a:lnTo>
                            <a:pt x="36" y="60"/>
                          </a:lnTo>
                          <a:lnTo>
                            <a:pt x="30" y="36"/>
                          </a:lnTo>
                          <a:lnTo>
                            <a:pt x="1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0097000">
                      <a:off x="4424040" y="1446480"/>
                      <a:ext cx="475560" cy="150840"/>
                    </a:xfrm>
                    <a:custGeom>
                      <a:avLst/>
                      <a:gdLst/>
                      <a:ahLst/>
                      <a:rect l="l" t="t" r="r" b="b"/>
                      <a:pathLst>
                        <a:path w="408" h="165">
                          <a:moveTo>
                            <a:pt x="0" y="0"/>
                          </a:moveTo>
                          <a:lnTo>
                            <a:pt x="31" y="60"/>
                          </a:lnTo>
                          <a:lnTo>
                            <a:pt x="79" y="57"/>
                          </a:lnTo>
                          <a:lnTo>
                            <a:pt x="123" y="60"/>
                          </a:lnTo>
                          <a:lnTo>
                            <a:pt x="164" y="66"/>
                          </a:lnTo>
                          <a:lnTo>
                            <a:pt x="202" y="73"/>
                          </a:lnTo>
                          <a:lnTo>
                            <a:pt x="240" y="83"/>
                          </a:lnTo>
                          <a:lnTo>
                            <a:pt x="266" y="91"/>
                          </a:lnTo>
                          <a:lnTo>
                            <a:pt x="300" y="105"/>
                          </a:lnTo>
                          <a:lnTo>
                            <a:pt x="339" y="124"/>
                          </a:lnTo>
                          <a:lnTo>
                            <a:pt x="408" y="165"/>
                          </a:lnTo>
                          <a:lnTo>
                            <a:pt x="368" y="123"/>
                          </a:lnTo>
                          <a:lnTo>
                            <a:pt x="340" y="102"/>
                          </a:lnTo>
                          <a:lnTo>
                            <a:pt x="303" y="78"/>
                          </a:lnTo>
                          <a:lnTo>
                            <a:pt x="280" y="64"/>
                          </a:lnTo>
                          <a:lnTo>
                            <a:pt x="229" y="40"/>
                          </a:lnTo>
                          <a:lnTo>
                            <a:pt x="196" y="28"/>
                          </a:lnTo>
                          <a:lnTo>
                            <a:pt x="169" y="19"/>
                          </a:lnTo>
                          <a:lnTo>
                            <a:pt x="144" y="13"/>
                          </a:lnTo>
                          <a:lnTo>
                            <a:pt x="105" y="6"/>
                          </a:lnTo>
                          <a:lnTo>
                            <a:pt x="64" y="1"/>
                          </a:lnTo>
                          <a:lnTo>
                            <a:pt x="18" y="0"/>
                          </a:lnTo>
                          <a:lnTo>
                            <a:pt x="0"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0097000">
                      <a:off x="4011120" y="1959840"/>
                      <a:ext cx="151560" cy="353880"/>
                    </a:xfrm>
                    <a:custGeom>
                      <a:avLst/>
                      <a:gdLst/>
                      <a:ahLst/>
                      <a:rect l="l" t="t" r="r" b="b"/>
                      <a:pathLst>
                        <a:path w="130" h="387">
                          <a:moveTo>
                            <a:pt x="0" y="297"/>
                          </a:moveTo>
                          <a:lnTo>
                            <a:pt x="3" y="267"/>
                          </a:lnTo>
                          <a:lnTo>
                            <a:pt x="5" y="234"/>
                          </a:lnTo>
                          <a:lnTo>
                            <a:pt x="14" y="181"/>
                          </a:lnTo>
                          <a:lnTo>
                            <a:pt x="24" y="139"/>
                          </a:lnTo>
                          <a:lnTo>
                            <a:pt x="38" y="101"/>
                          </a:lnTo>
                          <a:lnTo>
                            <a:pt x="56" y="62"/>
                          </a:lnTo>
                          <a:lnTo>
                            <a:pt x="72" y="32"/>
                          </a:lnTo>
                          <a:lnTo>
                            <a:pt x="92" y="0"/>
                          </a:lnTo>
                          <a:lnTo>
                            <a:pt x="130" y="50"/>
                          </a:lnTo>
                          <a:lnTo>
                            <a:pt x="108" y="80"/>
                          </a:lnTo>
                          <a:lnTo>
                            <a:pt x="92" y="107"/>
                          </a:lnTo>
                          <a:lnTo>
                            <a:pt x="79" y="132"/>
                          </a:lnTo>
                          <a:lnTo>
                            <a:pt x="60" y="167"/>
                          </a:lnTo>
                          <a:lnTo>
                            <a:pt x="48" y="198"/>
                          </a:lnTo>
                          <a:lnTo>
                            <a:pt x="41" y="228"/>
                          </a:lnTo>
                          <a:lnTo>
                            <a:pt x="32" y="258"/>
                          </a:lnTo>
                          <a:lnTo>
                            <a:pt x="26" y="291"/>
                          </a:lnTo>
                          <a:lnTo>
                            <a:pt x="21" y="331"/>
                          </a:lnTo>
                          <a:lnTo>
                            <a:pt x="17" y="371"/>
                          </a:lnTo>
                          <a:lnTo>
                            <a:pt x="10" y="387"/>
                          </a:lnTo>
                          <a:lnTo>
                            <a:pt x="0" y="297"/>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2" name=""/>
                <p:cNvSpPr/>
                <p:nvPr/>
              </p:nvSpPr>
              <p:spPr>
                <a:xfrm rot="20097000">
                  <a:off x="4047120" y="1524600"/>
                  <a:ext cx="1345320" cy="10105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
                <p:cNvGrpSpPr/>
                <p:nvPr/>
              </p:nvGrpSpPr>
              <p:grpSpPr>
                <a:xfrm>
                  <a:off x="3811680" y="1236960"/>
                  <a:ext cx="1646280" cy="1485000"/>
                  <a:chOff x="3811680" y="1236960"/>
                  <a:chExt cx="1646280" cy="1485000"/>
                </a:xfrm>
              </p:grpSpPr>
              <p:sp>
                <p:nvSpPr>
                  <p:cNvPr id="344" name=""/>
                  <p:cNvSpPr/>
                  <p:nvPr/>
                </p:nvSpPr>
                <p:spPr>
                  <a:xfrm rot="20097000">
                    <a:off x="3978000" y="1487880"/>
                    <a:ext cx="1313640" cy="986040"/>
                  </a:xfrm>
                  <a:prstGeom prst="ellipse">
                    <a:avLst/>
                  </a:prstGeom>
                  <a:noFill/>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0097000">
                    <a:off x="3962160" y="1474200"/>
                    <a:ext cx="1344960" cy="10105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0097000">
                    <a:off x="3999600" y="1501200"/>
                    <a:ext cx="1270440" cy="9568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7" name=""/>
              <p:cNvGrpSpPr/>
              <p:nvPr/>
            </p:nvGrpSpPr>
            <p:grpSpPr>
              <a:xfrm>
                <a:off x="5088960" y="2019960"/>
                <a:ext cx="982440" cy="947880"/>
                <a:chOff x="5088960" y="2019960"/>
                <a:chExt cx="982440" cy="947880"/>
              </a:xfrm>
            </p:grpSpPr>
            <p:sp>
              <p:nvSpPr>
                <p:cNvPr id="348" name=""/>
                <p:cNvSpPr/>
                <p:nvPr/>
              </p:nvSpPr>
              <p:spPr>
                <a:xfrm rot="20097000">
                  <a:off x="5237280" y="2124000"/>
                  <a:ext cx="657360" cy="739080"/>
                </a:xfrm>
                <a:custGeom>
                  <a:avLst/>
                  <a:gdLst/>
                  <a:ahLst/>
                  <a:rect l="l" t="t" r="r" b="b"/>
                  <a:pathLst>
                    <a:path w="564" h="808">
                      <a:moveTo>
                        <a:pt x="0" y="60"/>
                      </a:moveTo>
                      <a:lnTo>
                        <a:pt x="400" y="808"/>
                      </a:lnTo>
                      <a:lnTo>
                        <a:pt x="564" y="725"/>
                      </a:lnTo>
                      <a:lnTo>
                        <a:pt x="162" y="0"/>
                      </a:lnTo>
                      <a:lnTo>
                        <a:pt x="0" y="60"/>
                      </a:lnTo>
                      <a:close/>
                    </a:path>
                  </a:pathLst>
                </a:custGeom>
                <a:solidFill>
                  <a:srgbClr val="5f3f1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0097000">
                  <a:off x="5112360" y="2210760"/>
                  <a:ext cx="202320" cy="148680"/>
                </a:xfrm>
                <a:custGeom>
                  <a:avLst/>
                  <a:gdLst/>
                  <a:ahLst/>
                  <a:rect l="l" t="t" r="r" b="b"/>
                  <a:pathLst>
                    <a:path stroke="0" w="21600" h="21600">
                      <a:moveTo>
                        <a:pt x="439" y="13846"/>
                      </a:moveTo>
                      <a:arcTo wR="10800" hR="10800" stAng="9816983" swAng="10707533"/>
                      <a:lnTo>
                        <a:pt x="10800" y="10800"/>
                      </a:lnTo>
                      <a:close/>
                    </a:path>
                    <a:path fill="none" w="21600" h="21600">
                      <a:moveTo>
                        <a:pt x="439" y="13846"/>
                      </a:moveTo>
                      <a:arcTo wR="10800" hR="10800" stAng="9816983" swAng="10707533"/>
                    </a:path>
                  </a:pathLst>
                </a:custGeom>
                <a:solidFill>
                  <a:srgbClr val="5f3f1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0097000">
                  <a:off x="5123520" y="2216160"/>
                  <a:ext cx="205200" cy="163800"/>
                </a:xfrm>
                <a:custGeom>
                  <a:avLst/>
                  <a:gdLst/>
                  <a:ahLst/>
                  <a:rect l="l" t="t" r="r" b="b"/>
                  <a:pathLst>
                    <a:path stroke="0" w="21600" h="21600">
                      <a:moveTo>
                        <a:pt x="69" y="12020"/>
                      </a:moveTo>
                      <a:arcTo wR="10800" hR="10800" stAng="10410941" swAng="10069629"/>
                      <a:lnTo>
                        <a:pt x="10800" y="10800"/>
                      </a:lnTo>
                      <a:close/>
                    </a:path>
                    <a:path fill="none" w="21600" h="21600">
                      <a:moveTo>
                        <a:pt x="69" y="12020"/>
                      </a:moveTo>
                      <a:arcTo wR="10800" hR="10800" stAng="10410941" swAng="10069629"/>
                    </a:path>
                  </a:pathLst>
                </a:custGeom>
                <a:solidFill>
                  <a:srgbClr val="5f3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0097000">
                  <a:off x="5126760" y="2236320"/>
                  <a:ext cx="124560" cy="189000"/>
                </a:xfrm>
                <a:custGeom>
                  <a:avLst/>
                  <a:gdLst/>
                  <a:ahLst/>
                  <a:rect l="l" t="t" r="r" b="b"/>
                  <a:pathLst>
                    <a:path w="107" h="207">
                      <a:moveTo>
                        <a:pt x="3" y="96"/>
                      </a:moveTo>
                      <a:lnTo>
                        <a:pt x="0" y="82"/>
                      </a:lnTo>
                      <a:lnTo>
                        <a:pt x="0" y="69"/>
                      </a:lnTo>
                      <a:lnTo>
                        <a:pt x="2" y="58"/>
                      </a:lnTo>
                      <a:lnTo>
                        <a:pt x="6" y="42"/>
                      </a:lnTo>
                      <a:lnTo>
                        <a:pt x="12" y="29"/>
                      </a:lnTo>
                      <a:lnTo>
                        <a:pt x="21" y="17"/>
                      </a:lnTo>
                      <a:lnTo>
                        <a:pt x="31" y="7"/>
                      </a:lnTo>
                      <a:lnTo>
                        <a:pt x="41" y="0"/>
                      </a:lnTo>
                      <a:lnTo>
                        <a:pt x="107" y="112"/>
                      </a:lnTo>
                      <a:lnTo>
                        <a:pt x="95" y="119"/>
                      </a:lnTo>
                      <a:lnTo>
                        <a:pt x="87" y="127"/>
                      </a:lnTo>
                      <a:lnTo>
                        <a:pt x="79" y="135"/>
                      </a:lnTo>
                      <a:lnTo>
                        <a:pt x="73" y="145"/>
                      </a:lnTo>
                      <a:lnTo>
                        <a:pt x="66" y="163"/>
                      </a:lnTo>
                      <a:lnTo>
                        <a:pt x="62" y="187"/>
                      </a:lnTo>
                      <a:lnTo>
                        <a:pt x="62" y="207"/>
                      </a:lnTo>
                      <a:lnTo>
                        <a:pt x="3" y="96"/>
                      </a:lnTo>
                      <a:close/>
                    </a:path>
                  </a:pathLst>
                </a:custGeom>
                <a:solidFill>
                  <a:srgbClr val="3f1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0097000">
                  <a:off x="5110920" y="2210040"/>
                  <a:ext cx="201960" cy="149040"/>
                </a:xfrm>
                <a:custGeom>
                  <a:avLst/>
                  <a:gdLst/>
                  <a:ahLst/>
                  <a:rect l="l" t="t" r="r" b="b"/>
                  <a:pathLst>
                    <a:path stroke="0" w="21600" h="21600">
                      <a:moveTo>
                        <a:pt x="403" y="13724"/>
                      </a:moveTo>
                      <a:arcTo wR="10800" hR="10800" stAng="9857570" swAng="5117964"/>
                      <a:lnTo>
                        <a:pt x="10800" y="10800"/>
                      </a:lnTo>
                      <a:close/>
                    </a:path>
                    <a:path fill="none" w="21600" h="21600">
                      <a:moveTo>
                        <a:pt x="403" y="13724"/>
                      </a:moveTo>
                      <a:arcTo wR="10800" hR="10800" stAng="9857570" swAng="511796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0097000">
                  <a:off x="5221800" y="2273760"/>
                  <a:ext cx="202680" cy="149040"/>
                </a:xfrm>
                <a:custGeom>
                  <a:avLst/>
                  <a:gdLst/>
                  <a:ahLst/>
                  <a:rect l="l" t="t" r="r" b="b"/>
                  <a:pathLst>
                    <a:path stroke="0" w="21600" h="21600">
                      <a:moveTo>
                        <a:pt x="365" y="13584"/>
                      </a:moveTo>
                      <a:arcTo wR="10800" hR="10800" stAng="9903788" swAng="10696462"/>
                      <a:lnTo>
                        <a:pt x="10800" y="10800"/>
                      </a:lnTo>
                      <a:close/>
                    </a:path>
                    <a:path fill="none" w="21600" h="21600">
                      <a:moveTo>
                        <a:pt x="365" y="13584"/>
                      </a:moveTo>
                      <a:arcTo wR="10800" hR="10800" stAng="9903788" swAng="1069646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 name=""/>
                <p:cNvGrpSpPr/>
                <p:nvPr/>
              </p:nvGrpSpPr>
              <p:grpSpPr>
                <a:xfrm>
                  <a:off x="5212080" y="2247840"/>
                  <a:ext cx="264240" cy="231120"/>
                  <a:chOff x="5212080" y="2247840"/>
                  <a:chExt cx="264240" cy="231120"/>
                </a:xfrm>
              </p:grpSpPr>
              <p:grpSp>
                <p:nvGrpSpPr>
                  <p:cNvPr id="355" name=""/>
                  <p:cNvGrpSpPr/>
                  <p:nvPr/>
                </p:nvGrpSpPr>
                <p:grpSpPr>
                  <a:xfrm>
                    <a:off x="5212080" y="2247840"/>
                    <a:ext cx="248040" cy="221040"/>
                    <a:chOff x="5212080" y="2247840"/>
                    <a:chExt cx="248040" cy="221040"/>
                  </a:xfrm>
                </p:grpSpPr>
                <p:sp>
                  <p:nvSpPr>
                    <p:cNvPr id="356" name=""/>
                    <p:cNvSpPr/>
                    <p:nvPr/>
                  </p:nvSpPr>
                  <p:spPr>
                    <a:xfrm rot="20097000">
                      <a:off x="5233680" y="2284200"/>
                      <a:ext cx="202680" cy="14868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5f3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0097000">
                      <a:off x="5233680" y="2283840"/>
                      <a:ext cx="204120" cy="148680"/>
                    </a:xfrm>
                    <a:custGeom>
                      <a:avLst/>
                      <a:gdLst/>
                      <a:ahLst/>
                      <a:rect l="l" t="t" r="r" b="b"/>
                      <a:pathLst>
                        <a:path stroke="0" w="21600" h="21600">
                          <a:moveTo>
                            <a:pt x="266" y="13180"/>
                          </a:moveTo>
                          <a:arcTo wR="10800" hR="10800" stAng="10036009" swAng="4423841"/>
                          <a:lnTo>
                            <a:pt x="10800" y="10800"/>
                          </a:lnTo>
                          <a:close/>
                        </a:path>
                        <a:path fill="none" w="21600" h="21600">
                          <a:moveTo>
                            <a:pt x="266" y="13180"/>
                          </a:moveTo>
                          <a:arcTo wR="10800" hR="10800" stAng="10036009" swAng="4423841"/>
                        </a:path>
                      </a:pathLst>
                    </a:custGeom>
                    <a:solidFill>
                      <a:srgbClr val="3f1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0097000">
                      <a:off x="5234760" y="2283480"/>
                      <a:ext cx="202680" cy="14868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
                  <p:cNvSpPr/>
                  <p:nvPr/>
                </p:nvSpPr>
                <p:spPr>
                  <a:xfrm rot="20097000">
                    <a:off x="5250960" y="2294280"/>
                    <a:ext cx="203040" cy="14868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5243040" y="2266920"/>
                  <a:ext cx="264600" cy="232200"/>
                  <a:chOff x="5243040" y="2266920"/>
                  <a:chExt cx="264600" cy="232200"/>
                </a:xfrm>
              </p:grpSpPr>
              <p:grpSp>
                <p:nvGrpSpPr>
                  <p:cNvPr id="361" name=""/>
                  <p:cNvGrpSpPr/>
                  <p:nvPr/>
                </p:nvGrpSpPr>
                <p:grpSpPr>
                  <a:xfrm>
                    <a:off x="5243040" y="2266920"/>
                    <a:ext cx="248400" cy="222120"/>
                    <a:chOff x="5243040" y="2266920"/>
                    <a:chExt cx="248400" cy="222120"/>
                  </a:xfrm>
                </p:grpSpPr>
                <p:sp>
                  <p:nvSpPr>
                    <p:cNvPr id="362" name=""/>
                    <p:cNvSpPr/>
                    <p:nvPr/>
                  </p:nvSpPr>
                  <p:spPr>
                    <a:xfrm rot="20097000">
                      <a:off x="5265000" y="2303280"/>
                      <a:ext cx="203760" cy="14940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5f3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0097000">
                      <a:off x="5265000" y="2302920"/>
                      <a:ext cx="204120" cy="149760"/>
                    </a:xfrm>
                    <a:custGeom>
                      <a:avLst/>
                      <a:gdLst/>
                      <a:ahLst/>
                      <a:rect l="l" t="t" r="r" b="b"/>
                      <a:pathLst>
                        <a:path stroke="0" w="21600" h="21600">
                          <a:moveTo>
                            <a:pt x="238" y="13054"/>
                          </a:moveTo>
                          <a:arcTo wR="10800" hR="10800" stAng="10077178" swAng="4382672"/>
                          <a:lnTo>
                            <a:pt x="10800" y="10800"/>
                          </a:lnTo>
                          <a:close/>
                        </a:path>
                        <a:path fill="none" w="21600" h="21600">
                          <a:moveTo>
                            <a:pt x="238" y="13054"/>
                          </a:moveTo>
                          <a:arcTo wR="10800" hR="10800" stAng="10077178" swAng="4382672"/>
                        </a:path>
                      </a:pathLst>
                    </a:custGeom>
                    <a:solidFill>
                      <a:srgbClr val="3f1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0097000">
                      <a:off x="5266080" y="2303280"/>
                      <a:ext cx="202320" cy="14940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
                  <p:cNvSpPr/>
                  <p:nvPr/>
                </p:nvSpPr>
                <p:spPr>
                  <a:xfrm rot="20097000">
                    <a:off x="5282640" y="2313720"/>
                    <a:ext cx="202680" cy="14940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5274360" y="2284560"/>
                  <a:ext cx="249120" cy="222840"/>
                  <a:chOff x="5274360" y="2284560"/>
                  <a:chExt cx="249120" cy="222840"/>
                </a:xfrm>
              </p:grpSpPr>
              <p:sp>
                <p:nvSpPr>
                  <p:cNvPr id="367" name=""/>
                  <p:cNvSpPr/>
                  <p:nvPr/>
                </p:nvSpPr>
                <p:spPr>
                  <a:xfrm rot="20097000">
                    <a:off x="5296320" y="2321280"/>
                    <a:ext cx="203760" cy="14940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solidFill>
                    <a:srgbClr val="5f3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20097000">
                    <a:off x="5296320" y="2320560"/>
                    <a:ext cx="204840" cy="150120"/>
                  </a:xfrm>
                  <a:custGeom>
                    <a:avLst/>
                    <a:gdLst/>
                    <a:ahLst/>
                    <a:rect l="l" t="t" r="r" b="b"/>
                    <a:pathLst>
                      <a:path stroke="0" w="21600" h="21600">
                        <a:moveTo>
                          <a:pt x="211" y="12927"/>
                        </a:moveTo>
                        <a:arcTo wR="10800" hR="10800" stAng="10118559" swAng="4341291"/>
                        <a:lnTo>
                          <a:pt x="10800" y="10800"/>
                        </a:lnTo>
                        <a:close/>
                      </a:path>
                      <a:path fill="none" w="21600" h="21600">
                        <a:moveTo>
                          <a:pt x="211" y="12927"/>
                        </a:moveTo>
                        <a:arcTo wR="10800" hR="10800" stAng="10118559" swAng="4341291"/>
                      </a:path>
                    </a:pathLst>
                  </a:custGeom>
                  <a:solidFill>
                    <a:srgbClr val="3f1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5275800" y="2284560"/>
                  <a:ext cx="263160" cy="231120"/>
                  <a:chOff x="5275800" y="2284560"/>
                  <a:chExt cx="263160" cy="231120"/>
                </a:xfrm>
              </p:grpSpPr>
              <p:sp>
                <p:nvSpPr>
                  <p:cNvPr id="370" name=""/>
                  <p:cNvSpPr/>
                  <p:nvPr/>
                </p:nvSpPr>
                <p:spPr>
                  <a:xfrm rot="20097000">
                    <a:off x="5297400" y="2320560"/>
                    <a:ext cx="203760" cy="14832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20097000">
                    <a:off x="5313600" y="2331360"/>
                    <a:ext cx="203400" cy="14832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
                <p:cNvGrpSpPr/>
                <p:nvPr/>
              </p:nvGrpSpPr>
              <p:grpSpPr>
                <a:xfrm>
                  <a:off x="5136480" y="2219400"/>
                  <a:ext cx="852840" cy="554040"/>
                  <a:chOff x="5136480" y="2219400"/>
                  <a:chExt cx="852840" cy="554040"/>
                </a:xfrm>
              </p:grpSpPr>
              <p:sp>
                <p:nvSpPr>
                  <p:cNvPr id="373" name=""/>
                  <p:cNvSpPr/>
                  <p:nvPr/>
                </p:nvSpPr>
                <p:spPr>
                  <a:xfrm>
                    <a:off x="5286600" y="2219400"/>
                    <a:ext cx="702720" cy="39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136480" y="2347920"/>
                    <a:ext cx="71604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 name=""/>
                <p:cNvGrpSpPr/>
                <p:nvPr/>
              </p:nvGrpSpPr>
              <p:grpSpPr>
                <a:xfrm>
                  <a:off x="5306040" y="2302560"/>
                  <a:ext cx="262080" cy="229320"/>
                  <a:chOff x="5306040" y="2302560"/>
                  <a:chExt cx="262080" cy="229320"/>
                </a:xfrm>
              </p:grpSpPr>
              <p:grpSp>
                <p:nvGrpSpPr>
                  <p:cNvPr id="376" name=""/>
                  <p:cNvGrpSpPr/>
                  <p:nvPr/>
                </p:nvGrpSpPr>
                <p:grpSpPr>
                  <a:xfrm>
                    <a:off x="5306040" y="2302560"/>
                    <a:ext cx="248400" cy="222120"/>
                    <a:chOff x="5306040" y="2302560"/>
                    <a:chExt cx="248400" cy="222120"/>
                  </a:xfrm>
                </p:grpSpPr>
                <p:sp>
                  <p:nvSpPr>
                    <p:cNvPr id="377" name=""/>
                    <p:cNvSpPr/>
                    <p:nvPr/>
                  </p:nvSpPr>
                  <p:spPr>
                    <a:xfrm rot="20097000">
                      <a:off x="5328360" y="2339280"/>
                      <a:ext cx="203040" cy="149040"/>
                    </a:xfrm>
                    <a:custGeom>
                      <a:avLst/>
                      <a:gdLst/>
                      <a:ahLst/>
                      <a:rect l="l" t="t" r="r" b="b"/>
                      <a:pathLst>
                        <a:path stroke="0" w="21600" h="21600">
                          <a:moveTo>
                            <a:pt x="187" y="12799"/>
                          </a:moveTo>
                          <a:arcTo wR="10800" hR="10800" stAng="10160141" swAng="10708688"/>
                          <a:lnTo>
                            <a:pt x="10800" y="10800"/>
                          </a:lnTo>
                          <a:close/>
                        </a:path>
                        <a:path fill="none" w="21600" h="21600">
                          <a:moveTo>
                            <a:pt x="187" y="12799"/>
                          </a:moveTo>
                          <a:arcTo wR="10800" hR="10800" stAng="10160141" swAng="10708688"/>
                        </a:path>
                      </a:pathLst>
                    </a:custGeom>
                    <a:solidFill>
                      <a:srgbClr val="5f3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097000">
                      <a:off x="5328000" y="2338560"/>
                      <a:ext cx="204120" cy="149760"/>
                    </a:xfrm>
                    <a:custGeom>
                      <a:avLst/>
                      <a:gdLst/>
                      <a:ahLst/>
                      <a:rect l="l" t="t" r="r" b="b"/>
                      <a:pathLst>
                        <a:path stroke="0" w="21600" h="21600">
                          <a:moveTo>
                            <a:pt x="187" y="12799"/>
                          </a:moveTo>
                          <a:arcTo wR="10800" hR="10800" stAng="10160141" swAng="4299709"/>
                          <a:lnTo>
                            <a:pt x="10800" y="10800"/>
                          </a:lnTo>
                          <a:close/>
                        </a:path>
                        <a:path fill="none" w="21600" h="21600">
                          <a:moveTo>
                            <a:pt x="187" y="12799"/>
                          </a:moveTo>
                          <a:arcTo wR="10800" hR="10800" stAng="10160141" swAng="4299709"/>
                        </a:path>
                      </a:pathLst>
                    </a:custGeom>
                    <a:solidFill>
                      <a:srgbClr val="3f1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
                  <p:cNvSpPr/>
                  <p:nvPr/>
                </p:nvSpPr>
                <p:spPr>
                  <a:xfrm rot="20097000">
                    <a:off x="5328360" y="2338560"/>
                    <a:ext cx="203400" cy="14868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20097000">
                    <a:off x="5343120" y="2347200"/>
                    <a:ext cx="202680" cy="14868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5f3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
                <p:cNvSpPr/>
                <p:nvPr/>
              </p:nvSpPr>
              <p:spPr>
                <a:xfrm rot="20097000">
                  <a:off x="5415120" y="2290680"/>
                  <a:ext cx="405360" cy="546120"/>
                </a:xfrm>
                <a:custGeom>
                  <a:avLst/>
                  <a:gdLst/>
                  <a:ahLst/>
                  <a:rect l="l" t="t" r="r" b="b"/>
                  <a:pathLst>
                    <a:path w="348" h="597">
                      <a:moveTo>
                        <a:pt x="44" y="0"/>
                      </a:moveTo>
                      <a:lnTo>
                        <a:pt x="31" y="8"/>
                      </a:lnTo>
                      <a:lnTo>
                        <a:pt x="21" y="16"/>
                      </a:lnTo>
                      <a:lnTo>
                        <a:pt x="12" y="26"/>
                      </a:lnTo>
                      <a:lnTo>
                        <a:pt x="8" y="36"/>
                      </a:lnTo>
                      <a:lnTo>
                        <a:pt x="4" y="47"/>
                      </a:lnTo>
                      <a:lnTo>
                        <a:pt x="1" y="58"/>
                      </a:lnTo>
                      <a:lnTo>
                        <a:pt x="0" y="71"/>
                      </a:lnTo>
                      <a:lnTo>
                        <a:pt x="0" y="86"/>
                      </a:lnTo>
                      <a:lnTo>
                        <a:pt x="270" y="597"/>
                      </a:lnTo>
                      <a:lnTo>
                        <a:pt x="348" y="543"/>
                      </a:lnTo>
                      <a:lnTo>
                        <a:pt x="44" y="0"/>
                      </a:lnTo>
                      <a:close/>
                    </a:path>
                  </a:pathLst>
                </a:custGeom>
                <a:solidFill>
                  <a:srgbClr val="3f1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rot="20097000">
                  <a:off x="5824800" y="2622600"/>
                  <a:ext cx="221400" cy="167400"/>
                </a:xfrm>
                <a:prstGeom prst="ellipse">
                  <a:avLst/>
                </a:prstGeom>
                <a:solidFill>
                  <a:srgbClr val="7f5f3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83" name=""/>
          <p:cNvSpPr/>
          <p:nvPr/>
        </p:nvSpPr>
        <p:spPr>
          <a:xfrm>
            <a:off x="2819520" y="3048120"/>
            <a:ext cx="1600200" cy="5331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4800240" y="3200400"/>
            <a:ext cx="1981080" cy="6094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34"/>
                                        </p:tgtEl>
                                        <p:attrNameLst>
                                          <p:attrName>style.visibility</p:attrName>
                                        </p:attrNameLst>
                                      </p:cBhvr>
                                      <p:to>
                                        <p:strVal val="visible"/>
                                      </p:to>
                                    </p:se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318"/>
                                        </p:tgtEl>
                                        <p:attrNameLst>
                                          <p:attrName>style.visibility</p:attrName>
                                        </p:attrNameLst>
                                      </p:cBhvr>
                                      <p:to>
                                        <p:strVal val="visible"/>
                                      </p:to>
                                    </p:set>
                                    <p:anim calcmode="lin" valueType="num">
                                      <p:cBhvr additive="repl">
                                        <p:cTn id="35" dur="500" fill="hold"/>
                                        <p:tgtEl>
                                          <p:spTgt spid="318"/>
                                        </p:tgtEl>
                                        <p:attrNameLst>
                                          <p:attrName>ppt_w</p:attrName>
                                        </p:attrNameLst>
                                      </p:cBhvr>
                                      <p:tavLst>
                                        <p:tav tm="0">
                                          <p:val>
                                            <p:fltVal val="0"/>
                                          </p:val>
                                        </p:tav>
                                        <p:tav tm="100000">
                                          <p:val>
                                            <p:strVal val="#ppt_w"/>
                                          </p:val>
                                        </p:tav>
                                      </p:tavLst>
                                    </p:anim>
                                    <p:anim calcmode="lin" valueType="num">
                                      <p:cBhvr additive="repl">
                                        <p:cTn id="36" dur="500" fill="hold"/>
                                        <p:tgtEl>
                                          <p:spTgt spid="318"/>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2" presetSubtype="8">
                                  <p:stCondLst>
                                    <p:cond delay="0"/>
                                  </p:stCondLst>
                                  <p:childTnLst>
                                    <p:set>
                                      <p:cBhvr>
                                        <p:cTn id="42" dur="1" fill="hold">
                                          <p:stCondLst>
                                            <p:cond delay="0"/>
                                          </p:stCondLst>
                                        </p:cTn>
                                        <p:tgtEl>
                                          <p:spTgt spid="383"/>
                                        </p:tgtEl>
                                        <p:attrNameLst>
                                          <p:attrName>style.visibility</p:attrName>
                                        </p:attrNameLst>
                                      </p:cBhvr>
                                      <p:to>
                                        <p:strVal val="visible"/>
                                      </p:to>
                                    </p:set>
                                    <p:animEffect filter="wipe(left)" transition="in">
                                      <p:cBhvr additive="repl">
                                        <p:cTn id="43" dur="500"/>
                                        <p:tgtEl>
                                          <p:spTgt spid="383"/>
                                        </p:tgtEl>
                                      </p:cBhvr>
                                    </p:animEffect>
                                  </p:childTnLst>
                                </p:cTn>
                              </p:par>
                            </p:childTnLst>
                          </p:cTn>
                        </p:par>
                        <p:par>
                          <p:cTn id="44" fill="hold">
                            <p:stCondLst>
                              <p:cond delay="1500"/>
                            </p:stCondLst>
                            <p:childTnLst>
                              <p:par>
                                <p:cTn id="45" nodeType="afterEffect" fill="hold" presetClass="entr" presetID="1">
                                  <p:stCondLst>
                                    <p:cond delay="0"/>
                                  </p:stCondLst>
                                  <p:childTnLst>
                                    <p:set>
                                      <p:cBhvr>
                                        <p:cTn id="46" dur="1" fill="hold">
                                          <p:stCondLst>
                                            <p:cond delay="499"/>
                                          </p:stCondLst>
                                        </p:cTn>
                                        <p:tgtEl>
                                          <p:spTgt spid="232"/>
                                        </p:tgtEl>
                                        <p:attrNameLst>
                                          <p:attrName>style.visibility</p:attrName>
                                        </p:attrNameLst>
                                      </p:cBhvr>
                                      <p:to>
                                        <p:strVal val="visible"/>
                                      </p:to>
                                    </p:set>
                                  </p:childTnLst>
                                </p:cTn>
                              </p:par>
                            </p:childTnLst>
                          </p:cTn>
                        </p:par>
                        <p:par>
                          <p:cTn id="47" fill="hold">
                            <p:stCondLst>
                              <p:cond delay="2000"/>
                            </p:stCondLst>
                            <p:childTnLst>
                              <p:par>
                                <p:cTn id="48" nodeType="afterEffect" fill="hold" presetClass="entr" presetID="22" presetSubtype="2">
                                  <p:stCondLst>
                                    <p:cond delay="0"/>
                                  </p:stCondLst>
                                  <p:childTnLst>
                                    <p:set>
                                      <p:cBhvr>
                                        <p:cTn id="49" dur="1" fill="hold">
                                          <p:stCondLst>
                                            <p:cond delay="0"/>
                                          </p:stCondLst>
                                        </p:cTn>
                                        <p:tgtEl>
                                          <p:spTgt spid="384"/>
                                        </p:tgtEl>
                                        <p:attrNameLst>
                                          <p:attrName>style.visibility</p:attrName>
                                        </p:attrNameLst>
                                      </p:cBhvr>
                                      <p:to>
                                        <p:strVal val="visible"/>
                                      </p:to>
                                    </p:set>
                                    <p:animEffect filter="wipe(right)" transition="in">
                                      <p:cBhvr additive="repl">
                                        <p:cTn id="50" dur="500"/>
                                        <p:tgtEl>
                                          <p:spTgt spid="38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31"/>
                                        </p:tgtEl>
                                        <p:attrNameLst>
                                          <p:attrName>style.visibility</p:attrName>
                                        </p:attrNameLst>
                                      </p:cBhvr>
                                      <p:to>
                                        <p:strVal val="visible"/>
                                      </p:to>
                                    </p:set>
                                    <p:anim calcmode="lin" valueType="num">
                                      <p:cBhvr additive="base">
                                        <p:cTn id="55" dur="500" fill="hold"/>
                                        <p:tgtEl>
                                          <p:spTgt spid="131"/>
                                        </p:tgtEl>
                                        <p:attrNameLst>
                                          <p:attrName>ppt_x</p:attrName>
                                        </p:attrNameLst>
                                      </p:cBhvr>
                                      <p:tavLst>
                                        <p:tav tm="0">
                                          <p:val>
                                            <p:strVal val="#ppt_x"/>
                                          </p:val>
                                        </p:tav>
                                        <p:tav tm="100000">
                                          <p:val>
                                            <p:strVal val="#ppt_x"/>
                                          </p:val>
                                        </p:tav>
                                      </p:tavLst>
                                    </p:anim>
                                    <p:anim calcmode="lin" valueType="num">
                                      <p:cBhvr additive="base">
                                        <p:cTn id="5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35"/>
                                        </p:tgtEl>
                                        <p:attrNameLst>
                                          <p:attrName>style.visibility</p:attrName>
                                        </p:attrNameLst>
                                      </p:cBhvr>
                                      <p:to>
                                        <p:strVal val="visible"/>
                                      </p:to>
                                    </p:set>
                                    <p:anim calcmode="lin" valueType="num">
                                      <p:cBhvr additive="base">
                                        <p:cTn id="61" dur="500" fill="hold"/>
                                        <p:tgtEl>
                                          <p:spTgt spid="235"/>
                                        </p:tgtEl>
                                        <p:attrNameLst>
                                          <p:attrName>ppt_x</p:attrName>
                                        </p:attrNameLst>
                                      </p:cBhvr>
                                      <p:tavLst>
                                        <p:tav tm="0">
                                          <p:val>
                                            <p:strVal val="#ppt_x"/>
                                          </p:val>
                                        </p:tav>
                                        <p:tav tm="100000">
                                          <p:val>
                                            <p:strVal val="#ppt_x"/>
                                          </p:val>
                                        </p:tav>
                                      </p:tavLst>
                                    </p:anim>
                                    <p:anim calcmode="lin" valueType="num">
                                      <p:cBhvr additive="base">
                                        <p:cTn id="6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onceitos de Modelagem de Processo </a:t>
            </a:r>
            <a:endParaRPr b="0" lang="en-US" sz="2400" spc="-1" strike="noStrike">
              <a:solidFill>
                <a:srgbClr val="000096"/>
              </a:solidFill>
              <a:latin typeface="Arial"/>
            </a:endParaRPr>
          </a:p>
        </p:txBody>
      </p:sp>
      <p:sp>
        <p:nvSpPr>
          <p:cNvPr id="386" name=""/>
          <p:cNvSpPr/>
          <p:nvPr/>
        </p:nvSpPr>
        <p:spPr>
          <a:xfrm>
            <a:off x="54000" y="1235160"/>
            <a:ext cx="2651040" cy="16477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ção de Processo de Negócio</a:t>
            </a:r>
            <a:endParaRPr b="0" lang="en-US" sz="2400" spc="-1" strike="noStrike">
              <a:solidFill>
                <a:srgbClr val="000000"/>
              </a:solidFill>
              <a:latin typeface="Arial"/>
            </a:endParaRPr>
          </a:p>
        </p:txBody>
      </p:sp>
      <p:sp>
        <p:nvSpPr>
          <p:cNvPr id="387" name=""/>
          <p:cNvSpPr/>
          <p:nvPr/>
        </p:nvSpPr>
        <p:spPr>
          <a:xfrm>
            <a:off x="3139920" y="1279440"/>
            <a:ext cx="2751120" cy="1559160"/>
          </a:xfrm>
          <a:prstGeom prst="roundRect">
            <a:avLst>
              <a:gd name="adj" fmla="val 16667"/>
            </a:avLst>
          </a:prstGeom>
          <a:solidFill>
            <a:srgbClr val="ff3300"/>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ção de Modelos de Referência</a:t>
            </a:r>
            <a:endParaRPr b="0" lang="en-US" sz="2400" spc="-1" strike="noStrike">
              <a:solidFill>
                <a:srgbClr val="000000"/>
              </a:solidFill>
              <a:latin typeface="Arial"/>
            </a:endParaRPr>
          </a:p>
        </p:txBody>
      </p:sp>
      <p:sp>
        <p:nvSpPr>
          <p:cNvPr id="388" name=""/>
          <p:cNvSpPr/>
          <p:nvPr/>
        </p:nvSpPr>
        <p:spPr>
          <a:xfrm>
            <a:off x="6389640" y="1293840"/>
            <a:ext cx="2617920" cy="15285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ça entre Processos de Negócio e Projetos</a:t>
            </a:r>
            <a:endParaRPr b="0" lang="en-US" sz="2400" spc="-1" strike="noStrike">
              <a:solidFill>
                <a:srgbClr val="000000"/>
              </a:solidFill>
              <a:latin typeface="Arial"/>
            </a:endParaRPr>
          </a:p>
        </p:txBody>
      </p:sp>
      <p:cxnSp>
        <p:nvCxnSpPr>
          <p:cNvPr id="389" name=""/>
          <p:cNvCxnSpPr>
            <a:stCxn id="386" idx="2"/>
            <a:endCxn id="390" idx="0"/>
          </p:cNvCxnSpPr>
          <p:nvPr/>
        </p:nvCxnSpPr>
        <p:spPr>
          <a:xfrm>
            <a:off x="1379160" y="2882520"/>
            <a:ext cx="1080" cy="1842120"/>
          </a:xfrm>
          <a:prstGeom prst="straightConnector1">
            <a:avLst/>
          </a:prstGeom>
          <a:ln w="38160">
            <a:solidFill>
              <a:srgbClr val="000000"/>
            </a:solidFill>
            <a:miter/>
            <a:tailEnd len="med" type="triangle" w="med"/>
          </a:ln>
        </p:spPr>
      </p:cxnSp>
      <p:cxnSp>
        <p:nvCxnSpPr>
          <p:cNvPr id="391" name=""/>
          <p:cNvCxnSpPr>
            <a:stCxn id="387" idx="2"/>
            <a:endCxn id="392" idx="0"/>
          </p:cNvCxnSpPr>
          <p:nvPr/>
        </p:nvCxnSpPr>
        <p:spPr>
          <a:xfrm>
            <a:off x="4516200" y="2838600"/>
            <a:ext cx="1080" cy="1883520"/>
          </a:xfrm>
          <a:prstGeom prst="straightConnector1">
            <a:avLst/>
          </a:prstGeom>
          <a:ln w="38160">
            <a:solidFill>
              <a:srgbClr val="000000"/>
            </a:solidFill>
            <a:miter/>
            <a:tailEnd len="med" type="triangle" w="med"/>
          </a:ln>
        </p:spPr>
      </p:cxnSp>
      <p:cxnSp>
        <p:nvCxnSpPr>
          <p:cNvPr id="393" name=""/>
          <p:cNvCxnSpPr>
            <a:stCxn id="388" idx="2"/>
            <a:endCxn id="394" idx="0"/>
          </p:cNvCxnSpPr>
          <p:nvPr/>
        </p:nvCxnSpPr>
        <p:spPr>
          <a:xfrm>
            <a:off x="7698960" y="2822040"/>
            <a:ext cx="1080" cy="1902600"/>
          </a:xfrm>
          <a:prstGeom prst="straightConnector1">
            <a:avLst/>
          </a:prstGeom>
          <a:ln w="38160">
            <a:solidFill>
              <a:srgbClr val="000000"/>
            </a:solidFill>
            <a:miter/>
            <a:tailEnd len="med" type="triangle" w="med"/>
          </a:ln>
        </p:spPr>
      </p:cxnSp>
      <p:grpSp>
        <p:nvGrpSpPr>
          <p:cNvPr id="395" name=""/>
          <p:cNvGrpSpPr/>
          <p:nvPr/>
        </p:nvGrpSpPr>
        <p:grpSpPr>
          <a:xfrm>
            <a:off x="147600" y="4721400"/>
            <a:ext cx="8736120" cy="1558800"/>
            <a:chOff x="147600" y="4721400"/>
            <a:chExt cx="8736120" cy="1558800"/>
          </a:xfrm>
        </p:grpSpPr>
        <p:sp>
          <p:nvSpPr>
            <p:cNvPr id="392" name=""/>
            <p:cNvSpPr/>
            <p:nvPr/>
          </p:nvSpPr>
          <p:spPr>
            <a:xfrm>
              <a:off x="147600" y="4721400"/>
              <a:ext cx="8736120" cy="15588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o de Referência para o Processo de Desenvolvimento de Produtos</a:t>
              </a:r>
              <a:endParaRPr b="0" lang="en-US" sz="2400" spc="-1" strike="noStrike">
                <a:solidFill>
                  <a:srgbClr val="000000"/>
                </a:solidFill>
                <a:latin typeface="Arial"/>
              </a:endParaRPr>
            </a:p>
          </p:txBody>
        </p:sp>
        <p:sp>
          <p:nvSpPr>
            <p:cNvPr id="390" name=""/>
            <p:cNvSpPr/>
            <p:nvPr/>
          </p:nvSpPr>
          <p:spPr>
            <a:xfrm>
              <a:off x="1233360" y="4724280"/>
              <a:ext cx="292320" cy="17964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4" name=""/>
            <p:cNvSpPr/>
            <p:nvPr/>
          </p:nvSpPr>
          <p:spPr>
            <a:xfrm>
              <a:off x="7553160" y="4724280"/>
              <a:ext cx="292320" cy="17964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cxnSp>
        <p:nvCxnSpPr>
          <p:cNvPr id="396" name=""/>
          <p:cNvCxnSpPr>
            <a:stCxn id="386" idx="3"/>
            <a:endCxn id="387" idx="1"/>
          </p:cNvCxnSpPr>
          <p:nvPr/>
        </p:nvCxnSpPr>
        <p:spPr>
          <a:xfrm>
            <a:off x="2705040" y="2058480"/>
            <a:ext cx="435600" cy="1080"/>
          </a:xfrm>
          <a:prstGeom prst="straightConnector1">
            <a:avLst/>
          </a:prstGeom>
          <a:ln w="38160">
            <a:solidFill>
              <a:srgbClr val="000000"/>
            </a:solidFill>
            <a:miter/>
            <a:tailEnd len="med" type="triangle" w="med"/>
          </a:ln>
        </p:spPr>
      </p:cxnSp>
      <p:cxnSp>
        <p:nvCxnSpPr>
          <p:cNvPr id="397" name=""/>
          <p:cNvCxnSpPr>
            <a:stCxn id="387" idx="3"/>
            <a:endCxn id="388" idx="1"/>
          </p:cNvCxnSpPr>
          <p:nvPr/>
        </p:nvCxnSpPr>
        <p:spPr>
          <a:xfrm>
            <a:off x="5890680" y="2058480"/>
            <a:ext cx="499320" cy="10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Modelo de referência do Processo de Negócio </a:t>
            </a:r>
            <a:endParaRPr b="0" lang="en-US" sz="2400" spc="-1" strike="noStrike">
              <a:solidFill>
                <a:srgbClr val="000096"/>
              </a:solidFill>
              <a:latin typeface="Arial"/>
            </a:endParaRPr>
          </a:p>
        </p:txBody>
      </p:sp>
      <p:sp>
        <p:nvSpPr>
          <p:cNvPr id="399" name=""/>
          <p:cNvSpPr/>
          <p:nvPr/>
        </p:nvSpPr>
        <p:spPr>
          <a:xfrm>
            <a:off x="3352680" y="2181240"/>
            <a:ext cx="2286000" cy="167652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ência</a:t>
            </a:r>
            <a:endParaRPr b="0" lang="en-US" sz="2800" spc="-1" strike="noStrike">
              <a:solidFill>
                <a:srgbClr val="000000"/>
              </a:solidFill>
              <a:latin typeface="Arial"/>
            </a:endParaRPr>
          </a:p>
        </p:txBody>
      </p:sp>
      <p:sp>
        <p:nvSpPr>
          <p:cNvPr id="400" name=""/>
          <p:cNvSpPr/>
          <p:nvPr/>
        </p:nvSpPr>
        <p:spPr>
          <a:xfrm>
            <a:off x="9360" y="5994360"/>
            <a:ext cx="9144000" cy="890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odelos de Referência descrevem o processo de negócio e servem de referência para toda organização sobre o seu funcionamento.  </a:t>
            </a:r>
            <a:endParaRPr b="0" lang="en-US" sz="2000" spc="-1" strike="noStrike">
              <a:solidFill>
                <a:srgbClr val="000000"/>
              </a:solidFill>
              <a:latin typeface="Arial"/>
            </a:endParaRPr>
          </a:p>
        </p:txBody>
      </p:sp>
      <p:grpSp>
        <p:nvGrpSpPr>
          <p:cNvPr id="401" name=""/>
          <p:cNvGrpSpPr/>
          <p:nvPr/>
        </p:nvGrpSpPr>
        <p:grpSpPr>
          <a:xfrm>
            <a:off x="100080" y="961920"/>
            <a:ext cx="8866080" cy="5081400"/>
            <a:chOff x="100080" y="961920"/>
            <a:chExt cx="8866080" cy="5081400"/>
          </a:xfrm>
        </p:grpSpPr>
        <p:grpSp>
          <p:nvGrpSpPr>
            <p:cNvPr id="402" name=""/>
            <p:cNvGrpSpPr/>
            <p:nvPr/>
          </p:nvGrpSpPr>
          <p:grpSpPr>
            <a:xfrm>
              <a:off x="2462040" y="1723680"/>
              <a:ext cx="4038480" cy="2514600"/>
              <a:chOff x="2462040" y="1723680"/>
              <a:chExt cx="4038480" cy="2514600"/>
            </a:xfrm>
          </p:grpSpPr>
          <p:grpSp>
            <p:nvGrpSpPr>
              <p:cNvPr id="403" name=""/>
              <p:cNvGrpSpPr/>
              <p:nvPr/>
            </p:nvGrpSpPr>
            <p:grpSpPr>
              <a:xfrm>
                <a:off x="2462040" y="1723680"/>
                <a:ext cx="4038480" cy="2514600"/>
                <a:chOff x="2462040" y="1723680"/>
                <a:chExt cx="4038480" cy="2514600"/>
              </a:xfrm>
            </p:grpSpPr>
            <p:grpSp>
              <p:nvGrpSpPr>
                <p:cNvPr id="404" name=""/>
                <p:cNvGrpSpPr/>
                <p:nvPr/>
              </p:nvGrpSpPr>
              <p:grpSpPr>
                <a:xfrm>
                  <a:off x="2462040" y="1723680"/>
                  <a:ext cx="4038480" cy="2514600"/>
                  <a:chOff x="2462040" y="1723680"/>
                  <a:chExt cx="4038480" cy="2514600"/>
                </a:xfrm>
              </p:grpSpPr>
              <p:grpSp>
                <p:nvGrpSpPr>
                  <p:cNvPr id="405" name=""/>
                  <p:cNvGrpSpPr/>
                  <p:nvPr/>
                </p:nvGrpSpPr>
                <p:grpSpPr>
                  <a:xfrm>
                    <a:off x="2462040" y="1723680"/>
                    <a:ext cx="4038480" cy="2514600"/>
                    <a:chOff x="2462040" y="1723680"/>
                    <a:chExt cx="4038480" cy="2514600"/>
                  </a:xfrm>
                </p:grpSpPr>
                <p:sp>
                  <p:nvSpPr>
                    <p:cNvPr id="406" name=""/>
                    <p:cNvSpPr/>
                    <p:nvPr/>
                  </p:nvSpPr>
                  <p:spPr>
                    <a:xfrm>
                      <a:off x="2462040" y="1723680"/>
                      <a:ext cx="4038480" cy="2514600"/>
                    </a:xfrm>
                    <a:prstGeom prst="rect">
                      <a:avLst/>
                    </a:prstGeom>
                    <a:solidFill>
                      <a:srgbClr val="ffc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7" name=""/>
                    <p:cNvGrpSpPr/>
                    <p:nvPr/>
                  </p:nvGrpSpPr>
                  <p:grpSpPr>
                    <a:xfrm>
                      <a:off x="2944440" y="2350800"/>
                      <a:ext cx="3033720" cy="1635120"/>
                      <a:chOff x="2944440" y="2350800"/>
                      <a:chExt cx="3033720" cy="1635120"/>
                    </a:xfrm>
                  </p:grpSpPr>
                  <p:grpSp>
                    <p:nvGrpSpPr>
                      <p:cNvPr id="408" name=""/>
                      <p:cNvGrpSpPr/>
                      <p:nvPr/>
                    </p:nvGrpSpPr>
                    <p:grpSpPr>
                      <a:xfrm>
                        <a:off x="2944440" y="2881080"/>
                        <a:ext cx="2444760" cy="1104840"/>
                        <a:chOff x="2944440" y="2881080"/>
                        <a:chExt cx="2444760" cy="1104840"/>
                      </a:xfrm>
                    </p:grpSpPr>
                    <p:sp>
                      <p:nvSpPr>
                        <p:cNvPr id="409" name=""/>
                        <p:cNvSpPr/>
                        <p:nvPr/>
                      </p:nvSpPr>
                      <p:spPr>
                        <a:xfrm>
                          <a:off x="3171600" y="3389040"/>
                          <a:ext cx="2217600" cy="596880"/>
                        </a:xfrm>
                        <a:custGeom>
                          <a:avLst/>
                          <a:gdLst/>
                          <a:ahLst/>
                          <a:rect l="l" t="t" r="r" b="b"/>
                          <a:pathLst>
                            <a:path w="1397" h="376">
                              <a:moveTo>
                                <a:pt x="0" y="282"/>
                              </a:moveTo>
                              <a:lnTo>
                                <a:pt x="46" y="268"/>
                              </a:lnTo>
                              <a:lnTo>
                                <a:pt x="81" y="242"/>
                              </a:lnTo>
                              <a:lnTo>
                                <a:pt x="139" y="228"/>
                              </a:lnTo>
                              <a:lnTo>
                                <a:pt x="185" y="223"/>
                              </a:lnTo>
                              <a:lnTo>
                                <a:pt x="242" y="223"/>
                              </a:lnTo>
                              <a:lnTo>
                                <a:pt x="304" y="231"/>
                              </a:lnTo>
                              <a:lnTo>
                                <a:pt x="377" y="231"/>
                              </a:lnTo>
                              <a:lnTo>
                                <a:pt x="476" y="237"/>
                              </a:lnTo>
                              <a:lnTo>
                                <a:pt x="555" y="234"/>
                              </a:lnTo>
                              <a:lnTo>
                                <a:pt x="650" y="217"/>
                              </a:lnTo>
                              <a:lnTo>
                                <a:pt x="751" y="192"/>
                              </a:lnTo>
                              <a:lnTo>
                                <a:pt x="863" y="155"/>
                              </a:lnTo>
                              <a:lnTo>
                                <a:pt x="984" y="116"/>
                              </a:lnTo>
                              <a:lnTo>
                                <a:pt x="1119" y="73"/>
                              </a:lnTo>
                              <a:lnTo>
                                <a:pt x="1231" y="40"/>
                              </a:lnTo>
                              <a:lnTo>
                                <a:pt x="1341" y="14"/>
                              </a:lnTo>
                              <a:lnTo>
                                <a:pt x="1396" y="0"/>
                              </a:lnTo>
                              <a:lnTo>
                                <a:pt x="1361" y="17"/>
                              </a:lnTo>
                              <a:lnTo>
                                <a:pt x="1352" y="32"/>
                              </a:lnTo>
                              <a:lnTo>
                                <a:pt x="1356" y="43"/>
                              </a:lnTo>
                              <a:lnTo>
                                <a:pt x="1310" y="62"/>
                              </a:lnTo>
                              <a:lnTo>
                                <a:pt x="1284" y="71"/>
                              </a:lnTo>
                              <a:lnTo>
                                <a:pt x="1231" y="82"/>
                              </a:lnTo>
                              <a:lnTo>
                                <a:pt x="1171" y="95"/>
                              </a:lnTo>
                              <a:lnTo>
                                <a:pt x="1132" y="113"/>
                              </a:lnTo>
                              <a:lnTo>
                                <a:pt x="1123" y="122"/>
                              </a:lnTo>
                              <a:lnTo>
                                <a:pt x="1123" y="133"/>
                              </a:lnTo>
                              <a:lnTo>
                                <a:pt x="1136" y="141"/>
                              </a:lnTo>
                              <a:lnTo>
                                <a:pt x="1127" y="149"/>
                              </a:lnTo>
                              <a:lnTo>
                                <a:pt x="1101" y="152"/>
                              </a:lnTo>
                              <a:lnTo>
                                <a:pt x="1055" y="158"/>
                              </a:lnTo>
                              <a:lnTo>
                                <a:pt x="984" y="169"/>
                              </a:lnTo>
                              <a:lnTo>
                                <a:pt x="907" y="190"/>
                              </a:lnTo>
                              <a:lnTo>
                                <a:pt x="801" y="217"/>
                              </a:lnTo>
                              <a:lnTo>
                                <a:pt x="724" y="231"/>
                              </a:lnTo>
                              <a:lnTo>
                                <a:pt x="650" y="242"/>
                              </a:lnTo>
                              <a:lnTo>
                                <a:pt x="595" y="256"/>
                              </a:lnTo>
                              <a:lnTo>
                                <a:pt x="564" y="266"/>
                              </a:lnTo>
                              <a:lnTo>
                                <a:pt x="451" y="266"/>
                              </a:lnTo>
                              <a:lnTo>
                                <a:pt x="399" y="266"/>
                              </a:lnTo>
                              <a:lnTo>
                                <a:pt x="350" y="268"/>
                              </a:lnTo>
                              <a:lnTo>
                                <a:pt x="308" y="282"/>
                              </a:lnTo>
                              <a:lnTo>
                                <a:pt x="251" y="304"/>
                              </a:lnTo>
                              <a:lnTo>
                                <a:pt x="211" y="329"/>
                              </a:lnTo>
                              <a:lnTo>
                                <a:pt x="183" y="347"/>
                              </a:lnTo>
                              <a:lnTo>
                                <a:pt x="143" y="375"/>
                              </a:lnTo>
                              <a:lnTo>
                                <a:pt x="165" y="343"/>
                              </a:lnTo>
                              <a:lnTo>
                                <a:pt x="183" y="327"/>
                              </a:lnTo>
                              <a:lnTo>
                                <a:pt x="189" y="307"/>
                              </a:lnTo>
                              <a:lnTo>
                                <a:pt x="189" y="291"/>
                              </a:lnTo>
                              <a:lnTo>
                                <a:pt x="178" y="277"/>
                              </a:lnTo>
                              <a:lnTo>
                                <a:pt x="143" y="268"/>
                              </a:lnTo>
                              <a:lnTo>
                                <a:pt x="103" y="263"/>
                              </a:lnTo>
                              <a:lnTo>
                                <a:pt x="77" y="266"/>
                              </a:lnTo>
                              <a:lnTo>
                                <a:pt x="55" y="274"/>
                              </a:lnTo>
                              <a:lnTo>
                                <a:pt x="0" y="282"/>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560400" y="3419280"/>
                          <a:ext cx="706680" cy="104760"/>
                        </a:xfrm>
                        <a:custGeom>
                          <a:avLst/>
                          <a:gdLst/>
                          <a:ahLst/>
                          <a:rect l="l" t="t" r="r" b="b"/>
                          <a:pathLst>
                            <a:path w="445" h="66">
                              <a:moveTo>
                                <a:pt x="13" y="0"/>
                              </a:moveTo>
                              <a:lnTo>
                                <a:pt x="34" y="2"/>
                              </a:lnTo>
                              <a:lnTo>
                                <a:pt x="60" y="11"/>
                              </a:lnTo>
                              <a:lnTo>
                                <a:pt x="88" y="21"/>
                              </a:lnTo>
                              <a:lnTo>
                                <a:pt x="122" y="31"/>
                              </a:lnTo>
                              <a:lnTo>
                                <a:pt x="157" y="36"/>
                              </a:lnTo>
                              <a:lnTo>
                                <a:pt x="191" y="40"/>
                              </a:lnTo>
                              <a:lnTo>
                                <a:pt x="225" y="40"/>
                              </a:lnTo>
                              <a:lnTo>
                                <a:pt x="266" y="36"/>
                              </a:lnTo>
                              <a:lnTo>
                                <a:pt x="313" y="31"/>
                              </a:lnTo>
                              <a:lnTo>
                                <a:pt x="347" y="26"/>
                              </a:lnTo>
                              <a:lnTo>
                                <a:pt x="384" y="23"/>
                              </a:lnTo>
                              <a:lnTo>
                                <a:pt x="444" y="18"/>
                              </a:lnTo>
                              <a:lnTo>
                                <a:pt x="423" y="28"/>
                              </a:lnTo>
                              <a:lnTo>
                                <a:pt x="401" y="38"/>
                              </a:lnTo>
                              <a:lnTo>
                                <a:pt x="401" y="48"/>
                              </a:lnTo>
                              <a:lnTo>
                                <a:pt x="405" y="63"/>
                              </a:lnTo>
                              <a:lnTo>
                                <a:pt x="418" y="65"/>
                              </a:lnTo>
                              <a:lnTo>
                                <a:pt x="401" y="63"/>
                              </a:lnTo>
                              <a:lnTo>
                                <a:pt x="375" y="58"/>
                              </a:lnTo>
                              <a:lnTo>
                                <a:pt x="365" y="55"/>
                              </a:lnTo>
                              <a:lnTo>
                                <a:pt x="339" y="55"/>
                              </a:lnTo>
                              <a:lnTo>
                                <a:pt x="305" y="55"/>
                              </a:lnTo>
                              <a:lnTo>
                                <a:pt x="262" y="55"/>
                              </a:lnTo>
                              <a:lnTo>
                                <a:pt x="221" y="55"/>
                              </a:lnTo>
                              <a:lnTo>
                                <a:pt x="191" y="55"/>
                              </a:lnTo>
                              <a:lnTo>
                                <a:pt x="157" y="53"/>
                              </a:lnTo>
                              <a:lnTo>
                                <a:pt x="127" y="50"/>
                              </a:lnTo>
                              <a:lnTo>
                                <a:pt x="92" y="45"/>
                              </a:lnTo>
                              <a:lnTo>
                                <a:pt x="69" y="38"/>
                              </a:lnTo>
                              <a:lnTo>
                                <a:pt x="39" y="31"/>
                              </a:lnTo>
                              <a:lnTo>
                                <a:pt x="17" y="21"/>
                              </a:lnTo>
                              <a:lnTo>
                                <a:pt x="0" y="16"/>
                              </a:lnTo>
                              <a:lnTo>
                                <a:pt x="13" y="0"/>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655800" y="3205080"/>
                          <a:ext cx="1396800" cy="210960"/>
                        </a:xfrm>
                        <a:custGeom>
                          <a:avLst/>
                          <a:gdLst/>
                          <a:ahLst/>
                          <a:rect l="l" t="t" r="r" b="b"/>
                          <a:pathLst>
                            <a:path w="880" h="133">
                              <a:moveTo>
                                <a:pt x="17" y="73"/>
                              </a:moveTo>
                              <a:lnTo>
                                <a:pt x="31" y="67"/>
                              </a:lnTo>
                              <a:lnTo>
                                <a:pt x="22" y="81"/>
                              </a:lnTo>
                              <a:lnTo>
                                <a:pt x="31" y="88"/>
                              </a:lnTo>
                              <a:lnTo>
                                <a:pt x="81" y="99"/>
                              </a:lnTo>
                              <a:lnTo>
                                <a:pt x="160" y="107"/>
                              </a:lnTo>
                              <a:lnTo>
                                <a:pt x="236" y="115"/>
                              </a:lnTo>
                              <a:lnTo>
                                <a:pt x="326" y="112"/>
                              </a:lnTo>
                              <a:lnTo>
                                <a:pt x="435" y="102"/>
                              </a:lnTo>
                              <a:lnTo>
                                <a:pt x="547" y="91"/>
                              </a:lnTo>
                              <a:lnTo>
                                <a:pt x="645" y="78"/>
                              </a:lnTo>
                              <a:lnTo>
                                <a:pt x="684" y="73"/>
                              </a:lnTo>
                              <a:lnTo>
                                <a:pt x="737" y="59"/>
                              </a:lnTo>
                              <a:lnTo>
                                <a:pt x="787" y="42"/>
                              </a:lnTo>
                              <a:lnTo>
                                <a:pt x="835" y="24"/>
                              </a:lnTo>
                              <a:lnTo>
                                <a:pt x="879" y="0"/>
                              </a:lnTo>
                              <a:lnTo>
                                <a:pt x="866" y="29"/>
                              </a:lnTo>
                              <a:lnTo>
                                <a:pt x="831" y="48"/>
                              </a:lnTo>
                              <a:lnTo>
                                <a:pt x="770" y="65"/>
                              </a:lnTo>
                              <a:lnTo>
                                <a:pt x="706" y="86"/>
                              </a:lnTo>
                              <a:lnTo>
                                <a:pt x="632" y="96"/>
                              </a:lnTo>
                              <a:lnTo>
                                <a:pt x="547" y="110"/>
                              </a:lnTo>
                              <a:lnTo>
                                <a:pt x="464" y="120"/>
                              </a:lnTo>
                              <a:lnTo>
                                <a:pt x="405" y="128"/>
                              </a:lnTo>
                              <a:lnTo>
                                <a:pt x="348" y="131"/>
                              </a:lnTo>
                              <a:lnTo>
                                <a:pt x="276" y="132"/>
                              </a:lnTo>
                              <a:lnTo>
                                <a:pt x="188" y="131"/>
                              </a:lnTo>
                              <a:lnTo>
                                <a:pt x="112" y="123"/>
                              </a:lnTo>
                              <a:lnTo>
                                <a:pt x="55" y="112"/>
                              </a:lnTo>
                              <a:lnTo>
                                <a:pt x="13" y="99"/>
                              </a:lnTo>
                              <a:lnTo>
                                <a:pt x="0" y="88"/>
                              </a:lnTo>
                              <a:lnTo>
                                <a:pt x="17" y="73"/>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2" name=""/>
                        <p:cNvGrpSpPr/>
                        <p:nvPr/>
                      </p:nvGrpSpPr>
                      <p:grpSpPr>
                        <a:xfrm>
                          <a:off x="2944440" y="2881080"/>
                          <a:ext cx="463680" cy="441360"/>
                          <a:chOff x="2944440" y="2881080"/>
                          <a:chExt cx="463680" cy="441360"/>
                        </a:xfrm>
                      </p:grpSpPr>
                      <p:sp>
                        <p:nvSpPr>
                          <p:cNvPr id="413" name=""/>
                          <p:cNvSpPr/>
                          <p:nvPr/>
                        </p:nvSpPr>
                        <p:spPr>
                          <a:xfrm>
                            <a:off x="2944440" y="3284280"/>
                            <a:ext cx="214560" cy="38160"/>
                          </a:xfrm>
                          <a:custGeom>
                            <a:avLst/>
                            <a:gdLst/>
                            <a:ahLst/>
                            <a:rect l="l" t="t" r="r" b="b"/>
                            <a:pathLst>
                              <a:path w="135" h="24">
                                <a:moveTo>
                                  <a:pt x="134" y="2"/>
                                </a:moveTo>
                                <a:lnTo>
                                  <a:pt x="134" y="4"/>
                                </a:lnTo>
                                <a:lnTo>
                                  <a:pt x="130" y="4"/>
                                </a:lnTo>
                                <a:lnTo>
                                  <a:pt x="130" y="6"/>
                                </a:lnTo>
                                <a:lnTo>
                                  <a:pt x="130" y="8"/>
                                </a:lnTo>
                                <a:lnTo>
                                  <a:pt x="107" y="14"/>
                                </a:lnTo>
                                <a:lnTo>
                                  <a:pt x="16" y="23"/>
                                </a:lnTo>
                                <a:lnTo>
                                  <a:pt x="0" y="21"/>
                                </a:lnTo>
                                <a:lnTo>
                                  <a:pt x="19" y="17"/>
                                </a:lnTo>
                                <a:lnTo>
                                  <a:pt x="45" y="10"/>
                                </a:lnTo>
                                <a:lnTo>
                                  <a:pt x="72" y="2"/>
                                </a:lnTo>
                                <a:lnTo>
                                  <a:pt x="99" y="0"/>
                                </a:lnTo>
                                <a:lnTo>
                                  <a:pt x="134" y="2"/>
                                </a:lnTo>
                              </a:path>
                            </a:pathLst>
                          </a:custGeom>
                          <a:solidFill>
                            <a:srgbClr val="ffa04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4" name=""/>
                          <p:cNvSpPr/>
                          <p:nvPr/>
                        </p:nvSpPr>
                        <p:spPr>
                          <a:xfrm>
                            <a:off x="2993760" y="3189240"/>
                            <a:ext cx="227160" cy="48960"/>
                          </a:xfrm>
                          <a:custGeom>
                            <a:avLst/>
                            <a:gdLst/>
                            <a:ahLst/>
                            <a:rect l="l" t="t" r="r" b="b"/>
                            <a:pathLst>
                              <a:path w="143" h="31">
                                <a:moveTo>
                                  <a:pt x="0" y="30"/>
                                </a:moveTo>
                                <a:lnTo>
                                  <a:pt x="53" y="19"/>
                                </a:lnTo>
                                <a:lnTo>
                                  <a:pt x="120" y="26"/>
                                </a:lnTo>
                                <a:lnTo>
                                  <a:pt x="142" y="4"/>
                                </a:lnTo>
                                <a:lnTo>
                                  <a:pt x="136" y="0"/>
                                </a:lnTo>
                                <a:lnTo>
                                  <a:pt x="101" y="2"/>
                                </a:lnTo>
                                <a:lnTo>
                                  <a:pt x="61" y="2"/>
                                </a:lnTo>
                                <a:lnTo>
                                  <a:pt x="18" y="9"/>
                                </a:lnTo>
                                <a:lnTo>
                                  <a:pt x="0" y="30"/>
                                </a:lnTo>
                              </a:path>
                            </a:pathLst>
                          </a:custGeom>
                          <a:solidFill>
                            <a:srgbClr val="ffa04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15" name=""/>
                          <p:cNvSpPr/>
                          <p:nvPr/>
                        </p:nvSpPr>
                        <p:spPr>
                          <a:xfrm>
                            <a:off x="3068280" y="3052440"/>
                            <a:ext cx="223920" cy="71640"/>
                          </a:xfrm>
                          <a:custGeom>
                            <a:avLst/>
                            <a:gdLst/>
                            <a:ahLst/>
                            <a:rect l="l" t="t" r="r" b="b"/>
                            <a:pathLst>
                              <a:path w="141" h="45">
                                <a:moveTo>
                                  <a:pt x="140" y="25"/>
                                </a:moveTo>
                                <a:lnTo>
                                  <a:pt x="124" y="44"/>
                                </a:lnTo>
                                <a:lnTo>
                                  <a:pt x="12" y="25"/>
                                </a:lnTo>
                                <a:lnTo>
                                  <a:pt x="0" y="16"/>
                                </a:lnTo>
                                <a:lnTo>
                                  <a:pt x="8" y="0"/>
                                </a:lnTo>
                                <a:lnTo>
                                  <a:pt x="16" y="9"/>
                                </a:lnTo>
                                <a:lnTo>
                                  <a:pt x="51" y="12"/>
                                </a:lnTo>
                                <a:lnTo>
                                  <a:pt x="112" y="23"/>
                                </a:lnTo>
                                <a:lnTo>
                                  <a:pt x="140" y="25"/>
                                </a:lnTo>
                              </a:path>
                            </a:pathLst>
                          </a:custGeom>
                          <a:solidFill>
                            <a:srgbClr val="ffa04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6" name=""/>
                          <p:cNvSpPr/>
                          <p:nvPr/>
                        </p:nvSpPr>
                        <p:spPr>
                          <a:xfrm>
                            <a:off x="3136680" y="2976480"/>
                            <a:ext cx="252360" cy="46080"/>
                          </a:xfrm>
                          <a:custGeom>
                            <a:avLst/>
                            <a:gdLst/>
                            <a:ahLst/>
                            <a:rect l="l" t="t" r="r" b="b"/>
                            <a:pathLst>
                              <a:path w="159" h="29">
                                <a:moveTo>
                                  <a:pt x="8" y="0"/>
                                </a:moveTo>
                                <a:lnTo>
                                  <a:pt x="106" y="12"/>
                                </a:lnTo>
                                <a:lnTo>
                                  <a:pt x="130" y="12"/>
                                </a:lnTo>
                                <a:lnTo>
                                  <a:pt x="158" y="12"/>
                                </a:lnTo>
                                <a:lnTo>
                                  <a:pt x="134" y="25"/>
                                </a:lnTo>
                                <a:lnTo>
                                  <a:pt x="86" y="28"/>
                                </a:lnTo>
                                <a:lnTo>
                                  <a:pt x="28" y="21"/>
                                </a:lnTo>
                                <a:lnTo>
                                  <a:pt x="0" y="14"/>
                                </a:lnTo>
                                <a:lnTo>
                                  <a:pt x="8" y="0"/>
                                </a:lnTo>
                              </a:path>
                            </a:pathLst>
                          </a:custGeom>
                          <a:solidFill>
                            <a:srgbClr val="ffa04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7" name=""/>
                          <p:cNvSpPr/>
                          <p:nvPr/>
                        </p:nvSpPr>
                        <p:spPr>
                          <a:xfrm>
                            <a:off x="3196800" y="2881080"/>
                            <a:ext cx="211320" cy="42840"/>
                          </a:xfrm>
                          <a:custGeom>
                            <a:avLst/>
                            <a:gdLst/>
                            <a:ahLst/>
                            <a:rect l="l" t="t" r="r" b="b"/>
                            <a:pathLst>
                              <a:path w="133" h="27">
                                <a:moveTo>
                                  <a:pt x="4" y="16"/>
                                </a:moveTo>
                                <a:lnTo>
                                  <a:pt x="0" y="26"/>
                                </a:lnTo>
                                <a:lnTo>
                                  <a:pt x="78" y="26"/>
                                </a:lnTo>
                                <a:lnTo>
                                  <a:pt x="132" y="14"/>
                                </a:lnTo>
                                <a:lnTo>
                                  <a:pt x="132" y="0"/>
                                </a:lnTo>
                                <a:lnTo>
                                  <a:pt x="105" y="8"/>
                                </a:lnTo>
                                <a:lnTo>
                                  <a:pt x="48" y="16"/>
                                </a:lnTo>
                                <a:lnTo>
                                  <a:pt x="4" y="16"/>
                                </a:lnTo>
                              </a:path>
                            </a:pathLst>
                          </a:custGeom>
                          <a:solidFill>
                            <a:srgbClr val="ffa04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sp>
                    <p:nvSpPr>
                      <p:cNvPr id="418" name=""/>
                      <p:cNvSpPr/>
                      <p:nvPr/>
                    </p:nvSpPr>
                    <p:spPr>
                      <a:xfrm>
                        <a:off x="3236760" y="2350800"/>
                        <a:ext cx="2741400" cy="1033560"/>
                      </a:xfrm>
                      <a:custGeom>
                        <a:avLst/>
                        <a:gdLst/>
                        <a:ahLst/>
                        <a:rect l="l" t="t" r="r" b="b"/>
                        <a:pathLst>
                          <a:path w="1727" h="651">
                            <a:moveTo>
                              <a:pt x="185" y="269"/>
                            </a:moveTo>
                            <a:lnTo>
                              <a:pt x="0" y="322"/>
                            </a:lnTo>
                            <a:lnTo>
                              <a:pt x="29" y="283"/>
                            </a:lnTo>
                            <a:lnTo>
                              <a:pt x="77" y="228"/>
                            </a:lnTo>
                            <a:lnTo>
                              <a:pt x="130" y="182"/>
                            </a:lnTo>
                            <a:lnTo>
                              <a:pt x="216" y="137"/>
                            </a:lnTo>
                            <a:lnTo>
                              <a:pt x="342" y="88"/>
                            </a:lnTo>
                            <a:lnTo>
                              <a:pt x="430" y="55"/>
                            </a:lnTo>
                            <a:lnTo>
                              <a:pt x="521" y="29"/>
                            </a:lnTo>
                            <a:lnTo>
                              <a:pt x="616" y="14"/>
                            </a:lnTo>
                            <a:lnTo>
                              <a:pt x="708" y="3"/>
                            </a:lnTo>
                            <a:lnTo>
                              <a:pt x="795" y="0"/>
                            </a:lnTo>
                            <a:lnTo>
                              <a:pt x="912" y="0"/>
                            </a:lnTo>
                            <a:lnTo>
                              <a:pt x="1018" y="3"/>
                            </a:lnTo>
                            <a:lnTo>
                              <a:pt x="1112" y="14"/>
                            </a:lnTo>
                            <a:lnTo>
                              <a:pt x="1216" y="52"/>
                            </a:lnTo>
                            <a:lnTo>
                              <a:pt x="1282" y="80"/>
                            </a:lnTo>
                            <a:lnTo>
                              <a:pt x="1368" y="118"/>
                            </a:lnTo>
                            <a:lnTo>
                              <a:pt x="1435" y="160"/>
                            </a:lnTo>
                            <a:lnTo>
                              <a:pt x="1455" y="185"/>
                            </a:lnTo>
                            <a:lnTo>
                              <a:pt x="1459" y="226"/>
                            </a:lnTo>
                            <a:lnTo>
                              <a:pt x="1459" y="256"/>
                            </a:lnTo>
                            <a:lnTo>
                              <a:pt x="1569" y="254"/>
                            </a:lnTo>
                            <a:lnTo>
                              <a:pt x="1556" y="265"/>
                            </a:lnTo>
                            <a:lnTo>
                              <a:pt x="1543" y="283"/>
                            </a:lnTo>
                            <a:lnTo>
                              <a:pt x="1538" y="308"/>
                            </a:lnTo>
                            <a:lnTo>
                              <a:pt x="1552" y="336"/>
                            </a:lnTo>
                            <a:lnTo>
                              <a:pt x="1578" y="352"/>
                            </a:lnTo>
                            <a:lnTo>
                              <a:pt x="1611" y="371"/>
                            </a:lnTo>
                            <a:lnTo>
                              <a:pt x="1682" y="385"/>
                            </a:lnTo>
                            <a:lnTo>
                              <a:pt x="1726" y="391"/>
                            </a:lnTo>
                            <a:lnTo>
                              <a:pt x="1682" y="434"/>
                            </a:lnTo>
                            <a:lnTo>
                              <a:pt x="1664" y="465"/>
                            </a:lnTo>
                            <a:lnTo>
                              <a:pt x="1647" y="490"/>
                            </a:lnTo>
                            <a:lnTo>
                              <a:pt x="1633" y="528"/>
                            </a:lnTo>
                            <a:lnTo>
                              <a:pt x="1624" y="559"/>
                            </a:lnTo>
                            <a:lnTo>
                              <a:pt x="1624" y="579"/>
                            </a:lnTo>
                            <a:lnTo>
                              <a:pt x="1591" y="605"/>
                            </a:lnTo>
                            <a:lnTo>
                              <a:pt x="1516" y="650"/>
                            </a:lnTo>
                            <a:lnTo>
                              <a:pt x="1503" y="639"/>
                            </a:lnTo>
                            <a:lnTo>
                              <a:pt x="1525" y="616"/>
                            </a:lnTo>
                            <a:lnTo>
                              <a:pt x="1538" y="591"/>
                            </a:lnTo>
                            <a:lnTo>
                              <a:pt x="1547" y="565"/>
                            </a:lnTo>
                            <a:lnTo>
                              <a:pt x="1552" y="528"/>
                            </a:lnTo>
                            <a:lnTo>
                              <a:pt x="1560" y="509"/>
                            </a:lnTo>
                            <a:lnTo>
                              <a:pt x="1547" y="499"/>
                            </a:lnTo>
                            <a:lnTo>
                              <a:pt x="1538" y="488"/>
                            </a:lnTo>
                            <a:lnTo>
                              <a:pt x="1503" y="488"/>
                            </a:lnTo>
                            <a:lnTo>
                              <a:pt x="1435" y="493"/>
                            </a:lnTo>
                            <a:lnTo>
                              <a:pt x="1368" y="499"/>
                            </a:lnTo>
                            <a:lnTo>
                              <a:pt x="1315" y="504"/>
                            </a:lnTo>
                            <a:lnTo>
                              <a:pt x="1278" y="506"/>
                            </a:lnTo>
                            <a:lnTo>
                              <a:pt x="1216" y="502"/>
                            </a:lnTo>
                            <a:lnTo>
                              <a:pt x="1190" y="499"/>
                            </a:lnTo>
                            <a:lnTo>
                              <a:pt x="1134" y="488"/>
                            </a:lnTo>
                            <a:lnTo>
                              <a:pt x="1108" y="479"/>
                            </a:lnTo>
                            <a:lnTo>
                              <a:pt x="1221" y="422"/>
                            </a:lnTo>
                            <a:lnTo>
                              <a:pt x="1269" y="410"/>
                            </a:lnTo>
                            <a:lnTo>
                              <a:pt x="1311" y="396"/>
                            </a:lnTo>
                            <a:lnTo>
                              <a:pt x="1329" y="380"/>
                            </a:lnTo>
                            <a:lnTo>
                              <a:pt x="1329" y="371"/>
                            </a:lnTo>
                            <a:lnTo>
                              <a:pt x="1296" y="349"/>
                            </a:lnTo>
                            <a:lnTo>
                              <a:pt x="1238" y="322"/>
                            </a:lnTo>
                            <a:lnTo>
                              <a:pt x="1157" y="283"/>
                            </a:lnTo>
                            <a:lnTo>
                              <a:pt x="1082" y="256"/>
                            </a:lnTo>
                            <a:lnTo>
                              <a:pt x="1068" y="251"/>
                            </a:lnTo>
                            <a:lnTo>
                              <a:pt x="1073" y="228"/>
                            </a:lnTo>
                            <a:lnTo>
                              <a:pt x="1064" y="206"/>
                            </a:lnTo>
                            <a:lnTo>
                              <a:pt x="1020" y="185"/>
                            </a:lnTo>
                            <a:lnTo>
                              <a:pt x="995" y="163"/>
                            </a:lnTo>
                            <a:lnTo>
                              <a:pt x="951" y="146"/>
                            </a:lnTo>
                            <a:lnTo>
                              <a:pt x="907" y="132"/>
                            </a:lnTo>
                            <a:lnTo>
                              <a:pt x="865" y="123"/>
                            </a:lnTo>
                            <a:lnTo>
                              <a:pt x="821" y="123"/>
                            </a:lnTo>
                            <a:lnTo>
                              <a:pt x="786" y="132"/>
                            </a:lnTo>
                            <a:lnTo>
                              <a:pt x="750" y="143"/>
                            </a:lnTo>
                            <a:lnTo>
                              <a:pt x="726" y="143"/>
                            </a:lnTo>
                            <a:lnTo>
                              <a:pt x="673" y="157"/>
                            </a:lnTo>
                            <a:lnTo>
                              <a:pt x="647" y="168"/>
                            </a:lnTo>
                            <a:lnTo>
                              <a:pt x="700" y="168"/>
                            </a:lnTo>
                            <a:lnTo>
                              <a:pt x="669" y="179"/>
                            </a:lnTo>
                            <a:lnTo>
                              <a:pt x="625" y="189"/>
                            </a:lnTo>
                            <a:lnTo>
                              <a:pt x="585" y="195"/>
                            </a:lnTo>
                            <a:lnTo>
                              <a:pt x="534" y="203"/>
                            </a:lnTo>
                            <a:lnTo>
                              <a:pt x="486" y="214"/>
                            </a:lnTo>
                            <a:lnTo>
                              <a:pt x="417" y="240"/>
                            </a:lnTo>
                            <a:lnTo>
                              <a:pt x="373" y="265"/>
                            </a:lnTo>
                            <a:lnTo>
                              <a:pt x="324" y="280"/>
                            </a:lnTo>
                            <a:lnTo>
                              <a:pt x="307" y="294"/>
                            </a:lnTo>
                            <a:lnTo>
                              <a:pt x="298" y="319"/>
                            </a:lnTo>
                            <a:lnTo>
                              <a:pt x="287" y="349"/>
                            </a:lnTo>
                            <a:lnTo>
                              <a:pt x="287" y="374"/>
                            </a:lnTo>
                            <a:lnTo>
                              <a:pt x="307" y="382"/>
                            </a:lnTo>
                            <a:lnTo>
                              <a:pt x="287" y="410"/>
                            </a:lnTo>
                            <a:lnTo>
                              <a:pt x="260" y="468"/>
                            </a:lnTo>
                            <a:lnTo>
                              <a:pt x="216" y="525"/>
                            </a:lnTo>
                            <a:lnTo>
                              <a:pt x="181" y="551"/>
                            </a:lnTo>
                            <a:lnTo>
                              <a:pt x="130" y="553"/>
                            </a:lnTo>
                            <a:lnTo>
                              <a:pt x="73" y="559"/>
                            </a:lnTo>
                            <a:lnTo>
                              <a:pt x="24" y="565"/>
                            </a:lnTo>
                            <a:lnTo>
                              <a:pt x="55" y="534"/>
                            </a:lnTo>
                            <a:lnTo>
                              <a:pt x="77" y="506"/>
                            </a:lnTo>
                            <a:lnTo>
                              <a:pt x="99" y="485"/>
                            </a:lnTo>
                            <a:lnTo>
                              <a:pt x="117" y="445"/>
                            </a:lnTo>
                            <a:lnTo>
                              <a:pt x="130" y="416"/>
                            </a:lnTo>
                            <a:lnTo>
                              <a:pt x="139" y="382"/>
                            </a:lnTo>
                            <a:lnTo>
                              <a:pt x="150" y="357"/>
                            </a:lnTo>
                            <a:lnTo>
                              <a:pt x="168" y="336"/>
                            </a:lnTo>
                            <a:lnTo>
                              <a:pt x="181" y="308"/>
                            </a:lnTo>
                            <a:lnTo>
                              <a:pt x="185" y="269"/>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9" name=""/>
                  <p:cNvSpPr/>
                  <p:nvPr/>
                </p:nvSpPr>
                <p:spPr>
                  <a:xfrm>
                    <a:off x="2614320" y="2046240"/>
                    <a:ext cx="3665520" cy="1298520"/>
                  </a:xfrm>
                  <a:custGeom>
                    <a:avLst/>
                    <a:gdLst/>
                    <a:ahLst/>
                    <a:rect l="l" t="t" r="r" b="b"/>
                    <a:pathLst>
                      <a:path w="2309" h="818">
                        <a:moveTo>
                          <a:pt x="228" y="771"/>
                        </a:moveTo>
                        <a:lnTo>
                          <a:pt x="179" y="786"/>
                        </a:lnTo>
                        <a:lnTo>
                          <a:pt x="130" y="800"/>
                        </a:lnTo>
                        <a:lnTo>
                          <a:pt x="4" y="817"/>
                        </a:lnTo>
                        <a:lnTo>
                          <a:pt x="0" y="756"/>
                        </a:lnTo>
                        <a:lnTo>
                          <a:pt x="13" y="665"/>
                        </a:lnTo>
                        <a:lnTo>
                          <a:pt x="84" y="599"/>
                        </a:lnTo>
                        <a:lnTo>
                          <a:pt x="126" y="537"/>
                        </a:lnTo>
                        <a:lnTo>
                          <a:pt x="157" y="507"/>
                        </a:lnTo>
                        <a:lnTo>
                          <a:pt x="161" y="432"/>
                        </a:lnTo>
                        <a:lnTo>
                          <a:pt x="183" y="401"/>
                        </a:lnTo>
                        <a:lnTo>
                          <a:pt x="252" y="316"/>
                        </a:lnTo>
                        <a:lnTo>
                          <a:pt x="292" y="275"/>
                        </a:lnTo>
                        <a:lnTo>
                          <a:pt x="305" y="258"/>
                        </a:lnTo>
                        <a:lnTo>
                          <a:pt x="367" y="258"/>
                        </a:lnTo>
                        <a:lnTo>
                          <a:pt x="396" y="211"/>
                        </a:lnTo>
                        <a:lnTo>
                          <a:pt x="405" y="227"/>
                        </a:lnTo>
                        <a:lnTo>
                          <a:pt x="422" y="224"/>
                        </a:lnTo>
                        <a:lnTo>
                          <a:pt x="453" y="161"/>
                        </a:lnTo>
                        <a:lnTo>
                          <a:pt x="497" y="131"/>
                        </a:lnTo>
                        <a:lnTo>
                          <a:pt x="489" y="203"/>
                        </a:lnTo>
                        <a:lnTo>
                          <a:pt x="575" y="172"/>
                        </a:lnTo>
                        <a:lnTo>
                          <a:pt x="676" y="131"/>
                        </a:lnTo>
                        <a:lnTo>
                          <a:pt x="749" y="92"/>
                        </a:lnTo>
                        <a:lnTo>
                          <a:pt x="758" y="117"/>
                        </a:lnTo>
                        <a:lnTo>
                          <a:pt x="807" y="100"/>
                        </a:lnTo>
                        <a:lnTo>
                          <a:pt x="849" y="72"/>
                        </a:lnTo>
                        <a:lnTo>
                          <a:pt x="875" y="77"/>
                        </a:lnTo>
                        <a:lnTo>
                          <a:pt x="906" y="97"/>
                        </a:lnTo>
                        <a:lnTo>
                          <a:pt x="942" y="69"/>
                        </a:lnTo>
                        <a:lnTo>
                          <a:pt x="1010" y="34"/>
                        </a:lnTo>
                        <a:lnTo>
                          <a:pt x="979" y="77"/>
                        </a:lnTo>
                        <a:lnTo>
                          <a:pt x="1006" y="61"/>
                        </a:lnTo>
                        <a:lnTo>
                          <a:pt x="1103" y="6"/>
                        </a:lnTo>
                        <a:lnTo>
                          <a:pt x="1050" y="39"/>
                        </a:lnTo>
                        <a:lnTo>
                          <a:pt x="1046" y="61"/>
                        </a:lnTo>
                        <a:lnTo>
                          <a:pt x="1081" y="52"/>
                        </a:lnTo>
                        <a:lnTo>
                          <a:pt x="1108" y="51"/>
                        </a:lnTo>
                        <a:lnTo>
                          <a:pt x="1154" y="28"/>
                        </a:lnTo>
                        <a:lnTo>
                          <a:pt x="1211" y="3"/>
                        </a:lnTo>
                        <a:lnTo>
                          <a:pt x="1150" y="37"/>
                        </a:lnTo>
                        <a:lnTo>
                          <a:pt x="1141" y="48"/>
                        </a:lnTo>
                        <a:lnTo>
                          <a:pt x="1158" y="48"/>
                        </a:lnTo>
                        <a:lnTo>
                          <a:pt x="1229" y="31"/>
                        </a:lnTo>
                        <a:lnTo>
                          <a:pt x="1289" y="0"/>
                        </a:lnTo>
                        <a:lnTo>
                          <a:pt x="1256" y="37"/>
                        </a:lnTo>
                        <a:lnTo>
                          <a:pt x="1298" y="31"/>
                        </a:lnTo>
                        <a:lnTo>
                          <a:pt x="1364" y="25"/>
                        </a:lnTo>
                        <a:lnTo>
                          <a:pt x="1499" y="25"/>
                        </a:lnTo>
                        <a:lnTo>
                          <a:pt x="1548" y="28"/>
                        </a:lnTo>
                        <a:lnTo>
                          <a:pt x="1581" y="34"/>
                        </a:lnTo>
                        <a:lnTo>
                          <a:pt x="1616" y="42"/>
                        </a:lnTo>
                        <a:lnTo>
                          <a:pt x="1651" y="51"/>
                        </a:lnTo>
                        <a:lnTo>
                          <a:pt x="1764" y="37"/>
                        </a:lnTo>
                        <a:lnTo>
                          <a:pt x="1835" y="55"/>
                        </a:lnTo>
                        <a:lnTo>
                          <a:pt x="1881" y="77"/>
                        </a:lnTo>
                        <a:lnTo>
                          <a:pt x="1908" y="77"/>
                        </a:lnTo>
                        <a:lnTo>
                          <a:pt x="1956" y="58"/>
                        </a:lnTo>
                        <a:lnTo>
                          <a:pt x="1974" y="86"/>
                        </a:lnTo>
                        <a:lnTo>
                          <a:pt x="1939" y="108"/>
                        </a:lnTo>
                        <a:lnTo>
                          <a:pt x="1983" y="131"/>
                        </a:lnTo>
                        <a:lnTo>
                          <a:pt x="2003" y="128"/>
                        </a:lnTo>
                        <a:lnTo>
                          <a:pt x="2091" y="92"/>
                        </a:lnTo>
                        <a:lnTo>
                          <a:pt x="2131" y="55"/>
                        </a:lnTo>
                        <a:lnTo>
                          <a:pt x="2164" y="6"/>
                        </a:lnTo>
                        <a:lnTo>
                          <a:pt x="2127" y="94"/>
                        </a:lnTo>
                        <a:lnTo>
                          <a:pt x="2021" y="172"/>
                        </a:lnTo>
                        <a:lnTo>
                          <a:pt x="2096" y="244"/>
                        </a:lnTo>
                        <a:lnTo>
                          <a:pt x="2105" y="230"/>
                        </a:lnTo>
                        <a:lnTo>
                          <a:pt x="2186" y="218"/>
                        </a:lnTo>
                        <a:lnTo>
                          <a:pt x="2204" y="230"/>
                        </a:lnTo>
                        <a:lnTo>
                          <a:pt x="2136" y="283"/>
                        </a:lnTo>
                        <a:lnTo>
                          <a:pt x="2182" y="301"/>
                        </a:lnTo>
                        <a:lnTo>
                          <a:pt x="2308" y="269"/>
                        </a:lnTo>
                        <a:lnTo>
                          <a:pt x="2034" y="568"/>
                        </a:lnTo>
                        <a:lnTo>
                          <a:pt x="1983" y="556"/>
                        </a:lnTo>
                        <a:lnTo>
                          <a:pt x="1930" y="527"/>
                        </a:lnTo>
                        <a:lnTo>
                          <a:pt x="1930" y="459"/>
                        </a:lnTo>
                        <a:lnTo>
                          <a:pt x="1961" y="447"/>
                        </a:lnTo>
                        <a:lnTo>
                          <a:pt x="1839" y="444"/>
                        </a:lnTo>
                        <a:lnTo>
                          <a:pt x="1839" y="366"/>
                        </a:lnTo>
                        <a:lnTo>
                          <a:pt x="1711" y="294"/>
                        </a:lnTo>
                        <a:lnTo>
                          <a:pt x="1603" y="241"/>
                        </a:lnTo>
                        <a:lnTo>
                          <a:pt x="1494" y="206"/>
                        </a:lnTo>
                        <a:lnTo>
                          <a:pt x="1302" y="197"/>
                        </a:lnTo>
                        <a:lnTo>
                          <a:pt x="1150" y="197"/>
                        </a:lnTo>
                        <a:lnTo>
                          <a:pt x="993" y="211"/>
                        </a:lnTo>
                        <a:lnTo>
                          <a:pt x="849" y="238"/>
                        </a:lnTo>
                        <a:lnTo>
                          <a:pt x="710" y="286"/>
                        </a:lnTo>
                        <a:lnTo>
                          <a:pt x="584" y="349"/>
                        </a:lnTo>
                        <a:lnTo>
                          <a:pt x="520" y="379"/>
                        </a:lnTo>
                        <a:lnTo>
                          <a:pt x="440" y="462"/>
                        </a:lnTo>
                        <a:lnTo>
                          <a:pt x="418" y="504"/>
                        </a:lnTo>
                        <a:lnTo>
                          <a:pt x="385" y="540"/>
                        </a:lnTo>
                        <a:lnTo>
                          <a:pt x="367" y="540"/>
                        </a:lnTo>
                        <a:lnTo>
                          <a:pt x="367" y="556"/>
                        </a:lnTo>
                        <a:lnTo>
                          <a:pt x="345" y="579"/>
                        </a:lnTo>
                        <a:lnTo>
                          <a:pt x="336" y="579"/>
                        </a:lnTo>
                        <a:lnTo>
                          <a:pt x="336" y="601"/>
                        </a:lnTo>
                        <a:lnTo>
                          <a:pt x="332" y="623"/>
                        </a:lnTo>
                        <a:lnTo>
                          <a:pt x="310" y="637"/>
                        </a:lnTo>
                        <a:lnTo>
                          <a:pt x="292" y="656"/>
                        </a:lnTo>
                        <a:lnTo>
                          <a:pt x="248" y="696"/>
                        </a:lnTo>
                        <a:lnTo>
                          <a:pt x="292" y="711"/>
                        </a:lnTo>
                        <a:lnTo>
                          <a:pt x="261" y="717"/>
                        </a:lnTo>
                        <a:lnTo>
                          <a:pt x="241" y="748"/>
                        </a:lnTo>
                        <a:lnTo>
                          <a:pt x="261" y="742"/>
                        </a:lnTo>
                        <a:lnTo>
                          <a:pt x="228" y="77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
                <p:cNvGrpSpPr/>
                <p:nvPr/>
              </p:nvGrpSpPr>
              <p:grpSpPr>
                <a:xfrm>
                  <a:off x="3696840" y="2573280"/>
                  <a:ext cx="1260720" cy="371520"/>
                  <a:chOff x="3696840" y="2573280"/>
                  <a:chExt cx="1260720" cy="371520"/>
                </a:xfrm>
              </p:grpSpPr>
              <p:sp>
                <p:nvSpPr>
                  <p:cNvPr id="421" name=""/>
                  <p:cNvSpPr/>
                  <p:nvPr/>
                </p:nvSpPr>
                <p:spPr>
                  <a:xfrm>
                    <a:off x="3696840" y="2573280"/>
                    <a:ext cx="1260720" cy="365040"/>
                  </a:xfrm>
                  <a:custGeom>
                    <a:avLst/>
                    <a:gdLst/>
                    <a:ahLst/>
                    <a:rect l="l" t="t" r="r" b="b"/>
                    <a:pathLst>
                      <a:path w="794" h="230">
                        <a:moveTo>
                          <a:pt x="0" y="171"/>
                        </a:moveTo>
                        <a:lnTo>
                          <a:pt x="15" y="144"/>
                        </a:lnTo>
                        <a:lnTo>
                          <a:pt x="63" y="118"/>
                        </a:lnTo>
                        <a:lnTo>
                          <a:pt x="124" y="91"/>
                        </a:lnTo>
                        <a:lnTo>
                          <a:pt x="166" y="75"/>
                        </a:lnTo>
                        <a:lnTo>
                          <a:pt x="214" y="61"/>
                        </a:lnTo>
                        <a:lnTo>
                          <a:pt x="275" y="46"/>
                        </a:lnTo>
                        <a:lnTo>
                          <a:pt x="346" y="35"/>
                        </a:lnTo>
                        <a:lnTo>
                          <a:pt x="412" y="24"/>
                        </a:lnTo>
                        <a:lnTo>
                          <a:pt x="453" y="16"/>
                        </a:lnTo>
                        <a:lnTo>
                          <a:pt x="514" y="5"/>
                        </a:lnTo>
                        <a:lnTo>
                          <a:pt x="558" y="0"/>
                        </a:lnTo>
                        <a:lnTo>
                          <a:pt x="608" y="0"/>
                        </a:lnTo>
                        <a:lnTo>
                          <a:pt x="647" y="16"/>
                        </a:lnTo>
                        <a:lnTo>
                          <a:pt x="686" y="35"/>
                        </a:lnTo>
                        <a:lnTo>
                          <a:pt x="721" y="58"/>
                        </a:lnTo>
                        <a:lnTo>
                          <a:pt x="767" y="77"/>
                        </a:lnTo>
                        <a:lnTo>
                          <a:pt x="793" y="88"/>
                        </a:lnTo>
                        <a:lnTo>
                          <a:pt x="771" y="110"/>
                        </a:lnTo>
                        <a:lnTo>
                          <a:pt x="721" y="93"/>
                        </a:lnTo>
                        <a:lnTo>
                          <a:pt x="660" y="75"/>
                        </a:lnTo>
                        <a:lnTo>
                          <a:pt x="617" y="64"/>
                        </a:lnTo>
                        <a:lnTo>
                          <a:pt x="562" y="50"/>
                        </a:lnTo>
                        <a:lnTo>
                          <a:pt x="523" y="47"/>
                        </a:lnTo>
                        <a:lnTo>
                          <a:pt x="484" y="50"/>
                        </a:lnTo>
                        <a:lnTo>
                          <a:pt x="453" y="58"/>
                        </a:lnTo>
                        <a:lnTo>
                          <a:pt x="412" y="75"/>
                        </a:lnTo>
                        <a:lnTo>
                          <a:pt x="355" y="91"/>
                        </a:lnTo>
                        <a:lnTo>
                          <a:pt x="312" y="107"/>
                        </a:lnTo>
                        <a:lnTo>
                          <a:pt x="266" y="123"/>
                        </a:lnTo>
                        <a:lnTo>
                          <a:pt x="218" y="141"/>
                        </a:lnTo>
                        <a:lnTo>
                          <a:pt x="187" y="157"/>
                        </a:lnTo>
                        <a:lnTo>
                          <a:pt x="148" y="173"/>
                        </a:lnTo>
                        <a:lnTo>
                          <a:pt x="102" y="192"/>
                        </a:lnTo>
                        <a:lnTo>
                          <a:pt x="54" y="213"/>
                        </a:lnTo>
                        <a:lnTo>
                          <a:pt x="11" y="229"/>
                        </a:lnTo>
                        <a:lnTo>
                          <a:pt x="0" y="224"/>
                        </a:lnTo>
                        <a:lnTo>
                          <a:pt x="0" y="201"/>
                        </a:lnTo>
                        <a:lnTo>
                          <a:pt x="0" y="171"/>
                        </a:lnTo>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696840" y="2665080"/>
                    <a:ext cx="543240" cy="279720"/>
                  </a:xfrm>
                  <a:custGeom>
                    <a:avLst/>
                    <a:gdLst/>
                    <a:ahLst/>
                    <a:rect l="l" t="t" r="r" b="b"/>
                    <a:pathLst>
                      <a:path w="342" h="176">
                        <a:moveTo>
                          <a:pt x="341" y="0"/>
                        </a:moveTo>
                        <a:lnTo>
                          <a:pt x="311" y="19"/>
                        </a:lnTo>
                        <a:lnTo>
                          <a:pt x="275" y="32"/>
                        </a:lnTo>
                        <a:lnTo>
                          <a:pt x="229" y="46"/>
                        </a:lnTo>
                        <a:lnTo>
                          <a:pt x="174" y="67"/>
                        </a:lnTo>
                        <a:lnTo>
                          <a:pt x="142" y="79"/>
                        </a:lnTo>
                        <a:lnTo>
                          <a:pt x="116" y="93"/>
                        </a:lnTo>
                        <a:lnTo>
                          <a:pt x="104" y="104"/>
                        </a:lnTo>
                        <a:lnTo>
                          <a:pt x="104" y="109"/>
                        </a:lnTo>
                        <a:lnTo>
                          <a:pt x="116" y="112"/>
                        </a:lnTo>
                        <a:lnTo>
                          <a:pt x="129" y="112"/>
                        </a:lnTo>
                        <a:lnTo>
                          <a:pt x="144" y="109"/>
                        </a:lnTo>
                        <a:lnTo>
                          <a:pt x="161" y="106"/>
                        </a:lnTo>
                        <a:lnTo>
                          <a:pt x="182" y="101"/>
                        </a:lnTo>
                        <a:lnTo>
                          <a:pt x="174" y="106"/>
                        </a:lnTo>
                        <a:lnTo>
                          <a:pt x="152" y="120"/>
                        </a:lnTo>
                        <a:lnTo>
                          <a:pt x="138" y="131"/>
                        </a:lnTo>
                        <a:lnTo>
                          <a:pt x="112" y="141"/>
                        </a:lnTo>
                        <a:lnTo>
                          <a:pt x="91" y="151"/>
                        </a:lnTo>
                        <a:lnTo>
                          <a:pt x="61" y="162"/>
                        </a:lnTo>
                        <a:lnTo>
                          <a:pt x="36" y="170"/>
                        </a:lnTo>
                        <a:lnTo>
                          <a:pt x="15" y="175"/>
                        </a:lnTo>
                        <a:lnTo>
                          <a:pt x="0" y="175"/>
                        </a:lnTo>
                        <a:lnTo>
                          <a:pt x="0" y="159"/>
                        </a:lnTo>
                        <a:lnTo>
                          <a:pt x="4" y="144"/>
                        </a:lnTo>
                        <a:lnTo>
                          <a:pt x="11" y="120"/>
                        </a:lnTo>
                        <a:lnTo>
                          <a:pt x="23" y="104"/>
                        </a:lnTo>
                        <a:lnTo>
                          <a:pt x="32" y="93"/>
                        </a:lnTo>
                        <a:lnTo>
                          <a:pt x="53" y="79"/>
                        </a:lnTo>
                        <a:lnTo>
                          <a:pt x="78" y="69"/>
                        </a:lnTo>
                        <a:lnTo>
                          <a:pt x="112" y="57"/>
                        </a:lnTo>
                        <a:lnTo>
                          <a:pt x="142" y="46"/>
                        </a:lnTo>
                        <a:lnTo>
                          <a:pt x="169" y="35"/>
                        </a:lnTo>
                        <a:lnTo>
                          <a:pt x="199" y="24"/>
                        </a:lnTo>
                        <a:lnTo>
                          <a:pt x="225" y="16"/>
                        </a:lnTo>
                        <a:lnTo>
                          <a:pt x="246" y="8"/>
                        </a:lnTo>
                        <a:lnTo>
                          <a:pt x="258" y="5"/>
                        </a:lnTo>
                        <a:lnTo>
                          <a:pt x="275" y="3"/>
                        </a:lnTo>
                        <a:lnTo>
                          <a:pt x="294" y="0"/>
                        </a:lnTo>
                        <a:lnTo>
                          <a:pt x="316" y="0"/>
                        </a:lnTo>
                        <a:lnTo>
                          <a:pt x="341" y="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3" name=""/>
                <p:cNvGrpSpPr/>
                <p:nvPr/>
              </p:nvGrpSpPr>
              <p:grpSpPr>
                <a:xfrm>
                  <a:off x="2761920" y="2419200"/>
                  <a:ext cx="2597040" cy="1104840"/>
                  <a:chOff x="2761920" y="2419200"/>
                  <a:chExt cx="2597040" cy="1104840"/>
                </a:xfrm>
              </p:grpSpPr>
              <p:sp>
                <p:nvSpPr>
                  <p:cNvPr id="424" name=""/>
                  <p:cNvSpPr/>
                  <p:nvPr/>
                </p:nvSpPr>
                <p:spPr>
                  <a:xfrm>
                    <a:off x="2761920" y="2419200"/>
                    <a:ext cx="2309760" cy="1104840"/>
                  </a:xfrm>
                  <a:custGeom>
                    <a:avLst/>
                    <a:gdLst/>
                    <a:ahLst/>
                    <a:rect l="l" t="t" r="r" b="b"/>
                    <a:pathLst>
                      <a:path w="1455" h="696">
                        <a:moveTo>
                          <a:pt x="0" y="689"/>
                        </a:moveTo>
                        <a:lnTo>
                          <a:pt x="20" y="695"/>
                        </a:lnTo>
                        <a:lnTo>
                          <a:pt x="59" y="695"/>
                        </a:lnTo>
                        <a:lnTo>
                          <a:pt x="99" y="689"/>
                        </a:lnTo>
                        <a:lnTo>
                          <a:pt x="143" y="667"/>
                        </a:lnTo>
                        <a:lnTo>
                          <a:pt x="180" y="650"/>
                        </a:lnTo>
                        <a:lnTo>
                          <a:pt x="211" y="626"/>
                        </a:lnTo>
                        <a:lnTo>
                          <a:pt x="242" y="601"/>
                        </a:lnTo>
                        <a:lnTo>
                          <a:pt x="273" y="576"/>
                        </a:lnTo>
                        <a:lnTo>
                          <a:pt x="310" y="546"/>
                        </a:lnTo>
                        <a:lnTo>
                          <a:pt x="337" y="521"/>
                        </a:lnTo>
                        <a:lnTo>
                          <a:pt x="354" y="488"/>
                        </a:lnTo>
                        <a:lnTo>
                          <a:pt x="385" y="450"/>
                        </a:lnTo>
                        <a:lnTo>
                          <a:pt x="407" y="422"/>
                        </a:lnTo>
                        <a:lnTo>
                          <a:pt x="420" y="394"/>
                        </a:lnTo>
                        <a:lnTo>
                          <a:pt x="433" y="376"/>
                        </a:lnTo>
                        <a:lnTo>
                          <a:pt x="466" y="356"/>
                        </a:lnTo>
                        <a:lnTo>
                          <a:pt x="493" y="331"/>
                        </a:lnTo>
                        <a:lnTo>
                          <a:pt x="515" y="311"/>
                        </a:lnTo>
                        <a:lnTo>
                          <a:pt x="537" y="290"/>
                        </a:lnTo>
                        <a:lnTo>
                          <a:pt x="554" y="268"/>
                        </a:lnTo>
                        <a:lnTo>
                          <a:pt x="572" y="242"/>
                        </a:lnTo>
                        <a:lnTo>
                          <a:pt x="592" y="219"/>
                        </a:lnTo>
                        <a:lnTo>
                          <a:pt x="618" y="199"/>
                        </a:lnTo>
                        <a:lnTo>
                          <a:pt x="662" y="174"/>
                        </a:lnTo>
                        <a:lnTo>
                          <a:pt x="715" y="149"/>
                        </a:lnTo>
                        <a:lnTo>
                          <a:pt x="761" y="125"/>
                        </a:lnTo>
                        <a:lnTo>
                          <a:pt x="814" y="105"/>
                        </a:lnTo>
                        <a:lnTo>
                          <a:pt x="858" y="88"/>
                        </a:lnTo>
                        <a:lnTo>
                          <a:pt x="926" y="74"/>
                        </a:lnTo>
                        <a:lnTo>
                          <a:pt x="996" y="62"/>
                        </a:lnTo>
                        <a:lnTo>
                          <a:pt x="1043" y="53"/>
                        </a:lnTo>
                        <a:lnTo>
                          <a:pt x="1087" y="50"/>
                        </a:lnTo>
                        <a:lnTo>
                          <a:pt x="1139" y="50"/>
                        </a:lnTo>
                        <a:lnTo>
                          <a:pt x="1186" y="53"/>
                        </a:lnTo>
                        <a:lnTo>
                          <a:pt x="1234" y="64"/>
                        </a:lnTo>
                        <a:lnTo>
                          <a:pt x="1282" y="74"/>
                        </a:lnTo>
                        <a:lnTo>
                          <a:pt x="1329" y="88"/>
                        </a:lnTo>
                        <a:lnTo>
                          <a:pt x="1364" y="99"/>
                        </a:lnTo>
                        <a:lnTo>
                          <a:pt x="1403" y="108"/>
                        </a:lnTo>
                        <a:lnTo>
                          <a:pt x="1430" y="119"/>
                        </a:lnTo>
                        <a:lnTo>
                          <a:pt x="1454" y="136"/>
                        </a:lnTo>
                        <a:lnTo>
                          <a:pt x="1454" y="122"/>
                        </a:lnTo>
                        <a:lnTo>
                          <a:pt x="1454" y="113"/>
                        </a:lnTo>
                        <a:lnTo>
                          <a:pt x="1454" y="105"/>
                        </a:lnTo>
                        <a:lnTo>
                          <a:pt x="1412" y="88"/>
                        </a:lnTo>
                        <a:lnTo>
                          <a:pt x="1333" y="66"/>
                        </a:lnTo>
                        <a:lnTo>
                          <a:pt x="1282" y="53"/>
                        </a:lnTo>
                        <a:lnTo>
                          <a:pt x="1243" y="39"/>
                        </a:lnTo>
                        <a:lnTo>
                          <a:pt x="1221" y="31"/>
                        </a:lnTo>
                        <a:lnTo>
                          <a:pt x="1208" y="25"/>
                        </a:lnTo>
                        <a:lnTo>
                          <a:pt x="1238" y="25"/>
                        </a:lnTo>
                        <a:lnTo>
                          <a:pt x="1274" y="28"/>
                        </a:lnTo>
                        <a:lnTo>
                          <a:pt x="1320" y="31"/>
                        </a:lnTo>
                        <a:lnTo>
                          <a:pt x="1346" y="31"/>
                        </a:lnTo>
                        <a:lnTo>
                          <a:pt x="1386" y="28"/>
                        </a:lnTo>
                        <a:lnTo>
                          <a:pt x="1399" y="28"/>
                        </a:lnTo>
                        <a:lnTo>
                          <a:pt x="1417" y="39"/>
                        </a:lnTo>
                        <a:lnTo>
                          <a:pt x="1421" y="42"/>
                        </a:lnTo>
                        <a:lnTo>
                          <a:pt x="1425" y="53"/>
                        </a:lnTo>
                        <a:lnTo>
                          <a:pt x="1430" y="39"/>
                        </a:lnTo>
                        <a:lnTo>
                          <a:pt x="1408" y="25"/>
                        </a:lnTo>
                        <a:lnTo>
                          <a:pt x="1381" y="17"/>
                        </a:lnTo>
                        <a:lnTo>
                          <a:pt x="1355" y="11"/>
                        </a:lnTo>
                        <a:lnTo>
                          <a:pt x="1320" y="6"/>
                        </a:lnTo>
                        <a:lnTo>
                          <a:pt x="1282" y="3"/>
                        </a:lnTo>
                        <a:lnTo>
                          <a:pt x="1252" y="0"/>
                        </a:lnTo>
                        <a:lnTo>
                          <a:pt x="1216" y="0"/>
                        </a:lnTo>
                        <a:lnTo>
                          <a:pt x="1181" y="6"/>
                        </a:lnTo>
                        <a:lnTo>
                          <a:pt x="1148" y="17"/>
                        </a:lnTo>
                        <a:lnTo>
                          <a:pt x="1117" y="25"/>
                        </a:lnTo>
                        <a:lnTo>
                          <a:pt x="1078" y="34"/>
                        </a:lnTo>
                        <a:lnTo>
                          <a:pt x="1043" y="39"/>
                        </a:lnTo>
                        <a:lnTo>
                          <a:pt x="1001" y="45"/>
                        </a:lnTo>
                        <a:lnTo>
                          <a:pt x="957" y="53"/>
                        </a:lnTo>
                        <a:lnTo>
                          <a:pt x="895" y="64"/>
                        </a:lnTo>
                        <a:lnTo>
                          <a:pt x="862" y="71"/>
                        </a:lnTo>
                        <a:lnTo>
                          <a:pt x="836" y="77"/>
                        </a:lnTo>
                        <a:lnTo>
                          <a:pt x="792" y="88"/>
                        </a:lnTo>
                        <a:lnTo>
                          <a:pt x="752" y="97"/>
                        </a:lnTo>
                        <a:lnTo>
                          <a:pt x="724" y="116"/>
                        </a:lnTo>
                        <a:lnTo>
                          <a:pt x="697" y="133"/>
                        </a:lnTo>
                        <a:lnTo>
                          <a:pt x="653" y="151"/>
                        </a:lnTo>
                        <a:lnTo>
                          <a:pt x="614" y="177"/>
                        </a:lnTo>
                        <a:lnTo>
                          <a:pt x="572" y="202"/>
                        </a:lnTo>
                        <a:lnTo>
                          <a:pt x="550" y="224"/>
                        </a:lnTo>
                        <a:lnTo>
                          <a:pt x="515" y="251"/>
                        </a:lnTo>
                        <a:lnTo>
                          <a:pt x="488" y="273"/>
                        </a:lnTo>
                        <a:lnTo>
                          <a:pt x="458" y="301"/>
                        </a:lnTo>
                        <a:lnTo>
                          <a:pt x="429" y="333"/>
                        </a:lnTo>
                        <a:lnTo>
                          <a:pt x="407" y="359"/>
                        </a:lnTo>
                        <a:lnTo>
                          <a:pt x="385" y="378"/>
                        </a:lnTo>
                        <a:lnTo>
                          <a:pt x="363" y="405"/>
                        </a:lnTo>
                        <a:lnTo>
                          <a:pt x="350" y="425"/>
                        </a:lnTo>
                        <a:lnTo>
                          <a:pt x="328" y="455"/>
                        </a:lnTo>
                        <a:lnTo>
                          <a:pt x="301" y="482"/>
                        </a:lnTo>
                        <a:lnTo>
                          <a:pt x="286" y="510"/>
                        </a:lnTo>
                        <a:lnTo>
                          <a:pt x="273" y="527"/>
                        </a:lnTo>
                        <a:lnTo>
                          <a:pt x="260" y="546"/>
                        </a:lnTo>
                        <a:lnTo>
                          <a:pt x="242" y="565"/>
                        </a:lnTo>
                        <a:lnTo>
                          <a:pt x="216" y="576"/>
                        </a:lnTo>
                        <a:lnTo>
                          <a:pt x="185" y="587"/>
                        </a:lnTo>
                        <a:lnTo>
                          <a:pt x="154" y="612"/>
                        </a:lnTo>
                        <a:lnTo>
                          <a:pt x="134" y="631"/>
                        </a:lnTo>
                        <a:lnTo>
                          <a:pt x="108" y="639"/>
                        </a:lnTo>
                        <a:lnTo>
                          <a:pt x="73" y="653"/>
                        </a:lnTo>
                        <a:lnTo>
                          <a:pt x="0" y="689"/>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244760" y="2543040"/>
                    <a:ext cx="1114200" cy="288720"/>
                  </a:xfrm>
                  <a:custGeom>
                    <a:avLst/>
                    <a:gdLst/>
                    <a:ahLst/>
                    <a:rect l="l" t="t" r="r" b="b"/>
                    <a:pathLst>
                      <a:path w="702" h="182">
                        <a:moveTo>
                          <a:pt x="449" y="108"/>
                        </a:moveTo>
                        <a:lnTo>
                          <a:pt x="573" y="146"/>
                        </a:lnTo>
                        <a:lnTo>
                          <a:pt x="612" y="168"/>
                        </a:lnTo>
                        <a:lnTo>
                          <a:pt x="664" y="181"/>
                        </a:lnTo>
                        <a:lnTo>
                          <a:pt x="701" y="181"/>
                        </a:lnTo>
                        <a:lnTo>
                          <a:pt x="638" y="162"/>
                        </a:lnTo>
                        <a:lnTo>
                          <a:pt x="506" y="113"/>
                        </a:lnTo>
                        <a:lnTo>
                          <a:pt x="462" y="94"/>
                        </a:lnTo>
                        <a:lnTo>
                          <a:pt x="419" y="79"/>
                        </a:lnTo>
                        <a:lnTo>
                          <a:pt x="388" y="61"/>
                        </a:lnTo>
                        <a:lnTo>
                          <a:pt x="365" y="45"/>
                        </a:lnTo>
                        <a:lnTo>
                          <a:pt x="330" y="27"/>
                        </a:lnTo>
                        <a:lnTo>
                          <a:pt x="313" y="21"/>
                        </a:lnTo>
                        <a:lnTo>
                          <a:pt x="269" y="5"/>
                        </a:lnTo>
                        <a:lnTo>
                          <a:pt x="228" y="0"/>
                        </a:lnTo>
                        <a:lnTo>
                          <a:pt x="180" y="0"/>
                        </a:lnTo>
                        <a:lnTo>
                          <a:pt x="124" y="13"/>
                        </a:lnTo>
                        <a:lnTo>
                          <a:pt x="98" y="16"/>
                        </a:lnTo>
                        <a:lnTo>
                          <a:pt x="52" y="29"/>
                        </a:lnTo>
                        <a:lnTo>
                          <a:pt x="0" y="53"/>
                        </a:lnTo>
                        <a:lnTo>
                          <a:pt x="35" y="53"/>
                        </a:lnTo>
                        <a:lnTo>
                          <a:pt x="95" y="45"/>
                        </a:lnTo>
                        <a:lnTo>
                          <a:pt x="154" y="35"/>
                        </a:lnTo>
                        <a:lnTo>
                          <a:pt x="189" y="27"/>
                        </a:lnTo>
                        <a:lnTo>
                          <a:pt x="224" y="21"/>
                        </a:lnTo>
                        <a:lnTo>
                          <a:pt x="273" y="27"/>
                        </a:lnTo>
                        <a:lnTo>
                          <a:pt x="339" y="56"/>
                        </a:lnTo>
                        <a:lnTo>
                          <a:pt x="410" y="94"/>
                        </a:lnTo>
                        <a:lnTo>
                          <a:pt x="449" y="108"/>
                        </a:lnTo>
                      </a:path>
                    </a:pathLst>
                  </a:custGeom>
                  <a:solidFill>
                    <a:srgbClr val="231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26" name=""/>
              <p:cNvGrpSpPr/>
              <p:nvPr/>
            </p:nvGrpSpPr>
            <p:grpSpPr>
              <a:xfrm>
                <a:off x="2730240" y="2652480"/>
                <a:ext cx="2638440" cy="1214640"/>
                <a:chOff x="2730240" y="2652480"/>
                <a:chExt cx="2638440" cy="1214640"/>
              </a:xfrm>
            </p:grpSpPr>
            <p:grpSp>
              <p:nvGrpSpPr>
                <p:cNvPr id="427" name=""/>
                <p:cNvGrpSpPr/>
                <p:nvPr/>
              </p:nvGrpSpPr>
              <p:grpSpPr>
                <a:xfrm>
                  <a:off x="2730240" y="2652480"/>
                  <a:ext cx="2638440" cy="1214640"/>
                  <a:chOff x="2730240" y="2652480"/>
                  <a:chExt cx="2638440" cy="1214640"/>
                </a:xfrm>
              </p:grpSpPr>
              <p:sp>
                <p:nvSpPr>
                  <p:cNvPr id="428" name=""/>
                  <p:cNvSpPr/>
                  <p:nvPr/>
                </p:nvSpPr>
                <p:spPr>
                  <a:xfrm>
                    <a:off x="2730240" y="2652480"/>
                    <a:ext cx="2638440" cy="1214640"/>
                  </a:xfrm>
                  <a:custGeom>
                    <a:avLst/>
                    <a:gdLst/>
                    <a:ahLst/>
                    <a:rect l="l" t="t" r="r" b="b"/>
                    <a:pathLst>
                      <a:path w="1662" h="765">
                        <a:moveTo>
                          <a:pt x="26" y="684"/>
                        </a:moveTo>
                        <a:lnTo>
                          <a:pt x="9" y="709"/>
                        </a:lnTo>
                        <a:lnTo>
                          <a:pt x="4" y="723"/>
                        </a:lnTo>
                        <a:lnTo>
                          <a:pt x="0" y="739"/>
                        </a:lnTo>
                        <a:lnTo>
                          <a:pt x="13" y="753"/>
                        </a:lnTo>
                        <a:lnTo>
                          <a:pt x="26" y="758"/>
                        </a:lnTo>
                        <a:lnTo>
                          <a:pt x="46" y="764"/>
                        </a:lnTo>
                        <a:lnTo>
                          <a:pt x="73" y="764"/>
                        </a:lnTo>
                        <a:lnTo>
                          <a:pt x="99" y="753"/>
                        </a:lnTo>
                        <a:lnTo>
                          <a:pt x="121" y="739"/>
                        </a:lnTo>
                        <a:lnTo>
                          <a:pt x="170" y="712"/>
                        </a:lnTo>
                        <a:lnTo>
                          <a:pt x="220" y="676"/>
                        </a:lnTo>
                        <a:lnTo>
                          <a:pt x="282" y="629"/>
                        </a:lnTo>
                        <a:lnTo>
                          <a:pt x="324" y="587"/>
                        </a:lnTo>
                        <a:lnTo>
                          <a:pt x="372" y="552"/>
                        </a:lnTo>
                        <a:lnTo>
                          <a:pt x="408" y="524"/>
                        </a:lnTo>
                        <a:lnTo>
                          <a:pt x="434" y="507"/>
                        </a:lnTo>
                        <a:lnTo>
                          <a:pt x="447" y="496"/>
                        </a:lnTo>
                        <a:lnTo>
                          <a:pt x="463" y="490"/>
                        </a:lnTo>
                        <a:lnTo>
                          <a:pt x="498" y="493"/>
                        </a:lnTo>
                        <a:lnTo>
                          <a:pt x="511" y="496"/>
                        </a:lnTo>
                        <a:lnTo>
                          <a:pt x="538" y="501"/>
                        </a:lnTo>
                        <a:lnTo>
                          <a:pt x="546" y="496"/>
                        </a:lnTo>
                        <a:lnTo>
                          <a:pt x="546" y="478"/>
                        </a:lnTo>
                        <a:lnTo>
                          <a:pt x="546" y="466"/>
                        </a:lnTo>
                        <a:lnTo>
                          <a:pt x="555" y="458"/>
                        </a:lnTo>
                        <a:lnTo>
                          <a:pt x="568" y="447"/>
                        </a:lnTo>
                        <a:lnTo>
                          <a:pt x="586" y="438"/>
                        </a:lnTo>
                        <a:lnTo>
                          <a:pt x="604" y="433"/>
                        </a:lnTo>
                        <a:lnTo>
                          <a:pt x="615" y="424"/>
                        </a:lnTo>
                        <a:lnTo>
                          <a:pt x="619" y="421"/>
                        </a:lnTo>
                        <a:lnTo>
                          <a:pt x="623" y="410"/>
                        </a:lnTo>
                        <a:lnTo>
                          <a:pt x="628" y="407"/>
                        </a:lnTo>
                        <a:lnTo>
                          <a:pt x="641" y="407"/>
                        </a:lnTo>
                        <a:lnTo>
                          <a:pt x="650" y="416"/>
                        </a:lnTo>
                        <a:lnTo>
                          <a:pt x="672" y="421"/>
                        </a:lnTo>
                        <a:lnTo>
                          <a:pt x="694" y="427"/>
                        </a:lnTo>
                        <a:lnTo>
                          <a:pt x="729" y="433"/>
                        </a:lnTo>
                        <a:lnTo>
                          <a:pt x="747" y="433"/>
                        </a:lnTo>
                        <a:lnTo>
                          <a:pt x="789" y="433"/>
                        </a:lnTo>
                        <a:lnTo>
                          <a:pt x="833" y="433"/>
                        </a:lnTo>
                        <a:lnTo>
                          <a:pt x="872" y="433"/>
                        </a:lnTo>
                        <a:lnTo>
                          <a:pt x="905" y="430"/>
                        </a:lnTo>
                        <a:lnTo>
                          <a:pt x="949" y="424"/>
                        </a:lnTo>
                        <a:lnTo>
                          <a:pt x="994" y="421"/>
                        </a:lnTo>
                        <a:lnTo>
                          <a:pt x="1042" y="410"/>
                        </a:lnTo>
                        <a:lnTo>
                          <a:pt x="1084" y="407"/>
                        </a:lnTo>
                        <a:lnTo>
                          <a:pt x="1119" y="403"/>
                        </a:lnTo>
                        <a:lnTo>
                          <a:pt x="1159" y="397"/>
                        </a:lnTo>
                        <a:lnTo>
                          <a:pt x="1196" y="395"/>
                        </a:lnTo>
                        <a:lnTo>
                          <a:pt x="1227" y="386"/>
                        </a:lnTo>
                        <a:lnTo>
                          <a:pt x="1253" y="381"/>
                        </a:lnTo>
                        <a:lnTo>
                          <a:pt x="1293" y="369"/>
                        </a:lnTo>
                        <a:lnTo>
                          <a:pt x="1320" y="361"/>
                        </a:lnTo>
                        <a:lnTo>
                          <a:pt x="1339" y="353"/>
                        </a:lnTo>
                        <a:lnTo>
                          <a:pt x="1388" y="333"/>
                        </a:lnTo>
                        <a:lnTo>
                          <a:pt x="1419" y="320"/>
                        </a:lnTo>
                        <a:lnTo>
                          <a:pt x="1454" y="301"/>
                        </a:lnTo>
                        <a:lnTo>
                          <a:pt x="1491" y="284"/>
                        </a:lnTo>
                        <a:lnTo>
                          <a:pt x="1522" y="267"/>
                        </a:lnTo>
                        <a:lnTo>
                          <a:pt x="1553" y="247"/>
                        </a:lnTo>
                        <a:lnTo>
                          <a:pt x="1588" y="223"/>
                        </a:lnTo>
                        <a:lnTo>
                          <a:pt x="1593" y="206"/>
                        </a:lnTo>
                        <a:lnTo>
                          <a:pt x="1610" y="198"/>
                        </a:lnTo>
                        <a:lnTo>
                          <a:pt x="1643" y="198"/>
                        </a:lnTo>
                        <a:lnTo>
                          <a:pt x="1661" y="198"/>
                        </a:lnTo>
                        <a:lnTo>
                          <a:pt x="1648" y="176"/>
                        </a:lnTo>
                        <a:lnTo>
                          <a:pt x="1624" y="162"/>
                        </a:lnTo>
                        <a:lnTo>
                          <a:pt x="1579" y="140"/>
                        </a:lnTo>
                        <a:lnTo>
                          <a:pt x="1544" y="124"/>
                        </a:lnTo>
                        <a:lnTo>
                          <a:pt x="1505" y="104"/>
                        </a:lnTo>
                        <a:lnTo>
                          <a:pt x="1467" y="84"/>
                        </a:lnTo>
                        <a:lnTo>
                          <a:pt x="1423" y="72"/>
                        </a:lnTo>
                        <a:lnTo>
                          <a:pt x="1370" y="58"/>
                        </a:lnTo>
                        <a:lnTo>
                          <a:pt x="1324" y="41"/>
                        </a:lnTo>
                        <a:lnTo>
                          <a:pt x="1289" y="29"/>
                        </a:lnTo>
                        <a:lnTo>
                          <a:pt x="1253" y="18"/>
                        </a:lnTo>
                        <a:lnTo>
                          <a:pt x="1218" y="10"/>
                        </a:lnTo>
                        <a:lnTo>
                          <a:pt x="1190" y="4"/>
                        </a:lnTo>
                        <a:lnTo>
                          <a:pt x="1137" y="0"/>
                        </a:lnTo>
                        <a:lnTo>
                          <a:pt x="1110" y="1"/>
                        </a:lnTo>
                        <a:lnTo>
                          <a:pt x="1066" y="7"/>
                        </a:lnTo>
                        <a:lnTo>
                          <a:pt x="1042" y="18"/>
                        </a:lnTo>
                        <a:lnTo>
                          <a:pt x="1011" y="29"/>
                        </a:lnTo>
                        <a:lnTo>
                          <a:pt x="976" y="44"/>
                        </a:lnTo>
                        <a:lnTo>
                          <a:pt x="949" y="52"/>
                        </a:lnTo>
                        <a:lnTo>
                          <a:pt x="910" y="63"/>
                        </a:lnTo>
                        <a:lnTo>
                          <a:pt x="881" y="72"/>
                        </a:lnTo>
                        <a:lnTo>
                          <a:pt x="850" y="84"/>
                        </a:lnTo>
                        <a:lnTo>
                          <a:pt x="824" y="98"/>
                        </a:lnTo>
                        <a:lnTo>
                          <a:pt x="789" y="115"/>
                        </a:lnTo>
                        <a:lnTo>
                          <a:pt x="762" y="129"/>
                        </a:lnTo>
                        <a:lnTo>
                          <a:pt x="734" y="146"/>
                        </a:lnTo>
                        <a:lnTo>
                          <a:pt x="712" y="154"/>
                        </a:lnTo>
                        <a:lnTo>
                          <a:pt x="685" y="164"/>
                        </a:lnTo>
                        <a:lnTo>
                          <a:pt x="663" y="176"/>
                        </a:lnTo>
                        <a:lnTo>
                          <a:pt x="645" y="181"/>
                        </a:lnTo>
                        <a:lnTo>
                          <a:pt x="623" y="187"/>
                        </a:lnTo>
                        <a:lnTo>
                          <a:pt x="608" y="209"/>
                        </a:lnTo>
                        <a:lnTo>
                          <a:pt x="595" y="232"/>
                        </a:lnTo>
                        <a:lnTo>
                          <a:pt x="577" y="264"/>
                        </a:lnTo>
                        <a:lnTo>
                          <a:pt x="560" y="292"/>
                        </a:lnTo>
                        <a:lnTo>
                          <a:pt x="546" y="315"/>
                        </a:lnTo>
                        <a:lnTo>
                          <a:pt x="511" y="347"/>
                        </a:lnTo>
                        <a:lnTo>
                          <a:pt x="485" y="372"/>
                        </a:lnTo>
                        <a:lnTo>
                          <a:pt x="460" y="395"/>
                        </a:lnTo>
                        <a:lnTo>
                          <a:pt x="425" y="419"/>
                        </a:lnTo>
                        <a:lnTo>
                          <a:pt x="394" y="444"/>
                        </a:lnTo>
                        <a:lnTo>
                          <a:pt x="363" y="469"/>
                        </a:lnTo>
                        <a:lnTo>
                          <a:pt x="333" y="496"/>
                        </a:lnTo>
                        <a:lnTo>
                          <a:pt x="317" y="521"/>
                        </a:lnTo>
                        <a:lnTo>
                          <a:pt x="304" y="535"/>
                        </a:lnTo>
                        <a:lnTo>
                          <a:pt x="286" y="555"/>
                        </a:lnTo>
                        <a:lnTo>
                          <a:pt x="264" y="570"/>
                        </a:lnTo>
                        <a:lnTo>
                          <a:pt x="234" y="590"/>
                        </a:lnTo>
                        <a:lnTo>
                          <a:pt x="185" y="618"/>
                        </a:lnTo>
                        <a:lnTo>
                          <a:pt x="121" y="645"/>
                        </a:lnTo>
                        <a:lnTo>
                          <a:pt x="26" y="68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9" name=""/>
                  <p:cNvGrpSpPr/>
                  <p:nvPr/>
                </p:nvGrpSpPr>
                <p:grpSpPr>
                  <a:xfrm>
                    <a:off x="3722400" y="2707920"/>
                    <a:ext cx="1617480" cy="582840"/>
                    <a:chOff x="3722400" y="2707920"/>
                    <a:chExt cx="1617480" cy="582840"/>
                  </a:xfrm>
                </p:grpSpPr>
                <p:grpSp>
                  <p:nvGrpSpPr>
                    <p:cNvPr id="430" name=""/>
                    <p:cNvGrpSpPr/>
                    <p:nvPr/>
                  </p:nvGrpSpPr>
                  <p:grpSpPr>
                    <a:xfrm>
                      <a:off x="3722400" y="2724120"/>
                      <a:ext cx="1617480" cy="561960"/>
                      <a:chOff x="3722400" y="2724120"/>
                      <a:chExt cx="1617480" cy="561960"/>
                    </a:xfrm>
                  </p:grpSpPr>
                  <p:sp>
                    <p:nvSpPr>
                      <p:cNvPr id="431" name=""/>
                      <p:cNvSpPr/>
                      <p:nvPr/>
                    </p:nvSpPr>
                    <p:spPr>
                      <a:xfrm>
                        <a:off x="3722400" y="2724120"/>
                        <a:ext cx="1527120" cy="561960"/>
                      </a:xfrm>
                      <a:custGeom>
                        <a:avLst/>
                        <a:gdLst/>
                        <a:ahLst/>
                        <a:rect l="l" t="t" r="r" b="b"/>
                        <a:pathLst>
                          <a:path w="962" h="354">
                            <a:moveTo>
                              <a:pt x="0" y="303"/>
                            </a:moveTo>
                            <a:lnTo>
                              <a:pt x="22" y="252"/>
                            </a:lnTo>
                            <a:lnTo>
                              <a:pt x="57" y="196"/>
                            </a:lnTo>
                            <a:lnTo>
                              <a:pt x="114" y="153"/>
                            </a:lnTo>
                            <a:lnTo>
                              <a:pt x="164" y="117"/>
                            </a:lnTo>
                            <a:lnTo>
                              <a:pt x="234" y="76"/>
                            </a:lnTo>
                            <a:lnTo>
                              <a:pt x="328" y="38"/>
                            </a:lnTo>
                            <a:lnTo>
                              <a:pt x="415" y="11"/>
                            </a:lnTo>
                            <a:lnTo>
                              <a:pt x="465" y="6"/>
                            </a:lnTo>
                            <a:lnTo>
                              <a:pt x="522" y="0"/>
                            </a:lnTo>
                            <a:lnTo>
                              <a:pt x="590" y="8"/>
                            </a:lnTo>
                            <a:lnTo>
                              <a:pt x="651" y="19"/>
                            </a:lnTo>
                            <a:lnTo>
                              <a:pt x="719" y="40"/>
                            </a:lnTo>
                            <a:lnTo>
                              <a:pt x="780" y="63"/>
                            </a:lnTo>
                            <a:lnTo>
                              <a:pt x="845" y="93"/>
                            </a:lnTo>
                            <a:lnTo>
                              <a:pt x="900" y="117"/>
                            </a:lnTo>
                            <a:lnTo>
                              <a:pt x="944" y="133"/>
                            </a:lnTo>
                            <a:lnTo>
                              <a:pt x="961" y="150"/>
                            </a:lnTo>
                            <a:lnTo>
                              <a:pt x="930" y="175"/>
                            </a:lnTo>
                            <a:lnTo>
                              <a:pt x="900" y="193"/>
                            </a:lnTo>
                            <a:lnTo>
                              <a:pt x="856" y="213"/>
                            </a:lnTo>
                            <a:lnTo>
                              <a:pt x="823" y="235"/>
                            </a:lnTo>
                            <a:lnTo>
                              <a:pt x="775" y="254"/>
                            </a:lnTo>
                            <a:lnTo>
                              <a:pt x="740" y="268"/>
                            </a:lnTo>
                            <a:lnTo>
                              <a:pt x="708" y="278"/>
                            </a:lnTo>
                            <a:lnTo>
                              <a:pt x="664" y="292"/>
                            </a:lnTo>
                            <a:lnTo>
                              <a:pt x="616" y="309"/>
                            </a:lnTo>
                            <a:lnTo>
                              <a:pt x="581" y="314"/>
                            </a:lnTo>
                            <a:lnTo>
                              <a:pt x="539" y="322"/>
                            </a:lnTo>
                            <a:lnTo>
                              <a:pt x="487" y="331"/>
                            </a:lnTo>
                            <a:lnTo>
                              <a:pt x="422" y="339"/>
                            </a:lnTo>
                            <a:lnTo>
                              <a:pt x="384" y="342"/>
                            </a:lnTo>
                            <a:lnTo>
                              <a:pt x="341" y="350"/>
                            </a:lnTo>
                            <a:lnTo>
                              <a:pt x="284" y="350"/>
                            </a:lnTo>
                            <a:lnTo>
                              <a:pt x="229" y="353"/>
                            </a:lnTo>
                            <a:lnTo>
                              <a:pt x="159" y="350"/>
                            </a:lnTo>
                            <a:lnTo>
                              <a:pt x="100" y="345"/>
                            </a:lnTo>
                            <a:lnTo>
                              <a:pt x="44" y="339"/>
                            </a:lnTo>
                            <a:lnTo>
                              <a:pt x="9" y="331"/>
                            </a:lnTo>
                            <a:lnTo>
                              <a:pt x="0" y="30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127480" y="2925720"/>
                        <a:ext cx="160200" cy="107640"/>
                      </a:xfrm>
                      <a:custGeom>
                        <a:avLst/>
                        <a:gdLst/>
                        <a:ahLst/>
                        <a:rect l="l" t="t" r="r" b="b"/>
                        <a:pathLst>
                          <a:path w="101" h="68">
                            <a:moveTo>
                              <a:pt x="12" y="0"/>
                            </a:moveTo>
                            <a:lnTo>
                              <a:pt x="31" y="7"/>
                            </a:lnTo>
                            <a:lnTo>
                              <a:pt x="42" y="10"/>
                            </a:lnTo>
                            <a:lnTo>
                              <a:pt x="65" y="17"/>
                            </a:lnTo>
                            <a:lnTo>
                              <a:pt x="88" y="24"/>
                            </a:lnTo>
                            <a:lnTo>
                              <a:pt x="100" y="29"/>
                            </a:lnTo>
                            <a:lnTo>
                              <a:pt x="73" y="37"/>
                            </a:lnTo>
                            <a:lnTo>
                              <a:pt x="50" y="44"/>
                            </a:lnTo>
                            <a:lnTo>
                              <a:pt x="35" y="54"/>
                            </a:lnTo>
                            <a:lnTo>
                              <a:pt x="15" y="61"/>
                            </a:lnTo>
                            <a:lnTo>
                              <a:pt x="0" y="67"/>
                            </a:lnTo>
                            <a:lnTo>
                              <a:pt x="8" y="61"/>
                            </a:lnTo>
                            <a:lnTo>
                              <a:pt x="12" y="56"/>
                            </a:lnTo>
                            <a:lnTo>
                              <a:pt x="15" y="49"/>
                            </a:lnTo>
                            <a:lnTo>
                              <a:pt x="19" y="34"/>
                            </a:lnTo>
                            <a:lnTo>
                              <a:pt x="19" y="24"/>
                            </a:lnTo>
                            <a:lnTo>
                              <a:pt x="15" y="10"/>
                            </a:lnTo>
                            <a:lnTo>
                              <a:pt x="12"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76440" y="2943000"/>
                        <a:ext cx="163440" cy="71640"/>
                      </a:xfrm>
                      <a:custGeom>
                        <a:avLst/>
                        <a:gdLst/>
                        <a:ahLst/>
                        <a:rect l="l" t="t" r="r" b="b"/>
                        <a:pathLst>
                          <a:path w="103" h="45">
                            <a:moveTo>
                              <a:pt x="15" y="7"/>
                            </a:moveTo>
                            <a:lnTo>
                              <a:pt x="23" y="2"/>
                            </a:lnTo>
                            <a:lnTo>
                              <a:pt x="31" y="0"/>
                            </a:lnTo>
                            <a:lnTo>
                              <a:pt x="46" y="0"/>
                            </a:lnTo>
                            <a:lnTo>
                              <a:pt x="58" y="2"/>
                            </a:lnTo>
                            <a:lnTo>
                              <a:pt x="65" y="5"/>
                            </a:lnTo>
                            <a:lnTo>
                              <a:pt x="77" y="5"/>
                            </a:lnTo>
                            <a:lnTo>
                              <a:pt x="81" y="5"/>
                            </a:lnTo>
                            <a:lnTo>
                              <a:pt x="85" y="5"/>
                            </a:lnTo>
                            <a:lnTo>
                              <a:pt x="94" y="9"/>
                            </a:lnTo>
                            <a:lnTo>
                              <a:pt x="102" y="14"/>
                            </a:lnTo>
                            <a:lnTo>
                              <a:pt x="94" y="19"/>
                            </a:lnTo>
                            <a:lnTo>
                              <a:pt x="85" y="23"/>
                            </a:lnTo>
                            <a:lnTo>
                              <a:pt x="69" y="23"/>
                            </a:lnTo>
                            <a:lnTo>
                              <a:pt x="58" y="28"/>
                            </a:lnTo>
                            <a:lnTo>
                              <a:pt x="46" y="32"/>
                            </a:lnTo>
                            <a:lnTo>
                              <a:pt x="31" y="35"/>
                            </a:lnTo>
                            <a:lnTo>
                              <a:pt x="19" y="39"/>
                            </a:lnTo>
                            <a:lnTo>
                              <a:pt x="8" y="42"/>
                            </a:lnTo>
                            <a:lnTo>
                              <a:pt x="0" y="44"/>
                            </a:lnTo>
                            <a:lnTo>
                              <a:pt x="0" y="39"/>
                            </a:lnTo>
                            <a:lnTo>
                              <a:pt x="12" y="32"/>
                            </a:lnTo>
                            <a:lnTo>
                              <a:pt x="15" y="25"/>
                            </a:lnTo>
                            <a:lnTo>
                              <a:pt x="19" y="21"/>
                            </a:lnTo>
                            <a:lnTo>
                              <a:pt x="15" y="7"/>
                            </a:lnTo>
                          </a:path>
                        </a:pathLst>
                      </a:custGeom>
                      <a:solidFill>
                        <a:srgbClr val="a0a0a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434" name=""/>
                    <p:cNvGrpSpPr/>
                    <p:nvPr/>
                  </p:nvGrpSpPr>
                  <p:grpSpPr>
                    <a:xfrm>
                      <a:off x="3909600" y="2739960"/>
                      <a:ext cx="1149480" cy="550800"/>
                      <a:chOff x="3909600" y="2739960"/>
                      <a:chExt cx="1149480" cy="550800"/>
                    </a:xfrm>
                  </p:grpSpPr>
                  <p:grpSp>
                    <p:nvGrpSpPr>
                      <p:cNvPr id="435" name=""/>
                      <p:cNvGrpSpPr/>
                      <p:nvPr/>
                    </p:nvGrpSpPr>
                    <p:grpSpPr>
                      <a:xfrm>
                        <a:off x="3909600" y="2808000"/>
                        <a:ext cx="768600" cy="482760"/>
                        <a:chOff x="3909600" y="2808000"/>
                        <a:chExt cx="768600" cy="482760"/>
                      </a:xfrm>
                    </p:grpSpPr>
                    <p:sp>
                      <p:nvSpPr>
                        <p:cNvPr id="436" name=""/>
                        <p:cNvSpPr/>
                        <p:nvPr/>
                      </p:nvSpPr>
                      <p:spPr>
                        <a:xfrm>
                          <a:off x="3909600" y="2839680"/>
                          <a:ext cx="676440" cy="451080"/>
                        </a:xfrm>
                        <a:custGeom>
                          <a:avLst/>
                          <a:gdLst/>
                          <a:ahLst/>
                          <a:rect l="l" t="t" r="r" b="b"/>
                          <a:pathLst>
                            <a:path w="426" h="284">
                              <a:moveTo>
                                <a:pt x="15" y="67"/>
                              </a:moveTo>
                              <a:lnTo>
                                <a:pt x="4" y="81"/>
                              </a:lnTo>
                              <a:lnTo>
                                <a:pt x="0" y="100"/>
                              </a:lnTo>
                              <a:lnTo>
                                <a:pt x="0" y="120"/>
                              </a:lnTo>
                              <a:lnTo>
                                <a:pt x="0" y="140"/>
                              </a:lnTo>
                              <a:lnTo>
                                <a:pt x="9" y="162"/>
                              </a:lnTo>
                              <a:lnTo>
                                <a:pt x="19" y="184"/>
                              </a:lnTo>
                              <a:lnTo>
                                <a:pt x="32" y="199"/>
                              </a:lnTo>
                              <a:lnTo>
                                <a:pt x="58" y="218"/>
                              </a:lnTo>
                              <a:lnTo>
                                <a:pt x="79" y="235"/>
                              </a:lnTo>
                              <a:lnTo>
                                <a:pt x="105" y="251"/>
                              </a:lnTo>
                              <a:lnTo>
                                <a:pt x="130" y="260"/>
                              </a:lnTo>
                              <a:lnTo>
                                <a:pt x="156" y="271"/>
                              </a:lnTo>
                              <a:lnTo>
                                <a:pt x="192" y="279"/>
                              </a:lnTo>
                              <a:lnTo>
                                <a:pt x="222" y="283"/>
                              </a:lnTo>
                              <a:lnTo>
                                <a:pt x="252" y="283"/>
                              </a:lnTo>
                              <a:lnTo>
                                <a:pt x="278" y="283"/>
                              </a:lnTo>
                              <a:lnTo>
                                <a:pt x="305" y="283"/>
                              </a:lnTo>
                              <a:lnTo>
                                <a:pt x="331" y="280"/>
                              </a:lnTo>
                              <a:lnTo>
                                <a:pt x="425" y="268"/>
                              </a:lnTo>
                              <a:lnTo>
                                <a:pt x="357" y="246"/>
                              </a:lnTo>
                              <a:lnTo>
                                <a:pt x="273" y="207"/>
                              </a:lnTo>
                              <a:lnTo>
                                <a:pt x="214" y="162"/>
                              </a:lnTo>
                              <a:lnTo>
                                <a:pt x="147" y="89"/>
                              </a:lnTo>
                              <a:lnTo>
                                <a:pt x="130" y="41"/>
                              </a:lnTo>
                              <a:lnTo>
                                <a:pt x="126" y="0"/>
                              </a:lnTo>
                              <a:lnTo>
                                <a:pt x="15" y="6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41640" y="2825640"/>
                          <a:ext cx="687240" cy="452520"/>
                        </a:xfrm>
                        <a:custGeom>
                          <a:avLst/>
                          <a:gdLst/>
                          <a:ahLst/>
                          <a:rect l="l" t="t" r="r" b="b"/>
                          <a:pathLst>
                            <a:path w="433" h="285">
                              <a:moveTo>
                                <a:pt x="21" y="64"/>
                              </a:moveTo>
                              <a:lnTo>
                                <a:pt x="9" y="78"/>
                              </a:lnTo>
                              <a:lnTo>
                                <a:pt x="0" y="97"/>
                              </a:lnTo>
                              <a:lnTo>
                                <a:pt x="0" y="117"/>
                              </a:lnTo>
                              <a:lnTo>
                                <a:pt x="4" y="140"/>
                              </a:lnTo>
                              <a:lnTo>
                                <a:pt x="13" y="162"/>
                              </a:lnTo>
                              <a:lnTo>
                                <a:pt x="26" y="181"/>
                              </a:lnTo>
                              <a:lnTo>
                                <a:pt x="39" y="198"/>
                              </a:lnTo>
                              <a:lnTo>
                                <a:pt x="60" y="218"/>
                              </a:lnTo>
                              <a:lnTo>
                                <a:pt x="86" y="235"/>
                              </a:lnTo>
                              <a:lnTo>
                                <a:pt x="112" y="248"/>
                              </a:lnTo>
                              <a:lnTo>
                                <a:pt x="133" y="259"/>
                              </a:lnTo>
                              <a:lnTo>
                                <a:pt x="161" y="268"/>
                              </a:lnTo>
                              <a:lnTo>
                                <a:pt x="196" y="276"/>
                              </a:lnTo>
                              <a:lnTo>
                                <a:pt x="230" y="281"/>
                              </a:lnTo>
                              <a:lnTo>
                                <a:pt x="256" y="284"/>
                              </a:lnTo>
                              <a:lnTo>
                                <a:pt x="284" y="284"/>
                              </a:lnTo>
                              <a:lnTo>
                                <a:pt x="309" y="284"/>
                              </a:lnTo>
                              <a:lnTo>
                                <a:pt x="335" y="281"/>
                              </a:lnTo>
                              <a:lnTo>
                                <a:pt x="432" y="268"/>
                              </a:lnTo>
                              <a:lnTo>
                                <a:pt x="365" y="243"/>
                              </a:lnTo>
                              <a:lnTo>
                                <a:pt x="279" y="207"/>
                              </a:lnTo>
                              <a:lnTo>
                                <a:pt x="221" y="159"/>
                              </a:lnTo>
                              <a:lnTo>
                                <a:pt x="153" y="89"/>
                              </a:lnTo>
                              <a:lnTo>
                                <a:pt x="133" y="38"/>
                              </a:lnTo>
                              <a:lnTo>
                                <a:pt x="133" y="0"/>
                              </a:lnTo>
                              <a:lnTo>
                                <a:pt x="21" y="6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992400" y="2808000"/>
                          <a:ext cx="685800" cy="453960"/>
                        </a:xfrm>
                        <a:custGeom>
                          <a:avLst/>
                          <a:gdLst/>
                          <a:ahLst/>
                          <a:rect l="l" t="t" r="r" b="b"/>
                          <a:pathLst>
                            <a:path w="432" h="286">
                              <a:moveTo>
                                <a:pt x="21" y="65"/>
                              </a:moveTo>
                              <a:lnTo>
                                <a:pt x="9" y="81"/>
                              </a:lnTo>
                              <a:lnTo>
                                <a:pt x="0" y="101"/>
                              </a:lnTo>
                              <a:lnTo>
                                <a:pt x="0" y="117"/>
                              </a:lnTo>
                              <a:lnTo>
                                <a:pt x="4" y="140"/>
                              </a:lnTo>
                              <a:lnTo>
                                <a:pt x="13" y="162"/>
                              </a:lnTo>
                              <a:lnTo>
                                <a:pt x="26" y="182"/>
                              </a:lnTo>
                              <a:lnTo>
                                <a:pt x="39" y="198"/>
                              </a:lnTo>
                              <a:lnTo>
                                <a:pt x="60" y="219"/>
                              </a:lnTo>
                              <a:lnTo>
                                <a:pt x="86" y="235"/>
                              </a:lnTo>
                              <a:lnTo>
                                <a:pt x="109" y="252"/>
                              </a:lnTo>
                              <a:lnTo>
                                <a:pt x="135" y="260"/>
                              </a:lnTo>
                              <a:lnTo>
                                <a:pt x="161" y="268"/>
                              </a:lnTo>
                              <a:lnTo>
                                <a:pt x="195" y="277"/>
                              </a:lnTo>
                              <a:lnTo>
                                <a:pt x="229" y="282"/>
                              </a:lnTo>
                              <a:lnTo>
                                <a:pt x="257" y="285"/>
                              </a:lnTo>
                              <a:lnTo>
                                <a:pt x="283" y="285"/>
                              </a:lnTo>
                              <a:lnTo>
                                <a:pt x="309" y="285"/>
                              </a:lnTo>
                              <a:lnTo>
                                <a:pt x="339" y="282"/>
                              </a:lnTo>
                              <a:lnTo>
                                <a:pt x="431" y="268"/>
                              </a:lnTo>
                              <a:lnTo>
                                <a:pt x="365" y="244"/>
                              </a:lnTo>
                              <a:lnTo>
                                <a:pt x="279" y="209"/>
                              </a:lnTo>
                              <a:lnTo>
                                <a:pt x="221" y="160"/>
                              </a:lnTo>
                              <a:lnTo>
                                <a:pt x="152" y="89"/>
                              </a:lnTo>
                              <a:lnTo>
                                <a:pt x="135" y="39"/>
                              </a:lnTo>
                              <a:lnTo>
                                <a:pt x="131" y="0"/>
                              </a:lnTo>
                              <a:lnTo>
                                <a:pt x="21"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4647960" y="2739960"/>
                        <a:ext cx="411120" cy="511200"/>
                        <a:chOff x="4647960" y="2739960"/>
                        <a:chExt cx="411120" cy="511200"/>
                      </a:xfrm>
                    </p:grpSpPr>
                    <p:sp>
                      <p:nvSpPr>
                        <p:cNvPr id="440" name=""/>
                        <p:cNvSpPr/>
                        <p:nvPr/>
                      </p:nvSpPr>
                      <p:spPr>
                        <a:xfrm>
                          <a:off x="4746240" y="2739960"/>
                          <a:ext cx="312840" cy="509400"/>
                        </a:xfrm>
                        <a:custGeom>
                          <a:avLst/>
                          <a:gdLst/>
                          <a:ahLst/>
                          <a:rect l="l" t="t" r="r" b="b"/>
                          <a:pathLst>
                            <a:path w="197" h="321">
                              <a:moveTo>
                                <a:pt x="69" y="17"/>
                              </a:moveTo>
                              <a:lnTo>
                                <a:pt x="115" y="37"/>
                              </a:lnTo>
                              <a:lnTo>
                                <a:pt x="148" y="54"/>
                              </a:lnTo>
                              <a:lnTo>
                                <a:pt x="164" y="70"/>
                              </a:lnTo>
                              <a:lnTo>
                                <a:pt x="172" y="84"/>
                              </a:lnTo>
                              <a:lnTo>
                                <a:pt x="184" y="98"/>
                              </a:lnTo>
                              <a:lnTo>
                                <a:pt x="188" y="110"/>
                              </a:lnTo>
                              <a:lnTo>
                                <a:pt x="196" y="124"/>
                              </a:lnTo>
                              <a:lnTo>
                                <a:pt x="196" y="143"/>
                              </a:lnTo>
                              <a:lnTo>
                                <a:pt x="196" y="160"/>
                              </a:lnTo>
                              <a:lnTo>
                                <a:pt x="196" y="179"/>
                              </a:lnTo>
                              <a:lnTo>
                                <a:pt x="192" y="194"/>
                              </a:lnTo>
                              <a:lnTo>
                                <a:pt x="180" y="214"/>
                              </a:lnTo>
                              <a:lnTo>
                                <a:pt x="172" y="230"/>
                              </a:lnTo>
                              <a:lnTo>
                                <a:pt x="156" y="244"/>
                              </a:lnTo>
                              <a:lnTo>
                                <a:pt x="139" y="261"/>
                              </a:lnTo>
                              <a:lnTo>
                                <a:pt x="103" y="281"/>
                              </a:lnTo>
                              <a:lnTo>
                                <a:pt x="4" y="320"/>
                              </a:lnTo>
                              <a:lnTo>
                                <a:pt x="28" y="287"/>
                              </a:lnTo>
                              <a:lnTo>
                                <a:pt x="65" y="228"/>
                              </a:lnTo>
                              <a:lnTo>
                                <a:pt x="87" y="132"/>
                              </a:lnTo>
                              <a:lnTo>
                                <a:pt x="71" y="70"/>
                              </a:lnTo>
                              <a:lnTo>
                                <a:pt x="8" y="14"/>
                              </a:lnTo>
                              <a:lnTo>
                                <a:pt x="0" y="0"/>
                              </a:lnTo>
                              <a:lnTo>
                                <a:pt x="69" y="1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697280" y="2742840"/>
                          <a:ext cx="325440" cy="508320"/>
                        </a:xfrm>
                        <a:custGeom>
                          <a:avLst/>
                          <a:gdLst/>
                          <a:ahLst/>
                          <a:rect l="l" t="t" r="r" b="b"/>
                          <a:pathLst>
                            <a:path w="205" h="320">
                              <a:moveTo>
                                <a:pt x="70" y="17"/>
                              </a:moveTo>
                              <a:lnTo>
                                <a:pt x="122" y="37"/>
                              </a:lnTo>
                              <a:lnTo>
                                <a:pt x="150" y="54"/>
                              </a:lnTo>
                              <a:lnTo>
                                <a:pt x="167" y="70"/>
                              </a:lnTo>
                              <a:lnTo>
                                <a:pt x="175" y="84"/>
                              </a:lnTo>
                              <a:lnTo>
                                <a:pt x="188" y="95"/>
                              </a:lnTo>
                              <a:lnTo>
                                <a:pt x="196" y="110"/>
                              </a:lnTo>
                              <a:lnTo>
                                <a:pt x="200" y="124"/>
                              </a:lnTo>
                              <a:lnTo>
                                <a:pt x="204" y="143"/>
                              </a:lnTo>
                              <a:lnTo>
                                <a:pt x="204" y="160"/>
                              </a:lnTo>
                              <a:lnTo>
                                <a:pt x="200" y="179"/>
                              </a:lnTo>
                              <a:lnTo>
                                <a:pt x="196" y="194"/>
                              </a:lnTo>
                              <a:lnTo>
                                <a:pt x="183" y="213"/>
                              </a:lnTo>
                              <a:lnTo>
                                <a:pt x="175" y="230"/>
                              </a:lnTo>
                              <a:lnTo>
                                <a:pt x="163" y="243"/>
                              </a:lnTo>
                              <a:lnTo>
                                <a:pt x="146" y="259"/>
                              </a:lnTo>
                              <a:lnTo>
                                <a:pt x="105" y="278"/>
                              </a:lnTo>
                              <a:lnTo>
                                <a:pt x="4" y="319"/>
                              </a:lnTo>
                              <a:lnTo>
                                <a:pt x="33" y="286"/>
                              </a:lnTo>
                              <a:lnTo>
                                <a:pt x="70" y="227"/>
                              </a:lnTo>
                              <a:lnTo>
                                <a:pt x="91" y="132"/>
                              </a:lnTo>
                              <a:lnTo>
                                <a:pt x="74" y="70"/>
                              </a:lnTo>
                              <a:lnTo>
                                <a:pt x="12" y="14"/>
                              </a:lnTo>
                              <a:lnTo>
                                <a:pt x="0" y="0"/>
                              </a:lnTo>
                              <a:lnTo>
                                <a:pt x="70" y="1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647960" y="2739960"/>
                          <a:ext cx="323640" cy="509400"/>
                        </a:xfrm>
                        <a:custGeom>
                          <a:avLst/>
                          <a:gdLst/>
                          <a:ahLst/>
                          <a:rect l="l" t="t" r="r" b="b"/>
                          <a:pathLst>
                            <a:path w="204" h="321">
                              <a:moveTo>
                                <a:pt x="70" y="19"/>
                              </a:moveTo>
                              <a:lnTo>
                                <a:pt x="119" y="40"/>
                              </a:lnTo>
                              <a:lnTo>
                                <a:pt x="150" y="54"/>
                              </a:lnTo>
                              <a:lnTo>
                                <a:pt x="162" y="70"/>
                              </a:lnTo>
                              <a:lnTo>
                                <a:pt x="174" y="84"/>
                              </a:lnTo>
                              <a:lnTo>
                                <a:pt x="182" y="98"/>
                              </a:lnTo>
                              <a:lnTo>
                                <a:pt x="191" y="110"/>
                              </a:lnTo>
                              <a:lnTo>
                                <a:pt x="199" y="124"/>
                              </a:lnTo>
                              <a:lnTo>
                                <a:pt x="203" y="146"/>
                              </a:lnTo>
                              <a:lnTo>
                                <a:pt x="203" y="163"/>
                              </a:lnTo>
                              <a:lnTo>
                                <a:pt x="199" y="182"/>
                              </a:lnTo>
                              <a:lnTo>
                                <a:pt x="195" y="194"/>
                              </a:lnTo>
                              <a:lnTo>
                                <a:pt x="182" y="217"/>
                              </a:lnTo>
                              <a:lnTo>
                                <a:pt x="174" y="230"/>
                              </a:lnTo>
                              <a:lnTo>
                                <a:pt x="158" y="247"/>
                              </a:lnTo>
                              <a:lnTo>
                                <a:pt x="141" y="262"/>
                              </a:lnTo>
                              <a:lnTo>
                                <a:pt x="107" y="281"/>
                              </a:lnTo>
                              <a:lnTo>
                                <a:pt x="4" y="320"/>
                              </a:lnTo>
                              <a:lnTo>
                                <a:pt x="29" y="287"/>
                              </a:lnTo>
                              <a:lnTo>
                                <a:pt x="66" y="228"/>
                              </a:lnTo>
                              <a:lnTo>
                                <a:pt x="90" y="132"/>
                              </a:lnTo>
                              <a:lnTo>
                                <a:pt x="74" y="70"/>
                              </a:lnTo>
                              <a:lnTo>
                                <a:pt x="8" y="14"/>
                              </a:lnTo>
                              <a:lnTo>
                                <a:pt x="0" y="0"/>
                              </a:lnTo>
                              <a:lnTo>
                                <a:pt x="70"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3" name=""/>
                    <p:cNvSpPr/>
                    <p:nvPr/>
                  </p:nvSpPr>
                  <p:spPr>
                    <a:xfrm>
                      <a:off x="3722400" y="2724120"/>
                      <a:ext cx="1455840" cy="488880"/>
                    </a:xfrm>
                    <a:custGeom>
                      <a:avLst/>
                      <a:gdLst/>
                      <a:ahLst/>
                      <a:rect l="l" t="t" r="r" b="b"/>
                      <a:pathLst>
                        <a:path w="917" h="308">
                          <a:moveTo>
                            <a:pt x="0" y="307"/>
                          </a:moveTo>
                          <a:lnTo>
                            <a:pt x="44" y="285"/>
                          </a:lnTo>
                          <a:lnTo>
                            <a:pt x="87" y="264"/>
                          </a:lnTo>
                          <a:lnTo>
                            <a:pt x="133" y="245"/>
                          </a:lnTo>
                          <a:lnTo>
                            <a:pt x="172" y="228"/>
                          </a:lnTo>
                          <a:lnTo>
                            <a:pt x="220" y="212"/>
                          </a:lnTo>
                          <a:lnTo>
                            <a:pt x="264" y="195"/>
                          </a:lnTo>
                          <a:lnTo>
                            <a:pt x="349" y="177"/>
                          </a:lnTo>
                          <a:lnTo>
                            <a:pt x="447" y="155"/>
                          </a:lnTo>
                          <a:lnTo>
                            <a:pt x="556" y="136"/>
                          </a:lnTo>
                          <a:lnTo>
                            <a:pt x="624" y="124"/>
                          </a:lnTo>
                          <a:lnTo>
                            <a:pt x="685" y="113"/>
                          </a:lnTo>
                          <a:lnTo>
                            <a:pt x="739" y="106"/>
                          </a:lnTo>
                          <a:lnTo>
                            <a:pt x="770" y="109"/>
                          </a:lnTo>
                          <a:lnTo>
                            <a:pt x="827" y="116"/>
                          </a:lnTo>
                          <a:lnTo>
                            <a:pt x="855" y="119"/>
                          </a:lnTo>
                          <a:lnTo>
                            <a:pt x="881" y="124"/>
                          </a:lnTo>
                          <a:lnTo>
                            <a:pt x="916" y="130"/>
                          </a:lnTo>
                          <a:lnTo>
                            <a:pt x="844" y="98"/>
                          </a:lnTo>
                          <a:lnTo>
                            <a:pt x="800" y="76"/>
                          </a:lnTo>
                          <a:lnTo>
                            <a:pt x="718" y="48"/>
                          </a:lnTo>
                          <a:lnTo>
                            <a:pt x="663" y="30"/>
                          </a:lnTo>
                          <a:lnTo>
                            <a:pt x="602" y="17"/>
                          </a:lnTo>
                          <a:lnTo>
                            <a:pt x="561" y="3"/>
                          </a:lnTo>
                          <a:lnTo>
                            <a:pt x="508" y="0"/>
                          </a:lnTo>
                          <a:lnTo>
                            <a:pt x="443" y="6"/>
                          </a:lnTo>
                          <a:lnTo>
                            <a:pt x="358" y="28"/>
                          </a:lnTo>
                          <a:lnTo>
                            <a:pt x="292" y="51"/>
                          </a:lnTo>
                          <a:lnTo>
                            <a:pt x="203" y="93"/>
                          </a:lnTo>
                          <a:lnTo>
                            <a:pt x="155" y="116"/>
                          </a:lnTo>
                          <a:lnTo>
                            <a:pt x="96" y="160"/>
                          </a:lnTo>
                          <a:lnTo>
                            <a:pt x="52" y="198"/>
                          </a:lnTo>
                          <a:lnTo>
                            <a:pt x="26" y="228"/>
                          </a:lnTo>
                          <a:lnTo>
                            <a:pt x="17" y="259"/>
                          </a:lnTo>
                          <a:lnTo>
                            <a:pt x="4" y="285"/>
                          </a:lnTo>
                          <a:lnTo>
                            <a:pt x="0" y="307"/>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
                    <p:cNvGrpSpPr/>
                    <p:nvPr/>
                  </p:nvGrpSpPr>
                  <p:grpSpPr>
                    <a:xfrm>
                      <a:off x="4043160" y="2707920"/>
                      <a:ext cx="892080" cy="552600"/>
                      <a:chOff x="4043160" y="2707920"/>
                      <a:chExt cx="892080" cy="552600"/>
                    </a:xfrm>
                  </p:grpSpPr>
                  <p:sp>
                    <p:nvSpPr>
                      <p:cNvPr id="445" name=""/>
                      <p:cNvSpPr/>
                      <p:nvPr/>
                    </p:nvSpPr>
                    <p:spPr>
                      <a:xfrm>
                        <a:off x="4043160" y="2707920"/>
                        <a:ext cx="892080" cy="552600"/>
                      </a:xfrm>
                      <a:prstGeom prst="ellipse">
                        <a:avLst/>
                      </a:prstGeom>
                      <a:solidFill>
                        <a:srgbClr val="804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4043160" y="2717640"/>
                        <a:ext cx="865080" cy="336600"/>
                      </a:xfrm>
                      <a:custGeom>
                        <a:avLst/>
                        <a:gdLst/>
                        <a:ahLst/>
                        <a:rect l="l" t="t" r="r" b="b"/>
                        <a:pathLst>
                          <a:path w="545" h="212">
                            <a:moveTo>
                              <a:pt x="17" y="211"/>
                            </a:moveTo>
                            <a:lnTo>
                              <a:pt x="52" y="200"/>
                            </a:lnTo>
                            <a:lnTo>
                              <a:pt x="101" y="188"/>
                            </a:lnTo>
                            <a:lnTo>
                              <a:pt x="158" y="177"/>
                            </a:lnTo>
                            <a:lnTo>
                              <a:pt x="229" y="161"/>
                            </a:lnTo>
                            <a:lnTo>
                              <a:pt x="302" y="147"/>
                            </a:lnTo>
                            <a:lnTo>
                              <a:pt x="373" y="136"/>
                            </a:lnTo>
                            <a:lnTo>
                              <a:pt x="447" y="125"/>
                            </a:lnTo>
                            <a:lnTo>
                              <a:pt x="499" y="117"/>
                            </a:lnTo>
                            <a:lnTo>
                              <a:pt x="544" y="108"/>
                            </a:lnTo>
                            <a:lnTo>
                              <a:pt x="527" y="86"/>
                            </a:lnTo>
                            <a:lnTo>
                              <a:pt x="514" y="67"/>
                            </a:lnTo>
                            <a:lnTo>
                              <a:pt x="494" y="50"/>
                            </a:lnTo>
                            <a:lnTo>
                              <a:pt x="451" y="30"/>
                            </a:lnTo>
                            <a:lnTo>
                              <a:pt x="408" y="14"/>
                            </a:lnTo>
                            <a:lnTo>
                              <a:pt x="369" y="5"/>
                            </a:lnTo>
                            <a:lnTo>
                              <a:pt x="328" y="0"/>
                            </a:lnTo>
                            <a:lnTo>
                              <a:pt x="268" y="3"/>
                            </a:lnTo>
                            <a:lnTo>
                              <a:pt x="188" y="25"/>
                            </a:lnTo>
                            <a:lnTo>
                              <a:pt x="114" y="50"/>
                            </a:lnTo>
                            <a:lnTo>
                              <a:pt x="39" y="86"/>
                            </a:lnTo>
                            <a:lnTo>
                              <a:pt x="22" y="94"/>
                            </a:lnTo>
                            <a:lnTo>
                              <a:pt x="4" y="110"/>
                            </a:lnTo>
                            <a:lnTo>
                              <a:pt x="0" y="128"/>
                            </a:lnTo>
                            <a:lnTo>
                              <a:pt x="0" y="155"/>
                            </a:lnTo>
                            <a:lnTo>
                              <a:pt x="4" y="185"/>
                            </a:lnTo>
                            <a:lnTo>
                              <a:pt x="17" y="211"/>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300200" y="2863800"/>
                        <a:ext cx="389160" cy="245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285800" y="2858760"/>
                        <a:ext cx="155880" cy="88920"/>
                      </a:xfrm>
                      <a:prstGeom prst="ellipse">
                        <a:avLst/>
                      </a:prstGeom>
                      <a:solidFill>
                        <a:srgbClr val="ffff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grpSp>
            <p:grpSp>
              <p:nvGrpSpPr>
                <p:cNvPr id="449" name=""/>
                <p:cNvGrpSpPr/>
                <p:nvPr/>
              </p:nvGrpSpPr>
              <p:grpSpPr>
                <a:xfrm>
                  <a:off x="3706560" y="2701800"/>
                  <a:ext cx="1622520" cy="628560"/>
                  <a:chOff x="3706560" y="2701800"/>
                  <a:chExt cx="1622520" cy="628560"/>
                </a:xfrm>
              </p:grpSpPr>
              <p:sp>
                <p:nvSpPr>
                  <p:cNvPr id="450" name=""/>
                  <p:cNvSpPr/>
                  <p:nvPr/>
                </p:nvSpPr>
                <p:spPr>
                  <a:xfrm>
                    <a:off x="5225760" y="2946240"/>
                    <a:ext cx="103320" cy="55440"/>
                  </a:xfrm>
                  <a:custGeom>
                    <a:avLst/>
                    <a:gdLst/>
                    <a:ahLst/>
                    <a:rect l="l" t="t" r="r" b="b"/>
                    <a:pathLst>
                      <a:path w="65" h="35">
                        <a:moveTo>
                          <a:pt x="7" y="2"/>
                        </a:moveTo>
                        <a:lnTo>
                          <a:pt x="17" y="2"/>
                        </a:lnTo>
                        <a:lnTo>
                          <a:pt x="48" y="0"/>
                        </a:lnTo>
                        <a:lnTo>
                          <a:pt x="57" y="2"/>
                        </a:lnTo>
                        <a:lnTo>
                          <a:pt x="64" y="6"/>
                        </a:lnTo>
                        <a:lnTo>
                          <a:pt x="64" y="11"/>
                        </a:lnTo>
                        <a:lnTo>
                          <a:pt x="57" y="19"/>
                        </a:lnTo>
                        <a:lnTo>
                          <a:pt x="45" y="26"/>
                        </a:lnTo>
                        <a:lnTo>
                          <a:pt x="31" y="30"/>
                        </a:lnTo>
                        <a:lnTo>
                          <a:pt x="10" y="34"/>
                        </a:lnTo>
                        <a:lnTo>
                          <a:pt x="0" y="34"/>
                        </a:lnTo>
                        <a:lnTo>
                          <a:pt x="10" y="28"/>
                        </a:lnTo>
                        <a:lnTo>
                          <a:pt x="14" y="23"/>
                        </a:lnTo>
                        <a:lnTo>
                          <a:pt x="21" y="17"/>
                        </a:lnTo>
                        <a:lnTo>
                          <a:pt x="21" y="13"/>
                        </a:lnTo>
                        <a:lnTo>
                          <a:pt x="7" y="2"/>
                        </a:lnTo>
                      </a:path>
                    </a:pathLst>
                  </a:custGeom>
                  <a:solidFill>
                    <a:srgbClr val="6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451" name=""/>
                  <p:cNvGrpSpPr/>
                  <p:nvPr/>
                </p:nvGrpSpPr>
                <p:grpSpPr>
                  <a:xfrm>
                    <a:off x="3706560" y="2701800"/>
                    <a:ext cx="1581120" cy="628560"/>
                    <a:chOff x="3706560" y="2701800"/>
                    <a:chExt cx="1581120" cy="628560"/>
                  </a:xfrm>
                </p:grpSpPr>
                <p:sp>
                  <p:nvSpPr>
                    <p:cNvPr id="452" name=""/>
                    <p:cNvSpPr/>
                    <p:nvPr/>
                  </p:nvSpPr>
                  <p:spPr>
                    <a:xfrm>
                      <a:off x="3706560" y="2985840"/>
                      <a:ext cx="1550880" cy="344520"/>
                    </a:xfrm>
                    <a:custGeom>
                      <a:avLst/>
                      <a:gdLst/>
                      <a:ahLst/>
                      <a:rect l="l" t="t" r="r" b="b"/>
                      <a:pathLst>
                        <a:path w="977" h="217">
                          <a:moveTo>
                            <a:pt x="9" y="152"/>
                          </a:moveTo>
                          <a:lnTo>
                            <a:pt x="48" y="168"/>
                          </a:lnTo>
                          <a:lnTo>
                            <a:pt x="92" y="177"/>
                          </a:lnTo>
                          <a:lnTo>
                            <a:pt x="142" y="182"/>
                          </a:lnTo>
                          <a:lnTo>
                            <a:pt x="225" y="187"/>
                          </a:lnTo>
                          <a:lnTo>
                            <a:pt x="282" y="187"/>
                          </a:lnTo>
                          <a:lnTo>
                            <a:pt x="337" y="185"/>
                          </a:lnTo>
                          <a:lnTo>
                            <a:pt x="407" y="179"/>
                          </a:lnTo>
                          <a:lnTo>
                            <a:pt x="484" y="171"/>
                          </a:lnTo>
                          <a:lnTo>
                            <a:pt x="545" y="163"/>
                          </a:lnTo>
                          <a:lnTo>
                            <a:pt x="604" y="152"/>
                          </a:lnTo>
                          <a:lnTo>
                            <a:pt x="670" y="130"/>
                          </a:lnTo>
                          <a:lnTo>
                            <a:pt x="724" y="114"/>
                          </a:lnTo>
                          <a:lnTo>
                            <a:pt x="777" y="96"/>
                          </a:lnTo>
                          <a:lnTo>
                            <a:pt x="825" y="77"/>
                          </a:lnTo>
                          <a:lnTo>
                            <a:pt x="867" y="56"/>
                          </a:lnTo>
                          <a:lnTo>
                            <a:pt x="893" y="39"/>
                          </a:lnTo>
                          <a:lnTo>
                            <a:pt x="919" y="27"/>
                          </a:lnTo>
                          <a:lnTo>
                            <a:pt x="976" y="0"/>
                          </a:lnTo>
                          <a:lnTo>
                            <a:pt x="976" y="11"/>
                          </a:lnTo>
                          <a:lnTo>
                            <a:pt x="958" y="31"/>
                          </a:lnTo>
                          <a:lnTo>
                            <a:pt x="915" y="58"/>
                          </a:lnTo>
                          <a:lnTo>
                            <a:pt x="862" y="80"/>
                          </a:lnTo>
                          <a:lnTo>
                            <a:pt x="838" y="94"/>
                          </a:lnTo>
                          <a:lnTo>
                            <a:pt x="803" y="111"/>
                          </a:lnTo>
                          <a:lnTo>
                            <a:pt x="772" y="125"/>
                          </a:lnTo>
                          <a:lnTo>
                            <a:pt x="737" y="141"/>
                          </a:lnTo>
                          <a:lnTo>
                            <a:pt x="696" y="152"/>
                          </a:lnTo>
                          <a:lnTo>
                            <a:pt x="652" y="166"/>
                          </a:lnTo>
                          <a:lnTo>
                            <a:pt x="591" y="179"/>
                          </a:lnTo>
                          <a:lnTo>
                            <a:pt x="523" y="189"/>
                          </a:lnTo>
                          <a:lnTo>
                            <a:pt x="466" y="194"/>
                          </a:lnTo>
                          <a:lnTo>
                            <a:pt x="429" y="200"/>
                          </a:lnTo>
                          <a:lnTo>
                            <a:pt x="390" y="205"/>
                          </a:lnTo>
                          <a:lnTo>
                            <a:pt x="341" y="208"/>
                          </a:lnTo>
                          <a:lnTo>
                            <a:pt x="293" y="213"/>
                          </a:lnTo>
                          <a:lnTo>
                            <a:pt x="247" y="216"/>
                          </a:lnTo>
                          <a:lnTo>
                            <a:pt x="204" y="216"/>
                          </a:lnTo>
                          <a:lnTo>
                            <a:pt x="147" y="216"/>
                          </a:lnTo>
                          <a:lnTo>
                            <a:pt x="92" y="211"/>
                          </a:lnTo>
                          <a:lnTo>
                            <a:pt x="57" y="205"/>
                          </a:lnTo>
                          <a:lnTo>
                            <a:pt x="26" y="192"/>
                          </a:lnTo>
                          <a:lnTo>
                            <a:pt x="0" y="200"/>
                          </a:lnTo>
                          <a:lnTo>
                            <a:pt x="0" y="185"/>
                          </a:lnTo>
                          <a:lnTo>
                            <a:pt x="9" y="15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706560" y="2701800"/>
                      <a:ext cx="1581120" cy="504720"/>
                    </a:xfrm>
                    <a:custGeom>
                      <a:avLst/>
                      <a:gdLst/>
                      <a:ahLst/>
                      <a:rect l="l" t="t" r="r" b="b"/>
                      <a:pathLst>
                        <a:path w="996" h="318">
                          <a:moveTo>
                            <a:pt x="0" y="317"/>
                          </a:moveTo>
                          <a:lnTo>
                            <a:pt x="26" y="289"/>
                          </a:lnTo>
                          <a:lnTo>
                            <a:pt x="44" y="274"/>
                          </a:lnTo>
                          <a:lnTo>
                            <a:pt x="48" y="247"/>
                          </a:lnTo>
                          <a:lnTo>
                            <a:pt x="57" y="230"/>
                          </a:lnTo>
                          <a:lnTo>
                            <a:pt x="75" y="216"/>
                          </a:lnTo>
                          <a:lnTo>
                            <a:pt x="96" y="204"/>
                          </a:lnTo>
                          <a:lnTo>
                            <a:pt x="118" y="190"/>
                          </a:lnTo>
                          <a:lnTo>
                            <a:pt x="131" y="176"/>
                          </a:lnTo>
                          <a:lnTo>
                            <a:pt x="142" y="163"/>
                          </a:lnTo>
                          <a:lnTo>
                            <a:pt x="164" y="146"/>
                          </a:lnTo>
                          <a:lnTo>
                            <a:pt x="182" y="132"/>
                          </a:lnTo>
                          <a:lnTo>
                            <a:pt x="204" y="125"/>
                          </a:lnTo>
                          <a:lnTo>
                            <a:pt x="235" y="114"/>
                          </a:lnTo>
                          <a:lnTo>
                            <a:pt x="270" y="98"/>
                          </a:lnTo>
                          <a:lnTo>
                            <a:pt x="307" y="81"/>
                          </a:lnTo>
                          <a:lnTo>
                            <a:pt x="338" y="70"/>
                          </a:lnTo>
                          <a:lnTo>
                            <a:pt x="377" y="57"/>
                          </a:lnTo>
                          <a:lnTo>
                            <a:pt x="412" y="47"/>
                          </a:lnTo>
                          <a:lnTo>
                            <a:pt x="454" y="33"/>
                          </a:lnTo>
                          <a:lnTo>
                            <a:pt x="489" y="22"/>
                          </a:lnTo>
                          <a:lnTo>
                            <a:pt x="515" y="22"/>
                          </a:lnTo>
                          <a:lnTo>
                            <a:pt x="541" y="22"/>
                          </a:lnTo>
                          <a:lnTo>
                            <a:pt x="576" y="28"/>
                          </a:lnTo>
                          <a:lnTo>
                            <a:pt x="614" y="36"/>
                          </a:lnTo>
                          <a:lnTo>
                            <a:pt x="675" y="48"/>
                          </a:lnTo>
                          <a:lnTo>
                            <a:pt x="719" y="68"/>
                          </a:lnTo>
                          <a:lnTo>
                            <a:pt x="760" y="81"/>
                          </a:lnTo>
                          <a:lnTo>
                            <a:pt x="804" y="98"/>
                          </a:lnTo>
                          <a:lnTo>
                            <a:pt x="835" y="106"/>
                          </a:lnTo>
                          <a:lnTo>
                            <a:pt x="857" y="117"/>
                          </a:lnTo>
                          <a:lnTo>
                            <a:pt x="881" y="132"/>
                          </a:lnTo>
                          <a:lnTo>
                            <a:pt x="912" y="143"/>
                          </a:lnTo>
                          <a:lnTo>
                            <a:pt x="929" y="149"/>
                          </a:lnTo>
                          <a:lnTo>
                            <a:pt x="956" y="152"/>
                          </a:lnTo>
                          <a:lnTo>
                            <a:pt x="973" y="152"/>
                          </a:lnTo>
                          <a:lnTo>
                            <a:pt x="995" y="152"/>
                          </a:lnTo>
                          <a:lnTo>
                            <a:pt x="956" y="132"/>
                          </a:lnTo>
                          <a:lnTo>
                            <a:pt x="920" y="112"/>
                          </a:lnTo>
                          <a:lnTo>
                            <a:pt x="890" y="98"/>
                          </a:lnTo>
                          <a:lnTo>
                            <a:pt x="861" y="84"/>
                          </a:lnTo>
                          <a:lnTo>
                            <a:pt x="822" y="68"/>
                          </a:lnTo>
                          <a:lnTo>
                            <a:pt x="800" y="57"/>
                          </a:lnTo>
                          <a:lnTo>
                            <a:pt x="774" y="48"/>
                          </a:lnTo>
                          <a:lnTo>
                            <a:pt x="721" y="39"/>
                          </a:lnTo>
                          <a:lnTo>
                            <a:pt x="684" y="28"/>
                          </a:lnTo>
                          <a:lnTo>
                            <a:pt x="640" y="17"/>
                          </a:lnTo>
                          <a:lnTo>
                            <a:pt x="596" y="8"/>
                          </a:lnTo>
                          <a:lnTo>
                            <a:pt x="546" y="0"/>
                          </a:lnTo>
                          <a:lnTo>
                            <a:pt x="511" y="0"/>
                          </a:lnTo>
                          <a:lnTo>
                            <a:pt x="476" y="3"/>
                          </a:lnTo>
                          <a:lnTo>
                            <a:pt x="441" y="6"/>
                          </a:lnTo>
                          <a:lnTo>
                            <a:pt x="412" y="8"/>
                          </a:lnTo>
                          <a:lnTo>
                            <a:pt x="381" y="17"/>
                          </a:lnTo>
                          <a:lnTo>
                            <a:pt x="351" y="25"/>
                          </a:lnTo>
                          <a:lnTo>
                            <a:pt x="320" y="36"/>
                          </a:lnTo>
                          <a:lnTo>
                            <a:pt x="294" y="47"/>
                          </a:lnTo>
                          <a:lnTo>
                            <a:pt x="274" y="59"/>
                          </a:lnTo>
                          <a:lnTo>
                            <a:pt x="243" y="76"/>
                          </a:lnTo>
                          <a:lnTo>
                            <a:pt x="208" y="92"/>
                          </a:lnTo>
                          <a:lnTo>
                            <a:pt x="173" y="112"/>
                          </a:lnTo>
                          <a:lnTo>
                            <a:pt x="147" y="132"/>
                          </a:lnTo>
                          <a:lnTo>
                            <a:pt x="123" y="146"/>
                          </a:lnTo>
                          <a:lnTo>
                            <a:pt x="96" y="168"/>
                          </a:lnTo>
                          <a:lnTo>
                            <a:pt x="75" y="187"/>
                          </a:lnTo>
                          <a:lnTo>
                            <a:pt x="53" y="205"/>
                          </a:lnTo>
                          <a:lnTo>
                            <a:pt x="39" y="222"/>
                          </a:lnTo>
                          <a:lnTo>
                            <a:pt x="39" y="233"/>
                          </a:lnTo>
                          <a:lnTo>
                            <a:pt x="22" y="252"/>
                          </a:lnTo>
                          <a:lnTo>
                            <a:pt x="9" y="283"/>
                          </a:lnTo>
                          <a:lnTo>
                            <a:pt x="0" y="317"/>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454" name=""/>
            <p:cNvGrpSpPr/>
            <p:nvPr/>
          </p:nvGrpSpPr>
          <p:grpSpPr>
            <a:xfrm>
              <a:off x="100080" y="3323880"/>
              <a:ext cx="2808360" cy="2355840"/>
              <a:chOff x="100080" y="3323880"/>
              <a:chExt cx="2808360" cy="2355840"/>
            </a:xfrm>
          </p:grpSpPr>
          <p:sp>
            <p:nvSpPr>
              <p:cNvPr id="455" name=""/>
              <p:cNvSpPr/>
              <p:nvPr/>
            </p:nvSpPr>
            <p:spPr>
              <a:xfrm>
                <a:off x="100080" y="3703320"/>
                <a:ext cx="2808360" cy="1976400"/>
              </a:xfrm>
              <a:prstGeom prst="roundRect">
                <a:avLst>
                  <a:gd name="adj" fmla="val 121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43800" y="3323880"/>
                <a:ext cx="2318760" cy="519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rganização</a:t>
                </a:r>
                <a:endParaRPr b="0" lang="en-US" sz="2800" spc="-1" strike="noStrike">
                  <a:solidFill>
                    <a:srgbClr val="000000"/>
                  </a:solidFill>
                  <a:latin typeface="Arial"/>
                </a:endParaRPr>
              </a:p>
            </p:txBody>
          </p:sp>
          <p:sp>
            <p:nvSpPr>
              <p:cNvPr id="457" name=""/>
              <p:cNvSpPr/>
              <p:nvPr/>
            </p:nvSpPr>
            <p:spPr>
              <a:xfrm>
                <a:off x="393840" y="4009680"/>
                <a:ext cx="2305800" cy="155556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estrutura</a:t>
                </a:r>
                <a:endParaRPr b="0" lang="en-US" sz="24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cultura </a:t>
                </a:r>
                <a:endParaRPr b="0" lang="en-US" sz="24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aprendizagem</a:t>
                </a:r>
                <a:endParaRPr b="0" lang="en-US" sz="24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pessoas</a:t>
                </a:r>
                <a:endParaRPr b="0" lang="en-US" sz="2400" spc="-1" strike="noStrike">
                  <a:solidFill>
                    <a:srgbClr val="000000"/>
                  </a:solidFill>
                  <a:latin typeface="Arial"/>
                </a:endParaRPr>
              </a:p>
            </p:txBody>
          </p:sp>
        </p:grpSp>
        <p:grpSp>
          <p:nvGrpSpPr>
            <p:cNvPr id="458" name=""/>
            <p:cNvGrpSpPr/>
            <p:nvPr/>
          </p:nvGrpSpPr>
          <p:grpSpPr>
            <a:xfrm>
              <a:off x="6035760" y="3323880"/>
              <a:ext cx="2930400" cy="2719440"/>
              <a:chOff x="6035760" y="3323880"/>
              <a:chExt cx="2930400" cy="2719440"/>
            </a:xfrm>
          </p:grpSpPr>
          <p:sp>
            <p:nvSpPr>
              <p:cNvPr id="459" name=""/>
              <p:cNvSpPr/>
              <p:nvPr/>
            </p:nvSpPr>
            <p:spPr>
              <a:xfrm>
                <a:off x="6035760" y="3643200"/>
                <a:ext cx="2930400" cy="2400120"/>
              </a:xfrm>
              <a:prstGeom prst="roundRect">
                <a:avLst>
                  <a:gd name="adj" fmla="val 1224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6599160" y="3323880"/>
                <a:ext cx="1805040" cy="519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cursos</a:t>
                </a:r>
                <a:endParaRPr b="0" lang="en-US" sz="2800" spc="-1" strike="noStrike">
                  <a:solidFill>
                    <a:srgbClr val="000000"/>
                  </a:solidFill>
                  <a:latin typeface="Arial"/>
                </a:endParaRPr>
              </a:p>
            </p:txBody>
          </p:sp>
          <p:sp>
            <p:nvSpPr>
              <p:cNvPr id="461" name=""/>
              <p:cNvSpPr/>
              <p:nvPr/>
            </p:nvSpPr>
            <p:spPr>
              <a:xfrm>
                <a:off x="6610320" y="4649400"/>
                <a:ext cx="17812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126120" y="3933720"/>
                <a:ext cx="2747880" cy="192132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 </a:t>
                </a:r>
                <a:r>
                  <a:rPr b="0" lang="pt-BR" sz="2400" spc="-1" strike="noStrike">
                    <a:solidFill>
                      <a:srgbClr val="000000"/>
                    </a:solidFill>
                    <a:latin typeface="Arial"/>
                  </a:rPr>
                  <a:t>técnicas/métodos</a:t>
                </a:r>
                <a:endParaRPr b="0" lang="en-US" sz="24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 </a:t>
                </a:r>
                <a:r>
                  <a:rPr b="0" lang="pt-BR" sz="2400" spc="-1" strike="noStrike">
                    <a:solidFill>
                      <a:srgbClr val="000000"/>
                    </a:solidFill>
                    <a:latin typeface="Arial"/>
                  </a:rPr>
                  <a:t>equipamento</a:t>
                </a:r>
                <a:endParaRPr b="0" lang="en-US" sz="24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 </a:t>
                </a:r>
                <a:r>
                  <a:rPr b="0" lang="pt-BR" sz="2400" spc="-1" strike="noStrike">
                    <a:solidFill>
                      <a:srgbClr val="000000"/>
                    </a:solidFill>
                    <a:latin typeface="Arial"/>
                  </a:rPr>
                  <a:t>hardware</a:t>
                </a:r>
                <a:endParaRPr b="0" lang="en-US" sz="24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 </a:t>
                </a:r>
                <a:r>
                  <a:rPr b="0" lang="pt-BR" sz="2400" spc="-1" strike="noStrike">
                    <a:solidFill>
                      <a:srgbClr val="000000"/>
                    </a:solidFill>
                    <a:latin typeface="Arial"/>
                  </a:rPr>
                  <a:t>software</a:t>
                </a:r>
                <a:endParaRPr b="0" lang="en-US" sz="24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 </a:t>
                </a:r>
                <a:r>
                  <a:rPr b="0" lang="pt-BR" sz="2400" spc="-1" strike="noStrike">
                    <a:solidFill>
                      <a:srgbClr val="000000"/>
                    </a:solidFill>
                    <a:latin typeface="Arial"/>
                  </a:rPr>
                  <a:t>rec.financeiros</a:t>
                </a:r>
                <a:endParaRPr b="0" lang="en-US" sz="2400" spc="-1" strike="noStrike">
                  <a:solidFill>
                    <a:srgbClr val="000000"/>
                  </a:solidFill>
                  <a:latin typeface="Arial"/>
                </a:endParaRPr>
              </a:p>
            </p:txBody>
          </p:sp>
        </p:grpSp>
        <p:sp>
          <p:nvSpPr>
            <p:cNvPr id="463" name=""/>
            <p:cNvSpPr/>
            <p:nvPr/>
          </p:nvSpPr>
          <p:spPr>
            <a:xfrm>
              <a:off x="6119640" y="1190520"/>
              <a:ext cx="2656080" cy="1508040"/>
            </a:xfrm>
            <a:prstGeom prst="roundRect">
              <a:avLst>
                <a:gd name="adj" fmla="val 121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4" name=""/>
            <p:cNvGrpSpPr/>
            <p:nvPr/>
          </p:nvGrpSpPr>
          <p:grpSpPr>
            <a:xfrm>
              <a:off x="6432480" y="1557000"/>
              <a:ext cx="1968480" cy="819360"/>
              <a:chOff x="6432480" y="1557000"/>
              <a:chExt cx="1968480" cy="819360"/>
            </a:xfrm>
          </p:grpSpPr>
          <p:sp>
            <p:nvSpPr>
              <p:cNvPr id="465" name=""/>
              <p:cNvSpPr/>
              <p:nvPr/>
            </p:nvSpPr>
            <p:spPr>
              <a:xfrm>
                <a:off x="6432480" y="1557000"/>
                <a:ext cx="341280" cy="263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257960" y="1833480"/>
                <a:ext cx="333360" cy="2667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8062920" y="2112840"/>
                <a:ext cx="338040" cy="263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780240" y="169200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010280" y="169200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7010280" y="1966680"/>
                <a:ext cx="2415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7597800" y="19666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7827840" y="1966680"/>
                <a:ext cx="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827840" y="2242800"/>
                <a:ext cx="2286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4" name=""/>
            <p:cNvSpPr/>
            <p:nvPr/>
          </p:nvSpPr>
          <p:spPr>
            <a:xfrm>
              <a:off x="6415200" y="961920"/>
              <a:ext cx="2065320" cy="519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Atividades</a:t>
              </a:r>
              <a:endParaRPr b="0" lang="en-US" sz="2800" spc="-1" strike="noStrike">
                <a:solidFill>
                  <a:srgbClr val="000000"/>
                </a:solidFill>
                <a:latin typeface="Arial"/>
              </a:endParaRPr>
            </a:p>
          </p:txBody>
        </p:sp>
        <p:sp>
          <p:nvSpPr>
            <p:cNvPr id="475" name=""/>
            <p:cNvSpPr/>
            <p:nvPr/>
          </p:nvSpPr>
          <p:spPr>
            <a:xfrm>
              <a:off x="6243480" y="2485800"/>
              <a:ext cx="2406960" cy="519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Informações</a:t>
              </a:r>
              <a:endParaRPr b="0" lang="en-US" sz="2800" spc="-1" strike="noStrike">
                <a:solidFill>
                  <a:srgbClr val="000000"/>
                </a:solidFill>
                <a:latin typeface="Arial"/>
              </a:endParaRPr>
            </a:p>
          </p:txBody>
        </p:sp>
        <p:grpSp>
          <p:nvGrpSpPr>
            <p:cNvPr id="476" name=""/>
            <p:cNvGrpSpPr/>
            <p:nvPr/>
          </p:nvGrpSpPr>
          <p:grpSpPr>
            <a:xfrm>
              <a:off x="100080" y="961920"/>
              <a:ext cx="2655720" cy="1920600"/>
              <a:chOff x="100080" y="961920"/>
              <a:chExt cx="2655720" cy="1920600"/>
            </a:xfrm>
          </p:grpSpPr>
          <p:sp>
            <p:nvSpPr>
              <p:cNvPr id="477" name=""/>
              <p:cNvSpPr/>
              <p:nvPr/>
            </p:nvSpPr>
            <p:spPr>
              <a:xfrm>
                <a:off x="100080" y="1190520"/>
                <a:ext cx="2655720" cy="1692000"/>
              </a:xfrm>
              <a:prstGeom prst="roundRect">
                <a:avLst>
                  <a:gd name="adj" fmla="val 121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8" name="" descr=""/>
              <p:cNvPicPr/>
              <p:nvPr/>
            </p:nvPicPr>
            <p:blipFill>
              <a:blip r:embed="rId1"/>
              <a:stretch/>
            </p:blipFill>
            <p:spPr>
              <a:xfrm>
                <a:off x="785880" y="1495080"/>
                <a:ext cx="1488960" cy="1312920"/>
              </a:xfrm>
              <a:prstGeom prst="rect">
                <a:avLst/>
              </a:prstGeom>
              <a:ln w="0">
                <a:noFill/>
              </a:ln>
            </p:spPr>
          </p:pic>
          <p:sp>
            <p:nvSpPr>
              <p:cNvPr id="479" name=""/>
              <p:cNvSpPr/>
              <p:nvPr/>
            </p:nvSpPr>
            <p:spPr>
              <a:xfrm>
                <a:off x="312840" y="961920"/>
                <a:ext cx="2232000" cy="519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stratégias</a:t>
                </a:r>
                <a:endParaRPr b="0" lang="en-US" sz="2800" spc="-1" strike="noStrike">
                  <a:solidFill>
                    <a:srgbClr val="000000"/>
                  </a:solidFill>
                  <a:latin typeface="Arial"/>
                </a:endParaRPr>
              </a:p>
            </p:txBody>
          </p:sp>
        </p:gr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272">
                                  <p:stCondLst>
                                    <p:cond delay="0"/>
                                  </p:stCondLst>
                                  <p:childTnLst>
                                    <p:set>
                                      <p:cBhvr>
                                        <p:cTn id="68" dur="1" fill="hold">
                                          <p:stCondLst>
                                            <p:cond delay="0"/>
                                          </p:stCondLst>
                                        </p:cTn>
                                        <p:tgtEl>
                                          <p:spTgt spid="399"/>
                                        </p:tgtEl>
                                        <p:attrNameLst>
                                          <p:attrName>style.visibility</p:attrName>
                                        </p:attrNameLst>
                                      </p:cBhvr>
                                      <p:to>
                                        <p:strVal val="visible"/>
                                      </p:to>
                                    </p:set>
                                    <p:anim calcmode="lin" valueType="num">
                                      <p:cBhvr additive="repl">
                                        <p:cTn id="69" dur="500" fill="hold"/>
                                        <p:tgtEl>
                                          <p:spTgt spid="399"/>
                                        </p:tgtEl>
                                        <p:attrNameLst>
                                          <p:attrName>ppt_w</p:attrName>
                                        </p:attrNameLst>
                                      </p:cBhvr>
                                      <p:tavLst>
                                        <p:tav tm="0">
                                          <p:val>
                                            <p:strVal val="2/3*#ppt_w"/>
                                          </p:val>
                                        </p:tav>
                                        <p:tav tm="100000">
                                          <p:val>
                                            <p:strVal val="#ppt_w"/>
                                          </p:val>
                                        </p:tav>
                                      </p:tavLst>
                                    </p:anim>
                                    <p:anim calcmode="lin" valueType="num">
                                      <p:cBhvr additive="repl">
                                        <p:cTn id="70" dur="500" fill="hold"/>
                                        <p:tgtEl>
                                          <p:spTgt spid="39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23:18:54Z</dcterms:created>
  <dc:creator>Forcellini</dc:creator>
  <dc:description/>
  <dc:language>en-US</dc:language>
  <cp:lastModifiedBy>damaral</cp:lastModifiedBy>
  <dcterms:modified xsi:type="dcterms:W3CDTF">2005-12-19T21:07:23Z</dcterms:modified>
  <cp:revision>124</cp:revision>
  <dc:subject/>
  <dc:title>Slide 1</dc:title>
</cp:coreProperties>
</file>