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_rels/notesSlide11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0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4004-6016-4102-86F0-89FC1D2B5C3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0116-A83D-4074-B7C8-EE03B56CA05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0642-7CB4-49DB-A0A8-9E52B02F9C6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BD84-A23D-4C68-83A7-71982D7D4CB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B8DC-B235-4E99-870F-B11959EDE94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A0FE-43AE-45F5-833C-2FE8E038ACC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6003-5D5B-418B-A345-BE4576154C6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253C-B59D-444A-A69C-864EDE7A6D4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820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slide está mais complicado. Os termos dos resultados não estão tão coerentes. O Daniel fez uma proposta de definição dos termos dentro da fase sob a responsabilidade dele. Como falei, deveríamos começar com a definição dos termos resultantes das fases (como proposta do Toledo em 200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quem aqui as criticas de vocês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FFE0-412F-43E3-8B8A-467E1290A0A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A2D8-58CC-4ED2-990A-0DB6EF1365E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te slide está mais complicado. Os termos dos resultados não estão tão coerentes. O Daniel fez uma proposta de definição dos termos dentro da fase sob a responsabilidade dele. Como falei, deveríamos começar com a definição dos termos resultantes das fases (como proposta do Toledo em 200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loquem aqui as criticas de vocês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3A12-E383-4EB9-94A6-835C86AB865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20D9-4A44-4A09-88BC-5CC4BD1D230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E01D-B202-46A1-AB3A-BFA423F4A63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DE55-A7F5-4615-A13F-48BD56E83C4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B26D-5DDD-4BF6-97A3-2DA900330EE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Saídas do Detalhamento do Escopo Escopo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pt-BR" sz="800" spc="-1" strike="noStrike">
                <a:solidFill>
                  <a:srgbClr val="000000"/>
                </a:solidFill>
                <a:latin typeface="Arial"/>
              </a:rPr>
              <a:t>1 Estrutura analítica do projeto - EAP.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Uma estrutura analítica do projeto (EAP) é 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grupamento orientado ao subproduto (deliverable-oriented) dos elementos do projeto 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rganiza e define o escopo total do projeto: o trabalho que não está na EAP está fora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escopo do projeto. Com relação à declaração do escopo, a EAP é freqüentemente usada p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elaborar ou confirmar um entendimento comum do escopo do projeto. Cada ní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descendente representa um incremento no detalhamento da descrição dos elementos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rojeto. A Seção 5.3.2.2 descreve as abordagens mais comuns para elaboração de uma E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Uma EAP é, normalmente, apresentada em um formato conforme ilustrado nas </a:t>
            </a: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Figuras 5-2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5-3,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5-4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; entretanto a EAP não pode ser confundida com o método de apresentação – 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desenho de uma lista não estruturada de atividades em um formato de diagrama não faz dis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uma E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Cada item na EAP é, geralmente, designado um identificador único; estes identificad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ão, freqüentemente conhecidos como </a:t>
            </a:r>
            <a:r>
              <a:rPr b="0" i="1" lang="pt-BR" sz="800" spc="-1" strike="noStrike">
                <a:solidFill>
                  <a:srgbClr val="000000"/>
                </a:solidFill>
                <a:latin typeface="Arial"/>
              </a:rPr>
              <a:t>plano de contas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800" spc="-1" strike="noStrike">
                <a:solidFill>
                  <a:srgbClr val="000000"/>
                </a:solidFill>
                <a:latin typeface="Arial"/>
              </a:rPr>
              <a:t>code of accounts).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s itens nos níve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mais baixos da EAP são, freqüentemente, referenciados como </a:t>
            </a:r>
            <a:r>
              <a:rPr b="0" i="1" lang="pt-BR" sz="800" spc="-1" strike="noStrike">
                <a:solidFill>
                  <a:srgbClr val="000000"/>
                </a:solidFill>
                <a:latin typeface="Arial"/>
              </a:rPr>
              <a:t>pacotes de trabalho (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00" spc="-1" strike="noStrike">
                <a:solidFill>
                  <a:srgbClr val="000000"/>
                </a:solidFill>
                <a:latin typeface="Arial"/>
              </a:rPr>
              <a:t>packages).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Estes pacotes de trabalho podem ser mais decompostos conforme descrito 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eção 6.1, Definição de Atividad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Descrições de elemento de trabalho são, freqüentemente, buscadas em um </a:t>
            </a:r>
            <a:r>
              <a:rPr b="0" i="1" lang="pt-BR" sz="800" spc="-1" strike="noStrike">
                <a:solidFill>
                  <a:srgbClr val="000000"/>
                </a:solidFill>
                <a:latin typeface="Arial"/>
              </a:rPr>
              <a:t>dicionár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00" spc="-1" strike="noStrike">
                <a:solidFill>
                  <a:srgbClr val="000000"/>
                </a:solidFill>
                <a:latin typeface="Arial"/>
              </a:rPr>
              <a:t>EAP.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Um dicionário EAP inclui, tipicamente, descrições de pacotes de trabalho, bem co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utras informações de planejamento, tais como datas de cronogramas, custo de orçamentos 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designações de funcionári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 EAP não pode ser confundida com outras categorias de estruturas de </a:t>
            </a:r>
            <a:r>
              <a:rPr b="0" i="1" lang="pt-BR" sz="800" spc="-1" strike="noStrike">
                <a:solidFill>
                  <a:srgbClr val="000000"/>
                </a:solidFill>
                <a:latin typeface="Arial"/>
              </a:rPr>
              <a:t>decomposiçã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usadas para apresentar informações do projeto. Outras estruturas comumente usadas 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lgumas áreas de aplicação são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·  Estrutura analítica do projeto contratual (Contractual EAP - CEAP), que é usada p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definir o nível de informação que o vendedor passará para o comprador. A CE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geralmente possui menos detalhes que a EAP usada pelo vendedor para gerenciar 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eu trabalh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·  Estrutura de decomposição organizacional (Organizational Breakdown Structure 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BS), que é usada para mostrar que elementos de trabalho foram designados p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quais unidades da organizaçã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·  Estrutura de decomposição de recurso (Resource Breakdown Structure – RBS), que 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uma variação da OBS, e é usada, tipicamente, quando os elementos de trabalho sã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designados para indivídu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·  Lista de Materiais (Bill of Materials – BOM), que apresenta uma visão hierárquica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montagens físicas, submontagens e componentes necessários para fabricar 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roduto industrializad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·  Estrutura de decomposição do projeto (Project Breakdown Structure – PBS), que é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undamentalmente, o mesmo que a própria EAP já apresentada. O termo PBS é ma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mplamente usado nas áreas de aplicação onde o termo EAP é usado incorretam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ara referir-se a uma BOM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6A42-BE00-4E79-9A66-C3CCDAB65A4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6111-2129-48C2-9244-0C92F84B0A2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14FB-5812-4BCE-B3CA-F3BA83A14C3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0B40-A489-4FC3-84FC-0EC9C0CDFD7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FFA6-5A23-41A3-ACFD-AFFBD892414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A119-9414-4CB3-99C2-CA824AE090F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F71E-38E3-41B8-BDE6-4F30DACB2DA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C805-48BF-417C-AAF0-A946F4E4E7C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2752-A4F8-416F-B303-F7487D68702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F4CB-E93B-4FAA-8940-326471F5DBB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5EA5-78F8-413D-9116-613F9E7EB83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D8D8-F269-4F7E-87DD-7395BFCFA5D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3F7-1B7F-4132-AC5D-7AF49B18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AD2-DE91-418E-852B-AF36B842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DF7-240F-4174-810F-6AD479E6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104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01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23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104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01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3FC-90AF-49FF-97BD-30821FDB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93F-5C97-4C4B-AA80-49CA0B70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D89-BCDD-431E-84A0-503D59AB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A17-6C15-45C0-B5CE-DF16FE46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316-A4C8-4628-A1B9-2A2983B1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3882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B75-703A-4E7E-9BB4-570A3378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14A-6EA3-42F8-8D03-D06B0A24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E8B-A77B-445F-9812-119257AF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823-2D1D-4F40-9DB4-8BF7EB43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5494-1973-4614-AEE4-37A6FF288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5280" y="808200"/>
            <a:ext cx="7861320" cy="47520"/>
          </a:xfrm>
          <a:prstGeom prst="rect">
            <a:avLst/>
          </a:prstGeom>
          <a:gradFill rotWithShape="0">
            <a:gsLst>
              <a:gs pos="0">
                <a:srgbClr val="000096"/>
              </a:gs>
              <a:gs pos="100000">
                <a:srgbClr val="6363b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43840" y="0"/>
            <a:ext cx="11001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360" y="257040"/>
            <a:ext cx="4386240" cy="635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00800" y="609480"/>
            <a:ext cx="32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lanejamento do Proj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apítulo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4040" y="4183200"/>
            <a:ext cx="329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Henrique Rozen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Fernando Antônio Forcell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aniel Capaldo Ama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José Carlos Tol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Sergio Luis da Si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ário Henrique Allipran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Régis Kovacs Sc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95840" y="2263680"/>
            <a:ext cx="4448160" cy="1658520"/>
            <a:chOff x="4695840" y="2263680"/>
            <a:chExt cx="4448160" cy="1658520"/>
          </a:xfrm>
        </p:grpSpPr>
        <p:sp>
          <p:nvSpPr>
            <p:cNvPr id="54" name=""/>
            <p:cNvSpPr/>
            <p:nvPr/>
          </p:nvSpPr>
          <p:spPr>
            <a:xfrm>
              <a:off x="5214240" y="3638880"/>
              <a:ext cx="3844800" cy="28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69880" y="3458520"/>
              <a:ext cx="2970720" cy="285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4880" y="3387960"/>
              <a:ext cx="540720" cy="932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0" y="3387960"/>
              <a:ext cx="542160" cy="932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14200" y="3387960"/>
              <a:ext cx="542160" cy="932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5120" y="3387960"/>
              <a:ext cx="542160" cy="932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95840" y="2263680"/>
              <a:ext cx="4384080" cy="1103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50280" y="2337120"/>
              <a:ext cx="2022480" cy="146880"/>
            </a:xfrm>
            <a:custGeom>
              <a:avLst/>
              <a:gdLst>
                <a:gd name="textAreaLeft" fmla="*/ 0 w 2022480"/>
                <a:gd name="textAreaRight" fmla="*/ 2022480 w 20224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21" y="0"/>
                  </a:lnTo>
                  <a:lnTo>
                    <a:pt x="21600" y="10800"/>
                  </a:lnTo>
                  <a:lnTo>
                    <a:pt x="20921" y="21600"/>
                  </a:lnTo>
                  <a:lnTo>
                    <a:pt x="0" y="21600"/>
                  </a:lnTo>
                  <a:lnTo>
                    <a:pt x="67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61240" y="2337120"/>
              <a:ext cx="1293480" cy="146880"/>
            </a:xfrm>
            <a:custGeom>
              <a:avLst/>
              <a:gdLst>
                <a:gd name="textAreaLeft" fmla="*/ 0 w 1293480"/>
                <a:gd name="textAreaRight" fmla="*/ 1293840 w 12934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42" y="0"/>
                  </a:lnTo>
                  <a:lnTo>
                    <a:pt x="21600" y="10800"/>
                  </a:lnTo>
                  <a:lnTo>
                    <a:pt x="20642" y="21600"/>
                  </a:lnTo>
                  <a:lnTo>
                    <a:pt x="0" y="21600"/>
                  </a:lnTo>
                  <a:lnTo>
                    <a:pt x="958" y="10800"/>
                  </a:lnTo>
                  <a:close/>
                </a:path>
              </a:pathLst>
            </a:cu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36160" y="2355120"/>
              <a:ext cx="1422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68080" y="2379240"/>
              <a:ext cx="1270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41200" y="2337120"/>
              <a:ext cx="1035720" cy="146880"/>
            </a:xfrm>
            <a:custGeom>
              <a:avLst/>
              <a:gdLst>
                <a:gd name="textAreaLeft" fmla="*/ 0 w 1035720"/>
                <a:gd name="textAreaRight" fmla="*/ 1036080 w 103572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47" y="0"/>
                  </a:lnTo>
                  <a:lnTo>
                    <a:pt x="21600" y="10800"/>
                  </a:lnTo>
                  <a:lnTo>
                    <a:pt x="2044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87600" y="2355120"/>
              <a:ext cx="143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48760" y="2520360"/>
              <a:ext cx="650520" cy="388440"/>
            </a:xfrm>
            <a:custGeom>
              <a:avLst/>
              <a:gdLst>
                <a:gd name="textAreaLeft" fmla="*/ 0 w 650520"/>
                <a:gd name="textAreaRight" fmla="*/ 650520 w 65052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8" y="0"/>
                  </a:lnTo>
                  <a:lnTo>
                    <a:pt x="21600" y="10800"/>
                  </a:lnTo>
                  <a:lnTo>
                    <a:pt x="19548" y="21600"/>
                  </a:lnTo>
                  <a:lnTo>
                    <a:pt x="0" y="21600"/>
                  </a:lnTo>
                  <a:lnTo>
                    <a:pt x="2052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63320" y="2511360"/>
              <a:ext cx="613440" cy="40968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76760" y="2511360"/>
              <a:ext cx="620640" cy="409680"/>
            </a:xfrm>
            <a:custGeom>
              <a:avLst/>
              <a:gdLst>
                <a:gd name="textAreaLeft" fmla="*/ 0 w 620640"/>
                <a:gd name="textAreaRight" fmla="*/ 620640 w 62064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05080" y="2542680"/>
              <a:ext cx="619200" cy="40968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32920" y="2542680"/>
              <a:ext cx="619560" cy="40968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10320" y="2562480"/>
              <a:ext cx="654840" cy="40968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02" y="0"/>
                  </a:lnTo>
                  <a:lnTo>
                    <a:pt x="21600" y="10800"/>
                  </a:lnTo>
                  <a:lnTo>
                    <a:pt x="19602" y="21600"/>
                  </a:lnTo>
                  <a:lnTo>
                    <a:pt x="0" y="21600"/>
                  </a:lnTo>
                  <a:lnTo>
                    <a:pt x="1998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53680" y="2562480"/>
              <a:ext cx="682920" cy="409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9" y="0"/>
                  </a:lnTo>
                  <a:lnTo>
                    <a:pt x="21600" y="10800"/>
                  </a:lnTo>
                  <a:lnTo>
                    <a:pt x="19739" y="21600"/>
                  </a:lnTo>
                  <a:lnTo>
                    <a:pt x="0" y="21600"/>
                  </a:lnTo>
                  <a:lnTo>
                    <a:pt x="1861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35240" y="2503800"/>
              <a:ext cx="347760" cy="20232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360 h 202320"/>
                <a:gd name="textAreaBottom" fmla="*/ 203040 h 20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186240" y="2503800"/>
              <a:ext cx="347760" cy="20232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360 h 202320"/>
                <a:gd name="textAreaBottom" fmla="*/ 203040 h 20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538680" y="2503800"/>
              <a:ext cx="348120" cy="2023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360 h 202320"/>
                <a:gd name="textAreaBottom" fmla="*/ 203040 h 20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889680" y="2503800"/>
              <a:ext cx="348120" cy="2023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360 h 202320"/>
                <a:gd name="textAreaBottom" fmla="*/ 203040 h 20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242840" y="2503800"/>
              <a:ext cx="347760" cy="20232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360 h 202320"/>
                <a:gd name="textAreaBottom" fmla="*/ 203040 h 20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909040" y="2580480"/>
              <a:ext cx="347760" cy="2008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260040" y="2580480"/>
              <a:ext cx="348120" cy="2008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612840" y="2580480"/>
              <a:ext cx="347760" cy="2008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964200" y="2580480"/>
              <a:ext cx="347760" cy="2008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316640" y="2580480"/>
              <a:ext cx="348120" cy="2008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983200" y="2655360"/>
              <a:ext cx="347760" cy="2008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334560" y="2655360"/>
              <a:ext cx="347760" cy="2008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87000" y="2655360"/>
              <a:ext cx="348120" cy="2008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7038000" y="2655360"/>
              <a:ext cx="348120" cy="2008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390800" y="2655360"/>
              <a:ext cx="347760" cy="2008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46280" y="3135600"/>
              <a:ext cx="1069200" cy="150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"/>
            <p:cNvCxnSpPr>
              <a:stCxn id="89" idx="0"/>
            </p:cNvCxnSpPr>
            <p:nvPr/>
          </p:nvCxnSpPr>
          <p:spPr>
            <a:xfrm flipH="1" flipV="1">
              <a:off x="6197760" y="2872440"/>
              <a:ext cx="483480" cy="26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1" name=""/>
            <p:cNvCxnSpPr>
              <a:stCxn id="89" idx="0"/>
            </p:cNvCxnSpPr>
            <p:nvPr/>
          </p:nvCxnSpPr>
          <p:spPr>
            <a:xfrm flipH="1" flipV="1">
              <a:off x="6613560" y="2872440"/>
              <a:ext cx="67680" cy="26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>
              <a:stCxn id="89" idx="0"/>
            </p:cNvCxnSpPr>
            <p:nvPr/>
          </p:nvCxnSpPr>
          <p:spPr>
            <a:xfrm flipV="1">
              <a:off x="6680880" y="2872440"/>
              <a:ext cx="302760" cy="26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>
              <a:stCxn id="89" idx="0"/>
            </p:cNvCxnSpPr>
            <p:nvPr/>
          </p:nvCxnSpPr>
          <p:spPr>
            <a:xfrm flipV="1">
              <a:off x="6680880" y="2872440"/>
              <a:ext cx="680400" cy="26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89" idx="0"/>
            </p:cNvCxnSpPr>
            <p:nvPr/>
          </p:nvCxnSpPr>
          <p:spPr>
            <a:xfrm flipV="1">
              <a:off x="6680880" y="2872440"/>
              <a:ext cx="1073160" cy="26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stCxn id="89" idx="0"/>
            </p:cNvCxnSpPr>
            <p:nvPr/>
          </p:nvCxnSpPr>
          <p:spPr>
            <a:xfrm flipH="1" flipV="1">
              <a:off x="5736600" y="2864880"/>
              <a:ext cx="944640" cy="27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4695840" y="2263680"/>
              <a:ext cx="4448160" cy="1651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421600" y="2525040"/>
              <a:ext cx="463320" cy="331200"/>
              <a:chOff x="5421600" y="2525040"/>
              <a:chExt cx="463320" cy="331200"/>
            </a:xfrm>
          </p:grpSpPr>
          <p:sp>
            <p:nvSpPr>
              <p:cNvPr id="98" name=""/>
              <p:cNvSpPr/>
              <p:nvPr/>
            </p:nvSpPr>
            <p:spPr>
              <a:xfrm>
                <a:off x="5421600" y="2525040"/>
                <a:ext cx="315360" cy="18144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22" y="0"/>
                    </a:lnTo>
                    <a:lnTo>
                      <a:pt x="21600" y="10800"/>
                    </a:lnTo>
                    <a:lnTo>
                      <a:pt x="19522" y="21600"/>
                    </a:lnTo>
                    <a:lnTo>
                      <a:pt x="0" y="21600"/>
                    </a:lnTo>
                    <a:lnTo>
                      <a:pt x="2078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95760" y="2599920"/>
                <a:ext cx="315360" cy="1810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22" y="0"/>
                    </a:lnTo>
                    <a:lnTo>
                      <a:pt x="21600" y="10800"/>
                    </a:lnTo>
                    <a:lnTo>
                      <a:pt x="19522" y="21600"/>
                    </a:lnTo>
                    <a:lnTo>
                      <a:pt x="0" y="21600"/>
                    </a:lnTo>
                    <a:lnTo>
                      <a:pt x="2078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69560" y="2674800"/>
                <a:ext cx="315360" cy="18144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22" y="0"/>
                    </a:lnTo>
                    <a:lnTo>
                      <a:pt x="21600" y="10800"/>
                    </a:lnTo>
                    <a:lnTo>
                      <a:pt x="19522" y="21600"/>
                    </a:lnTo>
                    <a:lnTo>
                      <a:pt x="0" y="21600"/>
                    </a:lnTo>
                    <a:lnTo>
                      <a:pt x="2078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stão de projetos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 (quadr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.1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ritório de projetos (quadro 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ção de fornecedores no PDP (quadro 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po do produ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projeto (quadro 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ck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escopo do projeto (quadro 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ção de EDT (WBS) (quadro 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idados para a elaboração da EDT (quadro 5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ância da definição do escopo (quadro 5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83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terminar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Arial Unicode MS"/>
              </a:rPr>
              <a:t>qu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Arial Unicode MS"/>
              </a:rPr>
              <a:t>m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Arial Unicode MS"/>
              </a:rPr>
              <a:t>, quando e como as partes envolvidas no projeto precisam de informações e comunicações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3360" y="887040"/>
            <a:ext cx="914400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Informações necessár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mento d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municaçõ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quisitos de comunicações existentes no proj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pos e formatos das informações demandadas pelas partes envolvid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s tecnologias de informação e comunicação disponíveis no ambiente em que será realizado o projeto de 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trições e premissas existentes quanto ao planejamento das comunicaç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das essas informaç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plano de gerenciamento das comunic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eve basicamente co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s formas de coleta e armazenamento dos vários tipos de informações de interes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83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terminar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Arial Unicode MS"/>
              </a:rPr>
              <a:t>qu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Arial Unicode MS"/>
              </a:rPr>
              <a:t>m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Arial Unicode MS"/>
              </a:rPr>
              <a:t>, quando e como as partes envolvidas no projeto precisam de informações e comunicações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-360" y="1395000"/>
            <a:ext cx="885204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 previsão da construção de uma memória de informações e conhecimentos do projeto para uso futu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 especificação da estrutura de distribuição dessas informaç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s padrões que devem ser seguidos quanto ao formato de apresentação dos conteú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evisões de procedimentos para a atualização desse plano de gerenciamento das comunicaç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dicadores de desempe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plano d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anejar e preparar aqui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plano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4" name=""/>
          <p:cNvGrpSpPr/>
          <p:nvPr/>
        </p:nvGrpSpPr>
        <p:grpSpPr>
          <a:xfrm>
            <a:off x="266760" y="879480"/>
            <a:ext cx="8345160" cy="5805360"/>
            <a:chOff x="266760" y="879480"/>
            <a:chExt cx="8345160" cy="5805360"/>
          </a:xfrm>
        </p:grpSpPr>
        <p:sp>
          <p:nvSpPr>
            <p:cNvPr id="1915" name=""/>
            <p:cNvSpPr/>
            <p:nvPr/>
          </p:nvSpPr>
          <p:spPr>
            <a:xfrm>
              <a:off x="3193920" y="984240"/>
              <a:ext cx="5300640" cy="3848040"/>
            </a:xfrm>
            <a:custGeom>
              <a:avLst/>
              <a:gdLst/>
              <a:ahLst/>
              <a:rect l="l" t="t" r="r" b="b"/>
              <a:pathLst>
                <a:path w="2785" h="2424">
                  <a:moveTo>
                    <a:pt x="0" y="1010"/>
                  </a:moveTo>
                  <a:lnTo>
                    <a:pt x="718" y="0"/>
                  </a:lnTo>
                  <a:lnTo>
                    <a:pt x="2783" y="0"/>
                  </a:lnTo>
                  <a:lnTo>
                    <a:pt x="2785" y="2416"/>
                  </a:lnTo>
                  <a:lnTo>
                    <a:pt x="740" y="2424"/>
                  </a:lnTo>
                  <a:lnTo>
                    <a:pt x="10" y="133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66760" y="2194200"/>
              <a:ext cx="1706400" cy="472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ejamento do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rot="10800000">
              <a:off x="2000160" y="3335400"/>
              <a:ext cx="79704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 rot="10800000">
              <a:off x="1998720" y="2065320"/>
              <a:ext cx="79704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0240" y="879480"/>
              <a:ext cx="29275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claração de escopo do projeto e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ruções normativa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empresa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ra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quisições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744560" y="2590920"/>
              <a:ext cx="173520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ejar e preparar aquisiçõ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51200" y="1403280"/>
              <a:ext cx="315144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ejar o que será adquirido e quan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614840" y="2325600"/>
              <a:ext cx="3238560" cy="97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documentos com os requerimentos do que será adquirido e identificar os fornecedores potencia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700520" y="3652920"/>
              <a:ext cx="3102120" cy="730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ejar a gestão dos relacionamentos com os fornece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30200" y="3602160"/>
              <a:ext cx="343224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no de gerenciamento das aquisiçõ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cumentos de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leção e contrato com fornece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5" name=""/>
            <p:cNvGrpSpPr/>
            <p:nvPr/>
          </p:nvGrpSpPr>
          <p:grpSpPr>
            <a:xfrm>
              <a:off x="4554360" y="4889520"/>
              <a:ext cx="4057560" cy="1794960"/>
              <a:chOff x="4554360" y="4889520"/>
              <a:chExt cx="4057560" cy="1794960"/>
            </a:xfrm>
          </p:grpSpPr>
          <p:sp>
            <p:nvSpPr>
              <p:cNvPr id="1926" name=""/>
              <p:cNvSpPr/>
              <p:nvPr/>
            </p:nvSpPr>
            <p:spPr>
              <a:xfrm>
                <a:off x="4554360" y="5271840"/>
                <a:ext cx="4057560" cy="1412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295240" y="5636880"/>
                <a:ext cx="257544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álise de 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ake-or-bu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iação especializa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742640" y="4889520"/>
                <a:ext cx="357768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étodos, ferramentas, documentos de apo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>
              <a:off x="430200" y="5272200"/>
              <a:ext cx="4057560" cy="141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60240" y="4889520"/>
              <a:ext cx="3578400" cy="274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ação com outras ativ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933560" y="6270480"/>
              <a:ext cx="1477800" cy="21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ris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073160" y="5985000"/>
              <a:ext cx="297324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recursos necessá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847800" y="5670720"/>
              <a:ext cx="326556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declaração de esco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lanejar e preparar aquisiçõe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de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lanejar o que será adquirido e quand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112320" y="963720"/>
            <a:ext cx="8751960" cy="57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I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entificar que par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a execução do projeto, além de recursos que serão empregados e componentes e sistemas do próprio produto em desenvolvimento,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evem ser contratados de terceir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ob quais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ondi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e em que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mom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o projeto isso deve ser fe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rocedimento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para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 se construir o plano de aquisi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o projeto de 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e de </a:t>
            </a:r>
            <a:r>
              <a:rPr b="0" i="1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make-or-bu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dir entre fazer internamente ou compr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oção de um procedimento de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valiação especializ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ndo envolve alguma tecnologia complexa e/ou crítica ao produto ou ao seu proj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de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documentar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 requerimentos e identificar os fornecedores potenciai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751960" cy="58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documentos de aquisi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para serem utilizados para a solicitação de propostas nos fornecedores potenciai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uitas empres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nhecidos por denominações do tipo “coleta de preços”, “solicitação de proposta ou cotação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critérios de avali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são os documentos utilizados para a classificação e seleção das propostas dos fornecedores. Esses critérios vão desde o preço direto de compra, até aspectos mais específicos para a avaliação do forneced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de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lanejar a gestão dos relacionamentos com os fornecedore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112320" y="925200"/>
            <a:ext cx="875196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cimento de um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nstrumento contratual entre fornecedor e empre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ue legalmente embasa essa relação em termos de direitos e deveres de ambos os envolvidos. Nesse contrato, pode estar determinado o tipo de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envolvimento do fornecedor no projeto de DP da empre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planejamento da gestão das aquisições devem ser feitas previsões sobre como encerrar os contratos firmados com os fornecedores, verificar os resultados obtidos, e armazenar as informações e conhecimentos para uso em projetos futuros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dicadores de desempe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plano d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e preparar aqui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ar plano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3" name=""/>
          <p:cNvGrpSpPr/>
          <p:nvPr/>
        </p:nvGrpSpPr>
        <p:grpSpPr>
          <a:xfrm>
            <a:off x="254160" y="958680"/>
            <a:ext cx="8446680" cy="5776920"/>
            <a:chOff x="254160" y="958680"/>
            <a:chExt cx="8446680" cy="5776920"/>
          </a:xfrm>
        </p:grpSpPr>
        <p:sp>
          <p:nvSpPr>
            <p:cNvPr id="1944" name=""/>
            <p:cNvSpPr/>
            <p:nvPr/>
          </p:nvSpPr>
          <p:spPr>
            <a:xfrm>
              <a:off x="3216240" y="1035000"/>
              <a:ext cx="5365800" cy="3848040"/>
            </a:xfrm>
            <a:custGeom>
              <a:avLst/>
              <a:gdLst/>
              <a:ahLst/>
              <a:rect l="l" t="t" r="r" b="b"/>
              <a:pathLst>
                <a:path w="2785" h="2424">
                  <a:moveTo>
                    <a:pt x="0" y="1010"/>
                  </a:moveTo>
                  <a:lnTo>
                    <a:pt x="718" y="0"/>
                  </a:lnTo>
                  <a:lnTo>
                    <a:pt x="2783" y="0"/>
                  </a:lnTo>
                  <a:lnTo>
                    <a:pt x="2785" y="2416"/>
                  </a:lnTo>
                  <a:lnTo>
                    <a:pt x="740" y="2424"/>
                  </a:lnTo>
                  <a:lnTo>
                    <a:pt x="10" y="133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54160" y="2244960"/>
              <a:ext cx="1726920" cy="472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ejamento do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 rot="10800000">
              <a:off x="2007720" y="3219480"/>
              <a:ext cx="80820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 rot="10800000">
              <a:off x="2006640" y="2116080"/>
              <a:ext cx="80784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52320" y="958680"/>
              <a:ext cx="327816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ultados das atividade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 planejamento do projeto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 do planejamento estratégico de produ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776240" y="2654280"/>
              <a:ext cx="175608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Plano de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19040" y="3540240"/>
              <a:ext cx="410688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íntese dos resultados do planejamento do projeto,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ganizado de maneira a facilitar o seu uso nas seis fases do desenvolvimento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4594320" y="4940280"/>
              <a:ext cx="4106520" cy="1794960"/>
              <a:chOff x="4594320" y="4940280"/>
              <a:chExt cx="4106520" cy="1794960"/>
            </a:xfrm>
          </p:grpSpPr>
          <p:sp>
            <p:nvSpPr>
              <p:cNvPr id="1952" name=""/>
              <p:cNvSpPr/>
              <p:nvPr/>
            </p:nvSpPr>
            <p:spPr>
              <a:xfrm>
                <a:off x="4594320" y="5322600"/>
                <a:ext cx="4106520" cy="1412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168880" y="5687640"/>
                <a:ext cx="295668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uniões de preparação d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lano de proje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785120" y="4940280"/>
                <a:ext cx="362088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étodos, ferramentas, documentos de apo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5" name=""/>
            <p:cNvSpPr/>
            <p:nvPr/>
          </p:nvSpPr>
          <p:spPr>
            <a:xfrm>
              <a:off x="419040" y="5322960"/>
              <a:ext cx="4106880" cy="141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52320" y="4940280"/>
              <a:ext cx="3621240" cy="274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ação com outras ativ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871880" y="2603520"/>
              <a:ext cx="2932200" cy="549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scussão e redação do Plano de Proj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000080" y="5821200"/>
              <a:ext cx="293040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das as atividades do Planejamento do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eparar plano de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lano de projeto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751960" cy="58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Project chart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documento formal que reconhece a existência do projeto e a autoridade de seu lí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ém os requisitos-chave que o projeto deve alcançar, além de uma breve descrição do seu produto result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Declarações de escop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incluem os objetivos do projeto, e a estrutura analítica do projeto ou até o nível em que o controle deve ser exerc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Estimativas de custos, prazos, recursos e atribuições de responsabilidad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o nível para o qual o controle foi estabelecido, e documentos de base de medição desse desempen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"/>
          <p:cNvGrpSpPr/>
          <p:nvPr/>
        </p:nvGrpSpPr>
        <p:grpSpPr>
          <a:xfrm>
            <a:off x="906480" y="1054080"/>
            <a:ext cx="7186320" cy="4177800"/>
            <a:chOff x="906480" y="1054080"/>
            <a:chExt cx="7186320" cy="4177800"/>
          </a:xfrm>
        </p:grpSpPr>
        <p:sp>
          <p:nvSpPr>
            <p:cNvPr id="932" name=""/>
            <p:cNvSpPr/>
            <p:nvPr/>
          </p:nvSpPr>
          <p:spPr>
            <a:xfrm>
              <a:off x="906480" y="1054080"/>
              <a:ext cx="2095920" cy="122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esso 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ici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050720" y="1054080"/>
              <a:ext cx="2095920" cy="122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esso 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lanej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4" name=""/>
            <p:cNvCxnSpPr>
              <a:stCxn id="932" idx="6"/>
              <a:endCxn id="933" idx="2"/>
            </p:cNvCxnSpPr>
            <p:nvPr/>
          </p:nvCxnSpPr>
          <p:spPr>
            <a:xfrm>
              <a:off x="3002040" y="1668240"/>
              <a:ext cx="1048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5" name=""/>
            <p:cNvSpPr/>
            <p:nvPr/>
          </p:nvSpPr>
          <p:spPr>
            <a:xfrm>
              <a:off x="5996880" y="2528640"/>
              <a:ext cx="2095920" cy="122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esso 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ecu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6" name=""/>
            <p:cNvCxnSpPr>
              <a:stCxn id="933" idx="5"/>
              <a:endCxn id="935" idx="1"/>
            </p:cNvCxnSpPr>
            <p:nvPr/>
          </p:nvCxnSpPr>
          <p:spPr>
            <a:xfrm>
              <a:off x="5838840" y="2102040"/>
              <a:ext cx="465480" cy="607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7" name=""/>
            <p:cNvSpPr/>
            <p:nvPr/>
          </p:nvSpPr>
          <p:spPr>
            <a:xfrm>
              <a:off x="1954440" y="2528640"/>
              <a:ext cx="2095920" cy="122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esso 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8" name=""/>
            <p:cNvCxnSpPr>
              <a:stCxn id="937" idx="7"/>
              <a:endCxn id="933" idx="3"/>
            </p:cNvCxnSpPr>
            <p:nvPr/>
          </p:nvCxnSpPr>
          <p:spPr>
            <a:xfrm flipV="1">
              <a:off x="3742920" y="2101680"/>
              <a:ext cx="615240" cy="607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9" name=""/>
            <p:cNvCxnSpPr>
              <a:stCxn id="937" idx="6"/>
              <a:endCxn id="935" idx="2"/>
            </p:cNvCxnSpPr>
            <p:nvPr/>
          </p:nvCxnSpPr>
          <p:spPr>
            <a:xfrm>
              <a:off x="4050720" y="3142800"/>
              <a:ext cx="1946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40" name=""/>
            <p:cNvSpPr/>
            <p:nvPr/>
          </p:nvSpPr>
          <p:spPr>
            <a:xfrm>
              <a:off x="4050720" y="4003200"/>
              <a:ext cx="2095920" cy="122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ncerr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1" name=""/>
            <p:cNvCxnSpPr>
              <a:stCxn id="937" idx="5"/>
              <a:endCxn id="940" idx="1"/>
            </p:cNvCxnSpPr>
            <p:nvPr/>
          </p:nvCxnSpPr>
          <p:spPr>
            <a:xfrm>
              <a:off x="3742920" y="3576960"/>
              <a:ext cx="615240" cy="607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Os conhecimentos da área de gestão de projetos são fundamentais para o planejament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31800" y="5537160"/>
            <a:ext cx="7388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MI define cinco processos, conjuntos de atividades de gestão de pro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lano de projeto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751960" cy="58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Planos de gerenciamento de escopo, cronograma, custo, qualidade, recurso, comunicação, risco e terceiriz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com o detalhamento desses planos dado pelas necessidades de cada tipo de projeto em quest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L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ta de questões por resolver e decisões pendentes do planeja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só poderão ser tratadas durante a execução, além de outras documentações complementares ao plano do proj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dicadores de desempe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plano d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e preparar aqui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plano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s genéricas durante a realizaçã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76320" y="909720"/>
            <a:ext cx="8991360" cy="5810040"/>
            <a:chOff x="76320" y="909720"/>
            <a:chExt cx="8991360" cy="5810040"/>
          </a:xfrm>
        </p:grpSpPr>
        <p:sp>
          <p:nvSpPr>
            <p:cNvPr id="1968" name=""/>
            <p:cNvSpPr/>
            <p:nvPr/>
          </p:nvSpPr>
          <p:spPr>
            <a:xfrm>
              <a:off x="1000080" y="644508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549520" y="6081480"/>
              <a:ext cx="609300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14200" y="602784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350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524400" y="5789520"/>
              <a:ext cx="111096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5148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5056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5" name=""/>
            <p:cNvGrpSpPr/>
            <p:nvPr/>
          </p:nvGrpSpPr>
          <p:grpSpPr>
            <a:xfrm>
              <a:off x="76320" y="909720"/>
              <a:ext cx="8991360" cy="3205080"/>
              <a:chOff x="76320" y="909720"/>
              <a:chExt cx="8991360" cy="3205080"/>
            </a:xfrm>
          </p:grpSpPr>
          <p:grpSp>
            <p:nvGrpSpPr>
              <p:cNvPr id="1976" name=""/>
              <p:cNvGrpSpPr/>
              <p:nvPr/>
            </p:nvGrpSpPr>
            <p:grpSpPr>
              <a:xfrm>
                <a:off x="76320" y="1068480"/>
                <a:ext cx="8991360" cy="3046320"/>
                <a:chOff x="76320" y="1068480"/>
                <a:chExt cx="8991360" cy="304632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76320" y="1068480"/>
                  <a:ext cx="8991360" cy="30463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795240" y="2317680"/>
                  <a:ext cx="7291440" cy="133992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9" name=""/>
                <p:cNvGrpSpPr/>
                <p:nvPr/>
              </p:nvGrpSpPr>
              <p:grpSpPr>
                <a:xfrm>
                  <a:off x="2239920" y="1679400"/>
                  <a:ext cx="4146480" cy="298440"/>
                  <a:chOff x="2239920" y="1679400"/>
                  <a:chExt cx="4146480" cy="298440"/>
                </a:xfrm>
              </p:grpSpPr>
              <p:sp>
                <p:nvSpPr>
                  <p:cNvPr id="1980" name=""/>
                  <p:cNvSpPr/>
                  <p:nvPr/>
                </p:nvSpPr>
                <p:spPr>
                  <a:xfrm>
                    <a:off x="2239920" y="1679400"/>
                    <a:ext cx="4146480" cy="29844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3293280" y="169236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2" name=""/>
                <p:cNvGrpSpPr/>
                <p:nvPr/>
              </p:nvGrpSpPr>
              <p:grpSpPr>
                <a:xfrm>
                  <a:off x="962280" y="3490560"/>
                  <a:ext cx="6981480" cy="534600"/>
                  <a:chOff x="962280" y="3490560"/>
                  <a:chExt cx="6981480" cy="534600"/>
                </a:xfrm>
              </p:grpSpPr>
              <p:grpSp>
                <p:nvGrpSpPr>
                  <p:cNvPr id="1983" name=""/>
                  <p:cNvGrpSpPr/>
                  <p:nvPr/>
                </p:nvGrpSpPr>
                <p:grpSpPr>
                  <a:xfrm>
                    <a:off x="2259360" y="3504600"/>
                    <a:ext cx="5684400" cy="520560"/>
                    <a:chOff x="2259360" y="3504600"/>
                    <a:chExt cx="5684400" cy="520560"/>
                  </a:xfrm>
                </p:grpSpPr>
                <p:sp>
                  <p:nvSpPr>
                    <p:cNvPr id="1984" name=""/>
                    <p:cNvSpPr/>
                    <p:nvPr/>
                  </p:nvSpPr>
                  <p:spPr>
                    <a:xfrm>
                      <a:off x="4633560" y="3504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"/>
                    <p:cNvSpPr/>
                    <p:nvPr/>
                  </p:nvSpPr>
                  <p:spPr>
                    <a:xfrm>
                      <a:off x="3557160" y="3504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"/>
                    <p:cNvSpPr/>
                    <p:nvPr/>
                  </p:nvSpPr>
                  <p:spPr>
                    <a:xfrm>
                      <a:off x="2259360" y="3504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"/>
                    <p:cNvSpPr/>
                    <p:nvPr/>
                  </p:nvSpPr>
                  <p:spPr>
                    <a:xfrm>
                      <a:off x="6781680" y="3504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8" name=""/>
                    <p:cNvSpPr/>
                    <p:nvPr/>
                  </p:nvSpPr>
                  <p:spPr>
                    <a:xfrm>
                      <a:off x="5676480" y="3504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9" name=""/>
                  <p:cNvSpPr/>
                  <p:nvPr/>
                </p:nvSpPr>
                <p:spPr>
                  <a:xfrm>
                    <a:off x="962280" y="3490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0" name=""/>
                <p:cNvGrpSpPr/>
                <p:nvPr/>
              </p:nvGrpSpPr>
              <p:grpSpPr>
                <a:xfrm>
                  <a:off x="6364440" y="1681200"/>
                  <a:ext cx="2652480" cy="298440"/>
                  <a:chOff x="6364440" y="1681200"/>
                  <a:chExt cx="2652480" cy="298440"/>
                </a:xfrm>
              </p:grpSpPr>
              <p:sp>
                <p:nvSpPr>
                  <p:cNvPr id="1991" name=""/>
                  <p:cNvSpPr/>
                  <p:nvPr/>
                </p:nvSpPr>
                <p:spPr>
                  <a:xfrm>
                    <a:off x="6364440" y="168120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7431480" y="171792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3" name=""/>
                <p:cNvSpPr/>
                <p:nvPr/>
              </p:nvSpPr>
              <p:spPr>
                <a:xfrm>
                  <a:off x="8223120" y="176544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994" name=""/>
                <p:cNvCxnSpPr>
                  <a:stCxn id="1991" idx="0"/>
                  <a:endCxn id="1995" idx="0"/>
                </p:cNvCxnSpPr>
                <p:nvPr/>
              </p:nvCxnSpPr>
              <p:spPr>
                <a:xfrm rot="5400000">
                  <a:off x="4402440" y="-154548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996" name=""/>
                <p:cNvGrpSpPr/>
                <p:nvPr/>
              </p:nvGrpSpPr>
              <p:grpSpPr>
                <a:xfrm>
                  <a:off x="171360" y="1681200"/>
                  <a:ext cx="2124000" cy="296640"/>
                  <a:chOff x="171360" y="1681200"/>
                  <a:chExt cx="2124000" cy="29664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171360" y="1681200"/>
                    <a:ext cx="2124000" cy="29664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998280" y="171756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8" name=""/>
                <p:cNvSpPr/>
                <p:nvPr/>
              </p:nvSpPr>
              <p:spPr>
                <a:xfrm>
                  <a:off x="185760" y="205092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9" name=""/>
                <p:cNvGrpSpPr/>
                <p:nvPr/>
              </p:nvGrpSpPr>
              <p:grpSpPr>
                <a:xfrm>
                  <a:off x="6164280" y="2031840"/>
                  <a:ext cx="2871720" cy="933480"/>
                  <a:chOff x="6164280" y="2031840"/>
                  <a:chExt cx="2871720" cy="933480"/>
                </a:xfrm>
              </p:grpSpPr>
              <p:sp>
                <p:nvSpPr>
                  <p:cNvPr id="2000" name=""/>
                  <p:cNvSpPr/>
                  <p:nvPr/>
                </p:nvSpPr>
                <p:spPr>
                  <a:xfrm>
                    <a:off x="6164280" y="203184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7421400" y="203184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6249960" y="209556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7535880" y="209556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7694640" y="213516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6348240" y="213516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6" name=""/>
                <p:cNvGrpSpPr/>
                <p:nvPr/>
              </p:nvGrpSpPr>
              <p:grpSpPr>
                <a:xfrm>
                  <a:off x="2413080" y="2018880"/>
                  <a:ext cx="3600000" cy="407880"/>
                  <a:chOff x="2413080" y="2018880"/>
                  <a:chExt cx="3600000" cy="407880"/>
                </a:xfrm>
              </p:grpSpPr>
              <p:sp>
                <p:nvSpPr>
                  <p:cNvPr id="2007" name=""/>
                  <p:cNvSpPr/>
                  <p:nvPr/>
                </p:nvSpPr>
                <p:spPr>
                  <a:xfrm flipV="1">
                    <a:off x="241308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 flipV="1">
                    <a:off x="31334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 flipV="1">
                    <a:off x="385596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 flipV="1">
                    <a:off x="457668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 flipV="1">
                    <a:off x="52988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2" name=""/>
                <p:cNvGrpSpPr/>
                <p:nvPr/>
              </p:nvGrpSpPr>
              <p:grpSpPr>
                <a:xfrm>
                  <a:off x="2565360" y="2171520"/>
                  <a:ext cx="3600000" cy="407880"/>
                  <a:chOff x="2565360" y="2171520"/>
                  <a:chExt cx="3600000" cy="407880"/>
                </a:xfrm>
              </p:grpSpPr>
              <p:sp>
                <p:nvSpPr>
                  <p:cNvPr id="2013" name=""/>
                  <p:cNvSpPr/>
                  <p:nvPr/>
                </p:nvSpPr>
                <p:spPr>
                  <a:xfrm flipV="1">
                    <a:off x="256536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 flipV="1">
                    <a:off x="32857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 flipV="1">
                    <a:off x="400824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 flipV="1">
                    <a:off x="472896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 flipV="1">
                    <a:off x="54511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8" name=""/>
                <p:cNvGrpSpPr/>
                <p:nvPr/>
              </p:nvGrpSpPr>
              <p:grpSpPr>
                <a:xfrm>
                  <a:off x="2717640" y="2323800"/>
                  <a:ext cx="3600720" cy="407880"/>
                  <a:chOff x="2717640" y="2323800"/>
                  <a:chExt cx="3600720" cy="407880"/>
                </a:xfrm>
              </p:grpSpPr>
              <p:sp>
                <p:nvSpPr>
                  <p:cNvPr id="2019" name=""/>
                  <p:cNvSpPr/>
                  <p:nvPr/>
                </p:nvSpPr>
                <p:spPr>
                  <a:xfrm flipV="1">
                    <a:off x="271764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 flipV="1">
                    <a:off x="34383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 flipV="1">
                    <a:off x="416088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 flipV="1">
                    <a:off x="488160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 flipV="1">
                    <a:off x="56037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4" name=""/>
                <p:cNvGrpSpPr/>
                <p:nvPr/>
              </p:nvGrpSpPr>
              <p:grpSpPr>
                <a:xfrm>
                  <a:off x="1565280" y="2060640"/>
                  <a:ext cx="950760" cy="671400"/>
                  <a:chOff x="1565280" y="2060640"/>
                  <a:chExt cx="950760" cy="671400"/>
                </a:xfrm>
              </p:grpSpPr>
              <p:sp>
                <p:nvSpPr>
                  <p:cNvPr id="2025" name=""/>
                  <p:cNvSpPr/>
                  <p:nvPr/>
                </p:nvSpPr>
                <p:spPr>
                  <a:xfrm>
                    <a:off x="1565280" y="206064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1717560" y="221292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1870200" y="236520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8" name=""/>
                <p:cNvGrpSpPr/>
                <p:nvPr/>
              </p:nvGrpSpPr>
              <p:grpSpPr>
                <a:xfrm>
                  <a:off x="279720" y="2674800"/>
                  <a:ext cx="6232320" cy="776520"/>
                  <a:chOff x="279720" y="2674800"/>
                  <a:chExt cx="6232320" cy="776520"/>
                </a:xfrm>
              </p:grpSpPr>
              <p:sp>
                <p:nvSpPr>
                  <p:cNvPr id="2029" name=""/>
                  <p:cNvSpPr/>
                  <p:nvPr/>
                </p:nvSpPr>
                <p:spPr>
                  <a:xfrm>
                    <a:off x="279720" y="312408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30" name=""/>
                  <p:cNvGrpSpPr/>
                  <p:nvPr/>
                </p:nvGrpSpPr>
                <p:grpSpPr>
                  <a:xfrm>
                    <a:off x="3319560" y="2674800"/>
                    <a:ext cx="185760" cy="617400"/>
                    <a:chOff x="3319560" y="2674800"/>
                    <a:chExt cx="185760" cy="617400"/>
                  </a:xfrm>
                </p:grpSpPr>
                <p:sp>
                  <p:nvSpPr>
                    <p:cNvPr id="2031" name=""/>
                    <p:cNvSpPr/>
                    <p:nvPr/>
                  </p:nvSpPr>
                  <p:spPr>
                    <a:xfrm>
                      <a:off x="331956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"/>
                    <p:cNvSpPr/>
                    <p:nvPr/>
                  </p:nvSpPr>
                  <p:spPr>
                    <a:xfrm flipV="1">
                      <a:off x="341172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33" name=""/>
                  <p:cNvSpPr/>
                  <p:nvPr/>
                </p:nvSpPr>
                <p:spPr>
                  <a:xfrm>
                    <a:off x="1208160" y="295128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34" name=""/>
                  <p:cNvGrpSpPr/>
                  <p:nvPr/>
                </p:nvGrpSpPr>
                <p:grpSpPr>
                  <a:xfrm>
                    <a:off x="6219720" y="2849040"/>
                    <a:ext cx="185400" cy="474840"/>
                    <a:chOff x="6219720" y="2849040"/>
                    <a:chExt cx="185400" cy="474840"/>
                  </a:xfrm>
                </p:grpSpPr>
                <p:sp>
                  <p:nvSpPr>
                    <p:cNvPr id="2035" name=""/>
                    <p:cNvSpPr/>
                    <p:nvPr/>
                  </p:nvSpPr>
                  <p:spPr>
                    <a:xfrm>
                      <a:off x="6219720" y="30524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"/>
                    <p:cNvSpPr/>
                    <p:nvPr/>
                  </p:nvSpPr>
                  <p:spPr>
                    <a:xfrm flipV="1">
                      <a:off x="6311520" y="284904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7" name=""/>
                  <p:cNvGrpSpPr/>
                  <p:nvPr/>
                </p:nvGrpSpPr>
                <p:grpSpPr>
                  <a:xfrm>
                    <a:off x="4748040" y="2674800"/>
                    <a:ext cx="185760" cy="617400"/>
                    <a:chOff x="4748040" y="2674800"/>
                    <a:chExt cx="185760" cy="617400"/>
                  </a:xfrm>
                </p:grpSpPr>
                <p:sp>
                  <p:nvSpPr>
                    <p:cNvPr id="2038" name=""/>
                    <p:cNvSpPr/>
                    <p:nvPr/>
                  </p:nvSpPr>
                  <p:spPr>
                    <a:xfrm>
                      <a:off x="474804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"/>
                    <p:cNvSpPr/>
                    <p:nvPr/>
                  </p:nvSpPr>
                  <p:spPr>
                    <a:xfrm flipV="1">
                      <a:off x="484020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0" name=""/>
                  <p:cNvGrpSpPr/>
                  <p:nvPr/>
                </p:nvGrpSpPr>
                <p:grpSpPr>
                  <a:xfrm>
                    <a:off x="5464080" y="2674800"/>
                    <a:ext cx="185760" cy="617400"/>
                    <a:chOff x="5464080" y="2674800"/>
                    <a:chExt cx="185760" cy="617400"/>
                  </a:xfrm>
                </p:grpSpPr>
                <p:sp>
                  <p:nvSpPr>
                    <p:cNvPr id="2041" name=""/>
                    <p:cNvSpPr/>
                    <p:nvPr/>
                  </p:nvSpPr>
                  <p:spPr>
                    <a:xfrm>
                      <a:off x="546408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"/>
                    <p:cNvSpPr/>
                    <p:nvPr/>
                  </p:nvSpPr>
                  <p:spPr>
                    <a:xfrm flipV="1">
                      <a:off x="555624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3" name=""/>
                  <p:cNvGrpSpPr/>
                  <p:nvPr/>
                </p:nvGrpSpPr>
                <p:grpSpPr>
                  <a:xfrm>
                    <a:off x="2422440" y="2706840"/>
                    <a:ext cx="185760" cy="585720"/>
                    <a:chOff x="2422440" y="2706840"/>
                    <a:chExt cx="185760" cy="585720"/>
                  </a:xfrm>
                </p:grpSpPr>
                <p:sp>
                  <p:nvSpPr>
                    <p:cNvPr id="2044" name=""/>
                    <p:cNvSpPr/>
                    <p:nvPr/>
                  </p:nvSpPr>
                  <p:spPr>
                    <a:xfrm flipV="1">
                      <a:off x="25146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"/>
                    <p:cNvSpPr/>
                    <p:nvPr/>
                  </p:nvSpPr>
                  <p:spPr>
                    <a:xfrm>
                      <a:off x="2422440" y="302112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6" name=""/>
                  <p:cNvGrpSpPr/>
                  <p:nvPr/>
                </p:nvGrpSpPr>
                <p:grpSpPr>
                  <a:xfrm>
                    <a:off x="4035600" y="2706840"/>
                    <a:ext cx="185400" cy="585720"/>
                    <a:chOff x="4035600" y="2706840"/>
                    <a:chExt cx="185400" cy="585720"/>
                  </a:xfrm>
                </p:grpSpPr>
                <p:sp>
                  <p:nvSpPr>
                    <p:cNvPr id="2047" name=""/>
                    <p:cNvSpPr/>
                    <p:nvPr/>
                  </p:nvSpPr>
                  <p:spPr>
                    <a:xfrm flipV="1">
                      <a:off x="41274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"/>
                    <p:cNvSpPr/>
                    <p:nvPr/>
                  </p:nvSpPr>
                  <p:spPr>
                    <a:xfrm>
                      <a:off x="4035600" y="302112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9" name=""/>
                  <p:cNvGrpSpPr/>
                  <p:nvPr/>
                </p:nvGrpSpPr>
                <p:grpSpPr>
                  <a:xfrm>
                    <a:off x="3597120" y="2731680"/>
                    <a:ext cx="141480" cy="473400"/>
                    <a:chOff x="3597120" y="2731680"/>
                    <a:chExt cx="141480" cy="473400"/>
                  </a:xfrm>
                </p:grpSpPr>
                <p:sp>
                  <p:nvSpPr>
                    <p:cNvPr id="2050" name=""/>
                    <p:cNvSpPr/>
                    <p:nvPr/>
                  </p:nvSpPr>
                  <p:spPr>
                    <a:xfrm flipV="1">
                      <a:off x="36687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"/>
                    <p:cNvSpPr/>
                    <p:nvPr/>
                  </p:nvSpPr>
                  <p:spPr>
                    <a:xfrm>
                      <a:off x="35971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2" name=""/>
                  <p:cNvGrpSpPr/>
                  <p:nvPr/>
                </p:nvGrpSpPr>
                <p:grpSpPr>
                  <a:xfrm>
                    <a:off x="3784680" y="2731680"/>
                    <a:ext cx="141120" cy="473400"/>
                    <a:chOff x="3784680" y="2731680"/>
                    <a:chExt cx="141120" cy="473400"/>
                  </a:xfrm>
                </p:grpSpPr>
                <p:sp>
                  <p:nvSpPr>
                    <p:cNvPr id="2053" name=""/>
                    <p:cNvSpPr/>
                    <p:nvPr/>
                  </p:nvSpPr>
                  <p:spPr>
                    <a:xfrm flipV="1">
                      <a:off x="38559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"/>
                    <p:cNvSpPr/>
                    <p:nvPr/>
                  </p:nvSpPr>
                  <p:spPr>
                    <a:xfrm>
                      <a:off x="378468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5" name=""/>
                  <p:cNvGrpSpPr/>
                  <p:nvPr/>
                </p:nvGrpSpPr>
                <p:grpSpPr>
                  <a:xfrm>
                    <a:off x="4284720" y="2731680"/>
                    <a:ext cx="141120" cy="473400"/>
                    <a:chOff x="4284720" y="2731680"/>
                    <a:chExt cx="141120" cy="473400"/>
                  </a:xfrm>
                </p:grpSpPr>
                <p:sp>
                  <p:nvSpPr>
                    <p:cNvPr id="2056" name=""/>
                    <p:cNvSpPr/>
                    <p:nvPr/>
                  </p:nvSpPr>
                  <p:spPr>
                    <a:xfrm flipV="1">
                      <a:off x="435600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"/>
                    <p:cNvSpPr/>
                    <p:nvPr/>
                  </p:nvSpPr>
                  <p:spPr>
                    <a:xfrm>
                      <a:off x="428472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8" name=""/>
                  <p:cNvGrpSpPr/>
                  <p:nvPr/>
                </p:nvGrpSpPr>
                <p:grpSpPr>
                  <a:xfrm>
                    <a:off x="4498920" y="2731680"/>
                    <a:ext cx="141480" cy="473400"/>
                    <a:chOff x="4498920" y="2731680"/>
                    <a:chExt cx="141480" cy="473400"/>
                  </a:xfrm>
                </p:grpSpPr>
                <p:sp>
                  <p:nvSpPr>
                    <p:cNvPr id="2059" name=""/>
                    <p:cNvSpPr/>
                    <p:nvPr/>
                  </p:nvSpPr>
                  <p:spPr>
                    <a:xfrm flipV="1">
                      <a:off x="45705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"/>
                    <p:cNvSpPr/>
                    <p:nvPr/>
                  </p:nvSpPr>
                  <p:spPr>
                    <a:xfrm>
                      <a:off x="44989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1" name=""/>
                  <p:cNvGrpSpPr/>
                  <p:nvPr/>
                </p:nvGrpSpPr>
                <p:grpSpPr>
                  <a:xfrm>
                    <a:off x="3051000" y="2731680"/>
                    <a:ext cx="141480" cy="473400"/>
                    <a:chOff x="3051000" y="2731680"/>
                    <a:chExt cx="141480" cy="473400"/>
                  </a:xfrm>
                </p:grpSpPr>
                <p:sp>
                  <p:nvSpPr>
                    <p:cNvPr id="2062" name=""/>
                    <p:cNvSpPr/>
                    <p:nvPr/>
                  </p:nvSpPr>
                  <p:spPr>
                    <a:xfrm flipV="1">
                      <a:off x="312264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"/>
                    <p:cNvSpPr/>
                    <p:nvPr/>
                  </p:nvSpPr>
                  <p:spPr>
                    <a:xfrm>
                      <a:off x="305100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4" name=""/>
                  <p:cNvGrpSpPr/>
                  <p:nvPr/>
                </p:nvGrpSpPr>
                <p:grpSpPr>
                  <a:xfrm>
                    <a:off x="5164200" y="2731680"/>
                    <a:ext cx="141120" cy="473400"/>
                    <a:chOff x="5164200" y="2731680"/>
                    <a:chExt cx="141120" cy="473400"/>
                  </a:xfrm>
                </p:grpSpPr>
                <p:sp>
                  <p:nvSpPr>
                    <p:cNvPr id="2065" name=""/>
                    <p:cNvSpPr/>
                    <p:nvPr/>
                  </p:nvSpPr>
                  <p:spPr>
                    <a:xfrm flipV="1">
                      <a:off x="523548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"/>
                    <p:cNvSpPr/>
                    <p:nvPr/>
                  </p:nvSpPr>
                  <p:spPr>
                    <a:xfrm>
                      <a:off x="516420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67" name=""/>
              <p:cNvSpPr/>
              <p:nvPr/>
            </p:nvSpPr>
            <p:spPr>
              <a:xfrm>
                <a:off x="1500120" y="90972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8" name=""/>
          <p:cNvSpPr/>
          <p:nvPr/>
        </p:nvSpPr>
        <p:spPr>
          <a:xfrm>
            <a:off x="264960" y="4309920"/>
            <a:ext cx="8680680" cy="1395720"/>
          </a:xfrm>
          <a:custGeom>
            <a:avLst/>
            <a:gdLst/>
            <a:ahLst/>
            <a:rect l="l" t="t" r="r" b="b"/>
            <a:pathLst>
              <a:path w="5468" h="1388">
                <a:moveTo>
                  <a:pt x="347" y="0"/>
                </a:moveTo>
                <a:lnTo>
                  <a:pt x="0" y="1388"/>
                </a:lnTo>
                <a:lnTo>
                  <a:pt x="5468" y="1388"/>
                </a:lnTo>
                <a:lnTo>
                  <a:pt x="5022" y="7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314080" y="4195800"/>
            <a:ext cx="2064960" cy="2437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Atividades Gené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0" name=""/>
          <p:cNvGrpSpPr/>
          <p:nvPr/>
        </p:nvGrpSpPr>
        <p:grpSpPr>
          <a:xfrm>
            <a:off x="260280" y="4202280"/>
            <a:ext cx="8612280" cy="1364760"/>
            <a:chOff x="260280" y="4202280"/>
            <a:chExt cx="8612280" cy="1364760"/>
          </a:xfrm>
        </p:grpSpPr>
        <p:sp>
          <p:nvSpPr>
            <p:cNvPr id="2071" name=""/>
            <p:cNvSpPr/>
            <p:nvPr/>
          </p:nvSpPr>
          <p:spPr>
            <a:xfrm>
              <a:off x="4817880" y="4202280"/>
              <a:ext cx="1970280" cy="12697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2" name=""/>
            <p:cNvGrpSpPr/>
            <p:nvPr/>
          </p:nvGrpSpPr>
          <p:grpSpPr>
            <a:xfrm>
              <a:off x="260280" y="4412880"/>
              <a:ext cx="8612280" cy="1154160"/>
              <a:chOff x="260280" y="4412880"/>
              <a:chExt cx="8612280" cy="1154160"/>
            </a:xfrm>
          </p:grpSpPr>
          <p:sp>
            <p:nvSpPr>
              <p:cNvPr id="2073" name=""/>
              <p:cNvSpPr/>
              <p:nvPr/>
            </p:nvSpPr>
            <p:spPr>
              <a:xfrm>
                <a:off x="5060880" y="4412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vali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789520" y="4934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rov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064280" y="4714200"/>
                <a:ext cx="1808280" cy="852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cumentar as decisões tomadas e registrar lições aprendid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6" name=""/>
              <p:cNvCxnSpPr>
                <a:stCxn id="2074" idx="3"/>
                <a:endCxn id="2075" idx="1"/>
              </p:cNvCxnSpPr>
              <p:nvPr/>
            </p:nvCxnSpPr>
            <p:spPr>
              <a:xfrm flipV="1">
                <a:off x="6640560" y="5149080"/>
                <a:ext cx="414720" cy="8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077" name=""/>
              <p:cNvGrpSpPr/>
              <p:nvPr/>
            </p:nvGrpSpPr>
            <p:grpSpPr>
              <a:xfrm>
                <a:off x="3527280" y="4926960"/>
                <a:ext cx="1203480" cy="639720"/>
                <a:chOff x="3527280" y="4926960"/>
                <a:chExt cx="1203480" cy="639720"/>
              </a:xfrm>
            </p:grpSpPr>
            <p:sp>
              <p:nvSpPr>
                <p:cNvPr id="2078" name=""/>
                <p:cNvSpPr/>
                <p:nvPr/>
              </p:nvSpPr>
              <p:spPr>
                <a:xfrm>
                  <a:off x="3527280" y="4926960"/>
                  <a:ext cx="120348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nitorar viabilidade econôm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546440" y="4939920"/>
                  <a:ext cx="17136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2080" name=""/>
              <p:cNvCxnSpPr>
                <a:stCxn id="2073" idx="2"/>
                <a:endCxn id="2074" idx="1"/>
              </p:cNvCxnSpPr>
              <p:nvPr/>
            </p:nvCxnSpPr>
            <p:spPr>
              <a:xfrm flipH="1" rot="16200000">
                <a:off x="5484240" y="4862520"/>
                <a:ext cx="291240" cy="2991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081" name=""/>
              <p:cNvCxnSpPr>
                <a:stCxn id="2078" idx="0"/>
                <a:endCxn id="2073" idx="1"/>
              </p:cNvCxnSpPr>
              <p:nvPr/>
            </p:nvCxnSpPr>
            <p:spPr>
              <a:xfrm flipH="1" flipV="1" rot="5400000">
                <a:off x="4448520" y="4314600"/>
                <a:ext cx="283320" cy="92304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082" name=""/>
              <p:cNvGrpSpPr/>
              <p:nvPr/>
            </p:nvGrpSpPr>
            <p:grpSpPr>
              <a:xfrm>
                <a:off x="260280" y="4926960"/>
                <a:ext cx="1036440" cy="639720"/>
                <a:chOff x="260280" y="4926960"/>
                <a:chExt cx="1036440" cy="639720"/>
              </a:xfrm>
            </p:grpSpPr>
            <p:sp>
              <p:nvSpPr>
                <p:cNvPr id="2083" name=""/>
                <p:cNvSpPr/>
                <p:nvPr/>
              </p:nvSpPr>
              <p:spPr>
                <a:xfrm>
                  <a:off x="260280" y="4926960"/>
                  <a:ext cx="103644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talhar Plano da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1137960" y="4939920"/>
                  <a:ext cx="14724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5" name=""/>
              <p:cNvSpPr/>
              <p:nvPr/>
            </p:nvSpPr>
            <p:spPr>
              <a:xfrm>
                <a:off x="1744560" y="4926960"/>
                <a:ext cx="1333440" cy="639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ividades Especificas da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86" name=""/>
              <p:cNvCxnSpPr>
                <a:stCxn id="2083" idx="3"/>
                <a:endCxn id="2085" idx="1"/>
              </p:cNvCxnSpPr>
              <p:nvPr/>
            </p:nvCxnSpPr>
            <p:spPr>
              <a:xfrm>
                <a:off x="1306440" y="5255280"/>
                <a:ext cx="4291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087" name=""/>
              <p:cNvCxnSpPr>
                <a:stCxn id="2085" idx="3"/>
                <a:endCxn id="2078" idx="1"/>
              </p:cNvCxnSpPr>
              <p:nvPr/>
            </p:nvCxnSpPr>
            <p:spPr>
              <a:xfrm>
                <a:off x="3087360" y="5255280"/>
                <a:ext cx="4309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088" name=""/>
            <p:cNvSpPr/>
            <p:nvPr/>
          </p:nvSpPr>
          <p:spPr>
            <a:xfrm>
              <a:off x="6068880" y="4265280"/>
              <a:ext cx="1104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visão de Fase “gate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964120" y="4544640"/>
              <a:ext cx="185760" cy="271440"/>
            </a:xfrm>
            <a:prstGeom prst="flowChartDecis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2896200" y="3286440"/>
            <a:ext cx="4816440" cy="3317040"/>
            <a:chOff x="2896200" y="3286440"/>
            <a:chExt cx="4816440" cy="3317040"/>
          </a:xfrm>
        </p:grpSpPr>
        <p:grpSp>
          <p:nvGrpSpPr>
            <p:cNvPr id="2091" name=""/>
            <p:cNvGrpSpPr/>
            <p:nvPr/>
          </p:nvGrpSpPr>
          <p:grpSpPr>
            <a:xfrm>
              <a:off x="4211280" y="3286440"/>
              <a:ext cx="3501360" cy="3317040"/>
              <a:chOff x="4211280" y="3286440"/>
              <a:chExt cx="3501360" cy="3317040"/>
            </a:xfrm>
          </p:grpSpPr>
          <p:grpSp>
            <p:nvGrpSpPr>
              <p:cNvPr id="2092" name=""/>
              <p:cNvGrpSpPr/>
              <p:nvPr/>
            </p:nvGrpSpPr>
            <p:grpSpPr>
              <a:xfrm>
                <a:off x="4211640" y="3359160"/>
                <a:ext cx="3447000" cy="3038400"/>
                <a:chOff x="4211640" y="3359160"/>
                <a:chExt cx="3447000" cy="3038400"/>
              </a:xfrm>
            </p:grpSpPr>
            <p:grpSp>
              <p:nvGrpSpPr>
                <p:cNvPr id="2093" name=""/>
                <p:cNvGrpSpPr/>
                <p:nvPr/>
              </p:nvGrpSpPr>
              <p:grpSpPr>
                <a:xfrm>
                  <a:off x="4211640" y="3359160"/>
                  <a:ext cx="3447000" cy="3038400"/>
                  <a:chOff x="4211640" y="3359160"/>
                  <a:chExt cx="3447000" cy="3038400"/>
                </a:xfrm>
              </p:grpSpPr>
              <p:sp>
                <p:nvSpPr>
                  <p:cNvPr id="2094" name=""/>
                  <p:cNvSpPr/>
                  <p:nvPr/>
                </p:nvSpPr>
                <p:spPr>
                  <a:xfrm rot="8370000">
                    <a:off x="5275080" y="4532040"/>
                    <a:ext cx="2229480" cy="12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 rot="8370000">
                    <a:off x="4433760" y="3966480"/>
                    <a:ext cx="2458800" cy="159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6" name=""/>
                <p:cNvGrpSpPr/>
                <p:nvPr/>
              </p:nvGrpSpPr>
              <p:grpSpPr>
                <a:xfrm>
                  <a:off x="4585320" y="3429720"/>
                  <a:ext cx="2757240" cy="2862000"/>
                  <a:chOff x="4585320" y="3429720"/>
                  <a:chExt cx="2757240" cy="2862000"/>
                </a:xfrm>
              </p:grpSpPr>
              <p:sp>
                <p:nvSpPr>
                  <p:cNvPr id="2097" name=""/>
                  <p:cNvSpPr/>
                  <p:nvPr/>
                </p:nvSpPr>
                <p:spPr>
                  <a:xfrm rot="8370000">
                    <a:off x="5757120" y="3573720"/>
                    <a:ext cx="637560" cy="52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 rot="8370000">
                    <a:off x="4893480" y="5187600"/>
                    <a:ext cx="229320" cy="10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 rot="8370000">
                    <a:off x="5830200" y="5722200"/>
                    <a:ext cx="90648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 rot="8370000">
                    <a:off x="6850080" y="4051440"/>
                    <a:ext cx="289080" cy="73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01" name=""/>
              <p:cNvSpPr/>
              <p:nvPr/>
            </p:nvSpPr>
            <p:spPr>
              <a:xfrm rot="8370000">
                <a:off x="4582800" y="3868920"/>
                <a:ext cx="2566080" cy="2091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2" name=""/>
              <p:cNvGrpSpPr/>
              <p:nvPr/>
            </p:nvGrpSpPr>
            <p:grpSpPr>
              <a:xfrm>
                <a:off x="4403880" y="3347280"/>
                <a:ext cx="3308760" cy="3256200"/>
                <a:chOff x="4403880" y="3347280"/>
                <a:chExt cx="3308760" cy="3256200"/>
              </a:xfrm>
            </p:grpSpPr>
            <p:sp>
              <p:nvSpPr>
                <p:cNvPr id="2103" name=""/>
                <p:cNvSpPr/>
                <p:nvPr/>
              </p:nvSpPr>
              <p:spPr>
                <a:xfrm rot="8370000">
                  <a:off x="4804200" y="3951720"/>
                  <a:ext cx="2505600" cy="204120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8370000">
                  <a:off x="4775400" y="3929400"/>
                  <a:ext cx="2565000" cy="209160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8370000">
                  <a:off x="4845960" y="3984120"/>
                  <a:ext cx="2422800" cy="1980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06" name=""/>
            <p:cNvGrpSpPr/>
            <p:nvPr/>
          </p:nvGrpSpPr>
          <p:grpSpPr>
            <a:xfrm>
              <a:off x="2896200" y="3407760"/>
              <a:ext cx="2136600" cy="1977840"/>
              <a:chOff x="2896200" y="3407760"/>
              <a:chExt cx="2136600" cy="1977840"/>
            </a:xfrm>
          </p:grpSpPr>
          <p:sp>
            <p:nvSpPr>
              <p:cNvPr id="2107" name=""/>
              <p:cNvSpPr/>
              <p:nvPr/>
            </p:nvSpPr>
            <p:spPr>
              <a:xfrm rot="8370000">
                <a:off x="3366360" y="3631680"/>
                <a:ext cx="1254240" cy="152964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8370000">
                <a:off x="4588200" y="4487400"/>
                <a:ext cx="387000" cy="309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8370000">
                <a:off x="4554360" y="4452840"/>
                <a:ext cx="391680" cy="33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rot="8370000">
                <a:off x="4681800" y="4346640"/>
                <a:ext cx="237960" cy="39132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8370000">
                <a:off x="4591800" y="4487400"/>
                <a:ext cx="386280" cy="30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rot="8370000">
                <a:off x="4344120" y="4415040"/>
                <a:ext cx="387360" cy="30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3" name=""/>
              <p:cNvGrpSpPr/>
              <p:nvPr/>
            </p:nvGrpSpPr>
            <p:grpSpPr>
              <a:xfrm>
                <a:off x="4221720" y="4300560"/>
                <a:ext cx="534600" cy="499320"/>
                <a:chOff x="4221720" y="4300560"/>
                <a:chExt cx="534600" cy="499320"/>
              </a:xfrm>
            </p:grpSpPr>
            <p:grpSp>
              <p:nvGrpSpPr>
                <p:cNvPr id="2114" name=""/>
                <p:cNvGrpSpPr/>
                <p:nvPr/>
              </p:nvGrpSpPr>
              <p:grpSpPr>
                <a:xfrm>
                  <a:off x="4259160" y="4311720"/>
                  <a:ext cx="497160" cy="488160"/>
                  <a:chOff x="4259160" y="4311720"/>
                  <a:chExt cx="497160" cy="488160"/>
                </a:xfrm>
              </p:grpSpPr>
              <p:sp>
                <p:nvSpPr>
                  <p:cNvPr id="2115" name=""/>
                  <p:cNvSpPr/>
                  <p:nvPr/>
                </p:nvSpPr>
                <p:spPr>
                  <a:xfrm rot="8370000">
                    <a:off x="4314960" y="4401000"/>
                    <a:ext cx="3873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 rot="8370000">
                    <a:off x="4312440" y="4401000"/>
                    <a:ext cx="38988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 rot="8370000">
                    <a:off x="4313520" y="4402440"/>
                    <a:ext cx="3873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8" name=""/>
                <p:cNvSpPr/>
                <p:nvPr/>
              </p:nvSpPr>
              <p:spPr>
                <a:xfrm rot="8370000">
                  <a:off x="4275000" y="4389840"/>
                  <a:ext cx="388440" cy="30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9" name=""/>
              <p:cNvGrpSpPr/>
              <p:nvPr/>
            </p:nvGrpSpPr>
            <p:grpSpPr>
              <a:xfrm>
                <a:off x="4151160" y="4275720"/>
                <a:ext cx="534600" cy="500040"/>
                <a:chOff x="4151160" y="4275720"/>
                <a:chExt cx="534600" cy="500040"/>
              </a:xfrm>
            </p:grpSpPr>
            <p:grpSp>
              <p:nvGrpSpPr>
                <p:cNvPr id="2120" name=""/>
                <p:cNvGrpSpPr/>
                <p:nvPr/>
              </p:nvGrpSpPr>
              <p:grpSpPr>
                <a:xfrm>
                  <a:off x="4188600" y="4287600"/>
                  <a:ext cx="497160" cy="488160"/>
                  <a:chOff x="4188600" y="4287600"/>
                  <a:chExt cx="497160" cy="488160"/>
                </a:xfrm>
              </p:grpSpPr>
              <p:sp>
                <p:nvSpPr>
                  <p:cNvPr id="2121" name=""/>
                  <p:cNvSpPr/>
                  <p:nvPr/>
                </p:nvSpPr>
                <p:spPr>
                  <a:xfrm rot="8370000">
                    <a:off x="4242960" y="4376520"/>
                    <a:ext cx="38880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 rot="8370000">
                    <a:off x="4241880" y="4376880"/>
                    <a:ext cx="38988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 rot="8370000">
                    <a:off x="4243680" y="4377600"/>
                    <a:ext cx="38664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4" name=""/>
                <p:cNvSpPr/>
                <p:nvPr/>
              </p:nvSpPr>
              <p:spPr>
                <a:xfrm rot="8370000">
                  <a:off x="4205160" y="4364280"/>
                  <a:ext cx="387720" cy="309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5" name=""/>
              <p:cNvGrpSpPr/>
              <p:nvPr/>
            </p:nvGrpSpPr>
            <p:grpSpPr>
              <a:xfrm>
                <a:off x="4117320" y="4267080"/>
                <a:ext cx="498960" cy="489960"/>
                <a:chOff x="4117320" y="4267080"/>
                <a:chExt cx="498960" cy="489960"/>
              </a:xfrm>
            </p:grpSpPr>
            <p:sp>
              <p:nvSpPr>
                <p:cNvPr id="2126" name=""/>
                <p:cNvSpPr/>
                <p:nvPr/>
              </p:nvSpPr>
              <p:spPr>
                <a:xfrm rot="8370000">
                  <a:off x="4173480" y="4356720"/>
                  <a:ext cx="388440" cy="30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rot="8370000">
                  <a:off x="4170960" y="4357080"/>
                  <a:ext cx="391320" cy="309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8" name=""/>
              <p:cNvGrpSpPr/>
              <p:nvPr/>
            </p:nvGrpSpPr>
            <p:grpSpPr>
              <a:xfrm>
                <a:off x="4080960" y="4256280"/>
                <a:ext cx="533160" cy="500760"/>
                <a:chOff x="4080960" y="4256280"/>
                <a:chExt cx="533160" cy="500760"/>
              </a:xfrm>
            </p:grpSpPr>
            <p:sp>
              <p:nvSpPr>
                <p:cNvPr id="2129" name=""/>
                <p:cNvSpPr/>
                <p:nvPr/>
              </p:nvSpPr>
              <p:spPr>
                <a:xfrm rot="8370000">
                  <a:off x="4170960" y="4358880"/>
                  <a:ext cx="389520" cy="30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rot="8370000">
                  <a:off x="4134600" y="4345560"/>
                  <a:ext cx="388800" cy="30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"/>
              <p:cNvGrpSpPr/>
              <p:nvPr/>
            </p:nvGrpSpPr>
            <p:grpSpPr>
              <a:xfrm>
                <a:off x="3120840" y="3981600"/>
                <a:ext cx="1769400" cy="823320"/>
                <a:chOff x="3120840" y="3981600"/>
                <a:chExt cx="1769400" cy="823320"/>
              </a:xfrm>
            </p:grpSpPr>
            <p:sp>
              <p:nvSpPr>
                <p:cNvPr id="2132" name=""/>
                <p:cNvSpPr/>
                <p:nvPr/>
              </p:nvSpPr>
              <p:spPr>
                <a:xfrm flipH="1" flipV="1">
                  <a:off x="3120840" y="4345560"/>
                  <a:ext cx="1563840" cy="45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H="1" flipV="1">
                  <a:off x="3285360" y="3981600"/>
                  <a:ext cx="1604880" cy="503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4" name=""/>
              <p:cNvGrpSpPr/>
              <p:nvPr/>
            </p:nvGrpSpPr>
            <p:grpSpPr>
              <a:xfrm>
                <a:off x="4017240" y="4239360"/>
                <a:ext cx="528840" cy="496440"/>
                <a:chOff x="4017240" y="4239360"/>
                <a:chExt cx="528840" cy="496440"/>
              </a:xfrm>
            </p:grpSpPr>
            <p:grpSp>
              <p:nvGrpSpPr>
                <p:cNvPr id="2135" name=""/>
                <p:cNvGrpSpPr/>
                <p:nvPr/>
              </p:nvGrpSpPr>
              <p:grpSpPr>
                <a:xfrm>
                  <a:off x="4049280" y="4248000"/>
                  <a:ext cx="496800" cy="487800"/>
                  <a:chOff x="4049280" y="4248000"/>
                  <a:chExt cx="496800" cy="487800"/>
                </a:xfrm>
              </p:grpSpPr>
              <p:sp>
                <p:nvSpPr>
                  <p:cNvPr id="2136" name=""/>
                  <p:cNvSpPr/>
                  <p:nvPr/>
                </p:nvSpPr>
                <p:spPr>
                  <a:xfrm rot="8370000">
                    <a:off x="4104720" y="4337640"/>
                    <a:ext cx="3877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 rot="8370000">
                    <a:off x="4102560" y="4337640"/>
                    <a:ext cx="38988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8" name=""/>
                <p:cNvSpPr/>
                <p:nvPr/>
              </p:nvSpPr>
              <p:spPr>
                <a:xfrm rot="8370000">
                  <a:off x="4102200" y="4338000"/>
                  <a:ext cx="388440" cy="30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rot="8370000">
                  <a:off x="4070880" y="4328280"/>
                  <a:ext cx="387720" cy="30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0" name=""/>
              <p:cNvSpPr/>
              <p:nvPr/>
            </p:nvSpPr>
            <p:spPr>
              <a:xfrm rot="8370000">
                <a:off x="3466440" y="3718440"/>
                <a:ext cx="773280" cy="113040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rot="8370000">
                <a:off x="2958120" y="3977640"/>
                <a:ext cx="422280" cy="34632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genérica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: avaliar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143" name=""/>
          <p:cNvGrpSpPr/>
          <p:nvPr/>
        </p:nvGrpSpPr>
        <p:grpSpPr>
          <a:xfrm>
            <a:off x="176040" y="976320"/>
            <a:ext cx="8872560" cy="5737320"/>
            <a:chOff x="176040" y="976320"/>
            <a:chExt cx="8872560" cy="5737320"/>
          </a:xfrm>
        </p:grpSpPr>
        <p:sp>
          <p:nvSpPr>
            <p:cNvPr id="2144" name=""/>
            <p:cNvSpPr/>
            <p:nvPr/>
          </p:nvSpPr>
          <p:spPr>
            <a:xfrm>
              <a:off x="3610080" y="2041560"/>
              <a:ext cx="3360600" cy="569880"/>
            </a:xfrm>
            <a:custGeom>
              <a:avLst/>
              <a:gdLst/>
              <a:ahLst/>
              <a:rect l="l" t="t" r="r" b="b"/>
              <a:pathLst>
                <a:path w="2117" h="359">
                  <a:moveTo>
                    <a:pt x="1047" y="15"/>
                  </a:moveTo>
                  <a:lnTo>
                    <a:pt x="0" y="359"/>
                  </a:lnTo>
                  <a:lnTo>
                    <a:pt x="2117" y="359"/>
                  </a:lnTo>
                  <a:lnTo>
                    <a:pt x="1496" y="0"/>
                  </a:lnTo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722600" y="3454560"/>
              <a:ext cx="1946160" cy="439920"/>
            </a:xfrm>
            <a:custGeom>
              <a:avLst/>
              <a:gdLst/>
              <a:ahLst/>
              <a:rect l="l" t="t" r="r" b="b"/>
              <a:pathLst>
                <a:path w="1226" h="277">
                  <a:moveTo>
                    <a:pt x="1174" y="0"/>
                  </a:moveTo>
                  <a:lnTo>
                    <a:pt x="1226" y="277"/>
                  </a:lnTo>
                  <a:lnTo>
                    <a:pt x="0" y="277"/>
                  </a:lnTo>
                  <a:lnTo>
                    <a:pt x="1174" y="0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261040" y="3465720"/>
              <a:ext cx="3360600" cy="428760"/>
            </a:xfrm>
            <a:custGeom>
              <a:avLst/>
              <a:gdLst/>
              <a:ahLst/>
              <a:rect l="l" t="t" r="r" b="b"/>
              <a:pathLst>
                <a:path w="2117" h="270">
                  <a:moveTo>
                    <a:pt x="1055" y="0"/>
                  </a:moveTo>
                  <a:lnTo>
                    <a:pt x="0" y="255"/>
                  </a:lnTo>
                  <a:lnTo>
                    <a:pt x="2117" y="270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246720" y="4535640"/>
              <a:ext cx="2801880" cy="2173320"/>
            </a:xfrm>
            <a:custGeom>
              <a:avLst/>
              <a:gdLst/>
              <a:ahLst/>
              <a:rect l="l" t="t" r="r" b="b"/>
              <a:pathLst>
                <a:path w="1765" h="1369">
                  <a:moveTo>
                    <a:pt x="0" y="30"/>
                  </a:moveTo>
                  <a:lnTo>
                    <a:pt x="0" y="1369"/>
                  </a:lnTo>
                  <a:lnTo>
                    <a:pt x="1765" y="1369"/>
                  </a:lnTo>
                  <a:lnTo>
                    <a:pt x="1765" y="224"/>
                  </a:lnTo>
                  <a:lnTo>
                    <a:pt x="1488" y="0"/>
                  </a:lnTo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456000" y="4559400"/>
              <a:ext cx="2790720" cy="2149560"/>
            </a:xfrm>
            <a:custGeom>
              <a:avLst/>
              <a:gdLst/>
              <a:ahLst/>
              <a:rect l="l" t="t" r="r" b="b"/>
              <a:pathLst>
                <a:path w="1758" h="1354">
                  <a:moveTo>
                    <a:pt x="1758" y="15"/>
                  </a:moveTo>
                  <a:lnTo>
                    <a:pt x="1758" y="1354"/>
                  </a:lnTo>
                  <a:lnTo>
                    <a:pt x="0" y="1354"/>
                  </a:lnTo>
                  <a:lnTo>
                    <a:pt x="0" y="456"/>
                  </a:lnTo>
                  <a:lnTo>
                    <a:pt x="1152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9" name=""/>
            <p:cNvGrpSpPr/>
            <p:nvPr/>
          </p:nvGrpSpPr>
          <p:grpSpPr>
            <a:xfrm>
              <a:off x="4292640" y="1459080"/>
              <a:ext cx="2916360" cy="627120"/>
              <a:chOff x="4292640" y="1459080"/>
              <a:chExt cx="2916360" cy="627120"/>
            </a:xfrm>
          </p:grpSpPr>
          <p:sp>
            <p:nvSpPr>
              <p:cNvPr id="2150" name=""/>
              <p:cNvSpPr/>
              <p:nvPr/>
            </p:nvSpPr>
            <p:spPr>
              <a:xfrm>
                <a:off x="6042240" y="1459080"/>
                <a:ext cx="1166760" cy="62712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167440" y="1459080"/>
                <a:ext cx="1166760" cy="62712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4292640" y="1459080"/>
                <a:ext cx="1166760" cy="62712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4309560" y="1149480"/>
              <a:ext cx="283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jeto do produto 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4" name=""/>
            <p:cNvGrpSpPr/>
            <p:nvPr/>
          </p:nvGrpSpPr>
          <p:grpSpPr>
            <a:xfrm>
              <a:off x="3449160" y="2590920"/>
              <a:ext cx="3722760" cy="1239480"/>
              <a:chOff x="3449160" y="2590920"/>
              <a:chExt cx="3722760" cy="1239480"/>
            </a:xfrm>
          </p:grpSpPr>
          <p:grpSp>
            <p:nvGrpSpPr>
              <p:cNvPr id="2155" name=""/>
              <p:cNvGrpSpPr/>
              <p:nvPr/>
            </p:nvGrpSpPr>
            <p:grpSpPr>
              <a:xfrm>
                <a:off x="6816960" y="2977920"/>
                <a:ext cx="245160" cy="852480"/>
                <a:chOff x="6816960" y="2977920"/>
                <a:chExt cx="245160" cy="852480"/>
              </a:xfrm>
            </p:grpSpPr>
            <p:sp>
              <p:nvSpPr>
                <p:cNvPr id="2156" name=""/>
                <p:cNvSpPr/>
                <p:nvPr/>
              </p:nvSpPr>
              <p:spPr>
                <a:xfrm>
                  <a:off x="6939000" y="2977920"/>
                  <a:ext cx="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rot="2700000">
                  <a:off x="6843960" y="3274560"/>
                  <a:ext cx="190800" cy="1558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8" name=""/>
              <p:cNvSpPr/>
              <p:nvPr/>
            </p:nvSpPr>
            <p:spPr>
              <a:xfrm>
                <a:off x="3569040" y="2590920"/>
                <a:ext cx="3602880" cy="387000"/>
              </a:xfrm>
              <a:custGeom>
                <a:avLst/>
                <a:gdLst>
                  <a:gd name="textAreaLeft" fmla="*/ 0 w 3602880"/>
                  <a:gd name="textAreaRight" fmla="*/ 3603240 w 3602880"/>
                  <a:gd name="textAreaTop" fmla="*/ 0 h 387000"/>
                  <a:gd name="textAreaBottom" fmla="*/ 387360 h 38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82" y="0"/>
                    </a:lnTo>
                    <a:lnTo>
                      <a:pt x="21600" y="10800"/>
                    </a:lnTo>
                    <a:lnTo>
                      <a:pt x="20582" y="21600"/>
                    </a:lnTo>
                    <a:lnTo>
                      <a:pt x="0" y="21600"/>
                    </a:lnTo>
                    <a:lnTo>
                      <a:pt x="1018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9" name=""/>
              <p:cNvGrpSpPr/>
              <p:nvPr/>
            </p:nvGrpSpPr>
            <p:grpSpPr>
              <a:xfrm>
                <a:off x="3449160" y="2972520"/>
                <a:ext cx="245160" cy="852480"/>
                <a:chOff x="3449160" y="2972520"/>
                <a:chExt cx="245160" cy="852480"/>
              </a:xfrm>
            </p:grpSpPr>
            <p:sp>
              <p:nvSpPr>
                <p:cNvPr id="2160" name=""/>
                <p:cNvSpPr/>
                <p:nvPr/>
              </p:nvSpPr>
              <p:spPr>
                <a:xfrm>
                  <a:off x="3571200" y="2972520"/>
                  <a:ext cx="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rot="2700000">
                  <a:off x="3476160" y="3269160"/>
                  <a:ext cx="190800" cy="1558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2" name=""/>
            <p:cNvSpPr/>
            <p:nvPr/>
          </p:nvSpPr>
          <p:spPr>
            <a:xfrm>
              <a:off x="2152800" y="3846600"/>
              <a:ext cx="1533240" cy="730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finição de critérios para próximo 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155000" y="3846600"/>
              <a:ext cx="1533240" cy="730440"/>
            </a:xfrm>
            <a:prstGeom prst="rect">
              <a:avLst/>
            </a:prstGeom>
            <a:solidFill>
              <a:srgbClr val="ffccff"/>
            </a:solidFill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finição de critérios para próximo 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248520" y="3843360"/>
              <a:ext cx="904680" cy="736920"/>
            </a:xfrm>
            <a:prstGeom prst="rect">
              <a:avLst/>
            </a:pr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prov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213520" y="3843360"/>
              <a:ext cx="1035000" cy="7369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o-avaliaçã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962520" y="3651480"/>
              <a:ext cx="943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itér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7" name=""/>
            <p:cNvGrpSpPr/>
            <p:nvPr/>
          </p:nvGrpSpPr>
          <p:grpSpPr>
            <a:xfrm>
              <a:off x="7039080" y="4689720"/>
              <a:ext cx="1371240" cy="686880"/>
              <a:chOff x="7039080" y="4689720"/>
              <a:chExt cx="1371240" cy="686880"/>
            </a:xfrm>
          </p:grpSpPr>
          <p:grpSp>
            <p:nvGrpSpPr>
              <p:cNvPr id="2168" name=""/>
              <p:cNvGrpSpPr/>
              <p:nvPr/>
            </p:nvGrpSpPr>
            <p:grpSpPr>
              <a:xfrm>
                <a:off x="7039080" y="4689720"/>
                <a:ext cx="1371240" cy="686880"/>
                <a:chOff x="7039080" y="4689720"/>
                <a:chExt cx="1371240" cy="686880"/>
              </a:xfrm>
            </p:grpSpPr>
            <p:sp>
              <p:nvSpPr>
                <p:cNvPr id="2169" name=""/>
                <p:cNvSpPr/>
                <p:nvPr/>
              </p:nvSpPr>
              <p:spPr>
                <a:xfrm>
                  <a:off x="7349760" y="4880160"/>
                  <a:ext cx="293760" cy="291600"/>
                </a:xfrm>
                <a:custGeom>
                  <a:avLst/>
                  <a:gdLst/>
                  <a:ahLst/>
                  <a:rect l="l" t="t" r="r" b="b"/>
                  <a:pathLst>
                    <a:path w="3542" h="2755">
                      <a:moveTo>
                        <a:pt x="3542" y="2755"/>
                      </a:moveTo>
                      <a:lnTo>
                        <a:pt x="3452" y="2648"/>
                      </a:lnTo>
                      <a:lnTo>
                        <a:pt x="3415" y="2476"/>
                      </a:lnTo>
                      <a:lnTo>
                        <a:pt x="3307" y="2404"/>
                      </a:lnTo>
                      <a:lnTo>
                        <a:pt x="3290" y="2296"/>
                      </a:lnTo>
                      <a:lnTo>
                        <a:pt x="3355" y="2222"/>
                      </a:lnTo>
                      <a:lnTo>
                        <a:pt x="3355" y="2141"/>
                      </a:lnTo>
                      <a:lnTo>
                        <a:pt x="3314" y="2052"/>
                      </a:lnTo>
                      <a:lnTo>
                        <a:pt x="3248" y="1954"/>
                      </a:lnTo>
                      <a:lnTo>
                        <a:pt x="3248" y="1791"/>
                      </a:lnTo>
                      <a:lnTo>
                        <a:pt x="3307" y="1724"/>
                      </a:lnTo>
                      <a:lnTo>
                        <a:pt x="3299" y="1652"/>
                      </a:lnTo>
                      <a:lnTo>
                        <a:pt x="3233" y="1604"/>
                      </a:lnTo>
                      <a:lnTo>
                        <a:pt x="3200" y="1503"/>
                      </a:lnTo>
                      <a:lnTo>
                        <a:pt x="3209" y="1417"/>
                      </a:lnTo>
                      <a:lnTo>
                        <a:pt x="3191" y="1286"/>
                      </a:lnTo>
                      <a:lnTo>
                        <a:pt x="3166" y="1114"/>
                      </a:lnTo>
                      <a:lnTo>
                        <a:pt x="3166" y="910"/>
                      </a:lnTo>
                      <a:lnTo>
                        <a:pt x="3166" y="754"/>
                      </a:lnTo>
                      <a:lnTo>
                        <a:pt x="3161" y="592"/>
                      </a:lnTo>
                      <a:lnTo>
                        <a:pt x="3125" y="451"/>
                      </a:lnTo>
                      <a:lnTo>
                        <a:pt x="3092" y="360"/>
                      </a:lnTo>
                      <a:lnTo>
                        <a:pt x="2712" y="171"/>
                      </a:lnTo>
                      <a:lnTo>
                        <a:pt x="2492" y="110"/>
                      </a:lnTo>
                      <a:lnTo>
                        <a:pt x="2279" y="68"/>
                      </a:lnTo>
                      <a:lnTo>
                        <a:pt x="2044" y="0"/>
                      </a:lnTo>
                      <a:lnTo>
                        <a:pt x="890" y="27"/>
                      </a:lnTo>
                      <a:lnTo>
                        <a:pt x="556" y="85"/>
                      </a:lnTo>
                      <a:lnTo>
                        <a:pt x="222" y="205"/>
                      </a:lnTo>
                      <a:lnTo>
                        <a:pt x="123" y="264"/>
                      </a:lnTo>
                      <a:lnTo>
                        <a:pt x="40" y="461"/>
                      </a:lnTo>
                      <a:lnTo>
                        <a:pt x="40" y="1145"/>
                      </a:lnTo>
                      <a:lnTo>
                        <a:pt x="0" y="1235"/>
                      </a:lnTo>
                      <a:lnTo>
                        <a:pt x="540" y="2755"/>
                      </a:lnTo>
                      <a:lnTo>
                        <a:pt x="3542" y="275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7363080" y="4887000"/>
                  <a:ext cx="133200" cy="144720"/>
                </a:xfrm>
                <a:custGeom>
                  <a:avLst/>
                  <a:gdLst/>
                  <a:ahLst/>
                  <a:rect l="l" t="t" r="r" b="b"/>
                  <a:pathLst>
                    <a:path w="1609" h="1365">
                      <a:moveTo>
                        <a:pt x="1609" y="1365"/>
                      </a:moveTo>
                      <a:lnTo>
                        <a:pt x="1148" y="499"/>
                      </a:lnTo>
                      <a:lnTo>
                        <a:pt x="1019" y="323"/>
                      </a:lnTo>
                      <a:lnTo>
                        <a:pt x="763" y="187"/>
                      </a:lnTo>
                      <a:lnTo>
                        <a:pt x="493" y="121"/>
                      </a:lnTo>
                      <a:lnTo>
                        <a:pt x="279" y="130"/>
                      </a:lnTo>
                      <a:lnTo>
                        <a:pt x="0" y="169"/>
                      </a:lnTo>
                      <a:lnTo>
                        <a:pt x="67" y="121"/>
                      </a:lnTo>
                      <a:lnTo>
                        <a:pt x="353" y="31"/>
                      </a:lnTo>
                      <a:lnTo>
                        <a:pt x="650" y="0"/>
                      </a:lnTo>
                      <a:lnTo>
                        <a:pt x="862" y="31"/>
                      </a:lnTo>
                      <a:lnTo>
                        <a:pt x="1102" y="255"/>
                      </a:lnTo>
                      <a:lnTo>
                        <a:pt x="1264" y="547"/>
                      </a:lnTo>
                      <a:lnTo>
                        <a:pt x="1346" y="767"/>
                      </a:lnTo>
                      <a:lnTo>
                        <a:pt x="1609" y="1365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7351920" y="4925880"/>
                  <a:ext cx="68400" cy="140400"/>
                </a:xfrm>
                <a:custGeom>
                  <a:avLst/>
                  <a:gdLst/>
                  <a:ahLst/>
                  <a:rect l="l" t="t" r="r" b="b"/>
                  <a:pathLst>
                    <a:path w="829" h="1330">
                      <a:moveTo>
                        <a:pt x="548" y="586"/>
                      </a:moveTo>
                      <a:lnTo>
                        <a:pt x="484" y="464"/>
                      </a:lnTo>
                      <a:lnTo>
                        <a:pt x="394" y="360"/>
                      </a:lnTo>
                      <a:lnTo>
                        <a:pt x="304" y="286"/>
                      </a:lnTo>
                      <a:lnTo>
                        <a:pt x="205" y="235"/>
                      </a:lnTo>
                      <a:lnTo>
                        <a:pt x="156" y="226"/>
                      </a:lnTo>
                      <a:lnTo>
                        <a:pt x="221" y="374"/>
                      </a:lnTo>
                      <a:lnTo>
                        <a:pt x="359" y="554"/>
                      </a:lnTo>
                      <a:lnTo>
                        <a:pt x="516" y="694"/>
                      </a:lnTo>
                      <a:lnTo>
                        <a:pt x="714" y="835"/>
                      </a:lnTo>
                      <a:lnTo>
                        <a:pt x="745" y="851"/>
                      </a:lnTo>
                      <a:lnTo>
                        <a:pt x="829" y="1100"/>
                      </a:lnTo>
                      <a:lnTo>
                        <a:pt x="756" y="1158"/>
                      </a:lnTo>
                      <a:lnTo>
                        <a:pt x="809" y="1330"/>
                      </a:lnTo>
                      <a:lnTo>
                        <a:pt x="631" y="1305"/>
                      </a:lnTo>
                      <a:lnTo>
                        <a:pt x="703" y="1275"/>
                      </a:lnTo>
                      <a:lnTo>
                        <a:pt x="590" y="1127"/>
                      </a:lnTo>
                      <a:lnTo>
                        <a:pt x="304" y="1013"/>
                      </a:lnTo>
                      <a:lnTo>
                        <a:pt x="128" y="888"/>
                      </a:lnTo>
                      <a:lnTo>
                        <a:pt x="82" y="851"/>
                      </a:lnTo>
                      <a:lnTo>
                        <a:pt x="106" y="923"/>
                      </a:lnTo>
                      <a:lnTo>
                        <a:pt x="179" y="1028"/>
                      </a:lnTo>
                      <a:lnTo>
                        <a:pt x="39" y="906"/>
                      </a:lnTo>
                      <a:lnTo>
                        <a:pt x="7" y="791"/>
                      </a:lnTo>
                      <a:lnTo>
                        <a:pt x="0" y="743"/>
                      </a:lnTo>
                      <a:lnTo>
                        <a:pt x="48" y="586"/>
                      </a:lnTo>
                      <a:lnTo>
                        <a:pt x="64" y="0"/>
                      </a:lnTo>
                      <a:lnTo>
                        <a:pt x="286" y="148"/>
                      </a:lnTo>
                      <a:lnTo>
                        <a:pt x="431" y="307"/>
                      </a:lnTo>
                      <a:lnTo>
                        <a:pt x="509" y="448"/>
                      </a:lnTo>
                      <a:lnTo>
                        <a:pt x="548" y="586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7370280" y="5037120"/>
                  <a:ext cx="48960" cy="75240"/>
                </a:xfrm>
                <a:custGeom>
                  <a:avLst/>
                  <a:gdLst/>
                  <a:ahLst/>
                  <a:rect l="l" t="t" r="r" b="b"/>
                  <a:pathLst>
                    <a:path w="593" h="716">
                      <a:moveTo>
                        <a:pt x="19" y="0"/>
                      </a:moveTo>
                      <a:lnTo>
                        <a:pt x="132" y="54"/>
                      </a:lnTo>
                      <a:lnTo>
                        <a:pt x="190" y="187"/>
                      </a:lnTo>
                      <a:lnTo>
                        <a:pt x="331" y="268"/>
                      </a:lnTo>
                      <a:lnTo>
                        <a:pt x="222" y="259"/>
                      </a:lnTo>
                      <a:lnTo>
                        <a:pt x="289" y="310"/>
                      </a:lnTo>
                      <a:lnTo>
                        <a:pt x="455" y="358"/>
                      </a:lnTo>
                      <a:lnTo>
                        <a:pt x="534" y="448"/>
                      </a:lnTo>
                      <a:lnTo>
                        <a:pt x="492" y="538"/>
                      </a:lnTo>
                      <a:lnTo>
                        <a:pt x="388" y="473"/>
                      </a:lnTo>
                      <a:lnTo>
                        <a:pt x="354" y="529"/>
                      </a:lnTo>
                      <a:lnTo>
                        <a:pt x="503" y="587"/>
                      </a:lnTo>
                      <a:lnTo>
                        <a:pt x="593" y="554"/>
                      </a:lnTo>
                      <a:lnTo>
                        <a:pt x="518" y="716"/>
                      </a:lnTo>
                      <a:lnTo>
                        <a:pt x="275" y="554"/>
                      </a:lnTo>
                      <a:lnTo>
                        <a:pt x="0" y="22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7424640" y="5104800"/>
                  <a:ext cx="101880" cy="84600"/>
                </a:xfrm>
                <a:custGeom>
                  <a:avLst/>
                  <a:gdLst/>
                  <a:ahLst/>
                  <a:rect l="l" t="t" r="r" b="b"/>
                  <a:pathLst>
                    <a:path w="1232" h="800">
                      <a:moveTo>
                        <a:pt x="141" y="141"/>
                      </a:moveTo>
                      <a:lnTo>
                        <a:pt x="188" y="171"/>
                      </a:lnTo>
                      <a:lnTo>
                        <a:pt x="215" y="0"/>
                      </a:lnTo>
                      <a:lnTo>
                        <a:pt x="282" y="254"/>
                      </a:lnTo>
                      <a:lnTo>
                        <a:pt x="248" y="325"/>
                      </a:lnTo>
                      <a:lnTo>
                        <a:pt x="575" y="435"/>
                      </a:lnTo>
                      <a:lnTo>
                        <a:pt x="764" y="595"/>
                      </a:lnTo>
                      <a:lnTo>
                        <a:pt x="1174" y="595"/>
                      </a:lnTo>
                      <a:lnTo>
                        <a:pt x="1232" y="717"/>
                      </a:lnTo>
                      <a:lnTo>
                        <a:pt x="764" y="800"/>
                      </a:lnTo>
                      <a:lnTo>
                        <a:pt x="0" y="341"/>
                      </a:lnTo>
                      <a:lnTo>
                        <a:pt x="141" y="14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7432560" y="4923360"/>
                  <a:ext cx="185400" cy="205560"/>
                </a:xfrm>
                <a:custGeom>
                  <a:avLst/>
                  <a:gdLst/>
                  <a:ahLst/>
                  <a:rect l="l" t="t" r="r" b="b"/>
                  <a:pathLst>
                    <a:path w="2241" h="1943">
                      <a:moveTo>
                        <a:pt x="1241" y="0"/>
                      </a:moveTo>
                      <a:lnTo>
                        <a:pt x="1308" y="277"/>
                      </a:lnTo>
                      <a:lnTo>
                        <a:pt x="1314" y="623"/>
                      </a:lnTo>
                      <a:lnTo>
                        <a:pt x="1250" y="1053"/>
                      </a:lnTo>
                      <a:lnTo>
                        <a:pt x="1133" y="1404"/>
                      </a:lnTo>
                      <a:lnTo>
                        <a:pt x="1232" y="1496"/>
                      </a:lnTo>
                      <a:lnTo>
                        <a:pt x="1035" y="1559"/>
                      </a:lnTo>
                      <a:lnTo>
                        <a:pt x="674" y="1519"/>
                      </a:lnTo>
                      <a:lnTo>
                        <a:pt x="248" y="1528"/>
                      </a:lnTo>
                      <a:lnTo>
                        <a:pt x="0" y="1544"/>
                      </a:lnTo>
                      <a:lnTo>
                        <a:pt x="149" y="1722"/>
                      </a:lnTo>
                      <a:lnTo>
                        <a:pt x="1133" y="1803"/>
                      </a:lnTo>
                      <a:lnTo>
                        <a:pt x="1815" y="1943"/>
                      </a:lnTo>
                      <a:lnTo>
                        <a:pt x="1898" y="1886"/>
                      </a:lnTo>
                      <a:lnTo>
                        <a:pt x="1802" y="1812"/>
                      </a:lnTo>
                      <a:lnTo>
                        <a:pt x="1872" y="1748"/>
                      </a:lnTo>
                      <a:lnTo>
                        <a:pt x="2013" y="1722"/>
                      </a:lnTo>
                      <a:lnTo>
                        <a:pt x="2241" y="1739"/>
                      </a:lnTo>
                      <a:lnTo>
                        <a:pt x="2064" y="1634"/>
                      </a:lnTo>
                      <a:lnTo>
                        <a:pt x="1956" y="1501"/>
                      </a:lnTo>
                      <a:lnTo>
                        <a:pt x="1965" y="1404"/>
                      </a:lnTo>
                      <a:lnTo>
                        <a:pt x="2151" y="1307"/>
                      </a:lnTo>
                      <a:lnTo>
                        <a:pt x="2202" y="1168"/>
                      </a:lnTo>
                      <a:lnTo>
                        <a:pt x="2103" y="1215"/>
                      </a:lnTo>
                      <a:lnTo>
                        <a:pt x="1995" y="1210"/>
                      </a:lnTo>
                      <a:lnTo>
                        <a:pt x="1971" y="1168"/>
                      </a:lnTo>
                      <a:lnTo>
                        <a:pt x="2064" y="1075"/>
                      </a:lnTo>
                      <a:lnTo>
                        <a:pt x="1979" y="1071"/>
                      </a:lnTo>
                      <a:lnTo>
                        <a:pt x="1988" y="972"/>
                      </a:lnTo>
                      <a:lnTo>
                        <a:pt x="2028" y="832"/>
                      </a:lnTo>
                      <a:lnTo>
                        <a:pt x="2120" y="876"/>
                      </a:lnTo>
                      <a:lnTo>
                        <a:pt x="2151" y="963"/>
                      </a:lnTo>
                      <a:lnTo>
                        <a:pt x="2186" y="840"/>
                      </a:lnTo>
                      <a:lnTo>
                        <a:pt x="2145" y="537"/>
                      </a:lnTo>
                      <a:lnTo>
                        <a:pt x="2168" y="311"/>
                      </a:lnTo>
                      <a:lnTo>
                        <a:pt x="2094" y="645"/>
                      </a:lnTo>
                      <a:lnTo>
                        <a:pt x="1979" y="816"/>
                      </a:lnTo>
                      <a:lnTo>
                        <a:pt x="1760" y="1134"/>
                      </a:lnTo>
                      <a:lnTo>
                        <a:pt x="1608" y="1282"/>
                      </a:lnTo>
                      <a:lnTo>
                        <a:pt x="1398" y="1422"/>
                      </a:lnTo>
                      <a:lnTo>
                        <a:pt x="1331" y="1429"/>
                      </a:lnTo>
                      <a:lnTo>
                        <a:pt x="1398" y="1307"/>
                      </a:lnTo>
                      <a:lnTo>
                        <a:pt x="1430" y="1111"/>
                      </a:lnTo>
                      <a:lnTo>
                        <a:pt x="1446" y="800"/>
                      </a:lnTo>
                      <a:lnTo>
                        <a:pt x="1430" y="521"/>
                      </a:lnTo>
                      <a:lnTo>
                        <a:pt x="1398" y="269"/>
                      </a:lnTo>
                      <a:lnTo>
                        <a:pt x="1349" y="113"/>
                      </a:lnTo>
                      <a:lnTo>
                        <a:pt x="1241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7587360" y="5134680"/>
                  <a:ext cx="46800" cy="37080"/>
                </a:xfrm>
                <a:custGeom>
                  <a:avLst/>
                  <a:gdLst/>
                  <a:ahLst/>
                  <a:rect l="l" t="t" r="r" b="b"/>
                  <a:pathLst>
                    <a:path w="567" h="351">
                      <a:moveTo>
                        <a:pt x="129" y="0"/>
                      </a:moveTo>
                      <a:lnTo>
                        <a:pt x="198" y="72"/>
                      </a:lnTo>
                      <a:lnTo>
                        <a:pt x="173" y="162"/>
                      </a:lnTo>
                      <a:lnTo>
                        <a:pt x="237" y="114"/>
                      </a:lnTo>
                      <a:lnTo>
                        <a:pt x="261" y="251"/>
                      </a:lnTo>
                      <a:lnTo>
                        <a:pt x="355" y="169"/>
                      </a:lnTo>
                      <a:lnTo>
                        <a:pt x="426" y="219"/>
                      </a:lnTo>
                      <a:lnTo>
                        <a:pt x="375" y="268"/>
                      </a:lnTo>
                      <a:lnTo>
                        <a:pt x="417" y="327"/>
                      </a:lnTo>
                      <a:lnTo>
                        <a:pt x="507" y="309"/>
                      </a:lnTo>
                      <a:lnTo>
                        <a:pt x="567" y="351"/>
                      </a:lnTo>
                      <a:lnTo>
                        <a:pt x="204" y="351"/>
                      </a:lnTo>
                      <a:lnTo>
                        <a:pt x="0" y="196"/>
                      </a:lnTo>
                      <a:lnTo>
                        <a:pt x="23" y="37"/>
                      </a:lnTo>
                      <a:lnTo>
                        <a:pt x="129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7605720" y="5066640"/>
                  <a:ext cx="12960" cy="20880"/>
                </a:xfrm>
                <a:custGeom>
                  <a:avLst/>
                  <a:gdLst/>
                  <a:ahLst/>
                  <a:rect l="l" t="t" r="r" b="b"/>
                  <a:pathLst>
                    <a:path w="156" h="200">
                      <a:moveTo>
                        <a:pt x="0" y="79"/>
                      </a:moveTo>
                      <a:lnTo>
                        <a:pt x="81" y="79"/>
                      </a:lnTo>
                      <a:lnTo>
                        <a:pt x="74" y="137"/>
                      </a:lnTo>
                      <a:lnTo>
                        <a:pt x="18" y="128"/>
                      </a:lnTo>
                      <a:lnTo>
                        <a:pt x="127" y="200"/>
                      </a:lnTo>
                      <a:lnTo>
                        <a:pt x="156" y="0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7508880" y="5121720"/>
                  <a:ext cx="80280" cy="65880"/>
                </a:xfrm>
                <a:custGeom>
                  <a:avLst/>
                  <a:gdLst/>
                  <a:ahLst/>
                  <a:rect l="l" t="t" r="r" b="b"/>
                  <a:pathLst>
                    <a:path w="966" h="621">
                      <a:moveTo>
                        <a:pt x="0" y="237"/>
                      </a:moveTo>
                      <a:lnTo>
                        <a:pt x="70" y="310"/>
                      </a:lnTo>
                      <a:lnTo>
                        <a:pt x="138" y="432"/>
                      </a:lnTo>
                      <a:lnTo>
                        <a:pt x="171" y="545"/>
                      </a:lnTo>
                      <a:lnTo>
                        <a:pt x="303" y="621"/>
                      </a:lnTo>
                      <a:lnTo>
                        <a:pt x="484" y="596"/>
                      </a:lnTo>
                      <a:lnTo>
                        <a:pt x="681" y="561"/>
                      </a:lnTo>
                      <a:lnTo>
                        <a:pt x="966" y="450"/>
                      </a:lnTo>
                      <a:lnTo>
                        <a:pt x="966" y="220"/>
                      </a:lnTo>
                      <a:lnTo>
                        <a:pt x="910" y="81"/>
                      </a:lnTo>
                      <a:lnTo>
                        <a:pt x="562" y="0"/>
                      </a:lnTo>
                      <a:lnTo>
                        <a:pt x="244" y="160"/>
                      </a:lnTo>
                      <a:lnTo>
                        <a:pt x="0" y="23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7498440" y="4942800"/>
                  <a:ext cx="10440" cy="11880"/>
                </a:xfrm>
                <a:custGeom>
                  <a:avLst/>
                  <a:gdLst/>
                  <a:ahLst/>
                  <a:rect l="l" t="t" r="r" b="b"/>
                  <a:pathLst>
                    <a:path w="125" h="113">
                      <a:moveTo>
                        <a:pt x="90" y="0"/>
                      </a:moveTo>
                      <a:lnTo>
                        <a:pt x="33" y="14"/>
                      </a:lnTo>
                      <a:lnTo>
                        <a:pt x="0" y="69"/>
                      </a:lnTo>
                      <a:lnTo>
                        <a:pt x="42" y="113"/>
                      </a:lnTo>
                      <a:lnTo>
                        <a:pt x="99" y="113"/>
                      </a:lnTo>
                      <a:lnTo>
                        <a:pt x="125" y="78"/>
                      </a:lnTo>
                      <a:lnTo>
                        <a:pt x="125" y="30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7507800" y="501732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88" h="94">
                      <a:moveTo>
                        <a:pt x="82" y="21"/>
                      </a:moveTo>
                      <a:lnTo>
                        <a:pt x="55" y="0"/>
                      </a:lnTo>
                      <a:lnTo>
                        <a:pt x="7" y="12"/>
                      </a:lnTo>
                      <a:lnTo>
                        <a:pt x="0" y="69"/>
                      </a:lnTo>
                      <a:lnTo>
                        <a:pt x="42" y="94"/>
                      </a:lnTo>
                      <a:lnTo>
                        <a:pt x="88" y="69"/>
                      </a:lnTo>
                      <a:lnTo>
                        <a:pt x="82" y="21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7445880" y="4725000"/>
                  <a:ext cx="95400" cy="212760"/>
                </a:xfrm>
                <a:custGeom>
                  <a:avLst/>
                  <a:gdLst/>
                  <a:ahLst/>
                  <a:rect l="l" t="t" r="r" b="b"/>
                  <a:pathLst>
                    <a:path w="1157" h="2007">
                      <a:moveTo>
                        <a:pt x="35" y="1688"/>
                      </a:moveTo>
                      <a:lnTo>
                        <a:pt x="95" y="1780"/>
                      </a:lnTo>
                      <a:lnTo>
                        <a:pt x="251" y="1881"/>
                      </a:lnTo>
                      <a:lnTo>
                        <a:pt x="411" y="1937"/>
                      </a:lnTo>
                      <a:lnTo>
                        <a:pt x="596" y="1976"/>
                      </a:lnTo>
                      <a:lnTo>
                        <a:pt x="789" y="2007"/>
                      </a:lnTo>
                      <a:lnTo>
                        <a:pt x="895" y="1971"/>
                      </a:lnTo>
                      <a:lnTo>
                        <a:pt x="945" y="1911"/>
                      </a:lnTo>
                      <a:lnTo>
                        <a:pt x="956" y="1766"/>
                      </a:lnTo>
                      <a:lnTo>
                        <a:pt x="915" y="1577"/>
                      </a:lnTo>
                      <a:lnTo>
                        <a:pt x="875" y="1422"/>
                      </a:lnTo>
                      <a:lnTo>
                        <a:pt x="961" y="1317"/>
                      </a:lnTo>
                      <a:lnTo>
                        <a:pt x="1055" y="1143"/>
                      </a:lnTo>
                      <a:lnTo>
                        <a:pt x="1093" y="1009"/>
                      </a:lnTo>
                      <a:lnTo>
                        <a:pt x="1148" y="772"/>
                      </a:lnTo>
                      <a:lnTo>
                        <a:pt x="1157" y="648"/>
                      </a:lnTo>
                      <a:lnTo>
                        <a:pt x="1157" y="480"/>
                      </a:lnTo>
                      <a:lnTo>
                        <a:pt x="1125" y="231"/>
                      </a:lnTo>
                      <a:lnTo>
                        <a:pt x="994" y="14"/>
                      </a:lnTo>
                      <a:lnTo>
                        <a:pt x="411" y="0"/>
                      </a:lnTo>
                      <a:lnTo>
                        <a:pt x="129" y="378"/>
                      </a:lnTo>
                      <a:lnTo>
                        <a:pt x="0" y="576"/>
                      </a:lnTo>
                      <a:lnTo>
                        <a:pt x="5" y="733"/>
                      </a:lnTo>
                      <a:lnTo>
                        <a:pt x="69" y="1056"/>
                      </a:lnTo>
                      <a:lnTo>
                        <a:pt x="23" y="1568"/>
                      </a:lnTo>
                      <a:lnTo>
                        <a:pt x="35" y="1688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7450560" y="4815720"/>
                  <a:ext cx="10440" cy="24480"/>
                </a:xfrm>
                <a:custGeom>
                  <a:avLst/>
                  <a:gdLst/>
                  <a:ahLst/>
                  <a:rect l="l" t="t" r="r" b="b"/>
                  <a:pathLst>
                    <a:path w="129" h="233">
                      <a:moveTo>
                        <a:pt x="33" y="12"/>
                      </a:moveTo>
                      <a:lnTo>
                        <a:pt x="67" y="0"/>
                      </a:lnTo>
                      <a:lnTo>
                        <a:pt x="101" y="25"/>
                      </a:lnTo>
                      <a:lnTo>
                        <a:pt x="129" y="79"/>
                      </a:lnTo>
                      <a:lnTo>
                        <a:pt x="123" y="194"/>
                      </a:lnTo>
                      <a:lnTo>
                        <a:pt x="81" y="233"/>
                      </a:lnTo>
                      <a:lnTo>
                        <a:pt x="0" y="194"/>
                      </a:lnTo>
                      <a:lnTo>
                        <a:pt x="0" y="95"/>
                      </a:lnTo>
                      <a:lnTo>
                        <a:pt x="33" y="12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7536960" y="482256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44" h="123">
                      <a:moveTo>
                        <a:pt x="24" y="0"/>
                      </a:moveTo>
                      <a:lnTo>
                        <a:pt x="0" y="123"/>
                      </a:lnTo>
                      <a:lnTo>
                        <a:pt x="28" y="121"/>
                      </a:lnTo>
                      <a:lnTo>
                        <a:pt x="44" y="88"/>
                      </a:lnTo>
                      <a:lnTo>
                        <a:pt x="39" y="42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7060680" y="4910760"/>
                  <a:ext cx="433440" cy="410040"/>
                </a:xfrm>
                <a:custGeom>
                  <a:avLst/>
                  <a:gdLst/>
                  <a:ahLst/>
                  <a:rect l="l" t="t" r="r" b="b"/>
                  <a:pathLst>
                    <a:path w="5233" h="3878">
                      <a:moveTo>
                        <a:pt x="4452" y="3024"/>
                      </a:moveTo>
                      <a:lnTo>
                        <a:pt x="4030" y="2787"/>
                      </a:lnTo>
                      <a:lnTo>
                        <a:pt x="3672" y="2893"/>
                      </a:lnTo>
                      <a:lnTo>
                        <a:pt x="3525" y="2812"/>
                      </a:lnTo>
                      <a:lnTo>
                        <a:pt x="3052" y="2393"/>
                      </a:lnTo>
                      <a:lnTo>
                        <a:pt x="2947" y="3010"/>
                      </a:lnTo>
                      <a:lnTo>
                        <a:pt x="3131" y="3089"/>
                      </a:lnTo>
                      <a:lnTo>
                        <a:pt x="3356" y="2999"/>
                      </a:lnTo>
                      <a:lnTo>
                        <a:pt x="3608" y="3076"/>
                      </a:lnTo>
                      <a:lnTo>
                        <a:pt x="3790" y="3063"/>
                      </a:lnTo>
                      <a:lnTo>
                        <a:pt x="4318" y="3052"/>
                      </a:lnTo>
                      <a:lnTo>
                        <a:pt x="4468" y="3234"/>
                      </a:lnTo>
                      <a:lnTo>
                        <a:pt x="4410" y="3612"/>
                      </a:lnTo>
                      <a:lnTo>
                        <a:pt x="4336" y="3681"/>
                      </a:lnTo>
                      <a:lnTo>
                        <a:pt x="3845" y="3681"/>
                      </a:lnTo>
                      <a:lnTo>
                        <a:pt x="1901" y="3878"/>
                      </a:lnTo>
                      <a:lnTo>
                        <a:pt x="11" y="3654"/>
                      </a:lnTo>
                      <a:lnTo>
                        <a:pt x="0" y="1987"/>
                      </a:lnTo>
                      <a:lnTo>
                        <a:pt x="103" y="1510"/>
                      </a:lnTo>
                      <a:lnTo>
                        <a:pt x="304" y="1037"/>
                      </a:lnTo>
                      <a:lnTo>
                        <a:pt x="408" y="892"/>
                      </a:lnTo>
                      <a:lnTo>
                        <a:pt x="685" y="590"/>
                      </a:lnTo>
                      <a:lnTo>
                        <a:pt x="975" y="394"/>
                      </a:lnTo>
                      <a:lnTo>
                        <a:pt x="1213" y="248"/>
                      </a:lnTo>
                      <a:lnTo>
                        <a:pt x="1466" y="145"/>
                      </a:lnTo>
                      <a:lnTo>
                        <a:pt x="1572" y="0"/>
                      </a:lnTo>
                      <a:lnTo>
                        <a:pt x="2604" y="343"/>
                      </a:lnTo>
                      <a:lnTo>
                        <a:pt x="2747" y="514"/>
                      </a:lnTo>
                      <a:lnTo>
                        <a:pt x="2947" y="643"/>
                      </a:lnTo>
                      <a:lnTo>
                        <a:pt x="3172" y="828"/>
                      </a:lnTo>
                      <a:lnTo>
                        <a:pt x="3474" y="1210"/>
                      </a:lnTo>
                      <a:lnTo>
                        <a:pt x="4307" y="1995"/>
                      </a:lnTo>
                      <a:lnTo>
                        <a:pt x="4491" y="2079"/>
                      </a:lnTo>
                      <a:lnTo>
                        <a:pt x="4544" y="2236"/>
                      </a:lnTo>
                      <a:lnTo>
                        <a:pt x="4956" y="2340"/>
                      </a:lnTo>
                      <a:lnTo>
                        <a:pt x="5140" y="2551"/>
                      </a:lnTo>
                      <a:lnTo>
                        <a:pt x="5233" y="2812"/>
                      </a:lnTo>
                      <a:lnTo>
                        <a:pt x="4452" y="3024"/>
                      </a:lnTo>
                      <a:close/>
                    </a:path>
                  </a:pathLst>
                </a:custGeom>
                <a:solidFill>
                  <a:srgbClr val="00e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7494480" y="5138640"/>
                  <a:ext cx="66960" cy="134640"/>
                </a:xfrm>
                <a:custGeom>
                  <a:avLst/>
                  <a:gdLst/>
                  <a:ahLst/>
                  <a:rect l="l" t="t" r="r" b="b"/>
                  <a:pathLst>
                    <a:path w="803" h="1268">
                      <a:moveTo>
                        <a:pt x="0" y="23"/>
                      </a:moveTo>
                      <a:lnTo>
                        <a:pt x="0" y="44"/>
                      </a:lnTo>
                      <a:lnTo>
                        <a:pt x="12" y="69"/>
                      </a:lnTo>
                      <a:lnTo>
                        <a:pt x="708" y="1183"/>
                      </a:lnTo>
                      <a:lnTo>
                        <a:pt x="803" y="1268"/>
                      </a:lnTo>
                      <a:lnTo>
                        <a:pt x="759" y="1139"/>
                      </a:lnTo>
                      <a:lnTo>
                        <a:pt x="61" y="5"/>
                      </a:lnTo>
                      <a:lnTo>
                        <a:pt x="1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7444080" y="5196600"/>
                  <a:ext cx="100080" cy="81000"/>
                </a:xfrm>
                <a:custGeom>
                  <a:avLst/>
                  <a:gdLst/>
                  <a:ahLst/>
                  <a:rect l="l" t="t" r="r" b="b"/>
                  <a:pathLst>
                    <a:path w="1202" h="775">
                      <a:moveTo>
                        <a:pt x="0" y="289"/>
                      </a:moveTo>
                      <a:lnTo>
                        <a:pt x="63" y="132"/>
                      </a:lnTo>
                      <a:lnTo>
                        <a:pt x="182" y="66"/>
                      </a:lnTo>
                      <a:lnTo>
                        <a:pt x="287" y="81"/>
                      </a:lnTo>
                      <a:lnTo>
                        <a:pt x="487" y="118"/>
                      </a:lnTo>
                      <a:lnTo>
                        <a:pt x="607" y="28"/>
                      </a:lnTo>
                      <a:lnTo>
                        <a:pt x="709" y="0"/>
                      </a:lnTo>
                      <a:lnTo>
                        <a:pt x="1147" y="66"/>
                      </a:lnTo>
                      <a:lnTo>
                        <a:pt x="1188" y="171"/>
                      </a:lnTo>
                      <a:lnTo>
                        <a:pt x="1135" y="199"/>
                      </a:lnTo>
                      <a:lnTo>
                        <a:pt x="793" y="224"/>
                      </a:lnTo>
                      <a:lnTo>
                        <a:pt x="1162" y="382"/>
                      </a:lnTo>
                      <a:lnTo>
                        <a:pt x="1202" y="475"/>
                      </a:lnTo>
                      <a:lnTo>
                        <a:pt x="1174" y="552"/>
                      </a:lnTo>
                      <a:lnTo>
                        <a:pt x="1068" y="630"/>
                      </a:lnTo>
                      <a:lnTo>
                        <a:pt x="1029" y="738"/>
                      </a:lnTo>
                      <a:lnTo>
                        <a:pt x="709" y="775"/>
                      </a:lnTo>
                      <a:lnTo>
                        <a:pt x="130" y="710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7185600" y="4798080"/>
                  <a:ext cx="135720" cy="202320"/>
                </a:xfrm>
                <a:custGeom>
                  <a:avLst/>
                  <a:gdLst/>
                  <a:ahLst/>
                  <a:rect l="l" t="t" r="r" b="b"/>
                  <a:pathLst>
                    <a:path w="1639" h="1907">
                      <a:moveTo>
                        <a:pt x="0" y="538"/>
                      </a:moveTo>
                      <a:lnTo>
                        <a:pt x="53" y="850"/>
                      </a:lnTo>
                      <a:lnTo>
                        <a:pt x="73" y="949"/>
                      </a:lnTo>
                      <a:lnTo>
                        <a:pt x="127" y="1008"/>
                      </a:lnTo>
                      <a:lnTo>
                        <a:pt x="99" y="1109"/>
                      </a:lnTo>
                      <a:lnTo>
                        <a:pt x="154" y="1217"/>
                      </a:lnTo>
                      <a:lnTo>
                        <a:pt x="207" y="1305"/>
                      </a:lnTo>
                      <a:lnTo>
                        <a:pt x="272" y="1409"/>
                      </a:lnTo>
                      <a:lnTo>
                        <a:pt x="495" y="1599"/>
                      </a:lnTo>
                      <a:lnTo>
                        <a:pt x="784" y="1907"/>
                      </a:lnTo>
                      <a:lnTo>
                        <a:pt x="822" y="1859"/>
                      </a:lnTo>
                      <a:lnTo>
                        <a:pt x="881" y="1736"/>
                      </a:lnTo>
                      <a:lnTo>
                        <a:pt x="905" y="1598"/>
                      </a:lnTo>
                      <a:lnTo>
                        <a:pt x="1030" y="1630"/>
                      </a:lnTo>
                      <a:lnTo>
                        <a:pt x="1155" y="1617"/>
                      </a:lnTo>
                      <a:lnTo>
                        <a:pt x="1213" y="1584"/>
                      </a:lnTo>
                      <a:lnTo>
                        <a:pt x="1270" y="1522"/>
                      </a:lnTo>
                      <a:lnTo>
                        <a:pt x="1429" y="1179"/>
                      </a:lnTo>
                      <a:lnTo>
                        <a:pt x="1510" y="1077"/>
                      </a:lnTo>
                      <a:lnTo>
                        <a:pt x="1572" y="905"/>
                      </a:lnTo>
                      <a:lnTo>
                        <a:pt x="1586" y="718"/>
                      </a:lnTo>
                      <a:lnTo>
                        <a:pt x="1618" y="632"/>
                      </a:lnTo>
                      <a:lnTo>
                        <a:pt x="1635" y="575"/>
                      </a:lnTo>
                      <a:lnTo>
                        <a:pt x="1639" y="261"/>
                      </a:lnTo>
                      <a:lnTo>
                        <a:pt x="1609" y="118"/>
                      </a:lnTo>
                      <a:lnTo>
                        <a:pt x="1540" y="0"/>
                      </a:lnTo>
                      <a:lnTo>
                        <a:pt x="207" y="155"/>
                      </a:lnTo>
                      <a:lnTo>
                        <a:pt x="0" y="538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7243920" y="5009040"/>
                  <a:ext cx="30240" cy="204120"/>
                </a:xfrm>
                <a:custGeom>
                  <a:avLst/>
                  <a:gdLst/>
                  <a:ahLst/>
                  <a:rect l="l" t="t" r="r" b="b"/>
                  <a:pathLst>
                    <a:path w="369" h="1920">
                      <a:moveTo>
                        <a:pt x="92" y="0"/>
                      </a:moveTo>
                      <a:lnTo>
                        <a:pt x="40" y="52"/>
                      </a:lnTo>
                      <a:lnTo>
                        <a:pt x="0" y="142"/>
                      </a:lnTo>
                      <a:lnTo>
                        <a:pt x="27" y="313"/>
                      </a:lnTo>
                      <a:lnTo>
                        <a:pt x="14" y="973"/>
                      </a:lnTo>
                      <a:lnTo>
                        <a:pt x="40" y="1433"/>
                      </a:lnTo>
                      <a:lnTo>
                        <a:pt x="119" y="1920"/>
                      </a:lnTo>
                      <a:lnTo>
                        <a:pt x="200" y="1920"/>
                      </a:lnTo>
                      <a:lnTo>
                        <a:pt x="319" y="1920"/>
                      </a:lnTo>
                      <a:lnTo>
                        <a:pt x="369" y="1841"/>
                      </a:lnTo>
                      <a:lnTo>
                        <a:pt x="263" y="1498"/>
                      </a:lnTo>
                      <a:lnTo>
                        <a:pt x="212" y="1169"/>
                      </a:lnTo>
                      <a:lnTo>
                        <a:pt x="200" y="776"/>
                      </a:lnTo>
                      <a:lnTo>
                        <a:pt x="159" y="313"/>
                      </a:lnTo>
                      <a:lnTo>
                        <a:pt x="185" y="211"/>
                      </a:lnTo>
                      <a:lnTo>
                        <a:pt x="159" y="66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7259040" y="4746240"/>
                  <a:ext cx="75600" cy="99000"/>
                </a:xfrm>
                <a:custGeom>
                  <a:avLst/>
                  <a:gdLst/>
                  <a:ahLst/>
                  <a:rect l="l" t="t" r="r" b="b"/>
                  <a:pathLst>
                    <a:path w="914" h="936">
                      <a:moveTo>
                        <a:pt x="635" y="499"/>
                      </a:moveTo>
                      <a:lnTo>
                        <a:pt x="714" y="607"/>
                      </a:lnTo>
                      <a:lnTo>
                        <a:pt x="844" y="936"/>
                      </a:lnTo>
                      <a:lnTo>
                        <a:pt x="899" y="855"/>
                      </a:lnTo>
                      <a:lnTo>
                        <a:pt x="914" y="581"/>
                      </a:lnTo>
                      <a:lnTo>
                        <a:pt x="914" y="510"/>
                      </a:lnTo>
                      <a:lnTo>
                        <a:pt x="859" y="462"/>
                      </a:lnTo>
                      <a:lnTo>
                        <a:pt x="767" y="381"/>
                      </a:lnTo>
                      <a:lnTo>
                        <a:pt x="686" y="224"/>
                      </a:lnTo>
                      <a:lnTo>
                        <a:pt x="541" y="79"/>
                      </a:lnTo>
                      <a:lnTo>
                        <a:pt x="356" y="40"/>
                      </a:lnTo>
                      <a:lnTo>
                        <a:pt x="145" y="0"/>
                      </a:lnTo>
                      <a:lnTo>
                        <a:pt x="0" y="51"/>
                      </a:lnTo>
                      <a:lnTo>
                        <a:pt x="15" y="593"/>
                      </a:lnTo>
                      <a:lnTo>
                        <a:pt x="635" y="499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7250400" y="4853160"/>
                  <a:ext cx="20160" cy="10080"/>
                </a:xfrm>
                <a:custGeom>
                  <a:avLst/>
                  <a:gdLst/>
                  <a:ahLst/>
                  <a:rect l="l" t="t" r="r" b="b"/>
                  <a:pathLst>
                    <a:path w="251" h="93">
                      <a:moveTo>
                        <a:pt x="0" y="55"/>
                      </a:moveTo>
                      <a:lnTo>
                        <a:pt x="147" y="70"/>
                      </a:lnTo>
                      <a:lnTo>
                        <a:pt x="251" y="93"/>
                      </a:lnTo>
                      <a:lnTo>
                        <a:pt x="196" y="0"/>
                      </a:lnTo>
                      <a:lnTo>
                        <a:pt x="53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7297560" y="4865040"/>
                  <a:ext cx="15120" cy="11520"/>
                </a:xfrm>
                <a:custGeom>
                  <a:avLst/>
                  <a:gdLst/>
                  <a:ahLst/>
                  <a:rect l="l" t="t" r="r" b="b"/>
                  <a:pathLst>
                    <a:path w="183" h="119">
                      <a:moveTo>
                        <a:pt x="0" y="66"/>
                      </a:moveTo>
                      <a:lnTo>
                        <a:pt x="106" y="119"/>
                      </a:lnTo>
                      <a:lnTo>
                        <a:pt x="183" y="105"/>
                      </a:lnTo>
                      <a:lnTo>
                        <a:pt x="172" y="77"/>
                      </a:lnTo>
                      <a:lnTo>
                        <a:pt x="37" y="0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7475760" y="479196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218" h="86">
                      <a:moveTo>
                        <a:pt x="0" y="14"/>
                      </a:moveTo>
                      <a:lnTo>
                        <a:pt x="62" y="60"/>
                      </a:lnTo>
                      <a:lnTo>
                        <a:pt x="97" y="86"/>
                      </a:lnTo>
                      <a:lnTo>
                        <a:pt x="181" y="86"/>
                      </a:lnTo>
                      <a:lnTo>
                        <a:pt x="218" y="58"/>
                      </a:lnTo>
                      <a:lnTo>
                        <a:pt x="177" y="9"/>
                      </a:lnTo>
                      <a:lnTo>
                        <a:pt x="103" y="0"/>
                      </a:lnTo>
                      <a:lnTo>
                        <a:pt x="20" y="9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7515000" y="479556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216" h="83">
                      <a:moveTo>
                        <a:pt x="0" y="48"/>
                      </a:moveTo>
                      <a:lnTo>
                        <a:pt x="50" y="7"/>
                      </a:lnTo>
                      <a:lnTo>
                        <a:pt x="130" y="0"/>
                      </a:lnTo>
                      <a:lnTo>
                        <a:pt x="216" y="35"/>
                      </a:lnTo>
                      <a:lnTo>
                        <a:pt x="163" y="66"/>
                      </a:lnTo>
                      <a:lnTo>
                        <a:pt x="121" y="81"/>
                      </a:lnTo>
                      <a:lnTo>
                        <a:pt x="75" y="83"/>
                      </a:lnTo>
                      <a:lnTo>
                        <a:pt x="18" y="6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7488360" y="4847040"/>
                  <a:ext cx="28080" cy="7560"/>
                </a:xfrm>
                <a:custGeom>
                  <a:avLst/>
                  <a:gdLst/>
                  <a:ahLst/>
                  <a:rect l="l" t="t" r="r" b="b"/>
                  <a:pathLst>
                    <a:path w="350" h="67">
                      <a:moveTo>
                        <a:pt x="0" y="4"/>
                      </a:moveTo>
                      <a:lnTo>
                        <a:pt x="82" y="50"/>
                      </a:lnTo>
                      <a:lnTo>
                        <a:pt x="203" y="67"/>
                      </a:lnTo>
                      <a:lnTo>
                        <a:pt x="260" y="65"/>
                      </a:lnTo>
                      <a:lnTo>
                        <a:pt x="299" y="46"/>
                      </a:lnTo>
                      <a:lnTo>
                        <a:pt x="332" y="21"/>
                      </a:lnTo>
                      <a:lnTo>
                        <a:pt x="350" y="0"/>
                      </a:lnTo>
                      <a:lnTo>
                        <a:pt x="249" y="6"/>
                      </a:lnTo>
                      <a:lnTo>
                        <a:pt x="194" y="14"/>
                      </a:lnTo>
                      <a:lnTo>
                        <a:pt x="108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7968960" y="4877640"/>
                  <a:ext cx="391680" cy="442440"/>
                </a:xfrm>
                <a:custGeom>
                  <a:avLst/>
                  <a:gdLst/>
                  <a:ahLst/>
                  <a:rect l="l" t="t" r="r" b="b"/>
                  <a:pathLst>
                    <a:path w="4729" h="4178">
                      <a:moveTo>
                        <a:pt x="602" y="3182"/>
                      </a:moveTo>
                      <a:lnTo>
                        <a:pt x="1411" y="2760"/>
                      </a:lnTo>
                      <a:lnTo>
                        <a:pt x="1677" y="2463"/>
                      </a:lnTo>
                      <a:lnTo>
                        <a:pt x="1928" y="3087"/>
                      </a:lnTo>
                      <a:lnTo>
                        <a:pt x="1940" y="3300"/>
                      </a:lnTo>
                      <a:lnTo>
                        <a:pt x="1846" y="3325"/>
                      </a:lnTo>
                      <a:lnTo>
                        <a:pt x="1640" y="3288"/>
                      </a:lnTo>
                      <a:lnTo>
                        <a:pt x="1486" y="3279"/>
                      </a:lnTo>
                      <a:lnTo>
                        <a:pt x="1398" y="3241"/>
                      </a:lnTo>
                      <a:lnTo>
                        <a:pt x="1218" y="3265"/>
                      </a:lnTo>
                      <a:lnTo>
                        <a:pt x="1050" y="3230"/>
                      </a:lnTo>
                      <a:lnTo>
                        <a:pt x="844" y="3168"/>
                      </a:lnTo>
                      <a:lnTo>
                        <a:pt x="672" y="3254"/>
                      </a:lnTo>
                      <a:lnTo>
                        <a:pt x="541" y="3491"/>
                      </a:lnTo>
                      <a:lnTo>
                        <a:pt x="640" y="3841"/>
                      </a:lnTo>
                      <a:lnTo>
                        <a:pt x="1070" y="3903"/>
                      </a:lnTo>
                      <a:lnTo>
                        <a:pt x="1640" y="4032"/>
                      </a:lnTo>
                      <a:lnTo>
                        <a:pt x="2013" y="4139"/>
                      </a:lnTo>
                      <a:lnTo>
                        <a:pt x="2919" y="4178"/>
                      </a:lnTo>
                      <a:lnTo>
                        <a:pt x="3270" y="4153"/>
                      </a:lnTo>
                      <a:lnTo>
                        <a:pt x="3620" y="4056"/>
                      </a:lnTo>
                      <a:lnTo>
                        <a:pt x="4667" y="2951"/>
                      </a:lnTo>
                      <a:lnTo>
                        <a:pt x="4729" y="1824"/>
                      </a:lnTo>
                      <a:lnTo>
                        <a:pt x="4584" y="1298"/>
                      </a:lnTo>
                      <a:lnTo>
                        <a:pt x="4425" y="1019"/>
                      </a:lnTo>
                      <a:lnTo>
                        <a:pt x="4138" y="639"/>
                      </a:lnTo>
                      <a:lnTo>
                        <a:pt x="3595" y="384"/>
                      </a:lnTo>
                      <a:lnTo>
                        <a:pt x="3450" y="422"/>
                      </a:lnTo>
                      <a:lnTo>
                        <a:pt x="3342" y="362"/>
                      </a:lnTo>
                      <a:lnTo>
                        <a:pt x="3256" y="194"/>
                      </a:lnTo>
                      <a:lnTo>
                        <a:pt x="3053" y="121"/>
                      </a:lnTo>
                      <a:lnTo>
                        <a:pt x="2872" y="0"/>
                      </a:lnTo>
                      <a:lnTo>
                        <a:pt x="2666" y="12"/>
                      </a:lnTo>
                      <a:lnTo>
                        <a:pt x="1709" y="602"/>
                      </a:lnTo>
                      <a:lnTo>
                        <a:pt x="1558" y="720"/>
                      </a:lnTo>
                      <a:lnTo>
                        <a:pt x="1460" y="817"/>
                      </a:lnTo>
                      <a:lnTo>
                        <a:pt x="1281" y="911"/>
                      </a:lnTo>
                      <a:lnTo>
                        <a:pt x="1070" y="1503"/>
                      </a:lnTo>
                      <a:lnTo>
                        <a:pt x="1064" y="1702"/>
                      </a:lnTo>
                      <a:lnTo>
                        <a:pt x="989" y="1979"/>
                      </a:lnTo>
                      <a:lnTo>
                        <a:pt x="808" y="2039"/>
                      </a:lnTo>
                      <a:lnTo>
                        <a:pt x="723" y="2136"/>
                      </a:lnTo>
                      <a:lnTo>
                        <a:pt x="699" y="2259"/>
                      </a:lnTo>
                      <a:lnTo>
                        <a:pt x="578" y="2377"/>
                      </a:lnTo>
                      <a:lnTo>
                        <a:pt x="240" y="2606"/>
                      </a:lnTo>
                      <a:lnTo>
                        <a:pt x="0" y="2917"/>
                      </a:lnTo>
                      <a:lnTo>
                        <a:pt x="277" y="3145"/>
                      </a:lnTo>
                      <a:lnTo>
                        <a:pt x="602" y="3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8008920" y="4991400"/>
                  <a:ext cx="115200" cy="230400"/>
                </a:xfrm>
                <a:custGeom>
                  <a:avLst/>
                  <a:gdLst/>
                  <a:ahLst/>
                  <a:rect l="l" t="t" r="r" b="b"/>
                  <a:pathLst>
                    <a:path w="1387" h="2184">
                      <a:moveTo>
                        <a:pt x="691" y="312"/>
                      </a:moveTo>
                      <a:lnTo>
                        <a:pt x="679" y="433"/>
                      </a:lnTo>
                      <a:lnTo>
                        <a:pt x="712" y="479"/>
                      </a:lnTo>
                      <a:lnTo>
                        <a:pt x="807" y="528"/>
                      </a:lnTo>
                      <a:lnTo>
                        <a:pt x="859" y="578"/>
                      </a:lnTo>
                      <a:lnTo>
                        <a:pt x="859" y="683"/>
                      </a:lnTo>
                      <a:lnTo>
                        <a:pt x="664" y="731"/>
                      </a:lnTo>
                      <a:lnTo>
                        <a:pt x="605" y="731"/>
                      </a:lnTo>
                      <a:lnTo>
                        <a:pt x="555" y="671"/>
                      </a:lnTo>
                      <a:lnTo>
                        <a:pt x="508" y="899"/>
                      </a:lnTo>
                      <a:lnTo>
                        <a:pt x="290" y="1031"/>
                      </a:lnTo>
                      <a:lnTo>
                        <a:pt x="664" y="899"/>
                      </a:lnTo>
                      <a:lnTo>
                        <a:pt x="749" y="899"/>
                      </a:lnTo>
                      <a:lnTo>
                        <a:pt x="712" y="945"/>
                      </a:lnTo>
                      <a:lnTo>
                        <a:pt x="447" y="1103"/>
                      </a:lnTo>
                      <a:lnTo>
                        <a:pt x="726" y="1103"/>
                      </a:lnTo>
                      <a:lnTo>
                        <a:pt x="737" y="1213"/>
                      </a:lnTo>
                      <a:lnTo>
                        <a:pt x="133" y="1273"/>
                      </a:lnTo>
                      <a:lnTo>
                        <a:pt x="0" y="1369"/>
                      </a:lnTo>
                      <a:lnTo>
                        <a:pt x="170" y="1426"/>
                      </a:lnTo>
                      <a:lnTo>
                        <a:pt x="279" y="1525"/>
                      </a:lnTo>
                      <a:lnTo>
                        <a:pt x="290" y="1593"/>
                      </a:lnTo>
                      <a:lnTo>
                        <a:pt x="181" y="1690"/>
                      </a:lnTo>
                      <a:lnTo>
                        <a:pt x="181" y="1810"/>
                      </a:lnTo>
                      <a:lnTo>
                        <a:pt x="242" y="1932"/>
                      </a:lnTo>
                      <a:lnTo>
                        <a:pt x="84" y="2075"/>
                      </a:lnTo>
                      <a:lnTo>
                        <a:pt x="218" y="2184"/>
                      </a:lnTo>
                      <a:lnTo>
                        <a:pt x="373" y="2098"/>
                      </a:lnTo>
                      <a:lnTo>
                        <a:pt x="472" y="2123"/>
                      </a:lnTo>
                      <a:lnTo>
                        <a:pt x="679" y="1964"/>
                      </a:lnTo>
                      <a:lnTo>
                        <a:pt x="989" y="1630"/>
                      </a:lnTo>
                      <a:lnTo>
                        <a:pt x="1207" y="1379"/>
                      </a:lnTo>
                      <a:lnTo>
                        <a:pt x="1350" y="1752"/>
                      </a:lnTo>
                      <a:lnTo>
                        <a:pt x="1387" y="1358"/>
                      </a:lnTo>
                      <a:lnTo>
                        <a:pt x="1387" y="1199"/>
                      </a:lnTo>
                      <a:lnTo>
                        <a:pt x="1242" y="1093"/>
                      </a:lnTo>
                      <a:lnTo>
                        <a:pt x="1122" y="923"/>
                      </a:lnTo>
                      <a:lnTo>
                        <a:pt x="1014" y="740"/>
                      </a:lnTo>
                      <a:lnTo>
                        <a:pt x="930" y="528"/>
                      </a:lnTo>
                      <a:lnTo>
                        <a:pt x="834" y="228"/>
                      </a:lnTo>
                      <a:lnTo>
                        <a:pt x="800" y="0"/>
                      </a:lnTo>
                      <a:lnTo>
                        <a:pt x="700" y="215"/>
                      </a:lnTo>
                      <a:lnTo>
                        <a:pt x="691" y="312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8067240" y="4992840"/>
                  <a:ext cx="236520" cy="331560"/>
                </a:xfrm>
                <a:custGeom>
                  <a:avLst/>
                  <a:gdLst/>
                  <a:ahLst/>
                  <a:rect l="l" t="t" r="r" b="b"/>
                  <a:pathLst>
                    <a:path w="2861" h="3124">
                      <a:moveTo>
                        <a:pt x="988" y="1321"/>
                      </a:moveTo>
                      <a:lnTo>
                        <a:pt x="1377" y="1443"/>
                      </a:lnTo>
                      <a:lnTo>
                        <a:pt x="1691" y="1504"/>
                      </a:lnTo>
                      <a:lnTo>
                        <a:pt x="1909" y="1095"/>
                      </a:lnTo>
                      <a:lnTo>
                        <a:pt x="1895" y="698"/>
                      </a:lnTo>
                      <a:lnTo>
                        <a:pt x="2146" y="231"/>
                      </a:lnTo>
                      <a:lnTo>
                        <a:pt x="2642" y="0"/>
                      </a:lnTo>
                      <a:lnTo>
                        <a:pt x="2232" y="399"/>
                      </a:lnTo>
                      <a:lnTo>
                        <a:pt x="2111" y="770"/>
                      </a:lnTo>
                      <a:lnTo>
                        <a:pt x="2111" y="1168"/>
                      </a:lnTo>
                      <a:lnTo>
                        <a:pt x="2350" y="985"/>
                      </a:lnTo>
                      <a:lnTo>
                        <a:pt x="2665" y="627"/>
                      </a:lnTo>
                      <a:lnTo>
                        <a:pt x="2861" y="420"/>
                      </a:lnTo>
                      <a:lnTo>
                        <a:pt x="2861" y="590"/>
                      </a:lnTo>
                      <a:lnTo>
                        <a:pt x="2642" y="1010"/>
                      </a:lnTo>
                      <a:lnTo>
                        <a:pt x="2280" y="1478"/>
                      </a:lnTo>
                      <a:lnTo>
                        <a:pt x="1981" y="1741"/>
                      </a:lnTo>
                      <a:lnTo>
                        <a:pt x="1773" y="1838"/>
                      </a:lnTo>
                      <a:lnTo>
                        <a:pt x="1773" y="1959"/>
                      </a:lnTo>
                      <a:lnTo>
                        <a:pt x="1918" y="2188"/>
                      </a:lnTo>
                      <a:lnTo>
                        <a:pt x="2063" y="2545"/>
                      </a:lnTo>
                      <a:lnTo>
                        <a:pt x="1955" y="2451"/>
                      </a:lnTo>
                      <a:lnTo>
                        <a:pt x="1836" y="2333"/>
                      </a:lnTo>
                      <a:lnTo>
                        <a:pt x="1665" y="2257"/>
                      </a:lnTo>
                      <a:lnTo>
                        <a:pt x="1508" y="2222"/>
                      </a:lnTo>
                      <a:lnTo>
                        <a:pt x="1388" y="2197"/>
                      </a:lnTo>
                      <a:lnTo>
                        <a:pt x="1460" y="2429"/>
                      </a:lnTo>
                      <a:lnTo>
                        <a:pt x="1691" y="2621"/>
                      </a:lnTo>
                      <a:lnTo>
                        <a:pt x="1872" y="2725"/>
                      </a:lnTo>
                      <a:lnTo>
                        <a:pt x="1785" y="2534"/>
                      </a:lnTo>
                      <a:lnTo>
                        <a:pt x="1981" y="2582"/>
                      </a:lnTo>
                      <a:lnTo>
                        <a:pt x="2052" y="2750"/>
                      </a:lnTo>
                      <a:lnTo>
                        <a:pt x="2025" y="2978"/>
                      </a:lnTo>
                      <a:lnTo>
                        <a:pt x="1895" y="3110"/>
                      </a:lnTo>
                      <a:lnTo>
                        <a:pt x="1665" y="3124"/>
                      </a:lnTo>
                      <a:lnTo>
                        <a:pt x="1425" y="3001"/>
                      </a:lnTo>
                      <a:lnTo>
                        <a:pt x="1326" y="2796"/>
                      </a:lnTo>
                      <a:lnTo>
                        <a:pt x="1181" y="2400"/>
                      </a:lnTo>
                      <a:lnTo>
                        <a:pt x="988" y="2284"/>
                      </a:lnTo>
                      <a:lnTo>
                        <a:pt x="485" y="2391"/>
                      </a:lnTo>
                      <a:lnTo>
                        <a:pt x="171" y="2568"/>
                      </a:lnTo>
                      <a:lnTo>
                        <a:pt x="134" y="2499"/>
                      </a:lnTo>
                      <a:lnTo>
                        <a:pt x="217" y="2319"/>
                      </a:lnTo>
                      <a:lnTo>
                        <a:pt x="0" y="2400"/>
                      </a:lnTo>
                      <a:lnTo>
                        <a:pt x="87" y="2271"/>
                      </a:lnTo>
                      <a:lnTo>
                        <a:pt x="362" y="2197"/>
                      </a:lnTo>
                      <a:lnTo>
                        <a:pt x="558" y="2222"/>
                      </a:lnTo>
                      <a:lnTo>
                        <a:pt x="676" y="2234"/>
                      </a:lnTo>
                      <a:lnTo>
                        <a:pt x="950" y="2174"/>
                      </a:lnTo>
                      <a:lnTo>
                        <a:pt x="988" y="1321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8144280" y="4992120"/>
                  <a:ext cx="41760" cy="150840"/>
                </a:xfrm>
                <a:custGeom>
                  <a:avLst/>
                  <a:gdLst/>
                  <a:ahLst/>
                  <a:rect l="l" t="t" r="r" b="b"/>
                  <a:pathLst>
                    <a:path w="507" h="1428">
                      <a:moveTo>
                        <a:pt x="143" y="1404"/>
                      </a:moveTo>
                      <a:lnTo>
                        <a:pt x="180" y="1130"/>
                      </a:lnTo>
                      <a:lnTo>
                        <a:pt x="242" y="780"/>
                      </a:lnTo>
                      <a:lnTo>
                        <a:pt x="242" y="613"/>
                      </a:lnTo>
                      <a:lnTo>
                        <a:pt x="194" y="446"/>
                      </a:lnTo>
                      <a:lnTo>
                        <a:pt x="206" y="312"/>
                      </a:lnTo>
                      <a:lnTo>
                        <a:pt x="266" y="134"/>
                      </a:lnTo>
                      <a:lnTo>
                        <a:pt x="507" y="158"/>
                      </a:lnTo>
                      <a:lnTo>
                        <a:pt x="143" y="0"/>
                      </a:lnTo>
                      <a:lnTo>
                        <a:pt x="0" y="325"/>
                      </a:lnTo>
                      <a:lnTo>
                        <a:pt x="21" y="1428"/>
                      </a:lnTo>
                      <a:lnTo>
                        <a:pt x="143" y="1404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8195760" y="4875840"/>
                  <a:ext cx="164880" cy="452520"/>
                </a:xfrm>
                <a:custGeom>
                  <a:avLst/>
                  <a:gdLst/>
                  <a:ahLst/>
                  <a:rect l="l" t="t" r="r" b="b"/>
                  <a:pathLst>
                    <a:path w="1991" h="4272">
                      <a:moveTo>
                        <a:pt x="48" y="182"/>
                      </a:moveTo>
                      <a:lnTo>
                        <a:pt x="181" y="445"/>
                      </a:lnTo>
                      <a:lnTo>
                        <a:pt x="134" y="922"/>
                      </a:lnTo>
                      <a:lnTo>
                        <a:pt x="325" y="240"/>
                      </a:lnTo>
                      <a:lnTo>
                        <a:pt x="409" y="217"/>
                      </a:lnTo>
                      <a:lnTo>
                        <a:pt x="495" y="339"/>
                      </a:lnTo>
                      <a:lnTo>
                        <a:pt x="468" y="468"/>
                      </a:lnTo>
                      <a:lnTo>
                        <a:pt x="371" y="694"/>
                      </a:lnTo>
                      <a:lnTo>
                        <a:pt x="543" y="519"/>
                      </a:lnTo>
                      <a:lnTo>
                        <a:pt x="613" y="540"/>
                      </a:lnTo>
                      <a:lnTo>
                        <a:pt x="251" y="1092"/>
                      </a:lnTo>
                      <a:lnTo>
                        <a:pt x="903" y="481"/>
                      </a:lnTo>
                      <a:lnTo>
                        <a:pt x="1304" y="661"/>
                      </a:lnTo>
                      <a:lnTo>
                        <a:pt x="1387" y="936"/>
                      </a:lnTo>
                      <a:lnTo>
                        <a:pt x="1664" y="1189"/>
                      </a:lnTo>
                      <a:lnTo>
                        <a:pt x="1687" y="1452"/>
                      </a:lnTo>
                      <a:lnTo>
                        <a:pt x="1822" y="1659"/>
                      </a:lnTo>
                      <a:lnTo>
                        <a:pt x="1738" y="1909"/>
                      </a:lnTo>
                      <a:lnTo>
                        <a:pt x="1422" y="2038"/>
                      </a:lnTo>
                      <a:lnTo>
                        <a:pt x="1433" y="2138"/>
                      </a:lnTo>
                      <a:lnTo>
                        <a:pt x="1712" y="2366"/>
                      </a:lnTo>
                      <a:lnTo>
                        <a:pt x="1496" y="2388"/>
                      </a:lnTo>
                      <a:lnTo>
                        <a:pt x="1253" y="2280"/>
                      </a:lnTo>
                      <a:lnTo>
                        <a:pt x="1747" y="2748"/>
                      </a:lnTo>
                      <a:lnTo>
                        <a:pt x="1687" y="2806"/>
                      </a:lnTo>
                      <a:lnTo>
                        <a:pt x="1350" y="2748"/>
                      </a:lnTo>
                      <a:lnTo>
                        <a:pt x="1350" y="3061"/>
                      </a:lnTo>
                      <a:lnTo>
                        <a:pt x="1182" y="3252"/>
                      </a:lnTo>
                      <a:lnTo>
                        <a:pt x="1073" y="3156"/>
                      </a:lnTo>
                      <a:lnTo>
                        <a:pt x="806" y="3636"/>
                      </a:lnTo>
                      <a:lnTo>
                        <a:pt x="506" y="3898"/>
                      </a:lnTo>
                      <a:lnTo>
                        <a:pt x="387" y="4199"/>
                      </a:lnTo>
                      <a:lnTo>
                        <a:pt x="481" y="4272"/>
                      </a:lnTo>
                      <a:lnTo>
                        <a:pt x="1290" y="3995"/>
                      </a:lnTo>
                      <a:lnTo>
                        <a:pt x="1991" y="2833"/>
                      </a:lnTo>
                      <a:lnTo>
                        <a:pt x="1991" y="1821"/>
                      </a:lnTo>
                      <a:lnTo>
                        <a:pt x="1798" y="1199"/>
                      </a:lnTo>
                      <a:lnTo>
                        <a:pt x="1653" y="947"/>
                      </a:lnTo>
                      <a:lnTo>
                        <a:pt x="1521" y="828"/>
                      </a:lnTo>
                      <a:lnTo>
                        <a:pt x="1387" y="613"/>
                      </a:lnTo>
                      <a:lnTo>
                        <a:pt x="831" y="358"/>
                      </a:lnTo>
                      <a:lnTo>
                        <a:pt x="686" y="433"/>
                      </a:lnTo>
                      <a:lnTo>
                        <a:pt x="613" y="358"/>
                      </a:lnTo>
                      <a:lnTo>
                        <a:pt x="578" y="228"/>
                      </a:lnTo>
                      <a:lnTo>
                        <a:pt x="361" y="108"/>
                      </a:lnTo>
                      <a:lnTo>
                        <a:pt x="244" y="97"/>
                      </a:lnTo>
                      <a:lnTo>
                        <a:pt x="134" y="0"/>
                      </a:lnTo>
                      <a:lnTo>
                        <a:pt x="0" y="11"/>
                      </a:lnTo>
                      <a:lnTo>
                        <a:pt x="48" y="182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8124840" y="4966560"/>
                  <a:ext cx="36360" cy="259920"/>
                </a:xfrm>
                <a:custGeom>
                  <a:avLst/>
                  <a:gdLst/>
                  <a:ahLst/>
                  <a:rect l="l" t="t" r="r" b="b"/>
                  <a:pathLst>
                    <a:path w="434" h="2461">
                      <a:moveTo>
                        <a:pt x="276" y="0"/>
                      </a:moveTo>
                      <a:lnTo>
                        <a:pt x="166" y="72"/>
                      </a:lnTo>
                      <a:lnTo>
                        <a:pt x="106" y="204"/>
                      </a:lnTo>
                      <a:lnTo>
                        <a:pt x="96" y="326"/>
                      </a:lnTo>
                      <a:lnTo>
                        <a:pt x="106" y="688"/>
                      </a:lnTo>
                      <a:lnTo>
                        <a:pt x="72" y="962"/>
                      </a:lnTo>
                      <a:lnTo>
                        <a:pt x="37" y="1275"/>
                      </a:lnTo>
                      <a:lnTo>
                        <a:pt x="0" y="1504"/>
                      </a:lnTo>
                      <a:lnTo>
                        <a:pt x="0" y="1780"/>
                      </a:lnTo>
                      <a:lnTo>
                        <a:pt x="10" y="2029"/>
                      </a:lnTo>
                      <a:lnTo>
                        <a:pt x="145" y="2461"/>
                      </a:lnTo>
                      <a:lnTo>
                        <a:pt x="434" y="2391"/>
                      </a:lnTo>
                      <a:lnTo>
                        <a:pt x="311" y="1993"/>
                      </a:lnTo>
                      <a:lnTo>
                        <a:pt x="263" y="1684"/>
                      </a:lnTo>
                      <a:lnTo>
                        <a:pt x="287" y="1407"/>
                      </a:lnTo>
                      <a:lnTo>
                        <a:pt x="337" y="1130"/>
                      </a:lnTo>
                      <a:lnTo>
                        <a:pt x="397" y="879"/>
                      </a:lnTo>
                      <a:lnTo>
                        <a:pt x="397" y="734"/>
                      </a:lnTo>
                      <a:lnTo>
                        <a:pt x="360" y="602"/>
                      </a:lnTo>
                      <a:lnTo>
                        <a:pt x="311" y="519"/>
                      </a:lnTo>
                      <a:lnTo>
                        <a:pt x="325" y="194"/>
                      </a:lnTo>
                      <a:lnTo>
                        <a:pt x="337" y="12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7917840" y="5166000"/>
                  <a:ext cx="109440" cy="114120"/>
                </a:xfrm>
                <a:custGeom>
                  <a:avLst/>
                  <a:gdLst/>
                  <a:ahLst/>
                  <a:rect l="l" t="t" r="r" b="b"/>
                  <a:pathLst>
                    <a:path w="1314" h="1079">
                      <a:moveTo>
                        <a:pt x="374" y="0"/>
                      </a:moveTo>
                      <a:lnTo>
                        <a:pt x="300" y="35"/>
                      </a:lnTo>
                      <a:lnTo>
                        <a:pt x="300" y="97"/>
                      </a:lnTo>
                      <a:lnTo>
                        <a:pt x="194" y="143"/>
                      </a:lnTo>
                      <a:lnTo>
                        <a:pt x="167" y="192"/>
                      </a:lnTo>
                      <a:lnTo>
                        <a:pt x="129" y="335"/>
                      </a:lnTo>
                      <a:lnTo>
                        <a:pt x="24" y="395"/>
                      </a:lnTo>
                      <a:lnTo>
                        <a:pt x="0" y="613"/>
                      </a:lnTo>
                      <a:lnTo>
                        <a:pt x="59" y="830"/>
                      </a:lnTo>
                      <a:lnTo>
                        <a:pt x="290" y="934"/>
                      </a:lnTo>
                      <a:lnTo>
                        <a:pt x="662" y="1056"/>
                      </a:lnTo>
                      <a:lnTo>
                        <a:pt x="938" y="1068"/>
                      </a:lnTo>
                      <a:lnTo>
                        <a:pt x="1241" y="1079"/>
                      </a:lnTo>
                      <a:lnTo>
                        <a:pt x="1217" y="925"/>
                      </a:lnTo>
                      <a:lnTo>
                        <a:pt x="1217" y="817"/>
                      </a:lnTo>
                      <a:lnTo>
                        <a:pt x="1229" y="699"/>
                      </a:lnTo>
                      <a:lnTo>
                        <a:pt x="1314" y="529"/>
                      </a:lnTo>
                      <a:lnTo>
                        <a:pt x="1229" y="480"/>
                      </a:lnTo>
                      <a:lnTo>
                        <a:pt x="1156" y="408"/>
                      </a:lnTo>
                      <a:lnTo>
                        <a:pt x="1096" y="309"/>
                      </a:lnTo>
                      <a:lnTo>
                        <a:pt x="1024" y="226"/>
                      </a:lnTo>
                      <a:lnTo>
                        <a:pt x="950" y="167"/>
                      </a:lnTo>
                      <a:lnTo>
                        <a:pt x="879" y="143"/>
                      </a:lnTo>
                      <a:lnTo>
                        <a:pt x="769" y="167"/>
                      </a:lnTo>
                      <a:lnTo>
                        <a:pt x="637" y="204"/>
                      </a:lnTo>
                      <a:lnTo>
                        <a:pt x="588" y="180"/>
                      </a:lnTo>
                      <a:lnTo>
                        <a:pt x="528" y="59"/>
                      </a:lnTo>
                      <a:lnTo>
                        <a:pt x="470" y="26"/>
                      </a:lnTo>
                      <a:lnTo>
                        <a:pt x="374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8066520" y="4741920"/>
                  <a:ext cx="149760" cy="227880"/>
                </a:xfrm>
                <a:custGeom>
                  <a:avLst/>
                  <a:gdLst/>
                  <a:ahLst/>
                  <a:rect l="l" t="t" r="r" b="b"/>
                  <a:pathLst>
                    <a:path w="1808" h="2151">
                      <a:moveTo>
                        <a:pt x="1784" y="591"/>
                      </a:moveTo>
                      <a:lnTo>
                        <a:pt x="1808" y="681"/>
                      </a:lnTo>
                      <a:lnTo>
                        <a:pt x="1803" y="758"/>
                      </a:lnTo>
                      <a:lnTo>
                        <a:pt x="1773" y="877"/>
                      </a:lnTo>
                      <a:lnTo>
                        <a:pt x="1698" y="1052"/>
                      </a:lnTo>
                      <a:lnTo>
                        <a:pt x="1573" y="1178"/>
                      </a:lnTo>
                      <a:lnTo>
                        <a:pt x="1459" y="1701"/>
                      </a:lnTo>
                      <a:lnTo>
                        <a:pt x="1289" y="1884"/>
                      </a:lnTo>
                      <a:lnTo>
                        <a:pt x="1164" y="2022"/>
                      </a:lnTo>
                      <a:lnTo>
                        <a:pt x="1091" y="2133"/>
                      </a:lnTo>
                      <a:lnTo>
                        <a:pt x="1045" y="2151"/>
                      </a:lnTo>
                      <a:lnTo>
                        <a:pt x="835" y="1868"/>
                      </a:lnTo>
                      <a:lnTo>
                        <a:pt x="657" y="1890"/>
                      </a:lnTo>
                      <a:lnTo>
                        <a:pt x="569" y="1890"/>
                      </a:lnTo>
                      <a:lnTo>
                        <a:pt x="512" y="1852"/>
                      </a:lnTo>
                      <a:lnTo>
                        <a:pt x="477" y="1791"/>
                      </a:lnTo>
                      <a:lnTo>
                        <a:pt x="429" y="1628"/>
                      </a:lnTo>
                      <a:lnTo>
                        <a:pt x="289" y="1351"/>
                      </a:lnTo>
                      <a:lnTo>
                        <a:pt x="141" y="1169"/>
                      </a:lnTo>
                      <a:lnTo>
                        <a:pt x="107" y="1022"/>
                      </a:lnTo>
                      <a:lnTo>
                        <a:pt x="76" y="872"/>
                      </a:lnTo>
                      <a:lnTo>
                        <a:pt x="28" y="653"/>
                      </a:lnTo>
                      <a:lnTo>
                        <a:pt x="0" y="353"/>
                      </a:lnTo>
                      <a:lnTo>
                        <a:pt x="24" y="208"/>
                      </a:lnTo>
                      <a:lnTo>
                        <a:pt x="76" y="99"/>
                      </a:lnTo>
                      <a:lnTo>
                        <a:pt x="1324" y="0"/>
                      </a:lnTo>
                      <a:lnTo>
                        <a:pt x="1698" y="433"/>
                      </a:lnTo>
                      <a:lnTo>
                        <a:pt x="1784" y="59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8080560" y="483012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152" h="113">
                      <a:moveTo>
                        <a:pt x="0" y="83"/>
                      </a:moveTo>
                      <a:lnTo>
                        <a:pt x="49" y="113"/>
                      </a:lnTo>
                      <a:lnTo>
                        <a:pt x="152" y="79"/>
                      </a:lnTo>
                      <a:lnTo>
                        <a:pt x="152" y="0"/>
                      </a:lnTo>
                      <a:lnTo>
                        <a:pt x="33" y="16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8127000" y="4818240"/>
                  <a:ext cx="18360" cy="8280"/>
                </a:xfrm>
                <a:custGeom>
                  <a:avLst/>
                  <a:gdLst/>
                  <a:ahLst/>
                  <a:rect l="l" t="t" r="r" b="b"/>
                  <a:pathLst>
                    <a:path w="231" h="83">
                      <a:moveTo>
                        <a:pt x="27" y="83"/>
                      </a:moveTo>
                      <a:lnTo>
                        <a:pt x="130" y="74"/>
                      </a:lnTo>
                      <a:lnTo>
                        <a:pt x="231" y="47"/>
                      </a:lnTo>
                      <a:lnTo>
                        <a:pt x="104" y="0"/>
                      </a:lnTo>
                      <a:lnTo>
                        <a:pt x="0" y="0"/>
                      </a:lnTo>
                      <a:lnTo>
                        <a:pt x="27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8067240" y="4711320"/>
                  <a:ext cx="119880" cy="47160"/>
                </a:xfrm>
                <a:custGeom>
                  <a:avLst/>
                  <a:gdLst/>
                  <a:ahLst/>
                  <a:rect l="l" t="t" r="r" b="b"/>
                  <a:pathLst>
                    <a:path w="1451" h="452">
                      <a:moveTo>
                        <a:pt x="110" y="41"/>
                      </a:moveTo>
                      <a:lnTo>
                        <a:pt x="237" y="0"/>
                      </a:lnTo>
                      <a:lnTo>
                        <a:pt x="603" y="0"/>
                      </a:lnTo>
                      <a:lnTo>
                        <a:pt x="1255" y="165"/>
                      </a:lnTo>
                      <a:lnTo>
                        <a:pt x="1451" y="391"/>
                      </a:lnTo>
                      <a:lnTo>
                        <a:pt x="1134" y="318"/>
                      </a:lnTo>
                      <a:lnTo>
                        <a:pt x="981" y="360"/>
                      </a:lnTo>
                      <a:lnTo>
                        <a:pt x="846" y="424"/>
                      </a:lnTo>
                      <a:lnTo>
                        <a:pt x="647" y="452"/>
                      </a:lnTo>
                      <a:lnTo>
                        <a:pt x="426" y="444"/>
                      </a:lnTo>
                      <a:lnTo>
                        <a:pt x="218" y="391"/>
                      </a:lnTo>
                      <a:lnTo>
                        <a:pt x="68" y="318"/>
                      </a:lnTo>
                      <a:lnTo>
                        <a:pt x="16" y="251"/>
                      </a:lnTo>
                      <a:lnTo>
                        <a:pt x="0" y="186"/>
                      </a:lnTo>
                      <a:lnTo>
                        <a:pt x="4" y="129"/>
                      </a:lnTo>
                      <a:lnTo>
                        <a:pt x="110" y="4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8160840" y="4755600"/>
                  <a:ext cx="58320" cy="65880"/>
                </a:xfrm>
                <a:custGeom>
                  <a:avLst/>
                  <a:gdLst/>
                  <a:ahLst/>
                  <a:rect l="l" t="t" r="r" b="b"/>
                  <a:pathLst>
                    <a:path w="700" h="629">
                      <a:moveTo>
                        <a:pt x="666" y="482"/>
                      </a:moveTo>
                      <a:lnTo>
                        <a:pt x="548" y="411"/>
                      </a:lnTo>
                      <a:lnTo>
                        <a:pt x="449" y="405"/>
                      </a:lnTo>
                      <a:lnTo>
                        <a:pt x="392" y="482"/>
                      </a:lnTo>
                      <a:lnTo>
                        <a:pt x="378" y="629"/>
                      </a:lnTo>
                      <a:lnTo>
                        <a:pt x="173" y="604"/>
                      </a:lnTo>
                      <a:lnTo>
                        <a:pt x="182" y="528"/>
                      </a:lnTo>
                      <a:lnTo>
                        <a:pt x="139" y="433"/>
                      </a:lnTo>
                      <a:lnTo>
                        <a:pt x="76" y="374"/>
                      </a:lnTo>
                      <a:lnTo>
                        <a:pt x="36" y="350"/>
                      </a:lnTo>
                      <a:lnTo>
                        <a:pt x="0" y="141"/>
                      </a:lnTo>
                      <a:lnTo>
                        <a:pt x="286" y="0"/>
                      </a:lnTo>
                      <a:lnTo>
                        <a:pt x="588" y="110"/>
                      </a:lnTo>
                      <a:lnTo>
                        <a:pt x="632" y="360"/>
                      </a:lnTo>
                      <a:lnTo>
                        <a:pt x="700" y="447"/>
                      </a:lnTo>
                      <a:lnTo>
                        <a:pt x="666" y="4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8154720" y="4743000"/>
                  <a:ext cx="64080" cy="67320"/>
                </a:xfrm>
                <a:custGeom>
                  <a:avLst/>
                  <a:gdLst/>
                  <a:ahLst/>
                  <a:rect l="l" t="t" r="r" b="b"/>
                  <a:pathLst>
                    <a:path w="775" h="641">
                      <a:moveTo>
                        <a:pt x="747" y="575"/>
                      </a:moveTo>
                      <a:lnTo>
                        <a:pt x="701" y="518"/>
                      </a:lnTo>
                      <a:lnTo>
                        <a:pt x="643" y="461"/>
                      </a:lnTo>
                      <a:lnTo>
                        <a:pt x="608" y="397"/>
                      </a:lnTo>
                      <a:lnTo>
                        <a:pt x="617" y="309"/>
                      </a:lnTo>
                      <a:lnTo>
                        <a:pt x="586" y="261"/>
                      </a:lnTo>
                      <a:lnTo>
                        <a:pt x="530" y="230"/>
                      </a:lnTo>
                      <a:lnTo>
                        <a:pt x="496" y="226"/>
                      </a:lnTo>
                      <a:lnTo>
                        <a:pt x="440" y="230"/>
                      </a:lnTo>
                      <a:lnTo>
                        <a:pt x="488" y="316"/>
                      </a:lnTo>
                      <a:lnTo>
                        <a:pt x="571" y="397"/>
                      </a:lnTo>
                      <a:lnTo>
                        <a:pt x="440" y="316"/>
                      </a:lnTo>
                      <a:lnTo>
                        <a:pt x="343" y="274"/>
                      </a:lnTo>
                      <a:lnTo>
                        <a:pt x="242" y="283"/>
                      </a:lnTo>
                      <a:lnTo>
                        <a:pt x="161" y="288"/>
                      </a:lnTo>
                      <a:lnTo>
                        <a:pt x="118" y="300"/>
                      </a:lnTo>
                      <a:lnTo>
                        <a:pt x="152" y="371"/>
                      </a:lnTo>
                      <a:lnTo>
                        <a:pt x="320" y="378"/>
                      </a:lnTo>
                      <a:lnTo>
                        <a:pt x="454" y="447"/>
                      </a:lnTo>
                      <a:lnTo>
                        <a:pt x="336" y="447"/>
                      </a:lnTo>
                      <a:lnTo>
                        <a:pt x="384" y="518"/>
                      </a:lnTo>
                      <a:lnTo>
                        <a:pt x="413" y="602"/>
                      </a:lnTo>
                      <a:lnTo>
                        <a:pt x="378" y="641"/>
                      </a:lnTo>
                      <a:lnTo>
                        <a:pt x="274" y="586"/>
                      </a:lnTo>
                      <a:lnTo>
                        <a:pt x="182" y="542"/>
                      </a:lnTo>
                      <a:lnTo>
                        <a:pt x="161" y="503"/>
                      </a:lnTo>
                      <a:lnTo>
                        <a:pt x="90" y="480"/>
                      </a:lnTo>
                      <a:lnTo>
                        <a:pt x="57" y="378"/>
                      </a:lnTo>
                      <a:lnTo>
                        <a:pt x="48" y="239"/>
                      </a:lnTo>
                      <a:lnTo>
                        <a:pt x="23" y="191"/>
                      </a:lnTo>
                      <a:lnTo>
                        <a:pt x="39" y="136"/>
                      </a:lnTo>
                      <a:lnTo>
                        <a:pt x="0" y="127"/>
                      </a:lnTo>
                      <a:lnTo>
                        <a:pt x="48" y="78"/>
                      </a:lnTo>
                      <a:lnTo>
                        <a:pt x="175" y="63"/>
                      </a:lnTo>
                      <a:lnTo>
                        <a:pt x="343" y="85"/>
                      </a:lnTo>
                      <a:lnTo>
                        <a:pt x="518" y="0"/>
                      </a:lnTo>
                      <a:lnTo>
                        <a:pt x="622" y="94"/>
                      </a:lnTo>
                      <a:lnTo>
                        <a:pt x="678" y="182"/>
                      </a:lnTo>
                      <a:lnTo>
                        <a:pt x="692" y="274"/>
                      </a:lnTo>
                      <a:lnTo>
                        <a:pt x="701" y="406"/>
                      </a:lnTo>
                      <a:lnTo>
                        <a:pt x="705" y="489"/>
                      </a:lnTo>
                      <a:lnTo>
                        <a:pt x="775" y="595"/>
                      </a:lnTo>
                      <a:lnTo>
                        <a:pt x="747" y="575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7719840" y="4830840"/>
                  <a:ext cx="357840" cy="338760"/>
                </a:xfrm>
                <a:custGeom>
                  <a:avLst/>
                  <a:gdLst/>
                  <a:ahLst/>
                  <a:rect l="l" t="t" r="r" b="b"/>
                  <a:pathLst>
                    <a:path w="4318" h="3200">
                      <a:moveTo>
                        <a:pt x="4072" y="2092"/>
                      </a:moveTo>
                      <a:lnTo>
                        <a:pt x="4095" y="1897"/>
                      </a:lnTo>
                      <a:lnTo>
                        <a:pt x="4208" y="1706"/>
                      </a:lnTo>
                      <a:lnTo>
                        <a:pt x="4318" y="1345"/>
                      </a:lnTo>
                      <a:lnTo>
                        <a:pt x="4249" y="1246"/>
                      </a:lnTo>
                      <a:lnTo>
                        <a:pt x="4090" y="1246"/>
                      </a:lnTo>
                      <a:lnTo>
                        <a:pt x="3986" y="1086"/>
                      </a:lnTo>
                      <a:lnTo>
                        <a:pt x="3929" y="1035"/>
                      </a:lnTo>
                      <a:lnTo>
                        <a:pt x="3909" y="1035"/>
                      </a:lnTo>
                      <a:lnTo>
                        <a:pt x="3808" y="1057"/>
                      </a:lnTo>
                      <a:lnTo>
                        <a:pt x="3498" y="561"/>
                      </a:lnTo>
                      <a:lnTo>
                        <a:pt x="3329" y="459"/>
                      </a:lnTo>
                      <a:lnTo>
                        <a:pt x="3087" y="139"/>
                      </a:lnTo>
                      <a:lnTo>
                        <a:pt x="2935" y="99"/>
                      </a:lnTo>
                      <a:lnTo>
                        <a:pt x="2834" y="132"/>
                      </a:lnTo>
                      <a:lnTo>
                        <a:pt x="2723" y="113"/>
                      </a:lnTo>
                      <a:lnTo>
                        <a:pt x="2615" y="148"/>
                      </a:lnTo>
                      <a:lnTo>
                        <a:pt x="2327" y="180"/>
                      </a:lnTo>
                      <a:lnTo>
                        <a:pt x="2237" y="148"/>
                      </a:lnTo>
                      <a:lnTo>
                        <a:pt x="2126" y="189"/>
                      </a:lnTo>
                      <a:lnTo>
                        <a:pt x="2057" y="113"/>
                      </a:lnTo>
                      <a:lnTo>
                        <a:pt x="1973" y="31"/>
                      </a:lnTo>
                      <a:lnTo>
                        <a:pt x="1914" y="0"/>
                      </a:lnTo>
                      <a:lnTo>
                        <a:pt x="1232" y="249"/>
                      </a:lnTo>
                      <a:lnTo>
                        <a:pt x="1171" y="420"/>
                      </a:lnTo>
                      <a:lnTo>
                        <a:pt x="853" y="589"/>
                      </a:lnTo>
                      <a:lnTo>
                        <a:pt x="632" y="627"/>
                      </a:lnTo>
                      <a:lnTo>
                        <a:pt x="441" y="807"/>
                      </a:lnTo>
                      <a:lnTo>
                        <a:pt x="413" y="910"/>
                      </a:lnTo>
                      <a:lnTo>
                        <a:pt x="371" y="1015"/>
                      </a:lnTo>
                      <a:lnTo>
                        <a:pt x="259" y="1356"/>
                      </a:lnTo>
                      <a:lnTo>
                        <a:pt x="210" y="1624"/>
                      </a:lnTo>
                      <a:lnTo>
                        <a:pt x="270" y="1854"/>
                      </a:lnTo>
                      <a:lnTo>
                        <a:pt x="180" y="2075"/>
                      </a:lnTo>
                      <a:lnTo>
                        <a:pt x="90" y="2103"/>
                      </a:lnTo>
                      <a:lnTo>
                        <a:pt x="0" y="2193"/>
                      </a:lnTo>
                      <a:lnTo>
                        <a:pt x="191" y="2792"/>
                      </a:lnTo>
                      <a:lnTo>
                        <a:pt x="399" y="2861"/>
                      </a:lnTo>
                      <a:lnTo>
                        <a:pt x="761" y="2613"/>
                      </a:lnTo>
                      <a:lnTo>
                        <a:pt x="1042" y="1945"/>
                      </a:lnTo>
                      <a:lnTo>
                        <a:pt x="1211" y="2262"/>
                      </a:lnTo>
                      <a:lnTo>
                        <a:pt x="1303" y="2771"/>
                      </a:lnTo>
                      <a:lnTo>
                        <a:pt x="1232" y="2903"/>
                      </a:lnTo>
                      <a:lnTo>
                        <a:pt x="1204" y="3129"/>
                      </a:lnTo>
                      <a:lnTo>
                        <a:pt x="1261" y="3200"/>
                      </a:lnTo>
                      <a:lnTo>
                        <a:pt x="3408" y="2892"/>
                      </a:lnTo>
                      <a:lnTo>
                        <a:pt x="3355" y="1517"/>
                      </a:lnTo>
                      <a:lnTo>
                        <a:pt x="3569" y="1695"/>
                      </a:lnTo>
                      <a:lnTo>
                        <a:pt x="3707" y="1714"/>
                      </a:lnTo>
                      <a:lnTo>
                        <a:pt x="3777" y="1846"/>
                      </a:lnTo>
                      <a:lnTo>
                        <a:pt x="3938" y="1854"/>
                      </a:lnTo>
                      <a:lnTo>
                        <a:pt x="4028" y="1994"/>
                      </a:lnTo>
                      <a:lnTo>
                        <a:pt x="4072" y="209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7903440" y="5129280"/>
                  <a:ext cx="33120" cy="29520"/>
                </a:xfrm>
                <a:custGeom>
                  <a:avLst/>
                  <a:gdLst/>
                  <a:ahLst/>
                  <a:rect l="l" t="t" r="r" b="b"/>
                  <a:pathLst>
                    <a:path w="400" h="279">
                      <a:moveTo>
                        <a:pt x="279" y="0"/>
                      </a:moveTo>
                      <a:lnTo>
                        <a:pt x="130" y="0"/>
                      </a:lnTo>
                      <a:lnTo>
                        <a:pt x="8" y="83"/>
                      </a:lnTo>
                      <a:lnTo>
                        <a:pt x="0" y="242"/>
                      </a:lnTo>
                      <a:lnTo>
                        <a:pt x="40" y="279"/>
                      </a:lnTo>
                      <a:lnTo>
                        <a:pt x="391" y="210"/>
                      </a:lnTo>
                      <a:lnTo>
                        <a:pt x="400" y="162"/>
                      </a:lnTo>
                      <a:lnTo>
                        <a:pt x="349" y="30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7737840" y="4932000"/>
                  <a:ext cx="18360" cy="104040"/>
                </a:xfrm>
                <a:custGeom>
                  <a:avLst/>
                  <a:gdLst/>
                  <a:ahLst/>
                  <a:rect l="l" t="t" r="r" b="b"/>
                  <a:pathLst>
                    <a:path w="231" h="977">
                      <a:moveTo>
                        <a:pt x="183" y="0"/>
                      </a:moveTo>
                      <a:lnTo>
                        <a:pt x="183" y="283"/>
                      </a:lnTo>
                      <a:lnTo>
                        <a:pt x="231" y="659"/>
                      </a:lnTo>
                      <a:lnTo>
                        <a:pt x="90" y="648"/>
                      </a:lnTo>
                      <a:lnTo>
                        <a:pt x="210" y="856"/>
                      </a:lnTo>
                      <a:lnTo>
                        <a:pt x="148" y="977"/>
                      </a:lnTo>
                      <a:lnTo>
                        <a:pt x="0" y="687"/>
                      </a:lnTo>
                      <a:lnTo>
                        <a:pt x="0" y="560"/>
                      </a:lnTo>
                      <a:lnTo>
                        <a:pt x="130" y="129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7724520" y="4974120"/>
                  <a:ext cx="83160" cy="158400"/>
                </a:xfrm>
                <a:custGeom>
                  <a:avLst/>
                  <a:gdLst/>
                  <a:ahLst/>
                  <a:rect l="l" t="t" r="r" b="b"/>
                  <a:pathLst>
                    <a:path w="1008" h="1494">
                      <a:moveTo>
                        <a:pt x="0" y="778"/>
                      </a:moveTo>
                      <a:lnTo>
                        <a:pt x="28" y="837"/>
                      </a:lnTo>
                      <a:lnTo>
                        <a:pt x="28" y="975"/>
                      </a:lnTo>
                      <a:lnTo>
                        <a:pt x="99" y="1156"/>
                      </a:lnTo>
                      <a:lnTo>
                        <a:pt x="159" y="1048"/>
                      </a:lnTo>
                      <a:lnTo>
                        <a:pt x="281" y="1305"/>
                      </a:lnTo>
                      <a:lnTo>
                        <a:pt x="120" y="1378"/>
                      </a:lnTo>
                      <a:lnTo>
                        <a:pt x="342" y="1494"/>
                      </a:lnTo>
                      <a:lnTo>
                        <a:pt x="648" y="1385"/>
                      </a:lnTo>
                      <a:lnTo>
                        <a:pt x="839" y="1057"/>
                      </a:lnTo>
                      <a:lnTo>
                        <a:pt x="883" y="820"/>
                      </a:lnTo>
                      <a:lnTo>
                        <a:pt x="911" y="589"/>
                      </a:lnTo>
                      <a:lnTo>
                        <a:pt x="1008" y="310"/>
                      </a:lnTo>
                      <a:lnTo>
                        <a:pt x="869" y="30"/>
                      </a:lnTo>
                      <a:lnTo>
                        <a:pt x="812" y="0"/>
                      </a:lnTo>
                      <a:lnTo>
                        <a:pt x="710" y="279"/>
                      </a:lnTo>
                      <a:lnTo>
                        <a:pt x="779" y="350"/>
                      </a:lnTo>
                      <a:lnTo>
                        <a:pt x="890" y="400"/>
                      </a:lnTo>
                      <a:lnTo>
                        <a:pt x="770" y="679"/>
                      </a:lnTo>
                      <a:lnTo>
                        <a:pt x="770" y="848"/>
                      </a:lnTo>
                      <a:lnTo>
                        <a:pt x="648" y="1026"/>
                      </a:lnTo>
                      <a:lnTo>
                        <a:pt x="438" y="1057"/>
                      </a:lnTo>
                      <a:lnTo>
                        <a:pt x="307" y="589"/>
                      </a:lnTo>
                      <a:lnTo>
                        <a:pt x="69" y="736"/>
                      </a:lnTo>
                      <a:lnTo>
                        <a:pt x="0" y="778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7801920" y="4880880"/>
                  <a:ext cx="195120" cy="290520"/>
                </a:xfrm>
                <a:custGeom>
                  <a:avLst/>
                  <a:gdLst/>
                  <a:ahLst/>
                  <a:rect l="l" t="t" r="r" b="b"/>
                  <a:pathLst>
                    <a:path w="2355" h="2742">
                      <a:moveTo>
                        <a:pt x="303" y="558"/>
                      </a:moveTo>
                      <a:lnTo>
                        <a:pt x="413" y="639"/>
                      </a:lnTo>
                      <a:lnTo>
                        <a:pt x="289" y="1119"/>
                      </a:lnTo>
                      <a:lnTo>
                        <a:pt x="289" y="1398"/>
                      </a:lnTo>
                      <a:lnTo>
                        <a:pt x="630" y="1476"/>
                      </a:lnTo>
                      <a:lnTo>
                        <a:pt x="604" y="411"/>
                      </a:lnTo>
                      <a:lnTo>
                        <a:pt x="630" y="208"/>
                      </a:lnTo>
                      <a:lnTo>
                        <a:pt x="503" y="150"/>
                      </a:lnTo>
                      <a:lnTo>
                        <a:pt x="382" y="231"/>
                      </a:lnTo>
                      <a:lnTo>
                        <a:pt x="360" y="208"/>
                      </a:lnTo>
                      <a:lnTo>
                        <a:pt x="450" y="143"/>
                      </a:lnTo>
                      <a:lnTo>
                        <a:pt x="503" y="72"/>
                      </a:lnTo>
                      <a:lnTo>
                        <a:pt x="833" y="0"/>
                      </a:lnTo>
                      <a:lnTo>
                        <a:pt x="991" y="84"/>
                      </a:lnTo>
                      <a:lnTo>
                        <a:pt x="943" y="121"/>
                      </a:lnTo>
                      <a:lnTo>
                        <a:pt x="833" y="112"/>
                      </a:lnTo>
                      <a:lnTo>
                        <a:pt x="782" y="252"/>
                      </a:lnTo>
                      <a:lnTo>
                        <a:pt x="1092" y="1558"/>
                      </a:lnTo>
                      <a:lnTo>
                        <a:pt x="1413" y="1747"/>
                      </a:lnTo>
                      <a:lnTo>
                        <a:pt x="1965" y="2035"/>
                      </a:lnTo>
                      <a:lnTo>
                        <a:pt x="1905" y="1875"/>
                      </a:lnTo>
                      <a:lnTo>
                        <a:pt x="2207" y="1993"/>
                      </a:lnTo>
                      <a:lnTo>
                        <a:pt x="2297" y="1773"/>
                      </a:lnTo>
                      <a:lnTo>
                        <a:pt x="2345" y="1785"/>
                      </a:lnTo>
                      <a:lnTo>
                        <a:pt x="2306" y="2145"/>
                      </a:lnTo>
                      <a:lnTo>
                        <a:pt x="2355" y="2343"/>
                      </a:lnTo>
                      <a:lnTo>
                        <a:pt x="2133" y="2393"/>
                      </a:lnTo>
                      <a:lnTo>
                        <a:pt x="1598" y="2356"/>
                      </a:lnTo>
                      <a:lnTo>
                        <a:pt x="1723" y="2272"/>
                      </a:lnTo>
                      <a:lnTo>
                        <a:pt x="1644" y="2126"/>
                      </a:lnTo>
                      <a:lnTo>
                        <a:pt x="1732" y="2085"/>
                      </a:lnTo>
                      <a:lnTo>
                        <a:pt x="1503" y="2015"/>
                      </a:lnTo>
                      <a:lnTo>
                        <a:pt x="1503" y="2165"/>
                      </a:lnTo>
                      <a:lnTo>
                        <a:pt x="1444" y="2334"/>
                      </a:lnTo>
                      <a:lnTo>
                        <a:pt x="1246" y="2405"/>
                      </a:lnTo>
                      <a:lnTo>
                        <a:pt x="1273" y="2384"/>
                      </a:lnTo>
                      <a:lnTo>
                        <a:pt x="1135" y="2043"/>
                      </a:lnTo>
                      <a:lnTo>
                        <a:pt x="863" y="1868"/>
                      </a:lnTo>
                      <a:lnTo>
                        <a:pt x="591" y="1826"/>
                      </a:lnTo>
                      <a:lnTo>
                        <a:pt x="663" y="1916"/>
                      </a:lnTo>
                      <a:lnTo>
                        <a:pt x="624" y="1936"/>
                      </a:lnTo>
                      <a:lnTo>
                        <a:pt x="773" y="1976"/>
                      </a:lnTo>
                      <a:lnTo>
                        <a:pt x="1054" y="2204"/>
                      </a:lnTo>
                      <a:lnTo>
                        <a:pt x="1171" y="2322"/>
                      </a:lnTo>
                      <a:lnTo>
                        <a:pt x="962" y="2315"/>
                      </a:lnTo>
                      <a:lnTo>
                        <a:pt x="734" y="2246"/>
                      </a:lnTo>
                      <a:lnTo>
                        <a:pt x="923" y="2405"/>
                      </a:lnTo>
                      <a:lnTo>
                        <a:pt x="743" y="2463"/>
                      </a:lnTo>
                      <a:lnTo>
                        <a:pt x="521" y="2601"/>
                      </a:lnTo>
                      <a:lnTo>
                        <a:pt x="851" y="2525"/>
                      </a:lnTo>
                      <a:lnTo>
                        <a:pt x="552" y="2742"/>
                      </a:lnTo>
                      <a:lnTo>
                        <a:pt x="250" y="2742"/>
                      </a:lnTo>
                      <a:lnTo>
                        <a:pt x="213" y="2652"/>
                      </a:lnTo>
                      <a:lnTo>
                        <a:pt x="303" y="2272"/>
                      </a:lnTo>
                      <a:lnTo>
                        <a:pt x="270" y="2114"/>
                      </a:lnTo>
                      <a:lnTo>
                        <a:pt x="0" y="1178"/>
                      </a:lnTo>
                      <a:lnTo>
                        <a:pt x="81" y="720"/>
                      </a:lnTo>
                      <a:lnTo>
                        <a:pt x="303" y="558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7894080" y="4840560"/>
                  <a:ext cx="70560" cy="65160"/>
                </a:xfrm>
                <a:custGeom>
                  <a:avLst/>
                  <a:gdLst/>
                  <a:ahLst/>
                  <a:rect l="l" t="t" r="r" b="b"/>
                  <a:pathLst>
                    <a:path w="851" h="616">
                      <a:moveTo>
                        <a:pt x="0" y="385"/>
                      </a:moveTo>
                      <a:lnTo>
                        <a:pt x="77" y="207"/>
                      </a:lnTo>
                      <a:lnTo>
                        <a:pt x="77" y="348"/>
                      </a:lnTo>
                      <a:lnTo>
                        <a:pt x="299" y="97"/>
                      </a:lnTo>
                      <a:lnTo>
                        <a:pt x="378" y="616"/>
                      </a:lnTo>
                      <a:lnTo>
                        <a:pt x="417" y="227"/>
                      </a:lnTo>
                      <a:lnTo>
                        <a:pt x="618" y="69"/>
                      </a:lnTo>
                      <a:lnTo>
                        <a:pt x="740" y="97"/>
                      </a:lnTo>
                      <a:lnTo>
                        <a:pt x="851" y="7"/>
                      </a:lnTo>
                      <a:lnTo>
                        <a:pt x="721" y="40"/>
                      </a:lnTo>
                      <a:lnTo>
                        <a:pt x="653" y="40"/>
                      </a:lnTo>
                      <a:lnTo>
                        <a:pt x="618" y="0"/>
                      </a:lnTo>
                      <a:lnTo>
                        <a:pt x="521" y="69"/>
                      </a:lnTo>
                      <a:lnTo>
                        <a:pt x="389" y="47"/>
                      </a:lnTo>
                      <a:lnTo>
                        <a:pt x="279" y="40"/>
                      </a:lnTo>
                      <a:lnTo>
                        <a:pt x="118" y="77"/>
                      </a:lnTo>
                      <a:lnTo>
                        <a:pt x="21" y="189"/>
                      </a:lnTo>
                      <a:lnTo>
                        <a:pt x="0" y="385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7971120" y="4900680"/>
                  <a:ext cx="66600" cy="167760"/>
                </a:xfrm>
                <a:custGeom>
                  <a:avLst/>
                  <a:gdLst/>
                  <a:ahLst/>
                  <a:rect l="l" t="t" r="r" b="b"/>
                  <a:pathLst>
                    <a:path w="811" h="1587">
                      <a:moveTo>
                        <a:pt x="481" y="171"/>
                      </a:moveTo>
                      <a:lnTo>
                        <a:pt x="481" y="429"/>
                      </a:lnTo>
                      <a:lnTo>
                        <a:pt x="380" y="600"/>
                      </a:lnTo>
                      <a:lnTo>
                        <a:pt x="239" y="429"/>
                      </a:lnTo>
                      <a:lnTo>
                        <a:pt x="128" y="259"/>
                      </a:lnTo>
                      <a:lnTo>
                        <a:pt x="239" y="860"/>
                      </a:lnTo>
                      <a:lnTo>
                        <a:pt x="207" y="1257"/>
                      </a:lnTo>
                      <a:lnTo>
                        <a:pt x="0" y="1556"/>
                      </a:lnTo>
                      <a:lnTo>
                        <a:pt x="170" y="1587"/>
                      </a:lnTo>
                      <a:lnTo>
                        <a:pt x="361" y="1483"/>
                      </a:lnTo>
                      <a:lnTo>
                        <a:pt x="318" y="840"/>
                      </a:lnTo>
                      <a:lnTo>
                        <a:pt x="509" y="1049"/>
                      </a:lnTo>
                      <a:lnTo>
                        <a:pt x="640" y="1049"/>
                      </a:lnTo>
                      <a:lnTo>
                        <a:pt x="541" y="939"/>
                      </a:lnTo>
                      <a:lnTo>
                        <a:pt x="521" y="770"/>
                      </a:lnTo>
                      <a:lnTo>
                        <a:pt x="582" y="600"/>
                      </a:lnTo>
                      <a:lnTo>
                        <a:pt x="659" y="489"/>
                      </a:lnTo>
                      <a:lnTo>
                        <a:pt x="721" y="392"/>
                      </a:lnTo>
                      <a:lnTo>
                        <a:pt x="762" y="528"/>
                      </a:lnTo>
                      <a:lnTo>
                        <a:pt x="811" y="400"/>
                      </a:lnTo>
                      <a:lnTo>
                        <a:pt x="780" y="293"/>
                      </a:lnTo>
                      <a:lnTo>
                        <a:pt x="721" y="150"/>
                      </a:lnTo>
                      <a:lnTo>
                        <a:pt x="548" y="0"/>
                      </a:lnTo>
                      <a:lnTo>
                        <a:pt x="481" y="171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8032680" y="4958280"/>
                  <a:ext cx="45360" cy="64080"/>
                </a:xfrm>
                <a:custGeom>
                  <a:avLst/>
                  <a:gdLst/>
                  <a:ahLst/>
                  <a:rect l="l" t="t" r="r" b="b"/>
                  <a:pathLst>
                    <a:path w="552" h="609">
                      <a:moveTo>
                        <a:pt x="152" y="0"/>
                      </a:moveTo>
                      <a:lnTo>
                        <a:pt x="31" y="152"/>
                      </a:lnTo>
                      <a:lnTo>
                        <a:pt x="132" y="293"/>
                      </a:lnTo>
                      <a:lnTo>
                        <a:pt x="373" y="133"/>
                      </a:lnTo>
                      <a:lnTo>
                        <a:pt x="453" y="293"/>
                      </a:lnTo>
                      <a:lnTo>
                        <a:pt x="0" y="609"/>
                      </a:lnTo>
                      <a:lnTo>
                        <a:pt x="420" y="541"/>
                      </a:lnTo>
                      <a:lnTo>
                        <a:pt x="552" y="133"/>
                      </a:lnTo>
                      <a:lnTo>
                        <a:pt x="453" y="42"/>
                      </a:lnTo>
                      <a:lnTo>
                        <a:pt x="299" y="62"/>
                      </a:lnTo>
                      <a:lnTo>
                        <a:pt x="193" y="23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7853760" y="4875840"/>
                  <a:ext cx="68040" cy="259920"/>
                </a:xfrm>
                <a:custGeom>
                  <a:avLst/>
                  <a:gdLst/>
                  <a:ahLst/>
                  <a:rect l="l" t="t" r="r" b="b"/>
                  <a:pathLst>
                    <a:path w="820" h="2453">
                      <a:moveTo>
                        <a:pt x="186" y="21"/>
                      </a:moveTo>
                      <a:lnTo>
                        <a:pt x="178" y="110"/>
                      </a:lnTo>
                      <a:lnTo>
                        <a:pt x="136" y="198"/>
                      </a:lnTo>
                      <a:lnTo>
                        <a:pt x="119" y="228"/>
                      </a:lnTo>
                      <a:lnTo>
                        <a:pt x="186" y="309"/>
                      </a:lnTo>
                      <a:lnTo>
                        <a:pt x="288" y="487"/>
                      </a:lnTo>
                      <a:lnTo>
                        <a:pt x="400" y="817"/>
                      </a:lnTo>
                      <a:lnTo>
                        <a:pt x="520" y="1245"/>
                      </a:lnTo>
                      <a:lnTo>
                        <a:pt x="693" y="1806"/>
                      </a:lnTo>
                      <a:lnTo>
                        <a:pt x="820" y="2125"/>
                      </a:lnTo>
                      <a:lnTo>
                        <a:pt x="672" y="2453"/>
                      </a:lnTo>
                      <a:lnTo>
                        <a:pt x="347" y="2204"/>
                      </a:lnTo>
                      <a:lnTo>
                        <a:pt x="68" y="708"/>
                      </a:lnTo>
                      <a:lnTo>
                        <a:pt x="46" y="440"/>
                      </a:lnTo>
                      <a:lnTo>
                        <a:pt x="68" y="270"/>
                      </a:lnTo>
                      <a:lnTo>
                        <a:pt x="68" y="228"/>
                      </a:lnTo>
                      <a:lnTo>
                        <a:pt x="0" y="141"/>
                      </a:lnTo>
                      <a:lnTo>
                        <a:pt x="6" y="0"/>
                      </a:lnTo>
                      <a:lnTo>
                        <a:pt x="149" y="11"/>
                      </a:lnTo>
                      <a:lnTo>
                        <a:pt x="186" y="2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7850520" y="4875840"/>
                  <a:ext cx="71640" cy="262440"/>
                </a:xfrm>
                <a:custGeom>
                  <a:avLst/>
                  <a:gdLst/>
                  <a:ahLst/>
                  <a:rect l="l" t="t" r="r" b="b"/>
                  <a:pathLst>
                    <a:path w="862" h="2474">
                      <a:moveTo>
                        <a:pt x="152" y="11"/>
                      </a:moveTo>
                      <a:lnTo>
                        <a:pt x="129" y="251"/>
                      </a:lnTo>
                      <a:lnTo>
                        <a:pt x="178" y="670"/>
                      </a:lnTo>
                      <a:lnTo>
                        <a:pt x="281" y="1141"/>
                      </a:lnTo>
                      <a:lnTo>
                        <a:pt x="461" y="1863"/>
                      </a:lnTo>
                      <a:lnTo>
                        <a:pt x="499" y="2174"/>
                      </a:lnTo>
                      <a:lnTo>
                        <a:pt x="691" y="2370"/>
                      </a:lnTo>
                      <a:lnTo>
                        <a:pt x="811" y="2112"/>
                      </a:lnTo>
                      <a:lnTo>
                        <a:pt x="629" y="1694"/>
                      </a:lnTo>
                      <a:lnTo>
                        <a:pt x="519" y="1257"/>
                      </a:lnTo>
                      <a:lnTo>
                        <a:pt x="422" y="876"/>
                      </a:lnTo>
                      <a:lnTo>
                        <a:pt x="288" y="468"/>
                      </a:lnTo>
                      <a:lnTo>
                        <a:pt x="211" y="309"/>
                      </a:lnTo>
                      <a:lnTo>
                        <a:pt x="170" y="228"/>
                      </a:lnTo>
                      <a:lnTo>
                        <a:pt x="288" y="389"/>
                      </a:lnTo>
                      <a:lnTo>
                        <a:pt x="409" y="738"/>
                      </a:lnTo>
                      <a:lnTo>
                        <a:pt x="562" y="1195"/>
                      </a:lnTo>
                      <a:lnTo>
                        <a:pt x="714" y="1705"/>
                      </a:lnTo>
                      <a:lnTo>
                        <a:pt x="783" y="1936"/>
                      </a:lnTo>
                      <a:lnTo>
                        <a:pt x="862" y="2112"/>
                      </a:lnTo>
                      <a:lnTo>
                        <a:pt x="721" y="2474"/>
                      </a:lnTo>
                      <a:lnTo>
                        <a:pt x="380" y="2193"/>
                      </a:lnTo>
                      <a:lnTo>
                        <a:pt x="251" y="1505"/>
                      </a:lnTo>
                      <a:lnTo>
                        <a:pt x="119" y="717"/>
                      </a:lnTo>
                      <a:lnTo>
                        <a:pt x="110" y="440"/>
                      </a:lnTo>
                      <a:lnTo>
                        <a:pt x="88" y="228"/>
                      </a:lnTo>
                      <a:lnTo>
                        <a:pt x="0" y="110"/>
                      </a:lnTo>
                      <a:lnTo>
                        <a:pt x="60" y="0"/>
                      </a:lnTo>
                      <a:lnTo>
                        <a:pt x="152" y="1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7785360" y="4867560"/>
                  <a:ext cx="47520" cy="108360"/>
                </a:xfrm>
                <a:custGeom>
                  <a:avLst/>
                  <a:gdLst/>
                  <a:ahLst/>
                  <a:rect l="l" t="t" r="r" b="b"/>
                  <a:pathLst>
                    <a:path w="578" h="1028">
                      <a:moveTo>
                        <a:pt x="42" y="938"/>
                      </a:moveTo>
                      <a:lnTo>
                        <a:pt x="37" y="775"/>
                      </a:lnTo>
                      <a:lnTo>
                        <a:pt x="0" y="360"/>
                      </a:lnTo>
                      <a:lnTo>
                        <a:pt x="37" y="276"/>
                      </a:lnTo>
                      <a:lnTo>
                        <a:pt x="293" y="0"/>
                      </a:lnTo>
                      <a:lnTo>
                        <a:pt x="523" y="48"/>
                      </a:lnTo>
                      <a:lnTo>
                        <a:pt x="578" y="184"/>
                      </a:lnTo>
                      <a:lnTo>
                        <a:pt x="528" y="247"/>
                      </a:lnTo>
                      <a:lnTo>
                        <a:pt x="563" y="465"/>
                      </a:lnTo>
                      <a:lnTo>
                        <a:pt x="486" y="487"/>
                      </a:lnTo>
                      <a:lnTo>
                        <a:pt x="464" y="705"/>
                      </a:lnTo>
                      <a:lnTo>
                        <a:pt x="406" y="805"/>
                      </a:lnTo>
                      <a:lnTo>
                        <a:pt x="358" y="874"/>
                      </a:lnTo>
                      <a:lnTo>
                        <a:pt x="305" y="938"/>
                      </a:lnTo>
                      <a:lnTo>
                        <a:pt x="263" y="1028"/>
                      </a:lnTo>
                      <a:lnTo>
                        <a:pt x="92" y="1001"/>
                      </a:lnTo>
                      <a:lnTo>
                        <a:pt x="42" y="938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7789320" y="4698720"/>
                  <a:ext cx="107280" cy="172800"/>
                </a:xfrm>
                <a:custGeom>
                  <a:avLst/>
                  <a:gdLst/>
                  <a:ahLst/>
                  <a:rect l="l" t="t" r="r" b="b"/>
                  <a:pathLst>
                    <a:path w="1289" h="1630">
                      <a:moveTo>
                        <a:pt x="37" y="717"/>
                      </a:moveTo>
                      <a:lnTo>
                        <a:pt x="0" y="784"/>
                      </a:lnTo>
                      <a:lnTo>
                        <a:pt x="0" y="915"/>
                      </a:lnTo>
                      <a:lnTo>
                        <a:pt x="85" y="1036"/>
                      </a:lnTo>
                      <a:lnTo>
                        <a:pt x="200" y="1120"/>
                      </a:lnTo>
                      <a:lnTo>
                        <a:pt x="235" y="1120"/>
                      </a:lnTo>
                      <a:lnTo>
                        <a:pt x="298" y="1263"/>
                      </a:lnTo>
                      <a:lnTo>
                        <a:pt x="348" y="1395"/>
                      </a:lnTo>
                      <a:lnTo>
                        <a:pt x="447" y="1508"/>
                      </a:lnTo>
                      <a:lnTo>
                        <a:pt x="555" y="1572"/>
                      </a:lnTo>
                      <a:lnTo>
                        <a:pt x="705" y="1621"/>
                      </a:lnTo>
                      <a:lnTo>
                        <a:pt x="855" y="1630"/>
                      </a:lnTo>
                      <a:lnTo>
                        <a:pt x="947" y="1579"/>
                      </a:lnTo>
                      <a:lnTo>
                        <a:pt x="1019" y="1494"/>
                      </a:lnTo>
                      <a:lnTo>
                        <a:pt x="1090" y="1374"/>
                      </a:lnTo>
                      <a:lnTo>
                        <a:pt x="1118" y="1263"/>
                      </a:lnTo>
                      <a:lnTo>
                        <a:pt x="1140" y="1056"/>
                      </a:lnTo>
                      <a:lnTo>
                        <a:pt x="1203" y="1001"/>
                      </a:lnTo>
                      <a:lnTo>
                        <a:pt x="1284" y="889"/>
                      </a:lnTo>
                      <a:lnTo>
                        <a:pt x="1289" y="768"/>
                      </a:lnTo>
                      <a:lnTo>
                        <a:pt x="1274" y="662"/>
                      </a:lnTo>
                      <a:lnTo>
                        <a:pt x="1261" y="627"/>
                      </a:lnTo>
                      <a:lnTo>
                        <a:pt x="1203" y="595"/>
                      </a:lnTo>
                      <a:lnTo>
                        <a:pt x="1118" y="325"/>
                      </a:lnTo>
                      <a:lnTo>
                        <a:pt x="1012" y="94"/>
                      </a:lnTo>
                      <a:lnTo>
                        <a:pt x="692" y="0"/>
                      </a:lnTo>
                      <a:lnTo>
                        <a:pt x="270" y="85"/>
                      </a:lnTo>
                      <a:lnTo>
                        <a:pt x="85" y="247"/>
                      </a:lnTo>
                      <a:lnTo>
                        <a:pt x="41" y="429"/>
                      </a:lnTo>
                      <a:lnTo>
                        <a:pt x="41" y="657"/>
                      </a:lnTo>
                      <a:lnTo>
                        <a:pt x="37" y="717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7814520" y="4801320"/>
                  <a:ext cx="18360" cy="13320"/>
                </a:xfrm>
                <a:custGeom>
                  <a:avLst/>
                  <a:gdLst/>
                  <a:ahLst/>
                  <a:rect l="l" t="t" r="r" b="b"/>
                  <a:pathLst>
                    <a:path w="223" h="120">
                      <a:moveTo>
                        <a:pt x="223" y="6"/>
                      </a:moveTo>
                      <a:lnTo>
                        <a:pt x="223" y="41"/>
                      </a:lnTo>
                      <a:lnTo>
                        <a:pt x="140" y="108"/>
                      </a:lnTo>
                      <a:lnTo>
                        <a:pt x="57" y="120"/>
                      </a:lnTo>
                      <a:lnTo>
                        <a:pt x="0" y="78"/>
                      </a:lnTo>
                      <a:lnTo>
                        <a:pt x="16" y="0"/>
                      </a:lnTo>
                      <a:lnTo>
                        <a:pt x="92" y="28"/>
                      </a:lnTo>
                      <a:lnTo>
                        <a:pt x="140" y="35"/>
                      </a:lnTo>
                      <a:lnTo>
                        <a:pt x="223" y="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7857720" y="4790520"/>
                  <a:ext cx="19800" cy="15120"/>
                </a:xfrm>
                <a:custGeom>
                  <a:avLst/>
                  <a:gdLst/>
                  <a:ahLst/>
                  <a:rect l="l" t="t" r="r" b="b"/>
                  <a:pathLst>
                    <a:path w="245" h="141">
                      <a:moveTo>
                        <a:pt x="0" y="85"/>
                      </a:moveTo>
                      <a:lnTo>
                        <a:pt x="18" y="112"/>
                      </a:lnTo>
                      <a:lnTo>
                        <a:pt x="117" y="141"/>
                      </a:lnTo>
                      <a:lnTo>
                        <a:pt x="212" y="134"/>
                      </a:lnTo>
                      <a:lnTo>
                        <a:pt x="245" y="79"/>
                      </a:lnTo>
                      <a:lnTo>
                        <a:pt x="238" y="0"/>
                      </a:lnTo>
                      <a:lnTo>
                        <a:pt x="179" y="42"/>
                      </a:lnTo>
                      <a:lnTo>
                        <a:pt x="139" y="79"/>
                      </a:lnTo>
                      <a:lnTo>
                        <a:pt x="83" y="9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7842960" y="4795560"/>
                  <a:ext cx="10440" cy="25200"/>
                </a:xfrm>
                <a:custGeom>
                  <a:avLst/>
                  <a:gdLst/>
                  <a:ahLst/>
                  <a:rect l="l" t="t" r="r" b="b"/>
                  <a:pathLst>
                    <a:path w="120" h="235">
                      <a:moveTo>
                        <a:pt x="57" y="37"/>
                      </a:moveTo>
                      <a:lnTo>
                        <a:pt x="37" y="0"/>
                      </a:lnTo>
                      <a:lnTo>
                        <a:pt x="13" y="16"/>
                      </a:lnTo>
                      <a:lnTo>
                        <a:pt x="22" y="141"/>
                      </a:lnTo>
                      <a:lnTo>
                        <a:pt x="0" y="169"/>
                      </a:lnTo>
                      <a:lnTo>
                        <a:pt x="13" y="220"/>
                      </a:lnTo>
                      <a:lnTo>
                        <a:pt x="64" y="235"/>
                      </a:lnTo>
                      <a:lnTo>
                        <a:pt x="108" y="220"/>
                      </a:lnTo>
                      <a:lnTo>
                        <a:pt x="120" y="178"/>
                      </a:lnTo>
                      <a:lnTo>
                        <a:pt x="112" y="148"/>
                      </a:lnTo>
                      <a:lnTo>
                        <a:pt x="78" y="121"/>
                      </a:lnTo>
                      <a:lnTo>
                        <a:pt x="57" y="3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7835040" y="481068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51" h="42">
                      <a:moveTo>
                        <a:pt x="25" y="0"/>
                      </a:moveTo>
                      <a:lnTo>
                        <a:pt x="0" y="25"/>
                      </a:lnTo>
                      <a:lnTo>
                        <a:pt x="25" y="42"/>
                      </a:lnTo>
                      <a:lnTo>
                        <a:pt x="51" y="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7854840" y="480816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48" h="36">
                      <a:moveTo>
                        <a:pt x="0" y="6"/>
                      </a:moveTo>
                      <a:lnTo>
                        <a:pt x="21" y="36"/>
                      </a:lnTo>
                      <a:lnTo>
                        <a:pt x="48" y="6"/>
                      </a:lnTo>
                      <a:lnTo>
                        <a:pt x="25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7837920" y="4836240"/>
                  <a:ext cx="27720" cy="7200"/>
                </a:xfrm>
                <a:custGeom>
                  <a:avLst/>
                  <a:gdLst/>
                  <a:ahLst/>
                  <a:rect l="l" t="t" r="r" b="b"/>
                  <a:pathLst>
                    <a:path w="343" h="70">
                      <a:moveTo>
                        <a:pt x="0" y="44"/>
                      </a:moveTo>
                      <a:lnTo>
                        <a:pt x="128" y="70"/>
                      </a:lnTo>
                      <a:lnTo>
                        <a:pt x="235" y="55"/>
                      </a:lnTo>
                      <a:lnTo>
                        <a:pt x="322" y="21"/>
                      </a:lnTo>
                      <a:lnTo>
                        <a:pt x="343" y="7"/>
                      </a:lnTo>
                      <a:lnTo>
                        <a:pt x="297" y="0"/>
                      </a:lnTo>
                      <a:lnTo>
                        <a:pt x="214" y="21"/>
                      </a:lnTo>
                      <a:lnTo>
                        <a:pt x="135" y="26"/>
                      </a:lnTo>
                      <a:lnTo>
                        <a:pt x="20" y="21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7801920" y="4731840"/>
                  <a:ext cx="29520" cy="44640"/>
                </a:xfrm>
                <a:custGeom>
                  <a:avLst/>
                  <a:gdLst/>
                  <a:ahLst/>
                  <a:rect l="l" t="t" r="r" b="b"/>
                  <a:pathLst>
                    <a:path w="363" h="429">
                      <a:moveTo>
                        <a:pt x="226" y="35"/>
                      </a:moveTo>
                      <a:lnTo>
                        <a:pt x="158" y="99"/>
                      </a:lnTo>
                      <a:lnTo>
                        <a:pt x="127" y="182"/>
                      </a:lnTo>
                      <a:lnTo>
                        <a:pt x="127" y="266"/>
                      </a:lnTo>
                      <a:lnTo>
                        <a:pt x="149" y="337"/>
                      </a:lnTo>
                      <a:lnTo>
                        <a:pt x="363" y="394"/>
                      </a:lnTo>
                      <a:lnTo>
                        <a:pt x="185" y="389"/>
                      </a:lnTo>
                      <a:lnTo>
                        <a:pt x="63" y="429"/>
                      </a:lnTo>
                      <a:lnTo>
                        <a:pt x="79" y="380"/>
                      </a:lnTo>
                      <a:lnTo>
                        <a:pt x="33" y="323"/>
                      </a:lnTo>
                      <a:lnTo>
                        <a:pt x="6" y="231"/>
                      </a:lnTo>
                      <a:lnTo>
                        <a:pt x="0" y="134"/>
                      </a:lnTo>
                      <a:lnTo>
                        <a:pt x="19" y="62"/>
                      </a:lnTo>
                      <a:lnTo>
                        <a:pt x="68" y="14"/>
                      </a:lnTo>
                      <a:lnTo>
                        <a:pt x="136" y="0"/>
                      </a:lnTo>
                      <a:lnTo>
                        <a:pt x="192" y="7"/>
                      </a:lnTo>
                      <a:lnTo>
                        <a:pt x="226" y="3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7847640" y="4754880"/>
                  <a:ext cx="25560" cy="15840"/>
                </a:xfrm>
                <a:custGeom>
                  <a:avLst/>
                  <a:gdLst/>
                  <a:ahLst/>
                  <a:rect l="l" t="t" r="r" b="b"/>
                  <a:pathLst>
                    <a:path w="314" h="154">
                      <a:moveTo>
                        <a:pt x="70" y="115"/>
                      </a:moveTo>
                      <a:lnTo>
                        <a:pt x="226" y="34"/>
                      </a:lnTo>
                      <a:lnTo>
                        <a:pt x="314" y="30"/>
                      </a:lnTo>
                      <a:lnTo>
                        <a:pt x="249" y="0"/>
                      </a:lnTo>
                      <a:lnTo>
                        <a:pt x="176" y="30"/>
                      </a:lnTo>
                      <a:lnTo>
                        <a:pt x="0" y="154"/>
                      </a:lnTo>
                      <a:lnTo>
                        <a:pt x="70" y="11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7792920" y="4781880"/>
                  <a:ext cx="8280" cy="6840"/>
                </a:xfrm>
                <a:custGeom>
                  <a:avLst/>
                  <a:gdLst/>
                  <a:ahLst/>
                  <a:rect l="l" t="t" r="r" b="b"/>
                  <a:pathLst>
                    <a:path w="105" h="60">
                      <a:moveTo>
                        <a:pt x="0" y="44"/>
                      </a:moveTo>
                      <a:lnTo>
                        <a:pt x="96" y="60"/>
                      </a:lnTo>
                      <a:lnTo>
                        <a:pt x="105" y="31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7882920" y="4766760"/>
                  <a:ext cx="8280" cy="11880"/>
                </a:xfrm>
                <a:custGeom>
                  <a:avLst/>
                  <a:gdLst/>
                  <a:ahLst/>
                  <a:rect l="l" t="t" r="r" b="b"/>
                  <a:pathLst>
                    <a:path w="99" h="111">
                      <a:moveTo>
                        <a:pt x="0" y="111"/>
                      </a:moveTo>
                      <a:lnTo>
                        <a:pt x="19" y="111"/>
                      </a:lnTo>
                      <a:lnTo>
                        <a:pt x="99" y="35"/>
                      </a:lnTo>
                      <a:lnTo>
                        <a:pt x="90" y="0"/>
                      </a:lnTo>
                      <a:lnTo>
                        <a:pt x="55" y="0"/>
                      </a:lnTo>
                      <a:lnTo>
                        <a:pt x="7" y="39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7846560" y="485496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154" h="84">
                      <a:moveTo>
                        <a:pt x="27" y="7"/>
                      </a:moveTo>
                      <a:lnTo>
                        <a:pt x="0" y="49"/>
                      </a:lnTo>
                      <a:lnTo>
                        <a:pt x="32" y="84"/>
                      </a:lnTo>
                      <a:lnTo>
                        <a:pt x="140" y="69"/>
                      </a:lnTo>
                      <a:lnTo>
                        <a:pt x="154" y="27"/>
                      </a:lnTo>
                      <a:lnTo>
                        <a:pt x="127" y="0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7791480" y="4917600"/>
                  <a:ext cx="14400" cy="35280"/>
                </a:xfrm>
                <a:custGeom>
                  <a:avLst/>
                  <a:gdLst/>
                  <a:ahLst/>
                  <a:rect l="l" t="t" r="r" b="b"/>
                  <a:pathLst>
                    <a:path w="172" h="336">
                      <a:moveTo>
                        <a:pt x="7" y="42"/>
                      </a:moveTo>
                      <a:lnTo>
                        <a:pt x="51" y="211"/>
                      </a:lnTo>
                      <a:lnTo>
                        <a:pt x="73" y="336"/>
                      </a:lnTo>
                      <a:lnTo>
                        <a:pt x="156" y="336"/>
                      </a:lnTo>
                      <a:lnTo>
                        <a:pt x="172" y="279"/>
                      </a:lnTo>
                      <a:lnTo>
                        <a:pt x="99" y="231"/>
                      </a:lnTo>
                      <a:lnTo>
                        <a:pt x="73" y="147"/>
                      </a:lnTo>
                      <a:lnTo>
                        <a:pt x="78" y="75"/>
                      </a:lnTo>
                      <a:lnTo>
                        <a:pt x="0" y="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7791840" y="489384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264" h="122">
                      <a:moveTo>
                        <a:pt x="0" y="106"/>
                      </a:moveTo>
                      <a:lnTo>
                        <a:pt x="13" y="122"/>
                      </a:lnTo>
                      <a:lnTo>
                        <a:pt x="57" y="78"/>
                      </a:lnTo>
                      <a:lnTo>
                        <a:pt x="114" y="97"/>
                      </a:lnTo>
                      <a:lnTo>
                        <a:pt x="140" y="53"/>
                      </a:lnTo>
                      <a:lnTo>
                        <a:pt x="264" y="106"/>
                      </a:lnTo>
                      <a:lnTo>
                        <a:pt x="127" y="0"/>
                      </a:lnTo>
                      <a:lnTo>
                        <a:pt x="101" y="14"/>
                      </a:lnTo>
                      <a:lnTo>
                        <a:pt x="32" y="64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7809480" y="493524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106" h="147">
                      <a:moveTo>
                        <a:pt x="0" y="44"/>
                      </a:moveTo>
                      <a:lnTo>
                        <a:pt x="41" y="85"/>
                      </a:lnTo>
                      <a:lnTo>
                        <a:pt x="63" y="147"/>
                      </a:lnTo>
                      <a:lnTo>
                        <a:pt x="106" y="92"/>
                      </a:lnTo>
                      <a:lnTo>
                        <a:pt x="99" y="35"/>
                      </a:lnTo>
                      <a:lnTo>
                        <a:pt x="63" y="9"/>
                      </a:lnTo>
                      <a:lnTo>
                        <a:pt x="7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7817760" y="4786200"/>
                  <a:ext cx="20520" cy="9720"/>
                </a:xfrm>
                <a:custGeom>
                  <a:avLst/>
                  <a:gdLst/>
                  <a:ahLst/>
                  <a:rect l="l" t="t" r="r" b="b"/>
                  <a:pathLst>
                    <a:path w="244" h="94">
                      <a:moveTo>
                        <a:pt x="0" y="34"/>
                      </a:moveTo>
                      <a:lnTo>
                        <a:pt x="45" y="81"/>
                      </a:lnTo>
                      <a:lnTo>
                        <a:pt x="89" y="94"/>
                      </a:lnTo>
                      <a:lnTo>
                        <a:pt x="114" y="94"/>
                      </a:lnTo>
                      <a:lnTo>
                        <a:pt x="167" y="94"/>
                      </a:lnTo>
                      <a:lnTo>
                        <a:pt x="244" y="43"/>
                      </a:lnTo>
                      <a:lnTo>
                        <a:pt x="204" y="0"/>
                      </a:lnTo>
                      <a:lnTo>
                        <a:pt x="123" y="9"/>
                      </a:lnTo>
                      <a:lnTo>
                        <a:pt x="45" y="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7854480" y="478188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221" h="85">
                      <a:moveTo>
                        <a:pt x="0" y="70"/>
                      </a:moveTo>
                      <a:lnTo>
                        <a:pt x="44" y="7"/>
                      </a:lnTo>
                      <a:lnTo>
                        <a:pt x="129" y="0"/>
                      </a:lnTo>
                      <a:lnTo>
                        <a:pt x="221" y="7"/>
                      </a:lnTo>
                      <a:lnTo>
                        <a:pt x="216" y="26"/>
                      </a:lnTo>
                      <a:lnTo>
                        <a:pt x="185" y="57"/>
                      </a:lnTo>
                      <a:lnTo>
                        <a:pt x="115" y="85"/>
                      </a:lnTo>
                      <a:lnTo>
                        <a:pt x="51" y="85"/>
                      </a:lnTo>
                      <a:lnTo>
                        <a:pt x="9" y="85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7239240" y="4833360"/>
                  <a:ext cx="45000" cy="37080"/>
                </a:xfrm>
                <a:custGeom>
                  <a:avLst/>
                  <a:gdLst/>
                  <a:ahLst/>
                  <a:rect l="l" t="t" r="r" b="b"/>
                  <a:pathLst>
                    <a:path w="546" h="352">
                      <a:moveTo>
                        <a:pt x="53" y="229"/>
                      </a:moveTo>
                      <a:lnTo>
                        <a:pt x="126" y="174"/>
                      </a:lnTo>
                      <a:lnTo>
                        <a:pt x="163" y="161"/>
                      </a:lnTo>
                      <a:lnTo>
                        <a:pt x="313" y="161"/>
                      </a:lnTo>
                      <a:lnTo>
                        <a:pt x="387" y="167"/>
                      </a:lnTo>
                      <a:lnTo>
                        <a:pt x="194" y="94"/>
                      </a:lnTo>
                      <a:lnTo>
                        <a:pt x="60" y="94"/>
                      </a:lnTo>
                      <a:lnTo>
                        <a:pt x="9" y="82"/>
                      </a:lnTo>
                      <a:lnTo>
                        <a:pt x="0" y="75"/>
                      </a:lnTo>
                      <a:lnTo>
                        <a:pt x="145" y="0"/>
                      </a:lnTo>
                      <a:lnTo>
                        <a:pt x="224" y="13"/>
                      </a:lnTo>
                      <a:lnTo>
                        <a:pt x="313" y="64"/>
                      </a:lnTo>
                      <a:lnTo>
                        <a:pt x="415" y="108"/>
                      </a:lnTo>
                      <a:lnTo>
                        <a:pt x="498" y="130"/>
                      </a:lnTo>
                      <a:lnTo>
                        <a:pt x="546" y="198"/>
                      </a:lnTo>
                      <a:lnTo>
                        <a:pt x="521" y="255"/>
                      </a:lnTo>
                      <a:lnTo>
                        <a:pt x="484" y="255"/>
                      </a:lnTo>
                      <a:lnTo>
                        <a:pt x="431" y="322"/>
                      </a:lnTo>
                      <a:lnTo>
                        <a:pt x="376" y="329"/>
                      </a:lnTo>
                      <a:lnTo>
                        <a:pt x="286" y="352"/>
                      </a:lnTo>
                      <a:lnTo>
                        <a:pt x="365" y="280"/>
                      </a:lnTo>
                      <a:lnTo>
                        <a:pt x="401" y="235"/>
                      </a:lnTo>
                      <a:lnTo>
                        <a:pt x="401" y="218"/>
                      </a:lnTo>
                      <a:lnTo>
                        <a:pt x="365" y="209"/>
                      </a:lnTo>
                      <a:lnTo>
                        <a:pt x="304" y="191"/>
                      </a:lnTo>
                      <a:lnTo>
                        <a:pt x="286" y="235"/>
                      </a:lnTo>
                      <a:lnTo>
                        <a:pt x="282" y="205"/>
                      </a:lnTo>
                      <a:lnTo>
                        <a:pt x="256" y="205"/>
                      </a:lnTo>
                      <a:lnTo>
                        <a:pt x="253" y="225"/>
                      </a:lnTo>
                      <a:lnTo>
                        <a:pt x="277" y="244"/>
                      </a:lnTo>
                      <a:lnTo>
                        <a:pt x="268" y="266"/>
                      </a:lnTo>
                      <a:lnTo>
                        <a:pt x="84" y="244"/>
                      </a:lnTo>
                      <a:lnTo>
                        <a:pt x="53" y="2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7247880" y="4863240"/>
                  <a:ext cx="18360" cy="4680"/>
                </a:xfrm>
                <a:custGeom>
                  <a:avLst/>
                  <a:gdLst/>
                  <a:ahLst/>
                  <a:rect l="l" t="t" r="r" b="b"/>
                  <a:pathLst>
                    <a:path w="224" h="49">
                      <a:moveTo>
                        <a:pt x="0" y="0"/>
                      </a:moveTo>
                      <a:lnTo>
                        <a:pt x="40" y="33"/>
                      </a:lnTo>
                      <a:lnTo>
                        <a:pt x="139" y="49"/>
                      </a:lnTo>
                      <a:lnTo>
                        <a:pt x="224" y="3"/>
                      </a:lnTo>
                      <a:lnTo>
                        <a:pt x="132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7266240" y="4853160"/>
                  <a:ext cx="5040" cy="10080"/>
                </a:xfrm>
                <a:custGeom>
                  <a:avLst/>
                  <a:gdLst/>
                  <a:ahLst/>
                  <a:rect l="l" t="t" r="r" b="b"/>
                  <a:pathLst>
                    <a:path w="64" h="98">
                      <a:moveTo>
                        <a:pt x="0" y="0"/>
                      </a:moveTo>
                      <a:lnTo>
                        <a:pt x="53" y="98"/>
                      </a:lnTo>
                      <a:lnTo>
                        <a:pt x="64" y="81"/>
                      </a:lnTo>
                      <a:lnTo>
                        <a:pt x="34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7288200" y="4852080"/>
                  <a:ext cx="33480" cy="55080"/>
                </a:xfrm>
                <a:custGeom>
                  <a:avLst/>
                  <a:gdLst/>
                  <a:ahLst/>
                  <a:rect l="l" t="t" r="r" b="b"/>
                  <a:pathLst>
                    <a:path w="406" h="514">
                      <a:moveTo>
                        <a:pt x="0" y="10"/>
                      </a:moveTo>
                      <a:lnTo>
                        <a:pt x="0" y="63"/>
                      </a:lnTo>
                      <a:lnTo>
                        <a:pt x="28" y="99"/>
                      </a:lnTo>
                      <a:lnTo>
                        <a:pt x="12" y="388"/>
                      </a:lnTo>
                      <a:lnTo>
                        <a:pt x="35" y="514"/>
                      </a:lnTo>
                      <a:lnTo>
                        <a:pt x="28" y="380"/>
                      </a:lnTo>
                      <a:lnTo>
                        <a:pt x="39" y="213"/>
                      </a:lnTo>
                      <a:lnTo>
                        <a:pt x="146" y="288"/>
                      </a:lnTo>
                      <a:lnTo>
                        <a:pt x="105" y="201"/>
                      </a:lnTo>
                      <a:lnTo>
                        <a:pt x="197" y="235"/>
                      </a:lnTo>
                      <a:lnTo>
                        <a:pt x="275" y="222"/>
                      </a:lnTo>
                      <a:lnTo>
                        <a:pt x="202" y="201"/>
                      </a:lnTo>
                      <a:lnTo>
                        <a:pt x="202" y="178"/>
                      </a:lnTo>
                      <a:lnTo>
                        <a:pt x="233" y="160"/>
                      </a:lnTo>
                      <a:lnTo>
                        <a:pt x="294" y="208"/>
                      </a:lnTo>
                      <a:lnTo>
                        <a:pt x="328" y="189"/>
                      </a:lnTo>
                      <a:lnTo>
                        <a:pt x="250" y="114"/>
                      </a:lnTo>
                      <a:lnTo>
                        <a:pt x="202" y="85"/>
                      </a:lnTo>
                      <a:lnTo>
                        <a:pt x="202" y="65"/>
                      </a:lnTo>
                      <a:lnTo>
                        <a:pt x="321" y="90"/>
                      </a:lnTo>
                      <a:lnTo>
                        <a:pt x="356" y="132"/>
                      </a:lnTo>
                      <a:lnTo>
                        <a:pt x="344" y="164"/>
                      </a:lnTo>
                      <a:lnTo>
                        <a:pt x="406" y="141"/>
                      </a:lnTo>
                      <a:lnTo>
                        <a:pt x="406" y="54"/>
                      </a:lnTo>
                      <a:lnTo>
                        <a:pt x="365" y="17"/>
                      </a:lnTo>
                      <a:lnTo>
                        <a:pt x="270" y="17"/>
                      </a:lnTo>
                      <a:lnTo>
                        <a:pt x="79" y="0"/>
                      </a:lnTo>
                      <a:lnTo>
                        <a:pt x="35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7286760" y="4910760"/>
                  <a:ext cx="3960" cy="6480"/>
                </a:xfrm>
                <a:custGeom>
                  <a:avLst/>
                  <a:gdLst/>
                  <a:ahLst/>
                  <a:rect l="l" t="t" r="r" b="b"/>
                  <a:pathLst>
                    <a:path w="44" h="62">
                      <a:moveTo>
                        <a:pt x="0" y="46"/>
                      </a:moveTo>
                      <a:lnTo>
                        <a:pt x="28" y="62"/>
                      </a:lnTo>
                      <a:lnTo>
                        <a:pt x="44" y="49"/>
                      </a:lnTo>
                      <a:lnTo>
                        <a:pt x="35" y="0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7242480" y="490392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647" h="347">
                      <a:moveTo>
                        <a:pt x="509" y="114"/>
                      </a:moveTo>
                      <a:lnTo>
                        <a:pt x="466" y="117"/>
                      </a:lnTo>
                      <a:lnTo>
                        <a:pt x="374" y="29"/>
                      </a:lnTo>
                      <a:lnTo>
                        <a:pt x="311" y="0"/>
                      </a:lnTo>
                      <a:lnTo>
                        <a:pt x="219" y="31"/>
                      </a:lnTo>
                      <a:lnTo>
                        <a:pt x="219" y="57"/>
                      </a:lnTo>
                      <a:lnTo>
                        <a:pt x="258" y="64"/>
                      </a:lnTo>
                      <a:lnTo>
                        <a:pt x="120" y="105"/>
                      </a:lnTo>
                      <a:lnTo>
                        <a:pt x="0" y="181"/>
                      </a:lnTo>
                      <a:lnTo>
                        <a:pt x="23" y="225"/>
                      </a:lnTo>
                      <a:lnTo>
                        <a:pt x="95" y="220"/>
                      </a:lnTo>
                      <a:lnTo>
                        <a:pt x="157" y="237"/>
                      </a:lnTo>
                      <a:lnTo>
                        <a:pt x="240" y="193"/>
                      </a:lnTo>
                      <a:lnTo>
                        <a:pt x="357" y="211"/>
                      </a:lnTo>
                      <a:lnTo>
                        <a:pt x="461" y="200"/>
                      </a:lnTo>
                      <a:lnTo>
                        <a:pt x="521" y="257"/>
                      </a:lnTo>
                      <a:lnTo>
                        <a:pt x="567" y="279"/>
                      </a:lnTo>
                      <a:lnTo>
                        <a:pt x="620" y="347"/>
                      </a:lnTo>
                      <a:lnTo>
                        <a:pt x="647" y="334"/>
                      </a:lnTo>
                      <a:lnTo>
                        <a:pt x="643" y="225"/>
                      </a:lnTo>
                      <a:lnTo>
                        <a:pt x="567" y="105"/>
                      </a:lnTo>
                      <a:lnTo>
                        <a:pt x="509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7272360" y="488700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72" h="86">
                      <a:moveTo>
                        <a:pt x="0" y="55"/>
                      </a:moveTo>
                      <a:lnTo>
                        <a:pt x="37" y="86"/>
                      </a:lnTo>
                      <a:lnTo>
                        <a:pt x="72" y="24"/>
                      </a:lnTo>
                      <a:lnTo>
                        <a:pt x="6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7260480" y="4932720"/>
                  <a:ext cx="24840" cy="13320"/>
                </a:xfrm>
                <a:custGeom>
                  <a:avLst/>
                  <a:gdLst/>
                  <a:ahLst/>
                  <a:rect l="l" t="t" r="r" b="b"/>
                  <a:pathLst>
                    <a:path w="302" h="129">
                      <a:moveTo>
                        <a:pt x="0" y="26"/>
                      </a:moveTo>
                      <a:lnTo>
                        <a:pt x="48" y="0"/>
                      </a:lnTo>
                      <a:lnTo>
                        <a:pt x="302" y="42"/>
                      </a:lnTo>
                      <a:lnTo>
                        <a:pt x="279" y="129"/>
                      </a:lnTo>
                      <a:lnTo>
                        <a:pt x="228" y="98"/>
                      </a:lnTo>
                      <a:lnTo>
                        <a:pt x="30" y="9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7219800" y="4744440"/>
                  <a:ext cx="105120" cy="72720"/>
                </a:xfrm>
                <a:custGeom>
                  <a:avLst/>
                  <a:gdLst/>
                  <a:ahLst/>
                  <a:rect l="l" t="t" r="r" b="b"/>
                  <a:pathLst>
                    <a:path w="1275" h="682">
                      <a:moveTo>
                        <a:pt x="934" y="170"/>
                      </a:moveTo>
                      <a:lnTo>
                        <a:pt x="1037" y="159"/>
                      </a:lnTo>
                      <a:lnTo>
                        <a:pt x="1037" y="136"/>
                      </a:lnTo>
                      <a:lnTo>
                        <a:pt x="970" y="92"/>
                      </a:lnTo>
                      <a:lnTo>
                        <a:pt x="834" y="42"/>
                      </a:lnTo>
                      <a:lnTo>
                        <a:pt x="730" y="25"/>
                      </a:lnTo>
                      <a:lnTo>
                        <a:pt x="431" y="7"/>
                      </a:lnTo>
                      <a:lnTo>
                        <a:pt x="652" y="0"/>
                      </a:lnTo>
                      <a:lnTo>
                        <a:pt x="868" y="18"/>
                      </a:lnTo>
                      <a:lnTo>
                        <a:pt x="1037" y="73"/>
                      </a:lnTo>
                      <a:lnTo>
                        <a:pt x="1157" y="154"/>
                      </a:lnTo>
                      <a:lnTo>
                        <a:pt x="1249" y="251"/>
                      </a:lnTo>
                      <a:lnTo>
                        <a:pt x="1275" y="325"/>
                      </a:lnTo>
                      <a:lnTo>
                        <a:pt x="1275" y="387"/>
                      </a:lnTo>
                      <a:lnTo>
                        <a:pt x="1217" y="449"/>
                      </a:lnTo>
                      <a:lnTo>
                        <a:pt x="1104" y="530"/>
                      </a:lnTo>
                      <a:lnTo>
                        <a:pt x="943" y="578"/>
                      </a:lnTo>
                      <a:lnTo>
                        <a:pt x="730" y="631"/>
                      </a:lnTo>
                      <a:lnTo>
                        <a:pt x="315" y="664"/>
                      </a:lnTo>
                      <a:lnTo>
                        <a:pt x="0" y="682"/>
                      </a:lnTo>
                      <a:lnTo>
                        <a:pt x="703" y="504"/>
                      </a:lnTo>
                      <a:lnTo>
                        <a:pt x="864" y="449"/>
                      </a:lnTo>
                      <a:lnTo>
                        <a:pt x="952" y="407"/>
                      </a:lnTo>
                      <a:lnTo>
                        <a:pt x="975" y="387"/>
                      </a:lnTo>
                      <a:lnTo>
                        <a:pt x="970" y="374"/>
                      </a:lnTo>
                      <a:lnTo>
                        <a:pt x="917" y="367"/>
                      </a:lnTo>
                      <a:lnTo>
                        <a:pt x="1074" y="325"/>
                      </a:lnTo>
                      <a:lnTo>
                        <a:pt x="1086" y="304"/>
                      </a:lnTo>
                      <a:lnTo>
                        <a:pt x="1157" y="306"/>
                      </a:lnTo>
                      <a:lnTo>
                        <a:pt x="1161" y="284"/>
                      </a:lnTo>
                      <a:lnTo>
                        <a:pt x="1136" y="271"/>
                      </a:lnTo>
                      <a:lnTo>
                        <a:pt x="1018" y="242"/>
                      </a:lnTo>
                      <a:lnTo>
                        <a:pt x="1123" y="242"/>
                      </a:lnTo>
                      <a:lnTo>
                        <a:pt x="1123" y="216"/>
                      </a:lnTo>
                      <a:lnTo>
                        <a:pt x="1044" y="189"/>
                      </a:lnTo>
                      <a:lnTo>
                        <a:pt x="934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7182000" y="4744440"/>
                  <a:ext cx="115200" cy="144000"/>
                </a:xfrm>
                <a:custGeom>
                  <a:avLst/>
                  <a:gdLst/>
                  <a:ahLst/>
                  <a:rect l="l" t="t" r="r" b="b"/>
                  <a:pathLst>
                    <a:path w="1400" h="1354">
                      <a:moveTo>
                        <a:pt x="585" y="668"/>
                      </a:moveTo>
                      <a:lnTo>
                        <a:pt x="486" y="811"/>
                      </a:lnTo>
                      <a:lnTo>
                        <a:pt x="468" y="885"/>
                      </a:lnTo>
                      <a:lnTo>
                        <a:pt x="413" y="947"/>
                      </a:lnTo>
                      <a:lnTo>
                        <a:pt x="352" y="1130"/>
                      </a:lnTo>
                      <a:lnTo>
                        <a:pt x="277" y="1118"/>
                      </a:lnTo>
                      <a:lnTo>
                        <a:pt x="233" y="1002"/>
                      </a:lnTo>
                      <a:lnTo>
                        <a:pt x="171" y="975"/>
                      </a:lnTo>
                      <a:lnTo>
                        <a:pt x="110" y="991"/>
                      </a:lnTo>
                      <a:lnTo>
                        <a:pt x="67" y="1064"/>
                      </a:lnTo>
                      <a:lnTo>
                        <a:pt x="97" y="1354"/>
                      </a:lnTo>
                      <a:lnTo>
                        <a:pt x="46" y="1263"/>
                      </a:lnTo>
                      <a:lnTo>
                        <a:pt x="0" y="730"/>
                      </a:lnTo>
                      <a:lnTo>
                        <a:pt x="40" y="627"/>
                      </a:lnTo>
                      <a:lnTo>
                        <a:pt x="110" y="438"/>
                      </a:lnTo>
                      <a:lnTo>
                        <a:pt x="270" y="242"/>
                      </a:lnTo>
                      <a:lnTo>
                        <a:pt x="486" y="71"/>
                      </a:lnTo>
                      <a:lnTo>
                        <a:pt x="754" y="11"/>
                      </a:lnTo>
                      <a:lnTo>
                        <a:pt x="976" y="0"/>
                      </a:lnTo>
                      <a:lnTo>
                        <a:pt x="1095" y="55"/>
                      </a:lnTo>
                      <a:lnTo>
                        <a:pt x="1160" y="124"/>
                      </a:lnTo>
                      <a:lnTo>
                        <a:pt x="1286" y="165"/>
                      </a:lnTo>
                      <a:lnTo>
                        <a:pt x="1240" y="165"/>
                      </a:lnTo>
                      <a:lnTo>
                        <a:pt x="1240" y="189"/>
                      </a:lnTo>
                      <a:lnTo>
                        <a:pt x="1342" y="223"/>
                      </a:lnTo>
                      <a:lnTo>
                        <a:pt x="1270" y="251"/>
                      </a:lnTo>
                      <a:lnTo>
                        <a:pt x="1277" y="271"/>
                      </a:lnTo>
                      <a:lnTo>
                        <a:pt x="1314" y="290"/>
                      </a:lnTo>
                      <a:lnTo>
                        <a:pt x="1229" y="318"/>
                      </a:lnTo>
                      <a:lnTo>
                        <a:pt x="1277" y="365"/>
                      </a:lnTo>
                      <a:lnTo>
                        <a:pt x="1125" y="403"/>
                      </a:lnTo>
                      <a:lnTo>
                        <a:pt x="1125" y="413"/>
                      </a:lnTo>
                      <a:lnTo>
                        <a:pt x="1266" y="424"/>
                      </a:lnTo>
                      <a:lnTo>
                        <a:pt x="1116" y="470"/>
                      </a:lnTo>
                      <a:lnTo>
                        <a:pt x="1400" y="438"/>
                      </a:lnTo>
                      <a:lnTo>
                        <a:pt x="1383" y="530"/>
                      </a:lnTo>
                      <a:lnTo>
                        <a:pt x="864" y="631"/>
                      </a:lnTo>
                      <a:lnTo>
                        <a:pt x="585" y="6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7290000" y="4791960"/>
                  <a:ext cx="46800" cy="167040"/>
                </a:xfrm>
                <a:custGeom>
                  <a:avLst/>
                  <a:gdLst/>
                  <a:ahLst/>
                  <a:rect l="l" t="t" r="r" b="b"/>
                  <a:pathLst>
                    <a:path w="567" h="1578">
                      <a:moveTo>
                        <a:pt x="320" y="150"/>
                      </a:moveTo>
                      <a:lnTo>
                        <a:pt x="358" y="245"/>
                      </a:lnTo>
                      <a:lnTo>
                        <a:pt x="358" y="635"/>
                      </a:lnTo>
                      <a:lnTo>
                        <a:pt x="304" y="761"/>
                      </a:lnTo>
                      <a:lnTo>
                        <a:pt x="304" y="904"/>
                      </a:lnTo>
                      <a:lnTo>
                        <a:pt x="239" y="1119"/>
                      </a:lnTo>
                      <a:lnTo>
                        <a:pt x="147" y="1255"/>
                      </a:lnTo>
                      <a:lnTo>
                        <a:pt x="0" y="1578"/>
                      </a:lnTo>
                      <a:lnTo>
                        <a:pt x="90" y="1471"/>
                      </a:lnTo>
                      <a:lnTo>
                        <a:pt x="198" y="1211"/>
                      </a:lnTo>
                      <a:lnTo>
                        <a:pt x="270" y="1105"/>
                      </a:lnTo>
                      <a:lnTo>
                        <a:pt x="341" y="941"/>
                      </a:lnTo>
                      <a:lnTo>
                        <a:pt x="341" y="794"/>
                      </a:lnTo>
                      <a:lnTo>
                        <a:pt x="484" y="704"/>
                      </a:lnTo>
                      <a:lnTo>
                        <a:pt x="567" y="455"/>
                      </a:lnTo>
                      <a:lnTo>
                        <a:pt x="567" y="261"/>
                      </a:lnTo>
                      <a:lnTo>
                        <a:pt x="558" y="121"/>
                      </a:lnTo>
                      <a:lnTo>
                        <a:pt x="532" y="42"/>
                      </a:lnTo>
                      <a:lnTo>
                        <a:pt x="468" y="0"/>
                      </a:lnTo>
                      <a:lnTo>
                        <a:pt x="521" y="60"/>
                      </a:lnTo>
                      <a:lnTo>
                        <a:pt x="532" y="110"/>
                      </a:lnTo>
                      <a:lnTo>
                        <a:pt x="521" y="139"/>
                      </a:lnTo>
                      <a:lnTo>
                        <a:pt x="444" y="90"/>
                      </a:lnTo>
                      <a:lnTo>
                        <a:pt x="437" y="97"/>
                      </a:lnTo>
                      <a:lnTo>
                        <a:pt x="488" y="178"/>
                      </a:lnTo>
                      <a:lnTo>
                        <a:pt x="505" y="305"/>
                      </a:lnTo>
                      <a:lnTo>
                        <a:pt x="505" y="429"/>
                      </a:lnTo>
                      <a:lnTo>
                        <a:pt x="468" y="275"/>
                      </a:lnTo>
                      <a:lnTo>
                        <a:pt x="345" y="110"/>
                      </a:lnTo>
                      <a:lnTo>
                        <a:pt x="320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7199280" y="4888800"/>
                  <a:ext cx="87480" cy="110880"/>
                </a:xfrm>
                <a:custGeom>
                  <a:avLst/>
                  <a:gdLst/>
                  <a:ahLst/>
                  <a:rect l="l" t="t" r="r" b="b"/>
                  <a:pathLst>
                    <a:path w="1057" h="1050">
                      <a:moveTo>
                        <a:pt x="90" y="0"/>
                      </a:moveTo>
                      <a:lnTo>
                        <a:pt x="68" y="195"/>
                      </a:lnTo>
                      <a:lnTo>
                        <a:pt x="72" y="281"/>
                      </a:lnTo>
                      <a:lnTo>
                        <a:pt x="105" y="356"/>
                      </a:lnTo>
                      <a:lnTo>
                        <a:pt x="158" y="424"/>
                      </a:lnTo>
                      <a:lnTo>
                        <a:pt x="259" y="506"/>
                      </a:lnTo>
                      <a:lnTo>
                        <a:pt x="558" y="651"/>
                      </a:lnTo>
                      <a:lnTo>
                        <a:pt x="842" y="758"/>
                      </a:lnTo>
                      <a:lnTo>
                        <a:pt x="925" y="762"/>
                      </a:lnTo>
                      <a:lnTo>
                        <a:pt x="995" y="758"/>
                      </a:lnTo>
                      <a:lnTo>
                        <a:pt x="1057" y="730"/>
                      </a:lnTo>
                      <a:lnTo>
                        <a:pt x="1006" y="767"/>
                      </a:lnTo>
                      <a:lnTo>
                        <a:pt x="944" y="783"/>
                      </a:lnTo>
                      <a:lnTo>
                        <a:pt x="863" y="785"/>
                      </a:lnTo>
                      <a:lnTo>
                        <a:pt x="753" y="767"/>
                      </a:lnTo>
                      <a:lnTo>
                        <a:pt x="753" y="817"/>
                      </a:lnTo>
                      <a:lnTo>
                        <a:pt x="738" y="882"/>
                      </a:lnTo>
                      <a:lnTo>
                        <a:pt x="661" y="1009"/>
                      </a:lnTo>
                      <a:lnTo>
                        <a:pt x="704" y="901"/>
                      </a:lnTo>
                      <a:lnTo>
                        <a:pt x="709" y="824"/>
                      </a:lnTo>
                      <a:lnTo>
                        <a:pt x="624" y="861"/>
                      </a:lnTo>
                      <a:lnTo>
                        <a:pt x="624" y="978"/>
                      </a:lnTo>
                      <a:lnTo>
                        <a:pt x="598" y="1013"/>
                      </a:lnTo>
                      <a:lnTo>
                        <a:pt x="624" y="1050"/>
                      </a:lnTo>
                      <a:lnTo>
                        <a:pt x="591" y="1050"/>
                      </a:lnTo>
                      <a:lnTo>
                        <a:pt x="506" y="1009"/>
                      </a:lnTo>
                      <a:lnTo>
                        <a:pt x="328" y="843"/>
                      </a:lnTo>
                      <a:lnTo>
                        <a:pt x="215" y="721"/>
                      </a:lnTo>
                      <a:lnTo>
                        <a:pt x="98" y="567"/>
                      </a:lnTo>
                      <a:lnTo>
                        <a:pt x="0" y="370"/>
                      </a:lnTo>
                      <a:lnTo>
                        <a:pt x="107" y="541"/>
                      </a:lnTo>
                      <a:lnTo>
                        <a:pt x="204" y="633"/>
                      </a:lnTo>
                      <a:lnTo>
                        <a:pt x="81" y="411"/>
                      </a:lnTo>
                      <a:lnTo>
                        <a:pt x="52" y="288"/>
                      </a:lnTo>
                      <a:lnTo>
                        <a:pt x="52" y="213"/>
                      </a:lnTo>
                      <a:lnTo>
                        <a:pt x="68" y="91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7191360" y="4856760"/>
                  <a:ext cx="14400" cy="32760"/>
                </a:xfrm>
                <a:custGeom>
                  <a:avLst/>
                  <a:gdLst/>
                  <a:ahLst/>
                  <a:rect l="l" t="t" r="r" b="b"/>
                  <a:pathLst>
                    <a:path w="180" h="312">
                      <a:moveTo>
                        <a:pt x="37" y="0"/>
                      </a:moveTo>
                      <a:lnTo>
                        <a:pt x="88" y="7"/>
                      </a:lnTo>
                      <a:lnTo>
                        <a:pt x="175" y="62"/>
                      </a:lnTo>
                      <a:lnTo>
                        <a:pt x="180" y="164"/>
                      </a:lnTo>
                      <a:lnTo>
                        <a:pt x="146" y="147"/>
                      </a:lnTo>
                      <a:lnTo>
                        <a:pt x="136" y="134"/>
                      </a:lnTo>
                      <a:lnTo>
                        <a:pt x="94" y="171"/>
                      </a:lnTo>
                      <a:lnTo>
                        <a:pt x="94" y="185"/>
                      </a:lnTo>
                      <a:lnTo>
                        <a:pt x="125" y="204"/>
                      </a:lnTo>
                      <a:lnTo>
                        <a:pt x="155" y="301"/>
                      </a:lnTo>
                      <a:lnTo>
                        <a:pt x="132" y="312"/>
                      </a:lnTo>
                      <a:lnTo>
                        <a:pt x="100" y="257"/>
                      </a:lnTo>
                      <a:lnTo>
                        <a:pt x="19" y="233"/>
                      </a:lnTo>
                      <a:lnTo>
                        <a:pt x="0" y="111"/>
                      </a:lnTo>
                      <a:lnTo>
                        <a:pt x="19" y="95"/>
                      </a:lnTo>
                      <a:lnTo>
                        <a:pt x="105" y="53"/>
                      </a:lnTo>
                      <a:lnTo>
                        <a:pt x="81" y="26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7192800" y="4888080"/>
                  <a:ext cx="5760" cy="144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0" y="0"/>
                      </a:moveTo>
                      <a:lnTo>
                        <a:pt x="69" y="17"/>
                      </a:lnTo>
                      <a:lnTo>
                        <a:pt x="7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7191360" y="4896360"/>
                  <a:ext cx="11880" cy="20160"/>
                </a:xfrm>
                <a:custGeom>
                  <a:avLst/>
                  <a:gdLst/>
                  <a:ahLst/>
                  <a:rect l="l" t="t" r="r" b="b"/>
                  <a:pathLst>
                    <a:path w="143" h="195">
                      <a:moveTo>
                        <a:pt x="0" y="0"/>
                      </a:moveTo>
                      <a:lnTo>
                        <a:pt x="26" y="23"/>
                      </a:lnTo>
                      <a:lnTo>
                        <a:pt x="67" y="37"/>
                      </a:lnTo>
                      <a:lnTo>
                        <a:pt x="143" y="18"/>
                      </a:lnTo>
                      <a:lnTo>
                        <a:pt x="114" y="85"/>
                      </a:lnTo>
                      <a:lnTo>
                        <a:pt x="61" y="103"/>
                      </a:lnTo>
                      <a:lnTo>
                        <a:pt x="33" y="195"/>
                      </a:lnTo>
                      <a:lnTo>
                        <a:pt x="6" y="140"/>
                      </a:lnTo>
                      <a:lnTo>
                        <a:pt x="6" y="112"/>
                      </a:lnTo>
                      <a:lnTo>
                        <a:pt x="33" y="85"/>
                      </a:lnTo>
                      <a:lnTo>
                        <a:pt x="15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7211520" y="4858920"/>
                  <a:ext cx="5760" cy="23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7212600" y="4853880"/>
                  <a:ext cx="8640" cy="35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7218000" y="4863960"/>
                  <a:ext cx="7920" cy="27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7223400" y="4874400"/>
                  <a:ext cx="5760" cy="18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7253640" y="4815000"/>
                  <a:ext cx="60840" cy="17640"/>
                </a:xfrm>
                <a:custGeom>
                  <a:avLst/>
                  <a:gdLst/>
                  <a:ahLst/>
                  <a:rect l="l" t="t" r="r" b="b"/>
                  <a:pathLst>
                    <a:path w="743" h="165">
                      <a:moveTo>
                        <a:pt x="0" y="0"/>
                      </a:moveTo>
                      <a:lnTo>
                        <a:pt x="116" y="18"/>
                      </a:lnTo>
                      <a:lnTo>
                        <a:pt x="351" y="101"/>
                      </a:lnTo>
                      <a:lnTo>
                        <a:pt x="519" y="138"/>
                      </a:lnTo>
                      <a:lnTo>
                        <a:pt x="743" y="16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7266240" y="4812480"/>
                  <a:ext cx="40320" cy="14400"/>
                </a:xfrm>
                <a:custGeom>
                  <a:avLst/>
                  <a:gdLst/>
                  <a:ahLst/>
                  <a:rect l="l" t="t" r="r" b="b"/>
                  <a:pathLst>
                    <a:path w="491" h="134">
                      <a:moveTo>
                        <a:pt x="0" y="0"/>
                      </a:moveTo>
                      <a:lnTo>
                        <a:pt x="82" y="28"/>
                      </a:lnTo>
                      <a:lnTo>
                        <a:pt x="260" y="88"/>
                      </a:lnTo>
                      <a:lnTo>
                        <a:pt x="491" y="1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7158240" y="4916880"/>
                  <a:ext cx="29520" cy="61560"/>
                </a:xfrm>
                <a:custGeom>
                  <a:avLst/>
                  <a:gdLst/>
                  <a:ahLst/>
                  <a:rect l="l" t="t" r="r" b="b"/>
                  <a:pathLst>
                    <a:path w="365" h="579">
                      <a:moveTo>
                        <a:pt x="365" y="0"/>
                      </a:moveTo>
                      <a:lnTo>
                        <a:pt x="277" y="129"/>
                      </a:lnTo>
                      <a:lnTo>
                        <a:pt x="277" y="265"/>
                      </a:lnTo>
                      <a:lnTo>
                        <a:pt x="350" y="579"/>
                      </a:lnTo>
                      <a:lnTo>
                        <a:pt x="224" y="290"/>
                      </a:lnTo>
                      <a:lnTo>
                        <a:pt x="224" y="199"/>
                      </a:lnTo>
                      <a:lnTo>
                        <a:pt x="0" y="199"/>
                      </a:lnTo>
                      <a:lnTo>
                        <a:pt x="187" y="76"/>
                      </a:lnTo>
                      <a:lnTo>
                        <a:pt x="277" y="76"/>
                      </a:lnTo>
                      <a:lnTo>
                        <a:pt x="3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7039080" y="4956480"/>
                  <a:ext cx="348480" cy="420120"/>
                </a:xfrm>
                <a:custGeom>
                  <a:avLst/>
                  <a:gdLst/>
                  <a:ahLst/>
                  <a:rect l="l" t="t" r="r" b="b"/>
                  <a:pathLst>
                    <a:path w="4215" h="3969">
                      <a:moveTo>
                        <a:pt x="1158" y="0"/>
                      </a:moveTo>
                      <a:lnTo>
                        <a:pt x="897" y="255"/>
                      </a:lnTo>
                      <a:lnTo>
                        <a:pt x="743" y="466"/>
                      </a:lnTo>
                      <a:lnTo>
                        <a:pt x="743" y="706"/>
                      </a:lnTo>
                      <a:lnTo>
                        <a:pt x="920" y="591"/>
                      </a:lnTo>
                      <a:lnTo>
                        <a:pt x="920" y="756"/>
                      </a:lnTo>
                      <a:lnTo>
                        <a:pt x="1314" y="1684"/>
                      </a:lnTo>
                      <a:lnTo>
                        <a:pt x="1224" y="1582"/>
                      </a:lnTo>
                      <a:lnTo>
                        <a:pt x="1134" y="1582"/>
                      </a:lnTo>
                      <a:lnTo>
                        <a:pt x="1072" y="1610"/>
                      </a:lnTo>
                      <a:lnTo>
                        <a:pt x="1031" y="1644"/>
                      </a:lnTo>
                      <a:lnTo>
                        <a:pt x="1174" y="1960"/>
                      </a:lnTo>
                      <a:lnTo>
                        <a:pt x="1448" y="2451"/>
                      </a:lnTo>
                      <a:lnTo>
                        <a:pt x="1868" y="2890"/>
                      </a:lnTo>
                      <a:lnTo>
                        <a:pt x="2031" y="3026"/>
                      </a:lnTo>
                      <a:lnTo>
                        <a:pt x="2031" y="3116"/>
                      </a:lnTo>
                      <a:lnTo>
                        <a:pt x="1930" y="3239"/>
                      </a:lnTo>
                      <a:lnTo>
                        <a:pt x="1930" y="3380"/>
                      </a:lnTo>
                      <a:lnTo>
                        <a:pt x="2129" y="3343"/>
                      </a:lnTo>
                      <a:lnTo>
                        <a:pt x="2158" y="3295"/>
                      </a:lnTo>
                      <a:lnTo>
                        <a:pt x="2145" y="3228"/>
                      </a:lnTo>
                      <a:lnTo>
                        <a:pt x="2094" y="3191"/>
                      </a:lnTo>
                      <a:lnTo>
                        <a:pt x="2296" y="3239"/>
                      </a:lnTo>
                      <a:lnTo>
                        <a:pt x="2435" y="3228"/>
                      </a:lnTo>
                      <a:lnTo>
                        <a:pt x="2575" y="3178"/>
                      </a:lnTo>
                      <a:lnTo>
                        <a:pt x="2712" y="3065"/>
                      </a:lnTo>
                      <a:lnTo>
                        <a:pt x="2815" y="2967"/>
                      </a:lnTo>
                      <a:lnTo>
                        <a:pt x="2749" y="3076"/>
                      </a:lnTo>
                      <a:lnTo>
                        <a:pt x="2700" y="3166"/>
                      </a:lnTo>
                      <a:lnTo>
                        <a:pt x="2903" y="3191"/>
                      </a:lnTo>
                      <a:lnTo>
                        <a:pt x="3154" y="3203"/>
                      </a:lnTo>
                      <a:lnTo>
                        <a:pt x="3357" y="3154"/>
                      </a:lnTo>
                      <a:lnTo>
                        <a:pt x="3433" y="2855"/>
                      </a:lnTo>
                      <a:lnTo>
                        <a:pt x="3468" y="2855"/>
                      </a:lnTo>
                      <a:lnTo>
                        <a:pt x="3494" y="2890"/>
                      </a:lnTo>
                      <a:lnTo>
                        <a:pt x="3521" y="2991"/>
                      </a:lnTo>
                      <a:lnTo>
                        <a:pt x="3535" y="3076"/>
                      </a:lnTo>
                      <a:lnTo>
                        <a:pt x="4203" y="3039"/>
                      </a:lnTo>
                      <a:lnTo>
                        <a:pt x="4215" y="3116"/>
                      </a:lnTo>
                      <a:lnTo>
                        <a:pt x="4215" y="3178"/>
                      </a:lnTo>
                      <a:lnTo>
                        <a:pt x="4189" y="3254"/>
                      </a:lnTo>
                      <a:lnTo>
                        <a:pt x="4037" y="3265"/>
                      </a:lnTo>
                      <a:lnTo>
                        <a:pt x="3913" y="3343"/>
                      </a:lnTo>
                      <a:lnTo>
                        <a:pt x="3683" y="3390"/>
                      </a:lnTo>
                      <a:lnTo>
                        <a:pt x="3481" y="3380"/>
                      </a:lnTo>
                      <a:lnTo>
                        <a:pt x="3281" y="3441"/>
                      </a:lnTo>
                      <a:lnTo>
                        <a:pt x="3105" y="3481"/>
                      </a:lnTo>
                      <a:lnTo>
                        <a:pt x="2852" y="3492"/>
                      </a:lnTo>
                      <a:lnTo>
                        <a:pt x="2547" y="3457"/>
                      </a:lnTo>
                      <a:lnTo>
                        <a:pt x="2320" y="3481"/>
                      </a:lnTo>
                      <a:lnTo>
                        <a:pt x="2129" y="3542"/>
                      </a:lnTo>
                      <a:lnTo>
                        <a:pt x="1990" y="3620"/>
                      </a:lnTo>
                      <a:lnTo>
                        <a:pt x="1615" y="3516"/>
                      </a:lnTo>
                      <a:lnTo>
                        <a:pt x="681" y="3969"/>
                      </a:lnTo>
                      <a:lnTo>
                        <a:pt x="0" y="3969"/>
                      </a:lnTo>
                      <a:lnTo>
                        <a:pt x="176" y="1723"/>
                      </a:lnTo>
                      <a:lnTo>
                        <a:pt x="328" y="1244"/>
                      </a:lnTo>
                      <a:lnTo>
                        <a:pt x="266" y="1558"/>
                      </a:lnTo>
                      <a:lnTo>
                        <a:pt x="418" y="2059"/>
                      </a:lnTo>
                      <a:lnTo>
                        <a:pt x="418" y="2500"/>
                      </a:lnTo>
                      <a:lnTo>
                        <a:pt x="591" y="2977"/>
                      </a:lnTo>
                      <a:lnTo>
                        <a:pt x="681" y="2977"/>
                      </a:lnTo>
                      <a:lnTo>
                        <a:pt x="907" y="2488"/>
                      </a:lnTo>
                      <a:lnTo>
                        <a:pt x="602" y="1886"/>
                      </a:lnTo>
                      <a:lnTo>
                        <a:pt x="556" y="1697"/>
                      </a:lnTo>
                      <a:lnTo>
                        <a:pt x="528" y="1497"/>
                      </a:lnTo>
                      <a:lnTo>
                        <a:pt x="556" y="1281"/>
                      </a:lnTo>
                      <a:lnTo>
                        <a:pt x="681" y="780"/>
                      </a:lnTo>
                      <a:lnTo>
                        <a:pt x="618" y="729"/>
                      </a:lnTo>
                      <a:lnTo>
                        <a:pt x="577" y="665"/>
                      </a:lnTo>
                      <a:lnTo>
                        <a:pt x="567" y="618"/>
                      </a:lnTo>
                      <a:lnTo>
                        <a:pt x="441" y="905"/>
                      </a:lnTo>
                      <a:lnTo>
                        <a:pt x="540" y="591"/>
                      </a:lnTo>
                      <a:lnTo>
                        <a:pt x="591" y="517"/>
                      </a:lnTo>
                      <a:lnTo>
                        <a:pt x="769" y="317"/>
                      </a:lnTo>
                      <a:lnTo>
                        <a:pt x="943" y="139"/>
                      </a:lnTo>
                      <a:lnTo>
                        <a:pt x="11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7151760" y="5009040"/>
                  <a:ext cx="107640" cy="224640"/>
                </a:xfrm>
                <a:custGeom>
                  <a:avLst/>
                  <a:gdLst/>
                  <a:ahLst/>
                  <a:rect l="l" t="t" r="r" b="b"/>
                  <a:pathLst>
                    <a:path w="1300" h="2125">
                      <a:moveTo>
                        <a:pt x="0" y="140"/>
                      </a:moveTo>
                      <a:lnTo>
                        <a:pt x="378" y="378"/>
                      </a:lnTo>
                      <a:lnTo>
                        <a:pt x="641" y="829"/>
                      </a:lnTo>
                      <a:lnTo>
                        <a:pt x="641" y="1020"/>
                      </a:lnTo>
                      <a:lnTo>
                        <a:pt x="984" y="1318"/>
                      </a:lnTo>
                      <a:lnTo>
                        <a:pt x="1111" y="1556"/>
                      </a:lnTo>
                      <a:lnTo>
                        <a:pt x="1083" y="967"/>
                      </a:lnTo>
                      <a:lnTo>
                        <a:pt x="1083" y="589"/>
                      </a:lnTo>
                      <a:lnTo>
                        <a:pt x="1111" y="327"/>
                      </a:lnTo>
                      <a:lnTo>
                        <a:pt x="1072" y="266"/>
                      </a:lnTo>
                      <a:lnTo>
                        <a:pt x="984" y="378"/>
                      </a:lnTo>
                      <a:lnTo>
                        <a:pt x="906" y="424"/>
                      </a:lnTo>
                      <a:lnTo>
                        <a:pt x="998" y="327"/>
                      </a:lnTo>
                      <a:lnTo>
                        <a:pt x="1072" y="165"/>
                      </a:lnTo>
                      <a:lnTo>
                        <a:pt x="1160" y="27"/>
                      </a:lnTo>
                      <a:lnTo>
                        <a:pt x="1212" y="0"/>
                      </a:lnTo>
                      <a:lnTo>
                        <a:pt x="1160" y="80"/>
                      </a:lnTo>
                      <a:lnTo>
                        <a:pt x="1224" y="304"/>
                      </a:lnTo>
                      <a:lnTo>
                        <a:pt x="1160" y="304"/>
                      </a:lnTo>
                      <a:lnTo>
                        <a:pt x="1146" y="516"/>
                      </a:lnTo>
                      <a:lnTo>
                        <a:pt x="1184" y="1120"/>
                      </a:lnTo>
                      <a:lnTo>
                        <a:pt x="1247" y="1723"/>
                      </a:lnTo>
                      <a:lnTo>
                        <a:pt x="1300" y="1910"/>
                      </a:lnTo>
                      <a:lnTo>
                        <a:pt x="1035" y="2059"/>
                      </a:lnTo>
                      <a:lnTo>
                        <a:pt x="1146" y="1961"/>
                      </a:lnTo>
                      <a:lnTo>
                        <a:pt x="1095" y="1881"/>
                      </a:lnTo>
                      <a:lnTo>
                        <a:pt x="971" y="1910"/>
                      </a:lnTo>
                      <a:lnTo>
                        <a:pt x="694" y="2099"/>
                      </a:lnTo>
                      <a:lnTo>
                        <a:pt x="606" y="2125"/>
                      </a:lnTo>
                      <a:lnTo>
                        <a:pt x="593" y="2086"/>
                      </a:lnTo>
                      <a:lnTo>
                        <a:pt x="756" y="1934"/>
                      </a:lnTo>
                      <a:lnTo>
                        <a:pt x="1095" y="1821"/>
                      </a:lnTo>
                      <a:lnTo>
                        <a:pt x="1045" y="1685"/>
                      </a:lnTo>
                      <a:lnTo>
                        <a:pt x="1045" y="1547"/>
                      </a:lnTo>
                      <a:lnTo>
                        <a:pt x="998" y="1470"/>
                      </a:lnTo>
                      <a:lnTo>
                        <a:pt x="606" y="1169"/>
                      </a:lnTo>
                      <a:lnTo>
                        <a:pt x="138" y="841"/>
                      </a:lnTo>
                      <a:lnTo>
                        <a:pt x="657" y="1154"/>
                      </a:lnTo>
                      <a:lnTo>
                        <a:pt x="390" y="463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7217280" y="5231880"/>
                  <a:ext cx="17280" cy="49680"/>
                </a:xfrm>
                <a:custGeom>
                  <a:avLst/>
                  <a:gdLst/>
                  <a:ahLst/>
                  <a:rect l="l" t="t" r="r" b="b"/>
                  <a:pathLst>
                    <a:path w="203" h="466">
                      <a:moveTo>
                        <a:pt x="203" y="0"/>
                      </a:moveTo>
                      <a:lnTo>
                        <a:pt x="111" y="51"/>
                      </a:lnTo>
                      <a:lnTo>
                        <a:pt x="0" y="403"/>
                      </a:lnTo>
                      <a:lnTo>
                        <a:pt x="99" y="466"/>
                      </a:lnTo>
                      <a:lnTo>
                        <a:pt x="203" y="378"/>
                      </a:lnTo>
                      <a:lnTo>
                        <a:pt x="203" y="136"/>
                      </a:lnTo>
                      <a:lnTo>
                        <a:pt x="152" y="136"/>
                      </a:lnTo>
                      <a:lnTo>
                        <a:pt x="152" y="76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7235280" y="5219280"/>
                  <a:ext cx="41760" cy="63360"/>
                </a:xfrm>
                <a:custGeom>
                  <a:avLst/>
                  <a:gdLst/>
                  <a:ahLst/>
                  <a:rect l="l" t="t" r="r" b="b"/>
                  <a:pathLst>
                    <a:path w="506" h="599">
                      <a:moveTo>
                        <a:pt x="138" y="162"/>
                      </a:moveTo>
                      <a:lnTo>
                        <a:pt x="317" y="0"/>
                      </a:lnTo>
                      <a:lnTo>
                        <a:pt x="506" y="72"/>
                      </a:lnTo>
                      <a:lnTo>
                        <a:pt x="506" y="173"/>
                      </a:lnTo>
                      <a:lnTo>
                        <a:pt x="391" y="325"/>
                      </a:lnTo>
                      <a:lnTo>
                        <a:pt x="0" y="599"/>
                      </a:lnTo>
                      <a:lnTo>
                        <a:pt x="279" y="364"/>
                      </a:lnTo>
                      <a:lnTo>
                        <a:pt x="317" y="274"/>
                      </a:lnTo>
                      <a:lnTo>
                        <a:pt x="329" y="198"/>
                      </a:lnTo>
                      <a:lnTo>
                        <a:pt x="317" y="138"/>
                      </a:lnTo>
                      <a:lnTo>
                        <a:pt x="279" y="112"/>
                      </a:lnTo>
                      <a:lnTo>
                        <a:pt x="230" y="112"/>
                      </a:lnTo>
                      <a:lnTo>
                        <a:pt x="138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7284240" y="5196600"/>
                  <a:ext cx="257760" cy="105120"/>
                </a:xfrm>
                <a:custGeom>
                  <a:avLst/>
                  <a:gdLst/>
                  <a:ahLst/>
                  <a:rect l="l" t="t" r="r" b="b"/>
                  <a:pathLst>
                    <a:path w="3106" h="992">
                      <a:moveTo>
                        <a:pt x="0" y="215"/>
                      </a:moveTo>
                      <a:lnTo>
                        <a:pt x="430" y="377"/>
                      </a:lnTo>
                      <a:lnTo>
                        <a:pt x="540" y="268"/>
                      </a:lnTo>
                      <a:lnTo>
                        <a:pt x="770" y="268"/>
                      </a:lnTo>
                      <a:lnTo>
                        <a:pt x="896" y="364"/>
                      </a:lnTo>
                      <a:lnTo>
                        <a:pt x="1010" y="327"/>
                      </a:lnTo>
                      <a:lnTo>
                        <a:pt x="1603" y="314"/>
                      </a:lnTo>
                      <a:lnTo>
                        <a:pt x="2017" y="226"/>
                      </a:lnTo>
                      <a:lnTo>
                        <a:pt x="2589" y="0"/>
                      </a:lnTo>
                      <a:lnTo>
                        <a:pt x="2663" y="49"/>
                      </a:lnTo>
                      <a:lnTo>
                        <a:pt x="2676" y="100"/>
                      </a:lnTo>
                      <a:lnTo>
                        <a:pt x="2614" y="162"/>
                      </a:lnTo>
                      <a:lnTo>
                        <a:pt x="2689" y="238"/>
                      </a:lnTo>
                      <a:lnTo>
                        <a:pt x="2713" y="302"/>
                      </a:lnTo>
                      <a:lnTo>
                        <a:pt x="2689" y="377"/>
                      </a:lnTo>
                      <a:lnTo>
                        <a:pt x="3091" y="413"/>
                      </a:lnTo>
                      <a:lnTo>
                        <a:pt x="3106" y="439"/>
                      </a:lnTo>
                      <a:lnTo>
                        <a:pt x="2689" y="461"/>
                      </a:lnTo>
                      <a:lnTo>
                        <a:pt x="2689" y="500"/>
                      </a:lnTo>
                      <a:lnTo>
                        <a:pt x="2713" y="540"/>
                      </a:lnTo>
                      <a:lnTo>
                        <a:pt x="3078" y="553"/>
                      </a:lnTo>
                      <a:lnTo>
                        <a:pt x="3043" y="602"/>
                      </a:lnTo>
                      <a:lnTo>
                        <a:pt x="2737" y="665"/>
                      </a:lnTo>
                      <a:lnTo>
                        <a:pt x="2737" y="715"/>
                      </a:lnTo>
                      <a:lnTo>
                        <a:pt x="2953" y="715"/>
                      </a:lnTo>
                      <a:lnTo>
                        <a:pt x="2977" y="680"/>
                      </a:lnTo>
                      <a:lnTo>
                        <a:pt x="2965" y="740"/>
                      </a:lnTo>
                      <a:lnTo>
                        <a:pt x="2589" y="791"/>
                      </a:lnTo>
                      <a:lnTo>
                        <a:pt x="2160" y="814"/>
                      </a:lnTo>
                      <a:lnTo>
                        <a:pt x="1992" y="814"/>
                      </a:lnTo>
                      <a:lnTo>
                        <a:pt x="1753" y="854"/>
                      </a:lnTo>
                      <a:lnTo>
                        <a:pt x="1676" y="992"/>
                      </a:lnTo>
                      <a:lnTo>
                        <a:pt x="1314" y="992"/>
                      </a:lnTo>
                      <a:lnTo>
                        <a:pt x="1641" y="953"/>
                      </a:lnTo>
                      <a:lnTo>
                        <a:pt x="1692" y="867"/>
                      </a:lnTo>
                      <a:lnTo>
                        <a:pt x="1715" y="752"/>
                      </a:lnTo>
                      <a:lnTo>
                        <a:pt x="1715" y="641"/>
                      </a:lnTo>
                      <a:lnTo>
                        <a:pt x="1676" y="489"/>
                      </a:lnTo>
                      <a:lnTo>
                        <a:pt x="1630" y="364"/>
                      </a:lnTo>
                      <a:lnTo>
                        <a:pt x="1010" y="377"/>
                      </a:lnTo>
                      <a:lnTo>
                        <a:pt x="881" y="401"/>
                      </a:lnTo>
                      <a:lnTo>
                        <a:pt x="669" y="314"/>
                      </a:lnTo>
                      <a:lnTo>
                        <a:pt x="468" y="473"/>
                      </a:lnTo>
                      <a:lnTo>
                        <a:pt x="415" y="401"/>
                      </a:lnTo>
                      <a:lnTo>
                        <a:pt x="0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7355880" y="5249880"/>
                  <a:ext cx="29520" cy="15120"/>
                </a:xfrm>
                <a:custGeom>
                  <a:avLst/>
                  <a:gdLst/>
                  <a:ahLst/>
                  <a:rect l="l" t="t" r="r" b="b"/>
                  <a:pathLst>
                    <a:path w="366" h="150">
                      <a:moveTo>
                        <a:pt x="366" y="114"/>
                      </a:moveTo>
                      <a:lnTo>
                        <a:pt x="200" y="0"/>
                      </a:lnTo>
                      <a:lnTo>
                        <a:pt x="0" y="40"/>
                      </a:lnTo>
                      <a:lnTo>
                        <a:pt x="38" y="93"/>
                      </a:lnTo>
                      <a:lnTo>
                        <a:pt x="302" y="150"/>
                      </a:lnTo>
                      <a:lnTo>
                        <a:pt x="366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7254360" y="4986000"/>
                  <a:ext cx="25560" cy="231120"/>
                </a:xfrm>
                <a:custGeom>
                  <a:avLst/>
                  <a:gdLst/>
                  <a:ahLst/>
                  <a:rect l="l" t="t" r="r" b="b"/>
                  <a:pathLst>
                    <a:path w="315" h="2186">
                      <a:moveTo>
                        <a:pt x="175" y="2133"/>
                      </a:moveTo>
                      <a:lnTo>
                        <a:pt x="214" y="2085"/>
                      </a:lnTo>
                      <a:lnTo>
                        <a:pt x="214" y="1958"/>
                      </a:lnTo>
                      <a:lnTo>
                        <a:pt x="124" y="1633"/>
                      </a:lnTo>
                      <a:lnTo>
                        <a:pt x="62" y="1180"/>
                      </a:lnTo>
                      <a:lnTo>
                        <a:pt x="49" y="796"/>
                      </a:lnTo>
                      <a:lnTo>
                        <a:pt x="21" y="540"/>
                      </a:lnTo>
                      <a:lnTo>
                        <a:pt x="49" y="466"/>
                      </a:lnTo>
                      <a:lnTo>
                        <a:pt x="49" y="325"/>
                      </a:lnTo>
                      <a:lnTo>
                        <a:pt x="0" y="213"/>
                      </a:lnTo>
                      <a:lnTo>
                        <a:pt x="73" y="277"/>
                      </a:lnTo>
                      <a:lnTo>
                        <a:pt x="99" y="213"/>
                      </a:lnTo>
                      <a:lnTo>
                        <a:pt x="111" y="127"/>
                      </a:lnTo>
                      <a:lnTo>
                        <a:pt x="111" y="0"/>
                      </a:lnTo>
                      <a:lnTo>
                        <a:pt x="124" y="104"/>
                      </a:lnTo>
                      <a:lnTo>
                        <a:pt x="136" y="213"/>
                      </a:lnTo>
                      <a:lnTo>
                        <a:pt x="111" y="341"/>
                      </a:lnTo>
                      <a:lnTo>
                        <a:pt x="73" y="466"/>
                      </a:lnTo>
                      <a:lnTo>
                        <a:pt x="49" y="551"/>
                      </a:lnTo>
                      <a:lnTo>
                        <a:pt x="111" y="1292"/>
                      </a:lnTo>
                      <a:lnTo>
                        <a:pt x="185" y="1732"/>
                      </a:lnTo>
                      <a:lnTo>
                        <a:pt x="262" y="1958"/>
                      </a:lnTo>
                      <a:lnTo>
                        <a:pt x="315" y="2186"/>
                      </a:lnTo>
                      <a:lnTo>
                        <a:pt x="175" y="21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7281000" y="4969080"/>
                  <a:ext cx="143640" cy="259920"/>
                </a:xfrm>
                <a:custGeom>
                  <a:avLst/>
                  <a:gdLst/>
                  <a:ahLst/>
                  <a:rect l="l" t="t" r="r" b="b"/>
                  <a:pathLst>
                    <a:path w="1731" h="2462">
                      <a:moveTo>
                        <a:pt x="152" y="0"/>
                      </a:moveTo>
                      <a:lnTo>
                        <a:pt x="379" y="203"/>
                      </a:lnTo>
                      <a:lnTo>
                        <a:pt x="440" y="376"/>
                      </a:lnTo>
                      <a:lnTo>
                        <a:pt x="480" y="541"/>
                      </a:lnTo>
                      <a:lnTo>
                        <a:pt x="480" y="800"/>
                      </a:lnTo>
                      <a:lnTo>
                        <a:pt x="368" y="1646"/>
                      </a:lnTo>
                      <a:lnTo>
                        <a:pt x="267" y="1747"/>
                      </a:lnTo>
                      <a:lnTo>
                        <a:pt x="0" y="1784"/>
                      </a:lnTo>
                      <a:lnTo>
                        <a:pt x="368" y="1772"/>
                      </a:lnTo>
                      <a:lnTo>
                        <a:pt x="254" y="2450"/>
                      </a:lnTo>
                      <a:lnTo>
                        <a:pt x="278" y="2462"/>
                      </a:lnTo>
                      <a:lnTo>
                        <a:pt x="406" y="1881"/>
                      </a:lnTo>
                      <a:lnTo>
                        <a:pt x="883" y="2273"/>
                      </a:lnTo>
                      <a:lnTo>
                        <a:pt x="996" y="2273"/>
                      </a:lnTo>
                      <a:lnTo>
                        <a:pt x="1174" y="2185"/>
                      </a:lnTo>
                      <a:lnTo>
                        <a:pt x="1363" y="2035"/>
                      </a:lnTo>
                      <a:lnTo>
                        <a:pt x="1500" y="1895"/>
                      </a:lnTo>
                      <a:lnTo>
                        <a:pt x="1603" y="1759"/>
                      </a:lnTo>
                      <a:lnTo>
                        <a:pt x="1462" y="1881"/>
                      </a:lnTo>
                      <a:lnTo>
                        <a:pt x="1363" y="1809"/>
                      </a:lnTo>
                      <a:lnTo>
                        <a:pt x="1480" y="1734"/>
                      </a:lnTo>
                      <a:lnTo>
                        <a:pt x="1238" y="1809"/>
                      </a:lnTo>
                      <a:lnTo>
                        <a:pt x="950" y="1846"/>
                      </a:lnTo>
                      <a:lnTo>
                        <a:pt x="669" y="1846"/>
                      </a:lnTo>
                      <a:lnTo>
                        <a:pt x="555" y="1846"/>
                      </a:lnTo>
                      <a:lnTo>
                        <a:pt x="469" y="1784"/>
                      </a:lnTo>
                      <a:lnTo>
                        <a:pt x="647" y="1708"/>
                      </a:lnTo>
                      <a:lnTo>
                        <a:pt x="1012" y="1708"/>
                      </a:lnTo>
                      <a:lnTo>
                        <a:pt x="1300" y="1545"/>
                      </a:lnTo>
                      <a:lnTo>
                        <a:pt x="1012" y="1631"/>
                      </a:lnTo>
                      <a:lnTo>
                        <a:pt x="647" y="1631"/>
                      </a:lnTo>
                      <a:lnTo>
                        <a:pt x="440" y="1685"/>
                      </a:lnTo>
                      <a:lnTo>
                        <a:pt x="440" y="1496"/>
                      </a:lnTo>
                      <a:lnTo>
                        <a:pt x="987" y="1409"/>
                      </a:lnTo>
                      <a:lnTo>
                        <a:pt x="781" y="892"/>
                      </a:lnTo>
                      <a:lnTo>
                        <a:pt x="555" y="592"/>
                      </a:lnTo>
                      <a:lnTo>
                        <a:pt x="555" y="415"/>
                      </a:lnTo>
                      <a:lnTo>
                        <a:pt x="1570" y="1444"/>
                      </a:lnTo>
                      <a:lnTo>
                        <a:pt x="1731" y="1519"/>
                      </a:lnTo>
                      <a:lnTo>
                        <a:pt x="1642" y="1332"/>
                      </a:lnTo>
                      <a:lnTo>
                        <a:pt x="733" y="477"/>
                      </a:lnTo>
                      <a:lnTo>
                        <a:pt x="620" y="267"/>
                      </a:lnTo>
                      <a:lnTo>
                        <a:pt x="304" y="51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7367040" y="5169240"/>
                  <a:ext cx="64800" cy="61560"/>
                </a:xfrm>
                <a:custGeom>
                  <a:avLst/>
                  <a:gdLst/>
                  <a:ahLst/>
                  <a:rect l="l" t="t" r="r" b="b"/>
                  <a:pathLst>
                    <a:path w="783" h="580">
                      <a:moveTo>
                        <a:pt x="0" y="442"/>
                      </a:moveTo>
                      <a:lnTo>
                        <a:pt x="317" y="378"/>
                      </a:lnTo>
                      <a:lnTo>
                        <a:pt x="670" y="580"/>
                      </a:lnTo>
                      <a:lnTo>
                        <a:pt x="783" y="540"/>
                      </a:lnTo>
                      <a:lnTo>
                        <a:pt x="504" y="378"/>
                      </a:lnTo>
                      <a:lnTo>
                        <a:pt x="619" y="166"/>
                      </a:lnTo>
                      <a:lnTo>
                        <a:pt x="619" y="0"/>
                      </a:lnTo>
                      <a:lnTo>
                        <a:pt x="402" y="265"/>
                      </a:lnTo>
                      <a:lnTo>
                        <a:pt x="216" y="362"/>
                      </a:lnTo>
                      <a:lnTo>
                        <a:pt x="0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7414200" y="5126040"/>
                  <a:ext cx="81360" cy="74520"/>
                </a:xfrm>
                <a:custGeom>
                  <a:avLst/>
                  <a:gdLst/>
                  <a:ahLst/>
                  <a:rect l="l" t="t" r="r" b="b"/>
                  <a:pathLst>
                    <a:path w="984" h="703">
                      <a:moveTo>
                        <a:pt x="189" y="314"/>
                      </a:moveTo>
                      <a:lnTo>
                        <a:pt x="367" y="212"/>
                      </a:lnTo>
                      <a:lnTo>
                        <a:pt x="744" y="364"/>
                      </a:lnTo>
                      <a:lnTo>
                        <a:pt x="744" y="500"/>
                      </a:lnTo>
                      <a:lnTo>
                        <a:pt x="442" y="579"/>
                      </a:lnTo>
                      <a:lnTo>
                        <a:pt x="809" y="567"/>
                      </a:lnTo>
                      <a:lnTo>
                        <a:pt x="984" y="703"/>
                      </a:lnTo>
                      <a:lnTo>
                        <a:pt x="870" y="450"/>
                      </a:lnTo>
                      <a:lnTo>
                        <a:pt x="707" y="265"/>
                      </a:lnTo>
                      <a:lnTo>
                        <a:pt x="343" y="164"/>
                      </a:lnTo>
                      <a:lnTo>
                        <a:pt x="202" y="0"/>
                      </a:lnTo>
                      <a:lnTo>
                        <a:pt x="0" y="164"/>
                      </a:lnTo>
                      <a:lnTo>
                        <a:pt x="178" y="63"/>
                      </a:lnTo>
                      <a:lnTo>
                        <a:pt x="239" y="149"/>
                      </a:lnTo>
                      <a:lnTo>
                        <a:pt x="189" y="3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7500960" y="5194800"/>
                  <a:ext cx="48240" cy="43920"/>
                </a:xfrm>
                <a:custGeom>
                  <a:avLst/>
                  <a:gdLst/>
                  <a:ahLst/>
                  <a:rect l="l" t="t" r="r" b="b"/>
                  <a:pathLst>
                    <a:path w="581" h="415">
                      <a:moveTo>
                        <a:pt x="22" y="0"/>
                      </a:moveTo>
                      <a:lnTo>
                        <a:pt x="464" y="37"/>
                      </a:lnTo>
                      <a:lnTo>
                        <a:pt x="581" y="240"/>
                      </a:lnTo>
                      <a:lnTo>
                        <a:pt x="581" y="288"/>
                      </a:lnTo>
                      <a:lnTo>
                        <a:pt x="492" y="316"/>
                      </a:lnTo>
                      <a:lnTo>
                        <a:pt x="363" y="240"/>
                      </a:lnTo>
                      <a:lnTo>
                        <a:pt x="187" y="240"/>
                      </a:lnTo>
                      <a:lnTo>
                        <a:pt x="477" y="351"/>
                      </a:lnTo>
                      <a:lnTo>
                        <a:pt x="492" y="415"/>
                      </a:lnTo>
                      <a:lnTo>
                        <a:pt x="453" y="367"/>
                      </a:lnTo>
                      <a:lnTo>
                        <a:pt x="22" y="229"/>
                      </a:lnTo>
                      <a:lnTo>
                        <a:pt x="0" y="192"/>
                      </a:lnTo>
                      <a:lnTo>
                        <a:pt x="464" y="176"/>
                      </a:lnTo>
                      <a:lnTo>
                        <a:pt x="453" y="7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7524720" y="5233680"/>
                  <a:ext cx="19080" cy="37080"/>
                </a:xfrm>
                <a:custGeom>
                  <a:avLst/>
                  <a:gdLst/>
                  <a:ahLst/>
                  <a:rect l="l" t="t" r="r" b="b"/>
                  <a:pathLst>
                    <a:path w="228" h="352">
                      <a:moveTo>
                        <a:pt x="186" y="99"/>
                      </a:moveTo>
                      <a:lnTo>
                        <a:pt x="186" y="163"/>
                      </a:lnTo>
                      <a:lnTo>
                        <a:pt x="96" y="210"/>
                      </a:lnTo>
                      <a:lnTo>
                        <a:pt x="0" y="275"/>
                      </a:lnTo>
                      <a:lnTo>
                        <a:pt x="72" y="352"/>
                      </a:lnTo>
                      <a:lnTo>
                        <a:pt x="125" y="249"/>
                      </a:lnTo>
                      <a:lnTo>
                        <a:pt x="228" y="187"/>
                      </a:lnTo>
                      <a:lnTo>
                        <a:pt x="228" y="74"/>
                      </a:lnTo>
                      <a:lnTo>
                        <a:pt x="186" y="0"/>
                      </a:lnTo>
                      <a:lnTo>
                        <a:pt x="186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7530840" y="5217480"/>
                  <a:ext cx="30240" cy="55080"/>
                </a:xfrm>
                <a:custGeom>
                  <a:avLst/>
                  <a:gdLst/>
                  <a:ahLst/>
                  <a:rect l="l" t="t" r="r" b="b"/>
                  <a:pathLst>
                    <a:path w="369" h="514">
                      <a:moveTo>
                        <a:pt x="129" y="71"/>
                      </a:moveTo>
                      <a:lnTo>
                        <a:pt x="325" y="396"/>
                      </a:lnTo>
                      <a:lnTo>
                        <a:pt x="369" y="514"/>
                      </a:lnTo>
                      <a:lnTo>
                        <a:pt x="269" y="4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7495200" y="5138640"/>
                  <a:ext cx="33480" cy="60840"/>
                </a:xfrm>
                <a:custGeom>
                  <a:avLst/>
                  <a:gdLst/>
                  <a:ahLst/>
                  <a:rect l="l" t="t" r="r" b="b"/>
                  <a:pathLst>
                    <a:path w="413" h="576">
                      <a:moveTo>
                        <a:pt x="319" y="558"/>
                      </a:move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22" y="0"/>
                      </a:lnTo>
                      <a:lnTo>
                        <a:pt x="37" y="0"/>
                      </a:lnTo>
                      <a:lnTo>
                        <a:pt x="59" y="5"/>
                      </a:lnTo>
                      <a:lnTo>
                        <a:pt x="413" y="57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7442640" y="5201280"/>
                  <a:ext cx="39600" cy="26280"/>
                </a:xfrm>
                <a:custGeom>
                  <a:avLst/>
                  <a:gdLst/>
                  <a:ahLst/>
                  <a:rect l="l" t="t" r="r" b="b"/>
                  <a:pathLst>
                    <a:path w="477" h="244">
                      <a:moveTo>
                        <a:pt x="67" y="181"/>
                      </a:moveTo>
                      <a:lnTo>
                        <a:pt x="99" y="82"/>
                      </a:lnTo>
                      <a:lnTo>
                        <a:pt x="180" y="34"/>
                      </a:lnTo>
                      <a:lnTo>
                        <a:pt x="279" y="34"/>
                      </a:lnTo>
                      <a:lnTo>
                        <a:pt x="427" y="62"/>
                      </a:lnTo>
                      <a:lnTo>
                        <a:pt x="477" y="34"/>
                      </a:lnTo>
                      <a:lnTo>
                        <a:pt x="310" y="0"/>
                      </a:lnTo>
                      <a:lnTo>
                        <a:pt x="198" y="0"/>
                      </a:lnTo>
                      <a:lnTo>
                        <a:pt x="99" y="34"/>
                      </a:lnTo>
                      <a:lnTo>
                        <a:pt x="51" y="99"/>
                      </a:lnTo>
                      <a:lnTo>
                        <a:pt x="0" y="244"/>
                      </a:lnTo>
                      <a:lnTo>
                        <a:pt x="67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7412400" y="4700520"/>
                  <a:ext cx="133560" cy="209160"/>
                </a:xfrm>
                <a:custGeom>
                  <a:avLst/>
                  <a:gdLst/>
                  <a:ahLst/>
                  <a:rect l="l" t="t" r="r" b="b"/>
                  <a:pathLst>
                    <a:path w="1617" h="1969">
                      <a:moveTo>
                        <a:pt x="1578" y="822"/>
                      </a:moveTo>
                      <a:lnTo>
                        <a:pt x="1615" y="694"/>
                      </a:lnTo>
                      <a:lnTo>
                        <a:pt x="1617" y="512"/>
                      </a:lnTo>
                      <a:lnTo>
                        <a:pt x="1573" y="350"/>
                      </a:lnTo>
                      <a:lnTo>
                        <a:pt x="1506" y="233"/>
                      </a:lnTo>
                      <a:lnTo>
                        <a:pt x="1413" y="123"/>
                      </a:lnTo>
                      <a:lnTo>
                        <a:pt x="1275" y="48"/>
                      </a:lnTo>
                      <a:lnTo>
                        <a:pt x="980" y="0"/>
                      </a:lnTo>
                      <a:lnTo>
                        <a:pt x="710" y="73"/>
                      </a:lnTo>
                      <a:lnTo>
                        <a:pt x="565" y="198"/>
                      </a:lnTo>
                      <a:lnTo>
                        <a:pt x="439" y="417"/>
                      </a:lnTo>
                      <a:lnTo>
                        <a:pt x="404" y="631"/>
                      </a:lnTo>
                      <a:lnTo>
                        <a:pt x="351" y="818"/>
                      </a:lnTo>
                      <a:lnTo>
                        <a:pt x="356" y="910"/>
                      </a:lnTo>
                      <a:lnTo>
                        <a:pt x="404" y="1026"/>
                      </a:lnTo>
                      <a:lnTo>
                        <a:pt x="393" y="1095"/>
                      </a:lnTo>
                      <a:lnTo>
                        <a:pt x="268" y="1185"/>
                      </a:lnTo>
                      <a:lnTo>
                        <a:pt x="171" y="1270"/>
                      </a:lnTo>
                      <a:lnTo>
                        <a:pt x="106" y="1411"/>
                      </a:lnTo>
                      <a:lnTo>
                        <a:pt x="106" y="1484"/>
                      </a:lnTo>
                      <a:lnTo>
                        <a:pt x="116" y="1554"/>
                      </a:lnTo>
                      <a:lnTo>
                        <a:pt x="130" y="1597"/>
                      </a:lnTo>
                      <a:lnTo>
                        <a:pt x="112" y="1653"/>
                      </a:lnTo>
                      <a:lnTo>
                        <a:pt x="0" y="1754"/>
                      </a:lnTo>
                      <a:lnTo>
                        <a:pt x="160" y="1712"/>
                      </a:lnTo>
                      <a:lnTo>
                        <a:pt x="347" y="1657"/>
                      </a:lnTo>
                      <a:lnTo>
                        <a:pt x="415" y="1861"/>
                      </a:lnTo>
                      <a:lnTo>
                        <a:pt x="479" y="1969"/>
                      </a:lnTo>
                      <a:lnTo>
                        <a:pt x="450" y="1872"/>
                      </a:lnTo>
                      <a:lnTo>
                        <a:pt x="450" y="1800"/>
                      </a:lnTo>
                      <a:lnTo>
                        <a:pt x="468" y="1758"/>
                      </a:lnTo>
                      <a:lnTo>
                        <a:pt x="505" y="1754"/>
                      </a:lnTo>
                      <a:lnTo>
                        <a:pt x="565" y="1769"/>
                      </a:lnTo>
                      <a:lnTo>
                        <a:pt x="628" y="1826"/>
                      </a:lnTo>
                      <a:lnTo>
                        <a:pt x="685" y="1904"/>
                      </a:lnTo>
                      <a:lnTo>
                        <a:pt x="639" y="1754"/>
                      </a:lnTo>
                      <a:lnTo>
                        <a:pt x="618" y="1641"/>
                      </a:lnTo>
                      <a:lnTo>
                        <a:pt x="604" y="1507"/>
                      </a:lnTo>
                      <a:lnTo>
                        <a:pt x="611" y="1411"/>
                      </a:lnTo>
                      <a:lnTo>
                        <a:pt x="674" y="1507"/>
                      </a:lnTo>
                      <a:lnTo>
                        <a:pt x="765" y="1593"/>
                      </a:lnTo>
                      <a:lnTo>
                        <a:pt x="870" y="1666"/>
                      </a:lnTo>
                      <a:lnTo>
                        <a:pt x="980" y="1703"/>
                      </a:lnTo>
                      <a:lnTo>
                        <a:pt x="888" y="1666"/>
                      </a:lnTo>
                      <a:lnTo>
                        <a:pt x="802" y="1613"/>
                      </a:lnTo>
                      <a:lnTo>
                        <a:pt x="717" y="1533"/>
                      </a:lnTo>
                      <a:lnTo>
                        <a:pt x="671" y="1466"/>
                      </a:lnTo>
                      <a:lnTo>
                        <a:pt x="632" y="1399"/>
                      </a:lnTo>
                      <a:lnTo>
                        <a:pt x="618" y="1339"/>
                      </a:lnTo>
                      <a:lnTo>
                        <a:pt x="611" y="1261"/>
                      </a:lnTo>
                      <a:lnTo>
                        <a:pt x="598" y="1180"/>
                      </a:lnTo>
                      <a:lnTo>
                        <a:pt x="591" y="1042"/>
                      </a:lnTo>
                      <a:lnTo>
                        <a:pt x="584" y="1237"/>
                      </a:lnTo>
                      <a:lnTo>
                        <a:pt x="569" y="1261"/>
                      </a:lnTo>
                      <a:lnTo>
                        <a:pt x="538" y="1277"/>
                      </a:lnTo>
                      <a:lnTo>
                        <a:pt x="499" y="1261"/>
                      </a:lnTo>
                      <a:lnTo>
                        <a:pt x="479" y="1217"/>
                      </a:lnTo>
                      <a:lnTo>
                        <a:pt x="479" y="1167"/>
                      </a:lnTo>
                      <a:lnTo>
                        <a:pt x="494" y="1114"/>
                      </a:lnTo>
                      <a:lnTo>
                        <a:pt x="523" y="1072"/>
                      </a:lnTo>
                      <a:lnTo>
                        <a:pt x="487" y="1092"/>
                      </a:lnTo>
                      <a:lnTo>
                        <a:pt x="429" y="963"/>
                      </a:lnTo>
                      <a:lnTo>
                        <a:pt x="411" y="910"/>
                      </a:lnTo>
                      <a:lnTo>
                        <a:pt x="404" y="853"/>
                      </a:lnTo>
                      <a:lnTo>
                        <a:pt x="411" y="804"/>
                      </a:lnTo>
                      <a:lnTo>
                        <a:pt x="436" y="776"/>
                      </a:lnTo>
                      <a:lnTo>
                        <a:pt x="461" y="751"/>
                      </a:lnTo>
                      <a:lnTo>
                        <a:pt x="487" y="751"/>
                      </a:lnTo>
                      <a:lnTo>
                        <a:pt x="514" y="767"/>
                      </a:lnTo>
                      <a:lnTo>
                        <a:pt x="538" y="804"/>
                      </a:lnTo>
                      <a:lnTo>
                        <a:pt x="565" y="890"/>
                      </a:lnTo>
                      <a:lnTo>
                        <a:pt x="574" y="782"/>
                      </a:lnTo>
                      <a:lnTo>
                        <a:pt x="622" y="687"/>
                      </a:lnTo>
                      <a:lnTo>
                        <a:pt x="697" y="549"/>
                      </a:lnTo>
                      <a:lnTo>
                        <a:pt x="741" y="435"/>
                      </a:lnTo>
                      <a:lnTo>
                        <a:pt x="798" y="354"/>
                      </a:lnTo>
                      <a:lnTo>
                        <a:pt x="888" y="304"/>
                      </a:lnTo>
                      <a:lnTo>
                        <a:pt x="1038" y="286"/>
                      </a:lnTo>
                      <a:lnTo>
                        <a:pt x="1195" y="304"/>
                      </a:lnTo>
                      <a:lnTo>
                        <a:pt x="1393" y="343"/>
                      </a:lnTo>
                      <a:lnTo>
                        <a:pt x="1470" y="406"/>
                      </a:lnTo>
                      <a:lnTo>
                        <a:pt x="1520" y="519"/>
                      </a:lnTo>
                      <a:lnTo>
                        <a:pt x="1549" y="641"/>
                      </a:lnTo>
                      <a:lnTo>
                        <a:pt x="1569" y="883"/>
                      </a:lnTo>
                      <a:lnTo>
                        <a:pt x="1578" y="8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7474320" y="4804920"/>
                  <a:ext cx="67320" cy="124560"/>
                </a:xfrm>
                <a:custGeom>
                  <a:avLst/>
                  <a:gdLst/>
                  <a:ahLst/>
                  <a:rect l="l" t="t" r="r" b="b"/>
                  <a:pathLst>
                    <a:path w="817" h="1173">
                      <a:moveTo>
                        <a:pt x="817" y="0"/>
                      </a:moveTo>
                      <a:lnTo>
                        <a:pt x="786" y="103"/>
                      </a:lnTo>
                      <a:lnTo>
                        <a:pt x="718" y="359"/>
                      </a:lnTo>
                      <a:lnTo>
                        <a:pt x="634" y="514"/>
                      </a:lnTo>
                      <a:lnTo>
                        <a:pt x="569" y="608"/>
                      </a:lnTo>
                      <a:lnTo>
                        <a:pt x="481" y="703"/>
                      </a:lnTo>
                      <a:lnTo>
                        <a:pt x="417" y="723"/>
                      </a:lnTo>
                      <a:lnTo>
                        <a:pt x="305" y="732"/>
                      </a:lnTo>
                      <a:lnTo>
                        <a:pt x="187" y="707"/>
                      </a:lnTo>
                      <a:lnTo>
                        <a:pt x="94" y="661"/>
                      </a:lnTo>
                      <a:lnTo>
                        <a:pt x="0" y="596"/>
                      </a:lnTo>
                      <a:lnTo>
                        <a:pt x="57" y="692"/>
                      </a:lnTo>
                      <a:lnTo>
                        <a:pt x="136" y="758"/>
                      </a:lnTo>
                      <a:lnTo>
                        <a:pt x="206" y="800"/>
                      </a:lnTo>
                      <a:lnTo>
                        <a:pt x="300" y="825"/>
                      </a:lnTo>
                      <a:lnTo>
                        <a:pt x="380" y="825"/>
                      </a:lnTo>
                      <a:lnTo>
                        <a:pt x="329" y="1173"/>
                      </a:lnTo>
                      <a:lnTo>
                        <a:pt x="376" y="1064"/>
                      </a:lnTo>
                      <a:lnTo>
                        <a:pt x="443" y="795"/>
                      </a:lnTo>
                      <a:lnTo>
                        <a:pt x="477" y="747"/>
                      </a:lnTo>
                      <a:lnTo>
                        <a:pt x="527" y="820"/>
                      </a:lnTo>
                      <a:lnTo>
                        <a:pt x="574" y="940"/>
                      </a:lnTo>
                      <a:lnTo>
                        <a:pt x="551" y="800"/>
                      </a:lnTo>
                      <a:lnTo>
                        <a:pt x="503" y="707"/>
                      </a:lnTo>
                      <a:lnTo>
                        <a:pt x="579" y="617"/>
                      </a:lnTo>
                      <a:lnTo>
                        <a:pt x="668" y="493"/>
                      </a:lnTo>
                      <a:lnTo>
                        <a:pt x="720" y="373"/>
                      </a:lnTo>
                      <a:lnTo>
                        <a:pt x="754" y="286"/>
                      </a:lnTo>
                      <a:lnTo>
                        <a:pt x="793" y="115"/>
                      </a:lnTo>
                      <a:lnTo>
                        <a:pt x="8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7448760" y="4786920"/>
                  <a:ext cx="7920" cy="22680"/>
                </a:xfrm>
                <a:custGeom>
                  <a:avLst/>
                  <a:gdLst/>
                  <a:ahLst/>
                  <a:rect l="l" t="t" r="r" b="b"/>
                  <a:pathLst>
                    <a:path w="99" h="215">
                      <a:moveTo>
                        <a:pt x="11" y="0"/>
                      </a:moveTo>
                      <a:lnTo>
                        <a:pt x="48" y="7"/>
                      </a:lnTo>
                      <a:lnTo>
                        <a:pt x="91" y="60"/>
                      </a:lnTo>
                      <a:lnTo>
                        <a:pt x="99" y="111"/>
                      </a:lnTo>
                      <a:lnTo>
                        <a:pt x="94" y="145"/>
                      </a:lnTo>
                      <a:lnTo>
                        <a:pt x="60" y="162"/>
                      </a:lnTo>
                      <a:lnTo>
                        <a:pt x="55" y="180"/>
                      </a:lnTo>
                      <a:lnTo>
                        <a:pt x="73" y="215"/>
                      </a:lnTo>
                      <a:lnTo>
                        <a:pt x="22" y="169"/>
                      </a:lnTo>
                      <a:lnTo>
                        <a:pt x="22" y="145"/>
                      </a:lnTo>
                      <a:lnTo>
                        <a:pt x="36" y="123"/>
                      </a:lnTo>
                      <a:lnTo>
                        <a:pt x="55" y="106"/>
                      </a:lnTo>
                      <a:lnTo>
                        <a:pt x="84" y="92"/>
                      </a:lnTo>
                      <a:lnTo>
                        <a:pt x="73" y="65"/>
                      </a:lnTo>
                      <a:lnTo>
                        <a:pt x="60" y="42"/>
                      </a:lnTo>
                      <a:lnTo>
                        <a:pt x="36" y="28"/>
                      </a:lnTo>
                      <a:lnTo>
                        <a:pt x="11" y="60"/>
                      </a:lnTo>
                      <a:lnTo>
                        <a:pt x="11" y="79"/>
                      </a:lnTo>
                      <a:lnTo>
                        <a:pt x="0" y="53"/>
                      </a:lnTo>
                      <a:lnTo>
                        <a:pt x="0" y="1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7459200" y="4794840"/>
                  <a:ext cx="3600" cy="25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7461360" y="4798800"/>
                  <a:ext cx="5040" cy="27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7466040" y="4813200"/>
                  <a:ext cx="324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7452000" y="4816440"/>
                  <a:ext cx="5760" cy="1656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33" y="0"/>
                      </a:moveTo>
                      <a:lnTo>
                        <a:pt x="59" y="28"/>
                      </a:lnTo>
                      <a:lnTo>
                        <a:pt x="72" y="63"/>
                      </a:lnTo>
                      <a:lnTo>
                        <a:pt x="77" y="112"/>
                      </a:lnTo>
                      <a:lnTo>
                        <a:pt x="72" y="145"/>
                      </a:lnTo>
                      <a:lnTo>
                        <a:pt x="54" y="158"/>
                      </a:lnTo>
                      <a:lnTo>
                        <a:pt x="33" y="162"/>
                      </a:lnTo>
                      <a:lnTo>
                        <a:pt x="8" y="158"/>
                      </a:lnTo>
                      <a:lnTo>
                        <a:pt x="0" y="116"/>
                      </a:lnTo>
                      <a:lnTo>
                        <a:pt x="44" y="123"/>
                      </a:lnTo>
                      <a:lnTo>
                        <a:pt x="51" y="88"/>
                      </a:lnTo>
                      <a:lnTo>
                        <a:pt x="59" y="63"/>
                      </a:lnTo>
                      <a:lnTo>
                        <a:pt x="54" y="37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7360560" y="4871880"/>
                  <a:ext cx="235800" cy="159120"/>
                </a:xfrm>
                <a:custGeom>
                  <a:avLst/>
                  <a:gdLst/>
                  <a:ahLst/>
                  <a:rect l="l" t="t" r="r" b="b"/>
                  <a:pathLst>
                    <a:path w="2847" h="1510">
                      <a:moveTo>
                        <a:pt x="1072" y="246"/>
                      </a:moveTo>
                      <a:lnTo>
                        <a:pt x="1129" y="369"/>
                      </a:lnTo>
                      <a:lnTo>
                        <a:pt x="1228" y="441"/>
                      </a:lnTo>
                      <a:lnTo>
                        <a:pt x="1369" y="516"/>
                      </a:lnTo>
                      <a:lnTo>
                        <a:pt x="1558" y="567"/>
                      </a:lnTo>
                      <a:lnTo>
                        <a:pt x="1798" y="606"/>
                      </a:lnTo>
                      <a:lnTo>
                        <a:pt x="1903" y="576"/>
                      </a:lnTo>
                      <a:lnTo>
                        <a:pt x="1945" y="507"/>
                      </a:lnTo>
                      <a:lnTo>
                        <a:pt x="1969" y="408"/>
                      </a:lnTo>
                      <a:lnTo>
                        <a:pt x="1969" y="345"/>
                      </a:lnTo>
                      <a:lnTo>
                        <a:pt x="1929" y="239"/>
                      </a:lnTo>
                      <a:lnTo>
                        <a:pt x="1890" y="171"/>
                      </a:lnTo>
                      <a:lnTo>
                        <a:pt x="1839" y="120"/>
                      </a:lnTo>
                      <a:lnTo>
                        <a:pt x="1903" y="32"/>
                      </a:lnTo>
                      <a:lnTo>
                        <a:pt x="1945" y="0"/>
                      </a:lnTo>
                      <a:lnTo>
                        <a:pt x="2160" y="113"/>
                      </a:lnTo>
                      <a:lnTo>
                        <a:pt x="2400" y="162"/>
                      </a:lnTo>
                      <a:lnTo>
                        <a:pt x="2630" y="252"/>
                      </a:lnTo>
                      <a:lnTo>
                        <a:pt x="2847" y="378"/>
                      </a:lnTo>
                      <a:lnTo>
                        <a:pt x="2556" y="252"/>
                      </a:lnTo>
                      <a:lnTo>
                        <a:pt x="2342" y="191"/>
                      </a:lnTo>
                      <a:lnTo>
                        <a:pt x="2202" y="171"/>
                      </a:lnTo>
                      <a:lnTo>
                        <a:pt x="2052" y="171"/>
                      </a:lnTo>
                      <a:lnTo>
                        <a:pt x="1987" y="215"/>
                      </a:lnTo>
                      <a:lnTo>
                        <a:pt x="2004" y="387"/>
                      </a:lnTo>
                      <a:lnTo>
                        <a:pt x="1987" y="484"/>
                      </a:lnTo>
                      <a:lnTo>
                        <a:pt x="1953" y="590"/>
                      </a:lnTo>
                      <a:lnTo>
                        <a:pt x="1903" y="655"/>
                      </a:lnTo>
                      <a:lnTo>
                        <a:pt x="1789" y="760"/>
                      </a:lnTo>
                      <a:lnTo>
                        <a:pt x="1789" y="707"/>
                      </a:lnTo>
                      <a:lnTo>
                        <a:pt x="1749" y="673"/>
                      </a:lnTo>
                      <a:lnTo>
                        <a:pt x="1708" y="687"/>
                      </a:lnTo>
                      <a:lnTo>
                        <a:pt x="1696" y="738"/>
                      </a:lnTo>
                      <a:lnTo>
                        <a:pt x="1720" y="770"/>
                      </a:lnTo>
                      <a:lnTo>
                        <a:pt x="1756" y="779"/>
                      </a:lnTo>
                      <a:lnTo>
                        <a:pt x="1731" y="813"/>
                      </a:lnTo>
                      <a:lnTo>
                        <a:pt x="1674" y="802"/>
                      </a:lnTo>
                      <a:lnTo>
                        <a:pt x="1648" y="760"/>
                      </a:lnTo>
                      <a:lnTo>
                        <a:pt x="1659" y="707"/>
                      </a:lnTo>
                      <a:lnTo>
                        <a:pt x="1681" y="666"/>
                      </a:lnTo>
                      <a:lnTo>
                        <a:pt x="1720" y="648"/>
                      </a:lnTo>
                      <a:lnTo>
                        <a:pt x="1780" y="624"/>
                      </a:lnTo>
                      <a:lnTo>
                        <a:pt x="1433" y="567"/>
                      </a:lnTo>
                      <a:lnTo>
                        <a:pt x="1235" y="500"/>
                      </a:lnTo>
                      <a:lnTo>
                        <a:pt x="1353" y="795"/>
                      </a:lnTo>
                      <a:lnTo>
                        <a:pt x="1549" y="1289"/>
                      </a:lnTo>
                      <a:lnTo>
                        <a:pt x="1648" y="1510"/>
                      </a:lnTo>
                      <a:lnTo>
                        <a:pt x="1358" y="903"/>
                      </a:lnTo>
                      <a:lnTo>
                        <a:pt x="1201" y="576"/>
                      </a:lnTo>
                      <a:lnTo>
                        <a:pt x="1046" y="378"/>
                      </a:lnTo>
                      <a:lnTo>
                        <a:pt x="896" y="239"/>
                      </a:lnTo>
                      <a:lnTo>
                        <a:pt x="774" y="156"/>
                      </a:lnTo>
                      <a:lnTo>
                        <a:pt x="668" y="147"/>
                      </a:lnTo>
                      <a:lnTo>
                        <a:pt x="525" y="162"/>
                      </a:lnTo>
                      <a:lnTo>
                        <a:pt x="106" y="270"/>
                      </a:lnTo>
                      <a:lnTo>
                        <a:pt x="0" y="345"/>
                      </a:lnTo>
                      <a:lnTo>
                        <a:pt x="106" y="239"/>
                      </a:lnTo>
                      <a:lnTo>
                        <a:pt x="493" y="94"/>
                      </a:lnTo>
                      <a:lnTo>
                        <a:pt x="749" y="90"/>
                      </a:lnTo>
                      <a:lnTo>
                        <a:pt x="995" y="15"/>
                      </a:lnTo>
                      <a:lnTo>
                        <a:pt x="1072" y="2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7345080" y="4915800"/>
                  <a:ext cx="93960" cy="181440"/>
                </a:xfrm>
                <a:custGeom>
                  <a:avLst/>
                  <a:gdLst/>
                  <a:ahLst/>
                  <a:rect l="l" t="t" r="r" b="b"/>
                  <a:pathLst>
                    <a:path w="1134" h="1714">
                      <a:moveTo>
                        <a:pt x="159" y="0"/>
                      </a:moveTo>
                      <a:lnTo>
                        <a:pt x="264" y="31"/>
                      </a:lnTo>
                      <a:lnTo>
                        <a:pt x="365" y="113"/>
                      </a:lnTo>
                      <a:lnTo>
                        <a:pt x="447" y="229"/>
                      </a:lnTo>
                      <a:lnTo>
                        <a:pt x="521" y="367"/>
                      </a:lnTo>
                      <a:lnTo>
                        <a:pt x="570" y="484"/>
                      </a:lnTo>
                      <a:lnTo>
                        <a:pt x="611" y="591"/>
                      </a:lnTo>
                      <a:lnTo>
                        <a:pt x="491" y="409"/>
                      </a:lnTo>
                      <a:lnTo>
                        <a:pt x="387" y="288"/>
                      </a:lnTo>
                      <a:lnTo>
                        <a:pt x="264" y="205"/>
                      </a:lnTo>
                      <a:lnTo>
                        <a:pt x="167" y="157"/>
                      </a:lnTo>
                      <a:lnTo>
                        <a:pt x="167" y="319"/>
                      </a:lnTo>
                      <a:lnTo>
                        <a:pt x="222" y="499"/>
                      </a:lnTo>
                      <a:lnTo>
                        <a:pt x="312" y="646"/>
                      </a:lnTo>
                      <a:lnTo>
                        <a:pt x="413" y="754"/>
                      </a:lnTo>
                      <a:lnTo>
                        <a:pt x="598" y="886"/>
                      </a:lnTo>
                      <a:lnTo>
                        <a:pt x="768" y="998"/>
                      </a:lnTo>
                      <a:lnTo>
                        <a:pt x="860" y="1049"/>
                      </a:lnTo>
                      <a:lnTo>
                        <a:pt x="818" y="925"/>
                      </a:lnTo>
                      <a:lnTo>
                        <a:pt x="923" y="1132"/>
                      </a:lnTo>
                      <a:lnTo>
                        <a:pt x="976" y="1301"/>
                      </a:lnTo>
                      <a:lnTo>
                        <a:pt x="1007" y="1508"/>
                      </a:lnTo>
                      <a:lnTo>
                        <a:pt x="1081" y="1631"/>
                      </a:lnTo>
                      <a:lnTo>
                        <a:pt x="1134" y="1714"/>
                      </a:lnTo>
                      <a:lnTo>
                        <a:pt x="959" y="1559"/>
                      </a:lnTo>
                      <a:lnTo>
                        <a:pt x="959" y="1642"/>
                      </a:lnTo>
                      <a:lnTo>
                        <a:pt x="877" y="1665"/>
                      </a:lnTo>
                      <a:lnTo>
                        <a:pt x="918" y="1609"/>
                      </a:lnTo>
                      <a:lnTo>
                        <a:pt x="908" y="1534"/>
                      </a:lnTo>
                      <a:lnTo>
                        <a:pt x="703" y="1402"/>
                      </a:lnTo>
                      <a:lnTo>
                        <a:pt x="877" y="1411"/>
                      </a:lnTo>
                      <a:lnTo>
                        <a:pt x="736" y="1204"/>
                      </a:lnTo>
                      <a:lnTo>
                        <a:pt x="853" y="1195"/>
                      </a:lnTo>
                      <a:lnTo>
                        <a:pt x="869" y="1147"/>
                      </a:lnTo>
                      <a:lnTo>
                        <a:pt x="703" y="1141"/>
                      </a:lnTo>
                      <a:lnTo>
                        <a:pt x="494" y="1077"/>
                      </a:lnTo>
                      <a:lnTo>
                        <a:pt x="249" y="967"/>
                      </a:lnTo>
                      <a:lnTo>
                        <a:pt x="99" y="860"/>
                      </a:lnTo>
                      <a:lnTo>
                        <a:pt x="84" y="886"/>
                      </a:lnTo>
                      <a:lnTo>
                        <a:pt x="143" y="985"/>
                      </a:lnTo>
                      <a:lnTo>
                        <a:pt x="240" y="1077"/>
                      </a:lnTo>
                      <a:lnTo>
                        <a:pt x="339" y="1132"/>
                      </a:lnTo>
                      <a:lnTo>
                        <a:pt x="413" y="1338"/>
                      </a:lnTo>
                      <a:lnTo>
                        <a:pt x="644" y="1402"/>
                      </a:lnTo>
                      <a:lnTo>
                        <a:pt x="482" y="1386"/>
                      </a:lnTo>
                      <a:lnTo>
                        <a:pt x="556" y="1460"/>
                      </a:lnTo>
                      <a:lnTo>
                        <a:pt x="763" y="1508"/>
                      </a:lnTo>
                      <a:lnTo>
                        <a:pt x="853" y="1582"/>
                      </a:lnTo>
                      <a:lnTo>
                        <a:pt x="826" y="1631"/>
                      </a:lnTo>
                      <a:lnTo>
                        <a:pt x="694" y="1591"/>
                      </a:lnTo>
                      <a:lnTo>
                        <a:pt x="598" y="1600"/>
                      </a:lnTo>
                      <a:lnTo>
                        <a:pt x="51" y="1107"/>
                      </a:lnTo>
                      <a:lnTo>
                        <a:pt x="21" y="943"/>
                      </a:lnTo>
                      <a:lnTo>
                        <a:pt x="9" y="826"/>
                      </a:lnTo>
                      <a:lnTo>
                        <a:pt x="51" y="770"/>
                      </a:lnTo>
                      <a:lnTo>
                        <a:pt x="21" y="642"/>
                      </a:lnTo>
                      <a:lnTo>
                        <a:pt x="0" y="443"/>
                      </a:lnTo>
                      <a:lnTo>
                        <a:pt x="25" y="279"/>
                      </a:lnTo>
                      <a:lnTo>
                        <a:pt x="77" y="132"/>
                      </a:lnTo>
                      <a:lnTo>
                        <a:pt x="1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7410960" y="5089680"/>
                  <a:ext cx="26280" cy="42480"/>
                </a:xfrm>
                <a:custGeom>
                  <a:avLst/>
                  <a:gdLst/>
                  <a:ahLst/>
                  <a:rect l="l" t="t" r="r" b="b"/>
                  <a:pathLst>
                    <a:path w="318" h="399">
                      <a:moveTo>
                        <a:pt x="0" y="138"/>
                      </a:moveTo>
                      <a:lnTo>
                        <a:pt x="87" y="23"/>
                      </a:lnTo>
                      <a:lnTo>
                        <a:pt x="168" y="0"/>
                      </a:lnTo>
                      <a:lnTo>
                        <a:pt x="221" y="72"/>
                      </a:lnTo>
                      <a:lnTo>
                        <a:pt x="221" y="336"/>
                      </a:lnTo>
                      <a:lnTo>
                        <a:pt x="285" y="106"/>
                      </a:lnTo>
                      <a:lnTo>
                        <a:pt x="318" y="196"/>
                      </a:lnTo>
                      <a:lnTo>
                        <a:pt x="318" y="295"/>
                      </a:lnTo>
                      <a:lnTo>
                        <a:pt x="246" y="399"/>
                      </a:lnTo>
                      <a:lnTo>
                        <a:pt x="186" y="399"/>
                      </a:lnTo>
                      <a:lnTo>
                        <a:pt x="39" y="261"/>
                      </a:lnTo>
                      <a:lnTo>
                        <a:pt x="0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7434000" y="4926960"/>
                  <a:ext cx="193320" cy="227880"/>
                </a:xfrm>
                <a:custGeom>
                  <a:avLst/>
                  <a:gdLst/>
                  <a:ahLst/>
                  <a:rect l="l" t="t" r="r" b="b"/>
                  <a:pathLst>
                    <a:path w="2335" h="2151">
                      <a:moveTo>
                        <a:pt x="87" y="1633"/>
                      </a:moveTo>
                      <a:lnTo>
                        <a:pt x="112" y="1705"/>
                      </a:lnTo>
                      <a:lnTo>
                        <a:pt x="123" y="1896"/>
                      </a:lnTo>
                      <a:lnTo>
                        <a:pt x="0" y="1953"/>
                      </a:lnTo>
                      <a:lnTo>
                        <a:pt x="39" y="1978"/>
                      </a:lnTo>
                      <a:lnTo>
                        <a:pt x="182" y="1953"/>
                      </a:lnTo>
                      <a:lnTo>
                        <a:pt x="742" y="2068"/>
                      </a:lnTo>
                      <a:lnTo>
                        <a:pt x="732" y="2032"/>
                      </a:lnTo>
                      <a:lnTo>
                        <a:pt x="732" y="2011"/>
                      </a:lnTo>
                      <a:lnTo>
                        <a:pt x="758" y="1997"/>
                      </a:lnTo>
                      <a:lnTo>
                        <a:pt x="791" y="2002"/>
                      </a:lnTo>
                      <a:lnTo>
                        <a:pt x="806" y="2032"/>
                      </a:lnTo>
                      <a:lnTo>
                        <a:pt x="830" y="2061"/>
                      </a:lnTo>
                      <a:lnTo>
                        <a:pt x="883" y="2068"/>
                      </a:lnTo>
                      <a:lnTo>
                        <a:pt x="958" y="2127"/>
                      </a:lnTo>
                      <a:lnTo>
                        <a:pt x="938" y="2068"/>
                      </a:lnTo>
                      <a:lnTo>
                        <a:pt x="1180" y="2011"/>
                      </a:lnTo>
                      <a:lnTo>
                        <a:pt x="1477" y="1845"/>
                      </a:lnTo>
                      <a:lnTo>
                        <a:pt x="1807" y="1930"/>
                      </a:lnTo>
                      <a:lnTo>
                        <a:pt x="1872" y="2061"/>
                      </a:lnTo>
                      <a:lnTo>
                        <a:pt x="1872" y="2142"/>
                      </a:lnTo>
                      <a:lnTo>
                        <a:pt x="1883" y="2151"/>
                      </a:lnTo>
                      <a:lnTo>
                        <a:pt x="1897" y="2061"/>
                      </a:lnTo>
                      <a:lnTo>
                        <a:pt x="1823" y="1912"/>
                      </a:lnTo>
                      <a:lnTo>
                        <a:pt x="1666" y="1815"/>
                      </a:lnTo>
                      <a:lnTo>
                        <a:pt x="1731" y="1714"/>
                      </a:lnTo>
                      <a:lnTo>
                        <a:pt x="1855" y="1668"/>
                      </a:lnTo>
                      <a:lnTo>
                        <a:pt x="2003" y="1642"/>
                      </a:lnTo>
                      <a:lnTo>
                        <a:pt x="2189" y="1674"/>
                      </a:lnTo>
                      <a:lnTo>
                        <a:pt x="2226" y="1705"/>
                      </a:lnTo>
                      <a:lnTo>
                        <a:pt x="2235" y="1804"/>
                      </a:lnTo>
                      <a:lnTo>
                        <a:pt x="2285" y="1887"/>
                      </a:lnTo>
                      <a:lnTo>
                        <a:pt x="2335" y="1771"/>
                      </a:lnTo>
                      <a:lnTo>
                        <a:pt x="2309" y="1700"/>
                      </a:lnTo>
                      <a:lnTo>
                        <a:pt x="2219" y="1608"/>
                      </a:lnTo>
                      <a:lnTo>
                        <a:pt x="2102" y="1510"/>
                      </a:lnTo>
                      <a:lnTo>
                        <a:pt x="2010" y="1402"/>
                      </a:lnTo>
                      <a:lnTo>
                        <a:pt x="1929" y="1439"/>
                      </a:lnTo>
                      <a:lnTo>
                        <a:pt x="1883" y="1559"/>
                      </a:lnTo>
                      <a:lnTo>
                        <a:pt x="1839" y="1536"/>
                      </a:lnTo>
                      <a:lnTo>
                        <a:pt x="1883" y="1428"/>
                      </a:lnTo>
                      <a:lnTo>
                        <a:pt x="1929" y="1338"/>
                      </a:lnTo>
                      <a:lnTo>
                        <a:pt x="2138" y="1255"/>
                      </a:lnTo>
                      <a:lnTo>
                        <a:pt x="2235" y="1165"/>
                      </a:lnTo>
                      <a:lnTo>
                        <a:pt x="2189" y="1041"/>
                      </a:lnTo>
                      <a:lnTo>
                        <a:pt x="2169" y="1142"/>
                      </a:lnTo>
                      <a:lnTo>
                        <a:pt x="2063" y="1206"/>
                      </a:lnTo>
                      <a:lnTo>
                        <a:pt x="1962" y="1232"/>
                      </a:lnTo>
                      <a:lnTo>
                        <a:pt x="1883" y="1239"/>
                      </a:lnTo>
                      <a:lnTo>
                        <a:pt x="1855" y="1213"/>
                      </a:lnTo>
                      <a:lnTo>
                        <a:pt x="1872" y="1181"/>
                      </a:lnTo>
                      <a:lnTo>
                        <a:pt x="2039" y="1066"/>
                      </a:lnTo>
                      <a:lnTo>
                        <a:pt x="2169" y="943"/>
                      </a:lnTo>
                      <a:lnTo>
                        <a:pt x="2197" y="1001"/>
                      </a:lnTo>
                      <a:lnTo>
                        <a:pt x="2201" y="868"/>
                      </a:lnTo>
                      <a:lnTo>
                        <a:pt x="2180" y="720"/>
                      </a:lnTo>
                      <a:lnTo>
                        <a:pt x="2169" y="565"/>
                      </a:lnTo>
                      <a:lnTo>
                        <a:pt x="2180" y="337"/>
                      </a:lnTo>
                      <a:lnTo>
                        <a:pt x="2153" y="114"/>
                      </a:lnTo>
                      <a:lnTo>
                        <a:pt x="2111" y="0"/>
                      </a:lnTo>
                      <a:lnTo>
                        <a:pt x="2144" y="182"/>
                      </a:lnTo>
                      <a:lnTo>
                        <a:pt x="2144" y="400"/>
                      </a:lnTo>
                      <a:lnTo>
                        <a:pt x="2111" y="582"/>
                      </a:lnTo>
                      <a:lnTo>
                        <a:pt x="1982" y="868"/>
                      </a:lnTo>
                      <a:lnTo>
                        <a:pt x="2088" y="706"/>
                      </a:lnTo>
                      <a:lnTo>
                        <a:pt x="2127" y="771"/>
                      </a:lnTo>
                      <a:lnTo>
                        <a:pt x="2144" y="861"/>
                      </a:lnTo>
                      <a:lnTo>
                        <a:pt x="2120" y="936"/>
                      </a:lnTo>
                      <a:lnTo>
                        <a:pt x="2003" y="1041"/>
                      </a:lnTo>
                      <a:lnTo>
                        <a:pt x="1865" y="1125"/>
                      </a:lnTo>
                      <a:lnTo>
                        <a:pt x="1872" y="1050"/>
                      </a:lnTo>
                      <a:lnTo>
                        <a:pt x="1673" y="1273"/>
                      </a:lnTo>
                      <a:lnTo>
                        <a:pt x="1402" y="1476"/>
                      </a:lnTo>
                      <a:lnTo>
                        <a:pt x="1169" y="1584"/>
                      </a:lnTo>
                      <a:lnTo>
                        <a:pt x="965" y="1633"/>
                      </a:lnTo>
                      <a:lnTo>
                        <a:pt x="615" y="1600"/>
                      </a:lnTo>
                      <a:lnTo>
                        <a:pt x="410" y="1608"/>
                      </a:lnTo>
                      <a:lnTo>
                        <a:pt x="195" y="1626"/>
                      </a:lnTo>
                      <a:lnTo>
                        <a:pt x="87" y="16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7535520" y="4917600"/>
                  <a:ext cx="14400" cy="149040"/>
                </a:xfrm>
                <a:custGeom>
                  <a:avLst/>
                  <a:gdLst/>
                  <a:ahLst/>
                  <a:rect l="l" t="t" r="r" b="b"/>
                  <a:pathLst>
                    <a:path w="180" h="1411">
                      <a:moveTo>
                        <a:pt x="0" y="33"/>
                      </a:moveTo>
                      <a:lnTo>
                        <a:pt x="99" y="263"/>
                      </a:lnTo>
                      <a:lnTo>
                        <a:pt x="129" y="483"/>
                      </a:lnTo>
                      <a:lnTo>
                        <a:pt x="124" y="802"/>
                      </a:lnTo>
                      <a:lnTo>
                        <a:pt x="81" y="1075"/>
                      </a:lnTo>
                      <a:lnTo>
                        <a:pt x="9" y="1411"/>
                      </a:lnTo>
                      <a:lnTo>
                        <a:pt x="90" y="1386"/>
                      </a:lnTo>
                      <a:lnTo>
                        <a:pt x="140" y="1303"/>
                      </a:lnTo>
                      <a:lnTo>
                        <a:pt x="171" y="1140"/>
                      </a:lnTo>
                      <a:lnTo>
                        <a:pt x="180" y="886"/>
                      </a:lnTo>
                      <a:lnTo>
                        <a:pt x="171" y="556"/>
                      </a:lnTo>
                      <a:lnTo>
                        <a:pt x="145" y="344"/>
                      </a:lnTo>
                      <a:lnTo>
                        <a:pt x="105" y="180"/>
                      </a:lnTo>
                      <a:lnTo>
                        <a:pt x="39" y="22"/>
                      </a:lnTo>
                      <a:lnTo>
                        <a:pt x="9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7504560" y="5015160"/>
                  <a:ext cx="11520" cy="15120"/>
                </a:xfrm>
                <a:custGeom>
                  <a:avLst/>
                  <a:gdLst/>
                  <a:ahLst/>
                  <a:rect l="l" t="t" r="r" b="b"/>
                  <a:pathLst>
                    <a:path w="141" h="141">
                      <a:moveTo>
                        <a:pt x="101" y="7"/>
                      </a:moveTo>
                      <a:lnTo>
                        <a:pt x="66" y="7"/>
                      </a:lnTo>
                      <a:lnTo>
                        <a:pt x="42" y="31"/>
                      </a:lnTo>
                      <a:lnTo>
                        <a:pt x="51" y="62"/>
                      </a:lnTo>
                      <a:lnTo>
                        <a:pt x="77" y="88"/>
                      </a:lnTo>
                      <a:lnTo>
                        <a:pt x="110" y="72"/>
                      </a:lnTo>
                      <a:lnTo>
                        <a:pt x="123" y="49"/>
                      </a:lnTo>
                      <a:lnTo>
                        <a:pt x="123" y="31"/>
                      </a:lnTo>
                      <a:lnTo>
                        <a:pt x="141" y="62"/>
                      </a:lnTo>
                      <a:lnTo>
                        <a:pt x="123" y="113"/>
                      </a:lnTo>
                      <a:lnTo>
                        <a:pt x="77" y="141"/>
                      </a:lnTo>
                      <a:lnTo>
                        <a:pt x="18" y="106"/>
                      </a:lnTo>
                      <a:lnTo>
                        <a:pt x="0" y="49"/>
                      </a:lnTo>
                      <a:lnTo>
                        <a:pt x="42" y="7"/>
                      </a:lnTo>
                      <a:lnTo>
                        <a:pt x="66" y="0"/>
                      </a:lnTo>
                      <a:lnTo>
                        <a:pt x="10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7605720" y="5054040"/>
                  <a:ext cx="21600" cy="53280"/>
                </a:xfrm>
                <a:custGeom>
                  <a:avLst/>
                  <a:gdLst/>
                  <a:ahLst/>
                  <a:rect l="l" t="t" r="r" b="b"/>
                  <a:pathLst>
                    <a:path w="265" h="505">
                      <a:moveTo>
                        <a:pt x="215" y="0"/>
                      </a:moveTo>
                      <a:lnTo>
                        <a:pt x="215" y="71"/>
                      </a:lnTo>
                      <a:lnTo>
                        <a:pt x="0" y="193"/>
                      </a:lnTo>
                      <a:lnTo>
                        <a:pt x="131" y="152"/>
                      </a:lnTo>
                      <a:lnTo>
                        <a:pt x="131" y="277"/>
                      </a:lnTo>
                      <a:lnTo>
                        <a:pt x="57" y="258"/>
                      </a:lnTo>
                      <a:lnTo>
                        <a:pt x="239" y="431"/>
                      </a:lnTo>
                      <a:lnTo>
                        <a:pt x="265" y="505"/>
                      </a:lnTo>
                      <a:lnTo>
                        <a:pt x="255" y="405"/>
                      </a:lnTo>
                      <a:lnTo>
                        <a:pt x="180" y="308"/>
                      </a:lnTo>
                      <a:lnTo>
                        <a:pt x="180" y="143"/>
                      </a:lnTo>
                      <a:lnTo>
                        <a:pt x="233" y="92"/>
                      </a:lnTo>
                      <a:lnTo>
                        <a:pt x="233" y="51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7580520" y="5112360"/>
                  <a:ext cx="75960" cy="56880"/>
                </a:xfrm>
                <a:custGeom>
                  <a:avLst/>
                  <a:gdLst/>
                  <a:ahLst/>
                  <a:rect l="l" t="t" r="r" b="b"/>
                  <a:pathLst>
                    <a:path w="918" h="541">
                      <a:moveTo>
                        <a:pt x="529" y="181"/>
                      </a:moveTo>
                      <a:lnTo>
                        <a:pt x="520" y="211"/>
                      </a:lnTo>
                      <a:lnTo>
                        <a:pt x="470" y="211"/>
                      </a:lnTo>
                      <a:lnTo>
                        <a:pt x="379" y="55"/>
                      </a:lnTo>
                      <a:lnTo>
                        <a:pt x="217" y="0"/>
                      </a:lnTo>
                      <a:lnTo>
                        <a:pt x="35" y="55"/>
                      </a:lnTo>
                      <a:lnTo>
                        <a:pt x="0" y="123"/>
                      </a:lnTo>
                      <a:lnTo>
                        <a:pt x="65" y="186"/>
                      </a:lnTo>
                      <a:lnTo>
                        <a:pt x="123" y="294"/>
                      </a:lnTo>
                      <a:lnTo>
                        <a:pt x="245" y="172"/>
                      </a:lnTo>
                      <a:lnTo>
                        <a:pt x="373" y="195"/>
                      </a:lnTo>
                      <a:lnTo>
                        <a:pt x="553" y="283"/>
                      </a:lnTo>
                      <a:lnTo>
                        <a:pt x="613" y="319"/>
                      </a:lnTo>
                      <a:lnTo>
                        <a:pt x="619" y="411"/>
                      </a:lnTo>
                      <a:lnTo>
                        <a:pt x="529" y="474"/>
                      </a:lnTo>
                      <a:lnTo>
                        <a:pt x="619" y="541"/>
                      </a:lnTo>
                      <a:lnTo>
                        <a:pt x="918" y="541"/>
                      </a:lnTo>
                      <a:lnTo>
                        <a:pt x="793" y="424"/>
                      </a:lnTo>
                      <a:lnTo>
                        <a:pt x="727" y="424"/>
                      </a:lnTo>
                      <a:lnTo>
                        <a:pt x="660" y="253"/>
                      </a:lnTo>
                      <a:lnTo>
                        <a:pt x="577" y="204"/>
                      </a:lnTo>
                      <a:lnTo>
                        <a:pt x="529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7518240" y="5138640"/>
                  <a:ext cx="108000" cy="48960"/>
                </a:xfrm>
                <a:custGeom>
                  <a:avLst/>
                  <a:gdLst/>
                  <a:ahLst/>
                  <a:rect l="l" t="t" r="r" b="b"/>
                  <a:pathLst>
                    <a:path w="1305" h="464">
                      <a:moveTo>
                        <a:pt x="1248" y="185"/>
                      </a:moveTo>
                      <a:lnTo>
                        <a:pt x="1184" y="130"/>
                      </a:lnTo>
                      <a:lnTo>
                        <a:pt x="1149" y="53"/>
                      </a:lnTo>
                      <a:lnTo>
                        <a:pt x="1066" y="71"/>
                      </a:lnTo>
                      <a:lnTo>
                        <a:pt x="1033" y="242"/>
                      </a:lnTo>
                      <a:lnTo>
                        <a:pt x="1089" y="293"/>
                      </a:lnTo>
                      <a:lnTo>
                        <a:pt x="944" y="293"/>
                      </a:lnTo>
                      <a:lnTo>
                        <a:pt x="826" y="341"/>
                      </a:lnTo>
                      <a:lnTo>
                        <a:pt x="497" y="433"/>
                      </a:lnTo>
                      <a:lnTo>
                        <a:pt x="308" y="464"/>
                      </a:lnTo>
                      <a:lnTo>
                        <a:pt x="149" y="464"/>
                      </a:lnTo>
                      <a:lnTo>
                        <a:pt x="50" y="433"/>
                      </a:lnTo>
                      <a:lnTo>
                        <a:pt x="0" y="350"/>
                      </a:lnTo>
                      <a:lnTo>
                        <a:pt x="50" y="350"/>
                      </a:lnTo>
                      <a:lnTo>
                        <a:pt x="200" y="415"/>
                      </a:lnTo>
                      <a:lnTo>
                        <a:pt x="349" y="424"/>
                      </a:lnTo>
                      <a:lnTo>
                        <a:pt x="547" y="392"/>
                      </a:lnTo>
                      <a:lnTo>
                        <a:pt x="769" y="311"/>
                      </a:lnTo>
                      <a:lnTo>
                        <a:pt x="826" y="286"/>
                      </a:lnTo>
                      <a:lnTo>
                        <a:pt x="769" y="176"/>
                      </a:lnTo>
                      <a:lnTo>
                        <a:pt x="695" y="110"/>
                      </a:lnTo>
                      <a:lnTo>
                        <a:pt x="605" y="14"/>
                      </a:lnTo>
                      <a:lnTo>
                        <a:pt x="769" y="46"/>
                      </a:lnTo>
                      <a:lnTo>
                        <a:pt x="810" y="110"/>
                      </a:lnTo>
                      <a:lnTo>
                        <a:pt x="870" y="64"/>
                      </a:lnTo>
                      <a:lnTo>
                        <a:pt x="870" y="130"/>
                      </a:lnTo>
                      <a:lnTo>
                        <a:pt x="1033" y="0"/>
                      </a:lnTo>
                      <a:lnTo>
                        <a:pt x="1257" y="46"/>
                      </a:lnTo>
                      <a:lnTo>
                        <a:pt x="1305" y="145"/>
                      </a:lnTo>
                      <a:lnTo>
                        <a:pt x="1248" y="1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7592040" y="5171040"/>
                  <a:ext cx="2484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7536960" y="482184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50" h="123">
                      <a:moveTo>
                        <a:pt x="32" y="0"/>
                      </a:moveTo>
                      <a:lnTo>
                        <a:pt x="50" y="42"/>
                      </a:lnTo>
                      <a:lnTo>
                        <a:pt x="50" y="83"/>
                      </a:lnTo>
                      <a:lnTo>
                        <a:pt x="32" y="118"/>
                      </a:lnTo>
                      <a:lnTo>
                        <a:pt x="14" y="123"/>
                      </a:lnTo>
                      <a:lnTo>
                        <a:pt x="0" y="123"/>
                      </a:lnTo>
                      <a:lnTo>
                        <a:pt x="0" y="111"/>
                      </a:lnTo>
                      <a:lnTo>
                        <a:pt x="19" y="111"/>
                      </a:lnTo>
                      <a:lnTo>
                        <a:pt x="32" y="83"/>
                      </a:lnTo>
                      <a:lnTo>
                        <a:pt x="39" y="48"/>
                      </a:lnTo>
                      <a:lnTo>
                        <a:pt x="19" y="1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7471800" y="4788720"/>
                  <a:ext cx="25560" cy="15120"/>
                </a:xfrm>
                <a:custGeom>
                  <a:avLst/>
                  <a:gdLst/>
                  <a:ahLst/>
                  <a:rect l="l" t="t" r="r" b="b"/>
                  <a:pathLst>
                    <a:path w="311" h="142">
                      <a:moveTo>
                        <a:pt x="0" y="49"/>
                      </a:moveTo>
                      <a:lnTo>
                        <a:pt x="48" y="39"/>
                      </a:lnTo>
                      <a:lnTo>
                        <a:pt x="14" y="26"/>
                      </a:lnTo>
                      <a:lnTo>
                        <a:pt x="55" y="0"/>
                      </a:lnTo>
                      <a:lnTo>
                        <a:pt x="117" y="1"/>
                      </a:lnTo>
                      <a:lnTo>
                        <a:pt x="179" y="1"/>
                      </a:lnTo>
                      <a:lnTo>
                        <a:pt x="255" y="37"/>
                      </a:lnTo>
                      <a:lnTo>
                        <a:pt x="218" y="37"/>
                      </a:lnTo>
                      <a:lnTo>
                        <a:pt x="267" y="83"/>
                      </a:lnTo>
                      <a:lnTo>
                        <a:pt x="278" y="54"/>
                      </a:lnTo>
                      <a:lnTo>
                        <a:pt x="311" y="107"/>
                      </a:lnTo>
                      <a:lnTo>
                        <a:pt x="273" y="142"/>
                      </a:lnTo>
                      <a:lnTo>
                        <a:pt x="276" y="109"/>
                      </a:lnTo>
                      <a:lnTo>
                        <a:pt x="223" y="122"/>
                      </a:lnTo>
                      <a:lnTo>
                        <a:pt x="188" y="120"/>
                      </a:lnTo>
                      <a:lnTo>
                        <a:pt x="240" y="109"/>
                      </a:lnTo>
                      <a:lnTo>
                        <a:pt x="253" y="92"/>
                      </a:lnTo>
                      <a:lnTo>
                        <a:pt x="235" y="61"/>
                      </a:lnTo>
                      <a:lnTo>
                        <a:pt x="191" y="39"/>
                      </a:lnTo>
                      <a:lnTo>
                        <a:pt x="156" y="37"/>
                      </a:lnTo>
                      <a:lnTo>
                        <a:pt x="101" y="41"/>
                      </a:lnTo>
                      <a:lnTo>
                        <a:pt x="60" y="46"/>
                      </a:lnTo>
                      <a:lnTo>
                        <a:pt x="95" y="81"/>
                      </a:lnTo>
                      <a:lnTo>
                        <a:pt x="140" y="109"/>
                      </a:lnTo>
                      <a:lnTo>
                        <a:pt x="122" y="122"/>
                      </a:lnTo>
                      <a:lnTo>
                        <a:pt x="106" y="104"/>
                      </a:lnTo>
                      <a:lnTo>
                        <a:pt x="71" y="109"/>
                      </a:lnTo>
                      <a:lnTo>
                        <a:pt x="66" y="81"/>
                      </a:lnTo>
                      <a:lnTo>
                        <a:pt x="36" y="79"/>
                      </a:lnTo>
                      <a:lnTo>
                        <a:pt x="43" y="61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7514280" y="479196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263" h="121">
                      <a:moveTo>
                        <a:pt x="0" y="75"/>
                      </a:moveTo>
                      <a:lnTo>
                        <a:pt x="26" y="31"/>
                      </a:lnTo>
                      <a:lnTo>
                        <a:pt x="92" y="0"/>
                      </a:lnTo>
                      <a:lnTo>
                        <a:pt x="127" y="0"/>
                      </a:lnTo>
                      <a:lnTo>
                        <a:pt x="109" y="24"/>
                      </a:lnTo>
                      <a:lnTo>
                        <a:pt x="145" y="24"/>
                      </a:lnTo>
                      <a:lnTo>
                        <a:pt x="151" y="5"/>
                      </a:lnTo>
                      <a:lnTo>
                        <a:pt x="175" y="17"/>
                      </a:lnTo>
                      <a:lnTo>
                        <a:pt x="208" y="12"/>
                      </a:lnTo>
                      <a:lnTo>
                        <a:pt x="217" y="29"/>
                      </a:lnTo>
                      <a:lnTo>
                        <a:pt x="259" y="24"/>
                      </a:lnTo>
                      <a:lnTo>
                        <a:pt x="226" y="58"/>
                      </a:lnTo>
                      <a:lnTo>
                        <a:pt x="263" y="77"/>
                      </a:lnTo>
                      <a:lnTo>
                        <a:pt x="208" y="86"/>
                      </a:lnTo>
                      <a:lnTo>
                        <a:pt x="206" y="104"/>
                      </a:lnTo>
                      <a:lnTo>
                        <a:pt x="180" y="97"/>
                      </a:lnTo>
                      <a:lnTo>
                        <a:pt x="151" y="121"/>
                      </a:lnTo>
                      <a:lnTo>
                        <a:pt x="134" y="110"/>
                      </a:lnTo>
                      <a:lnTo>
                        <a:pt x="97" y="110"/>
                      </a:lnTo>
                      <a:lnTo>
                        <a:pt x="151" y="97"/>
                      </a:lnTo>
                      <a:lnTo>
                        <a:pt x="184" y="77"/>
                      </a:lnTo>
                      <a:lnTo>
                        <a:pt x="206" y="68"/>
                      </a:lnTo>
                      <a:lnTo>
                        <a:pt x="169" y="51"/>
                      </a:lnTo>
                      <a:lnTo>
                        <a:pt x="134" y="38"/>
                      </a:lnTo>
                      <a:lnTo>
                        <a:pt x="85" y="31"/>
                      </a:lnTo>
                      <a:lnTo>
                        <a:pt x="37" y="58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7516440" y="4801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51" h="17">
                      <a:moveTo>
                        <a:pt x="14" y="0"/>
                      </a:moveTo>
                      <a:lnTo>
                        <a:pt x="51" y="17"/>
                      </a:lnTo>
                      <a:lnTo>
                        <a:pt x="0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7473960" y="4776840"/>
                  <a:ext cx="25560" cy="15120"/>
                </a:xfrm>
                <a:custGeom>
                  <a:avLst/>
                  <a:gdLst/>
                  <a:ahLst/>
                  <a:rect l="l" t="t" r="r" b="b"/>
                  <a:pathLst>
                    <a:path w="310" h="140">
                      <a:moveTo>
                        <a:pt x="0" y="28"/>
                      </a:moveTo>
                      <a:lnTo>
                        <a:pt x="93" y="0"/>
                      </a:lnTo>
                      <a:lnTo>
                        <a:pt x="238" y="57"/>
                      </a:lnTo>
                      <a:lnTo>
                        <a:pt x="310" y="140"/>
                      </a:lnTo>
                      <a:lnTo>
                        <a:pt x="244" y="74"/>
                      </a:lnTo>
                      <a:lnTo>
                        <a:pt x="145" y="28"/>
                      </a:lnTo>
                      <a:lnTo>
                        <a:pt x="81" y="21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7516440" y="4781160"/>
                  <a:ext cx="19800" cy="6480"/>
                </a:xfrm>
                <a:custGeom>
                  <a:avLst/>
                  <a:gdLst/>
                  <a:ahLst/>
                  <a:rect l="l" t="t" r="r" b="b"/>
                  <a:pathLst>
                    <a:path w="245" h="64">
                      <a:moveTo>
                        <a:pt x="0" y="64"/>
                      </a:moveTo>
                      <a:lnTo>
                        <a:pt x="86" y="31"/>
                      </a:lnTo>
                      <a:lnTo>
                        <a:pt x="157" y="18"/>
                      </a:lnTo>
                      <a:lnTo>
                        <a:pt x="218" y="18"/>
                      </a:lnTo>
                      <a:lnTo>
                        <a:pt x="245" y="35"/>
                      </a:lnTo>
                      <a:lnTo>
                        <a:pt x="229" y="0"/>
                      </a:lnTo>
                      <a:lnTo>
                        <a:pt x="168" y="0"/>
                      </a:lnTo>
                      <a:lnTo>
                        <a:pt x="69" y="18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7493760" y="4828680"/>
                  <a:ext cx="16200" cy="10800"/>
                </a:xfrm>
                <a:custGeom>
                  <a:avLst/>
                  <a:gdLst/>
                  <a:ahLst/>
                  <a:rect l="l" t="t" r="r" b="b"/>
                  <a:pathLst>
                    <a:path w="207" h="103">
                      <a:moveTo>
                        <a:pt x="207" y="38"/>
                      </a:moveTo>
                      <a:lnTo>
                        <a:pt x="152" y="73"/>
                      </a:lnTo>
                      <a:lnTo>
                        <a:pt x="130" y="66"/>
                      </a:lnTo>
                      <a:lnTo>
                        <a:pt x="101" y="38"/>
                      </a:lnTo>
                      <a:lnTo>
                        <a:pt x="58" y="29"/>
                      </a:lnTo>
                      <a:lnTo>
                        <a:pt x="11" y="22"/>
                      </a:ln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11" y="38"/>
                      </a:lnTo>
                      <a:lnTo>
                        <a:pt x="67" y="57"/>
                      </a:lnTo>
                      <a:lnTo>
                        <a:pt x="125" y="103"/>
                      </a:lnTo>
                      <a:lnTo>
                        <a:pt x="148" y="103"/>
                      </a:lnTo>
                      <a:lnTo>
                        <a:pt x="207" y="66"/>
                      </a:lnTo>
                      <a:lnTo>
                        <a:pt x="20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7509600" y="4789440"/>
                  <a:ext cx="4320" cy="18360"/>
                </a:xfrm>
                <a:custGeom>
                  <a:avLst/>
                  <a:gdLst/>
                  <a:ahLst/>
                  <a:rect l="l" t="t" r="r" b="b"/>
                  <a:pathLst>
                    <a:path w="57" h="172">
                      <a:moveTo>
                        <a:pt x="57" y="0"/>
                      </a:moveTo>
                      <a:lnTo>
                        <a:pt x="15" y="51"/>
                      </a:lnTo>
                      <a:lnTo>
                        <a:pt x="0" y="106"/>
                      </a:lnTo>
                      <a:lnTo>
                        <a:pt x="4" y="141"/>
                      </a:lnTo>
                      <a:lnTo>
                        <a:pt x="33" y="172"/>
                      </a:lnTo>
                      <a:lnTo>
                        <a:pt x="15" y="134"/>
                      </a:lnTo>
                      <a:lnTo>
                        <a:pt x="15" y="95"/>
                      </a:lnTo>
                      <a:lnTo>
                        <a:pt x="28" y="49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7481880" y="47919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81" h="74">
                      <a:moveTo>
                        <a:pt x="0" y="6"/>
                      </a:moveTo>
                      <a:lnTo>
                        <a:pt x="6" y="57"/>
                      </a:lnTo>
                      <a:lnTo>
                        <a:pt x="30" y="74"/>
                      </a:lnTo>
                      <a:lnTo>
                        <a:pt x="57" y="74"/>
                      </a:lnTo>
                      <a:lnTo>
                        <a:pt x="72" y="39"/>
                      </a:lnTo>
                      <a:lnTo>
                        <a:pt x="81" y="17"/>
                      </a:lnTo>
                      <a:lnTo>
                        <a:pt x="57" y="32"/>
                      </a:lnTo>
                      <a:lnTo>
                        <a:pt x="37" y="50"/>
                      </a:lnTo>
                      <a:lnTo>
                        <a:pt x="30" y="39"/>
                      </a:lnTo>
                      <a:lnTo>
                        <a:pt x="3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7518960" y="4795560"/>
                  <a:ext cx="7200" cy="6480"/>
                </a:xfrm>
                <a:custGeom>
                  <a:avLst/>
                  <a:gdLst/>
                  <a:ahLst/>
                  <a:rect l="l" t="t" r="r" b="b"/>
                  <a:pathLst>
                    <a:path w="92" h="64">
                      <a:moveTo>
                        <a:pt x="0" y="12"/>
                      </a:moveTo>
                      <a:lnTo>
                        <a:pt x="5" y="64"/>
                      </a:lnTo>
                      <a:lnTo>
                        <a:pt x="64" y="64"/>
                      </a:lnTo>
                      <a:lnTo>
                        <a:pt x="89" y="35"/>
                      </a:lnTo>
                      <a:lnTo>
                        <a:pt x="92" y="0"/>
                      </a:lnTo>
                      <a:lnTo>
                        <a:pt x="55" y="0"/>
                      </a:lnTo>
                      <a:lnTo>
                        <a:pt x="64" y="31"/>
                      </a:lnTo>
                      <a:lnTo>
                        <a:pt x="41" y="42"/>
                      </a:lnTo>
                      <a:lnTo>
                        <a:pt x="27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7487640" y="4846320"/>
                  <a:ext cx="28440" cy="3240"/>
                </a:xfrm>
                <a:custGeom>
                  <a:avLst/>
                  <a:gdLst/>
                  <a:ahLst/>
                  <a:rect l="l" t="t" r="r" b="b"/>
                  <a:pathLst>
                    <a:path w="350" h="31">
                      <a:moveTo>
                        <a:pt x="0" y="5"/>
                      </a:moveTo>
                      <a:lnTo>
                        <a:pt x="111" y="0"/>
                      </a:lnTo>
                      <a:lnTo>
                        <a:pt x="198" y="14"/>
                      </a:lnTo>
                      <a:lnTo>
                        <a:pt x="251" y="5"/>
                      </a:lnTo>
                      <a:lnTo>
                        <a:pt x="350" y="14"/>
                      </a:lnTo>
                      <a:lnTo>
                        <a:pt x="276" y="24"/>
                      </a:lnTo>
                      <a:lnTo>
                        <a:pt x="198" y="31"/>
                      </a:lnTo>
                      <a:lnTo>
                        <a:pt x="46" y="18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7493040" y="4852080"/>
                  <a:ext cx="19080" cy="4320"/>
                </a:xfrm>
                <a:custGeom>
                  <a:avLst/>
                  <a:gdLst/>
                  <a:ahLst/>
                  <a:rect l="l" t="t" r="r" b="b"/>
                  <a:pathLst>
                    <a:path w="233" h="42">
                      <a:moveTo>
                        <a:pt x="0" y="0"/>
                      </a:moveTo>
                      <a:lnTo>
                        <a:pt x="60" y="35"/>
                      </a:lnTo>
                      <a:lnTo>
                        <a:pt x="159" y="42"/>
                      </a:lnTo>
                      <a:lnTo>
                        <a:pt x="233" y="7"/>
                      </a:lnTo>
                      <a:lnTo>
                        <a:pt x="164" y="24"/>
                      </a:lnTo>
                      <a:lnTo>
                        <a:pt x="77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7786080" y="4865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595" h="512">
                      <a:moveTo>
                        <a:pt x="97" y="215"/>
                      </a:moveTo>
                      <a:lnTo>
                        <a:pt x="120" y="122"/>
                      </a:lnTo>
                      <a:lnTo>
                        <a:pt x="305" y="0"/>
                      </a:lnTo>
                      <a:lnTo>
                        <a:pt x="498" y="68"/>
                      </a:lnTo>
                      <a:lnTo>
                        <a:pt x="395" y="68"/>
                      </a:lnTo>
                      <a:lnTo>
                        <a:pt x="514" y="209"/>
                      </a:lnTo>
                      <a:lnTo>
                        <a:pt x="569" y="191"/>
                      </a:lnTo>
                      <a:lnTo>
                        <a:pt x="525" y="96"/>
                      </a:lnTo>
                      <a:lnTo>
                        <a:pt x="595" y="209"/>
                      </a:lnTo>
                      <a:lnTo>
                        <a:pt x="551" y="261"/>
                      </a:lnTo>
                      <a:lnTo>
                        <a:pt x="595" y="503"/>
                      </a:lnTo>
                      <a:lnTo>
                        <a:pt x="533" y="512"/>
                      </a:lnTo>
                      <a:lnTo>
                        <a:pt x="464" y="494"/>
                      </a:lnTo>
                      <a:lnTo>
                        <a:pt x="542" y="486"/>
                      </a:lnTo>
                      <a:lnTo>
                        <a:pt x="475" y="329"/>
                      </a:lnTo>
                      <a:lnTo>
                        <a:pt x="351" y="200"/>
                      </a:lnTo>
                      <a:lnTo>
                        <a:pt x="489" y="311"/>
                      </a:lnTo>
                      <a:lnTo>
                        <a:pt x="542" y="424"/>
                      </a:lnTo>
                      <a:lnTo>
                        <a:pt x="510" y="244"/>
                      </a:lnTo>
                      <a:lnTo>
                        <a:pt x="305" y="41"/>
                      </a:lnTo>
                      <a:lnTo>
                        <a:pt x="261" y="122"/>
                      </a:lnTo>
                      <a:lnTo>
                        <a:pt x="305" y="173"/>
                      </a:lnTo>
                      <a:lnTo>
                        <a:pt x="228" y="173"/>
                      </a:lnTo>
                      <a:lnTo>
                        <a:pt x="323" y="306"/>
                      </a:lnTo>
                      <a:lnTo>
                        <a:pt x="191" y="209"/>
                      </a:lnTo>
                      <a:lnTo>
                        <a:pt x="0" y="373"/>
                      </a:lnTo>
                      <a:lnTo>
                        <a:pt x="17" y="253"/>
                      </a:lnTo>
                      <a:lnTo>
                        <a:pt x="9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7794000" y="4901400"/>
                  <a:ext cx="34920" cy="55800"/>
                </a:xfrm>
                <a:custGeom>
                  <a:avLst/>
                  <a:gdLst/>
                  <a:ahLst/>
                  <a:rect l="l" t="t" r="r" b="b"/>
                  <a:pathLst>
                    <a:path w="417" h="531">
                      <a:moveTo>
                        <a:pt x="351" y="198"/>
                      </a:moveTo>
                      <a:lnTo>
                        <a:pt x="307" y="183"/>
                      </a:lnTo>
                      <a:lnTo>
                        <a:pt x="254" y="114"/>
                      </a:lnTo>
                      <a:lnTo>
                        <a:pt x="208" y="114"/>
                      </a:lnTo>
                      <a:lnTo>
                        <a:pt x="146" y="62"/>
                      </a:lnTo>
                      <a:lnTo>
                        <a:pt x="146" y="104"/>
                      </a:lnTo>
                      <a:lnTo>
                        <a:pt x="94" y="114"/>
                      </a:lnTo>
                      <a:lnTo>
                        <a:pt x="44" y="53"/>
                      </a:lnTo>
                      <a:lnTo>
                        <a:pt x="72" y="132"/>
                      </a:lnTo>
                      <a:lnTo>
                        <a:pt x="0" y="132"/>
                      </a:lnTo>
                      <a:lnTo>
                        <a:pt x="87" y="189"/>
                      </a:lnTo>
                      <a:lnTo>
                        <a:pt x="78" y="270"/>
                      </a:lnTo>
                      <a:lnTo>
                        <a:pt x="131" y="383"/>
                      </a:lnTo>
                      <a:lnTo>
                        <a:pt x="131" y="305"/>
                      </a:lnTo>
                      <a:lnTo>
                        <a:pt x="164" y="279"/>
                      </a:lnTo>
                      <a:lnTo>
                        <a:pt x="182" y="321"/>
                      </a:lnTo>
                      <a:lnTo>
                        <a:pt x="219" y="288"/>
                      </a:lnTo>
                      <a:lnTo>
                        <a:pt x="272" y="288"/>
                      </a:lnTo>
                      <a:lnTo>
                        <a:pt x="340" y="347"/>
                      </a:lnTo>
                      <a:lnTo>
                        <a:pt x="332" y="436"/>
                      </a:lnTo>
                      <a:lnTo>
                        <a:pt x="291" y="531"/>
                      </a:lnTo>
                      <a:lnTo>
                        <a:pt x="383" y="383"/>
                      </a:lnTo>
                      <a:lnTo>
                        <a:pt x="413" y="288"/>
                      </a:lnTo>
                      <a:lnTo>
                        <a:pt x="417" y="156"/>
                      </a:lnTo>
                      <a:lnTo>
                        <a:pt x="383" y="156"/>
                      </a:lnTo>
                      <a:lnTo>
                        <a:pt x="323" y="42"/>
                      </a:lnTo>
                      <a:lnTo>
                        <a:pt x="261" y="0"/>
                      </a:lnTo>
                      <a:lnTo>
                        <a:pt x="314" y="77"/>
                      </a:lnTo>
                      <a:lnTo>
                        <a:pt x="351" y="148"/>
                      </a:lnTo>
                      <a:lnTo>
                        <a:pt x="351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7751520" y="4908960"/>
                  <a:ext cx="141840" cy="259200"/>
                </a:xfrm>
                <a:custGeom>
                  <a:avLst/>
                  <a:gdLst/>
                  <a:ahLst/>
                  <a:rect l="l" t="t" r="r" b="b"/>
                  <a:pathLst>
                    <a:path w="1712" h="2448">
                      <a:moveTo>
                        <a:pt x="420" y="0"/>
                      </a:moveTo>
                      <a:lnTo>
                        <a:pt x="499" y="424"/>
                      </a:lnTo>
                      <a:lnTo>
                        <a:pt x="522" y="451"/>
                      </a:lnTo>
                      <a:lnTo>
                        <a:pt x="561" y="468"/>
                      </a:lnTo>
                      <a:lnTo>
                        <a:pt x="534" y="495"/>
                      </a:lnTo>
                      <a:lnTo>
                        <a:pt x="483" y="486"/>
                      </a:lnTo>
                      <a:lnTo>
                        <a:pt x="475" y="550"/>
                      </a:lnTo>
                      <a:lnTo>
                        <a:pt x="499" y="599"/>
                      </a:lnTo>
                      <a:lnTo>
                        <a:pt x="540" y="615"/>
                      </a:lnTo>
                      <a:lnTo>
                        <a:pt x="589" y="606"/>
                      </a:lnTo>
                      <a:lnTo>
                        <a:pt x="611" y="479"/>
                      </a:lnTo>
                      <a:lnTo>
                        <a:pt x="663" y="479"/>
                      </a:lnTo>
                      <a:lnTo>
                        <a:pt x="711" y="451"/>
                      </a:lnTo>
                      <a:lnTo>
                        <a:pt x="743" y="398"/>
                      </a:lnTo>
                      <a:lnTo>
                        <a:pt x="743" y="461"/>
                      </a:lnTo>
                      <a:lnTo>
                        <a:pt x="771" y="451"/>
                      </a:lnTo>
                      <a:lnTo>
                        <a:pt x="824" y="424"/>
                      </a:lnTo>
                      <a:lnTo>
                        <a:pt x="798" y="461"/>
                      </a:lnTo>
                      <a:lnTo>
                        <a:pt x="743" y="530"/>
                      </a:lnTo>
                      <a:lnTo>
                        <a:pt x="699" y="650"/>
                      </a:lnTo>
                      <a:lnTo>
                        <a:pt x="909" y="415"/>
                      </a:lnTo>
                      <a:lnTo>
                        <a:pt x="945" y="444"/>
                      </a:lnTo>
                      <a:lnTo>
                        <a:pt x="815" y="798"/>
                      </a:lnTo>
                      <a:lnTo>
                        <a:pt x="824" y="1260"/>
                      </a:lnTo>
                      <a:lnTo>
                        <a:pt x="1172" y="1295"/>
                      </a:lnTo>
                      <a:lnTo>
                        <a:pt x="1331" y="1371"/>
                      </a:lnTo>
                      <a:lnTo>
                        <a:pt x="1417" y="1371"/>
                      </a:lnTo>
                      <a:lnTo>
                        <a:pt x="1460" y="1442"/>
                      </a:lnTo>
                      <a:lnTo>
                        <a:pt x="1172" y="1332"/>
                      </a:lnTo>
                      <a:lnTo>
                        <a:pt x="953" y="1314"/>
                      </a:lnTo>
                      <a:lnTo>
                        <a:pt x="1059" y="1380"/>
                      </a:lnTo>
                      <a:lnTo>
                        <a:pt x="953" y="1380"/>
                      </a:lnTo>
                      <a:lnTo>
                        <a:pt x="798" y="1362"/>
                      </a:lnTo>
                      <a:lnTo>
                        <a:pt x="909" y="1459"/>
                      </a:lnTo>
                      <a:lnTo>
                        <a:pt x="1296" y="1523"/>
                      </a:lnTo>
                      <a:lnTo>
                        <a:pt x="971" y="1493"/>
                      </a:lnTo>
                      <a:lnTo>
                        <a:pt x="1172" y="1611"/>
                      </a:lnTo>
                      <a:lnTo>
                        <a:pt x="1147" y="1636"/>
                      </a:lnTo>
                      <a:lnTo>
                        <a:pt x="875" y="1503"/>
                      </a:lnTo>
                      <a:lnTo>
                        <a:pt x="918" y="1636"/>
                      </a:lnTo>
                      <a:lnTo>
                        <a:pt x="1349" y="1747"/>
                      </a:lnTo>
                      <a:lnTo>
                        <a:pt x="1626" y="1921"/>
                      </a:lnTo>
                      <a:lnTo>
                        <a:pt x="1349" y="1867"/>
                      </a:lnTo>
                      <a:lnTo>
                        <a:pt x="1191" y="1765"/>
                      </a:lnTo>
                      <a:lnTo>
                        <a:pt x="953" y="1701"/>
                      </a:lnTo>
                      <a:lnTo>
                        <a:pt x="1068" y="1826"/>
                      </a:lnTo>
                      <a:lnTo>
                        <a:pt x="1712" y="2049"/>
                      </a:lnTo>
                      <a:lnTo>
                        <a:pt x="1068" y="1867"/>
                      </a:lnTo>
                      <a:lnTo>
                        <a:pt x="884" y="1736"/>
                      </a:lnTo>
                      <a:lnTo>
                        <a:pt x="895" y="1809"/>
                      </a:lnTo>
                      <a:lnTo>
                        <a:pt x="1068" y="1973"/>
                      </a:lnTo>
                      <a:lnTo>
                        <a:pt x="1321" y="2024"/>
                      </a:lnTo>
                      <a:lnTo>
                        <a:pt x="1460" y="2121"/>
                      </a:lnTo>
                      <a:lnTo>
                        <a:pt x="1259" y="2097"/>
                      </a:lnTo>
                      <a:lnTo>
                        <a:pt x="1008" y="1973"/>
                      </a:lnTo>
                      <a:lnTo>
                        <a:pt x="934" y="1982"/>
                      </a:lnTo>
                      <a:lnTo>
                        <a:pt x="971" y="2112"/>
                      </a:lnTo>
                      <a:lnTo>
                        <a:pt x="1033" y="2156"/>
                      </a:lnTo>
                      <a:lnTo>
                        <a:pt x="1349" y="2171"/>
                      </a:lnTo>
                      <a:lnTo>
                        <a:pt x="1024" y="2330"/>
                      </a:lnTo>
                      <a:lnTo>
                        <a:pt x="980" y="2314"/>
                      </a:lnTo>
                      <a:lnTo>
                        <a:pt x="909" y="2084"/>
                      </a:lnTo>
                      <a:lnTo>
                        <a:pt x="831" y="2339"/>
                      </a:lnTo>
                      <a:lnTo>
                        <a:pt x="849" y="2448"/>
                      </a:lnTo>
                      <a:lnTo>
                        <a:pt x="760" y="2354"/>
                      </a:lnTo>
                      <a:lnTo>
                        <a:pt x="895" y="2013"/>
                      </a:lnTo>
                      <a:lnTo>
                        <a:pt x="884" y="1921"/>
                      </a:lnTo>
                      <a:lnTo>
                        <a:pt x="824" y="1765"/>
                      </a:lnTo>
                      <a:lnTo>
                        <a:pt x="778" y="1563"/>
                      </a:lnTo>
                      <a:lnTo>
                        <a:pt x="674" y="1304"/>
                      </a:lnTo>
                      <a:lnTo>
                        <a:pt x="554" y="1523"/>
                      </a:lnTo>
                      <a:lnTo>
                        <a:pt x="554" y="1747"/>
                      </a:lnTo>
                      <a:lnTo>
                        <a:pt x="316" y="2033"/>
                      </a:lnTo>
                      <a:lnTo>
                        <a:pt x="0" y="2148"/>
                      </a:lnTo>
                      <a:lnTo>
                        <a:pt x="37" y="1973"/>
                      </a:lnTo>
                      <a:lnTo>
                        <a:pt x="217" y="1791"/>
                      </a:lnTo>
                      <a:lnTo>
                        <a:pt x="437" y="1685"/>
                      </a:lnTo>
                      <a:lnTo>
                        <a:pt x="534" y="1436"/>
                      </a:lnTo>
                      <a:lnTo>
                        <a:pt x="522" y="1314"/>
                      </a:lnTo>
                      <a:lnTo>
                        <a:pt x="611" y="1026"/>
                      </a:lnTo>
                      <a:lnTo>
                        <a:pt x="510" y="1000"/>
                      </a:lnTo>
                      <a:lnTo>
                        <a:pt x="420" y="938"/>
                      </a:lnTo>
                      <a:lnTo>
                        <a:pt x="522" y="650"/>
                      </a:lnTo>
                      <a:lnTo>
                        <a:pt x="475" y="627"/>
                      </a:lnTo>
                      <a:lnTo>
                        <a:pt x="448" y="541"/>
                      </a:lnTo>
                      <a:lnTo>
                        <a:pt x="448" y="433"/>
                      </a:lnTo>
                      <a:lnTo>
                        <a:pt x="420" y="53"/>
                      </a:lnTo>
                      <a:lnTo>
                        <a:pt x="4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7720560" y="4931280"/>
                  <a:ext cx="56880" cy="184680"/>
                </a:xfrm>
                <a:custGeom>
                  <a:avLst/>
                  <a:gdLst/>
                  <a:ahLst/>
                  <a:rect l="l" t="t" r="r" b="b"/>
                  <a:pathLst>
                    <a:path w="691" h="1748">
                      <a:moveTo>
                        <a:pt x="691" y="312"/>
                      </a:moveTo>
                      <a:lnTo>
                        <a:pt x="586" y="572"/>
                      </a:lnTo>
                      <a:lnTo>
                        <a:pt x="516" y="729"/>
                      </a:lnTo>
                      <a:lnTo>
                        <a:pt x="392" y="982"/>
                      </a:lnTo>
                      <a:lnTo>
                        <a:pt x="334" y="1017"/>
                      </a:lnTo>
                      <a:lnTo>
                        <a:pt x="351" y="1243"/>
                      </a:lnTo>
                      <a:lnTo>
                        <a:pt x="412" y="1527"/>
                      </a:lnTo>
                      <a:lnTo>
                        <a:pt x="472" y="1748"/>
                      </a:lnTo>
                      <a:lnTo>
                        <a:pt x="388" y="1485"/>
                      </a:lnTo>
                      <a:lnTo>
                        <a:pt x="334" y="1233"/>
                      </a:lnTo>
                      <a:lnTo>
                        <a:pt x="243" y="1171"/>
                      </a:lnTo>
                      <a:lnTo>
                        <a:pt x="254" y="1330"/>
                      </a:lnTo>
                      <a:lnTo>
                        <a:pt x="351" y="1591"/>
                      </a:lnTo>
                      <a:lnTo>
                        <a:pt x="239" y="1345"/>
                      </a:lnTo>
                      <a:lnTo>
                        <a:pt x="193" y="1153"/>
                      </a:lnTo>
                      <a:lnTo>
                        <a:pt x="87" y="1153"/>
                      </a:lnTo>
                      <a:lnTo>
                        <a:pt x="0" y="1227"/>
                      </a:lnTo>
                      <a:lnTo>
                        <a:pt x="87" y="1139"/>
                      </a:lnTo>
                      <a:lnTo>
                        <a:pt x="157" y="1112"/>
                      </a:lnTo>
                      <a:lnTo>
                        <a:pt x="219" y="895"/>
                      </a:lnTo>
                      <a:lnTo>
                        <a:pt x="219" y="782"/>
                      </a:lnTo>
                      <a:lnTo>
                        <a:pt x="175" y="721"/>
                      </a:lnTo>
                      <a:lnTo>
                        <a:pt x="175" y="644"/>
                      </a:lnTo>
                      <a:lnTo>
                        <a:pt x="279" y="235"/>
                      </a:lnTo>
                      <a:lnTo>
                        <a:pt x="388" y="0"/>
                      </a:lnTo>
                      <a:lnTo>
                        <a:pt x="307" y="341"/>
                      </a:lnTo>
                      <a:lnTo>
                        <a:pt x="219" y="685"/>
                      </a:lnTo>
                      <a:lnTo>
                        <a:pt x="307" y="798"/>
                      </a:lnTo>
                      <a:lnTo>
                        <a:pt x="366" y="914"/>
                      </a:lnTo>
                      <a:lnTo>
                        <a:pt x="606" y="462"/>
                      </a:lnTo>
                      <a:lnTo>
                        <a:pt x="691" y="3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7762680" y="5024520"/>
                  <a:ext cx="6480" cy="45720"/>
                </a:xfrm>
                <a:custGeom>
                  <a:avLst/>
                  <a:gdLst/>
                  <a:ahLst/>
                  <a:rect l="l" t="t" r="r" b="b"/>
                  <a:pathLst>
                    <a:path w="83" h="431">
                      <a:moveTo>
                        <a:pt x="0" y="0"/>
                      </a:moveTo>
                      <a:lnTo>
                        <a:pt x="51" y="106"/>
                      </a:lnTo>
                      <a:lnTo>
                        <a:pt x="51" y="297"/>
                      </a:lnTo>
                      <a:lnTo>
                        <a:pt x="83" y="385"/>
                      </a:lnTo>
                      <a:lnTo>
                        <a:pt x="42" y="431"/>
                      </a:lnTo>
                      <a:lnTo>
                        <a:pt x="24" y="2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7720560" y="5064120"/>
                  <a:ext cx="34920" cy="72000"/>
                </a:xfrm>
                <a:custGeom>
                  <a:avLst/>
                  <a:gdLst/>
                  <a:ahLst/>
                  <a:rect l="l" t="t" r="r" b="b"/>
                  <a:pathLst>
                    <a:path w="427" h="680">
                      <a:moveTo>
                        <a:pt x="0" y="0"/>
                      </a:moveTo>
                      <a:lnTo>
                        <a:pt x="175" y="532"/>
                      </a:lnTo>
                      <a:lnTo>
                        <a:pt x="307" y="543"/>
                      </a:lnTo>
                      <a:lnTo>
                        <a:pt x="427" y="629"/>
                      </a:lnTo>
                      <a:lnTo>
                        <a:pt x="366" y="680"/>
                      </a:lnTo>
                      <a:lnTo>
                        <a:pt x="175" y="611"/>
                      </a:lnTo>
                      <a:lnTo>
                        <a:pt x="81" y="3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7726320" y="5051520"/>
                  <a:ext cx="10440" cy="34560"/>
                </a:xfrm>
                <a:custGeom>
                  <a:avLst/>
                  <a:gdLst/>
                  <a:ahLst/>
                  <a:rect l="l" t="t" r="r" b="b"/>
                  <a:pathLst>
                    <a:path w="131" h="329">
                      <a:moveTo>
                        <a:pt x="131" y="14"/>
                      </a:moveTo>
                      <a:lnTo>
                        <a:pt x="43" y="329"/>
                      </a:lnTo>
                      <a:lnTo>
                        <a:pt x="0" y="226"/>
                      </a:lnTo>
                      <a:lnTo>
                        <a:pt x="112" y="0"/>
                      </a:lnTo>
                      <a:lnTo>
                        <a:pt x="1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7742520" y="4960080"/>
                  <a:ext cx="8280" cy="32760"/>
                </a:xfrm>
                <a:custGeom>
                  <a:avLst/>
                  <a:gdLst/>
                  <a:ahLst/>
                  <a:rect l="l" t="t" r="r" b="b"/>
                  <a:pathLst>
                    <a:path w="103" h="319">
                      <a:moveTo>
                        <a:pt x="71" y="0"/>
                      </a:moveTo>
                      <a:lnTo>
                        <a:pt x="71" y="171"/>
                      </a:lnTo>
                      <a:lnTo>
                        <a:pt x="103" y="319"/>
                      </a:lnTo>
                      <a:lnTo>
                        <a:pt x="0" y="210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7753680" y="4882680"/>
                  <a:ext cx="44280" cy="75240"/>
                </a:xfrm>
                <a:custGeom>
                  <a:avLst/>
                  <a:gdLst/>
                  <a:ahLst/>
                  <a:rect l="l" t="t" r="r" b="b"/>
                  <a:pathLst>
                    <a:path w="533" h="711">
                      <a:moveTo>
                        <a:pt x="0" y="393"/>
                      </a:moveTo>
                      <a:lnTo>
                        <a:pt x="60" y="393"/>
                      </a:lnTo>
                      <a:lnTo>
                        <a:pt x="174" y="520"/>
                      </a:lnTo>
                      <a:lnTo>
                        <a:pt x="254" y="711"/>
                      </a:lnTo>
                      <a:lnTo>
                        <a:pt x="189" y="503"/>
                      </a:lnTo>
                      <a:lnTo>
                        <a:pt x="93" y="329"/>
                      </a:lnTo>
                      <a:lnTo>
                        <a:pt x="51" y="305"/>
                      </a:lnTo>
                      <a:lnTo>
                        <a:pt x="227" y="164"/>
                      </a:lnTo>
                      <a:lnTo>
                        <a:pt x="427" y="141"/>
                      </a:lnTo>
                      <a:lnTo>
                        <a:pt x="533" y="0"/>
                      </a:lnTo>
                      <a:lnTo>
                        <a:pt x="306" y="35"/>
                      </a:lnTo>
                      <a:lnTo>
                        <a:pt x="189" y="153"/>
                      </a:lnTo>
                      <a:lnTo>
                        <a:pt x="21" y="305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7816680" y="4853160"/>
                  <a:ext cx="9720" cy="16560"/>
                </a:xfrm>
                <a:custGeom>
                  <a:avLst/>
                  <a:gdLst/>
                  <a:ahLst/>
                  <a:rect l="l" t="t" r="r" b="b"/>
                  <a:pathLst>
                    <a:path w="118" h="158">
                      <a:moveTo>
                        <a:pt x="63" y="0"/>
                      </a:moveTo>
                      <a:lnTo>
                        <a:pt x="0" y="158"/>
                      </a:lnTo>
                      <a:lnTo>
                        <a:pt x="26" y="158"/>
                      </a:lnTo>
                      <a:lnTo>
                        <a:pt x="118" y="38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7829280" y="4899600"/>
                  <a:ext cx="81360" cy="64440"/>
                </a:xfrm>
                <a:custGeom>
                  <a:avLst/>
                  <a:gdLst/>
                  <a:ahLst/>
                  <a:rect l="l" t="t" r="r" b="b"/>
                  <a:pathLst>
                    <a:path w="985" h="611">
                      <a:moveTo>
                        <a:pt x="55" y="194"/>
                      </a:moveTo>
                      <a:lnTo>
                        <a:pt x="107" y="264"/>
                      </a:lnTo>
                      <a:lnTo>
                        <a:pt x="182" y="334"/>
                      </a:lnTo>
                      <a:lnTo>
                        <a:pt x="199" y="354"/>
                      </a:lnTo>
                      <a:lnTo>
                        <a:pt x="257" y="334"/>
                      </a:lnTo>
                      <a:lnTo>
                        <a:pt x="254" y="387"/>
                      </a:lnTo>
                      <a:lnTo>
                        <a:pt x="301" y="424"/>
                      </a:lnTo>
                      <a:lnTo>
                        <a:pt x="413" y="470"/>
                      </a:lnTo>
                      <a:lnTo>
                        <a:pt x="479" y="502"/>
                      </a:lnTo>
                      <a:lnTo>
                        <a:pt x="538" y="543"/>
                      </a:lnTo>
                      <a:lnTo>
                        <a:pt x="580" y="585"/>
                      </a:lnTo>
                      <a:lnTo>
                        <a:pt x="901" y="20"/>
                      </a:lnTo>
                      <a:lnTo>
                        <a:pt x="938" y="0"/>
                      </a:lnTo>
                      <a:lnTo>
                        <a:pt x="976" y="0"/>
                      </a:lnTo>
                      <a:lnTo>
                        <a:pt x="985" y="20"/>
                      </a:lnTo>
                      <a:lnTo>
                        <a:pt x="967" y="29"/>
                      </a:lnTo>
                      <a:lnTo>
                        <a:pt x="936" y="29"/>
                      </a:lnTo>
                      <a:lnTo>
                        <a:pt x="899" y="48"/>
                      </a:lnTo>
                      <a:lnTo>
                        <a:pt x="865" y="90"/>
                      </a:lnTo>
                      <a:lnTo>
                        <a:pt x="580" y="611"/>
                      </a:lnTo>
                      <a:lnTo>
                        <a:pt x="459" y="565"/>
                      </a:lnTo>
                      <a:lnTo>
                        <a:pt x="538" y="578"/>
                      </a:lnTo>
                      <a:lnTo>
                        <a:pt x="485" y="532"/>
                      </a:lnTo>
                      <a:lnTo>
                        <a:pt x="404" y="486"/>
                      </a:lnTo>
                      <a:lnTo>
                        <a:pt x="325" y="458"/>
                      </a:lnTo>
                      <a:lnTo>
                        <a:pt x="296" y="453"/>
                      </a:lnTo>
                      <a:lnTo>
                        <a:pt x="362" y="519"/>
                      </a:lnTo>
                      <a:lnTo>
                        <a:pt x="301" y="475"/>
                      </a:lnTo>
                      <a:lnTo>
                        <a:pt x="257" y="440"/>
                      </a:lnTo>
                      <a:lnTo>
                        <a:pt x="204" y="383"/>
                      </a:lnTo>
                      <a:lnTo>
                        <a:pt x="136" y="315"/>
                      </a:lnTo>
                      <a:lnTo>
                        <a:pt x="74" y="269"/>
                      </a:lnTo>
                      <a:lnTo>
                        <a:pt x="24" y="224"/>
                      </a:lnTo>
                      <a:lnTo>
                        <a:pt x="0" y="185"/>
                      </a:lnTo>
                      <a:lnTo>
                        <a:pt x="55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7829280" y="4838040"/>
                  <a:ext cx="23760" cy="37080"/>
                </a:xfrm>
                <a:custGeom>
                  <a:avLst/>
                  <a:gdLst/>
                  <a:ahLst/>
                  <a:rect l="l" t="t" r="r" b="b"/>
                  <a:pathLst>
                    <a:path w="281" h="354">
                      <a:moveTo>
                        <a:pt x="0" y="338"/>
                      </a:moveTo>
                      <a:lnTo>
                        <a:pt x="199" y="42"/>
                      </a:lnTo>
                      <a:lnTo>
                        <a:pt x="228" y="17"/>
                      </a:lnTo>
                      <a:lnTo>
                        <a:pt x="254" y="0"/>
                      </a:lnTo>
                      <a:lnTo>
                        <a:pt x="281" y="6"/>
                      </a:lnTo>
                      <a:lnTo>
                        <a:pt x="241" y="22"/>
                      </a:lnTo>
                      <a:lnTo>
                        <a:pt x="206" y="54"/>
                      </a:lnTo>
                      <a:lnTo>
                        <a:pt x="4" y="354"/>
                      </a:lnTo>
                      <a:lnTo>
                        <a:pt x="0" y="3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7831800" y="4875840"/>
                  <a:ext cx="57600" cy="25200"/>
                </a:xfrm>
                <a:custGeom>
                  <a:avLst/>
                  <a:gdLst/>
                  <a:ahLst/>
                  <a:rect l="l" t="t" r="r" b="b"/>
                  <a:pathLst>
                    <a:path w="696" h="242">
                      <a:moveTo>
                        <a:pt x="0" y="242"/>
                      </a:moveTo>
                      <a:lnTo>
                        <a:pt x="39" y="215"/>
                      </a:lnTo>
                      <a:lnTo>
                        <a:pt x="81" y="180"/>
                      </a:lnTo>
                      <a:lnTo>
                        <a:pt x="131" y="111"/>
                      </a:lnTo>
                      <a:lnTo>
                        <a:pt x="156" y="69"/>
                      </a:lnTo>
                      <a:lnTo>
                        <a:pt x="180" y="49"/>
                      </a:lnTo>
                      <a:lnTo>
                        <a:pt x="208" y="31"/>
                      </a:lnTo>
                      <a:lnTo>
                        <a:pt x="248" y="21"/>
                      </a:lnTo>
                      <a:lnTo>
                        <a:pt x="369" y="0"/>
                      </a:lnTo>
                      <a:lnTo>
                        <a:pt x="439" y="3"/>
                      </a:lnTo>
                      <a:lnTo>
                        <a:pt x="527" y="40"/>
                      </a:lnTo>
                      <a:lnTo>
                        <a:pt x="592" y="88"/>
                      </a:lnTo>
                      <a:lnTo>
                        <a:pt x="696" y="137"/>
                      </a:lnTo>
                      <a:lnTo>
                        <a:pt x="617" y="125"/>
                      </a:lnTo>
                      <a:lnTo>
                        <a:pt x="564" y="106"/>
                      </a:lnTo>
                      <a:lnTo>
                        <a:pt x="527" y="86"/>
                      </a:lnTo>
                      <a:lnTo>
                        <a:pt x="483" y="75"/>
                      </a:lnTo>
                      <a:lnTo>
                        <a:pt x="459" y="79"/>
                      </a:lnTo>
                      <a:lnTo>
                        <a:pt x="435" y="150"/>
                      </a:lnTo>
                      <a:lnTo>
                        <a:pt x="384" y="211"/>
                      </a:lnTo>
                      <a:lnTo>
                        <a:pt x="421" y="152"/>
                      </a:lnTo>
                      <a:lnTo>
                        <a:pt x="447" y="69"/>
                      </a:lnTo>
                      <a:lnTo>
                        <a:pt x="447" y="49"/>
                      </a:lnTo>
                      <a:lnTo>
                        <a:pt x="430" y="28"/>
                      </a:lnTo>
                      <a:lnTo>
                        <a:pt x="384" y="16"/>
                      </a:lnTo>
                      <a:lnTo>
                        <a:pt x="329" y="21"/>
                      </a:lnTo>
                      <a:lnTo>
                        <a:pt x="313" y="44"/>
                      </a:lnTo>
                      <a:lnTo>
                        <a:pt x="343" y="222"/>
                      </a:lnTo>
                      <a:lnTo>
                        <a:pt x="325" y="222"/>
                      </a:lnTo>
                      <a:lnTo>
                        <a:pt x="256" y="198"/>
                      </a:lnTo>
                      <a:lnTo>
                        <a:pt x="195" y="174"/>
                      </a:lnTo>
                      <a:lnTo>
                        <a:pt x="164" y="150"/>
                      </a:lnTo>
                      <a:lnTo>
                        <a:pt x="145" y="137"/>
                      </a:lnTo>
                      <a:lnTo>
                        <a:pt x="108" y="174"/>
                      </a:lnTo>
                      <a:lnTo>
                        <a:pt x="67" y="210"/>
                      </a:lnTo>
                      <a:lnTo>
                        <a:pt x="25" y="231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7886880" y="4836960"/>
                  <a:ext cx="32400" cy="46440"/>
                </a:xfrm>
                <a:custGeom>
                  <a:avLst/>
                  <a:gdLst/>
                  <a:ahLst/>
                  <a:rect l="l" t="t" r="r" b="b"/>
                  <a:pathLst>
                    <a:path w="385" h="439">
                      <a:moveTo>
                        <a:pt x="0" y="0"/>
                      </a:moveTo>
                      <a:lnTo>
                        <a:pt x="40" y="55"/>
                      </a:lnTo>
                      <a:lnTo>
                        <a:pt x="63" y="111"/>
                      </a:lnTo>
                      <a:lnTo>
                        <a:pt x="86" y="256"/>
                      </a:lnTo>
                      <a:lnTo>
                        <a:pt x="75" y="439"/>
                      </a:lnTo>
                      <a:lnTo>
                        <a:pt x="114" y="274"/>
                      </a:lnTo>
                      <a:lnTo>
                        <a:pt x="148" y="189"/>
                      </a:lnTo>
                      <a:lnTo>
                        <a:pt x="204" y="107"/>
                      </a:lnTo>
                      <a:lnTo>
                        <a:pt x="235" y="111"/>
                      </a:lnTo>
                      <a:lnTo>
                        <a:pt x="211" y="256"/>
                      </a:lnTo>
                      <a:lnTo>
                        <a:pt x="215" y="292"/>
                      </a:lnTo>
                      <a:lnTo>
                        <a:pt x="385" y="74"/>
                      </a:lnTo>
                      <a:lnTo>
                        <a:pt x="310" y="26"/>
                      </a:lnTo>
                      <a:lnTo>
                        <a:pt x="252" y="67"/>
                      </a:lnTo>
                      <a:lnTo>
                        <a:pt x="204" y="58"/>
                      </a:lnTo>
                      <a:lnTo>
                        <a:pt x="112" y="81"/>
                      </a:lnTo>
                      <a:lnTo>
                        <a:pt x="81" y="81"/>
                      </a:lnTo>
                      <a:lnTo>
                        <a:pt x="37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7855920" y="4896360"/>
                  <a:ext cx="68040" cy="245520"/>
                </a:xfrm>
                <a:custGeom>
                  <a:avLst/>
                  <a:gdLst/>
                  <a:ahLst/>
                  <a:rect l="l" t="t" r="r" b="b"/>
                  <a:pathLst>
                    <a:path w="819" h="2318">
                      <a:moveTo>
                        <a:pt x="102" y="23"/>
                      </a:moveTo>
                      <a:lnTo>
                        <a:pt x="196" y="140"/>
                      </a:lnTo>
                      <a:lnTo>
                        <a:pt x="275" y="327"/>
                      </a:lnTo>
                      <a:lnTo>
                        <a:pt x="424" y="714"/>
                      </a:lnTo>
                      <a:lnTo>
                        <a:pt x="579" y="1265"/>
                      </a:lnTo>
                      <a:lnTo>
                        <a:pt x="712" y="1680"/>
                      </a:lnTo>
                      <a:lnTo>
                        <a:pt x="819" y="1925"/>
                      </a:lnTo>
                      <a:lnTo>
                        <a:pt x="660" y="2318"/>
                      </a:lnTo>
                      <a:lnTo>
                        <a:pt x="526" y="2190"/>
                      </a:lnTo>
                      <a:lnTo>
                        <a:pt x="252" y="1992"/>
                      </a:lnTo>
                      <a:lnTo>
                        <a:pt x="35" y="546"/>
                      </a:lnTo>
                      <a:lnTo>
                        <a:pt x="0" y="274"/>
                      </a:lnTo>
                      <a:lnTo>
                        <a:pt x="17" y="103"/>
                      </a:lnTo>
                      <a:lnTo>
                        <a:pt x="35" y="41"/>
                      </a:lnTo>
                      <a:lnTo>
                        <a:pt x="35" y="0"/>
                      </a:lnTo>
                      <a:lnTo>
                        <a:pt x="60" y="41"/>
                      </a:lnTo>
                      <a:lnTo>
                        <a:pt x="53" y="134"/>
                      </a:lnTo>
                      <a:lnTo>
                        <a:pt x="60" y="292"/>
                      </a:lnTo>
                      <a:lnTo>
                        <a:pt x="77" y="465"/>
                      </a:lnTo>
                      <a:lnTo>
                        <a:pt x="116" y="707"/>
                      </a:lnTo>
                      <a:lnTo>
                        <a:pt x="284" y="1487"/>
                      </a:lnTo>
                      <a:lnTo>
                        <a:pt x="343" y="1953"/>
                      </a:lnTo>
                      <a:lnTo>
                        <a:pt x="360" y="2010"/>
                      </a:lnTo>
                      <a:lnTo>
                        <a:pt x="512" y="2142"/>
                      </a:lnTo>
                      <a:lnTo>
                        <a:pt x="642" y="2252"/>
                      </a:lnTo>
                      <a:lnTo>
                        <a:pt x="734" y="2019"/>
                      </a:lnTo>
                      <a:lnTo>
                        <a:pt x="778" y="1925"/>
                      </a:lnTo>
                      <a:lnTo>
                        <a:pt x="651" y="1604"/>
                      </a:lnTo>
                      <a:lnTo>
                        <a:pt x="561" y="1296"/>
                      </a:lnTo>
                      <a:lnTo>
                        <a:pt x="433" y="863"/>
                      </a:lnTo>
                      <a:lnTo>
                        <a:pt x="351" y="555"/>
                      </a:lnTo>
                      <a:lnTo>
                        <a:pt x="235" y="239"/>
                      </a:lnTo>
                      <a:lnTo>
                        <a:pt x="162" y="116"/>
                      </a:lnTo>
                      <a:lnTo>
                        <a:pt x="10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7836480" y="4973400"/>
                  <a:ext cx="187560" cy="197280"/>
                </a:xfrm>
                <a:custGeom>
                  <a:avLst/>
                  <a:gdLst/>
                  <a:ahLst/>
                  <a:rect l="l" t="t" r="r" b="b"/>
                  <a:pathLst>
                    <a:path w="2266" h="1862">
                      <a:moveTo>
                        <a:pt x="947" y="954"/>
                      </a:moveTo>
                      <a:lnTo>
                        <a:pt x="1211" y="1046"/>
                      </a:lnTo>
                      <a:lnTo>
                        <a:pt x="1455" y="1180"/>
                      </a:lnTo>
                      <a:lnTo>
                        <a:pt x="1630" y="1244"/>
                      </a:lnTo>
                      <a:lnTo>
                        <a:pt x="1747" y="1362"/>
                      </a:lnTo>
                      <a:lnTo>
                        <a:pt x="1925" y="1436"/>
                      </a:lnTo>
                      <a:lnTo>
                        <a:pt x="1914" y="1348"/>
                      </a:lnTo>
                      <a:lnTo>
                        <a:pt x="1764" y="1189"/>
                      </a:lnTo>
                      <a:lnTo>
                        <a:pt x="1582" y="1055"/>
                      </a:lnTo>
                      <a:lnTo>
                        <a:pt x="1854" y="1194"/>
                      </a:lnTo>
                      <a:lnTo>
                        <a:pt x="1905" y="908"/>
                      </a:lnTo>
                      <a:lnTo>
                        <a:pt x="1815" y="921"/>
                      </a:lnTo>
                      <a:lnTo>
                        <a:pt x="1747" y="908"/>
                      </a:lnTo>
                      <a:lnTo>
                        <a:pt x="1663" y="855"/>
                      </a:lnTo>
                      <a:lnTo>
                        <a:pt x="1738" y="839"/>
                      </a:lnTo>
                      <a:lnTo>
                        <a:pt x="1815" y="765"/>
                      </a:lnTo>
                      <a:lnTo>
                        <a:pt x="1863" y="682"/>
                      </a:lnTo>
                      <a:lnTo>
                        <a:pt x="1905" y="506"/>
                      </a:lnTo>
                      <a:lnTo>
                        <a:pt x="1914" y="273"/>
                      </a:lnTo>
                      <a:lnTo>
                        <a:pt x="1872" y="0"/>
                      </a:lnTo>
                      <a:lnTo>
                        <a:pt x="2048" y="168"/>
                      </a:lnTo>
                      <a:lnTo>
                        <a:pt x="2131" y="308"/>
                      </a:lnTo>
                      <a:lnTo>
                        <a:pt x="2110" y="325"/>
                      </a:lnTo>
                      <a:lnTo>
                        <a:pt x="1988" y="242"/>
                      </a:lnTo>
                      <a:lnTo>
                        <a:pt x="2013" y="541"/>
                      </a:lnTo>
                      <a:lnTo>
                        <a:pt x="2165" y="839"/>
                      </a:lnTo>
                      <a:lnTo>
                        <a:pt x="2206" y="1014"/>
                      </a:lnTo>
                      <a:lnTo>
                        <a:pt x="2149" y="1079"/>
                      </a:lnTo>
                      <a:lnTo>
                        <a:pt x="2156" y="1180"/>
                      </a:lnTo>
                      <a:lnTo>
                        <a:pt x="2266" y="1348"/>
                      </a:lnTo>
                      <a:lnTo>
                        <a:pt x="2266" y="1398"/>
                      </a:lnTo>
                      <a:lnTo>
                        <a:pt x="2215" y="1459"/>
                      </a:lnTo>
                      <a:lnTo>
                        <a:pt x="2013" y="1593"/>
                      </a:lnTo>
                      <a:lnTo>
                        <a:pt x="1896" y="1680"/>
                      </a:lnTo>
                      <a:lnTo>
                        <a:pt x="1738" y="1862"/>
                      </a:lnTo>
                      <a:lnTo>
                        <a:pt x="1496" y="1862"/>
                      </a:lnTo>
                      <a:lnTo>
                        <a:pt x="1444" y="1833"/>
                      </a:lnTo>
                      <a:lnTo>
                        <a:pt x="1356" y="1824"/>
                      </a:lnTo>
                      <a:lnTo>
                        <a:pt x="1305" y="1862"/>
                      </a:lnTo>
                      <a:lnTo>
                        <a:pt x="0" y="1862"/>
                      </a:lnTo>
                      <a:lnTo>
                        <a:pt x="169" y="1752"/>
                      </a:lnTo>
                      <a:lnTo>
                        <a:pt x="344" y="1662"/>
                      </a:lnTo>
                      <a:lnTo>
                        <a:pt x="542" y="1578"/>
                      </a:lnTo>
                      <a:lnTo>
                        <a:pt x="747" y="1512"/>
                      </a:lnTo>
                      <a:lnTo>
                        <a:pt x="830" y="1496"/>
                      </a:lnTo>
                      <a:lnTo>
                        <a:pt x="865" y="1545"/>
                      </a:lnTo>
                      <a:lnTo>
                        <a:pt x="837" y="1668"/>
                      </a:lnTo>
                      <a:lnTo>
                        <a:pt x="877" y="1721"/>
                      </a:lnTo>
                      <a:lnTo>
                        <a:pt x="1178" y="1680"/>
                      </a:lnTo>
                      <a:lnTo>
                        <a:pt x="1187" y="1653"/>
                      </a:lnTo>
                      <a:lnTo>
                        <a:pt x="1174" y="1629"/>
                      </a:lnTo>
                      <a:lnTo>
                        <a:pt x="947" y="1653"/>
                      </a:lnTo>
                      <a:lnTo>
                        <a:pt x="911" y="1635"/>
                      </a:lnTo>
                      <a:lnTo>
                        <a:pt x="906" y="1545"/>
                      </a:lnTo>
                      <a:lnTo>
                        <a:pt x="964" y="1503"/>
                      </a:lnTo>
                      <a:lnTo>
                        <a:pt x="994" y="1539"/>
                      </a:lnTo>
                      <a:lnTo>
                        <a:pt x="1037" y="1593"/>
                      </a:lnTo>
                      <a:lnTo>
                        <a:pt x="1103" y="1593"/>
                      </a:lnTo>
                      <a:lnTo>
                        <a:pt x="1139" y="1521"/>
                      </a:lnTo>
                      <a:lnTo>
                        <a:pt x="1019" y="1479"/>
                      </a:lnTo>
                      <a:lnTo>
                        <a:pt x="969" y="1470"/>
                      </a:lnTo>
                      <a:lnTo>
                        <a:pt x="1156" y="1459"/>
                      </a:lnTo>
                      <a:lnTo>
                        <a:pt x="1428" y="1452"/>
                      </a:lnTo>
                      <a:lnTo>
                        <a:pt x="1571" y="1459"/>
                      </a:lnTo>
                      <a:lnTo>
                        <a:pt x="1413" y="1398"/>
                      </a:lnTo>
                      <a:lnTo>
                        <a:pt x="1331" y="1319"/>
                      </a:lnTo>
                      <a:lnTo>
                        <a:pt x="1437" y="1353"/>
                      </a:lnTo>
                      <a:lnTo>
                        <a:pt x="1707" y="1459"/>
                      </a:lnTo>
                      <a:lnTo>
                        <a:pt x="1848" y="1479"/>
                      </a:lnTo>
                      <a:lnTo>
                        <a:pt x="1531" y="1256"/>
                      </a:lnTo>
                      <a:lnTo>
                        <a:pt x="1266" y="1106"/>
                      </a:lnTo>
                      <a:lnTo>
                        <a:pt x="1095" y="1064"/>
                      </a:lnTo>
                      <a:lnTo>
                        <a:pt x="1037" y="1002"/>
                      </a:lnTo>
                      <a:lnTo>
                        <a:pt x="947" y="9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7927200" y="4838040"/>
                  <a:ext cx="36360" cy="20880"/>
                </a:xfrm>
                <a:custGeom>
                  <a:avLst/>
                  <a:gdLst/>
                  <a:ahLst/>
                  <a:rect l="l" t="t" r="r" b="b"/>
                  <a:pathLst>
                    <a:path w="443" h="201">
                      <a:moveTo>
                        <a:pt x="0" y="69"/>
                      </a:moveTo>
                      <a:lnTo>
                        <a:pt x="0" y="201"/>
                      </a:lnTo>
                      <a:lnTo>
                        <a:pt x="236" y="46"/>
                      </a:lnTo>
                      <a:lnTo>
                        <a:pt x="261" y="69"/>
                      </a:lnTo>
                      <a:lnTo>
                        <a:pt x="351" y="78"/>
                      </a:lnTo>
                      <a:lnTo>
                        <a:pt x="443" y="19"/>
                      </a:lnTo>
                      <a:lnTo>
                        <a:pt x="342" y="51"/>
                      </a:lnTo>
                      <a:lnTo>
                        <a:pt x="287" y="46"/>
                      </a:lnTo>
                      <a:lnTo>
                        <a:pt x="236" y="0"/>
                      </a:lnTo>
                      <a:lnTo>
                        <a:pt x="134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7975080" y="4845600"/>
                  <a:ext cx="57240" cy="114480"/>
                </a:xfrm>
                <a:custGeom>
                  <a:avLst/>
                  <a:gdLst/>
                  <a:ahLst/>
                  <a:rect l="l" t="t" r="r" b="b"/>
                  <a:pathLst>
                    <a:path w="701" h="1079">
                      <a:moveTo>
                        <a:pt x="0" y="0"/>
                      </a:moveTo>
                      <a:lnTo>
                        <a:pt x="281" y="374"/>
                      </a:lnTo>
                      <a:lnTo>
                        <a:pt x="424" y="438"/>
                      </a:lnTo>
                      <a:lnTo>
                        <a:pt x="438" y="688"/>
                      </a:lnTo>
                      <a:lnTo>
                        <a:pt x="519" y="823"/>
                      </a:lnTo>
                      <a:lnTo>
                        <a:pt x="519" y="1079"/>
                      </a:lnTo>
                      <a:lnTo>
                        <a:pt x="551" y="1035"/>
                      </a:lnTo>
                      <a:lnTo>
                        <a:pt x="551" y="680"/>
                      </a:lnTo>
                      <a:lnTo>
                        <a:pt x="659" y="747"/>
                      </a:lnTo>
                      <a:lnTo>
                        <a:pt x="684" y="862"/>
                      </a:lnTo>
                      <a:lnTo>
                        <a:pt x="701" y="754"/>
                      </a:lnTo>
                      <a:lnTo>
                        <a:pt x="627" y="583"/>
                      </a:lnTo>
                      <a:lnTo>
                        <a:pt x="361" y="316"/>
                      </a:lnTo>
                      <a:lnTo>
                        <a:pt x="253" y="2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7945200" y="4892760"/>
                  <a:ext cx="30960" cy="55800"/>
                </a:xfrm>
                <a:custGeom>
                  <a:avLst/>
                  <a:gdLst/>
                  <a:ahLst/>
                  <a:rect l="l" t="t" r="r" b="b"/>
                  <a:pathLst>
                    <a:path w="378" h="533">
                      <a:moveTo>
                        <a:pt x="0" y="257"/>
                      </a:moveTo>
                      <a:lnTo>
                        <a:pt x="70" y="107"/>
                      </a:lnTo>
                      <a:lnTo>
                        <a:pt x="143" y="98"/>
                      </a:lnTo>
                      <a:lnTo>
                        <a:pt x="235" y="118"/>
                      </a:lnTo>
                      <a:lnTo>
                        <a:pt x="253" y="0"/>
                      </a:lnTo>
                      <a:lnTo>
                        <a:pt x="378" y="533"/>
                      </a:lnTo>
                      <a:lnTo>
                        <a:pt x="235" y="272"/>
                      </a:lnTo>
                      <a:lnTo>
                        <a:pt x="166" y="233"/>
                      </a:lnTo>
                      <a:lnTo>
                        <a:pt x="83" y="222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8016120" y="4932720"/>
                  <a:ext cx="59400" cy="122760"/>
                </a:xfrm>
                <a:custGeom>
                  <a:avLst/>
                  <a:gdLst/>
                  <a:ahLst/>
                  <a:rect l="l" t="t" r="r" b="b"/>
                  <a:pathLst>
                    <a:path w="717" h="1161">
                      <a:moveTo>
                        <a:pt x="261" y="0"/>
                      </a:moveTo>
                      <a:lnTo>
                        <a:pt x="252" y="99"/>
                      </a:lnTo>
                      <a:lnTo>
                        <a:pt x="177" y="240"/>
                      </a:lnTo>
                      <a:lnTo>
                        <a:pt x="76" y="390"/>
                      </a:lnTo>
                      <a:lnTo>
                        <a:pt x="34" y="509"/>
                      </a:lnTo>
                      <a:lnTo>
                        <a:pt x="34" y="572"/>
                      </a:lnTo>
                      <a:lnTo>
                        <a:pt x="67" y="656"/>
                      </a:lnTo>
                      <a:lnTo>
                        <a:pt x="94" y="724"/>
                      </a:lnTo>
                      <a:lnTo>
                        <a:pt x="0" y="724"/>
                      </a:lnTo>
                      <a:lnTo>
                        <a:pt x="127" y="763"/>
                      </a:lnTo>
                      <a:lnTo>
                        <a:pt x="177" y="889"/>
                      </a:lnTo>
                      <a:lnTo>
                        <a:pt x="325" y="889"/>
                      </a:lnTo>
                      <a:lnTo>
                        <a:pt x="496" y="1161"/>
                      </a:lnTo>
                      <a:lnTo>
                        <a:pt x="535" y="1091"/>
                      </a:lnTo>
                      <a:lnTo>
                        <a:pt x="535" y="970"/>
                      </a:lnTo>
                      <a:lnTo>
                        <a:pt x="643" y="774"/>
                      </a:lnTo>
                      <a:lnTo>
                        <a:pt x="717" y="473"/>
                      </a:lnTo>
                      <a:lnTo>
                        <a:pt x="616" y="756"/>
                      </a:lnTo>
                      <a:lnTo>
                        <a:pt x="560" y="733"/>
                      </a:lnTo>
                      <a:lnTo>
                        <a:pt x="595" y="673"/>
                      </a:lnTo>
                      <a:lnTo>
                        <a:pt x="217" y="839"/>
                      </a:lnTo>
                      <a:lnTo>
                        <a:pt x="210" y="763"/>
                      </a:lnTo>
                      <a:lnTo>
                        <a:pt x="127" y="708"/>
                      </a:lnTo>
                      <a:lnTo>
                        <a:pt x="337" y="524"/>
                      </a:lnTo>
                      <a:lnTo>
                        <a:pt x="184" y="608"/>
                      </a:lnTo>
                      <a:lnTo>
                        <a:pt x="153" y="524"/>
                      </a:lnTo>
                      <a:lnTo>
                        <a:pt x="159" y="422"/>
                      </a:lnTo>
                      <a:lnTo>
                        <a:pt x="201" y="341"/>
                      </a:lnTo>
                      <a:lnTo>
                        <a:pt x="344" y="168"/>
                      </a:lnTo>
                      <a:lnTo>
                        <a:pt x="360" y="99"/>
                      </a:lnTo>
                      <a:lnTo>
                        <a:pt x="344" y="58"/>
                      </a:lnTo>
                      <a:lnTo>
                        <a:pt x="293" y="58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8027640" y="5060880"/>
                  <a:ext cx="64080" cy="53280"/>
                </a:xfrm>
                <a:custGeom>
                  <a:avLst/>
                  <a:gdLst/>
                  <a:ahLst/>
                  <a:rect l="l" t="t" r="r" b="b"/>
                  <a:pathLst>
                    <a:path w="775" h="510">
                      <a:moveTo>
                        <a:pt x="0" y="510"/>
                      </a:moveTo>
                      <a:lnTo>
                        <a:pt x="92" y="353"/>
                      </a:lnTo>
                      <a:lnTo>
                        <a:pt x="472" y="182"/>
                      </a:lnTo>
                      <a:lnTo>
                        <a:pt x="672" y="182"/>
                      </a:lnTo>
                      <a:lnTo>
                        <a:pt x="775" y="118"/>
                      </a:lnTo>
                      <a:lnTo>
                        <a:pt x="540" y="118"/>
                      </a:lnTo>
                      <a:lnTo>
                        <a:pt x="393" y="171"/>
                      </a:lnTo>
                      <a:lnTo>
                        <a:pt x="327" y="143"/>
                      </a:lnTo>
                      <a:lnTo>
                        <a:pt x="342" y="0"/>
                      </a:lnTo>
                      <a:lnTo>
                        <a:pt x="261" y="14"/>
                      </a:lnTo>
                      <a:lnTo>
                        <a:pt x="261" y="171"/>
                      </a:lnTo>
                      <a:lnTo>
                        <a:pt x="197" y="251"/>
                      </a:lnTo>
                      <a:lnTo>
                        <a:pt x="105" y="261"/>
                      </a:lnTo>
                      <a:lnTo>
                        <a:pt x="12" y="393"/>
                      </a:lnTo>
                      <a:lnTo>
                        <a:pt x="0" y="5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8032680" y="5211720"/>
                  <a:ext cx="98640" cy="47160"/>
                </a:xfrm>
                <a:custGeom>
                  <a:avLst/>
                  <a:gdLst/>
                  <a:ahLst/>
                  <a:rect l="l" t="t" r="r" b="b"/>
                  <a:pathLst>
                    <a:path w="1191" h="446">
                      <a:moveTo>
                        <a:pt x="1191" y="174"/>
                      </a:moveTo>
                      <a:lnTo>
                        <a:pt x="841" y="283"/>
                      </a:lnTo>
                      <a:lnTo>
                        <a:pt x="622" y="446"/>
                      </a:lnTo>
                      <a:lnTo>
                        <a:pt x="609" y="374"/>
                      </a:lnTo>
                      <a:lnTo>
                        <a:pt x="912" y="176"/>
                      </a:lnTo>
                      <a:lnTo>
                        <a:pt x="877" y="137"/>
                      </a:lnTo>
                      <a:lnTo>
                        <a:pt x="708" y="149"/>
                      </a:lnTo>
                      <a:lnTo>
                        <a:pt x="490" y="213"/>
                      </a:lnTo>
                      <a:lnTo>
                        <a:pt x="512" y="108"/>
                      </a:lnTo>
                      <a:lnTo>
                        <a:pt x="313" y="96"/>
                      </a:lnTo>
                      <a:lnTo>
                        <a:pt x="205" y="55"/>
                      </a:lnTo>
                      <a:lnTo>
                        <a:pt x="69" y="24"/>
                      </a:ln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246" y="47"/>
                      </a:lnTo>
                      <a:lnTo>
                        <a:pt x="409" y="77"/>
                      </a:lnTo>
                      <a:lnTo>
                        <a:pt x="537" y="73"/>
                      </a:lnTo>
                      <a:lnTo>
                        <a:pt x="652" y="55"/>
                      </a:lnTo>
                      <a:lnTo>
                        <a:pt x="749" y="112"/>
                      </a:lnTo>
                      <a:lnTo>
                        <a:pt x="1028" y="96"/>
                      </a:lnTo>
                      <a:lnTo>
                        <a:pt x="1164" y="154"/>
                      </a:lnTo>
                      <a:lnTo>
                        <a:pt x="1191" y="1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7915320" y="5165280"/>
                  <a:ext cx="145080" cy="129240"/>
                </a:xfrm>
                <a:custGeom>
                  <a:avLst/>
                  <a:gdLst/>
                  <a:ahLst/>
                  <a:rect l="l" t="t" r="r" b="b"/>
                  <a:pathLst>
                    <a:path w="1754" h="1222">
                      <a:moveTo>
                        <a:pt x="1289" y="666"/>
                      </a:moveTo>
                      <a:lnTo>
                        <a:pt x="1258" y="826"/>
                      </a:lnTo>
                      <a:lnTo>
                        <a:pt x="1258" y="945"/>
                      </a:lnTo>
                      <a:lnTo>
                        <a:pt x="1289" y="1042"/>
                      </a:lnTo>
                      <a:lnTo>
                        <a:pt x="1311" y="1098"/>
                      </a:lnTo>
                      <a:lnTo>
                        <a:pt x="1754" y="1222"/>
                      </a:lnTo>
                      <a:lnTo>
                        <a:pt x="1293" y="1160"/>
                      </a:lnTo>
                      <a:lnTo>
                        <a:pt x="1251" y="1098"/>
                      </a:lnTo>
                      <a:lnTo>
                        <a:pt x="876" y="1092"/>
                      </a:lnTo>
                      <a:lnTo>
                        <a:pt x="576" y="1035"/>
                      </a:lnTo>
                      <a:lnTo>
                        <a:pt x="311" y="955"/>
                      </a:lnTo>
                      <a:lnTo>
                        <a:pt x="93" y="860"/>
                      </a:lnTo>
                      <a:lnTo>
                        <a:pt x="69" y="826"/>
                      </a:lnTo>
                      <a:lnTo>
                        <a:pt x="51" y="749"/>
                      </a:lnTo>
                      <a:lnTo>
                        <a:pt x="0" y="652"/>
                      </a:lnTo>
                      <a:lnTo>
                        <a:pt x="12" y="615"/>
                      </a:lnTo>
                      <a:lnTo>
                        <a:pt x="32" y="588"/>
                      </a:lnTo>
                      <a:lnTo>
                        <a:pt x="32" y="452"/>
                      </a:lnTo>
                      <a:lnTo>
                        <a:pt x="51" y="406"/>
                      </a:lnTo>
                      <a:lnTo>
                        <a:pt x="80" y="382"/>
                      </a:lnTo>
                      <a:lnTo>
                        <a:pt x="58" y="433"/>
                      </a:lnTo>
                      <a:lnTo>
                        <a:pt x="51" y="547"/>
                      </a:lnTo>
                      <a:lnTo>
                        <a:pt x="58" y="613"/>
                      </a:lnTo>
                      <a:lnTo>
                        <a:pt x="230" y="756"/>
                      </a:lnTo>
                      <a:lnTo>
                        <a:pt x="258" y="749"/>
                      </a:lnTo>
                      <a:lnTo>
                        <a:pt x="278" y="670"/>
                      </a:lnTo>
                      <a:lnTo>
                        <a:pt x="170" y="494"/>
                      </a:lnTo>
                      <a:lnTo>
                        <a:pt x="140" y="344"/>
                      </a:lnTo>
                      <a:lnTo>
                        <a:pt x="201" y="202"/>
                      </a:lnTo>
                      <a:lnTo>
                        <a:pt x="201" y="426"/>
                      </a:lnTo>
                      <a:lnTo>
                        <a:pt x="361" y="786"/>
                      </a:lnTo>
                      <a:lnTo>
                        <a:pt x="438" y="802"/>
                      </a:lnTo>
                      <a:lnTo>
                        <a:pt x="489" y="770"/>
                      </a:lnTo>
                      <a:lnTo>
                        <a:pt x="480" y="685"/>
                      </a:lnTo>
                      <a:lnTo>
                        <a:pt x="320" y="286"/>
                      </a:lnTo>
                      <a:lnTo>
                        <a:pt x="320" y="166"/>
                      </a:lnTo>
                      <a:lnTo>
                        <a:pt x="320" y="72"/>
                      </a:lnTo>
                      <a:lnTo>
                        <a:pt x="361" y="0"/>
                      </a:lnTo>
                      <a:lnTo>
                        <a:pt x="343" y="136"/>
                      </a:lnTo>
                      <a:lnTo>
                        <a:pt x="350" y="272"/>
                      </a:lnTo>
                      <a:lnTo>
                        <a:pt x="451" y="540"/>
                      </a:lnTo>
                      <a:lnTo>
                        <a:pt x="493" y="560"/>
                      </a:lnTo>
                      <a:lnTo>
                        <a:pt x="535" y="516"/>
                      </a:lnTo>
                      <a:lnTo>
                        <a:pt x="553" y="468"/>
                      </a:lnTo>
                      <a:lnTo>
                        <a:pt x="546" y="362"/>
                      </a:lnTo>
                      <a:lnTo>
                        <a:pt x="528" y="219"/>
                      </a:lnTo>
                      <a:lnTo>
                        <a:pt x="553" y="215"/>
                      </a:lnTo>
                      <a:lnTo>
                        <a:pt x="581" y="459"/>
                      </a:lnTo>
                      <a:lnTo>
                        <a:pt x="570" y="523"/>
                      </a:lnTo>
                      <a:lnTo>
                        <a:pt x="541" y="569"/>
                      </a:lnTo>
                      <a:lnTo>
                        <a:pt x="498" y="613"/>
                      </a:lnTo>
                      <a:lnTo>
                        <a:pt x="511" y="740"/>
                      </a:lnTo>
                      <a:lnTo>
                        <a:pt x="504" y="826"/>
                      </a:lnTo>
                      <a:lnTo>
                        <a:pt x="456" y="844"/>
                      </a:lnTo>
                      <a:lnTo>
                        <a:pt x="392" y="839"/>
                      </a:lnTo>
                      <a:lnTo>
                        <a:pt x="311" y="795"/>
                      </a:lnTo>
                      <a:lnTo>
                        <a:pt x="265" y="802"/>
                      </a:lnTo>
                      <a:lnTo>
                        <a:pt x="93" y="724"/>
                      </a:lnTo>
                      <a:lnTo>
                        <a:pt x="87" y="806"/>
                      </a:lnTo>
                      <a:lnTo>
                        <a:pt x="152" y="867"/>
                      </a:lnTo>
                      <a:lnTo>
                        <a:pt x="504" y="986"/>
                      </a:lnTo>
                      <a:lnTo>
                        <a:pt x="792" y="1048"/>
                      </a:lnTo>
                      <a:lnTo>
                        <a:pt x="1042" y="1058"/>
                      </a:lnTo>
                      <a:lnTo>
                        <a:pt x="1238" y="1058"/>
                      </a:lnTo>
                      <a:lnTo>
                        <a:pt x="1229" y="955"/>
                      </a:lnTo>
                      <a:lnTo>
                        <a:pt x="1238" y="826"/>
                      </a:lnTo>
                      <a:lnTo>
                        <a:pt x="1263" y="722"/>
                      </a:lnTo>
                      <a:lnTo>
                        <a:pt x="1289" y="6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7958520" y="5165280"/>
                  <a:ext cx="69480" cy="57600"/>
                </a:xfrm>
                <a:custGeom>
                  <a:avLst/>
                  <a:gdLst/>
                  <a:ahLst/>
                  <a:rect l="l" t="t" r="r" b="b"/>
                  <a:pathLst>
                    <a:path w="846" h="547">
                      <a:moveTo>
                        <a:pt x="0" y="30"/>
                      </a:moveTo>
                      <a:lnTo>
                        <a:pt x="45" y="94"/>
                      </a:lnTo>
                      <a:lnTo>
                        <a:pt x="101" y="210"/>
                      </a:lnTo>
                      <a:lnTo>
                        <a:pt x="36" y="219"/>
                      </a:lnTo>
                      <a:lnTo>
                        <a:pt x="36" y="237"/>
                      </a:lnTo>
                      <a:lnTo>
                        <a:pt x="174" y="246"/>
                      </a:lnTo>
                      <a:lnTo>
                        <a:pt x="322" y="254"/>
                      </a:lnTo>
                      <a:lnTo>
                        <a:pt x="248" y="233"/>
                      </a:lnTo>
                      <a:lnTo>
                        <a:pt x="394" y="178"/>
                      </a:lnTo>
                      <a:lnTo>
                        <a:pt x="472" y="189"/>
                      </a:lnTo>
                      <a:lnTo>
                        <a:pt x="598" y="297"/>
                      </a:lnTo>
                      <a:lnTo>
                        <a:pt x="675" y="422"/>
                      </a:lnTo>
                      <a:lnTo>
                        <a:pt x="767" y="512"/>
                      </a:lnTo>
                      <a:lnTo>
                        <a:pt x="820" y="547"/>
                      </a:lnTo>
                      <a:lnTo>
                        <a:pt x="846" y="523"/>
                      </a:lnTo>
                      <a:lnTo>
                        <a:pt x="758" y="468"/>
                      </a:lnTo>
                      <a:lnTo>
                        <a:pt x="679" y="392"/>
                      </a:lnTo>
                      <a:lnTo>
                        <a:pt x="611" y="286"/>
                      </a:lnTo>
                      <a:lnTo>
                        <a:pt x="534" y="184"/>
                      </a:lnTo>
                      <a:lnTo>
                        <a:pt x="394" y="136"/>
                      </a:lnTo>
                      <a:lnTo>
                        <a:pt x="317" y="154"/>
                      </a:lnTo>
                      <a:lnTo>
                        <a:pt x="223" y="189"/>
                      </a:lnTo>
                      <a:lnTo>
                        <a:pt x="161" y="184"/>
                      </a:lnTo>
                      <a:lnTo>
                        <a:pt x="244" y="90"/>
                      </a:lnTo>
                      <a:lnTo>
                        <a:pt x="283" y="30"/>
                      </a:lnTo>
                      <a:lnTo>
                        <a:pt x="275" y="0"/>
                      </a:lnTo>
                      <a:lnTo>
                        <a:pt x="223" y="79"/>
                      </a:lnTo>
                      <a:lnTo>
                        <a:pt x="119" y="154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7788600" y="4691160"/>
                  <a:ext cx="109440" cy="130320"/>
                </a:xfrm>
                <a:custGeom>
                  <a:avLst/>
                  <a:gdLst/>
                  <a:ahLst/>
                  <a:rect l="l" t="t" r="r" b="b"/>
                  <a:pathLst>
                    <a:path w="1323" h="1233">
                      <a:moveTo>
                        <a:pt x="680" y="329"/>
                      </a:moveTo>
                      <a:lnTo>
                        <a:pt x="759" y="233"/>
                      </a:lnTo>
                      <a:lnTo>
                        <a:pt x="833" y="191"/>
                      </a:lnTo>
                      <a:lnTo>
                        <a:pt x="918" y="186"/>
                      </a:lnTo>
                      <a:lnTo>
                        <a:pt x="1026" y="239"/>
                      </a:lnTo>
                      <a:lnTo>
                        <a:pt x="1086" y="329"/>
                      </a:lnTo>
                      <a:lnTo>
                        <a:pt x="1116" y="433"/>
                      </a:lnTo>
                      <a:lnTo>
                        <a:pt x="1128" y="539"/>
                      </a:lnTo>
                      <a:lnTo>
                        <a:pt x="1123" y="648"/>
                      </a:lnTo>
                      <a:lnTo>
                        <a:pt x="1112" y="753"/>
                      </a:lnTo>
                      <a:lnTo>
                        <a:pt x="1141" y="857"/>
                      </a:lnTo>
                      <a:lnTo>
                        <a:pt x="1165" y="744"/>
                      </a:lnTo>
                      <a:lnTo>
                        <a:pt x="1242" y="689"/>
                      </a:lnTo>
                      <a:lnTo>
                        <a:pt x="1291" y="728"/>
                      </a:lnTo>
                      <a:lnTo>
                        <a:pt x="1305" y="857"/>
                      </a:lnTo>
                      <a:lnTo>
                        <a:pt x="1296" y="960"/>
                      </a:lnTo>
                      <a:lnTo>
                        <a:pt x="1238" y="1046"/>
                      </a:lnTo>
                      <a:lnTo>
                        <a:pt x="1209" y="1083"/>
                      </a:lnTo>
                      <a:lnTo>
                        <a:pt x="1152" y="1127"/>
                      </a:lnTo>
                      <a:lnTo>
                        <a:pt x="1222" y="1101"/>
                      </a:lnTo>
                      <a:lnTo>
                        <a:pt x="1310" y="966"/>
                      </a:lnTo>
                      <a:lnTo>
                        <a:pt x="1323" y="834"/>
                      </a:lnTo>
                      <a:lnTo>
                        <a:pt x="1296" y="696"/>
                      </a:lnTo>
                      <a:lnTo>
                        <a:pt x="1242" y="666"/>
                      </a:lnTo>
                      <a:lnTo>
                        <a:pt x="1242" y="585"/>
                      </a:lnTo>
                      <a:lnTo>
                        <a:pt x="1183" y="323"/>
                      </a:lnTo>
                      <a:lnTo>
                        <a:pt x="1086" y="175"/>
                      </a:lnTo>
                      <a:lnTo>
                        <a:pt x="971" y="74"/>
                      </a:lnTo>
                      <a:lnTo>
                        <a:pt x="840" y="32"/>
                      </a:lnTo>
                      <a:lnTo>
                        <a:pt x="629" y="0"/>
                      </a:lnTo>
                      <a:lnTo>
                        <a:pt x="392" y="32"/>
                      </a:lnTo>
                      <a:lnTo>
                        <a:pt x="213" y="131"/>
                      </a:lnTo>
                      <a:lnTo>
                        <a:pt x="97" y="255"/>
                      </a:lnTo>
                      <a:lnTo>
                        <a:pt x="26" y="404"/>
                      </a:lnTo>
                      <a:lnTo>
                        <a:pt x="12" y="562"/>
                      </a:lnTo>
                      <a:lnTo>
                        <a:pt x="26" y="786"/>
                      </a:lnTo>
                      <a:lnTo>
                        <a:pt x="0" y="857"/>
                      </a:lnTo>
                      <a:lnTo>
                        <a:pt x="23" y="995"/>
                      </a:lnTo>
                      <a:lnTo>
                        <a:pt x="97" y="1113"/>
                      </a:lnTo>
                      <a:lnTo>
                        <a:pt x="198" y="1196"/>
                      </a:lnTo>
                      <a:lnTo>
                        <a:pt x="249" y="1201"/>
                      </a:lnTo>
                      <a:lnTo>
                        <a:pt x="279" y="1233"/>
                      </a:lnTo>
                      <a:lnTo>
                        <a:pt x="264" y="1152"/>
                      </a:lnTo>
                      <a:lnTo>
                        <a:pt x="213" y="1187"/>
                      </a:lnTo>
                      <a:lnTo>
                        <a:pt x="104" y="1106"/>
                      </a:lnTo>
                      <a:lnTo>
                        <a:pt x="33" y="973"/>
                      </a:lnTo>
                      <a:lnTo>
                        <a:pt x="26" y="868"/>
                      </a:lnTo>
                      <a:lnTo>
                        <a:pt x="49" y="843"/>
                      </a:lnTo>
                      <a:lnTo>
                        <a:pt x="121" y="857"/>
                      </a:lnTo>
                      <a:lnTo>
                        <a:pt x="213" y="936"/>
                      </a:lnTo>
                      <a:lnTo>
                        <a:pt x="194" y="830"/>
                      </a:lnTo>
                      <a:lnTo>
                        <a:pt x="167" y="771"/>
                      </a:lnTo>
                      <a:lnTo>
                        <a:pt x="130" y="668"/>
                      </a:lnTo>
                      <a:lnTo>
                        <a:pt x="108" y="551"/>
                      </a:lnTo>
                      <a:lnTo>
                        <a:pt x="108" y="459"/>
                      </a:lnTo>
                      <a:lnTo>
                        <a:pt x="130" y="382"/>
                      </a:lnTo>
                      <a:lnTo>
                        <a:pt x="171" y="323"/>
                      </a:lnTo>
                      <a:lnTo>
                        <a:pt x="227" y="281"/>
                      </a:lnTo>
                      <a:lnTo>
                        <a:pt x="286" y="265"/>
                      </a:lnTo>
                      <a:lnTo>
                        <a:pt x="354" y="281"/>
                      </a:lnTo>
                      <a:lnTo>
                        <a:pt x="420" y="318"/>
                      </a:lnTo>
                      <a:lnTo>
                        <a:pt x="466" y="355"/>
                      </a:lnTo>
                      <a:lnTo>
                        <a:pt x="521" y="369"/>
                      </a:lnTo>
                      <a:lnTo>
                        <a:pt x="607" y="362"/>
                      </a:lnTo>
                      <a:lnTo>
                        <a:pt x="655" y="345"/>
                      </a:lnTo>
                      <a:lnTo>
                        <a:pt x="680" y="3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7812720" y="4783680"/>
                  <a:ext cx="34920" cy="8280"/>
                </a:xfrm>
                <a:custGeom>
                  <a:avLst/>
                  <a:gdLst/>
                  <a:ahLst/>
                  <a:rect l="l" t="t" r="r" b="b"/>
                  <a:pathLst>
                    <a:path w="424" h="83">
                      <a:moveTo>
                        <a:pt x="0" y="42"/>
                      </a:moveTo>
                      <a:lnTo>
                        <a:pt x="74" y="22"/>
                      </a:lnTo>
                      <a:lnTo>
                        <a:pt x="157" y="15"/>
                      </a:lnTo>
                      <a:lnTo>
                        <a:pt x="274" y="15"/>
                      </a:lnTo>
                      <a:lnTo>
                        <a:pt x="338" y="8"/>
                      </a:lnTo>
                      <a:lnTo>
                        <a:pt x="424" y="0"/>
                      </a:lnTo>
                      <a:lnTo>
                        <a:pt x="389" y="46"/>
                      </a:lnTo>
                      <a:lnTo>
                        <a:pt x="300" y="52"/>
                      </a:lnTo>
                      <a:lnTo>
                        <a:pt x="305" y="83"/>
                      </a:lnTo>
                      <a:lnTo>
                        <a:pt x="263" y="52"/>
                      </a:lnTo>
                      <a:lnTo>
                        <a:pt x="204" y="46"/>
                      </a:lnTo>
                      <a:lnTo>
                        <a:pt x="129" y="56"/>
                      </a:lnTo>
                      <a:lnTo>
                        <a:pt x="210" y="28"/>
                      </a:lnTo>
                      <a:lnTo>
                        <a:pt x="134" y="28"/>
                      </a:lnTo>
                      <a:lnTo>
                        <a:pt x="63" y="4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7811280" y="4785120"/>
                  <a:ext cx="26280" cy="17640"/>
                </a:xfrm>
                <a:custGeom>
                  <a:avLst/>
                  <a:gdLst/>
                  <a:ahLst/>
                  <a:rect l="l" t="t" r="r" b="b"/>
                  <a:pathLst>
                    <a:path w="318" h="161">
                      <a:moveTo>
                        <a:pt x="0" y="22"/>
                      </a:moveTo>
                      <a:lnTo>
                        <a:pt x="24" y="50"/>
                      </a:lnTo>
                      <a:lnTo>
                        <a:pt x="92" y="74"/>
                      </a:lnTo>
                      <a:lnTo>
                        <a:pt x="138" y="108"/>
                      </a:lnTo>
                      <a:lnTo>
                        <a:pt x="119" y="127"/>
                      </a:lnTo>
                      <a:lnTo>
                        <a:pt x="175" y="161"/>
                      </a:lnTo>
                      <a:lnTo>
                        <a:pt x="237" y="145"/>
                      </a:lnTo>
                      <a:lnTo>
                        <a:pt x="281" y="117"/>
                      </a:lnTo>
                      <a:lnTo>
                        <a:pt x="228" y="108"/>
                      </a:lnTo>
                      <a:lnTo>
                        <a:pt x="318" y="59"/>
                      </a:lnTo>
                      <a:lnTo>
                        <a:pt x="310" y="44"/>
                      </a:lnTo>
                      <a:lnTo>
                        <a:pt x="222" y="97"/>
                      </a:lnTo>
                      <a:lnTo>
                        <a:pt x="175" y="103"/>
                      </a:lnTo>
                      <a:lnTo>
                        <a:pt x="119" y="81"/>
                      </a:lnTo>
                      <a:lnTo>
                        <a:pt x="99" y="53"/>
                      </a:lnTo>
                      <a:lnTo>
                        <a:pt x="156" y="32"/>
                      </a:lnTo>
                      <a:lnTo>
                        <a:pt x="99" y="39"/>
                      </a:lnTo>
                      <a:lnTo>
                        <a:pt x="77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7850520" y="4773240"/>
                  <a:ext cx="27000" cy="8280"/>
                </a:xfrm>
                <a:custGeom>
                  <a:avLst/>
                  <a:gdLst/>
                  <a:ahLst/>
                  <a:rect l="l" t="t" r="r" b="b"/>
                  <a:pathLst>
                    <a:path w="327" h="85">
                      <a:moveTo>
                        <a:pt x="0" y="85"/>
                      </a:moveTo>
                      <a:lnTo>
                        <a:pt x="211" y="0"/>
                      </a:lnTo>
                      <a:lnTo>
                        <a:pt x="269" y="12"/>
                      </a:lnTo>
                      <a:lnTo>
                        <a:pt x="327" y="35"/>
                      </a:lnTo>
                      <a:lnTo>
                        <a:pt x="253" y="28"/>
                      </a:lnTo>
                      <a:lnTo>
                        <a:pt x="200" y="28"/>
                      </a:lnTo>
                      <a:lnTo>
                        <a:pt x="130" y="48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7852320" y="4781880"/>
                  <a:ext cx="21600" cy="10080"/>
                </a:xfrm>
                <a:custGeom>
                  <a:avLst/>
                  <a:gdLst/>
                  <a:ahLst/>
                  <a:rect l="l" t="t" r="r" b="b"/>
                  <a:pathLst>
                    <a:path w="261" h="99">
                      <a:moveTo>
                        <a:pt x="0" y="53"/>
                      </a:moveTo>
                      <a:lnTo>
                        <a:pt x="70" y="2"/>
                      </a:lnTo>
                      <a:lnTo>
                        <a:pt x="166" y="0"/>
                      </a:lnTo>
                      <a:lnTo>
                        <a:pt x="261" y="11"/>
                      </a:lnTo>
                      <a:lnTo>
                        <a:pt x="224" y="57"/>
                      </a:lnTo>
                      <a:lnTo>
                        <a:pt x="166" y="85"/>
                      </a:lnTo>
                      <a:lnTo>
                        <a:pt x="116" y="99"/>
                      </a:lnTo>
                      <a:lnTo>
                        <a:pt x="42" y="88"/>
                      </a:lnTo>
                      <a:lnTo>
                        <a:pt x="116" y="88"/>
                      </a:lnTo>
                      <a:lnTo>
                        <a:pt x="193" y="57"/>
                      </a:lnTo>
                      <a:lnTo>
                        <a:pt x="240" y="15"/>
                      </a:lnTo>
                      <a:lnTo>
                        <a:pt x="153" y="11"/>
                      </a:lnTo>
                      <a:lnTo>
                        <a:pt x="83" y="15"/>
                      </a:lnTo>
                      <a:lnTo>
                        <a:pt x="30" y="53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7846920" y="4776840"/>
                  <a:ext cx="20520" cy="29520"/>
                </a:xfrm>
                <a:custGeom>
                  <a:avLst/>
                  <a:gdLst/>
                  <a:ahLst/>
                  <a:rect l="l" t="t" r="r" b="b"/>
                  <a:pathLst>
                    <a:path w="248" h="281">
                      <a:moveTo>
                        <a:pt x="173" y="11"/>
                      </a:moveTo>
                      <a:lnTo>
                        <a:pt x="248" y="25"/>
                      </a:lnTo>
                      <a:lnTo>
                        <a:pt x="158" y="25"/>
                      </a:lnTo>
                      <a:lnTo>
                        <a:pt x="122" y="63"/>
                      </a:lnTo>
                      <a:lnTo>
                        <a:pt x="74" y="94"/>
                      </a:lnTo>
                      <a:lnTo>
                        <a:pt x="55" y="133"/>
                      </a:lnTo>
                      <a:lnTo>
                        <a:pt x="55" y="186"/>
                      </a:lnTo>
                      <a:lnTo>
                        <a:pt x="74" y="281"/>
                      </a:lnTo>
                      <a:lnTo>
                        <a:pt x="43" y="191"/>
                      </a:lnTo>
                      <a:lnTo>
                        <a:pt x="37" y="142"/>
                      </a:lnTo>
                      <a:lnTo>
                        <a:pt x="34" y="105"/>
                      </a:lnTo>
                      <a:lnTo>
                        <a:pt x="0" y="63"/>
                      </a:lnTo>
                      <a:lnTo>
                        <a:pt x="140" y="21"/>
                      </a:lnTo>
                      <a:lnTo>
                        <a:pt x="204" y="0"/>
                      </a:lnTo>
                      <a:lnTo>
                        <a:pt x="17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7839360" y="4787640"/>
                  <a:ext cx="3600" cy="24480"/>
                </a:xfrm>
                <a:custGeom>
                  <a:avLst/>
                  <a:gdLst/>
                  <a:ahLst/>
                  <a:rect l="l" t="t" r="r" b="b"/>
                  <a:pathLst>
                    <a:path w="48" h="233">
                      <a:moveTo>
                        <a:pt x="0" y="10"/>
                      </a:moveTo>
                      <a:lnTo>
                        <a:pt x="22" y="90"/>
                      </a:lnTo>
                      <a:lnTo>
                        <a:pt x="27" y="153"/>
                      </a:lnTo>
                      <a:lnTo>
                        <a:pt x="39" y="233"/>
                      </a:lnTo>
                      <a:lnTo>
                        <a:pt x="48" y="149"/>
                      </a:lnTo>
                      <a:lnTo>
                        <a:pt x="41" y="85"/>
                      </a:lnTo>
                      <a:lnTo>
                        <a:pt x="35" y="32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7855920" y="4791240"/>
                  <a:ext cx="14400" cy="5760"/>
                </a:xfrm>
                <a:custGeom>
                  <a:avLst/>
                  <a:gdLst/>
                  <a:ahLst/>
                  <a:rect l="l" t="t" r="r" b="b"/>
                  <a:pathLst>
                    <a:path w="171" h="55">
                      <a:moveTo>
                        <a:pt x="32" y="11"/>
                      </a:moveTo>
                      <a:lnTo>
                        <a:pt x="0" y="44"/>
                      </a:lnTo>
                      <a:lnTo>
                        <a:pt x="65" y="55"/>
                      </a:lnTo>
                      <a:lnTo>
                        <a:pt x="106" y="44"/>
                      </a:lnTo>
                      <a:lnTo>
                        <a:pt x="171" y="11"/>
                      </a:lnTo>
                      <a:lnTo>
                        <a:pt x="124" y="11"/>
                      </a:lnTo>
                      <a:lnTo>
                        <a:pt x="81" y="0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7793280" y="4790520"/>
                  <a:ext cx="13680" cy="17640"/>
                </a:xfrm>
                <a:custGeom>
                  <a:avLst/>
                  <a:gdLst/>
                  <a:ahLst/>
                  <a:rect l="l" t="t" r="r" b="b"/>
                  <a:pathLst>
                    <a:path w="174" h="170">
                      <a:moveTo>
                        <a:pt x="157" y="30"/>
                      </a:moveTo>
                      <a:lnTo>
                        <a:pt x="88" y="6"/>
                      </a:lnTo>
                      <a:lnTo>
                        <a:pt x="0" y="0"/>
                      </a:lnTo>
                      <a:lnTo>
                        <a:pt x="33" y="20"/>
                      </a:lnTo>
                      <a:lnTo>
                        <a:pt x="51" y="90"/>
                      </a:lnTo>
                      <a:lnTo>
                        <a:pt x="77" y="129"/>
                      </a:lnTo>
                      <a:lnTo>
                        <a:pt x="60" y="78"/>
                      </a:lnTo>
                      <a:lnTo>
                        <a:pt x="70" y="37"/>
                      </a:lnTo>
                      <a:lnTo>
                        <a:pt x="104" y="44"/>
                      </a:lnTo>
                      <a:lnTo>
                        <a:pt x="97" y="78"/>
                      </a:lnTo>
                      <a:lnTo>
                        <a:pt x="108" y="123"/>
                      </a:lnTo>
                      <a:lnTo>
                        <a:pt x="136" y="136"/>
                      </a:lnTo>
                      <a:lnTo>
                        <a:pt x="174" y="170"/>
                      </a:lnTo>
                      <a:lnTo>
                        <a:pt x="157" y="123"/>
                      </a:lnTo>
                      <a:lnTo>
                        <a:pt x="167" y="83"/>
                      </a:lnTo>
                      <a:lnTo>
                        <a:pt x="160" y="59"/>
                      </a:lnTo>
                      <a:lnTo>
                        <a:pt x="15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7883640" y="4772520"/>
                  <a:ext cx="10440" cy="30240"/>
                </a:xfrm>
                <a:custGeom>
                  <a:avLst/>
                  <a:gdLst/>
                  <a:ahLst/>
                  <a:rect l="l" t="t" r="r" b="b"/>
                  <a:pathLst>
                    <a:path w="129" h="292">
                      <a:moveTo>
                        <a:pt x="0" y="116"/>
                      </a:moveTo>
                      <a:lnTo>
                        <a:pt x="23" y="109"/>
                      </a:lnTo>
                      <a:lnTo>
                        <a:pt x="63" y="55"/>
                      </a:lnTo>
                      <a:lnTo>
                        <a:pt x="116" y="0"/>
                      </a:lnTo>
                      <a:lnTo>
                        <a:pt x="104" y="46"/>
                      </a:lnTo>
                      <a:lnTo>
                        <a:pt x="129" y="90"/>
                      </a:lnTo>
                      <a:lnTo>
                        <a:pt x="129" y="147"/>
                      </a:lnTo>
                      <a:lnTo>
                        <a:pt x="104" y="199"/>
                      </a:lnTo>
                      <a:lnTo>
                        <a:pt x="116" y="136"/>
                      </a:lnTo>
                      <a:lnTo>
                        <a:pt x="113" y="105"/>
                      </a:lnTo>
                      <a:lnTo>
                        <a:pt x="83" y="76"/>
                      </a:lnTo>
                      <a:lnTo>
                        <a:pt x="69" y="109"/>
                      </a:lnTo>
                      <a:lnTo>
                        <a:pt x="92" y="147"/>
                      </a:lnTo>
                      <a:lnTo>
                        <a:pt x="83" y="184"/>
                      </a:lnTo>
                      <a:lnTo>
                        <a:pt x="54" y="199"/>
                      </a:lnTo>
                      <a:lnTo>
                        <a:pt x="37" y="228"/>
                      </a:lnTo>
                      <a:lnTo>
                        <a:pt x="19" y="292"/>
                      </a:lnTo>
                      <a:lnTo>
                        <a:pt x="17" y="237"/>
                      </a:lnTo>
                      <a:lnTo>
                        <a:pt x="30" y="184"/>
                      </a:lnTo>
                      <a:lnTo>
                        <a:pt x="19" y="164"/>
                      </a:lnTo>
                      <a:lnTo>
                        <a:pt x="0" y="143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7823880" y="478764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9" h="63">
                      <a:moveTo>
                        <a:pt x="0" y="14"/>
                      </a:moveTo>
                      <a:lnTo>
                        <a:pt x="16" y="46"/>
                      </a:lnTo>
                      <a:lnTo>
                        <a:pt x="42" y="63"/>
                      </a:lnTo>
                      <a:lnTo>
                        <a:pt x="81" y="50"/>
                      </a:lnTo>
                      <a:lnTo>
                        <a:pt x="99" y="32"/>
                      </a:lnTo>
                      <a:lnTo>
                        <a:pt x="99" y="0"/>
                      </a:lnTo>
                      <a:lnTo>
                        <a:pt x="64" y="4"/>
                      </a:lnTo>
                      <a:lnTo>
                        <a:pt x="69" y="21"/>
                      </a:lnTo>
                      <a:lnTo>
                        <a:pt x="53" y="35"/>
                      </a:lnTo>
                      <a:lnTo>
                        <a:pt x="42" y="26"/>
                      </a:lnTo>
                      <a:lnTo>
                        <a:pt x="37" y="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7859160" y="4781880"/>
                  <a:ext cx="7200" cy="6840"/>
                </a:xfrm>
                <a:custGeom>
                  <a:avLst/>
                  <a:gdLst/>
                  <a:ahLst/>
                  <a:rect l="l" t="t" r="r" b="b"/>
                  <a:pathLst>
                    <a:path w="92" h="61">
                      <a:moveTo>
                        <a:pt x="0" y="17"/>
                      </a:moveTo>
                      <a:lnTo>
                        <a:pt x="9" y="55"/>
                      </a:lnTo>
                      <a:lnTo>
                        <a:pt x="42" y="61"/>
                      </a:lnTo>
                      <a:lnTo>
                        <a:pt x="74" y="51"/>
                      </a:lnTo>
                      <a:lnTo>
                        <a:pt x="92" y="31"/>
                      </a:lnTo>
                      <a:lnTo>
                        <a:pt x="86" y="0"/>
                      </a:lnTo>
                      <a:lnTo>
                        <a:pt x="64" y="0"/>
                      </a:lnTo>
                      <a:lnTo>
                        <a:pt x="60" y="33"/>
                      </a:lnTo>
                      <a:lnTo>
                        <a:pt x="37" y="33"/>
                      </a:lnTo>
                      <a:lnTo>
                        <a:pt x="27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7833240" y="4810680"/>
                  <a:ext cx="30960" cy="21240"/>
                </a:xfrm>
                <a:custGeom>
                  <a:avLst/>
                  <a:gdLst/>
                  <a:ahLst/>
                  <a:rect l="l" t="t" r="r" b="b"/>
                  <a:pathLst>
                    <a:path w="374" h="198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0" y="79"/>
                      </a:lnTo>
                      <a:lnTo>
                        <a:pt x="26" y="90"/>
                      </a:lnTo>
                      <a:lnTo>
                        <a:pt x="46" y="132"/>
                      </a:lnTo>
                      <a:lnTo>
                        <a:pt x="127" y="163"/>
                      </a:lnTo>
                      <a:lnTo>
                        <a:pt x="199" y="198"/>
                      </a:lnTo>
                      <a:lnTo>
                        <a:pt x="235" y="198"/>
                      </a:lnTo>
                      <a:lnTo>
                        <a:pt x="305" y="120"/>
                      </a:lnTo>
                      <a:lnTo>
                        <a:pt x="360" y="90"/>
                      </a:lnTo>
                      <a:lnTo>
                        <a:pt x="374" y="37"/>
                      </a:lnTo>
                      <a:lnTo>
                        <a:pt x="365" y="22"/>
                      </a:lnTo>
                      <a:lnTo>
                        <a:pt x="342" y="0"/>
                      </a:lnTo>
                      <a:lnTo>
                        <a:pt x="354" y="25"/>
                      </a:lnTo>
                      <a:lnTo>
                        <a:pt x="347" y="46"/>
                      </a:lnTo>
                      <a:lnTo>
                        <a:pt x="325" y="46"/>
                      </a:lnTo>
                      <a:lnTo>
                        <a:pt x="285" y="69"/>
                      </a:lnTo>
                      <a:lnTo>
                        <a:pt x="261" y="97"/>
                      </a:lnTo>
                      <a:lnTo>
                        <a:pt x="235" y="120"/>
                      </a:lnTo>
                      <a:lnTo>
                        <a:pt x="187" y="127"/>
                      </a:lnTo>
                      <a:lnTo>
                        <a:pt x="141" y="117"/>
                      </a:lnTo>
                      <a:lnTo>
                        <a:pt x="107" y="97"/>
                      </a:lnTo>
                      <a:lnTo>
                        <a:pt x="63" y="79"/>
                      </a:lnTo>
                      <a:lnTo>
                        <a:pt x="26" y="79"/>
                      </a:lnTo>
                      <a:lnTo>
                        <a:pt x="8" y="60"/>
                      </a:lnTo>
                      <a:lnTo>
                        <a:pt x="15" y="3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7830360" y="4830840"/>
                  <a:ext cx="42840" cy="9360"/>
                </a:xfrm>
                <a:custGeom>
                  <a:avLst/>
                  <a:gdLst/>
                  <a:ahLst/>
                  <a:rect l="l" t="t" r="r" b="b"/>
                  <a:pathLst>
                    <a:path w="520" h="90">
                      <a:moveTo>
                        <a:pt x="48" y="60"/>
                      </a:moveTo>
                      <a:lnTo>
                        <a:pt x="101" y="40"/>
                      </a:lnTo>
                      <a:lnTo>
                        <a:pt x="174" y="23"/>
                      </a:lnTo>
                      <a:lnTo>
                        <a:pt x="259" y="24"/>
                      </a:lnTo>
                      <a:lnTo>
                        <a:pt x="343" y="7"/>
                      </a:lnTo>
                      <a:lnTo>
                        <a:pt x="488" y="23"/>
                      </a:lnTo>
                      <a:lnTo>
                        <a:pt x="511" y="0"/>
                      </a:lnTo>
                      <a:lnTo>
                        <a:pt x="520" y="31"/>
                      </a:lnTo>
                      <a:lnTo>
                        <a:pt x="501" y="46"/>
                      </a:lnTo>
                      <a:lnTo>
                        <a:pt x="477" y="31"/>
                      </a:lnTo>
                      <a:lnTo>
                        <a:pt x="417" y="24"/>
                      </a:lnTo>
                      <a:lnTo>
                        <a:pt x="327" y="46"/>
                      </a:lnTo>
                      <a:lnTo>
                        <a:pt x="253" y="64"/>
                      </a:lnTo>
                      <a:lnTo>
                        <a:pt x="128" y="60"/>
                      </a:lnTo>
                      <a:lnTo>
                        <a:pt x="41" y="70"/>
                      </a:lnTo>
                      <a:lnTo>
                        <a:pt x="20" y="90"/>
                      </a:lnTo>
                      <a:lnTo>
                        <a:pt x="0" y="79"/>
                      </a:lnTo>
                      <a:lnTo>
                        <a:pt x="4" y="53"/>
                      </a:lnTo>
                      <a:lnTo>
                        <a:pt x="27" y="46"/>
                      </a:lnTo>
                      <a:lnTo>
                        <a:pt x="48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7839720" y="4843080"/>
                  <a:ext cx="23760" cy="10080"/>
                </a:xfrm>
                <a:custGeom>
                  <a:avLst/>
                  <a:gdLst/>
                  <a:ahLst/>
                  <a:rect l="l" t="t" r="r" b="b"/>
                  <a:pathLst>
                    <a:path w="286" h="94">
                      <a:moveTo>
                        <a:pt x="0" y="22"/>
                      </a:moveTo>
                      <a:lnTo>
                        <a:pt x="64" y="31"/>
                      </a:lnTo>
                      <a:lnTo>
                        <a:pt x="123" y="31"/>
                      </a:lnTo>
                      <a:lnTo>
                        <a:pt x="194" y="26"/>
                      </a:lnTo>
                      <a:lnTo>
                        <a:pt x="286" y="0"/>
                      </a:lnTo>
                      <a:lnTo>
                        <a:pt x="231" y="46"/>
                      </a:lnTo>
                      <a:lnTo>
                        <a:pt x="244" y="83"/>
                      </a:lnTo>
                      <a:lnTo>
                        <a:pt x="171" y="83"/>
                      </a:lnTo>
                      <a:lnTo>
                        <a:pt x="64" y="94"/>
                      </a:lnTo>
                      <a:lnTo>
                        <a:pt x="70" y="63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7809840" y="4809240"/>
                  <a:ext cx="75600" cy="64080"/>
                </a:xfrm>
                <a:custGeom>
                  <a:avLst/>
                  <a:gdLst/>
                  <a:ahLst/>
                  <a:rect l="l" t="t" r="r" b="b"/>
                  <a:pathLst>
                    <a:path w="911" h="609">
                      <a:moveTo>
                        <a:pt x="0" y="83"/>
                      </a:moveTo>
                      <a:lnTo>
                        <a:pt x="96" y="339"/>
                      </a:lnTo>
                      <a:lnTo>
                        <a:pt x="157" y="438"/>
                      </a:lnTo>
                      <a:lnTo>
                        <a:pt x="226" y="498"/>
                      </a:lnTo>
                      <a:lnTo>
                        <a:pt x="304" y="546"/>
                      </a:lnTo>
                      <a:lnTo>
                        <a:pt x="394" y="576"/>
                      </a:lnTo>
                      <a:lnTo>
                        <a:pt x="487" y="609"/>
                      </a:lnTo>
                      <a:lnTo>
                        <a:pt x="570" y="609"/>
                      </a:lnTo>
                      <a:lnTo>
                        <a:pt x="669" y="581"/>
                      </a:lnTo>
                      <a:lnTo>
                        <a:pt x="735" y="535"/>
                      </a:lnTo>
                      <a:lnTo>
                        <a:pt x="793" y="464"/>
                      </a:lnTo>
                      <a:lnTo>
                        <a:pt x="848" y="374"/>
                      </a:lnTo>
                      <a:lnTo>
                        <a:pt x="883" y="288"/>
                      </a:lnTo>
                      <a:lnTo>
                        <a:pt x="898" y="183"/>
                      </a:lnTo>
                      <a:lnTo>
                        <a:pt x="911" y="0"/>
                      </a:lnTo>
                      <a:lnTo>
                        <a:pt x="892" y="14"/>
                      </a:lnTo>
                      <a:lnTo>
                        <a:pt x="869" y="265"/>
                      </a:lnTo>
                      <a:lnTo>
                        <a:pt x="839" y="353"/>
                      </a:lnTo>
                      <a:lnTo>
                        <a:pt x="793" y="434"/>
                      </a:lnTo>
                      <a:lnTo>
                        <a:pt x="724" y="517"/>
                      </a:lnTo>
                      <a:lnTo>
                        <a:pt x="659" y="558"/>
                      </a:lnTo>
                      <a:lnTo>
                        <a:pt x="659" y="528"/>
                      </a:lnTo>
                      <a:lnTo>
                        <a:pt x="595" y="551"/>
                      </a:lnTo>
                      <a:lnTo>
                        <a:pt x="511" y="557"/>
                      </a:lnTo>
                      <a:lnTo>
                        <a:pt x="450" y="551"/>
                      </a:lnTo>
                      <a:lnTo>
                        <a:pt x="392" y="528"/>
                      </a:lnTo>
                      <a:lnTo>
                        <a:pt x="408" y="558"/>
                      </a:lnTo>
                      <a:lnTo>
                        <a:pt x="293" y="524"/>
                      </a:lnTo>
                      <a:lnTo>
                        <a:pt x="203" y="445"/>
                      </a:lnTo>
                      <a:lnTo>
                        <a:pt x="138" y="368"/>
                      </a:lnTo>
                      <a:lnTo>
                        <a:pt x="90" y="279"/>
                      </a:lnTo>
                      <a:lnTo>
                        <a:pt x="10" y="74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7816680" y="4818240"/>
                  <a:ext cx="15120" cy="29520"/>
                </a:xfrm>
                <a:custGeom>
                  <a:avLst/>
                  <a:gdLst/>
                  <a:ahLst/>
                  <a:rect l="l" t="t" r="r" b="b"/>
                  <a:pathLst>
                    <a:path w="187" h="278">
                      <a:moveTo>
                        <a:pt x="22" y="58"/>
                      </a:moveTo>
                      <a:lnTo>
                        <a:pt x="97" y="53"/>
                      </a:lnTo>
                      <a:lnTo>
                        <a:pt x="134" y="36"/>
                      </a:lnTo>
                      <a:lnTo>
                        <a:pt x="187" y="0"/>
                      </a:lnTo>
                      <a:lnTo>
                        <a:pt x="157" y="58"/>
                      </a:lnTo>
                      <a:lnTo>
                        <a:pt x="111" y="117"/>
                      </a:lnTo>
                      <a:lnTo>
                        <a:pt x="118" y="181"/>
                      </a:lnTo>
                      <a:lnTo>
                        <a:pt x="163" y="278"/>
                      </a:lnTo>
                      <a:lnTo>
                        <a:pt x="111" y="207"/>
                      </a:lnTo>
                      <a:lnTo>
                        <a:pt x="77" y="133"/>
                      </a:lnTo>
                      <a:lnTo>
                        <a:pt x="40" y="117"/>
                      </a:lnTo>
                      <a:lnTo>
                        <a:pt x="0" y="64"/>
                      </a:lnTo>
                      <a:lnTo>
                        <a:pt x="2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7865640" y="4814280"/>
                  <a:ext cx="12960" cy="23760"/>
                </a:xfrm>
                <a:custGeom>
                  <a:avLst/>
                  <a:gdLst/>
                  <a:ahLst/>
                  <a:rect l="l" t="t" r="r" b="b"/>
                  <a:pathLst>
                    <a:path w="156" h="222">
                      <a:moveTo>
                        <a:pt x="0" y="0"/>
                      </a:moveTo>
                      <a:lnTo>
                        <a:pt x="31" y="29"/>
                      </a:lnTo>
                      <a:lnTo>
                        <a:pt x="94" y="68"/>
                      </a:lnTo>
                      <a:lnTo>
                        <a:pt x="112" y="94"/>
                      </a:lnTo>
                      <a:lnTo>
                        <a:pt x="124" y="140"/>
                      </a:lnTo>
                      <a:lnTo>
                        <a:pt x="117" y="222"/>
                      </a:lnTo>
                      <a:lnTo>
                        <a:pt x="134" y="136"/>
                      </a:lnTo>
                      <a:lnTo>
                        <a:pt x="156" y="46"/>
                      </a:lnTo>
                      <a:lnTo>
                        <a:pt x="156" y="9"/>
                      </a:lnTo>
                      <a:lnTo>
                        <a:pt x="88" y="13"/>
                      </a:lnTo>
                      <a:lnTo>
                        <a:pt x="3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8046000" y="4943880"/>
                  <a:ext cx="54360" cy="30240"/>
                </a:xfrm>
                <a:custGeom>
                  <a:avLst/>
                  <a:gdLst/>
                  <a:ahLst/>
                  <a:rect l="l" t="t" r="r" b="b"/>
                  <a:pathLst>
                    <a:path w="652" h="291">
                      <a:moveTo>
                        <a:pt x="50" y="0"/>
                      </a:moveTo>
                      <a:lnTo>
                        <a:pt x="59" y="44"/>
                      </a:lnTo>
                      <a:lnTo>
                        <a:pt x="59" y="85"/>
                      </a:lnTo>
                      <a:lnTo>
                        <a:pt x="34" y="126"/>
                      </a:lnTo>
                      <a:lnTo>
                        <a:pt x="0" y="152"/>
                      </a:lnTo>
                      <a:lnTo>
                        <a:pt x="136" y="291"/>
                      </a:lnTo>
                      <a:lnTo>
                        <a:pt x="294" y="192"/>
                      </a:lnTo>
                      <a:lnTo>
                        <a:pt x="384" y="291"/>
                      </a:lnTo>
                      <a:lnTo>
                        <a:pt x="452" y="233"/>
                      </a:lnTo>
                      <a:lnTo>
                        <a:pt x="583" y="152"/>
                      </a:lnTo>
                      <a:lnTo>
                        <a:pt x="652" y="69"/>
                      </a:lnTo>
                      <a:lnTo>
                        <a:pt x="553" y="152"/>
                      </a:lnTo>
                      <a:lnTo>
                        <a:pt x="410" y="210"/>
                      </a:lnTo>
                      <a:lnTo>
                        <a:pt x="343" y="159"/>
                      </a:lnTo>
                      <a:lnTo>
                        <a:pt x="184" y="159"/>
                      </a:lnTo>
                      <a:lnTo>
                        <a:pt x="94" y="9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8067960" y="4820040"/>
                  <a:ext cx="34920" cy="46440"/>
                </a:xfrm>
                <a:custGeom>
                  <a:avLst/>
                  <a:gdLst/>
                  <a:ahLst/>
                  <a:rect l="l" t="t" r="r" b="b"/>
                  <a:pathLst>
                    <a:path w="419" h="442">
                      <a:moveTo>
                        <a:pt x="36" y="0"/>
                      </a:moveTo>
                      <a:lnTo>
                        <a:pt x="134" y="35"/>
                      </a:lnTo>
                      <a:lnTo>
                        <a:pt x="260" y="13"/>
                      </a:lnTo>
                      <a:lnTo>
                        <a:pt x="382" y="42"/>
                      </a:lnTo>
                      <a:lnTo>
                        <a:pt x="396" y="0"/>
                      </a:lnTo>
                      <a:lnTo>
                        <a:pt x="419" y="92"/>
                      </a:lnTo>
                      <a:lnTo>
                        <a:pt x="419" y="189"/>
                      </a:lnTo>
                      <a:lnTo>
                        <a:pt x="403" y="334"/>
                      </a:lnTo>
                      <a:lnTo>
                        <a:pt x="373" y="442"/>
                      </a:lnTo>
                      <a:lnTo>
                        <a:pt x="396" y="316"/>
                      </a:lnTo>
                      <a:lnTo>
                        <a:pt x="396" y="260"/>
                      </a:lnTo>
                      <a:lnTo>
                        <a:pt x="290" y="327"/>
                      </a:lnTo>
                      <a:lnTo>
                        <a:pt x="269" y="327"/>
                      </a:lnTo>
                      <a:lnTo>
                        <a:pt x="260" y="308"/>
                      </a:lnTo>
                      <a:lnTo>
                        <a:pt x="359" y="202"/>
                      </a:lnTo>
                      <a:lnTo>
                        <a:pt x="352" y="145"/>
                      </a:lnTo>
                      <a:lnTo>
                        <a:pt x="246" y="214"/>
                      </a:lnTo>
                      <a:lnTo>
                        <a:pt x="274" y="165"/>
                      </a:lnTo>
                      <a:lnTo>
                        <a:pt x="260" y="154"/>
                      </a:lnTo>
                      <a:lnTo>
                        <a:pt x="253" y="110"/>
                      </a:lnTo>
                      <a:lnTo>
                        <a:pt x="218" y="110"/>
                      </a:lnTo>
                      <a:lnTo>
                        <a:pt x="154" y="175"/>
                      </a:lnTo>
                      <a:lnTo>
                        <a:pt x="134" y="175"/>
                      </a:lnTo>
                      <a:lnTo>
                        <a:pt x="134" y="141"/>
                      </a:lnTo>
                      <a:lnTo>
                        <a:pt x="163" y="103"/>
                      </a:lnTo>
                      <a:lnTo>
                        <a:pt x="62" y="79"/>
                      </a:lnTo>
                      <a:lnTo>
                        <a:pt x="62" y="117"/>
                      </a:lnTo>
                      <a:lnTo>
                        <a:pt x="90" y="161"/>
                      </a:lnTo>
                      <a:lnTo>
                        <a:pt x="29" y="117"/>
                      </a:lnTo>
                      <a:lnTo>
                        <a:pt x="0" y="55"/>
                      </a:lnTo>
                      <a:lnTo>
                        <a:pt x="7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8077320" y="4840560"/>
                  <a:ext cx="8280" cy="5760"/>
                </a:xfrm>
                <a:custGeom>
                  <a:avLst/>
                  <a:gdLst/>
                  <a:ahLst/>
                  <a:rect l="l" t="t" r="r" b="b"/>
                  <a:pathLst>
                    <a:path w="96" h="60">
                      <a:moveTo>
                        <a:pt x="13" y="0"/>
                      </a:moveTo>
                      <a:lnTo>
                        <a:pt x="96" y="35"/>
                      </a:lnTo>
                      <a:lnTo>
                        <a:pt x="96" y="57"/>
                      </a:lnTo>
                      <a:lnTo>
                        <a:pt x="72" y="60"/>
                      </a:lnTo>
                      <a:lnTo>
                        <a:pt x="4" y="29"/>
                      </a:lnTo>
                      <a:lnTo>
                        <a:pt x="0" y="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8103600" y="4793040"/>
                  <a:ext cx="54360" cy="50400"/>
                </a:xfrm>
                <a:custGeom>
                  <a:avLst/>
                  <a:gdLst/>
                  <a:ahLst/>
                  <a:rect l="l" t="t" r="r" b="b"/>
                  <a:pathLst>
                    <a:path w="655" h="483">
                      <a:moveTo>
                        <a:pt x="0" y="132"/>
                      </a:moveTo>
                      <a:lnTo>
                        <a:pt x="41" y="279"/>
                      </a:lnTo>
                      <a:lnTo>
                        <a:pt x="103" y="351"/>
                      </a:lnTo>
                      <a:lnTo>
                        <a:pt x="103" y="473"/>
                      </a:lnTo>
                      <a:lnTo>
                        <a:pt x="161" y="362"/>
                      </a:lnTo>
                      <a:lnTo>
                        <a:pt x="364" y="483"/>
                      </a:lnTo>
                      <a:lnTo>
                        <a:pt x="521" y="376"/>
                      </a:lnTo>
                      <a:lnTo>
                        <a:pt x="352" y="376"/>
                      </a:lnTo>
                      <a:lnTo>
                        <a:pt x="297" y="356"/>
                      </a:lnTo>
                      <a:lnTo>
                        <a:pt x="224" y="356"/>
                      </a:lnTo>
                      <a:lnTo>
                        <a:pt x="217" y="332"/>
                      </a:lnTo>
                      <a:lnTo>
                        <a:pt x="329" y="314"/>
                      </a:lnTo>
                      <a:lnTo>
                        <a:pt x="329" y="259"/>
                      </a:lnTo>
                      <a:lnTo>
                        <a:pt x="391" y="224"/>
                      </a:lnTo>
                      <a:lnTo>
                        <a:pt x="323" y="224"/>
                      </a:lnTo>
                      <a:lnTo>
                        <a:pt x="308" y="208"/>
                      </a:lnTo>
                      <a:lnTo>
                        <a:pt x="426" y="160"/>
                      </a:lnTo>
                      <a:lnTo>
                        <a:pt x="479" y="107"/>
                      </a:lnTo>
                      <a:lnTo>
                        <a:pt x="631" y="169"/>
                      </a:lnTo>
                      <a:lnTo>
                        <a:pt x="655" y="160"/>
                      </a:lnTo>
                      <a:lnTo>
                        <a:pt x="527" y="0"/>
                      </a:lnTo>
                      <a:lnTo>
                        <a:pt x="479" y="0"/>
                      </a:lnTo>
                      <a:lnTo>
                        <a:pt x="290" y="99"/>
                      </a:lnTo>
                      <a:lnTo>
                        <a:pt x="140" y="187"/>
                      </a:lnTo>
                      <a:lnTo>
                        <a:pt x="134" y="238"/>
                      </a:lnTo>
                      <a:lnTo>
                        <a:pt x="90" y="245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8134200" y="481644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191" h="81">
                      <a:moveTo>
                        <a:pt x="0" y="0"/>
                      </a:moveTo>
                      <a:lnTo>
                        <a:pt x="34" y="65"/>
                      </a:lnTo>
                      <a:lnTo>
                        <a:pt x="20" y="81"/>
                      </a:lnTo>
                      <a:lnTo>
                        <a:pt x="176" y="72"/>
                      </a:lnTo>
                      <a:lnTo>
                        <a:pt x="191" y="50"/>
                      </a:lnTo>
                      <a:lnTo>
                        <a:pt x="101" y="0"/>
                      </a:lnTo>
                      <a:lnTo>
                        <a:pt x="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8098920" y="4867560"/>
                  <a:ext cx="32400" cy="24480"/>
                </a:xfrm>
                <a:custGeom>
                  <a:avLst/>
                  <a:gdLst/>
                  <a:ahLst/>
                  <a:rect l="l" t="t" r="r" b="b"/>
                  <a:pathLst>
                    <a:path w="396" h="226">
                      <a:moveTo>
                        <a:pt x="0" y="41"/>
                      </a:moveTo>
                      <a:lnTo>
                        <a:pt x="69" y="83"/>
                      </a:lnTo>
                      <a:lnTo>
                        <a:pt x="136" y="83"/>
                      </a:lnTo>
                      <a:lnTo>
                        <a:pt x="228" y="14"/>
                      </a:lnTo>
                      <a:lnTo>
                        <a:pt x="297" y="0"/>
                      </a:lnTo>
                      <a:lnTo>
                        <a:pt x="302" y="14"/>
                      </a:lnTo>
                      <a:lnTo>
                        <a:pt x="339" y="26"/>
                      </a:lnTo>
                      <a:lnTo>
                        <a:pt x="396" y="14"/>
                      </a:lnTo>
                      <a:lnTo>
                        <a:pt x="359" y="63"/>
                      </a:lnTo>
                      <a:lnTo>
                        <a:pt x="219" y="109"/>
                      </a:lnTo>
                      <a:lnTo>
                        <a:pt x="214" y="180"/>
                      </a:lnTo>
                      <a:lnTo>
                        <a:pt x="168" y="226"/>
                      </a:lnTo>
                      <a:lnTo>
                        <a:pt x="99" y="118"/>
                      </a:lnTo>
                      <a:lnTo>
                        <a:pt x="46" y="104"/>
                      </a:lnTo>
                      <a:lnTo>
                        <a:pt x="0" y="6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8116920" y="4854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155" h="58">
                      <a:moveTo>
                        <a:pt x="0" y="58"/>
                      </a:moveTo>
                      <a:lnTo>
                        <a:pt x="106" y="32"/>
                      </a:lnTo>
                      <a:lnTo>
                        <a:pt x="155" y="44"/>
                      </a:lnTo>
                      <a:lnTo>
                        <a:pt x="106" y="0"/>
                      </a:lnTo>
                      <a:lnTo>
                        <a:pt x="41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8131680" y="4862520"/>
                  <a:ext cx="27000" cy="48240"/>
                </a:xfrm>
                <a:custGeom>
                  <a:avLst/>
                  <a:gdLst/>
                  <a:ahLst/>
                  <a:rect l="l" t="t" r="r" b="b"/>
                  <a:pathLst>
                    <a:path w="323" h="453">
                      <a:moveTo>
                        <a:pt x="0" y="0"/>
                      </a:moveTo>
                      <a:lnTo>
                        <a:pt x="7" y="54"/>
                      </a:lnTo>
                      <a:lnTo>
                        <a:pt x="84" y="119"/>
                      </a:lnTo>
                      <a:lnTo>
                        <a:pt x="169" y="229"/>
                      </a:lnTo>
                      <a:lnTo>
                        <a:pt x="99" y="275"/>
                      </a:lnTo>
                      <a:lnTo>
                        <a:pt x="209" y="453"/>
                      </a:lnTo>
                      <a:lnTo>
                        <a:pt x="282" y="453"/>
                      </a:lnTo>
                      <a:lnTo>
                        <a:pt x="323" y="299"/>
                      </a:lnTo>
                      <a:lnTo>
                        <a:pt x="308" y="250"/>
                      </a:lnTo>
                      <a:lnTo>
                        <a:pt x="224" y="222"/>
                      </a:lnTo>
                      <a:lnTo>
                        <a:pt x="205" y="119"/>
                      </a:lnTo>
                      <a:lnTo>
                        <a:pt x="104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8074440" y="4844520"/>
                  <a:ext cx="33480" cy="87840"/>
                </a:xfrm>
                <a:custGeom>
                  <a:avLst/>
                  <a:gdLst/>
                  <a:ahLst/>
                  <a:rect l="l" t="t" r="r" b="b"/>
                  <a:pathLst>
                    <a:path w="411" h="827">
                      <a:moveTo>
                        <a:pt x="290" y="272"/>
                      </a:moveTo>
                      <a:lnTo>
                        <a:pt x="197" y="272"/>
                      </a:lnTo>
                      <a:lnTo>
                        <a:pt x="121" y="230"/>
                      </a:lnTo>
                      <a:lnTo>
                        <a:pt x="51" y="167"/>
                      </a:lnTo>
                      <a:lnTo>
                        <a:pt x="0" y="0"/>
                      </a:lnTo>
                      <a:lnTo>
                        <a:pt x="29" y="193"/>
                      </a:lnTo>
                      <a:lnTo>
                        <a:pt x="160" y="378"/>
                      </a:lnTo>
                      <a:lnTo>
                        <a:pt x="282" y="629"/>
                      </a:lnTo>
                      <a:lnTo>
                        <a:pt x="342" y="708"/>
                      </a:lnTo>
                      <a:lnTo>
                        <a:pt x="395" y="827"/>
                      </a:lnTo>
                      <a:lnTo>
                        <a:pt x="354" y="636"/>
                      </a:lnTo>
                      <a:lnTo>
                        <a:pt x="411" y="609"/>
                      </a:lnTo>
                      <a:lnTo>
                        <a:pt x="354" y="565"/>
                      </a:lnTo>
                      <a:lnTo>
                        <a:pt x="354" y="530"/>
                      </a:lnTo>
                      <a:lnTo>
                        <a:pt x="386" y="507"/>
                      </a:lnTo>
                      <a:lnTo>
                        <a:pt x="319" y="523"/>
                      </a:lnTo>
                      <a:lnTo>
                        <a:pt x="282" y="507"/>
                      </a:lnTo>
                      <a:lnTo>
                        <a:pt x="268" y="466"/>
                      </a:lnTo>
                      <a:lnTo>
                        <a:pt x="268" y="356"/>
                      </a:lnTo>
                      <a:lnTo>
                        <a:pt x="290" y="2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8110440" y="4890240"/>
                  <a:ext cx="30960" cy="7560"/>
                </a:xfrm>
                <a:custGeom>
                  <a:avLst/>
                  <a:gdLst/>
                  <a:ahLst/>
                  <a:rect l="l" t="t" r="r" b="b"/>
                  <a:pathLst>
                    <a:path w="381" h="76">
                      <a:moveTo>
                        <a:pt x="0" y="76"/>
                      </a:moveTo>
                      <a:lnTo>
                        <a:pt x="175" y="40"/>
                      </a:lnTo>
                      <a:lnTo>
                        <a:pt x="260" y="0"/>
                      </a:lnTo>
                      <a:lnTo>
                        <a:pt x="313" y="0"/>
                      </a:lnTo>
                      <a:lnTo>
                        <a:pt x="381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8112960" y="4900680"/>
                  <a:ext cx="25560" cy="20160"/>
                </a:xfrm>
                <a:custGeom>
                  <a:avLst/>
                  <a:gdLst/>
                  <a:ahLst/>
                  <a:rect l="l" t="t" r="r" b="b"/>
                  <a:pathLst>
                    <a:path w="316" h="191">
                      <a:moveTo>
                        <a:pt x="0" y="79"/>
                      </a:moveTo>
                      <a:lnTo>
                        <a:pt x="242" y="26"/>
                      </a:lnTo>
                      <a:lnTo>
                        <a:pt x="295" y="0"/>
                      </a:lnTo>
                      <a:lnTo>
                        <a:pt x="303" y="19"/>
                      </a:lnTo>
                      <a:lnTo>
                        <a:pt x="219" y="64"/>
                      </a:lnTo>
                      <a:lnTo>
                        <a:pt x="235" y="112"/>
                      </a:lnTo>
                      <a:lnTo>
                        <a:pt x="316" y="191"/>
                      </a:lnTo>
                      <a:lnTo>
                        <a:pt x="228" y="162"/>
                      </a:lnTo>
                      <a:lnTo>
                        <a:pt x="150" y="162"/>
                      </a:lnTo>
                      <a:lnTo>
                        <a:pt x="72" y="182"/>
                      </a:lnTo>
                      <a:lnTo>
                        <a:pt x="46" y="191"/>
                      </a:lnTo>
                      <a:lnTo>
                        <a:pt x="60" y="156"/>
                      </a:lnTo>
                      <a:lnTo>
                        <a:pt x="24" y="99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8047440" y="4713120"/>
                  <a:ext cx="141840" cy="109080"/>
                </a:xfrm>
                <a:custGeom>
                  <a:avLst/>
                  <a:gdLst/>
                  <a:ahLst/>
                  <a:rect l="l" t="t" r="r" b="b"/>
                  <a:pathLst>
                    <a:path w="1704" h="1028">
                      <a:moveTo>
                        <a:pt x="159" y="340"/>
                      </a:moveTo>
                      <a:lnTo>
                        <a:pt x="122" y="404"/>
                      </a:lnTo>
                      <a:lnTo>
                        <a:pt x="0" y="551"/>
                      </a:lnTo>
                      <a:lnTo>
                        <a:pt x="0" y="609"/>
                      </a:lnTo>
                      <a:lnTo>
                        <a:pt x="76" y="749"/>
                      </a:lnTo>
                      <a:lnTo>
                        <a:pt x="48" y="874"/>
                      </a:lnTo>
                      <a:lnTo>
                        <a:pt x="111" y="978"/>
                      </a:lnTo>
                      <a:lnTo>
                        <a:pt x="245" y="987"/>
                      </a:lnTo>
                      <a:lnTo>
                        <a:pt x="286" y="1028"/>
                      </a:lnTo>
                      <a:lnTo>
                        <a:pt x="252" y="692"/>
                      </a:lnTo>
                      <a:lnTo>
                        <a:pt x="252" y="588"/>
                      </a:lnTo>
                      <a:lnTo>
                        <a:pt x="265" y="507"/>
                      </a:lnTo>
                      <a:lnTo>
                        <a:pt x="286" y="457"/>
                      </a:lnTo>
                      <a:lnTo>
                        <a:pt x="408" y="507"/>
                      </a:lnTo>
                      <a:lnTo>
                        <a:pt x="555" y="529"/>
                      </a:lnTo>
                      <a:lnTo>
                        <a:pt x="738" y="529"/>
                      </a:lnTo>
                      <a:lnTo>
                        <a:pt x="966" y="507"/>
                      </a:lnTo>
                      <a:lnTo>
                        <a:pt x="851" y="503"/>
                      </a:lnTo>
                      <a:lnTo>
                        <a:pt x="708" y="434"/>
                      </a:lnTo>
                      <a:lnTo>
                        <a:pt x="865" y="441"/>
                      </a:lnTo>
                      <a:lnTo>
                        <a:pt x="992" y="434"/>
                      </a:lnTo>
                      <a:lnTo>
                        <a:pt x="1162" y="397"/>
                      </a:lnTo>
                      <a:lnTo>
                        <a:pt x="1280" y="349"/>
                      </a:lnTo>
                      <a:lnTo>
                        <a:pt x="1441" y="334"/>
                      </a:lnTo>
                      <a:lnTo>
                        <a:pt x="1513" y="362"/>
                      </a:lnTo>
                      <a:lnTo>
                        <a:pt x="1586" y="397"/>
                      </a:lnTo>
                      <a:lnTo>
                        <a:pt x="1644" y="397"/>
                      </a:lnTo>
                      <a:lnTo>
                        <a:pt x="1704" y="362"/>
                      </a:lnTo>
                      <a:lnTo>
                        <a:pt x="1634" y="272"/>
                      </a:lnTo>
                      <a:lnTo>
                        <a:pt x="1526" y="286"/>
                      </a:lnTo>
                      <a:lnTo>
                        <a:pt x="1441" y="259"/>
                      </a:lnTo>
                      <a:lnTo>
                        <a:pt x="1358" y="250"/>
                      </a:lnTo>
                      <a:lnTo>
                        <a:pt x="1280" y="279"/>
                      </a:lnTo>
                      <a:lnTo>
                        <a:pt x="1139" y="340"/>
                      </a:lnTo>
                      <a:lnTo>
                        <a:pt x="1014" y="371"/>
                      </a:lnTo>
                      <a:lnTo>
                        <a:pt x="878" y="378"/>
                      </a:lnTo>
                      <a:lnTo>
                        <a:pt x="766" y="384"/>
                      </a:lnTo>
                      <a:lnTo>
                        <a:pt x="590" y="362"/>
                      </a:lnTo>
                      <a:lnTo>
                        <a:pt x="696" y="334"/>
                      </a:lnTo>
                      <a:lnTo>
                        <a:pt x="570" y="318"/>
                      </a:lnTo>
                      <a:lnTo>
                        <a:pt x="443" y="291"/>
                      </a:lnTo>
                      <a:lnTo>
                        <a:pt x="379" y="265"/>
                      </a:lnTo>
                      <a:lnTo>
                        <a:pt x="482" y="226"/>
                      </a:lnTo>
                      <a:lnTo>
                        <a:pt x="300" y="201"/>
                      </a:lnTo>
                      <a:lnTo>
                        <a:pt x="265" y="173"/>
                      </a:lnTo>
                      <a:lnTo>
                        <a:pt x="258" y="145"/>
                      </a:lnTo>
                      <a:lnTo>
                        <a:pt x="265" y="102"/>
                      </a:lnTo>
                      <a:lnTo>
                        <a:pt x="295" y="54"/>
                      </a:lnTo>
                      <a:lnTo>
                        <a:pt x="373" y="0"/>
                      </a:lnTo>
                      <a:lnTo>
                        <a:pt x="217" y="67"/>
                      </a:lnTo>
                      <a:lnTo>
                        <a:pt x="60" y="164"/>
                      </a:lnTo>
                      <a:lnTo>
                        <a:pt x="69" y="189"/>
                      </a:lnTo>
                      <a:lnTo>
                        <a:pt x="118" y="286"/>
                      </a:lnTo>
                      <a:lnTo>
                        <a:pt x="159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8085960" y="4689720"/>
                  <a:ext cx="137160" cy="278640"/>
                </a:xfrm>
                <a:custGeom>
                  <a:avLst/>
                  <a:gdLst/>
                  <a:ahLst/>
                  <a:rect l="l" t="t" r="r" b="b"/>
                  <a:pathLst>
                    <a:path w="1658" h="2635">
                      <a:moveTo>
                        <a:pt x="7" y="196"/>
                      </a:moveTo>
                      <a:lnTo>
                        <a:pt x="0" y="216"/>
                      </a:lnTo>
                      <a:lnTo>
                        <a:pt x="14" y="231"/>
                      </a:lnTo>
                      <a:lnTo>
                        <a:pt x="58" y="251"/>
                      </a:lnTo>
                      <a:lnTo>
                        <a:pt x="106" y="260"/>
                      </a:lnTo>
                      <a:lnTo>
                        <a:pt x="185" y="260"/>
                      </a:lnTo>
                      <a:lnTo>
                        <a:pt x="291" y="244"/>
                      </a:lnTo>
                      <a:lnTo>
                        <a:pt x="208" y="279"/>
                      </a:lnTo>
                      <a:lnTo>
                        <a:pt x="114" y="292"/>
                      </a:lnTo>
                      <a:lnTo>
                        <a:pt x="35" y="292"/>
                      </a:lnTo>
                      <a:lnTo>
                        <a:pt x="35" y="315"/>
                      </a:lnTo>
                      <a:lnTo>
                        <a:pt x="58" y="341"/>
                      </a:lnTo>
                      <a:lnTo>
                        <a:pt x="114" y="366"/>
                      </a:lnTo>
                      <a:lnTo>
                        <a:pt x="185" y="354"/>
                      </a:lnTo>
                      <a:lnTo>
                        <a:pt x="231" y="385"/>
                      </a:lnTo>
                      <a:lnTo>
                        <a:pt x="226" y="398"/>
                      </a:lnTo>
                      <a:lnTo>
                        <a:pt x="185" y="420"/>
                      </a:lnTo>
                      <a:lnTo>
                        <a:pt x="141" y="426"/>
                      </a:lnTo>
                      <a:lnTo>
                        <a:pt x="220" y="435"/>
                      </a:lnTo>
                      <a:lnTo>
                        <a:pt x="354" y="435"/>
                      </a:lnTo>
                      <a:lnTo>
                        <a:pt x="510" y="414"/>
                      </a:lnTo>
                      <a:lnTo>
                        <a:pt x="611" y="385"/>
                      </a:lnTo>
                      <a:lnTo>
                        <a:pt x="487" y="426"/>
                      </a:lnTo>
                      <a:lnTo>
                        <a:pt x="345" y="456"/>
                      </a:lnTo>
                      <a:lnTo>
                        <a:pt x="244" y="475"/>
                      </a:lnTo>
                      <a:lnTo>
                        <a:pt x="305" y="504"/>
                      </a:lnTo>
                      <a:lnTo>
                        <a:pt x="437" y="523"/>
                      </a:lnTo>
                      <a:lnTo>
                        <a:pt x="543" y="532"/>
                      </a:lnTo>
                      <a:lnTo>
                        <a:pt x="662" y="532"/>
                      </a:lnTo>
                      <a:lnTo>
                        <a:pt x="741" y="511"/>
                      </a:lnTo>
                      <a:lnTo>
                        <a:pt x="625" y="475"/>
                      </a:lnTo>
                      <a:lnTo>
                        <a:pt x="824" y="398"/>
                      </a:lnTo>
                      <a:lnTo>
                        <a:pt x="763" y="370"/>
                      </a:lnTo>
                      <a:lnTo>
                        <a:pt x="875" y="378"/>
                      </a:lnTo>
                      <a:lnTo>
                        <a:pt x="945" y="414"/>
                      </a:lnTo>
                      <a:lnTo>
                        <a:pt x="1029" y="470"/>
                      </a:lnTo>
                      <a:lnTo>
                        <a:pt x="1095" y="511"/>
                      </a:lnTo>
                      <a:lnTo>
                        <a:pt x="1142" y="622"/>
                      </a:lnTo>
                      <a:lnTo>
                        <a:pt x="1204" y="622"/>
                      </a:lnTo>
                      <a:lnTo>
                        <a:pt x="1257" y="609"/>
                      </a:lnTo>
                      <a:lnTo>
                        <a:pt x="1296" y="580"/>
                      </a:lnTo>
                      <a:lnTo>
                        <a:pt x="1331" y="537"/>
                      </a:lnTo>
                      <a:lnTo>
                        <a:pt x="1354" y="511"/>
                      </a:lnTo>
                      <a:lnTo>
                        <a:pt x="1361" y="559"/>
                      </a:lnTo>
                      <a:lnTo>
                        <a:pt x="1347" y="609"/>
                      </a:lnTo>
                      <a:lnTo>
                        <a:pt x="1310" y="651"/>
                      </a:lnTo>
                      <a:lnTo>
                        <a:pt x="1382" y="651"/>
                      </a:lnTo>
                      <a:lnTo>
                        <a:pt x="1446" y="638"/>
                      </a:lnTo>
                      <a:lnTo>
                        <a:pt x="1485" y="651"/>
                      </a:lnTo>
                      <a:lnTo>
                        <a:pt x="1508" y="684"/>
                      </a:lnTo>
                      <a:lnTo>
                        <a:pt x="1523" y="765"/>
                      </a:lnTo>
                      <a:lnTo>
                        <a:pt x="1517" y="936"/>
                      </a:lnTo>
                      <a:lnTo>
                        <a:pt x="1543" y="996"/>
                      </a:lnTo>
                      <a:lnTo>
                        <a:pt x="1580" y="1030"/>
                      </a:lnTo>
                      <a:lnTo>
                        <a:pt x="1591" y="1073"/>
                      </a:lnTo>
                      <a:lnTo>
                        <a:pt x="1559" y="1073"/>
                      </a:lnTo>
                      <a:lnTo>
                        <a:pt x="1469" y="1014"/>
                      </a:lnTo>
                      <a:lnTo>
                        <a:pt x="1354" y="1009"/>
                      </a:lnTo>
                      <a:lnTo>
                        <a:pt x="1287" y="1095"/>
                      </a:lnTo>
                      <a:lnTo>
                        <a:pt x="1268" y="1226"/>
                      </a:lnTo>
                      <a:lnTo>
                        <a:pt x="1340" y="1284"/>
                      </a:lnTo>
                      <a:lnTo>
                        <a:pt x="1319" y="1457"/>
                      </a:lnTo>
                      <a:lnTo>
                        <a:pt x="1361" y="1374"/>
                      </a:lnTo>
                      <a:lnTo>
                        <a:pt x="1460" y="1330"/>
                      </a:lnTo>
                      <a:lnTo>
                        <a:pt x="1422" y="1240"/>
                      </a:lnTo>
                      <a:lnTo>
                        <a:pt x="1340" y="1219"/>
                      </a:lnTo>
                      <a:lnTo>
                        <a:pt x="1409" y="1143"/>
                      </a:lnTo>
                      <a:lnTo>
                        <a:pt x="1508" y="1212"/>
                      </a:lnTo>
                      <a:lnTo>
                        <a:pt x="1479" y="1106"/>
                      </a:lnTo>
                      <a:lnTo>
                        <a:pt x="1517" y="1095"/>
                      </a:lnTo>
                      <a:lnTo>
                        <a:pt x="1422" y="1099"/>
                      </a:lnTo>
                      <a:lnTo>
                        <a:pt x="1303" y="1189"/>
                      </a:lnTo>
                      <a:lnTo>
                        <a:pt x="1319" y="1099"/>
                      </a:lnTo>
                      <a:lnTo>
                        <a:pt x="1367" y="1035"/>
                      </a:lnTo>
                      <a:lnTo>
                        <a:pt x="1460" y="1035"/>
                      </a:lnTo>
                      <a:lnTo>
                        <a:pt x="1559" y="1095"/>
                      </a:lnTo>
                      <a:lnTo>
                        <a:pt x="1564" y="1198"/>
                      </a:lnTo>
                      <a:lnTo>
                        <a:pt x="1543" y="1316"/>
                      </a:lnTo>
                      <a:lnTo>
                        <a:pt x="1469" y="1435"/>
                      </a:lnTo>
                      <a:lnTo>
                        <a:pt x="1446" y="1519"/>
                      </a:lnTo>
                      <a:lnTo>
                        <a:pt x="1361" y="1560"/>
                      </a:lnTo>
                      <a:lnTo>
                        <a:pt x="1296" y="1493"/>
                      </a:lnTo>
                      <a:lnTo>
                        <a:pt x="1220" y="1968"/>
                      </a:lnTo>
                      <a:lnTo>
                        <a:pt x="1163" y="2261"/>
                      </a:lnTo>
                      <a:lnTo>
                        <a:pt x="939" y="2501"/>
                      </a:lnTo>
                      <a:lnTo>
                        <a:pt x="851" y="2635"/>
                      </a:lnTo>
                      <a:lnTo>
                        <a:pt x="958" y="2492"/>
                      </a:lnTo>
                      <a:lnTo>
                        <a:pt x="1257" y="2174"/>
                      </a:lnTo>
                      <a:lnTo>
                        <a:pt x="1446" y="1827"/>
                      </a:lnTo>
                      <a:lnTo>
                        <a:pt x="1430" y="1807"/>
                      </a:lnTo>
                      <a:lnTo>
                        <a:pt x="1382" y="1811"/>
                      </a:lnTo>
                      <a:lnTo>
                        <a:pt x="1384" y="1730"/>
                      </a:lnTo>
                      <a:lnTo>
                        <a:pt x="1494" y="1701"/>
                      </a:lnTo>
                      <a:lnTo>
                        <a:pt x="1494" y="1624"/>
                      </a:lnTo>
                      <a:lnTo>
                        <a:pt x="1591" y="1592"/>
                      </a:lnTo>
                      <a:lnTo>
                        <a:pt x="1619" y="1457"/>
                      </a:lnTo>
                      <a:lnTo>
                        <a:pt x="1658" y="1394"/>
                      </a:lnTo>
                      <a:lnTo>
                        <a:pt x="1580" y="1350"/>
                      </a:lnTo>
                      <a:lnTo>
                        <a:pt x="1573" y="1306"/>
                      </a:lnTo>
                      <a:lnTo>
                        <a:pt x="1591" y="1240"/>
                      </a:lnTo>
                      <a:lnTo>
                        <a:pt x="1591" y="1154"/>
                      </a:lnTo>
                      <a:lnTo>
                        <a:pt x="1580" y="1122"/>
                      </a:lnTo>
                      <a:lnTo>
                        <a:pt x="1642" y="1143"/>
                      </a:lnTo>
                      <a:lnTo>
                        <a:pt x="1619" y="1057"/>
                      </a:lnTo>
                      <a:lnTo>
                        <a:pt x="1564" y="967"/>
                      </a:lnTo>
                      <a:lnTo>
                        <a:pt x="1550" y="897"/>
                      </a:lnTo>
                      <a:lnTo>
                        <a:pt x="1550" y="813"/>
                      </a:lnTo>
                      <a:lnTo>
                        <a:pt x="1543" y="741"/>
                      </a:lnTo>
                      <a:lnTo>
                        <a:pt x="1550" y="700"/>
                      </a:lnTo>
                      <a:lnTo>
                        <a:pt x="1501" y="580"/>
                      </a:lnTo>
                      <a:lnTo>
                        <a:pt x="1418" y="462"/>
                      </a:lnTo>
                      <a:lnTo>
                        <a:pt x="1326" y="389"/>
                      </a:lnTo>
                      <a:lnTo>
                        <a:pt x="1257" y="341"/>
                      </a:lnTo>
                      <a:lnTo>
                        <a:pt x="1227" y="225"/>
                      </a:lnTo>
                      <a:lnTo>
                        <a:pt x="1137" y="147"/>
                      </a:lnTo>
                      <a:lnTo>
                        <a:pt x="1044" y="119"/>
                      </a:lnTo>
                      <a:lnTo>
                        <a:pt x="909" y="40"/>
                      </a:lnTo>
                      <a:lnTo>
                        <a:pt x="747" y="0"/>
                      </a:lnTo>
                      <a:lnTo>
                        <a:pt x="584" y="4"/>
                      </a:lnTo>
                      <a:lnTo>
                        <a:pt x="427" y="36"/>
                      </a:lnTo>
                      <a:lnTo>
                        <a:pt x="298" y="97"/>
                      </a:lnTo>
                      <a:lnTo>
                        <a:pt x="127" y="161"/>
                      </a:lnTo>
                      <a:lnTo>
                        <a:pt x="7" y="1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8150040" y="4746240"/>
                  <a:ext cx="37080" cy="37080"/>
                </a:xfrm>
                <a:custGeom>
                  <a:avLst/>
                  <a:gdLst/>
                  <a:ahLst/>
                  <a:rect l="l" t="t" r="r" b="b"/>
                  <a:pathLst>
                    <a:path w="445" h="358">
                      <a:moveTo>
                        <a:pt x="141" y="27"/>
                      </a:moveTo>
                      <a:lnTo>
                        <a:pt x="69" y="48"/>
                      </a:lnTo>
                      <a:lnTo>
                        <a:pt x="0" y="113"/>
                      </a:lnTo>
                      <a:lnTo>
                        <a:pt x="84" y="113"/>
                      </a:lnTo>
                      <a:lnTo>
                        <a:pt x="42" y="209"/>
                      </a:lnTo>
                      <a:lnTo>
                        <a:pt x="93" y="233"/>
                      </a:lnTo>
                      <a:lnTo>
                        <a:pt x="127" y="358"/>
                      </a:lnTo>
                      <a:lnTo>
                        <a:pt x="115" y="222"/>
                      </a:lnTo>
                      <a:lnTo>
                        <a:pt x="163" y="180"/>
                      </a:lnTo>
                      <a:lnTo>
                        <a:pt x="240" y="161"/>
                      </a:lnTo>
                      <a:lnTo>
                        <a:pt x="316" y="161"/>
                      </a:lnTo>
                      <a:lnTo>
                        <a:pt x="385" y="173"/>
                      </a:lnTo>
                      <a:lnTo>
                        <a:pt x="445" y="209"/>
                      </a:lnTo>
                      <a:lnTo>
                        <a:pt x="374" y="161"/>
                      </a:lnTo>
                      <a:lnTo>
                        <a:pt x="268" y="134"/>
                      </a:lnTo>
                      <a:lnTo>
                        <a:pt x="189" y="134"/>
                      </a:lnTo>
                      <a:lnTo>
                        <a:pt x="99" y="161"/>
                      </a:lnTo>
                      <a:lnTo>
                        <a:pt x="106" y="119"/>
                      </a:lnTo>
                      <a:lnTo>
                        <a:pt x="150" y="90"/>
                      </a:lnTo>
                      <a:lnTo>
                        <a:pt x="62" y="90"/>
                      </a:lnTo>
                      <a:lnTo>
                        <a:pt x="99" y="64"/>
                      </a:lnTo>
                      <a:lnTo>
                        <a:pt x="163" y="33"/>
                      </a:lnTo>
                      <a:lnTo>
                        <a:pt x="219" y="42"/>
                      </a:lnTo>
                      <a:lnTo>
                        <a:pt x="316" y="64"/>
                      </a:lnTo>
                      <a:lnTo>
                        <a:pt x="247" y="20"/>
                      </a:lnTo>
                      <a:lnTo>
                        <a:pt x="163" y="0"/>
                      </a:lnTo>
                      <a:lnTo>
                        <a:pt x="1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8161920" y="4789440"/>
                  <a:ext cx="31680" cy="32040"/>
                </a:xfrm>
                <a:custGeom>
                  <a:avLst/>
                  <a:gdLst/>
                  <a:ahLst/>
                  <a:rect l="l" t="t" r="r" b="b"/>
                  <a:pathLst>
                    <a:path w="387" h="303">
                      <a:moveTo>
                        <a:pt x="22" y="18"/>
                      </a:moveTo>
                      <a:lnTo>
                        <a:pt x="115" y="0"/>
                      </a:lnTo>
                      <a:lnTo>
                        <a:pt x="191" y="18"/>
                      </a:lnTo>
                      <a:lnTo>
                        <a:pt x="244" y="53"/>
                      </a:lnTo>
                      <a:lnTo>
                        <a:pt x="281" y="92"/>
                      </a:lnTo>
                      <a:lnTo>
                        <a:pt x="288" y="138"/>
                      </a:lnTo>
                      <a:lnTo>
                        <a:pt x="281" y="156"/>
                      </a:lnTo>
                      <a:lnTo>
                        <a:pt x="255" y="152"/>
                      </a:lnTo>
                      <a:lnTo>
                        <a:pt x="219" y="130"/>
                      </a:lnTo>
                      <a:lnTo>
                        <a:pt x="175" y="92"/>
                      </a:lnTo>
                      <a:lnTo>
                        <a:pt x="127" y="87"/>
                      </a:lnTo>
                      <a:lnTo>
                        <a:pt x="172" y="152"/>
                      </a:lnTo>
                      <a:lnTo>
                        <a:pt x="191" y="207"/>
                      </a:lnTo>
                      <a:lnTo>
                        <a:pt x="182" y="260"/>
                      </a:lnTo>
                      <a:lnTo>
                        <a:pt x="360" y="290"/>
                      </a:lnTo>
                      <a:lnTo>
                        <a:pt x="387" y="303"/>
                      </a:lnTo>
                      <a:lnTo>
                        <a:pt x="147" y="276"/>
                      </a:lnTo>
                      <a:lnTo>
                        <a:pt x="163" y="239"/>
                      </a:lnTo>
                      <a:lnTo>
                        <a:pt x="156" y="191"/>
                      </a:lnTo>
                      <a:lnTo>
                        <a:pt x="121" y="130"/>
                      </a:lnTo>
                      <a:lnTo>
                        <a:pt x="83" y="87"/>
                      </a:lnTo>
                      <a:lnTo>
                        <a:pt x="16" y="53"/>
                      </a:lnTo>
                      <a:lnTo>
                        <a:pt x="0" y="9"/>
                      </a:lnTo>
                      <a:lnTo>
                        <a:pt x="22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8168760" y="4818240"/>
                  <a:ext cx="17640" cy="33480"/>
                </a:xfrm>
                <a:custGeom>
                  <a:avLst/>
                  <a:gdLst/>
                  <a:ahLst/>
                  <a:rect l="l" t="t" r="r" b="b"/>
                  <a:pathLst>
                    <a:path w="214" h="313">
                      <a:moveTo>
                        <a:pt x="89" y="0"/>
                      </a:moveTo>
                      <a:lnTo>
                        <a:pt x="0" y="179"/>
                      </a:lnTo>
                      <a:lnTo>
                        <a:pt x="9" y="313"/>
                      </a:lnTo>
                      <a:lnTo>
                        <a:pt x="214" y="65"/>
                      </a:lnTo>
                      <a:lnTo>
                        <a:pt x="214" y="14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8109000" y="4903920"/>
                  <a:ext cx="70920" cy="67680"/>
                </a:xfrm>
                <a:custGeom>
                  <a:avLst/>
                  <a:gdLst/>
                  <a:ahLst/>
                  <a:rect l="l" t="t" r="r" b="b"/>
                  <a:pathLst>
                    <a:path w="857" h="640">
                      <a:moveTo>
                        <a:pt x="857" y="0"/>
                      </a:moveTo>
                      <a:lnTo>
                        <a:pt x="749" y="53"/>
                      </a:lnTo>
                      <a:lnTo>
                        <a:pt x="648" y="198"/>
                      </a:lnTo>
                      <a:lnTo>
                        <a:pt x="514" y="187"/>
                      </a:lnTo>
                      <a:lnTo>
                        <a:pt x="470" y="260"/>
                      </a:lnTo>
                      <a:lnTo>
                        <a:pt x="415" y="297"/>
                      </a:lnTo>
                      <a:lnTo>
                        <a:pt x="276" y="288"/>
                      </a:lnTo>
                      <a:lnTo>
                        <a:pt x="186" y="321"/>
                      </a:lnTo>
                      <a:lnTo>
                        <a:pt x="118" y="345"/>
                      </a:lnTo>
                      <a:lnTo>
                        <a:pt x="48" y="345"/>
                      </a:lnTo>
                      <a:lnTo>
                        <a:pt x="0" y="317"/>
                      </a:lnTo>
                      <a:lnTo>
                        <a:pt x="48" y="359"/>
                      </a:lnTo>
                      <a:lnTo>
                        <a:pt x="105" y="366"/>
                      </a:lnTo>
                      <a:lnTo>
                        <a:pt x="223" y="366"/>
                      </a:lnTo>
                      <a:lnTo>
                        <a:pt x="294" y="391"/>
                      </a:lnTo>
                      <a:lnTo>
                        <a:pt x="382" y="514"/>
                      </a:lnTo>
                      <a:lnTo>
                        <a:pt x="507" y="611"/>
                      </a:lnTo>
                      <a:lnTo>
                        <a:pt x="527" y="640"/>
                      </a:lnTo>
                      <a:lnTo>
                        <a:pt x="564" y="615"/>
                      </a:lnTo>
                      <a:lnTo>
                        <a:pt x="555" y="550"/>
                      </a:lnTo>
                      <a:lnTo>
                        <a:pt x="544" y="461"/>
                      </a:lnTo>
                      <a:lnTo>
                        <a:pt x="555" y="380"/>
                      </a:lnTo>
                      <a:lnTo>
                        <a:pt x="569" y="327"/>
                      </a:lnTo>
                      <a:lnTo>
                        <a:pt x="630" y="267"/>
                      </a:lnTo>
                      <a:lnTo>
                        <a:pt x="685" y="226"/>
                      </a:lnTo>
                      <a:lnTo>
                        <a:pt x="738" y="132"/>
                      </a:lnTo>
                      <a:lnTo>
                        <a:pt x="800" y="57"/>
                      </a:lnTo>
                      <a:lnTo>
                        <a:pt x="8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8164080" y="4863240"/>
                  <a:ext cx="5760" cy="36000"/>
                </a:xfrm>
                <a:custGeom>
                  <a:avLst/>
                  <a:gdLst/>
                  <a:ahLst/>
                  <a:rect l="l" t="t" r="r" b="b"/>
                  <a:pathLst>
                    <a:path w="72" h="339">
                      <a:moveTo>
                        <a:pt x="56" y="0"/>
                      </a:moveTo>
                      <a:lnTo>
                        <a:pt x="0" y="339"/>
                      </a:lnTo>
                      <a:lnTo>
                        <a:pt x="72" y="117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8091000" y="4780440"/>
                  <a:ext cx="62280" cy="19080"/>
                </a:xfrm>
                <a:custGeom>
                  <a:avLst/>
                  <a:gdLst/>
                  <a:ahLst/>
                  <a:rect l="l" t="t" r="r" b="b"/>
                  <a:pathLst>
                    <a:path w="747" h="189">
                      <a:moveTo>
                        <a:pt x="0" y="189"/>
                      </a:moveTo>
                      <a:lnTo>
                        <a:pt x="38" y="145"/>
                      </a:lnTo>
                      <a:lnTo>
                        <a:pt x="95" y="117"/>
                      </a:lnTo>
                      <a:lnTo>
                        <a:pt x="189" y="97"/>
                      </a:lnTo>
                      <a:lnTo>
                        <a:pt x="341" y="78"/>
                      </a:lnTo>
                      <a:lnTo>
                        <a:pt x="460" y="39"/>
                      </a:lnTo>
                      <a:lnTo>
                        <a:pt x="581" y="0"/>
                      </a:lnTo>
                      <a:lnTo>
                        <a:pt x="664" y="0"/>
                      </a:lnTo>
                      <a:lnTo>
                        <a:pt x="715" y="29"/>
                      </a:lnTo>
                      <a:lnTo>
                        <a:pt x="747" y="4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8105040" y="4773240"/>
                  <a:ext cx="46440" cy="11880"/>
                </a:xfrm>
                <a:custGeom>
                  <a:avLst/>
                  <a:gdLst/>
                  <a:ahLst/>
                  <a:rect l="l" t="t" r="r" b="b"/>
                  <a:pathLst>
                    <a:path w="563" h="118">
                      <a:moveTo>
                        <a:pt x="0" y="118"/>
                      </a:moveTo>
                      <a:lnTo>
                        <a:pt x="134" y="94"/>
                      </a:lnTo>
                      <a:lnTo>
                        <a:pt x="266" y="41"/>
                      </a:lnTo>
                      <a:lnTo>
                        <a:pt x="362" y="4"/>
                      </a:lnTo>
                      <a:lnTo>
                        <a:pt x="436" y="0"/>
                      </a:lnTo>
                      <a:lnTo>
                        <a:pt x="496" y="17"/>
                      </a:lnTo>
                      <a:lnTo>
                        <a:pt x="563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8122320" y="4767480"/>
                  <a:ext cx="23040" cy="5760"/>
                </a:xfrm>
                <a:custGeom>
                  <a:avLst/>
                  <a:gdLst/>
                  <a:ahLst/>
                  <a:rect l="l" t="t" r="r" b="b"/>
                  <a:pathLst>
                    <a:path w="279" h="62">
                      <a:moveTo>
                        <a:pt x="0" y="62"/>
                      </a:moveTo>
                      <a:lnTo>
                        <a:pt x="161" y="7"/>
                      </a:lnTo>
                      <a:lnTo>
                        <a:pt x="223" y="0"/>
                      </a:lnTo>
                      <a:lnTo>
                        <a:pt x="279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8148960" y="4804920"/>
                  <a:ext cx="8280" cy="13320"/>
                </a:xfrm>
                <a:custGeom>
                  <a:avLst/>
                  <a:gdLst/>
                  <a:ahLst/>
                  <a:rect l="l" t="t" r="r" b="b"/>
                  <a:pathLst>
                    <a:path w="105" h="128">
                      <a:moveTo>
                        <a:pt x="0" y="0"/>
                      </a:moveTo>
                      <a:lnTo>
                        <a:pt x="0" y="101"/>
                      </a:lnTo>
                      <a:lnTo>
                        <a:pt x="52" y="128"/>
                      </a:lnTo>
                      <a:lnTo>
                        <a:pt x="105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8234280" y="4975920"/>
                  <a:ext cx="176040" cy="399960"/>
                </a:xfrm>
                <a:custGeom>
                  <a:avLst/>
                  <a:gdLst/>
                  <a:ahLst/>
                  <a:rect l="l" t="t" r="r" b="b"/>
                  <a:pathLst>
                    <a:path w="2124" h="3774">
                      <a:moveTo>
                        <a:pt x="1483" y="509"/>
                      </a:moveTo>
                      <a:lnTo>
                        <a:pt x="1612" y="966"/>
                      </a:lnTo>
                      <a:lnTo>
                        <a:pt x="1929" y="1474"/>
                      </a:lnTo>
                      <a:lnTo>
                        <a:pt x="1810" y="2116"/>
                      </a:lnTo>
                      <a:lnTo>
                        <a:pt x="2124" y="3119"/>
                      </a:lnTo>
                      <a:lnTo>
                        <a:pt x="2124" y="3774"/>
                      </a:lnTo>
                      <a:lnTo>
                        <a:pt x="916" y="3766"/>
                      </a:lnTo>
                      <a:lnTo>
                        <a:pt x="0" y="3302"/>
                      </a:lnTo>
                      <a:lnTo>
                        <a:pt x="499" y="2990"/>
                      </a:lnTo>
                      <a:lnTo>
                        <a:pt x="510" y="2782"/>
                      </a:lnTo>
                      <a:lnTo>
                        <a:pt x="589" y="2443"/>
                      </a:lnTo>
                      <a:lnTo>
                        <a:pt x="589" y="2755"/>
                      </a:lnTo>
                      <a:lnTo>
                        <a:pt x="932" y="2375"/>
                      </a:lnTo>
                      <a:lnTo>
                        <a:pt x="995" y="2285"/>
                      </a:lnTo>
                      <a:lnTo>
                        <a:pt x="1024" y="2116"/>
                      </a:lnTo>
                      <a:lnTo>
                        <a:pt x="1063" y="1931"/>
                      </a:lnTo>
                      <a:lnTo>
                        <a:pt x="1301" y="1946"/>
                      </a:lnTo>
                      <a:lnTo>
                        <a:pt x="1377" y="1812"/>
                      </a:lnTo>
                      <a:lnTo>
                        <a:pt x="1206" y="1501"/>
                      </a:lnTo>
                      <a:lnTo>
                        <a:pt x="1377" y="1501"/>
                      </a:lnTo>
                      <a:lnTo>
                        <a:pt x="1377" y="1434"/>
                      </a:lnTo>
                      <a:lnTo>
                        <a:pt x="1232" y="1265"/>
                      </a:lnTo>
                      <a:lnTo>
                        <a:pt x="1246" y="1148"/>
                      </a:lnTo>
                      <a:lnTo>
                        <a:pt x="1457" y="966"/>
                      </a:lnTo>
                      <a:lnTo>
                        <a:pt x="1470" y="717"/>
                      </a:lnTo>
                      <a:lnTo>
                        <a:pt x="1351" y="496"/>
                      </a:lnTo>
                      <a:lnTo>
                        <a:pt x="1324" y="258"/>
                      </a:lnTo>
                      <a:lnTo>
                        <a:pt x="1206" y="0"/>
                      </a:lnTo>
                      <a:lnTo>
                        <a:pt x="1419" y="351"/>
                      </a:lnTo>
                      <a:lnTo>
                        <a:pt x="1483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8207280" y="487692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734" h="874">
                      <a:moveTo>
                        <a:pt x="38" y="65"/>
                      </a:moveTo>
                      <a:lnTo>
                        <a:pt x="156" y="301"/>
                      </a:lnTo>
                      <a:lnTo>
                        <a:pt x="0" y="874"/>
                      </a:lnTo>
                      <a:lnTo>
                        <a:pt x="220" y="222"/>
                      </a:lnTo>
                      <a:lnTo>
                        <a:pt x="220" y="158"/>
                      </a:lnTo>
                      <a:lnTo>
                        <a:pt x="195" y="106"/>
                      </a:lnTo>
                      <a:lnTo>
                        <a:pt x="328" y="158"/>
                      </a:lnTo>
                      <a:lnTo>
                        <a:pt x="420" y="250"/>
                      </a:lnTo>
                      <a:lnTo>
                        <a:pt x="446" y="367"/>
                      </a:lnTo>
                      <a:lnTo>
                        <a:pt x="378" y="547"/>
                      </a:lnTo>
                      <a:lnTo>
                        <a:pt x="486" y="404"/>
                      </a:lnTo>
                      <a:lnTo>
                        <a:pt x="576" y="433"/>
                      </a:lnTo>
                      <a:lnTo>
                        <a:pt x="290" y="874"/>
                      </a:lnTo>
                      <a:lnTo>
                        <a:pt x="734" y="378"/>
                      </a:lnTo>
                      <a:lnTo>
                        <a:pt x="681" y="325"/>
                      </a:lnTo>
                      <a:lnTo>
                        <a:pt x="617" y="367"/>
                      </a:lnTo>
                      <a:lnTo>
                        <a:pt x="499" y="339"/>
                      </a:lnTo>
                      <a:lnTo>
                        <a:pt x="472" y="235"/>
                      </a:lnTo>
                      <a:lnTo>
                        <a:pt x="393" y="158"/>
                      </a:lnTo>
                      <a:lnTo>
                        <a:pt x="248" y="79"/>
                      </a:lnTo>
                      <a:lnTo>
                        <a:pt x="156" y="79"/>
                      </a:lnTo>
                      <a:lnTo>
                        <a:pt x="0" y="0"/>
                      </a:lnTo>
                      <a:lnTo>
                        <a:pt x="38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8278200" y="4920840"/>
                  <a:ext cx="52920" cy="52200"/>
                </a:xfrm>
                <a:custGeom>
                  <a:avLst/>
                  <a:gdLst/>
                  <a:ahLst/>
                  <a:rect l="l" t="t" r="r" b="b"/>
                  <a:pathLst>
                    <a:path w="643" h="496">
                      <a:moveTo>
                        <a:pt x="0" y="0"/>
                      </a:moveTo>
                      <a:lnTo>
                        <a:pt x="198" y="94"/>
                      </a:lnTo>
                      <a:lnTo>
                        <a:pt x="420" y="168"/>
                      </a:lnTo>
                      <a:lnTo>
                        <a:pt x="643" y="496"/>
                      </a:lnTo>
                      <a:lnTo>
                        <a:pt x="500" y="442"/>
                      </a:lnTo>
                      <a:lnTo>
                        <a:pt x="408" y="2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8136720" y="4975200"/>
                  <a:ext cx="54720" cy="258480"/>
                </a:xfrm>
                <a:custGeom>
                  <a:avLst/>
                  <a:gdLst/>
                  <a:ahLst/>
                  <a:rect l="l" t="t" r="r" b="b"/>
                  <a:pathLst>
                    <a:path w="667" h="2442">
                      <a:moveTo>
                        <a:pt x="208" y="0"/>
                      </a:moveTo>
                      <a:lnTo>
                        <a:pt x="208" y="88"/>
                      </a:lnTo>
                      <a:lnTo>
                        <a:pt x="618" y="326"/>
                      </a:lnTo>
                      <a:lnTo>
                        <a:pt x="272" y="194"/>
                      </a:lnTo>
                      <a:lnTo>
                        <a:pt x="208" y="440"/>
                      </a:lnTo>
                      <a:lnTo>
                        <a:pt x="272" y="625"/>
                      </a:lnTo>
                      <a:lnTo>
                        <a:pt x="272" y="794"/>
                      </a:lnTo>
                      <a:lnTo>
                        <a:pt x="208" y="1190"/>
                      </a:lnTo>
                      <a:lnTo>
                        <a:pt x="153" y="1543"/>
                      </a:lnTo>
                      <a:lnTo>
                        <a:pt x="185" y="1734"/>
                      </a:lnTo>
                      <a:lnTo>
                        <a:pt x="314" y="1996"/>
                      </a:lnTo>
                      <a:lnTo>
                        <a:pt x="512" y="2218"/>
                      </a:lnTo>
                      <a:lnTo>
                        <a:pt x="667" y="2257"/>
                      </a:lnTo>
                      <a:lnTo>
                        <a:pt x="470" y="2242"/>
                      </a:lnTo>
                      <a:lnTo>
                        <a:pt x="404" y="2273"/>
                      </a:lnTo>
                      <a:lnTo>
                        <a:pt x="404" y="2442"/>
                      </a:lnTo>
                      <a:lnTo>
                        <a:pt x="272" y="2321"/>
                      </a:lnTo>
                      <a:lnTo>
                        <a:pt x="0" y="2400"/>
                      </a:lnTo>
                      <a:lnTo>
                        <a:pt x="245" y="2297"/>
                      </a:lnTo>
                      <a:lnTo>
                        <a:pt x="185" y="2089"/>
                      </a:lnTo>
                      <a:lnTo>
                        <a:pt x="129" y="1801"/>
                      </a:lnTo>
                      <a:lnTo>
                        <a:pt x="116" y="1501"/>
                      </a:lnTo>
                      <a:lnTo>
                        <a:pt x="143" y="1200"/>
                      </a:lnTo>
                      <a:lnTo>
                        <a:pt x="208" y="911"/>
                      </a:lnTo>
                      <a:lnTo>
                        <a:pt x="233" y="756"/>
                      </a:lnTo>
                      <a:lnTo>
                        <a:pt x="233" y="598"/>
                      </a:lnTo>
                      <a:lnTo>
                        <a:pt x="185" y="494"/>
                      </a:lnTo>
                      <a:lnTo>
                        <a:pt x="51" y="440"/>
                      </a:lnTo>
                      <a:lnTo>
                        <a:pt x="185" y="130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9" name=""/>
              <p:cNvSpPr/>
              <p:nvPr/>
            </p:nvSpPr>
            <p:spPr>
              <a:xfrm>
                <a:off x="8056080" y="4971600"/>
                <a:ext cx="90000" cy="258480"/>
              </a:xfrm>
              <a:custGeom>
                <a:avLst/>
                <a:gdLst/>
                <a:ahLst/>
                <a:rect l="l" t="t" r="r" b="b"/>
                <a:pathLst>
                  <a:path w="1088" h="2442">
                    <a:moveTo>
                      <a:pt x="1035" y="0"/>
                    </a:moveTo>
                    <a:lnTo>
                      <a:pt x="958" y="116"/>
                    </a:lnTo>
                    <a:lnTo>
                      <a:pt x="943" y="238"/>
                    </a:lnTo>
                    <a:lnTo>
                      <a:pt x="943" y="455"/>
                    </a:lnTo>
                    <a:lnTo>
                      <a:pt x="931" y="784"/>
                    </a:lnTo>
                    <a:lnTo>
                      <a:pt x="866" y="1292"/>
                    </a:lnTo>
                    <a:lnTo>
                      <a:pt x="838" y="1672"/>
                    </a:lnTo>
                    <a:lnTo>
                      <a:pt x="853" y="1894"/>
                    </a:lnTo>
                    <a:lnTo>
                      <a:pt x="890" y="2074"/>
                    </a:lnTo>
                    <a:lnTo>
                      <a:pt x="943" y="2207"/>
                    </a:lnTo>
                    <a:lnTo>
                      <a:pt x="1023" y="2338"/>
                    </a:lnTo>
                    <a:lnTo>
                      <a:pt x="1088" y="2378"/>
                    </a:lnTo>
                    <a:lnTo>
                      <a:pt x="980" y="2442"/>
                    </a:lnTo>
                    <a:lnTo>
                      <a:pt x="866" y="2442"/>
                    </a:lnTo>
                    <a:lnTo>
                      <a:pt x="866" y="2232"/>
                    </a:lnTo>
                    <a:lnTo>
                      <a:pt x="798" y="2052"/>
                    </a:lnTo>
                    <a:lnTo>
                      <a:pt x="576" y="1424"/>
                    </a:lnTo>
                    <a:lnTo>
                      <a:pt x="156" y="1488"/>
                    </a:lnTo>
                    <a:lnTo>
                      <a:pt x="75" y="1474"/>
                    </a:lnTo>
                    <a:lnTo>
                      <a:pt x="391" y="1345"/>
                    </a:lnTo>
                    <a:lnTo>
                      <a:pt x="341" y="1228"/>
                    </a:lnTo>
                    <a:lnTo>
                      <a:pt x="0" y="1228"/>
                    </a:lnTo>
                    <a:lnTo>
                      <a:pt x="260" y="1110"/>
                    </a:lnTo>
                    <a:lnTo>
                      <a:pt x="456" y="1096"/>
                    </a:lnTo>
                    <a:lnTo>
                      <a:pt x="417" y="849"/>
                    </a:lnTo>
                    <a:lnTo>
                      <a:pt x="798" y="1905"/>
                    </a:lnTo>
                    <a:lnTo>
                      <a:pt x="798" y="1608"/>
                    </a:lnTo>
                    <a:lnTo>
                      <a:pt x="838" y="1257"/>
                    </a:lnTo>
                    <a:lnTo>
                      <a:pt x="890" y="863"/>
                    </a:lnTo>
                    <a:lnTo>
                      <a:pt x="919" y="575"/>
                    </a:lnTo>
                    <a:lnTo>
                      <a:pt x="919" y="169"/>
                    </a:lnTo>
                    <a:lnTo>
                      <a:pt x="972" y="53"/>
                    </a:lnTo>
                    <a:lnTo>
                      <a:pt x="10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8176680" y="5009040"/>
                <a:ext cx="119880" cy="222840"/>
              </a:xfrm>
              <a:custGeom>
                <a:avLst/>
                <a:gdLst/>
                <a:ahLst/>
                <a:rect l="l" t="t" r="r" b="b"/>
                <a:pathLst>
                  <a:path w="1444" h="2100">
                    <a:moveTo>
                      <a:pt x="198" y="1931"/>
                    </a:moveTo>
                    <a:lnTo>
                      <a:pt x="407" y="1995"/>
                    </a:lnTo>
                    <a:lnTo>
                      <a:pt x="589" y="2100"/>
                    </a:lnTo>
                    <a:lnTo>
                      <a:pt x="446" y="1931"/>
                    </a:lnTo>
                    <a:lnTo>
                      <a:pt x="343" y="1841"/>
                    </a:lnTo>
                    <a:lnTo>
                      <a:pt x="248" y="1826"/>
                    </a:lnTo>
                    <a:lnTo>
                      <a:pt x="211" y="1812"/>
                    </a:lnTo>
                    <a:lnTo>
                      <a:pt x="211" y="1632"/>
                    </a:lnTo>
                    <a:lnTo>
                      <a:pt x="264" y="1593"/>
                    </a:lnTo>
                    <a:lnTo>
                      <a:pt x="499" y="1498"/>
                    </a:lnTo>
                    <a:lnTo>
                      <a:pt x="776" y="1318"/>
                    </a:lnTo>
                    <a:lnTo>
                      <a:pt x="1025" y="1070"/>
                    </a:lnTo>
                    <a:lnTo>
                      <a:pt x="1444" y="495"/>
                    </a:lnTo>
                    <a:lnTo>
                      <a:pt x="1444" y="403"/>
                    </a:lnTo>
                    <a:lnTo>
                      <a:pt x="1092" y="834"/>
                    </a:lnTo>
                    <a:lnTo>
                      <a:pt x="710" y="1217"/>
                    </a:lnTo>
                    <a:lnTo>
                      <a:pt x="369" y="1448"/>
                    </a:lnTo>
                    <a:lnTo>
                      <a:pt x="578" y="1081"/>
                    </a:lnTo>
                    <a:lnTo>
                      <a:pt x="684" y="732"/>
                    </a:lnTo>
                    <a:lnTo>
                      <a:pt x="710" y="495"/>
                    </a:lnTo>
                    <a:lnTo>
                      <a:pt x="879" y="140"/>
                    </a:lnTo>
                    <a:lnTo>
                      <a:pt x="1117" y="0"/>
                    </a:lnTo>
                    <a:lnTo>
                      <a:pt x="855" y="127"/>
                    </a:lnTo>
                    <a:lnTo>
                      <a:pt x="644" y="442"/>
                    </a:lnTo>
                    <a:lnTo>
                      <a:pt x="644" y="769"/>
                    </a:lnTo>
                    <a:lnTo>
                      <a:pt x="525" y="1081"/>
                    </a:lnTo>
                    <a:lnTo>
                      <a:pt x="356" y="1371"/>
                    </a:lnTo>
                    <a:lnTo>
                      <a:pt x="184" y="1604"/>
                    </a:lnTo>
                    <a:lnTo>
                      <a:pt x="184" y="1826"/>
                    </a:lnTo>
                    <a:lnTo>
                      <a:pt x="0" y="1905"/>
                    </a:lnTo>
                    <a:lnTo>
                      <a:pt x="198" y="19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8173440" y="5240520"/>
                <a:ext cx="67320" cy="81000"/>
              </a:xfrm>
              <a:custGeom>
                <a:avLst/>
                <a:gdLst/>
                <a:ahLst/>
                <a:rect l="l" t="t" r="r" b="b"/>
                <a:pathLst>
                  <a:path w="818" h="773">
                    <a:moveTo>
                      <a:pt x="671" y="0"/>
                    </a:moveTo>
                    <a:lnTo>
                      <a:pt x="776" y="184"/>
                    </a:lnTo>
                    <a:lnTo>
                      <a:pt x="818" y="419"/>
                    </a:lnTo>
                    <a:lnTo>
                      <a:pt x="818" y="564"/>
                    </a:lnTo>
                    <a:lnTo>
                      <a:pt x="739" y="758"/>
                    </a:lnTo>
                    <a:lnTo>
                      <a:pt x="606" y="773"/>
                    </a:lnTo>
                    <a:lnTo>
                      <a:pt x="369" y="654"/>
                    </a:lnTo>
                    <a:lnTo>
                      <a:pt x="226" y="498"/>
                    </a:lnTo>
                    <a:lnTo>
                      <a:pt x="0" y="14"/>
                    </a:lnTo>
                    <a:lnTo>
                      <a:pt x="161" y="290"/>
                    </a:lnTo>
                    <a:lnTo>
                      <a:pt x="435" y="512"/>
                    </a:lnTo>
                    <a:lnTo>
                      <a:pt x="739" y="588"/>
                    </a:lnTo>
                    <a:lnTo>
                      <a:pt x="752" y="474"/>
                    </a:lnTo>
                    <a:lnTo>
                      <a:pt x="712" y="327"/>
                    </a:lnTo>
                    <a:lnTo>
                      <a:pt x="620" y="235"/>
                    </a:lnTo>
                    <a:lnTo>
                      <a:pt x="477" y="184"/>
                    </a:lnTo>
                    <a:lnTo>
                      <a:pt x="620" y="147"/>
                    </a:lnTo>
                    <a:lnTo>
                      <a:pt x="671" y="65"/>
                    </a:lnTo>
                    <a:lnTo>
                      <a:pt x="6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8034120" y="5259960"/>
                <a:ext cx="174960" cy="64080"/>
              </a:xfrm>
              <a:custGeom>
                <a:avLst/>
                <a:gdLst/>
                <a:ahLst/>
                <a:rect l="l" t="t" r="r" b="b"/>
                <a:pathLst>
                  <a:path w="2111" h="613">
                    <a:moveTo>
                      <a:pt x="2111" y="613"/>
                    </a:moveTo>
                    <a:lnTo>
                      <a:pt x="1718" y="602"/>
                    </a:lnTo>
                    <a:lnTo>
                      <a:pt x="1194" y="549"/>
                    </a:lnTo>
                    <a:lnTo>
                      <a:pt x="593" y="380"/>
                    </a:lnTo>
                    <a:lnTo>
                      <a:pt x="103" y="301"/>
                    </a:lnTo>
                    <a:lnTo>
                      <a:pt x="26" y="235"/>
                    </a:lnTo>
                    <a:lnTo>
                      <a:pt x="0" y="90"/>
                    </a:lnTo>
                    <a:lnTo>
                      <a:pt x="353" y="143"/>
                    </a:lnTo>
                    <a:lnTo>
                      <a:pt x="364" y="0"/>
                    </a:lnTo>
                    <a:lnTo>
                      <a:pt x="406" y="143"/>
                    </a:lnTo>
                    <a:lnTo>
                      <a:pt x="643" y="143"/>
                    </a:lnTo>
                    <a:lnTo>
                      <a:pt x="419" y="249"/>
                    </a:lnTo>
                    <a:lnTo>
                      <a:pt x="445" y="328"/>
                    </a:lnTo>
                    <a:lnTo>
                      <a:pt x="929" y="290"/>
                    </a:lnTo>
                    <a:lnTo>
                      <a:pt x="1243" y="301"/>
                    </a:lnTo>
                    <a:lnTo>
                      <a:pt x="1586" y="362"/>
                    </a:lnTo>
                    <a:lnTo>
                      <a:pt x="1773" y="433"/>
                    </a:lnTo>
                    <a:lnTo>
                      <a:pt x="1625" y="249"/>
                    </a:lnTo>
                    <a:lnTo>
                      <a:pt x="1494" y="169"/>
                    </a:lnTo>
                    <a:lnTo>
                      <a:pt x="1221" y="106"/>
                    </a:lnTo>
                    <a:lnTo>
                      <a:pt x="1549" y="106"/>
                    </a:lnTo>
                    <a:lnTo>
                      <a:pt x="1747" y="235"/>
                    </a:lnTo>
                    <a:lnTo>
                      <a:pt x="1821" y="393"/>
                    </a:lnTo>
                    <a:lnTo>
                      <a:pt x="1929" y="496"/>
                    </a:lnTo>
                    <a:lnTo>
                      <a:pt x="2019" y="574"/>
                    </a:lnTo>
                    <a:lnTo>
                      <a:pt x="2111" y="6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034120" y="5137200"/>
                <a:ext cx="75600" cy="77040"/>
              </a:xfrm>
              <a:custGeom>
                <a:avLst/>
                <a:gdLst/>
                <a:ahLst/>
                <a:rect l="l" t="t" r="r" b="b"/>
                <a:pathLst>
                  <a:path w="905" h="731">
                    <a:moveTo>
                      <a:pt x="168" y="731"/>
                    </a:moveTo>
                    <a:lnTo>
                      <a:pt x="301" y="612"/>
                    </a:lnTo>
                    <a:lnTo>
                      <a:pt x="301" y="563"/>
                    </a:lnTo>
                    <a:lnTo>
                      <a:pt x="263" y="512"/>
                    </a:lnTo>
                    <a:lnTo>
                      <a:pt x="143" y="457"/>
                    </a:lnTo>
                    <a:lnTo>
                      <a:pt x="26" y="417"/>
                    </a:lnTo>
                    <a:lnTo>
                      <a:pt x="0" y="393"/>
                    </a:lnTo>
                    <a:lnTo>
                      <a:pt x="0" y="340"/>
                    </a:lnTo>
                    <a:lnTo>
                      <a:pt x="26" y="312"/>
                    </a:lnTo>
                    <a:lnTo>
                      <a:pt x="103" y="275"/>
                    </a:lnTo>
                    <a:lnTo>
                      <a:pt x="118" y="312"/>
                    </a:lnTo>
                    <a:lnTo>
                      <a:pt x="158" y="351"/>
                    </a:lnTo>
                    <a:lnTo>
                      <a:pt x="301" y="379"/>
                    </a:lnTo>
                    <a:lnTo>
                      <a:pt x="285" y="287"/>
                    </a:lnTo>
                    <a:lnTo>
                      <a:pt x="221" y="208"/>
                    </a:lnTo>
                    <a:lnTo>
                      <a:pt x="143" y="129"/>
                    </a:lnTo>
                    <a:lnTo>
                      <a:pt x="13" y="54"/>
                    </a:lnTo>
                    <a:lnTo>
                      <a:pt x="90" y="39"/>
                    </a:lnTo>
                    <a:lnTo>
                      <a:pt x="237" y="79"/>
                    </a:lnTo>
                    <a:lnTo>
                      <a:pt x="364" y="158"/>
                    </a:lnTo>
                    <a:lnTo>
                      <a:pt x="472" y="298"/>
                    </a:lnTo>
                    <a:lnTo>
                      <a:pt x="617" y="235"/>
                    </a:lnTo>
                    <a:lnTo>
                      <a:pt x="461" y="158"/>
                    </a:lnTo>
                    <a:lnTo>
                      <a:pt x="433" y="118"/>
                    </a:lnTo>
                    <a:lnTo>
                      <a:pt x="461" y="79"/>
                    </a:lnTo>
                    <a:lnTo>
                      <a:pt x="562" y="39"/>
                    </a:lnTo>
                    <a:lnTo>
                      <a:pt x="747" y="0"/>
                    </a:lnTo>
                    <a:lnTo>
                      <a:pt x="905" y="0"/>
                    </a:lnTo>
                    <a:lnTo>
                      <a:pt x="823" y="158"/>
                    </a:lnTo>
                    <a:lnTo>
                      <a:pt x="643" y="362"/>
                    </a:lnTo>
                    <a:lnTo>
                      <a:pt x="445" y="549"/>
                    </a:lnTo>
                    <a:lnTo>
                      <a:pt x="301" y="667"/>
                    </a:lnTo>
                    <a:lnTo>
                      <a:pt x="168" y="7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073000" y="4971600"/>
                <a:ext cx="12960" cy="82080"/>
              </a:xfrm>
              <a:custGeom>
                <a:avLst/>
                <a:gdLst/>
                <a:ahLst/>
                <a:rect l="l" t="t" r="r" b="b"/>
                <a:pathLst>
                  <a:path w="157" h="771">
                    <a:moveTo>
                      <a:pt x="65" y="116"/>
                    </a:moveTo>
                    <a:lnTo>
                      <a:pt x="90" y="378"/>
                    </a:lnTo>
                    <a:lnTo>
                      <a:pt x="132" y="626"/>
                    </a:lnTo>
                    <a:lnTo>
                      <a:pt x="157" y="771"/>
                    </a:lnTo>
                    <a:lnTo>
                      <a:pt x="24" y="354"/>
                    </a:lnTo>
                    <a:lnTo>
                      <a:pt x="0" y="222"/>
                    </a:lnTo>
                    <a:lnTo>
                      <a:pt x="51" y="0"/>
                    </a:lnTo>
                    <a:lnTo>
                      <a:pt x="65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5" name=""/>
            <p:cNvSpPr/>
            <p:nvPr/>
          </p:nvSpPr>
          <p:spPr>
            <a:xfrm>
              <a:off x="3682800" y="5748480"/>
              <a:ext cx="185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envolv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245280" y="4570560"/>
              <a:ext cx="0" cy="18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7" name="" descr=""/>
            <p:cNvPicPr/>
            <p:nvPr/>
          </p:nvPicPr>
          <p:blipFill>
            <a:blip r:embed="rId1"/>
            <a:stretch/>
          </p:blipFill>
          <p:spPr>
            <a:xfrm>
              <a:off x="5931000" y="5197680"/>
              <a:ext cx="658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8" name=""/>
            <p:cNvSpPr/>
            <p:nvPr/>
          </p:nvSpPr>
          <p:spPr>
            <a:xfrm>
              <a:off x="5764680" y="4880160"/>
              <a:ext cx="9676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lató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9" name=""/>
            <p:cNvGrpSpPr/>
            <p:nvPr/>
          </p:nvGrpSpPr>
          <p:grpSpPr>
            <a:xfrm>
              <a:off x="7102440" y="5669280"/>
              <a:ext cx="1274760" cy="720360"/>
              <a:chOff x="7102440" y="5669280"/>
              <a:chExt cx="1274760" cy="720360"/>
            </a:xfrm>
          </p:grpSpPr>
          <p:sp>
            <p:nvSpPr>
              <p:cNvPr id="2380" name=""/>
              <p:cNvSpPr/>
              <p:nvPr/>
            </p:nvSpPr>
            <p:spPr>
              <a:xfrm>
                <a:off x="7444080" y="6161400"/>
                <a:ext cx="567000" cy="133200"/>
              </a:xfrm>
              <a:custGeom>
                <a:avLst/>
                <a:gdLst/>
                <a:ahLst/>
                <a:rect l="l" t="t" r="r" b="b"/>
                <a:pathLst>
                  <a:path w="7426" h="2003">
                    <a:moveTo>
                      <a:pt x="0" y="0"/>
                    </a:moveTo>
                    <a:lnTo>
                      <a:pt x="7426" y="0"/>
                    </a:lnTo>
                    <a:lnTo>
                      <a:pt x="6050" y="2003"/>
                    </a:lnTo>
                    <a:lnTo>
                      <a:pt x="0" y="20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668360" y="6168240"/>
                <a:ext cx="345960" cy="41040"/>
              </a:xfrm>
              <a:custGeom>
                <a:avLst/>
                <a:gdLst/>
                <a:ahLst/>
                <a:rect l="l" t="t" r="r" b="b"/>
                <a:pathLst>
                  <a:path w="4520" h="620">
                    <a:moveTo>
                      <a:pt x="541" y="620"/>
                    </a:moveTo>
                    <a:lnTo>
                      <a:pt x="0" y="0"/>
                    </a:lnTo>
                    <a:lnTo>
                      <a:pt x="3269" y="0"/>
                    </a:lnTo>
                    <a:lnTo>
                      <a:pt x="4520" y="362"/>
                    </a:lnTo>
                    <a:lnTo>
                      <a:pt x="4520" y="620"/>
                    </a:lnTo>
                    <a:lnTo>
                      <a:pt x="541" y="6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103520" y="5872320"/>
                <a:ext cx="504720" cy="516240"/>
              </a:xfrm>
              <a:custGeom>
                <a:avLst/>
                <a:gdLst/>
                <a:ahLst/>
                <a:rect l="l" t="t" r="r" b="b"/>
                <a:pathLst>
                  <a:path w="6609" h="7730">
                    <a:moveTo>
                      <a:pt x="0" y="1307"/>
                    </a:moveTo>
                    <a:lnTo>
                      <a:pt x="0" y="4054"/>
                    </a:lnTo>
                    <a:lnTo>
                      <a:pt x="524" y="4182"/>
                    </a:lnTo>
                    <a:lnTo>
                      <a:pt x="1012" y="4509"/>
                    </a:lnTo>
                    <a:lnTo>
                      <a:pt x="1421" y="4893"/>
                    </a:lnTo>
                    <a:lnTo>
                      <a:pt x="1881" y="5439"/>
                    </a:lnTo>
                    <a:lnTo>
                      <a:pt x="2204" y="6144"/>
                    </a:lnTo>
                    <a:lnTo>
                      <a:pt x="2513" y="7020"/>
                    </a:lnTo>
                    <a:lnTo>
                      <a:pt x="2737" y="7730"/>
                    </a:lnTo>
                    <a:lnTo>
                      <a:pt x="5123" y="7730"/>
                    </a:lnTo>
                    <a:lnTo>
                      <a:pt x="6609" y="6091"/>
                    </a:lnTo>
                    <a:lnTo>
                      <a:pt x="6609" y="5746"/>
                    </a:lnTo>
                    <a:lnTo>
                      <a:pt x="6480" y="5508"/>
                    </a:lnTo>
                    <a:lnTo>
                      <a:pt x="6185" y="5344"/>
                    </a:lnTo>
                    <a:lnTo>
                      <a:pt x="5416" y="5031"/>
                    </a:lnTo>
                    <a:lnTo>
                      <a:pt x="5365" y="4985"/>
                    </a:lnTo>
                    <a:lnTo>
                      <a:pt x="4911" y="4906"/>
                    </a:lnTo>
                    <a:lnTo>
                      <a:pt x="4746" y="4856"/>
                    </a:lnTo>
                    <a:lnTo>
                      <a:pt x="4581" y="3272"/>
                    </a:lnTo>
                    <a:lnTo>
                      <a:pt x="4468" y="2742"/>
                    </a:lnTo>
                    <a:lnTo>
                      <a:pt x="4434" y="2490"/>
                    </a:lnTo>
                    <a:lnTo>
                      <a:pt x="4212" y="2017"/>
                    </a:lnTo>
                    <a:lnTo>
                      <a:pt x="4117" y="1909"/>
                    </a:lnTo>
                    <a:lnTo>
                      <a:pt x="3959" y="1760"/>
                    </a:lnTo>
                    <a:lnTo>
                      <a:pt x="3610" y="1580"/>
                    </a:lnTo>
                    <a:lnTo>
                      <a:pt x="3115" y="1199"/>
                    </a:lnTo>
                    <a:lnTo>
                      <a:pt x="2333" y="417"/>
                    </a:lnTo>
                    <a:lnTo>
                      <a:pt x="1748" y="125"/>
                    </a:lnTo>
                    <a:lnTo>
                      <a:pt x="1222" y="0"/>
                    </a:lnTo>
                    <a:lnTo>
                      <a:pt x="894" y="399"/>
                    </a:lnTo>
                    <a:lnTo>
                      <a:pt x="599" y="582"/>
                    </a:lnTo>
                    <a:lnTo>
                      <a:pt x="146" y="1142"/>
                    </a:lnTo>
                    <a:lnTo>
                      <a:pt x="0" y="1307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720920" y="5904720"/>
                <a:ext cx="649080" cy="482760"/>
              </a:xfrm>
              <a:custGeom>
                <a:avLst/>
                <a:gdLst/>
                <a:ahLst/>
                <a:rect l="l" t="t" r="r" b="b"/>
                <a:pathLst>
                  <a:path w="8500" h="7234">
                    <a:moveTo>
                      <a:pt x="1999" y="4964"/>
                    </a:moveTo>
                    <a:lnTo>
                      <a:pt x="2075" y="4850"/>
                    </a:lnTo>
                    <a:lnTo>
                      <a:pt x="2430" y="4721"/>
                    </a:lnTo>
                    <a:lnTo>
                      <a:pt x="2665" y="4593"/>
                    </a:lnTo>
                    <a:lnTo>
                      <a:pt x="2915" y="4406"/>
                    </a:lnTo>
                    <a:lnTo>
                      <a:pt x="3339" y="4350"/>
                    </a:lnTo>
                    <a:lnTo>
                      <a:pt x="3412" y="3980"/>
                    </a:lnTo>
                    <a:lnTo>
                      <a:pt x="3507" y="3739"/>
                    </a:lnTo>
                    <a:lnTo>
                      <a:pt x="3658" y="2910"/>
                    </a:lnTo>
                    <a:lnTo>
                      <a:pt x="3788" y="2312"/>
                    </a:lnTo>
                    <a:lnTo>
                      <a:pt x="3954" y="1906"/>
                    </a:lnTo>
                    <a:lnTo>
                      <a:pt x="4137" y="1651"/>
                    </a:lnTo>
                    <a:lnTo>
                      <a:pt x="4454" y="1540"/>
                    </a:lnTo>
                    <a:lnTo>
                      <a:pt x="4641" y="1356"/>
                    </a:lnTo>
                    <a:lnTo>
                      <a:pt x="4710" y="1277"/>
                    </a:lnTo>
                    <a:lnTo>
                      <a:pt x="4710" y="1116"/>
                    </a:lnTo>
                    <a:lnTo>
                      <a:pt x="4803" y="876"/>
                    </a:lnTo>
                    <a:lnTo>
                      <a:pt x="5123" y="449"/>
                    </a:lnTo>
                    <a:lnTo>
                      <a:pt x="5717" y="76"/>
                    </a:lnTo>
                    <a:lnTo>
                      <a:pt x="6158" y="0"/>
                    </a:lnTo>
                    <a:lnTo>
                      <a:pt x="6737" y="466"/>
                    </a:lnTo>
                    <a:lnTo>
                      <a:pt x="6999" y="648"/>
                    </a:lnTo>
                    <a:lnTo>
                      <a:pt x="7329" y="1042"/>
                    </a:lnTo>
                    <a:lnTo>
                      <a:pt x="7679" y="1589"/>
                    </a:lnTo>
                    <a:lnTo>
                      <a:pt x="8016" y="2312"/>
                    </a:lnTo>
                    <a:lnTo>
                      <a:pt x="8389" y="3147"/>
                    </a:lnTo>
                    <a:lnTo>
                      <a:pt x="8500" y="3499"/>
                    </a:lnTo>
                    <a:lnTo>
                      <a:pt x="7772" y="3776"/>
                    </a:lnTo>
                    <a:lnTo>
                      <a:pt x="7128" y="4350"/>
                    </a:lnTo>
                    <a:lnTo>
                      <a:pt x="6807" y="4795"/>
                    </a:lnTo>
                    <a:lnTo>
                      <a:pt x="6495" y="5330"/>
                    </a:lnTo>
                    <a:lnTo>
                      <a:pt x="6289" y="5980"/>
                    </a:lnTo>
                    <a:lnTo>
                      <a:pt x="6091" y="7234"/>
                    </a:lnTo>
                    <a:lnTo>
                      <a:pt x="0" y="7234"/>
                    </a:lnTo>
                    <a:lnTo>
                      <a:pt x="1355" y="5533"/>
                    </a:lnTo>
                    <a:lnTo>
                      <a:pt x="1999" y="496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904880" y="6195600"/>
                <a:ext cx="70560" cy="98640"/>
              </a:xfrm>
              <a:custGeom>
                <a:avLst/>
                <a:gdLst/>
                <a:ahLst/>
                <a:rect l="l" t="t" r="r" b="b"/>
                <a:pathLst>
                  <a:path w="927" h="1480">
                    <a:moveTo>
                      <a:pt x="394" y="113"/>
                    </a:moveTo>
                    <a:lnTo>
                      <a:pt x="670" y="386"/>
                    </a:lnTo>
                    <a:lnTo>
                      <a:pt x="670" y="540"/>
                    </a:lnTo>
                    <a:lnTo>
                      <a:pt x="0" y="851"/>
                    </a:lnTo>
                    <a:lnTo>
                      <a:pt x="112" y="1480"/>
                    </a:lnTo>
                    <a:lnTo>
                      <a:pt x="670" y="1245"/>
                    </a:lnTo>
                    <a:lnTo>
                      <a:pt x="778" y="962"/>
                    </a:lnTo>
                    <a:lnTo>
                      <a:pt x="855" y="243"/>
                    </a:lnTo>
                    <a:lnTo>
                      <a:pt x="927" y="0"/>
                    </a:lnTo>
                    <a:lnTo>
                      <a:pt x="479" y="56"/>
                    </a:lnTo>
                    <a:lnTo>
                      <a:pt x="394" y="113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876800" y="5946120"/>
                <a:ext cx="500400" cy="441720"/>
              </a:xfrm>
              <a:custGeom>
                <a:avLst/>
                <a:gdLst/>
                <a:ahLst/>
                <a:rect l="l" t="t" r="r" b="b"/>
                <a:pathLst>
                  <a:path w="6551" h="6616">
                    <a:moveTo>
                      <a:pt x="6551" y="2921"/>
                    </a:moveTo>
                    <a:lnTo>
                      <a:pt x="6133" y="3048"/>
                    </a:lnTo>
                    <a:lnTo>
                      <a:pt x="5692" y="3252"/>
                    </a:lnTo>
                    <a:lnTo>
                      <a:pt x="5378" y="3432"/>
                    </a:lnTo>
                    <a:lnTo>
                      <a:pt x="5048" y="3801"/>
                    </a:lnTo>
                    <a:lnTo>
                      <a:pt x="4712" y="4252"/>
                    </a:lnTo>
                    <a:lnTo>
                      <a:pt x="4470" y="4694"/>
                    </a:lnTo>
                    <a:lnTo>
                      <a:pt x="3396" y="6547"/>
                    </a:lnTo>
                    <a:lnTo>
                      <a:pt x="2278" y="6616"/>
                    </a:lnTo>
                    <a:lnTo>
                      <a:pt x="0" y="6616"/>
                    </a:lnTo>
                    <a:lnTo>
                      <a:pt x="108" y="6197"/>
                    </a:lnTo>
                    <a:lnTo>
                      <a:pt x="367" y="6485"/>
                    </a:lnTo>
                    <a:lnTo>
                      <a:pt x="606" y="6524"/>
                    </a:lnTo>
                    <a:lnTo>
                      <a:pt x="457" y="6322"/>
                    </a:lnTo>
                    <a:lnTo>
                      <a:pt x="457" y="5971"/>
                    </a:lnTo>
                    <a:lnTo>
                      <a:pt x="870" y="5599"/>
                    </a:lnTo>
                    <a:lnTo>
                      <a:pt x="1145" y="6227"/>
                    </a:lnTo>
                    <a:lnTo>
                      <a:pt x="1332" y="6524"/>
                    </a:lnTo>
                    <a:lnTo>
                      <a:pt x="1909" y="6098"/>
                    </a:lnTo>
                    <a:lnTo>
                      <a:pt x="2466" y="5252"/>
                    </a:lnTo>
                    <a:lnTo>
                      <a:pt x="1481" y="5671"/>
                    </a:lnTo>
                    <a:lnTo>
                      <a:pt x="2134" y="4837"/>
                    </a:lnTo>
                    <a:lnTo>
                      <a:pt x="1462" y="4936"/>
                    </a:lnTo>
                    <a:lnTo>
                      <a:pt x="1446" y="4751"/>
                    </a:lnTo>
                    <a:lnTo>
                      <a:pt x="2206" y="4103"/>
                    </a:lnTo>
                    <a:lnTo>
                      <a:pt x="2241" y="4435"/>
                    </a:lnTo>
                    <a:lnTo>
                      <a:pt x="2448" y="4498"/>
                    </a:lnTo>
                    <a:lnTo>
                      <a:pt x="3188" y="3956"/>
                    </a:lnTo>
                    <a:lnTo>
                      <a:pt x="3465" y="3342"/>
                    </a:lnTo>
                    <a:lnTo>
                      <a:pt x="3558" y="2377"/>
                    </a:lnTo>
                    <a:lnTo>
                      <a:pt x="3211" y="1477"/>
                    </a:lnTo>
                    <a:lnTo>
                      <a:pt x="4212" y="2342"/>
                    </a:lnTo>
                    <a:lnTo>
                      <a:pt x="5378" y="2694"/>
                    </a:lnTo>
                    <a:lnTo>
                      <a:pt x="5766" y="2960"/>
                    </a:lnTo>
                    <a:lnTo>
                      <a:pt x="6254" y="2881"/>
                    </a:lnTo>
                    <a:lnTo>
                      <a:pt x="6087" y="2248"/>
                    </a:lnTo>
                    <a:lnTo>
                      <a:pt x="5582" y="971"/>
                    </a:lnTo>
                    <a:lnTo>
                      <a:pt x="5140" y="258"/>
                    </a:lnTo>
                    <a:lnTo>
                      <a:pt x="4894" y="0"/>
                    </a:lnTo>
                    <a:lnTo>
                      <a:pt x="5250" y="327"/>
                    </a:lnTo>
                    <a:lnTo>
                      <a:pt x="5634" y="940"/>
                    </a:lnTo>
                    <a:lnTo>
                      <a:pt x="6030" y="1810"/>
                    </a:lnTo>
                    <a:lnTo>
                      <a:pt x="6344" y="2513"/>
                    </a:lnTo>
                    <a:lnTo>
                      <a:pt x="6551" y="292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140680" y="5906520"/>
                <a:ext cx="60120" cy="57600"/>
              </a:xfrm>
              <a:custGeom>
                <a:avLst/>
                <a:gdLst/>
                <a:ahLst/>
                <a:rect l="l" t="t" r="r" b="b"/>
                <a:pathLst>
                  <a:path w="791" h="867">
                    <a:moveTo>
                      <a:pt x="197" y="120"/>
                    </a:moveTo>
                    <a:lnTo>
                      <a:pt x="307" y="199"/>
                    </a:lnTo>
                    <a:lnTo>
                      <a:pt x="386" y="512"/>
                    </a:lnTo>
                    <a:lnTo>
                      <a:pt x="346" y="625"/>
                    </a:lnTo>
                    <a:lnTo>
                      <a:pt x="0" y="867"/>
                    </a:lnTo>
                    <a:lnTo>
                      <a:pt x="791" y="535"/>
                    </a:lnTo>
                    <a:lnTo>
                      <a:pt x="791" y="298"/>
                    </a:lnTo>
                    <a:lnTo>
                      <a:pt x="573" y="0"/>
                    </a:lnTo>
                    <a:lnTo>
                      <a:pt x="346" y="39"/>
                    </a:lnTo>
                    <a:lnTo>
                      <a:pt x="197" y="12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467120" y="5829120"/>
                <a:ext cx="531720" cy="353160"/>
              </a:xfrm>
              <a:custGeom>
                <a:avLst/>
                <a:gdLst/>
                <a:ahLst/>
                <a:rect l="l" t="t" r="r" b="b"/>
                <a:pathLst>
                  <a:path w="6960" h="5288">
                    <a:moveTo>
                      <a:pt x="2583" y="0"/>
                    </a:moveTo>
                    <a:lnTo>
                      <a:pt x="2425" y="32"/>
                    </a:lnTo>
                    <a:lnTo>
                      <a:pt x="2146" y="173"/>
                    </a:lnTo>
                    <a:lnTo>
                      <a:pt x="1372" y="233"/>
                    </a:lnTo>
                    <a:lnTo>
                      <a:pt x="592" y="498"/>
                    </a:lnTo>
                    <a:lnTo>
                      <a:pt x="229" y="706"/>
                    </a:lnTo>
                    <a:lnTo>
                      <a:pt x="141" y="876"/>
                    </a:lnTo>
                    <a:lnTo>
                      <a:pt x="93" y="1047"/>
                    </a:lnTo>
                    <a:lnTo>
                      <a:pt x="141" y="1374"/>
                    </a:lnTo>
                    <a:lnTo>
                      <a:pt x="229" y="1625"/>
                    </a:lnTo>
                    <a:lnTo>
                      <a:pt x="141" y="2183"/>
                    </a:lnTo>
                    <a:lnTo>
                      <a:pt x="102" y="2308"/>
                    </a:lnTo>
                    <a:lnTo>
                      <a:pt x="32" y="2356"/>
                    </a:lnTo>
                    <a:lnTo>
                      <a:pt x="0" y="2444"/>
                    </a:lnTo>
                    <a:lnTo>
                      <a:pt x="12" y="2620"/>
                    </a:lnTo>
                    <a:lnTo>
                      <a:pt x="155" y="3086"/>
                    </a:lnTo>
                    <a:lnTo>
                      <a:pt x="155" y="3277"/>
                    </a:lnTo>
                    <a:lnTo>
                      <a:pt x="141" y="3525"/>
                    </a:lnTo>
                    <a:lnTo>
                      <a:pt x="126" y="3655"/>
                    </a:lnTo>
                    <a:lnTo>
                      <a:pt x="32" y="3928"/>
                    </a:lnTo>
                    <a:lnTo>
                      <a:pt x="44" y="4198"/>
                    </a:lnTo>
                    <a:lnTo>
                      <a:pt x="556" y="4862"/>
                    </a:lnTo>
                    <a:lnTo>
                      <a:pt x="888" y="4980"/>
                    </a:lnTo>
                    <a:lnTo>
                      <a:pt x="1003" y="5053"/>
                    </a:lnTo>
                    <a:lnTo>
                      <a:pt x="1361" y="5022"/>
                    </a:lnTo>
                    <a:lnTo>
                      <a:pt x="1671" y="5148"/>
                    </a:lnTo>
                    <a:lnTo>
                      <a:pt x="2062" y="5288"/>
                    </a:lnTo>
                    <a:lnTo>
                      <a:pt x="2704" y="4862"/>
                    </a:lnTo>
                    <a:lnTo>
                      <a:pt x="6835" y="4837"/>
                    </a:lnTo>
                    <a:lnTo>
                      <a:pt x="6960" y="4152"/>
                    </a:lnTo>
                    <a:lnTo>
                      <a:pt x="6621" y="4119"/>
                    </a:lnTo>
                    <a:lnTo>
                      <a:pt x="6446" y="3917"/>
                    </a:lnTo>
                    <a:lnTo>
                      <a:pt x="6333" y="3853"/>
                    </a:lnTo>
                    <a:lnTo>
                      <a:pt x="6151" y="3536"/>
                    </a:lnTo>
                    <a:lnTo>
                      <a:pt x="6022" y="3011"/>
                    </a:lnTo>
                    <a:lnTo>
                      <a:pt x="5955" y="2780"/>
                    </a:lnTo>
                    <a:lnTo>
                      <a:pt x="5912" y="2483"/>
                    </a:lnTo>
                    <a:lnTo>
                      <a:pt x="5773" y="2420"/>
                    </a:lnTo>
                    <a:lnTo>
                      <a:pt x="5745" y="2229"/>
                    </a:lnTo>
                    <a:lnTo>
                      <a:pt x="5773" y="1812"/>
                    </a:lnTo>
                    <a:lnTo>
                      <a:pt x="5745" y="1515"/>
                    </a:lnTo>
                    <a:lnTo>
                      <a:pt x="5710" y="1314"/>
                    </a:lnTo>
                    <a:lnTo>
                      <a:pt x="5660" y="1097"/>
                    </a:lnTo>
                    <a:lnTo>
                      <a:pt x="5584" y="998"/>
                    </a:lnTo>
                    <a:lnTo>
                      <a:pt x="5521" y="966"/>
                    </a:lnTo>
                    <a:lnTo>
                      <a:pt x="5424" y="936"/>
                    </a:lnTo>
                    <a:lnTo>
                      <a:pt x="4848" y="717"/>
                    </a:lnTo>
                    <a:lnTo>
                      <a:pt x="4240" y="438"/>
                    </a:lnTo>
                    <a:lnTo>
                      <a:pt x="3850" y="267"/>
                    </a:lnTo>
                    <a:lnTo>
                      <a:pt x="258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619400" y="611892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904" h="929">
                    <a:moveTo>
                      <a:pt x="626" y="0"/>
                    </a:moveTo>
                    <a:lnTo>
                      <a:pt x="904" y="74"/>
                    </a:lnTo>
                    <a:lnTo>
                      <a:pt x="720" y="221"/>
                    </a:lnTo>
                    <a:lnTo>
                      <a:pt x="477" y="584"/>
                    </a:lnTo>
                    <a:lnTo>
                      <a:pt x="293" y="929"/>
                    </a:lnTo>
                    <a:lnTo>
                      <a:pt x="0" y="843"/>
                    </a:lnTo>
                    <a:lnTo>
                      <a:pt x="26" y="558"/>
                    </a:lnTo>
                    <a:lnTo>
                      <a:pt x="132" y="378"/>
                    </a:lnTo>
                    <a:lnTo>
                      <a:pt x="277" y="228"/>
                    </a:lnTo>
                    <a:lnTo>
                      <a:pt x="487" y="74"/>
                    </a:lnTo>
                    <a:lnTo>
                      <a:pt x="6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618680" y="613044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521" h="763">
                    <a:moveTo>
                      <a:pt x="402" y="0"/>
                    </a:moveTo>
                    <a:lnTo>
                      <a:pt x="249" y="172"/>
                    </a:lnTo>
                    <a:lnTo>
                      <a:pt x="152" y="366"/>
                    </a:lnTo>
                    <a:lnTo>
                      <a:pt x="327" y="378"/>
                    </a:lnTo>
                    <a:lnTo>
                      <a:pt x="521" y="212"/>
                    </a:lnTo>
                    <a:lnTo>
                      <a:pt x="378" y="535"/>
                    </a:lnTo>
                    <a:lnTo>
                      <a:pt x="327" y="763"/>
                    </a:lnTo>
                    <a:lnTo>
                      <a:pt x="0" y="763"/>
                    </a:lnTo>
                    <a:lnTo>
                      <a:pt x="11" y="574"/>
                    </a:lnTo>
                    <a:lnTo>
                      <a:pt x="77" y="322"/>
                    </a:lnTo>
                    <a:lnTo>
                      <a:pt x="207" y="172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652880" y="5831640"/>
                <a:ext cx="114840" cy="259560"/>
              </a:xfrm>
              <a:custGeom>
                <a:avLst/>
                <a:gdLst/>
                <a:ahLst/>
                <a:rect l="l" t="t" r="r" b="b"/>
                <a:pathLst>
                  <a:path w="1500" h="3892">
                    <a:moveTo>
                      <a:pt x="143" y="0"/>
                    </a:moveTo>
                    <a:lnTo>
                      <a:pt x="1500" y="561"/>
                    </a:lnTo>
                    <a:lnTo>
                      <a:pt x="1500" y="1046"/>
                    </a:lnTo>
                    <a:lnTo>
                      <a:pt x="1426" y="1553"/>
                    </a:lnTo>
                    <a:lnTo>
                      <a:pt x="1336" y="2078"/>
                    </a:lnTo>
                    <a:lnTo>
                      <a:pt x="1193" y="2760"/>
                    </a:lnTo>
                    <a:lnTo>
                      <a:pt x="1053" y="3259"/>
                    </a:lnTo>
                    <a:lnTo>
                      <a:pt x="815" y="3892"/>
                    </a:lnTo>
                    <a:lnTo>
                      <a:pt x="774" y="3293"/>
                    </a:lnTo>
                    <a:lnTo>
                      <a:pt x="642" y="2523"/>
                    </a:lnTo>
                    <a:lnTo>
                      <a:pt x="560" y="2041"/>
                    </a:lnTo>
                    <a:lnTo>
                      <a:pt x="488" y="1659"/>
                    </a:lnTo>
                    <a:lnTo>
                      <a:pt x="338" y="1336"/>
                    </a:lnTo>
                    <a:lnTo>
                      <a:pt x="172" y="995"/>
                    </a:lnTo>
                    <a:lnTo>
                      <a:pt x="43" y="705"/>
                    </a:lnTo>
                    <a:lnTo>
                      <a:pt x="0" y="497"/>
                    </a:lnTo>
                    <a:lnTo>
                      <a:pt x="0" y="301"/>
                    </a:lnTo>
                    <a:lnTo>
                      <a:pt x="66" y="121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693200" y="5900400"/>
                <a:ext cx="37080" cy="192240"/>
              </a:xfrm>
              <a:custGeom>
                <a:avLst/>
                <a:gdLst/>
                <a:ahLst/>
                <a:rect l="l" t="t" r="r" b="b"/>
                <a:pathLst>
                  <a:path w="486" h="2874">
                    <a:moveTo>
                      <a:pt x="194" y="0"/>
                    </a:moveTo>
                    <a:lnTo>
                      <a:pt x="51" y="126"/>
                    </a:lnTo>
                    <a:lnTo>
                      <a:pt x="139" y="455"/>
                    </a:lnTo>
                    <a:lnTo>
                      <a:pt x="0" y="806"/>
                    </a:lnTo>
                    <a:lnTo>
                      <a:pt x="81" y="1235"/>
                    </a:lnTo>
                    <a:lnTo>
                      <a:pt x="178" y="1853"/>
                    </a:lnTo>
                    <a:lnTo>
                      <a:pt x="265" y="2463"/>
                    </a:lnTo>
                    <a:lnTo>
                      <a:pt x="328" y="2874"/>
                    </a:lnTo>
                    <a:lnTo>
                      <a:pt x="486" y="2371"/>
                    </a:lnTo>
                    <a:lnTo>
                      <a:pt x="459" y="1973"/>
                    </a:lnTo>
                    <a:lnTo>
                      <a:pt x="440" y="1265"/>
                    </a:lnTo>
                    <a:lnTo>
                      <a:pt x="436" y="857"/>
                    </a:lnTo>
                    <a:lnTo>
                      <a:pt x="401" y="622"/>
                    </a:lnTo>
                    <a:lnTo>
                      <a:pt x="365" y="477"/>
                    </a:lnTo>
                    <a:lnTo>
                      <a:pt x="440" y="248"/>
                    </a:lnTo>
                    <a:lnTo>
                      <a:pt x="355" y="24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693200" y="5901840"/>
                <a:ext cx="35280" cy="157320"/>
              </a:xfrm>
              <a:custGeom>
                <a:avLst/>
                <a:gdLst/>
                <a:ahLst/>
                <a:rect l="l" t="t" r="r" b="b"/>
                <a:pathLst>
                  <a:path w="459" h="2362">
                    <a:moveTo>
                      <a:pt x="365" y="94"/>
                    </a:moveTo>
                    <a:lnTo>
                      <a:pt x="288" y="79"/>
                    </a:lnTo>
                    <a:lnTo>
                      <a:pt x="207" y="169"/>
                    </a:lnTo>
                    <a:lnTo>
                      <a:pt x="247" y="433"/>
                    </a:lnTo>
                    <a:lnTo>
                      <a:pt x="288" y="433"/>
                    </a:lnTo>
                    <a:lnTo>
                      <a:pt x="385" y="272"/>
                    </a:lnTo>
                    <a:lnTo>
                      <a:pt x="355" y="523"/>
                    </a:lnTo>
                    <a:lnTo>
                      <a:pt x="440" y="875"/>
                    </a:lnTo>
                    <a:lnTo>
                      <a:pt x="436" y="1701"/>
                    </a:lnTo>
                    <a:lnTo>
                      <a:pt x="459" y="2362"/>
                    </a:lnTo>
                    <a:lnTo>
                      <a:pt x="401" y="2000"/>
                    </a:lnTo>
                    <a:lnTo>
                      <a:pt x="365" y="1542"/>
                    </a:lnTo>
                    <a:lnTo>
                      <a:pt x="355" y="1097"/>
                    </a:lnTo>
                    <a:lnTo>
                      <a:pt x="339" y="848"/>
                    </a:lnTo>
                    <a:lnTo>
                      <a:pt x="265" y="613"/>
                    </a:lnTo>
                    <a:lnTo>
                      <a:pt x="247" y="940"/>
                    </a:lnTo>
                    <a:lnTo>
                      <a:pt x="178" y="1009"/>
                    </a:lnTo>
                    <a:lnTo>
                      <a:pt x="139" y="940"/>
                    </a:lnTo>
                    <a:lnTo>
                      <a:pt x="207" y="606"/>
                    </a:lnTo>
                    <a:lnTo>
                      <a:pt x="104" y="769"/>
                    </a:lnTo>
                    <a:lnTo>
                      <a:pt x="51" y="1085"/>
                    </a:lnTo>
                    <a:lnTo>
                      <a:pt x="0" y="797"/>
                    </a:lnTo>
                    <a:lnTo>
                      <a:pt x="139" y="446"/>
                    </a:lnTo>
                    <a:lnTo>
                      <a:pt x="69" y="117"/>
                    </a:lnTo>
                    <a:lnTo>
                      <a:pt x="171" y="0"/>
                    </a:lnTo>
                    <a:lnTo>
                      <a:pt x="339" y="15"/>
                    </a:lnTo>
                    <a:lnTo>
                      <a:pt x="365" y="94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721280" y="5871600"/>
                <a:ext cx="46800" cy="182520"/>
              </a:xfrm>
              <a:custGeom>
                <a:avLst/>
                <a:gdLst/>
                <a:ahLst/>
                <a:rect l="l" t="t" r="r" b="b"/>
                <a:pathLst>
                  <a:path w="620" h="2734">
                    <a:moveTo>
                      <a:pt x="94" y="1255"/>
                    </a:moveTo>
                    <a:lnTo>
                      <a:pt x="266" y="953"/>
                    </a:lnTo>
                    <a:lnTo>
                      <a:pt x="394" y="758"/>
                    </a:lnTo>
                    <a:lnTo>
                      <a:pt x="354" y="1204"/>
                    </a:lnTo>
                    <a:lnTo>
                      <a:pt x="266" y="1709"/>
                    </a:lnTo>
                    <a:lnTo>
                      <a:pt x="106" y="2410"/>
                    </a:lnTo>
                    <a:lnTo>
                      <a:pt x="130" y="2734"/>
                    </a:lnTo>
                    <a:lnTo>
                      <a:pt x="369" y="1831"/>
                    </a:lnTo>
                    <a:lnTo>
                      <a:pt x="525" y="1125"/>
                    </a:lnTo>
                    <a:lnTo>
                      <a:pt x="589" y="703"/>
                    </a:lnTo>
                    <a:lnTo>
                      <a:pt x="620" y="224"/>
                    </a:lnTo>
                    <a:lnTo>
                      <a:pt x="608" y="0"/>
                    </a:lnTo>
                    <a:lnTo>
                      <a:pt x="477" y="105"/>
                    </a:lnTo>
                    <a:lnTo>
                      <a:pt x="477" y="277"/>
                    </a:lnTo>
                    <a:lnTo>
                      <a:pt x="428" y="540"/>
                    </a:lnTo>
                    <a:lnTo>
                      <a:pt x="233" y="899"/>
                    </a:lnTo>
                    <a:lnTo>
                      <a:pt x="75" y="639"/>
                    </a:lnTo>
                    <a:lnTo>
                      <a:pt x="0" y="945"/>
                    </a:lnTo>
                    <a:lnTo>
                      <a:pt x="71" y="1140"/>
                    </a:lnTo>
                    <a:lnTo>
                      <a:pt x="94" y="125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683480" y="5909040"/>
                <a:ext cx="20520" cy="42120"/>
              </a:xfrm>
              <a:custGeom>
                <a:avLst/>
                <a:gdLst/>
                <a:ahLst/>
                <a:rect l="l" t="t" r="r" b="b"/>
                <a:pathLst>
                  <a:path w="268" h="627">
                    <a:moveTo>
                      <a:pt x="108" y="627"/>
                    </a:moveTo>
                    <a:lnTo>
                      <a:pt x="0" y="249"/>
                    </a:lnTo>
                    <a:lnTo>
                      <a:pt x="159" y="0"/>
                    </a:lnTo>
                    <a:lnTo>
                      <a:pt x="268" y="329"/>
                    </a:lnTo>
                    <a:lnTo>
                      <a:pt x="198" y="512"/>
                    </a:lnTo>
                    <a:lnTo>
                      <a:pt x="108" y="62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652880" y="5831640"/>
                <a:ext cx="16200" cy="59760"/>
              </a:xfrm>
              <a:custGeom>
                <a:avLst/>
                <a:gdLst/>
                <a:ahLst/>
                <a:rect l="l" t="t" r="r" b="b"/>
                <a:pathLst>
                  <a:path w="211" h="900">
                    <a:moveTo>
                      <a:pt x="211" y="549"/>
                    </a:moveTo>
                    <a:lnTo>
                      <a:pt x="161" y="681"/>
                    </a:lnTo>
                    <a:lnTo>
                      <a:pt x="132" y="780"/>
                    </a:lnTo>
                    <a:lnTo>
                      <a:pt x="119" y="900"/>
                    </a:lnTo>
                    <a:lnTo>
                      <a:pt x="50" y="705"/>
                    </a:lnTo>
                    <a:lnTo>
                      <a:pt x="0" y="561"/>
                    </a:lnTo>
                    <a:lnTo>
                      <a:pt x="0" y="354"/>
                    </a:lnTo>
                    <a:lnTo>
                      <a:pt x="43" y="209"/>
                    </a:lnTo>
                    <a:lnTo>
                      <a:pt x="96" y="66"/>
                    </a:lnTo>
                    <a:lnTo>
                      <a:pt x="143" y="0"/>
                    </a:lnTo>
                    <a:lnTo>
                      <a:pt x="182" y="323"/>
                    </a:lnTo>
                    <a:lnTo>
                      <a:pt x="211" y="54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647480" y="6237360"/>
                <a:ext cx="259560" cy="128160"/>
              </a:xfrm>
              <a:custGeom>
                <a:avLst/>
                <a:gdLst/>
                <a:ahLst/>
                <a:rect l="l" t="t" r="r" b="b"/>
                <a:pathLst>
                  <a:path w="3405" h="1922">
                    <a:moveTo>
                      <a:pt x="2938" y="0"/>
                    </a:moveTo>
                    <a:lnTo>
                      <a:pt x="2852" y="59"/>
                    </a:lnTo>
                    <a:lnTo>
                      <a:pt x="2017" y="375"/>
                    </a:lnTo>
                    <a:lnTo>
                      <a:pt x="1040" y="587"/>
                    </a:lnTo>
                    <a:lnTo>
                      <a:pt x="581" y="949"/>
                    </a:lnTo>
                    <a:lnTo>
                      <a:pt x="565" y="1028"/>
                    </a:lnTo>
                    <a:lnTo>
                      <a:pt x="191" y="1074"/>
                    </a:lnTo>
                    <a:lnTo>
                      <a:pt x="0" y="1173"/>
                    </a:lnTo>
                    <a:lnTo>
                      <a:pt x="0" y="1274"/>
                    </a:lnTo>
                    <a:lnTo>
                      <a:pt x="1980" y="1922"/>
                    </a:lnTo>
                    <a:lnTo>
                      <a:pt x="2246" y="1371"/>
                    </a:lnTo>
                    <a:lnTo>
                      <a:pt x="3405" y="501"/>
                    </a:lnTo>
                    <a:lnTo>
                      <a:pt x="3331" y="241"/>
                    </a:lnTo>
                    <a:lnTo>
                      <a:pt x="3094" y="0"/>
                    </a:lnTo>
                    <a:lnTo>
                      <a:pt x="2938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693200" y="6306840"/>
                <a:ext cx="23040" cy="11160"/>
              </a:xfrm>
              <a:custGeom>
                <a:avLst/>
                <a:gdLst/>
                <a:ahLst/>
                <a:rect l="l" t="t" r="r" b="b"/>
                <a:pathLst>
                  <a:path w="308" h="163">
                    <a:moveTo>
                      <a:pt x="34" y="51"/>
                    </a:moveTo>
                    <a:lnTo>
                      <a:pt x="0" y="81"/>
                    </a:lnTo>
                    <a:lnTo>
                      <a:pt x="4" y="123"/>
                    </a:lnTo>
                    <a:lnTo>
                      <a:pt x="31" y="143"/>
                    </a:lnTo>
                    <a:lnTo>
                      <a:pt x="244" y="163"/>
                    </a:lnTo>
                    <a:lnTo>
                      <a:pt x="297" y="132"/>
                    </a:lnTo>
                    <a:lnTo>
                      <a:pt x="308" y="77"/>
                    </a:lnTo>
                    <a:lnTo>
                      <a:pt x="279" y="18"/>
                    </a:lnTo>
                    <a:lnTo>
                      <a:pt x="226" y="0"/>
                    </a:lnTo>
                    <a:lnTo>
                      <a:pt x="34" y="5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648200" y="63136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19" h="145">
                    <a:moveTo>
                      <a:pt x="0" y="111"/>
                    </a:moveTo>
                    <a:lnTo>
                      <a:pt x="13" y="40"/>
                    </a:lnTo>
                    <a:lnTo>
                      <a:pt x="109" y="0"/>
                    </a:lnTo>
                    <a:lnTo>
                      <a:pt x="209" y="0"/>
                    </a:lnTo>
                    <a:lnTo>
                      <a:pt x="294" y="33"/>
                    </a:lnTo>
                    <a:lnTo>
                      <a:pt x="319" y="99"/>
                    </a:lnTo>
                    <a:lnTo>
                      <a:pt x="308" y="134"/>
                    </a:lnTo>
                    <a:lnTo>
                      <a:pt x="282" y="145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552080" y="6171120"/>
                <a:ext cx="135000" cy="79560"/>
              </a:xfrm>
              <a:custGeom>
                <a:avLst/>
                <a:gdLst/>
                <a:ahLst/>
                <a:rect l="l" t="t" r="r" b="b"/>
                <a:pathLst>
                  <a:path w="1763" h="1187">
                    <a:moveTo>
                      <a:pt x="0" y="653"/>
                    </a:moveTo>
                    <a:lnTo>
                      <a:pt x="115" y="226"/>
                    </a:lnTo>
                    <a:lnTo>
                      <a:pt x="569" y="0"/>
                    </a:lnTo>
                    <a:lnTo>
                      <a:pt x="827" y="131"/>
                    </a:lnTo>
                    <a:lnTo>
                      <a:pt x="1193" y="157"/>
                    </a:lnTo>
                    <a:lnTo>
                      <a:pt x="1268" y="226"/>
                    </a:lnTo>
                    <a:lnTo>
                      <a:pt x="1290" y="291"/>
                    </a:lnTo>
                    <a:lnTo>
                      <a:pt x="1464" y="376"/>
                    </a:lnTo>
                    <a:lnTo>
                      <a:pt x="1572" y="458"/>
                    </a:lnTo>
                    <a:lnTo>
                      <a:pt x="1624" y="466"/>
                    </a:lnTo>
                    <a:lnTo>
                      <a:pt x="1763" y="553"/>
                    </a:lnTo>
                    <a:lnTo>
                      <a:pt x="1756" y="629"/>
                    </a:lnTo>
                    <a:lnTo>
                      <a:pt x="1585" y="783"/>
                    </a:lnTo>
                    <a:lnTo>
                      <a:pt x="1597" y="911"/>
                    </a:lnTo>
                    <a:lnTo>
                      <a:pt x="1657" y="917"/>
                    </a:lnTo>
                    <a:lnTo>
                      <a:pt x="1659" y="1035"/>
                    </a:lnTo>
                    <a:lnTo>
                      <a:pt x="1488" y="1176"/>
                    </a:lnTo>
                    <a:lnTo>
                      <a:pt x="1027" y="1187"/>
                    </a:lnTo>
                    <a:lnTo>
                      <a:pt x="0" y="653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513560" y="6207840"/>
                <a:ext cx="103320" cy="65160"/>
              </a:xfrm>
              <a:custGeom>
                <a:avLst/>
                <a:gdLst/>
                <a:ahLst/>
                <a:rect l="l" t="t" r="r" b="b"/>
                <a:pathLst>
                  <a:path w="1351" h="980">
                    <a:moveTo>
                      <a:pt x="0" y="393"/>
                    </a:moveTo>
                    <a:lnTo>
                      <a:pt x="4" y="296"/>
                    </a:lnTo>
                    <a:lnTo>
                      <a:pt x="16" y="176"/>
                    </a:lnTo>
                    <a:lnTo>
                      <a:pt x="66" y="17"/>
                    </a:lnTo>
                    <a:lnTo>
                      <a:pt x="389" y="5"/>
                    </a:lnTo>
                    <a:lnTo>
                      <a:pt x="514" y="0"/>
                    </a:lnTo>
                    <a:lnTo>
                      <a:pt x="837" y="31"/>
                    </a:lnTo>
                    <a:lnTo>
                      <a:pt x="998" y="81"/>
                    </a:lnTo>
                    <a:lnTo>
                      <a:pt x="1095" y="145"/>
                    </a:lnTo>
                    <a:lnTo>
                      <a:pt x="1249" y="259"/>
                    </a:lnTo>
                    <a:lnTo>
                      <a:pt x="1330" y="409"/>
                    </a:lnTo>
                    <a:lnTo>
                      <a:pt x="1351" y="563"/>
                    </a:lnTo>
                    <a:lnTo>
                      <a:pt x="1351" y="708"/>
                    </a:lnTo>
                    <a:lnTo>
                      <a:pt x="1330" y="846"/>
                    </a:lnTo>
                    <a:lnTo>
                      <a:pt x="1270" y="980"/>
                    </a:lnTo>
                    <a:lnTo>
                      <a:pt x="1240" y="773"/>
                    </a:lnTo>
                    <a:lnTo>
                      <a:pt x="1185" y="628"/>
                    </a:lnTo>
                    <a:lnTo>
                      <a:pt x="1072" y="487"/>
                    </a:lnTo>
                    <a:lnTo>
                      <a:pt x="945" y="369"/>
                    </a:lnTo>
                    <a:lnTo>
                      <a:pt x="756" y="316"/>
                    </a:lnTo>
                    <a:lnTo>
                      <a:pt x="589" y="294"/>
                    </a:lnTo>
                    <a:lnTo>
                      <a:pt x="362" y="296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936200" y="5673960"/>
                <a:ext cx="298800" cy="215640"/>
              </a:xfrm>
              <a:custGeom>
                <a:avLst/>
                <a:gdLst/>
                <a:ahLst/>
                <a:rect l="l" t="t" r="r" b="b"/>
                <a:pathLst>
                  <a:path w="3911" h="3232">
                    <a:moveTo>
                      <a:pt x="426" y="1795"/>
                    </a:moveTo>
                    <a:lnTo>
                      <a:pt x="180" y="1718"/>
                    </a:lnTo>
                    <a:lnTo>
                      <a:pt x="37" y="1609"/>
                    </a:lnTo>
                    <a:lnTo>
                      <a:pt x="0" y="1478"/>
                    </a:lnTo>
                    <a:lnTo>
                      <a:pt x="26" y="1333"/>
                    </a:lnTo>
                    <a:lnTo>
                      <a:pt x="37" y="1160"/>
                    </a:lnTo>
                    <a:lnTo>
                      <a:pt x="120" y="995"/>
                    </a:lnTo>
                    <a:lnTo>
                      <a:pt x="237" y="905"/>
                    </a:lnTo>
                    <a:lnTo>
                      <a:pt x="346" y="850"/>
                    </a:lnTo>
                    <a:lnTo>
                      <a:pt x="386" y="749"/>
                    </a:lnTo>
                    <a:lnTo>
                      <a:pt x="459" y="689"/>
                    </a:lnTo>
                    <a:lnTo>
                      <a:pt x="614" y="659"/>
                    </a:lnTo>
                    <a:lnTo>
                      <a:pt x="777" y="433"/>
                    </a:lnTo>
                    <a:lnTo>
                      <a:pt x="1035" y="292"/>
                    </a:lnTo>
                    <a:lnTo>
                      <a:pt x="1300" y="268"/>
                    </a:lnTo>
                    <a:lnTo>
                      <a:pt x="1515" y="90"/>
                    </a:lnTo>
                    <a:lnTo>
                      <a:pt x="1707" y="57"/>
                    </a:lnTo>
                    <a:lnTo>
                      <a:pt x="1914" y="65"/>
                    </a:lnTo>
                    <a:lnTo>
                      <a:pt x="2221" y="0"/>
                    </a:lnTo>
                    <a:lnTo>
                      <a:pt x="2474" y="39"/>
                    </a:lnTo>
                    <a:lnTo>
                      <a:pt x="2624" y="79"/>
                    </a:lnTo>
                    <a:lnTo>
                      <a:pt x="2795" y="90"/>
                    </a:lnTo>
                    <a:lnTo>
                      <a:pt x="2933" y="178"/>
                    </a:lnTo>
                    <a:lnTo>
                      <a:pt x="3048" y="281"/>
                    </a:lnTo>
                    <a:lnTo>
                      <a:pt x="3254" y="332"/>
                    </a:lnTo>
                    <a:lnTo>
                      <a:pt x="3440" y="468"/>
                    </a:lnTo>
                    <a:lnTo>
                      <a:pt x="3659" y="714"/>
                    </a:lnTo>
                    <a:lnTo>
                      <a:pt x="3788" y="943"/>
                    </a:lnTo>
                    <a:lnTo>
                      <a:pt x="3880" y="1259"/>
                    </a:lnTo>
                    <a:lnTo>
                      <a:pt x="3911" y="1609"/>
                    </a:lnTo>
                    <a:lnTo>
                      <a:pt x="3850" y="1936"/>
                    </a:lnTo>
                    <a:lnTo>
                      <a:pt x="3647" y="2254"/>
                    </a:lnTo>
                    <a:lnTo>
                      <a:pt x="3331" y="2704"/>
                    </a:lnTo>
                    <a:lnTo>
                      <a:pt x="2819" y="3232"/>
                    </a:lnTo>
                    <a:lnTo>
                      <a:pt x="1349" y="2428"/>
                    </a:lnTo>
                    <a:lnTo>
                      <a:pt x="426" y="179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953480" y="5781240"/>
                <a:ext cx="191880" cy="189720"/>
              </a:xfrm>
              <a:custGeom>
                <a:avLst/>
                <a:gdLst/>
                <a:ahLst/>
                <a:rect l="l" t="t" r="r" b="b"/>
                <a:pathLst>
                  <a:path w="2514" h="2843">
                    <a:moveTo>
                      <a:pt x="1734" y="570"/>
                    </a:moveTo>
                    <a:lnTo>
                      <a:pt x="1644" y="621"/>
                    </a:lnTo>
                    <a:lnTo>
                      <a:pt x="1556" y="744"/>
                    </a:lnTo>
                    <a:lnTo>
                      <a:pt x="1262" y="645"/>
                    </a:lnTo>
                    <a:lnTo>
                      <a:pt x="840" y="232"/>
                    </a:lnTo>
                    <a:lnTo>
                      <a:pt x="524" y="146"/>
                    </a:lnTo>
                    <a:lnTo>
                      <a:pt x="409" y="0"/>
                    </a:lnTo>
                    <a:lnTo>
                      <a:pt x="330" y="41"/>
                    </a:lnTo>
                    <a:lnTo>
                      <a:pt x="242" y="159"/>
                    </a:lnTo>
                    <a:lnTo>
                      <a:pt x="156" y="645"/>
                    </a:lnTo>
                    <a:lnTo>
                      <a:pt x="178" y="744"/>
                    </a:lnTo>
                    <a:lnTo>
                      <a:pt x="242" y="854"/>
                    </a:lnTo>
                    <a:lnTo>
                      <a:pt x="264" y="984"/>
                    </a:lnTo>
                    <a:lnTo>
                      <a:pt x="264" y="1125"/>
                    </a:lnTo>
                    <a:lnTo>
                      <a:pt x="229" y="1252"/>
                    </a:lnTo>
                    <a:lnTo>
                      <a:pt x="0" y="1713"/>
                    </a:lnTo>
                    <a:lnTo>
                      <a:pt x="24" y="1790"/>
                    </a:lnTo>
                    <a:lnTo>
                      <a:pt x="303" y="1773"/>
                    </a:lnTo>
                    <a:lnTo>
                      <a:pt x="384" y="1979"/>
                    </a:lnTo>
                    <a:lnTo>
                      <a:pt x="460" y="2003"/>
                    </a:lnTo>
                    <a:lnTo>
                      <a:pt x="547" y="2170"/>
                    </a:lnTo>
                    <a:lnTo>
                      <a:pt x="483" y="2267"/>
                    </a:lnTo>
                    <a:lnTo>
                      <a:pt x="483" y="2298"/>
                    </a:lnTo>
                    <a:lnTo>
                      <a:pt x="596" y="2419"/>
                    </a:lnTo>
                    <a:lnTo>
                      <a:pt x="596" y="2504"/>
                    </a:lnTo>
                    <a:lnTo>
                      <a:pt x="561" y="2579"/>
                    </a:lnTo>
                    <a:lnTo>
                      <a:pt x="572" y="2698"/>
                    </a:lnTo>
                    <a:lnTo>
                      <a:pt x="622" y="2735"/>
                    </a:lnTo>
                    <a:lnTo>
                      <a:pt x="723" y="2764"/>
                    </a:lnTo>
                    <a:lnTo>
                      <a:pt x="1402" y="2698"/>
                    </a:lnTo>
                    <a:lnTo>
                      <a:pt x="1684" y="2843"/>
                    </a:lnTo>
                    <a:lnTo>
                      <a:pt x="1824" y="2612"/>
                    </a:lnTo>
                    <a:lnTo>
                      <a:pt x="1963" y="2483"/>
                    </a:lnTo>
                    <a:lnTo>
                      <a:pt x="2209" y="2232"/>
                    </a:lnTo>
                    <a:lnTo>
                      <a:pt x="2514" y="1979"/>
                    </a:lnTo>
                    <a:lnTo>
                      <a:pt x="2260" y="1162"/>
                    </a:lnTo>
                    <a:lnTo>
                      <a:pt x="2165" y="667"/>
                    </a:lnTo>
                    <a:lnTo>
                      <a:pt x="1951" y="524"/>
                    </a:lnTo>
                    <a:lnTo>
                      <a:pt x="1734" y="57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8068680" y="5874480"/>
                <a:ext cx="24840" cy="21600"/>
              </a:xfrm>
              <a:custGeom>
                <a:avLst/>
                <a:gdLst/>
                <a:ahLst/>
                <a:rect l="l" t="t" r="r" b="b"/>
                <a:pathLst>
                  <a:path w="334" h="330">
                    <a:moveTo>
                      <a:pt x="230" y="0"/>
                    </a:moveTo>
                    <a:lnTo>
                      <a:pt x="155" y="20"/>
                    </a:lnTo>
                    <a:lnTo>
                      <a:pt x="65" y="47"/>
                    </a:lnTo>
                    <a:lnTo>
                      <a:pt x="0" y="130"/>
                    </a:lnTo>
                    <a:lnTo>
                      <a:pt x="0" y="231"/>
                    </a:lnTo>
                    <a:lnTo>
                      <a:pt x="52" y="321"/>
                    </a:lnTo>
                    <a:lnTo>
                      <a:pt x="155" y="330"/>
                    </a:lnTo>
                    <a:lnTo>
                      <a:pt x="281" y="291"/>
                    </a:lnTo>
                    <a:lnTo>
                      <a:pt x="334" y="215"/>
                    </a:lnTo>
                    <a:lnTo>
                      <a:pt x="334" y="104"/>
                    </a:lnTo>
                    <a:lnTo>
                      <a:pt x="291" y="47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990200" y="591768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79" h="227">
                    <a:moveTo>
                      <a:pt x="0" y="137"/>
                    </a:moveTo>
                    <a:lnTo>
                      <a:pt x="0" y="227"/>
                    </a:lnTo>
                    <a:lnTo>
                      <a:pt x="168" y="130"/>
                    </a:lnTo>
                    <a:lnTo>
                      <a:pt x="179" y="0"/>
                    </a:lnTo>
                    <a:lnTo>
                      <a:pt x="51" y="84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988040" y="5912280"/>
                <a:ext cx="18360" cy="14400"/>
              </a:xfrm>
              <a:custGeom>
                <a:avLst/>
                <a:gdLst/>
                <a:ahLst/>
                <a:rect l="l" t="t" r="r" b="b"/>
                <a:pathLst>
                  <a:path w="242" h="213">
                    <a:moveTo>
                      <a:pt x="0" y="51"/>
                    </a:moveTo>
                    <a:lnTo>
                      <a:pt x="64" y="213"/>
                    </a:lnTo>
                    <a:lnTo>
                      <a:pt x="203" y="152"/>
                    </a:lnTo>
                    <a:lnTo>
                      <a:pt x="242" y="39"/>
                    </a:lnTo>
                    <a:lnTo>
                      <a:pt x="124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970760" y="58330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270" h="242">
                    <a:moveTo>
                      <a:pt x="136" y="40"/>
                    </a:moveTo>
                    <a:lnTo>
                      <a:pt x="270" y="242"/>
                    </a:lnTo>
                    <a:lnTo>
                      <a:pt x="28" y="102"/>
                    </a:lnTo>
                    <a:lnTo>
                      <a:pt x="0" y="28"/>
                    </a:lnTo>
                    <a:lnTo>
                      <a:pt x="55" y="0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0cc1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214760" y="5699160"/>
                <a:ext cx="249840" cy="149400"/>
              </a:xfrm>
              <a:custGeom>
                <a:avLst/>
                <a:gdLst/>
                <a:ahLst/>
                <a:rect l="l" t="t" r="r" b="b"/>
                <a:pathLst>
                  <a:path w="3274" h="2237">
                    <a:moveTo>
                      <a:pt x="19" y="2140"/>
                    </a:moveTo>
                    <a:lnTo>
                      <a:pt x="35" y="1930"/>
                    </a:lnTo>
                    <a:lnTo>
                      <a:pt x="0" y="1342"/>
                    </a:lnTo>
                    <a:lnTo>
                      <a:pt x="61" y="1035"/>
                    </a:lnTo>
                    <a:lnTo>
                      <a:pt x="229" y="760"/>
                    </a:lnTo>
                    <a:lnTo>
                      <a:pt x="397" y="468"/>
                    </a:lnTo>
                    <a:lnTo>
                      <a:pt x="740" y="226"/>
                    </a:lnTo>
                    <a:lnTo>
                      <a:pt x="1169" y="77"/>
                    </a:lnTo>
                    <a:lnTo>
                      <a:pt x="1511" y="7"/>
                    </a:lnTo>
                    <a:lnTo>
                      <a:pt x="1894" y="0"/>
                    </a:lnTo>
                    <a:lnTo>
                      <a:pt x="2338" y="127"/>
                    </a:lnTo>
                    <a:lnTo>
                      <a:pt x="2654" y="296"/>
                    </a:lnTo>
                    <a:lnTo>
                      <a:pt x="2922" y="487"/>
                    </a:lnTo>
                    <a:lnTo>
                      <a:pt x="3103" y="549"/>
                    </a:lnTo>
                    <a:lnTo>
                      <a:pt x="3252" y="694"/>
                    </a:lnTo>
                    <a:lnTo>
                      <a:pt x="3274" y="844"/>
                    </a:lnTo>
                    <a:lnTo>
                      <a:pt x="3223" y="945"/>
                    </a:lnTo>
                    <a:lnTo>
                      <a:pt x="3078" y="973"/>
                    </a:lnTo>
                    <a:lnTo>
                      <a:pt x="136" y="2237"/>
                    </a:lnTo>
                    <a:lnTo>
                      <a:pt x="19" y="214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206120" y="5748840"/>
                <a:ext cx="267480" cy="206640"/>
              </a:xfrm>
              <a:custGeom>
                <a:avLst/>
                <a:gdLst/>
                <a:ahLst/>
                <a:rect l="l" t="t" r="r" b="b"/>
                <a:pathLst>
                  <a:path w="3504" h="3096">
                    <a:moveTo>
                      <a:pt x="0" y="1865"/>
                    </a:moveTo>
                    <a:lnTo>
                      <a:pt x="345" y="1955"/>
                    </a:lnTo>
                    <a:lnTo>
                      <a:pt x="710" y="2087"/>
                    </a:lnTo>
                    <a:lnTo>
                      <a:pt x="1097" y="2344"/>
                    </a:lnTo>
                    <a:lnTo>
                      <a:pt x="1365" y="2591"/>
                    </a:lnTo>
                    <a:lnTo>
                      <a:pt x="1696" y="2953"/>
                    </a:lnTo>
                    <a:lnTo>
                      <a:pt x="2865" y="3096"/>
                    </a:lnTo>
                    <a:lnTo>
                      <a:pt x="2921" y="3023"/>
                    </a:lnTo>
                    <a:lnTo>
                      <a:pt x="2921" y="2889"/>
                    </a:lnTo>
                    <a:lnTo>
                      <a:pt x="2949" y="2817"/>
                    </a:lnTo>
                    <a:lnTo>
                      <a:pt x="3024" y="2740"/>
                    </a:lnTo>
                    <a:lnTo>
                      <a:pt x="3017" y="2600"/>
                    </a:lnTo>
                    <a:lnTo>
                      <a:pt x="2826" y="2469"/>
                    </a:lnTo>
                    <a:lnTo>
                      <a:pt x="3032" y="2419"/>
                    </a:lnTo>
                    <a:lnTo>
                      <a:pt x="3098" y="2213"/>
                    </a:lnTo>
                    <a:lnTo>
                      <a:pt x="3173" y="2167"/>
                    </a:lnTo>
                    <a:lnTo>
                      <a:pt x="3362" y="2177"/>
                    </a:lnTo>
                    <a:lnTo>
                      <a:pt x="3472" y="2158"/>
                    </a:lnTo>
                    <a:lnTo>
                      <a:pt x="3504" y="2118"/>
                    </a:lnTo>
                    <a:lnTo>
                      <a:pt x="3494" y="2068"/>
                    </a:lnTo>
                    <a:lnTo>
                      <a:pt x="3223" y="1378"/>
                    </a:lnTo>
                    <a:lnTo>
                      <a:pt x="3248" y="1303"/>
                    </a:lnTo>
                    <a:lnTo>
                      <a:pt x="3310" y="1222"/>
                    </a:lnTo>
                    <a:lnTo>
                      <a:pt x="3278" y="826"/>
                    </a:lnTo>
                    <a:lnTo>
                      <a:pt x="3239" y="538"/>
                    </a:lnTo>
                    <a:lnTo>
                      <a:pt x="3149" y="242"/>
                    </a:lnTo>
                    <a:lnTo>
                      <a:pt x="2296" y="0"/>
                    </a:lnTo>
                    <a:lnTo>
                      <a:pt x="83" y="1630"/>
                    </a:lnTo>
                    <a:lnTo>
                      <a:pt x="0" y="186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434720" y="584856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122" h="129">
                    <a:moveTo>
                      <a:pt x="122" y="0"/>
                    </a:moveTo>
                    <a:lnTo>
                      <a:pt x="71" y="129"/>
                    </a:lnTo>
                    <a:lnTo>
                      <a:pt x="0" y="26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719480" y="6102000"/>
                <a:ext cx="129960" cy="49680"/>
              </a:xfrm>
              <a:custGeom>
                <a:avLst/>
                <a:gdLst/>
                <a:ahLst/>
                <a:rect l="l" t="t" r="r" b="b"/>
                <a:pathLst>
                  <a:path w="1699" h="744">
                    <a:moveTo>
                      <a:pt x="0" y="80"/>
                    </a:moveTo>
                    <a:lnTo>
                      <a:pt x="42" y="0"/>
                    </a:lnTo>
                    <a:lnTo>
                      <a:pt x="814" y="300"/>
                    </a:lnTo>
                    <a:lnTo>
                      <a:pt x="1517" y="616"/>
                    </a:lnTo>
                    <a:lnTo>
                      <a:pt x="1699" y="744"/>
                    </a:lnTo>
                    <a:lnTo>
                      <a:pt x="1460" y="708"/>
                    </a:lnTo>
                    <a:lnTo>
                      <a:pt x="206" y="157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670880" y="6111000"/>
                <a:ext cx="152640" cy="82080"/>
              </a:xfrm>
              <a:custGeom>
                <a:avLst/>
                <a:gdLst/>
                <a:ahLst/>
                <a:rect l="l" t="t" r="r" b="b"/>
                <a:pathLst>
                  <a:path w="2003" h="1230">
                    <a:moveTo>
                      <a:pt x="80" y="253"/>
                    </a:moveTo>
                    <a:lnTo>
                      <a:pt x="278" y="218"/>
                    </a:lnTo>
                    <a:lnTo>
                      <a:pt x="477" y="195"/>
                    </a:lnTo>
                    <a:lnTo>
                      <a:pt x="945" y="11"/>
                    </a:lnTo>
                    <a:lnTo>
                      <a:pt x="1262" y="11"/>
                    </a:lnTo>
                    <a:lnTo>
                      <a:pt x="1646" y="0"/>
                    </a:lnTo>
                    <a:lnTo>
                      <a:pt x="2003" y="345"/>
                    </a:lnTo>
                    <a:lnTo>
                      <a:pt x="1973" y="393"/>
                    </a:lnTo>
                    <a:lnTo>
                      <a:pt x="1941" y="380"/>
                    </a:lnTo>
                    <a:lnTo>
                      <a:pt x="1927" y="472"/>
                    </a:lnTo>
                    <a:lnTo>
                      <a:pt x="1869" y="534"/>
                    </a:lnTo>
                    <a:lnTo>
                      <a:pt x="1578" y="725"/>
                    </a:lnTo>
                    <a:lnTo>
                      <a:pt x="1491" y="861"/>
                    </a:lnTo>
                    <a:lnTo>
                      <a:pt x="1297" y="991"/>
                    </a:lnTo>
                    <a:lnTo>
                      <a:pt x="1229" y="1112"/>
                    </a:lnTo>
                    <a:lnTo>
                      <a:pt x="926" y="1221"/>
                    </a:lnTo>
                    <a:lnTo>
                      <a:pt x="848" y="1230"/>
                    </a:lnTo>
                    <a:lnTo>
                      <a:pt x="539" y="1158"/>
                    </a:lnTo>
                    <a:lnTo>
                      <a:pt x="34" y="855"/>
                    </a:lnTo>
                    <a:lnTo>
                      <a:pt x="0" y="419"/>
                    </a:lnTo>
                    <a:lnTo>
                      <a:pt x="80" y="253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652880" y="5721480"/>
                <a:ext cx="173880" cy="180000"/>
              </a:xfrm>
              <a:custGeom>
                <a:avLst/>
                <a:gdLst/>
                <a:ahLst/>
                <a:rect l="l" t="t" r="r" b="b"/>
                <a:pathLst>
                  <a:path w="2284" h="2689">
                    <a:moveTo>
                      <a:pt x="166" y="357"/>
                    </a:moveTo>
                    <a:lnTo>
                      <a:pt x="55" y="468"/>
                    </a:lnTo>
                    <a:lnTo>
                      <a:pt x="0" y="597"/>
                    </a:lnTo>
                    <a:lnTo>
                      <a:pt x="0" y="740"/>
                    </a:lnTo>
                    <a:lnTo>
                      <a:pt x="14" y="869"/>
                    </a:lnTo>
                    <a:lnTo>
                      <a:pt x="75" y="1095"/>
                    </a:lnTo>
                    <a:lnTo>
                      <a:pt x="187" y="1190"/>
                    </a:lnTo>
                    <a:lnTo>
                      <a:pt x="148" y="1552"/>
                    </a:lnTo>
                    <a:lnTo>
                      <a:pt x="172" y="1731"/>
                    </a:lnTo>
                    <a:lnTo>
                      <a:pt x="247" y="2225"/>
                    </a:lnTo>
                    <a:lnTo>
                      <a:pt x="326" y="2329"/>
                    </a:lnTo>
                    <a:lnTo>
                      <a:pt x="479" y="2513"/>
                    </a:lnTo>
                    <a:lnTo>
                      <a:pt x="715" y="2689"/>
                    </a:lnTo>
                    <a:lnTo>
                      <a:pt x="1117" y="2548"/>
                    </a:lnTo>
                    <a:lnTo>
                      <a:pt x="1238" y="2467"/>
                    </a:lnTo>
                    <a:lnTo>
                      <a:pt x="1399" y="2357"/>
                    </a:lnTo>
                    <a:lnTo>
                      <a:pt x="1473" y="2252"/>
                    </a:lnTo>
                    <a:lnTo>
                      <a:pt x="1567" y="2201"/>
                    </a:lnTo>
                    <a:lnTo>
                      <a:pt x="1858" y="1681"/>
                    </a:lnTo>
                    <a:lnTo>
                      <a:pt x="1971" y="1690"/>
                    </a:lnTo>
                    <a:lnTo>
                      <a:pt x="2040" y="1607"/>
                    </a:lnTo>
                    <a:lnTo>
                      <a:pt x="2157" y="1439"/>
                    </a:lnTo>
                    <a:lnTo>
                      <a:pt x="2199" y="1298"/>
                    </a:lnTo>
                    <a:lnTo>
                      <a:pt x="2199" y="1190"/>
                    </a:lnTo>
                    <a:lnTo>
                      <a:pt x="2284" y="423"/>
                    </a:lnTo>
                    <a:lnTo>
                      <a:pt x="987" y="0"/>
                    </a:lnTo>
                    <a:lnTo>
                      <a:pt x="341" y="263"/>
                    </a:lnTo>
                    <a:lnTo>
                      <a:pt x="166" y="35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701120" y="57722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516" h="592">
                    <a:moveTo>
                      <a:pt x="0" y="0"/>
                    </a:moveTo>
                    <a:lnTo>
                      <a:pt x="230" y="592"/>
                    </a:lnTo>
                    <a:lnTo>
                      <a:pt x="351" y="521"/>
                    </a:lnTo>
                    <a:lnTo>
                      <a:pt x="424" y="449"/>
                    </a:lnTo>
                    <a:lnTo>
                      <a:pt x="481" y="357"/>
                    </a:lnTo>
                    <a:lnTo>
                      <a:pt x="516" y="246"/>
                    </a:lnTo>
                    <a:lnTo>
                      <a:pt x="445" y="145"/>
                    </a:lnTo>
                    <a:lnTo>
                      <a:pt x="288" y="46"/>
                    </a:lnTo>
                    <a:lnTo>
                      <a:pt x="131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770960" y="5794200"/>
                <a:ext cx="30240" cy="31320"/>
              </a:xfrm>
              <a:custGeom>
                <a:avLst/>
                <a:gdLst/>
                <a:ahLst/>
                <a:rect l="l" t="t" r="r" b="b"/>
                <a:pathLst>
                  <a:path w="404" h="473">
                    <a:moveTo>
                      <a:pt x="0" y="0"/>
                    </a:moveTo>
                    <a:lnTo>
                      <a:pt x="231" y="473"/>
                    </a:lnTo>
                    <a:lnTo>
                      <a:pt x="303" y="376"/>
                    </a:lnTo>
                    <a:lnTo>
                      <a:pt x="393" y="242"/>
                    </a:lnTo>
                    <a:lnTo>
                      <a:pt x="404" y="146"/>
                    </a:lnTo>
                    <a:lnTo>
                      <a:pt x="171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680960" y="5779800"/>
                <a:ext cx="15480" cy="29160"/>
              </a:xfrm>
              <a:custGeom>
                <a:avLst/>
                <a:gdLst/>
                <a:ahLst/>
                <a:rect l="l" t="t" r="r" b="b"/>
                <a:pathLst>
                  <a:path w="210" h="443">
                    <a:moveTo>
                      <a:pt x="39" y="0"/>
                    </a:moveTo>
                    <a:lnTo>
                      <a:pt x="210" y="443"/>
                    </a:lnTo>
                    <a:lnTo>
                      <a:pt x="97" y="374"/>
                    </a:lnTo>
                    <a:lnTo>
                      <a:pt x="39" y="302"/>
                    </a:lnTo>
                    <a:lnTo>
                      <a:pt x="10" y="226"/>
                    </a:lnTo>
                    <a:lnTo>
                      <a:pt x="0" y="97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751520" y="5796720"/>
                <a:ext cx="22320" cy="32040"/>
              </a:xfrm>
              <a:custGeom>
                <a:avLst/>
                <a:gdLst/>
                <a:ahLst/>
                <a:rect l="l" t="t" r="r" b="b"/>
                <a:pathLst>
                  <a:path w="292" h="480">
                    <a:moveTo>
                      <a:pt x="32" y="0"/>
                    </a:moveTo>
                    <a:lnTo>
                      <a:pt x="292" y="480"/>
                    </a:lnTo>
                    <a:lnTo>
                      <a:pt x="131" y="432"/>
                    </a:lnTo>
                    <a:lnTo>
                      <a:pt x="32" y="386"/>
                    </a:lnTo>
                    <a:lnTo>
                      <a:pt x="0" y="22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684200" y="5775480"/>
                <a:ext cx="16920" cy="34920"/>
              </a:xfrm>
              <a:custGeom>
                <a:avLst/>
                <a:gdLst/>
                <a:ahLst/>
                <a:rect l="l" t="t" r="r" b="b"/>
                <a:pathLst>
                  <a:path w="222" h="523">
                    <a:moveTo>
                      <a:pt x="0" y="119"/>
                    </a:moveTo>
                    <a:lnTo>
                      <a:pt x="150" y="493"/>
                    </a:lnTo>
                    <a:lnTo>
                      <a:pt x="222" y="523"/>
                    </a:lnTo>
                    <a:lnTo>
                      <a:pt x="17" y="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753680" y="5796360"/>
                <a:ext cx="21960" cy="32760"/>
              </a:xfrm>
              <a:custGeom>
                <a:avLst/>
                <a:gdLst/>
                <a:ahLst/>
                <a:rect l="l" t="t" r="r" b="b"/>
                <a:pathLst>
                  <a:path w="288" h="498">
                    <a:moveTo>
                      <a:pt x="0" y="35"/>
                    </a:moveTo>
                    <a:lnTo>
                      <a:pt x="224" y="498"/>
                    </a:lnTo>
                    <a:lnTo>
                      <a:pt x="288" y="477"/>
                    </a:lnTo>
                    <a:lnTo>
                      <a:pt x="3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666920" y="5678640"/>
                <a:ext cx="186840" cy="123840"/>
              </a:xfrm>
              <a:custGeom>
                <a:avLst/>
                <a:gdLst/>
                <a:ahLst/>
                <a:rect l="l" t="t" r="r" b="b"/>
                <a:pathLst>
                  <a:path w="2454" h="1848">
                    <a:moveTo>
                      <a:pt x="226" y="1063"/>
                    </a:moveTo>
                    <a:lnTo>
                      <a:pt x="323" y="1046"/>
                    </a:lnTo>
                    <a:lnTo>
                      <a:pt x="672" y="790"/>
                    </a:lnTo>
                    <a:lnTo>
                      <a:pt x="943" y="817"/>
                    </a:lnTo>
                    <a:lnTo>
                      <a:pt x="1804" y="960"/>
                    </a:lnTo>
                    <a:lnTo>
                      <a:pt x="2092" y="1063"/>
                    </a:lnTo>
                    <a:lnTo>
                      <a:pt x="1965" y="1735"/>
                    </a:lnTo>
                    <a:lnTo>
                      <a:pt x="2037" y="1848"/>
                    </a:lnTo>
                    <a:lnTo>
                      <a:pt x="2297" y="1666"/>
                    </a:lnTo>
                    <a:lnTo>
                      <a:pt x="2357" y="1544"/>
                    </a:lnTo>
                    <a:lnTo>
                      <a:pt x="2419" y="1364"/>
                    </a:lnTo>
                    <a:lnTo>
                      <a:pt x="2454" y="1248"/>
                    </a:lnTo>
                    <a:lnTo>
                      <a:pt x="2444" y="1122"/>
                    </a:lnTo>
                    <a:lnTo>
                      <a:pt x="2403" y="1059"/>
                    </a:lnTo>
                    <a:lnTo>
                      <a:pt x="2223" y="1009"/>
                    </a:lnTo>
                    <a:lnTo>
                      <a:pt x="2025" y="380"/>
                    </a:lnTo>
                    <a:lnTo>
                      <a:pt x="1848" y="173"/>
                    </a:lnTo>
                    <a:lnTo>
                      <a:pt x="1472" y="11"/>
                    </a:lnTo>
                    <a:lnTo>
                      <a:pt x="1264" y="0"/>
                    </a:lnTo>
                    <a:lnTo>
                      <a:pt x="1004" y="27"/>
                    </a:lnTo>
                    <a:lnTo>
                      <a:pt x="760" y="76"/>
                    </a:lnTo>
                    <a:lnTo>
                      <a:pt x="554" y="207"/>
                    </a:lnTo>
                    <a:lnTo>
                      <a:pt x="202" y="633"/>
                    </a:lnTo>
                    <a:lnTo>
                      <a:pt x="0" y="982"/>
                    </a:lnTo>
                    <a:lnTo>
                      <a:pt x="88" y="1035"/>
                    </a:lnTo>
                    <a:lnTo>
                      <a:pt x="127" y="1162"/>
                    </a:lnTo>
                    <a:lnTo>
                      <a:pt x="226" y="1063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763040" y="5796720"/>
                <a:ext cx="13320" cy="8280"/>
              </a:xfrm>
              <a:custGeom>
                <a:avLst/>
                <a:gdLst/>
                <a:ahLst/>
                <a:rect l="l" t="t" r="r" b="b"/>
                <a:pathLst>
                  <a:path w="171" h="132">
                    <a:moveTo>
                      <a:pt x="0" y="51"/>
                    </a:moveTo>
                    <a:lnTo>
                      <a:pt x="72" y="132"/>
                    </a:lnTo>
                    <a:lnTo>
                      <a:pt x="171" y="40"/>
                    </a:lnTo>
                    <a:lnTo>
                      <a:pt x="102" y="0"/>
                    </a:lnTo>
                    <a:lnTo>
                      <a:pt x="17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704360" y="57805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251" h="148">
                    <a:moveTo>
                      <a:pt x="0" y="46"/>
                    </a:moveTo>
                    <a:lnTo>
                      <a:pt x="83" y="127"/>
                    </a:lnTo>
                    <a:lnTo>
                      <a:pt x="182" y="148"/>
                    </a:lnTo>
                    <a:lnTo>
                      <a:pt x="251" y="35"/>
                    </a:lnTo>
                    <a:lnTo>
                      <a:pt x="140" y="0"/>
                    </a:lnTo>
                    <a:lnTo>
                      <a:pt x="24" y="1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936560" y="5785560"/>
                <a:ext cx="44280" cy="62280"/>
              </a:xfrm>
              <a:custGeom>
                <a:avLst/>
                <a:gdLst/>
                <a:ahLst/>
                <a:rect l="l" t="t" r="r" b="b"/>
                <a:pathLst>
                  <a:path w="585" h="936">
                    <a:moveTo>
                      <a:pt x="532" y="0"/>
                    </a:moveTo>
                    <a:lnTo>
                      <a:pt x="464" y="79"/>
                    </a:lnTo>
                    <a:lnTo>
                      <a:pt x="407" y="22"/>
                    </a:lnTo>
                    <a:lnTo>
                      <a:pt x="315" y="22"/>
                    </a:lnTo>
                    <a:lnTo>
                      <a:pt x="137" y="129"/>
                    </a:lnTo>
                    <a:lnTo>
                      <a:pt x="18" y="277"/>
                    </a:lnTo>
                    <a:lnTo>
                      <a:pt x="0" y="398"/>
                    </a:lnTo>
                    <a:lnTo>
                      <a:pt x="18" y="532"/>
                    </a:lnTo>
                    <a:lnTo>
                      <a:pt x="62" y="592"/>
                    </a:lnTo>
                    <a:lnTo>
                      <a:pt x="112" y="620"/>
                    </a:lnTo>
                    <a:lnTo>
                      <a:pt x="62" y="562"/>
                    </a:lnTo>
                    <a:lnTo>
                      <a:pt x="53" y="484"/>
                    </a:lnTo>
                    <a:lnTo>
                      <a:pt x="77" y="407"/>
                    </a:lnTo>
                    <a:lnTo>
                      <a:pt x="143" y="301"/>
                    </a:lnTo>
                    <a:lnTo>
                      <a:pt x="222" y="262"/>
                    </a:lnTo>
                    <a:lnTo>
                      <a:pt x="264" y="235"/>
                    </a:lnTo>
                    <a:lnTo>
                      <a:pt x="222" y="301"/>
                    </a:lnTo>
                    <a:lnTo>
                      <a:pt x="200" y="407"/>
                    </a:lnTo>
                    <a:lnTo>
                      <a:pt x="213" y="484"/>
                    </a:lnTo>
                    <a:lnTo>
                      <a:pt x="235" y="558"/>
                    </a:lnTo>
                    <a:lnTo>
                      <a:pt x="283" y="613"/>
                    </a:lnTo>
                    <a:lnTo>
                      <a:pt x="350" y="659"/>
                    </a:lnTo>
                    <a:lnTo>
                      <a:pt x="350" y="688"/>
                    </a:lnTo>
                    <a:lnTo>
                      <a:pt x="378" y="735"/>
                    </a:lnTo>
                    <a:lnTo>
                      <a:pt x="435" y="776"/>
                    </a:lnTo>
                    <a:lnTo>
                      <a:pt x="486" y="936"/>
                    </a:lnTo>
                    <a:lnTo>
                      <a:pt x="479" y="754"/>
                    </a:lnTo>
                    <a:lnTo>
                      <a:pt x="506" y="730"/>
                    </a:lnTo>
                    <a:lnTo>
                      <a:pt x="585" y="747"/>
                    </a:lnTo>
                    <a:lnTo>
                      <a:pt x="474" y="688"/>
                    </a:lnTo>
                    <a:lnTo>
                      <a:pt x="382" y="652"/>
                    </a:lnTo>
                    <a:lnTo>
                      <a:pt x="389" y="507"/>
                    </a:lnTo>
                    <a:lnTo>
                      <a:pt x="455" y="228"/>
                    </a:lnTo>
                    <a:lnTo>
                      <a:pt x="5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968960" y="5836320"/>
                <a:ext cx="23760" cy="27720"/>
              </a:xfrm>
              <a:custGeom>
                <a:avLst/>
                <a:gdLst/>
                <a:ahLst/>
                <a:rect l="l" t="t" r="r" b="b"/>
                <a:pathLst>
                  <a:path w="310" h="417">
                    <a:moveTo>
                      <a:pt x="0" y="0"/>
                    </a:moveTo>
                    <a:lnTo>
                      <a:pt x="126" y="96"/>
                    </a:lnTo>
                    <a:lnTo>
                      <a:pt x="310" y="202"/>
                    </a:lnTo>
                    <a:lnTo>
                      <a:pt x="297" y="237"/>
                    </a:lnTo>
                    <a:lnTo>
                      <a:pt x="310" y="248"/>
                    </a:lnTo>
                    <a:lnTo>
                      <a:pt x="126" y="417"/>
                    </a:lnTo>
                    <a:lnTo>
                      <a:pt x="115" y="387"/>
                    </a:lnTo>
                    <a:lnTo>
                      <a:pt x="163" y="302"/>
                    </a:lnTo>
                    <a:lnTo>
                      <a:pt x="143" y="242"/>
                    </a:lnTo>
                    <a:lnTo>
                      <a:pt x="27" y="248"/>
                    </a:lnTo>
                    <a:lnTo>
                      <a:pt x="80" y="202"/>
                    </a:lnTo>
                    <a:lnTo>
                      <a:pt x="108" y="173"/>
                    </a:lnTo>
                    <a:lnTo>
                      <a:pt x="55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953480" y="5855040"/>
                <a:ext cx="30960" cy="56520"/>
              </a:xfrm>
              <a:custGeom>
                <a:avLst/>
                <a:gdLst/>
                <a:ahLst/>
                <a:rect l="l" t="t" r="r" b="b"/>
                <a:pathLst>
                  <a:path w="409" h="848">
                    <a:moveTo>
                      <a:pt x="264" y="0"/>
                    </a:moveTo>
                    <a:lnTo>
                      <a:pt x="252" y="55"/>
                    </a:lnTo>
                    <a:lnTo>
                      <a:pt x="202" y="200"/>
                    </a:lnTo>
                    <a:lnTo>
                      <a:pt x="97" y="401"/>
                    </a:lnTo>
                    <a:lnTo>
                      <a:pt x="0" y="606"/>
                    </a:lnTo>
                    <a:lnTo>
                      <a:pt x="0" y="661"/>
                    </a:lnTo>
                    <a:lnTo>
                      <a:pt x="61" y="696"/>
                    </a:lnTo>
                    <a:lnTo>
                      <a:pt x="220" y="719"/>
                    </a:lnTo>
                    <a:lnTo>
                      <a:pt x="317" y="740"/>
                    </a:lnTo>
                    <a:lnTo>
                      <a:pt x="338" y="753"/>
                    </a:lnTo>
                    <a:lnTo>
                      <a:pt x="354" y="809"/>
                    </a:lnTo>
                    <a:lnTo>
                      <a:pt x="365" y="848"/>
                    </a:lnTo>
                    <a:lnTo>
                      <a:pt x="354" y="740"/>
                    </a:lnTo>
                    <a:lnTo>
                      <a:pt x="328" y="696"/>
                    </a:lnTo>
                    <a:lnTo>
                      <a:pt x="354" y="666"/>
                    </a:lnTo>
                    <a:lnTo>
                      <a:pt x="409" y="633"/>
                    </a:lnTo>
                    <a:lnTo>
                      <a:pt x="391" y="615"/>
                    </a:lnTo>
                    <a:lnTo>
                      <a:pt x="338" y="615"/>
                    </a:lnTo>
                    <a:lnTo>
                      <a:pt x="202" y="641"/>
                    </a:lnTo>
                    <a:lnTo>
                      <a:pt x="97" y="666"/>
                    </a:lnTo>
                    <a:lnTo>
                      <a:pt x="35" y="661"/>
                    </a:lnTo>
                    <a:lnTo>
                      <a:pt x="13" y="626"/>
                    </a:lnTo>
                    <a:lnTo>
                      <a:pt x="13" y="590"/>
                    </a:lnTo>
                    <a:lnTo>
                      <a:pt x="218" y="200"/>
                    </a:lnTo>
                    <a:lnTo>
                      <a:pt x="233" y="120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981200" y="5882760"/>
                <a:ext cx="34560" cy="45360"/>
              </a:xfrm>
              <a:custGeom>
                <a:avLst/>
                <a:gdLst/>
                <a:ahLst/>
                <a:rect l="l" t="t" r="r" b="b"/>
                <a:pathLst>
                  <a:path w="452" h="679">
                    <a:moveTo>
                      <a:pt x="0" y="0"/>
                    </a:moveTo>
                    <a:lnTo>
                      <a:pt x="28" y="101"/>
                    </a:lnTo>
                    <a:lnTo>
                      <a:pt x="72" y="180"/>
                    </a:lnTo>
                    <a:lnTo>
                      <a:pt x="154" y="277"/>
                    </a:lnTo>
                    <a:lnTo>
                      <a:pt x="283" y="338"/>
                    </a:lnTo>
                    <a:lnTo>
                      <a:pt x="404" y="433"/>
                    </a:lnTo>
                    <a:lnTo>
                      <a:pt x="424" y="484"/>
                    </a:lnTo>
                    <a:lnTo>
                      <a:pt x="452" y="679"/>
                    </a:lnTo>
                    <a:lnTo>
                      <a:pt x="404" y="574"/>
                    </a:lnTo>
                    <a:lnTo>
                      <a:pt x="283" y="463"/>
                    </a:lnTo>
                    <a:lnTo>
                      <a:pt x="184" y="457"/>
                    </a:lnTo>
                    <a:lnTo>
                      <a:pt x="53" y="495"/>
                    </a:lnTo>
                    <a:lnTo>
                      <a:pt x="0" y="457"/>
                    </a:lnTo>
                    <a:lnTo>
                      <a:pt x="72" y="413"/>
                    </a:lnTo>
                    <a:lnTo>
                      <a:pt x="166" y="403"/>
                    </a:lnTo>
                    <a:lnTo>
                      <a:pt x="256" y="394"/>
                    </a:lnTo>
                    <a:lnTo>
                      <a:pt x="120" y="281"/>
                    </a:lnTo>
                    <a:lnTo>
                      <a:pt x="53" y="1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991640" y="591696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182" h="170">
                    <a:moveTo>
                      <a:pt x="182" y="0"/>
                    </a:moveTo>
                    <a:lnTo>
                      <a:pt x="123" y="85"/>
                    </a:lnTo>
                    <a:lnTo>
                      <a:pt x="62" y="111"/>
                    </a:lnTo>
                    <a:lnTo>
                      <a:pt x="0" y="146"/>
                    </a:lnTo>
                    <a:lnTo>
                      <a:pt x="0" y="170"/>
                    </a:lnTo>
                    <a:lnTo>
                      <a:pt x="92" y="115"/>
                    </a:lnTo>
                    <a:lnTo>
                      <a:pt x="147" y="99"/>
                    </a:lnTo>
                    <a:lnTo>
                      <a:pt x="173" y="3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991640" y="5903640"/>
                <a:ext cx="102960" cy="77400"/>
              </a:xfrm>
              <a:custGeom>
                <a:avLst/>
                <a:gdLst/>
                <a:ahLst/>
                <a:rect l="l" t="t" r="r" b="b"/>
                <a:pathLst>
                  <a:path w="1349" h="1162">
                    <a:moveTo>
                      <a:pt x="0" y="465"/>
                    </a:moveTo>
                    <a:lnTo>
                      <a:pt x="97" y="579"/>
                    </a:lnTo>
                    <a:lnTo>
                      <a:pt x="117" y="634"/>
                    </a:lnTo>
                    <a:lnTo>
                      <a:pt x="117" y="664"/>
                    </a:lnTo>
                    <a:lnTo>
                      <a:pt x="92" y="724"/>
                    </a:lnTo>
                    <a:lnTo>
                      <a:pt x="81" y="770"/>
                    </a:lnTo>
                    <a:lnTo>
                      <a:pt x="81" y="827"/>
                    </a:lnTo>
                    <a:lnTo>
                      <a:pt x="97" y="880"/>
                    </a:lnTo>
                    <a:lnTo>
                      <a:pt x="120" y="899"/>
                    </a:lnTo>
                    <a:lnTo>
                      <a:pt x="198" y="860"/>
                    </a:lnTo>
                    <a:lnTo>
                      <a:pt x="268" y="814"/>
                    </a:lnTo>
                    <a:lnTo>
                      <a:pt x="327" y="728"/>
                    </a:lnTo>
                    <a:lnTo>
                      <a:pt x="345" y="634"/>
                    </a:lnTo>
                    <a:lnTo>
                      <a:pt x="345" y="564"/>
                    </a:lnTo>
                    <a:lnTo>
                      <a:pt x="394" y="814"/>
                    </a:lnTo>
                    <a:lnTo>
                      <a:pt x="505" y="786"/>
                    </a:lnTo>
                    <a:lnTo>
                      <a:pt x="646" y="724"/>
                    </a:lnTo>
                    <a:lnTo>
                      <a:pt x="730" y="643"/>
                    </a:lnTo>
                    <a:lnTo>
                      <a:pt x="802" y="568"/>
                    </a:lnTo>
                    <a:lnTo>
                      <a:pt x="897" y="454"/>
                    </a:lnTo>
                    <a:lnTo>
                      <a:pt x="958" y="408"/>
                    </a:lnTo>
                    <a:lnTo>
                      <a:pt x="1051" y="368"/>
                    </a:lnTo>
                    <a:lnTo>
                      <a:pt x="1125" y="309"/>
                    </a:lnTo>
                    <a:lnTo>
                      <a:pt x="1176" y="238"/>
                    </a:lnTo>
                    <a:lnTo>
                      <a:pt x="1224" y="152"/>
                    </a:lnTo>
                    <a:lnTo>
                      <a:pt x="1257" y="0"/>
                    </a:lnTo>
                    <a:lnTo>
                      <a:pt x="1242" y="223"/>
                    </a:lnTo>
                    <a:lnTo>
                      <a:pt x="1219" y="376"/>
                    </a:lnTo>
                    <a:lnTo>
                      <a:pt x="1164" y="482"/>
                    </a:lnTo>
                    <a:lnTo>
                      <a:pt x="1120" y="568"/>
                    </a:lnTo>
                    <a:lnTo>
                      <a:pt x="1120" y="634"/>
                    </a:lnTo>
                    <a:lnTo>
                      <a:pt x="1153" y="705"/>
                    </a:lnTo>
                    <a:lnTo>
                      <a:pt x="1196" y="790"/>
                    </a:lnTo>
                    <a:lnTo>
                      <a:pt x="1219" y="851"/>
                    </a:lnTo>
                    <a:lnTo>
                      <a:pt x="1226" y="920"/>
                    </a:lnTo>
                    <a:lnTo>
                      <a:pt x="1349" y="746"/>
                    </a:lnTo>
                    <a:lnTo>
                      <a:pt x="1219" y="992"/>
                    </a:lnTo>
                    <a:lnTo>
                      <a:pt x="1160" y="1132"/>
                    </a:lnTo>
                    <a:lnTo>
                      <a:pt x="1160" y="1162"/>
                    </a:lnTo>
                    <a:lnTo>
                      <a:pt x="1090" y="1091"/>
                    </a:lnTo>
                    <a:lnTo>
                      <a:pt x="1000" y="987"/>
                    </a:lnTo>
                    <a:lnTo>
                      <a:pt x="922" y="959"/>
                    </a:lnTo>
                    <a:lnTo>
                      <a:pt x="844" y="926"/>
                    </a:lnTo>
                    <a:lnTo>
                      <a:pt x="712" y="926"/>
                    </a:lnTo>
                    <a:lnTo>
                      <a:pt x="277" y="1021"/>
                    </a:lnTo>
                    <a:lnTo>
                      <a:pt x="173" y="1012"/>
                    </a:lnTo>
                    <a:lnTo>
                      <a:pt x="112" y="986"/>
                    </a:lnTo>
                    <a:lnTo>
                      <a:pt x="48" y="920"/>
                    </a:lnTo>
                    <a:lnTo>
                      <a:pt x="30" y="851"/>
                    </a:lnTo>
                    <a:lnTo>
                      <a:pt x="35" y="786"/>
                    </a:lnTo>
                    <a:lnTo>
                      <a:pt x="62" y="724"/>
                    </a:lnTo>
                    <a:lnTo>
                      <a:pt x="81" y="664"/>
                    </a:lnTo>
                    <a:lnTo>
                      <a:pt x="81" y="610"/>
                    </a:lnTo>
                    <a:lnTo>
                      <a:pt x="48" y="548"/>
                    </a:lnTo>
                    <a:lnTo>
                      <a:pt x="0" y="4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83000" y="5693040"/>
                <a:ext cx="254880" cy="276120"/>
              </a:xfrm>
              <a:custGeom>
                <a:avLst/>
                <a:gdLst/>
                <a:ahLst/>
                <a:rect l="l" t="t" r="r" b="b"/>
                <a:pathLst>
                  <a:path w="3329" h="4141">
                    <a:moveTo>
                      <a:pt x="64" y="1229"/>
                    </a:moveTo>
                    <a:lnTo>
                      <a:pt x="103" y="1344"/>
                    </a:lnTo>
                    <a:lnTo>
                      <a:pt x="174" y="1418"/>
                    </a:lnTo>
                    <a:lnTo>
                      <a:pt x="271" y="1457"/>
                    </a:lnTo>
                    <a:lnTo>
                      <a:pt x="462" y="1480"/>
                    </a:lnTo>
                    <a:lnTo>
                      <a:pt x="618" y="1457"/>
                    </a:lnTo>
                    <a:lnTo>
                      <a:pt x="774" y="1395"/>
                    </a:lnTo>
                    <a:lnTo>
                      <a:pt x="521" y="1406"/>
                    </a:lnTo>
                    <a:lnTo>
                      <a:pt x="361" y="1367"/>
                    </a:lnTo>
                    <a:lnTo>
                      <a:pt x="271" y="1291"/>
                    </a:lnTo>
                    <a:lnTo>
                      <a:pt x="214" y="1199"/>
                    </a:lnTo>
                    <a:lnTo>
                      <a:pt x="361" y="1261"/>
                    </a:lnTo>
                    <a:lnTo>
                      <a:pt x="488" y="1280"/>
                    </a:lnTo>
                    <a:lnTo>
                      <a:pt x="679" y="1261"/>
                    </a:lnTo>
                    <a:lnTo>
                      <a:pt x="850" y="1206"/>
                    </a:lnTo>
                    <a:lnTo>
                      <a:pt x="1030" y="1081"/>
                    </a:lnTo>
                    <a:lnTo>
                      <a:pt x="926" y="1241"/>
                    </a:lnTo>
                    <a:lnTo>
                      <a:pt x="1104" y="1137"/>
                    </a:lnTo>
                    <a:lnTo>
                      <a:pt x="1263" y="1081"/>
                    </a:lnTo>
                    <a:lnTo>
                      <a:pt x="1413" y="1081"/>
                    </a:lnTo>
                    <a:lnTo>
                      <a:pt x="1572" y="1137"/>
                    </a:lnTo>
                    <a:lnTo>
                      <a:pt x="1401" y="1137"/>
                    </a:lnTo>
                    <a:lnTo>
                      <a:pt x="1275" y="1160"/>
                    </a:lnTo>
                    <a:lnTo>
                      <a:pt x="1168" y="1229"/>
                    </a:lnTo>
                    <a:lnTo>
                      <a:pt x="1327" y="1241"/>
                    </a:lnTo>
                    <a:lnTo>
                      <a:pt x="1539" y="1199"/>
                    </a:lnTo>
                    <a:lnTo>
                      <a:pt x="1685" y="1137"/>
                    </a:lnTo>
                    <a:lnTo>
                      <a:pt x="1611" y="1229"/>
                    </a:lnTo>
                    <a:lnTo>
                      <a:pt x="1389" y="1375"/>
                    </a:lnTo>
                    <a:lnTo>
                      <a:pt x="1203" y="1430"/>
                    </a:lnTo>
                    <a:lnTo>
                      <a:pt x="1039" y="1443"/>
                    </a:lnTo>
                    <a:lnTo>
                      <a:pt x="1113" y="1344"/>
                    </a:lnTo>
                    <a:lnTo>
                      <a:pt x="926" y="1367"/>
                    </a:lnTo>
                    <a:lnTo>
                      <a:pt x="745" y="1480"/>
                    </a:lnTo>
                    <a:lnTo>
                      <a:pt x="850" y="1517"/>
                    </a:lnTo>
                    <a:lnTo>
                      <a:pt x="754" y="1591"/>
                    </a:lnTo>
                    <a:lnTo>
                      <a:pt x="906" y="1591"/>
                    </a:lnTo>
                    <a:lnTo>
                      <a:pt x="1141" y="1526"/>
                    </a:lnTo>
                    <a:lnTo>
                      <a:pt x="1275" y="1465"/>
                    </a:lnTo>
                    <a:lnTo>
                      <a:pt x="1141" y="1639"/>
                    </a:lnTo>
                    <a:lnTo>
                      <a:pt x="1214" y="1702"/>
                    </a:lnTo>
                    <a:lnTo>
                      <a:pt x="1401" y="1711"/>
                    </a:lnTo>
                    <a:lnTo>
                      <a:pt x="1636" y="1687"/>
                    </a:lnTo>
                    <a:lnTo>
                      <a:pt x="1807" y="1711"/>
                    </a:lnTo>
                    <a:lnTo>
                      <a:pt x="1947" y="1784"/>
                    </a:lnTo>
                    <a:lnTo>
                      <a:pt x="2066" y="1905"/>
                    </a:lnTo>
                    <a:lnTo>
                      <a:pt x="2145" y="2019"/>
                    </a:lnTo>
                    <a:lnTo>
                      <a:pt x="1967" y="1905"/>
                    </a:lnTo>
                    <a:lnTo>
                      <a:pt x="2095" y="2045"/>
                    </a:lnTo>
                    <a:lnTo>
                      <a:pt x="2153" y="2215"/>
                    </a:lnTo>
                    <a:lnTo>
                      <a:pt x="2153" y="2379"/>
                    </a:lnTo>
                    <a:lnTo>
                      <a:pt x="2125" y="2511"/>
                    </a:lnTo>
                    <a:lnTo>
                      <a:pt x="2084" y="2340"/>
                    </a:lnTo>
                    <a:lnTo>
                      <a:pt x="2066" y="2599"/>
                    </a:lnTo>
                    <a:lnTo>
                      <a:pt x="2003" y="2817"/>
                    </a:lnTo>
                    <a:lnTo>
                      <a:pt x="2145" y="2573"/>
                    </a:lnTo>
                    <a:lnTo>
                      <a:pt x="2153" y="2698"/>
                    </a:lnTo>
                    <a:lnTo>
                      <a:pt x="2215" y="2502"/>
                    </a:lnTo>
                    <a:lnTo>
                      <a:pt x="2247" y="2315"/>
                    </a:lnTo>
                    <a:lnTo>
                      <a:pt x="2330" y="2416"/>
                    </a:lnTo>
                    <a:lnTo>
                      <a:pt x="2365" y="2259"/>
                    </a:lnTo>
                    <a:lnTo>
                      <a:pt x="2365" y="2085"/>
                    </a:lnTo>
                    <a:lnTo>
                      <a:pt x="2316" y="1978"/>
                    </a:lnTo>
                    <a:lnTo>
                      <a:pt x="2215" y="1824"/>
                    </a:lnTo>
                    <a:lnTo>
                      <a:pt x="2406" y="1942"/>
                    </a:lnTo>
                    <a:lnTo>
                      <a:pt x="2391" y="1817"/>
                    </a:lnTo>
                    <a:lnTo>
                      <a:pt x="2567" y="1944"/>
                    </a:lnTo>
                    <a:lnTo>
                      <a:pt x="2624" y="2109"/>
                    </a:lnTo>
                    <a:lnTo>
                      <a:pt x="2674" y="1920"/>
                    </a:lnTo>
                    <a:lnTo>
                      <a:pt x="2635" y="1711"/>
                    </a:lnTo>
                    <a:lnTo>
                      <a:pt x="2778" y="1839"/>
                    </a:lnTo>
                    <a:lnTo>
                      <a:pt x="2881" y="1874"/>
                    </a:lnTo>
                    <a:lnTo>
                      <a:pt x="2960" y="1748"/>
                    </a:lnTo>
                    <a:lnTo>
                      <a:pt x="3006" y="1540"/>
                    </a:lnTo>
                    <a:lnTo>
                      <a:pt x="3035" y="1663"/>
                    </a:lnTo>
                    <a:lnTo>
                      <a:pt x="3142" y="1526"/>
                    </a:lnTo>
                    <a:lnTo>
                      <a:pt x="3178" y="1344"/>
                    </a:lnTo>
                    <a:lnTo>
                      <a:pt x="3237" y="1206"/>
                    </a:lnTo>
                    <a:lnTo>
                      <a:pt x="3237" y="1045"/>
                    </a:lnTo>
                    <a:lnTo>
                      <a:pt x="3204" y="839"/>
                    </a:lnTo>
                    <a:lnTo>
                      <a:pt x="3112" y="581"/>
                    </a:lnTo>
                    <a:lnTo>
                      <a:pt x="2925" y="305"/>
                    </a:lnTo>
                    <a:lnTo>
                      <a:pt x="2669" y="72"/>
                    </a:lnTo>
                    <a:lnTo>
                      <a:pt x="2503" y="0"/>
                    </a:lnTo>
                    <a:lnTo>
                      <a:pt x="2778" y="109"/>
                    </a:lnTo>
                    <a:lnTo>
                      <a:pt x="3112" y="491"/>
                    </a:lnTo>
                    <a:lnTo>
                      <a:pt x="3266" y="867"/>
                    </a:lnTo>
                    <a:lnTo>
                      <a:pt x="3319" y="1241"/>
                    </a:lnTo>
                    <a:lnTo>
                      <a:pt x="3319" y="1591"/>
                    </a:lnTo>
                    <a:lnTo>
                      <a:pt x="3266" y="1893"/>
                    </a:lnTo>
                    <a:lnTo>
                      <a:pt x="3197" y="2121"/>
                    </a:lnTo>
                    <a:lnTo>
                      <a:pt x="3096" y="2315"/>
                    </a:lnTo>
                    <a:lnTo>
                      <a:pt x="2971" y="2502"/>
                    </a:lnTo>
                    <a:lnTo>
                      <a:pt x="2863" y="2599"/>
                    </a:lnTo>
                    <a:lnTo>
                      <a:pt x="2807" y="2713"/>
                    </a:lnTo>
                    <a:lnTo>
                      <a:pt x="2784" y="2817"/>
                    </a:lnTo>
                    <a:lnTo>
                      <a:pt x="2784" y="2928"/>
                    </a:lnTo>
                    <a:lnTo>
                      <a:pt x="2807" y="3050"/>
                    </a:lnTo>
                    <a:lnTo>
                      <a:pt x="2846" y="3120"/>
                    </a:lnTo>
                    <a:lnTo>
                      <a:pt x="3006" y="3124"/>
                    </a:lnTo>
                    <a:lnTo>
                      <a:pt x="3112" y="3256"/>
                    </a:lnTo>
                    <a:lnTo>
                      <a:pt x="3142" y="3428"/>
                    </a:lnTo>
                    <a:lnTo>
                      <a:pt x="3290" y="3562"/>
                    </a:lnTo>
                    <a:lnTo>
                      <a:pt x="3329" y="3663"/>
                    </a:lnTo>
                    <a:lnTo>
                      <a:pt x="3096" y="3670"/>
                    </a:lnTo>
                    <a:lnTo>
                      <a:pt x="2710" y="3812"/>
                    </a:lnTo>
                    <a:lnTo>
                      <a:pt x="2255" y="3981"/>
                    </a:lnTo>
                    <a:lnTo>
                      <a:pt x="1912" y="4141"/>
                    </a:lnTo>
                    <a:lnTo>
                      <a:pt x="2381" y="3894"/>
                    </a:lnTo>
                    <a:lnTo>
                      <a:pt x="2710" y="3733"/>
                    </a:lnTo>
                    <a:lnTo>
                      <a:pt x="2778" y="3663"/>
                    </a:lnTo>
                    <a:lnTo>
                      <a:pt x="2750" y="3491"/>
                    </a:lnTo>
                    <a:lnTo>
                      <a:pt x="2653" y="3327"/>
                    </a:lnTo>
                    <a:lnTo>
                      <a:pt x="2549" y="3256"/>
                    </a:lnTo>
                    <a:lnTo>
                      <a:pt x="2187" y="3352"/>
                    </a:lnTo>
                    <a:lnTo>
                      <a:pt x="1848" y="3537"/>
                    </a:lnTo>
                    <a:lnTo>
                      <a:pt x="1560" y="3830"/>
                    </a:lnTo>
                    <a:lnTo>
                      <a:pt x="1795" y="3537"/>
                    </a:lnTo>
                    <a:lnTo>
                      <a:pt x="2084" y="3289"/>
                    </a:lnTo>
                    <a:lnTo>
                      <a:pt x="1980" y="3111"/>
                    </a:lnTo>
                    <a:lnTo>
                      <a:pt x="1894" y="2949"/>
                    </a:lnTo>
                    <a:lnTo>
                      <a:pt x="1857" y="2778"/>
                    </a:lnTo>
                    <a:lnTo>
                      <a:pt x="1830" y="2573"/>
                    </a:lnTo>
                    <a:lnTo>
                      <a:pt x="1772" y="2722"/>
                    </a:lnTo>
                    <a:lnTo>
                      <a:pt x="1685" y="2873"/>
                    </a:lnTo>
                    <a:lnTo>
                      <a:pt x="1646" y="2979"/>
                    </a:lnTo>
                    <a:lnTo>
                      <a:pt x="1624" y="3094"/>
                    </a:lnTo>
                    <a:lnTo>
                      <a:pt x="1545" y="3168"/>
                    </a:lnTo>
                    <a:lnTo>
                      <a:pt x="1503" y="3181"/>
                    </a:lnTo>
                    <a:lnTo>
                      <a:pt x="1389" y="3181"/>
                    </a:lnTo>
                    <a:lnTo>
                      <a:pt x="1350" y="3181"/>
                    </a:lnTo>
                    <a:lnTo>
                      <a:pt x="1309" y="3054"/>
                    </a:lnTo>
                    <a:lnTo>
                      <a:pt x="1203" y="3050"/>
                    </a:lnTo>
                    <a:lnTo>
                      <a:pt x="1350" y="3034"/>
                    </a:lnTo>
                    <a:lnTo>
                      <a:pt x="1429" y="2972"/>
                    </a:lnTo>
                    <a:lnTo>
                      <a:pt x="1452" y="2893"/>
                    </a:lnTo>
                    <a:lnTo>
                      <a:pt x="1452" y="2817"/>
                    </a:lnTo>
                    <a:lnTo>
                      <a:pt x="1401" y="2748"/>
                    </a:lnTo>
                    <a:lnTo>
                      <a:pt x="1309" y="2722"/>
                    </a:lnTo>
                    <a:lnTo>
                      <a:pt x="1429" y="2733"/>
                    </a:lnTo>
                    <a:lnTo>
                      <a:pt x="1475" y="2760"/>
                    </a:lnTo>
                    <a:lnTo>
                      <a:pt x="1585" y="2698"/>
                    </a:lnTo>
                    <a:lnTo>
                      <a:pt x="1659" y="2573"/>
                    </a:lnTo>
                    <a:lnTo>
                      <a:pt x="1723" y="2416"/>
                    </a:lnTo>
                    <a:lnTo>
                      <a:pt x="1747" y="2259"/>
                    </a:lnTo>
                    <a:lnTo>
                      <a:pt x="1747" y="2133"/>
                    </a:lnTo>
                    <a:lnTo>
                      <a:pt x="1723" y="2019"/>
                    </a:lnTo>
                    <a:lnTo>
                      <a:pt x="1646" y="1920"/>
                    </a:lnTo>
                    <a:lnTo>
                      <a:pt x="1560" y="1874"/>
                    </a:lnTo>
                    <a:lnTo>
                      <a:pt x="1475" y="1874"/>
                    </a:lnTo>
                    <a:lnTo>
                      <a:pt x="1334" y="1891"/>
                    </a:lnTo>
                    <a:lnTo>
                      <a:pt x="1214" y="1858"/>
                    </a:lnTo>
                    <a:lnTo>
                      <a:pt x="1066" y="1784"/>
                    </a:lnTo>
                    <a:lnTo>
                      <a:pt x="976" y="1711"/>
                    </a:lnTo>
                    <a:lnTo>
                      <a:pt x="1090" y="1920"/>
                    </a:lnTo>
                    <a:lnTo>
                      <a:pt x="1182" y="2006"/>
                    </a:lnTo>
                    <a:lnTo>
                      <a:pt x="1327" y="2059"/>
                    </a:lnTo>
                    <a:lnTo>
                      <a:pt x="1182" y="2094"/>
                    </a:lnTo>
                    <a:lnTo>
                      <a:pt x="1077" y="2085"/>
                    </a:lnTo>
                    <a:lnTo>
                      <a:pt x="1113" y="2195"/>
                    </a:lnTo>
                    <a:lnTo>
                      <a:pt x="1168" y="2269"/>
                    </a:lnTo>
                    <a:lnTo>
                      <a:pt x="1228" y="2305"/>
                    </a:lnTo>
                    <a:lnTo>
                      <a:pt x="1113" y="2305"/>
                    </a:lnTo>
                    <a:lnTo>
                      <a:pt x="945" y="2305"/>
                    </a:lnTo>
                    <a:lnTo>
                      <a:pt x="844" y="2241"/>
                    </a:lnTo>
                    <a:lnTo>
                      <a:pt x="776" y="2144"/>
                    </a:lnTo>
                    <a:lnTo>
                      <a:pt x="774" y="2094"/>
                    </a:lnTo>
                    <a:lnTo>
                      <a:pt x="645" y="2038"/>
                    </a:lnTo>
                    <a:lnTo>
                      <a:pt x="548" y="1944"/>
                    </a:lnTo>
                    <a:lnTo>
                      <a:pt x="502" y="1824"/>
                    </a:lnTo>
                    <a:lnTo>
                      <a:pt x="470" y="1711"/>
                    </a:lnTo>
                    <a:lnTo>
                      <a:pt x="350" y="1678"/>
                    </a:lnTo>
                    <a:lnTo>
                      <a:pt x="299" y="1628"/>
                    </a:lnTo>
                    <a:lnTo>
                      <a:pt x="231" y="1566"/>
                    </a:lnTo>
                    <a:lnTo>
                      <a:pt x="121" y="1526"/>
                    </a:lnTo>
                    <a:lnTo>
                      <a:pt x="36" y="1443"/>
                    </a:lnTo>
                    <a:lnTo>
                      <a:pt x="0" y="1344"/>
                    </a:lnTo>
                    <a:lnTo>
                      <a:pt x="0" y="1261"/>
                    </a:lnTo>
                    <a:lnTo>
                      <a:pt x="64" y="1160"/>
                    </a:lnTo>
                    <a:lnTo>
                      <a:pt x="64" y="1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8083080" y="576972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1056" h="495">
                    <a:moveTo>
                      <a:pt x="41" y="274"/>
                    </a:moveTo>
                    <a:lnTo>
                      <a:pt x="166" y="286"/>
                    </a:lnTo>
                    <a:lnTo>
                      <a:pt x="327" y="251"/>
                    </a:lnTo>
                    <a:lnTo>
                      <a:pt x="438" y="177"/>
                    </a:lnTo>
                    <a:lnTo>
                      <a:pt x="560" y="80"/>
                    </a:lnTo>
                    <a:lnTo>
                      <a:pt x="650" y="0"/>
                    </a:lnTo>
                    <a:lnTo>
                      <a:pt x="585" y="136"/>
                    </a:lnTo>
                    <a:lnTo>
                      <a:pt x="477" y="262"/>
                    </a:lnTo>
                    <a:lnTo>
                      <a:pt x="658" y="200"/>
                    </a:lnTo>
                    <a:lnTo>
                      <a:pt x="800" y="200"/>
                    </a:lnTo>
                    <a:lnTo>
                      <a:pt x="922" y="231"/>
                    </a:lnTo>
                    <a:lnTo>
                      <a:pt x="996" y="313"/>
                    </a:lnTo>
                    <a:lnTo>
                      <a:pt x="1056" y="409"/>
                    </a:lnTo>
                    <a:lnTo>
                      <a:pt x="970" y="348"/>
                    </a:lnTo>
                    <a:lnTo>
                      <a:pt x="878" y="321"/>
                    </a:lnTo>
                    <a:lnTo>
                      <a:pt x="775" y="321"/>
                    </a:lnTo>
                    <a:lnTo>
                      <a:pt x="671" y="348"/>
                    </a:lnTo>
                    <a:lnTo>
                      <a:pt x="800" y="409"/>
                    </a:lnTo>
                    <a:lnTo>
                      <a:pt x="618" y="396"/>
                    </a:lnTo>
                    <a:lnTo>
                      <a:pt x="486" y="447"/>
                    </a:lnTo>
                    <a:lnTo>
                      <a:pt x="350" y="484"/>
                    </a:lnTo>
                    <a:lnTo>
                      <a:pt x="201" y="495"/>
                    </a:lnTo>
                    <a:lnTo>
                      <a:pt x="65" y="458"/>
                    </a:lnTo>
                    <a:lnTo>
                      <a:pt x="0" y="396"/>
                    </a:lnTo>
                    <a:lnTo>
                      <a:pt x="150" y="396"/>
                    </a:lnTo>
                    <a:lnTo>
                      <a:pt x="315" y="336"/>
                    </a:lnTo>
                    <a:lnTo>
                      <a:pt x="166" y="336"/>
                    </a:lnTo>
                    <a:lnTo>
                      <a:pt x="65" y="299"/>
                    </a:lnTo>
                    <a:lnTo>
                      <a:pt x="41" y="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8077680" y="5826600"/>
                <a:ext cx="29880" cy="40320"/>
              </a:xfrm>
              <a:custGeom>
                <a:avLst/>
                <a:gdLst/>
                <a:ahLst/>
                <a:rect l="l" t="t" r="r" b="b"/>
                <a:pathLst>
                  <a:path w="387" h="613">
                    <a:moveTo>
                      <a:pt x="67" y="60"/>
                    </a:moveTo>
                    <a:lnTo>
                      <a:pt x="152" y="0"/>
                    </a:lnTo>
                    <a:lnTo>
                      <a:pt x="266" y="0"/>
                    </a:lnTo>
                    <a:lnTo>
                      <a:pt x="348" y="46"/>
                    </a:lnTo>
                    <a:lnTo>
                      <a:pt x="387" y="152"/>
                    </a:lnTo>
                    <a:lnTo>
                      <a:pt x="335" y="86"/>
                    </a:lnTo>
                    <a:lnTo>
                      <a:pt x="266" y="60"/>
                    </a:lnTo>
                    <a:lnTo>
                      <a:pt x="164" y="152"/>
                    </a:lnTo>
                    <a:lnTo>
                      <a:pt x="266" y="270"/>
                    </a:lnTo>
                    <a:lnTo>
                      <a:pt x="266" y="429"/>
                    </a:lnTo>
                    <a:lnTo>
                      <a:pt x="90" y="528"/>
                    </a:lnTo>
                    <a:lnTo>
                      <a:pt x="38" y="613"/>
                    </a:lnTo>
                    <a:lnTo>
                      <a:pt x="0" y="613"/>
                    </a:lnTo>
                    <a:lnTo>
                      <a:pt x="14" y="440"/>
                    </a:lnTo>
                    <a:lnTo>
                      <a:pt x="113" y="367"/>
                    </a:lnTo>
                    <a:lnTo>
                      <a:pt x="113" y="306"/>
                    </a:lnTo>
                    <a:lnTo>
                      <a:pt x="38" y="260"/>
                    </a:lnTo>
                    <a:lnTo>
                      <a:pt x="72" y="152"/>
                    </a:lnTo>
                    <a:lnTo>
                      <a:pt x="0" y="71"/>
                    </a:lnTo>
                    <a:lnTo>
                      <a:pt x="67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8094960" y="5840640"/>
                <a:ext cx="12600" cy="28080"/>
              </a:xfrm>
              <a:custGeom>
                <a:avLst/>
                <a:gdLst/>
                <a:ahLst/>
                <a:rect l="l" t="t" r="r" b="b"/>
                <a:pathLst>
                  <a:path w="165" h="424">
                    <a:moveTo>
                      <a:pt x="152" y="0"/>
                    </a:moveTo>
                    <a:lnTo>
                      <a:pt x="152" y="120"/>
                    </a:lnTo>
                    <a:lnTo>
                      <a:pt x="101" y="240"/>
                    </a:lnTo>
                    <a:lnTo>
                      <a:pt x="0" y="362"/>
                    </a:lnTo>
                    <a:lnTo>
                      <a:pt x="0" y="424"/>
                    </a:lnTo>
                    <a:lnTo>
                      <a:pt x="66" y="401"/>
                    </a:lnTo>
                    <a:lnTo>
                      <a:pt x="165" y="129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966080" y="5693760"/>
                <a:ext cx="174600" cy="82080"/>
              </a:xfrm>
              <a:custGeom>
                <a:avLst/>
                <a:gdLst/>
                <a:ahLst/>
                <a:rect l="l" t="t" r="r" b="b"/>
                <a:pathLst>
                  <a:path w="2291" h="1231">
                    <a:moveTo>
                      <a:pt x="231" y="1231"/>
                    </a:moveTo>
                    <a:lnTo>
                      <a:pt x="124" y="1231"/>
                    </a:lnTo>
                    <a:lnTo>
                      <a:pt x="46" y="1170"/>
                    </a:lnTo>
                    <a:lnTo>
                      <a:pt x="0" y="1071"/>
                    </a:lnTo>
                    <a:lnTo>
                      <a:pt x="0" y="984"/>
                    </a:lnTo>
                    <a:lnTo>
                      <a:pt x="23" y="880"/>
                    </a:lnTo>
                    <a:lnTo>
                      <a:pt x="69" y="829"/>
                    </a:lnTo>
                    <a:lnTo>
                      <a:pt x="132" y="728"/>
                    </a:lnTo>
                    <a:lnTo>
                      <a:pt x="205" y="580"/>
                    </a:lnTo>
                    <a:lnTo>
                      <a:pt x="185" y="682"/>
                    </a:lnTo>
                    <a:lnTo>
                      <a:pt x="124" y="804"/>
                    </a:lnTo>
                    <a:lnTo>
                      <a:pt x="124" y="892"/>
                    </a:lnTo>
                    <a:lnTo>
                      <a:pt x="157" y="974"/>
                    </a:lnTo>
                    <a:lnTo>
                      <a:pt x="221" y="1035"/>
                    </a:lnTo>
                    <a:lnTo>
                      <a:pt x="221" y="912"/>
                    </a:lnTo>
                    <a:lnTo>
                      <a:pt x="304" y="937"/>
                    </a:lnTo>
                    <a:lnTo>
                      <a:pt x="284" y="840"/>
                    </a:lnTo>
                    <a:lnTo>
                      <a:pt x="295" y="728"/>
                    </a:lnTo>
                    <a:lnTo>
                      <a:pt x="352" y="668"/>
                    </a:lnTo>
                    <a:lnTo>
                      <a:pt x="405" y="596"/>
                    </a:lnTo>
                    <a:lnTo>
                      <a:pt x="462" y="513"/>
                    </a:lnTo>
                    <a:lnTo>
                      <a:pt x="521" y="456"/>
                    </a:lnTo>
                    <a:lnTo>
                      <a:pt x="631" y="414"/>
                    </a:lnTo>
                    <a:lnTo>
                      <a:pt x="779" y="380"/>
                    </a:lnTo>
                    <a:lnTo>
                      <a:pt x="950" y="286"/>
                    </a:lnTo>
                    <a:lnTo>
                      <a:pt x="1007" y="179"/>
                    </a:lnTo>
                    <a:lnTo>
                      <a:pt x="985" y="310"/>
                    </a:lnTo>
                    <a:lnTo>
                      <a:pt x="943" y="361"/>
                    </a:lnTo>
                    <a:lnTo>
                      <a:pt x="825" y="481"/>
                    </a:lnTo>
                    <a:lnTo>
                      <a:pt x="1005" y="396"/>
                    </a:lnTo>
                    <a:lnTo>
                      <a:pt x="1097" y="373"/>
                    </a:lnTo>
                    <a:lnTo>
                      <a:pt x="1176" y="276"/>
                    </a:lnTo>
                    <a:lnTo>
                      <a:pt x="1236" y="135"/>
                    </a:lnTo>
                    <a:lnTo>
                      <a:pt x="1236" y="225"/>
                    </a:lnTo>
                    <a:lnTo>
                      <a:pt x="1201" y="373"/>
                    </a:lnTo>
                    <a:lnTo>
                      <a:pt x="1372" y="246"/>
                    </a:lnTo>
                    <a:lnTo>
                      <a:pt x="1468" y="218"/>
                    </a:lnTo>
                    <a:lnTo>
                      <a:pt x="1581" y="232"/>
                    </a:lnTo>
                    <a:lnTo>
                      <a:pt x="1683" y="225"/>
                    </a:lnTo>
                    <a:lnTo>
                      <a:pt x="1776" y="179"/>
                    </a:lnTo>
                    <a:lnTo>
                      <a:pt x="1890" y="80"/>
                    </a:lnTo>
                    <a:lnTo>
                      <a:pt x="1978" y="51"/>
                    </a:lnTo>
                    <a:lnTo>
                      <a:pt x="2088" y="0"/>
                    </a:lnTo>
                    <a:lnTo>
                      <a:pt x="1941" y="87"/>
                    </a:lnTo>
                    <a:lnTo>
                      <a:pt x="2061" y="99"/>
                    </a:lnTo>
                    <a:lnTo>
                      <a:pt x="2291" y="51"/>
                    </a:lnTo>
                    <a:lnTo>
                      <a:pt x="2150" y="150"/>
                    </a:lnTo>
                    <a:lnTo>
                      <a:pt x="1994" y="200"/>
                    </a:lnTo>
                    <a:lnTo>
                      <a:pt x="1855" y="186"/>
                    </a:lnTo>
                    <a:lnTo>
                      <a:pt x="1776" y="225"/>
                    </a:lnTo>
                    <a:lnTo>
                      <a:pt x="1713" y="286"/>
                    </a:lnTo>
                    <a:lnTo>
                      <a:pt x="1683" y="361"/>
                    </a:lnTo>
                    <a:lnTo>
                      <a:pt x="1581" y="421"/>
                    </a:lnTo>
                    <a:lnTo>
                      <a:pt x="1434" y="451"/>
                    </a:lnTo>
                    <a:lnTo>
                      <a:pt x="1321" y="481"/>
                    </a:lnTo>
                    <a:lnTo>
                      <a:pt x="1247" y="571"/>
                    </a:lnTo>
                    <a:lnTo>
                      <a:pt x="1201" y="657"/>
                    </a:lnTo>
                    <a:lnTo>
                      <a:pt x="1183" y="717"/>
                    </a:lnTo>
                    <a:lnTo>
                      <a:pt x="1183" y="557"/>
                    </a:lnTo>
                    <a:lnTo>
                      <a:pt x="1207" y="475"/>
                    </a:lnTo>
                    <a:lnTo>
                      <a:pt x="1069" y="481"/>
                    </a:lnTo>
                    <a:lnTo>
                      <a:pt x="910" y="557"/>
                    </a:lnTo>
                    <a:lnTo>
                      <a:pt x="849" y="633"/>
                    </a:lnTo>
                    <a:lnTo>
                      <a:pt x="809" y="754"/>
                    </a:lnTo>
                    <a:lnTo>
                      <a:pt x="752" y="633"/>
                    </a:lnTo>
                    <a:lnTo>
                      <a:pt x="680" y="717"/>
                    </a:lnTo>
                    <a:lnTo>
                      <a:pt x="631" y="880"/>
                    </a:lnTo>
                    <a:lnTo>
                      <a:pt x="592" y="790"/>
                    </a:lnTo>
                    <a:lnTo>
                      <a:pt x="616" y="682"/>
                    </a:lnTo>
                    <a:lnTo>
                      <a:pt x="680" y="633"/>
                    </a:lnTo>
                    <a:lnTo>
                      <a:pt x="701" y="557"/>
                    </a:lnTo>
                    <a:lnTo>
                      <a:pt x="655" y="528"/>
                    </a:lnTo>
                    <a:lnTo>
                      <a:pt x="548" y="580"/>
                    </a:lnTo>
                    <a:lnTo>
                      <a:pt x="502" y="645"/>
                    </a:lnTo>
                    <a:lnTo>
                      <a:pt x="521" y="717"/>
                    </a:lnTo>
                    <a:lnTo>
                      <a:pt x="491" y="880"/>
                    </a:lnTo>
                    <a:lnTo>
                      <a:pt x="456" y="954"/>
                    </a:lnTo>
                    <a:lnTo>
                      <a:pt x="456" y="1025"/>
                    </a:lnTo>
                    <a:lnTo>
                      <a:pt x="456" y="1048"/>
                    </a:lnTo>
                    <a:lnTo>
                      <a:pt x="385" y="1000"/>
                    </a:lnTo>
                    <a:lnTo>
                      <a:pt x="387" y="1127"/>
                    </a:lnTo>
                    <a:lnTo>
                      <a:pt x="284" y="1048"/>
                    </a:lnTo>
                    <a:lnTo>
                      <a:pt x="284" y="1196"/>
                    </a:lnTo>
                    <a:lnTo>
                      <a:pt x="231" y="1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928640" y="5784480"/>
                <a:ext cx="16200" cy="18360"/>
              </a:xfrm>
              <a:custGeom>
                <a:avLst/>
                <a:gdLst/>
                <a:ahLst/>
                <a:rect l="l" t="t" r="r" b="b"/>
                <a:pathLst>
                  <a:path w="217" h="276">
                    <a:moveTo>
                      <a:pt x="0" y="0"/>
                    </a:moveTo>
                    <a:lnTo>
                      <a:pt x="51" y="117"/>
                    </a:lnTo>
                    <a:lnTo>
                      <a:pt x="125" y="165"/>
                    </a:lnTo>
                    <a:lnTo>
                      <a:pt x="217" y="191"/>
                    </a:lnTo>
                    <a:lnTo>
                      <a:pt x="153" y="276"/>
                    </a:lnTo>
                    <a:lnTo>
                      <a:pt x="72" y="239"/>
                    </a:lnTo>
                    <a:lnTo>
                      <a:pt x="8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929360" y="5669280"/>
                <a:ext cx="235800" cy="127440"/>
              </a:xfrm>
              <a:custGeom>
                <a:avLst/>
                <a:gdLst/>
                <a:ahLst/>
                <a:rect l="l" t="t" r="r" b="b"/>
                <a:pathLst>
                  <a:path w="3089" h="1908">
                    <a:moveTo>
                      <a:pt x="267" y="1860"/>
                    </a:moveTo>
                    <a:lnTo>
                      <a:pt x="145" y="1812"/>
                    </a:lnTo>
                    <a:lnTo>
                      <a:pt x="55" y="1722"/>
                    </a:lnTo>
                    <a:lnTo>
                      <a:pt x="16" y="1584"/>
                    </a:lnTo>
                    <a:lnTo>
                      <a:pt x="0" y="1492"/>
                    </a:lnTo>
                    <a:lnTo>
                      <a:pt x="27" y="1429"/>
                    </a:lnTo>
                    <a:lnTo>
                      <a:pt x="78" y="1374"/>
                    </a:lnTo>
                    <a:lnTo>
                      <a:pt x="64" y="1302"/>
                    </a:lnTo>
                    <a:lnTo>
                      <a:pt x="87" y="1155"/>
                    </a:lnTo>
                    <a:lnTo>
                      <a:pt x="152" y="1058"/>
                    </a:lnTo>
                    <a:lnTo>
                      <a:pt x="249" y="985"/>
                    </a:lnTo>
                    <a:lnTo>
                      <a:pt x="359" y="936"/>
                    </a:lnTo>
                    <a:lnTo>
                      <a:pt x="420" y="846"/>
                    </a:lnTo>
                    <a:lnTo>
                      <a:pt x="523" y="745"/>
                    </a:lnTo>
                    <a:lnTo>
                      <a:pt x="609" y="738"/>
                    </a:lnTo>
                    <a:lnTo>
                      <a:pt x="514" y="800"/>
                    </a:lnTo>
                    <a:lnTo>
                      <a:pt x="460" y="860"/>
                    </a:lnTo>
                    <a:lnTo>
                      <a:pt x="460" y="886"/>
                    </a:lnTo>
                    <a:lnTo>
                      <a:pt x="560" y="860"/>
                    </a:lnTo>
                    <a:lnTo>
                      <a:pt x="671" y="745"/>
                    </a:lnTo>
                    <a:lnTo>
                      <a:pt x="733" y="641"/>
                    </a:lnTo>
                    <a:lnTo>
                      <a:pt x="816" y="489"/>
                    </a:lnTo>
                    <a:lnTo>
                      <a:pt x="922" y="416"/>
                    </a:lnTo>
                    <a:lnTo>
                      <a:pt x="1040" y="339"/>
                    </a:lnTo>
                    <a:lnTo>
                      <a:pt x="1196" y="319"/>
                    </a:lnTo>
                    <a:lnTo>
                      <a:pt x="1326" y="302"/>
                    </a:lnTo>
                    <a:lnTo>
                      <a:pt x="1387" y="293"/>
                    </a:lnTo>
                    <a:lnTo>
                      <a:pt x="1453" y="183"/>
                    </a:lnTo>
                    <a:lnTo>
                      <a:pt x="1546" y="106"/>
                    </a:lnTo>
                    <a:lnTo>
                      <a:pt x="1724" y="42"/>
                    </a:lnTo>
                    <a:lnTo>
                      <a:pt x="1862" y="62"/>
                    </a:lnTo>
                    <a:lnTo>
                      <a:pt x="1945" y="81"/>
                    </a:lnTo>
                    <a:lnTo>
                      <a:pt x="2058" y="0"/>
                    </a:lnTo>
                    <a:lnTo>
                      <a:pt x="2344" y="0"/>
                    </a:lnTo>
                    <a:lnTo>
                      <a:pt x="2526" y="27"/>
                    </a:lnTo>
                    <a:lnTo>
                      <a:pt x="2655" y="67"/>
                    </a:lnTo>
                    <a:lnTo>
                      <a:pt x="2734" y="132"/>
                    </a:lnTo>
                    <a:lnTo>
                      <a:pt x="2873" y="132"/>
                    </a:lnTo>
                    <a:lnTo>
                      <a:pt x="3013" y="196"/>
                    </a:lnTo>
                    <a:lnTo>
                      <a:pt x="3089" y="293"/>
                    </a:lnTo>
                    <a:lnTo>
                      <a:pt x="3013" y="231"/>
                    </a:lnTo>
                    <a:lnTo>
                      <a:pt x="2895" y="173"/>
                    </a:lnTo>
                    <a:lnTo>
                      <a:pt x="2774" y="183"/>
                    </a:lnTo>
                    <a:lnTo>
                      <a:pt x="2577" y="132"/>
                    </a:lnTo>
                    <a:lnTo>
                      <a:pt x="2367" y="132"/>
                    </a:lnTo>
                    <a:lnTo>
                      <a:pt x="2190" y="173"/>
                    </a:lnTo>
                    <a:lnTo>
                      <a:pt x="2017" y="245"/>
                    </a:lnTo>
                    <a:lnTo>
                      <a:pt x="1922" y="319"/>
                    </a:lnTo>
                    <a:lnTo>
                      <a:pt x="1862" y="330"/>
                    </a:lnTo>
                    <a:lnTo>
                      <a:pt x="1890" y="157"/>
                    </a:lnTo>
                    <a:lnTo>
                      <a:pt x="1763" y="132"/>
                    </a:lnTo>
                    <a:lnTo>
                      <a:pt x="1653" y="207"/>
                    </a:lnTo>
                    <a:lnTo>
                      <a:pt x="1592" y="330"/>
                    </a:lnTo>
                    <a:lnTo>
                      <a:pt x="1339" y="339"/>
                    </a:lnTo>
                    <a:lnTo>
                      <a:pt x="1093" y="416"/>
                    </a:lnTo>
                    <a:lnTo>
                      <a:pt x="882" y="583"/>
                    </a:lnTo>
                    <a:lnTo>
                      <a:pt x="772" y="779"/>
                    </a:lnTo>
                    <a:lnTo>
                      <a:pt x="647" y="860"/>
                    </a:lnTo>
                    <a:lnTo>
                      <a:pt x="477" y="936"/>
                    </a:lnTo>
                    <a:lnTo>
                      <a:pt x="317" y="985"/>
                    </a:lnTo>
                    <a:lnTo>
                      <a:pt x="227" y="1082"/>
                    </a:lnTo>
                    <a:lnTo>
                      <a:pt x="209" y="1245"/>
                    </a:lnTo>
                    <a:lnTo>
                      <a:pt x="267" y="1390"/>
                    </a:lnTo>
                    <a:lnTo>
                      <a:pt x="359" y="1471"/>
                    </a:lnTo>
                    <a:lnTo>
                      <a:pt x="460" y="1535"/>
                    </a:lnTo>
                    <a:lnTo>
                      <a:pt x="278" y="1499"/>
                    </a:lnTo>
                    <a:lnTo>
                      <a:pt x="145" y="1429"/>
                    </a:lnTo>
                    <a:lnTo>
                      <a:pt x="124" y="1554"/>
                    </a:lnTo>
                    <a:lnTo>
                      <a:pt x="209" y="1676"/>
                    </a:lnTo>
                    <a:lnTo>
                      <a:pt x="359" y="1730"/>
                    </a:lnTo>
                    <a:lnTo>
                      <a:pt x="477" y="1730"/>
                    </a:lnTo>
                    <a:lnTo>
                      <a:pt x="647" y="1710"/>
                    </a:lnTo>
                    <a:lnTo>
                      <a:pt x="574" y="1835"/>
                    </a:lnTo>
                    <a:lnTo>
                      <a:pt x="449" y="1908"/>
                    </a:lnTo>
                    <a:lnTo>
                      <a:pt x="267" y="18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110800" y="5874840"/>
                <a:ext cx="23760" cy="65160"/>
              </a:xfrm>
              <a:custGeom>
                <a:avLst/>
                <a:gdLst/>
                <a:ahLst/>
                <a:rect l="l" t="t" r="r" b="b"/>
                <a:pathLst>
                  <a:path w="309" h="976">
                    <a:moveTo>
                      <a:pt x="186" y="0"/>
                    </a:moveTo>
                    <a:lnTo>
                      <a:pt x="186" y="187"/>
                    </a:lnTo>
                    <a:lnTo>
                      <a:pt x="147" y="459"/>
                    </a:lnTo>
                    <a:lnTo>
                      <a:pt x="101" y="666"/>
                    </a:lnTo>
                    <a:lnTo>
                      <a:pt x="0" y="976"/>
                    </a:lnTo>
                    <a:lnTo>
                      <a:pt x="136" y="831"/>
                    </a:lnTo>
                    <a:lnTo>
                      <a:pt x="241" y="605"/>
                    </a:lnTo>
                    <a:lnTo>
                      <a:pt x="288" y="446"/>
                    </a:lnTo>
                    <a:lnTo>
                      <a:pt x="309" y="296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011080" y="6049800"/>
                <a:ext cx="341640" cy="338760"/>
              </a:xfrm>
              <a:custGeom>
                <a:avLst/>
                <a:gdLst/>
                <a:ahLst/>
                <a:rect l="l" t="t" r="r" b="b"/>
                <a:pathLst>
                  <a:path w="4469" h="5071">
                    <a:moveTo>
                      <a:pt x="4469" y="1452"/>
                    </a:moveTo>
                    <a:lnTo>
                      <a:pt x="3878" y="1759"/>
                    </a:lnTo>
                    <a:lnTo>
                      <a:pt x="3544" y="2040"/>
                    </a:lnTo>
                    <a:lnTo>
                      <a:pt x="3228" y="2346"/>
                    </a:lnTo>
                    <a:lnTo>
                      <a:pt x="2956" y="2784"/>
                    </a:lnTo>
                    <a:lnTo>
                      <a:pt x="2733" y="3276"/>
                    </a:lnTo>
                    <a:lnTo>
                      <a:pt x="2578" y="3865"/>
                    </a:lnTo>
                    <a:lnTo>
                      <a:pt x="2483" y="4482"/>
                    </a:lnTo>
                    <a:lnTo>
                      <a:pt x="2421" y="5071"/>
                    </a:lnTo>
                    <a:lnTo>
                      <a:pt x="0" y="5071"/>
                    </a:lnTo>
                    <a:lnTo>
                      <a:pt x="282" y="4821"/>
                    </a:lnTo>
                    <a:lnTo>
                      <a:pt x="499" y="4544"/>
                    </a:lnTo>
                    <a:lnTo>
                      <a:pt x="657" y="4297"/>
                    </a:lnTo>
                    <a:lnTo>
                      <a:pt x="900" y="4080"/>
                    </a:lnTo>
                    <a:lnTo>
                      <a:pt x="1182" y="3924"/>
                    </a:lnTo>
                    <a:lnTo>
                      <a:pt x="1525" y="3087"/>
                    </a:lnTo>
                    <a:lnTo>
                      <a:pt x="1089" y="3243"/>
                    </a:lnTo>
                    <a:lnTo>
                      <a:pt x="99" y="3801"/>
                    </a:lnTo>
                    <a:lnTo>
                      <a:pt x="900" y="3214"/>
                    </a:lnTo>
                    <a:lnTo>
                      <a:pt x="1525" y="2784"/>
                    </a:lnTo>
                    <a:lnTo>
                      <a:pt x="1835" y="2443"/>
                    </a:lnTo>
                    <a:lnTo>
                      <a:pt x="2055" y="2100"/>
                    </a:lnTo>
                    <a:lnTo>
                      <a:pt x="2209" y="1698"/>
                    </a:lnTo>
                    <a:lnTo>
                      <a:pt x="2306" y="1362"/>
                    </a:lnTo>
                    <a:lnTo>
                      <a:pt x="2145" y="894"/>
                    </a:lnTo>
                    <a:lnTo>
                      <a:pt x="1771" y="307"/>
                    </a:lnTo>
                    <a:lnTo>
                      <a:pt x="1459" y="0"/>
                    </a:lnTo>
                    <a:lnTo>
                      <a:pt x="1894" y="341"/>
                    </a:lnTo>
                    <a:lnTo>
                      <a:pt x="2306" y="894"/>
                    </a:lnTo>
                    <a:lnTo>
                      <a:pt x="2456" y="1298"/>
                    </a:lnTo>
                    <a:lnTo>
                      <a:pt x="2610" y="1698"/>
                    </a:lnTo>
                    <a:lnTo>
                      <a:pt x="2707" y="2135"/>
                    </a:lnTo>
                    <a:lnTo>
                      <a:pt x="3076" y="1913"/>
                    </a:lnTo>
                    <a:lnTo>
                      <a:pt x="2578" y="2346"/>
                    </a:lnTo>
                    <a:lnTo>
                      <a:pt x="2209" y="2784"/>
                    </a:lnTo>
                    <a:lnTo>
                      <a:pt x="2020" y="3119"/>
                    </a:lnTo>
                    <a:lnTo>
                      <a:pt x="1894" y="3463"/>
                    </a:lnTo>
                    <a:lnTo>
                      <a:pt x="1802" y="3801"/>
                    </a:lnTo>
                    <a:lnTo>
                      <a:pt x="1617" y="4177"/>
                    </a:lnTo>
                    <a:lnTo>
                      <a:pt x="1459" y="4423"/>
                    </a:lnTo>
                    <a:lnTo>
                      <a:pt x="1432" y="4669"/>
                    </a:lnTo>
                    <a:lnTo>
                      <a:pt x="1432" y="4857"/>
                    </a:lnTo>
                    <a:lnTo>
                      <a:pt x="1556" y="4509"/>
                    </a:lnTo>
                    <a:lnTo>
                      <a:pt x="1736" y="4177"/>
                    </a:lnTo>
                    <a:lnTo>
                      <a:pt x="1958" y="3865"/>
                    </a:lnTo>
                    <a:lnTo>
                      <a:pt x="2055" y="3619"/>
                    </a:lnTo>
                    <a:lnTo>
                      <a:pt x="2270" y="3340"/>
                    </a:lnTo>
                    <a:lnTo>
                      <a:pt x="2639" y="3054"/>
                    </a:lnTo>
                    <a:lnTo>
                      <a:pt x="2920" y="2658"/>
                    </a:lnTo>
                    <a:lnTo>
                      <a:pt x="3228" y="2226"/>
                    </a:lnTo>
                    <a:lnTo>
                      <a:pt x="3602" y="1883"/>
                    </a:lnTo>
                    <a:lnTo>
                      <a:pt x="3943" y="1637"/>
                    </a:lnTo>
                    <a:lnTo>
                      <a:pt x="4469" y="1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988040" y="6121800"/>
                <a:ext cx="134280" cy="142560"/>
              </a:xfrm>
              <a:custGeom>
                <a:avLst/>
                <a:gdLst/>
                <a:ahLst/>
                <a:rect l="l" t="t" r="r" b="b"/>
                <a:pathLst>
                  <a:path w="1765" h="2135">
                    <a:moveTo>
                      <a:pt x="1710" y="0"/>
                    </a:moveTo>
                    <a:lnTo>
                      <a:pt x="1765" y="61"/>
                    </a:lnTo>
                    <a:lnTo>
                      <a:pt x="1425" y="744"/>
                    </a:lnTo>
                    <a:lnTo>
                      <a:pt x="994" y="1147"/>
                    </a:lnTo>
                    <a:lnTo>
                      <a:pt x="743" y="1579"/>
                    </a:lnTo>
                    <a:lnTo>
                      <a:pt x="0" y="2135"/>
                    </a:lnTo>
                    <a:lnTo>
                      <a:pt x="306" y="1482"/>
                    </a:lnTo>
                    <a:lnTo>
                      <a:pt x="1020" y="645"/>
                    </a:lnTo>
                    <a:lnTo>
                      <a:pt x="1579" y="248"/>
                    </a:lnTo>
                    <a:lnTo>
                      <a:pt x="17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8248320" y="5942160"/>
                <a:ext cx="109080" cy="162720"/>
              </a:xfrm>
              <a:custGeom>
                <a:avLst/>
                <a:gdLst/>
                <a:ahLst/>
                <a:rect l="l" t="t" r="r" b="b"/>
                <a:pathLst>
                  <a:path w="1430" h="2441">
                    <a:moveTo>
                      <a:pt x="0" y="0"/>
                    </a:moveTo>
                    <a:lnTo>
                      <a:pt x="374" y="373"/>
                    </a:lnTo>
                    <a:lnTo>
                      <a:pt x="745" y="929"/>
                    </a:lnTo>
                    <a:lnTo>
                      <a:pt x="1430" y="2441"/>
                    </a:lnTo>
                    <a:lnTo>
                      <a:pt x="718" y="961"/>
                    </a:lnTo>
                    <a:lnTo>
                      <a:pt x="347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945200" y="5971680"/>
                <a:ext cx="174600" cy="322560"/>
              </a:xfrm>
              <a:custGeom>
                <a:avLst/>
                <a:gdLst/>
                <a:ahLst/>
                <a:rect l="l" t="t" r="r" b="b"/>
                <a:pathLst>
                  <a:path w="2285" h="4830">
                    <a:moveTo>
                      <a:pt x="2285" y="0"/>
                    </a:moveTo>
                    <a:lnTo>
                      <a:pt x="1736" y="296"/>
                    </a:lnTo>
                    <a:lnTo>
                      <a:pt x="1471" y="507"/>
                    </a:lnTo>
                    <a:lnTo>
                      <a:pt x="1198" y="646"/>
                    </a:lnTo>
                    <a:lnTo>
                      <a:pt x="862" y="1140"/>
                    </a:lnTo>
                    <a:lnTo>
                      <a:pt x="688" y="1755"/>
                    </a:lnTo>
                    <a:lnTo>
                      <a:pt x="620" y="2283"/>
                    </a:lnTo>
                    <a:lnTo>
                      <a:pt x="559" y="2690"/>
                    </a:lnTo>
                    <a:lnTo>
                      <a:pt x="446" y="3017"/>
                    </a:lnTo>
                    <a:lnTo>
                      <a:pt x="365" y="3412"/>
                    </a:lnTo>
                    <a:lnTo>
                      <a:pt x="286" y="3753"/>
                    </a:lnTo>
                    <a:lnTo>
                      <a:pt x="270" y="4021"/>
                    </a:lnTo>
                    <a:lnTo>
                      <a:pt x="224" y="4254"/>
                    </a:lnTo>
                    <a:lnTo>
                      <a:pt x="207" y="4383"/>
                    </a:lnTo>
                    <a:lnTo>
                      <a:pt x="132" y="4577"/>
                    </a:lnTo>
                    <a:lnTo>
                      <a:pt x="0" y="4830"/>
                    </a:lnTo>
                    <a:lnTo>
                      <a:pt x="240" y="4421"/>
                    </a:lnTo>
                    <a:lnTo>
                      <a:pt x="381" y="4104"/>
                    </a:lnTo>
                    <a:lnTo>
                      <a:pt x="574" y="3689"/>
                    </a:lnTo>
                    <a:lnTo>
                      <a:pt x="688" y="3368"/>
                    </a:lnTo>
                    <a:lnTo>
                      <a:pt x="780" y="2986"/>
                    </a:lnTo>
                    <a:lnTo>
                      <a:pt x="826" y="2430"/>
                    </a:lnTo>
                    <a:lnTo>
                      <a:pt x="766" y="3006"/>
                    </a:lnTo>
                    <a:lnTo>
                      <a:pt x="574" y="3592"/>
                    </a:lnTo>
                    <a:lnTo>
                      <a:pt x="305" y="4083"/>
                    </a:lnTo>
                    <a:lnTo>
                      <a:pt x="365" y="3592"/>
                    </a:lnTo>
                    <a:lnTo>
                      <a:pt x="497" y="3006"/>
                    </a:lnTo>
                    <a:lnTo>
                      <a:pt x="607" y="2718"/>
                    </a:lnTo>
                    <a:lnTo>
                      <a:pt x="730" y="1920"/>
                    </a:lnTo>
                    <a:lnTo>
                      <a:pt x="862" y="1377"/>
                    </a:lnTo>
                    <a:lnTo>
                      <a:pt x="1022" y="973"/>
                    </a:lnTo>
                    <a:lnTo>
                      <a:pt x="1229" y="692"/>
                    </a:lnTo>
                    <a:lnTo>
                      <a:pt x="1532" y="523"/>
                    </a:lnTo>
                    <a:lnTo>
                      <a:pt x="1833" y="268"/>
                    </a:lnTo>
                    <a:lnTo>
                      <a:pt x="22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701120" y="6194880"/>
                <a:ext cx="279000" cy="194760"/>
              </a:xfrm>
              <a:custGeom>
                <a:avLst/>
                <a:gdLst/>
                <a:ahLst/>
                <a:rect l="l" t="t" r="r" b="b"/>
                <a:pathLst>
                  <a:path w="3654" h="2924">
                    <a:moveTo>
                      <a:pt x="3236" y="1418"/>
                    </a:moveTo>
                    <a:lnTo>
                      <a:pt x="3179" y="1729"/>
                    </a:lnTo>
                    <a:lnTo>
                      <a:pt x="3291" y="2195"/>
                    </a:lnTo>
                    <a:lnTo>
                      <a:pt x="3543" y="2562"/>
                    </a:lnTo>
                    <a:lnTo>
                      <a:pt x="3654" y="2845"/>
                    </a:lnTo>
                    <a:lnTo>
                      <a:pt x="3432" y="2654"/>
                    </a:lnTo>
                    <a:lnTo>
                      <a:pt x="3261" y="2237"/>
                    </a:lnTo>
                    <a:lnTo>
                      <a:pt x="3192" y="1925"/>
                    </a:lnTo>
                    <a:lnTo>
                      <a:pt x="2796" y="2272"/>
                    </a:lnTo>
                    <a:lnTo>
                      <a:pt x="2796" y="2592"/>
                    </a:lnTo>
                    <a:lnTo>
                      <a:pt x="3015" y="2924"/>
                    </a:lnTo>
                    <a:lnTo>
                      <a:pt x="2777" y="2668"/>
                    </a:lnTo>
                    <a:lnTo>
                      <a:pt x="2715" y="2527"/>
                    </a:lnTo>
                    <a:lnTo>
                      <a:pt x="2683" y="2356"/>
                    </a:lnTo>
                    <a:lnTo>
                      <a:pt x="2683" y="2237"/>
                    </a:lnTo>
                    <a:lnTo>
                      <a:pt x="2733" y="2114"/>
                    </a:lnTo>
                    <a:lnTo>
                      <a:pt x="2937" y="1815"/>
                    </a:lnTo>
                    <a:lnTo>
                      <a:pt x="2983" y="1775"/>
                    </a:lnTo>
                    <a:lnTo>
                      <a:pt x="3131" y="1753"/>
                    </a:lnTo>
                    <a:lnTo>
                      <a:pt x="3131" y="1683"/>
                    </a:lnTo>
                    <a:lnTo>
                      <a:pt x="2904" y="1608"/>
                    </a:lnTo>
                    <a:lnTo>
                      <a:pt x="2808" y="1619"/>
                    </a:lnTo>
                    <a:lnTo>
                      <a:pt x="2427" y="2068"/>
                    </a:lnTo>
                    <a:lnTo>
                      <a:pt x="2505" y="1826"/>
                    </a:lnTo>
                    <a:lnTo>
                      <a:pt x="2268" y="1826"/>
                    </a:lnTo>
                    <a:lnTo>
                      <a:pt x="1579" y="2045"/>
                    </a:lnTo>
                    <a:lnTo>
                      <a:pt x="1401" y="2356"/>
                    </a:lnTo>
                    <a:lnTo>
                      <a:pt x="1309" y="2578"/>
                    </a:lnTo>
                    <a:lnTo>
                      <a:pt x="1296" y="2832"/>
                    </a:lnTo>
                    <a:lnTo>
                      <a:pt x="1265" y="2608"/>
                    </a:lnTo>
                    <a:lnTo>
                      <a:pt x="1276" y="2452"/>
                    </a:lnTo>
                    <a:lnTo>
                      <a:pt x="1447" y="2015"/>
                    </a:lnTo>
                    <a:lnTo>
                      <a:pt x="1039" y="1889"/>
                    </a:lnTo>
                    <a:lnTo>
                      <a:pt x="797" y="1859"/>
                    </a:lnTo>
                    <a:lnTo>
                      <a:pt x="493" y="1909"/>
                    </a:lnTo>
                    <a:lnTo>
                      <a:pt x="219" y="1925"/>
                    </a:lnTo>
                    <a:lnTo>
                      <a:pt x="0" y="1874"/>
                    </a:lnTo>
                    <a:lnTo>
                      <a:pt x="255" y="1889"/>
                    </a:lnTo>
                    <a:lnTo>
                      <a:pt x="529" y="1859"/>
                    </a:lnTo>
                    <a:lnTo>
                      <a:pt x="828" y="1799"/>
                    </a:lnTo>
                    <a:lnTo>
                      <a:pt x="973" y="1775"/>
                    </a:lnTo>
                    <a:lnTo>
                      <a:pt x="1199" y="1826"/>
                    </a:lnTo>
                    <a:lnTo>
                      <a:pt x="1436" y="1826"/>
                    </a:lnTo>
                    <a:lnTo>
                      <a:pt x="1639" y="1753"/>
                    </a:lnTo>
                    <a:lnTo>
                      <a:pt x="1821" y="1619"/>
                    </a:lnTo>
                    <a:lnTo>
                      <a:pt x="1982" y="1481"/>
                    </a:lnTo>
                    <a:lnTo>
                      <a:pt x="2091" y="1367"/>
                    </a:lnTo>
                    <a:lnTo>
                      <a:pt x="2224" y="1176"/>
                    </a:lnTo>
                    <a:lnTo>
                      <a:pt x="2224" y="1257"/>
                    </a:lnTo>
                    <a:lnTo>
                      <a:pt x="2634" y="1107"/>
                    </a:lnTo>
                    <a:lnTo>
                      <a:pt x="2591" y="955"/>
                    </a:lnTo>
                    <a:lnTo>
                      <a:pt x="2476" y="777"/>
                    </a:lnTo>
                    <a:lnTo>
                      <a:pt x="2314" y="648"/>
                    </a:lnTo>
                    <a:lnTo>
                      <a:pt x="2188" y="648"/>
                    </a:lnTo>
                    <a:lnTo>
                      <a:pt x="2268" y="527"/>
                    </a:lnTo>
                    <a:lnTo>
                      <a:pt x="2556" y="393"/>
                    </a:lnTo>
                    <a:lnTo>
                      <a:pt x="2746" y="316"/>
                    </a:lnTo>
                    <a:lnTo>
                      <a:pt x="2983" y="141"/>
                    </a:lnTo>
                    <a:lnTo>
                      <a:pt x="3131" y="30"/>
                    </a:lnTo>
                    <a:lnTo>
                      <a:pt x="3592" y="0"/>
                    </a:lnTo>
                    <a:lnTo>
                      <a:pt x="3573" y="30"/>
                    </a:lnTo>
                    <a:lnTo>
                      <a:pt x="3140" y="74"/>
                    </a:lnTo>
                    <a:lnTo>
                      <a:pt x="2886" y="316"/>
                    </a:lnTo>
                    <a:lnTo>
                      <a:pt x="2591" y="461"/>
                    </a:lnTo>
                    <a:lnTo>
                      <a:pt x="2492" y="478"/>
                    </a:lnTo>
                    <a:lnTo>
                      <a:pt x="2314" y="558"/>
                    </a:lnTo>
                    <a:lnTo>
                      <a:pt x="2476" y="635"/>
                    </a:lnTo>
                    <a:lnTo>
                      <a:pt x="2634" y="777"/>
                    </a:lnTo>
                    <a:lnTo>
                      <a:pt x="2733" y="916"/>
                    </a:lnTo>
                    <a:lnTo>
                      <a:pt x="2796" y="1107"/>
                    </a:lnTo>
                    <a:lnTo>
                      <a:pt x="2832" y="1386"/>
                    </a:lnTo>
                    <a:lnTo>
                      <a:pt x="3370" y="1176"/>
                    </a:lnTo>
                    <a:lnTo>
                      <a:pt x="3236" y="1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421760" y="5764680"/>
                <a:ext cx="46800" cy="76680"/>
              </a:xfrm>
              <a:custGeom>
                <a:avLst/>
                <a:gdLst/>
                <a:ahLst/>
                <a:rect l="l" t="t" r="r" b="b"/>
                <a:pathLst>
                  <a:path w="620" h="1156">
                    <a:moveTo>
                      <a:pt x="519" y="950"/>
                    </a:moveTo>
                    <a:lnTo>
                      <a:pt x="620" y="971"/>
                    </a:lnTo>
                    <a:lnTo>
                      <a:pt x="620" y="1059"/>
                    </a:lnTo>
                    <a:lnTo>
                      <a:pt x="547" y="1088"/>
                    </a:lnTo>
                    <a:lnTo>
                      <a:pt x="341" y="1098"/>
                    </a:lnTo>
                    <a:lnTo>
                      <a:pt x="242" y="1059"/>
                    </a:lnTo>
                    <a:lnTo>
                      <a:pt x="169" y="1075"/>
                    </a:lnTo>
                    <a:lnTo>
                      <a:pt x="0" y="1156"/>
                    </a:lnTo>
                    <a:lnTo>
                      <a:pt x="116" y="1015"/>
                    </a:lnTo>
                    <a:lnTo>
                      <a:pt x="305" y="909"/>
                    </a:lnTo>
                    <a:lnTo>
                      <a:pt x="429" y="978"/>
                    </a:lnTo>
                    <a:lnTo>
                      <a:pt x="464" y="964"/>
                    </a:lnTo>
                    <a:lnTo>
                      <a:pt x="452" y="782"/>
                    </a:lnTo>
                    <a:lnTo>
                      <a:pt x="429" y="540"/>
                    </a:lnTo>
                    <a:lnTo>
                      <a:pt x="393" y="293"/>
                    </a:lnTo>
                    <a:lnTo>
                      <a:pt x="305" y="24"/>
                    </a:lnTo>
                    <a:lnTo>
                      <a:pt x="351" y="0"/>
                    </a:lnTo>
                    <a:lnTo>
                      <a:pt x="413" y="202"/>
                    </a:lnTo>
                    <a:lnTo>
                      <a:pt x="464" y="540"/>
                    </a:lnTo>
                    <a:lnTo>
                      <a:pt x="489" y="941"/>
                    </a:lnTo>
                    <a:lnTo>
                      <a:pt x="519" y="9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429320" y="5837400"/>
                <a:ext cx="23040" cy="34920"/>
              </a:xfrm>
              <a:custGeom>
                <a:avLst/>
                <a:gdLst/>
                <a:ahLst/>
                <a:rect l="l" t="t" r="r" b="b"/>
                <a:pathLst>
                  <a:path w="298" h="529">
                    <a:moveTo>
                      <a:pt x="298" y="0"/>
                    </a:moveTo>
                    <a:lnTo>
                      <a:pt x="263" y="99"/>
                    </a:lnTo>
                    <a:lnTo>
                      <a:pt x="37" y="169"/>
                    </a:lnTo>
                    <a:lnTo>
                      <a:pt x="77" y="266"/>
                    </a:lnTo>
                    <a:lnTo>
                      <a:pt x="167" y="344"/>
                    </a:lnTo>
                    <a:lnTo>
                      <a:pt x="0" y="494"/>
                    </a:lnTo>
                    <a:lnTo>
                      <a:pt x="7" y="529"/>
                    </a:lnTo>
                    <a:lnTo>
                      <a:pt x="107" y="501"/>
                    </a:lnTo>
                    <a:lnTo>
                      <a:pt x="206" y="400"/>
                    </a:lnTo>
                    <a:lnTo>
                      <a:pt x="206" y="330"/>
                    </a:lnTo>
                    <a:lnTo>
                      <a:pt x="99" y="213"/>
                    </a:lnTo>
                    <a:lnTo>
                      <a:pt x="198" y="160"/>
                    </a:lnTo>
                    <a:lnTo>
                      <a:pt x="173" y="213"/>
                    </a:lnTo>
                    <a:lnTo>
                      <a:pt x="263" y="160"/>
                    </a:lnTo>
                    <a:lnTo>
                      <a:pt x="294" y="83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421400" y="5838120"/>
                <a:ext cx="54720" cy="77760"/>
              </a:xfrm>
              <a:custGeom>
                <a:avLst/>
                <a:gdLst/>
                <a:ahLst/>
                <a:rect l="l" t="t" r="r" b="b"/>
                <a:pathLst>
                  <a:path w="721" h="1164">
                    <a:moveTo>
                      <a:pt x="433" y="0"/>
                    </a:moveTo>
                    <a:lnTo>
                      <a:pt x="440" y="73"/>
                    </a:lnTo>
                    <a:lnTo>
                      <a:pt x="721" y="779"/>
                    </a:lnTo>
                    <a:lnTo>
                      <a:pt x="679" y="846"/>
                    </a:lnTo>
                    <a:lnTo>
                      <a:pt x="599" y="878"/>
                    </a:lnTo>
                    <a:lnTo>
                      <a:pt x="373" y="864"/>
                    </a:lnTo>
                    <a:lnTo>
                      <a:pt x="295" y="899"/>
                    </a:lnTo>
                    <a:lnTo>
                      <a:pt x="242" y="1095"/>
                    </a:lnTo>
                    <a:lnTo>
                      <a:pt x="0" y="1164"/>
                    </a:lnTo>
                    <a:lnTo>
                      <a:pt x="11" y="1084"/>
                    </a:lnTo>
                    <a:lnTo>
                      <a:pt x="76" y="1095"/>
                    </a:lnTo>
                    <a:lnTo>
                      <a:pt x="217" y="1065"/>
                    </a:lnTo>
                    <a:lnTo>
                      <a:pt x="265" y="882"/>
                    </a:lnTo>
                    <a:lnTo>
                      <a:pt x="202" y="832"/>
                    </a:lnTo>
                    <a:lnTo>
                      <a:pt x="217" y="814"/>
                    </a:lnTo>
                    <a:lnTo>
                      <a:pt x="362" y="779"/>
                    </a:lnTo>
                    <a:lnTo>
                      <a:pt x="518" y="814"/>
                    </a:lnTo>
                    <a:lnTo>
                      <a:pt x="606" y="802"/>
                    </a:lnTo>
                    <a:lnTo>
                      <a:pt x="679" y="756"/>
                    </a:lnTo>
                    <a:lnTo>
                      <a:pt x="449" y="194"/>
                    </a:lnTo>
                    <a:lnTo>
                      <a:pt x="373" y="97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414560" y="5877000"/>
                <a:ext cx="25560" cy="52200"/>
              </a:xfrm>
              <a:custGeom>
                <a:avLst/>
                <a:gdLst/>
                <a:ahLst/>
                <a:rect l="l" t="t" r="r" b="b"/>
                <a:pathLst>
                  <a:path w="339" h="788">
                    <a:moveTo>
                      <a:pt x="339" y="0"/>
                    </a:moveTo>
                    <a:lnTo>
                      <a:pt x="319" y="120"/>
                    </a:lnTo>
                    <a:lnTo>
                      <a:pt x="288" y="209"/>
                    </a:lnTo>
                    <a:lnTo>
                      <a:pt x="233" y="283"/>
                    </a:lnTo>
                    <a:lnTo>
                      <a:pt x="152" y="382"/>
                    </a:lnTo>
                    <a:lnTo>
                      <a:pt x="97" y="428"/>
                    </a:lnTo>
                    <a:lnTo>
                      <a:pt x="72" y="391"/>
                    </a:lnTo>
                    <a:lnTo>
                      <a:pt x="42" y="583"/>
                    </a:lnTo>
                    <a:lnTo>
                      <a:pt x="0" y="788"/>
                    </a:lnTo>
                    <a:lnTo>
                      <a:pt x="97" y="599"/>
                    </a:lnTo>
                    <a:lnTo>
                      <a:pt x="127" y="463"/>
                    </a:lnTo>
                    <a:lnTo>
                      <a:pt x="266" y="329"/>
                    </a:lnTo>
                    <a:lnTo>
                      <a:pt x="319" y="221"/>
                    </a:lnTo>
                    <a:lnTo>
                      <a:pt x="339" y="101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419960" y="5913360"/>
                <a:ext cx="16200" cy="9000"/>
              </a:xfrm>
              <a:custGeom>
                <a:avLst/>
                <a:gdLst/>
                <a:ahLst/>
                <a:rect l="l" t="t" r="r" b="b"/>
                <a:pathLst>
                  <a:path w="216" h="137">
                    <a:moveTo>
                      <a:pt x="49" y="0"/>
                    </a:moveTo>
                    <a:lnTo>
                      <a:pt x="216" y="117"/>
                    </a:lnTo>
                    <a:lnTo>
                      <a:pt x="216" y="137"/>
                    </a:lnTo>
                    <a:lnTo>
                      <a:pt x="0" y="61"/>
                    </a:lnTo>
                    <a:lnTo>
                      <a:pt x="0" y="6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425000" y="5931000"/>
                <a:ext cx="11880" cy="9000"/>
              </a:xfrm>
              <a:custGeom>
                <a:avLst/>
                <a:gdLst/>
                <a:ahLst/>
                <a:rect l="l" t="t" r="r" b="b"/>
                <a:pathLst>
                  <a:path w="159" h="136">
                    <a:moveTo>
                      <a:pt x="152" y="0"/>
                    </a:moveTo>
                    <a:lnTo>
                      <a:pt x="0" y="31"/>
                    </a:lnTo>
                    <a:lnTo>
                      <a:pt x="0" y="97"/>
                    </a:lnTo>
                    <a:lnTo>
                      <a:pt x="67" y="136"/>
                    </a:lnTo>
                    <a:lnTo>
                      <a:pt x="159" y="3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179840" y="5852880"/>
                <a:ext cx="249120" cy="125640"/>
              </a:xfrm>
              <a:custGeom>
                <a:avLst/>
                <a:gdLst/>
                <a:ahLst/>
                <a:rect l="l" t="t" r="r" b="b"/>
                <a:pathLst>
                  <a:path w="3264" h="1881">
                    <a:moveTo>
                      <a:pt x="3264" y="1419"/>
                    </a:moveTo>
                    <a:lnTo>
                      <a:pt x="3264" y="1489"/>
                    </a:lnTo>
                    <a:lnTo>
                      <a:pt x="3204" y="1586"/>
                    </a:lnTo>
                    <a:lnTo>
                      <a:pt x="3082" y="1626"/>
                    </a:lnTo>
                    <a:lnTo>
                      <a:pt x="2943" y="1617"/>
                    </a:lnTo>
                    <a:lnTo>
                      <a:pt x="2679" y="1593"/>
                    </a:lnTo>
                    <a:lnTo>
                      <a:pt x="2515" y="1617"/>
                    </a:lnTo>
                    <a:lnTo>
                      <a:pt x="2400" y="1687"/>
                    </a:lnTo>
                    <a:lnTo>
                      <a:pt x="2646" y="1881"/>
                    </a:lnTo>
                    <a:lnTo>
                      <a:pt x="2086" y="1531"/>
                    </a:lnTo>
                    <a:lnTo>
                      <a:pt x="1563" y="1226"/>
                    </a:lnTo>
                    <a:lnTo>
                      <a:pt x="1058" y="920"/>
                    </a:lnTo>
                    <a:lnTo>
                      <a:pt x="602" y="775"/>
                    </a:lnTo>
                    <a:lnTo>
                      <a:pt x="390" y="718"/>
                    </a:lnTo>
                    <a:lnTo>
                      <a:pt x="752" y="800"/>
                    </a:lnTo>
                    <a:lnTo>
                      <a:pt x="1183" y="920"/>
                    </a:lnTo>
                    <a:lnTo>
                      <a:pt x="1533" y="1139"/>
                    </a:lnTo>
                    <a:lnTo>
                      <a:pt x="1381" y="839"/>
                    </a:lnTo>
                    <a:lnTo>
                      <a:pt x="1067" y="593"/>
                    </a:lnTo>
                    <a:lnTo>
                      <a:pt x="655" y="410"/>
                    </a:lnTo>
                    <a:lnTo>
                      <a:pt x="231" y="316"/>
                    </a:lnTo>
                    <a:lnTo>
                      <a:pt x="0" y="551"/>
                    </a:lnTo>
                    <a:lnTo>
                      <a:pt x="196" y="270"/>
                    </a:lnTo>
                    <a:lnTo>
                      <a:pt x="602" y="351"/>
                    </a:lnTo>
                    <a:lnTo>
                      <a:pt x="1026" y="496"/>
                    </a:lnTo>
                    <a:lnTo>
                      <a:pt x="1446" y="751"/>
                    </a:lnTo>
                    <a:lnTo>
                      <a:pt x="1734" y="1012"/>
                    </a:lnTo>
                    <a:lnTo>
                      <a:pt x="1957" y="1270"/>
                    </a:lnTo>
                    <a:lnTo>
                      <a:pt x="1673" y="775"/>
                    </a:lnTo>
                    <a:lnTo>
                      <a:pt x="1914" y="1067"/>
                    </a:lnTo>
                    <a:lnTo>
                      <a:pt x="1914" y="839"/>
                    </a:lnTo>
                    <a:lnTo>
                      <a:pt x="1807" y="661"/>
                    </a:lnTo>
                    <a:lnTo>
                      <a:pt x="1807" y="551"/>
                    </a:lnTo>
                    <a:lnTo>
                      <a:pt x="1673" y="399"/>
                    </a:lnTo>
                    <a:lnTo>
                      <a:pt x="1600" y="242"/>
                    </a:lnTo>
                    <a:lnTo>
                      <a:pt x="1543" y="53"/>
                    </a:lnTo>
                    <a:lnTo>
                      <a:pt x="1591" y="0"/>
                    </a:lnTo>
                    <a:lnTo>
                      <a:pt x="1607" y="138"/>
                    </a:lnTo>
                    <a:lnTo>
                      <a:pt x="1683" y="316"/>
                    </a:lnTo>
                    <a:lnTo>
                      <a:pt x="1778" y="424"/>
                    </a:lnTo>
                    <a:lnTo>
                      <a:pt x="1866" y="535"/>
                    </a:lnTo>
                    <a:lnTo>
                      <a:pt x="1914" y="558"/>
                    </a:lnTo>
                    <a:lnTo>
                      <a:pt x="1987" y="551"/>
                    </a:lnTo>
                    <a:lnTo>
                      <a:pt x="2066" y="480"/>
                    </a:lnTo>
                    <a:lnTo>
                      <a:pt x="2086" y="602"/>
                    </a:lnTo>
                    <a:lnTo>
                      <a:pt x="2061" y="718"/>
                    </a:lnTo>
                    <a:lnTo>
                      <a:pt x="2013" y="782"/>
                    </a:lnTo>
                    <a:lnTo>
                      <a:pt x="1965" y="800"/>
                    </a:lnTo>
                    <a:lnTo>
                      <a:pt x="2031" y="984"/>
                    </a:lnTo>
                    <a:lnTo>
                      <a:pt x="2086" y="1160"/>
                    </a:lnTo>
                    <a:lnTo>
                      <a:pt x="2255" y="1067"/>
                    </a:lnTo>
                    <a:lnTo>
                      <a:pt x="2156" y="839"/>
                    </a:lnTo>
                    <a:lnTo>
                      <a:pt x="2280" y="1035"/>
                    </a:lnTo>
                    <a:lnTo>
                      <a:pt x="2365" y="1052"/>
                    </a:lnTo>
                    <a:lnTo>
                      <a:pt x="2495" y="1052"/>
                    </a:lnTo>
                    <a:lnTo>
                      <a:pt x="2635" y="1234"/>
                    </a:lnTo>
                    <a:lnTo>
                      <a:pt x="2741" y="1300"/>
                    </a:lnTo>
                    <a:lnTo>
                      <a:pt x="2852" y="1277"/>
                    </a:lnTo>
                    <a:lnTo>
                      <a:pt x="3068" y="1173"/>
                    </a:lnTo>
                    <a:lnTo>
                      <a:pt x="3082" y="1347"/>
                    </a:lnTo>
                    <a:lnTo>
                      <a:pt x="3140" y="1507"/>
                    </a:lnTo>
                    <a:lnTo>
                      <a:pt x="3204" y="1507"/>
                    </a:lnTo>
                    <a:lnTo>
                      <a:pt x="3248" y="1467"/>
                    </a:lnTo>
                    <a:lnTo>
                      <a:pt x="3264" y="14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205400" y="5697000"/>
                <a:ext cx="261000" cy="176040"/>
              </a:xfrm>
              <a:custGeom>
                <a:avLst/>
                <a:gdLst/>
                <a:ahLst/>
                <a:rect l="l" t="t" r="r" b="b"/>
                <a:pathLst>
                  <a:path w="3415" h="2637">
                    <a:moveTo>
                      <a:pt x="3195" y="1078"/>
                    </a:moveTo>
                    <a:lnTo>
                      <a:pt x="3340" y="1037"/>
                    </a:lnTo>
                    <a:lnTo>
                      <a:pt x="3415" y="882"/>
                    </a:lnTo>
                    <a:lnTo>
                      <a:pt x="3380" y="721"/>
                    </a:lnTo>
                    <a:lnTo>
                      <a:pt x="3198" y="547"/>
                    </a:lnTo>
                    <a:lnTo>
                      <a:pt x="3009" y="477"/>
                    </a:lnTo>
                    <a:lnTo>
                      <a:pt x="2778" y="299"/>
                    </a:lnTo>
                    <a:lnTo>
                      <a:pt x="2418" y="119"/>
                    </a:lnTo>
                    <a:lnTo>
                      <a:pt x="1996" y="0"/>
                    </a:lnTo>
                    <a:lnTo>
                      <a:pt x="1457" y="46"/>
                    </a:lnTo>
                    <a:lnTo>
                      <a:pt x="1033" y="167"/>
                    </a:lnTo>
                    <a:lnTo>
                      <a:pt x="798" y="279"/>
                    </a:lnTo>
                    <a:lnTo>
                      <a:pt x="514" y="444"/>
                    </a:lnTo>
                    <a:lnTo>
                      <a:pt x="145" y="1078"/>
                    </a:lnTo>
                    <a:lnTo>
                      <a:pt x="81" y="1490"/>
                    </a:lnTo>
                    <a:lnTo>
                      <a:pt x="145" y="1963"/>
                    </a:lnTo>
                    <a:lnTo>
                      <a:pt x="90" y="2228"/>
                    </a:lnTo>
                    <a:lnTo>
                      <a:pt x="0" y="2637"/>
                    </a:lnTo>
                    <a:lnTo>
                      <a:pt x="97" y="2439"/>
                    </a:lnTo>
                    <a:lnTo>
                      <a:pt x="288" y="2415"/>
                    </a:lnTo>
                    <a:lnTo>
                      <a:pt x="479" y="1756"/>
                    </a:lnTo>
                    <a:lnTo>
                      <a:pt x="212" y="2101"/>
                    </a:lnTo>
                    <a:lnTo>
                      <a:pt x="127" y="1426"/>
                    </a:lnTo>
                    <a:lnTo>
                      <a:pt x="196" y="1068"/>
                    </a:lnTo>
                    <a:lnTo>
                      <a:pt x="535" y="497"/>
                    </a:lnTo>
                    <a:lnTo>
                      <a:pt x="873" y="255"/>
                    </a:lnTo>
                    <a:lnTo>
                      <a:pt x="1395" y="75"/>
                    </a:lnTo>
                    <a:lnTo>
                      <a:pt x="1923" y="52"/>
                    </a:lnTo>
                    <a:lnTo>
                      <a:pt x="2503" y="218"/>
                    </a:lnTo>
                    <a:lnTo>
                      <a:pt x="2863" y="419"/>
                    </a:lnTo>
                    <a:lnTo>
                      <a:pt x="3024" y="547"/>
                    </a:lnTo>
                    <a:lnTo>
                      <a:pt x="3226" y="617"/>
                    </a:lnTo>
                    <a:lnTo>
                      <a:pt x="3352" y="753"/>
                    </a:lnTo>
                    <a:lnTo>
                      <a:pt x="3358" y="882"/>
                    </a:lnTo>
                    <a:lnTo>
                      <a:pt x="3306" y="949"/>
                    </a:lnTo>
                    <a:lnTo>
                      <a:pt x="3151" y="1037"/>
                    </a:lnTo>
                    <a:lnTo>
                      <a:pt x="3195" y="10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216560" y="5708880"/>
                <a:ext cx="242640" cy="178200"/>
              </a:xfrm>
              <a:custGeom>
                <a:avLst/>
                <a:gdLst/>
                <a:ahLst/>
                <a:rect l="l" t="t" r="r" b="b"/>
                <a:pathLst>
                  <a:path w="3177" h="2674">
                    <a:moveTo>
                      <a:pt x="3039" y="881"/>
                    </a:moveTo>
                    <a:lnTo>
                      <a:pt x="3177" y="784"/>
                    </a:lnTo>
                    <a:lnTo>
                      <a:pt x="3172" y="664"/>
                    </a:lnTo>
                    <a:lnTo>
                      <a:pt x="3039" y="494"/>
                    </a:lnTo>
                    <a:lnTo>
                      <a:pt x="3011" y="565"/>
                    </a:lnTo>
                    <a:lnTo>
                      <a:pt x="2886" y="472"/>
                    </a:lnTo>
                    <a:lnTo>
                      <a:pt x="2421" y="420"/>
                    </a:lnTo>
                    <a:lnTo>
                      <a:pt x="2220" y="420"/>
                    </a:lnTo>
                    <a:lnTo>
                      <a:pt x="2567" y="355"/>
                    </a:lnTo>
                    <a:lnTo>
                      <a:pt x="2580" y="296"/>
                    </a:lnTo>
                    <a:lnTo>
                      <a:pt x="2255" y="136"/>
                    </a:lnTo>
                    <a:lnTo>
                      <a:pt x="1840" y="0"/>
                    </a:lnTo>
                    <a:lnTo>
                      <a:pt x="1312" y="7"/>
                    </a:lnTo>
                    <a:lnTo>
                      <a:pt x="826" y="166"/>
                    </a:lnTo>
                    <a:lnTo>
                      <a:pt x="510" y="408"/>
                    </a:lnTo>
                    <a:lnTo>
                      <a:pt x="309" y="733"/>
                    </a:lnTo>
                    <a:lnTo>
                      <a:pt x="233" y="975"/>
                    </a:lnTo>
                    <a:lnTo>
                      <a:pt x="233" y="1230"/>
                    </a:lnTo>
                    <a:lnTo>
                      <a:pt x="279" y="1464"/>
                    </a:lnTo>
                    <a:lnTo>
                      <a:pt x="279" y="1658"/>
                    </a:lnTo>
                    <a:lnTo>
                      <a:pt x="0" y="2257"/>
                    </a:lnTo>
                    <a:lnTo>
                      <a:pt x="275" y="2271"/>
                    </a:lnTo>
                    <a:lnTo>
                      <a:pt x="528" y="2456"/>
                    </a:lnTo>
                    <a:lnTo>
                      <a:pt x="756" y="2674"/>
                    </a:lnTo>
                    <a:lnTo>
                      <a:pt x="877" y="2557"/>
                    </a:lnTo>
                    <a:lnTo>
                      <a:pt x="952" y="2364"/>
                    </a:lnTo>
                    <a:lnTo>
                      <a:pt x="1123" y="2225"/>
                    </a:lnTo>
                    <a:lnTo>
                      <a:pt x="1114" y="1980"/>
                    </a:lnTo>
                    <a:lnTo>
                      <a:pt x="1183" y="1769"/>
                    </a:lnTo>
                    <a:lnTo>
                      <a:pt x="1319" y="1694"/>
                    </a:lnTo>
                    <a:lnTo>
                      <a:pt x="1437" y="1709"/>
                    </a:lnTo>
                    <a:lnTo>
                      <a:pt x="1497" y="1780"/>
                    </a:lnTo>
                    <a:lnTo>
                      <a:pt x="1554" y="1914"/>
                    </a:lnTo>
                    <a:lnTo>
                      <a:pt x="1875" y="2034"/>
                    </a:lnTo>
                    <a:lnTo>
                      <a:pt x="2009" y="1780"/>
                    </a:lnTo>
                    <a:lnTo>
                      <a:pt x="2525" y="1549"/>
                    </a:lnTo>
                    <a:lnTo>
                      <a:pt x="2516" y="1367"/>
                    </a:lnTo>
                    <a:lnTo>
                      <a:pt x="2421" y="1230"/>
                    </a:lnTo>
                    <a:lnTo>
                      <a:pt x="2490" y="1167"/>
                    </a:lnTo>
                    <a:lnTo>
                      <a:pt x="2455" y="832"/>
                    </a:lnTo>
                    <a:lnTo>
                      <a:pt x="2615" y="814"/>
                    </a:lnTo>
                    <a:lnTo>
                      <a:pt x="2824" y="832"/>
                    </a:lnTo>
                    <a:lnTo>
                      <a:pt x="3006" y="870"/>
                    </a:lnTo>
                    <a:lnTo>
                      <a:pt x="3039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411680" y="5798880"/>
                <a:ext cx="8280" cy="40320"/>
              </a:xfrm>
              <a:custGeom>
                <a:avLst/>
                <a:gdLst/>
                <a:ahLst/>
                <a:rect l="l" t="t" r="r" b="b"/>
                <a:pathLst>
                  <a:path w="111" h="609">
                    <a:moveTo>
                      <a:pt x="53" y="609"/>
                    </a:moveTo>
                    <a:lnTo>
                      <a:pt x="0" y="459"/>
                    </a:lnTo>
                    <a:lnTo>
                      <a:pt x="39" y="307"/>
                    </a:lnTo>
                    <a:lnTo>
                      <a:pt x="0" y="0"/>
                    </a:lnTo>
                    <a:lnTo>
                      <a:pt x="111" y="466"/>
                    </a:lnTo>
                    <a:lnTo>
                      <a:pt x="105" y="563"/>
                    </a:lnTo>
                    <a:lnTo>
                      <a:pt x="53" y="6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310160" y="5832720"/>
                <a:ext cx="26280" cy="43560"/>
              </a:xfrm>
              <a:custGeom>
                <a:avLst/>
                <a:gdLst/>
                <a:ahLst/>
                <a:rect l="l" t="t" r="r" b="b"/>
                <a:pathLst>
                  <a:path w="343" h="655">
                    <a:moveTo>
                      <a:pt x="266" y="172"/>
                    </a:moveTo>
                    <a:lnTo>
                      <a:pt x="343" y="60"/>
                    </a:lnTo>
                    <a:lnTo>
                      <a:pt x="275" y="0"/>
                    </a:lnTo>
                    <a:lnTo>
                      <a:pt x="132" y="0"/>
                    </a:lnTo>
                    <a:lnTo>
                      <a:pt x="28" y="113"/>
                    </a:lnTo>
                    <a:lnTo>
                      <a:pt x="0" y="327"/>
                    </a:lnTo>
                    <a:lnTo>
                      <a:pt x="79" y="106"/>
                    </a:lnTo>
                    <a:lnTo>
                      <a:pt x="196" y="83"/>
                    </a:lnTo>
                    <a:lnTo>
                      <a:pt x="108" y="277"/>
                    </a:lnTo>
                    <a:lnTo>
                      <a:pt x="108" y="429"/>
                    </a:lnTo>
                    <a:lnTo>
                      <a:pt x="60" y="417"/>
                    </a:lnTo>
                    <a:lnTo>
                      <a:pt x="23" y="387"/>
                    </a:lnTo>
                    <a:lnTo>
                      <a:pt x="60" y="523"/>
                    </a:lnTo>
                    <a:lnTo>
                      <a:pt x="132" y="655"/>
                    </a:lnTo>
                    <a:lnTo>
                      <a:pt x="119" y="539"/>
                    </a:lnTo>
                    <a:lnTo>
                      <a:pt x="189" y="484"/>
                    </a:lnTo>
                    <a:lnTo>
                      <a:pt x="297" y="558"/>
                    </a:lnTo>
                    <a:lnTo>
                      <a:pt x="316" y="523"/>
                    </a:lnTo>
                    <a:lnTo>
                      <a:pt x="297" y="473"/>
                    </a:lnTo>
                    <a:lnTo>
                      <a:pt x="332" y="387"/>
                    </a:lnTo>
                    <a:lnTo>
                      <a:pt x="314" y="304"/>
                    </a:lnTo>
                    <a:lnTo>
                      <a:pt x="240" y="297"/>
                    </a:lnTo>
                    <a:lnTo>
                      <a:pt x="224" y="207"/>
                    </a:lnTo>
                    <a:lnTo>
                      <a:pt x="266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321680" y="587052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43" h="175">
                    <a:moveTo>
                      <a:pt x="0" y="90"/>
                    </a:moveTo>
                    <a:lnTo>
                      <a:pt x="86" y="0"/>
                    </a:lnTo>
                    <a:lnTo>
                      <a:pt x="143" y="20"/>
                    </a:lnTo>
                    <a:lnTo>
                      <a:pt x="104" y="175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439760" y="5868360"/>
                <a:ext cx="15480" cy="11520"/>
              </a:xfrm>
              <a:custGeom>
                <a:avLst/>
                <a:gdLst/>
                <a:ahLst/>
                <a:rect l="l" t="t" r="r" b="b"/>
                <a:pathLst>
                  <a:path w="207" h="175">
                    <a:moveTo>
                      <a:pt x="11" y="132"/>
                    </a:moveTo>
                    <a:lnTo>
                      <a:pt x="207" y="175"/>
                    </a:lnTo>
                    <a:lnTo>
                      <a:pt x="0" y="0"/>
                    </a:lnTo>
                    <a:lnTo>
                      <a:pt x="11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102440" y="5896800"/>
                <a:ext cx="72360" cy="73080"/>
              </a:xfrm>
              <a:custGeom>
                <a:avLst/>
                <a:gdLst/>
                <a:ahLst/>
                <a:rect l="l" t="t" r="r" b="b"/>
                <a:pathLst>
                  <a:path w="947" h="1096">
                    <a:moveTo>
                      <a:pt x="947" y="0"/>
                    </a:moveTo>
                    <a:lnTo>
                      <a:pt x="628" y="164"/>
                    </a:lnTo>
                    <a:lnTo>
                      <a:pt x="167" y="643"/>
                    </a:lnTo>
                    <a:lnTo>
                      <a:pt x="0" y="883"/>
                    </a:lnTo>
                    <a:lnTo>
                      <a:pt x="0" y="1096"/>
                    </a:lnTo>
                    <a:lnTo>
                      <a:pt x="270" y="672"/>
                    </a:lnTo>
                    <a:lnTo>
                      <a:pt x="628" y="235"/>
                    </a:lnTo>
                    <a:lnTo>
                      <a:pt x="9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102440" y="5989320"/>
                <a:ext cx="769320" cy="399600"/>
              </a:xfrm>
              <a:custGeom>
                <a:avLst/>
                <a:gdLst/>
                <a:ahLst/>
                <a:rect l="l" t="t" r="r" b="b"/>
                <a:pathLst>
                  <a:path w="10071" h="5987">
                    <a:moveTo>
                      <a:pt x="3078" y="337"/>
                    </a:moveTo>
                    <a:lnTo>
                      <a:pt x="2554" y="961"/>
                    </a:lnTo>
                    <a:lnTo>
                      <a:pt x="2043" y="1895"/>
                    </a:lnTo>
                    <a:lnTo>
                      <a:pt x="989" y="2609"/>
                    </a:lnTo>
                    <a:lnTo>
                      <a:pt x="508" y="2393"/>
                    </a:lnTo>
                    <a:lnTo>
                      <a:pt x="0" y="2301"/>
                    </a:lnTo>
                    <a:lnTo>
                      <a:pt x="413" y="2423"/>
                    </a:lnTo>
                    <a:lnTo>
                      <a:pt x="796" y="2635"/>
                    </a:lnTo>
                    <a:lnTo>
                      <a:pt x="1109" y="2900"/>
                    </a:lnTo>
                    <a:lnTo>
                      <a:pt x="1446" y="3279"/>
                    </a:lnTo>
                    <a:lnTo>
                      <a:pt x="1758" y="3760"/>
                    </a:lnTo>
                    <a:lnTo>
                      <a:pt x="2119" y="4719"/>
                    </a:lnTo>
                    <a:lnTo>
                      <a:pt x="2336" y="5343"/>
                    </a:lnTo>
                    <a:lnTo>
                      <a:pt x="2457" y="5987"/>
                    </a:lnTo>
                    <a:lnTo>
                      <a:pt x="3945" y="5987"/>
                    </a:lnTo>
                    <a:lnTo>
                      <a:pt x="2982" y="4482"/>
                    </a:lnTo>
                    <a:lnTo>
                      <a:pt x="2527" y="3187"/>
                    </a:lnTo>
                    <a:lnTo>
                      <a:pt x="2578" y="2444"/>
                    </a:lnTo>
                    <a:lnTo>
                      <a:pt x="2624" y="3158"/>
                    </a:lnTo>
                    <a:lnTo>
                      <a:pt x="3052" y="4288"/>
                    </a:lnTo>
                    <a:lnTo>
                      <a:pt x="3991" y="5701"/>
                    </a:lnTo>
                    <a:lnTo>
                      <a:pt x="4281" y="5750"/>
                    </a:lnTo>
                    <a:lnTo>
                      <a:pt x="4378" y="5987"/>
                    </a:lnTo>
                    <a:lnTo>
                      <a:pt x="8152" y="5987"/>
                    </a:lnTo>
                    <a:lnTo>
                      <a:pt x="8322" y="5892"/>
                    </a:lnTo>
                    <a:lnTo>
                      <a:pt x="8722" y="5701"/>
                    </a:lnTo>
                    <a:lnTo>
                      <a:pt x="9113" y="5674"/>
                    </a:lnTo>
                    <a:lnTo>
                      <a:pt x="9135" y="5604"/>
                    </a:lnTo>
                    <a:lnTo>
                      <a:pt x="8843" y="5534"/>
                    </a:lnTo>
                    <a:lnTo>
                      <a:pt x="8530" y="5358"/>
                    </a:lnTo>
                    <a:lnTo>
                      <a:pt x="8242" y="5173"/>
                    </a:lnTo>
                    <a:lnTo>
                      <a:pt x="7839" y="5097"/>
                    </a:lnTo>
                    <a:lnTo>
                      <a:pt x="7546" y="5002"/>
                    </a:lnTo>
                    <a:lnTo>
                      <a:pt x="7168" y="4956"/>
                    </a:lnTo>
                    <a:lnTo>
                      <a:pt x="7168" y="4885"/>
                    </a:lnTo>
                    <a:lnTo>
                      <a:pt x="7452" y="4811"/>
                    </a:lnTo>
                    <a:lnTo>
                      <a:pt x="7767" y="4811"/>
                    </a:lnTo>
                    <a:lnTo>
                      <a:pt x="8080" y="4719"/>
                    </a:lnTo>
                    <a:lnTo>
                      <a:pt x="8652" y="4624"/>
                    </a:lnTo>
                    <a:lnTo>
                      <a:pt x="8992" y="4530"/>
                    </a:lnTo>
                    <a:lnTo>
                      <a:pt x="8821" y="4530"/>
                    </a:lnTo>
                    <a:lnTo>
                      <a:pt x="8627" y="4602"/>
                    </a:lnTo>
                    <a:lnTo>
                      <a:pt x="8339" y="4644"/>
                    </a:lnTo>
                    <a:lnTo>
                      <a:pt x="8030" y="4666"/>
                    </a:lnTo>
                    <a:lnTo>
                      <a:pt x="7818" y="4736"/>
                    </a:lnTo>
                    <a:lnTo>
                      <a:pt x="7818" y="4644"/>
                    </a:lnTo>
                    <a:lnTo>
                      <a:pt x="7931" y="4530"/>
                    </a:lnTo>
                    <a:lnTo>
                      <a:pt x="8201" y="4339"/>
                    </a:lnTo>
                    <a:lnTo>
                      <a:pt x="9234" y="4069"/>
                    </a:lnTo>
                    <a:lnTo>
                      <a:pt x="10071" y="3735"/>
                    </a:lnTo>
                    <a:lnTo>
                      <a:pt x="9159" y="4069"/>
                    </a:lnTo>
                    <a:lnTo>
                      <a:pt x="8516" y="4165"/>
                    </a:lnTo>
                    <a:lnTo>
                      <a:pt x="8272" y="4218"/>
                    </a:lnTo>
                    <a:lnTo>
                      <a:pt x="6778" y="4218"/>
                    </a:lnTo>
                    <a:lnTo>
                      <a:pt x="7117" y="4023"/>
                    </a:lnTo>
                    <a:lnTo>
                      <a:pt x="7382" y="3976"/>
                    </a:lnTo>
                    <a:lnTo>
                      <a:pt x="7594" y="3877"/>
                    </a:lnTo>
                    <a:lnTo>
                      <a:pt x="7670" y="3827"/>
                    </a:lnTo>
                    <a:lnTo>
                      <a:pt x="7670" y="3710"/>
                    </a:lnTo>
                    <a:lnTo>
                      <a:pt x="7643" y="3664"/>
                    </a:lnTo>
                    <a:lnTo>
                      <a:pt x="7522" y="3640"/>
                    </a:lnTo>
                    <a:lnTo>
                      <a:pt x="7474" y="3735"/>
                    </a:lnTo>
                    <a:lnTo>
                      <a:pt x="7353" y="3785"/>
                    </a:lnTo>
                    <a:lnTo>
                      <a:pt x="6832" y="3735"/>
                    </a:lnTo>
                    <a:lnTo>
                      <a:pt x="6685" y="3594"/>
                    </a:lnTo>
                    <a:lnTo>
                      <a:pt x="6731" y="3804"/>
                    </a:lnTo>
                    <a:lnTo>
                      <a:pt x="6731" y="3976"/>
                    </a:lnTo>
                    <a:lnTo>
                      <a:pt x="6661" y="4218"/>
                    </a:lnTo>
                    <a:lnTo>
                      <a:pt x="6661" y="3976"/>
                    </a:lnTo>
                    <a:lnTo>
                      <a:pt x="6441" y="3710"/>
                    </a:lnTo>
                    <a:lnTo>
                      <a:pt x="6589" y="4023"/>
                    </a:lnTo>
                    <a:lnTo>
                      <a:pt x="6589" y="4311"/>
                    </a:lnTo>
                    <a:lnTo>
                      <a:pt x="5434" y="5026"/>
                    </a:lnTo>
                    <a:lnTo>
                      <a:pt x="5265" y="4574"/>
                    </a:lnTo>
                    <a:lnTo>
                      <a:pt x="5265" y="3877"/>
                    </a:lnTo>
                    <a:lnTo>
                      <a:pt x="5602" y="3710"/>
                    </a:lnTo>
                    <a:lnTo>
                      <a:pt x="6107" y="3594"/>
                    </a:lnTo>
                    <a:lnTo>
                      <a:pt x="5773" y="3521"/>
                    </a:lnTo>
                    <a:lnTo>
                      <a:pt x="6056" y="3279"/>
                    </a:lnTo>
                    <a:lnTo>
                      <a:pt x="5173" y="3760"/>
                    </a:lnTo>
                    <a:lnTo>
                      <a:pt x="4810" y="3187"/>
                    </a:lnTo>
                    <a:lnTo>
                      <a:pt x="4666" y="1754"/>
                    </a:lnTo>
                    <a:lnTo>
                      <a:pt x="4500" y="790"/>
                    </a:lnTo>
                    <a:lnTo>
                      <a:pt x="4256" y="242"/>
                    </a:lnTo>
                    <a:lnTo>
                      <a:pt x="3964" y="0"/>
                    </a:lnTo>
                    <a:lnTo>
                      <a:pt x="4187" y="242"/>
                    </a:lnTo>
                    <a:lnTo>
                      <a:pt x="4424" y="693"/>
                    </a:lnTo>
                    <a:lnTo>
                      <a:pt x="4544" y="1271"/>
                    </a:lnTo>
                    <a:lnTo>
                      <a:pt x="4620" y="2181"/>
                    </a:lnTo>
                    <a:lnTo>
                      <a:pt x="4712" y="3140"/>
                    </a:lnTo>
                    <a:lnTo>
                      <a:pt x="3611" y="1531"/>
                    </a:lnTo>
                    <a:lnTo>
                      <a:pt x="4019" y="2469"/>
                    </a:lnTo>
                    <a:lnTo>
                      <a:pt x="4782" y="3543"/>
                    </a:lnTo>
                    <a:lnTo>
                      <a:pt x="4782" y="3947"/>
                    </a:lnTo>
                    <a:lnTo>
                      <a:pt x="4544" y="4549"/>
                    </a:lnTo>
                    <a:lnTo>
                      <a:pt x="5047" y="3947"/>
                    </a:lnTo>
                    <a:lnTo>
                      <a:pt x="5148" y="4288"/>
                    </a:lnTo>
                    <a:lnTo>
                      <a:pt x="5148" y="4574"/>
                    </a:lnTo>
                    <a:lnTo>
                      <a:pt x="4666" y="5125"/>
                    </a:lnTo>
                    <a:lnTo>
                      <a:pt x="4208" y="4736"/>
                    </a:lnTo>
                    <a:lnTo>
                      <a:pt x="3964" y="4908"/>
                    </a:lnTo>
                    <a:lnTo>
                      <a:pt x="3899" y="4811"/>
                    </a:lnTo>
                    <a:lnTo>
                      <a:pt x="4019" y="4359"/>
                    </a:lnTo>
                    <a:lnTo>
                      <a:pt x="3991" y="4189"/>
                    </a:lnTo>
                    <a:lnTo>
                      <a:pt x="2744" y="2589"/>
                    </a:lnTo>
                    <a:lnTo>
                      <a:pt x="2716" y="2324"/>
                    </a:lnTo>
                    <a:lnTo>
                      <a:pt x="2716" y="1824"/>
                    </a:lnTo>
                    <a:lnTo>
                      <a:pt x="2767" y="1339"/>
                    </a:lnTo>
                    <a:lnTo>
                      <a:pt x="2883" y="840"/>
                    </a:lnTo>
                    <a:lnTo>
                      <a:pt x="3078" y="482"/>
                    </a:lnTo>
                    <a:lnTo>
                      <a:pt x="3345" y="173"/>
                    </a:lnTo>
                    <a:lnTo>
                      <a:pt x="3078" y="3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466400" y="6191640"/>
                <a:ext cx="77400" cy="44280"/>
              </a:xfrm>
              <a:custGeom>
                <a:avLst/>
                <a:gdLst/>
                <a:ahLst/>
                <a:rect l="l" t="t" r="r" b="b"/>
                <a:pathLst>
                  <a:path w="1016" h="665">
                    <a:moveTo>
                      <a:pt x="6" y="0"/>
                    </a:moveTo>
                    <a:lnTo>
                      <a:pt x="218" y="118"/>
                    </a:lnTo>
                    <a:lnTo>
                      <a:pt x="705" y="173"/>
                    </a:lnTo>
                    <a:lnTo>
                      <a:pt x="705" y="228"/>
                    </a:lnTo>
                    <a:lnTo>
                      <a:pt x="1016" y="240"/>
                    </a:lnTo>
                    <a:lnTo>
                      <a:pt x="697" y="275"/>
                    </a:lnTo>
                    <a:lnTo>
                      <a:pt x="653" y="446"/>
                    </a:lnTo>
                    <a:lnTo>
                      <a:pt x="626" y="662"/>
                    </a:lnTo>
                    <a:lnTo>
                      <a:pt x="596" y="665"/>
                    </a:lnTo>
                    <a:lnTo>
                      <a:pt x="615" y="406"/>
                    </a:lnTo>
                    <a:lnTo>
                      <a:pt x="653" y="235"/>
                    </a:lnTo>
                    <a:lnTo>
                      <a:pt x="218" y="178"/>
                    </a:lnTo>
                    <a:lnTo>
                      <a:pt x="0" y="9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548840" y="6169320"/>
                <a:ext cx="139320" cy="70920"/>
              </a:xfrm>
              <a:custGeom>
                <a:avLst/>
                <a:gdLst/>
                <a:ahLst/>
                <a:rect l="l" t="t" r="r" b="b"/>
                <a:pathLst>
                  <a:path w="1821" h="1066">
                    <a:moveTo>
                      <a:pt x="0" y="706"/>
                    </a:moveTo>
                    <a:lnTo>
                      <a:pt x="137" y="242"/>
                    </a:lnTo>
                    <a:lnTo>
                      <a:pt x="597" y="0"/>
                    </a:lnTo>
                    <a:lnTo>
                      <a:pt x="906" y="137"/>
                    </a:lnTo>
                    <a:lnTo>
                      <a:pt x="1268" y="176"/>
                    </a:lnTo>
                    <a:lnTo>
                      <a:pt x="1330" y="227"/>
                    </a:lnTo>
                    <a:lnTo>
                      <a:pt x="1341" y="317"/>
                    </a:lnTo>
                    <a:lnTo>
                      <a:pt x="1504" y="360"/>
                    </a:lnTo>
                    <a:lnTo>
                      <a:pt x="1634" y="459"/>
                    </a:lnTo>
                    <a:lnTo>
                      <a:pt x="1708" y="488"/>
                    </a:lnTo>
                    <a:lnTo>
                      <a:pt x="1819" y="579"/>
                    </a:lnTo>
                    <a:lnTo>
                      <a:pt x="1821" y="655"/>
                    </a:lnTo>
                    <a:lnTo>
                      <a:pt x="1763" y="706"/>
                    </a:lnTo>
                    <a:lnTo>
                      <a:pt x="1634" y="822"/>
                    </a:lnTo>
                    <a:lnTo>
                      <a:pt x="1637" y="910"/>
                    </a:lnTo>
                    <a:lnTo>
                      <a:pt x="1612" y="800"/>
                    </a:lnTo>
                    <a:lnTo>
                      <a:pt x="1785" y="640"/>
                    </a:lnTo>
                    <a:lnTo>
                      <a:pt x="1785" y="584"/>
                    </a:lnTo>
                    <a:lnTo>
                      <a:pt x="1637" y="499"/>
                    </a:lnTo>
                    <a:lnTo>
                      <a:pt x="1577" y="512"/>
                    </a:lnTo>
                    <a:lnTo>
                      <a:pt x="1504" y="503"/>
                    </a:lnTo>
                    <a:lnTo>
                      <a:pt x="1370" y="579"/>
                    </a:lnTo>
                    <a:lnTo>
                      <a:pt x="1543" y="448"/>
                    </a:lnTo>
                    <a:lnTo>
                      <a:pt x="1471" y="383"/>
                    </a:lnTo>
                    <a:lnTo>
                      <a:pt x="1341" y="356"/>
                    </a:lnTo>
                    <a:lnTo>
                      <a:pt x="1341" y="409"/>
                    </a:lnTo>
                    <a:lnTo>
                      <a:pt x="1394" y="503"/>
                    </a:lnTo>
                    <a:lnTo>
                      <a:pt x="1319" y="413"/>
                    </a:lnTo>
                    <a:lnTo>
                      <a:pt x="1268" y="247"/>
                    </a:lnTo>
                    <a:lnTo>
                      <a:pt x="1205" y="192"/>
                    </a:lnTo>
                    <a:lnTo>
                      <a:pt x="885" y="176"/>
                    </a:lnTo>
                    <a:lnTo>
                      <a:pt x="641" y="47"/>
                    </a:lnTo>
                    <a:lnTo>
                      <a:pt x="161" y="264"/>
                    </a:lnTo>
                    <a:lnTo>
                      <a:pt x="90" y="552"/>
                    </a:lnTo>
                    <a:lnTo>
                      <a:pt x="321" y="574"/>
                    </a:lnTo>
                    <a:lnTo>
                      <a:pt x="590" y="655"/>
                    </a:lnTo>
                    <a:lnTo>
                      <a:pt x="791" y="822"/>
                    </a:lnTo>
                    <a:lnTo>
                      <a:pt x="1053" y="719"/>
                    </a:lnTo>
                    <a:lnTo>
                      <a:pt x="873" y="930"/>
                    </a:lnTo>
                    <a:lnTo>
                      <a:pt x="873" y="1066"/>
                    </a:lnTo>
                    <a:lnTo>
                      <a:pt x="786" y="851"/>
                    </a:lnTo>
                    <a:lnTo>
                      <a:pt x="597" y="699"/>
                    </a:lnTo>
                    <a:lnTo>
                      <a:pt x="403" y="633"/>
                    </a:lnTo>
                    <a:lnTo>
                      <a:pt x="173" y="614"/>
                    </a:lnTo>
                    <a:lnTo>
                      <a:pt x="0" y="7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541280" y="6224040"/>
                <a:ext cx="68400" cy="30600"/>
              </a:xfrm>
              <a:custGeom>
                <a:avLst/>
                <a:gdLst/>
                <a:ahLst/>
                <a:rect l="l" t="t" r="r" b="b"/>
                <a:pathLst>
                  <a:path w="895" h="462">
                    <a:moveTo>
                      <a:pt x="0" y="69"/>
                    </a:moveTo>
                    <a:lnTo>
                      <a:pt x="363" y="91"/>
                    </a:lnTo>
                    <a:lnTo>
                      <a:pt x="593" y="177"/>
                    </a:lnTo>
                    <a:lnTo>
                      <a:pt x="764" y="313"/>
                    </a:lnTo>
                    <a:lnTo>
                      <a:pt x="844" y="462"/>
                    </a:lnTo>
                    <a:lnTo>
                      <a:pt x="895" y="421"/>
                    </a:lnTo>
                    <a:lnTo>
                      <a:pt x="791" y="262"/>
                    </a:lnTo>
                    <a:lnTo>
                      <a:pt x="642" y="126"/>
                    </a:lnTo>
                    <a:lnTo>
                      <a:pt x="427" y="20"/>
                    </a:lnTo>
                    <a:lnTo>
                      <a:pt x="180" y="0"/>
                    </a:lnTo>
                    <a:lnTo>
                      <a:pt x="13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658640" y="6311880"/>
                <a:ext cx="15480" cy="12240"/>
              </a:xfrm>
              <a:custGeom>
                <a:avLst/>
                <a:gdLst/>
                <a:ahLst/>
                <a:rect l="l" t="t" r="r" b="b"/>
                <a:pathLst>
                  <a:path w="203" h="182">
                    <a:moveTo>
                      <a:pt x="0" y="20"/>
                    </a:moveTo>
                    <a:lnTo>
                      <a:pt x="95" y="22"/>
                    </a:lnTo>
                    <a:lnTo>
                      <a:pt x="146" y="62"/>
                    </a:lnTo>
                    <a:lnTo>
                      <a:pt x="169" y="97"/>
                    </a:lnTo>
                    <a:lnTo>
                      <a:pt x="169" y="133"/>
                    </a:lnTo>
                    <a:lnTo>
                      <a:pt x="146" y="182"/>
                    </a:lnTo>
                    <a:lnTo>
                      <a:pt x="181" y="167"/>
                    </a:lnTo>
                    <a:lnTo>
                      <a:pt x="203" y="121"/>
                    </a:lnTo>
                    <a:lnTo>
                      <a:pt x="194" y="86"/>
                    </a:lnTo>
                    <a:lnTo>
                      <a:pt x="165" y="38"/>
                    </a:lnTo>
                    <a:lnTo>
                      <a:pt x="130" y="20"/>
                    </a:lnTo>
                    <a:lnTo>
                      <a:pt x="4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692120" y="6305040"/>
                <a:ext cx="27360" cy="13320"/>
              </a:xfrm>
              <a:custGeom>
                <a:avLst/>
                <a:gdLst/>
                <a:ahLst/>
                <a:rect l="l" t="t" r="r" b="b"/>
                <a:pathLst>
                  <a:path w="360" h="197">
                    <a:moveTo>
                      <a:pt x="245" y="26"/>
                    </a:moveTo>
                    <a:lnTo>
                      <a:pt x="286" y="51"/>
                    </a:lnTo>
                    <a:lnTo>
                      <a:pt x="309" y="100"/>
                    </a:lnTo>
                    <a:lnTo>
                      <a:pt x="296" y="138"/>
                    </a:lnTo>
                    <a:lnTo>
                      <a:pt x="261" y="177"/>
                    </a:lnTo>
                    <a:lnTo>
                      <a:pt x="63" y="166"/>
                    </a:lnTo>
                    <a:lnTo>
                      <a:pt x="28" y="150"/>
                    </a:lnTo>
                    <a:lnTo>
                      <a:pt x="24" y="104"/>
                    </a:lnTo>
                    <a:lnTo>
                      <a:pt x="28" y="100"/>
                    </a:lnTo>
                    <a:lnTo>
                      <a:pt x="0" y="104"/>
                    </a:lnTo>
                    <a:lnTo>
                      <a:pt x="0" y="138"/>
                    </a:lnTo>
                    <a:lnTo>
                      <a:pt x="39" y="186"/>
                    </a:lnTo>
                    <a:lnTo>
                      <a:pt x="296" y="197"/>
                    </a:lnTo>
                    <a:lnTo>
                      <a:pt x="349" y="150"/>
                    </a:lnTo>
                    <a:lnTo>
                      <a:pt x="360" y="87"/>
                    </a:lnTo>
                    <a:lnTo>
                      <a:pt x="325" y="26"/>
                    </a:lnTo>
                    <a:lnTo>
                      <a:pt x="274" y="0"/>
                    </a:lnTo>
                    <a:lnTo>
                      <a:pt x="24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988040" y="5916240"/>
                <a:ext cx="468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8051400" y="5840640"/>
                <a:ext cx="216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8047080" y="5841360"/>
                <a:ext cx="36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8042760" y="5847120"/>
                <a:ext cx="108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>
                <a:off x="8037720" y="5856840"/>
                <a:ext cx="360" cy="2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>
                <a:off x="8030160" y="5864760"/>
                <a:ext cx="21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8022960" y="587772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8067960" y="5874480"/>
                <a:ext cx="16920" cy="22320"/>
              </a:xfrm>
              <a:custGeom>
                <a:avLst/>
                <a:gdLst/>
                <a:ahLst/>
                <a:rect l="l" t="t" r="r" b="b"/>
                <a:pathLst>
                  <a:path w="226" h="341">
                    <a:moveTo>
                      <a:pt x="191" y="0"/>
                    </a:moveTo>
                    <a:lnTo>
                      <a:pt x="155" y="0"/>
                    </a:lnTo>
                    <a:lnTo>
                      <a:pt x="125" y="5"/>
                    </a:lnTo>
                    <a:lnTo>
                      <a:pt x="104" y="14"/>
                    </a:lnTo>
                    <a:lnTo>
                      <a:pt x="70" y="31"/>
                    </a:lnTo>
                    <a:lnTo>
                      <a:pt x="46" y="47"/>
                    </a:lnTo>
                    <a:lnTo>
                      <a:pt x="28" y="70"/>
                    </a:lnTo>
                    <a:lnTo>
                      <a:pt x="12" y="104"/>
                    </a:lnTo>
                    <a:lnTo>
                      <a:pt x="0" y="130"/>
                    </a:lnTo>
                    <a:lnTo>
                      <a:pt x="0" y="160"/>
                    </a:lnTo>
                    <a:lnTo>
                      <a:pt x="0" y="192"/>
                    </a:lnTo>
                    <a:lnTo>
                      <a:pt x="0" y="215"/>
                    </a:lnTo>
                    <a:lnTo>
                      <a:pt x="12" y="249"/>
                    </a:lnTo>
                    <a:lnTo>
                      <a:pt x="33" y="273"/>
                    </a:lnTo>
                    <a:lnTo>
                      <a:pt x="51" y="301"/>
                    </a:lnTo>
                    <a:lnTo>
                      <a:pt x="74" y="321"/>
                    </a:lnTo>
                    <a:lnTo>
                      <a:pt x="104" y="337"/>
                    </a:lnTo>
                    <a:lnTo>
                      <a:pt x="129" y="341"/>
                    </a:lnTo>
                    <a:lnTo>
                      <a:pt x="164" y="341"/>
                    </a:lnTo>
                    <a:lnTo>
                      <a:pt x="196" y="341"/>
                    </a:lnTo>
                    <a:lnTo>
                      <a:pt x="226" y="3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441560" y="5846760"/>
                <a:ext cx="288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347240" y="5834880"/>
                <a:ext cx="1260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355880" y="5839920"/>
                <a:ext cx="13680" cy="32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365240" y="5846400"/>
                <a:ext cx="1332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376760" y="5854680"/>
                <a:ext cx="936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715880" y="5678280"/>
                <a:ext cx="137880" cy="144720"/>
              </a:xfrm>
              <a:custGeom>
                <a:avLst/>
                <a:gdLst/>
                <a:ahLst/>
                <a:rect l="l" t="t" r="r" b="b"/>
                <a:pathLst>
                  <a:path w="1810" h="2171">
                    <a:moveTo>
                      <a:pt x="1367" y="1125"/>
                    </a:moveTo>
                    <a:lnTo>
                      <a:pt x="1215" y="1136"/>
                    </a:lnTo>
                    <a:lnTo>
                      <a:pt x="1090" y="1113"/>
                    </a:lnTo>
                    <a:lnTo>
                      <a:pt x="1033" y="1060"/>
                    </a:lnTo>
                    <a:lnTo>
                      <a:pt x="1120" y="1095"/>
                    </a:lnTo>
                    <a:lnTo>
                      <a:pt x="1206" y="1073"/>
                    </a:lnTo>
                    <a:lnTo>
                      <a:pt x="1265" y="1062"/>
                    </a:lnTo>
                    <a:lnTo>
                      <a:pt x="1145" y="1037"/>
                    </a:lnTo>
                    <a:lnTo>
                      <a:pt x="1044" y="998"/>
                    </a:lnTo>
                    <a:lnTo>
                      <a:pt x="973" y="998"/>
                    </a:lnTo>
                    <a:lnTo>
                      <a:pt x="890" y="1020"/>
                    </a:lnTo>
                    <a:lnTo>
                      <a:pt x="813" y="1023"/>
                    </a:lnTo>
                    <a:lnTo>
                      <a:pt x="740" y="1035"/>
                    </a:lnTo>
                    <a:lnTo>
                      <a:pt x="606" y="998"/>
                    </a:lnTo>
                    <a:lnTo>
                      <a:pt x="556" y="981"/>
                    </a:lnTo>
                    <a:lnTo>
                      <a:pt x="424" y="910"/>
                    </a:lnTo>
                    <a:lnTo>
                      <a:pt x="338" y="878"/>
                    </a:lnTo>
                    <a:lnTo>
                      <a:pt x="263" y="853"/>
                    </a:lnTo>
                    <a:lnTo>
                      <a:pt x="122" y="840"/>
                    </a:lnTo>
                    <a:lnTo>
                      <a:pt x="0" y="829"/>
                    </a:lnTo>
                    <a:lnTo>
                      <a:pt x="178" y="813"/>
                    </a:lnTo>
                    <a:lnTo>
                      <a:pt x="345" y="820"/>
                    </a:lnTo>
                    <a:lnTo>
                      <a:pt x="470" y="840"/>
                    </a:lnTo>
                    <a:lnTo>
                      <a:pt x="574" y="866"/>
                    </a:lnTo>
                    <a:lnTo>
                      <a:pt x="648" y="840"/>
                    </a:lnTo>
                    <a:lnTo>
                      <a:pt x="848" y="820"/>
                    </a:lnTo>
                    <a:lnTo>
                      <a:pt x="986" y="829"/>
                    </a:lnTo>
                    <a:lnTo>
                      <a:pt x="878" y="779"/>
                    </a:lnTo>
                    <a:lnTo>
                      <a:pt x="756" y="746"/>
                    </a:lnTo>
                    <a:lnTo>
                      <a:pt x="648" y="746"/>
                    </a:lnTo>
                    <a:lnTo>
                      <a:pt x="534" y="721"/>
                    </a:lnTo>
                    <a:lnTo>
                      <a:pt x="435" y="689"/>
                    </a:lnTo>
                    <a:lnTo>
                      <a:pt x="597" y="721"/>
                    </a:lnTo>
                    <a:lnTo>
                      <a:pt x="705" y="708"/>
                    </a:lnTo>
                    <a:lnTo>
                      <a:pt x="813" y="703"/>
                    </a:lnTo>
                    <a:lnTo>
                      <a:pt x="908" y="703"/>
                    </a:lnTo>
                    <a:lnTo>
                      <a:pt x="779" y="629"/>
                    </a:lnTo>
                    <a:lnTo>
                      <a:pt x="648" y="587"/>
                    </a:lnTo>
                    <a:lnTo>
                      <a:pt x="779" y="606"/>
                    </a:lnTo>
                    <a:lnTo>
                      <a:pt x="890" y="613"/>
                    </a:lnTo>
                    <a:lnTo>
                      <a:pt x="1019" y="647"/>
                    </a:lnTo>
                    <a:lnTo>
                      <a:pt x="883" y="548"/>
                    </a:lnTo>
                    <a:lnTo>
                      <a:pt x="756" y="479"/>
                    </a:lnTo>
                    <a:lnTo>
                      <a:pt x="899" y="509"/>
                    </a:lnTo>
                    <a:lnTo>
                      <a:pt x="1061" y="548"/>
                    </a:lnTo>
                    <a:lnTo>
                      <a:pt x="986" y="465"/>
                    </a:lnTo>
                    <a:lnTo>
                      <a:pt x="864" y="394"/>
                    </a:lnTo>
                    <a:lnTo>
                      <a:pt x="1039" y="444"/>
                    </a:lnTo>
                    <a:lnTo>
                      <a:pt x="1129" y="479"/>
                    </a:lnTo>
                    <a:lnTo>
                      <a:pt x="1083" y="387"/>
                    </a:lnTo>
                    <a:lnTo>
                      <a:pt x="962" y="281"/>
                    </a:lnTo>
                    <a:lnTo>
                      <a:pt x="1090" y="317"/>
                    </a:lnTo>
                    <a:lnTo>
                      <a:pt x="1235" y="419"/>
                    </a:lnTo>
                    <a:lnTo>
                      <a:pt x="1206" y="320"/>
                    </a:lnTo>
                    <a:lnTo>
                      <a:pt x="1129" y="262"/>
                    </a:lnTo>
                    <a:lnTo>
                      <a:pt x="1256" y="330"/>
                    </a:lnTo>
                    <a:lnTo>
                      <a:pt x="1109" y="191"/>
                    </a:lnTo>
                    <a:lnTo>
                      <a:pt x="899" y="101"/>
                    </a:lnTo>
                    <a:lnTo>
                      <a:pt x="727" y="27"/>
                    </a:lnTo>
                    <a:lnTo>
                      <a:pt x="516" y="0"/>
                    </a:lnTo>
                    <a:lnTo>
                      <a:pt x="793" y="0"/>
                    </a:lnTo>
                    <a:lnTo>
                      <a:pt x="1085" y="75"/>
                    </a:lnTo>
                    <a:lnTo>
                      <a:pt x="1332" y="216"/>
                    </a:lnTo>
                    <a:lnTo>
                      <a:pt x="1519" y="444"/>
                    </a:lnTo>
                    <a:lnTo>
                      <a:pt x="1609" y="613"/>
                    </a:lnTo>
                    <a:lnTo>
                      <a:pt x="1639" y="779"/>
                    </a:lnTo>
                    <a:lnTo>
                      <a:pt x="1623" y="981"/>
                    </a:lnTo>
                    <a:lnTo>
                      <a:pt x="1613" y="1011"/>
                    </a:lnTo>
                    <a:lnTo>
                      <a:pt x="1725" y="1011"/>
                    </a:lnTo>
                    <a:lnTo>
                      <a:pt x="1810" y="1113"/>
                    </a:lnTo>
                    <a:lnTo>
                      <a:pt x="1810" y="1290"/>
                    </a:lnTo>
                    <a:lnTo>
                      <a:pt x="1784" y="1130"/>
                    </a:lnTo>
                    <a:lnTo>
                      <a:pt x="1740" y="1095"/>
                    </a:lnTo>
                    <a:lnTo>
                      <a:pt x="1669" y="1095"/>
                    </a:lnTo>
                    <a:lnTo>
                      <a:pt x="1716" y="1194"/>
                    </a:lnTo>
                    <a:lnTo>
                      <a:pt x="1694" y="1314"/>
                    </a:lnTo>
                    <a:lnTo>
                      <a:pt x="1630" y="1422"/>
                    </a:lnTo>
                    <a:lnTo>
                      <a:pt x="1609" y="1266"/>
                    </a:lnTo>
                    <a:lnTo>
                      <a:pt x="1542" y="1152"/>
                    </a:lnTo>
                    <a:lnTo>
                      <a:pt x="1542" y="1360"/>
                    </a:lnTo>
                    <a:lnTo>
                      <a:pt x="1519" y="1497"/>
                    </a:lnTo>
                    <a:lnTo>
                      <a:pt x="1473" y="1304"/>
                    </a:lnTo>
                    <a:lnTo>
                      <a:pt x="1448" y="1447"/>
                    </a:lnTo>
                    <a:lnTo>
                      <a:pt x="1388" y="1629"/>
                    </a:lnTo>
                    <a:lnTo>
                      <a:pt x="1448" y="1609"/>
                    </a:lnTo>
                    <a:lnTo>
                      <a:pt x="1428" y="1776"/>
                    </a:lnTo>
                    <a:lnTo>
                      <a:pt x="1519" y="1567"/>
                    </a:lnTo>
                    <a:lnTo>
                      <a:pt x="1510" y="1730"/>
                    </a:lnTo>
                    <a:lnTo>
                      <a:pt x="1613" y="1510"/>
                    </a:lnTo>
                    <a:lnTo>
                      <a:pt x="1573" y="1710"/>
                    </a:lnTo>
                    <a:lnTo>
                      <a:pt x="1669" y="1625"/>
                    </a:lnTo>
                    <a:lnTo>
                      <a:pt x="1795" y="1371"/>
                    </a:lnTo>
                    <a:lnTo>
                      <a:pt x="1694" y="1653"/>
                    </a:lnTo>
                    <a:lnTo>
                      <a:pt x="1600" y="1752"/>
                    </a:lnTo>
                    <a:lnTo>
                      <a:pt x="1422" y="1883"/>
                    </a:lnTo>
                    <a:lnTo>
                      <a:pt x="1316" y="1922"/>
                    </a:lnTo>
                    <a:lnTo>
                      <a:pt x="1204" y="2068"/>
                    </a:lnTo>
                    <a:lnTo>
                      <a:pt x="1109" y="2171"/>
                    </a:lnTo>
                    <a:lnTo>
                      <a:pt x="1226" y="1922"/>
                    </a:lnTo>
                    <a:lnTo>
                      <a:pt x="1235" y="1653"/>
                    </a:lnTo>
                    <a:lnTo>
                      <a:pt x="1250" y="1482"/>
                    </a:lnTo>
                    <a:lnTo>
                      <a:pt x="1307" y="1302"/>
                    </a:lnTo>
                    <a:lnTo>
                      <a:pt x="1402" y="1136"/>
                    </a:lnTo>
                    <a:lnTo>
                      <a:pt x="1367" y="1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661520" y="5678280"/>
                <a:ext cx="117720" cy="106200"/>
              </a:xfrm>
              <a:custGeom>
                <a:avLst/>
                <a:gdLst/>
                <a:ahLst/>
                <a:rect l="l" t="t" r="r" b="b"/>
                <a:pathLst>
                  <a:path w="1547" h="1598">
                    <a:moveTo>
                      <a:pt x="1038" y="25"/>
                    </a:moveTo>
                    <a:lnTo>
                      <a:pt x="877" y="75"/>
                    </a:lnTo>
                    <a:lnTo>
                      <a:pt x="669" y="163"/>
                    </a:lnTo>
                    <a:lnTo>
                      <a:pt x="491" y="284"/>
                    </a:lnTo>
                    <a:lnTo>
                      <a:pt x="369" y="422"/>
                    </a:lnTo>
                    <a:lnTo>
                      <a:pt x="268" y="606"/>
                    </a:lnTo>
                    <a:lnTo>
                      <a:pt x="183" y="746"/>
                    </a:lnTo>
                    <a:lnTo>
                      <a:pt x="106" y="884"/>
                    </a:lnTo>
                    <a:lnTo>
                      <a:pt x="0" y="1060"/>
                    </a:lnTo>
                    <a:lnTo>
                      <a:pt x="77" y="1023"/>
                    </a:lnTo>
                    <a:lnTo>
                      <a:pt x="157" y="1062"/>
                    </a:lnTo>
                    <a:lnTo>
                      <a:pt x="146" y="1176"/>
                    </a:lnTo>
                    <a:lnTo>
                      <a:pt x="159" y="1262"/>
                    </a:lnTo>
                    <a:lnTo>
                      <a:pt x="159" y="1360"/>
                    </a:lnTo>
                    <a:lnTo>
                      <a:pt x="97" y="1389"/>
                    </a:lnTo>
                    <a:lnTo>
                      <a:pt x="49" y="1348"/>
                    </a:lnTo>
                    <a:lnTo>
                      <a:pt x="25" y="1389"/>
                    </a:lnTo>
                    <a:lnTo>
                      <a:pt x="27" y="1583"/>
                    </a:lnTo>
                    <a:lnTo>
                      <a:pt x="62" y="1598"/>
                    </a:lnTo>
                    <a:lnTo>
                      <a:pt x="111" y="1429"/>
                    </a:lnTo>
                    <a:lnTo>
                      <a:pt x="168" y="1436"/>
                    </a:lnTo>
                    <a:lnTo>
                      <a:pt x="168" y="1567"/>
                    </a:lnTo>
                    <a:lnTo>
                      <a:pt x="304" y="1145"/>
                    </a:lnTo>
                    <a:lnTo>
                      <a:pt x="319" y="1020"/>
                    </a:lnTo>
                    <a:lnTo>
                      <a:pt x="194" y="1130"/>
                    </a:lnTo>
                    <a:lnTo>
                      <a:pt x="176" y="1035"/>
                    </a:lnTo>
                    <a:lnTo>
                      <a:pt x="106" y="991"/>
                    </a:lnTo>
                    <a:lnTo>
                      <a:pt x="198" y="878"/>
                    </a:lnTo>
                    <a:lnTo>
                      <a:pt x="231" y="840"/>
                    </a:lnTo>
                    <a:lnTo>
                      <a:pt x="662" y="829"/>
                    </a:lnTo>
                    <a:lnTo>
                      <a:pt x="231" y="941"/>
                    </a:lnTo>
                    <a:lnTo>
                      <a:pt x="207" y="1011"/>
                    </a:lnTo>
                    <a:lnTo>
                      <a:pt x="434" y="977"/>
                    </a:lnTo>
                    <a:lnTo>
                      <a:pt x="355" y="1062"/>
                    </a:lnTo>
                    <a:lnTo>
                      <a:pt x="515" y="991"/>
                    </a:lnTo>
                    <a:lnTo>
                      <a:pt x="743" y="829"/>
                    </a:lnTo>
                    <a:lnTo>
                      <a:pt x="963" y="820"/>
                    </a:lnTo>
                    <a:lnTo>
                      <a:pt x="917" y="746"/>
                    </a:lnTo>
                    <a:lnTo>
                      <a:pt x="921" y="719"/>
                    </a:lnTo>
                    <a:lnTo>
                      <a:pt x="1053" y="680"/>
                    </a:lnTo>
                    <a:lnTo>
                      <a:pt x="978" y="636"/>
                    </a:lnTo>
                    <a:lnTo>
                      <a:pt x="985" y="574"/>
                    </a:lnTo>
                    <a:lnTo>
                      <a:pt x="1082" y="519"/>
                    </a:lnTo>
                    <a:lnTo>
                      <a:pt x="1038" y="465"/>
                    </a:lnTo>
                    <a:lnTo>
                      <a:pt x="1053" y="394"/>
                    </a:lnTo>
                    <a:lnTo>
                      <a:pt x="978" y="336"/>
                    </a:lnTo>
                    <a:lnTo>
                      <a:pt x="886" y="330"/>
                    </a:lnTo>
                    <a:lnTo>
                      <a:pt x="1014" y="284"/>
                    </a:lnTo>
                    <a:lnTo>
                      <a:pt x="1167" y="281"/>
                    </a:lnTo>
                    <a:lnTo>
                      <a:pt x="1093" y="233"/>
                    </a:lnTo>
                    <a:lnTo>
                      <a:pt x="1167" y="198"/>
                    </a:lnTo>
                    <a:lnTo>
                      <a:pt x="985" y="161"/>
                    </a:lnTo>
                    <a:lnTo>
                      <a:pt x="814" y="161"/>
                    </a:lnTo>
                    <a:lnTo>
                      <a:pt x="662" y="191"/>
                    </a:lnTo>
                    <a:lnTo>
                      <a:pt x="886" y="101"/>
                    </a:lnTo>
                    <a:lnTo>
                      <a:pt x="1110" y="41"/>
                    </a:lnTo>
                    <a:lnTo>
                      <a:pt x="1289" y="25"/>
                    </a:lnTo>
                    <a:lnTo>
                      <a:pt x="1547" y="25"/>
                    </a:lnTo>
                    <a:lnTo>
                      <a:pt x="1466" y="0"/>
                    </a:lnTo>
                    <a:lnTo>
                      <a:pt x="1185" y="0"/>
                    </a:lnTo>
                    <a:lnTo>
                      <a:pt x="103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656120" y="575352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134" h="334">
                    <a:moveTo>
                      <a:pt x="132" y="6"/>
                    </a:moveTo>
                    <a:lnTo>
                      <a:pt x="134" y="68"/>
                    </a:lnTo>
                    <a:lnTo>
                      <a:pt x="86" y="112"/>
                    </a:lnTo>
                    <a:lnTo>
                      <a:pt x="49" y="195"/>
                    </a:lnTo>
                    <a:lnTo>
                      <a:pt x="37" y="273"/>
                    </a:lnTo>
                    <a:lnTo>
                      <a:pt x="17" y="334"/>
                    </a:lnTo>
                    <a:lnTo>
                      <a:pt x="0" y="329"/>
                    </a:lnTo>
                    <a:lnTo>
                      <a:pt x="3" y="218"/>
                    </a:lnTo>
                    <a:lnTo>
                      <a:pt x="28" y="128"/>
                    </a:lnTo>
                    <a:lnTo>
                      <a:pt x="63" y="36"/>
                    </a:lnTo>
                    <a:lnTo>
                      <a:pt x="99" y="0"/>
                    </a:lnTo>
                    <a:lnTo>
                      <a:pt x="1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651080" y="5752440"/>
                <a:ext cx="44280" cy="135000"/>
              </a:xfrm>
              <a:custGeom>
                <a:avLst/>
                <a:gdLst/>
                <a:ahLst/>
                <a:rect l="l" t="t" r="r" b="b"/>
                <a:pathLst>
                  <a:path w="583" h="2024">
                    <a:moveTo>
                      <a:pt x="90" y="0"/>
                    </a:moveTo>
                    <a:lnTo>
                      <a:pt x="40" y="85"/>
                    </a:lnTo>
                    <a:lnTo>
                      <a:pt x="18" y="191"/>
                    </a:lnTo>
                    <a:lnTo>
                      <a:pt x="18" y="281"/>
                    </a:lnTo>
                    <a:lnTo>
                      <a:pt x="49" y="397"/>
                    </a:lnTo>
                    <a:lnTo>
                      <a:pt x="79" y="485"/>
                    </a:lnTo>
                    <a:lnTo>
                      <a:pt x="111" y="606"/>
                    </a:lnTo>
                    <a:lnTo>
                      <a:pt x="139" y="663"/>
                    </a:lnTo>
                    <a:lnTo>
                      <a:pt x="205" y="692"/>
                    </a:lnTo>
                    <a:lnTo>
                      <a:pt x="245" y="676"/>
                    </a:lnTo>
                    <a:lnTo>
                      <a:pt x="317" y="316"/>
                    </a:lnTo>
                    <a:lnTo>
                      <a:pt x="356" y="258"/>
                    </a:lnTo>
                    <a:lnTo>
                      <a:pt x="302" y="546"/>
                    </a:lnTo>
                    <a:lnTo>
                      <a:pt x="211" y="1001"/>
                    </a:lnTo>
                    <a:lnTo>
                      <a:pt x="211" y="1093"/>
                    </a:lnTo>
                    <a:lnTo>
                      <a:pt x="356" y="1549"/>
                    </a:lnTo>
                    <a:lnTo>
                      <a:pt x="583" y="1823"/>
                    </a:lnTo>
                    <a:lnTo>
                      <a:pt x="489" y="1793"/>
                    </a:lnTo>
                    <a:lnTo>
                      <a:pt x="317" y="1570"/>
                    </a:lnTo>
                    <a:lnTo>
                      <a:pt x="220" y="1390"/>
                    </a:lnTo>
                    <a:lnTo>
                      <a:pt x="293" y="1803"/>
                    </a:lnTo>
                    <a:lnTo>
                      <a:pt x="471" y="2024"/>
                    </a:lnTo>
                    <a:lnTo>
                      <a:pt x="245" y="1768"/>
                    </a:lnTo>
                    <a:lnTo>
                      <a:pt x="194" y="1616"/>
                    </a:lnTo>
                    <a:lnTo>
                      <a:pt x="172" y="1441"/>
                    </a:lnTo>
                    <a:lnTo>
                      <a:pt x="183" y="1282"/>
                    </a:lnTo>
                    <a:lnTo>
                      <a:pt x="159" y="1231"/>
                    </a:lnTo>
                    <a:lnTo>
                      <a:pt x="139" y="1129"/>
                    </a:lnTo>
                    <a:lnTo>
                      <a:pt x="161" y="1015"/>
                    </a:lnTo>
                    <a:lnTo>
                      <a:pt x="205" y="738"/>
                    </a:lnTo>
                    <a:lnTo>
                      <a:pt x="134" y="692"/>
                    </a:lnTo>
                    <a:lnTo>
                      <a:pt x="79" y="627"/>
                    </a:lnTo>
                    <a:lnTo>
                      <a:pt x="62" y="477"/>
                    </a:lnTo>
                    <a:lnTo>
                      <a:pt x="0" y="300"/>
                    </a:lnTo>
                    <a:lnTo>
                      <a:pt x="0" y="201"/>
                    </a:lnTo>
                    <a:lnTo>
                      <a:pt x="38" y="85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683480" y="5805360"/>
                <a:ext cx="126360" cy="99360"/>
              </a:xfrm>
              <a:custGeom>
                <a:avLst/>
                <a:gdLst/>
                <a:ahLst/>
                <a:rect l="l" t="t" r="r" b="b"/>
                <a:pathLst>
                  <a:path w="1657" h="1485">
                    <a:moveTo>
                      <a:pt x="272" y="727"/>
                    </a:moveTo>
                    <a:lnTo>
                      <a:pt x="244" y="745"/>
                    </a:lnTo>
                    <a:lnTo>
                      <a:pt x="351" y="844"/>
                    </a:lnTo>
                    <a:lnTo>
                      <a:pt x="300" y="929"/>
                    </a:lnTo>
                    <a:lnTo>
                      <a:pt x="198" y="1000"/>
                    </a:lnTo>
                    <a:lnTo>
                      <a:pt x="62" y="1000"/>
                    </a:lnTo>
                    <a:lnTo>
                      <a:pt x="129" y="1077"/>
                    </a:lnTo>
                    <a:lnTo>
                      <a:pt x="292" y="1192"/>
                    </a:lnTo>
                    <a:lnTo>
                      <a:pt x="156" y="1226"/>
                    </a:lnTo>
                    <a:lnTo>
                      <a:pt x="0" y="1171"/>
                    </a:lnTo>
                    <a:lnTo>
                      <a:pt x="132" y="1321"/>
                    </a:lnTo>
                    <a:lnTo>
                      <a:pt x="277" y="1485"/>
                    </a:lnTo>
                    <a:lnTo>
                      <a:pt x="438" y="1485"/>
                    </a:lnTo>
                    <a:lnTo>
                      <a:pt x="634" y="1402"/>
                    </a:lnTo>
                    <a:lnTo>
                      <a:pt x="767" y="1272"/>
                    </a:lnTo>
                    <a:lnTo>
                      <a:pt x="670" y="1303"/>
                    </a:lnTo>
                    <a:lnTo>
                      <a:pt x="560" y="1206"/>
                    </a:lnTo>
                    <a:lnTo>
                      <a:pt x="731" y="1182"/>
                    </a:lnTo>
                    <a:lnTo>
                      <a:pt x="892" y="1125"/>
                    </a:lnTo>
                    <a:lnTo>
                      <a:pt x="835" y="1226"/>
                    </a:lnTo>
                    <a:lnTo>
                      <a:pt x="996" y="1116"/>
                    </a:lnTo>
                    <a:lnTo>
                      <a:pt x="1028" y="1070"/>
                    </a:lnTo>
                    <a:lnTo>
                      <a:pt x="1162" y="975"/>
                    </a:lnTo>
                    <a:lnTo>
                      <a:pt x="1215" y="874"/>
                    </a:lnTo>
                    <a:lnTo>
                      <a:pt x="1637" y="134"/>
                    </a:lnTo>
                    <a:lnTo>
                      <a:pt x="1657" y="0"/>
                    </a:lnTo>
                    <a:lnTo>
                      <a:pt x="1162" y="922"/>
                    </a:lnTo>
                    <a:lnTo>
                      <a:pt x="1070" y="984"/>
                    </a:lnTo>
                    <a:lnTo>
                      <a:pt x="920" y="1019"/>
                    </a:lnTo>
                    <a:lnTo>
                      <a:pt x="846" y="1109"/>
                    </a:lnTo>
                    <a:lnTo>
                      <a:pt x="721" y="1141"/>
                    </a:lnTo>
                    <a:lnTo>
                      <a:pt x="634" y="1125"/>
                    </a:lnTo>
                    <a:lnTo>
                      <a:pt x="593" y="1077"/>
                    </a:lnTo>
                    <a:lnTo>
                      <a:pt x="560" y="975"/>
                    </a:lnTo>
                    <a:lnTo>
                      <a:pt x="549" y="890"/>
                    </a:lnTo>
                    <a:lnTo>
                      <a:pt x="650" y="855"/>
                    </a:lnTo>
                    <a:lnTo>
                      <a:pt x="634" y="835"/>
                    </a:lnTo>
                    <a:lnTo>
                      <a:pt x="525" y="844"/>
                    </a:lnTo>
                    <a:lnTo>
                      <a:pt x="394" y="800"/>
                    </a:lnTo>
                    <a:lnTo>
                      <a:pt x="303" y="745"/>
                    </a:lnTo>
                    <a:lnTo>
                      <a:pt x="272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684200" y="5836320"/>
                <a:ext cx="71280" cy="28800"/>
              </a:xfrm>
              <a:custGeom>
                <a:avLst/>
                <a:gdLst/>
                <a:ahLst/>
                <a:rect l="l" t="t" r="r" b="b"/>
                <a:pathLst>
                  <a:path w="934" h="431">
                    <a:moveTo>
                      <a:pt x="152" y="83"/>
                    </a:moveTo>
                    <a:lnTo>
                      <a:pt x="152" y="0"/>
                    </a:lnTo>
                    <a:lnTo>
                      <a:pt x="77" y="0"/>
                    </a:lnTo>
                    <a:lnTo>
                      <a:pt x="0" y="64"/>
                    </a:lnTo>
                    <a:lnTo>
                      <a:pt x="33" y="219"/>
                    </a:lnTo>
                    <a:lnTo>
                      <a:pt x="152" y="114"/>
                    </a:lnTo>
                    <a:lnTo>
                      <a:pt x="418" y="205"/>
                    </a:lnTo>
                    <a:lnTo>
                      <a:pt x="485" y="259"/>
                    </a:lnTo>
                    <a:lnTo>
                      <a:pt x="611" y="259"/>
                    </a:lnTo>
                    <a:lnTo>
                      <a:pt x="844" y="316"/>
                    </a:lnTo>
                    <a:lnTo>
                      <a:pt x="842" y="387"/>
                    </a:lnTo>
                    <a:lnTo>
                      <a:pt x="888" y="431"/>
                    </a:lnTo>
                    <a:lnTo>
                      <a:pt x="934" y="367"/>
                    </a:lnTo>
                    <a:lnTo>
                      <a:pt x="881" y="254"/>
                    </a:lnTo>
                    <a:lnTo>
                      <a:pt x="844" y="265"/>
                    </a:lnTo>
                    <a:lnTo>
                      <a:pt x="620" y="219"/>
                    </a:lnTo>
                    <a:lnTo>
                      <a:pt x="521" y="228"/>
                    </a:lnTo>
                    <a:lnTo>
                      <a:pt x="482" y="171"/>
                    </a:lnTo>
                    <a:lnTo>
                      <a:pt x="194" y="99"/>
                    </a:lnTo>
                    <a:lnTo>
                      <a:pt x="152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712280" y="5817600"/>
                <a:ext cx="36000" cy="31320"/>
              </a:xfrm>
              <a:custGeom>
                <a:avLst/>
                <a:gdLst/>
                <a:ahLst/>
                <a:rect l="l" t="t" r="r" b="b"/>
                <a:pathLst>
                  <a:path w="472" h="465">
                    <a:moveTo>
                      <a:pt x="28" y="113"/>
                    </a:moveTo>
                    <a:lnTo>
                      <a:pt x="64" y="96"/>
                    </a:lnTo>
                    <a:lnTo>
                      <a:pt x="154" y="195"/>
                    </a:lnTo>
                    <a:lnTo>
                      <a:pt x="248" y="206"/>
                    </a:lnTo>
                    <a:lnTo>
                      <a:pt x="302" y="159"/>
                    </a:lnTo>
                    <a:lnTo>
                      <a:pt x="309" y="0"/>
                    </a:lnTo>
                    <a:lnTo>
                      <a:pt x="345" y="168"/>
                    </a:lnTo>
                    <a:lnTo>
                      <a:pt x="391" y="242"/>
                    </a:lnTo>
                    <a:lnTo>
                      <a:pt x="472" y="242"/>
                    </a:lnTo>
                    <a:lnTo>
                      <a:pt x="470" y="263"/>
                    </a:lnTo>
                    <a:lnTo>
                      <a:pt x="345" y="270"/>
                    </a:lnTo>
                    <a:lnTo>
                      <a:pt x="224" y="292"/>
                    </a:lnTo>
                    <a:lnTo>
                      <a:pt x="217" y="410"/>
                    </a:lnTo>
                    <a:lnTo>
                      <a:pt x="154" y="401"/>
                    </a:lnTo>
                    <a:lnTo>
                      <a:pt x="149" y="465"/>
                    </a:lnTo>
                    <a:lnTo>
                      <a:pt x="110" y="391"/>
                    </a:lnTo>
                    <a:lnTo>
                      <a:pt x="173" y="270"/>
                    </a:lnTo>
                    <a:lnTo>
                      <a:pt x="92" y="175"/>
                    </a:lnTo>
                    <a:lnTo>
                      <a:pt x="11" y="175"/>
                    </a:lnTo>
                    <a:lnTo>
                      <a:pt x="0" y="145"/>
                    </a:lnTo>
                    <a:lnTo>
                      <a:pt x="2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736040" y="5788440"/>
                <a:ext cx="70200" cy="42480"/>
              </a:xfrm>
              <a:custGeom>
                <a:avLst/>
                <a:gdLst/>
                <a:ahLst/>
                <a:rect l="l" t="t" r="r" b="b"/>
                <a:pathLst>
                  <a:path w="924" h="640">
                    <a:moveTo>
                      <a:pt x="36" y="71"/>
                    </a:moveTo>
                    <a:lnTo>
                      <a:pt x="92" y="92"/>
                    </a:lnTo>
                    <a:lnTo>
                      <a:pt x="75" y="177"/>
                    </a:lnTo>
                    <a:lnTo>
                      <a:pt x="29" y="334"/>
                    </a:lnTo>
                    <a:lnTo>
                      <a:pt x="0" y="517"/>
                    </a:lnTo>
                    <a:lnTo>
                      <a:pt x="25" y="613"/>
                    </a:lnTo>
                    <a:lnTo>
                      <a:pt x="42" y="431"/>
                    </a:lnTo>
                    <a:lnTo>
                      <a:pt x="92" y="304"/>
                    </a:lnTo>
                    <a:lnTo>
                      <a:pt x="132" y="517"/>
                    </a:lnTo>
                    <a:lnTo>
                      <a:pt x="128" y="594"/>
                    </a:lnTo>
                    <a:lnTo>
                      <a:pt x="178" y="535"/>
                    </a:lnTo>
                    <a:lnTo>
                      <a:pt x="477" y="640"/>
                    </a:lnTo>
                    <a:lnTo>
                      <a:pt x="601" y="620"/>
                    </a:lnTo>
                    <a:lnTo>
                      <a:pt x="694" y="565"/>
                    </a:lnTo>
                    <a:lnTo>
                      <a:pt x="756" y="480"/>
                    </a:lnTo>
                    <a:lnTo>
                      <a:pt x="811" y="408"/>
                    </a:lnTo>
                    <a:lnTo>
                      <a:pt x="680" y="565"/>
                    </a:lnTo>
                    <a:lnTo>
                      <a:pt x="601" y="594"/>
                    </a:lnTo>
                    <a:lnTo>
                      <a:pt x="500" y="604"/>
                    </a:lnTo>
                    <a:lnTo>
                      <a:pt x="424" y="594"/>
                    </a:lnTo>
                    <a:lnTo>
                      <a:pt x="334" y="558"/>
                    </a:lnTo>
                    <a:lnTo>
                      <a:pt x="246" y="466"/>
                    </a:lnTo>
                    <a:lnTo>
                      <a:pt x="253" y="359"/>
                    </a:lnTo>
                    <a:lnTo>
                      <a:pt x="394" y="480"/>
                    </a:lnTo>
                    <a:lnTo>
                      <a:pt x="420" y="414"/>
                    </a:lnTo>
                    <a:lnTo>
                      <a:pt x="299" y="238"/>
                    </a:lnTo>
                    <a:lnTo>
                      <a:pt x="299" y="141"/>
                    </a:lnTo>
                    <a:lnTo>
                      <a:pt x="429" y="133"/>
                    </a:lnTo>
                    <a:lnTo>
                      <a:pt x="477" y="157"/>
                    </a:lnTo>
                    <a:lnTo>
                      <a:pt x="429" y="258"/>
                    </a:lnTo>
                    <a:lnTo>
                      <a:pt x="530" y="293"/>
                    </a:lnTo>
                    <a:lnTo>
                      <a:pt x="659" y="293"/>
                    </a:lnTo>
                    <a:lnTo>
                      <a:pt x="671" y="271"/>
                    </a:lnTo>
                    <a:lnTo>
                      <a:pt x="552" y="141"/>
                    </a:lnTo>
                    <a:lnTo>
                      <a:pt x="694" y="166"/>
                    </a:lnTo>
                    <a:lnTo>
                      <a:pt x="842" y="238"/>
                    </a:lnTo>
                    <a:lnTo>
                      <a:pt x="827" y="348"/>
                    </a:lnTo>
                    <a:lnTo>
                      <a:pt x="866" y="286"/>
                    </a:lnTo>
                    <a:lnTo>
                      <a:pt x="912" y="274"/>
                    </a:lnTo>
                    <a:lnTo>
                      <a:pt x="924" y="223"/>
                    </a:lnTo>
                    <a:lnTo>
                      <a:pt x="650" y="104"/>
                    </a:lnTo>
                    <a:lnTo>
                      <a:pt x="585" y="36"/>
                    </a:lnTo>
                    <a:lnTo>
                      <a:pt x="369" y="0"/>
                    </a:lnTo>
                    <a:lnTo>
                      <a:pt x="223" y="5"/>
                    </a:lnTo>
                    <a:lnTo>
                      <a:pt x="189" y="58"/>
                    </a:lnTo>
                    <a:lnTo>
                      <a:pt x="46" y="11"/>
                    </a:lnTo>
                    <a:lnTo>
                      <a:pt x="36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761960" y="5796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4" h="90">
                    <a:moveTo>
                      <a:pt x="0" y="0"/>
                    </a:moveTo>
                    <a:lnTo>
                      <a:pt x="18" y="90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682760" y="5766480"/>
                <a:ext cx="58320" cy="21600"/>
              </a:xfrm>
              <a:custGeom>
                <a:avLst/>
                <a:gdLst/>
                <a:ahLst/>
                <a:rect l="l" t="t" r="r" b="b"/>
                <a:pathLst>
                  <a:path w="774" h="328">
                    <a:moveTo>
                      <a:pt x="759" y="328"/>
                    </a:moveTo>
                    <a:lnTo>
                      <a:pt x="774" y="293"/>
                    </a:lnTo>
                    <a:lnTo>
                      <a:pt x="678" y="185"/>
                    </a:lnTo>
                    <a:lnTo>
                      <a:pt x="443" y="46"/>
                    </a:lnTo>
                    <a:lnTo>
                      <a:pt x="270" y="64"/>
                    </a:lnTo>
                    <a:lnTo>
                      <a:pt x="173" y="23"/>
                    </a:lnTo>
                    <a:lnTo>
                      <a:pt x="18" y="0"/>
                    </a:lnTo>
                    <a:lnTo>
                      <a:pt x="0" y="23"/>
                    </a:lnTo>
                    <a:lnTo>
                      <a:pt x="51" y="64"/>
                    </a:lnTo>
                    <a:lnTo>
                      <a:pt x="245" y="104"/>
                    </a:lnTo>
                    <a:lnTo>
                      <a:pt x="337" y="127"/>
                    </a:lnTo>
                    <a:lnTo>
                      <a:pt x="452" y="134"/>
                    </a:lnTo>
                    <a:lnTo>
                      <a:pt x="607" y="219"/>
                    </a:lnTo>
                    <a:lnTo>
                      <a:pt x="706" y="300"/>
                    </a:lnTo>
                    <a:lnTo>
                      <a:pt x="735" y="328"/>
                    </a:lnTo>
                    <a:lnTo>
                      <a:pt x="759" y="3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679880" y="5769720"/>
                <a:ext cx="61560" cy="43560"/>
              </a:xfrm>
              <a:custGeom>
                <a:avLst/>
                <a:gdLst/>
                <a:ahLst/>
                <a:rect l="l" t="t" r="r" b="b"/>
                <a:pathLst>
                  <a:path w="807" h="655">
                    <a:moveTo>
                      <a:pt x="132" y="32"/>
                    </a:moveTo>
                    <a:lnTo>
                      <a:pt x="88" y="93"/>
                    </a:lnTo>
                    <a:lnTo>
                      <a:pt x="51" y="227"/>
                    </a:lnTo>
                    <a:lnTo>
                      <a:pt x="37" y="359"/>
                    </a:lnTo>
                    <a:lnTo>
                      <a:pt x="77" y="466"/>
                    </a:lnTo>
                    <a:lnTo>
                      <a:pt x="132" y="535"/>
                    </a:lnTo>
                    <a:lnTo>
                      <a:pt x="249" y="595"/>
                    </a:lnTo>
                    <a:lnTo>
                      <a:pt x="383" y="634"/>
                    </a:lnTo>
                    <a:lnTo>
                      <a:pt x="501" y="625"/>
                    </a:lnTo>
                    <a:lnTo>
                      <a:pt x="581" y="595"/>
                    </a:lnTo>
                    <a:lnTo>
                      <a:pt x="651" y="551"/>
                    </a:lnTo>
                    <a:lnTo>
                      <a:pt x="708" y="480"/>
                    </a:lnTo>
                    <a:lnTo>
                      <a:pt x="761" y="392"/>
                    </a:lnTo>
                    <a:lnTo>
                      <a:pt x="409" y="480"/>
                    </a:lnTo>
                    <a:lnTo>
                      <a:pt x="480" y="381"/>
                    </a:lnTo>
                    <a:lnTo>
                      <a:pt x="576" y="359"/>
                    </a:lnTo>
                    <a:lnTo>
                      <a:pt x="736" y="359"/>
                    </a:lnTo>
                    <a:lnTo>
                      <a:pt x="807" y="288"/>
                    </a:lnTo>
                    <a:lnTo>
                      <a:pt x="807" y="359"/>
                    </a:lnTo>
                    <a:lnTo>
                      <a:pt x="708" y="530"/>
                    </a:lnTo>
                    <a:lnTo>
                      <a:pt x="611" y="611"/>
                    </a:lnTo>
                    <a:lnTo>
                      <a:pt x="491" y="636"/>
                    </a:lnTo>
                    <a:lnTo>
                      <a:pt x="383" y="655"/>
                    </a:lnTo>
                    <a:lnTo>
                      <a:pt x="222" y="611"/>
                    </a:lnTo>
                    <a:lnTo>
                      <a:pt x="88" y="530"/>
                    </a:lnTo>
                    <a:lnTo>
                      <a:pt x="26" y="434"/>
                    </a:lnTo>
                    <a:lnTo>
                      <a:pt x="0" y="282"/>
                    </a:lnTo>
                    <a:lnTo>
                      <a:pt x="26" y="117"/>
                    </a:lnTo>
                    <a:lnTo>
                      <a:pt x="95" y="0"/>
                    </a:lnTo>
                    <a:lnTo>
                      <a:pt x="132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700760" y="577800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412" h="189">
                    <a:moveTo>
                      <a:pt x="15" y="110"/>
                    </a:moveTo>
                    <a:lnTo>
                      <a:pt x="0" y="50"/>
                    </a:lnTo>
                    <a:lnTo>
                      <a:pt x="34" y="0"/>
                    </a:lnTo>
                    <a:lnTo>
                      <a:pt x="207" y="0"/>
                    </a:lnTo>
                    <a:lnTo>
                      <a:pt x="393" y="99"/>
                    </a:lnTo>
                    <a:lnTo>
                      <a:pt x="412" y="160"/>
                    </a:lnTo>
                    <a:lnTo>
                      <a:pt x="378" y="189"/>
                    </a:lnTo>
                    <a:lnTo>
                      <a:pt x="165" y="185"/>
                    </a:lnTo>
                    <a:lnTo>
                      <a:pt x="200" y="154"/>
                    </a:lnTo>
                    <a:lnTo>
                      <a:pt x="154" y="119"/>
                    </a:lnTo>
                    <a:lnTo>
                      <a:pt x="165" y="84"/>
                    </a:lnTo>
                    <a:lnTo>
                      <a:pt x="200" y="84"/>
                    </a:lnTo>
                    <a:lnTo>
                      <a:pt x="165" y="50"/>
                    </a:lnTo>
                    <a:lnTo>
                      <a:pt x="55" y="68"/>
                    </a:lnTo>
                    <a:lnTo>
                      <a:pt x="15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793640" y="580320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374" h="514">
                    <a:moveTo>
                      <a:pt x="0" y="492"/>
                    </a:moveTo>
                    <a:lnTo>
                      <a:pt x="64" y="514"/>
                    </a:lnTo>
                    <a:lnTo>
                      <a:pt x="136" y="485"/>
                    </a:lnTo>
                    <a:lnTo>
                      <a:pt x="231" y="371"/>
                    </a:lnTo>
                    <a:lnTo>
                      <a:pt x="297" y="243"/>
                    </a:lnTo>
                    <a:lnTo>
                      <a:pt x="369" y="95"/>
                    </a:lnTo>
                    <a:lnTo>
                      <a:pt x="374" y="12"/>
                    </a:lnTo>
                    <a:lnTo>
                      <a:pt x="359" y="0"/>
                    </a:lnTo>
                    <a:lnTo>
                      <a:pt x="334" y="100"/>
                    </a:lnTo>
                    <a:lnTo>
                      <a:pt x="255" y="277"/>
                    </a:lnTo>
                    <a:lnTo>
                      <a:pt x="168" y="426"/>
                    </a:lnTo>
                    <a:lnTo>
                      <a:pt x="110" y="452"/>
                    </a:lnTo>
                    <a:lnTo>
                      <a:pt x="64" y="381"/>
                    </a:lnTo>
                    <a:lnTo>
                      <a:pt x="0" y="452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806960" y="5807520"/>
                <a:ext cx="6480" cy="15480"/>
              </a:xfrm>
              <a:custGeom>
                <a:avLst/>
                <a:gdLst/>
                <a:ahLst/>
                <a:rect l="l" t="t" r="r" b="b"/>
                <a:pathLst>
                  <a:path w="85" h="233">
                    <a:moveTo>
                      <a:pt x="0" y="134"/>
                    </a:moveTo>
                    <a:lnTo>
                      <a:pt x="14" y="233"/>
                    </a:lnTo>
                    <a:lnTo>
                      <a:pt x="85" y="122"/>
                    </a:lnTo>
                    <a:lnTo>
                      <a:pt x="82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678080" y="5760360"/>
                <a:ext cx="7200" cy="20520"/>
              </a:xfrm>
              <a:custGeom>
                <a:avLst/>
                <a:gdLst/>
                <a:ahLst/>
                <a:rect l="l" t="t" r="r" b="b"/>
                <a:pathLst>
                  <a:path w="103" h="311">
                    <a:moveTo>
                      <a:pt x="103" y="180"/>
                    </a:moveTo>
                    <a:lnTo>
                      <a:pt x="33" y="0"/>
                    </a:lnTo>
                    <a:lnTo>
                      <a:pt x="0" y="57"/>
                    </a:lnTo>
                    <a:lnTo>
                      <a:pt x="52" y="311"/>
                    </a:lnTo>
                    <a:lnTo>
                      <a:pt x="103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799040" y="580320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31" h="149">
                    <a:moveTo>
                      <a:pt x="51" y="51"/>
                    </a:moveTo>
                    <a:lnTo>
                      <a:pt x="231" y="0"/>
                    </a:lnTo>
                    <a:lnTo>
                      <a:pt x="222" y="35"/>
                    </a:lnTo>
                    <a:lnTo>
                      <a:pt x="0" y="149"/>
                    </a:lnTo>
                    <a:lnTo>
                      <a:pt x="51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747560" y="5829480"/>
                <a:ext cx="12240" cy="25920"/>
              </a:xfrm>
              <a:custGeom>
                <a:avLst/>
                <a:gdLst/>
                <a:ahLst/>
                <a:rect l="l" t="t" r="r" b="b"/>
                <a:pathLst>
                  <a:path w="161" h="392">
                    <a:moveTo>
                      <a:pt x="0" y="76"/>
                    </a:moveTo>
                    <a:lnTo>
                      <a:pt x="13" y="0"/>
                    </a:lnTo>
                    <a:lnTo>
                      <a:pt x="161" y="216"/>
                    </a:lnTo>
                    <a:lnTo>
                      <a:pt x="117" y="392"/>
                    </a:lnTo>
                    <a:lnTo>
                      <a:pt x="57" y="277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684560" y="5819400"/>
                <a:ext cx="28440" cy="16920"/>
              </a:xfrm>
              <a:custGeom>
                <a:avLst/>
                <a:gdLst/>
                <a:ahLst/>
                <a:rect l="l" t="t" r="r" b="b"/>
                <a:pathLst>
                  <a:path w="376" h="258">
                    <a:moveTo>
                      <a:pt x="376" y="0"/>
                    </a:moveTo>
                    <a:lnTo>
                      <a:pt x="257" y="159"/>
                    </a:lnTo>
                    <a:lnTo>
                      <a:pt x="83" y="207"/>
                    </a:lnTo>
                    <a:lnTo>
                      <a:pt x="0" y="258"/>
                    </a:lnTo>
                    <a:lnTo>
                      <a:pt x="145" y="85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480080" y="5829480"/>
                <a:ext cx="177120" cy="106200"/>
              </a:xfrm>
              <a:custGeom>
                <a:avLst/>
                <a:gdLst/>
                <a:ahLst/>
                <a:rect l="l" t="t" r="r" b="b"/>
                <a:pathLst>
                  <a:path w="2322" h="1591">
                    <a:moveTo>
                      <a:pt x="337" y="1464"/>
                    </a:moveTo>
                    <a:lnTo>
                      <a:pt x="92" y="1187"/>
                    </a:lnTo>
                    <a:lnTo>
                      <a:pt x="16" y="929"/>
                    </a:lnTo>
                    <a:lnTo>
                      <a:pt x="0" y="784"/>
                    </a:lnTo>
                    <a:lnTo>
                      <a:pt x="142" y="613"/>
                    </a:lnTo>
                    <a:lnTo>
                      <a:pt x="491" y="447"/>
                    </a:lnTo>
                    <a:lnTo>
                      <a:pt x="1063" y="251"/>
                    </a:lnTo>
                    <a:lnTo>
                      <a:pt x="1584" y="157"/>
                    </a:lnTo>
                    <a:lnTo>
                      <a:pt x="2021" y="117"/>
                    </a:lnTo>
                    <a:lnTo>
                      <a:pt x="2322" y="0"/>
                    </a:lnTo>
                    <a:lnTo>
                      <a:pt x="2166" y="117"/>
                    </a:lnTo>
                    <a:lnTo>
                      <a:pt x="2036" y="297"/>
                    </a:lnTo>
                    <a:lnTo>
                      <a:pt x="1975" y="583"/>
                    </a:lnTo>
                    <a:lnTo>
                      <a:pt x="1959" y="807"/>
                    </a:lnTo>
                    <a:lnTo>
                      <a:pt x="1959" y="1099"/>
                    </a:lnTo>
                    <a:lnTo>
                      <a:pt x="1944" y="1307"/>
                    </a:lnTo>
                    <a:lnTo>
                      <a:pt x="1849" y="1591"/>
                    </a:lnTo>
                    <a:lnTo>
                      <a:pt x="1819" y="1561"/>
                    </a:lnTo>
                    <a:lnTo>
                      <a:pt x="1898" y="1337"/>
                    </a:lnTo>
                    <a:lnTo>
                      <a:pt x="1929" y="1136"/>
                    </a:lnTo>
                    <a:lnTo>
                      <a:pt x="1929" y="807"/>
                    </a:lnTo>
                    <a:lnTo>
                      <a:pt x="1944" y="508"/>
                    </a:lnTo>
                    <a:lnTo>
                      <a:pt x="1863" y="383"/>
                    </a:lnTo>
                    <a:lnTo>
                      <a:pt x="1692" y="297"/>
                    </a:lnTo>
                    <a:lnTo>
                      <a:pt x="1439" y="251"/>
                    </a:lnTo>
                    <a:lnTo>
                      <a:pt x="1263" y="238"/>
                    </a:lnTo>
                    <a:lnTo>
                      <a:pt x="1074" y="266"/>
                    </a:lnTo>
                    <a:lnTo>
                      <a:pt x="474" y="457"/>
                    </a:lnTo>
                    <a:lnTo>
                      <a:pt x="127" y="688"/>
                    </a:lnTo>
                    <a:lnTo>
                      <a:pt x="81" y="869"/>
                    </a:lnTo>
                    <a:lnTo>
                      <a:pt x="81" y="1040"/>
                    </a:lnTo>
                    <a:lnTo>
                      <a:pt x="142" y="1211"/>
                    </a:lnTo>
                    <a:lnTo>
                      <a:pt x="337" y="1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470000" y="5898240"/>
                <a:ext cx="214920" cy="275400"/>
              </a:xfrm>
              <a:custGeom>
                <a:avLst/>
                <a:gdLst/>
                <a:ahLst/>
                <a:rect l="l" t="t" r="r" b="b"/>
                <a:pathLst>
                  <a:path w="2817" h="4129">
                    <a:moveTo>
                      <a:pt x="61" y="0"/>
                    </a:moveTo>
                    <a:lnTo>
                      <a:pt x="79" y="122"/>
                    </a:lnTo>
                    <a:lnTo>
                      <a:pt x="156" y="299"/>
                    </a:lnTo>
                    <a:lnTo>
                      <a:pt x="285" y="470"/>
                    </a:lnTo>
                    <a:lnTo>
                      <a:pt x="470" y="662"/>
                    </a:lnTo>
                    <a:lnTo>
                      <a:pt x="802" y="910"/>
                    </a:lnTo>
                    <a:lnTo>
                      <a:pt x="1350" y="1369"/>
                    </a:lnTo>
                    <a:lnTo>
                      <a:pt x="1138" y="829"/>
                    </a:lnTo>
                    <a:lnTo>
                      <a:pt x="1454" y="1305"/>
                    </a:lnTo>
                    <a:lnTo>
                      <a:pt x="1677" y="1664"/>
                    </a:lnTo>
                    <a:lnTo>
                      <a:pt x="1868" y="1950"/>
                    </a:lnTo>
                    <a:lnTo>
                      <a:pt x="2037" y="2215"/>
                    </a:lnTo>
                    <a:lnTo>
                      <a:pt x="2180" y="2361"/>
                    </a:lnTo>
                    <a:lnTo>
                      <a:pt x="2475" y="2672"/>
                    </a:lnTo>
                    <a:lnTo>
                      <a:pt x="2242" y="2056"/>
                    </a:lnTo>
                    <a:lnTo>
                      <a:pt x="2009" y="1492"/>
                    </a:lnTo>
                    <a:lnTo>
                      <a:pt x="1772" y="959"/>
                    </a:lnTo>
                    <a:lnTo>
                      <a:pt x="1624" y="583"/>
                    </a:lnTo>
                    <a:lnTo>
                      <a:pt x="1595" y="470"/>
                    </a:lnTo>
                    <a:lnTo>
                      <a:pt x="1646" y="427"/>
                    </a:lnTo>
                    <a:lnTo>
                      <a:pt x="1989" y="535"/>
                    </a:lnTo>
                    <a:lnTo>
                      <a:pt x="2307" y="726"/>
                    </a:lnTo>
                    <a:lnTo>
                      <a:pt x="2463" y="851"/>
                    </a:lnTo>
                    <a:lnTo>
                      <a:pt x="2162" y="669"/>
                    </a:lnTo>
                    <a:lnTo>
                      <a:pt x="1835" y="548"/>
                    </a:lnTo>
                    <a:lnTo>
                      <a:pt x="1657" y="486"/>
                    </a:lnTo>
                    <a:lnTo>
                      <a:pt x="2009" y="1291"/>
                    </a:lnTo>
                    <a:lnTo>
                      <a:pt x="2364" y="2150"/>
                    </a:lnTo>
                    <a:lnTo>
                      <a:pt x="2635" y="2879"/>
                    </a:lnTo>
                    <a:lnTo>
                      <a:pt x="2817" y="3350"/>
                    </a:lnTo>
                    <a:lnTo>
                      <a:pt x="2560" y="3350"/>
                    </a:lnTo>
                    <a:lnTo>
                      <a:pt x="2261" y="3534"/>
                    </a:lnTo>
                    <a:lnTo>
                      <a:pt x="2055" y="3758"/>
                    </a:lnTo>
                    <a:lnTo>
                      <a:pt x="1989" y="3930"/>
                    </a:lnTo>
                    <a:lnTo>
                      <a:pt x="1945" y="4129"/>
                    </a:lnTo>
                    <a:lnTo>
                      <a:pt x="1945" y="3899"/>
                    </a:lnTo>
                    <a:lnTo>
                      <a:pt x="2009" y="3695"/>
                    </a:lnTo>
                    <a:lnTo>
                      <a:pt x="2147" y="3559"/>
                    </a:lnTo>
                    <a:lnTo>
                      <a:pt x="2429" y="3332"/>
                    </a:lnTo>
                    <a:lnTo>
                      <a:pt x="2136" y="3255"/>
                    </a:lnTo>
                    <a:lnTo>
                      <a:pt x="2085" y="3317"/>
                    </a:lnTo>
                    <a:lnTo>
                      <a:pt x="2009" y="3271"/>
                    </a:lnTo>
                    <a:lnTo>
                      <a:pt x="1989" y="3064"/>
                    </a:lnTo>
                    <a:lnTo>
                      <a:pt x="1835" y="3015"/>
                    </a:lnTo>
                    <a:lnTo>
                      <a:pt x="1200" y="3368"/>
                    </a:lnTo>
                    <a:lnTo>
                      <a:pt x="1138" y="3633"/>
                    </a:lnTo>
                    <a:lnTo>
                      <a:pt x="1565" y="3396"/>
                    </a:lnTo>
                    <a:lnTo>
                      <a:pt x="1090" y="3695"/>
                    </a:lnTo>
                    <a:lnTo>
                      <a:pt x="912" y="3899"/>
                    </a:lnTo>
                    <a:lnTo>
                      <a:pt x="1009" y="3984"/>
                    </a:lnTo>
                    <a:lnTo>
                      <a:pt x="1406" y="3608"/>
                    </a:lnTo>
                    <a:lnTo>
                      <a:pt x="1360" y="3804"/>
                    </a:lnTo>
                    <a:lnTo>
                      <a:pt x="1565" y="4071"/>
                    </a:lnTo>
                    <a:lnTo>
                      <a:pt x="936" y="4044"/>
                    </a:lnTo>
                    <a:lnTo>
                      <a:pt x="741" y="3949"/>
                    </a:lnTo>
                    <a:lnTo>
                      <a:pt x="600" y="3984"/>
                    </a:lnTo>
                    <a:lnTo>
                      <a:pt x="218" y="3758"/>
                    </a:lnTo>
                    <a:lnTo>
                      <a:pt x="33" y="3462"/>
                    </a:lnTo>
                    <a:lnTo>
                      <a:pt x="0" y="3130"/>
                    </a:lnTo>
                    <a:lnTo>
                      <a:pt x="79" y="3176"/>
                    </a:lnTo>
                    <a:lnTo>
                      <a:pt x="268" y="2965"/>
                    </a:lnTo>
                    <a:lnTo>
                      <a:pt x="448" y="2923"/>
                    </a:lnTo>
                    <a:lnTo>
                      <a:pt x="378" y="3086"/>
                    </a:lnTo>
                    <a:lnTo>
                      <a:pt x="378" y="3281"/>
                    </a:lnTo>
                    <a:lnTo>
                      <a:pt x="901" y="3050"/>
                    </a:lnTo>
                    <a:lnTo>
                      <a:pt x="1026" y="3064"/>
                    </a:lnTo>
                    <a:lnTo>
                      <a:pt x="681" y="3306"/>
                    </a:lnTo>
                    <a:lnTo>
                      <a:pt x="681" y="3462"/>
                    </a:lnTo>
                    <a:lnTo>
                      <a:pt x="1189" y="3189"/>
                    </a:lnTo>
                    <a:lnTo>
                      <a:pt x="1360" y="3189"/>
                    </a:lnTo>
                    <a:lnTo>
                      <a:pt x="1578" y="3064"/>
                    </a:lnTo>
                    <a:lnTo>
                      <a:pt x="1486" y="2907"/>
                    </a:lnTo>
                    <a:lnTo>
                      <a:pt x="1263" y="2767"/>
                    </a:lnTo>
                    <a:lnTo>
                      <a:pt x="1026" y="2688"/>
                    </a:lnTo>
                    <a:lnTo>
                      <a:pt x="802" y="2672"/>
                    </a:lnTo>
                    <a:lnTo>
                      <a:pt x="912" y="2612"/>
                    </a:lnTo>
                    <a:lnTo>
                      <a:pt x="741" y="2563"/>
                    </a:lnTo>
                    <a:lnTo>
                      <a:pt x="518" y="2612"/>
                    </a:lnTo>
                    <a:lnTo>
                      <a:pt x="331" y="2688"/>
                    </a:lnTo>
                    <a:lnTo>
                      <a:pt x="79" y="2855"/>
                    </a:lnTo>
                    <a:lnTo>
                      <a:pt x="393" y="2626"/>
                    </a:lnTo>
                    <a:lnTo>
                      <a:pt x="710" y="2517"/>
                    </a:lnTo>
                    <a:lnTo>
                      <a:pt x="947" y="2481"/>
                    </a:lnTo>
                    <a:lnTo>
                      <a:pt x="1122" y="2481"/>
                    </a:lnTo>
                    <a:lnTo>
                      <a:pt x="1360" y="2330"/>
                    </a:lnTo>
                    <a:lnTo>
                      <a:pt x="1350" y="2215"/>
                    </a:lnTo>
                    <a:lnTo>
                      <a:pt x="539" y="2422"/>
                    </a:lnTo>
                    <a:lnTo>
                      <a:pt x="993" y="2169"/>
                    </a:lnTo>
                    <a:lnTo>
                      <a:pt x="1215" y="2169"/>
                    </a:lnTo>
                    <a:lnTo>
                      <a:pt x="1251" y="2119"/>
                    </a:lnTo>
                    <a:lnTo>
                      <a:pt x="1286" y="1980"/>
                    </a:lnTo>
                    <a:lnTo>
                      <a:pt x="1251" y="1747"/>
                    </a:lnTo>
                    <a:lnTo>
                      <a:pt x="1138" y="1556"/>
                    </a:lnTo>
                    <a:lnTo>
                      <a:pt x="963" y="1337"/>
                    </a:lnTo>
                    <a:lnTo>
                      <a:pt x="730" y="1088"/>
                    </a:lnTo>
                    <a:lnTo>
                      <a:pt x="507" y="882"/>
                    </a:lnTo>
                    <a:lnTo>
                      <a:pt x="378" y="741"/>
                    </a:lnTo>
                    <a:lnTo>
                      <a:pt x="378" y="882"/>
                    </a:lnTo>
                    <a:lnTo>
                      <a:pt x="463" y="1042"/>
                    </a:lnTo>
                    <a:lnTo>
                      <a:pt x="741" y="1358"/>
                    </a:lnTo>
                    <a:lnTo>
                      <a:pt x="463" y="1165"/>
                    </a:lnTo>
                    <a:lnTo>
                      <a:pt x="207" y="1042"/>
                    </a:lnTo>
                    <a:lnTo>
                      <a:pt x="156" y="1007"/>
                    </a:lnTo>
                    <a:lnTo>
                      <a:pt x="79" y="1270"/>
                    </a:lnTo>
                    <a:lnTo>
                      <a:pt x="94" y="814"/>
                    </a:lnTo>
                    <a:lnTo>
                      <a:pt x="110" y="438"/>
                    </a:lnTo>
                    <a:lnTo>
                      <a:pt x="50" y="12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465680" y="5984280"/>
                <a:ext cx="67680" cy="105480"/>
              </a:xfrm>
              <a:custGeom>
                <a:avLst/>
                <a:gdLst/>
                <a:ahLst/>
                <a:rect l="l" t="t" r="r" b="b"/>
                <a:pathLst>
                  <a:path w="884" h="1588">
                    <a:moveTo>
                      <a:pt x="42" y="0"/>
                    </a:moveTo>
                    <a:lnTo>
                      <a:pt x="10" y="105"/>
                    </a:lnTo>
                    <a:lnTo>
                      <a:pt x="10" y="215"/>
                    </a:lnTo>
                    <a:lnTo>
                      <a:pt x="107" y="360"/>
                    </a:lnTo>
                    <a:lnTo>
                      <a:pt x="342" y="498"/>
                    </a:lnTo>
                    <a:lnTo>
                      <a:pt x="884" y="671"/>
                    </a:lnTo>
                    <a:lnTo>
                      <a:pt x="642" y="828"/>
                    </a:lnTo>
                    <a:lnTo>
                      <a:pt x="423" y="1019"/>
                    </a:lnTo>
                    <a:lnTo>
                      <a:pt x="167" y="1272"/>
                    </a:lnTo>
                    <a:lnTo>
                      <a:pt x="42" y="1588"/>
                    </a:lnTo>
                    <a:lnTo>
                      <a:pt x="136" y="1247"/>
                    </a:lnTo>
                    <a:lnTo>
                      <a:pt x="167" y="945"/>
                    </a:lnTo>
                    <a:lnTo>
                      <a:pt x="183" y="1190"/>
                    </a:lnTo>
                    <a:lnTo>
                      <a:pt x="423" y="909"/>
                    </a:lnTo>
                    <a:lnTo>
                      <a:pt x="520" y="814"/>
                    </a:lnTo>
                    <a:lnTo>
                      <a:pt x="199" y="659"/>
                    </a:lnTo>
                    <a:lnTo>
                      <a:pt x="167" y="828"/>
                    </a:lnTo>
                    <a:lnTo>
                      <a:pt x="118" y="671"/>
                    </a:lnTo>
                    <a:lnTo>
                      <a:pt x="22" y="426"/>
                    </a:lnTo>
                    <a:lnTo>
                      <a:pt x="0" y="235"/>
                    </a:lnTo>
                    <a:lnTo>
                      <a:pt x="0" y="78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477560" y="5985360"/>
                <a:ext cx="93240" cy="52200"/>
              </a:xfrm>
              <a:custGeom>
                <a:avLst/>
                <a:gdLst/>
                <a:ahLst/>
                <a:rect l="l" t="t" r="r" b="b"/>
                <a:pathLst>
                  <a:path w="1220" h="786">
                    <a:moveTo>
                      <a:pt x="62" y="18"/>
                    </a:moveTo>
                    <a:lnTo>
                      <a:pt x="223" y="0"/>
                    </a:lnTo>
                    <a:lnTo>
                      <a:pt x="491" y="91"/>
                    </a:lnTo>
                    <a:lnTo>
                      <a:pt x="733" y="251"/>
                    </a:lnTo>
                    <a:lnTo>
                      <a:pt x="1028" y="502"/>
                    </a:lnTo>
                    <a:lnTo>
                      <a:pt x="1220" y="739"/>
                    </a:lnTo>
                    <a:lnTo>
                      <a:pt x="1169" y="786"/>
                    </a:lnTo>
                    <a:lnTo>
                      <a:pt x="996" y="629"/>
                    </a:lnTo>
                    <a:lnTo>
                      <a:pt x="793" y="484"/>
                    </a:lnTo>
                    <a:lnTo>
                      <a:pt x="572" y="376"/>
                    </a:lnTo>
                    <a:lnTo>
                      <a:pt x="376" y="262"/>
                    </a:lnTo>
                    <a:lnTo>
                      <a:pt x="0" y="18"/>
                    </a:lnTo>
                    <a:lnTo>
                      <a:pt x="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651080" y="5829480"/>
                <a:ext cx="119520" cy="296640"/>
              </a:xfrm>
              <a:custGeom>
                <a:avLst/>
                <a:gdLst/>
                <a:ahLst/>
                <a:rect l="l" t="t" r="r" b="b"/>
                <a:pathLst>
                  <a:path w="1568" h="4437">
                    <a:moveTo>
                      <a:pt x="161" y="83"/>
                    </a:moveTo>
                    <a:lnTo>
                      <a:pt x="99" y="205"/>
                    </a:lnTo>
                    <a:lnTo>
                      <a:pt x="49" y="383"/>
                    </a:lnTo>
                    <a:lnTo>
                      <a:pt x="49" y="583"/>
                    </a:lnTo>
                    <a:lnTo>
                      <a:pt x="99" y="774"/>
                    </a:lnTo>
                    <a:lnTo>
                      <a:pt x="257" y="1090"/>
                    </a:lnTo>
                    <a:lnTo>
                      <a:pt x="431" y="1400"/>
                    </a:lnTo>
                    <a:lnTo>
                      <a:pt x="543" y="1767"/>
                    </a:lnTo>
                    <a:lnTo>
                      <a:pt x="637" y="2172"/>
                    </a:lnTo>
                    <a:lnTo>
                      <a:pt x="719" y="2690"/>
                    </a:lnTo>
                    <a:lnTo>
                      <a:pt x="826" y="3398"/>
                    </a:lnTo>
                    <a:lnTo>
                      <a:pt x="877" y="3846"/>
                    </a:lnTo>
                    <a:lnTo>
                      <a:pt x="1057" y="3270"/>
                    </a:lnTo>
                    <a:lnTo>
                      <a:pt x="1192" y="2743"/>
                    </a:lnTo>
                    <a:lnTo>
                      <a:pt x="1347" y="2033"/>
                    </a:lnTo>
                    <a:lnTo>
                      <a:pt x="1444" y="1496"/>
                    </a:lnTo>
                    <a:lnTo>
                      <a:pt x="1471" y="1148"/>
                    </a:lnTo>
                    <a:lnTo>
                      <a:pt x="1490" y="830"/>
                    </a:lnTo>
                    <a:lnTo>
                      <a:pt x="1506" y="664"/>
                    </a:lnTo>
                    <a:lnTo>
                      <a:pt x="1568" y="567"/>
                    </a:lnTo>
                    <a:lnTo>
                      <a:pt x="1554" y="1169"/>
                    </a:lnTo>
                    <a:lnTo>
                      <a:pt x="1444" y="1908"/>
                    </a:lnTo>
                    <a:lnTo>
                      <a:pt x="1301" y="2582"/>
                    </a:lnTo>
                    <a:lnTo>
                      <a:pt x="1154" y="3195"/>
                    </a:lnTo>
                    <a:lnTo>
                      <a:pt x="971" y="3778"/>
                    </a:lnTo>
                    <a:lnTo>
                      <a:pt x="730" y="4394"/>
                    </a:lnTo>
                    <a:lnTo>
                      <a:pt x="637" y="4437"/>
                    </a:lnTo>
                    <a:lnTo>
                      <a:pt x="826" y="3917"/>
                    </a:lnTo>
                    <a:lnTo>
                      <a:pt x="683" y="2848"/>
                    </a:lnTo>
                    <a:lnTo>
                      <a:pt x="559" y="2015"/>
                    </a:lnTo>
                    <a:lnTo>
                      <a:pt x="402" y="1512"/>
                    </a:lnTo>
                    <a:lnTo>
                      <a:pt x="183" y="1090"/>
                    </a:lnTo>
                    <a:lnTo>
                      <a:pt x="49" y="784"/>
                    </a:lnTo>
                    <a:lnTo>
                      <a:pt x="0" y="602"/>
                    </a:lnTo>
                    <a:lnTo>
                      <a:pt x="0" y="394"/>
                    </a:lnTo>
                    <a:lnTo>
                      <a:pt x="49" y="189"/>
                    </a:lnTo>
                    <a:lnTo>
                      <a:pt x="161" y="0"/>
                    </a:lnTo>
                    <a:lnTo>
                      <a:pt x="16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643880" y="6127200"/>
                <a:ext cx="120960" cy="67320"/>
              </a:xfrm>
              <a:custGeom>
                <a:avLst/>
                <a:gdLst/>
                <a:ahLst/>
                <a:rect l="l" t="t" r="r" b="b"/>
                <a:pathLst>
                  <a:path w="1582" h="1002">
                    <a:moveTo>
                      <a:pt x="457" y="0"/>
                    </a:moveTo>
                    <a:lnTo>
                      <a:pt x="321" y="103"/>
                    </a:lnTo>
                    <a:lnTo>
                      <a:pt x="191" y="235"/>
                    </a:lnTo>
                    <a:lnTo>
                      <a:pt x="81" y="363"/>
                    </a:lnTo>
                    <a:lnTo>
                      <a:pt x="20" y="529"/>
                    </a:lnTo>
                    <a:lnTo>
                      <a:pt x="0" y="765"/>
                    </a:lnTo>
                    <a:lnTo>
                      <a:pt x="68" y="718"/>
                    </a:lnTo>
                    <a:lnTo>
                      <a:pt x="1174" y="1002"/>
                    </a:lnTo>
                    <a:lnTo>
                      <a:pt x="1296" y="988"/>
                    </a:lnTo>
                    <a:lnTo>
                      <a:pt x="1582" y="857"/>
                    </a:lnTo>
                    <a:lnTo>
                      <a:pt x="1246" y="975"/>
                    </a:lnTo>
                    <a:lnTo>
                      <a:pt x="1187" y="940"/>
                    </a:lnTo>
                    <a:lnTo>
                      <a:pt x="969" y="889"/>
                    </a:lnTo>
                    <a:lnTo>
                      <a:pt x="855" y="698"/>
                    </a:lnTo>
                    <a:lnTo>
                      <a:pt x="775" y="640"/>
                    </a:lnTo>
                    <a:lnTo>
                      <a:pt x="523" y="564"/>
                    </a:lnTo>
                    <a:lnTo>
                      <a:pt x="429" y="468"/>
                    </a:lnTo>
                    <a:lnTo>
                      <a:pt x="397" y="373"/>
                    </a:lnTo>
                    <a:lnTo>
                      <a:pt x="383" y="248"/>
                    </a:lnTo>
                    <a:lnTo>
                      <a:pt x="383" y="128"/>
                    </a:lnTo>
                    <a:lnTo>
                      <a:pt x="4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678080" y="6107400"/>
                <a:ext cx="139680" cy="26640"/>
              </a:xfrm>
              <a:custGeom>
                <a:avLst/>
                <a:gdLst/>
                <a:ahLst/>
                <a:rect l="l" t="t" r="r" b="b"/>
                <a:pathLst>
                  <a:path w="1828" h="404">
                    <a:moveTo>
                      <a:pt x="57" y="281"/>
                    </a:moveTo>
                    <a:lnTo>
                      <a:pt x="281" y="250"/>
                    </a:lnTo>
                    <a:lnTo>
                      <a:pt x="862" y="31"/>
                    </a:lnTo>
                    <a:lnTo>
                      <a:pt x="1115" y="46"/>
                    </a:lnTo>
                    <a:lnTo>
                      <a:pt x="1528" y="0"/>
                    </a:lnTo>
                    <a:lnTo>
                      <a:pt x="1587" y="31"/>
                    </a:lnTo>
                    <a:lnTo>
                      <a:pt x="1767" y="301"/>
                    </a:lnTo>
                    <a:lnTo>
                      <a:pt x="1560" y="88"/>
                    </a:lnTo>
                    <a:lnTo>
                      <a:pt x="1479" y="88"/>
                    </a:lnTo>
                    <a:lnTo>
                      <a:pt x="1053" y="88"/>
                    </a:lnTo>
                    <a:lnTo>
                      <a:pt x="1198" y="151"/>
                    </a:lnTo>
                    <a:lnTo>
                      <a:pt x="1440" y="202"/>
                    </a:lnTo>
                    <a:lnTo>
                      <a:pt x="1828" y="404"/>
                    </a:lnTo>
                    <a:lnTo>
                      <a:pt x="1355" y="238"/>
                    </a:lnTo>
                    <a:lnTo>
                      <a:pt x="892" y="112"/>
                    </a:lnTo>
                    <a:lnTo>
                      <a:pt x="798" y="112"/>
                    </a:lnTo>
                    <a:lnTo>
                      <a:pt x="339" y="281"/>
                    </a:lnTo>
                    <a:lnTo>
                      <a:pt x="0" y="332"/>
                    </a:lnTo>
                    <a:lnTo>
                      <a:pt x="57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681680" y="5901840"/>
                <a:ext cx="50040" cy="161280"/>
              </a:xfrm>
              <a:custGeom>
                <a:avLst/>
                <a:gdLst/>
                <a:ahLst/>
                <a:rect l="l" t="t" r="r" b="b"/>
                <a:pathLst>
                  <a:path w="655" h="2417">
                    <a:moveTo>
                      <a:pt x="0" y="325"/>
                    </a:moveTo>
                    <a:lnTo>
                      <a:pt x="60" y="218"/>
                    </a:lnTo>
                    <a:lnTo>
                      <a:pt x="157" y="112"/>
                    </a:lnTo>
                    <a:lnTo>
                      <a:pt x="281" y="0"/>
                    </a:lnTo>
                    <a:lnTo>
                      <a:pt x="378" y="24"/>
                    </a:lnTo>
                    <a:lnTo>
                      <a:pt x="235" y="121"/>
                    </a:lnTo>
                    <a:lnTo>
                      <a:pt x="328" y="437"/>
                    </a:lnTo>
                    <a:lnTo>
                      <a:pt x="500" y="468"/>
                    </a:lnTo>
                    <a:lnTo>
                      <a:pt x="539" y="250"/>
                    </a:lnTo>
                    <a:lnTo>
                      <a:pt x="539" y="136"/>
                    </a:lnTo>
                    <a:lnTo>
                      <a:pt x="500" y="24"/>
                    </a:lnTo>
                    <a:lnTo>
                      <a:pt x="585" y="136"/>
                    </a:lnTo>
                    <a:lnTo>
                      <a:pt x="585" y="312"/>
                    </a:lnTo>
                    <a:lnTo>
                      <a:pt x="550" y="486"/>
                    </a:lnTo>
                    <a:lnTo>
                      <a:pt x="618" y="749"/>
                    </a:lnTo>
                    <a:lnTo>
                      <a:pt x="645" y="1242"/>
                    </a:lnTo>
                    <a:lnTo>
                      <a:pt x="629" y="1823"/>
                    </a:lnTo>
                    <a:lnTo>
                      <a:pt x="655" y="2342"/>
                    </a:lnTo>
                    <a:lnTo>
                      <a:pt x="629" y="2417"/>
                    </a:lnTo>
                    <a:lnTo>
                      <a:pt x="569" y="1885"/>
                    </a:lnTo>
                    <a:lnTo>
                      <a:pt x="569" y="1332"/>
                    </a:lnTo>
                    <a:lnTo>
                      <a:pt x="569" y="894"/>
                    </a:lnTo>
                    <a:lnTo>
                      <a:pt x="519" y="620"/>
                    </a:lnTo>
                    <a:lnTo>
                      <a:pt x="458" y="534"/>
                    </a:lnTo>
                    <a:lnTo>
                      <a:pt x="328" y="468"/>
                    </a:lnTo>
                    <a:lnTo>
                      <a:pt x="157" y="802"/>
                    </a:lnTo>
                    <a:lnTo>
                      <a:pt x="126" y="703"/>
                    </a:lnTo>
                    <a:lnTo>
                      <a:pt x="262" y="453"/>
                    </a:lnTo>
                    <a:lnTo>
                      <a:pt x="187" y="182"/>
                    </a:lnTo>
                    <a:lnTo>
                      <a:pt x="106" y="281"/>
                    </a:lnTo>
                    <a:lnTo>
                      <a:pt x="29" y="437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721280" y="5886000"/>
                <a:ext cx="44280" cy="61200"/>
              </a:xfrm>
              <a:custGeom>
                <a:avLst/>
                <a:gdLst/>
                <a:ahLst/>
                <a:rect l="l" t="t" r="r" b="b"/>
                <a:pathLst>
                  <a:path w="585" h="919">
                    <a:moveTo>
                      <a:pt x="0" y="251"/>
                    </a:moveTo>
                    <a:lnTo>
                      <a:pt x="191" y="396"/>
                    </a:lnTo>
                    <a:lnTo>
                      <a:pt x="233" y="664"/>
                    </a:lnTo>
                    <a:lnTo>
                      <a:pt x="426" y="300"/>
                    </a:lnTo>
                    <a:lnTo>
                      <a:pt x="585" y="0"/>
                    </a:lnTo>
                    <a:lnTo>
                      <a:pt x="534" y="242"/>
                    </a:lnTo>
                    <a:lnTo>
                      <a:pt x="174" y="919"/>
                    </a:lnTo>
                    <a:lnTo>
                      <a:pt x="198" y="761"/>
                    </a:lnTo>
                    <a:lnTo>
                      <a:pt x="50" y="508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719480" y="61020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416" h="166">
                    <a:moveTo>
                      <a:pt x="218" y="166"/>
                    </a:moveTo>
                    <a:lnTo>
                      <a:pt x="0" y="80"/>
                    </a:lnTo>
                    <a:lnTo>
                      <a:pt x="42" y="0"/>
                    </a:lnTo>
                    <a:lnTo>
                      <a:pt x="416" y="1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731000" y="5982840"/>
                <a:ext cx="266760" cy="203040"/>
              </a:xfrm>
              <a:custGeom>
                <a:avLst/>
                <a:gdLst/>
                <a:ahLst/>
                <a:rect l="l" t="t" r="r" b="b"/>
                <a:pathLst>
                  <a:path w="3494" h="3036">
                    <a:moveTo>
                      <a:pt x="1119" y="2271"/>
                    </a:moveTo>
                    <a:lnTo>
                      <a:pt x="1130" y="2336"/>
                    </a:lnTo>
                    <a:lnTo>
                      <a:pt x="1101" y="2414"/>
                    </a:lnTo>
                    <a:lnTo>
                      <a:pt x="1054" y="2433"/>
                    </a:lnTo>
                    <a:lnTo>
                      <a:pt x="284" y="2338"/>
                    </a:lnTo>
                    <a:lnTo>
                      <a:pt x="292" y="2407"/>
                    </a:lnTo>
                    <a:lnTo>
                      <a:pt x="404" y="2387"/>
                    </a:lnTo>
                    <a:lnTo>
                      <a:pt x="852" y="2442"/>
                    </a:lnTo>
                    <a:lnTo>
                      <a:pt x="771" y="2609"/>
                    </a:lnTo>
                    <a:lnTo>
                      <a:pt x="428" y="2668"/>
                    </a:lnTo>
                    <a:lnTo>
                      <a:pt x="158" y="2552"/>
                    </a:lnTo>
                    <a:lnTo>
                      <a:pt x="68" y="2568"/>
                    </a:lnTo>
                    <a:lnTo>
                      <a:pt x="151" y="2638"/>
                    </a:lnTo>
                    <a:lnTo>
                      <a:pt x="446" y="2679"/>
                    </a:lnTo>
                    <a:lnTo>
                      <a:pt x="752" y="2656"/>
                    </a:lnTo>
                    <a:lnTo>
                      <a:pt x="670" y="2780"/>
                    </a:lnTo>
                    <a:lnTo>
                      <a:pt x="481" y="2895"/>
                    </a:lnTo>
                    <a:lnTo>
                      <a:pt x="158" y="2910"/>
                    </a:lnTo>
                    <a:lnTo>
                      <a:pt x="0" y="2895"/>
                    </a:lnTo>
                    <a:lnTo>
                      <a:pt x="268" y="2954"/>
                    </a:lnTo>
                    <a:lnTo>
                      <a:pt x="455" y="2932"/>
                    </a:lnTo>
                    <a:lnTo>
                      <a:pt x="418" y="3036"/>
                    </a:lnTo>
                    <a:lnTo>
                      <a:pt x="455" y="3025"/>
                    </a:lnTo>
                    <a:lnTo>
                      <a:pt x="525" y="2910"/>
                    </a:lnTo>
                    <a:lnTo>
                      <a:pt x="697" y="2789"/>
                    </a:lnTo>
                    <a:lnTo>
                      <a:pt x="784" y="2668"/>
                    </a:lnTo>
                    <a:lnTo>
                      <a:pt x="3327" y="2668"/>
                    </a:lnTo>
                    <a:lnTo>
                      <a:pt x="3390" y="2495"/>
                    </a:lnTo>
                    <a:lnTo>
                      <a:pt x="3424" y="2200"/>
                    </a:lnTo>
                    <a:lnTo>
                      <a:pt x="3454" y="1985"/>
                    </a:lnTo>
                    <a:lnTo>
                      <a:pt x="2977" y="1849"/>
                    </a:lnTo>
                    <a:lnTo>
                      <a:pt x="3041" y="1780"/>
                    </a:lnTo>
                    <a:lnTo>
                      <a:pt x="3109" y="1833"/>
                    </a:lnTo>
                    <a:lnTo>
                      <a:pt x="3494" y="1886"/>
                    </a:lnTo>
                    <a:lnTo>
                      <a:pt x="3494" y="1844"/>
                    </a:lnTo>
                    <a:lnTo>
                      <a:pt x="3159" y="1785"/>
                    </a:lnTo>
                    <a:lnTo>
                      <a:pt x="2995" y="1598"/>
                    </a:lnTo>
                    <a:lnTo>
                      <a:pt x="2813" y="1805"/>
                    </a:lnTo>
                    <a:lnTo>
                      <a:pt x="2479" y="2336"/>
                    </a:lnTo>
                    <a:lnTo>
                      <a:pt x="2345" y="2236"/>
                    </a:lnTo>
                    <a:lnTo>
                      <a:pt x="2472" y="1955"/>
                    </a:lnTo>
                    <a:lnTo>
                      <a:pt x="2714" y="1671"/>
                    </a:lnTo>
                    <a:lnTo>
                      <a:pt x="2868" y="1559"/>
                    </a:lnTo>
                    <a:lnTo>
                      <a:pt x="2742" y="1303"/>
                    </a:lnTo>
                    <a:lnTo>
                      <a:pt x="2582" y="745"/>
                    </a:lnTo>
                    <a:lnTo>
                      <a:pt x="2707" y="1328"/>
                    </a:lnTo>
                    <a:lnTo>
                      <a:pt x="2771" y="1535"/>
                    </a:lnTo>
                    <a:lnTo>
                      <a:pt x="2544" y="1550"/>
                    </a:lnTo>
                    <a:lnTo>
                      <a:pt x="2272" y="692"/>
                    </a:lnTo>
                    <a:lnTo>
                      <a:pt x="2424" y="552"/>
                    </a:lnTo>
                    <a:lnTo>
                      <a:pt x="1962" y="803"/>
                    </a:lnTo>
                    <a:lnTo>
                      <a:pt x="1962" y="735"/>
                    </a:lnTo>
                    <a:lnTo>
                      <a:pt x="2037" y="602"/>
                    </a:lnTo>
                    <a:lnTo>
                      <a:pt x="2345" y="369"/>
                    </a:lnTo>
                    <a:lnTo>
                      <a:pt x="2439" y="210"/>
                    </a:lnTo>
                    <a:lnTo>
                      <a:pt x="2540" y="614"/>
                    </a:lnTo>
                    <a:lnTo>
                      <a:pt x="2525" y="180"/>
                    </a:lnTo>
                    <a:lnTo>
                      <a:pt x="2403" y="90"/>
                    </a:lnTo>
                    <a:lnTo>
                      <a:pt x="2318" y="88"/>
                    </a:lnTo>
                    <a:lnTo>
                      <a:pt x="2311" y="0"/>
                    </a:lnTo>
                    <a:lnTo>
                      <a:pt x="2311" y="157"/>
                    </a:lnTo>
                    <a:lnTo>
                      <a:pt x="2340" y="297"/>
                    </a:lnTo>
                    <a:lnTo>
                      <a:pt x="2177" y="480"/>
                    </a:lnTo>
                    <a:lnTo>
                      <a:pt x="1905" y="563"/>
                    </a:lnTo>
                    <a:lnTo>
                      <a:pt x="1852" y="231"/>
                    </a:lnTo>
                    <a:lnTo>
                      <a:pt x="1742" y="552"/>
                    </a:lnTo>
                    <a:lnTo>
                      <a:pt x="1485" y="745"/>
                    </a:lnTo>
                    <a:lnTo>
                      <a:pt x="1220" y="818"/>
                    </a:lnTo>
                    <a:lnTo>
                      <a:pt x="944" y="871"/>
                    </a:lnTo>
                    <a:lnTo>
                      <a:pt x="1352" y="835"/>
                    </a:lnTo>
                    <a:lnTo>
                      <a:pt x="1589" y="783"/>
                    </a:lnTo>
                    <a:lnTo>
                      <a:pt x="1371" y="976"/>
                    </a:lnTo>
                    <a:lnTo>
                      <a:pt x="1169" y="1240"/>
                    </a:lnTo>
                    <a:lnTo>
                      <a:pt x="953" y="1621"/>
                    </a:lnTo>
                    <a:lnTo>
                      <a:pt x="842" y="1895"/>
                    </a:lnTo>
                    <a:lnTo>
                      <a:pt x="1087" y="2165"/>
                    </a:lnTo>
                    <a:lnTo>
                      <a:pt x="1191" y="2271"/>
                    </a:lnTo>
                    <a:lnTo>
                      <a:pt x="1172" y="2312"/>
                    </a:lnTo>
                    <a:lnTo>
                      <a:pt x="1331" y="2374"/>
                    </a:lnTo>
                    <a:lnTo>
                      <a:pt x="1415" y="1937"/>
                    </a:lnTo>
                    <a:lnTo>
                      <a:pt x="1589" y="1211"/>
                    </a:lnTo>
                    <a:lnTo>
                      <a:pt x="1698" y="930"/>
                    </a:lnTo>
                    <a:lnTo>
                      <a:pt x="1707" y="1134"/>
                    </a:lnTo>
                    <a:lnTo>
                      <a:pt x="1608" y="1510"/>
                    </a:lnTo>
                    <a:lnTo>
                      <a:pt x="1485" y="2137"/>
                    </a:lnTo>
                    <a:lnTo>
                      <a:pt x="1446" y="2433"/>
                    </a:lnTo>
                    <a:lnTo>
                      <a:pt x="1365" y="2396"/>
                    </a:lnTo>
                    <a:lnTo>
                      <a:pt x="1523" y="2517"/>
                    </a:lnTo>
                    <a:lnTo>
                      <a:pt x="1317" y="2483"/>
                    </a:lnTo>
                    <a:lnTo>
                      <a:pt x="1147" y="2407"/>
                    </a:lnTo>
                    <a:lnTo>
                      <a:pt x="1147" y="2324"/>
                    </a:lnTo>
                    <a:lnTo>
                      <a:pt x="1119" y="22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788600" y="5857920"/>
                <a:ext cx="121320" cy="163440"/>
              </a:xfrm>
              <a:custGeom>
                <a:avLst/>
                <a:gdLst/>
                <a:ahLst/>
                <a:rect l="l" t="t" r="r" b="b"/>
                <a:pathLst>
                  <a:path w="1593" h="2446">
                    <a:moveTo>
                      <a:pt x="0" y="0"/>
                    </a:moveTo>
                    <a:lnTo>
                      <a:pt x="406" y="122"/>
                    </a:lnTo>
                    <a:lnTo>
                      <a:pt x="969" y="385"/>
                    </a:lnTo>
                    <a:lnTo>
                      <a:pt x="1273" y="442"/>
                    </a:lnTo>
                    <a:lnTo>
                      <a:pt x="1294" y="537"/>
                    </a:lnTo>
                    <a:lnTo>
                      <a:pt x="1360" y="512"/>
                    </a:lnTo>
                    <a:lnTo>
                      <a:pt x="1457" y="673"/>
                    </a:lnTo>
                    <a:lnTo>
                      <a:pt x="1554" y="965"/>
                    </a:lnTo>
                    <a:lnTo>
                      <a:pt x="1593" y="1323"/>
                    </a:lnTo>
                    <a:lnTo>
                      <a:pt x="1593" y="1552"/>
                    </a:lnTo>
                    <a:lnTo>
                      <a:pt x="1538" y="1879"/>
                    </a:lnTo>
                    <a:lnTo>
                      <a:pt x="1432" y="2137"/>
                    </a:lnTo>
                    <a:lnTo>
                      <a:pt x="1273" y="2285"/>
                    </a:lnTo>
                    <a:lnTo>
                      <a:pt x="1100" y="2446"/>
                    </a:lnTo>
                    <a:lnTo>
                      <a:pt x="1266" y="2191"/>
                    </a:lnTo>
                    <a:lnTo>
                      <a:pt x="1432" y="1863"/>
                    </a:lnTo>
                    <a:lnTo>
                      <a:pt x="1513" y="1552"/>
                    </a:lnTo>
                    <a:lnTo>
                      <a:pt x="1531" y="1180"/>
                    </a:lnTo>
                    <a:lnTo>
                      <a:pt x="1503" y="910"/>
                    </a:lnTo>
                    <a:lnTo>
                      <a:pt x="1425" y="644"/>
                    </a:lnTo>
                    <a:lnTo>
                      <a:pt x="1335" y="567"/>
                    </a:lnTo>
                    <a:lnTo>
                      <a:pt x="1259" y="1238"/>
                    </a:lnTo>
                    <a:lnTo>
                      <a:pt x="1133" y="1904"/>
                    </a:lnTo>
                    <a:lnTo>
                      <a:pt x="1243" y="1226"/>
                    </a:lnTo>
                    <a:lnTo>
                      <a:pt x="1266" y="537"/>
                    </a:lnTo>
                    <a:lnTo>
                      <a:pt x="918" y="408"/>
                    </a:lnTo>
                    <a:lnTo>
                      <a:pt x="182" y="1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761240" y="5875200"/>
                <a:ext cx="77040" cy="237600"/>
              </a:xfrm>
              <a:custGeom>
                <a:avLst/>
                <a:gdLst/>
                <a:ahLst/>
                <a:rect l="l" t="t" r="r" b="b"/>
                <a:pathLst>
                  <a:path w="1005" h="3558">
                    <a:moveTo>
                      <a:pt x="479" y="0"/>
                    </a:moveTo>
                    <a:lnTo>
                      <a:pt x="611" y="380"/>
                    </a:lnTo>
                    <a:lnTo>
                      <a:pt x="717" y="888"/>
                    </a:lnTo>
                    <a:lnTo>
                      <a:pt x="965" y="791"/>
                    </a:lnTo>
                    <a:lnTo>
                      <a:pt x="1005" y="842"/>
                    </a:lnTo>
                    <a:lnTo>
                      <a:pt x="954" y="1274"/>
                    </a:lnTo>
                    <a:lnTo>
                      <a:pt x="837" y="1712"/>
                    </a:lnTo>
                    <a:lnTo>
                      <a:pt x="645" y="2285"/>
                    </a:lnTo>
                    <a:lnTo>
                      <a:pt x="456" y="2747"/>
                    </a:lnTo>
                    <a:lnTo>
                      <a:pt x="231" y="3288"/>
                    </a:lnTo>
                    <a:lnTo>
                      <a:pt x="71" y="3533"/>
                    </a:lnTo>
                    <a:lnTo>
                      <a:pt x="0" y="3558"/>
                    </a:lnTo>
                    <a:lnTo>
                      <a:pt x="184" y="3263"/>
                    </a:lnTo>
                    <a:lnTo>
                      <a:pt x="385" y="2782"/>
                    </a:lnTo>
                    <a:lnTo>
                      <a:pt x="550" y="2320"/>
                    </a:lnTo>
                    <a:lnTo>
                      <a:pt x="694" y="1916"/>
                    </a:lnTo>
                    <a:lnTo>
                      <a:pt x="827" y="1514"/>
                    </a:lnTo>
                    <a:lnTo>
                      <a:pt x="879" y="1193"/>
                    </a:lnTo>
                    <a:lnTo>
                      <a:pt x="924" y="896"/>
                    </a:lnTo>
                    <a:lnTo>
                      <a:pt x="420" y="1108"/>
                    </a:lnTo>
                    <a:lnTo>
                      <a:pt x="670" y="905"/>
                    </a:lnTo>
                    <a:lnTo>
                      <a:pt x="670" y="870"/>
                    </a:lnTo>
                    <a:lnTo>
                      <a:pt x="597" y="439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H="1">
                <a:off x="7462080" y="6161400"/>
                <a:ext cx="511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683480" y="6182640"/>
                <a:ext cx="243720" cy="26640"/>
              </a:xfrm>
              <a:custGeom>
                <a:avLst/>
                <a:gdLst/>
                <a:ahLst/>
                <a:rect l="l" t="t" r="r" b="b"/>
                <a:pathLst>
                  <a:path w="3188" h="401">
                    <a:moveTo>
                      <a:pt x="0" y="0"/>
                    </a:moveTo>
                    <a:lnTo>
                      <a:pt x="343" y="401"/>
                    </a:lnTo>
                    <a:lnTo>
                      <a:pt x="3188" y="4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785720" y="6167160"/>
                <a:ext cx="192960" cy="15480"/>
              </a:xfrm>
              <a:custGeom>
                <a:avLst/>
                <a:gdLst/>
                <a:ahLst/>
                <a:rect l="l" t="t" r="r" b="b"/>
                <a:pathLst>
                  <a:path w="2533" h="230">
                    <a:moveTo>
                      <a:pt x="0" y="0"/>
                    </a:moveTo>
                    <a:lnTo>
                      <a:pt x="1752" y="0"/>
                    </a:lnTo>
                    <a:lnTo>
                      <a:pt x="2533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684560" y="6242040"/>
                <a:ext cx="1764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9" name=""/>
            <p:cNvSpPr/>
            <p:nvPr/>
          </p:nvSpPr>
          <p:spPr>
            <a:xfrm>
              <a:off x="7539840" y="5088240"/>
              <a:ext cx="493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0" name=""/>
            <p:cNvGrpSpPr/>
            <p:nvPr/>
          </p:nvGrpSpPr>
          <p:grpSpPr>
            <a:xfrm>
              <a:off x="4057560" y="4961160"/>
              <a:ext cx="1371240" cy="686880"/>
              <a:chOff x="4057560" y="4961160"/>
              <a:chExt cx="1371240" cy="686880"/>
            </a:xfrm>
          </p:grpSpPr>
          <p:grpSp>
            <p:nvGrpSpPr>
              <p:cNvPr id="2511" name=""/>
              <p:cNvGrpSpPr/>
              <p:nvPr/>
            </p:nvGrpSpPr>
            <p:grpSpPr>
              <a:xfrm>
                <a:off x="4057560" y="4961160"/>
                <a:ext cx="1371240" cy="686880"/>
                <a:chOff x="4057560" y="4961160"/>
                <a:chExt cx="1371240" cy="686880"/>
              </a:xfrm>
            </p:grpSpPr>
            <p:sp>
              <p:nvSpPr>
                <p:cNvPr id="2512" name=""/>
                <p:cNvSpPr/>
                <p:nvPr/>
              </p:nvSpPr>
              <p:spPr>
                <a:xfrm>
                  <a:off x="4368240" y="5151600"/>
                  <a:ext cx="293760" cy="291600"/>
                </a:xfrm>
                <a:custGeom>
                  <a:avLst/>
                  <a:gdLst/>
                  <a:ahLst/>
                  <a:rect l="l" t="t" r="r" b="b"/>
                  <a:pathLst>
                    <a:path w="3542" h="2755">
                      <a:moveTo>
                        <a:pt x="3542" y="2755"/>
                      </a:moveTo>
                      <a:lnTo>
                        <a:pt x="3452" y="2648"/>
                      </a:lnTo>
                      <a:lnTo>
                        <a:pt x="3415" y="2476"/>
                      </a:lnTo>
                      <a:lnTo>
                        <a:pt x="3307" y="2404"/>
                      </a:lnTo>
                      <a:lnTo>
                        <a:pt x="3290" y="2296"/>
                      </a:lnTo>
                      <a:lnTo>
                        <a:pt x="3355" y="2222"/>
                      </a:lnTo>
                      <a:lnTo>
                        <a:pt x="3355" y="2141"/>
                      </a:lnTo>
                      <a:lnTo>
                        <a:pt x="3314" y="2052"/>
                      </a:lnTo>
                      <a:lnTo>
                        <a:pt x="3248" y="1954"/>
                      </a:lnTo>
                      <a:lnTo>
                        <a:pt x="3248" y="1791"/>
                      </a:lnTo>
                      <a:lnTo>
                        <a:pt x="3307" y="1724"/>
                      </a:lnTo>
                      <a:lnTo>
                        <a:pt x="3299" y="1652"/>
                      </a:lnTo>
                      <a:lnTo>
                        <a:pt x="3233" y="1604"/>
                      </a:lnTo>
                      <a:lnTo>
                        <a:pt x="3200" y="1503"/>
                      </a:lnTo>
                      <a:lnTo>
                        <a:pt x="3209" y="1417"/>
                      </a:lnTo>
                      <a:lnTo>
                        <a:pt x="3191" y="1286"/>
                      </a:lnTo>
                      <a:lnTo>
                        <a:pt x="3166" y="1114"/>
                      </a:lnTo>
                      <a:lnTo>
                        <a:pt x="3166" y="910"/>
                      </a:lnTo>
                      <a:lnTo>
                        <a:pt x="3166" y="754"/>
                      </a:lnTo>
                      <a:lnTo>
                        <a:pt x="3161" y="592"/>
                      </a:lnTo>
                      <a:lnTo>
                        <a:pt x="3125" y="451"/>
                      </a:lnTo>
                      <a:lnTo>
                        <a:pt x="3092" y="360"/>
                      </a:lnTo>
                      <a:lnTo>
                        <a:pt x="2712" y="171"/>
                      </a:lnTo>
                      <a:lnTo>
                        <a:pt x="2492" y="110"/>
                      </a:lnTo>
                      <a:lnTo>
                        <a:pt x="2279" y="68"/>
                      </a:lnTo>
                      <a:lnTo>
                        <a:pt x="2044" y="0"/>
                      </a:lnTo>
                      <a:lnTo>
                        <a:pt x="890" y="27"/>
                      </a:lnTo>
                      <a:lnTo>
                        <a:pt x="556" y="85"/>
                      </a:lnTo>
                      <a:lnTo>
                        <a:pt x="222" y="205"/>
                      </a:lnTo>
                      <a:lnTo>
                        <a:pt x="123" y="264"/>
                      </a:lnTo>
                      <a:lnTo>
                        <a:pt x="40" y="461"/>
                      </a:lnTo>
                      <a:lnTo>
                        <a:pt x="40" y="1145"/>
                      </a:lnTo>
                      <a:lnTo>
                        <a:pt x="0" y="1235"/>
                      </a:lnTo>
                      <a:lnTo>
                        <a:pt x="540" y="2755"/>
                      </a:lnTo>
                      <a:lnTo>
                        <a:pt x="3542" y="275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4381560" y="5158440"/>
                  <a:ext cx="133200" cy="144720"/>
                </a:xfrm>
                <a:custGeom>
                  <a:avLst/>
                  <a:gdLst/>
                  <a:ahLst/>
                  <a:rect l="l" t="t" r="r" b="b"/>
                  <a:pathLst>
                    <a:path w="1609" h="1365">
                      <a:moveTo>
                        <a:pt x="1609" y="1365"/>
                      </a:moveTo>
                      <a:lnTo>
                        <a:pt x="1148" y="499"/>
                      </a:lnTo>
                      <a:lnTo>
                        <a:pt x="1019" y="323"/>
                      </a:lnTo>
                      <a:lnTo>
                        <a:pt x="763" y="187"/>
                      </a:lnTo>
                      <a:lnTo>
                        <a:pt x="493" y="121"/>
                      </a:lnTo>
                      <a:lnTo>
                        <a:pt x="279" y="130"/>
                      </a:lnTo>
                      <a:lnTo>
                        <a:pt x="0" y="169"/>
                      </a:lnTo>
                      <a:lnTo>
                        <a:pt x="67" y="121"/>
                      </a:lnTo>
                      <a:lnTo>
                        <a:pt x="353" y="31"/>
                      </a:lnTo>
                      <a:lnTo>
                        <a:pt x="650" y="0"/>
                      </a:lnTo>
                      <a:lnTo>
                        <a:pt x="862" y="31"/>
                      </a:lnTo>
                      <a:lnTo>
                        <a:pt x="1102" y="255"/>
                      </a:lnTo>
                      <a:lnTo>
                        <a:pt x="1264" y="547"/>
                      </a:lnTo>
                      <a:lnTo>
                        <a:pt x="1346" y="767"/>
                      </a:lnTo>
                      <a:lnTo>
                        <a:pt x="1609" y="1365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4370400" y="5197320"/>
                  <a:ext cx="68400" cy="140400"/>
                </a:xfrm>
                <a:custGeom>
                  <a:avLst/>
                  <a:gdLst/>
                  <a:ahLst/>
                  <a:rect l="l" t="t" r="r" b="b"/>
                  <a:pathLst>
                    <a:path w="829" h="1330">
                      <a:moveTo>
                        <a:pt x="548" y="586"/>
                      </a:moveTo>
                      <a:lnTo>
                        <a:pt x="484" y="464"/>
                      </a:lnTo>
                      <a:lnTo>
                        <a:pt x="394" y="360"/>
                      </a:lnTo>
                      <a:lnTo>
                        <a:pt x="304" y="286"/>
                      </a:lnTo>
                      <a:lnTo>
                        <a:pt x="205" y="235"/>
                      </a:lnTo>
                      <a:lnTo>
                        <a:pt x="156" y="226"/>
                      </a:lnTo>
                      <a:lnTo>
                        <a:pt x="221" y="374"/>
                      </a:lnTo>
                      <a:lnTo>
                        <a:pt x="359" y="554"/>
                      </a:lnTo>
                      <a:lnTo>
                        <a:pt x="516" y="694"/>
                      </a:lnTo>
                      <a:lnTo>
                        <a:pt x="714" y="835"/>
                      </a:lnTo>
                      <a:lnTo>
                        <a:pt x="745" y="851"/>
                      </a:lnTo>
                      <a:lnTo>
                        <a:pt x="829" y="1100"/>
                      </a:lnTo>
                      <a:lnTo>
                        <a:pt x="756" y="1158"/>
                      </a:lnTo>
                      <a:lnTo>
                        <a:pt x="809" y="1330"/>
                      </a:lnTo>
                      <a:lnTo>
                        <a:pt x="631" y="1305"/>
                      </a:lnTo>
                      <a:lnTo>
                        <a:pt x="703" y="1275"/>
                      </a:lnTo>
                      <a:lnTo>
                        <a:pt x="590" y="1127"/>
                      </a:lnTo>
                      <a:lnTo>
                        <a:pt x="304" y="1013"/>
                      </a:lnTo>
                      <a:lnTo>
                        <a:pt x="128" y="888"/>
                      </a:lnTo>
                      <a:lnTo>
                        <a:pt x="82" y="851"/>
                      </a:lnTo>
                      <a:lnTo>
                        <a:pt x="106" y="923"/>
                      </a:lnTo>
                      <a:lnTo>
                        <a:pt x="179" y="1028"/>
                      </a:lnTo>
                      <a:lnTo>
                        <a:pt x="39" y="906"/>
                      </a:lnTo>
                      <a:lnTo>
                        <a:pt x="7" y="791"/>
                      </a:lnTo>
                      <a:lnTo>
                        <a:pt x="0" y="743"/>
                      </a:lnTo>
                      <a:lnTo>
                        <a:pt x="48" y="586"/>
                      </a:lnTo>
                      <a:lnTo>
                        <a:pt x="64" y="0"/>
                      </a:lnTo>
                      <a:lnTo>
                        <a:pt x="286" y="148"/>
                      </a:lnTo>
                      <a:lnTo>
                        <a:pt x="431" y="307"/>
                      </a:lnTo>
                      <a:lnTo>
                        <a:pt x="509" y="448"/>
                      </a:lnTo>
                      <a:lnTo>
                        <a:pt x="548" y="586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4388760" y="5308560"/>
                  <a:ext cx="48960" cy="75240"/>
                </a:xfrm>
                <a:custGeom>
                  <a:avLst/>
                  <a:gdLst/>
                  <a:ahLst/>
                  <a:rect l="l" t="t" r="r" b="b"/>
                  <a:pathLst>
                    <a:path w="593" h="716">
                      <a:moveTo>
                        <a:pt x="19" y="0"/>
                      </a:moveTo>
                      <a:lnTo>
                        <a:pt x="132" y="54"/>
                      </a:lnTo>
                      <a:lnTo>
                        <a:pt x="190" y="187"/>
                      </a:lnTo>
                      <a:lnTo>
                        <a:pt x="331" y="268"/>
                      </a:lnTo>
                      <a:lnTo>
                        <a:pt x="222" y="259"/>
                      </a:lnTo>
                      <a:lnTo>
                        <a:pt x="289" y="310"/>
                      </a:lnTo>
                      <a:lnTo>
                        <a:pt x="455" y="358"/>
                      </a:lnTo>
                      <a:lnTo>
                        <a:pt x="534" y="448"/>
                      </a:lnTo>
                      <a:lnTo>
                        <a:pt x="492" y="538"/>
                      </a:lnTo>
                      <a:lnTo>
                        <a:pt x="388" y="473"/>
                      </a:lnTo>
                      <a:lnTo>
                        <a:pt x="354" y="529"/>
                      </a:lnTo>
                      <a:lnTo>
                        <a:pt x="503" y="587"/>
                      </a:lnTo>
                      <a:lnTo>
                        <a:pt x="593" y="554"/>
                      </a:lnTo>
                      <a:lnTo>
                        <a:pt x="518" y="716"/>
                      </a:lnTo>
                      <a:lnTo>
                        <a:pt x="275" y="554"/>
                      </a:lnTo>
                      <a:lnTo>
                        <a:pt x="0" y="22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4443120" y="5376240"/>
                  <a:ext cx="101880" cy="84600"/>
                </a:xfrm>
                <a:custGeom>
                  <a:avLst/>
                  <a:gdLst/>
                  <a:ahLst/>
                  <a:rect l="l" t="t" r="r" b="b"/>
                  <a:pathLst>
                    <a:path w="1232" h="800">
                      <a:moveTo>
                        <a:pt x="141" y="141"/>
                      </a:moveTo>
                      <a:lnTo>
                        <a:pt x="188" y="171"/>
                      </a:lnTo>
                      <a:lnTo>
                        <a:pt x="215" y="0"/>
                      </a:lnTo>
                      <a:lnTo>
                        <a:pt x="282" y="254"/>
                      </a:lnTo>
                      <a:lnTo>
                        <a:pt x="248" y="325"/>
                      </a:lnTo>
                      <a:lnTo>
                        <a:pt x="575" y="435"/>
                      </a:lnTo>
                      <a:lnTo>
                        <a:pt x="764" y="595"/>
                      </a:lnTo>
                      <a:lnTo>
                        <a:pt x="1174" y="595"/>
                      </a:lnTo>
                      <a:lnTo>
                        <a:pt x="1232" y="717"/>
                      </a:lnTo>
                      <a:lnTo>
                        <a:pt x="764" y="800"/>
                      </a:lnTo>
                      <a:lnTo>
                        <a:pt x="0" y="341"/>
                      </a:lnTo>
                      <a:lnTo>
                        <a:pt x="141" y="14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4451040" y="5194800"/>
                  <a:ext cx="185400" cy="205560"/>
                </a:xfrm>
                <a:custGeom>
                  <a:avLst/>
                  <a:gdLst/>
                  <a:ahLst/>
                  <a:rect l="l" t="t" r="r" b="b"/>
                  <a:pathLst>
                    <a:path w="2241" h="1943">
                      <a:moveTo>
                        <a:pt x="1241" y="0"/>
                      </a:moveTo>
                      <a:lnTo>
                        <a:pt x="1308" y="277"/>
                      </a:lnTo>
                      <a:lnTo>
                        <a:pt x="1314" y="623"/>
                      </a:lnTo>
                      <a:lnTo>
                        <a:pt x="1250" y="1053"/>
                      </a:lnTo>
                      <a:lnTo>
                        <a:pt x="1133" y="1404"/>
                      </a:lnTo>
                      <a:lnTo>
                        <a:pt x="1232" y="1496"/>
                      </a:lnTo>
                      <a:lnTo>
                        <a:pt x="1035" y="1559"/>
                      </a:lnTo>
                      <a:lnTo>
                        <a:pt x="674" y="1519"/>
                      </a:lnTo>
                      <a:lnTo>
                        <a:pt x="248" y="1528"/>
                      </a:lnTo>
                      <a:lnTo>
                        <a:pt x="0" y="1544"/>
                      </a:lnTo>
                      <a:lnTo>
                        <a:pt x="149" y="1722"/>
                      </a:lnTo>
                      <a:lnTo>
                        <a:pt x="1133" y="1803"/>
                      </a:lnTo>
                      <a:lnTo>
                        <a:pt x="1815" y="1943"/>
                      </a:lnTo>
                      <a:lnTo>
                        <a:pt x="1898" y="1886"/>
                      </a:lnTo>
                      <a:lnTo>
                        <a:pt x="1802" y="1812"/>
                      </a:lnTo>
                      <a:lnTo>
                        <a:pt x="1872" y="1748"/>
                      </a:lnTo>
                      <a:lnTo>
                        <a:pt x="2013" y="1722"/>
                      </a:lnTo>
                      <a:lnTo>
                        <a:pt x="2241" y="1739"/>
                      </a:lnTo>
                      <a:lnTo>
                        <a:pt x="2064" y="1634"/>
                      </a:lnTo>
                      <a:lnTo>
                        <a:pt x="1956" y="1501"/>
                      </a:lnTo>
                      <a:lnTo>
                        <a:pt x="1965" y="1404"/>
                      </a:lnTo>
                      <a:lnTo>
                        <a:pt x="2151" y="1307"/>
                      </a:lnTo>
                      <a:lnTo>
                        <a:pt x="2202" y="1168"/>
                      </a:lnTo>
                      <a:lnTo>
                        <a:pt x="2103" y="1215"/>
                      </a:lnTo>
                      <a:lnTo>
                        <a:pt x="1995" y="1210"/>
                      </a:lnTo>
                      <a:lnTo>
                        <a:pt x="1971" y="1168"/>
                      </a:lnTo>
                      <a:lnTo>
                        <a:pt x="2064" y="1075"/>
                      </a:lnTo>
                      <a:lnTo>
                        <a:pt x="1979" y="1071"/>
                      </a:lnTo>
                      <a:lnTo>
                        <a:pt x="1988" y="972"/>
                      </a:lnTo>
                      <a:lnTo>
                        <a:pt x="2028" y="832"/>
                      </a:lnTo>
                      <a:lnTo>
                        <a:pt x="2120" y="876"/>
                      </a:lnTo>
                      <a:lnTo>
                        <a:pt x="2151" y="963"/>
                      </a:lnTo>
                      <a:lnTo>
                        <a:pt x="2186" y="840"/>
                      </a:lnTo>
                      <a:lnTo>
                        <a:pt x="2145" y="537"/>
                      </a:lnTo>
                      <a:lnTo>
                        <a:pt x="2168" y="311"/>
                      </a:lnTo>
                      <a:lnTo>
                        <a:pt x="2094" y="645"/>
                      </a:lnTo>
                      <a:lnTo>
                        <a:pt x="1979" y="816"/>
                      </a:lnTo>
                      <a:lnTo>
                        <a:pt x="1760" y="1134"/>
                      </a:lnTo>
                      <a:lnTo>
                        <a:pt x="1608" y="1282"/>
                      </a:lnTo>
                      <a:lnTo>
                        <a:pt x="1398" y="1422"/>
                      </a:lnTo>
                      <a:lnTo>
                        <a:pt x="1331" y="1429"/>
                      </a:lnTo>
                      <a:lnTo>
                        <a:pt x="1398" y="1307"/>
                      </a:lnTo>
                      <a:lnTo>
                        <a:pt x="1430" y="1111"/>
                      </a:lnTo>
                      <a:lnTo>
                        <a:pt x="1446" y="800"/>
                      </a:lnTo>
                      <a:lnTo>
                        <a:pt x="1430" y="521"/>
                      </a:lnTo>
                      <a:lnTo>
                        <a:pt x="1398" y="269"/>
                      </a:lnTo>
                      <a:lnTo>
                        <a:pt x="1349" y="113"/>
                      </a:lnTo>
                      <a:lnTo>
                        <a:pt x="1241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4605840" y="5406120"/>
                  <a:ext cx="46800" cy="37080"/>
                </a:xfrm>
                <a:custGeom>
                  <a:avLst/>
                  <a:gdLst/>
                  <a:ahLst/>
                  <a:rect l="l" t="t" r="r" b="b"/>
                  <a:pathLst>
                    <a:path w="567" h="351">
                      <a:moveTo>
                        <a:pt x="129" y="0"/>
                      </a:moveTo>
                      <a:lnTo>
                        <a:pt x="198" y="72"/>
                      </a:lnTo>
                      <a:lnTo>
                        <a:pt x="173" y="162"/>
                      </a:lnTo>
                      <a:lnTo>
                        <a:pt x="237" y="114"/>
                      </a:lnTo>
                      <a:lnTo>
                        <a:pt x="261" y="251"/>
                      </a:lnTo>
                      <a:lnTo>
                        <a:pt x="355" y="169"/>
                      </a:lnTo>
                      <a:lnTo>
                        <a:pt x="426" y="219"/>
                      </a:lnTo>
                      <a:lnTo>
                        <a:pt x="375" y="268"/>
                      </a:lnTo>
                      <a:lnTo>
                        <a:pt x="417" y="327"/>
                      </a:lnTo>
                      <a:lnTo>
                        <a:pt x="507" y="309"/>
                      </a:lnTo>
                      <a:lnTo>
                        <a:pt x="567" y="351"/>
                      </a:lnTo>
                      <a:lnTo>
                        <a:pt x="204" y="351"/>
                      </a:lnTo>
                      <a:lnTo>
                        <a:pt x="0" y="196"/>
                      </a:lnTo>
                      <a:lnTo>
                        <a:pt x="23" y="37"/>
                      </a:lnTo>
                      <a:lnTo>
                        <a:pt x="129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4624200" y="5338080"/>
                  <a:ext cx="12960" cy="20880"/>
                </a:xfrm>
                <a:custGeom>
                  <a:avLst/>
                  <a:gdLst/>
                  <a:ahLst/>
                  <a:rect l="l" t="t" r="r" b="b"/>
                  <a:pathLst>
                    <a:path w="156" h="200">
                      <a:moveTo>
                        <a:pt x="0" y="79"/>
                      </a:moveTo>
                      <a:lnTo>
                        <a:pt x="81" y="79"/>
                      </a:lnTo>
                      <a:lnTo>
                        <a:pt x="74" y="137"/>
                      </a:lnTo>
                      <a:lnTo>
                        <a:pt x="18" y="128"/>
                      </a:lnTo>
                      <a:lnTo>
                        <a:pt x="127" y="200"/>
                      </a:lnTo>
                      <a:lnTo>
                        <a:pt x="156" y="0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4527360" y="5393160"/>
                  <a:ext cx="80280" cy="65880"/>
                </a:xfrm>
                <a:custGeom>
                  <a:avLst/>
                  <a:gdLst/>
                  <a:ahLst/>
                  <a:rect l="l" t="t" r="r" b="b"/>
                  <a:pathLst>
                    <a:path w="966" h="621">
                      <a:moveTo>
                        <a:pt x="0" y="237"/>
                      </a:moveTo>
                      <a:lnTo>
                        <a:pt x="70" y="310"/>
                      </a:lnTo>
                      <a:lnTo>
                        <a:pt x="138" y="432"/>
                      </a:lnTo>
                      <a:lnTo>
                        <a:pt x="171" y="545"/>
                      </a:lnTo>
                      <a:lnTo>
                        <a:pt x="303" y="621"/>
                      </a:lnTo>
                      <a:lnTo>
                        <a:pt x="484" y="596"/>
                      </a:lnTo>
                      <a:lnTo>
                        <a:pt x="681" y="561"/>
                      </a:lnTo>
                      <a:lnTo>
                        <a:pt x="966" y="450"/>
                      </a:lnTo>
                      <a:lnTo>
                        <a:pt x="966" y="220"/>
                      </a:lnTo>
                      <a:lnTo>
                        <a:pt x="910" y="81"/>
                      </a:lnTo>
                      <a:lnTo>
                        <a:pt x="562" y="0"/>
                      </a:lnTo>
                      <a:lnTo>
                        <a:pt x="244" y="160"/>
                      </a:lnTo>
                      <a:lnTo>
                        <a:pt x="0" y="23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4516920" y="5214240"/>
                  <a:ext cx="10440" cy="11880"/>
                </a:xfrm>
                <a:custGeom>
                  <a:avLst/>
                  <a:gdLst/>
                  <a:ahLst/>
                  <a:rect l="l" t="t" r="r" b="b"/>
                  <a:pathLst>
                    <a:path w="125" h="113">
                      <a:moveTo>
                        <a:pt x="90" y="0"/>
                      </a:moveTo>
                      <a:lnTo>
                        <a:pt x="33" y="14"/>
                      </a:lnTo>
                      <a:lnTo>
                        <a:pt x="0" y="69"/>
                      </a:lnTo>
                      <a:lnTo>
                        <a:pt x="42" y="113"/>
                      </a:lnTo>
                      <a:lnTo>
                        <a:pt x="99" y="113"/>
                      </a:lnTo>
                      <a:lnTo>
                        <a:pt x="125" y="78"/>
                      </a:lnTo>
                      <a:lnTo>
                        <a:pt x="125" y="30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4526280" y="528876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88" h="94">
                      <a:moveTo>
                        <a:pt x="82" y="21"/>
                      </a:moveTo>
                      <a:lnTo>
                        <a:pt x="55" y="0"/>
                      </a:lnTo>
                      <a:lnTo>
                        <a:pt x="7" y="12"/>
                      </a:lnTo>
                      <a:lnTo>
                        <a:pt x="0" y="69"/>
                      </a:lnTo>
                      <a:lnTo>
                        <a:pt x="42" y="94"/>
                      </a:lnTo>
                      <a:lnTo>
                        <a:pt x="88" y="69"/>
                      </a:lnTo>
                      <a:lnTo>
                        <a:pt x="82" y="21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4464360" y="4996440"/>
                  <a:ext cx="95400" cy="212760"/>
                </a:xfrm>
                <a:custGeom>
                  <a:avLst/>
                  <a:gdLst/>
                  <a:ahLst/>
                  <a:rect l="l" t="t" r="r" b="b"/>
                  <a:pathLst>
                    <a:path w="1157" h="2007">
                      <a:moveTo>
                        <a:pt x="35" y="1688"/>
                      </a:moveTo>
                      <a:lnTo>
                        <a:pt x="95" y="1780"/>
                      </a:lnTo>
                      <a:lnTo>
                        <a:pt x="251" y="1881"/>
                      </a:lnTo>
                      <a:lnTo>
                        <a:pt x="411" y="1937"/>
                      </a:lnTo>
                      <a:lnTo>
                        <a:pt x="596" y="1976"/>
                      </a:lnTo>
                      <a:lnTo>
                        <a:pt x="789" y="2007"/>
                      </a:lnTo>
                      <a:lnTo>
                        <a:pt x="895" y="1971"/>
                      </a:lnTo>
                      <a:lnTo>
                        <a:pt x="945" y="1911"/>
                      </a:lnTo>
                      <a:lnTo>
                        <a:pt x="956" y="1766"/>
                      </a:lnTo>
                      <a:lnTo>
                        <a:pt x="915" y="1577"/>
                      </a:lnTo>
                      <a:lnTo>
                        <a:pt x="875" y="1422"/>
                      </a:lnTo>
                      <a:lnTo>
                        <a:pt x="961" y="1317"/>
                      </a:lnTo>
                      <a:lnTo>
                        <a:pt x="1055" y="1143"/>
                      </a:lnTo>
                      <a:lnTo>
                        <a:pt x="1093" y="1009"/>
                      </a:lnTo>
                      <a:lnTo>
                        <a:pt x="1148" y="772"/>
                      </a:lnTo>
                      <a:lnTo>
                        <a:pt x="1157" y="648"/>
                      </a:lnTo>
                      <a:lnTo>
                        <a:pt x="1157" y="480"/>
                      </a:lnTo>
                      <a:lnTo>
                        <a:pt x="1125" y="231"/>
                      </a:lnTo>
                      <a:lnTo>
                        <a:pt x="994" y="14"/>
                      </a:lnTo>
                      <a:lnTo>
                        <a:pt x="411" y="0"/>
                      </a:lnTo>
                      <a:lnTo>
                        <a:pt x="129" y="378"/>
                      </a:lnTo>
                      <a:lnTo>
                        <a:pt x="0" y="576"/>
                      </a:lnTo>
                      <a:lnTo>
                        <a:pt x="5" y="733"/>
                      </a:lnTo>
                      <a:lnTo>
                        <a:pt x="69" y="1056"/>
                      </a:lnTo>
                      <a:lnTo>
                        <a:pt x="23" y="1568"/>
                      </a:lnTo>
                      <a:lnTo>
                        <a:pt x="35" y="1688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4469040" y="5087160"/>
                  <a:ext cx="10440" cy="24480"/>
                </a:xfrm>
                <a:custGeom>
                  <a:avLst/>
                  <a:gdLst/>
                  <a:ahLst/>
                  <a:rect l="l" t="t" r="r" b="b"/>
                  <a:pathLst>
                    <a:path w="129" h="233">
                      <a:moveTo>
                        <a:pt x="33" y="12"/>
                      </a:moveTo>
                      <a:lnTo>
                        <a:pt x="67" y="0"/>
                      </a:lnTo>
                      <a:lnTo>
                        <a:pt x="101" y="25"/>
                      </a:lnTo>
                      <a:lnTo>
                        <a:pt x="129" y="79"/>
                      </a:lnTo>
                      <a:lnTo>
                        <a:pt x="123" y="194"/>
                      </a:lnTo>
                      <a:lnTo>
                        <a:pt x="81" y="233"/>
                      </a:lnTo>
                      <a:lnTo>
                        <a:pt x="0" y="194"/>
                      </a:lnTo>
                      <a:lnTo>
                        <a:pt x="0" y="95"/>
                      </a:lnTo>
                      <a:lnTo>
                        <a:pt x="33" y="12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4555440" y="509400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44" h="123">
                      <a:moveTo>
                        <a:pt x="24" y="0"/>
                      </a:moveTo>
                      <a:lnTo>
                        <a:pt x="0" y="123"/>
                      </a:lnTo>
                      <a:lnTo>
                        <a:pt x="28" y="121"/>
                      </a:lnTo>
                      <a:lnTo>
                        <a:pt x="44" y="88"/>
                      </a:lnTo>
                      <a:lnTo>
                        <a:pt x="39" y="42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4079160" y="5182200"/>
                  <a:ext cx="433440" cy="410040"/>
                </a:xfrm>
                <a:custGeom>
                  <a:avLst/>
                  <a:gdLst/>
                  <a:ahLst/>
                  <a:rect l="l" t="t" r="r" b="b"/>
                  <a:pathLst>
                    <a:path w="5233" h="3878">
                      <a:moveTo>
                        <a:pt x="4452" y="3024"/>
                      </a:moveTo>
                      <a:lnTo>
                        <a:pt x="4030" y="2787"/>
                      </a:lnTo>
                      <a:lnTo>
                        <a:pt x="3672" y="2893"/>
                      </a:lnTo>
                      <a:lnTo>
                        <a:pt x="3525" y="2812"/>
                      </a:lnTo>
                      <a:lnTo>
                        <a:pt x="3052" y="2393"/>
                      </a:lnTo>
                      <a:lnTo>
                        <a:pt x="2947" y="3010"/>
                      </a:lnTo>
                      <a:lnTo>
                        <a:pt x="3131" y="3089"/>
                      </a:lnTo>
                      <a:lnTo>
                        <a:pt x="3356" y="2999"/>
                      </a:lnTo>
                      <a:lnTo>
                        <a:pt x="3608" y="3076"/>
                      </a:lnTo>
                      <a:lnTo>
                        <a:pt x="3790" y="3063"/>
                      </a:lnTo>
                      <a:lnTo>
                        <a:pt x="4318" y="3052"/>
                      </a:lnTo>
                      <a:lnTo>
                        <a:pt x="4468" y="3234"/>
                      </a:lnTo>
                      <a:lnTo>
                        <a:pt x="4410" y="3612"/>
                      </a:lnTo>
                      <a:lnTo>
                        <a:pt x="4336" y="3681"/>
                      </a:lnTo>
                      <a:lnTo>
                        <a:pt x="3845" y="3681"/>
                      </a:lnTo>
                      <a:lnTo>
                        <a:pt x="1901" y="3878"/>
                      </a:lnTo>
                      <a:lnTo>
                        <a:pt x="11" y="3654"/>
                      </a:lnTo>
                      <a:lnTo>
                        <a:pt x="0" y="1987"/>
                      </a:lnTo>
                      <a:lnTo>
                        <a:pt x="103" y="1510"/>
                      </a:lnTo>
                      <a:lnTo>
                        <a:pt x="304" y="1037"/>
                      </a:lnTo>
                      <a:lnTo>
                        <a:pt x="408" y="892"/>
                      </a:lnTo>
                      <a:lnTo>
                        <a:pt x="685" y="590"/>
                      </a:lnTo>
                      <a:lnTo>
                        <a:pt x="975" y="394"/>
                      </a:lnTo>
                      <a:lnTo>
                        <a:pt x="1213" y="248"/>
                      </a:lnTo>
                      <a:lnTo>
                        <a:pt x="1466" y="145"/>
                      </a:lnTo>
                      <a:lnTo>
                        <a:pt x="1572" y="0"/>
                      </a:lnTo>
                      <a:lnTo>
                        <a:pt x="2604" y="343"/>
                      </a:lnTo>
                      <a:lnTo>
                        <a:pt x="2747" y="514"/>
                      </a:lnTo>
                      <a:lnTo>
                        <a:pt x="2947" y="643"/>
                      </a:lnTo>
                      <a:lnTo>
                        <a:pt x="3172" y="828"/>
                      </a:lnTo>
                      <a:lnTo>
                        <a:pt x="3474" y="1210"/>
                      </a:lnTo>
                      <a:lnTo>
                        <a:pt x="4307" y="1995"/>
                      </a:lnTo>
                      <a:lnTo>
                        <a:pt x="4491" y="2079"/>
                      </a:lnTo>
                      <a:lnTo>
                        <a:pt x="4544" y="2236"/>
                      </a:lnTo>
                      <a:lnTo>
                        <a:pt x="4956" y="2340"/>
                      </a:lnTo>
                      <a:lnTo>
                        <a:pt x="5140" y="2551"/>
                      </a:lnTo>
                      <a:lnTo>
                        <a:pt x="5233" y="2812"/>
                      </a:lnTo>
                      <a:lnTo>
                        <a:pt x="4452" y="3024"/>
                      </a:lnTo>
                      <a:close/>
                    </a:path>
                  </a:pathLst>
                </a:custGeom>
                <a:solidFill>
                  <a:srgbClr val="00e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4512960" y="5410080"/>
                  <a:ext cx="66960" cy="134640"/>
                </a:xfrm>
                <a:custGeom>
                  <a:avLst/>
                  <a:gdLst/>
                  <a:ahLst/>
                  <a:rect l="l" t="t" r="r" b="b"/>
                  <a:pathLst>
                    <a:path w="803" h="1268">
                      <a:moveTo>
                        <a:pt x="0" y="23"/>
                      </a:moveTo>
                      <a:lnTo>
                        <a:pt x="0" y="44"/>
                      </a:lnTo>
                      <a:lnTo>
                        <a:pt x="12" y="69"/>
                      </a:lnTo>
                      <a:lnTo>
                        <a:pt x="708" y="1183"/>
                      </a:lnTo>
                      <a:lnTo>
                        <a:pt x="803" y="1268"/>
                      </a:lnTo>
                      <a:lnTo>
                        <a:pt x="759" y="1139"/>
                      </a:lnTo>
                      <a:lnTo>
                        <a:pt x="61" y="5"/>
                      </a:lnTo>
                      <a:lnTo>
                        <a:pt x="1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4462560" y="5468040"/>
                  <a:ext cx="100080" cy="81000"/>
                </a:xfrm>
                <a:custGeom>
                  <a:avLst/>
                  <a:gdLst/>
                  <a:ahLst/>
                  <a:rect l="l" t="t" r="r" b="b"/>
                  <a:pathLst>
                    <a:path w="1202" h="775">
                      <a:moveTo>
                        <a:pt x="0" y="289"/>
                      </a:moveTo>
                      <a:lnTo>
                        <a:pt x="63" y="132"/>
                      </a:lnTo>
                      <a:lnTo>
                        <a:pt x="182" y="66"/>
                      </a:lnTo>
                      <a:lnTo>
                        <a:pt x="287" y="81"/>
                      </a:lnTo>
                      <a:lnTo>
                        <a:pt x="487" y="118"/>
                      </a:lnTo>
                      <a:lnTo>
                        <a:pt x="607" y="28"/>
                      </a:lnTo>
                      <a:lnTo>
                        <a:pt x="709" y="0"/>
                      </a:lnTo>
                      <a:lnTo>
                        <a:pt x="1147" y="66"/>
                      </a:lnTo>
                      <a:lnTo>
                        <a:pt x="1188" y="171"/>
                      </a:lnTo>
                      <a:lnTo>
                        <a:pt x="1135" y="199"/>
                      </a:lnTo>
                      <a:lnTo>
                        <a:pt x="793" y="224"/>
                      </a:lnTo>
                      <a:lnTo>
                        <a:pt x="1162" y="382"/>
                      </a:lnTo>
                      <a:lnTo>
                        <a:pt x="1202" y="475"/>
                      </a:lnTo>
                      <a:lnTo>
                        <a:pt x="1174" y="552"/>
                      </a:lnTo>
                      <a:lnTo>
                        <a:pt x="1068" y="630"/>
                      </a:lnTo>
                      <a:lnTo>
                        <a:pt x="1029" y="738"/>
                      </a:lnTo>
                      <a:lnTo>
                        <a:pt x="709" y="775"/>
                      </a:lnTo>
                      <a:lnTo>
                        <a:pt x="130" y="710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4204080" y="5069520"/>
                  <a:ext cx="135720" cy="202320"/>
                </a:xfrm>
                <a:custGeom>
                  <a:avLst/>
                  <a:gdLst/>
                  <a:ahLst/>
                  <a:rect l="l" t="t" r="r" b="b"/>
                  <a:pathLst>
                    <a:path w="1639" h="1907">
                      <a:moveTo>
                        <a:pt x="0" y="538"/>
                      </a:moveTo>
                      <a:lnTo>
                        <a:pt x="53" y="850"/>
                      </a:lnTo>
                      <a:lnTo>
                        <a:pt x="73" y="949"/>
                      </a:lnTo>
                      <a:lnTo>
                        <a:pt x="127" y="1008"/>
                      </a:lnTo>
                      <a:lnTo>
                        <a:pt x="99" y="1109"/>
                      </a:lnTo>
                      <a:lnTo>
                        <a:pt x="154" y="1217"/>
                      </a:lnTo>
                      <a:lnTo>
                        <a:pt x="207" y="1305"/>
                      </a:lnTo>
                      <a:lnTo>
                        <a:pt x="272" y="1409"/>
                      </a:lnTo>
                      <a:lnTo>
                        <a:pt x="495" y="1599"/>
                      </a:lnTo>
                      <a:lnTo>
                        <a:pt x="784" y="1907"/>
                      </a:lnTo>
                      <a:lnTo>
                        <a:pt x="822" y="1859"/>
                      </a:lnTo>
                      <a:lnTo>
                        <a:pt x="881" y="1736"/>
                      </a:lnTo>
                      <a:lnTo>
                        <a:pt x="905" y="1598"/>
                      </a:lnTo>
                      <a:lnTo>
                        <a:pt x="1030" y="1630"/>
                      </a:lnTo>
                      <a:lnTo>
                        <a:pt x="1155" y="1617"/>
                      </a:lnTo>
                      <a:lnTo>
                        <a:pt x="1213" y="1584"/>
                      </a:lnTo>
                      <a:lnTo>
                        <a:pt x="1270" y="1522"/>
                      </a:lnTo>
                      <a:lnTo>
                        <a:pt x="1429" y="1179"/>
                      </a:lnTo>
                      <a:lnTo>
                        <a:pt x="1510" y="1077"/>
                      </a:lnTo>
                      <a:lnTo>
                        <a:pt x="1572" y="905"/>
                      </a:lnTo>
                      <a:lnTo>
                        <a:pt x="1586" y="718"/>
                      </a:lnTo>
                      <a:lnTo>
                        <a:pt x="1618" y="632"/>
                      </a:lnTo>
                      <a:lnTo>
                        <a:pt x="1635" y="575"/>
                      </a:lnTo>
                      <a:lnTo>
                        <a:pt x="1639" y="261"/>
                      </a:lnTo>
                      <a:lnTo>
                        <a:pt x="1609" y="118"/>
                      </a:lnTo>
                      <a:lnTo>
                        <a:pt x="1540" y="0"/>
                      </a:lnTo>
                      <a:lnTo>
                        <a:pt x="207" y="155"/>
                      </a:lnTo>
                      <a:lnTo>
                        <a:pt x="0" y="538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4262400" y="5280480"/>
                  <a:ext cx="30240" cy="204120"/>
                </a:xfrm>
                <a:custGeom>
                  <a:avLst/>
                  <a:gdLst/>
                  <a:ahLst/>
                  <a:rect l="l" t="t" r="r" b="b"/>
                  <a:pathLst>
                    <a:path w="369" h="1920">
                      <a:moveTo>
                        <a:pt x="92" y="0"/>
                      </a:moveTo>
                      <a:lnTo>
                        <a:pt x="40" y="52"/>
                      </a:lnTo>
                      <a:lnTo>
                        <a:pt x="0" y="142"/>
                      </a:lnTo>
                      <a:lnTo>
                        <a:pt x="27" y="313"/>
                      </a:lnTo>
                      <a:lnTo>
                        <a:pt x="14" y="973"/>
                      </a:lnTo>
                      <a:lnTo>
                        <a:pt x="40" y="1433"/>
                      </a:lnTo>
                      <a:lnTo>
                        <a:pt x="119" y="1920"/>
                      </a:lnTo>
                      <a:lnTo>
                        <a:pt x="200" y="1920"/>
                      </a:lnTo>
                      <a:lnTo>
                        <a:pt x="319" y="1920"/>
                      </a:lnTo>
                      <a:lnTo>
                        <a:pt x="369" y="1841"/>
                      </a:lnTo>
                      <a:lnTo>
                        <a:pt x="263" y="1498"/>
                      </a:lnTo>
                      <a:lnTo>
                        <a:pt x="212" y="1169"/>
                      </a:lnTo>
                      <a:lnTo>
                        <a:pt x="200" y="776"/>
                      </a:lnTo>
                      <a:lnTo>
                        <a:pt x="159" y="313"/>
                      </a:lnTo>
                      <a:lnTo>
                        <a:pt x="185" y="211"/>
                      </a:lnTo>
                      <a:lnTo>
                        <a:pt x="159" y="66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4277520" y="5017680"/>
                  <a:ext cx="75600" cy="99000"/>
                </a:xfrm>
                <a:custGeom>
                  <a:avLst/>
                  <a:gdLst/>
                  <a:ahLst/>
                  <a:rect l="l" t="t" r="r" b="b"/>
                  <a:pathLst>
                    <a:path w="914" h="936">
                      <a:moveTo>
                        <a:pt x="635" y="499"/>
                      </a:moveTo>
                      <a:lnTo>
                        <a:pt x="714" y="607"/>
                      </a:lnTo>
                      <a:lnTo>
                        <a:pt x="844" y="936"/>
                      </a:lnTo>
                      <a:lnTo>
                        <a:pt x="899" y="855"/>
                      </a:lnTo>
                      <a:lnTo>
                        <a:pt x="914" y="581"/>
                      </a:lnTo>
                      <a:lnTo>
                        <a:pt x="914" y="510"/>
                      </a:lnTo>
                      <a:lnTo>
                        <a:pt x="859" y="462"/>
                      </a:lnTo>
                      <a:lnTo>
                        <a:pt x="767" y="381"/>
                      </a:lnTo>
                      <a:lnTo>
                        <a:pt x="686" y="224"/>
                      </a:lnTo>
                      <a:lnTo>
                        <a:pt x="541" y="79"/>
                      </a:lnTo>
                      <a:lnTo>
                        <a:pt x="356" y="40"/>
                      </a:lnTo>
                      <a:lnTo>
                        <a:pt x="145" y="0"/>
                      </a:lnTo>
                      <a:lnTo>
                        <a:pt x="0" y="51"/>
                      </a:lnTo>
                      <a:lnTo>
                        <a:pt x="15" y="593"/>
                      </a:lnTo>
                      <a:lnTo>
                        <a:pt x="635" y="499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4268880" y="5124600"/>
                  <a:ext cx="20160" cy="10080"/>
                </a:xfrm>
                <a:custGeom>
                  <a:avLst/>
                  <a:gdLst/>
                  <a:ahLst/>
                  <a:rect l="l" t="t" r="r" b="b"/>
                  <a:pathLst>
                    <a:path w="251" h="93">
                      <a:moveTo>
                        <a:pt x="0" y="55"/>
                      </a:moveTo>
                      <a:lnTo>
                        <a:pt x="147" y="70"/>
                      </a:lnTo>
                      <a:lnTo>
                        <a:pt x="251" y="93"/>
                      </a:lnTo>
                      <a:lnTo>
                        <a:pt x="196" y="0"/>
                      </a:lnTo>
                      <a:lnTo>
                        <a:pt x="53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4316040" y="5136480"/>
                  <a:ext cx="15120" cy="11520"/>
                </a:xfrm>
                <a:custGeom>
                  <a:avLst/>
                  <a:gdLst/>
                  <a:ahLst/>
                  <a:rect l="l" t="t" r="r" b="b"/>
                  <a:pathLst>
                    <a:path w="183" h="119">
                      <a:moveTo>
                        <a:pt x="0" y="66"/>
                      </a:moveTo>
                      <a:lnTo>
                        <a:pt x="106" y="119"/>
                      </a:lnTo>
                      <a:lnTo>
                        <a:pt x="183" y="105"/>
                      </a:lnTo>
                      <a:lnTo>
                        <a:pt x="172" y="77"/>
                      </a:lnTo>
                      <a:lnTo>
                        <a:pt x="37" y="0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4494240" y="506340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218" h="86">
                      <a:moveTo>
                        <a:pt x="0" y="14"/>
                      </a:moveTo>
                      <a:lnTo>
                        <a:pt x="62" y="60"/>
                      </a:lnTo>
                      <a:lnTo>
                        <a:pt x="97" y="86"/>
                      </a:lnTo>
                      <a:lnTo>
                        <a:pt x="181" y="86"/>
                      </a:lnTo>
                      <a:lnTo>
                        <a:pt x="218" y="58"/>
                      </a:lnTo>
                      <a:lnTo>
                        <a:pt x="177" y="9"/>
                      </a:lnTo>
                      <a:lnTo>
                        <a:pt x="103" y="0"/>
                      </a:lnTo>
                      <a:lnTo>
                        <a:pt x="20" y="9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4533480" y="506700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216" h="83">
                      <a:moveTo>
                        <a:pt x="0" y="48"/>
                      </a:moveTo>
                      <a:lnTo>
                        <a:pt x="50" y="7"/>
                      </a:lnTo>
                      <a:lnTo>
                        <a:pt x="130" y="0"/>
                      </a:lnTo>
                      <a:lnTo>
                        <a:pt x="216" y="35"/>
                      </a:lnTo>
                      <a:lnTo>
                        <a:pt x="163" y="66"/>
                      </a:lnTo>
                      <a:lnTo>
                        <a:pt x="121" y="81"/>
                      </a:lnTo>
                      <a:lnTo>
                        <a:pt x="75" y="83"/>
                      </a:lnTo>
                      <a:lnTo>
                        <a:pt x="18" y="6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4506840" y="5118480"/>
                  <a:ext cx="28080" cy="7560"/>
                </a:xfrm>
                <a:custGeom>
                  <a:avLst/>
                  <a:gdLst/>
                  <a:ahLst/>
                  <a:rect l="l" t="t" r="r" b="b"/>
                  <a:pathLst>
                    <a:path w="350" h="67">
                      <a:moveTo>
                        <a:pt x="0" y="4"/>
                      </a:moveTo>
                      <a:lnTo>
                        <a:pt x="82" y="50"/>
                      </a:lnTo>
                      <a:lnTo>
                        <a:pt x="203" y="67"/>
                      </a:lnTo>
                      <a:lnTo>
                        <a:pt x="260" y="65"/>
                      </a:lnTo>
                      <a:lnTo>
                        <a:pt x="299" y="46"/>
                      </a:lnTo>
                      <a:lnTo>
                        <a:pt x="332" y="21"/>
                      </a:lnTo>
                      <a:lnTo>
                        <a:pt x="350" y="0"/>
                      </a:lnTo>
                      <a:lnTo>
                        <a:pt x="249" y="6"/>
                      </a:lnTo>
                      <a:lnTo>
                        <a:pt x="194" y="14"/>
                      </a:lnTo>
                      <a:lnTo>
                        <a:pt x="108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4987440" y="5149080"/>
                  <a:ext cx="391680" cy="442440"/>
                </a:xfrm>
                <a:custGeom>
                  <a:avLst/>
                  <a:gdLst/>
                  <a:ahLst/>
                  <a:rect l="l" t="t" r="r" b="b"/>
                  <a:pathLst>
                    <a:path w="4729" h="4178">
                      <a:moveTo>
                        <a:pt x="602" y="3182"/>
                      </a:moveTo>
                      <a:lnTo>
                        <a:pt x="1411" y="2760"/>
                      </a:lnTo>
                      <a:lnTo>
                        <a:pt x="1677" y="2463"/>
                      </a:lnTo>
                      <a:lnTo>
                        <a:pt x="1928" y="3087"/>
                      </a:lnTo>
                      <a:lnTo>
                        <a:pt x="1940" y="3300"/>
                      </a:lnTo>
                      <a:lnTo>
                        <a:pt x="1846" y="3325"/>
                      </a:lnTo>
                      <a:lnTo>
                        <a:pt x="1640" y="3288"/>
                      </a:lnTo>
                      <a:lnTo>
                        <a:pt x="1486" y="3279"/>
                      </a:lnTo>
                      <a:lnTo>
                        <a:pt x="1398" y="3241"/>
                      </a:lnTo>
                      <a:lnTo>
                        <a:pt x="1218" y="3265"/>
                      </a:lnTo>
                      <a:lnTo>
                        <a:pt x="1050" y="3230"/>
                      </a:lnTo>
                      <a:lnTo>
                        <a:pt x="844" y="3168"/>
                      </a:lnTo>
                      <a:lnTo>
                        <a:pt x="672" y="3254"/>
                      </a:lnTo>
                      <a:lnTo>
                        <a:pt x="541" y="3491"/>
                      </a:lnTo>
                      <a:lnTo>
                        <a:pt x="640" y="3841"/>
                      </a:lnTo>
                      <a:lnTo>
                        <a:pt x="1070" y="3903"/>
                      </a:lnTo>
                      <a:lnTo>
                        <a:pt x="1640" y="4032"/>
                      </a:lnTo>
                      <a:lnTo>
                        <a:pt x="2013" y="4139"/>
                      </a:lnTo>
                      <a:lnTo>
                        <a:pt x="2919" y="4178"/>
                      </a:lnTo>
                      <a:lnTo>
                        <a:pt x="3270" y="4153"/>
                      </a:lnTo>
                      <a:lnTo>
                        <a:pt x="3620" y="4056"/>
                      </a:lnTo>
                      <a:lnTo>
                        <a:pt x="4667" y="2951"/>
                      </a:lnTo>
                      <a:lnTo>
                        <a:pt x="4729" y="1824"/>
                      </a:lnTo>
                      <a:lnTo>
                        <a:pt x="4584" y="1298"/>
                      </a:lnTo>
                      <a:lnTo>
                        <a:pt x="4425" y="1019"/>
                      </a:lnTo>
                      <a:lnTo>
                        <a:pt x="4138" y="639"/>
                      </a:lnTo>
                      <a:lnTo>
                        <a:pt x="3595" y="384"/>
                      </a:lnTo>
                      <a:lnTo>
                        <a:pt x="3450" y="422"/>
                      </a:lnTo>
                      <a:lnTo>
                        <a:pt x="3342" y="362"/>
                      </a:lnTo>
                      <a:lnTo>
                        <a:pt x="3256" y="194"/>
                      </a:lnTo>
                      <a:lnTo>
                        <a:pt x="3053" y="121"/>
                      </a:lnTo>
                      <a:lnTo>
                        <a:pt x="2872" y="0"/>
                      </a:lnTo>
                      <a:lnTo>
                        <a:pt x="2666" y="12"/>
                      </a:lnTo>
                      <a:lnTo>
                        <a:pt x="1709" y="602"/>
                      </a:lnTo>
                      <a:lnTo>
                        <a:pt x="1558" y="720"/>
                      </a:lnTo>
                      <a:lnTo>
                        <a:pt x="1460" y="817"/>
                      </a:lnTo>
                      <a:lnTo>
                        <a:pt x="1281" y="911"/>
                      </a:lnTo>
                      <a:lnTo>
                        <a:pt x="1070" y="1503"/>
                      </a:lnTo>
                      <a:lnTo>
                        <a:pt x="1064" y="1702"/>
                      </a:lnTo>
                      <a:lnTo>
                        <a:pt x="989" y="1979"/>
                      </a:lnTo>
                      <a:lnTo>
                        <a:pt x="808" y="2039"/>
                      </a:lnTo>
                      <a:lnTo>
                        <a:pt x="723" y="2136"/>
                      </a:lnTo>
                      <a:lnTo>
                        <a:pt x="699" y="2259"/>
                      </a:lnTo>
                      <a:lnTo>
                        <a:pt x="578" y="2377"/>
                      </a:lnTo>
                      <a:lnTo>
                        <a:pt x="240" y="2606"/>
                      </a:lnTo>
                      <a:lnTo>
                        <a:pt x="0" y="2917"/>
                      </a:lnTo>
                      <a:lnTo>
                        <a:pt x="277" y="3145"/>
                      </a:lnTo>
                      <a:lnTo>
                        <a:pt x="602" y="3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5027400" y="5262840"/>
                  <a:ext cx="115200" cy="230400"/>
                </a:xfrm>
                <a:custGeom>
                  <a:avLst/>
                  <a:gdLst/>
                  <a:ahLst/>
                  <a:rect l="l" t="t" r="r" b="b"/>
                  <a:pathLst>
                    <a:path w="1387" h="2184">
                      <a:moveTo>
                        <a:pt x="691" y="312"/>
                      </a:moveTo>
                      <a:lnTo>
                        <a:pt x="679" y="433"/>
                      </a:lnTo>
                      <a:lnTo>
                        <a:pt x="712" y="479"/>
                      </a:lnTo>
                      <a:lnTo>
                        <a:pt x="807" y="528"/>
                      </a:lnTo>
                      <a:lnTo>
                        <a:pt x="859" y="578"/>
                      </a:lnTo>
                      <a:lnTo>
                        <a:pt x="859" y="683"/>
                      </a:lnTo>
                      <a:lnTo>
                        <a:pt x="664" y="731"/>
                      </a:lnTo>
                      <a:lnTo>
                        <a:pt x="605" y="731"/>
                      </a:lnTo>
                      <a:lnTo>
                        <a:pt x="555" y="671"/>
                      </a:lnTo>
                      <a:lnTo>
                        <a:pt x="508" y="899"/>
                      </a:lnTo>
                      <a:lnTo>
                        <a:pt x="290" y="1031"/>
                      </a:lnTo>
                      <a:lnTo>
                        <a:pt x="664" y="899"/>
                      </a:lnTo>
                      <a:lnTo>
                        <a:pt x="749" y="899"/>
                      </a:lnTo>
                      <a:lnTo>
                        <a:pt x="712" y="945"/>
                      </a:lnTo>
                      <a:lnTo>
                        <a:pt x="447" y="1103"/>
                      </a:lnTo>
                      <a:lnTo>
                        <a:pt x="726" y="1103"/>
                      </a:lnTo>
                      <a:lnTo>
                        <a:pt x="737" y="1213"/>
                      </a:lnTo>
                      <a:lnTo>
                        <a:pt x="133" y="1273"/>
                      </a:lnTo>
                      <a:lnTo>
                        <a:pt x="0" y="1369"/>
                      </a:lnTo>
                      <a:lnTo>
                        <a:pt x="170" y="1426"/>
                      </a:lnTo>
                      <a:lnTo>
                        <a:pt x="279" y="1525"/>
                      </a:lnTo>
                      <a:lnTo>
                        <a:pt x="290" y="1593"/>
                      </a:lnTo>
                      <a:lnTo>
                        <a:pt x="181" y="1690"/>
                      </a:lnTo>
                      <a:lnTo>
                        <a:pt x="181" y="1810"/>
                      </a:lnTo>
                      <a:lnTo>
                        <a:pt x="242" y="1932"/>
                      </a:lnTo>
                      <a:lnTo>
                        <a:pt x="84" y="2075"/>
                      </a:lnTo>
                      <a:lnTo>
                        <a:pt x="218" y="2184"/>
                      </a:lnTo>
                      <a:lnTo>
                        <a:pt x="373" y="2098"/>
                      </a:lnTo>
                      <a:lnTo>
                        <a:pt x="472" y="2123"/>
                      </a:lnTo>
                      <a:lnTo>
                        <a:pt x="679" y="1964"/>
                      </a:lnTo>
                      <a:lnTo>
                        <a:pt x="989" y="1630"/>
                      </a:lnTo>
                      <a:lnTo>
                        <a:pt x="1207" y="1379"/>
                      </a:lnTo>
                      <a:lnTo>
                        <a:pt x="1350" y="1752"/>
                      </a:lnTo>
                      <a:lnTo>
                        <a:pt x="1387" y="1358"/>
                      </a:lnTo>
                      <a:lnTo>
                        <a:pt x="1387" y="1199"/>
                      </a:lnTo>
                      <a:lnTo>
                        <a:pt x="1242" y="1093"/>
                      </a:lnTo>
                      <a:lnTo>
                        <a:pt x="1122" y="923"/>
                      </a:lnTo>
                      <a:lnTo>
                        <a:pt x="1014" y="740"/>
                      </a:lnTo>
                      <a:lnTo>
                        <a:pt x="930" y="528"/>
                      </a:lnTo>
                      <a:lnTo>
                        <a:pt x="834" y="228"/>
                      </a:lnTo>
                      <a:lnTo>
                        <a:pt x="800" y="0"/>
                      </a:lnTo>
                      <a:lnTo>
                        <a:pt x="700" y="215"/>
                      </a:lnTo>
                      <a:lnTo>
                        <a:pt x="691" y="312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5085720" y="5264280"/>
                  <a:ext cx="236520" cy="331560"/>
                </a:xfrm>
                <a:custGeom>
                  <a:avLst/>
                  <a:gdLst/>
                  <a:ahLst/>
                  <a:rect l="l" t="t" r="r" b="b"/>
                  <a:pathLst>
                    <a:path w="2861" h="3124">
                      <a:moveTo>
                        <a:pt x="988" y="1321"/>
                      </a:moveTo>
                      <a:lnTo>
                        <a:pt x="1377" y="1443"/>
                      </a:lnTo>
                      <a:lnTo>
                        <a:pt x="1691" y="1504"/>
                      </a:lnTo>
                      <a:lnTo>
                        <a:pt x="1909" y="1095"/>
                      </a:lnTo>
                      <a:lnTo>
                        <a:pt x="1895" y="698"/>
                      </a:lnTo>
                      <a:lnTo>
                        <a:pt x="2146" y="231"/>
                      </a:lnTo>
                      <a:lnTo>
                        <a:pt x="2642" y="0"/>
                      </a:lnTo>
                      <a:lnTo>
                        <a:pt x="2232" y="399"/>
                      </a:lnTo>
                      <a:lnTo>
                        <a:pt x="2111" y="770"/>
                      </a:lnTo>
                      <a:lnTo>
                        <a:pt x="2111" y="1168"/>
                      </a:lnTo>
                      <a:lnTo>
                        <a:pt x="2350" y="985"/>
                      </a:lnTo>
                      <a:lnTo>
                        <a:pt x="2665" y="627"/>
                      </a:lnTo>
                      <a:lnTo>
                        <a:pt x="2861" y="420"/>
                      </a:lnTo>
                      <a:lnTo>
                        <a:pt x="2861" y="590"/>
                      </a:lnTo>
                      <a:lnTo>
                        <a:pt x="2642" y="1010"/>
                      </a:lnTo>
                      <a:lnTo>
                        <a:pt x="2280" y="1478"/>
                      </a:lnTo>
                      <a:lnTo>
                        <a:pt x="1981" y="1741"/>
                      </a:lnTo>
                      <a:lnTo>
                        <a:pt x="1773" y="1838"/>
                      </a:lnTo>
                      <a:lnTo>
                        <a:pt x="1773" y="1959"/>
                      </a:lnTo>
                      <a:lnTo>
                        <a:pt x="1918" y="2188"/>
                      </a:lnTo>
                      <a:lnTo>
                        <a:pt x="2063" y="2545"/>
                      </a:lnTo>
                      <a:lnTo>
                        <a:pt x="1955" y="2451"/>
                      </a:lnTo>
                      <a:lnTo>
                        <a:pt x="1836" y="2333"/>
                      </a:lnTo>
                      <a:lnTo>
                        <a:pt x="1665" y="2257"/>
                      </a:lnTo>
                      <a:lnTo>
                        <a:pt x="1508" y="2222"/>
                      </a:lnTo>
                      <a:lnTo>
                        <a:pt x="1388" y="2197"/>
                      </a:lnTo>
                      <a:lnTo>
                        <a:pt x="1460" y="2429"/>
                      </a:lnTo>
                      <a:lnTo>
                        <a:pt x="1691" y="2621"/>
                      </a:lnTo>
                      <a:lnTo>
                        <a:pt x="1872" y="2725"/>
                      </a:lnTo>
                      <a:lnTo>
                        <a:pt x="1785" y="2534"/>
                      </a:lnTo>
                      <a:lnTo>
                        <a:pt x="1981" y="2582"/>
                      </a:lnTo>
                      <a:lnTo>
                        <a:pt x="2052" y="2750"/>
                      </a:lnTo>
                      <a:lnTo>
                        <a:pt x="2025" y="2978"/>
                      </a:lnTo>
                      <a:lnTo>
                        <a:pt x="1895" y="3110"/>
                      </a:lnTo>
                      <a:lnTo>
                        <a:pt x="1665" y="3124"/>
                      </a:lnTo>
                      <a:lnTo>
                        <a:pt x="1425" y="3001"/>
                      </a:lnTo>
                      <a:lnTo>
                        <a:pt x="1326" y="2796"/>
                      </a:lnTo>
                      <a:lnTo>
                        <a:pt x="1181" y="2400"/>
                      </a:lnTo>
                      <a:lnTo>
                        <a:pt x="988" y="2284"/>
                      </a:lnTo>
                      <a:lnTo>
                        <a:pt x="485" y="2391"/>
                      </a:lnTo>
                      <a:lnTo>
                        <a:pt x="171" y="2568"/>
                      </a:lnTo>
                      <a:lnTo>
                        <a:pt x="134" y="2499"/>
                      </a:lnTo>
                      <a:lnTo>
                        <a:pt x="217" y="2319"/>
                      </a:lnTo>
                      <a:lnTo>
                        <a:pt x="0" y="2400"/>
                      </a:lnTo>
                      <a:lnTo>
                        <a:pt x="87" y="2271"/>
                      </a:lnTo>
                      <a:lnTo>
                        <a:pt x="362" y="2197"/>
                      </a:lnTo>
                      <a:lnTo>
                        <a:pt x="558" y="2222"/>
                      </a:lnTo>
                      <a:lnTo>
                        <a:pt x="676" y="2234"/>
                      </a:lnTo>
                      <a:lnTo>
                        <a:pt x="950" y="2174"/>
                      </a:lnTo>
                      <a:lnTo>
                        <a:pt x="988" y="1321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5162760" y="5263560"/>
                  <a:ext cx="41760" cy="150840"/>
                </a:xfrm>
                <a:custGeom>
                  <a:avLst/>
                  <a:gdLst/>
                  <a:ahLst/>
                  <a:rect l="l" t="t" r="r" b="b"/>
                  <a:pathLst>
                    <a:path w="507" h="1428">
                      <a:moveTo>
                        <a:pt x="143" y="1404"/>
                      </a:moveTo>
                      <a:lnTo>
                        <a:pt x="180" y="1130"/>
                      </a:lnTo>
                      <a:lnTo>
                        <a:pt x="242" y="780"/>
                      </a:lnTo>
                      <a:lnTo>
                        <a:pt x="242" y="613"/>
                      </a:lnTo>
                      <a:lnTo>
                        <a:pt x="194" y="446"/>
                      </a:lnTo>
                      <a:lnTo>
                        <a:pt x="206" y="312"/>
                      </a:lnTo>
                      <a:lnTo>
                        <a:pt x="266" y="134"/>
                      </a:lnTo>
                      <a:lnTo>
                        <a:pt x="507" y="158"/>
                      </a:lnTo>
                      <a:lnTo>
                        <a:pt x="143" y="0"/>
                      </a:lnTo>
                      <a:lnTo>
                        <a:pt x="0" y="325"/>
                      </a:lnTo>
                      <a:lnTo>
                        <a:pt x="21" y="1428"/>
                      </a:lnTo>
                      <a:lnTo>
                        <a:pt x="143" y="1404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5214240" y="5147280"/>
                  <a:ext cx="164880" cy="452520"/>
                </a:xfrm>
                <a:custGeom>
                  <a:avLst/>
                  <a:gdLst/>
                  <a:ahLst/>
                  <a:rect l="l" t="t" r="r" b="b"/>
                  <a:pathLst>
                    <a:path w="1991" h="4272">
                      <a:moveTo>
                        <a:pt x="48" y="182"/>
                      </a:moveTo>
                      <a:lnTo>
                        <a:pt x="181" y="445"/>
                      </a:lnTo>
                      <a:lnTo>
                        <a:pt x="134" y="922"/>
                      </a:lnTo>
                      <a:lnTo>
                        <a:pt x="325" y="240"/>
                      </a:lnTo>
                      <a:lnTo>
                        <a:pt x="409" y="217"/>
                      </a:lnTo>
                      <a:lnTo>
                        <a:pt x="495" y="339"/>
                      </a:lnTo>
                      <a:lnTo>
                        <a:pt x="468" y="468"/>
                      </a:lnTo>
                      <a:lnTo>
                        <a:pt x="371" y="694"/>
                      </a:lnTo>
                      <a:lnTo>
                        <a:pt x="543" y="519"/>
                      </a:lnTo>
                      <a:lnTo>
                        <a:pt x="613" y="540"/>
                      </a:lnTo>
                      <a:lnTo>
                        <a:pt x="251" y="1092"/>
                      </a:lnTo>
                      <a:lnTo>
                        <a:pt x="903" y="481"/>
                      </a:lnTo>
                      <a:lnTo>
                        <a:pt x="1304" y="661"/>
                      </a:lnTo>
                      <a:lnTo>
                        <a:pt x="1387" y="936"/>
                      </a:lnTo>
                      <a:lnTo>
                        <a:pt x="1664" y="1189"/>
                      </a:lnTo>
                      <a:lnTo>
                        <a:pt x="1687" y="1452"/>
                      </a:lnTo>
                      <a:lnTo>
                        <a:pt x="1822" y="1659"/>
                      </a:lnTo>
                      <a:lnTo>
                        <a:pt x="1738" y="1909"/>
                      </a:lnTo>
                      <a:lnTo>
                        <a:pt x="1422" y="2038"/>
                      </a:lnTo>
                      <a:lnTo>
                        <a:pt x="1433" y="2138"/>
                      </a:lnTo>
                      <a:lnTo>
                        <a:pt x="1712" y="2366"/>
                      </a:lnTo>
                      <a:lnTo>
                        <a:pt x="1496" y="2388"/>
                      </a:lnTo>
                      <a:lnTo>
                        <a:pt x="1253" y="2280"/>
                      </a:lnTo>
                      <a:lnTo>
                        <a:pt x="1747" y="2748"/>
                      </a:lnTo>
                      <a:lnTo>
                        <a:pt x="1687" y="2806"/>
                      </a:lnTo>
                      <a:lnTo>
                        <a:pt x="1350" y="2748"/>
                      </a:lnTo>
                      <a:lnTo>
                        <a:pt x="1350" y="3061"/>
                      </a:lnTo>
                      <a:lnTo>
                        <a:pt x="1182" y="3252"/>
                      </a:lnTo>
                      <a:lnTo>
                        <a:pt x="1073" y="3156"/>
                      </a:lnTo>
                      <a:lnTo>
                        <a:pt x="806" y="3636"/>
                      </a:lnTo>
                      <a:lnTo>
                        <a:pt x="506" y="3898"/>
                      </a:lnTo>
                      <a:lnTo>
                        <a:pt x="387" y="4199"/>
                      </a:lnTo>
                      <a:lnTo>
                        <a:pt x="481" y="4272"/>
                      </a:lnTo>
                      <a:lnTo>
                        <a:pt x="1290" y="3995"/>
                      </a:lnTo>
                      <a:lnTo>
                        <a:pt x="1991" y="2833"/>
                      </a:lnTo>
                      <a:lnTo>
                        <a:pt x="1991" y="1821"/>
                      </a:lnTo>
                      <a:lnTo>
                        <a:pt x="1798" y="1199"/>
                      </a:lnTo>
                      <a:lnTo>
                        <a:pt x="1653" y="947"/>
                      </a:lnTo>
                      <a:lnTo>
                        <a:pt x="1521" y="828"/>
                      </a:lnTo>
                      <a:lnTo>
                        <a:pt x="1387" y="613"/>
                      </a:lnTo>
                      <a:lnTo>
                        <a:pt x="831" y="358"/>
                      </a:lnTo>
                      <a:lnTo>
                        <a:pt x="686" y="433"/>
                      </a:lnTo>
                      <a:lnTo>
                        <a:pt x="613" y="358"/>
                      </a:lnTo>
                      <a:lnTo>
                        <a:pt x="578" y="228"/>
                      </a:lnTo>
                      <a:lnTo>
                        <a:pt x="361" y="108"/>
                      </a:lnTo>
                      <a:lnTo>
                        <a:pt x="244" y="97"/>
                      </a:lnTo>
                      <a:lnTo>
                        <a:pt x="134" y="0"/>
                      </a:lnTo>
                      <a:lnTo>
                        <a:pt x="0" y="11"/>
                      </a:lnTo>
                      <a:lnTo>
                        <a:pt x="48" y="182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5143320" y="5238000"/>
                  <a:ext cx="36360" cy="259920"/>
                </a:xfrm>
                <a:custGeom>
                  <a:avLst/>
                  <a:gdLst/>
                  <a:ahLst/>
                  <a:rect l="l" t="t" r="r" b="b"/>
                  <a:pathLst>
                    <a:path w="434" h="2461">
                      <a:moveTo>
                        <a:pt x="276" y="0"/>
                      </a:moveTo>
                      <a:lnTo>
                        <a:pt x="166" y="72"/>
                      </a:lnTo>
                      <a:lnTo>
                        <a:pt x="106" y="204"/>
                      </a:lnTo>
                      <a:lnTo>
                        <a:pt x="96" y="326"/>
                      </a:lnTo>
                      <a:lnTo>
                        <a:pt x="106" y="688"/>
                      </a:lnTo>
                      <a:lnTo>
                        <a:pt x="72" y="962"/>
                      </a:lnTo>
                      <a:lnTo>
                        <a:pt x="37" y="1275"/>
                      </a:lnTo>
                      <a:lnTo>
                        <a:pt x="0" y="1504"/>
                      </a:lnTo>
                      <a:lnTo>
                        <a:pt x="0" y="1780"/>
                      </a:lnTo>
                      <a:lnTo>
                        <a:pt x="10" y="2029"/>
                      </a:lnTo>
                      <a:lnTo>
                        <a:pt x="145" y="2461"/>
                      </a:lnTo>
                      <a:lnTo>
                        <a:pt x="434" y="2391"/>
                      </a:lnTo>
                      <a:lnTo>
                        <a:pt x="311" y="1993"/>
                      </a:lnTo>
                      <a:lnTo>
                        <a:pt x="263" y="1684"/>
                      </a:lnTo>
                      <a:lnTo>
                        <a:pt x="287" y="1407"/>
                      </a:lnTo>
                      <a:lnTo>
                        <a:pt x="337" y="1130"/>
                      </a:lnTo>
                      <a:lnTo>
                        <a:pt x="397" y="879"/>
                      </a:lnTo>
                      <a:lnTo>
                        <a:pt x="397" y="734"/>
                      </a:lnTo>
                      <a:lnTo>
                        <a:pt x="360" y="602"/>
                      </a:lnTo>
                      <a:lnTo>
                        <a:pt x="311" y="519"/>
                      </a:lnTo>
                      <a:lnTo>
                        <a:pt x="325" y="194"/>
                      </a:lnTo>
                      <a:lnTo>
                        <a:pt x="337" y="12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4936320" y="5437440"/>
                  <a:ext cx="109440" cy="114120"/>
                </a:xfrm>
                <a:custGeom>
                  <a:avLst/>
                  <a:gdLst/>
                  <a:ahLst/>
                  <a:rect l="l" t="t" r="r" b="b"/>
                  <a:pathLst>
                    <a:path w="1314" h="1079">
                      <a:moveTo>
                        <a:pt x="374" y="0"/>
                      </a:moveTo>
                      <a:lnTo>
                        <a:pt x="300" y="35"/>
                      </a:lnTo>
                      <a:lnTo>
                        <a:pt x="300" y="97"/>
                      </a:lnTo>
                      <a:lnTo>
                        <a:pt x="194" y="143"/>
                      </a:lnTo>
                      <a:lnTo>
                        <a:pt x="167" y="192"/>
                      </a:lnTo>
                      <a:lnTo>
                        <a:pt x="129" y="335"/>
                      </a:lnTo>
                      <a:lnTo>
                        <a:pt x="24" y="395"/>
                      </a:lnTo>
                      <a:lnTo>
                        <a:pt x="0" y="613"/>
                      </a:lnTo>
                      <a:lnTo>
                        <a:pt x="59" y="830"/>
                      </a:lnTo>
                      <a:lnTo>
                        <a:pt x="290" y="934"/>
                      </a:lnTo>
                      <a:lnTo>
                        <a:pt x="662" y="1056"/>
                      </a:lnTo>
                      <a:lnTo>
                        <a:pt x="938" y="1068"/>
                      </a:lnTo>
                      <a:lnTo>
                        <a:pt x="1241" y="1079"/>
                      </a:lnTo>
                      <a:lnTo>
                        <a:pt x="1217" y="925"/>
                      </a:lnTo>
                      <a:lnTo>
                        <a:pt x="1217" y="817"/>
                      </a:lnTo>
                      <a:lnTo>
                        <a:pt x="1229" y="699"/>
                      </a:lnTo>
                      <a:lnTo>
                        <a:pt x="1314" y="529"/>
                      </a:lnTo>
                      <a:lnTo>
                        <a:pt x="1229" y="480"/>
                      </a:lnTo>
                      <a:lnTo>
                        <a:pt x="1156" y="408"/>
                      </a:lnTo>
                      <a:lnTo>
                        <a:pt x="1096" y="309"/>
                      </a:lnTo>
                      <a:lnTo>
                        <a:pt x="1024" y="226"/>
                      </a:lnTo>
                      <a:lnTo>
                        <a:pt x="950" y="167"/>
                      </a:lnTo>
                      <a:lnTo>
                        <a:pt x="879" y="143"/>
                      </a:lnTo>
                      <a:lnTo>
                        <a:pt x="769" y="167"/>
                      </a:lnTo>
                      <a:lnTo>
                        <a:pt x="637" y="204"/>
                      </a:lnTo>
                      <a:lnTo>
                        <a:pt x="588" y="180"/>
                      </a:lnTo>
                      <a:lnTo>
                        <a:pt x="528" y="59"/>
                      </a:lnTo>
                      <a:lnTo>
                        <a:pt x="470" y="26"/>
                      </a:lnTo>
                      <a:lnTo>
                        <a:pt x="374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5085000" y="5013360"/>
                  <a:ext cx="149760" cy="227880"/>
                </a:xfrm>
                <a:custGeom>
                  <a:avLst/>
                  <a:gdLst/>
                  <a:ahLst/>
                  <a:rect l="l" t="t" r="r" b="b"/>
                  <a:pathLst>
                    <a:path w="1808" h="2151">
                      <a:moveTo>
                        <a:pt x="1784" y="591"/>
                      </a:moveTo>
                      <a:lnTo>
                        <a:pt x="1808" y="681"/>
                      </a:lnTo>
                      <a:lnTo>
                        <a:pt x="1803" y="758"/>
                      </a:lnTo>
                      <a:lnTo>
                        <a:pt x="1773" y="877"/>
                      </a:lnTo>
                      <a:lnTo>
                        <a:pt x="1698" y="1052"/>
                      </a:lnTo>
                      <a:lnTo>
                        <a:pt x="1573" y="1178"/>
                      </a:lnTo>
                      <a:lnTo>
                        <a:pt x="1459" y="1701"/>
                      </a:lnTo>
                      <a:lnTo>
                        <a:pt x="1289" y="1884"/>
                      </a:lnTo>
                      <a:lnTo>
                        <a:pt x="1164" y="2022"/>
                      </a:lnTo>
                      <a:lnTo>
                        <a:pt x="1091" y="2133"/>
                      </a:lnTo>
                      <a:lnTo>
                        <a:pt x="1045" y="2151"/>
                      </a:lnTo>
                      <a:lnTo>
                        <a:pt x="835" y="1868"/>
                      </a:lnTo>
                      <a:lnTo>
                        <a:pt x="657" y="1890"/>
                      </a:lnTo>
                      <a:lnTo>
                        <a:pt x="569" y="1890"/>
                      </a:lnTo>
                      <a:lnTo>
                        <a:pt x="512" y="1852"/>
                      </a:lnTo>
                      <a:lnTo>
                        <a:pt x="477" y="1791"/>
                      </a:lnTo>
                      <a:lnTo>
                        <a:pt x="429" y="1628"/>
                      </a:lnTo>
                      <a:lnTo>
                        <a:pt x="289" y="1351"/>
                      </a:lnTo>
                      <a:lnTo>
                        <a:pt x="141" y="1169"/>
                      </a:lnTo>
                      <a:lnTo>
                        <a:pt x="107" y="1022"/>
                      </a:lnTo>
                      <a:lnTo>
                        <a:pt x="76" y="872"/>
                      </a:lnTo>
                      <a:lnTo>
                        <a:pt x="28" y="653"/>
                      </a:lnTo>
                      <a:lnTo>
                        <a:pt x="0" y="353"/>
                      </a:lnTo>
                      <a:lnTo>
                        <a:pt x="24" y="208"/>
                      </a:lnTo>
                      <a:lnTo>
                        <a:pt x="76" y="99"/>
                      </a:lnTo>
                      <a:lnTo>
                        <a:pt x="1324" y="0"/>
                      </a:lnTo>
                      <a:lnTo>
                        <a:pt x="1698" y="433"/>
                      </a:lnTo>
                      <a:lnTo>
                        <a:pt x="1784" y="59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5099040" y="510156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152" h="113">
                      <a:moveTo>
                        <a:pt x="0" y="83"/>
                      </a:moveTo>
                      <a:lnTo>
                        <a:pt x="49" y="113"/>
                      </a:lnTo>
                      <a:lnTo>
                        <a:pt x="152" y="79"/>
                      </a:lnTo>
                      <a:lnTo>
                        <a:pt x="152" y="0"/>
                      </a:lnTo>
                      <a:lnTo>
                        <a:pt x="33" y="16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5145480" y="5089680"/>
                  <a:ext cx="18360" cy="8280"/>
                </a:xfrm>
                <a:custGeom>
                  <a:avLst/>
                  <a:gdLst/>
                  <a:ahLst/>
                  <a:rect l="l" t="t" r="r" b="b"/>
                  <a:pathLst>
                    <a:path w="231" h="83">
                      <a:moveTo>
                        <a:pt x="27" y="83"/>
                      </a:moveTo>
                      <a:lnTo>
                        <a:pt x="130" y="74"/>
                      </a:lnTo>
                      <a:lnTo>
                        <a:pt x="231" y="47"/>
                      </a:lnTo>
                      <a:lnTo>
                        <a:pt x="104" y="0"/>
                      </a:lnTo>
                      <a:lnTo>
                        <a:pt x="0" y="0"/>
                      </a:lnTo>
                      <a:lnTo>
                        <a:pt x="27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5085720" y="4982760"/>
                  <a:ext cx="119880" cy="47160"/>
                </a:xfrm>
                <a:custGeom>
                  <a:avLst/>
                  <a:gdLst/>
                  <a:ahLst/>
                  <a:rect l="l" t="t" r="r" b="b"/>
                  <a:pathLst>
                    <a:path w="1451" h="452">
                      <a:moveTo>
                        <a:pt x="110" y="41"/>
                      </a:moveTo>
                      <a:lnTo>
                        <a:pt x="237" y="0"/>
                      </a:lnTo>
                      <a:lnTo>
                        <a:pt x="603" y="0"/>
                      </a:lnTo>
                      <a:lnTo>
                        <a:pt x="1255" y="165"/>
                      </a:lnTo>
                      <a:lnTo>
                        <a:pt x="1451" y="391"/>
                      </a:lnTo>
                      <a:lnTo>
                        <a:pt x="1134" y="318"/>
                      </a:lnTo>
                      <a:lnTo>
                        <a:pt x="981" y="360"/>
                      </a:lnTo>
                      <a:lnTo>
                        <a:pt x="846" y="424"/>
                      </a:lnTo>
                      <a:lnTo>
                        <a:pt x="647" y="452"/>
                      </a:lnTo>
                      <a:lnTo>
                        <a:pt x="426" y="444"/>
                      </a:lnTo>
                      <a:lnTo>
                        <a:pt x="218" y="391"/>
                      </a:lnTo>
                      <a:lnTo>
                        <a:pt x="68" y="318"/>
                      </a:lnTo>
                      <a:lnTo>
                        <a:pt x="16" y="251"/>
                      </a:lnTo>
                      <a:lnTo>
                        <a:pt x="0" y="186"/>
                      </a:lnTo>
                      <a:lnTo>
                        <a:pt x="4" y="129"/>
                      </a:lnTo>
                      <a:lnTo>
                        <a:pt x="110" y="4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5179320" y="5027040"/>
                  <a:ext cx="58320" cy="65880"/>
                </a:xfrm>
                <a:custGeom>
                  <a:avLst/>
                  <a:gdLst/>
                  <a:ahLst/>
                  <a:rect l="l" t="t" r="r" b="b"/>
                  <a:pathLst>
                    <a:path w="700" h="629">
                      <a:moveTo>
                        <a:pt x="666" y="482"/>
                      </a:moveTo>
                      <a:lnTo>
                        <a:pt x="548" y="411"/>
                      </a:lnTo>
                      <a:lnTo>
                        <a:pt x="449" y="405"/>
                      </a:lnTo>
                      <a:lnTo>
                        <a:pt x="392" y="482"/>
                      </a:lnTo>
                      <a:lnTo>
                        <a:pt x="378" y="629"/>
                      </a:lnTo>
                      <a:lnTo>
                        <a:pt x="173" y="604"/>
                      </a:lnTo>
                      <a:lnTo>
                        <a:pt x="182" y="528"/>
                      </a:lnTo>
                      <a:lnTo>
                        <a:pt x="139" y="433"/>
                      </a:lnTo>
                      <a:lnTo>
                        <a:pt x="76" y="374"/>
                      </a:lnTo>
                      <a:lnTo>
                        <a:pt x="36" y="350"/>
                      </a:lnTo>
                      <a:lnTo>
                        <a:pt x="0" y="141"/>
                      </a:lnTo>
                      <a:lnTo>
                        <a:pt x="286" y="0"/>
                      </a:lnTo>
                      <a:lnTo>
                        <a:pt x="588" y="110"/>
                      </a:lnTo>
                      <a:lnTo>
                        <a:pt x="632" y="360"/>
                      </a:lnTo>
                      <a:lnTo>
                        <a:pt x="700" y="447"/>
                      </a:lnTo>
                      <a:lnTo>
                        <a:pt x="666" y="4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5173200" y="5014440"/>
                  <a:ext cx="64080" cy="67320"/>
                </a:xfrm>
                <a:custGeom>
                  <a:avLst/>
                  <a:gdLst/>
                  <a:ahLst/>
                  <a:rect l="l" t="t" r="r" b="b"/>
                  <a:pathLst>
                    <a:path w="775" h="641">
                      <a:moveTo>
                        <a:pt x="747" y="575"/>
                      </a:moveTo>
                      <a:lnTo>
                        <a:pt x="701" y="518"/>
                      </a:lnTo>
                      <a:lnTo>
                        <a:pt x="643" y="461"/>
                      </a:lnTo>
                      <a:lnTo>
                        <a:pt x="608" y="397"/>
                      </a:lnTo>
                      <a:lnTo>
                        <a:pt x="617" y="309"/>
                      </a:lnTo>
                      <a:lnTo>
                        <a:pt x="586" y="261"/>
                      </a:lnTo>
                      <a:lnTo>
                        <a:pt x="530" y="230"/>
                      </a:lnTo>
                      <a:lnTo>
                        <a:pt x="496" y="226"/>
                      </a:lnTo>
                      <a:lnTo>
                        <a:pt x="440" y="230"/>
                      </a:lnTo>
                      <a:lnTo>
                        <a:pt x="488" y="316"/>
                      </a:lnTo>
                      <a:lnTo>
                        <a:pt x="571" y="397"/>
                      </a:lnTo>
                      <a:lnTo>
                        <a:pt x="440" y="316"/>
                      </a:lnTo>
                      <a:lnTo>
                        <a:pt x="343" y="274"/>
                      </a:lnTo>
                      <a:lnTo>
                        <a:pt x="242" y="283"/>
                      </a:lnTo>
                      <a:lnTo>
                        <a:pt x="161" y="288"/>
                      </a:lnTo>
                      <a:lnTo>
                        <a:pt x="118" y="300"/>
                      </a:lnTo>
                      <a:lnTo>
                        <a:pt x="152" y="371"/>
                      </a:lnTo>
                      <a:lnTo>
                        <a:pt x="320" y="378"/>
                      </a:lnTo>
                      <a:lnTo>
                        <a:pt x="454" y="447"/>
                      </a:lnTo>
                      <a:lnTo>
                        <a:pt x="336" y="447"/>
                      </a:lnTo>
                      <a:lnTo>
                        <a:pt x="384" y="518"/>
                      </a:lnTo>
                      <a:lnTo>
                        <a:pt x="413" y="602"/>
                      </a:lnTo>
                      <a:lnTo>
                        <a:pt x="378" y="641"/>
                      </a:lnTo>
                      <a:lnTo>
                        <a:pt x="274" y="586"/>
                      </a:lnTo>
                      <a:lnTo>
                        <a:pt x="182" y="542"/>
                      </a:lnTo>
                      <a:lnTo>
                        <a:pt x="161" y="503"/>
                      </a:lnTo>
                      <a:lnTo>
                        <a:pt x="90" y="480"/>
                      </a:lnTo>
                      <a:lnTo>
                        <a:pt x="57" y="378"/>
                      </a:lnTo>
                      <a:lnTo>
                        <a:pt x="48" y="239"/>
                      </a:lnTo>
                      <a:lnTo>
                        <a:pt x="23" y="191"/>
                      </a:lnTo>
                      <a:lnTo>
                        <a:pt x="39" y="136"/>
                      </a:lnTo>
                      <a:lnTo>
                        <a:pt x="0" y="127"/>
                      </a:lnTo>
                      <a:lnTo>
                        <a:pt x="48" y="78"/>
                      </a:lnTo>
                      <a:lnTo>
                        <a:pt x="175" y="63"/>
                      </a:lnTo>
                      <a:lnTo>
                        <a:pt x="343" y="85"/>
                      </a:lnTo>
                      <a:lnTo>
                        <a:pt x="518" y="0"/>
                      </a:lnTo>
                      <a:lnTo>
                        <a:pt x="622" y="94"/>
                      </a:lnTo>
                      <a:lnTo>
                        <a:pt x="678" y="182"/>
                      </a:lnTo>
                      <a:lnTo>
                        <a:pt x="692" y="274"/>
                      </a:lnTo>
                      <a:lnTo>
                        <a:pt x="701" y="406"/>
                      </a:lnTo>
                      <a:lnTo>
                        <a:pt x="705" y="489"/>
                      </a:lnTo>
                      <a:lnTo>
                        <a:pt x="775" y="595"/>
                      </a:lnTo>
                      <a:lnTo>
                        <a:pt x="747" y="575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4738320" y="5102280"/>
                  <a:ext cx="357840" cy="338760"/>
                </a:xfrm>
                <a:custGeom>
                  <a:avLst/>
                  <a:gdLst/>
                  <a:ahLst/>
                  <a:rect l="l" t="t" r="r" b="b"/>
                  <a:pathLst>
                    <a:path w="4318" h="3200">
                      <a:moveTo>
                        <a:pt x="4072" y="2092"/>
                      </a:moveTo>
                      <a:lnTo>
                        <a:pt x="4095" y="1897"/>
                      </a:lnTo>
                      <a:lnTo>
                        <a:pt x="4208" y="1706"/>
                      </a:lnTo>
                      <a:lnTo>
                        <a:pt x="4318" y="1345"/>
                      </a:lnTo>
                      <a:lnTo>
                        <a:pt x="4249" y="1246"/>
                      </a:lnTo>
                      <a:lnTo>
                        <a:pt x="4090" y="1246"/>
                      </a:lnTo>
                      <a:lnTo>
                        <a:pt x="3986" y="1086"/>
                      </a:lnTo>
                      <a:lnTo>
                        <a:pt x="3929" y="1035"/>
                      </a:lnTo>
                      <a:lnTo>
                        <a:pt x="3909" y="1035"/>
                      </a:lnTo>
                      <a:lnTo>
                        <a:pt x="3808" y="1057"/>
                      </a:lnTo>
                      <a:lnTo>
                        <a:pt x="3498" y="561"/>
                      </a:lnTo>
                      <a:lnTo>
                        <a:pt x="3329" y="459"/>
                      </a:lnTo>
                      <a:lnTo>
                        <a:pt x="3087" y="139"/>
                      </a:lnTo>
                      <a:lnTo>
                        <a:pt x="2935" y="99"/>
                      </a:lnTo>
                      <a:lnTo>
                        <a:pt x="2834" y="132"/>
                      </a:lnTo>
                      <a:lnTo>
                        <a:pt x="2723" y="113"/>
                      </a:lnTo>
                      <a:lnTo>
                        <a:pt x="2615" y="148"/>
                      </a:lnTo>
                      <a:lnTo>
                        <a:pt x="2327" y="180"/>
                      </a:lnTo>
                      <a:lnTo>
                        <a:pt x="2237" y="148"/>
                      </a:lnTo>
                      <a:lnTo>
                        <a:pt x="2126" y="189"/>
                      </a:lnTo>
                      <a:lnTo>
                        <a:pt x="2057" y="113"/>
                      </a:lnTo>
                      <a:lnTo>
                        <a:pt x="1973" y="31"/>
                      </a:lnTo>
                      <a:lnTo>
                        <a:pt x="1914" y="0"/>
                      </a:lnTo>
                      <a:lnTo>
                        <a:pt x="1232" y="249"/>
                      </a:lnTo>
                      <a:lnTo>
                        <a:pt x="1171" y="420"/>
                      </a:lnTo>
                      <a:lnTo>
                        <a:pt x="853" y="589"/>
                      </a:lnTo>
                      <a:lnTo>
                        <a:pt x="632" y="627"/>
                      </a:lnTo>
                      <a:lnTo>
                        <a:pt x="441" y="807"/>
                      </a:lnTo>
                      <a:lnTo>
                        <a:pt x="413" y="910"/>
                      </a:lnTo>
                      <a:lnTo>
                        <a:pt x="371" y="1015"/>
                      </a:lnTo>
                      <a:lnTo>
                        <a:pt x="259" y="1356"/>
                      </a:lnTo>
                      <a:lnTo>
                        <a:pt x="210" y="1624"/>
                      </a:lnTo>
                      <a:lnTo>
                        <a:pt x="270" y="1854"/>
                      </a:lnTo>
                      <a:lnTo>
                        <a:pt x="180" y="2075"/>
                      </a:lnTo>
                      <a:lnTo>
                        <a:pt x="90" y="2103"/>
                      </a:lnTo>
                      <a:lnTo>
                        <a:pt x="0" y="2193"/>
                      </a:lnTo>
                      <a:lnTo>
                        <a:pt x="191" y="2792"/>
                      </a:lnTo>
                      <a:lnTo>
                        <a:pt x="399" y="2861"/>
                      </a:lnTo>
                      <a:lnTo>
                        <a:pt x="761" y="2613"/>
                      </a:lnTo>
                      <a:lnTo>
                        <a:pt x="1042" y="1945"/>
                      </a:lnTo>
                      <a:lnTo>
                        <a:pt x="1211" y="2262"/>
                      </a:lnTo>
                      <a:lnTo>
                        <a:pt x="1303" y="2771"/>
                      </a:lnTo>
                      <a:lnTo>
                        <a:pt x="1232" y="2903"/>
                      </a:lnTo>
                      <a:lnTo>
                        <a:pt x="1204" y="3129"/>
                      </a:lnTo>
                      <a:lnTo>
                        <a:pt x="1261" y="3200"/>
                      </a:lnTo>
                      <a:lnTo>
                        <a:pt x="3408" y="2892"/>
                      </a:lnTo>
                      <a:lnTo>
                        <a:pt x="3355" y="1517"/>
                      </a:lnTo>
                      <a:lnTo>
                        <a:pt x="3569" y="1695"/>
                      </a:lnTo>
                      <a:lnTo>
                        <a:pt x="3707" y="1714"/>
                      </a:lnTo>
                      <a:lnTo>
                        <a:pt x="3777" y="1846"/>
                      </a:lnTo>
                      <a:lnTo>
                        <a:pt x="3938" y="1854"/>
                      </a:lnTo>
                      <a:lnTo>
                        <a:pt x="4028" y="1994"/>
                      </a:lnTo>
                      <a:lnTo>
                        <a:pt x="4072" y="209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4921920" y="5400720"/>
                  <a:ext cx="33120" cy="29520"/>
                </a:xfrm>
                <a:custGeom>
                  <a:avLst/>
                  <a:gdLst/>
                  <a:ahLst/>
                  <a:rect l="l" t="t" r="r" b="b"/>
                  <a:pathLst>
                    <a:path w="400" h="279">
                      <a:moveTo>
                        <a:pt x="279" y="0"/>
                      </a:moveTo>
                      <a:lnTo>
                        <a:pt x="130" y="0"/>
                      </a:lnTo>
                      <a:lnTo>
                        <a:pt x="8" y="83"/>
                      </a:lnTo>
                      <a:lnTo>
                        <a:pt x="0" y="242"/>
                      </a:lnTo>
                      <a:lnTo>
                        <a:pt x="40" y="279"/>
                      </a:lnTo>
                      <a:lnTo>
                        <a:pt x="391" y="210"/>
                      </a:lnTo>
                      <a:lnTo>
                        <a:pt x="400" y="162"/>
                      </a:lnTo>
                      <a:lnTo>
                        <a:pt x="349" y="30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4756320" y="5203440"/>
                  <a:ext cx="18360" cy="104040"/>
                </a:xfrm>
                <a:custGeom>
                  <a:avLst/>
                  <a:gdLst/>
                  <a:ahLst/>
                  <a:rect l="l" t="t" r="r" b="b"/>
                  <a:pathLst>
                    <a:path w="231" h="977">
                      <a:moveTo>
                        <a:pt x="183" y="0"/>
                      </a:moveTo>
                      <a:lnTo>
                        <a:pt x="183" y="283"/>
                      </a:lnTo>
                      <a:lnTo>
                        <a:pt x="231" y="659"/>
                      </a:lnTo>
                      <a:lnTo>
                        <a:pt x="90" y="648"/>
                      </a:lnTo>
                      <a:lnTo>
                        <a:pt x="210" y="856"/>
                      </a:lnTo>
                      <a:lnTo>
                        <a:pt x="148" y="977"/>
                      </a:lnTo>
                      <a:lnTo>
                        <a:pt x="0" y="687"/>
                      </a:lnTo>
                      <a:lnTo>
                        <a:pt x="0" y="560"/>
                      </a:lnTo>
                      <a:lnTo>
                        <a:pt x="130" y="129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4743000" y="5245560"/>
                  <a:ext cx="83160" cy="158400"/>
                </a:xfrm>
                <a:custGeom>
                  <a:avLst/>
                  <a:gdLst/>
                  <a:ahLst/>
                  <a:rect l="l" t="t" r="r" b="b"/>
                  <a:pathLst>
                    <a:path w="1008" h="1494">
                      <a:moveTo>
                        <a:pt x="0" y="778"/>
                      </a:moveTo>
                      <a:lnTo>
                        <a:pt x="28" y="837"/>
                      </a:lnTo>
                      <a:lnTo>
                        <a:pt x="28" y="975"/>
                      </a:lnTo>
                      <a:lnTo>
                        <a:pt x="99" y="1156"/>
                      </a:lnTo>
                      <a:lnTo>
                        <a:pt x="159" y="1048"/>
                      </a:lnTo>
                      <a:lnTo>
                        <a:pt x="281" y="1305"/>
                      </a:lnTo>
                      <a:lnTo>
                        <a:pt x="120" y="1378"/>
                      </a:lnTo>
                      <a:lnTo>
                        <a:pt x="342" y="1494"/>
                      </a:lnTo>
                      <a:lnTo>
                        <a:pt x="648" y="1385"/>
                      </a:lnTo>
                      <a:lnTo>
                        <a:pt x="839" y="1057"/>
                      </a:lnTo>
                      <a:lnTo>
                        <a:pt x="883" y="820"/>
                      </a:lnTo>
                      <a:lnTo>
                        <a:pt x="911" y="589"/>
                      </a:lnTo>
                      <a:lnTo>
                        <a:pt x="1008" y="310"/>
                      </a:lnTo>
                      <a:lnTo>
                        <a:pt x="869" y="30"/>
                      </a:lnTo>
                      <a:lnTo>
                        <a:pt x="812" y="0"/>
                      </a:lnTo>
                      <a:lnTo>
                        <a:pt x="710" y="279"/>
                      </a:lnTo>
                      <a:lnTo>
                        <a:pt x="779" y="350"/>
                      </a:lnTo>
                      <a:lnTo>
                        <a:pt x="890" y="400"/>
                      </a:lnTo>
                      <a:lnTo>
                        <a:pt x="770" y="679"/>
                      </a:lnTo>
                      <a:lnTo>
                        <a:pt x="770" y="848"/>
                      </a:lnTo>
                      <a:lnTo>
                        <a:pt x="648" y="1026"/>
                      </a:lnTo>
                      <a:lnTo>
                        <a:pt x="438" y="1057"/>
                      </a:lnTo>
                      <a:lnTo>
                        <a:pt x="307" y="589"/>
                      </a:lnTo>
                      <a:lnTo>
                        <a:pt x="69" y="736"/>
                      </a:lnTo>
                      <a:lnTo>
                        <a:pt x="0" y="778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4820400" y="5152320"/>
                  <a:ext cx="195120" cy="290520"/>
                </a:xfrm>
                <a:custGeom>
                  <a:avLst/>
                  <a:gdLst/>
                  <a:ahLst/>
                  <a:rect l="l" t="t" r="r" b="b"/>
                  <a:pathLst>
                    <a:path w="2355" h="2742">
                      <a:moveTo>
                        <a:pt x="303" y="558"/>
                      </a:moveTo>
                      <a:lnTo>
                        <a:pt x="413" y="639"/>
                      </a:lnTo>
                      <a:lnTo>
                        <a:pt x="289" y="1119"/>
                      </a:lnTo>
                      <a:lnTo>
                        <a:pt x="289" y="1398"/>
                      </a:lnTo>
                      <a:lnTo>
                        <a:pt x="630" y="1476"/>
                      </a:lnTo>
                      <a:lnTo>
                        <a:pt x="604" y="411"/>
                      </a:lnTo>
                      <a:lnTo>
                        <a:pt x="630" y="208"/>
                      </a:lnTo>
                      <a:lnTo>
                        <a:pt x="503" y="150"/>
                      </a:lnTo>
                      <a:lnTo>
                        <a:pt x="382" y="231"/>
                      </a:lnTo>
                      <a:lnTo>
                        <a:pt x="360" y="208"/>
                      </a:lnTo>
                      <a:lnTo>
                        <a:pt x="450" y="143"/>
                      </a:lnTo>
                      <a:lnTo>
                        <a:pt x="503" y="72"/>
                      </a:lnTo>
                      <a:lnTo>
                        <a:pt x="833" y="0"/>
                      </a:lnTo>
                      <a:lnTo>
                        <a:pt x="991" y="84"/>
                      </a:lnTo>
                      <a:lnTo>
                        <a:pt x="943" y="121"/>
                      </a:lnTo>
                      <a:lnTo>
                        <a:pt x="833" y="112"/>
                      </a:lnTo>
                      <a:lnTo>
                        <a:pt x="782" y="252"/>
                      </a:lnTo>
                      <a:lnTo>
                        <a:pt x="1092" y="1558"/>
                      </a:lnTo>
                      <a:lnTo>
                        <a:pt x="1413" y="1747"/>
                      </a:lnTo>
                      <a:lnTo>
                        <a:pt x="1965" y="2035"/>
                      </a:lnTo>
                      <a:lnTo>
                        <a:pt x="1905" y="1875"/>
                      </a:lnTo>
                      <a:lnTo>
                        <a:pt x="2207" y="1993"/>
                      </a:lnTo>
                      <a:lnTo>
                        <a:pt x="2297" y="1773"/>
                      </a:lnTo>
                      <a:lnTo>
                        <a:pt x="2345" y="1785"/>
                      </a:lnTo>
                      <a:lnTo>
                        <a:pt x="2306" y="2145"/>
                      </a:lnTo>
                      <a:lnTo>
                        <a:pt x="2355" y="2343"/>
                      </a:lnTo>
                      <a:lnTo>
                        <a:pt x="2133" y="2393"/>
                      </a:lnTo>
                      <a:lnTo>
                        <a:pt x="1598" y="2356"/>
                      </a:lnTo>
                      <a:lnTo>
                        <a:pt x="1723" y="2272"/>
                      </a:lnTo>
                      <a:lnTo>
                        <a:pt x="1644" y="2126"/>
                      </a:lnTo>
                      <a:lnTo>
                        <a:pt x="1732" y="2085"/>
                      </a:lnTo>
                      <a:lnTo>
                        <a:pt x="1503" y="2015"/>
                      </a:lnTo>
                      <a:lnTo>
                        <a:pt x="1503" y="2165"/>
                      </a:lnTo>
                      <a:lnTo>
                        <a:pt x="1444" y="2334"/>
                      </a:lnTo>
                      <a:lnTo>
                        <a:pt x="1246" y="2405"/>
                      </a:lnTo>
                      <a:lnTo>
                        <a:pt x="1273" y="2384"/>
                      </a:lnTo>
                      <a:lnTo>
                        <a:pt x="1135" y="2043"/>
                      </a:lnTo>
                      <a:lnTo>
                        <a:pt x="863" y="1868"/>
                      </a:lnTo>
                      <a:lnTo>
                        <a:pt x="591" y="1826"/>
                      </a:lnTo>
                      <a:lnTo>
                        <a:pt x="663" y="1916"/>
                      </a:lnTo>
                      <a:lnTo>
                        <a:pt x="624" y="1936"/>
                      </a:lnTo>
                      <a:lnTo>
                        <a:pt x="773" y="1976"/>
                      </a:lnTo>
                      <a:lnTo>
                        <a:pt x="1054" y="2204"/>
                      </a:lnTo>
                      <a:lnTo>
                        <a:pt x="1171" y="2322"/>
                      </a:lnTo>
                      <a:lnTo>
                        <a:pt x="962" y="2315"/>
                      </a:lnTo>
                      <a:lnTo>
                        <a:pt x="734" y="2246"/>
                      </a:lnTo>
                      <a:lnTo>
                        <a:pt x="923" y="2405"/>
                      </a:lnTo>
                      <a:lnTo>
                        <a:pt x="743" y="2463"/>
                      </a:lnTo>
                      <a:lnTo>
                        <a:pt x="521" y="2601"/>
                      </a:lnTo>
                      <a:lnTo>
                        <a:pt x="851" y="2525"/>
                      </a:lnTo>
                      <a:lnTo>
                        <a:pt x="552" y="2742"/>
                      </a:lnTo>
                      <a:lnTo>
                        <a:pt x="250" y="2742"/>
                      </a:lnTo>
                      <a:lnTo>
                        <a:pt x="213" y="2652"/>
                      </a:lnTo>
                      <a:lnTo>
                        <a:pt x="303" y="2272"/>
                      </a:lnTo>
                      <a:lnTo>
                        <a:pt x="270" y="2114"/>
                      </a:lnTo>
                      <a:lnTo>
                        <a:pt x="0" y="1178"/>
                      </a:lnTo>
                      <a:lnTo>
                        <a:pt x="81" y="720"/>
                      </a:lnTo>
                      <a:lnTo>
                        <a:pt x="303" y="558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4912560" y="5112000"/>
                  <a:ext cx="70560" cy="65160"/>
                </a:xfrm>
                <a:custGeom>
                  <a:avLst/>
                  <a:gdLst/>
                  <a:ahLst/>
                  <a:rect l="l" t="t" r="r" b="b"/>
                  <a:pathLst>
                    <a:path w="851" h="616">
                      <a:moveTo>
                        <a:pt x="0" y="385"/>
                      </a:moveTo>
                      <a:lnTo>
                        <a:pt x="77" y="207"/>
                      </a:lnTo>
                      <a:lnTo>
                        <a:pt x="77" y="348"/>
                      </a:lnTo>
                      <a:lnTo>
                        <a:pt x="299" y="97"/>
                      </a:lnTo>
                      <a:lnTo>
                        <a:pt x="378" y="616"/>
                      </a:lnTo>
                      <a:lnTo>
                        <a:pt x="417" y="227"/>
                      </a:lnTo>
                      <a:lnTo>
                        <a:pt x="618" y="69"/>
                      </a:lnTo>
                      <a:lnTo>
                        <a:pt x="740" y="97"/>
                      </a:lnTo>
                      <a:lnTo>
                        <a:pt x="851" y="7"/>
                      </a:lnTo>
                      <a:lnTo>
                        <a:pt x="721" y="40"/>
                      </a:lnTo>
                      <a:lnTo>
                        <a:pt x="653" y="40"/>
                      </a:lnTo>
                      <a:lnTo>
                        <a:pt x="618" y="0"/>
                      </a:lnTo>
                      <a:lnTo>
                        <a:pt x="521" y="69"/>
                      </a:lnTo>
                      <a:lnTo>
                        <a:pt x="389" y="47"/>
                      </a:lnTo>
                      <a:lnTo>
                        <a:pt x="279" y="40"/>
                      </a:lnTo>
                      <a:lnTo>
                        <a:pt x="118" y="77"/>
                      </a:lnTo>
                      <a:lnTo>
                        <a:pt x="21" y="189"/>
                      </a:lnTo>
                      <a:lnTo>
                        <a:pt x="0" y="385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4989600" y="5172120"/>
                  <a:ext cx="66600" cy="167760"/>
                </a:xfrm>
                <a:custGeom>
                  <a:avLst/>
                  <a:gdLst/>
                  <a:ahLst/>
                  <a:rect l="l" t="t" r="r" b="b"/>
                  <a:pathLst>
                    <a:path w="811" h="1587">
                      <a:moveTo>
                        <a:pt x="481" y="171"/>
                      </a:moveTo>
                      <a:lnTo>
                        <a:pt x="481" y="429"/>
                      </a:lnTo>
                      <a:lnTo>
                        <a:pt x="380" y="600"/>
                      </a:lnTo>
                      <a:lnTo>
                        <a:pt x="239" y="429"/>
                      </a:lnTo>
                      <a:lnTo>
                        <a:pt x="128" y="259"/>
                      </a:lnTo>
                      <a:lnTo>
                        <a:pt x="239" y="860"/>
                      </a:lnTo>
                      <a:lnTo>
                        <a:pt x="207" y="1257"/>
                      </a:lnTo>
                      <a:lnTo>
                        <a:pt x="0" y="1556"/>
                      </a:lnTo>
                      <a:lnTo>
                        <a:pt x="170" y="1587"/>
                      </a:lnTo>
                      <a:lnTo>
                        <a:pt x="361" y="1483"/>
                      </a:lnTo>
                      <a:lnTo>
                        <a:pt x="318" y="840"/>
                      </a:lnTo>
                      <a:lnTo>
                        <a:pt x="509" y="1049"/>
                      </a:lnTo>
                      <a:lnTo>
                        <a:pt x="640" y="1049"/>
                      </a:lnTo>
                      <a:lnTo>
                        <a:pt x="541" y="939"/>
                      </a:lnTo>
                      <a:lnTo>
                        <a:pt x="521" y="770"/>
                      </a:lnTo>
                      <a:lnTo>
                        <a:pt x="582" y="600"/>
                      </a:lnTo>
                      <a:lnTo>
                        <a:pt x="659" y="489"/>
                      </a:lnTo>
                      <a:lnTo>
                        <a:pt x="721" y="392"/>
                      </a:lnTo>
                      <a:lnTo>
                        <a:pt x="762" y="528"/>
                      </a:lnTo>
                      <a:lnTo>
                        <a:pt x="811" y="400"/>
                      </a:lnTo>
                      <a:lnTo>
                        <a:pt x="780" y="293"/>
                      </a:lnTo>
                      <a:lnTo>
                        <a:pt x="721" y="150"/>
                      </a:lnTo>
                      <a:lnTo>
                        <a:pt x="548" y="0"/>
                      </a:lnTo>
                      <a:lnTo>
                        <a:pt x="481" y="171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5051160" y="5229720"/>
                  <a:ext cx="45360" cy="64080"/>
                </a:xfrm>
                <a:custGeom>
                  <a:avLst/>
                  <a:gdLst/>
                  <a:ahLst/>
                  <a:rect l="l" t="t" r="r" b="b"/>
                  <a:pathLst>
                    <a:path w="552" h="609">
                      <a:moveTo>
                        <a:pt x="152" y="0"/>
                      </a:moveTo>
                      <a:lnTo>
                        <a:pt x="31" y="152"/>
                      </a:lnTo>
                      <a:lnTo>
                        <a:pt x="132" y="293"/>
                      </a:lnTo>
                      <a:lnTo>
                        <a:pt x="373" y="133"/>
                      </a:lnTo>
                      <a:lnTo>
                        <a:pt x="453" y="293"/>
                      </a:lnTo>
                      <a:lnTo>
                        <a:pt x="0" y="609"/>
                      </a:lnTo>
                      <a:lnTo>
                        <a:pt x="420" y="541"/>
                      </a:lnTo>
                      <a:lnTo>
                        <a:pt x="552" y="133"/>
                      </a:lnTo>
                      <a:lnTo>
                        <a:pt x="453" y="42"/>
                      </a:lnTo>
                      <a:lnTo>
                        <a:pt x="299" y="62"/>
                      </a:lnTo>
                      <a:lnTo>
                        <a:pt x="193" y="23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4872240" y="5147280"/>
                  <a:ext cx="68040" cy="259920"/>
                </a:xfrm>
                <a:custGeom>
                  <a:avLst/>
                  <a:gdLst/>
                  <a:ahLst/>
                  <a:rect l="l" t="t" r="r" b="b"/>
                  <a:pathLst>
                    <a:path w="820" h="2453">
                      <a:moveTo>
                        <a:pt x="186" y="21"/>
                      </a:moveTo>
                      <a:lnTo>
                        <a:pt x="178" y="110"/>
                      </a:lnTo>
                      <a:lnTo>
                        <a:pt x="136" y="198"/>
                      </a:lnTo>
                      <a:lnTo>
                        <a:pt x="119" y="228"/>
                      </a:lnTo>
                      <a:lnTo>
                        <a:pt x="186" y="309"/>
                      </a:lnTo>
                      <a:lnTo>
                        <a:pt x="288" y="487"/>
                      </a:lnTo>
                      <a:lnTo>
                        <a:pt x="400" y="817"/>
                      </a:lnTo>
                      <a:lnTo>
                        <a:pt x="520" y="1245"/>
                      </a:lnTo>
                      <a:lnTo>
                        <a:pt x="693" y="1806"/>
                      </a:lnTo>
                      <a:lnTo>
                        <a:pt x="820" y="2125"/>
                      </a:lnTo>
                      <a:lnTo>
                        <a:pt x="672" y="2453"/>
                      </a:lnTo>
                      <a:lnTo>
                        <a:pt x="347" y="2204"/>
                      </a:lnTo>
                      <a:lnTo>
                        <a:pt x="68" y="708"/>
                      </a:lnTo>
                      <a:lnTo>
                        <a:pt x="46" y="440"/>
                      </a:lnTo>
                      <a:lnTo>
                        <a:pt x="68" y="270"/>
                      </a:lnTo>
                      <a:lnTo>
                        <a:pt x="68" y="228"/>
                      </a:lnTo>
                      <a:lnTo>
                        <a:pt x="0" y="141"/>
                      </a:lnTo>
                      <a:lnTo>
                        <a:pt x="6" y="0"/>
                      </a:lnTo>
                      <a:lnTo>
                        <a:pt x="149" y="11"/>
                      </a:lnTo>
                      <a:lnTo>
                        <a:pt x="186" y="2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4869000" y="5147280"/>
                  <a:ext cx="71640" cy="262440"/>
                </a:xfrm>
                <a:custGeom>
                  <a:avLst/>
                  <a:gdLst/>
                  <a:ahLst/>
                  <a:rect l="l" t="t" r="r" b="b"/>
                  <a:pathLst>
                    <a:path w="862" h="2474">
                      <a:moveTo>
                        <a:pt x="152" y="11"/>
                      </a:moveTo>
                      <a:lnTo>
                        <a:pt x="129" y="251"/>
                      </a:lnTo>
                      <a:lnTo>
                        <a:pt x="178" y="670"/>
                      </a:lnTo>
                      <a:lnTo>
                        <a:pt x="281" y="1141"/>
                      </a:lnTo>
                      <a:lnTo>
                        <a:pt x="461" y="1863"/>
                      </a:lnTo>
                      <a:lnTo>
                        <a:pt x="499" y="2174"/>
                      </a:lnTo>
                      <a:lnTo>
                        <a:pt x="691" y="2370"/>
                      </a:lnTo>
                      <a:lnTo>
                        <a:pt x="811" y="2112"/>
                      </a:lnTo>
                      <a:lnTo>
                        <a:pt x="629" y="1694"/>
                      </a:lnTo>
                      <a:lnTo>
                        <a:pt x="519" y="1257"/>
                      </a:lnTo>
                      <a:lnTo>
                        <a:pt x="422" y="876"/>
                      </a:lnTo>
                      <a:lnTo>
                        <a:pt x="288" y="468"/>
                      </a:lnTo>
                      <a:lnTo>
                        <a:pt x="211" y="309"/>
                      </a:lnTo>
                      <a:lnTo>
                        <a:pt x="170" y="228"/>
                      </a:lnTo>
                      <a:lnTo>
                        <a:pt x="288" y="389"/>
                      </a:lnTo>
                      <a:lnTo>
                        <a:pt x="409" y="738"/>
                      </a:lnTo>
                      <a:lnTo>
                        <a:pt x="562" y="1195"/>
                      </a:lnTo>
                      <a:lnTo>
                        <a:pt x="714" y="1705"/>
                      </a:lnTo>
                      <a:lnTo>
                        <a:pt x="783" y="1936"/>
                      </a:lnTo>
                      <a:lnTo>
                        <a:pt x="862" y="2112"/>
                      </a:lnTo>
                      <a:lnTo>
                        <a:pt x="721" y="2474"/>
                      </a:lnTo>
                      <a:lnTo>
                        <a:pt x="380" y="2193"/>
                      </a:lnTo>
                      <a:lnTo>
                        <a:pt x="251" y="1505"/>
                      </a:lnTo>
                      <a:lnTo>
                        <a:pt x="119" y="717"/>
                      </a:lnTo>
                      <a:lnTo>
                        <a:pt x="110" y="440"/>
                      </a:lnTo>
                      <a:lnTo>
                        <a:pt x="88" y="228"/>
                      </a:lnTo>
                      <a:lnTo>
                        <a:pt x="0" y="110"/>
                      </a:lnTo>
                      <a:lnTo>
                        <a:pt x="60" y="0"/>
                      </a:lnTo>
                      <a:lnTo>
                        <a:pt x="152" y="1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4803840" y="5139000"/>
                  <a:ext cx="47520" cy="108360"/>
                </a:xfrm>
                <a:custGeom>
                  <a:avLst/>
                  <a:gdLst/>
                  <a:ahLst/>
                  <a:rect l="l" t="t" r="r" b="b"/>
                  <a:pathLst>
                    <a:path w="578" h="1028">
                      <a:moveTo>
                        <a:pt x="42" y="938"/>
                      </a:moveTo>
                      <a:lnTo>
                        <a:pt x="37" y="775"/>
                      </a:lnTo>
                      <a:lnTo>
                        <a:pt x="0" y="360"/>
                      </a:lnTo>
                      <a:lnTo>
                        <a:pt x="37" y="276"/>
                      </a:lnTo>
                      <a:lnTo>
                        <a:pt x="293" y="0"/>
                      </a:lnTo>
                      <a:lnTo>
                        <a:pt x="523" y="48"/>
                      </a:lnTo>
                      <a:lnTo>
                        <a:pt x="578" y="184"/>
                      </a:lnTo>
                      <a:lnTo>
                        <a:pt x="528" y="247"/>
                      </a:lnTo>
                      <a:lnTo>
                        <a:pt x="563" y="465"/>
                      </a:lnTo>
                      <a:lnTo>
                        <a:pt x="486" y="487"/>
                      </a:lnTo>
                      <a:lnTo>
                        <a:pt x="464" y="705"/>
                      </a:lnTo>
                      <a:lnTo>
                        <a:pt x="406" y="805"/>
                      </a:lnTo>
                      <a:lnTo>
                        <a:pt x="358" y="874"/>
                      </a:lnTo>
                      <a:lnTo>
                        <a:pt x="305" y="938"/>
                      </a:lnTo>
                      <a:lnTo>
                        <a:pt x="263" y="1028"/>
                      </a:lnTo>
                      <a:lnTo>
                        <a:pt x="92" y="1001"/>
                      </a:lnTo>
                      <a:lnTo>
                        <a:pt x="42" y="938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4807800" y="4970160"/>
                  <a:ext cx="107280" cy="172800"/>
                </a:xfrm>
                <a:custGeom>
                  <a:avLst/>
                  <a:gdLst/>
                  <a:ahLst/>
                  <a:rect l="l" t="t" r="r" b="b"/>
                  <a:pathLst>
                    <a:path w="1289" h="1630">
                      <a:moveTo>
                        <a:pt x="37" y="717"/>
                      </a:moveTo>
                      <a:lnTo>
                        <a:pt x="0" y="784"/>
                      </a:lnTo>
                      <a:lnTo>
                        <a:pt x="0" y="915"/>
                      </a:lnTo>
                      <a:lnTo>
                        <a:pt x="85" y="1036"/>
                      </a:lnTo>
                      <a:lnTo>
                        <a:pt x="200" y="1120"/>
                      </a:lnTo>
                      <a:lnTo>
                        <a:pt x="235" y="1120"/>
                      </a:lnTo>
                      <a:lnTo>
                        <a:pt x="298" y="1263"/>
                      </a:lnTo>
                      <a:lnTo>
                        <a:pt x="348" y="1395"/>
                      </a:lnTo>
                      <a:lnTo>
                        <a:pt x="447" y="1508"/>
                      </a:lnTo>
                      <a:lnTo>
                        <a:pt x="555" y="1572"/>
                      </a:lnTo>
                      <a:lnTo>
                        <a:pt x="705" y="1621"/>
                      </a:lnTo>
                      <a:lnTo>
                        <a:pt x="855" y="1630"/>
                      </a:lnTo>
                      <a:lnTo>
                        <a:pt x="947" y="1579"/>
                      </a:lnTo>
                      <a:lnTo>
                        <a:pt x="1019" y="1494"/>
                      </a:lnTo>
                      <a:lnTo>
                        <a:pt x="1090" y="1374"/>
                      </a:lnTo>
                      <a:lnTo>
                        <a:pt x="1118" y="1263"/>
                      </a:lnTo>
                      <a:lnTo>
                        <a:pt x="1140" y="1056"/>
                      </a:lnTo>
                      <a:lnTo>
                        <a:pt x="1203" y="1001"/>
                      </a:lnTo>
                      <a:lnTo>
                        <a:pt x="1284" y="889"/>
                      </a:lnTo>
                      <a:lnTo>
                        <a:pt x="1289" y="768"/>
                      </a:lnTo>
                      <a:lnTo>
                        <a:pt x="1274" y="662"/>
                      </a:lnTo>
                      <a:lnTo>
                        <a:pt x="1261" y="627"/>
                      </a:lnTo>
                      <a:lnTo>
                        <a:pt x="1203" y="595"/>
                      </a:lnTo>
                      <a:lnTo>
                        <a:pt x="1118" y="325"/>
                      </a:lnTo>
                      <a:lnTo>
                        <a:pt x="1012" y="94"/>
                      </a:lnTo>
                      <a:lnTo>
                        <a:pt x="692" y="0"/>
                      </a:lnTo>
                      <a:lnTo>
                        <a:pt x="270" y="85"/>
                      </a:lnTo>
                      <a:lnTo>
                        <a:pt x="85" y="247"/>
                      </a:lnTo>
                      <a:lnTo>
                        <a:pt x="41" y="429"/>
                      </a:lnTo>
                      <a:lnTo>
                        <a:pt x="41" y="657"/>
                      </a:lnTo>
                      <a:lnTo>
                        <a:pt x="37" y="717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4833000" y="5072760"/>
                  <a:ext cx="18360" cy="13320"/>
                </a:xfrm>
                <a:custGeom>
                  <a:avLst/>
                  <a:gdLst/>
                  <a:ahLst/>
                  <a:rect l="l" t="t" r="r" b="b"/>
                  <a:pathLst>
                    <a:path w="223" h="120">
                      <a:moveTo>
                        <a:pt x="223" y="6"/>
                      </a:moveTo>
                      <a:lnTo>
                        <a:pt x="223" y="41"/>
                      </a:lnTo>
                      <a:lnTo>
                        <a:pt x="140" y="108"/>
                      </a:lnTo>
                      <a:lnTo>
                        <a:pt x="57" y="120"/>
                      </a:lnTo>
                      <a:lnTo>
                        <a:pt x="0" y="78"/>
                      </a:lnTo>
                      <a:lnTo>
                        <a:pt x="16" y="0"/>
                      </a:lnTo>
                      <a:lnTo>
                        <a:pt x="92" y="28"/>
                      </a:lnTo>
                      <a:lnTo>
                        <a:pt x="140" y="35"/>
                      </a:lnTo>
                      <a:lnTo>
                        <a:pt x="223" y="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4876200" y="5061960"/>
                  <a:ext cx="19800" cy="15120"/>
                </a:xfrm>
                <a:custGeom>
                  <a:avLst/>
                  <a:gdLst/>
                  <a:ahLst/>
                  <a:rect l="l" t="t" r="r" b="b"/>
                  <a:pathLst>
                    <a:path w="245" h="141">
                      <a:moveTo>
                        <a:pt x="0" y="85"/>
                      </a:moveTo>
                      <a:lnTo>
                        <a:pt x="18" y="112"/>
                      </a:lnTo>
                      <a:lnTo>
                        <a:pt x="117" y="141"/>
                      </a:lnTo>
                      <a:lnTo>
                        <a:pt x="212" y="134"/>
                      </a:lnTo>
                      <a:lnTo>
                        <a:pt x="245" y="79"/>
                      </a:lnTo>
                      <a:lnTo>
                        <a:pt x="238" y="0"/>
                      </a:lnTo>
                      <a:lnTo>
                        <a:pt x="179" y="42"/>
                      </a:lnTo>
                      <a:lnTo>
                        <a:pt x="139" y="79"/>
                      </a:lnTo>
                      <a:lnTo>
                        <a:pt x="83" y="9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4861440" y="5067000"/>
                  <a:ext cx="10440" cy="25200"/>
                </a:xfrm>
                <a:custGeom>
                  <a:avLst/>
                  <a:gdLst/>
                  <a:ahLst/>
                  <a:rect l="l" t="t" r="r" b="b"/>
                  <a:pathLst>
                    <a:path w="120" h="235">
                      <a:moveTo>
                        <a:pt x="57" y="37"/>
                      </a:moveTo>
                      <a:lnTo>
                        <a:pt x="37" y="0"/>
                      </a:lnTo>
                      <a:lnTo>
                        <a:pt x="13" y="16"/>
                      </a:lnTo>
                      <a:lnTo>
                        <a:pt x="22" y="141"/>
                      </a:lnTo>
                      <a:lnTo>
                        <a:pt x="0" y="169"/>
                      </a:lnTo>
                      <a:lnTo>
                        <a:pt x="13" y="220"/>
                      </a:lnTo>
                      <a:lnTo>
                        <a:pt x="64" y="235"/>
                      </a:lnTo>
                      <a:lnTo>
                        <a:pt x="108" y="220"/>
                      </a:lnTo>
                      <a:lnTo>
                        <a:pt x="120" y="178"/>
                      </a:lnTo>
                      <a:lnTo>
                        <a:pt x="112" y="148"/>
                      </a:lnTo>
                      <a:lnTo>
                        <a:pt x="78" y="121"/>
                      </a:lnTo>
                      <a:lnTo>
                        <a:pt x="57" y="3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4853520" y="508212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51" h="42">
                      <a:moveTo>
                        <a:pt x="25" y="0"/>
                      </a:moveTo>
                      <a:lnTo>
                        <a:pt x="0" y="25"/>
                      </a:lnTo>
                      <a:lnTo>
                        <a:pt x="25" y="42"/>
                      </a:lnTo>
                      <a:lnTo>
                        <a:pt x="51" y="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4873320" y="507960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48" h="36">
                      <a:moveTo>
                        <a:pt x="0" y="6"/>
                      </a:moveTo>
                      <a:lnTo>
                        <a:pt x="21" y="36"/>
                      </a:lnTo>
                      <a:lnTo>
                        <a:pt x="48" y="6"/>
                      </a:lnTo>
                      <a:lnTo>
                        <a:pt x="25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4856400" y="5107680"/>
                  <a:ext cx="27720" cy="7200"/>
                </a:xfrm>
                <a:custGeom>
                  <a:avLst/>
                  <a:gdLst/>
                  <a:ahLst/>
                  <a:rect l="l" t="t" r="r" b="b"/>
                  <a:pathLst>
                    <a:path w="343" h="70">
                      <a:moveTo>
                        <a:pt x="0" y="44"/>
                      </a:moveTo>
                      <a:lnTo>
                        <a:pt x="128" y="70"/>
                      </a:lnTo>
                      <a:lnTo>
                        <a:pt x="235" y="55"/>
                      </a:lnTo>
                      <a:lnTo>
                        <a:pt x="322" y="21"/>
                      </a:lnTo>
                      <a:lnTo>
                        <a:pt x="343" y="7"/>
                      </a:lnTo>
                      <a:lnTo>
                        <a:pt x="297" y="0"/>
                      </a:lnTo>
                      <a:lnTo>
                        <a:pt x="214" y="21"/>
                      </a:lnTo>
                      <a:lnTo>
                        <a:pt x="135" y="26"/>
                      </a:lnTo>
                      <a:lnTo>
                        <a:pt x="20" y="21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4820400" y="5003280"/>
                  <a:ext cx="29520" cy="44640"/>
                </a:xfrm>
                <a:custGeom>
                  <a:avLst/>
                  <a:gdLst/>
                  <a:ahLst/>
                  <a:rect l="l" t="t" r="r" b="b"/>
                  <a:pathLst>
                    <a:path w="363" h="429">
                      <a:moveTo>
                        <a:pt x="226" y="35"/>
                      </a:moveTo>
                      <a:lnTo>
                        <a:pt x="158" y="99"/>
                      </a:lnTo>
                      <a:lnTo>
                        <a:pt x="127" y="182"/>
                      </a:lnTo>
                      <a:lnTo>
                        <a:pt x="127" y="266"/>
                      </a:lnTo>
                      <a:lnTo>
                        <a:pt x="149" y="337"/>
                      </a:lnTo>
                      <a:lnTo>
                        <a:pt x="363" y="394"/>
                      </a:lnTo>
                      <a:lnTo>
                        <a:pt x="185" y="389"/>
                      </a:lnTo>
                      <a:lnTo>
                        <a:pt x="63" y="429"/>
                      </a:lnTo>
                      <a:lnTo>
                        <a:pt x="79" y="380"/>
                      </a:lnTo>
                      <a:lnTo>
                        <a:pt x="33" y="323"/>
                      </a:lnTo>
                      <a:lnTo>
                        <a:pt x="6" y="231"/>
                      </a:lnTo>
                      <a:lnTo>
                        <a:pt x="0" y="134"/>
                      </a:lnTo>
                      <a:lnTo>
                        <a:pt x="19" y="62"/>
                      </a:lnTo>
                      <a:lnTo>
                        <a:pt x="68" y="14"/>
                      </a:lnTo>
                      <a:lnTo>
                        <a:pt x="136" y="0"/>
                      </a:lnTo>
                      <a:lnTo>
                        <a:pt x="192" y="7"/>
                      </a:lnTo>
                      <a:lnTo>
                        <a:pt x="226" y="3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4866120" y="5026320"/>
                  <a:ext cx="25560" cy="15840"/>
                </a:xfrm>
                <a:custGeom>
                  <a:avLst/>
                  <a:gdLst/>
                  <a:ahLst/>
                  <a:rect l="l" t="t" r="r" b="b"/>
                  <a:pathLst>
                    <a:path w="314" h="154">
                      <a:moveTo>
                        <a:pt x="70" y="115"/>
                      </a:moveTo>
                      <a:lnTo>
                        <a:pt x="226" y="34"/>
                      </a:lnTo>
                      <a:lnTo>
                        <a:pt x="314" y="30"/>
                      </a:lnTo>
                      <a:lnTo>
                        <a:pt x="249" y="0"/>
                      </a:lnTo>
                      <a:lnTo>
                        <a:pt x="176" y="30"/>
                      </a:lnTo>
                      <a:lnTo>
                        <a:pt x="0" y="154"/>
                      </a:lnTo>
                      <a:lnTo>
                        <a:pt x="70" y="11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4811400" y="5053320"/>
                  <a:ext cx="8280" cy="6840"/>
                </a:xfrm>
                <a:custGeom>
                  <a:avLst/>
                  <a:gdLst/>
                  <a:ahLst/>
                  <a:rect l="l" t="t" r="r" b="b"/>
                  <a:pathLst>
                    <a:path w="105" h="60">
                      <a:moveTo>
                        <a:pt x="0" y="44"/>
                      </a:moveTo>
                      <a:lnTo>
                        <a:pt x="96" y="60"/>
                      </a:lnTo>
                      <a:lnTo>
                        <a:pt x="105" y="31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4901400" y="5038200"/>
                  <a:ext cx="8280" cy="11880"/>
                </a:xfrm>
                <a:custGeom>
                  <a:avLst/>
                  <a:gdLst/>
                  <a:ahLst/>
                  <a:rect l="l" t="t" r="r" b="b"/>
                  <a:pathLst>
                    <a:path w="99" h="111">
                      <a:moveTo>
                        <a:pt x="0" y="111"/>
                      </a:moveTo>
                      <a:lnTo>
                        <a:pt x="19" y="111"/>
                      </a:lnTo>
                      <a:lnTo>
                        <a:pt x="99" y="35"/>
                      </a:lnTo>
                      <a:lnTo>
                        <a:pt x="90" y="0"/>
                      </a:lnTo>
                      <a:lnTo>
                        <a:pt x="55" y="0"/>
                      </a:lnTo>
                      <a:lnTo>
                        <a:pt x="7" y="39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4865040" y="5126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154" h="84">
                      <a:moveTo>
                        <a:pt x="27" y="7"/>
                      </a:moveTo>
                      <a:lnTo>
                        <a:pt x="0" y="49"/>
                      </a:lnTo>
                      <a:lnTo>
                        <a:pt x="32" y="84"/>
                      </a:lnTo>
                      <a:lnTo>
                        <a:pt x="140" y="69"/>
                      </a:lnTo>
                      <a:lnTo>
                        <a:pt x="154" y="27"/>
                      </a:lnTo>
                      <a:lnTo>
                        <a:pt x="127" y="0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4809960" y="5189040"/>
                  <a:ext cx="14400" cy="35280"/>
                </a:xfrm>
                <a:custGeom>
                  <a:avLst/>
                  <a:gdLst/>
                  <a:ahLst/>
                  <a:rect l="l" t="t" r="r" b="b"/>
                  <a:pathLst>
                    <a:path w="172" h="336">
                      <a:moveTo>
                        <a:pt x="7" y="42"/>
                      </a:moveTo>
                      <a:lnTo>
                        <a:pt x="51" y="211"/>
                      </a:lnTo>
                      <a:lnTo>
                        <a:pt x="73" y="336"/>
                      </a:lnTo>
                      <a:lnTo>
                        <a:pt x="156" y="336"/>
                      </a:lnTo>
                      <a:lnTo>
                        <a:pt x="172" y="279"/>
                      </a:lnTo>
                      <a:lnTo>
                        <a:pt x="99" y="231"/>
                      </a:lnTo>
                      <a:lnTo>
                        <a:pt x="73" y="147"/>
                      </a:lnTo>
                      <a:lnTo>
                        <a:pt x="78" y="75"/>
                      </a:lnTo>
                      <a:lnTo>
                        <a:pt x="0" y="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4810320" y="516528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264" h="122">
                      <a:moveTo>
                        <a:pt x="0" y="106"/>
                      </a:moveTo>
                      <a:lnTo>
                        <a:pt x="13" y="122"/>
                      </a:lnTo>
                      <a:lnTo>
                        <a:pt x="57" y="78"/>
                      </a:lnTo>
                      <a:lnTo>
                        <a:pt x="114" y="97"/>
                      </a:lnTo>
                      <a:lnTo>
                        <a:pt x="140" y="53"/>
                      </a:lnTo>
                      <a:lnTo>
                        <a:pt x="264" y="106"/>
                      </a:lnTo>
                      <a:lnTo>
                        <a:pt x="127" y="0"/>
                      </a:lnTo>
                      <a:lnTo>
                        <a:pt x="101" y="14"/>
                      </a:lnTo>
                      <a:lnTo>
                        <a:pt x="32" y="64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4827960" y="520668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106" h="147">
                      <a:moveTo>
                        <a:pt x="0" y="44"/>
                      </a:moveTo>
                      <a:lnTo>
                        <a:pt x="41" y="85"/>
                      </a:lnTo>
                      <a:lnTo>
                        <a:pt x="63" y="147"/>
                      </a:lnTo>
                      <a:lnTo>
                        <a:pt x="106" y="92"/>
                      </a:lnTo>
                      <a:lnTo>
                        <a:pt x="99" y="35"/>
                      </a:lnTo>
                      <a:lnTo>
                        <a:pt x="63" y="9"/>
                      </a:lnTo>
                      <a:lnTo>
                        <a:pt x="7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4836240" y="5057640"/>
                  <a:ext cx="20520" cy="9720"/>
                </a:xfrm>
                <a:custGeom>
                  <a:avLst/>
                  <a:gdLst/>
                  <a:ahLst/>
                  <a:rect l="l" t="t" r="r" b="b"/>
                  <a:pathLst>
                    <a:path w="244" h="94">
                      <a:moveTo>
                        <a:pt x="0" y="34"/>
                      </a:moveTo>
                      <a:lnTo>
                        <a:pt x="45" y="81"/>
                      </a:lnTo>
                      <a:lnTo>
                        <a:pt x="89" y="94"/>
                      </a:lnTo>
                      <a:lnTo>
                        <a:pt x="114" y="94"/>
                      </a:lnTo>
                      <a:lnTo>
                        <a:pt x="167" y="94"/>
                      </a:lnTo>
                      <a:lnTo>
                        <a:pt x="244" y="43"/>
                      </a:lnTo>
                      <a:lnTo>
                        <a:pt x="204" y="0"/>
                      </a:lnTo>
                      <a:lnTo>
                        <a:pt x="123" y="9"/>
                      </a:lnTo>
                      <a:lnTo>
                        <a:pt x="45" y="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4872960" y="505332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221" h="85">
                      <a:moveTo>
                        <a:pt x="0" y="70"/>
                      </a:moveTo>
                      <a:lnTo>
                        <a:pt x="44" y="7"/>
                      </a:lnTo>
                      <a:lnTo>
                        <a:pt x="129" y="0"/>
                      </a:lnTo>
                      <a:lnTo>
                        <a:pt x="221" y="7"/>
                      </a:lnTo>
                      <a:lnTo>
                        <a:pt x="216" y="26"/>
                      </a:lnTo>
                      <a:lnTo>
                        <a:pt x="185" y="57"/>
                      </a:lnTo>
                      <a:lnTo>
                        <a:pt x="115" y="85"/>
                      </a:lnTo>
                      <a:lnTo>
                        <a:pt x="51" y="85"/>
                      </a:lnTo>
                      <a:lnTo>
                        <a:pt x="9" y="85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4257720" y="5104800"/>
                  <a:ext cx="45000" cy="37080"/>
                </a:xfrm>
                <a:custGeom>
                  <a:avLst/>
                  <a:gdLst/>
                  <a:ahLst/>
                  <a:rect l="l" t="t" r="r" b="b"/>
                  <a:pathLst>
                    <a:path w="546" h="352">
                      <a:moveTo>
                        <a:pt x="53" y="229"/>
                      </a:moveTo>
                      <a:lnTo>
                        <a:pt x="126" y="174"/>
                      </a:lnTo>
                      <a:lnTo>
                        <a:pt x="163" y="161"/>
                      </a:lnTo>
                      <a:lnTo>
                        <a:pt x="313" y="161"/>
                      </a:lnTo>
                      <a:lnTo>
                        <a:pt x="387" y="167"/>
                      </a:lnTo>
                      <a:lnTo>
                        <a:pt x="194" y="94"/>
                      </a:lnTo>
                      <a:lnTo>
                        <a:pt x="60" y="94"/>
                      </a:lnTo>
                      <a:lnTo>
                        <a:pt x="9" y="82"/>
                      </a:lnTo>
                      <a:lnTo>
                        <a:pt x="0" y="75"/>
                      </a:lnTo>
                      <a:lnTo>
                        <a:pt x="145" y="0"/>
                      </a:lnTo>
                      <a:lnTo>
                        <a:pt x="224" y="13"/>
                      </a:lnTo>
                      <a:lnTo>
                        <a:pt x="313" y="64"/>
                      </a:lnTo>
                      <a:lnTo>
                        <a:pt x="415" y="108"/>
                      </a:lnTo>
                      <a:lnTo>
                        <a:pt x="498" y="130"/>
                      </a:lnTo>
                      <a:lnTo>
                        <a:pt x="546" y="198"/>
                      </a:lnTo>
                      <a:lnTo>
                        <a:pt x="521" y="255"/>
                      </a:lnTo>
                      <a:lnTo>
                        <a:pt x="484" y="255"/>
                      </a:lnTo>
                      <a:lnTo>
                        <a:pt x="431" y="322"/>
                      </a:lnTo>
                      <a:lnTo>
                        <a:pt x="376" y="329"/>
                      </a:lnTo>
                      <a:lnTo>
                        <a:pt x="286" y="352"/>
                      </a:lnTo>
                      <a:lnTo>
                        <a:pt x="365" y="280"/>
                      </a:lnTo>
                      <a:lnTo>
                        <a:pt x="401" y="235"/>
                      </a:lnTo>
                      <a:lnTo>
                        <a:pt x="401" y="218"/>
                      </a:lnTo>
                      <a:lnTo>
                        <a:pt x="365" y="209"/>
                      </a:lnTo>
                      <a:lnTo>
                        <a:pt x="304" y="191"/>
                      </a:lnTo>
                      <a:lnTo>
                        <a:pt x="286" y="235"/>
                      </a:lnTo>
                      <a:lnTo>
                        <a:pt x="282" y="205"/>
                      </a:lnTo>
                      <a:lnTo>
                        <a:pt x="256" y="205"/>
                      </a:lnTo>
                      <a:lnTo>
                        <a:pt x="253" y="225"/>
                      </a:lnTo>
                      <a:lnTo>
                        <a:pt x="277" y="244"/>
                      </a:lnTo>
                      <a:lnTo>
                        <a:pt x="268" y="266"/>
                      </a:lnTo>
                      <a:lnTo>
                        <a:pt x="84" y="244"/>
                      </a:lnTo>
                      <a:lnTo>
                        <a:pt x="53" y="2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4266360" y="5134680"/>
                  <a:ext cx="18360" cy="4680"/>
                </a:xfrm>
                <a:custGeom>
                  <a:avLst/>
                  <a:gdLst/>
                  <a:ahLst/>
                  <a:rect l="l" t="t" r="r" b="b"/>
                  <a:pathLst>
                    <a:path w="224" h="49">
                      <a:moveTo>
                        <a:pt x="0" y="0"/>
                      </a:moveTo>
                      <a:lnTo>
                        <a:pt x="40" y="33"/>
                      </a:lnTo>
                      <a:lnTo>
                        <a:pt x="139" y="49"/>
                      </a:lnTo>
                      <a:lnTo>
                        <a:pt x="224" y="3"/>
                      </a:lnTo>
                      <a:lnTo>
                        <a:pt x="132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4284720" y="5124600"/>
                  <a:ext cx="5040" cy="10080"/>
                </a:xfrm>
                <a:custGeom>
                  <a:avLst/>
                  <a:gdLst/>
                  <a:ahLst/>
                  <a:rect l="l" t="t" r="r" b="b"/>
                  <a:pathLst>
                    <a:path w="64" h="98">
                      <a:moveTo>
                        <a:pt x="0" y="0"/>
                      </a:moveTo>
                      <a:lnTo>
                        <a:pt x="53" y="98"/>
                      </a:lnTo>
                      <a:lnTo>
                        <a:pt x="64" y="81"/>
                      </a:lnTo>
                      <a:lnTo>
                        <a:pt x="34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4306680" y="5123520"/>
                  <a:ext cx="33480" cy="55080"/>
                </a:xfrm>
                <a:custGeom>
                  <a:avLst/>
                  <a:gdLst/>
                  <a:ahLst/>
                  <a:rect l="l" t="t" r="r" b="b"/>
                  <a:pathLst>
                    <a:path w="406" h="514">
                      <a:moveTo>
                        <a:pt x="0" y="10"/>
                      </a:moveTo>
                      <a:lnTo>
                        <a:pt x="0" y="63"/>
                      </a:lnTo>
                      <a:lnTo>
                        <a:pt x="28" y="99"/>
                      </a:lnTo>
                      <a:lnTo>
                        <a:pt x="12" y="388"/>
                      </a:lnTo>
                      <a:lnTo>
                        <a:pt x="35" y="514"/>
                      </a:lnTo>
                      <a:lnTo>
                        <a:pt x="28" y="380"/>
                      </a:lnTo>
                      <a:lnTo>
                        <a:pt x="39" y="213"/>
                      </a:lnTo>
                      <a:lnTo>
                        <a:pt x="146" y="288"/>
                      </a:lnTo>
                      <a:lnTo>
                        <a:pt x="105" y="201"/>
                      </a:lnTo>
                      <a:lnTo>
                        <a:pt x="197" y="235"/>
                      </a:lnTo>
                      <a:lnTo>
                        <a:pt x="275" y="222"/>
                      </a:lnTo>
                      <a:lnTo>
                        <a:pt x="202" y="201"/>
                      </a:lnTo>
                      <a:lnTo>
                        <a:pt x="202" y="178"/>
                      </a:lnTo>
                      <a:lnTo>
                        <a:pt x="233" y="160"/>
                      </a:lnTo>
                      <a:lnTo>
                        <a:pt x="294" y="208"/>
                      </a:lnTo>
                      <a:lnTo>
                        <a:pt x="328" y="189"/>
                      </a:lnTo>
                      <a:lnTo>
                        <a:pt x="250" y="114"/>
                      </a:lnTo>
                      <a:lnTo>
                        <a:pt x="202" y="85"/>
                      </a:lnTo>
                      <a:lnTo>
                        <a:pt x="202" y="65"/>
                      </a:lnTo>
                      <a:lnTo>
                        <a:pt x="321" y="90"/>
                      </a:lnTo>
                      <a:lnTo>
                        <a:pt x="356" y="132"/>
                      </a:lnTo>
                      <a:lnTo>
                        <a:pt x="344" y="164"/>
                      </a:lnTo>
                      <a:lnTo>
                        <a:pt x="406" y="141"/>
                      </a:lnTo>
                      <a:lnTo>
                        <a:pt x="406" y="54"/>
                      </a:lnTo>
                      <a:lnTo>
                        <a:pt x="365" y="17"/>
                      </a:lnTo>
                      <a:lnTo>
                        <a:pt x="270" y="17"/>
                      </a:lnTo>
                      <a:lnTo>
                        <a:pt x="79" y="0"/>
                      </a:lnTo>
                      <a:lnTo>
                        <a:pt x="35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4305240" y="5182200"/>
                  <a:ext cx="3960" cy="6480"/>
                </a:xfrm>
                <a:custGeom>
                  <a:avLst/>
                  <a:gdLst/>
                  <a:ahLst/>
                  <a:rect l="l" t="t" r="r" b="b"/>
                  <a:pathLst>
                    <a:path w="44" h="62">
                      <a:moveTo>
                        <a:pt x="0" y="46"/>
                      </a:moveTo>
                      <a:lnTo>
                        <a:pt x="28" y="62"/>
                      </a:lnTo>
                      <a:lnTo>
                        <a:pt x="44" y="49"/>
                      </a:lnTo>
                      <a:lnTo>
                        <a:pt x="35" y="0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4260960" y="51753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647" h="347">
                      <a:moveTo>
                        <a:pt x="509" y="114"/>
                      </a:moveTo>
                      <a:lnTo>
                        <a:pt x="466" y="117"/>
                      </a:lnTo>
                      <a:lnTo>
                        <a:pt x="374" y="29"/>
                      </a:lnTo>
                      <a:lnTo>
                        <a:pt x="311" y="0"/>
                      </a:lnTo>
                      <a:lnTo>
                        <a:pt x="219" y="31"/>
                      </a:lnTo>
                      <a:lnTo>
                        <a:pt x="219" y="57"/>
                      </a:lnTo>
                      <a:lnTo>
                        <a:pt x="258" y="64"/>
                      </a:lnTo>
                      <a:lnTo>
                        <a:pt x="120" y="105"/>
                      </a:lnTo>
                      <a:lnTo>
                        <a:pt x="0" y="181"/>
                      </a:lnTo>
                      <a:lnTo>
                        <a:pt x="23" y="225"/>
                      </a:lnTo>
                      <a:lnTo>
                        <a:pt x="95" y="220"/>
                      </a:lnTo>
                      <a:lnTo>
                        <a:pt x="157" y="237"/>
                      </a:lnTo>
                      <a:lnTo>
                        <a:pt x="240" y="193"/>
                      </a:lnTo>
                      <a:lnTo>
                        <a:pt x="357" y="211"/>
                      </a:lnTo>
                      <a:lnTo>
                        <a:pt x="461" y="200"/>
                      </a:lnTo>
                      <a:lnTo>
                        <a:pt x="521" y="257"/>
                      </a:lnTo>
                      <a:lnTo>
                        <a:pt x="567" y="279"/>
                      </a:lnTo>
                      <a:lnTo>
                        <a:pt x="620" y="347"/>
                      </a:lnTo>
                      <a:lnTo>
                        <a:pt x="647" y="334"/>
                      </a:lnTo>
                      <a:lnTo>
                        <a:pt x="643" y="225"/>
                      </a:lnTo>
                      <a:lnTo>
                        <a:pt x="567" y="105"/>
                      </a:lnTo>
                      <a:lnTo>
                        <a:pt x="509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4290840" y="515844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72" h="86">
                      <a:moveTo>
                        <a:pt x="0" y="55"/>
                      </a:moveTo>
                      <a:lnTo>
                        <a:pt x="37" y="86"/>
                      </a:lnTo>
                      <a:lnTo>
                        <a:pt x="72" y="24"/>
                      </a:lnTo>
                      <a:lnTo>
                        <a:pt x="6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4278960" y="5204160"/>
                  <a:ext cx="24840" cy="13320"/>
                </a:xfrm>
                <a:custGeom>
                  <a:avLst/>
                  <a:gdLst/>
                  <a:ahLst/>
                  <a:rect l="l" t="t" r="r" b="b"/>
                  <a:pathLst>
                    <a:path w="302" h="129">
                      <a:moveTo>
                        <a:pt x="0" y="26"/>
                      </a:moveTo>
                      <a:lnTo>
                        <a:pt x="48" y="0"/>
                      </a:lnTo>
                      <a:lnTo>
                        <a:pt x="302" y="42"/>
                      </a:lnTo>
                      <a:lnTo>
                        <a:pt x="279" y="129"/>
                      </a:lnTo>
                      <a:lnTo>
                        <a:pt x="228" y="98"/>
                      </a:lnTo>
                      <a:lnTo>
                        <a:pt x="30" y="9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4238280" y="5015880"/>
                  <a:ext cx="105120" cy="72720"/>
                </a:xfrm>
                <a:custGeom>
                  <a:avLst/>
                  <a:gdLst/>
                  <a:ahLst/>
                  <a:rect l="l" t="t" r="r" b="b"/>
                  <a:pathLst>
                    <a:path w="1275" h="682">
                      <a:moveTo>
                        <a:pt x="934" y="170"/>
                      </a:moveTo>
                      <a:lnTo>
                        <a:pt x="1037" y="159"/>
                      </a:lnTo>
                      <a:lnTo>
                        <a:pt x="1037" y="136"/>
                      </a:lnTo>
                      <a:lnTo>
                        <a:pt x="970" y="92"/>
                      </a:lnTo>
                      <a:lnTo>
                        <a:pt x="834" y="42"/>
                      </a:lnTo>
                      <a:lnTo>
                        <a:pt x="730" y="25"/>
                      </a:lnTo>
                      <a:lnTo>
                        <a:pt x="431" y="7"/>
                      </a:lnTo>
                      <a:lnTo>
                        <a:pt x="652" y="0"/>
                      </a:lnTo>
                      <a:lnTo>
                        <a:pt x="868" y="18"/>
                      </a:lnTo>
                      <a:lnTo>
                        <a:pt x="1037" y="73"/>
                      </a:lnTo>
                      <a:lnTo>
                        <a:pt x="1157" y="154"/>
                      </a:lnTo>
                      <a:lnTo>
                        <a:pt x="1249" y="251"/>
                      </a:lnTo>
                      <a:lnTo>
                        <a:pt x="1275" y="325"/>
                      </a:lnTo>
                      <a:lnTo>
                        <a:pt x="1275" y="387"/>
                      </a:lnTo>
                      <a:lnTo>
                        <a:pt x="1217" y="449"/>
                      </a:lnTo>
                      <a:lnTo>
                        <a:pt x="1104" y="530"/>
                      </a:lnTo>
                      <a:lnTo>
                        <a:pt x="943" y="578"/>
                      </a:lnTo>
                      <a:lnTo>
                        <a:pt x="730" y="631"/>
                      </a:lnTo>
                      <a:lnTo>
                        <a:pt x="315" y="664"/>
                      </a:lnTo>
                      <a:lnTo>
                        <a:pt x="0" y="682"/>
                      </a:lnTo>
                      <a:lnTo>
                        <a:pt x="703" y="504"/>
                      </a:lnTo>
                      <a:lnTo>
                        <a:pt x="864" y="449"/>
                      </a:lnTo>
                      <a:lnTo>
                        <a:pt x="952" y="407"/>
                      </a:lnTo>
                      <a:lnTo>
                        <a:pt x="975" y="387"/>
                      </a:lnTo>
                      <a:lnTo>
                        <a:pt x="970" y="374"/>
                      </a:lnTo>
                      <a:lnTo>
                        <a:pt x="917" y="367"/>
                      </a:lnTo>
                      <a:lnTo>
                        <a:pt x="1074" y="325"/>
                      </a:lnTo>
                      <a:lnTo>
                        <a:pt x="1086" y="304"/>
                      </a:lnTo>
                      <a:lnTo>
                        <a:pt x="1157" y="306"/>
                      </a:lnTo>
                      <a:lnTo>
                        <a:pt x="1161" y="284"/>
                      </a:lnTo>
                      <a:lnTo>
                        <a:pt x="1136" y="271"/>
                      </a:lnTo>
                      <a:lnTo>
                        <a:pt x="1018" y="242"/>
                      </a:lnTo>
                      <a:lnTo>
                        <a:pt x="1123" y="242"/>
                      </a:lnTo>
                      <a:lnTo>
                        <a:pt x="1123" y="216"/>
                      </a:lnTo>
                      <a:lnTo>
                        <a:pt x="1044" y="189"/>
                      </a:lnTo>
                      <a:lnTo>
                        <a:pt x="934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4200480" y="5015880"/>
                  <a:ext cx="115200" cy="144000"/>
                </a:xfrm>
                <a:custGeom>
                  <a:avLst/>
                  <a:gdLst/>
                  <a:ahLst/>
                  <a:rect l="l" t="t" r="r" b="b"/>
                  <a:pathLst>
                    <a:path w="1400" h="1354">
                      <a:moveTo>
                        <a:pt x="585" y="668"/>
                      </a:moveTo>
                      <a:lnTo>
                        <a:pt x="486" y="811"/>
                      </a:lnTo>
                      <a:lnTo>
                        <a:pt x="468" y="885"/>
                      </a:lnTo>
                      <a:lnTo>
                        <a:pt x="413" y="947"/>
                      </a:lnTo>
                      <a:lnTo>
                        <a:pt x="352" y="1130"/>
                      </a:lnTo>
                      <a:lnTo>
                        <a:pt x="277" y="1118"/>
                      </a:lnTo>
                      <a:lnTo>
                        <a:pt x="233" y="1002"/>
                      </a:lnTo>
                      <a:lnTo>
                        <a:pt x="171" y="975"/>
                      </a:lnTo>
                      <a:lnTo>
                        <a:pt x="110" y="991"/>
                      </a:lnTo>
                      <a:lnTo>
                        <a:pt x="67" y="1064"/>
                      </a:lnTo>
                      <a:lnTo>
                        <a:pt x="97" y="1354"/>
                      </a:lnTo>
                      <a:lnTo>
                        <a:pt x="46" y="1263"/>
                      </a:lnTo>
                      <a:lnTo>
                        <a:pt x="0" y="730"/>
                      </a:lnTo>
                      <a:lnTo>
                        <a:pt x="40" y="627"/>
                      </a:lnTo>
                      <a:lnTo>
                        <a:pt x="110" y="438"/>
                      </a:lnTo>
                      <a:lnTo>
                        <a:pt x="270" y="242"/>
                      </a:lnTo>
                      <a:lnTo>
                        <a:pt x="486" y="71"/>
                      </a:lnTo>
                      <a:lnTo>
                        <a:pt x="754" y="11"/>
                      </a:lnTo>
                      <a:lnTo>
                        <a:pt x="976" y="0"/>
                      </a:lnTo>
                      <a:lnTo>
                        <a:pt x="1095" y="55"/>
                      </a:lnTo>
                      <a:lnTo>
                        <a:pt x="1160" y="124"/>
                      </a:lnTo>
                      <a:lnTo>
                        <a:pt x="1286" y="165"/>
                      </a:lnTo>
                      <a:lnTo>
                        <a:pt x="1240" y="165"/>
                      </a:lnTo>
                      <a:lnTo>
                        <a:pt x="1240" y="189"/>
                      </a:lnTo>
                      <a:lnTo>
                        <a:pt x="1342" y="223"/>
                      </a:lnTo>
                      <a:lnTo>
                        <a:pt x="1270" y="251"/>
                      </a:lnTo>
                      <a:lnTo>
                        <a:pt x="1277" y="271"/>
                      </a:lnTo>
                      <a:lnTo>
                        <a:pt x="1314" y="290"/>
                      </a:lnTo>
                      <a:lnTo>
                        <a:pt x="1229" y="318"/>
                      </a:lnTo>
                      <a:lnTo>
                        <a:pt x="1277" y="365"/>
                      </a:lnTo>
                      <a:lnTo>
                        <a:pt x="1125" y="403"/>
                      </a:lnTo>
                      <a:lnTo>
                        <a:pt x="1125" y="413"/>
                      </a:lnTo>
                      <a:lnTo>
                        <a:pt x="1266" y="424"/>
                      </a:lnTo>
                      <a:lnTo>
                        <a:pt x="1116" y="470"/>
                      </a:lnTo>
                      <a:lnTo>
                        <a:pt x="1400" y="438"/>
                      </a:lnTo>
                      <a:lnTo>
                        <a:pt x="1383" y="530"/>
                      </a:lnTo>
                      <a:lnTo>
                        <a:pt x="864" y="631"/>
                      </a:lnTo>
                      <a:lnTo>
                        <a:pt x="585" y="6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4308480" y="5063400"/>
                  <a:ext cx="46800" cy="167040"/>
                </a:xfrm>
                <a:custGeom>
                  <a:avLst/>
                  <a:gdLst/>
                  <a:ahLst/>
                  <a:rect l="l" t="t" r="r" b="b"/>
                  <a:pathLst>
                    <a:path w="567" h="1578">
                      <a:moveTo>
                        <a:pt x="320" y="150"/>
                      </a:moveTo>
                      <a:lnTo>
                        <a:pt x="358" y="245"/>
                      </a:lnTo>
                      <a:lnTo>
                        <a:pt x="358" y="635"/>
                      </a:lnTo>
                      <a:lnTo>
                        <a:pt x="304" y="761"/>
                      </a:lnTo>
                      <a:lnTo>
                        <a:pt x="304" y="904"/>
                      </a:lnTo>
                      <a:lnTo>
                        <a:pt x="239" y="1119"/>
                      </a:lnTo>
                      <a:lnTo>
                        <a:pt x="147" y="1255"/>
                      </a:lnTo>
                      <a:lnTo>
                        <a:pt x="0" y="1578"/>
                      </a:lnTo>
                      <a:lnTo>
                        <a:pt x="90" y="1471"/>
                      </a:lnTo>
                      <a:lnTo>
                        <a:pt x="198" y="1211"/>
                      </a:lnTo>
                      <a:lnTo>
                        <a:pt x="270" y="1105"/>
                      </a:lnTo>
                      <a:lnTo>
                        <a:pt x="341" y="941"/>
                      </a:lnTo>
                      <a:lnTo>
                        <a:pt x="341" y="794"/>
                      </a:lnTo>
                      <a:lnTo>
                        <a:pt x="484" y="704"/>
                      </a:lnTo>
                      <a:lnTo>
                        <a:pt x="567" y="455"/>
                      </a:lnTo>
                      <a:lnTo>
                        <a:pt x="567" y="261"/>
                      </a:lnTo>
                      <a:lnTo>
                        <a:pt x="558" y="121"/>
                      </a:lnTo>
                      <a:lnTo>
                        <a:pt x="532" y="42"/>
                      </a:lnTo>
                      <a:lnTo>
                        <a:pt x="468" y="0"/>
                      </a:lnTo>
                      <a:lnTo>
                        <a:pt x="521" y="60"/>
                      </a:lnTo>
                      <a:lnTo>
                        <a:pt x="532" y="110"/>
                      </a:lnTo>
                      <a:lnTo>
                        <a:pt x="521" y="139"/>
                      </a:lnTo>
                      <a:lnTo>
                        <a:pt x="444" y="90"/>
                      </a:lnTo>
                      <a:lnTo>
                        <a:pt x="437" y="97"/>
                      </a:lnTo>
                      <a:lnTo>
                        <a:pt x="488" y="178"/>
                      </a:lnTo>
                      <a:lnTo>
                        <a:pt x="505" y="305"/>
                      </a:lnTo>
                      <a:lnTo>
                        <a:pt x="505" y="429"/>
                      </a:lnTo>
                      <a:lnTo>
                        <a:pt x="468" y="275"/>
                      </a:lnTo>
                      <a:lnTo>
                        <a:pt x="345" y="110"/>
                      </a:lnTo>
                      <a:lnTo>
                        <a:pt x="320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4217760" y="5160240"/>
                  <a:ext cx="87480" cy="110880"/>
                </a:xfrm>
                <a:custGeom>
                  <a:avLst/>
                  <a:gdLst/>
                  <a:ahLst/>
                  <a:rect l="l" t="t" r="r" b="b"/>
                  <a:pathLst>
                    <a:path w="1057" h="1050">
                      <a:moveTo>
                        <a:pt x="90" y="0"/>
                      </a:moveTo>
                      <a:lnTo>
                        <a:pt x="68" y="195"/>
                      </a:lnTo>
                      <a:lnTo>
                        <a:pt x="72" y="281"/>
                      </a:lnTo>
                      <a:lnTo>
                        <a:pt x="105" y="356"/>
                      </a:lnTo>
                      <a:lnTo>
                        <a:pt x="158" y="424"/>
                      </a:lnTo>
                      <a:lnTo>
                        <a:pt x="259" y="506"/>
                      </a:lnTo>
                      <a:lnTo>
                        <a:pt x="558" y="651"/>
                      </a:lnTo>
                      <a:lnTo>
                        <a:pt x="842" y="758"/>
                      </a:lnTo>
                      <a:lnTo>
                        <a:pt x="925" y="762"/>
                      </a:lnTo>
                      <a:lnTo>
                        <a:pt x="995" y="758"/>
                      </a:lnTo>
                      <a:lnTo>
                        <a:pt x="1057" y="730"/>
                      </a:lnTo>
                      <a:lnTo>
                        <a:pt x="1006" y="767"/>
                      </a:lnTo>
                      <a:lnTo>
                        <a:pt x="944" y="783"/>
                      </a:lnTo>
                      <a:lnTo>
                        <a:pt x="863" y="785"/>
                      </a:lnTo>
                      <a:lnTo>
                        <a:pt x="753" y="767"/>
                      </a:lnTo>
                      <a:lnTo>
                        <a:pt x="753" y="817"/>
                      </a:lnTo>
                      <a:lnTo>
                        <a:pt x="738" y="882"/>
                      </a:lnTo>
                      <a:lnTo>
                        <a:pt x="661" y="1009"/>
                      </a:lnTo>
                      <a:lnTo>
                        <a:pt x="704" y="901"/>
                      </a:lnTo>
                      <a:lnTo>
                        <a:pt x="709" y="824"/>
                      </a:lnTo>
                      <a:lnTo>
                        <a:pt x="624" y="861"/>
                      </a:lnTo>
                      <a:lnTo>
                        <a:pt x="624" y="978"/>
                      </a:lnTo>
                      <a:lnTo>
                        <a:pt x="598" y="1013"/>
                      </a:lnTo>
                      <a:lnTo>
                        <a:pt x="624" y="1050"/>
                      </a:lnTo>
                      <a:lnTo>
                        <a:pt x="591" y="1050"/>
                      </a:lnTo>
                      <a:lnTo>
                        <a:pt x="506" y="1009"/>
                      </a:lnTo>
                      <a:lnTo>
                        <a:pt x="328" y="843"/>
                      </a:lnTo>
                      <a:lnTo>
                        <a:pt x="215" y="721"/>
                      </a:lnTo>
                      <a:lnTo>
                        <a:pt x="98" y="567"/>
                      </a:lnTo>
                      <a:lnTo>
                        <a:pt x="0" y="370"/>
                      </a:lnTo>
                      <a:lnTo>
                        <a:pt x="107" y="541"/>
                      </a:lnTo>
                      <a:lnTo>
                        <a:pt x="204" y="633"/>
                      </a:lnTo>
                      <a:lnTo>
                        <a:pt x="81" y="411"/>
                      </a:lnTo>
                      <a:lnTo>
                        <a:pt x="52" y="288"/>
                      </a:lnTo>
                      <a:lnTo>
                        <a:pt x="52" y="213"/>
                      </a:lnTo>
                      <a:lnTo>
                        <a:pt x="68" y="91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4209840" y="5128200"/>
                  <a:ext cx="14400" cy="32760"/>
                </a:xfrm>
                <a:custGeom>
                  <a:avLst/>
                  <a:gdLst/>
                  <a:ahLst/>
                  <a:rect l="l" t="t" r="r" b="b"/>
                  <a:pathLst>
                    <a:path w="180" h="312">
                      <a:moveTo>
                        <a:pt x="37" y="0"/>
                      </a:moveTo>
                      <a:lnTo>
                        <a:pt x="88" y="7"/>
                      </a:lnTo>
                      <a:lnTo>
                        <a:pt x="175" y="62"/>
                      </a:lnTo>
                      <a:lnTo>
                        <a:pt x="180" y="164"/>
                      </a:lnTo>
                      <a:lnTo>
                        <a:pt x="146" y="147"/>
                      </a:lnTo>
                      <a:lnTo>
                        <a:pt x="136" y="134"/>
                      </a:lnTo>
                      <a:lnTo>
                        <a:pt x="94" y="171"/>
                      </a:lnTo>
                      <a:lnTo>
                        <a:pt x="94" y="185"/>
                      </a:lnTo>
                      <a:lnTo>
                        <a:pt x="125" y="204"/>
                      </a:lnTo>
                      <a:lnTo>
                        <a:pt x="155" y="301"/>
                      </a:lnTo>
                      <a:lnTo>
                        <a:pt x="132" y="312"/>
                      </a:lnTo>
                      <a:lnTo>
                        <a:pt x="100" y="257"/>
                      </a:lnTo>
                      <a:lnTo>
                        <a:pt x="19" y="233"/>
                      </a:lnTo>
                      <a:lnTo>
                        <a:pt x="0" y="111"/>
                      </a:lnTo>
                      <a:lnTo>
                        <a:pt x="19" y="95"/>
                      </a:lnTo>
                      <a:lnTo>
                        <a:pt x="105" y="53"/>
                      </a:lnTo>
                      <a:lnTo>
                        <a:pt x="81" y="26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4211280" y="5159520"/>
                  <a:ext cx="5760" cy="144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0" y="0"/>
                      </a:moveTo>
                      <a:lnTo>
                        <a:pt x="69" y="17"/>
                      </a:lnTo>
                      <a:lnTo>
                        <a:pt x="7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4209840" y="5167800"/>
                  <a:ext cx="11880" cy="20160"/>
                </a:xfrm>
                <a:custGeom>
                  <a:avLst/>
                  <a:gdLst/>
                  <a:ahLst/>
                  <a:rect l="l" t="t" r="r" b="b"/>
                  <a:pathLst>
                    <a:path w="143" h="195">
                      <a:moveTo>
                        <a:pt x="0" y="0"/>
                      </a:moveTo>
                      <a:lnTo>
                        <a:pt x="26" y="23"/>
                      </a:lnTo>
                      <a:lnTo>
                        <a:pt x="67" y="37"/>
                      </a:lnTo>
                      <a:lnTo>
                        <a:pt x="143" y="18"/>
                      </a:lnTo>
                      <a:lnTo>
                        <a:pt x="114" y="85"/>
                      </a:lnTo>
                      <a:lnTo>
                        <a:pt x="61" y="103"/>
                      </a:lnTo>
                      <a:lnTo>
                        <a:pt x="33" y="195"/>
                      </a:lnTo>
                      <a:lnTo>
                        <a:pt x="6" y="140"/>
                      </a:lnTo>
                      <a:lnTo>
                        <a:pt x="6" y="112"/>
                      </a:lnTo>
                      <a:lnTo>
                        <a:pt x="33" y="85"/>
                      </a:lnTo>
                      <a:lnTo>
                        <a:pt x="15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4230000" y="5130360"/>
                  <a:ext cx="5760" cy="23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4231080" y="5125320"/>
                  <a:ext cx="8640" cy="35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4236480" y="5135400"/>
                  <a:ext cx="7920" cy="27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4241880" y="5145840"/>
                  <a:ext cx="5760" cy="18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4272120" y="5086440"/>
                  <a:ext cx="60840" cy="17640"/>
                </a:xfrm>
                <a:custGeom>
                  <a:avLst/>
                  <a:gdLst/>
                  <a:ahLst/>
                  <a:rect l="l" t="t" r="r" b="b"/>
                  <a:pathLst>
                    <a:path w="743" h="165">
                      <a:moveTo>
                        <a:pt x="0" y="0"/>
                      </a:moveTo>
                      <a:lnTo>
                        <a:pt x="116" y="18"/>
                      </a:lnTo>
                      <a:lnTo>
                        <a:pt x="351" y="101"/>
                      </a:lnTo>
                      <a:lnTo>
                        <a:pt x="519" y="138"/>
                      </a:lnTo>
                      <a:lnTo>
                        <a:pt x="743" y="16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4284720" y="5083920"/>
                  <a:ext cx="40320" cy="14400"/>
                </a:xfrm>
                <a:custGeom>
                  <a:avLst/>
                  <a:gdLst/>
                  <a:ahLst/>
                  <a:rect l="l" t="t" r="r" b="b"/>
                  <a:pathLst>
                    <a:path w="491" h="134">
                      <a:moveTo>
                        <a:pt x="0" y="0"/>
                      </a:moveTo>
                      <a:lnTo>
                        <a:pt x="82" y="28"/>
                      </a:lnTo>
                      <a:lnTo>
                        <a:pt x="260" y="88"/>
                      </a:lnTo>
                      <a:lnTo>
                        <a:pt x="491" y="1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4176720" y="5188320"/>
                  <a:ext cx="29520" cy="61560"/>
                </a:xfrm>
                <a:custGeom>
                  <a:avLst/>
                  <a:gdLst/>
                  <a:ahLst/>
                  <a:rect l="l" t="t" r="r" b="b"/>
                  <a:pathLst>
                    <a:path w="365" h="579">
                      <a:moveTo>
                        <a:pt x="365" y="0"/>
                      </a:moveTo>
                      <a:lnTo>
                        <a:pt x="277" y="129"/>
                      </a:lnTo>
                      <a:lnTo>
                        <a:pt x="277" y="265"/>
                      </a:lnTo>
                      <a:lnTo>
                        <a:pt x="350" y="579"/>
                      </a:lnTo>
                      <a:lnTo>
                        <a:pt x="224" y="290"/>
                      </a:lnTo>
                      <a:lnTo>
                        <a:pt x="224" y="199"/>
                      </a:lnTo>
                      <a:lnTo>
                        <a:pt x="0" y="199"/>
                      </a:lnTo>
                      <a:lnTo>
                        <a:pt x="187" y="76"/>
                      </a:lnTo>
                      <a:lnTo>
                        <a:pt x="277" y="76"/>
                      </a:lnTo>
                      <a:lnTo>
                        <a:pt x="3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4057560" y="5227920"/>
                  <a:ext cx="348480" cy="420120"/>
                </a:xfrm>
                <a:custGeom>
                  <a:avLst/>
                  <a:gdLst/>
                  <a:ahLst/>
                  <a:rect l="l" t="t" r="r" b="b"/>
                  <a:pathLst>
                    <a:path w="4215" h="3969">
                      <a:moveTo>
                        <a:pt x="1158" y="0"/>
                      </a:moveTo>
                      <a:lnTo>
                        <a:pt x="897" y="255"/>
                      </a:lnTo>
                      <a:lnTo>
                        <a:pt x="743" y="466"/>
                      </a:lnTo>
                      <a:lnTo>
                        <a:pt x="743" y="706"/>
                      </a:lnTo>
                      <a:lnTo>
                        <a:pt x="920" y="591"/>
                      </a:lnTo>
                      <a:lnTo>
                        <a:pt x="920" y="756"/>
                      </a:lnTo>
                      <a:lnTo>
                        <a:pt x="1314" y="1684"/>
                      </a:lnTo>
                      <a:lnTo>
                        <a:pt x="1224" y="1582"/>
                      </a:lnTo>
                      <a:lnTo>
                        <a:pt x="1134" y="1582"/>
                      </a:lnTo>
                      <a:lnTo>
                        <a:pt x="1072" y="1610"/>
                      </a:lnTo>
                      <a:lnTo>
                        <a:pt x="1031" y="1644"/>
                      </a:lnTo>
                      <a:lnTo>
                        <a:pt x="1174" y="1960"/>
                      </a:lnTo>
                      <a:lnTo>
                        <a:pt x="1448" y="2451"/>
                      </a:lnTo>
                      <a:lnTo>
                        <a:pt x="1868" y="2890"/>
                      </a:lnTo>
                      <a:lnTo>
                        <a:pt x="2031" y="3026"/>
                      </a:lnTo>
                      <a:lnTo>
                        <a:pt x="2031" y="3116"/>
                      </a:lnTo>
                      <a:lnTo>
                        <a:pt x="1930" y="3239"/>
                      </a:lnTo>
                      <a:lnTo>
                        <a:pt x="1930" y="3380"/>
                      </a:lnTo>
                      <a:lnTo>
                        <a:pt x="2129" y="3343"/>
                      </a:lnTo>
                      <a:lnTo>
                        <a:pt x="2158" y="3295"/>
                      </a:lnTo>
                      <a:lnTo>
                        <a:pt x="2145" y="3228"/>
                      </a:lnTo>
                      <a:lnTo>
                        <a:pt x="2094" y="3191"/>
                      </a:lnTo>
                      <a:lnTo>
                        <a:pt x="2296" y="3239"/>
                      </a:lnTo>
                      <a:lnTo>
                        <a:pt x="2435" y="3228"/>
                      </a:lnTo>
                      <a:lnTo>
                        <a:pt x="2575" y="3178"/>
                      </a:lnTo>
                      <a:lnTo>
                        <a:pt x="2712" y="3065"/>
                      </a:lnTo>
                      <a:lnTo>
                        <a:pt x="2815" y="2967"/>
                      </a:lnTo>
                      <a:lnTo>
                        <a:pt x="2749" y="3076"/>
                      </a:lnTo>
                      <a:lnTo>
                        <a:pt x="2700" y="3166"/>
                      </a:lnTo>
                      <a:lnTo>
                        <a:pt x="2903" y="3191"/>
                      </a:lnTo>
                      <a:lnTo>
                        <a:pt x="3154" y="3203"/>
                      </a:lnTo>
                      <a:lnTo>
                        <a:pt x="3357" y="3154"/>
                      </a:lnTo>
                      <a:lnTo>
                        <a:pt x="3433" y="2855"/>
                      </a:lnTo>
                      <a:lnTo>
                        <a:pt x="3468" y="2855"/>
                      </a:lnTo>
                      <a:lnTo>
                        <a:pt x="3494" y="2890"/>
                      </a:lnTo>
                      <a:lnTo>
                        <a:pt x="3521" y="2991"/>
                      </a:lnTo>
                      <a:lnTo>
                        <a:pt x="3535" y="3076"/>
                      </a:lnTo>
                      <a:lnTo>
                        <a:pt x="4203" y="3039"/>
                      </a:lnTo>
                      <a:lnTo>
                        <a:pt x="4215" y="3116"/>
                      </a:lnTo>
                      <a:lnTo>
                        <a:pt x="4215" y="3178"/>
                      </a:lnTo>
                      <a:lnTo>
                        <a:pt x="4189" y="3254"/>
                      </a:lnTo>
                      <a:lnTo>
                        <a:pt x="4037" y="3265"/>
                      </a:lnTo>
                      <a:lnTo>
                        <a:pt x="3913" y="3343"/>
                      </a:lnTo>
                      <a:lnTo>
                        <a:pt x="3683" y="3390"/>
                      </a:lnTo>
                      <a:lnTo>
                        <a:pt x="3481" y="3380"/>
                      </a:lnTo>
                      <a:lnTo>
                        <a:pt x="3281" y="3441"/>
                      </a:lnTo>
                      <a:lnTo>
                        <a:pt x="3105" y="3481"/>
                      </a:lnTo>
                      <a:lnTo>
                        <a:pt x="2852" y="3492"/>
                      </a:lnTo>
                      <a:lnTo>
                        <a:pt x="2547" y="3457"/>
                      </a:lnTo>
                      <a:lnTo>
                        <a:pt x="2320" y="3481"/>
                      </a:lnTo>
                      <a:lnTo>
                        <a:pt x="2129" y="3542"/>
                      </a:lnTo>
                      <a:lnTo>
                        <a:pt x="1990" y="3620"/>
                      </a:lnTo>
                      <a:lnTo>
                        <a:pt x="1615" y="3516"/>
                      </a:lnTo>
                      <a:lnTo>
                        <a:pt x="681" y="3969"/>
                      </a:lnTo>
                      <a:lnTo>
                        <a:pt x="0" y="3969"/>
                      </a:lnTo>
                      <a:lnTo>
                        <a:pt x="176" y="1723"/>
                      </a:lnTo>
                      <a:lnTo>
                        <a:pt x="328" y="1244"/>
                      </a:lnTo>
                      <a:lnTo>
                        <a:pt x="266" y="1558"/>
                      </a:lnTo>
                      <a:lnTo>
                        <a:pt x="418" y="2059"/>
                      </a:lnTo>
                      <a:lnTo>
                        <a:pt x="418" y="2500"/>
                      </a:lnTo>
                      <a:lnTo>
                        <a:pt x="591" y="2977"/>
                      </a:lnTo>
                      <a:lnTo>
                        <a:pt x="681" y="2977"/>
                      </a:lnTo>
                      <a:lnTo>
                        <a:pt x="907" y="2488"/>
                      </a:lnTo>
                      <a:lnTo>
                        <a:pt x="602" y="1886"/>
                      </a:lnTo>
                      <a:lnTo>
                        <a:pt x="556" y="1697"/>
                      </a:lnTo>
                      <a:lnTo>
                        <a:pt x="528" y="1497"/>
                      </a:lnTo>
                      <a:lnTo>
                        <a:pt x="556" y="1281"/>
                      </a:lnTo>
                      <a:lnTo>
                        <a:pt x="681" y="780"/>
                      </a:lnTo>
                      <a:lnTo>
                        <a:pt x="618" y="729"/>
                      </a:lnTo>
                      <a:lnTo>
                        <a:pt x="577" y="665"/>
                      </a:lnTo>
                      <a:lnTo>
                        <a:pt x="567" y="618"/>
                      </a:lnTo>
                      <a:lnTo>
                        <a:pt x="441" y="905"/>
                      </a:lnTo>
                      <a:lnTo>
                        <a:pt x="540" y="591"/>
                      </a:lnTo>
                      <a:lnTo>
                        <a:pt x="591" y="517"/>
                      </a:lnTo>
                      <a:lnTo>
                        <a:pt x="769" y="317"/>
                      </a:lnTo>
                      <a:lnTo>
                        <a:pt x="943" y="139"/>
                      </a:lnTo>
                      <a:lnTo>
                        <a:pt x="11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4170240" y="5280480"/>
                  <a:ext cx="107640" cy="224640"/>
                </a:xfrm>
                <a:custGeom>
                  <a:avLst/>
                  <a:gdLst/>
                  <a:ahLst/>
                  <a:rect l="l" t="t" r="r" b="b"/>
                  <a:pathLst>
                    <a:path w="1300" h="2125">
                      <a:moveTo>
                        <a:pt x="0" y="140"/>
                      </a:moveTo>
                      <a:lnTo>
                        <a:pt x="378" y="378"/>
                      </a:lnTo>
                      <a:lnTo>
                        <a:pt x="641" y="829"/>
                      </a:lnTo>
                      <a:lnTo>
                        <a:pt x="641" y="1020"/>
                      </a:lnTo>
                      <a:lnTo>
                        <a:pt x="984" y="1318"/>
                      </a:lnTo>
                      <a:lnTo>
                        <a:pt x="1111" y="1556"/>
                      </a:lnTo>
                      <a:lnTo>
                        <a:pt x="1083" y="967"/>
                      </a:lnTo>
                      <a:lnTo>
                        <a:pt x="1083" y="589"/>
                      </a:lnTo>
                      <a:lnTo>
                        <a:pt x="1111" y="327"/>
                      </a:lnTo>
                      <a:lnTo>
                        <a:pt x="1072" y="266"/>
                      </a:lnTo>
                      <a:lnTo>
                        <a:pt x="984" y="378"/>
                      </a:lnTo>
                      <a:lnTo>
                        <a:pt x="906" y="424"/>
                      </a:lnTo>
                      <a:lnTo>
                        <a:pt x="998" y="327"/>
                      </a:lnTo>
                      <a:lnTo>
                        <a:pt x="1072" y="165"/>
                      </a:lnTo>
                      <a:lnTo>
                        <a:pt x="1160" y="27"/>
                      </a:lnTo>
                      <a:lnTo>
                        <a:pt x="1212" y="0"/>
                      </a:lnTo>
                      <a:lnTo>
                        <a:pt x="1160" y="80"/>
                      </a:lnTo>
                      <a:lnTo>
                        <a:pt x="1224" y="304"/>
                      </a:lnTo>
                      <a:lnTo>
                        <a:pt x="1160" y="304"/>
                      </a:lnTo>
                      <a:lnTo>
                        <a:pt x="1146" y="516"/>
                      </a:lnTo>
                      <a:lnTo>
                        <a:pt x="1184" y="1120"/>
                      </a:lnTo>
                      <a:lnTo>
                        <a:pt x="1247" y="1723"/>
                      </a:lnTo>
                      <a:lnTo>
                        <a:pt x="1300" y="1910"/>
                      </a:lnTo>
                      <a:lnTo>
                        <a:pt x="1035" y="2059"/>
                      </a:lnTo>
                      <a:lnTo>
                        <a:pt x="1146" y="1961"/>
                      </a:lnTo>
                      <a:lnTo>
                        <a:pt x="1095" y="1881"/>
                      </a:lnTo>
                      <a:lnTo>
                        <a:pt x="971" y="1910"/>
                      </a:lnTo>
                      <a:lnTo>
                        <a:pt x="694" y="2099"/>
                      </a:lnTo>
                      <a:lnTo>
                        <a:pt x="606" y="2125"/>
                      </a:lnTo>
                      <a:lnTo>
                        <a:pt x="593" y="2086"/>
                      </a:lnTo>
                      <a:lnTo>
                        <a:pt x="756" y="1934"/>
                      </a:lnTo>
                      <a:lnTo>
                        <a:pt x="1095" y="1821"/>
                      </a:lnTo>
                      <a:lnTo>
                        <a:pt x="1045" y="1685"/>
                      </a:lnTo>
                      <a:lnTo>
                        <a:pt x="1045" y="1547"/>
                      </a:lnTo>
                      <a:lnTo>
                        <a:pt x="998" y="1470"/>
                      </a:lnTo>
                      <a:lnTo>
                        <a:pt x="606" y="1169"/>
                      </a:lnTo>
                      <a:lnTo>
                        <a:pt x="138" y="841"/>
                      </a:lnTo>
                      <a:lnTo>
                        <a:pt x="657" y="1154"/>
                      </a:lnTo>
                      <a:lnTo>
                        <a:pt x="390" y="463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4235760" y="5503320"/>
                  <a:ext cx="17280" cy="49680"/>
                </a:xfrm>
                <a:custGeom>
                  <a:avLst/>
                  <a:gdLst/>
                  <a:ahLst/>
                  <a:rect l="l" t="t" r="r" b="b"/>
                  <a:pathLst>
                    <a:path w="203" h="466">
                      <a:moveTo>
                        <a:pt x="203" y="0"/>
                      </a:moveTo>
                      <a:lnTo>
                        <a:pt x="111" y="51"/>
                      </a:lnTo>
                      <a:lnTo>
                        <a:pt x="0" y="403"/>
                      </a:lnTo>
                      <a:lnTo>
                        <a:pt x="99" y="466"/>
                      </a:lnTo>
                      <a:lnTo>
                        <a:pt x="203" y="378"/>
                      </a:lnTo>
                      <a:lnTo>
                        <a:pt x="203" y="136"/>
                      </a:lnTo>
                      <a:lnTo>
                        <a:pt x="152" y="136"/>
                      </a:lnTo>
                      <a:lnTo>
                        <a:pt x="152" y="76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4253760" y="5490720"/>
                  <a:ext cx="41760" cy="63360"/>
                </a:xfrm>
                <a:custGeom>
                  <a:avLst/>
                  <a:gdLst/>
                  <a:ahLst/>
                  <a:rect l="l" t="t" r="r" b="b"/>
                  <a:pathLst>
                    <a:path w="506" h="599">
                      <a:moveTo>
                        <a:pt x="138" y="162"/>
                      </a:moveTo>
                      <a:lnTo>
                        <a:pt x="317" y="0"/>
                      </a:lnTo>
                      <a:lnTo>
                        <a:pt x="506" y="72"/>
                      </a:lnTo>
                      <a:lnTo>
                        <a:pt x="506" y="173"/>
                      </a:lnTo>
                      <a:lnTo>
                        <a:pt x="391" y="325"/>
                      </a:lnTo>
                      <a:lnTo>
                        <a:pt x="0" y="599"/>
                      </a:lnTo>
                      <a:lnTo>
                        <a:pt x="279" y="364"/>
                      </a:lnTo>
                      <a:lnTo>
                        <a:pt x="317" y="274"/>
                      </a:lnTo>
                      <a:lnTo>
                        <a:pt x="329" y="198"/>
                      </a:lnTo>
                      <a:lnTo>
                        <a:pt x="317" y="138"/>
                      </a:lnTo>
                      <a:lnTo>
                        <a:pt x="279" y="112"/>
                      </a:lnTo>
                      <a:lnTo>
                        <a:pt x="230" y="112"/>
                      </a:lnTo>
                      <a:lnTo>
                        <a:pt x="138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4302720" y="5468040"/>
                  <a:ext cx="257760" cy="105120"/>
                </a:xfrm>
                <a:custGeom>
                  <a:avLst/>
                  <a:gdLst/>
                  <a:ahLst/>
                  <a:rect l="l" t="t" r="r" b="b"/>
                  <a:pathLst>
                    <a:path w="3106" h="992">
                      <a:moveTo>
                        <a:pt x="0" y="215"/>
                      </a:moveTo>
                      <a:lnTo>
                        <a:pt x="430" y="377"/>
                      </a:lnTo>
                      <a:lnTo>
                        <a:pt x="540" y="268"/>
                      </a:lnTo>
                      <a:lnTo>
                        <a:pt x="770" y="268"/>
                      </a:lnTo>
                      <a:lnTo>
                        <a:pt x="896" y="364"/>
                      </a:lnTo>
                      <a:lnTo>
                        <a:pt x="1010" y="327"/>
                      </a:lnTo>
                      <a:lnTo>
                        <a:pt x="1603" y="314"/>
                      </a:lnTo>
                      <a:lnTo>
                        <a:pt x="2017" y="226"/>
                      </a:lnTo>
                      <a:lnTo>
                        <a:pt x="2589" y="0"/>
                      </a:lnTo>
                      <a:lnTo>
                        <a:pt x="2663" y="49"/>
                      </a:lnTo>
                      <a:lnTo>
                        <a:pt x="2676" y="100"/>
                      </a:lnTo>
                      <a:lnTo>
                        <a:pt x="2614" y="162"/>
                      </a:lnTo>
                      <a:lnTo>
                        <a:pt x="2689" y="238"/>
                      </a:lnTo>
                      <a:lnTo>
                        <a:pt x="2713" y="302"/>
                      </a:lnTo>
                      <a:lnTo>
                        <a:pt x="2689" y="377"/>
                      </a:lnTo>
                      <a:lnTo>
                        <a:pt x="3091" y="413"/>
                      </a:lnTo>
                      <a:lnTo>
                        <a:pt x="3106" y="439"/>
                      </a:lnTo>
                      <a:lnTo>
                        <a:pt x="2689" y="461"/>
                      </a:lnTo>
                      <a:lnTo>
                        <a:pt x="2689" y="500"/>
                      </a:lnTo>
                      <a:lnTo>
                        <a:pt x="2713" y="540"/>
                      </a:lnTo>
                      <a:lnTo>
                        <a:pt x="3078" y="553"/>
                      </a:lnTo>
                      <a:lnTo>
                        <a:pt x="3043" y="602"/>
                      </a:lnTo>
                      <a:lnTo>
                        <a:pt x="2737" y="665"/>
                      </a:lnTo>
                      <a:lnTo>
                        <a:pt x="2737" y="715"/>
                      </a:lnTo>
                      <a:lnTo>
                        <a:pt x="2953" y="715"/>
                      </a:lnTo>
                      <a:lnTo>
                        <a:pt x="2977" y="680"/>
                      </a:lnTo>
                      <a:lnTo>
                        <a:pt x="2965" y="740"/>
                      </a:lnTo>
                      <a:lnTo>
                        <a:pt x="2589" y="791"/>
                      </a:lnTo>
                      <a:lnTo>
                        <a:pt x="2160" y="814"/>
                      </a:lnTo>
                      <a:lnTo>
                        <a:pt x="1992" y="814"/>
                      </a:lnTo>
                      <a:lnTo>
                        <a:pt x="1753" y="854"/>
                      </a:lnTo>
                      <a:lnTo>
                        <a:pt x="1676" y="992"/>
                      </a:lnTo>
                      <a:lnTo>
                        <a:pt x="1314" y="992"/>
                      </a:lnTo>
                      <a:lnTo>
                        <a:pt x="1641" y="953"/>
                      </a:lnTo>
                      <a:lnTo>
                        <a:pt x="1692" y="867"/>
                      </a:lnTo>
                      <a:lnTo>
                        <a:pt x="1715" y="752"/>
                      </a:lnTo>
                      <a:lnTo>
                        <a:pt x="1715" y="641"/>
                      </a:lnTo>
                      <a:lnTo>
                        <a:pt x="1676" y="489"/>
                      </a:lnTo>
                      <a:lnTo>
                        <a:pt x="1630" y="364"/>
                      </a:lnTo>
                      <a:lnTo>
                        <a:pt x="1010" y="377"/>
                      </a:lnTo>
                      <a:lnTo>
                        <a:pt x="881" y="401"/>
                      </a:lnTo>
                      <a:lnTo>
                        <a:pt x="669" y="314"/>
                      </a:lnTo>
                      <a:lnTo>
                        <a:pt x="468" y="473"/>
                      </a:lnTo>
                      <a:lnTo>
                        <a:pt x="415" y="401"/>
                      </a:lnTo>
                      <a:lnTo>
                        <a:pt x="0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4374360" y="5521320"/>
                  <a:ext cx="29520" cy="15120"/>
                </a:xfrm>
                <a:custGeom>
                  <a:avLst/>
                  <a:gdLst/>
                  <a:ahLst/>
                  <a:rect l="l" t="t" r="r" b="b"/>
                  <a:pathLst>
                    <a:path w="366" h="150">
                      <a:moveTo>
                        <a:pt x="366" y="114"/>
                      </a:moveTo>
                      <a:lnTo>
                        <a:pt x="200" y="0"/>
                      </a:lnTo>
                      <a:lnTo>
                        <a:pt x="0" y="40"/>
                      </a:lnTo>
                      <a:lnTo>
                        <a:pt x="38" y="93"/>
                      </a:lnTo>
                      <a:lnTo>
                        <a:pt x="302" y="150"/>
                      </a:lnTo>
                      <a:lnTo>
                        <a:pt x="366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4272840" y="5257440"/>
                  <a:ext cx="25560" cy="231120"/>
                </a:xfrm>
                <a:custGeom>
                  <a:avLst/>
                  <a:gdLst/>
                  <a:ahLst/>
                  <a:rect l="l" t="t" r="r" b="b"/>
                  <a:pathLst>
                    <a:path w="315" h="2186">
                      <a:moveTo>
                        <a:pt x="175" y="2133"/>
                      </a:moveTo>
                      <a:lnTo>
                        <a:pt x="214" y="2085"/>
                      </a:lnTo>
                      <a:lnTo>
                        <a:pt x="214" y="1958"/>
                      </a:lnTo>
                      <a:lnTo>
                        <a:pt x="124" y="1633"/>
                      </a:lnTo>
                      <a:lnTo>
                        <a:pt x="62" y="1180"/>
                      </a:lnTo>
                      <a:lnTo>
                        <a:pt x="49" y="796"/>
                      </a:lnTo>
                      <a:lnTo>
                        <a:pt x="21" y="540"/>
                      </a:lnTo>
                      <a:lnTo>
                        <a:pt x="49" y="466"/>
                      </a:lnTo>
                      <a:lnTo>
                        <a:pt x="49" y="325"/>
                      </a:lnTo>
                      <a:lnTo>
                        <a:pt x="0" y="213"/>
                      </a:lnTo>
                      <a:lnTo>
                        <a:pt x="73" y="277"/>
                      </a:lnTo>
                      <a:lnTo>
                        <a:pt x="99" y="213"/>
                      </a:lnTo>
                      <a:lnTo>
                        <a:pt x="111" y="127"/>
                      </a:lnTo>
                      <a:lnTo>
                        <a:pt x="111" y="0"/>
                      </a:lnTo>
                      <a:lnTo>
                        <a:pt x="124" y="104"/>
                      </a:lnTo>
                      <a:lnTo>
                        <a:pt x="136" y="213"/>
                      </a:lnTo>
                      <a:lnTo>
                        <a:pt x="111" y="341"/>
                      </a:lnTo>
                      <a:lnTo>
                        <a:pt x="73" y="466"/>
                      </a:lnTo>
                      <a:lnTo>
                        <a:pt x="49" y="551"/>
                      </a:lnTo>
                      <a:lnTo>
                        <a:pt x="111" y="1292"/>
                      </a:lnTo>
                      <a:lnTo>
                        <a:pt x="185" y="1732"/>
                      </a:lnTo>
                      <a:lnTo>
                        <a:pt x="262" y="1958"/>
                      </a:lnTo>
                      <a:lnTo>
                        <a:pt x="315" y="2186"/>
                      </a:lnTo>
                      <a:lnTo>
                        <a:pt x="175" y="21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4299480" y="5240520"/>
                  <a:ext cx="143640" cy="259920"/>
                </a:xfrm>
                <a:custGeom>
                  <a:avLst/>
                  <a:gdLst/>
                  <a:ahLst/>
                  <a:rect l="l" t="t" r="r" b="b"/>
                  <a:pathLst>
                    <a:path w="1731" h="2462">
                      <a:moveTo>
                        <a:pt x="152" y="0"/>
                      </a:moveTo>
                      <a:lnTo>
                        <a:pt x="379" y="203"/>
                      </a:lnTo>
                      <a:lnTo>
                        <a:pt x="440" y="376"/>
                      </a:lnTo>
                      <a:lnTo>
                        <a:pt x="480" y="541"/>
                      </a:lnTo>
                      <a:lnTo>
                        <a:pt x="480" y="800"/>
                      </a:lnTo>
                      <a:lnTo>
                        <a:pt x="368" y="1646"/>
                      </a:lnTo>
                      <a:lnTo>
                        <a:pt x="267" y="1747"/>
                      </a:lnTo>
                      <a:lnTo>
                        <a:pt x="0" y="1784"/>
                      </a:lnTo>
                      <a:lnTo>
                        <a:pt x="368" y="1772"/>
                      </a:lnTo>
                      <a:lnTo>
                        <a:pt x="254" y="2450"/>
                      </a:lnTo>
                      <a:lnTo>
                        <a:pt x="278" y="2462"/>
                      </a:lnTo>
                      <a:lnTo>
                        <a:pt x="406" y="1881"/>
                      </a:lnTo>
                      <a:lnTo>
                        <a:pt x="883" y="2273"/>
                      </a:lnTo>
                      <a:lnTo>
                        <a:pt x="996" y="2273"/>
                      </a:lnTo>
                      <a:lnTo>
                        <a:pt x="1174" y="2185"/>
                      </a:lnTo>
                      <a:lnTo>
                        <a:pt x="1363" y="2035"/>
                      </a:lnTo>
                      <a:lnTo>
                        <a:pt x="1500" y="1895"/>
                      </a:lnTo>
                      <a:lnTo>
                        <a:pt x="1603" y="1759"/>
                      </a:lnTo>
                      <a:lnTo>
                        <a:pt x="1462" y="1881"/>
                      </a:lnTo>
                      <a:lnTo>
                        <a:pt x="1363" y="1809"/>
                      </a:lnTo>
                      <a:lnTo>
                        <a:pt x="1480" y="1734"/>
                      </a:lnTo>
                      <a:lnTo>
                        <a:pt x="1238" y="1809"/>
                      </a:lnTo>
                      <a:lnTo>
                        <a:pt x="950" y="1846"/>
                      </a:lnTo>
                      <a:lnTo>
                        <a:pt x="669" y="1846"/>
                      </a:lnTo>
                      <a:lnTo>
                        <a:pt x="555" y="1846"/>
                      </a:lnTo>
                      <a:lnTo>
                        <a:pt x="469" y="1784"/>
                      </a:lnTo>
                      <a:lnTo>
                        <a:pt x="647" y="1708"/>
                      </a:lnTo>
                      <a:lnTo>
                        <a:pt x="1012" y="1708"/>
                      </a:lnTo>
                      <a:lnTo>
                        <a:pt x="1300" y="1545"/>
                      </a:lnTo>
                      <a:lnTo>
                        <a:pt x="1012" y="1631"/>
                      </a:lnTo>
                      <a:lnTo>
                        <a:pt x="647" y="1631"/>
                      </a:lnTo>
                      <a:lnTo>
                        <a:pt x="440" y="1685"/>
                      </a:lnTo>
                      <a:lnTo>
                        <a:pt x="440" y="1496"/>
                      </a:lnTo>
                      <a:lnTo>
                        <a:pt x="987" y="1409"/>
                      </a:lnTo>
                      <a:lnTo>
                        <a:pt x="781" y="892"/>
                      </a:lnTo>
                      <a:lnTo>
                        <a:pt x="555" y="592"/>
                      </a:lnTo>
                      <a:lnTo>
                        <a:pt x="555" y="415"/>
                      </a:lnTo>
                      <a:lnTo>
                        <a:pt x="1570" y="1444"/>
                      </a:lnTo>
                      <a:lnTo>
                        <a:pt x="1731" y="1519"/>
                      </a:lnTo>
                      <a:lnTo>
                        <a:pt x="1642" y="1332"/>
                      </a:lnTo>
                      <a:lnTo>
                        <a:pt x="733" y="477"/>
                      </a:lnTo>
                      <a:lnTo>
                        <a:pt x="620" y="267"/>
                      </a:lnTo>
                      <a:lnTo>
                        <a:pt x="304" y="51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4385520" y="5440680"/>
                  <a:ext cx="64800" cy="61560"/>
                </a:xfrm>
                <a:custGeom>
                  <a:avLst/>
                  <a:gdLst/>
                  <a:ahLst/>
                  <a:rect l="l" t="t" r="r" b="b"/>
                  <a:pathLst>
                    <a:path w="783" h="580">
                      <a:moveTo>
                        <a:pt x="0" y="442"/>
                      </a:moveTo>
                      <a:lnTo>
                        <a:pt x="317" y="378"/>
                      </a:lnTo>
                      <a:lnTo>
                        <a:pt x="670" y="580"/>
                      </a:lnTo>
                      <a:lnTo>
                        <a:pt x="783" y="540"/>
                      </a:lnTo>
                      <a:lnTo>
                        <a:pt x="504" y="378"/>
                      </a:lnTo>
                      <a:lnTo>
                        <a:pt x="619" y="166"/>
                      </a:lnTo>
                      <a:lnTo>
                        <a:pt x="619" y="0"/>
                      </a:lnTo>
                      <a:lnTo>
                        <a:pt x="402" y="265"/>
                      </a:lnTo>
                      <a:lnTo>
                        <a:pt x="216" y="362"/>
                      </a:lnTo>
                      <a:lnTo>
                        <a:pt x="0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4432680" y="5397480"/>
                  <a:ext cx="81360" cy="74520"/>
                </a:xfrm>
                <a:custGeom>
                  <a:avLst/>
                  <a:gdLst/>
                  <a:ahLst/>
                  <a:rect l="l" t="t" r="r" b="b"/>
                  <a:pathLst>
                    <a:path w="984" h="703">
                      <a:moveTo>
                        <a:pt x="189" y="314"/>
                      </a:moveTo>
                      <a:lnTo>
                        <a:pt x="367" y="212"/>
                      </a:lnTo>
                      <a:lnTo>
                        <a:pt x="744" y="364"/>
                      </a:lnTo>
                      <a:lnTo>
                        <a:pt x="744" y="500"/>
                      </a:lnTo>
                      <a:lnTo>
                        <a:pt x="442" y="579"/>
                      </a:lnTo>
                      <a:lnTo>
                        <a:pt x="809" y="567"/>
                      </a:lnTo>
                      <a:lnTo>
                        <a:pt x="984" y="703"/>
                      </a:lnTo>
                      <a:lnTo>
                        <a:pt x="870" y="450"/>
                      </a:lnTo>
                      <a:lnTo>
                        <a:pt x="707" y="265"/>
                      </a:lnTo>
                      <a:lnTo>
                        <a:pt x="343" y="164"/>
                      </a:lnTo>
                      <a:lnTo>
                        <a:pt x="202" y="0"/>
                      </a:lnTo>
                      <a:lnTo>
                        <a:pt x="0" y="164"/>
                      </a:lnTo>
                      <a:lnTo>
                        <a:pt x="178" y="63"/>
                      </a:lnTo>
                      <a:lnTo>
                        <a:pt x="239" y="149"/>
                      </a:lnTo>
                      <a:lnTo>
                        <a:pt x="189" y="3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4519440" y="5466240"/>
                  <a:ext cx="48240" cy="43920"/>
                </a:xfrm>
                <a:custGeom>
                  <a:avLst/>
                  <a:gdLst/>
                  <a:ahLst/>
                  <a:rect l="l" t="t" r="r" b="b"/>
                  <a:pathLst>
                    <a:path w="581" h="415">
                      <a:moveTo>
                        <a:pt x="22" y="0"/>
                      </a:moveTo>
                      <a:lnTo>
                        <a:pt x="464" y="37"/>
                      </a:lnTo>
                      <a:lnTo>
                        <a:pt x="581" y="240"/>
                      </a:lnTo>
                      <a:lnTo>
                        <a:pt x="581" y="288"/>
                      </a:lnTo>
                      <a:lnTo>
                        <a:pt x="492" y="316"/>
                      </a:lnTo>
                      <a:lnTo>
                        <a:pt x="363" y="240"/>
                      </a:lnTo>
                      <a:lnTo>
                        <a:pt x="187" y="240"/>
                      </a:lnTo>
                      <a:lnTo>
                        <a:pt x="477" y="351"/>
                      </a:lnTo>
                      <a:lnTo>
                        <a:pt x="492" y="415"/>
                      </a:lnTo>
                      <a:lnTo>
                        <a:pt x="453" y="367"/>
                      </a:lnTo>
                      <a:lnTo>
                        <a:pt x="22" y="229"/>
                      </a:lnTo>
                      <a:lnTo>
                        <a:pt x="0" y="192"/>
                      </a:lnTo>
                      <a:lnTo>
                        <a:pt x="464" y="176"/>
                      </a:lnTo>
                      <a:lnTo>
                        <a:pt x="453" y="7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4543200" y="5505120"/>
                  <a:ext cx="19080" cy="37080"/>
                </a:xfrm>
                <a:custGeom>
                  <a:avLst/>
                  <a:gdLst/>
                  <a:ahLst/>
                  <a:rect l="l" t="t" r="r" b="b"/>
                  <a:pathLst>
                    <a:path w="228" h="352">
                      <a:moveTo>
                        <a:pt x="186" y="99"/>
                      </a:moveTo>
                      <a:lnTo>
                        <a:pt x="186" y="163"/>
                      </a:lnTo>
                      <a:lnTo>
                        <a:pt x="96" y="210"/>
                      </a:lnTo>
                      <a:lnTo>
                        <a:pt x="0" y="275"/>
                      </a:lnTo>
                      <a:lnTo>
                        <a:pt x="72" y="352"/>
                      </a:lnTo>
                      <a:lnTo>
                        <a:pt x="125" y="249"/>
                      </a:lnTo>
                      <a:lnTo>
                        <a:pt x="228" y="187"/>
                      </a:lnTo>
                      <a:lnTo>
                        <a:pt x="228" y="74"/>
                      </a:lnTo>
                      <a:lnTo>
                        <a:pt x="186" y="0"/>
                      </a:lnTo>
                      <a:lnTo>
                        <a:pt x="186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4549320" y="5488920"/>
                  <a:ext cx="30240" cy="55080"/>
                </a:xfrm>
                <a:custGeom>
                  <a:avLst/>
                  <a:gdLst/>
                  <a:ahLst/>
                  <a:rect l="l" t="t" r="r" b="b"/>
                  <a:pathLst>
                    <a:path w="369" h="514">
                      <a:moveTo>
                        <a:pt x="129" y="71"/>
                      </a:moveTo>
                      <a:lnTo>
                        <a:pt x="325" y="396"/>
                      </a:lnTo>
                      <a:lnTo>
                        <a:pt x="369" y="514"/>
                      </a:lnTo>
                      <a:lnTo>
                        <a:pt x="269" y="4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4513680" y="5410080"/>
                  <a:ext cx="33480" cy="60840"/>
                </a:xfrm>
                <a:custGeom>
                  <a:avLst/>
                  <a:gdLst/>
                  <a:ahLst/>
                  <a:rect l="l" t="t" r="r" b="b"/>
                  <a:pathLst>
                    <a:path w="413" h="576">
                      <a:moveTo>
                        <a:pt x="319" y="558"/>
                      </a:move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22" y="0"/>
                      </a:lnTo>
                      <a:lnTo>
                        <a:pt x="37" y="0"/>
                      </a:lnTo>
                      <a:lnTo>
                        <a:pt x="59" y="5"/>
                      </a:lnTo>
                      <a:lnTo>
                        <a:pt x="413" y="57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4461120" y="5472720"/>
                  <a:ext cx="39600" cy="26280"/>
                </a:xfrm>
                <a:custGeom>
                  <a:avLst/>
                  <a:gdLst/>
                  <a:ahLst/>
                  <a:rect l="l" t="t" r="r" b="b"/>
                  <a:pathLst>
                    <a:path w="477" h="244">
                      <a:moveTo>
                        <a:pt x="67" y="181"/>
                      </a:moveTo>
                      <a:lnTo>
                        <a:pt x="99" y="82"/>
                      </a:lnTo>
                      <a:lnTo>
                        <a:pt x="180" y="34"/>
                      </a:lnTo>
                      <a:lnTo>
                        <a:pt x="279" y="34"/>
                      </a:lnTo>
                      <a:lnTo>
                        <a:pt x="427" y="62"/>
                      </a:lnTo>
                      <a:lnTo>
                        <a:pt x="477" y="34"/>
                      </a:lnTo>
                      <a:lnTo>
                        <a:pt x="310" y="0"/>
                      </a:lnTo>
                      <a:lnTo>
                        <a:pt x="198" y="0"/>
                      </a:lnTo>
                      <a:lnTo>
                        <a:pt x="99" y="34"/>
                      </a:lnTo>
                      <a:lnTo>
                        <a:pt x="51" y="99"/>
                      </a:lnTo>
                      <a:lnTo>
                        <a:pt x="0" y="244"/>
                      </a:lnTo>
                      <a:lnTo>
                        <a:pt x="67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4430880" y="4971960"/>
                  <a:ext cx="133560" cy="209160"/>
                </a:xfrm>
                <a:custGeom>
                  <a:avLst/>
                  <a:gdLst/>
                  <a:ahLst/>
                  <a:rect l="l" t="t" r="r" b="b"/>
                  <a:pathLst>
                    <a:path w="1617" h="1969">
                      <a:moveTo>
                        <a:pt x="1578" y="822"/>
                      </a:moveTo>
                      <a:lnTo>
                        <a:pt x="1615" y="694"/>
                      </a:lnTo>
                      <a:lnTo>
                        <a:pt x="1617" y="512"/>
                      </a:lnTo>
                      <a:lnTo>
                        <a:pt x="1573" y="350"/>
                      </a:lnTo>
                      <a:lnTo>
                        <a:pt x="1506" y="233"/>
                      </a:lnTo>
                      <a:lnTo>
                        <a:pt x="1413" y="123"/>
                      </a:lnTo>
                      <a:lnTo>
                        <a:pt x="1275" y="48"/>
                      </a:lnTo>
                      <a:lnTo>
                        <a:pt x="980" y="0"/>
                      </a:lnTo>
                      <a:lnTo>
                        <a:pt x="710" y="73"/>
                      </a:lnTo>
                      <a:lnTo>
                        <a:pt x="565" y="198"/>
                      </a:lnTo>
                      <a:lnTo>
                        <a:pt x="439" y="417"/>
                      </a:lnTo>
                      <a:lnTo>
                        <a:pt x="404" y="631"/>
                      </a:lnTo>
                      <a:lnTo>
                        <a:pt x="351" y="818"/>
                      </a:lnTo>
                      <a:lnTo>
                        <a:pt x="356" y="910"/>
                      </a:lnTo>
                      <a:lnTo>
                        <a:pt x="404" y="1026"/>
                      </a:lnTo>
                      <a:lnTo>
                        <a:pt x="393" y="1095"/>
                      </a:lnTo>
                      <a:lnTo>
                        <a:pt x="268" y="1185"/>
                      </a:lnTo>
                      <a:lnTo>
                        <a:pt x="171" y="1270"/>
                      </a:lnTo>
                      <a:lnTo>
                        <a:pt x="106" y="1411"/>
                      </a:lnTo>
                      <a:lnTo>
                        <a:pt x="106" y="1484"/>
                      </a:lnTo>
                      <a:lnTo>
                        <a:pt x="116" y="1554"/>
                      </a:lnTo>
                      <a:lnTo>
                        <a:pt x="130" y="1597"/>
                      </a:lnTo>
                      <a:lnTo>
                        <a:pt x="112" y="1653"/>
                      </a:lnTo>
                      <a:lnTo>
                        <a:pt x="0" y="1754"/>
                      </a:lnTo>
                      <a:lnTo>
                        <a:pt x="160" y="1712"/>
                      </a:lnTo>
                      <a:lnTo>
                        <a:pt x="347" y="1657"/>
                      </a:lnTo>
                      <a:lnTo>
                        <a:pt x="415" y="1861"/>
                      </a:lnTo>
                      <a:lnTo>
                        <a:pt x="479" y="1969"/>
                      </a:lnTo>
                      <a:lnTo>
                        <a:pt x="450" y="1872"/>
                      </a:lnTo>
                      <a:lnTo>
                        <a:pt x="450" y="1800"/>
                      </a:lnTo>
                      <a:lnTo>
                        <a:pt x="468" y="1758"/>
                      </a:lnTo>
                      <a:lnTo>
                        <a:pt x="505" y="1754"/>
                      </a:lnTo>
                      <a:lnTo>
                        <a:pt x="565" y="1769"/>
                      </a:lnTo>
                      <a:lnTo>
                        <a:pt x="628" y="1826"/>
                      </a:lnTo>
                      <a:lnTo>
                        <a:pt x="685" y="1904"/>
                      </a:lnTo>
                      <a:lnTo>
                        <a:pt x="639" y="1754"/>
                      </a:lnTo>
                      <a:lnTo>
                        <a:pt x="618" y="1641"/>
                      </a:lnTo>
                      <a:lnTo>
                        <a:pt x="604" y="1507"/>
                      </a:lnTo>
                      <a:lnTo>
                        <a:pt x="611" y="1411"/>
                      </a:lnTo>
                      <a:lnTo>
                        <a:pt x="674" y="1507"/>
                      </a:lnTo>
                      <a:lnTo>
                        <a:pt x="765" y="1593"/>
                      </a:lnTo>
                      <a:lnTo>
                        <a:pt x="870" y="1666"/>
                      </a:lnTo>
                      <a:lnTo>
                        <a:pt x="980" y="1703"/>
                      </a:lnTo>
                      <a:lnTo>
                        <a:pt x="888" y="1666"/>
                      </a:lnTo>
                      <a:lnTo>
                        <a:pt x="802" y="1613"/>
                      </a:lnTo>
                      <a:lnTo>
                        <a:pt x="717" y="1533"/>
                      </a:lnTo>
                      <a:lnTo>
                        <a:pt x="671" y="1466"/>
                      </a:lnTo>
                      <a:lnTo>
                        <a:pt x="632" y="1399"/>
                      </a:lnTo>
                      <a:lnTo>
                        <a:pt x="618" y="1339"/>
                      </a:lnTo>
                      <a:lnTo>
                        <a:pt x="611" y="1261"/>
                      </a:lnTo>
                      <a:lnTo>
                        <a:pt x="598" y="1180"/>
                      </a:lnTo>
                      <a:lnTo>
                        <a:pt x="591" y="1042"/>
                      </a:lnTo>
                      <a:lnTo>
                        <a:pt x="584" y="1237"/>
                      </a:lnTo>
                      <a:lnTo>
                        <a:pt x="569" y="1261"/>
                      </a:lnTo>
                      <a:lnTo>
                        <a:pt x="538" y="1277"/>
                      </a:lnTo>
                      <a:lnTo>
                        <a:pt x="499" y="1261"/>
                      </a:lnTo>
                      <a:lnTo>
                        <a:pt x="479" y="1217"/>
                      </a:lnTo>
                      <a:lnTo>
                        <a:pt x="479" y="1167"/>
                      </a:lnTo>
                      <a:lnTo>
                        <a:pt x="494" y="1114"/>
                      </a:lnTo>
                      <a:lnTo>
                        <a:pt x="523" y="1072"/>
                      </a:lnTo>
                      <a:lnTo>
                        <a:pt x="487" y="1092"/>
                      </a:lnTo>
                      <a:lnTo>
                        <a:pt x="429" y="963"/>
                      </a:lnTo>
                      <a:lnTo>
                        <a:pt x="411" y="910"/>
                      </a:lnTo>
                      <a:lnTo>
                        <a:pt x="404" y="853"/>
                      </a:lnTo>
                      <a:lnTo>
                        <a:pt x="411" y="804"/>
                      </a:lnTo>
                      <a:lnTo>
                        <a:pt x="436" y="776"/>
                      </a:lnTo>
                      <a:lnTo>
                        <a:pt x="461" y="751"/>
                      </a:lnTo>
                      <a:lnTo>
                        <a:pt x="487" y="751"/>
                      </a:lnTo>
                      <a:lnTo>
                        <a:pt x="514" y="767"/>
                      </a:lnTo>
                      <a:lnTo>
                        <a:pt x="538" y="804"/>
                      </a:lnTo>
                      <a:lnTo>
                        <a:pt x="565" y="890"/>
                      </a:lnTo>
                      <a:lnTo>
                        <a:pt x="574" y="782"/>
                      </a:lnTo>
                      <a:lnTo>
                        <a:pt x="622" y="687"/>
                      </a:lnTo>
                      <a:lnTo>
                        <a:pt x="697" y="549"/>
                      </a:lnTo>
                      <a:lnTo>
                        <a:pt x="741" y="435"/>
                      </a:lnTo>
                      <a:lnTo>
                        <a:pt x="798" y="354"/>
                      </a:lnTo>
                      <a:lnTo>
                        <a:pt x="888" y="304"/>
                      </a:lnTo>
                      <a:lnTo>
                        <a:pt x="1038" y="286"/>
                      </a:lnTo>
                      <a:lnTo>
                        <a:pt x="1195" y="304"/>
                      </a:lnTo>
                      <a:lnTo>
                        <a:pt x="1393" y="343"/>
                      </a:lnTo>
                      <a:lnTo>
                        <a:pt x="1470" y="406"/>
                      </a:lnTo>
                      <a:lnTo>
                        <a:pt x="1520" y="519"/>
                      </a:lnTo>
                      <a:lnTo>
                        <a:pt x="1549" y="641"/>
                      </a:lnTo>
                      <a:lnTo>
                        <a:pt x="1569" y="883"/>
                      </a:lnTo>
                      <a:lnTo>
                        <a:pt x="1578" y="8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4492800" y="5076360"/>
                  <a:ext cx="67320" cy="124560"/>
                </a:xfrm>
                <a:custGeom>
                  <a:avLst/>
                  <a:gdLst/>
                  <a:ahLst/>
                  <a:rect l="l" t="t" r="r" b="b"/>
                  <a:pathLst>
                    <a:path w="817" h="1173">
                      <a:moveTo>
                        <a:pt x="817" y="0"/>
                      </a:moveTo>
                      <a:lnTo>
                        <a:pt x="786" y="103"/>
                      </a:lnTo>
                      <a:lnTo>
                        <a:pt x="718" y="359"/>
                      </a:lnTo>
                      <a:lnTo>
                        <a:pt x="634" y="514"/>
                      </a:lnTo>
                      <a:lnTo>
                        <a:pt x="569" y="608"/>
                      </a:lnTo>
                      <a:lnTo>
                        <a:pt x="481" y="703"/>
                      </a:lnTo>
                      <a:lnTo>
                        <a:pt x="417" y="723"/>
                      </a:lnTo>
                      <a:lnTo>
                        <a:pt x="305" y="732"/>
                      </a:lnTo>
                      <a:lnTo>
                        <a:pt x="187" y="707"/>
                      </a:lnTo>
                      <a:lnTo>
                        <a:pt x="94" y="661"/>
                      </a:lnTo>
                      <a:lnTo>
                        <a:pt x="0" y="596"/>
                      </a:lnTo>
                      <a:lnTo>
                        <a:pt x="57" y="692"/>
                      </a:lnTo>
                      <a:lnTo>
                        <a:pt x="136" y="758"/>
                      </a:lnTo>
                      <a:lnTo>
                        <a:pt x="206" y="800"/>
                      </a:lnTo>
                      <a:lnTo>
                        <a:pt x="300" y="825"/>
                      </a:lnTo>
                      <a:lnTo>
                        <a:pt x="380" y="825"/>
                      </a:lnTo>
                      <a:lnTo>
                        <a:pt x="329" y="1173"/>
                      </a:lnTo>
                      <a:lnTo>
                        <a:pt x="376" y="1064"/>
                      </a:lnTo>
                      <a:lnTo>
                        <a:pt x="443" y="795"/>
                      </a:lnTo>
                      <a:lnTo>
                        <a:pt x="477" y="747"/>
                      </a:lnTo>
                      <a:lnTo>
                        <a:pt x="527" y="820"/>
                      </a:lnTo>
                      <a:lnTo>
                        <a:pt x="574" y="940"/>
                      </a:lnTo>
                      <a:lnTo>
                        <a:pt x="551" y="800"/>
                      </a:lnTo>
                      <a:lnTo>
                        <a:pt x="503" y="707"/>
                      </a:lnTo>
                      <a:lnTo>
                        <a:pt x="579" y="617"/>
                      </a:lnTo>
                      <a:lnTo>
                        <a:pt x="668" y="493"/>
                      </a:lnTo>
                      <a:lnTo>
                        <a:pt x="720" y="373"/>
                      </a:lnTo>
                      <a:lnTo>
                        <a:pt x="754" y="286"/>
                      </a:lnTo>
                      <a:lnTo>
                        <a:pt x="793" y="115"/>
                      </a:lnTo>
                      <a:lnTo>
                        <a:pt x="8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4467240" y="5058360"/>
                  <a:ext cx="7920" cy="22680"/>
                </a:xfrm>
                <a:custGeom>
                  <a:avLst/>
                  <a:gdLst/>
                  <a:ahLst/>
                  <a:rect l="l" t="t" r="r" b="b"/>
                  <a:pathLst>
                    <a:path w="99" h="215">
                      <a:moveTo>
                        <a:pt x="11" y="0"/>
                      </a:moveTo>
                      <a:lnTo>
                        <a:pt x="48" y="7"/>
                      </a:lnTo>
                      <a:lnTo>
                        <a:pt x="91" y="60"/>
                      </a:lnTo>
                      <a:lnTo>
                        <a:pt x="99" y="111"/>
                      </a:lnTo>
                      <a:lnTo>
                        <a:pt x="94" y="145"/>
                      </a:lnTo>
                      <a:lnTo>
                        <a:pt x="60" y="162"/>
                      </a:lnTo>
                      <a:lnTo>
                        <a:pt x="55" y="180"/>
                      </a:lnTo>
                      <a:lnTo>
                        <a:pt x="73" y="215"/>
                      </a:lnTo>
                      <a:lnTo>
                        <a:pt x="22" y="169"/>
                      </a:lnTo>
                      <a:lnTo>
                        <a:pt x="22" y="145"/>
                      </a:lnTo>
                      <a:lnTo>
                        <a:pt x="36" y="123"/>
                      </a:lnTo>
                      <a:lnTo>
                        <a:pt x="55" y="106"/>
                      </a:lnTo>
                      <a:lnTo>
                        <a:pt x="84" y="92"/>
                      </a:lnTo>
                      <a:lnTo>
                        <a:pt x="73" y="65"/>
                      </a:lnTo>
                      <a:lnTo>
                        <a:pt x="60" y="42"/>
                      </a:lnTo>
                      <a:lnTo>
                        <a:pt x="36" y="28"/>
                      </a:lnTo>
                      <a:lnTo>
                        <a:pt x="11" y="60"/>
                      </a:lnTo>
                      <a:lnTo>
                        <a:pt x="11" y="79"/>
                      </a:lnTo>
                      <a:lnTo>
                        <a:pt x="0" y="53"/>
                      </a:lnTo>
                      <a:lnTo>
                        <a:pt x="0" y="1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4477680" y="5066280"/>
                  <a:ext cx="3600" cy="25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4479840" y="5070240"/>
                  <a:ext cx="5040" cy="27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4484520" y="5084640"/>
                  <a:ext cx="324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4470480" y="5087880"/>
                  <a:ext cx="5760" cy="1656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33" y="0"/>
                      </a:moveTo>
                      <a:lnTo>
                        <a:pt x="59" y="28"/>
                      </a:lnTo>
                      <a:lnTo>
                        <a:pt x="72" y="63"/>
                      </a:lnTo>
                      <a:lnTo>
                        <a:pt x="77" y="112"/>
                      </a:lnTo>
                      <a:lnTo>
                        <a:pt x="72" y="145"/>
                      </a:lnTo>
                      <a:lnTo>
                        <a:pt x="54" y="158"/>
                      </a:lnTo>
                      <a:lnTo>
                        <a:pt x="33" y="162"/>
                      </a:lnTo>
                      <a:lnTo>
                        <a:pt x="8" y="158"/>
                      </a:lnTo>
                      <a:lnTo>
                        <a:pt x="0" y="116"/>
                      </a:lnTo>
                      <a:lnTo>
                        <a:pt x="44" y="123"/>
                      </a:lnTo>
                      <a:lnTo>
                        <a:pt x="51" y="88"/>
                      </a:lnTo>
                      <a:lnTo>
                        <a:pt x="59" y="63"/>
                      </a:lnTo>
                      <a:lnTo>
                        <a:pt x="54" y="37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4379040" y="5143320"/>
                  <a:ext cx="235800" cy="159120"/>
                </a:xfrm>
                <a:custGeom>
                  <a:avLst/>
                  <a:gdLst/>
                  <a:ahLst/>
                  <a:rect l="l" t="t" r="r" b="b"/>
                  <a:pathLst>
                    <a:path w="2847" h="1510">
                      <a:moveTo>
                        <a:pt x="1072" y="246"/>
                      </a:moveTo>
                      <a:lnTo>
                        <a:pt x="1129" y="369"/>
                      </a:lnTo>
                      <a:lnTo>
                        <a:pt x="1228" y="441"/>
                      </a:lnTo>
                      <a:lnTo>
                        <a:pt x="1369" y="516"/>
                      </a:lnTo>
                      <a:lnTo>
                        <a:pt x="1558" y="567"/>
                      </a:lnTo>
                      <a:lnTo>
                        <a:pt x="1798" y="606"/>
                      </a:lnTo>
                      <a:lnTo>
                        <a:pt x="1903" y="576"/>
                      </a:lnTo>
                      <a:lnTo>
                        <a:pt x="1945" y="507"/>
                      </a:lnTo>
                      <a:lnTo>
                        <a:pt x="1969" y="408"/>
                      </a:lnTo>
                      <a:lnTo>
                        <a:pt x="1969" y="345"/>
                      </a:lnTo>
                      <a:lnTo>
                        <a:pt x="1929" y="239"/>
                      </a:lnTo>
                      <a:lnTo>
                        <a:pt x="1890" y="171"/>
                      </a:lnTo>
                      <a:lnTo>
                        <a:pt x="1839" y="120"/>
                      </a:lnTo>
                      <a:lnTo>
                        <a:pt x="1903" y="32"/>
                      </a:lnTo>
                      <a:lnTo>
                        <a:pt x="1945" y="0"/>
                      </a:lnTo>
                      <a:lnTo>
                        <a:pt x="2160" y="113"/>
                      </a:lnTo>
                      <a:lnTo>
                        <a:pt x="2400" y="162"/>
                      </a:lnTo>
                      <a:lnTo>
                        <a:pt x="2630" y="252"/>
                      </a:lnTo>
                      <a:lnTo>
                        <a:pt x="2847" y="378"/>
                      </a:lnTo>
                      <a:lnTo>
                        <a:pt x="2556" y="252"/>
                      </a:lnTo>
                      <a:lnTo>
                        <a:pt x="2342" y="191"/>
                      </a:lnTo>
                      <a:lnTo>
                        <a:pt x="2202" y="171"/>
                      </a:lnTo>
                      <a:lnTo>
                        <a:pt x="2052" y="171"/>
                      </a:lnTo>
                      <a:lnTo>
                        <a:pt x="1987" y="215"/>
                      </a:lnTo>
                      <a:lnTo>
                        <a:pt x="2004" y="387"/>
                      </a:lnTo>
                      <a:lnTo>
                        <a:pt x="1987" y="484"/>
                      </a:lnTo>
                      <a:lnTo>
                        <a:pt x="1953" y="590"/>
                      </a:lnTo>
                      <a:lnTo>
                        <a:pt x="1903" y="655"/>
                      </a:lnTo>
                      <a:lnTo>
                        <a:pt x="1789" y="760"/>
                      </a:lnTo>
                      <a:lnTo>
                        <a:pt x="1789" y="707"/>
                      </a:lnTo>
                      <a:lnTo>
                        <a:pt x="1749" y="673"/>
                      </a:lnTo>
                      <a:lnTo>
                        <a:pt x="1708" y="687"/>
                      </a:lnTo>
                      <a:lnTo>
                        <a:pt x="1696" y="738"/>
                      </a:lnTo>
                      <a:lnTo>
                        <a:pt x="1720" y="770"/>
                      </a:lnTo>
                      <a:lnTo>
                        <a:pt x="1756" y="779"/>
                      </a:lnTo>
                      <a:lnTo>
                        <a:pt x="1731" y="813"/>
                      </a:lnTo>
                      <a:lnTo>
                        <a:pt x="1674" y="802"/>
                      </a:lnTo>
                      <a:lnTo>
                        <a:pt x="1648" y="760"/>
                      </a:lnTo>
                      <a:lnTo>
                        <a:pt x="1659" y="707"/>
                      </a:lnTo>
                      <a:lnTo>
                        <a:pt x="1681" y="666"/>
                      </a:lnTo>
                      <a:lnTo>
                        <a:pt x="1720" y="648"/>
                      </a:lnTo>
                      <a:lnTo>
                        <a:pt x="1780" y="624"/>
                      </a:lnTo>
                      <a:lnTo>
                        <a:pt x="1433" y="567"/>
                      </a:lnTo>
                      <a:lnTo>
                        <a:pt x="1235" y="500"/>
                      </a:lnTo>
                      <a:lnTo>
                        <a:pt x="1353" y="795"/>
                      </a:lnTo>
                      <a:lnTo>
                        <a:pt x="1549" y="1289"/>
                      </a:lnTo>
                      <a:lnTo>
                        <a:pt x="1648" y="1510"/>
                      </a:lnTo>
                      <a:lnTo>
                        <a:pt x="1358" y="903"/>
                      </a:lnTo>
                      <a:lnTo>
                        <a:pt x="1201" y="576"/>
                      </a:lnTo>
                      <a:lnTo>
                        <a:pt x="1046" y="378"/>
                      </a:lnTo>
                      <a:lnTo>
                        <a:pt x="896" y="239"/>
                      </a:lnTo>
                      <a:lnTo>
                        <a:pt x="774" y="156"/>
                      </a:lnTo>
                      <a:lnTo>
                        <a:pt x="668" y="147"/>
                      </a:lnTo>
                      <a:lnTo>
                        <a:pt x="525" y="162"/>
                      </a:lnTo>
                      <a:lnTo>
                        <a:pt x="106" y="270"/>
                      </a:lnTo>
                      <a:lnTo>
                        <a:pt x="0" y="345"/>
                      </a:lnTo>
                      <a:lnTo>
                        <a:pt x="106" y="239"/>
                      </a:lnTo>
                      <a:lnTo>
                        <a:pt x="493" y="94"/>
                      </a:lnTo>
                      <a:lnTo>
                        <a:pt x="749" y="90"/>
                      </a:lnTo>
                      <a:lnTo>
                        <a:pt x="995" y="15"/>
                      </a:lnTo>
                      <a:lnTo>
                        <a:pt x="1072" y="2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4363560" y="5187240"/>
                  <a:ext cx="93960" cy="181440"/>
                </a:xfrm>
                <a:custGeom>
                  <a:avLst/>
                  <a:gdLst/>
                  <a:ahLst/>
                  <a:rect l="l" t="t" r="r" b="b"/>
                  <a:pathLst>
                    <a:path w="1134" h="1714">
                      <a:moveTo>
                        <a:pt x="159" y="0"/>
                      </a:moveTo>
                      <a:lnTo>
                        <a:pt x="264" y="31"/>
                      </a:lnTo>
                      <a:lnTo>
                        <a:pt x="365" y="113"/>
                      </a:lnTo>
                      <a:lnTo>
                        <a:pt x="447" y="229"/>
                      </a:lnTo>
                      <a:lnTo>
                        <a:pt x="521" y="367"/>
                      </a:lnTo>
                      <a:lnTo>
                        <a:pt x="570" y="484"/>
                      </a:lnTo>
                      <a:lnTo>
                        <a:pt x="611" y="591"/>
                      </a:lnTo>
                      <a:lnTo>
                        <a:pt x="491" y="409"/>
                      </a:lnTo>
                      <a:lnTo>
                        <a:pt x="387" y="288"/>
                      </a:lnTo>
                      <a:lnTo>
                        <a:pt x="264" y="205"/>
                      </a:lnTo>
                      <a:lnTo>
                        <a:pt x="167" y="157"/>
                      </a:lnTo>
                      <a:lnTo>
                        <a:pt x="167" y="319"/>
                      </a:lnTo>
                      <a:lnTo>
                        <a:pt x="222" y="499"/>
                      </a:lnTo>
                      <a:lnTo>
                        <a:pt x="312" y="646"/>
                      </a:lnTo>
                      <a:lnTo>
                        <a:pt x="413" y="754"/>
                      </a:lnTo>
                      <a:lnTo>
                        <a:pt x="598" y="886"/>
                      </a:lnTo>
                      <a:lnTo>
                        <a:pt x="768" y="998"/>
                      </a:lnTo>
                      <a:lnTo>
                        <a:pt x="860" y="1049"/>
                      </a:lnTo>
                      <a:lnTo>
                        <a:pt x="818" y="925"/>
                      </a:lnTo>
                      <a:lnTo>
                        <a:pt x="923" y="1132"/>
                      </a:lnTo>
                      <a:lnTo>
                        <a:pt x="976" y="1301"/>
                      </a:lnTo>
                      <a:lnTo>
                        <a:pt x="1007" y="1508"/>
                      </a:lnTo>
                      <a:lnTo>
                        <a:pt x="1081" y="1631"/>
                      </a:lnTo>
                      <a:lnTo>
                        <a:pt x="1134" y="1714"/>
                      </a:lnTo>
                      <a:lnTo>
                        <a:pt x="959" y="1559"/>
                      </a:lnTo>
                      <a:lnTo>
                        <a:pt x="959" y="1642"/>
                      </a:lnTo>
                      <a:lnTo>
                        <a:pt x="877" y="1665"/>
                      </a:lnTo>
                      <a:lnTo>
                        <a:pt x="918" y="1609"/>
                      </a:lnTo>
                      <a:lnTo>
                        <a:pt x="908" y="1534"/>
                      </a:lnTo>
                      <a:lnTo>
                        <a:pt x="703" y="1402"/>
                      </a:lnTo>
                      <a:lnTo>
                        <a:pt x="877" y="1411"/>
                      </a:lnTo>
                      <a:lnTo>
                        <a:pt x="736" y="1204"/>
                      </a:lnTo>
                      <a:lnTo>
                        <a:pt x="853" y="1195"/>
                      </a:lnTo>
                      <a:lnTo>
                        <a:pt x="869" y="1147"/>
                      </a:lnTo>
                      <a:lnTo>
                        <a:pt x="703" y="1141"/>
                      </a:lnTo>
                      <a:lnTo>
                        <a:pt x="494" y="1077"/>
                      </a:lnTo>
                      <a:lnTo>
                        <a:pt x="249" y="967"/>
                      </a:lnTo>
                      <a:lnTo>
                        <a:pt x="99" y="860"/>
                      </a:lnTo>
                      <a:lnTo>
                        <a:pt x="84" y="886"/>
                      </a:lnTo>
                      <a:lnTo>
                        <a:pt x="143" y="985"/>
                      </a:lnTo>
                      <a:lnTo>
                        <a:pt x="240" y="1077"/>
                      </a:lnTo>
                      <a:lnTo>
                        <a:pt x="339" y="1132"/>
                      </a:lnTo>
                      <a:lnTo>
                        <a:pt x="413" y="1338"/>
                      </a:lnTo>
                      <a:lnTo>
                        <a:pt x="644" y="1402"/>
                      </a:lnTo>
                      <a:lnTo>
                        <a:pt x="482" y="1386"/>
                      </a:lnTo>
                      <a:lnTo>
                        <a:pt x="556" y="1460"/>
                      </a:lnTo>
                      <a:lnTo>
                        <a:pt x="763" y="1508"/>
                      </a:lnTo>
                      <a:lnTo>
                        <a:pt x="853" y="1582"/>
                      </a:lnTo>
                      <a:lnTo>
                        <a:pt x="826" y="1631"/>
                      </a:lnTo>
                      <a:lnTo>
                        <a:pt x="694" y="1591"/>
                      </a:lnTo>
                      <a:lnTo>
                        <a:pt x="598" y="1600"/>
                      </a:lnTo>
                      <a:lnTo>
                        <a:pt x="51" y="1107"/>
                      </a:lnTo>
                      <a:lnTo>
                        <a:pt x="21" y="943"/>
                      </a:lnTo>
                      <a:lnTo>
                        <a:pt x="9" y="826"/>
                      </a:lnTo>
                      <a:lnTo>
                        <a:pt x="51" y="770"/>
                      </a:lnTo>
                      <a:lnTo>
                        <a:pt x="21" y="642"/>
                      </a:lnTo>
                      <a:lnTo>
                        <a:pt x="0" y="443"/>
                      </a:lnTo>
                      <a:lnTo>
                        <a:pt x="25" y="279"/>
                      </a:lnTo>
                      <a:lnTo>
                        <a:pt x="77" y="132"/>
                      </a:lnTo>
                      <a:lnTo>
                        <a:pt x="1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4429440" y="5361120"/>
                  <a:ext cx="26280" cy="42480"/>
                </a:xfrm>
                <a:custGeom>
                  <a:avLst/>
                  <a:gdLst/>
                  <a:ahLst/>
                  <a:rect l="l" t="t" r="r" b="b"/>
                  <a:pathLst>
                    <a:path w="318" h="399">
                      <a:moveTo>
                        <a:pt x="0" y="138"/>
                      </a:moveTo>
                      <a:lnTo>
                        <a:pt x="87" y="23"/>
                      </a:lnTo>
                      <a:lnTo>
                        <a:pt x="168" y="0"/>
                      </a:lnTo>
                      <a:lnTo>
                        <a:pt x="221" y="72"/>
                      </a:lnTo>
                      <a:lnTo>
                        <a:pt x="221" y="336"/>
                      </a:lnTo>
                      <a:lnTo>
                        <a:pt x="285" y="106"/>
                      </a:lnTo>
                      <a:lnTo>
                        <a:pt x="318" y="196"/>
                      </a:lnTo>
                      <a:lnTo>
                        <a:pt x="318" y="295"/>
                      </a:lnTo>
                      <a:lnTo>
                        <a:pt x="246" y="399"/>
                      </a:lnTo>
                      <a:lnTo>
                        <a:pt x="186" y="399"/>
                      </a:lnTo>
                      <a:lnTo>
                        <a:pt x="39" y="261"/>
                      </a:lnTo>
                      <a:lnTo>
                        <a:pt x="0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4452480" y="5198400"/>
                  <a:ext cx="193320" cy="227880"/>
                </a:xfrm>
                <a:custGeom>
                  <a:avLst/>
                  <a:gdLst/>
                  <a:ahLst/>
                  <a:rect l="l" t="t" r="r" b="b"/>
                  <a:pathLst>
                    <a:path w="2335" h="2151">
                      <a:moveTo>
                        <a:pt x="87" y="1633"/>
                      </a:moveTo>
                      <a:lnTo>
                        <a:pt x="112" y="1705"/>
                      </a:lnTo>
                      <a:lnTo>
                        <a:pt x="123" y="1896"/>
                      </a:lnTo>
                      <a:lnTo>
                        <a:pt x="0" y="1953"/>
                      </a:lnTo>
                      <a:lnTo>
                        <a:pt x="39" y="1978"/>
                      </a:lnTo>
                      <a:lnTo>
                        <a:pt x="182" y="1953"/>
                      </a:lnTo>
                      <a:lnTo>
                        <a:pt x="742" y="2068"/>
                      </a:lnTo>
                      <a:lnTo>
                        <a:pt x="732" y="2032"/>
                      </a:lnTo>
                      <a:lnTo>
                        <a:pt x="732" y="2011"/>
                      </a:lnTo>
                      <a:lnTo>
                        <a:pt x="758" y="1997"/>
                      </a:lnTo>
                      <a:lnTo>
                        <a:pt x="791" y="2002"/>
                      </a:lnTo>
                      <a:lnTo>
                        <a:pt x="806" y="2032"/>
                      </a:lnTo>
                      <a:lnTo>
                        <a:pt x="830" y="2061"/>
                      </a:lnTo>
                      <a:lnTo>
                        <a:pt x="883" y="2068"/>
                      </a:lnTo>
                      <a:lnTo>
                        <a:pt x="958" y="2127"/>
                      </a:lnTo>
                      <a:lnTo>
                        <a:pt x="938" y="2068"/>
                      </a:lnTo>
                      <a:lnTo>
                        <a:pt x="1180" y="2011"/>
                      </a:lnTo>
                      <a:lnTo>
                        <a:pt x="1477" y="1845"/>
                      </a:lnTo>
                      <a:lnTo>
                        <a:pt x="1807" y="1930"/>
                      </a:lnTo>
                      <a:lnTo>
                        <a:pt x="1872" y="2061"/>
                      </a:lnTo>
                      <a:lnTo>
                        <a:pt x="1872" y="2142"/>
                      </a:lnTo>
                      <a:lnTo>
                        <a:pt x="1883" y="2151"/>
                      </a:lnTo>
                      <a:lnTo>
                        <a:pt x="1897" y="2061"/>
                      </a:lnTo>
                      <a:lnTo>
                        <a:pt x="1823" y="1912"/>
                      </a:lnTo>
                      <a:lnTo>
                        <a:pt x="1666" y="1815"/>
                      </a:lnTo>
                      <a:lnTo>
                        <a:pt x="1731" y="1714"/>
                      </a:lnTo>
                      <a:lnTo>
                        <a:pt x="1855" y="1668"/>
                      </a:lnTo>
                      <a:lnTo>
                        <a:pt x="2003" y="1642"/>
                      </a:lnTo>
                      <a:lnTo>
                        <a:pt x="2189" y="1674"/>
                      </a:lnTo>
                      <a:lnTo>
                        <a:pt x="2226" y="1705"/>
                      </a:lnTo>
                      <a:lnTo>
                        <a:pt x="2235" y="1804"/>
                      </a:lnTo>
                      <a:lnTo>
                        <a:pt x="2285" y="1887"/>
                      </a:lnTo>
                      <a:lnTo>
                        <a:pt x="2335" y="1771"/>
                      </a:lnTo>
                      <a:lnTo>
                        <a:pt x="2309" y="1700"/>
                      </a:lnTo>
                      <a:lnTo>
                        <a:pt x="2219" y="1608"/>
                      </a:lnTo>
                      <a:lnTo>
                        <a:pt x="2102" y="1510"/>
                      </a:lnTo>
                      <a:lnTo>
                        <a:pt x="2010" y="1402"/>
                      </a:lnTo>
                      <a:lnTo>
                        <a:pt x="1929" y="1439"/>
                      </a:lnTo>
                      <a:lnTo>
                        <a:pt x="1883" y="1559"/>
                      </a:lnTo>
                      <a:lnTo>
                        <a:pt x="1839" y="1536"/>
                      </a:lnTo>
                      <a:lnTo>
                        <a:pt x="1883" y="1428"/>
                      </a:lnTo>
                      <a:lnTo>
                        <a:pt x="1929" y="1338"/>
                      </a:lnTo>
                      <a:lnTo>
                        <a:pt x="2138" y="1255"/>
                      </a:lnTo>
                      <a:lnTo>
                        <a:pt x="2235" y="1165"/>
                      </a:lnTo>
                      <a:lnTo>
                        <a:pt x="2189" y="1041"/>
                      </a:lnTo>
                      <a:lnTo>
                        <a:pt x="2169" y="1142"/>
                      </a:lnTo>
                      <a:lnTo>
                        <a:pt x="2063" y="1206"/>
                      </a:lnTo>
                      <a:lnTo>
                        <a:pt x="1962" y="1232"/>
                      </a:lnTo>
                      <a:lnTo>
                        <a:pt x="1883" y="1239"/>
                      </a:lnTo>
                      <a:lnTo>
                        <a:pt x="1855" y="1213"/>
                      </a:lnTo>
                      <a:lnTo>
                        <a:pt x="1872" y="1181"/>
                      </a:lnTo>
                      <a:lnTo>
                        <a:pt x="2039" y="1066"/>
                      </a:lnTo>
                      <a:lnTo>
                        <a:pt x="2169" y="943"/>
                      </a:lnTo>
                      <a:lnTo>
                        <a:pt x="2197" y="1001"/>
                      </a:lnTo>
                      <a:lnTo>
                        <a:pt x="2201" y="868"/>
                      </a:lnTo>
                      <a:lnTo>
                        <a:pt x="2180" y="720"/>
                      </a:lnTo>
                      <a:lnTo>
                        <a:pt x="2169" y="565"/>
                      </a:lnTo>
                      <a:lnTo>
                        <a:pt x="2180" y="337"/>
                      </a:lnTo>
                      <a:lnTo>
                        <a:pt x="2153" y="114"/>
                      </a:lnTo>
                      <a:lnTo>
                        <a:pt x="2111" y="0"/>
                      </a:lnTo>
                      <a:lnTo>
                        <a:pt x="2144" y="182"/>
                      </a:lnTo>
                      <a:lnTo>
                        <a:pt x="2144" y="400"/>
                      </a:lnTo>
                      <a:lnTo>
                        <a:pt x="2111" y="582"/>
                      </a:lnTo>
                      <a:lnTo>
                        <a:pt x="1982" y="868"/>
                      </a:lnTo>
                      <a:lnTo>
                        <a:pt x="2088" y="706"/>
                      </a:lnTo>
                      <a:lnTo>
                        <a:pt x="2127" y="771"/>
                      </a:lnTo>
                      <a:lnTo>
                        <a:pt x="2144" y="861"/>
                      </a:lnTo>
                      <a:lnTo>
                        <a:pt x="2120" y="936"/>
                      </a:lnTo>
                      <a:lnTo>
                        <a:pt x="2003" y="1041"/>
                      </a:lnTo>
                      <a:lnTo>
                        <a:pt x="1865" y="1125"/>
                      </a:lnTo>
                      <a:lnTo>
                        <a:pt x="1872" y="1050"/>
                      </a:lnTo>
                      <a:lnTo>
                        <a:pt x="1673" y="1273"/>
                      </a:lnTo>
                      <a:lnTo>
                        <a:pt x="1402" y="1476"/>
                      </a:lnTo>
                      <a:lnTo>
                        <a:pt x="1169" y="1584"/>
                      </a:lnTo>
                      <a:lnTo>
                        <a:pt x="965" y="1633"/>
                      </a:lnTo>
                      <a:lnTo>
                        <a:pt x="615" y="1600"/>
                      </a:lnTo>
                      <a:lnTo>
                        <a:pt x="410" y="1608"/>
                      </a:lnTo>
                      <a:lnTo>
                        <a:pt x="195" y="1626"/>
                      </a:lnTo>
                      <a:lnTo>
                        <a:pt x="87" y="16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4554000" y="5189040"/>
                  <a:ext cx="14400" cy="149040"/>
                </a:xfrm>
                <a:custGeom>
                  <a:avLst/>
                  <a:gdLst/>
                  <a:ahLst/>
                  <a:rect l="l" t="t" r="r" b="b"/>
                  <a:pathLst>
                    <a:path w="180" h="1411">
                      <a:moveTo>
                        <a:pt x="0" y="33"/>
                      </a:moveTo>
                      <a:lnTo>
                        <a:pt x="99" y="263"/>
                      </a:lnTo>
                      <a:lnTo>
                        <a:pt x="129" y="483"/>
                      </a:lnTo>
                      <a:lnTo>
                        <a:pt x="124" y="802"/>
                      </a:lnTo>
                      <a:lnTo>
                        <a:pt x="81" y="1075"/>
                      </a:lnTo>
                      <a:lnTo>
                        <a:pt x="9" y="1411"/>
                      </a:lnTo>
                      <a:lnTo>
                        <a:pt x="90" y="1386"/>
                      </a:lnTo>
                      <a:lnTo>
                        <a:pt x="140" y="1303"/>
                      </a:lnTo>
                      <a:lnTo>
                        <a:pt x="171" y="1140"/>
                      </a:lnTo>
                      <a:lnTo>
                        <a:pt x="180" y="886"/>
                      </a:lnTo>
                      <a:lnTo>
                        <a:pt x="171" y="556"/>
                      </a:lnTo>
                      <a:lnTo>
                        <a:pt x="145" y="344"/>
                      </a:lnTo>
                      <a:lnTo>
                        <a:pt x="105" y="180"/>
                      </a:lnTo>
                      <a:lnTo>
                        <a:pt x="39" y="22"/>
                      </a:lnTo>
                      <a:lnTo>
                        <a:pt x="9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4523040" y="5286600"/>
                  <a:ext cx="11520" cy="15120"/>
                </a:xfrm>
                <a:custGeom>
                  <a:avLst/>
                  <a:gdLst/>
                  <a:ahLst/>
                  <a:rect l="l" t="t" r="r" b="b"/>
                  <a:pathLst>
                    <a:path w="141" h="141">
                      <a:moveTo>
                        <a:pt x="101" y="7"/>
                      </a:moveTo>
                      <a:lnTo>
                        <a:pt x="66" y="7"/>
                      </a:lnTo>
                      <a:lnTo>
                        <a:pt x="42" y="31"/>
                      </a:lnTo>
                      <a:lnTo>
                        <a:pt x="51" y="62"/>
                      </a:lnTo>
                      <a:lnTo>
                        <a:pt x="77" y="88"/>
                      </a:lnTo>
                      <a:lnTo>
                        <a:pt x="110" y="72"/>
                      </a:lnTo>
                      <a:lnTo>
                        <a:pt x="123" y="49"/>
                      </a:lnTo>
                      <a:lnTo>
                        <a:pt x="123" y="31"/>
                      </a:lnTo>
                      <a:lnTo>
                        <a:pt x="141" y="62"/>
                      </a:lnTo>
                      <a:lnTo>
                        <a:pt x="123" y="113"/>
                      </a:lnTo>
                      <a:lnTo>
                        <a:pt x="77" y="141"/>
                      </a:lnTo>
                      <a:lnTo>
                        <a:pt x="18" y="106"/>
                      </a:lnTo>
                      <a:lnTo>
                        <a:pt x="0" y="49"/>
                      </a:lnTo>
                      <a:lnTo>
                        <a:pt x="42" y="7"/>
                      </a:lnTo>
                      <a:lnTo>
                        <a:pt x="66" y="0"/>
                      </a:lnTo>
                      <a:lnTo>
                        <a:pt x="10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4624200" y="5325480"/>
                  <a:ext cx="21600" cy="53280"/>
                </a:xfrm>
                <a:custGeom>
                  <a:avLst/>
                  <a:gdLst/>
                  <a:ahLst/>
                  <a:rect l="l" t="t" r="r" b="b"/>
                  <a:pathLst>
                    <a:path w="265" h="505">
                      <a:moveTo>
                        <a:pt x="215" y="0"/>
                      </a:moveTo>
                      <a:lnTo>
                        <a:pt x="215" y="71"/>
                      </a:lnTo>
                      <a:lnTo>
                        <a:pt x="0" y="193"/>
                      </a:lnTo>
                      <a:lnTo>
                        <a:pt x="131" y="152"/>
                      </a:lnTo>
                      <a:lnTo>
                        <a:pt x="131" y="277"/>
                      </a:lnTo>
                      <a:lnTo>
                        <a:pt x="57" y="258"/>
                      </a:lnTo>
                      <a:lnTo>
                        <a:pt x="239" y="431"/>
                      </a:lnTo>
                      <a:lnTo>
                        <a:pt x="265" y="505"/>
                      </a:lnTo>
                      <a:lnTo>
                        <a:pt x="255" y="405"/>
                      </a:lnTo>
                      <a:lnTo>
                        <a:pt x="180" y="308"/>
                      </a:lnTo>
                      <a:lnTo>
                        <a:pt x="180" y="143"/>
                      </a:lnTo>
                      <a:lnTo>
                        <a:pt x="233" y="92"/>
                      </a:lnTo>
                      <a:lnTo>
                        <a:pt x="233" y="51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4599000" y="5383800"/>
                  <a:ext cx="75960" cy="56880"/>
                </a:xfrm>
                <a:custGeom>
                  <a:avLst/>
                  <a:gdLst/>
                  <a:ahLst/>
                  <a:rect l="l" t="t" r="r" b="b"/>
                  <a:pathLst>
                    <a:path w="918" h="541">
                      <a:moveTo>
                        <a:pt x="529" y="181"/>
                      </a:moveTo>
                      <a:lnTo>
                        <a:pt x="520" y="211"/>
                      </a:lnTo>
                      <a:lnTo>
                        <a:pt x="470" y="211"/>
                      </a:lnTo>
                      <a:lnTo>
                        <a:pt x="379" y="55"/>
                      </a:lnTo>
                      <a:lnTo>
                        <a:pt x="217" y="0"/>
                      </a:lnTo>
                      <a:lnTo>
                        <a:pt x="35" y="55"/>
                      </a:lnTo>
                      <a:lnTo>
                        <a:pt x="0" y="123"/>
                      </a:lnTo>
                      <a:lnTo>
                        <a:pt x="65" y="186"/>
                      </a:lnTo>
                      <a:lnTo>
                        <a:pt x="123" y="294"/>
                      </a:lnTo>
                      <a:lnTo>
                        <a:pt x="245" y="172"/>
                      </a:lnTo>
                      <a:lnTo>
                        <a:pt x="373" y="195"/>
                      </a:lnTo>
                      <a:lnTo>
                        <a:pt x="553" y="283"/>
                      </a:lnTo>
                      <a:lnTo>
                        <a:pt x="613" y="319"/>
                      </a:lnTo>
                      <a:lnTo>
                        <a:pt x="619" y="411"/>
                      </a:lnTo>
                      <a:lnTo>
                        <a:pt x="529" y="474"/>
                      </a:lnTo>
                      <a:lnTo>
                        <a:pt x="619" y="541"/>
                      </a:lnTo>
                      <a:lnTo>
                        <a:pt x="918" y="541"/>
                      </a:lnTo>
                      <a:lnTo>
                        <a:pt x="793" y="424"/>
                      </a:lnTo>
                      <a:lnTo>
                        <a:pt x="727" y="424"/>
                      </a:lnTo>
                      <a:lnTo>
                        <a:pt x="660" y="253"/>
                      </a:lnTo>
                      <a:lnTo>
                        <a:pt x="577" y="204"/>
                      </a:lnTo>
                      <a:lnTo>
                        <a:pt x="529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4536720" y="5410080"/>
                  <a:ext cx="108000" cy="48960"/>
                </a:xfrm>
                <a:custGeom>
                  <a:avLst/>
                  <a:gdLst/>
                  <a:ahLst/>
                  <a:rect l="l" t="t" r="r" b="b"/>
                  <a:pathLst>
                    <a:path w="1305" h="464">
                      <a:moveTo>
                        <a:pt x="1248" y="185"/>
                      </a:moveTo>
                      <a:lnTo>
                        <a:pt x="1184" y="130"/>
                      </a:lnTo>
                      <a:lnTo>
                        <a:pt x="1149" y="53"/>
                      </a:lnTo>
                      <a:lnTo>
                        <a:pt x="1066" y="71"/>
                      </a:lnTo>
                      <a:lnTo>
                        <a:pt x="1033" y="242"/>
                      </a:lnTo>
                      <a:lnTo>
                        <a:pt x="1089" y="293"/>
                      </a:lnTo>
                      <a:lnTo>
                        <a:pt x="944" y="293"/>
                      </a:lnTo>
                      <a:lnTo>
                        <a:pt x="826" y="341"/>
                      </a:lnTo>
                      <a:lnTo>
                        <a:pt x="497" y="433"/>
                      </a:lnTo>
                      <a:lnTo>
                        <a:pt x="308" y="464"/>
                      </a:lnTo>
                      <a:lnTo>
                        <a:pt x="149" y="464"/>
                      </a:lnTo>
                      <a:lnTo>
                        <a:pt x="50" y="433"/>
                      </a:lnTo>
                      <a:lnTo>
                        <a:pt x="0" y="350"/>
                      </a:lnTo>
                      <a:lnTo>
                        <a:pt x="50" y="350"/>
                      </a:lnTo>
                      <a:lnTo>
                        <a:pt x="200" y="415"/>
                      </a:lnTo>
                      <a:lnTo>
                        <a:pt x="349" y="424"/>
                      </a:lnTo>
                      <a:lnTo>
                        <a:pt x="547" y="392"/>
                      </a:lnTo>
                      <a:lnTo>
                        <a:pt x="769" y="311"/>
                      </a:lnTo>
                      <a:lnTo>
                        <a:pt x="826" y="286"/>
                      </a:lnTo>
                      <a:lnTo>
                        <a:pt x="769" y="176"/>
                      </a:lnTo>
                      <a:lnTo>
                        <a:pt x="695" y="110"/>
                      </a:lnTo>
                      <a:lnTo>
                        <a:pt x="605" y="14"/>
                      </a:lnTo>
                      <a:lnTo>
                        <a:pt x="769" y="46"/>
                      </a:lnTo>
                      <a:lnTo>
                        <a:pt x="810" y="110"/>
                      </a:lnTo>
                      <a:lnTo>
                        <a:pt x="870" y="64"/>
                      </a:lnTo>
                      <a:lnTo>
                        <a:pt x="870" y="130"/>
                      </a:lnTo>
                      <a:lnTo>
                        <a:pt x="1033" y="0"/>
                      </a:lnTo>
                      <a:lnTo>
                        <a:pt x="1257" y="46"/>
                      </a:lnTo>
                      <a:lnTo>
                        <a:pt x="1305" y="145"/>
                      </a:lnTo>
                      <a:lnTo>
                        <a:pt x="1248" y="1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4610520" y="5442480"/>
                  <a:ext cx="2484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4555440" y="50932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50" h="123">
                      <a:moveTo>
                        <a:pt x="32" y="0"/>
                      </a:moveTo>
                      <a:lnTo>
                        <a:pt x="50" y="42"/>
                      </a:lnTo>
                      <a:lnTo>
                        <a:pt x="50" y="83"/>
                      </a:lnTo>
                      <a:lnTo>
                        <a:pt x="32" y="118"/>
                      </a:lnTo>
                      <a:lnTo>
                        <a:pt x="14" y="123"/>
                      </a:lnTo>
                      <a:lnTo>
                        <a:pt x="0" y="123"/>
                      </a:lnTo>
                      <a:lnTo>
                        <a:pt x="0" y="111"/>
                      </a:lnTo>
                      <a:lnTo>
                        <a:pt x="19" y="111"/>
                      </a:lnTo>
                      <a:lnTo>
                        <a:pt x="32" y="83"/>
                      </a:lnTo>
                      <a:lnTo>
                        <a:pt x="39" y="48"/>
                      </a:lnTo>
                      <a:lnTo>
                        <a:pt x="19" y="1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4490280" y="5060160"/>
                  <a:ext cx="25560" cy="15120"/>
                </a:xfrm>
                <a:custGeom>
                  <a:avLst/>
                  <a:gdLst/>
                  <a:ahLst/>
                  <a:rect l="l" t="t" r="r" b="b"/>
                  <a:pathLst>
                    <a:path w="311" h="142">
                      <a:moveTo>
                        <a:pt x="0" y="49"/>
                      </a:moveTo>
                      <a:lnTo>
                        <a:pt x="48" y="39"/>
                      </a:lnTo>
                      <a:lnTo>
                        <a:pt x="14" y="26"/>
                      </a:lnTo>
                      <a:lnTo>
                        <a:pt x="55" y="0"/>
                      </a:lnTo>
                      <a:lnTo>
                        <a:pt x="117" y="1"/>
                      </a:lnTo>
                      <a:lnTo>
                        <a:pt x="179" y="1"/>
                      </a:lnTo>
                      <a:lnTo>
                        <a:pt x="255" y="37"/>
                      </a:lnTo>
                      <a:lnTo>
                        <a:pt x="218" y="37"/>
                      </a:lnTo>
                      <a:lnTo>
                        <a:pt x="267" y="83"/>
                      </a:lnTo>
                      <a:lnTo>
                        <a:pt x="278" y="54"/>
                      </a:lnTo>
                      <a:lnTo>
                        <a:pt x="311" y="107"/>
                      </a:lnTo>
                      <a:lnTo>
                        <a:pt x="273" y="142"/>
                      </a:lnTo>
                      <a:lnTo>
                        <a:pt x="276" y="109"/>
                      </a:lnTo>
                      <a:lnTo>
                        <a:pt x="223" y="122"/>
                      </a:lnTo>
                      <a:lnTo>
                        <a:pt x="188" y="120"/>
                      </a:lnTo>
                      <a:lnTo>
                        <a:pt x="240" y="109"/>
                      </a:lnTo>
                      <a:lnTo>
                        <a:pt x="253" y="92"/>
                      </a:lnTo>
                      <a:lnTo>
                        <a:pt x="235" y="61"/>
                      </a:lnTo>
                      <a:lnTo>
                        <a:pt x="191" y="39"/>
                      </a:lnTo>
                      <a:lnTo>
                        <a:pt x="156" y="37"/>
                      </a:lnTo>
                      <a:lnTo>
                        <a:pt x="101" y="41"/>
                      </a:lnTo>
                      <a:lnTo>
                        <a:pt x="60" y="46"/>
                      </a:lnTo>
                      <a:lnTo>
                        <a:pt x="95" y="81"/>
                      </a:lnTo>
                      <a:lnTo>
                        <a:pt x="140" y="109"/>
                      </a:lnTo>
                      <a:lnTo>
                        <a:pt x="122" y="122"/>
                      </a:lnTo>
                      <a:lnTo>
                        <a:pt x="106" y="104"/>
                      </a:lnTo>
                      <a:lnTo>
                        <a:pt x="71" y="109"/>
                      </a:lnTo>
                      <a:lnTo>
                        <a:pt x="66" y="81"/>
                      </a:lnTo>
                      <a:lnTo>
                        <a:pt x="36" y="79"/>
                      </a:lnTo>
                      <a:lnTo>
                        <a:pt x="43" y="61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4532760" y="50634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263" h="121">
                      <a:moveTo>
                        <a:pt x="0" y="75"/>
                      </a:moveTo>
                      <a:lnTo>
                        <a:pt x="26" y="31"/>
                      </a:lnTo>
                      <a:lnTo>
                        <a:pt x="92" y="0"/>
                      </a:lnTo>
                      <a:lnTo>
                        <a:pt x="127" y="0"/>
                      </a:lnTo>
                      <a:lnTo>
                        <a:pt x="109" y="24"/>
                      </a:lnTo>
                      <a:lnTo>
                        <a:pt x="145" y="24"/>
                      </a:lnTo>
                      <a:lnTo>
                        <a:pt x="151" y="5"/>
                      </a:lnTo>
                      <a:lnTo>
                        <a:pt x="175" y="17"/>
                      </a:lnTo>
                      <a:lnTo>
                        <a:pt x="208" y="12"/>
                      </a:lnTo>
                      <a:lnTo>
                        <a:pt x="217" y="29"/>
                      </a:lnTo>
                      <a:lnTo>
                        <a:pt x="259" y="24"/>
                      </a:lnTo>
                      <a:lnTo>
                        <a:pt x="226" y="58"/>
                      </a:lnTo>
                      <a:lnTo>
                        <a:pt x="263" y="77"/>
                      </a:lnTo>
                      <a:lnTo>
                        <a:pt x="208" y="86"/>
                      </a:lnTo>
                      <a:lnTo>
                        <a:pt x="206" y="104"/>
                      </a:lnTo>
                      <a:lnTo>
                        <a:pt x="180" y="97"/>
                      </a:lnTo>
                      <a:lnTo>
                        <a:pt x="151" y="121"/>
                      </a:lnTo>
                      <a:lnTo>
                        <a:pt x="134" y="110"/>
                      </a:lnTo>
                      <a:lnTo>
                        <a:pt x="97" y="110"/>
                      </a:lnTo>
                      <a:lnTo>
                        <a:pt x="151" y="97"/>
                      </a:lnTo>
                      <a:lnTo>
                        <a:pt x="184" y="77"/>
                      </a:lnTo>
                      <a:lnTo>
                        <a:pt x="206" y="68"/>
                      </a:lnTo>
                      <a:lnTo>
                        <a:pt x="169" y="51"/>
                      </a:lnTo>
                      <a:lnTo>
                        <a:pt x="134" y="38"/>
                      </a:lnTo>
                      <a:lnTo>
                        <a:pt x="85" y="31"/>
                      </a:lnTo>
                      <a:lnTo>
                        <a:pt x="37" y="58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4534920" y="507276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51" h="17">
                      <a:moveTo>
                        <a:pt x="14" y="0"/>
                      </a:moveTo>
                      <a:lnTo>
                        <a:pt x="51" y="17"/>
                      </a:lnTo>
                      <a:lnTo>
                        <a:pt x="0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4492440" y="5048280"/>
                  <a:ext cx="25560" cy="15120"/>
                </a:xfrm>
                <a:custGeom>
                  <a:avLst/>
                  <a:gdLst/>
                  <a:ahLst/>
                  <a:rect l="l" t="t" r="r" b="b"/>
                  <a:pathLst>
                    <a:path w="310" h="140">
                      <a:moveTo>
                        <a:pt x="0" y="28"/>
                      </a:moveTo>
                      <a:lnTo>
                        <a:pt x="93" y="0"/>
                      </a:lnTo>
                      <a:lnTo>
                        <a:pt x="238" y="57"/>
                      </a:lnTo>
                      <a:lnTo>
                        <a:pt x="310" y="140"/>
                      </a:lnTo>
                      <a:lnTo>
                        <a:pt x="244" y="74"/>
                      </a:lnTo>
                      <a:lnTo>
                        <a:pt x="145" y="28"/>
                      </a:lnTo>
                      <a:lnTo>
                        <a:pt x="81" y="21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4534920" y="5052600"/>
                  <a:ext cx="19800" cy="6480"/>
                </a:xfrm>
                <a:custGeom>
                  <a:avLst/>
                  <a:gdLst/>
                  <a:ahLst/>
                  <a:rect l="l" t="t" r="r" b="b"/>
                  <a:pathLst>
                    <a:path w="245" h="64">
                      <a:moveTo>
                        <a:pt x="0" y="64"/>
                      </a:moveTo>
                      <a:lnTo>
                        <a:pt x="86" y="31"/>
                      </a:lnTo>
                      <a:lnTo>
                        <a:pt x="157" y="18"/>
                      </a:lnTo>
                      <a:lnTo>
                        <a:pt x="218" y="18"/>
                      </a:lnTo>
                      <a:lnTo>
                        <a:pt x="245" y="35"/>
                      </a:lnTo>
                      <a:lnTo>
                        <a:pt x="229" y="0"/>
                      </a:lnTo>
                      <a:lnTo>
                        <a:pt x="168" y="0"/>
                      </a:lnTo>
                      <a:lnTo>
                        <a:pt x="69" y="18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4512240" y="5100120"/>
                  <a:ext cx="16200" cy="10800"/>
                </a:xfrm>
                <a:custGeom>
                  <a:avLst/>
                  <a:gdLst/>
                  <a:ahLst/>
                  <a:rect l="l" t="t" r="r" b="b"/>
                  <a:pathLst>
                    <a:path w="207" h="103">
                      <a:moveTo>
                        <a:pt x="207" y="38"/>
                      </a:moveTo>
                      <a:lnTo>
                        <a:pt x="152" y="73"/>
                      </a:lnTo>
                      <a:lnTo>
                        <a:pt x="130" y="66"/>
                      </a:lnTo>
                      <a:lnTo>
                        <a:pt x="101" y="38"/>
                      </a:lnTo>
                      <a:lnTo>
                        <a:pt x="58" y="29"/>
                      </a:lnTo>
                      <a:lnTo>
                        <a:pt x="11" y="22"/>
                      </a:ln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11" y="38"/>
                      </a:lnTo>
                      <a:lnTo>
                        <a:pt x="67" y="57"/>
                      </a:lnTo>
                      <a:lnTo>
                        <a:pt x="125" y="103"/>
                      </a:lnTo>
                      <a:lnTo>
                        <a:pt x="148" y="103"/>
                      </a:lnTo>
                      <a:lnTo>
                        <a:pt x="207" y="66"/>
                      </a:lnTo>
                      <a:lnTo>
                        <a:pt x="20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4528080" y="5060880"/>
                  <a:ext cx="4320" cy="18360"/>
                </a:xfrm>
                <a:custGeom>
                  <a:avLst/>
                  <a:gdLst/>
                  <a:ahLst/>
                  <a:rect l="l" t="t" r="r" b="b"/>
                  <a:pathLst>
                    <a:path w="57" h="172">
                      <a:moveTo>
                        <a:pt x="57" y="0"/>
                      </a:moveTo>
                      <a:lnTo>
                        <a:pt x="15" y="51"/>
                      </a:lnTo>
                      <a:lnTo>
                        <a:pt x="0" y="106"/>
                      </a:lnTo>
                      <a:lnTo>
                        <a:pt x="4" y="141"/>
                      </a:lnTo>
                      <a:lnTo>
                        <a:pt x="33" y="172"/>
                      </a:lnTo>
                      <a:lnTo>
                        <a:pt x="15" y="134"/>
                      </a:lnTo>
                      <a:lnTo>
                        <a:pt x="15" y="95"/>
                      </a:lnTo>
                      <a:lnTo>
                        <a:pt x="28" y="49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4500360" y="50634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81" h="74">
                      <a:moveTo>
                        <a:pt x="0" y="6"/>
                      </a:moveTo>
                      <a:lnTo>
                        <a:pt x="6" y="57"/>
                      </a:lnTo>
                      <a:lnTo>
                        <a:pt x="30" y="74"/>
                      </a:lnTo>
                      <a:lnTo>
                        <a:pt x="57" y="74"/>
                      </a:lnTo>
                      <a:lnTo>
                        <a:pt x="72" y="39"/>
                      </a:lnTo>
                      <a:lnTo>
                        <a:pt x="81" y="17"/>
                      </a:lnTo>
                      <a:lnTo>
                        <a:pt x="57" y="32"/>
                      </a:lnTo>
                      <a:lnTo>
                        <a:pt x="37" y="50"/>
                      </a:lnTo>
                      <a:lnTo>
                        <a:pt x="30" y="39"/>
                      </a:lnTo>
                      <a:lnTo>
                        <a:pt x="3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4537440" y="5067000"/>
                  <a:ext cx="7200" cy="6480"/>
                </a:xfrm>
                <a:custGeom>
                  <a:avLst/>
                  <a:gdLst/>
                  <a:ahLst/>
                  <a:rect l="l" t="t" r="r" b="b"/>
                  <a:pathLst>
                    <a:path w="92" h="64">
                      <a:moveTo>
                        <a:pt x="0" y="12"/>
                      </a:moveTo>
                      <a:lnTo>
                        <a:pt x="5" y="64"/>
                      </a:lnTo>
                      <a:lnTo>
                        <a:pt x="64" y="64"/>
                      </a:lnTo>
                      <a:lnTo>
                        <a:pt x="89" y="35"/>
                      </a:lnTo>
                      <a:lnTo>
                        <a:pt x="92" y="0"/>
                      </a:lnTo>
                      <a:lnTo>
                        <a:pt x="55" y="0"/>
                      </a:lnTo>
                      <a:lnTo>
                        <a:pt x="64" y="31"/>
                      </a:lnTo>
                      <a:lnTo>
                        <a:pt x="41" y="42"/>
                      </a:lnTo>
                      <a:lnTo>
                        <a:pt x="27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4506120" y="5117760"/>
                  <a:ext cx="28440" cy="3240"/>
                </a:xfrm>
                <a:custGeom>
                  <a:avLst/>
                  <a:gdLst/>
                  <a:ahLst/>
                  <a:rect l="l" t="t" r="r" b="b"/>
                  <a:pathLst>
                    <a:path w="350" h="31">
                      <a:moveTo>
                        <a:pt x="0" y="5"/>
                      </a:moveTo>
                      <a:lnTo>
                        <a:pt x="111" y="0"/>
                      </a:lnTo>
                      <a:lnTo>
                        <a:pt x="198" y="14"/>
                      </a:lnTo>
                      <a:lnTo>
                        <a:pt x="251" y="5"/>
                      </a:lnTo>
                      <a:lnTo>
                        <a:pt x="350" y="14"/>
                      </a:lnTo>
                      <a:lnTo>
                        <a:pt x="276" y="24"/>
                      </a:lnTo>
                      <a:lnTo>
                        <a:pt x="198" y="31"/>
                      </a:lnTo>
                      <a:lnTo>
                        <a:pt x="46" y="18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4511520" y="5123520"/>
                  <a:ext cx="19080" cy="4320"/>
                </a:xfrm>
                <a:custGeom>
                  <a:avLst/>
                  <a:gdLst/>
                  <a:ahLst/>
                  <a:rect l="l" t="t" r="r" b="b"/>
                  <a:pathLst>
                    <a:path w="233" h="42">
                      <a:moveTo>
                        <a:pt x="0" y="0"/>
                      </a:moveTo>
                      <a:lnTo>
                        <a:pt x="60" y="35"/>
                      </a:lnTo>
                      <a:lnTo>
                        <a:pt x="159" y="42"/>
                      </a:lnTo>
                      <a:lnTo>
                        <a:pt x="233" y="7"/>
                      </a:lnTo>
                      <a:lnTo>
                        <a:pt x="164" y="24"/>
                      </a:lnTo>
                      <a:lnTo>
                        <a:pt x="77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4804560" y="513720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595" h="512">
                      <a:moveTo>
                        <a:pt x="97" y="215"/>
                      </a:moveTo>
                      <a:lnTo>
                        <a:pt x="120" y="122"/>
                      </a:lnTo>
                      <a:lnTo>
                        <a:pt x="305" y="0"/>
                      </a:lnTo>
                      <a:lnTo>
                        <a:pt x="498" y="68"/>
                      </a:lnTo>
                      <a:lnTo>
                        <a:pt x="395" y="68"/>
                      </a:lnTo>
                      <a:lnTo>
                        <a:pt x="514" y="209"/>
                      </a:lnTo>
                      <a:lnTo>
                        <a:pt x="569" y="191"/>
                      </a:lnTo>
                      <a:lnTo>
                        <a:pt x="525" y="96"/>
                      </a:lnTo>
                      <a:lnTo>
                        <a:pt x="595" y="209"/>
                      </a:lnTo>
                      <a:lnTo>
                        <a:pt x="551" y="261"/>
                      </a:lnTo>
                      <a:lnTo>
                        <a:pt x="595" y="503"/>
                      </a:lnTo>
                      <a:lnTo>
                        <a:pt x="533" y="512"/>
                      </a:lnTo>
                      <a:lnTo>
                        <a:pt x="464" y="494"/>
                      </a:lnTo>
                      <a:lnTo>
                        <a:pt x="542" y="486"/>
                      </a:lnTo>
                      <a:lnTo>
                        <a:pt x="475" y="329"/>
                      </a:lnTo>
                      <a:lnTo>
                        <a:pt x="351" y="200"/>
                      </a:lnTo>
                      <a:lnTo>
                        <a:pt x="489" y="311"/>
                      </a:lnTo>
                      <a:lnTo>
                        <a:pt x="542" y="424"/>
                      </a:lnTo>
                      <a:lnTo>
                        <a:pt x="510" y="244"/>
                      </a:lnTo>
                      <a:lnTo>
                        <a:pt x="305" y="41"/>
                      </a:lnTo>
                      <a:lnTo>
                        <a:pt x="261" y="122"/>
                      </a:lnTo>
                      <a:lnTo>
                        <a:pt x="305" y="173"/>
                      </a:lnTo>
                      <a:lnTo>
                        <a:pt x="228" y="173"/>
                      </a:lnTo>
                      <a:lnTo>
                        <a:pt x="323" y="306"/>
                      </a:lnTo>
                      <a:lnTo>
                        <a:pt x="191" y="209"/>
                      </a:lnTo>
                      <a:lnTo>
                        <a:pt x="0" y="373"/>
                      </a:lnTo>
                      <a:lnTo>
                        <a:pt x="17" y="253"/>
                      </a:lnTo>
                      <a:lnTo>
                        <a:pt x="9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4812480" y="5172840"/>
                  <a:ext cx="34920" cy="55800"/>
                </a:xfrm>
                <a:custGeom>
                  <a:avLst/>
                  <a:gdLst/>
                  <a:ahLst/>
                  <a:rect l="l" t="t" r="r" b="b"/>
                  <a:pathLst>
                    <a:path w="417" h="531">
                      <a:moveTo>
                        <a:pt x="351" y="198"/>
                      </a:moveTo>
                      <a:lnTo>
                        <a:pt x="307" y="183"/>
                      </a:lnTo>
                      <a:lnTo>
                        <a:pt x="254" y="114"/>
                      </a:lnTo>
                      <a:lnTo>
                        <a:pt x="208" y="114"/>
                      </a:lnTo>
                      <a:lnTo>
                        <a:pt x="146" y="62"/>
                      </a:lnTo>
                      <a:lnTo>
                        <a:pt x="146" y="104"/>
                      </a:lnTo>
                      <a:lnTo>
                        <a:pt x="94" y="114"/>
                      </a:lnTo>
                      <a:lnTo>
                        <a:pt x="44" y="53"/>
                      </a:lnTo>
                      <a:lnTo>
                        <a:pt x="72" y="132"/>
                      </a:lnTo>
                      <a:lnTo>
                        <a:pt x="0" y="132"/>
                      </a:lnTo>
                      <a:lnTo>
                        <a:pt x="87" y="189"/>
                      </a:lnTo>
                      <a:lnTo>
                        <a:pt x="78" y="270"/>
                      </a:lnTo>
                      <a:lnTo>
                        <a:pt x="131" y="383"/>
                      </a:lnTo>
                      <a:lnTo>
                        <a:pt x="131" y="305"/>
                      </a:lnTo>
                      <a:lnTo>
                        <a:pt x="164" y="279"/>
                      </a:lnTo>
                      <a:lnTo>
                        <a:pt x="182" y="321"/>
                      </a:lnTo>
                      <a:lnTo>
                        <a:pt x="219" y="288"/>
                      </a:lnTo>
                      <a:lnTo>
                        <a:pt x="272" y="288"/>
                      </a:lnTo>
                      <a:lnTo>
                        <a:pt x="340" y="347"/>
                      </a:lnTo>
                      <a:lnTo>
                        <a:pt x="332" y="436"/>
                      </a:lnTo>
                      <a:lnTo>
                        <a:pt x="291" y="531"/>
                      </a:lnTo>
                      <a:lnTo>
                        <a:pt x="383" y="383"/>
                      </a:lnTo>
                      <a:lnTo>
                        <a:pt x="413" y="288"/>
                      </a:lnTo>
                      <a:lnTo>
                        <a:pt x="417" y="156"/>
                      </a:lnTo>
                      <a:lnTo>
                        <a:pt x="383" y="156"/>
                      </a:lnTo>
                      <a:lnTo>
                        <a:pt x="323" y="42"/>
                      </a:lnTo>
                      <a:lnTo>
                        <a:pt x="261" y="0"/>
                      </a:lnTo>
                      <a:lnTo>
                        <a:pt x="314" y="77"/>
                      </a:lnTo>
                      <a:lnTo>
                        <a:pt x="351" y="148"/>
                      </a:lnTo>
                      <a:lnTo>
                        <a:pt x="351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4770000" y="5180400"/>
                  <a:ext cx="141840" cy="259200"/>
                </a:xfrm>
                <a:custGeom>
                  <a:avLst/>
                  <a:gdLst/>
                  <a:ahLst/>
                  <a:rect l="l" t="t" r="r" b="b"/>
                  <a:pathLst>
                    <a:path w="1712" h="2448">
                      <a:moveTo>
                        <a:pt x="420" y="0"/>
                      </a:moveTo>
                      <a:lnTo>
                        <a:pt x="499" y="424"/>
                      </a:lnTo>
                      <a:lnTo>
                        <a:pt x="522" y="451"/>
                      </a:lnTo>
                      <a:lnTo>
                        <a:pt x="561" y="468"/>
                      </a:lnTo>
                      <a:lnTo>
                        <a:pt x="534" y="495"/>
                      </a:lnTo>
                      <a:lnTo>
                        <a:pt x="483" y="486"/>
                      </a:lnTo>
                      <a:lnTo>
                        <a:pt x="475" y="550"/>
                      </a:lnTo>
                      <a:lnTo>
                        <a:pt x="499" y="599"/>
                      </a:lnTo>
                      <a:lnTo>
                        <a:pt x="540" y="615"/>
                      </a:lnTo>
                      <a:lnTo>
                        <a:pt x="589" y="606"/>
                      </a:lnTo>
                      <a:lnTo>
                        <a:pt x="611" y="479"/>
                      </a:lnTo>
                      <a:lnTo>
                        <a:pt x="663" y="479"/>
                      </a:lnTo>
                      <a:lnTo>
                        <a:pt x="711" y="451"/>
                      </a:lnTo>
                      <a:lnTo>
                        <a:pt x="743" y="398"/>
                      </a:lnTo>
                      <a:lnTo>
                        <a:pt x="743" y="461"/>
                      </a:lnTo>
                      <a:lnTo>
                        <a:pt x="771" y="451"/>
                      </a:lnTo>
                      <a:lnTo>
                        <a:pt x="824" y="424"/>
                      </a:lnTo>
                      <a:lnTo>
                        <a:pt x="798" y="461"/>
                      </a:lnTo>
                      <a:lnTo>
                        <a:pt x="743" y="530"/>
                      </a:lnTo>
                      <a:lnTo>
                        <a:pt x="699" y="650"/>
                      </a:lnTo>
                      <a:lnTo>
                        <a:pt x="909" y="415"/>
                      </a:lnTo>
                      <a:lnTo>
                        <a:pt x="945" y="444"/>
                      </a:lnTo>
                      <a:lnTo>
                        <a:pt x="815" y="798"/>
                      </a:lnTo>
                      <a:lnTo>
                        <a:pt x="824" y="1260"/>
                      </a:lnTo>
                      <a:lnTo>
                        <a:pt x="1172" y="1295"/>
                      </a:lnTo>
                      <a:lnTo>
                        <a:pt x="1331" y="1371"/>
                      </a:lnTo>
                      <a:lnTo>
                        <a:pt x="1417" y="1371"/>
                      </a:lnTo>
                      <a:lnTo>
                        <a:pt x="1460" y="1442"/>
                      </a:lnTo>
                      <a:lnTo>
                        <a:pt x="1172" y="1332"/>
                      </a:lnTo>
                      <a:lnTo>
                        <a:pt x="953" y="1314"/>
                      </a:lnTo>
                      <a:lnTo>
                        <a:pt x="1059" y="1380"/>
                      </a:lnTo>
                      <a:lnTo>
                        <a:pt x="953" y="1380"/>
                      </a:lnTo>
                      <a:lnTo>
                        <a:pt x="798" y="1362"/>
                      </a:lnTo>
                      <a:lnTo>
                        <a:pt x="909" y="1459"/>
                      </a:lnTo>
                      <a:lnTo>
                        <a:pt x="1296" y="1523"/>
                      </a:lnTo>
                      <a:lnTo>
                        <a:pt x="971" y="1493"/>
                      </a:lnTo>
                      <a:lnTo>
                        <a:pt x="1172" y="1611"/>
                      </a:lnTo>
                      <a:lnTo>
                        <a:pt x="1147" y="1636"/>
                      </a:lnTo>
                      <a:lnTo>
                        <a:pt x="875" y="1503"/>
                      </a:lnTo>
                      <a:lnTo>
                        <a:pt x="918" y="1636"/>
                      </a:lnTo>
                      <a:lnTo>
                        <a:pt x="1349" y="1747"/>
                      </a:lnTo>
                      <a:lnTo>
                        <a:pt x="1626" y="1921"/>
                      </a:lnTo>
                      <a:lnTo>
                        <a:pt x="1349" y="1867"/>
                      </a:lnTo>
                      <a:lnTo>
                        <a:pt x="1191" y="1765"/>
                      </a:lnTo>
                      <a:lnTo>
                        <a:pt x="953" y="1701"/>
                      </a:lnTo>
                      <a:lnTo>
                        <a:pt x="1068" y="1826"/>
                      </a:lnTo>
                      <a:lnTo>
                        <a:pt x="1712" y="2049"/>
                      </a:lnTo>
                      <a:lnTo>
                        <a:pt x="1068" y="1867"/>
                      </a:lnTo>
                      <a:lnTo>
                        <a:pt x="884" y="1736"/>
                      </a:lnTo>
                      <a:lnTo>
                        <a:pt x="895" y="1809"/>
                      </a:lnTo>
                      <a:lnTo>
                        <a:pt x="1068" y="1973"/>
                      </a:lnTo>
                      <a:lnTo>
                        <a:pt x="1321" y="2024"/>
                      </a:lnTo>
                      <a:lnTo>
                        <a:pt x="1460" y="2121"/>
                      </a:lnTo>
                      <a:lnTo>
                        <a:pt x="1259" y="2097"/>
                      </a:lnTo>
                      <a:lnTo>
                        <a:pt x="1008" y="1973"/>
                      </a:lnTo>
                      <a:lnTo>
                        <a:pt x="934" y="1982"/>
                      </a:lnTo>
                      <a:lnTo>
                        <a:pt x="971" y="2112"/>
                      </a:lnTo>
                      <a:lnTo>
                        <a:pt x="1033" y="2156"/>
                      </a:lnTo>
                      <a:lnTo>
                        <a:pt x="1349" y="2171"/>
                      </a:lnTo>
                      <a:lnTo>
                        <a:pt x="1024" y="2330"/>
                      </a:lnTo>
                      <a:lnTo>
                        <a:pt x="980" y="2314"/>
                      </a:lnTo>
                      <a:lnTo>
                        <a:pt x="909" y="2084"/>
                      </a:lnTo>
                      <a:lnTo>
                        <a:pt x="831" y="2339"/>
                      </a:lnTo>
                      <a:lnTo>
                        <a:pt x="849" y="2448"/>
                      </a:lnTo>
                      <a:lnTo>
                        <a:pt x="760" y="2354"/>
                      </a:lnTo>
                      <a:lnTo>
                        <a:pt x="895" y="2013"/>
                      </a:lnTo>
                      <a:lnTo>
                        <a:pt x="884" y="1921"/>
                      </a:lnTo>
                      <a:lnTo>
                        <a:pt x="824" y="1765"/>
                      </a:lnTo>
                      <a:lnTo>
                        <a:pt x="778" y="1563"/>
                      </a:lnTo>
                      <a:lnTo>
                        <a:pt x="674" y="1304"/>
                      </a:lnTo>
                      <a:lnTo>
                        <a:pt x="554" y="1523"/>
                      </a:lnTo>
                      <a:lnTo>
                        <a:pt x="554" y="1747"/>
                      </a:lnTo>
                      <a:lnTo>
                        <a:pt x="316" y="2033"/>
                      </a:lnTo>
                      <a:lnTo>
                        <a:pt x="0" y="2148"/>
                      </a:lnTo>
                      <a:lnTo>
                        <a:pt x="37" y="1973"/>
                      </a:lnTo>
                      <a:lnTo>
                        <a:pt x="217" y="1791"/>
                      </a:lnTo>
                      <a:lnTo>
                        <a:pt x="437" y="1685"/>
                      </a:lnTo>
                      <a:lnTo>
                        <a:pt x="534" y="1436"/>
                      </a:lnTo>
                      <a:lnTo>
                        <a:pt x="522" y="1314"/>
                      </a:lnTo>
                      <a:lnTo>
                        <a:pt x="611" y="1026"/>
                      </a:lnTo>
                      <a:lnTo>
                        <a:pt x="510" y="1000"/>
                      </a:lnTo>
                      <a:lnTo>
                        <a:pt x="420" y="938"/>
                      </a:lnTo>
                      <a:lnTo>
                        <a:pt x="522" y="650"/>
                      </a:lnTo>
                      <a:lnTo>
                        <a:pt x="475" y="627"/>
                      </a:lnTo>
                      <a:lnTo>
                        <a:pt x="448" y="541"/>
                      </a:lnTo>
                      <a:lnTo>
                        <a:pt x="448" y="433"/>
                      </a:lnTo>
                      <a:lnTo>
                        <a:pt x="420" y="53"/>
                      </a:lnTo>
                      <a:lnTo>
                        <a:pt x="4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4739040" y="5202720"/>
                  <a:ext cx="56880" cy="184680"/>
                </a:xfrm>
                <a:custGeom>
                  <a:avLst/>
                  <a:gdLst/>
                  <a:ahLst/>
                  <a:rect l="l" t="t" r="r" b="b"/>
                  <a:pathLst>
                    <a:path w="691" h="1748">
                      <a:moveTo>
                        <a:pt x="691" y="312"/>
                      </a:moveTo>
                      <a:lnTo>
                        <a:pt x="586" y="572"/>
                      </a:lnTo>
                      <a:lnTo>
                        <a:pt x="516" y="729"/>
                      </a:lnTo>
                      <a:lnTo>
                        <a:pt x="392" y="982"/>
                      </a:lnTo>
                      <a:lnTo>
                        <a:pt x="334" y="1017"/>
                      </a:lnTo>
                      <a:lnTo>
                        <a:pt x="351" y="1243"/>
                      </a:lnTo>
                      <a:lnTo>
                        <a:pt x="412" y="1527"/>
                      </a:lnTo>
                      <a:lnTo>
                        <a:pt x="472" y="1748"/>
                      </a:lnTo>
                      <a:lnTo>
                        <a:pt x="388" y="1485"/>
                      </a:lnTo>
                      <a:lnTo>
                        <a:pt x="334" y="1233"/>
                      </a:lnTo>
                      <a:lnTo>
                        <a:pt x="243" y="1171"/>
                      </a:lnTo>
                      <a:lnTo>
                        <a:pt x="254" y="1330"/>
                      </a:lnTo>
                      <a:lnTo>
                        <a:pt x="351" y="1591"/>
                      </a:lnTo>
                      <a:lnTo>
                        <a:pt x="239" y="1345"/>
                      </a:lnTo>
                      <a:lnTo>
                        <a:pt x="193" y="1153"/>
                      </a:lnTo>
                      <a:lnTo>
                        <a:pt x="87" y="1153"/>
                      </a:lnTo>
                      <a:lnTo>
                        <a:pt x="0" y="1227"/>
                      </a:lnTo>
                      <a:lnTo>
                        <a:pt x="87" y="1139"/>
                      </a:lnTo>
                      <a:lnTo>
                        <a:pt x="157" y="1112"/>
                      </a:lnTo>
                      <a:lnTo>
                        <a:pt x="219" y="895"/>
                      </a:lnTo>
                      <a:lnTo>
                        <a:pt x="219" y="782"/>
                      </a:lnTo>
                      <a:lnTo>
                        <a:pt x="175" y="721"/>
                      </a:lnTo>
                      <a:lnTo>
                        <a:pt x="175" y="644"/>
                      </a:lnTo>
                      <a:lnTo>
                        <a:pt x="279" y="235"/>
                      </a:lnTo>
                      <a:lnTo>
                        <a:pt x="388" y="0"/>
                      </a:lnTo>
                      <a:lnTo>
                        <a:pt x="307" y="341"/>
                      </a:lnTo>
                      <a:lnTo>
                        <a:pt x="219" y="685"/>
                      </a:lnTo>
                      <a:lnTo>
                        <a:pt x="307" y="798"/>
                      </a:lnTo>
                      <a:lnTo>
                        <a:pt x="366" y="914"/>
                      </a:lnTo>
                      <a:lnTo>
                        <a:pt x="606" y="462"/>
                      </a:lnTo>
                      <a:lnTo>
                        <a:pt x="691" y="3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4781160" y="5295960"/>
                  <a:ext cx="6480" cy="45720"/>
                </a:xfrm>
                <a:custGeom>
                  <a:avLst/>
                  <a:gdLst/>
                  <a:ahLst/>
                  <a:rect l="l" t="t" r="r" b="b"/>
                  <a:pathLst>
                    <a:path w="83" h="431">
                      <a:moveTo>
                        <a:pt x="0" y="0"/>
                      </a:moveTo>
                      <a:lnTo>
                        <a:pt x="51" y="106"/>
                      </a:lnTo>
                      <a:lnTo>
                        <a:pt x="51" y="297"/>
                      </a:lnTo>
                      <a:lnTo>
                        <a:pt x="83" y="385"/>
                      </a:lnTo>
                      <a:lnTo>
                        <a:pt x="42" y="431"/>
                      </a:lnTo>
                      <a:lnTo>
                        <a:pt x="24" y="2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4739040" y="5335560"/>
                  <a:ext cx="34920" cy="72000"/>
                </a:xfrm>
                <a:custGeom>
                  <a:avLst/>
                  <a:gdLst/>
                  <a:ahLst/>
                  <a:rect l="l" t="t" r="r" b="b"/>
                  <a:pathLst>
                    <a:path w="427" h="680">
                      <a:moveTo>
                        <a:pt x="0" y="0"/>
                      </a:moveTo>
                      <a:lnTo>
                        <a:pt x="175" y="532"/>
                      </a:lnTo>
                      <a:lnTo>
                        <a:pt x="307" y="543"/>
                      </a:lnTo>
                      <a:lnTo>
                        <a:pt x="427" y="629"/>
                      </a:lnTo>
                      <a:lnTo>
                        <a:pt x="366" y="680"/>
                      </a:lnTo>
                      <a:lnTo>
                        <a:pt x="175" y="611"/>
                      </a:lnTo>
                      <a:lnTo>
                        <a:pt x="81" y="3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4744800" y="5322960"/>
                  <a:ext cx="10440" cy="34560"/>
                </a:xfrm>
                <a:custGeom>
                  <a:avLst/>
                  <a:gdLst/>
                  <a:ahLst/>
                  <a:rect l="l" t="t" r="r" b="b"/>
                  <a:pathLst>
                    <a:path w="131" h="329">
                      <a:moveTo>
                        <a:pt x="131" y="14"/>
                      </a:moveTo>
                      <a:lnTo>
                        <a:pt x="43" y="329"/>
                      </a:lnTo>
                      <a:lnTo>
                        <a:pt x="0" y="226"/>
                      </a:lnTo>
                      <a:lnTo>
                        <a:pt x="112" y="0"/>
                      </a:lnTo>
                      <a:lnTo>
                        <a:pt x="1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4761000" y="5231520"/>
                  <a:ext cx="8280" cy="32760"/>
                </a:xfrm>
                <a:custGeom>
                  <a:avLst/>
                  <a:gdLst/>
                  <a:ahLst/>
                  <a:rect l="l" t="t" r="r" b="b"/>
                  <a:pathLst>
                    <a:path w="103" h="319">
                      <a:moveTo>
                        <a:pt x="71" y="0"/>
                      </a:moveTo>
                      <a:lnTo>
                        <a:pt x="71" y="171"/>
                      </a:lnTo>
                      <a:lnTo>
                        <a:pt x="103" y="319"/>
                      </a:lnTo>
                      <a:lnTo>
                        <a:pt x="0" y="210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4772160" y="5154120"/>
                  <a:ext cx="44280" cy="75240"/>
                </a:xfrm>
                <a:custGeom>
                  <a:avLst/>
                  <a:gdLst/>
                  <a:ahLst/>
                  <a:rect l="l" t="t" r="r" b="b"/>
                  <a:pathLst>
                    <a:path w="533" h="711">
                      <a:moveTo>
                        <a:pt x="0" y="393"/>
                      </a:moveTo>
                      <a:lnTo>
                        <a:pt x="60" y="393"/>
                      </a:lnTo>
                      <a:lnTo>
                        <a:pt x="174" y="520"/>
                      </a:lnTo>
                      <a:lnTo>
                        <a:pt x="254" y="711"/>
                      </a:lnTo>
                      <a:lnTo>
                        <a:pt x="189" y="503"/>
                      </a:lnTo>
                      <a:lnTo>
                        <a:pt x="93" y="329"/>
                      </a:lnTo>
                      <a:lnTo>
                        <a:pt x="51" y="305"/>
                      </a:lnTo>
                      <a:lnTo>
                        <a:pt x="227" y="164"/>
                      </a:lnTo>
                      <a:lnTo>
                        <a:pt x="427" y="141"/>
                      </a:lnTo>
                      <a:lnTo>
                        <a:pt x="533" y="0"/>
                      </a:lnTo>
                      <a:lnTo>
                        <a:pt x="306" y="35"/>
                      </a:lnTo>
                      <a:lnTo>
                        <a:pt x="189" y="153"/>
                      </a:lnTo>
                      <a:lnTo>
                        <a:pt x="21" y="305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4835160" y="5124600"/>
                  <a:ext cx="9720" cy="16560"/>
                </a:xfrm>
                <a:custGeom>
                  <a:avLst/>
                  <a:gdLst/>
                  <a:ahLst/>
                  <a:rect l="l" t="t" r="r" b="b"/>
                  <a:pathLst>
                    <a:path w="118" h="158">
                      <a:moveTo>
                        <a:pt x="63" y="0"/>
                      </a:moveTo>
                      <a:lnTo>
                        <a:pt x="0" y="158"/>
                      </a:lnTo>
                      <a:lnTo>
                        <a:pt x="26" y="158"/>
                      </a:lnTo>
                      <a:lnTo>
                        <a:pt x="118" y="38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4847760" y="5171040"/>
                  <a:ext cx="81360" cy="64440"/>
                </a:xfrm>
                <a:custGeom>
                  <a:avLst/>
                  <a:gdLst/>
                  <a:ahLst/>
                  <a:rect l="l" t="t" r="r" b="b"/>
                  <a:pathLst>
                    <a:path w="985" h="611">
                      <a:moveTo>
                        <a:pt x="55" y="194"/>
                      </a:moveTo>
                      <a:lnTo>
                        <a:pt x="107" y="264"/>
                      </a:lnTo>
                      <a:lnTo>
                        <a:pt x="182" y="334"/>
                      </a:lnTo>
                      <a:lnTo>
                        <a:pt x="199" y="354"/>
                      </a:lnTo>
                      <a:lnTo>
                        <a:pt x="257" y="334"/>
                      </a:lnTo>
                      <a:lnTo>
                        <a:pt x="254" y="387"/>
                      </a:lnTo>
                      <a:lnTo>
                        <a:pt x="301" y="424"/>
                      </a:lnTo>
                      <a:lnTo>
                        <a:pt x="413" y="470"/>
                      </a:lnTo>
                      <a:lnTo>
                        <a:pt x="479" y="502"/>
                      </a:lnTo>
                      <a:lnTo>
                        <a:pt x="538" y="543"/>
                      </a:lnTo>
                      <a:lnTo>
                        <a:pt x="580" y="585"/>
                      </a:lnTo>
                      <a:lnTo>
                        <a:pt x="901" y="20"/>
                      </a:lnTo>
                      <a:lnTo>
                        <a:pt x="938" y="0"/>
                      </a:lnTo>
                      <a:lnTo>
                        <a:pt x="976" y="0"/>
                      </a:lnTo>
                      <a:lnTo>
                        <a:pt x="985" y="20"/>
                      </a:lnTo>
                      <a:lnTo>
                        <a:pt x="967" y="29"/>
                      </a:lnTo>
                      <a:lnTo>
                        <a:pt x="936" y="29"/>
                      </a:lnTo>
                      <a:lnTo>
                        <a:pt x="899" y="48"/>
                      </a:lnTo>
                      <a:lnTo>
                        <a:pt x="865" y="90"/>
                      </a:lnTo>
                      <a:lnTo>
                        <a:pt x="580" y="611"/>
                      </a:lnTo>
                      <a:lnTo>
                        <a:pt x="459" y="565"/>
                      </a:lnTo>
                      <a:lnTo>
                        <a:pt x="538" y="578"/>
                      </a:lnTo>
                      <a:lnTo>
                        <a:pt x="485" y="532"/>
                      </a:lnTo>
                      <a:lnTo>
                        <a:pt x="404" y="486"/>
                      </a:lnTo>
                      <a:lnTo>
                        <a:pt x="325" y="458"/>
                      </a:lnTo>
                      <a:lnTo>
                        <a:pt x="296" y="453"/>
                      </a:lnTo>
                      <a:lnTo>
                        <a:pt x="362" y="519"/>
                      </a:lnTo>
                      <a:lnTo>
                        <a:pt x="301" y="475"/>
                      </a:lnTo>
                      <a:lnTo>
                        <a:pt x="257" y="440"/>
                      </a:lnTo>
                      <a:lnTo>
                        <a:pt x="204" y="383"/>
                      </a:lnTo>
                      <a:lnTo>
                        <a:pt x="136" y="315"/>
                      </a:lnTo>
                      <a:lnTo>
                        <a:pt x="74" y="269"/>
                      </a:lnTo>
                      <a:lnTo>
                        <a:pt x="24" y="224"/>
                      </a:lnTo>
                      <a:lnTo>
                        <a:pt x="0" y="185"/>
                      </a:lnTo>
                      <a:lnTo>
                        <a:pt x="55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4847760" y="5109480"/>
                  <a:ext cx="23760" cy="37080"/>
                </a:xfrm>
                <a:custGeom>
                  <a:avLst/>
                  <a:gdLst/>
                  <a:ahLst/>
                  <a:rect l="l" t="t" r="r" b="b"/>
                  <a:pathLst>
                    <a:path w="281" h="354">
                      <a:moveTo>
                        <a:pt x="0" y="338"/>
                      </a:moveTo>
                      <a:lnTo>
                        <a:pt x="199" y="42"/>
                      </a:lnTo>
                      <a:lnTo>
                        <a:pt x="228" y="17"/>
                      </a:lnTo>
                      <a:lnTo>
                        <a:pt x="254" y="0"/>
                      </a:lnTo>
                      <a:lnTo>
                        <a:pt x="281" y="6"/>
                      </a:lnTo>
                      <a:lnTo>
                        <a:pt x="241" y="22"/>
                      </a:lnTo>
                      <a:lnTo>
                        <a:pt x="206" y="54"/>
                      </a:lnTo>
                      <a:lnTo>
                        <a:pt x="4" y="354"/>
                      </a:lnTo>
                      <a:lnTo>
                        <a:pt x="0" y="3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4850280" y="5147280"/>
                  <a:ext cx="57600" cy="25200"/>
                </a:xfrm>
                <a:custGeom>
                  <a:avLst/>
                  <a:gdLst/>
                  <a:ahLst/>
                  <a:rect l="l" t="t" r="r" b="b"/>
                  <a:pathLst>
                    <a:path w="696" h="242">
                      <a:moveTo>
                        <a:pt x="0" y="242"/>
                      </a:moveTo>
                      <a:lnTo>
                        <a:pt x="39" y="215"/>
                      </a:lnTo>
                      <a:lnTo>
                        <a:pt x="81" y="180"/>
                      </a:lnTo>
                      <a:lnTo>
                        <a:pt x="131" y="111"/>
                      </a:lnTo>
                      <a:lnTo>
                        <a:pt x="156" y="69"/>
                      </a:lnTo>
                      <a:lnTo>
                        <a:pt x="180" y="49"/>
                      </a:lnTo>
                      <a:lnTo>
                        <a:pt x="208" y="31"/>
                      </a:lnTo>
                      <a:lnTo>
                        <a:pt x="248" y="21"/>
                      </a:lnTo>
                      <a:lnTo>
                        <a:pt x="369" y="0"/>
                      </a:lnTo>
                      <a:lnTo>
                        <a:pt x="439" y="3"/>
                      </a:lnTo>
                      <a:lnTo>
                        <a:pt x="527" y="40"/>
                      </a:lnTo>
                      <a:lnTo>
                        <a:pt x="592" y="88"/>
                      </a:lnTo>
                      <a:lnTo>
                        <a:pt x="696" y="137"/>
                      </a:lnTo>
                      <a:lnTo>
                        <a:pt x="617" y="125"/>
                      </a:lnTo>
                      <a:lnTo>
                        <a:pt x="564" y="106"/>
                      </a:lnTo>
                      <a:lnTo>
                        <a:pt x="527" y="86"/>
                      </a:lnTo>
                      <a:lnTo>
                        <a:pt x="483" y="75"/>
                      </a:lnTo>
                      <a:lnTo>
                        <a:pt x="459" y="79"/>
                      </a:lnTo>
                      <a:lnTo>
                        <a:pt x="435" y="150"/>
                      </a:lnTo>
                      <a:lnTo>
                        <a:pt x="384" y="211"/>
                      </a:lnTo>
                      <a:lnTo>
                        <a:pt x="421" y="152"/>
                      </a:lnTo>
                      <a:lnTo>
                        <a:pt x="447" y="69"/>
                      </a:lnTo>
                      <a:lnTo>
                        <a:pt x="447" y="49"/>
                      </a:lnTo>
                      <a:lnTo>
                        <a:pt x="430" y="28"/>
                      </a:lnTo>
                      <a:lnTo>
                        <a:pt x="384" y="16"/>
                      </a:lnTo>
                      <a:lnTo>
                        <a:pt x="329" y="21"/>
                      </a:lnTo>
                      <a:lnTo>
                        <a:pt x="313" y="44"/>
                      </a:lnTo>
                      <a:lnTo>
                        <a:pt x="343" y="222"/>
                      </a:lnTo>
                      <a:lnTo>
                        <a:pt x="325" y="222"/>
                      </a:lnTo>
                      <a:lnTo>
                        <a:pt x="256" y="198"/>
                      </a:lnTo>
                      <a:lnTo>
                        <a:pt x="195" y="174"/>
                      </a:lnTo>
                      <a:lnTo>
                        <a:pt x="164" y="150"/>
                      </a:lnTo>
                      <a:lnTo>
                        <a:pt x="145" y="137"/>
                      </a:lnTo>
                      <a:lnTo>
                        <a:pt x="108" y="174"/>
                      </a:lnTo>
                      <a:lnTo>
                        <a:pt x="67" y="210"/>
                      </a:lnTo>
                      <a:lnTo>
                        <a:pt x="25" y="231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4905360" y="5108400"/>
                  <a:ext cx="32400" cy="46440"/>
                </a:xfrm>
                <a:custGeom>
                  <a:avLst/>
                  <a:gdLst/>
                  <a:ahLst/>
                  <a:rect l="l" t="t" r="r" b="b"/>
                  <a:pathLst>
                    <a:path w="385" h="439">
                      <a:moveTo>
                        <a:pt x="0" y="0"/>
                      </a:moveTo>
                      <a:lnTo>
                        <a:pt x="40" y="55"/>
                      </a:lnTo>
                      <a:lnTo>
                        <a:pt x="63" y="111"/>
                      </a:lnTo>
                      <a:lnTo>
                        <a:pt x="86" y="256"/>
                      </a:lnTo>
                      <a:lnTo>
                        <a:pt x="75" y="439"/>
                      </a:lnTo>
                      <a:lnTo>
                        <a:pt x="114" y="274"/>
                      </a:lnTo>
                      <a:lnTo>
                        <a:pt x="148" y="189"/>
                      </a:lnTo>
                      <a:lnTo>
                        <a:pt x="204" y="107"/>
                      </a:lnTo>
                      <a:lnTo>
                        <a:pt x="235" y="111"/>
                      </a:lnTo>
                      <a:lnTo>
                        <a:pt x="211" y="256"/>
                      </a:lnTo>
                      <a:lnTo>
                        <a:pt x="215" y="292"/>
                      </a:lnTo>
                      <a:lnTo>
                        <a:pt x="385" y="74"/>
                      </a:lnTo>
                      <a:lnTo>
                        <a:pt x="310" y="26"/>
                      </a:lnTo>
                      <a:lnTo>
                        <a:pt x="252" y="67"/>
                      </a:lnTo>
                      <a:lnTo>
                        <a:pt x="204" y="58"/>
                      </a:lnTo>
                      <a:lnTo>
                        <a:pt x="112" y="81"/>
                      </a:lnTo>
                      <a:lnTo>
                        <a:pt x="81" y="81"/>
                      </a:lnTo>
                      <a:lnTo>
                        <a:pt x="37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4874400" y="5167800"/>
                  <a:ext cx="68040" cy="245520"/>
                </a:xfrm>
                <a:custGeom>
                  <a:avLst/>
                  <a:gdLst/>
                  <a:ahLst/>
                  <a:rect l="l" t="t" r="r" b="b"/>
                  <a:pathLst>
                    <a:path w="819" h="2318">
                      <a:moveTo>
                        <a:pt x="102" y="23"/>
                      </a:moveTo>
                      <a:lnTo>
                        <a:pt x="196" y="140"/>
                      </a:lnTo>
                      <a:lnTo>
                        <a:pt x="275" y="327"/>
                      </a:lnTo>
                      <a:lnTo>
                        <a:pt x="424" y="714"/>
                      </a:lnTo>
                      <a:lnTo>
                        <a:pt x="579" y="1265"/>
                      </a:lnTo>
                      <a:lnTo>
                        <a:pt x="712" y="1680"/>
                      </a:lnTo>
                      <a:lnTo>
                        <a:pt x="819" y="1925"/>
                      </a:lnTo>
                      <a:lnTo>
                        <a:pt x="660" y="2318"/>
                      </a:lnTo>
                      <a:lnTo>
                        <a:pt x="526" y="2190"/>
                      </a:lnTo>
                      <a:lnTo>
                        <a:pt x="252" y="1992"/>
                      </a:lnTo>
                      <a:lnTo>
                        <a:pt x="35" y="546"/>
                      </a:lnTo>
                      <a:lnTo>
                        <a:pt x="0" y="274"/>
                      </a:lnTo>
                      <a:lnTo>
                        <a:pt x="17" y="103"/>
                      </a:lnTo>
                      <a:lnTo>
                        <a:pt x="35" y="41"/>
                      </a:lnTo>
                      <a:lnTo>
                        <a:pt x="35" y="0"/>
                      </a:lnTo>
                      <a:lnTo>
                        <a:pt x="60" y="41"/>
                      </a:lnTo>
                      <a:lnTo>
                        <a:pt x="53" y="134"/>
                      </a:lnTo>
                      <a:lnTo>
                        <a:pt x="60" y="292"/>
                      </a:lnTo>
                      <a:lnTo>
                        <a:pt x="77" y="465"/>
                      </a:lnTo>
                      <a:lnTo>
                        <a:pt x="116" y="707"/>
                      </a:lnTo>
                      <a:lnTo>
                        <a:pt x="284" y="1487"/>
                      </a:lnTo>
                      <a:lnTo>
                        <a:pt x="343" y="1953"/>
                      </a:lnTo>
                      <a:lnTo>
                        <a:pt x="360" y="2010"/>
                      </a:lnTo>
                      <a:lnTo>
                        <a:pt x="512" y="2142"/>
                      </a:lnTo>
                      <a:lnTo>
                        <a:pt x="642" y="2252"/>
                      </a:lnTo>
                      <a:lnTo>
                        <a:pt x="734" y="2019"/>
                      </a:lnTo>
                      <a:lnTo>
                        <a:pt x="778" y="1925"/>
                      </a:lnTo>
                      <a:lnTo>
                        <a:pt x="651" y="1604"/>
                      </a:lnTo>
                      <a:lnTo>
                        <a:pt x="561" y="1296"/>
                      </a:lnTo>
                      <a:lnTo>
                        <a:pt x="433" y="863"/>
                      </a:lnTo>
                      <a:lnTo>
                        <a:pt x="351" y="555"/>
                      </a:lnTo>
                      <a:lnTo>
                        <a:pt x="235" y="239"/>
                      </a:lnTo>
                      <a:lnTo>
                        <a:pt x="162" y="116"/>
                      </a:lnTo>
                      <a:lnTo>
                        <a:pt x="10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4854960" y="5244840"/>
                  <a:ext cx="187560" cy="197280"/>
                </a:xfrm>
                <a:custGeom>
                  <a:avLst/>
                  <a:gdLst/>
                  <a:ahLst/>
                  <a:rect l="l" t="t" r="r" b="b"/>
                  <a:pathLst>
                    <a:path w="2266" h="1862">
                      <a:moveTo>
                        <a:pt x="947" y="954"/>
                      </a:moveTo>
                      <a:lnTo>
                        <a:pt x="1211" y="1046"/>
                      </a:lnTo>
                      <a:lnTo>
                        <a:pt x="1455" y="1180"/>
                      </a:lnTo>
                      <a:lnTo>
                        <a:pt x="1630" y="1244"/>
                      </a:lnTo>
                      <a:lnTo>
                        <a:pt x="1747" y="1362"/>
                      </a:lnTo>
                      <a:lnTo>
                        <a:pt x="1925" y="1436"/>
                      </a:lnTo>
                      <a:lnTo>
                        <a:pt x="1914" y="1348"/>
                      </a:lnTo>
                      <a:lnTo>
                        <a:pt x="1764" y="1189"/>
                      </a:lnTo>
                      <a:lnTo>
                        <a:pt x="1582" y="1055"/>
                      </a:lnTo>
                      <a:lnTo>
                        <a:pt x="1854" y="1194"/>
                      </a:lnTo>
                      <a:lnTo>
                        <a:pt x="1905" y="908"/>
                      </a:lnTo>
                      <a:lnTo>
                        <a:pt x="1815" y="921"/>
                      </a:lnTo>
                      <a:lnTo>
                        <a:pt x="1747" y="908"/>
                      </a:lnTo>
                      <a:lnTo>
                        <a:pt x="1663" y="855"/>
                      </a:lnTo>
                      <a:lnTo>
                        <a:pt x="1738" y="839"/>
                      </a:lnTo>
                      <a:lnTo>
                        <a:pt x="1815" y="765"/>
                      </a:lnTo>
                      <a:lnTo>
                        <a:pt x="1863" y="682"/>
                      </a:lnTo>
                      <a:lnTo>
                        <a:pt x="1905" y="506"/>
                      </a:lnTo>
                      <a:lnTo>
                        <a:pt x="1914" y="273"/>
                      </a:lnTo>
                      <a:lnTo>
                        <a:pt x="1872" y="0"/>
                      </a:lnTo>
                      <a:lnTo>
                        <a:pt x="2048" y="168"/>
                      </a:lnTo>
                      <a:lnTo>
                        <a:pt x="2131" y="308"/>
                      </a:lnTo>
                      <a:lnTo>
                        <a:pt x="2110" y="325"/>
                      </a:lnTo>
                      <a:lnTo>
                        <a:pt x="1988" y="242"/>
                      </a:lnTo>
                      <a:lnTo>
                        <a:pt x="2013" y="541"/>
                      </a:lnTo>
                      <a:lnTo>
                        <a:pt x="2165" y="839"/>
                      </a:lnTo>
                      <a:lnTo>
                        <a:pt x="2206" y="1014"/>
                      </a:lnTo>
                      <a:lnTo>
                        <a:pt x="2149" y="1079"/>
                      </a:lnTo>
                      <a:lnTo>
                        <a:pt x="2156" y="1180"/>
                      </a:lnTo>
                      <a:lnTo>
                        <a:pt x="2266" y="1348"/>
                      </a:lnTo>
                      <a:lnTo>
                        <a:pt x="2266" y="1398"/>
                      </a:lnTo>
                      <a:lnTo>
                        <a:pt x="2215" y="1459"/>
                      </a:lnTo>
                      <a:lnTo>
                        <a:pt x="2013" y="1593"/>
                      </a:lnTo>
                      <a:lnTo>
                        <a:pt x="1896" y="1680"/>
                      </a:lnTo>
                      <a:lnTo>
                        <a:pt x="1738" y="1862"/>
                      </a:lnTo>
                      <a:lnTo>
                        <a:pt x="1496" y="1862"/>
                      </a:lnTo>
                      <a:lnTo>
                        <a:pt x="1444" y="1833"/>
                      </a:lnTo>
                      <a:lnTo>
                        <a:pt x="1356" y="1824"/>
                      </a:lnTo>
                      <a:lnTo>
                        <a:pt x="1305" y="1862"/>
                      </a:lnTo>
                      <a:lnTo>
                        <a:pt x="0" y="1862"/>
                      </a:lnTo>
                      <a:lnTo>
                        <a:pt x="169" y="1752"/>
                      </a:lnTo>
                      <a:lnTo>
                        <a:pt x="344" y="1662"/>
                      </a:lnTo>
                      <a:lnTo>
                        <a:pt x="542" y="1578"/>
                      </a:lnTo>
                      <a:lnTo>
                        <a:pt x="747" y="1512"/>
                      </a:lnTo>
                      <a:lnTo>
                        <a:pt x="830" y="1496"/>
                      </a:lnTo>
                      <a:lnTo>
                        <a:pt x="865" y="1545"/>
                      </a:lnTo>
                      <a:lnTo>
                        <a:pt x="837" y="1668"/>
                      </a:lnTo>
                      <a:lnTo>
                        <a:pt x="877" y="1721"/>
                      </a:lnTo>
                      <a:lnTo>
                        <a:pt x="1178" y="1680"/>
                      </a:lnTo>
                      <a:lnTo>
                        <a:pt x="1187" y="1653"/>
                      </a:lnTo>
                      <a:lnTo>
                        <a:pt x="1174" y="1629"/>
                      </a:lnTo>
                      <a:lnTo>
                        <a:pt x="947" y="1653"/>
                      </a:lnTo>
                      <a:lnTo>
                        <a:pt x="911" y="1635"/>
                      </a:lnTo>
                      <a:lnTo>
                        <a:pt x="906" y="1545"/>
                      </a:lnTo>
                      <a:lnTo>
                        <a:pt x="964" y="1503"/>
                      </a:lnTo>
                      <a:lnTo>
                        <a:pt x="994" y="1539"/>
                      </a:lnTo>
                      <a:lnTo>
                        <a:pt x="1037" y="1593"/>
                      </a:lnTo>
                      <a:lnTo>
                        <a:pt x="1103" y="1593"/>
                      </a:lnTo>
                      <a:lnTo>
                        <a:pt x="1139" y="1521"/>
                      </a:lnTo>
                      <a:lnTo>
                        <a:pt x="1019" y="1479"/>
                      </a:lnTo>
                      <a:lnTo>
                        <a:pt x="969" y="1470"/>
                      </a:lnTo>
                      <a:lnTo>
                        <a:pt x="1156" y="1459"/>
                      </a:lnTo>
                      <a:lnTo>
                        <a:pt x="1428" y="1452"/>
                      </a:lnTo>
                      <a:lnTo>
                        <a:pt x="1571" y="1459"/>
                      </a:lnTo>
                      <a:lnTo>
                        <a:pt x="1413" y="1398"/>
                      </a:lnTo>
                      <a:lnTo>
                        <a:pt x="1331" y="1319"/>
                      </a:lnTo>
                      <a:lnTo>
                        <a:pt x="1437" y="1353"/>
                      </a:lnTo>
                      <a:lnTo>
                        <a:pt x="1707" y="1459"/>
                      </a:lnTo>
                      <a:lnTo>
                        <a:pt x="1848" y="1479"/>
                      </a:lnTo>
                      <a:lnTo>
                        <a:pt x="1531" y="1256"/>
                      </a:lnTo>
                      <a:lnTo>
                        <a:pt x="1266" y="1106"/>
                      </a:lnTo>
                      <a:lnTo>
                        <a:pt x="1095" y="1064"/>
                      </a:lnTo>
                      <a:lnTo>
                        <a:pt x="1037" y="1002"/>
                      </a:lnTo>
                      <a:lnTo>
                        <a:pt x="947" y="9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4945680" y="5109480"/>
                  <a:ext cx="36360" cy="20880"/>
                </a:xfrm>
                <a:custGeom>
                  <a:avLst/>
                  <a:gdLst/>
                  <a:ahLst/>
                  <a:rect l="l" t="t" r="r" b="b"/>
                  <a:pathLst>
                    <a:path w="443" h="201">
                      <a:moveTo>
                        <a:pt x="0" y="69"/>
                      </a:moveTo>
                      <a:lnTo>
                        <a:pt x="0" y="201"/>
                      </a:lnTo>
                      <a:lnTo>
                        <a:pt x="236" y="46"/>
                      </a:lnTo>
                      <a:lnTo>
                        <a:pt x="261" y="69"/>
                      </a:lnTo>
                      <a:lnTo>
                        <a:pt x="351" y="78"/>
                      </a:lnTo>
                      <a:lnTo>
                        <a:pt x="443" y="19"/>
                      </a:lnTo>
                      <a:lnTo>
                        <a:pt x="342" y="51"/>
                      </a:lnTo>
                      <a:lnTo>
                        <a:pt x="287" y="46"/>
                      </a:lnTo>
                      <a:lnTo>
                        <a:pt x="236" y="0"/>
                      </a:lnTo>
                      <a:lnTo>
                        <a:pt x="134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4993560" y="5117040"/>
                  <a:ext cx="57240" cy="114480"/>
                </a:xfrm>
                <a:custGeom>
                  <a:avLst/>
                  <a:gdLst/>
                  <a:ahLst/>
                  <a:rect l="l" t="t" r="r" b="b"/>
                  <a:pathLst>
                    <a:path w="701" h="1079">
                      <a:moveTo>
                        <a:pt x="0" y="0"/>
                      </a:moveTo>
                      <a:lnTo>
                        <a:pt x="281" y="374"/>
                      </a:lnTo>
                      <a:lnTo>
                        <a:pt x="424" y="438"/>
                      </a:lnTo>
                      <a:lnTo>
                        <a:pt x="438" y="688"/>
                      </a:lnTo>
                      <a:lnTo>
                        <a:pt x="519" y="823"/>
                      </a:lnTo>
                      <a:lnTo>
                        <a:pt x="519" y="1079"/>
                      </a:lnTo>
                      <a:lnTo>
                        <a:pt x="551" y="1035"/>
                      </a:lnTo>
                      <a:lnTo>
                        <a:pt x="551" y="680"/>
                      </a:lnTo>
                      <a:lnTo>
                        <a:pt x="659" y="747"/>
                      </a:lnTo>
                      <a:lnTo>
                        <a:pt x="684" y="862"/>
                      </a:lnTo>
                      <a:lnTo>
                        <a:pt x="701" y="754"/>
                      </a:lnTo>
                      <a:lnTo>
                        <a:pt x="627" y="583"/>
                      </a:lnTo>
                      <a:lnTo>
                        <a:pt x="361" y="316"/>
                      </a:lnTo>
                      <a:lnTo>
                        <a:pt x="253" y="2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4963680" y="5164200"/>
                  <a:ext cx="30960" cy="55800"/>
                </a:xfrm>
                <a:custGeom>
                  <a:avLst/>
                  <a:gdLst/>
                  <a:ahLst/>
                  <a:rect l="l" t="t" r="r" b="b"/>
                  <a:pathLst>
                    <a:path w="378" h="533">
                      <a:moveTo>
                        <a:pt x="0" y="257"/>
                      </a:moveTo>
                      <a:lnTo>
                        <a:pt x="70" y="107"/>
                      </a:lnTo>
                      <a:lnTo>
                        <a:pt x="143" y="98"/>
                      </a:lnTo>
                      <a:lnTo>
                        <a:pt x="235" y="118"/>
                      </a:lnTo>
                      <a:lnTo>
                        <a:pt x="253" y="0"/>
                      </a:lnTo>
                      <a:lnTo>
                        <a:pt x="378" y="533"/>
                      </a:lnTo>
                      <a:lnTo>
                        <a:pt x="235" y="272"/>
                      </a:lnTo>
                      <a:lnTo>
                        <a:pt x="166" y="233"/>
                      </a:lnTo>
                      <a:lnTo>
                        <a:pt x="83" y="222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5034600" y="5204160"/>
                  <a:ext cx="59400" cy="122760"/>
                </a:xfrm>
                <a:custGeom>
                  <a:avLst/>
                  <a:gdLst/>
                  <a:ahLst/>
                  <a:rect l="l" t="t" r="r" b="b"/>
                  <a:pathLst>
                    <a:path w="717" h="1161">
                      <a:moveTo>
                        <a:pt x="261" y="0"/>
                      </a:moveTo>
                      <a:lnTo>
                        <a:pt x="252" y="99"/>
                      </a:lnTo>
                      <a:lnTo>
                        <a:pt x="177" y="240"/>
                      </a:lnTo>
                      <a:lnTo>
                        <a:pt x="76" y="390"/>
                      </a:lnTo>
                      <a:lnTo>
                        <a:pt x="34" y="509"/>
                      </a:lnTo>
                      <a:lnTo>
                        <a:pt x="34" y="572"/>
                      </a:lnTo>
                      <a:lnTo>
                        <a:pt x="67" y="656"/>
                      </a:lnTo>
                      <a:lnTo>
                        <a:pt x="94" y="724"/>
                      </a:lnTo>
                      <a:lnTo>
                        <a:pt x="0" y="724"/>
                      </a:lnTo>
                      <a:lnTo>
                        <a:pt x="127" y="763"/>
                      </a:lnTo>
                      <a:lnTo>
                        <a:pt x="177" y="889"/>
                      </a:lnTo>
                      <a:lnTo>
                        <a:pt x="325" y="889"/>
                      </a:lnTo>
                      <a:lnTo>
                        <a:pt x="496" y="1161"/>
                      </a:lnTo>
                      <a:lnTo>
                        <a:pt x="535" y="1091"/>
                      </a:lnTo>
                      <a:lnTo>
                        <a:pt x="535" y="970"/>
                      </a:lnTo>
                      <a:lnTo>
                        <a:pt x="643" y="774"/>
                      </a:lnTo>
                      <a:lnTo>
                        <a:pt x="717" y="473"/>
                      </a:lnTo>
                      <a:lnTo>
                        <a:pt x="616" y="756"/>
                      </a:lnTo>
                      <a:lnTo>
                        <a:pt x="560" y="733"/>
                      </a:lnTo>
                      <a:lnTo>
                        <a:pt x="595" y="673"/>
                      </a:lnTo>
                      <a:lnTo>
                        <a:pt x="217" y="839"/>
                      </a:lnTo>
                      <a:lnTo>
                        <a:pt x="210" y="763"/>
                      </a:lnTo>
                      <a:lnTo>
                        <a:pt x="127" y="708"/>
                      </a:lnTo>
                      <a:lnTo>
                        <a:pt x="337" y="524"/>
                      </a:lnTo>
                      <a:lnTo>
                        <a:pt x="184" y="608"/>
                      </a:lnTo>
                      <a:lnTo>
                        <a:pt x="153" y="524"/>
                      </a:lnTo>
                      <a:lnTo>
                        <a:pt x="159" y="422"/>
                      </a:lnTo>
                      <a:lnTo>
                        <a:pt x="201" y="341"/>
                      </a:lnTo>
                      <a:lnTo>
                        <a:pt x="344" y="168"/>
                      </a:lnTo>
                      <a:lnTo>
                        <a:pt x="360" y="99"/>
                      </a:lnTo>
                      <a:lnTo>
                        <a:pt x="344" y="58"/>
                      </a:lnTo>
                      <a:lnTo>
                        <a:pt x="293" y="58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5046120" y="5332320"/>
                  <a:ext cx="64080" cy="53280"/>
                </a:xfrm>
                <a:custGeom>
                  <a:avLst/>
                  <a:gdLst/>
                  <a:ahLst/>
                  <a:rect l="l" t="t" r="r" b="b"/>
                  <a:pathLst>
                    <a:path w="775" h="510">
                      <a:moveTo>
                        <a:pt x="0" y="510"/>
                      </a:moveTo>
                      <a:lnTo>
                        <a:pt x="92" y="353"/>
                      </a:lnTo>
                      <a:lnTo>
                        <a:pt x="472" y="182"/>
                      </a:lnTo>
                      <a:lnTo>
                        <a:pt x="672" y="182"/>
                      </a:lnTo>
                      <a:lnTo>
                        <a:pt x="775" y="118"/>
                      </a:lnTo>
                      <a:lnTo>
                        <a:pt x="540" y="118"/>
                      </a:lnTo>
                      <a:lnTo>
                        <a:pt x="393" y="171"/>
                      </a:lnTo>
                      <a:lnTo>
                        <a:pt x="327" y="143"/>
                      </a:lnTo>
                      <a:lnTo>
                        <a:pt x="342" y="0"/>
                      </a:lnTo>
                      <a:lnTo>
                        <a:pt x="261" y="14"/>
                      </a:lnTo>
                      <a:lnTo>
                        <a:pt x="261" y="171"/>
                      </a:lnTo>
                      <a:lnTo>
                        <a:pt x="197" y="251"/>
                      </a:lnTo>
                      <a:lnTo>
                        <a:pt x="105" y="261"/>
                      </a:lnTo>
                      <a:lnTo>
                        <a:pt x="12" y="393"/>
                      </a:lnTo>
                      <a:lnTo>
                        <a:pt x="0" y="5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5051160" y="5483160"/>
                  <a:ext cx="98640" cy="47160"/>
                </a:xfrm>
                <a:custGeom>
                  <a:avLst/>
                  <a:gdLst/>
                  <a:ahLst/>
                  <a:rect l="l" t="t" r="r" b="b"/>
                  <a:pathLst>
                    <a:path w="1191" h="446">
                      <a:moveTo>
                        <a:pt x="1191" y="174"/>
                      </a:moveTo>
                      <a:lnTo>
                        <a:pt x="841" y="283"/>
                      </a:lnTo>
                      <a:lnTo>
                        <a:pt x="622" y="446"/>
                      </a:lnTo>
                      <a:lnTo>
                        <a:pt x="609" y="374"/>
                      </a:lnTo>
                      <a:lnTo>
                        <a:pt x="912" y="176"/>
                      </a:lnTo>
                      <a:lnTo>
                        <a:pt x="877" y="137"/>
                      </a:lnTo>
                      <a:lnTo>
                        <a:pt x="708" y="149"/>
                      </a:lnTo>
                      <a:lnTo>
                        <a:pt x="490" y="213"/>
                      </a:lnTo>
                      <a:lnTo>
                        <a:pt x="512" y="108"/>
                      </a:lnTo>
                      <a:lnTo>
                        <a:pt x="313" y="96"/>
                      </a:lnTo>
                      <a:lnTo>
                        <a:pt x="205" y="55"/>
                      </a:lnTo>
                      <a:lnTo>
                        <a:pt x="69" y="24"/>
                      </a:ln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246" y="47"/>
                      </a:lnTo>
                      <a:lnTo>
                        <a:pt x="409" y="77"/>
                      </a:lnTo>
                      <a:lnTo>
                        <a:pt x="537" y="73"/>
                      </a:lnTo>
                      <a:lnTo>
                        <a:pt x="652" y="55"/>
                      </a:lnTo>
                      <a:lnTo>
                        <a:pt x="749" y="112"/>
                      </a:lnTo>
                      <a:lnTo>
                        <a:pt x="1028" y="96"/>
                      </a:lnTo>
                      <a:lnTo>
                        <a:pt x="1164" y="154"/>
                      </a:lnTo>
                      <a:lnTo>
                        <a:pt x="1191" y="1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4933800" y="5436720"/>
                  <a:ext cx="145080" cy="129240"/>
                </a:xfrm>
                <a:custGeom>
                  <a:avLst/>
                  <a:gdLst/>
                  <a:ahLst/>
                  <a:rect l="l" t="t" r="r" b="b"/>
                  <a:pathLst>
                    <a:path w="1754" h="1222">
                      <a:moveTo>
                        <a:pt x="1289" y="666"/>
                      </a:moveTo>
                      <a:lnTo>
                        <a:pt x="1258" y="826"/>
                      </a:lnTo>
                      <a:lnTo>
                        <a:pt x="1258" y="945"/>
                      </a:lnTo>
                      <a:lnTo>
                        <a:pt x="1289" y="1042"/>
                      </a:lnTo>
                      <a:lnTo>
                        <a:pt x="1311" y="1098"/>
                      </a:lnTo>
                      <a:lnTo>
                        <a:pt x="1754" y="1222"/>
                      </a:lnTo>
                      <a:lnTo>
                        <a:pt x="1293" y="1160"/>
                      </a:lnTo>
                      <a:lnTo>
                        <a:pt x="1251" y="1098"/>
                      </a:lnTo>
                      <a:lnTo>
                        <a:pt x="876" y="1092"/>
                      </a:lnTo>
                      <a:lnTo>
                        <a:pt x="576" y="1035"/>
                      </a:lnTo>
                      <a:lnTo>
                        <a:pt x="311" y="955"/>
                      </a:lnTo>
                      <a:lnTo>
                        <a:pt x="93" y="860"/>
                      </a:lnTo>
                      <a:lnTo>
                        <a:pt x="69" y="826"/>
                      </a:lnTo>
                      <a:lnTo>
                        <a:pt x="51" y="749"/>
                      </a:lnTo>
                      <a:lnTo>
                        <a:pt x="0" y="652"/>
                      </a:lnTo>
                      <a:lnTo>
                        <a:pt x="12" y="615"/>
                      </a:lnTo>
                      <a:lnTo>
                        <a:pt x="32" y="588"/>
                      </a:lnTo>
                      <a:lnTo>
                        <a:pt x="32" y="452"/>
                      </a:lnTo>
                      <a:lnTo>
                        <a:pt x="51" y="406"/>
                      </a:lnTo>
                      <a:lnTo>
                        <a:pt x="80" y="382"/>
                      </a:lnTo>
                      <a:lnTo>
                        <a:pt x="58" y="433"/>
                      </a:lnTo>
                      <a:lnTo>
                        <a:pt x="51" y="547"/>
                      </a:lnTo>
                      <a:lnTo>
                        <a:pt x="58" y="613"/>
                      </a:lnTo>
                      <a:lnTo>
                        <a:pt x="230" y="756"/>
                      </a:lnTo>
                      <a:lnTo>
                        <a:pt x="258" y="749"/>
                      </a:lnTo>
                      <a:lnTo>
                        <a:pt x="278" y="670"/>
                      </a:lnTo>
                      <a:lnTo>
                        <a:pt x="170" y="494"/>
                      </a:lnTo>
                      <a:lnTo>
                        <a:pt x="140" y="344"/>
                      </a:lnTo>
                      <a:lnTo>
                        <a:pt x="201" y="202"/>
                      </a:lnTo>
                      <a:lnTo>
                        <a:pt x="201" y="426"/>
                      </a:lnTo>
                      <a:lnTo>
                        <a:pt x="361" y="786"/>
                      </a:lnTo>
                      <a:lnTo>
                        <a:pt x="438" y="802"/>
                      </a:lnTo>
                      <a:lnTo>
                        <a:pt x="489" y="770"/>
                      </a:lnTo>
                      <a:lnTo>
                        <a:pt x="480" y="685"/>
                      </a:lnTo>
                      <a:lnTo>
                        <a:pt x="320" y="286"/>
                      </a:lnTo>
                      <a:lnTo>
                        <a:pt x="320" y="166"/>
                      </a:lnTo>
                      <a:lnTo>
                        <a:pt x="320" y="72"/>
                      </a:lnTo>
                      <a:lnTo>
                        <a:pt x="361" y="0"/>
                      </a:lnTo>
                      <a:lnTo>
                        <a:pt x="343" y="136"/>
                      </a:lnTo>
                      <a:lnTo>
                        <a:pt x="350" y="272"/>
                      </a:lnTo>
                      <a:lnTo>
                        <a:pt x="451" y="540"/>
                      </a:lnTo>
                      <a:lnTo>
                        <a:pt x="493" y="560"/>
                      </a:lnTo>
                      <a:lnTo>
                        <a:pt x="535" y="516"/>
                      </a:lnTo>
                      <a:lnTo>
                        <a:pt x="553" y="468"/>
                      </a:lnTo>
                      <a:lnTo>
                        <a:pt x="546" y="362"/>
                      </a:lnTo>
                      <a:lnTo>
                        <a:pt x="528" y="219"/>
                      </a:lnTo>
                      <a:lnTo>
                        <a:pt x="553" y="215"/>
                      </a:lnTo>
                      <a:lnTo>
                        <a:pt x="581" y="459"/>
                      </a:lnTo>
                      <a:lnTo>
                        <a:pt x="570" y="523"/>
                      </a:lnTo>
                      <a:lnTo>
                        <a:pt x="541" y="569"/>
                      </a:lnTo>
                      <a:lnTo>
                        <a:pt x="498" y="613"/>
                      </a:lnTo>
                      <a:lnTo>
                        <a:pt x="511" y="740"/>
                      </a:lnTo>
                      <a:lnTo>
                        <a:pt x="504" y="826"/>
                      </a:lnTo>
                      <a:lnTo>
                        <a:pt x="456" y="844"/>
                      </a:lnTo>
                      <a:lnTo>
                        <a:pt x="392" y="839"/>
                      </a:lnTo>
                      <a:lnTo>
                        <a:pt x="311" y="795"/>
                      </a:lnTo>
                      <a:lnTo>
                        <a:pt x="265" y="802"/>
                      </a:lnTo>
                      <a:lnTo>
                        <a:pt x="93" y="724"/>
                      </a:lnTo>
                      <a:lnTo>
                        <a:pt x="87" y="806"/>
                      </a:lnTo>
                      <a:lnTo>
                        <a:pt x="152" y="867"/>
                      </a:lnTo>
                      <a:lnTo>
                        <a:pt x="504" y="986"/>
                      </a:lnTo>
                      <a:lnTo>
                        <a:pt x="792" y="1048"/>
                      </a:lnTo>
                      <a:lnTo>
                        <a:pt x="1042" y="1058"/>
                      </a:lnTo>
                      <a:lnTo>
                        <a:pt x="1238" y="1058"/>
                      </a:lnTo>
                      <a:lnTo>
                        <a:pt x="1229" y="955"/>
                      </a:lnTo>
                      <a:lnTo>
                        <a:pt x="1238" y="826"/>
                      </a:lnTo>
                      <a:lnTo>
                        <a:pt x="1263" y="722"/>
                      </a:lnTo>
                      <a:lnTo>
                        <a:pt x="1289" y="6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4977000" y="5436720"/>
                  <a:ext cx="69480" cy="57600"/>
                </a:xfrm>
                <a:custGeom>
                  <a:avLst/>
                  <a:gdLst/>
                  <a:ahLst/>
                  <a:rect l="l" t="t" r="r" b="b"/>
                  <a:pathLst>
                    <a:path w="846" h="547">
                      <a:moveTo>
                        <a:pt x="0" y="30"/>
                      </a:moveTo>
                      <a:lnTo>
                        <a:pt x="45" y="94"/>
                      </a:lnTo>
                      <a:lnTo>
                        <a:pt x="101" y="210"/>
                      </a:lnTo>
                      <a:lnTo>
                        <a:pt x="36" y="219"/>
                      </a:lnTo>
                      <a:lnTo>
                        <a:pt x="36" y="237"/>
                      </a:lnTo>
                      <a:lnTo>
                        <a:pt x="174" y="246"/>
                      </a:lnTo>
                      <a:lnTo>
                        <a:pt x="322" y="254"/>
                      </a:lnTo>
                      <a:lnTo>
                        <a:pt x="248" y="233"/>
                      </a:lnTo>
                      <a:lnTo>
                        <a:pt x="394" y="178"/>
                      </a:lnTo>
                      <a:lnTo>
                        <a:pt x="472" y="189"/>
                      </a:lnTo>
                      <a:lnTo>
                        <a:pt x="598" y="297"/>
                      </a:lnTo>
                      <a:lnTo>
                        <a:pt x="675" y="422"/>
                      </a:lnTo>
                      <a:lnTo>
                        <a:pt x="767" y="512"/>
                      </a:lnTo>
                      <a:lnTo>
                        <a:pt x="820" y="547"/>
                      </a:lnTo>
                      <a:lnTo>
                        <a:pt x="846" y="523"/>
                      </a:lnTo>
                      <a:lnTo>
                        <a:pt x="758" y="468"/>
                      </a:lnTo>
                      <a:lnTo>
                        <a:pt x="679" y="392"/>
                      </a:lnTo>
                      <a:lnTo>
                        <a:pt x="611" y="286"/>
                      </a:lnTo>
                      <a:lnTo>
                        <a:pt x="534" y="184"/>
                      </a:lnTo>
                      <a:lnTo>
                        <a:pt x="394" y="136"/>
                      </a:lnTo>
                      <a:lnTo>
                        <a:pt x="317" y="154"/>
                      </a:lnTo>
                      <a:lnTo>
                        <a:pt x="223" y="189"/>
                      </a:lnTo>
                      <a:lnTo>
                        <a:pt x="161" y="184"/>
                      </a:lnTo>
                      <a:lnTo>
                        <a:pt x="244" y="90"/>
                      </a:lnTo>
                      <a:lnTo>
                        <a:pt x="283" y="30"/>
                      </a:lnTo>
                      <a:lnTo>
                        <a:pt x="275" y="0"/>
                      </a:lnTo>
                      <a:lnTo>
                        <a:pt x="223" y="79"/>
                      </a:lnTo>
                      <a:lnTo>
                        <a:pt x="119" y="154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4807080" y="4962600"/>
                  <a:ext cx="109440" cy="130320"/>
                </a:xfrm>
                <a:custGeom>
                  <a:avLst/>
                  <a:gdLst/>
                  <a:ahLst/>
                  <a:rect l="l" t="t" r="r" b="b"/>
                  <a:pathLst>
                    <a:path w="1323" h="1233">
                      <a:moveTo>
                        <a:pt x="680" y="329"/>
                      </a:moveTo>
                      <a:lnTo>
                        <a:pt x="759" y="233"/>
                      </a:lnTo>
                      <a:lnTo>
                        <a:pt x="833" y="191"/>
                      </a:lnTo>
                      <a:lnTo>
                        <a:pt x="918" y="186"/>
                      </a:lnTo>
                      <a:lnTo>
                        <a:pt x="1026" y="239"/>
                      </a:lnTo>
                      <a:lnTo>
                        <a:pt x="1086" y="329"/>
                      </a:lnTo>
                      <a:lnTo>
                        <a:pt x="1116" y="433"/>
                      </a:lnTo>
                      <a:lnTo>
                        <a:pt x="1128" y="539"/>
                      </a:lnTo>
                      <a:lnTo>
                        <a:pt x="1123" y="648"/>
                      </a:lnTo>
                      <a:lnTo>
                        <a:pt x="1112" y="753"/>
                      </a:lnTo>
                      <a:lnTo>
                        <a:pt x="1141" y="857"/>
                      </a:lnTo>
                      <a:lnTo>
                        <a:pt x="1165" y="744"/>
                      </a:lnTo>
                      <a:lnTo>
                        <a:pt x="1242" y="689"/>
                      </a:lnTo>
                      <a:lnTo>
                        <a:pt x="1291" y="728"/>
                      </a:lnTo>
                      <a:lnTo>
                        <a:pt x="1305" y="857"/>
                      </a:lnTo>
                      <a:lnTo>
                        <a:pt x="1296" y="960"/>
                      </a:lnTo>
                      <a:lnTo>
                        <a:pt x="1238" y="1046"/>
                      </a:lnTo>
                      <a:lnTo>
                        <a:pt x="1209" y="1083"/>
                      </a:lnTo>
                      <a:lnTo>
                        <a:pt x="1152" y="1127"/>
                      </a:lnTo>
                      <a:lnTo>
                        <a:pt x="1222" y="1101"/>
                      </a:lnTo>
                      <a:lnTo>
                        <a:pt x="1310" y="966"/>
                      </a:lnTo>
                      <a:lnTo>
                        <a:pt x="1323" y="834"/>
                      </a:lnTo>
                      <a:lnTo>
                        <a:pt x="1296" y="696"/>
                      </a:lnTo>
                      <a:lnTo>
                        <a:pt x="1242" y="666"/>
                      </a:lnTo>
                      <a:lnTo>
                        <a:pt x="1242" y="585"/>
                      </a:lnTo>
                      <a:lnTo>
                        <a:pt x="1183" y="323"/>
                      </a:lnTo>
                      <a:lnTo>
                        <a:pt x="1086" y="175"/>
                      </a:lnTo>
                      <a:lnTo>
                        <a:pt x="971" y="74"/>
                      </a:lnTo>
                      <a:lnTo>
                        <a:pt x="840" y="32"/>
                      </a:lnTo>
                      <a:lnTo>
                        <a:pt x="629" y="0"/>
                      </a:lnTo>
                      <a:lnTo>
                        <a:pt x="392" y="32"/>
                      </a:lnTo>
                      <a:lnTo>
                        <a:pt x="213" y="131"/>
                      </a:lnTo>
                      <a:lnTo>
                        <a:pt x="97" y="255"/>
                      </a:lnTo>
                      <a:lnTo>
                        <a:pt x="26" y="404"/>
                      </a:lnTo>
                      <a:lnTo>
                        <a:pt x="12" y="562"/>
                      </a:lnTo>
                      <a:lnTo>
                        <a:pt x="26" y="786"/>
                      </a:lnTo>
                      <a:lnTo>
                        <a:pt x="0" y="857"/>
                      </a:lnTo>
                      <a:lnTo>
                        <a:pt x="23" y="995"/>
                      </a:lnTo>
                      <a:lnTo>
                        <a:pt x="97" y="1113"/>
                      </a:lnTo>
                      <a:lnTo>
                        <a:pt x="198" y="1196"/>
                      </a:lnTo>
                      <a:lnTo>
                        <a:pt x="249" y="1201"/>
                      </a:lnTo>
                      <a:lnTo>
                        <a:pt x="279" y="1233"/>
                      </a:lnTo>
                      <a:lnTo>
                        <a:pt x="264" y="1152"/>
                      </a:lnTo>
                      <a:lnTo>
                        <a:pt x="213" y="1187"/>
                      </a:lnTo>
                      <a:lnTo>
                        <a:pt x="104" y="1106"/>
                      </a:lnTo>
                      <a:lnTo>
                        <a:pt x="33" y="973"/>
                      </a:lnTo>
                      <a:lnTo>
                        <a:pt x="26" y="868"/>
                      </a:lnTo>
                      <a:lnTo>
                        <a:pt x="49" y="843"/>
                      </a:lnTo>
                      <a:lnTo>
                        <a:pt x="121" y="857"/>
                      </a:lnTo>
                      <a:lnTo>
                        <a:pt x="213" y="936"/>
                      </a:lnTo>
                      <a:lnTo>
                        <a:pt x="194" y="830"/>
                      </a:lnTo>
                      <a:lnTo>
                        <a:pt x="167" y="771"/>
                      </a:lnTo>
                      <a:lnTo>
                        <a:pt x="130" y="668"/>
                      </a:lnTo>
                      <a:lnTo>
                        <a:pt x="108" y="551"/>
                      </a:lnTo>
                      <a:lnTo>
                        <a:pt x="108" y="459"/>
                      </a:lnTo>
                      <a:lnTo>
                        <a:pt x="130" y="382"/>
                      </a:lnTo>
                      <a:lnTo>
                        <a:pt x="171" y="323"/>
                      </a:lnTo>
                      <a:lnTo>
                        <a:pt x="227" y="281"/>
                      </a:lnTo>
                      <a:lnTo>
                        <a:pt x="286" y="265"/>
                      </a:lnTo>
                      <a:lnTo>
                        <a:pt x="354" y="281"/>
                      </a:lnTo>
                      <a:lnTo>
                        <a:pt x="420" y="318"/>
                      </a:lnTo>
                      <a:lnTo>
                        <a:pt x="466" y="355"/>
                      </a:lnTo>
                      <a:lnTo>
                        <a:pt x="521" y="369"/>
                      </a:lnTo>
                      <a:lnTo>
                        <a:pt x="607" y="362"/>
                      </a:lnTo>
                      <a:lnTo>
                        <a:pt x="655" y="345"/>
                      </a:lnTo>
                      <a:lnTo>
                        <a:pt x="680" y="3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4831200" y="5055120"/>
                  <a:ext cx="34920" cy="8280"/>
                </a:xfrm>
                <a:custGeom>
                  <a:avLst/>
                  <a:gdLst/>
                  <a:ahLst/>
                  <a:rect l="l" t="t" r="r" b="b"/>
                  <a:pathLst>
                    <a:path w="424" h="83">
                      <a:moveTo>
                        <a:pt x="0" y="42"/>
                      </a:moveTo>
                      <a:lnTo>
                        <a:pt x="74" y="22"/>
                      </a:lnTo>
                      <a:lnTo>
                        <a:pt x="157" y="15"/>
                      </a:lnTo>
                      <a:lnTo>
                        <a:pt x="274" y="15"/>
                      </a:lnTo>
                      <a:lnTo>
                        <a:pt x="338" y="8"/>
                      </a:lnTo>
                      <a:lnTo>
                        <a:pt x="424" y="0"/>
                      </a:lnTo>
                      <a:lnTo>
                        <a:pt x="389" y="46"/>
                      </a:lnTo>
                      <a:lnTo>
                        <a:pt x="300" y="52"/>
                      </a:lnTo>
                      <a:lnTo>
                        <a:pt x="305" y="83"/>
                      </a:lnTo>
                      <a:lnTo>
                        <a:pt x="263" y="52"/>
                      </a:lnTo>
                      <a:lnTo>
                        <a:pt x="204" y="46"/>
                      </a:lnTo>
                      <a:lnTo>
                        <a:pt x="129" y="56"/>
                      </a:lnTo>
                      <a:lnTo>
                        <a:pt x="210" y="28"/>
                      </a:lnTo>
                      <a:lnTo>
                        <a:pt x="134" y="28"/>
                      </a:lnTo>
                      <a:lnTo>
                        <a:pt x="63" y="4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4829760" y="5056560"/>
                  <a:ext cx="26280" cy="17640"/>
                </a:xfrm>
                <a:custGeom>
                  <a:avLst/>
                  <a:gdLst/>
                  <a:ahLst/>
                  <a:rect l="l" t="t" r="r" b="b"/>
                  <a:pathLst>
                    <a:path w="318" h="161">
                      <a:moveTo>
                        <a:pt x="0" y="22"/>
                      </a:moveTo>
                      <a:lnTo>
                        <a:pt x="24" y="50"/>
                      </a:lnTo>
                      <a:lnTo>
                        <a:pt x="92" y="74"/>
                      </a:lnTo>
                      <a:lnTo>
                        <a:pt x="138" y="108"/>
                      </a:lnTo>
                      <a:lnTo>
                        <a:pt x="119" y="127"/>
                      </a:lnTo>
                      <a:lnTo>
                        <a:pt x="175" y="161"/>
                      </a:lnTo>
                      <a:lnTo>
                        <a:pt x="237" y="145"/>
                      </a:lnTo>
                      <a:lnTo>
                        <a:pt x="281" y="117"/>
                      </a:lnTo>
                      <a:lnTo>
                        <a:pt x="228" y="108"/>
                      </a:lnTo>
                      <a:lnTo>
                        <a:pt x="318" y="59"/>
                      </a:lnTo>
                      <a:lnTo>
                        <a:pt x="310" y="44"/>
                      </a:lnTo>
                      <a:lnTo>
                        <a:pt x="222" y="97"/>
                      </a:lnTo>
                      <a:lnTo>
                        <a:pt x="175" y="103"/>
                      </a:lnTo>
                      <a:lnTo>
                        <a:pt x="119" y="81"/>
                      </a:lnTo>
                      <a:lnTo>
                        <a:pt x="99" y="53"/>
                      </a:lnTo>
                      <a:lnTo>
                        <a:pt x="156" y="32"/>
                      </a:lnTo>
                      <a:lnTo>
                        <a:pt x="99" y="39"/>
                      </a:lnTo>
                      <a:lnTo>
                        <a:pt x="77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4869000" y="5044680"/>
                  <a:ext cx="27000" cy="8280"/>
                </a:xfrm>
                <a:custGeom>
                  <a:avLst/>
                  <a:gdLst/>
                  <a:ahLst/>
                  <a:rect l="l" t="t" r="r" b="b"/>
                  <a:pathLst>
                    <a:path w="327" h="85">
                      <a:moveTo>
                        <a:pt x="0" y="85"/>
                      </a:moveTo>
                      <a:lnTo>
                        <a:pt x="211" y="0"/>
                      </a:lnTo>
                      <a:lnTo>
                        <a:pt x="269" y="12"/>
                      </a:lnTo>
                      <a:lnTo>
                        <a:pt x="327" y="35"/>
                      </a:lnTo>
                      <a:lnTo>
                        <a:pt x="253" y="28"/>
                      </a:lnTo>
                      <a:lnTo>
                        <a:pt x="200" y="28"/>
                      </a:lnTo>
                      <a:lnTo>
                        <a:pt x="130" y="48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4870800" y="5053320"/>
                  <a:ext cx="21600" cy="10080"/>
                </a:xfrm>
                <a:custGeom>
                  <a:avLst/>
                  <a:gdLst/>
                  <a:ahLst/>
                  <a:rect l="l" t="t" r="r" b="b"/>
                  <a:pathLst>
                    <a:path w="261" h="99">
                      <a:moveTo>
                        <a:pt x="0" y="53"/>
                      </a:moveTo>
                      <a:lnTo>
                        <a:pt x="70" y="2"/>
                      </a:lnTo>
                      <a:lnTo>
                        <a:pt x="166" y="0"/>
                      </a:lnTo>
                      <a:lnTo>
                        <a:pt x="261" y="11"/>
                      </a:lnTo>
                      <a:lnTo>
                        <a:pt x="224" y="57"/>
                      </a:lnTo>
                      <a:lnTo>
                        <a:pt x="166" y="85"/>
                      </a:lnTo>
                      <a:lnTo>
                        <a:pt x="116" y="99"/>
                      </a:lnTo>
                      <a:lnTo>
                        <a:pt x="42" y="88"/>
                      </a:lnTo>
                      <a:lnTo>
                        <a:pt x="116" y="88"/>
                      </a:lnTo>
                      <a:lnTo>
                        <a:pt x="193" y="57"/>
                      </a:lnTo>
                      <a:lnTo>
                        <a:pt x="240" y="15"/>
                      </a:lnTo>
                      <a:lnTo>
                        <a:pt x="153" y="11"/>
                      </a:lnTo>
                      <a:lnTo>
                        <a:pt x="83" y="15"/>
                      </a:lnTo>
                      <a:lnTo>
                        <a:pt x="30" y="53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4865400" y="5048280"/>
                  <a:ext cx="20520" cy="29520"/>
                </a:xfrm>
                <a:custGeom>
                  <a:avLst/>
                  <a:gdLst/>
                  <a:ahLst/>
                  <a:rect l="l" t="t" r="r" b="b"/>
                  <a:pathLst>
                    <a:path w="248" h="281">
                      <a:moveTo>
                        <a:pt x="173" y="11"/>
                      </a:moveTo>
                      <a:lnTo>
                        <a:pt x="248" y="25"/>
                      </a:lnTo>
                      <a:lnTo>
                        <a:pt x="158" y="25"/>
                      </a:lnTo>
                      <a:lnTo>
                        <a:pt x="122" y="63"/>
                      </a:lnTo>
                      <a:lnTo>
                        <a:pt x="74" y="94"/>
                      </a:lnTo>
                      <a:lnTo>
                        <a:pt x="55" y="133"/>
                      </a:lnTo>
                      <a:lnTo>
                        <a:pt x="55" y="186"/>
                      </a:lnTo>
                      <a:lnTo>
                        <a:pt x="74" y="281"/>
                      </a:lnTo>
                      <a:lnTo>
                        <a:pt x="43" y="191"/>
                      </a:lnTo>
                      <a:lnTo>
                        <a:pt x="37" y="142"/>
                      </a:lnTo>
                      <a:lnTo>
                        <a:pt x="34" y="105"/>
                      </a:lnTo>
                      <a:lnTo>
                        <a:pt x="0" y="63"/>
                      </a:lnTo>
                      <a:lnTo>
                        <a:pt x="140" y="21"/>
                      </a:lnTo>
                      <a:lnTo>
                        <a:pt x="204" y="0"/>
                      </a:lnTo>
                      <a:lnTo>
                        <a:pt x="17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4857840" y="5059080"/>
                  <a:ext cx="3600" cy="24480"/>
                </a:xfrm>
                <a:custGeom>
                  <a:avLst/>
                  <a:gdLst/>
                  <a:ahLst/>
                  <a:rect l="l" t="t" r="r" b="b"/>
                  <a:pathLst>
                    <a:path w="48" h="233">
                      <a:moveTo>
                        <a:pt x="0" y="10"/>
                      </a:moveTo>
                      <a:lnTo>
                        <a:pt x="22" y="90"/>
                      </a:lnTo>
                      <a:lnTo>
                        <a:pt x="27" y="153"/>
                      </a:lnTo>
                      <a:lnTo>
                        <a:pt x="39" y="233"/>
                      </a:lnTo>
                      <a:lnTo>
                        <a:pt x="48" y="149"/>
                      </a:lnTo>
                      <a:lnTo>
                        <a:pt x="41" y="85"/>
                      </a:lnTo>
                      <a:lnTo>
                        <a:pt x="35" y="32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4874400" y="5062680"/>
                  <a:ext cx="14400" cy="5760"/>
                </a:xfrm>
                <a:custGeom>
                  <a:avLst/>
                  <a:gdLst/>
                  <a:ahLst/>
                  <a:rect l="l" t="t" r="r" b="b"/>
                  <a:pathLst>
                    <a:path w="171" h="55">
                      <a:moveTo>
                        <a:pt x="32" y="11"/>
                      </a:moveTo>
                      <a:lnTo>
                        <a:pt x="0" y="44"/>
                      </a:lnTo>
                      <a:lnTo>
                        <a:pt x="65" y="55"/>
                      </a:lnTo>
                      <a:lnTo>
                        <a:pt x="106" y="44"/>
                      </a:lnTo>
                      <a:lnTo>
                        <a:pt x="171" y="11"/>
                      </a:lnTo>
                      <a:lnTo>
                        <a:pt x="124" y="11"/>
                      </a:lnTo>
                      <a:lnTo>
                        <a:pt x="81" y="0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4811760" y="5061960"/>
                  <a:ext cx="13680" cy="17640"/>
                </a:xfrm>
                <a:custGeom>
                  <a:avLst/>
                  <a:gdLst/>
                  <a:ahLst/>
                  <a:rect l="l" t="t" r="r" b="b"/>
                  <a:pathLst>
                    <a:path w="174" h="170">
                      <a:moveTo>
                        <a:pt x="157" y="30"/>
                      </a:moveTo>
                      <a:lnTo>
                        <a:pt x="88" y="6"/>
                      </a:lnTo>
                      <a:lnTo>
                        <a:pt x="0" y="0"/>
                      </a:lnTo>
                      <a:lnTo>
                        <a:pt x="33" y="20"/>
                      </a:lnTo>
                      <a:lnTo>
                        <a:pt x="51" y="90"/>
                      </a:lnTo>
                      <a:lnTo>
                        <a:pt x="77" y="129"/>
                      </a:lnTo>
                      <a:lnTo>
                        <a:pt x="60" y="78"/>
                      </a:lnTo>
                      <a:lnTo>
                        <a:pt x="70" y="37"/>
                      </a:lnTo>
                      <a:lnTo>
                        <a:pt x="104" y="44"/>
                      </a:lnTo>
                      <a:lnTo>
                        <a:pt x="97" y="78"/>
                      </a:lnTo>
                      <a:lnTo>
                        <a:pt x="108" y="123"/>
                      </a:lnTo>
                      <a:lnTo>
                        <a:pt x="136" y="136"/>
                      </a:lnTo>
                      <a:lnTo>
                        <a:pt x="174" y="170"/>
                      </a:lnTo>
                      <a:lnTo>
                        <a:pt x="157" y="123"/>
                      </a:lnTo>
                      <a:lnTo>
                        <a:pt x="167" y="83"/>
                      </a:lnTo>
                      <a:lnTo>
                        <a:pt x="160" y="59"/>
                      </a:lnTo>
                      <a:lnTo>
                        <a:pt x="15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4902120" y="5043960"/>
                  <a:ext cx="10440" cy="30240"/>
                </a:xfrm>
                <a:custGeom>
                  <a:avLst/>
                  <a:gdLst/>
                  <a:ahLst/>
                  <a:rect l="l" t="t" r="r" b="b"/>
                  <a:pathLst>
                    <a:path w="129" h="292">
                      <a:moveTo>
                        <a:pt x="0" y="116"/>
                      </a:moveTo>
                      <a:lnTo>
                        <a:pt x="23" y="109"/>
                      </a:lnTo>
                      <a:lnTo>
                        <a:pt x="63" y="55"/>
                      </a:lnTo>
                      <a:lnTo>
                        <a:pt x="116" y="0"/>
                      </a:lnTo>
                      <a:lnTo>
                        <a:pt x="104" y="46"/>
                      </a:lnTo>
                      <a:lnTo>
                        <a:pt x="129" y="90"/>
                      </a:lnTo>
                      <a:lnTo>
                        <a:pt x="129" y="147"/>
                      </a:lnTo>
                      <a:lnTo>
                        <a:pt x="104" y="199"/>
                      </a:lnTo>
                      <a:lnTo>
                        <a:pt x="116" y="136"/>
                      </a:lnTo>
                      <a:lnTo>
                        <a:pt x="113" y="105"/>
                      </a:lnTo>
                      <a:lnTo>
                        <a:pt x="83" y="76"/>
                      </a:lnTo>
                      <a:lnTo>
                        <a:pt x="69" y="109"/>
                      </a:lnTo>
                      <a:lnTo>
                        <a:pt x="92" y="147"/>
                      </a:lnTo>
                      <a:lnTo>
                        <a:pt x="83" y="184"/>
                      </a:lnTo>
                      <a:lnTo>
                        <a:pt x="54" y="199"/>
                      </a:lnTo>
                      <a:lnTo>
                        <a:pt x="37" y="228"/>
                      </a:lnTo>
                      <a:lnTo>
                        <a:pt x="19" y="292"/>
                      </a:lnTo>
                      <a:lnTo>
                        <a:pt x="17" y="237"/>
                      </a:lnTo>
                      <a:lnTo>
                        <a:pt x="30" y="184"/>
                      </a:lnTo>
                      <a:lnTo>
                        <a:pt x="19" y="164"/>
                      </a:lnTo>
                      <a:lnTo>
                        <a:pt x="0" y="143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4842360" y="505908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9" h="63">
                      <a:moveTo>
                        <a:pt x="0" y="14"/>
                      </a:moveTo>
                      <a:lnTo>
                        <a:pt x="16" y="46"/>
                      </a:lnTo>
                      <a:lnTo>
                        <a:pt x="42" y="63"/>
                      </a:lnTo>
                      <a:lnTo>
                        <a:pt x="81" y="50"/>
                      </a:lnTo>
                      <a:lnTo>
                        <a:pt x="99" y="32"/>
                      </a:lnTo>
                      <a:lnTo>
                        <a:pt x="99" y="0"/>
                      </a:lnTo>
                      <a:lnTo>
                        <a:pt x="64" y="4"/>
                      </a:lnTo>
                      <a:lnTo>
                        <a:pt x="69" y="21"/>
                      </a:lnTo>
                      <a:lnTo>
                        <a:pt x="53" y="35"/>
                      </a:lnTo>
                      <a:lnTo>
                        <a:pt x="42" y="26"/>
                      </a:lnTo>
                      <a:lnTo>
                        <a:pt x="37" y="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4877640" y="5053320"/>
                  <a:ext cx="7200" cy="6840"/>
                </a:xfrm>
                <a:custGeom>
                  <a:avLst/>
                  <a:gdLst/>
                  <a:ahLst/>
                  <a:rect l="l" t="t" r="r" b="b"/>
                  <a:pathLst>
                    <a:path w="92" h="61">
                      <a:moveTo>
                        <a:pt x="0" y="17"/>
                      </a:moveTo>
                      <a:lnTo>
                        <a:pt x="9" y="55"/>
                      </a:lnTo>
                      <a:lnTo>
                        <a:pt x="42" y="61"/>
                      </a:lnTo>
                      <a:lnTo>
                        <a:pt x="74" y="51"/>
                      </a:lnTo>
                      <a:lnTo>
                        <a:pt x="92" y="31"/>
                      </a:lnTo>
                      <a:lnTo>
                        <a:pt x="86" y="0"/>
                      </a:lnTo>
                      <a:lnTo>
                        <a:pt x="64" y="0"/>
                      </a:lnTo>
                      <a:lnTo>
                        <a:pt x="60" y="33"/>
                      </a:lnTo>
                      <a:lnTo>
                        <a:pt x="37" y="33"/>
                      </a:lnTo>
                      <a:lnTo>
                        <a:pt x="27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4851720" y="5082120"/>
                  <a:ext cx="30960" cy="21240"/>
                </a:xfrm>
                <a:custGeom>
                  <a:avLst/>
                  <a:gdLst/>
                  <a:ahLst/>
                  <a:rect l="l" t="t" r="r" b="b"/>
                  <a:pathLst>
                    <a:path w="374" h="198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0" y="79"/>
                      </a:lnTo>
                      <a:lnTo>
                        <a:pt x="26" y="90"/>
                      </a:lnTo>
                      <a:lnTo>
                        <a:pt x="46" y="132"/>
                      </a:lnTo>
                      <a:lnTo>
                        <a:pt x="127" y="163"/>
                      </a:lnTo>
                      <a:lnTo>
                        <a:pt x="199" y="198"/>
                      </a:lnTo>
                      <a:lnTo>
                        <a:pt x="235" y="198"/>
                      </a:lnTo>
                      <a:lnTo>
                        <a:pt x="305" y="120"/>
                      </a:lnTo>
                      <a:lnTo>
                        <a:pt x="360" y="90"/>
                      </a:lnTo>
                      <a:lnTo>
                        <a:pt x="374" y="37"/>
                      </a:lnTo>
                      <a:lnTo>
                        <a:pt x="365" y="22"/>
                      </a:lnTo>
                      <a:lnTo>
                        <a:pt x="342" y="0"/>
                      </a:lnTo>
                      <a:lnTo>
                        <a:pt x="354" y="25"/>
                      </a:lnTo>
                      <a:lnTo>
                        <a:pt x="347" y="46"/>
                      </a:lnTo>
                      <a:lnTo>
                        <a:pt x="325" y="46"/>
                      </a:lnTo>
                      <a:lnTo>
                        <a:pt x="285" y="69"/>
                      </a:lnTo>
                      <a:lnTo>
                        <a:pt x="261" y="97"/>
                      </a:lnTo>
                      <a:lnTo>
                        <a:pt x="235" y="120"/>
                      </a:lnTo>
                      <a:lnTo>
                        <a:pt x="187" y="127"/>
                      </a:lnTo>
                      <a:lnTo>
                        <a:pt x="141" y="117"/>
                      </a:lnTo>
                      <a:lnTo>
                        <a:pt x="107" y="97"/>
                      </a:lnTo>
                      <a:lnTo>
                        <a:pt x="63" y="79"/>
                      </a:lnTo>
                      <a:lnTo>
                        <a:pt x="26" y="79"/>
                      </a:lnTo>
                      <a:lnTo>
                        <a:pt x="8" y="60"/>
                      </a:lnTo>
                      <a:lnTo>
                        <a:pt x="15" y="3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4848840" y="5102280"/>
                  <a:ext cx="42840" cy="9360"/>
                </a:xfrm>
                <a:custGeom>
                  <a:avLst/>
                  <a:gdLst/>
                  <a:ahLst/>
                  <a:rect l="l" t="t" r="r" b="b"/>
                  <a:pathLst>
                    <a:path w="520" h="90">
                      <a:moveTo>
                        <a:pt x="48" y="60"/>
                      </a:moveTo>
                      <a:lnTo>
                        <a:pt x="101" y="40"/>
                      </a:lnTo>
                      <a:lnTo>
                        <a:pt x="174" y="23"/>
                      </a:lnTo>
                      <a:lnTo>
                        <a:pt x="259" y="24"/>
                      </a:lnTo>
                      <a:lnTo>
                        <a:pt x="343" y="7"/>
                      </a:lnTo>
                      <a:lnTo>
                        <a:pt x="488" y="23"/>
                      </a:lnTo>
                      <a:lnTo>
                        <a:pt x="511" y="0"/>
                      </a:lnTo>
                      <a:lnTo>
                        <a:pt x="520" y="31"/>
                      </a:lnTo>
                      <a:lnTo>
                        <a:pt x="501" y="46"/>
                      </a:lnTo>
                      <a:lnTo>
                        <a:pt x="477" y="31"/>
                      </a:lnTo>
                      <a:lnTo>
                        <a:pt x="417" y="24"/>
                      </a:lnTo>
                      <a:lnTo>
                        <a:pt x="327" y="46"/>
                      </a:lnTo>
                      <a:lnTo>
                        <a:pt x="253" y="64"/>
                      </a:lnTo>
                      <a:lnTo>
                        <a:pt x="128" y="60"/>
                      </a:lnTo>
                      <a:lnTo>
                        <a:pt x="41" y="70"/>
                      </a:lnTo>
                      <a:lnTo>
                        <a:pt x="20" y="90"/>
                      </a:lnTo>
                      <a:lnTo>
                        <a:pt x="0" y="79"/>
                      </a:lnTo>
                      <a:lnTo>
                        <a:pt x="4" y="53"/>
                      </a:lnTo>
                      <a:lnTo>
                        <a:pt x="27" y="46"/>
                      </a:lnTo>
                      <a:lnTo>
                        <a:pt x="48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4858200" y="5114520"/>
                  <a:ext cx="23760" cy="10080"/>
                </a:xfrm>
                <a:custGeom>
                  <a:avLst/>
                  <a:gdLst/>
                  <a:ahLst/>
                  <a:rect l="l" t="t" r="r" b="b"/>
                  <a:pathLst>
                    <a:path w="286" h="94">
                      <a:moveTo>
                        <a:pt x="0" y="22"/>
                      </a:moveTo>
                      <a:lnTo>
                        <a:pt x="64" y="31"/>
                      </a:lnTo>
                      <a:lnTo>
                        <a:pt x="123" y="31"/>
                      </a:lnTo>
                      <a:lnTo>
                        <a:pt x="194" y="26"/>
                      </a:lnTo>
                      <a:lnTo>
                        <a:pt x="286" y="0"/>
                      </a:lnTo>
                      <a:lnTo>
                        <a:pt x="231" y="46"/>
                      </a:lnTo>
                      <a:lnTo>
                        <a:pt x="244" y="83"/>
                      </a:lnTo>
                      <a:lnTo>
                        <a:pt x="171" y="83"/>
                      </a:lnTo>
                      <a:lnTo>
                        <a:pt x="64" y="94"/>
                      </a:lnTo>
                      <a:lnTo>
                        <a:pt x="70" y="63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4828320" y="5080680"/>
                  <a:ext cx="75600" cy="64080"/>
                </a:xfrm>
                <a:custGeom>
                  <a:avLst/>
                  <a:gdLst/>
                  <a:ahLst/>
                  <a:rect l="l" t="t" r="r" b="b"/>
                  <a:pathLst>
                    <a:path w="911" h="609">
                      <a:moveTo>
                        <a:pt x="0" y="83"/>
                      </a:moveTo>
                      <a:lnTo>
                        <a:pt x="96" y="339"/>
                      </a:lnTo>
                      <a:lnTo>
                        <a:pt x="157" y="438"/>
                      </a:lnTo>
                      <a:lnTo>
                        <a:pt x="226" y="498"/>
                      </a:lnTo>
                      <a:lnTo>
                        <a:pt x="304" y="546"/>
                      </a:lnTo>
                      <a:lnTo>
                        <a:pt x="394" y="576"/>
                      </a:lnTo>
                      <a:lnTo>
                        <a:pt x="487" y="609"/>
                      </a:lnTo>
                      <a:lnTo>
                        <a:pt x="570" y="609"/>
                      </a:lnTo>
                      <a:lnTo>
                        <a:pt x="669" y="581"/>
                      </a:lnTo>
                      <a:lnTo>
                        <a:pt x="735" y="535"/>
                      </a:lnTo>
                      <a:lnTo>
                        <a:pt x="793" y="464"/>
                      </a:lnTo>
                      <a:lnTo>
                        <a:pt x="848" y="374"/>
                      </a:lnTo>
                      <a:lnTo>
                        <a:pt x="883" y="288"/>
                      </a:lnTo>
                      <a:lnTo>
                        <a:pt x="898" y="183"/>
                      </a:lnTo>
                      <a:lnTo>
                        <a:pt x="911" y="0"/>
                      </a:lnTo>
                      <a:lnTo>
                        <a:pt x="892" y="14"/>
                      </a:lnTo>
                      <a:lnTo>
                        <a:pt x="869" y="265"/>
                      </a:lnTo>
                      <a:lnTo>
                        <a:pt x="839" y="353"/>
                      </a:lnTo>
                      <a:lnTo>
                        <a:pt x="793" y="434"/>
                      </a:lnTo>
                      <a:lnTo>
                        <a:pt x="724" y="517"/>
                      </a:lnTo>
                      <a:lnTo>
                        <a:pt x="659" y="558"/>
                      </a:lnTo>
                      <a:lnTo>
                        <a:pt x="659" y="528"/>
                      </a:lnTo>
                      <a:lnTo>
                        <a:pt x="595" y="551"/>
                      </a:lnTo>
                      <a:lnTo>
                        <a:pt x="511" y="557"/>
                      </a:lnTo>
                      <a:lnTo>
                        <a:pt x="450" y="551"/>
                      </a:lnTo>
                      <a:lnTo>
                        <a:pt x="392" y="528"/>
                      </a:lnTo>
                      <a:lnTo>
                        <a:pt x="408" y="558"/>
                      </a:lnTo>
                      <a:lnTo>
                        <a:pt x="293" y="524"/>
                      </a:lnTo>
                      <a:lnTo>
                        <a:pt x="203" y="445"/>
                      </a:lnTo>
                      <a:lnTo>
                        <a:pt x="138" y="368"/>
                      </a:lnTo>
                      <a:lnTo>
                        <a:pt x="90" y="279"/>
                      </a:lnTo>
                      <a:lnTo>
                        <a:pt x="10" y="74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4835160" y="5089680"/>
                  <a:ext cx="15120" cy="29520"/>
                </a:xfrm>
                <a:custGeom>
                  <a:avLst/>
                  <a:gdLst/>
                  <a:ahLst/>
                  <a:rect l="l" t="t" r="r" b="b"/>
                  <a:pathLst>
                    <a:path w="187" h="278">
                      <a:moveTo>
                        <a:pt x="22" y="58"/>
                      </a:moveTo>
                      <a:lnTo>
                        <a:pt x="97" y="53"/>
                      </a:lnTo>
                      <a:lnTo>
                        <a:pt x="134" y="36"/>
                      </a:lnTo>
                      <a:lnTo>
                        <a:pt x="187" y="0"/>
                      </a:lnTo>
                      <a:lnTo>
                        <a:pt x="157" y="58"/>
                      </a:lnTo>
                      <a:lnTo>
                        <a:pt x="111" y="117"/>
                      </a:lnTo>
                      <a:lnTo>
                        <a:pt x="118" y="181"/>
                      </a:lnTo>
                      <a:lnTo>
                        <a:pt x="163" y="278"/>
                      </a:lnTo>
                      <a:lnTo>
                        <a:pt x="111" y="207"/>
                      </a:lnTo>
                      <a:lnTo>
                        <a:pt x="77" y="133"/>
                      </a:lnTo>
                      <a:lnTo>
                        <a:pt x="40" y="117"/>
                      </a:lnTo>
                      <a:lnTo>
                        <a:pt x="0" y="64"/>
                      </a:lnTo>
                      <a:lnTo>
                        <a:pt x="2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4884120" y="5085720"/>
                  <a:ext cx="12960" cy="23760"/>
                </a:xfrm>
                <a:custGeom>
                  <a:avLst/>
                  <a:gdLst/>
                  <a:ahLst/>
                  <a:rect l="l" t="t" r="r" b="b"/>
                  <a:pathLst>
                    <a:path w="156" h="222">
                      <a:moveTo>
                        <a:pt x="0" y="0"/>
                      </a:moveTo>
                      <a:lnTo>
                        <a:pt x="31" y="29"/>
                      </a:lnTo>
                      <a:lnTo>
                        <a:pt x="94" y="68"/>
                      </a:lnTo>
                      <a:lnTo>
                        <a:pt x="112" y="94"/>
                      </a:lnTo>
                      <a:lnTo>
                        <a:pt x="124" y="140"/>
                      </a:lnTo>
                      <a:lnTo>
                        <a:pt x="117" y="222"/>
                      </a:lnTo>
                      <a:lnTo>
                        <a:pt x="134" y="136"/>
                      </a:lnTo>
                      <a:lnTo>
                        <a:pt x="156" y="46"/>
                      </a:lnTo>
                      <a:lnTo>
                        <a:pt x="156" y="9"/>
                      </a:lnTo>
                      <a:lnTo>
                        <a:pt x="88" y="13"/>
                      </a:lnTo>
                      <a:lnTo>
                        <a:pt x="3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5064480" y="5215320"/>
                  <a:ext cx="54360" cy="30240"/>
                </a:xfrm>
                <a:custGeom>
                  <a:avLst/>
                  <a:gdLst/>
                  <a:ahLst/>
                  <a:rect l="l" t="t" r="r" b="b"/>
                  <a:pathLst>
                    <a:path w="652" h="291">
                      <a:moveTo>
                        <a:pt x="50" y="0"/>
                      </a:moveTo>
                      <a:lnTo>
                        <a:pt x="59" y="44"/>
                      </a:lnTo>
                      <a:lnTo>
                        <a:pt x="59" y="85"/>
                      </a:lnTo>
                      <a:lnTo>
                        <a:pt x="34" y="126"/>
                      </a:lnTo>
                      <a:lnTo>
                        <a:pt x="0" y="152"/>
                      </a:lnTo>
                      <a:lnTo>
                        <a:pt x="136" y="291"/>
                      </a:lnTo>
                      <a:lnTo>
                        <a:pt x="294" y="192"/>
                      </a:lnTo>
                      <a:lnTo>
                        <a:pt x="384" y="291"/>
                      </a:lnTo>
                      <a:lnTo>
                        <a:pt x="452" y="233"/>
                      </a:lnTo>
                      <a:lnTo>
                        <a:pt x="583" y="152"/>
                      </a:lnTo>
                      <a:lnTo>
                        <a:pt x="652" y="69"/>
                      </a:lnTo>
                      <a:lnTo>
                        <a:pt x="553" y="152"/>
                      </a:lnTo>
                      <a:lnTo>
                        <a:pt x="410" y="210"/>
                      </a:lnTo>
                      <a:lnTo>
                        <a:pt x="343" y="159"/>
                      </a:lnTo>
                      <a:lnTo>
                        <a:pt x="184" y="159"/>
                      </a:lnTo>
                      <a:lnTo>
                        <a:pt x="94" y="9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5086440" y="5091480"/>
                  <a:ext cx="34920" cy="46440"/>
                </a:xfrm>
                <a:custGeom>
                  <a:avLst/>
                  <a:gdLst/>
                  <a:ahLst/>
                  <a:rect l="l" t="t" r="r" b="b"/>
                  <a:pathLst>
                    <a:path w="419" h="442">
                      <a:moveTo>
                        <a:pt x="36" y="0"/>
                      </a:moveTo>
                      <a:lnTo>
                        <a:pt x="134" y="35"/>
                      </a:lnTo>
                      <a:lnTo>
                        <a:pt x="260" y="13"/>
                      </a:lnTo>
                      <a:lnTo>
                        <a:pt x="382" y="42"/>
                      </a:lnTo>
                      <a:lnTo>
                        <a:pt x="396" y="0"/>
                      </a:lnTo>
                      <a:lnTo>
                        <a:pt x="419" y="92"/>
                      </a:lnTo>
                      <a:lnTo>
                        <a:pt x="419" y="189"/>
                      </a:lnTo>
                      <a:lnTo>
                        <a:pt x="403" y="334"/>
                      </a:lnTo>
                      <a:lnTo>
                        <a:pt x="373" y="442"/>
                      </a:lnTo>
                      <a:lnTo>
                        <a:pt x="396" y="316"/>
                      </a:lnTo>
                      <a:lnTo>
                        <a:pt x="396" y="260"/>
                      </a:lnTo>
                      <a:lnTo>
                        <a:pt x="290" y="327"/>
                      </a:lnTo>
                      <a:lnTo>
                        <a:pt x="269" y="327"/>
                      </a:lnTo>
                      <a:lnTo>
                        <a:pt x="260" y="308"/>
                      </a:lnTo>
                      <a:lnTo>
                        <a:pt x="359" y="202"/>
                      </a:lnTo>
                      <a:lnTo>
                        <a:pt x="352" y="145"/>
                      </a:lnTo>
                      <a:lnTo>
                        <a:pt x="246" y="214"/>
                      </a:lnTo>
                      <a:lnTo>
                        <a:pt x="274" y="165"/>
                      </a:lnTo>
                      <a:lnTo>
                        <a:pt x="260" y="154"/>
                      </a:lnTo>
                      <a:lnTo>
                        <a:pt x="253" y="110"/>
                      </a:lnTo>
                      <a:lnTo>
                        <a:pt x="218" y="110"/>
                      </a:lnTo>
                      <a:lnTo>
                        <a:pt x="154" y="175"/>
                      </a:lnTo>
                      <a:lnTo>
                        <a:pt x="134" y="175"/>
                      </a:lnTo>
                      <a:lnTo>
                        <a:pt x="134" y="141"/>
                      </a:lnTo>
                      <a:lnTo>
                        <a:pt x="163" y="103"/>
                      </a:lnTo>
                      <a:lnTo>
                        <a:pt x="62" y="79"/>
                      </a:lnTo>
                      <a:lnTo>
                        <a:pt x="62" y="117"/>
                      </a:lnTo>
                      <a:lnTo>
                        <a:pt x="90" y="161"/>
                      </a:lnTo>
                      <a:lnTo>
                        <a:pt x="29" y="117"/>
                      </a:lnTo>
                      <a:lnTo>
                        <a:pt x="0" y="55"/>
                      </a:lnTo>
                      <a:lnTo>
                        <a:pt x="7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5095800" y="5112000"/>
                  <a:ext cx="8280" cy="5760"/>
                </a:xfrm>
                <a:custGeom>
                  <a:avLst/>
                  <a:gdLst/>
                  <a:ahLst/>
                  <a:rect l="l" t="t" r="r" b="b"/>
                  <a:pathLst>
                    <a:path w="96" h="60">
                      <a:moveTo>
                        <a:pt x="13" y="0"/>
                      </a:moveTo>
                      <a:lnTo>
                        <a:pt x="96" y="35"/>
                      </a:lnTo>
                      <a:lnTo>
                        <a:pt x="96" y="57"/>
                      </a:lnTo>
                      <a:lnTo>
                        <a:pt x="72" y="60"/>
                      </a:lnTo>
                      <a:lnTo>
                        <a:pt x="4" y="29"/>
                      </a:lnTo>
                      <a:lnTo>
                        <a:pt x="0" y="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5122080" y="5064480"/>
                  <a:ext cx="54360" cy="50400"/>
                </a:xfrm>
                <a:custGeom>
                  <a:avLst/>
                  <a:gdLst/>
                  <a:ahLst/>
                  <a:rect l="l" t="t" r="r" b="b"/>
                  <a:pathLst>
                    <a:path w="655" h="483">
                      <a:moveTo>
                        <a:pt x="0" y="132"/>
                      </a:moveTo>
                      <a:lnTo>
                        <a:pt x="41" y="279"/>
                      </a:lnTo>
                      <a:lnTo>
                        <a:pt x="103" y="351"/>
                      </a:lnTo>
                      <a:lnTo>
                        <a:pt x="103" y="473"/>
                      </a:lnTo>
                      <a:lnTo>
                        <a:pt x="161" y="362"/>
                      </a:lnTo>
                      <a:lnTo>
                        <a:pt x="364" y="483"/>
                      </a:lnTo>
                      <a:lnTo>
                        <a:pt x="521" y="376"/>
                      </a:lnTo>
                      <a:lnTo>
                        <a:pt x="352" y="376"/>
                      </a:lnTo>
                      <a:lnTo>
                        <a:pt x="297" y="356"/>
                      </a:lnTo>
                      <a:lnTo>
                        <a:pt x="224" y="356"/>
                      </a:lnTo>
                      <a:lnTo>
                        <a:pt x="217" y="332"/>
                      </a:lnTo>
                      <a:lnTo>
                        <a:pt x="329" y="314"/>
                      </a:lnTo>
                      <a:lnTo>
                        <a:pt x="329" y="259"/>
                      </a:lnTo>
                      <a:lnTo>
                        <a:pt x="391" y="224"/>
                      </a:lnTo>
                      <a:lnTo>
                        <a:pt x="323" y="224"/>
                      </a:lnTo>
                      <a:lnTo>
                        <a:pt x="308" y="208"/>
                      </a:lnTo>
                      <a:lnTo>
                        <a:pt x="426" y="160"/>
                      </a:lnTo>
                      <a:lnTo>
                        <a:pt x="479" y="107"/>
                      </a:lnTo>
                      <a:lnTo>
                        <a:pt x="631" y="169"/>
                      </a:lnTo>
                      <a:lnTo>
                        <a:pt x="655" y="160"/>
                      </a:lnTo>
                      <a:lnTo>
                        <a:pt x="527" y="0"/>
                      </a:lnTo>
                      <a:lnTo>
                        <a:pt x="479" y="0"/>
                      </a:lnTo>
                      <a:lnTo>
                        <a:pt x="290" y="99"/>
                      </a:lnTo>
                      <a:lnTo>
                        <a:pt x="140" y="187"/>
                      </a:lnTo>
                      <a:lnTo>
                        <a:pt x="134" y="238"/>
                      </a:lnTo>
                      <a:lnTo>
                        <a:pt x="90" y="245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5152680" y="508788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191" h="81">
                      <a:moveTo>
                        <a:pt x="0" y="0"/>
                      </a:moveTo>
                      <a:lnTo>
                        <a:pt x="34" y="65"/>
                      </a:lnTo>
                      <a:lnTo>
                        <a:pt x="20" y="81"/>
                      </a:lnTo>
                      <a:lnTo>
                        <a:pt x="176" y="72"/>
                      </a:lnTo>
                      <a:lnTo>
                        <a:pt x="191" y="50"/>
                      </a:lnTo>
                      <a:lnTo>
                        <a:pt x="101" y="0"/>
                      </a:lnTo>
                      <a:lnTo>
                        <a:pt x="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5117400" y="5139000"/>
                  <a:ext cx="32400" cy="24480"/>
                </a:xfrm>
                <a:custGeom>
                  <a:avLst/>
                  <a:gdLst/>
                  <a:ahLst/>
                  <a:rect l="l" t="t" r="r" b="b"/>
                  <a:pathLst>
                    <a:path w="396" h="226">
                      <a:moveTo>
                        <a:pt x="0" y="41"/>
                      </a:moveTo>
                      <a:lnTo>
                        <a:pt x="69" y="83"/>
                      </a:lnTo>
                      <a:lnTo>
                        <a:pt x="136" y="83"/>
                      </a:lnTo>
                      <a:lnTo>
                        <a:pt x="228" y="14"/>
                      </a:lnTo>
                      <a:lnTo>
                        <a:pt x="297" y="0"/>
                      </a:lnTo>
                      <a:lnTo>
                        <a:pt x="302" y="14"/>
                      </a:lnTo>
                      <a:lnTo>
                        <a:pt x="339" y="26"/>
                      </a:lnTo>
                      <a:lnTo>
                        <a:pt x="396" y="14"/>
                      </a:lnTo>
                      <a:lnTo>
                        <a:pt x="359" y="63"/>
                      </a:lnTo>
                      <a:lnTo>
                        <a:pt x="219" y="109"/>
                      </a:lnTo>
                      <a:lnTo>
                        <a:pt x="214" y="180"/>
                      </a:lnTo>
                      <a:lnTo>
                        <a:pt x="168" y="226"/>
                      </a:lnTo>
                      <a:lnTo>
                        <a:pt x="99" y="118"/>
                      </a:lnTo>
                      <a:lnTo>
                        <a:pt x="46" y="104"/>
                      </a:lnTo>
                      <a:lnTo>
                        <a:pt x="0" y="6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5135400" y="512640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155" h="58">
                      <a:moveTo>
                        <a:pt x="0" y="58"/>
                      </a:moveTo>
                      <a:lnTo>
                        <a:pt x="106" y="32"/>
                      </a:lnTo>
                      <a:lnTo>
                        <a:pt x="155" y="44"/>
                      </a:lnTo>
                      <a:lnTo>
                        <a:pt x="106" y="0"/>
                      </a:lnTo>
                      <a:lnTo>
                        <a:pt x="41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5150160" y="5133960"/>
                  <a:ext cx="27000" cy="48240"/>
                </a:xfrm>
                <a:custGeom>
                  <a:avLst/>
                  <a:gdLst/>
                  <a:ahLst/>
                  <a:rect l="l" t="t" r="r" b="b"/>
                  <a:pathLst>
                    <a:path w="323" h="453">
                      <a:moveTo>
                        <a:pt x="0" y="0"/>
                      </a:moveTo>
                      <a:lnTo>
                        <a:pt x="7" y="54"/>
                      </a:lnTo>
                      <a:lnTo>
                        <a:pt x="84" y="119"/>
                      </a:lnTo>
                      <a:lnTo>
                        <a:pt x="169" y="229"/>
                      </a:lnTo>
                      <a:lnTo>
                        <a:pt x="99" y="275"/>
                      </a:lnTo>
                      <a:lnTo>
                        <a:pt x="209" y="453"/>
                      </a:lnTo>
                      <a:lnTo>
                        <a:pt x="282" y="453"/>
                      </a:lnTo>
                      <a:lnTo>
                        <a:pt x="323" y="299"/>
                      </a:lnTo>
                      <a:lnTo>
                        <a:pt x="308" y="250"/>
                      </a:lnTo>
                      <a:lnTo>
                        <a:pt x="224" y="222"/>
                      </a:lnTo>
                      <a:lnTo>
                        <a:pt x="205" y="119"/>
                      </a:lnTo>
                      <a:lnTo>
                        <a:pt x="104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5092920" y="5115960"/>
                  <a:ext cx="33480" cy="87840"/>
                </a:xfrm>
                <a:custGeom>
                  <a:avLst/>
                  <a:gdLst/>
                  <a:ahLst/>
                  <a:rect l="l" t="t" r="r" b="b"/>
                  <a:pathLst>
                    <a:path w="411" h="827">
                      <a:moveTo>
                        <a:pt x="290" y="272"/>
                      </a:moveTo>
                      <a:lnTo>
                        <a:pt x="197" y="272"/>
                      </a:lnTo>
                      <a:lnTo>
                        <a:pt x="121" y="230"/>
                      </a:lnTo>
                      <a:lnTo>
                        <a:pt x="51" y="167"/>
                      </a:lnTo>
                      <a:lnTo>
                        <a:pt x="0" y="0"/>
                      </a:lnTo>
                      <a:lnTo>
                        <a:pt x="29" y="193"/>
                      </a:lnTo>
                      <a:lnTo>
                        <a:pt x="160" y="378"/>
                      </a:lnTo>
                      <a:lnTo>
                        <a:pt x="282" y="629"/>
                      </a:lnTo>
                      <a:lnTo>
                        <a:pt x="342" y="708"/>
                      </a:lnTo>
                      <a:lnTo>
                        <a:pt x="395" y="827"/>
                      </a:lnTo>
                      <a:lnTo>
                        <a:pt x="354" y="636"/>
                      </a:lnTo>
                      <a:lnTo>
                        <a:pt x="411" y="609"/>
                      </a:lnTo>
                      <a:lnTo>
                        <a:pt x="354" y="565"/>
                      </a:lnTo>
                      <a:lnTo>
                        <a:pt x="354" y="530"/>
                      </a:lnTo>
                      <a:lnTo>
                        <a:pt x="386" y="507"/>
                      </a:lnTo>
                      <a:lnTo>
                        <a:pt x="319" y="523"/>
                      </a:lnTo>
                      <a:lnTo>
                        <a:pt x="282" y="507"/>
                      </a:lnTo>
                      <a:lnTo>
                        <a:pt x="268" y="466"/>
                      </a:lnTo>
                      <a:lnTo>
                        <a:pt x="268" y="356"/>
                      </a:lnTo>
                      <a:lnTo>
                        <a:pt x="290" y="2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5128920" y="5161680"/>
                  <a:ext cx="30960" cy="7560"/>
                </a:xfrm>
                <a:custGeom>
                  <a:avLst/>
                  <a:gdLst/>
                  <a:ahLst/>
                  <a:rect l="l" t="t" r="r" b="b"/>
                  <a:pathLst>
                    <a:path w="381" h="76">
                      <a:moveTo>
                        <a:pt x="0" y="76"/>
                      </a:moveTo>
                      <a:lnTo>
                        <a:pt x="175" y="40"/>
                      </a:lnTo>
                      <a:lnTo>
                        <a:pt x="260" y="0"/>
                      </a:lnTo>
                      <a:lnTo>
                        <a:pt x="313" y="0"/>
                      </a:lnTo>
                      <a:lnTo>
                        <a:pt x="381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5131440" y="5172120"/>
                  <a:ext cx="25560" cy="20160"/>
                </a:xfrm>
                <a:custGeom>
                  <a:avLst/>
                  <a:gdLst/>
                  <a:ahLst/>
                  <a:rect l="l" t="t" r="r" b="b"/>
                  <a:pathLst>
                    <a:path w="316" h="191">
                      <a:moveTo>
                        <a:pt x="0" y="79"/>
                      </a:moveTo>
                      <a:lnTo>
                        <a:pt x="242" y="26"/>
                      </a:lnTo>
                      <a:lnTo>
                        <a:pt x="295" y="0"/>
                      </a:lnTo>
                      <a:lnTo>
                        <a:pt x="303" y="19"/>
                      </a:lnTo>
                      <a:lnTo>
                        <a:pt x="219" y="64"/>
                      </a:lnTo>
                      <a:lnTo>
                        <a:pt x="235" y="112"/>
                      </a:lnTo>
                      <a:lnTo>
                        <a:pt x="316" y="191"/>
                      </a:lnTo>
                      <a:lnTo>
                        <a:pt x="228" y="162"/>
                      </a:lnTo>
                      <a:lnTo>
                        <a:pt x="150" y="162"/>
                      </a:lnTo>
                      <a:lnTo>
                        <a:pt x="72" y="182"/>
                      </a:lnTo>
                      <a:lnTo>
                        <a:pt x="46" y="191"/>
                      </a:lnTo>
                      <a:lnTo>
                        <a:pt x="60" y="156"/>
                      </a:lnTo>
                      <a:lnTo>
                        <a:pt x="24" y="99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5065920" y="4984560"/>
                  <a:ext cx="141840" cy="109080"/>
                </a:xfrm>
                <a:custGeom>
                  <a:avLst/>
                  <a:gdLst/>
                  <a:ahLst/>
                  <a:rect l="l" t="t" r="r" b="b"/>
                  <a:pathLst>
                    <a:path w="1704" h="1028">
                      <a:moveTo>
                        <a:pt x="159" y="340"/>
                      </a:moveTo>
                      <a:lnTo>
                        <a:pt x="122" y="404"/>
                      </a:lnTo>
                      <a:lnTo>
                        <a:pt x="0" y="551"/>
                      </a:lnTo>
                      <a:lnTo>
                        <a:pt x="0" y="609"/>
                      </a:lnTo>
                      <a:lnTo>
                        <a:pt x="76" y="749"/>
                      </a:lnTo>
                      <a:lnTo>
                        <a:pt x="48" y="874"/>
                      </a:lnTo>
                      <a:lnTo>
                        <a:pt x="111" y="978"/>
                      </a:lnTo>
                      <a:lnTo>
                        <a:pt x="245" y="987"/>
                      </a:lnTo>
                      <a:lnTo>
                        <a:pt x="286" y="1028"/>
                      </a:lnTo>
                      <a:lnTo>
                        <a:pt x="252" y="692"/>
                      </a:lnTo>
                      <a:lnTo>
                        <a:pt x="252" y="588"/>
                      </a:lnTo>
                      <a:lnTo>
                        <a:pt x="265" y="507"/>
                      </a:lnTo>
                      <a:lnTo>
                        <a:pt x="286" y="457"/>
                      </a:lnTo>
                      <a:lnTo>
                        <a:pt x="408" y="507"/>
                      </a:lnTo>
                      <a:lnTo>
                        <a:pt x="555" y="529"/>
                      </a:lnTo>
                      <a:lnTo>
                        <a:pt x="738" y="529"/>
                      </a:lnTo>
                      <a:lnTo>
                        <a:pt x="966" y="507"/>
                      </a:lnTo>
                      <a:lnTo>
                        <a:pt x="851" y="503"/>
                      </a:lnTo>
                      <a:lnTo>
                        <a:pt x="708" y="434"/>
                      </a:lnTo>
                      <a:lnTo>
                        <a:pt x="865" y="441"/>
                      </a:lnTo>
                      <a:lnTo>
                        <a:pt x="992" y="434"/>
                      </a:lnTo>
                      <a:lnTo>
                        <a:pt x="1162" y="397"/>
                      </a:lnTo>
                      <a:lnTo>
                        <a:pt x="1280" y="349"/>
                      </a:lnTo>
                      <a:lnTo>
                        <a:pt x="1441" y="334"/>
                      </a:lnTo>
                      <a:lnTo>
                        <a:pt x="1513" y="362"/>
                      </a:lnTo>
                      <a:lnTo>
                        <a:pt x="1586" y="397"/>
                      </a:lnTo>
                      <a:lnTo>
                        <a:pt x="1644" y="397"/>
                      </a:lnTo>
                      <a:lnTo>
                        <a:pt x="1704" y="362"/>
                      </a:lnTo>
                      <a:lnTo>
                        <a:pt x="1634" y="272"/>
                      </a:lnTo>
                      <a:lnTo>
                        <a:pt x="1526" y="286"/>
                      </a:lnTo>
                      <a:lnTo>
                        <a:pt x="1441" y="259"/>
                      </a:lnTo>
                      <a:lnTo>
                        <a:pt x="1358" y="250"/>
                      </a:lnTo>
                      <a:lnTo>
                        <a:pt x="1280" y="279"/>
                      </a:lnTo>
                      <a:lnTo>
                        <a:pt x="1139" y="340"/>
                      </a:lnTo>
                      <a:lnTo>
                        <a:pt x="1014" y="371"/>
                      </a:lnTo>
                      <a:lnTo>
                        <a:pt x="878" y="378"/>
                      </a:lnTo>
                      <a:lnTo>
                        <a:pt x="766" y="384"/>
                      </a:lnTo>
                      <a:lnTo>
                        <a:pt x="590" y="362"/>
                      </a:lnTo>
                      <a:lnTo>
                        <a:pt x="696" y="334"/>
                      </a:lnTo>
                      <a:lnTo>
                        <a:pt x="570" y="318"/>
                      </a:lnTo>
                      <a:lnTo>
                        <a:pt x="443" y="291"/>
                      </a:lnTo>
                      <a:lnTo>
                        <a:pt x="379" y="265"/>
                      </a:lnTo>
                      <a:lnTo>
                        <a:pt x="482" y="226"/>
                      </a:lnTo>
                      <a:lnTo>
                        <a:pt x="300" y="201"/>
                      </a:lnTo>
                      <a:lnTo>
                        <a:pt x="265" y="173"/>
                      </a:lnTo>
                      <a:lnTo>
                        <a:pt x="258" y="145"/>
                      </a:lnTo>
                      <a:lnTo>
                        <a:pt x="265" y="102"/>
                      </a:lnTo>
                      <a:lnTo>
                        <a:pt x="295" y="54"/>
                      </a:lnTo>
                      <a:lnTo>
                        <a:pt x="373" y="0"/>
                      </a:lnTo>
                      <a:lnTo>
                        <a:pt x="217" y="67"/>
                      </a:lnTo>
                      <a:lnTo>
                        <a:pt x="60" y="164"/>
                      </a:lnTo>
                      <a:lnTo>
                        <a:pt x="69" y="189"/>
                      </a:lnTo>
                      <a:lnTo>
                        <a:pt x="118" y="286"/>
                      </a:lnTo>
                      <a:lnTo>
                        <a:pt x="159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5104440" y="4961160"/>
                  <a:ext cx="137160" cy="278640"/>
                </a:xfrm>
                <a:custGeom>
                  <a:avLst/>
                  <a:gdLst/>
                  <a:ahLst/>
                  <a:rect l="l" t="t" r="r" b="b"/>
                  <a:pathLst>
                    <a:path w="1658" h="2635">
                      <a:moveTo>
                        <a:pt x="7" y="196"/>
                      </a:moveTo>
                      <a:lnTo>
                        <a:pt x="0" y="216"/>
                      </a:lnTo>
                      <a:lnTo>
                        <a:pt x="14" y="231"/>
                      </a:lnTo>
                      <a:lnTo>
                        <a:pt x="58" y="251"/>
                      </a:lnTo>
                      <a:lnTo>
                        <a:pt x="106" y="260"/>
                      </a:lnTo>
                      <a:lnTo>
                        <a:pt x="185" y="260"/>
                      </a:lnTo>
                      <a:lnTo>
                        <a:pt x="291" y="244"/>
                      </a:lnTo>
                      <a:lnTo>
                        <a:pt x="208" y="279"/>
                      </a:lnTo>
                      <a:lnTo>
                        <a:pt x="114" y="292"/>
                      </a:lnTo>
                      <a:lnTo>
                        <a:pt x="35" y="292"/>
                      </a:lnTo>
                      <a:lnTo>
                        <a:pt x="35" y="315"/>
                      </a:lnTo>
                      <a:lnTo>
                        <a:pt x="58" y="341"/>
                      </a:lnTo>
                      <a:lnTo>
                        <a:pt x="114" y="366"/>
                      </a:lnTo>
                      <a:lnTo>
                        <a:pt x="185" y="354"/>
                      </a:lnTo>
                      <a:lnTo>
                        <a:pt x="231" y="385"/>
                      </a:lnTo>
                      <a:lnTo>
                        <a:pt x="226" y="398"/>
                      </a:lnTo>
                      <a:lnTo>
                        <a:pt x="185" y="420"/>
                      </a:lnTo>
                      <a:lnTo>
                        <a:pt x="141" y="426"/>
                      </a:lnTo>
                      <a:lnTo>
                        <a:pt x="220" y="435"/>
                      </a:lnTo>
                      <a:lnTo>
                        <a:pt x="354" y="435"/>
                      </a:lnTo>
                      <a:lnTo>
                        <a:pt x="510" y="414"/>
                      </a:lnTo>
                      <a:lnTo>
                        <a:pt x="611" y="385"/>
                      </a:lnTo>
                      <a:lnTo>
                        <a:pt x="487" y="426"/>
                      </a:lnTo>
                      <a:lnTo>
                        <a:pt x="345" y="456"/>
                      </a:lnTo>
                      <a:lnTo>
                        <a:pt x="244" y="475"/>
                      </a:lnTo>
                      <a:lnTo>
                        <a:pt x="305" y="504"/>
                      </a:lnTo>
                      <a:lnTo>
                        <a:pt x="437" y="523"/>
                      </a:lnTo>
                      <a:lnTo>
                        <a:pt x="543" y="532"/>
                      </a:lnTo>
                      <a:lnTo>
                        <a:pt x="662" y="532"/>
                      </a:lnTo>
                      <a:lnTo>
                        <a:pt x="741" y="511"/>
                      </a:lnTo>
                      <a:lnTo>
                        <a:pt x="625" y="475"/>
                      </a:lnTo>
                      <a:lnTo>
                        <a:pt x="824" y="398"/>
                      </a:lnTo>
                      <a:lnTo>
                        <a:pt x="763" y="370"/>
                      </a:lnTo>
                      <a:lnTo>
                        <a:pt x="875" y="378"/>
                      </a:lnTo>
                      <a:lnTo>
                        <a:pt x="945" y="414"/>
                      </a:lnTo>
                      <a:lnTo>
                        <a:pt x="1029" y="470"/>
                      </a:lnTo>
                      <a:lnTo>
                        <a:pt x="1095" y="511"/>
                      </a:lnTo>
                      <a:lnTo>
                        <a:pt x="1142" y="622"/>
                      </a:lnTo>
                      <a:lnTo>
                        <a:pt x="1204" y="622"/>
                      </a:lnTo>
                      <a:lnTo>
                        <a:pt x="1257" y="609"/>
                      </a:lnTo>
                      <a:lnTo>
                        <a:pt x="1296" y="580"/>
                      </a:lnTo>
                      <a:lnTo>
                        <a:pt x="1331" y="537"/>
                      </a:lnTo>
                      <a:lnTo>
                        <a:pt x="1354" y="511"/>
                      </a:lnTo>
                      <a:lnTo>
                        <a:pt x="1361" y="559"/>
                      </a:lnTo>
                      <a:lnTo>
                        <a:pt x="1347" y="609"/>
                      </a:lnTo>
                      <a:lnTo>
                        <a:pt x="1310" y="651"/>
                      </a:lnTo>
                      <a:lnTo>
                        <a:pt x="1382" y="651"/>
                      </a:lnTo>
                      <a:lnTo>
                        <a:pt x="1446" y="638"/>
                      </a:lnTo>
                      <a:lnTo>
                        <a:pt x="1485" y="651"/>
                      </a:lnTo>
                      <a:lnTo>
                        <a:pt x="1508" y="684"/>
                      </a:lnTo>
                      <a:lnTo>
                        <a:pt x="1523" y="765"/>
                      </a:lnTo>
                      <a:lnTo>
                        <a:pt x="1517" y="936"/>
                      </a:lnTo>
                      <a:lnTo>
                        <a:pt x="1543" y="996"/>
                      </a:lnTo>
                      <a:lnTo>
                        <a:pt x="1580" y="1030"/>
                      </a:lnTo>
                      <a:lnTo>
                        <a:pt x="1591" y="1073"/>
                      </a:lnTo>
                      <a:lnTo>
                        <a:pt x="1559" y="1073"/>
                      </a:lnTo>
                      <a:lnTo>
                        <a:pt x="1469" y="1014"/>
                      </a:lnTo>
                      <a:lnTo>
                        <a:pt x="1354" y="1009"/>
                      </a:lnTo>
                      <a:lnTo>
                        <a:pt x="1287" y="1095"/>
                      </a:lnTo>
                      <a:lnTo>
                        <a:pt x="1268" y="1226"/>
                      </a:lnTo>
                      <a:lnTo>
                        <a:pt x="1340" y="1284"/>
                      </a:lnTo>
                      <a:lnTo>
                        <a:pt x="1319" y="1457"/>
                      </a:lnTo>
                      <a:lnTo>
                        <a:pt x="1361" y="1374"/>
                      </a:lnTo>
                      <a:lnTo>
                        <a:pt x="1460" y="1330"/>
                      </a:lnTo>
                      <a:lnTo>
                        <a:pt x="1422" y="1240"/>
                      </a:lnTo>
                      <a:lnTo>
                        <a:pt x="1340" y="1219"/>
                      </a:lnTo>
                      <a:lnTo>
                        <a:pt x="1409" y="1143"/>
                      </a:lnTo>
                      <a:lnTo>
                        <a:pt x="1508" y="1212"/>
                      </a:lnTo>
                      <a:lnTo>
                        <a:pt x="1479" y="1106"/>
                      </a:lnTo>
                      <a:lnTo>
                        <a:pt x="1517" y="1095"/>
                      </a:lnTo>
                      <a:lnTo>
                        <a:pt x="1422" y="1099"/>
                      </a:lnTo>
                      <a:lnTo>
                        <a:pt x="1303" y="1189"/>
                      </a:lnTo>
                      <a:lnTo>
                        <a:pt x="1319" y="1099"/>
                      </a:lnTo>
                      <a:lnTo>
                        <a:pt x="1367" y="1035"/>
                      </a:lnTo>
                      <a:lnTo>
                        <a:pt x="1460" y="1035"/>
                      </a:lnTo>
                      <a:lnTo>
                        <a:pt x="1559" y="1095"/>
                      </a:lnTo>
                      <a:lnTo>
                        <a:pt x="1564" y="1198"/>
                      </a:lnTo>
                      <a:lnTo>
                        <a:pt x="1543" y="1316"/>
                      </a:lnTo>
                      <a:lnTo>
                        <a:pt x="1469" y="1435"/>
                      </a:lnTo>
                      <a:lnTo>
                        <a:pt x="1446" y="1519"/>
                      </a:lnTo>
                      <a:lnTo>
                        <a:pt x="1361" y="1560"/>
                      </a:lnTo>
                      <a:lnTo>
                        <a:pt x="1296" y="1493"/>
                      </a:lnTo>
                      <a:lnTo>
                        <a:pt x="1220" y="1968"/>
                      </a:lnTo>
                      <a:lnTo>
                        <a:pt x="1163" y="2261"/>
                      </a:lnTo>
                      <a:lnTo>
                        <a:pt x="939" y="2501"/>
                      </a:lnTo>
                      <a:lnTo>
                        <a:pt x="851" y="2635"/>
                      </a:lnTo>
                      <a:lnTo>
                        <a:pt x="958" y="2492"/>
                      </a:lnTo>
                      <a:lnTo>
                        <a:pt x="1257" y="2174"/>
                      </a:lnTo>
                      <a:lnTo>
                        <a:pt x="1446" y="1827"/>
                      </a:lnTo>
                      <a:lnTo>
                        <a:pt x="1430" y="1807"/>
                      </a:lnTo>
                      <a:lnTo>
                        <a:pt x="1382" y="1811"/>
                      </a:lnTo>
                      <a:lnTo>
                        <a:pt x="1384" y="1730"/>
                      </a:lnTo>
                      <a:lnTo>
                        <a:pt x="1494" y="1701"/>
                      </a:lnTo>
                      <a:lnTo>
                        <a:pt x="1494" y="1624"/>
                      </a:lnTo>
                      <a:lnTo>
                        <a:pt x="1591" y="1592"/>
                      </a:lnTo>
                      <a:lnTo>
                        <a:pt x="1619" y="1457"/>
                      </a:lnTo>
                      <a:lnTo>
                        <a:pt x="1658" y="1394"/>
                      </a:lnTo>
                      <a:lnTo>
                        <a:pt x="1580" y="1350"/>
                      </a:lnTo>
                      <a:lnTo>
                        <a:pt x="1573" y="1306"/>
                      </a:lnTo>
                      <a:lnTo>
                        <a:pt x="1591" y="1240"/>
                      </a:lnTo>
                      <a:lnTo>
                        <a:pt x="1591" y="1154"/>
                      </a:lnTo>
                      <a:lnTo>
                        <a:pt x="1580" y="1122"/>
                      </a:lnTo>
                      <a:lnTo>
                        <a:pt x="1642" y="1143"/>
                      </a:lnTo>
                      <a:lnTo>
                        <a:pt x="1619" y="1057"/>
                      </a:lnTo>
                      <a:lnTo>
                        <a:pt x="1564" y="967"/>
                      </a:lnTo>
                      <a:lnTo>
                        <a:pt x="1550" y="897"/>
                      </a:lnTo>
                      <a:lnTo>
                        <a:pt x="1550" y="813"/>
                      </a:lnTo>
                      <a:lnTo>
                        <a:pt x="1543" y="741"/>
                      </a:lnTo>
                      <a:lnTo>
                        <a:pt x="1550" y="700"/>
                      </a:lnTo>
                      <a:lnTo>
                        <a:pt x="1501" y="580"/>
                      </a:lnTo>
                      <a:lnTo>
                        <a:pt x="1418" y="462"/>
                      </a:lnTo>
                      <a:lnTo>
                        <a:pt x="1326" y="389"/>
                      </a:lnTo>
                      <a:lnTo>
                        <a:pt x="1257" y="341"/>
                      </a:lnTo>
                      <a:lnTo>
                        <a:pt x="1227" y="225"/>
                      </a:lnTo>
                      <a:lnTo>
                        <a:pt x="1137" y="147"/>
                      </a:lnTo>
                      <a:lnTo>
                        <a:pt x="1044" y="119"/>
                      </a:lnTo>
                      <a:lnTo>
                        <a:pt x="909" y="40"/>
                      </a:lnTo>
                      <a:lnTo>
                        <a:pt x="747" y="0"/>
                      </a:lnTo>
                      <a:lnTo>
                        <a:pt x="584" y="4"/>
                      </a:lnTo>
                      <a:lnTo>
                        <a:pt x="427" y="36"/>
                      </a:lnTo>
                      <a:lnTo>
                        <a:pt x="298" y="97"/>
                      </a:lnTo>
                      <a:lnTo>
                        <a:pt x="127" y="161"/>
                      </a:lnTo>
                      <a:lnTo>
                        <a:pt x="7" y="1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5168520" y="5017680"/>
                  <a:ext cx="37080" cy="37080"/>
                </a:xfrm>
                <a:custGeom>
                  <a:avLst/>
                  <a:gdLst/>
                  <a:ahLst/>
                  <a:rect l="l" t="t" r="r" b="b"/>
                  <a:pathLst>
                    <a:path w="445" h="358">
                      <a:moveTo>
                        <a:pt x="141" y="27"/>
                      </a:moveTo>
                      <a:lnTo>
                        <a:pt x="69" y="48"/>
                      </a:lnTo>
                      <a:lnTo>
                        <a:pt x="0" y="113"/>
                      </a:lnTo>
                      <a:lnTo>
                        <a:pt x="84" y="113"/>
                      </a:lnTo>
                      <a:lnTo>
                        <a:pt x="42" y="209"/>
                      </a:lnTo>
                      <a:lnTo>
                        <a:pt x="93" y="233"/>
                      </a:lnTo>
                      <a:lnTo>
                        <a:pt x="127" y="358"/>
                      </a:lnTo>
                      <a:lnTo>
                        <a:pt x="115" y="222"/>
                      </a:lnTo>
                      <a:lnTo>
                        <a:pt x="163" y="180"/>
                      </a:lnTo>
                      <a:lnTo>
                        <a:pt x="240" y="161"/>
                      </a:lnTo>
                      <a:lnTo>
                        <a:pt x="316" y="161"/>
                      </a:lnTo>
                      <a:lnTo>
                        <a:pt x="385" y="173"/>
                      </a:lnTo>
                      <a:lnTo>
                        <a:pt x="445" y="209"/>
                      </a:lnTo>
                      <a:lnTo>
                        <a:pt x="374" y="161"/>
                      </a:lnTo>
                      <a:lnTo>
                        <a:pt x="268" y="134"/>
                      </a:lnTo>
                      <a:lnTo>
                        <a:pt x="189" y="134"/>
                      </a:lnTo>
                      <a:lnTo>
                        <a:pt x="99" y="161"/>
                      </a:lnTo>
                      <a:lnTo>
                        <a:pt x="106" y="119"/>
                      </a:lnTo>
                      <a:lnTo>
                        <a:pt x="150" y="90"/>
                      </a:lnTo>
                      <a:lnTo>
                        <a:pt x="62" y="90"/>
                      </a:lnTo>
                      <a:lnTo>
                        <a:pt x="99" y="64"/>
                      </a:lnTo>
                      <a:lnTo>
                        <a:pt x="163" y="33"/>
                      </a:lnTo>
                      <a:lnTo>
                        <a:pt x="219" y="42"/>
                      </a:lnTo>
                      <a:lnTo>
                        <a:pt x="316" y="64"/>
                      </a:lnTo>
                      <a:lnTo>
                        <a:pt x="247" y="20"/>
                      </a:lnTo>
                      <a:lnTo>
                        <a:pt x="163" y="0"/>
                      </a:lnTo>
                      <a:lnTo>
                        <a:pt x="1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5180400" y="5060880"/>
                  <a:ext cx="31680" cy="32040"/>
                </a:xfrm>
                <a:custGeom>
                  <a:avLst/>
                  <a:gdLst/>
                  <a:ahLst/>
                  <a:rect l="l" t="t" r="r" b="b"/>
                  <a:pathLst>
                    <a:path w="387" h="303">
                      <a:moveTo>
                        <a:pt x="22" y="18"/>
                      </a:moveTo>
                      <a:lnTo>
                        <a:pt x="115" y="0"/>
                      </a:lnTo>
                      <a:lnTo>
                        <a:pt x="191" y="18"/>
                      </a:lnTo>
                      <a:lnTo>
                        <a:pt x="244" y="53"/>
                      </a:lnTo>
                      <a:lnTo>
                        <a:pt x="281" y="92"/>
                      </a:lnTo>
                      <a:lnTo>
                        <a:pt x="288" y="138"/>
                      </a:lnTo>
                      <a:lnTo>
                        <a:pt x="281" y="156"/>
                      </a:lnTo>
                      <a:lnTo>
                        <a:pt x="255" y="152"/>
                      </a:lnTo>
                      <a:lnTo>
                        <a:pt x="219" y="130"/>
                      </a:lnTo>
                      <a:lnTo>
                        <a:pt x="175" y="92"/>
                      </a:lnTo>
                      <a:lnTo>
                        <a:pt x="127" y="87"/>
                      </a:lnTo>
                      <a:lnTo>
                        <a:pt x="172" y="152"/>
                      </a:lnTo>
                      <a:lnTo>
                        <a:pt x="191" y="207"/>
                      </a:lnTo>
                      <a:lnTo>
                        <a:pt x="182" y="260"/>
                      </a:lnTo>
                      <a:lnTo>
                        <a:pt x="360" y="290"/>
                      </a:lnTo>
                      <a:lnTo>
                        <a:pt x="387" y="303"/>
                      </a:lnTo>
                      <a:lnTo>
                        <a:pt x="147" y="276"/>
                      </a:lnTo>
                      <a:lnTo>
                        <a:pt x="163" y="239"/>
                      </a:lnTo>
                      <a:lnTo>
                        <a:pt x="156" y="191"/>
                      </a:lnTo>
                      <a:lnTo>
                        <a:pt x="121" y="130"/>
                      </a:lnTo>
                      <a:lnTo>
                        <a:pt x="83" y="87"/>
                      </a:lnTo>
                      <a:lnTo>
                        <a:pt x="16" y="53"/>
                      </a:lnTo>
                      <a:lnTo>
                        <a:pt x="0" y="9"/>
                      </a:lnTo>
                      <a:lnTo>
                        <a:pt x="22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5187240" y="5089680"/>
                  <a:ext cx="17640" cy="33480"/>
                </a:xfrm>
                <a:custGeom>
                  <a:avLst/>
                  <a:gdLst/>
                  <a:ahLst/>
                  <a:rect l="l" t="t" r="r" b="b"/>
                  <a:pathLst>
                    <a:path w="214" h="313">
                      <a:moveTo>
                        <a:pt x="89" y="0"/>
                      </a:moveTo>
                      <a:lnTo>
                        <a:pt x="0" y="179"/>
                      </a:lnTo>
                      <a:lnTo>
                        <a:pt x="9" y="313"/>
                      </a:lnTo>
                      <a:lnTo>
                        <a:pt x="214" y="65"/>
                      </a:lnTo>
                      <a:lnTo>
                        <a:pt x="214" y="14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5127480" y="5175360"/>
                  <a:ext cx="70920" cy="67680"/>
                </a:xfrm>
                <a:custGeom>
                  <a:avLst/>
                  <a:gdLst/>
                  <a:ahLst/>
                  <a:rect l="l" t="t" r="r" b="b"/>
                  <a:pathLst>
                    <a:path w="857" h="640">
                      <a:moveTo>
                        <a:pt x="857" y="0"/>
                      </a:moveTo>
                      <a:lnTo>
                        <a:pt x="749" y="53"/>
                      </a:lnTo>
                      <a:lnTo>
                        <a:pt x="648" y="198"/>
                      </a:lnTo>
                      <a:lnTo>
                        <a:pt x="514" y="187"/>
                      </a:lnTo>
                      <a:lnTo>
                        <a:pt x="470" y="260"/>
                      </a:lnTo>
                      <a:lnTo>
                        <a:pt x="415" y="297"/>
                      </a:lnTo>
                      <a:lnTo>
                        <a:pt x="276" y="288"/>
                      </a:lnTo>
                      <a:lnTo>
                        <a:pt x="186" y="321"/>
                      </a:lnTo>
                      <a:lnTo>
                        <a:pt x="118" y="345"/>
                      </a:lnTo>
                      <a:lnTo>
                        <a:pt x="48" y="345"/>
                      </a:lnTo>
                      <a:lnTo>
                        <a:pt x="0" y="317"/>
                      </a:lnTo>
                      <a:lnTo>
                        <a:pt x="48" y="359"/>
                      </a:lnTo>
                      <a:lnTo>
                        <a:pt x="105" y="366"/>
                      </a:lnTo>
                      <a:lnTo>
                        <a:pt x="223" y="366"/>
                      </a:lnTo>
                      <a:lnTo>
                        <a:pt x="294" y="391"/>
                      </a:lnTo>
                      <a:lnTo>
                        <a:pt x="382" y="514"/>
                      </a:lnTo>
                      <a:lnTo>
                        <a:pt x="507" y="611"/>
                      </a:lnTo>
                      <a:lnTo>
                        <a:pt x="527" y="640"/>
                      </a:lnTo>
                      <a:lnTo>
                        <a:pt x="564" y="615"/>
                      </a:lnTo>
                      <a:lnTo>
                        <a:pt x="555" y="550"/>
                      </a:lnTo>
                      <a:lnTo>
                        <a:pt x="544" y="461"/>
                      </a:lnTo>
                      <a:lnTo>
                        <a:pt x="555" y="380"/>
                      </a:lnTo>
                      <a:lnTo>
                        <a:pt x="569" y="327"/>
                      </a:lnTo>
                      <a:lnTo>
                        <a:pt x="630" y="267"/>
                      </a:lnTo>
                      <a:lnTo>
                        <a:pt x="685" y="226"/>
                      </a:lnTo>
                      <a:lnTo>
                        <a:pt x="738" y="132"/>
                      </a:lnTo>
                      <a:lnTo>
                        <a:pt x="800" y="57"/>
                      </a:lnTo>
                      <a:lnTo>
                        <a:pt x="8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5182560" y="5134680"/>
                  <a:ext cx="5760" cy="36000"/>
                </a:xfrm>
                <a:custGeom>
                  <a:avLst/>
                  <a:gdLst/>
                  <a:ahLst/>
                  <a:rect l="l" t="t" r="r" b="b"/>
                  <a:pathLst>
                    <a:path w="72" h="339">
                      <a:moveTo>
                        <a:pt x="56" y="0"/>
                      </a:moveTo>
                      <a:lnTo>
                        <a:pt x="0" y="339"/>
                      </a:lnTo>
                      <a:lnTo>
                        <a:pt x="72" y="117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5109480" y="5051880"/>
                  <a:ext cx="62280" cy="19080"/>
                </a:xfrm>
                <a:custGeom>
                  <a:avLst/>
                  <a:gdLst/>
                  <a:ahLst/>
                  <a:rect l="l" t="t" r="r" b="b"/>
                  <a:pathLst>
                    <a:path w="747" h="189">
                      <a:moveTo>
                        <a:pt x="0" y="189"/>
                      </a:moveTo>
                      <a:lnTo>
                        <a:pt x="38" y="145"/>
                      </a:lnTo>
                      <a:lnTo>
                        <a:pt x="95" y="117"/>
                      </a:lnTo>
                      <a:lnTo>
                        <a:pt x="189" y="97"/>
                      </a:lnTo>
                      <a:lnTo>
                        <a:pt x="341" y="78"/>
                      </a:lnTo>
                      <a:lnTo>
                        <a:pt x="460" y="39"/>
                      </a:lnTo>
                      <a:lnTo>
                        <a:pt x="581" y="0"/>
                      </a:lnTo>
                      <a:lnTo>
                        <a:pt x="664" y="0"/>
                      </a:lnTo>
                      <a:lnTo>
                        <a:pt x="715" y="29"/>
                      </a:lnTo>
                      <a:lnTo>
                        <a:pt x="747" y="4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5123520" y="5044680"/>
                  <a:ext cx="46440" cy="11880"/>
                </a:xfrm>
                <a:custGeom>
                  <a:avLst/>
                  <a:gdLst/>
                  <a:ahLst/>
                  <a:rect l="l" t="t" r="r" b="b"/>
                  <a:pathLst>
                    <a:path w="563" h="118">
                      <a:moveTo>
                        <a:pt x="0" y="118"/>
                      </a:moveTo>
                      <a:lnTo>
                        <a:pt x="134" y="94"/>
                      </a:lnTo>
                      <a:lnTo>
                        <a:pt x="266" y="41"/>
                      </a:lnTo>
                      <a:lnTo>
                        <a:pt x="362" y="4"/>
                      </a:lnTo>
                      <a:lnTo>
                        <a:pt x="436" y="0"/>
                      </a:lnTo>
                      <a:lnTo>
                        <a:pt x="496" y="17"/>
                      </a:lnTo>
                      <a:lnTo>
                        <a:pt x="563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5140800" y="5038920"/>
                  <a:ext cx="23040" cy="5760"/>
                </a:xfrm>
                <a:custGeom>
                  <a:avLst/>
                  <a:gdLst/>
                  <a:ahLst/>
                  <a:rect l="l" t="t" r="r" b="b"/>
                  <a:pathLst>
                    <a:path w="279" h="62">
                      <a:moveTo>
                        <a:pt x="0" y="62"/>
                      </a:moveTo>
                      <a:lnTo>
                        <a:pt x="161" y="7"/>
                      </a:lnTo>
                      <a:lnTo>
                        <a:pt x="223" y="0"/>
                      </a:lnTo>
                      <a:lnTo>
                        <a:pt x="279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5167440" y="5076360"/>
                  <a:ext cx="8280" cy="13320"/>
                </a:xfrm>
                <a:custGeom>
                  <a:avLst/>
                  <a:gdLst/>
                  <a:ahLst/>
                  <a:rect l="l" t="t" r="r" b="b"/>
                  <a:pathLst>
                    <a:path w="105" h="128">
                      <a:moveTo>
                        <a:pt x="0" y="0"/>
                      </a:moveTo>
                      <a:lnTo>
                        <a:pt x="0" y="101"/>
                      </a:lnTo>
                      <a:lnTo>
                        <a:pt x="52" y="128"/>
                      </a:lnTo>
                      <a:lnTo>
                        <a:pt x="105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5252760" y="5247360"/>
                  <a:ext cx="176040" cy="399960"/>
                </a:xfrm>
                <a:custGeom>
                  <a:avLst/>
                  <a:gdLst/>
                  <a:ahLst/>
                  <a:rect l="l" t="t" r="r" b="b"/>
                  <a:pathLst>
                    <a:path w="2124" h="3774">
                      <a:moveTo>
                        <a:pt x="1483" y="509"/>
                      </a:moveTo>
                      <a:lnTo>
                        <a:pt x="1612" y="966"/>
                      </a:lnTo>
                      <a:lnTo>
                        <a:pt x="1929" y="1474"/>
                      </a:lnTo>
                      <a:lnTo>
                        <a:pt x="1810" y="2116"/>
                      </a:lnTo>
                      <a:lnTo>
                        <a:pt x="2124" y="3119"/>
                      </a:lnTo>
                      <a:lnTo>
                        <a:pt x="2124" y="3774"/>
                      </a:lnTo>
                      <a:lnTo>
                        <a:pt x="916" y="3766"/>
                      </a:lnTo>
                      <a:lnTo>
                        <a:pt x="0" y="3302"/>
                      </a:lnTo>
                      <a:lnTo>
                        <a:pt x="499" y="2990"/>
                      </a:lnTo>
                      <a:lnTo>
                        <a:pt x="510" y="2782"/>
                      </a:lnTo>
                      <a:lnTo>
                        <a:pt x="589" y="2443"/>
                      </a:lnTo>
                      <a:lnTo>
                        <a:pt x="589" y="2755"/>
                      </a:lnTo>
                      <a:lnTo>
                        <a:pt x="932" y="2375"/>
                      </a:lnTo>
                      <a:lnTo>
                        <a:pt x="995" y="2285"/>
                      </a:lnTo>
                      <a:lnTo>
                        <a:pt x="1024" y="2116"/>
                      </a:lnTo>
                      <a:lnTo>
                        <a:pt x="1063" y="1931"/>
                      </a:lnTo>
                      <a:lnTo>
                        <a:pt x="1301" y="1946"/>
                      </a:lnTo>
                      <a:lnTo>
                        <a:pt x="1377" y="1812"/>
                      </a:lnTo>
                      <a:lnTo>
                        <a:pt x="1206" y="1501"/>
                      </a:lnTo>
                      <a:lnTo>
                        <a:pt x="1377" y="1501"/>
                      </a:lnTo>
                      <a:lnTo>
                        <a:pt x="1377" y="1434"/>
                      </a:lnTo>
                      <a:lnTo>
                        <a:pt x="1232" y="1265"/>
                      </a:lnTo>
                      <a:lnTo>
                        <a:pt x="1246" y="1148"/>
                      </a:lnTo>
                      <a:lnTo>
                        <a:pt x="1457" y="966"/>
                      </a:lnTo>
                      <a:lnTo>
                        <a:pt x="1470" y="717"/>
                      </a:lnTo>
                      <a:lnTo>
                        <a:pt x="1351" y="496"/>
                      </a:lnTo>
                      <a:lnTo>
                        <a:pt x="1324" y="258"/>
                      </a:lnTo>
                      <a:lnTo>
                        <a:pt x="1206" y="0"/>
                      </a:lnTo>
                      <a:lnTo>
                        <a:pt x="1419" y="351"/>
                      </a:lnTo>
                      <a:lnTo>
                        <a:pt x="1483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5225760" y="514836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734" h="874">
                      <a:moveTo>
                        <a:pt x="38" y="65"/>
                      </a:moveTo>
                      <a:lnTo>
                        <a:pt x="156" y="301"/>
                      </a:lnTo>
                      <a:lnTo>
                        <a:pt x="0" y="874"/>
                      </a:lnTo>
                      <a:lnTo>
                        <a:pt x="220" y="222"/>
                      </a:lnTo>
                      <a:lnTo>
                        <a:pt x="220" y="158"/>
                      </a:lnTo>
                      <a:lnTo>
                        <a:pt x="195" y="106"/>
                      </a:lnTo>
                      <a:lnTo>
                        <a:pt x="328" y="158"/>
                      </a:lnTo>
                      <a:lnTo>
                        <a:pt x="420" y="250"/>
                      </a:lnTo>
                      <a:lnTo>
                        <a:pt x="446" y="367"/>
                      </a:lnTo>
                      <a:lnTo>
                        <a:pt x="378" y="547"/>
                      </a:lnTo>
                      <a:lnTo>
                        <a:pt x="486" y="404"/>
                      </a:lnTo>
                      <a:lnTo>
                        <a:pt x="576" y="433"/>
                      </a:lnTo>
                      <a:lnTo>
                        <a:pt x="290" y="874"/>
                      </a:lnTo>
                      <a:lnTo>
                        <a:pt x="734" y="378"/>
                      </a:lnTo>
                      <a:lnTo>
                        <a:pt x="681" y="325"/>
                      </a:lnTo>
                      <a:lnTo>
                        <a:pt x="617" y="367"/>
                      </a:lnTo>
                      <a:lnTo>
                        <a:pt x="499" y="339"/>
                      </a:lnTo>
                      <a:lnTo>
                        <a:pt x="472" y="235"/>
                      </a:lnTo>
                      <a:lnTo>
                        <a:pt x="393" y="158"/>
                      </a:lnTo>
                      <a:lnTo>
                        <a:pt x="248" y="79"/>
                      </a:lnTo>
                      <a:lnTo>
                        <a:pt x="156" y="79"/>
                      </a:lnTo>
                      <a:lnTo>
                        <a:pt x="0" y="0"/>
                      </a:lnTo>
                      <a:lnTo>
                        <a:pt x="38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5296680" y="5192280"/>
                  <a:ext cx="52920" cy="52200"/>
                </a:xfrm>
                <a:custGeom>
                  <a:avLst/>
                  <a:gdLst/>
                  <a:ahLst/>
                  <a:rect l="l" t="t" r="r" b="b"/>
                  <a:pathLst>
                    <a:path w="643" h="496">
                      <a:moveTo>
                        <a:pt x="0" y="0"/>
                      </a:moveTo>
                      <a:lnTo>
                        <a:pt x="198" y="94"/>
                      </a:lnTo>
                      <a:lnTo>
                        <a:pt x="420" y="168"/>
                      </a:lnTo>
                      <a:lnTo>
                        <a:pt x="643" y="496"/>
                      </a:lnTo>
                      <a:lnTo>
                        <a:pt x="500" y="442"/>
                      </a:lnTo>
                      <a:lnTo>
                        <a:pt x="408" y="2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5155200" y="5246640"/>
                  <a:ext cx="54720" cy="258480"/>
                </a:xfrm>
                <a:custGeom>
                  <a:avLst/>
                  <a:gdLst/>
                  <a:ahLst/>
                  <a:rect l="l" t="t" r="r" b="b"/>
                  <a:pathLst>
                    <a:path w="667" h="2442">
                      <a:moveTo>
                        <a:pt x="208" y="0"/>
                      </a:moveTo>
                      <a:lnTo>
                        <a:pt x="208" y="88"/>
                      </a:lnTo>
                      <a:lnTo>
                        <a:pt x="618" y="326"/>
                      </a:lnTo>
                      <a:lnTo>
                        <a:pt x="272" y="194"/>
                      </a:lnTo>
                      <a:lnTo>
                        <a:pt x="208" y="440"/>
                      </a:lnTo>
                      <a:lnTo>
                        <a:pt x="272" y="625"/>
                      </a:lnTo>
                      <a:lnTo>
                        <a:pt x="272" y="794"/>
                      </a:lnTo>
                      <a:lnTo>
                        <a:pt x="208" y="1190"/>
                      </a:lnTo>
                      <a:lnTo>
                        <a:pt x="153" y="1543"/>
                      </a:lnTo>
                      <a:lnTo>
                        <a:pt x="185" y="1734"/>
                      </a:lnTo>
                      <a:lnTo>
                        <a:pt x="314" y="1996"/>
                      </a:lnTo>
                      <a:lnTo>
                        <a:pt x="512" y="2218"/>
                      </a:lnTo>
                      <a:lnTo>
                        <a:pt x="667" y="2257"/>
                      </a:lnTo>
                      <a:lnTo>
                        <a:pt x="470" y="2242"/>
                      </a:lnTo>
                      <a:lnTo>
                        <a:pt x="404" y="2273"/>
                      </a:lnTo>
                      <a:lnTo>
                        <a:pt x="404" y="2442"/>
                      </a:lnTo>
                      <a:lnTo>
                        <a:pt x="272" y="2321"/>
                      </a:lnTo>
                      <a:lnTo>
                        <a:pt x="0" y="2400"/>
                      </a:lnTo>
                      <a:lnTo>
                        <a:pt x="245" y="2297"/>
                      </a:lnTo>
                      <a:lnTo>
                        <a:pt x="185" y="2089"/>
                      </a:lnTo>
                      <a:lnTo>
                        <a:pt x="129" y="1801"/>
                      </a:lnTo>
                      <a:lnTo>
                        <a:pt x="116" y="1501"/>
                      </a:lnTo>
                      <a:lnTo>
                        <a:pt x="143" y="1200"/>
                      </a:lnTo>
                      <a:lnTo>
                        <a:pt x="208" y="911"/>
                      </a:lnTo>
                      <a:lnTo>
                        <a:pt x="233" y="756"/>
                      </a:lnTo>
                      <a:lnTo>
                        <a:pt x="233" y="598"/>
                      </a:lnTo>
                      <a:lnTo>
                        <a:pt x="185" y="494"/>
                      </a:lnTo>
                      <a:lnTo>
                        <a:pt x="51" y="440"/>
                      </a:lnTo>
                      <a:lnTo>
                        <a:pt x="185" y="130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2" name=""/>
              <p:cNvSpPr/>
              <p:nvPr/>
            </p:nvSpPr>
            <p:spPr>
              <a:xfrm>
                <a:off x="5074560" y="5243040"/>
                <a:ext cx="90000" cy="258480"/>
              </a:xfrm>
              <a:custGeom>
                <a:avLst/>
                <a:gdLst/>
                <a:ahLst/>
                <a:rect l="l" t="t" r="r" b="b"/>
                <a:pathLst>
                  <a:path w="1088" h="2442">
                    <a:moveTo>
                      <a:pt x="1035" y="0"/>
                    </a:moveTo>
                    <a:lnTo>
                      <a:pt x="958" y="116"/>
                    </a:lnTo>
                    <a:lnTo>
                      <a:pt x="943" y="238"/>
                    </a:lnTo>
                    <a:lnTo>
                      <a:pt x="943" y="455"/>
                    </a:lnTo>
                    <a:lnTo>
                      <a:pt x="931" y="784"/>
                    </a:lnTo>
                    <a:lnTo>
                      <a:pt x="866" y="1292"/>
                    </a:lnTo>
                    <a:lnTo>
                      <a:pt x="838" y="1672"/>
                    </a:lnTo>
                    <a:lnTo>
                      <a:pt x="853" y="1894"/>
                    </a:lnTo>
                    <a:lnTo>
                      <a:pt x="890" y="2074"/>
                    </a:lnTo>
                    <a:lnTo>
                      <a:pt x="943" y="2207"/>
                    </a:lnTo>
                    <a:lnTo>
                      <a:pt x="1023" y="2338"/>
                    </a:lnTo>
                    <a:lnTo>
                      <a:pt x="1088" y="2378"/>
                    </a:lnTo>
                    <a:lnTo>
                      <a:pt x="980" y="2442"/>
                    </a:lnTo>
                    <a:lnTo>
                      <a:pt x="866" y="2442"/>
                    </a:lnTo>
                    <a:lnTo>
                      <a:pt x="866" y="2232"/>
                    </a:lnTo>
                    <a:lnTo>
                      <a:pt x="798" y="2052"/>
                    </a:lnTo>
                    <a:lnTo>
                      <a:pt x="576" y="1424"/>
                    </a:lnTo>
                    <a:lnTo>
                      <a:pt x="156" y="1488"/>
                    </a:lnTo>
                    <a:lnTo>
                      <a:pt x="75" y="1474"/>
                    </a:lnTo>
                    <a:lnTo>
                      <a:pt x="391" y="1345"/>
                    </a:lnTo>
                    <a:lnTo>
                      <a:pt x="341" y="1228"/>
                    </a:lnTo>
                    <a:lnTo>
                      <a:pt x="0" y="1228"/>
                    </a:lnTo>
                    <a:lnTo>
                      <a:pt x="260" y="1110"/>
                    </a:lnTo>
                    <a:lnTo>
                      <a:pt x="456" y="1096"/>
                    </a:lnTo>
                    <a:lnTo>
                      <a:pt x="417" y="849"/>
                    </a:lnTo>
                    <a:lnTo>
                      <a:pt x="798" y="1905"/>
                    </a:lnTo>
                    <a:lnTo>
                      <a:pt x="798" y="1608"/>
                    </a:lnTo>
                    <a:lnTo>
                      <a:pt x="838" y="1257"/>
                    </a:lnTo>
                    <a:lnTo>
                      <a:pt x="890" y="863"/>
                    </a:lnTo>
                    <a:lnTo>
                      <a:pt x="919" y="575"/>
                    </a:lnTo>
                    <a:lnTo>
                      <a:pt x="919" y="169"/>
                    </a:lnTo>
                    <a:lnTo>
                      <a:pt x="972" y="53"/>
                    </a:lnTo>
                    <a:lnTo>
                      <a:pt x="10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195160" y="5280480"/>
                <a:ext cx="119880" cy="222840"/>
              </a:xfrm>
              <a:custGeom>
                <a:avLst/>
                <a:gdLst/>
                <a:ahLst/>
                <a:rect l="l" t="t" r="r" b="b"/>
                <a:pathLst>
                  <a:path w="1444" h="2100">
                    <a:moveTo>
                      <a:pt x="198" y="1931"/>
                    </a:moveTo>
                    <a:lnTo>
                      <a:pt x="407" y="1995"/>
                    </a:lnTo>
                    <a:lnTo>
                      <a:pt x="589" y="2100"/>
                    </a:lnTo>
                    <a:lnTo>
                      <a:pt x="446" y="1931"/>
                    </a:lnTo>
                    <a:lnTo>
                      <a:pt x="343" y="1841"/>
                    </a:lnTo>
                    <a:lnTo>
                      <a:pt x="248" y="1826"/>
                    </a:lnTo>
                    <a:lnTo>
                      <a:pt x="211" y="1812"/>
                    </a:lnTo>
                    <a:lnTo>
                      <a:pt x="211" y="1632"/>
                    </a:lnTo>
                    <a:lnTo>
                      <a:pt x="264" y="1593"/>
                    </a:lnTo>
                    <a:lnTo>
                      <a:pt x="499" y="1498"/>
                    </a:lnTo>
                    <a:lnTo>
                      <a:pt x="776" y="1318"/>
                    </a:lnTo>
                    <a:lnTo>
                      <a:pt x="1025" y="1070"/>
                    </a:lnTo>
                    <a:lnTo>
                      <a:pt x="1444" y="495"/>
                    </a:lnTo>
                    <a:lnTo>
                      <a:pt x="1444" y="403"/>
                    </a:lnTo>
                    <a:lnTo>
                      <a:pt x="1092" y="834"/>
                    </a:lnTo>
                    <a:lnTo>
                      <a:pt x="710" y="1217"/>
                    </a:lnTo>
                    <a:lnTo>
                      <a:pt x="369" y="1448"/>
                    </a:lnTo>
                    <a:lnTo>
                      <a:pt x="578" y="1081"/>
                    </a:lnTo>
                    <a:lnTo>
                      <a:pt x="684" y="732"/>
                    </a:lnTo>
                    <a:lnTo>
                      <a:pt x="710" y="495"/>
                    </a:lnTo>
                    <a:lnTo>
                      <a:pt x="879" y="140"/>
                    </a:lnTo>
                    <a:lnTo>
                      <a:pt x="1117" y="0"/>
                    </a:lnTo>
                    <a:lnTo>
                      <a:pt x="855" y="127"/>
                    </a:lnTo>
                    <a:lnTo>
                      <a:pt x="644" y="442"/>
                    </a:lnTo>
                    <a:lnTo>
                      <a:pt x="644" y="769"/>
                    </a:lnTo>
                    <a:lnTo>
                      <a:pt x="525" y="1081"/>
                    </a:lnTo>
                    <a:lnTo>
                      <a:pt x="356" y="1371"/>
                    </a:lnTo>
                    <a:lnTo>
                      <a:pt x="184" y="1604"/>
                    </a:lnTo>
                    <a:lnTo>
                      <a:pt x="184" y="1826"/>
                    </a:lnTo>
                    <a:lnTo>
                      <a:pt x="0" y="1905"/>
                    </a:lnTo>
                    <a:lnTo>
                      <a:pt x="198" y="19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5191920" y="5511960"/>
                <a:ext cx="67320" cy="81000"/>
              </a:xfrm>
              <a:custGeom>
                <a:avLst/>
                <a:gdLst/>
                <a:ahLst/>
                <a:rect l="l" t="t" r="r" b="b"/>
                <a:pathLst>
                  <a:path w="818" h="773">
                    <a:moveTo>
                      <a:pt x="671" y="0"/>
                    </a:moveTo>
                    <a:lnTo>
                      <a:pt x="776" y="184"/>
                    </a:lnTo>
                    <a:lnTo>
                      <a:pt x="818" y="419"/>
                    </a:lnTo>
                    <a:lnTo>
                      <a:pt x="818" y="564"/>
                    </a:lnTo>
                    <a:lnTo>
                      <a:pt x="739" y="758"/>
                    </a:lnTo>
                    <a:lnTo>
                      <a:pt x="606" y="773"/>
                    </a:lnTo>
                    <a:lnTo>
                      <a:pt x="369" y="654"/>
                    </a:lnTo>
                    <a:lnTo>
                      <a:pt x="226" y="498"/>
                    </a:lnTo>
                    <a:lnTo>
                      <a:pt x="0" y="14"/>
                    </a:lnTo>
                    <a:lnTo>
                      <a:pt x="161" y="290"/>
                    </a:lnTo>
                    <a:lnTo>
                      <a:pt x="435" y="512"/>
                    </a:lnTo>
                    <a:lnTo>
                      <a:pt x="739" y="588"/>
                    </a:lnTo>
                    <a:lnTo>
                      <a:pt x="752" y="474"/>
                    </a:lnTo>
                    <a:lnTo>
                      <a:pt x="712" y="327"/>
                    </a:lnTo>
                    <a:lnTo>
                      <a:pt x="620" y="235"/>
                    </a:lnTo>
                    <a:lnTo>
                      <a:pt x="477" y="184"/>
                    </a:lnTo>
                    <a:lnTo>
                      <a:pt x="620" y="147"/>
                    </a:lnTo>
                    <a:lnTo>
                      <a:pt x="671" y="65"/>
                    </a:lnTo>
                    <a:lnTo>
                      <a:pt x="6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5052600" y="5531400"/>
                <a:ext cx="174960" cy="64080"/>
              </a:xfrm>
              <a:custGeom>
                <a:avLst/>
                <a:gdLst/>
                <a:ahLst/>
                <a:rect l="l" t="t" r="r" b="b"/>
                <a:pathLst>
                  <a:path w="2111" h="613">
                    <a:moveTo>
                      <a:pt x="2111" y="613"/>
                    </a:moveTo>
                    <a:lnTo>
                      <a:pt x="1718" y="602"/>
                    </a:lnTo>
                    <a:lnTo>
                      <a:pt x="1194" y="549"/>
                    </a:lnTo>
                    <a:lnTo>
                      <a:pt x="593" y="380"/>
                    </a:lnTo>
                    <a:lnTo>
                      <a:pt x="103" y="301"/>
                    </a:lnTo>
                    <a:lnTo>
                      <a:pt x="26" y="235"/>
                    </a:lnTo>
                    <a:lnTo>
                      <a:pt x="0" y="90"/>
                    </a:lnTo>
                    <a:lnTo>
                      <a:pt x="353" y="143"/>
                    </a:lnTo>
                    <a:lnTo>
                      <a:pt x="364" y="0"/>
                    </a:lnTo>
                    <a:lnTo>
                      <a:pt x="406" y="143"/>
                    </a:lnTo>
                    <a:lnTo>
                      <a:pt x="643" y="143"/>
                    </a:lnTo>
                    <a:lnTo>
                      <a:pt x="419" y="249"/>
                    </a:lnTo>
                    <a:lnTo>
                      <a:pt x="445" y="328"/>
                    </a:lnTo>
                    <a:lnTo>
                      <a:pt x="929" y="290"/>
                    </a:lnTo>
                    <a:lnTo>
                      <a:pt x="1243" y="301"/>
                    </a:lnTo>
                    <a:lnTo>
                      <a:pt x="1586" y="362"/>
                    </a:lnTo>
                    <a:lnTo>
                      <a:pt x="1773" y="433"/>
                    </a:lnTo>
                    <a:lnTo>
                      <a:pt x="1625" y="249"/>
                    </a:lnTo>
                    <a:lnTo>
                      <a:pt x="1494" y="169"/>
                    </a:lnTo>
                    <a:lnTo>
                      <a:pt x="1221" y="106"/>
                    </a:lnTo>
                    <a:lnTo>
                      <a:pt x="1549" y="106"/>
                    </a:lnTo>
                    <a:lnTo>
                      <a:pt x="1747" y="235"/>
                    </a:lnTo>
                    <a:lnTo>
                      <a:pt x="1821" y="393"/>
                    </a:lnTo>
                    <a:lnTo>
                      <a:pt x="1929" y="496"/>
                    </a:lnTo>
                    <a:lnTo>
                      <a:pt x="2019" y="574"/>
                    </a:lnTo>
                    <a:lnTo>
                      <a:pt x="2111" y="6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5052600" y="5408640"/>
                <a:ext cx="75600" cy="77040"/>
              </a:xfrm>
              <a:custGeom>
                <a:avLst/>
                <a:gdLst/>
                <a:ahLst/>
                <a:rect l="l" t="t" r="r" b="b"/>
                <a:pathLst>
                  <a:path w="905" h="731">
                    <a:moveTo>
                      <a:pt x="168" y="731"/>
                    </a:moveTo>
                    <a:lnTo>
                      <a:pt x="301" y="612"/>
                    </a:lnTo>
                    <a:lnTo>
                      <a:pt x="301" y="563"/>
                    </a:lnTo>
                    <a:lnTo>
                      <a:pt x="263" y="512"/>
                    </a:lnTo>
                    <a:lnTo>
                      <a:pt x="143" y="457"/>
                    </a:lnTo>
                    <a:lnTo>
                      <a:pt x="26" y="417"/>
                    </a:lnTo>
                    <a:lnTo>
                      <a:pt x="0" y="393"/>
                    </a:lnTo>
                    <a:lnTo>
                      <a:pt x="0" y="340"/>
                    </a:lnTo>
                    <a:lnTo>
                      <a:pt x="26" y="312"/>
                    </a:lnTo>
                    <a:lnTo>
                      <a:pt x="103" y="275"/>
                    </a:lnTo>
                    <a:lnTo>
                      <a:pt x="118" y="312"/>
                    </a:lnTo>
                    <a:lnTo>
                      <a:pt x="158" y="351"/>
                    </a:lnTo>
                    <a:lnTo>
                      <a:pt x="301" y="379"/>
                    </a:lnTo>
                    <a:lnTo>
                      <a:pt x="285" y="287"/>
                    </a:lnTo>
                    <a:lnTo>
                      <a:pt x="221" y="208"/>
                    </a:lnTo>
                    <a:lnTo>
                      <a:pt x="143" y="129"/>
                    </a:lnTo>
                    <a:lnTo>
                      <a:pt x="13" y="54"/>
                    </a:lnTo>
                    <a:lnTo>
                      <a:pt x="90" y="39"/>
                    </a:lnTo>
                    <a:lnTo>
                      <a:pt x="237" y="79"/>
                    </a:lnTo>
                    <a:lnTo>
                      <a:pt x="364" y="158"/>
                    </a:lnTo>
                    <a:lnTo>
                      <a:pt x="472" y="298"/>
                    </a:lnTo>
                    <a:lnTo>
                      <a:pt x="617" y="235"/>
                    </a:lnTo>
                    <a:lnTo>
                      <a:pt x="461" y="158"/>
                    </a:lnTo>
                    <a:lnTo>
                      <a:pt x="433" y="118"/>
                    </a:lnTo>
                    <a:lnTo>
                      <a:pt x="461" y="79"/>
                    </a:lnTo>
                    <a:lnTo>
                      <a:pt x="562" y="39"/>
                    </a:lnTo>
                    <a:lnTo>
                      <a:pt x="747" y="0"/>
                    </a:lnTo>
                    <a:lnTo>
                      <a:pt x="905" y="0"/>
                    </a:lnTo>
                    <a:lnTo>
                      <a:pt x="823" y="158"/>
                    </a:lnTo>
                    <a:lnTo>
                      <a:pt x="643" y="362"/>
                    </a:lnTo>
                    <a:lnTo>
                      <a:pt x="445" y="549"/>
                    </a:lnTo>
                    <a:lnTo>
                      <a:pt x="301" y="667"/>
                    </a:lnTo>
                    <a:lnTo>
                      <a:pt x="168" y="7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5091480" y="5243040"/>
                <a:ext cx="12960" cy="82080"/>
              </a:xfrm>
              <a:custGeom>
                <a:avLst/>
                <a:gdLst/>
                <a:ahLst/>
                <a:rect l="l" t="t" r="r" b="b"/>
                <a:pathLst>
                  <a:path w="157" h="771">
                    <a:moveTo>
                      <a:pt x="65" y="116"/>
                    </a:moveTo>
                    <a:lnTo>
                      <a:pt x="90" y="378"/>
                    </a:lnTo>
                    <a:lnTo>
                      <a:pt x="132" y="626"/>
                    </a:lnTo>
                    <a:lnTo>
                      <a:pt x="157" y="771"/>
                    </a:lnTo>
                    <a:lnTo>
                      <a:pt x="24" y="354"/>
                    </a:lnTo>
                    <a:lnTo>
                      <a:pt x="0" y="222"/>
                    </a:lnTo>
                    <a:lnTo>
                      <a:pt x="51" y="0"/>
                    </a:lnTo>
                    <a:lnTo>
                      <a:pt x="65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8" name=""/>
            <p:cNvSpPr/>
            <p:nvPr/>
          </p:nvSpPr>
          <p:spPr>
            <a:xfrm>
              <a:off x="6743160" y="6438960"/>
              <a:ext cx="19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de avali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548320" y="5448600"/>
              <a:ext cx="404640" cy="188640"/>
            </a:xfrm>
            <a:prstGeom prst="rightArrow">
              <a:avLst>
                <a:gd name="adj1" fmla="val 50000"/>
                <a:gd name="adj2" fmla="val 53626"/>
              </a:avLst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539040" y="5448600"/>
              <a:ext cx="404640" cy="188640"/>
            </a:xfrm>
            <a:prstGeom prst="rightArrow">
              <a:avLst>
                <a:gd name="adj1" fmla="val 50000"/>
                <a:gd name="adj2" fmla="val 53626"/>
              </a:avLst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013360" y="2629080"/>
              <a:ext cx="725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652840" y="2781360"/>
              <a:ext cx="939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gate ant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961320" y="2881440"/>
              <a:ext cx="8125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gate at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4" name=""/>
            <p:cNvGrpSpPr/>
            <p:nvPr/>
          </p:nvGrpSpPr>
          <p:grpSpPr>
            <a:xfrm>
              <a:off x="4200480" y="3921480"/>
              <a:ext cx="519120" cy="599760"/>
              <a:chOff x="4200480" y="3921480"/>
              <a:chExt cx="519120" cy="599760"/>
            </a:xfrm>
          </p:grpSpPr>
          <p:sp>
            <p:nvSpPr>
              <p:cNvPr id="2725" name=""/>
              <p:cNvSpPr/>
              <p:nvPr/>
            </p:nvSpPr>
            <p:spPr>
              <a:xfrm>
                <a:off x="4200480" y="3921480"/>
                <a:ext cx="519120" cy="59976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257720" y="40208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257720" y="4070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257720" y="41202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257720" y="41698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4257720" y="42195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257720" y="4269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257720" y="43192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257720" y="43689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257720" y="4418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5" name=""/>
            <p:cNvSpPr/>
            <p:nvPr/>
          </p:nvSpPr>
          <p:spPr>
            <a:xfrm>
              <a:off x="3762360" y="4125960"/>
              <a:ext cx="405000" cy="189000"/>
            </a:xfrm>
            <a:prstGeom prst="rightArrow">
              <a:avLst>
                <a:gd name="adj1" fmla="val 50000"/>
                <a:gd name="adj2" fmla="val 53571"/>
              </a:avLst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753080" y="4125960"/>
              <a:ext cx="404640" cy="189000"/>
            </a:xfrm>
            <a:prstGeom prst="rightArrow">
              <a:avLst>
                <a:gd name="adj1" fmla="val 50000"/>
                <a:gd name="adj2" fmla="val 53524"/>
              </a:avLst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7" name=""/>
            <p:cNvGrpSpPr/>
            <p:nvPr/>
          </p:nvGrpSpPr>
          <p:grpSpPr>
            <a:xfrm>
              <a:off x="8483760" y="5107320"/>
              <a:ext cx="470880" cy="852120"/>
              <a:chOff x="8483760" y="5107320"/>
              <a:chExt cx="470880" cy="852120"/>
            </a:xfrm>
          </p:grpSpPr>
          <p:sp>
            <p:nvSpPr>
              <p:cNvPr id="2738" name=""/>
              <p:cNvSpPr/>
              <p:nvPr/>
            </p:nvSpPr>
            <p:spPr>
              <a:xfrm>
                <a:off x="8505000" y="5273280"/>
                <a:ext cx="12492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10800000"/>
                  </a:path>
                </a:pathLst>
              </a:custGeom>
              <a:solidFill>
                <a:srgbClr val="ff404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8483760" y="5264280"/>
                <a:ext cx="88200" cy="197640"/>
              </a:xfrm>
              <a:custGeom>
                <a:avLst/>
                <a:gdLst/>
                <a:ahLst/>
                <a:rect l="l" t="t" r="r" b="b"/>
                <a:pathLst>
                  <a:path w="243" h="556">
                    <a:moveTo>
                      <a:pt x="240" y="0"/>
                    </a:moveTo>
                    <a:lnTo>
                      <a:pt x="0" y="0"/>
                    </a:lnTo>
                    <a:lnTo>
                      <a:pt x="28" y="7"/>
                    </a:lnTo>
                    <a:lnTo>
                      <a:pt x="42" y="14"/>
                    </a:lnTo>
                    <a:lnTo>
                      <a:pt x="54" y="22"/>
                    </a:lnTo>
                    <a:lnTo>
                      <a:pt x="69" y="31"/>
                    </a:lnTo>
                    <a:lnTo>
                      <a:pt x="81" y="42"/>
                    </a:lnTo>
                    <a:lnTo>
                      <a:pt x="90" y="53"/>
                    </a:lnTo>
                    <a:lnTo>
                      <a:pt x="101" y="65"/>
                    </a:lnTo>
                    <a:lnTo>
                      <a:pt x="107" y="76"/>
                    </a:lnTo>
                    <a:lnTo>
                      <a:pt x="114" y="90"/>
                    </a:lnTo>
                    <a:lnTo>
                      <a:pt x="121" y="105"/>
                    </a:lnTo>
                    <a:lnTo>
                      <a:pt x="129" y="121"/>
                    </a:lnTo>
                    <a:lnTo>
                      <a:pt x="133" y="136"/>
                    </a:lnTo>
                    <a:lnTo>
                      <a:pt x="139" y="150"/>
                    </a:lnTo>
                    <a:lnTo>
                      <a:pt x="179" y="333"/>
                    </a:lnTo>
                    <a:lnTo>
                      <a:pt x="194" y="409"/>
                    </a:lnTo>
                    <a:lnTo>
                      <a:pt x="203" y="459"/>
                    </a:lnTo>
                    <a:lnTo>
                      <a:pt x="215" y="510"/>
                    </a:lnTo>
                    <a:lnTo>
                      <a:pt x="233" y="556"/>
                    </a:lnTo>
                    <a:lnTo>
                      <a:pt x="243" y="556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ff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8808120" y="5275080"/>
                <a:ext cx="12816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800000"/>
                  </a:path>
                </a:pathLst>
              </a:custGeom>
              <a:solidFill>
                <a:srgbClr val="ff404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868600" y="5266080"/>
                <a:ext cx="86040" cy="197640"/>
              </a:xfrm>
              <a:custGeom>
                <a:avLst/>
                <a:gdLst/>
                <a:ahLst/>
                <a:rect l="l" t="t" r="r" b="b"/>
                <a:pathLst>
                  <a:path w="243" h="556">
                    <a:moveTo>
                      <a:pt x="3" y="0"/>
                    </a:moveTo>
                    <a:lnTo>
                      <a:pt x="243" y="0"/>
                    </a:lnTo>
                    <a:lnTo>
                      <a:pt x="216" y="7"/>
                    </a:lnTo>
                    <a:lnTo>
                      <a:pt x="201" y="14"/>
                    </a:lnTo>
                    <a:lnTo>
                      <a:pt x="189" y="21"/>
                    </a:lnTo>
                    <a:lnTo>
                      <a:pt x="175" y="31"/>
                    </a:lnTo>
                    <a:lnTo>
                      <a:pt x="163" y="42"/>
                    </a:lnTo>
                    <a:lnTo>
                      <a:pt x="153" y="53"/>
                    </a:lnTo>
                    <a:lnTo>
                      <a:pt x="142" y="65"/>
                    </a:lnTo>
                    <a:lnTo>
                      <a:pt x="136" y="75"/>
                    </a:lnTo>
                    <a:lnTo>
                      <a:pt x="129" y="90"/>
                    </a:lnTo>
                    <a:lnTo>
                      <a:pt x="122" y="104"/>
                    </a:lnTo>
                    <a:lnTo>
                      <a:pt x="115" y="121"/>
                    </a:lnTo>
                    <a:lnTo>
                      <a:pt x="110" y="135"/>
                    </a:lnTo>
                    <a:lnTo>
                      <a:pt x="104" y="150"/>
                    </a:lnTo>
                    <a:lnTo>
                      <a:pt x="64" y="333"/>
                    </a:lnTo>
                    <a:lnTo>
                      <a:pt x="50" y="408"/>
                    </a:lnTo>
                    <a:lnTo>
                      <a:pt x="40" y="459"/>
                    </a:lnTo>
                    <a:lnTo>
                      <a:pt x="28" y="509"/>
                    </a:lnTo>
                    <a:lnTo>
                      <a:pt x="10" y="556"/>
                    </a:lnTo>
                    <a:lnTo>
                      <a:pt x="0" y="55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8505000" y="5738760"/>
                <a:ext cx="12492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10800000"/>
                  </a:path>
                </a:pathLst>
              </a:custGeom>
              <a:solidFill>
                <a:srgbClr val="66ff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483760" y="5729760"/>
                <a:ext cx="88200" cy="197640"/>
              </a:xfrm>
              <a:custGeom>
                <a:avLst/>
                <a:gdLst/>
                <a:ahLst/>
                <a:rect l="l" t="t" r="r" b="b"/>
                <a:pathLst>
                  <a:path w="243" h="555">
                    <a:moveTo>
                      <a:pt x="240" y="0"/>
                    </a:moveTo>
                    <a:lnTo>
                      <a:pt x="0" y="0"/>
                    </a:lnTo>
                    <a:lnTo>
                      <a:pt x="28" y="7"/>
                    </a:lnTo>
                    <a:lnTo>
                      <a:pt x="42" y="15"/>
                    </a:lnTo>
                    <a:lnTo>
                      <a:pt x="54" y="22"/>
                    </a:lnTo>
                    <a:lnTo>
                      <a:pt x="69" y="31"/>
                    </a:lnTo>
                    <a:lnTo>
                      <a:pt x="81" y="42"/>
                    </a:lnTo>
                    <a:lnTo>
                      <a:pt x="90" y="53"/>
                    </a:lnTo>
                    <a:lnTo>
                      <a:pt x="101" y="64"/>
                    </a:lnTo>
                    <a:lnTo>
                      <a:pt x="107" y="75"/>
                    </a:lnTo>
                    <a:lnTo>
                      <a:pt x="114" y="89"/>
                    </a:lnTo>
                    <a:lnTo>
                      <a:pt x="121" y="104"/>
                    </a:lnTo>
                    <a:lnTo>
                      <a:pt x="129" y="120"/>
                    </a:lnTo>
                    <a:lnTo>
                      <a:pt x="133" y="135"/>
                    </a:lnTo>
                    <a:lnTo>
                      <a:pt x="139" y="149"/>
                    </a:lnTo>
                    <a:lnTo>
                      <a:pt x="179" y="333"/>
                    </a:lnTo>
                    <a:lnTo>
                      <a:pt x="194" y="409"/>
                    </a:lnTo>
                    <a:lnTo>
                      <a:pt x="203" y="458"/>
                    </a:lnTo>
                    <a:lnTo>
                      <a:pt x="215" y="509"/>
                    </a:lnTo>
                    <a:lnTo>
                      <a:pt x="233" y="555"/>
                    </a:lnTo>
                    <a:lnTo>
                      <a:pt x="243" y="555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ff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8808120" y="5740200"/>
                <a:ext cx="128160" cy="17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800000"/>
                  </a:path>
                </a:pathLst>
              </a:custGeom>
              <a:solidFill>
                <a:srgbClr val="66ff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8868600" y="5731560"/>
                <a:ext cx="86040" cy="198000"/>
              </a:xfrm>
              <a:custGeom>
                <a:avLst/>
                <a:gdLst/>
                <a:ahLst/>
                <a:rect l="l" t="t" r="r" b="b"/>
                <a:pathLst>
                  <a:path w="243" h="555">
                    <a:moveTo>
                      <a:pt x="3" y="0"/>
                    </a:moveTo>
                    <a:lnTo>
                      <a:pt x="243" y="0"/>
                    </a:lnTo>
                    <a:lnTo>
                      <a:pt x="216" y="7"/>
                    </a:lnTo>
                    <a:lnTo>
                      <a:pt x="201" y="14"/>
                    </a:lnTo>
                    <a:lnTo>
                      <a:pt x="189" y="21"/>
                    </a:lnTo>
                    <a:lnTo>
                      <a:pt x="175" y="31"/>
                    </a:lnTo>
                    <a:lnTo>
                      <a:pt x="163" y="42"/>
                    </a:lnTo>
                    <a:lnTo>
                      <a:pt x="153" y="53"/>
                    </a:lnTo>
                    <a:lnTo>
                      <a:pt x="142" y="64"/>
                    </a:lnTo>
                    <a:lnTo>
                      <a:pt x="136" y="74"/>
                    </a:lnTo>
                    <a:lnTo>
                      <a:pt x="129" y="89"/>
                    </a:lnTo>
                    <a:lnTo>
                      <a:pt x="122" y="103"/>
                    </a:lnTo>
                    <a:lnTo>
                      <a:pt x="115" y="120"/>
                    </a:lnTo>
                    <a:lnTo>
                      <a:pt x="110" y="134"/>
                    </a:lnTo>
                    <a:lnTo>
                      <a:pt x="104" y="149"/>
                    </a:lnTo>
                    <a:lnTo>
                      <a:pt x="64" y="333"/>
                    </a:lnTo>
                    <a:lnTo>
                      <a:pt x="50" y="408"/>
                    </a:lnTo>
                    <a:lnTo>
                      <a:pt x="40" y="458"/>
                    </a:lnTo>
                    <a:lnTo>
                      <a:pt x="28" y="508"/>
                    </a:lnTo>
                    <a:lnTo>
                      <a:pt x="10" y="555"/>
                    </a:lnTo>
                    <a:lnTo>
                      <a:pt x="0" y="55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505000" y="5505120"/>
                <a:ext cx="12492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10800000"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8483760" y="5496120"/>
                <a:ext cx="88200" cy="199440"/>
              </a:xfrm>
              <a:custGeom>
                <a:avLst/>
                <a:gdLst/>
                <a:ahLst/>
                <a:rect l="l" t="t" r="r" b="b"/>
                <a:pathLst>
                  <a:path w="243" h="557">
                    <a:moveTo>
                      <a:pt x="240" y="0"/>
                    </a:moveTo>
                    <a:lnTo>
                      <a:pt x="0" y="0"/>
                    </a:lnTo>
                    <a:lnTo>
                      <a:pt x="28" y="7"/>
                    </a:lnTo>
                    <a:lnTo>
                      <a:pt x="42" y="15"/>
                    </a:lnTo>
                    <a:lnTo>
                      <a:pt x="54" y="22"/>
                    </a:lnTo>
                    <a:lnTo>
                      <a:pt x="69" y="31"/>
                    </a:lnTo>
                    <a:lnTo>
                      <a:pt x="81" y="42"/>
                    </a:lnTo>
                    <a:lnTo>
                      <a:pt x="90" y="53"/>
                    </a:lnTo>
                    <a:lnTo>
                      <a:pt x="101" y="65"/>
                    </a:lnTo>
                    <a:lnTo>
                      <a:pt x="107" y="76"/>
                    </a:lnTo>
                    <a:lnTo>
                      <a:pt x="114" y="90"/>
                    </a:lnTo>
                    <a:lnTo>
                      <a:pt x="121" y="105"/>
                    </a:lnTo>
                    <a:lnTo>
                      <a:pt x="129" y="122"/>
                    </a:lnTo>
                    <a:lnTo>
                      <a:pt x="133" y="136"/>
                    </a:lnTo>
                    <a:lnTo>
                      <a:pt x="139" y="150"/>
                    </a:lnTo>
                    <a:lnTo>
                      <a:pt x="179" y="333"/>
                    </a:lnTo>
                    <a:lnTo>
                      <a:pt x="194" y="409"/>
                    </a:lnTo>
                    <a:lnTo>
                      <a:pt x="203" y="459"/>
                    </a:lnTo>
                    <a:lnTo>
                      <a:pt x="215" y="510"/>
                    </a:lnTo>
                    <a:lnTo>
                      <a:pt x="233" y="557"/>
                    </a:lnTo>
                    <a:lnTo>
                      <a:pt x="243" y="557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ff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808120" y="5506920"/>
                <a:ext cx="12816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800000"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8868600" y="5497920"/>
                <a:ext cx="86040" cy="197640"/>
              </a:xfrm>
              <a:custGeom>
                <a:avLst/>
                <a:gdLst/>
                <a:ahLst/>
                <a:rect l="l" t="t" r="r" b="b"/>
                <a:pathLst>
                  <a:path w="243" h="556">
                    <a:moveTo>
                      <a:pt x="3" y="0"/>
                    </a:moveTo>
                    <a:lnTo>
                      <a:pt x="243" y="0"/>
                    </a:lnTo>
                    <a:lnTo>
                      <a:pt x="216" y="7"/>
                    </a:lnTo>
                    <a:lnTo>
                      <a:pt x="201" y="14"/>
                    </a:lnTo>
                    <a:lnTo>
                      <a:pt x="189" y="21"/>
                    </a:lnTo>
                    <a:lnTo>
                      <a:pt x="175" y="31"/>
                    </a:lnTo>
                    <a:lnTo>
                      <a:pt x="163" y="42"/>
                    </a:lnTo>
                    <a:lnTo>
                      <a:pt x="153" y="53"/>
                    </a:lnTo>
                    <a:lnTo>
                      <a:pt x="142" y="65"/>
                    </a:lnTo>
                    <a:lnTo>
                      <a:pt x="136" y="76"/>
                    </a:lnTo>
                    <a:lnTo>
                      <a:pt x="129" y="90"/>
                    </a:lnTo>
                    <a:lnTo>
                      <a:pt x="122" y="104"/>
                    </a:lnTo>
                    <a:lnTo>
                      <a:pt x="115" y="121"/>
                    </a:lnTo>
                    <a:lnTo>
                      <a:pt x="110" y="136"/>
                    </a:lnTo>
                    <a:lnTo>
                      <a:pt x="104" y="150"/>
                    </a:lnTo>
                    <a:lnTo>
                      <a:pt x="64" y="333"/>
                    </a:lnTo>
                    <a:lnTo>
                      <a:pt x="50" y="408"/>
                    </a:lnTo>
                    <a:lnTo>
                      <a:pt x="40" y="459"/>
                    </a:lnTo>
                    <a:lnTo>
                      <a:pt x="28" y="509"/>
                    </a:lnTo>
                    <a:lnTo>
                      <a:pt x="10" y="556"/>
                    </a:lnTo>
                    <a:lnTo>
                      <a:pt x="0" y="55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8628840" y="5107320"/>
                <a:ext cx="180360" cy="135720"/>
              </a:xfrm>
              <a:custGeom>
                <a:avLst/>
                <a:gdLst/>
                <a:ahLst/>
                <a:rect l="l" t="t" r="r" b="b"/>
                <a:pathLst>
                  <a:path w="500" h="377">
                    <a:moveTo>
                      <a:pt x="160" y="375"/>
                    </a:moveTo>
                    <a:lnTo>
                      <a:pt x="160" y="292"/>
                    </a:lnTo>
                    <a:lnTo>
                      <a:pt x="61" y="292"/>
                    </a:lnTo>
                    <a:lnTo>
                      <a:pt x="50" y="289"/>
                    </a:lnTo>
                    <a:lnTo>
                      <a:pt x="41" y="286"/>
                    </a:lnTo>
                    <a:lnTo>
                      <a:pt x="31" y="280"/>
                    </a:lnTo>
                    <a:lnTo>
                      <a:pt x="21" y="273"/>
                    </a:lnTo>
                    <a:lnTo>
                      <a:pt x="13" y="265"/>
                    </a:lnTo>
                    <a:lnTo>
                      <a:pt x="7" y="255"/>
                    </a:lnTo>
                    <a:lnTo>
                      <a:pt x="3" y="248"/>
                    </a:lnTo>
                    <a:lnTo>
                      <a:pt x="0" y="237"/>
                    </a:lnTo>
                    <a:lnTo>
                      <a:pt x="0" y="226"/>
                    </a:lnTo>
                    <a:lnTo>
                      <a:pt x="0" y="216"/>
                    </a:lnTo>
                    <a:lnTo>
                      <a:pt x="3" y="204"/>
                    </a:lnTo>
                    <a:lnTo>
                      <a:pt x="10" y="191"/>
                    </a:lnTo>
                    <a:lnTo>
                      <a:pt x="19" y="181"/>
                    </a:lnTo>
                    <a:lnTo>
                      <a:pt x="29" y="171"/>
                    </a:lnTo>
                    <a:lnTo>
                      <a:pt x="41" y="163"/>
                    </a:lnTo>
                    <a:lnTo>
                      <a:pt x="49" y="157"/>
                    </a:lnTo>
                    <a:lnTo>
                      <a:pt x="60" y="153"/>
                    </a:lnTo>
                    <a:lnTo>
                      <a:pt x="162" y="153"/>
                    </a:lnTo>
                    <a:lnTo>
                      <a:pt x="162" y="80"/>
                    </a:lnTo>
                    <a:lnTo>
                      <a:pt x="166" y="70"/>
                    </a:lnTo>
                    <a:lnTo>
                      <a:pt x="172" y="58"/>
                    </a:lnTo>
                    <a:lnTo>
                      <a:pt x="178" y="47"/>
                    </a:lnTo>
                    <a:lnTo>
                      <a:pt x="187" y="35"/>
                    </a:lnTo>
                    <a:lnTo>
                      <a:pt x="198" y="24"/>
                    </a:lnTo>
                    <a:lnTo>
                      <a:pt x="209" y="16"/>
                    </a:lnTo>
                    <a:lnTo>
                      <a:pt x="218" y="10"/>
                    </a:lnTo>
                    <a:lnTo>
                      <a:pt x="232" y="4"/>
                    </a:lnTo>
                    <a:lnTo>
                      <a:pt x="246" y="0"/>
                    </a:lnTo>
                    <a:lnTo>
                      <a:pt x="261" y="0"/>
                    </a:lnTo>
                    <a:lnTo>
                      <a:pt x="276" y="3"/>
                    </a:lnTo>
                    <a:lnTo>
                      <a:pt x="289" y="9"/>
                    </a:lnTo>
                    <a:lnTo>
                      <a:pt x="300" y="15"/>
                    </a:lnTo>
                    <a:lnTo>
                      <a:pt x="312" y="24"/>
                    </a:lnTo>
                    <a:lnTo>
                      <a:pt x="325" y="36"/>
                    </a:lnTo>
                    <a:lnTo>
                      <a:pt x="335" y="47"/>
                    </a:lnTo>
                    <a:lnTo>
                      <a:pt x="340" y="58"/>
                    </a:lnTo>
                    <a:lnTo>
                      <a:pt x="345" y="70"/>
                    </a:lnTo>
                    <a:lnTo>
                      <a:pt x="347" y="85"/>
                    </a:lnTo>
                    <a:lnTo>
                      <a:pt x="347" y="152"/>
                    </a:lnTo>
                    <a:lnTo>
                      <a:pt x="443" y="152"/>
                    </a:lnTo>
                    <a:lnTo>
                      <a:pt x="454" y="157"/>
                    </a:lnTo>
                    <a:lnTo>
                      <a:pt x="464" y="163"/>
                    </a:lnTo>
                    <a:lnTo>
                      <a:pt x="473" y="170"/>
                    </a:lnTo>
                    <a:lnTo>
                      <a:pt x="483" y="179"/>
                    </a:lnTo>
                    <a:lnTo>
                      <a:pt x="490" y="189"/>
                    </a:lnTo>
                    <a:lnTo>
                      <a:pt x="496" y="200"/>
                    </a:lnTo>
                    <a:lnTo>
                      <a:pt x="498" y="212"/>
                    </a:lnTo>
                    <a:lnTo>
                      <a:pt x="500" y="223"/>
                    </a:lnTo>
                    <a:lnTo>
                      <a:pt x="500" y="236"/>
                    </a:lnTo>
                    <a:lnTo>
                      <a:pt x="496" y="247"/>
                    </a:lnTo>
                    <a:lnTo>
                      <a:pt x="490" y="259"/>
                    </a:lnTo>
                    <a:lnTo>
                      <a:pt x="483" y="268"/>
                    </a:lnTo>
                    <a:lnTo>
                      <a:pt x="474" y="278"/>
                    </a:lnTo>
                    <a:lnTo>
                      <a:pt x="464" y="284"/>
                    </a:lnTo>
                    <a:lnTo>
                      <a:pt x="442" y="292"/>
                    </a:lnTo>
                    <a:lnTo>
                      <a:pt x="347" y="292"/>
                    </a:lnTo>
                    <a:lnTo>
                      <a:pt x="347" y="377"/>
                    </a:lnTo>
                    <a:lnTo>
                      <a:pt x="160" y="375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695800" y="5164200"/>
                <a:ext cx="49680" cy="50400"/>
              </a:xfrm>
              <a:prstGeom prst="ellipse">
                <a:avLst/>
              </a:prstGeom>
              <a:solidFill>
                <a:srgbClr val="ffa04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8565840" y="5232240"/>
                <a:ext cx="308160" cy="727200"/>
              </a:xfrm>
              <a:prstGeom prst="rect">
                <a:avLst/>
              </a:prstGeom>
              <a:solidFill>
                <a:srgbClr val="ff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613000" y="5252040"/>
                <a:ext cx="213840" cy="190800"/>
              </a:xfrm>
              <a:custGeom>
                <a:avLst/>
                <a:gdLst/>
                <a:ahLst/>
                <a:rect l="l" t="t" r="r" b="b"/>
                <a:pathLst>
                  <a:path w="595" h="538">
                    <a:moveTo>
                      <a:pt x="0" y="185"/>
                    </a:moveTo>
                    <a:lnTo>
                      <a:pt x="1" y="168"/>
                    </a:lnTo>
                    <a:lnTo>
                      <a:pt x="6" y="150"/>
                    </a:lnTo>
                    <a:lnTo>
                      <a:pt x="13" y="134"/>
                    </a:lnTo>
                    <a:lnTo>
                      <a:pt x="23" y="119"/>
                    </a:lnTo>
                    <a:lnTo>
                      <a:pt x="31" y="107"/>
                    </a:lnTo>
                    <a:lnTo>
                      <a:pt x="41" y="95"/>
                    </a:lnTo>
                    <a:lnTo>
                      <a:pt x="53" y="81"/>
                    </a:lnTo>
                    <a:lnTo>
                      <a:pt x="68" y="68"/>
                    </a:lnTo>
                    <a:lnTo>
                      <a:pt x="88" y="56"/>
                    </a:lnTo>
                    <a:lnTo>
                      <a:pt x="112" y="43"/>
                    </a:lnTo>
                    <a:lnTo>
                      <a:pt x="134" y="32"/>
                    </a:lnTo>
                    <a:lnTo>
                      <a:pt x="162" y="22"/>
                    </a:lnTo>
                    <a:lnTo>
                      <a:pt x="187" y="14"/>
                    </a:lnTo>
                    <a:lnTo>
                      <a:pt x="217" y="8"/>
                    </a:lnTo>
                    <a:lnTo>
                      <a:pt x="244" y="3"/>
                    </a:lnTo>
                    <a:lnTo>
                      <a:pt x="265" y="2"/>
                    </a:lnTo>
                    <a:lnTo>
                      <a:pt x="291" y="0"/>
                    </a:lnTo>
                    <a:lnTo>
                      <a:pt x="317" y="0"/>
                    </a:lnTo>
                    <a:lnTo>
                      <a:pt x="338" y="2"/>
                    </a:lnTo>
                    <a:lnTo>
                      <a:pt x="359" y="4"/>
                    </a:lnTo>
                    <a:lnTo>
                      <a:pt x="383" y="9"/>
                    </a:lnTo>
                    <a:lnTo>
                      <a:pt x="405" y="14"/>
                    </a:lnTo>
                    <a:lnTo>
                      <a:pt x="428" y="21"/>
                    </a:lnTo>
                    <a:lnTo>
                      <a:pt x="448" y="28"/>
                    </a:lnTo>
                    <a:lnTo>
                      <a:pt x="470" y="38"/>
                    </a:lnTo>
                    <a:lnTo>
                      <a:pt x="485" y="45"/>
                    </a:lnTo>
                    <a:lnTo>
                      <a:pt x="499" y="54"/>
                    </a:lnTo>
                    <a:lnTo>
                      <a:pt x="512" y="62"/>
                    </a:lnTo>
                    <a:lnTo>
                      <a:pt x="526" y="72"/>
                    </a:lnTo>
                    <a:lnTo>
                      <a:pt x="539" y="83"/>
                    </a:lnTo>
                    <a:lnTo>
                      <a:pt x="553" y="97"/>
                    </a:lnTo>
                    <a:lnTo>
                      <a:pt x="564" y="110"/>
                    </a:lnTo>
                    <a:lnTo>
                      <a:pt x="572" y="122"/>
                    </a:lnTo>
                    <a:lnTo>
                      <a:pt x="579" y="133"/>
                    </a:lnTo>
                    <a:lnTo>
                      <a:pt x="585" y="145"/>
                    </a:lnTo>
                    <a:lnTo>
                      <a:pt x="590" y="157"/>
                    </a:lnTo>
                    <a:lnTo>
                      <a:pt x="595" y="173"/>
                    </a:lnTo>
                    <a:lnTo>
                      <a:pt x="595" y="538"/>
                    </a:lnTo>
                    <a:lnTo>
                      <a:pt x="1" y="536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8613000" y="5260680"/>
                <a:ext cx="213840" cy="192600"/>
              </a:xfrm>
              <a:custGeom>
                <a:avLst/>
                <a:gdLst/>
                <a:ahLst/>
                <a:rect l="l" t="t" r="r" b="b"/>
                <a:pathLst>
                  <a:path w="595" h="539">
                    <a:moveTo>
                      <a:pt x="0" y="184"/>
                    </a:moveTo>
                    <a:lnTo>
                      <a:pt x="1" y="169"/>
                    </a:lnTo>
                    <a:lnTo>
                      <a:pt x="6" y="151"/>
                    </a:lnTo>
                    <a:lnTo>
                      <a:pt x="13" y="135"/>
                    </a:lnTo>
                    <a:lnTo>
                      <a:pt x="23" y="119"/>
                    </a:lnTo>
                    <a:lnTo>
                      <a:pt x="31" y="107"/>
                    </a:lnTo>
                    <a:lnTo>
                      <a:pt x="41" y="95"/>
                    </a:lnTo>
                    <a:lnTo>
                      <a:pt x="53" y="82"/>
                    </a:lnTo>
                    <a:lnTo>
                      <a:pt x="68" y="69"/>
                    </a:lnTo>
                    <a:lnTo>
                      <a:pt x="88" y="57"/>
                    </a:lnTo>
                    <a:lnTo>
                      <a:pt x="112" y="44"/>
                    </a:lnTo>
                    <a:lnTo>
                      <a:pt x="134" y="33"/>
                    </a:lnTo>
                    <a:lnTo>
                      <a:pt x="162" y="23"/>
                    </a:lnTo>
                    <a:lnTo>
                      <a:pt x="187" y="15"/>
                    </a:lnTo>
                    <a:lnTo>
                      <a:pt x="217" y="9"/>
                    </a:lnTo>
                    <a:lnTo>
                      <a:pt x="244" y="4"/>
                    </a:lnTo>
                    <a:lnTo>
                      <a:pt x="265" y="3"/>
                    </a:lnTo>
                    <a:lnTo>
                      <a:pt x="291" y="0"/>
                    </a:lnTo>
                    <a:lnTo>
                      <a:pt x="317" y="0"/>
                    </a:lnTo>
                    <a:lnTo>
                      <a:pt x="338" y="3"/>
                    </a:lnTo>
                    <a:lnTo>
                      <a:pt x="359" y="5"/>
                    </a:lnTo>
                    <a:lnTo>
                      <a:pt x="383" y="10"/>
                    </a:lnTo>
                    <a:lnTo>
                      <a:pt x="405" y="15"/>
                    </a:lnTo>
                    <a:lnTo>
                      <a:pt x="428" y="22"/>
                    </a:lnTo>
                    <a:lnTo>
                      <a:pt x="448" y="29"/>
                    </a:lnTo>
                    <a:lnTo>
                      <a:pt x="470" y="39"/>
                    </a:lnTo>
                    <a:lnTo>
                      <a:pt x="485" y="46"/>
                    </a:lnTo>
                    <a:lnTo>
                      <a:pt x="499" y="55"/>
                    </a:lnTo>
                    <a:lnTo>
                      <a:pt x="512" y="63"/>
                    </a:lnTo>
                    <a:lnTo>
                      <a:pt x="526" y="73"/>
                    </a:lnTo>
                    <a:lnTo>
                      <a:pt x="539" y="83"/>
                    </a:lnTo>
                    <a:lnTo>
                      <a:pt x="553" y="98"/>
                    </a:lnTo>
                    <a:lnTo>
                      <a:pt x="564" y="111"/>
                    </a:lnTo>
                    <a:lnTo>
                      <a:pt x="572" y="123"/>
                    </a:lnTo>
                    <a:lnTo>
                      <a:pt x="579" y="134"/>
                    </a:lnTo>
                    <a:lnTo>
                      <a:pt x="585" y="146"/>
                    </a:lnTo>
                    <a:lnTo>
                      <a:pt x="590" y="158"/>
                    </a:lnTo>
                    <a:lnTo>
                      <a:pt x="595" y="172"/>
                    </a:lnTo>
                    <a:lnTo>
                      <a:pt x="595" y="539"/>
                    </a:lnTo>
                    <a:lnTo>
                      <a:pt x="1" y="53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8627760" y="5269680"/>
                <a:ext cx="181440" cy="180000"/>
              </a:xfrm>
              <a:prstGeom prst="ellipse">
                <a:avLst/>
              </a:prstGeom>
              <a:solidFill>
                <a:srgbClr val="ff404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6" name=""/>
              <p:cNvGrpSpPr/>
              <p:nvPr/>
            </p:nvGrpSpPr>
            <p:grpSpPr>
              <a:xfrm>
                <a:off x="8730000" y="5287680"/>
                <a:ext cx="31680" cy="27720"/>
                <a:chOff x="8730000" y="5287680"/>
                <a:chExt cx="31680" cy="27720"/>
              </a:xfrm>
            </p:grpSpPr>
            <p:sp>
              <p:nvSpPr>
                <p:cNvPr id="2757" name=""/>
                <p:cNvSpPr/>
                <p:nvPr/>
              </p:nvSpPr>
              <p:spPr>
                <a:xfrm>
                  <a:off x="8730000" y="5287680"/>
                  <a:ext cx="19440" cy="19080"/>
                </a:xfrm>
                <a:prstGeom prst="ellipse">
                  <a:avLst/>
                </a:pr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8746200" y="5299920"/>
                  <a:ext cx="15480" cy="15480"/>
                </a:xfrm>
                <a:prstGeom prst="ellipse">
                  <a:avLst/>
                </a:pr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9" name=""/>
              <p:cNvSpPr/>
              <p:nvPr/>
            </p:nvSpPr>
            <p:spPr>
              <a:xfrm>
                <a:off x="8606160" y="5494320"/>
                <a:ext cx="214200" cy="190800"/>
              </a:xfrm>
              <a:custGeom>
                <a:avLst/>
                <a:gdLst/>
                <a:ahLst/>
                <a:rect l="l" t="t" r="r" b="b"/>
                <a:pathLst>
                  <a:path w="595" h="538">
                    <a:moveTo>
                      <a:pt x="0" y="185"/>
                    </a:moveTo>
                    <a:lnTo>
                      <a:pt x="1" y="168"/>
                    </a:lnTo>
                    <a:lnTo>
                      <a:pt x="6" y="150"/>
                    </a:lnTo>
                    <a:lnTo>
                      <a:pt x="13" y="135"/>
                    </a:lnTo>
                    <a:lnTo>
                      <a:pt x="23" y="119"/>
                    </a:lnTo>
                    <a:lnTo>
                      <a:pt x="31" y="107"/>
                    </a:lnTo>
                    <a:lnTo>
                      <a:pt x="41" y="95"/>
                    </a:lnTo>
                    <a:lnTo>
                      <a:pt x="53" y="82"/>
                    </a:lnTo>
                    <a:lnTo>
                      <a:pt x="69" y="69"/>
                    </a:lnTo>
                    <a:lnTo>
                      <a:pt x="88" y="57"/>
                    </a:lnTo>
                    <a:lnTo>
                      <a:pt x="112" y="43"/>
                    </a:lnTo>
                    <a:lnTo>
                      <a:pt x="135" y="32"/>
                    </a:lnTo>
                    <a:lnTo>
                      <a:pt x="162" y="23"/>
                    </a:lnTo>
                    <a:lnTo>
                      <a:pt x="189" y="14"/>
                    </a:lnTo>
                    <a:lnTo>
                      <a:pt x="218" y="8"/>
                    </a:lnTo>
                    <a:lnTo>
                      <a:pt x="244" y="4"/>
                    </a:lnTo>
                    <a:lnTo>
                      <a:pt x="266" y="2"/>
                    </a:lnTo>
                    <a:lnTo>
                      <a:pt x="291" y="0"/>
                    </a:lnTo>
                    <a:lnTo>
                      <a:pt x="317" y="0"/>
                    </a:lnTo>
                    <a:lnTo>
                      <a:pt x="338" y="2"/>
                    </a:lnTo>
                    <a:lnTo>
                      <a:pt x="360" y="5"/>
                    </a:lnTo>
                    <a:lnTo>
                      <a:pt x="384" y="10"/>
                    </a:lnTo>
                    <a:lnTo>
                      <a:pt x="405" y="14"/>
                    </a:lnTo>
                    <a:lnTo>
                      <a:pt x="428" y="22"/>
                    </a:lnTo>
                    <a:lnTo>
                      <a:pt x="449" y="29"/>
                    </a:lnTo>
                    <a:lnTo>
                      <a:pt x="470" y="38"/>
                    </a:lnTo>
                    <a:lnTo>
                      <a:pt x="486" y="46"/>
                    </a:lnTo>
                    <a:lnTo>
                      <a:pt x="499" y="54"/>
                    </a:lnTo>
                    <a:lnTo>
                      <a:pt x="512" y="63"/>
                    </a:lnTo>
                    <a:lnTo>
                      <a:pt x="527" y="72"/>
                    </a:lnTo>
                    <a:lnTo>
                      <a:pt x="540" y="83"/>
                    </a:lnTo>
                    <a:lnTo>
                      <a:pt x="553" y="97"/>
                    </a:lnTo>
                    <a:lnTo>
                      <a:pt x="564" y="111"/>
                    </a:lnTo>
                    <a:lnTo>
                      <a:pt x="572" y="123"/>
                    </a:lnTo>
                    <a:lnTo>
                      <a:pt x="580" y="133"/>
                    </a:lnTo>
                    <a:lnTo>
                      <a:pt x="586" y="145"/>
                    </a:lnTo>
                    <a:lnTo>
                      <a:pt x="590" y="157"/>
                    </a:lnTo>
                    <a:lnTo>
                      <a:pt x="595" y="173"/>
                    </a:lnTo>
                    <a:lnTo>
                      <a:pt x="595" y="538"/>
                    </a:lnTo>
                    <a:lnTo>
                      <a:pt x="1" y="536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8607240" y="5501520"/>
                <a:ext cx="213840" cy="192600"/>
              </a:xfrm>
              <a:custGeom>
                <a:avLst/>
                <a:gdLst/>
                <a:ahLst/>
                <a:rect l="l" t="t" r="r" b="b"/>
                <a:pathLst>
                  <a:path w="595" h="538">
                    <a:moveTo>
                      <a:pt x="0" y="185"/>
                    </a:moveTo>
                    <a:lnTo>
                      <a:pt x="2" y="168"/>
                    </a:lnTo>
                    <a:lnTo>
                      <a:pt x="6" y="150"/>
                    </a:lnTo>
                    <a:lnTo>
                      <a:pt x="14" y="134"/>
                    </a:lnTo>
                    <a:lnTo>
                      <a:pt x="23" y="119"/>
                    </a:lnTo>
                    <a:lnTo>
                      <a:pt x="32" y="107"/>
                    </a:lnTo>
                    <a:lnTo>
                      <a:pt x="41" y="95"/>
                    </a:lnTo>
                    <a:lnTo>
                      <a:pt x="53" y="82"/>
                    </a:lnTo>
                    <a:lnTo>
                      <a:pt x="69" y="68"/>
                    </a:lnTo>
                    <a:lnTo>
                      <a:pt x="88" y="56"/>
                    </a:lnTo>
                    <a:lnTo>
                      <a:pt x="112" y="43"/>
                    </a:lnTo>
                    <a:lnTo>
                      <a:pt x="135" y="32"/>
                    </a:lnTo>
                    <a:lnTo>
                      <a:pt x="163" y="23"/>
                    </a:lnTo>
                    <a:lnTo>
                      <a:pt x="189" y="14"/>
                    </a:lnTo>
                    <a:lnTo>
                      <a:pt x="218" y="8"/>
                    </a:lnTo>
                    <a:lnTo>
                      <a:pt x="244" y="3"/>
                    </a:lnTo>
                    <a:lnTo>
                      <a:pt x="266" y="2"/>
                    </a:lnTo>
                    <a:lnTo>
                      <a:pt x="291" y="0"/>
                    </a:lnTo>
                    <a:lnTo>
                      <a:pt x="318" y="0"/>
                    </a:lnTo>
                    <a:lnTo>
                      <a:pt x="338" y="2"/>
                    </a:lnTo>
                    <a:lnTo>
                      <a:pt x="360" y="5"/>
                    </a:lnTo>
                    <a:lnTo>
                      <a:pt x="384" y="9"/>
                    </a:lnTo>
                    <a:lnTo>
                      <a:pt x="405" y="14"/>
                    </a:lnTo>
                    <a:lnTo>
                      <a:pt x="428" y="21"/>
                    </a:lnTo>
                    <a:lnTo>
                      <a:pt x="449" y="29"/>
                    </a:lnTo>
                    <a:lnTo>
                      <a:pt x="470" y="38"/>
                    </a:lnTo>
                    <a:lnTo>
                      <a:pt x="486" y="46"/>
                    </a:lnTo>
                    <a:lnTo>
                      <a:pt x="499" y="54"/>
                    </a:lnTo>
                    <a:lnTo>
                      <a:pt x="512" y="62"/>
                    </a:lnTo>
                    <a:lnTo>
                      <a:pt x="527" y="72"/>
                    </a:lnTo>
                    <a:lnTo>
                      <a:pt x="540" y="83"/>
                    </a:lnTo>
                    <a:lnTo>
                      <a:pt x="553" y="97"/>
                    </a:lnTo>
                    <a:lnTo>
                      <a:pt x="564" y="110"/>
                    </a:lnTo>
                    <a:lnTo>
                      <a:pt x="573" y="122"/>
                    </a:lnTo>
                    <a:lnTo>
                      <a:pt x="580" y="133"/>
                    </a:lnTo>
                    <a:lnTo>
                      <a:pt x="586" y="145"/>
                    </a:lnTo>
                    <a:lnTo>
                      <a:pt x="591" y="157"/>
                    </a:lnTo>
                    <a:lnTo>
                      <a:pt x="595" y="173"/>
                    </a:lnTo>
                    <a:lnTo>
                      <a:pt x="595" y="538"/>
                    </a:lnTo>
                    <a:lnTo>
                      <a:pt x="2" y="536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622000" y="5510160"/>
                <a:ext cx="181440" cy="181800"/>
              </a:xfrm>
              <a:prstGeom prst="ellipse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2" name=""/>
              <p:cNvGrpSpPr/>
              <p:nvPr/>
            </p:nvGrpSpPr>
            <p:grpSpPr>
              <a:xfrm>
                <a:off x="8723880" y="5528160"/>
                <a:ext cx="32040" cy="27720"/>
                <a:chOff x="8723880" y="5528160"/>
                <a:chExt cx="32040" cy="27720"/>
              </a:xfrm>
            </p:grpSpPr>
            <p:sp>
              <p:nvSpPr>
                <p:cNvPr id="2763" name=""/>
                <p:cNvSpPr/>
                <p:nvPr/>
              </p:nvSpPr>
              <p:spPr>
                <a:xfrm>
                  <a:off x="8723880" y="5528160"/>
                  <a:ext cx="21600" cy="20880"/>
                </a:xfrm>
                <a:prstGeom prst="ellipse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8739720" y="5540400"/>
                  <a:ext cx="16200" cy="15480"/>
                </a:xfrm>
                <a:prstGeom prst="ellipse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5" name=""/>
              <p:cNvSpPr/>
              <p:nvPr/>
            </p:nvSpPr>
            <p:spPr>
              <a:xfrm>
                <a:off x="8611200" y="5724360"/>
                <a:ext cx="214200" cy="190800"/>
              </a:xfrm>
              <a:custGeom>
                <a:avLst/>
                <a:gdLst/>
                <a:ahLst/>
                <a:rect l="l" t="t" r="r" b="b"/>
                <a:pathLst>
                  <a:path w="595" h="537">
                    <a:moveTo>
                      <a:pt x="0" y="184"/>
                    </a:moveTo>
                    <a:lnTo>
                      <a:pt x="1" y="167"/>
                    </a:lnTo>
                    <a:lnTo>
                      <a:pt x="6" y="149"/>
                    </a:lnTo>
                    <a:lnTo>
                      <a:pt x="13" y="134"/>
                    </a:lnTo>
                    <a:lnTo>
                      <a:pt x="22" y="118"/>
                    </a:lnTo>
                    <a:lnTo>
                      <a:pt x="31" y="106"/>
                    </a:lnTo>
                    <a:lnTo>
                      <a:pt x="40" y="94"/>
                    </a:lnTo>
                    <a:lnTo>
                      <a:pt x="52" y="81"/>
                    </a:lnTo>
                    <a:lnTo>
                      <a:pt x="68" y="69"/>
                    </a:lnTo>
                    <a:lnTo>
                      <a:pt x="87" y="57"/>
                    </a:lnTo>
                    <a:lnTo>
                      <a:pt x="111" y="43"/>
                    </a:lnTo>
                    <a:lnTo>
                      <a:pt x="134" y="33"/>
                    </a:lnTo>
                    <a:lnTo>
                      <a:pt x="162" y="23"/>
                    </a:lnTo>
                    <a:lnTo>
                      <a:pt x="188" y="15"/>
                    </a:lnTo>
                    <a:lnTo>
                      <a:pt x="217" y="9"/>
                    </a:lnTo>
                    <a:lnTo>
                      <a:pt x="244" y="4"/>
                    </a:lnTo>
                    <a:lnTo>
                      <a:pt x="265" y="3"/>
                    </a:lnTo>
                    <a:lnTo>
                      <a:pt x="290" y="0"/>
                    </a:lnTo>
                    <a:lnTo>
                      <a:pt x="317" y="0"/>
                    </a:lnTo>
                    <a:lnTo>
                      <a:pt x="337" y="3"/>
                    </a:lnTo>
                    <a:lnTo>
                      <a:pt x="359" y="5"/>
                    </a:lnTo>
                    <a:lnTo>
                      <a:pt x="383" y="10"/>
                    </a:lnTo>
                    <a:lnTo>
                      <a:pt x="405" y="15"/>
                    </a:lnTo>
                    <a:lnTo>
                      <a:pt x="427" y="22"/>
                    </a:lnTo>
                    <a:lnTo>
                      <a:pt x="448" y="29"/>
                    </a:lnTo>
                    <a:lnTo>
                      <a:pt x="470" y="39"/>
                    </a:lnTo>
                    <a:lnTo>
                      <a:pt x="485" y="46"/>
                    </a:lnTo>
                    <a:lnTo>
                      <a:pt x="498" y="54"/>
                    </a:lnTo>
                    <a:lnTo>
                      <a:pt x="512" y="63"/>
                    </a:lnTo>
                    <a:lnTo>
                      <a:pt x="526" y="72"/>
                    </a:lnTo>
                    <a:lnTo>
                      <a:pt x="539" y="82"/>
                    </a:lnTo>
                    <a:lnTo>
                      <a:pt x="553" y="96"/>
                    </a:lnTo>
                    <a:lnTo>
                      <a:pt x="563" y="110"/>
                    </a:lnTo>
                    <a:lnTo>
                      <a:pt x="572" y="122"/>
                    </a:lnTo>
                    <a:lnTo>
                      <a:pt x="579" y="132"/>
                    </a:lnTo>
                    <a:lnTo>
                      <a:pt x="585" y="144"/>
                    </a:lnTo>
                    <a:lnTo>
                      <a:pt x="590" y="156"/>
                    </a:lnTo>
                    <a:lnTo>
                      <a:pt x="595" y="172"/>
                    </a:lnTo>
                    <a:lnTo>
                      <a:pt x="595" y="537"/>
                    </a:lnTo>
                    <a:lnTo>
                      <a:pt x="1" y="535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613000" y="5729760"/>
                <a:ext cx="213840" cy="192240"/>
              </a:xfrm>
              <a:custGeom>
                <a:avLst/>
                <a:gdLst/>
                <a:ahLst/>
                <a:rect l="l" t="t" r="r" b="b"/>
                <a:pathLst>
                  <a:path w="595" h="538">
                    <a:moveTo>
                      <a:pt x="0" y="184"/>
                    </a:moveTo>
                    <a:lnTo>
                      <a:pt x="1" y="167"/>
                    </a:lnTo>
                    <a:lnTo>
                      <a:pt x="6" y="149"/>
                    </a:lnTo>
                    <a:lnTo>
                      <a:pt x="13" y="134"/>
                    </a:lnTo>
                    <a:lnTo>
                      <a:pt x="23" y="118"/>
                    </a:lnTo>
                    <a:lnTo>
                      <a:pt x="31" y="106"/>
                    </a:lnTo>
                    <a:lnTo>
                      <a:pt x="41" y="94"/>
                    </a:lnTo>
                    <a:lnTo>
                      <a:pt x="53" y="81"/>
                    </a:lnTo>
                    <a:lnTo>
                      <a:pt x="68" y="68"/>
                    </a:lnTo>
                    <a:lnTo>
                      <a:pt x="88" y="56"/>
                    </a:lnTo>
                    <a:lnTo>
                      <a:pt x="112" y="44"/>
                    </a:lnTo>
                    <a:lnTo>
                      <a:pt x="134" y="33"/>
                    </a:lnTo>
                    <a:lnTo>
                      <a:pt x="162" y="23"/>
                    </a:lnTo>
                    <a:lnTo>
                      <a:pt x="187" y="15"/>
                    </a:lnTo>
                    <a:lnTo>
                      <a:pt x="217" y="9"/>
                    </a:lnTo>
                    <a:lnTo>
                      <a:pt x="244" y="4"/>
                    </a:lnTo>
                    <a:lnTo>
                      <a:pt x="265" y="3"/>
                    </a:lnTo>
                    <a:lnTo>
                      <a:pt x="291" y="0"/>
                    </a:lnTo>
                    <a:lnTo>
                      <a:pt x="317" y="0"/>
                    </a:lnTo>
                    <a:lnTo>
                      <a:pt x="338" y="3"/>
                    </a:lnTo>
                    <a:lnTo>
                      <a:pt x="359" y="5"/>
                    </a:lnTo>
                    <a:lnTo>
                      <a:pt x="383" y="10"/>
                    </a:lnTo>
                    <a:lnTo>
                      <a:pt x="405" y="15"/>
                    </a:lnTo>
                    <a:lnTo>
                      <a:pt x="428" y="22"/>
                    </a:lnTo>
                    <a:lnTo>
                      <a:pt x="448" y="29"/>
                    </a:lnTo>
                    <a:lnTo>
                      <a:pt x="470" y="39"/>
                    </a:lnTo>
                    <a:lnTo>
                      <a:pt x="485" y="46"/>
                    </a:lnTo>
                    <a:lnTo>
                      <a:pt x="499" y="55"/>
                    </a:lnTo>
                    <a:lnTo>
                      <a:pt x="512" y="62"/>
                    </a:lnTo>
                    <a:lnTo>
                      <a:pt x="526" y="71"/>
                    </a:lnTo>
                    <a:lnTo>
                      <a:pt x="539" y="82"/>
                    </a:lnTo>
                    <a:lnTo>
                      <a:pt x="553" y="97"/>
                    </a:lnTo>
                    <a:lnTo>
                      <a:pt x="564" y="110"/>
                    </a:lnTo>
                    <a:lnTo>
                      <a:pt x="572" y="122"/>
                    </a:lnTo>
                    <a:lnTo>
                      <a:pt x="579" y="133"/>
                    </a:lnTo>
                    <a:lnTo>
                      <a:pt x="585" y="145"/>
                    </a:lnTo>
                    <a:lnTo>
                      <a:pt x="590" y="157"/>
                    </a:lnTo>
                    <a:lnTo>
                      <a:pt x="595" y="172"/>
                    </a:lnTo>
                    <a:lnTo>
                      <a:pt x="595" y="538"/>
                    </a:lnTo>
                    <a:lnTo>
                      <a:pt x="1" y="535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627760" y="5738760"/>
                <a:ext cx="181440" cy="180000"/>
              </a:xfrm>
              <a:prstGeom prst="ellipse">
                <a:avLst/>
              </a:prstGeom>
              <a:solidFill>
                <a:srgbClr val="66ff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8" name=""/>
              <p:cNvGrpSpPr/>
              <p:nvPr/>
            </p:nvGrpSpPr>
            <p:grpSpPr>
              <a:xfrm>
                <a:off x="8730000" y="5756400"/>
                <a:ext cx="31680" cy="27720"/>
                <a:chOff x="8730000" y="5756400"/>
                <a:chExt cx="31680" cy="27720"/>
              </a:xfrm>
            </p:grpSpPr>
            <p:sp>
              <p:nvSpPr>
                <p:cNvPr id="2769" name=""/>
                <p:cNvSpPr/>
                <p:nvPr/>
              </p:nvSpPr>
              <p:spPr>
                <a:xfrm>
                  <a:off x="8730000" y="5756400"/>
                  <a:ext cx="19440" cy="19080"/>
                </a:xfrm>
                <a:prstGeom prst="ellipse">
                  <a:avLst/>
                </a:prstGeom>
                <a:solidFill>
                  <a:srgbClr val="80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8746200" y="5768640"/>
                  <a:ext cx="15480" cy="15480"/>
                </a:xfrm>
                <a:prstGeom prst="ellipse">
                  <a:avLst/>
                </a:prstGeom>
                <a:solidFill>
                  <a:srgbClr val="80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1" name=""/>
            <p:cNvGrpSpPr/>
            <p:nvPr/>
          </p:nvGrpSpPr>
          <p:grpSpPr>
            <a:xfrm>
              <a:off x="276120" y="1257480"/>
              <a:ext cx="3576600" cy="1274760"/>
              <a:chOff x="276120" y="1257480"/>
              <a:chExt cx="3576600" cy="1274760"/>
            </a:xfrm>
          </p:grpSpPr>
          <p:sp>
            <p:nvSpPr>
              <p:cNvPr id="2772" name=""/>
              <p:cNvSpPr/>
              <p:nvPr/>
            </p:nvSpPr>
            <p:spPr>
              <a:xfrm>
                <a:off x="276120" y="1257480"/>
                <a:ext cx="3576600" cy="127476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6120" y="1257480"/>
                <a:ext cx="3567960" cy="1200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74" name=""/>
            <p:cNvSpPr/>
            <p:nvPr/>
          </p:nvSpPr>
          <p:spPr>
            <a:xfrm>
              <a:off x="637920" y="976320"/>
              <a:ext cx="253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o de referê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5" name=""/>
            <p:cNvGrpSpPr/>
            <p:nvPr/>
          </p:nvGrpSpPr>
          <p:grpSpPr>
            <a:xfrm>
              <a:off x="176040" y="3424320"/>
              <a:ext cx="1544400" cy="1673280"/>
              <a:chOff x="176040" y="3424320"/>
              <a:chExt cx="1544400" cy="1673280"/>
            </a:xfrm>
          </p:grpSpPr>
          <p:sp>
            <p:nvSpPr>
              <p:cNvPr id="2776" name=""/>
              <p:cNvSpPr/>
              <p:nvPr/>
            </p:nvSpPr>
            <p:spPr>
              <a:xfrm>
                <a:off x="176040" y="3424320"/>
                <a:ext cx="1544400" cy="1673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7" name=""/>
              <p:cNvGrpSpPr/>
              <p:nvPr/>
            </p:nvGrpSpPr>
            <p:grpSpPr>
              <a:xfrm>
                <a:off x="301320" y="3532320"/>
                <a:ext cx="519120" cy="600120"/>
                <a:chOff x="301320" y="3532320"/>
                <a:chExt cx="519120" cy="600120"/>
              </a:xfrm>
            </p:grpSpPr>
            <p:sp>
              <p:nvSpPr>
                <p:cNvPr id="2778" name=""/>
                <p:cNvSpPr/>
                <p:nvPr/>
              </p:nvSpPr>
              <p:spPr>
                <a:xfrm>
                  <a:off x="301320" y="3532320"/>
                  <a:ext cx="519120" cy="6001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358560" y="36316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358560" y="36813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358560" y="37310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358560" y="37807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358560" y="38307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358560" y="38804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358560" y="39301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358560" y="39801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358560" y="40294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8" name=""/>
              <p:cNvGrpSpPr/>
              <p:nvPr/>
            </p:nvGrpSpPr>
            <p:grpSpPr>
              <a:xfrm>
                <a:off x="507600" y="3791160"/>
                <a:ext cx="519120" cy="600120"/>
                <a:chOff x="507600" y="3791160"/>
                <a:chExt cx="519120" cy="600120"/>
              </a:xfrm>
            </p:grpSpPr>
            <p:sp>
              <p:nvSpPr>
                <p:cNvPr id="2789" name=""/>
                <p:cNvSpPr/>
                <p:nvPr/>
              </p:nvSpPr>
              <p:spPr>
                <a:xfrm>
                  <a:off x="507600" y="3791160"/>
                  <a:ext cx="519120" cy="6001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564840" y="38905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564840" y="39402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564840" y="39898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564840" y="40395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564840" y="40896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564840" y="41392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564840" y="41889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564840" y="42390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564840" y="42883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9" name=""/>
              <p:cNvGrpSpPr/>
              <p:nvPr/>
            </p:nvGrpSpPr>
            <p:grpSpPr>
              <a:xfrm>
                <a:off x="714240" y="4050000"/>
                <a:ext cx="519120" cy="600120"/>
                <a:chOff x="714240" y="4050000"/>
                <a:chExt cx="519120" cy="600120"/>
              </a:xfrm>
            </p:grpSpPr>
            <p:sp>
              <p:nvSpPr>
                <p:cNvPr id="2800" name=""/>
                <p:cNvSpPr/>
                <p:nvPr/>
              </p:nvSpPr>
              <p:spPr>
                <a:xfrm>
                  <a:off x="714240" y="4050000"/>
                  <a:ext cx="519120" cy="6001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771480" y="41493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771480" y="41990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771480" y="42487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771480" y="42984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771480" y="43484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771480" y="43981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771480" y="44478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771480" y="44978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771480" y="45471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0" name=""/>
              <p:cNvGrpSpPr/>
              <p:nvPr/>
            </p:nvGrpSpPr>
            <p:grpSpPr>
              <a:xfrm>
                <a:off x="920520" y="4308480"/>
                <a:ext cx="519120" cy="600120"/>
                <a:chOff x="920520" y="4308480"/>
                <a:chExt cx="519120" cy="600120"/>
              </a:xfrm>
            </p:grpSpPr>
            <p:sp>
              <p:nvSpPr>
                <p:cNvPr id="2811" name=""/>
                <p:cNvSpPr/>
                <p:nvPr/>
              </p:nvSpPr>
              <p:spPr>
                <a:xfrm>
                  <a:off x="920520" y="4308480"/>
                  <a:ext cx="519120" cy="6001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977760" y="44078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977760" y="44575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977760" y="45072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977760" y="45568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977760" y="46069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977760" y="46566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977760" y="47062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977760" y="47563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977760" y="48056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21" name=""/>
            <p:cNvSpPr/>
            <p:nvPr/>
          </p:nvSpPr>
          <p:spPr>
            <a:xfrm rot="5400000">
              <a:off x="1698480" y="4106880"/>
              <a:ext cx="485640" cy="225360"/>
            </a:xfrm>
            <a:prstGeom prst="triangle">
              <a:avLst>
                <a:gd name="adj" fmla="val 50000"/>
              </a:avLst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 rot="5400000">
              <a:off x="3852720" y="1692360"/>
              <a:ext cx="485640" cy="225360"/>
            </a:xfrm>
            <a:prstGeom prst="triangle">
              <a:avLst>
                <a:gd name="adj" fmla="val 50000"/>
              </a:avLst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H="1">
              <a:off x="213840" y="2100600"/>
              <a:ext cx="1187640" cy="137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474840" y="2136960"/>
              <a:ext cx="1187280" cy="13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 flipH="1">
              <a:off x="723960" y="2113200"/>
              <a:ext cx="1224000" cy="13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H="1">
              <a:off x="960120" y="2100600"/>
              <a:ext cx="1176120" cy="15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H="1">
              <a:off x="1152360" y="2113200"/>
              <a:ext cx="1222560" cy="157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H="1">
              <a:off x="1400040" y="2113200"/>
              <a:ext cx="1224000" cy="161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50920" y="5062680"/>
              <a:ext cx="2012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tálogo” de crité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Atividade genérica: avaliar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831" name=""/>
          <p:cNvGrpSpPr/>
          <p:nvPr/>
        </p:nvGrpSpPr>
        <p:grpSpPr>
          <a:xfrm>
            <a:off x="374760" y="1481400"/>
            <a:ext cx="8508960" cy="5191560"/>
            <a:chOff x="374760" y="1481400"/>
            <a:chExt cx="8508960" cy="5191560"/>
          </a:xfrm>
        </p:grpSpPr>
        <p:grpSp>
          <p:nvGrpSpPr>
            <p:cNvPr id="2832" name=""/>
            <p:cNvGrpSpPr/>
            <p:nvPr/>
          </p:nvGrpSpPr>
          <p:grpSpPr>
            <a:xfrm>
              <a:off x="374760" y="1481400"/>
              <a:ext cx="8508960" cy="973800"/>
              <a:chOff x="374760" y="1481400"/>
              <a:chExt cx="8508960" cy="973800"/>
            </a:xfrm>
          </p:grpSpPr>
          <p:sp>
            <p:nvSpPr>
              <p:cNvPr id="2833" name=""/>
              <p:cNvSpPr/>
              <p:nvPr/>
            </p:nvSpPr>
            <p:spPr>
              <a:xfrm>
                <a:off x="374760" y="1481400"/>
                <a:ext cx="157644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 cumprimento das tarefas planejada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 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2357280" y="1481400"/>
                <a:ext cx="213840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s resultados obtidos segundo os critérios estabelecid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903920" y="1481400"/>
                <a:ext cx="200952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s demais critérios quantitativos e indicado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321680" y="1481400"/>
                <a:ext cx="156204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 estudo da viabilidade econôm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837" name=""/>
            <p:cNvCxnSpPr>
              <a:stCxn id="2833" idx="2"/>
              <a:endCxn id="2838" idx="1"/>
            </p:cNvCxnSpPr>
            <p:nvPr/>
          </p:nvCxnSpPr>
          <p:spPr>
            <a:xfrm flipH="1" rot="16200000">
              <a:off x="1695240" y="1953720"/>
              <a:ext cx="1315080" cy="237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9" name=""/>
            <p:cNvCxnSpPr>
              <a:stCxn id="2836" idx="2"/>
              <a:endCxn id="2838" idx="3"/>
            </p:cNvCxnSpPr>
            <p:nvPr/>
          </p:nvCxnSpPr>
          <p:spPr>
            <a:xfrm rot="5400000">
              <a:off x="6252480" y="1951200"/>
              <a:ext cx="1315080" cy="238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40" name=""/>
            <p:cNvCxnSpPr>
              <a:stCxn id="2835" idx="2"/>
              <a:endCxn id="2838" idx="0"/>
            </p:cNvCxnSpPr>
            <p:nvPr/>
          </p:nvCxnSpPr>
          <p:spPr>
            <a:xfrm flipH="1">
              <a:off x="4630320" y="2486160"/>
              <a:ext cx="1278720" cy="1041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41" name=""/>
            <p:cNvCxnSpPr>
              <a:stCxn id="2834" idx="2"/>
              <a:endCxn id="2838" idx="0"/>
            </p:cNvCxnSpPr>
            <p:nvPr/>
          </p:nvCxnSpPr>
          <p:spPr>
            <a:xfrm>
              <a:off x="3427560" y="2486160"/>
              <a:ext cx="1203840" cy="1041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842" name=""/>
            <p:cNvGrpSpPr/>
            <p:nvPr/>
          </p:nvGrpSpPr>
          <p:grpSpPr>
            <a:xfrm>
              <a:off x="3413160" y="3556800"/>
              <a:ext cx="2432160" cy="3116160"/>
              <a:chOff x="3413160" y="3556800"/>
              <a:chExt cx="2432160" cy="3116160"/>
            </a:xfrm>
          </p:grpSpPr>
          <p:sp>
            <p:nvSpPr>
              <p:cNvPr id="2838" name=""/>
              <p:cNvSpPr/>
              <p:nvPr/>
            </p:nvSpPr>
            <p:spPr>
              <a:xfrm>
                <a:off x="3556080" y="3556800"/>
                <a:ext cx="2147760" cy="4870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cidir implementar ações corretiv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421080" y="4749480"/>
                <a:ext cx="2417760" cy="7304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cidir se pode ser realizada a atividade de aprovaçã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413160" y="6185880"/>
                <a:ext cx="2432160" cy="4870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eparar relatório para o time de avaliaçã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45" name=""/>
              <p:cNvCxnSpPr>
                <a:stCxn id="2838" idx="2"/>
                <a:endCxn id="2843" idx="0"/>
              </p:cNvCxnSpPr>
              <p:nvPr/>
            </p:nvCxnSpPr>
            <p:spPr>
              <a:xfrm>
                <a:off x="4630320" y="4073040"/>
                <a:ext cx="1080" cy="6469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6" name=""/>
              <p:cNvCxnSpPr>
                <a:stCxn id="2843" idx="2"/>
                <a:endCxn id="2844" idx="0"/>
              </p:cNvCxnSpPr>
              <p:nvPr/>
            </p:nvCxnSpPr>
            <p:spPr>
              <a:xfrm flipH="1">
                <a:off x="4628880" y="5509800"/>
                <a:ext cx="2160" cy="6469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847" name=""/>
          <p:cNvSpPr/>
          <p:nvPr/>
        </p:nvSpPr>
        <p:spPr>
          <a:xfrm>
            <a:off x="1763640" y="4149720"/>
            <a:ext cx="1035000" cy="736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-avali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232920" y="6054840"/>
            <a:ext cx="185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9" name=""/>
          <p:cNvGrpSpPr/>
          <p:nvPr/>
        </p:nvGrpSpPr>
        <p:grpSpPr>
          <a:xfrm>
            <a:off x="608040" y="5267160"/>
            <a:ext cx="1371240" cy="687600"/>
            <a:chOff x="608040" y="5267160"/>
            <a:chExt cx="1371240" cy="687600"/>
          </a:xfrm>
        </p:grpSpPr>
        <p:grpSp>
          <p:nvGrpSpPr>
            <p:cNvPr id="2850" name=""/>
            <p:cNvGrpSpPr/>
            <p:nvPr/>
          </p:nvGrpSpPr>
          <p:grpSpPr>
            <a:xfrm>
              <a:off x="608040" y="5267160"/>
              <a:ext cx="1371240" cy="687600"/>
              <a:chOff x="608040" y="5267160"/>
              <a:chExt cx="1371240" cy="687600"/>
            </a:xfrm>
          </p:grpSpPr>
          <p:sp>
            <p:nvSpPr>
              <p:cNvPr id="2851" name=""/>
              <p:cNvSpPr/>
              <p:nvPr/>
            </p:nvSpPr>
            <p:spPr>
              <a:xfrm>
                <a:off x="918720" y="545760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932040" y="54644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920880" y="5503680"/>
                <a:ext cx="68400" cy="14076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939240" y="561456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993600" y="568260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1001520" y="5501160"/>
                <a:ext cx="185400" cy="20592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1156320" y="571212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1174680" y="564444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1077840" y="569952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1067400" y="552060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1076760" y="559512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1014840" y="530244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1019520" y="539352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1105920" y="54000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629640" y="5488200"/>
                <a:ext cx="433440" cy="41040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1063440" y="571644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1013040" y="57740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54560" y="5375520"/>
                <a:ext cx="135720" cy="20268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812880" y="558648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828000" y="532368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819360" y="543060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866520" y="544248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044720" y="53694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083960" y="537300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057320" y="542484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537920" y="545544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1577880" y="556884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636200" y="557064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713240" y="556956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764720" y="5453640"/>
                <a:ext cx="164880" cy="45288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693800" y="5544360"/>
                <a:ext cx="36360" cy="26028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486800" y="574344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635480" y="531936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649520" y="540792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695960" y="539568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636200" y="528876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1729800" y="533304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1723680" y="5320440"/>
                <a:ext cx="64080" cy="6768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1288800" y="5408640"/>
                <a:ext cx="357840" cy="33912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1472400" y="570708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1306800" y="550944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1293480" y="555192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1370880" y="5458680"/>
                <a:ext cx="195120" cy="29088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1463040" y="541800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1540080" y="547812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1601640" y="553572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1422720" y="5453640"/>
                <a:ext cx="68040" cy="26028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1419480" y="5453640"/>
                <a:ext cx="71640" cy="26280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1354320" y="544500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1358280" y="527616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1383480" y="537876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1426680" y="536796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1411920" y="537300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1404000" y="53881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1423800" y="53856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1406880" y="541368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1370880" y="5309280"/>
                <a:ext cx="29520" cy="4500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1416600" y="53323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1361880" y="535932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1451880" y="53442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1415520" y="54324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1360440" y="54950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1360800" y="54712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1378440" y="551304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1386720" y="53636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1423440" y="53593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08200" y="541116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16840" y="544068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35200" y="54306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857160" y="542952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855720" y="54882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811440" y="548136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841320" y="54644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829440" y="551016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88760" y="5321880"/>
                <a:ext cx="105120" cy="7308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50960" y="532188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858960" y="536940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68240" y="546624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60320" y="543420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61760" y="54655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60320" y="547380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80480" y="543672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81560" y="543132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86960" y="5441760"/>
                <a:ext cx="792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92360" y="545184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822600" y="539244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835200" y="538992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27200" y="5494320"/>
                <a:ext cx="29520" cy="6192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08040" y="5534280"/>
                <a:ext cx="348480" cy="42048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20720" y="558648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86240" y="580968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804240" y="579708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853200" y="577404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924840" y="582768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823320" y="5563800"/>
                <a:ext cx="25560" cy="23148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49960" y="5546880"/>
                <a:ext cx="143640" cy="26028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936000" y="5747040"/>
                <a:ext cx="64800" cy="6192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983160" y="570384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1069920" y="577260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1093680" y="581148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1099800" y="579528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1064160" y="571644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1011600" y="577908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981360" y="527796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1043280" y="538236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1017720" y="536436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1028160" y="537228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1030320" y="537624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1035000" y="539100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1020960" y="539424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929520" y="544932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914040" y="549324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979920" y="566712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1002960" y="550440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1104480" y="549504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1073520" y="55926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1174680" y="563148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1149480" y="569016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1087200" y="571644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1161000" y="574884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1105920" y="53992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1040760" y="53661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1083240" y="53694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1085400" y="53787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1042920" y="53542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1085400" y="535860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1062720" y="540612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1078560" y="536688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1050840" y="53694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1087920" y="537300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056600" y="54237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1062000" y="54295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1355040" y="54432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1362960" y="547884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1320480" y="548676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1289520" y="550872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331640" y="560196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289520" y="564192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1295280" y="562896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1311480" y="553752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22640" y="546012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1385640" y="5430600"/>
                <a:ext cx="9720" cy="1692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1398240" y="54770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1398240" y="541548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1400760" y="545364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1455840" y="541440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424880" y="5473800"/>
                <a:ext cx="68040" cy="24588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405440" y="5551200"/>
                <a:ext cx="187560" cy="19764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1496160" y="54154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1544040" y="542304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1514160" y="547056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1585080" y="551016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1596600" y="563832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1601640" y="578952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1484280" y="5742720"/>
                <a:ext cx="145080" cy="12960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1527480" y="574272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1357560" y="52686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1381680" y="536112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1380240" y="536292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1419480" y="53506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1421280" y="535932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1415880" y="53542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1408320" y="536544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1424880" y="536868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1362240" y="536796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1452600" y="534996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1392840" y="53654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1428120" y="53593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1402200" y="538812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1399320" y="540864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1408680" y="542052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1378800" y="538668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1385640" y="539568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1434600" y="539172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1614960" y="55213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1636920" y="539748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1646280" y="541800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1672560" y="5370480"/>
                <a:ext cx="54360" cy="5076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1703160" y="539424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1667880" y="54450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1685880" y="54324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1700640" y="543996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1643400" y="542232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1679400" y="546804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1681920" y="547812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1616400" y="529056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1654920" y="5267160"/>
                <a:ext cx="137160" cy="27900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1719000" y="532368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730880" y="536688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737720" y="5395680"/>
                <a:ext cx="17640" cy="3384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1677960" y="548136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1733040" y="544068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1659960" y="535788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1674000" y="535068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1691280" y="534492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1717920" y="53823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1803240" y="5553720"/>
                <a:ext cx="176040" cy="40032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1776240" y="545436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47160" y="549864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1705680" y="555264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1" name=""/>
            <p:cNvSpPr/>
            <p:nvPr/>
          </p:nvSpPr>
          <p:spPr>
            <a:xfrm>
              <a:off x="1625040" y="554940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1745640" y="558648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742400" y="581832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603080" y="583776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603080" y="571464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641960" y="554940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ritérios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para Avaliação da Fase de Planejamento do Projeto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1/4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16080" y="887040"/>
            <a:ext cx="8370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Escopo do Produto Defi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características escolhidas para a definição do produto são sufici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metas de cada uma das características foram definidas de maneira inequívo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Escopo do Projeto Defi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am identificados todos os interessados do proje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i identificada a equipe de desenvolvi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responsabilidade e dedicação de cada um dos interessados e equipes que desempenharão tarefas no projeto foram identific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itens utilizados para descrever o escopo do projeto são suficient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am identificados todos os objetivos e metas principais do proje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ritérios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para Avaliação da Fase de Planejamento do Projeto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2/4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316080" y="874800"/>
            <a:ext cx="8370720" cy="59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am identificados o Preço e o Custo meta do produ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 um plano bem definido para o gerenciamento da Declaração do Escopo do Proje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lanejamento e Programação do Projeto Preparado (Detalhamento do Escopo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am identificados todos 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iverabl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 pacotes de trabalho do proje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tividades identificadas são capazes de resultar nas entregas e objetivos planejados para cada pacote de trabal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tividades foram programadas com prazos, esforço e recurs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recursos estão claramente definidos e seu uso está nivelado no decorrer do proje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ritérios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para Avaliação da Fase de Planejamento do Projeto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3/4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315720" y="1039320"/>
            <a:ext cx="866268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nálise de Risco Realiz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os principais riscos foram suficientemente identifica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am realizadas análises qualitativas e quantitativas para mitigar os risc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nálises resultaram em ações e mudanças suficientes para diminuir os risc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nálise de Viabilidade Econô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i preparado um orçamento realista do proje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i preparada uma análise de demanda suficientemente preci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ritérios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para Avaliação da Fase de Planejamento do Projeto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4/4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252360" y="1052640"/>
            <a:ext cx="866304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índices financeiros do projeto são superiores aos dados de atratividade, taxas e padrões, definidos previamente pela empresa? (No mínimo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ybac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TIR e VP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i feita uma análise de sensibilidade do plano, variando-se demanda e custos de insumos principais, para verificar se a viabilidade se manteria diante da relação a uma mudança no ambiente empresarial? O projeto mostrou-se robusto às variaçõ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dicadores de desempe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plano d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e preparar aqui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plano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finição de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93680" y="4516560"/>
            <a:ext cx="889488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projeto pode ser entendido como um empreendimento com começo, meio e fim bem definidos, seguindo a orientação do plano estratégico da empresa, e com o objetivo claro de criar um produto ou serviço bem delimi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193680" y="955800"/>
            <a:ext cx="6598800" cy="1295280"/>
            <a:chOff x="193680" y="955800"/>
            <a:chExt cx="6598800" cy="1295280"/>
          </a:xfrm>
        </p:grpSpPr>
        <p:grpSp>
          <p:nvGrpSpPr>
            <p:cNvPr id="947" name=""/>
            <p:cNvGrpSpPr/>
            <p:nvPr/>
          </p:nvGrpSpPr>
          <p:grpSpPr>
            <a:xfrm>
              <a:off x="193680" y="955800"/>
              <a:ext cx="5652720" cy="1295280"/>
              <a:chOff x="193680" y="955800"/>
              <a:chExt cx="5652720" cy="1295280"/>
            </a:xfrm>
          </p:grpSpPr>
          <p:sp>
            <p:nvSpPr>
              <p:cNvPr id="948" name=""/>
              <p:cNvSpPr/>
              <p:nvPr/>
            </p:nvSpPr>
            <p:spPr>
              <a:xfrm>
                <a:off x="193680" y="955800"/>
                <a:ext cx="26136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12000" y="955800"/>
                <a:ext cx="261720" cy="2286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083240" y="1184400"/>
                <a:ext cx="26172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502280" y="1184400"/>
                <a:ext cx="26136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973160" y="1184400"/>
                <a:ext cx="26136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601360" y="1108080"/>
                <a:ext cx="26136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438720" y="1108080"/>
                <a:ext cx="26172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62160" y="1108080"/>
                <a:ext cx="261360" cy="2286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380840" y="1108080"/>
                <a:ext cx="26172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904640" y="1108080"/>
                <a:ext cx="26136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375520" y="1108080"/>
                <a:ext cx="26136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585040" y="1489320"/>
                <a:ext cx="261360" cy="2286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695120" y="1717920"/>
                <a:ext cx="261720" cy="2286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171680" y="1565280"/>
                <a:ext cx="26136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53000" y="1565280"/>
                <a:ext cx="26172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334320" y="1565280"/>
                <a:ext cx="26136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810520" y="1565280"/>
                <a:ext cx="26172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391840" y="1565280"/>
                <a:ext cx="261360" cy="2286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973160" y="2022480"/>
                <a:ext cx="26136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54480" y="1717920"/>
                <a:ext cx="26172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083240" y="1641600"/>
                <a:ext cx="261720" cy="2286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12000" y="1641600"/>
                <a:ext cx="26172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12000" y="1336680"/>
                <a:ext cx="26172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12000" y="2022480"/>
                <a:ext cx="26172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135800" y="2022480"/>
                <a:ext cx="26136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444400" y="2022480"/>
                <a:ext cx="26136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915640" y="2022480"/>
                <a:ext cx="26136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753000" y="2022480"/>
                <a:ext cx="26172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171680" y="2022480"/>
                <a:ext cx="26136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695120" y="2022480"/>
                <a:ext cx="26172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166000" y="1870200"/>
                <a:ext cx="261720" cy="2286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79" name=""/>
              <p:cNvCxnSpPr>
                <a:stCxn id="948" idx="3"/>
                <a:endCxn id="949" idx="1"/>
              </p:cNvCxnSpPr>
              <p:nvPr/>
            </p:nvCxnSpPr>
            <p:spPr>
              <a:xfrm>
                <a:off x="455040" y="1069920"/>
                <a:ext cx="1576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80" name=""/>
              <p:cNvCxnSpPr>
                <a:stCxn id="949" idx="3"/>
                <a:endCxn id="950" idx="1"/>
              </p:cNvCxnSpPr>
              <p:nvPr/>
            </p:nvCxnSpPr>
            <p:spPr>
              <a:xfrm>
                <a:off x="873720" y="1069920"/>
                <a:ext cx="209880" cy="22932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81" name=""/>
              <p:cNvCxnSpPr>
                <a:stCxn id="950" idx="3"/>
                <a:endCxn id="951" idx="1"/>
              </p:cNvCxnSpPr>
              <p:nvPr/>
            </p:nvCxnSpPr>
            <p:spPr>
              <a:xfrm>
                <a:off x="1345320" y="1298520"/>
                <a:ext cx="1576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82" name=""/>
              <p:cNvCxnSpPr>
                <a:stCxn id="951" idx="3"/>
                <a:endCxn id="952" idx="1"/>
              </p:cNvCxnSpPr>
              <p:nvPr/>
            </p:nvCxnSpPr>
            <p:spPr>
              <a:xfrm>
                <a:off x="1763640" y="1298520"/>
                <a:ext cx="2098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83" name=""/>
              <p:cNvCxnSpPr>
                <a:stCxn id="952" idx="3"/>
                <a:endCxn id="965" idx="1"/>
              </p:cNvCxnSpPr>
              <p:nvPr/>
            </p:nvCxnSpPr>
            <p:spPr>
              <a:xfrm>
                <a:off x="2234880" y="1298880"/>
                <a:ext cx="157680" cy="381600"/>
              </a:xfrm>
              <a:prstGeom prst="bentConnector3">
                <a:avLst>
                  <a:gd name="adj1" fmla="val 4988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84" name=""/>
              <p:cNvCxnSpPr>
                <a:stCxn id="952" idx="3"/>
                <a:endCxn id="953" idx="1"/>
              </p:cNvCxnSpPr>
              <p:nvPr/>
            </p:nvCxnSpPr>
            <p:spPr>
              <a:xfrm flipV="1">
                <a:off x="2234880" y="1222560"/>
                <a:ext cx="367200" cy="76680"/>
              </a:xfrm>
              <a:prstGeom prst="bentConnector3">
                <a:avLst>
                  <a:gd name="adj1" fmla="val 4995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85" name=""/>
              <p:cNvCxnSpPr>
                <a:stCxn id="965" idx="3"/>
                <a:endCxn id="964" idx="1"/>
              </p:cNvCxnSpPr>
              <p:nvPr/>
            </p:nvCxnSpPr>
            <p:spPr>
              <a:xfrm>
                <a:off x="2653560" y="1679400"/>
                <a:ext cx="1576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86" name=""/>
              <p:cNvCxnSpPr>
                <a:stCxn id="964" idx="3"/>
                <a:endCxn id="963" idx="1"/>
              </p:cNvCxnSpPr>
              <p:nvPr/>
            </p:nvCxnSpPr>
            <p:spPr>
              <a:xfrm>
                <a:off x="3072600" y="1679400"/>
                <a:ext cx="2620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87" name=""/>
              <p:cNvCxnSpPr>
                <a:stCxn id="953" idx="3"/>
                <a:endCxn id="954" idx="1"/>
              </p:cNvCxnSpPr>
              <p:nvPr/>
            </p:nvCxnSpPr>
            <p:spPr>
              <a:xfrm>
                <a:off x="2862720" y="1222200"/>
                <a:ext cx="57636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88" name=""/>
              <p:cNvCxnSpPr>
                <a:stCxn id="954" idx="3"/>
                <a:endCxn id="955" idx="1"/>
              </p:cNvCxnSpPr>
              <p:nvPr/>
            </p:nvCxnSpPr>
            <p:spPr>
              <a:xfrm>
                <a:off x="3700800" y="1222200"/>
                <a:ext cx="2620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89" name=""/>
              <p:cNvCxnSpPr>
                <a:stCxn id="970" idx="3"/>
                <a:endCxn id="950" idx="1"/>
              </p:cNvCxnSpPr>
              <p:nvPr/>
            </p:nvCxnSpPr>
            <p:spPr>
              <a:xfrm flipV="1">
                <a:off x="873720" y="1298160"/>
                <a:ext cx="209880" cy="15300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90" name=""/>
              <p:cNvCxnSpPr>
                <a:stCxn id="969" idx="3"/>
                <a:endCxn id="968" idx="1"/>
              </p:cNvCxnSpPr>
              <p:nvPr/>
            </p:nvCxnSpPr>
            <p:spPr>
              <a:xfrm>
                <a:off x="873720" y="1755720"/>
                <a:ext cx="2098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91" name=""/>
              <p:cNvCxnSpPr>
                <a:stCxn id="968" idx="3"/>
                <a:endCxn id="951" idx="1"/>
              </p:cNvCxnSpPr>
              <p:nvPr/>
            </p:nvCxnSpPr>
            <p:spPr>
              <a:xfrm flipV="1">
                <a:off x="1345320" y="1298520"/>
                <a:ext cx="157680" cy="457920"/>
              </a:xfrm>
              <a:prstGeom prst="bentConnector3">
                <a:avLst>
                  <a:gd name="adj1" fmla="val 4988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92" name=""/>
              <p:cNvCxnSpPr>
                <a:stCxn id="964" idx="3"/>
                <a:endCxn id="954" idx="1"/>
              </p:cNvCxnSpPr>
              <p:nvPr/>
            </p:nvCxnSpPr>
            <p:spPr>
              <a:xfrm flipV="1">
                <a:off x="3072240" y="1222200"/>
                <a:ext cx="366840" cy="45792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93" name=""/>
              <p:cNvCxnSpPr>
                <a:stCxn id="963" idx="3"/>
                <a:endCxn id="975" idx="1"/>
              </p:cNvCxnSpPr>
              <p:nvPr/>
            </p:nvCxnSpPr>
            <p:spPr>
              <a:xfrm>
                <a:off x="3595680" y="1679760"/>
                <a:ext cx="157680" cy="457920"/>
              </a:xfrm>
              <a:prstGeom prst="bentConnector3">
                <a:avLst>
                  <a:gd name="adj1" fmla="val 4988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94" name=""/>
              <p:cNvCxnSpPr>
                <a:stCxn id="963" idx="3"/>
                <a:endCxn id="962" idx="1"/>
              </p:cNvCxnSpPr>
              <p:nvPr/>
            </p:nvCxnSpPr>
            <p:spPr>
              <a:xfrm>
                <a:off x="3595680" y="1679400"/>
                <a:ext cx="1576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95" name=""/>
              <p:cNvCxnSpPr>
                <a:stCxn id="955" idx="3"/>
                <a:endCxn id="956" idx="1"/>
              </p:cNvCxnSpPr>
              <p:nvPr/>
            </p:nvCxnSpPr>
            <p:spPr>
              <a:xfrm>
                <a:off x="4223880" y="1222200"/>
                <a:ext cx="1576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96" name=""/>
              <p:cNvCxnSpPr>
                <a:stCxn id="956" idx="3"/>
                <a:endCxn id="957" idx="1"/>
              </p:cNvCxnSpPr>
              <p:nvPr/>
            </p:nvCxnSpPr>
            <p:spPr>
              <a:xfrm>
                <a:off x="4642920" y="1222200"/>
                <a:ext cx="2620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97" name=""/>
              <p:cNvCxnSpPr>
                <a:stCxn id="957" idx="3"/>
                <a:endCxn id="958" idx="1"/>
              </p:cNvCxnSpPr>
              <p:nvPr/>
            </p:nvCxnSpPr>
            <p:spPr>
              <a:xfrm>
                <a:off x="5165640" y="1222200"/>
                <a:ext cx="2098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98" name=""/>
              <p:cNvCxnSpPr>
                <a:stCxn id="956" idx="3"/>
                <a:endCxn id="959" idx="1"/>
              </p:cNvCxnSpPr>
              <p:nvPr/>
            </p:nvCxnSpPr>
            <p:spPr>
              <a:xfrm>
                <a:off x="4642560" y="1222560"/>
                <a:ext cx="942840" cy="381600"/>
              </a:xfrm>
              <a:prstGeom prst="bentConnector3">
                <a:avLst>
                  <a:gd name="adj1" fmla="val 1386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99" name=""/>
              <p:cNvCxnSpPr>
                <a:stCxn id="971" idx="3"/>
                <a:endCxn id="968" idx="1"/>
              </p:cNvCxnSpPr>
              <p:nvPr/>
            </p:nvCxnSpPr>
            <p:spPr>
              <a:xfrm flipV="1">
                <a:off x="873720" y="1755720"/>
                <a:ext cx="209880" cy="38160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00" name=""/>
              <p:cNvCxnSpPr>
                <a:stCxn id="948" idx="3"/>
                <a:endCxn id="969" idx="1"/>
              </p:cNvCxnSpPr>
              <p:nvPr/>
            </p:nvCxnSpPr>
            <p:spPr>
              <a:xfrm>
                <a:off x="455040" y="1069920"/>
                <a:ext cx="157680" cy="686520"/>
              </a:xfrm>
              <a:prstGeom prst="bentConnector3">
                <a:avLst>
                  <a:gd name="adj1" fmla="val 4988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01" name=""/>
              <p:cNvCxnSpPr>
                <a:stCxn id="948" idx="3"/>
                <a:endCxn id="970" idx="1"/>
              </p:cNvCxnSpPr>
              <p:nvPr/>
            </p:nvCxnSpPr>
            <p:spPr>
              <a:xfrm>
                <a:off x="455040" y="1070280"/>
                <a:ext cx="157680" cy="381600"/>
              </a:xfrm>
              <a:prstGeom prst="bentConnector3">
                <a:avLst>
                  <a:gd name="adj1" fmla="val 4988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02" name=""/>
              <p:cNvCxnSpPr>
                <a:stCxn id="971" idx="3"/>
                <a:endCxn id="972" idx="1"/>
              </p:cNvCxnSpPr>
              <p:nvPr/>
            </p:nvCxnSpPr>
            <p:spPr>
              <a:xfrm>
                <a:off x="874080" y="2136600"/>
                <a:ext cx="2620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03" name=""/>
              <p:cNvCxnSpPr>
                <a:stCxn id="972" idx="3"/>
                <a:endCxn id="967" idx="1"/>
              </p:cNvCxnSpPr>
              <p:nvPr/>
            </p:nvCxnSpPr>
            <p:spPr>
              <a:xfrm flipV="1">
                <a:off x="1397160" y="1831320"/>
                <a:ext cx="157680" cy="305640"/>
              </a:xfrm>
              <a:prstGeom prst="bentConnector3">
                <a:avLst>
                  <a:gd name="adj1" fmla="val 4988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04" name=""/>
              <p:cNvCxnSpPr>
                <a:stCxn id="967" idx="3"/>
                <a:endCxn id="952" idx="1"/>
              </p:cNvCxnSpPr>
              <p:nvPr/>
            </p:nvCxnSpPr>
            <p:spPr>
              <a:xfrm flipV="1">
                <a:off x="1816200" y="1298160"/>
                <a:ext cx="157680" cy="533880"/>
              </a:xfrm>
              <a:prstGeom prst="bentConnector3">
                <a:avLst>
                  <a:gd name="adj1" fmla="val 4988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05" name=""/>
              <p:cNvCxnSpPr>
                <a:stCxn id="972" idx="3"/>
                <a:endCxn id="966" idx="1"/>
              </p:cNvCxnSpPr>
              <p:nvPr/>
            </p:nvCxnSpPr>
            <p:spPr>
              <a:xfrm>
                <a:off x="1396800" y="2136600"/>
                <a:ext cx="57636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06" name=""/>
              <p:cNvCxnSpPr>
                <a:stCxn id="966" idx="3"/>
                <a:endCxn id="973" idx="1"/>
              </p:cNvCxnSpPr>
              <p:nvPr/>
            </p:nvCxnSpPr>
            <p:spPr>
              <a:xfrm>
                <a:off x="2234520" y="2136600"/>
                <a:ext cx="2098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07" name=""/>
              <p:cNvCxnSpPr>
                <a:stCxn id="973" idx="3"/>
                <a:endCxn id="964" idx="1"/>
              </p:cNvCxnSpPr>
              <p:nvPr/>
            </p:nvCxnSpPr>
            <p:spPr>
              <a:xfrm flipV="1">
                <a:off x="2706120" y="1679400"/>
                <a:ext cx="105120" cy="457920"/>
              </a:xfrm>
              <a:prstGeom prst="bentConnector3">
                <a:avLst>
                  <a:gd name="adj1" fmla="val 49828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08" name=""/>
              <p:cNvCxnSpPr>
                <a:stCxn id="973" idx="3"/>
                <a:endCxn id="974" idx="1"/>
              </p:cNvCxnSpPr>
              <p:nvPr/>
            </p:nvCxnSpPr>
            <p:spPr>
              <a:xfrm>
                <a:off x="2705760" y="2136600"/>
                <a:ext cx="2098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09" name=""/>
              <p:cNvCxnSpPr>
                <a:stCxn id="974" idx="3"/>
                <a:endCxn id="963" idx="1"/>
              </p:cNvCxnSpPr>
              <p:nvPr/>
            </p:nvCxnSpPr>
            <p:spPr>
              <a:xfrm flipV="1">
                <a:off x="3177000" y="1679400"/>
                <a:ext cx="157680" cy="457920"/>
              </a:xfrm>
              <a:prstGeom prst="bentConnector3">
                <a:avLst>
                  <a:gd name="adj1" fmla="val 4988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10" name=""/>
              <p:cNvCxnSpPr>
                <a:stCxn id="962" idx="3"/>
                <a:endCxn id="961" idx="1"/>
              </p:cNvCxnSpPr>
              <p:nvPr/>
            </p:nvCxnSpPr>
            <p:spPr>
              <a:xfrm>
                <a:off x="4014720" y="1679400"/>
                <a:ext cx="1576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11" name=""/>
              <p:cNvCxnSpPr>
                <a:stCxn id="961" idx="3"/>
                <a:endCxn id="960" idx="1"/>
              </p:cNvCxnSpPr>
              <p:nvPr/>
            </p:nvCxnSpPr>
            <p:spPr>
              <a:xfrm>
                <a:off x="4433400" y="1679400"/>
                <a:ext cx="262080" cy="15300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12" name=""/>
              <p:cNvCxnSpPr>
                <a:stCxn id="975" idx="3"/>
                <a:endCxn id="961" idx="1"/>
              </p:cNvCxnSpPr>
              <p:nvPr/>
            </p:nvCxnSpPr>
            <p:spPr>
              <a:xfrm flipV="1">
                <a:off x="4014720" y="1679400"/>
                <a:ext cx="157680" cy="457920"/>
              </a:xfrm>
              <a:prstGeom prst="bentConnector3">
                <a:avLst>
                  <a:gd name="adj1" fmla="val 4988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13" name=""/>
              <p:cNvCxnSpPr>
                <a:stCxn id="960" idx="3"/>
                <a:endCxn id="978" idx="1"/>
              </p:cNvCxnSpPr>
              <p:nvPr/>
            </p:nvCxnSpPr>
            <p:spPr>
              <a:xfrm>
                <a:off x="4956480" y="1832040"/>
                <a:ext cx="209880" cy="15336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14" name=""/>
              <p:cNvCxnSpPr>
                <a:stCxn id="975" idx="3"/>
                <a:endCxn id="976" idx="1"/>
              </p:cNvCxnSpPr>
              <p:nvPr/>
            </p:nvCxnSpPr>
            <p:spPr>
              <a:xfrm>
                <a:off x="4014720" y="2136600"/>
                <a:ext cx="1576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15" name=""/>
              <p:cNvCxnSpPr>
                <a:stCxn id="976" idx="3"/>
                <a:endCxn id="977" idx="1"/>
              </p:cNvCxnSpPr>
              <p:nvPr/>
            </p:nvCxnSpPr>
            <p:spPr>
              <a:xfrm>
                <a:off x="4433400" y="2136600"/>
                <a:ext cx="2620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16" name=""/>
              <p:cNvCxnSpPr>
                <a:stCxn id="977" idx="3"/>
                <a:endCxn id="978" idx="1"/>
              </p:cNvCxnSpPr>
              <p:nvPr/>
            </p:nvCxnSpPr>
            <p:spPr>
              <a:xfrm flipV="1">
                <a:off x="4956480" y="1983960"/>
                <a:ext cx="209880" cy="15300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17" name=""/>
              <p:cNvCxnSpPr>
                <a:stCxn id="978" idx="3"/>
                <a:endCxn id="959" idx="1"/>
              </p:cNvCxnSpPr>
              <p:nvPr/>
            </p:nvCxnSpPr>
            <p:spPr>
              <a:xfrm flipV="1">
                <a:off x="5428080" y="1602720"/>
                <a:ext cx="157680" cy="381960"/>
              </a:xfrm>
              <a:prstGeom prst="bentConnector3">
                <a:avLst>
                  <a:gd name="adj1" fmla="val 4988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018" name=""/>
            <p:cNvSpPr/>
            <p:nvPr/>
          </p:nvSpPr>
          <p:spPr>
            <a:xfrm rot="5400000">
              <a:off x="5839920" y="1222200"/>
              <a:ext cx="1143000" cy="762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19" name=""/>
          <p:cNvGraphicFramePr/>
          <p:nvPr/>
        </p:nvGraphicFramePr>
        <p:xfrm>
          <a:off x="6977160" y="1017720"/>
          <a:ext cx="205560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77160" y="1017720"/>
                    <a:ext cx="2055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1" name="" descr=""/>
          <p:cNvPicPr/>
          <p:nvPr/>
        </p:nvPicPr>
        <p:blipFill>
          <a:blip r:embed="rId3"/>
          <a:stretch/>
        </p:blipFill>
        <p:spPr>
          <a:xfrm>
            <a:off x="2784600" y="2398680"/>
            <a:ext cx="2590560" cy="18655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Atividade genérica: aprovar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3068" name=""/>
          <p:cNvGrpSpPr/>
          <p:nvPr/>
        </p:nvGrpSpPr>
        <p:grpSpPr>
          <a:xfrm>
            <a:off x="268200" y="1492560"/>
            <a:ext cx="8615520" cy="5074560"/>
            <a:chOff x="268200" y="1492560"/>
            <a:chExt cx="8615520" cy="5074560"/>
          </a:xfrm>
        </p:grpSpPr>
        <p:sp>
          <p:nvSpPr>
            <p:cNvPr id="3069" name=""/>
            <p:cNvSpPr/>
            <p:nvPr/>
          </p:nvSpPr>
          <p:spPr>
            <a:xfrm>
              <a:off x="268200" y="1492560"/>
              <a:ext cx="219384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o relatório da auto-avaliação e discuti-lo com o time de desenvolvi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722680" y="1492560"/>
              <a:ext cx="238752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as evidências dos resultados e término das atividades planej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370480" y="1492560"/>
              <a:ext cx="168912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o portfólio de produtos e proje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321680" y="1492560"/>
              <a:ext cx="156204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o estudo de viabilidade econôm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73" name=""/>
            <p:cNvCxnSpPr>
              <a:stCxn id="3069" idx="2"/>
              <a:endCxn id="3074" idx="1"/>
            </p:cNvCxnSpPr>
            <p:nvPr/>
          </p:nvCxnSpPr>
          <p:spPr>
            <a:xfrm flipH="1" rot="16200000">
              <a:off x="1801440" y="2059920"/>
              <a:ext cx="1304280" cy="217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5" name=""/>
            <p:cNvCxnSpPr>
              <a:stCxn id="3072" idx="2"/>
              <a:endCxn id="3074" idx="3"/>
            </p:cNvCxnSpPr>
            <p:nvPr/>
          </p:nvCxnSpPr>
          <p:spPr>
            <a:xfrm rot="5400000">
              <a:off x="6257880" y="1956600"/>
              <a:ext cx="1304280" cy="238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6" name=""/>
            <p:cNvCxnSpPr>
              <a:stCxn id="3071" idx="2"/>
              <a:endCxn id="3074" idx="0"/>
            </p:cNvCxnSpPr>
            <p:nvPr/>
          </p:nvCxnSpPr>
          <p:spPr>
            <a:xfrm flipH="1">
              <a:off x="4629960" y="2496600"/>
              <a:ext cx="1585080" cy="90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7" name=""/>
            <p:cNvCxnSpPr>
              <a:stCxn id="3070" idx="2"/>
              <a:endCxn id="3074" idx="0"/>
            </p:cNvCxnSpPr>
            <p:nvPr/>
          </p:nvCxnSpPr>
          <p:spPr>
            <a:xfrm>
              <a:off x="3916440" y="2496600"/>
              <a:ext cx="714960" cy="90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74" name=""/>
            <p:cNvSpPr/>
            <p:nvPr/>
          </p:nvSpPr>
          <p:spPr>
            <a:xfrm>
              <a:off x="3556080" y="3435120"/>
              <a:ext cx="2147760" cy="7304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licar os critérios de avaliação e tomar a decis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429240" y="4977000"/>
              <a:ext cx="195768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relató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79" name=""/>
            <p:cNvCxnSpPr>
              <a:stCxn id="3074" idx="2"/>
              <a:endCxn id="3078" idx="0"/>
            </p:cNvCxnSpPr>
            <p:nvPr/>
          </p:nvCxnSpPr>
          <p:spPr>
            <a:xfrm>
              <a:off x="4630320" y="4195800"/>
              <a:ext cx="2778840" cy="753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80" name=""/>
            <p:cNvSpPr/>
            <p:nvPr/>
          </p:nvSpPr>
          <p:spPr>
            <a:xfrm>
              <a:off x="2766960" y="5581800"/>
              <a:ext cx="250344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ações corretiv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1" name=""/>
            <p:cNvCxnSpPr>
              <a:stCxn id="3074" idx="2"/>
              <a:endCxn id="3080" idx="0"/>
            </p:cNvCxnSpPr>
            <p:nvPr/>
          </p:nvCxnSpPr>
          <p:spPr>
            <a:xfrm flipH="1">
              <a:off x="4019040" y="4195800"/>
              <a:ext cx="612000" cy="135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2" name=""/>
            <p:cNvCxnSpPr>
              <a:stCxn id="3074" idx="2"/>
            </p:cNvCxnSpPr>
            <p:nvPr/>
          </p:nvCxnSpPr>
          <p:spPr>
            <a:xfrm flipH="1">
              <a:off x="1669680" y="4195440"/>
              <a:ext cx="2961360" cy="1532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3" name=""/>
            <p:cNvCxnSpPr>
              <a:stCxn id="3074" idx="2"/>
            </p:cNvCxnSpPr>
            <p:nvPr/>
          </p:nvCxnSpPr>
          <p:spPr>
            <a:xfrm flipH="1">
              <a:off x="299520" y="4195800"/>
              <a:ext cx="4331520" cy="1342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84" name=""/>
            <p:cNvSpPr/>
            <p:nvPr/>
          </p:nvSpPr>
          <p:spPr>
            <a:xfrm>
              <a:off x="1733760" y="4730760"/>
              <a:ext cx="100584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ance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713240" y="5216400"/>
              <a:ext cx="101808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nge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754080" y="4870440"/>
              <a:ext cx="134712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edirecion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405400" y="4356000"/>
              <a:ext cx="91728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prov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766960" y="6289920"/>
              <a:ext cx="250344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ris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985000" y="5635800"/>
              <a:ext cx="284796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lhorar processo de 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983200" y="6323400"/>
              <a:ext cx="284796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justar critérios próxima f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91" name=""/>
            <p:cNvCxnSpPr>
              <a:stCxn id="3078" idx="2"/>
              <a:endCxn id="3089" idx="0"/>
            </p:cNvCxnSpPr>
            <p:nvPr/>
          </p:nvCxnSpPr>
          <p:spPr>
            <a:xfrm>
              <a:off x="7408440" y="5249880"/>
              <a:ext cx="108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2" name=""/>
            <p:cNvCxnSpPr>
              <a:stCxn id="3089" idx="2"/>
              <a:endCxn id="3090" idx="0"/>
            </p:cNvCxnSpPr>
            <p:nvPr/>
          </p:nvCxnSpPr>
          <p:spPr>
            <a:xfrm flipH="1">
              <a:off x="7407000" y="5908680"/>
              <a:ext cx="2160" cy="386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3" name=""/>
            <p:cNvCxnSpPr>
              <a:stCxn id="3080" idx="2"/>
              <a:endCxn id="3088" idx="0"/>
            </p:cNvCxnSpPr>
            <p:nvPr/>
          </p:nvCxnSpPr>
          <p:spPr>
            <a:xfrm>
              <a:off x="4019040" y="5854320"/>
              <a:ext cx="1080" cy="407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94" name=""/>
          <p:cNvSpPr/>
          <p:nvPr/>
        </p:nvSpPr>
        <p:spPr>
          <a:xfrm>
            <a:off x="1080" y="4437000"/>
            <a:ext cx="18547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5" name=""/>
          <p:cNvGrpSpPr/>
          <p:nvPr/>
        </p:nvGrpSpPr>
        <p:grpSpPr>
          <a:xfrm>
            <a:off x="250920" y="3789360"/>
            <a:ext cx="1371240" cy="686880"/>
            <a:chOff x="250920" y="3789360"/>
            <a:chExt cx="1371240" cy="686880"/>
          </a:xfrm>
        </p:grpSpPr>
        <p:grpSp>
          <p:nvGrpSpPr>
            <p:cNvPr id="3096" name=""/>
            <p:cNvGrpSpPr/>
            <p:nvPr/>
          </p:nvGrpSpPr>
          <p:grpSpPr>
            <a:xfrm>
              <a:off x="250920" y="3789360"/>
              <a:ext cx="1371240" cy="686880"/>
              <a:chOff x="250920" y="3789360"/>
              <a:chExt cx="1371240" cy="686880"/>
            </a:xfrm>
          </p:grpSpPr>
          <p:sp>
            <p:nvSpPr>
              <p:cNvPr id="3097" name=""/>
              <p:cNvSpPr/>
              <p:nvPr/>
            </p:nvSpPr>
            <p:spPr>
              <a:xfrm>
                <a:off x="561600" y="397980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74920" y="39866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63760" y="402552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82120" y="413676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36480" y="420444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44400" y="402300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99200" y="423432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817560" y="416628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20720" y="422136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10280" y="40424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19640" y="411696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57720" y="382464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62400" y="391536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48800" y="39222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272520" y="401040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06320" y="423828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55920" y="42962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397440" y="389772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55760" y="410868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70880" y="384588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62240" y="395280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09400" y="396468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87600" y="38916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26840" y="389520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00200" y="394668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1180800" y="397728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1220760" y="409104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1279080" y="409248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1356120" y="409176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1407600" y="397548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1336680" y="406620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1129680" y="426564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1278360" y="384156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1292400" y="392976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338840" y="391788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1279080" y="381096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1372680" y="385524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1366560" y="384264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931680" y="393048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1115280" y="422892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949680" y="403164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936360" y="407376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1013760" y="398052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1105920" y="394020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1182960" y="400032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1244520" y="405792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1065600" y="397548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1062360" y="397548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997200" y="396720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001160" y="379836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026360" y="390096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1069560" y="389016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1054800" y="389520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1046880" y="3910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1066680" y="39078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1049760" y="393588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1013760" y="383148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1059480" y="38545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1004760" y="388152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1094760" y="38664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1058400" y="39546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1003320" y="40172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1003680" y="39934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1021320" y="403488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1029600" y="38858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1066320" y="38815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451080" y="393300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459720" y="396288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478080" y="39528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00040" y="395172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98600" y="40104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54320" y="400356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484200" y="39866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72320" y="403236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431640" y="384408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393840" y="384408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01840" y="389160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411120" y="398844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03200" y="395640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404640" y="39877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403200" y="399600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23360" y="395856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24440" y="395352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29840" y="396360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35240" y="397404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465480" y="391464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478080" y="391212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370080" y="401652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250920" y="405612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363600" y="410868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29120" y="433152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47120" y="431892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496080" y="429624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67720" y="434952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466200" y="408564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92840" y="406872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78880" y="426888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26040" y="422568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12800" y="42944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36560" y="433332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42680" y="431712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07040" y="423828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54480" y="430092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24240" y="380016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86160" y="390456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60600" y="388656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71040" y="389448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73200" y="389844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77880" y="391284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63840" y="391608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572400" y="397152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556920" y="401544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622800" y="418932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645840" y="402660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47360" y="401724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16400" y="41148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817560" y="415368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92360" y="421200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30080" y="423828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803880" y="427068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48800" y="39214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83640" y="38883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26120" y="38916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28280" y="39009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85800" y="38764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28280" y="388080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05600" y="392832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21440" y="388908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693720" y="3891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30800" y="389520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99480" y="39459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04880" y="39517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997920" y="3965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005840" y="400104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963360" y="400860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932400" y="403092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974520" y="412416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932400" y="416376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938160" y="415116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954360" y="405972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965520" y="398232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1028520" y="39528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1041120" y="39992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041120" y="393768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1043640" y="397548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1098720" y="393660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1067760" y="399600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1048320" y="407304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1139040" y="3937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1186920" y="394524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1157040" y="399240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1227960" y="403236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1239480" y="416052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1244520" y="431136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1127160" y="426492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1170360" y="426492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1000440" y="37908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1024560" y="388332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1023120" y="388476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1062360" y="38728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1064160" y="388152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1058760" y="38764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1051200" y="388728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1067760" y="389088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1005120" y="389016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1095480" y="387216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1035720" y="38872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1071000" y="38815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1045080" y="391032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1042200" y="393048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1051560" y="394272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1021680" y="390888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1028520" y="391788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1077480" y="391392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1257840" y="40435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1279800" y="391968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1289160" y="394020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1315440" y="389268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1346040" y="391608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1310760" y="39672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1328760" y="39546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1343520" y="396216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1286280" y="394416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1322280" y="398988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1324800" y="400032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1259280" y="381276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1297800" y="378936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1361880" y="384588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1373760" y="388908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1380600" y="391788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1320840" y="400356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1375920" y="396288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1302840" y="388008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1316880" y="387288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1334160" y="386712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1360800" y="39045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1446120" y="407556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1419120" y="397656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1490040" y="402048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1348560" y="407484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7" name=""/>
            <p:cNvSpPr/>
            <p:nvPr/>
          </p:nvSpPr>
          <p:spPr>
            <a:xfrm>
              <a:off x="1267920" y="407124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388520" y="410868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385280" y="434016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245960" y="435960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245960" y="423684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284840" y="407124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3" name=""/>
          <p:cNvGrpSpPr/>
          <p:nvPr/>
        </p:nvGrpSpPr>
        <p:grpSpPr>
          <a:xfrm>
            <a:off x="7380360" y="3716280"/>
            <a:ext cx="1274760" cy="720360"/>
            <a:chOff x="7380360" y="3716280"/>
            <a:chExt cx="1274760" cy="720360"/>
          </a:xfrm>
        </p:grpSpPr>
        <p:sp>
          <p:nvSpPr>
            <p:cNvPr id="3304" name=""/>
            <p:cNvSpPr/>
            <p:nvPr/>
          </p:nvSpPr>
          <p:spPr>
            <a:xfrm>
              <a:off x="7722000" y="4208400"/>
              <a:ext cx="567000" cy="133200"/>
            </a:xfrm>
            <a:custGeom>
              <a:avLst/>
              <a:gdLst/>
              <a:ahLst/>
              <a:rect l="l" t="t" r="r" b="b"/>
              <a:pathLst>
                <a:path w="7426" h="2003">
                  <a:moveTo>
                    <a:pt x="0" y="0"/>
                  </a:moveTo>
                  <a:lnTo>
                    <a:pt x="7426" y="0"/>
                  </a:lnTo>
                  <a:lnTo>
                    <a:pt x="6050" y="2003"/>
                  </a:lnTo>
                  <a:lnTo>
                    <a:pt x="0" y="20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946280" y="4215240"/>
              <a:ext cx="345960" cy="41040"/>
            </a:xfrm>
            <a:custGeom>
              <a:avLst/>
              <a:gdLst/>
              <a:ahLst/>
              <a:rect l="l" t="t" r="r" b="b"/>
              <a:pathLst>
                <a:path w="4520" h="620">
                  <a:moveTo>
                    <a:pt x="541" y="620"/>
                  </a:moveTo>
                  <a:lnTo>
                    <a:pt x="0" y="0"/>
                  </a:lnTo>
                  <a:lnTo>
                    <a:pt x="3269" y="0"/>
                  </a:lnTo>
                  <a:lnTo>
                    <a:pt x="4520" y="362"/>
                  </a:lnTo>
                  <a:lnTo>
                    <a:pt x="4520" y="620"/>
                  </a:lnTo>
                  <a:lnTo>
                    <a:pt x="541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381440" y="3919320"/>
              <a:ext cx="504720" cy="516240"/>
            </a:xfrm>
            <a:custGeom>
              <a:avLst/>
              <a:gdLst/>
              <a:ahLst/>
              <a:rect l="l" t="t" r="r" b="b"/>
              <a:pathLst>
                <a:path w="6609" h="7730">
                  <a:moveTo>
                    <a:pt x="0" y="1307"/>
                  </a:moveTo>
                  <a:lnTo>
                    <a:pt x="0" y="4054"/>
                  </a:lnTo>
                  <a:lnTo>
                    <a:pt x="524" y="4182"/>
                  </a:lnTo>
                  <a:lnTo>
                    <a:pt x="1012" y="4509"/>
                  </a:lnTo>
                  <a:lnTo>
                    <a:pt x="1421" y="4893"/>
                  </a:lnTo>
                  <a:lnTo>
                    <a:pt x="1881" y="5439"/>
                  </a:lnTo>
                  <a:lnTo>
                    <a:pt x="2204" y="6144"/>
                  </a:lnTo>
                  <a:lnTo>
                    <a:pt x="2513" y="7020"/>
                  </a:lnTo>
                  <a:lnTo>
                    <a:pt x="2737" y="7730"/>
                  </a:lnTo>
                  <a:lnTo>
                    <a:pt x="5123" y="7730"/>
                  </a:lnTo>
                  <a:lnTo>
                    <a:pt x="6609" y="6091"/>
                  </a:lnTo>
                  <a:lnTo>
                    <a:pt x="6609" y="5746"/>
                  </a:lnTo>
                  <a:lnTo>
                    <a:pt x="6480" y="5508"/>
                  </a:lnTo>
                  <a:lnTo>
                    <a:pt x="6185" y="5344"/>
                  </a:lnTo>
                  <a:lnTo>
                    <a:pt x="5416" y="5031"/>
                  </a:lnTo>
                  <a:lnTo>
                    <a:pt x="5365" y="4985"/>
                  </a:lnTo>
                  <a:lnTo>
                    <a:pt x="4911" y="4906"/>
                  </a:lnTo>
                  <a:lnTo>
                    <a:pt x="4746" y="4856"/>
                  </a:lnTo>
                  <a:lnTo>
                    <a:pt x="4581" y="3272"/>
                  </a:lnTo>
                  <a:lnTo>
                    <a:pt x="4468" y="2742"/>
                  </a:lnTo>
                  <a:lnTo>
                    <a:pt x="4434" y="2490"/>
                  </a:lnTo>
                  <a:lnTo>
                    <a:pt x="4212" y="2017"/>
                  </a:lnTo>
                  <a:lnTo>
                    <a:pt x="4117" y="1909"/>
                  </a:lnTo>
                  <a:lnTo>
                    <a:pt x="3959" y="1760"/>
                  </a:lnTo>
                  <a:lnTo>
                    <a:pt x="3610" y="1580"/>
                  </a:lnTo>
                  <a:lnTo>
                    <a:pt x="3115" y="1199"/>
                  </a:lnTo>
                  <a:lnTo>
                    <a:pt x="2333" y="417"/>
                  </a:lnTo>
                  <a:lnTo>
                    <a:pt x="1748" y="125"/>
                  </a:lnTo>
                  <a:lnTo>
                    <a:pt x="1222" y="0"/>
                  </a:lnTo>
                  <a:lnTo>
                    <a:pt x="894" y="399"/>
                  </a:lnTo>
                  <a:lnTo>
                    <a:pt x="599" y="582"/>
                  </a:lnTo>
                  <a:lnTo>
                    <a:pt x="146" y="1142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998840" y="3951720"/>
              <a:ext cx="649080" cy="482760"/>
            </a:xfrm>
            <a:custGeom>
              <a:avLst/>
              <a:gdLst/>
              <a:ahLst/>
              <a:rect l="l" t="t" r="r" b="b"/>
              <a:pathLst>
                <a:path w="8500" h="7234">
                  <a:moveTo>
                    <a:pt x="1999" y="4964"/>
                  </a:moveTo>
                  <a:lnTo>
                    <a:pt x="2075" y="4850"/>
                  </a:lnTo>
                  <a:lnTo>
                    <a:pt x="2430" y="4721"/>
                  </a:lnTo>
                  <a:lnTo>
                    <a:pt x="2665" y="4593"/>
                  </a:lnTo>
                  <a:lnTo>
                    <a:pt x="2915" y="4406"/>
                  </a:lnTo>
                  <a:lnTo>
                    <a:pt x="3339" y="4350"/>
                  </a:lnTo>
                  <a:lnTo>
                    <a:pt x="3412" y="3980"/>
                  </a:lnTo>
                  <a:lnTo>
                    <a:pt x="3507" y="3739"/>
                  </a:lnTo>
                  <a:lnTo>
                    <a:pt x="3658" y="2910"/>
                  </a:lnTo>
                  <a:lnTo>
                    <a:pt x="3788" y="2312"/>
                  </a:lnTo>
                  <a:lnTo>
                    <a:pt x="3954" y="1906"/>
                  </a:lnTo>
                  <a:lnTo>
                    <a:pt x="4137" y="1651"/>
                  </a:lnTo>
                  <a:lnTo>
                    <a:pt x="4454" y="1540"/>
                  </a:lnTo>
                  <a:lnTo>
                    <a:pt x="4641" y="1356"/>
                  </a:lnTo>
                  <a:lnTo>
                    <a:pt x="4710" y="1277"/>
                  </a:lnTo>
                  <a:lnTo>
                    <a:pt x="4710" y="1116"/>
                  </a:lnTo>
                  <a:lnTo>
                    <a:pt x="4803" y="876"/>
                  </a:lnTo>
                  <a:lnTo>
                    <a:pt x="5123" y="449"/>
                  </a:lnTo>
                  <a:lnTo>
                    <a:pt x="5717" y="76"/>
                  </a:lnTo>
                  <a:lnTo>
                    <a:pt x="6158" y="0"/>
                  </a:lnTo>
                  <a:lnTo>
                    <a:pt x="6737" y="466"/>
                  </a:lnTo>
                  <a:lnTo>
                    <a:pt x="6999" y="648"/>
                  </a:lnTo>
                  <a:lnTo>
                    <a:pt x="7329" y="1042"/>
                  </a:lnTo>
                  <a:lnTo>
                    <a:pt x="7679" y="1589"/>
                  </a:lnTo>
                  <a:lnTo>
                    <a:pt x="8016" y="2312"/>
                  </a:lnTo>
                  <a:lnTo>
                    <a:pt x="8389" y="3147"/>
                  </a:lnTo>
                  <a:lnTo>
                    <a:pt x="8500" y="3499"/>
                  </a:lnTo>
                  <a:lnTo>
                    <a:pt x="7772" y="3776"/>
                  </a:lnTo>
                  <a:lnTo>
                    <a:pt x="7128" y="4350"/>
                  </a:lnTo>
                  <a:lnTo>
                    <a:pt x="6807" y="4795"/>
                  </a:lnTo>
                  <a:lnTo>
                    <a:pt x="6495" y="5330"/>
                  </a:lnTo>
                  <a:lnTo>
                    <a:pt x="6289" y="5980"/>
                  </a:lnTo>
                  <a:lnTo>
                    <a:pt x="6091" y="7234"/>
                  </a:lnTo>
                  <a:lnTo>
                    <a:pt x="0" y="7234"/>
                  </a:lnTo>
                  <a:lnTo>
                    <a:pt x="1355" y="5533"/>
                  </a:lnTo>
                  <a:lnTo>
                    <a:pt x="1999" y="49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182800" y="4242600"/>
              <a:ext cx="70560" cy="98640"/>
            </a:xfrm>
            <a:custGeom>
              <a:avLst/>
              <a:gdLst/>
              <a:ahLst/>
              <a:rect l="l" t="t" r="r" b="b"/>
              <a:pathLst>
                <a:path w="927" h="1480">
                  <a:moveTo>
                    <a:pt x="394" y="113"/>
                  </a:moveTo>
                  <a:lnTo>
                    <a:pt x="670" y="386"/>
                  </a:lnTo>
                  <a:lnTo>
                    <a:pt x="670" y="540"/>
                  </a:lnTo>
                  <a:lnTo>
                    <a:pt x="0" y="851"/>
                  </a:lnTo>
                  <a:lnTo>
                    <a:pt x="112" y="1480"/>
                  </a:lnTo>
                  <a:lnTo>
                    <a:pt x="670" y="1245"/>
                  </a:lnTo>
                  <a:lnTo>
                    <a:pt x="778" y="962"/>
                  </a:lnTo>
                  <a:lnTo>
                    <a:pt x="855" y="243"/>
                  </a:lnTo>
                  <a:lnTo>
                    <a:pt x="927" y="0"/>
                  </a:lnTo>
                  <a:lnTo>
                    <a:pt x="479" y="56"/>
                  </a:lnTo>
                  <a:lnTo>
                    <a:pt x="394" y="11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154720" y="3993120"/>
              <a:ext cx="500400" cy="441720"/>
            </a:xfrm>
            <a:custGeom>
              <a:avLst/>
              <a:gdLst/>
              <a:ahLst/>
              <a:rect l="l" t="t" r="r" b="b"/>
              <a:pathLst>
                <a:path w="6551" h="6616">
                  <a:moveTo>
                    <a:pt x="6551" y="2921"/>
                  </a:moveTo>
                  <a:lnTo>
                    <a:pt x="6133" y="3048"/>
                  </a:lnTo>
                  <a:lnTo>
                    <a:pt x="5692" y="3252"/>
                  </a:lnTo>
                  <a:lnTo>
                    <a:pt x="5378" y="3432"/>
                  </a:lnTo>
                  <a:lnTo>
                    <a:pt x="5048" y="3801"/>
                  </a:lnTo>
                  <a:lnTo>
                    <a:pt x="4712" y="4252"/>
                  </a:lnTo>
                  <a:lnTo>
                    <a:pt x="4470" y="4694"/>
                  </a:lnTo>
                  <a:lnTo>
                    <a:pt x="3396" y="6547"/>
                  </a:lnTo>
                  <a:lnTo>
                    <a:pt x="2278" y="6616"/>
                  </a:lnTo>
                  <a:lnTo>
                    <a:pt x="0" y="6616"/>
                  </a:lnTo>
                  <a:lnTo>
                    <a:pt x="108" y="6197"/>
                  </a:lnTo>
                  <a:lnTo>
                    <a:pt x="367" y="6485"/>
                  </a:lnTo>
                  <a:lnTo>
                    <a:pt x="606" y="6524"/>
                  </a:lnTo>
                  <a:lnTo>
                    <a:pt x="457" y="6322"/>
                  </a:lnTo>
                  <a:lnTo>
                    <a:pt x="457" y="5971"/>
                  </a:lnTo>
                  <a:lnTo>
                    <a:pt x="870" y="5599"/>
                  </a:lnTo>
                  <a:lnTo>
                    <a:pt x="1145" y="6227"/>
                  </a:lnTo>
                  <a:lnTo>
                    <a:pt x="1332" y="6524"/>
                  </a:lnTo>
                  <a:lnTo>
                    <a:pt x="1909" y="6098"/>
                  </a:lnTo>
                  <a:lnTo>
                    <a:pt x="2466" y="5252"/>
                  </a:lnTo>
                  <a:lnTo>
                    <a:pt x="1481" y="5671"/>
                  </a:lnTo>
                  <a:lnTo>
                    <a:pt x="2134" y="4837"/>
                  </a:lnTo>
                  <a:lnTo>
                    <a:pt x="1462" y="4936"/>
                  </a:lnTo>
                  <a:lnTo>
                    <a:pt x="1446" y="4751"/>
                  </a:lnTo>
                  <a:lnTo>
                    <a:pt x="2206" y="4103"/>
                  </a:lnTo>
                  <a:lnTo>
                    <a:pt x="2241" y="4435"/>
                  </a:lnTo>
                  <a:lnTo>
                    <a:pt x="2448" y="4498"/>
                  </a:lnTo>
                  <a:lnTo>
                    <a:pt x="3188" y="3956"/>
                  </a:lnTo>
                  <a:lnTo>
                    <a:pt x="3465" y="3342"/>
                  </a:lnTo>
                  <a:lnTo>
                    <a:pt x="3558" y="2377"/>
                  </a:lnTo>
                  <a:lnTo>
                    <a:pt x="3211" y="1477"/>
                  </a:lnTo>
                  <a:lnTo>
                    <a:pt x="4212" y="2342"/>
                  </a:lnTo>
                  <a:lnTo>
                    <a:pt x="5378" y="2694"/>
                  </a:lnTo>
                  <a:lnTo>
                    <a:pt x="5766" y="2960"/>
                  </a:lnTo>
                  <a:lnTo>
                    <a:pt x="6254" y="2881"/>
                  </a:lnTo>
                  <a:lnTo>
                    <a:pt x="6087" y="2248"/>
                  </a:lnTo>
                  <a:lnTo>
                    <a:pt x="5582" y="971"/>
                  </a:lnTo>
                  <a:lnTo>
                    <a:pt x="5140" y="258"/>
                  </a:lnTo>
                  <a:lnTo>
                    <a:pt x="4894" y="0"/>
                  </a:lnTo>
                  <a:lnTo>
                    <a:pt x="5250" y="327"/>
                  </a:lnTo>
                  <a:lnTo>
                    <a:pt x="5634" y="940"/>
                  </a:lnTo>
                  <a:lnTo>
                    <a:pt x="6030" y="1810"/>
                  </a:lnTo>
                  <a:lnTo>
                    <a:pt x="6344" y="2513"/>
                  </a:lnTo>
                  <a:lnTo>
                    <a:pt x="6551" y="2921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418600" y="3953520"/>
              <a:ext cx="60120" cy="57600"/>
            </a:xfrm>
            <a:custGeom>
              <a:avLst/>
              <a:gdLst/>
              <a:ahLst/>
              <a:rect l="l" t="t" r="r" b="b"/>
              <a:pathLst>
                <a:path w="791" h="867">
                  <a:moveTo>
                    <a:pt x="197" y="120"/>
                  </a:moveTo>
                  <a:lnTo>
                    <a:pt x="307" y="199"/>
                  </a:lnTo>
                  <a:lnTo>
                    <a:pt x="386" y="512"/>
                  </a:lnTo>
                  <a:lnTo>
                    <a:pt x="346" y="625"/>
                  </a:lnTo>
                  <a:lnTo>
                    <a:pt x="0" y="867"/>
                  </a:lnTo>
                  <a:lnTo>
                    <a:pt x="791" y="535"/>
                  </a:lnTo>
                  <a:lnTo>
                    <a:pt x="791" y="298"/>
                  </a:lnTo>
                  <a:lnTo>
                    <a:pt x="573" y="0"/>
                  </a:lnTo>
                  <a:lnTo>
                    <a:pt x="346" y="39"/>
                  </a:lnTo>
                  <a:lnTo>
                    <a:pt x="197" y="12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745040" y="3876120"/>
              <a:ext cx="531720" cy="353160"/>
            </a:xfrm>
            <a:custGeom>
              <a:avLst/>
              <a:gdLst/>
              <a:ahLst/>
              <a:rect l="l" t="t" r="r" b="b"/>
              <a:pathLst>
                <a:path w="6960" h="5288">
                  <a:moveTo>
                    <a:pt x="2583" y="0"/>
                  </a:moveTo>
                  <a:lnTo>
                    <a:pt x="2425" y="32"/>
                  </a:lnTo>
                  <a:lnTo>
                    <a:pt x="2146" y="173"/>
                  </a:lnTo>
                  <a:lnTo>
                    <a:pt x="1372" y="233"/>
                  </a:lnTo>
                  <a:lnTo>
                    <a:pt x="592" y="498"/>
                  </a:lnTo>
                  <a:lnTo>
                    <a:pt x="229" y="706"/>
                  </a:lnTo>
                  <a:lnTo>
                    <a:pt x="141" y="876"/>
                  </a:lnTo>
                  <a:lnTo>
                    <a:pt x="93" y="1047"/>
                  </a:lnTo>
                  <a:lnTo>
                    <a:pt x="141" y="1374"/>
                  </a:lnTo>
                  <a:lnTo>
                    <a:pt x="229" y="1625"/>
                  </a:lnTo>
                  <a:lnTo>
                    <a:pt x="141" y="2183"/>
                  </a:lnTo>
                  <a:lnTo>
                    <a:pt x="102" y="2308"/>
                  </a:lnTo>
                  <a:lnTo>
                    <a:pt x="32" y="2356"/>
                  </a:lnTo>
                  <a:lnTo>
                    <a:pt x="0" y="2444"/>
                  </a:lnTo>
                  <a:lnTo>
                    <a:pt x="12" y="2620"/>
                  </a:lnTo>
                  <a:lnTo>
                    <a:pt x="155" y="3086"/>
                  </a:lnTo>
                  <a:lnTo>
                    <a:pt x="155" y="3277"/>
                  </a:lnTo>
                  <a:lnTo>
                    <a:pt x="141" y="3525"/>
                  </a:lnTo>
                  <a:lnTo>
                    <a:pt x="126" y="3655"/>
                  </a:lnTo>
                  <a:lnTo>
                    <a:pt x="32" y="3928"/>
                  </a:lnTo>
                  <a:lnTo>
                    <a:pt x="44" y="4198"/>
                  </a:lnTo>
                  <a:lnTo>
                    <a:pt x="556" y="4862"/>
                  </a:lnTo>
                  <a:lnTo>
                    <a:pt x="888" y="4980"/>
                  </a:lnTo>
                  <a:lnTo>
                    <a:pt x="1003" y="5053"/>
                  </a:lnTo>
                  <a:lnTo>
                    <a:pt x="1361" y="5022"/>
                  </a:lnTo>
                  <a:lnTo>
                    <a:pt x="1671" y="5148"/>
                  </a:lnTo>
                  <a:lnTo>
                    <a:pt x="2062" y="5288"/>
                  </a:lnTo>
                  <a:lnTo>
                    <a:pt x="2704" y="4862"/>
                  </a:lnTo>
                  <a:lnTo>
                    <a:pt x="6835" y="4837"/>
                  </a:lnTo>
                  <a:lnTo>
                    <a:pt x="6960" y="4152"/>
                  </a:lnTo>
                  <a:lnTo>
                    <a:pt x="6621" y="4119"/>
                  </a:lnTo>
                  <a:lnTo>
                    <a:pt x="6446" y="3917"/>
                  </a:lnTo>
                  <a:lnTo>
                    <a:pt x="6333" y="3853"/>
                  </a:lnTo>
                  <a:lnTo>
                    <a:pt x="6151" y="3536"/>
                  </a:lnTo>
                  <a:lnTo>
                    <a:pt x="6022" y="3011"/>
                  </a:lnTo>
                  <a:lnTo>
                    <a:pt x="5955" y="2780"/>
                  </a:lnTo>
                  <a:lnTo>
                    <a:pt x="5912" y="2483"/>
                  </a:lnTo>
                  <a:lnTo>
                    <a:pt x="5773" y="2420"/>
                  </a:lnTo>
                  <a:lnTo>
                    <a:pt x="5745" y="2229"/>
                  </a:lnTo>
                  <a:lnTo>
                    <a:pt x="5773" y="1812"/>
                  </a:lnTo>
                  <a:lnTo>
                    <a:pt x="5745" y="1515"/>
                  </a:lnTo>
                  <a:lnTo>
                    <a:pt x="5710" y="1314"/>
                  </a:lnTo>
                  <a:lnTo>
                    <a:pt x="5660" y="1097"/>
                  </a:lnTo>
                  <a:lnTo>
                    <a:pt x="5584" y="998"/>
                  </a:lnTo>
                  <a:lnTo>
                    <a:pt x="5521" y="966"/>
                  </a:lnTo>
                  <a:lnTo>
                    <a:pt x="5424" y="936"/>
                  </a:lnTo>
                  <a:lnTo>
                    <a:pt x="4848" y="717"/>
                  </a:lnTo>
                  <a:lnTo>
                    <a:pt x="4240" y="438"/>
                  </a:lnTo>
                  <a:lnTo>
                    <a:pt x="3850" y="267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897320" y="4165920"/>
              <a:ext cx="69120" cy="61920"/>
            </a:xfrm>
            <a:custGeom>
              <a:avLst/>
              <a:gdLst/>
              <a:ahLst/>
              <a:rect l="l" t="t" r="r" b="b"/>
              <a:pathLst>
                <a:path w="904" h="929">
                  <a:moveTo>
                    <a:pt x="626" y="0"/>
                  </a:moveTo>
                  <a:lnTo>
                    <a:pt x="904" y="74"/>
                  </a:lnTo>
                  <a:lnTo>
                    <a:pt x="720" y="221"/>
                  </a:lnTo>
                  <a:lnTo>
                    <a:pt x="477" y="584"/>
                  </a:lnTo>
                  <a:lnTo>
                    <a:pt x="293" y="929"/>
                  </a:lnTo>
                  <a:lnTo>
                    <a:pt x="0" y="843"/>
                  </a:lnTo>
                  <a:lnTo>
                    <a:pt x="26" y="558"/>
                  </a:lnTo>
                  <a:lnTo>
                    <a:pt x="132" y="378"/>
                  </a:lnTo>
                  <a:lnTo>
                    <a:pt x="277" y="228"/>
                  </a:lnTo>
                  <a:lnTo>
                    <a:pt x="487" y="74"/>
                  </a:lnTo>
                  <a:lnTo>
                    <a:pt x="6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896600" y="4177440"/>
              <a:ext cx="39600" cy="50760"/>
            </a:xfrm>
            <a:custGeom>
              <a:avLst/>
              <a:gdLst/>
              <a:ahLst/>
              <a:rect l="l" t="t" r="r" b="b"/>
              <a:pathLst>
                <a:path w="521" h="763">
                  <a:moveTo>
                    <a:pt x="402" y="0"/>
                  </a:moveTo>
                  <a:lnTo>
                    <a:pt x="249" y="172"/>
                  </a:lnTo>
                  <a:lnTo>
                    <a:pt x="152" y="366"/>
                  </a:lnTo>
                  <a:lnTo>
                    <a:pt x="327" y="378"/>
                  </a:lnTo>
                  <a:lnTo>
                    <a:pt x="521" y="212"/>
                  </a:lnTo>
                  <a:lnTo>
                    <a:pt x="378" y="535"/>
                  </a:lnTo>
                  <a:lnTo>
                    <a:pt x="327" y="763"/>
                  </a:lnTo>
                  <a:lnTo>
                    <a:pt x="0" y="763"/>
                  </a:lnTo>
                  <a:lnTo>
                    <a:pt x="11" y="574"/>
                  </a:lnTo>
                  <a:lnTo>
                    <a:pt x="77" y="322"/>
                  </a:lnTo>
                  <a:lnTo>
                    <a:pt x="207" y="17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930800" y="3878640"/>
              <a:ext cx="114840" cy="259560"/>
            </a:xfrm>
            <a:custGeom>
              <a:avLst/>
              <a:gdLst/>
              <a:ahLst/>
              <a:rect l="l" t="t" r="r" b="b"/>
              <a:pathLst>
                <a:path w="1500" h="3892">
                  <a:moveTo>
                    <a:pt x="143" y="0"/>
                  </a:moveTo>
                  <a:lnTo>
                    <a:pt x="1500" y="561"/>
                  </a:lnTo>
                  <a:lnTo>
                    <a:pt x="1500" y="1046"/>
                  </a:lnTo>
                  <a:lnTo>
                    <a:pt x="1426" y="1553"/>
                  </a:lnTo>
                  <a:lnTo>
                    <a:pt x="1336" y="2078"/>
                  </a:lnTo>
                  <a:lnTo>
                    <a:pt x="1193" y="2760"/>
                  </a:lnTo>
                  <a:lnTo>
                    <a:pt x="1053" y="3259"/>
                  </a:lnTo>
                  <a:lnTo>
                    <a:pt x="815" y="3892"/>
                  </a:lnTo>
                  <a:lnTo>
                    <a:pt x="774" y="3293"/>
                  </a:lnTo>
                  <a:lnTo>
                    <a:pt x="642" y="2523"/>
                  </a:lnTo>
                  <a:lnTo>
                    <a:pt x="560" y="2041"/>
                  </a:lnTo>
                  <a:lnTo>
                    <a:pt x="488" y="1659"/>
                  </a:lnTo>
                  <a:lnTo>
                    <a:pt x="338" y="1336"/>
                  </a:lnTo>
                  <a:lnTo>
                    <a:pt x="172" y="995"/>
                  </a:lnTo>
                  <a:lnTo>
                    <a:pt x="43" y="705"/>
                  </a:lnTo>
                  <a:lnTo>
                    <a:pt x="0" y="497"/>
                  </a:lnTo>
                  <a:lnTo>
                    <a:pt x="0" y="301"/>
                  </a:lnTo>
                  <a:lnTo>
                    <a:pt x="66" y="121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971120" y="3947400"/>
              <a:ext cx="37080" cy="192240"/>
            </a:xfrm>
            <a:custGeom>
              <a:avLst/>
              <a:gdLst/>
              <a:ahLst/>
              <a:rect l="l" t="t" r="r" b="b"/>
              <a:pathLst>
                <a:path w="486" h="2874">
                  <a:moveTo>
                    <a:pt x="194" y="0"/>
                  </a:moveTo>
                  <a:lnTo>
                    <a:pt x="51" y="126"/>
                  </a:lnTo>
                  <a:lnTo>
                    <a:pt x="139" y="455"/>
                  </a:lnTo>
                  <a:lnTo>
                    <a:pt x="0" y="806"/>
                  </a:lnTo>
                  <a:lnTo>
                    <a:pt x="81" y="1235"/>
                  </a:lnTo>
                  <a:lnTo>
                    <a:pt x="178" y="1853"/>
                  </a:lnTo>
                  <a:lnTo>
                    <a:pt x="265" y="2463"/>
                  </a:lnTo>
                  <a:lnTo>
                    <a:pt x="328" y="2874"/>
                  </a:lnTo>
                  <a:lnTo>
                    <a:pt x="486" y="2371"/>
                  </a:lnTo>
                  <a:lnTo>
                    <a:pt x="459" y="1973"/>
                  </a:lnTo>
                  <a:lnTo>
                    <a:pt x="440" y="1265"/>
                  </a:lnTo>
                  <a:lnTo>
                    <a:pt x="436" y="857"/>
                  </a:lnTo>
                  <a:lnTo>
                    <a:pt x="401" y="622"/>
                  </a:lnTo>
                  <a:lnTo>
                    <a:pt x="365" y="477"/>
                  </a:lnTo>
                  <a:lnTo>
                    <a:pt x="440" y="248"/>
                  </a:lnTo>
                  <a:lnTo>
                    <a:pt x="355" y="2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971120" y="3948840"/>
              <a:ext cx="35280" cy="157320"/>
            </a:xfrm>
            <a:custGeom>
              <a:avLst/>
              <a:gdLst/>
              <a:ahLst/>
              <a:rect l="l" t="t" r="r" b="b"/>
              <a:pathLst>
                <a:path w="459" h="2362">
                  <a:moveTo>
                    <a:pt x="365" y="94"/>
                  </a:moveTo>
                  <a:lnTo>
                    <a:pt x="288" y="79"/>
                  </a:lnTo>
                  <a:lnTo>
                    <a:pt x="207" y="169"/>
                  </a:lnTo>
                  <a:lnTo>
                    <a:pt x="247" y="433"/>
                  </a:lnTo>
                  <a:lnTo>
                    <a:pt x="288" y="433"/>
                  </a:lnTo>
                  <a:lnTo>
                    <a:pt x="385" y="272"/>
                  </a:lnTo>
                  <a:lnTo>
                    <a:pt x="355" y="523"/>
                  </a:lnTo>
                  <a:lnTo>
                    <a:pt x="440" y="875"/>
                  </a:lnTo>
                  <a:lnTo>
                    <a:pt x="436" y="1701"/>
                  </a:lnTo>
                  <a:lnTo>
                    <a:pt x="459" y="2362"/>
                  </a:lnTo>
                  <a:lnTo>
                    <a:pt x="401" y="2000"/>
                  </a:lnTo>
                  <a:lnTo>
                    <a:pt x="365" y="1542"/>
                  </a:lnTo>
                  <a:lnTo>
                    <a:pt x="355" y="1097"/>
                  </a:lnTo>
                  <a:lnTo>
                    <a:pt x="339" y="848"/>
                  </a:lnTo>
                  <a:lnTo>
                    <a:pt x="265" y="613"/>
                  </a:lnTo>
                  <a:lnTo>
                    <a:pt x="247" y="940"/>
                  </a:lnTo>
                  <a:lnTo>
                    <a:pt x="178" y="1009"/>
                  </a:lnTo>
                  <a:lnTo>
                    <a:pt x="139" y="940"/>
                  </a:lnTo>
                  <a:lnTo>
                    <a:pt x="207" y="606"/>
                  </a:lnTo>
                  <a:lnTo>
                    <a:pt x="104" y="769"/>
                  </a:lnTo>
                  <a:lnTo>
                    <a:pt x="51" y="1085"/>
                  </a:lnTo>
                  <a:lnTo>
                    <a:pt x="0" y="797"/>
                  </a:lnTo>
                  <a:lnTo>
                    <a:pt x="139" y="446"/>
                  </a:lnTo>
                  <a:lnTo>
                    <a:pt x="69" y="117"/>
                  </a:lnTo>
                  <a:lnTo>
                    <a:pt x="171" y="0"/>
                  </a:lnTo>
                  <a:lnTo>
                    <a:pt x="339" y="15"/>
                  </a:lnTo>
                  <a:lnTo>
                    <a:pt x="365" y="94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999200" y="3918600"/>
              <a:ext cx="46800" cy="182520"/>
            </a:xfrm>
            <a:custGeom>
              <a:avLst/>
              <a:gdLst/>
              <a:ahLst/>
              <a:rect l="l" t="t" r="r" b="b"/>
              <a:pathLst>
                <a:path w="620" h="2734">
                  <a:moveTo>
                    <a:pt x="94" y="1255"/>
                  </a:moveTo>
                  <a:lnTo>
                    <a:pt x="266" y="953"/>
                  </a:lnTo>
                  <a:lnTo>
                    <a:pt x="394" y="758"/>
                  </a:lnTo>
                  <a:lnTo>
                    <a:pt x="354" y="1204"/>
                  </a:lnTo>
                  <a:lnTo>
                    <a:pt x="266" y="1709"/>
                  </a:lnTo>
                  <a:lnTo>
                    <a:pt x="106" y="2410"/>
                  </a:lnTo>
                  <a:lnTo>
                    <a:pt x="130" y="2734"/>
                  </a:lnTo>
                  <a:lnTo>
                    <a:pt x="369" y="1831"/>
                  </a:lnTo>
                  <a:lnTo>
                    <a:pt x="525" y="1125"/>
                  </a:lnTo>
                  <a:lnTo>
                    <a:pt x="589" y="703"/>
                  </a:lnTo>
                  <a:lnTo>
                    <a:pt x="620" y="224"/>
                  </a:lnTo>
                  <a:lnTo>
                    <a:pt x="608" y="0"/>
                  </a:lnTo>
                  <a:lnTo>
                    <a:pt x="477" y="105"/>
                  </a:lnTo>
                  <a:lnTo>
                    <a:pt x="477" y="277"/>
                  </a:lnTo>
                  <a:lnTo>
                    <a:pt x="428" y="540"/>
                  </a:lnTo>
                  <a:lnTo>
                    <a:pt x="233" y="899"/>
                  </a:lnTo>
                  <a:lnTo>
                    <a:pt x="75" y="639"/>
                  </a:lnTo>
                  <a:lnTo>
                    <a:pt x="0" y="945"/>
                  </a:lnTo>
                  <a:lnTo>
                    <a:pt x="71" y="1140"/>
                  </a:lnTo>
                  <a:lnTo>
                    <a:pt x="94" y="12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961400" y="3956040"/>
              <a:ext cx="20520" cy="42120"/>
            </a:xfrm>
            <a:custGeom>
              <a:avLst/>
              <a:gdLst/>
              <a:ahLst/>
              <a:rect l="l" t="t" r="r" b="b"/>
              <a:pathLst>
                <a:path w="268" h="627">
                  <a:moveTo>
                    <a:pt x="108" y="627"/>
                  </a:moveTo>
                  <a:lnTo>
                    <a:pt x="0" y="249"/>
                  </a:lnTo>
                  <a:lnTo>
                    <a:pt x="159" y="0"/>
                  </a:lnTo>
                  <a:lnTo>
                    <a:pt x="268" y="329"/>
                  </a:lnTo>
                  <a:lnTo>
                    <a:pt x="198" y="512"/>
                  </a:lnTo>
                  <a:lnTo>
                    <a:pt x="108" y="627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930800" y="3878640"/>
              <a:ext cx="16200" cy="59760"/>
            </a:xfrm>
            <a:custGeom>
              <a:avLst/>
              <a:gdLst/>
              <a:ahLst/>
              <a:rect l="l" t="t" r="r" b="b"/>
              <a:pathLst>
                <a:path w="211" h="900">
                  <a:moveTo>
                    <a:pt x="211" y="549"/>
                  </a:moveTo>
                  <a:lnTo>
                    <a:pt x="161" y="681"/>
                  </a:lnTo>
                  <a:lnTo>
                    <a:pt x="132" y="780"/>
                  </a:lnTo>
                  <a:lnTo>
                    <a:pt x="119" y="900"/>
                  </a:lnTo>
                  <a:lnTo>
                    <a:pt x="50" y="705"/>
                  </a:lnTo>
                  <a:lnTo>
                    <a:pt x="0" y="561"/>
                  </a:lnTo>
                  <a:lnTo>
                    <a:pt x="0" y="354"/>
                  </a:lnTo>
                  <a:lnTo>
                    <a:pt x="43" y="209"/>
                  </a:lnTo>
                  <a:lnTo>
                    <a:pt x="96" y="66"/>
                  </a:lnTo>
                  <a:lnTo>
                    <a:pt x="143" y="0"/>
                  </a:lnTo>
                  <a:lnTo>
                    <a:pt x="182" y="323"/>
                  </a:lnTo>
                  <a:lnTo>
                    <a:pt x="211" y="54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925400" y="4284360"/>
              <a:ext cx="259560" cy="128160"/>
            </a:xfrm>
            <a:custGeom>
              <a:avLst/>
              <a:gdLst/>
              <a:ahLst/>
              <a:rect l="l" t="t" r="r" b="b"/>
              <a:pathLst>
                <a:path w="3405" h="1922">
                  <a:moveTo>
                    <a:pt x="2938" y="0"/>
                  </a:moveTo>
                  <a:lnTo>
                    <a:pt x="2852" y="59"/>
                  </a:lnTo>
                  <a:lnTo>
                    <a:pt x="2017" y="375"/>
                  </a:lnTo>
                  <a:lnTo>
                    <a:pt x="1040" y="587"/>
                  </a:lnTo>
                  <a:lnTo>
                    <a:pt x="581" y="949"/>
                  </a:lnTo>
                  <a:lnTo>
                    <a:pt x="565" y="1028"/>
                  </a:lnTo>
                  <a:lnTo>
                    <a:pt x="191" y="1074"/>
                  </a:lnTo>
                  <a:lnTo>
                    <a:pt x="0" y="1173"/>
                  </a:lnTo>
                  <a:lnTo>
                    <a:pt x="0" y="1274"/>
                  </a:lnTo>
                  <a:lnTo>
                    <a:pt x="1980" y="1922"/>
                  </a:lnTo>
                  <a:lnTo>
                    <a:pt x="2246" y="1371"/>
                  </a:lnTo>
                  <a:lnTo>
                    <a:pt x="3405" y="501"/>
                  </a:lnTo>
                  <a:lnTo>
                    <a:pt x="3331" y="241"/>
                  </a:lnTo>
                  <a:lnTo>
                    <a:pt x="3094" y="0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971120" y="4353840"/>
              <a:ext cx="23040" cy="11160"/>
            </a:xfrm>
            <a:custGeom>
              <a:avLst/>
              <a:gdLst/>
              <a:ahLst/>
              <a:rect l="l" t="t" r="r" b="b"/>
              <a:pathLst>
                <a:path w="308" h="163">
                  <a:moveTo>
                    <a:pt x="34" y="51"/>
                  </a:moveTo>
                  <a:lnTo>
                    <a:pt x="0" y="81"/>
                  </a:lnTo>
                  <a:lnTo>
                    <a:pt x="4" y="123"/>
                  </a:lnTo>
                  <a:lnTo>
                    <a:pt x="31" y="143"/>
                  </a:lnTo>
                  <a:lnTo>
                    <a:pt x="244" y="163"/>
                  </a:lnTo>
                  <a:lnTo>
                    <a:pt x="297" y="132"/>
                  </a:lnTo>
                  <a:lnTo>
                    <a:pt x="308" y="77"/>
                  </a:lnTo>
                  <a:lnTo>
                    <a:pt x="279" y="18"/>
                  </a:lnTo>
                  <a:lnTo>
                    <a:pt x="226" y="0"/>
                  </a:lnTo>
                  <a:lnTo>
                    <a:pt x="34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926120" y="4360680"/>
              <a:ext cx="24120" cy="9360"/>
            </a:xfrm>
            <a:custGeom>
              <a:avLst/>
              <a:gdLst/>
              <a:ahLst/>
              <a:rect l="l" t="t" r="r" b="b"/>
              <a:pathLst>
                <a:path w="319" h="145">
                  <a:moveTo>
                    <a:pt x="0" y="111"/>
                  </a:moveTo>
                  <a:lnTo>
                    <a:pt x="13" y="40"/>
                  </a:lnTo>
                  <a:lnTo>
                    <a:pt x="109" y="0"/>
                  </a:lnTo>
                  <a:lnTo>
                    <a:pt x="209" y="0"/>
                  </a:lnTo>
                  <a:lnTo>
                    <a:pt x="294" y="33"/>
                  </a:lnTo>
                  <a:lnTo>
                    <a:pt x="319" y="99"/>
                  </a:lnTo>
                  <a:lnTo>
                    <a:pt x="308" y="134"/>
                  </a:lnTo>
                  <a:lnTo>
                    <a:pt x="282" y="14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830000" y="4218120"/>
              <a:ext cx="135000" cy="79560"/>
            </a:xfrm>
            <a:custGeom>
              <a:avLst/>
              <a:gdLst/>
              <a:ahLst/>
              <a:rect l="l" t="t" r="r" b="b"/>
              <a:pathLst>
                <a:path w="1763" h="1187">
                  <a:moveTo>
                    <a:pt x="0" y="653"/>
                  </a:moveTo>
                  <a:lnTo>
                    <a:pt x="115" y="226"/>
                  </a:lnTo>
                  <a:lnTo>
                    <a:pt x="569" y="0"/>
                  </a:lnTo>
                  <a:lnTo>
                    <a:pt x="827" y="131"/>
                  </a:lnTo>
                  <a:lnTo>
                    <a:pt x="1193" y="157"/>
                  </a:lnTo>
                  <a:lnTo>
                    <a:pt x="1268" y="226"/>
                  </a:lnTo>
                  <a:lnTo>
                    <a:pt x="1290" y="291"/>
                  </a:lnTo>
                  <a:lnTo>
                    <a:pt x="1464" y="376"/>
                  </a:lnTo>
                  <a:lnTo>
                    <a:pt x="1572" y="458"/>
                  </a:lnTo>
                  <a:lnTo>
                    <a:pt x="1624" y="466"/>
                  </a:lnTo>
                  <a:lnTo>
                    <a:pt x="1763" y="553"/>
                  </a:lnTo>
                  <a:lnTo>
                    <a:pt x="1756" y="629"/>
                  </a:lnTo>
                  <a:lnTo>
                    <a:pt x="1585" y="783"/>
                  </a:lnTo>
                  <a:lnTo>
                    <a:pt x="1597" y="911"/>
                  </a:lnTo>
                  <a:lnTo>
                    <a:pt x="1657" y="917"/>
                  </a:lnTo>
                  <a:lnTo>
                    <a:pt x="1659" y="1035"/>
                  </a:lnTo>
                  <a:lnTo>
                    <a:pt x="1488" y="1176"/>
                  </a:lnTo>
                  <a:lnTo>
                    <a:pt x="1027" y="1187"/>
                  </a:lnTo>
                  <a:lnTo>
                    <a:pt x="0" y="6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791480" y="4254840"/>
              <a:ext cx="103320" cy="65160"/>
            </a:xfrm>
            <a:custGeom>
              <a:avLst/>
              <a:gdLst/>
              <a:ahLst/>
              <a:rect l="l" t="t" r="r" b="b"/>
              <a:pathLst>
                <a:path w="1351" h="980">
                  <a:moveTo>
                    <a:pt x="0" y="393"/>
                  </a:moveTo>
                  <a:lnTo>
                    <a:pt x="4" y="296"/>
                  </a:lnTo>
                  <a:lnTo>
                    <a:pt x="16" y="176"/>
                  </a:lnTo>
                  <a:lnTo>
                    <a:pt x="66" y="17"/>
                  </a:lnTo>
                  <a:lnTo>
                    <a:pt x="389" y="5"/>
                  </a:lnTo>
                  <a:lnTo>
                    <a:pt x="514" y="0"/>
                  </a:lnTo>
                  <a:lnTo>
                    <a:pt x="837" y="31"/>
                  </a:lnTo>
                  <a:lnTo>
                    <a:pt x="998" y="81"/>
                  </a:lnTo>
                  <a:lnTo>
                    <a:pt x="1095" y="145"/>
                  </a:lnTo>
                  <a:lnTo>
                    <a:pt x="1249" y="259"/>
                  </a:lnTo>
                  <a:lnTo>
                    <a:pt x="1330" y="409"/>
                  </a:lnTo>
                  <a:lnTo>
                    <a:pt x="1351" y="563"/>
                  </a:lnTo>
                  <a:lnTo>
                    <a:pt x="1351" y="708"/>
                  </a:lnTo>
                  <a:lnTo>
                    <a:pt x="1330" y="846"/>
                  </a:lnTo>
                  <a:lnTo>
                    <a:pt x="1270" y="980"/>
                  </a:lnTo>
                  <a:lnTo>
                    <a:pt x="1240" y="773"/>
                  </a:lnTo>
                  <a:lnTo>
                    <a:pt x="1185" y="628"/>
                  </a:lnTo>
                  <a:lnTo>
                    <a:pt x="1072" y="487"/>
                  </a:lnTo>
                  <a:lnTo>
                    <a:pt x="945" y="369"/>
                  </a:lnTo>
                  <a:lnTo>
                    <a:pt x="756" y="316"/>
                  </a:lnTo>
                  <a:lnTo>
                    <a:pt x="589" y="294"/>
                  </a:lnTo>
                  <a:lnTo>
                    <a:pt x="362" y="296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214120" y="3720960"/>
              <a:ext cx="298800" cy="215640"/>
            </a:xfrm>
            <a:custGeom>
              <a:avLst/>
              <a:gdLst/>
              <a:ahLst/>
              <a:rect l="l" t="t" r="r" b="b"/>
              <a:pathLst>
                <a:path w="3911" h="3232">
                  <a:moveTo>
                    <a:pt x="426" y="1795"/>
                  </a:moveTo>
                  <a:lnTo>
                    <a:pt x="180" y="1718"/>
                  </a:lnTo>
                  <a:lnTo>
                    <a:pt x="37" y="1609"/>
                  </a:lnTo>
                  <a:lnTo>
                    <a:pt x="0" y="1478"/>
                  </a:lnTo>
                  <a:lnTo>
                    <a:pt x="26" y="1333"/>
                  </a:lnTo>
                  <a:lnTo>
                    <a:pt x="37" y="1160"/>
                  </a:lnTo>
                  <a:lnTo>
                    <a:pt x="120" y="995"/>
                  </a:lnTo>
                  <a:lnTo>
                    <a:pt x="237" y="905"/>
                  </a:lnTo>
                  <a:lnTo>
                    <a:pt x="346" y="850"/>
                  </a:lnTo>
                  <a:lnTo>
                    <a:pt x="386" y="749"/>
                  </a:lnTo>
                  <a:lnTo>
                    <a:pt x="459" y="689"/>
                  </a:lnTo>
                  <a:lnTo>
                    <a:pt x="614" y="659"/>
                  </a:lnTo>
                  <a:lnTo>
                    <a:pt x="777" y="433"/>
                  </a:lnTo>
                  <a:lnTo>
                    <a:pt x="1035" y="292"/>
                  </a:lnTo>
                  <a:lnTo>
                    <a:pt x="1300" y="268"/>
                  </a:lnTo>
                  <a:lnTo>
                    <a:pt x="1515" y="90"/>
                  </a:lnTo>
                  <a:lnTo>
                    <a:pt x="1707" y="57"/>
                  </a:lnTo>
                  <a:lnTo>
                    <a:pt x="1914" y="65"/>
                  </a:lnTo>
                  <a:lnTo>
                    <a:pt x="2221" y="0"/>
                  </a:lnTo>
                  <a:lnTo>
                    <a:pt x="2474" y="39"/>
                  </a:lnTo>
                  <a:lnTo>
                    <a:pt x="2624" y="79"/>
                  </a:lnTo>
                  <a:lnTo>
                    <a:pt x="2795" y="90"/>
                  </a:lnTo>
                  <a:lnTo>
                    <a:pt x="2933" y="178"/>
                  </a:lnTo>
                  <a:lnTo>
                    <a:pt x="3048" y="281"/>
                  </a:lnTo>
                  <a:lnTo>
                    <a:pt x="3254" y="332"/>
                  </a:lnTo>
                  <a:lnTo>
                    <a:pt x="3440" y="468"/>
                  </a:lnTo>
                  <a:lnTo>
                    <a:pt x="3659" y="714"/>
                  </a:lnTo>
                  <a:lnTo>
                    <a:pt x="3788" y="943"/>
                  </a:lnTo>
                  <a:lnTo>
                    <a:pt x="3880" y="1259"/>
                  </a:lnTo>
                  <a:lnTo>
                    <a:pt x="3911" y="1609"/>
                  </a:lnTo>
                  <a:lnTo>
                    <a:pt x="3850" y="1936"/>
                  </a:lnTo>
                  <a:lnTo>
                    <a:pt x="3647" y="2254"/>
                  </a:lnTo>
                  <a:lnTo>
                    <a:pt x="3331" y="2704"/>
                  </a:lnTo>
                  <a:lnTo>
                    <a:pt x="2819" y="3232"/>
                  </a:lnTo>
                  <a:lnTo>
                    <a:pt x="1349" y="2428"/>
                  </a:lnTo>
                  <a:lnTo>
                    <a:pt x="426" y="1795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231400" y="3828240"/>
              <a:ext cx="191880" cy="189720"/>
            </a:xfrm>
            <a:custGeom>
              <a:avLst/>
              <a:gdLst/>
              <a:ahLst/>
              <a:rect l="l" t="t" r="r" b="b"/>
              <a:pathLst>
                <a:path w="2514" h="2843">
                  <a:moveTo>
                    <a:pt x="1734" y="570"/>
                  </a:moveTo>
                  <a:lnTo>
                    <a:pt x="1644" y="621"/>
                  </a:lnTo>
                  <a:lnTo>
                    <a:pt x="1556" y="744"/>
                  </a:lnTo>
                  <a:lnTo>
                    <a:pt x="1262" y="645"/>
                  </a:lnTo>
                  <a:lnTo>
                    <a:pt x="840" y="232"/>
                  </a:lnTo>
                  <a:lnTo>
                    <a:pt x="524" y="146"/>
                  </a:lnTo>
                  <a:lnTo>
                    <a:pt x="409" y="0"/>
                  </a:lnTo>
                  <a:lnTo>
                    <a:pt x="330" y="41"/>
                  </a:lnTo>
                  <a:lnTo>
                    <a:pt x="242" y="159"/>
                  </a:lnTo>
                  <a:lnTo>
                    <a:pt x="156" y="645"/>
                  </a:lnTo>
                  <a:lnTo>
                    <a:pt x="178" y="744"/>
                  </a:lnTo>
                  <a:lnTo>
                    <a:pt x="242" y="854"/>
                  </a:lnTo>
                  <a:lnTo>
                    <a:pt x="264" y="984"/>
                  </a:lnTo>
                  <a:lnTo>
                    <a:pt x="264" y="1125"/>
                  </a:lnTo>
                  <a:lnTo>
                    <a:pt x="229" y="1252"/>
                  </a:lnTo>
                  <a:lnTo>
                    <a:pt x="0" y="1713"/>
                  </a:lnTo>
                  <a:lnTo>
                    <a:pt x="24" y="1790"/>
                  </a:lnTo>
                  <a:lnTo>
                    <a:pt x="303" y="1773"/>
                  </a:lnTo>
                  <a:lnTo>
                    <a:pt x="384" y="1979"/>
                  </a:lnTo>
                  <a:lnTo>
                    <a:pt x="460" y="2003"/>
                  </a:lnTo>
                  <a:lnTo>
                    <a:pt x="547" y="2170"/>
                  </a:lnTo>
                  <a:lnTo>
                    <a:pt x="483" y="2267"/>
                  </a:lnTo>
                  <a:lnTo>
                    <a:pt x="483" y="2298"/>
                  </a:lnTo>
                  <a:lnTo>
                    <a:pt x="596" y="2419"/>
                  </a:lnTo>
                  <a:lnTo>
                    <a:pt x="596" y="2504"/>
                  </a:lnTo>
                  <a:lnTo>
                    <a:pt x="561" y="2579"/>
                  </a:lnTo>
                  <a:lnTo>
                    <a:pt x="572" y="2698"/>
                  </a:lnTo>
                  <a:lnTo>
                    <a:pt x="622" y="2735"/>
                  </a:lnTo>
                  <a:lnTo>
                    <a:pt x="723" y="2764"/>
                  </a:lnTo>
                  <a:lnTo>
                    <a:pt x="1402" y="2698"/>
                  </a:lnTo>
                  <a:lnTo>
                    <a:pt x="1684" y="2843"/>
                  </a:lnTo>
                  <a:lnTo>
                    <a:pt x="1824" y="2612"/>
                  </a:lnTo>
                  <a:lnTo>
                    <a:pt x="1963" y="2483"/>
                  </a:lnTo>
                  <a:lnTo>
                    <a:pt x="2209" y="2232"/>
                  </a:lnTo>
                  <a:lnTo>
                    <a:pt x="2514" y="1979"/>
                  </a:lnTo>
                  <a:lnTo>
                    <a:pt x="2260" y="1162"/>
                  </a:lnTo>
                  <a:lnTo>
                    <a:pt x="2165" y="667"/>
                  </a:lnTo>
                  <a:lnTo>
                    <a:pt x="1951" y="524"/>
                  </a:lnTo>
                  <a:lnTo>
                    <a:pt x="1734" y="57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346600" y="3921480"/>
              <a:ext cx="24840" cy="21600"/>
            </a:xfrm>
            <a:custGeom>
              <a:avLst/>
              <a:gdLst/>
              <a:ahLst/>
              <a:rect l="l" t="t" r="r" b="b"/>
              <a:pathLst>
                <a:path w="334" h="330">
                  <a:moveTo>
                    <a:pt x="230" y="0"/>
                  </a:moveTo>
                  <a:lnTo>
                    <a:pt x="155" y="20"/>
                  </a:lnTo>
                  <a:lnTo>
                    <a:pt x="65" y="47"/>
                  </a:lnTo>
                  <a:lnTo>
                    <a:pt x="0" y="130"/>
                  </a:lnTo>
                  <a:lnTo>
                    <a:pt x="0" y="231"/>
                  </a:lnTo>
                  <a:lnTo>
                    <a:pt x="52" y="321"/>
                  </a:lnTo>
                  <a:lnTo>
                    <a:pt x="155" y="330"/>
                  </a:lnTo>
                  <a:lnTo>
                    <a:pt x="281" y="291"/>
                  </a:lnTo>
                  <a:lnTo>
                    <a:pt x="334" y="215"/>
                  </a:lnTo>
                  <a:lnTo>
                    <a:pt x="334" y="104"/>
                  </a:lnTo>
                  <a:lnTo>
                    <a:pt x="291" y="4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268120" y="3964680"/>
              <a:ext cx="13320" cy="14760"/>
            </a:xfrm>
            <a:custGeom>
              <a:avLst/>
              <a:gdLst/>
              <a:ahLst/>
              <a:rect l="l" t="t" r="r" b="b"/>
              <a:pathLst>
                <a:path w="179" h="227">
                  <a:moveTo>
                    <a:pt x="0" y="137"/>
                  </a:moveTo>
                  <a:lnTo>
                    <a:pt x="0" y="227"/>
                  </a:lnTo>
                  <a:lnTo>
                    <a:pt x="168" y="130"/>
                  </a:lnTo>
                  <a:lnTo>
                    <a:pt x="179" y="0"/>
                  </a:lnTo>
                  <a:lnTo>
                    <a:pt x="51" y="8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265960" y="3959280"/>
              <a:ext cx="18360" cy="14400"/>
            </a:xfrm>
            <a:custGeom>
              <a:avLst/>
              <a:gdLst/>
              <a:ahLst/>
              <a:rect l="l" t="t" r="r" b="b"/>
              <a:pathLst>
                <a:path w="242" h="213">
                  <a:moveTo>
                    <a:pt x="0" y="51"/>
                  </a:moveTo>
                  <a:lnTo>
                    <a:pt x="64" y="213"/>
                  </a:lnTo>
                  <a:lnTo>
                    <a:pt x="203" y="152"/>
                  </a:lnTo>
                  <a:lnTo>
                    <a:pt x="242" y="39"/>
                  </a:lnTo>
                  <a:lnTo>
                    <a:pt x="124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248680" y="3880080"/>
              <a:ext cx="20520" cy="15840"/>
            </a:xfrm>
            <a:custGeom>
              <a:avLst/>
              <a:gdLst/>
              <a:ahLst/>
              <a:rect l="l" t="t" r="r" b="b"/>
              <a:pathLst>
                <a:path w="270" h="242">
                  <a:moveTo>
                    <a:pt x="136" y="40"/>
                  </a:moveTo>
                  <a:lnTo>
                    <a:pt x="270" y="242"/>
                  </a:lnTo>
                  <a:lnTo>
                    <a:pt x="28" y="102"/>
                  </a:lnTo>
                  <a:lnTo>
                    <a:pt x="0" y="28"/>
                  </a:lnTo>
                  <a:lnTo>
                    <a:pt x="55" y="0"/>
                  </a:lnTo>
                  <a:lnTo>
                    <a:pt x="136" y="4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7492680" y="3746160"/>
              <a:ext cx="249840" cy="149400"/>
            </a:xfrm>
            <a:custGeom>
              <a:avLst/>
              <a:gdLst/>
              <a:ahLst/>
              <a:rect l="l" t="t" r="r" b="b"/>
              <a:pathLst>
                <a:path w="3274" h="2237">
                  <a:moveTo>
                    <a:pt x="19" y="2140"/>
                  </a:moveTo>
                  <a:lnTo>
                    <a:pt x="35" y="1930"/>
                  </a:lnTo>
                  <a:lnTo>
                    <a:pt x="0" y="1342"/>
                  </a:lnTo>
                  <a:lnTo>
                    <a:pt x="61" y="1035"/>
                  </a:lnTo>
                  <a:lnTo>
                    <a:pt x="229" y="760"/>
                  </a:lnTo>
                  <a:lnTo>
                    <a:pt x="397" y="468"/>
                  </a:lnTo>
                  <a:lnTo>
                    <a:pt x="740" y="226"/>
                  </a:lnTo>
                  <a:lnTo>
                    <a:pt x="1169" y="77"/>
                  </a:lnTo>
                  <a:lnTo>
                    <a:pt x="1511" y="7"/>
                  </a:lnTo>
                  <a:lnTo>
                    <a:pt x="1894" y="0"/>
                  </a:lnTo>
                  <a:lnTo>
                    <a:pt x="2338" y="127"/>
                  </a:lnTo>
                  <a:lnTo>
                    <a:pt x="2654" y="296"/>
                  </a:lnTo>
                  <a:lnTo>
                    <a:pt x="2922" y="487"/>
                  </a:lnTo>
                  <a:lnTo>
                    <a:pt x="3103" y="549"/>
                  </a:lnTo>
                  <a:lnTo>
                    <a:pt x="3252" y="694"/>
                  </a:lnTo>
                  <a:lnTo>
                    <a:pt x="3274" y="844"/>
                  </a:lnTo>
                  <a:lnTo>
                    <a:pt x="3223" y="945"/>
                  </a:lnTo>
                  <a:lnTo>
                    <a:pt x="3078" y="973"/>
                  </a:lnTo>
                  <a:lnTo>
                    <a:pt x="136" y="2237"/>
                  </a:lnTo>
                  <a:lnTo>
                    <a:pt x="19" y="214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484040" y="3795840"/>
              <a:ext cx="267480" cy="206640"/>
            </a:xfrm>
            <a:custGeom>
              <a:avLst/>
              <a:gdLst/>
              <a:ahLst/>
              <a:rect l="l" t="t" r="r" b="b"/>
              <a:pathLst>
                <a:path w="3504" h="3096">
                  <a:moveTo>
                    <a:pt x="0" y="1865"/>
                  </a:moveTo>
                  <a:lnTo>
                    <a:pt x="345" y="1955"/>
                  </a:lnTo>
                  <a:lnTo>
                    <a:pt x="710" y="2087"/>
                  </a:lnTo>
                  <a:lnTo>
                    <a:pt x="1097" y="2344"/>
                  </a:lnTo>
                  <a:lnTo>
                    <a:pt x="1365" y="2591"/>
                  </a:lnTo>
                  <a:lnTo>
                    <a:pt x="1696" y="2953"/>
                  </a:lnTo>
                  <a:lnTo>
                    <a:pt x="2865" y="3096"/>
                  </a:lnTo>
                  <a:lnTo>
                    <a:pt x="2921" y="3023"/>
                  </a:lnTo>
                  <a:lnTo>
                    <a:pt x="2921" y="2889"/>
                  </a:lnTo>
                  <a:lnTo>
                    <a:pt x="2949" y="2817"/>
                  </a:lnTo>
                  <a:lnTo>
                    <a:pt x="3024" y="2740"/>
                  </a:lnTo>
                  <a:lnTo>
                    <a:pt x="3017" y="2600"/>
                  </a:lnTo>
                  <a:lnTo>
                    <a:pt x="2826" y="2469"/>
                  </a:lnTo>
                  <a:lnTo>
                    <a:pt x="3032" y="2419"/>
                  </a:lnTo>
                  <a:lnTo>
                    <a:pt x="3098" y="2213"/>
                  </a:lnTo>
                  <a:lnTo>
                    <a:pt x="3173" y="2167"/>
                  </a:lnTo>
                  <a:lnTo>
                    <a:pt x="3362" y="2177"/>
                  </a:lnTo>
                  <a:lnTo>
                    <a:pt x="3472" y="2158"/>
                  </a:lnTo>
                  <a:lnTo>
                    <a:pt x="3504" y="2118"/>
                  </a:lnTo>
                  <a:lnTo>
                    <a:pt x="3494" y="2068"/>
                  </a:lnTo>
                  <a:lnTo>
                    <a:pt x="3223" y="1378"/>
                  </a:lnTo>
                  <a:lnTo>
                    <a:pt x="3248" y="1303"/>
                  </a:lnTo>
                  <a:lnTo>
                    <a:pt x="3310" y="1222"/>
                  </a:lnTo>
                  <a:lnTo>
                    <a:pt x="3278" y="826"/>
                  </a:lnTo>
                  <a:lnTo>
                    <a:pt x="3239" y="538"/>
                  </a:lnTo>
                  <a:lnTo>
                    <a:pt x="3149" y="242"/>
                  </a:lnTo>
                  <a:lnTo>
                    <a:pt x="2296" y="0"/>
                  </a:lnTo>
                  <a:lnTo>
                    <a:pt x="83" y="1630"/>
                  </a:lnTo>
                  <a:lnTo>
                    <a:pt x="0" y="1865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7712640" y="3895560"/>
              <a:ext cx="9360" cy="82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122" y="0"/>
                  </a:moveTo>
                  <a:lnTo>
                    <a:pt x="71" y="129"/>
                  </a:lnTo>
                  <a:lnTo>
                    <a:pt x="0" y="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997400" y="4149000"/>
              <a:ext cx="129960" cy="49680"/>
            </a:xfrm>
            <a:custGeom>
              <a:avLst/>
              <a:gdLst/>
              <a:ahLst/>
              <a:rect l="l" t="t" r="r" b="b"/>
              <a:pathLst>
                <a:path w="1699" h="744">
                  <a:moveTo>
                    <a:pt x="0" y="80"/>
                  </a:moveTo>
                  <a:lnTo>
                    <a:pt x="42" y="0"/>
                  </a:lnTo>
                  <a:lnTo>
                    <a:pt x="814" y="300"/>
                  </a:lnTo>
                  <a:lnTo>
                    <a:pt x="1517" y="616"/>
                  </a:lnTo>
                  <a:lnTo>
                    <a:pt x="1699" y="744"/>
                  </a:lnTo>
                  <a:lnTo>
                    <a:pt x="1460" y="708"/>
                  </a:lnTo>
                  <a:lnTo>
                    <a:pt x="206" y="15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948800" y="4158000"/>
              <a:ext cx="152640" cy="82080"/>
            </a:xfrm>
            <a:custGeom>
              <a:avLst/>
              <a:gdLst/>
              <a:ahLst/>
              <a:rect l="l" t="t" r="r" b="b"/>
              <a:pathLst>
                <a:path w="2003" h="1230">
                  <a:moveTo>
                    <a:pt x="80" y="253"/>
                  </a:moveTo>
                  <a:lnTo>
                    <a:pt x="278" y="218"/>
                  </a:lnTo>
                  <a:lnTo>
                    <a:pt x="477" y="195"/>
                  </a:lnTo>
                  <a:lnTo>
                    <a:pt x="945" y="11"/>
                  </a:lnTo>
                  <a:lnTo>
                    <a:pt x="1262" y="11"/>
                  </a:lnTo>
                  <a:lnTo>
                    <a:pt x="1646" y="0"/>
                  </a:lnTo>
                  <a:lnTo>
                    <a:pt x="2003" y="345"/>
                  </a:lnTo>
                  <a:lnTo>
                    <a:pt x="1973" y="393"/>
                  </a:lnTo>
                  <a:lnTo>
                    <a:pt x="1941" y="380"/>
                  </a:lnTo>
                  <a:lnTo>
                    <a:pt x="1927" y="472"/>
                  </a:lnTo>
                  <a:lnTo>
                    <a:pt x="1869" y="534"/>
                  </a:lnTo>
                  <a:lnTo>
                    <a:pt x="1578" y="725"/>
                  </a:lnTo>
                  <a:lnTo>
                    <a:pt x="1491" y="861"/>
                  </a:lnTo>
                  <a:lnTo>
                    <a:pt x="1297" y="991"/>
                  </a:lnTo>
                  <a:lnTo>
                    <a:pt x="1229" y="1112"/>
                  </a:lnTo>
                  <a:lnTo>
                    <a:pt x="926" y="1221"/>
                  </a:lnTo>
                  <a:lnTo>
                    <a:pt x="848" y="1230"/>
                  </a:lnTo>
                  <a:lnTo>
                    <a:pt x="539" y="1158"/>
                  </a:lnTo>
                  <a:lnTo>
                    <a:pt x="34" y="855"/>
                  </a:lnTo>
                  <a:lnTo>
                    <a:pt x="0" y="419"/>
                  </a:lnTo>
                  <a:lnTo>
                    <a:pt x="80" y="2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930800" y="3768480"/>
              <a:ext cx="173880" cy="180000"/>
            </a:xfrm>
            <a:custGeom>
              <a:avLst/>
              <a:gdLst/>
              <a:ahLst/>
              <a:rect l="l" t="t" r="r" b="b"/>
              <a:pathLst>
                <a:path w="2284" h="2689">
                  <a:moveTo>
                    <a:pt x="166" y="357"/>
                  </a:moveTo>
                  <a:lnTo>
                    <a:pt x="55" y="468"/>
                  </a:lnTo>
                  <a:lnTo>
                    <a:pt x="0" y="597"/>
                  </a:lnTo>
                  <a:lnTo>
                    <a:pt x="0" y="740"/>
                  </a:lnTo>
                  <a:lnTo>
                    <a:pt x="14" y="869"/>
                  </a:lnTo>
                  <a:lnTo>
                    <a:pt x="75" y="1095"/>
                  </a:lnTo>
                  <a:lnTo>
                    <a:pt x="187" y="1190"/>
                  </a:lnTo>
                  <a:lnTo>
                    <a:pt x="148" y="1552"/>
                  </a:lnTo>
                  <a:lnTo>
                    <a:pt x="172" y="1731"/>
                  </a:lnTo>
                  <a:lnTo>
                    <a:pt x="247" y="2225"/>
                  </a:lnTo>
                  <a:lnTo>
                    <a:pt x="326" y="2329"/>
                  </a:lnTo>
                  <a:lnTo>
                    <a:pt x="479" y="2513"/>
                  </a:lnTo>
                  <a:lnTo>
                    <a:pt x="715" y="2689"/>
                  </a:lnTo>
                  <a:lnTo>
                    <a:pt x="1117" y="2548"/>
                  </a:lnTo>
                  <a:lnTo>
                    <a:pt x="1238" y="2467"/>
                  </a:lnTo>
                  <a:lnTo>
                    <a:pt x="1399" y="2357"/>
                  </a:lnTo>
                  <a:lnTo>
                    <a:pt x="1473" y="2252"/>
                  </a:lnTo>
                  <a:lnTo>
                    <a:pt x="1567" y="2201"/>
                  </a:lnTo>
                  <a:lnTo>
                    <a:pt x="1858" y="1681"/>
                  </a:lnTo>
                  <a:lnTo>
                    <a:pt x="1971" y="1690"/>
                  </a:lnTo>
                  <a:lnTo>
                    <a:pt x="2040" y="1607"/>
                  </a:lnTo>
                  <a:lnTo>
                    <a:pt x="2157" y="1439"/>
                  </a:lnTo>
                  <a:lnTo>
                    <a:pt x="2199" y="1298"/>
                  </a:lnTo>
                  <a:lnTo>
                    <a:pt x="2199" y="1190"/>
                  </a:lnTo>
                  <a:lnTo>
                    <a:pt x="2284" y="423"/>
                  </a:lnTo>
                  <a:lnTo>
                    <a:pt x="987" y="0"/>
                  </a:lnTo>
                  <a:lnTo>
                    <a:pt x="341" y="263"/>
                  </a:lnTo>
                  <a:lnTo>
                    <a:pt x="166" y="35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7979040" y="3819240"/>
              <a:ext cx="39600" cy="39600"/>
            </a:xfrm>
            <a:custGeom>
              <a:avLst/>
              <a:gdLst/>
              <a:ahLst/>
              <a:rect l="l" t="t" r="r" b="b"/>
              <a:pathLst>
                <a:path w="516" h="592">
                  <a:moveTo>
                    <a:pt x="0" y="0"/>
                  </a:moveTo>
                  <a:lnTo>
                    <a:pt x="230" y="592"/>
                  </a:lnTo>
                  <a:lnTo>
                    <a:pt x="351" y="521"/>
                  </a:lnTo>
                  <a:lnTo>
                    <a:pt x="424" y="449"/>
                  </a:lnTo>
                  <a:lnTo>
                    <a:pt x="481" y="357"/>
                  </a:lnTo>
                  <a:lnTo>
                    <a:pt x="516" y="246"/>
                  </a:lnTo>
                  <a:lnTo>
                    <a:pt x="445" y="145"/>
                  </a:lnTo>
                  <a:lnTo>
                    <a:pt x="288" y="46"/>
                  </a:lnTo>
                  <a:lnTo>
                    <a:pt x="1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048880" y="3841200"/>
              <a:ext cx="30240" cy="31320"/>
            </a:xfrm>
            <a:custGeom>
              <a:avLst/>
              <a:gdLst/>
              <a:ahLst/>
              <a:rect l="l" t="t" r="r" b="b"/>
              <a:pathLst>
                <a:path w="404" h="473">
                  <a:moveTo>
                    <a:pt x="0" y="0"/>
                  </a:moveTo>
                  <a:lnTo>
                    <a:pt x="231" y="473"/>
                  </a:lnTo>
                  <a:lnTo>
                    <a:pt x="303" y="376"/>
                  </a:lnTo>
                  <a:lnTo>
                    <a:pt x="393" y="242"/>
                  </a:lnTo>
                  <a:lnTo>
                    <a:pt x="404" y="146"/>
                  </a:lnTo>
                  <a:lnTo>
                    <a:pt x="171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7958880" y="3826800"/>
              <a:ext cx="15480" cy="29160"/>
            </a:xfrm>
            <a:custGeom>
              <a:avLst/>
              <a:gdLst/>
              <a:ahLst/>
              <a:rect l="l" t="t" r="r" b="b"/>
              <a:pathLst>
                <a:path w="210" h="443">
                  <a:moveTo>
                    <a:pt x="39" y="0"/>
                  </a:moveTo>
                  <a:lnTo>
                    <a:pt x="210" y="443"/>
                  </a:lnTo>
                  <a:lnTo>
                    <a:pt x="97" y="374"/>
                  </a:lnTo>
                  <a:lnTo>
                    <a:pt x="39" y="302"/>
                  </a:lnTo>
                  <a:lnTo>
                    <a:pt x="10" y="226"/>
                  </a:lnTo>
                  <a:lnTo>
                    <a:pt x="0" y="9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029440" y="3843720"/>
              <a:ext cx="22320" cy="32040"/>
            </a:xfrm>
            <a:custGeom>
              <a:avLst/>
              <a:gdLst/>
              <a:ahLst/>
              <a:rect l="l" t="t" r="r" b="b"/>
              <a:pathLst>
                <a:path w="292" h="480">
                  <a:moveTo>
                    <a:pt x="32" y="0"/>
                  </a:moveTo>
                  <a:lnTo>
                    <a:pt x="292" y="480"/>
                  </a:lnTo>
                  <a:lnTo>
                    <a:pt x="131" y="432"/>
                  </a:lnTo>
                  <a:lnTo>
                    <a:pt x="32" y="386"/>
                  </a:lnTo>
                  <a:lnTo>
                    <a:pt x="0" y="22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962120" y="3822480"/>
              <a:ext cx="16920" cy="34920"/>
            </a:xfrm>
            <a:custGeom>
              <a:avLst/>
              <a:gdLst/>
              <a:ahLst/>
              <a:rect l="l" t="t" r="r" b="b"/>
              <a:pathLst>
                <a:path w="222" h="523">
                  <a:moveTo>
                    <a:pt x="0" y="119"/>
                  </a:moveTo>
                  <a:lnTo>
                    <a:pt x="150" y="493"/>
                  </a:lnTo>
                  <a:lnTo>
                    <a:pt x="222" y="523"/>
                  </a:lnTo>
                  <a:lnTo>
                    <a:pt x="17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031600" y="3843360"/>
              <a:ext cx="21960" cy="32760"/>
            </a:xfrm>
            <a:custGeom>
              <a:avLst/>
              <a:gdLst/>
              <a:ahLst/>
              <a:rect l="l" t="t" r="r" b="b"/>
              <a:pathLst>
                <a:path w="288" h="498">
                  <a:moveTo>
                    <a:pt x="0" y="35"/>
                  </a:moveTo>
                  <a:lnTo>
                    <a:pt x="224" y="498"/>
                  </a:lnTo>
                  <a:lnTo>
                    <a:pt x="288" y="477"/>
                  </a:lnTo>
                  <a:lnTo>
                    <a:pt x="36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7944840" y="3725640"/>
              <a:ext cx="186840" cy="123840"/>
            </a:xfrm>
            <a:custGeom>
              <a:avLst/>
              <a:gdLst/>
              <a:ahLst/>
              <a:rect l="l" t="t" r="r" b="b"/>
              <a:pathLst>
                <a:path w="2454" h="1848">
                  <a:moveTo>
                    <a:pt x="226" y="1063"/>
                  </a:moveTo>
                  <a:lnTo>
                    <a:pt x="323" y="1046"/>
                  </a:lnTo>
                  <a:lnTo>
                    <a:pt x="672" y="790"/>
                  </a:lnTo>
                  <a:lnTo>
                    <a:pt x="943" y="817"/>
                  </a:lnTo>
                  <a:lnTo>
                    <a:pt x="1804" y="960"/>
                  </a:lnTo>
                  <a:lnTo>
                    <a:pt x="2092" y="1063"/>
                  </a:lnTo>
                  <a:lnTo>
                    <a:pt x="1965" y="1735"/>
                  </a:lnTo>
                  <a:lnTo>
                    <a:pt x="2037" y="1848"/>
                  </a:lnTo>
                  <a:lnTo>
                    <a:pt x="2297" y="1666"/>
                  </a:lnTo>
                  <a:lnTo>
                    <a:pt x="2357" y="1544"/>
                  </a:lnTo>
                  <a:lnTo>
                    <a:pt x="2419" y="1364"/>
                  </a:lnTo>
                  <a:lnTo>
                    <a:pt x="2454" y="1248"/>
                  </a:lnTo>
                  <a:lnTo>
                    <a:pt x="2444" y="1122"/>
                  </a:lnTo>
                  <a:lnTo>
                    <a:pt x="2403" y="1059"/>
                  </a:lnTo>
                  <a:lnTo>
                    <a:pt x="2223" y="1009"/>
                  </a:lnTo>
                  <a:lnTo>
                    <a:pt x="2025" y="380"/>
                  </a:lnTo>
                  <a:lnTo>
                    <a:pt x="1848" y="173"/>
                  </a:lnTo>
                  <a:lnTo>
                    <a:pt x="1472" y="11"/>
                  </a:lnTo>
                  <a:lnTo>
                    <a:pt x="1264" y="0"/>
                  </a:lnTo>
                  <a:lnTo>
                    <a:pt x="1004" y="27"/>
                  </a:lnTo>
                  <a:lnTo>
                    <a:pt x="760" y="76"/>
                  </a:lnTo>
                  <a:lnTo>
                    <a:pt x="554" y="207"/>
                  </a:lnTo>
                  <a:lnTo>
                    <a:pt x="202" y="633"/>
                  </a:lnTo>
                  <a:lnTo>
                    <a:pt x="0" y="982"/>
                  </a:lnTo>
                  <a:lnTo>
                    <a:pt x="88" y="1035"/>
                  </a:lnTo>
                  <a:lnTo>
                    <a:pt x="127" y="1162"/>
                  </a:lnTo>
                  <a:lnTo>
                    <a:pt x="226" y="106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040960" y="3843720"/>
              <a:ext cx="13320" cy="8280"/>
            </a:xfrm>
            <a:custGeom>
              <a:avLst/>
              <a:gdLst/>
              <a:ahLst/>
              <a:rect l="l" t="t" r="r" b="b"/>
              <a:pathLst>
                <a:path w="171" h="132">
                  <a:moveTo>
                    <a:pt x="0" y="51"/>
                  </a:moveTo>
                  <a:lnTo>
                    <a:pt x="72" y="132"/>
                  </a:lnTo>
                  <a:lnTo>
                    <a:pt x="171" y="40"/>
                  </a:lnTo>
                  <a:lnTo>
                    <a:pt x="102" y="0"/>
                  </a:lnTo>
                  <a:lnTo>
                    <a:pt x="17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7982280" y="3827520"/>
              <a:ext cx="18720" cy="972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0" y="46"/>
                  </a:moveTo>
                  <a:lnTo>
                    <a:pt x="83" y="127"/>
                  </a:lnTo>
                  <a:lnTo>
                    <a:pt x="182" y="148"/>
                  </a:lnTo>
                  <a:lnTo>
                    <a:pt x="251" y="35"/>
                  </a:lnTo>
                  <a:lnTo>
                    <a:pt x="140" y="0"/>
                  </a:lnTo>
                  <a:lnTo>
                    <a:pt x="24" y="1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214480" y="3832560"/>
              <a:ext cx="44280" cy="62280"/>
            </a:xfrm>
            <a:custGeom>
              <a:avLst/>
              <a:gdLst/>
              <a:ahLst/>
              <a:rect l="l" t="t" r="r" b="b"/>
              <a:pathLst>
                <a:path w="585" h="936">
                  <a:moveTo>
                    <a:pt x="532" y="0"/>
                  </a:moveTo>
                  <a:lnTo>
                    <a:pt x="464" y="79"/>
                  </a:lnTo>
                  <a:lnTo>
                    <a:pt x="407" y="22"/>
                  </a:lnTo>
                  <a:lnTo>
                    <a:pt x="315" y="22"/>
                  </a:lnTo>
                  <a:lnTo>
                    <a:pt x="137" y="129"/>
                  </a:lnTo>
                  <a:lnTo>
                    <a:pt x="18" y="277"/>
                  </a:lnTo>
                  <a:lnTo>
                    <a:pt x="0" y="398"/>
                  </a:lnTo>
                  <a:lnTo>
                    <a:pt x="18" y="532"/>
                  </a:lnTo>
                  <a:lnTo>
                    <a:pt x="62" y="592"/>
                  </a:lnTo>
                  <a:lnTo>
                    <a:pt x="112" y="620"/>
                  </a:lnTo>
                  <a:lnTo>
                    <a:pt x="62" y="562"/>
                  </a:lnTo>
                  <a:lnTo>
                    <a:pt x="53" y="484"/>
                  </a:lnTo>
                  <a:lnTo>
                    <a:pt x="77" y="407"/>
                  </a:lnTo>
                  <a:lnTo>
                    <a:pt x="143" y="301"/>
                  </a:lnTo>
                  <a:lnTo>
                    <a:pt x="222" y="262"/>
                  </a:lnTo>
                  <a:lnTo>
                    <a:pt x="264" y="235"/>
                  </a:lnTo>
                  <a:lnTo>
                    <a:pt x="222" y="301"/>
                  </a:lnTo>
                  <a:lnTo>
                    <a:pt x="200" y="407"/>
                  </a:lnTo>
                  <a:lnTo>
                    <a:pt x="213" y="484"/>
                  </a:lnTo>
                  <a:lnTo>
                    <a:pt x="235" y="558"/>
                  </a:lnTo>
                  <a:lnTo>
                    <a:pt x="283" y="613"/>
                  </a:lnTo>
                  <a:lnTo>
                    <a:pt x="350" y="659"/>
                  </a:lnTo>
                  <a:lnTo>
                    <a:pt x="350" y="688"/>
                  </a:lnTo>
                  <a:lnTo>
                    <a:pt x="378" y="735"/>
                  </a:lnTo>
                  <a:lnTo>
                    <a:pt x="435" y="776"/>
                  </a:lnTo>
                  <a:lnTo>
                    <a:pt x="486" y="936"/>
                  </a:lnTo>
                  <a:lnTo>
                    <a:pt x="479" y="754"/>
                  </a:lnTo>
                  <a:lnTo>
                    <a:pt x="506" y="730"/>
                  </a:lnTo>
                  <a:lnTo>
                    <a:pt x="585" y="747"/>
                  </a:lnTo>
                  <a:lnTo>
                    <a:pt x="474" y="688"/>
                  </a:lnTo>
                  <a:lnTo>
                    <a:pt x="382" y="652"/>
                  </a:lnTo>
                  <a:lnTo>
                    <a:pt x="389" y="507"/>
                  </a:lnTo>
                  <a:lnTo>
                    <a:pt x="455" y="2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246880" y="3883320"/>
              <a:ext cx="23760" cy="27720"/>
            </a:xfrm>
            <a:custGeom>
              <a:avLst/>
              <a:gdLst/>
              <a:ahLst/>
              <a:rect l="l" t="t" r="r" b="b"/>
              <a:pathLst>
                <a:path w="310" h="417">
                  <a:moveTo>
                    <a:pt x="0" y="0"/>
                  </a:moveTo>
                  <a:lnTo>
                    <a:pt x="126" y="96"/>
                  </a:lnTo>
                  <a:lnTo>
                    <a:pt x="310" y="202"/>
                  </a:lnTo>
                  <a:lnTo>
                    <a:pt x="297" y="237"/>
                  </a:lnTo>
                  <a:lnTo>
                    <a:pt x="310" y="248"/>
                  </a:lnTo>
                  <a:lnTo>
                    <a:pt x="126" y="417"/>
                  </a:lnTo>
                  <a:lnTo>
                    <a:pt x="115" y="387"/>
                  </a:lnTo>
                  <a:lnTo>
                    <a:pt x="163" y="302"/>
                  </a:lnTo>
                  <a:lnTo>
                    <a:pt x="143" y="242"/>
                  </a:lnTo>
                  <a:lnTo>
                    <a:pt x="27" y="248"/>
                  </a:lnTo>
                  <a:lnTo>
                    <a:pt x="80" y="202"/>
                  </a:lnTo>
                  <a:lnTo>
                    <a:pt x="108" y="173"/>
                  </a:lnTo>
                  <a:lnTo>
                    <a:pt x="55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231400" y="3902040"/>
              <a:ext cx="30960" cy="56520"/>
            </a:xfrm>
            <a:custGeom>
              <a:avLst/>
              <a:gdLst/>
              <a:ahLst/>
              <a:rect l="l" t="t" r="r" b="b"/>
              <a:pathLst>
                <a:path w="409" h="848">
                  <a:moveTo>
                    <a:pt x="264" y="0"/>
                  </a:moveTo>
                  <a:lnTo>
                    <a:pt x="252" y="55"/>
                  </a:lnTo>
                  <a:lnTo>
                    <a:pt x="202" y="200"/>
                  </a:lnTo>
                  <a:lnTo>
                    <a:pt x="97" y="401"/>
                  </a:lnTo>
                  <a:lnTo>
                    <a:pt x="0" y="606"/>
                  </a:lnTo>
                  <a:lnTo>
                    <a:pt x="0" y="661"/>
                  </a:lnTo>
                  <a:lnTo>
                    <a:pt x="61" y="696"/>
                  </a:lnTo>
                  <a:lnTo>
                    <a:pt x="220" y="719"/>
                  </a:lnTo>
                  <a:lnTo>
                    <a:pt x="317" y="740"/>
                  </a:lnTo>
                  <a:lnTo>
                    <a:pt x="338" y="753"/>
                  </a:lnTo>
                  <a:lnTo>
                    <a:pt x="354" y="809"/>
                  </a:lnTo>
                  <a:lnTo>
                    <a:pt x="365" y="848"/>
                  </a:lnTo>
                  <a:lnTo>
                    <a:pt x="354" y="740"/>
                  </a:lnTo>
                  <a:lnTo>
                    <a:pt x="328" y="696"/>
                  </a:lnTo>
                  <a:lnTo>
                    <a:pt x="354" y="666"/>
                  </a:lnTo>
                  <a:lnTo>
                    <a:pt x="409" y="633"/>
                  </a:lnTo>
                  <a:lnTo>
                    <a:pt x="391" y="615"/>
                  </a:lnTo>
                  <a:lnTo>
                    <a:pt x="338" y="615"/>
                  </a:lnTo>
                  <a:lnTo>
                    <a:pt x="202" y="641"/>
                  </a:lnTo>
                  <a:lnTo>
                    <a:pt x="97" y="666"/>
                  </a:lnTo>
                  <a:lnTo>
                    <a:pt x="35" y="661"/>
                  </a:lnTo>
                  <a:lnTo>
                    <a:pt x="13" y="626"/>
                  </a:lnTo>
                  <a:lnTo>
                    <a:pt x="13" y="590"/>
                  </a:lnTo>
                  <a:lnTo>
                    <a:pt x="218" y="200"/>
                  </a:lnTo>
                  <a:lnTo>
                    <a:pt x="233" y="12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259120" y="3929760"/>
              <a:ext cx="34560" cy="45360"/>
            </a:xfrm>
            <a:custGeom>
              <a:avLst/>
              <a:gdLst/>
              <a:ahLst/>
              <a:rect l="l" t="t" r="r" b="b"/>
              <a:pathLst>
                <a:path w="452" h="679">
                  <a:moveTo>
                    <a:pt x="0" y="0"/>
                  </a:moveTo>
                  <a:lnTo>
                    <a:pt x="28" y="101"/>
                  </a:lnTo>
                  <a:lnTo>
                    <a:pt x="72" y="180"/>
                  </a:lnTo>
                  <a:lnTo>
                    <a:pt x="154" y="277"/>
                  </a:lnTo>
                  <a:lnTo>
                    <a:pt x="283" y="338"/>
                  </a:lnTo>
                  <a:lnTo>
                    <a:pt x="404" y="433"/>
                  </a:lnTo>
                  <a:lnTo>
                    <a:pt x="424" y="484"/>
                  </a:lnTo>
                  <a:lnTo>
                    <a:pt x="452" y="679"/>
                  </a:lnTo>
                  <a:lnTo>
                    <a:pt x="404" y="574"/>
                  </a:lnTo>
                  <a:lnTo>
                    <a:pt x="283" y="463"/>
                  </a:lnTo>
                  <a:lnTo>
                    <a:pt x="184" y="457"/>
                  </a:lnTo>
                  <a:lnTo>
                    <a:pt x="53" y="495"/>
                  </a:lnTo>
                  <a:lnTo>
                    <a:pt x="0" y="457"/>
                  </a:lnTo>
                  <a:lnTo>
                    <a:pt x="72" y="413"/>
                  </a:lnTo>
                  <a:lnTo>
                    <a:pt x="166" y="403"/>
                  </a:lnTo>
                  <a:lnTo>
                    <a:pt x="256" y="394"/>
                  </a:lnTo>
                  <a:lnTo>
                    <a:pt x="120" y="281"/>
                  </a:lnTo>
                  <a:lnTo>
                    <a:pt x="53" y="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269560" y="3963960"/>
              <a:ext cx="13680" cy="11160"/>
            </a:xfrm>
            <a:custGeom>
              <a:avLst/>
              <a:gdLst/>
              <a:ahLst/>
              <a:rect l="l" t="t" r="r" b="b"/>
              <a:pathLst>
                <a:path w="182" h="170">
                  <a:moveTo>
                    <a:pt x="182" y="0"/>
                  </a:moveTo>
                  <a:lnTo>
                    <a:pt x="123" y="85"/>
                  </a:lnTo>
                  <a:lnTo>
                    <a:pt x="62" y="111"/>
                  </a:lnTo>
                  <a:lnTo>
                    <a:pt x="0" y="146"/>
                  </a:lnTo>
                  <a:lnTo>
                    <a:pt x="0" y="170"/>
                  </a:lnTo>
                  <a:lnTo>
                    <a:pt x="92" y="115"/>
                  </a:lnTo>
                  <a:lnTo>
                    <a:pt x="147" y="99"/>
                  </a:lnTo>
                  <a:lnTo>
                    <a:pt x="173" y="3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269560" y="3950640"/>
              <a:ext cx="102960" cy="77400"/>
            </a:xfrm>
            <a:custGeom>
              <a:avLst/>
              <a:gdLst/>
              <a:ahLst/>
              <a:rect l="l" t="t" r="r" b="b"/>
              <a:pathLst>
                <a:path w="1349" h="1162">
                  <a:moveTo>
                    <a:pt x="0" y="465"/>
                  </a:moveTo>
                  <a:lnTo>
                    <a:pt x="97" y="579"/>
                  </a:lnTo>
                  <a:lnTo>
                    <a:pt x="117" y="634"/>
                  </a:lnTo>
                  <a:lnTo>
                    <a:pt x="117" y="664"/>
                  </a:lnTo>
                  <a:lnTo>
                    <a:pt x="92" y="724"/>
                  </a:lnTo>
                  <a:lnTo>
                    <a:pt x="81" y="770"/>
                  </a:lnTo>
                  <a:lnTo>
                    <a:pt x="81" y="827"/>
                  </a:lnTo>
                  <a:lnTo>
                    <a:pt x="97" y="880"/>
                  </a:lnTo>
                  <a:lnTo>
                    <a:pt x="120" y="899"/>
                  </a:lnTo>
                  <a:lnTo>
                    <a:pt x="198" y="860"/>
                  </a:lnTo>
                  <a:lnTo>
                    <a:pt x="268" y="814"/>
                  </a:lnTo>
                  <a:lnTo>
                    <a:pt x="327" y="728"/>
                  </a:lnTo>
                  <a:lnTo>
                    <a:pt x="345" y="634"/>
                  </a:lnTo>
                  <a:lnTo>
                    <a:pt x="345" y="564"/>
                  </a:lnTo>
                  <a:lnTo>
                    <a:pt x="394" y="814"/>
                  </a:lnTo>
                  <a:lnTo>
                    <a:pt x="505" y="786"/>
                  </a:lnTo>
                  <a:lnTo>
                    <a:pt x="646" y="724"/>
                  </a:lnTo>
                  <a:lnTo>
                    <a:pt x="730" y="643"/>
                  </a:lnTo>
                  <a:lnTo>
                    <a:pt x="802" y="568"/>
                  </a:lnTo>
                  <a:lnTo>
                    <a:pt x="897" y="454"/>
                  </a:lnTo>
                  <a:lnTo>
                    <a:pt x="958" y="408"/>
                  </a:lnTo>
                  <a:lnTo>
                    <a:pt x="1051" y="368"/>
                  </a:lnTo>
                  <a:lnTo>
                    <a:pt x="1125" y="309"/>
                  </a:lnTo>
                  <a:lnTo>
                    <a:pt x="1176" y="238"/>
                  </a:lnTo>
                  <a:lnTo>
                    <a:pt x="1224" y="152"/>
                  </a:lnTo>
                  <a:lnTo>
                    <a:pt x="1257" y="0"/>
                  </a:lnTo>
                  <a:lnTo>
                    <a:pt x="1242" y="223"/>
                  </a:lnTo>
                  <a:lnTo>
                    <a:pt x="1219" y="376"/>
                  </a:lnTo>
                  <a:lnTo>
                    <a:pt x="1164" y="482"/>
                  </a:lnTo>
                  <a:lnTo>
                    <a:pt x="1120" y="568"/>
                  </a:lnTo>
                  <a:lnTo>
                    <a:pt x="1120" y="634"/>
                  </a:lnTo>
                  <a:lnTo>
                    <a:pt x="1153" y="705"/>
                  </a:lnTo>
                  <a:lnTo>
                    <a:pt x="1196" y="790"/>
                  </a:lnTo>
                  <a:lnTo>
                    <a:pt x="1219" y="851"/>
                  </a:lnTo>
                  <a:lnTo>
                    <a:pt x="1226" y="920"/>
                  </a:lnTo>
                  <a:lnTo>
                    <a:pt x="1349" y="746"/>
                  </a:lnTo>
                  <a:lnTo>
                    <a:pt x="1219" y="992"/>
                  </a:lnTo>
                  <a:lnTo>
                    <a:pt x="1160" y="1132"/>
                  </a:lnTo>
                  <a:lnTo>
                    <a:pt x="1160" y="1162"/>
                  </a:lnTo>
                  <a:lnTo>
                    <a:pt x="1090" y="1091"/>
                  </a:lnTo>
                  <a:lnTo>
                    <a:pt x="1000" y="987"/>
                  </a:lnTo>
                  <a:lnTo>
                    <a:pt x="922" y="959"/>
                  </a:lnTo>
                  <a:lnTo>
                    <a:pt x="844" y="926"/>
                  </a:lnTo>
                  <a:lnTo>
                    <a:pt x="712" y="926"/>
                  </a:lnTo>
                  <a:lnTo>
                    <a:pt x="277" y="1021"/>
                  </a:lnTo>
                  <a:lnTo>
                    <a:pt x="173" y="1012"/>
                  </a:lnTo>
                  <a:lnTo>
                    <a:pt x="112" y="986"/>
                  </a:lnTo>
                  <a:lnTo>
                    <a:pt x="48" y="920"/>
                  </a:lnTo>
                  <a:lnTo>
                    <a:pt x="30" y="851"/>
                  </a:lnTo>
                  <a:lnTo>
                    <a:pt x="35" y="786"/>
                  </a:lnTo>
                  <a:lnTo>
                    <a:pt x="62" y="724"/>
                  </a:lnTo>
                  <a:lnTo>
                    <a:pt x="81" y="664"/>
                  </a:lnTo>
                  <a:lnTo>
                    <a:pt x="81" y="610"/>
                  </a:lnTo>
                  <a:lnTo>
                    <a:pt x="48" y="548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260920" y="3740040"/>
              <a:ext cx="254880" cy="276120"/>
            </a:xfrm>
            <a:custGeom>
              <a:avLst/>
              <a:gdLst/>
              <a:ahLst/>
              <a:rect l="l" t="t" r="r" b="b"/>
              <a:pathLst>
                <a:path w="3329" h="4141">
                  <a:moveTo>
                    <a:pt x="64" y="1229"/>
                  </a:moveTo>
                  <a:lnTo>
                    <a:pt x="103" y="1344"/>
                  </a:lnTo>
                  <a:lnTo>
                    <a:pt x="174" y="1418"/>
                  </a:lnTo>
                  <a:lnTo>
                    <a:pt x="271" y="1457"/>
                  </a:lnTo>
                  <a:lnTo>
                    <a:pt x="462" y="1480"/>
                  </a:lnTo>
                  <a:lnTo>
                    <a:pt x="618" y="1457"/>
                  </a:lnTo>
                  <a:lnTo>
                    <a:pt x="774" y="1395"/>
                  </a:lnTo>
                  <a:lnTo>
                    <a:pt x="521" y="1406"/>
                  </a:lnTo>
                  <a:lnTo>
                    <a:pt x="361" y="1367"/>
                  </a:lnTo>
                  <a:lnTo>
                    <a:pt x="271" y="1291"/>
                  </a:lnTo>
                  <a:lnTo>
                    <a:pt x="214" y="1199"/>
                  </a:lnTo>
                  <a:lnTo>
                    <a:pt x="361" y="1261"/>
                  </a:lnTo>
                  <a:lnTo>
                    <a:pt x="488" y="1280"/>
                  </a:lnTo>
                  <a:lnTo>
                    <a:pt x="679" y="1261"/>
                  </a:lnTo>
                  <a:lnTo>
                    <a:pt x="850" y="1206"/>
                  </a:lnTo>
                  <a:lnTo>
                    <a:pt x="1030" y="1081"/>
                  </a:lnTo>
                  <a:lnTo>
                    <a:pt x="926" y="1241"/>
                  </a:lnTo>
                  <a:lnTo>
                    <a:pt x="1104" y="1137"/>
                  </a:lnTo>
                  <a:lnTo>
                    <a:pt x="1263" y="1081"/>
                  </a:lnTo>
                  <a:lnTo>
                    <a:pt x="1413" y="1081"/>
                  </a:lnTo>
                  <a:lnTo>
                    <a:pt x="1572" y="1137"/>
                  </a:lnTo>
                  <a:lnTo>
                    <a:pt x="1401" y="1137"/>
                  </a:lnTo>
                  <a:lnTo>
                    <a:pt x="1275" y="1160"/>
                  </a:lnTo>
                  <a:lnTo>
                    <a:pt x="1168" y="1229"/>
                  </a:lnTo>
                  <a:lnTo>
                    <a:pt x="1327" y="1241"/>
                  </a:lnTo>
                  <a:lnTo>
                    <a:pt x="1539" y="1199"/>
                  </a:lnTo>
                  <a:lnTo>
                    <a:pt x="1685" y="1137"/>
                  </a:lnTo>
                  <a:lnTo>
                    <a:pt x="1611" y="1229"/>
                  </a:lnTo>
                  <a:lnTo>
                    <a:pt x="1389" y="1375"/>
                  </a:lnTo>
                  <a:lnTo>
                    <a:pt x="1203" y="1430"/>
                  </a:lnTo>
                  <a:lnTo>
                    <a:pt x="1039" y="1443"/>
                  </a:lnTo>
                  <a:lnTo>
                    <a:pt x="1113" y="1344"/>
                  </a:lnTo>
                  <a:lnTo>
                    <a:pt x="926" y="1367"/>
                  </a:lnTo>
                  <a:lnTo>
                    <a:pt x="745" y="1480"/>
                  </a:lnTo>
                  <a:lnTo>
                    <a:pt x="850" y="1517"/>
                  </a:lnTo>
                  <a:lnTo>
                    <a:pt x="754" y="1591"/>
                  </a:lnTo>
                  <a:lnTo>
                    <a:pt x="906" y="1591"/>
                  </a:lnTo>
                  <a:lnTo>
                    <a:pt x="1141" y="1526"/>
                  </a:lnTo>
                  <a:lnTo>
                    <a:pt x="1275" y="1465"/>
                  </a:lnTo>
                  <a:lnTo>
                    <a:pt x="1141" y="1639"/>
                  </a:lnTo>
                  <a:lnTo>
                    <a:pt x="1214" y="1702"/>
                  </a:lnTo>
                  <a:lnTo>
                    <a:pt x="1401" y="1711"/>
                  </a:lnTo>
                  <a:lnTo>
                    <a:pt x="1636" y="1687"/>
                  </a:lnTo>
                  <a:lnTo>
                    <a:pt x="1807" y="1711"/>
                  </a:lnTo>
                  <a:lnTo>
                    <a:pt x="1947" y="1784"/>
                  </a:lnTo>
                  <a:lnTo>
                    <a:pt x="2066" y="1905"/>
                  </a:lnTo>
                  <a:lnTo>
                    <a:pt x="2145" y="2019"/>
                  </a:lnTo>
                  <a:lnTo>
                    <a:pt x="1967" y="1905"/>
                  </a:lnTo>
                  <a:lnTo>
                    <a:pt x="2095" y="2045"/>
                  </a:lnTo>
                  <a:lnTo>
                    <a:pt x="2153" y="2215"/>
                  </a:lnTo>
                  <a:lnTo>
                    <a:pt x="2153" y="2379"/>
                  </a:lnTo>
                  <a:lnTo>
                    <a:pt x="2125" y="2511"/>
                  </a:lnTo>
                  <a:lnTo>
                    <a:pt x="2084" y="2340"/>
                  </a:lnTo>
                  <a:lnTo>
                    <a:pt x="2066" y="2599"/>
                  </a:lnTo>
                  <a:lnTo>
                    <a:pt x="2003" y="2817"/>
                  </a:lnTo>
                  <a:lnTo>
                    <a:pt x="2145" y="2573"/>
                  </a:lnTo>
                  <a:lnTo>
                    <a:pt x="2153" y="2698"/>
                  </a:lnTo>
                  <a:lnTo>
                    <a:pt x="2215" y="2502"/>
                  </a:lnTo>
                  <a:lnTo>
                    <a:pt x="2247" y="2315"/>
                  </a:lnTo>
                  <a:lnTo>
                    <a:pt x="2330" y="2416"/>
                  </a:lnTo>
                  <a:lnTo>
                    <a:pt x="2365" y="2259"/>
                  </a:lnTo>
                  <a:lnTo>
                    <a:pt x="2365" y="2085"/>
                  </a:lnTo>
                  <a:lnTo>
                    <a:pt x="2316" y="1978"/>
                  </a:lnTo>
                  <a:lnTo>
                    <a:pt x="2215" y="1824"/>
                  </a:lnTo>
                  <a:lnTo>
                    <a:pt x="2406" y="1942"/>
                  </a:lnTo>
                  <a:lnTo>
                    <a:pt x="2391" y="1817"/>
                  </a:lnTo>
                  <a:lnTo>
                    <a:pt x="2567" y="1944"/>
                  </a:lnTo>
                  <a:lnTo>
                    <a:pt x="2624" y="2109"/>
                  </a:lnTo>
                  <a:lnTo>
                    <a:pt x="2674" y="1920"/>
                  </a:lnTo>
                  <a:lnTo>
                    <a:pt x="2635" y="1711"/>
                  </a:lnTo>
                  <a:lnTo>
                    <a:pt x="2778" y="1839"/>
                  </a:lnTo>
                  <a:lnTo>
                    <a:pt x="2881" y="1874"/>
                  </a:lnTo>
                  <a:lnTo>
                    <a:pt x="2960" y="1748"/>
                  </a:lnTo>
                  <a:lnTo>
                    <a:pt x="3006" y="1540"/>
                  </a:lnTo>
                  <a:lnTo>
                    <a:pt x="3035" y="1663"/>
                  </a:lnTo>
                  <a:lnTo>
                    <a:pt x="3142" y="1526"/>
                  </a:lnTo>
                  <a:lnTo>
                    <a:pt x="3178" y="1344"/>
                  </a:lnTo>
                  <a:lnTo>
                    <a:pt x="3237" y="1206"/>
                  </a:lnTo>
                  <a:lnTo>
                    <a:pt x="3237" y="1045"/>
                  </a:lnTo>
                  <a:lnTo>
                    <a:pt x="3204" y="839"/>
                  </a:lnTo>
                  <a:lnTo>
                    <a:pt x="3112" y="581"/>
                  </a:lnTo>
                  <a:lnTo>
                    <a:pt x="2925" y="305"/>
                  </a:lnTo>
                  <a:lnTo>
                    <a:pt x="2669" y="72"/>
                  </a:lnTo>
                  <a:lnTo>
                    <a:pt x="2503" y="0"/>
                  </a:lnTo>
                  <a:lnTo>
                    <a:pt x="2778" y="109"/>
                  </a:lnTo>
                  <a:lnTo>
                    <a:pt x="3112" y="491"/>
                  </a:lnTo>
                  <a:lnTo>
                    <a:pt x="3266" y="867"/>
                  </a:lnTo>
                  <a:lnTo>
                    <a:pt x="3319" y="1241"/>
                  </a:lnTo>
                  <a:lnTo>
                    <a:pt x="3319" y="1591"/>
                  </a:lnTo>
                  <a:lnTo>
                    <a:pt x="3266" y="1893"/>
                  </a:lnTo>
                  <a:lnTo>
                    <a:pt x="3197" y="2121"/>
                  </a:lnTo>
                  <a:lnTo>
                    <a:pt x="3096" y="2315"/>
                  </a:lnTo>
                  <a:lnTo>
                    <a:pt x="2971" y="2502"/>
                  </a:lnTo>
                  <a:lnTo>
                    <a:pt x="2863" y="2599"/>
                  </a:lnTo>
                  <a:lnTo>
                    <a:pt x="2807" y="2713"/>
                  </a:lnTo>
                  <a:lnTo>
                    <a:pt x="2784" y="2817"/>
                  </a:lnTo>
                  <a:lnTo>
                    <a:pt x="2784" y="2928"/>
                  </a:lnTo>
                  <a:lnTo>
                    <a:pt x="2807" y="3050"/>
                  </a:lnTo>
                  <a:lnTo>
                    <a:pt x="2846" y="3120"/>
                  </a:lnTo>
                  <a:lnTo>
                    <a:pt x="3006" y="3124"/>
                  </a:lnTo>
                  <a:lnTo>
                    <a:pt x="3112" y="3256"/>
                  </a:lnTo>
                  <a:lnTo>
                    <a:pt x="3142" y="3428"/>
                  </a:lnTo>
                  <a:lnTo>
                    <a:pt x="3290" y="3562"/>
                  </a:lnTo>
                  <a:lnTo>
                    <a:pt x="3329" y="3663"/>
                  </a:lnTo>
                  <a:lnTo>
                    <a:pt x="3096" y="3670"/>
                  </a:lnTo>
                  <a:lnTo>
                    <a:pt x="2710" y="3812"/>
                  </a:lnTo>
                  <a:lnTo>
                    <a:pt x="2255" y="3981"/>
                  </a:lnTo>
                  <a:lnTo>
                    <a:pt x="1912" y="4141"/>
                  </a:lnTo>
                  <a:lnTo>
                    <a:pt x="2381" y="3894"/>
                  </a:lnTo>
                  <a:lnTo>
                    <a:pt x="2710" y="3733"/>
                  </a:lnTo>
                  <a:lnTo>
                    <a:pt x="2778" y="3663"/>
                  </a:lnTo>
                  <a:lnTo>
                    <a:pt x="2750" y="3491"/>
                  </a:lnTo>
                  <a:lnTo>
                    <a:pt x="2653" y="3327"/>
                  </a:lnTo>
                  <a:lnTo>
                    <a:pt x="2549" y="3256"/>
                  </a:lnTo>
                  <a:lnTo>
                    <a:pt x="2187" y="3352"/>
                  </a:lnTo>
                  <a:lnTo>
                    <a:pt x="1848" y="3537"/>
                  </a:lnTo>
                  <a:lnTo>
                    <a:pt x="1560" y="3830"/>
                  </a:lnTo>
                  <a:lnTo>
                    <a:pt x="1795" y="3537"/>
                  </a:lnTo>
                  <a:lnTo>
                    <a:pt x="2084" y="3289"/>
                  </a:lnTo>
                  <a:lnTo>
                    <a:pt x="1980" y="3111"/>
                  </a:lnTo>
                  <a:lnTo>
                    <a:pt x="1894" y="2949"/>
                  </a:lnTo>
                  <a:lnTo>
                    <a:pt x="1857" y="2778"/>
                  </a:lnTo>
                  <a:lnTo>
                    <a:pt x="1830" y="2573"/>
                  </a:lnTo>
                  <a:lnTo>
                    <a:pt x="1772" y="2722"/>
                  </a:lnTo>
                  <a:lnTo>
                    <a:pt x="1685" y="2873"/>
                  </a:lnTo>
                  <a:lnTo>
                    <a:pt x="1646" y="2979"/>
                  </a:lnTo>
                  <a:lnTo>
                    <a:pt x="1624" y="3094"/>
                  </a:lnTo>
                  <a:lnTo>
                    <a:pt x="1545" y="3168"/>
                  </a:lnTo>
                  <a:lnTo>
                    <a:pt x="1503" y="3181"/>
                  </a:lnTo>
                  <a:lnTo>
                    <a:pt x="1389" y="3181"/>
                  </a:lnTo>
                  <a:lnTo>
                    <a:pt x="1350" y="3181"/>
                  </a:lnTo>
                  <a:lnTo>
                    <a:pt x="1309" y="3054"/>
                  </a:lnTo>
                  <a:lnTo>
                    <a:pt x="1203" y="3050"/>
                  </a:lnTo>
                  <a:lnTo>
                    <a:pt x="1350" y="3034"/>
                  </a:lnTo>
                  <a:lnTo>
                    <a:pt x="1429" y="2972"/>
                  </a:lnTo>
                  <a:lnTo>
                    <a:pt x="1452" y="2893"/>
                  </a:lnTo>
                  <a:lnTo>
                    <a:pt x="1452" y="2817"/>
                  </a:lnTo>
                  <a:lnTo>
                    <a:pt x="1401" y="2748"/>
                  </a:lnTo>
                  <a:lnTo>
                    <a:pt x="1309" y="2722"/>
                  </a:lnTo>
                  <a:lnTo>
                    <a:pt x="1429" y="2733"/>
                  </a:lnTo>
                  <a:lnTo>
                    <a:pt x="1475" y="2760"/>
                  </a:lnTo>
                  <a:lnTo>
                    <a:pt x="1585" y="2698"/>
                  </a:lnTo>
                  <a:lnTo>
                    <a:pt x="1659" y="2573"/>
                  </a:lnTo>
                  <a:lnTo>
                    <a:pt x="1723" y="2416"/>
                  </a:lnTo>
                  <a:lnTo>
                    <a:pt x="1747" y="2259"/>
                  </a:lnTo>
                  <a:lnTo>
                    <a:pt x="1747" y="2133"/>
                  </a:lnTo>
                  <a:lnTo>
                    <a:pt x="1723" y="2019"/>
                  </a:lnTo>
                  <a:lnTo>
                    <a:pt x="1646" y="1920"/>
                  </a:lnTo>
                  <a:lnTo>
                    <a:pt x="1560" y="1874"/>
                  </a:lnTo>
                  <a:lnTo>
                    <a:pt x="1475" y="1874"/>
                  </a:lnTo>
                  <a:lnTo>
                    <a:pt x="1334" y="1891"/>
                  </a:lnTo>
                  <a:lnTo>
                    <a:pt x="1214" y="1858"/>
                  </a:lnTo>
                  <a:lnTo>
                    <a:pt x="1066" y="1784"/>
                  </a:lnTo>
                  <a:lnTo>
                    <a:pt x="976" y="1711"/>
                  </a:lnTo>
                  <a:lnTo>
                    <a:pt x="1090" y="1920"/>
                  </a:lnTo>
                  <a:lnTo>
                    <a:pt x="1182" y="2006"/>
                  </a:lnTo>
                  <a:lnTo>
                    <a:pt x="1327" y="2059"/>
                  </a:lnTo>
                  <a:lnTo>
                    <a:pt x="1182" y="2094"/>
                  </a:lnTo>
                  <a:lnTo>
                    <a:pt x="1077" y="2085"/>
                  </a:lnTo>
                  <a:lnTo>
                    <a:pt x="1113" y="2195"/>
                  </a:lnTo>
                  <a:lnTo>
                    <a:pt x="1168" y="2269"/>
                  </a:lnTo>
                  <a:lnTo>
                    <a:pt x="1228" y="2305"/>
                  </a:lnTo>
                  <a:lnTo>
                    <a:pt x="1113" y="2305"/>
                  </a:lnTo>
                  <a:lnTo>
                    <a:pt x="945" y="2305"/>
                  </a:lnTo>
                  <a:lnTo>
                    <a:pt x="844" y="2241"/>
                  </a:lnTo>
                  <a:lnTo>
                    <a:pt x="776" y="2144"/>
                  </a:lnTo>
                  <a:lnTo>
                    <a:pt x="774" y="2094"/>
                  </a:lnTo>
                  <a:lnTo>
                    <a:pt x="645" y="2038"/>
                  </a:lnTo>
                  <a:lnTo>
                    <a:pt x="548" y="1944"/>
                  </a:lnTo>
                  <a:lnTo>
                    <a:pt x="502" y="1824"/>
                  </a:lnTo>
                  <a:lnTo>
                    <a:pt x="470" y="1711"/>
                  </a:lnTo>
                  <a:lnTo>
                    <a:pt x="350" y="1678"/>
                  </a:lnTo>
                  <a:lnTo>
                    <a:pt x="299" y="1628"/>
                  </a:lnTo>
                  <a:lnTo>
                    <a:pt x="231" y="1566"/>
                  </a:lnTo>
                  <a:lnTo>
                    <a:pt x="121" y="1526"/>
                  </a:lnTo>
                  <a:lnTo>
                    <a:pt x="36" y="1443"/>
                  </a:lnTo>
                  <a:lnTo>
                    <a:pt x="0" y="1344"/>
                  </a:lnTo>
                  <a:lnTo>
                    <a:pt x="0" y="1261"/>
                  </a:lnTo>
                  <a:lnTo>
                    <a:pt x="64" y="1160"/>
                  </a:lnTo>
                  <a:lnTo>
                    <a:pt x="64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361000" y="3816720"/>
              <a:ext cx="80640" cy="33120"/>
            </a:xfrm>
            <a:custGeom>
              <a:avLst/>
              <a:gdLst/>
              <a:ahLst/>
              <a:rect l="l" t="t" r="r" b="b"/>
              <a:pathLst>
                <a:path w="1056" h="495">
                  <a:moveTo>
                    <a:pt x="41" y="274"/>
                  </a:moveTo>
                  <a:lnTo>
                    <a:pt x="166" y="286"/>
                  </a:lnTo>
                  <a:lnTo>
                    <a:pt x="327" y="251"/>
                  </a:lnTo>
                  <a:lnTo>
                    <a:pt x="438" y="177"/>
                  </a:lnTo>
                  <a:lnTo>
                    <a:pt x="560" y="80"/>
                  </a:lnTo>
                  <a:lnTo>
                    <a:pt x="650" y="0"/>
                  </a:lnTo>
                  <a:lnTo>
                    <a:pt x="585" y="136"/>
                  </a:lnTo>
                  <a:lnTo>
                    <a:pt x="477" y="262"/>
                  </a:lnTo>
                  <a:lnTo>
                    <a:pt x="658" y="200"/>
                  </a:lnTo>
                  <a:lnTo>
                    <a:pt x="800" y="200"/>
                  </a:lnTo>
                  <a:lnTo>
                    <a:pt x="922" y="231"/>
                  </a:lnTo>
                  <a:lnTo>
                    <a:pt x="996" y="313"/>
                  </a:lnTo>
                  <a:lnTo>
                    <a:pt x="1056" y="409"/>
                  </a:lnTo>
                  <a:lnTo>
                    <a:pt x="970" y="348"/>
                  </a:lnTo>
                  <a:lnTo>
                    <a:pt x="878" y="321"/>
                  </a:lnTo>
                  <a:lnTo>
                    <a:pt x="775" y="321"/>
                  </a:lnTo>
                  <a:lnTo>
                    <a:pt x="671" y="348"/>
                  </a:lnTo>
                  <a:lnTo>
                    <a:pt x="800" y="409"/>
                  </a:lnTo>
                  <a:lnTo>
                    <a:pt x="618" y="396"/>
                  </a:lnTo>
                  <a:lnTo>
                    <a:pt x="486" y="447"/>
                  </a:lnTo>
                  <a:lnTo>
                    <a:pt x="350" y="484"/>
                  </a:lnTo>
                  <a:lnTo>
                    <a:pt x="201" y="495"/>
                  </a:lnTo>
                  <a:lnTo>
                    <a:pt x="65" y="458"/>
                  </a:lnTo>
                  <a:lnTo>
                    <a:pt x="0" y="396"/>
                  </a:lnTo>
                  <a:lnTo>
                    <a:pt x="150" y="396"/>
                  </a:lnTo>
                  <a:lnTo>
                    <a:pt x="315" y="336"/>
                  </a:lnTo>
                  <a:lnTo>
                    <a:pt x="166" y="336"/>
                  </a:lnTo>
                  <a:lnTo>
                    <a:pt x="65" y="299"/>
                  </a:lnTo>
                  <a:lnTo>
                    <a:pt x="41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355600" y="3873600"/>
              <a:ext cx="29880" cy="40320"/>
            </a:xfrm>
            <a:custGeom>
              <a:avLst/>
              <a:gdLst/>
              <a:ahLst/>
              <a:rect l="l" t="t" r="r" b="b"/>
              <a:pathLst>
                <a:path w="387" h="613">
                  <a:moveTo>
                    <a:pt x="67" y="60"/>
                  </a:moveTo>
                  <a:lnTo>
                    <a:pt x="152" y="0"/>
                  </a:lnTo>
                  <a:lnTo>
                    <a:pt x="266" y="0"/>
                  </a:lnTo>
                  <a:lnTo>
                    <a:pt x="348" y="46"/>
                  </a:lnTo>
                  <a:lnTo>
                    <a:pt x="387" y="152"/>
                  </a:lnTo>
                  <a:lnTo>
                    <a:pt x="335" y="86"/>
                  </a:lnTo>
                  <a:lnTo>
                    <a:pt x="266" y="60"/>
                  </a:lnTo>
                  <a:lnTo>
                    <a:pt x="164" y="152"/>
                  </a:lnTo>
                  <a:lnTo>
                    <a:pt x="266" y="270"/>
                  </a:lnTo>
                  <a:lnTo>
                    <a:pt x="266" y="429"/>
                  </a:lnTo>
                  <a:lnTo>
                    <a:pt x="90" y="528"/>
                  </a:lnTo>
                  <a:lnTo>
                    <a:pt x="38" y="613"/>
                  </a:lnTo>
                  <a:lnTo>
                    <a:pt x="0" y="613"/>
                  </a:lnTo>
                  <a:lnTo>
                    <a:pt x="14" y="440"/>
                  </a:lnTo>
                  <a:lnTo>
                    <a:pt x="113" y="367"/>
                  </a:lnTo>
                  <a:lnTo>
                    <a:pt x="113" y="306"/>
                  </a:lnTo>
                  <a:lnTo>
                    <a:pt x="38" y="260"/>
                  </a:lnTo>
                  <a:lnTo>
                    <a:pt x="72" y="152"/>
                  </a:lnTo>
                  <a:lnTo>
                    <a:pt x="0" y="71"/>
                  </a:lnTo>
                  <a:lnTo>
                    <a:pt x="6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372880" y="3887640"/>
              <a:ext cx="12600" cy="28080"/>
            </a:xfrm>
            <a:custGeom>
              <a:avLst/>
              <a:gdLst/>
              <a:ahLst/>
              <a:rect l="l" t="t" r="r" b="b"/>
              <a:pathLst>
                <a:path w="165" h="424">
                  <a:moveTo>
                    <a:pt x="152" y="0"/>
                  </a:moveTo>
                  <a:lnTo>
                    <a:pt x="152" y="120"/>
                  </a:lnTo>
                  <a:lnTo>
                    <a:pt x="101" y="240"/>
                  </a:lnTo>
                  <a:lnTo>
                    <a:pt x="0" y="362"/>
                  </a:lnTo>
                  <a:lnTo>
                    <a:pt x="0" y="424"/>
                  </a:lnTo>
                  <a:lnTo>
                    <a:pt x="66" y="401"/>
                  </a:lnTo>
                  <a:lnTo>
                    <a:pt x="165" y="129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244000" y="3740760"/>
              <a:ext cx="174600" cy="82080"/>
            </a:xfrm>
            <a:custGeom>
              <a:avLst/>
              <a:gdLst/>
              <a:ahLst/>
              <a:rect l="l" t="t" r="r" b="b"/>
              <a:pathLst>
                <a:path w="2291" h="1231">
                  <a:moveTo>
                    <a:pt x="231" y="1231"/>
                  </a:moveTo>
                  <a:lnTo>
                    <a:pt x="124" y="1231"/>
                  </a:lnTo>
                  <a:lnTo>
                    <a:pt x="46" y="1170"/>
                  </a:lnTo>
                  <a:lnTo>
                    <a:pt x="0" y="1071"/>
                  </a:lnTo>
                  <a:lnTo>
                    <a:pt x="0" y="984"/>
                  </a:lnTo>
                  <a:lnTo>
                    <a:pt x="23" y="880"/>
                  </a:lnTo>
                  <a:lnTo>
                    <a:pt x="69" y="829"/>
                  </a:lnTo>
                  <a:lnTo>
                    <a:pt x="132" y="728"/>
                  </a:lnTo>
                  <a:lnTo>
                    <a:pt x="205" y="580"/>
                  </a:lnTo>
                  <a:lnTo>
                    <a:pt x="185" y="682"/>
                  </a:lnTo>
                  <a:lnTo>
                    <a:pt x="124" y="804"/>
                  </a:lnTo>
                  <a:lnTo>
                    <a:pt x="124" y="892"/>
                  </a:lnTo>
                  <a:lnTo>
                    <a:pt x="157" y="974"/>
                  </a:lnTo>
                  <a:lnTo>
                    <a:pt x="221" y="1035"/>
                  </a:lnTo>
                  <a:lnTo>
                    <a:pt x="221" y="912"/>
                  </a:lnTo>
                  <a:lnTo>
                    <a:pt x="304" y="937"/>
                  </a:lnTo>
                  <a:lnTo>
                    <a:pt x="284" y="840"/>
                  </a:lnTo>
                  <a:lnTo>
                    <a:pt x="295" y="728"/>
                  </a:lnTo>
                  <a:lnTo>
                    <a:pt x="352" y="668"/>
                  </a:lnTo>
                  <a:lnTo>
                    <a:pt x="405" y="596"/>
                  </a:lnTo>
                  <a:lnTo>
                    <a:pt x="462" y="513"/>
                  </a:lnTo>
                  <a:lnTo>
                    <a:pt x="521" y="456"/>
                  </a:lnTo>
                  <a:lnTo>
                    <a:pt x="631" y="414"/>
                  </a:lnTo>
                  <a:lnTo>
                    <a:pt x="779" y="380"/>
                  </a:lnTo>
                  <a:lnTo>
                    <a:pt x="950" y="286"/>
                  </a:lnTo>
                  <a:lnTo>
                    <a:pt x="1007" y="179"/>
                  </a:lnTo>
                  <a:lnTo>
                    <a:pt x="985" y="310"/>
                  </a:lnTo>
                  <a:lnTo>
                    <a:pt x="943" y="361"/>
                  </a:lnTo>
                  <a:lnTo>
                    <a:pt x="825" y="481"/>
                  </a:lnTo>
                  <a:lnTo>
                    <a:pt x="1005" y="396"/>
                  </a:lnTo>
                  <a:lnTo>
                    <a:pt x="1097" y="373"/>
                  </a:lnTo>
                  <a:lnTo>
                    <a:pt x="1176" y="276"/>
                  </a:lnTo>
                  <a:lnTo>
                    <a:pt x="1236" y="135"/>
                  </a:lnTo>
                  <a:lnTo>
                    <a:pt x="1236" y="225"/>
                  </a:lnTo>
                  <a:lnTo>
                    <a:pt x="1201" y="373"/>
                  </a:lnTo>
                  <a:lnTo>
                    <a:pt x="1372" y="246"/>
                  </a:lnTo>
                  <a:lnTo>
                    <a:pt x="1468" y="218"/>
                  </a:lnTo>
                  <a:lnTo>
                    <a:pt x="1581" y="232"/>
                  </a:lnTo>
                  <a:lnTo>
                    <a:pt x="1683" y="225"/>
                  </a:lnTo>
                  <a:lnTo>
                    <a:pt x="1776" y="179"/>
                  </a:lnTo>
                  <a:lnTo>
                    <a:pt x="1890" y="80"/>
                  </a:lnTo>
                  <a:lnTo>
                    <a:pt x="1978" y="51"/>
                  </a:lnTo>
                  <a:lnTo>
                    <a:pt x="2088" y="0"/>
                  </a:lnTo>
                  <a:lnTo>
                    <a:pt x="1941" y="87"/>
                  </a:lnTo>
                  <a:lnTo>
                    <a:pt x="2061" y="99"/>
                  </a:lnTo>
                  <a:lnTo>
                    <a:pt x="2291" y="51"/>
                  </a:lnTo>
                  <a:lnTo>
                    <a:pt x="2150" y="150"/>
                  </a:lnTo>
                  <a:lnTo>
                    <a:pt x="1994" y="200"/>
                  </a:lnTo>
                  <a:lnTo>
                    <a:pt x="1855" y="186"/>
                  </a:lnTo>
                  <a:lnTo>
                    <a:pt x="1776" y="225"/>
                  </a:lnTo>
                  <a:lnTo>
                    <a:pt x="1713" y="286"/>
                  </a:lnTo>
                  <a:lnTo>
                    <a:pt x="1683" y="361"/>
                  </a:lnTo>
                  <a:lnTo>
                    <a:pt x="1581" y="421"/>
                  </a:lnTo>
                  <a:lnTo>
                    <a:pt x="1434" y="451"/>
                  </a:lnTo>
                  <a:lnTo>
                    <a:pt x="1321" y="481"/>
                  </a:lnTo>
                  <a:lnTo>
                    <a:pt x="1247" y="571"/>
                  </a:lnTo>
                  <a:lnTo>
                    <a:pt x="1201" y="657"/>
                  </a:lnTo>
                  <a:lnTo>
                    <a:pt x="1183" y="717"/>
                  </a:lnTo>
                  <a:lnTo>
                    <a:pt x="1183" y="557"/>
                  </a:lnTo>
                  <a:lnTo>
                    <a:pt x="1207" y="475"/>
                  </a:lnTo>
                  <a:lnTo>
                    <a:pt x="1069" y="481"/>
                  </a:lnTo>
                  <a:lnTo>
                    <a:pt x="910" y="557"/>
                  </a:lnTo>
                  <a:lnTo>
                    <a:pt x="849" y="633"/>
                  </a:lnTo>
                  <a:lnTo>
                    <a:pt x="809" y="754"/>
                  </a:lnTo>
                  <a:lnTo>
                    <a:pt x="752" y="633"/>
                  </a:lnTo>
                  <a:lnTo>
                    <a:pt x="680" y="717"/>
                  </a:lnTo>
                  <a:lnTo>
                    <a:pt x="631" y="880"/>
                  </a:lnTo>
                  <a:lnTo>
                    <a:pt x="592" y="790"/>
                  </a:lnTo>
                  <a:lnTo>
                    <a:pt x="616" y="682"/>
                  </a:lnTo>
                  <a:lnTo>
                    <a:pt x="680" y="633"/>
                  </a:lnTo>
                  <a:lnTo>
                    <a:pt x="701" y="557"/>
                  </a:lnTo>
                  <a:lnTo>
                    <a:pt x="655" y="528"/>
                  </a:lnTo>
                  <a:lnTo>
                    <a:pt x="548" y="580"/>
                  </a:lnTo>
                  <a:lnTo>
                    <a:pt x="502" y="645"/>
                  </a:lnTo>
                  <a:lnTo>
                    <a:pt x="521" y="717"/>
                  </a:lnTo>
                  <a:lnTo>
                    <a:pt x="491" y="880"/>
                  </a:lnTo>
                  <a:lnTo>
                    <a:pt x="456" y="954"/>
                  </a:lnTo>
                  <a:lnTo>
                    <a:pt x="456" y="1025"/>
                  </a:lnTo>
                  <a:lnTo>
                    <a:pt x="456" y="1048"/>
                  </a:lnTo>
                  <a:lnTo>
                    <a:pt x="385" y="1000"/>
                  </a:lnTo>
                  <a:lnTo>
                    <a:pt x="387" y="1127"/>
                  </a:lnTo>
                  <a:lnTo>
                    <a:pt x="284" y="1048"/>
                  </a:lnTo>
                  <a:lnTo>
                    <a:pt x="284" y="1196"/>
                  </a:lnTo>
                  <a:lnTo>
                    <a:pt x="231" y="1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206560" y="3831480"/>
              <a:ext cx="16200" cy="18360"/>
            </a:xfrm>
            <a:custGeom>
              <a:avLst/>
              <a:gdLst/>
              <a:ahLst/>
              <a:rect l="l" t="t" r="r" b="b"/>
              <a:pathLst>
                <a:path w="217" h="276">
                  <a:moveTo>
                    <a:pt x="0" y="0"/>
                  </a:moveTo>
                  <a:lnTo>
                    <a:pt x="51" y="117"/>
                  </a:lnTo>
                  <a:lnTo>
                    <a:pt x="125" y="165"/>
                  </a:lnTo>
                  <a:lnTo>
                    <a:pt x="217" y="191"/>
                  </a:lnTo>
                  <a:lnTo>
                    <a:pt x="153" y="276"/>
                  </a:lnTo>
                  <a:lnTo>
                    <a:pt x="72" y="239"/>
                  </a:lnTo>
                  <a:lnTo>
                    <a:pt x="8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207280" y="3716280"/>
              <a:ext cx="235800" cy="127440"/>
            </a:xfrm>
            <a:custGeom>
              <a:avLst/>
              <a:gdLst/>
              <a:ahLst/>
              <a:rect l="l" t="t" r="r" b="b"/>
              <a:pathLst>
                <a:path w="3089" h="1908">
                  <a:moveTo>
                    <a:pt x="267" y="1860"/>
                  </a:moveTo>
                  <a:lnTo>
                    <a:pt x="145" y="1812"/>
                  </a:lnTo>
                  <a:lnTo>
                    <a:pt x="55" y="1722"/>
                  </a:lnTo>
                  <a:lnTo>
                    <a:pt x="16" y="1584"/>
                  </a:lnTo>
                  <a:lnTo>
                    <a:pt x="0" y="1492"/>
                  </a:lnTo>
                  <a:lnTo>
                    <a:pt x="27" y="1429"/>
                  </a:lnTo>
                  <a:lnTo>
                    <a:pt x="78" y="1374"/>
                  </a:lnTo>
                  <a:lnTo>
                    <a:pt x="64" y="1302"/>
                  </a:lnTo>
                  <a:lnTo>
                    <a:pt x="87" y="1155"/>
                  </a:lnTo>
                  <a:lnTo>
                    <a:pt x="152" y="1058"/>
                  </a:lnTo>
                  <a:lnTo>
                    <a:pt x="249" y="985"/>
                  </a:lnTo>
                  <a:lnTo>
                    <a:pt x="359" y="936"/>
                  </a:lnTo>
                  <a:lnTo>
                    <a:pt x="420" y="846"/>
                  </a:lnTo>
                  <a:lnTo>
                    <a:pt x="523" y="745"/>
                  </a:lnTo>
                  <a:lnTo>
                    <a:pt x="609" y="738"/>
                  </a:lnTo>
                  <a:lnTo>
                    <a:pt x="514" y="800"/>
                  </a:lnTo>
                  <a:lnTo>
                    <a:pt x="460" y="860"/>
                  </a:lnTo>
                  <a:lnTo>
                    <a:pt x="460" y="886"/>
                  </a:lnTo>
                  <a:lnTo>
                    <a:pt x="560" y="860"/>
                  </a:lnTo>
                  <a:lnTo>
                    <a:pt x="671" y="745"/>
                  </a:lnTo>
                  <a:lnTo>
                    <a:pt x="733" y="641"/>
                  </a:lnTo>
                  <a:lnTo>
                    <a:pt x="816" y="489"/>
                  </a:lnTo>
                  <a:lnTo>
                    <a:pt x="922" y="416"/>
                  </a:lnTo>
                  <a:lnTo>
                    <a:pt x="1040" y="339"/>
                  </a:lnTo>
                  <a:lnTo>
                    <a:pt x="1196" y="319"/>
                  </a:lnTo>
                  <a:lnTo>
                    <a:pt x="1326" y="302"/>
                  </a:lnTo>
                  <a:lnTo>
                    <a:pt x="1387" y="293"/>
                  </a:lnTo>
                  <a:lnTo>
                    <a:pt x="1453" y="183"/>
                  </a:lnTo>
                  <a:lnTo>
                    <a:pt x="1546" y="106"/>
                  </a:lnTo>
                  <a:lnTo>
                    <a:pt x="1724" y="42"/>
                  </a:lnTo>
                  <a:lnTo>
                    <a:pt x="1862" y="62"/>
                  </a:lnTo>
                  <a:lnTo>
                    <a:pt x="1945" y="81"/>
                  </a:lnTo>
                  <a:lnTo>
                    <a:pt x="2058" y="0"/>
                  </a:lnTo>
                  <a:lnTo>
                    <a:pt x="2344" y="0"/>
                  </a:lnTo>
                  <a:lnTo>
                    <a:pt x="2526" y="27"/>
                  </a:lnTo>
                  <a:lnTo>
                    <a:pt x="2655" y="67"/>
                  </a:lnTo>
                  <a:lnTo>
                    <a:pt x="2734" y="132"/>
                  </a:lnTo>
                  <a:lnTo>
                    <a:pt x="2873" y="132"/>
                  </a:lnTo>
                  <a:lnTo>
                    <a:pt x="3013" y="196"/>
                  </a:lnTo>
                  <a:lnTo>
                    <a:pt x="3089" y="293"/>
                  </a:lnTo>
                  <a:lnTo>
                    <a:pt x="3013" y="231"/>
                  </a:lnTo>
                  <a:lnTo>
                    <a:pt x="2895" y="173"/>
                  </a:lnTo>
                  <a:lnTo>
                    <a:pt x="2774" y="183"/>
                  </a:lnTo>
                  <a:lnTo>
                    <a:pt x="2577" y="132"/>
                  </a:lnTo>
                  <a:lnTo>
                    <a:pt x="2367" y="132"/>
                  </a:lnTo>
                  <a:lnTo>
                    <a:pt x="2190" y="173"/>
                  </a:lnTo>
                  <a:lnTo>
                    <a:pt x="2017" y="245"/>
                  </a:lnTo>
                  <a:lnTo>
                    <a:pt x="1922" y="319"/>
                  </a:lnTo>
                  <a:lnTo>
                    <a:pt x="1862" y="330"/>
                  </a:lnTo>
                  <a:lnTo>
                    <a:pt x="1890" y="157"/>
                  </a:lnTo>
                  <a:lnTo>
                    <a:pt x="1763" y="132"/>
                  </a:lnTo>
                  <a:lnTo>
                    <a:pt x="1653" y="207"/>
                  </a:lnTo>
                  <a:lnTo>
                    <a:pt x="1592" y="330"/>
                  </a:lnTo>
                  <a:lnTo>
                    <a:pt x="1339" y="339"/>
                  </a:lnTo>
                  <a:lnTo>
                    <a:pt x="1093" y="416"/>
                  </a:lnTo>
                  <a:lnTo>
                    <a:pt x="882" y="583"/>
                  </a:lnTo>
                  <a:lnTo>
                    <a:pt x="772" y="779"/>
                  </a:lnTo>
                  <a:lnTo>
                    <a:pt x="647" y="860"/>
                  </a:lnTo>
                  <a:lnTo>
                    <a:pt x="477" y="936"/>
                  </a:lnTo>
                  <a:lnTo>
                    <a:pt x="317" y="985"/>
                  </a:lnTo>
                  <a:lnTo>
                    <a:pt x="227" y="1082"/>
                  </a:lnTo>
                  <a:lnTo>
                    <a:pt x="209" y="1245"/>
                  </a:lnTo>
                  <a:lnTo>
                    <a:pt x="267" y="1390"/>
                  </a:lnTo>
                  <a:lnTo>
                    <a:pt x="359" y="1471"/>
                  </a:lnTo>
                  <a:lnTo>
                    <a:pt x="460" y="1535"/>
                  </a:lnTo>
                  <a:lnTo>
                    <a:pt x="278" y="1499"/>
                  </a:lnTo>
                  <a:lnTo>
                    <a:pt x="145" y="1429"/>
                  </a:lnTo>
                  <a:lnTo>
                    <a:pt x="124" y="1554"/>
                  </a:lnTo>
                  <a:lnTo>
                    <a:pt x="209" y="1676"/>
                  </a:lnTo>
                  <a:lnTo>
                    <a:pt x="359" y="1730"/>
                  </a:lnTo>
                  <a:lnTo>
                    <a:pt x="477" y="1730"/>
                  </a:lnTo>
                  <a:lnTo>
                    <a:pt x="647" y="1710"/>
                  </a:lnTo>
                  <a:lnTo>
                    <a:pt x="574" y="1835"/>
                  </a:lnTo>
                  <a:lnTo>
                    <a:pt x="449" y="1908"/>
                  </a:lnTo>
                  <a:lnTo>
                    <a:pt x="267" y="1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388720" y="3921840"/>
              <a:ext cx="23760" cy="65160"/>
            </a:xfrm>
            <a:custGeom>
              <a:avLst/>
              <a:gdLst/>
              <a:ahLst/>
              <a:rect l="l" t="t" r="r" b="b"/>
              <a:pathLst>
                <a:path w="309" h="976">
                  <a:moveTo>
                    <a:pt x="186" y="0"/>
                  </a:moveTo>
                  <a:lnTo>
                    <a:pt x="186" y="187"/>
                  </a:lnTo>
                  <a:lnTo>
                    <a:pt x="147" y="459"/>
                  </a:lnTo>
                  <a:lnTo>
                    <a:pt x="101" y="666"/>
                  </a:lnTo>
                  <a:lnTo>
                    <a:pt x="0" y="976"/>
                  </a:lnTo>
                  <a:lnTo>
                    <a:pt x="136" y="831"/>
                  </a:lnTo>
                  <a:lnTo>
                    <a:pt x="241" y="605"/>
                  </a:lnTo>
                  <a:lnTo>
                    <a:pt x="288" y="446"/>
                  </a:lnTo>
                  <a:lnTo>
                    <a:pt x="309" y="29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289000" y="4096800"/>
              <a:ext cx="341640" cy="338760"/>
            </a:xfrm>
            <a:custGeom>
              <a:avLst/>
              <a:gdLst/>
              <a:ahLst/>
              <a:rect l="l" t="t" r="r" b="b"/>
              <a:pathLst>
                <a:path w="4469" h="5071">
                  <a:moveTo>
                    <a:pt x="4469" y="1452"/>
                  </a:moveTo>
                  <a:lnTo>
                    <a:pt x="3878" y="1759"/>
                  </a:lnTo>
                  <a:lnTo>
                    <a:pt x="3544" y="2040"/>
                  </a:lnTo>
                  <a:lnTo>
                    <a:pt x="3228" y="2346"/>
                  </a:lnTo>
                  <a:lnTo>
                    <a:pt x="2956" y="2784"/>
                  </a:lnTo>
                  <a:lnTo>
                    <a:pt x="2733" y="3276"/>
                  </a:lnTo>
                  <a:lnTo>
                    <a:pt x="2578" y="3865"/>
                  </a:lnTo>
                  <a:lnTo>
                    <a:pt x="2483" y="4482"/>
                  </a:lnTo>
                  <a:lnTo>
                    <a:pt x="2421" y="5071"/>
                  </a:lnTo>
                  <a:lnTo>
                    <a:pt x="0" y="5071"/>
                  </a:lnTo>
                  <a:lnTo>
                    <a:pt x="282" y="4821"/>
                  </a:lnTo>
                  <a:lnTo>
                    <a:pt x="499" y="4544"/>
                  </a:lnTo>
                  <a:lnTo>
                    <a:pt x="657" y="4297"/>
                  </a:lnTo>
                  <a:lnTo>
                    <a:pt x="900" y="4080"/>
                  </a:lnTo>
                  <a:lnTo>
                    <a:pt x="1182" y="3924"/>
                  </a:lnTo>
                  <a:lnTo>
                    <a:pt x="1525" y="3087"/>
                  </a:lnTo>
                  <a:lnTo>
                    <a:pt x="1089" y="3243"/>
                  </a:lnTo>
                  <a:lnTo>
                    <a:pt x="99" y="3801"/>
                  </a:lnTo>
                  <a:lnTo>
                    <a:pt x="900" y="3214"/>
                  </a:lnTo>
                  <a:lnTo>
                    <a:pt x="1525" y="2784"/>
                  </a:lnTo>
                  <a:lnTo>
                    <a:pt x="1835" y="2443"/>
                  </a:lnTo>
                  <a:lnTo>
                    <a:pt x="2055" y="2100"/>
                  </a:lnTo>
                  <a:lnTo>
                    <a:pt x="2209" y="1698"/>
                  </a:lnTo>
                  <a:lnTo>
                    <a:pt x="2306" y="1362"/>
                  </a:lnTo>
                  <a:lnTo>
                    <a:pt x="2145" y="894"/>
                  </a:lnTo>
                  <a:lnTo>
                    <a:pt x="1771" y="307"/>
                  </a:lnTo>
                  <a:lnTo>
                    <a:pt x="1459" y="0"/>
                  </a:lnTo>
                  <a:lnTo>
                    <a:pt x="1894" y="341"/>
                  </a:lnTo>
                  <a:lnTo>
                    <a:pt x="2306" y="894"/>
                  </a:lnTo>
                  <a:lnTo>
                    <a:pt x="2456" y="1298"/>
                  </a:lnTo>
                  <a:lnTo>
                    <a:pt x="2610" y="1698"/>
                  </a:lnTo>
                  <a:lnTo>
                    <a:pt x="2707" y="2135"/>
                  </a:lnTo>
                  <a:lnTo>
                    <a:pt x="3076" y="1913"/>
                  </a:lnTo>
                  <a:lnTo>
                    <a:pt x="2578" y="2346"/>
                  </a:lnTo>
                  <a:lnTo>
                    <a:pt x="2209" y="2784"/>
                  </a:lnTo>
                  <a:lnTo>
                    <a:pt x="2020" y="3119"/>
                  </a:lnTo>
                  <a:lnTo>
                    <a:pt x="1894" y="3463"/>
                  </a:lnTo>
                  <a:lnTo>
                    <a:pt x="1802" y="3801"/>
                  </a:lnTo>
                  <a:lnTo>
                    <a:pt x="1617" y="4177"/>
                  </a:lnTo>
                  <a:lnTo>
                    <a:pt x="1459" y="4423"/>
                  </a:lnTo>
                  <a:lnTo>
                    <a:pt x="1432" y="4669"/>
                  </a:lnTo>
                  <a:lnTo>
                    <a:pt x="1432" y="4857"/>
                  </a:lnTo>
                  <a:lnTo>
                    <a:pt x="1556" y="4509"/>
                  </a:lnTo>
                  <a:lnTo>
                    <a:pt x="1736" y="4177"/>
                  </a:lnTo>
                  <a:lnTo>
                    <a:pt x="1958" y="3865"/>
                  </a:lnTo>
                  <a:lnTo>
                    <a:pt x="2055" y="3619"/>
                  </a:lnTo>
                  <a:lnTo>
                    <a:pt x="2270" y="3340"/>
                  </a:lnTo>
                  <a:lnTo>
                    <a:pt x="2639" y="3054"/>
                  </a:lnTo>
                  <a:lnTo>
                    <a:pt x="2920" y="2658"/>
                  </a:lnTo>
                  <a:lnTo>
                    <a:pt x="3228" y="2226"/>
                  </a:lnTo>
                  <a:lnTo>
                    <a:pt x="3602" y="1883"/>
                  </a:lnTo>
                  <a:lnTo>
                    <a:pt x="3943" y="1637"/>
                  </a:lnTo>
                  <a:lnTo>
                    <a:pt x="4469" y="1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265960" y="4168800"/>
              <a:ext cx="134280" cy="142560"/>
            </a:xfrm>
            <a:custGeom>
              <a:avLst/>
              <a:gdLst/>
              <a:ahLst/>
              <a:rect l="l" t="t" r="r" b="b"/>
              <a:pathLst>
                <a:path w="1765" h="2135">
                  <a:moveTo>
                    <a:pt x="1710" y="0"/>
                  </a:moveTo>
                  <a:lnTo>
                    <a:pt x="1765" y="61"/>
                  </a:lnTo>
                  <a:lnTo>
                    <a:pt x="1425" y="744"/>
                  </a:lnTo>
                  <a:lnTo>
                    <a:pt x="994" y="1147"/>
                  </a:lnTo>
                  <a:lnTo>
                    <a:pt x="743" y="1579"/>
                  </a:lnTo>
                  <a:lnTo>
                    <a:pt x="0" y="2135"/>
                  </a:lnTo>
                  <a:lnTo>
                    <a:pt x="306" y="1482"/>
                  </a:lnTo>
                  <a:lnTo>
                    <a:pt x="1020" y="645"/>
                  </a:lnTo>
                  <a:lnTo>
                    <a:pt x="1579" y="248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526240" y="3989160"/>
              <a:ext cx="109080" cy="162720"/>
            </a:xfrm>
            <a:custGeom>
              <a:avLst/>
              <a:gdLst/>
              <a:ahLst/>
              <a:rect l="l" t="t" r="r" b="b"/>
              <a:pathLst>
                <a:path w="1430" h="2441">
                  <a:moveTo>
                    <a:pt x="0" y="0"/>
                  </a:moveTo>
                  <a:lnTo>
                    <a:pt x="374" y="373"/>
                  </a:lnTo>
                  <a:lnTo>
                    <a:pt x="745" y="929"/>
                  </a:lnTo>
                  <a:lnTo>
                    <a:pt x="1430" y="2441"/>
                  </a:lnTo>
                  <a:lnTo>
                    <a:pt x="718" y="961"/>
                  </a:lnTo>
                  <a:lnTo>
                    <a:pt x="347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223120" y="4018680"/>
              <a:ext cx="174600" cy="322560"/>
            </a:xfrm>
            <a:custGeom>
              <a:avLst/>
              <a:gdLst/>
              <a:ahLst/>
              <a:rect l="l" t="t" r="r" b="b"/>
              <a:pathLst>
                <a:path w="2285" h="4830">
                  <a:moveTo>
                    <a:pt x="2285" y="0"/>
                  </a:moveTo>
                  <a:lnTo>
                    <a:pt x="1736" y="296"/>
                  </a:lnTo>
                  <a:lnTo>
                    <a:pt x="1471" y="507"/>
                  </a:lnTo>
                  <a:lnTo>
                    <a:pt x="1198" y="646"/>
                  </a:lnTo>
                  <a:lnTo>
                    <a:pt x="862" y="1140"/>
                  </a:lnTo>
                  <a:lnTo>
                    <a:pt x="688" y="1755"/>
                  </a:lnTo>
                  <a:lnTo>
                    <a:pt x="620" y="2283"/>
                  </a:lnTo>
                  <a:lnTo>
                    <a:pt x="559" y="2690"/>
                  </a:lnTo>
                  <a:lnTo>
                    <a:pt x="446" y="3017"/>
                  </a:lnTo>
                  <a:lnTo>
                    <a:pt x="365" y="3412"/>
                  </a:lnTo>
                  <a:lnTo>
                    <a:pt x="286" y="3753"/>
                  </a:lnTo>
                  <a:lnTo>
                    <a:pt x="270" y="4021"/>
                  </a:lnTo>
                  <a:lnTo>
                    <a:pt x="224" y="4254"/>
                  </a:lnTo>
                  <a:lnTo>
                    <a:pt x="207" y="4383"/>
                  </a:lnTo>
                  <a:lnTo>
                    <a:pt x="132" y="4577"/>
                  </a:lnTo>
                  <a:lnTo>
                    <a:pt x="0" y="4830"/>
                  </a:lnTo>
                  <a:lnTo>
                    <a:pt x="240" y="4421"/>
                  </a:lnTo>
                  <a:lnTo>
                    <a:pt x="381" y="4104"/>
                  </a:lnTo>
                  <a:lnTo>
                    <a:pt x="574" y="3689"/>
                  </a:lnTo>
                  <a:lnTo>
                    <a:pt x="688" y="3368"/>
                  </a:lnTo>
                  <a:lnTo>
                    <a:pt x="780" y="2986"/>
                  </a:lnTo>
                  <a:lnTo>
                    <a:pt x="826" y="2430"/>
                  </a:lnTo>
                  <a:lnTo>
                    <a:pt x="766" y="3006"/>
                  </a:lnTo>
                  <a:lnTo>
                    <a:pt x="574" y="3592"/>
                  </a:lnTo>
                  <a:lnTo>
                    <a:pt x="305" y="4083"/>
                  </a:lnTo>
                  <a:lnTo>
                    <a:pt x="365" y="3592"/>
                  </a:lnTo>
                  <a:lnTo>
                    <a:pt x="497" y="3006"/>
                  </a:lnTo>
                  <a:lnTo>
                    <a:pt x="607" y="2718"/>
                  </a:lnTo>
                  <a:lnTo>
                    <a:pt x="730" y="1920"/>
                  </a:lnTo>
                  <a:lnTo>
                    <a:pt x="862" y="1377"/>
                  </a:lnTo>
                  <a:lnTo>
                    <a:pt x="1022" y="973"/>
                  </a:lnTo>
                  <a:lnTo>
                    <a:pt x="1229" y="692"/>
                  </a:lnTo>
                  <a:lnTo>
                    <a:pt x="1532" y="523"/>
                  </a:lnTo>
                  <a:lnTo>
                    <a:pt x="1833" y="268"/>
                  </a:lnTo>
                  <a:lnTo>
                    <a:pt x="22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7979040" y="4241880"/>
              <a:ext cx="279000" cy="194760"/>
            </a:xfrm>
            <a:custGeom>
              <a:avLst/>
              <a:gdLst/>
              <a:ahLst/>
              <a:rect l="l" t="t" r="r" b="b"/>
              <a:pathLst>
                <a:path w="3654" h="2924">
                  <a:moveTo>
                    <a:pt x="3236" y="1418"/>
                  </a:moveTo>
                  <a:lnTo>
                    <a:pt x="3179" y="1729"/>
                  </a:lnTo>
                  <a:lnTo>
                    <a:pt x="3291" y="2195"/>
                  </a:lnTo>
                  <a:lnTo>
                    <a:pt x="3543" y="2562"/>
                  </a:lnTo>
                  <a:lnTo>
                    <a:pt x="3654" y="2845"/>
                  </a:lnTo>
                  <a:lnTo>
                    <a:pt x="3432" y="2654"/>
                  </a:lnTo>
                  <a:lnTo>
                    <a:pt x="3261" y="2237"/>
                  </a:lnTo>
                  <a:lnTo>
                    <a:pt x="3192" y="1925"/>
                  </a:lnTo>
                  <a:lnTo>
                    <a:pt x="2796" y="2272"/>
                  </a:lnTo>
                  <a:lnTo>
                    <a:pt x="2796" y="2592"/>
                  </a:lnTo>
                  <a:lnTo>
                    <a:pt x="3015" y="2924"/>
                  </a:lnTo>
                  <a:lnTo>
                    <a:pt x="2777" y="2668"/>
                  </a:lnTo>
                  <a:lnTo>
                    <a:pt x="2715" y="2527"/>
                  </a:lnTo>
                  <a:lnTo>
                    <a:pt x="2683" y="2356"/>
                  </a:lnTo>
                  <a:lnTo>
                    <a:pt x="2683" y="2237"/>
                  </a:lnTo>
                  <a:lnTo>
                    <a:pt x="2733" y="2114"/>
                  </a:lnTo>
                  <a:lnTo>
                    <a:pt x="2937" y="1815"/>
                  </a:lnTo>
                  <a:lnTo>
                    <a:pt x="2983" y="1775"/>
                  </a:lnTo>
                  <a:lnTo>
                    <a:pt x="3131" y="1753"/>
                  </a:lnTo>
                  <a:lnTo>
                    <a:pt x="3131" y="1683"/>
                  </a:lnTo>
                  <a:lnTo>
                    <a:pt x="2904" y="1608"/>
                  </a:lnTo>
                  <a:lnTo>
                    <a:pt x="2808" y="1619"/>
                  </a:lnTo>
                  <a:lnTo>
                    <a:pt x="2427" y="2068"/>
                  </a:lnTo>
                  <a:lnTo>
                    <a:pt x="2505" y="1826"/>
                  </a:lnTo>
                  <a:lnTo>
                    <a:pt x="2268" y="1826"/>
                  </a:lnTo>
                  <a:lnTo>
                    <a:pt x="1579" y="2045"/>
                  </a:lnTo>
                  <a:lnTo>
                    <a:pt x="1401" y="2356"/>
                  </a:lnTo>
                  <a:lnTo>
                    <a:pt x="1309" y="2578"/>
                  </a:lnTo>
                  <a:lnTo>
                    <a:pt x="1296" y="2832"/>
                  </a:lnTo>
                  <a:lnTo>
                    <a:pt x="1265" y="2608"/>
                  </a:lnTo>
                  <a:lnTo>
                    <a:pt x="1276" y="2452"/>
                  </a:lnTo>
                  <a:lnTo>
                    <a:pt x="1447" y="2015"/>
                  </a:lnTo>
                  <a:lnTo>
                    <a:pt x="1039" y="1889"/>
                  </a:lnTo>
                  <a:lnTo>
                    <a:pt x="797" y="1859"/>
                  </a:lnTo>
                  <a:lnTo>
                    <a:pt x="493" y="1909"/>
                  </a:lnTo>
                  <a:lnTo>
                    <a:pt x="219" y="1925"/>
                  </a:lnTo>
                  <a:lnTo>
                    <a:pt x="0" y="1874"/>
                  </a:lnTo>
                  <a:lnTo>
                    <a:pt x="255" y="1889"/>
                  </a:lnTo>
                  <a:lnTo>
                    <a:pt x="529" y="1859"/>
                  </a:lnTo>
                  <a:lnTo>
                    <a:pt x="828" y="1799"/>
                  </a:lnTo>
                  <a:lnTo>
                    <a:pt x="973" y="1775"/>
                  </a:lnTo>
                  <a:lnTo>
                    <a:pt x="1199" y="1826"/>
                  </a:lnTo>
                  <a:lnTo>
                    <a:pt x="1436" y="1826"/>
                  </a:lnTo>
                  <a:lnTo>
                    <a:pt x="1639" y="1753"/>
                  </a:lnTo>
                  <a:lnTo>
                    <a:pt x="1821" y="1619"/>
                  </a:lnTo>
                  <a:lnTo>
                    <a:pt x="1982" y="1481"/>
                  </a:lnTo>
                  <a:lnTo>
                    <a:pt x="2091" y="1367"/>
                  </a:lnTo>
                  <a:lnTo>
                    <a:pt x="2224" y="1176"/>
                  </a:lnTo>
                  <a:lnTo>
                    <a:pt x="2224" y="1257"/>
                  </a:lnTo>
                  <a:lnTo>
                    <a:pt x="2634" y="1107"/>
                  </a:lnTo>
                  <a:lnTo>
                    <a:pt x="2591" y="955"/>
                  </a:lnTo>
                  <a:lnTo>
                    <a:pt x="2476" y="777"/>
                  </a:lnTo>
                  <a:lnTo>
                    <a:pt x="2314" y="648"/>
                  </a:lnTo>
                  <a:lnTo>
                    <a:pt x="2188" y="648"/>
                  </a:lnTo>
                  <a:lnTo>
                    <a:pt x="2268" y="527"/>
                  </a:lnTo>
                  <a:lnTo>
                    <a:pt x="2556" y="393"/>
                  </a:lnTo>
                  <a:lnTo>
                    <a:pt x="2746" y="316"/>
                  </a:lnTo>
                  <a:lnTo>
                    <a:pt x="2983" y="141"/>
                  </a:lnTo>
                  <a:lnTo>
                    <a:pt x="3131" y="30"/>
                  </a:lnTo>
                  <a:lnTo>
                    <a:pt x="3592" y="0"/>
                  </a:lnTo>
                  <a:lnTo>
                    <a:pt x="3573" y="30"/>
                  </a:lnTo>
                  <a:lnTo>
                    <a:pt x="3140" y="74"/>
                  </a:lnTo>
                  <a:lnTo>
                    <a:pt x="2886" y="316"/>
                  </a:lnTo>
                  <a:lnTo>
                    <a:pt x="2591" y="461"/>
                  </a:lnTo>
                  <a:lnTo>
                    <a:pt x="2492" y="478"/>
                  </a:lnTo>
                  <a:lnTo>
                    <a:pt x="2314" y="558"/>
                  </a:lnTo>
                  <a:lnTo>
                    <a:pt x="2476" y="635"/>
                  </a:lnTo>
                  <a:lnTo>
                    <a:pt x="2634" y="777"/>
                  </a:lnTo>
                  <a:lnTo>
                    <a:pt x="2733" y="916"/>
                  </a:lnTo>
                  <a:lnTo>
                    <a:pt x="2796" y="1107"/>
                  </a:lnTo>
                  <a:lnTo>
                    <a:pt x="2832" y="1386"/>
                  </a:lnTo>
                  <a:lnTo>
                    <a:pt x="3370" y="1176"/>
                  </a:lnTo>
                  <a:lnTo>
                    <a:pt x="3236" y="1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7699680" y="3811680"/>
              <a:ext cx="46800" cy="76680"/>
            </a:xfrm>
            <a:custGeom>
              <a:avLst/>
              <a:gdLst/>
              <a:ahLst/>
              <a:rect l="l" t="t" r="r" b="b"/>
              <a:pathLst>
                <a:path w="620" h="1156">
                  <a:moveTo>
                    <a:pt x="519" y="950"/>
                  </a:moveTo>
                  <a:lnTo>
                    <a:pt x="620" y="971"/>
                  </a:lnTo>
                  <a:lnTo>
                    <a:pt x="620" y="1059"/>
                  </a:lnTo>
                  <a:lnTo>
                    <a:pt x="547" y="1088"/>
                  </a:lnTo>
                  <a:lnTo>
                    <a:pt x="341" y="1098"/>
                  </a:lnTo>
                  <a:lnTo>
                    <a:pt x="242" y="1059"/>
                  </a:lnTo>
                  <a:lnTo>
                    <a:pt x="169" y="1075"/>
                  </a:lnTo>
                  <a:lnTo>
                    <a:pt x="0" y="1156"/>
                  </a:lnTo>
                  <a:lnTo>
                    <a:pt x="116" y="1015"/>
                  </a:lnTo>
                  <a:lnTo>
                    <a:pt x="305" y="909"/>
                  </a:lnTo>
                  <a:lnTo>
                    <a:pt x="429" y="978"/>
                  </a:lnTo>
                  <a:lnTo>
                    <a:pt x="464" y="964"/>
                  </a:lnTo>
                  <a:lnTo>
                    <a:pt x="452" y="782"/>
                  </a:lnTo>
                  <a:lnTo>
                    <a:pt x="429" y="540"/>
                  </a:lnTo>
                  <a:lnTo>
                    <a:pt x="393" y="293"/>
                  </a:lnTo>
                  <a:lnTo>
                    <a:pt x="305" y="24"/>
                  </a:lnTo>
                  <a:lnTo>
                    <a:pt x="351" y="0"/>
                  </a:lnTo>
                  <a:lnTo>
                    <a:pt x="413" y="202"/>
                  </a:lnTo>
                  <a:lnTo>
                    <a:pt x="464" y="540"/>
                  </a:lnTo>
                  <a:lnTo>
                    <a:pt x="489" y="941"/>
                  </a:lnTo>
                  <a:lnTo>
                    <a:pt x="519" y="9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7707240" y="3884400"/>
              <a:ext cx="23040" cy="34920"/>
            </a:xfrm>
            <a:custGeom>
              <a:avLst/>
              <a:gdLst/>
              <a:ahLst/>
              <a:rect l="l" t="t" r="r" b="b"/>
              <a:pathLst>
                <a:path w="298" h="529">
                  <a:moveTo>
                    <a:pt x="298" y="0"/>
                  </a:moveTo>
                  <a:lnTo>
                    <a:pt x="263" y="99"/>
                  </a:lnTo>
                  <a:lnTo>
                    <a:pt x="37" y="169"/>
                  </a:lnTo>
                  <a:lnTo>
                    <a:pt x="77" y="266"/>
                  </a:lnTo>
                  <a:lnTo>
                    <a:pt x="167" y="344"/>
                  </a:lnTo>
                  <a:lnTo>
                    <a:pt x="0" y="494"/>
                  </a:lnTo>
                  <a:lnTo>
                    <a:pt x="7" y="529"/>
                  </a:lnTo>
                  <a:lnTo>
                    <a:pt x="107" y="501"/>
                  </a:lnTo>
                  <a:lnTo>
                    <a:pt x="206" y="400"/>
                  </a:lnTo>
                  <a:lnTo>
                    <a:pt x="206" y="330"/>
                  </a:lnTo>
                  <a:lnTo>
                    <a:pt x="99" y="213"/>
                  </a:lnTo>
                  <a:lnTo>
                    <a:pt x="198" y="160"/>
                  </a:lnTo>
                  <a:lnTo>
                    <a:pt x="173" y="213"/>
                  </a:lnTo>
                  <a:lnTo>
                    <a:pt x="263" y="160"/>
                  </a:lnTo>
                  <a:lnTo>
                    <a:pt x="294" y="83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7699320" y="3885120"/>
              <a:ext cx="54720" cy="77760"/>
            </a:xfrm>
            <a:custGeom>
              <a:avLst/>
              <a:gdLst/>
              <a:ahLst/>
              <a:rect l="l" t="t" r="r" b="b"/>
              <a:pathLst>
                <a:path w="721" h="1164">
                  <a:moveTo>
                    <a:pt x="433" y="0"/>
                  </a:moveTo>
                  <a:lnTo>
                    <a:pt x="440" y="73"/>
                  </a:lnTo>
                  <a:lnTo>
                    <a:pt x="721" y="779"/>
                  </a:lnTo>
                  <a:lnTo>
                    <a:pt x="679" y="846"/>
                  </a:lnTo>
                  <a:lnTo>
                    <a:pt x="599" y="878"/>
                  </a:lnTo>
                  <a:lnTo>
                    <a:pt x="373" y="864"/>
                  </a:lnTo>
                  <a:lnTo>
                    <a:pt x="295" y="899"/>
                  </a:lnTo>
                  <a:lnTo>
                    <a:pt x="242" y="1095"/>
                  </a:lnTo>
                  <a:lnTo>
                    <a:pt x="0" y="1164"/>
                  </a:lnTo>
                  <a:lnTo>
                    <a:pt x="11" y="1084"/>
                  </a:lnTo>
                  <a:lnTo>
                    <a:pt x="76" y="1095"/>
                  </a:lnTo>
                  <a:lnTo>
                    <a:pt x="217" y="1065"/>
                  </a:lnTo>
                  <a:lnTo>
                    <a:pt x="265" y="882"/>
                  </a:lnTo>
                  <a:lnTo>
                    <a:pt x="202" y="832"/>
                  </a:lnTo>
                  <a:lnTo>
                    <a:pt x="217" y="814"/>
                  </a:lnTo>
                  <a:lnTo>
                    <a:pt x="362" y="779"/>
                  </a:lnTo>
                  <a:lnTo>
                    <a:pt x="518" y="814"/>
                  </a:lnTo>
                  <a:lnTo>
                    <a:pt x="606" y="802"/>
                  </a:lnTo>
                  <a:lnTo>
                    <a:pt x="679" y="756"/>
                  </a:lnTo>
                  <a:lnTo>
                    <a:pt x="449" y="194"/>
                  </a:lnTo>
                  <a:lnTo>
                    <a:pt x="373" y="97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7692480" y="3924000"/>
              <a:ext cx="25560" cy="52200"/>
            </a:xfrm>
            <a:custGeom>
              <a:avLst/>
              <a:gdLst/>
              <a:ahLst/>
              <a:rect l="l" t="t" r="r" b="b"/>
              <a:pathLst>
                <a:path w="339" h="788">
                  <a:moveTo>
                    <a:pt x="339" y="0"/>
                  </a:moveTo>
                  <a:lnTo>
                    <a:pt x="319" y="120"/>
                  </a:lnTo>
                  <a:lnTo>
                    <a:pt x="288" y="209"/>
                  </a:lnTo>
                  <a:lnTo>
                    <a:pt x="233" y="283"/>
                  </a:lnTo>
                  <a:lnTo>
                    <a:pt x="152" y="382"/>
                  </a:lnTo>
                  <a:lnTo>
                    <a:pt x="97" y="428"/>
                  </a:lnTo>
                  <a:lnTo>
                    <a:pt x="72" y="391"/>
                  </a:lnTo>
                  <a:lnTo>
                    <a:pt x="42" y="583"/>
                  </a:lnTo>
                  <a:lnTo>
                    <a:pt x="0" y="788"/>
                  </a:lnTo>
                  <a:lnTo>
                    <a:pt x="97" y="599"/>
                  </a:lnTo>
                  <a:lnTo>
                    <a:pt x="127" y="463"/>
                  </a:lnTo>
                  <a:lnTo>
                    <a:pt x="266" y="329"/>
                  </a:lnTo>
                  <a:lnTo>
                    <a:pt x="319" y="221"/>
                  </a:lnTo>
                  <a:lnTo>
                    <a:pt x="339" y="101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697880" y="3960360"/>
              <a:ext cx="16200" cy="9000"/>
            </a:xfrm>
            <a:custGeom>
              <a:avLst/>
              <a:gdLst/>
              <a:ahLst/>
              <a:rect l="l" t="t" r="r" b="b"/>
              <a:pathLst>
                <a:path w="216" h="137">
                  <a:moveTo>
                    <a:pt x="49" y="0"/>
                  </a:moveTo>
                  <a:lnTo>
                    <a:pt x="216" y="117"/>
                  </a:lnTo>
                  <a:lnTo>
                    <a:pt x="216" y="137"/>
                  </a:lnTo>
                  <a:lnTo>
                    <a:pt x="0" y="61"/>
                  </a:lnTo>
                  <a:lnTo>
                    <a:pt x="0" y="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702920" y="3978000"/>
              <a:ext cx="11880" cy="9000"/>
            </a:xfrm>
            <a:custGeom>
              <a:avLst/>
              <a:gdLst/>
              <a:ahLst/>
              <a:rect l="l" t="t" r="r" b="b"/>
              <a:pathLst>
                <a:path w="159" h="136">
                  <a:moveTo>
                    <a:pt x="152" y="0"/>
                  </a:moveTo>
                  <a:lnTo>
                    <a:pt x="0" y="31"/>
                  </a:lnTo>
                  <a:lnTo>
                    <a:pt x="0" y="97"/>
                  </a:lnTo>
                  <a:lnTo>
                    <a:pt x="67" y="136"/>
                  </a:lnTo>
                  <a:lnTo>
                    <a:pt x="159" y="31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457760" y="3899880"/>
              <a:ext cx="249120" cy="125640"/>
            </a:xfrm>
            <a:custGeom>
              <a:avLst/>
              <a:gdLst/>
              <a:ahLst/>
              <a:rect l="l" t="t" r="r" b="b"/>
              <a:pathLst>
                <a:path w="3264" h="1881">
                  <a:moveTo>
                    <a:pt x="3264" y="1419"/>
                  </a:moveTo>
                  <a:lnTo>
                    <a:pt x="3264" y="1489"/>
                  </a:lnTo>
                  <a:lnTo>
                    <a:pt x="3204" y="1586"/>
                  </a:lnTo>
                  <a:lnTo>
                    <a:pt x="3082" y="1626"/>
                  </a:lnTo>
                  <a:lnTo>
                    <a:pt x="2943" y="1617"/>
                  </a:lnTo>
                  <a:lnTo>
                    <a:pt x="2679" y="1593"/>
                  </a:lnTo>
                  <a:lnTo>
                    <a:pt x="2515" y="1617"/>
                  </a:lnTo>
                  <a:lnTo>
                    <a:pt x="2400" y="1687"/>
                  </a:lnTo>
                  <a:lnTo>
                    <a:pt x="2646" y="1881"/>
                  </a:lnTo>
                  <a:lnTo>
                    <a:pt x="2086" y="1531"/>
                  </a:lnTo>
                  <a:lnTo>
                    <a:pt x="1563" y="1226"/>
                  </a:lnTo>
                  <a:lnTo>
                    <a:pt x="1058" y="920"/>
                  </a:lnTo>
                  <a:lnTo>
                    <a:pt x="602" y="775"/>
                  </a:lnTo>
                  <a:lnTo>
                    <a:pt x="390" y="718"/>
                  </a:lnTo>
                  <a:lnTo>
                    <a:pt x="752" y="800"/>
                  </a:lnTo>
                  <a:lnTo>
                    <a:pt x="1183" y="920"/>
                  </a:lnTo>
                  <a:lnTo>
                    <a:pt x="1533" y="1139"/>
                  </a:lnTo>
                  <a:lnTo>
                    <a:pt x="1381" y="839"/>
                  </a:lnTo>
                  <a:lnTo>
                    <a:pt x="1067" y="593"/>
                  </a:lnTo>
                  <a:lnTo>
                    <a:pt x="655" y="410"/>
                  </a:lnTo>
                  <a:lnTo>
                    <a:pt x="231" y="316"/>
                  </a:lnTo>
                  <a:lnTo>
                    <a:pt x="0" y="551"/>
                  </a:lnTo>
                  <a:lnTo>
                    <a:pt x="196" y="270"/>
                  </a:lnTo>
                  <a:lnTo>
                    <a:pt x="602" y="351"/>
                  </a:lnTo>
                  <a:lnTo>
                    <a:pt x="1026" y="496"/>
                  </a:lnTo>
                  <a:lnTo>
                    <a:pt x="1446" y="751"/>
                  </a:lnTo>
                  <a:lnTo>
                    <a:pt x="1734" y="1012"/>
                  </a:lnTo>
                  <a:lnTo>
                    <a:pt x="1957" y="1270"/>
                  </a:lnTo>
                  <a:lnTo>
                    <a:pt x="1673" y="775"/>
                  </a:lnTo>
                  <a:lnTo>
                    <a:pt x="1914" y="1067"/>
                  </a:lnTo>
                  <a:lnTo>
                    <a:pt x="1914" y="839"/>
                  </a:lnTo>
                  <a:lnTo>
                    <a:pt x="1807" y="661"/>
                  </a:lnTo>
                  <a:lnTo>
                    <a:pt x="1807" y="551"/>
                  </a:lnTo>
                  <a:lnTo>
                    <a:pt x="1673" y="399"/>
                  </a:lnTo>
                  <a:lnTo>
                    <a:pt x="1600" y="242"/>
                  </a:lnTo>
                  <a:lnTo>
                    <a:pt x="1543" y="53"/>
                  </a:lnTo>
                  <a:lnTo>
                    <a:pt x="1591" y="0"/>
                  </a:lnTo>
                  <a:lnTo>
                    <a:pt x="1607" y="138"/>
                  </a:lnTo>
                  <a:lnTo>
                    <a:pt x="1683" y="316"/>
                  </a:lnTo>
                  <a:lnTo>
                    <a:pt x="1778" y="424"/>
                  </a:lnTo>
                  <a:lnTo>
                    <a:pt x="1866" y="535"/>
                  </a:lnTo>
                  <a:lnTo>
                    <a:pt x="1914" y="558"/>
                  </a:lnTo>
                  <a:lnTo>
                    <a:pt x="1987" y="551"/>
                  </a:lnTo>
                  <a:lnTo>
                    <a:pt x="2066" y="480"/>
                  </a:lnTo>
                  <a:lnTo>
                    <a:pt x="2086" y="602"/>
                  </a:lnTo>
                  <a:lnTo>
                    <a:pt x="2061" y="718"/>
                  </a:lnTo>
                  <a:lnTo>
                    <a:pt x="2013" y="782"/>
                  </a:lnTo>
                  <a:lnTo>
                    <a:pt x="1965" y="800"/>
                  </a:lnTo>
                  <a:lnTo>
                    <a:pt x="2031" y="984"/>
                  </a:lnTo>
                  <a:lnTo>
                    <a:pt x="2086" y="1160"/>
                  </a:lnTo>
                  <a:lnTo>
                    <a:pt x="2255" y="1067"/>
                  </a:lnTo>
                  <a:lnTo>
                    <a:pt x="2156" y="839"/>
                  </a:lnTo>
                  <a:lnTo>
                    <a:pt x="2280" y="1035"/>
                  </a:lnTo>
                  <a:lnTo>
                    <a:pt x="2365" y="1052"/>
                  </a:lnTo>
                  <a:lnTo>
                    <a:pt x="2495" y="1052"/>
                  </a:lnTo>
                  <a:lnTo>
                    <a:pt x="2635" y="1234"/>
                  </a:lnTo>
                  <a:lnTo>
                    <a:pt x="2741" y="1300"/>
                  </a:lnTo>
                  <a:lnTo>
                    <a:pt x="2852" y="1277"/>
                  </a:lnTo>
                  <a:lnTo>
                    <a:pt x="3068" y="1173"/>
                  </a:lnTo>
                  <a:lnTo>
                    <a:pt x="3082" y="1347"/>
                  </a:lnTo>
                  <a:lnTo>
                    <a:pt x="3140" y="1507"/>
                  </a:lnTo>
                  <a:lnTo>
                    <a:pt x="3204" y="1507"/>
                  </a:lnTo>
                  <a:lnTo>
                    <a:pt x="3248" y="1467"/>
                  </a:lnTo>
                  <a:lnTo>
                    <a:pt x="3264" y="1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483320" y="3744000"/>
              <a:ext cx="261000" cy="176040"/>
            </a:xfrm>
            <a:custGeom>
              <a:avLst/>
              <a:gdLst/>
              <a:ahLst/>
              <a:rect l="l" t="t" r="r" b="b"/>
              <a:pathLst>
                <a:path w="3415" h="2637">
                  <a:moveTo>
                    <a:pt x="3195" y="1078"/>
                  </a:moveTo>
                  <a:lnTo>
                    <a:pt x="3340" y="1037"/>
                  </a:lnTo>
                  <a:lnTo>
                    <a:pt x="3415" y="882"/>
                  </a:lnTo>
                  <a:lnTo>
                    <a:pt x="3380" y="721"/>
                  </a:lnTo>
                  <a:lnTo>
                    <a:pt x="3198" y="547"/>
                  </a:lnTo>
                  <a:lnTo>
                    <a:pt x="3009" y="477"/>
                  </a:lnTo>
                  <a:lnTo>
                    <a:pt x="2778" y="299"/>
                  </a:lnTo>
                  <a:lnTo>
                    <a:pt x="2418" y="119"/>
                  </a:lnTo>
                  <a:lnTo>
                    <a:pt x="1996" y="0"/>
                  </a:lnTo>
                  <a:lnTo>
                    <a:pt x="1457" y="46"/>
                  </a:lnTo>
                  <a:lnTo>
                    <a:pt x="1033" y="167"/>
                  </a:lnTo>
                  <a:lnTo>
                    <a:pt x="798" y="279"/>
                  </a:lnTo>
                  <a:lnTo>
                    <a:pt x="514" y="444"/>
                  </a:lnTo>
                  <a:lnTo>
                    <a:pt x="145" y="1078"/>
                  </a:lnTo>
                  <a:lnTo>
                    <a:pt x="81" y="1490"/>
                  </a:lnTo>
                  <a:lnTo>
                    <a:pt x="145" y="1963"/>
                  </a:lnTo>
                  <a:lnTo>
                    <a:pt x="90" y="2228"/>
                  </a:lnTo>
                  <a:lnTo>
                    <a:pt x="0" y="2637"/>
                  </a:lnTo>
                  <a:lnTo>
                    <a:pt x="97" y="2439"/>
                  </a:lnTo>
                  <a:lnTo>
                    <a:pt x="288" y="2415"/>
                  </a:lnTo>
                  <a:lnTo>
                    <a:pt x="479" y="1756"/>
                  </a:lnTo>
                  <a:lnTo>
                    <a:pt x="212" y="2101"/>
                  </a:lnTo>
                  <a:lnTo>
                    <a:pt x="127" y="1426"/>
                  </a:lnTo>
                  <a:lnTo>
                    <a:pt x="196" y="1068"/>
                  </a:lnTo>
                  <a:lnTo>
                    <a:pt x="535" y="497"/>
                  </a:lnTo>
                  <a:lnTo>
                    <a:pt x="873" y="255"/>
                  </a:lnTo>
                  <a:lnTo>
                    <a:pt x="1395" y="75"/>
                  </a:lnTo>
                  <a:lnTo>
                    <a:pt x="1923" y="52"/>
                  </a:lnTo>
                  <a:lnTo>
                    <a:pt x="2503" y="218"/>
                  </a:lnTo>
                  <a:lnTo>
                    <a:pt x="2863" y="419"/>
                  </a:lnTo>
                  <a:lnTo>
                    <a:pt x="3024" y="547"/>
                  </a:lnTo>
                  <a:lnTo>
                    <a:pt x="3226" y="617"/>
                  </a:lnTo>
                  <a:lnTo>
                    <a:pt x="3352" y="753"/>
                  </a:lnTo>
                  <a:lnTo>
                    <a:pt x="3358" y="882"/>
                  </a:lnTo>
                  <a:lnTo>
                    <a:pt x="3306" y="949"/>
                  </a:lnTo>
                  <a:lnTo>
                    <a:pt x="3151" y="1037"/>
                  </a:lnTo>
                  <a:lnTo>
                    <a:pt x="3195" y="1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494480" y="3755880"/>
              <a:ext cx="242640" cy="178200"/>
            </a:xfrm>
            <a:custGeom>
              <a:avLst/>
              <a:gdLst/>
              <a:ahLst/>
              <a:rect l="l" t="t" r="r" b="b"/>
              <a:pathLst>
                <a:path w="3177" h="2674">
                  <a:moveTo>
                    <a:pt x="3039" y="881"/>
                  </a:moveTo>
                  <a:lnTo>
                    <a:pt x="3177" y="784"/>
                  </a:lnTo>
                  <a:lnTo>
                    <a:pt x="3172" y="664"/>
                  </a:lnTo>
                  <a:lnTo>
                    <a:pt x="3039" y="494"/>
                  </a:lnTo>
                  <a:lnTo>
                    <a:pt x="3011" y="565"/>
                  </a:lnTo>
                  <a:lnTo>
                    <a:pt x="2886" y="472"/>
                  </a:lnTo>
                  <a:lnTo>
                    <a:pt x="2421" y="420"/>
                  </a:lnTo>
                  <a:lnTo>
                    <a:pt x="2220" y="420"/>
                  </a:lnTo>
                  <a:lnTo>
                    <a:pt x="2567" y="355"/>
                  </a:lnTo>
                  <a:lnTo>
                    <a:pt x="2580" y="296"/>
                  </a:lnTo>
                  <a:lnTo>
                    <a:pt x="2255" y="136"/>
                  </a:lnTo>
                  <a:lnTo>
                    <a:pt x="1840" y="0"/>
                  </a:lnTo>
                  <a:lnTo>
                    <a:pt x="1312" y="7"/>
                  </a:lnTo>
                  <a:lnTo>
                    <a:pt x="826" y="166"/>
                  </a:lnTo>
                  <a:lnTo>
                    <a:pt x="510" y="408"/>
                  </a:lnTo>
                  <a:lnTo>
                    <a:pt x="309" y="733"/>
                  </a:lnTo>
                  <a:lnTo>
                    <a:pt x="233" y="975"/>
                  </a:lnTo>
                  <a:lnTo>
                    <a:pt x="233" y="1230"/>
                  </a:lnTo>
                  <a:lnTo>
                    <a:pt x="279" y="1464"/>
                  </a:lnTo>
                  <a:lnTo>
                    <a:pt x="279" y="1658"/>
                  </a:lnTo>
                  <a:lnTo>
                    <a:pt x="0" y="2257"/>
                  </a:lnTo>
                  <a:lnTo>
                    <a:pt x="275" y="2271"/>
                  </a:lnTo>
                  <a:lnTo>
                    <a:pt x="528" y="2456"/>
                  </a:lnTo>
                  <a:lnTo>
                    <a:pt x="756" y="2674"/>
                  </a:lnTo>
                  <a:lnTo>
                    <a:pt x="877" y="2557"/>
                  </a:lnTo>
                  <a:lnTo>
                    <a:pt x="952" y="2364"/>
                  </a:lnTo>
                  <a:lnTo>
                    <a:pt x="1123" y="2225"/>
                  </a:lnTo>
                  <a:lnTo>
                    <a:pt x="1114" y="1980"/>
                  </a:lnTo>
                  <a:lnTo>
                    <a:pt x="1183" y="1769"/>
                  </a:lnTo>
                  <a:lnTo>
                    <a:pt x="1319" y="1694"/>
                  </a:lnTo>
                  <a:lnTo>
                    <a:pt x="1437" y="1709"/>
                  </a:lnTo>
                  <a:lnTo>
                    <a:pt x="1497" y="1780"/>
                  </a:lnTo>
                  <a:lnTo>
                    <a:pt x="1554" y="1914"/>
                  </a:lnTo>
                  <a:lnTo>
                    <a:pt x="1875" y="2034"/>
                  </a:lnTo>
                  <a:lnTo>
                    <a:pt x="2009" y="1780"/>
                  </a:lnTo>
                  <a:lnTo>
                    <a:pt x="2525" y="1549"/>
                  </a:lnTo>
                  <a:lnTo>
                    <a:pt x="2516" y="1367"/>
                  </a:lnTo>
                  <a:lnTo>
                    <a:pt x="2421" y="1230"/>
                  </a:lnTo>
                  <a:lnTo>
                    <a:pt x="2490" y="1167"/>
                  </a:lnTo>
                  <a:lnTo>
                    <a:pt x="2455" y="832"/>
                  </a:lnTo>
                  <a:lnTo>
                    <a:pt x="2615" y="814"/>
                  </a:lnTo>
                  <a:lnTo>
                    <a:pt x="2824" y="832"/>
                  </a:lnTo>
                  <a:lnTo>
                    <a:pt x="3006" y="870"/>
                  </a:lnTo>
                  <a:lnTo>
                    <a:pt x="3039" y="8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689600" y="3845880"/>
              <a:ext cx="8280" cy="40320"/>
            </a:xfrm>
            <a:custGeom>
              <a:avLst/>
              <a:gdLst/>
              <a:ahLst/>
              <a:rect l="l" t="t" r="r" b="b"/>
              <a:pathLst>
                <a:path w="111" h="609">
                  <a:moveTo>
                    <a:pt x="53" y="609"/>
                  </a:moveTo>
                  <a:lnTo>
                    <a:pt x="0" y="459"/>
                  </a:lnTo>
                  <a:lnTo>
                    <a:pt x="39" y="307"/>
                  </a:lnTo>
                  <a:lnTo>
                    <a:pt x="0" y="0"/>
                  </a:lnTo>
                  <a:lnTo>
                    <a:pt x="111" y="466"/>
                  </a:lnTo>
                  <a:lnTo>
                    <a:pt x="105" y="563"/>
                  </a:lnTo>
                  <a:lnTo>
                    <a:pt x="53" y="6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588080" y="3879720"/>
              <a:ext cx="26280" cy="4356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266" y="172"/>
                  </a:moveTo>
                  <a:lnTo>
                    <a:pt x="343" y="60"/>
                  </a:lnTo>
                  <a:lnTo>
                    <a:pt x="275" y="0"/>
                  </a:lnTo>
                  <a:lnTo>
                    <a:pt x="132" y="0"/>
                  </a:lnTo>
                  <a:lnTo>
                    <a:pt x="28" y="113"/>
                  </a:lnTo>
                  <a:lnTo>
                    <a:pt x="0" y="327"/>
                  </a:lnTo>
                  <a:lnTo>
                    <a:pt x="79" y="106"/>
                  </a:lnTo>
                  <a:lnTo>
                    <a:pt x="196" y="83"/>
                  </a:lnTo>
                  <a:lnTo>
                    <a:pt x="108" y="277"/>
                  </a:lnTo>
                  <a:lnTo>
                    <a:pt x="108" y="429"/>
                  </a:lnTo>
                  <a:lnTo>
                    <a:pt x="60" y="417"/>
                  </a:lnTo>
                  <a:lnTo>
                    <a:pt x="23" y="387"/>
                  </a:lnTo>
                  <a:lnTo>
                    <a:pt x="60" y="523"/>
                  </a:lnTo>
                  <a:lnTo>
                    <a:pt x="132" y="655"/>
                  </a:lnTo>
                  <a:lnTo>
                    <a:pt x="119" y="539"/>
                  </a:lnTo>
                  <a:lnTo>
                    <a:pt x="189" y="484"/>
                  </a:lnTo>
                  <a:lnTo>
                    <a:pt x="297" y="558"/>
                  </a:lnTo>
                  <a:lnTo>
                    <a:pt x="316" y="523"/>
                  </a:lnTo>
                  <a:lnTo>
                    <a:pt x="297" y="473"/>
                  </a:lnTo>
                  <a:lnTo>
                    <a:pt x="332" y="387"/>
                  </a:lnTo>
                  <a:lnTo>
                    <a:pt x="314" y="304"/>
                  </a:lnTo>
                  <a:lnTo>
                    <a:pt x="240" y="297"/>
                  </a:lnTo>
                  <a:lnTo>
                    <a:pt x="224" y="207"/>
                  </a:lnTo>
                  <a:lnTo>
                    <a:pt x="2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599600" y="3917520"/>
              <a:ext cx="10800" cy="1152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90"/>
                  </a:moveTo>
                  <a:lnTo>
                    <a:pt x="86" y="0"/>
                  </a:lnTo>
                  <a:lnTo>
                    <a:pt x="143" y="20"/>
                  </a:lnTo>
                  <a:lnTo>
                    <a:pt x="104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717680" y="3915360"/>
              <a:ext cx="15480" cy="11520"/>
            </a:xfrm>
            <a:custGeom>
              <a:avLst/>
              <a:gdLst/>
              <a:ahLst/>
              <a:rect l="l" t="t" r="r" b="b"/>
              <a:pathLst>
                <a:path w="207" h="175">
                  <a:moveTo>
                    <a:pt x="11" y="132"/>
                  </a:moveTo>
                  <a:lnTo>
                    <a:pt x="207" y="175"/>
                  </a:lnTo>
                  <a:lnTo>
                    <a:pt x="0" y="0"/>
                  </a:lnTo>
                  <a:lnTo>
                    <a:pt x="11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380360" y="3943800"/>
              <a:ext cx="72360" cy="73080"/>
            </a:xfrm>
            <a:custGeom>
              <a:avLst/>
              <a:gdLst/>
              <a:ahLst/>
              <a:rect l="l" t="t" r="r" b="b"/>
              <a:pathLst>
                <a:path w="947" h="1096">
                  <a:moveTo>
                    <a:pt x="947" y="0"/>
                  </a:moveTo>
                  <a:lnTo>
                    <a:pt x="628" y="164"/>
                  </a:lnTo>
                  <a:lnTo>
                    <a:pt x="167" y="643"/>
                  </a:lnTo>
                  <a:lnTo>
                    <a:pt x="0" y="883"/>
                  </a:lnTo>
                  <a:lnTo>
                    <a:pt x="0" y="1096"/>
                  </a:lnTo>
                  <a:lnTo>
                    <a:pt x="270" y="672"/>
                  </a:lnTo>
                  <a:lnTo>
                    <a:pt x="628" y="235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380360" y="4036320"/>
              <a:ext cx="769320" cy="399600"/>
            </a:xfrm>
            <a:custGeom>
              <a:avLst/>
              <a:gdLst/>
              <a:ahLst/>
              <a:rect l="l" t="t" r="r" b="b"/>
              <a:pathLst>
                <a:path w="10071" h="5987">
                  <a:moveTo>
                    <a:pt x="3078" y="337"/>
                  </a:moveTo>
                  <a:lnTo>
                    <a:pt x="2554" y="961"/>
                  </a:lnTo>
                  <a:lnTo>
                    <a:pt x="2043" y="1895"/>
                  </a:lnTo>
                  <a:lnTo>
                    <a:pt x="989" y="2609"/>
                  </a:lnTo>
                  <a:lnTo>
                    <a:pt x="508" y="2393"/>
                  </a:lnTo>
                  <a:lnTo>
                    <a:pt x="0" y="2301"/>
                  </a:lnTo>
                  <a:lnTo>
                    <a:pt x="413" y="2423"/>
                  </a:lnTo>
                  <a:lnTo>
                    <a:pt x="796" y="2635"/>
                  </a:lnTo>
                  <a:lnTo>
                    <a:pt x="1109" y="2900"/>
                  </a:lnTo>
                  <a:lnTo>
                    <a:pt x="1446" y="3279"/>
                  </a:lnTo>
                  <a:lnTo>
                    <a:pt x="1758" y="3760"/>
                  </a:lnTo>
                  <a:lnTo>
                    <a:pt x="2119" y="4719"/>
                  </a:lnTo>
                  <a:lnTo>
                    <a:pt x="2336" y="5343"/>
                  </a:lnTo>
                  <a:lnTo>
                    <a:pt x="2457" y="5987"/>
                  </a:lnTo>
                  <a:lnTo>
                    <a:pt x="3945" y="5987"/>
                  </a:lnTo>
                  <a:lnTo>
                    <a:pt x="2982" y="4482"/>
                  </a:lnTo>
                  <a:lnTo>
                    <a:pt x="2527" y="3187"/>
                  </a:lnTo>
                  <a:lnTo>
                    <a:pt x="2578" y="2444"/>
                  </a:lnTo>
                  <a:lnTo>
                    <a:pt x="2624" y="3158"/>
                  </a:lnTo>
                  <a:lnTo>
                    <a:pt x="3052" y="4288"/>
                  </a:lnTo>
                  <a:lnTo>
                    <a:pt x="3991" y="5701"/>
                  </a:lnTo>
                  <a:lnTo>
                    <a:pt x="4281" y="5750"/>
                  </a:lnTo>
                  <a:lnTo>
                    <a:pt x="4378" y="5987"/>
                  </a:lnTo>
                  <a:lnTo>
                    <a:pt x="8152" y="5987"/>
                  </a:lnTo>
                  <a:lnTo>
                    <a:pt x="8322" y="5892"/>
                  </a:lnTo>
                  <a:lnTo>
                    <a:pt x="8722" y="5701"/>
                  </a:lnTo>
                  <a:lnTo>
                    <a:pt x="9113" y="5674"/>
                  </a:lnTo>
                  <a:lnTo>
                    <a:pt x="9135" y="5604"/>
                  </a:lnTo>
                  <a:lnTo>
                    <a:pt x="8843" y="5534"/>
                  </a:lnTo>
                  <a:lnTo>
                    <a:pt x="8530" y="5358"/>
                  </a:lnTo>
                  <a:lnTo>
                    <a:pt x="8242" y="5173"/>
                  </a:lnTo>
                  <a:lnTo>
                    <a:pt x="7839" y="5097"/>
                  </a:lnTo>
                  <a:lnTo>
                    <a:pt x="7546" y="5002"/>
                  </a:lnTo>
                  <a:lnTo>
                    <a:pt x="7168" y="4956"/>
                  </a:lnTo>
                  <a:lnTo>
                    <a:pt x="7168" y="4885"/>
                  </a:lnTo>
                  <a:lnTo>
                    <a:pt x="7452" y="4811"/>
                  </a:lnTo>
                  <a:lnTo>
                    <a:pt x="7767" y="4811"/>
                  </a:lnTo>
                  <a:lnTo>
                    <a:pt x="8080" y="4719"/>
                  </a:lnTo>
                  <a:lnTo>
                    <a:pt x="8652" y="4624"/>
                  </a:lnTo>
                  <a:lnTo>
                    <a:pt x="8992" y="4530"/>
                  </a:lnTo>
                  <a:lnTo>
                    <a:pt x="8821" y="4530"/>
                  </a:lnTo>
                  <a:lnTo>
                    <a:pt x="8627" y="4602"/>
                  </a:lnTo>
                  <a:lnTo>
                    <a:pt x="8339" y="4644"/>
                  </a:lnTo>
                  <a:lnTo>
                    <a:pt x="8030" y="4666"/>
                  </a:lnTo>
                  <a:lnTo>
                    <a:pt x="7818" y="4736"/>
                  </a:lnTo>
                  <a:lnTo>
                    <a:pt x="7818" y="4644"/>
                  </a:lnTo>
                  <a:lnTo>
                    <a:pt x="7931" y="4530"/>
                  </a:lnTo>
                  <a:lnTo>
                    <a:pt x="8201" y="4339"/>
                  </a:lnTo>
                  <a:lnTo>
                    <a:pt x="9234" y="4069"/>
                  </a:lnTo>
                  <a:lnTo>
                    <a:pt x="10071" y="3735"/>
                  </a:lnTo>
                  <a:lnTo>
                    <a:pt x="9159" y="4069"/>
                  </a:lnTo>
                  <a:lnTo>
                    <a:pt x="8516" y="4165"/>
                  </a:lnTo>
                  <a:lnTo>
                    <a:pt x="8272" y="4218"/>
                  </a:lnTo>
                  <a:lnTo>
                    <a:pt x="6778" y="4218"/>
                  </a:lnTo>
                  <a:lnTo>
                    <a:pt x="7117" y="4023"/>
                  </a:lnTo>
                  <a:lnTo>
                    <a:pt x="7382" y="3976"/>
                  </a:lnTo>
                  <a:lnTo>
                    <a:pt x="7594" y="3877"/>
                  </a:lnTo>
                  <a:lnTo>
                    <a:pt x="7670" y="3827"/>
                  </a:lnTo>
                  <a:lnTo>
                    <a:pt x="7670" y="3710"/>
                  </a:lnTo>
                  <a:lnTo>
                    <a:pt x="7643" y="3664"/>
                  </a:lnTo>
                  <a:lnTo>
                    <a:pt x="7522" y="3640"/>
                  </a:lnTo>
                  <a:lnTo>
                    <a:pt x="7474" y="3735"/>
                  </a:lnTo>
                  <a:lnTo>
                    <a:pt x="7353" y="3785"/>
                  </a:lnTo>
                  <a:lnTo>
                    <a:pt x="6832" y="3735"/>
                  </a:lnTo>
                  <a:lnTo>
                    <a:pt x="6685" y="3594"/>
                  </a:lnTo>
                  <a:lnTo>
                    <a:pt x="6731" y="3804"/>
                  </a:lnTo>
                  <a:lnTo>
                    <a:pt x="6731" y="3976"/>
                  </a:lnTo>
                  <a:lnTo>
                    <a:pt x="6661" y="4218"/>
                  </a:lnTo>
                  <a:lnTo>
                    <a:pt x="6661" y="3976"/>
                  </a:lnTo>
                  <a:lnTo>
                    <a:pt x="6441" y="3710"/>
                  </a:lnTo>
                  <a:lnTo>
                    <a:pt x="6589" y="4023"/>
                  </a:lnTo>
                  <a:lnTo>
                    <a:pt x="6589" y="4311"/>
                  </a:lnTo>
                  <a:lnTo>
                    <a:pt x="5434" y="5026"/>
                  </a:lnTo>
                  <a:lnTo>
                    <a:pt x="5265" y="4574"/>
                  </a:lnTo>
                  <a:lnTo>
                    <a:pt x="5265" y="3877"/>
                  </a:lnTo>
                  <a:lnTo>
                    <a:pt x="5602" y="3710"/>
                  </a:lnTo>
                  <a:lnTo>
                    <a:pt x="6107" y="3594"/>
                  </a:lnTo>
                  <a:lnTo>
                    <a:pt x="5773" y="3521"/>
                  </a:lnTo>
                  <a:lnTo>
                    <a:pt x="6056" y="3279"/>
                  </a:lnTo>
                  <a:lnTo>
                    <a:pt x="5173" y="3760"/>
                  </a:lnTo>
                  <a:lnTo>
                    <a:pt x="4810" y="3187"/>
                  </a:lnTo>
                  <a:lnTo>
                    <a:pt x="4666" y="1754"/>
                  </a:lnTo>
                  <a:lnTo>
                    <a:pt x="4500" y="790"/>
                  </a:lnTo>
                  <a:lnTo>
                    <a:pt x="4256" y="242"/>
                  </a:lnTo>
                  <a:lnTo>
                    <a:pt x="3964" y="0"/>
                  </a:lnTo>
                  <a:lnTo>
                    <a:pt x="4187" y="242"/>
                  </a:lnTo>
                  <a:lnTo>
                    <a:pt x="4424" y="693"/>
                  </a:lnTo>
                  <a:lnTo>
                    <a:pt x="4544" y="1271"/>
                  </a:lnTo>
                  <a:lnTo>
                    <a:pt x="4620" y="2181"/>
                  </a:lnTo>
                  <a:lnTo>
                    <a:pt x="4712" y="3140"/>
                  </a:lnTo>
                  <a:lnTo>
                    <a:pt x="3611" y="1531"/>
                  </a:lnTo>
                  <a:lnTo>
                    <a:pt x="4019" y="2469"/>
                  </a:lnTo>
                  <a:lnTo>
                    <a:pt x="4782" y="3543"/>
                  </a:lnTo>
                  <a:lnTo>
                    <a:pt x="4782" y="3947"/>
                  </a:lnTo>
                  <a:lnTo>
                    <a:pt x="4544" y="4549"/>
                  </a:lnTo>
                  <a:lnTo>
                    <a:pt x="5047" y="3947"/>
                  </a:lnTo>
                  <a:lnTo>
                    <a:pt x="5148" y="4288"/>
                  </a:lnTo>
                  <a:lnTo>
                    <a:pt x="5148" y="4574"/>
                  </a:lnTo>
                  <a:lnTo>
                    <a:pt x="4666" y="5125"/>
                  </a:lnTo>
                  <a:lnTo>
                    <a:pt x="4208" y="4736"/>
                  </a:lnTo>
                  <a:lnTo>
                    <a:pt x="3964" y="4908"/>
                  </a:lnTo>
                  <a:lnTo>
                    <a:pt x="3899" y="4811"/>
                  </a:lnTo>
                  <a:lnTo>
                    <a:pt x="4019" y="4359"/>
                  </a:lnTo>
                  <a:lnTo>
                    <a:pt x="3991" y="4189"/>
                  </a:lnTo>
                  <a:lnTo>
                    <a:pt x="2744" y="2589"/>
                  </a:lnTo>
                  <a:lnTo>
                    <a:pt x="2716" y="2324"/>
                  </a:lnTo>
                  <a:lnTo>
                    <a:pt x="2716" y="1824"/>
                  </a:lnTo>
                  <a:lnTo>
                    <a:pt x="2767" y="1339"/>
                  </a:lnTo>
                  <a:lnTo>
                    <a:pt x="2883" y="840"/>
                  </a:lnTo>
                  <a:lnTo>
                    <a:pt x="3078" y="482"/>
                  </a:lnTo>
                  <a:lnTo>
                    <a:pt x="3345" y="173"/>
                  </a:lnTo>
                  <a:lnTo>
                    <a:pt x="3078" y="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744320" y="4238640"/>
              <a:ext cx="77400" cy="44280"/>
            </a:xfrm>
            <a:custGeom>
              <a:avLst/>
              <a:gdLst/>
              <a:ahLst/>
              <a:rect l="l" t="t" r="r" b="b"/>
              <a:pathLst>
                <a:path w="1016" h="665">
                  <a:moveTo>
                    <a:pt x="6" y="0"/>
                  </a:moveTo>
                  <a:lnTo>
                    <a:pt x="218" y="118"/>
                  </a:lnTo>
                  <a:lnTo>
                    <a:pt x="705" y="173"/>
                  </a:lnTo>
                  <a:lnTo>
                    <a:pt x="705" y="228"/>
                  </a:lnTo>
                  <a:lnTo>
                    <a:pt x="1016" y="240"/>
                  </a:lnTo>
                  <a:lnTo>
                    <a:pt x="697" y="275"/>
                  </a:lnTo>
                  <a:lnTo>
                    <a:pt x="653" y="446"/>
                  </a:lnTo>
                  <a:lnTo>
                    <a:pt x="626" y="662"/>
                  </a:lnTo>
                  <a:lnTo>
                    <a:pt x="596" y="665"/>
                  </a:lnTo>
                  <a:lnTo>
                    <a:pt x="615" y="406"/>
                  </a:lnTo>
                  <a:lnTo>
                    <a:pt x="653" y="235"/>
                  </a:lnTo>
                  <a:lnTo>
                    <a:pt x="218" y="178"/>
                  </a:lnTo>
                  <a:lnTo>
                    <a:pt x="0" y="9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826760" y="4216320"/>
              <a:ext cx="139320" cy="70920"/>
            </a:xfrm>
            <a:custGeom>
              <a:avLst/>
              <a:gdLst/>
              <a:ahLst/>
              <a:rect l="l" t="t" r="r" b="b"/>
              <a:pathLst>
                <a:path w="1821" h="1066">
                  <a:moveTo>
                    <a:pt x="0" y="706"/>
                  </a:moveTo>
                  <a:lnTo>
                    <a:pt x="137" y="242"/>
                  </a:lnTo>
                  <a:lnTo>
                    <a:pt x="597" y="0"/>
                  </a:lnTo>
                  <a:lnTo>
                    <a:pt x="906" y="137"/>
                  </a:lnTo>
                  <a:lnTo>
                    <a:pt x="1268" y="176"/>
                  </a:lnTo>
                  <a:lnTo>
                    <a:pt x="1330" y="227"/>
                  </a:lnTo>
                  <a:lnTo>
                    <a:pt x="1341" y="317"/>
                  </a:lnTo>
                  <a:lnTo>
                    <a:pt x="1504" y="360"/>
                  </a:lnTo>
                  <a:lnTo>
                    <a:pt x="1634" y="459"/>
                  </a:lnTo>
                  <a:lnTo>
                    <a:pt x="1708" y="488"/>
                  </a:lnTo>
                  <a:lnTo>
                    <a:pt x="1819" y="579"/>
                  </a:lnTo>
                  <a:lnTo>
                    <a:pt x="1821" y="655"/>
                  </a:lnTo>
                  <a:lnTo>
                    <a:pt x="1763" y="706"/>
                  </a:lnTo>
                  <a:lnTo>
                    <a:pt x="1634" y="822"/>
                  </a:lnTo>
                  <a:lnTo>
                    <a:pt x="1637" y="910"/>
                  </a:lnTo>
                  <a:lnTo>
                    <a:pt x="1612" y="800"/>
                  </a:lnTo>
                  <a:lnTo>
                    <a:pt x="1785" y="640"/>
                  </a:lnTo>
                  <a:lnTo>
                    <a:pt x="1785" y="584"/>
                  </a:lnTo>
                  <a:lnTo>
                    <a:pt x="1637" y="499"/>
                  </a:lnTo>
                  <a:lnTo>
                    <a:pt x="1577" y="512"/>
                  </a:lnTo>
                  <a:lnTo>
                    <a:pt x="1504" y="503"/>
                  </a:lnTo>
                  <a:lnTo>
                    <a:pt x="1370" y="579"/>
                  </a:lnTo>
                  <a:lnTo>
                    <a:pt x="1543" y="448"/>
                  </a:lnTo>
                  <a:lnTo>
                    <a:pt x="1471" y="383"/>
                  </a:lnTo>
                  <a:lnTo>
                    <a:pt x="1341" y="356"/>
                  </a:lnTo>
                  <a:lnTo>
                    <a:pt x="1341" y="409"/>
                  </a:lnTo>
                  <a:lnTo>
                    <a:pt x="1394" y="503"/>
                  </a:lnTo>
                  <a:lnTo>
                    <a:pt x="1319" y="413"/>
                  </a:lnTo>
                  <a:lnTo>
                    <a:pt x="1268" y="247"/>
                  </a:lnTo>
                  <a:lnTo>
                    <a:pt x="1205" y="192"/>
                  </a:lnTo>
                  <a:lnTo>
                    <a:pt x="885" y="176"/>
                  </a:lnTo>
                  <a:lnTo>
                    <a:pt x="641" y="47"/>
                  </a:lnTo>
                  <a:lnTo>
                    <a:pt x="161" y="264"/>
                  </a:lnTo>
                  <a:lnTo>
                    <a:pt x="90" y="552"/>
                  </a:lnTo>
                  <a:lnTo>
                    <a:pt x="321" y="574"/>
                  </a:lnTo>
                  <a:lnTo>
                    <a:pt x="590" y="655"/>
                  </a:lnTo>
                  <a:lnTo>
                    <a:pt x="791" y="822"/>
                  </a:lnTo>
                  <a:lnTo>
                    <a:pt x="1053" y="719"/>
                  </a:lnTo>
                  <a:lnTo>
                    <a:pt x="873" y="930"/>
                  </a:lnTo>
                  <a:lnTo>
                    <a:pt x="873" y="1066"/>
                  </a:lnTo>
                  <a:lnTo>
                    <a:pt x="786" y="851"/>
                  </a:lnTo>
                  <a:lnTo>
                    <a:pt x="597" y="699"/>
                  </a:lnTo>
                  <a:lnTo>
                    <a:pt x="403" y="633"/>
                  </a:lnTo>
                  <a:lnTo>
                    <a:pt x="173" y="614"/>
                  </a:lnTo>
                  <a:lnTo>
                    <a:pt x="0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819200" y="4271040"/>
              <a:ext cx="68400" cy="30600"/>
            </a:xfrm>
            <a:custGeom>
              <a:avLst/>
              <a:gdLst/>
              <a:ahLst/>
              <a:rect l="l" t="t" r="r" b="b"/>
              <a:pathLst>
                <a:path w="895" h="462">
                  <a:moveTo>
                    <a:pt x="0" y="69"/>
                  </a:moveTo>
                  <a:lnTo>
                    <a:pt x="363" y="91"/>
                  </a:lnTo>
                  <a:lnTo>
                    <a:pt x="593" y="177"/>
                  </a:lnTo>
                  <a:lnTo>
                    <a:pt x="764" y="313"/>
                  </a:lnTo>
                  <a:lnTo>
                    <a:pt x="844" y="462"/>
                  </a:lnTo>
                  <a:lnTo>
                    <a:pt x="895" y="421"/>
                  </a:lnTo>
                  <a:lnTo>
                    <a:pt x="791" y="262"/>
                  </a:lnTo>
                  <a:lnTo>
                    <a:pt x="642" y="126"/>
                  </a:lnTo>
                  <a:lnTo>
                    <a:pt x="427" y="20"/>
                  </a:lnTo>
                  <a:lnTo>
                    <a:pt x="180" y="0"/>
                  </a:lnTo>
                  <a:lnTo>
                    <a:pt x="13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936560" y="4358880"/>
              <a:ext cx="15480" cy="1224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0" y="20"/>
                  </a:moveTo>
                  <a:lnTo>
                    <a:pt x="95" y="22"/>
                  </a:lnTo>
                  <a:lnTo>
                    <a:pt x="146" y="62"/>
                  </a:lnTo>
                  <a:lnTo>
                    <a:pt x="169" y="97"/>
                  </a:lnTo>
                  <a:lnTo>
                    <a:pt x="169" y="133"/>
                  </a:lnTo>
                  <a:lnTo>
                    <a:pt x="146" y="182"/>
                  </a:lnTo>
                  <a:lnTo>
                    <a:pt x="181" y="167"/>
                  </a:lnTo>
                  <a:lnTo>
                    <a:pt x="203" y="121"/>
                  </a:lnTo>
                  <a:lnTo>
                    <a:pt x="194" y="86"/>
                  </a:lnTo>
                  <a:lnTo>
                    <a:pt x="165" y="38"/>
                  </a:lnTo>
                  <a:lnTo>
                    <a:pt x="130" y="20"/>
                  </a:lnTo>
                  <a:lnTo>
                    <a:pt x="4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970040" y="4352040"/>
              <a:ext cx="27360" cy="13320"/>
            </a:xfrm>
            <a:custGeom>
              <a:avLst/>
              <a:gdLst/>
              <a:ahLst/>
              <a:rect l="l" t="t" r="r" b="b"/>
              <a:pathLst>
                <a:path w="360" h="197">
                  <a:moveTo>
                    <a:pt x="245" y="26"/>
                  </a:moveTo>
                  <a:lnTo>
                    <a:pt x="286" y="51"/>
                  </a:lnTo>
                  <a:lnTo>
                    <a:pt x="309" y="100"/>
                  </a:lnTo>
                  <a:lnTo>
                    <a:pt x="296" y="138"/>
                  </a:lnTo>
                  <a:lnTo>
                    <a:pt x="261" y="177"/>
                  </a:lnTo>
                  <a:lnTo>
                    <a:pt x="63" y="166"/>
                  </a:lnTo>
                  <a:lnTo>
                    <a:pt x="28" y="150"/>
                  </a:lnTo>
                  <a:lnTo>
                    <a:pt x="24" y="104"/>
                  </a:lnTo>
                  <a:lnTo>
                    <a:pt x="28" y="100"/>
                  </a:lnTo>
                  <a:lnTo>
                    <a:pt x="0" y="104"/>
                  </a:lnTo>
                  <a:lnTo>
                    <a:pt x="0" y="138"/>
                  </a:lnTo>
                  <a:lnTo>
                    <a:pt x="39" y="186"/>
                  </a:lnTo>
                  <a:lnTo>
                    <a:pt x="296" y="197"/>
                  </a:lnTo>
                  <a:lnTo>
                    <a:pt x="349" y="150"/>
                  </a:lnTo>
                  <a:lnTo>
                    <a:pt x="360" y="87"/>
                  </a:lnTo>
                  <a:lnTo>
                    <a:pt x="325" y="26"/>
                  </a:lnTo>
                  <a:lnTo>
                    <a:pt x="274" y="0"/>
                  </a:lnTo>
                  <a:lnTo>
                    <a:pt x="24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265960" y="3963240"/>
              <a:ext cx="468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329320" y="3887640"/>
              <a:ext cx="21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8325000" y="3888360"/>
              <a:ext cx="36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8320680" y="3894120"/>
              <a:ext cx="10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 flipH="1">
              <a:off x="8315640" y="390384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H="1">
              <a:off x="8308080" y="3911760"/>
              <a:ext cx="216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8300880" y="392472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345880" y="3921480"/>
              <a:ext cx="16920" cy="22320"/>
            </a:xfrm>
            <a:custGeom>
              <a:avLst/>
              <a:gdLst/>
              <a:ahLst/>
              <a:rect l="l" t="t" r="r" b="b"/>
              <a:pathLst>
                <a:path w="226" h="341">
                  <a:moveTo>
                    <a:pt x="191" y="0"/>
                  </a:moveTo>
                  <a:lnTo>
                    <a:pt x="155" y="0"/>
                  </a:lnTo>
                  <a:lnTo>
                    <a:pt x="125" y="5"/>
                  </a:lnTo>
                  <a:lnTo>
                    <a:pt x="104" y="14"/>
                  </a:lnTo>
                  <a:lnTo>
                    <a:pt x="70" y="31"/>
                  </a:lnTo>
                  <a:lnTo>
                    <a:pt x="46" y="47"/>
                  </a:lnTo>
                  <a:lnTo>
                    <a:pt x="28" y="70"/>
                  </a:lnTo>
                  <a:lnTo>
                    <a:pt x="12" y="104"/>
                  </a:lnTo>
                  <a:lnTo>
                    <a:pt x="0" y="130"/>
                  </a:lnTo>
                  <a:lnTo>
                    <a:pt x="0" y="160"/>
                  </a:lnTo>
                  <a:lnTo>
                    <a:pt x="0" y="192"/>
                  </a:lnTo>
                  <a:lnTo>
                    <a:pt x="0" y="215"/>
                  </a:lnTo>
                  <a:lnTo>
                    <a:pt x="12" y="249"/>
                  </a:lnTo>
                  <a:lnTo>
                    <a:pt x="33" y="273"/>
                  </a:lnTo>
                  <a:lnTo>
                    <a:pt x="51" y="301"/>
                  </a:lnTo>
                  <a:lnTo>
                    <a:pt x="74" y="321"/>
                  </a:lnTo>
                  <a:lnTo>
                    <a:pt x="104" y="337"/>
                  </a:lnTo>
                  <a:lnTo>
                    <a:pt x="129" y="341"/>
                  </a:lnTo>
                  <a:lnTo>
                    <a:pt x="164" y="341"/>
                  </a:lnTo>
                  <a:lnTo>
                    <a:pt x="196" y="341"/>
                  </a:lnTo>
                  <a:lnTo>
                    <a:pt x="226" y="3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V="1">
              <a:off x="7719480" y="3893760"/>
              <a:ext cx="28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625160" y="3881880"/>
              <a:ext cx="126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633800" y="3886920"/>
              <a:ext cx="136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643160" y="3893400"/>
              <a:ext cx="1332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654680" y="3901680"/>
              <a:ext cx="936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993800" y="3725280"/>
              <a:ext cx="137880" cy="144720"/>
            </a:xfrm>
            <a:custGeom>
              <a:avLst/>
              <a:gdLst/>
              <a:ahLst/>
              <a:rect l="l" t="t" r="r" b="b"/>
              <a:pathLst>
                <a:path w="1810" h="2171">
                  <a:moveTo>
                    <a:pt x="1367" y="1125"/>
                  </a:moveTo>
                  <a:lnTo>
                    <a:pt x="1215" y="1136"/>
                  </a:lnTo>
                  <a:lnTo>
                    <a:pt x="1090" y="1113"/>
                  </a:lnTo>
                  <a:lnTo>
                    <a:pt x="1033" y="1060"/>
                  </a:lnTo>
                  <a:lnTo>
                    <a:pt x="1120" y="1095"/>
                  </a:lnTo>
                  <a:lnTo>
                    <a:pt x="1206" y="1073"/>
                  </a:lnTo>
                  <a:lnTo>
                    <a:pt x="1265" y="1062"/>
                  </a:lnTo>
                  <a:lnTo>
                    <a:pt x="1145" y="1037"/>
                  </a:lnTo>
                  <a:lnTo>
                    <a:pt x="1044" y="998"/>
                  </a:lnTo>
                  <a:lnTo>
                    <a:pt x="973" y="998"/>
                  </a:lnTo>
                  <a:lnTo>
                    <a:pt x="890" y="1020"/>
                  </a:lnTo>
                  <a:lnTo>
                    <a:pt x="813" y="1023"/>
                  </a:lnTo>
                  <a:lnTo>
                    <a:pt x="740" y="1035"/>
                  </a:lnTo>
                  <a:lnTo>
                    <a:pt x="606" y="998"/>
                  </a:lnTo>
                  <a:lnTo>
                    <a:pt x="556" y="981"/>
                  </a:lnTo>
                  <a:lnTo>
                    <a:pt x="424" y="910"/>
                  </a:lnTo>
                  <a:lnTo>
                    <a:pt x="338" y="878"/>
                  </a:lnTo>
                  <a:lnTo>
                    <a:pt x="263" y="853"/>
                  </a:lnTo>
                  <a:lnTo>
                    <a:pt x="122" y="840"/>
                  </a:lnTo>
                  <a:lnTo>
                    <a:pt x="0" y="829"/>
                  </a:lnTo>
                  <a:lnTo>
                    <a:pt x="178" y="813"/>
                  </a:lnTo>
                  <a:lnTo>
                    <a:pt x="345" y="820"/>
                  </a:lnTo>
                  <a:lnTo>
                    <a:pt x="470" y="840"/>
                  </a:lnTo>
                  <a:lnTo>
                    <a:pt x="574" y="866"/>
                  </a:lnTo>
                  <a:lnTo>
                    <a:pt x="648" y="840"/>
                  </a:lnTo>
                  <a:lnTo>
                    <a:pt x="848" y="820"/>
                  </a:lnTo>
                  <a:lnTo>
                    <a:pt x="986" y="829"/>
                  </a:lnTo>
                  <a:lnTo>
                    <a:pt x="878" y="779"/>
                  </a:lnTo>
                  <a:lnTo>
                    <a:pt x="756" y="746"/>
                  </a:lnTo>
                  <a:lnTo>
                    <a:pt x="648" y="746"/>
                  </a:lnTo>
                  <a:lnTo>
                    <a:pt x="534" y="721"/>
                  </a:lnTo>
                  <a:lnTo>
                    <a:pt x="435" y="689"/>
                  </a:lnTo>
                  <a:lnTo>
                    <a:pt x="597" y="721"/>
                  </a:lnTo>
                  <a:lnTo>
                    <a:pt x="705" y="708"/>
                  </a:lnTo>
                  <a:lnTo>
                    <a:pt x="813" y="703"/>
                  </a:lnTo>
                  <a:lnTo>
                    <a:pt x="908" y="703"/>
                  </a:lnTo>
                  <a:lnTo>
                    <a:pt x="779" y="629"/>
                  </a:lnTo>
                  <a:lnTo>
                    <a:pt x="648" y="587"/>
                  </a:lnTo>
                  <a:lnTo>
                    <a:pt x="779" y="606"/>
                  </a:lnTo>
                  <a:lnTo>
                    <a:pt x="890" y="613"/>
                  </a:lnTo>
                  <a:lnTo>
                    <a:pt x="1019" y="647"/>
                  </a:lnTo>
                  <a:lnTo>
                    <a:pt x="883" y="548"/>
                  </a:lnTo>
                  <a:lnTo>
                    <a:pt x="756" y="479"/>
                  </a:lnTo>
                  <a:lnTo>
                    <a:pt x="899" y="509"/>
                  </a:lnTo>
                  <a:lnTo>
                    <a:pt x="1061" y="548"/>
                  </a:lnTo>
                  <a:lnTo>
                    <a:pt x="986" y="465"/>
                  </a:lnTo>
                  <a:lnTo>
                    <a:pt x="864" y="394"/>
                  </a:lnTo>
                  <a:lnTo>
                    <a:pt x="1039" y="444"/>
                  </a:lnTo>
                  <a:lnTo>
                    <a:pt x="1129" y="479"/>
                  </a:lnTo>
                  <a:lnTo>
                    <a:pt x="1083" y="387"/>
                  </a:lnTo>
                  <a:lnTo>
                    <a:pt x="962" y="281"/>
                  </a:lnTo>
                  <a:lnTo>
                    <a:pt x="1090" y="317"/>
                  </a:lnTo>
                  <a:lnTo>
                    <a:pt x="1235" y="419"/>
                  </a:lnTo>
                  <a:lnTo>
                    <a:pt x="1206" y="320"/>
                  </a:lnTo>
                  <a:lnTo>
                    <a:pt x="1129" y="262"/>
                  </a:lnTo>
                  <a:lnTo>
                    <a:pt x="1256" y="330"/>
                  </a:lnTo>
                  <a:lnTo>
                    <a:pt x="1109" y="191"/>
                  </a:lnTo>
                  <a:lnTo>
                    <a:pt x="899" y="101"/>
                  </a:lnTo>
                  <a:lnTo>
                    <a:pt x="727" y="27"/>
                  </a:lnTo>
                  <a:lnTo>
                    <a:pt x="516" y="0"/>
                  </a:lnTo>
                  <a:lnTo>
                    <a:pt x="793" y="0"/>
                  </a:lnTo>
                  <a:lnTo>
                    <a:pt x="1085" y="75"/>
                  </a:lnTo>
                  <a:lnTo>
                    <a:pt x="1332" y="216"/>
                  </a:lnTo>
                  <a:lnTo>
                    <a:pt x="1519" y="444"/>
                  </a:lnTo>
                  <a:lnTo>
                    <a:pt x="1609" y="613"/>
                  </a:lnTo>
                  <a:lnTo>
                    <a:pt x="1639" y="779"/>
                  </a:lnTo>
                  <a:lnTo>
                    <a:pt x="1623" y="981"/>
                  </a:lnTo>
                  <a:lnTo>
                    <a:pt x="1613" y="1011"/>
                  </a:lnTo>
                  <a:lnTo>
                    <a:pt x="1725" y="1011"/>
                  </a:lnTo>
                  <a:lnTo>
                    <a:pt x="1810" y="1113"/>
                  </a:lnTo>
                  <a:lnTo>
                    <a:pt x="1810" y="1290"/>
                  </a:lnTo>
                  <a:lnTo>
                    <a:pt x="1784" y="1130"/>
                  </a:lnTo>
                  <a:lnTo>
                    <a:pt x="1740" y="1095"/>
                  </a:lnTo>
                  <a:lnTo>
                    <a:pt x="1669" y="1095"/>
                  </a:lnTo>
                  <a:lnTo>
                    <a:pt x="1716" y="1194"/>
                  </a:lnTo>
                  <a:lnTo>
                    <a:pt x="1694" y="1314"/>
                  </a:lnTo>
                  <a:lnTo>
                    <a:pt x="1630" y="1422"/>
                  </a:lnTo>
                  <a:lnTo>
                    <a:pt x="1609" y="1266"/>
                  </a:lnTo>
                  <a:lnTo>
                    <a:pt x="1542" y="1152"/>
                  </a:lnTo>
                  <a:lnTo>
                    <a:pt x="1542" y="1360"/>
                  </a:lnTo>
                  <a:lnTo>
                    <a:pt x="1519" y="1497"/>
                  </a:lnTo>
                  <a:lnTo>
                    <a:pt x="1473" y="1304"/>
                  </a:lnTo>
                  <a:lnTo>
                    <a:pt x="1448" y="1447"/>
                  </a:lnTo>
                  <a:lnTo>
                    <a:pt x="1388" y="1629"/>
                  </a:lnTo>
                  <a:lnTo>
                    <a:pt x="1448" y="1609"/>
                  </a:lnTo>
                  <a:lnTo>
                    <a:pt x="1428" y="1776"/>
                  </a:lnTo>
                  <a:lnTo>
                    <a:pt x="1519" y="1567"/>
                  </a:lnTo>
                  <a:lnTo>
                    <a:pt x="1510" y="1730"/>
                  </a:lnTo>
                  <a:lnTo>
                    <a:pt x="1613" y="1510"/>
                  </a:lnTo>
                  <a:lnTo>
                    <a:pt x="1573" y="1710"/>
                  </a:lnTo>
                  <a:lnTo>
                    <a:pt x="1669" y="1625"/>
                  </a:lnTo>
                  <a:lnTo>
                    <a:pt x="1795" y="1371"/>
                  </a:lnTo>
                  <a:lnTo>
                    <a:pt x="1694" y="1653"/>
                  </a:lnTo>
                  <a:lnTo>
                    <a:pt x="1600" y="1752"/>
                  </a:lnTo>
                  <a:lnTo>
                    <a:pt x="1422" y="1883"/>
                  </a:lnTo>
                  <a:lnTo>
                    <a:pt x="1316" y="1922"/>
                  </a:lnTo>
                  <a:lnTo>
                    <a:pt x="1204" y="2068"/>
                  </a:lnTo>
                  <a:lnTo>
                    <a:pt x="1109" y="2171"/>
                  </a:lnTo>
                  <a:lnTo>
                    <a:pt x="1226" y="1922"/>
                  </a:lnTo>
                  <a:lnTo>
                    <a:pt x="1235" y="1653"/>
                  </a:lnTo>
                  <a:lnTo>
                    <a:pt x="1250" y="1482"/>
                  </a:lnTo>
                  <a:lnTo>
                    <a:pt x="1307" y="1302"/>
                  </a:lnTo>
                  <a:lnTo>
                    <a:pt x="1402" y="1136"/>
                  </a:lnTo>
                  <a:lnTo>
                    <a:pt x="1367" y="1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939440" y="3725280"/>
              <a:ext cx="117720" cy="106200"/>
            </a:xfrm>
            <a:custGeom>
              <a:avLst/>
              <a:gdLst/>
              <a:ahLst/>
              <a:rect l="l" t="t" r="r" b="b"/>
              <a:pathLst>
                <a:path w="1547" h="1598">
                  <a:moveTo>
                    <a:pt x="1038" y="25"/>
                  </a:moveTo>
                  <a:lnTo>
                    <a:pt x="877" y="75"/>
                  </a:lnTo>
                  <a:lnTo>
                    <a:pt x="669" y="163"/>
                  </a:lnTo>
                  <a:lnTo>
                    <a:pt x="491" y="284"/>
                  </a:lnTo>
                  <a:lnTo>
                    <a:pt x="369" y="422"/>
                  </a:lnTo>
                  <a:lnTo>
                    <a:pt x="268" y="606"/>
                  </a:lnTo>
                  <a:lnTo>
                    <a:pt x="183" y="746"/>
                  </a:lnTo>
                  <a:lnTo>
                    <a:pt x="106" y="884"/>
                  </a:lnTo>
                  <a:lnTo>
                    <a:pt x="0" y="1060"/>
                  </a:lnTo>
                  <a:lnTo>
                    <a:pt x="77" y="1023"/>
                  </a:lnTo>
                  <a:lnTo>
                    <a:pt x="157" y="1062"/>
                  </a:lnTo>
                  <a:lnTo>
                    <a:pt x="146" y="1176"/>
                  </a:lnTo>
                  <a:lnTo>
                    <a:pt x="159" y="1262"/>
                  </a:lnTo>
                  <a:lnTo>
                    <a:pt x="159" y="1360"/>
                  </a:lnTo>
                  <a:lnTo>
                    <a:pt x="97" y="1389"/>
                  </a:lnTo>
                  <a:lnTo>
                    <a:pt x="49" y="1348"/>
                  </a:lnTo>
                  <a:lnTo>
                    <a:pt x="25" y="1389"/>
                  </a:lnTo>
                  <a:lnTo>
                    <a:pt x="27" y="1583"/>
                  </a:lnTo>
                  <a:lnTo>
                    <a:pt x="62" y="1598"/>
                  </a:lnTo>
                  <a:lnTo>
                    <a:pt x="111" y="1429"/>
                  </a:lnTo>
                  <a:lnTo>
                    <a:pt x="168" y="1436"/>
                  </a:lnTo>
                  <a:lnTo>
                    <a:pt x="168" y="1567"/>
                  </a:lnTo>
                  <a:lnTo>
                    <a:pt x="304" y="1145"/>
                  </a:lnTo>
                  <a:lnTo>
                    <a:pt x="319" y="1020"/>
                  </a:lnTo>
                  <a:lnTo>
                    <a:pt x="194" y="1130"/>
                  </a:lnTo>
                  <a:lnTo>
                    <a:pt x="176" y="1035"/>
                  </a:lnTo>
                  <a:lnTo>
                    <a:pt x="106" y="991"/>
                  </a:lnTo>
                  <a:lnTo>
                    <a:pt x="198" y="878"/>
                  </a:lnTo>
                  <a:lnTo>
                    <a:pt x="231" y="840"/>
                  </a:lnTo>
                  <a:lnTo>
                    <a:pt x="662" y="829"/>
                  </a:lnTo>
                  <a:lnTo>
                    <a:pt x="231" y="941"/>
                  </a:lnTo>
                  <a:lnTo>
                    <a:pt x="207" y="1011"/>
                  </a:lnTo>
                  <a:lnTo>
                    <a:pt x="434" y="977"/>
                  </a:lnTo>
                  <a:lnTo>
                    <a:pt x="355" y="1062"/>
                  </a:lnTo>
                  <a:lnTo>
                    <a:pt x="515" y="991"/>
                  </a:lnTo>
                  <a:lnTo>
                    <a:pt x="743" y="829"/>
                  </a:lnTo>
                  <a:lnTo>
                    <a:pt x="963" y="820"/>
                  </a:lnTo>
                  <a:lnTo>
                    <a:pt x="917" y="746"/>
                  </a:lnTo>
                  <a:lnTo>
                    <a:pt x="921" y="719"/>
                  </a:lnTo>
                  <a:lnTo>
                    <a:pt x="1053" y="680"/>
                  </a:lnTo>
                  <a:lnTo>
                    <a:pt x="978" y="636"/>
                  </a:lnTo>
                  <a:lnTo>
                    <a:pt x="985" y="574"/>
                  </a:lnTo>
                  <a:lnTo>
                    <a:pt x="1082" y="519"/>
                  </a:lnTo>
                  <a:lnTo>
                    <a:pt x="1038" y="465"/>
                  </a:lnTo>
                  <a:lnTo>
                    <a:pt x="1053" y="394"/>
                  </a:lnTo>
                  <a:lnTo>
                    <a:pt x="978" y="336"/>
                  </a:lnTo>
                  <a:lnTo>
                    <a:pt x="886" y="330"/>
                  </a:lnTo>
                  <a:lnTo>
                    <a:pt x="1014" y="284"/>
                  </a:lnTo>
                  <a:lnTo>
                    <a:pt x="1167" y="281"/>
                  </a:lnTo>
                  <a:lnTo>
                    <a:pt x="1093" y="233"/>
                  </a:lnTo>
                  <a:lnTo>
                    <a:pt x="1167" y="198"/>
                  </a:lnTo>
                  <a:lnTo>
                    <a:pt x="985" y="161"/>
                  </a:lnTo>
                  <a:lnTo>
                    <a:pt x="814" y="161"/>
                  </a:lnTo>
                  <a:lnTo>
                    <a:pt x="662" y="191"/>
                  </a:lnTo>
                  <a:lnTo>
                    <a:pt x="886" y="101"/>
                  </a:lnTo>
                  <a:lnTo>
                    <a:pt x="1110" y="41"/>
                  </a:lnTo>
                  <a:lnTo>
                    <a:pt x="1289" y="25"/>
                  </a:lnTo>
                  <a:lnTo>
                    <a:pt x="1547" y="25"/>
                  </a:lnTo>
                  <a:lnTo>
                    <a:pt x="1466" y="0"/>
                  </a:lnTo>
                  <a:lnTo>
                    <a:pt x="1185" y="0"/>
                  </a:lnTo>
                  <a:lnTo>
                    <a:pt x="10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934040" y="3800520"/>
              <a:ext cx="9360" cy="22320"/>
            </a:xfrm>
            <a:custGeom>
              <a:avLst/>
              <a:gdLst/>
              <a:ahLst/>
              <a:rect l="l" t="t" r="r" b="b"/>
              <a:pathLst>
                <a:path w="134" h="334">
                  <a:moveTo>
                    <a:pt x="132" y="6"/>
                  </a:moveTo>
                  <a:lnTo>
                    <a:pt x="134" y="68"/>
                  </a:lnTo>
                  <a:lnTo>
                    <a:pt x="86" y="112"/>
                  </a:lnTo>
                  <a:lnTo>
                    <a:pt x="49" y="195"/>
                  </a:lnTo>
                  <a:lnTo>
                    <a:pt x="37" y="273"/>
                  </a:lnTo>
                  <a:lnTo>
                    <a:pt x="17" y="334"/>
                  </a:lnTo>
                  <a:lnTo>
                    <a:pt x="0" y="329"/>
                  </a:lnTo>
                  <a:lnTo>
                    <a:pt x="3" y="218"/>
                  </a:lnTo>
                  <a:lnTo>
                    <a:pt x="28" y="128"/>
                  </a:lnTo>
                  <a:lnTo>
                    <a:pt x="63" y="36"/>
                  </a:lnTo>
                  <a:lnTo>
                    <a:pt x="99" y="0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929000" y="3799440"/>
              <a:ext cx="44280" cy="135000"/>
            </a:xfrm>
            <a:custGeom>
              <a:avLst/>
              <a:gdLst/>
              <a:ahLst/>
              <a:rect l="l" t="t" r="r" b="b"/>
              <a:pathLst>
                <a:path w="583" h="2024">
                  <a:moveTo>
                    <a:pt x="90" y="0"/>
                  </a:moveTo>
                  <a:lnTo>
                    <a:pt x="40" y="85"/>
                  </a:lnTo>
                  <a:lnTo>
                    <a:pt x="18" y="191"/>
                  </a:lnTo>
                  <a:lnTo>
                    <a:pt x="18" y="281"/>
                  </a:lnTo>
                  <a:lnTo>
                    <a:pt x="49" y="397"/>
                  </a:lnTo>
                  <a:lnTo>
                    <a:pt x="79" y="485"/>
                  </a:lnTo>
                  <a:lnTo>
                    <a:pt x="111" y="606"/>
                  </a:lnTo>
                  <a:lnTo>
                    <a:pt x="139" y="663"/>
                  </a:lnTo>
                  <a:lnTo>
                    <a:pt x="205" y="692"/>
                  </a:lnTo>
                  <a:lnTo>
                    <a:pt x="245" y="676"/>
                  </a:lnTo>
                  <a:lnTo>
                    <a:pt x="317" y="316"/>
                  </a:lnTo>
                  <a:lnTo>
                    <a:pt x="356" y="258"/>
                  </a:lnTo>
                  <a:lnTo>
                    <a:pt x="302" y="546"/>
                  </a:lnTo>
                  <a:lnTo>
                    <a:pt x="211" y="1001"/>
                  </a:lnTo>
                  <a:lnTo>
                    <a:pt x="211" y="1093"/>
                  </a:lnTo>
                  <a:lnTo>
                    <a:pt x="356" y="1549"/>
                  </a:lnTo>
                  <a:lnTo>
                    <a:pt x="583" y="1823"/>
                  </a:lnTo>
                  <a:lnTo>
                    <a:pt x="489" y="1793"/>
                  </a:lnTo>
                  <a:lnTo>
                    <a:pt x="317" y="1570"/>
                  </a:lnTo>
                  <a:lnTo>
                    <a:pt x="220" y="1390"/>
                  </a:lnTo>
                  <a:lnTo>
                    <a:pt x="293" y="1803"/>
                  </a:lnTo>
                  <a:lnTo>
                    <a:pt x="471" y="2024"/>
                  </a:lnTo>
                  <a:lnTo>
                    <a:pt x="245" y="1768"/>
                  </a:lnTo>
                  <a:lnTo>
                    <a:pt x="194" y="1616"/>
                  </a:lnTo>
                  <a:lnTo>
                    <a:pt x="172" y="1441"/>
                  </a:lnTo>
                  <a:lnTo>
                    <a:pt x="183" y="1282"/>
                  </a:lnTo>
                  <a:lnTo>
                    <a:pt x="159" y="1231"/>
                  </a:lnTo>
                  <a:lnTo>
                    <a:pt x="139" y="1129"/>
                  </a:lnTo>
                  <a:lnTo>
                    <a:pt x="161" y="1015"/>
                  </a:lnTo>
                  <a:lnTo>
                    <a:pt x="205" y="738"/>
                  </a:lnTo>
                  <a:lnTo>
                    <a:pt x="134" y="692"/>
                  </a:lnTo>
                  <a:lnTo>
                    <a:pt x="79" y="627"/>
                  </a:lnTo>
                  <a:lnTo>
                    <a:pt x="62" y="477"/>
                  </a:lnTo>
                  <a:lnTo>
                    <a:pt x="0" y="300"/>
                  </a:lnTo>
                  <a:lnTo>
                    <a:pt x="0" y="201"/>
                  </a:lnTo>
                  <a:lnTo>
                    <a:pt x="38" y="8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961400" y="3852360"/>
              <a:ext cx="126360" cy="99360"/>
            </a:xfrm>
            <a:custGeom>
              <a:avLst/>
              <a:gdLst/>
              <a:ahLst/>
              <a:rect l="l" t="t" r="r" b="b"/>
              <a:pathLst>
                <a:path w="1657" h="1485">
                  <a:moveTo>
                    <a:pt x="272" y="727"/>
                  </a:moveTo>
                  <a:lnTo>
                    <a:pt x="244" y="745"/>
                  </a:lnTo>
                  <a:lnTo>
                    <a:pt x="351" y="844"/>
                  </a:lnTo>
                  <a:lnTo>
                    <a:pt x="300" y="929"/>
                  </a:lnTo>
                  <a:lnTo>
                    <a:pt x="198" y="1000"/>
                  </a:lnTo>
                  <a:lnTo>
                    <a:pt x="62" y="1000"/>
                  </a:lnTo>
                  <a:lnTo>
                    <a:pt x="129" y="1077"/>
                  </a:lnTo>
                  <a:lnTo>
                    <a:pt x="292" y="1192"/>
                  </a:lnTo>
                  <a:lnTo>
                    <a:pt x="156" y="1226"/>
                  </a:lnTo>
                  <a:lnTo>
                    <a:pt x="0" y="1171"/>
                  </a:lnTo>
                  <a:lnTo>
                    <a:pt x="132" y="1321"/>
                  </a:lnTo>
                  <a:lnTo>
                    <a:pt x="277" y="1485"/>
                  </a:lnTo>
                  <a:lnTo>
                    <a:pt x="438" y="1485"/>
                  </a:lnTo>
                  <a:lnTo>
                    <a:pt x="634" y="1402"/>
                  </a:lnTo>
                  <a:lnTo>
                    <a:pt x="767" y="1272"/>
                  </a:lnTo>
                  <a:lnTo>
                    <a:pt x="670" y="1303"/>
                  </a:lnTo>
                  <a:lnTo>
                    <a:pt x="560" y="1206"/>
                  </a:lnTo>
                  <a:lnTo>
                    <a:pt x="731" y="1182"/>
                  </a:lnTo>
                  <a:lnTo>
                    <a:pt x="892" y="1125"/>
                  </a:lnTo>
                  <a:lnTo>
                    <a:pt x="835" y="1226"/>
                  </a:lnTo>
                  <a:lnTo>
                    <a:pt x="996" y="1116"/>
                  </a:lnTo>
                  <a:lnTo>
                    <a:pt x="1028" y="1070"/>
                  </a:lnTo>
                  <a:lnTo>
                    <a:pt x="1162" y="975"/>
                  </a:lnTo>
                  <a:lnTo>
                    <a:pt x="1215" y="874"/>
                  </a:lnTo>
                  <a:lnTo>
                    <a:pt x="1637" y="134"/>
                  </a:lnTo>
                  <a:lnTo>
                    <a:pt x="1657" y="0"/>
                  </a:lnTo>
                  <a:lnTo>
                    <a:pt x="1162" y="922"/>
                  </a:lnTo>
                  <a:lnTo>
                    <a:pt x="1070" y="984"/>
                  </a:lnTo>
                  <a:lnTo>
                    <a:pt x="920" y="1019"/>
                  </a:lnTo>
                  <a:lnTo>
                    <a:pt x="846" y="1109"/>
                  </a:lnTo>
                  <a:lnTo>
                    <a:pt x="721" y="1141"/>
                  </a:lnTo>
                  <a:lnTo>
                    <a:pt x="634" y="1125"/>
                  </a:lnTo>
                  <a:lnTo>
                    <a:pt x="593" y="1077"/>
                  </a:lnTo>
                  <a:lnTo>
                    <a:pt x="560" y="975"/>
                  </a:lnTo>
                  <a:lnTo>
                    <a:pt x="549" y="890"/>
                  </a:lnTo>
                  <a:lnTo>
                    <a:pt x="650" y="855"/>
                  </a:lnTo>
                  <a:lnTo>
                    <a:pt x="634" y="835"/>
                  </a:lnTo>
                  <a:lnTo>
                    <a:pt x="525" y="844"/>
                  </a:lnTo>
                  <a:lnTo>
                    <a:pt x="394" y="800"/>
                  </a:lnTo>
                  <a:lnTo>
                    <a:pt x="303" y="745"/>
                  </a:lnTo>
                  <a:lnTo>
                    <a:pt x="272" y="7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962120" y="3883320"/>
              <a:ext cx="71280" cy="28800"/>
            </a:xfrm>
            <a:custGeom>
              <a:avLst/>
              <a:gdLst/>
              <a:ahLst/>
              <a:rect l="l" t="t" r="r" b="b"/>
              <a:pathLst>
                <a:path w="934" h="431">
                  <a:moveTo>
                    <a:pt x="152" y="83"/>
                  </a:moveTo>
                  <a:lnTo>
                    <a:pt x="152" y="0"/>
                  </a:lnTo>
                  <a:lnTo>
                    <a:pt x="77" y="0"/>
                  </a:lnTo>
                  <a:lnTo>
                    <a:pt x="0" y="64"/>
                  </a:lnTo>
                  <a:lnTo>
                    <a:pt x="33" y="219"/>
                  </a:lnTo>
                  <a:lnTo>
                    <a:pt x="152" y="114"/>
                  </a:lnTo>
                  <a:lnTo>
                    <a:pt x="418" y="205"/>
                  </a:lnTo>
                  <a:lnTo>
                    <a:pt x="485" y="259"/>
                  </a:lnTo>
                  <a:lnTo>
                    <a:pt x="611" y="259"/>
                  </a:lnTo>
                  <a:lnTo>
                    <a:pt x="844" y="316"/>
                  </a:lnTo>
                  <a:lnTo>
                    <a:pt x="842" y="387"/>
                  </a:lnTo>
                  <a:lnTo>
                    <a:pt x="888" y="431"/>
                  </a:lnTo>
                  <a:lnTo>
                    <a:pt x="934" y="367"/>
                  </a:lnTo>
                  <a:lnTo>
                    <a:pt x="881" y="254"/>
                  </a:lnTo>
                  <a:lnTo>
                    <a:pt x="844" y="265"/>
                  </a:lnTo>
                  <a:lnTo>
                    <a:pt x="620" y="219"/>
                  </a:lnTo>
                  <a:lnTo>
                    <a:pt x="521" y="228"/>
                  </a:lnTo>
                  <a:lnTo>
                    <a:pt x="482" y="171"/>
                  </a:lnTo>
                  <a:lnTo>
                    <a:pt x="194" y="99"/>
                  </a:lnTo>
                  <a:lnTo>
                    <a:pt x="15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990200" y="3864600"/>
              <a:ext cx="36000" cy="31320"/>
            </a:xfrm>
            <a:custGeom>
              <a:avLst/>
              <a:gdLst/>
              <a:ahLst/>
              <a:rect l="l" t="t" r="r" b="b"/>
              <a:pathLst>
                <a:path w="472" h="465">
                  <a:moveTo>
                    <a:pt x="28" y="113"/>
                  </a:moveTo>
                  <a:lnTo>
                    <a:pt x="64" y="96"/>
                  </a:lnTo>
                  <a:lnTo>
                    <a:pt x="154" y="195"/>
                  </a:lnTo>
                  <a:lnTo>
                    <a:pt x="248" y="206"/>
                  </a:lnTo>
                  <a:lnTo>
                    <a:pt x="302" y="159"/>
                  </a:lnTo>
                  <a:lnTo>
                    <a:pt x="309" y="0"/>
                  </a:lnTo>
                  <a:lnTo>
                    <a:pt x="345" y="168"/>
                  </a:lnTo>
                  <a:lnTo>
                    <a:pt x="391" y="242"/>
                  </a:lnTo>
                  <a:lnTo>
                    <a:pt x="472" y="242"/>
                  </a:lnTo>
                  <a:lnTo>
                    <a:pt x="470" y="263"/>
                  </a:lnTo>
                  <a:lnTo>
                    <a:pt x="345" y="270"/>
                  </a:lnTo>
                  <a:lnTo>
                    <a:pt x="224" y="292"/>
                  </a:lnTo>
                  <a:lnTo>
                    <a:pt x="217" y="410"/>
                  </a:lnTo>
                  <a:lnTo>
                    <a:pt x="154" y="401"/>
                  </a:lnTo>
                  <a:lnTo>
                    <a:pt x="149" y="465"/>
                  </a:lnTo>
                  <a:lnTo>
                    <a:pt x="110" y="391"/>
                  </a:lnTo>
                  <a:lnTo>
                    <a:pt x="173" y="270"/>
                  </a:lnTo>
                  <a:lnTo>
                    <a:pt x="92" y="175"/>
                  </a:lnTo>
                  <a:lnTo>
                    <a:pt x="11" y="175"/>
                  </a:lnTo>
                  <a:lnTo>
                    <a:pt x="0" y="145"/>
                  </a:lnTo>
                  <a:lnTo>
                    <a:pt x="2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8013960" y="3835440"/>
              <a:ext cx="70200" cy="42480"/>
            </a:xfrm>
            <a:custGeom>
              <a:avLst/>
              <a:gdLst/>
              <a:ahLst/>
              <a:rect l="l" t="t" r="r" b="b"/>
              <a:pathLst>
                <a:path w="924" h="640">
                  <a:moveTo>
                    <a:pt x="36" y="71"/>
                  </a:moveTo>
                  <a:lnTo>
                    <a:pt x="92" y="92"/>
                  </a:lnTo>
                  <a:lnTo>
                    <a:pt x="75" y="177"/>
                  </a:lnTo>
                  <a:lnTo>
                    <a:pt x="29" y="334"/>
                  </a:lnTo>
                  <a:lnTo>
                    <a:pt x="0" y="517"/>
                  </a:lnTo>
                  <a:lnTo>
                    <a:pt x="25" y="613"/>
                  </a:lnTo>
                  <a:lnTo>
                    <a:pt x="42" y="431"/>
                  </a:lnTo>
                  <a:lnTo>
                    <a:pt x="92" y="304"/>
                  </a:lnTo>
                  <a:lnTo>
                    <a:pt x="132" y="517"/>
                  </a:lnTo>
                  <a:lnTo>
                    <a:pt x="128" y="594"/>
                  </a:lnTo>
                  <a:lnTo>
                    <a:pt x="178" y="535"/>
                  </a:lnTo>
                  <a:lnTo>
                    <a:pt x="477" y="640"/>
                  </a:lnTo>
                  <a:lnTo>
                    <a:pt x="601" y="620"/>
                  </a:lnTo>
                  <a:lnTo>
                    <a:pt x="694" y="565"/>
                  </a:lnTo>
                  <a:lnTo>
                    <a:pt x="756" y="480"/>
                  </a:lnTo>
                  <a:lnTo>
                    <a:pt x="811" y="408"/>
                  </a:lnTo>
                  <a:lnTo>
                    <a:pt x="680" y="565"/>
                  </a:lnTo>
                  <a:lnTo>
                    <a:pt x="601" y="594"/>
                  </a:lnTo>
                  <a:lnTo>
                    <a:pt x="500" y="604"/>
                  </a:lnTo>
                  <a:lnTo>
                    <a:pt x="424" y="594"/>
                  </a:lnTo>
                  <a:lnTo>
                    <a:pt x="334" y="558"/>
                  </a:lnTo>
                  <a:lnTo>
                    <a:pt x="246" y="466"/>
                  </a:lnTo>
                  <a:lnTo>
                    <a:pt x="253" y="359"/>
                  </a:lnTo>
                  <a:lnTo>
                    <a:pt x="394" y="480"/>
                  </a:lnTo>
                  <a:lnTo>
                    <a:pt x="420" y="414"/>
                  </a:lnTo>
                  <a:lnTo>
                    <a:pt x="299" y="238"/>
                  </a:lnTo>
                  <a:lnTo>
                    <a:pt x="299" y="141"/>
                  </a:lnTo>
                  <a:lnTo>
                    <a:pt x="429" y="133"/>
                  </a:lnTo>
                  <a:lnTo>
                    <a:pt x="477" y="157"/>
                  </a:lnTo>
                  <a:lnTo>
                    <a:pt x="429" y="258"/>
                  </a:lnTo>
                  <a:lnTo>
                    <a:pt x="530" y="293"/>
                  </a:lnTo>
                  <a:lnTo>
                    <a:pt x="659" y="293"/>
                  </a:lnTo>
                  <a:lnTo>
                    <a:pt x="671" y="271"/>
                  </a:lnTo>
                  <a:lnTo>
                    <a:pt x="552" y="141"/>
                  </a:lnTo>
                  <a:lnTo>
                    <a:pt x="694" y="166"/>
                  </a:lnTo>
                  <a:lnTo>
                    <a:pt x="842" y="238"/>
                  </a:lnTo>
                  <a:lnTo>
                    <a:pt x="827" y="348"/>
                  </a:lnTo>
                  <a:lnTo>
                    <a:pt x="866" y="286"/>
                  </a:lnTo>
                  <a:lnTo>
                    <a:pt x="912" y="274"/>
                  </a:lnTo>
                  <a:lnTo>
                    <a:pt x="924" y="223"/>
                  </a:lnTo>
                  <a:lnTo>
                    <a:pt x="650" y="104"/>
                  </a:lnTo>
                  <a:lnTo>
                    <a:pt x="585" y="36"/>
                  </a:lnTo>
                  <a:lnTo>
                    <a:pt x="369" y="0"/>
                  </a:lnTo>
                  <a:lnTo>
                    <a:pt x="223" y="5"/>
                  </a:lnTo>
                  <a:lnTo>
                    <a:pt x="189" y="58"/>
                  </a:lnTo>
                  <a:lnTo>
                    <a:pt x="46" y="11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8039880" y="3843720"/>
              <a:ext cx="4680" cy="61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0" y="0"/>
                  </a:moveTo>
                  <a:lnTo>
                    <a:pt x="18" y="90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960680" y="3813480"/>
              <a:ext cx="58320" cy="21600"/>
            </a:xfrm>
            <a:custGeom>
              <a:avLst/>
              <a:gdLst/>
              <a:ahLst/>
              <a:rect l="l" t="t" r="r" b="b"/>
              <a:pathLst>
                <a:path w="774" h="328">
                  <a:moveTo>
                    <a:pt x="759" y="328"/>
                  </a:moveTo>
                  <a:lnTo>
                    <a:pt x="774" y="293"/>
                  </a:lnTo>
                  <a:lnTo>
                    <a:pt x="678" y="185"/>
                  </a:lnTo>
                  <a:lnTo>
                    <a:pt x="443" y="46"/>
                  </a:lnTo>
                  <a:lnTo>
                    <a:pt x="270" y="64"/>
                  </a:lnTo>
                  <a:lnTo>
                    <a:pt x="173" y="2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51" y="64"/>
                  </a:lnTo>
                  <a:lnTo>
                    <a:pt x="245" y="104"/>
                  </a:lnTo>
                  <a:lnTo>
                    <a:pt x="337" y="127"/>
                  </a:lnTo>
                  <a:lnTo>
                    <a:pt x="452" y="134"/>
                  </a:lnTo>
                  <a:lnTo>
                    <a:pt x="607" y="219"/>
                  </a:lnTo>
                  <a:lnTo>
                    <a:pt x="706" y="300"/>
                  </a:lnTo>
                  <a:lnTo>
                    <a:pt x="735" y="328"/>
                  </a:lnTo>
                  <a:lnTo>
                    <a:pt x="75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957800" y="3816720"/>
              <a:ext cx="61560" cy="43560"/>
            </a:xfrm>
            <a:custGeom>
              <a:avLst/>
              <a:gdLst/>
              <a:ahLst/>
              <a:rect l="l" t="t" r="r" b="b"/>
              <a:pathLst>
                <a:path w="807" h="655">
                  <a:moveTo>
                    <a:pt x="132" y="32"/>
                  </a:moveTo>
                  <a:lnTo>
                    <a:pt x="88" y="93"/>
                  </a:lnTo>
                  <a:lnTo>
                    <a:pt x="51" y="227"/>
                  </a:lnTo>
                  <a:lnTo>
                    <a:pt x="37" y="359"/>
                  </a:lnTo>
                  <a:lnTo>
                    <a:pt x="77" y="466"/>
                  </a:lnTo>
                  <a:lnTo>
                    <a:pt x="132" y="535"/>
                  </a:lnTo>
                  <a:lnTo>
                    <a:pt x="249" y="595"/>
                  </a:lnTo>
                  <a:lnTo>
                    <a:pt x="383" y="634"/>
                  </a:lnTo>
                  <a:lnTo>
                    <a:pt x="501" y="625"/>
                  </a:lnTo>
                  <a:lnTo>
                    <a:pt x="581" y="595"/>
                  </a:lnTo>
                  <a:lnTo>
                    <a:pt x="651" y="551"/>
                  </a:lnTo>
                  <a:lnTo>
                    <a:pt x="708" y="480"/>
                  </a:lnTo>
                  <a:lnTo>
                    <a:pt x="761" y="392"/>
                  </a:lnTo>
                  <a:lnTo>
                    <a:pt x="409" y="480"/>
                  </a:lnTo>
                  <a:lnTo>
                    <a:pt x="480" y="381"/>
                  </a:lnTo>
                  <a:lnTo>
                    <a:pt x="576" y="359"/>
                  </a:lnTo>
                  <a:lnTo>
                    <a:pt x="736" y="359"/>
                  </a:lnTo>
                  <a:lnTo>
                    <a:pt x="807" y="288"/>
                  </a:lnTo>
                  <a:lnTo>
                    <a:pt x="807" y="359"/>
                  </a:lnTo>
                  <a:lnTo>
                    <a:pt x="708" y="530"/>
                  </a:lnTo>
                  <a:lnTo>
                    <a:pt x="611" y="611"/>
                  </a:lnTo>
                  <a:lnTo>
                    <a:pt x="491" y="636"/>
                  </a:lnTo>
                  <a:lnTo>
                    <a:pt x="383" y="655"/>
                  </a:lnTo>
                  <a:lnTo>
                    <a:pt x="222" y="611"/>
                  </a:lnTo>
                  <a:lnTo>
                    <a:pt x="88" y="530"/>
                  </a:lnTo>
                  <a:lnTo>
                    <a:pt x="26" y="434"/>
                  </a:lnTo>
                  <a:lnTo>
                    <a:pt x="0" y="282"/>
                  </a:lnTo>
                  <a:lnTo>
                    <a:pt x="26" y="117"/>
                  </a:lnTo>
                  <a:lnTo>
                    <a:pt x="95" y="0"/>
                  </a:lnTo>
                  <a:lnTo>
                    <a:pt x="1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978680" y="3825000"/>
              <a:ext cx="31680" cy="12600"/>
            </a:xfrm>
            <a:custGeom>
              <a:avLst/>
              <a:gdLst/>
              <a:ahLst/>
              <a:rect l="l" t="t" r="r" b="b"/>
              <a:pathLst>
                <a:path w="412" h="189">
                  <a:moveTo>
                    <a:pt x="15" y="110"/>
                  </a:moveTo>
                  <a:lnTo>
                    <a:pt x="0" y="50"/>
                  </a:lnTo>
                  <a:lnTo>
                    <a:pt x="34" y="0"/>
                  </a:lnTo>
                  <a:lnTo>
                    <a:pt x="207" y="0"/>
                  </a:lnTo>
                  <a:lnTo>
                    <a:pt x="393" y="99"/>
                  </a:lnTo>
                  <a:lnTo>
                    <a:pt x="412" y="160"/>
                  </a:lnTo>
                  <a:lnTo>
                    <a:pt x="378" y="189"/>
                  </a:lnTo>
                  <a:lnTo>
                    <a:pt x="165" y="185"/>
                  </a:lnTo>
                  <a:lnTo>
                    <a:pt x="200" y="154"/>
                  </a:lnTo>
                  <a:lnTo>
                    <a:pt x="154" y="119"/>
                  </a:lnTo>
                  <a:lnTo>
                    <a:pt x="165" y="84"/>
                  </a:lnTo>
                  <a:lnTo>
                    <a:pt x="200" y="84"/>
                  </a:lnTo>
                  <a:lnTo>
                    <a:pt x="165" y="50"/>
                  </a:lnTo>
                  <a:lnTo>
                    <a:pt x="55" y="68"/>
                  </a:lnTo>
                  <a:lnTo>
                    <a:pt x="1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8071560" y="3850200"/>
              <a:ext cx="28440" cy="33840"/>
            </a:xfrm>
            <a:custGeom>
              <a:avLst/>
              <a:gdLst/>
              <a:ahLst/>
              <a:rect l="l" t="t" r="r" b="b"/>
              <a:pathLst>
                <a:path w="374" h="514">
                  <a:moveTo>
                    <a:pt x="0" y="492"/>
                  </a:moveTo>
                  <a:lnTo>
                    <a:pt x="64" y="514"/>
                  </a:lnTo>
                  <a:lnTo>
                    <a:pt x="136" y="485"/>
                  </a:lnTo>
                  <a:lnTo>
                    <a:pt x="231" y="371"/>
                  </a:lnTo>
                  <a:lnTo>
                    <a:pt x="297" y="243"/>
                  </a:lnTo>
                  <a:lnTo>
                    <a:pt x="369" y="95"/>
                  </a:lnTo>
                  <a:lnTo>
                    <a:pt x="374" y="12"/>
                  </a:lnTo>
                  <a:lnTo>
                    <a:pt x="359" y="0"/>
                  </a:lnTo>
                  <a:lnTo>
                    <a:pt x="334" y="100"/>
                  </a:lnTo>
                  <a:lnTo>
                    <a:pt x="255" y="277"/>
                  </a:lnTo>
                  <a:lnTo>
                    <a:pt x="168" y="426"/>
                  </a:lnTo>
                  <a:lnTo>
                    <a:pt x="110" y="452"/>
                  </a:lnTo>
                  <a:lnTo>
                    <a:pt x="64" y="381"/>
                  </a:lnTo>
                  <a:lnTo>
                    <a:pt x="0" y="452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8084880" y="3854520"/>
              <a:ext cx="6480" cy="15480"/>
            </a:xfrm>
            <a:custGeom>
              <a:avLst/>
              <a:gdLst/>
              <a:ahLst/>
              <a:rect l="l" t="t" r="r" b="b"/>
              <a:pathLst>
                <a:path w="85" h="233">
                  <a:moveTo>
                    <a:pt x="0" y="134"/>
                  </a:moveTo>
                  <a:lnTo>
                    <a:pt x="14" y="233"/>
                  </a:lnTo>
                  <a:lnTo>
                    <a:pt x="85" y="122"/>
                  </a:lnTo>
                  <a:lnTo>
                    <a:pt x="82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956000" y="3807360"/>
              <a:ext cx="7200" cy="20520"/>
            </a:xfrm>
            <a:custGeom>
              <a:avLst/>
              <a:gdLst/>
              <a:ahLst/>
              <a:rect l="l" t="t" r="r" b="b"/>
              <a:pathLst>
                <a:path w="103" h="311">
                  <a:moveTo>
                    <a:pt x="103" y="180"/>
                  </a:moveTo>
                  <a:lnTo>
                    <a:pt x="33" y="0"/>
                  </a:lnTo>
                  <a:lnTo>
                    <a:pt x="0" y="57"/>
                  </a:lnTo>
                  <a:lnTo>
                    <a:pt x="52" y="311"/>
                  </a:lnTo>
                  <a:lnTo>
                    <a:pt x="103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8076960" y="3850200"/>
              <a:ext cx="17640" cy="9360"/>
            </a:xfrm>
            <a:custGeom>
              <a:avLst/>
              <a:gdLst/>
              <a:ahLst/>
              <a:rect l="l" t="t" r="r" b="b"/>
              <a:pathLst>
                <a:path w="231" h="149">
                  <a:moveTo>
                    <a:pt x="51" y="51"/>
                  </a:moveTo>
                  <a:lnTo>
                    <a:pt x="231" y="0"/>
                  </a:lnTo>
                  <a:lnTo>
                    <a:pt x="222" y="35"/>
                  </a:lnTo>
                  <a:lnTo>
                    <a:pt x="0" y="149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8025480" y="3876480"/>
              <a:ext cx="12240" cy="25920"/>
            </a:xfrm>
            <a:custGeom>
              <a:avLst/>
              <a:gdLst/>
              <a:ahLst/>
              <a:rect l="l" t="t" r="r" b="b"/>
              <a:pathLst>
                <a:path w="161" h="392">
                  <a:moveTo>
                    <a:pt x="0" y="76"/>
                  </a:moveTo>
                  <a:lnTo>
                    <a:pt x="13" y="0"/>
                  </a:lnTo>
                  <a:lnTo>
                    <a:pt x="161" y="216"/>
                  </a:lnTo>
                  <a:lnTo>
                    <a:pt x="117" y="392"/>
                  </a:lnTo>
                  <a:lnTo>
                    <a:pt x="57" y="277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962480" y="3866400"/>
              <a:ext cx="28440" cy="16920"/>
            </a:xfrm>
            <a:custGeom>
              <a:avLst/>
              <a:gdLst/>
              <a:ahLst/>
              <a:rect l="l" t="t" r="r" b="b"/>
              <a:pathLst>
                <a:path w="376" h="258">
                  <a:moveTo>
                    <a:pt x="376" y="0"/>
                  </a:moveTo>
                  <a:lnTo>
                    <a:pt x="257" y="159"/>
                  </a:lnTo>
                  <a:lnTo>
                    <a:pt x="83" y="207"/>
                  </a:lnTo>
                  <a:lnTo>
                    <a:pt x="0" y="258"/>
                  </a:lnTo>
                  <a:lnTo>
                    <a:pt x="145" y="85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758000" y="3876480"/>
              <a:ext cx="177120" cy="106200"/>
            </a:xfrm>
            <a:custGeom>
              <a:avLst/>
              <a:gdLst/>
              <a:ahLst/>
              <a:rect l="l" t="t" r="r" b="b"/>
              <a:pathLst>
                <a:path w="2322" h="1591">
                  <a:moveTo>
                    <a:pt x="337" y="1464"/>
                  </a:moveTo>
                  <a:lnTo>
                    <a:pt x="92" y="1187"/>
                  </a:lnTo>
                  <a:lnTo>
                    <a:pt x="16" y="929"/>
                  </a:lnTo>
                  <a:lnTo>
                    <a:pt x="0" y="784"/>
                  </a:lnTo>
                  <a:lnTo>
                    <a:pt x="142" y="613"/>
                  </a:lnTo>
                  <a:lnTo>
                    <a:pt x="491" y="447"/>
                  </a:lnTo>
                  <a:lnTo>
                    <a:pt x="1063" y="251"/>
                  </a:lnTo>
                  <a:lnTo>
                    <a:pt x="1584" y="157"/>
                  </a:lnTo>
                  <a:lnTo>
                    <a:pt x="2021" y="117"/>
                  </a:lnTo>
                  <a:lnTo>
                    <a:pt x="2322" y="0"/>
                  </a:lnTo>
                  <a:lnTo>
                    <a:pt x="2166" y="117"/>
                  </a:lnTo>
                  <a:lnTo>
                    <a:pt x="2036" y="297"/>
                  </a:lnTo>
                  <a:lnTo>
                    <a:pt x="1975" y="583"/>
                  </a:lnTo>
                  <a:lnTo>
                    <a:pt x="1959" y="807"/>
                  </a:lnTo>
                  <a:lnTo>
                    <a:pt x="1959" y="1099"/>
                  </a:lnTo>
                  <a:lnTo>
                    <a:pt x="1944" y="1307"/>
                  </a:lnTo>
                  <a:lnTo>
                    <a:pt x="1849" y="1591"/>
                  </a:lnTo>
                  <a:lnTo>
                    <a:pt x="1819" y="1561"/>
                  </a:lnTo>
                  <a:lnTo>
                    <a:pt x="1898" y="1337"/>
                  </a:lnTo>
                  <a:lnTo>
                    <a:pt x="1929" y="1136"/>
                  </a:lnTo>
                  <a:lnTo>
                    <a:pt x="1929" y="807"/>
                  </a:lnTo>
                  <a:lnTo>
                    <a:pt x="1944" y="508"/>
                  </a:lnTo>
                  <a:lnTo>
                    <a:pt x="1863" y="383"/>
                  </a:lnTo>
                  <a:lnTo>
                    <a:pt x="1692" y="297"/>
                  </a:lnTo>
                  <a:lnTo>
                    <a:pt x="1439" y="251"/>
                  </a:lnTo>
                  <a:lnTo>
                    <a:pt x="1263" y="238"/>
                  </a:lnTo>
                  <a:lnTo>
                    <a:pt x="1074" y="266"/>
                  </a:lnTo>
                  <a:lnTo>
                    <a:pt x="474" y="457"/>
                  </a:lnTo>
                  <a:lnTo>
                    <a:pt x="127" y="688"/>
                  </a:lnTo>
                  <a:lnTo>
                    <a:pt x="81" y="869"/>
                  </a:lnTo>
                  <a:lnTo>
                    <a:pt x="81" y="1040"/>
                  </a:lnTo>
                  <a:lnTo>
                    <a:pt x="142" y="1211"/>
                  </a:lnTo>
                  <a:lnTo>
                    <a:pt x="337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747920" y="3945240"/>
              <a:ext cx="214920" cy="275400"/>
            </a:xfrm>
            <a:custGeom>
              <a:avLst/>
              <a:gdLst/>
              <a:ahLst/>
              <a:rect l="l" t="t" r="r" b="b"/>
              <a:pathLst>
                <a:path w="2817" h="4129">
                  <a:moveTo>
                    <a:pt x="61" y="0"/>
                  </a:moveTo>
                  <a:lnTo>
                    <a:pt x="79" y="122"/>
                  </a:lnTo>
                  <a:lnTo>
                    <a:pt x="156" y="299"/>
                  </a:lnTo>
                  <a:lnTo>
                    <a:pt x="285" y="470"/>
                  </a:lnTo>
                  <a:lnTo>
                    <a:pt x="470" y="662"/>
                  </a:lnTo>
                  <a:lnTo>
                    <a:pt x="802" y="910"/>
                  </a:lnTo>
                  <a:lnTo>
                    <a:pt x="1350" y="1369"/>
                  </a:lnTo>
                  <a:lnTo>
                    <a:pt x="1138" y="829"/>
                  </a:lnTo>
                  <a:lnTo>
                    <a:pt x="1454" y="1305"/>
                  </a:lnTo>
                  <a:lnTo>
                    <a:pt x="1677" y="1664"/>
                  </a:lnTo>
                  <a:lnTo>
                    <a:pt x="1868" y="1950"/>
                  </a:lnTo>
                  <a:lnTo>
                    <a:pt x="2037" y="2215"/>
                  </a:lnTo>
                  <a:lnTo>
                    <a:pt x="2180" y="2361"/>
                  </a:lnTo>
                  <a:lnTo>
                    <a:pt x="2475" y="2672"/>
                  </a:lnTo>
                  <a:lnTo>
                    <a:pt x="2242" y="2056"/>
                  </a:lnTo>
                  <a:lnTo>
                    <a:pt x="2009" y="1492"/>
                  </a:lnTo>
                  <a:lnTo>
                    <a:pt x="1772" y="959"/>
                  </a:lnTo>
                  <a:lnTo>
                    <a:pt x="1624" y="583"/>
                  </a:lnTo>
                  <a:lnTo>
                    <a:pt x="1595" y="470"/>
                  </a:lnTo>
                  <a:lnTo>
                    <a:pt x="1646" y="427"/>
                  </a:lnTo>
                  <a:lnTo>
                    <a:pt x="1989" y="535"/>
                  </a:lnTo>
                  <a:lnTo>
                    <a:pt x="2307" y="726"/>
                  </a:lnTo>
                  <a:lnTo>
                    <a:pt x="2463" y="851"/>
                  </a:lnTo>
                  <a:lnTo>
                    <a:pt x="2162" y="669"/>
                  </a:lnTo>
                  <a:lnTo>
                    <a:pt x="1835" y="548"/>
                  </a:lnTo>
                  <a:lnTo>
                    <a:pt x="1657" y="486"/>
                  </a:lnTo>
                  <a:lnTo>
                    <a:pt x="2009" y="1291"/>
                  </a:lnTo>
                  <a:lnTo>
                    <a:pt x="2364" y="2150"/>
                  </a:lnTo>
                  <a:lnTo>
                    <a:pt x="2635" y="2879"/>
                  </a:lnTo>
                  <a:lnTo>
                    <a:pt x="2817" y="3350"/>
                  </a:lnTo>
                  <a:lnTo>
                    <a:pt x="2560" y="3350"/>
                  </a:lnTo>
                  <a:lnTo>
                    <a:pt x="2261" y="3534"/>
                  </a:lnTo>
                  <a:lnTo>
                    <a:pt x="2055" y="3758"/>
                  </a:lnTo>
                  <a:lnTo>
                    <a:pt x="1989" y="3930"/>
                  </a:lnTo>
                  <a:lnTo>
                    <a:pt x="1945" y="4129"/>
                  </a:lnTo>
                  <a:lnTo>
                    <a:pt x="1945" y="3899"/>
                  </a:lnTo>
                  <a:lnTo>
                    <a:pt x="2009" y="3695"/>
                  </a:lnTo>
                  <a:lnTo>
                    <a:pt x="2147" y="3559"/>
                  </a:lnTo>
                  <a:lnTo>
                    <a:pt x="2429" y="3332"/>
                  </a:lnTo>
                  <a:lnTo>
                    <a:pt x="2136" y="3255"/>
                  </a:lnTo>
                  <a:lnTo>
                    <a:pt x="2085" y="3317"/>
                  </a:lnTo>
                  <a:lnTo>
                    <a:pt x="2009" y="3271"/>
                  </a:lnTo>
                  <a:lnTo>
                    <a:pt x="1989" y="3064"/>
                  </a:lnTo>
                  <a:lnTo>
                    <a:pt x="1835" y="3015"/>
                  </a:lnTo>
                  <a:lnTo>
                    <a:pt x="1200" y="3368"/>
                  </a:lnTo>
                  <a:lnTo>
                    <a:pt x="1138" y="3633"/>
                  </a:lnTo>
                  <a:lnTo>
                    <a:pt x="1565" y="3396"/>
                  </a:lnTo>
                  <a:lnTo>
                    <a:pt x="1090" y="3695"/>
                  </a:lnTo>
                  <a:lnTo>
                    <a:pt x="912" y="3899"/>
                  </a:lnTo>
                  <a:lnTo>
                    <a:pt x="1009" y="3984"/>
                  </a:lnTo>
                  <a:lnTo>
                    <a:pt x="1406" y="3608"/>
                  </a:lnTo>
                  <a:lnTo>
                    <a:pt x="1360" y="3804"/>
                  </a:lnTo>
                  <a:lnTo>
                    <a:pt x="1565" y="4071"/>
                  </a:lnTo>
                  <a:lnTo>
                    <a:pt x="936" y="4044"/>
                  </a:lnTo>
                  <a:lnTo>
                    <a:pt x="741" y="3949"/>
                  </a:lnTo>
                  <a:lnTo>
                    <a:pt x="600" y="3984"/>
                  </a:lnTo>
                  <a:lnTo>
                    <a:pt x="218" y="3758"/>
                  </a:lnTo>
                  <a:lnTo>
                    <a:pt x="33" y="3462"/>
                  </a:lnTo>
                  <a:lnTo>
                    <a:pt x="0" y="3130"/>
                  </a:lnTo>
                  <a:lnTo>
                    <a:pt x="79" y="3176"/>
                  </a:lnTo>
                  <a:lnTo>
                    <a:pt x="268" y="2965"/>
                  </a:lnTo>
                  <a:lnTo>
                    <a:pt x="448" y="2923"/>
                  </a:lnTo>
                  <a:lnTo>
                    <a:pt x="378" y="3086"/>
                  </a:lnTo>
                  <a:lnTo>
                    <a:pt x="378" y="3281"/>
                  </a:lnTo>
                  <a:lnTo>
                    <a:pt x="901" y="3050"/>
                  </a:lnTo>
                  <a:lnTo>
                    <a:pt x="1026" y="3064"/>
                  </a:lnTo>
                  <a:lnTo>
                    <a:pt x="681" y="3306"/>
                  </a:lnTo>
                  <a:lnTo>
                    <a:pt x="681" y="3462"/>
                  </a:lnTo>
                  <a:lnTo>
                    <a:pt x="1189" y="3189"/>
                  </a:lnTo>
                  <a:lnTo>
                    <a:pt x="1360" y="3189"/>
                  </a:lnTo>
                  <a:lnTo>
                    <a:pt x="1578" y="3064"/>
                  </a:lnTo>
                  <a:lnTo>
                    <a:pt x="1486" y="2907"/>
                  </a:lnTo>
                  <a:lnTo>
                    <a:pt x="1263" y="2767"/>
                  </a:lnTo>
                  <a:lnTo>
                    <a:pt x="1026" y="2688"/>
                  </a:lnTo>
                  <a:lnTo>
                    <a:pt x="802" y="2672"/>
                  </a:lnTo>
                  <a:lnTo>
                    <a:pt x="912" y="2612"/>
                  </a:lnTo>
                  <a:lnTo>
                    <a:pt x="741" y="2563"/>
                  </a:lnTo>
                  <a:lnTo>
                    <a:pt x="518" y="2612"/>
                  </a:lnTo>
                  <a:lnTo>
                    <a:pt x="331" y="2688"/>
                  </a:lnTo>
                  <a:lnTo>
                    <a:pt x="79" y="2855"/>
                  </a:lnTo>
                  <a:lnTo>
                    <a:pt x="393" y="2626"/>
                  </a:lnTo>
                  <a:lnTo>
                    <a:pt x="710" y="2517"/>
                  </a:lnTo>
                  <a:lnTo>
                    <a:pt x="947" y="2481"/>
                  </a:lnTo>
                  <a:lnTo>
                    <a:pt x="1122" y="2481"/>
                  </a:lnTo>
                  <a:lnTo>
                    <a:pt x="1360" y="2330"/>
                  </a:lnTo>
                  <a:lnTo>
                    <a:pt x="1350" y="2215"/>
                  </a:lnTo>
                  <a:lnTo>
                    <a:pt x="539" y="2422"/>
                  </a:lnTo>
                  <a:lnTo>
                    <a:pt x="993" y="2169"/>
                  </a:lnTo>
                  <a:lnTo>
                    <a:pt x="1215" y="2169"/>
                  </a:lnTo>
                  <a:lnTo>
                    <a:pt x="1251" y="2119"/>
                  </a:lnTo>
                  <a:lnTo>
                    <a:pt x="1286" y="1980"/>
                  </a:lnTo>
                  <a:lnTo>
                    <a:pt x="1251" y="1747"/>
                  </a:lnTo>
                  <a:lnTo>
                    <a:pt x="1138" y="1556"/>
                  </a:lnTo>
                  <a:lnTo>
                    <a:pt x="963" y="1337"/>
                  </a:lnTo>
                  <a:lnTo>
                    <a:pt x="730" y="1088"/>
                  </a:lnTo>
                  <a:lnTo>
                    <a:pt x="507" y="882"/>
                  </a:lnTo>
                  <a:lnTo>
                    <a:pt x="378" y="741"/>
                  </a:lnTo>
                  <a:lnTo>
                    <a:pt x="378" y="882"/>
                  </a:lnTo>
                  <a:lnTo>
                    <a:pt x="463" y="1042"/>
                  </a:lnTo>
                  <a:lnTo>
                    <a:pt x="741" y="1358"/>
                  </a:lnTo>
                  <a:lnTo>
                    <a:pt x="463" y="1165"/>
                  </a:lnTo>
                  <a:lnTo>
                    <a:pt x="207" y="1042"/>
                  </a:lnTo>
                  <a:lnTo>
                    <a:pt x="156" y="1007"/>
                  </a:lnTo>
                  <a:lnTo>
                    <a:pt x="79" y="1270"/>
                  </a:lnTo>
                  <a:lnTo>
                    <a:pt x="94" y="814"/>
                  </a:lnTo>
                  <a:lnTo>
                    <a:pt x="110" y="438"/>
                  </a:lnTo>
                  <a:lnTo>
                    <a:pt x="50" y="12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743600" y="4031280"/>
              <a:ext cx="67680" cy="105480"/>
            </a:xfrm>
            <a:custGeom>
              <a:avLst/>
              <a:gdLst/>
              <a:ahLst/>
              <a:rect l="l" t="t" r="r" b="b"/>
              <a:pathLst>
                <a:path w="884" h="1588">
                  <a:moveTo>
                    <a:pt x="42" y="0"/>
                  </a:moveTo>
                  <a:lnTo>
                    <a:pt x="10" y="105"/>
                  </a:lnTo>
                  <a:lnTo>
                    <a:pt x="10" y="215"/>
                  </a:lnTo>
                  <a:lnTo>
                    <a:pt x="107" y="360"/>
                  </a:lnTo>
                  <a:lnTo>
                    <a:pt x="342" y="498"/>
                  </a:lnTo>
                  <a:lnTo>
                    <a:pt x="884" y="671"/>
                  </a:lnTo>
                  <a:lnTo>
                    <a:pt x="642" y="828"/>
                  </a:lnTo>
                  <a:lnTo>
                    <a:pt x="423" y="1019"/>
                  </a:lnTo>
                  <a:lnTo>
                    <a:pt x="167" y="1272"/>
                  </a:lnTo>
                  <a:lnTo>
                    <a:pt x="42" y="1588"/>
                  </a:lnTo>
                  <a:lnTo>
                    <a:pt x="136" y="1247"/>
                  </a:lnTo>
                  <a:lnTo>
                    <a:pt x="167" y="945"/>
                  </a:lnTo>
                  <a:lnTo>
                    <a:pt x="183" y="1190"/>
                  </a:lnTo>
                  <a:lnTo>
                    <a:pt x="423" y="909"/>
                  </a:lnTo>
                  <a:lnTo>
                    <a:pt x="520" y="814"/>
                  </a:lnTo>
                  <a:lnTo>
                    <a:pt x="199" y="659"/>
                  </a:lnTo>
                  <a:lnTo>
                    <a:pt x="167" y="828"/>
                  </a:lnTo>
                  <a:lnTo>
                    <a:pt x="118" y="671"/>
                  </a:lnTo>
                  <a:lnTo>
                    <a:pt x="22" y="426"/>
                  </a:lnTo>
                  <a:lnTo>
                    <a:pt x="0" y="235"/>
                  </a:lnTo>
                  <a:lnTo>
                    <a:pt x="0" y="7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755480" y="4032360"/>
              <a:ext cx="93240" cy="52200"/>
            </a:xfrm>
            <a:custGeom>
              <a:avLst/>
              <a:gdLst/>
              <a:ahLst/>
              <a:rect l="l" t="t" r="r" b="b"/>
              <a:pathLst>
                <a:path w="1220" h="786">
                  <a:moveTo>
                    <a:pt x="62" y="18"/>
                  </a:moveTo>
                  <a:lnTo>
                    <a:pt x="223" y="0"/>
                  </a:lnTo>
                  <a:lnTo>
                    <a:pt x="491" y="91"/>
                  </a:lnTo>
                  <a:lnTo>
                    <a:pt x="733" y="251"/>
                  </a:lnTo>
                  <a:lnTo>
                    <a:pt x="1028" y="502"/>
                  </a:lnTo>
                  <a:lnTo>
                    <a:pt x="1220" y="739"/>
                  </a:lnTo>
                  <a:lnTo>
                    <a:pt x="1169" y="786"/>
                  </a:lnTo>
                  <a:lnTo>
                    <a:pt x="996" y="629"/>
                  </a:lnTo>
                  <a:lnTo>
                    <a:pt x="793" y="484"/>
                  </a:lnTo>
                  <a:lnTo>
                    <a:pt x="572" y="376"/>
                  </a:lnTo>
                  <a:lnTo>
                    <a:pt x="376" y="262"/>
                  </a:lnTo>
                  <a:lnTo>
                    <a:pt x="0" y="18"/>
                  </a:lnTo>
                  <a:lnTo>
                    <a:pt x="6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7929000" y="3876480"/>
              <a:ext cx="119520" cy="296640"/>
            </a:xfrm>
            <a:custGeom>
              <a:avLst/>
              <a:gdLst/>
              <a:ahLst/>
              <a:rect l="l" t="t" r="r" b="b"/>
              <a:pathLst>
                <a:path w="1568" h="4437">
                  <a:moveTo>
                    <a:pt x="161" y="83"/>
                  </a:moveTo>
                  <a:lnTo>
                    <a:pt x="99" y="205"/>
                  </a:lnTo>
                  <a:lnTo>
                    <a:pt x="49" y="383"/>
                  </a:lnTo>
                  <a:lnTo>
                    <a:pt x="49" y="583"/>
                  </a:lnTo>
                  <a:lnTo>
                    <a:pt x="99" y="774"/>
                  </a:lnTo>
                  <a:lnTo>
                    <a:pt x="257" y="1090"/>
                  </a:lnTo>
                  <a:lnTo>
                    <a:pt x="431" y="1400"/>
                  </a:lnTo>
                  <a:lnTo>
                    <a:pt x="543" y="1767"/>
                  </a:lnTo>
                  <a:lnTo>
                    <a:pt x="637" y="2172"/>
                  </a:lnTo>
                  <a:lnTo>
                    <a:pt x="719" y="2690"/>
                  </a:lnTo>
                  <a:lnTo>
                    <a:pt x="826" y="3398"/>
                  </a:lnTo>
                  <a:lnTo>
                    <a:pt x="877" y="3846"/>
                  </a:lnTo>
                  <a:lnTo>
                    <a:pt x="1057" y="3270"/>
                  </a:lnTo>
                  <a:lnTo>
                    <a:pt x="1192" y="2743"/>
                  </a:lnTo>
                  <a:lnTo>
                    <a:pt x="1347" y="2033"/>
                  </a:lnTo>
                  <a:lnTo>
                    <a:pt x="1444" y="1496"/>
                  </a:lnTo>
                  <a:lnTo>
                    <a:pt x="1471" y="1148"/>
                  </a:lnTo>
                  <a:lnTo>
                    <a:pt x="1490" y="830"/>
                  </a:lnTo>
                  <a:lnTo>
                    <a:pt x="1506" y="664"/>
                  </a:lnTo>
                  <a:lnTo>
                    <a:pt x="1568" y="567"/>
                  </a:lnTo>
                  <a:lnTo>
                    <a:pt x="1554" y="1169"/>
                  </a:lnTo>
                  <a:lnTo>
                    <a:pt x="1444" y="1908"/>
                  </a:lnTo>
                  <a:lnTo>
                    <a:pt x="1301" y="2582"/>
                  </a:lnTo>
                  <a:lnTo>
                    <a:pt x="1154" y="3195"/>
                  </a:lnTo>
                  <a:lnTo>
                    <a:pt x="971" y="3778"/>
                  </a:lnTo>
                  <a:lnTo>
                    <a:pt x="730" y="4394"/>
                  </a:lnTo>
                  <a:lnTo>
                    <a:pt x="637" y="4437"/>
                  </a:lnTo>
                  <a:lnTo>
                    <a:pt x="826" y="3917"/>
                  </a:lnTo>
                  <a:lnTo>
                    <a:pt x="683" y="2848"/>
                  </a:lnTo>
                  <a:lnTo>
                    <a:pt x="559" y="2015"/>
                  </a:lnTo>
                  <a:lnTo>
                    <a:pt x="402" y="1512"/>
                  </a:lnTo>
                  <a:lnTo>
                    <a:pt x="183" y="1090"/>
                  </a:lnTo>
                  <a:lnTo>
                    <a:pt x="49" y="784"/>
                  </a:lnTo>
                  <a:lnTo>
                    <a:pt x="0" y="602"/>
                  </a:lnTo>
                  <a:lnTo>
                    <a:pt x="0" y="394"/>
                  </a:lnTo>
                  <a:lnTo>
                    <a:pt x="49" y="189"/>
                  </a:lnTo>
                  <a:lnTo>
                    <a:pt x="161" y="0"/>
                  </a:lnTo>
                  <a:lnTo>
                    <a:pt x="16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7921800" y="4174200"/>
              <a:ext cx="120960" cy="67320"/>
            </a:xfrm>
            <a:custGeom>
              <a:avLst/>
              <a:gdLst/>
              <a:ahLst/>
              <a:rect l="l" t="t" r="r" b="b"/>
              <a:pathLst>
                <a:path w="1582" h="1002">
                  <a:moveTo>
                    <a:pt x="457" y="0"/>
                  </a:moveTo>
                  <a:lnTo>
                    <a:pt x="321" y="103"/>
                  </a:lnTo>
                  <a:lnTo>
                    <a:pt x="191" y="235"/>
                  </a:lnTo>
                  <a:lnTo>
                    <a:pt x="81" y="363"/>
                  </a:lnTo>
                  <a:lnTo>
                    <a:pt x="20" y="529"/>
                  </a:lnTo>
                  <a:lnTo>
                    <a:pt x="0" y="765"/>
                  </a:lnTo>
                  <a:lnTo>
                    <a:pt x="68" y="718"/>
                  </a:lnTo>
                  <a:lnTo>
                    <a:pt x="1174" y="1002"/>
                  </a:lnTo>
                  <a:lnTo>
                    <a:pt x="1296" y="988"/>
                  </a:lnTo>
                  <a:lnTo>
                    <a:pt x="1582" y="857"/>
                  </a:lnTo>
                  <a:lnTo>
                    <a:pt x="1246" y="975"/>
                  </a:lnTo>
                  <a:lnTo>
                    <a:pt x="1187" y="940"/>
                  </a:lnTo>
                  <a:lnTo>
                    <a:pt x="969" y="889"/>
                  </a:lnTo>
                  <a:lnTo>
                    <a:pt x="855" y="698"/>
                  </a:lnTo>
                  <a:lnTo>
                    <a:pt x="775" y="640"/>
                  </a:lnTo>
                  <a:lnTo>
                    <a:pt x="523" y="564"/>
                  </a:lnTo>
                  <a:lnTo>
                    <a:pt x="429" y="468"/>
                  </a:lnTo>
                  <a:lnTo>
                    <a:pt x="397" y="373"/>
                  </a:lnTo>
                  <a:lnTo>
                    <a:pt x="383" y="248"/>
                  </a:lnTo>
                  <a:lnTo>
                    <a:pt x="383" y="128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7956000" y="4154400"/>
              <a:ext cx="139680" cy="26640"/>
            </a:xfrm>
            <a:custGeom>
              <a:avLst/>
              <a:gdLst/>
              <a:ahLst/>
              <a:rect l="l" t="t" r="r" b="b"/>
              <a:pathLst>
                <a:path w="1828" h="404">
                  <a:moveTo>
                    <a:pt x="57" y="281"/>
                  </a:moveTo>
                  <a:lnTo>
                    <a:pt x="281" y="250"/>
                  </a:lnTo>
                  <a:lnTo>
                    <a:pt x="862" y="31"/>
                  </a:lnTo>
                  <a:lnTo>
                    <a:pt x="1115" y="46"/>
                  </a:lnTo>
                  <a:lnTo>
                    <a:pt x="1528" y="0"/>
                  </a:lnTo>
                  <a:lnTo>
                    <a:pt x="1587" y="31"/>
                  </a:lnTo>
                  <a:lnTo>
                    <a:pt x="1767" y="301"/>
                  </a:lnTo>
                  <a:lnTo>
                    <a:pt x="1560" y="88"/>
                  </a:lnTo>
                  <a:lnTo>
                    <a:pt x="1479" y="88"/>
                  </a:lnTo>
                  <a:lnTo>
                    <a:pt x="1053" y="88"/>
                  </a:lnTo>
                  <a:lnTo>
                    <a:pt x="1198" y="151"/>
                  </a:lnTo>
                  <a:lnTo>
                    <a:pt x="1440" y="202"/>
                  </a:lnTo>
                  <a:lnTo>
                    <a:pt x="1828" y="404"/>
                  </a:lnTo>
                  <a:lnTo>
                    <a:pt x="1355" y="238"/>
                  </a:lnTo>
                  <a:lnTo>
                    <a:pt x="892" y="112"/>
                  </a:lnTo>
                  <a:lnTo>
                    <a:pt x="798" y="112"/>
                  </a:lnTo>
                  <a:lnTo>
                    <a:pt x="339" y="281"/>
                  </a:lnTo>
                  <a:lnTo>
                    <a:pt x="0" y="332"/>
                  </a:lnTo>
                  <a:lnTo>
                    <a:pt x="57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7959600" y="3948840"/>
              <a:ext cx="50040" cy="161280"/>
            </a:xfrm>
            <a:custGeom>
              <a:avLst/>
              <a:gdLst/>
              <a:ahLst/>
              <a:rect l="l" t="t" r="r" b="b"/>
              <a:pathLst>
                <a:path w="655" h="2417">
                  <a:moveTo>
                    <a:pt x="0" y="325"/>
                  </a:moveTo>
                  <a:lnTo>
                    <a:pt x="60" y="218"/>
                  </a:lnTo>
                  <a:lnTo>
                    <a:pt x="157" y="112"/>
                  </a:lnTo>
                  <a:lnTo>
                    <a:pt x="281" y="0"/>
                  </a:lnTo>
                  <a:lnTo>
                    <a:pt x="378" y="24"/>
                  </a:lnTo>
                  <a:lnTo>
                    <a:pt x="235" y="121"/>
                  </a:lnTo>
                  <a:lnTo>
                    <a:pt x="328" y="437"/>
                  </a:lnTo>
                  <a:lnTo>
                    <a:pt x="500" y="468"/>
                  </a:lnTo>
                  <a:lnTo>
                    <a:pt x="539" y="250"/>
                  </a:lnTo>
                  <a:lnTo>
                    <a:pt x="539" y="136"/>
                  </a:lnTo>
                  <a:lnTo>
                    <a:pt x="500" y="24"/>
                  </a:lnTo>
                  <a:lnTo>
                    <a:pt x="585" y="136"/>
                  </a:lnTo>
                  <a:lnTo>
                    <a:pt x="585" y="312"/>
                  </a:lnTo>
                  <a:lnTo>
                    <a:pt x="550" y="486"/>
                  </a:lnTo>
                  <a:lnTo>
                    <a:pt x="618" y="749"/>
                  </a:lnTo>
                  <a:lnTo>
                    <a:pt x="645" y="1242"/>
                  </a:lnTo>
                  <a:lnTo>
                    <a:pt x="629" y="1823"/>
                  </a:lnTo>
                  <a:lnTo>
                    <a:pt x="655" y="2342"/>
                  </a:lnTo>
                  <a:lnTo>
                    <a:pt x="629" y="2417"/>
                  </a:lnTo>
                  <a:lnTo>
                    <a:pt x="569" y="1885"/>
                  </a:lnTo>
                  <a:lnTo>
                    <a:pt x="569" y="1332"/>
                  </a:lnTo>
                  <a:lnTo>
                    <a:pt x="569" y="894"/>
                  </a:lnTo>
                  <a:lnTo>
                    <a:pt x="519" y="620"/>
                  </a:lnTo>
                  <a:lnTo>
                    <a:pt x="458" y="534"/>
                  </a:lnTo>
                  <a:lnTo>
                    <a:pt x="328" y="468"/>
                  </a:lnTo>
                  <a:lnTo>
                    <a:pt x="157" y="802"/>
                  </a:lnTo>
                  <a:lnTo>
                    <a:pt x="126" y="703"/>
                  </a:lnTo>
                  <a:lnTo>
                    <a:pt x="262" y="453"/>
                  </a:lnTo>
                  <a:lnTo>
                    <a:pt x="187" y="182"/>
                  </a:lnTo>
                  <a:lnTo>
                    <a:pt x="106" y="281"/>
                  </a:lnTo>
                  <a:lnTo>
                    <a:pt x="29" y="43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999200" y="3933000"/>
              <a:ext cx="44280" cy="61200"/>
            </a:xfrm>
            <a:custGeom>
              <a:avLst/>
              <a:gdLst/>
              <a:ahLst/>
              <a:rect l="l" t="t" r="r" b="b"/>
              <a:pathLst>
                <a:path w="585" h="919">
                  <a:moveTo>
                    <a:pt x="0" y="251"/>
                  </a:moveTo>
                  <a:lnTo>
                    <a:pt x="191" y="396"/>
                  </a:lnTo>
                  <a:lnTo>
                    <a:pt x="233" y="664"/>
                  </a:lnTo>
                  <a:lnTo>
                    <a:pt x="426" y="300"/>
                  </a:lnTo>
                  <a:lnTo>
                    <a:pt x="585" y="0"/>
                  </a:lnTo>
                  <a:lnTo>
                    <a:pt x="534" y="242"/>
                  </a:lnTo>
                  <a:lnTo>
                    <a:pt x="174" y="919"/>
                  </a:lnTo>
                  <a:lnTo>
                    <a:pt x="198" y="761"/>
                  </a:lnTo>
                  <a:lnTo>
                    <a:pt x="50" y="508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7997400" y="4149000"/>
              <a:ext cx="31680" cy="10440"/>
            </a:xfrm>
            <a:custGeom>
              <a:avLst/>
              <a:gdLst/>
              <a:ahLst/>
              <a:rect l="l" t="t" r="r" b="b"/>
              <a:pathLst>
                <a:path w="416" h="166">
                  <a:moveTo>
                    <a:pt x="218" y="166"/>
                  </a:moveTo>
                  <a:lnTo>
                    <a:pt x="0" y="80"/>
                  </a:lnTo>
                  <a:lnTo>
                    <a:pt x="42" y="0"/>
                  </a:lnTo>
                  <a:lnTo>
                    <a:pt x="41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008920" y="4029840"/>
              <a:ext cx="266760" cy="203040"/>
            </a:xfrm>
            <a:custGeom>
              <a:avLst/>
              <a:gdLst/>
              <a:ahLst/>
              <a:rect l="l" t="t" r="r" b="b"/>
              <a:pathLst>
                <a:path w="3494" h="3036">
                  <a:moveTo>
                    <a:pt x="1119" y="2271"/>
                  </a:moveTo>
                  <a:lnTo>
                    <a:pt x="1130" y="2336"/>
                  </a:lnTo>
                  <a:lnTo>
                    <a:pt x="1101" y="2414"/>
                  </a:lnTo>
                  <a:lnTo>
                    <a:pt x="1054" y="2433"/>
                  </a:lnTo>
                  <a:lnTo>
                    <a:pt x="284" y="2338"/>
                  </a:lnTo>
                  <a:lnTo>
                    <a:pt x="292" y="2407"/>
                  </a:lnTo>
                  <a:lnTo>
                    <a:pt x="404" y="2387"/>
                  </a:lnTo>
                  <a:lnTo>
                    <a:pt x="852" y="2442"/>
                  </a:lnTo>
                  <a:lnTo>
                    <a:pt x="771" y="2609"/>
                  </a:lnTo>
                  <a:lnTo>
                    <a:pt x="428" y="2668"/>
                  </a:lnTo>
                  <a:lnTo>
                    <a:pt x="158" y="2552"/>
                  </a:lnTo>
                  <a:lnTo>
                    <a:pt x="68" y="2568"/>
                  </a:lnTo>
                  <a:lnTo>
                    <a:pt x="151" y="2638"/>
                  </a:lnTo>
                  <a:lnTo>
                    <a:pt x="446" y="2679"/>
                  </a:lnTo>
                  <a:lnTo>
                    <a:pt x="752" y="2656"/>
                  </a:lnTo>
                  <a:lnTo>
                    <a:pt x="670" y="2780"/>
                  </a:lnTo>
                  <a:lnTo>
                    <a:pt x="481" y="2895"/>
                  </a:lnTo>
                  <a:lnTo>
                    <a:pt x="158" y="2910"/>
                  </a:lnTo>
                  <a:lnTo>
                    <a:pt x="0" y="2895"/>
                  </a:lnTo>
                  <a:lnTo>
                    <a:pt x="268" y="2954"/>
                  </a:lnTo>
                  <a:lnTo>
                    <a:pt x="455" y="2932"/>
                  </a:lnTo>
                  <a:lnTo>
                    <a:pt x="418" y="3036"/>
                  </a:lnTo>
                  <a:lnTo>
                    <a:pt x="455" y="3025"/>
                  </a:lnTo>
                  <a:lnTo>
                    <a:pt x="525" y="2910"/>
                  </a:lnTo>
                  <a:lnTo>
                    <a:pt x="697" y="2789"/>
                  </a:lnTo>
                  <a:lnTo>
                    <a:pt x="784" y="2668"/>
                  </a:lnTo>
                  <a:lnTo>
                    <a:pt x="3327" y="2668"/>
                  </a:lnTo>
                  <a:lnTo>
                    <a:pt x="3390" y="2495"/>
                  </a:lnTo>
                  <a:lnTo>
                    <a:pt x="3424" y="2200"/>
                  </a:lnTo>
                  <a:lnTo>
                    <a:pt x="3454" y="1985"/>
                  </a:lnTo>
                  <a:lnTo>
                    <a:pt x="2977" y="1849"/>
                  </a:lnTo>
                  <a:lnTo>
                    <a:pt x="3041" y="1780"/>
                  </a:lnTo>
                  <a:lnTo>
                    <a:pt x="3109" y="1833"/>
                  </a:lnTo>
                  <a:lnTo>
                    <a:pt x="3494" y="1886"/>
                  </a:lnTo>
                  <a:lnTo>
                    <a:pt x="3494" y="1844"/>
                  </a:lnTo>
                  <a:lnTo>
                    <a:pt x="3159" y="1785"/>
                  </a:lnTo>
                  <a:lnTo>
                    <a:pt x="2995" y="1598"/>
                  </a:lnTo>
                  <a:lnTo>
                    <a:pt x="2813" y="1805"/>
                  </a:lnTo>
                  <a:lnTo>
                    <a:pt x="2479" y="2336"/>
                  </a:lnTo>
                  <a:lnTo>
                    <a:pt x="2345" y="2236"/>
                  </a:lnTo>
                  <a:lnTo>
                    <a:pt x="2472" y="1955"/>
                  </a:lnTo>
                  <a:lnTo>
                    <a:pt x="2714" y="1671"/>
                  </a:lnTo>
                  <a:lnTo>
                    <a:pt x="2868" y="1559"/>
                  </a:lnTo>
                  <a:lnTo>
                    <a:pt x="2742" y="1303"/>
                  </a:lnTo>
                  <a:lnTo>
                    <a:pt x="2582" y="745"/>
                  </a:lnTo>
                  <a:lnTo>
                    <a:pt x="2707" y="1328"/>
                  </a:lnTo>
                  <a:lnTo>
                    <a:pt x="2771" y="1535"/>
                  </a:lnTo>
                  <a:lnTo>
                    <a:pt x="2544" y="1550"/>
                  </a:lnTo>
                  <a:lnTo>
                    <a:pt x="2272" y="692"/>
                  </a:lnTo>
                  <a:lnTo>
                    <a:pt x="2424" y="552"/>
                  </a:lnTo>
                  <a:lnTo>
                    <a:pt x="1962" y="803"/>
                  </a:lnTo>
                  <a:lnTo>
                    <a:pt x="1962" y="735"/>
                  </a:lnTo>
                  <a:lnTo>
                    <a:pt x="2037" y="602"/>
                  </a:lnTo>
                  <a:lnTo>
                    <a:pt x="2345" y="369"/>
                  </a:lnTo>
                  <a:lnTo>
                    <a:pt x="2439" y="210"/>
                  </a:lnTo>
                  <a:lnTo>
                    <a:pt x="2540" y="614"/>
                  </a:lnTo>
                  <a:lnTo>
                    <a:pt x="2525" y="180"/>
                  </a:lnTo>
                  <a:lnTo>
                    <a:pt x="2403" y="90"/>
                  </a:lnTo>
                  <a:lnTo>
                    <a:pt x="2318" y="88"/>
                  </a:lnTo>
                  <a:lnTo>
                    <a:pt x="2311" y="0"/>
                  </a:lnTo>
                  <a:lnTo>
                    <a:pt x="2311" y="157"/>
                  </a:lnTo>
                  <a:lnTo>
                    <a:pt x="2340" y="297"/>
                  </a:lnTo>
                  <a:lnTo>
                    <a:pt x="2177" y="480"/>
                  </a:lnTo>
                  <a:lnTo>
                    <a:pt x="1905" y="563"/>
                  </a:lnTo>
                  <a:lnTo>
                    <a:pt x="1852" y="231"/>
                  </a:lnTo>
                  <a:lnTo>
                    <a:pt x="1742" y="552"/>
                  </a:lnTo>
                  <a:lnTo>
                    <a:pt x="1485" y="745"/>
                  </a:lnTo>
                  <a:lnTo>
                    <a:pt x="1220" y="818"/>
                  </a:lnTo>
                  <a:lnTo>
                    <a:pt x="944" y="871"/>
                  </a:lnTo>
                  <a:lnTo>
                    <a:pt x="1352" y="835"/>
                  </a:lnTo>
                  <a:lnTo>
                    <a:pt x="1589" y="783"/>
                  </a:lnTo>
                  <a:lnTo>
                    <a:pt x="1371" y="976"/>
                  </a:lnTo>
                  <a:lnTo>
                    <a:pt x="1169" y="1240"/>
                  </a:lnTo>
                  <a:lnTo>
                    <a:pt x="953" y="1621"/>
                  </a:lnTo>
                  <a:lnTo>
                    <a:pt x="842" y="1895"/>
                  </a:lnTo>
                  <a:lnTo>
                    <a:pt x="1087" y="2165"/>
                  </a:lnTo>
                  <a:lnTo>
                    <a:pt x="1191" y="2271"/>
                  </a:lnTo>
                  <a:lnTo>
                    <a:pt x="1172" y="2312"/>
                  </a:lnTo>
                  <a:lnTo>
                    <a:pt x="1331" y="2374"/>
                  </a:lnTo>
                  <a:lnTo>
                    <a:pt x="1415" y="1937"/>
                  </a:lnTo>
                  <a:lnTo>
                    <a:pt x="1589" y="1211"/>
                  </a:lnTo>
                  <a:lnTo>
                    <a:pt x="1698" y="930"/>
                  </a:lnTo>
                  <a:lnTo>
                    <a:pt x="1707" y="1134"/>
                  </a:lnTo>
                  <a:lnTo>
                    <a:pt x="1608" y="1510"/>
                  </a:lnTo>
                  <a:lnTo>
                    <a:pt x="1485" y="2137"/>
                  </a:lnTo>
                  <a:lnTo>
                    <a:pt x="1446" y="2433"/>
                  </a:lnTo>
                  <a:lnTo>
                    <a:pt x="1365" y="2396"/>
                  </a:lnTo>
                  <a:lnTo>
                    <a:pt x="1523" y="2517"/>
                  </a:lnTo>
                  <a:lnTo>
                    <a:pt x="1317" y="2483"/>
                  </a:lnTo>
                  <a:lnTo>
                    <a:pt x="1147" y="2407"/>
                  </a:lnTo>
                  <a:lnTo>
                    <a:pt x="1147" y="2324"/>
                  </a:lnTo>
                  <a:lnTo>
                    <a:pt x="1119" y="2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066520" y="3904920"/>
              <a:ext cx="121320" cy="163440"/>
            </a:xfrm>
            <a:custGeom>
              <a:avLst/>
              <a:gdLst/>
              <a:ahLst/>
              <a:rect l="l" t="t" r="r" b="b"/>
              <a:pathLst>
                <a:path w="1593" h="2446">
                  <a:moveTo>
                    <a:pt x="0" y="0"/>
                  </a:moveTo>
                  <a:lnTo>
                    <a:pt x="406" y="122"/>
                  </a:lnTo>
                  <a:lnTo>
                    <a:pt x="969" y="385"/>
                  </a:lnTo>
                  <a:lnTo>
                    <a:pt x="1273" y="442"/>
                  </a:lnTo>
                  <a:lnTo>
                    <a:pt x="1294" y="537"/>
                  </a:lnTo>
                  <a:lnTo>
                    <a:pt x="1360" y="512"/>
                  </a:lnTo>
                  <a:lnTo>
                    <a:pt x="1457" y="673"/>
                  </a:lnTo>
                  <a:lnTo>
                    <a:pt x="1554" y="965"/>
                  </a:lnTo>
                  <a:lnTo>
                    <a:pt x="1593" y="1323"/>
                  </a:lnTo>
                  <a:lnTo>
                    <a:pt x="1593" y="1552"/>
                  </a:lnTo>
                  <a:lnTo>
                    <a:pt x="1538" y="1879"/>
                  </a:lnTo>
                  <a:lnTo>
                    <a:pt x="1432" y="2137"/>
                  </a:lnTo>
                  <a:lnTo>
                    <a:pt x="1273" y="2285"/>
                  </a:lnTo>
                  <a:lnTo>
                    <a:pt x="1100" y="2446"/>
                  </a:lnTo>
                  <a:lnTo>
                    <a:pt x="1266" y="2191"/>
                  </a:lnTo>
                  <a:lnTo>
                    <a:pt x="1432" y="1863"/>
                  </a:lnTo>
                  <a:lnTo>
                    <a:pt x="1513" y="1552"/>
                  </a:lnTo>
                  <a:lnTo>
                    <a:pt x="1531" y="1180"/>
                  </a:lnTo>
                  <a:lnTo>
                    <a:pt x="1503" y="910"/>
                  </a:lnTo>
                  <a:lnTo>
                    <a:pt x="1425" y="644"/>
                  </a:lnTo>
                  <a:lnTo>
                    <a:pt x="1335" y="567"/>
                  </a:lnTo>
                  <a:lnTo>
                    <a:pt x="1259" y="1238"/>
                  </a:lnTo>
                  <a:lnTo>
                    <a:pt x="1133" y="1904"/>
                  </a:lnTo>
                  <a:lnTo>
                    <a:pt x="1243" y="1226"/>
                  </a:lnTo>
                  <a:lnTo>
                    <a:pt x="1266" y="537"/>
                  </a:lnTo>
                  <a:lnTo>
                    <a:pt x="918" y="408"/>
                  </a:lnTo>
                  <a:lnTo>
                    <a:pt x="182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039160" y="3922200"/>
              <a:ext cx="77040" cy="237600"/>
            </a:xfrm>
            <a:custGeom>
              <a:avLst/>
              <a:gdLst/>
              <a:ahLst/>
              <a:rect l="l" t="t" r="r" b="b"/>
              <a:pathLst>
                <a:path w="1005" h="3558">
                  <a:moveTo>
                    <a:pt x="479" y="0"/>
                  </a:moveTo>
                  <a:lnTo>
                    <a:pt x="611" y="380"/>
                  </a:lnTo>
                  <a:lnTo>
                    <a:pt x="717" y="888"/>
                  </a:lnTo>
                  <a:lnTo>
                    <a:pt x="965" y="791"/>
                  </a:lnTo>
                  <a:lnTo>
                    <a:pt x="1005" y="842"/>
                  </a:lnTo>
                  <a:lnTo>
                    <a:pt x="954" y="1274"/>
                  </a:lnTo>
                  <a:lnTo>
                    <a:pt x="837" y="1712"/>
                  </a:lnTo>
                  <a:lnTo>
                    <a:pt x="645" y="2285"/>
                  </a:lnTo>
                  <a:lnTo>
                    <a:pt x="456" y="2747"/>
                  </a:lnTo>
                  <a:lnTo>
                    <a:pt x="231" y="3288"/>
                  </a:lnTo>
                  <a:lnTo>
                    <a:pt x="71" y="3533"/>
                  </a:lnTo>
                  <a:lnTo>
                    <a:pt x="0" y="3558"/>
                  </a:lnTo>
                  <a:lnTo>
                    <a:pt x="184" y="3263"/>
                  </a:lnTo>
                  <a:lnTo>
                    <a:pt x="385" y="2782"/>
                  </a:lnTo>
                  <a:lnTo>
                    <a:pt x="550" y="2320"/>
                  </a:lnTo>
                  <a:lnTo>
                    <a:pt x="694" y="1916"/>
                  </a:lnTo>
                  <a:lnTo>
                    <a:pt x="827" y="1514"/>
                  </a:lnTo>
                  <a:lnTo>
                    <a:pt x="879" y="1193"/>
                  </a:lnTo>
                  <a:lnTo>
                    <a:pt x="924" y="896"/>
                  </a:lnTo>
                  <a:lnTo>
                    <a:pt x="420" y="1108"/>
                  </a:lnTo>
                  <a:lnTo>
                    <a:pt x="670" y="905"/>
                  </a:lnTo>
                  <a:lnTo>
                    <a:pt x="670" y="870"/>
                  </a:lnTo>
                  <a:lnTo>
                    <a:pt x="597" y="43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H="1">
              <a:off x="7740000" y="4208400"/>
              <a:ext cx="511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7961400" y="4229640"/>
              <a:ext cx="243720" cy="26640"/>
            </a:xfrm>
            <a:custGeom>
              <a:avLst/>
              <a:gdLst/>
              <a:ahLst/>
              <a:rect l="l" t="t" r="r" b="b"/>
              <a:pathLst>
                <a:path w="3188" h="401">
                  <a:moveTo>
                    <a:pt x="0" y="0"/>
                  </a:moveTo>
                  <a:lnTo>
                    <a:pt x="343" y="401"/>
                  </a:lnTo>
                  <a:lnTo>
                    <a:pt x="3188" y="4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063640" y="4214160"/>
              <a:ext cx="192960" cy="15480"/>
            </a:xfrm>
            <a:custGeom>
              <a:avLst/>
              <a:gdLst/>
              <a:ahLst/>
              <a:rect l="l" t="t" r="r" b="b"/>
              <a:pathLst>
                <a:path w="2533" h="230">
                  <a:moveTo>
                    <a:pt x="0" y="0"/>
                  </a:moveTo>
                  <a:lnTo>
                    <a:pt x="1752" y="0"/>
                  </a:lnTo>
                  <a:lnTo>
                    <a:pt x="2533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7962480" y="4289040"/>
              <a:ext cx="176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3" name=""/>
          <p:cNvSpPr/>
          <p:nvPr/>
        </p:nvSpPr>
        <p:spPr>
          <a:xfrm>
            <a:off x="7021080" y="4486320"/>
            <a:ext cx="191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/>
          </p:nvPr>
        </p:nvSpPr>
        <p:spPr>
          <a:xfrm>
            <a:off x="112320" y="887040"/>
            <a:ext cx="8751960" cy="58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ritérios para Avaliação da Fase de Planejamento do Proj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ão utilizados pelo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Time de Avaliação de Transição de fa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que deverá aprovar o Plano de Projeto prepar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gerente de proj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preparou o Planejamento do Projeto e será responsável por sua condução caso venha a ser aprovado, deverá defendê-lo perante o time mostrando todo o seu potencial e possíveis fraquez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time de avali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ecisa verificar não apenas a consistência do plano. Devem estar atentos para que o escopo do projeto e o escopo do produto estejam em conformidade com o papel desse projeto específico no Plano Estratégico de Produtos, preparado na fase anterior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Atividade genérica: aprovar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íntese do que foi vist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na fase 1/4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158400" y="909360"/>
            <a:ext cx="88218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ase de Planejamento do Projeto inicia-se com a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efinição dos interess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 mesmo, que podem manifestar ou sofrer influências relativas ao projeto tanto ao longo de seu planejamento, como em sua realização e mesmo após sua conclu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efinição do escopo do produ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presenta os parâmetros básicos que o caracterizam (o que é o produto) e as funcionalidades que dele se espera (para que serve o produt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efinição do escopo do proj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erá a base para decisões futu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quanto a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talhamento e o controle de mudanças do escopo que será necessário para o projeto em quest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íntese do que foi vist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na fase 2/4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439" name="PlaceHolder 2"/>
          <p:cNvSpPr>
            <a:spLocks noGrp="1"/>
          </p:cNvSpPr>
          <p:nvPr>
            <p:ph/>
          </p:nvPr>
        </p:nvSpPr>
        <p:spPr>
          <a:xfrm>
            <a:off x="158400" y="909360"/>
            <a:ext cx="882180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elaboração de uma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eclaração escrita do escopo do proj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é a base genérica a ser seguida nas mais diversas decisões futuras do planejamento e execução do proj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partir do escopo do produto, e principalmente do projeto, e das características do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modelo de referência específ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dotado na empresa para seu PDP, pode-se realizar as devidas adaptações nesse modelo, de forma a que venha a ser utilizado para o projeto do novo produto em quest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ndo-se da EDT que detalhou o escopo do projeto, e da versão do modelo de referência escolhido para o presente projeto, um passo seguinte do planejamento é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efinir quais as atividades específ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que deverão ser realizadas no projeto, estabelecendo os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lacionam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 a conseqüente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seqüê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 execução dessas ativida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íntese do que foi vist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na fase 3/4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/>
          </p:nvPr>
        </p:nvSpPr>
        <p:spPr>
          <a:xfrm>
            <a:off x="158400" y="909360"/>
            <a:ext cx="882180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ão, pode-se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lanejar a estimativa de du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cada uma das atividades, e o conseqüente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ronograma de realização do proj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ust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dos para as atividades do DP precisam ser agrupados em um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orç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er submetido para aprovação, e que estabelece um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se li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 custo, útil para medir o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esempenho do proj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nálise de viabilidade econômico-financei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ignifica estimar e analisar as perspectivas de desempenho financeiro do produto resultante do proj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entar reduzir a incerteza, eliminar eventos não oportunos, e melhorar a quantidade e qualidade de alternativas de soluções constituem a essência da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avaliação e gestão de ris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o proj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íntese do que foi vist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na fase 4/4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158400" y="820440"/>
            <a:ext cx="882180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os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indicadores de desempenh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que serão utilizados significa escolher aqueles mais propícios para avaliar a execução de um proj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gerenciamento das comunicações do proj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fere-se ao planejamento das ações necessárias para que ocorra adequadament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st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as informações que envolvem um projeto de 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gerenciamento das aquisi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nvolve planejar o que será necessário adquirir externamente para a realização do projeto de DP e sua posterior produ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alizando o planejamento, é gerado o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lano de Proj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um documento que será um guia no controle da execução do proj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Informações principais e dependências entre as atividades da fase de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lanejament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3445" name=""/>
          <p:cNvGrpSpPr/>
          <p:nvPr/>
        </p:nvGrpSpPr>
        <p:grpSpPr>
          <a:xfrm>
            <a:off x="-6480" y="880920"/>
            <a:ext cx="9115560" cy="5998320"/>
            <a:chOff x="-6480" y="880920"/>
            <a:chExt cx="9115560" cy="5998320"/>
          </a:xfrm>
        </p:grpSpPr>
        <p:sp>
          <p:nvSpPr>
            <p:cNvPr id="3446" name=""/>
            <p:cNvSpPr/>
            <p:nvPr/>
          </p:nvSpPr>
          <p:spPr>
            <a:xfrm>
              <a:off x="2081160" y="880920"/>
              <a:ext cx="7027920" cy="5929560"/>
            </a:xfrm>
            <a:custGeom>
              <a:avLst/>
              <a:gdLst/>
              <a:ahLst/>
              <a:rect l="l" t="t" r="r" b="b"/>
              <a:pathLst>
                <a:path w="4427" h="4148">
                  <a:moveTo>
                    <a:pt x="38" y="1546"/>
                  </a:moveTo>
                  <a:lnTo>
                    <a:pt x="919" y="0"/>
                  </a:lnTo>
                  <a:lnTo>
                    <a:pt x="4427" y="0"/>
                  </a:lnTo>
                  <a:lnTo>
                    <a:pt x="4427" y="4148"/>
                  </a:lnTo>
                  <a:lnTo>
                    <a:pt x="964" y="4148"/>
                  </a:lnTo>
                  <a:lnTo>
                    <a:pt x="30" y="1947"/>
                  </a:lnTo>
                  <a:lnTo>
                    <a:pt x="0" y="1720"/>
                  </a:lnTo>
                  <a:lnTo>
                    <a:pt x="250" y="859"/>
                  </a:lnTo>
                  <a:lnTo>
                    <a:pt x="38" y="154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502400" y="4653000"/>
              <a:ext cx="1231920" cy="21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ris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8" name=""/>
            <p:cNvGrpSpPr/>
            <p:nvPr/>
          </p:nvGrpSpPr>
          <p:grpSpPr>
            <a:xfrm>
              <a:off x="3373560" y="5408640"/>
              <a:ext cx="1431360" cy="639720"/>
              <a:chOff x="3373560" y="5408640"/>
              <a:chExt cx="1431360" cy="639720"/>
            </a:xfrm>
          </p:grpSpPr>
          <p:sp>
            <p:nvSpPr>
              <p:cNvPr id="3449" name=""/>
              <p:cNvSpPr/>
              <p:nvPr/>
            </p:nvSpPr>
            <p:spPr>
              <a:xfrm>
                <a:off x="3373560" y="5408640"/>
                <a:ext cx="1431360" cy="639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nalisar a viabilidade econô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584600" y="5416200"/>
                <a:ext cx="203040" cy="7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1" name=""/>
            <p:cNvSpPr/>
            <p:nvPr/>
          </p:nvSpPr>
          <p:spPr>
            <a:xfrm>
              <a:off x="6696000" y="1092240"/>
              <a:ext cx="203508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interessados do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0" y="2498040"/>
              <a:ext cx="2201760" cy="8110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lanejamento do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-6480" y="981000"/>
              <a:ext cx="368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tfólio de projetos e produ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0" y="3944880"/>
              <a:ext cx="3276720" cy="29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o de Proje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claração do e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opo do projeto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do produ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vidades e sua dur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zos, orçamento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soal responsá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cursos necessár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álise de ris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dicadores de desempen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414600" y="3213000"/>
              <a:ext cx="1374840" cy="63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aptar o modelo de refe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3414600" y="4653000"/>
              <a:ext cx="161604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recursos necessá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5854680" y="3773520"/>
              <a:ext cx="1174680" cy="63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atividades e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qü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8" name=""/>
            <p:cNvGrpSpPr/>
            <p:nvPr/>
          </p:nvGrpSpPr>
          <p:grpSpPr>
            <a:xfrm>
              <a:off x="5567400" y="4718160"/>
              <a:ext cx="1305000" cy="639720"/>
              <a:chOff x="5567400" y="4718160"/>
              <a:chExt cx="1305000" cy="639720"/>
            </a:xfrm>
          </p:grpSpPr>
          <p:sp>
            <p:nvSpPr>
              <p:cNvPr id="3459" name=""/>
              <p:cNvSpPr/>
              <p:nvPr/>
            </p:nvSpPr>
            <p:spPr>
              <a:xfrm>
                <a:off x="5567400" y="4718160"/>
                <a:ext cx="1305000" cy="639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eparar orçament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do proje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773680" y="4718160"/>
                <a:ext cx="21456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1" name="">
              <a:hlinkClick r:id="rId1" action="ppaction://hlinksldjump"/>
            </p:cNvPr>
            <p:cNvSpPr/>
            <p:nvPr/>
          </p:nvSpPr>
          <p:spPr>
            <a:xfrm>
              <a:off x="3343320" y="1968480"/>
              <a:ext cx="144792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escopo do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5151600" y="1727280"/>
              <a:ext cx="190008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escopo do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5433840" y="2773440"/>
              <a:ext cx="216072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talhar o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scop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do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358040" y="5681520"/>
              <a:ext cx="140508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indicadores de desempen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800840" y="1906560"/>
              <a:ext cx="129888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plano de comunic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5151600" y="5632560"/>
              <a:ext cx="1616040" cy="63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ejar e preparar aquisiçõ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408480" y="6205680"/>
              <a:ext cx="161604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Plano de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68" name=""/>
            <p:cNvCxnSpPr>
              <a:stCxn id="3462" idx="2"/>
              <a:endCxn id="3463" idx="0"/>
            </p:cNvCxnSpPr>
            <p:nvPr/>
          </p:nvCxnSpPr>
          <p:spPr>
            <a:xfrm>
              <a:off x="6102000" y="2195280"/>
              <a:ext cx="413640" cy="564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9" name=""/>
            <p:cNvCxnSpPr>
              <a:stCxn id="3461" idx="3"/>
              <a:endCxn id="3462" idx="1"/>
            </p:cNvCxnSpPr>
            <p:nvPr/>
          </p:nvCxnSpPr>
          <p:spPr>
            <a:xfrm flipV="1">
              <a:off x="4805280" y="1953360"/>
              <a:ext cx="332640" cy="242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70" name=""/>
            <p:cNvCxnSpPr>
              <a:stCxn id="3461" idx="2"/>
              <a:endCxn id="3455" idx="0"/>
            </p:cNvCxnSpPr>
            <p:nvPr/>
          </p:nvCxnSpPr>
          <p:spPr>
            <a:xfrm>
              <a:off x="4066920" y="2436480"/>
              <a:ext cx="35640" cy="762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71" name=""/>
            <p:cNvCxnSpPr>
              <a:stCxn id="3462" idx="2"/>
              <a:endCxn id="3455" idx="0"/>
            </p:cNvCxnSpPr>
            <p:nvPr/>
          </p:nvCxnSpPr>
          <p:spPr>
            <a:xfrm flipH="1">
              <a:off x="4101840" y="2195280"/>
              <a:ext cx="2000880" cy="1003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72" name=""/>
            <p:cNvCxnSpPr>
              <a:stCxn id="3463" idx="2"/>
              <a:endCxn id="3457" idx="0"/>
            </p:cNvCxnSpPr>
            <p:nvPr/>
          </p:nvCxnSpPr>
          <p:spPr>
            <a:xfrm flipH="1">
              <a:off x="6441480" y="3241440"/>
              <a:ext cx="73800" cy="518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73" name=""/>
            <p:cNvCxnSpPr>
              <a:stCxn id="3455" idx="3"/>
              <a:endCxn id="3457" idx="0"/>
            </p:cNvCxnSpPr>
            <p:nvPr/>
          </p:nvCxnSpPr>
          <p:spPr>
            <a:xfrm>
              <a:off x="4803480" y="3546000"/>
              <a:ext cx="1639080" cy="21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74" name=""/>
            <p:cNvCxnSpPr>
              <a:stCxn id="3456" idx="0"/>
              <a:endCxn id="3457" idx="1"/>
            </p:cNvCxnSpPr>
            <p:nvPr/>
          </p:nvCxnSpPr>
          <p:spPr>
            <a:xfrm flipV="1">
              <a:off x="4222440" y="4106160"/>
              <a:ext cx="1618200" cy="532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75" name=""/>
            <p:cNvCxnSpPr>
              <a:stCxn id="3451" idx="2"/>
              <a:endCxn id="3457" idx="3"/>
            </p:cNvCxnSpPr>
            <p:nvPr/>
          </p:nvCxnSpPr>
          <p:spPr>
            <a:xfrm rot="5400000">
              <a:off x="6097680" y="2491200"/>
              <a:ext cx="2561400" cy="6706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76" name=""/>
            <p:cNvCxnSpPr/>
            <p:nvPr/>
          </p:nvCxnSpPr>
          <p:spPr>
            <a:xfrm flipH="1">
              <a:off x="4066560" y="3241800"/>
              <a:ext cx="2292840" cy="1397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77" name=""/>
            <p:cNvCxnSpPr>
              <a:stCxn id="3451" idx="1"/>
              <a:endCxn id="3456" idx="1"/>
            </p:cNvCxnSpPr>
            <p:nvPr/>
          </p:nvCxnSpPr>
          <p:spPr>
            <a:xfrm flipV="1" rot="10800000">
              <a:off x="3399840" y="1314000"/>
              <a:ext cx="3286800" cy="3566160"/>
            </a:xfrm>
            <a:prstGeom prst="bentConnector3">
              <a:avLst>
                <a:gd name="adj1" fmla="val 106517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78" name=""/>
            <p:cNvCxnSpPr/>
            <p:nvPr/>
          </p:nvCxnSpPr>
          <p:spPr>
            <a:xfrm>
              <a:off x="5044680" y="4876920"/>
              <a:ext cx="508680" cy="172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79" name=""/>
            <p:cNvCxnSpPr>
              <a:stCxn id="3457" idx="2"/>
              <a:endCxn id="3459" idx="0"/>
            </p:cNvCxnSpPr>
            <p:nvPr/>
          </p:nvCxnSpPr>
          <p:spPr>
            <a:xfrm flipH="1">
              <a:off x="6219360" y="4454640"/>
              <a:ext cx="223200" cy="249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80" name=""/>
            <p:cNvCxnSpPr>
              <a:stCxn id="3459" idx="1"/>
              <a:endCxn id="3449" idx="0"/>
            </p:cNvCxnSpPr>
            <p:nvPr/>
          </p:nvCxnSpPr>
          <p:spPr>
            <a:xfrm flipH="1">
              <a:off x="4088880" y="5051160"/>
              <a:ext cx="1464480" cy="347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1" name=""/>
            <p:cNvCxnSpPr/>
            <p:nvPr/>
          </p:nvCxnSpPr>
          <p:spPr>
            <a:xfrm>
              <a:off x="7608600" y="3090600"/>
              <a:ext cx="510120" cy="15786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2" name=""/>
            <p:cNvCxnSpPr/>
            <p:nvPr/>
          </p:nvCxnSpPr>
          <p:spPr>
            <a:xfrm>
              <a:off x="7021440" y="4140360"/>
              <a:ext cx="450000" cy="606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83" name=""/>
            <p:cNvCxnSpPr/>
            <p:nvPr/>
          </p:nvCxnSpPr>
          <p:spPr>
            <a:xfrm flipV="1">
              <a:off x="6875640" y="4734720"/>
              <a:ext cx="606960" cy="338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84" name=""/>
            <p:cNvCxnSpPr>
              <a:stCxn id="3466" idx="3"/>
              <a:endCxn id="3447" idx="2"/>
            </p:cNvCxnSpPr>
            <p:nvPr/>
          </p:nvCxnSpPr>
          <p:spPr>
            <a:xfrm flipV="1">
              <a:off x="6781320" y="4893480"/>
              <a:ext cx="1337400" cy="1072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85" name=""/>
            <p:cNvCxnSpPr/>
            <p:nvPr/>
          </p:nvCxnSpPr>
          <p:spPr>
            <a:xfrm>
              <a:off x="4812840" y="3455640"/>
              <a:ext cx="3940920" cy="2414880"/>
            </a:xfrm>
            <a:prstGeom prst="bentConnector3">
              <a:avLst>
                <a:gd name="adj1" fmla="val 104704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6" name=""/>
            <p:cNvCxnSpPr/>
            <p:nvPr/>
          </p:nvCxnSpPr>
          <p:spPr>
            <a:xfrm>
              <a:off x="7043400" y="3906360"/>
              <a:ext cx="1701000" cy="1855080"/>
            </a:xfrm>
            <a:prstGeom prst="bentConnector3">
              <a:avLst>
                <a:gd name="adj1" fmla="val 1067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7" name=""/>
            <p:cNvCxnSpPr>
              <a:stCxn id="3463" idx="3"/>
              <a:endCxn id="3464" idx="3"/>
            </p:cNvCxnSpPr>
            <p:nvPr/>
          </p:nvCxnSpPr>
          <p:spPr>
            <a:xfrm>
              <a:off x="7608960" y="2999880"/>
              <a:ext cx="1164240" cy="3010680"/>
            </a:xfrm>
            <a:prstGeom prst="bentConnector3">
              <a:avLst>
                <a:gd name="adj1" fmla="val 11880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8" name=""/>
            <p:cNvCxnSpPr>
              <a:stCxn id="3451" idx="2"/>
              <a:endCxn id="3465" idx="0"/>
            </p:cNvCxnSpPr>
            <p:nvPr/>
          </p:nvCxnSpPr>
          <p:spPr>
            <a:xfrm>
              <a:off x="7713720" y="1545840"/>
              <a:ext cx="73728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9" name=""/>
            <p:cNvCxnSpPr>
              <a:stCxn id="3456" idx="2"/>
              <a:endCxn id="3466" idx="0"/>
            </p:cNvCxnSpPr>
            <p:nvPr/>
          </p:nvCxnSpPr>
          <p:spPr>
            <a:xfrm>
              <a:off x="4222800" y="5121360"/>
              <a:ext cx="1737360" cy="497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0" name=""/>
            <p:cNvCxnSpPr/>
            <p:nvPr/>
          </p:nvCxnSpPr>
          <p:spPr>
            <a:xfrm flipH="1">
              <a:off x="6770160" y="2944440"/>
              <a:ext cx="828000" cy="296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91" name=""/>
            <p:cNvSpPr/>
            <p:nvPr/>
          </p:nvSpPr>
          <p:spPr>
            <a:xfrm>
              <a:off x="0" y="1341360"/>
              <a:ext cx="28432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posta do produto (Minuta do Proje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 flipV="1">
              <a:off x="324000" y="3429000"/>
              <a:ext cx="1371600" cy="3808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V="1">
              <a:off x="395280" y="1988280"/>
              <a:ext cx="1371600" cy="3812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4789440" y="2206800"/>
              <a:ext cx="138276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title"/>
          </p:nvPr>
        </p:nvSpPr>
        <p:spPr>
          <a:xfrm>
            <a:off x="-360" y="33480"/>
            <a:ext cx="7388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incipais resultados da fase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0" y="2811600"/>
            <a:ext cx="2279520" cy="1593720"/>
          </a:xfrm>
          <a:custGeom>
            <a:avLst/>
            <a:gdLst/>
            <a:ahLst/>
            <a:rect l="l" t="t" r="r" b="b"/>
            <a:pathLst>
              <a:path w="1436" h="1004">
                <a:moveTo>
                  <a:pt x="943" y="7"/>
                </a:moveTo>
                <a:lnTo>
                  <a:pt x="1436" y="0"/>
                </a:lnTo>
                <a:lnTo>
                  <a:pt x="1010" y="1004"/>
                </a:lnTo>
                <a:lnTo>
                  <a:pt x="0" y="1004"/>
                </a:lnTo>
                <a:lnTo>
                  <a:pt x="943" y="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1957320" y="588960"/>
            <a:ext cx="5708880" cy="298440"/>
          </a:xfrm>
          <a:custGeom>
            <a:avLst/>
            <a:gdLst>
              <a:gd name="textAreaLeft" fmla="*/ 0 w 5708880"/>
              <a:gd name="textAreaRight" fmla="*/ 5709240 w 57088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lnTo>
                  <a:pt x="379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4380480" y="942480"/>
            <a:ext cx="1043640" cy="520200"/>
          </a:xfrm>
          <a:custGeom>
            <a:avLst/>
            <a:gdLst>
              <a:gd name="textAreaLeft" fmla="*/ 0 w 1043640"/>
              <a:gd name="textAreaRight" fmla="*/ 1044000 w 10436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4" y="0"/>
                </a:lnTo>
                <a:lnTo>
                  <a:pt x="21600" y="10800"/>
                </a:lnTo>
                <a:lnTo>
                  <a:pt x="19544" y="21600"/>
                </a:lnTo>
                <a:lnTo>
                  <a:pt x="0" y="21600"/>
                </a:lnTo>
                <a:lnTo>
                  <a:pt x="2056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lh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3283200" y="942480"/>
            <a:ext cx="1074240" cy="520200"/>
          </a:xfrm>
          <a:custGeom>
            <a:avLst/>
            <a:gdLst>
              <a:gd name="textAreaLeft" fmla="*/ 0 w 1074240"/>
              <a:gd name="textAreaRight" fmla="*/ 1074600 w 10742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2" y="0"/>
                </a:lnTo>
                <a:lnTo>
                  <a:pt x="21600" y="10800"/>
                </a:lnTo>
                <a:lnTo>
                  <a:pt x="19672" y="21600"/>
                </a:lnTo>
                <a:lnTo>
                  <a:pt x="0" y="21600"/>
                </a:lnTo>
                <a:lnTo>
                  <a:pt x="1928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it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1955160" y="942480"/>
            <a:ext cx="1302840" cy="520200"/>
          </a:xfrm>
          <a:custGeom>
            <a:avLst/>
            <a:gdLst>
              <a:gd name="textAreaLeft" fmla="*/ 0 w 1302840"/>
              <a:gd name="textAreaRight" fmla="*/ 1303200 w 13028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6" y="0"/>
                </a:lnTo>
                <a:lnTo>
                  <a:pt x="21600" y="10800"/>
                </a:lnTo>
                <a:lnTo>
                  <a:pt x="19746" y="21600"/>
                </a:lnTo>
                <a:lnTo>
                  <a:pt x="0" y="21600"/>
                </a:lnTo>
                <a:lnTo>
                  <a:pt x="1854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c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6566400" y="942480"/>
            <a:ext cx="1162080" cy="520200"/>
          </a:xfrm>
          <a:custGeom>
            <a:avLst/>
            <a:gdLst>
              <a:gd name="textAreaLeft" fmla="*/ 0 w 1162080"/>
              <a:gd name="textAreaRight" fmla="*/ 1162080 w 116208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0" y="0"/>
                </a:lnTo>
                <a:lnTo>
                  <a:pt x="21600" y="10800"/>
                </a:lnTo>
                <a:lnTo>
                  <a:pt x="19740" y="21600"/>
                </a:lnTo>
                <a:lnTo>
                  <a:pt x="0" y="21600"/>
                </a:lnTo>
                <a:lnTo>
                  <a:pt x="1860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5443560" y="942480"/>
            <a:ext cx="1102680" cy="520200"/>
          </a:xfrm>
          <a:custGeom>
            <a:avLst/>
            <a:gdLst>
              <a:gd name="textAreaLeft" fmla="*/ 0 w 1102680"/>
              <a:gd name="textAreaRight" fmla="*/ 1102680 w 110268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87" y="0"/>
                </a:lnTo>
                <a:lnTo>
                  <a:pt x="21600" y="10800"/>
                </a:lnTo>
                <a:lnTo>
                  <a:pt x="19987" y="21600"/>
                </a:lnTo>
                <a:lnTo>
                  <a:pt x="0" y="21600"/>
                </a:lnTo>
                <a:lnTo>
                  <a:pt x="1613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a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638640" y="963000"/>
            <a:ext cx="1270800" cy="520200"/>
          </a:xfrm>
          <a:custGeom>
            <a:avLst/>
            <a:gdLst>
              <a:gd name="textAreaLeft" fmla="*/ 0 w 1270800"/>
              <a:gd name="textAreaRight" fmla="*/ 1271160 w 127080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lnTo>
                  <a:pt x="2078" y="10800"/>
                </a:lnTo>
                <a:close/>
              </a:path>
            </a:pathLst>
          </a:cu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flipV="1">
            <a:off x="606600" y="1488600"/>
            <a:ext cx="0" cy="47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66600" y="1762200"/>
            <a:ext cx="1616040" cy="60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ção do Produto no Portfó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1436760" y="2421720"/>
            <a:ext cx="848880" cy="426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o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43560" y="4407840"/>
            <a:ext cx="1592280" cy="234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po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po 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cei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sso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az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çamen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óxima fase: projeto informacional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3510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7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3518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3519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1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3522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4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3525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3526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7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8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9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0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31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2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3533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4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5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536" name=""/>
                <p:cNvCxnSpPr>
                  <a:stCxn id="3533" idx="0"/>
                  <a:endCxn id="3537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538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3537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0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1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3542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7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8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3549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4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3555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6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0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3561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2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3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4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5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6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3567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0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3571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2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3573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4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75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6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3577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8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9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3580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1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2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3583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4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5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3586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7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8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3589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0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1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3592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3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4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3595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6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7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3598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9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0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3601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2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3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3604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5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6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3607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8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609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0" name=""/>
          <p:cNvGrpSpPr/>
          <p:nvPr/>
        </p:nvGrpSpPr>
        <p:grpSpPr>
          <a:xfrm>
            <a:off x="1991520" y="3453120"/>
            <a:ext cx="2808000" cy="2010240"/>
            <a:chOff x="1991520" y="3453120"/>
            <a:chExt cx="2808000" cy="2010240"/>
          </a:xfrm>
        </p:grpSpPr>
        <p:grpSp>
          <p:nvGrpSpPr>
            <p:cNvPr id="3611" name=""/>
            <p:cNvGrpSpPr/>
            <p:nvPr/>
          </p:nvGrpSpPr>
          <p:grpSpPr>
            <a:xfrm>
              <a:off x="1991520" y="3874680"/>
              <a:ext cx="1917360" cy="1588680"/>
              <a:chOff x="1991520" y="3874680"/>
              <a:chExt cx="1917360" cy="1588680"/>
            </a:xfrm>
          </p:grpSpPr>
          <p:grpSp>
            <p:nvGrpSpPr>
              <p:cNvPr id="3612" name=""/>
              <p:cNvGrpSpPr/>
              <p:nvPr/>
            </p:nvGrpSpPr>
            <p:grpSpPr>
              <a:xfrm>
                <a:off x="2034720" y="3874680"/>
                <a:ext cx="1863360" cy="1562040"/>
                <a:chOff x="2034720" y="3874680"/>
                <a:chExt cx="1863360" cy="1562040"/>
              </a:xfrm>
            </p:grpSpPr>
            <p:grpSp>
              <p:nvGrpSpPr>
                <p:cNvPr id="3613" name=""/>
                <p:cNvGrpSpPr/>
                <p:nvPr/>
              </p:nvGrpSpPr>
              <p:grpSpPr>
                <a:xfrm>
                  <a:off x="2034720" y="3874680"/>
                  <a:ext cx="1863360" cy="1562040"/>
                  <a:chOff x="2034720" y="3874680"/>
                  <a:chExt cx="1863360" cy="1562040"/>
                </a:xfrm>
              </p:grpSpPr>
              <p:sp>
                <p:nvSpPr>
                  <p:cNvPr id="3614" name=""/>
                  <p:cNvSpPr/>
                  <p:nvPr/>
                </p:nvSpPr>
                <p:spPr>
                  <a:xfrm rot="15622800">
                    <a:off x="2068920" y="4313160"/>
                    <a:ext cx="109836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 rot="15622800">
                    <a:off x="2587320" y="3961800"/>
                    <a:ext cx="121140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6" name=""/>
                <p:cNvGrpSpPr/>
                <p:nvPr/>
              </p:nvGrpSpPr>
              <p:grpSpPr>
                <a:xfrm>
                  <a:off x="2068560" y="3950640"/>
                  <a:ext cx="1756080" cy="1418400"/>
                  <a:chOff x="2068560" y="3950640"/>
                  <a:chExt cx="1756080" cy="1418400"/>
                </a:xfrm>
              </p:grpSpPr>
              <p:sp>
                <p:nvSpPr>
                  <p:cNvPr id="3617" name=""/>
                  <p:cNvSpPr/>
                  <p:nvPr/>
                </p:nvSpPr>
                <p:spPr>
                  <a:xfrm rot="15622800">
                    <a:off x="3441960" y="4760280"/>
                    <a:ext cx="3139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8" name=""/>
                  <p:cNvSpPr/>
                  <p:nvPr/>
                </p:nvSpPr>
                <p:spPr>
                  <a:xfrm rot="15622800">
                    <a:off x="2824920" y="3674880"/>
                    <a:ext cx="11268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9" name=""/>
                  <p:cNvSpPr/>
                  <p:nvPr/>
                </p:nvSpPr>
                <p:spPr>
                  <a:xfrm rot="15622800">
                    <a:off x="2000520" y="4491720"/>
                    <a:ext cx="4467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0" name=""/>
                  <p:cNvSpPr/>
                  <p:nvPr/>
                </p:nvSpPr>
                <p:spPr>
                  <a:xfrm rot="15622800">
                    <a:off x="2766960" y="4969800"/>
                    <a:ext cx="1425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21" name=""/>
              <p:cNvSpPr/>
              <p:nvPr/>
            </p:nvSpPr>
            <p:spPr>
              <a:xfrm rot="15622800">
                <a:off x="2378160" y="3827880"/>
                <a:ext cx="126396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2" name=""/>
              <p:cNvGrpSpPr/>
              <p:nvPr/>
            </p:nvGrpSpPr>
            <p:grpSpPr>
              <a:xfrm>
                <a:off x="1991520" y="3948840"/>
                <a:ext cx="1797120" cy="1514520"/>
                <a:chOff x="1991520" y="3948840"/>
                <a:chExt cx="1797120" cy="1514520"/>
              </a:xfrm>
            </p:grpSpPr>
            <p:sp>
              <p:nvSpPr>
                <p:cNvPr id="3623" name=""/>
                <p:cNvSpPr/>
                <p:nvPr/>
              </p:nvSpPr>
              <p:spPr>
                <a:xfrm rot="15622800">
                  <a:off x="2274840" y="3921480"/>
                  <a:ext cx="123408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"/>
                <p:cNvSpPr/>
                <p:nvPr/>
              </p:nvSpPr>
              <p:spPr>
                <a:xfrm rot="15622800">
                  <a:off x="2258280" y="3901680"/>
                  <a:ext cx="126360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 rot="15622800">
                  <a:off x="2293920" y="3944520"/>
                  <a:ext cx="119340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6" name=""/>
            <p:cNvGrpSpPr/>
            <p:nvPr/>
          </p:nvGrpSpPr>
          <p:grpSpPr>
            <a:xfrm>
              <a:off x="3510000" y="3453120"/>
              <a:ext cx="1289520" cy="863280"/>
              <a:chOff x="3510000" y="3453120"/>
              <a:chExt cx="1289520" cy="863280"/>
            </a:xfrm>
          </p:grpSpPr>
          <p:sp>
            <p:nvSpPr>
              <p:cNvPr id="3627" name=""/>
              <p:cNvSpPr/>
              <p:nvPr/>
            </p:nvSpPr>
            <p:spPr>
              <a:xfrm rot="15622800">
                <a:off x="3832560" y="3309480"/>
                <a:ext cx="61776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rot="15622800">
                <a:off x="3552840" y="4082400"/>
                <a:ext cx="19008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rot="15622800">
                <a:off x="3577680" y="4060800"/>
                <a:ext cx="19260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rot="15622800">
                <a:off x="3643920" y="4080600"/>
                <a:ext cx="117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rot="15622800">
                <a:off x="3551760" y="4083840"/>
                <a:ext cx="189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rot="15622800">
                <a:off x="3702960" y="3987720"/>
                <a:ext cx="1908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3" name=""/>
              <p:cNvGrpSpPr/>
              <p:nvPr/>
            </p:nvGrpSpPr>
            <p:grpSpPr>
              <a:xfrm>
                <a:off x="3686760" y="3967200"/>
                <a:ext cx="289800" cy="243000"/>
                <a:chOff x="3686760" y="3967200"/>
                <a:chExt cx="289800" cy="243000"/>
              </a:xfrm>
            </p:grpSpPr>
            <p:grpSp>
              <p:nvGrpSpPr>
                <p:cNvPr id="3634" name=""/>
                <p:cNvGrpSpPr/>
                <p:nvPr/>
              </p:nvGrpSpPr>
              <p:grpSpPr>
                <a:xfrm>
                  <a:off x="3686760" y="3981240"/>
                  <a:ext cx="266400" cy="228960"/>
                  <a:chOff x="3686760" y="3981240"/>
                  <a:chExt cx="266400" cy="228960"/>
                </a:xfrm>
              </p:grpSpPr>
              <p:sp>
                <p:nvSpPr>
                  <p:cNvPr id="3635" name=""/>
                  <p:cNvSpPr/>
                  <p:nvPr/>
                </p:nvSpPr>
                <p:spPr>
                  <a:xfrm rot="15622800">
                    <a:off x="3724560" y="397764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6" name=""/>
                  <p:cNvSpPr/>
                  <p:nvPr/>
                </p:nvSpPr>
                <p:spPr>
                  <a:xfrm rot="15622800">
                    <a:off x="3723840" y="3976920"/>
                    <a:ext cx="19188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7" name=""/>
                  <p:cNvSpPr/>
                  <p:nvPr/>
                </p:nvSpPr>
                <p:spPr>
                  <a:xfrm rot="15622800">
                    <a:off x="3724560" y="397656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38" name=""/>
                <p:cNvSpPr/>
                <p:nvPr/>
              </p:nvSpPr>
              <p:spPr>
                <a:xfrm rot="15622800">
                  <a:off x="3748320" y="396252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9" name=""/>
              <p:cNvGrpSpPr/>
              <p:nvPr/>
            </p:nvGrpSpPr>
            <p:grpSpPr>
              <a:xfrm>
                <a:off x="3732840" y="3941280"/>
                <a:ext cx="290160" cy="242640"/>
                <a:chOff x="3732840" y="3941280"/>
                <a:chExt cx="290160" cy="242640"/>
              </a:xfrm>
            </p:grpSpPr>
            <p:grpSp>
              <p:nvGrpSpPr>
                <p:cNvPr id="3640" name=""/>
                <p:cNvGrpSpPr/>
                <p:nvPr/>
              </p:nvGrpSpPr>
              <p:grpSpPr>
                <a:xfrm>
                  <a:off x="3732840" y="3954960"/>
                  <a:ext cx="266040" cy="228960"/>
                  <a:chOff x="3732840" y="3954960"/>
                  <a:chExt cx="266040" cy="228960"/>
                </a:xfrm>
              </p:grpSpPr>
              <p:sp>
                <p:nvSpPr>
                  <p:cNvPr id="3641" name=""/>
                  <p:cNvSpPr/>
                  <p:nvPr/>
                </p:nvSpPr>
                <p:spPr>
                  <a:xfrm rot="15622800">
                    <a:off x="3769920" y="3951000"/>
                    <a:ext cx="1911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2" name=""/>
                  <p:cNvSpPr/>
                  <p:nvPr/>
                </p:nvSpPr>
                <p:spPr>
                  <a:xfrm rot="15622800">
                    <a:off x="3769560" y="395064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"/>
                  <p:cNvSpPr/>
                  <p:nvPr/>
                </p:nvSpPr>
                <p:spPr>
                  <a:xfrm rot="15622800">
                    <a:off x="3770280" y="3950640"/>
                    <a:ext cx="1900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4" name=""/>
                <p:cNvSpPr/>
                <p:nvPr/>
              </p:nvSpPr>
              <p:spPr>
                <a:xfrm rot="15622800">
                  <a:off x="3794760" y="3936240"/>
                  <a:ext cx="1904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5" name=""/>
              <p:cNvGrpSpPr/>
              <p:nvPr/>
            </p:nvGrpSpPr>
            <p:grpSpPr>
              <a:xfrm>
                <a:off x="3775320" y="3926880"/>
                <a:ext cx="266760" cy="229680"/>
                <a:chOff x="3775320" y="3926880"/>
                <a:chExt cx="266760" cy="229680"/>
              </a:xfrm>
            </p:grpSpPr>
            <p:sp>
              <p:nvSpPr>
                <p:cNvPr id="3646" name=""/>
                <p:cNvSpPr/>
                <p:nvPr/>
              </p:nvSpPr>
              <p:spPr>
                <a:xfrm rot="15622800">
                  <a:off x="3813120" y="3923640"/>
                  <a:ext cx="19116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7" name=""/>
                <p:cNvSpPr/>
                <p:nvPr/>
              </p:nvSpPr>
              <p:spPr>
                <a:xfrm rot="15622800">
                  <a:off x="3812040" y="3922560"/>
                  <a:ext cx="19260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8" name=""/>
              <p:cNvGrpSpPr/>
              <p:nvPr/>
            </p:nvGrpSpPr>
            <p:grpSpPr>
              <a:xfrm>
                <a:off x="3775320" y="3913200"/>
                <a:ext cx="290160" cy="242280"/>
                <a:chOff x="3775320" y="3913200"/>
                <a:chExt cx="290160" cy="242280"/>
              </a:xfrm>
            </p:grpSpPr>
            <p:sp>
              <p:nvSpPr>
                <p:cNvPr id="3649" name=""/>
                <p:cNvSpPr/>
                <p:nvPr/>
              </p:nvSpPr>
              <p:spPr>
                <a:xfrm rot="15622800">
                  <a:off x="3812400" y="3922560"/>
                  <a:ext cx="1915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0" name=""/>
                <p:cNvSpPr/>
                <p:nvPr/>
              </p:nvSpPr>
              <p:spPr>
                <a:xfrm rot="15622800">
                  <a:off x="3836520" y="390852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1" name=""/>
              <p:cNvGrpSpPr/>
              <p:nvPr/>
            </p:nvGrpSpPr>
            <p:grpSpPr>
              <a:xfrm>
                <a:off x="3587400" y="3513960"/>
                <a:ext cx="1119960" cy="770760"/>
                <a:chOff x="3587400" y="3513960"/>
                <a:chExt cx="1119960" cy="770760"/>
              </a:xfrm>
            </p:grpSpPr>
            <p:sp>
              <p:nvSpPr>
                <p:cNvPr id="3652" name=""/>
                <p:cNvSpPr/>
                <p:nvPr/>
              </p:nvSpPr>
              <p:spPr>
                <a:xfrm flipV="1">
                  <a:off x="3587400" y="3513960"/>
                  <a:ext cx="961200" cy="60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3" name=""/>
                <p:cNvSpPr/>
                <p:nvPr/>
              </p:nvSpPr>
              <p:spPr>
                <a:xfrm flipV="1">
                  <a:off x="3700440" y="3667320"/>
                  <a:ext cx="1006920" cy="617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4" name=""/>
              <p:cNvGrpSpPr/>
              <p:nvPr/>
            </p:nvGrpSpPr>
            <p:grpSpPr>
              <a:xfrm>
                <a:off x="3817800" y="3888000"/>
                <a:ext cx="285480" cy="241200"/>
                <a:chOff x="3817800" y="3888000"/>
                <a:chExt cx="285480" cy="241200"/>
              </a:xfrm>
            </p:grpSpPr>
            <p:grpSp>
              <p:nvGrpSpPr>
                <p:cNvPr id="3655" name=""/>
                <p:cNvGrpSpPr/>
                <p:nvPr/>
              </p:nvGrpSpPr>
              <p:grpSpPr>
                <a:xfrm>
                  <a:off x="3817800" y="3900240"/>
                  <a:ext cx="266040" cy="228960"/>
                  <a:chOff x="3817800" y="3900240"/>
                  <a:chExt cx="266040" cy="228960"/>
                </a:xfrm>
              </p:grpSpPr>
              <p:sp>
                <p:nvSpPr>
                  <p:cNvPr id="3656" name=""/>
                  <p:cNvSpPr/>
                  <p:nvPr/>
                </p:nvSpPr>
                <p:spPr>
                  <a:xfrm rot="15622800">
                    <a:off x="3855600" y="3896640"/>
                    <a:ext cx="19080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7" name=""/>
                  <p:cNvSpPr/>
                  <p:nvPr/>
                </p:nvSpPr>
                <p:spPr>
                  <a:xfrm rot="15622800">
                    <a:off x="3854520" y="389592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58" name=""/>
                <p:cNvSpPr/>
                <p:nvPr/>
              </p:nvSpPr>
              <p:spPr>
                <a:xfrm rot="15622800">
                  <a:off x="3854880" y="389556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 rot="15622800">
                  <a:off x="3875040" y="388332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0" name=""/>
              <p:cNvSpPr/>
              <p:nvPr/>
            </p:nvSpPr>
            <p:spPr>
              <a:xfrm rot="15622800">
                <a:off x="4082400" y="3423960"/>
                <a:ext cx="38088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rot="15622800">
                <a:off x="4546440" y="3444840"/>
                <a:ext cx="2080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62" name=""/>
          <p:cNvSpPr/>
          <p:nvPr/>
        </p:nvSpPr>
        <p:spPr>
          <a:xfrm>
            <a:off x="898560" y="6035760"/>
            <a:ext cx="70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mas atividades de fases subseqüentes podem ocorrer em paral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45960" y="0"/>
            <a:ext cx="741528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Caracterizaçã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processo </a:t>
            </a:r>
            <a:r>
              <a:rPr b="0" i="1" lang="en-US" sz="2400" spc="-1" strike="noStrike">
                <a:solidFill>
                  <a:srgbClr val="000096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 proje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937800" y="337932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ínuos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t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717840" y="4788720"/>
            <a:ext cx="30520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s atua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457200" y="1548720"/>
            <a:ext cx="3581280" cy="520560"/>
            <a:chOff x="457200" y="1548720"/>
            <a:chExt cx="3581280" cy="520560"/>
          </a:xfrm>
        </p:grpSpPr>
        <p:sp>
          <p:nvSpPr>
            <p:cNvPr id="1026" name=""/>
            <p:cNvSpPr/>
            <p:nvPr/>
          </p:nvSpPr>
          <p:spPr>
            <a:xfrm>
              <a:off x="457200" y="2039760"/>
              <a:ext cx="358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532880" y="154872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5021280" y="1518480"/>
            <a:ext cx="3581280" cy="520560"/>
            <a:chOff x="5021280" y="1518480"/>
            <a:chExt cx="3581280" cy="520560"/>
          </a:xfrm>
        </p:grpSpPr>
        <p:sp>
          <p:nvSpPr>
            <p:cNvPr id="1029" name=""/>
            <p:cNvSpPr/>
            <p:nvPr/>
          </p:nvSpPr>
          <p:spPr>
            <a:xfrm>
              <a:off x="5021280" y="2009520"/>
              <a:ext cx="358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96960" y="15184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514440" y="2205000"/>
            <a:ext cx="3581280" cy="671400"/>
          </a:xfrm>
          <a:prstGeom prst="rightArrow">
            <a:avLst>
              <a:gd name="adj1" fmla="val 61704"/>
              <a:gd name="adj2" fmla="val 6833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14440" y="2903400"/>
            <a:ext cx="3581280" cy="671760"/>
          </a:xfrm>
          <a:prstGeom prst="rightArrow">
            <a:avLst>
              <a:gd name="adj1" fmla="val 61704"/>
              <a:gd name="adj2" fmla="val 68293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398600" y="957960"/>
            <a:ext cx="2446200" cy="434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863320" y="934200"/>
            <a:ext cx="167148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5105520" y="2166840"/>
            <a:ext cx="3440160" cy="1120320"/>
            <a:chOff x="5105520" y="2166840"/>
            <a:chExt cx="3440160" cy="1120320"/>
          </a:xfrm>
        </p:grpSpPr>
        <p:grpSp>
          <p:nvGrpSpPr>
            <p:cNvPr id="1036" name=""/>
            <p:cNvGrpSpPr/>
            <p:nvPr/>
          </p:nvGrpSpPr>
          <p:grpSpPr>
            <a:xfrm>
              <a:off x="6934320" y="2776320"/>
              <a:ext cx="914400" cy="304560"/>
              <a:chOff x="6934320" y="2776320"/>
              <a:chExt cx="914400" cy="304560"/>
            </a:xfrm>
          </p:grpSpPr>
          <p:sp>
            <p:nvSpPr>
              <p:cNvPr id="1037" name=""/>
              <p:cNvSpPr/>
              <p:nvPr/>
            </p:nvSpPr>
            <p:spPr>
              <a:xfrm>
                <a:off x="6934320" y="29286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934320" y="2776320"/>
                <a:ext cx="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848720" y="2776320"/>
                <a:ext cx="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8077320" y="2852640"/>
              <a:ext cx="468360" cy="434520"/>
              <a:chOff x="8077320" y="2852640"/>
              <a:chExt cx="468360" cy="434520"/>
            </a:xfrm>
          </p:grpSpPr>
          <p:sp>
            <p:nvSpPr>
              <p:cNvPr id="1041" name=""/>
              <p:cNvSpPr/>
              <p:nvPr/>
            </p:nvSpPr>
            <p:spPr>
              <a:xfrm>
                <a:off x="8077320" y="3069720"/>
                <a:ext cx="4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077320" y="2852640"/>
                <a:ext cx="0" cy="434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545680" y="2852640"/>
                <a:ext cx="0" cy="434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7696080" y="2242800"/>
              <a:ext cx="784440" cy="434880"/>
              <a:chOff x="7696080" y="2242800"/>
              <a:chExt cx="784440" cy="434880"/>
            </a:xfrm>
          </p:grpSpPr>
          <p:sp>
            <p:nvSpPr>
              <p:cNvPr id="1045" name=""/>
              <p:cNvSpPr/>
              <p:nvPr/>
            </p:nvSpPr>
            <p:spPr>
              <a:xfrm>
                <a:off x="7696080" y="2460240"/>
                <a:ext cx="78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696080" y="2242800"/>
                <a:ext cx="0" cy="43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480520" y="2242800"/>
                <a:ext cx="0" cy="43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5105520" y="2242800"/>
              <a:ext cx="914400" cy="304560"/>
              <a:chOff x="5105520" y="2242800"/>
              <a:chExt cx="914400" cy="304560"/>
            </a:xfrm>
          </p:grpSpPr>
          <p:sp>
            <p:nvSpPr>
              <p:cNvPr id="1049" name=""/>
              <p:cNvSpPr/>
              <p:nvPr/>
            </p:nvSpPr>
            <p:spPr>
              <a:xfrm>
                <a:off x="5105520" y="2395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105520" y="2242800"/>
                <a:ext cx="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019920" y="2242800"/>
                <a:ext cx="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5867280" y="2700000"/>
              <a:ext cx="468360" cy="434880"/>
              <a:chOff x="5867280" y="2700000"/>
              <a:chExt cx="468360" cy="434880"/>
            </a:xfrm>
          </p:grpSpPr>
          <p:sp>
            <p:nvSpPr>
              <p:cNvPr id="1053" name=""/>
              <p:cNvSpPr/>
              <p:nvPr/>
            </p:nvSpPr>
            <p:spPr>
              <a:xfrm>
                <a:off x="5867280" y="2917440"/>
                <a:ext cx="4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67280" y="2700000"/>
                <a:ext cx="0" cy="43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335640" y="2700000"/>
                <a:ext cx="0" cy="43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6629400" y="2166840"/>
              <a:ext cx="468360" cy="434520"/>
              <a:chOff x="6629400" y="2166840"/>
              <a:chExt cx="468360" cy="434520"/>
            </a:xfrm>
          </p:grpSpPr>
          <p:sp>
            <p:nvSpPr>
              <p:cNvPr id="1057" name=""/>
              <p:cNvSpPr/>
              <p:nvPr/>
            </p:nvSpPr>
            <p:spPr>
              <a:xfrm>
                <a:off x="6629400" y="2383920"/>
                <a:ext cx="4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629400" y="2166840"/>
                <a:ext cx="0" cy="434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97760" y="2166840"/>
                <a:ext cx="0" cy="434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0" name=""/>
          <p:cNvSpPr/>
          <p:nvPr/>
        </p:nvSpPr>
        <p:spPr>
          <a:xfrm>
            <a:off x="4861080" y="3428280"/>
            <a:ext cx="38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porári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ú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43960" y="515232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s ú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868320" y="4294080"/>
          <a:ext cx="53172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4294080"/>
                    <a:ext cx="531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4" name=""/>
          <p:cNvGraphicFramePr/>
          <p:nvPr/>
        </p:nvGraphicFramePr>
        <p:xfrm>
          <a:off x="6384960" y="4013280"/>
          <a:ext cx="8380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4960" y="401328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6" name=""/>
          <p:cNvGraphicFramePr/>
          <p:nvPr/>
        </p:nvGraphicFramePr>
        <p:xfrm>
          <a:off x="1973160" y="4294080"/>
          <a:ext cx="53208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3160" y="4294080"/>
                    <a:ext cx="5320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8" name=""/>
          <p:cNvGraphicFramePr/>
          <p:nvPr/>
        </p:nvGraphicFramePr>
        <p:xfrm>
          <a:off x="3078000" y="4294080"/>
          <a:ext cx="53208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8000" y="4294080"/>
                    <a:ext cx="5320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0" name=""/>
          <p:cNvGraphicFramePr/>
          <p:nvPr/>
        </p:nvGraphicFramePr>
        <p:xfrm>
          <a:off x="6537240" y="4165560"/>
          <a:ext cx="83844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37240" y="416556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2" name=""/>
          <p:cNvGraphicFramePr/>
          <p:nvPr/>
        </p:nvGraphicFramePr>
        <p:xfrm>
          <a:off x="6689880" y="4317840"/>
          <a:ext cx="838080" cy="8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89880" y="4317840"/>
                    <a:ext cx="8380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"/>
          <p:cNvSpPr/>
          <p:nvPr/>
        </p:nvSpPr>
        <p:spPr>
          <a:xfrm>
            <a:off x="4648320" y="971640"/>
            <a:ext cx="2880" cy="4789440"/>
          </a:xfrm>
          <a:custGeom>
            <a:avLst/>
            <a:gdLst/>
            <a:ahLst/>
            <a:rect l="l" t="t" r="r" b="b"/>
            <a:pathLst>
              <a:path w="2" h="3017">
                <a:moveTo>
                  <a:pt x="0" y="0"/>
                </a:moveTo>
                <a:lnTo>
                  <a:pt x="2" y="30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43000" y="5915160"/>
            <a:ext cx="8656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je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o contexto d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ces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DP, significa seguir e interpretar esse processo de forma única e temporária, visando criar um nov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Informações principais e dependências entre as atividades da fase de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lanejament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-6480" y="880920"/>
            <a:ext cx="9115560" cy="5998320"/>
            <a:chOff x="-6480" y="880920"/>
            <a:chExt cx="9115560" cy="5998320"/>
          </a:xfrm>
        </p:grpSpPr>
        <p:sp>
          <p:nvSpPr>
            <p:cNvPr id="1078" name=""/>
            <p:cNvSpPr/>
            <p:nvPr/>
          </p:nvSpPr>
          <p:spPr>
            <a:xfrm>
              <a:off x="2081160" y="880920"/>
              <a:ext cx="7027920" cy="5929560"/>
            </a:xfrm>
            <a:custGeom>
              <a:avLst/>
              <a:gdLst/>
              <a:ahLst/>
              <a:rect l="l" t="t" r="r" b="b"/>
              <a:pathLst>
                <a:path w="4427" h="4148">
                  <a:moveTo>
                    <a:pt x="38" y="1546"/>
                  </a:moveTo>
                  <a:lnTo>
                    <a:pt x="919" y="0"/>
                  </a:lnTo>
                  <a:lnTo>
                    <a:pt x="4427" y="0"/>
                  </a:lnTo>
                  <a:lnTo>
                    <a:pt x="4427" y="4148"/>
                  </a:lnTo>
                  <a:lnTo>
                    <a:pt x="964" y="4148"/>
                  </a:lnTo>
                  <a:lnTo>
                    <a:pt x="30" y="1947"/>
                  </a:lnTo>
                  <a:lnTo>
                    <a:pt x="0" y="1720"/>
                  </a:lnTo>
                  <a:lnTo>
                    <a:pt x="250" y="859"/>
                  </a:lnTo>
                  <a:lnTo>
                    <a:pt x="38" y="154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502400" y="4653000"/>
              <a:ext cx="1231920" cy="21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ris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3373560" y="5408640"/>
              <a:ext cx="1431360" cy="639720"/>
              <a:chOff x="3373560" y="5408640"/>
              <a:chExt cx="1431360" cy="639720"/>
            </a:xfrm>
          </p:grpSpPr>
          <p:sp>
            <p:nvSpPr>
              <p:cNvPr id="1081" name=""/>
              <p:cNvSpPr/>
              <p:nvPr/>
            </p:nvSpPr>
            <p:spPr>
              <a:xfrm>
                <a:off x="3373560" y="5408640"/>
                <a:ext cx="1431360" cy="639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nalisar a viabilidade econô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584600" y="5416200"/>
                <a:ext cx="203040" cy="7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"/>
            <p:cNvSpPr/>
            <p:nvPr/>
          </p:nvSpPr>
          <p:spPr>
            <a:xfrm>
              <a:off x="6696000" y="1092240"/>
              <a:ext cx="203508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interessados do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0" y="2498040"/>
              <a:ext cx="2201760" cy="8110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lanejamento do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-6480" y="981000"/>
              <a:ext cx="368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tfólio de projetos e produ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0" y="3944880"/>
              <a:ext cx="3276720" cy="29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o de Proje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claração do e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opo do projeto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do produ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vidades e sua dur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zos, orçamento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soal responsá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cursos necessár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álise de ris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dicadores de desempen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14600" y="3213000"/>
              <a:ext cx="1374840" cy="63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aptar o modelo de refe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14600" y="4653000"/>
              <a:ext cx="161604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recursos necessá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854680" y="3773520"/>
              <a:ext cx="1174680" cy="63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atividades e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qü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5567400" y="4718160"/>
              <a:ext cx="1305000" cy="639720"/>
              <a:chOff x="5567400" y="4718160"/>
              <a:chExt cx="1305000" cy="639720"/>
            </a:xfrm>
          </p:grpSpPr>
          <p:sp>
            <p:nvSpPr>
              <p:cNvPr id="1091" name=""/>
              <p:cNvSpPr/>
              <p:nvPr/>
            </p:nvSpPr>
            <p:spPr>
              <a:xfrm>
                <a:off x="5567400" y="4718160"/>
                <a:ext cx="1305000" cy="639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eparar orçament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do proje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773680" y="4718160"/>
                <a:ext cx="21456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">
              <a:hlinkClick r:id="rId1" action="ppaction://hlinksldjump"/>
            </p:cNvPr>
            <p:cNvSpPr/>
            <p:nvPr/>
          </p:nvSpPr>
          <p:spPr>
            <a:xfrm>
              <a:off x="3343320" y="1968480"/>
              <a:ext cx="144792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escopo do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151600" y="1727280"/>
              <a:ext cx="190008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escopo do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433840" y="2773440"/>
              <a:ext cx="216072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talhar o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scop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do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358040" y="5681520"/>
              <a:ext cx="140508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indicadores de desempen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800840" y="1906560"/>
              <a:ext cx="129888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plano de comunic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151600" y="5632560"/>
              <a:ext cx="1616040" cy="63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ejar e preparar aquisiçõ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8480" y="6205680"/>
              <a:ext cx="161604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Plano de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0" name=""/>
            <p:cNvCxnSpPr>
              <a:stCxn id="1094" idx="2"/>
              <a:endCxn id="1095" idx="0"/>
            </p:cNvCxnSpPr>
            <p:nvPr/>
          </p:nvCxnSpPr>
          <p:spPr>
            <a:xfrm>
              <a:off x="6102000" y="2195280"/>
              <a:ext cx="413640" cy="564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1" name=""/>
            <p:cNvCxnSpPr>
              <a:stCxn id="1093" idx="3"/>
              <a:endCxn id="1094" idx="1"/>
            </p:cNvCxnSpPr>
            <p:nvPr/>
          </p:nvCxnSpPr>
          <p:spPr>
            <a:xfrm flipV="1">
              <a:off x="4805280" y="1953360"/>
              <a:ext cx="332640" cy="242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2" name=""/>
            <p:cNvCxnSpPr>
              <a:stCxn id="1093" idx="2"/>
              <a:endCxn id="1087" idx="0"/>
            </p:cNvCxnSpPr>
            <p:nvPr/>
          </p:nvCxnSpPr>
          <p:spPr>
            <a:xfrm>
              <a:off x="4066920" y="2436480"/>
              <a:ext cx="35640" cy="762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3" name=""/>
            <p:cNvCxnSpPr>
              <a:stCxn id="1094" idx="2"/>
              <a:endCxn id="1087" idx="0"/>
            </p:cNvCxnSpPr>
            <p:nvPr/>
          </p:nvCxnSpPr>
          <p:spPr>
            <a:xfrm flipH="1">
              <a:off x="4101840" y="2195280"/>
              <a:ext cx="2000880" cy="1003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4" name=""/>
            <p:cNvCxnSpPr>
              <a:stCxn id="1095" idx="2"/>
              <a:endCxn id="1089" idx="0"/>
            </p:cNvCxnSpPr>
            <p:nvPr/>
          </p:nvCxnSpPr>
          <p:spPr>
            <a:xfrm flipH="1">
              <a:off x="6441480" y="3241440"/>
              <a:ext cx="73800" cy="518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5" name=""/>
            <p:cNvCxnSpPr>
              <a:stCxn id="1087" idx="3"/>
              <a:endCxn id="1089" idx="0"/>
            </p:cNvCxnSpPr>
            <p:nvPr/>
          </p:nvCxnSpPr>
          <p:spPr>
            <a:xfrm>
              <a:off x="4803480" y="3546000"/>
              <a:ext cx="1639080" cy="21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6" name=""/>
            <p:cNvCxnSpPr>
              <a:stCxn id="1088" idx="0"/>
              <a:endCxn id="1089" idx="1"/>
            </p:cNvCxnSpPr>
            <p:nvPr/>
          </p:nvCxnSpPr>
          <p:spPr>
            <a:xfrm flipV="1">
              <a:off x="4222440" y="4106160"/>
              <a:ext cx="1618200" cy="532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07" name=""/>
            <p:cNvCxnSpPr>
              <a:stCxn id="1083" idx="2"/>
              <a:endCxn id="1089" idx="3"/>
            </p:cNvCxnSpPr>
            <p:nvPr/>
          </p:nvCxnSpPr>
          <p:spPr>
            <a:xfrm rot="5400000">
              <a:off x="6097680" y="2491200"/>
              <a:ext cx="2561400" cy="6706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8" name=""/>
            <p:cNvCxnSpPr/>
            <p:nvPr/>
          </p:nvCxnSpPr>
          <p:spPr>
            <a:xfrm flipH="1">
              <a:off x="4066560" y="3241800"/>
              <a:ext cx="2292840" cy="1397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9" name=""/>
            <p:cNvCxnSpPr>
              <a:stCxn id="1083" idx="1"/>
              <a:endCxn id="1088" idx="1"/>
            </p:cNvCxnSpPr>
            <p:nvPr/>
          </p:nvCxnSpPr>
          <p:spPr>
            <a:xfrm flipV="1" rot="10800000">
              <a:off x="3399840" y="1314000"/>
              <a:ext cx="3286800" cy="3566160"/>
            </a:xfrm>
            <a:prstGeom prst="bentConnector3">
              <a:avLst>
                <a:gd name="adj1" fmla="val 106517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0" name=""/>
            <p:cNvCxnSpPr/>
            <p:nvPr/>
          </p:nvCxnSpPr>
          <p:spPr>
            <a:xfrm>
              <a:off x="5044680" y="4876920"/>
              <a:ext cx="508680" cy="172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11" name=""/>
            <p:cNvCxnSpPr>
              <a:stCxn id="1089" idx="2"/>
              <a:endCxn id="1091" idx="0"/>
            </p:cNvCxnSpPr>
            <p:nvPr/>
          </p:nvCxnSpPr>
          <p:spPr>
            <a:xfrm flipH="1">
              <a:off x="6219360" y="4454640"/>
              <a:ext cx="223200" cy="249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12" name=""/>
            <p:cNvCxnSpPr>
              <a:stCxn id="1091" idx="1"/>
              <a:endCxn id="1081" idx="0"/>
            </p:cNvCxnSpPr>
            <p:nvPr/>
          </p:nvCxnSpPr>
          <p:spPr>
            <a:xfrm flipH="1">
              <a:off x="4088880" y="5051160"/>
              <a:ext cx="1464480" cy="347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3" name=""/>
            <p:cNvCxnSpPr/>
            <p:nvPr/>
          </p:nvCxnSpPr>
          <p:spPr>
            <a:xfrm>
              <a:off x="7608600" y="3090600"/>
              <a:ext cx="510120" cy="15786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4" name=""/>
            <p:cNvCxnSpPr/>
            <p:nvPr/>
          </p:nvCxnSpPr>
          <p:spPr>
            <a:xfrm>
              <a:off x="7021440" y="4140360"/>
              <a:ext cx="450000" cy="606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15" name=""/>
            <p:cNvCxnSpPr/>
            <p:nvPr/>
          </p:nvCxnSpPr>
          <p:spPr>
            <a:xfrm flipV="1">
              <a:off x="6875640" y="4734720"/>
              <a:ext cx="606960" cy="338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16" name=""/>
            <p:cNvCxnSpPr>
              <a:stCxn id="1098" idx="3"/>
              <a:endCxn id="1079" idx="2"/>
            </p:cNvCxnSpPr>
            <p:nvPr/>
          </p:nvCxnSpPr>
          <p:spPr>
            <a:xfrm flipV="1">
              <a:off x="6781320" y="4893480"/>
              <a:ext cx="1337400" cy="1072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17" name=""/>
            <p:cNvCxnSpPr/>
            <p:nvPr/>
          </p:nvCxnSpPr>
          <p:spPr>
            <a:xfrm>
              <a:off x="4812840" y="3455640"/>
              <a:ext cx="3940920" cy="2414880"/>
            </a:xfrm>
            <a:prstGeom prst="bentConnector3">
              <a:avLst>
                <a:gd name="adj1" fmla="val 104704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8" name=""/>
            <p:cNvCxnSpPr/>
            <p:nvPr/>
          </p:nvCxnSpPr>
          <p:spPr>
            <a:xfrm>
              <a:off x="7043400" y="3906360"/>
              <a:ext cx="1701000" cy="1855080"/>
            </a:xfrm>
            <a:prstGeom prst="bentConnector3">
              <a:avLst>
                <a:gd name="adj1" fmla="val 1067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9" name=""/>
            <p:cNvCxnSpPr>
              <a:stCxn id="1095" idx="3"/>
              <a:endCxn id="1096" idx="3"/>
            </p:cNvCxnSpPr>
            <p:nvPr/>
          </p:nvCxnSpPr>
          <p:spPr>
            <a:xfrm>
              <a:off x="7608960" y="2999880"/>
              <a:ext cx="1164240" cy="3010680"/>
            </a:xfrm>
            <a:prstGeom prst="bentConnector3">
              <a:avLst>
                <a:gd name="adj1" fmla="val 11880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0" name=""/>
            <p:cNvCxnSpPr>
              <a:stCxn id="1083" idx="2"/>
              <a:endCxn id="1097" idx="0"/>
            </p:cNvCxnSpPr>
            <p:nvPr/>
          </p:nvCxnSpPr>
          <p:spPr>
            <a:xfrm>
              <a:off x="7713720" y="1545840"/>
              <a:ext cx="73728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1" name=""/>
            <p:cNvCxnSpPr>
              <a:stCxn id="1088" idx="2"/>
              <a:endCxn id="1098" idx="0"/>
            </p:cNvCxnSpPr>
            <p:nvPr/>
          </p:nvCxnSpPr>
          <p:spPr>
            <a:xfrm>
              <a:off x="4222800" y="5121360"/>
              <a:ext cx="1737360" cy="497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2" name=""/>
            <p:cNvCxnSpPr/>
            <p:nvPr/>
          </p:nvCxnSpPr>
          <p:spPr>
            <a:xfrm flipH="1">
              <a:off x="6770160" y="2944440"/>
              <a:ext cx="828000" cy="296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3" name=""/>
            <p:cNvSpPr/>
            <p:nvPr/>
          </p:nvSpPr>
          <p:spPr>
            <a:xfrm>
              <a:off x="0" y="1341360"/>
              <a:ext cx="28432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posta do produto (Minuta do Proje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324000" y="3429000"/>
              <a:ext cx="1371600" cy="3808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95280" y="1988280"/>
              <a:ext cx="1371600" cy="3812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789440" y="2206800"/>
              <a:ext cx="138276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ir interessado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r o model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atividades e s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cron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orçament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a viabilidade econômica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517840" y="963720"/>
            <a:ext cx="4421160" cy="3848040"/>
          </a:xfrm>
          <a:custGeom>
            <a:avLst/>
            <a:gdLst/>
            <a:ahLst/>
            <a:rect l="l" t="t" r="r" b="b"/>
            <a:pathLst>
              <a:path w="2785" h="2424">
                <a:moveTo>
                  <a:pt x="0" y="1010"/>
                </a:moveTo>
                <a:lnTo>
                  <a:pt x="718" y="0"/>
                </a:lnTo>
                <a:lnTo>
                  <a:pt x="2783" y="0"/>
                </a:lnTo>
                <a:lnTo>
                  <a:pt x="2785" y="2416"/>
                </a:lnTo>
                <a:lnTo>
                  <a:pt x="740" y="2424"/>
                </a:lnTo>
                <a:lnTo>
                  <a:pt x="10" y="1339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6320" y="2173320"/>
            <a:ext cx="1423800" cy="472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ejamento do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rot="10800000">
            <a:off x="1522440" y="3314520"/>
            <a:ext cx="665280" cy="1537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rot="10800000">
            <a:off x="1520640" y="2044440"/>
            <a:ext cx="664920" cy="1537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906480"/>
            <a:ext cx="2901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ta do Prod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fil do pess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trições organizacion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330200" y="2455920"/>
            <a:ext cx="1447920" cy="63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interessados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774960" y="1557360"/>
            <a:ext cx="262908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mento organizacional dos interessados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774960" y="2630520"/>
            <a:ext cx="258768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ntagem da equipe com os interessados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962520" y="3635280"/>
            <a:ext cx="2255760" cy="63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esenvolvimento da equipe para a execução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04720" y="3602160"/>
            <a:ext cx="27417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nejamento organizacional do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tagem e desenvolvimento da equi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3652920" y="4869000"/>
            <a:ext cx="3384360" cy="1794960"/>
            <a:chOff x="3652920" y="4869000"/>
            <a:chExt cx="3384360" cy="1794960"/>
          </a:xfrm>
        </p:grpSpPr>
        <p:sp>
          <p:nvSpPr>
            <p:cNvPr id="1140" name=""/>
            <p:cNvSpPr/>
            <p:nvPr/>
          </p:nvSpPr>
          <p:spPr>
            <a:xfrm>
              <a:off x="3652920" y="5251320"/>
              <a:ext cx="3384360" cy="141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213800" y="5616360"/>
              <a:ext cx="2261520" cy="9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hores práticas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renciament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ursos huma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09880" y="4869000"/>
              <a:ext cx="298404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212760" y="5251320"/>
            <a:ext cx="3384360" cy="141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04640" y="4869000"/>
            <a:ext cx="2984760" cy="549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ção com outras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04640" y="5616720"/>
            <a:ext cx="298476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recursos necess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04640" y="5961240"/>
            <a:ext cx="300204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atividades e praz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04720" y="6289560"/>
            <a:ext cx="2592360" cy="21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plano de comun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36440" y="25092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de definição dos interessado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624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definição dos interessados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12320" y="11430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jamento organizacional dos interessados do pro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as atribuições dos papéis e responsáveis pelas atividades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r um plano de gerenciamento do pessoal envolvido com 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ir o organograma do projeto (relacionamentos entre os responsáveis pelas atividad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as (descrição do nível de dedicação de cada pessoa, as necessidades de treinamento de pessoal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gem e desenvolvimento da equipe para a execução do pro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ão de proj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quad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ritório de projetos (quadro 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icipação de fornecedores no PDP (quadro 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po do produ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projeto (quadro 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ck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escopo do projeto (quadro 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ção de EDT (WBS) (quadro 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idados para a elaboração da EDT (quadro 5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ância da definição do escopo (quadro 5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3" name=""/>
          <p:cNvGrpSpPr/>
          <p:nvPr/>
        </p:nvGrpSpPr>
        <p:grpSpPr>
          <a:xfrm>
            <a:off x="1094040" y="2496960"/>
            <a:ext cx="6845400" cy="802440"/>
            <a:chOff x="1094040" y="2496960"/>
            <a:chExt cx="6845400" cy="802440"/>
          </a:xfrm>
        </p:grpSpPr>
        <p:sp>
          <p:nvSpPr>
            <p:cNvPr id="1154" name=""/>
            <p:cNvSpPr/>
            <p:nvPr/>
          </p:nvSpPr>
          <p:spPr>
            <a:xfrm>
              <a:off x="2381760" y="2496960"/>
              <a:ext cx="5473080" cy="254880"/>
            </a:xfrm>
            <a:custGeom>
              <a:avLst/>
              <a:gdLst>
                <a:gd name="textAreaLeft" fmla="*/ 0 w 5473080"/>
                <a:gd name="textAreaRight" fmla="*/ 5473440 w 547308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221" y="0"/>
                  </a:lnTo>
                  <a:lnTo>
                    <a:pt x="21600" y="10800"/>
                  </a:lnTo>
                  <a:lnTo>
                    <a:pt x="21221" y="21600"/>
                  </a:lnTo>
                  <a:lnTo>
                    <a:pt x="0" y="21600"/>
                  </a:lnTo>
                  <a:lnTo>
                    <a:pt x="37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envolvi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684680" y="2761560"/>
              <a:ext cx="1043640" cy="520200"/>
            </a:xfrm>
            <a:custGeom>
              <a:avLst/>
              <a:gdLst>
                <a:gd name="textAreaLeft" fmla="*/ 0 w 1043640"/>
                <a:gd name="textAreaRight" fmla="*/ 1044000 w 1043640"/>
                <a:gd name="textAreaTop" fmla="*/ 0 h 520200"/>
                <a:gd name="textAreaBottom" fmla="*/ 520560 h 52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4" y="0"/>
                  </a:lnTo>
                  <a:lnTo>
                    <a:pt x="21600" y="10800"/>
                  </a:lnTo>
                  <a:lnTo>
                    <a:pt x="19544" y="21600"/>
                  </a:lnTo>
                  <a:lnTo>
                    <a:pt x="0" y="21600"/>
                  </a:lnTo>
                  <a:lnTo>
                    <a:pt x="2056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talha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631680" y="2761560"/>
              <a:ext cx="1074240" cy="520200"/>
            </a:xfrm>
            <a:custGeom>
              <a:avLst/>
              <a:gdLst>
                <a:gd name="textAreaLeft" fmla="*/ 0 w 1074240"/>
                <a:gd name="textAreaRight" fmla="*/ 1074600 w 1074240"/>
                <a:gd name="textAreaTop" fmla="*/ 0 h 520200"/>
                <a:gd name="textAreaBottom" fmla="*/ 520560 h 52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72" y="0"/>
                  </a:lnTo>
                  <a:lnTo>
                    <a:pt x="21600" y="10800"/>
                  </a:lnTo>
                  <a:lnTo>
                    <a:pt x="19672" y="21600"/>
                  </a:lnTo>
                  <a:lnTo>
                    <a:pt x="0" y="21600"/>
                  </a:lnTo>
                  <a:lnTo>
                    <a:pt x="1928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eitu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354760" y="2761560"/>
              <a:ext cx="1302840" cy="520200"/>
            </a:xfrm>
            <a:custGeom>
              <a:avLst/>
              <a:gdLst>
                <a:gd name="textAreaLeft" fmla="*/ 0 w 1302840"/>
                <a:gd name="textAreaRight" fmla="*/ 1303200 w 1302840"/>
                <a:gd name="textAreaTop" fmla="*/ 0 h 520200"/>
                <a:gd name="textAreaBottom" fmla="*/ 520560 h 52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46" y="0"/>
                  </a:lnTo>
                  <a:lnTo>
                    <a:pt x="21600" y="10800"/>
                  </a:lnTo>
                  <a:lnTo>
                    <a:pt x="19746" y="21600"/>
                  </a:lnTo>
                  <a:lnTo>
                    <a:pt x="0" y="21600"/>
                  </a:lnTo>
                  <a:lnTo>
                    <a:pt x="1854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ormacio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777360" y="2761560"/>
              <a:ext cx="1162080" cy="520200"/>
            </a:xfrm>
            <a:custGeom>
              <a:avLst/>
              <a:gdLst>
                <a:gd name="textAreaLeft" fmla="*/ 0 w 1162080"/>
                <a:gd name="textAreaRight" fmla="*/ 1162080 w 1162080"/>
                <a:gd name="textAreaTop" fmla="*/ 0 h 520200"/>
                <a:gd name="textAreaBottom" fmla="*/ 520560 h 52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40" y="0"/>
                  </a:lnTo>
                  <a:lnTo>
                    <a:pt x="21600" y="10800"/>
                  </a:lnTo>
                  <a:lnTo>
                    <a:pt x="19740" y="21600"/>
                  </a:lnTo>
                  <a:lnTo>
                    <a:pt x="0" y="21600"/>
                  </a:lnTo>
                  <a:lnTo>
                    <a:pt x="1860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nç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703840" y="2761560"/>
              <a:ext cx="1102680" cy="520200"/>
            </a:xfrm>
            <a:custGeom>
              <a:avLst/>
              <a:gdLst>
                <a:gd name="textAreaLeft" fmla="*/ 0 w 1102680"/>
                <a:gd name="textAreaRight" fmla="*/ 1102680 w 1102680"/>
                <a:gd name="textAreaTop" fmla="*/ 0 h 520200"/>
                <a:gd name="textAreaBottom" fmla="*/ 520560 h 52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987" y="0"/>
                  </a:lnTo>
                  <a:lnTo>
                    <a:pt x="21600" y="10800"/>
                  </a:lnTo>
                  <a:lnTo>
                    <a:pt x="19987" y="21600"/>
                  </a:lnTo>
                  <a:lnTo>
                    <a:pt x="0" y="21600"/>
                  </a:lnTo>
                  <a:lnTo>
                    <a:pt x="1613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par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94040" y="2779200"/>
              <a:ext cx="1270800" cy="520200"/>
            </a:xfrm>
            <a:custGeom>
              <a:avLst/>
              <a:gdLst>
                <a:gd name="textAreaLeft" fmla="*/ 0 w 1270800"/>
                <a:gd name="textAreaRight" fmla="*/ 1271160 w 1270800"/>
                <a:gd name="textAreaTop" fmla="*/ 0 h 520200"/>
                <a:gd name="textAreaBottom" fmla="*/ 520560 h 52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j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"/>
          <p:cNvSpPr/>
          <p:nvPr/>
        </p:nvSpPr>
        <p:spPr>
          <a:xfrm>
            <a:off x="1332000" y="6384960"/>
            <a:ext cx="2901960" cy="337680"/>
          </a:xfrm>
          <a:prstGeom prst="borderCallout1">
            <a:avLst>
              <a:gd name="adj1" fmla="val -543"/>
              <a:gd name="adj2" fmla="val -201576"/>
              <a:gd name="adj3" fmla="val -544"/>
              <a:gd name="adj4" fmla="val 153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ceiro de R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62080" y="1544040"/>
            <a:ext cx="2411280" cy="520200"/>
          </a:xfrm>
          <a:custGeom>
            <a:avLst/>
            <a:gdLst>
              <a:gd name="textAreaLeft" fmla="*/ 0 w 2411280"/>
              <a:gd name="textAreaRight" fmla="*/ 2411640 w 241128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lnTo>
                  <a:pt x="2078" y="10800"/>
                </a:lnTo>
                <a:close/>
              </a:path>
            </a:pathLst>
          </a:cu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mento Estratégico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125880" y="2004840"/>
            <a:ext cx="4894200" cy="390600"/>
          </a:xfrm>
          <a:prstGeom prst="borderCallout1">
            <a:avLst>
              <a:gd name="adj1" fmla="val 18750"/>
              <a:gd name="adj2" fmla="val -8333"/>
              <a:gd name="adj3" fmla="val 50407"/>
              <a:gd name="adj4" fmla="val -377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ceiro de R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rot="4060200">
            <a:off x="81720" y="2336760"/>
            <a:ext cx="1235160" cy="438120"/>
          </a:xfrm>
          <a:prstGeom prst="rightArrow">
            <a:avLst>
              <a:gd name="adj1" fmla="val 50000"/>
              <a:gd name="adj2" fmla="val 7048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357200" y="2224080"/>
            <a:ext cx="1841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ta de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478240" y="5622840"/>
            <a:ext cx="4141800" cy="581400"/>
          </a:xfrm>
          <a:prstGeom prst="borderCallout1">
            <a:avLst>
              <a:gd name="adj1" fmla="val -396"/>
              <a:gd name="adj2" fmla="val -87081"/>
              <a:gd name="adj3" fmla="val -397"/>
              <a:gd name="adj4" fmla="val 174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ceiro de R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Desenvolvedor (parcei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749760" y="4826160"/>
            <a:ext cx="4236840" cy="581400"/>
          </a:xfrm>
          <a:prstGeom prst="borderCallout1">
            <a:avLst>
              <a:gd name="adj1" fmla="val -387"/>
              <a:gd name="adj2" fmla="val -55644"/>
              <a:gd name="adj3" fmla="val -388"/>
              <a:gd name="adj4" fmla="val 174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Desenvolv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ceiro de 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5476320" y="3584520"/>
            <a:ext cx="3633480" cy="58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52" y="4191"/>
                </a:moveTo>
                <a:lnTo>
                  <a:pt x="22052" y="4191"/>
                </a:lnTo>
                <a:lnTo>
                  <a:pt x="22052" y="523"/>
                </a:lnTo>
                <a:lnTo>
                  <a:pt x="19248" y="-1637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necedor de 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necedor de Peças-Padr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4376160" y="4335480"/>
            <a:ext cx="4017960" cy="33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09" y="7133"/>
                </a:moveTo>
                <a:lnTo>
                  <a:pt x="23818" y="7133"/>
                </a:lnTo>
                <a:lnTo>
                  <a:pt x="23818" y="-30221"/>
                </a:lnTo>
                <a:lnTo>
                  <a:pt x="18885" y="-7522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necedor de 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89000" y="997920"/>
            <a:ext cx="8766000" cy="459720"/>
          </a:xfrm>
          <a:prstGeom prst="rect">
            <a:avLst/>
          </a:prstGeom>
          <a:solidFill>
            <a:srgbClr val="ff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imento da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45080" y="1531800"/>
            <a:ext cx="3652920" cy="325440"/>
          </a:xfrm>
          <a:prstGeom prst="borderCallout1">
            <a:avLst>
              <a:gd name="adj1" fmla="val 18750"/>
              <a:gd name="adj2" fmla="val -8333"/>
              <a:gd name="adj3" fmla="val -50416"/>
              <a:gd name="adj4" fmla="val -16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ceiro de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708120" y="1963800"/>
            <a:ext cx="584280" cy="650880"/>
            <a:chOff x="708120" y="1963800"/>
            <a:chExt cx="584280" cy="650880"/>
          </a:xfrm>
        </p:grpSpPr>
        <p:sp>
          <p:nvSpPr>
            <p:cNvPr id="1173" name=""/>
            <p:cNvSpPr/>
            <p:nvPr/>
          </p:nvSpPr>
          <p:spPr>
            <a:xfrm>
              <a:off x="708120" y="1963800"/>
              <a:ext cx="584280" cy="650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1200" y="209412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1200" y="222408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81200" y="235404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81200" y="248436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37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ossibilidades de envolvimento dos fornecedores no PDP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Localização do planejament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103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9" name=""/>
                <p:cNvCxnSpPr>
                  <a:stCxn id="126" idx="0"/>
                  <a:endCxn id="130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1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8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2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80040" y="3407040"/>
            <a:ext cx="2808000" cy="2010240"/>
            <a:chOff x="680040" y="3407040"/>
            <a:chExt cx="2808000" cy="2010240"/>
          </a:xfrm>
        </p:grpSpPr>
        <p:grpSp>
          <p:nvGrpSpPr>
            <p:cNvPr id="204" name=""/>
            <p:cNvGrpSpPr/>
            <p:nvPr/>
          </p:nvGrpSpPr>
          <p:grpSpPr>
            <a:xfrm>
              <a:off x="680040" y="3828600"/>
              <a:ext cx="1917360" cy="1588680"/>
              <a:chOff x="680040" y="3828600"/>
              <a:chExt cx="1917360" cy="158868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723240" y="3828600"/>
                <a:ext cx="1863360" cy="1562040"/>
                <a:chOff x="723240" y="3828600"/>
                <a:chExt cx="1863360" cy="156204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723240" y="3828600"/>
                  <a:ext cx="1863360" cy="1562040"/>
                  <a:chOff x="723240" y="3828600"/>
                  <a:chExt cx="1863360" cy="15620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5622800">
                    <a:off x="757440" y="4267080"/>
                    <a:ext cx="109836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5622800">
                    <a:off x="1275840" y="3915720"/>
                    <a:ext cx="121140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57080" y="3904560"/>
                  <a:ext cx="1756080" cy="1418400"/>
                  <a:chOff x="757080" y="3904560"/>
                  <a:chExt cx="1756080" cy="14184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5622800">
                    <a:off x="2130480" y="4714200"/>
                    <a:ext cx="3139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5622800">
                    <a:off x="1513440" y="3628800"/>
                    <a:ext cx="11268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5622800">
                    <a:off x="689040" y="4445640"/>
                    <a:ext cx="4467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5622800">
                    <a:off x="1455480" y="4923720"/>
                    <a:ext cx="1425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" name=""/>
              <p:cNvSpPr/>
              <p:nvPr/>
            </p:nvSpPr>
            <p:spPr>
              <a:xfrm rot="15622800">
                <a:off x="1066680" y="3781800"/>
                <a:ext cx="126396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0040" y="3902760"/>
                <a:ext cx="1797120" cy="1514520"/>
                <a:chOff x="680040" y="3902760"/>
                <a:chExt cx="1797120" cy="1514520"/>
              </a:xfrm>
            </p:grpSpPr>
            <p:sp>
              <p:nvSpPr>
                <p:cNvPr id="216" name=""/>
                <p:cNvSpPr/>
                <p:nvPr/>
              </p:nvSpPr>
              <p:spPr>
                <a:xfrm rot="15622800">
                  <a:off x="963360" y="3875400"/>
                  <a:ext cx="123408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5622800">
                  <a:off x="946800" y="3855600"/>
                  <a:ext cx="126360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15622800">
                  <a:off x="982440" y="3898440"/>
                  <a:ext cx="119340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2198520" y="3407040"/>
              <a:ext cx="1289520" cy="863280"/>
              <a:chOff x="2198520" y="3407040"/>
              <a:chExt cx="1289520" cy="863280"/>
            </a:xfrm>
          </p:grpSpPr>
          <p:sp>
            <p:nvSpPr>
              <p:cNvPr id="220" name=""/>
              <p:cNvSpPr/>
              <p:nvPr/>
            </p:nvSpPr>
            <p:spPr>
              <a:xfrm rot="15622800">
                <a:off x="2521080" y="3263400"/>
                <a:ext cx="61776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5622800">
                <a:off x="2241360" y="4036320"/>
                <a:ext cx="19008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622800">
                <a:off x="2266200" y="4014720"/>
                <a:ext cx="19260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5622800">
                <a:off x="2332440" y="4034520"/>
                <a:ext cx="117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5622800">
                <a:off x="2240280" y="4037760"/>
                <a:ext cx="189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5622800">
                <a:off x="2391480" y="3941640"/>
                <a:ext cx="1908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2375280" y="3921120"/>
                <a:ext cx="289800" cy="243000"/>
                <a:chOff x="2375280" y="3921120"/>
                <a:chExt cx="289800" cy="24300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2375280" y="3935160"/>
                  <a:ext cx="266400" cy="228960"/>
                  <a:chOff x="2375280" y="3935160"/>
                  <a:chExt cx="266400" cy="2289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15622800">
                    <a:off x="2413080" y="393156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15622800">
                    <a:off x="2412360" y="3930840"/>
                    <a:ext cx="19188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15622800">
                    <a:off x="2413080" y="393048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" name=""/>
                <p:cNvSpPr/>
                <p:nvPr/>
              </p:nvSpPr>
              <p:spPr>
                <a:xfrm rot="15622800">
                  <a:off x="2436840" y="391644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2421360" y="3895200"/>
                <a:ext cx="290160" cy="242640"/>
                <a:chOff x="2421360" y="3895200"/>
                <a:chExt cx="290160" cy="2426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2421360" y="3908880"/>
                  <a:ext cx="266040" cy="228960"/>
                  <a:chOff x="2421360" y="3908880"/>
                  <a:chExt cx="266040" cy="2289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15622800">
                    <a:off x="2458440" y="3904920"/>
                    <a:ext cx="1911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15622800">
                    <a:off x="2458080" y="390456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15622800">
                    <a:off x="2458800" y="3904560"/>
                    <a:ext cx="1900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 rot="15622800">
                  <a:off x="2483280" y="3890160"/>
                  <a:ext cx="1904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463840" y="3880800"/>
                <a:ext cx="266760" cy="229680"/>
                <a:chOff x="2463840" y="3880800"/>
                <a:chExt cx="266760" cy="229680"/>
              </a:xfrm>
            </p:grpSpPr>
            <p:sp>
              <p:nvSpPr>
                <p:cNvPr id="239" name=""/>
                <p:cNvSpPr/>
                <p:nvPr/>
              </p:nvSpPr>
              <p:spPr>
                <a:xfrm rot="15622800">
                  <a:off x="2501640" y="3877560"/>
                  <a:ext cx="19116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5622800">
                  <a:off x="2500560" y="3876480"/>
                  <a:ext cx="19260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463840" y="3867120"/>
                <a:ext cx="290160" cy="242280"/>
                <a:chOff x="2463840" y="3867120"/>
                <a:chExt cx="290160" cy="242280"/>
              </a:xfrm>
            </p:grpSpPr>
            <p:sp>
              <p:nvSpPr>
                <p:cNvPr id="242" name=""/>
                <p:cNvSpPr/>
                <p:nvPr/>
              </p:nvSpPr>
              <p:spPr>
                <a:xfrm rot="15622800">
                  <a:off x="2500920" y="3876480"/>
                  <a:ext cx="1915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5622800">
                  <a:off x="2525040" y="386244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275920" y="3467880"/>
                <a:ext cx="1119960" cy="770760"/>
                <a:chOff x="2275920" y="3467880"/>
                <a:chExt cx="1119960" cy="770760"/>
              </a:xfrm>
            </p:grpSpPr>
            <p:sp>
              <p:nvSpPr>
                <p:cNvPr id="245" name=""/>
                <p:cNvSpPr/>
                <p:nvPr/>
              </p:nvSpPr>
              <p:spPr>
                <a:xfrm flipV="1">
                  <a:off x="2275920" y="3467880"/>
                  <a:ext cx="961200" cy="60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V="1">
                  <a:off x="2388960" y="3621240"/>
                  <a:ext cx="1006920" cy="617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2506320" y="3841920"/>
                <a:ext cx="285480" cy="241200"/>
                <a:chOff x="2506320" y="3841920"/>
                <a:chExt cx="285480" cy="24120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6320" y="3854160"/>
                  <a:ext cx="266040" cy="228960"/>
                  <a:chOff x="2506320" y="3854160"/>
                  <a:chExt cx="266040" cy="2289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15622800">
                    <a:off x="2544120" y="3850560"/>
                    <a:ext cx="19080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15622800">
                    <a:off x="2543040" y="384984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 rot="15622800">
                  <a:off x="2543400" y="384948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15622800">
                  <a:off x="2563560" y="383724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 rot="15622800">
                <a:off x="2770920" y="3377880"/>
                <a:ext cx="38088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5622800">
                <a:off x="3234960" y="3398760"/>
                <a:ext cx="2080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teressado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ir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r o model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atividades e s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cron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orçament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a viabilidade econômica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"/>
          <p:cNvGrpSpPr/>
          <p:nvPr/>
        </p:nvGrpSpPr>
        <p:grpSpPr>
          <a:xfrm>
            <a:off x="344520" y="905040"/>
            <a:ext cx="8368920" cy="5897160"/>
            <a:chOff x="344520" y="905040"/>
            <a:chExt cx="8368920" cy="5897160"/>
          </a:xfrm>
        </p:grpSpPr>
        <p:sp>
          <p:nvSpPr>
            <p:cNvPr id="1182" name=""/>
            <p:cNvSpPr/>
            <p:nvPr/>
          </p:nvSpPr>
          <p:spPr>
            <a:xfrm>
              <a:off x="3283920" y="905040"/>
              <a:ext cx="5277240" cy="3980160"/>
            </a:xfrm>
            <a:custGeom>
              <a:avLst/>
              <a:gdLst/>
              <a:ahLst/>
              <a:rect l="l" t="t" r="r" b="b"/>
              <a:pathLst>
                <a:path w="2785" h="2424">
                  <a:moveTo>
                    <a:pt x="0" y="1010"/>
                  </a:moveTo>
                  <a:lnTo>
                    <a:pt x="718" y="0"/>
                  </a:lnTo>
                  <a:lnTo>
                    <a:pt x="2783" y="0"/>
                  </a:lnTo>
                  <a:lnTo>
                    <a:pt x="2785" y="2416"/>
                  </a:lnTo>
                  <a:lnTo>
                    <a:pt x="740" y="2424"/>
                  </a:lnTo>
                  <a:lnTo>
                    <a:pt x="10" y="133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44520" y="2099520"/>
              <a:ext cx="1746720" cy="60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nejamento do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rot="10800000">
              <a:off x="2094480" y="3336840"/>
              <a:ext cx="794520" cy="1580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10800000">
              <a:off x="2092680" y="2022120"/>
              <a:ext cx="794880" cy="1594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07760" y="1122840"/>
              <a:ext cx="348696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inuta do Projet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</a:t>
              </a:r>
              <a:r>
                <a:rPr b="1" lang="pt-BR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rtfólio de produ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scopo de produt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863720" y="2598840"/>
              <a:ext cx="1729080" cy="549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escopo do produ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831920" y="1787760"/>
              <a:ext cx="3198600" cy="2469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m reuniões, o Gerente de Projeto estuda a Minuta do Projeto e o Portfólio de Produtos. Em seguida, consultando eventualmente documentos de escopo de outros produtos da empresa, definirá as diretrizes básicas que o produto deverá ate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285920" y="3653640"/>
              <a:ext cx="247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copo do produ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77840" y="5319720"/>
              <a:ext cx="4035600" cy="146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311080" y="5636160"/>
              <a:ext cx="276912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uniõ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15440" y="4944960"/>
              <a:ext cx="3559320" cy="638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1720" y="5340600"/>
              <a:ext cx="4040280" cy="146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59600" y="4944960"/>
              <a:ext cx="3562200" cy="7318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ação com outras ativ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62200" y="5843160"/>
              <a:ext cx="3277440" cy="27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escopo do proj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59600" y="6185880"/>
              <a:ext cx="3368520" cy="27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aptar o modelo de referê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003640" y="5986080"/>
              <a:ext cx="3384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ista de Verificação do Escopo do Produ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36440" y="20484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de definição do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/>
          </p:nvPr>
        </p:nvSpPr>
        <p:spPr>
          <a:xfrm>
            <a:off x="77400" y="1401840"/>
            <a:ext cx="87519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rão ser definidos os parâmetros básicos que caracterizam o produto (o que é o produto) e as funcionalidades que dele se espera (para que serve o produt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s definições permite que todos os envolvidos tenham uma clara compreensão do que será fornecido ao cli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s parâmetros devem ser preferencialmente quantitativos e devem apresentar metas claras e inequívocas, mesmo quando qualit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7760" y="55440"/>
            <a:ext cx="7388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Resultado da definição do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ão de proj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quad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ritório de projetos (quadro 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ção de fornecedores no PDP (quadro 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scopo do produto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do projeto (quadro 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ck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escopo do projeto (quadro 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ção de EDT (WBS) (quadro 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idados para a elaboração da EDT (quadro 5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ância da definição do escopo (quadro 5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Escopo do Produto </a:t>
            </a:r>
            <a:r>
              <a:rPr b="0" i="1" lang="en-US" sz="2400" spc="-1" strike="noStrike">
                <a:solidFill>
                  <a:srgbClr val="000096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 Escop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108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idado para não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fundir o </a:t>
            </a:r>
            <a:r>
              <a:rPr b="0" lang="pt-BR" sz="3200" spc="-1" strike="noStrike">
                <a:solidFill>
                  <a:srgbClr val="333399"/>
                </a:solidFill>
                <a:latin typeface="Arial"/>
              </a:rPr>
              <a:t>escopo do produ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com o </a:t>
            </a:r>
            <a:r>
              <a:rPr b="0" lang="pt-BR" sz="3200" spc="-1" strike="noStrike">
                <a:solidFill>
                  <a:srgbClr val="333399"/>
                </a:solidFill>
                <a:latin typeface="Arial"/>
              </a:rPr>
              <a:t>escopo do proje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8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scopo do Produ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composto pela especificação técnica que descreve o conjunto de funcionalidades e o desempenho desejado para o produ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8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scopo do Proje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fine o conjunto de trabalhos que serão executados para construir e entregar o produ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O escopo do projeto contém, em um de seus itens, uma descrição sucinta do escopo do produ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teressado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ir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r o model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atividades e s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cron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orçament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a viabilidade econômica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213000" y="923760"/>
            <a:ext cx="5456160" cy="3943440"/>
          </a:xfrm>
          <a:custGeom>
            <a:avLst/>
            <a:gdLst/>
            <a:ahLst/>
            <a:rect l="l" t="t" r="r" b="b"/>
            <a:pathLst>
              <a:path w="2785" h="2424">
                <a:moveTo>
                  <a:pt x="0" y="1010"/>
                </a:moveTo>
                <a:lnTo>
                  <a:pt x="718" y="0"/>
                </a:lnTo>
                <a:lnTo>
                  <a:pt x="2783" y="0"/>
                </a:lnTo>
                <a:lnTo>
                  <a:pt x="2785" y="2416"/>
                </a:lnTo>
                <a:lnTo>
                  <a:pt x="740" y="2424"/>
                </a:lnTo>
                <a:lnTo>
                  <a:pt x="10" y="1339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98360" y="2102400"/>
            <a:ext cx="1976400" cy="608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jamento d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10800000">
            <a:off x="1982880" y="3331800"/>
            <a:ext cx="822240" cy="1587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10800000">
            <a:off x="1980720" y="2031480"/>
            <a:ext cx="822600" cy="1573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66680" y="1197000"/>
            <a:ext cx="4178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o do 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ições e premiss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87480" y="2452680"/>
            <a:ext cx="178920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escopo d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044720" y="3676680"/>
            <a:ext cx="2705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ação de Escopo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614840" y="4924440"/>
            <a:ext cx="4176360" cy="1839600"/>
            <a:chOff x="4614840" y="4924440"/>
            <a:chExt cx="4176360" cy="1839600"/>
          </a:xfrm>
        </p:grpSpPr>
        <p:sp>
          <p:nvSpPr>
            <p:cNvPr id="1215" name=""/>
            <p:cNvSpPr/>
            <p:nvPr/>
          </p:nvSpPr>
          <p:spPr>
            <a:xfrm>
              <a:off x="4614840" y="5316480"/>
              <a:ext cx="417636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29480" y="5689080"/>
              <a:ext cx="3543120" cy="9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álise de custo/benefí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écnicas de discussão em grup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liação por especialist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814640" y="4924440"/>
              <a:ext cx="3676680" cy="7318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66840" y="5316480"/>
            <a:ext cx="417816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03360" y="4924440"/>
            <a:ext cx="3684600" cy="7318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ção com outr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713120" y="1957320"/>
            <a:ext cx="3365640" cy="219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meio de reuniões com especialistas, o Gerente de Projeto irá preparar a Declaração de Escopo do Projeto, contendo o escopo do produto e as restrições e premissas impostas pelo DP d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>
            <a:hlinkClick r:id="rId1" action="ppaction://hlinksldjump"/>
          </p:cNvPr>
          <p:cNvSpPr/>
          <p:nvPr/>
        </p:nvSpPr>
        <p:spPr>
          <a:xfrm>
            <a:off x="812880" y="5691240"/>
            <a:ext cx="310176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escopo do prod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71400" y="6051600"/>
            <a:ext cx="360360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aptar o modelo de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03360" y="6426360"/>
            <a:ext cx="357660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declaração de esco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6440" y="20484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de definição d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/>
          </p:nvPr>
        </p:nvSpPr>
        <p:spPr>
          <a:xfrm>
            <a:off x="77760" y="1056960"/>
            <a:ext cx="906624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stificativa do projeto e os requisitos do negócio aos quais pretende atend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ma descrição sucinta do produto que será gerado n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s objetivos do projeto colocados em termos quantificáveis, especialmente quanto a parâmetros de custo, cronograma e medidas de qual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 conjunto de premissas e restrições identificada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m plano de gerenciamento do escopo, que descreve como esse escopo será gerenciado e como as mudanças que vier a sofrer serão incorporadas ao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7760" y="55440"/>
            <a:ext cx="7388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Uma declaração do escopo do projeto deve co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6480" y="74520"/>
            <a:ext cx="75740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xemplo de problemas na declaração do Escop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304560" y="1063440"/>
            <a:ext cx="8450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cisão terminológ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rinha concede a sua empresa um contrato onde a declaração do escopo afirma que o protótipo deve ser testado n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“Água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a empresa executa o teste do protótipo em uma piscina. Infelizmente, a definiçã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gu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Marinha é o Oceano Atlânt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imitações no conhecimento sobre o assu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a empresa ganha um contrato cujo Escopo afirma que as mercadorias devem ser transportadas pelo país usan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tainer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ej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a equipe seleciona um container que é aberto na parte superior, assim o ar pode circular. Durante o transporte o trem passa por uma área de chuvas torrenciais , e as mercadorias são estragadas. O cliente afirma que queria contain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j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r baix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830840" y="628236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: FINOCHIO, J. (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ão de proj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quad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ritório de projetos (quadro 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ção de fornecedores no PDP (quadro 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po do produ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projeto (quadro 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hecklis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do escopo do projeto (quadro 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ção de EDT (WBS) (quadro 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idados para a elaboração da EDT (quadro 5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ância da definição do escopo (quadro 5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Objetivos do capítul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2680" y="887400"/>
            <a:ext cx="8516880" cy="57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r na empresa quem são os maiores interessados com o projeto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o escopo do produto e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r o modelo de referência adotado pela empresa para o projeto em planej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as atividades, o cronograma e os recursos necessários para a realizaçã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r um plano de gestão de riscos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2166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0" y="3092400"/>
            <a:ext cx="9144000" cy="362124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0" y="0"/>
            <a:ext cx="7388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hecklist d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60520" y="1325520"/>
            <a:ext cx="82389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boa prática é criar um modelo de documento que auxilie o gerente de projeto a evitar esquecimentos ao se preparar o escopo. Como, por exemplo, a matriz de responsabilidades e dedicação da equipe de pro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teressado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talhar 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r o model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atividades e s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cron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orçament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a viabilidade econômica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189000" y="905040"/>
            <a:ext cx="8735040" cy="5847120"/>
            <a:chOff x="189000" y="905040"/>
            <a:chExt cx="8735040" cy="5847120"/>
          </a:xfrm>
        </p:grpSpPr>
        <p:sp>
          <p:nvSpPr>
            <p:cNvPr id="1239" name=""/>
            <p:cNvSpPr/>
            <p:nvPr/>
          </p:nvSpPr>
          <p:spPr>
            <a:xfrm>
              <a:off x="3332520" y="905040"/>
              <a:ext cx="5468040" cy="3898800"/>
            </a:xfrm>
            <a:custGeom>
              <a:avLst/>
              <a:gdLst/>
              <a:ahLst/>
              <a:rect l="l" t="t" r="r" b="b"/>
              <a:pathLst>
                <a:path w="2785" h="2424">
                  <a:moveTo>
                    <a:pt x="0" y="1010"/>
                  </a:moveTo>
                  <a:lnTo>
                    <a:pt x="718" y="0"/>
                  </a:lnTo>
                  <a:lnTo>
                    <a:pt x="2783" y="0"/>
                  </a:lnTo>
                  <a:lnTo>
                    <a:pt x="2785" y="2416"/>
                  </a:lnTo>
                  <a:lnTo>
                    <a:pt x="740" y="2424"/>
                  </a:lnTo>
                  <a:lnTo>
                    <a:pt x="10" y="133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14280" y="2010960"/>
              <a:ext cx="1761480" cy="60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nejamento do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0800000">
              <a:off x="2102040" y="3252960"/>
              <a:ext cx="822960" cy="156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0800000">
              <a:off x="2100240" y="1920960"/>
              <a:ext cx="822600" cy="1551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42520" y="1171440"/>
              <a:ext cx="39394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copo do Produ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claração de Escopo do Proje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864080" y="2360880"/>
              <a:ext cx="1791000" cy="823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talhar o Escopo do Proj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89000" y="3487320"/>
              <a:ext cx="677124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claraçã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Escopo do Projeto (Revisad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trutura de Decomposição do Trabalho (Primeiros nívei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4729680" y="4918680"/>
              <a:ext cx="4194360" cy="1819440"/>
              <a:chOff x="4729680" y="4918680"/>
              <a:chExt cx="4194360" cy="1819440"/>
            </a:xfrm>
          </p:grpSpPr>
          <p:sp>
            <p:nvSpPr>
              <p:cNvPr id="1247" name=""/>
              <p:cNvSpPr/>
              <p:nvPr/>
            </p:nvSpPr>
            <p:spPr>
              <a:xfrm>
                <a:off x="4736880" y="5306400"/>
                <a:ext cx="4185720" cy="1431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729680" y="5607360"/>
                <a:ext cx="4194360" cy="106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ncípios do 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A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/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D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E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strutur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nalítica do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P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rojet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D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ecomposição do trabalh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927320" y="4918680"/>
                <a:ext cx="3692880" cy="585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Métodos, ferramentas, documentos de apoi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82040" y="4474080"/>
              <a:ext cx="4186800" cy="22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08480" y="4149360"/>
              <a:ext cx="3691440" cy="585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ação com outras ativ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33080" y="2072880"/>
              <a:ext cx="3251160" cy="823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a EDT e revisar a Declaração de Escopo do Proj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013040" y="5079600"/>
              <a:ext cx="3127680" cy="27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escopo do proj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060560" y="5640480"/>
              <a:ext cx="3023280" cy="27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recursos necessár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013040" y="5359320"/>
              <a:ext cx="3023280" cy="27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atividades e praz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72200" y="5917680"/>
              <a:ext cx="3495960" cy="27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ejar e preparar aquisiçõ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177920" y="4798440"/>
              <a:ext cx="2467440" cy="27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ris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7440" y="6203160"/>
              <a:ext cx="3666960" cy="549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indicadores de desempen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36440" y="20484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de detalhar 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915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opósitos da atividade de detalhar o escop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246240" y="932040"/>
            <a:ext cx="85737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uma melhor precisão de estimativas de custos, tempos e recurs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 definição de padrões mais objetivos para medir e controlar o desempenho;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or fim, uma atribuição mais clara e precisa de responsabil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detalhamento do escopo deve ser realizado por meio de um recurso denominado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Estrutura de Decomposição do Trabalho (EDT)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– (em inglês: </a:t>
            </a:r>
            <a:r>
              <a:rPr b="0" i="1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orking Breakingdown Structure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–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B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-360" y="125280"/>
            <a:ext cx="8534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Estrutura de Decomposição do Trabalho (EDT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/ WBS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17040" y="925200"/>
            <a:ext cx="809316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EDT/ WB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membra o projeto em suas partes componentes e ele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de maneira orientada ao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liverabl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subprodutos), que define o escopo completo do proj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lém dis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14200" y="3133800"/>
            <a:ext cx="865692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á origem ao cronograma que permitirá monitorar o progr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ra o detalhamento do custo de equipamento, mão-de-obra e mater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xilia na montagem da equipe e distribuição do trabal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ão de proj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quad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ritório de projetos (quadro 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ção de fornecedores no PDP (quadro 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po do produ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projeto (quadro 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ck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escopo do projeto (quadro 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ição de EDT (WBS) (quadro 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idados para a elaboração da EDT (quadro 5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ância da definição do escopo (quadro 5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/>
          </p:nvPr>
        </p:nvSpPr>
        <p:spPr>
          <a:xfrm>
            <a:off x="112320" y="99864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ecomposi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é feita em três tipos de elementos, em uma abordagem de cima para baix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p-dow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tos do proj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É formado pelos resultados finais do projeto na linguagem dos clientes e, portanto, em um nível alto de abstr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iverabl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ntregas ou resultados importantes). Cada produto do projeto é desdobrado em resultados tangíveis, isto é, que podem ser observ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didos e avali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cotes de trabalh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Representam um conjunt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ividad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que precisam ser feitas para a obtenção de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iverab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u produto do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Definição de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EDT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/ WB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9" name=""/>
          <p:cNvGrpSpPr/>
          <p:nvPr/>
        </p:nvGrpSpPr>
        <p:grpSpPr>
          <a:xfrm>
            <a:off x="0" y="949320"/>
            <a:ext cx="8949960" cy="5686200"/>
            <a:chOff x="0" y="949320"/>
            <a:chExt cx="8949960" cy="5686200"/>
          </a:xfrm>
        </p:grpSpPr>
        <p:sp>
          <p:nvSpPr>
            <p:cNvPr id="1270" name=""/>
            <p:cNvSpPr/>
            <p:nvPr/>
          </p:nvSpPr>
          <p:spPr>
            <a:xfrm>
              <a:off x="3748320" y="1203120"/>
              <a:ext cx="2829960" cy="728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specificação do Produ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52640" y="2329200"/>
              <a:ext cx="2371320" cy="10598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ocumento d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quisit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3640" y="2329200"/>
              <a:ext cx="2601000" cy="10598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duto Homolog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48960" y="2329200"/>
              <a:ext cx="2601000" cy="993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tótip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4" name=""/>
            <p:cNvCxnSpPr>
              <a:stCxn id="1270" idx="2"/>
              <a:endCxn id="1271" idx="0"/>
            </p:cNvCxnSpPr>
            <p:nvPr/>
          </p:nvCxnSpPr>
          <p:spPr>
            <a:xfrm rot="5400000">
              <a:off x="3051360" y="217800"/>
              <a:ext cx="398160" cy="3825720"/>
            </a:xfrm>
            <a:prstGeom prst="bentConnector3">
              <a:avLst>
                <a:gd name="adj1" fmla="val 49954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275" name=""/>
            <p:cNvSpPr/>
            <p:nvPr/>
          </p:nvSpPr>
          <p:spPr>
            <a:xfrm>
              <a:off x="4360320" y="3919320"/>
              <a:ext cx="2906640" cy="9273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ocumentação do Subsiste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96320" y="5045760"/>
              <a:ext cx="2601000" cy="72864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etalhar Subsiste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96320" y="5906880"/>
              <a:ext cx="2601000" cy="72864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imular Subsiste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307120" y="2058480"/>
              <a:ext cx="1113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....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9" name=""/>
            <p:cNvCxnSpPr>
              <a:stCxn id="1270" idx="2"/>
              <a:endCxn id="1272" idx="0"/>
            </p:cNvCxnSpPr>
            <p:nvPr/>
          </p:nvCxnSpPr>
          <p:spPr>
            <a:xfrm rot="5400000">
              <a:off x="4409280" y="1575720"/>
              <a:ext cx="398160" cy="1110240"/>
            </a:xfrm>
            <a:prstGeom prst="bentConnector3">
              <a:avLst>
                <a:gd name="adj1" fmla="val 49954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80" name=""/>
            <p:cNvCxnSpPr>
              <a:stCxn id="1272" idx="2"/>
              <a:endCxn id="1275" idx="0"/>
            </p:cNvCxnSpPr>
            <p:nvPr/>
          </p:nvCxnSpPr>
          <p:spPr>
            <a:xfrm flipH="1" rot="16200000">
              <a:off x="4668840" y="2773800"/>
              <a:ext cx="530280" cy="17604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81" name=""/>
            <p:cNvCxnSpPr>
              <a:stCxn id="1275" idx="2"/>
              <a:endCxn id="1276" idx="1"/>
            </p:cNvCxnSpPr>
            <p:nvPr/>
          </p:nvCxnSpPr>
          <p:spPr>
            <a:xfrm flipH="1" rot="16200000">
              <a:off x="5723640" y="4937040"/>
              <a:ext cx="563760" cy="3830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82" name=""/>
            <p:cNvCxnSpPr>
              <a:stCxn id="1275" idx="2"/>
              <a:endCxn id="1277" idx="1"/>
            </p:cNvCxnSpPr>
            <p:nvPr/>
          </p:nvCxnSpPr>
          <p:spPr>
            <a:xfrm flipH="1" rot="16200000">
              <a:off x="5293080" y="5367600"/>
              <a:ext cx="1424880" cy="3830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grpSp>
          <p:nvGrpSpPr>
            <p:cNvPr id="1283" name=""/>
            <p:cNvGrpSpPr/>
            <p:nvPr/>
          </p:nvGrpSpPr>
          <p:grpSpPr>
            <a:xfrm>
              <a:off x="611640" y="5240520"/>
              <a:ext cx="5583960" cy="1196280"/>
              <a:chOff x="611640" y="5240520"/>
              <a:chExt cx="5583960" cy="1196280"/>
            </a:xfrm>
          </p:grpSpPr>
          <p:sp>
            <p:nvSpPr>
              <p:cNvPr id="1284" name=""/>
              <p:cNvSpPr/>
              <p:nvPr/>
            </p:nvSpPr>
            <p:spPr>
              <a:xfrm>
                <a:off x="611640" y="5240520"/>
                <a:ext cx="2691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99cc00"/>
                    </a:solidFill>
                    <a:latin typeface="Arial"/>
                  </a:rPr>
                  <a:t>Pacotes de Trabalh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85" name=""/>
              <p:cNvCxnSpPr>
                <a:stCxn id="1284" idx="3"/>
              </p:cNvCxnSpPr>
              <p:nvPr/>
            </p:nvCxnSpPr>
            <p:spPr>
              <a:xfrm flipV="1">
                <a:off x="3302640" y="5574960"/>
                <a:ext cx="2893320" cy="199440"/>
              </a:xfrm>
              <a:prstGeom prst="straightConnector1">
                <a:avLst/>
              </a:prstGeom>
              <a:ln w="76320">
                <a:solidFill>
                  <a:srgbClr val="99cc00"/>
                </a:solidFill>
                <a:miter/>
                <a:tailEnd len="med" type="triangle" w="med"/>
              </a:ln>
            </p:spPr>
          </p:cxnSp>
          <p:cxnSp>
            <p:nvCxnSpPr>
              <p:cNvPr id="1286" name=""/>
              <p:cNvCxnSpPr>
                <a:stCxn id="1284" idx="3"/>
              </p:cNvCxnSpPr>
              <p:nvPr/>
            </p:nvCxnSpPr>
            <p:spPr>
              <a:xfrm>
                <a:off x="3302640" y="5774040"/>
                <a:ext cx="2893320" cy="663120"/>
              </a:xfrm>
              <a:prstGeom prst="straightConnector1">
                <a:avLst/>
              </a:prstGeom>
              <a:ln w="76320">
                <a:solidFill>
                  <a:srgbClr val="99cc00"/>
                </a:solidFill>
                <a:miter/>
                <a:tailEnd len="med" type="triangle" w="med"/>
              </a:ln>
            </p:spPr>
          </p:cxnSp>
        </p:grpSp>
        <p:sp>
          <p:nvSpPr>
            <p:cNvPr id="1287" name=""/>
            <p:cNvSpPr/>
            <p:nvPr/>
          </p:nvSpPr>
          <p:spPr>
            <a:xfrm>
              <a:off x="618120" y="394704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333399"/>
                  </a:solidFill>
                  <a:latin typeface="Arial"/>
                </a:rPr>
                <a:t>Deliver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8" name=""/>
            <p:cNvCxnSpPr>
              <a:stCxn id="1287" idx="0"/>
              <a:endCxn id="1271" idx="2"/>
            </p:cNvCxnSpPr>
            <p:nvPr/>
          </p:nvCxnSpPr>
          <p:spPr>
            <a:xfrm flipH="1" flipV="1">
              <a:off x="1337760" y="3389040"/>
              <a:ext cx="386280" cy="596880"/>
            </a:xfrm>
            <a:prstGeom prst="straightConnector1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1289" name=""/>
            <p:cNvSpPr/>
            <p:nvPr/>
          </p:nvSpPr>
          <p:spPr>
            <a:xfrm>
              <a:off x="0" y="949320"/>
              <a:ext cx="175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Produto do Proje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65000" y="1766160"/>
              <a:ext cx="841320" cy="264960"/>
            </a:xfrm>
            <a:prstGeom prst="rightArrow">
              <a:avLst>
                <a:gd name="adj1" fmla="val 50000"/>
                <a:gd name="adj2" fmla="val 793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1" name=""/>
            <p:cNvCxnSpPr/>
            <p:nvPr/>
          </p:nvCxnSpPr>
          <p:spPr>
            <a:xfrm flipV="1">
              <a:off x="2447280" y="3521880"/>
              <a:ext cx="536040" cy="331560"/>
            </a:xfrm>
            <a:prstGeom prst="straightConnector1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292" name=""/>
            <p:cNvCxnSpPr/>
            <p:nvPr/>
          </p:nvCxnSpPr>
          <p:spPr>
            <a:xfrm>
              <a:off x="3135960" y="4316760"/>
              <a:ext cx="689040" cy="66960"/>
            </a:xfrm>
            <a:prstGeom prst="straightConnector1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293" name=""/>
            <p:cNvCxnSpPr>
              <a:stCxn id="1270" idx="2"/>
              <a:endCxn id="1273" idx="0"/>
            </p:cNvCxnSpPr>
            <p:nvPr/>
          </p:nvCxnSpPr>
          <p:spPr>
            <a:xfrm flipH="1" rot="16200000">
              <a:off x="6206760" y="887400"/>
              <a:ext cx="398160" cy="2486520"/>
            </a:xfrm>
            <a:prstGeom prst="bentConnector3">
              <a:avLst>
                <a:gd name="adj1" fmla="val 49954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-360" y="125280"/>
            <a:ext cx="596268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Representação gráfica da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EDT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/ WB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5" name=""/>
          <p:cNvGraphicFramePr/>
          <p:nvPr/>
        </p:nvGraphicFramePr>
        <p:xfrm>
          <a:off x="250920" y="836640"/>
          <a:ext cx="8820000" cy="55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8820000" cy="55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23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xemplo: EDT/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WBS – </a:t>
            </a:r>
            <a:r>
              <a:rPr b="1" i="1" lang="pt-BR" sz="2400" spc="-1" strike="noStrike">
                <a:solidFill>
                  <a:srgbClr val="000096"/>
                </a:solidFill>
                <a:latin typeface="Arial"/>
              </a:rPr>
              <a:t>Work Breakdown Struture (1</a:t>
            </a:r>
            <a:r>
              <a:rPr b="1" i="1" lang="en-US" sz="2400" spc="-1" strike="noStrike">
                <a:solidFill>
                  <a:srgbClr val="000096"/>
                </a:solidFill>
                <a:latin typeface="Arial"/>
              </a:rPr>
              <a:t>/2</a:t>
            </a:r>
            <a:r>
              <a:rPr b="1" i="1" lang="pt-BR" sz="2400" spc="-1" strike="noStrike">
                <a:solidFill>
                  <a:srgbClr val="00009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8" name=""/>
          <p:cNvGraphicFramePr/>
          <p:nvPr/>
        </p:nvGraphicFramePr>
        <p:xfrm>
          <a:off x="216000" y="981000"/>
          <a:ext cx="8820000" cy="52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981000"/>
                    <a:ext cx="8820000" cy="52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32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xemplo: EDT/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WBS – </a:t>
            </a:r>
            <a:r>
              <a:rPr b="1" i="1" lang="pt-BR" sz="2400" spc="-1" strike="noStrike">
                <a:solidFill>
                  <a:srgbClr val="000096"/>
                </a:solidFill>
                <a:latin typeface="Arial"/>
              </a:rPr>
              <a:t>Work Breakdown Struture (</a:t>
            </a:r>
            <a:r>
              <a:rPr b="1" i="1" lang="en-US" sz="2400" spc="-1" strike="noStrike">
                <a:solidFill>
                  <a:srgbClr val="000096"/>
                </a:solidFill>
                <a:latin typeface="Arial"/>
              </a:rPr>
              <a:t>2/2</a:t>
            </a:r>
            <a:r>
              <a:rPr b="1" i="1" lang="pt-BR" sz="2400" spc="-1" strike="noStrike">
                <a:solidFill>
                  <a:srgbClr val="00009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Objetivos do capítul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9031320" cy="57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r a análise da viabilidade econômico-financeira do produto resultante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jar os indicadores de desempenho que serão empregados nas cinco fases do desenvolvimento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jar o gerenciamento das comunicações e das aquisições necessárias para a realizaçã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219320" y="125280"/>
            <a:ext cx="65721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Propriedades dos Elementos da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DT/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80880" y="1143000"/>
            <a:ext cx="845820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enciáve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oridade e responsabilidade especifica pode ser atribuí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 com um mínimo de conexões e dependências de outros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áve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 que o todo possa ser vislumb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suráve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 que o progresso possa ser acompan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952880" y="6460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: FINOCHIO, J. (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talhamentos da EDT/ WB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47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87360" indent="-38736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atividade de detalh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escop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o projeto,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dobra-se somente os primeiros níveis da E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WB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ses níve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ão suficientes para identificar o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iverabl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 pacotes de trabalho principais do proj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identificação de todos os elementos, incluindo as atividades, se dará no momento de detalhar o planejamento, na atividade Definir Atividades e Prazos e também nas atividades genéricas recorrentes de “ajustar o plano do projeto”, no início de cada f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o PDP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ão de proj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quad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ritório de projetos (quadro 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ção de fornecedores no PDP (quadro 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po do produ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projeto (quadro 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ck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escopo do projeto (quadro 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ção de EDT (WBS) (quadro 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uidados para a elaboração da EDT (quadro 5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ância da definição do escopo (quadro 5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uidados para a elaboração da EDT/ WBS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304560" y="95580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elemento da EDT deve ser claramente definido e estar relacionado a um resultado ún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elemento de um nível superior da EDT deve significar o resultado da agregação dos resultados de todos os níveis inferior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elemento-filho deve se relacionar com um único elemento-pa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liver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projeto devem estar incluídos na ED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número de elementos de um mesmo resultado deve buscar evitar desequilíbrios no número 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liver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pacotes de trabalho (situação A e 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"/>
          <p:cNvGrpSpPr/>
          <p:nvPr/>
        </p:nvGrpSpPr>
        <p:grpSpPr>
          <a:xfrm>
            <a:off x="4321080" y="1033560"/>
            <a:ext cx="4571280" cy="2897640"/>
            <a:chOff x="4321080" y="1033560"/>
            <a:chExt cx="4571280" cy="2897640"/>
          </a:xfrm>
        </p:grpSpPr>
        <p:sp>
          <p:nvSpPr>
            <p:cNvPr id="1311" name=""/>
            <p:cNvSpPr/>
            <p:nvPr/>
          </p:nvSpPr>
          <p:spPr>
            <a:xfrm>
              <a:off x="5212800" y="1479600"/>
              <a:ext cx="334440" cy="222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66200" y="1479600"/>
              <a:ext cx="334440" cy="222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439680" y="1033560"/>
              <a:ext cx="334440" cy="223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4" name=""/>
            <p:cNvCxnSpPr>
              <a:stCxn id="1313" idx="2"/>
              <a:endCxn id="1311" idx="0"/>
            </p:cNvCxnSpPr>
            <p:nvPr/>
          </p:nvCxnSpPr>
          <p:spPr>
            <a:xfrm rot="5400000">
              <a:off x="5881320" y="754920"/>
              <a:ext cx="223200" cy="1226880"/>
            </a:xfrm>
            <a:prstGeom prst="bentConnector3">
              <a:avLst>
                <a:gd name="adj1" fmla="val 4991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15" name=""/>
            <p:cNvCxnSpPr>
              <a:stCxn id="1313" idx="2"/>
              <a:endCxn id="1312" idx="0"/>
            </p:cNvCxnSpPr>
            <p:nvPr/>
          </p:nvCxnSpPr>
          <p:spPr>
            <a:xfrm flipH="1" rot="16200000">
              <a:off x="7108920" y="754560"/>
              <a:ext cx="223200" cy="1227240"/>
            </a:xfrm>
            <a:prstGeom prst="bentConnector3">
              <a:avLst>
                <a:gd name="adj1" fmla="val 49919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316" name=""/>
            <p:cNvGrpSpPr/>
            <p:nvPr/>
          </p:nvGrpSpPr>
          <p:grpSpPr>
            <a:xfrm>
              <a:off x="4321080" y="1813680"/>
              <a:ext cx="2118240" cy="2117520"/>
              <a:chOff x="4321080" y="1813680"/>
              <a:chExt cx="2118240" cy="2117520"/>
            </a:xfrm>
          </p:grpSpPr>
          <p:sp>
            <p:nvSpPr>
              <p:cNvPr id="1317" name=""/>
              <p:cNvSpPr/>
              <p:nvPr/>
            </p:nvSpPr>
            <p:spPr>
              <a:xfrm>
                <a:off x="4543560" y="1925280"/>
                <a:ext cx="334440" cy="222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543560" y="2259360"/>
                <a:ext cx="334440" cy="222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543560" y="2593800"/>
                <a:ext cx="334440" cy="222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543560" y="2928240"/>
                <a:ext cx="334440" cy="222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543560" y="3262680"/>
                <a:ext cx="334440" cy="22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543560" y="3596760"/>
                <a:ext cx="334440" cy="22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989960" y="1925280"/>
                <a:ext cx="334440" cy="222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989960" y="2259360"/>
                <a:ext cx="334440" cy="222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989960" y="2593800"/>
                <a:ext cx="334440" cy="22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989960" y="2928240"/>
                <a:ext cx="334440" cy="22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989960" y="3262680"/>
                <a:ext cx="334440" cy="22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989960" y="3596760"/>
                <a:ext cx="334440" cy="22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436000" y="1925280"/>
                <a:ext cx="334440" cy="222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436000" y="2259360"/>
                <a:ext cx="334440" cy="222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36000" y="2593800"/>
                <a:ext cx="334440" cy="22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436000" y="2928240"/>
                <a:ext cx="334440" cy="22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436000" y="3262680"/>
                <a:ext cx="334440" cy="222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436000" y="3596760"/>
                <a:ext cx="334440" cy="22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81680" y="1925280"/>
                <a:ext cx="334440" cy="222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1680" y="2259360"/>
                <a:ext cx="334440" cy="222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1680" y="2593800"/>
                <a:ext cx="334440" cy="22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81680" y="2928240"/>
                <a:ext cx="334440" cy="22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881680" y="3262680"/>
                <a:ext cx="334440" cy="22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881680" y="3596760"/>
                <a:ext cx="334440" cy="22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321080" y="1813680"/>
                <a:ext cx="2118240" cy="2117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42" name=""/>
            <p:cNvCxnSpPr>
              <a:stCxn id="1311" idx="2"/>
              <a:endCxn id="1341" idx="0"/>
            </p:cNvCxnSpPr>
            <p:nvPr/>
          </p:nvCxnSpPr>
          <p:spPr>
            <a:xfrm>
              <a:off x="5379840" y="1702080"/>
              <a:ext cx="1080" cy="11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343" name=""/>
            <p:cNvGrpSpPr/>
            <p:nvPr/>
          </p:nvGrpSpPr>
          <p:grpSpPr>
            <a:xfrm>
              <a:off x="6774480" y="1813680"/>
              <a:ext cx="2117880" cy="2117520"/>
              <a:chOff x="6774480" y="1813680"/>
              <a:chExt cx="2117880" cy="211752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6996960" y="1925280"/>
                <a:ext cx="1671480" cy="1893600"/>
                <a:chOff x="6996960" y="1925280"/>
                <a:chExt cx="1671480" cy="189360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6996960" y="1925280"/>
                  <a:ext cx="334080" cy="22248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996960" y="2259360"/>
                  <a:ext cx="334080" cy="22248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996960" y="2593800"/>
                  <a:ext cx="334080" cy="222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996960" y="2927880"/>
                  <a:ext cx="334080" cy="222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996960" y="3262320"/>
                  <a:ext cx="334080" cy="22248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6996960" y="3596400"/>
                  <a:ext cx="334080" cy="22248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7443000" y="1925280"/>
                  <a:ext cx="334080" cy="222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7443000" y="2259360"/>
                  <a:ext cx="334080" cy="222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7443000" y="2593800"/>
                  <a:ext cx="334080" cy="222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443000" y="2927880"/>
                  <a:ext cx="334080" cy="222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7443000" y="3262320"/>
                  <a:ext cx="334080" cy="222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7443000" y="3596400"/>
                  <a:ext cx="334080" cy="222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888320" y="1925280"/>
                  <a:ext cx="334080" cy="222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7888320" y="2259360"/>
                  <a:ext cx="334080" cy="222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7888320" y="2593800"/>
                  <a:ext cx="334080" cy="22248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7888320" y="2927880"/>
                  <a:ext cx="334080" cy="22248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7888320" y="3262320"/>
                  <a:ext cx="334080" cy="22248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7888320" y="3596400"/>
                  <a:ext cx="334080" cy="22248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8334360" y="1925280"/>
                  <a:ext cx="334080" cy="222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8334360" y="2259360"/>
                  <a:ext cx="334080" cy="222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8334360" y="2593800"/>
                  <a:ext cx="334080" cy="22248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8334360" y="2927880"/>
                  <a:ext cx="334080" cy="22248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8334360" y="3262320"/>
                  <a:ext cx="334080" cy="22248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8334360" y="3596400"/>
                  <a:ext cx="334080" cy="22248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9" name=""/>
              <p:cNvSpPr/>
              <p:nvPr/>
            </p:nvSpPr>
            <p:spPr>
              <a:xfrm>
                <a:off x="6774480" y="1813680"/>
                <a:ext cx="2117880" cy="2117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70" name=""/>
            <p:cNvCxnSpPr>
              <a:endCxn id="1369" idx="0"/>
            </p:cNvCxnSpPr>
            <p:nvPr/>
          </p:nvCxnSpPr>
          <p:spPr>
            <a:xfrm>
              <a:off x="7833600" y="1591200"/>
              <a:ext cx="108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71" name=""/>
          <p:cNvSpPr/>
          <p:nvPr/>
        </p:nvSpPr>
        <p:spPr>
          <a:xfrm>
            <a:off x="842004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648640" y="60199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3" name=""/>
          <p:cNvCxnSpPr>
            <a:stCxn id="1371" idx="2"/>
            <a:endCxn id="1372" idx="1"/>
          </p:cNvCxnSpPr>
          <p:nvPr/>
        </p:nvCxnSpPr>
        <p:spPr>
          <a:xfrm flipH="1" rot="16200000">
            <a:off x="8514360" y="596232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4" name=""/>
          <p:cNvSpPr/>
          <p:nvPr/>
        </p:nvSpPr>
        <p:spPr>
          <a:xfrm>
            <a:off x="5029200" y="548640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5" name=""/>
          <p:cNvCxnSpPr>
            <a:stCxn id="1374" idx="2"/>
            <a:endCxn id="1376" idx="0"/>
          </p:cNvCxnSpPr>
          <p:nvPr/>
        </p:nvCxnSpPr>
        <p:spPr>
          <a:xfrm rot="5400000">
            <a:off x="4647240" y="5295600"/>
            <a:ext cx="153360" cy="83916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7" name=""/>
          <p:cNvCxnSpPr>
            <a:stCxn id="1374" idx="2"/>
            <a:endCxn id="1378" idx="0"/>
          </p:cNvCxnSpPr>
          <p:nvPr/>
        </p:nvCxnSpPr>
        <p:spPr>
          <a:xfrm rot="5400000">
            <a:off x="4875840" y="5524200"/>
            <a:ext cx="153360" cy="38196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76" name=""/>
          <p:cNvSpPr/>
          <p:nvPr/>
        </p:nvSpPr>
        <p:spPr>
          <a:xfrm>
            <a:off x="419112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419720" y="62485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419720" y="60199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1" name=""/>
          <p:cNvCxnSpPr>
            <a:stCxn id="1376" idx="2"/>
            <a:endCxn id="1380" idx="1"/>
          </p:cNvCxnSpPr>
          <p:nvPr/>
        </p:nvCxnSpPr>
        <p:spPr>
          <a:xfrm flipH="1" rot="16200000">
            <a:off x="4286160" y="5961960"/>
            <a:ext cx="15300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76" idx="2"/>
            <a:endCxn id="1379" idx="1"/>
          </p:cNvCxnSpPr>
          <p:nvPr/>
        </p:nvCxnSpPr>
        <p:spPr>
          <a:xfrm flipH="1" rot="16200000">
            <a:off x="4172040" y="6076440"/>
            <a:ext cx="38160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8" name=""/>
          <p:cNvSpPr/>
          <p:nvPr/>
        </p:nvSpPr>
        <p:spPr>
          <a:xfrm>
            <a:off x="464832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876920" y="60199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4" name=""/>
          <p:cNvCxnSpPr>
            <a:stCxn id="1378" idx="2"/>
            <a:endCxn id="1383" idx="1"/>
          </p:cNvCxnSpPr>
          <p:nvPr/>
        </p:nvCxnSpPr>
        <p:spPr>
          <a:xfrm flipH="1" rot="16200000">
            <a:off x="4743360" y="5961960"/>
            <a:ext cx="15300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5" name=""/>
          <p:cNvSpPr/>
          <p:nvPr/>
        </p:nvSpPr>
        <p:spPr>
          <a:xfrm>
            <a:off x="510552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334120" y="62485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334120" y="60199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8" name=""/>
          <p:cNvCxnSpPr>
            <a:stCxn id="1385" idx="2"/>
            <a:endCxn id="1387" idx="1"/>
          </p:cNvCxnSpPr>
          <p:nvPr/>
        </p:nvCxnSpPr>
        <p:spPr>
          <a:xfrm flipH="1" rot="16200000">
            <a:off x="5200560" y="5961960"/>
            <a:ext cx="15300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9" name=""/>
          <p:cNvCxnSpPr>
            <a:stCxn id="1385" idx="2"/>
            <a:endCxn id="1386" idx="1"/>
          </p:cNvCxnSpPr>
          <p:nvPr/>
        </p:nvCxnSpPr>
        <p:spPr>
          <a:xfrm flipH="1" rot="16200000">
            <a:off x="5086440" y="6076440"/>
            <a:ext cx="38160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0" name=""/>
          <p:cNvSpPr/>
          <p:nvPr/>
        </p:nvSpPr>
        <p:spPr>
          <a:xfrm>
            <a:off x="556272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791320" y="60199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2" name=""/>
          <p:cNvCxnSpPr>
            <a:stCxn id="1390" idx="2"/>
            <a:endCxn id="1391" idx="1"/>
          </p:cNvCxnSpPr>
          <p:nvPr/>
        </p:nvCxnSpPr>
        <p:spPr>
          <a:xfrm flipH="1" rot="16200000">
            <a:off x="5657760" y="5961960"/>
            <a:ext cx="15300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3" name=""/>
          <p:cNvSpPr/>
          <p:nvPr/>
        </p:nvSpPr>
        <p:spPr>
          <a:xfrm>
            <a:off x="601992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248520" y="62485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248520" y="60199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6" name=""/>
          <p:cNvCxnSpPr>
            <a:stCxn id="1393" idx="2"/>
            <a:endCxn id="1395" idx="1"/>
          </p:cNvCxnSpPr>
          <p:nvPr/>
        </p:nvCxnSpPr>
        <p:spPr>
          <a:xfrm flipH="1" rot="16200000">
            <a:off x="6114960" y="5961960"/>
            <a:ext cx="15300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93" idx="2"/>
            <a:endCxn id="1394" idx="1"/>
          </p:cNvCxnSpPr>
          <p:nvPr/>
        </p:nvCxnSpPr>
        <p:spPr>
          <a:xfrm flipH="1" rot="16200000">
            <a:off x="6000840" y="6076440"/>
            <a:ext cx="38160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8" name=""/>
          <p:cNvSpPr/>
          <p:nvPr/>
        </p:nvSpPr>
        <p:spPr>
          <a:xfrm>
            <a:off x="647712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705720" y="60199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0" name=""/>
          <p:cNvCxnSpPr>
            <a:stCxn id="1398" idx="2"/>
            <a:endCxn id="1399" idx="1"/>
          </p:cNvCxnSpPr>
          <p:nvPr/>
        </p:nvCxnSpPr>
        <p:spPr>
          <a:xfrm flipH="1" rot="16200000">
            <a:off x="6572160" y="5961960"/>
            <a:ext cx="15300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1" name=""/>
          <p:cNvSpPr/>
          <p:nvPr/>
        </p:nvSpPr>
        <p:spPr>
          <a:xfrm>
            <a:off x="701028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7238880" y="62485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60199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4" name=""/>
          <p:cNvCxnSpPr>
            <a:stCxn id="1401" idx="2"/>
            <a:endCxn id="1403" idx="1"/>
          </p:cNvCxnSpPr>
          <p:nvPr/>
        </p:nvCxnSpPr>
        <p:spPr>
          <a:xfrm flipH="1" rot="16200000">
            <a:off x="7104600" y="596232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5" name=""/>
          <p:cNvCxnSpPr>
            <a:stCxn id="1401" idx="2"/>
            <a:endCxn id="1402" idx="1"/>
          </p:cNvCxnSpPr>
          <p:nvPr/>
        </p:nvCxnSpPr>
        <p:spPr>
          <a:xfrm flipH="1" rot="16200000">
            <a:off x="6990480" y="607680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6" name=""/>
          <p:cNvSpPr/>
          <p:nvPr/>
        </p:nvSpPr>
        <p:spPr>
          <a:xfrm>
            <a:off x="746748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7696080" y="60199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8" name=""/>
          <p:cNvCxnSpPr>
            <a:stCxn id="1406" idx="2"/>
            <a:endCxn id="1407" idx="1"/>
          </p:cNvCxnSpPr>
          <p:nvPr/>
        </p:nvCxnSpPr>
        <p:spPr>
          <a:xfrm flipH="1" rot="16200000">
            <a:off x="7561800" y="596232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9" name=""/>
          <p:cNvSpPr/>
          <p:nvPr/>
        </p:nvSpPr>
        <p:spPr>
          <a:xfrm>
            <a:off x="792468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8153280" y="62485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8153280" y="60199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2" name=""/>
          <p:cNvCxnSpPr>
            <a:stCxn id="1409" idx="2"/>
            <a:endCxn id="1411" idx="1"/>
          </p:cNvCxnSpPr>
          <p:nvPr/>
        </p:nvCxnSpPr>
        <p:spPr>
          <a:xfrm flipH="1" rot="16200000">
            <a:off x="8019000" y="596232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3" name=""/>
          <p:cNvCxnSpPr>
            <a:stCxn id="1409" idx="2"/>
            <a:endCxn id="1410" idx="1"/>
          </p:cNvCxnSpPr>
          <p:nvPr/>
        </p:nvCxnSpPr>
        <p:spPr>
          <a:xfrm flipH="1" rot="16200000">
            <a:off x="7904880" y="607680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4" name=""/>
          <p:cNvSpPr/>
          <p:nvPr/>
        </p:nvSpPr>
        <p:spPr>
          <a:xfrm>
            <a:off x="838188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8610480" y="60199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6" name=""/>
          <p:cNvCxnSpPr>
            <a:stCxn id="1414" idx="2"/>
            <a:endCxn id="1415" idx="1"/>
          </p:cNvCxnSpPr>
          <p:nvPr/>
        </p:nvCxnSpPr>
        <p:spPr>
          <a:xfrm flipH="1" rot="16200000">
            <a:off x="8476200" y="596232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374" idx="2"/>
            <a:endCxn id="1385" idx="0"/>
          </p:cNvCxnSpPr>
          <p:nvPr/>
        </p:nvCxnSpPr>
        <p:spPr>
          <a:xfrm flipH="1" rot="16200000">
            <a:off x="5104440" y="5676840"/>
            <a:ext cx="153360" cy="7668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8" name=""/>
          <p:cNvCxnSpPr>
            <a:stCxn id="1374" idx="2"/>
            <a:endCxn id="1390" idx="0"/>
          </p:cNvCxnSpPr>
          <p:nvPr/>
        </p:nvCxnSpPr>
        <p:spPr>
          <a:xfrm flipH="1" rot="16200000">
            <a:off x="5333040" y="5448240"/>
            <a:ext cx="153360" cy="53388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9" name=""/>
          <p:cNvCxnSpPr>
            <a:stCxn id="1374" idx="2"/>
            <a:endCxn id="1393" idx="0"/>
          </p:cNvCxnSpPr>
          <p:nvPr/>
        </p:nvCxnSpPr>
        <p:spPr>
          <a:xfrm flipH="1" rot="16200000">
            <a:off x="5561640" y="5219640"/>
            <a:ext cx="153360" cy="99108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0" name=""/>
          <p:cNvCxnSpPr>
            <a:stCxn id="1374" idx="2"/>
            <a:endCxn id="1398" idx="0"/>
          </p:cNvCxnSpPr>
          <p:nvPr/>
        </p:nvCxnSpPr>
        <p:spPr>
          <a:xfrm flipH="1" rot="16200000">
            <a:off x="5790240" y="4991040"/>
            <a:ext cx="153360" cy="144828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1" name=""/>
          <p:cNvCxnSpPr>
            <a:stCxn id="1374" idx="2"/>
            <a:endCxn id="1401" idx="0"/>
          </p:cNvCxnSpPr>
          <p:nvPr/>
        </p:nvCxnSpPr>
        <p:spPr>
          <a:xfrm flipH="1" rot="16200000">
            <a:off x="6057000" y="4724280"/>
            <a:ext cx="153360" cy="198180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374" idx="2"/>
            <a:endCxn id="1406" idx="0"/>
          </p:cNvCxnSpPr>
          <p:nvPr/>
        </p:nvCxnSpPr>
        <p:spPr>
          <a:xfrm flipH="1" rot="16200000">
            <a:off x="6285600" y="4495680"/>
            <a:ext cx="153360" cy="243900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3" name=""/>
          <p:cNvCxnSpPr>
            <a:stCxn id="1374" idx="2"/>
            <a:endCxn id="1409" idx="0"/>
          </p:cNvCxnSpPr>
          <p:nvPr/>
        </p:nvCxnSpPr>
        <p:spPr>
          <a:xfrm flipH="1" rot="16200000">
            <a:off x="6514200" y="4267080"/>
            <a:ext cx="153360" cy="289620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4" name=""/>
          <p:cNvCxnSpPr>
            <a:stCxn id="1374" idx="2"/>
            <a:endCxn id="1414" idx="0"/>
          </p:cNvCxnSpPr>
          <p:nvPr/>
        </p:nvCxnSpPr>
        <p:spPr>
          <a:xfrm flipH="1" rot="16200000">
            <a:off x="6742800" y="4038480"/>
            <a:ext cx="153360" cy="335340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25" name=""/>
          <p:cNvSpPr/>
          <p:nvPr/>
        </p:nvSpPr>
        <p:spPr>
          <a:xfrm>
            <a:off x="5029200" y="5486400"/>
            <a:ext cx="2286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6" name=""/>
          <p:cNvCxnSpPr>
            <a:stCxn id="1425" idx="2"/>
            <a:endCxn id="1427" idx="0"/>
          </p:cNvCxnSpPr>
          <p:nvPr/>
        </p:nvCxnSpPr>
        <p:spPr>
          <a:xfrm rot="5400000">
            <a:off x="2780640" y="3429000"/>
            <a:ext cx="153360" cy="457272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27" name=""/>
          <p:cNvSpPr/>
          <p:nvPr/>
        </p:nvSpPr>
        <p:spPr>
          <a:xfrm>
            <a:off x="45720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85800" y="62485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60199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0" name=""/>
          <p:cNvCxnSpPr>
            <a:stCxn id="1427" idx="2"/>
            <a:endCxn id="1429" idx="1"/>
          </p:cNvCxnSpPr>
          <p:nvPr/>
        </p:nvCxnSpPr>
        <p:spPr>
          <a:xfrm flipH="1" rot="16200000">
            <a:off x="551520" y="596232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1" name=""/>
          <p:cNvCxnSpPr>
            <a:stCxn id="1427" idx="2"/>
            <a:endCxn id="1428" idx="1"/>
          </p:cNvCxnSpPr>
          <p:nvPr/>
        </p:nvCxnSpPr>
        <p:spPr>
          <a:xfrm flipH="1" rot="16200000">
            <a:off x="437400" y="607680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2" name=""/>
          <p:cNvSpPr/>
          <p:nvPr/>
        </p:nvSpPr>
        <p:spPr>
          <a:xfrm>
            <a:off x="91440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143000" y="60199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4" name=""/>
          <p:cNvCxnSpPr>
            <a:stCxn id="1432" idx="2"/>
            <a:endCxn id="1433" idx="1"/>
          </p:cNvCxnSpPr>
          <p:nvPr/>
        </p:nvCxnSpPr>
        <p:spPr>
          <a:xfrm flipH="1" rot="16200000">
            <a:off x="1008720" y="596232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5" name=""/>
          <p:cNvSpPr/>
          <p:nvPr/>
        </p:nvSpPr>
        <p:spPr>
          <a:xfrm>
            <a:off x="137160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1600200" y="62485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600200" y="60199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8" name=""/>
          <p:cNvCxnSpPr>
            <a:stCxn id="1435" idx="2"/>
            <a:endCxn id="1437" idx="1"/>
          </p:cNvCxnSpPr>
          <p:nvPr/>
        </p:nvCxnSpPr>
        <p:spPr>
          <a:xfrm flipH="1" rot="16200000">
            <a:off x="1465920" y="596232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9" name=""/>
          <p:cNvCxnSpPr>
            <a:stCxn id="1435" idx="2"/>
            <a:endCxn id="1436" idx="1"/>
          </p:cNvCxnSpPr>
          <p:nvPr/>
        </p:nvCxnSpPr>
        <p:spPr>
          <a:xfrm flipH="1" rot="16200000">
            <a:off x="1351800" y="607680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0" name=""/>
          <p:cNvSpPr/>
          <p:nvPr/>
        </p:nvSpPr>
        <p:spPr>
          <a:xfrm>
            <a:off x="182880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057400" y="60199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2" name=""/>
          <p:cNvCxnSpPr>
            <a:stCxn id="1440" idx="2"/>
            <a:endCxn id="1441" idx="1"/>
          </p:cNvCxnSpPr>
          <p:nvPr/>
        </p:nvCxnSpPr>
        <p:spPr>
          <a:xfrm flipH="1" rot="16200000">
            <a:off x="1923120" y="596232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3" name=""/>
          <p:cNvSpPr/>
          <p:nvPr/>
        </p:nvSpPr>
        <p:spPr>
          <a:xfrm>
            <a:off x="228600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514600" y="62485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514600" y="60199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6" name=""/>
          <p:cNvCxnSpPr>
            <a:stCxn id="1443" idx="2"/>
            <a:endCxn id="1445" idx="1"/>
          </p:cNvCxnSpPr>
          <p:nvPr/>
        </p:nvCxnSpPr>
        <p:spPr>
          <a:xfrm flipH="1" rot="16200000">
            <a:off x="2380320" y="596232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7" name=""/>
          <p:cNvCxnSpPr>
            <a:stCxn id="1443" idx="2"/>
            <a:endCxn id="1444" idx="1"/>
          </p:cNvCxnSpPr>
          <p:nvPr/>
        </p:nvCxnSpPr>
        <p:spPr>
          <a:xfrm flipH="1" rot="16200000">
            <a:off x="2266200" y="607680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8" name=""/>
          <p:cNvSpPr/>
          <p:nvPr/>
        </p:nvSpPr>
        <p:spPr>
          <a:xfrm>
            <a:off x="274320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971800" y="60199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0" name=""/>
          <p:cNvCxnSpPr>
            <a:stCxn id="1448" idx="2"/>
            <a:endCxn id="1449" idx="1"/>
          </p:cNvCxnSpPr>
          <p:nvPr/>
        </p:nvCxnSpPr>
        <p:spPr>
          <a:xfrm flipH="1" rot="16200000">
            <a:off x="2837520" y="596232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51" name=""/>
          <p:cNvSpPr/>
          <p:nvPr/>
        </p:nvSpPr>
        <p:spPr>
          <a:xfrm>
            <a:off x="327672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505320" y="62485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505320" y="60199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4" name=""/>
          <p:cNvCxnSpPr>
            <a:stCxn id="1451" idx="2"/>
            <a:endCxn id="1453" idx="1"/>
          </p:cNvCxnSpPr>
          <p:nvPr/>
        </p:nvCxnSpPr>
        <p:spPr>
          <a:xfrm flipH="1" rot="16200000">
            <a:off x="3371760" y="5961960"/>
            <a:ext cx="15300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5" name=""/>
          <p:cNvCxnSpPr>
            <a:stCxn id="1451" idx="2"/>
            <a:endCxn id="1452" idx="1"/>
          </p:cNvCxnSpPr>
          <p:nvPr/>
        </p:nvCxnSpPr>
        <p:spPr>
          <a:xfrm flipH="1" rot="16200000">
            <a:off x="3257640" y="6076440"/>
            <a:ext cx="38160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56" name=""/>
          <p:cNvSpPr/>
          <p:nvPr/>
        </p:nvSpPr>
        <p:spPr>
          <a:xfrm>
            <a:off x="3733920" y="57913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3962520" y="601992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8" name=""/>
          <p:cNvCxnSpPr>
            <a:stCxn id="1456" idx="2"/>
            <a:endCxn id="1457" idx="1"/>
          </p:cNvCxnSpPr>
          <p:nvPr/>
        </p:nvCxnSpPr>
        <p:spPr>
          <a:xfrm flipH="1" rot="16200000">
            <a:off x="3828960" y="5961960"/>
            <a:ext cx="15300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9" name=""/>
          <p:cNvCxnSpPr>
            <a:stCxn id="1425" idx="2"/>
            <a:endCxn id="1435" idx="0"/>
          </p:cNvCxnSpPr>
          <p:nvPr/>
        </p:nvCxnSpPr>
        <p:spPr>
          <a:xfrm rot="5400000">
            <a:off x="3237840" y="3886200"/>
            <a:ext cx="153360" cy="365832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0" name=""/>
          <p:cNvCxnSpPr>
            <a:stCxn id="1425" idx="2"/>
            <a:endCxn id="1440" idx="0"/>
          </p:cNvCxnSpPr>
          <p:nvPr/>
        </p:nvCxnSpPr>
        <p:spPr>
          <a:xfrm rot="5400000">
            <a:off x="3466440" y="4114800"/>
            <a:ext cx="153360" cy="320112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1" name=""/>
          <p:cNvCxnSpPr>
            <a:stCxn id="1425" idx="2"/>
            <a:endCxn id="1443" idx="0"/>
          </p:cNvCxnSpPr>
          <p:nvPr/>
        </p:nvCxnSpPr>
        <p:spPr>
          <a:xfrm rot="5400000">
            <a:off x="3695040" y="4343400"/>
            <a:ext cx="153360" cy="274392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2" name=""/>
          <p:cNvCxnSpPr>
            <a:stCxn id="1425" idx="2"/>
            <a:endCxn id="1448" idx="0"/>
          </p:cNvCxnSpPr>
          <p:nvPr/>
        </p:nvCxnSpPr>
        <p:spPr>
          <a:xfrm rot="5400000">
            <a:off x="3923640" y="4572000"/>
            <a:ext cx="153360" cy="228672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3" name=""/>
          <p:cNvCxnSpPr>
            <a:stCxn id="1425" idx="2"/>
            <a:endCxn id="1451" idx="0"/>
          </p:cNvCxnSpPr>
          <p:nvPr/>
        </p:nvCxnSpPr>
        <p:spPr>
          <a:xfrm rot="5400000">
            <a:off x="4190040" y="4838400"/>
            <a:ext cx="153360" cy="175356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4" name=""/>
          <p:cNvCxnSpPr>
            <a:stCxn id="1425" idx="2"/>
            <a:endCxn id="1456" idx="0"/>
          </p:cNvCxnSpPr>
          <p:nvPr/>
        </p:nvCxnSpPr>
        <p:spPr>
          <a:xfrm rot="5400000">
            <a:off x="4418640" y="5067000"/>
            <a:ext cx="153360" cy="129636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65" name=""/>
          <p:cNvSpPr/>
          <p:nvPr/>
        </p:nvSpPr>
        <p:spPr>
          <a:xfrm>
            <a:off x="252360" y="1616040"/>
            <a:ext cx="390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ção A : Muitos deliverables e pacotes de trabalho dentro de um mesmo p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04920" y="4419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ção B: Muitos deliverables e pacotes de trabalho dentro de um mesm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uidados para a elaboração da EDT/ WBS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ão de proj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quad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ritório de projetos (quadro 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ção de fornecedores no PDP (quadro 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po do produ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projeto (quadro 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ck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escopo do projeto (quadro 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ção de EDT (WBS) (quadro 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idados para a elaboração da EDT (quadro 5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mportância da definição do escopo (quadro 5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mportância da definição do escop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266760" y="971640"/>
            <a:ext cx="8620920" cy="5766840"/>
            <a:chOff x="266760" y="971640"/>
            <a:chExt cx="8620920" cy="5766840"/>
          </a:xfrm>
        </p:grpSpPr>
        <p:grpSp>
          <p:nvGrpSpPr>
            <p:cNvPr id="1472" name=""/>
            <p:cNvGrpSpPr/>
            <p:nvPr/>
          </p:nvGrpSpPr>
          <p:grpSpPr>
            <a:xfrm>
              <a:off x="3585600" y="3395160"/>
              <a:ext cx="1296360" cy="1054800"/>
              <a:chOff x="3585600" y="3395160"/>
              <a:chExt cx="1296360" cy="1054800"/>
            </a:xfrm>
          </p:grpSpPr>
          <p:sp>
            <p:nvSpPr>
              <p:cNvPr id="1473" name=""/>
              <p:cNvSpPr/>
              <p:nvPr/>
            </p:nvSpPr>
            <p:spPr>
              <a:xfrm>
                <a:off x="3585600" y="3395160"/>
                <a:ext cx="1296360" cy="105480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Unicode MS"/>
                  </a:rPr>
                  <a:t>Definição do Escop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85600" y="3395160"/>
                <a:ext cx="1296360" cy="24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HD Symbol Sans"/>
                  </a:rPr>
                  <a:t>Escop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266760" y="3432960"/>
              <a:ext cx="1372680" cy="984600"/>
              <a:chOff x="266760" y="3432960"/>
              <a:chExt cx="1372680" cy="984600"/>
            </a:xfrm>
          </p:grpSpPr>
          <p:sp>
            <p:nvSpPr>
              <p:cNvPr id="1476" name=""/>
              <p:cNvSpPr/>
              <p:nvPr/>
            </p:nvSpPr>
            <p:spPr>
              <a:xfrm>
                <a:off x="266760" y="3432960"/>
                <a:ext cx="1372680" cy="984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Unicode MS"/>
                  </a:rPr>
                  <a:t>Planejamento do Escop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66760" y="3432960"/>
                <a:ext cx="1372680" cy="226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HD Symbol Sans"/>
                  </a:rPr>
                  <a:t>Escop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3547440" y="971640"/>
              <a:ext cx="1372680" cy="1054800"/>
              <a:chOff x="3547440" y="971640"/>
              <a:chExt cx="1372680" cy="1054800"/>
            </a:xfrm>
          </p:grpSpPr>
          <p:sp>
            <p:nvSpPr>
              <p:cNvPr id="1479" name=""/>
              <p:cNvSpPr/>
              <p:nvPr/>
            </p:nvSpPr>
            <p:spPr>
              <a:xfrm>
                <a:off x="3547440" y="971640"/>
                <a:ext cx="1372680" cy="1054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Unicode MS"/>
                  </a:rPr>
                  <a:t>Definição das Ativida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547440" y="971640"/>
                <a:ext cx="1372680" cy="24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HD Symbol Sans"/>
                  </a:rPr>
                  <a:t>Temp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5607360" y="1815480"/>
              <a:ext cx="1372680" cy="1054800"/>
              <a:chOff x="5607360" y="1815480"/>
              <a:chExt cx="1372680" cy="1054800"/>
            </a:xfrm>
          </p:grpSpPr>
          <p:sp>
            <p:nvSpPr>
              <p:cNvPr id="1482" name=""/>
              <p:cNvSpPr/>
              <p:nvPr/>
            </p:nvSpPr>
            <p:spPr>
              <a:xfrm>
                <a:off x="5607360" y="1815480"/>
                <a:ext cx="1372680" cy="1054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Unicode MS"/>
                  </a:rPr>
                  <a:t>Planejamento dos Recurs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607360" y="1815480"/>
                <a:ext cx="1372680" cy="24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HD Symbol Sans"/>
                  </a:rPr>
                  <a:t>Cus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4" name=""/>
            <p:cNvGrpSpPr/>
            <p:nvPr/>
          </p:nvGrpSpPr>
          <p:grpSpPr>
            <a:xfrm>
              <a:off x="5683680" y="4628880"/>
              <a:ext cx="1372680" cy="1054800"/>
              <a:chOff x="5683680" y="4628880"/>
              <a:chExt cx="1372680" cy="1054800"/>
            </a:xfrm>
          </p:grpSpPr>
          <p:sp>
            <p:nvSpPr>
              <p:cNvPr id="1485" name=""/>
              <p:cNvSpPr/>
              <p:nvPr/>
            </p:nvSpPr>
            <p:spPr>
              <a:xfrm>
                <a:off x="5683680" y="4628880"/>
                <a:ext cx="1372680" cy="1054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Unicode MS"/>
                  </a:rPr>
                  <a:t>Estimativa de Cus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683680" y="4628880"/>
                <a:ext cx="1372680" cy="24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HD Symbol Sans"/>
                  </a:rPr>
                  <a:t>Cus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7515000" y="3395160"/>
              <a:ext cx="1372680" cy="1054800"/>
              <a:chOff x="7515000" y="3395160"/>
              <a:chExt cx="1372680" cy="1054800"/>
            </a:xfrm>
          </p:grpSpPr>
          <p:sp>
            <p:nvSpPr>
              <p:cNvPr id="1488" name=""/>
              <p:cNvSpPr/>
              <p:nvPr/>
            </p:nvSpPr>
            <p:spPr>
              <a:xfrm>
                <a:off x="7515000" y="3395160"/>
                <a:ext cx="1372680" cy="1054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Unicode MS"/>
                  </a:rPr>
                  <a:t>Preparação 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Unicode MS"/>
                  </a:rPr>
                  <a:t>Orça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515000" y="3395160"/>
                <a:ext cx="1372680" cy="24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HD Symbol Sans"/>
                  </a:rPr>
                  <a:t>Cus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3547440" y="5683680"/>
              <a:ext cx="1372680" cy="1054800"/>
              <a:chOff x="3547440" y="5683680"/>
              <a:chExt cx="1372680" cy="1054800"/>
            </a:xfrm>
          </p:grpSpPr>
          <p:sp>
            <p:nvSpPr>
              <p:cNvPr id="1491" name=""/>
              <p:cNvSpPr/>
              <p:nvPr/>
            </p:nvSpPr>
            <p:spPr>
              <a:xfrm>
                <a:off x="3547440" y="5683680"/>
                <a:ext cx="1372680" cy="1054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Unicode MS"/>
                  </a:rPr>
                  <a:t>Planejamento dos Risc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547440" y="5683680"/>
                <a:ext cx="1372680" cy="24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HD Symbol Sans"/>
                  </a:rPr>
                  <a:t>Ris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93" name=""/>
            <p:cNvCxnSpPr>
              <a:stCxn id="1476" idx="3"/>
              <a:endCxn id="1473" idx="1"/>
            </p:cNvCxnSpPr>
            <p:nvPr/>
          </p:nvCxnSpPr>
          <p:spPr>
            <a:xfrm flipV="1">
              <a:off x="1658880" y="3921840"/>
              <a:ext cx="1908000" cy="3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4" name=""/>
            <p:cNvSpPr/>
            <p:nvPr/>
          </p:nvSpPr>
          <p:spPr>
            <a:xfrm>
              <a:off x="2021760" y="3667680"/>
              <a:ext cx="1144080" cy="43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laração de Esco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5" name=""/>
            <p:cNvCxnSpPr>
              <a:stCxn id="1474" idx="0"/>
              <a:endCxn id="1479" idx="2"/>
            </p:cNvCxnSpPr>
            <p:nvPr/>
          </p:nvCxnSpPr>
          <p:spPr>
            <a:xfrm flipV="1">
              <a:off x="4233600" y="2044080"/>
              <a:ext cx="1080" cy="1351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6" name=""/>
            <p:cNvCxnSpPr>
              <a:stCxn id="1474" idx="3"/>
              <a:endCxn id="1482" idx="1"/>
            </p:cNvCxnSpPr>
            <p:nvPr/>
          </p:nvCxnSpPr>
          <p:spPr>
            <a:xfrm flipV="1">
              <a:off x="4882680" y="2342520"/>
              <a:ext cx="706320" cy="1173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7" name=""/>
            <p:cNvCxnSpPr>
              <a:stCxn id="1473" idx="3"/>
              <a:endCxn id="1488" idx="1"/>
            </p:cNvCxnSpPr>
            <p:nvPr/>
          </p:nvCxnSpPr>
          <p:spPr>
            <a:xfrm>
              <a:off x="4901760" y="3921840"/>
              <a:ext cx="25948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8" name=""/>
            <p:cNvSpPr/>
            <p:nvPr/>
          </p:nvSpPr>
          <p:spPr>
            <a:xfrm>
              <a:off x="4615560" y="4206960"/>
              <a:ext cx="2286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9" name=""/>
            <p:cNvCxnSpPr>
              <a:stCxn id="1498" idx="3"/>
              <a:endCxn id="1485" idx="1"/>
            </p:cNvCxnSpPr>
            <p:nvPr/>
          </p:nvCxnSpPr>
          <p:spPr>
            <a:xfrm>
              <a:off x="4844160" y="4312080"/>
              <a:ext cx="820800" cy="844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0" name=""/>
            <p:cNvCxnSpPr>
              <a:stCxn id="1473" idx="2"/>
              <a:endCxn id="1492" idx="0"/>
            </p:cNvCxnSpPr>
            <p:nvPr/>
          </p:nvCxnSpPr>
          <p:spPr>
            <a:xfrm>
              <a:off x="4233600" y="4467600"/>
              <a:ext cx="1080" cy="121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1" name=""/>
            <p:cNvSpPr/>
            <p:nvPr/>
          </p:nvSpPr>
          <p:spPr>
            <a:xfrm>
              <a:off x="3623760" y="2589120"/>
              <a:ext cx="114408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D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615560" y="2980440"/>
              <a:ext cx="114408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D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988600" y="3824280"/>
              <a:ext cx="61056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D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68200" y="4596480"/>
              <a:ext cx="83880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D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852720" y="4808880"/>
              <a:ext cx="83880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D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160200" y="1017720"/>
            <a:ext cx="284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ED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pronta é o documento que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guiará todas as demais atividades de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7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rros comuns na preparação da declaração do escopo do projeto (quadro 5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atividades (quadro 5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ndo as atividades (quadro 5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s de gestão de projetos (quadro 5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relacionamentos entre atividades (quadro 5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e econômica do desenvolvimento de produtos (quadro 5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e financeira acompanhará todo o ciclo de vida do produto (quadro 5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9546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rros comuns na preparação da declaração do escop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112320" y="1020240"/>
            <a:ext cx="8574120" cy="523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m erro, mesmo que mínimo, pode levar a divergência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ação com impactos significativos. Os erros mais comuns 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os desorganiza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ecisão terminológic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lta de padronização no tamanho das taref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resulta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lha na solicitação de revisão por terce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teressado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daptar o model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atividades e s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cron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orçament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a viabilidade econômica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teressado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r o model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atividades e s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cron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orçament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a viabilidade econômica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3" name=""/>
          <p:cNvGrpSpPr/>
          <p:nvPr/>
        </p:nvGrpSpPr>
        <p:grpSpPr>
          <a:xfrm>
            <a:off x="841320" y="923760"/>
            <a:ext cx="6960960" cy="5834160"/>
            <a:chOff x="841320" y="923760"/>
            <a:chExt cx="6960960" cy="5834160"/>
          </a:xfrm>
        </p:grpSpPr>
        <p:sp>
          <p:nvSpPr>
            <p:cNvPr id="1514" name=""/>
            <p:cNvSpPr/>
            <p:nvPr/>
          </p:nvSpPr>
          <p:spPr>
            <a:xfrm>
              <a:off x="3282840" y="1056960"/>
              <a:ext cx="4421160" cy="3848400"/>
            </a:xfrm>
            <a:custGeom>
              <a:avLst/>
              <a:gdLst/>
              <a:ahLst/>
              <a:rect l="l" t="t" r="r" b="b"/>
              <a:pathLst>
                <a:path w="2785" h="2424">
                  <a:moveTo>
                    <a:pt x="0" y="1010"/>
                  </a:moveTo>
                  <a:lnTo>
                    <a:pt x="718" y="0"/>
                  </a:lnTo>
                  <a:lnTo>
                    <a:pt x="2783" y="0"/>
                  </a:lnTo>
                  <a:lnTo>
                    <a:pt x="2785" y="2416"/>
                  </a:lnTo>
                  <a:lnTo>
                    <a:pt x="740" y="2424"/>
                  </a:lnTo>
                  <a:lnTo>
                    <a:pt x="10" y="133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41320" y="2266920"/>
              <a:ext cx="1423800" cy="472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ejamento do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rot="10800000">
              <a:off x="2287440" y="3408120"/>
              <a:ext cx="66528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rot="10800000">
              <a:off x="2285640" y="2138040"/>
              <a:ext cx="66492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145880" y="923760"/>
              <a:ext cx="297828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claração do Escopo d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elo de referência específico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 PDP da empr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95200" y="2549520"/>
              <a:ext cx="1447920" cy="63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aptar o modelo de refe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539960" y="2050920"/>
              <a:ext cx="262908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assificar o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574880" y="2828880"/>
              <a:ext cx="252252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icar a versão adaptada do mod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183680" y="3751200"/>
              <a:ext cx="3023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lo de referência específ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aptado para 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3" name=""/>
            <p:cNvGrpSpPr/>
            <p:nvPr/>
          </p:nvGrpSpPr>
          <p:grpSpPr>
            <a:xfrm>
              <a:off x="4417920" y="4962240"/>
              <a:ext cx="3384360" cy="1795680"/>
              <a:chOff x="4417920" y="4962240"/>
              <a:chExt cx="3384360" cy="1795680"/>
            </a:xfrm>
          </p:grpSpPr>
          <p:sp>
            <p:nvSpPr>
              <p:cNvPr id="1524" name=""/>
              <p:cNvSpPr/>
              <p:nvPr/>
            </p:nvSpPr>
            <p:spPr>
              <a:xfrm>
                <a:off x="4417920" y="5344920"/>
                <a:ext cx="3384360" cy="141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561200" y="5709960"/>
                <a:ext cx="3096720" cy="90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iação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o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grau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mplexidade e inovação d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duto/proje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574880" y="4962240"/>
                <a:ext cx="298404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étodos, ferramentas, documentos de apo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7" name=""/>
            <p:cNvSpPr/>
            <p:nvPr/>
          </p:nvSpPr>
          <p:spPr>
            <a:xfrm>
              <a:off x="977760" y="5344920"/>
              <a:ext cx="3384360" cy="141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69640" y="4962240"/>
              <a:ext cx="298476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ação com outras ativ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>
              <a:hlinkClick r:id="rId1" action="ppaction://hlinksldjump"/>
            </p:cNvPr>
            <p:cNvSpPr/>
            <p:nvPr/>
          </p:nvSpPr>
          <p:spPr>
            <a:xfrm>
              <a:off x="1468440" y="5603760"/>
              <a:ext cx="233964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escopo do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369800" y="5870520"/>
              <a:ext cx="254484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escopo do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217520" y="6438600"/>
              <a:ext cx="2958840" cy="21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indicadores de desempen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369800" y="6161040"/>
              <a:ext cx="260208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atividades e praz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574880" y="3743280"/>
              <a:ext cx="252252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icar necessidades de mudanç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daptar o modelo de referênci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de classificaçã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751960" cy="58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modelo de referência de PDP prevê uma classificação do proj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em radical, plataforma, derivado o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llow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mbinando: o grau de complexidade do produto/projeto e o seu grau de inova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 isso, adaptações serão necessárias no modelo de referência específico do PDP da empresa, de forma a melhor utilizá-lo para o projeto em quest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adaptação desse modelo específico devem considerar quais e como devem ser realizadas as atividades e tarefas de cada uma das seis fases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DP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7" name=""/>
          <p:cNvGrpSpPr/>
          <p:nvPr/>
        </p:nvGrpSpPr>
        <p:grpSpPr>
          <a:xfrm>
            <a:off x="77760" y="893880"/>
            <a:ext cx="8843400" cy="5958720"/>
            <a:chOff x="77760" y="893880"/>
            <a:chExt cx="8843400" cy="5958720"/>
          </a:xfrm>
        </p:grpSpPr>
        <p:sp>
          <p:nvSpPr>
            <p:cNvPr id="1538" name=""/>
            <p:cNvSpPr/>
            <p:nvPr/>
          </p:nvSpPr>
          <p:spPr>
            <a:xfrm>
              <a:off x="8846280" y="1574280"/>
              <a:ext cx="0" cy="4490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376720" y="1574280"/>
              <a:ext cx="0" cy="4218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0" name=""/>
            <p:cNvCxnSpPr>
              <a:stCxn id="1541" idx="2"/>
              <a:endCxn id="1542" idx="0"/>
            </p:cNvCxnSpPr>
            <p:nvPr/>
          </p:nvCxnSpPr>
          <p:spPr>
            <a:xfrm flipH="1" rot="16200000">
              <a:off x="631440" y="4263120"/>
              <a:ext cx="1873080" cy="1832760"/>
            </a:xfrm>
            <a:prstGeom prst="bentConnector2">
              <a:avLst/>
            </a:prstGeom>
            <a:ln w="76320">
              <a:solidFill>
                <a:srgbClr val="ccff99"/>
              </a:solidFill>
              <a:miter/>
              <a:tailEnd len="med" type="triangle" w="med"/>
            </a:ln>
          </p:spPr>
        </p:cxnSp>
        <p:cxnSp>
          <p:nvCxnSpPr>
            <p:cNvPr id="1543" name=""/>
            <p:cNvCxnSpPr>
              <a:stCxn id="1544" idx="2"/>
              <a:endCxn id="1545" idx="0"/>
            </p:cNvCxnSpPr>
            <p:nvPr/>
          </p:nvCxnSpPr>
          <p:spPr>
            <a:xfrm flipH="1" rot="16200000">
              <a:off x="1831320" y="3816000"/>
              <a:ext cx="583200" cy="1437480"/>
            </a:xfrm>
            <a:prstGeom prst="bentConnector3">
              <a:avLst>
                <a:gd name="adj1" fmla="val 198270"/>
              </a:avLst>
            </a:prstGeom>
            <a:ln w="76320">
              <a:solidFill>
                <a:srgbClr val="66ff66"/>
              </a:solidFill>
              <a:miter/>
              <a:tailEnd len="med" type="triangle" w="med"/>
            </a:ln>
          </p:spPr>
        </p:cxnSp>
        <p:sp>
          <p:nvSpPr>
            <p:cNvPr id="1546" name=""/>
            <p:cNvSpPr/>
            <p:nvPr/>
          </p:nvSpPr>
          <p:spPr>
            <a:xfrm>
              <a:off x="3505320" y="893880"/>
              <a:ext cx="0" cy="5919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7" name=""/>
            <p:cNvGrpSpPr/>
            <p:nvPr/>
          </p:nvGrpSpPr>
          <p:grpSpPr>
            <a:xfrm>
              <a:off x="2376720" y="893880"/>
              <a:ext cx="6544080" cy="683640"/>
              <a:chOff x="2376720" y="893880"/>
              <a:chExt cx="6544080" cy="683640"/>
            </a:xfrm>
          </p:grpSpPr>
          <p:grpSp>
            <p:nvGrpSpPr>
              <p:cNvPr id="1548" name=""/>
              <p:cNvGrpSpPr/>
              <p:nvPr/>
            </p:nvGrpSpPr>
            <p:grpSpPr>
              <a:xfrm>
                <a:off x="3590640" y="911520"/>
                <a:ext cx="5330160" cy="666000"/>
                <a:chOff x="3590640" y="911520"/>
                <a:chExt cx="5330160" cy="66600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5785920" y="911520"/>
                  <a:ext cx="1020960" cy="666000"/>
                </a:xfrm>
                <a:custGeom>
                  <a:avLst/>
                  <a:gdLst>
                    <a:gd name="textAreaLeft" fmla="*/ 0 w 1020960"/>
                    <a:gd name="textAreaRight" fmla="*/ 1021320 w 1020960"/>
                    <a:gd name="textAreaTop" fmla="*/ 0 h 666000"/>
                    <a:gd name="textAreaBottom" fmla="*/ 666360 h 66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4" y="0"/>
                      </a:lnTo>
                      <a:lnTo>
                        <a:pt x="21600" y="10800"/>
                      </a:lnTo>
                      <a:lnTo>
                        <a:pt x="19544" y="21600"/>
                      </a:lnTo>
                      <a:lnTo>
                        <a:pt x="0" y="21600"/>
                      </a:lnTo>
                      <a:lnTo>
                        <a:pt x="2056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</a:rPr>
                    <a:t>Proje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</a:rPr>
                    <a:t>Detalhad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4802760" y="911520"/>
                  <a:ext cx="1049400" cy="666000"/>
                </a:xfrm>
                <a:custGeom>
                  <a:avLst/>
                  <a:gdLst>
                    <a:gd name="textAreaLeft" fmla="*/ 0 w 1049400"/>
                    <a:gd name="textAreaRight" fmla="*/ 1049760 w 1049400"/>
                    <a:gd name="textAreaTop" fmla="*/ 0 h 666000"/>
                    <a:gd name="textAreaBottom" fmla="*/ 666360 h 66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672" y="0"/>
                      </a:lnTo>
                      <a:lnTo>
                        <a:pt x="21600" y="10800"/>
                      </a:lnTo>
                      <a:lnTo>
                        <a:pt x="19672" y="21600"/>
                      </a:lnTo>
                      <a:lnTo>
                        <a:pt x="0" y="21600"/>
                      </a:lnTo>
                      <a:lnTo>
                        <a:pt x="1928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</a:rPr>
                    <a:t>Proje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</a:rPr>
                    <a:t>Conceitual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3590640" y="911520"/>
                  <a:ext cx="1267200" cy="666000"/>
                </a:xfrm>
                <a:custGeom>
                  <a:avLst/>
                  <a:gdLst>
                    <a:gd name="textAreaLeft" fmla="*/ 0 w 1267200"/>
                    <a:gd name="textAreaRight" fmla="*/ 1267560 w 1267200"/>
                    <a:gd name="textAreaTop" fmla="*/ 0 h 666000"/>
                    <a:gd name="textAreaBottom" fmla="*/ 666360 h 66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746" y="0"/>
                      </a:lnTo>
                      <a:lnTo>
                        <a:pt x="21600" y="10800"/>
                      </a:lnTo>
                      <a:lnTo>
                        <a:pt x="19746" y="21600"/>
                      </a:lnTo>
                      <a:lnTo>
                        <a:pt x="0" y="21600"/>
                      </a:lnTo>
                      <a:lnTo>
                        <a:pt x="1854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</a:rPr>
                    <a:t>Proje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</a:rPr>
                    <a:t>Informaciona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7788600" y="911520"/>
                  <a:ext cx="1132200" cy="666000"/>
                </a:xfrm>
                <a:custGeom>
                  <a:avLst/>
                  <a:gdLst>
                    <a:gd name="textAreaLeft" fmla="*/ 0 w 1132200"/>
                    <a:gd name="textAreaRight" fmla="*/ 1132560 w 1132200"/>
                    <a:gd name="textAreaTop" fmla="*/ 0 h 666000"/>
                    <a:gd name="textAreaBottom" fmla="*/ 666360 h 66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740" y="0"/>
                      </a:lnTo>
                      <a:lnTo>
                        <a:pt x="21600" y="10800"/>
                      </a:lnTo>
                      <a:lnTo>
                        <a:pt x="19740" y="21600"/>
                      </a:lnTo>
                      <a:lnTo>
                        <a:pt x="0" y="21600"/>
                      </a:lnTo>
                      <a:lnTo>
                        <a:pt x="1860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</a:rPr>
                    <a:t>Lanç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</a:rPr>
                    <a:t>do Produ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761520" y="911520"/>
                  <a:ext cx="1069920" cy="666000"/>
                </a:xfrm>
                <a:custGeom>
                  <a:avLst/>
                  <a:gdLst>
                    <a:gd name="textAreaLeft" fmla="*/ 0 w 1069920"/>
                    <a:gd name="textAreaRight" fmla="*/ 1070280 w 1069920"/>
                    <a:gd name="textAreaTop" fmla="*/ 0 h 666000"/>
                    <a:gd name="textAreaBottom" fmla="*/ 666360 h 66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987" y="0"/>
                      </a:lnTo>
                      <a:lnTo>
                        <a:pt x="21600" y="10800"/>
                      </a:lnTo>
                      <a:lnTo>
                        <a:pt x="19987" y="21600"/>
                      </a:lnTo>
                      <a:lnTo>
                        <a:pt x="0" y="21600"/>
                      </a:lnTo>
                      <a:lnTo>
                        <a:pt x="1613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</a:rPr>
                    <a:t>Prepara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</a:rPr>
                    <a:t>Prod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4" name=""/>
              <p:cNvSpPr/>
              <p:nvPr/>
            </p:nvSpPr>
            <p:spPr>
              <a:xfrm>
                <a:off x="2376720" y="893880"/>
                <a:ext cx="1244880" cy="666360"/>
              </a:xfrm>
              <a:custGeom>
                <a:avLst/>
                <a:gdLst>
                  <a:gd name="textAreaLeft" fmla="*/ 0 w 1244880"/>
                  <a:gd name="textAreaRight" fmla="*/ 1245240 w 12448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22" y="0"/>
                    </a:lnTo>
                    <a:lnTo>
                      <a:pt x="21600" y="10800"/>
                    </a:lnTo>
                    <a:lnTo>
                      <a:pt x="19522" y="21600"/>
                    </a:lnTo>
                    <a:lnTo>
                      <a:pt x="0" y="21600"/>
                    </a:lnTo>
                    <a:lnTo>
                      <a:pt x="2078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Planeja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Proje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77760" y="2906640"/>
              <a:ext cx="1997640" cy="1721880"/>
              <a:chOff x="77760" y="2906640"/>
              <a:chExt cx="1997640" cy="1721880"/>
            </a:xfrm>
          </p:grpSpPr>
          <p:grpSp>
            <p:nvGrpSpPr>
              <p:cNvPr id="1556" name=""/>
              <p:cNvGrpSpPr/>
              <p:nvPr/>
            </p:nvGrpSpPr>
            <p:grpSpPr>
              <a:xfrm>
                <a:off x="464760" y="2906640"/>
                <a:ext cx="1502280" cy="1335960"/>
                <a:chOff x="464760" y="2906640"/>
                <a:chExt cx="1502280" cy="133596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464760" y="2906640"/>
                  <a:ext cx="374400" cy="3384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40600" y="2906640"/>
                  <a:ext cx="374400" cy="3384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1216800" y="2906640"/>
                  <a:ext cx="374400" cy="3384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1592640" y="2906640"/>
                  <a:ext cx="374400" cy="3384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464760" y="3241080"/>
                  <a:ext cx="374400" cy="33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40600" y="3241080"/>
                  <a:ext cx="374400" cy="3384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1216800" y="3241080"/>
                  <a:ext cx="374400" cy="3384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1592640" y="3241080"/>
                  <a:ext cx="374400" cy="3384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464760" y="3569760"/>
                  <a:ext cx="374400" cy="33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840600" y="3569760"/>
                  <a:ext cx="374400" cy="33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1216800" y="3569760"/>
                  <a:ext cx="374400" cy="3384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1592640" y="3569760"/>
                  <a:ext cx="374400" cy="3384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64760" y="3904200"/>
                  <a:ext cx="374400" cy="3384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40600" y="3904200"/>
                  <a:ext cx="374400" cy="33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1216800" y="3904200"/>
                  <a:ext cx="374400" cy="33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1592640" y="3904200"/>
                  <a:ext cx="374400" cy="3384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1" name=""/>
              <p:cNvSpPr/>
              <p:nvPr/>
            </p:nvSpPr>
            <p:spPr>
              <a:xfrm>
                <a:off x="347040" y="2916360"/>
                <a:ext cx="0" cy="131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58280" y="4352400"/>
                <a:ext cx="1617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16200000">
                <a:off x="-316800" y="3497400"/>
                <a:ext cx="1033200" cy="24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ovida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44960" y="4384800"/>
                <a:ext cx="1495080" cy="24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mplexida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2376720" y="2513880"/>
              <a:ext cx="6544440" cy="679320"/>
              <a:chOff x="2376720" y="2513880"/>
              <a:chExt cx="6544440" cy="679320"/>
            </a:xfrm>
          </p:grpSpPr>
          <p:sp>
            <p:nvSpPr>
              <p:cNvPr id="1576" name=""/>
              <p:cNvSpPr/>
              <p:nvPr/>
            </p:nvSpPr>
            <p:spPr>
              <a:xfrm>
                <a:off x="3439440" y="2517840"/>
                <a:ext cx="2030040" cy="672480"/>
              </a:xfrm>
              <a:custGeom>
                <a:avLst/>
                <a:gdLst>
                  <a:gd name="textAreaLeft" fmla="*/ 0 w 2030040"/>
                  <a:gd name="textAreaRight" fmla="*/ 2030400 w 2030040"/>
                  <a:gd name="textAreaTop" fmla="*/ 0 h 672480"/>
                  <a:gd name="textAreaBottom" fmla="*/ 672840 h 67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42" y="0"/>
                    </a:lnTo>
                    <a:lnTo>
                      <a:pt x="21600" y="10800"/>
                    </a:lnTo>
                    <a:lnTo>
                      <a:pt x="20042" y="21600"/>
                    </a:lnTo>
                    <a:lnTo>
                      <a:pt x="0" y="21600"/>
                    </a:lnTo>
                    <a:lnTo>
                      <a:pt x="1558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 e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538760" y="2513880"/>
                <a:ext cx="1382400" cy="672480"/>
              </a:xfrm>
              <a:custGeom>
                <a:avLst/>
                <a:gdLst>
                  <a:gd name="textAreaLeft" fmla="*/ 0 w 1382400"/>
                  <a:gd name="textAreaRight" fmla="*/ 1382760 w 1382400"/>
                  <a:gd name="textAreaTop" fmla="*/ 0 h 672480"/>
                  <a:gd name="textAreaBottom" fmla="*/ 672840 h 67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740" y="0"/>
                    </a:lnTo>
                    <a:lnTo>
                      <a:pt x="21600" y="10800"/>
                    </a:lnTo>
                    <a:lnTo>
                      <a:pt x="19740" y="21600"/>
                    </a:lnTo>
                    <a:lnTo>
                      <a:pt x="0" y="21600"/>
                    </a:lnTo>
                    <a:lnTo>
                      <a:pt x="186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8" name=""/>
              <p:cNvGrpSpPr/>
              <p:nvPr/>
            </p:nvGrpSpPr>
            <p:grpSpPr>
              <a:xfrm>
                <a:off x="2376720" y="2516040"/>
                <a:ext cx="1100520" cy="671400"/>
                <a:chOff x="2376720" y="2516040"/>
                <a:chExt cx="1100520" cy="67140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2376720" y="2516040"/>
                  <a:ext cx="1100520" cy="671400"/>
                </a:xfrm>
                <a:custGeom>
                  <a:avLst/>
                  <a:gdLst>
                    <a:gd name="textAreaLeft" fmla="*/ 0 w 1100520"/>
                    <a:gd name="textAreaRight" fmla="*/ 1100880 w 1100520"/>
                    <a:gd name="textAreaTop" fmla="*/ 0 h 671400"/>
                    <a:gd name="textAreaBottom" fmla="*/ 671760 h 671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3" y="0"/>
                      </a:lnTo>
                      <a:lnTo>
                        <a:pt x="21600" y="10800"/>
                      </a:lnTo>
                      <a:lnTo>
                        <a:pt x="19543" y="21600"/>
                      </a:lnTo>
                      <a:lnTo>
                        <a:pt x="0" y="21600"/>
                      </a:lnTo>
                      <a:lnTo>
                        <a:pt x="2057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2733480" y="2646720"/>
                  <a:ext cx="286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5429160" y="2517840"/>
                <a:ext cx="977400" cy="672120"/>
                <a:chOff x="5429160" y="2517840"/>
                <a:chExt cx="977400" cy="67212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5429160" y="2517840"/>
                  <a:ext cx="977400" cy="672120"/>
                </a:xfrm>
                <a:custGeom>
                  <a:avLst/>
                  <a:gdLst>
                    <a:gd name="textAreaLeft" fmla="*/ 0 w 977400"/>
                    <a:gd name="textAreaRight" fmla="*/ 977760 w 977400"/>
                    <a:gd name="textAreaTop" fmla="*/ 0 h 672120"/>
                    <a:gd name="textAreaBottom" fmla="*/ 672480 h 67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125" y="0"/>
                      </a:lnTo>
                      <a:lnTo>
                        <a:pt x="21600" y="10800"/>
                      </a:lnTo>
                      <a:lnTo>
                        <a:pt x="19125" y="21600"/>
                      </a:lnTo>
                      <a:lnTo>
                        <a:pt x="0" y="21600"/>
                      </a:lnTo>
                      <a:lnTo>
                        <a:pt x="2475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5750280" y="2646720"/>
                  <a:ext cx="286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6367320" y="2521800"/>
                <a:ext cx="1212120" cy="671400"/>
                <a:chOff x="6367320" y="2521800"/>
                <a:chExt cx="1212120" cy="67140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6367320" y="2521800"/>
                  <a:ext cx="1212120" cy="671400"/>
                </a:xfrm>
                <a:custGeom>
                  <a:avLst/>
                  <a:gdLst>
                    <a:gd name="textAreaLeft" fmla="*/ 0 w 1212120"/>
                    <a:gd name="textAreaRight" fmla="*/ 1212120 w 1212120"/>
                    <a:gd name="textAreaTop" fmla="*/ 0 h 671400"/>
                    <a:gd name="textAreaBottom" fmla="*/ 671760 h 671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987" y="0"/>
                      </a:lnTo>
                      <a:lnTo>
                        <a:pt x="21600" y="10800"/>
                      </a:lnTo>
                      <a:lnTo>
                        <a:pt x="19987" y="21600"/>
                      </a:lnTo>
                      <a:lnTo>
                        <a:pt x="0" y="21600"/>
                      </a:lnTo>
                      <a:lnTo>
                        <a:pt x="1613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827760" y="2646360"/>
                  <a:ext cx="286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7" name=""/>
            <p:cNvGrpSpPr/>
            <p:nvPr/>
          </p:nvGrpSpPr>
          <p:grpSpPr>
            <a:xfrm>
              <a:off x="2376720" y="4129560"/>
              <a:ext cx="6469200" cy="695880"/>
              <a:chOff x="2376720" y="4129560"/>
              <a:chExt cx="6469200" cy="695880"/>
            </a:xfrm>
          </p:grpSpPr>
          <p:sp>
            <p:nvSpPr>
              <p:cNvPr id="1588" name=""/>
              <p:cNvSpPr/>
              <p:nvPr/>
            </p:nvSpPr>
            <p:spPr>
              <a:xfrm>
                <a:off x="3407760" y="4130640"/>
                <a:ext cx="1225080" cy="694800"/>
              </a:xfrm>
              <a:custGeom>
                <a:avLst/>
                <a:gdLst>
                  <a:gd name="textAreaLeft" fmla="*/ 0 w 1225080"/>
                  <a:gd name="textAreaRight" fmla="*/ 1225440 w 1225080"/>
                  <a:gd name="textAreaTop" fmla="*/ 0 h 694800"/>
                  <a:gd name="textAreaBottom" fmla="*/ 695160 h 69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285" y="0"/>
                    </a:lnTo>
                    <a:lnTo>
                      <a:pt x="21600" y="10800"/>
                    </a:lnTo>
                    <a:lnTo>
                      <a:pt x="18285" y="21600"/>
                    </a:lnTo>
                    <a:lnTo>
                      <a:pt x="0" y="21600"/>
                    </a:lnTo>
                    <a:lnTo>
                      <a:pt x="3315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 e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9" name=""/>
              <p:cNvGrpSpPr/>
              <p:nvPr/>
            </p:nvGrpSpPr>
            <p:grpSpPr>
              <a:xfrm>
                <a:off x="2376720" y="4130640"/>
                <a:ext cx="1121760" cy="694440"/>
                <a:chOff x="2376720" y="4130640"/>
                <a:chExt cx="1121760" cy="69444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2376720" y="4130640"/>
                  <a:ext cx="1121760" cy="694440"/>
                </a:xfrm>
                <a:custGeom>
                  <a:avLst/>
                  <a:gdLst>
                    <a:gd name="textAreaLeft" fmla="*/ 0 w 1121760"/>
                    <a:gd name="textAreaRight" fmla="*/ 1122120 w 1121760"/>
                    <a:gd name="textAreaTop" fmla="*/ 0 h 694440"/>
                    <a:gd name="textAreaBottom" fmla="*/ 694800 h 694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7906" y="0"/>
                      </a:lnTo>
                      <a:lnTo>
                        <a:pt x="21600" y="10800"/>
                      </a:lnTo>
                      <a:lnTo>
                        <a:pt x="17906" y="21600"/>
                      </a:lnTo>
                      <a:lnTo>
                        <a:pt x="0" y="21600"/>
                      </a:lnTo>
                      <a:lnTo>
                        <a:pt x="3694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2744280" y="4299480"/>
                  <a:ext cx="38376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1" name=""/>
              <p:cNvSpPr/>
              <p:nvPr/>
            </p:nvSpPr>
            <p:spPr>
              <a:xfrm>
                <a:off x="6212880" y="4129560"/>
                <a:ext cx="1504440" cy="694800"/>
              </a:xfrm>
              <a:custGeom>
                <a:avLst/>
                <a:gdLst>
                  <a:gd name="textAreaLeft" fmla="*/ 0 w 1504440"/>
                  <a:gd name="textAreaRight" fmla="*/ 1504800 w 1504440"/>
                  <a:gd name="textAreaTop" fmla="*/ 0 h 694800"/>
                  <a:gd name="textAreaBottom" fmla="*/ 695160 h 69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326" y="0"/>
                    </a:lnTo>
                    <a:lnTo>
                      <a:pt x="21600" y="10800"/>
                    </a:lnTo>
                    <a:lnTo>
                      <a:pt x="19326" y="21600"/>
                    </a:lnTo>
                    <a:lnTo>
                      <a:pt x="0" y="21600"/>
                    </a:lnTo>
                    <a:lnTo>
                      <a:pt x="2274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633080" y="4129560"/>
                <a:ext cx="1212840" cy="694800"/>
              </a:xfrm>
              <a:custGeom>
                <a:avLst/>
                <a:gdLst>
                  <a:gd name="textAreaLeft" fmla="*/ 0 w 1212840"/>
                  <a:gd name="textAreaRight" fmla="*/ 1213200 w 1212840"/>
                  <a:gd name="textAreaTop" fmla="*/ 0 h 694800"/>
                  <a:gd name="textAreaBottom" fmla="*/ 695160 h 69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99" y="0"/>
                    </a:lnTo>
                    <a:lnTo>
                      <a:pt x="21600" y="10800"/>
                    </a:lnTo>
                    <a:lnTo>
                      <a:pt x="17899" y="21600"/>
                    </a:lnTo>
                    <a:lnTo>
                      <a:pt x="0" y="21600"/>
                    </a:lnTo>
                    <a:lnTo>
                      <a:pt x="3701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558320" y="4130640"/>
                <a:ext cx="1729800" cy="694800"/>
              </a:xfrm>
              <a:custGeom>
                <a:avLst/>
                <a:gdLst>
                  <a:gd name="textAreaLeft" fmla="*/ 0 w 1729800"/>
                  <a:gd name="textAreaRight" fmla="*/ 1730160 w 1729800"/>
                  <a:gd name="textAreaTop" fmla="*/ 0 h 694800"/>
                  <a:gd name="textAreaBottom" fmla="*/ 695160 h 69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65" y="0"/>
                    </a:lnTo>
                    <a:lnTo>
                      <a:pt x="21600" y="10800"/>
                    </a:lnTo>
                    <a:lnTo>
                      <a:pt x="19565" y="21600"/>
                    </a:lnTo>
                    <a:lnTo>
                      <a:pt x="0" y="21600"/>
                    </a:lnTo>
                    <a:lnTo>
                      <a:pt x="2035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2376720" y="5761440"/>
              <a:ext cx="6469200" cy="706680"/>
              <a:chOff x="2376720" y="5761440"/>
              <a:chExt cx="6469200" cy="706680"/>
            </a:xfrm>
          </p:grpSpPr>
          <p:sp>
            <p:nvSpPr>
              <p:cNvPr id="1595" name=""/>
              <p:cNvSpPr/>
              <p:nvPr/>
            </p:nvSpPr>
            <p:spPr>
              <a:xfrm>
                <a:off x="3504960" y="5761440"/>
                <a:ext cx="300600" cy="70560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705600"/>
                  <a:gd name="textAreaBottom" fmla="*/ 705960 h 70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063" y="0"/>
                    </a:lnTo>
                    <a:lnTo>
                      <a:pt x="21600" y="10800"/>
                    </a:lnTo>
                    <a:lnTo>
                      <a:pt x="14063" y="21600"/>
                    </a:lnTo>
                    <a:lnTo>
                      <a:pt x="0" y="21600"/>
                    </a:lnTo>
                    <a:lnTo>
                      <a:pt x="7537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739560" y="5761440"/>
                <a:ext cx="2106360" cy="705600"/>
              </a:xfrm>
              <a:custGeom>
                <a:avLst/>
                <a:gdLst>
                  <a:gd name="textAreaLeft" fmla="*/ 0 w 2106360"/>
                  <a:gd name="textAreaRight" fmla="*/ 2106360 w 2106360"/>
                  <a:gd name="textAreaTop" fmla="*/ 0 h 705600"/>
                  <a:gd name="textAreaBottom" fmla="*/ 705960 h 70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740" y="0"/>
                    </a:lnTo>
                    <a:lnTo>
                      <a:pt x="21600" y="10800"/>
                    </a:lnTo>
                    <a:lnTo>
                      <a:pt x="19740" y="21600"/>
                    </a:lnTo>
                    <a:lnTo>
                      <a:pt x="0" y="21600"/>
                    </a:lnTo>
                    <a:lnTo>
                      <a:pt x="186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633560" y="5761440"/>
                <a:ext cx="2181240" cy="705600"/>
              </a:xfrm>
              <a:custGeom>
                <a:avLst/>
                <a:gdLst>
                  <a:gd name="textAreaLeft" fmla="*/ 0 w 2181240"/>
                  <a:gd name="textAreaRight" fmla="*/ 2181600 w 2181240"/>
                  <a:gd name="textAreaTop" fmla="*/ 0 h 705600"/>
                  <a:gd name="textAreaBottom" fmla="*/ 705960 h 70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987" y="0"/>
                    </a:lnTo>
                    <a:lnTo>
                      <a:pt x="21600" y="10800"/>
                    </a:lnTo>
                    <a:lnTo>
                      <a:pt x="19987" y="21600"/>
                    </a:lnTo>
                    <a:lnTo>
                      <a:pt x="0" y="21600"/>
                    </a:lnTo>
                    <a:lnTo>
                      <a:pt x="1613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766680" y="5769720"/>
                <a:ext cx="941760" cy="689040"/>
              </a:xfrm>
              <a:custGeom>
                <a:avLst/>
                <a:gdLst>
                  <a:gd name="textAreaLeft" fmla="*/ 0 w 941760"/>
                  <a:gd name="textAreaRight" fmla="*/ 942120 w 941760"/>
                  <a:gd name="textAreaTop" fmla="*/ 0 h 689040"/>
                  <a:gd name="textAreaBottom" fmla="*/ 689400 h 68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26" y="0"/>
                    </a:lnTo>
                    <a:lnTo>
                      <a:pt x="21600" y="10800"/>
                    </a:lnTo>
                    <a:lnTo>
                      <a:pt x="17826" y="21600"/>
                    </a:lnTo>
                    <a:lnTo>
                      <a:pt x="0" y="21600"/>
                    </a:lnTo>
                    <a:lnTo>
                      <a:pt x="3774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376720" y="5762520"/>
                <a:ext cx="1128240" cy="705600"/>
              </a:xfrm>
              <a:custGeom>
                <a:avLst/>
                <a:gdLst>
                  <a:gd name="textAreaLeft" fmla="*/ 0 w 1128240"/>
                  <a:gd name="textAreaRight" fmla="*/ 1128600 w 1128240"/>
                  <a:gd name="textAreaTop" fmla="*/ 0 h 705600"/>
                  <a:gd name="textAreaBottom" fmla="*/ 705960 h 70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43" y="0"/>
                    </a:lnTo>
                    <a:lnTo>
                      <a:pt x="21600" y="10800"/>
                    </a:lnTo>
                    <a:lnTo>
                      <a:pt x="19543" y="21600"/>
                    </a:lnTo>
                    <a:lnTo>
                      <a:pt x="0" y="21600"/>
                    </a:lnTo>
                    <a:lnTo>
                      <a:pt x="2057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9" name=""/>
            <p:cNvSpPr/>
            <p:nvPr/>
          </p:nvSpPr>
          <p:spPr>
            <a:xfrm>
              <a:off x="3160800" y="6484320"/>
              <a:ext cx="688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 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5310360" y="1574280"/>
              <a:ext cx="451080" cy="1020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4483080" y="3207240"/>
              <a:ext cx="752400" cy="952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3731040" y="4840200"/>
              <a:ext cx="676800" cy="952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3" name=""/>
            <p:cNvCxnSpPr>
              <a:stCxn id="1560" idx="0"/>
              <a:endCxn id="1554" idx="0"/>
            </p:cNvCxnSpPr>
            <p:nvPr/>
          </p:nvCxnSpPr>
          <p:spPr>
            <a:xfrm flipH="1" flipV="1" rot="5400000">
              <a:off x="1298880" y="1709280"/>
              <a:ext cx="1678680" cy="715320"/>
            </a:xfrm>
            <a:prstGeom prst="bentConnector2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04" name=""/>
            <p:cNvSpPr/>
            <p:nvPr/>
          </p:nvSpPr>
          <p:spPr>
            <a:xfrm flipH="1">
              <a:off x="6288120" y="1574280"/>
              <a:ext cx="451080" cy="1020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6137640" y="3207240"/>
              <a:ext cx="150120" cy="884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4557960" y="4840200"/>
              <a:ext cx="1504440" cy="952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7492320" y="1574280"/>
              <a:ext cx="225360" cy="952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492320" y="3207240"/>
              <a:ext cx="75240" cy="952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6589080" y="4840200"/>
              <a:ext cx="902520" cy="952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0" name=""/>
            <p:cNvCxnSpPr>
              <a:stCxn id="1568" idx="3"/>
              <a:endCxn id="1579" idx="0"/>
            </p:cNvCxnSpPr>
            <p:nvPr/>
          </p:nvCxnSpPr>
          <p:spPr>
            <a:xfrm flipV="1">
              <a:off x="1967760" y="3188160"/>
              <a:ext cx="907920" cy="552240"/>
            </a:xfrm>
            <a:prstGeom prst="bentConnector2">
              <a:avLst/>
            </a:prstGeom>
            <a:ln w="76320">
              <a:solidFill>
                <a:srgbClr val="3399ff"/>
              </a:solidFill>
              <a:miter/>
              <a:tailEnd len="med" type="triangle" w="med"/>
            </a:ln>
          </p:spPr>
        </p:cxnSp>
      </p:grpSp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-360" y="55080"/>
            <a:ext cx="80168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Versões adaptadas do modelo de referência específico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/>
          </p:nvPr>
        </p:nvSpPr>
        <p:spPr>
          <a:xfrm>
            <a:off x="112320" y="887400"/>
            <a:ext cx="8751960" cy="56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s do emprego das versões, 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complexidade/novidade maior para a men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envolvimento de uma plataforma de produto totalmente no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a empre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ma nov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tafor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mas em um segmento que a empresa já atua e, portanto, conhece b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rivações usuais ou convencionais a partir de plataformas de produtos já bem estabelecidas na empre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uan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m produto que se pretende lançar no mercado nacional já foi desenvolvido plenamente, e mesmo está em produção, em um outro loc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7983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Versões adaptadas do modelo de referência específico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teressado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r o model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ir atividades e s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cron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orçament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a viabilidade econômica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/>
          <p:nvPr/>
        </p:nvSpPr>
        <p:spPr>
          <a:xfrm>
            <a:off x="3303720" y="950760"/>
            <a:ext cx="5430600" cy="3381480"/>
          </a:xfrm>
          <a:custGeom>
            <a:avLst/>
            <a:gdLst/>
            <a:ahLst/>
            <a:rect l="l" t="t" r="r" b="b"/>
            <a:pathLst>
              <a:path w="2785" h="2424">
                <a:moveTo>
                  <a:pt x="0" y="1010"/>
                </a:moveTo>
                <a:lnTo>
                  <a:pt x="718" y="0"/>
                </a:lnTo>
                <a:lnTo>
                  <a:pt x="2783" y="0"/>
                </a:lnTo>
                <a:lnTo>
                  <a:pt x="2785" y="2416"/>
                </a:lnTo>
                <a:lnTo>
                  <a:pt x="740" y="2424"/>
                </a:lnTo>
                <a:lnTo>
                  <a:pt x="10" y="1339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04920" y="1986120"/>
            <a:ext cx="1749240" cy="472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ejamento do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rot="10800000">
            <a:off x="2080800" y="3016080"/>
            <a:ext cx="817560" cy="1368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rot="10800000">
            <a:off x="2079720" y="1900080"/>
            <a:ext cx="815760" cy="1368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95440" y="1152360"/>
            <a:ext cx="39211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claração 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opo d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o de Referência Adap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1844640" y="2262240"/>
            <a:ext cx="177948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atividades 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qüê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4848120" y="1073160"/>
            <a:ext cx="331812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a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4848120" y="1908000"/>
            <a:ext cx="322416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relacionamentos entre as a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4848120" y="2930400"/>
            <a:ext cx="322416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a rede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60480" y="3324240"/>
            <a:ext cx="32875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agem das atividades e seus relaciona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áfico da rede do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4697280" y="4968720"/>
            <a:ext cx="4157280" cy="1576080"/>
            <a:chOff x="4697280" y="4968720"/>
            <a:chExt cx="4157280" cy="1576080"/>
          </a:xfrm>
        </p:grpSpPr>
        <p:sp>
          <p:nvSpPr>
            <p:cNvPr id="1627" name=""/>
            <p:cNvSpPr/>
            <p:nvPr/>
          </p:nvSpPr>
          <p:spPr>
            <a:xfrm>
              <a:off x="4697280" y="5304600"/>
              <a:ext cx="4157280" cy="12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308920" y="5626440"/>
              <a:ext cx="2931840" cy="9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ficos de PER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/C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liações de especialis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90240" y="4968720"/>
              <a:ext cx="366552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0" name=""/>
          <p:cNvSpPr/>
          <p:nvPr/>
        </p:nvSpPr>
        <p:spPr>
          <a:xfrm>
            <a:off x="473040" y="4762440"/>
            <a:ext cx="4156200" cy="18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708120" y="4375080"/>
            <a:ext cx="3665520" cy="274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ção com outras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1568520" y="6386400"/>
            <a:ext cx="1512720" cy="21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ris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685800" y="4910040"/>
            <a:ext cx="3701880" cy="21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interessados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677880" y="5400720"/>
            <a:ext cx="376380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daptar o modelo de referê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888840" y="5900760"/>
            <a:ext cx="323388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recursos necess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739800" y="5648400"/>
            <a:ext cx="3636360" cy="213480"/>
            <a:chOff x="739800" y="5648400"/>
            <a:chExt cx="3636360" cy="213480"/>
          </a:xfrm>
        </p:grpSpPr>
        <p:sp>
          <p:nvSpPr>
            <p:cNvPr id="1637" name=""/>
            <p:cNvSpPr/>
            <p:nvPr/>
          </p:nvSpPr>
          <p:spPr>
            <a:xfrm>
              <a:off x="739800" y="5648400"/>
              <a:ext cx="363636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estimativa de orç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314360" y="5649840"/>
              <a:ext cx="597600" cy="1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685800" y="5143680"/>
            <a:ext cx="375588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declaração de esco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733320" y="6149880"/>
            <a:ext cx="3768840" cy="21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indicadores de desempen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finir atividades e seqüênci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de identificação das atividades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-360" y="1000080"/>
            <a:ext cx="875196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tiv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é o termo utilizado dentro da Gestão do Projeto para o último nível de detalhe da EDT. A identificação da atividade depende do nível de controle que se exercerá no proj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3480" y="2825640"/>
            <a:ext cx="875160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o de referência do PDP adaptado 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claração 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copo 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ojeto tiverem sido b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d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definição de atividades e seqüênc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rá bastante facilit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gerente de projetos decompõe a EDT transformando em pacotes de trabalho mais detalhados. Depois, com a ajuda do modelo de referência na versão personalizada, decomporá os pacotes de trabalho em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tividad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de identificação das atividades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55160" y="1000080"/>
            <a:ext cx="875196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ntag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a empresa trabalhar com o conceito de processos de negócio e utilizar modelos de referência dentro da empre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146160" y="2708280"/>
            <a:ext cx="875160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O modelo de referência oferece ao gerente de projetos uma lista de todas as atividade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possíveis, servindo como uma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checklist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e, ao mesmo tempo, facilitando a padronização das atividades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7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s comuns na preparação da declaração do escopo do projeto (quadro 5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atividades (quadro 5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ndo as atividades (quadro 5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ftwares de gestão de projetos (quadro 5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relacionamentos entre atividades (quadro 5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e econômica do desenvolvimento de produtos (quadro 5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e financeira acompanhará todo o ciclo de vida do produto (quadro 5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oftwares de gestão de projetos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r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sistemas de Gestão de Proje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é vantajoso porq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 funcionalidades de edição de listas e geração de gráficos da EDT podem ser úteis para lidar com gran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antid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 ativ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ses sistemas automatizam os cálculos de tempo, utilização e nivelamento dos recursos e custos. Conseqüentemente, permitem criar cenários para avaliar diferentes alternativas e definir o melhor planejamento possí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dicadores de desempe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plano d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e preparar aqui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plano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oftwares de gestão de projetos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193320" y="128736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 funcionalidades típicas de um sistema de Gestão de Projetos 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stão de calendário e agen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stão de ativida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stão de recurs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stão de cus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rramentas de monitor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renciamento de múltiplos projet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7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s comuns na preparação da declaração do escopo do projeto (quadro 5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atividades (quadro 5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ndo as atividades (quadro 5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s de gestão de projetos (quadro 5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ipos de relacionamentos entre atividades (quadro 5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e econômica do desenvolvimento de produtos (quadro 5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e financeira acompanhará todo o ciclo de vida do produto (quadro 5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/>
          <p:nvPr/>
        </p:nvSpPr>
        <p:spPr>
          <a:xfrm>
            <a:off x="38437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116600" y="2146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843720" y="1309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843720" y="2666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3843720" y="3505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3843720" y="4343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4192920" y="29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5680" y="38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65012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6174000" y="4648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5183280" y="1295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843720" y="1766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8" name="" descr=""/>
          <p:cNvPicPr/>
          <p:nvPr/>
        </p:nvPicPr>
        <p:blipFill>
          <a:blip r:embed="rId1"/>
          <a:stretch/>
        </p:blipFill>
        <p:spPr>
          <a:xfrm>
            <a:off x="0" y="925560"/>
            <a:ext cx="9144000" cy="5932440"/>
          </a:xfrm>
          <a:prstGeom prst="rect">
            <a:avLst/>
          </a:prstGeom>
          <a:ln w="0">
            <a:noFill/>
          </a:ln>
        </p:spPr>
      </p:pic>
      <p:sp>
        <p:nvSpPr>
          <p:cNvPr id="1669" name=""/>
          <p:cNvSpPr/>
          <p:nvPr/>
        </p:nvSpPr>
        <p:spPr>
          <a:xfrm>
            <a:off x="0" y="3095640"/>
            <a:ext cx="914400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ipos de relacionamentos entre atividade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0" y="3340080"/>
            <a:ext cx="89661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al-Início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ividade sucessora só poderá ser iniciada quando a atividade predecessora for final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ício-Início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É aquele que acontece quando a sucessora só poderá ser iniciada se a predecessora já estiver também iniciada, mas NÃO necessariamente final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al-Final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a restrição em que as atividades podem começar independentemente, mas a atividade sucessora deve terminar junto com a antecess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teressado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r o model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atividades e s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ar cron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orçament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a viabilidade econômica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4" name=""/>
          <p:cNvGrpSpPr/>
          <p:nvPr/>
        </p:nvGrpSpPr>
        <p:grpSpPr>
          <a:xfrm>
            <a:off x="152280" y="888840"/>
            <a:ext cx="8798760" cy="5929200"/>
            <a:chOff x="152280" y="888840"/>
            <a:chExt cx="8798760" cy="5929200"/>
          </a:xfrm>
        </p:grpSpPr>
        <p:sp>
          <p:nvSpPr>
            <p:cNvPr id="1675" name=""/>
            <p:cNvSpPr/>
            <p:nvPr/>
          </p:nvSpPr>
          <p:spPr>
            <a:xfrm>
              <a:off x="3286800" y="902520"/>
              <a:ext cx="5541840" cy="3993120"/>
            </a:xfrm>
            <a:custGeom>
              <a:avLst/>
              <a:gdLst/>
              <a:ahLst/>
              <a:rect l="l" t="t" r="r" b="b"/>
              <a:pathLst>
                <a:path w="2785" h="2424">
                  <a:moveTo>
                    <a:pt x="0" y="1010"/>
                  </a:moveTo>
                  <a:lnTo>
                    <a:pt x="718" y="0"/>
                  </a:lnTo>
                  <a:lnTo>
                    <a:pt x="2783" y="0"/>
                  </a:lnTo>
                  <a:lnTo>
                    <a:pt x="2785" y="2416"/>
                  </a:lnTo>
                  <a:lnTo>
                    <a:pt x="740" y="2424"/>
                  </a:lnTo>
                  <a:lnTo>
                    <a:pt x="10" y="133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22120" y="2098800"/>
              <a:ext cx="1793520" cy="60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nejamento do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 rot="10800000">
              <a:off x="2039760" y="3145320"/>
              <a:ext cx="833760" cy="1594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 rot="10800000">
              <a:off x="2036520" y="2024280"/>
              <a:ext cx="833400" cy="1594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52280" y="888840"/>
              <a:ext cx="489780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12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claração d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copo do projet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/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2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áfico da Re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2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ções sobre disponibilidade dos recur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799280" y="2451240"/>
              <a:ext cx="1814040" cy="549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cronogr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002200" y="1317960"/>
              <a:ext cx="3293640" cy="549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timar esforço necessário para a ativ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40960" y="3463560"/>
              <a:ext cx="31935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ocação dos Recurs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onograma do Proje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4708800" y="4954680"/>
              <a:ext cx="4242240" cy="1863360"/>
              <a:chOff x="4708800" y="4954680"/>
              <a:chExt cx="4242240" cy="1863360"/>
            </a:xfrm>
          </p:grpSpPr>
          <p:sp>
            <p:nvSpPr>
              <p:cNvPr id="1684" name=""/>
              <p:cNvSpPr/>
              <p:nvPr/>
            </p:nvSpPr>
            <p:spPr>
              <a:xfrm>
                <a:off x="4708800" y="5351760"/>
                <a:ext cx="4242240" cy="1466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119560" y="5729040"/>
                <a:ext cx="3416760" cy="90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ção especializad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ainstorm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ftware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de 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ão de projet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905720" y="4954680"/>
                <a:ext cx="374040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étodos, ferramentas, documentos de apo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397440" y="5163480"/>
              <a:ext cx="4242600" cy="165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38280" y="4690440"/>
              <a:ext cx="3740400" cy="274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ação com outras ativ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84280" y="5360400"/>
              <a:ext cx="3737160" cy="21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interessados do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21520" y="5913360"/>
              <a:ext cx="343764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atividades e praz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"/>
            <p:cNvGrpSpPr/>
            <p:nvPr/>
          </p:nvGrpSpPr>
          <p:grpSpPr>
            <a:xfrm>
              <a:off x="568080" y="6208920"/>
              <a:ext cx="3989520" cy="213480"/>
              <a:chOff x="568080" y="6208920"/>
              <a:chExt cx="3989520" cy="213480"/>
            </a:xfrm>
          </p:grpSpPr>
          <p:sp>
            <p:nvSpPr>
              <p:cNvPr id="1692" name=""/>
              <p:cNvSpPr/>
              <p:nvPr/>
            </p:nvSpPr>
            <p:spPr>
              <a:xfrm>
                <a:off x="568080" y="6208920"/>
                <a:ext cx="3989520" cy="213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eparar estimativa de orça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198440" y="6208920"/>
                <a:ext cx="6559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>
              <a:off x="635040" y="5628600"/>
              <a:ext cx="361944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declaração de esco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46200" y="6499080"/>
              <a:ext cx="379440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ejar e preparar aquisiçõ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002200" y="2392200"/>
              <a:ext cx="3293640" cy="27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ocar recursos necessár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002200" y="3246120"/>
              <a:ext cx="3293640" cy="549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timizar a programação de atividades e recur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002200" y="4323240"/>
              <a:ext cx="3293640" cy="27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imir cronogr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eparar cronogram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s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 estimar esforço e alocar recurs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12320" y="1103040"/>
            <a:ext cx="875196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finição de prazos no projeto depende da definição da quantidade de recursos disponíve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mente os prazos (duração) são deduzidos do esforço total (quantidade de horas para realizar uma tarefa do projeto) dividido pelo número de recursos disponíveis para sua execu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 essas definições de esforços e prazos, os recursos disponíveis na empresa para o projeto podem ser aloca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istemas/softwares de gestão de projetos auxiliam a realização dessas tarefas do planejamento do pro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s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 otimizar a programação de atividades e recusos e gerar cronogram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751960" cy="58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ossibilidades de racionalização das atividades e recursos do projeto podem ser buscadas por meio de técnicas para o desenvolvimento do cronograma do pro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ção por meio de gráficos, como o de rede de atividades, o de Gantt e o Calendá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cnicas de análise de redes, tais como 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al Path Method (CPM), Graphical Evaluation and Review Technique (GERT)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Evaluation and Review Technique (PER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ulação de Monte C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itos também úteis nessas tarefas são: a teoria das restrições, para o estabelecimento de pulmões para o projeto, e a gestão à vista, derivado d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n Pro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teressado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r o model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atividades e s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cron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valiar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orçament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a viabilidade econômica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>
            <a:off x="324000" y="2554560"/>
            <a:ext cx="1392120" cy="472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ejamento do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911320" y="1257480"/>
            <a:ext cx="6054840" cy="3673440"/>
          </a:xfrm>
          <a:custGeom>
            <a:avLst/>
            <a:gdLst/>
            <a:ahLst/>
            <a:rect l="l" t="t" r="r" b="b"/>
            <a:pathLst>
              <a:path w="2785" h="2424">
                <a:moveTo>
                  <a:pt x="0" y="1010"/>
                </a:moveTo>
                <a:lnTo>
                  <a:pt x="718" y="0"/>
                </a:lnTo>
                <a:lnTo>
                  <a:pt x="2783" y="0"/>
                </a:lnTo>
                <a:lnTo>
                  <a:pt x="2785" y="2416"/>
                </a:lnTo>
                <a:lnTo>
                  <a:pt x="740" y="2424"/>
                </a:lnTo>
                <a:lnTo>
                  <a:pt x="10" y="1339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 rot="10800000">
            <a:off x="1779480" y="3389400"/>
            <a:ext cx="866880" cy="147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rot="10800000">
            <a:off x="1778040" y="2389320"/>
            <a:ext cx="866880" cy="147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25560" y="1054080"/>
            <a:ext cx="44845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ação de Escopo E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nograma do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ítica de gestão de ri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álises de risco de projetos anteri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528920" y="2844720"/>
            <a:ext cx="1401480" cy="39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ris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4853160" y="1303200"/>
            <a:ext cx="342576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 avaliação de risc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o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to de 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843440" y="1941480"/>
            <a:ext cx="344664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e caracterizar os riscos potenci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719600" y="2503440"/>
            <a:ext cx="369252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qualitativamente os riscos potenci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4827600" y="3071880"/>
            <a:ext cx="347652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quantitativamente os riscos potenci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721400" y="3673440"/>
            <a:ext cx="368928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ções em resposta aos riscos potenci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-41400" y="3860640"/>
            <a:ext cx="4500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lhorias na Declaração do Escopo do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lhorias no Cronograma do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de Avaliação e Gerência de Ris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4780080" y="5122800"/>
            <a:ext cx="3961800" cy="1557000"/>
            <a:chOff x="4780080" y="5122800"/>
            <a:chExt cx="3961800" cy="1557000"/>
          </a:xfrm>
        </p:grpSpPr>
        <p:sp>
          <p:nvSpPr>
            <p:cNvPr id="1719" name=""/>
            <p:cNvSpPr/>
            <p:nvPr/>
          </p:nvSpPr>
          <p:spPr>
            <a:xfrm>
              <a:off x="4780080" y="5453280"/>
              <a:ext cx="3961800" cy="122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150520" y="5770080"/>
              <a:ext cx="3220200" cy="9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rainstorming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écnica</a:t>
              </a:r>
              <a:r>
                <a:rPr b="0" i="1" lang="pt-BR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Delp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écnica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SWOT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odel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atemáticos para simulações</a:t>
              </a:r>
              <a:r>
                <a:rPr b="0" i="1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964040" y="5122800"/>
              <a:ext cx="349344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2" name=""/>
          <p:cNvSpPr/>
          <p:nvPr/>
        </p:nvSpPr>
        <p:spPr>
          <a:xfrm>
            <a:off x="4721400" y="4313160"/>
            <a:ext cx="368928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o controle e a monitoração de ris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3" name=""/>
          <p:cNvGrpSpPr/>
          <p:nvPr/>
        </p:nvGrpSpPr>
        <p:grpSpPr>
          <a:xfrm>
            <a:off x="297000" y="5122800"/>
            <a:ext cx="3962160" cy="1557000"/>
            <a:chOff x="297000" y="5122800"/>
            <a:chExt cx="3962160" cy="1557000"/>
          </a:xfrm>
        </p:grpSpPr>
        <p:sp>
          <p:nvSpPr>
            <p:cNvPr id="1724" name=""/>
            <p:cNvSpPr/>
            <p:nvPr/>
          </p:nvSpPr>
          <p:spPr>
            <a:xfrm>
              <a:off x="297000" y="5453640"/>
              <a:ext cx="3962160" cy="1226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19840" y="5122800"/>
              <a:ext cx="3493800" cy="274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ação com outras ativ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22160" y="5919480"/>
              <a:ext cx="315432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atividades e praz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7" name=""/>
            <p:cNvGrpSpPr/>
            <p:nvPr/>
          </p:nvGrpSpPr>
          <p:grpSpPr>
            <a:xfrm>
              <a:off x="560160" y="6165000"/>
              <a:ext cx="3491280" cy="214560"/>
              <a:chOff x="560160" y="6165000"/>
              <a:chExt cx="3491280" cy="214560"/>
            </a:xfrm>
          </p:grpSpPr>
          <p:sp>
            <p:nvSpPr>
              <p:cNvPr id="1728" name=""/>
              <p:cNvSpPr/>
              <p:nvPr/>
            </p:nvSpPr>
            <p:spPr>
              <a:xfrm>
                <a:off x="560160" y="6166080"/>
                <a:ext cx="3491280" cy="213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eparar estimativa de orça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112040" y="6165000"/>
                <a:ext cx="5738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0" name=""/>
            <p:cNvSpPr/>
            <p:nvPr/>
          </p:nvSpPr>
          <p:spPr>
            <a:xfrm>
              <a:off x="443160" y="5686560"/>
              <a:ext cx="364824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declaração de esco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60160" y="6420600"/>
              <a:ext cx="354780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ejar e preparar aquisiçõ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1920" y="76320"/>
            <a:ext cx="77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valiar risc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spectos fundamentais da avaliação de risc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751960" cy="58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ntar reduzir a incerteza, eliminar eventos não oportunos e melhorar a quantidade e a qualidade de alternativas de soluções constituem a essência da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avaliação e gestão de riscos do proje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sa avaliação se baseia em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duas dimensões básic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a probabilidade de ocorrência e o efeito potencial do ris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ão de proj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quad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ritório de projetos (quadro 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ção de fornecedores no PDP (quadro 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po do produ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projeto (quadro 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ck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escopo do projeto (quadro 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ção de EDT (WBS) (quadro 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idados para a elaboração da EDT (quadro 5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ância da definição do escopo (quadro 5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58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de p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lanejar a avaliação de risco no projeto de DP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751960" cy="58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guinte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étodos e critérios serão sempre necessári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r planej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imentos e fontes de informação para avaliações dos riscos e de sua gerên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definição e padronização dos critérios de pontuação e interpretação dos tipos de risc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m mapeamento do grau de tolerância aos riscos do projeto, entre os diferentes atores envolvid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 conteúdo e o formato desejáveis para os documentos que serão gerados pelo trabalho de avaliação e gerência de ris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 de i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dentificar e caracterizar os riscos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potenciais ao projeto de DP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81532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egorias de risco mais influentes na indúst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iscos em razão d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xidade da tecnolog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volvida no produto ou em sua forma de produ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iscos em razão d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nabilidade e/ou inexperiênc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em gerenciar projetos de desenvolvimento de produ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iscos em razão da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ossibilidades de mudanç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em legislações e regulamentaçõ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utro conjunto de informações úteis para se determinar a identificação dos riscos em um projeto sã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prendizados de projetos anterior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45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 de a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nalisar qualitativamente os riscos potenciais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112680" y="887040"/>
            <a:ext cx="886608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ções necessárias para executar a taref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plano de gerência de riscos e a identificação dos riscos com seus impactos potenciais no proj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situação do proj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será executado com urgência e/ou se é fundamental para a empresa, de forma que riscos devem ser minimizad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tipo do projet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s ou complexo, e portanto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 risc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nos ou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ais previsíve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respectivam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 premissas que foram utilizadas para a identificação dos riscos, e que devem ser também consideradas para sua avaliação qualitati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45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 de a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nalisar qualitativamente os riscos potenciais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112680" y="887040"/>
            <a:ext cx="886608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m procedi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ais usu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 avaliaçã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é submeter cada risco a uma apreciação em termos de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probabil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 conseqüência (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mpac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ao projeto de sua ocorrên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 análise qualitativa apontará os riscos que merecem análises detalhadas, para os quais deve-se empregar a quantificação e os planos mais cuidadosos de gerência de risco. Esses riscos são aqueles que apresentam, ao mesmo tempo,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Arial Unicode MS"/>
              </a:rPr>
              <a:t>elevada probabilidade e impacto em sua ocorrênc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45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 de a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nalisar qua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nti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tativamente os riscos potenciai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112680" y="887040"/>
            <a:ext cx="886608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ocediment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antificação dos ris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revistas com especialist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o assunto que possam auxiliar a quantificar a probabilidade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e de sensibilidade e/ou análise de árvore de decisão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u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uxilia na determinação dos riscos de maior impacto no proj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 n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deia de decisõ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mulação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mprego de modelos matemáticos que tentem traduzir o projeto completo e as incertezas ao qual será submet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45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 de p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lanejar ações em resposta aos riscos potenciais analisados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112680" y="887040"/>
            <a:ext cx="886608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ês formas básicas de 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ções que eliminem totalmente a fonte do risco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 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ais recomendável e deve ser prioritár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ções que diminuam a probabilidade de ocorrência dos riscos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volve a redução até patamares aceitáveis da probabilidade e/ou impacto de ocorrência do ris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ções que diminuam o impacto dos ris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 maiores riscos deverão ter mais de um tipo diferente de ação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 resultado dessa tarefa será, então, o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Arial Unicode MS"/>
              </a:rPr>
              <a:t>plano de resposta aos risc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teressado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r o model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atividades e s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cron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ar orçament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a viabilidade econômica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3382920" y="903240"/>
            <a:ext cx="5145120" cy="3888000"/>
          </a:xfrm>
          <a:custGeom>
            <a:avLst/>
            <a:gdLst/>
            <a:ahLst/>
            <a:rect l="l" t="t" r="r" b="b"/>
            <a:pathLst>
              <a:path w="2785" h="2424">
                <a:moveTo>
                  <a:pt x="0" y="1010"/>
                </a:moveTo>
                <a:lnTo>
                  <a:pt x="718" y="0"/>
                </a:lnTo>
                <a:lnTo>
                  <a:pt x="2783" y="0"/>
                </a:lnTo>
                <a:lnTo>
                  <a:pt x="2785" y="2416"/>
                </a:lnTo>
                <a:lnTo>
                  <a:pt x="740" y="2424"/>
                </a:lnTo>
                <a:lnTo>
                  <a:pt x="10" y="1339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26880" y="2127240"/>
            <a:ext cx="1654200" cy="472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ejamento do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03040" y="958680"/>
            <a:ext cx="443412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ação do Escopo E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nograma d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vas de custos para os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rot="10800000">
            <a:off x="2136600" y="3278160"/>
            <a:ext cx="773280" cy="155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rot="10800000">
            <a:off x="2135160" y="1995480"/>
            <a:ext cx="773280" cy="155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893960" y="2411280"/>
            <a:ext cx="1685880" cy="63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imativa de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or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4997520" y="1814400"/>
            <a:ext cx="3063960" cy="63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visões dos custos relacionados às atividades 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os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cursos planejados para o 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081760" y="3124080"/>
            <a:ext cx="301140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locação orçamentária dos custos estim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485640" y="3659040"/>
            <a:ext cx="401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çamento d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no de gerenciamento dos cus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8" name=""/>
          <p:cNvGrpSpPr/>
          <p:nvPr/>
        </p:nvGrpSpPr>
        <p:grpSpPr>
          <a:xfrm>
            <a:off x="4805280" y="4848120"/>
            <a:ext cx="3938400" cy="1814400"/>
            <a:chOff x="4805280" y="4848120"/>
            <a:chExt cx="3938400" cy="1814400"/>
          </a:xfrm>
        </p:grpSpPr>
        <p:sp>
          <p:nvSpPr>
            <p:cNvPr id="1759" name=""/>
            <p:cNvSpPr/>
            <p:nvPr/>
          </p:nvSpPr>
          <p:spPr>
            <a:xfrm>
              <a:off x="4805280" y="5234760"/>
              <a:ext cx="3938400" cy="1427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065200" y="5603760"/>
              <a:ext cx="34167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elos paramétr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i="1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twares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g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ão de proje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88160" y="4848120"/>
              <a:ext cx="347256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"/>
          <p:cNvSpPr/>
          <p:nvPr/>
        </p:nvSpPr>
        <p:spPr>
          <a:xfrm>
            <a:off x="495360" y="5235480"/>
            <a:ext cx="3940200" cy="142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735120" y="4848120"/>
            <a:ext cx="3473280" cy="274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ção com outras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1003320" y="5962680"/>
            <a:ext cx="313848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Ris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1035000" y="5318280"/>
            <a:ext cx="308124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atividades 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quê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1003320" y="5638680"/>
            <a:ext cx="313848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cronog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eparar orçament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015920" y="6280200"/>
            <a:ext cx="313848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a viabilidade econô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50400" y="2556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de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revisões dos custos relacionados às atividades e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aos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recursos planejados para o DP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751960" cy="58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ara estimar esses custos, são necessárias algumas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informaç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e outras partes do planejamento do pro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s necessidades de recursos definidos e planej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stimativas de custos-padrão para uso dos recurs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as estimativas de tempo de duração de cada ativid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a memória de cust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e projetos anteri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o sistema contábil da empre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as avaliações de ris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ssas informações são processadas para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estimativa dos cus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por meio de um ou mais dos seguinte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procedimen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iva por analogia ou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s paramétric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iva de baixo para cim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tton-u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oftwa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ou sistemas computadorizados de gerência de projetos e planilh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50400" y="2556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Tarefa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de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locação orçamentária dos custos estimados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751960" cy="58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 custos estimados para as atividades do projeto precisam ser agrupados em um orçamento a ser submetido para aprova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s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Arial Unicode MS"/>
              </a:rPr>
              <a:t>orça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das atividades de execução do projeto,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ce uma </a:t>
            </a:r>
            <a:r>
              <a:rPr b="0" i="1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base line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de cus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, ou seja, o referencial que deve ser utilizado para o acompanhamento da evolução dos custos do projeto, quando de sua execução efetiva no desenvolvimento do produ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7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s comuns na preparação da declaração do escopo do projeto (quadro 5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atividades (quadro 5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ndo as atividades (quadro 5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s de gestão de projetos (quadro 5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relacionamentos entre atividades (quadro 5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e econômica do desenvolvimento de produtos (quadro 5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e financeira acompanhará todo o ciclo de vida do produto (quadro 5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teressado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lhar 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r o model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atividades e s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cron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orçament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alisar a viabilidade econômica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5" name=""/>
          <p:cNvGrpSpPr/>
          <p:nvPr/>
        </p:nvGrpSpPr>
        <p:grpSpPr>
          <a:xfrm>
            <a:off x="711360" y="866880"/>
            <a:ext cx="7633440" cy="5838840"/>
            <a:chOff x="711360" y="866880"/>
            <a:chExt cx="7633440" cy="5838840"/>
          </a:xfrm>
        </p:grpSpPr>
        <p:sp>
          <p:nvSpPr>
            <p:cNvPr id="1776" name=""/>
            <p:cNvSpPr/>
            <p:nvPr/>
          </p:nvSpPr>
          <p:spPr>
            <a:xfrm>
              <a:off x="3388680" y="1004760"/>
              <a:ext cx="4848480" cy="3848400"/>
            </a:xfrm>
            <a:custGeom>
              <a:avLst/>
              <a:gdLst/>
              <a:ahLst/>
              <a:rect l="l" t="t" r="r" b="b"/>
              <a:pathLst>
                <a:path w="2785" h="2424">
                  <a:moveTo>
                    <a:pt x="0" y="1010"/>
                  </a:moveTo>
                  <a:lnTo>
                    <a:pt x="718" y="0"/>
                  </a:lnTo>
                  <a:lnTo>
                    <a:pt x="2783" y="0"/>
                  </a:lnTo>
                  <a:lnTo>
                    <a:pt x="2785" y="2416"/>
                  </a:lnTo>
                  <a:lnTo>
                    <a:pt x="740" y="2424"/>
                  </a:lnTo>
                  <a:lnTo>
                    <a:pt x="10" y="133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11360" y="2214720"/>
              <a:ext cx="1561320" cy="472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ejamento do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 rot="10800000">
              <a:off x="2297160" y="3355920"/>
              <a:ext cx="72936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 rot="10800000">
              <a:off x="2295360" y="2085840"/>
              <a:ext cx="72900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60760" y="866880"/>
              <a:ext cx="367884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nvolvimento dos orçamento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ra a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xecução do proje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no de gerenciamento dos custos d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86200" y="2497320"/>
              <a:ext cx="1587600" cy="63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a viabilidade econôm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767480" y="1596960"/>
              <a:ext cx="288324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custo-al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884480" y="2270160"/>
              <a:ext cx="264924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erificar manufaturabilidade do custo-al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465880" y="3129120"/>
              <a:ext cx="148824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volume de ven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767480" y="3887640"/>
              <a:ext cx="283788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lizar avaliação econôm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256040" y="3610080"/>
              <a:ext cx="308844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fini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ção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s principais indicadores financeiros do projeto relacionados com o produto final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7" name=""/>
            <p:cNvGrpSpPr/>
            <p:nvPr/>
          </p:nvGrpSpPr>
          <p:grpSpPr>
            <a:xfrm>
              <a:off x="4633560" y="4910040"/>
              <a:ext cx="3711240" cy="1795680"/>
              <a:chOff x="4633560" y="4910040"/>
              <a:chExt cx="3711240" cy="1795680"/>
            </a:xfrm>
          </p:grpSpPr>
          <p:sp>
            <p:nvSpPr>
              <p:cNvPr id="1788" name=""/>
              <p:cNvSpPr/>
              <p:nvPr/>
            </p:nvSpPr>
            <p:spPr>
              <a:xfrm>
                <a:off x="4633560" y="5292720"/>
                <a:ext cx="3711240" cy="141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085720" y="5657760"/>
                <a:ext cx="280728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écnicas e procediment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 análise financeir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806000" y="4910040"/>
                <a:ext cx="327240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étodos, ferramentas, documentos de apo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1" name=""/>
            <p:cNvSpPr/>
            <p:nvPr/>
          </p:nvSpPr>
          <p:spPr>
            <a:xfrm>
              <a:off x="860760" y="5292720"/>
              <a:ext cx="3711600" cy="141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071360" y="4910040"/>
              <a:ext cx="3273120" cy="274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ação com outras ativ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3" name=""/>
            <p:cNvGrpSpPr/>
            <p:nvPr/>
          </p:nvGrpSpPr>
          <p:grpSpPr>
            <a:xfrm>
              <a:off x="1256040" y="5807160"/>
              <a:ext cx="3066840" cy="549000"/>
              <a:chOff x="1256040" y="5807160"/>
              <a:chExt cx="3066840" cy="549000"/>
            </a:xfrm>
          </p:grpSpPr>
          <p:sp>
            <p:nvSpPr>
              <p:cNvPr id="1794" name=""/>
              <p:cNvSpPr/>
              <p:nvPr/>
            </p:nvSpPr>
            <p:spPr>
              <a:xfrm>
                <a:off x="1256040" y="5807160"/>
                <a:ext cx="3066840" cy="549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eparar estimativa de orçamen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740600" y="5807160"/>
                <a:ext cx="50400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nalisar a viabilidade econômica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7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s comuns na preparação da declaração do escopo do projeto (quadro 5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atividades (quadro 5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ndo as atividades (quadro 5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s de gestão de projetos (quadro 5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relacionamentos entre atividades (quadro 5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álise econômica do desenvolvimento de produtos (quadro 5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e financeira acompanhará todo o ciclo de vida do produto (quadro 5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/>
          </p:nvPr>
        </p:nvSpPr>
        <p:spPr>
          <a:xfrm>
            <a:off x="112320" y="887040"/>
            <a:ext cx="877716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análise da viabilidade econômico-financeira significa estimar e analisar as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perspectivas de desempenho financeiro do produ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sultante do pro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primeiro passo para a realização da análise econômica é a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Arial"/>
              </a:rPr>
              <a:t>montagem do fluxo de caix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, isto é, a definição do fluxo de entrada e saída de dinheiro durante o ciclo de vida planejado para o produto. Os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Arial"/>
              </a:rPr>
              <a:t>três componentes principa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um fluxo de caixa s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mentos no novo produ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cei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stos e despesas de produ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8706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nálise econômica do desenvolvimento de produtos 1/3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"/>
          <p:cNvSpPr/>
          <p:nvPr/>
        </p:nvSpPr>
        <p:spPr>
          <a:xfrm>
            <a:off x="291960" y="1616040"/>
            <a:ext cx="3124440" cy="43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520" rIns="65520" tIns="34200" bIns="34200" anchor="ctr">
            <a:spAutoFit/>
          </a:bodyPr>
          <a:p>
            <a:pPr algn="ctr"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stimen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009960" y="1006560"/>
            <a:ext cx="3124080" cy="43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520" rIns="65520" tIns="34200" bIns="34200" anchor="ctr">
            <a:spAutoFit/>
          </a:bodyPr>
          <a:p>
            <a:pPr algn="ctr"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ta 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3" name="" descr=""/>
          <p:cNvPicPr/>
          <p:nvPr/>
        </p:nvPicPr>
        <p:blipFill>
          <a:blip r:embed="rId1"/>
          <a:stretch/>
        </p:blipFill>
        <p:spPr>
          <a:xfrm>
            <a:off x="343080" y="2349360"/>
            <a:ext cx="8458200" cy="4343400"/>
          </a:xfrm>
          <a:prstGeom prst="rect">
            <a:avLst/>
          </a:prstGeom>
          <a:ln w="0">
            <a:noFill/>
          </a:ln>
        </p:spPr>
      </p:pic>
      <p:cxnSp>
        <p:nvCxnSpPr>
          <p:cNvPr id="1804" name=""/>
          <p:cNvCxnSpPr>
            <a:stCxn id="1801" idx="3"/>
            <a:endCxn id="1803" idx="0"/>
          </p:cNvCxnSpPr>
          <p:nvPr/>
        </p:nvCxnSpPr>
        <p:spPr>
          <a:xfrm>
            <a:off x="3416400" y="1833120"/>
            <a:ext cx="1156320" cy="5166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5" name=""/>
          <p:cNvCxnSpPr>
            <a:stCxn id="1806" idx="1"/>
            <a:endCxn id="1803" idx="0"/>
          </p:cNvCxnSpPr>
          <p:nvPr/>
        </p:nvCxnSpPr>
        <p:spPr>
          <a:xfrm flipV="1" rot="10800000">
            <a:off x="4571280" y="1832400"/>
            <a:ext cx="749880" cy="5166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6" name=""/>
          <p:cNvSpPr/>
          <p:nvPr/>
        </p:nvSpPr>
        <p:spPr>
          <a:xfrm>
            <a:off x="5321160" y="1616040"/>
            <a:ext cx="3657600" cy="43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520" rIns="65520" tIns="34200" bIns="34200" anchor="ctr">
            <a:spAutoFit/>
          </a:bodyPr>
          <a:p>
            <a:pPr algn="ctr"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dos Produ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7" name=""/>
          <p:cNvCxnSpPr>
            <a:stCxn id="1802" idx="2"/>
            <a:endCxn id="1803" idx="0"/>
          </p:cNvCxnSpPr>
          <p:nvPr/>
        </p:nvCxnSpPr>
        <p:spPr>
          <a:xfrm>
            <a:off x="4571640" y="1444320"/>
            <a:ext cx="1080" cy="90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9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nálise econômica do desenvolvimento de produtos 2/3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09" name=""/>
          <p:cNvCxnSpPr/>
          <p:nvPr/>
        </p:nvCxnSpPr>
        <p:spPr>
          <a:xfrm flipH="1" rot="16200000">
            <a:off x="6278400" y="1293480"/>
            <a:ext cx="2160" cy="2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0">
            <a:noFill/>
          </a:ln>
        </p:spPr>
      </p:cxn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706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nálise econômica do desenvolvimento de produtos 3/3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07960" y="1320840"/>
            <a:ext cx="772164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lizam-se índices financeiros e parâmetros calculados com os dados do fluxo de caixa  que permitem comparações e análises do desempenho financeiro do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eguir são apresentados três dos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indicadores financeir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ais utilizados em projetos de desenvolvimento de produ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Presente Líqui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V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xa Interna de Retor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T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étodo do período de retorno do invest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yback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Valor Presente Líquido (VPL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65240" y="1155600"/>
            <a:ext cx="8889840" cy="4775400"/>
          </a:xfrm>
          <a:prstGeom prst="rect">
            <a:avLst/>
          </a:prstGeom>
          <a:solidFill>
            <a:srgbClr val="006666"/>
          </a:soli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Es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t</a:t>
            </a: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e método consiste em calcular o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c</a:t>
            </a: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orrespondente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de cada uma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 das entradas e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 saí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do fluxo de caixa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para o primeiro período de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Depois, todos esses valores são somados, obtendo-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um valor no período inicial do fluxo de caix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resultante de todas as entradas e saí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Se esse valor for maior que zer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significa que o projeto será positivo para a 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Um exemplo de cálculo do VPL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 projeto cujos benefícios, receita (R) menos custos e despesas (C),  é uniforme e vale R$ 2.000,00. O investimento foi de R$ 8.200,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259092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7" name="" descr=""/>
          <p:cNvPicPr/>
          <p:nvPr/>
        </p:nvPicPr>
        <p:blipFill>
          <a:blip r:embed="rId1"/>
          <a:stretch/>
        </p:blipFill>
        <p:spPr>
          <a:xfrm>
            <a:off x="1071720" y="2176560"/>
            <a:ext cx="68958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xa Interna de Retorno (TIR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80880" y="927000"/>
            <a:ext cx="8543880" cy="1981440"/>
          </a:xfrm>
          <a:prstGeom prst="rect">
            <a:avLst/>
          </a:prstGeom>
          <a:solidFill>
            <a:srgbClr val="006666"/>
          </a:soli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Nes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t</a:t>
            </a: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e método, calcula-se a taxa que,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apl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no fluxo de caixa, gerará um 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VPL</a:t>
            </a: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 igual a zer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isto é, na qual todas as receitas irão se igualar a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custos e despesas de produção e investime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04920" y="3072600"/>
            <a:ext cx="85341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Um investimento de R$8.200,00 rendeu R$2.000,00 por ano, ao longo de uma vida útil de cinco anos. Qual foi a taxa interna de retorno do investiment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resultado é uma TIR de 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3124080" y="838080"/>
            <a:ext cx="5943600" cy="3733920"/>
          </a:xfrm>
          <a:custGeom>
            <a:avLst/>
            <a:gdLst/>
            <a:ahLst/>
            <a:rect l="l" t="t" r="r" b="b"/>
            <a:pathLst>
              <a:path w="3744" h="2352">
                <a:moveTo>
                  <a:pt x="1200" y="0"/>
                </a:moveTo>
                <a:lnTo>
                  <a:pt x="3648" y="336"/>
                </a:lnTo>
                <a:lnTo>
                  <a:pt x="3744" y="1440"/>
                </a:lnTo>
                <a:lnTo>
                  <a:pt x="2544" y="1728"/>
                </a:lnTo>
                <a:lnTo>
                  <a:pt x="96" y="2352"/>
                </a:lnTo>
                <a:lnTo>
                  <a:pt x="0" y="2016"/>
                </a:lnTo>
                <a:lnTo>
                  <a:pt x="528" y="1872"/>
                </a:lnTo>
                <a:lnTo>
                  <a:pt x="1200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Um exemplo de cálculo da TIR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823" name=""/>
          <p:cNvGrpSpPr/>
          <p:nvPr/>
        </p:nvGrpSpPr>
        <p:grpSpPr>
          <a:xfrm>
            <a:off x="304920" y="837360"/>
            <a:ext cx="4320360" cy="2333880"/>
            <a:chOff x="304920" y="837360"/>
            <a:chExt cx="4320360" cy="2333880"/>
          </a:xfrm>
        </p:grpSpPr>
        <p:sp>
          <p:nvSpPr>
            <p:cNvPr id="1824" name=""/>
            <p:cNvSpPr/>
            <p:nvPr/>
          </p:nvSpPr>
          <p:spPr>
            <a:xfrm>
              <a:off x="1220760" y="1992240"/>
              <a:ext cx="0" cy="7952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2746440" y="1527120"/>
              <a:ext cx="0" cy="442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V="1">
              <a:off x="3182760" y="1527120"/>
              <a:ext cx="0" cy="442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1438200" y="1527120"/>
              <a:ext cx="0" cy="442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1874880" y="1527120"/>
              <a:ext cx="0" cy="442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2311560" y="1527120"/>
              <a:ext cx="0" cy="442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04920" y="1992240"/>
              <a:ext cx="36194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990720" y="83736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=2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734280" y="17820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304920" y="1018800"/>
              <a:ext cx="0" cy="973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87240" y="258984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2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5194440" y="1219320"/>
                <a:ext cx="3949560" cy="25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2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2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6" name=""/>
          <p:cNvSpPr/>
          <p:nvPr/>
        </p:nvSpPr>
        <p:spPr>
          <a:xfrm>
            <a:off x="609480" y="3352680"/>
            <a:ext cx="1371600" cy="609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981080" y="3352680"/>
            <a:ext cx="1447920" cy="609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Vp (R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3962520"/>
            <a:ext cx="1371600" cy="6094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981080" y="3962520"/>
            <a:ext cx="1447920" cy="6094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152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609480" y="4572000"/>
            <a:ext cx="1371600" cy="609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981080" y="4572000"/>
            <a:ext cx="1447920" cy="609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58,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09480" y="5181480"/>
            <a:ext cx="1371600" cy="6098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981080" y="5181480"/>
            <a:ext cx="1447920" cy="6098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609480" y="5791320"/>
            <a:ext cx="1371600" cy="609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981080" y="5791320"/>
            <a:ext cx="1447920" cy="609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8,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6" name=""/>
          <p:cNvGraphicFramePr/>
          <p:nvPr/>
        </p:nvGraphicFramePr>
        <p:xfrm>
          <a:off x="4465800" y="4000680"/>
          <a:ext cx="4678200" cy="285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5800" y="4000680"/>
                    <a:ext cx="46782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8" name=""/>
          <p:cNvSpPr/>
          <p:nvPr/>
        </p:nvSpPr>
        <p:spPr>
          <a:xfrm>
            <a:off x="3657600" y="4876920"/>
            <a:ext cx="990720" cy="838080"/>
          </a:xfrm>
          <a:prstGeom prst="rightArrow">
            <a:avLst>
              <a:gd name="adj1" fmla="val 43935"/>
              <a:gd name="adj2" fmla="val 6249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4832280" y="398700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8377560" y="4647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Localização do planejamento do projeto no processo de desenvolvimento de produtos unificad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39760" y="971640"/>
            <a:ext cx="8664480" cy="5852520"/>
            <a:chOff x="239760" y="971640"/>
            <a:chExt cx="8664480" cy="5852520"/>
          </a:xfrm>
        </p:grpSpPr>
        <p:sp>
          <p:nvSpPr>
            <p:cNvPr id="269" name=""/>
            <p:cNvSpPr/>
            <p:nvPr/>
          </p:nvSpPr>
          <p:spPr>
            <a:xfrm>
              <a:off x="6450120" y="971640"/>
              <a:ext cx="2454120" cy="339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50120" y="4324320"/>
              <a:ext cx="2454120" cy="2095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envolvimento e Pós-Desenvolv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11960" y="5186160"/>
              <a:ext cx="938160" cy="86328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Planej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mento do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44720" y="971640"/>
              <a:ext cx="1487520" cy="33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93720" y="971640"/>
              <a:ext cx="1319400" cy="3371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0">
              <a:off x="239760" y="971640"/>
              <a:ext cx="1371600" cy="3371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epresentação Gráf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11960" y="971640"/>
              <a:ext cx="938160" cy="339228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0960" y="971640"/>
              <a:ext cx="1251000" cy="337176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057560" y="1058760"/>
              <a:ext cx="4813920" cy="678960"/>
              <a:chOff x="4057560" y="1058760"/>
              <a:chExt cx="4813920" cy="67896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5718960" y="1110600"/>
                <a:ext cx="3152520" cy="600480"/>
                <a:chOff x="5718960" y="1110600"/>
                <a:chExt cx="3152520" cy="60048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6281640" y="1110600"/>
                  <a:ext cx="473400" cy="354240"/>
                  <a:chOff x="6281640" y="1110600"/>
                  <a:chExt cx="473400" cy="3542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6300000" y="1126440"/>
                    <a:ext cx="4550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281640" y="1110600"/>
                    <a:ext cx="47340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201"/>
                        </a:lnTo>
                        <a:lnTo>
                          <a:pt x="9" y="201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281640" y="1110600"/>
                    <a:ext cx="47340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201"/>
                        </a:lnTo>
                        <a:lnTo>
                          <a:pt x="9" y="201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6410520" y="1202760"/>
                  <a:ext cx="380880" cy="13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465960" y="1218240"/>
                  <a:ext cx="11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ac"/>
                      </a:solidFill>
                      <a:latin typeface="Arial Narrow"/>
                    </a:rPr>
                    <a:t>3.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5" name=""/>
                <p:cNvGrpSpPr/>
                <p:nvPr/>
              </p:nvGrpSpPr>
              <p:grpSpPr>
                <a:xfrm>
                  <a:off x="7139520" y="1110600"/>
                  <a:ext cx="473400" cy="354240"/>
                  <a:chOff x="7139520" y="1110600"/>
                  <a:chExt cx="473400" cy="3542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7139520" y="1126440"/>
                    <a:ext cx="4734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83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7139520" y="1110600"/>
                    <a:ext cx="45468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1">
                        <a:moveTo>
                          <a:pt x="0" y="0"/>
                        </a:moveTo>
                        <a:lnTo>
                          <a:pt x="175" y="0"/>
                        </a:lnTo>
                        <a:lnTo>
                          <a:pt x="218" y="105"/>
                        </a:lnTo>
                        <a:lnTo>
                          <a:pt x="183" y="201"/>
                        </a:lnTo>
                        <a:lnTo>
                          <a:pt x="0" y="201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7139520" y="1110600"/>
                    <a:ext cx="45468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1">
                        <a:moveTo>
                          <a:pt x="0" y="0"/>
                        </a:moveTo>
                        <a:lnTo>
                          <a:pt x="175" y="0"/>
                        </a:lnTo>
                        <a:lnTo>
                          <a:pt x="218" y="105"/>
                        </a:lnTo>
                        <a:lnTo>
                          <a:pt x="183" y="201"/>
                        </a:lnTo>
                        <a:lnTo>
                          <a:pt x="0" y="201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>
                  <a:off x="7120440" y="1202760"/>
                  <a:ext cx="473760" cy="13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318800" y="1218240"/>
                  <a:ext cx="11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ac"/>
                      </a:solidFill>
                      <a:latin typeface="Arial Narrow"/>
                    </a:rPr>
                    <a:t>3.4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7559640" y="1110600"/>
                  <a:ext cx="473400" cy="354240"/>
                  <a:chOff x="7559640" y="1110600"/>
                  <a:chExt cx="473400" cy="35424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7576200" y="1126440"/>
                    <a:ext cx="4568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75" y="0"/>
                        </a:lnTo>
                        <a:lnTo>
                          <a:pt x="219" y="105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559640" y="1110600"/>
                    <a:ext cx="45468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201"/>
                        </a:lnTo>
                        <a:lnTo>
                          <a:pt x="0" y="201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7559640" y="1110600"/>
                    <a:ext cx="45468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201"/>
                        </a:lnTo>
                        <a:lnTo>
                          <a:pt x="0" y="201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7540200" y="1202760"/>
                  <a:ext cx="473760" cy="13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740000" y="1218240"/>
                  <a:ext cx="11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ac"/>
                      </a:solidFill>
                      <a:latin typeface="Arial Narrow"/>
                    </a:rPr>
                    <a:t>3.5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8104320" y="1110600"/>
                  <a:ext cx="474840" cy="354240"/>
                  <a:chOff x="8104320" y="1110600"/>
                  <a:chExt cx="474840" cy="3542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8104320" y="1126440"/>
                    <a:ext cx="4748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8104320" y="1110600"/>
                    <a:ext cx="45576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1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8" y="105"/>
                        </a:lnTo>
                        <a:lnTo>
                          <a:pt x="184" y="201"/>
                        </a:lnTo>
                        <a:lnTo>
                          <a:pt x="0" y="201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8104320" y="1110600"/>
                    <a:ext cx="45576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1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8" y="105"/>
                        </a:lnTo>
                        <a:lnTo>
                          <a:pt x="184" y="201"/>
                        </a:lnTo>
                        <a:lnTo>
                          <a:pt x="0" y="201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1" name=""/>
                <p:cNvSpPr/>
                <p:nvPr/>
              </p:nvSpPr>
              <p:spPr>
                <a:xfrm>
                  <a:off x="8123760" y="1202760"/>
                  <a:ext cx="380880" cy="13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268120" y="1218240"/>
                  <a:ext cx="11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ac"/>
                      </a:solidFill>
                      <a:latin typeface="Arial Narrow"/>
                    </a:rPr>
                    <a:t>3.6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6702840" y="1110600"/>
                  <a:ext cx="473400" cy="354240"/>
                  <a:chOff x="6702840" y="1110600"/>
                  <a:chExt cx="473400" cy="35424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6721560" y="1126440"/>
                    <a:ext cx="45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6702840" y="1110600"/>
                    <a:ext cx="47340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201"/>
                        </a:lnTo>
                        <a:lnTo>
                          <a:pt x="9" y="201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6702840" y="1110600"/>
                    <a:ext cx="47340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201"/>
                        </a:lnTo>
                        <a:lnTo>
                          <a:pt x="9" y="201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7" name=""/>
                <p:cNvSpPr/>
                <p:nvPr/>
              </p:nvSpPr>
              <p:spPr>
                <a:xfrm>
                  <a:off x="6702840" y="1202760"/>
                  <a:ext cx="455760" cy="13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883560" y="1218240"/>
                  <a:ext cx="11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ac"/>
                      </a:solidFill>
                      <a:latin typeface="Arial Narrow"/>
                    </a:rPr>
                    <a:t>3.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6428520" y="1232280"/>
                  <a:ext cx="473400" cy="354600"/>
                  <a:chOff x="6428520" y="1232280"/>
                  <a:chExt cx="473400" cy="3546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447240" y="1247760"/>
                    <a:ext cx="45468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428520" y="1232280"/>
                    <a:ext cx="473400" cy="35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201"/>
                        </a:lnTo>
                        <a:lnTo>
                          <a:pt x="9" y="201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428520" y="1232280"/>
                    <a:ext cx="473400" cy="35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201"/>
                        </a:lnTo>
                        <a:lnTo>
                          <a:pt x="9" y="201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6538320" y="1324800"/>
                  <a:ext cx="400320" cy="14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09240" y="1343160"/>
                  <a:ext cx="11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ac"/>
                      </a:solidFill>
                      <a:latin typeface="Arial Narrow"/>
                    </a:rPr>
                    <a:t>3.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7265880" y="1232280"/>
                  <a:ext cx="474840" cy="354600"/>
                  <a:chOff x="7265880" y="1232280"/>
                  <a:chExt cx="474840" cy="3546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7284240" y="1247760"/>
                    <a:ext cx="45648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7265880" y="1232280"/>
                    <a:ext cx="474840" cy="35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201"/>
                        </a:lnTo>
                        <a:lnTo>
                          <a:pt x="9" y="201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7265880" y="1232280"/>
                    <a:ext cx="474840" cy="35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201"/>
                        </a:lnTo>
                        <a:lnTo>
                          <a:pt x="9" y="201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"/>
                <p:cNvSpPr/>
                <p:nvPr/>
              </p:nvSpPr>
              <p:spPr>
                <a:xfrm>
                  <a:off x="7265880" y="1324800"/>
                  <a:ext cx="475200" cy="14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64600" y="1343160"/>
                  <a:ext cx="11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ac"/>
                      </a:solidFill>
                      <a:latin typeface="Arial Narrow"/>
                    </a:rPr>
                    <a:t>3.4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7706160" y="1232280"/>
                  <a:ext cx="472320" cy="354600"/>
                  <a:chOff x="7706160" y="1232280"/>
                  <a:chExt cx="472320" cy="354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7706160" y="1247760"/>
                    <a:ext cx="47232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6" y="96"/>
                        </a:lnTo>
                        <a:lnTo>
                          <a:pt x="191" y="192"/>
                        </a:lnTo>
                        <a:lnTo>
                          <a:pt x="8" y="192"/>
                        </a:lnTo>
                        <a:lnTo>
                          <a:pt x="43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7706160" y="1232280"/>
                    <a:ext cx="455760" cy="35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201"/>
                        </a:lnTo>
                        <a:lnTo>
                          <a:pt x="0" y="201"/>
                        </a:lnTo>
                        <a:lnTo>
                          <a:pt x="3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7706160" y="1232280"/>
                    <a:ext cx="455760" cy="35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201"/>
                        </a:lnTo>
                        <a:lnTo>
                          <a:pt x="0" y="201"/>
                        </a:lnTo>
                        <a:lnTo>
                          <a:pt x="34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5" name=""/>
                <p:cNvSpPr/>
                <p:nvPr/>
              </p:nvSpPr>
              <p:spPr>
                <a:xfrm>
                  <a:off x="7686000" y="1324800"/>
                  <a:ext cx="475200" cy="14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890840" y="1343160"/>
                  <a:ext cx="11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ac"/>
                      </a:solidFill>
                      <a:latin typeface="Arial Narrow"/>
                    </a:rPr>
                    <a:t>3.5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7" name=""/>
                <p:cNvGrpSpPr/>
                <p:nvPr/>
              </p:nvGrpSpPr>
              <p:grpSpPr>
                <a:xfrm>
                  <a:off x="8251200" y="1232280"/>
                  <a:ext cx="473400" cy="354600"/>
                  <a:chOff x="8251200" y="1232280"/>
                  <a:chExt cx="473400" cy="35460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8251200" y="1247760"/>
                    <a:ext cx="47340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8251200" y="1232280"/>
                    <a:ext cx="454680" cy="35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201"/>
                        </a:lnTo>
                        <a:lnTo>
                          <a:pt x="0" y="201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251200" y="1232280"/>
                    <a:ext cx="454680" cy="35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1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201"/>
                        </a:lnTo>
                        <a:lnTo>
                          <a:pt x="0" y="201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8270640" y="1324800"/>
                  <a:ext cx="380880" cy="14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415000" y="1343160"/>
                  <a:ext cx="11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ac"/>
                      </a:solidFill>
                      <a:latin typeface="Arial Narrow"/>
                    </a:rPr>
                    <a:t>3.6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6848280" y="1232280"/>
                  <a:ext cx="472320" cy="354600"/>
                  <a:chOff x="6848280" y="1232280"/>
                  <a:chExt cx="472320" cy="35460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6864840" y="1247760"/>
                    <a:ext cx="45576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848280" y="1232280"/>
                    <a:ext cx="47232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6" y="105"/>
                        </a:lnTo>
                        <a:lnTo>
                          <a:pt x="191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848280" y="1232280"/>
                    <a:ext cx="47232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6" y="105"/>
                        </a:lnTo>
                        <a:lnTo>
                          <a:pt x="191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7" name=""/>
                <p:cNvSpPr/>
                <p:nvPr/>
              </p:nvSpPr>
              <p:spPr>
                <a:xfrm>
                  <a:off x="6848280" y="1324800"/>
                  <a:ext cx="457200" cy="14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025760" y="1343160"/>
                  <a:ext cx="11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ac"/>
                      </a:solidFill>
                      <a:latin typeface="Arial Narrow"/>
                    </a:rPr>
                    <a:t>3.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6573960" y="1356480"/>
                  <a:ext cx="474840" cy="354600"/>
                  <a:chOff x="6573960" y="1356480"/>
                  <a:chExt cx="474840" cy="3546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6590520" y="1372320"/>
                    <a:ext cx="45828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573960" y="1356480"/>
                    <a:ext cx="45576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573960" y="1356480"/>
                    <a:ext cx="45576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3" name=""/>
                <p:cNvSpPr/>
                <p:nvPr/>
              </p:nvSpPr>
              <p:spPr>
                <a:xfrm>
                  <a:off x="6683760" y="1449000"/>
                  <a:ext cx="383760" cy="13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4" name=""/>
                <p:cNvGrpSpPr/>
                <p:nvPr/>
              </p:nvGrpSpPr>
              <p:grpSpPr>
                <a:xfrm>
                  <a:off x="7412760" y="1356480"/>
                  <a:ext cx="474840" cy="354600"/>
                  <a:chOff x="7412760" y="1356480"/>
                  <a:chExt cx="474840" cy="35460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7431480" y="1372320"/>
                    <a:ext cx="45576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7412760" y="1356480"/>
                    <a:ext cx="47484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7412760" y="1356480"/>
                    <a:ext cx="47484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8" name=""/>
                <p:cNvSpPr/>
                <p:nvPr/>
              </p:nvSpPr>
              <p:spPr>
                <a:xfrm>
                  <a:off x="7412760" y="1449000"/>
                  <a:ext cx="475200" cy="13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9" name=""/>
                <p:cNvGrpSpPr/>
                <p:nvPr/>
              </p:nvGrpSpPr>
              <p:grpSpPr>
                <a:xfrm>
                  <a:off x="7850520" y="1356480"/>
                  <a:ext cx="472320" cy="354600"/>
                  <a:chOff x="7850520" y="1356480"/>
                  <a:chExt cx="472320" cy="35460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7850520" y="1372320"/>
                    <a:ext cx="47232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7850520" y="1356480"/>
                    <a:ext cx="45360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850520" y="1356480"/>
                    <a:ext cx="45360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>
                  <a:off x="7832880" y="1449000"/>
                  <a:ext cx="472320" cy="13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8377560" y="1356480"/>
                  <a:ext cx="493920" cy="354600"/>
                  <a:chOff x="8377560" y="1356480"/>
                  <a:chExt cx="493920" cy="35460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8395920" y="1372320"/>
                    <a:ext cx="47556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77560" y="1356480"/>
                    <a:ext cx="47556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377560" y="1356480"/>
                    <a:ext cx="47556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8417520" y="1449000"/>
                  <a:ext cx="379440" cy="13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9" name=""/>
                <p:cNvGrpSpPr/>
                <p:nvPr/>
              </p:nvGrpSpPr>
              <p:grpSpPr>
                <a:xfrm>
                  <a:off x="6992640" y="1356480"/>
                  <a:ext cx="474840" cy="354600"/>
                  <a:chOff x="6992640" y="1356480"/>
                  <a:chExt cx="474840" cy="3546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7011360" y="1372320"/>
                    <a:ext cx="45576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992640" y="1356480"/>
                    <a:ext cx="47484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2f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992640" y="1356480"/>
                    <a:ext cx="47484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3" name=""/>
                <p:cNvSpPr/>
                <p:nvPr/>
              </p:nvSpPr>
              <p:spPr>
                <a:xfrm>
                  <a:off x="6977160" y="1449000"/>
                  <a:ext cx="470160" cy="13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"/>
                <p:cNvGrpSpPr/>
                <p:nvPr/>
              </p:nvGrpSpPr>
              <p:grpSpPr>
                <a:xfrm>
                  <a:off x="5718960" y="1232280"/>
                  <a:ext cx="379800" cy="400680"/>
                  <a:chOff x="5718960" y="1232280"/>
                  <a:chExt cx="379800" cy="400680"/>
                </a:xfrm>
              </p:grpSpPr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718960" y="1232280"/>
                    <a:ext cx="234000" cy="276840"/>
                    <a:chOff x="5718960" y="1232280"/>
                    <a:chExt cx="234000" cy="276840"/>
                  </a:xfrm>
                </p:grpSpPr>
                <p:grpSp>
                  <p:nvGrpSpPr>
                    <p:cNvPr id="366" name=""/>
                    <p:cNvGrpSpPr/>
                    <p:nvPr/>
                  </p:nvGrpSpPr>
                  <p:grpSpPr>
                    <a:xfrm>
                      <a:off x="5718960" y="1232280"/>
                      <a:ext cx="234000" cy="276840"/>
                      <a:chOff x="5718960" y="1232280"/>
                      <a:chExt cx="234000" cy="276840"/>
                    </a:xfrm>
                  </p:grpSpPr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5718960" y="1232280"/>
                        <a:ext cx="234000" cy="27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7">
                            <a:moveTo>
                              <a:pt x="96" y="0"/>
                            </a:moveTo>
                            <a:lnTo>
                              <a:pt x="113" y="18"/>
                            </a:lnTo>
                            <a:lnTo>
                              <a:pt x="113" y="157"/>
                            </a:lnTo>
                            <a:lnTo>
                              <a:pt x="0" y="157"/>
                            </a:lnTo>
                            <a:lnTo>
                              <a:pt x="0" y="0"/>
                            </a:lnTo>
                            <a:lnTo>
                              <a:pt x="96" y="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5718960" y="1232280"/>
                        <a:ext cx="234000" cy="27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7">
                            <a:moveTo>
                              <a:pt x="96" y="0"/>
                            </a:moveTo>
                            <a:lnTo>
                              <a:pt x="113" y="18"/>
                            </a:lnTo>
                            <a:lnTo>
                              <a:pt x="113" y="157"/>
                            </a:lnTo>
                            <a:lnTo>
                              <a:pt x="0" y="157"/>
                            </a:lnTo>
                            <a:lnTo>
                              <a:pt x="0" y="0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noFill/>
                      <a:ln cap="rnd"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5918400" y="1232280"/>
                      <a:ext cx="34200" cy="31320"/>
                      <a:chOff x="5918400" y="1232280"/>
                      <a:chExt cx="34200" cy="313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5918400" y="1232280"/>
                        <a:ext cx="3420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8">
                            <a:moveTo>
                              <a:pt x="0" y="0"/>
                            </a:moveTo>
                            <a:lnTo>
                              <a:pt x="17" y="18"/>
                            </a:lnTo>
                            <a:lnTo>
                              <a:pt x="0" y="1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a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5918400" y="1232280"/>
                        <a:ext cx="3420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8">
                            <a:moveTo>
                              <a:pt x="0" y="0"/>
                            </a:moveTo>
                            <a:lnTo>
                              <a:pt x="17" y="18"/>
                            </a:lnTo>
                            <a:lnTo>
                              <a:pt x="0" y="1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792040" y="1293840"/>
                    <a:ext cx="234000" cy="276840"/>
                    <a:chOff x="5792040" y="1293840"/>
                    <a:chExt cx="234000" cy="276840"/>
                  </a:xfrm>
                </p:grpSpPr>
                <p:grpSp>
                  <p:nvGrpSpPr>
                    <p:cNvPr id="373" name=""/>
                    <p:cNvGrpSpPr/>
                    <p:nvPr/>
                  </p:nvGrpSpPr>
                  <p:grpSpPr>
                    <a:xfrm>
                      <a:off x="5792040" y="1293840"/>
                      <a:ext cx="234000" cy="276840"/>
                      <a:chOff x="5792040" y="1293840"/>
                      <a:chExt cx="234000" cy="276840"/>
                    </a:xfrm>
                  </p:grpSpPr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5792040" y="1293840"/>
                        <a:ext cx="234000" cy="27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7">
                            <a:moveTo>
                              <a:pt x="96" y="0"/>
                            </a:moveTo>
                            <a:lnTo>
                              <a:pt x="113" y="17"/>
                            </a:lnTo>
                            <a:lnTo>
                              <a:pt x="113" y="157"/>
                            </a:lnTo>
                            <a:lnTo>
                              <a:pt x="0" y="157"/>
                            </a:lnTo>
                            <a:lnTo>
                              <a:pt x="0" y="0"/>
                            </a:lnTo>
                            <a:lnTo>
                              <a:pt x="96" y="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5792040" y="1293840"/>
                        <a:ext cx="234000" cy="27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7">
                            <a:moveTo>
                              <a:pt x="96" y="0"/>
                            </a:moveTo>
                            <a:lnTo>
                              <a:pt x="113" y="17"/>
                            </a:lnTo>
                            <a:lnTo>
                              <a:pt x="113" y="157"/>
                            </a:lnTo>
                            <a:lnTo>
                              <a:pt x="0" y="157"/>
                            </a:lnTo>
                            <a:lnTo>
                              <a:pt x="0" y="0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noFill/>
                      <a:ln cap="rnd"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6" name=""/>
                    <p:cNvGrpSpPr/>
                    <p:nvPr/>
                  </p:nvGrpSpPr>
                  <p:grpSpPr>
                    <a:xfrm>
                      <a:off x="5991120" y="1293840"/>
                      <a:ext cx="34920" cy="29520"/>
                      <a:chOff x="5991120" y="1293840"/>
                      <a:chExt cx="34920" cy="29520"/>
                    </a:xfrm>
                  </p:grpSpPr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5991120" y="1293840"/>
                        <a:ext cx="34920" cy="2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7" y="17"/>
                            </a:lnTo>
                            <a:lnTo>
                              <a:pt x="0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a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5991120" y="1293840"/>
                        <a:ext cx="34920" cy="2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7" y="17"/>
                            </a:lnTo>
                            <a:lnTo>
                              <a:pt x="0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845680" y="1355760"/>
                    <a:ext cx="253080" cy="277200"/>
                    <a:chOff x="5845680" y="1355760"/>
                    <a:chExt cx="253080" cy="277200"/>
                  </a:xfrm>
                </p:grpSpPr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5845680" y="1355760"/>
                      <a:ext cx="253080" cy="277200"/>
                      <a:chOff x="5845680" y="1355760"/>
                      <a:chExt cx="253080" cy="27720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5845680" y="1355760"/>
                        <a:ext cx="253080" cy="27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57">
                            <a:moveTo>
                              <a:pt x="105" y="0"/>
                            </a:moveTo>
                            <a:lnTo>
                              <a:pt x="122" y="17"/>
                            </a:lnTo>
                            <a:lnTo>
                              <a:pt x="122" y="157"/>
                            </a:lnTo>
                            <a:lnTo>
                              <a:pt x="0" y="157"/>
                            </a:lnTo>
                            <a:lnTo>
                              <a:pt x="0" y="0"/>
                            </a:lnTo>
                            <a:lnTo>
                              <a:pt x="105" y="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5845680" y="1355760"/>
                        <a:ext cx="253080" cy="27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57">
                            <a:moveTo>
                              <a:pt x="105" y="0"/>
                            </a:moveTo>
                            <a:lnTo>
                              <a:pt x="122" y="17"/>
                            </a:lnTo>
                            <a:lnTo>
                              <a:pt x="122" y="157"/>
                            </a:lnTo>
                            <a:lnTo>
                              <a:pt x="0" y="157"/>
                            </a:lnTo>
                            <a:lnTo>
                              <a:pt x="0" y="0"/>
                            </a:lnTo>
                            <a:lnTo>
                              <a:pt x="105" y="0"/>
                            </a:lnTo>
                          </a:path>
                        </a:pathLst>
                      </a:custGeom>
                      <a:noFill/>
                      <a:ln cap="rnd"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6063840" y="1355760"/>
                      <a:ext cx="34920" cy="29520"/>
                      <a:chOff x="6063840" y="1355760"/>
                      <a:chExt cx="34920" cy="29520"/>
                    </a:xfrm>
                  </p:grpSpPr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6063840" y="1355760"/>
                        <a:ext cx="34920" cy="2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7" y="17"/>
                            </a:lnTo>
                            <a:lnTo>
                              <a:pt x="0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a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6063840" y="1355760"/>
                        <a:ext cx="34920" cy="2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7" y="17"/>
                            </a:lnTo>
                            <a:lnTo>
                              <a:pt x="0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86" name=""/>
              <p:cNvGrpSpPr/>
              <p:nvPr/>
            </p:nvGrpSpPr>
            <p:grpSpPr>
              <a:xfrm>
                <a:off x="4057560" y="1058760"/>
                <a:ext cx="1264320" cy="678960"/>
                <a:chOff x="4057560" y="1058760"/>
                <a:chExt cx="1264320" cy="67896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4587840" y="1058760"/>
                  <a:ext cx="734040" cy="678960"/>
                  <a:chOff x="4587840" y="1058760"/>
                  <a:chExt cx="734040" cy="6789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4587840" y="1058760"/>
                    <a:ext cx="734040" cy="678960"/>
                  </a:xfrm>
                  <a:prstGeom prst="foldedCorner">
                    <a:avLst>
                      <a:gd name="adj" fmla="val 12500"/>
                    </a:avLst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4765320" y="1198080"/>
                    <a:ext cx="442800" cy="402480"/>
                    <a:chOff x="4765320" y="1198080"/>
                    <a:chExt cx="442800" cy="402480"/>
                  </a:xfrm>
                </p:grpSpPr>
                <p:grpSp>
                  <p:nvGrpSpPr>
                    <p:cNvPr id="390" name=""/>
                    <p:cNvGrpSpPr/>
                    <p:nvPr/>
                  </p:nvGrpSpPr>
                  <p:grpSpPr>
                    <a:xfrm>
                      <a:off x="4780800" y="1266480"/>
                      <a:ext cx="46800" cy="265680"/>
                      <a:chOff x="4780800" y="1266480"/>
                      <a:chExt cx="46800" cy="265680"/>
                    </a:xfrm>
                  </p:grpSpPr>
                  <p:sp>
                    <p:nvSpPr>
                      <p:cNvPr id="391" name=""/>
                      <p:cNvSpPr/>
                      <p:nvPr/>
                    </p:nvSpPr>
                    <p:spPr>
                      <a:xfrm>
                        <a:off x="4796280" y="126648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99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4796280" y="132552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ffc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4812120" y="138780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ffc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4812120" y="144864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4780800" y="140292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4796280" y="150948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66ff3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7" name=""/>
                    <p:cNvGrpSpPr/>
                    <p:nvPr/>
                  </p:nvGrpSpPr>
                  <p:grpSpPr>
                    <a:xfrm>
                      <a:off x="4843440" y="1326960"/>
                      <a:ext cx="51840" cy="182160"/>
                      <a:chOff x="4843440" y="1326960"/>
                      <a:chExt cx="51840" cy="182160"/>
                    </a:xfrm>
                  </p:grpSpPr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4843440" y="132696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99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9" name=""/>
                      <p:cNvSpPr/>
                      <p:nvPr/>
                    </p:nvSpPr>
                    <p:spPr>
                      <a:xfrm>
                        <a:off x="4879800" y="134964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0099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4843440" y="137232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e0fa8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4879800" y="141048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>
                        <a:off x="4843440" y="142560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4843440" y="148644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ffc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4879800" y="146376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ffb16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5" name=""/>
                    <p:cNvGrpSpPr/>
                    <p:nvPr/>
                  </p:nvGrpSpPr>
                  <p:grpSpPr>
                    <a:xfrm>
                      <a:off x="4915080" y="1365120"/>
                      <a:ext cx="73800" cy="98640"/>
                      <a:chOff x="4915080" y="1365120"/>
                      <a:chExt cx="73800" cy="98640"/>
                    </a:xfrm>
                  </p:grpSpPr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4949280" y="136512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ffc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4915080" y="138780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3399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4973400" y="142596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ffc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4919760" y="144108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ffc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4973400" y="142596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1" name=""/>
                    <p:cNvGrpSpPr/>
                    <p:nvPr/>
                  </p:nvGrpSpPr>
                  <p:grpSpPr>
                    <a:xfrm>
                      <a:off x="5088240" y="1387800"/>
                      <a:ext cx="93600" cy="50400"/>
                      <a:chOff x="5088240" y="1387800"/>
                      <a:chExt cx="93600" cy="50400"/>
                    </a:xfrm>
                  </p:grpSpPr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5088240" y="138780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5166360" y="138780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4" name=""/>
                      <p:cNvSpPr/>
                      <p:nvPr/>
                    </p:nvSpPr>
                    <p:spPr>
                      <a:xfrm>
                        <a:off x="5146560" y="141552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99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"/>
                      <p:cNvSpPr/>
                      <p:nvPr/>
                    </p:nvSpPr>
                    <p:spPr>
                      <a:xfrm>
                        <a:off x="5119200" y="138780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5005080" y="1372680"/>
                      <a:ext cx="67680" cy="60480"/>
                      <a:chOff x="5005080" y="1372680"/>
                      <a:chExt cx="67680" cy="60480"/>
                    </a:xfrm>
                  </p:grpSpPr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5031000" y="138780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cc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5057280" y="141048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ffc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5005080" y="1372680"/>
                        <a:ext cx="15480" cy="22680"/>
                      </a:xfrm>
                      <a:prstGeom prst="ellipse">
                        <a:avLst/>
                      </a:prstGeom>
                      <a:solidFill>
                        <a:srgbClr val="66ff3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600" bIns="-30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4806720" y="1198080"/>
                      <a:ext cx="40140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60" h="1056">
                          <a:moveTo>
                            <a:pt x="0" y="0"/>
                          </a:moveTo>
                          <a:cubicBezTo>
                            <a:pt x="72" y="184"/>
                            <a:pt x="144" y="368"/>
                            <a:pt x="480" y="528"/>
                          </a:cubicBezTo>
                          <a:cubicBezTo>
                            <a:pt x="816" y="688"/>
                            <a:pt x="1336" y="872"/>
                            <a:pt x="2016" y="960"/>
                          </a:cubicBezTo>
                          <a:cubicBezTo>
                            <a:pt x="2696" y="1048"/>
                            <a:pt x="4120" y="1040"/>
                            <a:pt x="4560" y="105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99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V="1">
                      <a:off x="4806720" y="1463760"/>
                      <a:ext cx="40140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60" h="1056">
                          <a:moveTo>
                            <a:pt x="0" y="0"/>
                          </a:moveTo>
                          <a:cubicBezTo>
                            <a:pt x="72" y="184"/>
                            <a:pt x="144" y="368"/>
                            <a:pt x="480" y="528"/>
                          </a:cubicBezTo>
                          <a:cubicBezTo>
                            <a:pt x="816" y="688"/>
                            <a:pt x="1336" y="872"/>
                            <a:pt x="2016" y="960"/>
                          </a:cubicBezTo>
                          <a:cubicBezTo>
                            <a:pt x="2696" y="1048"/>
                            <a:pt x="4120" y="1040"/>
                            <a:pt x="4560" y="105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99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4765320" y="1356120"/>
                      <a:ext cx="434520" cy="100080"/>
                    </a:xfrm>
                    <a:prstGeom prst="rightArrow">
                      <a:avLst>
                        <a:gd name="adj1" fmla="val 73500"/>
                        <a:gd name="adj2" fmla="val 64563"/>
                      </a:avLst>
                    </a:prstGeom>
                    <a:solidFill>
                      <a:srgbClr val="6767cd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23" name=""/>
                <p:cNvSpPr/>
                <p:nvPr/>
              </p:nvSpPr>
              <p:spPr>
                <a:xfrm>
                  <a:off x="4057560" y="1348200"/>
                  <a:ext cx="517320" cy="254520"/>
                </a:xfrm>
                <a:prstGeom prst="rightArrow">
                  <a:avLst>
                    <a:gd name="adj1" fmla="val 50000"/>
                    <a:gd name="adj2" fmla="val 50813"/>
                  </a:avLst>
                </a:prstGeom>
                <a:solidFill>
                  <a:srgbClr val="99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4" name=""/>
            <p:cNvSpPr/>
            <p:nvPr/>
          </p:nvSpPr>
          <p:spPr>
            <a:xfrm>
              <a:off x="2502000" y="1236600"/>
              <a:ext cx="774720" cy="2798280"/>
            </a:xfrm>
            <a:custGeom>
              <a:avLst/>
              <a:gdLst/>
              <a:ahLst/>
              <a:rect l="l" t="t" r="r" b="b"/>
              <a:pathLst>
                <a:path w="680" h="2103">
                  <a:moveTo>
                    <a:pt x="680" y="0"/>
                  </a:moveTo>
                  <a:lnTo>
                    <a:pt x="680" y="2103"/>
                  </a:lnTo>
                  <a:lnTo>
                    <a:pt x="0" y="1065"/>
                  </a:lnTo>
                  <a:lnTo>
                    <a:pt x="68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46640" y="1203120"/>
              <a:ext cx="441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11360" y="1266840"/>
              <a:ext cx="5446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24320" y="1925640"/>
              <a:ext cx="54612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84720" y="2609640"/>
              <a:ext cx="67752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97320" y="2776320"/>
              <a:ext cx="5461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1666800" y="2122200"/>
              <a:ext cx="1233360" cy="977400"/>
              <a:chOff x="1666800" y="2122200"/>
              <a:chExt cx="1233360" cy="977400"/>
            </a:xfrm>
          </p:grpSpPr>
          <p:sp>
            <p:nvSpPr>
              <p:cNvPr id="431" name=""/>
              <p:cNvSpPr/>
              <p:nvPr/>
            </p:nvSpPr>
            <p:spPr>
              <a:xfrm>
                <a:off x="2209320" y="2187720"/>
                <a:ext cx="542520" cy="549720"/>
              </a:xfrm>
              <a:custGeom>
                <a:avLst/>
                <a:gdLst/>
                <a:ahLst/>
                <a:rect l="l" t="t" r="r" b="b"/>
                <a:pathLst>
                  <a:path w="253" h="305">
                    <a:moveTo>
                      <a:pt x="0" y="61"/>
                    </a:moveTo>
                    <a:lnTo>
                      <a:pt x="0" y="0"/>
                    </a:lnTo>
                    <a:lnTo>
                      <a:pt x="253" y="0"/>
                    </a:lnTo>
                    <a:lnTo>
                      <a:pt x="253" y="244"/>
                    </a:lnTo>
                    <a:lnTo>
                      <a:pt x="235" y="244"/>
                    </a:lnTo>
                    <a:lnTo>
                      <a:pt x="235" y="253"/>
                    </a:lnTo>
                    <a:lnTo>
                      <a:pt x="235" y="253"/>
                    </a:lnTo>
                    <a:lnTo>
                      <a:pt x="235" y="253"/>
                    </a:lnTo>
                    <a:lnTo>
                      <a:pt x="235" y="262"/>
                    </a:lnTo>
                    <a:lnTo>
                      <a:pt x="235" y="262"/>
                    </a:lnTo>
                    <a:lnTo>
                      <a:pt x="235" y="270"/>
                    </a:lnTo>
                    <a:lnTo>
                      <a:pt x="235" y="270"/>
                    </a:lnTo>
                    <a:lnTo>
                      <a:pt x="235" y="270"/>
                    </a:lnTo>
                    <a:lnTo>
                      <a:pt x="235" y="279"/>
                    </a:lnTo>
                    <a:lnTo>
                      <a:pt x="235" y="279"/>
                    </a:lnTo>
                    <a:lnTo>
                      <a:pt x="235" y="288"/>
                    </a:lnTo>
                    <a:lnTo>
                      <a:pt x="235" y="288"/>
                    </a:lnTo>
                    <a:lnTo>
                      <a:pt x="235" y="296"/>
                    </a:lnTo>
                    <a:lnTo>
                      <a:pt x="235" y="296"/>
                    </a:lnTo>
                    <a:lnTo>
                      <a:pt x="227" y="296"/>
                    </a:lnTo>
                    <a:lnTo>
                      <a:pt x="227" y="305"/>
                    </a:lnTo>
                    <a:lnTo>
                      <a:pt x="227" y="305"/>
                    </a:lnTo>
                    <a:lnTo>
                      <a:pt x="227" y="305"/>
                    </a:lnTo>
                    <a:lnTo>
                      <a:pt x="218" y="305"/>
                    </a:lnTo>
                    <a:lnTo>
                      <a:pt x="218" y="305"/>
                    </a:lnTo>
                    <a:lnTo>
                      <a:pt x="209" y="305"/>
                    </a:lnTo>
                    <a:lnTo>
                      <a:pt x="209" y="305"/>
                    </a:lnTo>
                    <a:lnTo>
                      <a:pt x="209" y="305"/>
                    </a:lnTo>
                    <a:lnTo>
                      <a:pt x="201" y="305"/>
                    </a:lnTo>
                    <a:lnTo>
                      <a:pt x="201" y="305"/>
                    </a:lnTo>
                    <a:lnTo>
                      <a:pt x="201" y="305"/>
                    </a:lnTo>
                    <a:lnTo>
                      <a:pt x="192" y="305"/>
                    </a:lnTo>
                    <a:lnTo>
                      <a:pt x="192" y="305"/>
                    </a:lnTo>
                    <a:lnTo>
                      <a:pt x="192" y="305"/>
                    </a:lnTo>
                    <a:lnTo>
                      <a:pt x="192" y="296"/>
                    </a:lnTo>
                    <a:lnTo>
                      <a:pt x="183" y="296"/>
                    </a:lnTo>
                    <a:lnTo>
                      <a:pt x="183" y="296"/>
                    </a:lnTo>
                    <a:lnTo>
                      <a:pt x="183" y="288"/>
                    </a:lnTo>
                    <a:lnTo>
                      <a:pt x="183" y="288"/>
                    </a:lnTo>
                    <a:lnTo>
                      <a:pt x="183" y="279"/>
                    </a:lnTo>
                    <a:lnTo>
                      <a:pt x="183" y="279"/>
                    </a:lnTo>
                    <a:lnTo>
                      <a:pt x="183" y="270"/>
                    </a:lnTo>
                    <a:lnTo>
                      <a:pt x="183" y="270"/>
                    </a:lnTo>
                    <a:lnTo>
                      <a:pt x="183" y="262"/>
                    </a:lnTo>
                    <a:lnTo>
                      <a:pt x="183" y="262"/>
                    </a:lnTo>
                    <a:lnTo>
                      <a:pt x="183" y="253"/>
                    </a:lnTo>
                    <a:lnTo>
                      <a:pt x="183" y="253"/>
                    </a:lnTo>
                    <a:lnTo>
                      <a:pt x="183" y="253"/>
                    </a:lnTo>
                    <a:lnTo>
                      <a:pt x="183" y="244"/>
                    </a:lnTo>
                    <a:lnTo>
                      <a:pt x="139" y="244"/>
                    </a:lnTo>
                    <a:lnTo>
                      <a:pt x="139" y="235"/>
                    </a:lnTo>
                    <a:lnTo>
                      <a:pt x="139" y="235"/>
                    </a:lnTo>
                    <a:lnTo>
                      <a:pt x="139" y="227"/>
                    </a:lnTo>
                    <a:lnTo>
                      <a:pt x="139" y="227"/>
                    </a:lnTo>
                    <a:lnTo>
                      <a:pt x="139" y="218"/>
                    </a:lnTo>
                    <a:lnTo>
                      <a:pt x="139" y="218"/>
                    </a:lnTo>
                    <a:lnTo>
                      <a:pt x="139" y="218"/>
                    </a:lnTo>
                    <a:lnTo>
                      <a:pt x="139" y="209"/>
                    </a:lnTo>
                    <a:lnTo>
                      <a:pt x="131" y="209"/>
                    </a:lnTo>
                    <a:lnTo>
                      <a:pt x="131" y="209"/>
                    </a:lnTo>
                    <a:lnTo>
                      <a:pt x="131" y="209"/>
                    </a:lnTo>
                    <a:lnTo>
                      <a:pt x="122" y="209"/>
                    </a:lnTo>
                    <a:lnTo>
                      <a:pt x="122" y="209"/>
                    </a:lnTo>
                    <a:lnTo>
                      <a:pt x="113" y="209"/>
                    </a:lnTo>
                    <a:lnTo>
                      <a:pt x="113" y="209"/>
                    </a:lnTo>
                    <a:lnTo>
                      <a:pt x="105" y="209"/>
                    </a:lnTo>
                    <a:lnTo>
                      <a:pt x="105" y="209"/>
                    </a:lnTo>
                    <a:lnTo>
                      <a:pt x="96" y="209"/>
                    </a:lnTo>
                    <a:lnTo>
                      <a:pt x="96" y="209"/>
                    </a:lnTo>
                    <a:lnTo>
                      <a:pt x="87" y="209"/>
                    </a:lnTo>
                    <a:lnTo>
                      <a:pt x="87" y="209"/>
                    </a:lnTo>
                    <a:lnTo>
                      <a:pt x="87" y="201"/>
                    </a:lnTo>
                    <a:lnTo>
                      <a:pt x="87" y="201"/>
                    </a:lnTo>
                    <a:lnTo>
                      <a:pt x="78" y="201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83"/>
                    </a:lnTo>
                    <a:lnTo>
                      <a:pt x="78" y="183"/>
                    </a:lnTo>
                    <a:lnTo>
                      <a:pt x="78" y="174"/>
                    </a:lnTo>
                    <a:lnTo>
                      <a:pt x="78" y="174"/>
                    </a:lnTo>
                    <a:lnTo>
                      <a:pt x="78" y="166"/>
                    </a:lnTo>
                    <a:lnTo>
                      <a:pt x="78" y="166"/>
                    </a:lnTo>
                    <a:lnTo>
                      <a:pt x="78" y="166"/>
                    </a:lnTo>
                    <a:lnTo>
                      <a:pt x="78" y="166"/>
                    </a:lnTo>
                    <a:lnTo>
                      <a:pt x="70" y="157"/>
                    </a:lnTo>
                    <a:lnTo>
                      <a:pt x="70" y="157"/>
                    </a:lnTo>
                    <a:lnTo>
                      <a:pt x="61" y="157"/>
                    </a:lnTo>
                    <a:lnTo>
                      <a:pt x="61" y="157"/>
                    </a:lnTo>
                    <a:lnTo>
                      <a:pt x="52" y="157"/>
                    </a:lnTo>
                    <a:lnTo>
                      <a:pt x="52" y="157"/>
                    </a:lnTo>
                    <a:lnTo>
                      <a:pt x="44" y="148"/>
                    </a:lnTo>
                    <a:lnTo>
                      <a:pt x="44" y="148"/>
                    </a:lnTo>
                    <a:lnTo>
                      <a:pt x="44" y="148"/>
                    </a:lnTo>
                    <a:lnTo>
                      <a:pt x="35" y="148"/>
                    </a:lnTo>
                    <a:lnTo>
                      <a:pt x="35" y="139"/>
                    </a:lnTo>
                    <a:lnTo>
                      <a:pt x="35" y="139"/>
                    </a:lnTo>
                    <a:lnTo>
                      <a:pt x="35" y="139"/>
                    </a:lnTo>
                    <a:lnTo>
                      <a:pt x="26" y="131"/>
                    </a:lnTo>
                    <a:lnTo>
                      <a:pt x="26" y="131"/>
                    </a:lnTo>
                    <a:lnTo>
                      <a:pt x="26" y="122"/>
                    </a:lnTo>
                    <a:lnTo>
                      <a:pt x="35" y="122"/>
                    </a:lnTo>
                    <a:lnTo>
                      <a:pt x="35" y="113"/>
                    </a:lnTo>
                    <a:lnTo>
                      <a:pt x="35" y="113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5" y="96"/>
                    </a:lnTo>
                    <a:lnTo>
                      <a:pt x="35" y="96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26" y="78"/>
                    </a:lnTo>
                    <a:lnTo>
                      <a:pt x="26" y="78"/>
                    </a:lnTo>
                    <a:lnTo>
                      <a:pt x="26" y="78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17" y="70"/>
                    </a:lnTo>
                    <a:lnTo>
                      <a:pt x="17" y="70"/>
                    </a:lnTo>
                    <a:lnTo>
                      <a:pt x="17" y="70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00ff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66800" y="2533320"/>
                <a:ext cx="542520" cy="566280"/>
              </a:xfrm>
              <a:custGeom>
                <a:avLst/>
                <a:gdLst/>
                <a:ahLst/>
                <a:rect l="l" t="t" r="r" b="b"/>
                <a:pathLst>
                  <a:path w="253" h="314">
                    <a:moveTo>
                      <a:pt x="253" y="261"/>
                    </a:moveTo>
                    <a:lnTo>
                      <a:pt x="253" y="314"/>
                    </a:lnTo>
                    <a:lnTo>
                      <a:pt x="0" y="314"/>
                    </a:lnTo>
                    <a:lnTo>
                      <a:pt x="0" y="70"/>
                    </a:lnTo>
                    <a:lnTo>
                      <a:pt x="26" y="70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61" y="9"/>
                    </a:lnTo>
                    <a:lnTo>
                      <a:pt x="61" y="9"/>
                    </a:lnTo>
                    <a:lnTo>
                      <a:pt x="61" y="9"/>
                    </a:lnTo>
                    <a:lnTo>
                      <a:pt x="70" y="9"/>
                    </a:lnTo>
                    <a:lnTo>
                      <a:pt x="70" y="17"/>
                    </a:lnTo>
                    <a:lnTo>
                      <a:pt x="70" y="17"/>
                    </a:lnTo>
                    <a:lnTo>
                      <a:pt x="70" y="17"/>
                    </a:lnTo>
                    <a:lnTo>
                      <a:pt x="70" y="26"/>
                    </a:lnTo>
                    <a:lnTo>
                      <a:pt x="78" y="26"/>
                    </a:lnTo>
                    <a:lnTo>
                      <a:pt x="78" y="35"/>
                    </a:lnTo>
                    <a:lnTo>
                      <a:pt x="78" y="35"/>
                    </a:lnTo>
                    <a:lnTo>
                      <a:pt x="78" y="43"/>
                    </a:lnTo>
                    <a:lnTo>
                      <a:pt x="70" y="43"/>
                    </a:lnTo>
                    <a:lnTo>
                      <a:pt x="70" y="52"/>
                    </a:lnTo>
                    <a:lnTo>
                      <a:pt x="70" y="52"/>
                    </a:lnTo>
                    <a:lnTo>
                      <a:pt x="70" y="61"/>
                    </a:lnTo>
                    <a:lnTo>
                      <a:pt x="70" y="61"/>
                    </a:lnTo>
                    <a:lnTo>
                      <a:pt x="70" y="61"/>
                    </a:lnTo>
                    <a:lnTo>
                      <a:pt x="70" y="61"/>
                    </a:lnTo>
                    <a:lnTo>
                      <a:pt x="113" y="61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3" y="87"/>
                    </a:lnTo>
                    <a:lnTo>
                      <a:pt x="113" y="87"/>
                    </a:lnTo>
                    <a:lnTo>
                      <a:pt x="113" y="96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22" y="104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40" y="113"/>
                    </a:lnTo>
                    <a:lnTo>
                      <a:pt x="140" y="113"/>
                    </a:lnTo>
                    <a:lnTo>
                      <a:pt x="148" y="113"/>
                    </a:lnTo>
                    <a:lnTo>
                      <a:pt x="148" y="113"/>
                    </a:lnTo>
                    <a:lnTo>
                      <a:pt x="157" y="113"/>
                    </a:lnTo>
                    <a:lnTo>
                      <a:pt x="157" y="113"/>
                    </a:lnTo>
                    <a:lnTo>
                      <a:pt x="157" y="113"/>
                    </a:lnTo>
                    <a:lnTo>
                      <a:pt x="166" y="113"/>
                    </a:lnTo>
                    <a:lnTo>
                      <a:pt x="166" y="113"/>
                    </a:lnTo>
                    <a:lnTo>
                      <a:pt x="174" y="122"/>
                    </a:lnTo>
                    <a:lnTo>
                      <a:pt x="174" y="122"/>
                    </a:lnTo>
                    <a:lnTo>
                      <a:pt x="174" y="122"/>
                    </a:lnTo>
                    <a:lnTo>
                      <a:pt x="174" y="131"/>
                    </a:lnTo>
                    <a:lnTo>
                      <a:pt x="174" y="131"/>
                    </a:lnTo>
                    <a:lnTo>
                      <a:pt x="174" y="139"/>
                    </a:lnTo>
                    <a:lnTo>
                      <a:pt x="174" y="139"/>
                    </a:lnTo>
                    <a:lnTo>
                      <a:pt x="174" y="148"/>
                    </a:lnTo>
                    <a:lnTo>
                      <a:pt x="174" y="148"/>
                    </a:lnTo>
                    <a:lnTo>
                      <a:pt x="174" y="157"/>
                    </a:lnTo>
                    <a:lnTo>
                      <a:pt x="183" y="157"/>
                    </a:lnTo>
                    <a:lnTo>
                      <a:pt x="183" y="157"/>
                    </a:lnTo>
                    <a:lnTo>
                      <a:pt x="183" y="166"/>
                    </a:lnTo>
                    <a:lnTo>
                      <a:pt x="183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201" y="166"/>
                    </a:lnTo>
                    <a:lnTo>
                      <a:pt x="201" y="166"/>
                    </a:lnTo>
                    <a:lnTo>
                      <a:pt x="209" y="166"/>
                    </a:lnTo>
                    <a:lnTo>
                      <a:pt x="209" y="174"/>
                    </a:lnTo>
                    <a:lnTo>
                      <a:pt x="209" y="174"/>
                    </a:lnTo>
                    <a:lnTo>
                      <a:pt x="218" y="174"/>
                    </a:lnTo>
                    <a:lnTo>
                      <a:pt x="218" y="174"/>
                    </a:lnTo>
                    <a:lnTo>
                      <a:pt x="218" y="174"/>
                    </a:lnTo>
                    <a:lnTo>
                      <a:pt x="227" y="183"/>
                    </a:lnTo>
                    <a:lnTo>
                      <a:pt x="227" y="183"/>
                    </a:lnTo>
                    <a:lnTo>
                      <a:pt x="227" y="192"/>
                    </a:lnTo>
                    <a:lnTo>
                      <a:pt x="227" y="192"/>
                    </a:lnTo>
                    <a:lnTo>
                      <a:pt x="227" y="200"/>
                    </a:lnTo>
                    <a:lnTo>
                      <a:pt x="227" y="200"/>
                    </a:lnTo>
                    <a:lnTo>
                      <a:pt x="227" y="209"/>
                    </a:lnTo>
                    <a:lnTo>
                      <a:pt x="227" y="209"/>
                    </a:lnTo>
                    <a:lnTo>
                      <a:pt x="218" y="218"/>
                    </a:lnTo>
                    <a:lnTo>
                      <a:pt x="218" y="227"/>
                    </a:lnTo>
                    <a:lnTo>
                      <a:pt x="218" y="227"/>
                    </a:lnTo>
                    <a:lnTo>
                      <a:pt x="218" y="235"/>
                    </a:lnTo>
                    <a:lnTo>
                      <a:pt x="227" y="235"/>
                    </a:lnTo>
                    <a:lnTo>
                      <a:pt x="227" y="235"/>
                    </a:lnTo>
                    <a:lnTo>
                      <a:pt x="227" y="244"/>
                    </a:lnTo>
                    <a:lnTo>
                      <a:pt x="227" y="244"/>
                    </a:lnTo>
                    <a:lnTo>
                      <a:pt x="227" y="253"/>
                    </a:lnTo>
                    <a:lnTo>
                      <a:pt x="235" y="253"/>
                    </a:lnTo>
                    <a:lnTo>
                      <a:pt x="235" y="253"/>
                    </a:lnTo>
                    <a:lnTo>
                      <a:pt x="235" y="253"/>
                    </a:lnTo>
                    <a:lnTo>
                      <a:pt x="244" y="261"/>
                    </a:lnTo>
                    <a:lnTo>
                      <a:pt x="244" y="261"/>
                    </a:lnTo>
                    <a:lnTo>
                      <a:pt x="253" y="261"/>
                    </a:lnTo>
                    <a:lnTo>
                      <a:pt x="253" y="261"/>
                    </a:lnTo>
                    <a:close/>
                  </a:path>
                </a:pathLst>
              </a:custGeom>
              <a:solidFill>
                <a:srgbClr val="ccff99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66800" y="2187720"/>
                <a:ext cx="542520" cy="471960"/>
              </a:xfrm>
              <a:custGeom>
                <a:avLst/>
                <a:gdLst/>
                <a:ahLst/>
                <a:rect l="l" t="t" r="r" b="b"/>
                <a:pathLst>
                  <a:path w="253" h="262">
                    <a:moveTo>
                      <a:pt x="253" y="61"/>
                    </a:moveTo>
                    <a:lnTo>
                      <a:pt x="253" y="0"/>
                    </a:lnTo>
                    <a:lnTo>
                      <a:pt x="0" y="0"/>
                    </a:lnTo>
                    <a:lnTo>
                      <a:pt x="0" y="262"/>
                    </a:lnTo>
                    <a:lnTo>
                      <a:pt x="26" y="262"/>
                    </a:lnTo>
                    <a:lnTo>
                      <a:pt x="26" y="253"/>
                    </a:lnTo>
                    <a:lnTo>
                      <a:pt x="26" y="253"/>
                    </a:lnTo>
                    <a:lnTo>
                      <a:pt x="26" y="244"/>
                    </a:lnTo>
                    <a:lnTo>
                      <a:pt x="26" y="244"/>
                    </a:lnTo>
                    <a:lnTo>
                      <a:pt x="17" y="235"/>
                    </a:lnTo>
                    <a:lnTo>
                      <a:pt x="17" y="227"/>
                    </a:lnTo>
                    <a:lnTo>
                      <a:pt x="17" y="227"/>
                    </a:lnTo>
                    <a:lnTo>
                      <a:pt x="17" y="218"/>
                    </a:lnTo>
                    <a:lnTo>
                      <a:pt x="17" y="218"/>
                    </a:lnTo>
                    <a:lnTo>
                      <a:pt x="26" y="209"/>
                    </a:lnTo>
                    <a:lnTo>
                      <a:pt x="26" y="209"/>
                    </a:lnTo>
                    <a:lnTo>
                      <a:pt x="26" y="201"/>
                    </a:lnTo>
                    <a:lnTo>
                      <a:pt x="35" y="201"/>
                    </a:lnTo>
                    <a:lnTo>
                      <a:pt x="35" y="201"/>
                    </a:lnTo>
                    <a:lnTo>
                      <a:pt x="44" y="201"/>
                    </a:lnTo>
                    <a:lnTo>
                      <a:pt x="44" y="201"/>
                    </a:lnTo>
                    <a:lnTo>
                      <a:pt x="52" y="201"/>
                    </a:lnTo>
                    <a:lnTo>
                      <a:pt x="61" y="201"/>
                    </a:lnTo>
                    <a:lnTo>
                      <a:pt x="61" y="201"/>
                    </a:lnTo>
                    <a:lnTo>
                      <a:pt x="61" y="201"/>
                    </a:lnTo>
                    <a:lnTo>
                      <a:pt x="70" y="209"/>
                    </a:lnTo>
                    <a:lnTo>
                      <a:pt x="70" y="209"/>
                    </a:lnTo>
                    <a:lnTo>
                      <a:pt x="70" y="218"/>
                    </a:lnTo>
                    <a:lnTo>
                      <a:pt x="78" y="218"/>
                    </a:lnTo>
                    <a:lnTo>
                      <a:pt x="78" y="227"/>
                    </a:lnTo>
                    <a:lnTo>
                      <a:pt x="78" y="227"/>
                    </a:lnTo>
                    <a:lnTo>
                      <a:pt x="78" y="235"/>
                    </a:lnTo>
                    <a:lnTo>
                      <a:pt x="70" y="235"/>
                    </a:lnTo>
                    <a:lnTo>
                      <a:pt x="70" y="244"/>
                    </a:lnTo>
                    <a:lnTo>
                      <a:pt x="70" y="244"/>
                    </a:lnTo>
                    <a:lnTo>
                      <a:pt x="70" y="253"/>
                    </a:lnTo>
                    <a:lnTo>
                      <a:pt x="70" y="253"/>
                    </a:lnTo>
                    <a:lnTo>
                      <a:pt x="70" y="262"/>
                    </a:lnTo>
                    <a:lnTo>
                      <a:pt x="113" y="262"/>
                    </a:lnTo>
                    <a:lnTo>
                      <a:pt x="113" y="253"/>
                    </a:lnTo>
                    <a:lnTo>
                      <a:pt x="113" y="244"/>
                    </a:lnTo>
                    <a:lnTo>
                      <a:pt x="113" y="235"/>
                    </a:lnTo>
                    <a:lnTo>
                      <a:pt x="113" y="235"/>
                    </a:lnTo>
                    <a:lnTo>
                      <a:pt x="113" y="227"/>
                    </a:lnTo>
                    <a:lnTo>
                      <a:pt x="113" y="218"/>
                    </a:lnTo>
                    <a:lnTo>
                      <a:pt x="113" y="218"/>
                    </a:lnTo>
                    <a:lnTo>
                      <a:pt x="122" y="218"/>
                    </a:lnTo>
                    <a:lnTo>
                      <a:pt x="122" y="209"/>
                    </a:lnTo>
                    <a:lnTo>
                      <a:pt x="122" y="209"/>
                    </a:lnTo>
                    <a:lnTo>
                      <a:pt x="122" y="209"/>
                    </a:lnTo>
                    <a:lnTo>
                      <a:pt x="131" y="209"/>
                    </a:lnTo>
                    <a:lnTo>
                      <a:pt x="131" y="209"/>
                    </a:lnTo>
                    <a:lnTo>
                      <a:pt x="140" y="209"/>
                    </a:lnTo>
                    <a:lnTo>
                      <a:pt x="140" y="209"/>
                    </a:lnTo>
                    <a:lnTo>
                      <a:pt x="140" y="209"/>
                    </a:lnTo>
                    <a:lnTo>
                      <a:pt x="148" y="209"/>
                    </a:lnTo>
                    <a:lnTo>
                      <a:pt x="148" y="209"/>
                    </a:lnTo>
                    <a:lnTo>
                      <a:pt x="157" y="209"/>
                    </a:lnTo>
                    <a:lnTo>
                      <a:pt x="157" y="209"/>
                    </a:lnTo>
                    <a:lnTo>
                      <a:pt x="166" y="209"/>
                    </a:lnTo>
                    <a:lnTo>
                      <a:pt x="166" y="209"/>
                    </a:lnTo>
                    <a:lnTo>
                      <a:pt x="166" y="209"/>
                    </a:lnTo>
                    <a:lnTo>
                      <a:pt x="174" y="201"/>
                    </a:lnTo>
                    <a:lnTo>
                      <a:pt x="174" y="201"/>
                    </a:lnTo>
                    <a:lnTo>
                      <a:pt x="174" y="201"/>
                    </a:lnTo>
                    <a:lnTo>
                      <a:pt x="174" y="192"/>
                    </a:lnTo>
                    <a:lnTo>
                      <a:pt x="174" y="192"/>
                    </a:lnTo>
                    <a:lnTo>
                      <a:pt x="174" y="183"/>
                    </a:lnTo>
                    <a:lnTo>
                      <a:pt x="174" y="183"/>
                    </a:lnTo>
                    <a:lnTo>
                      <a:pt x="174" y="174"/>
                    </a:lnTo>
                    <a:lnTo>
                      <a:pt x="174" y="174"/>
                    </a:lnTo>
                    <a:lnTo>
                      <a:pt x="174" y="166"/>
                    </a:lnTo>
                    <a:lnTo>
                      <a:pt x="183" y="166"/>
                    </a:lnTo>
                    <a:lnTo>
                      <a:pt x="183" y="166"/>
                    </a:lnTo>
                    <a:lnTo>
                      <a:pt x="183" y="157"/>
                    </a:lnTo>
                    <a:lnTo>
                      <a:pt x="192" y="157"/>
                    </a:lnTo>
                    <a:lnTo>
                      <a:pt x="192" y="157"/>
                    </a:lnTo>
                    <a:lnTo>
                      <a:pt x="192" y="157"/>
                    </a:lnTo>
                    <a:lnTo>
                      <a:pt x="201" y="157"/>
                    </a:lnTo>
                    <a:lnTo>
                      <a:pt x="201" y="157"/>
                    </a:lnTo>
                    <a:lnTo>
                      <a:pt x="209" y="157"/>
                    </a:lnTo>
                    <a:lnTo>
                      <a:pt x="209" y="148"/>
                    </a:lnTo>
                    <a:lnTo>
                      <a:pt x="209" y="148"/>
                    </a:lnTo>
                    <a:lnTo>
                      <a:pt x="218" y="148"/>
                    </a:lnTo>
                    <a:lnTo>
                      <a:pt x="218" y="148"/>
                    </a:lnTo>
                    <a:lnTo>
                      <a:pt x="218" y="148"/>
                    </a:lnTo>
                    <a:lnTo>
                      <a:pt x="227" y="139"/>
                    </a:lnTo>
                    <a:lnTo>
                      <a:pt x="227" y="139"/>
                    </a:lnTo>
                    <a:lnTo>
                      <a:pt x="227" y="131"/>
                    </a:lnTo>
                    <a:lnTo>
                      <a:pt x="227" y="131"/>
                    </a:lnTo>
                    <a:lnTo>
                      <a:pt x="227" y="122"/>
                    </a:lnTo>
                    <a:lnTo>
                      <a:pt x="227" y="122"/>
                    </a:lnTo>
                    <a:lnTo>
                      <a:pt x="227" y="113"/>
                    </a:lnTo>
                    <a:lnTo>
                      <a:pt x="227" y="113"/>
                    </a:lnTo>
                    <a:lnTo>
                      <a:pt x="227" y="105"/>
                    </a:lnTo>
                    <a:lnTo>
                      <a:pt x="227" y="96"/>
                    </a:lnTo>
                    <a:lnTo>
                      <a:pt x="227" y="96"/>
                    </a:lnTo>
                    <a:lnTo>
                      <a:pt x="227" y="87"/>
                    </a:lnTo>
                    <a:lnTo>
                      <a:pt x="227" y="87"/>
                    </a:lnTo>
                    <a:lnTo>
                      <a:pt x="227" y="87"/>
                    </a:lnTo>
                    <a:lnTo>
                      <a:pt x="227" y="78"/>
                    </a:lnTo>
                    <a:lnTo>
                      <a:pt x="227" y="78"/>
                    </a:lnTo>
                    <a:lnTo>
                      <a:pt x="235" y="70"/>
                    </a:lnTo>
                    <a:lnTo>
                      <a:pt x="235" y="70"/>
                    </a:lnTo>
                    <a:lnTo>
                      <a:pt x="235" y="70"/>
                    </a:lnTo>
                    <a:lnTo>
                      <a:pt x="244" y="70"/>
                    </a:lnTo>
                    <a:lnTo>
                      <a:pt x="244" y="61"/>
                    </a:lnTo>
                    <a:lnTo>
                      <a:pt x="244" y="61"/>
                    </a:lnTo>
                    <a:lnTo>
                      <a:pt x="253" y="61"/>
                    </a:lnTo>
                    <a:lnTo>
                      <a:pt x="253" y="61"/>
                    </a:lnTo>
                    <a:close/>
                  </a:path>
                </a:pathLst>
              </a:custGeom>
              <a:solidFill>
                <a:srgbClr val="ccffff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909080" y="2297160"/>
                <a:ext cx="598680" cy="706320"/>
              </a:xfrm>
              <a:custGeom>
                <a:avLst/>
                <a:gdLst/>
                <a:ahLst/>
                <a:rect l="l" t="t" r="r" b="b"/>
                <a:pathLst>
                  <a:path w="279" h="392">
                    <a:moveTo>
                      <a:pt x="105" y="78"/>
                    </a:moveTo>
                    <a:lnTo>
                      <a:pt x="105" y="78"/>
                    </a:lnTo>
                    <a:lnTo>
                      <a:pt x="114" y="70"/>
                    </a:lnTo>
                    <a:lnTo>
                      <a:pt x="114" y="70"/>
                    </a:lnTo>
                    <a:lnTo>
                      <a:pt x="114" y="61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05" y="44"/>
                    </a:lnTo>
                    <a:lnTo>
                      <a:pt x="105" y="35"/>
                    </a:lnTo>
                    <a:lnTo>
                      <a:pt x="105" y="35"/>
                    </a:lnTo>
                    <a:lnTo>
                      <a:pt x="105" y="26"/>
                    </a:lnTo>
                    <a:lnTo>
                      <a:pt x="114" y="17"/>
                    </a:lnTo>
                    <a:lnTo>
                      <a:pt x="114" y="17"/>
                    </a:lnTo>
                    <a:lnTo>
                      <a:pt x="122" y="9"/>
                    </a:lnTo>
                    <a:lnTo>
                      <a:pt x="122" y="9"/>
                    </a:lnTo>
                    <a:lnTo>
                      <a:pt x="122" y="0"/>
                    </a:lnTo>
                    <a:lnTo>
                      <a:pt x="131" y="0"/>
                    </a:lnTo>
                    <a:lnTo>
                      <a:pt x="140" y="0"/>
                    </a:lnTo>
                    <a:lnTo>
                      <a:pt x="149" y="0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9"/>
                    </a:lnTo>
                    <a:lnTo>
                      <a:pt x="166" y="9"/>
                    </a:lnTo>
                    <a:lnTo>
                      <a:pt x="166" y="9"/>
                    </a:lnTo>
                    <a:lnTo>
                      <a:pt x="166" y="17"/>
                    </a:lnTo>
                    <a:lnTo>
                      <a:pt x="175" y="26"/>
                    </a:lnTo>
                    <a:lnTo>
                      <a:pt x="175" y="26"/>
                    </a:lnTo>
                    <a:lnTo>
                      <a:pt x="175" y="35"/>
                    </a:lnTo>
                    <a:lnTo>
                      <a:pt x="175" y="35"/>
                    </a:lnTo>
                    <a:lnTo>
                      <a:pt x="175" y="44"/>
                    </a:lnTo>
                    <a:lnTo>
                      <a:pt x="175" y="52"/>
                    </a:lnTo>
                    <a:lnTo>
                      <a:pt x="175" y="52"/>
                    </a:lnTo>
                    <a:lnTo>
                      <a:pt x="166" y="61"/>
                    </a:lnTo>
                    <a:lnTo>
                      <a:pt x="166" y="70"/>
                    </a:lnTo>
                    <a:lnTo>
                      <a:pt x="166" y="70"/>
                    </a:lnTo>
                    <a:lnTo>
                      <a:pt x="175" y="78"/>
                    </a:lnTo>
                    <a:lnTo>
                      <a:pt x="175" y="78"/>
                    </a:lnTo>
                    <a:lnTo>
                      <a:pt x="175" y="87"/>
                    </a:lnTo>
                    <a:lnTo>
                      <a:pt x="184" y="87"/>
                    </a:lnTo>
                    <a:lnTo>
                      <a:pt x="184" y="87"/>
                    </a:lnTo>
                    <a:lnTo>
                      <a:pt x="192" y="87"/>
                    </a:lnTo>
                    <a:lnTo>
                      <a:pt x="192" y="96"/>
                    </a:lnTo>
                    <a:lnTo>
                      <a:pt x="201" y="96"/>
                    </a:lnTo>
                    <a:lnTo>
                      <a:pt x="201" y="96"/>
                    </a:lnTo>
                    <a:lnTo>
                      <a:pt x="210" y="96"/>
                    </a:lnTo>
                    <a:lnTo>
                      <a:pt x="210" y="96"/>
                    </a:lnTo>
                    <a:lnTo>
                      <a:pt x="210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13"/>
                    </a:lnTo>
                    <a:lnTo>
                      <a:pt x="218" y="113"/>
                    </a:lnTo>
                    <a:lnTo>
                      <a:pt x="218" y="113"/>
                    </a:lnTo>
                    <a:lnTo>
                      <a:pt x="218" y="122"/>
                    </a:lnTo>
                    <a:lnTo>
                      <a:pt x="218" y="122"/>
                    </a:lnTo>
                    <a:lnTo>
                      <a:pt x="218" y="131"/>
                    </a:lnTo>
                    <a:lnTo>
                      <a:pt x="218" y="131"/>
                    </a:lnTo>
                    <a:lnTo>
                      <a:pt x="218" y="140"/>
                    </a:lnTo>
                    <a:lnTo>
                      <a:pt x="218" y="140"/>
                    </a:lnTo>
                    <a:lnTo>
                      <a:pt x="227" y="140"/>
                    </a:lnTo>
                    <a:lnTo>
                      <a:pt x="227" y="148"/>
                    </a:lnTo>
                    <a:lnTo>
                      <a:pt x="227" y="148"/>
                    </a:lnTo>
                    <a:lnTo>
                      <a:pt x="236" y="148"/>
                    </a:lnTo>
                    <a:lnTo>
                      <a:pt x="236" y="148"/>
                    </a:lnTo>
                    <a:lnTo>
                      <a:pt x="245" y="148"/>
                    </a:lnTo>
                    <a:lnTo>
                      <a:pt x="245" y="148"/>
                    </a:lnTo>
                    <a:lnTo>
                      <a:pt x="253" y="148"/>
                    </a:lnTo>
                    <a:lnTo>
                      <a:pt x="253" y="148"/>
                    </a:lnTo>
                    <a:lnTo>
                      <a:pt x="262" y="148"/>
                    </a:lnTo>
                    <a:lnTo>
                      <a:pt x="262" y="148"/>
                    </a:lnTo>
                    <a:lnTo>
                      <a:pt x="262" y="148"/>
                    </a:lnTo>
                    <a:lnTo>
                      <a:pt x="271" y="148"/>
                    </a:lnTo>
                    <a:lnTo>
                      <a:pt x="271" y="148"/>
                    </a:lnTo>
                    <a:lnTo>
                      <a:pt x="271" y="148"/>
                    </a:lnTo>
                    <a:lnTo>
                      <a:pt x="279" y="148"/>
                    </a:lnTo>
                    <a:lnTo>
                      <a:pt x="279" y="157"/>
                    </a:lnTo>
                    <a:lnTo>
                      <a:pt x="279" y="157"/>
                    </a:lnTo>
                    <a:lnTo>
                      <a:pt x="279" y="166"/>
                    </a:lnTo>
                    <a:lnTo>
                      <a:pt x="279" y="166"/>
                    </a:lnTo>
                    <a:lnTo>
                      <a:pt x="279" y="174"/>
                    </a:lnTo>
                    <a:lnTo>
                      <a:pt x="279" y="183"/>
                    </a:lnTo>
                    <a:lnTo>
                      <a:pt x="279" y="192"/>
                    </a:lnTo>
                    <a:lnTo>
                      <a:pt x="279" y="209"/>
                    </a:lnTo>
                    <a:lnTo>
                      <a:pt x="279" y="218"/>
                    </a:lnTo>
                    <a:lnTo>
                      <a:pt x="279" y="218"/>
                    </a:lnTo>
                    <a:lnTo>
                      <a:pt x="279" y="227"/>
                    </a:lnTo>
                    <a:lnTo>
                      <a:pt x="279" y="227"/>
                    </a:lnTo>
                    <a:lnTo>
                      <a:pt x="271" y="227"/>
                    </a:lnTo>
                    <a:lnTo>
                      <a:pt x="271" y="235"/>
                    </a:lnTo>
                    <a:lnTo>
                      <a:pt x="271" y="235"/>
                    </a:lnTo>
                    <a:lnTo>
                      <a:pt x="262" y="235"/>
                    </a:lnTo>
                    <a:lnTo>
                      <a:pt x="262" y="235"/>
                    </a:lnTo>
                    <a:lnTo>
                      <a:pt x="253" y="235"/>
                    </a:lnTo>
                    <a:lnTo>
                      <a:pt x="253" y="235"/>
                    </a:lnTo>
                    <a:lnTo>
                      <a:pt x="245" y="235"/>
                    </a:lnTo>
                    <a:lnTo>
                      <a:pt x="245" y="235"/>
                    </a:lnTo>
                    <a:lnTo>
                      <a:pt x="245" y="235"/>
                    </a:lnTo>
                    <a:lnTo>
                      <a:pt x="236" y="235"/>
                    </a:lnTo>
                    <a:lnTo>
                      <a:pt x="236" y="235"/>
                    </a:lnTo>
                    <a:lnTo>
                      <a:pt x="227" y="235"/>
                    </a:lnTo>
                    <a:lnTo>
                      <a:pt x="227" y="235"/>
                    </a:lnTo>
                    <a:lnTo>
                      <a:pt x="227" y="235"/>
                    </a:lnTo>
                    <a:lnTo>
                      <a:pt x="227" y="235"/>
                    </a:lnTo>
                    <a:lnTo>
                      <a:pt x="218" y="244"/>
                    </a:lnTo>
                    <a:lnTo>
                      <a:pt x="218" y="244"/>
                    </a:lnTo>
                    <a:lnTo>
                      <a:pt x="218" y="244"/>
                    </a:lnTo>
                    <a:lnTo>
                      <a:pt x="218" y="253"/>
                    </a:lnTo>
                    <a:lnTo>
                      <a:pt x="218" y="253"/>
                    </a:lnTo>
                    <a:lnTo>
                      <a:pt x="218" y="253"/>
                    </a:lnTo>
                    <a:lnTo>
                      <a:pt x="218" y="262"/>
                    </a:lnTo>
                    <a:lnTo>
                      <a:pt x="218" y="270"/>
                    </a:lnTo>
                    <a:lnTo>
                      <a:pt x="218" y="270"/>
                    </a:lnTo>
                    <a:lnTo>
                      <a:pt x="218" y="279"/>
                    </a:lnTo>
                    <a:lnTo>
                      <a:pt x="210" y="279"/>
                    </a:lnTo>
                    <a:lnTo>
                      <a:pt x="210" y="279"/>
                    </a:lnTo>
                    <a:lnTo>
                      <a:pt x="210" y="288"/>
                    </a:lnTo>
                    <a:lnTo>
                      <a:pt x="201" y="288"/>
                    </a:lnTo>
                    <a:lnTo>
                      <a:pt x="201" y="288"/>
                    </a:lnTo>
                    <a:lnTo>
                      <a:pt x="192" y="288"/>
                    </a:lnTo>
                    <a:lnTo>
                      <a:pt x="192" y="288"/>
                    </a:lnTo>
                    <a:lnTo>
                      <a:pt x="192" y="288"/>
                    </a:lnTo>
                    <a:lnTo>
                      <a:pt x="184" y="288"/>
                    </a:lnTo>
                    <a:lnTo>
                      <a:pt x="184" y="297"/>
                    </a:lnTo>
                    <a:lnTo>
                      <a:pt x="175" y="297"/>
                    </a:lnTo>
                    <a:lnTo>
                      <a:pt x="175" y="297"/>
                    </a:lnTo>
                    <a:lnTo>
                      <a:pt x="175" y="297"/>
                    </a:lnTo>
                    <a:lnTo>
                      <a:pt x="166" y="305"/>
                    </a:lnTo>
                    <a:lnTo>
                      <a:pt x="166" y="305"/>
                    </a:lnTo>
                    <a:lnTo>
                      <a:pt x="166" y="314"/>
                    </a:lnTo>
                    <a:lnTo>
                      <a:pt x="166" y="314"/>
                    </a:lnTo>
                    <a:lnTo>
                      <a:pt x="166" y="323"/>
                    </a:lnTo>
                    <a:lnTo>
                      <a:pt x="166" y="323"/>
                    </a:lnTo>
                    <a:lnTo>
                      <a:pt x="175" y="331"/>
                    </a:lnTo>
                    <a:lnTo>
                      <a:pt x="175" y="340"/>
                    </a:lnTo>
                    <a:lnTo>
                      <a:pt x="175" y="340"/>
                    </a:lnTo>
                    <a:lnTo>
                      <a:pt x="175" y="349"/>
                    </a:lnTo>
                    <a:lnTo>
                      <a:pt x="175" y="358"/>
                    </a:lnTo>
                    <a:lnTo>
                      <a:pt x="166" y="358"/>
                    </a:lnTo>
                    <a:lnTo>
                      <a:pt x="166" y="366"/>
                    </a:lnTo>
                    <a:lnTo>
                      <a:pt x="166" y="366"/>
                    </a:lnTo>
                    <a:lnTo>
                      <a:pt x="166" y="375"/>
                    </a:lnTo>
                    <a:lnTo>
                      <a:pt x="166" y="375"/>
                    </a:lnTo>
                    <a:lnTo>
                      <a:pt x="157" y="384"/>
                    </a:lnTo>
                    <a:lnTo>
                      <a:pt x="157" y="384"/>
                    </a:lnTo>
                    <a:lnTo>
                      <a:pt x="157" y="384"/>
                    </a:lnTo>
                    <a:lnTo>
                      <a:pt x="149" y="384"/>
                    </a:lnTo>
                    <a:lnTo>
                      <a:pt x="149" y="384"/>
                    </a:lnTo>
                    <a:lnTo>
                      <a:pt x="140" y="392"/>
                    </a:lnTo>
                    <a:lnTo>
                      <a:pt x="140" y="392"/>
                    </a:lnTo>
                    <a:lnTo>
                      <a:pt x="131" y="392"/>
                    </a:lnTo>
                    <a:lnTo>
                      <a:pt x="131" y="392"/>
                    </a:lnTo>
                    <a:lnTo>
                      <a:pt x="122" y="384"/>
                    </a:lnTo>
                    <a:lnTo>
                      <a:pt x="122" y="384"/>
                    </a:lnTo>
                    <a:lnTo>
                      <a:pt x="122" y="384"/>
                    </a:lnTo>
                    <a:lnTo>
                      <a:pt x="114" y="384"/>
                    </a:lnTo>
                    <a:lnTo>
                      <a:pt x="114" y="375"/>
                    </a:lnTo>
                    <a:lnTo>
                      <a:pt x="114" y="375"/>
                    </a:lnTo>
                    <a:lnTo>
                      <a:pt x="114" y="375"/>
                    </a:lnTo>
                    <a:lnTo>
                      <a:pt x="105" y="366"/>
                    </a:lnTo>
                    <a:lnTo>
                      <a:pt x="105" y="366"/>
                    </a:lnTo>
                    <a:lnTo>
                      <a:pt x="105" y="358"/>
                    </a:lnTo>
                    <a:lnTo>
                      <a:pt x="105" y="358"/>
                    </a:lnTo>
                    <a:lnTo>
                      <a:pt x="105" y="349"/>
                    </a:lnTo>
                    <a:lnTo>
                      <a:pt x="105" y="349"/>
                    </a:lnTo>
                    <a:lnTo>
                      <a:pt x="105" y="340"/>
                    </a:lnTo>
                    <a:lnTo>
                      <a:pt x="105" y="340"/>
                    </a:lnTo>
                    <a:lnTo>
                      <a:pt x="114" y="331"/>
                    </a:lnTo>
                    <a:lnTo>
                      <a:pt x="114" y="331"/>
                    </a:lnTo>
                    <a:lnTo>
                      <a:pt x="114" y="323"/>
                    </a:lnTo>
                    <a:lnTo>
                      <a:pt x="114" y="323"/>
                    </a:lnTo>
                    <a:lnTo>
                      <a:pt x="114" y="314"/>
                    </a:lnTo>
                    <a:lnTo>
                      <a:pt x="105" y="314"/>
                    </a:lnTo>
                    <a:lnTo>
                      <a:pt x="105" y="314"/>
                    </a:lnTo>
                    <a:lnTo>
                      <a:pt x="105" y="305"/>
                    </a:lnTo>
                    <a:lnTo>
                      <a:pt x="105" y="305"/>
                    </a:lnTo>
                    <a:lnTo>
                      <a:pt x="96" y="305"/>
                    </a:lnTo>
                    <a:lnTo>
                      <a:pt x="96" y="305"/>
                    </a:lnTo>
                    <a:lnTo>
                      <a:pt x="96" y="297"/>
                    </a:lnTo>
                    <a:lnTo>
                      <a:pt x="88" y="297"/>
                    </a:lnTo>
                    <a:lnTo>
                      <a:pt x="88" y="297"/>
                    </a:lnTo>
                    <a:lnTo>
                      <a:pt x="79" y="297"/>
                    </a:lnTo>
                    <a:lnTo>
                      <a:pt x="79" y="297"/>
                    </a:lnTo>
                    <a:lnTo>
                      <a:pt x="79" y="297"/>
                    </a:lnTo>
                    <a:lnTo>
                      <a:pt x="70" y="297"/>
                    </a:lnTo>
                    <a:lnTo>
                      <a:pt x="70" y="288"/>
                    </a:lnTo>
                    <a:lnTo>
                      <a:pt x="61" y="288"/>
                    </a:lnTo>
                    <a:lnTo>
                      <a:pt x="61" y="288"/>
                    </a:lnTo>
                    <a:lnTo>
                      <a:pt x="61" y="279"/>
                    </a:lnTo>
                    <a:lnTo>
                      <a:pt x="61" y="279"/>
                    </a:lnTo>
                    <a:lnTo>
                      <a:pt x="61" y="270"/>
                    </a:lnTo>
                    <a:lnTo>
                      <a:pt x="61" y="270"/>
                    </a:lnTo>
                    <a:lnTo>
                      <a:pt x="61" y="262"/>
                    </a:lnTo>
                    <a:lnTo>
                      <a:pt x="61" y="262"/>
                    </a:lnTo>
                    <a:lnTo>
                      <a:pt x="61" y="253"/>
                    </a:lnTo>
                    <a:lnTo>
                      <a:pt x="61" y="253"/>
                    </a:lnTo>
                    <a:lnTo>
                      <a:pt x="53" y="244"/>
                    </a:lnTo>
                    <a:lnTo>
                      <a:pt x="53" y="244"/>
                    </a:lnTo>
                    <a:lnTo>
                      <a:pt x="53" y="244"/>
                    </a:lnTo>
                    <a:lnTo>
                      <a:pt x="44" y="244"/>
                    </a:lnTo>
                    <a:lnTo>
                      <a:pt x="44" y="244"/>
                    </a:lnTo>
                    <a:lnTo>
                      <a:pt x="35" y="244"/>
                    </a:lnTo>
                    <a:lnTo>
                      <a:pt x="35" y="244"/>
                    </a:lnTo>
                    <a:lnTo>
                      <a:pt x="35" y="244"/>
                    </a:lnTo>
                    <a:lnTo>
                      <a:pt x="27" y="244"/>
                    </a:lnTo>
                    <a:lnTo>
                      <a:pt x="27" y="244"/>
                    </a:lnTo>
                    <a:lnTo>
                      <a:pt x="18" y="244"/>
                    </a:lnTo>
                    <a:lnTo>
                      <a:pt x="18" y="244"/>
                    </a:lnTo>
                    <a:lnTo>
                      <a:pt x="9" y="244"/>
                    </a:lnTo>
                    <a:lnTo>
                      <a:pt x="9" y="244"/>
                    </a:lnTo>
                    <a:lnTo>
                      <a:pt x="9" y="244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27"/>
                    </a:lnTo>
                    <a:lnTo>
                      <a:pt x="0" y="218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192"/>
                    </a:lnTo>
                    <a:lnTo>
                      <a:pt x="0" y="183"/>
                    </a:lnTo>
                    <a:lnTo>
                      <a:pt x="0" y="174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9" y="148"/>
                    </a:lnTo>
                    <a:lnTo>
                      <a:pt x="9" y="148"/>
                    </a:lnTo>
                    <a:lnTo>
                      <a:pt x="9" y="148"/>
                    </a:lnTo>
                    <a:lnTo>
                      <a:pt x="9" y="148"/>
                    </a:lnTo>
                    <a:lnTo>
                      <a:pt x="18" y="148"/>
                    </a:lnTo>
                    <a:lnTo>
                      <a:pt x="18" y="148"/>
                    </a:lnTo>
                    <a:lnTo>
                      <a:pt x="27" y="148"/>
                    </a:lnTo>
                    <a:lnTo>
                      <a:pt x="27" y="148"/>
                    </a:lnTo>
                    <a:lnTo>
                      <a:pt x="35" y="148"/>
                    </a:lnTo>
                    <a:lnTo>
                      <a:pt x="35" y="148"/>
                    </a:lnTo>
                    <a:lnTo>
                      <a:pt x="44" y="148"/>
                    </a:lnTo>
                    <a:lnTo>
                      <a:pt x="44" y="148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3" y="140"/>
                    </a:lnTo>
                    <a:lnTo>
                      <a:pt x="61" y="140"/>
                    </a:lnTo>
                    <a:lnTo>
                      <a:pt x="61" y="140"/>
                    </a:lnTo>
                    <a:lnTo>
                      <a:pt x="61" y="131"/>
                    </a:lnTo>
                    <a:lnTo>
                      <a:pt x="61" y="131"/>
                    </a:lnTo>
                    <a:lnTo>
                      <a:pt x="61" y="122"/>
                    </a:lnTo>
                    <a:lnTo>
                      <a:pt x="61" y="122"/>
                    </a:lnTo>
                    <a:lnTo>
                      <a:pt x="61" y="113"/>
                    </a:lnTo>
                    <a:lnTo>
                      <a:pt x="61" y="105"/>
                    </a:lnTo>
                    <a:lnTo>
                      <a:pt x="61" y="105"/>
                    </a:lnTo>
                    <a:lnTo>
                      <a:pt x="61" y="105"/>
                    </a:lnTo>
                    <a:lnTo>
                      <a:pt x="70" y="96"/>
                    </a:lnTo>
                    <a:lnTo>
                      <a:pt x="70" y="96"/>
                    </a:lnTo>
                    <a:lnTo>
                      <a:pt x="79" y="96"/>
                    </a:lnTo>
                    <a:lnTo>
                      <a:pt x="79" y="96"/>
                    </a:lnTo>
                    <a:lnTo>
                      <a:pt x="88" y="96"/>
                    </a:lnTo>
                    <a:lnTo>
                      <a:pt x="88" y="87"/>
                    </a:lnTo>
                    <a:lnTo>
                      <a:pt x="96" y="87"/>
                    </a:lnTo>
                    <a:lnTo>
                      <a:pt x="96" y="87"/>
                    </a:lnTo>
                    <a:lnTo>
                      <a:pt x="105" y="87"/>
                    </a:lnTo>
                    <a:lnTo>
                      <a:pt x="105" y="78"/>
                    </a:lnTo>
                    <a:close/>
                  </a:path>
                </a:pathLst>
              </a:custGeom>
              <a:solidFill>
                <a:srgbClr val="ffcccc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209320" y="2627640"/>
                <a:ext cx="542520" cy="471960"/>
              </a:xfrm>
              <a:custGeom>
                <a:avLst/>
                <a:gdLst/>
                <a:ahLst/>
                <a:rect l="l" t="t" r="r" b="b"/>
                <a:pathLst>
                  <a:path w="253" h="262">
                    <a:moveTo>
                      <a:pt x="0" y="209"/>
                    </a:moveTo>
                    <a:lnTo>
                      <a:pt x="0" y="262"/>
                    </a:lnTo>
                    <a:lnTo>
                      <a:pt x="253" y="262"/>
                    </a:lnTo>
                    <a:lnTo>
                      <a:pt x="253" y="0"/>
                    </a:lnTo>
                    <a:lnTo>
                      <a:pt x="235" y="0"/>
                    </a:lnTo>
                    <a:lnTo>
                      <a:pt x="227" y="9"/>
                    </a:lnTo>
                    <a:lnTo>
                      <a:pt x="227" y="9"/>
                    </a:lnTo>
                    <a:lnTo>
                      <a:pt x="235" y="18"/>
                    </a:lnTo>
                    <a:lnTo>
                      <a:pt x="235" y="18"/>
                    </a:lnTo>
                    <a:lnTo>
                      <a:pt x="235" y="26"/>
                    </a:lnTo>
                    <a:lnTo>
                      <a:pt x="235" y="35"/>
                    </a:lnTo>
                    <a:lnTo>
                      <a:pt x="235" y="35"/>
                    </a:lnTo>
                    <a:lnTo>
                      <a:pt x="235" y="44"/>
                    </a:lnTo>
                    <a:lnTo>
                      <a:pt x="235" y="44"/>
                    </a:lnTo>
                    <a:lnTo>
                      <a:pt x="227" y="52"/>
                    </a:lnTo>
                    <a:lnTo>
                      <a:pt x="227" y="52"/>
                    </a:lnTo>
                    <a:lnTo>
                      <a:pt x="227" y="61"/>
                    </a:lnTo>
                    <a:lnTo>
                      <a:pt x="218" y="61"/>
                    </a:lnTo>
                    <a:lnTo>
                      <a:pt x="218" y="61"/>
                    </a:lnTo>
                    <a:lnTo>
                      <a:pt x="218" y="61"/>
                    </a:lnTo>
                    <a:lnTo>
                      <a:pt x="209" y="61"/>
                    </a:lnTo>
                    <a:lnTo>
                      <a:pt x="201" y="61"/>
                    </a:lnTo>
                    <a:lnTo>
                      <a:pt x="201" y="61"/>
                    </a:lnTo>
                    <a:lnTo>
                      <a:pt x="192" y="61"/>
                    </a:lnTo>
                    <a:lnTo>
                      <a:pt x="192" y="61"/>
                    </a:lnTo>
                    <a:lnTo>
                      <a:pt x="183" y="52"/>
                    </a:lnTo>
                    <a:lnTo>
                      <a:pt x="183" y="52"/>
                    </a:lnTo>
                    <a:lnTo>
                      <a:pt x="183" y="44"/>
                    </a:lnTo>
                    <a:lnTo>
                      <a:pt x="183" y="44"/>
                    </a:lnTo>
                    <a:lnTo>
                      <a:pt x="183" y="35"/>
                    </a:lnTo>
                    <a:lnTo>
                      <a:pt x="183" y="35"/>
                    </a:lnTo>
                    <a:lnTo>
                      <a:pt x="183" y="26"/>
                    </a:lnTo>
                    <a:lnTo>
                      <a:pt x="183" y="26"/>
                    </a:lnTo>
                    <a:lnTo>
                      <a:pt x="183" y="18"/>
                    </a:lnTo>
                    <a:lnTo>
                      <a:pt x="183" y="18"/>
                    </a:lnTo>
                    <a:lnTo>
                      <a:pt x="183" y="9"/>
                    </a:lnTo>
                    <a:lnTo>
                      <a:pt x="183" y="9"/>
                    </a:lnTo>
                    <a:lnTo>
                      <a:pt x="183" y="0"/>
                    </a:lnTo>
                    <a:lnTo>
                      <a:pt x="139" y="0"/>
                    </a:lnTo>
                    <a:lnTo>
                      <a:pt x="139" y="9"/>
                    </a:lnTo>
                    <a:lnTo>
                      <a:pt x="139" y="18"/>
                    </a:lnTo>
                    <a:lnTo>
                      <a:pt x="139" y="26"/>
                    </a:lnTo>
                    <a:lnTo>
                      <a:pt x="139" y="26"/>
                    </a:lnTo>
                    <a:lnTo>
                      <a:pt x="139" y="35"/>
                    </a:lnTo>
                    <a:lnTo>
                      <a:pt x="139" y="35"/>
                    </a:lnTo>
                    <a:lnTo>
                      <a:pt x="139" y="44"/>
                    </a:lnTo>
                    <a:lnTo>
                      <a:pt x="139" y="44"/>
                    </a:lnTo>
                    <a:lnTo>
                      <a:pt x="131" y="44"/>
                    </a:lnTo>
                    <a:lnTo>
                      <a:pt x="131" y="52"/>
                    </a:lnTo>
                    <a:lnTo>
                      <a:pt x="131" y="52"/>
                    </a:lnTo>
                    <a:lnTo>
                      <a:pt x="122" y="52"/>
                    </a:lnTo>
                    <a:lnTo>
                      <a:pt x="122" y="52"/>
                    </a:lnTo>
                    <a:lnTo>
                      <a:pt x="122" y="52"/>
                    </a:lnTo>
                    <a:lnTo>
                      <a:pt x="113" y="52"/>
                    </a:lnTo>
                    <a:lnTo>
                      <a:pt x="113" y="52"/>
                    </a:lnTo>
                    <a:lnTo>
                      <a:pt x="105" y="52"/>
                    </a:lnTo>
                    <a:lnTo>
                      <a:pt x="105" y="52"/>
                    </a:lnTo>
                    <a:lnTo>
                      <a:pt x="105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9"/>
                    </a:lnTo>
                    <a:lnTo>
                      <a:pt x="78" y="79"/>
                    </a:lnTo>
                    <a:lnTo>
                      <a:pt x="78" y="87"/>
                    </a:lnTo>
                    <a:lnTo>
                      <a:pt x="78" y="87"/>
                    </a:lnTo>
                    <a:lnTo>
                      <a:pt x="78" y="87"/>
                    </a:lnTo>
                    <a:lnTo>
                      <a:pt x="78" y="96"/>
                    </a:lnTo>
                    <a:lnTo>
                      <a:pt x="70" y="96"/>
                    </a:lnTo>
                    <a:lnTo>
                      <a:pt x="70" y="96"/>
                    </a:lnTo>
                    <a:lnTo>
                      <a:pt x="70" y="105"/>
                    </a:lnTo>
                    <a:lnTo>
                      <a:pt x="61" y="105"/>
                    </a:lnTo>
                    <a:lnTo>
                      <a:pt x="61" y="105"/>
                    </a:lnTo>
                    <a:lnTo>
                      <a:pt x="61" y="105"/>
                    </a:lnTo>
                    <a:lnTo>
                      <a:pt x="52" y="105"/>
                    </a:lnTo>
                    <a:lnTo>
                      <a:pt x="52" y="105"/>
                    </a:lnTo>
                    <a:lnTo>
                      <a:pt x="44" y="105"/>
                    </a:lnTo>
                    <a:lnTo>
                      <a:pt x="44" y="114"/>
                    </a:lnTo>
                    <a:lnTo>
                      <a:pt x="35" y="114"/>
                    </a:lnTo>
                    <a:lnTo>
                      <a:pt x="35" y="114"/>
                    </a:lnTo>
                    <a:lnTo>
                      <a:pt x="35" y="114"/>
                    </a:lnTo>
                    <a:lnTo>
                      <a:pt x="35" y="122"/>
                    </a:lnTo>
                    <a:lnTo>
                      <a:pt x="26" y="122"/>
                    </a:lnTo>
                    <a:lnTo>
                      <a:pt x="26" y="122"/>
                    </a:lnTo>
                    <a:lnTo>
                      <a:pt x="26" y="131"/>
                    </a:lnTo>
                    <a:lnTo>
                      <a:pt x="26" y="140"/>
                    </a:lnTo>
                    <a:lnTo>
                      <a:pt x="26" y="140"/>
                    </a:lnTo>
                    <a:lnTo>
                      <a:pt x="26" y="148"/>
                    </a:lnTo>
                    <a:lnTo>
                      <a:pt x="35" y="148"/>
                    </a:lnTo>
                    <a:lnTo>
                      <a:pt x="35" y="157"/>
                    </a:lnTo>
                    <a:lnTo>
                      <a:pt x="35" y="157"/>
                    </a:lnTo>
                    <a:lnTo>
                      <a:pt x="35" y="166"/>
                    </a:lnTo>
                    <a:lnTo>
                      <a:pt x="35" y="166"/>
                    </a:lnTo>
                    <a:lnTo>
                      <a:pt x="35" y="175"/>
                    </a:lnTo>
                    <a:lnTo>
                      <a:pt x="26" y="175"/>
                    </a:lnTo>
                    <a:lnTo>
                      <a:pt x="26" y="183"/>
                    </a:lnTo>
                    <a:lnTo>
                      <a:pt x="26" y="183"/>
                    </a:lnTo>
                    <a:lnTo>
                      <a:pt x="26" y="192"/>
                    </a:lnTo>
                    <a:lnTo>
                      <a:pt x="26" y="192"/>
                    </a:lnTo>
                    <a:lnTo>
                      <a:pt x="17" y="201"/>
                    </a:lnTo>
                    <a:lnTo>
                      <a:pt x="17" y="201"/>
                    </a:lnTo>
                    <a:lnTo>
                      <a:pt x="17" y="201"/>
                    </a:lnTo>
                    <a:lnTo>
                      <a:pt x="9" y="201"/>
                    </a:lnTo>
                    <a:lnTo>
                      <a:pt x="9" y="209"/>
                    </a:lnTo>
                    <a:lnTo>
                      <a:pt x="0" y="209"/>
                    </a:lnTo>
                    <a:lnTo>
                      <a:pt x="0" y="209"/>
                    </a:lnTo>
                    <a:close/>
                  </a:path>
                </a:pathLst>
              </a:custGeom>
              <a:solidFill>
                <a:srgbClr val="009999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153160" y="2123640"/>
                <a:ext cx="74700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31080" y="212220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dadada"/>
                    </a:solidFill>
                    <a:latin typeface="Arial Narrow"/>
                  </a:rPr>
                  <a:t>?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11800" y="2257920"/>
                <a:ext cx="284040" cy="17316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711800" y="2697840"/>
                <a:ext cx="284040" cy="17496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12040" y="2508840"/>
                <a:ext cx="356400" cy="17352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61920" y="2384280"/>
                <a:ext cx="282240" cy="17316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861920" y="2697840"/>
                <a:ext cx="357840" cy="29808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2312280" y="2508840"/>
                <a:ext cx="353880" cy="551160"/>
                <a:chOff x="2312280" y="2508840"/>
                <a:chExt cx="353880" cy="5511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312280" y="2760840"/>
                  <a:ext cx="279720" cy="17496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384640" y="2887200"/>
                  <a:ext cx="281520" cy="17280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84640" y="2508840"/>
                  <a:ext cx="207000" cy="23760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3279600" y="971640"/>
              <a:ext cx="799920" cy="3313800"/>
              <a:chOff x="3279600" y="971640"/>
              <a:chExt cx="799920" cy="3313800"/>
            </a:xfrm>
          </p:grpSpPr>
          <p:sp>
            <p:nvSpPr>
              <p:cNvPr id="448" name=""/>
              <p:cNvSpPr/>
              <p:nvPr/>
            </p:nvSpPr>
            <p:spPr>
              <a:xfrm>
                <a:off x="3336120" y="971640"/>
                <a:ext cx="36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336120" y="2595960"/>
                <a:ext cx="36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336120" y="3465720"/>
                <a:ext cx="36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3279600" y="1132200"/>
                <a:ext cx="799920" cy="625680"/>
                <a:chOff x="3279600" y="1132200"/>
                <a:chExt cx="799920" cy="6256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3279600" y="1142280"/>
                  <a:ext cx="799920" cy="615600"/>
                </a:xfrm>
                <a:custGeom>
                  <a:avLst/>
                  <a:gdLst/>
                  <a:ahLst/>
                  <a:rect l="l" t="t" r="r" b="b"/>
                  <a:pathLst>
                    <a:path w="393" h="358">
                      <a:moveTo>
                        <a:pt x="393" y="87"/>
                      </a:moveTo>
                      <a:lnTo>
                        <a:pt x="393" y="0"/>
                      </a:lnTo>
                      <a:lnTo>
                        <a:pt x="0" y="0"/>
                      </a:lnTo>
                      <a:lnTo>
                        <a:pt x="0" y="358"/>
                      </a:lnTo>
                      <a:lnTo>
                        <a:pt x="35" y="358"/>
                      </a:lnTo>
                      <a:lnTo>
                        <a:pt x="35" y="349"/>
                      </a:lnTo>
                      <a:lnTo>
                        <a:pt x="35" y="340"/>
                      </a:lnTo>
                      <a:lnTo>
                        <a:pt x="35" y="340"/>
                      </a:lnTo>
                      <a:lnTo>
                        <a:pt x="35" y="332"/>
                      </a:lnTo>
                      <a:lnTo>
                        <a:pt x="26" y="323"/>
                      </a:lnTo>
                      <a:lnTo>
                        <a:pt x="26" y="314"/>
                      </a:lnTo>
                      <a:lnTo>
                        <a:pt x="26" y="305"/>
                      </a:lnTo>
                      <a:lnTo>
                        <a:pt x="26" y="305"/>
                      </a:lnTo>
                      <a:lnTo>
                        <a:pt x="35" y="297"/>
                      </a:lnTo>
                      <a:lnTo>
                        <a:pt x="35" y="288"/>
                      </a:lnTo>
                      <a:lnTo>
                        <a:pt x="35" y="288"/>
                      </a:lnTo>
                      <a:lnTo>
                        <a:pt x="44" y="279"/>
                      </a:lnTo>
                      <a:lnTo>
                        <a:pt x="53" y="279"/>
                      </a:lnTo>
                      <a:lnTo>
                        <a:pt x="53" y="271"/>
                      </a:lnTo>
                      <a:lnTo>
                        <a:pt x="61" y="271"/>
                      </a:lnTo>
                      <a:lnTo>
                        <a:pt x="70" y="271"/>
                      </a:lnTo>
                      <a:lnTo>
                        <a:pt x="79" y="271"/>
                      </a:lnTo>
                      <a:lnTo>
                        <a:pt x="87" y="271"/>
                      </a:lnTo>
                      <a:lnTo>
                        <a:pt x="87" y="279"/>
                      </a:lnTo>
                      <a:lnTo>
                        <a:pt x="96" y="279"/>
                      </a:lnTo>
                      <a:lnTo>
                        <a:pt x="105" y="288"/>
                      </a:lnTo>
                      <a:lnTo>
                        <a:pt x="105" y="288"/>
                      </a:lnTo>
                      <a:lnTo>
                        <a:pt x="114" y="297"/>
                      </a:lnTo>
                      <a:lnTo>
                        <a:pt x="114" y="305"/>
                      </a:lnTo>
                      <a:lnTo>
                        <a:pt x="114" y="305"/>
                      </a:lnTo>
                      <a:lnTo>
                        <a:pt x="114" y="314"/>
                      </a:lnTo>
                      <a:lnTo>
                        <a:pt x="114" y="323"/>
                      </a:lnTo>
                      <a:lnTo>
                        <a:pt x="114" y="323"/>
                      </a:lnTo>
                      <a:lnTo>
                        <a:pt x="114" y="332"/>
                      </a:lnTo>
                      <a:lnTo>
                        <a:pt x="105" y="340"/>
                      </a:lnTo>
                      <a:lnTo>
                        <a:pt x="105" y="340"/>
                      </a:lnTo>
                      <a:lnTo>
                        <a:pt x="105" y="349"/>
                      </a:lnTo>
                      <a:lnTo>
                        <a:pt x="105" y="358"/>
                      </a:lnTo>
                      <a:lnTo>
                        <a:pt x="175" y="358"/>
                      </a:lnTo>
                      <a:lnTo>
                        <a:pt x="175" y="340"/>
                      </a:lnTo>
                      <a:lnTo>
                        <a:pt x="175" y="332"/>
                      </a:lnTo>
                      <a:lnTo>
                        <a:pt x="175" y="323"/>
                      </a:lnTo>
                      <a:lnTo>
                        <a:pt x="175" y="323"/>
                      </a:lnTo>
                      <a:lnTo>
                        <a:pt x="175" y="314"/>
                      </a:lnTo>
                      <a:lnTo>
                        <a:pt x="175" y="305"/>
                      </a:lnTo>
                      <a:lnTo>
                        <a:pt x="183" y="305"/>
                      </a:lnTo>
                      <a:lnTo>
                        <a:pt x="183" y="297"/>
                      </a:lnTo>
                      <a:lnTo>
                        <a:pt x="183" y="297"/>
                      </a:lnTo>
                      <a:lnTo>
                        <a:pt x="192" y="288"/>
                      </a:lnTo>
                      <a:lnTo>
                        <a:pt x="192" y="288"/>
                      </a:lnTo>
                      <a:lnTo>
                        <a:pt x="201" y="288"/>
                      </a:lnTo>
                      <a:lnTo>
                        <a:pt x="201" y="288"/>
                      </a:lnTo>
                      <a:lnTo>
                        <a:pt x="210" y="288"/>
                      </a:lnTo>
                      <a:lnTo>
                        <a:pt x="210" y="288"/>
                      </a:lnTo>
                      <a:lnTo>
                        <a:pt x="218" y="288"/>
                      </a:lnTo>
                      <a:lnTo>
                        <a:pt x="227" y="288"/>
                      </a:lnTo>
                      <a:lnTo>
                        <a:pt x="227" y="288"/>
                      </a:lnTo>
                      <a:lnTo>
                        <a:pt x="236" y="288"/>
                      </a:lnTo>
                      <a:lnTo>
                        <a:pt x="244" y="288"/>
                      </a:lnTo>
                      <a:lnTo>
                        <a:pt x="244" y="288"/>
                      </a:lnTo>
                      <a:lnTo>
                        <a:pt x="253" y="288"/>
                      </a:lnTo>
                      <a:lnTo>
                        <a:pt x="262" y="288"/>
                      </a:lnTo>
                      <a:lnTo>
                        <a:pt x="262" y="279"/>
                      </a:lnTo>
                      <a:lnTo>
                        <a:pt x="271" y="279"/>
                      </a:lnTo>
                      <a:lnTo>
                        <a:pt x="271" y="271"/>
                      </a:lnTo>
                      <a:lnTo>
                        <a:pt x="271" y="271"/>
                      </a:lnTo>
                      <a:lnTo>
                        <a:pt x="271" y="262"/>
                      </a:lnTo>
                      <a:lnTo>
                        <a:pt x="271" y="253"/>
                      </a:lnTo>
                      <a:lnTo>
                        <a:pt x="271" y="253"/>
                      </a:lnTo>
                      <a:lnTo>
                        <a:pt x="271" y="244"/>
                      </a:lnTo>
                      <a:lnTo>
                        <a:pt x="271" y="236"/>
                      </a:lnTo>
                      <a:lnTo>
                        <a:pt x="271" y="236"/>
                      </a:lnTo>
                      <a:lnTo>
                        <a:pt x="279" y="227"/>
                      </a:lnTo>
                      <a:lnTo>
                        <a:pt x="279" y="227"/>
                      </a:lnTo>
                      <a:lnTo>
                        <a:pt x="279" y="218"/>
                      </a:lnTo>
                      <a:lnTo>
                        <a:pt x="288" y="218"/>
                      </a:lnTo>
                      <a:lnTo>
                        <a:pt x="297" y="218"/>
                      </a:lnTo>
                      <a:lnTo>
                        <a:pt x="297" y="218"/>
                      </a:lnTo>
                      <a:lnTo>
                        <a:pt x="305" y="218"/>
                      </a:lnTo>
                      <a:lnTo>
                        <a:pt x="314" y="218"/>
                      </a:lnTo>
                      <a:lnTo>
                        <a:pt x="314" y="209"/>
                      </a:lnTo>
                      <a:lnTo>
                        <a:pt x="323" y="209"/>
                      </a:lnTo>
                      <a:lnTo>
                        <a:pt x="332" y="209"/>
                      </a:lnTo>
                      <a:lnTo>
                        <a:pt x="332" y="209"/>
                      </a:lnTo>
                      <a:lnTo>
                        <a:pt x="340" y="201"/>
                      </a:lnTo>
                      <a:lnTo>
                        <a:pt x="340" y="201"/>
                      </a:lnTo>
                      <a:lnTo>
                        <a:pt x="340" y="192"/>
                      </a:lnTo>
                      <a:lnTo>
                        <a:pt x="349" y="192"/>
                      </a:lnTo>
                      <a:lnTo>
                        <a:pt x="349" y="183"/>
                      </a:lnTo>
                      <a:lnTo>
                        <a:pt x="349" y="183"/>
                      </a:lnTo>
                      <a:lnTo>
                        <a:pt x="349" y="175"/>
                      </a:lnTo>
                      <a:lnTo>
                        <a:pt x="349" y="166"/>
                      </a:lnTo>
                      <a:lnTo>
                        <a:pt x="349" y="157"/>
                      </a:lnTo>
                      <a:lnTo>
                        <a:pt x="340" y="148"/>
                      </a:lnTo>
                      <a:lnTo>
                        <a:pt x="340" y="148"/>
                      </a:lnTo>
                      <a:lnTo>
                        <a:pt x="340" y="140"/>
                      </a:lnTo>
                      <a:lnTo>
                        <a:pt x="340" y="131"/>
                      </a:lnTo>
                      <a:lnTo>
                        <a:pt x="340" y="131"/>
                      </a:lnTo>
                      <a:lnTo>
                        <a:pt x="340" y="122"/>
                      </a:lnTo>
                      <a:lnTo>
                        <a:pt x="349" y="113"/>
                      </a:lnTo>
                      <a:lnTo>
                        <a:pt x="349" y="113"/>
                      </a:lnTo>
                      <a:lnTo>
                        <a:pt x="349" y="105"/>
                      </a:lnTo>
                      <a:lnTo>
                        <a:pt x="358" y="105"/>
                      </a:lnTo>
                      <a:lnTo>
                        <a:pt x="358" y="96"/>
                      </a:lnTo>
                      <a:lnTo>
                        <a:pt x="367" y="96"/>
                      </a:lnTo>
                      <a:lnTo>
                        <a:pt x="367" y="96"/>
                      </a:lnTo>
                      <a:lnTo>
                        <a:pt x="375" y="87"/>
                      </a:lnTo>
                      <a:lnTo>
                        <a:pt x="384" y="87"/>
                      </a:lnTo>
                      <a:lnTo>
                        <a:pt x="384" y="87"/>
                      </a:lnTo>
                      <a:lnTo>
                        <a:pt x="393" y="8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349800" y="1132200"/>
                  <a:ext cx="348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333399"/>
                      </a:solidFill>
                      <a:latin typeface="Arial Narrow"/>
                    </a:rPr>
                    <a:t>  </a:t>
                  </a:r>
                  <a:r>
                    <a:rPr b="1" lang="en-US" sz="3000" spc="-1" strike="noStrike">
                      <a:solidFill>
                        <a:srgbClr val="333399"/>
                      </a:solidFill>
                      <a:latin typeface="Arial Narrow"/>
                    </a:rPr>
                    <a:t>$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3324240" y="1193400"/>
                  <a:ext cx="621720" cy="408240"/>
                  <a:chOff x="3324240" y="1193400"/>
                  <a:chExt cx="621720" cy="40824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3535200" y="1358640"/>
                    <a:ext cx="410760" cy="243000"/>
                  </a:xfrm>
                  <a:prstGeom prst="ellipse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3324240" y="1193400"/>
                    <a:ext cx="408600" cy="242640"/>
                  </a:xfrm>
                  <a:prstGeom prst="ellipse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3292200" y="1894680"/>
                <a:ext cx="772560" cy="726120"/>
                <a:chOff x="3292200" y="1894680"/>
                <a:chExt cx="772560" cy="7261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3292200" y="1894680"/>
                  <a:ext cx="772560" cy="695160"/>
                </a:xfrm>
                <a:custGeom>
                  <a:avLst/>
                  <a:gdLst/>
                  <a:ahLst/>
                  <a:rect l="l" t="t" r="r" b="b"/>
                  <a:pathLst>
                    <a:path w="393" h="419">
                      <a:moveTo>
                        <a:pt x="393" y="349"/>
                      </a:moveTo>
                      <a:lnTo>
                        <a:pt x="393" y="419"/>
                      </a:lnTo>
                      <a:lnTo>
                        <a:pt x="0" y="419"/>
                      </a:lnTo>
                      <a:lnTo>
                        <a:pt x="0" y="87"/>
                      </a:lnTo>
                      <a:lnTo>
                        <a:pt x="35" y="87"/>
                      </a:lnTo>
                      <a:lnTo>
                        <a:pt x="35" y="78"/>
                      </a:lnTo>
                      <a:lnTo>
                        <a:pt x="35" y="78"/>
                      </a:lnTo>
                      <a:lnTo>
                        <a:pt x="35" y="70"/>
                      </a:lnTo>
                      <a:lnTo>
                        <a:pt x="35" y="70"/>
                      </a:lnTo>
                      <a:lnTo>
                        <a:pt x="35" y="61"/>
                      </a:lnTo>
                      <a:lnTo>
                        <a:pt x="35" y="61"/>
                      </a:lnTo>
                      <a:lnTo>
                        <a:pt x="26" y="52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35"/>
                      </a:lnTo>
                      <a:lnTo>
                        <a:pt x="26" y="35"/>
                      </a:lnTo>
                      <a:lnTo>
                        <a:pt x="26" y="26"/>
                      </a:lnTo>
                      <a:lnTo>
                        <a:pt x="35" y="26"/>
                      </a:lnTo>
                      <a:lnTo>
                        <a:pt x="35" y="17"/>
                      </a:lnTo>
                      <a:lnTo>
                        <a:pt x="35" y="17"/>
                      </a:lnTo>
                      <a:lnTo>
                        <a:pt x="44" y="9"/>
                      </a:lnTo>
                      <a:lnTo>
                        <a:pt x="44" y="9"/>
                      </a:lnTo>
                      <a:lnTo>
                        <a:pt x="53" y="0"/>
                      </a:lnTo>
                      <a:lnTo>
                        <a:pt x="53" y="0"/>
                      </a:lnTo>
                      <a:lnTo>
                        <a:pt x="61" y="0"/>
                      </a:lnTo>
                      <a:lnTo>
                        <a:pt x="70" y="0"/>
                      </a:lnTo>
                      <a:lnTo>
                        <a:pt x="70" y="0"/>
                      </a:lnTo>
                      <a:lnTo>
                        <a:pt x="79" y="0"/>
                      </a:lnTo>
                      <a:lnTo>
                        <a:pt x="79" y="0"/>
                      </a:lnTo>
                      <a:lnTo>
                        <a:pt x="87" y="0"/>
                      </a:lnTo>
                      <a:lnTo>
                        <a:pt x="87" y="0"/>
                      </a:lnTo>
                      <a:lnTo>
                        <a:pt x="96" y="0"/>
                      </a:lnTo>
                      <a:lnTo>
                        <a:pt x="96" y="9"/>
                      </a:lnTo>
                      <a:lnTo>
                        <a:pt x="96" y="9"/>
                      </a:lnTo>
                      <a:lnTo>
                        <a:pt x="105" y="9"/>
                      </a:lnTo>
                      <a:lnTo>
                        <a:pt x="105" y="17"/>
                      </a:lnTo>
                      <a:lnTo>
                        <a:pt x="114" y="17"/>
                      </a:lnTo>
                      <a:lnTo>
                        <a:pt x="114" y="26"/>
                      </a:lnTo>
                      <a:lnTo>
                        <a:pt x="114" y="35"/>
                      </a:lnTo>
                      <a:lnTo>
                        <a:pt x="114" y="35"/>
                      </a:lnTo>
                      <a:lnTo>
                        <a:pt x="114" y="44"/>
                      </a:lnTo>
                      <a:lnTo>
                        <a:pt x="114" y="52"/>
                      </a:lnTo>
                      <a:lnTo>
                        <a:pt x="114" y="52"/>
                      </a:lnTo>
                      <a:lnTo>
                        <a:pt x="114" y="61"/>
                      </a:lnTo>
                      <a:lnTo>
                        <a:pt x="114" y="70"/>
                      </a:lnTo>
                      <a:lnTo>
                        <a:pt x="105" y="70"/>
                      </a:lnTo>
                      <a:lnTo>
                        <a:pt x="105" y="78"/>
                      </a:lnTo>
                      <a:lnTo>
                        <a:pt x="114" y="78"/>
                      </a:lnTo>
                      <a:lnTo>
                        <a:pt x="114" y="78"/>
                      </a:lnTo>
                      <a:lnTo>
                        <a:pt x="175" y="78"/>
                      </a:lnTo>
                      <a:lnTo>
                        <a:pt x="175" y="96"/>
                      </a:lnTo>
                      <a:lnTo>
                        <a:pt x="175" y="105"/>
                      </a:lnTo>
                      <a:lnTo>
                        <a:pt x="175" y="113"/>
                      </a:lnTo>
                      <a:lnTo>
                        <a:pt x="175" y="113"/>
                      </a:lnTo>
                      <a:lnTo>
                        <a:pt x="175" y="122"/>
                      </a:lnTo>
                      <a:lnTo>
                        <a:pt x="175" y="131"/>
                      </a:lnTo>
                      <a:lnTo>
                        <a:pt x="175" y="139"/>
                      </a:lnTo>
                      <a:lnTo>
                        <a:pt x="183" y="139"/>
                      </a:lnTo>
                      <a:lnTo>
                        <a:pt x="183" y="139"/>
                      </a:lnTo>
                      <a:lnTo>
                        <a:pt x="192" y="148"/>
                      </a:lnTo>
                      <a:lnTo>
                        <a:pt x="192" y="148"/>
                      </a:lnTo>
                      <a:lnTo>
                        <a:pt x="201" y="148"/>
                      </a:lnTo>
                      <a:lnTo>
                        <a:pt x="201" y="148"/>
                      </a:lnTo>
                      <a:lnTo>
                        <a:pt x="210" y="148"/>
                      </a:lnTo>
                      <a:lnTo>
                        <a:pt x="210" y="148"/>
                      </a:lnTo>
                      <a:lnTo>
                        <a:pt x="218" y="148"/>
                      </a:lnTo>
                      <a:lnTo>
                        <a:pt x="227" y="148"/>
                      </a:lnTo>
                      <a:lnTo>
                        <a:pt x="227" y="148"/>
                      </a:lnTo>
                      <a:lnTo>
                        <a:pt x="236" y="148"/>
                      </a:lnTo>
                      <a:lnTo>
                        <a:pt x="244" y="148"/>
                      </a:lnTo>
                      <a:lnTo>
                        <a:pt x="244" y="148"/>
                      </a:lnTo>
                      <a:lnTo>
                        <a:pt x="253" y="148"/>
                      </a:lnTo>
                      <a:lnTo>
                        <a:pt x="262" y="148"/>
                      </a:lnTo>
                      <a:lnTo>
                        <a:pt x="262" y="157"/>
                      </a:lnTo>
                      <a:lnTo>
                        <a:pt x="271" y="157"/>
                      </a:lnTo>
                      <a:lnTo>
                        <a:pt x="271" y="166"/>
                      </a:lnTo>
                      <a:lnTo>
                        <a:pt x="271" y="166"/>
                      </a:lnTo>
                      <a:lnTo>
                        <a:pt x="271" y="174"/>
                      </a:lnTo>
                      <a:lnTo>
                        <a:pt x="271" y="183"/>
                      </a:lnTo>
                      <a:lnTo>
                        <a:pt x="271" y="183"/>
                      </a:lnTo>
                      <a:lnTo>
                        <a:pt x="271" y="192"/>
                      </a:lnTo>
                      <a:lnTo>
                        <a:pt x="271" y="201"/>
                      </a:lnTo>
                      <a:lnTo>
                        <a:pt x="271" y="201"/>
                      </a:lnTo>
                      <a:lnTo>
                        <a:pt x="279" y="209"/>
                      </a:lnTo>
                      <a:lnTo>
                        <a:pt x="279" y="209"/>
                      </a:lnTo>
                      <a:lnTo>
                        <a:pt x="279" y="218"/>
                      </a:lnTo>
                      <a:lnTo>
                        <a:pt x="288" y="218"/>
                      </a:lnTo>
                      <a:lnTo>
                        <a:pt x="297" y="218"/>
                      </a:lnTo>
                      <a:lnTo>
                        <a:pt x="297" y="218"/>
                      </a:lnTo>
                      <a:lnTo>
                        <a:pt x="305" y="218"/>
                      </a:lnTo>
                      <a:lnTo>
                        <a:pt x="314" y="227"/>
                      </a:lnTo>
                      <a:lnTo>
                        <a:pt x="314" y="227"/>
                      </a:lnTo>
                      <a:lnTo>
                        <a:pt x="323" y="227"/>
                      </a:lnTo>
                      <a:lnTo>
                        <a:pt x="332" y="227"/>
                      </a:lnTo>
                      <a:lnTo>
                        <a:pt x="332" y="227"/>
                      </a:lnTo>
                      <a:lnTo>
                        <a:pt x="340" y="235"/>
                      </a:lnTo>
                      <a:lnTo>
                        <a:pt x="340" y="235"/>
                      </a:lnTo>
                      <a:lnTo>
                        <a:pt x="340" y="244"/>
                      </a:lnTo>
                      <a:lnTo>
                        <a:pt x="349" y="244"/>
                      </a:lnTo>
                      <a:lnTo>
                        <a:pt x="349" y="253"/>
                      </a:lnTo>
                      <a:lnTo>
                        <a:pt x="349" y="262"/>
                      </a:lnTo>
                      <a:lnTo>
                        <a:pt x="349" y="262"/>
                      </a:lnTo>
                      <a:lnTo>
                        <a:pt x="349" y="270"/>
                      </a:lnTo>
                      <a:lnTo>
                        <a:pt x="349" y="279"/>
                      </a:lnTo>
                      <a:lnTo>
                        <a:pt x="340" y="288"/>
                      </a:lnTo>
                      <a:lnTo>
                        <a:pt x="340" y="288"/>
                      </a:lnTo>
                      <a:lnTo>
                        <a:pt x="340" y="296"/>
                      </a:lnTo>
                      <a:lnTo>
                        <a:pt x="340" y="305"/>
                      </a:lnTo>
                      <a:lnTo>
                        <a:pt x="340" y="314"/>
                      </a:lnTo>
                      <a:lnTo>
                        <a:pt x="340" y="314"/>
                      </a:lnTo>
                      <a:lnTo>
                        <a:pt x="349" y="323"/>
                      </a:lnTo>
                      <a:lnTo>
                        <a:pt x="349" y="323"/>
                      </a:lnTo>
                      <a:lnTo>
                        <a:pt x="349" y="331"/>
                      </a:lnTo>
                      <a:lnTo>
                        <a:pt x="358" y="331"/>
                      </a:lnTo>
                      <a:lnTo>
                        <a:pt x="358" y="340"/>
                      </a:lnTo>
                      <a:lnTo>
                        <a:pt x="367" y="340"/>
                      </a:lnTo>
                      <a:lnTo>
                        <a:pt x="367" y="340"/>
                      </a:lnTo>
                      <a:lnTo>
                        <a:pt x="375" y="349"/>
                      </a:lnTo>
                      <a:lnTo>
                        <a:pt x="384" y="349"/>
                      </a:lnTo>
                      <a:lnTo>
                        <a:pt x="384" y="349"/>
                      </a:lnTo>
                      <a:lnTo>
                        <a:pt x="393" y="349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431520" y="2163600"/>
                  <a:ext cx="261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99"/>
                      </a:solidFill>
                      <a:latin typeface="Arial Narrow"/>
                    </a:rPr>
                    <a:t> </a:t>
                  </a:r>
                  <a:r>
                    <a:rPr b="1" lang="en-US" sz="3000" spc="-1" strike="noStrike">
                      <a:solidFill>
                        <a:srgbClr val="000099"/>
                      </a:solidFill>
                      <a:latin typeface="Arial Narrow"/>
                    </a:rPr>
                    <a:t>$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3335400" y="2113200"/>
                  <a:ext cx="670680" cy="392040"/>
                  <a:chOff x="3335400" y="2113200"/>
                  <a:chExt cx="670680" cy="39204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3524040" y="2113200"/>
                    <a:ext cx="482040" cy="392040"/>
                  </a:xfrm>
                  <a:prstGeom prst="ellipse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3335400" y="2113200"/>
                    <a:ext cx="377640" cy="233280"/>
                  </a:xfrm>
                  <a:prstGeom prst="ellipse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3309120" y="2750040"/>
                <a:ext cx="739080" cy="726120"/>
                <a:chOff x="3309120" y="2750040"/>
                <a:chExt cx="739080" cy="7261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309120" y="2750040"/>
                  <a:ext cx="716040" cy="726120"/>
                </a:xfrm>
                <a:custGeom>
                  <a:avLst/>
                  <a:gdLst/>
                  <a:ahLst/>
                  <a:rect l="l" t="t" r="r" b="b"/>
                  <a:pathLst>
                    <a:path w="436" h="523">
                      <a:moveTo>
                        <a:pt x="166" y="113"/>
                      </a:moveTo>
                      <a:lnTo>
                        <a:pt x="166" y="105"/>
                      </a:lnTo>
                      <a:lnTo>
                        <a:pt x="175" y="96"/>
                      </a:lnTo>
                      <a:lnTo>
                        <a:pt x="175" y="96"/>
                      </a:lnTo>
                      <a:lnTo>
                        <a:pt x="175" y="87"/>
                      </a:lnTo>
                      <a:lnTo>
                        <a:pt x="175" y="70"/>
                      </a:lnTo>
                      <a:lnTo>
                        <a:pt x="166" y="70"/>
                      </a:lnTo>
                      <a:lnTo>
                        <a:pt x="166" y="52"/>
                      </a:lnTo>
                      <a:lnTo>
                        <a:pt x="166" y="44"/>
                      </a:lnTo>
                      <a:lnTo>
                        <a:pt x="166" y="44"/>
                      </a:lnTo>
                      <a:lnTo>
                        <a:pt x="166" y="35"/>
                      </a:lnTo>
                      <a:lnTo>
                        <a:pt x="175" y="26"/>
                      </a:lnTo>
                      <a:lnTo>
                        <a:pt x="175" y="17"/>
                      </a:lnTo>
                      <a:lnTo>
                        <a:pt x="183" y="9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201" y="0"/>
                      </a:lnTo>
                      <a:lnTo>
                        <a:pt x="218" y="0"/>
                      </a:lnTo>
                      <a:lnTo>
                        <a:pt x="227" y="0"/>
                      </a:lnTo>
                      <a:lnTo>
                        <a:pt x="236" y="0"/>
                      </a:lnTo>
                      <a:lnTo>
                        <a:pt x="244" y="0"/>
                      </a:lnTo>
                      <a:lnTo>
                        <a:pt x="244" y="9"/>
                      </a:lnTo>
                      <a:lnTo>
                        <a:pt x="253" y="9"/>
                      </a:lnTo>
                      <a:lnTo>
                        <a:pt x="253" y="17"/>
                      </a:lnTo>
                      <a:lnTo>
                        <a:pt x="262" y="17"/>
                      </a:lnTo>
                      <a:lnTo>
                        <a:pt x="262" y="26"/>
                      </a:lnTo>
                      <a:lnTo>
                        <a:pt x="271" y="35"/>
                      </a:lnTo>
                      <a:lnTo>
                        <a:pt x="271" y="44"/>
                      </a:lnTo>
                      <a:lnTo>
                        <a:pt x="271" y="52"/>
                      </a:lnTo>
                      <a:lnTo>
                        <a:pt x="271" y="61"/>
                      </a:lnTo>
                      <a:lnTo>
                        <a:pt x="262" y="61"/>
                      </a:lnTo>
                      <a:lnTo>
                        <a:pt x="262" y="70"/>
                      </a:lnTo>
                      <a:lnTo>
                        <a:pt x="262" y="87"/>
                      </a:lnTo>
                      <a:lnTo>
                        <a:pt x="262" y="87"/>
                      </a:lnTo>
                      <a:lnTo>
                        <a:pt x="262" y="96"/>
                      </a:lnTo>
                      <a:lnTo>
                        <a:pt x="262" y="96"/>
                      </a:lnTo>
                      <a:lnTo>
                        <a:pt x="271" y="105"/>
                      </a:lnTo>
                      <a:lnTo>
                        <a:pt x="271" y="113"/>
                      </a:lnTo>
                      <a:lnTo>
                        <a:pt x="279" y="113"/>
                      </a:lnTo>
                      <a:lnTo>
                        <a:pt x="288" y="122"/>
                      </a:lnTo>
                      <a:lnTo>
                        <a:pt x="297" y="122"/>
                      </a:lnTo>
                      <a:lnTo>
                        <a:pt x="297" y="122"/>
                      </a:lnTo>
                      <a:lnTo>
                        <a:pt x="305" y="122"/>
                      </a:lnTo>
                      <a:lnTo>
                        <a:pt x="314" y="122"/>
                      </a:lnTo>
                      <a:lnTo>
                        <a:pt x="323" y="131"/>
                      </a:lnTo>
                      <a:lnTo>
                        <a:pt x="323" y="131"/>
                      </a:lnTo>
                      <a:lnTo>
                        <a:pt x="332" y="131"/>
                      </a:lnTo>
                      <a:lnTo>
                        <a:pt x="332" y="140"/>
                      </a:lnTo>
                      <a:lnTo>
                        <a:pt x="332" y="140"/>
                      </a:lnTo>
                      <a:lnTo>
                        <a:pt x="340" y="148"/>
                      </a:lnTo>
                      <a:lnTo>
                        <a:pt x="340" y="148"/>
                      </a:lnTo>
                      <a:lnTo>
                        <a:pt x="340" y="157"/>
                      </a:lnTo>
                      <a:lnTo>
                        <a:pt x="340" y="157"/>
                      </a:lnTo>
                      <a:lnTo>
                        <a:pt x="340" y="166"/>
                      </a:lnTo>
                      <a:lnTo>
                        <a:pt x="340" y="174"/>
                      </a:lnTo>
                      <a:lnTo>
                        <a:pt x="340" y="174"/>
                      </a:lnTo>
                      <a:lnTo>
                        <a:pt x="340" y="183"/>
                      </a:lnTo>
                      <a:lnTo>
                        <a:pt x="340" y="192"/>
                      </a:lnTo>
                      <a:lnTo>
                        <a:pt x="349" y="192"/>
                      </a:lnTo>
                      <a:lnTo>
                        <a:pt x="349" y="192"/>
                      </a:lnTo>
                      <a:lnTo>
                        <a:pt x="358" y="201"/>
                      </a:lnTo>
                      <a:lnTo>
                        <a:pt x="367" y="201"/>
                      </a:lnTo>
                      <a:lnTo>
                        <a:pt x="367" y="201"/>
                      </a:lnTo>
                      <a:lnTo>
                        <a:pt x="375" y="201"/>
                      </a:lnTo>
                      <a:lnTo>
                        <a:pt x="384" y="201"/>
                      </a:lnTo>
                      <a:lnTo>
                        <a:pt x="384" y="201"/>
                      </a:lnTo>
                      <a:lnTo>
                        <a:pt x="393" y="201"/>
                      </a:lnTo>
                      <a:lnTo>
                        <a:pt x="401" y="201"/>
                      </a:lnTo>
                      <a:lnTo>
                        <a:pt x="401" y="201"/>
                      </a:lnTo>
                      <a:lnTo>
                        <a:pt x="410" y="201"/>
                      </a:lnTo>
                      <a:lnTo>
                        <a:pt x="419" y="201"/>
                      </a:lnTo>
                      <a:lnTo>
                        <a:pt x="419" y="201"/>
                      </a:lnTo>
                      <a:lnTo>
                        <a:pt x="419" y="201"/>
                      </a:lnTo>
                      <a:lnTo>
                        <a:pt x="428" y="209"/>
                      </a:lnTo>
                      <a:lnTo>
                        <a:pt x="428" y="209"/>
                      </a:lnTo>
                      <a:lnTo>
                        <a:pt x="436" y="218"/>
                      </a:lnTo>
                      <a:lnTo>
                        <a:pt x="436" y="218"/>
                      </a:lnTo>
                      <a:lnTo>
                        <a:pt x="436" y="227"/>
                      </a:lnTo>
                      <a:lnTo>
                        <a:pt x="436" y="236"/>
                      </a:lnTo>
                      <a:lnTo>
                        <a:pt x="436" y="253"/>
                      </a:lnTo>
                      <a:lnTo>
                        <a:pt x="436" y="262"/>
                      </a:lnTo>
                      <a:lnTo>
                        <a:pt x="436" y="279"/>
                      </a:lnTo>
                      <a:lnTo>
                        <a:pt x="436" y="288"/>
                      </a:lnTo>
                      <a:lnTo>
                        <a:pt x="428" y="297"/>
                      </a:lnTo>
                      <a:lnTo>
                        <a:pt x="428" y="305"/>
                      </a:lnTo>
                      <a:lnTo>
                        <a:pt x="428" y="305"/>
                      </a:lnTo>
                      <a:lnTo>
                        <a:pt x="428" y="314"/>
                      </a:lnTo>
                      <a:lnTo>
                        <a:pt x="419" y="314"/>
                      </a:lnTo>
                      <a:lnTo>
                        <a:pt x="419" y="314"/>
                      </a:lnTo>
                      <a:lnTo>
                        <a:pt x="410" y="314"/>
                      </a:lnTo>
                      <a:lnTo>
                        <a:pt x="401" y="314"/>
                      </a:lnTo>
                      <a:lnTo>
                        <a:pt x="393" y="314"/>
                      </a:lnTo>
                      <a:lnTo>
                        <a:pt x="393" y="314"/>
                      </a:lnTo>
                      <a:lnTo>
                        <a:pt x="384" y="314"/>
                      </a:lnTo>
                      <a:lnTo>
                        <a:pt x="375" y="314"/>
                      </a:lnTo>
                      <a:lnTo>
                        <a:pt x="375" y="314"/>
                      </a:lnTo>
                      <a:lnTo>
                        <a:pt x="367" y="314"/>
                      </a:lnTo>
                      <a:lnTo>
                        <a:pt x="358" y="314"/>
                      </a:lnTo>
                      <a:lnTo>
                        <a:pt x="358" y="314"/>
                      </a:lnTo>
                      <a:lnTo>
                        <a:pt x="349" y="314"/>
                      </a:lnTo>
                      <a:lnTo>
                        <a:pt x="349" y="323"/>
                      </a:lnTo>
                      <a:lnTo>
                        <a:pt x="349" y="323"/>
                      </a:lnTo>
                      <a:lnTo>
                        <a:pt x="340" y="323"/>
                      </a:lnTo>
                      <a:lnTo>
                        <a:pt x="340" y="331"/>
                      </a:lnTo>
                      <a:lnTo>
                        <a:pt x="340" y="331"/>
                      </a:lnTo>
                      <a:lnTo>
                        <a:pt x="340" y="340"/>
                      </a:lnTo>
                      <a:lnTo>
                        <a:pt x="340" y="340"/>
                      </a:lnTo>
                      <a:lnTo>
                        <a:pt x="340" y="349"/>
                      </a:lnTo>
                      <a:lnTo>
                        <a:pt x="340" y="358"/>
                      </a:lnTo>
                      <a:lnTo>
                        <a:pt x="340" y="366"/>
                      </a:lnTo>
                      <a:lnTo>
                        <a:pt x="332" y="366"/>
                      </a:lnTo>
                      <a:lnTo>
                        <a:pt x="332" y="375"/>
                      </a:lnTo>
                      <a:lnTo>
                        <a:pt x="332" y="384"/>
                      </a:lnTo>
                      <a:lnTo>
                        <a:pt x="323" y="384"/>
                      </a:lnTo>
                      <a:lnTo>
                        <a:pt x="323" y="384"/>
                      </a:lnTo>
                      <a:lnTo>
                        <a:pt x="314" y="384"/>
                      </a:lnTo>
                      <a:lnTo>
                        <a:pt x="305" y="384"/>
                      </a:lnTo>
                      <a:lnTo>
                        <a:pt x="305" y="393"/>
                      </a:lnTo>
                      <a:lnTo>
                        <a:pt x="297" y="393"/>
                      </a:lnTo>
                      <a:lnTo>
                        <a:pt x="288" y="393"/>
                      </a:lnTo>
                      <a:lnTo>
                        <a:pt x="288" y="393"/>
                      </a:lnTo>
                      <a:lnTo>
                        <a:pt x="279" y="393"/>
                      </a:lnTo>
                      <a:lnTo>
                        <a:pt x="279" y="401"/>
                      </a:lnTo>
                      <a:lnTo>
                        <a:pt x="271" y="401"/>
                      </a:lnTo>
                      <a:lnTo>
                        <a:pt x="271" y="410"/>
                      </a:lnTo>
                      <a:lnTo>
                        <a:pt x="262" y="410"/>
                      </a:lnTo>
                      <a:lnTo>
                        <a:pt x="262" y="419"/>
                      </a:lnTo>
                      <a:lnTo>
                        <a:pt x="262" y="427"/>
                      </a:lnTo>
                      <a:lnTo>
                        <a:pt x="262" y="427"/>
                      </a:lnTo>
                      <a:lnTo>
                        <a:pt x="262" y="436"/>
                      </a:lnTo>
                      <a:lnTo>
                        <a:pt x="262" y="445"/>
                      </a:lnTo>
                      <a:lnTo>
                        <a:pt x="262" y="454"/>
                      </a:lnTo>
                      <a:lnTo>
                        <a:pt x="262" y="454"/>
                      </a:lnTo>
                      <a:lnTo>
                        <a:pt x="271" y="462"/>
                      </a:lnTo>
                      <a:lnTo>
                        <a:pt x="271" y="471"/>
                      </a:lnTo>
                      <a:lnTo>
                        <a:pt x="262" y="480"/>
                      </a:lnTo>
                      <a:lnTo>
                        <a:pt x="262" y="489"/>
                      </a:lnTo>
                      <a:lnTo>
                        <a:pt x="262" y="497"/>
                      </a:lnTo>
                      <a:lnTo>
                        <a:pt x="262" y="497"/>
                      </a:lnTo>
                      <a:lnTo>
                        <a:pt x="253" y="506"/>
                      </a:lnTo>
                      <a:lnTo>
                        <a:pt x="253" y="515"/>
                      </a:lnTo>
                      <a:lnTo>
                        <a:pt x="244" y="515"/>
                      </a:lnTo>
                      <a:lnTo>
                        <a:pt x="244" y="523"/>
                      </a:lnTo>
                      <a:lnTo>
                        <a:pt x="236" y="523"/>
                      </a:lnTo>
                      <a:lnTo>
                        <a:pt x="236" y="523"/>
                      </a:lnTo>
                      <a:lnTo>
                        <a:pt x="227" y="523"/>
                      </a:lnTo>
                      <a:lnTo>
                        <a:pt x="227" y="523"/>
                      </a:lnTo>
                      <a:lnTo>
                        <a:pt x="218" y="523"/>
                      </a:lnTo>
                      <a:lnTo>
                        <a:pt x="210" y="523"/>
                      </a:lnTo>
                      <a:lnTo>
                        <a:pt x="201" y="523"/>
                      </a:lnTo>
                      <a:lnTo>
                        <a:pt x="192" y="523"/>
                      </a:lnTo>
                      <a:lnTo>
                        <a:pt x="192" y="523"/>
                      </a:lnTo>
                      <a:lnTo>
                        <a:pt x="183" y="523"/>
                      </a:lnTo>
                      <a:lnTo>
                        <a:pt x="183" y="515"/>
                      </a:lnTo>
                      <a:lnTo>
                        <a:pt x="175" y="515"/>
                      </a:lnTo>
                      <a:lnTo>
                        <a:pt x="175" y="506"/>
                      </a:lnTo>
                      <a:lnTo>
                        <a:pt x="166" y="506"/>
                      </a:lnTo>
                      <a:lnTo>
                        <a:pt x="166" y="497"/>
                      </a:lnTo>
                      <a:lnTo>
                        <a:pt x="166" y="497"/>
                      </a:lnTo>
                      <a:lnTo>
                        <a:pt x="166" y="489"/>
                      </a:lnTo>
                      <a:lnTo>
                        <a:pt x="166" y="480"/>
                      </a:lnTo>
                      <a:lnTo>
                        <a:pt x="166" y="480"/>
                      </a:lnTo>
                      <a:lnTo>
                        <a:pt x="166" y="471"/>
                      </a:lnTo>
                      <a:lnTo>
                        <a:pt x="166" y="462"/>
                      </a:lnTo>
                      <a:lnTo>
                        <a:pt x="166" y="454"/>
                      </a:lnTo>
                      <a:lnTo>
                        <a:pt x="166" y="454"/>
                      </a:lnTo>
                      <a:lnTo>
                        <a:pt x="175" y="445"/>
                      </a:lnTo>
                      <a:lnTo>
                        <a:pt x="175" y="436"/>
                      </a:lnTo>
                      <a:lnTo>
                        <a:pt x="175" y="436"/>
                      </a:lnTo>
                      <a:lnTo>
                        <a:pt x="166" y="427"/>
                      </a:lnTo>
                      <a:lnTo>
                        <a:pt x="166" y="427"/>
                      </a:lnTo>
                      <a:lnTo>
                        <a:pt x="166" y="419"/>
                      </a:lnTo>
                      <a:lnTo>
                        <a:pt x="157" y="419"/>
                      </a:lnTo>
                      <a:lnTo>
                        <a:pt x="157" y="410"/>
                      </a:lnTo>
                      <a:lnTo>
                        <a:pt x="157" y="410"/>
                      </a:lnTo>
                      <a:lnTo>
                        <a:pt x="148" y="410"/>
                      </a:lnTo>
                      <a:lnTo>
                        <a:pt x="140" y="410"/>
                      </a:lnTo>
                      <a:lnTo>
                        <a:pt x="140" y="401"/>
                      </a:lnTo>
                      <a:lnTo>
                        <a:pt x="131" y="401"/>
                      </a:lnTo>
                      <a:lnTo>
                        <a:pt x="122" y="401"/>
                      </a:lnTo>
                      <a:lnTo>
                        <a:pt x="122" y="401"/>
                      </a:lnTo>
                      <a:lnTo>
                        <a:pt x="114" y="401"/>
                      </a:lnTo>
                      <a:lnTo>
                        <a:pt x="105" y="401"/>
                      </a:lnTo>
                      <a:lnTo>
                        <a:pt x="105" y="393"/>
                      </a:lnTo>
                      <a:lnTo>
                        <a:pt x="96" y="393"/>
                      </a:lnTo>
                      <a:lnTo>
                        <a:pt x="96" y="384"/>
                      </a:lnTo>
                      <a:lnTo>
                        <a:pt x="96" y="384"/>
                      </a:lnTo>
                      <a:lnTo>
                        <a:pt x="96" y="375"/>
                      </a:lnTo>
                      <a:lnTo>
                        <a:pt x="96" y="366"/>
                      </a:lnTo>
                      <a:lnTo>
                        <a:pt x="96" y="358"/>
                      </a:lnTo>
                      <a:lnTo>
                        <a:pt x="96" y="358"/>
                      </a:lnTo>
                      <a:lnTo>
                        <a:pt x="96" y="349"/>
                      </a:lnTo>
                      <a:lnTo>
                        <a:pt x="96" y="349"/>
                      </a:lnTo>
                      <a:lnTo>
                        <a:pt x="87" y="340"/>
                      </a:lnTo>
                      <a:lnTo>
                        <a:pt x="87" y="340"/>
                      </a:lnTo>
                      <a:lnTo>
                        <a:pt x="79" y="331"/>
                      </a:lnTo>
                      <a:lnTo>
                        <a:pt x="79" y="331"/>
                      </a:lnTo>
                      <a:lnTo>
                        <a:pt x="70" y="331"/>
                      </a:lnTo>
                      <a:lnTo>
                        <a:pt x="61" y="331"/>
                      </a:lnTo>
                      <a:lnTo>
                        <a:pt x="61" y="323"/>
                      </a:lnTo>
                      <a:lnTo>
                        <a:pt x="53" y="323"/>
                      </a:lnTo>
                      <a:lnTo>
                        <a:pt x="53" y="331"/>
                      </a:lnTo>
                      <a:lnTo>
                        <a:pt x="44" y="331"/>
                      </a:lnTo>
                      <a:lnTo>
                        <a:pt x="35" y="331"/>
                      </a:lnTo>
                      <a:lnTo>
                        <a:pt x="35" y="331"/>
                      </a:lnTo>
                      <a:lnTo>
                        <a:pt x="26" y="331"/>
                      </a:lnTo>
                      <a:lnTo>
                        <a:pt x="18" y="331"/>
                      </a:lnTo>
                      <a:lnTo>
                        <a:pt x="18" y="331"/>
                      </a:lnTo>
                      <a:lnTo>
                        <a:pt x="9" y="323"/>
                      </a:lnTo>
                      <a:lnTo>
                        <a:pt x="9" y="323"/>
                      </a:lnTo>
                      <a:lnTo>
                        <a:pt x="0" y="314"/>
                      </a:lnTo>
                      <a:lnTo>
                        <a:pt x="0" y="314"/>
                      </a:lnTo>
                      <a:lnTo>
                        <a:pt x="0" y="305"/>
                      </a:lnTo>
                      <a:lnTo>
                        <a:pt x="0" y="297"/>
                      </a:lnTo>
                      <a:lnTo>
                        <a:pt x="0" y="288"/>
                      </a:lnTo>
                      <a:lnTo>
                        <a:pt x="0" y="279"/>
                      </a:lnTo>
                      <a:lnTo>
                        <a:pt x="0" y="262"/>
                      </a:lnTo>
                      <a:lnTo>
                        <a:pt x="0" y="253"/>
                      </a:lnTo>
                      <a:lnTo>
                        <a:pt x="0" y="244"/>
                      </a:lnTo>
                      <a:lnTo>
                        <a:pt x="0" y="236"/>
                      </a:lnTo>
                      <a:lnTo>
                        <a:pt x="0" y="227"/>
                      </a:lnTo>
                      <a:lnTo>
                        <a:pt x="0" y="218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9" y="209"/>
                      </a:lnTo>
                      <a:lnTo>
                        <a:pt x="9" y="201"/>
                      </a:lnTo>
                      <a:lnTo>
                        <a:pt x="18" y="201"/>
                      </a:lnTo>
                      <a:lnTo>
                        <a:pt x="18" y="201"/>
                      </a:lnTo>
                      <a:lnTo>
                        <a:pt x="26" y="201"/>
                      </a:lnTo>
                      <a:lnTo>
                        <a:pt x="26" y="201"/>
                      </a:lnTo>
                      <a:lnTo>
                        <a:pt x="35" y="201"/>
                      </a:lnTo>
                      <a:lnTo>
                        <a:pt x="44" y="201"/>
                      </a:lnTo>
                      <a:lnTo>
                        <a:pt x="53" y="201"/>
                      </a:lnTo>
                      <a:lnTo>
                        <a:pt x="53" y="201"/>
                      </a:lnTo>
                      <a:lnTo>
                        <a:pt x="61" y="201"/>
                      </a:lnTo>
                      <a:lnTo>
                        <a:pt x="70" y="201"/>
                      </a:lnTo>
                      <a:lnTo>
                        <a:pt x="79" y="201"/>
                      </a:lnTo>
                      <a:lnTo>
                        <a:pt x="79" y="192"/>
                      </a:lnTo>
                      <a:lnTo>
                        <a:pt x="87" y="192"/>
                      </a:lnTo>
                      <a:lnTo>
                        <a:pt x="87" y="192"/>
                      </a:lnTo>
                      <a:lnTo>
                        <a:pt x="96" y="183"/>
                      </a:lnTo>
                      <a:lnTo>
                        <a:pt x="96" y="174"/>
                      </a:lnTo>
                      <a:lnTo>
                        <a:pt x="96" y="174"/>
                      </a:lnTo>
                      <a:lnTo>
                        <a:pt x="96" y="166"/>
                      </a:lnTo>
                      <a:lnTo>
                        <a:pt x="96" y="157"/>
                      </a:lnTo>
                      <a:lnTo>
                        <a:pt x="96" y="148"/>
                      </a:lnTo>
                      <a:lnTo>
                        <a:pt x="96" y="148"/>
                      </a:lnTo>
                      <a:lnTo>
                        <a:pt x="96" y="140"/>
                      </a:lnTo>
                      <a:lnTo>
                        <a:pt x="105" y="140"/>
                      </a:lnTo>
                      <a:lnTo>
                        <a:pt x="105" y="131"/>
                      </a:lnTo>
                      <a:lnTo>
                        <a:pt x="114" y="131"/>
                      </a:lnTo>
                      <a:lnTo>
                        <a:pt x="114" y="131"/>
                      </a:lnTo>
                      <a:lnTo>
                        <a:pt x="122" y="122"/>
                      </a:lnTo>
                      <a:lnTo>
                        <a:pt x="131" y="122"/>
                      </a:lnTo>
                      <a:lnTo>
                        <a:pt x="140" y="122"/>
                      </a:lnTo>
                      <a:lnTo>
                        <a:pt x="140" y="122"/>
                      </a:lnTo>
                      <a:lnTo>
                        <a:pt x="148" y="122"/>
                      </a:lnTo>
                      <a:lnTo>
                        <a:pt x="157" y="113"/>
                      </a:lnTo>
                      <a:lnTo>
                        <a:pt x="166" y="113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357000" y="2953440"/>
                  <a:ext cx="348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99"/>
                      </a:solidFill>
                      <a:latin typeface="Arial Narrow"/>
                    </a:rPr>
                    <a:t>  </a:t>
                  </a:r>
                  <a:r>
                    <a:rPr b="1" lang="en-US" sz="3000" spc="-1" strike="noStrike">
                      <a:solidFill>
                        <a:srgbClr val="000099"/>
                      </a:solidFill>
                      <a:latin typeface="Arial Narrow"/>
                    </a:rPr>
                    <a:t>$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"/>
                <p:cNvGrpSpPr/>
                <p:nvPr/>
              </p:nvGrpSpPr>
              <p:grpSpPr>
                <a:xfrm>
                  <a:off x="3358800" y="2853000"/>
                  <a:ext cx="689400" cy="543960"/>
                  <a:chOff x="3358800" y="2853000"/>
                  <a:chExt cx="689400" cy="54396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3503160" y="2961000"/>
                    <a:ext cx="330120" cy="157680"/>
                  </a:xfrm>
                  <a:prstGeom prst="ellipse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3846600" y="2961000"/>
                    <a:ext cx="201600" cy="218880"/>
                  </a:xfrm>
                  <a:prstGeom prst="ellipse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358800" y="2853000"/>
                    <a:ext cx="274320" cy="157680"/>
                  </a:xfrm>
                  <a:prstGeom prst="ellipse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3358800" y="3129840"/>
                    <a:ext cx="331560" cy="267120"/>
                  </a:xfrm>
                  <a:prstGeom prst="ellipse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3294720" y="3637440"/>
                <a:ext cx="740880" cy="648000"/>
                <a:chOff x="3294720" y="3637440"/>
                <a:chExt cx="740880" cy="64800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3294720" y="3685680"/>
                  <a:ext cx="740880" cy="556560"/>
                </a:xfrm>
                <a:custGeom>
                  <a:avLst/>
                  <a:gdLst/>
                  <a:ahLst/>
                  <a:rect l="l" t="t" r="r" b="b"/>
                  <a:pathLst>
                    <a:path w="392" h="349">
                      <a:moveTo>
                        <a:pt x="0" y="279"/>
                      </a:moveTo>
                      <a:lnTo>
                        <a:pt x="0" y="349"/>
                      </a:lnTo>
                      <a:lnTo>
                        <a:pt x="392" y="349"/>
                      </a:lnTo>
                      <a:lnTo>
                        <a:pt x="392" y="0"/>
                      </a:lnTo>
                      <a:lnTo>
                        <a:pt x="358" y="0"/>
                      </a:lnTo>
                      <a:lnTo>
                        <a:pt x="358" y="9"/>
                      </a:lnTo>
                      <a:lnTo>
                        <a:pt x="358" y="9"/>
                      </a:lnTo>
                      <a:lnTo>
                        <a:pt x="358" y="17"/>
                      </a:lnTo>
                      <a:lnTo>
                        <a:pt x="358" y="26"/>
                      </a:lnTo>
                      <a:lnTo>
                        <a:pt x="358" y="35"/>
                      </a:lnTo>
                      <a:lnTo>
                        <a:pt x="366" y="35"/>
                      </a:lnTo>
                      <a:lnTo>
                        <a:pt x="366" y="44"/>
                      </a:lnTo>
                      <a:lnTo>
                        <a:pt x="358" y="52"/>
                      </a:lnTo>
                      <a:lnTo>
                        <a:pt x="358" y="61"/>
                      </a:lnTo>
                      <a:lnTo>
                        <a:pt x="358" y="61"/>
                      </a:lnTo>
                      <a:lnTo>
                        <a:pt x="349" y="70"/>
                      </a:lnTo>
                      <a:lnTo>
                        <a:pt x="349" y="78"/>
                      </a:lnTo>
                      <a:lnTo>
                        <a:pt x="340" y="78"/>
                      </a:lnTo>
                      <a:lnTo>
                        <a:pt x="331" y="78"/>
                      </a:lnTo>
                      <a:lnTo>
                        <a:pt x="331" y="78"/>
                      </a:lnTo>
                      <a:lnTo>
                        <a:pt x="323" y="78"/>
                      </a:lnTo>
                      <a:lnTo>
                        <a:pt x="314" y="78"/>
                      </a:lnTo>
                      <a:lnTo>
                        <a:pt x="305" y="78"/>
                      </a:lnTo>
                      <a:lnTo>
                        <a:pt x="296" y="78"/>
                      </a:lnTo>
                      <a:lnTo>
                        <a:pt x="296" y="78"/>
                      </a:lnTo>
                      <a:lnTo>
                        <a:pt x="288" y="70"/>
                      </a:lnTo>
                      <a:lnTo>
                        <a:pt x="288" y="61"/>
                      </a:lnTo>
                      <a:lnTo>
                        <a:pt x="279" y="61"/>
                      </a:lnTo>
                      <a:lnTo>
                        <a:pt x="279" y="52"/>
                      </a:lnTo>
                      <a:lnTo>
                        <a:pt x="279" y="44"/>
                      </a:lnTo>
                      <a:lnTo>
                        <a:pt x="279" y="44"/>
                      </a:lnTo>
                      <a:lnTo>
                        <a:pt x="279" y="35"/>
                      </a:lnTo>
                      <a:lnTo>
                        <a:pt x="279" y="26"/>
                      </a:lnTo>
                      <a:lnTo>
                        <a:pt x="279" y="26"/>
                      </a:lnTo>
                      <a:lnTo>
                        <a:pt x="279" y="17"/>
                      </a:lnTo>
                      <a:lnTo>
                        <a:pt x="279" y="9"/>
                      </a:lnTo>
                      <a:lnTo>
                        <a:pt x="279" y="9"/>
                      </a:lnTo>
                      <a:lnTo>
                        <a:pt x="279" y="0"/>
                      </a:lnTo>
                      <a:lnTo>
                        <a:pt x="218" y="0"/>
                      </a:lnTo>
                      <a:lnTo>
                        <a:pt x="218" y="9"/>
                      </a:lnTo>
                      <a:lnTo>
                        <a:pt x="218" y="17"/>
                      </a:lnTo>
                      <a:lnTo>
                        <a:pt x="218" y="26"/>
                      </a:lnTo>
                      <a:lnTo>
                        <a:pt x="218" y="35"/>
                      </a:lnTo>
                      <a:lnTo>
                        <a:pt x="218" y="44"/>
                      </a:lnTo>
                      <a:lnTo>
                        <a:pt x="209" y="44"/>
                      </a:lnTo>
                      <a:lnTo>
                        <a:pt x="209" y="52"/>
                      </a:lnTo>
                      <a:lnTo>
                        <a:pt x="209" y="52"/>
                      </a:lnTo>
                      <a:lnTo>
                        <a:pt x="209" y="61"/>
                      </a:lnTo>
                      <a:lnTo>
                        <a:pt x="201" y="61"/>
                      </a:lnTo>
                      <a:lnTo>
                        <a:pt x="201" y="61"/>
                      </a:lnTo>
                      <a:lnTo>
                        <a:pt x="192" y="61"/>
                      </a:lnTo>
                      <a:lnTo>
                        <a:pt x="192" y="61"/>
                      </a:lnTo>
                      <a:lnTo>
                        <a:pt x="183" y="61"/>
                      </a:lnTo>
                      <a:lnTo>
                        <a:pt x="174" y="61"/>
                      </a:lnTo>
                      <a:lnTo>
                        <a:pt x="174" y="61"/>
                      </a:lnTo>
                      <a:lnTo>
                        <a:pt x="166" y="61"/>
                      </a:lnTo>
                      <a:lnTo>
                        <a:pt x="157" y="61"/>
                      </a:lnTo>
                      <a:lnTo>
                        <a:pt x="157" y="61"/>
                      </a:lnTo>
                      <a:lnTo>
                        <a:pt x="148" y="61"/>
                      </a:lnTo>
                      <a:lnTo>
                        <a:pt x="139" y="61"/>
                      </a:lnTo>
                      <a:lnTo>
                        <a:pt x="139" y="70"/>
                      </a:lnTo>
                      <a:lnTo>
                        <a:pt x="131" y="70"/>
                      </a:lnTo>
                      <a:lnTo>
                        <a:pt x="131" y="70"/>
                      </a:lnTo>
                      <a:lnTo>
                        <a:pt x="122" y="78"/>
                      </a:lnTo>
                      <a:lnTo>
                        <a:pt x="122" y="78"/>
                      </a:lnTo>
                      <a:lnTo>
                        <a:pt x="122" y="87"/>
                      </a:lnTo>
                      <a:lnTo>
                        <a:pt x="122" y="96"/>
                      </a:lnTo>
                      <a:lnTo>
                        <a:pt x="122" y="96"/>
                      </a:lnTo>
                      <a:lnTo>
                        <a:pt x="122" y="105"/>
                      </a:lnTo>
                      <a:lnTo>
                        <a:pt x="122" y="113"/>
                      </a:lnTo>
                      <a:lnTo>
                        <a:pt x="122" y="113"/>
                      </a:lnTo>
                      <a:lnTo>
                        <a:pt x="113" y="122"/>
                      </a:lnTo>
                      <a:lnTo>
                        <a:pt x="113" y="122"/>
                      </a:lnTo>
                      <a:lnTo>
                        <a:pt x="113" y="131"/>
                      </a:lnTo>
                      <a:lnTo>
                        <a:pt x="105" y="131"/>
                      </a:lnTo>
                      <a:lnTo>
                        <a:pt x="105" y="131"/>
                      </a:lnTo>
                      <a:lnTo>
                        <a:pt x="96" y="140"/>
                      </a:lnTo>
                      <a:lnTo>
                        <a:pt x="87" y="140"/>
                      </a:lnTo>
                      <a:lnTo>
                        <a:pt x="87" y="140"/>
                      </a:lnTo>
                      <a:lnTo>
                        <a:pt x="78" y="140"/>
                      </a:lnTo>
                      <a:lnTo>
                        <a:pt x="70" y="140"/>
                      </a:lnTo>
                      <a:lnTo>
                        <a:pt x="70" y="140"/>
                      </a:lnTo>
                      <a:lnTo>
                        <a:pt x="61" y="148"/>
                      </a:lnTo>
                      <a:lnTo>
                        <a:pt x="61" y="148"/>
                      </a:lnTo>
                      <a:lnTo>
                        <a:pt x="52" y="148"/>
                      </a:lnTo>
                      <a:lnTo>
                        <a:pt x="52" y="157"/>
                      </a:lnTo>
                      <a:lnTo>
                        <a:pt x="44" y="157"/>
                      </a:lnTo>
                      <a:lnTo>
                        <a:pt x="44" y="166"/>
                      </a:lnTo>
                      <a:lnTo>
                        <a:pt x="44" y="166"/>
                      </a:lnTo>
                      <a:lnTo>
                        <a:pt x="44" y="174"/>
                      </a:lnTo>
                      <a:lnTo>
                        <a:pt x="44" y="183"/>
                      </a:lnTo>
                      <a:lnTo>
                        <a:pt x="44" y="183"/>
                      </a:lnTo>
                      <a:lnTo>
                        <a:pt x="44" y="192"/>
                      </a:lnTo>
                      <a:lnTo>
                        <a:pt x="44" y="201"/>
                      </a:lnTo>
                      <a:lnTo>
                        <a:pt x="44" y="209"/>
                      </a:lnTo>
                      <a:lnTo>
                        <a:pt x="52" y="218"/>
                      </a:lnTo>
                      <a:lnTo>
                        <a:pt x="52" y="218"/>
                      </a:lnTo>
                      <a:lnTo>
                        <a:pt x="44" y="227"/>
                      </a:lnTo>
                      <a:lnTo>
                        <a:pt x="44" y="235"/>
                      </a:lnTo>
                      <a:lnTo>
                        <a:pt x="44" y="235"/>
                      </a:lnTo>
                      <a:lnTo>
                        <a:pt x="44" y="244"/>
                      </a:lnTo>
                      <a:lnTo>
                        <a:pt x="44" y="253"/>
                      </a:lnTo>
                      <a:lnTo>
                        <a:pt x="35" y="253"/>
                      </a:lnTo>
                      <a:lnTo>
                        <a:pt x="35" y="262"/>
                      </a:lnTo>
                      <a:lnTo>
                        <a:pt x="26" y="262"/>
                      </a:lnTo>
                      <a:lnTo>
                        <a:pt x="26" y="270"/>
                      </a:lnTo>
                      <a:lnTo>
                        <a:pt x="17" y="270"/>
                      </a:lnTo>
                      <a:lnTo>
                        <a:pt x="17" y="270"/>
                      </a:lnTo>
                      <a:lnTo>
                        <a:pt x="9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393000" y="3828240"/>
                  <a:ext cx="348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333399"/>
                      </a:solidFill>
                      <a:latin typeface="Arial Narrow"/>
                    </a:rPr>
                    <a:t>  </a:t>
                  </a:r>
                  <a:r>
                    <a:rPr b="1" lang="en-US" sz="3000" spc="-1" strike="noStrike">
                      <a:solidFill>
                        <a:srgbClr val="333399"/>
                      </a:solidFill>
                      <a:latin typeface="Arial Narrow"/>
                    </a:rPr>
                    <a:t>$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"/>
                <p:cNvGrpSpPr/>
                <p:nvPr/>
              </p:nvGrpSpPr>
              <p:grpSpPr>
                <a:xfrm>
                  <a:off x="3449520" y="3637440"/>
                  <a:ext cx="514080" cy="541440"/>
                  <a:chOff x="3449520" y="3637440"/>
                  <a:chExt cx="514080" cy="54144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3449520" y="3886560"/>
                    <a:ext cx="414000" cy="166680"/>
                  </a:xfrm>
                  <a:prstGeom prst="ellipse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3549600" y="4012200"/>
                    <a:ext cx="414000" cy="166680"/>
                  </a:xfrm>
                  <a:prstGeom prst="ellipse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549600" y="3637440"/>
                    <a:ext cx="313560" cy="236520"/>
                  </a:xfrm>
                  <a:prstGeom prst="ellipse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8" name=""/>
              <p:cNvSpPr/>
              <p:nvPr/>
            </p:nvSpPr>
            <p:spPr>
              <a:xfrm>
                <a:off x="3335400" y="1761840"/>
                <a:ext cx="136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ac"/>
                    </a:solidFill>
                    <a:latin typeface="Arial Narrow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4057560" y="1842840"/>
              <a:ext cx="1263600" cy="677520"/>
              <a:chOff x="4057560" y="1842840"/>
              <a:chExt cx="1263600" cy="6775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587480" y="1842840"/>
                <a:ext cx="733680" cy="677520"/>
                <a:chOff x="4587480" y="1842840"/>
                <a:chExt cx="733680" cy="6775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587480" y="1842840"/>
                  <a:ext cx="733680" cy="67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2" name=""/>
                <p:cNvGrpSpPr/>
                <p:nvPr/>
              </p:nvGrpSpPr>
              <p:grpSpPr>
                <a:xfrm>
                  <a:off x="4764960" y="1981800"/>
                  <a:ext cx="442800" cy="401400"/>
                  <a:chOff x="4764960" y="1981800"/>
                  <a:chExt cx="442800" cy="401400"/>
                </a:xfrm>
              </p:grpSpPr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4780440" y="2049840"/>
                    <a:ext cx="46800" cy="265320"/>
                    <a:chOff x="4780440" y="2049840"/>
                    <a:chExt cx="46800" cy="26532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4795920" y="2049840"/>
                      <a:ext cx="15480" cy="22680"/>
                    </a:xfrm>
                    <a:prstGeom prst="ellipse">
                      <a:avLst/>
                    </a:prstGeom>
                    <a:solidFill>
                      <a:srgbClr val="99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4795920" y="210852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4811760" y="217116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4811760" y="2231640"/>
                      <a:ext cx="15480" cy="22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4780440" y="2186280"/>
                      <a:ext cx="15480" cy="2268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4795920" y="2292480"/>
                      <a:ext cx="15480" cy="22680"/>
                    </a:xfrm>
                    <a:prstGeom prst="ellipse">
                      <a:avLst/>
                    </a:prstGeom>
                    <a:solidFill>
                      <a:srgbClr val="66ff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4843080" y="2110680"/>
                    <a:ext cx="51840" cy="181800"/>
                    <a:chOff x="4843080" y="2110680"/>
                    <a:chExt cx="51840" cy="18180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4843080" y="2110680"/>
                      <a:ext cx="15480" cy="22680"/>
                    </a:xfrm>
                    <a:prstGeom prst="ellipse">
                      <a:avLst/>
                    </a:prstGeom>
                    <a:solidFill>
                      <a:srgbClr val="99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4879440" y="2133360"/>
                      <a:ext cx="15480" cy="22680"/>
                    </a:xfrm>
                    <a:prstGeom prst="ellipse">
                      <a:avLst/>
                    </a:pr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4843080" y="2156040"/>
                      <a:ext cx="15480" cy="22680"/>
                    </a:xfrm>
                    <a:prstGeom prst="ellipse">
                      <a:avLst/>
                    </a:prstGeom>
                    <a:solidFill>
                      <a:srgbClr val="e0fa8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4879440" y="2193840"/>
                      <a:ext cx="15480" cy="2268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4843080" y="2208960"/>
                      <a:ext cx="15480" cy="2268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4843080" y="226980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4879440" y="2247120"/>
                      <a:ext cx="15480" cy="22680"/>
                    </a:xfrm>
                    <a:prstGeom prst="ellipse">
                      <a:avLst/>
                    </a:prstGeom>
                    <a:solidFill>
                      <a:srgbClr val="ffb1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4914720" y="2148480"/>
                    <a:ext cx="73800" cy="98280"/>
                    <a:chOff x="4914720" y="2148480"/>
                    <a:chExt cx="73800" cy="9828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4948920" y="214848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4914720" y="2171160"/>
                      <a:ext cx="15480" cy="22680"/>
                    </a:xfrm>
                    <a:prstGeom prst="ellipse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4973040" y="220896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4919400" y="222408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4973040" y="2208960"/>
                      <a:ext cx="15480" cy="2268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5087880" y="2171160"/>
                    <a:ext cx="93600" cy="50400"/>
                    <a:chOff x="5087880" y="2171160"/>
                    <a:chExt cx="93600" cy="5040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5087880" y="2171160"/>
                      <a:ext cx="15480" cy="2268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5166000" y="2171160"/>
                      <a:ext cx="15480" cy="2268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5146200" y="2198880"/>
                      <a:ext cx="15480" cy="22680"/>
                    </a:xfrm>
                    <a:prstGeom prst="ellipse">
                      <a:avLst/>
                    </a:prstGeom>
                    <a:solidFill>
                      <a:srgbClr val="99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5118840" y="2171160"/>
                      <a:ext cx="15480" cy="2268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5004720" y="2156040"/>
                    <a:ext cx="67680" cy="60480"/>
                    <a:chOff x="5004720" y="2156040"/>
                    <a:chExt cx="67680" cy="6048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5030640" y="2171160"/>
                      <a:ext cx="15480" cy="22680"/>
                    </a:xfrm>
                    <a:prstGeom prst="ellipse">
                      <a:avLst/>
                    </a:prstGeom>
                    <a:solidFill>
                      <a:srgbClr val="cc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5056920" y="219384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5004720" y="2156040"/>
                      <a:ext cx="15480" cy="22680"/>
                    </a:xfrm>
                    <a:prstGeom prst="ellipse">
                      <a:avLst/>
                    </a:prstGeom>
                    <a:solidFill>
                      <a:srgbClr val="66ff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3" name=""/>
                  <p:cNvSpPr/>
                  <p:nvPr/>
                </p:nvSpPr>
                <p:spPr>
                  <a:xfrm>
                    <a:off x="4806360" y="1981800"/>
                    <a:ext cx="40140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60" h="1056">
                        <a:moveTo>
                          <a:pt x="0" y="0"/>
                        </a:moveTo>
                        <a:cubicBezTo>
                          <a:pt x="72" y="184"/>
                          <a:pt x="144" y="368"/>
                          <a:pt x="480" y="528"/>
                        </a:cubicBezTo>
                        <a:cubicBezTo>
                          <a:pt x="816" y="688"/>
                          <a:pt x="1336" y="872"/>
                          <a:pt x="2016" y="960"/>
                        </a:cubicBezTo>
                        <a:cubicBezTo>
                          <a:pt x="2696" y="1048"/>
                          <a:pt x="4120" y="1040"/>
                          <a:pt x="4560" y="1056"/>
                        </a:cubicBezTo>
                      </a:path>
                    </a:pathLst>
                  </a:custGeom>
                  <a:noFill/>
                  <a:ln w="1908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V="1">
                    <a:off x="4806360" y="2246400"/>
                    <a:ext cx="40140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60" h="1056">
                        <a:moveTo>
                          <a:pt x="0" y="0"/>
                        </a:moveTo>
                        <a:cubicBezTo>
                          <a:pt x="72" y="184"/>
                          <a:pt x="144" y="368"/>
                          <a:pt x="480" y="528"/>
                        </a:cubicBezTo>
                        <a:cubicBezTo>
                          <a:pt x="816" y="688"/>
                          <a:pt x="1336" y="872"/>
                          <a:pt x="2016" y="960"/>
                        </a:cubicBezTo>
                        <a:cubicBezTo>
                          <a:pt x="2696" y="1048"/>
                          <a:pt x="4120" y="1040"/>
                          <a:pt x="4560" y="1056"/>
                        </a:cubicBezTo>
                      </a:path>
                    </a:pathLst>
                  </a:custGeom>
                  <a:noFill/>
                  <a:ln w="1908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4764960" y="2139480"/>
                    <a:ext cx="434520" cy="100080"/>
                  </a:xfrm>
                  <a:prstGeom prst="rightArrow">
                    <a:avLst>
                      <a:gd name="adj1" fmla="val 73500"/>
                      <a:gd name="adj2" fmla="val 64563"/>
                    </a:avLst>
                  </a:prstGeom>
                  <a:solidFill>
                    <a:srgbClr val="6767c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"/>
              <p:cNvSpPr/>
              <p:nvPr/>
            </p:nvSpPr>
            <p:spPr>
              <a:xfrm>
                <a:off x="4057560" y="2129400"/>
                <a:ext cx="516960" cy="254160"/>
              </a:xfrm>
              <a:prstGeom prst="rightArrow">
                <a:avLst>
                  <a:gd name="adj1" fmla="val 50000"/>
                  <a:gd name="adj2" fmla="val 50850"/>
                </a:avLst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4057560" y="2685960"/>
              <a:ext cx="1263600" cy="678960"/>
              <a:chOff x="4057560" y="2685960"/>
              <a:chExt cx="1263600" cy="6789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4587480" y="2685960"/>
                <a:ext cx="733680" cy="678960"/>
                <a:chOff x="4587480" y="2685960"/>
                <a:chExt cx="733680" cy="6789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4587480" y="2685960"/>
                  <a:ext cx="733680" cy="6789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"/>
                <p:cNvGrpSpPr/>
                <p:nvPr/>
              </p:nvGrpSpPr>
              <p:grpSpPr>
                <a:xfrm>
                  <a:off x="4764960" y="2825280"/>
                  <a:ext cx="442800" cy="402480"/>
                  <a:chOff x="4764960" y="2825280"/>
                  <a:chExt cx="442800" cy="402480"/>
                </a:xfrm>
              </p:grpSpPr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4780440" y="2893680"/>
                    <a:ext cx="46800" cy="265680"/>
                    <a:chOff x="4780440" y="2893680"/>
                    <a:chExt cx="46800" cy="26568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4795920" y="2893680"/>
                      <a:ext cx="15480" cy="22680"/>
                    </a:xfrm>
                    <a:prstGeom prst="ellipse">
                      <a:avLst/>
                    </a:prstGeom>
                    <a:solidFill>
                      <a:srgbClr val="99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4795920" y="295272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4811760" y="301500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4811760" y="3075840"/>
                      <a:ext cx="15480" cy="22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4780440" y="3030120"/>
                      <a:ext cx="15480" cy="2268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4795920" y="3136680"/>
                      <a:ext cx="15480" cy="22680"/>
                    </a:xfrm>
                    <a:prstGeom prst="ellipse">
                      <a:avLst/>
                    </a:prstGeom>
                    <a:solidFill>
                      <a:srgbClr val="66ff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4843080" y="2954160"/>
                    <a:ext cx="51840" cy="182160"/>
                    <a:chOff x="4843080" y="2954160"/>
                    <a:chExt cx="51840" cy="18216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4843080" y="2954160"/>
                      <a:ext cx="15480" cy="22680"/>
                    </a:xfrm>
                    <a:prstGeom prst="ellipse">
                      <a:avLst/>
                    </a:prstGeom>
                    <a:solidFill>
                      <a:srgbClr val="99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4879440" y="2976840"/>
                      <a:ext cx="15480" cy="22680"/>
                    </a:xfrm>
                    <a:prstGeom prst="ellipse">
                      <a:avLst/>
                    </a:pr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4843080" y="2999520"/>
                      <a:ext cx="15480" cy="22680"/>
                    </a:xfrm>
                    <a:prstGeom prst="ellipse">
                      <a:avLst/>
                    </a:prstGeom>
                    <a:solidFill>
                      <a:srgbClr val="e0fa8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4879440" y="3037680"/>
                      <a:ext cx="15480" cy="2268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4843080" y="3052800"/>
                      <a:ext cx="15480" cy="2268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4843080" y="311364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4879440" y="3090960"/>
                      <a:ext cx="15480" cy="22680"/>
                    </a:xfrm>
                    <a:prstGeom prst="ellipse">
                      <a:avLst/>
                    </a:prstGeom>
                    <a:solidFill>
                      <a:srgbClr val="ffb1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4914720" y="2992320"/>
                    <a:ext cx="73800" cy="98640"/>
                    <a:chOff x="4914720" y="2992320"/>
                    <a:chExt cx="73800" cy="9864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4948920" y="299232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4914720" y="3015000"/>
                      <a:ext cx="15480" cy="22680"/>
                    </a:xfrm>
                    <a:prstGeom prst="ellipse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4973040" y="305316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4919400" y="306828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4973040" y="3053160"/>
                      <a:ext cx="15480" cy="2268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5087880" y="3015000"/>
                    <a:ext cx="93600" cy="50400"/>
                    <a:chOff x="5087880" y="3015000"/>
                    <a:chExt cx="93600" cy="5040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087880" y="3015000"/>
                      <a:ext cx="15480" cy="2268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5166000" y="3015000"/>
                      <a:ext cx="15480" cy="2268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5146200" y="3042720"/>
                      <a:ext cx="15480" cy="22680"/>
                    </a:xfrm>
                    <a:prstGeom prst="ellipse">
                      <a:avLst/>
                    </a:prstGeom>
                    <a:solidFill>
                      <a:srgbClr val="99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5118840" y="3015000"/>
                      <a:ext cx="15480" cy="2268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5004720" y="2999880"/>
                    <a:ext cx="67680" cy="60480"/>
                    <a:chOff x="5004720" y="2999880"/>
                    <a:chExt cx="67680" cy="6048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5030640" y="3015000"/>
                      <a:ext cx="15480" cy="22680"/>
                    </a:xfrm>
                    <a:prstGeom prst="ellipse">
                      <a:avLst/>
                    </a:prstGeom>
                    <a:solidFill>
                      <a:srgbClr val="cc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5056920" y="3037680"/>
                      <a:ext cx="15480" cy="226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5004720" y="2999880"/>
                      <a:ext cx="15480" cy="22680"/>
                    </a:xfrm>
                    <a:prstGeom prst="ellipse">
                      <a:avLst/>
                    </a:prstGeom>
                    <a:solidFill>
                      <a:srgbClr val="66ff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1" name=""/>
                  <p:cNvSpPr/>
                  <p:nvPr/>
                </p:nvSpPr>
                <p:spPr>
                  <a:xfrm>
                    <a:off x="4806360" y="2825280"/>
                    <a:ext cx="40140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60" h="1056">
                        <a:moveTo>
                          <a:pt x="0" y="0"/>
                        </a:moveTo>
                        <a:cubicBezTo>
                          <a:pt x="72" y="184"/>
                          <a:pt x="144" y="368"/>
                          <a:pt x="480" y="528"/>
                        </a:cubicBezTo>
                        <a:cubicBezTo>
                          <a:pt x="816" y="688"/>
                          <a:pt x="1336" y="872"/>
                          <a:pt x="2016" y="960"/>
                        </a:cubicBezTo>
                        <a:cubicBezTo>
                          <a:pt x="2696" y="1048"/>
                          <a:pt x="4120" y="1040"/>
                          <a:pt x="4560" y="1056"/>
                        </a:cubicBezTo>
                      </a:path>
                    </a:pathLst>
                  </a:custGeom>
                  <a:noFill/>
                  <a:ln w="1908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V="1">
                    <a:off x="4806360" y="3090960"/>
                    <a:ext cx="401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560" h="1056">
                        <a:moveTo>
                          <a:pt x="0" y="0"/>
                        </a:moveTo>
                        <a:cubicBezTo>
                          <a:pt x="72" y="184"/>
                          <a:pt x="144" y="368"/>
                          <a:pt x="480" y="528"/>
                        </a:cubicBezTo>
                        <a:cubicBezTo>
                          <a:pt x="816" y="688"/>
                          <a:pt x="1336" y="872"/>
                          <a:pt x="2016" y="960"/>
                        </a:cubicBezTo>
                        <a:cubicBezTo>
                          <a:pt x="2696" y="1048"/>
                          <a:pt x="4120" y="1040"/>
                          <a:pt x="4560" y="1056"/>
                        </a:cubicBezTo>
                      </a:path>
                    </a:pathLst>
                  </a:custGeom>
                  <a:noFill/>
                  <a:ln w="1908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4764960" y="2983320"/>
                    <a:ext cx="434520" cy="100080"/>
                  </a:xfrm>
                  <a:prstGeom prst="rightArrow">
                    <a:avLst>
                      <a:gd name="adj1" fmla="val 73500"/>
                      <a:gd name="adj2" fmla="val 64563"/>
                    </a:avLst>
                  </a:prstGeom>
                  <a:solidFill>
                    <a:srgbClr val="6767c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4" name=""/>
              <p:cNvSpPr/>
              <p:nvPr/>
            </p:nvSpPr>
            <p:spPr>
              <a:xfrm>
                <a:off x="4057560" y="2933640"/>
                <a:ext cx="516960" cy="254520"/>
              </a:xfrm>
              <a:prstGeom prst="rightArrow">
                <a:avLst>
                  <a:gd name="adj1" fmla="val 50000"/>
                  <a:gd name="adj2" fmla="val 50778"/>
                </a:avLst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4578480" y="3450960"/>
              <a:ext cx="734760" cy="679320"/>
              <a:chOff x="4578480" y="3450960"/>
              <a:chExt cx="734760" cy="679320"/>
            </a:xfrm>
          </p:grpSpPr>
          <p:sp>
            <p:nvSpPr>
              <p:cNvPr id="556" name=""/>
              <p:cNvSpPr/>
              <p:nvPr/>
            </p:nvSpPr>
            <p:spPr>
              <a:xfrm>
                <a:off x="4578480" y="3450960"/>
                <a:ext cx="734760" cy="679320"/>
              </a:xfrm>
              <a:prstGeom prst="foldedCorner">
                <a:avLst>
                  <a:gd name="adj" fmla="val 125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4755960" y="3590280"/>
                <a:ext cx="443520" cy="402840"/>
                <a:chOff x="4755960" y="3590280"/>
                <a:chExt cx="443520" cy="40284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4771440" y="3658680"/>
                  <a:ext cx="46800" cy="266040"/>
                  <a:chOff x="4771440" y="3658680"/>
                  <a:chExt cx="46800" cy="26604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4786920" y="3658680"/>
                    <a:ext cx="15480" cy="2268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4786920" y="3717720"/>
                    <a:ext cx="15480" cy="226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4802760" y="3780360"/>
                    <a:ext cx="15480" cy="226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802760" y="3841200"/>
                    <a:ext cx="15480" cy="22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4771440" y="3795480"/>
                    <a:ext cx="15480" cy="226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4786920" y="3902040"/>
                    <a:ext cx="15480" cy="22680"/>
                  </a:xfrm>
                  <a:prstGeom prst="ellipse">
                    <a:avLst/>
                  </a:prstGeom>
                  <a:solidFill>
                    <a:srgbClr val="66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4834080" y="3719520"/>
                  <a:ext cx="52200" cy="182520"/>
                  <a:chOff x="4834080" y="3719520"/>
                  <a:chExt cx="52200" cy="18252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4834080" y="3719520"/>
                    <a:ext cx="15480" cy="22680"/>
                  </a:xfrm>
                  <a:prstGeom prst="ellipse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4870800" y="3742200"/>
                    <a:ext cx="15480" cy="2268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4834080" y="3764880"/>
                    <a:ext cx="15480" cy="22680"/>
                  </a:xfrm>
                  <a:prstGeom prst="ellipse">
                    <a:avLst/>
                  </a:prstGeom>
                  <a:solidFill>
                    <a:srgbClr val="e0fa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4870800" y="3803040"/>
                    <a:ext cx="15480" cy="22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4834080" y="3818520"/>
                    <a:ext cx="15480" cy="2268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4834080" y="3879360"/>
                    <a:ext cx="15480" cy="226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4870800" y="3856320"/>
                    <a:ext cx="15480" cy="22680"/>
                  </a:xfrm>
                  <a:prstGeom prst="ellipse">
                    <a:avLst/>
                  </a:prstGeom>
                  <a:solidFill>
                    <a:srgbClr val="ffb1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4906080" y="3757320"/>
                  <a:ext cx="74160" cy="98640"/>
                  <a:chOff x="4906080" y="3757320"/>
                  <a:chExt cx="74160" cy="9864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4940280" y="3757320"/>
                    <a:ext cx="15480" cy="226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4906080" y="3780000"/>
                    <a:ext cx="15480" cy="2268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4964760" y="3818160"/>
                    <a:ext cx="15480" cy="226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4910760" y="3833280"/>
                    <a:ext cx="15480" cy="226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4964760" y="3818160"/>
                    <a:ext cx="15480" cy="2268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079600" y="3780360"/>
                  <a:ext cx="93960" cy="50400"/>
                  <a:chOff x="5079600" y="3780360"/>
                  <a:chExt cx="93960" cy="504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5079600" y="3780360"/>
                    <a:ext cx="15480" cy="226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5158080" y="3780360"/>
                    <a:ext cx="15480" cy="2268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5138280" y="3808080"/>
                    <a:ext cx="15480" cy="22680"/>
                  </a:xfrm>
                  <a:prstGeom prst="ellipse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110920" y="3780360"/>
                    <a:ext cx="15480" cy="2268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4996080" y="3764880"/>
                  <a:ext cx="67680" cy="60840"/>
                  <a:chOff x="4996080" y="3764880"/>
                  <a:chExt cx="67680" cy="6084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5022000" y="3780000"/>
                    <a:ext cx="15480" cy="22680"/>
                  </a:xfrm>
                  <a:prstGeom prst="ellipse">
                    <a:avLst/>
                  </a:prstGeom>
                  <a:solidFill>
                    <a:srgbClr val="cc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5048280" y="3803040"/>
                    <a:ext cx="15480" cy="226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4996080" y="3764880"/>
                    <a:ext cx="15480" cy="22680"/>
                  </a:xfrm>
                  <a:prstGeom prst="ellipse">
                    <a:avLst/>
                  </a:prstGeom>
                  <a:solidFill>
                    <a:srgbClr val="66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" name=""/>
                <p:cNvSpPr/>
                <p:nvPr/>
              </p:nvSpPr>
              <p:spPr>
                <a:xfrm>
                  <a:off x="4797720" y="3590280"/>
                  <a:ext cx="401760" cy="151920"/>
                </a:xfrm>
                <a:custGeom>
                  <a:avLst/>
                  <a:gdLst/>
                  <a:ahLst/>
                  <a:rect l="l" t="t" r="r" b="b"/>
                  <a:pathLst>
                    <a:path w="4560" h="1056">
                      <a:moveTo>
                        <a:pt x="0" y="0"/>
                      </a:moveTo>
                      <a:cubicBezTo>
                        <a:pt x="72" y="184"/>
                        <a:pt x="144" y="368"/>
                        <a:pt x="480" y="528"/>
                      </a:cubicBezTo>
                      <a:cubicBezTo>
                        <a:pt x="816" y="688"/>
                        <a:pt x="1336" y="872"/>
                        <a:pt x="2016" y="960"/>
                      </a:cubicBezTo>
                      <a:cubicBezTo>
                        <a:pt x="2696" y="1048"/>
                        <a:pt x="4120" y="1040"/>
                        <a:pt x="4560" y="1056"/>
                      </a:cubicBezTo>
                    </a:path>
                  </a:pathLst>
                </a:custGeom>
                <a:noFill/>
                <a:ln w="1908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V="1">
                  <a:off x="4797720" y="3856320"/>
                  <a:ext cx="401760" cy="136800"/>
                </a:xfrm>
                <a:custGeom>
                  <a:avLst/>
                  <a:gdLst/>
                  <a:ahLst/>
                  <a:rect l="l" t="t" r="r" b="b"/>
                  <a:pathLst>
                    <a:path w="4560" h="1056">
                      <a:moveTo>
                        <a:pt x="0" y="0"/>
                      </a:moveTo>
                      <a:cubicBezTo>
                        <a:pt x="72" y="184"/>
                        <a:pt x="144" y="368"/>
                        <a:pt x="480" y="528"/>
                      </a:cubicBezTo>
                      <a:cubicBezTo>
                        <a:pt x="816" y="688"/>
                        <a:pt x="1336" y="872"/>
                        <a:pt x="2016" y="960"/>
                      </a:cubicBezTo>
                      <a:cubicBezTo>
                        <a:pt x="2696" y="1048"/>
                        <a:pt x="4120" y="1040"/>
                        <a:pt x="4560" y="1056"/>
                      </a:cubicBezTo>
                    </a:path>
                  </a:pathLst>
                </a:custGeom>
                <a:noFill/>
                <a:ln w="1908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755960" y="3748320"/>
                  <a:ext cx="435240" cy="100440"/>
                </a:xfrm>
                <a:prstGeom prst="rightArrow">
                  <a:avLst>
                    <a:gd name="adj1" fmla="val 73500"/>
                    <a:gd name="adj2" fmla="val 64438"/>
                  </a:avLst>
                </a:prstGeom>
                <a:solidFill>
                  <a:srgbClr val="6767c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1" name=""/>
            <p:cNvSpPr/>
            <p:nvPr/>
          </p:nvSpPr>
          <p:spPr>
            <a:xfrm>
              <a:off x="4057560" y="3757320"/>
              <a:ext cx="515880" cy="255240"/>
            </a:xfrm>
            <a:prstGeom prst="rightArrow">
              <a:avLst>
                <a:gd name="adj1" fmla="val 50000"/>
                <a:gd name="adj2" fmla="val 50529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5749920" y="1920600"/>
              <a:ext cx="3153600" cy="599040"/>
              <a:chOff x="5749920" y="1920600"/>
              <a:chExt cx="3153600" cy="59904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6312960" y="1920600"/>
                <a:ext cx="473760" cy="353520"/>
                <a:chOff x="6312960" y="1920600"/>
                <a:chExt cx="473760" cy="3535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6331320" y="1936440"/>
                  <a:ext cx="455400" cy="33768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312960" y="1920600"/>
                  <a:ext cx="473760" cy="35352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312960" y="1920600"/>
                  <a:ext cx="473760" cy="35352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6441840" y="2012760"/>
                <a:ext cx="38124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494760" y="20311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7171200" y="1920600"/>
                <a:ext cx="473760" cy="353520"/>
                <a:chOff x="7171200" y="1920600"/>
                <a:chExt cx="473760" cy="3535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171200" y="1936440"/>
                  <a:ext cx="473760" cy="33768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83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171200" y="1920600"/>
                  <a:ext cx="45504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75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171200" y="1920600"/>
                  <a:ext cx="45504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75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7151760" y="2012760"/>
                <a:ext cx="4741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355520" y="20311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7591320" y="1920600"/>
                <a:ext cx="473400" cy="353520"/>
                <a:chOff x="7591320" y="1920600"/>
                <a:chExt cx="473400" cy="3535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7607880" y="1936440"/>
                  <a:ext cx="456840" cy="337680"/>
                </a:xfrm>
                <a:custGeom>
                  <a:avLst/>
                  <a:gdLst/>
                  <a:ahLst/>
                  <a:rect l="l" t="t" r="r" b="b"/>
                  <a:pathLst>
                    <a:path w="219" h="192">
                      <a:moveTo>
                        <a:pt x="0" y="0"/>
                      </a:moveTo>
                      <a:lnTo>
                        <a:pt x="175" y="0"/>
                      </a:lnTo>
                      <a:lnTo>
                        <a:pt x="219" y="105"/>
                      </a:lnTo>
                      <a:lnTo>
                        <a:pt x="184" y="192"/>
                      </a:lnTo>
                      <a:lnTo>
                        <a:pt x="0" y="192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591320" y="1920600"/>
                  <a:ext cx="45468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591320" y="1920600"/>
                  <a:ext cx="45468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7571880" y="2012760"/>
                <a:ext cx="47376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70600" y="20311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8136360" y="1920600"/>
                <a:ext cx="474840" cy="353520"/>
                <a:chOff x="8136360" y="1920600"/>
                <a:chExt cx="474840" cy="35352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8136360" y="1936440"/>
                  <a:ext cx="474840" cy="33768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136360" y="1920600"/>
                  <a:ext cx="45576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18" y="105"/>
                      </a:lnTo>
                      <a:lnTo>
                        <a:pt x="184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136360" y="1920600"/>
                  <a:ext cx="45576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18" y="105"/>
                      </a:lnTo>
                      <a:lnTo>
                        <a:pt x="184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"/>
              <p:cNvSpPr/>
              <p:nvPr/>
            </p:nvSpPr>
            <p:spPr>
              <a:xfrm>
                <a:off x="8155440" y="2012760"/>
                <a:ext cx="38124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299800" y="20311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6734160" y="1920600"/>
                <a:ext cx="473760" cy="353520"/>
                <a:chOff x="6734160" y="1920600"/>
                <a:chExt cx="473760" cy="35352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6752880" y="1936440"/>
                  <a:ext cx="455040" cy="33768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734160" y="1920600"/>
                  <a:ext cx="473760" cy="35352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3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734160" y="1920600"/>
                  <a:ext cx="473760" cy="35352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3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>
                <a:off x="6734160" y="2012760"/>
                <a:ext cx="4561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915600" y="20311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6459840" y="2041920"/>
                <a:ext cx="473760" cy="353880"/>
                <a:chOff x="6459840" y="2041920"/>
                <a:chExt cx="473760" cy="3538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78560" y="2057400"/>
                  <a:ext cx="455040" cy="33840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59840" y="2041920"/>
                  <a:ext cx="473760" cy="35388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459840" y="2041920"/>
                  <a:ext cx="473760" cy="35388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6569280" y="2134440"/>
                <a:ext cx="40032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640560" y="21528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7297200" y="2041920"/>
                <a:ext cx="474840" cy="353880"/>
                <a:chOff x="7297200" y="2041920"/>
                <a:chExt cx="474840" cy="3538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7315560" y="2057400"/>
                  <a:ext cx="456480" cy="33840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297200" y="2041920"/>
                  <a:ext cx="474840" cy="35388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297200" y="2041920"/>
                  <a:ext cx="474840" cy="35388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>
                <a:off x="7297200" y="2134440"/>
                <a:ext cx="47520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99880" y="21528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7737840" y="2041920"/>
                <a:ext cx="472680" cy="353880"/>
                <a:chOff x="7737840" y="2041920"/>
                <a:chExt cx="472680" cy="3538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737840" y="2057400"/>
                  <a:ext cx="472680" cy="338400"/>
                </a:xfrm>
                <a:custGeom>
                  <a:avLst/>
                  <a:gdLst/>
                  <a:ahLst/>
                  <a:rect l="l" t="t" r="r" b="b"/>
                  <a:pathLst>
                    <a:path w="226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6" y="96"/>
                      </a:lnTo>
                      <a:lnTo>
                        <a:pt x="191" y="192"/>
                      </a:lnTo>
                      <a:lnTo>
                        <a:pt x="8" y="192"/>
                      </a:lnTo>
                      <a:lnTo>
                        <a:pt x="43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737840" y="2041920"/>
                  <a:ext cx="456120" cy="353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37840" y="2041920"/>
                  <a:ext cx="456120" cy="353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>
                <a:off x="7717320" y="2134440"/>
                <a:ext cx="47520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1080" y="21528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8283240" y="2041920"/>
                <a:ext cx="473400" cy="353880"/>
                <a:chOff x="8283240" y="2041920"/>
                <a:chExt cx="473400" cy="3538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8283240" y="2057400"/>
                  <a:ext cx="473400" cy="33840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283240" y="2041920"/>
                  <a:ext cx="454680" cy="353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283240" y="2041920"/>
                  <a:ext cx="454680" cy="353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8302320" y="2134440"/>
                <a:ext cx="38124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447040" y="21528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6879600" y="2041920"/>
                <a:ext cx="472680" cy="353880"/>
                <a:chOff x="6879600" y="2041920"/>
                <a:chExt cx="472680" cy="3538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6896160" y="2057400"/>
                  <a:ext cx="456120" cy="33840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879600" y="2041920"/>
                  <a:ext cx="472680" cy="338040"/>
                </a:xfrm>
                <a:custGeom>
                  <a:avLst/>
                  <a:gdLst/>
                  <a:ahLst/>
                  <a:rect l="l" t="t" r="r" b="b"/>
                  <a:pathLst>
                    <a:path w="226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6" y="105"/>
                      </a:lnTo>
                      <a:lnTo>
                        <a:pt x="191" y="192"/>
                      </a:lnTo>
                      <a:lnTo>
                        <a:pt x="8" y="192"/>
                      </a:lnTo>
                      <a:lnTo>
                        <a:pt x="43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879600" y="2041920"/>
                  <a:ext cx="472680" cy="338040"/>
                </a:xfrm>
                <a:custGeom>
                  <a:avLst/>
                  <a:gdLst/>
                  <a:ahLst/>
                  <a:rect l="l" t="t" r="r" b="b"/>
                  <a:pathLst>
                    <a:path w="226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6" y="105"/>
                      </a:lnTo>
                      <a:lnTo>
                        <a:pt x="191" y="192"/>
                      </a:lnTo>
                      <a:lnTo>
                        <a:pt x="8" y="192"/>
                      </a:lnTo>
                      <a:lnTo>
                        <a:pt x="43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6879600" y="2134440"/>
                <a:ext cx="45756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61760" y="21528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"/>
              <p:cNvGrpSpPr/>
              <p:nvPr/>
            </p:nvGrpSpPr>
            <p:grpSpPr>
              <a:xfrm>
                <a:off x="6605280" y="2165760"/>
                <a:ext cx="474840" cy="353880"/>
                <a:chOff x="6605280" y="2165760"/>
                <a:chExt cx="474840" cy="3538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621840" y="2181600"/>
                  <a:ext cx="458280" cy="338040"/>
                </a:xfrm>
                <a:custGeom>
                  <a:avLst/>
                  <a:gdLst/>
                  <a:ahLst/>
                  <a:rect l="l" t="t" r="r" b="b"/>
                  <a:pathLst>
                    <a:path w="219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19" y="96"/>
                      </a:lnTo>
                      <a:lnTo>
                        <a:pt x="184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605280" y="2165760"/>
                  <a:ext cx="45576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8" y="192"/>
                      </a:lnTo>
                      <a:lnTo>
                        <a:pt x="43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605280" y="2165760"/>
                  <a:ext cx="45576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8" y="192"/>
                      </a:lnTo>
                      <a:lnTo>
                        <a:pt x="43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6715080" y="2258280"/>
                <a:ext cx="38376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7444080" y="2165760"/>
                <a:ext cx="474840" cy="353880"/>
                <a:chOff x="7444080" y="2165760"/>
                <a:chExt cx="474840" cy="35388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7462800" y="2181600"/>
                  <a:ext cx="45576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444080" y="2165760"/>
                  <a:ext cx="47484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444080" y="2165760"/>
                  <a:ext cx="47484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2" name=""/>
              <p:cNvSpPr/>
              <p:nvPr/>
            </p:nvSpPr>
            <p:spPr>
              <a:xfrm>
                <a:off x="7444080" y="2258280"/>
                <a:ext cx="47520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7882200" y="2165760"/>
                <a:ext cx="472680" cy="353880"/>
                <a:chOff x="7882200" y="2165760"/>
                <a:chExt cx="472680" cy="3538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7882200" y="2181600"/>
                  <a:ext cx="47268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7882200" y="2165760"/>
                  <a:ext cx="45396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882200" y="2165760"/>
                  <a:ext cx="45396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>
                <a:off x="7864560" y="2258280"/>
                <a:ext cx="47268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"/>
              <p:cNvGrpSpPr/>
              <p:nvPr/>
            </p:nvGrpSpPr>
            <p:grpSpPr>
              <a:xfrm>
                <a:off x="8409240" y="2165760"/>
                <a:ext cx="494280" cy="353880"/>
                <a:chOff x="8409240" y="2165760"/>
                <a:chExt cx="494280" cy="35388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8427600" y="2181600"/>
                  <a:ext cx="47592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409240" y="2165760"/>
                  <a:ext cx="47592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409240" y="2165760"/>
                  <a:ext cx="47592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"/>
              <p:cNvSpPr/>
              <p:nvPr/>
            </p:nvSpPr>
            <p:spPr>
              <a:xfrm>
                <a:off x="8449560" y="2258280"/>
                <a:ext cx="37980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"/>
              <p:cNvGrpSpPr/>
              <p:nvPr/>
            </p:nvGrpSpPr>
            <p:grpSpPr>
              <a:xfrm>
                <a:off x="7023960" y="2165760"/>
                <a:ext cx="475200" cy="353880"/>
                <a:chOff x="7023960" y="2165760"/>
                <a:chExt cx="475200" cy="35388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042680" y="2181600"/>
                  <a:ext cx="45612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023960" y="2165760"/>
                  <a:ext cx="47520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7023960" y="2165760"/>
                  <a:ext cx="47520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7008480" y="2258280"/>
                <a:ext cx="47016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5749920" y="2041920"/>
                <a:ext cx="379800" cy="399960"/>
                <a:chOff x="5749920" y="2041920"/>
                <a:chExt cx="379800" cy="39996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5749920" y="2041920"/>
                  <a:ext cx="234360" cy="276480"/>
                  <a:chOff x="5749920" y="2041920"/>
                  <a:chExt cx="234360" cy="276480"/>
                </a:xfrm>
              </p:grpSpPr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5749920" y="2041920"/>
                    <a:ext cx="234360" cy="276480"/>
                    <a:chOff x="5749920" y="2041920"/>
                    <a:chExt cx="234360" cy="27648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5749920" y="2041920"/>
                      <a:ext cx="2343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57">
                          <a:moveTo>
                            <a:pt x="96" y="0"/>
                          </a:moveTo>
                          <a:lnTo>
                            <a:pt x="113" y="18"/>
                          </a:lnTo>
                          <a:lnTo>
                            <a:pt x="113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96" y="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5749920" y="2041920"/>
                      <a:ext cx="2343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57">
                          <a:moveTo>
                            <a:pt x="96" y="0"/>
                          </a:moveTo>
                          <a:lnTo>
                            <a:pt x="113" y="18"/>
                          </a:lnTo>
                          <a:lnTo>
                            <a:pt x="113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96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5949720" y="2041920"/>
                    <a:ext cx="34200" cy="30960"/>
                    <a:chOff x="5949720" y="2041920"/>
                    <a:chExt cx="34200" cy="3096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5949720" y="2041920"/>
                      <a:ext cx="342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8">
                          <a:moveTo>
                            <a:pt x="0" y="0"/>
                          </a:moveTo>
                          <a:lnTo>
                            <a:pt x="17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a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5949720" y="2041920"/>
                      <a:ext cx="342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8">
                          <a:moveTo>
                            <a:pt x="0" y="0"/>
                          </a:moveTo>
                          <a:lnTo>
                            <a:pt x="17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86" name=""/>
                <p:cNvGrpSpPr/>
                <p:nvPr/>
              </p:nvGrpSpPr>
              <p:grpSpPr>
                <a:xfrm>
                  <a:off x="5823000" y="2103480"/>
                  <a:ext cx="234360" cy="276480"/>
                  <a:chOff x="5823000" y="2103480"/>
                  <a:chExt cx="234360" cy="276480"/>
                </a:xfrm>
              </p:grpSpPr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5823000" y="2103480"/>
                    <a:ext cx="234360" cy="276480"/>
                    <a:chOff x="5823000" y="2103480"/>
                    <a:chExt cx="234360" cy="27648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5823000" y="2103480"/>
                      <a:ext cx="2343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57">
                          <a:moveTo>
                            <a:pt x="96" y="0"/>
                          </a:moveTo>
                          <a:lnTo>
                            <a:pt x="113" y="17"/>
                          </a:lnTo>
                          <a:lnTo>
                            <a:pt x="113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96" y="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5823000" y="2103480"/>
                      <a:ext cx="2343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57">
                          <a:moveTo>
                            <a:pt x="96" y="0"/>
                          </a:moveTo>
                          <a:lnTo>
                            <a:pt x="113" y="17"/>
                          </a:lnTo>
                          <a:lnTo>
                            <a:pt x="113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96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6022440" y="2103480"/>
                    <a:ext cx="34920" cy="29520"/>
                    <a:chOff x="6022440" y="2103480"/>
                    <a:chExt cx="34920" cy="2952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6022440" y="2103480"/>
                      <a:ext cx="349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7" y="17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a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6022440" y="2103480"/>
                      <a:ext cx="349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7" y="17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5876640" y="2165040"/>
                  <a:ext cx="253080" cy="276840"/>
                  <a:chOff x="5876640" y="2165040"/>
                  <a:chExt cx="253080" cy="276840"/>
                </a:xfrm>
              </p:grpSpPr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5876640" y="2165040"/>
                    <a:ext cx="253080" cy="276840"/>
                    <a:chOff x="5876640" y="2165040"/>
                    <a:chExt cx="253080" cy="27684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5876640" y="2165040"/>
                      <a:ext cx="253080" cy="27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157">
                          <a:moveTo>
                            <a:pt x="105" y="0"/>
                          </a:moveTo>
                          <a:lnTo>
                            <a:pt x="122" y="17"/>
                          </a:lnTo>
                          <a:lnTo>
                            <a:pt x="122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105" y="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5876640" y="2165040"/>
                      <a:ext cx="253080" cy="27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157">
                          <a:moveTo>
                            <a:pt x="105" y="0"/>
                          </a:moveTo>
                          <a:lnTo>
                            <a:pt x="122" y="17"/>
                          </a:lnTo>
                          <a:lnTo>
                            <a:pt x="122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105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6094800" y="2165040"/>
                    <a:ext cx="34920" cy="29520"/>
                    <a:chOff x="6094800" y="2165040"/>
                    <a:chExt cx="34920" cy="2952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6094800" y="2165040"/>
                      <a:ext cx="349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7" y="17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a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6094800" y="2165040"/>
                      <a:ext cx="349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7" y="17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700" name=""/>
            <p:cNvGrpSpPr/>
            <p:nvPr/>
          </p:nvGrpSpPr>
          <p:grpSpPr>
            <a:xfrm>
              <a:off x="5749920" y="2703240"/>
              <a:ext cx="3153600" cy="599040"/>
              <a:chOff x="5749920" y="2703240"/>
              <a:chExt cx="3153600" cy="59904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6312960" y="2703240"/>
                <a:ext cx="473760" cy="353520"/>
                <a:chOff x="6312960" y="2703240"/>
                <a:chExt cx="473760" cy="3535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6331320" y="2719080"/>
                  <a:ext cx="455400" cy="33768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312960" y="2703240"/>
                  <a:ext cx="473760" cy="35352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312960" y="2703240"/>
                  <a:ext cx="473760" cy="35352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"/>
              <p:cNvSpPr/>
              <p:nvPr/>
            </p:nvSpPr>
            <p:spPr>
              <a:xfrm>
                <a:off x="6441840" y="2795400"/>
                <a:ext cx="38124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494760" y="2809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7" name=""/>
              <p:cNvGrpSpPr/>
              <p:nvPr/>
            </p:nvGrpSpPr>
            <p:grpSpPr>
              <a:xfrm>
                <a:off x="7171200" y="2703240"/>
                <a:ext cx="473760" cy="353520"/>
                <a:chOff x="7171200" y="2703240"/>
                <a:chExt cx="473760" cy="3535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7171200" y="2719080"/>
                  <a:ext cx="473760" cy="33768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83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7171200" y="2703240"/>
                  <a:ext cx="45504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75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171200" y="2703240"/>
                  <a:ext cx="45504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75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1" name=""/>
              <p:cNvSpPr/>
              <p:nvPr/>
            </p:nvSpPr>
            <p:spPr>
              <a:xfrm>
                <a:off x="7151760" y="2795400"/>
                <a:ext cx="4741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355520" y="2809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7591320" y="2703240"/>
                <a:ext cx="473400" cy="353520"/>
                <a:chOff x="7591320" y="2703240"/>
                <a:chExt cx="473400" cy="3535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7607880" y="2719080"/>
                  <a:ext cx="456840" cy="337680"/>
                </a:xfrm>
                <a:custGeom>
                  <a:avLst/>
                  <a:gdLst/>
                  <a:ahLst/>
                  <a:rect l="l" t="t" r="r" b="b"/>
                  <a:pathLst>
                    <a:path w="219" h="192">
                      <a:moveTo>
                        <a:pt x="0" y="0"/>
                      </a:moveTo>
                      <a:lnTo>
                        <a:pt x="175" y="0"/>
                      </a:lnTo>
                      <a:lnTo>
                        <a:pt x="219" y="105"/>
                      </a:lnTo>
                      <a:lnTo>
                        <a:pt x="184" y="192"/>
                      </a:lnTo>
                      <a:lnTo>
                        <a:pt x="0" y="192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7591320" y="2703240"/>
                  <a:ext cx="45468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7591320" y="2703240"/>
                  <a:ext cx="45468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7571880" y="2795400"/>
                <a:ext cx="47376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70600" y="2809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"/>
              <p:cNvGrpSpPr/>
              <p:nvPr/>
            </p:nvGrpSpPr>
            <p:grpSpPr>
              <a:xfrm>
                <a:off x="8136360" y="2703240"/>
                <a:ext cx="474840" cy="353520"/>
                <a:chOff x="8136360" y="2703240"/>
                <a:chExt cx="474840" cy="3535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8136360" y="2719080"/>
                  <a:ext cx="474840" cy="33768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8136360" y="2703240"/>
                  <a:ext cx="45576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18" y="105"/>
                      </a:lnTo>
                      <a:lnTo>
                        <a:pt x="184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8136360" y="2703240"/>
                  <a:ext cx="45576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18" y="105"/>
                      </a:lnTo>
                      <a:lnTo>
                        <a:pt x="184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"/>
              <p:cNvSpPr/>
              <p:nvPr/>
            </p:nvSpPr>
            <p:spPr>
              <a:xfrm>
                <a:off x="8155440" y="2795400"/>
                <a:ext cx="38124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299800" y="2809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5" name=""/>
              <p:cNvGrpSpPr/>
              <p:nvPr/>
            </p:nvGrpSpPr>
            <p:grpSpPr>
              <a:xfrm>
                <a:off x="6734160" y="2703240"/>
                <a:ext cx="473760" cy="353520"/>
                <a:chOff x="6734160" y="2703240"/>
                <a:chExt cx="473760" cy="3535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6752880" y="2719080"/>
                  <a:ext cx="455040" cy="33768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734160" y="2703240"/>
                  <a:ext cx="473760" cy="35352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3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734160" y="2703240"/>
                  <a:ext cx="473760" cy="35352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3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6734160" y="2795400"/>
                <a:ext cx="4561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5600" y="2809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1" name=""/>
              <p:cNvGrpSpPr/>
              <p:nvPr/>
            </p:nvGrpSpPr>
            <p:grpSpPr>
              <a:xfrm>
                <a:off x="6459840" y="2824560"/>
                <a:ext cx="473760" cy="353880"/>
                <a:chOff x="6459840" y="2824560"/>
                <a:chExt cx="473760" cy="35388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6478560" y="2840040"/>
                  <a:ext cx="455040" cy="33840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459840" y="2824560"/>
                  <a:ext cx="473760" cy="35388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459840" y="2824560"/>
                  <a:ext cx="473760" cy="35388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6569280" y="2917080"/>
                <a:ext cx="40032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640560" y="29368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7297200" y="2824560"/>
                <a:ext cx="474840" cy="353880"/>
                <a:chOff x="7297200" y="2824560"/>
                <a:chExt cx="474840" cy="35388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7315560" y="2840040"/>
                  <a:ext cx="456480" cy="33840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97200" y="2824560"/>
                  <a:ext cx="474840" cy="35388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97200" y="2824560"/>
                  <a:ext cx="474840" cy="35388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1" name=""/>
              <p:cNvSpPr/>
              <p:nvPr/>
            </p:nvSpPr>
            <p:spPr>
              <a:xfrm>
                <a:off x="7297200" y="2917080"/>
                <a:ext cx="47520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499880" y="29368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"/>
              <p:cNvGrpSpPr/>
              <p:nvPr/>
            </p:nvGrpSpPr>
            <p:grpSpPr>
              <a:xfrm>
                <a:off x="7737840" y="2824560"/>
                <a:ext cx="472680" cy="353880"/>
                <a:chOff x="7737840" y="2824560"/>
                <a:chExt cx="472680" cy="35388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7737840" y="2840040"/>
                  <a:ext cx="472680" cy="338400"/>
                </a:xfrm>
                <a:custGeom>
                  <a:avLst/>
                  <a:gdLst/>
                  <a:ahLst/>
                  <a:rect l="l" t="t" r="r" b="b"/>
                  <a:pathLst>
                    <a:path w="226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6" y="96"/>
                      </a:lnTo>
                      <a:lnTo>
                        <a:pt x="191" y="192"/>
                      </a:lnTo>
                      <a:lnTo>
                        <a:pt x="8" y="192"/>
                      </a:lnTo>
                      <a:lnTo>
                        <a:pt x="43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37840" y="2824560"/>
                  <a:ext cx="456120" cy="353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737840" y="2824560"/>
                  <a:ext cx="456120" cy="353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"/>
              <p:cNvSpPr/>
              <p:nvPr/>
            </p:nvSpPr>
            <p:spPr>
              <a:xfrm>
                <a:off x="7717320" y="2917080"/>
                <a:ext cx="47520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921080" y="29368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8283240" y="2824560"/>
                <a:ext cx="473400" cy="353880"/>
                <a:chOff x="8283240" y="2824560"/>
                <a:chExt cx="473400" cy="3538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8283240" y="2840040"/>
                  <a:ext cx="473400" cy="33840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8283240" y="2824560"/>
                  <a:ext cx="454680" cy="353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8283240" y="2824560"/>
                  <a:ext cx="454680" cy="353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"/>
              <p:cNvSpPr/>
              <p:nvPr/>
            </p:nvSpPr>
            <p:spPr>
              <a:xfrm>
                <a:off x="8302320" y="2917080"/>
                <a:ext cx="38124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447040" y="29368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"/>
              <p:cNvGrpSpPr/>
              <p:nvPr/>
            </p:nvGrpSpPr>
            <p:grpSpPr>
              <a:xfrm>
                <a:off x="6879600" y="2824560"/>
                <a:ext cx="472680" cy="353880"/>
                <a:chOff x="6879600" y="2824560"/>
                <a:chExt cx="472680" cy="35388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6896160" y="2840040"/>
                  <a:ext cx="456120" cy="33840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879600" y="2824560"/>
                  <a:ext cx="472680" cy="338040"/>
                </a:xfrm>
                <a:custGeom>
                  <a:avLst/>
                  <a:gdLst/>
                  <a:ahLst/>
                  <a:rect l="l" t="t" r="r" b="b"/>
                  <a:pathLst>
                    <a:path w="226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6" y="105"/>
                      </a:lnTo>
                      <a:lnTo>
                        <a:pt x="191" y="192"/>
                      </a:lnTo>
                      <a:lnTo>
                        <a:pt x="8" y="192"/>
                      </a:lnTo>
                      <a:lnTo>
                        <a:pt x="43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879600" y="2824560"/>
                  <a:ext cx="472680" cy="338040"/>
                </a:xfrm>
                <a:custGeom>
                  <a:avLst/>
                  <a:gdLst/>
                  <a:ahLst/>
                  <a:rect l="l" t="t" r="r" b="b"/>
                  <a:pathLst>
                    <a:path w="226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6" y="105"/>
                      </a:lnTo>
                      <a:lnTo>
                        <a:pt x="191" y="192"/>
                      </a:lnTo>
                      <a:lnTo>
                        <a:pt x="8" y="192"/>
                      </a:lnTo>
                      <a:lnTo>
                        <a:pt x="43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6879600" y="2917080"/>
                <a:ext cx="45756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061760" y="29368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1" name=""/>
              <p:cNvGrpSpPr/>
              <p:nvPr/>
            </p:nvGrpSpPr>
            <p:grpSpPr>
              <a:xfrm>
                <a:off x="6605280" y="2948400"/>
                <a:ext cx="474840" cy="353880"/>
                <a:chOff x="6605280" y="2948400"/>
                <a:chExt cx="474840" cy="35388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6621840" y="2964240"/>
                  <a:ext cx="458280" cy="338040"/>
                </a:xfrm>
                <a:custGeom>
                  <a:avLst/>
                  <a:gdLst/>
                  <a:ahLst/>
                  <a:rect l="l" t="t" r="r" b="b"/>
                  <a:pathLst>
                    <a:path w="219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19" y="96"/>
                      </a:lnTo>
                      <a:lnTo>
                        <a:pt x="184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605280" y="2948400"/>
                  <a:ext cx="45576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8" y="192"/>
                      </a:lnTo>
                      <a:lnTo>
                        <a:pt x="43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605280" y="2948400"/>
                  <a:ext cx="45576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8" y="192"/>
                      </a:lnTo>
                      <a:lnTo>
                        <a:pt x="43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5" name=""/>
              <p:cNvSpPr/>
              <p:nvPr/>
            </p:nvSpPr>
            <p:spPr>
              <a:xfrm>
                <a:off x="6715080" y="3040920"/>
                <a:ext cx="38376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6" name=""/>
              <p:cNvGrpSpPr/>
              <p:nvPr/>
            </p:nvGrpSpPr>
            <p:grpSpPr>
              <a:xfrm>
                <a:off x="7444080" y="2948400"/>
                <a:ext cx="474840" cy="353880"/>
                <a:chOff x="7444080" y="2948400"/>
                <a:chExt cx="474840" cy="35388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7462800" y="2964240"/>
                  <a:ext cx="45576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7444080" y="2948400"/>
                  <a:ext cx="47484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7444080" y="2948400"/>
                  <a:ext cx="47484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7444080" y="3040920"/>
                <a:ext cx="47520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7882200" y="2948400"/>
                <a:ext cx="472680" cy="353880"/>
                <a:chOff x="7882200" y="2948400"/>
                <a:chExt cx="472680" cy="35388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7882200" y="2964240"/>
                  <a:ext cx="47268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7882200" y="2948400"/>
                  <a:ext cx="45396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882200" y="2948400"/>
                  <a:ext cx="45396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"/>
              <p:cNvSpPr/>
              <p:nvPr/>
            </p:nvSpPr>
            <p:spPr>
              <a:xfrm>
                <a:off x="7864560" y="3040920"/>
                <a:ext cx="47268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6" name=""/>
              <p:cNvGrpSpPr/>
              <p:nvPr/>
            </p:nvGrpSpPr>
            <p:grpSpPr>
              <a:xfrm>
                <a:off x="8409240" y="2948400"/>
                <a:ext cx="494280" cy="353880"/>
                <a:chOff x="8409240" y="2948400"/>
                <a:chExt cx="494280" cy="35388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8427600" y="2964240"/>
                  <a:ext cx="47592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409240" y="2948400"/>
                  <a:ext cx="47592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409240" y="2948400"/>
                  <a:ext cx="47592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8449560" y="3040920"/>
                <a:ext cx="37980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7023960" y="2948400"/>
                <a:ext cx="475200" cy="353880"/>
                <a:chOff x="7023960" y="2948400"/>
                <a:chExt cx="475200" cy="35388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7042680" y="2964240"/>
                  <a:ext cx="45612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7023960" y="2948400"/>
                  <a:ext cx="47520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023960" y="2948400"/>
                  <a:ext cx="47520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"/>
              <p:cNvSpPr/>
              <p:nvPr/>
            </p:nvSpPr>
            <p:spPr>
              <a:xfrm>
                <a:off x="7008480" y="3040920"/>
                <a:ext cx="47016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5749920" y="2824560"/>
                <a:ext cx="379800" cy="399960"/>
                <a:chOff x="5749920" y="2824560"/>
                <a:chExt cx="379800" cy="39996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5749920" y="2824560"/>
                  <a:ext cx="234360" cy="276480"/>
                  <a:chOff x="5749920" y="2824560"/>
                  <a:chExt cx="234360" cy="276480"/>
                </a:xfrm>
              </p:grpSpPr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749920" y="2824560"/>
                    <a:ext cx="234360" cy="276480"/>
                    <a:chOff x="5749920" y="2824560"/>
                    <a:chExt cx="234360" cy="27648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>
                      <a:off x="5749920" y="2824560"/>
                      <a:ext cx="2343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57">
                          <a:moveTo>
                            <a:pt x="96" y="0"/>
                          </a:moveTo>
                          <a:lnTo>
                            <a:pt x="113" y="18"/>
                          </a:lnTo>
                          <a:lnTo>
                            <a:pt x="113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96" y="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>
                      <a:off x="5749920" y="2824560"/>
                      <a:ext cx="2343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57">
                          <a:moveTo>
                            <a:pt x="96" y="0"/>
                          </a:moveTo>
                          <a:lnTo>
                            <a:pt x="113" y="18"/>
                          </a:lnTo>
                          <a:lnTo>
                            <a:pt x="113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96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1" name=""/>
                  <p:cNvGrpSpPr/>
                  <p:nvPr/>
                </p:nvGrpSpPr>
                <p:grpSpPr>
                  <a:xfrm>
                    <a:off x="5949720" y="2824560"/>
                    <a:ext cx="34200" cy="30960"/>
                    <a:chOff x="5949720" y="2824560"/>
                    <a:chExt cx="34200" cy="30960"/>
                  </a:xfrm>
                </p:grpSpPr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5949720" y="2824560"/>
                      <a:ext cx="342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8">
                          <a:moveTo>
                            <a:pt x="0" y="0"/>
                          </a:moveTo>
                          <a:lnTo>
                            <a:pt x="17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a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>
                      <a:off x="5949720" y="2824560"/>
                      <a:ext cx="342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8">
                          <a:moveTo>
                            <a:pt x="0" y="0"/>
                          </a:moveTo>
                          <a:lnTo>
                            <a:pt x="17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5823000" y="2886120"/>
                  <a:ext cx="234360" cy="276480"/>
                  <a:chOff x="5823000" y="2886120"/>
                  <a:chExt cx="234360" cy="276480"/>
                </a:xfrm>
              </p:grpSpPr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5823000" y="2886120"/>
                    <a:ext cx="234360" cy="276480"/>
                    <a:chOff x="5823000" y="2886120"/>
                    <a:chExt cx="234360" cy="27648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5823000" y="2886120"/>
                      <a:ext cx="2343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57">
                          <a:moveTo>
                            <a:pt x="96" y="0"/>
                          </a:moveTo>
                          <a:lnTo>
                            <a:pt x="113" y="17"/>
                          </a:lnTo>
                          <a:lnTo>
                            <a:pt x="113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96" y="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5823000" y="2886120"/>
                      <a:ext cx="2343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57">
                          <a:moveTo>
                            <a:pt x="96" y="0"/>
                          </a:moveTo>
                          <a:lnTo>
                            <a:pt x="113" y="17"/>
                          </a:lnTo>
                          <a:lnTo>
                            <a:pt x="113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96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6022440" y="2886120"/>
                    <a:ext cx="34920" cy="29520"/>
                    <a:chOff x="6022440" y="2886120"/>
                    <a:chExt cx="34920" cy="2952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6022440" y="2886120"/>
                      <a:ext cx="349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7" y="17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a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6022440" y="2886120"/>
                      <a:ext cx="349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7" y="17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5876640" y="2947680"/>
                  <a:ext cx="253080" cy="276840"/>
                  <a:chOff x="5876640" y="2947680"/>
                  <a:chExt cx="253080" cy="276840"/>
                </a:xfrm>
              </p:grpSpPr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5876640" y="2947680"/>
                    <a:ext cx="253080" cy="276840"/>
                    <a:chOff x="5876640" y="2947680"/>
                    <a:chExt cx="253080" cy="27684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5876640" y="2947680"/>
                      <a:ext cx="253080" cy="27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157">
                          <a:moveTo>
                            <a:pt x="105" y="0"/>
                          </a:moveTo>
                          <a:lnTo>
                            <a:pt x="122" y="17"/>
                          </a:lnTo>
                          <a:lnTo>
                            <a:pt x="122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105" y="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5876640" y="2947680"/>
                      <a:ext cx="253080" cy="27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157">
                          <a:moveTo>
                            <a:pt x="105" y="0"/>
                          </a:moveTo>
                          <a:lnTo>
                            <a:pt x="122" y="17"/>
                          </a:lnTo>
                          <a:lnTo>
                            <a:pt x="122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105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6094800" y="2947680"/>
                    <a:ext cx="34920" cy="29520"/>
                    <a:chOff x="6094800" y="2947680"/>
                    <a:chExt cx="34920" cy="2952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6094800" y="2947680"/>
                      <a:ext cx="349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7" y="17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a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6094800" y="2947680"/>
                      <a:ext cx="349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7" y="17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808" name=""/>
            <p:cNvGrpSpPr/>
            <p:nvPr/>
          </p:nvGrpSpPr>
          <p:grpSpPr>
            <a:xfrm>
              <a:off x="5745240" y="3512880"/>
              <a:ext cx="3151800" cy="599040"/>
              <a:chOff x="5745240" y="3512880"/>
              <a:chExt cx="3151800" cy="599040"/>
            </a:xfrm>
          </p:grpSpPr>
          <p:grpSp>
            <p:nvGrpSpPr>
              <p:cNvPr id="809" name=""/>
              <p:cNvGrpSpPr/>
              <p:nvPr/>
            </p:nvGrpSpPr>
            <p:grpSpPr>
              <a:xfrm>
                <a:off x="6307920" y="3512880"/>
                <a:ext cx="473400" cy="353520"/>
                <a:chOff x="6307920" y="3512880"/>
                <a:chExt cx="473400" cy="35352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6326280" y="3528720"/>
                  <a:ext cx="455040" cy="33768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307920" y="3512880"/>
                  <a:ext cx="473400" cy="35352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307920" y="3512880"/>
                  <a:ext cx="473400" cy="35352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3" name=""/>
              <p:cNvSpPr/>
              <p:nvPr/>
            </p:nvSpPr>
            <p:spPr>
              <a:xfrm>
                <a:off x="6436440" y="3605040"/>
                <a:ext cx="38088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491160" y="36201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5" name=""/>
              <p:cNvGrpSpPr/>
              <p:nvPr/>
            </p:nvGrpSpPr>
            <p:grpSpPr>
              <a:xfrm>
                <a:off x="7165440" y="3512880"/>
                <a:ext cx="473400" cy="353520"/>
                <a:chOff x="7165440" y="3512880"/>
                <a:chExt cx="473400" cy="35352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7165440" y="3528720"/>
                  <a:ext cx="473400" cy="33768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83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7165440" y="3512880"/>
                  <a:ext cx="45468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75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7165440" y="3512880"/>
                  <a:ext cx="45468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75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"/>
              <p:cNvSpPr/>
              <p:nvPr/>
            </p:nvSpPr>
            <p:spPr>
              <a:xfrm>
                <a:off x="7146360" y="3605040"/>
                <a:ext cx="47376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344360" y="36201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1" name=""/>
              <p:cNvGrpSpPr/>
              <p:nvPr/>
            </p:nvGrpSpPr>
            <p:grpSpPr>
              <a:xfrm>
                <a:off x="7585560" y="3512880"/>
                <a:ext cx="472680" cy="353520"/>
                <a:chOff x="7585560" y="3512880"/>
                <a:chExt cx="472680" cy="35352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601760" y="3528720"/>
                  <a:ext cx="456480" cy="337680"/>
                </a:xfrm>
                <a:custGeom>
                  <a:avLst/>
                  <a:gdLst/>
                  <a:ahLst/>
                  <a:rect l="l" t="t" r="r" b="b"/>
                  <a:pathLst>
                    <a:path w="219" h="192">
                      <a:moveTo>
                        <a:pt x="0" y="0"/>
                      </a:moveTo>
                      <a:lnTo>
                        <a:pt x="175" y="0"/>
                      </a:lnTo>
                      <a:lnTo>
                        <a:pt x="219" y="105"/>
                      </a:lnTo>
                      <a:lnTo>
                        <a:pt x="184" y="192"/>
                      </a:lnTo>
                      <a:lnTo>
                        <a:pt x="0" y="192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585560" y="3512880"/>
                  <a:ext cx="45432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585560" y="3512880"/>
                  <a:ext cx="45432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5" name=""/>
              <p:cNvSpPr/>
              <p:nvPr/>
            </p:nvSpPr>
            <p:spPr>
              <a:xfrm>
                <a:off x="7566120" y="3605040"/>
                <a:ext cx="47340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764480" y="36201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8130240" y="3512880"/>
                <a:ext cx="474480" cy="353520"/>
                <a:chOff x="8130240" y="3512880"/>
                <a:chExt cx="474480" cy="35352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8130240" y="3528720"/>
                  <a:ext cx="474480" cy="33768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130240" y="3512880"/>
                  <a:ext cx="45540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18" y="105"/>
                      </a:lnTo>
                      <a:lnTo>
                        <a:pt x="184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130240" y="3512880"/>
                  <a:ext cx="455400" cy="35352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18" y="105"/>
                      </a:lnTo>
                      <a:lnTo>
                        <a:pt x="184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8149320" y="3605040"/>
                <a:ext cx="38088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293680" y="36201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6729120" y="3512880"/>
                <a:ext cx="473400" cy="353520"/>
                <a:chOff x="6729120" y="3512880"/>
                <a:chExt cx="473400" cy="35352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747840" y="3528720"/>
                  <a:ext cx="454680" cy="33768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729120" y="3512880"/>
                  <a:ext cx="473400" cy="35352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3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729120" y="3512880"/>
                  <a:ext cx="473400" cy="35352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3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7" name=""/>
              <p:cNvSpPr/>
              <p:nvPr/>
            </p:nvSpPr>
            <p:spPr>
              <a:xfrm>
                <a:off x="6729120" y="3605040"/>
                <a:ext cx="45576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909480" y="36201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"/>
              <p:cNvGrpSpPr/>
              <p:nvPr/>
            </p:nvGrpSpPr>
            <p:grpSpPr>
              <a:xfrm>
                <a:off x="6454800" y="3634200"/>
                <a:ext cx="473400" cy="353880"/>
                <a:chOff x="6454800" y="3634200"/>
                <a:chExt cx="473400" cy="3538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6473520" y="3649680"/>
                  <a:ext cx="454680" cy="33840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454800" y="3634200"/>
                  <a:ext cx="473400" cy="35388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454800" y="3634200"/>
                  <a:ext cx="473400" cy="35388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"/>
              <p:cNvSpPr/>
              <p:nvPr/>
            </p:nvSpPr>
            <p:spPr>
              <a:xfrm>
                <a:off x="6564240" y="3726720"/>
                <a:ext cx="40032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635160" y="37450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7291800" y="3634200"/>
                <a:ext cx="474480" cy="353880"/>
                <a:chOff x="7291800" y="3634200"/>
                <a:chExt cx="474480" cy="353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310160" y="3649680"/>
                  <a:ext cx="456120" cy="33840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291800" y="3634200"/>
                  <a:ext cx="474480" cy="35388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291800" y="3634200"/>
                  <a:ext cx="474480" cy="353880"/>
                </a:xfrm>
                <a:custGeom>
                  <a:avLst/>
                  <a:gdLst/>
                  <a:ahLst/>
                  <a:rect l="l" t="t" r="r" b="b"/>
                  <a:pathLst>
                    <a:path w="227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201"/>
                      </a:lnTo>
                      <a:lnTo>
                        <a:pt x="9" y="201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9" name=""/>
              <p:cNvSpPr/>
              <p:nvPr/>
            </p:nvSpPr>
            <p:spPr>
              <a:xfrm>
                <a:off x="7291800" y="3726720"/>
                <a:ext cx="47484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495200" y="37450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7732080" y="3634200"/>
                <a:ext cx="472320" cy="353880"/>
                <a:chOff x="7732080" y="3634200"/>
                <a:chExt cx="472320" cy="35388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7732080" y="3649680"/>
                  <a:ext cx="472320" cy="338400"/>
                </a:xfrm>
                <a:custGeom>
                  <a:avLst/>
                  <a:gdLst/>
                  <a:ahLst/>
                  <a:rect l="l" t="t" r="r" b="b"/>
                  <a:pathLst>
                    <a:path w="226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6" y="96"/>
                      </a:lnTo>
                      <a:lnTo>
                        <a:pt x="191" y="192"/>
                      </a:lnTo>
                      <a:lnTo>
                        <a:pt x="8" y="192"/>
                      </a:lnTo>
                      <a:lnTo>
                        <a:pt x="43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732080" y="3634200"/>
                  <a:ext cx="455760" cy="353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7732080" y="3634200"/>
                  <a:ext cx="455760" cy="353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>
                <a:off x="7711560" y="3726720"/>
                <a:ext cx="47484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13520" y="37450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8277120" y="3634200"/>
                <a:ext cx="473040" cy="353880"/>
                <a:chOff x="8277120" y="3634200"/>
                <a:chExt cx="473040" cy="35388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8277120" y="3649680"/>
                  <a:ext cx="473040" cy="33840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277120" y="3634200"/>
                  <a:ext cx="454320" cy="353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8277120" y="3634200"/>
                  <a:ext cx="454320" cy="353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201"/>
                      </a:lnTo>
                      <a:lnTo>
                        <a:pt x="0" y="201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"/>
              <p:cNvSpPr/>
              <p:nvPr/>
            </p:nvSpPr>
            <p:spPr>
              <a:xfrm>
                <a:off x="8296200" y="3726720"/>
                <a:ext cx="38088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440560" y="37450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"/>
              <p:cNvGrpSpPr/>
              <p:nvPr/>
            </p:nvGrpSpPr>
            <p:grpSpPr>
              <a:xfrm>
                <a:off x="6874560" y="3634200"/>
                <a:ext cx="472320" cy="353880"/>
                <a:chOff x="6874560" y="3634200"/>
                <a:chExt cx="472320" cy="35388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6891120" y="3649680"/>
                  <a:ext cx="455760" cy="33840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874560" y="3634200"/>
                  <a:ext cx="472320" cy="338040"/>
                </a:xfrm>
                <a:custGeom>
                  <a:avLst/>
                  <a:gdLst/>
                  <a:ahLst/>
                  <a:rect l="l" t="t" r="r" b="b"/>
                  <a:pathLst>
                    <a:path w="226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6" y="105"/>
                      </a:lnTo>
                      <a:lnTo>
                        <a:pt x="191" y="192"/>
                      </a:lnTo>
                      <a:lnTo>
                        <a:pt x="8" y="192"/>
                      </a:lnTo>
                      <a:lnTo>
                        <a:pt x="43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6874560" y="3634200"/>
                  <a:ext cx="472320" cy="338040"/>
                </a:xfrm>
                <a:custGeom>
                  <a:avLst/>
                  <a:gdLst/>
                  <a:ahLst/>
                  <a:rect l="l" t="t" r="r" b="b"/>
                  <a:pathLst>
                    <a:path w="226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6" y="105"/>
                      </a:lnTo>
                      <a:lnTo>
                        <a:pt x="191" y="192"/>
                      </a:lnTo>
                      <a:lnTo>
                        <a:pt x="8" y="192"/>
                      </a:lnTo>
                      <a:lnTo>
                        <a:pt x="43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"/>
              <p:cNvSpPr/>
              <p:nvPr/>
            </p:nvSpPr>
            <p:spPr>
              <a:xfrm>
                <a:off x="6874560" y="3726720"/>
                <a:ext cx="45720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053840" y="37450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6600240" y="3758040"/>
                <a:ext cx="474480" cy="353880"/>
                <a:chOff x="6600240" y="3758040"/>
                <a:chExt cx="474480" cy="35388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6616800" y="3773880"/>
                  <a:ext cx="457920" cy="338040"/>
                </a:xfrm>
                <a:custGeom>
                  <a:avLst/>
                  <a:gdLst/>
                  <a:ahLst/>
                  <a:rect l="l" t="t" r="r" b="b"/>
                  <a:pathLst>
                    <a:path w="219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19" y="96"/>
                      </a:lnTo>
                      <a:lnTo>
                        <a:pt x="184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600240" y="3758040"/>
                  <a:ext cx="45540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8" y="192"/>
                      </a:lnTo>
                      <a:lnTo>
                        <a:pt x="43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600240" y="3758040"/>
                  <a:ext cx="45540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8" y="192"/>
                      </a:lnTo>
                      <a:lnTo>
                        <a:pt x="43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3" name=""/>
              <p:cNvSpPr/>
              <p:nvPr/>
            </p:nvSpPr>
            <p:spPr>
              <a:xfrm>
                <a:off x="6709680" y="3850560"/>
                <a:ext cx="38340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7438680" y="3758040"/>
                <a:ext cx="474480" cy="353880"/>
                <a:chOff x="7438680" y="3758040"/>
                <a:chExt cx="474480" cy="35388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7457400" y="3773880"/>
                  <a:ext cx="45540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7438680" y="3758040"/>
                  <a:ext cx="47448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7438680" y="3758040"/>
                  <a:ext cx="47448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7438680" y="3850560"/>
                <a:ext cx="47484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7876440" y="3758040"/>
                <a:ext cx="472320" cy="353880"/>
                <a:chOff x="7876440" y="3758040"/>
                <a:chExt cx="472320" cy="35388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7876440" y="3773880"/>
                  <a:ext cx="47232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876440" y="3758040"/>
                  <a:ext cx="45360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876440" y="3758040"/>
                  <a:ext cx="45360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105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3" name=""/>
              <p:cNvSpPr/>
              <p:nvPr/>
            </p:nvSpPr>
            <p:spPr>
              <a:xfrm>
                <a:off x="7858440" y="3850560"/>
                <a:ext cx="4723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4" name=""/>
              <p:cNvGrpSpPr/>
              <p:nvPr/>
            </p:nvGrpSpPr>
            <p:grpSpPr>
              <a:xfrm>
                <a:off x="8403120" y="3758040"/>
                <a:ext cx="493920" cy="353880"/>
                <a:chOff x="8403120" y="3758040"/>
                <a:chExt cx="493920" cy="35388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8421480" y="3773880"/>
                  <a:ext cx="47556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8403120" y="3758040"/>
                  <a:ext cx="47556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8403120" y="3758040"/>
                  <a:ext cx="47556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>
                <a:off x="8443080" y="3850560"/>
                <a:ext cx="37944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9" name=""/>
              <p:cNvGrpSpPr/>
              <p:nvPr/>
            </p:nvGrpSpPr>
            <p:grpSpPr>
              <a:xfrm>
                <a:off x="7018560" y="3758040"/>
                <a:ext cx="474840" cy="353880"/>
                <a:chOff x="7018560" y="3758040"/>
                <a:chExt cx="474840" cy="35388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7037280" y="3773880"/>
                  <a:ext cx="455760" cy="33804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018560" y="3758040"/>
                  <a:ext cx="47484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018560" y="3758040"/>
                  <a:ext cx="474840" cy="33804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3" name=""/>
              <p:cNvSpPr/>
              <p:nvPr/>
            </p:nvSpPr>
            <p:spPr>
              <a:xfrm>
                <a:off x="7003080" y="3850560"/>
                <a:ext cx="47016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"/>
              <p:cNvGrpSpPr/>
              <p:nvPr/>
            </p:nvGrpSpPr>
            <p:grpSpPr>
              <a:xfrm>
                <a:off x="5745240" y="3634200"/>
                <a:ext cx="379800" cy="399960"/>
                <a:chOff x="5745240" y="3634200"/>
                <a:chExt cx="379800" cy="399960"/>
              </a:xfrm>
            </p:grpSpPr>
            <p:grpSp>
              <p:nvGrpSpPr>
                <p:cNvPr id="895" name=""/>
                <p:cNvGrpSpPr/>
                <p:nvPr/>
              </p:nvGrpSpPr>
              <p:grpSpPr>
                <a:xfrm>
                  <a:off x="5745240" y="3634200"/>
                  <a:ext cx="234000" cy="276480"/>
                  <a:chOff x="5745240" y="3634200"/>
                  <a:chExt cx="234000" cy="276480"/>
                </a:xfrm>
              </p:grpSpPr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5745240" y="3634200"/>
                    <a:ext cx="234000" cy="276480"/>
                    <a:chOff x="5745240" y="3634200"/>
                    <a:chExt cx="234000" cy="27648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5745240" y="3634200"/>
                      <a:ext cx="23400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57">
                          <a:moveTo>
                            <a:pt x="96" y="0"/>
                          </a:moveTo>
                          <a:lnTo>
                            <a:pt x="113" y="18"/>
                          </a:lnTo>
                          <a:lnTo>
                            <a:pt x="113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96" y="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5745240" y="3634200"/>
                      <a:ext cx="23400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57">
                          <a:moveTo>
                            <a:pt x="96" y="0"/>
                          </a:moveTo>
                          <a:lnTo>
                            <a:pt x="113" y="18"/>
                          </a:lnTo>
                          <a:lnTo>
                            <a:pt x="113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96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9" name=""/>
                  <p:cNvGrpSpPr/>
                  <p:nvPr/>
                </p:nvGrpSpPr>
                <p:grpSpPr>
                  <a:xfrm>
                    <a:off x="5944680" y="3634200"/>
                    <a:ext cx="34200" cy="30960"/>
                    <a:chOff x="5944680" y="3634200"/>
                    <a:chExt cx="34200" cy="30960"/>
                  </a:xfrm>
                </p:grpSpPr>
                <p:sp>
                  <p:nvSpPr>
                    <p:cNvPr id="900" name=""/>
                    <p:cNvSpPr/>
                    <p:nvPr/>
                  </p:nvSpPr>
                  <p:spPr>
                    <a:xfrm>
                      <a:off x="5944680" y="3634200"/>
                      <a:ext cx="342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8">
                          <a:moveTo>
                            <a:pt x="0" y="0"/>
                          </a:moveTo>
                          <a:lnTo>
                            <a:pt x="17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a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>
                      <a:off x="5944680" y="3634200"/>
                      <a:ext cx="342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8">
                          <a:moveTo>
                            <a:pt x="0" y="0"/>
                          </a:moveTo>
                          <a:lnTo>
                            <a:pt x="17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02" name=""/>
                <p:cNvGrpSpPr/>
                <p:nvPr/>
              </p:nvGrpSpPr>
              <p:grpSpPr>
                <a:xfrm>
                  <a:off x="5818320" y="3695760"/>
                  <a:ext cx="234000" cy="276480"/>
                  <a:chOff x="5818320" y="3695760"/>
                  <a:chExt cx="234000" cy="276480"/>
                </a:xfrm>
              </p:grpSpPr>
              <p:grpSp>
                <p:nvGrpSpPr>
                  <p:cNvPr id="903" name=""/>
                  <p:cNvGrpSpPr/>
                  <p:nvPr/>
                </p:nvGrpSpPr>
                <p:grpSpPr>
                  <a:xfrm>
                    <a:off x="5818320" y="3695760"/>
                    <a:ext cx="234000" cy="276480"/>
                    <a:chOff x="5818320" y="3695760"/>
                    <a:chExt cx="234000" cy="276480"/>
                  </a:xfrm>
                </p:grpSpPr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5818320" y="3695760"/>
                      <a:ext cx="23400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57">
                          <a:moveTo>
                            <a:pt x="96" y="0"/>
                          </a:moveTo>
                          <a:lnTo>
                            <a:pt x="113" y="17"/>
                          </a:lnTo>
                          <a:lnTo>
                            <a:pt x="113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96" y="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5818320" y="3695760"/>
                      <a:ext cx="23400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57">
                          <a:moveTo>
                            <a:pt x="96" y="0"/>
                          </a:moveTo>
                          <a:lnTo>
                            <a:pt x="113" y="17"/>
                          </a:lnTo>
                          <a:lnTo>
                            <a:pt x="113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96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6" name=""/>
                  <p:cNvGrpSpPr/>
                  <p:nvPr/>
                </p:nvGrpSpPr>
                <p:grpSpPr>
                  <a:xfrm>
                    <a:off x="6017400" y="3695760"/>
                    <a:ext cx="34920" cy="29520"/>
                    <a:chOff x="6017400" y="3695760"/>
                    <a:chExt cx="34920" cy="29520"/>
                  </a:xfrm>
                </p:grpSpPr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6017400" y="3695760"/>
                      <a:ext cx="349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7" y="17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a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6017400" y="3695760"/>
                      <a:ext cx="349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7" y="17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5871960" y="3757320"/>
                  <a:ext cx="253080" cy="276840"/>
                  <a:chOff x="5871960" y="3757320"/>
                  <a:chExt cx="253080" cy="276840"/>
                </a:xfrm>
              </p:grpSpPr>
              <p:grpSp>
                <p:nvGrpSpPr>
                  <p:cNvPr id="910" name=""/>
                  <p:cNvGrpSpPr/>
                  <p:nvPr/>
                </p:nvGrpSpPr>
                <p:grpSpPr>
                  <a:xfrm>
                    <a:off x="5871960" y="3757320"/>
                    <a:ext cx="253080" cy="276840"/>
                    <a:chOff x="5871960" y="3757320"/>
                    <a:chExt cx="253080" cy="276840"/>
                  </a:xfrm>
                </p:grpSpPr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5871960" y="3757320"/>
                      <a:ext cx="253080" cy="27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157">
                          <a:moveTo>
                            <a:pt x="105" y="0"/>
                          </a:moveTo>
                          <a:lnTo>
                            <a:pt x="122" y="17"/>
                          </a:lnTo>
                          <a:lnTo>
                            <a:pt x="122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105" y="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5871960" y="3757320"/>
                      <a:ext cx="253080" cy="27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157">
                          <a:moveTo>
                            <a:pt x="105" y="0"/>
                          </a:moveTo>
                          <a:lnTo>
                            <a:pt x="122" y="17"/>
                          </a:lnTo>
                          <a:lnTo>
                            <a:pt x="122" y="157"/>
                          </a:lnTo>
                          <a:lnTo>
                            <a:pt x="0" y="157"/>
                          </a:lnTo>
                          <a:lnTo>
                            <a:pt x="0" y="0"/>
                          </a:lnTo>
                          <a:lnTo>
                            <a:pt x="105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6090120" y="3757320"/>
                    <a:ext cx="34920" cy="29520"/>
                    <a:chOff x="6090120" y="3757320"/>
                    <a:chExt cx="34920" cy="29520"/>
                  </a:xfrm>
                </p:grpSpPr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6090120" y="3757320"/>
                      <a:ext cx="349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7" y="17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a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6090120" y="3757320"/>
                      <a:ext cx="349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7" y="17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916" name=""/>
            <p:cNvSpPr/>
            <p:nvPr/>
          </p:nvSpPr>
          <p:spPr>
            <a:xfrm>
              <a:off x="2844720" y="4324320"/>
              <a:ext cx="1487520" cy="864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o Estratégico  da Unidade de Negóc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260960" y="4324320"/>
              <a:ext cx="1251000" cy="86148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9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fólio de Produ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posta de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595520" y="4324320"/>
              <a:ext cx="1317600" cy="867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o Estratégico da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por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511960" y="4324320"/>
              <a:ext cx="938160" cy="86148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lano do 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1200" y="4324320"/>
              <a:ext cx="1371600" cy="867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os Principa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844720" y="5186160"/>
              <a:ext cx="1487520" cy="866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jamento Estratégico do Negóc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260960" y="5186160"/>
              <a:ext cx="1272960" cy="86328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lanejamento Estratégico de Produto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595520" y="5186160"/>
              <a:ext cx="1317600" cy="869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jamento Estratégico da Corpor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1200" y="5186160"/>
              <a:ext cx="1371600" cy="869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595520" y="6003720"/>
              <a:ext cx="2674800" cy="804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jamento Estratég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41200" y="6003720"/>
              <a:ext cx="1371600" cy="804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60960" y="6411600"/>
              <a:ext cx="4643280" cy="412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o de Desenvolvimento de Produ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60960" y="6003720"/>
              <a:ext cx="2189160" cy="4125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é-Desenvolvi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088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Método do período de retorno do investiment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96"/>
                </a:solidFill>
                <a:latin typeface="Arial"/>
                <a:ea typeface="Times New Roman"/>
              </a:rPr>
              <a:t>p</a:t>
            </a:r>
            <a:r>
              <a:rPr b="0" i="1" lang="en-US" sz="2400" spc="-1" strike="noStrike">
                <a:solidFill>
                  <a:srgbClr val="000096"/>
                </a:solidFill>
                <a:latin typeface="Arial"/>
              </a:rPr>
              <a:t>ayback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76320" y="939960"/>
            <a:ext cx="8991360" cy="1382400"/>
          </a:xfrm>
          <a:prstGeom prst="rect">
            <a:avLst/>
          </a:prstGeom>
          <a:solidFill>
            <a:srgbClr val="006666"/>
          </a:soli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Esse método compara o período em que o invest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passará a gerar lucro para a 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33480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498600" y="2809800"/>
            <a:ext cx="7319880" cy="3930840"/>
          </a:xfrm>
          <a:prstGeom prst="rect">
            <a:avLst/>
          </a:prstGeom>
          <a:ln w="0">
            <a:noFill/>
          </a:ln>
        </p:spPr>
      </p:pic>
      <p:sp>
        <p:nvSpPr>
          <p:cNvPr id="1855" name=""/>
          <p:cNvSpPr/>
          <p:nvPr/>
        </p:nvSpPr>
        <p:spPr>
          <a:xfrm>
            <a:off x="368280" y="2451240"/>
            <a:ext cx="8089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ndo o mesmo exemplo anterior, o ROI se dará no período 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O uso dos métodos de VPL, TIR e ROI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5741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da um desses métodos resulta em informações diferentes, que podem ser utilizados de maneira complemen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P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é um método que fornece uma boa noção do montante que será obtido com o projeto, isto é, o valor que será captado, porém, ele não permite uma comparação fácil com outros investi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se aspecto é a grande vantagem da informação obtida na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TI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fornece um valor facilmente compar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s existem projetos que retornam um bom montante (VPL altamente positivo) e rentáveis (TIR acima da taxa de atratividade) mas cujo período de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torno de invest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é longo, significando que a empresa terá que amargar um bom período de prejuízo até a obtenção do lu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anto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comenda-se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o cálculo desses três parâmetr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136080" y="903240"/>
            <a:ext cx="8796600" cy="57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s comuns na preparação da declaração do escopo do projeto (quadro 5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atividades (quadro 5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ndo as atividades (quadro 5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s de gestão de projetos (quadro 5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relacionamentos entre atividades (quadro 5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e econômica do desenvolvimento de produtos (quadro 5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álise financeira acompanhará todo o ciclo de vida do produto (quadro 5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8160" y="25560"/>
            <a:ext cx="66643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nálise financeira acompanhará todo o ciclo de vida do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112680" y="887040"/>
            <a:ext cx="8624880" cy="159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be uma revisão periódica dessa análise ao longo do andamento do proj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o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lanejamento, estão disponíveis apenas informações preliminares, e, portanto, passíveis de mudanç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 longo da execução do projeto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2500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3" name="" descr=""/>
          <p:cNvPicPr/>
          <p:nvPr/>
        </p:nvPicPr>
        <p:blipFill>
          <a:blip r:embed="rId1"/>
          <a:stretch/>
        </p:blipFill>
        <p:spPr>
          <a:xfrm>
            <a:off x="1433520" y="2536920"/>
            <a:ext cx="63738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ir indicadores de desempe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plano d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e preparar aqui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plano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6" name=""/>
          <p:cNvGrpSpPr/>
          <p:nvPr/>
        </p:nvGrpSpPr>
        <p:grpSpPr>
          <a:xfrm>
            <a:off x="291960" y="857160"/>
            <a:ext cx="8192520" cy="5776920"/>
            <a:chOff x="291960" y="857160"/>
            <a:chExt cx="8192520" cy="5776920"/>
          </a:xfrm>
        </p:grpSpPr>
        <p:sp>
          <p:nvSpPr>
            <p:cNvPr id="1867" name=""/>
            <p:cNvSpPr/>
            <p:nvPr/>
          </p:nvSpPr>
          <p:spPr>
            <a:xfrm>
              <a:off x="3165480" y="933120"/>
              <a:ext cx="5203440" cy="3848400"/>
            </a:xfrm>
            <a:custGeom>
              <a:avLst/>
              <a:gdLst/>
              <a:ahLst/>
              <a:rect l="l" t="t" r="r" b="b"/>
              <a:pathLst>
                <a:path w="2785" h="2424">
                  <a:moveTo>
                    <a:pt x="0" y="1010"/>
                  </a:moveTo>
                  <a:lnTo>
                    <a:pt x="718" y="0"/>
                  </a:lnTo>
                  <a:lnTo>
                    <a:pt x="2783" y="0"/>
                  </a:lnTo>
                  <a:lnTo>
                    <a:pt x="2785" y="2416"/>
                  </a:lnTo>
                  <a:lnTo>
                    <a:pt x="740" y="2424"/>
                  </a:lnTo>
                  <a:lnTo>
                    <a:pt x="10" y="133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91960" y="2143080"/>
              <a:ext cx="1675800" cy="472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ejamento do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 rot="10800000">
              <a:off x="1993680" y="3350880"/>
              <a:ext cx="78300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 rot="10800000">
              <a:off x="1991880" y="2014200"/>
              <a:ext cx="78228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91960" y="857160"/>
              <a:ext cx="43531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lo de referência específ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aptado para 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claração do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copo d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/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767600" y="2425680"/>
              <a:ext cx="1703880" cy="63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dicadores de desempen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78240" y="3755880"/>
              <a:ext cx="33166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mulação de indicadore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de desempenho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para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 fases e atividades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do DP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4" name=""/>
            <p:cNvGrpSpPr/>
            <p:nvPr/>
          </p:nvGrpSpPr>
          <p:grpSpPr>
            <a:xfrm>
              <a:off x="4501440" y="4838400"/>
              <a:ext cx="3983040" cy="1795680"/>
              <a:chOff x="4501440" y="4838400"/>
              <a:chExt cx="3983040" cy="1795680"/>
            </a:xfrm>
          </p:grpSpPr>
          <p:sp>
            <p:nvSpPr>
              <p:cNvPr id="1875" name=""/>
              <p:cNvSpPr/>
              <p:nvPr/>
            </p:nvSpPr>
            <p:spPr>
              <a:xfrm>
                <a:off x="4501440" y="5221080"/>
                <a:ext cx="3983040" cy="141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158080" y="5586120"/>
                <a:ext cx="2667240" cy="90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uniões entre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ime 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envolvimen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 o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de avaliação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686480" y="4838400"/>
                <a:ext cx="351216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étodos, ferramentas, documentos de apo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8" name=""/>
            <p:cNvSpPr/>
            <p:nvPr/>
          </p:nvSpPr>
          <p:spPr>
            <a:xfrm>
              <a:off x="452520" y="5221080"/>
              <a:ext cx="3983400" cy="141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78240" y="4838400"/>
              <a:ext cx="3512880" cy="274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ação com outras ativ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35920" y="2425680"/>
              <a:ext cx="3247560" cy="730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lecionar os indicadores de desempenho mais adequados para o presente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956880" y="6181560"/>
              <a:ext cx="321876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aptar o modelo de refe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092960" y="5878440"/>
              <a:ext cx="287028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atividades e praz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26200" y="5586120"/>
              <a:ext cx="336492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declaração de esco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finir indicadores de desempenh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elecionar os indicadores de desempenho para o projeto em planejamento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751960" cy="58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definição dos critérios/indicadores de desempenh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o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a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começa na presente atividade de planejamento e se estende para outras atividades do próprio desenvolvimento, de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volver participantes tanto do time de desenvolvimento como do time de avaliaç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m </a:t>
            </a:r>
            <a:r>
              <a:rPr b="0" i="1" lang="pt-BR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trade-off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tre o desempenho do produto (qualidade — grau em que o produto satisfaz os requisitos do consumidor), os custos de desenvolvimento e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me-to-market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medida do quão rápido a empresa pode se mover do conceito para o mercado)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ndo necessária a compatibilização entre esses fat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elecionar os indicadores de desempenho para o projeto em planejamento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80960" y="948960"/>
            <a:ext cx="8408880" cy="55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I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ndicadore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mais empreg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onados com o tempo, custo e escopo dos projetos individu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o de desenvolviment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-to-marke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ção das atividades programadas, conforme o planej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 tot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o proj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 real sobre orçamento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idade dos resultados em conformidade com as especificaç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bém deve ser planejado, ao menos preliminarmente, quais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ecis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mar conforme os resultados encontrados na avaliação desses indicad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indicadores de desempe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ir plano d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e preparar aqui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plano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1" name=""/>
          <p:cNvGrpSpPr/>
          <p:nvPr/>
        </p:nvGrpSpPr>
        <p:grpSpPr>
          <a:xfrm>
            <a:off x="241200" y="880920"/>
            <a:ext cx="8484480" cy="5791320"/>
            <a:chOff x="241200" y="880920"/>
            <a:chExt cx="8484480" cy="5791320"/>
          </a:xfrm>
        </p:grpSpPr>
        <p:sp>
          <p:nvSpPr>
            <p:cNvPr id="1892" name=""/>
            <p:cNvSpPr/>
            <p:nvPr/>
          </p:nvSpPr>
          <p:spPr>
            <a:xfrm>
              <a:off x="3216960" y="971280"/>
              <a:ext cx="5389200" cy="3848400"/>
            </a:xfrm>
            <a:custGeom>
              <a:avLst/>
              <a:gdLst/>
              <a:ahLst/>
              <a:rect l="l" t="t" r="r" b="b"/>
              <a:pathLst>
                <a:path w="2785" h="2424">
                  <a:moveTo>
                    <a:pt x="0" y="1010"/>
                  </a:moveTo>
                  <a:lnTo>
                    <a:pt x="718" y="0"/>
                  </a:lnTo>
                  <a:lnTo>
                    <a:pt x="2783" y="0"/>
                  </a:lnTo>
                  <a:lnTo>
                    <a:pt x="2785" y="2416"/>
                  </a:lnTo>
                  <a:lnTo>
                    <a:pt x="740" y="2424"/>
                  </a:lnTo>
                  <a:lnTo>
                    <a:pt x="10" y="133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41200" y="2181240"/>
              <a:ext cx="1735200" cy="472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ejamento do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rot="10800000">
              <a:off x="2003760" y="3322440"/>
              <a:ext cx="81072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rot="10800000">
              <a:off x="2001600" y="2052360"/>
              <a:ext cx="81036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07160" y="880920"/>
              <a:ext cx="383688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pos e formatos das informações demand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cnologias de informação e comunicação disponíve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769400" y="2635200"/>
              <a:ext cx="1764720" cy="549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plano de comunic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791960" y="2220840"/>
              <a:ext cx="3204720" cy="1097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eterminar qu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, quando e como as partes envolvidas no projeto precisam de informações e comunicações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41160" y="3720960"/>
              <a:ext cx="3398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no de gerenciamento das comunicaçõe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ra 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4600800" y="4876560"/>
              <a:ext cx="4124880" cy="1795680"/>
              <a:chOff x="4600800" y="4876560"/>
              <a:chExt cx="4124880" cy="1795680"/>
            </a:xfrm>
          </p:grpSpPr>
          <p:sp>
            <p:nvSpPr>
              <p:cNvPr id="1901" name=""/>
              <p:cNvSpPr/>
              <p:nvPr/>
            </p:nvSpPr>
            <p:spPr>
              <a:xfrm>
                <a:off x="4600800" y="5259240"/>
                <a:ext cx="4124880" cy="141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049000" y="5624280"/>
                <a:ext cx="3226320" cy="90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balhar com as 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formaçõ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 requisitos, tecnologias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strições e premiss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792320" y="4876560"/>
                <a:ext cx="363708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étodos, ferramentas, documentos de apo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4" name=""/>
            <p:cNvSpPr/>
            <p:nvPr/>
          </p:nvSpPr>
          <p:spPr>
            <a:xfrm>
              <a:off x="407160" y="5259240"/>
              <a:ext cx="4125240" cy="141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41160" y="4876560"/>
              <a:ext cx="3638160" cy="274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ação com outras ativ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34160" y="5843520"/>
              <a:ext cx="2480400" cy="549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interessado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 proj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finir plano de comunica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3:18:54Z</dcterms:created>
  <dc:creator>Forcellini</dc:creator>
  <dc:description/>
  <dc:language>en-US</dc:language>
  <cp:lastModifiedBy>ssilva</cp:lastModifiedBy>
  <dcterms:modified xsi:type="dcterms:W3CDTF">2005-11-28T18:00:28Z</dcterms:modified>
  <cp:revision>203</cp:revision>
  <dc:subject/>
  <dc:title>Slide 1</dc:title>
</cp:coreProperties>
</file>