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5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9.xml.rels" ContentType="application/vnd.openxmlformats-package.relationships+xml"/>
  <Override PartName="/ppt/notesSlides/notesSlide8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35.wmf" ContentType="image/x-wmf"/>
  <Override PartName="/ppt/media/image37.png" ContentType="image/png"/>
  <Override PartName="/ppt/media/image40.wmf" ContentType="image/x-wmf"/>
  <Override PartName="/ppt/media/image38.png" ContentType="image/png"/>
  <Override PartName="/ppt/media/image41.wmf" ContentType="image/x-wmf"/>
  <Override PartName="/ppt/media/image39.png" ContentType="image/png"/>
  <Override PartName="/ppt/media/image42.wmf" ContentType="image/x-wmf"/>
  <Override PartName="/ppt/media/image43.wmf" ContentType="image/x-wmf"/>
  <Override PartName="/ppt/media/image32.wmf" ContentType="image/x-wmf"/>
  <Override PartName="/ppt/media/image47.png" ContentType="image/png"/>
  <Override PartName="/ppt/media/image7.wmf" ContentType="image/x-wmf"/>
  <Override PartName="/ppt/media/image44.wmf" ContentType="image/x-wmf"/>
  <Override PartName="/ppt/media/image45.png" ContentType="image/png"/>
  <Override PartName="/ppt/media/image46.png" ContentType="image/png"/>
  <Override PartName="/ppt/media/image31.wmf" ContentType="image/x-wmf"/>
  <Override PartName="/ppt/media/image10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30.wmf" ContentType="image/x-wmf"/>
  <Override PartName="/ppt/media/image27.png" ContentType="image/png"/>
  <Override PartName="/ppt/media/image11.wmf" ContentType="image/x-wmf"/>
  <Override PartName="/ppt/media/image6.wmf" ContentType="image/x-wmf"/>
  <Override PartName="/ppt/media/image36.wmf" ContentType="image/x-wmf"/>
  <Override PartName="/ppt/media/image5.png" ContentType="image/png"/>
  <Override PartName="/ppt/media/image34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8617-A6F9-4D2F-A7BF-E40589E053D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4F68-F078-45E7-BF4A-3A4D70F85F9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9" name="PlaceHolder 1"/>
          <p:cNvSpPr>
            <a:spLocks noGrp="1"/>
          </p:cNvSpPr>
          <p:nvPr>
            <p:ph type="sldImg"/>
          </p:nvPr>
        </p:nvSpPr>
        <p:spPr>
          <a:xfrm>
            <a:off x="119232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4490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0649-B495-4F35-821E-15DD838237F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885D-AA12-4592-AE50-3A31EFDDC89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D762-DCD1-4694-899E-40EA47B671C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7D5B-6876-4A55-96AB-54022657CC9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C7F8-E5E9-43C8-B90F-E592F5E07C6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24CE-D4F6-4B2D-8ECE-A9293A2F482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C68D-B7C1-4963-8B04-E0DE11252DA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1E9C-7250-4CEF-9590-1A28E9D5A0E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4C96-635C-4800-AC09-F4FD82915D9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F176-EC8F-4E66-8033-2C591B50519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0FA3-7F2F-4523-908F-A550E89CDAE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4D48-6F99-425B-8D22-02A67F7F285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DDFF-2C9F-4A49-AF15-308A8AA5375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5836-CB3E-4E97-B934-ED82472ADE7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7182-6832-4904-9032-75D36D4502B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56DB-888B-4A83-BEC8-4FB57EA6442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3CE7-51F6-4F8F-BC18-911E7BFB818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3C85-BE25-492A-BF4E-94414D4FAFB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F6DB-0CF4-433F-8931-FDBF158941E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3AF3-C0CD-42B3-846C-D19709C6B7D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765E-995C-4FFD-9254-35D9A66EE39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 exemplo de avaliação de correlação na página 22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E3DA-6B97-4E2C-9C44-1FD6F42C0A5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7" name="PlaceHolder 1"/>
          <p:cNvSpPr>
            <a:spLocks noGrp="1"/>
          </p:cNvSpPr>
          <p:nvPr>
            <p:ph type="sldImg"/>
          </p:nvPr>
        </p:nvSpPr>
        <p:spPr>
          <a:xfrm>
            <a:off x="119232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4618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E82D-05EF-458E-8E7C-8EDB499B864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conceito de revisão de fases é apresentado pelo tópico 2.7. A atividade de avaliar a fase no tópico 3.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6558-DAEF-467E-8C49-BFEA73C3BD9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s critérios iniciais dessa fase estão na tabela 6.2 (página 232), mas devem ser complementados pelo time de desenvolvimento e demais interessados na fase de  planejamento do projeto e também  durante o gate anterior. Leia discussão na página 75 (critérios de avaliação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F3CF-D8A6-4AFA-9362-D4F06A0E043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 conceito de revisão de fases é apresentado pelo tópico 2.7. A atividade de aprovar a fase no tópico 3.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75CB-85E6-475E-89E4-A9DA646D0B3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údo do capítulo 3.6 (página 112), mas só pode ocorrer se associada à prática da gestão do conhecimento discutida no capítulo 2.12 (página 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CEFA-E3CD-4275-8E35-369FFFB4A11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9" name="PlaceHolder 1"/>
          <p:cNvSpPr>
            <a:spLocks noGrp="1"/>
          </p:cNvSpPr>
          <p:nvPr>
            <p:ph type="sldImg"/>
          </p:nvPr>
        </p:nvSpPr>
        <p:spPr>
          <a:xfrm>
            <a:off x="119232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4650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e slide está mais complicado. Os termos dos resultados não estão tão coerentes. O Daniel fez uma proposta de definição dos termos dentro da fase sob a responsabilidade dele. Como falei, deveríamos começar com a definição dos termos resultantes das fases (como proposta do Toledo em 200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quem aqui as criticas de vocês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CA04-1A8A-4230-8E9E-A407FA723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2320" y="3623760"/>
            <a:ext cx="85741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5911-AF27-47AD-A3A2-7ECB5FA4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0576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2320" y="362376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05760" y="362376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ACF0-979D-4D4B-A1D7-D1C7756D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1040" y="88740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10120" y="88740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2320" y="362376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1040" y="362376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10120" y="362376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359A-A975-4143-A575-E188A3971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2320" y="887400"/>
            <a:ext cx="8574120" cy="52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76A1-D094-4286-91A7-8EF3A2A5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C96E-BC26-4CDC-BDBA-1BF6FCD4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41839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05760" y="887400"/>
            <a:ext cx="41839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4741-B982-40FC-8660-398D762E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9351-7E8A-4B9C-83D0-F6C16522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738828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DF9B-A458-45B1-8634-4CCE7C98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05760" y="887400"/>
            <a:ext cx="41839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2320" y="362376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57BD-EC6A-46C2-AD7D-7270A8A0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41839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0576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05760" y="362376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DB0F-5553-4EED-BD0A-EBB01DEC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0576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2320" y="3623760"/>
            <a:ext cx="85741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09ED-C05C-4E2C-8A7D-D17B5A8D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2320" y="887400"/>
            <a:ext cx="8574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A5A7-705C-4D3A-9E68-BFDA8BF6F32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5280" y="808200"/>
            <a:ext cx="7861320" cy="47520"/>
          </a:xfrm>
          <a:prstGeom prst="rect">
            <a:avLst/>
          </a:prstGeom>
          <a:gradFill rotWithShape="0">
            <a:gsLst>
              <a:gs pos="0">
                <a:srgbClr val="000096"/>
              </a:gs>
              <a:gs pos="100000">
                <a:srgbClr val="6363b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043840" y="0"/>
            <a:ext cx="1100160" cy="85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10.wmf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image" Target="../media/image38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8360" y="257040"/>
            <a:ext cx="4386240" cy="635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500800" y="609480"/>
            <a:ext cx="295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99"/>
                </a:solidFill>
                <a:latin typeface="Arial"/>
              </a:rPr>
              <a:t>Projeto Inform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(Capítulo 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14040" y="4183200"/>
            <a:ext cx="3294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Henrique Rozenf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Fernando Antônio Forcell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Daniel Capaldo Ama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José Carlos Tole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Sergio Luis da Si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Dário Henrique Alliprand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Régis Kovacs Sca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687920" y="2254320"/>
            <a:ext cx="4456080" cy="1631880"/>
            <a:chOff x="4687920" y="2254320"/>
            <a:chExt cx="4456080" cy="1631880"/>
          </a:xfrm>
        </p:grpSpPr>
        <p:sp>
          <p:nvSpPr>
            <p:cNvPr id="54" name=""/>
            <p:cNvSpPr/>
            <p:nvPr/>
          </p:nvSpPr>
          <p:spPr>
            <a:xfrm>
              <a:off x="5207040" y="3620880"/>
              <a:ext cx="3849120" cy="264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963760" y="3442680"/>
              <a:ext cx="2973960" cy="2649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68400" y="3366000"/>
              <a:ext cx="541440" cy="91440"/>
            </a:xfrm>
            <a:prstGeom prst="triangle">
              <a:avLst>
                <a:gd name="adj" fmla="val 50000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38240" y="3366000"/>
              <a:ext cx="543240" cy="91440"/>
            </a:xfrm>
            <a:prstGeom prst="triangle">
              <a:avLst>
                <a:gd name="adj" fmla="val 50000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409880" y="3366000"/>
              <a:ext cx="543240" cy="91440"/>
            </a:xfrm>
            <a:prstGeom prst="triangle">
              <a:avLst>
                <a:gd name="adj" fmla="val 50000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381160" y="3366000"/>
              <a:ext cx="543240" cy="91440"/>
            </a:xfrm>
            <a:prstGeom prst="triangle">
              <a:avLst>
                <a:gd name="adj" fmla="val 50000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87920" y="2254320"/>
              <a:ext cx="4389480" cy="1090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44160" y="2327040"/>
              <a:ext cx="2024280" cy="145440"/>
            </a:xfrm>
            <a:custGeom>
              <a:avLst/>
              <a:gdLst>
                <a:gd name="textAreaLeft" fmla="*/ 0 w 2024280"/>
                <a:gd name="textAreaRight" fmla="*/ 2024640 w 20242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921" y="0"/>
                  </a:lnTo>
                  <a:lnTo>
                    <a:pt x="21600" y="10800"/>
                  </a:lnTo>
                  <a:lnTo>
                    <a:pt x="20921" y="21600"/>
                  </a:lnTo>
                  <a:lnTo>
                    <a:pt x="0" y="21600"/>
                  </a:lnTo>
                  <a:lnTo>
                    <a:pt x="67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757280" y="2327040"/>
              <a:ext cx="1294200" cy="145440"/>
            </a:xfrm>
            <a:custGeom>
              <a:avLst/>
              <a:gdLst>
                <a:gd name="textAreaLeft" fmla="*/ 0 w 1294200"/>
                <a:gd name="textAreaRight" fmla="*/ 1294560 w 129420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42" y="0"/>
                  </a:lnTo>
                  <a:lnTo>
                    <a:pt x="21600" y="10800"/>
                  </a:lnTo>
                  <a:lnTo>
                    <a:pt x="20642" y="21600"/>
                  </a:lnTo>
                  <a:lnTo>
                    <a:pt x="0" y="21600"/>
                  </a:lnTo>
                  <a:lnTo>
                    <a:pt x="958" y="10800"/>
                  </a:lnTo>
                  <a:close/>
                </a:path>
              </a:pathLst>
            </a:custGeom>
            <a:solidFill>
              <a:srgbClr val="ffcc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336880" y="2345040"/>
              <a:ext cx="133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664840" y="2368800"/>
              <a:ext cx="12744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34360" y="2327040"/>
              <a:ext cx="1036080" cy="145440"/>
            </a:xfrm>
            <a:custGeom>
              <a:avLst/>
              <a:gdLst>
                <a:gd name="textAreaLeft" fmla="*/ 0 w 1036080"/>
                <a:gd name="textAreaRight" fmla="*/ 1036440 w 10360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447" y="0"/>
                  </a:lnTo>
                  <a:lnTo>
                    <a:pt x="21600" y="10800"/>
                  </a:lnTo>
                  <a:lnTo>
                    <a:pt x="2044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86160" y="2345040"/>
              <a:ext cx="132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41200" y="2508480"/>
              <a:ext cx="650880" cy="383760"/>
            </a:xfrm>
            <a:custGeom>
              <a:avLst/>
              <a:gdLst>
                <a:gd name="textAreaLeft" fmla="*/ 0 w 650880"/>
                <a:gd name="textAreaRight" fmla="*/ 651240 w 65088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48" y="0"/>
                  </a:lnTo>
                  <a:lnTo>
                    <a:pt x="21600" y="10800"/>
                  </a:lnTo>
                  <a:lnTo>
                    <a:pt x="19548" y="21600"/>
                  </a:lnTo>
                  <a:lnTo>
                    <a:pt x="0" y="21600"/>
                  </a:lnTo>
                  <a:lnTo>
                    <a:pt x="2052" y="10800"/>
                  </a:lnTo>
                  <a:close/>
                </a:path>
              </a:pathLst>
            </a:cu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59720" y="2499120"/>
              <a:ext cx="613800" cy="404640"/>
            </a:xfrm>
            <a:custGeom>
              <a:avLst/>
              <a:gdLst>
                <a:gd name="textAreaLeft" fmla="*/ 0 w 613800"/>
                <a:gd name="textAreaRight" fmla="*/ 614160 w 6138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01" y="0"/>
                  </a:lnTo>
                  <a:lnTo>
                    <a:pt x="21600" y="10800"/>
                  </a:lnTo>
                  <a:lnTo>
                    <a:pt x="19001" y="21600"/>
                  </a:lnTo>
                  <a:lnTo>
                    <a:pt x="0" y="21600"/>
                  </a:lnTo>
                  <a:lnTo>
                    <a:pt x="2599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273520" y="2499120"/>
              <a:ext cx="620640" cy="404640"/>
            </a:xfrm>
            <a:custGeom>
              <a:avLst/>
              <a:gdLst>
                <a:gd name="textAreaLeft" fmla="*/ 0 w 620640"/>
                <a:gd name="textAreaRight" fmla="*/ 620640 w 62064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01" y="0"/>
                  </a:lnTo>
                  <a:lnTo>
                    <a:pt x="21600" y="10800"/>
                  </a:lnTo>
                  <a:lnTo>
                    <a:pt x="19001" y="21600"/>
                  </a:lnTo>
                  <a:lnTo>
                    <a:pt x="0" y="21600"/>
                  </a:lnTo>
                  <a:lnTo>
                    <a:pt x="2599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700760" y="2530080"/>
              <a:ext cx="619920" cy="405360"/>
            </a:xfrm>
            <a:custGeom>
              <a:avLst/>
              <a:gdLst>
                <a:gd name="textAreaLeft" fmla="*/ 0 w 619920"/>
                <a:gd name="textAreaRight" fmla="*/ 620280 w 619920"/>
                <a:gd name="textAreaTop" fmla="*/ 0 h 405360"/>
                <a:gd name="textAreaBottom" fmla="*/ 405720 h 40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01" y="0"/>
                  </a:lnTo>
                  <a:lnTo>
                    <a:pt x="21600" y="10800"/>
                  </a:lnTo>
                  <a:lnTo>
                    <a:pt x="19001" y="21600"/>
                  </a:lnTo>
                  <a:lnTo>
                    <a:pt x="0" y="21600"/>
                  </a:lnTo>
                  <a:lnTo>
                    <a:pt x="2599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30040" y="2530080"/>
              <a:ext cx="619920" cy="405360"/>
            </a:xfrm>
            <a:custGeom>
              <a:avLst/>
              <a:gdLst>
                <a:gd name="textAreaLeft" fmla="*/ 0 w 619920"/>
                <a:gd name="textAreaRight" fmla="*/ 620280 w 619920"/>
                <a:gd name="textAreaTop" fmla="*/ 0 h 405360"/>
                <a:gd name="textAreaBottom" fmla="*/ 405720 h 40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01" y="0"/>
                  </a:lnTo>
                  <a:lnTo>
                    <a:pt x="21600" y="10800"/>
                  </a:lnTo>
                  <a:lnTo>
                    <a:pt x="19001" y="21600"/>
                  </a:lnTo>
                  <a:lnTo>
                    <a:pt x="0" y="21600"/>
                  </a:lnTo>
                  <a:lnTo>
                    <a:pt x="2599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406720" y="2549520"/>
              <a:ext cx="655560" cy="40464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602" y="0"/>
                  </a:lnTo>
                  <a:lnTo>
                    <a:pt x="21600" y="10800"/>
                  </a:lnTo>
                  <a:lnTo>
                    <a:pt x="19602" y="21600"/>
                  </a:lnTo>
                  <a:lnTo>
                    <a:pt x="0" y="21600"/>
                  </a:lnTo>
                  <a:lnTo>
                    <a:pt x="1998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72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49720" y="2549520"/>
              <a:ext cx="684360" cy="40464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739" y="0"/>
                  </a:lnTo>
                  <a:lnTo>
                    <a:pt x="21600" y="10800"/>
                  </a:lnTo>
                  <a:lnTo>
                    <a:pt x="19739" y="21600"/>
                  </a:lnTo>
                  <a:lnTo>
                    <a:pt x="0" y="21600"/>
                  </a:lnTo>
                  <a:lnTo>
                    <a:pt x="1861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6179760" y="2490480"/>
              <a:ext cx="348480" cy="20052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-360 h 200520"/>
                <a:gd name="textAreaBottom" fmla="*/ 200520 h 20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533280" y="2490480"/>
              <a:ext cx="348480" cy="20052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-360 h 200520"/>
                <a:gd name="textAreaBottom" fmla="*/ 200520 h 20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6885360" y="2490480"/>
              <a:ext cx="347760" cy="20052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-360 h 200520"/>
                <a:gd name="textAreaBottom" fmla="*/ 200520 h 20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237800" y="2490480"/>
              <a:ext cx="348840" cy="200520"/>
            </a:xfrm>
            <a:custGeom>
              <a:avLst/>
              <a:gdLst>
                <a:gd name="textAreaLeft" fmla="*/ 0 w 348840"/>
                <a:gd name="textAreaRight" fmla="*/ 349200 w 348840"/>
                <a:gd name="textAreaTop" fmla="*/ -360 h 200520"/>
                <a:gd name="textAreaBottom" fmla="*/ 200520 h 20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6254280" y="2566440"/>
              <a:ext cx="348840" cy="199080"/>
            </a:xfrm>
            <a:custGeom>
              <a:avLst/>
              <a:gdLst>
                <a:gd name="textAreaLeft" fmla="*/ 0 w 348840"/>
                <a:gd name="textAreaRight" fmla="*/ 349200 w 348840"/>
                <a:gd name="textAreaTop" fmla="*/ -360 h 199080"/>
                <a:gd name="textAreaBottom" fmla="*/ 199080 h 19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6607080" y="2566440"/>
              <a:ext cx="349560" cy="199080"/>
            </a:xfrm>
            <a:custGeom>
              <a:avLst/>
              <a:gdLst>
                <a:gd name="textAreaLeft" fmla="*/ 0 w 349560"/>
                <a:gd name="textAreaRight" fmla="*/ 349920 w 349560"/>
                <a:gd name="textAreaTop" fmla="*/ -360 h 199080"/>
                <a:gd name="textAreaBottom" fmla="*/ 199080 h 19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6958800" y="2566440"/>
              <a:ext cx="348480" cy="19908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-360 h 199080"/>
                <a:gd name="textAreaBottom" fmla="*/ 199080 h 19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7312320" y="2566440"/>
              <a:ext cx="347760" cy="19908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-360 h 199080"/>
                <a:gd name="textAreaBottom" fmla="*/ 199080 h 19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6328800" y="2640960"/>
              <a:ext cx="348480" cy="19836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-360 h 198360"/>
                <a:gd name="textAreaBottom" fmla="*/ 19836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6681240" y="2640960"/>
              <a:ext cx="348840" cy="198360"/>
            </a:xfrm>
            <a:custGeom>
              <a:avLst/>
              <a:gdLst>
                <a:gd name="textAreaLeft" fmla="*/ 0 w 348840"/>
                <a:gd name="textAreaRight" fmla="*/ 349200 w 348840"/>
                <a:gd name="textAreaTop" fmla="*/ -360 h 198360"/>
                <a:gd name="textAreaBottom" fmla="*/ 19836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7033320" y="2640960"/>
              <a:ext cx="347760" cy="19836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-360 h 198360"/>
                <a:gd name="textAreaBottom" fmla="*/ 19836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7386840" y="2640960"/>
              <a:ext cx="347760" cy="19836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-360 h 198360"/>
                <a:gd name="textAreaBottom" fmla="*/ 19836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14760" y="2512440"/>
              <a:ext cx="316080" cy="17964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22" y="0"/>
                  </a:lnTo>
                  <a:lnTo>
                    <a:pt x="21600" y="10800"/>
                  </a:lnTo>
                  <a:lnTo>
                    <a:pt x="19522" y="21600"/>
                  </a:lnTo>
                  <a:lnTo>
                    <a:pt x="0" y="21600"/>
                  </a:lnTo>
                  <a:lnTo>
                    <a:pt x="2078" y="10800"/>
                  </a:lnTo>
                  <a:close/>
                </a:path>
              </a:pathLst>
            </a:cu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8560" y="2586960"/>
              <a:ext cx="316080" cy="17964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22" y="0"/>
                  </a:lnTo>
                  <a:lnTo>
                    <a:pt x="21600" y="10800"/>
                  </a:lnTo>
                  <a:lnTo>
                    <a:pt x="19522" y="21600"/>
                  </a:lnTo>
                  <a:lnTo>
                    <a:pt x="0" y="21600"/>
                  </a:lnTo>
                  <a:lnTo>
                    <a:pt x="2078" y="10800"/>
                  </a:lnTo>
                  <a:close/>
                </a:path>
              </a:pathLst>
            </a:cu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63080" y="2660400"/>
              <a:ext cx="316080" cy="17964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22" y="0"/>
                  </a:lnTo>
                  <a:lnTo>
                    <a:pt x="21600" y="10800"/>
                  </a:lnTo>
                  <a:lnTo>
                    <a:pt x="19522" y="21600"/>
                  </a:lnTo>
                  <a:lnTo>
                    <a:pt x="0" y="21600"/>
                  </a:lnTo>
                  <a:lnTo>
                    <a:pt x="2078" y="10800"/>
                  </a:lnTo>
                  <a:close/>
                </a:path>
              </a:pathLst>
            </a:cu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140520" y="3116160"/>
              <a:ext cx="1071000" cy="1486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" name=""/>
            <p:cNvCxnSpPr/>
            <p:nvPr/>
          </p:nvCxnSpPr>
          <p:spPr>
            <a:xfrm flipH="1" flipV="1">
              <a:off x="6193080" y="2855880"/>
              <a:ext cx="482760" cy="260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1" name=""/>
            <p:cNvCxnSpPr/>
            <p:nvPr/>
          </p:nvCxnSpPr>
          <p:spPr>
            <a:xfrm flipH="1" flipV="1">
              <a:off x="6609240" y="2855880"/>
              <a:ext cx="66600" cy="260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2" name=""/>
            <p:cNvCxnSpPr/>
            <p:nvPr/>
          </p:nvCxnSpPr>
          <p:spPr>
            <a:xfrm flipV="1">
              <a:off x="6675840" y="2855880"/>
              <a:ext cx="303840" cy="260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3" name=""/>
            <p:cNvCxnSpPr/>
            <p:nvPr/>
          </p:nvCxnSpPr>
          <p:spPr>
            <a:xfrm flipV="1">
              <a:off x="6675840" y="2855880"/>
              <a:ext cx="682560" cy="260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4" name=""/>
            <p:cNvCxnSpPr/>
            <p:nvPr/>
          </p:nvCxnSpPr>
          <p:spPr>
            <a:xfrm flipV="1">
              <a:off x="6675840" y="2855880"/>
              <a:ext cx="1075680" cy="260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5" name=""/>
            <p:cNvCxnSpPr/>
            <p:nvPr/>
          </p:nvCxnSpPr>
          <p:spPr>
            <a:xfrm flipH="1" flipV="1">
              <a:off x="5731560" y="2849040"/>
              <a:ext cx="944640" cy="2671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6" name=""/>
            <p:cNvSpPr/>
            <p:nvPr/>
          </p:nvSpPr>
          <p:spPr>
            <a:xfrm>
              <a:off x="4687920" y="2254320"/>
              <a:ext cx="4456080" cy="1631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5828760" y="2491200"/>
              <a:ext cx="496440" cy="348480"/>
              <a:chOff x="5828760" y="2491200"/>
              <a:chExt cx="496440" cy="348480"/>
            </a:xfrm>
          </p:grpSpPr>
          <p:sp>
            <p:nvSpPr>
              <p:cNvPr id="98" name=""/>
              <p:cNvSpPr/>
              <p:nvPr/>
            </p:nvSpPr>
            <p:spPr>
              <a:xfrm flipV="1">
                <a:off x="5828760" y="2491200"/>
                <a:ext cx="348480" cy="200160"/>
              </a:xfrm>
              <a:custGeom>
                <a:avLst/>
                <a:gdLst>
                  <a:gd name="textAreaLeft" fmla="*/ 0 w 348480"/>
                  <a:gd name="textAreaRight" fmla="*/ 348840 w 348480"/>
                  <a:gd name="textAreaTop" fmla="*/ 360 h 200160"/>
                  <a:gd name="textAreaBottom" fmla="*/ 200880 h 200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11" y="0"/>
                    </a:lnTo>
                    <a:lnTo>
                      <a:pt x="21600" y="10800"/>
                    </a:lnTo>
                    <a:lnTo>
                      <a:pt x="18911" y="21600"/>
                    </a:lnTo>
                    <a:lnTo>
                      <a:pt x="0" y="21600"/>
                    </a:lnTo>
                    <a:lnTo>
                      <a:pt x="2689" y="10800"/>
                    </a:lnTo>
                    <a:close/>
                  </a:path>
                </a:pathLst>
              </a:custGeom>
              <a:solidFill>
                <a:srgbClr val="ff33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5902920" y="2566800"/>
                <a:ext cx="348120" cy="19872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360 h 198720"/>
                  <a:gd name="textAreaBottom" fmla="*/ 199440 h 19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11" y="0"/>
                    </a:lnTo>
                    <a:lnTo>
                      <a:pt x="21600" y="10800"/>
                    </a:lnTo>
                    <a:lnTo>
                      <a:pt x="18911" y="21600"/>
                    </a:lnTo>
                    <a:lnTo>
                      <a:pt x="0" y="21600"/>
                    </a:lnTo>
                    <a:lnTo>
                      <a:pt x="2689" y="10800"/>
                    </a:lnTo>
                    <a:close/>
                  </a:path>
                </a:pathLst>
              </a:custGeom>
              <a:solidFill>
                <a:srgbClr val="ff33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5976720" y="2640960"/>
                <a:ext cx="348480" cy="198720"/>
              </a:xfrm>
              <a:custGeom>
                <a:avLst/>
                <a:gdLst>
                  <a:gd name="textAreaLeft" fmla="*/ 0 w 348480"/>
                  <a:gd name="textAreaRight" fmla="*/ 348840 w 348480"/>
                  <a:gd name="textAreaTop" fmla="*/ 360 h 198720"/>
                  <a:gd name="textAreaBottom" fmla="*/ 199440 h 19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11" y="0"/>
                    </a:lnTo>
                    <a:lnTo>
                      <a:pt x="21600" y="10800"/>
                    </a:lnTo>
                    <a:lnTo>
                      <a:pt x="18911" y="21600"/>
                    </a:lnTo>
                    <a:lnTo>
                      <a:pt x="0" y="21600"/>
                    </a:lnTo>
                    <a:lnTo>
                      <a:pt x="2689" y="10800"/>
                    </a:lnTo>
                    <a:close/>
                  </a:path>
                </a:pathLst>
              </a:custGeom>
              <a:solidFill>
                <a:srgbClr val="ff33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tualizar o Plano da fase de Projeto Informacional</a:t>
            </a:r>
            <a:br>
              <a:rPr sz="2400"/>
            </a:b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(atividade genérica)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-360" y="885960"/>
            <a:ext cx="8077320" cy="61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lisar o plano de projeto atu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lisar e sintetizar das novas condições para a realização do proje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ualizar e detalhar o escopo do proje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ualizar e detalhar as, atividades, os responsáveis, os prazos e o cronogra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ualizar e detalhar recursos necessári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ualizar estimativa de orçamento do proje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ualizar, monitorar, valorar e definir novos indicadores de desempenh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lisar a viabilidade econômico-financeira do proje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valiar novos risc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ualizar plano de comunic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nejar, atualizar e preparar novas aquisições;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r / atualizar os critérios de passagem dos g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55320" y="1001880"/>
            <a:ext cx="8574120" cy="51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ualizar o Plano do Projeto Inform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evisar e atualizar o Escopo do prod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lhar ciclo de vida do produto e definir seus 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r os requisitos dos clientes do prod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r os requisitos do prod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r especificações meta do prod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ar a viabilidade econômica do prod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liar e aprovar 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ar as decisões tomadas e lições aprend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Informações e tarefas da atividade: Revisar e atualizar o Escopo do Produto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1/3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709560" y="1022400"/>
          <a:ext cx="7662960" cy="56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1022400"/>
                    <a:ext cx="7662960" cy="56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54160" y="38160"/>
            <a:ext cx="73879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Tarefas da atividade: Revisar e atualizar o Escopo do produto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2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680" y="887400"/>
            <a:ext cx="8856720" cy="57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álisar o problema de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escopo do produto contém os objetivos e restriçõ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escopo contém informações adicionais necessárias para a busca de novas informações mais detalhad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hecer/entender o problema a ser resolvi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ver e detalhar informações do planejamento estratégico: volume, desejos dos clientes etc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formações sobre componentes, materiais, fornecedor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curar tecnologias disponíveis e necessária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squisar padrões / normas, patentes e legislaçã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squisar produtos concorrentes e simila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54160" y="38160"/>
            <a:ext cx="73879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Tarefas da atividade: Revisar e atualizar o Escopo do produto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3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2680" y="887400"/>
            <a:ext cx="8856720" cy="57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álisar o problema de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curar tecnologias disponíveis e necessária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ver informações do planejamento estratég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inuidade da vigilância tecnológic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vas pesquisas para complementar e aprofundar conheciment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iderar também tecnologias de produ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squisar padrões / normas, patentes e legislaçã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squisar produtos concorrentes e simila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is produtos são líderes do merca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is são os concorrent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co para reproje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ualizar o Plano do Projeto Inform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ar e atualizar o escopo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talhar ciclo de vida do produto e definir seu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r os requisitos dos clientes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os requisitos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especificações-meta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ar a viabilidade econômica financ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ovar a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r as decisões tomadas e registrar lições apren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54160" y="38160"/>
            <a:ext cx="73879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Tarefas da atividade: Detalhar ciclo de vida do produto e definir seus clien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692280" y="981000"/>
            <a:ext cx="74214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92240" y="1679400"/>
          <a:ext cx="829152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" y="1679400"/>
                    <a:ext cx="829152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Ciclo de vida segundo a evolução das vendas do produ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Características do ciclo de vida 1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anç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xa de crescimento f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quena participação do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pesas maiores que recei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ientes inov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esc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eita supera desp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ticipação do mercado quase no áp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ucro medi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ientes “pronto adotador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tur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clín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Características do ciclo de vida 2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2680" y="887400"/>
            <a:ext cx="877248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ç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sc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ur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a fraca de crescimento de ven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ores luc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es imi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í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ros fracos ou neg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ínio da participação do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ar durante a maturidade para identificar o declí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e fié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63000"/>
            <a:ext cx="7388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Localização da fase de projeto informacional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680" y="1455840"/>
            <a:ext cx="9063000" cy="4572000"/>
            <a:chOff x="4680" y="1455840"/>
            <a:chExt cx="9063000" cy="4572000"/>
          </a:xfrm>
        </p:grpSpPr>
        <p:sp>
          <p:nvSpPr>
            <p:cNvPr id="103" name=""/>
            <p:cNvSpPr/>
            <p:nvPr/>
          </p:nvSpPr>
          <p:spPr>
            <a:xfrm>
              <a:off x="790560" y="5753160"/>
              <a:ext cx="7886880" cy="274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lhoria do processo de desenvolvimento de produ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40000" y="5389560"/>
              <a:ext cx="6092640" cy="274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Gerenciamento de mudanças de engenh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0" y="5335560"/>
              <a:ext cx="1209960" cy="54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roces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de apo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255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14880" y="5097600"/>
              <a:ext cx="111096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053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2961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76320" y="1455840"/>
              <a:ext cx="8991360" cy="3591000"/>
              <a:chOff x="76320" y="1455840"/>
              <a:chExt cx="8991360" cy="359100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76320" y="1614600"/>
                <a:ext cx="8991360" cy="3432240"/>
                <a:chOff x="76320" y="1614600"/>
                <a:chExt cx="8991360" cy="34322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76320" y="1614600"/>
                  <a:ext cx="8991360" cy="34322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95240" y="2863800"/>
                  <a:ext cx="7291440" cy="1660680"/>
                </a:xfrm>
                <a:custGeom>
                  <a:avLst/>
                  <a:gdLst/>
                  <a:ahLst/>
                  <a:rect l="l" t="t" r="r" b="b"/>
                  <a:pathLst>
                    <a:path w="4593" h="1046">
                      <a:moveTo>
                        <a:pt x="771" y="20"/>
                      </a:moveTo>
                      <a:lnTo>
                        <a:pt x="0" y="1046"/>
                      </a:lnTo>
                      <a:lnTo>
                        <a:pt x="4593" y="1016"/>
                      </a:lnTo>
                      <a:lnTo>
                        <a:pt x="330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cc99"/>
                    </a:gs>
                    <a:gs pos="100000">
                      <a:srgbClr val="99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4" name=""/>
                <p:cNvGrpSpPr/>
                <p:nvPr/>
              </p:nvGrpSpPr>
              <p:grpSpPr>
                <a:xfrm>
                  <a:off x="2239920" y="2225520"/>
                  <a:ext cx="4146480" cy="298800"/>
                  <a:chOff x="2239920" y="2225520"/>
                  <a:chExt cx="4146480" cy="2988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2239920" y="2225520"/>
                    <a:ext cx="4146480" cy="298800"/>
                  </a:xfrm>
                  <a:custGeom>
                    <a:avLst/>
                    <a:gdLst>
                      <a:gd name="textAreaLeft" fmla="*/ 0 w 4146480"/>
                      <a:gd name="textAreaRight" fmla="*/ 4146840 w 4146480"/>
                      <a:gd name="textAreaTop" fmla="*/ 0 h 298800"/>
                      <a:gd name="textAreaBottom" fmla="*/ 299160 h 298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921" y="0"/>
                        </a:lnTo>
                        <a:lnTo>
                          <a:pt x="21600" y="10800"/>
                        </a:lnTo>
                        <a:lnTo>
                          <a:pt x="20921" y="21600"/>
                        </a:lnTo>
                        <a:lnTo>
                          <a:pt x="0" y="21600"/>
                        </a:lnTo>
                        <a:lnTo>
                          <a:pt x="67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293640" y="2238480"/>
                    <a:ext cx="1885320" cy="27468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Desenvolvimento</a:t>
                    </a:r>
                    <a:r>
                      <a:rPr b="0" i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" name=""/>
                <p:cNvGrpSpPr/>
                <p:nvPr/>
              </p:nvGrpSpPr>
              <p:grpSpPr>
                <a:xfrm>
                  <a:off x="962280" y="4336560"/>
                  <a:ext cx="6981840" cy="534600"/>
                  <a:chOff x="962280" y="4336560"/>
                  <a:chExt cx="6981840" cy="534600"/>
                </a:xfrm>
              </p:grpSpPr>
              <p:grpSp>
                <p:nvGrpSpPr>
                  <p:cNvPr id="118" name=""/>
                  <p:cNvGrpSpPr/>
                  <p:nvPr/>
                </p:nvGrpSpPr>
                <p:grpSpPr>
                  <a:xfrm>
                    <a:off x="2259720" y="4350600"/>
                    <a:ext cx="5684400" cy="520560"/>
                    <a:chOff x="2259720" y="4350600"/>
                    <a:chExt cx="5684400" cy="520560"/>
                  </a:xfrm>
                </p:grpSpPr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4633920" y="4350600"/>
                      <a:ext cx="1043640" cy="520560"/>
                    </a:xfrm>
                    <a:custGeom>
                      <a:avLst/>
                      <a:gdLst>
                        <a:gd name="textAreaLeft" fmla="*/ 0 w 1043640"/>
                        <a:gd name="textAreaRight" fmla="*/ 1044000 w 10436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544" y="0"/>
                          </a:lnTo>
                          <a:lnTo>
                            <a:pt x="21600" y="10800"/>
                          </a:lnTo>
                          <a:lnTo>
                            <a:pt x="19544" y="21600"/>
                          </a:lnTo>
                          <a:lnTo>
                            <a:pt x="0" y="21600"/>
                          </a:lnTo>
                          <a:lnTo>
                            <a:pt x="2056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lhad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3557520" y="4350600"/>
                      <a:ext cx="1074240" cy="520560"/>
                    </a:xfrm>
                    <a:custGeom>
                      <a:avLst/>
                      <a:gdLst>
                        <a:gd name="textAreaLeft" fmla="*/ 0 w 1074240"/>
                        <a:gd name="textAreaRight" fmla="*/ 1074600 w 10742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672" y="0"/>
                          </a:lnTo>
                          <a:lnTo>
                            <a:pt x="21600" y="10800"/>
                          </a:lnTo>
                          <a:lnTo>
                            <a:pt x="19672" y="21600"/>
                          </a:lnTo>
                          <a:lnTo>
                            <a:pt x="0" y="21600"/>
                          </a:lnTo>
                          <a:lnTo>
                            <a:pt x="1928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itu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2259720" y="4350600"/>
                      <a:ext cx="1302840" cy="520560"/>
                    </a:xfrm>
                    <a:custGeom>
                      <a:avLst/>
                      <a:gdLst>
                        <a:gd name="textAreaLeft" fmla="*/ 0 w 1302840"/>
                        <a:gd name="textAreaRight" fmla="*/ 1303200 w 13028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6" y="0"/>
                          </a:lnTo>
                          <a:lnTo>
                            <a:pt x="21600" y="10800"/>
                          </a:lnTo>
                          <a:lnTo>
                            <a:pt x="19746" y="21600"/>
                          </a:lnTo>
                          <a:lnTo>
                            <a:pt x="0" y="21600"/>
                          </a:lnTo>
                          <a:lnTo>
                            <a:pt x="1854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on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6782040" y="4350600"/>
                      <a:ext cx="1162080" cy="520560"/>
                    </a:xfrm>
                    <a:custGeom>
                      <a:avLst/>
                      <a:gdLst>
                        <a:gd name="textAreaLeft" fmla="*/ 0 w 1162080"/>
                        <a:gd name="textAreaRight" fmla="*/ 1162080 w 11620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0" y="0"/>
                          </a:lnTo>
                          <a:lnTo>
                            <a:pt x="21600" y="10800"/>
                          </a:lnTo>
                          <a:lnTo>
                            <a:pt x="19740" y="21600"/>
                          </a:lnTo>
                          <a:lnTo>
                            <a:pt x="0" y="21600"/>
                          </a:lnTo>
                          <a:lnTo>
                            <a:pt x="1860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ç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Produ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5676840" y="4350600"/>
                      <a:ext cx="1102680" cy="520560"/>
                    </a:xfrm>
                    <a:custGeom>
                      <a:avLst/>
                      <a:gdLst>
                        <a:gd name="textAreaLeft" fmla="*/ 0 w 1102680"/>
                        <a:gd name="textAreaRight" fmla="*/ 1102680 w 11026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987" y="0"/>
                          </a:lnTo>
                          <a:lnTo>
                            <a:pt x="21600" y="10800"/>
                          </a:lnTo>
                          <a:lnTo>
                            <a:pt x="19987" y="21600"/>
                          </a:lnTo>
                          <a:lnTo>
                            <a:pt x="0" y="21600"/>
                          </a:lnTo>
                          <a:lnTo>
                            <a:pt x="1613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4" name=""/>
                  <p:cNvSpPr/>
                  <p:nvPr/>
                </p:nvSpPr>
                <p:spPr>
                  <a:xfrm>
                    <a:off x="962280" y="4336560"/>
                    <a:ext cx="1270800" cy="520200"/>
                  </a:xfrm>
                  <a:custGeom>
                    <a:avLst/>
                    <a:gdLst>
                      <a:gd name="textAreaLeft" fmla="*/ 0 w 1270800"/>
                      <a:gd name="textAreaRight" fmla="*/ 1271160 w 1270800"/>
                      <a:gd name="textAreaTop" fmla="*/ 0 h 520200"/>
                      <a:gd name="textAreaBottom" fmla="*/ 520560 h 520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lanejamen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je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"/>
                <p:cNvGrpSpPr/>
                <p:nvPr/>
              </p:nvGrpSpPr>
              <p:grpSpPr>
                <a:xfrm>
                  <a:off x="6364440" y="2227320"/>
                  <a:ext cx="2652480" cy="298440"/>
                  <a:chOff x="6364440" y="2227320"/>
                  <a:chExt cx="2652480" cy="29844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>
                    <a:off x="6364440" y="2227320"/>
                    <a:ext cx="2652480" cy="298440"/>
                  </a:xfrm>
                  <a:custGeom>
                    <a:avLst/>
                    <a:gdLst>
                      <a:gd name="textAreaLeft" fmla="*/ 0 w 2652480"/>
                      <a:gd name="textAreaRight" fmla="*/ 2652840 w 2652480"/>
                      <a:gd name="textAreaTop" fmla="*/ 0 h 298440"/>
                      <a:gd name="textAreaBottom" fmla="*/ 298800 h 298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642" y="0"/>
                        </a:lnTo>
                        <a:lnTo>
                          <a:pt x="21600" y="10800"/>
                        </a:lnTo>
                        <a:lnTo>
                          <a:pt x="20642" y="21600"/>
                        </a:lnTo>
                        <a:lnTo>
                          <a:pt x="0" y="21600"/>
                        </a:lnTo>
                        <a:lnTo>
                          <a:pt x="95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7431480" y="2263680"/>
                    <a:ext cx="51660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ó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8" name=""/>
                <p:cNvSpPr/>
                <p:nvPr/>
              </p:nvSpPr>
              <p:spPr>
                <a:xfrm>
                  <a:off x="8223120" y="2311560"/>
                  <a:ext cx="26064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29" name=""/>
                <p:cNvCxnSpPr>
                  <a:stCxn id="126" idx="0"/>
                  <a:endCxn id="130" idx="0"/>
                </p:cNvCxnSpPr>
                <p:nvPr/>
              </p:nvCxnSpPr>
              <p:spPr>
                <a:xfrm rot="5400000">
                  <a:off x="4402440" y="-999360"/>
                  <a:ext cx="2160" cy="6455520"/>
                </a:xfrm>
                <a:prstGeom prst="bentConnector3">
                  <a:avLst>
                    <a:gd name="adj1" fmla="val -14400000"/>
                  </a:avLst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131" name=""/>
                <p:cNvGrpSpPr/>
                <p:nvPr/>
              </p:nvGrpSpPr>
              <p:grpSpPr>
                <a:xfrm>
                  <a:off x="171360" y="2227320"/>
                  <a:ext cx="2124000" cy="297000"/>
                  <a:chOff x="171360" y="2227320"/>
                  <a:chExt cx="2124000" cy="29700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171360" y="2227320"/>
                    <a:ext cx="2124000" cy="297000"/>
                  </a:xfrm>
                  <a:custGeom>
                    <a:avLst/>
                    <a:gdLst>
                      <a:gd name="textAreaLeft" fmla="*/ 0 w 2124000"/>
                      <a:gd name="textAreaRight" fmla="*/ 2124360 w 2124000"/>
                      <a:gd name="textAreaTop" fmla="*/ 0 h 297000"/>
                      <a:gd name="textAreaBottom" fmla="*/ 297360 h 297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447" y="0"/>
                        </a:lnTo>
                        <a:lnTo>
                          <a:pt x="21600" y="10800"/>
                        </a:lnTo>
                        <a:lnTo>
                          <a:pt x="20447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999000" y="2263680"/>
                    <a:ext cx="4723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ré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"/>
                <p:cNvSpPr/>
                <p:nvPr/>
              </p:nvSpPr>
              <p:spPr>
                <a:xfrm>
                  <a:off x="185760" y="2597040"/>
                  <a:ext cx="1335240" cy="787680"/>
                </a:xfrm>
                <a:custGeom>
                  <a:avLst/>
                  <a:gdLst>
                    <a:gd name="textAreaLeft" fmla="*/ 0 w 1335240"/>
                    <a:gd name="textAreaRight" fmla="*/ 1335600 w 1335240"/>
                    <a:gd name="textAreaTop" fmla="*/ 0 h 787680"/>
                    <a:gd name="textAreaBottom" fmla="*/ 788040 h 787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548" y="0"/>
                      </a:lnTo>
                      <a:lnTo>
                        <a:pt x="21600" y="10800"/>
                      </a:lnTo>
                      <a:lnTo>
                        <a:pt x="19548" y="21600"/>
                      </a:lnTo>
                      <a:lnTo>
                        <a:pt x="0" y="21600"/>
                      </a:lnTo>
                      <a:lnTo>
                        <a:pt x="2052" y="1080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lanejament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stratégico dos Produto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4" name=""/>
                <p:cNvGrpSpPr/>
                <p:nvPr/>
              </p:nvGrpSpPr>
              <p:grpSpPr>
                <a:xfrm>
                  <a:off x="6164280" y="2577960"/>
                  <a:ext cx="2871720" cy="933480"/>
                  <a:chOff x="6164280" y="2577960"/>
                  <a:chExt cx="2871720" cy="93348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6164280" y="2577960"/>
                    <a:ext cx="1257120" cy="830520"/>
                  </a:xfrm>
                  <a:custGeom>
                    <a:avLst/>
                    <a:gdLst>
                      <a:gd name="textAreaLeft" fmla="*/ 0 w 1257120"/>
                      <a:gd name="textAreaRight" fmla="*/ 1257480 w 125712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7421400" y="2577960"/>
                    <a:ext cx="1270080" cy="83052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6249960" y="2641680"/>
                    <a:ext cx="1268280" cy="830160"/>
                  </a:xfrm>
                  <a:custGeom>
                    <a:avLst/>
                    <a:gdLst>
                      <a:gd name="textAreaLeft" fmla="*/ 0 w 1268280"/>
                      <a:gd name="textAreaRight" fmla="*/ 1268640 w 12682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7535880" y="2641680"/>
                    <a:ext cx="1270080" cy="83016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7694640" y="2681280"/>
                    <a:ext cx="1341360" cy="830160"/>
                  </a:xfrm>
                  <a:custGeom>
                    <a:avLst/>
                    <a:gdLst>
                      <a:gd name="textAreaLeft" fmla="*/ 0 w 1341360"/>
                      <a:gd name="textAreaRight" fmla="*/ 1341720 w 134136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602" y="0"/>
                        </a:lnTo>
                        <a:lnTo>
                          <a:pt x="21600" y="10800"/>
                        </a:lnTo>
                        <a:lnTo>
                          <a:pt x="19602" y="21600"/>
                        </a:lnTo>
                        <a:lnTo>
                          <a:pt x="0" y="21600"/>
                        </a:lnTo>
                        <a:lnTo>
                          <a:pt x="199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44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escontinu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6348240" y="2681280"/>
                    <a:ext cx="1400400" cy="830160"/>
                  </a:xfrm>
                  <a:custGeom>
                    <a:avLst/>
                    <a:gdLst>
                      <a:gd name="textAreaLeft" fmla="*/ 0 w 1400400"/>
                      <a:gd name="textAreaRight" fmla="*/ 1400400 w 140040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739" y="0"/>
                        </a:lnTo>
                        <a:lnTo>
                          <a:pt x="21600" y="10800"/>
                        </a:lnTo>
                        <a:lnTo>
                          <a:pt x="19739" y="21600"/>
                        </a:lnTo>
                        <a:lnTo>
                          <a:pt x="0" y="21600"/>
                        </a:lnTo>
                        <a:lnTo>
                          <a:pt x="1861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Acompanh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/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cess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"/>
                <p:cNvGrpSpPr/>
                <p:nvPr/>
              </p:nvGrpSpPr>
              <p:grpSpPr>
                <a:xfrm>
                  <a:off x="2413080" y="2565000"/>
                  <a:ext cx="3600360" cy="407880"/>
                  <a:chOff x="2413080" y="2565000"/>
                  <a:chExt cx="3600360" cy="40788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 flipV="1">
                    <a:off x="241308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flipV="1">
                    <a:off x="313380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V="1">
                    <a:off x="3855960" y="25646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flipV="1">
                    <a:off x="4576680" y="25646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flipV="1">
                    <a:off x="529920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2565360" y="2717640"/>
                  <a:ext cx="3600360" cy="407880"/>
                  <a:chOff x="2565360" y="2717640"/>
                  <a:chExt cx="3600360" cy="40788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 flipV="1">
                    <a:off x="256536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V="1">
                    <a:off x="3286080" y="271728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V="1">
                    <a:off x="400860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flipV="1">
                    <a:off x="472932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flipV="1">
                    <a:off x="545148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"/>
                <p:cNvGrpSpPr/>
                <p:nvPr/>
              </p:nvGrpSpPr>
              <p:grpSpPr>
                <a:xfrm>
                  <a:off x="2717640" y="2869920"/>
                  <a:ext cx="3600720" cy="407880"/>
                  <a:chOff x="2717640" y="2869920"/>
                  <a:chExt cx="3600720" cy="40788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flipV="1">
                    <a:off x="271764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flipV="1">
                    <a:off x="343836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flipV="1">
                    <a:off x="4160880" y="28695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flipV="1">
                    <a:off x="4881600" y="28695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flipV="1">
                    <a:off x="560376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1565280" y="2606760"/>
                  <a:ext cx="950760" cy="671400"/>
                  <a:chOff x="1565280" y="2606760"/>
                  <a:chExt cx="950760" cy="67140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1565280" y="2606760"/>
                    <a:ext cx="646200" cy="36648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480"/>
                      <a:gd name="textAreaBottom" fmla="*/ 366840 h 366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1717560" y="2759040"/>
                    <a:ext cx="646200" cy="36684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1870200" y="2911320"/>
                    <a:ext cx="645840" cy="366840"/>
                  </a:xfrm>
                  <a:custGeom>
                    <a:avLst/>
                    <a:gdLst>
                      <a:gd name="textAreaLeft" fmla="*/ 0 w 645840"/>
                      <a:gd name="textAreaRight" fmla="*/ 646200 w 64584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"/>
                <p:cNvGrpSpPr/>
                <p:nvPr/>
              </p:nvGrpSpPr>
              <p:grpSpPr>
                <a:xfrm>
                  <a:off x="279720" y="3220920"/>
                  <a:ext cx="6232320" cy="776520"/>
                  <a:chOff x="279720" y="3220920"/>
                  <a:chExt cx="6232320" cy="77652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279720" y="3670200"/>
                    <a:ext cx="9799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rPr>
                      <a:t>Gates &gt;&gt;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3319560" y="3220920"/>
                    <a:ext cx="185760" cy="617400"/>
                    <a:chOff x="3319560" y="3220920"/>
                    <a:chExt cx="185760" cy="61740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331956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 flipV="1">
                      <a:off x="341172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8" name=""/>
                  <p:cNvSpPr/>
                  <p:nvPr/>
                </p:nvSpPr>
                <p:spPr>
                  <a:xfrm>
                    <a:off x="1208160" y="3497400"/>
                    <a:ext cx="5303880" cy="500040"/>
                  </a:xfrm>
                  <a:prstGeom prst="roundRect">
                    <a:avLst>
                      <a:gd name="adj" fmla="val 50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9" name=""/>
                  <p:cNvGrpSpPr/>
                  <p:nvPr/>
                </p:nvGrpSpPr>
                <p:grpSpPr>
                  <a:xfrm>
                    <a:off x="6219720" y="3395160"/>
                    <a:ext cx="185400" cy="474840"/>
                    <a:chOff x="6219720" y="3395160"/>
                    <a:chExt cx="185400" cy="474840"/>
                  </a:xfrm>
                </p:grpSpPr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6219720" y="359856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 flipV="1">
                      <a:off x="6311520" y="3395160"/>
                      <a:ext cx="0" cy="206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2" name=""/>
                  <p:cNvGrpSpPr/>
                  <p:nvPr/>
                </p:nvGrpSpPr>
                <p:grpSpPr>
                  <a:xfrm>
                    <a:off x="4748040" y="3220920"/>
                    <a:ext cx="185760" cy="617400"/>
                    <a:chOff x="4748040" y="3220920"/>
                    <a:chExt cx="185760" cy="617400"/>
                  </a:xfrm>
                </p:grpSpPr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474804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 flipV="1">
                      <a:off x="484020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5" name=""/>
                  <p:cNvGrpSpPr/>
                  <p:nvPr/>
                </p:nvGrpSpPr>
                <p:grpSpPr>
                  <a:xfrm>
                    <a:off x="5464080" y="3220920"/>
                    <a:ext cx="185760" cy="617400"/>
                    <a:chOff x="5464080" y="3220920"/>
                    <a:chExt cx="185760" cy="617400"/>
                  </a:xfrm>
                </p:grpSpPr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546408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 flipV="1">
                      <a:off x="555624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8" name=""/>
                  <p:cNvGrpSpPr/>
                  <p:nvPr/>
                </p:nvGrpSpPr>
                <p:grpSpPr>
                  <a:xfrm>
                    <a:off x="2422440" y="3252960"/>
                    <a:ext cx="185760" cy="585720"/>
                    <a:chOff x="2422440" y="3252960"/>
                    <a:chExt cx="185760" cy="585720"/>
                  </a:xfrm>
                </p:grpSpPr>
                <p:sp>
                  <p:nvSpPr>
                    <p:cNvPr id="179" name=""/>
                    <p:cNvSpPr/>
                    <p:nvPr/>
                  </p:nvSpPr>
                  <p:spPr>
                    <a:xfrm flipV="1">
                      <a:off x="2514600" y="325296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2422440" y="356724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1" name=""/>
                  <p:cNvGrpSpPr/>
                  <p:nvPr/>
                </p:nvGrpSpPr>
                <p:grpSpPr>
                  <a:xfrm>
                    <a:off x="4035600" y="3252960"/>
                    <a:ext cx="185400" cy="585720"/>
                    <a:chOff x="4035600" y="3252960"/>
                    <a:chExt cx="185400" cy="585720"/>
                  </a:xfrm>
                </p:grpSpPr>
                <p:sp>
                  <p:nvSpPr>
                    <p:cNvPr id="182" name=""/>
                    <p:cNvSpPr/>
                    <p:nvPr/>
                  </p:nvSpPr>
                  <p:spPr>
                    <a:xfrm flipV="1">
                      <a:off x="4127400" y="325296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4035600" y="356724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3597120" y="3277800"/>
                    <a:ext cx="141480" cy="473400"/>
                    <a:chOff x="3597120" y="3277800"/>
                    <a:chExt cx="141480" cy="47340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 flipV="1">
                      <a:off x="36687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359712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7" name=""/>
                  <p:cNvGrpSpPr/>
                  <p:nvPr/>
                </p:nvGrpSpPr>
                <p:grpSpPr>
                  <a:xfrm>
                    <a:off x="3784680" y="3277800"/>
                    <a:ext cx="141120" cy="473400"/>
                    <a:chOff x="3784680" y="3277800"/>
                    <a:chExt cx="141120" cy="473400"/>
                  </a:xfrm>
                </p:grpSpPr>
                <p:sp>
                  <p:nvSpPr>
                    <p:cNvPr id="188" name=""/>
                    <p:cNvSpPr/>
                    <p:nvPr/>
                  </p:nvSpPr>
                  <p:spPr>
                    <a:xfrm flipV="1">
                      <a:off x="38559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378468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4284720" y="3277800"/>
                    <a:ext cx="141120" cy="473400"/>
                    <a:chOff x="4284720" y="3277800"/>
                    <a:chExt cx="141120" cy="473400"/>
                  </a:xfrm>
                </p:grpSpPr>
                <p:sp>
                  <p:nvSpPr>
                    <p:cNvPr id="191" name=""/>
                    <p:cNvSpPr/>
                    <p:nvPr/>
                  </p:nvSpPr>
                  <p:spPr>
                    <a:xfrm flipV="1">
                      <a:off x="435600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8472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498920" y="3277800"/>
                    <a:ext cx="141480" cy="473400"/>
                    <a:chOff x="4498920" y="3277800"/>
                    <a:chExt cx="141480" cy="47340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 flipV="1">
                      <a:off x="45705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49892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6" name=""/>
                  <p:cNvGrpSpPr/>
                  <p:nvPr/>
                </p:nvGrpSpPr>
                <p:grpSpPr>
                  <a:xfrm>
                    <a:off x="3051000" y="3277800"/>
                    <a:ext cx="141480" cy="473400"/>
                    <a:chOff x="3051000" y="3277800"/>
                    <a:chExt cx="141480" cy="473400"/>
                  </a:xfrm>
                </p:grpSpPr>
                <p:sp>
                  <p:nvSpPr>
                    <p:cNvPr id="197" name=""/>
                    <p:cNvSpPr/>
                    <p:nvPr/>
                  </p:nvSpPr>
                  <p:spPr>
                    <a:xfrm flipV="1">
                      <a:off x="312264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305100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9" name=""/>
                  <p:cNvGrpSpPr/>
                  <p:nvPr/>
                </p:nvGrpSpPr>
                <p:grpSpPr>
                  <a:xfrm>
                    <a:off x="5164200" y="3277800"/>
                    <a:ext cx="141120" cy="473400"/>
                    <a:chOff x="5164200" y="3277800"/>
                    <a:chExt cx="141120" cy="473400"/>
                  </a:xfrm>
                </p:grpSpPr>
                <p:sp>
                  <p:nvSpPr>
                    <p:cNvPr id="200" name=""/>
                    <p:cNvSpPr/>
                    <p:nvPr/>
                  </p:nvSpPr>
                  <p:spPr>
                    <a:xfrm flipV="1">
                      <a:off x="523548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16420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02" name=""/>
              <p:cNvSpPr/>
              <p:nvPr/>
            </p:nvSpPr>
            <p:spPr>
              <a:xfrm>
                <a:off x="1500120" y="1455840"/>
                <a:ext cx="6210360" cy="3207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Processo de Desenvolvimento de Produ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1965960" y="3394440"/>
            <a:ext cx="2808000" cy="2010240"/>
            <a:chOff x="1965960" y="3394440"/>
            <a:chExt cx="2808000" cy="2010240"/>
          </a:xfrm>
        </p:grpSpPr>
        <p:grpSp>
          <p:nvGrpSpPr>
            <p:cNvPr id="204" name=""/>
            <p:cNvGrpSpPr/>
            <p:nvPr/>
          </p:nvGrpSpPr>
          <p:grpSpPr>
            <a:xfrm>
              <a:off x="1965960" y="3816000"/>
              <a:ext cx="1917360" cy="1588680"/>
              <a:chOff x="1965960" y="3816000"/>
              <a:chExt cx="1917360" cy="158868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2009160" y="3816000"/>
                <a:ext cx="1863360" cy="1562040"/>
                <a:chOff x="2009160" y="3816000"/>
                <a:chExt cx="1863360" cy="1562040"/>
              </a:xfrm>
            </p:grpSpPr>
            <p:grpSp>
              <p:nvGrpSpPr>
                <p:cNvPr id="206" name=""/>
                <p:cNvGrpSpPr/>
                <p:nvPr/>
              </p:nvGrpSpPr>
              <p:grpSpPr>
                <a:xfrm>
                  <a:off x="2009160" y="3816000"/>
                  <a:ext cx="1863360" cy="1562040"/>
                  <a:chOff x="2009160" y="3816000"/>
                  <a:chExt cx="1863360" cy="15620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rot="15622800">
                    <a:off x="2043360" y="4254480"/>
                    <a:ext cx="1098360" cy="9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685">
                        <a:moveTo>
                          <a:pt x="21" y="685"/>
                        </a:moveTo>
                        <a:lnTo>
                          <a:pt x="6" y="604"/>
                        </a:lnTo>
                        <a:lnTo>
                          <a:pt x="0" y="526"/>
                        </a:lnTo>
                        <a:lnTo>
                          <a:pt x="3" y="472"/>
                        </a:lnTo>
                        <a:lnTo>
                          <a:pt x="12" y="423"/>
                        </a:lnTo>
                        <a:lnTo>
                          <a:pt x="27" y="369"/>
                        </a:lnTo>
                        <a:lnTo>
                          <a:pt x="51" y="315"/>
                        </a:lnTo>
                        <a:lnTo>
                          <a:pt x="81" y="258"/>
                        </a:lnTo>
                        <a:lnTo>
                          <a:pt x="111" y="213"/>
                        </a:lnTo>
                        <a:lnTo>
                          <a:pt x="147" y="168"/>
                        </a:lnTo>
                        <a:lnTo>
                          <a:pt x="189" y="129"/>
                        </a:lnTo>
                        <a:lnTo>
                          <a:pt x="231" y="96"/>
                        </a:lnTo>
                        <a:lnTo>
                          <a:pt x="276" y="69"/>
                        </a:lnTo>
                        <a:lnTo>
                          <a:pt x="331" y="45"/>
                        </a:lnTo>
                        <a:lnTo>
                          <a:pt x="394" y="24"/>
                        </a:lnTo>
                        <a:lnTo>
                          <a:pt x="448" y="9"/>
                        </a:lnTo>
                        <a:lnTo>
                          <a:pt x="514" y="0"/>
                        </a:lnTo>
                        <a:lnTo>
                          <a:pt x="598" y="0"/>
                        </a:lnTo>
                        <a:lnTo>
                          <a:pt x="661" y="12"/>
                        </a:lnTo>
                        <a:lnTo>
                          <a:pt x="736" y="30"/>
                        </a:lnTo>
                        <a:lnTo>
                          <a:pt x="811" y="63"/>
                        </a:lnTo>
                        <a:lnTo>
                          <a:pt x="877" y="102"/>
                        </a:lnTo>
                        <a:lnTo>
                          <a:pt x="922" y="141"/>
                        </a:lnTo>
                        <a:lnTo>
                          <a:pt x="967" y="186"/>
                        </a:lnTo>
                        <a:lnTo>
                          <a:pt x="1003" y="231"/>
                        </a:lnTo>
                        <a:lnTo>
                          <a:pt x="907" y="159"/>
                        </a:lnTo>
                        <a:lnTo>
                          <a:pt x="856" y="129"/>
                        </a:lnTo>
                        <a:lnTo>
                          <a:pt x="802" y="108"/>
                        </a:lnTo>
                        <a:lnTo>
                          <a:pt x="733" y="87"/>
                        </a:lnTo>
                        <a:lnTo>
                          <a:pt x="667" y="78"/>
                        </a:lnTo>
                        <a:lnTo>
                          <a:pt x="595" y="75"/>
                        </a:lnTo>
                        <a:lnTo>
                          <a:pt x="541" y="78"/>
                        </a:lnTo>
                        <a:lnTo>
                          <a:pt x="484" y="87"/>
                        </a:lnTo>
                        <a:lnTo>
                          <a:pt x="427" y="102"/>
                        </a:lnTo>
                        <a:lnTo>
                          <a:pt x="373" y="120"/>
                        </a:lnTo>
                        <a:lnTo>
                          <a:pt x="313" y="150"/>
                        </a:lnTo>
                        <a:lnTo>
                          <a:pt x="267" y="177"/>
                        </a:lnTo>
                        <a:lnTo>
                          <a:pt x="228" y="210"/>
                        </a:lnTo>
                        <a:lnTo>
                          <a:pt x="183" y="246"/>
                        </a:lnTo>
                        <a:lnTo>
                          <a:pt x="147" y="285"/>
                        </a:lnTo>
                        <a:lnTo>
                          <a:pt x="111" y="339"/>
                        </a:lnTo>
                        <a:lnTo>
                          <a:pt x="78" y="396"/>
                        </a:lnTo>
                        <a:lnTo>
                          <a:pt x="57" y="450"/>
                        </a:lnTo>
                        <a:lnTo>
                          <a:pt x="39" y="514"/>
                        </a:lnTo>
                        <a:lnTo>
                          <a:pt x="27" y="592"/>
                        </a:lnTo>
                        <a:lnTo>
                          <a:pt x="21" y="68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rot="15622800">
                    <a:off x="2561760" y="3903120"/>
                    <a:ext cx="1211400" cy="122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6" h="841">
                        <a:moveTo>
                          <a:pt x="0" y="511"/>
                        </a:moveTo>
                        <a:lnTo>
                          <a:pt x="63" y="583"/>
                        </a:lnTo>
                        <a:lnTo>
                          <a:pt x="132" y="646"/>
                        </a:lnTo>
                        <a:lnTo>
                          <a:pt x="195" y="682"/>
                        </a:lnTo>
                        <a:lnTo>
                          <a:pt x="286" y="721"/>
                        </a:lnTo>
                        <a:lnTo>
                          <a:pt x="358" y="742"/>
                        </a:lnTo>
                        <a:lnTo>
                          <a:pt x="424" y="751"/>
                        </a:lnTo>
                        <a:lnTo>
                          <a:pt x="502" y="751"/>
                        </a:lnTo>
                        <a:lnTo>
                          <a:pt x="559" y="745"/>
                        </a:lnTo>
                        <a:lnTo>
                          <a:pt x="628" y="733"/>
                        </a:lnTo>
                        <a:lnTo>
                          <a:pt x="697" y="712"/>
                        </a:lnTo>
                        <a:lnTo>
                          <a:pt x="754" y="682"/>
                        </a:lnTo>
                        <a:lnTo>
                          <a:pt x="808" y="649"/>
                        </a:lnTo>
                        <a:lnTo>
                          <a:pt x="856" y="616"/>
                        </a:lnTo>
                        <a:lnTo>
                          <a:pt x="904" y="568"/>
                        </a:lnTo>
                        <a:lnTo>
                          <a:pt x="952" y="514"/>
                        </a:lnTo>
                        <a:lnTo>
                          <a:pt x="989" y="463"/>
                        </a:lnTo>
                        <a:lnTo>
                          <a:pt x="1010" y="412"/>
                        </a:lnTo>
                        <a:lnTo>
                          <a:pt x="1037" y="331"/>
                        </a:lnTo>
                        <a:lnTo>
                          <a:pt x="1055" y="247"/>
                        </a:lnTo>
                        <a:lnTo>
                          <a:pt x="1058" y="172"/>
                        </a:lnTo>
                        <a:lnTo>
                          <a:pt x="1046" y="90"/>
                        </a:lnTo>
                        <a:lnTo>
                          <a:pt x="1019" y="0"/>
                        </a:lnTo>
                        <a:lnTo>
                          <a:pt x="1046" y="48"/>
                        </a:lnTo>
                        <a:lnTo>
                          <a:pt x="1076" y="117"/>
                        </a:lnTo>
                        <a:lnTo>
                          <a:pt x="1091" y="181"/>
                        </a:lnTo>
                        <a:lnTo>
                          <a:pt x="1106" y="241"/>
                        </a:lnTo>
                        <a:lnTo>
                          <a:pt x="1103" y="292"/>
                        </a:lnTo>
                        <a:lnTo>
                          <a:pt x="1100" y="361"/>
                        </a:lnTo>
                        <a:lnTo>
                          <a:pt x="1064" y="493"/>
                        </a:lnTo>
                        <a:lnTo>
                          <a:pt x="1028" y="565"/>
                        </a:lnTo>
                        <a:lnTo>
                          <a:pt x="983" y="628"/>
                        </a:lnTo>
                        <a:lnTo>
                          <a:pt x="934" y="682"/>
                        </a:lnTo>
                        <a:lnTo>
                          <a:pt x="886" y="721"/>
                        </a:lnTo>
                        <a:lnTo>
                          <a:pt x="820" y="766"/>
                        </a:lnTo>
                        <a:lnTo>
                          <a:pt x="754" y="796"/>
                        </a:lnTo>
                        <a:lnTo>
                          <a:pt x="691" y="817"/>
                        </a:lnTo>
                        <a:lnTo>
                          <a:pt x="610" y="838"/>
                        </a:lnTo>
                        <a:lnTo>
                          <a:pt x="550" y="841"/>
                        </a:lnTo>
                        <a:lnTo>
                          <a:pt x="484" y="841"/>
                        </a:lnTo>
                        <a:lnTo>
                          <a:pt x="418" y="829"/>
                        </a:lnTo>
                        <a:lnTo>
                          <a:pt x="346" y="814"/>
                        </a:lnTo>
                        <a:lnTo>
                          <a:pt x="298" y="796"/>
                        </a:lnTo>
                        <a:lnTo>
                          <a:pt x="234" y="763"/>
                        </a:lnTo>
                        <a:lnTo>
                          <a:pt x="180" y="733"/>
                        </a:lnTo>
                        <a:lnTo>
                          <a:pt x="129" y="691"/>
                        </a:lnTo>
                        <a:lnTo>
                          <a:pt x="75" y="634"/>
                        </a:lnTo>
                        <a:lnTo>
                          <a:pt x="24" y="562"/>
                        </a:lnTo>
                        <a:lnTo>
                          <a:pt x="0" y="51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2043000" y="3891960"/>
                  <a:ext cx="1756080" cy="1418400"/>
                  <a:chOff x="2043000" y="3891960"/>
                  <a:chExt cx="1756080" cy="141840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rot="15622800">
                    <a:off x="3416400" y="4701600"/>
                    <a:ext cx="3139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278">
                        <a:moveTo>
                          <a:pt x="0" y="0"/>
                        </a:moveTo>
                        <a:lnTo>
                          <a:pt x="30" y="56"/>
                        </a:lnTo>
                        <a:lnTo>
                          <a:pt x="59" y="99"/>
                        </a:lnTo>
                        <a:lnTo>
                          <a:pt x="90" y="138"/>
                        </a:lnTo>
                        <a:lnTo>
                          <a:pt x="138" y="185"/>
                        </a:lnTo>
                        <a:lnTo>
                          <a:pt x="174" y="215"/>
                        </a:lnTo>
                        <a:lnTo>
                          <a:pt x="220" y="244"/>
                        </a:lnTo>
                        <a:lnTo>
                          <a:pt x="287" y="278"/>
                        </a:lnTo>
                        <a:lnTo>
                          <a:pt x="212" y="176"/>
                        </a:lnTo>
                        <a:lnTo>
                          <a:pt x="170" y="152"/>
                        </a:lnTo>
                        <a:lnTo>
                          <a:pt x="140" y="131"/>
                        </a:lnTo>
                        <a:lnTo>
                          <a:pt x="96" y="101"/>
                        </a:lnTo>
                        <a:lnTo>
                          <a:pt x="62" y="69"/>
                        </a:lnTo>
                        <a:lnTo>
                          <a:pt x="35" y="4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rot="15622800">
                    <a:off x="2799360" y="3616200"/>
                    <a:ext cx="112680" cy="79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546">
                        <a:moveTo>
                          <a:pt x="19" y="0"/>
                        </a:moveTo>
                        <a:lnTo>
                          <a:pt x="39" y="37"/>
                        </a:lnTo>
                        <a:lnTo>
                          <a:pt x="52" y="69"/>
                        </a:lnTo>
                        <a:lnTo>
                          <a:pt x="66" y="102"/>
                        </a:lnTo>
                        <a:lnTo>
                          <a:pt x="76" y="134"/>
                        </a:lnTo>
                        <a:lnTo>
                          <a:pt x="84" y="164"/>
                        </a:lnTo>
                        <a:lnTo>
                          <a:pt x="99" y="217"/>
                        </a:lnTo>
                        <a:lnTo>
                          <a:pt x="103" y="269"/>
                        </a:lnTo>
                        <a:lnTo>
                          <a:pt x="100" y="349"/>
                        </a:lnTo>
                        <a:lnTo>
                          <a:pt x="93" y="403"/>
                        </a:lnTo>
                        <a:lnTo>
                          <a:pt x="82" y="447"/>
                        </a:lnTo>
                        <a:lnTo>
                          <a:pt x="65" y="493"/>
                        </a:lnTo>
                        <a:lnTo>
                          <a:pt x="42" y="546"/>
                        </a:lnTo>
                        <a:lnTo>
                          <a:pt x="0" y="443"/>
                        </a:lnTo>
                        <a:lnTo>
                          <a:pt x="19" y="398"/>
                        </a:lnTo>
                        <a:lnTo>
                          <a:pt x="28" y="374"/>
                        </a:lnTo>
                        <a:lnTo>
                          <a:pt x="39" y="343"/>
                        </a:lnTo>
                        <a:lnTo>
                          <a:pt x="46" y="311"/>
                        </a:lnTo>
                        <a:lnTo>
                          <a:pt x="52" y="262"/>
                        </a:lnTo>
                        <a:lnTo>
                          <a:pt x="55" y="221"/>
                        </a:lnTo>
                        <a:lnTo>
                          <a:pt x="55" y="160"/>
                        </a:lnTo>
                        <a:lnTo>
                          <a:pt x="46" y="105"/>
                        </a:lnTo>
                        <a:lnTo>
                          <a:pt x="36" y="60"/>
                        </a:lnTo>
                        <a:lnTo>
                          <a:pt x="30" y="36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rot="15622800">
                    <a:off x="1974960" y="4433040"/>
                    <a:ext cx="44676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65">
                        <a:moveTo>
                          <a:pt x="0" y="0"/>
                        </a:moveTo>
                        <a:lnTo>
                          <a:pt x="31" y="60"/>
                        </a:lnTo>
                        <a:lnTo>
                          <a:pt x="79" y="57"/>
                        </a:lnTo>
                        <a:lnTo>
                          <a:pt x="123" y="60"/>
                        </a:lnTo>
                        <a:lnTo>
                          <a:pt x="164" y="66"/>
                        </a:lnTo>
                        <a:lnTo>
                          <a:pt x="202" y="73"/>
                        </a:lnTo>
                        <a:lnTo>
                          <a:pt x="240" y="83"/>
                        </a:lnTo>
                        <a:lnTo>
                          <a:pt x="266" y="91"/>
                        </a:lnTo>
                        <a:lnTo>
                          <a:pt x="300" y="105"/>
                        </a:lnTo>
                        <a:lnTo>
                          <a:pt x="339" y="124"/>
                        </a:lnTo>
                        <a:lnTo>
                          <a:pt x="408" y="165"/>
                        </a:lnTo>
                        <a:lnTo>
                          <a:pt x="368" y="123"/>
                        </a:lnTo>
                        <a:lnTo>
                          <a:pt x="340" y="102"/>
                        </a:lnTo>
                        <a:lnTo>
                          <a:pt x="303" y="78"/>
                        </a:lnTo>
                        <a:lnTo>
                          <a:pt x="280" y="64"/>
                        </a:lnTo>
                        <a:lnTo>
                          <a:pt x="229" y="40"/>
                        </a:lnTo>
                        <a:lnTo>
                          <a:pt x="196" y="28"/>
                        </a:lnTo>
                        <a:lnTo>
                          <a:pt x="169" y="19"/>
                        </a:lnTo>
                        <a:lnTo>
                          <a:pt x="144" y="13"/>
                        </a:lnTo>
                        <a:lnTo>
                          <a:pt x="105" y="6"/>
                        </a:lnTo>
                        <a:lnTo>
                          <a:pt x="64" y="1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rot="15622800">
                    <a:off x="2741400" y="4911120"/>
                    <a:ext cx="142560" cy="56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87">
                        <a:moveTo>
                          <a:pt x="0" y="297"/>
                        </a:moveTo>
                        <a:lnTo>
                          <a:pt x="3" y="267"/>
                        </a:lnTo>
                        <a:lnTo>
                          <a:pt x="5" y="234"/>
                        </a:lnTo>
                        <a:lnTo>
                          <a:pt x="14" y="181"/>
                        </a:lnTo>
                        <a:lnTo>
                          <a:pt x="24" y="139"/>
                        </a:lnTo>
                        <a:lnTo>
                          <a:pt x="38" y="101"/>
                        </a:lnTo>
                        <a:lnTo>
                          <a:pt x="56" y="62"/>
                        </a:lnTo>
                        <a:lnTo>
                          <a:pt x="72" y="32"/>
                        </a:lnTo>
                        <a:lnTo>
                          <a:pt x="92" y="0"/>
                        </a:lnTo>
                        <a:lnTo>
                          <a:pt x="130" y="50"/>
                        </a:lnTo>
                        <a:lnTo>
                          <a:pt x="108" y="80"/>
                        </a:lnTo>
                        <a:lnTo>
                          <a:pt x="92" y="107"/>
                        </a:lnTo>
                        <a:lnTo>
                          <a:pt x="79" y="132"/>
                        </a:lnTo>
                        <a:lnTo>
                          <a:pt x="60" y="167"/>
                        </a:lnTo>
                        <a:lnTo>
                          <a:pt x="48" y="198"/>
                        </a:lnTo>
                        <a:lnTo>
                          <a:pt x="41" y="228"/>
                        </a:lnTo>
                        <a:lnTo>
                          <a:pt x="32" y="258"/>
                        </a:lnTo>
                        <a:lnTo>
                          <a:pt x="26" y="291"/>
                        </a:lnTo>
                        <a:lnTo>
                          <a:pt x="21" y="331"/>
                        </a:lnTo>
                        <a:lnTo>
                          <a:pt x="17" y="371"/>
                        </a:lnTo>
                        <a:lnTo>
                          <a:pt x="10" y="387"/>
                        </a:lnTo>
                        <a:lnTo>
                          <a:pt x="0" y="297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4" name=""/>
              <p:cNvSpPr/>
              <p:nvPr/>
            </p:nvSpPr>
            <p:spPr>
              <a:xfrm rot="15622800">
                <a:off x="2352600" y="3769200"/>
                <a:ext cx="1263960" cy="1608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1965960" y="3890160"/>
                <a:ext cx="1797120" cy="1514520"/>
                <a:chOff x="1965960" y="3890160"/>
                <a:chExt cx="1797120" cy="1514520"/>
              </a:xfrm>
            </p:grpSpPr>
            <p:sp>
              <p:nvSpPr>
                <p:cNvPr id="216" name=""/>
                <p:cNvSpPr/>
                <p:nvPr/>
              </p:nvSpPr>
              <p:spPr>
                <a:xfrm rot="15622800">
                  <a:off x="2249280" y="3862800"/>
                  <a:ext cx="1234080" cy="1569240"/>
                </a:xfrm>
                <a:prstGeom prst="ellipse">
                  <a:avLst/>
                </a:prstGeom>
                <a:noFill/>
                <a:ln w="63360">
                  <a:solidFill>
                    <a:srgbClr val="9f9f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rot="15622800">
                  <a:off x="2232720" y="3843000"/>
                  <a:ext cx="1263600" cy="160848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rot="15622800">
                  <a:off x="2268360" y="3885840"/>
                  <a:ext cx="1193400" cy="15228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9" name=""/>
            <p:cNvGrpSpPr/>
            <p:nvPr/>
          </p:nvGrpSpPr>
          <p:grpSpPr>
            <a:xfrm>
              <a:off x="3484440" y="3394440"/>
              <a:ext cx="1289520" cy="863280"/>
              <a:chOff x="3484440" y="3394440"/>
              <a:chExt cx="1289520" cy="863280"/>
            </a:xfrm>
          </p:grpSpPr>
          <p:sp>
            <p:nvSpPr>
              <p:cNvPr id="220" name=""/>
              <p:cNvSpPr/>
              <p:nvPr/>
            </p:nvSpPr>
            <p:spPr>
              <a:xfrm rot="15622800">
                <a:off x="3807000" y="3250800"/>
                <a:ext cx="617760" cy="1176120"/>
              </a:xfrm>
              <a:custGeom>
                <a:avLst/>
                <a:gdLst/>
                <a:ahLst/>
                <a:rect l="l" t="t" r="r" b="b"/>
                <a:pathLst>
                  <a:path w="564" h="808">
                    <a:moveTo>
                      <a:pt x="0" y="60"/>
                    </a:moveTo>
                    <a:lnTo>
                      <a:pt x="400" y="808"/>
                    </a:lnTo>
                    <a:lnTo>
                      <a:pt x="564" y="725"/>
                    </a:lnTo>
                    <a:lnTo>
                      <a:pt x="162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5622800">
                <a:off x="3527280" y="4023720"/>
                <a:ext cx="190080" cy="23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9" y="13846"/>
                    </a:moveTo>
                    <a:arcTo wR="10800" hR="10800" stAng="9816983" swAng="107075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9" y="13846"/>
                    </a:moveTo>
                    <a:arcTo wR="10800" hR="10800" stAng="9816983" swAng="10707533"/>
                  </a:path>
                </a:pathLst>
              </a:custGeom>
              <a:solidFill>
                <a:srgbClr val="5f3f1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5622800">
                <a:off x="3552120" y="4002120"/>
                <a:ext cx="192600" cy="26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9" y="12020"/>
                    </a:moveTo>
                    <a:arcTo wR="10800" hR="10800" stAng="10410941" swAng="100696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9" y="12020"/>
                    </a:moveTo>
                    <a:arcTo wR="10800" hR="10800" stAng="10410941" swAng="10069629"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5622800">
                <a:off x="3618360" y="4021920"/>
                <a:ext cx="117000" cy="300960"/>
              </a:xfrm>
              <a:custGeom>
                <a:avLst/>
                <a:gdLst/>
                <a:ahLst/>
                <a:rect l="l" t="t" r="r" b="b"/>
                <a:pathLst>
                  <a:path w="107" h="207">
                    <a:moveTo>
                      <a:pt x="3" y="96"/>
                    </a:moveTo>
                    <a:lnTo>
                      <a:pt x="0" y="82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6" y="42"/>
                    </a:lnTo>
                    <a:lnTo>
                      <a:pt x="12" y="29"/>
                    </a:lnTo>
                    <a:lnTo>
                      <a:pt x="21" y="17"/>
                    </a:lnTo>
                    <a:lnTo>
                      <a:pt x="31" y="7"/>
                    </a:lnTo>
                    <a:lnTo>
                      <a:pt x="41" y="0"/>
                    </a:lnTo>
                    <a:lnTo>
                      <a:pt x="107" y="112"/>
                    </a:lnTo>
                    <a:lnTo>
                      <a:pt x="95" y="119"/>
                    </a:lnTo>
                    <a:lnTo>
                      <a:pt x="87" y="127"/>
                    </a:lnTo>
                    <a:lnTo>
                      <a:pt x="79" y="135"/>
                    </a:lnTo>
                    <a:lnTo>
                      <a:pt x="73" y="145"/>
                    </a:lnTo>
                    <a:lnTo>
                      <a:pt x="66" y="163"/>
                    </a:lnTo>
                    <a:lnTo>
                      <a:pt x="62" y="187"/>
                    </a:lnTo>
                    <a:lnTo>
                      <a:pt x="62" y="207"/>
                    </a:lnTo>
                    <a:lnTo>
                      <a:pt x="3" y="96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5622800">
                <a:off x="3526200" y="4025160"/>
                <a:ext cx="189720" cy="23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03" y="13724"/>
                    </a:moveTo>
                    <a:arcTo wR="10800" hR="10800" stAng="9857570" swAng="51179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03" y="13724"/>
                    </a:moveTo>
                    <a:arcTo wR="10800" hR="10800" stAng="9857570" swAng="5117964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5622800">
                <a:off x="3677400" y="3929040"/>
                <a:ext cx="190800" cy="23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65" y="13584"/>
                    </a:moveTo>
                    <a:arcTo wR="10800" hR="10800" stAng="9903788" swAng="106964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65" y="13584"/>
                    </a:moveTo>
                    <a:arcTo wR="10800" hR="10800" stAng="9903788" swAng="10696462"/>
                  </a:path>
                </a:pathLst>
              </a:custGeom>
              <a:solidFill>
                <a:srgbClr val="7f3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661200" y="3908520"/>
                <a:ext cx="289800" cy="243000"/>
                <a:chOff x="3661200" y="3908520"/>
                <a:chExt cx="289800" cy="243000"/>
              </a:xfrm>
            </p:grpSpPr>
            <p:grpSp>
              <p:nvGrpSpPr>
                <p:cNvPr id="227" name=""/>
                <p:cNvGrpSpPr/>
                <p:nvPr/>
              </p:nvGrpSpPr>
              <p:grpSpPr>
                <a:xfrm>
                  <a:off x="3661200" y="3922560"/>
                  <a:ext cx="266400" cy="228960"/>
                  <a:chOff x="3661200" y="3922560"/>
                  <a:chExt cx="266400" cy="22896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rot="15622800">
                    <a:off x="3699000" y="3918960"/>
                    <a:ext cx="19044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rot="15622800">
                    <a:off x="3698280" y="3918240"/>
                    <a:ext cx="191880" cy="237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442384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4423841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rot="15622800">
                    <a:off x="3699000" y="3917880"/>
                    <a:ext cx="19044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01" y="13334"/>
                        </a:moveTo>
                        <a:arcTo wR="10800" hR="10800" stAng="9985831" swAng="1070765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01" y="13334"/>
                        </a:moveTo>
                        <a:arcTo wR="10800" hR="10800" stAng="9985831" swAng="10707652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1" name=""/>
                <p:cNvSpPr/>
                <p:nvPr/>
              </p:nvSpPr>
              <p:spPr>
                <a:xfrm rot="15622800">
                  <a:off x="3722760" y="3903840"/>
                  <a:ext cx="190800" cy="236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3707280" y="3882600"/>
                <a:ext cx="290160" cy="242640"/>
                <a:chOff x="3707280" y="3882600"/>
                <a:chExt cx="290160" cy="2426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3707280" y="3896280"/>
                  <a:ext cx="266040" cy="228960"/>
                  <a:chOff x="3707280" y="3896280"/>
                  <a:chExt cx="266040" cy="22896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rot="15622800">
                    <a:off x="3744360" y="3892320"/>
                    <a:ext cx="19116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1069921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10699212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rot="15622800">
                    <a:off x="3744000" y="3891960"/>
                    <a:ext cx="1918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43826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4382672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 rot="15622800">
                    <a:off x="3744720" y="3891960"/>
                    <a:ext cx="1900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7" name=""/>
                <p:cNvSpPr/>
                <p:nvPr/>
              </p:nvSpPr>
              <p:spPr>
                <a:xfrm rot="15622800">
                  <a:off x="3769200" y="3877560"/>
                  <a:ext cx="19044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6" y="13180"/>
                      </a:moveTo>
                      <a:arcTo wR="10800" hR="10800" stAng="10036009" swAng="1069879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6" y="13180"/>
                      </a:moveTo>
                      <a:arcTo wR="10800" hR="10800" stAng="10036009" swAng="10698799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3749760" y="3868200"/>
                <a:ext cx="266760" cy="229680"/>
                <a:chOff x="3749760" y="3868200"/>
                <a:chExt cx="266760" cy="229680"/>
              </a:xfrm>
            </p:grpSpPr>
            <p:sp>
              <p:nvSpPr>
                <p:cNvPr id="239" name=""/>
                <p:cNvSpPr/>
                <p:nvPr/>
              </p:nvSpPr>
              <p:spPr>
                <a:xfrm rot="15622800">
                  <a:off x="3787560" y="3864960"/>
                  <a:ext cx="191160" cy="237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15622800">
                  <a:off x="3786480" y="3863880"/>
                  <a:ext cx="192600" cy="237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43412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4341291"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3749760" y="3854520"/>
                <a:ext cx="290160" cy="242280"/>
                <a:chOff x="3749760" y="3854520"/>
                <a:chExt cx="290160" cy="242280"/>
              </a:xfrm>
            </p:grpSpPr>
            <p:sp>
              <p:nvSpPr>
                <p:cNvPr id="242" name=""/>
                <p:cNvSpPr/>
                <p:nvPr/>
              </p:nvSpPr>
              <p:spPr>
                <a:xfrm rot="15622800">
                  <a:off x="3786840" y="3863880"/>
                  <a:ext cx="19152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rot="15622800">
                  <a:off x="3810960" y="3849840"/>
                  <a:ext cx="19116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3561840" y="3455280"/>
                <a:ext cx="1119960" cy="770760"/>
                <a:chOff x="3561840" y="3455280"/>
                <a:chExt cx="1119960" cy="770760"/>
              </a:xfrm>
            </p:grpSpPr>
            <p:sp>
              <p:nvSpPr>
                <p:cNvPr id="245" name=""/>
                <p:cNvSpPr/>
                <p:nvPr/>
              </p:nvSpPr>
              <p:spPr>
                <a:xfrm flipV="1">
                  <a:off x="3561840" y="3455280"/>
                  <a:ext cx="961200" cy="60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V="1">
                  <a:off x="3674880" y="3608640"/>
                  <a:ext cx="1006920" cy="617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3792240" y="3829320"/>
                <a:ext cx="285480" cy="241200"/>
                <a:chOff x="3792240" y="3829320"/>
                <a:chExt cx="285480" cy="241200"/>
              </a:xfrm>
            </p:grpSpPr>
            <p:grpSp>
              <p:nvGrpSpPr>
                <p:cNvPr id="248" name=""/>
                <p:cNvGrpSpPr/>
                <p:nvPr/>
              </p:nvGrpSpPr>
              <p:grpSpPr>
                <a:xfrm>
                  <a:off x="3792240" y="3841560"/>
                  <a:ext cx="266040" cy="228960"/>
                  <a:chOff x="3792240" y="3841560"/>
                  <a:chExt cx="266040" cy="22896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rot="15622800">
                    <a:off x="3830040" y="3837960"/>
                    <a:ext cx="19080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107086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10708688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rot="15622800">
                    <a:off x="3828960" y="3837240"/>
                    <a:ext cx="1918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429970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4299709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"/>
                <p:cNvSpPr/>
                <p:nvPr/>
              </p:nvSpPr>
              <p:spPr>
                <a:xfrm rot="15622800">
                  <a:off x="3829320" y="3836880"/>
                  <a:ext cx="19116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rot="15622800">
                  <a:off x="3849480" y="3824640"/>
                  <a:ext cx="190800" cy="236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3" name=""/>
              <p:cNvSpPr/>
              <p:nvPr/>
            </p:nvSpPr>
            <p:spPr>
              <a:xfrm rot="15622800">
                <a:off x="4056840" y="3365280"/>
                <a:ext cx="380880" cy="869040"/>
              </a:xfrm>
              <a:custGeom>
                <a:avLst/>
                <a:gdLst/>
                <a:ahLst/>
                <a:rect l="l" t="t" r="r" b="b"/>
                <a:pathLst>
                  <a:path w="348" h="597">
                    <a:moveTo>
                      <a:pt x="44" y="0"/>
                    </a:moveTo>
                    <a:lnTo>
                      <a:pt x="31" y="8"/>
                    </a:lnTo>
                    <a:lnTo>
                      <a:pt x="21" y="16"/>
                    </a:lnTo>
                    <a:lnTo>
                      <a:pt x="12" y="26"/>
                    </a:lnTo>
                    <a:lnTo>
                      <a:pt x="8" y="36"/>
                    </a:lnTo>
                    <a:lnTo>
                      <a:pt x="4" y="47"/>
                    </a:lnTo>
                    <a:lnTo>
                      <a:pt x="1" y="58"/>
                    </a:lnTo>
                    <a:lnTo>
                      <a:pt x="0" y="71"/>
                    </a:lnTo>
                    <a:lnTo>
                      <a:pt x="0" y="86"/>
                    </a:lnTo>
                    <a:lnTo>
                      <a:pt x="270" y="597"/>
                    </a:lnTo>
                    <a:lnTo>
                      <a:pt x="348" y="54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15622800">
                <a:off x="4520880" y="3386160"/>
                <a:ext cx="208080" cy="266400"/>
              </a:xfrm>
              <a:prstGeom prst="ellipse">
                <a:avLst/>
              </a:prstGeom>
              <a:solidFill>
                <a:srgbClr val="7f5f3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793800" y="974880"/>
          <a:ext cx="7338960" cy="566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974880"/>
                    <a:ext cx="7338960" cy="56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Ciclo de vida segundo as atividades pelas quais o produto / processo passa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90440" y="1014480"/>
          <a:ext cx="8643960" cy="58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1014480"/>
                    <a:ext cx="864396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9240" y="70920"/>
            <a:ext cx="738792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Modelo de ciclo de vida em espiral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49760" y="6643800"/>
            <a:ext cx="150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aptado de Fonseca (200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54160" y="38160"/>
            <a:ext cx="73879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Clien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12680" y="887400"/>
            <a:ext cx="885672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i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odas as pessoas e ou organizações, que irão comprar para uso e consumo um dado produto, resultado de uma atividade de projeto, e também aquelas que estarão envolvidas direta ou indiretamente com o ciclo de vida do produ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LIENTES EXTERNOS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LIENTES INTERMEDIÁRIOS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LIENTES INTE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ualizar o Plano do Projeto Inform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ar e atualizar o escopo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lhar ciclo de vida do produto e definir seu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dentificar os requisitos dos clientes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os requisitos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especificações-meta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ar a viabilidade econômica financ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ovar a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r as decisões tomadas e registrar lições apren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54160" y="38160"/>
            <a:ext cx="73879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Informações e tarefas da atividade “Identificar os requisitos dos clientes do produt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763560" y="1073160"/>
          <a:ext cx="7927920" cy="524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1073160"/>
                    <a:ext cx="7927920" cy="52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0" y="1220760"/>
            <a:ext cx="79200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etar as necessidades dos clientes de cada fase do ciclo de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antar necessidades “brutas” (dados origina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 meio de observação direta, grupos focai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upar e classificar as necess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r os requisitos dos 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orar requisitos dos 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44560" y="2832120"/>
            <a:ext cx="5924520" cy="13827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Tarefas da atividade “Identificar os requisitos dos clientes do produto” 1/4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413240" y="3201840"/>
            <a:ext cx="229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que os clientes deseja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171440" y="2986200"/>
            <a:ext cx="172908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5" name=""/>
          <p:cNvGraphicFramePr/>
          <p:nvPr/>
        </p:nvGraphicFramePr>
        <p:xfrm>
          <a:off x="3044880" y="3057480"/>
          <a:ext cx="1366920" cy="855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4880" y="3057480"/>
                    <a:ext cx="136692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2540160" y="3346560"/>
            <a:ext cx="360360" cy="360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9680" y="153720"/>
            <a:ext cx="72993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Necessidade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442880" y="825480"/>
            <a:ext cx="6762960" cy="22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cessidades human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ecem ser ilimitadas tanto em volume quanto em varieda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seres humanos são por natureza aquisi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fluenciadas por outras variáveis tais como a cultura predominant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a sociedade, e o nível de tecnologi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720800" y="3598920"/>
            <a:ext cx="2718000" cy="2600280"/>
            <a:chOff x="1720800" y="3598920"/>
            <a:chExt cx="2718000" cy="2600280"/>
          </a:xfrm>
        </p:grpSpPr>
        <p:sp>
          <p:nvSpPr>
            <p:cNvPr id="351" name=""/>
            <p:cNvSpPr/>
            <p:nvPr/>
          </p:nvSpPr>
          <p:spPr>
            <a:xfrm>
              <a:off x="1720800" y="3598920"/>
              <a:ext cx="2718000" cy="26002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72000" y="41907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29000" y="4641840"/>
              <a:ext cx="10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265480" y="5149800"/>
              <a:ext cx="16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979640" y="5697360"/>
              <a:ext cx="219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464000" y="5773680"/>
            <a:ext cx="3389400" cy="368280"/>
            <a:chOff x="4464000" y="5773680"/>
            <a:chExt cx="3389400" cy="368280"/>
          </a:xfrm>
        </p:grpSpPr>
        <p:sp>
          <p:nvSpPr>
            <p:cNvPr id="357" name=""/>
            <p:cNvSpPr/>
            <p:nvPr/>
          </p:nvSpPr>
          <p:spPr>
            <a:xfrm>
              <a:off x="5004000" y="5773680"/>
              <a:ext cx="284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cessidades fisiológic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4464000" y="596736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4158720" y="5248440"/>
            <a:ext cx="3692880" cy="368280"/>
            <a:chOff x="4158720" y="5248440"/>
            <a:chExt cx="3692880" cy="368280"/>
          </a:xfrm>
        </p:grpSpPr>
        <p:sp>
          <p:nvSpPr>
            <p:cNvPr id="360" name=""/>
            <p:cNvSpPr/>
            <p:nvPr/>
          </p:nvSpPr>
          <p:spPr>
            <a:xfrm>
              <a:off x="4735080" y="5248440"/>
              <a:ext cx="311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cessidades de seguranç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4158720" y="543384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879360" y="4657680"/>
            <a:ext cx="3962520" cy="368280"/>
            <a:chOff x="3879360" y="4657680"/>
            <a:chExt cx="3962520" cy="368280"/>
          </a:xfrm>
        </p:grpSpPr>
        <p:sp>
          <p:nvSpPr>
            <p:cNvPr id="363" name=""/>
            <p:cNvSpPr/>
            <p:nvPr/>
          </p:nvSpPr>
          <p:spPr>
            <a:xfrm>
              <a:off x="4493880" y="4657680"/>
              <a:ext cx="33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cessidades sociai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3879360" y="484956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574800" y="4179960"/>
            <a:ext cx="3861000" cy="368280"/>
            <a:chOff x="3574800" y="4179960"/>
            <a:chExt cx="3861000" cy="368280"/>
          </a:xfrm>
        </p:grpSpPr>
        <p:sp>
          <p:nvSpPr>
            <p:cNvPr id="366" name=""/>
            <p:cNvSpPr/>
            <p:nvPr/>
          </p:nvSpPr>
          <p:spPr>
            <a:xfrm>
              <a:off x="4113360" y="4179960"/>
              <a:ext cx="332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cessidades de estim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3574800" y="4379760"/>
              <a:ext cx="482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3295800" y="3651120"/>
            <a:ext cx="4238640" cy="368280"/>
            <a:chOff x="3295800" y="3651120"/>
            <a:chExt cx="4238640" cy="368280"/>
          </a:xfrm>
        </p:grpSpPr>
        <p:sp>
          <p:nvSpPr>
            <p:cNvPr id="369" name=""/>
            <p:cNvSpPr/>
            <p:nvPr/>
          </p:nvSpPr>
          <p:spPr>
            <a:xfrm>
              <a:off x="3813120" y="3651120"/>
              <a:ext cx="372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cessidades de auto-realizaçã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3295800" y="3846240"/>
              <a:ext cx="495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2144880" y="6291360"/>
            <a:ext cx="42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irâmide de Mas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19040" y="177840"/>
            <a:ext cx="439092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ecessidades do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44640" y="1244520"/>
            <a:ext cx="731844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8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idades manifes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8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idades re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8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idades lat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8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idades cultur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8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idades atribuíveis a usos inesper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8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idades relativas à satisfação do produ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397160" y="3886200"/>
            <a:ext cx="7035480" cy="18414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89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48400" y="209520"/>
            <a:ext cx="49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Arial"/>
              </a:rPr>
              <a:t>Como descobrir as necessidad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064040" y="758880"/>
            <a:ext cx="3669480" cy="2882520"/>
            <a:chOff x="4064040" y="758880"/>
            <a:chExt cx="3669480" cy="2882520"/>
          </a:xfrm>
        </p:grpSpPr>
        <p:grpSp>
          <p:nvGrpSpPr>
            <p:cNvPr id="378" name=""/>
            <p:cNvGrpSpPr/>
            <p:nvPr/>
          </p:nvGrpSpPr>
          <p:grpSpPr>
            <a:xfrm>
              <a:off x="4797720" y="758880"/>
              <a:ext cx="2935800" cy="2882520"/>
              <a:chOff x="4797720" y="758880"/>
              <a:chExt cx="2935800" cy="2882520"/>
            </a:xfrm>
          </p:grpSpPr>
          <p:sp>
            <p:nvSpPr>
              <p:cNvPr id="379" name=""/>
              <p:cNvSpPr/>
              <p:nvPr/>
            </p:nvSpPr>
            <p:spPr>
              <a:xfrm>
                <a:off x="4797720" y="758880"/>
                <a:ext cx="2202120" cy="1474560"/>
              </a:xfrm>
              <a:prstGeom prst="cloudCallout">
                <a:avLst>
                  <a:gd name="adj1" fmla="val 54722"/>
                  <a:gd name="adj2" fmla="val 4147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8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84880" y="892800"/>
                <a:ext cx="1614960" cy="10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1" name=""/>
              <p:cNvSpPr/>
              <p:nvPr/>
            </p:nvSpPr>
            <p:spPr>
              <a:xfrm>
                <a:off x="4797720" y="758880"/>
                <a:ext cx="2202120" cy="1474560"/>
              </a:xfrm>
              <a:prstGeom prst="cloudCallout">
                <a:avLst>
                  <a:gd name="adj1" fmla="val 54722"/>
                  <a:gd name="adj2" fmla="val 41476"/>
                </a:avLst>
              </a:prstGeom>
              <a:solidFill>
                <a:srgbClr val="ffffdd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8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238000" y="2122200"/>
                <a:ext cx="2495520" cy="1519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3" name=""/>
            <p:cNvSpPr/>
            <p:nvPr/>
          </p:nvSpPr>
          <p:spPr>
            <a:xfrm>
              <a:off x="4064040" y="1227960"/>
              <a:ext cx="219960" cy="20109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1479240" y="5662440"/>
            <a:ext cx="622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nalisando e Ouvindo os Clientes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3"/>
          <a:stretch/>
        </p:blipFill>
        <p:spPr>
          <a:xfrm>
            <a:off x="1617840" y="1393920"/>
            <a:ext cx="1563480" cy="13446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1523880" y="320976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549760" y="333684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t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6434280" y="3922560"/>
            <a:ext cx="2016360" cy="1616040"/>
            <a:chOff x="6434280" y="3922560"/>
            <a:chExt cx="2016360" cy="1616040"/>
          </a:xfrm>
        </p:grpSpPr>
        <p:grpSp>
          <p:nvGrpSpPr>
            <p:cNvPr id="389" name=""/>
            <p:cNvGrpSpPr/>
            <p:nvPr/>
          </p:nvGrpSpPr>
          <p:grpSpPr>
            <a:xfrm>
              <a:off x="7584840" y="4365720"/>
              <a:ext cx="865800" cy="956880"/>
              <a:chOff x="7584840" y="4365720"/>
              <a:chExt cx="865800" cy="956880"/>
            </a:xfrm>
          </p:grpSpPr>
          <p:sp>
            <p:nvSpPr>
              <p:cNvPr id="390" name=""/>
              <p:cNvSpPr/>
              <p:nvPr/>
            </p:nvSpPr>
            <p:spPr>
              <a:xfrm>
                <a:off x="7584840" y="4645080"/>
                <a:ext cx="140400" cy="269640"/>
              </a:xfrm>
              <a:custGeom>
                <a:avLst/>
                <a:gdLst/>
                <a:ahLst/>
                <a:rect l="l" t="t" r="r" b="b"/>
                <a:pathLst>
                  <a:path w="77" h="157">
                    <a:moveTo>
                      <a:pt x="77" y="75"/>
                    </a:moveTo>
                    <a:lnTo>
                      <a:pt x="39" y="157"/>
                    </a:lnTo>
                    <a:lnTo>
                      <a:pt x="0" y="157"/>
                    </a:lnTo>
                    <a:lnTo>
                      <a:pt x="39" y="59"/>
                    </a:lnTo>
                    <a:lnTo>
                      <a:pt x="39" y="0"/>
                    </a:lnTo>
                    <a:lnTo>
                      <a:pt x="77" y="75"/>
                    </a:lnTo>
                    <a:close/>
                  </a:path>
                </a:pathLst>
              </a:custGeom>
              <a:solidFill>
                <a:srgbClr val="ff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812000" y="4365720"/>
                <a:ext cx="136080" cy="123480"/>
              </a:xfrm>
              <a:custGeom>
                <a:avLst/>
                <a:gdLst/>
                <a:ahLst/>
                <a:rect l="l" t="t" r="r" b="b"/>
                <a:pathLst>
                  <a:path w="75" h="72">
                    <a:moveTo>
                      <a:pt x="75" y="35"/>
                    </a:moveTo>
                    <a:lnTo>
                      <a:pt x="73" y="24"/>
                    </a:lnTo>
                    <a:lnTo>
                      <a:pt x="66" y="12"/>
                    </a:lnTo>
                    <a:lnTo>
                      <a:pt x="56" y="6"/>
                    </a:lnTo>
                    <a:lnTo>
                      <a:pt x="44" y="0"/>
                    </a:lnTo>
                    <a:lnTo>
                      <a:pt x="31" y="0"/>
                    </a:lnTo>
                    <a:lnTo>
                      <a:pt x="17" y="6"/>
                    </a:lnTo>
                    <a:lnTo>
                      <a:pt x="8" y="12"/>
                    </a:lnTo>
                    <a:lnTo>
                      <a:pt x="0" y="24"/>
                    </a:lnTo>
                    <a:lnTo>
                      <a:pt x="0" y="35"/>
                    </a:lnTo>
                    <a:lnTo>
                      <a:pt x="0" y="48"/>
                    </a:lnTo>
                    <a:lnTo>
                      <a:pt x="8" y="58"/>
                    </a:lnTo>
                    <a:lnTo>
                      <a:pt x="17" y="66"/>
                    </a:lnTo>
                    <a:lnTo>
                      <a:pt x="31" y="72"/>
                    </a:lnTo>
                    <a:lnTo>
                      <a:pt x="44" y="72"/>
                    </a:lnTo>
                    <a:lnTo>
                      <a:pt x="56" y="66"/>
                    </a:lnTo>
                    <a:lnTo>
                      <a:pt x="66" y="58"/>
                    </a:lnTo>
                    <a:lnTo>
                      <a:pt x="73" y="48"/>
                    </a:lnTo>
                    <a:lnTo>
                      <a:pt x="75" y="35"/>
                    </a:lnTo>
                    <a:close/>
                  </a:path>
                </a:pathLst>
              </a:custGeom>
              <a:solidFill>
                <a:srgbClr val="ff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656120" y="4457520"/>
                <a:ext cx="317520" cy="456840"/>
              </a:xfrm>
              <a:custGeom>
                <a:avLst/>
                <a:gdLst/>
                <a:ahLst/>
                <a:rect l="l" t="t" r="r" b="b"/>
                <a:pathLst>
                  <a:path w="175" h="267">
                    <a:moveTo>
                      <a:pt x="75" y="0"/>
                    </a:moveTo>
                    <a:lnTo>
                      <a:pt x="0" y="110"/>
                    </a:lnTo>
                    <a:lnTo>
                      <a:pt x="75" y="267"/>
                    </a:lnTo>
                    <a:lnTo>
                      <a:pt x="119" y="267"/>
                    </a:lnTo>
                    <a:lnTo>
                      <a:pt x="65" y="123"/>
                    </a:lnTo>
                    <a:lnTo>
                      <a:pt x="103" y="71"/>
                    </a:lnTo>
                    <a:lnTo>
                      <a:pt x="161" y="115"/>
                    </a:lnTo>
                    <a:lnTo>
                      <a:pt x="175" y="89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948080" y="4704480"/>
                <a:ext cx="237960" cy="209880"/>
              </a:xfrm>
              <a:prstGeom prst="rect">
                <a:avLst/>
              </a:prstGeom>
              <a:solidFill>
                <a:srgbClr val="ff33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948080" y="4600440"/>
                <a:ext cx="352800" cy="103680"/>
              </a:xfrm>
              <a:custGeom>
                <a:avLst/>
                <a:gdLst/>
                <a:ahLst/>
                <a:rect l="l" t="t" r="r" b="b"/>
                <a:pathLst>
                  <a:path w="194" h="61">
                    <a:moveTo>
                      <a:pt x="0" y="61"/>
                    </a:moveTo>
                    <a:lnTo>
                      <a:pt x="65" y="0"/>
                    </a:lnTo>
                    <a:lnTo>
                      <a:pt x="194" y="0"/>
                    </a:lnTo>
                    <a:lnTo>
                      <a:pt x="131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ff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186040" y="4600440"/>
                <a:ext cx="114840" cy="313920"/>
              </a:xfrm>
              <a:custGeom>
                <a:avLst/>
                <a:gdLst/>
                <a:ahLst/>
                <a:rect l="l" t="t" r="r" b="b"/>
                <a:pathLst>
                  <a:path w="63" h="184">
                    <a:moveTo>
                      <a:pt x="0" y="184"/>
                    </a:moveTo>
                    <a:lnTo>
                      <a:pt x="63" y="123"/>
                    </a:lnTo>
                    <a:lnTo>
                      <a:pt x="63" y="0"/>
                    </a:lnTo>
                    <a:lnTo>
                      <a:pt x="0" y="61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ff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186040" y="4572360"/>
                <a:ext cx="174600" cy="132120"/>
              </a:xfrm>
              <a:custGeom>
                <a:avLst/>
                <a:gdLst/>
                <a:ahLst/>
                <a:rect l="l" t="t" r="r" b="b"/>
                <a:pathLst>
                  <a:path w="96" h="77">
                    <a:moveTo>
                      <a:pt x="0" y="77"/>
                    </a:moveTo>
                    <a:lnTo>
                      <a:pt x="44" y="54"/>
                    </a:lnTo>
                    <a:lnTo>
                      <a:pt x="96" y="0"/>
                    </a:lnTo>
                    <a:lnTo>
                      <a:pt x="63" y="16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ff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888320" y="4572360"/>
                <a:ext cx="178920" cy="13212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98" y="16"/>
                    </a:moveTo>
                    <a:lnTo>
                      <a:pt x="66" y="0"/>
                    </a:lnTo>
                    <a:lnTo>
                      <a:pt x="0" y="62"/>
                    </a:lnTo>
                    <a:lnTo>
                      <a:pt x="33" y="77"/>
                    </a:lnTo>
                    <a:lnTo>
                      <a:pt x="98" y="16"/>
                    </a:lnTo>
                    <a:close/>
                  </a:path>
                </a:pathLst>
              </a:custGeom>
              <a:solidFill>
                <a:srgbClr val="ff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067600" y="4600440"/>
                <a:ext cx="233280" cy="103680"/>
              </a:xfrm>
              <a:custGeom>
                <a:avLst/>
                <a:gdLst/>
                <a:ahLst/>
                <a:rect l="l" t="t" r="r" b="b"/>
                <a:pathLst>
                  <a:path w="129" h="61">
                    <a:moveTo>
                      <a:pt x="0" y="0"/>
                    </a:moveTo>
                    <a:lnTo>
                      <a:pt x="66" y="61"/>
                    </a:lnTo>
                    <a:lnTo>
                      <a:pt x="12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921080" y="4652280"/>
                <a:ext cx="264960" cy="51840"/>
              </a:xfrm>
              <a:custGeom>
                <a:avLst/>
                <a:gdLst/>
                <a:ahLst/>
                <a:rect l="l" t="t" r="r" b="b"/>
                <a:pathLst>
                  <a:path w="146" h="30">
                    <a:moveTo>
                      <a:pt x="15" y="30"/>
                    </a:moveTo>
                    <a:lnTo>
                      <a:pt x="0" y="0"/>
                    </a:lnTo>
                    <a:lnTo>
                      <a:pt x="125" y="0"/>
                    </a:lnTo>
                    <a:lnTo>
                      <a:pt x="146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ff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8067600" y="4546440"/>
                <a:ext cx="263880" cy="54000"/>
              </a:xfrm>
              <a:custGeom>
                <a:avLst/>
                <a:gdLst/>
                <a:ahLst/>
                <a:rect l="l" t="t" r="r" b="b"/>
                <a:pathLst>
                  <a:path w="146" h="31">
                    <a:moveTo>
                      <a:pt x="129" y="31"/>
                    </a:moveTo>
                    <a:lnTo>
                      <a:pt x="146" y="0"/>
                    </a:lnTo>
                    <a:lnTo>
                      <a:pt x="16" y="0"/>
                    </a:lnTo>
                    <a:lnTo>
                      <a:pt x="0" y="31"/>
                    </a:lnTo>
                    <a:lnTo>
                      <a:pt x="129" y="31"/>
                    </a:lnTo>
                    <a:close/>
                  </a:path>
                </a:pathLst>
              </a:custGeom>
              <a:solidFill>
                <a:srgbClr val="ff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008920" y="4957920"/>
                <a:ext cx="360" cy="36468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411760" y="4962240"/>
                <a:ext cx="38880" cy="18288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6564240" y="3922560"/>
              <a:ext cx="123480" cy="13032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64" y="34"/>
                  </a:moveTo>
                  <a:lnTo>
                    <a:pt x="60" y="21"/>
                  </a:lnTo>
                  <a:lnTo>
                    <a:pt x="52" y="9"/>
                  </a:lnTo>
                  <a:lnTo>
                    <a:pt x="43" y="2"/>
                  </a:lnTo>
                  <a:lnTo>
                    <a:pt x="31" y="0"/>
                  </a:lnTo>
                  <a:lnTo>
                    <a:pt x="20" y="2"/>
                  </a:lnTo>
                  <a:lnTo>
                    <a:pt x="8" y="9"/>
                  </a:lnTo>
                  <a:lnTo>
                    <a:pt x="2" y="21"/>
                  </a:lnTo>
                  <a:lnTo>
                    <a:pt x="0" y="34"/>
                  </a:lnTo>
                  <a:lnTo>
                    <a:pt x="2" y="48"/>
                  </a:lnTo>
                  <a:lnTo>
                    <a:pt x="8" y="59"/>
                  </a:lnTo>
                  <a:lnTo>
                    <a:pt x="20" y="67"/>
                  </a:lnTo>
                  <a:lnTo>
                    <a:pt x="31" y="71"/>
                  </a:lnTo>
                  <a:lnTo>
                    <a:pt x="43" y="67"/>
                  </a:lnTo>
                  <a:lnTo>
                    <a:pt x="52" y="59"/>
                  </a:lnTo>
                  <a:lnTo>
                    <a:pt x="60" y="48"/>
                  </a:lnTo>
                  <a:lnTo>
                    <a:pt x="64" y="34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34280" y="4241880"/>
              <a:ext cx="118800" cy="279360"/>
            </a:xfrm>
            <a:custGeom>
              <a:avLst/>
              <a:gdLst/>
              <a:ahLst/>
              <a:rect l="l" t="t" r="r" b="b"/>
              <a:pathLst>
                <a:path w="62" h="153">
                  <a:moveTo>
                    <a:pt x="62" y="75"/>
                  </a:moveTo>
                  <a:lnTo>
                    <a:pt x="29" y="153"/>
                  </a:lnTo>
                  <a:lnTo>
                    <a:pt x="0" y="153"/>
                  </a:lnTo>
                  <a:lnTo>
                    <a:pt x="29" y="57"/>
                  </a:lnTo>
                  <a:lnTo>
                    <a:pt x="29" y="0"/>
                  </a:lnTo>
                  <a:lnTo>
                    <a:pt x="62" y="75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7920" y="4043160"/>
              <a:ext cx="312480" cy="478080"/>
            </a:xfrm>
            <a:custGeom>
              <a:avLst/>
              <a:gdLst/>
              <a:ahLst/>
              <a:rect l="l" t="t" r="r" b="b"/>
              <a:pathLst>
                <a:path w="163" h="261">
                  <a:moveTo>
                    <a:pt x="23" y="0"/>
                  </a:moveTo>
                  <a:lnTo>
                    <a:pt x="0" y="108"/>
                  </a:lnTo>
                  <a:lnTo>
                    <a:pt x="62" y="261"/>
                  </a:lnTo>
                  <a:lnTo>
                    <a:pt x="98" y="261"/>
                  </a:lnTo>
                  <a:lnTo>
                    <a:pt x="56" y="121"/>
                  </a:lnTo>
                  <a:lnTo>
                    <a:pt x="75" y="48"/>
                  </a:lnTo>
                  <a:lnTo>
                    <a:pt x="154" y="73"/>
                  </a:lnTo>
                  <a:lnTo>
                    <a:pt x="163" y="4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99040" y="4073400"/>
              <a:ext cx="136440" cy="14940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914880" y="4091040"/>
              <a:ext cx="23760" cy="270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8"/>
                  </a:moveTo>
                  <a:lnTo>
                    <a:pt x="2" y="2"/>
                  </a:lnTo>
                  <a:lnTo>
                    <a:pt x="7" y="0"/>
                  </a:lnTo>
                  <a:lnTo>
                    <a:pt x="11" y="2"/>
                  </a:lnTo>
                  <a:lnTo>
                    <a:pt x="13" y="8"/>
                  </a:lnTo>
                  <a:lnTo>
                    <a:pt x="11" y="12"/>
                  </a:lnTo>
                  <a:lnTo>
                    <a:pt x="7" y="15"/>
                  </a:lnTo>
                  <a:lnTo>
                    <a:pt x="2" y="1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14880" y="4130640"/>
              <a:ext cx="23760" cy="2520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6"/>
                  </a:moveTo>
                  <a:lnTo>
                    <a:pt x="2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3" y="6"/>
                  </a:lnTo>
                  <a:lnTo>
                    <a:pt x="11" y="12"/>
                  </a:lnTo>
                  <a:lnTo>
                    <a:pt x="7" y="14"/>
                  </a:lnTo>
                  <a:lnTo>
                    <a:pt x="2" y="1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767280" y="4091040"/>
              <a:ext cx="147240" cy="71280"/>
            </a:xfrm>
            <a:custGeom>
              <a:avLst/>
              <a:gdLst/>
              <a:ahLst/>
              <a:rect l="l" t="t" r="r" b="b"/>
              <a:pathLst>
                <a:path w="77" h="38">
                  <a:moveTo>
                    <a:pt x="75" y="6"/>
                  </a:moveTo>
                  <a:lnTo>
                    <a:pt x="65" y="8"/>
                  </a:lnTo>
                  <a:lnTo>
                    <a:pt x="63" y="13"/>
                  </a:lnTo>
                  <a:lnTo>
                    <a:pt x="65" y="19"/>
                  </a:lnTo>
                  <a:lnTo>
                    <a:pt x="69" y="21"/>
                  </a:lnTo>
                  <a:lnTo>
                    <a:pt x="77" y="21"/>
                  </a:lnTo>
                  <a:lnTo>
                    <a:pt x="75" y="27"/>
                  </a:lnTo>
                  <a:lnTo>
                    <a:pt x="71" y="31"/>
                  </a:lnTo>
                  <a:lnTo>
                    <a:pt x="63" y="29"/>
                  </a:lnTo>
                  <a:lnTo>
                    <a:pt x="60" y="25"/>
                  </a:lnTo>
                  <a:lnTo>
                    <a:pt x="8" y="38"/>
                  </a:lnTo>
                  <a:lnTo>
                    <a:pt x="2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4" y="25"/>
                  </a:lnTo>
                  <a:lnTo>
                    <a:pt x="56" y="10"/>
                  </a:lnTo>
                  <a:lnTo>
                    <a:pt x="58" y="4"/>
                  </a:lnTo>
                  <a:lnTo>
                    <a:pt x="63" y="0"/>
                  </a:lnTo>
                  <a:lnTo>
                    <a:pt x="69" y="2"/>
                  </a:lnTo>
                  <a:lnTo>
                    <a:pt x="75" y="6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792840" y="4295880"/>
              <a:ext cx="4330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792840" y="4222800"/>
              <a:ext cx="4330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759360" y="4222800"/>
              <a:ext cx="71280" cy="7308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0" y="21"/>
                  </a:moveTo>
                  <a:lnTo>
                    <a:pt x="2" y="10"/>
                  </a:lnTo>
                  <a:lnTo>
                    <a:pt x="10" y="4"/>
                  </a:lnTo>
                  <a:lnTo>
                    <a:pt x="17" y="0"/>
                  </a:lnTo>
                  <a:lnTo>
                    <a:pt x="27" y="4"/>
                  </a:lnTo>
                  <a:lnTo>
                    <a:pt x="33" y="10"/>
                  </a:lnTo>
                  <a:lnTo>
                    <a:pt x="37" y="21"/>
                  </a:lnTo>
                  <a:lnTo>
                    <a:pt x="33" y="31"/>
                  </a:lnTo>
                  <a:lnTo>
                    <a:pt x="27" y="38"/>
                  </a:lnTo>
                  <a:lnTo>
                    <a:pt x="17" y="40"/>
                  </a:lnTo>
                  <a:lnTo>
                    <a:pt x="10" y="38"/>
                  </a:lnTo>
                  <a:lnTo>
                    <a:pt x="2" y="3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78440" y="4241880"/>
              <a:ext cx="33120" cy="2793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6360" y="4249800"/>
              <a:ext cx="14040" cy="190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6"/>
                  </a:moveTo>
                  <a:lnTo>
                    <a:pt x="2" y="0"/>
                  </a:lnTo>
                  <a:lnTo>
                    <a:pt x="7" y="0"/>
                  </a:lnTo>
                  <a:lnTo>
                    <a:pt x="7" y="6"/>
                  </a:lnTo>
                  <a:lnTo>
                    <a:pt x="7" y="10"/>
                  </a:lnTo>
                  <a:lnTo>
                    <a:pt x="2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189560" y="4222800"/>
              <a:ext cx="68040" cy="730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0" y="21"/>
                  </a:moveTo>
                  <a:lnTo>
                    <a:pt x="4" y="10"/>
                  </a:lnTo>
                  <a:lnTo>
                    <a:pt x="11" y="4"/>
                  </a:lnTo>
                  <a:lnTo>
                    <a:pt x="19" y="0"/>
                  </a:lnTo>
                  <a:lnTo>
                    <a:pt x="29" y="4"/>
                  </a:lnTo>
                  <a:lnTo>
                    <a:pt x="34" y="10"/>
                  </a:lnTo>
                  <a:lnTo>
                    <a:pt x="36" y="21"/>
                  </a:lnTo>
                  <a:lnTo>
                    <a:pt x="34" y="31"/>
                  </a:lnTo>
                  <a:lnTo>
                    <a:pt x="29" y="38"/>
                  </a:lnTo>
                  <a:lnTo>
                    <a:pt x="19" y="40"/>
                  </a:lnTo>
                  <a:lnTo>
                    <a:pt x="11" y="38"/>
                  </a:lnTo>
                  <a:lnTo>
                    <a:pt x="4" y="3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210440" y="4241880"/>
              <a:ext cx="34560" cy="2793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18360" y="4249800"/>
              <a:ext cx="15480" cy="190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6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8" y="6"/>
                  </a:lnTo>
                  <a:lnTo>
                    <a:pt x="6" y="10"/>
                  </a:lnTo>
                  <a:lnTo>
                    <a:pt x="2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324200" y="4578120"/>
              <a:ext cx="3888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011720" y="4941720"/>
              <a:ext cx="220320" cy="238320"/>
            </a:xfrm>
            <a:custGeom>
              <a:avLst/>
              <a:gdLst/>
              <a:ahLst/>
              <a:rect l="l" t="t" r="r" b="b"/>
              <a:pathLst>
                <a:path w="137" h="134">
                  <a:moveTo>
                    <a:pt x="43" y="134"/>
                  </a:moveTo>
                  <a:lnTo>
                    <a:pt x="137" y="86"/>
                  </a:lnTo>
                  <a:lnTo>
                    <a:pt x="95" y="0"/>
                  </a:lnTo>
                  <a:lnTo>
                    <a:pt x="0" y="48"/>
                  </a:lnTo>
                  <a:lnTo>
                    <a:pt x="43" y="134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653160" y="5238720"/>
              <a:ext cx="202680" cy="258840"/>
            </a:xfrm>
            <a:custGeom>
              <a:avLst/>
              <a:gdLst/>
              <a:ahLst/>
              <a:rect l="l" t="t" r="r" b="b"/>
              <a:pathLst>
                <a:path w="127" h="146">
                  <a:moveTo>
                    <a:pt x="98" y="0"/>
                  </a:moveTo>
                  <a:lnTo>
                    <a:pt x="46" y="109"/>
                  </a:lnTo>
                  <a:lnTo>
                    <a:pt x="0" y="109"/>
                  </a:lnTo>
                  <a:lnTo>
                    <a:pt x="0" y="146"/>
                  </a:lnTo>
                  <a:lnTo>
                    <a:pt x="77" y="144"/>
                  </a:lnTo>
                  <a:lnTo>
                    <a:pt x="127" y="33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796080" y="4983120"/>
              <a:ext cx="352080" cy="555480"/>
            </a:xfrm>
            <a:custGeom>
              <a:avLst/>
              <a:gdLst/>
              <a:ahLst/>
              <a:rect l="l" t="t" r="r" b="b"/>
              <a:pathLst>
                <a:path w="219" h="313">
                  <a:moveTo>
                    <a:pt x="0" y="138"/>
                  </a:moveTo>
                  <a:lnTo>
                    <a:pt x="108" y="253"/>
                  </a:lnTo>
                  <a:lnTo>
                    <a:pt x="110" y="313"/>
                  </a:lnTo>
                  <a:lnTo>
                    <a:pt x="152" y="313"/>
                  </a:lnTo>
                  <a:lnTo>
                    <a:pt x="150" y="238"/>
                  </a:lnTo>
                  <a:lnTo>
                    <a:pt x="83" y="163"/>
                  </a:lnTo>
                  <a:lnTo>
                    <a:pt x="119" y="100"/>
                  </a:lnTo>
                  <a:lnTo>
                    <a:pt x="140" y="100"/>
                  </a:lnTo>
                  <a:lnTo>
                    <a:pt x="219" y="67"/>
                  </a:lnTo>
                  <a:lnTo>
                    <a:pt x="207" y="44"/>
                  </a:lnTo>
                  <a:lnTo>
                    <a:pt x="156" y="65"/>
                  </a:lnTo>
                  <a:lnTo>
                    <a:pt x="119" y="8"/>
                  </a:lnTo>
                  <a:lnTo>
                    <a:pt x="7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00840" y="4883040"/>
              <a:ext cx="11700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0" y="37"/>
                  </a:moveTo>
                  <a:lnTo>
                    <a:pt x="4" y="23"/>
                  </a:lnTo>
                  <a:lnTo>
                    <a:pt x="12" y="12"/>
                  </a:lnTo>
                  <a:lnTo>
                    <a:pt x="23" y="4"/>
                  </a:lnTo>
                  <a:lnTo>
                    <a:pt x="37" y="0"/>
                  </a:lnTo>
                  <a:lnTo>
                    <a:pt x="50" y="4"/>
                  </a:lnTo>
                  <a:lnTo>
                    <a:pt x="62" y="12"/>
                  </a:lnTo>
                  <a:lnTo>
                    <a:pt x="69" y="23"/>
                  </a:lnTo>
                  <a:lnTo>
                    <a:pt x="73" y="37"/>
                  </a:lnTo>
                  <a:lnTo>
                    <a:pt x="69" y="52"/>
                  </a:lnTo>
                  <a:lnTo>
                    <a:pt x="62" y="62"/>
                  </a:lnTo>
                  <a:lnTo>
                    <a:pt x="50" y="71"/>
                  </a:lnTo>
                  <a:lnTo>
                    <a:pt x="37" y="73"/>
                  </a:lnTo>
                  <a:lnTo>
                    <a:pt x="23" y="71"/>
                  </a:lnTo>
                  <a:lnTo>
                    <a:pt x="12" y="62"/>
                  </a:lnTo>
                  <a:lnTo>
                    <a:pt x="4" y="5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3" name="" descr=""/>
          <p:cNvPicPr/>
          <p:nvPr/>
        </p:nvPicPr>
        <p:blipFill>
          <a:blip r:embed="rId4"/>
          <a:stretch/>
        </p:blipFill>
        <p:spPr>
          <a:xfrm>
            <a:off x="3073320" y="4111560"/>
            <a:ext cx="1428840" cy="13525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5"/>
          <a:stretch/>
        </p:blipFill>
        <p:spPr>
          <a:xfrm>
            <a:off x="4603680" y="4157640"/>
            <a:ext cx="1733760" cy="10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939960" y="1244520"/>
            <a:ext cx="7899120" cy="1422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ínu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01240" y="157320"/>
            <a:ext cx="38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ormas de ouvir o clien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756480" y="1244520"/>
            <a:ext cx="18540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ções e reclamações dos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965160" y="1333440"/>
            <a:ext cx="18795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ões de cons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009960" y="1333440"/>
            <a:ext cx="18795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ções comerci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194440" y="1371600"/>
            <a:ext cx="14475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ias do se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2641680" y="3730680"/>
            <a:ext cx="3276000" cy="2247840"/>
            <a:chOff x="2641680" y="3730680"/>
            <a:chExt cx="3276000" cy="2247840"/>
          </a:xfrm>
        </p:grpSpPr>
        <p:sp>
          <p:nvSpPr>
            <p:cNvPr id="432" name=""/>
            <p:cNvSpPr/>
            <p:nvPr/>
          </p:nvSpPr>
          <p:spPr>
            <a:xfrm flipH="1">
              <a:off x="4648320" y="3730680"/>
              <a:ext cx="1269000" cy="2155680"/>
            </a:xfrm>
            <a:custGeom>
              <a:avLst/>
              <a:gdLst/>
              <a:ahLst/>
              <a:rect l="l" t="t" r="r" b="b"/>
              <a:pathLst>
                <a:path w="2552" h="2440">
                  <a:moveTo>
                    <a:pt x="136" y="88"/>
                  </a:moveTo>
                  <a:cubicBezTo>
                    <a:pt x="272" y="0"/>
                    <a:pt x="1032" y="16"/>
                    <a:pt x="1240" y="88"/>
                  </a:cubicBezTo>
                  <a:cubicBezTo>
                    <a:pt x="1448" y="160"/>
                    <a:pt x="1288" y="400"/>
                    <a:pt x="1384" y="520"/>
                  </a:cubicBezTo>
                  <a:cubicBezTo>
                    <a:pt x="1480" y="640"/>
                    <a:pt x="1656" y="672"/>
                    <a:pt x="1816" y="808"/>
                  </a:cubicBezTo>
                  <a:cubicBezTo>
                    <a:pt x="1976" y="944"/>
                    <a:pt x="2224" y="1072"/>
                    <a:pt x="2344" y="1336"/>
                  </a:cubicBezTo>
                  <a:cubicBezTo>
                    <a:pt x="2464" y="1600"/>
                    <a:pt x="2552" y="2344"/>
                    <a:pt x="2536" y="2392"/>
                  </a:cubicBezTo>
                  <a:cubicBezTo>
                    <a:pt x="2520" y="2440"/>
                    <a:pt x="2472" y="1864"/>
                    <a:pt x="2248" y="1624"/>
                  </a:cubicBezTo>
                  <a:cubicBezTo>
                    <a:pt x="2024" y="1384"/>
                    <a:pt x="1496" y="1120"/>
                    <a:pt x="1192" y="952"/>
                  </a:cubicBezTo>
                  <a:cubicBezTo>
                    <a:pt x="888" y="784"/>
                    <a:pt x="608" y="760"/>
                    <a:pt x="424" y="616"/>
                  </a:cubicBezTo>
                  <a:cubicBezTo>
                    <a:pt x="240" y="472"/>
                    <a:pt x="0" y="176"/>
                    <a:pt x="136" y="88"/>
                  </a:cubicBez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641680" y="3822480"/>
              <a:ext cx="1569240" cy="2155680"/>
            </a:xfrm>
            <a:custGeom>
              <a:avLst/>
              <a:gdLst/>
              <a:ahLst/>
              <a:rect l="l" t="t" r="r" b="b"/>
              <a:pathLst>
                <a:path w="2552" h="2440">
                  <a:moveTo>
                    <a:pt x="136" y="88"/>
                  </a:moveTo>
                  <a:cubicBezTo>
                    <a:pt x="272" y="0"/>
                    <a:pt x="1032" y="16"/>
                    <a:pt x="1240" y="88"/>
                  </a:cubicBezTo>
                  <a:cubicBezTo>
                    <a:pt x="1448" y="160"/>
                    <a:pt x="1288" y="400"/>
                    <a:pt x="1384" y="520"/>
                  </a:cubicBezTo>
                  <a:cubicBezTo>
                    <a:pt x="1480" y="640"/>
                    <a:pt x="1656" y="672"/>
                    <a:pt x="1816" y="808"/>
                  </a:cubicBezTo>
                  <a:cubicBezTo>
                    <a:pt x="1976" y="944"/>
                    <a:pt x="2224" y="1072"/>
                    <a:pt x="2344" y="1336"/>
                  </a:cubicBezTo>
                  <a:cubicBezTo>
                    <a:pt x="2464" y="1600"/>
                    <a:pt x="2552" y="2344"/>
                    <a:pt x="2536" y="2392"/>
                  </a:cubicBezTo>
                  <a:cubicBezTo>
                    <a:pt x="2520" y="2440"/>
                    <a:pt x="2472" y="1864"/>
                    <a:pt x="2248" y="1624"/>
                  </a:cubicBezTo>
                  <a:cubicBezTo>
                    <a:pt x="2024" y="1384"/>
                    <a:pt x="1496" y="1120"/>
                    <a:pt x="1192" y="952"/>
                  </a:cubicBezTo>
                  <a:cubicBezTo>
                    <a:pt x="888" y="784"/>
                    <a:pt x="608" y="760"/>
                    <a:pt x="424" y="616"/>
                  </a:cubicBezTo>
                  <a:cubicBezTo>
                    <a:pt x="240" y="472"/>
                    <a:pt x="0" y="176"/>
                    <a:pt x="136" y="88"/>
                  </a:cubicBez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15480" y="3857760"/>
              <a:ext cx="752760" cy="2120760"/>
            </a:xfrm>
            <a:custGeom>
              <a:avLst/>
              <a:gdLst/>
              <a:ahLst/>
              <a:rect l="l" t="t" r="r" b="b"/>
              <a:pathLst>
                <a:path w="1224" h="2400">
                  <a:moveTo>
                    <a:pt x="152" y="32"/>
                  </a:moveTo>
                  <a:cubicBezTo>
                    <a:pt x="304" y="16"/>
                    <a:pt x="824" y="0"/>
                    <a:pt x="968" y="32"/>
                  </a:cubicBezTo>
                  <a:cubicBezTo>
                    <a:pt x="1112" y="64"/>
                    <a:pt x="992" y="176"/>
                    <a:pt x="1016" y="224"/>
                  </a:cubicBezTo>
                  <a:cubicBezTo>
                    <a:pt x="1040" y="272"/>
                    <a:pt x="1080" y="216"/>
                    <a:pt x="1112" y="320"/>
                  </a:cubicBezTo>
                  <a:cubicBezTo>
                    <a:pt x="1144" y="424"/>
                    <a:pt x="1192" y="512"/>
                    <a:pt x="1208" y="848"/>
                  </a:cubicBezTo>
                  <a:cubicBezTo>
                    <a:pt x="1224" y="1184"/>
                    <a:pt x="1224" y="2272"/>
                    <a:pt x="1208" y="2336"/>
                  </a:cubicBezTo>
                  <a:cubicBezTo>
                    <a:pt x="1192" y="2400"/>
                    <a:pt x="1176" y="1488"/>
                    <a:pt x="1112" y="1232"/>
                  </a:cubicBezTo>
                  <a:cubicBezTo>
                    <a:pt x="1048" y="976"/>
                    <a:pt x="968" y="928"/>
                    <a:pt x="824" y="800"/>
                  </a:cubicBezTo>
                  <a:cubicBezTo>
                    <a:pt x="680" y="672"/>
                    <a:pt x="376" y="576"/>
                    <a:pt x="248" y="464"/>
                  </a:cubicBezTo>
                  <a:cubicBezTo>
                    <a:pt x="120" y="352"/>
                    <a:pt x="72" y="200"/>
                    <a:pt x="56" y="128"/>
                  </a:cubicBezTo>
                  <a:cubicBezTo>
                    <a:pt x="40" y="56"/>
                    <a:pt x="0" y="48"/>
                    <a:pt x="152" y="32"/>
                  </a:cubicBez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4441320" y="3857760"/>
              <a:ext cx="752760" cy="2120760"/>
            </a:xfrm>
            <a:custGeom>
              <a:avLst/>
              <a:gdLst/>
              <a:ahLst/>
              <a:rect l="l" t="t" r="r" b="b"/>
              <a:pathLst>
                <a:path w="1224" h="2400">
                  <a:moveTo>
                    <a:pt x="152" y="32"/>
                  </a:moveTo>
                  <a:cubicBezTo>
                    <a:pt x="304" y="16"/>
                    <a:pt x="824" y="0"/>
                    <a:pt x="968" y="32"/>
                  </a:cubicBezTo>
                  <a:cubicBezTo>
                    <a:pt x="1112" y="64"/>
                    <a:pt x="992" y="176"/>
                    <a:pt x="1016" y="224"/>
                  </a:cubicBezTo>
                  <a:cubicBezTo>
                    <a:pt x="1040" y="272"/>
                    <a:pt x="1080" y="216"/>
                    <a:pt x="1112" y="320"/>
                  </a:cubicBezTo>
                  <a:cubicBezTo>
                    <a:pt x="1144" y="424"/>
                    <a:pt x="1192" y="512"/>
                    <a:pt x="1208" y="848"/>
                  </a:cubicBezTo>
                  <a:cubicBezTo>
                    <a:pt x="1224" y="1184"/>
                    <a:pt x="1224" y="2272"/>
                    <a:pt x="1208" y="2336"/>
                  </a:cubicBezTo>
                  <a:cubicBezTo>
                    <a:pt x="1192" y="2400"/>
                    <a:pt x="1176" y="1488"/>
                    <a:pt x="1112" y="1232"/>
                  </a:cubicBezTo>
                  <a:cubicBezTo>
                    <a:pt x="1048" y="976"/>
                    <a:pt x="968" y="928"/>
                    <a:pt x="824" y="800"/>
                  </a:cubicBezTo>
                  <a:cubicBezTo>
                    <a:pt x="680" y="672"/>
                    <a:pt x="376" y="576"/>
                    <a:pt x="248" y="464"/>
                  </a:cubicBezTo>
                  <a:cubicBezTo>
                    <a:pt x="120" y="352"/>
                    <a:pt x="72" y="200"/>
                    <a:pt x="56" y="128"/>
                  </a:cubicBezTo>
                  <a:cubicBezTo>
                    <a:pt x="40" y="56"/>
                    <a:pt x="0" y="48"/>
                    <a:pt x="152" y="32"/>
                  </a:cubicBez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1092240" y="2955960"/>
            <a:ext cx="7518240" cy="701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ód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489040" y="3124080"/>
            <a:ext cx="16765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urv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3111480"/>
            <a:ext cx="16761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ev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19440" y="5816520"/>
            <a:ext cx="1575000" cy="95256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rigi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66760" y="63000"/>
            <a:ext cx="712152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Objetivos do capítul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2320" y="1154160"/>
            <a:ext cx="903132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resentar a importância do correto entendimento do problema de projeto do produto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ir os diferentes modelos d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iclo de vid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 relacionar o ciclo de vida do produto com o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entes do produt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rar como tratar a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ecessidades dos clien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 representá-las com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quisitos dos clien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rar como definir o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quisitos dos produto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 partir dos requisitos dos client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nder o métod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F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 como ele pode ser usado na fase de projeto informacional.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ir e estruturar a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pecificações-met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o produto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412920" y="3097080"/>
            <a:ext cx="8534160" cy="1905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iód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787320" y="3399120"/>
            <a:ext cx="8133480" cy="2116800"/>
            <a:chOff x="787320" y="3399120"/>
            <a:chExt cx="8133480" cy="2116800"/>
          </a:xfrm>
        </p:grpSpPr>
        <p:sp>
          <p:nvSpPr>
            <p:cNvPr id="442" name=""/>
            <p:cNvSpPr/>
            <p:nvPr/>
          </p:nvSpPr>
          <p:spPr>
            <a:xfrm flipH="1" rot="21383400">
              <a:off x="5434920" y="3504960"/>
              <a:ext cx="3429000" cy="1904400"/>
            </a:xfrm>
            <a:custGeom>
              <a:avLst/>
              <a:gdLst/>
              <a:ahLst/>
              <a:rect l="l" t="t" r="r" b="b"/>
              <a:pathLst>
                <a:path w="2160" h="1200">
                  <a:moveTo>
                    <a:pt x="1152" y="96"/>
                  </a:moveTo>
                  <a:lnTo>
                    <a:pt x="1392" y="192"/>
                  </a:lnTo>
                  <a:lnTo>
                    <a:pt x="1728" y="480"/>
                  </a:lnTo>
                  <a:lnTo>
                    <a:pt x="1920" y="768"/>
                  </a:lnTo>
                  <a:lnTo>
                    <a:pt x="2160" y="1200"/>
                  </a:lnTo>
                  <a:lnTo>
                    <a:pt x="1776" y="864"/>
                  </a:lnTo>
                  <a:lnTo>
                    <a:pt x="1440" y="624"/>
                  </a:lnTo>
                  <a:lnTo>
                    <a:pt x="816" y="480"/>
                  </a:lnTo>
                  <a:cubicBezTo>
                    <a:pt x="138" y="432"/>
                    <a:pt x="319" y="292"/>
                    <a:pt x="129" y="444"/>
                  </a:cubicBezTo>
                  <a:lnTo>
                    <a:pt x="0" y="288"/>
                  </a:lnTo>
                  <a:lnTo>
                    <a:pt x="816" y="0"/>
                  </a:lnTo>
                  <a:lnTo>
                    <a:pt x="1152" y="96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9966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87320" y="3505320"/>
              <a:ext cx="3429000" cy="1904760"/>
            </a:xfrm>
            <a:custGeom>
              <a:avLst/>
              <a:gdLst/>
              <a:ahLst/>
              <a:rect l="l" t="t" r="r" b="b"/>
              <a:pathLst>
                <a:path w="2160" h="1200">
                  <a:moveTo>
                    <a:pt x="1152" y="96"/>
                  </a:moveTo>
                  <a:lnTo>
                    <a:pt x="1392" y="192"/>
                  </a:lnTo>
                  <a:lnTo>
                    <a:pt x="1728" y="480"/>
                  </a:lnTo>
                  <a:lnTo>
                    <a:pt x="1920" y="768"/>
                  </a:lnTo>
                  <a:lnTo>
                    <a:pt x="2160" y="1200"/>
                  </a:lnTo>
                  <a:lnTo>
                    <a:pt x="1776" y="864"/>
                  </a:lnTo>
                  <a:lnTo>
                    <a:pt x="1440" y="624"/>
                  </a:lnTo>
                  <a:lnTo>
                    <a:pt x="816" y="480"/>
                  </a:lnTo>
                  <a:cubicBezTo>
                    <a:pt x="138" y="432"/>
                    <a:pt x="319" y="292"/>
                    <a:pt x="129" y="444"/>
                  </a:cubicBezTo>
                  <a:lnTo>
                    <a:pt x="0" y="288"/>
                  </a:lnTo>
                  <a:lnTo>
                    <a:pt x="816" y="0"/>
                  </a:lnTo>
                  <a:lnTo>
                    <a:pt x="1152" y="96"/>
                  </a:lnTo>
                  <a:close/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33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406440" y="1066680"/>
            <a:ext cx="8534520" cy="19051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ín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911760" y="5257800"/>
            <a:ext cx="1981080" cy="1295280"/>
          </a:xfrm>
          <a:prstGeom prst="can">
            <a:avLst>
              <a:gd name="adj" fmla="val 25000"/>
            </a:avLst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rigi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82760" y="3351960"/>
            <a:ext cx="8381520" cy="876600"/>
            <a:chOff x="482760" y="3351960"/>
            <a:chExt cx="8381520" cy="876600"/>
          </a:xfrm>
        </p:grpSpPr>
        <p:sp>
          <p:nvSpPr>
            <p:cNvPr id="447" name=""/>
            <p:cNvSpPr/>
            <p:nvPr/>
          </p:nvSpPr>
          <p:spPr>
            <a:xfrm>
              <a:off x="482760" y="3354840"/>
              <a:ext cx="2361960" cy="873720"/>
            </a:xfrm>
            <a:prstGeom prst="flowChartProcess">
              <a:avLst/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1e1e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6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Survey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54600" y="3351960"/>
              <a:ext cx="2209680" cy="861840"/>
            </a:xfrm>
            <a:prstGeom prst="flowChartProcess">
              <a:avLst/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1e1e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ntrevist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304920" y="1523880"/>
            <a:ext cx="8457840" cy="4038840"/>
            <a:chOff x="304920" y="1523880"/>
            <a:chExt cx="8457840" cy="4038840"/>
          </a:xfrm>
        </p:grpSpPr>
        <p:sp>
          <p:nvSpPr>
            <p:cNvPr id="450" name=""/>
            <p:cNvSpPr/>
            <p:nvPr/>
          </p:nvSpPr>
          <p:spPr>
            <a:xfrm flipH="1">
              <a:off x="5486040" y="1523880"/>
              <a:ext cx="3276360" cy="3873600"/>
            </a:xfrm>
            <a:custGeom>
              <a:avLst/>
              <a:gdLst/>
              <a:ahLst/>
              <a:rect l="l" t="t" r="r" b="b"/>
              <a:pathLst>
                <a:path w="2552" h="2440">
                  <a:moveTo>
                    <a:pt x="136" y="88"/>
                  </a:moveTo>
                  <a:cubicBezTo>
                    <a:pt x="272" y="0"/>
                    <a:pt x="1032" y="16"/>
                    <a:pt x="1240" y="88"/>
                  </a:cubicBezTo>
                  <a:cubicBezTo>
                    <a:pt x="1448" y="160"/>
                    <a:pt x="1288" y="400"/>
                    <a:pt x="1384" y="520"/>
                  </a:cubicBezTo>
                  <a:cubicBezTo>
                    <a:pt x="1480" y="640"/>
                    <a:pt x="1656" y="672"/>
                    <a:pt x="1816" y="808"/>
                  </a:cubicBezTo>
                  <a:cubicBezTo>
                    <a:pt x="1976" y="944"/>
                    <a:pt x="2224" y="1072"/>
                    <a:pt x="2344" y="1336"/>
                  </a:cubicBezTo>
                  <a:cubicBezTo>
                    <a:pt x="2464" y="1600"/>
                    <a:pt x="2552" y="2344"/>
                    <a:pt x="2536" y="2392"/>
                  </a:cubicBezTo>
                  <a:cubicBezTo>
                    <a:pt x="2520" y="2440"/>
                    <a:pt x="2472" y="1864"/>
                    <a:pt x="2248" y="1624"/>
                  </a:cubicBezTo>
                  <a:cubicBezTo>
                    <a:pt x="2024" y="1384"/>
                    <a:pt x="1496" y="1120"/>
                    <a:pt x="1192" y="952"/>
                  </a:cubicBezTo>
                  <a:cubicBezTo>
                    <a:pt x="888" y="784"/>
                    <a:pt x="608" y="760"/>
                    <a:pt x="424" y="616"/>
                  </a:cubicBezTo>
                  <a:cubicBezTo>
                    <a:pt x="240" y="472"/>
                    <a:pt x="0" y="176"/>
                    <a:pt x="136" y="8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689120"/>
              <a:ext cx="4051440" cy="3873600"/>
            </a:xfrm>
            <a:custGeom>
              <a:avLst/>
              <a:gdLst/>
              <a:ahLst/>
              <a:rect l="l" t="t" r="r" b="b"/>
              <a:pathLst>
                <a:path w="2552" h="2440">
                  <a:moveTo>
                    <a:pt x="136" y="88"/>
                  </a:moveTo>
                  <a:cubicBezTo>
                    <a:pt x="272" y="0"/>
                    <a:pt x="1032" y="16"/>
                    <a:pt x="1240" y="88"/>
                  </a:cubicBezTo>
                  <a:cubicBezTo>
                    <a:pt x="1448" y="160"/>
                    <a:pt x="1288" y="400"/>
                    <a:pt x="1384" y="520"/>
                  </a:cubicBezTo>
                  <a:cubicBezTo>
                    <a:pt x="1480" y="640"/>
                    <a:pt x="1656" y="672"/>
                    <a:pt x="1816" y="808"/>
                  </a:cubicBezTo>
                  <a:cubicBezTo>
                    <a:pt x="1976" y="944"/>
                    <a:pt x="2224" y="1072"/>
                    <a:pt x="2344" y="1336"/>
                  </a:cubicBezTo>
                  <a:cubicBezTo>
                    <a:pt x="2464" y="1600"/>
                    <a:pt x="2552" y="2344"/>
                    <a:pt x="2536" y="2392"/>
                  </a:cubicBezTo>
                  <a:cubicBezTo>
                    <a:pt x="2520" y="2440"/>
                    <a:pt x="2472" y="1864"/>
                    <a:pt x="2248" y="1624"/>
                  </a:cubicBezTo>
                  <a:cubicBezTo>
                    <a:pt x="2024" y="1384"/>
                    <a:pt x="1496" y="1120"/>
                    <a:pt x="1192" y="952"/>
                  </a:cubicBezTo>
                  <a:cubicBezTo>
                    <a:pt x="888" y="784"/>
                    <a:pt x="608" y="760"/>
                    <a:pt x="424" y="616"/>
                  </a:cubicBezTo>
                  <a:cubicBezTo>
                    <a:pt x="240" y="472"/>
                    <a:pt x="0" y="176"/>
                    <a:pt x="136" y="8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19520" y="1752480"/>
              <a:ext cx="1943280" cy="3810240"/>
            </a:xfrm>
            <a:custGeom>
              <a:avLst/>
              <a:gdLst/>
              <a:ahLst/>
              <a:rect l="l" t="t" r="r" b="b"/>
              <a:pathLst>
                <a:path w="1224" h="2400">
                  <a:moveTo>
                    <a:pt x="152" y="32"/>
                  </a:moveTo>
                  <a:cubicBezTo>
                    <a:pt x="304" y="16"/>
                    <a:pt x="824" y="0"/>
                    <a:pt x="968" y="32"/>
                  </a:cubicBezTo>
                  <a:cubicBezTo>
                    <a:pt x="1112" y="64"/>
                    <a:pt x="992" y="176"/>
                    <a:pt x="1016" y="224"/>
                  </a:cubicBezTo>
                  <a:cubicBezTo>
                    <a:pt x="1040" y="272"/>
                    <a:pt x="1080" y="216"/>
                    <a:pt x="1112" y="320"/>
                  </a:cubicBezTo>
                  <a:cubicBezTo>
                    <a:pt x="1144" y="424"/>
                    <a:pt x="1192" y="512"/>
                    <a:pt x="1208" y="848"/>
                  </a:cubicBezTo>
                  <a:cubicBezTo>
                    <a:pt x="1224" y="1184"/>
                    <a:pt x="1224" y="2272"/>
                    <a:pt x="1208" y="2336"/>
                  </a:cubicBezTo>
                  <a:cubicBezTo>
                    <a:pt x="1192" y="2400"/>
                    <a:pt x="1176" y="1488"/>
                    <a:pt x="1112" y="1232"/>
                  </a:cubicBezTo>
                  <a:cubicBezTo>
                    <a:pt x="1048" y="976"/>
                    <a:pt x="968" y="928"/>
                    <a:pt x="824" y="800"/>
                  </a:cubicBezTo>
                  <a:cubicBezTo>
                    <a:pt x="680" y="672"/>
                    <a:pt x="376" y="576"/>
                    <a:pt x="248" y="464"/>
                  </a:cubicBezTo>
                  <a:cubicBezTo>
                    <a:pt x="120" y="352"/>
                    <a:pt x="72" y="200"/>
                    <a:pt x="56" y="128"/>
                  </a:cubicBezTo>
                  <a:cubicBezTo>
                    <a:pt x="40" y="56"/>
                    <a:pt x="0" y="48"/>
                    <a:pt x="152" y="3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4953240" y="1752480"/>
              <a:ext cx="1943280" cy="3810240"/>
            </a:xfrm>
            <a:custGeom>
              <a:avLst/>
              <a:gdLst/>
              <a:ahLst/>
              <a:rect l="l" t="t" r="r" b="b"/>
              <a:pathLst>
                <a:path w="1224" h="2400">
                  <a:moveTo>
                    <a:pt x="152" y="32"/>
                  </a:moveTo>
                  <a:cubicBezTo>
                    <a:pt x="304" y="16"/>
                    <a:pt x="824" y="0"/>
                    <a:pt x="968" y="32"/>
                  </a:cubicBezTo>
                  <a:cubicBezTo>
                    <a:pt x="1112" y="64"/>
                    <a:pt x="992" y="176"/>
                    <a:pt x="1016" y="224"/>
                  </a:cubicBezTo>
                  <a:cubicBezTo>
                    <a:pt x="1040" y="272"/>
                    <a:pt x="1080" y="216"/>
                    <a:pt x="1112" y="320"/>
                  </a:cubicBezTo>
                  <a:cubicBezTo>
                    <a:pt x="1144" y="424"/>
                    <a:pt x="1192" y="512"/>
                    <a:pt x="1208" y="848"/>
                  </a:cubicBezTo>
                  <a:cubicBezTo>
                    <a:pt x="1224" y="1184"/>
                    <a:pt x="1224" y="2272"/>
                    <a:pt x="1208" y="2336"/>
                  </a:cubicBezTo>
                  <a:cubicBezTo>
                    <a:pt x="1192" y="2400"/>
                    <a:pt x="1176" y="1488"/>
                    <a:pt x="1112" y="1232"/>
                  </a:cubicBezTo>
                  <a:cubicBezTo>
                    <a:pt x="1048" y="976"/>
                    <a:pt x="968" y="928"/>
                    <a:pt x="824" y="800"/>
                  </a:cubicBezTo>
                  <a:cubicBezTo>
                    <a:pt x="680" y="672"/>
                    <a:pt x="376" y="576"/>
                    <a:pt x="248" y="464"/>
                  </a:cubicBezTo>
                  <a:cubicBezTo>
                    <a:pt x="120" y="352"/>
                    <a:pt x="72" y="200"/>
                    <a:pt x="56" y="128"/>
                  </a:cubicBezTo>
                  <a:cubicBezTo>
                    <a:pt x="40" y="56"/>
                    <a:pt x="0" y="48"/>
                    <a:pt x="152" y="3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482760" y="1230840"/>
            <a:ext cx="8167680" cy="1034280"/>
            <a:chOff x="482760" y="1230840"/>
            <a:chExt cx="8167680" cy="1034280"/>
          </a:xfrm>
        </p:grpSpPr>
        <p:sp>
          <p:nvSpPr>
            <p:cNvPr id="455" name=""/>
            <p:cNvSpPr/>
            <p:nvPr/>
          </p:nvSpPr>
          <p:spPr>
            <a:xfrm>
              <a:off x="482760" y="1257120"/>
              <a:ext cx="2057400" cy="916920"/>
            </a:xfrm>
            <a:prstGeom prst="flowChartProcess">
              <a:avLst/>
            </a:pr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formações e Reclamações dos Clien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856240" y="1230840"/>
              <a:ext cx="1719360" cy="970920"/>
            </a:xfrm>
            <a:prstGeom prst="flowChartProcess">
              <a:avLst/>
            </a:pr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artões de Consul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978800" y="1267920"/>
              <a:ext cx="1828800" cy="916920"/>
            </a:xfrm>
            <a:prstGeom prst="flowChartProcess">
              <a:avLst/>
            </a:pr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formações Comercia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59880" y="1294200"/>
              <a:ext cx="1690560" cy="970920"/>
            </a:xfrm>
            <a:prstGeom prst="flowChartProcess">
              <a:avLst/>
            </a:pr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Notícias sobre o Se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01240" y="157320"/>
            <a:ext cx="38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Arial"/>
              </a:rPr>
              <a:t>Formas de ouvir o clien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1447920" y="1219320"/>
            <a:ext cx="67816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ção Dir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ev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upos Foc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760" y="75960"/>
            <a:ext cx="87631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écnicas de pesquisa para Levantamento de Informaçõe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5" dur="1" fill="hold"/>
                                  <p:tgtEl>
                                    <p:spTgt spid="4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2463840" y="4072320"/>
            <a:ext cx="5245200" cy="703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Possibilita informações mais ricas e detalh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17520" y="152280"/>
            <a:ext cx="71294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bservação Dir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155600" y="5162040"/>
            <a:ext cx="70311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almente importante quando as características avaliadas são qualit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2685960" y="2359080"/>
            <a:ext cx="1746360" cy="126216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1092240" y="1622520"/>
            <a:ext cx="1905120" cy="127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4178160" y="1859040"/>
            <a:ext cx="2413080" cy="135396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2806560" y="963720"/>
            <a:ext cx="1524240" cy="990360"/>
          </a:xfrm>
          <a:prstGeom prst="wedgeEllipseCallout">
            <a:avLst>
              <a:gd name="adj1" fmla="val 46250"/>
              <a:gd name="adj2" fmla="val 8894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39680" y="152280"/>
            <a:ext cx="32529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Entrev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486080" y="4136040"/>
            <a:ext cx="6748200" cy="7038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sibilita informações qualitativas e não estrutur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422360" y="5158440"/>
            <a:ext cx="7081920" cy="3988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ralmente é demorada e de mais alto cu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2616120" y="2079720"/>
            <a:ext cx="1981440" cy="13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165240" y="203040"/>
            <a:ext cx="4165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uestion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12880" y="4817160"/>
            <a:ext cx="3517920" cy="1008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de ser mais rápida e as informações mais generalizáv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508640" y="4869360"/>
            <a:ext cx="3983040" cy="100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or riqueza de detalhes e necessidade de alta taxa de resposta para serem vál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1015920" y="1143000"/>
            <a:ext cx="5410080" cy="2286000"/>
            <a:chOff x="1015920" y="1143000"/>
            <a:chExt cx="5410080" cy="2286000"/>
          </a:xfrm>
        </p:grpSpPr>
        <p:sp>
          <p:nvSpPr>
            <p:cNvPr id="477" name=""/>
            <p:cNvSpPr/>
            <p:nvPr/>
          </p:nvSpPr>
          <p:spPr>
            <a:xfrm>
              <a:off x="3225600" y="1143000"/>
              <a:ext cx="3200400" cy="228600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8" name="" descr=""/>
            <p:cNvPicPr/>
            <p:nvPr/>
          </p:nvPicPr>
          <p:blipFill>
            <a:blip r:embed="rId1"/>
            <a:stretch/>
          </p:blipFill>
          <p:spPr>
            <a:xfrm>
              <a:off x="4216320" y="2362320"/>
              <a:ext cx="137160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2"/>
            <a:stretch/>
          </p:blipFill>
          <p:spPr>
            <a:xfrm>
              <a:off x="3835440" y="1219320"/>
              <a:ext cx="1752480" cy="12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" descr=""/>
            <p:cNvPicPr/>
            <p:nvPr/>
          </p:nvPicPr>
          <p:blipFill>
            <a:blip r:embed="rId3"/>
            <a:stretch/>
          </p:blipFill>
          <p:spPr>
            <a:xfrm>
              <a:off x="1015920" y="1447920"/>
              <a:ext cx="1905120" cy="127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1" name=""/>
            <p:cNvGrpSpPr/>
            <p:nvPr/>
          </p:nvGrpSpPr>
          <p:grpSpPr>
            <a:xfrm>
              <a:off x="2921040" y="1828800"/>
              <a:ext cx="533160" cy="685800"/>
              <a:chOff x="2921040" y="1828800"/>
              <a:chExt cx="533160" cy="685800"/>
            </a:xfrm>
          </p:grpSpPr>
          <p:sp>
            <p:nvSpPr>
              <p:cNvPr id="482" name=""/>
              <p:cNvSpPr/>
              <p:nvPr/>
            </p:nvSpPr>
            <p:spPr>
              <a:xfrm>
                <a:off x="2921040" y="1828800"/>
                <a:ext cx="533160" cy="685800"/>
              </a:xfrm>
              <a:prstGeom prst="foldedCorner">
                <a:avLst>
                  <a:gd name="adj" fmla="val 29462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997000" y="1981440"/>
                <a:ext cx="76320" cy="75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997000" y="2133720"/>
                <a:ext cx="76320" cy="7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100320" y="20210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095640" y="2173320"/>
                <a:ext cx="30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2235240" y="2133720"/>
              <a:ext cx="533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1295280" y="1689120"/>
            <a:ext cx="7365600" cy="2636280"/>
            <a:chOff x="1295280" y="1689120"/>
            <a:chExt cx="7365600" cy="2636280"/>
          </a:xfrm>
        </p:grpSpPr>
        <p:pic>
          <p:nvPicPr>
            <p:cNvPr id="489" name="" descr=""/>
            <p:cNvPicPr/>
            <p:nvPr/>
          </p:nvPicPr>
          <p:blipFill>
            <a:blip r:embed="rId4"/>
            <a:stretch/>
          </p:blipFill>
          <p:spPr>
            <a:xfrm>
              <a:off x="5112000" y="3365640"/>
              <a:ext cx="1540080" cy="95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" descr=""/>
            <p:cNvPicPr/>
            <p:nvPr/>
          </p:nvPicPr>
          <p:blipFill>
            <a:blip r:embed="rId5"/>
            <a:stretch/>
          </p:blipFill>
          <p:spPr>
            <a:xfrm>
              <a:off x="6451200" y="1689120"/>
              <a:ext cx="2209680" cy="12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" descr=""/>
            <p:cNvPicPr/>
            <p:nvPr/>
          </p:nvPicPr>
          <p:blipFill>
            <a:blip r:embed="rId6"/>
            <a:stretch/>
          </p:blipFill>
          <p:spPr>
            <a:xfrm>
              <a:off x="1295280" y="3192480"/>
              <a:ext cx="1740960" cy="10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5848560" y="2382840"/>
              <a:ext cx="468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116400" y="2498400"/>
              <a:ext cx="2432880" cy="1348920"/>
            </a:xfrm>
            <a:custGeom>
              <a:avLst/>
              <a:gdLst/>
              <a:ahLst/>
              <a:rect l="l" t="t" r="r" b="b"/>
              <a:pathLst>
                <a:path w="1744" h="1120">
                  <a:moveTo>
                    <a:pt x="1104" y="0"/>
                  </a:moveTo>
                  <a:cubicBezTo>
                    <a:pt x="1228" y="52"/>
                    <a:pt x="1352" y="104"/>
                    <a:pt x="1440" y="192"/>
                  </a:cubicBezTo>
                  <a:cubicBezTo>
                    <a:pt x="1528" y="280"/>
                    <a:pt x="1744" y="392"/>
                    <a:pt x="1632" y="528"/>
                  </a:cubicBezTo>
                  <a:cubicBezTo>
                    <a:pt x="1520" y="664"/>
                    <a:pt x="1000" y="912"/>
                    <a:pt x="768" y="1008"/>
                  </a:cubicBezTo>
                  <a:cubicBezTo>
                    <a:pt x="536" y="1104"/>
                    <a:pt x="368" y="1088"/>
                    <a:pt x="240" y="1104"/>
                  </a:cubicBezTo>
                  <a:cubicBezTo>
                    <a:pt x="112" y="1120"/>
                    <a:pt x="56" y="1112"/>
                    <a:pt x="0" y="110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 flipV="1">
              <a:off x="2567520" y="3828240"/>
              <a:ext cx="2410560" cy="57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60200" y="165240"/>
            <a:ext cx="517392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rupos Focai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85800" y="1090800"/>
            <a:ext cx="3962520" cy="825480"/>
          </a:xfrm>
          <a:prstGeom prst="rect">
            <a:avLst/>
          </a:prstGeom>
          <a:solidFill>
            <a:srgbClr val="ff99ff"/>
          </a:solidFill>
          <a:ln w="0">
            <a:noFill/>
          </a:ln>
          <a:effectLst>
            <a:outerShdw dist="17819" dir="2700000" blurRad="0" rotWithShape="0">
              <a:srgbClr val="98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ilita informações muito ricas e detalh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44600" y="5423040"/>
            <a:ext cx="6578640" cy="5205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Ex.: Estilo de Automóv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35040" y="2017440"/>
            <a:ext cx="3983040" cy="119124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7819" dir="2700000" blurRad="0" rotWithShape="0">
              <a:srgbClr val="5b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cessita de infra-estrutura e profissionais especial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076640" y="248904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0" y="1220760"/>
            <a:ext cx="79200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etar as necessidades dos clientes de cada fase do ciclo de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upar e classificar as necess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ir as já detectadas no escopo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upar por fases do ciclo de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upar por afi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necessidades simi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r redundantes e pouco relev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r os requisitos dos 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orar requisitos dos 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Tarefas da atividade “Identificar os requisitos dos clientes do produto” 2/4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"/>
          <p:cNvGrpSpPr/>
          <p:nvPr/>
        </p:nvGrpSpPr>
        <p:grpSpPr>
          <a:xfrm>
            <a:off x="1523880" y="1928880"/>
            <a:ext cx="6858000" cy="4572000"/>
            <a:chOff x="1523880" y="1928880"/>
            <a:chExt cx="6858000" cy="4572000"/>
          </a:xfrm>
        </p:grpSpPr>
        <p:sp>
          <p:nvSpPr>
            <p:cNvPr id="503" name=""/>
            <p:cNvSpPr/>
            <p:nvPr/>
          </p:nvSpPr>
          <p:spPr>
            <a:xfrm>
              <a:off x="1523880" y="1928880"/>
              <a:ext cx="6858000" cy="4572000"/>
            </a:xfrm>
            <a:custGeom>
              <a:avLst/>
              <a:gdLst/>
              <a:ahLst/>
              <a:rect l="l" t="t" r="r" b="b"/>
              <a:pathLst>
                <a:path w="4320" h="2880">
                  <a:moveTo>
                    <a:pt x="0" y="912"/>
                  </a:moveTo>
                  <a:lnTo>
                    <a:pt x="1728" y="0"/>
                  </a:lnTo>
                  <a:lnTo>
                    <a:pt x="4320" y="0"/>
                  </a:lnTo>
                  <a:lnTo>
                    <a:pt x="4320" y="2880"/>
                  </a:lnTo>
                  <a:lnTo>
                    <a:pt x="1680" y="2880"/>
                  </a:lnTo>
                  <a:lnTo>
                    <a:pt x="1680" y="1344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4343400" y="2081160"/>
              <a:ext cx="3930120" cy="4267080"/>
              <a:chOff x="4343400" y="2081160"/>
              <a:chExt cx="3930120" cy="4267080"/>
            </a:xfrm>
          </p:grpSpPr>
          <p:sp>
            <p:nvSpPr>
              <p:cNvPr id="505" name=""/>
              <p:cNvSpPr/>
              <p:nvPr/>
            </p:nvSpPr>
            <p:spPr>
              <a:xfrm>
                <a:off x="5682960" y="5763960"/>
                <a:ext cx="772920" cy="584280"/>
              </a:xfrm>
              <a:prstGeom prst="foldedCorner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mic Sans MS"/>
                  </a:rPr>
                  <a:t>Ampla Gama de Opções de Finishe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891040" y="2081160"/>
                <a:ext cx="834480" cy="583920"/>
              </a:xfrm>
              <a:prstGeom prst="foldedCorner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mic Sans MS"/>
                  </a:rPr>
                  <a:t>Possuir Stapler Instalado onde preciso dele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343400" y="5354640"/>
                <a:ext cx="952200" cy="993600"/>
              </a:xfrm>
              <a:prstGeom prst="foldedCorner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Imprimir trabalho s que estão na red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200720" y="2081160"/>
                <a:ext cx="1072800" cy="701640"/>
              </a:xfrm>
              <a:prstGeom prst="foldedCorner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mic Sans MS"/>
                  </a:rPr>
                  <a:t>Pagariam entre 10 a 20% ou pouco mais para melhorar a produtividad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200720" y="5646600"/>
                <a:ext cx="1072800" cy="701640"/>
              </a:xfrm>
              <a:prstGeom prst="foldedCorner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mic Sans MS"/>
                  </a:rPr>
                  <a:t>maior número de opções de Finisher Possível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343400" y="4108320"/>
                <a:ext cx="1071360" cy="934920"/>
              </a:xfrm>
              <a:prstGeom prst="foldedCorner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Acabamento Automátic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200720" y="2830320"/>
                <a:ext cx="1072800" cy="828720"/>
              </a:xfrm>
              <a:prstGeom prst="foldedCorner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mic Sans MS"/>
                  </a:rPr>
                  <a:t>Possibilidade de se ligar facilmente  em Red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94040" y="2957400"/>
                <a:ext cx="1369800" cy="1403280"/>
              </a:xfrm>
              <a:prstGeom prst="foldedCorner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Não precisar de adapatadores ou cabos especiais parr liga ma copiadora na re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343400" y="2081160"/>
                <a:ext cx="1071360" cy="701640"/>
              </a:xfrm>
              <a:prstGeom prst="foldedCorner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omic Sans MS"/>
                  </a:rPr>
                  <a:t>Imprimir do meu micro ligado em red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711760" y="4652640"/>
                <a:ext cx="1191600" cy="878040"/>
              </a:xfrm>
              <a:prstGeom prst="foldedCorner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Imprimir da mesma forma que minhas impressoras loca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440480" y="4652640"/>
                <a:ext cx="833040" cy="702000"/>
              </a:xfrm>
              <a:prstGeom prst="foldedCorner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mic Sans MS"/>
                  </a:rPr>
                  <a:t>Capacidade de Imprimir Arquivos Post-Scrip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343400" y="3095280"/>
                <a:ext cx="1071360" cy="700200"/>
              </a:xfrm>
              <a:prstGeom prst="foldedCorner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mic Sans MS"/>
                  </a:rPr>
                  <a:t>Possiblidade de se ligar a um PC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380000" y="3776400"/>
                <a:ext cx="893520" cy="758880"/>
              </a:xfrm>
              <a:prstGeom prst="foldedCorner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mic Sans MS"/>
                  </a:rPr>
                  <a:t>Inserir Grampos aonde preciso  dele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8" name=""/>
          <p:cNvSpPr/>
          <p:nvPr/>
        </p:nvSpPr>
        <p:spPr>
          <a:xfrm>
            <a:off x="1258920" y="1093680"/>
            <a:ext cx="1981080" cy="1295640"/>
          </a:xfrm>
          <a:prstGeom prst="can">
            <a:avLst>
              <a:gd name="adj" fmla="val 25000"/>
            </a:avLst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ados Origi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grupar Dados Originai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228600" y="2233440"/>
            <a:ext cx="2666880" cy="2514600"/>
            <a:chOff x="228600" y="2233440"/>
            <a:chExt cx="2666880" cy="2514600"/>
          </a:xfrm>
        </p:grpSpPr>
        <p:grpSp>
          <p:nvGrpSpPr>
            <p:cNvPr id="521" name=""/>
            <p:cNvGrpSpPr/>
            <p:nvPr/>
          </p:nvGrpSpPr>
          <p:grpSpPr>
            <a:xfrm>
              <a:off x="838080" y="2233440"/>
              <a:ext cx="685800" cy="1828800"/>
              <a:chOff x="838080" y="2233440"/>
              <a:chExt cx="685800" cy="1828800"/>
            </a:xfrm>
          </p:grpSpPr>
          <p:sp>
            <p:nvSpPr>
              <p:cNvPr id="522" name=""/>
              <p:cNvSpPr/>
              <p:nvPr/>
            </p:nvSpPr>
            <p:spPr>
              <a:xfrm>
                <a:off x="1143000" y="3681000"/>
                <a:ext cx="38088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38080" y="2233440"/>
                <a:ext cx="38124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228600" y="2462040"/>
              <a:ext cx="2666880" cy="2286000"/>
              <a:chOff x="228600" y="2462040"/>
              <a:chExt cx="2666880" cy="2286000"/>
            </a:xfrm>
          </p:grpSpPr>
          <p:sp>
            <p:nvSpPr>
              <p:cNvPr id="525" name=""/>
              <p:cNvSpPr/>
              <p:nvPr/>
            </p:nvSpPr>
            <p:spPr>
              <a:xfrm>
                <a:off x="1752480" y="3071520"/>
                <a:ext cx="38124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523880" y="4138200"/>
                <a:ext cx="38124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28600" y="2766600"/>
                <a:ext cx="38088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914400" y="2995200"/>
                <a:ext cx="38088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905120" y="3681000"/>
                <a:ext cx="38088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438280" y="4138200"/>
                <a:ext cx="38124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523880" y="2462040"/>
                <a:ext cx="38124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514600" y="3300120"/>
                <a:ext cx="38088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133720" y="2462040"/>
                <a:ext cx="38088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066680" y="4366800"/>
                <a:ext cx="38124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28600" y="3528720"/>
                <a:ext cx="38088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9480" y="4062240"/>
                <a:ext cx="38124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pull dir="u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355680" y="573120"/>
            <a:ext cx="1981080" cy="1295280"/>
          </a:xfrm>
          <a:prstGeom prst="can">
            <a:avLst>
              <a:gd name="adj" fmla="val 25000"/>
            </a:avLst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ados Origi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Eliminar Dados Originais Redundante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228600" y="1905120"/>
            <a:ext cx="2666880" cy="2514600"/>
            <a:chOff x="228600" y="1905120"/>
            <a:chExt cx="2666880" cy="2514600"/>
          </a:xfrm>
        </p:grpSpPr>
        <p:grpSp>
          <p:nvGrpSpPr>
            <p:cNvPr id="540" name=""/>
            <p:cNvGrpSpPr/>
            <p:nvPr/>
          </p:nvGrpSpPr>
          <p:grpSpPr>
            <a:xfrm>
              <a:off x="838080" y="1905120"/>
              <a:ext cx="685800" cy="1828800"/>
              <a:chOff x="838080" y="1905120"/>
              <a:chExt cx="685800" cy="1828800"/>
            </a:xfrm>
          </p:grpSpPr>
          <p:sp>
            <p:nvSpPr>
              <p:cNvPr id="541" name=""/>
              <p:cNvSpPr/>
              <p:nvPr/>
            </p:nvSpPr>
            <p:spPr>
              <a:xfrm>
                <a:off x="1143000" y="3352680"/>
                <a:ext cx="38088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38080" y="1905120"/>
                <a:ext cx="38124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228600" y="2133720"/>
              <a:ext cx="2666880" cy="2286000"/>
              <a:chOff x="228600" y="2133720"/>
              <a:chExt cx="2666880" cy="2286000"/>
            </a:xfrm>
          </p:grpSpPr>
          <p:sp>
            <p:nvSpPr>
              <p:cNvPr id="544" name=""/>
              <p:cNvSpPr/>
              <p:nvPr/>
            </p:nvSpPr>
            <p:spPr>
              <a:xfrm>
                <a:off x="1752480" y="2743200"/>
                <a:ext cx="38124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523880" y="3809880"/>
                <a:ext cx="38124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28600" y="2438280"/>
                <a:ext cx="38088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14400" y="2666880"/>
                <a:ext cx="38088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905120" y="3352680"/>
                <a:ext cx="38088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438280" y="3809880"/>
                <a:ext cx="38124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523880" y="2133720"/>
                <a:ext cx="38124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514600" y="2971800"/>
                <a:ext cx="38088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133720" y="2133720"/>
                <a:ext cx="38088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066680" y="4038480"/>
                <a:ext cx="38124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28600" y="3200400"/>
                <a:ext cx="38088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09480" y="3733920"/>
                <a:ext cx="38124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6" name=""/>
          <p:cNvGrpSpPr/>
          <p:nvPr/>
        </p:nvGrpSpPr>
        <p:grpSpPr>
          <a:xfrm>
            <a:off x="761760" y="1905120"/>
            <a:ext cx="838080" cy="1828440"/>
            <a:chOff x="761760" y="1905120"/>
            <a:chExt cx="838080" cy="1828440"/>
          </a:xfrm>
        </p:grpSpPr>
        <p:grpSp>
          <p:nvGrpSpPr>
            <p:cNvPr id="557" name=""/>
            <p:cNvGrpSpPr/>
            <p:nvPr/>
          </p:nvGrpSpPr>
          <p:grpSpPr>
            <a:xfrm>
              <a:off x="761760" y="1905120"/>
              <a:ext cx="533520" cy="380880"/>
              <a:chOff x="761760" y="1905120"/>
              <a:chExt cx="533520" cy="380880"/>
            </a:xfrm>
          </p:grpSpPr>
          <p:sp>
            <p:nvSpPr>
              <p:cNvPr id="558" name=""/>
              <p:cNvSpPr/>
              <p:nvPr/>
            </p:nvSpPr>
            <p:spPr>
              <a:xfrm>
                <a:off x="762120" y="1905120"/>
                <a:ext cx="53316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761760" y="1905120"/>
                <a:ext cx="53316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1066320" y="3352680"/>
              <a:ext cx="533520" cy="380880"/>
              <a:chOff x="1066320" y="3352680"/>
              <a:chExt cx="533520" cy="380880"/>
            </a:xfrm>
          </p:grpSpPr>
          <p:sp>
            <p:nvSpPr>
              <p:cNvPr id="561" name=""/>
              <p:cNvSpPr/>
              <p:nvPr/>
            </p:nvSpPr>
            <p:spPr>
              <a:xfrm>
                <a:off x="1066680" y="3352680"/>
                <a:ext cx="53316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1066320" y="3352680"/>
                <a:ext cx="53316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3" name=""/>
          <p:cNvGrpSpPr/>
          <p:nvPr/>
        </p:nvGrpSpPr>
        <p:grpSpPr>
          <a:xfrm>
            <a:off x="2898720" y="1022400"/>
            <a:ext cx="5105520" cy="1297080"/>
            <a:chOff x="2898720" y="1022400"/>
            <a:chExt cx="5105520" cy="1297080"/>
          </a:xfrm>
        </p:grpSpPr>
        <p:grpSp>
          <p:nvGrpSpPr>
            <p:cNvPr id="564" name=""/>
            <p:cNvGrpSpPr/>
            <p:nvPr/>
          </p:nvGrpSpPr>
          <p:grpSpPr>
            <a:xfrm>
              <a:off x="4803840" y="1403640"/>
              <a:ext cx="1589040" cy="915840"/>
              <a:chOff x="4803840" y="1403640"/>
              <a:chExt cx="1589040" cy="915840"/>
            </a:xfrm>
          </p:grpSpPr>
          <p:sp>
            <p:nvSpPr>
              <p:cNvPr id="565" name=""/>
              <p:cNvSpPr/>
              <p:nvPr/>
            </p:nvSpPr>
            <p:spPr>
              <a:xfrm>
                <a:off x="4803840" y="1403640"/>
                <a:ext cx="1589040" cy="915840"/>
              </a:xfrm>
              <a:prstGeom prst="ellipse">
                <a:avLst/>
              </a:prstGeom>
              <a:solidFill>
                <a:srgbClr val="d6d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6" name=""/>
              <p:cNvGrpSpPr/>
              <p:nvPr/>
            </p:nvGrpSpPr>
            <p:grpSpPr>
              <a:xfrm>
                <a:off x="5400360" y="1627560"/>
                <a:ext cx="393840" cy="335160"/>
                <a:chOff x="5400360" y="1627560"/>
                <a:chExt cx="393840" cy="335160"/>
              </a:xfrm>
            </p:grpSpPr>
            <p:grpSp>
              <p:nvGrpSpPr>
                <p:cNvPr id="567" name=""/>
                <p:cNvGrpSpPr/>
                <p:nvPr/>
              </p:nvGrpSpPr>
              <p:grpSpPr>
                <a:xfrm>
                  <a:off x="5400360" y="1729440"/>
                  <a:ext cx="393840" cy="233280"/>
                  <a:chOff x="5400360" y="1729440"/>
                  <a:chExt cx="393840" cy="233280"/>
                </a:xfrm>
              </p:grpSpPr>
              <p:grpSp>
                <p:nvGrpSpPr>
                  <p:cNvPr id="568" name=""/>
                  <p:cNvGrpSpPr/>
                  <p:nvPr/>
                </p:nvGrpSpPr>
                <p:grpSpPr>
                  <a:xfrm>
                    <a:off x="5514120" y="1739520"/>
                    <a:ext cx="149400" cy="218520"/>
                    <a:chOff x="5514120" y="1739520"/>
                    <a:chExt cx="149400" cy="218520"/>
                  </a:xfrm>
                </p:grpSpPr>
                <p:sp>
                  <p:nvSpPr>
                    <p:cNvPr id="569" name=""/>
                    <p:cNvSpPr/>
                    <p:nvPr/>
                  </p:nvSpPr>
                  <p:spPr>
                    <a:xfrm>
                      <a:off x="5514120" y="1739520"/>
                      <a:ext cx="149400" cy="21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6" h="828">
                          <a:moveTo>
                            <a:pt x="160" y="0"/>
                          </a:moveTo>
                          <a:lnTo>
                            <a:pt x="304" y="109"/>
                          </a:lnTo>
                          <a:lnTo>
                            <a:pt x="421" y="18"/>
                          </a:lnTo>
                          <a:lnTo>
                            <a:pt x="450" y="416"/>
                          </a:lnTo>
                          <a:lnTo>
                            <a:pt x="483" y="648"/>
                          </a:lnTo>
                          <a:lnTo>
                            <a:pt x="516" y="828"/>
                          </a:lnTo>
                          <a:lnTo>
                            <a:pt x="0" y="828"/>
                          </a:lnTo>
                          <a:lnTo>
                            <a:pt x="73" y="603"/>
                          </a:lnTo>
                          <a:lnTo>
                            <a:pt x="120" y="321"/>
                          </a:lnTo>
                          <a:lnTo>
                            <a:pt x="160" y="0"/>
                          </a:lnTo>
                          <a:close/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0" name=""/>
                    <p:cNvSpPr/>
                    <p:nvPr/>
                  </p:nvSpPr>
                  <p:spPr>
                    <a:xfrm>
                      <a:off x="5607000" y="1755720"/>
                      <a:ext cx="3564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50">
                          <a:moveTo>
                            <a:pt x="0" y="55"/>
                          </a:moveTo>
                          <a:lnTo>
                            <a:pt x="17" y="72"/>
                          </a:lnTo>
                          <a:lnTo>
                            <a:pt x="27" y="83"/>
                          </a:lnTo>
                          <a:lnTo>
                            <a:pt x="33" y="97"/>
                          </a:lnTo>
                          <a:lnTo>
                            <a:pt x="38" y="118"/>
                          </a:lnTo>
                          <a:lnTo>
                            <a:pt x="40" y="141"/>
                          </a:lnTo>
                          <a:lnTo>
                            <a:pt x="52" y="150"/>
                          </a:lnTo>
                          <a:lnTo>
                            <a:pt x="123" y="63"/>
                          </a:lnTo>
                          <a:lnTo>
                            <a:pt x="89" y="0"/>
                          </a:lnTo>
                          <a:lnTo>
                            <a:pt x="0" y="5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>
                      <a:off x="5555520" y="1741680"/>
                      <a:ext cx="3024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209">
                          <a:moveTo>
                            <a:pt x="106" y="97"/>
                          </a:moveTo>
                          <a:lnTo>
                            <a:pt x="97" y="107"/>
                          </a:lnTo>
                          <a:lnTo>
                            <a:pt x="88" y="136"/>
                          </a:lnTo>
                          <a:lnTo>
                            <a:pt x="73" y="171"/>
                          </a:lnTo>
                          <a:lnTo>
                            <a:pt x="59" y="209"/>
                          </a:lnTo>
                          <a:lnTo>
                            <a:pt x="26" y="145"/>
                          </a:lnTo>
                          <a:lnTo>
                            <a:pt x="7" y="81"/>
                          </a:lnTo>
                          <a:lnTo>
                            <a:pt x="0" y="19"/>
                          </a:lnTo>
                          <a:lnTo>
                            <a:pt x="0" y="0"/>
                          </a:lnTo>
                          <a:lnTo>
                            <a:pt x="26" y="0"/>
                          </a:lnTo>
                          <a:lnTo>
                            <a:pt x="106" y="97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72" name=""/>
                    <p:cNvGrpSpPr/>
                    <p:nvPr/>
                  </p:nvGrpSpPr>
                  <p:grpSpPr>
                    <a:xfrm>
                      <a:off x="5545080" y="1831320"/>
                      <a:ext cx="98280" cy="113400"/>
                      <a:chOff x="5545080" y="1831320"/>
                      <a:chExt cx="98280" cy="113400"/>
                    </a:xfrm>
                  </p:grpSpPr>
                  <p:sp>
                    <p:nvSpPr>
                      <p:cNvPr id="573" name=""/>
                      <p:cNvSpPr/>
                      <p:nvPr/>
                    </p:nvSpPr>
                    <p:spPr>
                      <a:xfrm>
                        <a:off x="5556240" y="1831320"/>
                        <a:ext cx="72720" cy="63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4" h="241">
                            <a:moveTo>
                              <a:pt x="254" y="0"/>
                            </a:moveTo>
                            <a:lnTo>
                              <a:pt x="220" y="4"/>
                            </a:lnTo>
                            <a:lnTo>
                              <a:pt x="191" y="12"/>
                            </a:lnTo>
                            <a:lnTo>
                              <a:pt x="138" y="36"/>
                            </a:lnTo>
                            <a:lnTo>
                              <a:pt x="81" y="82"/>
                            </a:lnTo>
                            <a:lnTo>
                              <a:pt x="58" y="103"/>
                            </a:lnTo>
                            <a:lnTo>
                              <a:pt x="43" y="132"/>
                            </a:lnTo>
                            <a:lnTo>
                              <a:pt x="23" y="159"/>
                            </a:lnTo>
                            <a:lnTo>
                              <a:pt x="12" y="177"/>
                            </a:lnTo>
                            <a:lnTo>
                              <a:pt x="4" y="208"/>
                            </a:lnTo>
                            <a:lnTo>
                              <a:pt x="0" y="230"/>
                            </a:lnTo>
                            <a:lnTo>
                              <a:pt x="4" y="241"/>
                            </a:lnTo>
                            <a:lnTo>
                              <a:pt x="14" y="241"/>
                            </a:lnTo>
                            <a:lnTo>
                              <a:pt x="19" y="227"/>
                            </a:lnTo>
                            <a:lnTo>
                              <a:pt x="40" y="202"/>
                            </a:lnTo>
                            <a:lnTo>
                              <a:pt x="54" y="163"/>
                            </a:lnTo>
                            <a:lnTo>
                              <a:pt x="66" y="142"/>
                            </a:lnTo>
                            <a:lnTo>
                              <a:pt x="87" y="108"/>
                            </a:lnTo>
                            <a:lnTo>
                              <a:pt x="116" y="70"/>
                            </a:lnTo>
                            <a:lnTo>
                              <a:pt x="174" y="33"/>
                            </a:lnTo>
                            <a:lnTo>
                              <a:pt x="209" y="15"/>
                            </a:lnTo>
                            <a:lnTo>
                              <a:pt x="254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200" bIns="16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4" name=""/>
                      <p:cNvSpPr/>
                      <p:nvPr/>
                    </p:nvSpPr>
                    <p:spPr>
                      <a:xfrm>
                        <a:off x="5545080" y="1861200"/>
                        <a:ext cx="98280" cy="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8" h="320">
                            <a:moveTo>
                              <a:pt x="335" y="0"/>
                            </a:moveTo>
                            <a:lnTo>
                              <a:pt x="291" y="46"/>
                            </a:lnTo>
                            <a:lnTo>
                              <a:pt x="264" y="60"/>
                            </a:lnTo>
                            <a:lnTo>
                              <a:pt x="242" y="67"/>
                            </a:lnTo>
                            <a:lnTo>
                              <a:pt x="214" y="85"/>
                            </a:lnTo>
                            <a:lnTo>
                              <a:pt x="117" y="149"/>
                            </a:lnTo>
                            <a:lnTo>
                              <a:pt x="96" y="170"/>
                            </a:lnTo>
                            <a:lnTo>
                              <a:pt x="66" y="191"/>
                            </a:lnTo>
                            <a:lnTo>
                              <a:pt x="44" y="205"/>
                            </a:lnTo>
                            <a:lnTo>
                              <a:pt x="22" y="219"/>
                            </a:lnTo>
                            <a:lnTo>
                              <a:pt x="4" y="232"/>
                            </a:lnTo>
                            <a:lnTo>
                              <a:pt x="0" y="243"/>
                            </a:lnTo>
                            <a:lnTo>
                              <a:pt x="1" y="253"/>
                            </a:lnTo>
                            <a:lnTo>
                              <a:pt x="12" y="253"/>
                            </a:lnTo>
                            <a:lnTo>
                              <a:pt x="30" y="243"/>
                            </a:lnTo>
                            <a:lnTo>
                              <a:pt x="51" y="230"/>
                            </a:lnTo>
                            <a:lnTo>
                              <a:pt x="69" y="218"/>
                            </a:lnTo>
                            <a:lnTo>
                              <a:pt x="67" y="237"/>
                            </a:lnTo>
                            <a:lnTo>
                              <a:pt x="52" y="258"/>
                            </a:lnTo>
                            <a:lnTo>
                              <a:pt x="40" y="267"/>
                            </a:lnTo>
                            <a:lnTo>
                              <a:pt x="37" y="276"/>
                            </a:lnTo>
                            <a:lnTo>
                              <a:pt x="22" y="289"/>
                            </a:lnTo>
                            <a:lnTo>
                              <a:pt x="9" y="306"/>
                            </a:lnTo>
                            <a:lnTo>
                              <a:pt x="11" y="320"/>
                            </a:lnTo>
                            <a:lnTo>
                              <a:pt x="51" y="317"/>
                            </a:lnTo>
                            <a:lnTo>
                              <a:pt x="62" y="293"/>
                            </a:lnTo>
                            <a:lnTo>
                              <a:pt x="88" y="269"/>
                            </a:lnTo>
                            <a:lnTo>
                              <a:pt x="84" y="251"/>
                            </a:lnTo>
                            <a:lnTo>
                              <a:pt x="117" y="225"/>
                            </a:lnTo>
                            <a:lnTo>
                              <a:pt x="297" y="105"/>
                            </a:lnTo>
                            <a:lnTo>
                              <a:pt x="265" y="102"/>
                            </a:lnTo>
                            <a:lnTo>
                              <a:pt x="254" y="78"/>
                            </a:lnTo>
                            <a:lnTo>
                              <a:pt x="282" y="70"/>
                            </a:lnTo>
                            <a:lnTo>
                              <a:pt x="291" y="63"/>
                            </a:lnTo>
                            <a:lnTo>
                              <a:pt x="301" y="63"/>
                            </a:lnTo>
                            <a:lnTo>
                              <a:pt x="338" y="15"/>
                            </a:lnTo>
                            <a:lnTo>
                              <a:pt x="335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720" bIns="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5578200" y="1767960"/>
                      <a:ext cx="45000" cy="17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673">
                          <a:moveTo>
                            <a:pt x="26" y="0"/>
                          </a:moveTo>
                          <a:lnTo>
                            <a:pt x="44" y="18"/>
                          </a:lnTo>
                          <a:lnTo>
                            <a:pt x="60" y="25"/>
                          </a:lnTo>
                          <a:lnTo>
                            <a:pt x="85" y="23"/>
                          </a:lnTo>
                          <a:lnTo>
                            <a:pt x="105" y="16"/>
                          </a:lnTo>
                          <a:lnTo>
                            <a:pt x="112" y="30"/>
                          </a:lnTo>
                          <a:lnTo>
                            <a:pt x="112" y="47"/>
                          </a:lnTo>
                          <a:lnTo>
                            <a:pt x="107" y="60"/>
                          </a:lnTo>
                          <a:lnTo>
                            <a:pt x="100" y="67"/>
                          </a:lnTo>
                          <a:lnTo>
                            <a:pt x="83" y="82"/>
                          </a:lnTo>
                          <a:lnTo>
                            <a:pt x="112" y="118"/>
                          </a:lnTo>
                          <a:lnTo>
                            <a:pt x="126" y="141"/>
                          </a:lnTo>
                          <a:lnTo>
                            <a:pt x="133" y="163"/>
                          </a:lnTo>
                          <a:lnTo>
                            <a:pt x="137" y="215"/>
                          </a:lnTo>
                          <a:lnTo>
                            <a:pt x="149" y="332"/>
                          </a:lnTo>
                          <a:lnTo>
                            <a:pt x="155" y="399"/>
                          </a:lnTo>
                          <a:lnTo>
                            <a:pt x="155" y="480"/>
                          </a:lnTo>
                          <a:lnTo>
                            <a:pt x="152" y="571"/>
                          </a:lnTo>
                          <a:lnTo>
                            <a:pt x="150" y="673"/>
                          </a:lnTo>
                          <a:lnTo>
                            <a:pt x="4" y="672"/>
                          </a:lnTo>
                          <a:lnTo>
                            <a:pt x="0" y="569"/>
                          </a:lnTo>
                          <a:lnTo>
                            <a:pt x="4" y="509"/>
                          </a:lnTo>
                          <a:lnTo>
                            <a:pt x="9" y="435"/>
                          </a:lnTo>
                          <a:lnTo>
                            <a:pt x="9" y="310"/>
                          </a:lnTo>
                          <a:lnTo>
                            <a:pt x="9" y="269"/>
                          </a:lnTo>
                          <a:lnTo>
                            <a:pt x="12" y="170"/>
                          </a:lnTo>
                          <a:lnTo>
                            <a:pt x="20" y="139"/>
                          </a:lnTo>
                          <a:lnTo>
                            <a:pt x="37" y="85"/>
                          </a:lnTo>
                          <a:lnTo>
                            <a:pt x="16" y="58"/>
                          </a:lnTo>
                          <a:lnTo>
                            <a:pt x="8" y="44"/>
                          </a:lnTo>
                          <a:lnTo>
                            <a:pt x="26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6" name=""/>
                  <p:cNvGrpSpPr/>
                  <p:nvPr/>
                </p:nvGrpSpPr>
                <p:grpSpPr>
                  <a:xfrm>
                    <a:off x="5400360" y="1729440"/>
                    <a:ext cx="393840" cy="233280"/>
                    <a:chOff x="5400360" y="1729440"/>
                    <a:chExt cx="393840" cy="233280"/>
                  </a:xfrm>
                </p:grpSpPr>
                <p:grpSp>
                  <p:nvGrpSpPr>
                    <p:cNvPr id="577" name=""/>
                    <p:cNvGrpSpPr/>
                    <p:nvPr/>
                  </p:nvGrpSpPr>
                  <p:grpSpPr>
                    <a:xfrm>
                      <a:off x="5400360" y="1734840"/>
                      <a:ext cx="166680" cy="227880"/>
                      <a:chOff x="5400360" y="1734840"/>
                      <a:chExt cx="166680" cy="227880"/>
                    </a:xfrm>
                  </p:grpSpPr>
                  <p:sp>
                    <p:nvSpPr>
                      <p:cNvPr id="578" name=""/>
                      <p:cNvSpPr/>
                      <p:nvPr/>
                    </p:nvSpPr>
                    <p:spPr>
                      <a:xfrm>
                        <a:off x="5400360" y="1737720"/>
                        <a:ext cx="165240" cy="225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0" h="852">
                            <a:moveTo>
                              <a:pt x="505" y="0"/>
                            </a:moveTo>
                            <a:lnTo>
                              <a:pt x="485" y="27"/>
                            </a:lnTo>
                            <a:lnTo>
                              <a:pt x="430" y="45"/>
                            </a:lnTo>
                            <a:lnTo>
                              <a:pt x="385" y="56"/>
                            </a:lnTo>
                            <a:lnTo>
                              <a:pt x="346" y="60"/>
                            </a:lnTo>
                            <a:lnTo>
                              <a:pt x="277" y="71"/>
                            </a:lnTo>
                            <a:lnTo>
                              <a:pt x="252" y="80"/>
                            </a:lnTo>
                            <a:lnTo>
                              <a:pt x="244" y="85"/>
                            </a:lnTo>
                            <a:lnTo>
                              <a:pt x="238" y="92"/>
                            </a:lnTo>
                            <a:lnTo>
                              <a:pt x="219" y="177"/>
                            </a:lnTo>
                            <a:lnTo>
                              <a:pt x="207" y="221"/>
                            </a:lnTo>
                            <a:lnTo>
                              <a:pt x="193" y="267"/>
                            </a:lnTo>
                            <a:lnTo>
                              <a:pt x="185" y="292"/>
                            </a:lnTo>
                            <a:lnTo>
                              <a:pt x="179" y="295"/>
                            </a:lnTo>
                            <a:lnTo>
                              <a:pt x="166" y="303"/>
                            </a:lnTo>
                            <a:lnTo>
                              <a:pt x="162" y="315"/>
                            </a:lnTo>
                            <a:lnTo>
                              <a:pt x="152" y="334"/>
                            </a:lnTo>
                            <a:lnTo>
                              <a:pt x="120" y="417"/>
                            </a:lnTo>
                            <a:lnTo>
                              <a:pt x="115" y="449"/>
                            </a:lnTo>
                            <a:lnTo>
                              <a:pt x="106" y="469"/>
                            </a:lnTo>
                            <a:lnTo>
                              <a:pt x="66" y="510"/>
                            </a:lnTo>
                            <a:lnTo>
                              <a:pt x="57" y="530"/>
                            </a:lnTo>
                            <a:lnTo>
                              <a:pt x="47" y="548"/>
                            </a:lnTo>
                            <a:lnTo>
                              <a:pt x="38" y="563"/>
                            </a:lnTo>
                            <a:lnTo>
                              <a:pt x="29" y="580"/>
                            </a:lnTo>
                            <a:lnTo>
                              <a:pt x="17" y="613"/>
                            </a:lnTo>
                            <a:lnTo>
                              <a:pt x="5" y="642"/>
                            </a:lnTo>
                            <a:lnTo>
                              <a:pt x="0" y="659"/>
                            </a:lnTo>
                            <a:lnTo>
                              <a:pt x="3" y="680"/>
                            </a:lnTo>
                            <a:lnTo>
                              <a:pt x="4" y="699"/>
                            </a:lnTo>
                            <a:lnTo>
                              <a:pt x="10" y="723"/>
                            </a:lnTo>
                            <a:lnTo>
                              <a:pt x="20" y="740"/>
                            </a:lnTo>
                            <a:lnTo>
                              <a:pt x="27" y="758"/>
                            </a:lnTo>
                            <a:lnTo>
                              <a:pt x="49" y="777"/>
                            </a:lnTo>
                            <a:lnTo>
                              <a:pt x="233" y="781"/>
                            </a:lnTo>
                            <a:lnTo>
                              <a:pt x="273" y="673"/>
                            </a:lnTo>
                            <a:lnTo>
                              <a:pt x="306" y="622"/>
                            </a:lnTo>
                            <a:lnTo>
                              <a:pt x="325" y="548"/>
                            </a:lnTo>
                            <a:lnTo>
                              <a:pt x="295" y="693"/>
                            </a:lnTo>
                            <a:lnTo>
                              <a:pt x="283" y="744"/>
                            </a:lnTo>
                            <a:lnTo>
                              <a:pt x="272" y="800"/>
                            </a:lnTo>
                            <a:lnTo>
                              <a:pt x="251" y="852"/>
                            </a:lnTo>
                            <a:lnTo>
                              <a:pt x="393" y="852"/>
                            </a:lnTo>
                            <a:lnTo>
                              <a:pt x="441" y="771"/>
                            </a:lnTo>
                            <a:lnTo>
                              <a:pt x="468" y="731"/>
                            </a:lnTo>
                            <a:lnTo>
                              <a:pt x="490" y="683"/>
                            </a:lnTo>
                            <a:lnTo>
                              <a:pt x="515" y="622"/>
                            </a:lnTo>
                            <a:lnTo>
                              <a:pt x="526" y="563"/>
                            </a:lnTo>
                            <a:lnTo>
                              <a:pt x="538" y="511"/>
                            </a:lnTo>
                            <a:lnTo>
                              <a:pt x="552" y="452"/>
                            </a:lnTo>
                            <a:lnTo>
                              <a:pt x="561" y="395"/>
                            </a:lnTo>
                            <a:lnTo>
                              <a:pt x="570" y="329"/>
                            </a:lnTo>
                            <a:lnTo>
                              <a:pt x="570" y="285"/>
                            </a:lnTo>
                            <a:lnTo>
                              <a:pt x="570" y="242"/>
                            </a:lnTo>
                            <a:lnTo>
                              <a:pt x="570" y="181"/>
                            </a:lnTo>
                            <a:lnTo>
                              <a:pt x="570" y="144"/>
                            </a:lnTo>
                            <a:lnTo>
                              <a:pt x="550" y="16"/>
                            </a:lnTo>
                            <a:lnTo>
                              <a:pt x="505" y="0"/>
                            </a:lnTo>
                            <a:close/>
                          </a:path>
                        </a:pathLst>
                      </a:custGeom>
                      <a:solidFill>
                        <a:srgbClr val="7f7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9" name=""/>
                      <p:cNvSpPr/>
                      <p:nvPr/>
                    </p:nvSpPr>
                    <p:spPr>
                      <a:xfrm>
                        <a:off x="5441040" y="1843200"/>
                        <a:ext cx="70200" cy="53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2" h="202">
                            <a:moveTo>
                              <a:pt x="81" y="0"/>
                            </a:moveTo>
                            <a:lnTo>
                              <a:pt x="107" y="7"/>
                            </a:lnTo>
                            <a:lnTo>
                              <a:pt x="125" y="12"/>
                            </a:lnTo>
                            <a:lnTo>
                              <a:pt x="136" y="21"/>
                            </a:lnTo>
                            <a:lnTo>
                              <a:pt x="149" y="28"/>
                            </a:lnTo>
                            <a:lnTo>
                              <a:pt x="160" y="35"/>
                            </a:lnTo>
                            <a:lnTo>
                              <a:pt x="173" y="43"/>
                            </a:lnTo>
                            <a:lnTo>
                              <a:pt x="190" y="19"/>
                            </a:lnTo>
                            <a:lnTo>
                              <a:pt x="191" y="50"/>
                            </a:lnTo>
                            <a:lnTo>
                              <a:pt x="197" y="71"/>
                            </a:lnTo>
                            <a:lnTo>
                              <a:pt x="216" y="53"/>
                            </a:lnTo>
                            <a:lnTo>
                              <a:pt x="231" y="36"/>
                            </a:lnTo>
                            <a:lnTo>
                              <a:pt x="242" y="24"/>
                            </a:lnTo>
                            <a:lnTo>
                              <a:pt x="242" y="49"/>
                            </a:lnTo>
                            <a:lnTo>
                              <a:pt x="231" y="77"/>
                            </a:lnTo>
                            <a:lnTo>
                              <a:pt x="220" y="102"/>
                            </a:lnTo>
                            <a:lnTo>
                              <a:pt x="204" y="117"/>
                            </a:lnTo>
                            <a:lnTo>
                              <a:pt x="194" y="128"/>
                            </a:lnTo>
                            <a:lnTo>
                              <a:pt x="180" y="128"/>
                            </a:lnTo>
                            <a:lnTo>
                              <a:pt x="158" y="201"/>
                            </a:lnTo>
                            <a:lnTo>
                              <a:pt x="135" y="202"/>
                            </a:lnTo>
                            <a:lnTo>
                              <a:pt x="113" y="195"/>
                            </a:lnTo>
                            <a:lnTo>
                              <a:pt x="96" y="187"/>
                            </a:lnTo>
                            <a:lnTo>
                              <a:pt x="118" y="176"/>
                            </a:lnTo>
                            <a:lnTo>
                              <a:pt x="124" y="172"/>
                            </a:lnTo>
                            <a:lnTo>
                              <a:pt x="76" y="128"/>
                            </a:lnTo>
                            <a:lnTo>
                              <a:pt x="51" y="123"/>
                            </a:lnTo>
                            <a:lnTo>
                              <a:pt x="15" y="124"/>
                            </a:lnTo>
                            <a:lnTo>
                              <a:pt x="8" y="124"/>
                            </a:lnTo>
                            <a:lnTo>
                              <a:pt x="0" y="116"/>
                            </a:lnTo>
                            <a:lnTo>
                              <a:pt x="0" y="102"/>
                            </a:lnTo>
                            <a:lnTo>
                              <a:pt x="47" y="102"/>
                            </a:lnTo>
                            <a:lnTo>
                              <a:pt x="62" y="103"/>
                            </a:lnTo>
                            <a:lnTo>
                              <a:pt x="58" y="107"/>
                            </a:lnTo>
                            <a:lnTo>
                              <a:pt x="80" y="121"/>
                            </a:lnTo>
                            <a:lnTo>
                              <a:pt x="106" y="142"/>
                            </a:lnTo>
                            <a:lnTo>
                              <a:pt x="124" y="156"/>
                            </a:lnTo>
                            <a:lnTo>
                              <a:pt x="143" y="124"/>
                            </a:lnTo>
                            <a:lnTo>
                              <a:pt x="143" y="114"/>
                            </a:lnTo>
                            <a:lnTo>
                              <a:pt x="140" y="86"/>
                            </a:lnTo>
                            <a:lnTo>
                              <a:pt x="158" y="91"/>
                            </a:lnTo>
                            <a:lnTo>
                              <a:pt x="168" y="81"/>
                            </a:lnTo>
                            <a:lnTo>
                              <a:pt x="153" y="67"/>
                            </a:lnTo>
                            <a:lnTo>
                              <a:pt x="138" y="53"/>
                            </a:lnTo>
                            <a:lnTo>
                              <a:pt x="114" y="36"/>
                            </a:lnTo>
                            <a:lnTo>
                              <a:pt x="102" y="17"/>
                            </a:lnTo>
                            <a:lnTo>
                              <a:pt x="81" y="0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840" bIns="6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0" name=""/>
                      <p:cNvSpPr/>
                      <p:nvPr/>
                    </p:nvSpPr>
                    <p:spPr>
                      <a:xfrm>
                        <a:off x="5464440" y="1768680"/>
                        <a:ext cx="32040" cy="71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271">
                            <a:moveTo>
                              <a:pt x="37" y="0"/>
                            </a:moveTo>
                            <a:lnTo>
                              <a:pt x="81" y="83"/>
                            </a:lnTo>
                            <a:lnTo>
                              <a:pt x="94" y="126"/>
                            </a:lnTo>
                            <a:lnTo>
                              <a:pt x="105" y="169"/>
                            </a:lnTo>
                            <a:lnTo>
                              <a:pt x="109" y="204"/>
                            </a:lnTo>
                            <a:lnTo>
                              <a:pt x="109" y="271"/>
                            </a:lnTo>
                            <a:lnTo>
                              <a:pt x="101" y="249"/>
                            </a:lnTo>
                            <a:lnTo>
                              <a:pt x="61" y="229"/>
                            </a:lnTo>
                            <a:lnTo>
                              <a:pt x="44" y="224"/>
                            </a:lnTo>
                            <a:lnTo>
                              <a:pt x="11" y="200"/>
                            </a:lnTo>
                            <a:lnTo>
                              <a:pt x="0" y="169"/>
                            </a:lnTo>
                            <a:lnTo>
                              <a:pt x="10" y="155"/>
                            </a:lnTo>
                            <a:lnTo>
                              <a:pt x="39" y="196"/>
                            </a:lnTo>
                            <a:lnTo>
                              <a:pt x="55" y="213"/>
                            </a:lnTo>
                            <a:lnTo>
                              <a:pt x="83" y="229"/>
                            </a:lnTo>
                            <a:lnTo>
                              <a:pt x="92" y="229"/>
                            </a:lnTo>
                            <a:lnTo>
                              <a:pt x="101" y="239"/>
                            </a:lnTo>
                            <a:lnTo>
                              <a:pt x="94" y="155"/>
                            </a:lnTo>
                            <a:lnTo>
                              <a:pt x="68" y="91"/>
                            </a:lnTo>
                            <a:lnTo>
                              <a:pt x="54" y="60"/>
                            </a:lnTo>
                            <a:lnTo>
                              <a:pt x="37" y="0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81" name=""/>
                      <p:cNvGrpSpPr/>
                      <p:nvPr/>
                    </p:nvGrpSpPr>
                    <p:grpSpPr>
                      <a:xfrm>
                        <a:off x="5493240" y="1734840"/>
                        <a:ext cx="73800" cy="227880"/>
                        <a:chOff x="5493240" y="1734840"/>
                        <a:chExt cx="73800" cy="227880"/>
                      </a:xfrm>
                    </p:grpSpPr>
                    <p:sp>
                      <p:nvSpPr>
                        <p:cNvPr id="582" name=""/>
                        <p:cNvSpPr/>
                        <p:nvPr/>
                      </p:nvSpPr>
                      <p:spPr>
                        <a:xfrm>
                          <a:off x="5493240" y="1737720"/>
                          <a:ext cx="72000" cy="225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7" h="852">
                              <a:moveTo>
                                <a:pt x="182" y="0"/>
                              </a:moveTo>
                              <a:lnTo>
                                <a:pt x="162" y="27"/>
                              </a:lnTo>
                              <a:lnTo>
                                <a:pt x="136" y="61"/>
                              </a:lnTo>
                              <a:lnTo>
                                <a:pt x="95" y="108"/>
                              </a:lnTo>
                              <a:lnTo>
                                <a:pt x="66" y="147"/>
                              </a:lnTo>
                              <a:lnTo>
                                <a:pt x="145" y="186"/>
                              </a:lnTo>
                              <a:lnTo>
                                <a:pt x="64" y="216"/>
                              </a:lnTo>
                              <a:lnTo>
                                <a:pt x="66" y="260"/>
                              </a:lnTo>
                              <a:lnTo>
                                <a:pt x="67" y="290"/>
                              </a:lnTo>
                              <a:lnTo>
                                <a:pt x="72" y="320"/>
                              </a:lnTo>
                              <a:lnTo>
                                <a:pt x="79" y="353"/>
                              </a:lnTo>
                              <a:lnTo>
                                <a:pt x="90" y="395"/>
                              </a:lnTo>
                              <a:lnTo>
                                <a:pt x="100" y="427"/>
                              </a:lnTo>
                              <a:lnTo>
                                <a:pt x="111" y="465"/>
                              </a:lnTo>
                              <a:lnTo>
                                <a:pt x="117" y="489"/>
                              </a:lnTo>
                              <a:lnTo>
                                <a:pt x="122" y="523"/>
                              </a:lnTo>
                              <a:lnTo>
                                <a:pt x="123" y="553"/>
                              </a:lnTo>
                              <a:lnTo>
                                <a:pt x="117" y="590"/>
                              </a:lnTo>
                              <a:lnTo>
                                <a:pt x="111" y="622"/>
                              </a:lnTo>
                              <a:lnTo>
                                <a:pt x="101" y="653"/>
                              </a:lnTo>
                              <a:lnTo>
                                <a:pt x="85" y="693"/>
                              </a:lnTo>
                              <a:lnTo>
                                <a:pt x="68" y="735"/>
                              </a:lnTo>
                              <a:lnTo>
                                <a:pt x="44" y="777"/>
                              </a:lnTo>
                              <a:lnTo>
                                <a:pt x="0" y="852"/>
                              </a:lnTo>
                              <a:lnTo>
                                <a:pt x="70" y="852"/>
                              </a:lnTo>
                              <a:lnTo>
                                <a:pt x="118" y="771"/>
                              </a:lnTo>
                              <a:lnTo>
                                <a:pt x="145" y="731"/>
                              </a:lnTo>
                              <a:lnTo>
                                <a:pt x="167" y="683"/>
                              </a:lnTo>
                              <a:lnTo>
                                <a:pt x="192" y="622"/>
                              </a:lnTo>
                              <a:lnTo>
                                <a:pt x="203" y="563"/>
                              </a:lnTo>
                              <a:lnTo>
                                <a:pt x="215" y="511"/>
                              </a:lnTo>
                              <a:lnTo>
                                <a:pt x="229" y="452"/>
                              </a:lnTo>
                              <a:lnTo>
                                <a:pt x="238" y="395"/>
                              </a:lnTo>
                              <a:lnTo>
                                <a:pt x="247" y="329"/>
                              </a:lnTo>
                              <a:lnTo>
                                <a:pt x="247" y="285"/>
                              </a:lnTo>
                              <a:lnTo>
                                <a:pt x="247" y="242"/>
                              </a:lnTo>
                              <a:lnTo>
                                <a:pt x="247" y="181"/>
                              </a:lnTo>
                              <a:lnTo>
                                <a:pt x="247" y="144"/>
                              </a:lnTo>
                              <a:lnTo>
                                <a:pt x="227" y="16"/>
                              </a:lnTo>
                              <a:lnTo>
                                <a:pt x="18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3" name=""/>
                        <p:cNvSpPr/>
                        <p:nvPr/>
                      </p:nvSpPr>
                      <p:spPr>
                        <a:xfrm>
                          <a:off x="5495760" y="1734840"/>
                          <a:ext cx="71280" cy="225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7" h="851">
                              <a:moveTo>
                                <a:pt x="183" y="0"/>
                              </a:moveTo>
                              <a:lnTo>
                                <a:pt x="162" y="27"/>
                              </a:lnTo>
                              <a:lnTo>
                                <a:pt x="136" y="61"/>
                              </a:lnTo>
                              <a:lnTo>
                                <a:pt x="95" y="108"/>
                              </a:lnTo>
                              <a:lnTo>
                                <a:pt x="66" y="147"/>
                              </a:lnTo>
                              <a:lnTo>
                                <a:pt x="145" y="185"/>
                              </a:lnTo>
                              <a:lnTo>
                                <a:pt x="65" y="216"/>
                              </a:lnTo>
                              <a:lnTo>
                                <a:pt x="66" y="259"/>
                              </a:lnTo>
                              <a:lnTo>
                                <a:pt x="67" y="290"/>
                              </a:lnTo>
                              <a:lnTo>
                                <a:pt x="72" y="319"/>
                              </a:lnTo>
                              <a:lnTo>
                                <a:pt x="79" y="352"/>
                              </a:lnTo>
                              <a:lnTo>
                                <a:pt x="90" y="394"/>
                              </a:lnTo>
                              <a:lnTo>
                                <a:pt x="100" y="426"/>
                              </a:lnTo>
                              <a:lnTo>
                                <a:pt x="111" y="461"/>
                              </a:lnTo>
                              <a:lnTo>
                                <a:pt x="117" y="488"/>
                              </a:lnTo>
                              <a:lnTo>
                                <a:pt x="122" y="522"/>
                              </a:lnTo>
                              <a:lnTo>
                                <a:pt x="123" y="553"/>
                              </a:lnTo>
                              <a:lnTo>
                                <a:pt x="117" y="589"/>
                              </a:lnTo>
                              <a:lnTo>
                                <a:pt x="111" y="621"/>
                              </a:lnTo>
                              <a:lnTo>
                                <a:pt x="101" y="653"/>
                              </a:lnTo>
                              <a:lnTo>
                                <a:pt x="85" y="693"/>
                              </a:lnTo>
                              <a:lnTo>
                                <a:pt x="68" y="735"/>
                              </a:lnTo>
                              <a:lnTo>
                                <a:pt x="44" y="776"/>
                              </a:lnTo>
                              <a:lnTo>
                                <a:pt x="0" y="851"/>
                              </a:lnTo>
                              <a:lnTo>
                                <a:pt x="71" y="851"/>
                              </a:lnTo>
                              <a:lnTo>
                                <a:pt x="118" y="770"/>
                              </a:lnTo>
                              <a:lnTo>
                                <a:pt x="145" y="730"/>
                              </a:lnTo>
                              <a:lnTo>
                                <a:pt x="167" y="682"/>
                              </a:lnTo>
                              <a:lnTo>
                                <a:pt x="192" y="621"/>
                              </a:lnTo>
                              <a:lnTo>
                                <a:pt x="203" y="562"/>
                              </a:lnTo>
                              <a:lnTo>
                                <a:pt x="216" y="511"/>
                              </a:lnTo>
                              <a:lnTo>
                                <a:pt x="229" y="452"/>
                              </a:lnTo>
                              <a:lnTo>
                                <a:pt x="239" y="394"/>
                              </a:lnTo>
                              <a:lnTo>
                                <a:pt x="247" y="329"/>
                              </a:lnTo>
                              <a:lnTo>
                                <a:pt x="247" y="284"/>
                              </a:lnTo>
                              <a:lnTo>
                                <a:pt x="247" y="242"/>
                              </a:lnTo>
                              <a:lnTo>
                                <a:pt x="247" y="181"/>
                              </a:lnTo>
                              <a:lnTo>
                                <a:pt x="247" y="143"/>
                              </a:lnTo>
                              <a:lnTo>
                                <a:pt x="228" y="15"/>
                              </a:lnTo>
                              <a:lnTo>
                                <a:pt x="183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7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84" name=""/>
                    <p:cNvGrpSpPr/>
                    <p:nvPr/>
                  </p:nvGrpSpPr>
                  <p:grpSpPr>
                    <a:xfrm>
                      <a:off x="5625720" y="1729440"/>
                      <a:ext cx="168480" cy="223920"/>
                      <a:chOff x="5625720" y="1729440"/>
                      <a:chExt cx="168480" cy="223920"/>
                    </a:xfrm>
                  </p:grpSpPr>
                  <p:sp>
                    <p:nvSpPr>
                      <p:cNvPr id="585" name=""/>
                      <p:cNvSpPr/>
                      <p:nvPr/>
                    </p:nvSpPr>
                    <p:spPr>
                      <a:xfrm>
                        <a:off x="5627160" y="1731600"/>
                        <a:ext cx="167040" cy="22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5" h="839">
                            <a:moveTo>
                              <a:pt x="84" y="13"/>
                            </a:moveTo>
                            <a:lnTo>
                              <a:pt x="20" y="0"/>
                            </a:lnTo>
                            <a:lnTo>
                              <a:pt x="9" y="38"/>
                            </a:lnTo>
                            <a:lnTo>
                              <a:pt x="0" y="101"/>
                            </a:lnTo>
                            <a:lnTo>
                              <a:pt x="7" y="208"/>
                            </a:lnTo>
                            <a:lnTo>
                              <a:pt x="13" y="247"/>
                            </a:lnTo>
                            <a:lnTo>
                              <a:pt x="31" y="311"/>
                            </a:lnTo>
                            <a:lnTo>
                              <a:pt x="31" y="384"/>
                            </a:lnTo>
                            <a:lnTo>
                              <a:pt x="35" y="473"/>
                            </a:lnTo>
                            <a:lnTo>
                              <a:pt x="43" y="564"/>
                            </a:lnTo>
                            <a:lnTo>
                              <a:pt x="47" y="608"/>
                            </a:lnTo>
                            <a:lnTo>
                              <a:pt x="69" y="680"/>
                            </a:lnTo>
                            <a:lnTo>
                              <a:pt x="84" y="736"/>
                            </a:lnTo>
                            <a:lnTo>
                              <a:pt x="104" y="812"/>
                            </a:lnTo>
                            <a:lnTo>
                              <a:pt x="117" y="839"/>
                            </a:lnTo>
                            <a:lnTo>
                              <a:pt x="534" y="839"/>
                            </a:lnTo>
                            <a:lnTo>
                              <a:pt x="575" y="816"/>
                            </a:lnTo>
                            <a:lnTo>
                              <a:pt x="549" y="637"/>
                            </a:lnTo>
                            <a:lnTo>
                              <a:pt x="531" y="573"/>
                            </a:lnTo>
                            <a:lnTo>
                              <a:pt x="531" y="529"/>
                            </a:lnTo>
                            <a:lnTo>
                              <a:pt x="526" y="513"/>
                            </a:lnTo>
                            <a:lnTo>
                              <a:pt x="523" y="497"/>
                            </a:lnTo>
                            <a:lnTo>
                              <a:pt x="514" y="487"/>
                            </a:lnTo>
                            <a:lnTo>
                              <a:pt x="495" y="465"/>
                            </a:lnTo>
                            <a:lnTo>
                              <a:pt x="489" y="446"/>
                            </a:lnTo>
                            <a:lnTo>
                              <a:pt x="481" y="419"/>
                            </a:lnTo>
                            <a:lnTo>
                              <a:pt x="474" y="395"/>
                            </a:lnTo>
                            <a:lnTo>
                              <a:pt x="457" y="363"/>
                            </a:lnTo>
                            <a:lnTo>
                              <a:pt x="435" y="278"/>
                            </a:lnTo>
                            <a:lnTo>
                              <a:pt x="422" y="260"/>
                            </a:lnTo>
                            <a:lnTo>
                              <a:pt x="408" y="251"/>
                            </a:lnTo>
                            <a:lnTo>
                              <a:pt x="394" y="241"/>
                            </a:lnTo>
                            <a:lnTo>
                              <a:pt x="400" y="217"/>
                            </a:lnTo>
                            <a:lnTo>
                              <a:pt x="395" y="208"/>
                            </a:lnTo>
                            <a:lnTo>
                              <a:pt x="374" y="177"/>
                            </a:lnTo>
                            <a:lnTo>
                              <a:pt x="384" y="159"/>
                            </a:lnTo>
                            <a:lnTo>
                              <a:pt x="386" y="146"/>
                            </a:lnTo>
                            <a:lnTo>
                              <a:pt x="385" y="133"/>
                            </a:lnTo>
                            <a:lnTo>
                              <a:pt x="380" y="119"/>
                            </a:lnTo>
                            <a:lnTo>
                              <a:pt x="373" y="98"/>
                            </a:lnTo>
                            <a:lnTo>
                              <a:pt x="367" y="85"/>
                            </a:lnTo>
                            <a:lnTo>
                              <a:pt x="360" y="80"/>
                            </a:lnTo>
                            <a:lnTo>
                              <a:pt x="349" y="75"/>
                            </a:lnTo>
                            <a:lnTo>
                              <a:pt x="334" y="72"/>
                            </a:lnTo>
                            <a:lnTo>
                              <a:pt x="288" y="71"/>
                            </a:lnTo>
                            <a:lnTo>
                              <a:pt x="237" y="64"/>
                            </a:lnTo>
                            <a:lnTo>
                              <a:pt x="183" y="51"/>
                            </a:lnTo>
                            <a:lnTo>
                              <a:pt x="134" y="36"/>
                            </a:lnTo>
                            <a:lnTo>
                              <a:pt x="84" y="13"/>
                            </a:lnTo>
                            <a:close/>
                          </a:path>
                        </a:pathLst>
                      </a:custGeom>
                      <a:solidFill>
                        <a:srgbClr val="7f7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6" name=""/>
                      <p:cNvSpPr/>
                      <p:nvPr/>
                    </p:nvSpPr>
                    <p:spPr>
                      <a:xfrm>
                        <a:off x="5689800" y="1757160"/>
                        <a:ext cx="79920" cy="153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6" h="579">
                            <a:moveTo>
                              <a:pt x="104" y="0"/>
                            </a:moveTo>
                            <a:lnTo>
                              <a:pt x="128" y="21"/>
                            </a:lnTo>
                            <a:lnTo>
                              <a:pt x="112" y="42"/>
                            </a:lnTo>
                            <a:lnTo>
                              <a:pt x="104" y="64"/>
                            </a:lnTo>
                            <a:lnTo>
                              <a:pt x="97" y="92"/>
                            </a:lnTo>
                            <a:lnTo>
                              <a:pt x="91" y="134"/>
                            </a:lnTo>
                            <a:lnTo>
                              <a:pt x="115" y="125"/>
                            </a:lnTo>
                            <a:lnTo>
                              <a:pt x="134" y="118"/>
                            </a:lnTo>
                            <a:lnTo>
                              <a:pt x="148" y="128"/>
                            </a:lnTo>
                            <a:lnTo>
                              <a:pt x="108" y="162"/>
                            </a:lnTo>
                            <a:lnTo>
                              <a:pt x="91" y="181"/>
                            </a:lnTo>
                            <a:lnTo>
                              <a:pt x="91" y="233"/>
                            </a:lnTo>
                            <a:lnTo>
                              <a:pt x="97" y="237"/>
                            </a:lnTo>
                            <a:lnTo>
                              <a:pt x="137" y="206"/>
                            </a:lnTo>
                            <a:lnTo>
                              <a:pt x="157" y="195"/>
                            </a:lnTo>
                            <a:lnTo>
                              <a:pt x="181" y="187"/>
                            </a:lnTo>
                            <a:lnTo>
                              <a:pt x="193" y="187"/>
                            </a:lnTo>
                            <a:lnTo>
                              <a:pt x="182" y="206"/>
                            </a:lnTo>
                            <a:lnTo>
                              <a:pt x="168" y="223"/>
                            </a:lnTo>
                            <a:lnTo>
                              <a:pt x="148" y="236"/>
                            </a:lnTo>
                            <a:lnTo>
                              <a:pt x="128" y="243"/>
                            </a:lnTo>
                            <a:lnTo>
                              <a:pt x="112" y="252"/>
                            </a:lnTo>
                            <a:lnTo>
                              <a:pt x="93" y="269"/>
                            </a:lnTo>
                            <a:lnTo>
                              <a:pt x="90" y="304"/>
                            </a:lnTo>
                            <a:lnTo>
                              <a:pt x="80" y="325"/>
                            </a:lnTo>
                            <a:lnTo>
                              <a:pt x="84" y="361"/>
                            </a:lnTo>
                            <a:lnTo>
                              <a:pt x="82" y="390"/>
                            </a:lnTo>
                            <a:lnTo>
                              <a:pt x="95" y="384"/>
                            </a:lnTo>
                            <a:lnTo>
                              <a:pt x="106" y="384"/>
                            </a:lnTo>
                            <a:lnTo>
                              <a:pt x="97" y="410"/>
                            </a:lnTo>
                            <a:lnTo>
                              <a:pt x="79" y="428"/>
                            </a:lnTo>
                            <a:lnTo>
                              <a:pt x="80" y="442"/>
                            </a:lnTo>
                            <a:lnTo>
                              <a:pt x="90" y="473"/>
                            </a:lnTo>
                            <a:lnTo>
                              <a:pt x="95" y="497"/>
                            </a:lnTo>
                            <a:lnTo>
                              <a:pt x="126" y="526"/>
                            </a:lnTo>
                            <a:lnTo>
                              <a:pt x="160" y="519"/>
                            </a:lnTo>
                            <a:lnTo>
                              <a:pt x="208" y="515"/>
                            </a:lnTo>
                            <a:lnTo>
                              <a:pt x="230" y="512"/>
                            </a:lnTo>
                            <a:lnTo>
                              <a:pt x="250" y="516"/>
                            </a:lnTo>
                            <a:lnTo>
                              <a:pt x="265" y="523"/>
                            </a:lnTo>
                            <a:lnTo>
                              <a:pt x="276" y="536"/>
                            </a:lnTo>
                            <a:lnTo>
                              <a:pt x="243" y="532"/>
                            </a:lnTo>
                            <a:lnTo>
                              <a:pt x="212" y="530"/>
                            </a:lnTo>
                            <a:lnTo>
                              <a:pt x="182" y="530"/>
                            </a:lnTo>
                            <a:lnTo>
                              <a:pt x="160" y="532"/>
                            </a:lnTo>
                            <a:lnTo>
                              <a:pt x="146" y="553"/>
                            </a:lnTo>
                            <a:lnTo>
                              <a:pt x="197" y="565"/>
                            </a:lnTo>
                            <a:lnTo>
                              <a:pt x="112" y="576"/>
                            </a:lnTo>
                            <a:lnTo>
                              <a:pt x="57" y="579"/>
                            </a:lnTo>
                            <a:lnTo>
                              <a:pt x="90" y="553"/>
                            </a:lnTo>
                            <a:lnTo>
                              <a:pt x="90" y="532"/>
                            </a:lnTo>
                            <a:lnTo>
                              <a:pt x="65" y="491"/>
                            </a:lnTo>
                            <a:lnTo>
                              <a:pt x="61" y="438"/>
                            </a:lnTo>
                            <a:lnTo>
                              <a:pt x="69" y="385"/>
                            </a:lnTo>
                            <a:lnTo>
                              <a:pt x="57" y="374"/>
                            </a:lnTo>
                            <a:lnTo>
                              <a:pt x="64" y="352"/>
                            </a:lnTo>
                            <a:lnTo>
                              <a:pt x="0" y="349"/>
                            </a:lnTo>
                            <a:lnTo>
                              <a:pt x="20" y="329"/>
                            </a:lnTo>
                            <a:lnTo>
                              <a:pt x="51" y="331"/>
                            </a:lnTo>
                            <a:lnTo>
                              <a:pt x="79" y="307"/>
                            </a:lnTo>
                            <a:lnTo>
                              <a:pt x="68" y="289"/>
                            </a:lnTo>
                            <a:lnTo>
                              <a:pt x="79" y="261"/>
                            </a:lnTo>
                            <a:lnTo>
                              <a:pt x="82" y="166"/>
                            </a:lnTo>
                            <a:lnTo>
                              <a:pt x="86" y="109"/>
                            </a:lnTo>
                            <a:lnTo>
                              <a:pt x="101" y="21"/>
                            </a:lnTo>
                            <a:lnTo>
                              <a:pt x="104" y="0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"/>
                      <p:cNvSpPr/>
                      <p:nvPr/>
                    </p:nvSpPr>
                    <p:spPr>
                      <a:xfrm>
                        <a:off x="5670720" y="1830960"/>
                        <a:ext cx="349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9" h="23">
                            <a:moveTo>
                              <a:pt x="119" y="0"/>
                            </a:moveTo>
                            <a:lnTo>
                              <a:pt x="0" y="20"/>
                            </a:lnTo>
                            <a:lnTo>
                              <a:pt x="66" y="23"/>
                            </a:lnTo>
                            <a:lnTo>
                              <a:pt x="119" y="0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88" name=""/>
                      <p:cNvGrpSpPr/>
                      <p:nvPr/>
                    </p:nvGrpSpPr>
                    <p:grpSpPr>
                      <a:xfrm>
                        <a:off x="5625720" y="1729440"/>
                        <a:ext cx="59400" cy="223920"/>
                        <a:chOff x="5625720" y="1729440"/>
                        <a:chExt cx="59400" cy="223920"/>
                      </a:xfrm>
                    </p:grpSpPr>
                    <p:sp>
                      <p:nvSpPr>
                        <p:cNvPr id="589" name=""/>
                        <p:cNvSpPr/>
                        <p:nvPr/>
                      </p:nvSpPr>
                      <p:spPr>
                        <a:xfrm>
                          <a:off x="5627160" y="1731600"/>
                          <a:ext cx="57960" cy="221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9" h="839">
                              <a:moveTo>
                                <a:pt x="84" y="13"/>
                              </a:moveTo>
                              <a:lnTo>
                                <a:pt x="20" y="0"/>
                              </a:lnTo>
                              <a:lnTo>
                                <a:pt x="9" y="38"/>
                              </a:lnTo>
                              <a:lnTo>
                                <a:pt x="0" y="101"/>
                              </a:lnTo>
                              <a:lnTo>
                                <a:pt x="7" y="208"/>
                              </a:lnTo>
                              <a:lnTo>
                                <a:pt x="13" y="247"/>
                              </a:lnTo>
                              <a:lnTo>
                                <a:pt x="31" y="311"/>
                              </a:lnTo>
                              <a:lnTo>
                                <a:pt x="31" y="384"/>
                              </a:lnTo>
                              <a:lnTo>
                                <a:pt x="35" y="473"/>
                              </a:lnTo>
                              <a:lnTo>
                                <a:pt x="43" y="564"/>
                              </a:lnTo>
                              <a:lnTo>
                                <a:pt x="47" y="608"/>
                              </a:lnTo>
                              <a:lnTo>
                                <a:pt x="69" y="680"/>
                              </a:lnTo>
                              <a:lnTo>
                                <a:pt x="84" y="736"/>
                              </a:lnTo>
                              <a:lnTo>
                                <a:pt x="104" y="812"/>
                              </a:lnTo>
                              <a:lnTo>
                                <a:pt x="117" y="839"/>
                              </a:lnTo>
                              <a:lnTo>
                                <a:pt x="176" y="839"/>
                              </a:lnTo>
                              <a:lnTo>
                                <a:pt x="166" y="817"/>
                              </a:lnTo>
                              <a:lnTo>
                                <a:pt x="145" y="762"/>
                              </a:lnTo>
                              <a:lnTo>
                                <a:pt x="133" y="723"/>
                              </a:lnTo>
                              <a:lnTo>
                                <a:pt x="121" y="680"/>
                              </a:lnTo>
                              <a:lnTo>
                                <a:pt x="115" y="635"/>
                              </a:lnTo>
                              <a:lnTo>
                                <a:pt x="115" y="591"/>
                              </a:lnTo>
                              <a:lnTo>
                                <a:pt x="117" y="548"/>
                              </a:lnTo>
                              <a:lnTo>
                                <a:pt x="131" y="480"/>
                              </a:lnTo>
                              <a:lnTo>
                                <a:pt x="142" y="436"/>
                              </a:lnTo>
                              <a:lnTo>
                                <a:pt x="159" y="384"/>
                              </a:lnTo>
                              <a:lnTo>
                                <a:pt x="179" y="325"/>
                              </a:lnTo>
                              <a:lnTo>
                                <a:pt x="183" y="290"/>
                              </a:lnTo>
                              <a:lnTo>
                                <a:pt x="190" y="251"/>
                              </a:lnTo>
                              <a:lnTo>
                                <a:pt x="193" y="226"/>
                              </a:lnTo>
                              <a:lnTo>
                                <a:pt x="105" y="207"/>
                              </a:lnTo>
                              <a:lnTo>
                                <a:pt x="199" y="154"/>
                              </a:lnTo>
                              <a:lnTo>
                                <a:pt x="165" y="126"/>
                              </a:lnTo>
                              <a:lnTo>
                                <a:pt x="142" y="98"/>
                              </a:lnTo>
                              <a:lnTo>
                                <a:pt x="112" y="58"/>
                              </a:lnTo>
                              <a:lnTo>
                                <a:pt x="84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0" name=""/>
                        <p:cNvSpPr/>
                        <p:nvPr/>
                      </p:nvSpPr>
                      <p:spPr>
                        <a:xfrm>
                          <a:off x="5625720" y="1729440"/>
                          <a:ext cx="57240" cy="221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9" h="838">
                              <a:moveTo>
                                <a:pt x="84" y="12"/>
                              </a:moveTo>
                              <a:lnTo>
                                <a:pt x="20" y="0"/>
                              </a:lnTo>
                              <a:lnTo>
                                <a:pt x="9" y="37"/>
                              </a:lnTo>
                              <a:lnTo>
                                <a:pt x="0" y="101"/>
                              </a:lnTo>
                              <a:lnTo>
                                <a:pt x="6" y="207"/>
                              </a:lnTo>
                              <a:lnTo>
                                <a:pt x="12" y="246"/>
                              </a:lnTo>
                              <a:lnTo>
                                <a:pt x="31" y="311"/>
                              </a:lnTo>
                              <a:lnTo>
                                <a:pt x="31" y="384"/>
                              </a:lnTo>
                              <a:lnTo>
                                <a:pt x="34" y="473"/>
                              </a:lnTo>
                              <a:lnTo>
                                <a:pt x="43" y="563"/>
                              </a:lnTo>
                              <a:lnTo>
                                <a:pt x="46" y="608"/>
                              </a:lnTo>
                              <a:lnTo>
                                <a:pt x="68" y="679"/>
                              </a:lnTo>
                              <a:lnTo>
                                <a:pt x="84" y="736"/>
                              </a:lnTo>
                              <a:lnTo>
                                <a:pt x="104" y="811"/>
                              </a:lnTo>
                              <a:lnTo>
                                <a:pt x="117" y="838"/>
                              </a:lnTo>
                              <a:lnTo>
                                <a:pt x="175" y="838"/>
                              </a:lnTo>
                              <a:lnTo>
                                <a:pt x="166" y="817"/>
                              </a:lnTo>
                              <a:lnTo>
                                <a:pt x="145" y="762"/>
                              </a:lnTo>
                              <a:lnTo>
                                <a:pt x="133" y="723"/>
                              </a:lnTo>
                              <a:lnTo>
                                <a:pt x="121" y="679"/>
                              </a:lnTo>
                              <a:lnTo>
                                <a:pt x="115" y="635"/>
                              </a:lnTo>
                              <a:lnTo>
                                <a:pt x="115" y="590"/>
                              </a:lnTo>
                              <a:lnTo>
                                <a:pt x="117" y="548"/>
                              </a:lnTo>
                              <a:lnTo>
                                <a:pt x="130" y="480"/>
                              </a:lnTo>
                              <a:lnTo>
                                <a:pt x="141" y="435"/>
                              </a:lnTo>
                              <a:lnTo>
                                <a:pt x="158" y="384"/>
                              </a:lnTo>
                              <a:lnTo>
                                <a:pt x="179" y="325"/>
                              </a:lnTo>
                              <a:lnTo>
                                <a:pt x="183" y="290"/>
                              </a:lnTo>
                              <a:lnTo>
                                <a:pt x="190" y="251"/>
                              </a:lnTo>
                              <a:lnTo>
                                <a:pt x="192" y="225"/>
                              </a:lnTo>
                              <a:lnTo>
                                <a:pt x="105" y="206"/>
                              </a:lnTo>
                              <a:lnTo>
                                <a:pt x="199" y="153"/>
                              </a:lnTo>
                              <a:lnTo>
                                <a:pt x="164" y="125"/>
                              </a:lnTo>
                              <a:lnTo>
                                <a:pt x="141" y="97"/>
                              </a:lnTo>
                              <a:lnTo>
                                <a:pt x="112" y="57"/>
                              </a:lnTo>
                              <a:lnTo>
                                <a:pt x="84" y="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7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591" name=""/>
                <p:cNvGrpSpPr/>
                <p:nvPr/>
              </p:nvGrpSpPr>
              <p:grpSpPr>
                <a:xfrm>
                  <a:off x="5521320" y="1627560"/>
                  <a:ext cx="131400" cy="146880"/>
                  <a:chOff x="5521320" y="1627560"/>
                  <a:chExt cx="131400" cy="146880"/>
                </a:xfrm>
              </p:grpSpPr>
              <p:sp>
                <p:nvSpPr>
                  <p:cNvPr id="592" name=""/>
                  <p:cNvSpPr/>
                  <p:nvPr/>
                </p:nvSpPr>
                <p:spPr>
                  <a:xfrm>
                    <a:off x="5525640" y="1631880"/>
                    <a:ext cx="12708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0" h="542">
                        <a:moveTo>
                          <a:pt x="15" y="274"/>
                        </a:moveTo>
                        <a:lnTo>
                          <a:pt x="4" y="279"/>
                        </a:lnTo>
                        <a:lnTo>
                          <a:pt x="0" y="290"/>
                        </a:lnTo>
                        <a:lnTo>
                          <a:pt x="3" y="314"/>
                        </a:lnTo>
                        <a:lnTo>
                          <a:pt x="14" y="347"/>
                        </a:lnTo>
                        <a:lnTo>
                          <a:pt x="25" y="367"/>
                        </a:lnTo>
                        <a:lnTo>
                          <a:pt x="44" y="386"/>
                        </a:lnTo>
                        <a:lnTo>
                          <a:pt x="70" y="404"/>
                        </a:lnTo>
                        <a:lnTo>
                          <a:pt x="87" y="413"/>
                        </a:lnTo>
                        <a:lnTo>
                          <a:pt x="106" y="420"/>
                        </a:lnTo>
                        <a:lnTo>
                          <a:pt x="117" y="419"/>
                        </a:lnTo>
                        <a:lnTo>
                          <a:pt x="125" y="421"/>
                        </a:lnTo>
                        <a:lnTo>
                          <a:pt x="128" y="435"/>
                        </a:lnTo>
                        <a:lnTo>
                          <a:pt x="133" y="449"/>
                        </a:lnTo>
                        <a:lnTo>
                          <a:pt x="139" y="462"/>
                        </a:lnTo>
                        <a:lnTo>
                          <a:pt x="148" y="471"/>
                        </a:lnTo>
                        <a:lnTo>
                          <a:pt x="157" y="480"/>
                        </a:lnTo>
                        <a:lnTo>
                          <a:pt x="173" y="492"/>
                        </a:lnTo>
                        <a:lnTo>
                          <a:pt x="193" y="502"/>
                        </a:lnTo>
                        <a:lnTo>
                          <a:pt x="218" y="527"/>
                        </a:lnTo>
                        <a:lnTo>
                          <a:pt x="232" y="536"/>
                        </a:lnTo>
                        <a:lnTo>
                          <a:pt x="243" y="541"/>
                        </a:lnTo>
                        <a:lnTo>
                          <a:pt x="261" y="542"/>
                        </a:lnTo>
                        <a:lnTo>
                          <a:pt x="276" y="541"/>
                        </a:lnTo>
                        <a:lnTo>
                          <a:pt x="290" y="537"/>
                        </a:lnTo>
                        <a:lnTo>
                          <a:pt x="302" y="533"/>
                        </a:lnTo>
                        <a:lnTo>
                          <a:pt x="319" y="523"/>
                        </a:lnTo>
                        <a:lnTo>
                          <a:pt x="334" y="515"/>
                        </a:lnTo>
                        <a:lnTo>
                          <a:pt x="349" y="502"/>
                        </a:lnTo>
                        <a:lnTo>
                          <a:pt x="370" y="502"/>
                        </a:lnTo>
                        <a:lnTo>
                          <a:pt x="389" y="490"/>
                        </a:lnTo>
                        <a:lnTo>
                          <a:pt x="406" y="460"/>
                        </a:lnTo>
                        <a:lnTo>
                          <a:pt x="420" y="442"/>
                        </a:lnTo>
                        <a:lnTo>
                          <a:pt x="433" y="420"/>
                        </a:lnTo>
                        <a:lnTo>
                          <a:pt x="439" y="388"/>
                        </a:lnTo>
                        <a:lnTo>
                          <a:pt x="440" y="360"/>
                        </a:lnTo>
                        <a:lnTo>
                          <a:pt x="436" y="331"/>
                        </a:lnTo>
                        <a:lnTo>
                          <a:pt x="428" y="310"/>
                        </a:lnTo>
                        <a:lnTo>
                          <a:pt x="424" y="288"/>
                        </a:lnTo>
                        <a:lnTo>
                          <a:pt x="422" y="257"/>
                        </a:lnTo>
                        <a:lnTo>
                          <a:pt x="413" y="219"/>
                        </a:lnTo>
                        <a:lnTo>
                          <a:pt x="400" y="190"/>
                        </a:lnTo>
                        <a:lnTo>
                          <a:pt x="388" y="172"/>
                        </a:lnTo>
                        <a:lnTo>
                          <a:pt x="381" y="152"/>
                        </a:lnTo>
                        <a:lnTo>
                          <a:pt x="367" y="121"/>
                        </a:lnTo>
                        <a:lnTo>
                          <a:pt x="347" y="88"/>
                        </a:lnTo>
                        <a:lnTo>
                          <a:pt x="325" y="60"/>
                        </a:lnTo>
                        <a:lnTo>
                          <a:pt x="304" y="36"/>
                        </a:lnTo>
                        <a:lnTo>
                          <a:pt x="276" y="17"/>
                        </a:lnTo>
                        <a:lnTo>
                          <a:pt x="244" y="4"/>
                        </a:lnTo>
                        <a:lnTo>
                          <a:pt x="215" y="0"/>
                        </a:lnTo>
                        <a:lnTo>
                          <a:pt x="189" y="0"/>
                        </a:lnTo>
                        <a:lnTo>
                          <a:pt x="150" y="4"/>
                        </a:lnTo>
                        <a:lnTo>
                          <a:pt x="149" y="7"/>
                        </a:lnTo>
                        <a:lnTo>
                          <a:pt x="121" y="15"/>
                        </a:lnTo>
                        <a:lnTo>
                          <a:pt x="87" y="31"/>
                        </a:lnTo>
                        <a:lnTo>
                          <a:pt x="55" y="49"/>
                        </a:lnTo>
                        <a:lnTo>
                          <a:pt x="37" y="67"/>
                        </a:lnTo>
                        <a:lnTo>
                          <a:pt x="22" y="85"/>
                        </a:lnTo>
                        <a:lnTo>
                          <a:pt x="14" y="110"/>
                        </a:lnTo>
                        <a:lnTo>
                          <a:pt x="4" y="152"/>
                        </a:lnTo>
                        <a:lnTo>
                          <a:pt x="4" y="190"/>
                        </a:lnTo>
                        <a:lnTo>
                          <a:pt x="8" y="229"/>
                        </a:lnTo>
                        <a:lnTo>
                          <a:pt x="15" y="274"/>
                        </a:lnTo>
                        <a:close/>
                      </a:path>
                    </a:pathLst>
                  </a:custGeom>
                  <a:solidFill>
                    <a:srgbClr val="f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93" name=""/>
                  <p:cNvGrpSpPr/>
                  <p:nvPr/>
                </p:nvGrpSpPr>
                <p:grpSpPr>
                  <a:xfrm>
                    <a:off x="5544000" y="1676520"/>
                    <a:ext cx="100800" cy="87480"/>
                    <a:chOff x="5544000" y="1676520"/>
                    <a:chExt cx="100800" cy="87480"/>
                  </a:xfrm>
                </p:grpSpPr>
                <p:grpSp>
                  <p:nvGrpSpPr>
                    <p:cNvPr id="594" name=""/>
                    <p:cNvGrpSpPr/>
                    <p:nvPr/>
                  </p:nvGrpSpPr>
                  <p:grpSpPr>
                    <a:xfrm>
                      <a:off x="5544000" y="1676520"/>
                      <a:ext cx="100800" cy="87480"/>
                      <a:chOff x="5544000" y="1676520"/>
                      <a:chExt cx="100800" cy="87480"/>
                    </a:xfrm>
                  </p:grpSpPr>
                  <p:sp>
                    <p:nvSpPr>
                      <p:cNvPr id="595" name=""/>
                      <p:cNvSpPr/>
                      <p:nvPr/>
                    </p:nvSpPr>
                    <p:spPr>
                      <a:xfrm>
                        <a:off x="5609880" y="1676520"/>
                        <a:ext cx="27720" cy="41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155">
                            <a:moveTo>
                              <a:pt x="64" y="0"/>
                            </a:moveTo>
                            <a:lnTo>
                              <a:pt x="64" y="11"/>
                            </a:lnTo>
                            <a:lnTo>
                              <a:pt x="61" y="21"/>
                            </a:lnTo>
                            <a:lnTo>
                              <a:pt x="54" y="26"/>
                            </a:lnTo>
                            <a:lnTo>
                              <a:pt x="42" y="36"/>
                            </a:lnTo>
                            <a:lnTo>
                              <a:pt x="28" y="49"/>
                            </a:lnTo>
                            <a:lnTo>
                              <a:pt x="89" y="37"/>
                            </a:lnTo>
                            <a:lnTo>
                              <a:pt x="95" y="40"/>
                            </a:lnTo>
                            <a:lnTo>
                              <a:pt x="83" y="46"/>
                            </a:lnTo>
                            <a:lnTo>
                              <a:pt x="75" y="54"/>
                            </a:lnTo>
                            <a:lnTo>
                              <a:pt x="66" y="61"/>
                            </a:lnTo>
                            <a:lnTo>
                              <a:pt x="59" y="64"/>
                            </a:lnTo>
                            <a:lnTo>
                              <a:pt x="48" y="64"/>
                            </a:lnTo>
                            <a:lnTo>
                              <a:pt x="31" y="63"/>
                            </a:lnTo>
                            <a:lnTo>
                              <a:pt x="49" y="68"/>
                            </a:lnTo>
                            <a:lnTo>
                              <a:pt x="55" y="71"/>
                            </a:lnTo>
                            <a:lnTo>
                              <a:pt x="67" y="71"/>
                            </a:lnTo>
                            <a:lnTo>
                              <a:pt x="77" y="68"/>
                            </a:lnTo>
                            <a:lnTo>
                              <a:pt x="88" y="62"/>
                            </a:lnTo>
                            <a:lnTo>
                              <a:pt x="97" y="54"/>
                            </a:lnTo>
                            <a:lnTo>
                              <a:pt x="76" y="74"/>
                            </a:lnTo>
                            <a:lnTo>
                              <a:pt x="65" y="76"/>
                            </a:lnTo>
                            <a:lnTo>
                              <a:pt x="55" y="76"/>
                            </a:lnTo>
                            <a:lnTo>
                              <a:pt x="47" y="74"/>
                            </a:lnTo>
                            <a:lnTo>
                              <a:pt x="39" y="71"/>
                            </a:lnTo>
                            <a:lnTo>
                              <a:pt x="32" y="71"/>
                            </a:lnTo>
                            <a:lnTo>
                              <a:pt x="25" y="71"/>
                            </a:lnTo>
                            <a:lnTo>
                              <a:pt x="30" y="92"/>
                            </a:lnTo>
                            <a:lnTo>
                              <a:pt x="38" y="107"/>
                            </a:lnTo>
                            <a:lnTo>
                              <a:pt x="45" y="114"/>
                            </a:lnTo>
                            <a:lnTo>
                              <a:pt x="53" y="119"/>
                            </a:lnTo>
                            <a:lnTo>
                              <a:pt x="59" y="127"/>
                            </a:lnTo>
                            <a:lnTo>
                              <a:pt x="62" y="135"/>
                            </a:lnTo>
                            <a:lnTo>
                              <a:pt x="64" y="147"/>
                            </a:lnTo>
                            <a:lnTo>
                              <a:pt x="59" y="155"/>
                            </a:lnTo>
                            <a:lnTo>
                              <a:pt x="56" y="137"/>
                            </a:lnTo>
                            <a:lnTo>
                              <a:pt x="53" y="128"/>
                            </a:lnTo>
                            <a:lnTo>
                              <a:pt x="45" y="124"/>
                            </a:lnTo>
                            <a:lnTo>
                              <a:pt x="34" y="119"/>
                            </a:lnTo>
                            <a:lnTo>
                              <a:pt x="27" y="116"/>
                            </a:lnTo>
                            <a:lnTo>
                              <a:pt x="20" y="110"/>
                            </a:lnTo>
                            <a:lnTo>
                              <a:pt x="11" y="102"/>
                            </a:lnTo>
                            <a:lnTo>
                              <a:pt x="5" y="92"/>
                            </a:lnTo>
                            <a:lnTo>
                              <a:pt x="2" y="82"/>
                            </a:lnTo>
                            <a:lnTo>
                              <a:pt x="0" y="69"/>
                            </a:lnTo>
                            <a:lnTo>
                              <a:pt x="2" y="57"/>
                            </a:lnTo>
                            <a:lnTo>
                              <a:pt x="5" y="43"/>
                            </a:lnTo>
                            <a:lnTo>
                              <a:pt x="64" y="0"/>
                            </a:lnTo>
                            <a:close/>
                          </a:path>
                        </a:pathLst>
                      </a:custGeom>
                      <a:solidFill>
                        <a:srgbClr val="df9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760" bIns="-5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96" name=""/>
                      <p:cNvGrpSpPr/>
                      <p:nvPr/>
                    </p:nvGrpSpPr>
                    <p:grpSpPr>
                      <a:xfrm>
                        <a:off x="5544000" y="1703160"/>
                        <a:ext cx="100800" cy="60840"/>
                        <a:chOff x="5544000" y="1703160"/>
                        <a:chExt cx="100800" cy="60840"/>
                      </a:xfrm>
                    </p:grpSpPr>
                    <p:sp>
                      <p:nvSpPr>
                        <p:cNvPr id="597" name=""/>
                        <p:cNvSpPr/>
                        <p:nvPr/>
                      </p:nvSpPr>
                      <p:spPr>
                        <a:xfrm>
                          <a:off x="5544000" y="1703160"/>
                          <a:ext cx="82440" cy="60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4" h="229">
                              <a:moveTo>
                                <a:pt x="12" y="0"/>
                              </a:moveTo>
                              <a:lnTo>
                                <a:pt x="16" y="22"/>
                              </a:lnTo>
                              <a:lnTo>
                                <a:pt x="25" y="42"/>
                              </a:lnTo>
                              <a:lnTo>
                                <a:pt x="44" y="63"/>
                              </a:lnTo>
                              <a:lnTo>
                                <a:pt x="55" y="74"/>
                              </a:lnTo>
                              <a:lnTo>
                                <a:pt x="68" y="82"/>
                              </a:lnTo>
                              <a:lnTo>
                                <a:pt x="86" y="82"/>
                              </a:lnTo>
                              <a:lnTo>
                                <a:pt x="112" y="79"/>
                              </a:lnTo>
                              <a:lnTo>
                                <a:pt x="136" y="79"/>
                              </a:lnTo>
                              <a:lnTo>
                                <a:pt x="150" y="74"/>
                              </a:lnTo>
                              <a:lnTo>
                                <a:pt x="162" y="75"/>
                              </a:lnTo>
                              <a:lnTo>
                                <a:pt x="161" y="90"/>
                              </a:lnTo>
                              <a:lnTo>
                                <a:pt x="164" y="107"/>
                              </a:lnTo>
                              <a:lnTo>
                                <a:pt x="152" y="108"/>
                              </a:lnTo>
                              <a:lnTo>
                                <a:pt x="137" y="110"/>
                              </a:lnTo>
                              <a:lnTo>
                                <a:pt x="136" y="122"/>
                              </a:lnTo>
                              <a:lnTo>
                                <a:pt x="139" y="136"/>
                              </a:lnTo>
                              <a:lnTo>
                                <a:pt x="144" y="152"/>
                              </a:lnTo>
                              <a:lnTo>
                                <a:pt x="155" y="163"/>
                              </a:lnTo>
                              <a:lnTo>
                                <a:pt x="170" y="168"/>
                              </a:lnTo>
                              <a:lnTo>
                                <a:pt x="191" y="167"/>
                              </a:lnTo>
                              <a:lnTo>
                                <a:pt x="202" y="167"/>
                              </a:lnTo>
                              <a:lnTo>
                                <a:pt x="213" y="177"/>
                              </a:lnTo>
                              <a:lnTo>
                                <a:pt x="226" y="188"/>
                              </a:lnTo>
                              <a:lnTo>
                                <a:pt x="243" y="194"/>
                              </a:lnTo>
                              <a:lnTo>
                                <a:pt x="260" y="194"/>
                              </a:lnTo>
                              <a:lnTo>
                                <a:pt x="269" y="193"/>
                              </a:lnTo>
                              <a:lnTo>
                                <a:pt x="276" y="206"/>
                              </a:lnTo>
                              <a:lnTo>
                                <a:pt x="284" y="215"/>
                              </a:lnTo>
                              <a:lnTo>
                                <a:pt x="270" y="223"/>
                              </a:lnTo>
                              <a:lnTo>
                                <a:pt x="256" y="229"/>
                              </a:lnTo>
                              <a:lnTo>
                                <a:pt x="236" y="229"/>
                              </a:lnTo>
                              <a:lnTo>
                                <a:pt x="217" y="229"/>
                              </a:lnTo>
                              <a:lnTo>
                                <a:pt x="214" y="229"/>
                              </a:lnTo>
                              <a:lnTo>
                                <a:pt x="180" y="224"/>
                              </a:lnTo>
                              <a:lnTo>
                                <a:pt x="162" y="218"/>
                              </a:lnTo>
                              <a:lnTo>
                                <a:pt x="139" y="204"/>
                              </a:lnTo>
                              <a:lnTo>
                                <a:pt x="109" y="177"/>
                              </a:lnTo>
                              <a:lnTo>
                                <a:pt x="68" y="142"/>
                              </a:lnTo>
                              <a:lnTo>
                                <a:pt x="29" y="103"/>
                              </a:lnTo>
                              <a:lnTo>
                                <a:pt x="12" y="82"/>
                              </a:lnTo>
                              <a:lnTo>
                                <a:pt x="1" y="61"/>
                              </a:lnTo>
                              <a:lnTo>
                                <a:pt x="0" y="45"/>
                              </a:lnTo>
                              <a:lnTo>
                                <a:pt x="1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4040" bIns="14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8" name=""/>
                        <p:cNvSpPr/>
                        <p:nvPr/>
                      </p:nvSpPr>
                      <p:spPr>
                        <a:xfrm>
                          <a:off x="5596920" y="1713240"/>
                          <a:ext cx="13680" cy="32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" h="121">
                              <a:moveTo>
                                <a:pt x="49" y="3"/>
                              </a:moveTo>
                              <a:lnTo>
                                <a:pt x="37" y="0"/>
                              </a:lnTo>
                              <a:lnTo>
                                <a:pt x="28" y="1"/>
                              </a:lnTo>
                              <a:lnTo>
                                <a:pt x="21" y="7"/>
                              </a:lnTo>
                              <a:lnTo>
                                <a:pt x="15" y="14"/>
                              </a:lnTo>
                              <a:lnTo>
                                <a:pt x="10" y="26"/>
                              </a:lnTo>
                              <a:lnTo>
                                <a:pt x="10" y="39"/>
                              </a:lnTo>
                              <a:lnTo>
                                <a:pt x="8" y="63"/>
                              </a:lnTo>
                              <a:lnTo>
                                <a:pt x="0" y="86"/>
                              </a:lnTo>
                              <a:lnTo>
                                <a:pt x="8" y="96"/>
                              </a:lnTo>
                              <a:lnTo>
                                <a:pt x="14" y="121"/>
                              </a:lnTo>
                              <a:lnTo>
                                <a:pt x="11" y="88"/>
                              </a:lnTo>
                              <a:lnTo>
                                <a:pt x="14" y="68"/>
                              </a:lnTo>
                              <a:lnTo>
                                <a:pt x="14" y="50"/>
                              </a:lnTo>
                              <a:lnTo>
                                <a:pt x="15" y="42"/>
                              </a:lnTo>
                              <a:lnTo>
                                <a:pt x="20" y="39"/>
                              </a:lnTo>
                              <a:lnTo>
                                <a:pt x="28" y="40"/>
                              </a:lnTo>
                              <a:lnTo>
                                <a:pt x="34" y="40"/>
                              </a:lnTo>
                              <a:lnTo>
                                <a:pt x="25" y="34"/>
                              </a:lnTo>
                              <a:lnTo>
                                <a:pt x="22" y="27"/>
                              </a:lnTo>
                              <a:lnTo>
                                <a:pt x="21" y="19"/>
                              </a:lnTo>
                              <a:lnTo>
                                <a:pt x="26" y="10"/>
                              </a:lnTo>
                              <a:lnTo>
                                <a:pt x="36" y="6"/>
                              </a:lnTo>
                              <a:lnTo>
                                <a:pt x="49" y="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4400" bIns="-14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9" name=""/>
                        <p:cNvSpPr/>
                        <p:nvPr/>
                      </p:nvSpPr>
                      <p:spPr>
                        <a:xfrm>
                          <a:off x="5607360" y="1717200"/>
                          <a:ext cx="8640" cy="5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22">
                              <a:moveTo>
                                <a:pt x="0" y="22"/>
                              </a:moveTo>
                              <a:lnTo>
                                <a:pt x="7" y="15"/>
                              </a:lnTo>
                              <a:lnTo>
                                <a:pt x="11" y="8"/>
                              </a:lnTo>
                              <a:lnTo>
                                <a:pt x="17" y="0"/>
                              </a:lnTo>
                              <a:lnTo>
                                <a:pt x="17" y="12"/>
                              </a:lnTo>
                              <a:lnTo>
                                <a:pt x="22" y="19"/>
                              </a:lnTo>
                              <a:lnTo>
                                <a:pt x="31" y="21"/>
                              </a:lnTo>
                              <a:lnTo>
                                <a:pt x="17" y="21"/>
                              </a:lnTo>
                              <a:lnTo>
                                <a:pt x="0" y="2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400" bIns="-41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0" name=""/>
                        <p:cNvSpPr/>
                        <p:nvPr/>
                      </p:nvSpPr>
                      <p:spPr>
                        <a:xfrm>
                          <a:off x="5615280" y="1719720"/>
                          <a:ext cx="10440" cy="2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6" h="13">
                              <a:moveTo>
                                <a:pt x="0" y="13"/>
                              </a:moveTo>
                              <a:lnTo>
                                <a:pt x="22" y="10"/>
                              </a:lnTo>
                              <a:lnTo>
                                <a:pt x="29" y="6"/>
                              </a:lnTo>
                              <a:lnTo>
                                <a:pt x="36" y="0"/>
                              </a:lnTo>
                              <a:lnTo>
                                <a:pt x="33" y="10"/>
                              </a:lnTo>
                              <a:lnTo>
                                <a:pt x="24" y="13"/>
                              </a:lnTo>
                              <a:lnTo>
                                <a:pt x="0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1" name=""/>
                        <p:cNvSpPr/>
                        <p:nvPr/>
                      </p:nvSpPr>
                      <p:spPr>
                        <a:xfrm>
                          <a:off x="5627520" y="1719720"/>
                          <a:ext cx="17280" cy="10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2" h="44">
                              <a:moveTo>
                                <a:pt x="0" y="2"/>
                              </a:moveTo>
                              <a:lnTo>
                                <a:pt x="13" y="7"/>
                              </a:lnTo>
                              <a:lnTo>
                                <a:pt x="24" y="11"/>
                              </a:lnTo>
                              <a:lnTo>
                                <a:pt x="37" y="18"/>
                              </a:lnTo>
                              <a:lnTo>
                                <a:pt x="47" y="29"/>
                              </a:lnTo>
                              <a:lnTo>
                                <a:pt x="62" y="44"/>
                              </a:lnTo>
                              <a:lnTo>
                                <a:pt x="55" y="28"/>
                              </a:lnTo>
                              <a:lnTo>
                                <a:pt x="46" y="18"/>
                              </a:lnTo>
                              <a:lnTo>
                                <a:pt x="38" y="10"/>
                              </a:lnTo>
                              <a:lnTo>
                                <a:pt x="28" y="5"/>
                              </a:lnTo>
                              <a:lnTo>
                                <a:pt x="16" y="0"/>
                              </a:lnTo>
                              <a:lnTo>
                                <a:pt x="0" y="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00" bIns="-36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2" name=""/>
                        <p:cNvSpPr/>
                        <p:nvPr/>
                      </p:nvSpPr>
                      <p:spPr>
                        <a:xfrm>
                          <a:off x="5620320" y="1725120"/>
                          <a:ext cx="2520" cy="6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" h="25">
                              <a:moveTo>
                                <a:pt x="0" y="0"/>
                              </a:moveTo>
                              <a:lnTo>
                                <a:pt x="11" y="14"/>
                              </a:lnTo>
                              <a:lnTo>
                                <a:pt x="9" y="25"/>
                              </a:lnTo>
                              <a:lnTo>
                                <a:pt x="2" y="1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3" name=""/>
                        <p:cNvSpPr/>
                        <p:nvPr/>
                      </p:nvSpPr>
                      <p:spPr>
                        <a:xfrm>
                          <a:off x="5605560" y="1728360"/>
                          <a:ext cx="32040" cy="11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2" h="44">
                              <a:moveTo>
                                <a:pt x="0" y="44"/>
                              </a:moveTo>
                              <a:lnTo>
                                <a:pt x="16" y="39"/>
                              </a:lnTo>
                              <a:lnTo>
                                <a:pt x="28" y="34"/>
                              </a:lnTo>
                              <a:lnTo>
                                <a:pt x="41" y="25"/>
                              </a:lnTo>
                              <a:lnTo>
                                <a:pt x="53" y="18"/>
                              </a:lnTo>
                              <a:lnTo>
                                <a:pt x="67" y="18"/>
                              </a:lnTo>
                              <a:lnTo>
                                <a:pt x="70" y="8"/>
                              </a:lnTo>
                              <a:lnTo>
                                <a:pt x="80" y="5"/>
                              </a:lnTo>
                              <a:lnTo>
                                <a:pt x="93" y="4"/>
                              </a:lnTo>
                              <a:lnTo>
                                <a:pt x="104" y="4"/>
                              </a:lnTo>
                              <a:lnTo>
                                <a:pt x="112" y="0"/>
                              </a:lnTo>
                              <a:lnTo>
                                <a:pt x="95" y="11"/>
                              </a:lnTo>
                              <a:lnTo>
                                <a:pt x="85" y="14"/>
                              </a:lnTo>
                              <a:lnTo>
                                <a:pt x="74" y="21"/>
                              </a:lnTo>
                              <a:lnTo>
                                <a:pt x="67" y="28"/>
                              </a:lnTo>
                              <a:lnTo>
                                <a:pt x="56" y="30"/>
                              </a:lnTo>
                              <a:lnTo>
                                <a:pt x="45" y="34"/>
                              </a:lnTo>
                              <a:lnTo>
                                <a:pt x="31" y="40"/>
                              </a:lnTo>
                              <a:lnTo>
                                <a:pt x="20" y="44"/>
                              </a:lnTo>
                              <a:lnTo>
                                <a:pt x="0" y="4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4" name=""/>
                        <p:cNvSpPr/>
                        <p:nvPr/>
                      </p:nvSpPr>
                      <p:spPr>
                        <a:xfrm>
                          <a:off x="5609160" y="1735560"/>
                          <a:ext cx="27000" cy="7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5" h="30">
                              <a:moveTo>
                                <a:pt x="0" y="24"/>
                              </a:moveTo>
                              <a:lnTo>
                                <a:pt x="23" y="26"/>
                              </a:lnTo>
                              <a:lnTo>
                                <a:pt x="45" y="23"/>
                              </a:lnTo>
                              <a:lnTo>
                                <a:pt x="53" y="18"/>
                              </a:lnTo>
                              <a:lnTo>
                                <a:pt x="63" y="12"/>
                              </a:lnTo>
                              <a:lnTo>
                                <a:pt x="72" y="6"/>
                              </a:lnTo>
                              <a:lnTo>
                                <a:pt x="81" y="5"/>
                              </a:lnTo>
                              <a:lnTo>
                                <a:pt x="95" y="0"/>
                              </a:lnTo>
                              <a:lnTo>
                                <a:pt x="84" y="9"/>
                              </a:lnTo>
                              <a:lnTo>
                                <a:pt x="72" y="10"/>
                              </a:lnTo>
                              <a:lnTo>
                                <a:pt x="63" y="17"/>
                              </a:lnTo>
                              <a:lnTo>
                                <a:pt x="52" y="25"/>
                              </a:lnTo>
                              <a:lnTo>
                                <a:pt x="44" y="30"/>
                              </a:lnTo>
                              <a:lnTo>
                                <a:pt x="30" y="30"/>
                              </a:lnTo>
                              <a:lnTo>
                                <a:pt x="16" y="27"/>
                              </a:lnTo>
                              <a:lnTo>
                                <a:pt x="0" y="2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605" name=""/>
                      <p:cNvSpPr/>
                      <p:nvPr/>
                    </p:nvSpPr>
                    <p:spPr>
                      <a:xfrm>
                        <a:off x="5569920" y="1702440"/>
                        <a:ext cx="2160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5" h="55">
                            <a:moveTo>
                              <a:pt x="74" y="0"/>
                            </a:moveTo>
                            <a:lnTo>
                              <a:pt x="75" y="22"/>
                            </a:lnTo>
                            <a:lnTo>
                              <a:pt x="72" y="35"/>
                            </a:lnTo>
                            <a:lnTo>
                              <a:pt x="64" y="47"/>
                            </a:lnTo>
                            <a:lnTo>
                              <a:pt x="51" y="52"/>
                            </a:lnTo>
                            <a:lnTo>
                              <a:pt x="33" y="55"/>
                            </a:lnTo>
                            <a:lnTo>
                              <a:pt x="20" y="54"/>
                            </a:lnTo>
                            <a:lnTo>
                              <a:pt x="11" y="49"/>
                            </a:lnTo>
                            <a:lnTo>
                              <a:pt x="5" y="44"/>
                            </a:lnTo>
                            <a:lnTo>
                              <a:pt x="0" y="38"/>
                            </a:lnTo>
                            <a:lnTo>
                              <a:pt x="3" y="34"/>
                            </a:lnTo>
                            <a:lnTo>
                              <a:pt x="13" y="44"/>
                            </a:lnTo>
                            <a:lnTo>
                              <a:pt x="22" y="50"/>
                            </a:lnTo>
                            <a:lnTo>
                              <a:pt x="35" y="52"/>
                            </a:lnTo>
                            <a:lnTo>
                              <a:pt x="50" y="50"/>
                            </a:lnTo>
                            <a:lnTo>
                              <a:pt x="58" y="42"/>
                            </a:lnTo>
                            <a:lnTo>
                              <a:pt x="64" y="31"/>
                            </a:lnTo>
                            <a:lnTo>
                              <a:pt x="69" y="23"/>
                            </a:lnTo>
                            <a:lnTo>
                              <a:pt x="72" y="14"/>
                            </a:lnTo>
                            <a:lnTo>
                              <a:pt x="61" y="21"/>
                            </a:lnTo>
                            <a:lnTo>
                              <a:pt x="51" y="24"/>
                            </a:lnTo>
                            <a:lnTo>
                              <a:pt x="38" y="24"/>
                            </a:lnTo>
                            <a:lnTo>
                              <a:pt x="24" y="24"/>
                            </a:lnTo>
                            <a:lnTo>
                              <a:pt x="61" y="12"/>
                            </a:lnTo>
                            <a:lnTo>
                              <a:pt x="74" y="0"/>
                            </a:lnTo>
                            <a:close/>
                          </a:path>
                        </a:pathLst>
                      </a:custGeom>
                      <a:solidFill>
                        <a:srgbClr val="df9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6" name=""/>
                    <p:cNvGrpSpPr/>
                    <p:nvPr/>
                  </p:nvGrpSpPr>
                  <p:grpSpPr>
                    <a:xfrm>
                      <a:off x="5616000" y="1685160"/>
                      <a:ext cx="20520" cy="7560"/>
                      <a:chOff x="5616000" y="1685160"/>
                      <a:chExt cx="20520" cy="7560"/>
                    </a:xfrm>
                  </p:grpSpPr>
                  <p:sp>
                    <p:nvSpPr>
                      <p:cNvPr id="607" name=""/>
                      <p:cNvSpPr/>
                      <p:nvPr/>
                    </p:nvSpPr>
                    <p:spPr>
                      <a:xfrm>
                        <a:off x="5616000" y="1685160"/>
                        <a:ext cx="2052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28">
                            <a:moveTo>
                              <a:pt x="0" y="26"/>
                            </a:moveTo>
                            <a:lnTo>
                              <a:pt x="7" y="16"/>
                            </a:lnTo>
                            <a:lnTo>
                              <a:pt x="14" y="10"/>
                            </a:lnTo>
                            <a:lnTo>
                              <a:pt x="22" y="4"/>
                            </a:lnTo>
                            <a:lnTo>
                              <a:pt x="33" y="1"/>
                            </a:lnTo>
                            <a:lnTo>
                              <a:pt x="44" y="0"/>
                            </a:lnTo>
                            <a:lnTo>
                              <a:pt x="55" y="1"/>
                            </a:lnTo>
                            <a:lnTo>
                              <a:pt x="70" y="6"/>
                            </a:lnTo>
                            <a:lnTo>
                              <a:pt x="53" y="9"/>
                            </a:lnTo>
                            <a:lnTo>
                              <a:pt x="46" y="16"/>
                            </a:lnTo>
                            <a:lnTo>
                              <a:pt x="38" y="23"/>
                            </a:lnTo>
                            <a:lnTo>
                              <a:pt x="31" y="27"/>
                            </a:lnTo>
                            <a:lnTo>
                              <a:pt x="22" y="28"/>
                            </a:lnTo>
                            <a:lnTo>
                              <a:pt x="0" y="2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8" name=""/>
                      <p:cNvSpPr/>
                      <p:nvPr/>
                    </p:nvSpPr>
                    <p:spPr>
                      <a:xfrm>
                        <a:off x="5616000" y="1685160"/>
                        <a:ext cx="1980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29">
                            <a:moveTo>
                              <a:pt x="0" y="25"/>
                            </a:moveTo>
                            <a:lnTo>
                              <a:pt x="6" y="16"/>
                            </a:lnTo>
                            <a:lnTo>
                              <a:pt x="14" y="10"/>
                            </a:lnTo>
                            <a:lnTo>
                              <a:pt x="22" y="4"/>
                            </a:lnTo>
                            <a:lnTo>
                              <a:pt x="33" y="1"/>
                            </a:lnTo>
                            <a:lnTo>
                              <a:pt x="44" y="0"/>
                            </a:lnTo>
                            <a:lnTo>
                              <a:pt x="55" y="1"/>
                            </a:lnTo>
                            <a:lnTo>
                              <a:pt x="70" y="5"/>
                            </a:lnTo>
                            <a:lnTo>
                              <a:pt x="49" y="4"/>
                            </a:lnTo>
                            <a:lnTo>
                              <a:pt x="49" y="11"/>
                            </a:lnTo>
                            <a:lnTo>
                              <a:pt x="47" y="20"/>
                            </a:lnTo>
                            <a:lnTo>
                              <a:pt x="36" y="27"/>
                            </a:lnTo>
                            <a:lnTo>
                              <a:pt x="27" y="29"/>
                            </a:lnTo>
                            <a:lnTo>
                              <a:pt x="21" y="24"/>
                            </a:lnTo>
                            <a:lnTo>
                              <a:pt x="17" y="18"/>
                            </a:lnTo>
                            <a:lnTo>
                              <a:pt x="15" y="13"/>
                            </a:lnTo>
                            <a:lnTo>
                              <a:pt x="0" y="25"/>
                            </a:lnTo>
                            <a:close/>
                          </a:path>
                        </a:pathLst>
                      </a:cu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9" name=""/>
                    <p:cNvGrpSpPr/>
                    <p:nvPr/>
                  </p:nvGrpSpPr>
                  <p:grpSpPr>
                    <a:xfrm>
                      <a:off x="5567400" y="1701000"/>
                      <a:ext cx="24120" cy="9360"/>
                      <a:chOff x="5567400" y="1701000"/>
                      <a:chExt cx="24120" cy="9360"/>
                    </a:xfrm>
                  </p:grpSpPr>
                  <p:sp>
                    <p:nvSpPr>
                      <p:cNvPr id="610" name=""/>
                      <p:cNvSpPr/>
                      <p:nvPr/>
                    </p:nvSpPr>
                    <p:spPr>
                      <a:xfrm>
                        <a:off x="5568120" y="1701000"/>
                        <a:ext cx="2340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0" h="36">
                            <a:moveTo>
                              <a:pt x="0" y="35"/>
                            </a:moveTo>
                            <a:lnTo>
                              <a:pt x="24" y="25"/>
                            </a:lnTo>
                            <a:lnTo>
                              <a:pt x="39" y="18"/>
                            </a:lnTo>
                            <a:lnTo>
                              <a:pt x="56" y="9"/>
                            </a:lnTo>
                            <a:lnTo>
                              <a:pt x="68" y="2"/>
                            </a:lnTo>
                            <a:lnTo>
                              <a:pt x="74" y="0"/>
                            </a:lnTo>
                            <a:lnTo>
                              <a:pt x="80" y="5"/>
                            </a:lnTo>
                            <a:lnTo>
                              <a:pt x="80" y="15"/>
                            </a:lnTo>
                            <a:lnTo>
                              <a:pt x="74" y="24"/>
                            </a:lnTo>
                            <a:lnTo>
                              <a:pt x="73" y="25"/>
                            </a:lnTo>
                            <a:lnTo>
                              <a:pt x="63" y="30"/>
                            </a:lnTo>
                            <a:lnTo>
                              <a:pt x="62" y="31"/>
                            </a:lnTo>
                            <a:lnTo>
                              <a:pt x="42" y="35"/>
                            </a:lnTo>
                            <a:lnTo>
                              <a:pt x="16" y="36"/>
                            </a:lnTo>
                            <a:lnTo>
                              <a:pt x="0" y="35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1" name=""/>
                      <p:cNvSpPr/>
                      <p:nvPr/>
                    </p:nvSpPr>
                    <p:spPr>
                      <a:xfrm>
                        <a:off x="5567400" y="1701000"/>
                        <a:ext cx="2340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1" h="35">
                            <a:moveTo>
                              <a:pt x="0" y="35"/>
                            </a:moveTo>
                            <a:lnTo>
                              <a:pt x="25" y="25"/>
                            </a:lnTo>
                            <a:lnTo>
                              <a:pt x="39" y="18"/>
                            </a:lnTo>
                            <a:lnTo>
                              <a:pt x="56" y="9"/>
                            </a:lnTo>
                            <a:lnTo>
                              <a:pt x="69" y="2"/>
                            </a:lnTo>
                            <a:lnTo>
                              <a:pt x="75" y="0"/>
                            </a:lnTo>
                            <a:lnTo>
                              <a:pt x="81" y="3"/>
                            </a:lnTo>
                            <a:lnTo>
                              <a:pt x="71" y="5"/>
                            </a:lnTo>
                            <a:lnTo>
                              <a:pt x="76" y="10"/>
                            </a:lnTo>
                            <a:lnTo>
                              <a:pt x="77" y="17"/>
                            </a:lnTo>
                            <a:lnTo>
                              <a:pt x="72" y="29"/>
                            </a:lnTo>
                            <a:lnTo>
                              <a:pt x="63" y="32"/>
                            </a:lnTo>
                            <a:lnTo>
                              <a:pt x="50" y="35"/>
                            </a:lnTo>
                            <a:lnTo>
                              <a:pt x="41" y="30"/>
                            </a:lnTo>
                            <a:lnTo>
                              <a:pt x="35" y="24"/>
                            </a:lnTo>
                            <a:lnTo>
                              <a:pt x="19" y="30"/>
                            </a:lnTo>
                            <a:lnTo>
                              <a:pt x="0" y="35"/>
                            </a:lnTo>
                            <a:close/>
                          </a:path>
                        </a:pathLst>
                      </a:cu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12" name=""/>
                  <p:cNvGrpSpPr/>
                  <p:nvPr/>
                </p:nvGrpSpPr>
                <p:grpSpPr>
                  <a:xfrm>
                    <a:off x="5521320" y="1627560"/>
                    <a:ext cx="119160" cy="91800"/>
                    <a:chOff x="5521320" y="1627560"/>
                    <a:chExt cx="119160" cy="91800"/>
                  </a:xfrm>
                </p:grpSpPr>
                <p:grpSp>
                  <p:nvGrpSpPr>
                    <p:cNvPr id="613" name=""/>
                    <p:cNvGrpSpPr/>
                    <p:nvPr/>
                  </p:nvGrpSpPr>
                  <p:grpSpPr>
                    <a:xfrm>
                      <a:off x="5561280" y="1671120"/>
                      <a:ext cx="68400" cy="35640"/>
                      <a:chOff x="5561280" y="1671120"/>
                      <a:chExt cx="68400" cy="35640"/>
                    </a:xfrm>
                  </p:grpSpPr>
                  <p:sp>
                    <p:nvSpPr>
                      <p:cNvPr id="614" name=""/>
                      <p:cNvSpPr/>
                      <p:nvPr/>
                    </p:nvSpPr>
                    <p:spPr>
                      <a:xfrm>
                        <a:off x="5561280" y="1693440"/>
                        <a:ext cx="3276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4" h="51">
                            <a:moveTo>
                              <a:pt x="114" y="6"/>
                            </a:moveTo>
                            <a:lnTo>
                              <a:pt x="105" y="4"/>
                            </a:lnTo>
                            <a:lnTo>
                              <a:pt x="99" y="0"/>
                            </a:lnTo>
                            <a:lnTo>
                              <a:pt x="86" y="4"/>
                            </a:lnTo>
                            <a:lnTo>
                              <a:pt x="70" y="4"/>
                            </a:lnTo>
                            <a:lnTo>
                              <a:pt x="50" y="5"/>
                            </a:lnTo>
                            <a:lnTo>
                              <a:pt x="33" y="5"/>
                            </a:lnTo>
                            <a:lnTo>
                              <a:pt x="27" y="0"/>
                            </a:lnTo>
                            <a:lnTo>
                              <a:pt x="19" y="0"/>
                            </a:lnTo>
                            <a:lnTo>
                              <a:pt x="15" y="6"/>
                            </a:lnTo>
                            <a:lnTo>
                              <a:pt x="14" y="13"/>
                            </a:lnTo>
                            <a:lnTo>
                              <a:pt x="10" y="23"/>
                            </a:lnTo>
                            <a:lnTo>
                              <a:pt x="6" y="32"/>
                            </a:lnTo>
                            <a:lnTo>
                              <a:pt x="0" y="39"/>
                            </a:lnTo>
                            <a:lnTo>
                              <a:pt x="6" y="46"/>
                            </a:lnTo>
                            <a:lnTo>
                              <a:pt x="8" y="51"/>
                            </a:lnTo>
                            <a:lnTo>
                              <a:pt x="14" y="43"/>
                            </a:lnTo>
                            <a:lnTo>
                              <a:pt x="25" y="32"/>
                            </a:lnTo>
                            <a:lnTo>
                              <a:pt x="31" y="26"/>
                            </a:lnTo>
                            <a:lnTo>
                              <a:pt x="41" y="21"/>
                            </a:lnTo>
                            <a:lnTo>
                              <a:pt x="50" y="19"/>
                            </a:lnTo>
                            <a:lnTo>
                              <a:pt x="62" y="18"/>
                            </a:lnTo>
                            <a:lnTo>
                              <a:pt x="77" y="17"/>
                            </a:lnTo>
                            <a:lnTo>
                              <a:pt x="88" y="16"/>
                            </a:lnTo>
                            <a:lnTo>
                              <a:pt x="98" y="16"/>
                            </a:lnTo>
                            <a:lnTo>
                              <a:pt x="103" y="11"/>
                            </a:lnTo>
                            <a:lnTo>
                              <a:pt x="114" y="6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5" name=""/>
                      <p:cNvSpPr/>
                      <p:nvPr/>
                    </p:nvSpPr>
                    <p:spPr>
                      <a:xfrm>
                        <a:off x="5608080" y="1671120"/>
                        <a:ext cx="2160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84">
                            <a:moveTo>
                              <a:pt x="0" y="84"/>
                            </a:moveTo>
                            <a:lnTo>
                              <a:pt x="19" y="58"/>
                            </a:lnTo>
                            <a:lnTo>
                              <a:pt x="36" y="49"/>
                            </a:lnTo>
                            <a:lnTo>
                              <a:pt x="49" y="43"/>
                            </a:lnTo>
                            <a:lnTo>
                              <a:pt x="59" y="33"/>
                            </a:lnTo>
                            <a:lnTo>
                              <a:pt x="67" y="24"/>
                            </a:lnTo>
                            <a:lnTo>
                              <a:pt x="75" y="17"/>
                            </a:lnTo>
                            <a:lnTo>
                              <a:pt x="73" y="17"/>
                            </a:lnTo>
                            <a:lnTo>
                              <a:pt x="77" y="8"/>
                            </a:lnTo>
                            <a:lnTo>
                              <a:pt x="75" y="3"/>
                            </a:lnTo>
                            <a:lnTo>
                              <a:pt x="70" y="0"/>
                            </a:lnTo>
                            <a:lnTo>
                              <a:pt x="68" y="0"/>
                            </a:lnTo>
                            <a:lnTo>
                              <a:pt x="59" y="2"/>
                            </a:lnTo>
                            <a:lnTo>
                              <a:pt x="55" y="10"/>
                            </a:lnTo>
                            <a:lnTo>
                              <a:pt x="50" y="17"/>
                            </a:lnTo>
                            <a:lnTo>
                              <a:pt x="42" y="23"/>
                            </a:lnTo>
                            <a:lnTo>
                              <a:pt x="29" y="33"/>
                            </a:lnTo>
                            <a:lnTo>
                              <a:pt x="22" y="47"/>
                            </a:lnTo>
                            <a:lnTo>
                              <a:pt x="14" y="61"/>
                            </a:lnTo>
                            <a:lnTo>
                              <a:pt x="8" y="70"/>
                            </a:lnTo>
                            <a:lnTo>
                              <a:pt x="0" y="84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6" name=""/>
                    <p:cNvGrpSpPr/>
                    <p:nvPr/>
                  </p:nvGrpSpPr>
                  <p:grpSpPr>
                    <a:xfrm>
                      <a:off x="5521320" y="1627560"/>
                      <a:ext cx="119160" cy="91800"/>
                      <a:chOff x="5521320" y="1627560"/>
                      <a:chExt cx="119160" cy="91800"/>
                    </a:xfrm>
                  </p:grpSpPr>
                  <p:grpSp>
                    <p:nvGrpSpPr>
                      <p:cNvPr id="617" name=""/>
                      <p:cNvGrpSpPr/>
                      <p:nvPr/>
                    </p:nvGrpSpPr>
                    <p:grpSpPr>
                      <a:xfrm>
                        <a:off x="5521320" y="1627560"/>
                        <a:ext cx="119160" cy="91800"/>
                        <a:chOff x="5521320" y="1627560"/>
                        <a:chExt cx="119160" cy="91800"/>
                      </a:xfrm>
                    </p:grpSpPr>
                    <p:sp>
                      <p:nvSpPr>
                        <p:cNvPr id="618" name=""/>
                        <p:cNvSpPr/>
                        <p:nvPr/>
                      </p:nvSpPr>
                      <p:spPr>
                        <a:xfrm>
                          <a:off x="5521320" y="1627560"/>
                          <a:ext cx="119160" cy="91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3" h="349">
                              <a:moveTo>
                                <a:pt x="23" y="295"/>
                              </a:moveTo>
                              <a:lnTo>
                                <a:pt x="41" y="312"/>
                              </a:lnTo>
                              <a:lnTo>
                                <a:pt x="56" y="330"/>
                              </a:lnTo>
                              <a:lnTo>
                                <a:pt x="76" y="341"/>
                              </a:lnTo>
                              <a:lnTo>
                                <a:pt x="85" y="349"/>
                              </a:lnTo>
                              <a:lnTo>
                                <a:pt x="88" y="316"/>
                              </a:lnTo>
                              <a:lnTo>
                                <a:pt x="96" y="285"/>
                              </a:lnTo>
                              <a:lnTo>
                                <a:pt x="102" y="260"/>
                              </a:lnTo>
                              <a:lnTo>
                                <a:pt x="105" y="238"/>
                              </a:lnTo>
                              <a:lnTo>
                                <a:pt x="103" y="211"/>
                              </a:lnTo>
                              <a:lnTo>
                                <a:pt x="95" y="194"/>
                              </a:lnTo>
                              <a:lnTo>
                                <a:pt x="85" y="186"/>
                              </a:lnTo>
                              <a:lnTo>
                                <a:pt x="110" y="189"/>
                              </a:lnTo>
                              <a:lnTo>
                                <a:pt x="142" y="182"/>
                              </a:lnTo>
                              <a:lnTo>
                                <a:pt x="161" y="173"/>
                              </a:lnTo>
                              <a:lnTo>
                                <a:pt x="183" y="164"/>
                              </a:lnTo>
                              <a:lnTo>
                                <a:pt x="208" y="155"/>
                              </a:lnTo>
                              <a:lnTo>
                                <a:pt x="230" y="147"/>
                              </a:lnTo>
                              <a:lnTo>
                                <a:pt x="245" y="136"/>
                              </a:lnTo>
                              <a:lnTo>
                                <a:pt x="269" y="116"/>
                              </a:lnTo>
                              <a:lnTo>
                                <a:pt x="269" y="115"/>
                              </a:lnTo>
                              <a:lnTo>
                                <a:pt x="280" y="94"/>
                              </a:lnTo>
                              <a:lnTo>
                                <a:pt x="289" y="76"/>
                              </a:lnTo>
                              <a:lnTo>
                                <a:pt x="309" y="81"/>
                              </a:lnTo>
                              <a:lnTo>
                                <a:pt x="333" y="94"/>
                              </a:lnTo>
                              <a:lnTo>
                                <a:pt x="356" y="109"/>
                              </a:lnTo>
                              <a:lnTo>
                                <a:pt x="373" y="127"/>
                              </a:lnTo>
                              <a:lnTo>
                                <a:pt x="385" y="148"/>
                              </a:lnTo>
                              <a:lnTo>
                                <a:pt x="395" y="168"/>
                              </a:lnTo>
                              <a:lnTo>
                                <a:pt x="400" y="189"/>
                              </a:lnTo>
                              <a:lnTo>
                                <a:pt x="413" y="207"/>
                              </a:lnTo>
                              <a:lnTo>
                                <a:pt x="410" y="171"/>
                              </a:lnTo>
                              <a:lnTo>
                                <a:pt x="403" y="150"/>
                              </a:lnTo>
                              <a:lnTo>
                                <a:pt x="393" y="127"/>
                              </a:lnTo>
                              <a:lnTo>
                                <a:pt x="388" y="101"/>
                              </a:lnTo>
                              <a:lnTo>
                                <a:pt x="367" y="76"/>
                              </a:lnTo>
                              <a:lnTo>
                                <a:pt x="338" y="45"/>
                              </a:lnTo>
                              <a:lnTo>
                                <a:pt x="320" y="27"/>
                              </a:lnTo>
                              <a:lnTo>
                                <a:pt x="305" y="14"/>
                              </a:lnTo>
                              <a:lnTo>
                                <a:pt x="289" y="7"/>
                              </a:lnTo>
                              <a:lnTo>
                                <a:pt x="275" y="2"/>
                              </a:lnTo>
                              <a:lnTo>
                                <a:pt x="253" y="2"/>
                              </a:lnTo>
                              <a:lnTo>
                                <a:pt x="244" y="2"/>
                              </a:lnTo>
                              <a:lnTo>
                                <a:pt x="216" y="0"/>
                              </a:lnTo>
                              <a:lnTo>
                                <a:pt x="179" y="0"/>
                              </a:lnTo>
                              <a:lnTo>
                                <a:pt x="143" y="9"/>
                              </a:lnTo>
                              <a:lnTo>
                                <a:pt x="114" y="20"/>
                              </a:lnTo>
                              <a:lnTo>
                                <a:pt x="87" y="28"/>
                              </a:lnTo>
                              <a:lnTo>
                                <a:pt x="67" y="38"/>
                              </a:lnTo>
                              <a:lnTo>
                                <a:pt x="52" y="48"/>
                              </a:lnTo>
                              <a:lnTo>
                                <a:pt x="40" y="59"/>
                              </a:lnTo>
                              <a:lnTo>
                                <a:pt x="26" y="73"/>
                              </a:lnTo>
                              <a:lnTo>
                                <a:pt x="14" y="90"/>
                              </a:lnTo>
                              <a:lnTo>
                                <a:pt x="4" y="105"/>
                              </a:lnTo>
                              <a:lnTo>
                                <a:pt x="0" y="123"/>
                              </a:lnTo>
                              <a:lnTo>
                                <a:pt x="0" y="150"/>
                              </a:lnTo>
                              <a:lnTo>
                                <a:pt x="0" y="175"/>
                              </a:lnTo>
                              <a:lnTo>
                                <a:pt x="3" y="200"/>
                              </a:lnTo>
                              <a:lnTo>
                                <a:pt x="3" y="229"/>
                              </a:lnTo>
                              <a:lnTo>
                                <a:pt x="4" y="252"/>
                              </a:lnTo>
                              <a:lnTo>
                                <a:pt x="11" y="268"/>
                              </a:lnTo>
                              <a:lnTo>
                                <a:pt x="23" y="29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9" name=""/>
                        <p:cNvSpPr/>
                        <p:nvPr/>
                      </p:nvSpPr>
                      <p:spPr>
                        <a:xfrm>
                          <a:off x="5526360" y="1629000"/>
                          <a:ext cx="73080" cy="8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53" h="310">
                              <a:moveTo>
                                <a:pt x="157" y="10"/>
                              </a:moveTo>
                              <a:lnTo>
                                <a:pt x="171" y="3"/>
                              </a:lnTo>
                              <a:lnTo>
                                <a:pt x="186" y="0"/>
                              </a:lnTo>
                              <a:lnTo>
                                <a:pt x="199" y="0"/>
                              </a:lnTo>
                              <a:lnTo>
                                <a:pt x="219" y="4"/>
                              </a:lnTo>
                              <a:lnTo>
                                <a:pt x="229" y="7"/>
                              </a:lnTo>
                              <a:lnTo>
                                <a:pt x="237" y="18"/>
                              </a:lnTo>
                              <a:lnTo>
                                <a:pt x="246" y="33"/>
                              </a:lnTo>
                              <a:lnTo>
                                <a:pt x="253" y="44"/>
                              </a:lnTo>
                              <a:lnTo>
                                <a:pt x="253" y="55"/>
                              </a:lnTo>
                              <a:lnTo>
                                <a:pt x="252" y="68"/>
                              </a:lnTo>
                              <a:lnTo>
                                <a:pt x="241" y="85"/>
                              </a:lnTo>
                              <a:lnTo>
                                <a:pt x="231" y="99"/>
                              </a:lnTo>
                              <a:lnTo>
                                <a:pt x="219" y="111"/>
                              </a:lnTo>
                              <a:lnTo>
                                <a:pt x="204" y="121"/>
                              </a:lnTo>
                              <a:lnTo>
                                <a:pt x="193" y="129"/>
                              </a:lnTo>
                              <a:lnTo>
                                <a:pt x="175" y="134"/>
                              </a:lnTo>
                              <a:lnTo>
                                <a:pt x="157" y="141"/>
                              </a:lnTo>
                              <a:lnTo>
                                <a:pt x="141" y="147"/>
                              </a:lnTo>
                              <a:lnTo>
                                <a:pt x="128" y="152"/>
                              </a:lnTo>
                              <a:lnTo>
                                <a:pt x="117" y="152"/>
                              </a:lnTo>
                              <a:lnTo>
                                <a:pt x="109" y="155"/>
                              </a:lnTo>
                              <a:lnTo>
                                <a:pt x="106" y="159"/>
                              </a:lnTo>
                              <a:lnTo>
                                <a:pt x="123" y="159"/>
                              </a:lnTo>
                              <a:lnTo>
                                <a:pt x="112" y="165"/>
                              </a:lnTo>
                              <a:lnTo>
                                <a:pt x="97" y="169"/>
                              </a:lnTo>
                              <a:lnTo>
                                <a:pt x="77" y="169"/>
                              </a:lnTo>
                              <a:lnTo>
                                <a:pt x="62" y="169"/>
                              </a:lnTo>
                              <a:lnTo>
                                <a:pt x="57" y="173"/>
                              </a:lnTo>
                              <a:lnTo>
                                <a:pt x="66" y="193"/>
                              </a:lnTo>
                              <a:lnTo>
                                <a:pt x="70" y="214"/>
                              </a:lnTo>
                              <a:lnTo>
                                <a:pt x="70" y="233"/>
                              </a:lnTo>
                              <a:lnTo>
                                <a:pt x="70" y="253"/>
                              </a:lnTo>
                              <a:lnTo>
                                <a:pt x="74" y="267"/>
                              </a:lnTo>
                              <a:lnTo>
                                <a:pt x="69" y="286"/>
                              </a:lnTo>
                              <a:lnTo>
                                <a:pt x="62" y="308"/>
                              </a:lnTo>
                              <a:lnTo>
                                <a:pt x="55" y="310"/>
                              </a:lnTo>
                              <a:lnTo>
                                <a:pt x="49" y="302"/>
                              </a:lnTo>
                              <a:lnTo>
                                <a:pt x="28" y="281"/>
                              </a:lnTo>
                              <a:lnTo>
                                <a:pt x="7" y="269"/>
                              </a:lnTo>
                              <a:lnTo>
                                <a:pt x="30" y="269"/>
                              </a:lnTo>
                              <a:lnTo>
                                <a:pt x="21" y="246"/>
                              </a:lnTo>
                              <a:lnTo>
                                <a:pt x="8" y="235"/>
                              </a:lnTo>
                              <a:lnTo>
                                <a:pt x="18" y="217"/>
                              </a:lnTo>
                              <a:lnTo>
                                <a:pt x="12" y="212"/>
                              </a:lnTo>
                              <a:lnTo>
                                <a:pt x="22" y="214"/>
                              </a:lnTo>
                              <a:lnTo>
                                <a:pt x="11" y="193"/>
                              </a:lnTo>
                              <a:lnTo>
                                <a:pt x="24" y="194"/>
                              </a:lnTo>
                              <a:lnTo>
                                <a:pt x="2" y="167"/>
                              </a:lnTo>
                              <a:lnTo>
                                <a:pt x="0" y="143"/>
                              </a:lnTo>
                              <a:lnTo>
                                <a:pt x="11" y="152"/>
                              </a:lnTo>
                              <a:lnTo>
                                <a:pt x="3" y="135"/>
                              </a:lnTo>
                              <a:lnTo>
                                <a:pt x="29" y="138"/>
                              </a:lnTo>
                              <a:lnTo>
                                <a:pt x="39" y="133"/>
                              </a:lnTo>
                              <a:lnTo>
                                <a:pt x="28" y="120"/>
                              </a:lnTo>
                              <a:lnTo>
                                <a:pt x="46" y="118"/>
                              </a:lnTo>
                              <a:lnTo>
                                <a:pt x="29" y="108"/>
                              </a:lnTo>
                              <a:lnTo>
                                <a:pt x="14" y="98"/>
                              </a:lnTo>
                              <a:lnTo>
                                <a:pt x="44" y="106"/>
                              </a:lnTo>
                              <a:lnTo>
                                <a:pt x="63" y="111"/>
                              </a:lnTo>
                              <a:lnTo>
                                <a:pt x="80" y="112"/>
                              </a:lnTo>
                              <a:lnTo>
                                <a:pt x="102" y="114"/>
                              </a:lnTo>
                              <a:lnTo>
                                <a:pt x="123" y="113"/>
                              </a:lnTo>
                              <a:lnTo>
                                <a:pt x="130" y="109"/>
                              </a:lnTo>
                              <a:lnTo>
                                <a:pt x="124" y="101"/>
                              </a:lnTo>
                              <a:lnTo>
                                <a:pt x="148" y="98"/>
                              </a:lnTo>
                              <a:lnTo>
                                <a:pt x="128" y="94"/>
                              </a:lnTo>
                              <a:lnTo>
                                <a:pt x="108" y="92"/>
                              </a:lnTo>
                              <a:lnTo>
                                <a:pt x="86" y="92"/>
                              </a:lnTo>
                              <a:lnTo>
                                <a:pt x="64" y="92"/>
                              </a:lnTo>
                              <a:lnTo>
                                <a:pt x="80" y="80"/>
                              </a:lnTo>
                              <a:lnTo>
                                <a:pt x="61" y="85"/>
                              </a:lnTo>
                              <a:lnTo>
                                <a:pt x="44" y="82"/>
                              </a:lnTo>
                              <a:lnTo>
                                <a:pt x="29" y="80"/>
                              </a:lnTo>
                              <a:lnTo>
                                <a:pt x="21" y="79"/>
                              </a:lnTo>
                              <a:lnTo>
                                <a:pt x="40" y="74"/>
                              </a:lnTo>
                              <a:lnTo>
                                <a:pt x="55" y="71"/>
                              </a:lnTo>
                              <a:lnTo>
                                <a:pt x="66" y="66"/>
                              </a:lnTo>
                              <a:lnTo>
                                <a:pt x="72" y="64"/>
                              </a:lnTo>
                              <a:lnTo>
                                <a:pt x="58" y="64"/>
                              </a:lnTo>
                              <a:lnTo>
                                <a:pt x="83" y="52"/>
                              </a:lnTo>
                              <a:lnTo>
                                <a:pt x="69" y="48"/>
                              </a:lnTo>
                              <a:lnTo>
                                <a:pt x="58" y="48"/>
                              </a:lnTo>
                              <a:lnTo>
                                <a:pt x="80" y="45"/>
                              </a:lnTo>
                              <a:lnTo>
                                <a:pt x="106" y="47"/>
                              </a:lnTo>
                              <a:lnTo>
                                <a:pt x="118" y="52"/>
                              </a:lnTo>
                              <a:lnTo>
                                <a:pt x="133" y="53"/>
                              </a:lnTo>
                              <a:lnTo>
                                <a:pt x="146" y="53"/>
                              </a:lnTo>
                              <a:lnTo>
                                <a:pt x="161" y="52"/>
                              </a:lnTo>
                              <a:lnTo>
                                <a:pt x="170" y="47"/>
                              </a:lnTo>
                              <a:lnTo>
                                <a:pt x="180" y="43"/>
                              </a:lnTo>
                              <a:lnTo>
                                <a:pt x="186" y="39"/>
                              </a:lnTo>
                              <a:lnTo>
                                <a:pt x="171" y="39"/>
                              </a:lnTo>
                              <a:lnTo>
                                <a:pt x="154" y="37"/>
                              </a:lnTo>
                              <a:lnTo>
                                <a:pt x="131" y="35"/>
                              </a:lnTo>
                              <a:lnTo>
                                <a:pt x="163" y="32"/>
                              </a:lnTo>
                              <a:lnTo>
                                <a:pt x="180" y="28"/>
                              </a:lnTo>
                              <a:lnTo>
                                <a:pt x="192" y="26"/>
                              </a:lnTo>
                              <a:lnTo>
                                <a:pt x="201" y="20"/>
                              </a:lnTo>
                              <a:lnTo>
                                <a:pt x="186" y="21"/>
                              </a:lnTo>
                              <a:lnTo>
                                <a:pt x="193" y="12"/>
                              </a:lnTo>
                              <a:lnTo>
                                <a:pt x="201" y="10"/>
                              </a:lnTo>
                              <a:lnTo>
                                <a:pt x="182" y="10"/>
                              </a:lnTo>
                              <a:lnTo>
                                <a:pt x="168" y="11"/>
                              </a:lnTo>
                              <a:lnTo>
                                <a:pt x="157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f3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5640" bIns="35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620" name=""/>
                      <p:cNvSpPr/>
                      <p:nvPr/>
                    </p:nvSpPr>
                    <p:spPr>
                      <a:xfrm>
                        <a:off x="5600520" y="1629000"/>
                        <a:ext cx="2088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80">
                            <a:moveTo>
                              <a:pt x="0" y="0"/>
                            </a:moveTo>
                            <a:lnTo>
                              <a:pt x="14" y="16"/>
                            </a:lnTo>
                            <a:lnTo>
                              <a:pt x="23" y="22"/>
                            </a:lnTo>
                            <a:lnTo>
                              <a:pt x="33" y="30"/>
                            </a:lnTo>
                            <a:lnTo>
                              <a:pt x="44" y="35"/>
                            </a:lnTo>
                            <a:lnTo>
                              <a:pt x="57" y="41"/>
                            </a:lnTo>
                            <a:lnTo>
                              <a:pt x="40" y="37"/>
                            </a:lnTo>
                            <a:lnTo>
                              <a:pt x="28" y="34"/>
                            </a:lnTo>
                            <a:lnTo>
                              <a:pt x="23" y="36"/>
                            </a:lnTo>
                            <a:lnTo>
                              <a:pt x="31" y="47"/>
                            </a:lnTo>
                            <a:lnTo>
                              <a:pt x="37" y="59"/>
                            </a:lnTo>
                            <a:lnTo>
                              <a:pt x="52" y="67"/>
                            </a:lnTo>
                            <a:lnTo>
                              <a:pt x="70" y="80"/>
                            </a:lnTo>
                            <a:lnTo>
                              <a:pt x="46" y="68"/>
                            </a:lnTo>
                            <a:lnTo>
                              <a:pt x="33" y="61"/>
                            </a:lnTo>
                            <a:lnTo>
                              <a:pt x="19" y="56"/>
                            </a:lnTo>
                            <a:lnTo>
                              <a:pt x="11" y="46"/>
                            </a:lnTo>
                            <a:lnTo>
                              <a:pt x="11" y="32"/>
                            </a:lnTo>
                            <a:lnTo>
                              <a:pt x="3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3f3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621" name=""/>
              <p:cNvSpPr/>
              <p:nvPr/>
            </p:nvSpPr>
            <p:spPr>
              <a:xfrm>
                <a:off x="4950360" y="1941120"/>
                <a:ext cx="1296000" cy="201960"/>
              </a:xfrm>
              <a:custGeom>
                <a:avLst/>
                <a:gdLst/>
                <a:ahLst/>
                <a:rect l="l" t="t" r="r" b="b"/>
                <a:pathLst>
                  <a:path w="4462" h="766">
                    <a:moveTo>
                      <a:pt x="565" y="0"/>
                    </a:moveTo>
                    <a:lnTo>
                      <a:pt x="0" y="766"/>
                    </a:lnTo>
                    <a:lnTo>
                      <a:pt x="4462" y="766"/>
                    </a:lnTo>
                    <a:lnTo>
                      <a:pt x="4059" y="0"/>
                    </a:lnTo>
                    <a:lnTo>
                      <a:pt x="565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2" name=""/>
              <p:cNvGrpSpPr/>
              <p:nvPr/>
            </p:nvGrpSpPr>
            <p:grpSpPr>
              <a:xfrm>
                <a:off x="5405040" y="1892160"/>
                <a:ext cx="62280" cy="56880"/>
                <a:chOff x="5405040" y="1892160"/>
                <a:chExt cx="62280" cy="5688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5405040" y="1892160"/>
                  <a:ext cx="61560" cy="56880"/>
                </a:xfrm>
                <a:custGeom>
                  <a:avLst/>
                  <a:gdLst/>
                  <a:ahLst/>
                  <a:rect l="l" t="t" r="r" b="b"/>
                  <a:pathLst>
                    <a:path w="214" h="214">
                      <a:moveTo>
                        <a:pt x="35" y="33"/>
                      </a:moveTo>
                      <a:lnTo>
                        <a:pt x="66" y="5"/>
                      </a:lnTo>
                      <a:lnTo>
                        <a:pt x="85" y="0"/>
                      </a:lnTo>
                      <a:lnTo>
                        <a:pt x="122" y="5"/>
                      </a:lnTo>
                      <a:lnTo>
                        <a:pt x="161" y="11"/>
                      </a:lnTo>
                      <a:lnTo>
                        <a:pt x="187" y="16"/>
                      </a:lnTo>
                      <a:lnTo>
                        <a:pt x="195" y="22"/>
                      </a:lnTo>
                      <a:lnTo>
                        <a:pt x="200" y="35"/>
                      </a:lnTo>
                      <a:lnTo>
                        <a:pt x="202" y="43"/>
                      </a:lnTo>
                      <a:lnTo>
                        <a:pt x="195" y="52"/>
                      </a:lnTo>
                      <a:lnTo>
                        <a:pt x="203" y="60"/>
                      </a:lnTo>
                      <a:lnTo>
                        <a:pt x="206" y="72"/>
                      </a:lnTo>
                      <a:lnTo>
                        <a:pt x="204" y="79"/>
                      </a:lnTo>
                      <a:lnTo>
                        <a:pt x="210" y="87"/>
                      </a:lnTo>
                      <a:lnTo>
                        <a:pt x="213" y="96"/>
                      </a:lnTo>
                      <a:lnTo>
                        <a:pt x="211" y="107"/>
                      </a:lnTo>
                      <a:lnTo>
                        <a:pt x="204" y="119"/>
                      </a:lnTo>
                      <a:lnTo>
                        <a:pt x="210" y="130"/>
                      </a:lnTo>
                      <a:lnTo>
                        <a:pt x="214" y="144"/>
                      </a:lnTo>
                      <a:lnTo>
                        <a:pt x="209" y="159"/>
                      </a:lnTo>
                      <a:lnTo>
                        <a:pt x="200" y="166"/>
                      </a:lnTo>
                      <a:lnTo>
                        <a:pt x="200" y="189"/>
                      </a:lnTo>
                      <a:lnTo>
                        <a:pt x="192" y="202"/>
                      </a:lnTo>
                      <a:lnTo>
                        <a:pt x="174" y="208"/>
                      </a:lnTo>
                      <a:lnTo>
                        <a:pt x="94" y="214"/>
                      </a:lnTo>
                      <a:lnTo>
                        <a:pt x="56" y="200"/>
                      </a:lnTo>
                      <a:lnTo>
                        <a:pt x="8" y="148"/>
                      </a:lnTo>
                      <a:lnTo>
                        <a:pt x="1" y="126"/>
                      </a:lnTo>
                      <a:lnTo>
                        <a:pt x="0" y="108"/>
                      </a:lnTo>
                      <a:lnTo>
                        <a:pt x="2" y="92"/>
                      </a:lnTo>
                      <a:lnTo>
                        <a:pt x="9" y="66"/>
                      </a:lnTo>
                      <a:lnTo>
                        <a:pt x="18" y="53"/>
                      </a:lnTo>
                      <a:lnTo>
                        <a:pt x="35" y="33"/>
                      </a:lnTo>
                      <a:close/>
                    </a:path>
                  </a:pathLst>
                </a:custGeom>
                <a:solidFill>
                  <a:srgbClr val="f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4" name=""/>
                <p:cNvGrpSpPr/>
                <p:nvPr/>
              </p:nvGrpSpPr>
              <p:grpSpPr>
                <a:xfrm>
                  <a:off x="5420520" y="1899000"/>
                  <a:ext cx="46800" cy="49320"/>
                  <a:chOff x="5420520" y="1899000"/>
                  <a:chExt cx="46800" cy="49320"/>
                </a:xfrm>
              </p:grpSpPr>
              <p:sp>
                <p:nvSpPr>
                  <p:cNvPr id="625" name=""/>
                  <p:cNvSpPr/>
                  <p:nvPr/>
                </p:nvSpPr>
                <p:spPr>
                  <a:xfrm>
                    <a:off x="5420520" y="1910520"/>
                    <a:ext cx="46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144">
                        <a:moveTo>
                          <a:pt x="48" y="20"/>
                        </a:moveTo>
                        <a:lnTo>
                          <a:pt x="67" y="22"/>
                        </a:lnTo>
                        <a:lnTo>
                          <a:pt x="79" y="22"/>
                        </a:lnTo>
                        <a:lnTo>
                          <a:pt x="78" y="0"/>
                        </a:lnTo>
                        <a:lnTo>
                          <a:pt x="86" y="12"/>
                        </a:lnTo>
                        <a:lnTo>
                          <a:pt x="93" y="18"/>
                        </a:lnTo>
                        <a:lnTo>
                          <a:pt x="101" y="20"/>
                        </a:lnTo>
                        <a:lnTo>
                          <a:pt x="118" y="18"/>
                        </a:lnTo>
                        <a:lnTo>
                          <a:pt x="130" y="13"/>
                        </a:lnTo>
                        <a:lnTo>
                          <a:pt x="141" y="9"/>
                        </a:lnTo>
                        <a:lnTo>
                          <a:pt x="151" y="6"/>
                        </a:lnTo>
                        <a:lnTo>
                          <a:pt x="155" y="2"/>
                        </a:lnTo>
                        <a:lnTo>
                          <a:pt x="152" y="9"/>
                        </a:lnTo>
                        <a:lnTo>
                          <a:pt x="158" y="17"/>
                        </a:lnTo>
                        <a:lnTo>
                          <a:pt x="161" y="26"/>
                        </a:lnTo>
                        <a:lnTo>
                          <a:pt x="160" y="37"/>
                        </a:lnTo>
                        <a:lnTo>
                          <a:pt x="152" y="49"/>
                        </a:lnTo>
                        <a:lnTo>
                          <a:pt x="158" y="60"/>
                        </a:lnTo>
                        <a:lnTo>
                          <a:pt x="162" y="74"/>
                        </a:lnTo>
                        <a:lnTo>
                          <a:pt x="157" y="89"/>
                        </a:lnTo>
                        <a:lnTo>
                          <a:pt x="149" y="96"/>
                        </a:lnTo>
                        <a:lnTo>
                          <a:pt x="149" y="119"/>
                        </a:lnTo>
                        <a:lnTo>
                          <a:pt x="140" y="132"/>
                        </a:lnTo>
                        <a:lnTo>
                          <a:pt x="122" y="138"/>
                        </a:lnTo>
                        <a:lnTo>
                          <a:pt x="43" y="144"/>
                        </a:lnTo>
                        <a:lnTo>
                          <a:pt x="4" y="130"/>
                        </a:lnTo>
                        <a:lnTo>
                          <a:pt x="27" y="137"/>
                        </a:lnTo>
                        <a:lnTo>
                          <a:pt x="48" y="140"/>
                        </a:lnTo>
                        <a:lnTo>
                          <a:pt x="63" y="139"/>
                        </a:lnTo>
                        <a:lnTo>
                          <a:pt x="76" y="136"/>
                        </a:lnTo>
                        <a:lnTo>
                          <a:pt x="80" y="124"/>
                        </a:lnTo>
                        <a:lnTo>
                          <a:pt x="80" y="139"/>
                        </a:lnTo>
                        <a:lnTo>
                          <a:pt x="99" y="137"/>
                        </a:lnTo>
                        <a:lnTo>
                          <a:pt x="123" y="136"/>
                        </a:lnTo>
                        <a:lnTo>
                          <a:pt x="135" y="130"/>
                        </a:lnTo>
                        <a:lnTo>
                          <a:pt x="140" y="120"/>
                        </a:lnTo>
                        <a:lnTo>
                          <a:pt x="145" y="109"/>
                        </a:lnTo>
                        <a:lnTo>
                          <a:pt x="146" y="100"/>
                        </a:lnTo>
                        <a:lnTo>
                          <a:pt x="133" y="103"/>
                        </a:lnTo>
                        <a:lnTo>
                          <a:pt x="118" y="106"/>
                        </a:lnTo>
                        <a:lnTo>
                          <a:pt x="101" y="107"/>
                        </a:lnTo>
                        <a:lnTo>
                          <a:pt x="83" y="109"/>
                        </a:lnTo>
                        <a:lnTo>
                          <a:pt x="69" y="107"/>
                        </a:lnTo>
                        <a:lnTo>
                          <a:pt x="55" y="106"/>
                        </a:lnTo>
                        <a:lnTo>
                          <a:pt x="39" y="101"/>
                        </a:lnTo>
                        <a:lnTo>
                          <a:pt x="21" y="96"/>
                        </a:lnTo>
                        <a:lnTo>
                          <a:pt x="10" y="86"/>
                        </a:lnTo>
                        <a:lnTo>
                          <a:pt x="26" y="94"/>
                        </a:lnTo>
                        <a:lnTo>
                          <a:pt x="37" y="96"/>
                        </a:lnTo>
                        <a:lnTo>
                          <a:pt x="51" y="98"/>
                        </a:lnTo>
                        <a:lnTo>
                          <a:pt x="66" y="100"/>
                        </a:lnTo>
                        <a:lnTo>
                          <a:pt x="83" y="101"/>
                        </a:lnTo>
                        <a:lnTo>
                          <a:pt x="95" y="97"/>
                        </a:lnTo>
                        <a:lnTo>
                          <a:pt x="106" y="91"/>
                        </a:lnTo>
                        <a:lnTo>
                          <a:pt x="108" y="100"/>
                        </a:lnTo>
                        <a:lnTo>
                          <a:pt x="116" y="99"/>
                        </a:lnTo>
                        <a:lnTo>
                          <a:pt x="129" y="98"/>
                        </a:lnTo>
                        <a:lnTo>
                          <a:pt x="140" y="97"/>
                        </a:lnTo>
                        <a:lnTo>
                          <a:pt x="145" y="93"/>
                        </a:lnTo>
                        <a:lnTo>
                          <a:pt x="149" y="87"/>
                        </a:lnTo>
                        <a:lnTo>
                          <a:pt x="152" y="81"/>
                        </a:lnTo>
                        <a:lnTo>
                          <a:pt x="155" y="74"/>
                        </a:lnTo>
                        <a:lnTo>
                          <a:pt x="153" y="67"/>
                        </a:lnTo>
                        <a:lnTo>
                          <a:pt x="151" y="62"/>
                        </a:lnTo>
                        <a:lnTo>
                          <a:pt x="144" y="62"/>
                        </a:lnTo>
                        <a:lnTo>
                          <a:pt x="128" y="65"/>
                        </a:lnTo>
                        <a:lnTo>
                          <a:pt x="113" y="70"/>
                        </a:lnTo>
                        <a:lnTo>
                          <a:pt x="97" y="72"/>
                        </a:lnTo>
                        <a:lnTo>
                          <a:pt x="80" y="73"/>
                        </a:lnTo>
                        <a:lnTo>
                          <a:pt x="65" y="74"/>
                        </a:lnTo>
                        <a:lnTo>
                          <a:pt x="45" y="74"/>
                        </a:lnTo>
                        <a:lnTo>
                          <a:pt x="28" y="70"/>
                        </a:lnTo>
                        <a:lnTo>
                          <a:pt x="15" y="65"/>
                        </a:lnTo>
                        <a:lnTo>
                          <a:pt x="0" y="54"/>
                        </a:lnTo>
                        <a:lnTo>
                          <a:pt x="24" y="63"/>
                        </a:lnTo>
                        <a:lnTo>
                          <a:pt x="37" y="66"/>
                        </a:lnTo>
                        <a:lnTo>
                          <a:pt x="51" y="70"/>
                        </a:lnTo>
                        <a:lnTo>
                          <a:pt x="66" y="69"/>
                        </a:lnTo>
                        <a:lnTo>
                          <a:pt x="77" y="67"/>
                        </a:lnTo>
                        <a:lnTo>
                          <a:pt x="88" y="64"/>
                        </a:lnTo>
                        <a:lnTo>
                          <a:pt x="96" y="56"/>
                        </a:lnTo>
                        <a:lnTo>
                          <a:pt x="106" y="50"/>
                        </a:lnTo>
                        <a:lnTo>
                          <a:pt x="100" y="59"/>
                        </a:lnTo>
                        <a:lnTo>
                          <a:pt x="105" y="64"/>
                        </a:lnTo>
                        <a:lnTo>
                          <a:pt x="110" y="63"/>
                        </a:lnTo>
                        <a:lnTo>
                          <a:pt x="123" y="60"/>
                        </a:lnTo>
                        <a:lnTo>
                          <a:pt x="135" y="57"/>
                        </a:lnTo>
                        <a:lnTo>
                          <a:pt x="146" y="49"/>
                        </a:lnTo>
                        <a:lnTo>
                          <a:pt x="155" y="40"/>
                        </a:lnTo>
                        <a:lnTo>
                          <a:pt x="156" y="32"/>
                        </a:lnTo>
                        <a:lnTo>
                          <a:pt x="155" y="23"/>
                        </a:lnTo>
                        <a:lnTo>
                          <a:pt x="153" y="11"/>
                        </a:lnTo>
                        <a:lnTo>
                          <a:pt x="142" y="15"/>
                        </a:lnTo>
                        <a:lnTo>
                          <a:pt x="128" y="22"/>
                        </a:lnTo>
                        <a:lnTo>
                          <a:pt x="107" y="27"/>
                        </a:lnTo>
                        <a:lnTo>
                          <a:pt x="84" y="29"/>
                        </a:lnTo>
                        <a:lnTo>
                          <a:pt x="61" y="27"/>
                        </a:lnTo>
                        <a:lnTo>
                          <a:pt x="40" y="24"/>
                        </a:lnTo>
                        <a:lnTo>
                          <a:pt x="21" y="17"/>
                        </a:lnTo>
                        <a:lnTo>
                          <a:pt x="48" y="20"/>
                        </a:lnTo>
                        <a:close/>
                      </a:path>
                    </a:pathLst>
                  </a:custGeom>
                  <a:solidFill>
                    <a:srgbClr val="d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5421960" y="1899000"/>
                    <a:ext cx="30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8">
                        <a:moveTo>
                          <a:pt x="108" y="0"/>
                        </a:moveTo>
                        <a:lnTo>
                          <a:pt x="98" y="7"/>
                        </a:lnTo>
                        <a:lnTo>
                          <a:pt x="89" y="16"/>
                        </a:lnTo>
                        <a:lnTo>
                          <a:pt x="78" y="14"/>
                        </a:lnTo>
                        <a:lnTo>
                          <a:pt x="67" y="8"/>
                        </a:lnTo>
                        <a:lnTo>
                          <a:pt x="56" y="8"/>
                        </a:lnTo>
                        <a:lnTo>
                          <a:pt x="38" y="13"/>
                        </a:lnTo>
                        <a:lnTo>
                          <a:pt x="25" y="18"/>
                        </a:lnTo>
                        <a:lnTo>
                          <a:pt x="34" y="11"/>
                        </a:lnTo>
                        <a:lnTo>
                          <a:pt x="16" y="8"/>
                        </a:lnTo>
                        <a:lnTo>
                          <a:pt x="0" y="6"/>
                        </a:lnTo>
                        <a:lnTo>
                          <a:pt x="21" y="5"/>
                        </a:lnTo>
                        <a:lnTo>
                          <a:pt x="38" y="7"/>
                        </a:lnTo>
                        <a:lnTo>
                          <a:pt x="51" y="7"/>
                        </a:lnTo>
                        <a:lnTo>
                          <a:pt x="61" y="5"/>
                        </a:lnTo>
                        <a:lnTo>
                          <a:pt x="71" y="5"/>
                        </a:lnTo>
                        <a:lnTo>
                          <a:pt x="78" y="8"/>
                        </a:lnTo>
                        <a:lnTo>
                          <a:pt x="89" y="12"/>
                        </a:lnTo>
                        <a:lnTo>
                          <a:pt x="108" y="0"/>
                        </a:lnTo>
                        <a:close/>
                      </a:path>
                    </a:pathLst>
                  </a:custGeom>
                  <a:solidFill>
                    <a:srgbClr val="d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7" name=""/>
              <p:cNvGrpSpPr/>
              <p:nvPr/>
            </p:nvGrpSpPr>
            <p:grpSpPr>
              <a:xfrm>
                <a:off x="5448960" y="1944720"/>
                <a:ext cx="414720" cy="120240"/>
                <a:chOff x="5448960" y="1944720"/>
                <a:chExt cx="414720" cy="12024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5448960" y="1949040"/>
                  <a:ext cx="154440" cy="115920"/>
                </a:xfrm>
                <a:custGeom>
                  <a:avLst/>
                  <a:gdLst/>
                  <a:ahLst/>
                  <a:rect l="l" t="t" r="r" b="b"/>
                  <a:pathLst>
                    <a:path w="531" h="441">
                      <a:moveTo>
                        <a:pt x="113" y="0"/>
                      </a:moveTo>
                      <a:lnTo>
                        <a:pt x="0" y="396"/>
                      </a:lnTo>
                      <a:lnTo>
                        <a:pt x="427" y="441"/>
                      </a:lnTo>
                      <a:lnTo>
                        <a:pt x="531" y="32"/>
                      </a:lnTo>
                      <a:lnTo>
                        <a:pt x="113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5515920" y="1944720"/>
                  <a:ext cx="183960" cy="88920"/>
                </a:xfrm>
                <a:custGeom>
                  <a:avLst/>
                  <a:gdLst/>
                  <a:ahLst/>
                  <a:rect l="l" t="t" r="r" b="b"/>
                  <a:pathLst>
                    <a:path w="633" h="340">
                      <a:moveTo>
                        <a:pt x="0" y="74"/>
                      </a:moveTo>
                      <a:lnTo>
                        <a:pt x="197" y="340"/>
                      </a:lnTo>
                      <a:lnTo>
                        <a:pt x="633" y="212"/>
                      </a:lnTo>
                      <a:lnTo>
                        <a:pt x="418" y="0"/>
                      </a:lnTo>
                      <a:lnTo>
                        <a:pt x="0" y="74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5644080" y="1948320"/>
                  <a:ext cx="219600" cy="75600"/>
                </a:xfrm>
                <a:custGeom>
                  <a:avLst/>
                  <a:gdLst/>
                  <a:ahLst/>
                  <a:rect l="l" t="t" r="r" b="b"/>
                  <a:pathLst>
                    <a:path w="756" h="290">
                      <a:moveTo>
                        <a:pt x="0" y="32"/>
                      </a:moveTo>
                      <a:lnTo>
                        <a:pt x="526" y="0"/>
                      </a:lnTo>
                      <a:lnTo>
                        <a:pt x="756" y="206"/>
                      </a:lnTo>
                      <a:lnTo>
                        <a:pt x="149" y="290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5692680" y="1579320"/>
                <a:ext cx="428760" cy="382320"/>
                <a:chOff x="5692680" y="1579320"/>
                <a:chExt cx="428760" cy="382320"/>
              </a:xfrm>
            </p:grpSpPr>
            <p:grpSp>
              <p:nvGrpSpPr>
                <p:cNvPr id="632" name=""/>
                <p:cNvGrpSpPr/>
                <p:nvPr/>
              </p:nvGrpSpPr>
              <p:grpSpPr>
                <a:xfrm>
                  <a:off x="5747400" y="1579320"/>
                  <a:ext cx="374040" cy="370800"/>
                  <a:chOff x="5747400" y="1579320"/>
                  <a:chExt cx="374040" cy="370800"/>
                </a:xfrm>
              </p:grpSpPr>
              <p:sp>
                <p:nvSpPr>
                  <p:cNvPr id="633" name=""/>
                  <p:cNvSpPr/>
                  <p:nvPr/>
                </p:nvSpPr>
                <p:spPr>
                  <a:xfrm>
                    <a:off x="5747400" y="1717560"/>
                    <a:ext cx="37404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6" h="882">
                        <a:moveTo>
                          <a:pt x="764" y="8"/>
                        </a:moveTo>
                        <a:lnTo>
                          <a:pt x="830" y="0"/>
                        </a:lnTo>
                        <a:lnTo>
                          <a:pt x="896" y="8"/>
                        </a:lnTo>
                        <a:lnTo>
                          <a:pt x="929" y="22"/>
                        </a:lnTo>
                        <a:lnTo>
                          <a:pt x="1005" y="79"/>
                        </a:lnTo>
                        <a:lnTo>
                          <a:pt x="1053" y="125"/>
                        </a:lnTo>
                        <a:lnTo>
                          <a:pt x="1104" y="191"/>
                        </a:lnTo>
                        <a:lnTo>
                          <a:pt x="1148" y="258"/>
                        </a:lnTo>
                        <a:lnTo>
                          <a:pt x="1181" y="311"/>
                        </a:lnTo>
                        <a:lnTo>
                          <a:pt x="1195" y="339"/>
                        </a:lnTo>
                        <a:lnTo>
                          <a:pt x="1217" y="424"/>
                        </a:lnTo>
                        <a:lnTo>
                          <a:pt x="1246" y="554"/>
                        </a:lnTo>
                        <a:lnTo>
                          <a:pt x="1265" y="646"/>
                        </a:lnTo>
                        <a:lnTo>
                          <a:pt x="1276" y="766"/>
                        </a:lnTo>
                        <a:lnTo>
                          <a:pt x="1286" y="864"/>
                        </a:lnTo>
                        <a:lnTo>
                          <a:pt x="1013" y="868"/>
                        </a:lnTo>
                        <a:lnTo>
                          <a:pt x="845" y="878"/>
                        </a:lnTo>
                        <a:lnTo>
                          <a:pt x="713" y="882"/>
                        </a:lnTo>
                        <a:lnTo>
                          <a:pt x="343" y="864"/>
                        </a:lnTo>
                        <a:lnTo>
                          <a:pt x="197" y="857"/>
                        </a:lnTo>
                        <a:lnTo>
                          <a:pt x="76" y="850"/>
                        </a:lnTo>
                        <a:lnTo>
                          <a:pt x="80" y="811"/>
                        </a:lnTo>
                        <a:lnTo>
                          <a:pt x="65" y="769"/>
                        </a:lnTo>
                        <a:lnTo>
                          <a:pt x="29" y="741"/>
                        </a:lnTo>
                        <a:lnTo>
                          <a:pt x="0" y="723"/>
                        </a:lnTo>
                        <a:lnTo>
                          <a:pt x="153" y="671"/>
                        </a:lnTo>
                        <a:lnTo>
                          <a:pt x="281" y="621"/>
                        </a:lnTo>
                        <a:lnTo>
                          <a:pt x="336" y="597"/>
                        </a:lnTo>
                        <a:lnTo>
                          <a:pt x="383" y="575"/>
                        </a:lnTo>
                        <a:lnTo>
                          <a:pt x="416" y="530"/>
                        </a:lnTo>
                        <a:lnTo>
                          <a:pt x="423" y="512"/>
                        </a:lnTo>
                        <a:lnTo>
                          <a:pt x="427" y="473"/>
                        </a:lnTo>
                        <a:lnTo>
                          <a:pt x="431" y="449"/>
                        </a:lnTo>
                        <a:lnTo>
                          <a:pt x="445" y="403"/>
                        </a:lnTo>
                        <a:lnTo>
                          <a:pt x="453" y="382"/>
                        </a:lnTo>
                        <a:lnTo>
                          <a:pt x="456" y="346"/>
                        </a:lnTo>
                        <a:lnTo>
                          <a:pt x="464" y="294"/>
                        </a:lnTo>
                        <a:lnTo>
                          <a:pt x="482" y="262"/>
                        </a:lnTo>
                        <a:lnTo>
                          <a:pt x="482" y="227"/>
                        </a:lnTo>
                        <a:lnTo>
                          <a:pt x="573" y="125"/>
                        </a:lnTo>
                        <a:lnTo>
                          <a:pt x="591" y="142"/>
                        </a:lnTo>
                        <a:lnTo>
                          <a:pt x="764" y="8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5994720" y="1773000"/>
                    <a:ext cx="7308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669">
                        <a:moveTo>
                          <a:pt x="197" y="0"/>
                        </a:moveTo>
                        <a:lnTo>
                          <a:pt x="223" y="25"/>
                        </a:lnTo>
                        <a:lnTo>
                          <a:pt x="230" y="81"/>
                        </a:lnTo>
                        <a:lnTo>
                          <a:pt x="230" y="141"/>
                        </a:lnTo>
                        <a:lnTo>
                          <a:pt x="230" y="180"/>
                        </a:lnTo>
                        <a:lnTo>
                          <a:pt x="252" y="201"/>
                        </a:lnTo>
                        <a:lnTo>
                          <a:pt x="234" y="211"/>
                        </a:lnTo>
                        <a:lnTo>
                          <a:pt x="230" y="250"/>
                        </a:lnTo>
                        <a:lnTo>
                          <a:pt x="219" y="271"/>
                        </a:lnTo>
                        <a:lnTo>
                          <a:pt x="212" y="303"/>
                        </a:lnTo>
                        <a:lnTo>
                          <a:pt x="201" y="317"/>
                        </a:lnTo>
                        <a:lnTo>
                          <a:pt x="201" y="352"/>
                        </a:lnTo>
                        <a:lnTo>
                          <a:pt x="186" y="388"/>
                        </a:lnTo>
                        <a:lnTo>
                          <a:pt x="183" y="447"/>
                        </a:lnTo>
                        <a:lnTo>
                          <a:pt x="172" y="507"/>
                        </a:lnTo>
                        <a:lnTo>
                          <a:pt x="164" y="521"/>
                        </a:lnTo>
                        <a:lnTo>
                          <a:pt x="164" y="543"/>
                        </a:lnTo>
                        <a:lnTo>
                          <a:pt x="146" y="546"/>
                        </a:lnTo>
                        <a:lnTo>
                          <a:pt x="146" y="560"/>
                        </a:lnTo>
                        <a:lnTo>
                          <a:pt x="139" y="581"/>
                        </a:lnTo>
                        <a:lnTo>
                          <a:pt x="117" y="606"/>
                        </a:lnTo>
                        <a:lnTo>
                          <a:pt x="95" y="634"/>
                        </a:lnTo>
                        <a:lnTo>
                          <a:pt x="80" y="669"/>
                        </a:lnTo>
                        <a:lnTo>
                          <a:pt x="18" y="669"/>
                        </a:lnTo>
                        <a:lnTo>
                          <a:pt x="117" y="585"/>
                        </a:lnTo>
                        <a:lnTo>
                          <a:pt x="135" y="550"/>
                        </a:lnTo>
                        <a:lnTo>
                          <a:pt x="128" y="514"/>
                        </a:lnTo>
                        <a:lnTo>
                          <a:pt x="150" y="497"/>
                        </a:lnTo>
                        <a:lnTo>
                          <a:pt x="150" y="388"/>
                        </a:lnTo>
                        <a:lnTo>
                          <a:pt x="84" y="377"/>
                        </a:lnTo>
                        <a:lnTo>
                          <a:pt x="44" y="366"/>
                        </a:lnTo>
                        <a:lnTo>
                          <a:pt x="0" y="352"/>
                        </a:lnTo>
                        <a:lnTo>
                          <a:pt x="139" y="349"/>
                        </a:lnTo>
                        <a:lnTo>
                          <a:pt x="161" y="338"/>
                        </a:lnTo>
                        <a:lnTo>
                          <a:pt x="157" y="317"/>
                        </a:lnTo>
                        <a:lnTo>
                          <a:pt x="117" y="310"/>
                        </a:lnTo>
                        <a:lnTo>
                          <a:pt x="73" y="307"/>
                        </a:lnTo>
                        <a:lnTo>
                          <a:pt x="131" y="292"/>
                        </a:lnTo>
                        <a:lnTo>
                          <a:pt x="146" y="282"/>
                        </a:lnTo>
                        <a:lnTo>
                          <a:pt x="95" y="233"/>
                        </a:lnTo>
                        <a:lnTo>
                          <a:pt x="47" y="208"/>
                        </a:lnTo>
                        <a:lnTo>
                          <a:pt x="18" y="176"/>
                        </a:lnTo>
                        <a:lnTo>
                          <a:pt x="7" y="169"/>
                        </a:lnTo>
                        <a:lnTo>
                          <a:pt x="40" y="166"/>
                        </a:lnTo>
                        <a:lnTo>
                          <a:pt x="80" y="183"/>
                        </a:lnTo>
                        <a:lnTo>
                          <a:pt x="131" y="211"/>
                        </a:lnTo>
                        <a:lnTo>
                          <a:pt x="175" y="229"/>
                        </a:lnTo>
                        <a:lnTo>
                          <a:pt x="201" y="222"/>
                        </a:lnTo>
                        <a:lnTo>
                          <a:pt x="215" y="194"/>
                        </a:lnTo>
                        <a:lnTo>
                          <a:pt x="215" y="134"/>
                        </a:lnTo>
                        <a:lnTo>
                          <a:pt x="197" y="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5789880" y="1819800"/>
                    <a:ext cx="14544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01" h="462">
                        <a:moveTo>
                          <a:pt x="0" y="462"/>
                        </a:moveTo>
                        <a:lnTo>
                          <a:pt x="314" y="356"/>
                        </a:lnTo>
                        <a:lnTo>
                          <a:pt x="339" y="335"/>
                        </a:lnTo>
                        <a:lnTo>
                          <a:pt x="365" y="300"/>
                        </a:lnTo>
                        <a:lnTo>
                          <a:pt x="369" y="264"/>
                        </a:lnTo>
                        <a:lnTo>
                          <a:pt x="372" y="162"/>
                        </a:lnTo>
                        <a:lnTo>
                          <a:pt x="383" y="233"/>
                        </a:lnTo>
                        <a:lnTo>
                          <a:pt x="405" y="250"/>
                        </a:lnTo>
                        <a:lnTo>
                          <a:pt x="420" y="194"/>
                        </a:lnTo>
                        <a:lnTo>
                          <a:pt x="434" y="141"/>
                        </a:lnTo>
                        <a:lnTo>
                          <a:pt x="487" y="0"/>
                        </a:lnTo>
                        <a:lnTo>
                          <a:pt x="454" y="120"/>
                        </a:lnTo>
                        <a:lnTo>
                          <a:pt x="434" y="194"/>
                        </a:lnTo>
                        <a:lnTo>
                          <a:pt x="423" y="250"/>
                        </a:lnTo>
                        <a:lnTo>
                          <a:pt x="405" y="286"/>
                        </a:lnTo>
                        <a:lnTo>
                          <a:pt x="383" y="314"/>
                        </a:lnTo>
                        <a:lnTo>
                          <a:pt x="409" y="335"/>
                        </a:lnTo>
                        <a:lnTo>
                          <a:pt x="442" y="331"/>
                        </a:lnTo>
                        <a:lnTo>
                          <a:pt x="501" y="282"/>
                        </a:lnTo>
                        <a:lnTo>
                          <a:pt x="423" y="370"/>
                        </a:lnTo>
                        <a:lnTo>
                          <a:pt x="343" y="388"/>
                        </a:lnTo>
                        <a:lnTo>
                          <a:pt x="252" y="405"/>
                        </a:lnTo>
                        <a:lnTo>
                          <a:pt x="164" y="423"/>
                        </a:lnTo>
                        <a:lnTo>
                          <a:pt x="66" y="444"/>
                        </a:lnTo>
                        <a:lnTo>
                          <a:pt x="0" y="462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5919120" y="1735920"/>
                    <a:ext cx="113760" cy="202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768">
                        <a:moveTo>
                          <a:pt x="392" y="7"/>
                        </a:moveTo>
                        <a:lnTo>
                          <a:pt x="312" y="0"/>
                        </a:lnTo>
                        <a:lnTo>
                          <a:pt x="268" y="7"/>
                        </a:lnTo>
                        <a:lnTo>
                          <a:pt x="195" y="78"/>
                        </a:lnTo>
                        <a:lnTo>
                          <a:pt x="126" y="162"/>
                        </a:lnTo>
                        <a:lnTo>
                          <a:pt x="86" y="328"/>
                        </a:lnTo>
                        <a:lnTo>
                          <a:pt x="71" y="374"/>
                        </a:lnTo>
                        <a:lnTo>
                          <a:pt x="56" y="507"/>
                        </a:lnTo>
                        <a:lnTo>
                          <a:pt x="49" y="603"/>
                        </a:lnTo>
                        <a:lnTo>
                          <a:pt x="0" y="662"/>
                        </a:lnTo>
                        <a:lnTo>
                          <a:pt x="108" y="768"/>
                        </a:lnTo>
                        <a:lnTo>
                          <a:pt x="56" y="691"/>
                        </a:lnTo>
                        <a:lnTo>
                          <a:pt x="67" y="684"/>
                        </a:lnTo>
                        <a:lnTo>
                          <a:pt x="140" y="722"/>
                        </a:lnTo>
                        <a:lnTo>
                          <a:pt x="228" y="743"/>
                        </a:lnTo>
                        <a:lnTo>
                          <a:pt x="111" y="698"/>
                        </a:lnTo>
                        <a:lnTo>
                          <a:pt x="67" y="659"/>
                        </a:lnTo>
                        <a:lnTo>
                          <a:pt x="67" y="620"/>
                        </a:lnTo>
                        <a:lnTo>
                          <a:pt x="140" y="617"/>
                        </a:lnTo>
                        <a:lnTo>
                          <a:pt x="64" y="599"/>
                        </a:lnTo>
                        <a:lnTo>
                          <a:pt x="71" y="507"/>
                        </a:lnTo>
                        <a:lnTo>
                          <a:pt x="89" y="356"/>
                        </a:lnTo>
                        <a:lnTo>
                          <a:pt x="148" y="166"/>
                        </a:lnTo>
                        <a:lnTo>
                          <a:pt x="188" y="106"/>
                        </a:lnTo>
                        <a:lnTo>
                          <a:pt x="268" y="28"/>
                        </a:lnTo>
                        <a:lnTo>
                          <a:pt x="312" y="18"/>
                        </a:lnTo>
                        <a:lnTo>
                          <a:pt x="392" y="7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37" name=""/>
                  <p:cNvGrpSpPr/>
                  <p:nvPr/>
                </p:nvGrpSpPr>
                <p:grpSpPr>
                  <a:xfrm>
                    <a:off x="5824800" y="1579320"/>
                    <a:ext cx="185760" cy="255600"/>
                    <a:chOff x="5824800" y="1579320"/>
                    <a:chExt cx="185760" cy="255600"/>
                  </a:xfrm>
                </p:grpSpPr>
                <p:sp>
                  <p:nvSpPr>
                    <p:cNvPr id="638" name=""/>
                    <p:cNvSpPr/>
                    <p:nvPr/>
                  </p:nvSpPr>
                  <p:spPr>
                    <a:xfrm>
                      <a:off x="5904000" y="1716840"/>
                      <a:ext cx="66960" cy="6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1" h="229">
                          <a:moveTo>
                            <a:pt x="202" y="0"/>
                          </a:moveTo>
                          <a:lnTo>
                            <a:pt x="44" y="135"/>
                          </a:lnTo>
                          <a:lnTo>
                            <a:pt x="33" y="118"/>
                          </a:lnTo>
                          <a:lnTo>
                            <a:pt x="8" y="174"/>
                          </a:lnTo>
                          <a:lnTo>
                            <a:pt x="0" y="206"/>
                          </a:lnTo>
                          <a:lnTo>
                            <a:pt x="18" y="188"/>
                          </a:lnTo>
                          <a:lnTo>
                            <a:pt x="35" y="151"/>
                          </a:lnTo>
                          <a:lnTo>
                            <a:pt x="69" y="229"/>
                          </a:lnTo>
                          <a:lnTo>
                            <a:pt x="122" y="169"/>
                          </a:lnTo>
                          <a:lnTo>
                            <a:pt x="180" y="76"/>
                          </a:lnTo>
                          <a:lnTo>
                            <a:pt x="231" y="16"/>
                          </a:lnTo>
                          <a:lnTo>
                            <a:pt x="202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9" name=""/>
                    <p:cNvSpPr/>
                    <p:nvPr/>
                  </p:nvSpPr>
                  <p:spPr>
                    <a:xfrm>
                      <a:off x="5903280" y="1756440"/>
                      <a:ext cx="19080" cy="7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286">
                          <a:moveTo>
                            <a:pt x="37" y="0"/>
                          </a:moveTo>
                          <a:lnTo>
                            <a:pt x="26" y="13"/>
                          </a:lnTo>
                          <a:lnTo>
                            <a:pt x="19" y="23"/>
                          </a:lnTo>
                          <a:lnTo>
                            <a:pt x="13" y="37"/>
                          </a:lnTo>
                          <a:lnTo>
                            <a:pt x="6" y="60"/>
                          </a:lnTo>
                          <a:lnTo>
                            <a:pt x="4" y="83"/>
                          </a:lnTo>
                          <a:lnTo>
                            <a:pt x="6" y="105"/>
                          </a:lnTo>
                          <a:lnTo>
                            <a:pt x="10" y="129"/>
                          </a:lnTo>
                          <a:lnTo>
                            <a:pt x="14" y="142"/>
                          </a:lnTo>
                          <a:lnTo>
                            <a:pt x="2" y="195"/>
                          </a:lnTo>
                          <a:lnTo>
                            <a:pt x="0" y="218"/>
                          </a:lnTo>
                          <a:lnTo>
                            <a:pt x="0" y="247"/>
                          </a:lnTo>
                          <a:lnTo>
                            <a:pt x="4" y="286"/>
                          </a:lnTo>
                          <a:lnTo>
                            <a:pt x="25" y="198"/>
                          </a:lnTo>
                          <a:lnTo>
                            <a:pt x="36" y="139"/>
                          </a:lnTo>
                          <a:lnTo>
                            <a:pt x="66" y="65"/>
                          </a:lnTo>
                          <a:lnTo>
                            <a:pt x="37" y="0"/>
                          </a:lnTo>
                          <a:close/>
                        </a:path>
                      </a:pathLst>
                    </a:custGeom>
                    <a:solidFill>
                      <a:srgbClr val="000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440" bIns="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0" name=""/>
                    <p:cNvSpPr/>
                    <p:nvPr/>
                  </p:nvSpPr>
                  <p:spPr>
                    <a:xfrm>
                      <a:off x="5904000" y="1756440"/>
                      <a:ext cx="1728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151">
                          <a:moveTo>
                            <a:pt x="33" y="0"/>
                          </a:moveTo>
                          <a:lnTo>
                            <a:pt x="22" y="13"/>
                          </a:lnTo>
                          <a:lnTo>
                            <a:pt x="14" y="23"/>
                          </a:lnTo>
                          <a:lnTo>
                            <a:pt x="8" y="37"/>
                          </a:lnTo>
                          <a:lnTo>
                            <a:pt x="2" y="60"/>
                          </a:lnTo>
                          <a:lnTo>
                            <a:pt x="0" y="83"/>
                          </a:lnTo>
                          <a:lnTo>
                            <a:pt x="2" y="106"/>
                          </a:lnTo>
                          <a:lnTo>
                            <a:pt x="6" y="129"/>
                          </a:lnTo>
                          <a:lnTo>
                            <a:pt x="10" y="142"/>
                          </a:lnTo>
                          <a:lnTo>
                            <a:pt x="27" y="151"/>
                          </a:lnTo>
                          <a:lnTo>
                            <a:pt x="31" y="136"/>
                          </a:lnTo>
                          <a:lnTo>
                            <a:pt x="62" y="66"/>
                          </a:lnTo>
                          <a:lnTo>
                            <a:pt x="33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41" name=""/>
                    <p:cNvGrpSpPr/>
                    <p:nvPr/>
                  </p:nvGrpSpPr>
                  <p:grpSpPr>
                    <a:xfrm>
                      <a:off x="5824800" y="1579320"/>
                      <a:ext cx="185760" cy="177120"/>
                      <a:chOff x="5824800" y="1579320"/>
                      <a:chExt cx="185760" cy="177120"/>
                    </a:xfrm>
                  </p:grpSpPr>
                  <p:grpSp>
                    <p:nvGrpSpPr>
                      <p:cNvPr id="642" name=""/>
                      <p:cNvGrpSpPr/>
                      <p:nvPr/>
                    </p:nvGrpSpPr>
                    <p:grpSpPr>
                      <a:xfrm>
                        <a:off x="5843880" y="1598040"/>
                        <a:ext cx="137520" cy="158400"/>
                        <a:chOff x="5843880" y="1598040"/>
                        <a:chExt cx="137520" cy="158400"/>
                      </a:xfrm>
                    </p:grpSpPr>
                    <p:sp>
                      <p:nvSpPr>
                        <p:cNvPr id="643" name=""/>
                        <p:cNvSpPr/>
                        <p:nvPr/>
                      </p:nvSpPr>
                      <p:spPr>
                        <a:xfrm>
                          <a:off x="5843880" y="1598040"/>
                          <a:ext cx="137520" cy="158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74" h="598">
                              <a:moveTo>
                                <a:pt x="148" y="17"/>
                              </a:moveTo>
                              <a:lnTo>
                                <a:pt x="114" y="36"/>
                              </a:lnTo>
                              <a:lnTo>
                                <a:pt x="82" y="56"/>
                              </a:lnTo>
                              <a:lnTo>
                                <a:pt x="59" y="75"/>
                              </a:lnTo>
                              <a:lnTo>
                                <a:pt x="37" y="95"/>
                              </a:lnTo>
                              <a:lnTo>
                                <a:pt x="20" y="116"/>
                              </a:lnTo>
                              <a:lnTo>
                                <a:pt x="9" y="138"/>
                              </a:lnTo>
                              <a:lnTo>
                                <a:pt x="5" y="162"/>
                              </a:lnTo>
                              <a:lnTo>
                                <a:pt x="2" y="188"/>
                              </a:lnTo>
                              <a:lnTo>
                                <a:pt x="0" y="219"/>
                              </a:lnTo>
                              <a:lnTo>
                                <a:pt x="4" y="248"/>
                              </a:lnTo>
                              <a:lnTo>
                                <a:pt x="0" y="286"/>
                              </a:lnTo>
                              <a:lnTo>
                                <a:pt x="16" y="297"/>
                              </a:lnTo>
                              <a:lnTo>
                                <a:pt x="30" y="307"/>
                              </a:lnTo>
                              <a:lnTo>
                                <a:pt x="31" y="317"/>
                              </a:lnTo>
                              <a:lnTo>
                                <a:pt x="31" y="332"/>
                              </a:lnTo>
                              <a:lnTo>
                                <a:pt x="26" y="350"/>
                              </a:lnTo>
                              <a:lnTo>
                                <a:pt x="11" y="398"/>
                              </a:lnTo>
                              <a:lnTo>
                                <a:pt x="11" y="419"/>
                              </a:lnTo>
                              <a:lnTo>
                                <a:pt x="23" y="424"/>
                              </a:lnTo>
                              <a:lnTo>
                                <a:pt x="42" y="424"/>
                              </a:lnTo>
                              <a:lnTo>
                                <a:pt x="55" y="424"/>
                              </a:lnTo>
                              <a:lnTo>
                                <a:pt x="77" y="481"/>
                              </a:lnTo>
                              <a:lnTo>
                                <a:pt x="78" y="502"/>
                              </a:lnTo>
                              <a:lnTo>
                                <a:pt x="86" y="512"/>
                              </a:lnTo>
                              <a:lnTo>
                                <a:pt x="95" y="515"/>
                              </a:lnTo>
                              <a:lnTo>
                                <a:pt x="96" y="527"/>
                              </a:lnTo>
                              <a:lnTo>
                                <a:pt x="95" y="543"/>
                              </a:lnTo>
                              <a:lnTo>
                                <a:pt x="104" y="569"/>
                              </a:lnTo>
                              <a:lnTo>
                                <a:pt x="115" y="586"/>
                              </a:lnTo>
                              <a:lnTo>
                                <a:pt x="126" y="593"/>
                              </a:lnTo>
                              <a:lnTo>
                                <a:pt x="151" y="598"/>
                              </a:lnTo>
                              <a:lnTo>
                                <a:pt x="172" y="596"/>
                              </a:lnTo>
                              <a:lnTo>
                                <a:pt x="201" y="583"/>
                              </a:lnTo>
                              <a:lnTo>
                                <a:pt x="235" y="565"/>
                              </a:lnTo>
                              <a:lnTo>
                                <a:pt x="250" y="582"/>
                              </a:lnTo>
                              <a:lnTo>
                                <a:pt x="456" y="423"/>
                              </a:lnTo>
                              <a:lnTo>
                                <a:pt x="443" y="396"/>
                              </a:lnTo>
                              <a:lnTo>
                                <a:pt x="456" y="359"/>
                              </a:lnTo>
                              <a:lnTo>
                                <a:pt x="469" y="311"/>
                              </a:lnTo>
                              <a:lnTo>
                                <a:pt x="474" y="250"/>
                              </a:lnTo>
                              <a:lnTo>
                                <a:pt x="473" y="204"/>
                              </a:lnTo>
                              <a:lnTo>
                                <a:pt x="459" y="128"/>
                              </a:lnTo>
                              <a:lnTo>
                                <a:pt x="440" y="60"/>
                              </a:lnTo>
                              <a:lnTo>
                                <a:pt x="418" y="10"/>
                              </a:lnTo>
                              <a:lnTo>
                                <a:pt x="335" y="0"/>
                              </a:lnTo>
                              <a:lnTo>
                                <a:pt x="208" y="1"/>
                              </a:lnTo>
                              <a:lnTo>
                                <a:pt x="148" y="1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bfb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644" name=""/>
                        <p:cNvGrpSpPr/>
                        <p:nvPr/>
                      </p:nvGrpSpPr>
                      <p:grpSpPr>
                        <a:xfrm>
                          <a:off x="5898600" y="1677960"/>
                          <a:ext cx="23400" cy="37080"/>
                          <a:chOff x="5898600" y="1677960"/>
                          <a:chExt cx="23400" cy="37080"/>
                        </a:xfrm>
                      </p:grpSpPr>
                      <p:sp>
                        <p:nvSpPr>
                          <p:cNvPr id="645" name=""/>
                          <p:cNvSpPr/>
                          <p:nvPr/>
                        </p:nvSpPr>
                        <p:spPr>
                          <a:xfrm>
                            <a:off x="5898600" y="1677960"/>
                            <a:ext cx="183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1" h="89">
                                <a:moveTo>
                                  <a:pt x="0" y="37"/>
                                </a:moveTo>
                                <a:lnTo>
                                  <a:pt x="6" y="18"/>
                                </a:lnTo>
                                <a:lnTo>
                                  <a:pt x="11" y="5"/>
                                </a:lnTo>
                                <a:lnTo>
                                  <a:pt x="16" y="2"/>
                                </a:lnTo>
                                <a:lnTo>
                                  <a:pt x="24" y="0"/>
                                </a:lnTo>
                                <a:lnTo>
                                  <a:pt x="34" y="0"/>
                                </a:lnTo>
                                <a:lnTo>
                                  <a:pt x="44" y="2"/>
                                </a:lnTo>
                                <a:lnTo>
                                  <a:pt x="51" y="7"/>
                                </a:lnTo>
                                <a:lnTo>
                                  <a:pt x="56" y="16"/>
                                </a:lnTo>
                                <a:lnTo>
                                  <a:pt x="60" y="31"/>
                                </a:lnTo>
                                <a:lnTo>
                                  <a:pt x="61" y="44"/>
                                </a:lnTo>
                                <a:lnTo>
                                  <a:pt x="58" y="62"/>
                                </a:lnTo>
                                <a:lnTo>
                                  <a:pt x="55" y="78"/>
                                </a:lnTo>
                                <a:lnTo>
                                  <a:pt x="47" y="89"/>
                                </a:lnTo>
                                <a:lnTo>
                                  <a:pt x="44" y="76"/>
                                </a:lnTo>
                                <a:lnTo>
                                  <a:pt x="51" y="64"/>
                                </a:lnTo>
                                <a:lnTo>
                                  <a:pt x="46" y="49"/>
                                </a:lnTo>
                                <a:lnTo>
                                  <a:pt x="40" y="55"/>
                                </a:lnTo>
                                <a:lnTo>
                                  <a:pt x="27" y="61"/>
                                </a:lnTo>
                                <a:lnTo>
                                  <a:pt x="22" y="48"/>
                                </a:lnTo>
                                <a:lnTo>
                                  <a:pt x="33" y="43"/>
                                </a:lnTo>
                                <a:lnTo>
                                  <a:pt x="44" y="41"/>
                                </a:lnTo>
                                <a:lnTo>
                                  <a:pt x="44" y="32"/>
                                </a:lnTo>
                                <a:lnTo>
                                  <a:pt x="43" y="22"/>
                                </a:lnTo>
                                <a:lnTo>
                                  <a:pt x="49" y="23"/>
                                </a:lnTo>
                                <a:lnTo>
                                  <a:pt x="47" y="10"/>
                                </a:lnTo>
                                <a:lnTo>
                                  <a:pt x="45" y="7"/>
                                </a:lnTo>
                                <a:lnTo>
                                  <a:pt x="35" y="5"/>
                                </a:lnTo>
                                <a:lnTo>
                                  <a:pt x="18" y="7"/>
                                </a:lnTo>
                                <a:lnTo>
                                  <a:pt x="10" y="20"/>
                                </a:lnTo>
                                <a:lnTo>
                                  <a:pt x="0" y="3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df9f7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46" name=""/>
                          <p:cNvSpPr/>
                          <p:nvPr/>
                        </p:nvSpPr>
                        <p:spPr>
                          <a:xfrm>
                            <a:off x="5906520" y="1701720"/>
                            <a:ext cx="15480" cy="13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4" h="50">
                                <a:moveTo>
                                  <a:pt x="40" y="0"/>
                                </a:moveTo>
                                <a:lnTo>
                                  <a:pt x="32" y="17"/>
                                </a:lnTo>
                                <a:lnTo>
                                  <a:pt x="29" y="25"/>
                                </a:lnTo>
                                <a:lnTo>
                                  <a:pt x="21" y="31"/>
                                </a:lnTo>
                                <a:lnTo>
                                  <a:pt x="12" y="32"/>
                                </a:lnTo>
                                <a:lnTo>
                                  <a:pt x="0" y="32"/>
                                </a:lnTo>
                                <a:lnTo>
                                  <a:pt x="26" y="35"/>
                                </a:lnTo>
                                <a:lnTo>
                                  <a:pt x="42" y="42"/>
                                </a:lnTo>
                                <a:lnTo>
                                  <a:pt x="54" y="50"/>
                                </a:lnTo>
                                <a:lnTo>
                                  <a:pt x="43" y="33"/>
                                </a:lnTo>
                                <a:lnTo>
                                  <a:pt x="41" y="17"/>
                                </a:lnTo>
                                <a:lnTo>
                                  <a:pt x="4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df9f7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3480" bIns="-334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47" name=""/>
                        <p:cNvSpPr/>
                        <p:nvPr/>
                      </p:nvSpPr>
                      <p:spPr>
                        <a:xfrm>
                          <a:off x="5867280" y="1700280"/>
                          <a:ext cx="12960" cy="17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7" h="67">
                              <a:moveTo>
                                <a:pt x="8" y="0"/>
                              </a:moveTo>
                              <a:lnTo>
                                <a:pt x="14" y="6"/>
                              </a:lnTo>
                              <a:lnTo>
                                <a:pt x="15" y="13"/>
                              </a:lnTo>
                              <a:lnTo>
                                <a:pt x="13" y="19"/>
                              </a:lnTo>
                              <a:lnTo>
                                <a:pt x="8" y="25"/>
                              </a:lnTo>
                              <a:lnTo>
                                <a:pt x="0" y="30"/>
                              </a:lnTo>
                              <a:lnTo>
                                <a:pt x="7" y="35"/>
                              </a:lnTo>
                              <a:lnTo>
                                <a:pt x="17" y="38"/>
                              </a:lnTo>
                              <a:lnTo>
                                <a:pt x="27" y="43"/>
                              </a:lnTo>
                              <a:lnTo>
                                <a:pt x="47" y="67"/>
                              </a:lnTo>
                              <a:lnTo>
                                <a:pt x="22" y="29"/>
                              </a:lnTo>
                              <a:lnTo>
                                <a:pt x="19" y="21"/>
                              </a:lnTo>
                              <a:lnTo>
                                <a:pt x="19" y="12"/>
                              </a:lnTo>
                              <a:lnTo>
                                <a:pt x="21" y="7"/>
                              </a:lnTo>
                              <a:lnTo>
                                <a:pt x="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48" name=""/>
                      <p:cNvGrpSpPr/>
                      <p:nvPr/>
                    </p:nvGrpSpPr>
                    <p:grpSpPr>
                      <a:xfrm>
                        <a:off x="5824800" y="1579320"/>
                        <a:ext cx="185760" cy="177120"/>
                        <a:chOff x="5824800" y="1579320"/>
                        <a:chExt cx="185760" cy="177120"/>
                      </a:xfrm>
                    </p:grpSpPr>
                    <p:sp>
                      <p:nvSpPr>
                        <p:cNvPr id="649" name=""/>
                        <p:cNvSpPr/>
                        <p:nvPr/>
                      </p:nvSpPr>
                      <p:spPr>
                        <a:xfrm>
                          <a:off x="5824800" y="1579320"/>
                          <a:ext cx="185760" cy="177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40" h="673">
                              <a:moveTo>
                                <a:pt x="307" y="0"/>
                              </a:moveTo>
                              <a:lnTo>
                                <a:pt x="278" y="1"/>
                              </a:lnTo>
                              <a:lnTo>
                                <a:pt x="256" y="5"/>
                              </a:lnTo>
                              <a:lnTo>
                                <a:pt x="231" y="10"/>
                              </a:lnTo>
                              <a:lnTo>
                                <a:pt x="203" y="20"/>
                              </a:lnTo>
                              <a:lnTo>
                                <a:pt x="180" y="29"/>
                              </a:lnTo>
                              <a:lnTo>
                                <a:pt x="154" y="51"/>
                              </a:lnTo>
                              <a:lnTo>
                                <a:pt x="129" y="74"/>
                              </a:lnTo>
                              <a:lnTo>
                                <a:pt x="106" y="98"/>
                              </a:lnTo>
                              <a:lnTo>
                                <a:pt x="55" y="130"/>
                              </a:lnTo>
                              <a:lnTo>
                                <a:pt x="37" y="142"/>
                              </a:lnTo>
                              <a:lnTo>
                                <a:pt x="23" y="155"/>
                              </a:lnTo>
                              <a:lnTo>
                                <a:pt x="15" y="167"/>
                              </a:lnTo>
                              <a:lnTo>
                                <a:pt x="5" y="181"/>
                              </a:lnTo>
                              <a:lnTo>
                                <a:pt x="1" y="195"/>
                              </a:lnTo>
                              <a:lnTo>
                                <a:pt x="0" y="210"/>
                              </a:lnTo>
                              <a:lnTo>
                                <a:pt x="0" y="225"/>
                              </a:lnTo>
                              <a:lnTo>
                                <a:pt x="4" y="243"/>
                              </a:lnTo>
                              <a:lnTo>
                                <a:pt x="14" y="263"/>
                              </a:lnTo>
                              <a:lnTo>
                                <a:pt x="22" y="273"/>
                              </a:lnTo>
                              <a:lnTo>
                                <a:pt x="33" y="282"/>
                              </a:lnTo>
                              <a:lnTo>
                                <a:pt x="49" y="286"/>
                              </a:lnTo>
                              <a:lnTo>
                                <a:pt x="66" y="290"/>
                              </a:lnTo>
                              <a:lnTo>
                                <a:pt x="90" y="295"/>
                              </a:lnTo>
                              <a:lnTo>
                                <a:pt x="76" y="276"/>
                              </a:lnTo>
                              <a:lnTo>
                                <a:pt x="71" y="258"/>
                              </a:lnTo>
                              <a:lnTo>
                                <a:pt x="72" y="237"/>
                              </a:lnTo>
                              <a:lnTo>
                                <a:pt x="77" y="216"/>
                              </a:lnTo>
                              <a:lnTo>
                                <a:pt x="84" y="203"/>
                              </a:lnTo>
                              <a:lnTo>
                                <a:pt x="94" y="189"/>
                              </a:lnTo>
                              <a:lnTo>
                                <a:pt x="106" y="177"/>
                              </a:lnTo>
                              <a:lnTo>
                                <a:pt x="121" y="167"/>
                              </a:lnTo>
                              <a:lnTo>
                                <a:pt x="139" y="157"/>
                              </a:lnTo>
                              <a:lnTo>
                                <a:pt x="197" y="140"/>
                              </a:lnTo>
                              <a:lnTo>
                                <a:pt x="186" y="151"/>
                              </a:lnTo>
                              <a:lnTo>
                                <a:pt x="178" y="158"/>
                              </a:lnTo>
                              <a:lnTo>
                                <a:pt x="166" y="163"/>
                              </a:lnTo>
                              <a:lnTo>
                                <a:pt x="147" y="169"/>
                              </a:lnTo>
                              <a:lnTo>
                                <a:pt x="135" y="172"/>
                              </a:lnTo>
                              <a:lnTo>
                                <a:pt x="122" y="181"/>
                              </a:lnTo>
                              <a:lnTo>
                                <a:pt x="116" y="191"/>
                              </a:lnTo>
                              <a:lnTo>
                                <a:pt x="111" y="202"/>
                              </a:lnTo>
                              <a:lnTo>
                                <a:pt x="108" y="214"/>
                              </a:lnTo>
                              <a:lnTo>
                                <a:pt x="108" y="226"/>
                              </a:lnTo>
                              <a:lnTo>
                                <a:pt x="113" y="241"/>
                              </a:lnTo>
                              <a:lnTo>
                                <a:pt x="117" y="262"/>
                              </a:lnTo>
                              <a:lnTo>
                                <a:pt x="127" y="280"/>
                              </a:lnTo>
                              <a:lnTo>
                                <a:pt x="141" y="311"/>
                              </a:lnTo>
                              <a:lnTo>
                                <a:pt x="167" y="371"/>
                              </a:lnTo>
                              <a:lnTo>
                                <a:pt x="185" y="404"/>
                              </a:lnTo>
                              <a:lnTo>
                                <a:pt x="206" y="412"/>
                              </a:lnTo>
                              <a:lnTo>
                                <a:pt x="211" y="441"/>
                              </a:lnTo>
                              <a:lnTo>
                                <a:pt x="214" y="515"/>
                              </a:lnTo>
                              <a:lnTo>
                                <a:pt x="218" y="536"/>
                              </a:lnTo>
                              <a:lnTo>
                                <a:pt x="220" y="554"/>
                              </a:lnTo>
                              <a:lnTo>
                                <a:pt x="220" y="566"/>
                              </a:lnTo>
                              <a:lnTo>
                                <a:pt x="210" y="579"/>
                              </a:lnTo>
                              <a:lnTo>
                                <a:pt x="196" y="587"/>
                              </a:lnTo>
                              <a:lnTo>
                                <a:pt x="179" y="596"/>
                              </a:lnTo>
                              <a:lnTo>
                                <a:pt x="166" y="607"/>
                              </a:lnTo>
                              <a:lnTo>
                                <a:pt x="163" y="614"/>
                              </a:lnTo>
                              <a:lnTo>
                                <a:pt x="163" y="625"/>
                              </a:lnTo>
                              <a:lnTo>
                                <a:pt x="166" y="633"/>
                              </a:lnTo>
                              <a:lnTo>
                                <a:pt x="169" y="640"/>
                              </a:lnTo>
                              <a:lnTo>
                                <a:pt x="173" y="649"/>
                              </a:lnTo>
                              <a:lnTo>
                                <a:pt x="182" y="660"/>
                              </a:lnTo>
                              <a:lnTo>
                                <a:pt x="190" y="666"/>
                              </a:lnTo>
                              <a:lnTo>
                                <a:pt x="200" y="669"/>
                              </a:lnTo>
                              <a:lnTo>
                                <a:pt x="211" y="672"/>
                              </a:lnTo>
                              <a:lnTo>
                                <a:pt x="225" y="673"/>
                              </a:lnTo>
                              <a:lnTo>
                                <a:pt x="236" y="672"/>
                              </a:lnTo>
                              <a:lnTo>
                                <a:pt x="250" y="668"/>
                              </a:lnTo>
                              <a:lnTo>
                                <a:pt x="261" y="664"/>
                              </a:lnTo>
                              <a:lnTo>
                                <a:pt x="273" y="657"/>
                              </a:lnTo>
                              <a:lnTo>
                                <a:pt x="287" y="648"/>
                              </a:lnTo>
                              <a:lnTo>
                                <a:pt x="296" y="642"/>
                              </a:lnTo>
                              <a:lnTo>
                                <a:pt x="295" y="613"/>
                              </a:lnTo>
                              <a:lnTo>
                                <a:pt x="285" y="514"/>
                              </a:lnTo>
                              <a:lnTo>
                                <a:pt x="253" y="458"/>
                              </a:lnTo>
                              <a:lnTo>
                                <a:pt x="245" y="434"/>
                              </a:lnTo>
                              <a:lnTo>
                                <a:pt x="240" y="411"/>
                              </a:lnTo>
                              <a:lnTo>
                                <a:pt x="246" y="398"/>
                              </a:lnTo>
                              <a:lnTo>
                                <a:pt x="253" y="383"/>
                              </a:lnTo>
                              <a:lnTo>
                                <a:pt x="263" y="373"/>
                              </a:lnTo>
                              <a:lnTo>
                                <a:pt x="278" y="367"/>
                              </a:lnTo>
                              <a:lnTo>
                                <a:pt x="291" y="369"/>
                              </a:lnTo>
                              <a:lnTo>
                                <a:pt x="307" y="373"/>
                              </a:lnTo>
                              <a:lnTo>
                                <a:pt x="323" y="385"/>
                              </a:lnTo>
                              <a:lnTo>
                                <a:pt x="329" y="396"/>
                              </a:lnTo>
                              <a:lnTo>
                                <a:pt x="334" y="413"/>
                              </a:lnTo>
                              <a:lnTo>
                                <a:pt x="335" y="430"/>
                              </a:lnTo>
                              <a:lnTo>
                                <a:pt x="331" y="446"/>
                              </a:lnTo>
                              <a:lnTo>
                                <a:pt x="328" y="460"/>
                              </a:lnTo>
                              <a:lnTo>
                                <a:pt x="328" y="471"/>
                              </a:lnTo>
                              <a:lnTo>
                                <a:pt x="335" y="480"/>
                              </a:lnTo>
                              <a:lnTo>
                                <a:pt x="454" y="559"/>
                              </a:lnTo>
                              <a:lnTo>
                                <a:pt x="499" y="554"/>
                              </a:lnTo>
                              <a:lnTo>
                                <a:pt x="552" y="551"/>
                              </a:lnTo>
                              <a:lnTo>
                                <a:pt x="598" y="539"/>
                              </a:lnTo>
                              <a:lnTo>
                                <a:pt x="617" y="520"/>
                              </a:lnTo>
                              <a:lnTo>
                                <a:pt x="628" y="509"/>
                              </a:lnTo>
                              <a:lnTo>
                                <a:pt x="633" y="492"/>
                              </a:lnTo>
                              <a:lnTo>
                                <a:pt x="637" y="472"/>
                              </a:lnTo>
                              <a:lnTo>
                                <a:pt x="640" y="438"/>
                              </a:lnTo>
                              <a:lnTo>
                                <a:pt x="630" y="416"/>
                              </a:lnTo>
                              <a:lnTo>
                                <a:pt x="625" y="359"/>
                              </a:lnTo>
                              <a:lnTo>
                                <a:pt x="606" y="282"/>
                              </a:lnTo>
                              <a:lnTo>
                                <a:pt x="592" y="222"/>
                              </a:lnTo>
                              <a:lnTo>
                                <a:pt x="563" y="163"/>
                              </a:lnTo>
                              <a:lnTo>
                                <a:pt x="537" y="113"/>
                              </a:lnTo>
                              <a:lnTo>
                                <a:pt x="522" y="88"/>
                              </a:lnTo>
                              <a:lnTo>
                                <a:pt x="500" y="59"/>
                              </a:lnTo>
                              <a:lnTo>
                                <a:pt x="482" y="43"/>
                              </a:lnTo>
                              <a:lnTo>
                                <a:pt x="444" y="24"/>
                              </a:lnTo>
                              <a:lnTo>
                                <a:pt x="412" y="10"/>
                              </a:lnTo>
                              <a:lnTo>
                                <a:pt x="375" y="2"/>
                              </a:lnTo>
                              <a:lnTo>
                                <a:pt x="340" y="0"/>
                              </a:lnTo>
                              <a:lnTo>
                                <a:pt x="30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0" name=""/>
                        <p:cNvSpPr/>
                        <p:nvPr/>
                      </p:nvSpPr>
                      <p:spPr>
                        <a:xfrm>
                          <a:off x="5843880" y="1669320"/>
                          <a:ext cx="15480" cy="9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5" h="37">
                              <a:moveTo>
                                <a:pt x="2" y="0"/>
                              </a:moveTo>
                              <a:lnTo>
                                <a:pt x="1" y="7"/>
                              </a:lnTo>
                              <a:lnTo>
                                <a:pt x="0" y="17"/>
                              </a:lnTo>
                              <a:lnTo>
                                <a:pt x="4" y="23"/>
                              </a:lnTo>
                              <a:lnTo>
                                <a:pt x="11" y="28"/>
                              </a:lnTo>
                              <a:lnTo>
                                <a:pt x="23" y="30"/>
                              </a:lnTo>
                              <a:lnTo>
                                <a:pt x="35" y="31"/>
                              </a:lnTo>
                              <a:lnTo>
                                <a:pt x="49" y="35"/>
                              </a:lnTo>
                              <a:lnTo>
                                <a:pt x="55" y="37"/>
                              </a:lnTo>
                              <a:lnTo>
                                <a:pt x="55" y="29"/>
                              </a:lnTo>
                              <a:lnTo>
                                <a:pt x="42" y="18"/>
                              </a:lnTo>
                              <a:lnTo>
                                <a:pt x="32" y="11"/>
                              </a:lnTo>
                              <a:lnTo>
                                <a:pt x="19" y="5"/>
                              </a:lnTo>
                              <a:lnTo>
                                <a:pt x="13" y="3"/>
                              </a:lnTo>
                              <a:lnTo>
                                <a:pt x="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1" name=""/>
                        <p:cNvSpPr/>
                        <p:nvPr/>
                      </p:nvSpPr>
                      <p:spPr>
                        <a:xfrm>
                          <a:off x="5850000" y="1680480"/>
                          <a:ext cx="8640" cy="2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13">
                              <a:moveTo>
                                <a:pt x="18" y="0"/>
                              </a:moveTo>
                              <a:lnTo>
                                <a:pt x="14" y="6"/>
                              </a:lnTo>
                              <a:lnTo>
                                <a:pt x="8" y="8"/>
                              </a:lnTo>
                              <a:lnTo>
                                <a:pt x="0" y="9"/>
                              </a:lnTo>
                              <a:lnTo>
                                <a:pt x="9" y="13"/>
                              </a:lnTo>
                              <a:lnTo>
                                <a:pt x="24" y="13"/>
                              </a:lnTo>
                              <a:lnTo>
                                <a:pt x="32" y="13"/>
                              </a:lnTo>
                              <a:lnTo>
                                <a:pt x="1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2" name=""/>
                        <p:cNvSpPr/>
                        <p:nvPr/>
                      </p:nvSpPr>
                      <p:spPr>
                        <a:xfrm>
                          <a:off x="5857920" y="1708920"/>
                          <a:ext cx="17280" cy="18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0" h="69">
                              <a:moveTo>
                                <a:pt x="9" y="1"/>
                              </a:moveTo>
                              <a:lnTo>
                                <a:pt x="3" y="10"/>
                              </a:lnTo>
                              <a:lnTo>
                                <a:pt x="1" y="17"/>
                              </a:lnTo>
                              <a:lnTo>
                                <a:pt x="0" y="26"/>
                              </a:lnTo>
                              <a:lnTo>
                                <a:pt x="0" y="34"/>
                              </a:lnTo>
                              <a:lnTo>
                                <a:pt x="2" y="44"/>
                              </a:lnTo>
                              <a:lnTo>
                                <a:pt x="4" y="53"/>
                              </a:lnTo>
                              <a:lnTo>
                                <a:pt x="9" y="57"/>
                              </a:lnTo>
                              <a:lnTo>
                                <a:pt x="14" y="61"/>
                              </a:lnTo>
                              <a:lnTo>
                                <a:pt x="21" y="61"/>
                              </a:lnTo>
                              <a:lnTo>
                                <a:pt x="30" y="61"/>
                              </a:lnTo>
                              <a:lnTo>
                                <a:pt x="45" y="63"/>
                              </a:lnTo>
                              <a:lnTo>
                                <a:pt x="60" y="69"/>
                              </a:lnTo>
                              <a:lnTo>
                                <a:pt x="60" y="61"/>
                              </a:lnTo>
                              <a:lnTo>
                                <a:pt x="56" y="50"/>
                              </a:lnTo>
                              <a:lnTo>
                                <a:pt x="54" y="39"/>
                              </a:lnTo>
                              <a:lnTo>
                                <a:pt x="47" y="28"/>
                              </a:lnTo>
                              <a:lnTo>
                                <a:pt x="42" y="22"/>
                              </a:lnTo>
                              <a:lnTo>
                                <a:pt x="35" y="15"/>
                              </a:lnTo>
                              <a:lnTo>
                                <a:pt x="29" y="9"/>
                              </a:lnTo>
                              <a:lnTo>
                                <a:pt x="24" y="5"/>
                              </a:lnTo>
                              <a:lnTo>
                                <a:pt x="20" y="0"/>
                              </a:lnTo>
                              <a:lnTo>
                                <a:pt x="9" y="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800" bIns="-28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3" name=""/>
                        <p:cNvSpPr/>
                        <p:nvPr/>
                      </p:nvSpPr>
                      <p:spPr>
                        <a:xfrm>
                          <a:off x="5828040" y="1609920"/>
                          <a:ext cx="41760" cy="37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6" h="146">
                              <a:moveTo>
                                <a:pt x="146" y="0"/>
                              </a:moveTo>
                              <a:lnTo>
                                <a:pt x="121" y="11"/>
                              </a:lnTo>
                              <a:lnTo>
                                <a:pt x="100" y="14"/>
                              </a:lnTo>
                              <a:lnTo>
                                <a:pt x="79" y="20"/>
                              </a:lnTo>
                              <a:lnTo>
                                <a:pt x="61" y="27"/>
                              </a:lnTo>
                              <a:lnTo>
                                <a:pt x="43" y="35"/>
                              </a:lnTo>
                              <a:lnTo>
                                <a:pt x="28" y="47"/>
                              </a:lnTo>
                              <a:lnTo>
                                <a:pt x="19" y="59"/>
                              </a:lnTo>
                              <a:lnTo>
                                <a:pt x="11" y="70"/>
                              </a:lnTo>
                              <a:lnTo>
                                <a:pt x="5" y="80"/>
                              </a:lnTo>
                              <a:lnTo>
                                <a:pt x="0" y="92"/>
                              </a:lnTo>
                              <a:lnTo>
                                <a:pt x="8" y="84"/>
                              </a:lnTo>
                              <a:lnTo>
                                <a:pt x="8" y="98"/>
                              </a:lnTo>
                              <a:lnTo>
                                <a:pt x="8" y="119"/>
                              </a:lnTo>
                              <a:lnTo>
                                <a:pt x="11" y="131"/>
                              </a:lnTo>
                              <a:lnTo>
                                <a:pt x="19" y="146"/>
                              </a:lnTo>
                              <a:lnTo>
                                <a:pt x="26" y="120"/>
                              </a:lnTo>
                              <a:lnTo>
                                <a:pt x="33" y="95"/>
                              </a:lnTo>
                              <a:lnTo>
                                <a:pt x="43" y="73"/>
                              </a:lnTo>
                              <a:lnTo>
                                <a:pt x="55" y="53"/>
                              </a:lnTo>
                              <a:lnTo>
                                <a:pt x="70" y="40"/>
                              </a:lnTo>
                              <a:lnTo>
                                <a:pt x="83" y="30"/>
                              </a:lnTo>
                              <a:lnTo>
                                <a:pt x="101" y="21"/>
                              </a:lnTo>
                              <a:lnTo>
                                <a:pt x="14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5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9000" bIns="-9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654" name=""/>
                    <p:cNvSpPr/>
                    <p:nvPr/>
                  </p:nvSpPr>
                  <p:spPr>
                    <a:xfrm>
                      <a:off x="5928480" y="1720080"/>
                      <a:ext cx="52200" cy="10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2" h="381">
                          <a:moveTo>
                            <a:pt x="182" y="0"/>
                          </a:moveTo>
                          <a:lnTo>
                            <a:pt x="40" y="247"/>
                          </a:lnTo>
                          <a:lnTo>
                            <a:pt x="0" y="381"/>
                          </a:lnTo>
                          <a:lnTo>
                            <a:pt x="62" y="233"/>
                          </a:lnTo>
                          <a:lnTo>
                            <a:pt x="182" y="0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"/>
                    <p:cNvSpPr/>
                    <p:nvPr/>
                  </p:nvSpPr>
                  <p:spPr>
                    <a:xfrm>
                      <a:off x="5875200" y="1790640"/>
                      <a:ext cx="1980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168">
                          <a:moveTo>
                            <a:pt x="37" y="0"/>
                          </a:moveTo>
                          <a:lnTo>
                            <a:pt x="38" y="129"/>
                          </a:lnTo>
                          <a:lnTo>
                            <a:pt x="70" y="168"/>
                          </a:lnTo>
                          <a:lnTo>
                            <a:pt x="23" y="134"/>
                          </a:lnTo>
                          <a:lnTo>
                            <a:pt x="0" y="154"/>
                          </a:lnTo>
                          <a:lnTo>
                            <a:pt x="15" y="105"/>
                          </a:lnTo>
                          <a:lnTo>
                            <a:pt x="22" y="27"/>
                          </a:lnTo>
                          <a:lnTo>
                            <a:pt x="37" y="0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6" name=""/>
                  <p:cNvSpPr/>
                  <p:nvPr/>
                </p:nvSpPr>
                <p:spPr>
                  <a:xfrm>
                    <a:off x="5852520" y="1852920"/>
                    <a:ext cx="306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81">
                        <a:moveTo>
                          <a:pt x="63" y="0"/>
                        </a:moveTo>
                        <a:lnTo>
                          <a:pt x="103" y="93"/>
                        </a:lnTo>
                        <a:lnTo>
                          <a:pt x="105" y="181"/>
                        </a:lnTo>
                        <a:lnTo>
                          <a:pt x="87" y="82"/>
                        </a:lnTo>
                        <a:lnTo>
                          <a:pt x="62" y="40"/>
                        </a:lnTo>
                        <a:lnTo>
                          <a:pt x="0" y="76"/>
                        </a:lnTo>
                        <a:lnTo>
                          <a:pt x="37" y="45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7" name=""/>
                <p:cNvSpPr/>
                <p:nvPr/>
              </p:nvSpPr>
              <p:spPr>
                <a:xfrm>
                  <a:off x="5693400" y="1929960"/>
                  <a:ext cx="21600" cy="31680"/>
                </a:xfrm>
                <a:custGeom>
                  <a:avLst/>
                  <a:gdLst/>
                  <a:ahLst/>
                  <a:rect l="l" t="t" r="r" b="b"/>
                  <a:pathLst>
                    <a:path w="75" h="120">
                      <a:moveTo>
                        <a:pt x="53" y="0"/>
                      </a:moveTo>
                      <a:lnTo>
                        <a:pt x="2" y="98"/>
                      </a:lnTo>
                      <a:lnTo>
                        <a:pt x="0" y="120"/>
                      </a:lnTo>
                      <a:lnTo>
                        <a:pt x="18" y="105"/>
                      </a:lnTo>
                      <a:lnTo>
                        <a:pt x="75" y="6"/>
                      </a:lnTo>
                      <a:lnTo>
                        <a:pt x="66" y="5"/>
                      </a:lnTo>
                      <a:lnTo>
                        <a:pt x="58" y="2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8" name=""/>
                <p:cNvGrpSpPr/>
                <p:nvPr/>
              </p:nvGrpSpPr>
              <p:grpSpPr>
                <a:xfrm>
                  <a:off x="5692680" y="1896480"/>
                  <a:ext cx="81720" cy="61200"/>
                  <a:chOff x="5692680" y="1896480"/>
                  <a:chExt cx="81720" cy="61200"/>
                </a:xfrm>
              </p:grpSpPr>
              <p:grpSp>
                <p:nvGrpSpPr>
                  <p:cNvPr id="659" name=""/>
                  <p:cNvGrpSpPr/>
                  <p:nvPr/>
                </p:nvGrpSpPr>
                <p:grpSpPr>
                  <a:xfrm>
                    <a:off x="5692680" y="1896480"/>
                    <a:ext cx="76680" cy="61200"/>
                    <a:chOff x="5692680" y="1896480"/>
                    <a:chExt cx="76680" cy="61200"/>
                  </a:xfrm>
                </p:grpSpPr>
                <p:sp>
                  <p:nvSpPr>
                    <p:cNvPr id="660" name=""/>
                    <p:cNvSpPr/>
                    <p:nvPr/>
                  </p:nvSpPr>
                  <p:spPr>
                    <a:xfrm>
                      <a:off x="5692680" y="1903320"/>
                      <a:ext cx="7668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6" h="209">
                          <a:moveTo>
                            <a:pt x="197" y="29"/>
                          </a:moveTo>
                          <a:lnTo>
                            <a:pt x="181" y="32"/>
                          </a:lnTo>
                          <a:lnTo>
                            <a:pt x="168" y="25"/>
                          </a:lnTo>
                          <a:lnTo>
                            <a:pt x="151" y="17"/>
                          </a:lnTo>
                          <a:lnTo>
                            <a:pt x="134" y="11"/>
                          </a:lnTo>
                          <a:lnTo>
                            <a:pt x="107" y="4"/>
                          </a:lnTo>
                          <a:lnTo>
                            <a:pt x="92" y="0"/>
                          </a:lnTo>
                          <a:lnTo>
                            <a:pt x="41" y="12"/>
                          </a:lnTo>
                          <a:lnTo>
                            <a:pt x="33" y="17"/>
                          </a:lnTo>
                          <a:lnTo>
                            <a:pt x="25" y="22"/>
                          </a:lnTo>
                          <a:lnTo>
                            <a:pt x="19" y="31"/>
                          </a:lnTo>
                          <a:lnTo>
                            <a:pt x="14" y="44"/>
                          </a:lnTo>
                          <a:lnTo>
                            <a:pt x="9" y="64"/>
                          </a:lnTo>
                          <a:lnTo>
                            <a:pt x="5" y="90"/>
                          </a:lnTo>
                          <a:lnTo>
                            <a:pt x="3" y="113"/>
                          </a:lnTo>
                          <a:lnTo>
                            <a:pt x="0" y="130"/>
                          </a:lnTo>
                          <a:lnTo>
                            <a:pt x="0" y="140"/>
                          </a:lnTo>
                          <a:lnTo>
                            <a:pt x="3" y="148"/>
                          </a:lnTo>
                          <a:lnTo>
                            <a:pt x="5" y="155"/>
                          </a:lnTo>
                          <a:lnTo>
                            <a:pt x="11" y="165"/>
                          </a:lnTo>
                          <a:lnTo>
                            <a:pt x="34" y="188"/>
                          </a:lnTo>
                          <a:lnTo>
                            <a:pt x="45" y="194"/>
                          </a:lnTo>
                          <a:lnTo>
                            <a:pt x="64" y="204"/>
                          </a:lnTo>
                          <a:lnTo>
                            <a:pt x="76" y="209"/>
                          </a:lnTo>
                          <a:lnTo>
                            <a:pt x="86" y="205"/>
                          </a:lnTo>
                          <a:lnTo>
                            <a:pt x="89" y="198"/>
                          </a:lnTo>
                          <a:lnTo>
                            <a:pt x="99" y="198"/>
                          </a:lnTo>
                          <a:lnTo>
                            <a:pt x="110" y="198"/>
                          </a:lnTo>
                          <a:lnTo>
                            <a:pt x="125" y="201"/>
                          </a:lnTo>
                          <a:lnTo>
                            <a:pt x="134" y="202"/>
                          </a:lnTo>
                          <a:lnTo>
                            <a:pt x="137" y="194"/>
                          </a:lnTo>
                          <a:lnTo>
                            <a:pt x="140" y="188"/>
                          </a:lnTo>
                          <a:lnTo>
                            <a:pt x="148" y="191"/>
                          </a:lnTo>
                          <a:lnTo>
                            <a:pt x="158" y="191"/>
                          </a:lnTo>
                          <a:lnTo>
                            <a:pt x="162" y="185"/>
                          </a:lnTo>
                          <a:lnTo>
                            <a:pt x="165" y="178"/>
                          </a:lnTo>
                          <a:lnTo>
                            <a:pt x="168" y="168"/>
                          </a:lnTo>
                          <a:lnTo>
                            <a:pt x="183" y="170"/>
                          </a:lnTo>
                          <a:lnTo>
                            <a:pt x="198" y="170"/>
                          </a:lnTo>
                          <a:lnTo>
                            <a:pt x="208" y="166"/>
                          </a:lnTo>
                          <a:lnTo>
                            <a:pt x="218" y="161"/>
                          </a:lnTo>
                          <a:lnTo>
                            <a:pt x="225" y="154"/>
                          </a:lnTo>
                          <a:lnTo>
                            <a:pt x="233" y="145"/>
                          </a:lnTo>
                          <a:lnTo>
                            <a:pt x="260" y="139"/>
                          </a:lnTo>
                          <a:lnTo>
                            <a:pt x="265" y="107"/>
                          </a:lnTo>
                          <a:lnTo>
                            <a:pt x="266" y="86"/>
                          </a:lnTo>
                          <a:lnTo>
                            <a:pt x="259" y="62"/>
                          </a:lnTo>
                          <a:lnTo>
                            <a:pt x="250" y="47"/>
                          </a:lnTo>
                          <a:lnTo>
                            <a:pt x="241" y="39"/>
                          </a:lnTo>
                          <a:lnTo>
                            <a:pt x="226" y="31"/>
                          </a:lnTo>
                          <a:lnTo>
                            <a:pt x="208" y="25"/>
                          </a:lnTo>
                          <a:lnTo>
                            <a:pt x="197" y="29"/>
                          </a:lnTo>
                          <a:close/>
                        </a:path>
                      </a:pathLst>
                    </a:custGeom>
                    <a:solidFill>
                      <a:srgbClr val="f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1" name=""/>
                    <p:cNvSpPr/>
                    <p:nvPr/>
                  </p:nvSpPr>
                  <p:spPr>
                    <a:xfrm>
                      <a:off x="5697720" y="1914480"/>
                      <a:ext cx="5292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2" h="151">
                          <a:moveTo>
                            <a:pt x="182" y="50"/>
                          </a:moveTo>
                          <a:lnTo>
                            <a:pt x="167" y="60"/>
                          </a:lnTo>
                          <a:lnTo>
                            <a:pt x="154" y="60"/>
                          </a:lnTo>
                          <a:lnTo>
                            <a:pt x="142" y="56"/>
                          </a:lnTo>
                          <a:lnTo>
                            <a:pt x="134" y="51"/>
                          </a:lnTo>
                          <a:lnTo>
                            <a:pt x="127" y="47"/>
                          </a:lnTo>
                          <a:lnTo>
                            <a:pt x="120" y="47"/>
                          </a:lnTo>
                          <a:lnTo>
                            <a:pt x="110" y="53"/>
                          </a:lnTo>
                          <a:lnTo>
                            <a:pt x="95" y="57"/>
                          </a:lnTo>
                          <a:lnTo>
                            <a:pt x="81" y="61"/>
                          </a:lnTo>
                          <a:lnTo>
                            <a:pt x="71" y="62"/>
                          </a:lnTo>
                          <a:lnTo>
                            <a:pt x="59" y="62"/>
                          </a:lnTo>
                          <a:lnTo>
                            <a:pt x="47" y="60"/>
                          </a:lnTo>
                          <a:lnTo>
                            <a:pt x="39" y="56"/>
                          </a:lnTo>
                          <a:lnTo>
                            <a:pt x="36" y="51"/>
                          </a:lnTo>
                          <a:lnTo>
                            <a:pt x="33" y="42"/>
                          </a:lnTo>
                          <a:lnTo>
                            <a:pt x="33" y="35"/>
                          </a:lnTo>
                          <a:lnTo>
                            <a:pt x="37" y="29"/>
                          </a:lnTo>
                          <a:lnTo>
                            <a:pt x="44" y="26"/>
                          </a:lnTo>
                          <a:lnTo>
                            <a:pt x="56" y="23"/>
                          </a:lnTo>
                          <a:lnTo>
                            <a:pt x="71" y="21"/>
                          </a:lnTo>
                          <a:lnTo>
                            <a:pt x="82" y="21"/>
                          </a:lnTo>
                          <a:lnTo>
                            <a:pt x="94" y="14"/>
                          </a:lnTo>
                          <a:lnTo>
                            <a:pt x="106" y="7"/>
                          </a:lnTo>
                          <a:lnTo>
                            <a:pt x="89" y="7"/>
                          </a:lnTo>
                          <a:lnTo>
                            <a:pt x="78" y="1"/>
                          </a:lnTo>
                          <a:lnTo>
                            <a:pt x="65" y="0"/>
                          </a:lnTo>
                          <a:lnTo>
                            <a:pt x="55" y="3"/>
                          </a:lnTo>
                          <a:lnTo>
                            <a:pt x="43" y="10"/>
                          </a:lnTo>
                          <a:lnTo>
                            <a:pt x="38" y="14"/>
                          </a:lnTo>
                          <a:lnTo>
                            <a:pt x="21" y="2"/>
                          </a:lnTo>
                          <a:lnTo>
                            <a:pt x="28" y="10"/>
                          </a:lnTo>
                          <a:lnTo>
                            <a:pt x="31" y="17"/>
                          </a:lnTo>
                          <a:lnTo>
                            <a:pt x="22" y="19"/>
                          </a:lnTo>
                          <a:lnTo>
                            <a:pt x="31" y="21"/>
                          </a:lnTo>
                          <a:lnTo>
                            <a:pt x="23" y="56"/>
                          </a:lnTo>
                          <a:lnTo>
                            <a:pt x="19" y="63"/>
                          </a:lnTo>
                          <a:lnTo>
                            <a:pt x="14" y="68"/>
                          </a:lnTo>
                          <a:lnTo>
                            <a:pt x="0" y="70"/>
                          </a:lnTo>
                          <a:lnTo>
                            <a:pt x="10" y="74"/>
                          </a:lnTo>
                          <a:lnTo>
                            <a:pt x="14" y="83"/>
                          </a:lnTo>
                          <a:lnTo>
                            <a:pt x="6" y="102"/>
                          </a:lnTo>
                          <a:lnTo>
                            <a:pt x="4" y="115"/>
                          </a:lnTo>
                          <a:lnTo>
                            <a:pt x="25" y="94"/>
                          </a:lnTo>
                          <a:lnTo>
                            <a:pt x="36" y="100"/>
                          </a:lnTo>
                          <a:lnTo>
                            <a:pt x="39" y="111"/>
                          </a:lnTo>
                          <a:lnTo>
                            <a:pt x="23" y="120"/>
                          </a:lnTo>
                          <a:lnTo>
                            <a:pt x="42" y="118"/>
                          </a:lnTo>
                          <a:lnTo>
                            <a:pt x="50" y="118"/>
                          </a:lnTo>
                          <a:lnTo>
                            <a:pt x="55" y="123"/>
                          </a:lnTo>
                          <a:lnTo>
                            <a:pt x="61" y="132"/>
                          </a:lnTo>
                          <a:lnTo>
                            <a:pt x="66" y="143"/>
                          </a:lnTo>
                          <a:lnTo>
                            <a:pt x="72" y="151"/>
                          </a:lnTo>
                          <a:lnTo>
                            <a:pt x="72" y="137"/>
                          </a:lnTo>
                          <a:lnTo>
                            <a:pt x="66" y="127"/>
                          </a:lnTo>
                          <a:lnTo>
                            <a:pt x="60" y="118"/>
                          </a:lnTo>
                          <a:lnTo>
                            <a:pt x="65" y="112"/>
                          </a:lnTo>
                          <a:lnTo>
                            <a:pt x="73" y="110"/>
                          </a:lnTo>
                          <a:lnTo>
                            <a:pt x="82" y="111"/>
                          </a:lnTo>
                          <a:lnTo>
                            <a:pt x="95" y="112"/>
                          </a:lnTo>
                          <a:lnTo>
                            <a:pt x="106" y="105"/>
                          </a:lnTo>
                          <a:lnTo>
                            <a:pt x="120" y="102"/>
                          </a:lnTo>
                          <a:lnTo>
                            <a:pt x="131" y="100"/>
                          </a:lnTo>
                          <a:lnTo>
                            <a:pt x="137" y="98"/>
                          </a:lnTo>
                          <a:lnTo>
                            <a:pt x="140" y="95"/>
                          </a:lnTo>
                          <a:lnTo>
                            <a:pt x="150" y="102"/>
                          </a:lnTo>
                          <a:lnTo>
                            <a:pt x="146" y="90"/>
                          </a:lnTo>
                          <a:lnTo>
                            <a:pt x="171" y="105"/>
                          </a:lnTo>
                          <a:lnTo>
                            <a:pt x="167" y="95"/>
                          </a:lnTo>
                          <a:lnTo>
                            <a:pt x="148" y="82"/>
                          </a:lnTo>
                          <a:lnTo>
                            <a:pt x="151" y="73"/>
                          </a:lnTo>
                          <a:lnTo>
                            <a:pt x="159" y="63"/>
                          </a:lnTo>
                          <a:lnTo>
                            <a:pt x="170" y="62"/>
                          </a:lnTo>
                          <a:lnTo>
                            <a:pt x="182" y="50"/>
                          </a:lnTo>
                          <a:close/>
                        </a:path>
                      </a:pathLst>
                    </a:custGeom>
                    <a:solidFill>
                      <a:srgbClr val="df9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>
                      <a:off x="5715360" y="1896480"/>
                      <a:ext cx="1800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90">
                          <a:moveTo>
                            <a:pt x="56" y="0"/>
                          </a:moveTo>
                          <a:lnTo>
                            <a:pt x="43" y="3"/>
                          </a:lnTo>
                          <a:lnTo>
                            <a:pt x="41" y="10"/>
                          </a:lnTo>
                          <a:lnTo>
                            <a:pt x="0" y="90"/>
                          </a:lnTo>
                          <a:lnTo>
                            <a:pt x="21" y="88"/>
                          </a:lnTo>
                          <a:lnTo>
                            <a:pt x="63" y="16"/>
                          </a:lnTo>
                          <a:lnTo>
                            <a:pt x="64" y="4"/>
                          </a:lnTo>
                          <a:lnTo>
                            <a:pt x="56" y="0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>
                      <a:off x="5752080" y="1917000"/>
                      <a:ext cx="1296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83">
                          <a:moveTo>
                            <a:pt x="0" y="0"/>
                          </a:moveTo>
                          <a:lnTo>
                            <a:pt x="9" y="12"/>
                          </a:lnTo>
                          <a:lnTo>
                            <a:pt x="14" y="22"/>
                          </a:lnTo>
                          <a:lnTo>
                            <a:pt x="17" y="35"/>
                          </a:lnTo>
                          <a:lnTo>
                            <a:pt x="18" y="48"/>
                          </a:lnTo>
                          <a:lnTo>
                            <a:pt x="17" y="62"/>
                          </a:lnTo>
                          <a:lnTo>
                            <a:pt x="12" y="83"/>
                          </a:lnTo>
                          <a:lnTo>
                            <a:pt x="28" y="45"/>
                          </a:lnTo>
                          <a:lnTo>
                            <a:pt x="38" y="33"/>
                          </a:lnTo>
                          <a:lnTo>
                            <a:pt x="45" y="22"/>
                          </a:lnTo>
                          <a:lnTo>
                            <a:pt x="33" y="18"/>
                          </a:lnTo>
                          <a:lnTo>
                            <a:pt x="21" y="9"/>
                          </a:lnTo>
                          <a:lnTo>
                            <a:pt x="12" y="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df9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" name=""/>
                    <p:cNvSpPr/>
                    <p:nvPr/>
                  </p:nvSpPr>
                  <p:spPr>
                    <a:xfrm>
                      <a:off x="5722200" y="1898640"/>
                      <a:ext cx="1044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84">
                          <a:moveTo>
                            <a:pt x="36" y="7"/>
                          </a:moveTo>
                          <a:lnTo>
                            <a:pt x="38" y="10"/>
                          </a:lnTo>
                          <a:lnTo>
                            <a:pt x="4" y="84"/>
                          </a:lnTo>
                          <a:lnTo>
                            <a:pt x="0" y="76"/>
                          </a:lnTo>
                          <a:lnTo>
                            <a:pt x="2" y="69"/>
                          </a:lnTo>
                          <a:lnTo>
                            <a:pt x="6" y="63"/>
                          </a:lnTo>
                          <a:lnTo>
                            <a:pt x="12" y="61"/>
                          </a:lnTo>
                          <a:lnTo>
                            <a:pt x="35" y="10"/>
                          </a:lnTo>
                          <a:lnTo>
                            <a:pt x="18" y="2"/>
                          </a:lnTo>
                          <a:lnTo>
                            <a:pt x="18" y="0"/>
                          </a:lnTo>
                          <a:lnTo>
                            <a:pt x="36" y="7"/>
                          </a:lnTo>
                          <a:close/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65" name=""/>
                  <p:cNvSpPr/>
                  <p:nvPr/>
                </p:nvSpPr>
                <p:spPr>
                  <a:xfrm>
                    <a:off x="5744880" y="1908000"/>
                    <a:ext cx="295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32">
                        <a:moveTo>
                          <a:pt x="0" y="7"/>
                        </a:moveTo>
                        <a:lnTo>
                          <a:pt x="18" y="15"/>
                        </a:lnTo>
                        <a:lnTo>
                          <a:pt x="38" y="26"/>
                        </a:lnTo>
                        <a:lnTo>
                          <a:pt x="47" y="34"/>
                        </a:lnTo>
                        <a:lnTo>
                          <a:pt x="56" y="47"/>
                        </a:lnTo>
                        <a:lnTo>
                          <a:pt x="63" y="58"/>
                        </a:lnTo>
                        <a:lnTo>
                          <a:pt x="68" y="73"/>
                        </a:lnTo>
                        <a:lnTo>
                          <a:pt x="72" y="96"/>
                        </a:lnTo>
                        <a:lnTo>
                          <a:pt x="70" y="117"/>
                        </a:lnTo>
                        <a:lnTo>
                          <a:pt x="66" y="132"/>
                        </a:lnTo>
                        <a:lnTo>
                          <a:pt x="97" y="130"/>
                        </a:lnTo>
                        <a:lnTo>
                          <a:pt x="102" y="105"/>
                        </a:lnTo>
                        <a:lnTo>
                          <a:pt x="102" y="86"/>
                        </a:lnTo>
                        <a:lnTo>
                          <a:pt x="100" y="65"/>
                        </a:lnTo>
                        <a:lnTo>
                          <a:pt x="94" y="49"/>
                        </a:lnTo>
                        <a:lnTo>
                          <a:pt x="81" y="29"/>
                        </a:lnTo>
                        <a:lnTo>
                          <a:pt x="70" y="19"/>
                        </a:lnTo>
                        <a:lnTo>
                          <a:pt x="52" y="9"/>
                        </a:lnTo>
                        <a:lnTo>
                          <a:pt x="31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6" name=""/>
              <p:cNvGrpSpPr/>
              <p:nvPr/>
            </p:nvGrpSpPr>
            <p:grpSpPr>
              <a:xfrm>
                <a:off x="5058720" y="1615680"/>
                <a:ext cx="384840" cy="395280"/>
                <a:chOff x="5058720" y="1615680"/>
                <a:chExt cx="384840" cy="395280"/>
              </a:xfrm>
            </p:grpSpPr>
            <p:grpSp>
              <p:nvGrpSpPr>
                <p:cNvPr id="667" name=""/>
                <p:cNvGrpSpPr/>
                <p:nvPr/>
              </p:nvGrpSpPr>
              <p:grpSpPr>
                <a:xfrm>
                  <a:off x="5183280" y="1820880"/>
                  <a:ext cx="79200" cy="136800"/>
                  <a:chOff x="5183280" y="1820880"/>
                  <a:chExt cx="79200" cy="136800"/>
                </a:xfrm>
              </p:grpSpPr>
              <p:sp>
                <p:nvSpPr>
                  <p:cNvPr id="668" name=""/>
                  <p:cNvSpPr/>
                  <p:nvPr/>
                </p:nvSpPr>
                <p:spPr>
                  <a:xfrm>
                    <a:off x="5183280" y="1820880"/>
                    <a:ext cx="79200" cy="13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513">
                        <a:moveTo>
                          <a:pt x="0" y="0"/>
                        </a:moveTo>
                        <a:lnTo>
                          <a:pt x="26" y="14"/>
                        </a:lnTo>
                        <a:lnTo>
                          <a:pt x="56" y="23"/>
                        </a:lnTo>
                        <a:lnTo>
                          <a:pt x="91" y="30"/>
                        </a:lnTo>
                        <a:lnTo>
                          <a:pt x="129" y="37"/>
                        </a:lnTo>
                        <a:lnTo>
                          <a:pt x="154" y="35"/>
                        </a:lnTo>
                        <a:lnTo>
                          <a:pt x="183" y="28"/>
                        </a:lnTo>
                        <a:lnTo>
                          <a:pt x="208" y="20"/>
                        </a:lnTo>
                        <a:lnTo>
                          <a:pt x="235" y="3"/>
                        </a:lnTo>
                        <a:lnTo>
                          <a:pt x="263" y="125"/>
                        </a:lnTo>
                        <a:lnTo>
                          <a:pt x="267" y="203"/>
                        </a:lnTo>
                        <a:lnTo>
                          <a:pt x="271" y="238"/>
                        </a:lnTo>
                        <a:lnTo>
                          <a:pt x="271" y="305"/>
                        </a:lnTo>
                        <a:lnTo>
                          <a:pt x="267" y="361"/>
                        </a:lnTo>
                        <a:lnTo>
                          <a:pt x="259" y="430"/>
                        </a:lnTo>
                        <a:lnTo>
                          <a:pt x="246" y="492"/>
                        </a:lnTo>
                        <a:lnTo>
                          <a:pt x="67" y="513"/>
                        </a:lnTo>
                        <a:lnTo>
                          <a:pt x="41" y="289"/>
                        </a:lnTo>
                        <a:lnTo>
                          <a:pt x="22" y="1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5194440" y="1854720"/>
                    <a:ext cx="6660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390">
                        <a:moveTo>
                          <a:pt x="0" y="27"/>
                        </a:moveTo>
                        <a:lnTo>
                          <a:pt x="98" y="27"/>
                        </a:lnTo>
                        <a:lnTo>
                          <a:pt x="146" y="24"/>
                        </a:lnTo>
                        <a:lnTo>
                          <a:pt x="196" y="14"/>
                        </a:lnTo>
                        <a:lnTo>
                          <a:pt x="229" y="0"/>
                        </a:lnTo>
                        <a:lnTo>
                          <a:pt x="233" y="328"/>
                        </a:lnTo>
                        <a:lnTo>
                          <a:pt x="66" y="390"/>
                        </a:lnTo>
                        <a:lnTo>
                          <a:pt x="0" y="27"/>
                        </a:lnTo>
                        <a:close/>
                      </a:path>
                    </a:pathLst>
                  </a:custGeom>
                  <a:solidFill>
                    <a:srgbClr val="ffb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0" name=""/>
                <p:cNvGrpSpPr/>
                <p:nvPr/>
              </p:nvGrpSpPr>
              <p:grpSpPr>
                <a:xfrm>
                  <a:off x="5231160" y="1785960"/>
                  <a:ext cx="157680" cy="170280"/>
                  <a:chOff x="5231160" y="1785960"/>
                  <a:chExt cx="157680" cy="170280"/>
                </a:xfrm>
              </p:grpSpPr>
              <p:sp>
                <p:nvSpPr>
                  <p:cNvPr id="671" name=""/>
                  <p:cNvSpPr/>
                  <p:nvPr/>
                </p:nvSpPr>
                <p:spPr>
                  <a:xfrm>
                    <a:off x="5231160" y="1785960"/>
                    <a:ext cx="15768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545" h="645">
                        <a:moveTo>
                          <a:pt x="22" y="0"/>
                        </a:moveTo>
                        <a:lnTo>
                          <a:pt x="55" y="14"/>
                        </a:lnTo>
                        <a:lnTo>
                          <a:pt x="91" y="53"/>
                        </a:lnTo>
                        <a:lnTo>
                          <a:pt x="224" y="99"/>
                        </a:lnTo>
                        <a:lnTo>
                          <a:pt x="260" y="120"/>
                        </a:lnTo>
                        <a:lnTo>
                          <a:pt x="300" y="190"/>
                        </a:lnTo>
                        <a:lnTo>
                          <a:pt x="300" y="236"/>
                        </a:lnTo>
                        <a:lnTo>
                          <a:pt x="308" y="271"/>
                        </a:lnTo>
                        <a:lnTo>
                          <a:pt x="330" y="331"/>
                        </a:lnTo>
                        <a:lnTo>
                          <a:pt x="392" y="434"/>
                        </a:lnTo>
                        <a:lnTo>
                          <a:pt x="436" y="504"/>
                        </a:lnTo>
                        <a:lnTo>
                          <a:pt x="483" y="564"/>
                        </a:lnTo>
                        <a:lnTo>
                          <a:pt x="545" y="634"/>
                        </a:lnTo>
                        <a:lnTo>
                          <a:pt x="29" y="645"/>
                        </a:lnTo>
                        <a:lnTo>
                          <a:pt x="62" y="578"/>
                        </a:lnTo>
                        <a:lnTo>
                          <a:pt x="76" y="529"/>
                        </a:lnTo>
                        <a:lnTo>
                          <a:pt x="84" y="441"/>
                        </a:lnTo>
                        <a:lnTo>
                          <a:pt x="80" y="293"/>
                        </a:lnTo>
                        <a:lnTo>
                          <a:pt x="66" y="183"/>
                        </a:lnTo>
                        <a:lnTo>
                          <a:pt x="44" y="106"/>
                        </a:lnTo>
                        <a:lnTo>
                          <a:pt x="0" y="35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5270040" y="1807200"/>
                    <a:ext cx="33840" cy="89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338">
                        <a:moveTo>
                          <a:pt x="0" y="0"/>
                        </a:moveTo>
                        <a:lnTo>
                          <a:pt x="44" y="32"/>
                        </a:lnTo>
                        <a:lnTo>
                          <a:pt x="67" y="67"/>
                        </a:lnTo>
                        <a:lnTo>
                          <a:pt x="82" y="102"/>
                        </a:lnTo>
                        <a:lnTo>
                          <a:pt x="95" y="141"/>
                        </a:lnTo>
                        <a:lnTo>
                          <a:pt x="110" y="187"/>
                        </a:lnTo>
                        <a:lnTo>
                          <a:pt x="117" y="236"/>
                        </a:lnTo>
                        <a:lnTo>
                          <a:pt x="117" y="300"/>
                        </a:lnTo>
                        <a:lnTo>
                          <a:pt x="110" y="338"/>
                        </a:lnTo>
                        <a:lnTo>
                          <a:pt x="99" y="264"/>
                        </a:lnTo>
                        <a:lnTo>
                          <a:pt x="89" y="220"/>
                        </a:lnTo>
                        <a:lnTo>
                          <a:pt x="73" y="194"/>
                        </a:lnTo>
                        <a:lnTo>
                          <a:pt x="53" y="181"/>
                        </a:lnTo>
                        <a:lnTo>
                          <a:pt x="64" y="155"/>
                        </a:lnTo>
                        <a:lnTo>
                          <a:pt x="67" y="114"/>
                        </a:lnTo>
                        <a:lnTo>
                          <a:pt x="51" y="78"/>
                        </a:lnTo>
                        <a:lnTo>
                          <a:pt x="30" y="3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3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3" name=""/>
                <p:cNvSpPr/>
                <p:nvPr/>
              </p:nvSpPr>
              <p:spPr>
                <a:xfrm>
                  <a:off x="5216400" y="1932480"/>
                  <a:ext cx="46800" cy="33120"/>
                </a:xfrm>
                <a:custGeom>
                  <a:avLst/>
                  <a:gdLst/>
                  <a:ahLst/>
                  <a:rect l="l" t="t" r="r" b="b"/>
                  <a:pathLst>
                    <a:path w="160" h="125">
                      <a:moveTo>
                        <a:pt x="135" y="21"/>
                      </a:moveTo>
                      <a:lnTo>
                        <a:pt x="110" y="0"/>
                      </a:lnTo>
                      <a:lnTo>
                        <a:pt x="72" y="9"/>
                      </a:lnTo>
                      <a:lnTo>
                        <a:pt x="40" y="21"/>
                      </a:lnTo>
                      <a:lnTo>
                        <a:pt x="7" y="34"/>
                      </a:lnTo>
                      <a:lnTo>
                        <a:pt x="0" y="45"/>
                      </a:lnTo>
                      <a:lnTo>
                        <a:pt x="18" y="62"/>
                      </a:lnTo>
                      <a:lnTo>
                        <a:pt x="24" y="83"/>
                      </a:lnTo>
                      <a:lnTo>
                        <a:pt x="39" y="98"/>
                      </a:lnTo>
                      <a:lnTo>
                        <a:pt x="54" y="108"/>
                      </a:lnTo>
                      <a:lnTo>
                        <a:pt x="76" y="115"/>
                      </a:lnTo>
                      <a:lnTo>
                        <a:pt x="91" y="125"/>
                      </a:lnTo>
                      <a:lnTo>
                        <a:pt x="117" y="125"/>
                      </a:lnTo>
                      <a:lnTo>
                        <a:pt x="130" y="125"/>
                      </a:lnTo>
                      <a:lnTo>
                        <a:pt x="139" y="115"/>
                      </a:lnTo>
                      <a:lnTo>
                        <a:pt x="138" y="97"/>
                      </a:lnTo>
                      <a:lnTo>
                        <a:pt x="160" y="98"/>
                      </a:lnTo>
                      <a:lnTo>
                        <a:pt x="135" y="90"/>
                      </a:lnTo>
                      <a:lnTo>
                        <a:pt x="130" y="69"/>
                      </a:lnTo>
                      <a:lnTo>
                        <a:pt x="132" y="55"/>
                      </a:lnTo>
                      <a:lnTo>
                        <a:pt x="130" y="44"/>
                      </a:lnTo>
                      <a:lnTo>
                        <a:pt x="135" y="21"/>
                      </a:lnTo>
                      <a:close/>
                    </a:path>
                  </a:pathLst>
                </a:custGeom>
                <a:solidFill>
                  <a:srgbClr val="f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151960" y="1980720"/>
                  <a:ext cx="22320" cy="23760"/>
                </a:xfrm>
                <a:custGeom>
                  <a:avLst/>
                  <a:gdLst/>
                  <a:ahLst/>
                  <a:rect l="l" t="t" r="r" b="b"/>
                  <a:pathLst>
                    <a:path w="77" h="90">
                      <a:moveTo>
                        <a:pt x="77" y="0"/>
                      </a:moveTo>
                      <a:lnTo>
                        <a:pt x="19" y="90"/>
                      </a:lnTo>
                      <a:lnTo>
                        <a:pt x="0" y="26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5" name=""/>
                <p:cNvGrpSpPr/>
                <p:nvPr/>
              </p:nvGrpSpPr>
              <p:grpSpPr>
                <a:xfrm>
                  <a:off x="5058720" y="1774800"/>
                  <a:ext cx="160200" cy="236160"/>
                  <a:chOff x="5058720" y="1774800"/>
                  <a:chExt cx="160200" cy="236160"/>
                </a:xfrm>
              </p:grpSpPr>
              <p:sp>
                <p:nvSpPr>
                  <p:cNvPr id="676" name=""/>
                  <p:cNvSpPr/>
                  <p:nvPr/>
                </p:nvSpPr>
                <p:spPr>
                  <a:xfrm>
                    <a:off x="5058720" y="1774800"/>
                    <a:ext cx="160200" cy="235080"/>
                  </a:xfrm>
                  <a:custGeom>
                    <a:avLst/>
                    <a:gdLst/>
                    <a:ahLst/>
                    <a:rect l="l" t="t" r="r" b="b"/>
                    <a:pathLst>
                      <a:path w="552" h="889">
                        <a:moveTo>
                          <a:pt x="427" y="11"/>
                        </a:moveTo>
                        <a:lnTo>
                          <a:pt x="351" y="0"/>
                        </a:lnTo>
                        <a:lnTo>
                          <a:pt x="296" y="4"/>
                        </a:lnTo>
                        <a:lnTo>
                          <a:pt x="234" y="11"/>
                        </a:lnTo>
                        <a:lnTo>
                          <a:pt x="201" y="18"/>
                        </a:lnTo>
                        <a:lnTo>
                          <a:pt x="183" y="39"/>
                        </a:lnTo>
                        <a:lnTo>
                          <a:pt x="161" y="35"/>
                        </a:lnTo>
                        <a:lnTo>
                          <a:pt x="128" y="60"/>
                        </a:lnTo>
                        <a:lnTo>
                          <a:pt x="102" y="88"/>
                        </a:lnTo>
                        <a:lnTo>
                          <a:pt x="84" y="116"/>
                        </a:lnTo>
                        <a:lnTo>
                          <a:pt x="62" y="152"/>
                        </a:lnTo>
                        <a:lnTo>
                          <a:pt x="51" y="190"/>
                        </a:lnTo>
                        <a:lnTo>
                          <a:pt x="40" y="257"/>
                        </a:lnTo>
                        <a:lnTo>
                          <a:pt x="33" y="303"/>
                        </a:lnTo>
                        <a:lnTo>
                          <a:pt x="33" y="377"/>
                        </a:lnTo>
                        <a:lnTo>
                          <a:pt x="48" y="426"/>
                        </a:lnTo>
                        <a:lnTo>
                          <a:pt x="44" y="462"/>
                        </a:lnTo>
                        <a:lnTo>
                          <a:pt x="33" y="553"/>
                        </a:lnTo>
                        <a:lnTo>
                          <a:pt x="22" y="592"/>
                        </a:lnTo>
                        <a:lnTo>
                          <a:pt x="18" y="634"/>
                        </a:lnTo>
                        <a:lnTo>
                          <a:pt x="7" y="662"/>
                        </a:lnTo>
                        <a:lnTo>
                          <a:pt x="0" y="694"/>
                        </a:lnTo>
                        <a:lnTo>
                          <a:pt x="4" y="729"/>
                        </a:lnTo>
                        <a:lnTo>
                          <a:pt x="18" y="761"/>
                        </a:lnTo>
                        <a:lnTo>
                          <a:pt x="48" y="789"/>
                        </a:lnTo>
                        <a:lnTo>
                          <a:pt x="99" y="835"/>
                        </a:lnTo>
                        <a:lnTo>
                          <a:pt x="128" y="846"/>
                        </a:lnTo>
                        <a:lnTo>
                          <a:pt x="165" y="856"/>
                        </a:lnTo>
                        <a:lnTo>
                          <a:pt x="194" y="868"/>
                        </a:lnTo>
                        <a:lnTo>
                          <a:pt x="219" y="882"/>
                        </a:lnTo>
                        <a:lnTo>
                          <a:pt x="340" y="889"/>
                        </a:lnTo>
                        <a:lnTo>
                          <a:pt x="420" y="786"/>
                        </a:lnTo>
                        <a:lnTo>
                          <a:pt x="449" y="691"/>
                        </a:lnTo>
                        <a:lnTo>
                          <a:pt x="552" y="691"/>
                        </a:lnTo>
                        <a:lnTo>
                          <a:pt x="544" y="553"/>
                        </a:lnTo>
                        <a:lnTo>
                          <a:pt x="526" y="398"/>
                        </a:lnTo>
                        <a:lnTo>
                          <a:pt x="493" y="204"/>
                        </a:lnTo>
                        <a:lnTo>
                          <a:pt x="475" y="116"/>
                        </a:lnTo>
                        <a:lnTo>
                          <a:pt x="427" y="11"/>
                        </a:lnTo>
                        <a:close/>
                      </a:path>
                    </a:pathLst>
                  </a:custGeom>
                  <a:solidFill>
                    <a:srgbClr val="f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5108040" y="1932840"/>
                    <a:ext cx="7236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296">
                        <a:moveTo>
                          <a:pt x="233" y="14"/>
                        </a:moveTo>
                        <a:lnTo>
                          <a:pt x="144" y="7"/>
                        </a:lnTo>
                        <a:lnTo>
                          <a:pt x="51" y="0"/>
                        </a:lnTo>
                        <a:lnTo>
                          <a:pt x="35" y="21"/>
                        </a:lnTo>
                        <a:lnTo>
                          <a:pt x="28" y="38"/>
                        </a:lnTo>
                        <a:lnTo>
                          <a:pt x="17" y="59"/>
                        </a:lnTo>
                        <a:lnTo>
                          <a:pt x="7" y="91"/>
                        </a:lnTo>
                        <a:lnTo>
                          <a:pt x="2" y="119"/>
                        </a:lnTo>
                        <a:lnTo>
                          <a:pt x="0" y="145"/>
                        </a:lnTo>
                        <a:lnTo>
                          <a:pt x="3" y="176"/>
                        </a:lnTo>
                        <a:lnTo>
                          <a:pt x="14" y="217"/>
                        </a:lnTo>
                        <a:lnTo>
                          <a:pt x="25" y="250"/>
                        </a:lnTo>
                        <a:lnTo>
                          <a:pt x="28" y="280"/>
                        </a:lnTo>
                        <a:lnTo>
                          <a:pt x="177" y="296"/>
                        </a:lnTo>
                        <a:lnTo>
                          <a:pt x="241" y="193"/>
                        </a:lnTo>
                        <a:lnTo>
                          <a:pt x="248" y="166"/>
                        </a:lnTo>
                        <a:lnTo>
                          <a:pt x="233" y="14"/>
                        </a:lnTo>
                        <a:close/>
                      </a:path>
                    </a:pathLst>
                  </a:custGeom>
                  <a:solidFill>
                    <a:srgbClr val="df1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5076000" y="1790280"/>
                    <a:ext cx="6768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567">
                        <a:moveTo>
                          <a:pt x="146" y="0"/>
                        </a:moveTo>
                        <a:lnTo>
                          <a:pt x="189" y="70"/>
                        </a:lnTo>
                        <a:lnTo>
                          <a:pt x="215" y="144"/>
                        </a:lnTo>
                        <a:lnTo>
                          <a:pt x="230" y="233"/>
                        </a:lnTo>
                        <a:lnTo>
                          <a:pt x="233" y="331"/>
                        </a:lnTo>
                        <a:lnTo>
                          <a:pt x="230" y="447"/>
                        </a:lnTo>
                        <a:lnTo>
                          <a:pt x="219" y="497"/>
                        </a:lnTo>
                        <a:lnTo>
                          <a:pt x="160" y="539"/>
                        </a:lnTo>
                        <a:lnTo>
                          <a:pt x="131" y="521"/>
                        </a:lnTo>
                        <a:lnTo>
                          <a:pt x="102" y="514"/>
                        </a:lnTo>
                        <a:lnTo>
                          <a:pt x="76" y="521"/>
                        </a:lnTo>
                        <a:lnTo>
                          <a:pt x="58" y="546"/>
                        </a:lnTo>
                        <a:lnTo>
                          <a:pt x="25" y="560"/>
                        </a:lnTo>
                        <a:lnTo>
                          <a:pt x="0" y="567"/>
                        </a:lnTo>
                        <a:lnTo>
                          <a:pt x="40" y="532"/>
                        </a:lnTo>
                        <a:lnTo>
                          <a:pt x="65" y="521"/>
                        </a:lnTo>
                        <a:lnTo>
                          <a:pt x="84" y="504"/>
                        </a:lnTo>
                        <a:lnTo>
                          <a:pt x="106" y="504"/>
                        </a:lnTo>
                        <a:lnTo>
                          <a:pt x="131" y="479"/>
                        </a:lnTo>
                        <a:lnTo>
                          <a:pt x="106" y="451"/>
                        </a:lnTo>
                        <a:lnTo>
                          <a:pt x="142" y="458"/>
                        </a:lnTo>
                        <a:lnTo>
                          <a:pt x="116" y="377"/>
                        </a:lnTo>
                        <a:lnTo>
                          <a:pt x="95" y="310"/>
                        </a:lnTo>
                        <a:lnTo>
                          <a:pt x="87" y="263"/>
                        </a:lnTo>
                        <a:lnTo>
                          <a:pt x="98" y="194"/>
                        </a:lnTo>
                        <a:lnTo>
                          <a:pt x="116" y="271"/>
                        </a:lnTo>
                        <a:lnTo>
                          <a:pt x="153" y="359"/>
                        </a:lnTo>
                        <a:lnTo>
                          <a:pt x="197" y="454"/>
                        </a:lnTo>
                        <a:lnTo>
                          <a:pt x="197" y="324"/>
                        </a:lnTo>
                        <a:lnTo>
                          <a:pt x="189" y="236"/>
                        </a:lnTo>
                        <a:lnTo>
                          <a:pt x="179" y="106"/>
                        </a:lnTo>
                        <a:lnTo>
                          <a:pt x="146" y="0"/>
                        </a:lnTo>
                        <a:close/>
                      </a:path>
                    </a:pathLst>
                  </a:custGeom>
                  <a:solidFill>
                    <a:srgbClr val="df3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9" name=""/>
                <p:cNvSpPr/>
                <p:nvPr/>
              </p:nvSpPr>
              <p:spPr>
                <a:xfrm>
                  <a:off x="5245920" y="1873800"/>
                  <a:ext cx="197640" cy="95040"/>
                </a:xfrm>
                <a:custGeom>
                  <a:avLst/>
                  <a:gdLst/>
                  <a:ahLst/>
                  <a:rect l="l" t="t" r="r" b="b"/>
                  <a:pathLst>
                    <a:path w="681" h="359">
                      <a:moveTo>
                        <a:pt x="0" y="292"/>
                      </a:moveTo>
                      <a:lnTo>
                        <a:pt x="263" y="0"/>
                      </a:lnTo>
                      <a:lnTo>
                        <a:pt x="681" y="111"/>
                      </a:lnTo>
                      <a:lnTo>
                        <a:pt x="509" y="320"/>
                      </a:lnTo>
                      <a:lnTo>
                        <a:pt x="402" y="344"/>
                      </a:lnTo>
                      <a:lnTo>
                        <a:pt x="293" y="359"/>
                      </a:lnTo>
                      <a:lnTo>
                        <a:pt x="55" y="345"/>
                      </a:lnTo>
                      <a:lnTo>
                        <a:pt x="0" y="292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5148360" y="1929240"/>
                  <a:ext cx="168840" cy="62280"/>
                </a:xfrm>
                <a:custGeom>
                  <a:avLst/>
                  <a:gdLst/>
                  <a:ahLst/>
                  <a:rect l="l" t="t" r="r" b="b"/>
                  <a:pathLst>
                    <a:path w="582" h="236">
                      <a:moveTo>
                        <a:pt x="32" y="57"/>
                      </a:moveTo>
                      <a:lnTo>
                        <a:pt x="249" y="29"/>
                      </a:lnTo>
                      <a:lnTo>
                        <a:pt x="295" y="12"/>
                      </a:lnTo>
                      <a:lnTo>
                        <a:pt x="318" y="3"/>
                      </a:lnTo>
                      <a:lnTo>
                        <a:pt x="342" y="0"/>
                      </a:lnTo>
                      <a:lnTo>
                        <a:pt x="375" y="5"/>
                      </a:lnTo>
                      <a:lnTo>
                        <a:pt x="412" y="12"/>
                      </a:lnTo>
                      <a:lnTo>
                        <a:pt x="439" y="15"/>
                      </a:lnTo>
                      <a:lnTo>
                        <a:pt x="491" y="21"/>
                      </a:lnTo>
                      <a:lnTo>
                        <a:pt x="517" y="22"/>
                      </a:lnTo>
                      <a:lnTo>
                        <a:pt x="537" y="26"/>
                      </a:lnTo>
                      <a:lnTo>
                        <a:pt x="559" y="29"/>
                      </a:lnTo>
                      <a:lnTo>
                        <a:pt x="577" y="36"/>
                      </a:lnTo>
                      <a:lnTo>
                        <a:pt x="582" y="46"/>
                      </a:lnTo>
                      <a:lnTo>
                        <a:pt x="574" y="54"/>
                      </a:lnTo>
                      <a:lnTo>
                        <a:pt x="537" y="56"/>
                      </a:lnTo>
                      <a:lnTo>
                        <a:pt x="523" y="57"/>
                      </a:lnTo>
                      <a:lnTo>
                        <a:pt x="520" y="82"/>
                      </a:lnTo>
                      <a:lnTo>
                        <a:pt x="512" y="92"/>
                      </a:lnTo>
                      <a:lnTo>
                        <a:pt x="506" y="93"/>
                      </a:lnTo>
                      <a:lnTo>
                        <a:pt x="501" y="109"/>
                      </a:lnTo>
                      <a:lnTo>
                        <a:pt x="490" y="121"/>
                      </a:lnTo>
                      <a:lnTo>
                        <a:pt x="476" y="127"/>
                      </a:lnTo>
                      <a:lnTo>
                        <a:pt x="468" y="137"/>
                      </a:lnTo>
                      <a:lnTo>
                        <a:pt x="457" y="142"/>
                      </a:lnTo>
                      <a:lnTo>
                        <a:pt x="423" y="160"/>
                      </a:lnTo>
                      <a:lnTo>
                        <a:pt x="405" y="167"/>
                      </a:lnTo>
                      <a:lnTo>
                        <a:pt x="351" y="169"/>
                      </a:lnTo>
                      <a:lnTo>
                        <a:pt x="311" y="165"/>
                      </a:lnTo>
                      <a:lnTo>
                        <a:pt x="288" y="155"/>
                      </a:lnTo>
                      <a:lnTo>
                        <a:pt x="277" y="151"/>
                      </a:lnTo>
                      <a:lnTo>
                        <a:pt x="256" y="155"/>
                      </a:lnTo>
                      <a:lnTo>
                        <a:pt x="222" y="158"/>
                      </a:lnTo>
                      <a:lnTo>
                        <a:pt x="193" y="163"/>
                      </a:lnTo>
                      <a:lnTo>
                        <a:pt x="70" y="208"/>
                      </a:lnTo>
                      <a:lnTo>
                        <a:pt x="17" y="236"/>
                      </a:lnTo>
                      <a:lnTo>
                        <a:pt x="3" y="187"/>
                      </a:lnTo>
                      <a:lnTo>
                        <a:pt x="0" y="156"/>
                      </a:lnTo>
                      <a:lnTo>
                        <a:pt x="0" y="131"/>
                      </a:lnTo>
                      <a:lnTo>
                        <a:pt x="10" y="99"/>
                      </a:lnTo>
                      <a:lnTo>
                        <a:pt x="32" y="57"/>
                      </a:lnTo>
                      <a:close/>
                    </a:path>
                  </a:pathLst>
                </a:custGeom>
                <a:solidFill>
                  <a:srgbClr val="f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"/>
                <p:cNvGrpSpPr/>
                <p:nvPr/>
              </p:nvGrpSpPr>
              <p:grpSpPr>
                <a:xfrm>
                  <a:off x="5115960" y="1615680"/>
                  <a:ext cx="185760" cy="218880"/>
                  <a:chOff x="5115960" y="1615680"/>
                  <a:chExt cx="185760" cy="218880"/>
                </a:xfrm>
              </p:grpSpPr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5283000" y="1675080"/>
                    <a:ext cx="16560" cy="39600"/>
                    <a:chOff x="5283000" y="1675080"/>
                    <a:chExt cx="16560" cy="39600"/>
                  </a:xfrm>
                </p:grpSpPr>
                <p:sp>
                  <p:nvSpPr>
                    <p:cNvPr id="683" name=""/>
                    <p:cNvSpPr/>
                    <p:nvPr/>
                  </p:nvSpPr>
                  <p:spPr>
                    <a:xfrm>
                      <a:off x="5283000" y="1675080"/>
                      <a:ext cx="16560" cy="39600"/>
                    </a:xfrm>
                    <a:prstGeom prst="ellipse">
                      <a:avLst/>
                    </a:prstGeom>
                    <a:solidFill>
                      <a:srgbClr val="7f3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>
                      <a:off x="5284440" y="1675800"/>
                      <a:ext cx="14040" cy="37080"/>
                    </a:xfrm>
                    <a:prstGeom prst="ellipse">
                      <a:avLst/>
                    </a:prstGeom>
                    <a:solidFill>
                      <a:srgbClr val="ffd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5" name=""/>
                  <p:cNvGrpSpPr/>
                  <p:nvPr/>
                </p:nvGrpSpPr>
                <p:grpSpPr>
                  <a:xfrm>
                    <a:off x="5115960" y="1615680"/>
                    <a:ext cx="185760" cy="218880"/>
                    <a:chOff x="5115960" y="1615680"/>
                    <a:chExt cx="185760" cy="218880"/>
                  </a:xfrm>
                </p:grpSpPr>
                <p:grpSp>
                  <p:nvGrpSpPr>
                    <p:cNvPr id="686" name=""/>
                    <p:cNvGrpSpPr/>
                    <p:nvPr/>
                  </p:nvGrpSpPr>
                  <p:grpSpPr>
                    <a:xfrm>
                      <a:off x="5159160" y="1629720"/>
                      <a:ext cx="142560" cy="204840"/>
                      <a:chOff x="5159160" y="1629720"/>
                      <a:chExt cx="142560" cy="204840"/>
                    </a:xfrm>
                  </p:grpSpPr>
                  <p:sp>
                    <p:nvSpPr>
                      <p:cNvPr id="687" name=""/>
                      <p:cNvSpPr/>
                      <p:nvPr/>
                    </p:nvSpPr>
                    <p:spPr>
                      <a:xfrm>
                        <a:off x="5159160" y="1629720"/>
                        <a:ext cx="142560" cy="20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2" h="777">
                            <a:moveTo>
                              <a:pt x="318" y="14"/>
                            </a:moveTo>
                            <a:lnTo>
                              <a:pt x="359" y="29"/>
                            </a:lnTo>
                            <a:lnTo>
                              <a:pt x="383" y="44"/>
                            </a:lnTo>
                            <a:lnTo>
                              <a:pt x="402" y="64"/>
                            </a:lnTo>
                            <a:lnTo>
                              <a:pt x="413" y="86"/>
                            </a:lnTo>
                            <a:lnTo>
                              <a:pt x="421" y="111"/>
                            </a:lnTo>
                            <a:lnTo>
                              <a:pt x="427" y="135"/>
                            </a:lnTo>
                            <a:lnTo>
                              <a:pt x="434" y="171"/>
                            </a:lnTo>
                            <a:lnTo>
                              <a:pt x="438" y="206"/>
                            </a:lnTo>
                            <a:lnTo>
                              <a:pt x="433" y="227"/>
                            </a:lnTo>
                            <a:lnTo>
                              <a:pt x="431" y="248"/>
                            </a:lnTo>
                            <a:lnTo>
                              <a:pt x="442" y="269"/>
                            </a:lnTo>
                            <a:lnTo>
                              <a:pt x="475" y="303"/>
                            </a:lnTo>
                            <a:lnTo>
                              <a:pt x="483" y="313"/>
                            </a:lnTo>
                            <a:lnTo>
                              <a:pt x="490" y="322"/>
                            </a:lnTo>
                            <a:lnTo>
                              <a:pt x="492" y="330"/>
                            </a:lnTo>
                            <a:lnTo>
                              <a:pt x="488" y="337"/>
                            </a:lnTo>
                            <a:lnTo>
                              <a:pt x="480" y="342"/>
                            </a:lnTo>
                            <a:lnTo>
                              <a:pt x="464" y="347"/>
                            </a:lnTo>
                            <a:lnTo>
                              <a:pt x="458" y="353"/>
                            </a:lnTo>
                            <a:lnTo>
                              <a:pt x="464" y="367"/>
                            </a:lnTo>
                            <a:lnTo>
                              <a:pt x="462" y="375"/>
                            </a:lnTo>
                            <a:lnTo>
                              <a:pt x="456" y="382"/>
                            </a:lnTo>
                            <a:lnTo>
                              <a:pt x="443" y="389"/>
                            </a:lnTo>
                            <a:lnTo>
                              <a:pt x="425" y="397"/>
                            </a:lnTo>
                            <a:lnTo>
                              <a:pt x="414" y="401"/>
                            </a:lnTo>
                            <a:lnTo>
                              <a:pt x="453" y="410"/>
                            </a:lnTo>
                            <a:lnTo>
                              <a:pt x="458" y="417"/>
                            </a:lnTo>
                            <a:lnTo>
                              <a:pt x="448" y="433"/>
                            </a:lnTo>
                            <a:lnTo>
                              <a:pt x="447" y="454"/>
                            </a:lnTo>
                            <a:lnTo>
                              <a:pt x="447" y="484"/>
                            </a:lnTo>
                            <a:lnTo>
                              <a:pt x="447" y="496"/>
                            </a:lnTo>
                            <a:lnTo>
                              <a:pt x="442" y="505"/>
                            </a:lnTo>
                            <a:lnTo>
                              <a:pt x="431" y="514"/>
                            </a:lnTo>
                            <a:lnTo>
                              <a:pt x="414" y="518"/>
                            </a:lnTo>
                            <a:lnTo>
                              <a:pt x="396" y="523"/>
                            </a:lnTo>
                            <a:lnTo>
                              <a:pt x="354" y="530"/>
                            </a:lnTo>
                            <a:lnTo>
                              <a:pt x="330" y="536"/>
                            </a:lnTo>
                            <a:lnTo>
                              <a:pt x="312" y="543"/>
                            </a:lnTo>
                            <a:lnTo>
                              <a:pt x="298" y="553"/>
                            </a:lnTo>
                            <a:lnTo>
                              <a:pt x="253" y="615"/>
                            </a:lnTo>
                            <a:lnTo>
                              <a:pt x="320" y="754"/>
                            </a:lnTo>
                            <a:lnTo>
                              <a:pt x="281" y="765"/>
                            </a:lnTo>
                            <a:lnTo>
                              <a:pt x="221" y="777"/>
                            </a:lnTo>
                            <a:lnTo>
                              <a:pt x="169" y="774"/>
                            </a:lnTo>
                            <a:lnTo>
                              <a:pt x="139" y="758"/>
                            </a:lnTo>
                            <a:lnTo>
                              <a:pt x="68" y="545"/>
                            </a:lnTo>
                            <a:lnTo>
                              <a:pt x="68" y="474"/>
                            </a:lnTo>
                            <a:lnTo>
                              <a:pt x="47" y="436"/>
                            </a:lnTo>
                            <a:lnTo>
                              <a:pt x="22" y="387"/>
                            </a:lnTo>
                            <a:lnTo>
                              <a:pt x="11" y="359"/>
                            </a:lnTo>
                            <a:lnTo>
                              <a:pt x="4" y="321"/>
                            </a:lnTo>
                            <a:lnTo>
                              <a:pt x="0" y="280"/>
                            </a:lnTo>
                            <a:lnTo>
                              <a:pt x="0" y="231"/>
                            </a:lnTo>
                            <a:lnTo>
                              <a:pt x="6" y="185"/>
                            </a:lnTo>
                            <a:lnTo>
                              <a:pt x="14" y="145"/>
                            </a:lnTo>
                            <a:lnTo>
                              <a:pt x="28" y="111"/>
                            </a:lnTo>
                            <a:lnTo>
                              <a:pt x="44" y="78"/>
                            </a:lnTo>
                            <a:lnTo>
                              <a:pt x="68" y="47"/>
                            </a:lnTo>
                            <a:lnTo>
                              <a:pt x="102" y="23"/>
                            </a:lnTo>
                            <a:lnTo>
                              <a:pt x="139" y="9"/>
                            </a:lnTo>
                            <a:lnTo>
                              <a:pt x="181" y="2"/>
                            </a:lnTo>
                            <a:lnTo>
                              <a:pt x="219" y="0"/>
                            </a:lnTo>
                            <a:lnTo>
                              <a:pt x="269" y="3"/>
                            </a:lnTo>
                            <a:lnTo>
                              <a:pt x="318" y="14"/>
                            </a:lnTo>
                            <a:close/>
                          </a:path>
                        </a:pathLst>
                      </a:custGeom>
                      <a:solidFill>
                        <a:srgbClr val="ffb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688" name=""/>
                      <p:cNvGrpSpPr/>
                      <p:nvPr/>
                    </p:nvGrpSpPr>
                    <p:grpSpPr>
                      <a:xfrm>
                        <a:off x="5218200" y="1749240"/>
                        <a:ext cx="65520" cy="74520"/>
                        <a:chOff x="5218200" y="1749240"/>
                        <a:chExt cx="65520" cy="74520"/>
                      </a:xfrm>
                    </p:grpSpPr>
                    <p:sp>
                      <p:nvSpPr>
                        <p:cNvPr id="689" name=""/>
                        <p:cNvSpPr/>
                        <p:nvPr/>
                      </p:nvSpPr>
                      <p:spPr>
                        <a:xfrm>
                          <a:off x="5218920" y="1749240"/>
                          <a:ext cx="64800" cy="26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6" h="102">
                              <a:moveTo>
                                <a:pt x="0" y="0"/>
                              </a:moveTo>
                              <a:lnTo>
                                <a:pt x="33" y="14"/>
                              </a:lnTo>
                              <a:lnTo>
                                <a:pt x="67" y="25"/>
                              </a:lnTo>
                              <a:lnTo>
                                <a:pt x="92" y="32"/>
                              </a:lnTo>
                              <a:lnTo>
                                <a:pt x="125" y="41"/>
                              </a:lnTo>
                              <a:lnTo>
                                <a:pt x="147" y="45"/>
                              </a:lnTo>
                              <a:lnTo>
                                <a:pt x="178" y="50"/>
                              </a:lnTo>
                              <a:lnTo>
                                <a:pt x="201" y="50"/>
                              </a:lnTo>
                              <a:lnTo>
                                <a:pt x="226" y="50"/>
                              </a:lnTo>
                              <a:lnTo>
                                <a:pt x="202" y="59"/>
                              </a:lnTo>
                              <a:lnTo>
                                <a:pt x="168" y="66"/>
                              </a:lnTo>
                              <a:lnTo>
                                <a:pt x="141" y="72"/>
                              </a:lnTo>
                              <a:lnTo>
                                <a:pt x="119" y="78"/>
                              </a:lnTo>
                              <a:lnTo>
                                <a:pt x="97" y="85"/>
                              </a:lnTo>
                              <a:lnTo>
                                <a:pt x="84" y="91"/>
                              </a:lnTo>
                              <a:lnTo>
                                <a:pt x="69" y="102"/>
                              </a:lnTo>
                              <a:lnTo>
                                <a:pt x="83" y="86"/>
                              </a:lnTo>
                              <a:lnTo>
                                <a:pt x="95" y="75"/>
                              </a:lnTo>
                              <a:lnTo>
                                <a:pt x="98" y="65"/>
                              </a:lnTo>
                              <a:lnTo>
                                <a:pt x="98" y="57"/>
                              </a:lnTo>
                              <a:lnTo>
                                <a:pt x="95" y="49"/>
                              </a:lnTo>
                              <a:lnTo>
                                <a:pt x="85" y="44"/>
                              </a:lnTo>
                              <a:lnTo>
                                <a:pt x="74" y="41"/>
                              </a:lnTo>
                              <a:lnTo>
                                <a:pt x="55" y="38"/>
                              </a:lnTo>
                              <a:lnTo>
                                <a:pt x="38" y="36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160" bIns="-20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0" name=""/>
                        <p:cNvSpPr/>
                        <p:nvPr/>
                      </p:nvSpPr>
                      <p:spPr>
                        <a:xfrm>
                          <a:off x="5218200" y="1786680"/>
                          <a:ext cx="15480" cy="37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6" h="142">
                              <a:moveTo>
                                <a:pt x="32" y="16"/>
                              </a:moveTo>
                              <a:lnTo>
                                <a:pt x="32" y="6"/>
                              </a:lnTo>
                              <a:lnTo>
                                <a:pt x="28" y="1"/>
                              </a:lnTo>
                              <a:lnTo>
                                <a:pt x="20" y="0"/>
                              </a:lnTo>
                              <a:lnTo>
                                <a:pt x="11" y="5"/>
                              </a:lnTo>
                              <a:lnTo>
                                <a:pt x="5" y="13"/>
                              </a:lnTo>
                              <a:lnTo>
                                <a:pt x="0" y="23"/>
                              </a:lnTo>
                              <a:lnTo>
                                <a:pt x="0" y="38"/>
                              </a:lnTo>
                              <a:lnTo>
                                <a:pt x="2" y="81"/>
                              </a:lnTo>
                              <a:lnTo>
                                <a:pt x="5" y="99"/>
                              </a:lnTo>
                              <a:lnTo>
                                <a:pt x="10" y="108"/>
                              </a:lnTo>
                              <a:lnTo>
                                <a:pt x="47" y="142"/>
                              </a:lnTo>
                              <a:lnTo>
                                <a:pt x="56" y="108"/>
                              </a:lnTo>
                              <a:lnTo>
                                <a:pt x="39" y="84"/>
                              </a:lnTo>
                              <a:lnTo>
                                <a:pt x="42" y="101"/>
                              </a:lnTo>
                              <a:lnTo>
                                <a:pt x="43" y="115"/>
                              </a:lnTo>
                              <a:lnTo>
                                <a:pt x="42" y="120"/>
                              </a:lnTo>
                              <a:lnTo>
                                <a:pt x="14" y="89"/>
                              </a:lnTo>
                              <a:lnTo>
                                <a:pt x="13" y="77"/>
                              </a:lnTo>
                              <a:lnTo>
                                <a:pt x="10" y="61"/>
                              </a:lnTo>
                              <a:lnTo>
                                <a:pt x="16" y="42"/>
                              </a:lnTo>
                              <a:lnTo>
                                <a:pt x="24" y="27"/>
                              </a:lnTo>
                              <a:lnTo>
                                <a:pt x="32" y="1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9720" bIns="-9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691" name=""/>
                    <p:cNvSpPr/>
                    <p:nvPr/>
                  </p:nvSpPr>
                  <p:spPr>
                    <a:xfrm>
                      <a:off x="5258520" y="1694520"/>
                      <a:ext cx="10440" cy="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9">
                          <a:moveTo>
                            <a:pt x="32" y="0"/>
                          </a:moveTo>
                          <a:lnTo>
                            <a:pt x="17" y="6"/>
                          </a:lnTo>
                          <a:lnTo>
                            <a:pt x="0" y="17"/>
                          </a:lnTo>
                          <a:lnTo>
                            <a:pt x="12" y="26"/>
                          </a:lnTo>
                          <a:lnTo>
                            <a:pt x="30" y="29"/>
                          </a:lnTo>
                          <a:lnTo>
                            <a:pt x="36" y="28"/>
                          </a:lnTo>
                          <a:lnTo>
                            <a:pt x="32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>
                      <a:off x="5254200" y="1679040"/>
                      <a:ext cx="1836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53">
                          <a:moveTo>
                            <a:pt x="64" y="0"/>
                          </a:moveTo>
                          <a:lnTo>
                            <a:pt x="49" y="3"/>
                          </a:lnTo>
                          <a:lnTo>
                            <a:pt x="38" y="14"/>
                          </a:lnTo>
                          <a:lnTo>
                            <a:pt x="28" y="27"/>
                          </a:lnTo>
                          <a:lnTo>
                            <a:pt x="19" y="39"/>
                          </a:lnTo>
                          <a:lnTo>
                            <a:pt x="0" y="53"/>
                          </a:lnTo>
                          <a:lnTo>
                            <a:pt x="22" y="46"/>
                          </a:lnTo>
                          <a:lnTo>
                            <a:pt x="37" y="35"/>
                          </a:lnTo>
                          <a:lnTo>
                            <a:pt x="49" y="25"/>
                          </a:lnTo>
                          <a:lnTo>
                            <a:pt x="60" y="21"/>
                          </a:lnTo>
                          <a:lnTo>
                            <a:pt x="64" y="0"/>
                          </a:lnTo>
                          <a:close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93" name=""/>
                    <p:cNvGrpSpPr/>
                    <p:nvPr/>
                  </p:nvGrpSpPr>
                  <p:grpSpPr>
                    <a:xfrm>
                      <a:off x="5256720" y="1687680"/>
                      <a:ext cx="12960" cy="14760"/>
                      <a:chOff x="5256720" y="1687680"/>
                      <a:chExt cx="12960" cy="14760"/>
                    </a:xfrm>
                  </p:grpSpPr>
                  <p:sp>
                    <p:nvSpPr>
                      <p:cNvPr id="694" name=""/>
                      <p:cNvSpPr/>
                      <p:nvPr/>
                    </p:nvSpPr>
                    <p:spPr>
                      <a:xfrm>
                        <a:off x="5261760" y="1695240"/>
                        <a:ext cx="5760" cy="6120"/>
                      </a:xfrm>
                      <a:prstGeom prst="ellipse">
                        <a:avLst/>
                      </a:prstGeom>
                      <a:solidFill>
                        <a:srgbClr val="5f7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5" name=""/>
                      <p:cNvSpPr/>
                      <p:nvPr/>
                    </p:nvSpPr>
                    <p:spPr>
                      <a:xfrm>
                        <a:off x="5256720" y="1687680"/>
                        <a:ext cx="1296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57">
                            <a:moveTo>
                              <a:pt x="38" y="14"/>
                            </a:moveTo>
                            <a:lnTo>
                              <a:pt x="26" y="25"/>
                            </a:lnTo>
                            <a:lnTo>
                              <a:pt x="30" y="0"/>
                            </a:lnTo>
                            <a:lnTo>
                              <a:pt x="20" y="25"/>
                            </a:lnTo>
                            <a:lnTo>
                              <a:pt x="12" y="35"/>
                            </a:lnTo>
                            <a:lnTo>
                              <a:pt x="0" y="44"/>
                            </a:lnTo>
                            <a:lnTo>
                              <a:pt x="15" y="54"/>
                            </a:lnTo>
                            <a:lnTo>
                              <a:pt x="16" y="54"/>
                            </a:lnTo>
                            <a:lnTo>
                              <a:pt x="26" y="57"/>
                            </a:lnTo>
                            <a:lnTo>
                              <a:pt x="39" y="57"/>
                            </a:lnTo>
                            <a:lnTo>
                              <a:pt x="37" y="48"/>
                            </a:lnTo>
                            <a:lnTo>
                              <a:pt x="26" y="51"/>
                            </a:lnTo>
                            <a:lnTo>
                              <a:pt x="15" y="46"/>
                            </a:lnTo>
                            <a:lnTo>
                              <a:pt x="6" y="42"/>
                            </a:lnTo>
                            <a:lnTo>
                              <a:pt x="15" y="38"/>
                            </a:lnTo>
                            <a:lnTo>
                              <a:pt x="30" y="32"/>
                            </a:lnTo>
                            <a:lnTo>
                              <a:pt x="44" y="25"/>
                            </a:lnTo>
                            <a:lnTo>
                              <a:pt x="38" y="14"/>
                            </a:lnTo>
                            <a:close/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96" name=""/>
                    <p:cNvSpPr/>
                    <p:nvPr/>
                  </p:nvSpPr>
                  <p:spPr>
                    <a:xfrm>
                      <a:off x="5115960" y="1615680"/>
                      <a:ext cx="173160" cy="17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7" h="674">
                          <a:moveTo>
                            <a:pt x="579" y="199"/>
                          </a:moveTo>
                          <a:lnTo>
                            <a:pt x="586" y="192"/>
                          </a:lnTo>
                          <a:lnTo>
                            <a:pt x="594" y="183"/>
                          </a:lnTo>
                          <a:lnTo>
                            <a:pt x="597" y="162"/>
                          </a:lnTo>
                          <a:lnTo>
                            <a:pt x="597" y="123"/>
                          </a:lnTo>
                          <a:lnTo>
                            <a:pt x="586" y="91"/>
                          </a:lnTo>
                          <a:lnTo>
                            <a:pt x="571" y="74"/>
                          </a:lnTo>
                          <a:lnTo>
                            <a:pt x="549" y="52"/>
                          </a:lnTo>
                          <a:lnTo>
                            <a:pt x="504" y="45"/>
                          </a:lnTo>
                          <a:lnTo>
                            <a:pt x="439" y="35"/>
                          </a:lnTo>
                          <a:lnTo>
                            <a:pt x="380" y="21"/>
                          </a:lnTo>
                          <a:lnTo>
                            <a:pt x="333" y="10"/>
                          </a:lnTo>
                          <a:lnTo>
                            <a:pt x="274" y="0"/>
                          </a:lnTo>
                          <a:lnTo>
                            <a:pt x="245" y="10"/>
                          </a:lnTo>
                          <a:lnTo>
                            <a:pt x="212" y="35"/>
                          </a:lnTo>
                          <a:lnTo>
                            <a:pt x="183" y="63"/>
                          </a:lnTo>
                          <a:lnTo>
                            <a:pt x="161" y="95"/>
                          </a:lnTo>
                          <a:lnTo>
                            <a:pt x="135" y="144"/>
                          </a:lnTo>
                          <a:lnTo>
                            <a:pt x="121" y="190"/>
                          </a:lnTo>
                          <a:lnTo>
                            <a:pt x="114" y="236"/>
                          </a:lnTo>
                          <a:lnTo>
                            <a:pt x="103" y="288"/>
                          </a:lnTo>
                          <a:lnTo>
                            <a:pt x="103" y="334"/>
                          </a:lnTo>
                          <a:lnTo>
                            <a:pt x="88" y="387"/>
                          </a:lnTo>
                          <a:lnTo>
                            <a:pt x="70" y="434"/>
                          </a:lnTo>
                          <a:lnTo>
                            <a:pt x="48" y="466"/>
                          </a:lnTo>
                          <a:lnTo>
                            <a:pt x="26" y="487"/>
                          </a:lnTo>
                          <a:lnTo>
                            <a:pt x="4" y="512"/>
                          </a:lnTo>
                          <a:lnTo>
                            <a:pt x="4" y="519"/>
                          </a:lnTo>
                          <a:lnTo>
                            <a:pt x="0" y="540"/>
                          </a:lnTo>
                          <a:lnTo>
                            <a:pt x="0" y="575"/>
                          </a:lnTo>
                          <a:lnTo>
                            <a:pt x="11" y="603"/>
                          </a:lnTo>
                          <a:lnTo>
                            <a:pt x="30" y="621"/>
                          </a:lnTo>
                          <a:lnTo>
                            <a:pt x="88" y="621"/>
                          </a:lnTo>
                          <a:lnTo>
                            <a:pt x="135" y="628"/>
                          </a:lnTo>
                          <a:lnTo>
                            <a:pt x="183" y="660"/>
                          </a:lnTo>
                          <a:lnTo>
                            <a:pt x="234" y="674"/>
                          </a:lnTo>
                          <a:lnTo>
                            <a:pt x="278" y="674"/>
                          </a:lnTo>
                          <a:lnTo>
                            <a:pt x="314" y="652"/>
                          </a:lnTo>
                          <a:lnTo>
                            <a:pt x="329" y="621"/>
                          </a:lnTo>
                          <a:lnTo>
                            <a:pt x="325" y="578"/>
                          </a:lnTo>
                          <a:lnTo>
                            <a:pt x="307" y="547"/>
                          </a:lnTo>
                          <a:lnTo>
                            <a:pt x="303" y="515"/>
                          </a:lnTo>
                          <a:lnTo>
                            <a:pt x="307" y="483"/>
                          </a:lnTo>
                          <a:lnTo>
                            <a:pt x="336" y="455"/>
                          </a:lnTo>
                          <a:lnTo>
                            <a:pt x="369" y="445"/>
                          </a:lnTo>
                          <a:lnTo>
                            <a:pt x="391" y="427"/>
                          </a:lnTo>
                          <a:lnTo>
                            <a:pt x="409" y="399"/>
                          </a:lnTo>
                          <a:lnTo>
                            <a:pt x="413" y="352"/>
                          </a:lnTo>
                          <a:lnTo>
                            <a:pt x="413" y="331"/>
                          </a:lnTo>
                          <a:lnTo>
                            <a:pt x="439" y="324"/>
                          </a:lnTo>
                          <a:lnTo>
                            <a:pt x="464" y="303"/>
                          </a:lnTo>
                          <a:lnTo>
                            <a:pt x="479" y="267"/>
                          </a:lnTo>
                          <a:lnTo>
                            <a:pt x="493" y="218"/>
                          </a:lnTo>
                          <a:lnTo>
                            <a:pt x="486" y="158"/>
                          </a:lnTo>
                          <a:lnTo>
                            <a:pt x="475" y="123"/>
                          </a:lnTo>
                          <a:lnTo>
                            <a:pt x="442" y="98"/>
                          </a:lnTo>
                          <a:lnTo>
                            <a:pt x="519" y="123"/>
                          </a:lnTo>
                          <a:lnTo>
                            <a:pt x="546" y="162"/>
                          </a:lnTo>
                          <a:lnTo>
                            <a:pt x="574" y="185"/>
                          </a:lnTo>
                          <a:lnTo>
                            <a:pt x="579" y="199"/>
                          </a:lnTo>
                          <a:close/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7" name=""/>
                  <p:cNvGrpSpPr/>
                  <p:nvPr/>
                </p:nvGrpSpPr>
                <p:grpSpPr>
                  <a:xfrm>
                    <a:off x="5241960" y="1675080"/>
                    <a:ext cx="43920" cy="41760"/>
                    <a:chOff x="5241960" y="1675080"/>
                    <a:chExt cx="43920" cy="41760"/>
                  </a:xfrm>
                </p:grpSpPr>
                <p:sp>
                  <p:nvSpPr>
                    <p:cNvPr id="698" name=""/>
                    <p:cNvSpPr/>
                    <p:nvPr/>
                  </p:nvSpPr>
                  <p:spPr>
                    <a:xfrm flipV="1">
                      <a:off x="5282640" y="1692360"/>
                      <a:ext cx="3240" cy="720"/>
                    </a:xfrm>
                    <a:prstGeom prst="line">
                      <a:avLst/>
                    </a:prstGeom>
                    <a:ln w="3240">
                      <a:solidFill>
                        <a:srgbClr val="7f3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99" name=""/>
                    <p:cNvGrpSpPr/>
                    <p:nvPr/>
                  </p:nvGrpSpPr>
                  <p:grpSpPr>
                    <a:xfrm>
                      <a:off x="5241960" y="1675080"/>
                      <a:ext cx="40680" cy="41760"/>
                      <a:chOff x="5241960" y="1675080"/>
                      <a:chExt cx="40680" cy="41760"/>
                    </a:xfrm>
                  </p:grpSpPr>
                  <p:sp>
                    <p:nvSpPr>
                      <p:cNvPr id="700" name=""/>
                      <p:cNvSpPr/>
                      <p:nvPr/>
                    </p:nvSpPr>
                    <p:spPr>
                      <a:xfrm>
                        <a:off x="5241960" y="1698480"/>
                        <a:ext cx="2880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" h="57">
                            <a:moveTo>
                              <a:pt x="12" y="0"/>
                            </a:moveTo>
                            <a:lnTo>
                              <a:pt x="30" y="16"/>
                            </a:lnTo>
                            <a:lnTo>
                              <a:pt x="45" y="25"/>
                            </a:lnTo>
                            <a:lnTo>
                              <a:pt x="56" y="31"/>
                            </a:lnTo>
                            <a:lnTo>
                              <a:pt x="71" y="37"/>
                            </a:lnTo>
                            <a:lnTo>
                              <a:pt x="84" y="39"/>
                            </a:lnTo>
                            <a:lnTo>
                              <a:pt x="95" y="37"/>
                            </a:lnTo>
                            <a:lnTo>
                              <a:pt x="99" y="57"/>
                            </a:lnTo>
                            <a:lnTo>
                              <a:pt x="83" y="57"/>
                            </a:lnTo>
                            <a:lnTo>
                              <a:pt x="71" y="56"/>
                            </a:lnTo>
                            <a:lnTo>
                              <a:pt x="55" y="49"/>
                            </a:lnTo>
                            <a:lnTo>
                              <a:pt x="40" y="38"/>
                            </a:lnTo>
                            <a:lnTo>
                              <a:pt x="27" y="29"/>
                            </a:lnTo>
                            <a:lnTo>
                              <a:pt x="0" y="5"/>
                            </a:lnTo>
                            <a:lnTo>
                              <a:pt x="12" y="0"/>
                            </a:lnTo>
                            <a:close/>
                          </a:path>
                        </a:pathLst>
                      </a:cu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1" name=""/>
                      <p:cNvSpPr/>
                      <p:nvPr/>
                    </p:nvSpPr>
                    <p:spPr>
                      <a:xfrm>
                        <a:off x="5266080" y="1675080"/>
                        <a:ext cx="16200" cy="41760"/>
                      </a:xfrm>
                      <a:prstGeom prst="ellipse">
                        <a:avLst/>
                      </a:pr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280" bIns="-17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2" name=""/>
                      <p:cNvSpPr/>
                      <p:nvPr/>
                    </p:nvSpPr>
                    <p:spPr>
                      <a:xfrm>
                        <a:off x="5267880" y="1676520"/>
                        <a:ext cx="14760" cy="39600"/>
                      </a:xfrm>
                      <a:prstGeom prst="ellipse">
                        <a:avLst/>
                      </a:prstGeom>
                      <a:solidFill>
                        <a:srgbClr val="ffd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720" bIns="-18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703" name=""/>
              <p:cNvGrpSpPr/>
              <p:nvPr/>
            </p:nvGrpSpPr>
            <p:grpSpPr>
              <a:xfrm>
                <a:off x="4970880" y="2011680"/>
                <a:ext cx="417960" cy="113760"/>
                <a:chOff x="4970880" y="2011680"/>
                <a:chExt cx="417960" cy="113760"/>
              </a:xfrm>
            </p:grpSpPr>
            <p:sp>
              <p:nvSpPr>
                <p:cNvPr id="704" name=""/>
                <p:cNvSpPr/>
                <p:nvPr/>
              </p:nvSpPr>
              <p:spPr>
                <a:xfrm flipV="1">
                  <a:off x="5263560" y="2087280"/>
                  <a:ext cx="125280" cy="37800"/>
                </a:xfrm>
                <a:custGeom>
                  <a:avLst/>
                  <a:gdLst>
                    <a:gd name="textAreaLeft" fmla="*/ 23760 w 125280"/>
                    <a:gd name="textAreaRight" fmla="*/ 101520 w 125280"/>
                    <a:gd name="textAreaTop" fmla="*/ 7200 h 37800"/>
                    <a:gd name="textAreaBottom" fmla="*/ 30600 h 3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326" y="21600"/>
                      </a:lnTo>
                      <a:lnTo>
                        <a:pt x="4274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 flipV="1">
                  <a:off x="5137920" y="2011320"/>
                  <a:ext cx="125280" cy="37800"/>
                </a:xfrm>
                <a:custGeom>
                  <a:avLst/>
                  <a:gdLst>
                    <a:gd name="textAreaLeft" fmla="*/ 23760 w 125280"/>
                    <a:gd name="textAreaRight" fmla="*/ 101520 w 125280"/>
                    <a:gd name="textAreaTop" fmla="*/ 7200 h 37800"/>
                    <a:gd name="textAreaBottom" fmla="*/ 30600 h 3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326" y="21600"/>
                      </a:lnTo>
                      <a:lnTo>
                        <a:pt x="4274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 flipV="1">
                  <a:off x="4970880" y="2049120"/>
                  <a:ext cx="125280" cy="37800"/>
                </a:xfrm>
                <a:custGeom>
                  <a:avLst/>
                  <a:gdLst>
                    <a:gd name="textAreaLeft" fmla="*/ 23760 w 125280"/>
                    <a:gd name="textAreaRight" fmla="*/ 101520 w 125280"/>
                    <a:gd name="textAreaTop" fmla="*/ 7200 h 37800"/>
                    <a:gd name="textAreaBottom" fmla="*/ 30600 h 3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326" y="21600"/>
                      </a:lnTo>
                      <a:lnTo>
                        <a:pt x="4274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 flipV="1">
                  <a:off x="5096160" y="2087280"/>
                  <a:ext cx="125280" cy="37800"/>
                </a:xfrm>
                <a:custGeom>
                  <a:avLst/>
                  <a:gdLst>
                    <a:gd name="textAreaLeft" fmla="*/ 23760 w 125280"/>
                    <a:gd name="textAreaRight" fmla="*/ 101520 w 125280"/>
                    <a:gd name="textAreaTop" fmla="*/ 7200 h 37800"/>
                    <a:gd name="textAreaBottom" fmla="*/ 30600 h 3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326" y="21600"/>
                      </a:lnTo>
                      <a:lnTo>
                        <a:pt x="4274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5389200" y="1973160"/>
                <a:ext cx="375840" cy="113400"/>
                <a:chOff x="5389200" y="1973160"/>
                <a:chExt cx="375840" cy="113400"/>
              </a:xfrm>
            </p:grpSpPr>
            <p:sp>
              <p:nvSpPr>
                <p:cNvPr id="709" name=""/>
                <p:cNvSpPr/>
                <p:nvPr/>
              </p:nvSpPr>
              <p:spPr>
                <a:xfrm flipV="1">
                  <a:off x="5514480" y="1972800"/>
                  <a:ext cx="125280" cy="37800"/>
                </a:xfrm>
                <a:custGeom>
                  <a:avLst/>
                  <a:gdLst>
                    <a:gd name="textAreaLeft" fmla="*/ 23760 w 125280"/>
                    <a:gd name="textAreaRight" fmla="*/ 101520 w 125280"/>
                    <a:gd name="textAreaTop" fmla="*/ 7200 h 37800"/>
                    <a:gd name="textAreaBottom" fmla="*/ 30600 h 3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326" y="21600"/>
                      </a:lnTo>
                      <a:lnTo>
                        <a:pt x="4274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flipV="1">
                  <a:off x="5639760" y="1972800"/>
                  <a:ext cx="125280" cy="37800"/>
                </a:xfrm>
                <a:custGeom>
                  <a:avLst/>
                  <a:gdLst>
                    <a:gd name="textAreaLeft" fmla="*/ 23760 w 125280"/>
                    <a:gd name="textAreaRight" fmla="*/ 101520 w 125280"/>
                    <a:gd name="textAreaTop" fmla="*/ 7200 h 37800"/>
                    <a:gd name="textAreaBottom" fmla="*/ 30600 h 3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326" y="21600"/>
                      </a:lnTo>
                      <a:lnTo>
                        <a:pt x="4274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 flipV="1">
                  <a:off x="5389200" y="1972800"/>
                  <a:ext cx="125280" cy="37800"/>
                </a:xfrm>
                <a:custGeom>
                  <a:avLst/>
                  <a:gdLst>
                    <a:gd name="textAreaLeft" fmla="*/ 23760 w 125280"/>
                    <a:gd name="textAreaRight" fmla="*/ 101520 w 125280"/>
                    <a:gd name="textAreaTop" fmla="*/ 7200 h 37800"/>
                    <a:gd name="textAreaBottom" fmla="*/ 30600 h 3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326" y="21600"/>
                      </a:lnTo>
                      <a:lnTo>
                        <a:pt x="4274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flipV="1">
                  <a:off x="5472720" y="2048400"/>
                  <a:ext cx="125280" cy="37800"/>
                </a:xfrm>
                <a:custGeom>
                  <a:avLst/>
                  <a:gdLst>
                    <a:gd name="textAreaLeft" fmla="*/ 23760 w 125280"/>
                    <a:gd name="textAreaRight" fmla="*/ 101520 w 125280"/>
                    <a:gd name="textAreaTop" fmla="*/ 7200 h 37800"/>
                    <a:gd name="textAreaBottom" fmla="*/ 30600 h 3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326" y="21600"/>
                      </a:lnTo>
                      <a:lnTo>
                        <a:pt x="4274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5891040" y="1973160"/>
                <a:ext cx="292320" cy="113760"/>
                <a:chOff x="5891040" y="1973160"/>
                <a:chExt cx="292320" cy="113760"/>
              </a:xfrm>
            </p:grpSpPr>
            <p:sp>
              <p:nvSpPr>
                <p:cNvPr id="714" name=""/>
                <p:cNvSpPr/>
                <p:nvPr/>
              </p:nvSpPr>
              <p:spPr>
                <a:xfrm flipV="1">
                  <a:off x="6016320" y="2048760"/>
                  <a:ext cx="125280" cy="37800"/>
                </a:xfrm>
                <a:custGeom>
                  <a:avLst/>
                  <a:gdLst>
                    <a:gd name="textAreaLeft" fmla="*/ 23760 w 125280"/>
                    <a:gd name="textAreaRight" fmla="*/ 101520 w 125280"/>
                    <a:gd name="textAreaTop" fmla="*/ 7200 h 37800"/>
                    <a:gd name="textAreaBottom" fmla="*/ 30600 h 3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326" y="21600"/>
                      </a:lnTo>
                      <a:lnTo>
                        <a:pt x="4274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 flipV="1">
                  <a:off x="6058080" y="2010600"/>
                  <a:ext cx="125280" cy="37800"/>
                </a:xfrm>
                <a:custGeom>
                  <a:avLst/>
                  <a:gdLst>
                    <a:gd name="textAreaLeft" fmla="*/ 23760 w 125280"/>
                    <a:gd name="textAreaRight" fmla="*/ 101520 w 125280"/>
                    <a:gd name="textAreaTop" fmla="*/ 7200 h 37800"/>
                    <a:gd name="textAreaBottom" fmla="*/ 30600 h 3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326" y="21600"/>
                      </a:lnTo>
                      <a:lnTo>
                        <a:pt x="4274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 flipV="1">
                  <a:off x="5974560" y="1972800"/>
                  <a:ext cx="125280" cy="37800"/>
                </a:xfrm>
                <a:custGeom>
                  <a:avLst/>
                  <a:gdLst>
                    <a:gd name="textAreaLeft" fmla="*/ 23760 w 125280"/>
                    <a:gd name="textAreaRight" fmla="*/ 101520 w 125280"/>
                    <a:gd name="textAreaTop" fmla="*/ 7200 h 37800"/>
                    <a:gd name="textAreaBottom" fmla="*/ 30600 h 3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326" y="21600"/>
                      </a:lnTo>
                      <a:lnTo>
                        <a:pt x="4274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 flipV="1">
                  <a:off x="5891040" y="2010600"/>
                  <a:ext cx="125280" cy="37800"/>
                </a:xfrm>
                <a:custGeom>
                  <a:avLst/>
                  <a:gdLst>
                    <a:gd name="textAreaLeft" fmla="*/ 23760 w 125280"/>
                    <a:gd name="textAreaRight" fmla="*/ 101520 w 125280"/>
                    <a:gd name="textAreaTop" fmla="*/ 7200 h 37800"/>
                    <a:gd name="textAreaBottom" fmla="*/ 30600 h 3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326" y="21600"/>
                      </a:lnTo>
                      <a:lnTo>
                        <a:pt x="4274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8" name=""/>
            <p:cNvSpPr/>
            <p:nvPr/>
          </p:nvSpPr>
          <p:spPr>
            <a:xfrm>
              <a:off x="2898720" y="1022400"/>
              <a:ext cx="5105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 Cada Pessoa fica com um grupo de Post-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609480" y="4672080"/>
            <a:ext cx="6212520" cy="2189880"/>
            <a:chOff x="609480" y="4672080"/>
            <a:chExt cx="6212520" cy="2189880"/>
          </a:xfrm>
        </p:grpSpPr>
        <p:grpSp>
          <p:nvGrpSpPr>
            <p:cNvPr id="720" name=""/>
            <p:cNvGrpSpPr/>
            <p:nvPr/>
          </p:nvGrpSpPr>
          <p:grpSpPr>
            <a:xfrm>
              <a:off x="4527720" y="4672080"/>
              <a:ext cx="2294280" cy="788760"/>
              <a:chOff x="4527720" y="4672080"/>
              <a:chExt cx="2294280" cy="788760"/>
            </a:xfrm>
          </p:grpSpPr>
          <p:sp>
            <p:nvSpPr>
              <p:cNvPr id="721" name=""/>
              <p:cNvSpPr/>
              <p:nvPr/>
            </p:nvSpPr>
            <p:spPr>
              <a:xfrm>
                <a:off x="4527720" y="4672080"/>
                <a:ext cx="1349280" cy="788760"/>
              </a:xfrm>
              <a:prstGeom prst="ellipse">
                <a:avLst/>
              </a:prstGeom>
              <a:solidFill>
                <a:srgbClr val="d6d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 rot="21591600">
                <a:off x="5960880" y="5049360"/>
                <a:ext cx="860400" cy="355680"/>
              </a:xfrm>
              <a:prstGeom prst="rightArrow">
                <a:avLst>
                  <a:gd name="adj1" fmla="val 50000"/>
                  <a:gd name="adj2" fmla="val 60476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"/>
            <p:cNvSpPr/>
            <p:nvPr/>
          </p:nvSpPr>
          <p:spPr>
            <a:xfrm>
              <a:off x="609480" y="5670720"/>
              <a:ext cx="406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 Se há dois Post-its com idêntico conteúdo o grupo elimina um del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4097160" y="3647880"/>
            <a:ext cx="1576440" cy="1536840"/>
            <a:chOff x="4097160" y="3647880"/>
            <a:chExt cx="1576440" cy="1536840"/>
          </a:xfrm>
        </p:grpSpPr>
        <p:sp>
          <p:nvSpPr>
            <p:cNvPr id="725" name=""/>
            <p:cNvSpPr/>
            <p:nvPr/>
          </p:nvSpPr>
          <p:spPr>
            <a:xfrm>
              <a:off x="4145040" y="3805200"/>
              <a:ext cx="1338120" cy="1379520"/>
            </a:xfrm>
            <a:custGeom>
              <a:avLst/>
              <a:gdLst/>
              <a:ahLst/>
              <a:rect l="l" t="t" r="r" b="b"/>
              <a:pathLst>
                <a:path w="1344" h="1680">
                  <a:moveTo>
                    <a:pt x="816" y="1680"/>
                  </a:moveTo>
                  <a:lnTo>
                    <a:pt x="1296" y="1632"/>
                  </a:lnTo>
                  <a:lnTo>
                    <a:pt x="1344" y="96"/>
                  </a:lnTo>
                  <a:lnTo>
                    <a:pt x="144" y="0"/>
                  </a:lnTo>
                  <a:lnTo>
                    <a:pt x="0" y="288"/>
                  </a:lnTo>
                  <a:lnTo>
                    <a:pt x="816" y="168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097160" y="3767040"/>
              <a:ext cx="621000" cy="511200"/>
            </a:xfrm>
            <a:prstGeom prst="foldedCorner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861080" y="3767040"/>
              <a:ext cx="622080" cy="511200"/>
            </a:xfrm>
            <a:prstGeom prst="foldedCorner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4765680" y="3647880"/>
              <a:ext cx="860400" cy="7095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flipV="1">
              <a:off x="4813200" y="3687480"/>
              <a:ext cx="860400" cy="7095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5551560" y="1866240"/>
            <a:ext cx="3409920" cy="2474280"/>
            <a:chOff x="5551560" y="1866240"/>
            <a:chExt cx="3409920" cy="2474280"/>
          </a:xfrm>
        </p:grpSpPr>
        <p:grpSp>
          <p:nvGrpSpPr>
            <p:cNvPr id="731" name=""/>
            <p:cNvGrpSpPr/>
            <p:nvPr/>
          </p:nvGrpSpPr>
          <p:grpSpPr>
            <a:xfrm>
              <a:off x="7527960" y="2420640"/>
              <a:ext cx="786600" cy="778680"/>
              <a:chOff x="7527960" y="2420640"/>
              <a:chExt cx="786600" cy="778680"/>
            </a:xfrm>
          </p:grpSpPr>
          <p:grpSp>
            <p:nvGrpSpPr>
              <p:cNvPr id="732" name=""/>
              <p:cNvGrpSpPr/>
              <p:nvPr/>
            </p:nvGrpSpPr>
            <p:grpSpPr>
              <a:xfrm>
                <a:off x="7824960" y="2824200"/>
                <a:ext cx="188280" cy="269640"/>
                <a:chOff x="7824960" y="2824200"/>
                <a:chExt cx="188280" cy="2696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7824960" y="2824200"/>
                  <a:ext cx="188280" cy="267120"/>
                </a:xfrm>
                <a:custGeom>
                  <a:avLst/>
                  <a:gdLst/>
                  <a:ahLst/>
                  <a:rect l="l" t="t" r="r" b="b"/>
                  <a:pathLst>
                    <a:path w="271" h="513">
                      <a:moveTo>
                        <a:pt x="0" y="0"/>
                      </a:moveTo>
                      <a:lnTo>
                        <a:pt x="26" y="14"/>
                      </a:lnTo>
                      <a:lnTo>
                        <a:pt x="56" y="23"/>
                      </a:lnTo>
                      <a:lnTo>
                        <a:pt x="91" y="30"/>
                      </a:lnTo>
                      <a:lnTo>
                        <a:pt x="129" y="37"/>
                      </a:lnTo>
                      <a:lnTo>
                        <a:pt x="154" y="35"/>
                      </a:lnTo>
                      <a:lnTo>
                        <a:pt x="183" y="28"/>
                      </a:lnTo>
                      <a:lnTo>
                        <a:pt x="208" y="20"/>
                      </a:lnTo>
                      <a:lnTo>
                        <a:pt x="235" y="3"/>
                      </a:lnTo>
                      <a:lnTo>
                        <a:pt x="263" y="125"/>
                      </a:lnTo>
                      <a:lnTo>
                        <a:pt x="267" y="203"/>
                      </a:lnTo>
                      <a:lnTo>
                        <a:pt x="271" y="238"/>
                      </a:lnTo>
                      <a:lnTo>
                        <a:pt x="271" y="305"/>
                      </a:lnTo>
                      <a:lnTo>
                        <a:pt x="267" y="361"/>
                      </a:lnTo>
                      <a:lnTo>
                        <a:pt x="259" y="430"/>
                      </a:lnTo>
                      <a:lnTo>
                        <a:pt x="246" y="492"/>
                      </a:lnTo>
                      <a:lnTo>
                        <a:pt x="67" y="513"/>
                      </a:lnTo>
                      <a:lnTo>
                        <a:pt x="41" y="289"/>
                      </a:lnTo>
                      <a:lnTo>
                        <a:pt x="22" y="1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7851960" y="2891160"/>
                  <a:ext cx="158760" cy="202680"/>
                </a:xfrm>
                <a:custGeom>
                  <a:avLst/>
                  <a:gdLst/>
                  <a:ahLst/>
                  <a:rect l="l" t="t" r="r" b="b"/>
                  <a:pathLst>
                    <a:path w="233" h="390">
                      <a:moveTo>
                        <a:pt x="0" y="27"/>
                      </a:moveTo>
                      <a:lnTo>
                        <a:pt x="98" y="27"/>
                      </a:lnTo>
                      <a:lnTo>
                        <a:pt x="146" y="24"/>
                      </a:lnTo>
                      <a:lnTo>
                        <a:pt x="196" y="14"/>
                      </a:lnTo>
                      <a:lnTo>
                        <a:pt x="229" y="0"/>
                      </a:lnTo>
                      <a:lnTo>
                        <a:pt x="233" y="328"/>
                      </a:lnTo>
                      <a:lnTo>
                        <a:pt x="66" y="39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7939440" y="2755440"/>
                <a:ext cx="375120" cy="335160"/>
                <a:chOff x="7939440" y="2755440"/>
                <a:chExt cx="375120" cy="33516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7939440" y="2755440"/>
                  <a:ext cx="375120" cy="335160"/>
                </a:xfrm>
                <a:custGeom>
                  <a:avLst/>
                  <a:gdLst/>
                  <a:ahLst/>
                  <a:rect l="l" t="t" r="r" b="b"/>
                  <a:pathLst>
                    <a:path w="545" h="645">
                      <a:moveTo>
                        <a:pt x="22" y="0"/>
                      </a:moveTo>
                      <a:lnTo>
                        <a:pt x="55" y="14"/>
                      </a:lnTo>
                      <a:lnTo>
                        <a:pt x="91" y="53"/>
                      </a:lnTo>
                      <a:lnTo>
                        <a:pt x="224" y="99"/>
                      </a:lnTo>
                      <a:lnTo>
                        <a:pt x="260" y="120"/>
                      </a:lnTo>
                      <a:lnTo>
                        <a:pt x="300" y="190"/>
                      </a:lnTo>
                      <a:lnTo>
                        <a:pt x="300" y="236"/>
                      </a:lnTo>
                      <a:lnTo>
                        <a:pt x="308" y="271"/>
                      </a:lnTo>
                      <a:lnTo>
                        <a:pt x="330" y="331"/>
                      </a:lnTo>
                      <a:lnTo>
                        <a:pt x="392" y="434"/>
                      </a:lnTo>
                      <a:lnTo>
                        <a:pt x="436" y="504"/>
                      </a:lnTo>
                      <a:lnTo>
                        <a:pt x="483" y="564"/>
                      </a:lnTo>
                      <a:lnTo>
                        <a:pt x="545" y="634"/>
                      </a:lnTo>
                      <a:lnTo>
                        <a:pt x="29" y="645"/>
                      </a:lnTo>
                      <a:lnTo>
                        <a:pt x="62" y="578"/>
                      </a:lnTo>
                      <a:lnTo>
                        <a:pt x="76" y="529"/>
                      </a:lnTo>
                      <a:lnTo>
                        <a:pt x="84" y="441"/>
                      </a:lnTo>
                      <a:lnTo>
                        <a:pt x="80" y="293"/>
                      </a:lnTo>
                      <a:lnTo>
                        <a:pt x="66" y="183"/>
                      </a:lnTo>
                      <a:lnTo>
                        <a:pt x="44" y="106"/>
                      </a:lnTo>
                      <a:lnTo>
                        <a:pt x="0" y="35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ff5f7f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8032320" y="2797200"/>
                  <a:ext cx="80640" cy="176040"/>
                </a:xfrm>
                <a:custGeom>
                  <a:avLst/>
                  <a:gdLst/>
                  <a:ahLst/>
                  <a:rect l="l" t="t" r="r" b="b"/>
                  <a:pathLst>
                    <a:path w="117" h="338">
                      <a:moveTo>
                        <a:pt x="0" y="0"/>
                      </a:moveTo>
                      <a:lnTo>
                        <a:pt x="44" y="32"/>
                      </a:lnTo>
                      <a:lnTo>
                        <a:pt x="67" y="67"/>
                      </a:lnTo>
                      <a:lnTo>
                        <a:pt x="82" y="102"/>
                      </a:lnTo>
                      <a:lnTo>
                        <a:pt x="95" y="141"/>
                      </a:lnTo>
                      <a:lnTo>
                        <a:pt x="110" y="187"/>
                      </a:lnTo>
                      <a:lnTo>
                        <a:pt x="117" y="236"/>
                      </a:lnTo>
                      <a:lnTo>
                        <a:pt x="117" y="300"/>
                      </a:lnTo>
                      <a:lnTo>
                        <a:pt x="110" y="338"/>
                      </a:lnTo>
                      <a:lnTo>
                        <a:pt x="99" y="264"/>
                      </a:lnTo>
                      <a:lnTo>
                        <a:pt x="89" y="220"/>
                      </a:lnTo>
                      <a:lnTo>
                        <a:pt x="73" y="194"/>
                      </a:lnTo>
                      <a:lnTo>
                        <a:pt x="53" y="181"/>
                      </a:lnTo>
                      <a:lnTo>
                        <a:pt x="64" y="155"/>
                      </a:lnTo>
                      <a:lnTo>
                        <a:pt x="67" y="114"/>
                      </a:lnTo>
                      <a:lnTo>
                        <a:pt x="51" y="78"/>
                      </a:lnTo>
                      <a:lnTo>
                        <a:pt x="30" y="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f3f5f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8" name=""/>
              <p:cNvSpPr/>
              <p:nvPr/>
            </p:nvSpPr>
            <p:spPr>
              <a:xfrm>
                <a:off x="7903440" y="3043800"/>
                <a:ext cx="112320" cy="65520"/>
              </a:xfrm>
              <a:custGeom>
                <a:avLst/>
                <a:gdLst/>
                <a:ahLst/>
                <a:rect l="l" t="t" r="r" b="b"/>
                <a:pathLst>
                  <a:path w="160" h="125">
                    <a:moveTo>
                      <a:pt x="135" y="21"/>
                    </a:moveTo>
                    <a:lnTo>
                      <a:pt x="110" y="0"/>
                    </a:lnTo>
                    <a:lnTo>
                      <a:pt x="72" y="9"/>
                    </a:lnTo>
                    <a:lnTo>
                      <a:pt x="40" y="21"/>
                    </a:lnTo>
                    <a:lnTo>
                      <a:pt x="7" y="34"/>
                    </a:lnTo>
                    <a:lnTo>
                      <a:pt x="0" y="45"/>
                    </a:lnTo>
                    <a:lnTo>
                      <a:pt x="18" y="62"/>
                    </a:lnTo>
                    <a:lnTo>
                      <a:pt x="24" y="83"/>
                    </a:lnTo>
                    <a:lnTo>
                      <a:pt x="39" y="98"/>
                    </a:lnTo>
                    <a:lnTo>
                      <a:pt x="54" y="108"/>
                    </a:lnTo>
                    <a:lnTo>
                      <a:pt x="76" y="115"/>
                    </a:lnTo>
                    <a:lnTo>
                      <a:pt x="91" y="125"/>
                    </a:lnTo>
                    <a:lnTo>
                      <a:pt x="117" y="125"/>
                    </a:lnTo>
                    <a:lnTo>
                      <a:pt x="130" y="125"/>
                    </a:lnTo>
                    <a:lnTo>
                      <a:pt x="139" y="115"/>
                    </a:lnTo>
                    <a:lnTo>
                      <a:pt x="138" y="97"/>
                    </a:lnTo>
                    <a:lnTo>
                      <a:pt x="160" y="98"/>
                    </a:lnTo>
                    <a:lnTo>
                      <a:pt x="135" y="90"/>
                    </a:lnTo>
                    <a:lnTo>
                      <a:pt x="130" y="69"/>
                    </a:lnTo>
                    <a:lnTo>
                      <a:pt x="132" y="55"/>
                    </a:lnTo>
                    <a:lnTo>
                      <a:pt x="130" y="44"/>
                    </a:lnTo>
                    <a:lnTo>
                      <a:pt x="135" y="21"/>
                    </a:lnTo>
                    <a:close/>
                  </a:path>
                </a:pathLst>
              </a:custGeom>
              <a:solidFill>
                <a:srgbClr val="f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750440" y="3138840"/>
                <a:ext cx="53640" cy="46800"/>
              </a:xfrm>
              <a:custGeom>
                <a:avLst/>
                <a:gdLst/>
                <a:ahLst/>
                <a:rect l="l" t="t" r="r" b="b"/>
                <a:pathLst>
                  <a:path w="77" h="90">
                    <a:moveTo>
                      <a:pt x="77" y="0"/>
                    </a:moveTo>
                    <a:lnTo>
                      <a:pt x="19" y="90"/>
                    </a:lnTo>
                    <a:lnTo>
                      <a:pt x="0" y="26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0" name=""/>
              <p:cNvGrpSpPr/>
              <p:nvPr/>
            </p:nvGrpSpPr>
            <p:grpSpPr>
              <a:xfrm>
                <a:off x="7527960" y="2733840"/>
                <a:ext cx="382320" cy="465480"/>
                <a:chOff x="7527960" y="2733840"/>
                <a:chExt cx="382320" cy="465480"/>
              </a:xfrm>
            </p:grpSpPr>
            <p:sp>
              <p:nvSpPr>
                <p:cNvPr id="741" name=""/>
                <p:cNvSpPr/>
                <p:nvPr/>
              </p:nvSpPr>
              <p:spPr>
                <a:xfrm>
                  <a:off x="7527960" y="2733840"/>
                  <a:ext cx="382320" cy="462960"/>
                </a:xfrm>
                <a:custGeom>
                  <a:avLst/>
                  <a:gdLst/>
                  <a:ahLst/>
                  <a:rect l="l" t="t" r="r" b="b"/>
                  <a:pathLst>
                    <a:path w="552" h="889">
                      <a:moveTo>
                        <a:pt x="427" y="11"/>
                      </a:moveTo>
                      <a:lnTo>
                        <a:pt x="351" y="0"/>
                      </a:lnTo>
                      <a:lnTo>
                        <a:pt x="296" y="4"/>
                      </a:lnTo>
                      <a:lnTo>
                        <a:pt x="234" y="11"/>
                      </a:lnTo>
                      <a:lnTo>
                        <a:pt x="201" y="18"/>
                      </a:lnTo>
                      <a:lnTo>
                        <a:pt x="183" y="39"/>
                      </a:lnTo>
                      <a:lnTo>
                        <a:pt x="161" y="35"/>
                      </a:lnTo>
                      <a:lnTo>
                        <a:pt x="128" y="60"/>
                      </a:lnTo>
                      <a:lnTo>
                        <a:pt x="102" y="88"/>
                      </a:lnTo>
                      <a:lnTo>
                        <a:pt x="84" y="116"/>
                      </a:lnTo>
                      <a:lnTo>
                        <a:pt x="62" y="152"/>
                      </a:lnTo>
                      <a:lnTo>
                        <a:pt x="51" y="190"/>
                      </a:lnTo>
                      <a:lnTo>
                        <a:pt x="40" y="257"/>
                      </a:lnTo>
                      <a:lnTo>
                        <a:pt x="33" y="303"/>
                      </a:lnTo>
                      <a:lnTo>
                        <a:pt x="33" y="377"/>
                      </a:lnTo>
                      <a:lnTo>
                        <a:pt x="48" y="426"/>
                      </a:lnTo>
                      <a:lnTo>
                        <a:pt x="44" y="462"/>
                      </a:lnTo>
                      <a:lnTo>
                        <a:pt x="33" y="553"/>
                      </a:lnTo>
                      <a:lnTo>
                        <a:pt x="22" y="592"/>
                      </a:lnTo>
                      <a:lnTo>
                        <a:pt x="18" y="634"/>
                      </a:lnTo>
                      <a:lnTo>
                        <a:pt x="7" y="662"/>
                      </a:lnTo>
                      <a:lnTo>
                        <a:pt x="0" y="694"/>
                      </a:lnTo>
                      <a:lnTo>
                        <a:pt x="4" y="729"/>
                      </a:lnTo>
                      <a:lnTo>
                        <a:pt x="18" y="761"/>
                      </a:lnTo>
                      <a:lnTo>
                        <a:pt x="48" y="789"/>
                      </a:lnTo>
                      <a:lnTo>
                        <a:pt x="99" y="835"/>
                      </a:lnTo>
                      <a:lnTo>
                        <a:pt x="128" y="846"/>
                      </a:lnTo>
                      <a:lnTo>
                        <a:pt x="165" y="856"/>
                      </a:lnTo>
                      <a:lnTo>
                        <a:pt x="194" y="868"/>
                      </a:lnTo>
                      <a:lnTo>
                        <a:pt x="219" y="882"/>
                      </a:lnTo>
                      <a:lnTo>
                        <a:pt x="340" y="889"/>
                      </a:lnTo>
                      <a:lnTo>
                        <a:pt x="420" y="786"/>
                      </a:lnTo>
                      <a:lnTo>
                        <a:pt x="449" y="691"/>
                      </a:lnTo>
                      <a:lnTo>
                        <a:pt x="552" y="691"/>
                      </a:lnTo>
                      <a:lnTo>
                        <a:pt x="544" y="553"/>
                      </a:lnTo>
                      <a:lnTo>
                        <a:pt x="526" y="398"/>
                      </a:lnTo>
                      <a:lnTo>
                        <a:pt x="493" y="204"/>
                      </a:lnTo>
                      <a:lnTo>
                        <a:pt x="475" y="116"/>
                      </a:lnTo>
                      <a:lnTo>
                        <a:pt x="427" y="11"/>
                      </a:lnTo>
                      <a:close/>
                    </a:path>
                  </a:pathLst>
                </a:custGeom>
                <a:solidFill>
                  <a:srgbClr val="ff5f7f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7646040" y="3045240"/>
                  <a:ext cx="172440" cy="154080"/>
                </a:xfrm>
                <a:custGeom>
                  <a:avLst/>
                  <a:gdLst/>
                  <a:ahLst/>
                  <a:rect l="l" t="t" r="r" b="b"/>
                  <a:pathLst>
                    <a:path w="248" h="296">
                      <a:moveTo>
                        <a:pt x="233" y="14"/>
                      </a:moveTo>
                      <a:lnTo>
                        <a:pt x="144" y="7"/>
                      </a:lnTo>
                      <a:lnTo>
                        <a:pt x="51" y="0"/>
                      </a:lnTo>
                      <a:lnTo>
                        <a:pt x="35" y="21"/>
                      </a:lnTo>
                      <a:lnTo>
                        <a:pt x="28" y="38"/>
                      </a:lnTo>
                      <a:lnTo>
                        <a:pt x="17" y="59"/>
                      </a:lnTo>
                      <a:lnTo>
                        <a:pt x="7" y="91"/>
                      </a:lnTo>
                      <a:lnTo>
                        <a:pt x="2" y="119"/>
                      </a:lnTo>
                      <a:lnTo>
                        <a:pt x="0" y="145"/>
                      </a:lnTo>
                      <a:lnTo>
                        <a:pt x="3" y="176"/>
                      </a:lnTo>
                      <a:lnTo>
                        <a:pt x="14" y="217"/>
                      </a:lnTo>
                      <a:lnTo>
                        <a:pt x="25" y="250"/>
                      </a:lnTo>
                      <a:lnTo>
                        <a:pt x="28" y="280"/>
                      </a:lnTo>
                      <a:lnTo>
                        <a:pt x="177" y="296"/>
                      </a:lnTo>
                      <a:lnTo>
                        <a:pt x="241" y="193"/>
                      </a:lnTo>
                      <a:lnTo>
                        <a:pt x="248" y="166"/>
                      </a:lnTo>
                      <a:lnTo>
                        <a:pt x="233" y="14"/>
                      </a:lnTo>
                      <a:close/>
                    </a:path>
                  </a:pathLst>
                </a:custGeom>
                <a:solidFill>
                  <a:srgbClr val="df1f3f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7569360" y="2764800"/>
                  <a:ext cx="162000" cy="294120"/>
                </a:xfrm>
                <a:custGeom>
                  <a:avLst/>
                  <a:gdLst/>
                  <a:ahLst/>
                  <a:rect l="l" t="t" r="r" b="b"/>
                  <a:pathLst>
                    <a:path w="233" h="567">
                      <a:moveTo>
                        <a:pt x="146" y="0"/>
                      </a:moveTo>
                      <a:lnTo>
                        <a:pt x="189" y="70"/>
                      </a:lnTo>
                      <a:lnTo>
                        <a:pt x="215" y="144"/>
                      </a:lnTo>
                      <a:lnTo>
                        <a:pt x="230" y="233"/>
                      </a:lnTo>
                      <a:lnTo>
                        <a:pt x="233" y="331"/>
                      </a:lnTo>
                      <a:lnTo>
                        <a:pt x="230" y="447"/>
                      </a:lnTo>
                      <a:lnTo>
                        <a:pt x="219" y="497"/>
                      </a:lnTo>
                      <a:lnTo>
                        <a:pt x="160" y="539"/>
                      </a:lnTo>
                      <a:lnTo>
                        <a:pt x="131" y="521"/>
                      </a:lnTo>
                      <a:lnTo>
                        <a:pt x="102" y="514"/>
                      </a:lnTo>
                      <a:lnTo>
                        <a:pt x="76" y="521"/>
                      </a:lnTo>
                      <a:lnTo>
                        <a:pt x="58" y="546"/>
                      </a:lnTo>
                      <a:lnTo>
                        <a:pt x="25" y="560"/>
                      </a:lnTo>
                      <a:lnTo>
                        <a:pt x="0" y="567"/>
                      </a:lnTo>
                      <a:lnTo>
                        <a:pt x="40" y="532"/>
                      </a:lnTo>
                      <a:lnTo>
                        <a:pt x="65" y="521"/>
                      </a:lnTo>
                      <a:lnTo>
                        <a:pt x="84" y="504"/>
                      </a:lnTo>
                      <a:lnTo>
                        <a:pt x="106" y="504"/>
                      </a:lnTo>
                      <a:lnTo>
                        <a:pt x="131" y="479"/>
                      </a:lnTo>
                      <a:lnTo>
                        <a:pt x="106" y="451"/>
                      </a:lnTo>
                      <a:lnTo>
                        <a:pt x="142" y="458"/>
                      </a:lnTo>
                      <a:lnTo>
                        <a:pt x="116" y="377"/>
                      </a:lnTo>
                      <a:lnTo>
                        <a:pt x="95" y="310"/>
                      </a:lnTo>
                      <a:lnTo>
                        <a:pt x="87" y="263"/>
                      </a:lnTo>
                      <a:lnTo>
                        <a:pt x="98" y="194"/>
                      </a:lnTo>
                      <a:lnTo>
                        <a:pt x="116" y="271"/>
                      </a:lnTo>
                      <a:lnTo>
                        <a:pt x="153" y="359"/>
                      </a:lnTo>
                      <a:lnTo>
                        <a:pt x="197" y="454"/>
                      </a:lnTo>
                      <a:lnTo>
                        <a:pt x="197" y="324"/>
                      </a:lnTo>
                      <a:lnTo>
                        <a:pt x="189" y="236"/>
                      </a:lnTo>
                      <a:lnTo>
                        <a:pt x="179" y="106"/>
                      </a:lnTo>
                      <a:lnTo>
                        <a:pt x="146" y="0"/>
                      </a:lnTo>
                      <a:close/>
                    </a:path>
                  </a:pathLst>
                </a:custGeom>
                <a:solidFill>
                  <a:srgbClr val="df3f5f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4" name=""/>
              <p:cNvSpPr/>
              <p:nvPr/>
            </p:nvSpPr>
            <p:spPr>
              <a:xfrm>
                <a:off x="7975440" y="2977200"/>
                <a:ext cx="220680" cy="138600"/>
              </a:xfrm>
              <a:custGeom>
                <a:avLst/>
                <a:gdLst/>
                <a:ahLst/>
                <a:rect l="l" t="t" r="r" b="b"/>
                <a:pathLst>
                  <a:path w="681" h="359">
                    <a:moveTo>
                      <a:pt x="0" y="292"/>
                    </a:moveTo>
                    <a:lnTo>
                      <a:pt x="263" y="0"/>
                    </a:lnTo>
                    <a:lnTo>
                      <a:pt x="681" y="111"/>
                    </a:lnTo>
                    <a:lnTo>
                      <a:pt x="509" y="320"/>
                    </a:lnTo>
                    <a:lnTo>
                      <a:pt x="402" y="344"/>
                    </a:lnTo>
                    <a:lnTo>
                      <a:pt x="293" y="359"/>
                    </a:lnTo>
                    <a:lnTo>
                      <a:pt x="55" y="345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741440" y="3037680"/>
                <a:ext cx="403560" cy="123840"/>
              </a:xfrm>
              <a:custGeom>
                <a:avLst/>
                <a:gdLst/>
                <a:ahLst/>
                <a:rect l="l" t="t" r="r" b="b"/>
                <a:pathLst>
                  <a:path w="582" h="236">
                    <a:moveTo>
                      <a:pt x="32" y="57"/>
                    </a:moveTo>
                    <a:lnTo>
                      <a:pt x="249" y="29"/>
                    </a:lnTo>
                    <a:lnTo>
                      <a:pt x="295" y="12"/>
                    </a:lnTo>
                    <a:lnTo>
                      <a:pt x="318" y="3"/>
                    </a:lnTo>
                    <a:lnTo>
                      <a:pt x="342" y="0"/>
                    </a:lnTo>
                    <a:lnTo>
                      <a:pt x="375" y="5"/>
                    </a:lnTo>
                    <a:lnTo>
                      <a:pt x="412" y="12"/>
                    </a:lnTo>
                    <a:lnTo>
                      <a:pt x="439" y="15"/>
                    </a:lnTo>
                    <a:lnTo>
                      <a:pt x="491" y="21"/>
                    </a:lnTo>
                    <a:lnTo>
                      <a:pt x="517" y="22"/>
                    </a:lnTo>
                    <a:lnTo>
                      <a:pt x="537" y="26"/>
                    </a:lnTo>
                    <a:lnTo>
                      <a:pt x="559" y="29"/>
                    </a:lnTo>
                    <a:lnTo>
                      <a:pt x="577" y="36"/>
                    </a:lnTo>
                    <a:lnTo>
                      <a:pt x="582" y="46"/>
                    </a:lnTo>
                    <a:lnTo>
                      <a:pt x="574" y="54"/>
                    </a:lnTo>
                    <a:lnTo>
                      <a:pt x="537" y="56"/>
                    </a:lnTo>
                    <a:lnTo>
                      <a:pt x="523" y="57"/>
                    </a:lnTo>
                    <a:lnTo>
                      <a:pt x="520" y="82"/>
                    </a:lnTo>
                    <a:lnTo>
                      <a:pt x="512" y="92"/>
                    </a:lnTo>
                    <a:lnTo>
                      <a:pt x="506" y="93"/>
                    </a:lnTo>
                    <a:lnTo>
                      <a:pt x="501" y="109"/>
                    </a:lnTo>
                    <a:lnTo>
                      <a:pt x="490" y="121"/>
                    </a:lnTo>
                    <a:lnTo>
                      <a:pt x="476" y="127"/>
                    </a:lnTo>
                    <a:lnTo>
                      <a:pt x="468" y="137"/>
                    </a:lnTo>
                    <a:lnTo>
                      <a:pt x="457" y="142"/>
                    </a:lnTo>
                    <a:lnTo>
                      <a:pt x="423" y="160"/>
                    </a:lnTo>
                    <a:lnTo>
                      <a:pt x="405" y="167"/>
                    </a:lnTo>
                    <a:lnTo>
                      <a:pt x="351" y="169"/>
                    </a:lnTo>
                    <a:lnTo>
                      <a:pt x="311" y="165"/>
                    </a:lnTo>
                    <a:lnTo>
                      <a:pt x="288" y="155"/>
                    </a:lnTo>
                    <a:lnTo>
                      <a:pt x="277" y="151"/>
                    </a:lnTo>
                    <a:lnTo>
                      <a:pt x="256" y="155"/>
                    </a:lnTo>
                    <a:lnTo>
                      <a:pt x="222" y="158"/>
                    </a:lnTo>
                    <a:lnTo>
                      <a:pt x="193" y="163"/>
                    </a:lnTo>
                    <a:lnTo>
                      <a:pt x="70" y="208"/>
                    </a:lnTo>
                    <a:lnTo>
                      <a:pt x="17" y="236"/>
                    </a:lnTo>
                    <a:lnTo>
                      <a:pt x="3" y="187"/>
                    </a:lnTo>
                    <a:lnTo>
                      <a:pt x="0" y="156"/>
                    </a:lnTo>
                    <a:lnTo>
                      <a:pt x="0" y="131"/>
                    </a:lnTo>
                    <a:lnTo>
                      <a:pt x="10" y="99"/>
                    </a:lnTo>
                    <a:lnTo>
                      <a:pt x="32" y="57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6" name=""/>
              <p:cNvGrpSpPr/>
              <p:nvPr/>
            </p:nvGrpSpPr>
            <p:grpSpPr>
              <a:xfrm>
                <a:off x="7665120" y="2420640"/>
                <a:ext cx="443160" cy="430920"/>
                <a:chOff x="7665120" y="2420640"/>
                <a:chExt cx="443160" cy="430920"/>
              </a:xfrm>
            </p:grpSpPr>
            <p:grpSp>
              <p:nvGrpSpPr>
                <p:cNvPr id="747" name=""/>
                <p:cNvGrpSpPr/>
                <p:nvPr/>
              </p:nvGrpSpPr>
              <p:grpSpPr>
                <a:xfrm>
                  <a:off x="8063280" y="2537280"/>
                  <a:ext cx="38880" cy="77760"/>
                  <a:chOff x="8063280" y="2537280"/>
                  <a:chExt cx="38880" cy="77760"/>
                </a:xfrm>
              </p:grpSpPr>
              <p:sp>
                <p:nvSpPr>
                  <p:cNvPr id="748" name=""/>
                  <p:cNvSpPr/>
                  <p:nvPr/>
                </p:nvSpPr>
                <p:spPr>
                  <a:xfrm>
                    <a:off x="8063280" y="2537280"/>
                    <a:ext cx="38880" cy="7776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8067240" y="2538720"/>
                    <a:ext cx="32760" cy="72720"/>
                  </a:xfrm>
                  <a:prstGeom prst="ellipse">
                    <a:avLst/>
                  </a:prstGeom>
                  <a:solidFill>
                    <a:srgbClr val="ffd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0" name=""/>
                <p:cNvGrpSpPr/>
                <p:nvPr/>
              </p:nvGrpSpPr>
              <p:grpSpPr>
                <a:xfrm>
                  <a:off x="7665120" y="2420640"/>
                  <a:ext cx="443160" cy="430920"/>
                  <a:chOff x="7665120" y="2420640"/>
                  <a:chExt cx="443160" cy="430920"/>
                </a:xfrm>
              </p:grpSpPr>
              <p:grpSp>
                <p:nvGrpSpPr>
                  <p:cNvPr id="751" name=""/>
                  <p:cNvGrpSpPr/>
                  <p:nvPr/>
                </p:nvGrpSpPr>
                <p:grpSpPr>
                  <a:xfrm>
                    <a:off x="7768440" y="2448720"/>
                    <a:ext cx="339840" cy="402840"/>
                    <a:chOff x="7768440" y="2448720"/>
                    <a:chExt cx="339840" cy="402840"/>
                  </a:xfrm>
                </p:grpSpPr>
                <p:sp>
                  <p:nvSpPr>
                    <p:cNvPr id="752" name=""/>
                    <p:cNvSpPr/>
                    <p:nvPr/>
                  </p:nvSpPr>
                  <p:spPr>
                    <a:xfrm>
                      <a:off x="7768440" y="2448720"/>
                      <a:ext cx="339840" cy="40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2" h="777">
                          <a:moveTo>
                            <a:pt x="318" y="14"/>
                          </a:moveTo>
                          <a:lnTo>
                            <a:pt x="359" y="29"/>
                          </a:lnTo>
                          <a:lnTo>
                            <a:pt x="383" y="44"/>
                          </a:lnTo>
                          <a:lnTo>
                            <a:pt x="402" y="64"/>
                          </a:lnTo>
                          <a:lnTo>
                            <a:pt x="413" y="86"/>
                          </a:lnTo>
                          <a:lnTo>
                            <a:pt x="421" y="111"/>
                          </a:lnTo>
                          <a:lnTo>
                            <a:pt x="427" y="135"/>
                          </a:lnTo>
                          <a:lnTo>
                            <a:pt x="434" y="171"/>
                          </a:lnTo>
                          <a:lnTo>
                            <a:pt x="438" y="206"/>
                          </a:lnTo>
                          <a:lnTo>
                            <a:pt x="433" y="227"/>
                          </a:lnTo>
                          <a:lnTo>
                            <a:pt x="431" y="248"/>
                          </a:lnTo>
                          <a:lnTo>
                            <a:pt x="442" y="269"/>
                          </a:lnTo>
                          <a:lnTo>
                            <a:pt x="475" y="303"/>
                          </a:lnTo>
                          <a:lnTo>
                            <a:pt x="483" y="313"/>
                          </a:lnTo>
                          <a:lnTo>
                            <a:pt x="490" y="322"/>
                          </a:lnTo>
                          <a:lnTo>
                            <a:pt x="492" y="330"/>
                          </a:lnTo>
                          <a:lnTo>
                            <a:pt x="488" y="337"/>
                          </a:lnTo>
                          <a:lnTo>
                            <a:pt x="480" y="342"/>
                          </a:lnTo>
                          <a:lnTo>
                            <a:pt x="464" y="347"/>
                          </a:lnTo>
                          <a:lnTo>
                            <a:pt x="458" y="353"/>
                          </a:lnTo>
                          <a:lnTo>
                            <a:pt x="464" y="367"/>
                          </a:lnTo>
                          <a:lnTo>
                            <a:pt x="462" y="375"/>
                          </a:lnTo>
                          <a:lnTo>
                            <a:pt x="456" y="382"/>
                          </a:lnTo>
                          <a:lnTo>
                            <a:pt x="443" y="389"/>
                          </a:lnTo>
                          <a:lnTo>
                            <a:pt x="425" y="397"/>
                          </a:lnTo>
                          <a:lnTo>
                            <a:pt x="414" y="401"/>
                          </a:lnTo>
                          <a:lnTo>
                            <a:pt x="453" y="410"/>
                          </a:lnTo>
                          <a:lnTo>
                            <a:pt x="458" y="417"/>
                          </a:lnTo>
                          <a:lnTo>
                            <a:pt x="448" y="433"/>
                          </a:lnTo>
                          <a:lnTo>
                            <a:pt x="447" y="454"/>
                          </a:lnTo>
                          <a:lnTo>
                            <a:pt x="447" y="484"/>
                          </a:lnTo>
                          <a:lnTo>
                            <a:pt x="447" y="496"/>
                          </a:lnTo>
                          <a:lnTo>
                            <a:pt x="442" y="505"/>
                          </a:lnTo>
                          <a:lnTo>
                            <a:pt x="431" y="514"/>
                          </a:lnTo>
                          <a:lnTo>
                            <a:pt x="414" y="518"/>
                          </a:lnTo>
                          <a:lnTo>
                            <a:pt x="396" y="523"/>
                          </a:lnTo>
                          <a:lnTo>
                            <a:pt x="354" y="530"/>
                          </a:lnTo>
                          <a:lnTo>
                            <a:pt x="330" y="536"/>
                          </a:lnTo>
                          <a:lnTo>
                            <a:pt x="312" y="543"/>
                          </a:lnTo>
                          <a:lnTo>
                            <a:pt x="298" y="553"/>
                          </a:lnTo>
                          <a:lnTo>
                            <a:pt x="253" y="615"/>
                          </a:lnTo>
                          <a:lnTo>
                            <a:pt x="320" y="754"/>
                          </a:lnTo>
                          <a:lnTo>
                            <a:pt x="281" y="765"/>
                          </a:lnTo>
                          <a:lnTo>
                            <a:pt x="221" y="777"/>
                          </a:lnTo>
                          <a:lnTo>
                            <a:pt x="169" y="774"/>
                          </a:lnTo>
                          <a:lnTo>
                            <a:pt x="139" y="758"/>
                          </a:lnTo>
                          <a:lnTo>
                            <a:pt x="68" y="545"/>
                          </a:lnTo>
                          <a:lnTo>
                            <a:pt x="68" y="474"/>
                          </a:lnTo>
                          <a:lnTo>
                            <a:pt x="47" y="436"/>
                          </a:lnTo>
                          <a:lnTo>
                            <a:pt x="22" y="387"/>
                          </a:lnTo>
                          <a:lnTo>
                            <a:pt x="11" y="359"/>
                          </a:lnTo>
                          <a:lnTo>
                            <a:pt x="4" y="321"/>
                          </a:lnTo>
                          <a:lnTo>
                            <a:pt x="0" y="280"/>
                          </a:lnTo>
                          <a:lnTo>
                            <a:pt x="0" y="231"/>
                          </a:lnTo>
                          <a:lnTo>
                            <a:pt x="6" y="185"/>
                          </a:lnTo>
                          <a:lnTo>
                            <a:pt x="14" y="145"/>
                          </a:lnTo>
                          <a:lnTo>
                            <a:pt x="28" y="111"/>
                          </a:lnTo>
                          <a:lnTo>
                            <a:pt x="44" y="78"/>
                          </a:lnTo>
                          <a:lnTo>
                            <a:pt x="68" y="47"/>
                          </a:lnTo>
                          <a:lnTo>
                            <a:pt x="102" y="23"/>
                          </a:lnTo>
                          <a:lnTo>
                            <a:pt x="139" y="9"/>
                          </a:lnTo>
                          <a:lnTo>
                            <a:pt x="181" y="2"/>
                          </a:lnTo>
                          <a:lnTo>
                            <a:pt x="219" y="0"/>
                          </a:lnTo>
                          <a:lnTo>
                            <a:pt x="269" y="3"/>
                          </a:lnTo>
                          <a:lnTo>
                            <a:pt x="318" y="14"/>
                          </a:lnTo>
                          <a:close/>
                        </a:path>
                      </a:pathLst>
                    </a:custGeom>
                    <a:solidFill>
                      <a:srgbClr val="f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53" name=""/>
                    <p:cNvGrpSpPr/>
                    <p:nvPr/>
                  </p:nvGrpSpPr>
                  <p:grpSpPr>
                    <a:xfrm>
                      <a:off x="7909200" y="2683440"/>
                      <a:ext cx="156960" cy="147240"/>
                      <a:chOff x="7909200" y="2683440"/>
                      <a:chExt cx="156960" cy="147240"/>
                    </a:xfrm>
                  </p:grpSpPr>
                  <p:sp>
                    <p:nvSpPr>
                      <p:cNvPr id="754" name=""/>
                      <p:cNvSpPr/>
                      <p:nvPr/>
                    </p:nvSpPr>
                    <p:spPr>
                      <a:xfrm>
                        <a:off x="7911360" y="2683440"/>
                        <a:ext cx="154800" cy="52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6" h="102">
                            <a:moveTo>
                              <a:pt x="0" y="0"/>
                            </a:moveTo>
                            <a:lnTo>
                              <a:pt x="33" y="14"/>
                            </a:lnTo>
                            <a:lnTo>
                              <a:pt x="67" y="25"/>
                            </a:lnTo>
                            <a:lnTo>
                              <a:pt x="92" y="32"/>
                            </a:lnTo>
                            <a:lnTo>
                              <a:pt x="125" y="41"/>
                            </a:lnTo>
                            <a:lnTo>
                              <a:pt x="147" y="45"/>
                            </a:lnTo>
                            <a:lnTo>
                              <a:pt x="178" y="50"/>
                            </a:lnTo>
                            <a:lnTo>
                              <a:pt x="201" y="50"/>
                            </a:lnTo>
                            <a:lnTo>
                              <a:pt x="226" y="50"/>
                            </a:lnTo>
                            <a:lnTo>
                              <a:pt x="202" y="59"/>
                            </a:lnTo>
                            <a:lnTo>
                              <a:pt x="168" y="66"/>
                            </a:lnTo>
                            <a:lnTo>
                              <a:pt x="141" y="72"/>
                            </a:lnTo>
                            <a:lnTo>
                              <a:pt x="119" y="78"/>
                            </a:lnTo>
                            <a:lnTo>
                              <a:pt x="97" y="85"/>
                            </a:lnTo>
                            <a:lnTo>
                              <a:pt x="84" y="91"/>
                            </a:lnTo>
                            <a:lnTo>
                              <a:pt x="69" y="102"/>
                            </a:lnTo>
                            <a:lnTo>
                              <a:pt x="83" y="86"/>
                            </a:lnTo>
                            <a:lnTo>
                              <a:pt x="95" y="75"/>
                            </a:lnTo>
                            <a:lnTo>
                              <a:pt x="98" y="65"/>
                            </a:lnTo>
                            <a:lnTo>
                              <a:pt x="98" y="57"/>
                            </a:lnTo>
                            <a:lnTo>
                              <a:pt x="95" y="49"/>
                            </a:lnTo>
                            <a:lnTo>
                              <a:pt x="85" y="44"/>
                            </a:lnTo>
                            <a:lnTo>
                              <a:pt x="74" y="41"/>
                            </a:lnTo>
                            <a:lnTo>
                              <a:pt x="55" y="38"/>
                            </a:lnTo>
                            <a:lnTo>
                              <a:pt x="38" y="3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760" bIns="5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5" name=""/>
                      <p:cNvSpPr/>
                      <p:nvPr/>
                    </p:nvSpPr>
                    <p:spPr>
                      <a:xfrm>
                        <a:off x="7909200" y="2757600"/>
                        <a:ext cx="36720" cy="7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142">
                            <a:moveTo>
                              <a:pt x="32" y="16"/>
                            </a:moveTo>
                            <a:lnTo>
                              <a:pt x="32" y="6"/>
                            </a:lnTo>
                            <a:lnTo>
                              <a:pt x="28" y="1"/>
                            </a:lnTo>
                            <a:lnTo>
                              <a:pt x="20" y="0"/>
                            </a:lnTo>
                            <a:lnTo>
                              <a:pt x="11" y="5"/>
                            </a:lnTo>
                            <a:lnTo>
                              <a:pt x="5" y="13"/>
                            </a:lnTo>
                            <a:lnTo>
                              <a:pt x="0" y="23"/>
                            </a:lnTo>
                            <a:lnTo>
                              <a:pt x="0" y="38"/>
                            </a:lnTo>
                            <a:lnTo>
                              <a:pt x="2" y="81"/>
                            </a:lnTo>
                            <a:lnTo>
                              <a:pt x="5" y="99"/>
                            </a:lnTo>
                            <a:lnTo>
                              <a:pt x="10" y="108"/>
                            </a:lnTo>
                            <a:lnTo>
                              <a:pt x="47" y="142"/>
                            </a:lnTo>
                            <a:lnTo>
                              <a:pt x="56" y="108"/>
                            </a:lnTo>
                            <a:lnTo>
                              <a:pt x="39" y="84"/>
                            </a:lnTo>
                            <a:lnTo>
                              <a:pt x="42" y="101"/>
                            </a:lnTo>
                            <a:lnTo>
                              <a:pt x="43" y="115"/>
                            </a:lnTo>
                            <a:lnTo>
                              <a:pt x="42" y="120"/>
                            </a:lnTo>
                            <a:lnTo>
                              <a:pt x="14" y="89"/>
                            </a:lnTo>
                            <a:lnTo>
                              <a:pt x="13" y="77"/>
                            </a:lnTo>
                            <a:lnTo>
                              <a:pt x="10" y="61"/>
                            </a:lnTo>
                            <a:lnTo>
                              <a:pt x="16" y="42"/>
                            </a:lnTo>
                            <a:lnTo>
                              <a:pt x="24" y="27"/>
                            </a:lnTo>
                            <a:lnTo>
                              <a:pt x="32" y="16"/>
                            </a:lnTo>
                            <a:close/>
                          </a:path>
                        </a:pathLst>
                      </a:custGeom>
                      <a:solidFill>
                        <a:srgbClr val="ff9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756" name=""/>
                  <p:cNvSpPr/>
                  <p:nvPr/>
                </p:nvSpPr>
                <p:spPr>
                  <a:xfrm>
                    <a:off x="8005320" y="2576160"/>
                    <a:ext cx="248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9">
                        <a:moveTo>
                          <a:pt x="32" y="0"/>
                        </a:moveTo>
                        <a:lnTo>
                          <a:pt x="17" y="6"/>
                        </a:lnTo>
                        <a:lnTo>
                          <a:pt x="0" y="17"/>
                        </a:lnTo>
                        <a:lnTo>
                          <a:pt x="12" y="26"/>
                        </a:lnTo>
                        <a:lnTo>
                          <a:pt x="30" y="29"/>
                        </a:lnTo>
                        <a:lnTo>
                          <a:pt x="36" y="28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7994880" y="2545200"/>
                    <a:ext cx="4356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3">
                        <a:moveTo>
                          <a:pt x="64" y="0"/>
                        </a:moveTo>
                        <a:lnTo>
                          <a:pt x="49" y="3"/>
                        </a:lnTo>
                        <a:lnTo>
                          <a:pt x="38" y="14"/>
                        </a:lnTo>
                        <a:lnTo>
                          <a:pt x="28" y="27"/>
                        </a:lnTo>
                        <a:lnTo>
                          <a:pt x="19" y="39"/>
                        </a:lnTo>
                        <a:lnTo>
                          <a:pt x="0" y="53"/>
                        </a:lnTo>
                        <a:lnTo>
                          <a:pt x="22" y="46"/>
                        </a:lnTo>
                        <a:lnTo>
                          <a:pt x="37" y="35"/>
                        </a:lnTo>
                        <a:lnTo>
                          <a:pt x="49" y="25"/>
                        </a:lnTo>
                        <a:lnTo>
                          <a:pt x="60" y="21"/>
                        </a:lnTo>
                        <a:lnTo>
                          <a:pt x="64" y="0"/>
                        </a:lnTo>
                        <a:close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58" name=""/>
                  <p:cNvGrpSpPr/>
                  <p:nvPr/>
                </p:nvGrpSpPr>
                <p:grpSpPr>
                  <a:xfrm>
                    <a:off x="8001000" y="2562480"/>
                    <a:ext cx="30600" cy="29520"/>
                    <a:chOff x="8001000" y="2562480"/>
                    <a:chExt cx="30600" cy="29520"/>
                  </a:xfrm>
                </p:grpSpPr>
                <p:sp>
                  <p:nvSpPr>
                    <p:cNvPr id="759" name=""/>
                    <p:cNvSpPr/>
                    <p:nvPr/>
                  </p:nvSpPr>
                  <p:spPr>
                    <a:xfrm>
                      <a:off x="8013600" y="2577600"/>
                      <a:ext cx="13680" cy="12240"/>
                    </a:xfrm>
                    <a:prstGeom prst="ellipse">
                      <a:avLst/>
                    </a:prstGeom>
                    <a:solidFill>
                      <a:srgbClr val="5f7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"/>
                    <p:cNvSpPr/>
                    <p:nvPr/>
                  </p:nvSpPr>
                  <p:spPr>
                    <a:xfrm>
                      <a:off x="8001000" y="2562480"/>
                      <a:ext cx="306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57">
                          <a:moveTo>
                            <a:pt x="38" y="14"/>
                          </a:moveTo>
                          <a:lnTo>
                            <a:pt x="26" y="25"/>
                          </a:lnTo>
                          <a:lnTo>
                            <a:pt x="30" y="0"/>
                          </a:lnTo>
                          <a:lnTo>
                            <a:pt x="20" y="25"/>
                          </a:lnTo>
                          <a:lnTo>
                            <a:pt x="12" y="35"/>
                          </a:lnTo>
                          <a:lnTo>
                            <a:pt x="0" y="44"/>
                          </a:lnTo>
                          <a:lnTo>
                            <a:pt x="15" y="54"/>
                          </a:lnTo>
                          <a:lnTo>
                            <a:pt x="16" y="54"/>
                          </a:lnTo>
                          <a:lnTo>
                            <a:pt x="26" y="57"/>
                          </a:lnTo>
                          <a:lnTo>
                            <a:pt x="39" y="57"/>
                          </a:lnTo>
                          <a:lnTo>
                            <a:pt x="37" y="48"/>
                          </a:lnTo>
                          <a:lnTo>
                            <a:pt x="26" y="51"/>
                          </a:lnTo>
                          <a:lnTo>
                            <a:pt x="15" y="46"/>
                          </a:lnTo>
                          <a:lnTo>
                            <a:pt x="6" y="42"/>
                          </a:lnTo>
                          <a:lnTo>
                            <a:pt x="15" y="38"/>
                          </a:lnTo>
                          <a:lnTo>
                            <a:pt x="30" y="32"/>
                          </a:lnTo>
                          <a:lnTo>
                            <a:pt x="44" y="25"/>
                          </a:lnTo>
                          <a:lnTo>
                            <a:pt x="38" y="14"/>
                          </a:lnTo>
                          <a:close/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61" name=""/>
                  <p:cNvSpPr/>
                  <p:nvPr/>
                </p:nvSpPr>
                <p:spPr>
                  <a:xfrm>
                    <a:off x="7665120" y="2420640"/>
                    <a:ext cx="41256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597" h="674">
                        <a:moveTo>
                          <a:pt x="579" y="199"/>
                        </a:moveTo>
                        <a:lnTo>
                          <a:pt x="586" y="192"/>
                        </a:lnTo>
                        <a:lnTo>
                          <a:pt x="594" y="183"/>
                        </a:lnTo>
                        <a:lnTo>
                          <a:pt x="597" y="162"/>
                        </a:lnTo>
                        <a:lnTo>
                          <a:pt x="597" y="123"/>
                        </a:lnTo>
                        <a:lnTo>
                          <a:pt x="586" y="91"/>
                        </a:lnTo>
                        <a:lnTo>
                          <a:pt x="571" y="74"/>
                        </a:lnTo>
                        <a:lnTo>
                          <a:pt x="549" y="52"/>
                        </a:lnTo>
                        <a:lnTo>
                          <a:pt x="504" y="45"/>
                        </a:lnTo>
                        <a:lnTo>
                          <a:pt x="439" y="35"/>
                        </a:lnTo>
                        <a:lnTo>
                          <a:pt x="380" y="21"/>
                        </a:lnTo>
                        <a:lnTo>
                          <a:pt x="333" y="10"/>
                        </a:lnTo>
                        <a:lnTo>
                          <a:pt x="274" y="0"/>
                        </a:lnTo>
                        <a:lnTo>
                          <a:pt x="245" y="10"/>
                        </a:lnTo>
                        <a:lnTo>
                          <a:pt x="212" y="35"/>
                        </a:lnTo>
                        <a:lnTo>
                          <a:pt x="183" y="63"/>
                        </a:lnTo>
                        <a:lnTo>
                          <a:pt x="161" y="95"/>
                        </a:lnTo>
                        <a:lnTo>
                          <a:pt x="135" y="144"/>
                        </a:lnTo>
                        <a:lnTo>
                          <a:pt x="121" y="190"/>
                        </a:lnTo>
                        <a:lnTo>
                          <a:pt x="114" y="236"/>
                        </a:lnTo>
                        <a:lnTo>
                          <a:pt x="103" y="288"/>
                        </a:lnTo>
                        <a:lnTo>
                          <a:pt x="103" y="334"/>
                        </a:lnTo>
                        <a:lnTo>
                          <a:pt x="88" y="387"/>
                        </a:lnTo>
                        <a:lnTo>
                          <a:pt x="70" y="434"/>
                        </a:lnTo>
                        <a:lnTo>
                          <a:pt x="48" y="466"/>
                        </a:lnTo>
                        <a:lnTo>
                          <a:pt x="26" y="487"/>
                        </a:lnTo>
                        <a:lnTo>
                          <a:pt x="4" y="512"/>
                        </a:lnTo>
                        <a:lnTo>
                          <a:pt x="4" y="519"/>
                        </a:lnTo>
                        <a:lnTo>
                          <a:pt x="0" y="540"/>
                        </a:lnTo>
                        <a:lnTo>
                          <a:pt x="0" y="575"/>
                        </a:lnTo>
                        <a:lnTo>
                          <a:pt x="11" y="603"/>
                        </a:lnTo>
                        <a:lnTo>
                          <a:pt x="30" y="621"/>
                        </a:lnTo>
                        <a:lnTo>
                          <a:pt x="88" y="621"/>
                        </a:lnTo>
                        <a:lnTo>
                          <a:pt x="135" y="628"/>
                        </a:lnTo>
                        <a:lnTo>
                          <a:pt x="183" y="660"/>
                        </a:lnTo>
                        <a:lnTo>
                          <a:pt x="234" y="674"/>
                        </a:lnTo>
                        <a:lnTo>
                          <a:pt x="278" y="674"/>
                        </a:lnTo>
                        <a:lnTo>
                          <a:pt x="314" y="652"/>
                        </a:lnTo>
                        <a:lnTo>
                          <a:pt x="329" y="621"/>
                        </a:lnTo>
                        <a:lnTo>
                          <a:pt x="325" y="578"/>
                        </a:lnTo>
                        <a:lnTo>
                          <a:pt x="307" y="547"/>
                        </a:lnTo>
                        <a:lnTo>
                          <a:pt x="303" y="515"/>
                        </a:lnTo>
                        <a:lnTo>
                          <a:pt x="307" y="483"/>
                        </a:lnTo>
                        <a:lnTo>
                          <a:pt x="336" y="455"/>
                        </a:lnTo>
                        <a:lnTo>
                          <a:pt x="369" y="445"/>
                        </a:lnTo>
                        <a:lnTo>
                          <a:pt x="391" y="427"/>
                        </a:lnTo>
                        <a:lnTo>
                          <a:pt x="409" y="399"/>
                        </a:lnTo>
                        <a:lnTo>
                          <a:pt x="413" y="352"/>
                        </a:lnTo>
                        <a:lnTo>
                          <a:pt x="413" y="331"/>
                        </a:lnTo>
                        <a:lnTo>
                          <a:pt x="439" y="324"/>
                        </a:lnTo>
                        <a:lnTo>
                          <a:pt x="464" y="303"/>
                        </a:lnTo>
                        <a:lnTo>
                          <a:pt x="479" y="267"/>
                        </a:lnTo>
                        <a:lnTo>
                          <a:pt x="493" y="218"/>
                        </a:lnTo>
                        <a:lnTo>
                          <a:pt x="486" y="158"/>
                        </a:lnTo>
                        <a:lnTo>
                          <a:pt x="475" y="123"/>
                        </a:lnTo>
                        <a:lnTo>
                          <a:pt x="442" y="98"/>
                        </a:lnTo>
                        <a:lnTo>
                          <a:pt x="519" y="123"/>
                        </a:lnTo>
                        <a:lnTo>
                          <a:pt x="546" y="162"/>
                        </a:lnTo>
                        <a:lnTo>
                          <a:pt x="574" y="185"/>
                        </a:lnTo>
                        <a:lnTo>
                          <a:pt x="579" y="199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2" name=""/>
                <p:cNvGrpSpPr/>
                <p:nvPr/>
              </p:nvGrpSpPr>
              <p:grpSpPr>
                <a:xfrm>
                  <a:off x="7965720" y="2537280"/>
                  <a:ext cx="105480" cy="82440"/>
                  <a:chOff x="7965720" y="2537280"/>
                  <a:chExt cx="105480" cy="82440"/>
                </a:xfrm>
              </p:grpSpPr>
              <p:sp>
                <p:nvSpPr>
                  <p:cNvPr id="763" name=""/>
                  <p:cNvSpPr/>
                  <p:nvPr/>
                </p:nvSpPr>
                <p:spPr>
                  <a:xfrm flipV="1">
                    <a:off x="8062920" y="2571120"/>
                    <a:ext cx="8280" cy="1440"/>
                  </a:xfrm>
                  <a:prstGeom prst="line">
                    <a:avLst/>
                  </a:prstGeom>
                  <a:ln w="324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64" name=""/>
                  <p:cNvGrpSpPr/>
                  <p:nvPr/>
                </p:nvGrpSpPr>
                <p:grpSpPr>
                  <a:xfrm>
                    <a:off x="7965720" y="2537280"/>
                    <a:ext cx="96840" cy="82440"/>
                    <a:chOff x="7965720" y="2537280"/>
                    <a:chExt cx="96840" cy="82440"/>
                  </a:xfrm>
                </p:grpSpPr>
                <p:sp>
                  <p:nvSpPr>
                    <p:cNvPr id="765" name=""/>
                    <p:cNvSpPr/>
                    <p:nvPr/>
                  </p:nvSpPr>
                  <p:spPr>
                    <a:xfrm>
                      <a:off x="7965720" y="2583720"/>
                      <a:ext cx="68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" h="57">
                          <a:moveTo>
                            <a:pt x="12" y="0"/>
                          </a:moveTo>
                          <a:lnTo>
                            <a:pt x="30" y="16"/>
                          </a:lnTo>
                          <a:lnTo>
                            <a:pt x="45" y="25"/>
                          </a:lnTo>
                          <a:lnTo>
                            <a:pt x="56" y="31"/>
                          </a:lnTo>
                          <a:lnTo>
                            <a:pt x="71" y="37"/>
                          </a:lnTo>
                          <a:lnTo>
                            <a:pt x="84" y="39"/>
                          </a:lnTo>
                          <a:lnTo>
                            <a:pt x="95" y="37"/>
                          </a:lnTo>
                          <a:lnTo>
                            <a:pt x="99" y="57"/>
                          </a:lnTo>
                          <a:lnTo>
                            <a:pt x="83" y="57"/>
                          </a:lnTo>
                          <a:lnTo>
                            <a:pt x="71" y="56"/>
                          </a:lnTo>
                          <a:lnTo>
                            <a:pt x="55" y="49"/>
                          </a:lnTo>
                          <a:lnTo>
                            <a:pt x="40" y="38"/>
                          </a:lnTo>
                          <a:lnTo>
                            <a:pt x="27" y="29"/>
                          </a:lnTo>
                          <a:lnTo>
                            <a:pt x="0" y="5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7f3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"/>
                    <p:cNvSpPr/>
                    <p:nvPr/>
                  </p:nvSpPr>
                  <p:spPr>
                    <a:xfrm>
                      <a:off x="8023680" y="2537280"/>
                      <a:ext cx="38880" cy="82440"/>
                    </a:xfrm>
                    <a:prstGeom prst="ellipse">
                      <a:avLst/>
                    </a:prstGeom>
                    <a:solidFill>
                      <a:srgbClr val="7f3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"/>
                    <p:cNvSpPr/>
                    <p:nvPr/>
                  </p:nvSpPr>
                  <p:spPr>
                    <a:xfrm>
                      <a:off x="8027280" y="2540160"/>
                      <a:ext cx="34920" cy="77760"/>
                    </a:xfrm>
                    <a:prstGeom prst="ellipse">
                      <a:avLst/>
                    </a:prstGeom>
                    <a:solidFill>
                      <a:srgbClr val="ffd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768" name=""/>
            <p:cNvSpPr/>
            <p:nvPr/>
          </p:nvSpPr>
          <p:spPr>
            <a:xfrm>
              <a:off x="5551560" y="3149280"/>
              <a:ext cx="3409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 Em ordem, cada membro do grupo lê o Post-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2485800">
              <a:off x="6857640" y="2106360"/>
              <a:ext cx="860400" cy="353880"/>
            </a:xfrm>
            <a:prstGeom prst="rightArrow">
              <a:avLst>
                <a:gd name="adj1" fmla="val 50000"/>
                <a:gd name="adj2" fmla="val 60783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724280" y="4408200"/>
            <a:ext cx="4419720" cy="2498040"/>
            <a:chOff x="4724280" y="4408200"/>
            <a:chExt cx="4419720" cy="2498040"/>
          </a:xfrm>
        </p:grpSpPr>
        <p:sp>
          <p:nvSpPr>
            <p:cNvPr id="771" name=""/>
            <p:cNvSpPr/>
            <p:nvPr/>
          </p:nvSpPr>
          <p:spPr>
            <a:xfrm>
              <a:off x="4724280" y="5715000"/>
              <a:ext cx="441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 Cada membro que possui um Post-it de mesmo conteúdo o lê para o grup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2" name=""/>
            <p:cNvGrpSpPr/>
            <p:nvPr/>
          </p:nvGrpSpPr>
          <p:grpSpPr>
            <a:xfrm>
              <a:off x="6916680" y="4408200"/>
              <a:ext cx="1954080" cy="1154160"/>
              <a:chOff x="6916680" y="4408200"/>
              <a:chExt cx="1954080" cy="1154160"/>
            </a:xfrm>
          </p:grpSpPr>
          <p:grpSp>
            <p:nvGrpSpPr>
              <p:cNvPr id="773" name=""/>
              <p:cNvGrpSpPr/>
              <p:nvPr/>
            </p:nvGrpSpPr>
            <p:grpSpPr>
              <a:xfrm>
                <a:off x="6916680" y="4775040"/>
                <a:ext cx="1351080" cy="787320"/>
                <a:chOff x="6916680" y="4775040"/>
                <a:chExt cx="1351080" cy="787320"/>
              </a:xfrm>
            </p:grpSpPr>
            <p:sp>
              <p:nvSpPr>
                <p:cNvPr id="774" name=""/>
                <p:cNvSpPr/>
                <p:nvPr/>
              </p:nvSpPr>
              <p:spPr>
                <a:xfrm>
                  <a:off x="6916680" y="4775040"/>
                  <a:ext cx="1351080" cy="787320"/>
                </a:xfrm>
                <a:prstGeom prst="ellipse">
                  <a:avLst/>
                </a:prstGeom>
                <a:solidFill>
                  <a:srgbClr val="d6d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5" name=""/>
                <p:cNvGrpSpPr/>
                <p:nvPr/>
              </p:nvGrpSpPr>
              <p:grpSpPr>
                <a:xfrm>
                  <a:off x="7129440" y="4948200"/>
                  <a:ext cx="408960" cy="394920"/>
                  <a:chOff x="7129440" y="4948200"/>
                  <a:chExt cx="408960" cy="394920"/>
                </a:xfrm>
              </p:grpSpPr>
              <p:grpSp>
                <p:nvGrpSpPr>
                  <p:cNvPr id="776" name=""/>
                  <p:cNvGrpSpPr/>
                  <p:nvPr/>
                </p:nvGrpSpPr>
                <p:grpSpPr>
                  <a:xfrm>
                    <a:off x="7476120" y="5223960"/>
                    <a:ext cx="62280" cy="56160"/>
                    <a:chOff x="7476120" y="5223960"/>
                    <a:chExt cx="62280" cy="56160"/>
                  </a:xfrm>
                </p:grpSpPr>
                <p:sp>
                  <p:nvSpPr>
                    <p:cNvPr id="777" name=""/>
                    <p:cNvSpPr/>
                    <p:nvPr/>
                  </p:nvSpPr>
                  <p:spPr>
                    <a:xfrm>
                      <a:off x="7476120" y="5223960"/>
                      <a:ext cx="6156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4" h="214">
                          <a:moveTo>
                            <a:pt x="35" y="33"/>
                          </a:moveTo>
                          <a:lnTo>
                            <a:pt x="66" y="5"/>
                          </a:lnTo>
                          <a:lnTo>
                            <a:pt x="85" y="0"/>
                          </a:lnTo>
                          <a:lnTo>
                            <a:pt x="122" y="5"/>
                          </a:lnTo>
                          <a:lnTo>
                            <a:pt x="161" y="11"/>
                          </a:lnTo>
                          <a:lnTo>
                            <a:pt x="187" y="16"/>
                          </a:lnTo>
                          <a:lnTo>
                            <a:pt x="195" y="22"/>
                          </a:lnTo>
                          <a:lnTo>
                            <a:pt x="200" y="35"/>
                          </a:lnTo>
                          <a:lnTo>
                            <a:pt x="202" y="43"/>
                          </a:lnTo>
                          <a:lnTo>
                            <a:pt x="195" y="52"/>
                          </a:lnTo>
                          <a:lnTo>
                            <a:pt x="203" y="60"/>
                          </a:lnTo>
                          <a:lnTo>
                            <a:pt x="206" y="72"/>
                          </a:lnTo>
                          <a:lnTo>
                            <a:pt x="204" y="79"/>
                          </a:lnTo>
                          <a:lnTo>
                            <a:pt x="210" y="87"/>
                          </a:lnTo>
                          <a:lnTo>
                            <a:pt x="213" y="96"/>
                          </a:lnTo>
                          <a:lnTo>
                            <a:pt x="211" y="107"/>
                          </a:lnTo>
                          <a:lnTo>
                            <a:pt x="204" y="119"/>
                          </a:lnTo>
                          <a:lnTo>
                            <a:pt x="210" y="130"/>
                          </a:lnTo>
                          <a:lnTo>
                            <a:pt x="214" y="144"/>
                          </a:lnTo>
                          <a:lnTo>
                            <a:pt x="209" y="159"/>
                          </a:lnTo>
                          <a:lnTo>
                            <a:pt x="200" y="166"/>
                          </a:lnTo>
                          <a:lnTo>
                            <a:pt x="200" y="189"/>
                          </a:lnTo>
                          <a:lnTo>
                            <a:pt x="192" y="202"/>
                          </a:lnTo>
                          <a:lnTo>
                            <a:pt x="174" y="208"/>
                          </a:lnTo>
                          <a:lnTo>
                            <a:pt x="94" y="214"/>
                          </a:lnTo>
                          <a:lnTo>
                            <a:pt x="56" y="200"/>
                          </a:lnTo>
                          <a:lnTo>
                            <a:pt x="8" y="148"/>
                          </a:lnTo>
                          <a:lnTo>
                            <a:pt x="1" y="126"/>
                          </a:lnTo>
                          <a:lnTo>
                            <a:pt x="0" y="108"/>
                          </a:lnTo>
                          <a:lnTo>
                            <a:pt x="2" y="92"/>
                          </a:lnTo>
                          <a:lnTo>
                            <a:pt x="9" y="66"/>
                          </a:lnTo>
                          <a:lnTo>
                            <a:pt x="18" y="53"/>
                          </a:lnTo>
                          <a:lnTo>
                            <a:pt x="35" y="33"/>
                          </a:lnTo>
                          <a:close/>
                        </a:path>
                      </a:pathLst>
                    </a:custGeom>
                    <a:solidFill>
                      <a:srgbClr val="f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78" name=""/>
                    <p:cNvGrpSpPr/>
                    <p:nvPr/>
                  </p:nvGrpSpPr>
                  <p:grpSpPr>
                    <a:xfrm>
                      <a:off x="7491600" y="5230800"/>
                      <a:ext cx="46800" cy="48960"/>
                      <a:chOff x="7491600" y="5230800"/>
                      <a:chExt cx="46800" cy="48960"/>
                    </a:xfrm>
                  </p:grpSpPr>
                  <p:sp>
                    <p:nvSpPr>
                      <p:cNvPr id="779" name=""/>
                      <p:cNvSpPr/>
                      <p:nvPr/>
                    </p:nvSpPr>
                    <p:spPr>
                      <a:xfrm>
                        <a:off x="7491600" y="5242320"/>
                        <a:ext cx="4680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2" h="144">
                            <a:moveTo>
                              <a:pt x="48" y="20"/>
                            </a:moveTo>
                            <a:lnTo>
                              <a:pt x="67" y="22"/>
                            </a:lnTo>
                            <a:lnTo>
                              <a:pt x="79" y="22"/>
                            </a:lnTo>
                            <a:lnTo>
                              <a:pt x="78" y="0"/>
                            </a:lnTo>
                            <a:lnTo>
                              <a:pt x="86" y="12"/>
                            </a:lnTo>
                            <a:lnTo>
                              <a:pt x="93" y="18"/>
                            </a:lnTo>
                            <a:lnTo>
                              <a:pt x="101" y="20"/>
                            </a:lnTo>
                            <a:lnTo>
                              <a:pt x="118" y="18"/>
                            </a:lnTo>
                            <a:lnTo>
                              <a:pt x="130" y="13"/>
                            </a:lnTo>
                            <a:lnTo>
                              <a:pt x="141" y="9"/>
                            </a:lnTo>
                            <a:lnTo>
                              <a:pt x="151" y="6"/>
                            </a:lnTo>
                            <a:lnTo>
                              <a:pt x="155" y="2"/>
                            </a:lnTo>
                            <a:lnTo>
                              <a:pt x="152" y="9"/>
                            </a:lnTo>
                            <a:lnTo>
                              <a:pt x="158" y="17"/>
                            </a:lnTo>
                            <a:lnTo>
                              <a:pt x="161" y="26"/>
                            </a:lnTo>
                            <a:lnTo>
                              <a:pt x="160" y="37"/>
                            </a:lnTo>
                            <a:lnTo>
                              <a:pt x="152" y="49"/>
                            </a:lnTo>
                            <a:lnTo>
                              <a:pt x="158" y="60"/>
                            </a:lnTo>
                            <a:lnTo>
                              <a:pt x="162" y="74"/>
                            </a:lnTo>
                            <a:lnTo>
                              <a:pt x="157" y="89"/>
                            </a:lnTo>
                            <a:lnTo>
                              <a:pt x="149" y="96"/>
                            </a:lnTo>
                            <a:lnTo>
                              <a:pt x="149" y="119"/>
                            </a:lnTo>
                            <a:lnTo>
                              <a:pt x="140" y="132"/>
                            </a:lnTo>
                            <a:lnTo>
                              <a:pt x="122" y="138"/>
                            </a:lnTo>
                            <a:lnTo>
                              <a:pt x="43" y="144"/>
                            </a:lnTo>
                            <a:lnTo>
                              <a:pt x="4" y="130"/>
                            </a:lnTo>
                            <a:lnTo>
                              <a:pt x="27" y="137"/>
                            </a:lnTo>
                            <a:lnTo>
                              <a:pt x="48" y="140"/>
                            </a:lnTo>
                            <a:lnTo>
                              <a:pt x="63" y="139"/>
                            </a:lnTo>
                            <a:lnTo>
                              <a:pt x="76" y="136"/>
                            </a:lnTo>
                            <a:lnTo>
                              <a:pt x="80" y="124"/>
                            </a:lnTo>
                            <a:lnTo>
                              <a:pt x="80" y="139"/>
                            </a:lnTo>
                            <a:lnTo>
                              <a:pt x="99" y="137"/>
                            </a:lnTo>
                            <a:lnTo>
                              <a:pt x="123" y="136"/>
                            </a:lnTo>
                            <a:lnTo>
                              <a:pt x="135" y="130"/>
                            </a:lnTo>
                            <a:lnTo>
                              <a:pt x="140" y="120"/>
                            </a:lnTo>
                            <a:lnTo>
                              <a:pt x="145" y="109"/>
                            </a:lnTo>
                            <a:lnTo>
                              <a:pt x="146" y="100"/>
                            </a:lnTo>
                            <a:lnTo>
                              <a:pt x="133" y="103"/>
                            </a:lnTo>
                            <a:lnTo>
                              <a:pt x="118" y="106"/>
                            </a:lnTo>
                            <a:lnTo>
                              <a:pt x="101" y="107"/>
                            </a:lnTo>
                            <a:lnTo>
                              <a:pt x="83" y="109"/>
                            </a:lnTo>
                            <a:lnTo>
                              <a:pt x="69" y="107"/>
                            </a:lnTo>
                            <a:lnTo>
                              <a:pt x="55" y="106"/>
                            </a:lnTo>
                            <a:lnTo>
                              <a:pt x="39" y="101"/>
                            </a:lnTo>
                            <a:lnTo>
                              <a:pt x="21" y="96"/>
                            </a:lnTo>
                            <a:lnTo>
                              <a:pt x="10" y="86"/>
                            </a:lnTo>
                            <a:lnTo>
                              <a:pt x="26" y="94"/>
                            </a:lnTo>
                            <a:lnTo>
                              <a:pt x="37" y="96"/>
                            </a:lnTo>
                            <a:lnTo>
                              <a:pt x="51" y="98"/>
                            </a:lnTo>
                            <a:lnTo>
                              <a:pt x="66" y="100"/>
                            </a:lnTo>
                            <a:lnTo>
                              <a:pt x="83" y="101"/>
                            </a:lnTo>
                            <a:lnTo>
                              <a:pt x="95" y="97"/>
                            </a:lnTo>
                            <a:lnTo>
                              <a:pt x="106" y="91"/>
                            </a:lnTo>
                            <a:lnTo>
                              <a:pt x="108" y="100"/>
                            </a:lnTo>
                            <a:lnTo>
                              <a:pt x="116" y="99"/>
                            </a:lnTo>
                            <a:lnTo>
                              <a:pt x="129" y="98"/>
                            </a:lnTo>
                            <a:lnTo>
                              <a:pt x="140" y="97"/>
                            </a:lnTo>
                            <a:lnTo>
                              <a:pt x="145" y="93"/>
                            </a:lnTo>
                            <a:lnTo>
                              <a:pt x="149" y="87"/>
                            </a:lnTo>
                            <a:lnTo>
                              <a:pt x="152" y="81"/>
                            </a:lnTo>
                            <a:lnTo>
                              <a:pt x="155" y="74"/>
                            </a:lnTo>
                            <a:lnTo>
                              <a:pt x="153" y="67"/>
                            </a:lnTo>
                            <a:lnTo>
                              <a:pt x="151" y="62"/>
                            </a:lnTo>
                            <a:lnTo>
                              <a:pt x="144" y="62"/>
                            </a:lnTo>
                            <a:lnTo>
                              <a:pt x="128" y="65"/>
                            </a:lnTo>
                            <a:lnTo>
                              <a:pt x="113" y="70"/>
                            </a:lnTo>
                            <a:lnTo>
                              <a:pt x="97" y="72"/>
                            </a:lnTo>
                            <a:lnTo>
                              <a:pt x="80" y="73"/>
                            </a:lnTo>
                            <a:lnTo>
                              <a:pt x="65" y="74"/>
                            </a:lnTo>
                            <a:lnTo>
                              <a:pt x="45" y="74"/>
                            </a:lnTo>
                            <a:lnTo>
                              <a:pt x="28" y="70"/>
                            </a:lnTo>
                            <a:lnTo>
                              <a:pt x="15" y="65"/>
                            </a:lnTo>
                            <a:lnTo>
                              <a:pt x="0" y="54"/>
                            </a:lnTo>
                            <a:lnTo>
                              <a:pt x="24" y="63"/>
                            </a:lnTo>
                            <a:lnTo>
                              <a:pt x="37" y="66"/>
                            </a:lnTo>
                            <a:lnTo>
                              <a:pt x="51" y="70"/>
                            </a:lnTo>
                            <a:lnTo>
                              <a:pt x="66" y="69"/>
                            </a:lnTo>
                            <a:lnTo>
                              <a:pt x="77" y="67"/>
                            </a:lnTo>
                            <a:lnTo>
                              <a:pt x="88" y="64"/>
                            </a:lnTo>
                            <a:lnTo>
                              <a:pt x="96" y="56"/>
                            </a:lnTo>
                            <a:lnTo>
                              <a:pt x="106" y="50"/>
                            </a:lnTo>
                            <a:lnTo>
                              <a:pt x="100" y="59"/>
                            </a:lnTo>
                            <a:lnTo>
                              <a:pt x="105" y="64"/>
                            </a:lnTo>
                            <a:lnTo>
                              <a:pt x="110" y="63"/>
                            </a:lnTo>
                            <a:lnTo>
                              <a:pt x="123" y="60"/>
                            </a:lnTo>
                            <a:lnTo>
                              <a:pt x="135" y="57"/>
                            </a:lnTo>
                            <a:lnTo>
                              <a:pt x="146" y="49"/>
                            </a:lnTo>
                            <a:lnTo>
                              <a:pt x="155" y="40"/>
                            </a:lnTo>
                            <a:lnTo>
                              <a:pt x="156" y="32"/>
                            </a:lnTo>
                            <a:lnTo>
                              <a:pt x="155" y="23"/>
                            </a:lnTo>
                            <a:lnTo>
                              <a:pt x="153" y="11"/>
                            </a:lnTo>
                            <a:lnTo>
                              <a:pt x="142" y="15"/>
                            </a:lnTo>
                            <a:lnTo>
                              <a:pt x="128" y="22"/>
                            </a:lnTo>
                            <a:lnTo>
                              <a:pt x="107" y="27"/>
                            </a:lnTo>
                            <a:lnTo>
                              <a:pt x="84" y="29"/>
                            </a:lnTo>
                            <a:lnTo>
                              <a:pt x="61" y="27"/>
                            </a:lnTo>
                            <a:lnTo>
                              <a:pt x="40" y="24"/>
                            </a:lnTo>
                            <a:lnTo>
                              <a:pt x="21" y="17"/>
                            </a:lnTo>
                            <a:lnTo>
                              <a:pt x="48" y="20"/>
                            </a:lnTo>
                            <a:close/>
                          </a:path>
                        </a:pathLst>
                      </a:custGeom>
                      <a:solidFill>
                        <a:srgbClr val="df9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0" name=""/>
                      <p:cNvSpPr/>
                      <p:nvPr/>
                    </p:nvSpPr>
                    <p:spPr>
                      <a:xfrm>
                        <a:off x="7493040" y="5230800"/>
                        <a:ext cx="3096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" h="18">
                            <a:moveTo>
                              <a:pt x="108" y="0"/>
                            </a:moveTo>
                            <a:lnTo>
                              <a:pt x="98" y="7"/>
                            </a:lnTo>
                            <a:lnTo>
                              <a:pt x="89" y="16"/>
                            </a:lnTo>
                            <a:lnTo>
                              <a:pt x="78" y="14"/>
                            </a:lnTo>
                            <a:lnTo>
                              <a:pt x="67" y="8"/>
                            </a:lnTo>
                            <a:lnTo>
                              <a:pt x="56" y="8"/>
                            </a:lnTo>
                            <a:lnTo>
                              <a:pt x="38" y="13"/>
                            </a:lnTo>
                            <a:lnTo>
                              <a:pt x="25" y="18"/>
                            </a:lnTo>
                            <a:lnTo>
                              <a:pt x="34" y="11"/>
                            </a:lnTo>
                            <a:lnTo>
                              <a:pt x="16" y="8"/>
                            </a:lnTo>
                            <a:lnTo>
                              <a:pt x="0" y="6"/>
                            </a:lnTo>
                            <a:lnTo>
                              <a:pt x="21" y="5"/>
                            </a:lnTo>
                            <a:lnTo>
                              <a:pt x="38" y="7"/>
                            </a:lnTo>
                            <a:lnTo>
                              <a:pt x="51" y="7"/>
                            </a:lnTo>
                            <a:lnTo>
                              <a:pt x="61" y="5"/>
                            </a:lnTo>
                            <a:lnTo>
                              <a:pt x="71" y="5"/>
                            </a:lnTo>
                            <a:lnTo>
                              <a:pt x="78" y="8"/>
                            </a:lnTo>
                            <a:lnTo>
                              <a:pt x="89" y="12"/>
                            </a:lnTo>
                            <a:lnTo>
                              <a:pt x="108" y="0"/>
                            </a:lnTo>
                            <a:close/>
                          </a:path>
                        </a:pathLst>
                      </a:custGeom>
                      <a:solidFill>
                        <a:srgbClr val="df9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81" name=""/>
                  <p:cNvGrpSpPr/>
                  <p:nvPr/>
                </p:nvGrpSpPr>
                <p:grpSpPr>
                  <a:xfrm>
                    <a:off x="7254000" y="5152680"/>
                    <a:ext cx="79560" cy="136440"/>
                    <a:chOff x="7254000" y="5152680"/>
                    <a:chExt cx="79560" cy="136440"/>
                  </a:xfrm>
                </p:grpSpPr>
                <p:sp>
                  <p:nvSpPr>
                    <p:cNvPr id="782" name=""/>
                    <p:cNvSpPr/>
                    <p:nvPr/>
                  </p:nvSpPr>
                  <p:spPr>
                    <a:xfrm>
                      <a:off x="7254000" y="5152680"/>
                      <a:ext cx="7956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1" h="513">
                          <a:moveTo>
                            <a:pt x="0" y="0"/>
                          </a:moveTo>
                          <a:lnTo>
                            <a:pt x="26" y="14"/>
                          </a:lnTo>
                          <a:lnTo>
                            <a:pt x="56" y="23"/>
                          </a:lnTo>
                          <a:lnTo>
                            <a:pt x="91" y="30"/>
                          </a:lnTo>
                          <a:lnTo>
                            <a:pt x="129" y="37"/>
                          </a:lnTo>
                          <a:lnTo>
                            <a:pt x="154" y="35"/>
                          </a:lnTo>
                          <a:lnTo>
                            <a:pt x="183" y="28"/>
                          </a:lnTo>
                          <a:lnTo>
                            <a:pt x="208" y="20"/>
                          </a:lnTo>
                          <a:lnTo>
                            <a:pt x="235" y="3"/>
                          </a:lnTo>
                          <a:lnTo>
                            <a:pt x="263" y="125"/>
                          </a:lnTo>
                          <a:lnTo>
                            <a:pt x="267" y="203"/>
                          </a:lnTo>
                          <a:lnTo>
                            <a:pt x="271" y="238"/>
                          </a:lnTo>
                          <a:lnTo>
                            <a:pt x="271" y="305"/>
                          </a:lnTo>
                          <a:lnTo>
                            <a:pt x="267" y="361"/>
                          </a:lnTo>
                          <a:lnTo>
                            <a:pt x="259" y="430"/>
                          </a:lnTo>
                          <a:lnTo>
                            <a:pt x="246" y="492"/>
                          </a:lnTo>
                          <a:lnTo>
                            <a:pt x="67" y="513"/>
                          </a:lnTo>
                          <a:lnTo>
                            <a:pt x="41" y="289"/>
                          </a:lnTo>
                          <a:lnTo>
                            <a:pt x="22" y="13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3" name=""/>
                    <p:cNvSpPr/>
                    <p:nvPr/>
                  </p:nvSpPr>
                  <p:spPr>
                    <a:xfrm>
                      <a:off x="7265160" y="5186520"/>
                      <a:ext cx="66960" cy="10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3" h="390">
                          <a:moveTo>
                            <a:pt x="0" y="27"/>
                          </a:moveTo>
                          <a:lnTo>
                            <a:pt x="98" y="27"/>
                          </a:lnTo>
                          <a:lnTo>
                            <a:pt x="146" y="24"/>
                          </a:lnTo>
                          <a:lnTo>
                            <a:pt x="196" y="14"/>
                          </a:lnTo>
                          <a:lnTo>
                            <a:pt x="229" y="0"/>
                          </a:lnTo>
                          <a:lnTo>
                            <a:pt x="233" y="328"/>
                          </a:lnTo>
                          <a:lnTo>
                            <a:pt x="66" y="390"/>
                          </a:lnTo>
                          <a:lnTo>
                            <a:pt x="0" y="27"/>
                          </a:lnTo>
                          <a:close/>
                        </a:path>
                      </a:pathLst>
                    </a:custGeom>
                    <a:solidFill>
                      <a:srgbClr val="ffb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4" name=""/>
                  <p:cNvGrpSpPr/>
                  <p:nvPr/>
                </p:nvGrpSpPr>
                <p:grpSpPr>
                  <a:xfrm>
                    <a:off x="7301520" y="5118120"/>
                    <a:ext cx="158760" cy="169200"/>
                    <a:chOff x="7301520" y="5118120"/>
                    <a:chExt cx="158760" cy="169200"/>
                  </a:xfrm>
                </p:grpSpPr>
                <p:sp>
                  <p:nvSpPr>
                    <p:cNvPr id="785" name=""/>
                    <p:cNvSpPr/>
                    <p:nvPr/>
                  </p:nvSpPr>
                  <p:spPr>
                    <a:xfrm>
                      <a:off x="7301520" y="5118120"/>
                      <a:ext cx="158760" cy="16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5" h="645">
                          <a:moveTo>
                            <a:pt x="22" y="0"/>
                          </a:moveTo>
                          <a:lnTo>
                            <a:pt x="55" y="14"/>
                          </a:lnTo>
                          <a:lnTo>
                            <a:pt x="91" y="53"/>
                          </a:lnTo>
                          <a:lnTo>
                            <a:pt x="224" y="99"/>
                          </a:lnTo>
                          <a:lnTo>
                            <a:pt x="260" y="120"/>
                          </a:lnTo>
                          <a:lnTo>
                            <a:pt x="300" y="190"/>
                          </a:lnTo>
                          <a:lnTo>
                            <a:pt x="300" y="236"/>
                          </a:lnTo>
                          <a:lnTo>
                            <a:pt x="308" y="271"/>
                          </a:lnTo>
                          <a:lnTo>
                            <a:pt x="330" y="331"/>
                          </a:lnTo>
                          <a:lnTo>
                            <a:pt x="392" y="434"/>
                          </a:lnTo>
                          <a:lnTo>
                            <a:pt x="436" y="504"/>
                          </a:lnTo>
                          <a:lnTo>
                            <a:pt x="483" y="564"/>
                          </a:lnTo>
                          <a:lnTo>
                            <a:pt x="545" y="634"/>
                          </a:lnTo>
                          <a:lnTo>
                            <a:pt x="29" y="645"/>
                          </a:lnTo>
                          <a:lnTo>
                            <a:pt x="62" y="578"/>
                          </a:lnTo>
                          <a:lnTo>
                            <a:pt x="76" y="529"/>
                          </a:lnTo>
                          <a:lnTo>
                            <a:pt x="84" y="441"/>
                          </a:lnTo>
                          <a:lnTo>
                            <a:pt x="80" y="293"/>
                          </a:lnTo>
                          <a:lnTo>
                            <a:pt x="66" y="183"/>
                          </a:lnTo>
                          <a:lnTo>
                            <a:pt x="44" y="106"/>
                          </a:lnTo>
                          <a:lnTo>
                            <a:pt x="0" y="35"/>
                          </a:lnTo>
                          <a:lnTo>
                            <a:pt x="22" y="0"/>
                          </a:lnTo>
                          <a:close/>
                        </a:path>
                      </a:pathLst>
                    </a:custGeom>
                    <a:solidFill>
                      <a:srgbClr val="f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6" name=""/>
                    <p:cNvSpPr/>
                    <p:nvPr/>
                  </p:nvSpPr>
                  <p:spPr>
                    <a:xfrm>
                      <a:off x="7340760" y="5139360"/>
                      <a:ext cx="34200" cy="8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" h="338">
                          <a:moveTo>
                            <a:pt x="0" y="0"/>
                          </a:moveTo>
                          <a:lnTo>
                            <a:pt x="44" y="32"/>
                          </a:lnTo>
                          <a:lnTo>
                            <a:pt x="67" y="67"/>
                          </a:lnTo>
                          <a:lnTo>
                            <a:pt x="82" y="102"/>
                          </a:lnTo>
                          <a:lnTo>
                            <a:pt x="95" y="141"/>
                          </a:lnTo>
                          <a:lnTo>
                            <a:pt x="110" y="187"/>
                          </a:lnTo>
                          <a:lnTo>
                            <a:pt x="117" y="236"/>
                          </a:lnTo>
                          <a:lnTo>
                            <a:pt x="117" y="300"/>
                          </a:lnTo>
                          <a:lnTo>
                            <a:pt x="110" y="338"/>
                          </a:lnTo>
                          <a:lnTo>
                            <a:pt x="99" y="264"/>
                          </a:lnTo>
                          <a:lnTo>
                            <a:pt x="89" y="220"/>
                          </a:lnTo>
                          <a:lnTo>
                            <a:pt x="73" y="194"/>
                          </a:lnTo>
                          <a:lnTo>
                            <a:pt x="53" y="181"/>
                          </a:lnTo>
                          <a:lnTo>
                            <a:pt x="64" y="155"/>
                          </a:lnTo>
                          <a:lnTo>
                            <a:pt x="67" y="114"/>
                          </a:lnTo>
                          <a:lnTo>
                            <a:pt x="51" y="78"/>
                          </a:lnTo>
                          <a:lnTo>
                            <a:pt x="30" y="3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df3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120" bIns="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87" name=""/>
                  <p:cNvSpPr/>
                  <p:nvPr/>
                </p:nvSpPr>
                <p:spPr>
                  <a:xfrm>
                    <a:off x="7286760" y="5263920"/>
                    <a:ext cx="478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25">
                        <a:moveTo>
                          <a:pt x="135" y="21"/>
                        </a:moveTo>
                        <a:lnTo>
                          <a:pt x="110" y="0"/>
                        </a:lnTo>
                        <a:lnTo>
                          <a:pt x="72" y="9"/>
                        </a:lnTo>
                        <a:lnTo>
                          <a:pt x="40" y="21"/>
                        </a:lnTo>
                        <a:lnTo>
                          <a:pt x="7" y="34"/>
                        </a:lnTo>
                        <a:lnTo>
                          <a:pt x="0" y="45"/>
                        </a:lnTo>
                        <a:lnTo>
                          <a:pt x="18" y="62"/>
                        </a:lnTo>
                        <a:lnTo>
                          <a:pt x="24" y="83"/>
                        </a:lnTo>
                        <a:lnTo>
                          <a:pt x="39" y="98"/>
                        </a:lnTo>
                        <a:lnTo>
                          <a:pt x="54" y="108"/>
                        </a:lnTo>
                        <a:lnTo>
                          <a:pt x="76" y="115"/>
                        </a:lnTo>
                        <a:lnTo>
                          <a:pt x="91" y="125"/>
                        </a:lnTo>
                        <a:lnTo>
                          <a:pt x="117" y="125"/>
                        </a:lnTo>
                        <a:lnTo>
                          <a:pt x="130" y="125"/>
                        </a:lnTo>
                        <a:lnTo>
                          <a:pt x="139" y="115"/>
                        </a:lnTo>
                        <a:lnTo>
                          <a:pt x="138" y="97"/>
                        </a:lnTo>
                        <a:lnTo>
                          <a:pt x="160" y="98"/>
                        </a:lnTo>
                        <a:lnTo>
                          <a:pt x="135" y="90"/>
                        </a:lnTo>
                        <a:lnTo>
                          <a:pt x="130" y="69"/>
                        </a:lnTo>
                        <a:lnTo>
                          <a:pt x="132" y="55"/>
                        </a:lnTo>
                        <a:lnTo>
                          <a:pt x="130" y="44"/>
                        </a:lnTo>
                        <a:lnTo>
                          <a:pt x="135" y="21"/>
                        </a:lnTo>
                        <a:close/>
                      </a:path>
                    </a:pathLst>
                  </a:custGeom>
                  <a:solidFill>
                    <a:srgbClr val="f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7223040" y="5312160"/>
                    <a:ext cx="21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90">
                        <a:moveTo>
                          <a:pt x="77" y="0"/>
                        </a:moveTo>
                        <a:lnTo>
                          <a:pt x="19" y="90"/>
                        </a:lnTo>
                        <a:lnTo>
                          <a:pt x="0" y="26"/>
                        </a:lnTo>
                        <a:lnTo>
                          <a:pt x="77" y="0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89" name=""/>
                  <p:cNvGrpSpPr/>
                  <p:nvPr/>
                </p:nvGrpSpPr>
                <p:grpSpPr>
                  <a:xfrm>
                    <a:off x="7129440" y="5106960"/>
                    <a:ext cx="160560" cy="236160"/>
                    <a:chOff x="7129440" y="5106960"/>
                    <a:chExt cx="160560" cy="236160"/>
                  </a:xfrm>
                </p:grpSpPr>
                <p:sp>
                  <p:nvSpPr>
                    <p:cNvPr id="790" name=""/>
                    <p:cNvSpPr/>
                    <p:nvPr/>
                  </p:nvSpPr>
                  <p:spPr>
                    <a:xfrm>
                      <a:off x="7129440" y="5106960"/>
                      <a:ext cx="160560" cy="23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2" h="889">
                          <a:moveTo>
                            <a:pt x="427" y="11"/>
                          </a:moveTo>
                          <a:lnTo>
                            <a:pt x="351" y="0"/>
                          </a:lnTo>
                          <a:lnTo>
                            <a:pt x="296" y="4"/>
                          </a:lnTo>
                          <a:lnTo>
                            <a:pt x="234" y="11"/>
                          </a:lnTo>
                          <a:lnTo>
                            <a:pt x="201" y="18"/>
                          </a:lnTo>
                          <a:lnTo>
                            <a:pt x="183" y="39"/>
                          </a:lnTo>
                          <a:lnTo>
                            <a:pt x="161" y="35"/>
                          </a:lnTo>
                          <a:lnTo>
                            <a:pt x="128" y="60"/>
                          </a:lnTo>
                          <a:lnTo>
                            <a:pt x="102" y="88"/>
                          </a:lnTo>
                          <a:lnTo>
                            <a:pt x="84" y="116"/>
                          </a:lnTo>
                          <a:lnTo>
                            <a:pt x="62" y="152"/>
                          </a:lnTo>
                          <a:lnTo>
                            <a:pt x="51" y="190"/>
                          </a:lnTo>
                          <a:lnTo>
                            <a:pt x="40" y="257"/>
                          </a:lnTo>
                          <a:lnTo>
                            <a:pt x="33" y="303"/>
                          </a:lnTo>
                          <a:lnTo>
                            <a:pt x="33" y="377"/>
                          </a:lnTo>
                          <a:lnTo>
                            <a:pt x="48" y="426"/>
                          </a:lnTo>
                          <a:lnTo>
                            <a:pt x="44" y="462"/>
                          </a:lnTo>
                          <a:lnTo>
                            <a:pt x="33" y="553"/>
                          </a:lnTo>
                          <a:lnTo>
                            <a:pt x="22" y="592"/>
                          </a:lnTo>
                          <a:lnTo>
                            <a:pt x="18" y="634"/>
                          </a:lnTo>
                          <a:lnTo>
                            <a:pt x="7" y="662"/>
                          </a:lnTo>
                          <a:lnTo>
                            <a:pt x="0" y="694"/>
                          </a:lnTo>
                          <a:lnTo>
                            <a:pt x="4" y="729"/>
                          </a:lnTo>
                          <a:lnTo>
                            <a:pt x="18" y="761"/>
                          </a:lnTo>
                          <a:lnTo>
                            <a:pt x="48" y="789"/>
                          </a:lnTo>
                          <a:lnTo>
                            <a:pt x="99" y="835"/>
                          </a:lnTo>
                          <a:lnTo>
                            <a:pt x="128" y="846"/>
                          </a:lnTo>
                          <a:lnTo>
                            <a:pt x="165" y="856"/>
                          </a:lnTo>
                          <a:lnTo>
                            <a:pt x="194" y="868"/>
                          </a:lnTo>
                          <a:lnTo>
                            <a:pt x="219" y="882"/>
                          </a:lnTo>
                          <a:lnTo>
                            <a:pt x="340" y="889"/>
                          </a:lnTo>
                          <a:lnTo>
                            <a:pt x="420" y="786"/>
                          </a:lnTo>
                          <a:lnTo>
                            <a:pt x="449" y="691"/>
                          </a:lnTo>
                          <a:lnTo>
                            <a:pt x="552" y="691"/>
                          </a:lnTo>
                          <a:lnTo>
                            <a:pt x="544" y="553"/>
                          </a:lnTo>
                          <a:lnTo>
                            <a:pt x="526" y="398"/>
                          </a:lnTo>
                          <a:lnTo>
                            <a:pt x="493" y="204"/>
                          </a:lnTo>
                          <a:lnTo>
                            <a:pt x="475" y="116"/>
                          </a:lnTo>
                          <a:lnTo>
                            <a:pt x="427" y="11"/>
                          </a:lnTo>
                          <a:close/>
                        </a:path>
                      </a:pathLst>
                    </a:custGeom>
                    <a:solidFill>
                      <a:srgbClr val="f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1" name=""/>
                    <p:cNvSpPr/>
                    <p:nvPr/>
                  </p:nvSpPr>
                  <p:spPr>
                    <a:xfrm>
                      <a:off x="7179120" y="5265000"/>
                      <a:ext cx="72360" cy="7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8" h="296">
                          <a:moveTo>
                            <a:pt x="233" y="14"/>
                          </a:moveTo>
                          <a:lnTo>
                            <a:pt x="144" y="7"/>
                          </a:lnTo>
                          <a:lnTo>
                            <a:pt x="51" y="0"/>
                          </a:lnTo>
                          <a:lnTo>
                            <a:pt x="35" y="21"/>
                          </a:lnTo>
                          <a:lnTo>
                            <a:pt x="28" y="38"/>
                          </a:lnTo>
                          <a:lnTo>
                            <a:pt x="17" y="59"/>
                          </a:lnTo>
                          <a:lnTo>
                            <a:pt x="7" y="91"/>
                          </a:lnTo>
                          <a:lnTo>
                            <a:pt x="2" y="119"/>
                          </a:lnTo>
                          <a:lnTo>
                            <a:pt x="0" y="145"/>
                          </a:lnTo>
                          <a:lnTo>
                            <a:pt x="3" y="176"/>
                          </a:lnTo>
                          <a:lnTo>
                            <a:pt x="14" y="217"/>
                          </a:lnTo>
                          <a:lnTo>
                            <a:pt x="25" y="250"/>
                          </a:lnTo>
                          <a:lnTo>
                            <a:pt x="28" y="280"/>
                          </a:lnTo>
                          <a:lnTo>
                            <a:pt x="177" y="296"/>
                          </a:lnTo>
                          <a:lnTo>
                            <a:pt x="241" y="193"/>
                          </a:lnTo>
                          <a:lnTo>
                            <a:pt x="248" y="166"/>
                          </a:lnTo>
                          <a:lnTo>
                            <a:pt x="233" y="14"/>
                          </a:lnTo>
                          <a:close/>
                        </a:path>
                      </a:pathLst>
                    </a:custGeom>
                    <a:solidFill>
                      <a:srgbClr val="df1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320" bIns="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2" name=""/>
                    <p:cNvSpPr/>
                    <p:nvPr/>
                  </p:nvSpPr>
                  <p:spPr>
                    <a:xfrm>
                      <a:off x="7146720" y="5122440"/>
                      <a:ext cx="68040" cy="14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3" h="567">
                          <a:moveTo>
                            <a:pt x="146" y="0"/>
                          </a:moveTo>
                          <a:lnTo>
                            <a:pt x="189" y="70"/>
                          </a:lnTo>
                          <a:lnTo>
                            <a:pt x="215" y="144"/>
                          </a:lnTo>
                          <a:lnTo>
                            <a:pt x="230" y="233"/>
                          </a:lnTo>
                          <a:lnTo>
                            <a:pt x="233" y="331"/>
                          </a:lnTo>
                          <a:lnTo>
                            <a:pt x="230" y="447"/>
                          </a:lnTo>
                          <a:lnTo>
                            <a:pt x="219" y="497"/>
                          </a:lnTo>
                          <a:lnTo>
                            <a:pt x="160" y="539"/>
                          </a:lnTo>
                          <a:lnTo>
                            <a:pt x="131" y="521"/>
                          </a:lnTo>
                          <a:lnTo>
                            <a:pt x="102" y="514"/>
                          </a:lnTo>
                          <a:lnTo>
                            <a:pt x="76" y="521"/>
                          </a:lnTo>
                          <a:lnTo>
                            <a:pt x="58" y="546"/>
                          </a:lnTo>
                          <a:lnTo>
                            <a:pt x="25" y="560"/>
                          </a:lnTo>
                          <a:lnTo>
                            <a:pt x="0" y="567"/>
                          </a:lnTo>
                          <a:lnTo>
                            <a:pt x="40" y="532"/>
                          </a:lnTo>
                          <a:lnTo>
                            <a:pt x="65" y="521"/>
                          </a:lnTo>
                          <a:lnTo>
                            <a:pt x="84" y="504"/>
                          </a:lnTo>
                          <a:lnTo>
                            <a:pt x="106" y="504"/>
                          </a:lnTo>
                          <a:lnTo>
                            <a:pt x="131" y="479"/>
                          </a:lnTo>
                          <a:lnTo>
                            <a:pt x="106" y="451"/>
                          </a:lnTo>
                          <a:lnTo>
                            <a:pt x="142" y="458"/>
                          </a:lnTo>
                          <a:lnTo>
                            <a:pt x="116" y="377"/>
                          </a:lnTo>
                          <a:lnTo>
                            <a:pt x="95" y="310"/>
                          </a:lnTo>
                          <a:lnTo>
                            <a:pt x="87" y="263"/>
                          </a:lnTo>
                          <a:lnTo>
                            <a:pt x="98" y="194"/>
                          </a:lnTo>
                          <a:lnTo>
                            <a:pt x="116" y="271"/>
                          </a:lnTo>
                          <a:lnTo>
                            <a:pt x="153" y="359"/>
                          </a:lnTo>
                          <a:lnTo>
                            <a:pt x="197" y="454"/>
                          </a:lnTo>
                          <a:lnTo>
                            <a:pt x="197" y="324"/>
                          </a:lnTo>
                          <a:lnTo>
                            <a:pt x="189" y="236"/>
                          </a:lnTo>
                          <a:lnTo>
                            <a:pt x="179" y="106"/>
                          </a:lnTo>
                          <a:lnTo>
                            <a:pt x="146" y="0"/>
                          </a:lnTo>
                          <a:close/>
                        </a:path>
                      </a:pathLst>
                    </a:custGeom>
                    <a:solidFill>
                      <a:srgbClr val="df3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3" name=""/>
                  <p:cNvSpPr/>
                  <p:nvPr/>
                </p:nvSpPr>
                <p:spPr>
                  <a:xfrm>
                    <a:off x="7316640" y="5205960"/>
                    <a:ext cx="1980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1" h="359">
                        <a:moveTo>
                          <a:pt x="0" y="292"/>
                        </a:moveTo>
                        <a:lnTo>
                          <a:pt x="263" y="0"/>
                        </a:lnTo>
                        <a:lnTo>
                          <a:pt x="681" y="111"/>
                        </a:lnTo>
                        <a:lnTo>
                          <a:pt x="509" y="320"/>
                        </a:lnTo>
                        <a:lnTo>
                          <a:pt x="402" y="344"/>
                        </a:lnTo>
                        <a:lnTo>
                          <a:pt x="293" y="359"/>
                        </a:lnTo>
                        <a:lnTo>
                          <a:pt x="55" y="345"/>
                        </a:lnTo>
                        <a:lnTo>
                          <a:pt x="0" y="292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7218720" y="5261760"/>
                    <a:ext cx="1695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82" h="236">
                        <a:moveTo>
                          <a:pt x="32" y="57"/>
                        </a:moveTo>
                        <a:lnTo>
                          <a:pt x="249" y="29"/>
                        </a:lnTo>
                        <a:lnTo>
                          <a:pt x="295" y="12"/>
                        </a:lnTo>
                        <a:lnTo>
                          <a:pt x="318" y="3"/>
                        </a:lnTo>
                        <a:lnTo>
                          <a:pt x="342" y="0"/>
                        </a:lnTo>
                        <a:lnTo>
                          <a:pt x="375" y="5"/>
                        </a:lnTo>
                        <a:lnTo>
                          <a:pt x="412" y="12"/>
                        </a:lnTo>
                        <a:lnTo>
                          <a:pt x="439" y="15"/>
                        </a:lnTo>
                        <a:lnTo>
                          <a:pt x="491" y="21"/>
                        </a:lnTo>
                        <a:lnTo>
                          <a:pt x="517" y="22"/>
                        </a:lnTo>
                        <a:lnTo>
                          <a:pt x="537" y="26"/>
                        </a:lnTo>
                        <a:lnTo>
                          <a:pt x="559" y="29"/>
                        </a:lnTo>
                        <a:lnTo>
                          <a:pt x="577" y="36"/>
                        </a:lnTo>
                        <a:lnTo>
                          <a:pt x="582" y="46"/>
                        </a:lnTo>
                        <a:lnTo>
                          <a:pt x="574" y="54"/>
                        </a:lnTo>
                        <a:lnTo>
                          <a:pt x="537" y="56"/>
                        </a:lnTo>
                        <a:lnTo>
                          <a:pt x="523" y="57"/>
                        </a:lnTo>
                        <a:lnTo>
                          <a:pt x="520" y="82"/>
                        </a:lnTo>
                        <a:lnTo>
                          <a:pt x="512" y="92"/>
                        </a:lnTo>
                        <a:lnTo>
                          <a:pt x="506" y="93"/>
                        </a:lnTo>
                        <a:lnTo>
                          <a:pt x="501" y="109"/>
                        </a:lnTo>
                        <a:lnTo>
                          <a:pt x="490" y="121"/>
                        </a:lnTo>
                        <a:lnTo>
                          <a:pt x="476" y="127"/>
                        </a:lnTo>
                        <a:lnTo>
                          <a:pt x="468" y="137"/>
                        </a:lnTo>
                        <a:lnTo>
                          <a:pt x="457" y="142"/>
                        </a:lnTo>
                        <a:lnTo>
                          <a:pt x="423" y="160"/>
                        </a:lnTo>
                        <a:lnTo>
                          <a:pt x="405" y="167"/>
                        </a:lnTo>
                        <a:lnTo>
                          <a:pt x="351" y="169"/>
                        </a:lnTo>
                        <a:lnTo>
                          <a:pt x="311" y="165"/>
                        </a:lnTo>
                        <a:lnTo>
                          <a:pt x="288" y="155"/>
                        </a:lnTo>
                        <a:lnTo>
                          <a:pt x="277" y="151"/>
                        </a:lnTo>
                        <a:lnTo>
                          <a:pt x="256" y="155"/>
                        </a:lnTo>
                        <a:lnTo>
                          <a:pt x="222" y="158"/>
                        </a:lnTo>
                        <a:lnTo>
                          <a:pt x="193" y="163"/>
                        </a:lnTo>
                        <a:lnTo>
                          <a:pt x="70" y="208"/>
                        </a:lnTo>
                        <a:lnTo>
                          <a:pt x="17" y="236"/>
                        </a:lnTo>
                        <a:lnTo>
                          <a:pt x="3" y="187"/>
                        </a:lnTo>
                        <a:lnTo>
                          <a:pt x="0" y="156"/>
                        </a:lnTo>
                        <a:lnTo>
                          <a:pt x="0" y="131"/>
                        </a:lnTo>
                        <a:lnTo>
                          <a:pt x="10" y="99"/>
                        </a:lnTo>
                        <a:lnTo>
                          <a:pt x="32" y="57"/>
                        </a:lnTo>
                        <a:close/>
                      </a:path>
                    </a:pathLst>
                  </a:custGeom>
                  <a:solidFill>
                    <a:srgbClr val="f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95" name=""/>
                  <p:cNvGrpSpPr/>
                  <p:nvPr/>
                </p:nvGrpSpPr>
                <p:grpSpPr>
                  <a:xfrm>
                    <a:off x="7187040" y="4948200"/>
                    <a:ext cx="186120" cy="218880"/>
                    <a:chOff x="7187040" y="4948200"/>
                    <a:chExt cx="186120" cy="218880"/>
                  </a:xfrm>
                </p:grpSpPr>
                <p:grpSp>
                  <p:nvGrpSpPr>
                    <p:cNvPr id="796" name=""/>
                    <p:cNvGrpSpPr/>
                    <p:nvPr/>
                  </p:nvGrpSpPr>
                  <p:grpSpPr>
                    <a:xfrm>
                      <a:off x="7354440" y="5007600"/>
                      <a:ext cx="16560" cy="39600"/>
                      <a:chOff x="7354440" y="5007600"/>
                      <a:chExt cx="16560" cy="39600"/>
                    </a:xfrm>
                  </p:grpSpPr>
                  <p:sp>
                    <p:nvSpPr>
                      <p:cNvPr id="797" name=""/>
                      <p:cNvSpPr/>
                      <p:nvPr/>
                    </p:nvSpPr>
                    <p:spPr>
                      <a:xfrm>
                        <a:off x="7354440" y="5007600"/>
                        <a:ext cx="16560" cy="39600"/>
                      </a:xfrm>
                      <a:prstGeom prst="ellipse">
                        <a:avLst/>
                      </a:pr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720" bIns="-18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8" name=""/>
                      <p:cNvSpPr/>
                      <p:nvPr/>
                    </p:nvSpPr>
                    <p:spPr>
                      <a:xfrm>
                        <a:off x="7355880" y="5008320"/>
                        <a:ext cx="14040" cy="37080"/>
                      </a:xfrm>
                      <a:prstGeom prst="ellipse">
                        <a:avLst/>
                      </a:prstGeom>
                      <a:solidFill>
                        <a:srgbClr val="ffd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99" name=""/>
                    <p:cNvGrpSpPr/>
                    <p:nvPr/>
                  </p:nvGrpSpPr>
                  <p:grpSpPr>
                    <a:xfrm>
                      <a:off x="7187040" y="4948200"/>
                      <a:ext cx="186120" cy="218880"/>
                      <a:chOff x="7187040" y="4948200"/>
                      <a:chExt cx="186120" cy="218880"/>
                    </a:xfrm>
                  </p:grpSpPr>
                  <p:grpSp>
                    <p:nvGrpSpPr>
                      <p:cNvPr id="800" name=""/>
                      <p:cNvGrpSpPr/>
                      <p:nvPr/>
                    </p:nvGrpSpPr>
                    <p:grpSpPr>
                      <a:xfrm>
                        <a:off x="7230240" y="4962240"/>
                        <a:ext cx="142920" cy="204840"/>
                        <a:chOff x="7230240" y="4962240"/>
                        <a:chExt cx="142920" cy="204840"/>
                      </a:xfrm>
                    </p:grpSpPr>
                    <p:sp>
                      <p:nvSpPr>
                        <p:cNvPr id="801" name=""/>
                        <p:cNvSpPr/>
                        <p:nvPr/>
                      </p:nvSpPr>
                      <p:spPr>
                        <a:xfrm>
                          <a:off x="7230240" y="4962240"/>
                          <a:ext cx="142920" cy="204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2" h="777">
                              <a:moveTo>
                                <a:pt x="318" y="14"/>
                              </a:moveTo>
                              <a:lnTo>
                                <a:pt x="359" y="29"/>
                              </a:lnTo>
                              <a:lnTo>
                                <a:pt x="383" y="44"/>
                              </a:lnTo>
                              <a:lnTo>
                                <a:pt x="402" y="64"/>
                              </a:lnTo>
                              <a:lnTo>
                                <a:pt x="413" y="86"/>
                              </a:lnTo>
                              <a:lnTo>
                                <a:pt x="421" y="111"/>
                              </a:lnTo>
                              <a:lnTo>
                                <a:pt x="427" y="135"/>
                              </a:lnTo>
                              <a:lnTo>
                                <a:pt x="434" y="171"/>
                              </a:lnTo>
                              <a:lnTo>
                                <a:pt x="438" y="206"/>
                              </a:lnTo>
                              <a:lnTo>
                                <a:pt x="433" y="227"/>
                              </a:lnTo>
                              <a:lnTo>
                                <a:pt x="431" y="248"/>
                              </a:lnTo>
                              <a:lnTo>
                                <a:pt x="442" y="269"/>
                              </a:lnTo>
                              <a:lnTo>
                                <a:pt x="475" y="303"/>
                              </a:lnTo>
                              <a:lnTo>
                                <a:pt x="483" y="313"/>
                              </a:lnTo>
                              <a:lnTo>
                                <a:pt x="490" y="322"/>
                              </a:lnTo>
                              <a:lnTo>
                                <a:pt x="492" y="330"/>
                              </a:lnTo>
                              <a:lnTo>
                                <a:pt x="488" y="337"/>
                              </a:lnTo>
                              <a:lnTo>
                                <a:pt x="480" y="342"/>
                              </a:lnTo>
                              <a:lnTo>
                                <a:pt x="464" y="347"/>
                              </a:lnTo>
                              <a:lnTo>
                                <a:pt x="458" y="353"/>
                              </a:lnTo>
                              <a:lnTo>
                                <a:pt x="464" y="367"/>
                              </a:lnTo>
                              <a:lnTo>
                                <a:pt x="462" y="375"/>
                              </a:lnTo>
                              <a:lnTo>
                                <a:pt x="456" y="382"/>
                              </a:lnTo>
                              <a:lnTo>
                                <a:pt x="443" y="389"/>
                              </a:lnTo>
                              <a:lnTo>
                                <a:pt x="425" y="397"/>
                              </a:lnTo>
                              <a:lnTo>
                                <a:pt x="414" y="401"/>
                              </a:lnTo>
                              <a:lnTo>
                                <a:pt x="453" y="410"/>
                              </a:lnTo>
                              <a:lnTo>
                                <a:pt x="458" y="417"/>
                              </a:lnTo>
                              <a:lnTo>
                                <a:pt x="448" y="433"/>
                              </a:lnTo>
                              <a:lnTo>
                                <a:pt x="447" y="454"/>
                              </a:lnTo>
                              <a:lnTo>
                                <a:pt x="447" y="484"/>
                              </a:lnTo>
                              <a:lnTo>
                                <a:pt x="447" y="496"/>
                              </a:lnTo>
                              <a:lnTo>
                                <a:pt x="442" y="505"/>
                              </a:lnTo>
                              <a:lnTo>
                                <a:pt x="431" y="514"/>
                              </a:lnTo>
                              <a:lnTo>
                                <a:pt x="414" y="518"/>
                              </a:lnTo>
                              <a:lnTo>
                                <a:pt x="396" y="523"/>
                              </a:lnTo>
                              <a:lnTo>
                                <a:pt x="354" y="530"/>
                              </a:lnTo>
                              <a:lnTo>
                                <a:pt x="330" y="536"/>
                              </a:lnTo>
                              <a:lnTo>
                                <a:pt x="312" y="543"/>
                              </a:lnTo>
                              <a:lnTo>
                                <a:pt x="298" y="553"/>
                              </a:lnTo>
                              <a:lnTo>
                                <a:pt x="253" y="615"/>
                              </a:lnTo>
                              <a:lnTo>
                                <a:pt x="320" y="754"/>
                              </a:lnTo>
                              <a:lnTo>
                                <a:pt x="281" y="765"/>
                              </a:lnTo>
                              <a:lnTo>
                                <a:pt x="221" y="777"/>
                              </a:lnTo>
                              <a:lnTo>
                                <a:pt x="169" y="774"/>
                              </a:lnTo>
                              <a:lnTo>
                                <a:pt x="139" y="758"/>
                              </a:lnTo>
                              <a:lnTo>
                                <a:pt x="68" y="545"/>
                              </a:lnTo>
                              <a:lnTo>
                                <a:pt x="68" y="474"/>
                              </a:lnTo>
                              <a:lnTo>
                                <a:pt x="47" y="436"/>
                              </a:lnTo>
                              <a:lnTo>
                                <a:pt x="22" y="387"/>
                              </a:lnTo>
                              <a:lnTo>
                                <a:pt x="11" y="359"/>
                              </a:lnTo>
                              <a:lnTo>
                                <a:pt x="4" y="321"/>
                              </a:lnTo>
                              <a:lnTo>
                                <a:pt x="0" y="280"/>
                              </a:lnTo>
                              <a:lnTo>
                                <a:pt x="0" y="231"/>
                              </a:lnTo>
                              <a:lnTo>
                                <a:pt x="6" y="185"/>
                              </a:lnTo>
                              <a:lnTo>
                                <a:pt x="14" y="145"/>
                              </a:lnTo>
                              <a:lnTo>
                                <a:pt x="28" y="111"/>
                              </a:lnTo>
                              <a:lnTo>
                                <a:pt x="44" y="78"/>
                              </a:lnTo>
                              <a:lnTo>
                                <a:pt x="68" y="47"/>
                              </a:lnTo>
                              <a:lnTo>
                                <a:pt x="102" y="23"/>
                              </a:lnTo>
                              <a:lnTo>
                                <a:pt x="139" y="9"/>
                              </a:lnTo>
                              <a:lnTo>
                                <a:pt x="181" y="2"/>
                              </a:lnTo>
                              <a:lnTo>
                                <a:pt x="219" y="0"/>
                              </a:lnTo>
                              <a:lnTo>
                                <a:pt x="269" y="3"/>
                              </a:lnTo>
                              <a:lnTo>
                                <a:pt x="318" y="1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bfb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802" name=""/>
                        <p:cNvGrpSpPr/>
                        <p:nvPr/>
                      </p:nvGrpSpPr>
                      <p:grpSpPr>
                        <a:xfrm>
                          <a:off x="7289280" y="5081760"/>
                          <a:ext cx="65880" cy="74520"/>
                          <a:chOff x="7289280" y="5081760"/>
                          <a:chExt cx="65880" cy="74520"/>
                        </a:xfrm>
                      </p:grpSpPr>
                      <p:sp>
                        <p:nvSpPr>
                          <p:cNvPr id="803" name=""/>
                          <p:cNvSpPr/>
                          <p:nvPr/>
                        </p:nvSpPr>
                        <p:spPr>
                          <a:xfrm>
                            <a:off x="7290000" y="5081760"/>
                            <a:ext cx="65160" cy="26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6" h="102">
                                <a:moveTo>
                                  <a:pt x="0" y="0"/>
                                </a:moveTo>
                                <a:lnTo>
                                  <a:pt x="33" y="14"/>
                                </a:lnTo>
                                <a:lnTo>
                                  <a:pt x="67" y="25"/>
                                </a:lnTo>
                                <a:lnTo>
                                  <a:pt x="92" y="32"/>
                                </a:lnTo>
                                <a:lnTo>
                                  <a:pt x="125" y="41"/>
                                </a:lnTo>
                                <a:lnTo>
                                  <a:pt x="147" y="45"/>
                                </a:lnTo>
                                <a:lnTo>
                                  <a:pt x="178" y="50"/>
                                </a:lnTo>
                                <a:lnTo>
                                  <a:pt x="201" y="50"/>
                                </a:lnTo>
                                <a:lnTo>
                                  <a:pt x="226" y="50"/>
                                </a:lnTo>
                                <a:lnTo>
                                  <a:pt x="202" y="59"/>
                                </a:lnTo>
                                <a:lnTo>
                                  <a:pt x="168" y="66"/>
                                </a:lnTo>
                                <a:lnTo>
                                  <a:pt x="141" y="72"/>
                                </a:lnTo>
                                <a:lnTo>
                                  <a:pt x="119" y="78"/>
                                </a:lnTo>
                                <a:lnTo>
                                  <a:pt x="97" y="85"/>
                                </a:lnTo>
                                <a:lnTo>
                                  <a:pt x="84" y="91"/>
                                </a:lnTo>
                                <a:lnTo>
                                  <a:pt x="69" y="102"/>
                                </a:lnTo>
                                <a:lnTo>
                                  <a:pt x="83" y="86"/>
                                </a:lnTo>
                                <a:lnTo>
                                  <a:pt x="95" y="75"/>
                                </a:lnTo>
                                <a:lnTo>
                                  <a:pt x="98" y="65"/>
                                </a:lnTo>
                                <a:lnTo>
                                  <a:pt x="98" y="57"/>
                                </a:lnTo>
                                <a:lnTo>
                                  <a:pt x="95" y="49"/>
                                </a:lnTo>
                                <a:lnTo>
                                  <a:pt x="85" y="44"/>
                                </a:lnTo>
                                <a:lnTo>
                                  <a:pt x="74" y="41"/>
                                </a:lnTo>
                                <a:lnTo>
                                  <a:pt x="55" y="38"/>
                                </a:lnTo>
                                <a:lnTo>
                                  <a:pt x="38" y="36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0160" bIns="-201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4" name=""/>
                          <p:cNvSpPr/>
                          <p:nvPr/>
                        </p:nvSpPr>
                        <p:spPr>
                          <a:xfrm>
                            <a:off x="7289280" y="5119200"/>
                            <a:ext cx="15480" cy="37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6" h="142">
                                <a:moveTo>
                                  <a:pt x="32" y="16"/>
                                </a:moveTo>
                                <a:lnTo>
                                  <a:pt x="32" y="6"/>
                                </a:lnTo>
                                <a:lnTo>
                                  <a:pt x="28" y="1"/>
                                </a:lnTo>
                                <a:lnTo>
                                  <a:pt x="20" y="0"/>
                                </a:lnTo>
                                <a:lnTo>
                                  <a:pt x="11" y="5"/>
                                </a:lnTo>
                                <a:lnTo>
                                  <a:pt x="5" y="13"/>
                                </a:lnTo>
                                <a:lnTo>
                                  <a:pt x="0" y="23"/>
                                </a:lnTo>
                                <a:lnTo>
                                  <a:pt x="0" y="38"/>
                                </a:lnTo>
                                <a:lnTo>
                                  <a:pt x="2" y="81"/>
                                </a:lnTo>
                                <a:lnTo>
                                  <a:pt x="5" y="99"/>
                                </a:lnTo>
                                <a:lnTo>
                                  <a:pt x="10" y="108"/>
                                </a:lnTo>
                                <a:lnTo>
                                  <a:pt x="47" y="142"/>
                                </a:lnTo>
                                <a:lnTo>
                                  <a:pt x="56" y="108"/>
                                </a:lnTo>
                                <a:lnTo>
                                  <a:pt x="39" y="84"/>
                                </a:lnTo>
                                <a:lnTo>
                                  <a:pt x="42" y="101"/>
                                </a:lnTo>
                                <a:lnTo>
                                  <a:pt x="43" y="115"/>
                                </a:lnTo>
                                <a:lnTo>
                                  <a:pt x="42" y="120"/>
                                </a:lnTo>
                                <a:lnTo>
                                  <a:pt x="14" y="89"/>
                                </a:lnTo>
                                <a:lnTo>
                                  <a:pt x="13" y="77"/>
                                </a:lnTo>
                                <a:lnTo>
                                  <a:pt x="10" y="61"/>
                                </a:lnTo>
                                <a:lnTo>
                                  <a:pt x="16" y="42"/>
                                </a:lnTo>
                                <a:lnTo>
                                  <a:pt x="24" y="27"/>
                                </a:lnTo>
                                <a:lnTo>
                                  <a:pt x="32" y="1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9720" bIns="-97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805" name=""/>
                      <p:cNvSpPr/>
                      <p:nvPr/>
                    </p:nvSpPr>
                    <p:spPr>
                      <a:xfrm>
                        <a:off x="7329960" y="5027040"/>
                        <a:ext cx="10440" cy="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" h="29">
                            <a:moveTo>
                              <a:pt x="32" y="0"/>
                            </a:moveTo>
                            <a:lnTo>
                              <a:pt x="17" y="6"/>
                            </a:lnTo>
                            <a:lnTo>
                              <a:pt x="0" y="17"/>
                            </a:lnTo>
                            <a:lnTo>
                              <a:pt x="12" y="26"/>
                            </a:lnTo>
                            <a:lnTo>
                              <a:pt x="30" y="29"/>
                            </a:lnTo>
                            <a:lnTo>
                              <a:pt x="36" y="28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6" name=""/>
                      <p:cNvSpPr/>
                      <p:nvPr/>
                    </p:nvSpPr>
                    <p:spPr>
                      <a:xfrm>
                        <a:off x="7325640" y="5011560"/>
                        <a:ext cx="1836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53">
                            <a:moveTo>
                              <a:pt x="64" y="0"/>
                            </a:moveTo>
                            <a:lnTo>
                              <a:pt x="49" y="3"/>
                            </a:lnTo>
                            <a:lnTo>
                              <a:pt x="38" y="14"/>
                            </a:lnTo>
                            <a:lnTo>
                              <a:pt x="28" y="27"/>
                            </a:lnTo>
                            <a:lnTo>
                              <a:pt x="19" y="39"/>
                            </a:lnTo>
                            <a:lnTo>
                              <a:pt x="0" y="53"/>
                            </a:lnTo>
                            <a:lnTo>
                              <a:pt x="22" y="46"/>
                            </a:lnTo>
                            <a:lnTo>
                              <a:pt x="37" y="35"/>
                            </a:lnTo>
                            <a:lnTo>
                              <a:pt x="49" y="25"/>
                            </a:lnTo>
                            <a:lnTo>
                              <a:pt x="60" y="21"/>
                            </a:lnTo>
                            <a:lnTo>
                              <a:pt x="64" y="0"/>
                            </a:lnTo>
                            <a:close/>
                          </a:path>
                        </a:pathLst>
                      </a:cu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07" name=""/>
                      <p:cNvGrpSpPr/>
                      <p:nvPr/>
                    </p:nvGrpSpPr>
                    <p:grpSpPr>
                      <a:xfrm>
                        <a:off x="7328160" y="5020200"/>
                        <a:ext cx="12960" cy="14760"/>
                        <a:chOff x="7328160" y="5020200"/>
                        <a:chExt cx="12960" cy="14760"/>
                      </a:xfrm>
                    </p:grpSpPr>
                    <p:sp>
                      <p:nvSpPr>
                        <p:cNvPr id="808" name=""/>
                        <p:cNvSpPr/>
                        <p:nvPr/>
                      </p:nvSpPr>
                      <p:spPr>
                        <a:xfrm>
                          <a:off x="7333200" y="5027760"/>
                          <a:ext cx="5760" cy="6120"/>
                        </a:xfrm>
                        <a:prstGeom prst="ellipse">
                          <a:avLst/>
                        </a:prstGeom>
                        <a:solidFill>
                          <a:srgbClr val="5f7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9" name=""/>
                        <p:cNvSpPr/>
                        <p:nvPr/>
                      </p:nvSpPr>
                      <p:spPr>
                        <a:xfrm>
                          <a:off x="7328160" y="5020200"/>
                          <a:ext cx="12960" cy="14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4" h="57">
                              <a:moveTo>
                                <a:pt x="38" y="14"/>
                              </a:moveTo>
                              <a:lnTo>
                                <a:pt x="26" y="25"/>
                              </a:lnTo>
                              <a:lnTo>
                                <a:pt x="30" y="0"/>
                              </a:lnTo>
                              <a:lnTo>
                                <a:pt x="20" y="25"/>
                              </a:lnTo>
                              <a:lnTo>
                                <a:pt x="12" y="35"/>
                              </a:lnTo>
                              <a:lnTo>
                                <a:pt x="0" y="44"/>
                              </a:lnTo>
                              <a:lnTo>
                                <a:pt x="15" y="54"/>
                              </a:lnTo>
                              <a:lnTo>
                                <a:pt x="16" y="54"/>
                              </a:lnTo>
                              <a:lnTo>
                                <a:pt x="26" y="57"/>
                              </a:lnTo>
                              <a:lnTo>
                                <a:pt x="39" y="57"/>
                              </a:lnTo>
                              <a:lnTo>
                                <a:pt x="37" y="48"/>
                              </a:lnTo>
                              <a:lnTo>
                                <a:pt x="26" y="51"/>
                              </a:lnTo>
                              <a:lnTo>
                                <a:pt x="15" y="46"/>
                              </a:lnTo>
                              <a:lnTo>
                                <a:pt x="6" y="42"/>
                              </a:lnTo>
                              <a:lnTo>
                                <a:pt x="15" y="38"/>
                              </a:lnTo>
                              <a:lnTo>
                                <a:pt x="30" y="32"/>
                              </a:lnTo>
                              <a:lnTo>
                                <a:pt x="44" y="25"/>
                              </a:lnTo>
                              <a:lnTo>
                                <a:pt x="38" y="1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f1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040" bIns="-32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10" name=""/>
                      <p:cNvSpPr/>
                      <p:nvPr/>
                    </p:nvSpPr>
                    <p:spPr>
                      <a:xfrm>
                        <a:off x="7187040" y="4948200"/>
                        <a:ext cx="173520" cy="17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7" h="674">
                            <a:moveTo>
                              <a:pt x="579" y="199"/>
                            </a:moveTo>
                            <a:lnTo>
                              <a:pt x="586" y="192"/>
                            </a:lnTo>
                            <a:lnTo>
                              <a:pt x="594" y="183"/>
                            </a:lnTo>
                            <a:lnTo>
                              <a:pt x="597" y="162"/>
                            </a:lnTo>
                            <a:lnTo>
                              <a:pt x="597" y="123"/>
                            </a:lnTo>
                            <a:lnTo>
                              <a:pt x="586" y="91"/>
                            </a:lnTo>
                            <a:lnTo>
                              <a:pt x="571" y="74"/>
                            </a:lnTo>
                            <a:lnTo>
                              <a:pt x="549" y="52"/>
                            </a:lnTo>
                            <a:lnTo>
                              <a:pt x="504" y="45"/>
                            </a:lnTo>
                            <a:lnTo>
                              <a:pt x="439" y="35"/>
                            </a:lnTo>
                            <a:lnTo>
                              <a:pt x="380" y="21"/>
                            </a:lnTo>
                            <a:lnTo>
                              <a:pt x="333" y="10"/>
                            </a:lnTo>
                            <a:lnTo>
                              <a:pt x="274" y="0"/>
                            </a:lnTo>
                            <a:lnTo>
                              <a:pt x="245" y="10"/>
                            </a:lnTo>
                            <a:lnTo>
                              <a:pt x="212" y="35"/>
                            </a:lnTo>
                            <a:lnTo>
                              <a:pt x="183" y="63"/>
                            </a:lnTo>
                            <a:lnTo>
                              <a:pt x="161" y="95"/>
                            </a:lnTo>
                            <a:lnTo>
                              <a:pt x="135" y="144"/>
                            </a:lnTo>
                            <a:lnTo>
                              <a:pt x="121" y="190"/>
                            </a:lnTo>
                            <a:lnTo>
                              <a:pt x="114" y="236"/>
                            </a:lnTo>
                            <a:lnTo>
                              <a:pt x="103" y="288"/>
                            </a:lnTo>
                            <a:lnTo>
                              <a:pt x="103" y="334"/>
                            </a:lnTo>
                            <a:lnTo>
                              <a:pt x="88" y="387"/>
                            </a:lnTo>
                            <a:lnTo>
                              <a:pt x="70" y="434"/>
                            </a:lnTo>
                            <a:lnTo>
                              <a:pt x="48" y="466"/>
                            </a:lnTo>
                            <a:lnTo>
                              <a:pt x="26" y="487"/>
                            </a:lnTo>
                            <a:lnTo>
                              <a:pt x="4" y="512"/>
                            </a:lnTo>
                            <a:lnTo>
                              <a:pt x="4" y="519"/>
                            </a:lnTo>
                            <a:lnTo>
                              <a:pt x="0" y="540"/>
                            </a:lnTo>
                            <a:lnTo>
                              <a:pt x="0" y="575"/>
                            </a:lnTo>
                            <a:lnTo>
                              <a:pt x="11" y="603"/>
                            </a:lnTo>
                            <a:lnTo>
                              <a:pt x="30" y="621"/>
                            </a:lnTo>
                            <a:lnTo>
                              <a:pt x="88" y="621"/>
                            </a:lnTo>
                            <a:lnTo>
                              <a:pt x="135" y="628"/>
                            </a:lnTo>
                            <a:lnTo>
                              <a:pt x="183" y="660"/>
                            </a:lnTo>
                            <a:lnTo>
                              <a:pt x="234" y="674"/>
                            </a:lnTo>
                            <a:lnTo>
                              <a:pt x="278" y="674"/>
                            </a:lnTo>
                            <a:lnTo>
                              <a:pt x="314" y="652"/>
                            </a:lnTo>
                            <a:lnTo>
                              <a:pt x="329" y="621"/>
                            </a:lnTo>
                            <a:lnTo>
                              <a:pt x="325" y="578"/>
                            </a:lnTo>
                            <a:lnTo>
                              <a:pt x="307" y="547"/>
                            </a:lnTo>
                            <a:lnTo>
                              <a:pt x="303" y="515"/>
                            </a:lnTo>
                            <a:lnTo>
                              <a:pt x="307" y="483"/>
                            </a:lnTo>
                            <a:lnTo>
                              <a:pt x="336" y="455"/>
                            </a:lnTo>
                            <a:lnTo>
                              <a:pt x="369" y="445"/>
                            </a:lnTo>
                            <a:lnTo>
                              <a:pt x="391" y="427"/>
                            </a:lnTo>
                            <a:lnTo>
                              <a:pt x="409" y="399"/>
                            </a:lnTo>
                            <a:lnTo>
                              <a:pt x="413" y="352"/>
                            </a:lnTo>
                            <a:lnTo>
                              <a:pt x="413" y="331"/>
                            </a:lnTo>
                            <a:lnTo>
                              <a:pt x="439" y="324"/>
                            </a:lnTo>
                            <a:lnTo>
                              <a:pt x="464" y="303"/>
                            </a:lnTo>
                            <a:lnTo>
                              <a:pt x="479" y="267"/>
                            </a:lnTo>
                            <a:lnTo>
                              <a:pt x="493" y="218"/>
                            </a:lnTo>
                            <a:lnTo>
                              <a:pt x="486" y="158"/>
                            </a:lnTo>
                            <a:lnTo>
                              <a:pt x="475" y="123"/>
                            </a:lnTo>
                            <a:lnTo>
                              <a:pt x="442" y="98"/>
                            </a:lnTo>
                            <a:lnTo>
                              <a:pt x="519" y="123"/>
                            </a:lnTo>
                            <a:lnTo>
                              <a:pt x="546" y="162"/>
                            </a:lnTo>
                            <a:lnTo>
                              <a:pt x="574" y="185"/>
                            </a:lnTo>
                            <a:lnTo>
                              <a:pt x="579" y="199"/>
                            </a:lnTo>
                            <a:close/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11" name=""/>
                    <p:cNvGrpSpPr/>
                    <p:nvPr/>
                  </p:nvGrpSpPr>
                  <p:grpSpPr>
                    <a:xfrm>
                      <a:off x="7313400" y="5007600"/>
                      <a:ext cx="43920" cy="41760"/>
                      <a:chOff x="7313400" y="5007600"/>
                      <a:chExt cx="43920" cy="41760"/>
                    </a:xfrm>
                  </p:grpSpPr>
                  <p:sp>
                    <p:nvSpPr>
                      <p:cNvPr id="812" name=""/>
                      <p:cNvSpPr/>
                      <p:nvPr/>
                    </p:nvSpPr>
                    <p:spPr>
                      <a:xfrm flipV="1">
                        <a:off x="7354080" y="5024880"/>
                        <a:ext cx="3240" cy="720"/>
                      </a:xfrm>
                      <a:prstGeom prst="line">
                        <a:avLst/>
                      </a:prstGeom>
                      <a:ln w="3240">
                        <a:solidFill>
                          <a:srgbClr val="7f3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13" name=""/>
                      <p:cNvGrpSpPr/>
                      <p:nvPr/>
                    </p:nvGrpSpPr>
                    <p:grpSpPr>
                      <a:xfrm>
                        <a:off x="7313400" y="5007600"/>
                        <a:ext cx="40680" cy="41760"/>
                        <a:chOff x="7313400" y="5007600"/>
                        <a:chExt cx="40680" cy="41760"/>
                      </a:xfrm>
                    </p:grpSpPr>
                    <p:sp>
                      <p:nvSpPr>
                        <p:cNvPr id="814" name=""/>
                        <p:cNvSpPr/>
                        <p:nvPr/>
                      </p:nvSpPr>
                      <p:spPr>
                        <a:xfrm>
                          <a:off x="7313400" y="5031000"/>
                          <a:ext cx="28800" cy="14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9" h="57">
                              <a:moveTo>
                                <a:pt x="12" y="0"/>
                              </a:moveTo>
                              <a:lnTo>
                                <a:pt x="30" y="16"/>
                              </a:lnTo>
                              <a:lnTo>
                                <a:pt x="45" y="25"/>
                              </a:lnTo>
                              <a:lnTo>
                                <a:pt x="56" y="31"/>
                              </a:lnTo>
                              <a:lnTo>
                                <a:pt x="71" y="37"/>
                              </a:lnTo>
                              <a:lnTo>
                                <a:pt x="84" y="39"/>
                              </a:lnTo>
                              <a:lnTo>
                                <a:pt x="95" y="37"/>
                              </a:lnTo>
                              <a:lnTo>
                                <a:pt x="99" y="57"/>
                              </a:lnTo>
                              <a:lnTo>
                                <a:pt x="83" y="57"/>
                              </a:lnTo>
                              <a:lnTo>
                                <a:pt x="71" y="56"/>
                              </a:lnTo>
                              <a:lnTo>
                                <a:pt x="55" y="49"/>
                              </a:lnTo>
                              <a:lnTo>
                                <a:pt x="40" y="38"/>
                              </a:lnTo>
                              <a:lnTo>
                                <a:pt x="27" y="29"/>
                              </a:lnTo>
                              <a:lnTo>
                                <a:pt x="0" y="5"/>
                              </a:lnTo>
                              <a:lnTo>
                                <a:pt x="1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3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040" bIns="-32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5" name=""/>
                        <p:cNvSpPr/>
                        <p:nvPr/>
                      </p:nvSpPr>
                      <p:spPr>
                        <a:xfrm>
                          <a:off x="7337520" y="5007600"/>
                          <a:ext cx="16200" cy="41760"/>
                        </a:xfrm>
                        <a:prstGeom prst="ellipse">
                          <a:avLst/>
                        </a:prstGeom>
                        <a:solidFill>
                          <a:srgbClr val="7f3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7280" bIns="-17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6" name=""/>
                        <p:cNvSpPr/>
                        <p:nvPr/>
                      </p:nvSpPr>
                      <p:spPr>
                        <a:xfrm>
                          <a:off x="7339320" y="5009040"/>
                          <a:ext cx="14760" cy="39600"/>
                        </a:xfrm>
                        <a:prstGeom prst="ellipse">
                          <a:avLst/>
                        </a:prstGeom>
                        <a:solidFill>
                          <a:srgbClr val="ffdfb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720" bIns="-18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817" name=""/>
                <p:cNvGrpSpPr/>
                <p:nvPr/>
              </p:nvGrpSpPr>
              <p:grpSpPr>
                <a:xfrm>
                  <a:off x="7572960" y="4911480"/>
                  <a:ext cx="532440" cy="507240"/>
                  <a:chOff x="7572960" y="4911480"/>
                  <a:chExt cx="532440" cy="507240"/>
                </a:xfrm>
              </p:grpSpPr>
              <p:sp>
                <p:nvSpPr>
                  <p:cNvPr id="818" name=""/>
                  <p:cNvSpPr/>
                  <p:nvPr/>
                </p:nvSpPr>
                <p:spPr>
                  <a:xfrm flipH="1" rot="19674000">
                    <a:off x="7586280" y="5207760"/>
                    <a:ext cx="95400" cy="78120"/>
                  </a:xfrm>
                  <a:prstGeom prst="parallelogram">
                    <a:avLst>
                      <a:gd name="adj" fmla="val 19081"/>
                    </a:avLst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19" name=""/>
                  <p:cNvGrpSpPr/>
                  <p:nvPr/>
                </p:nvGrpSpPr>
                <p:grpSpPr>
                  <a:xfrm>
                    <a:off x="7634160" y="4911480"/>
                    <a:ext cx="428400" cy="382320"/>
                    <a:chOff x="7634160" y="4911480"/>
                    <a:chExt cx="428400" cy="382320"/>
                  </a:xfrm>
                </p:grpSpPr>
                <p:grpSp>
                  <p:nvGrpSpPr>
                    <p:cNvPr id="820" name=""/>
                    <p:cNvGrpSpPr/>
                    <p:nvPr/>
                  </p:nvGrpSpPr>
                  <p:grpSpPr>
                    <a:xfrm>
                      <a:off x="7688880" y="4911480"/>
                      <a:ext cx="373680" cy="370800"/>
                      <a:chOff x="7688880" y="4911480"/>
                      <a:chExt cx="373680" cy="370800"/>
                    </a:xfrm>
                  </p:grpSpPr>
                  <p:sp>
                    <p:nvSpPr>
                      <p:cNvPr id="821" name=""/>
                      <p:cNvSpPr/>
                      <p:nvPr/>
                    </p:nvSpPr>
                    <p:spPr>
                      <a:xfrm>
                        <a:off x="7688880" y="5049720"/>
                        <a:ext cx="373680" cy="232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86" h="882">
                            <a:moveTo>
                              <a:pt x="764" y="8"/>
                            </a:moveTo>
                            <a:lnTo>
                              <a:pt x="830" y="0"/>
                            </a:lnTo>
                            <a:lnTo>
                              <a:pt x="896" y="8"/>
                            </a:lnTo>
                            <a:lnTo>
                              <a:pt x="929" y="22"/>
                            </a:lnTo>
                            <a:lnTo>
                              <a:pt x="1005" y="79"/>
                            </a:lnTo>
                            <a:lnTo>
                              <a:pt x="1053" y="125"/>
                            </a:lnTo>
                            <a:lnTo>
                              <a:pt x="1104" y="191"/>
                            </a:lnTo>
                            <a:lnTo>
                              <a:pt x="1148" y="258"/>
                            </a:lnTo>
                            <a:lnTo>
                              <a:pt x="1181" y="311"/>
                            </a:lnTo>
                            <a:lnTo>
                              <a:pt x="1195" y="339"/>
                            </a:lnTo>
                            <a:lnTo>
                              <a:pt x="1217" y="424"/>
                            </a:lnTo>
                            <a:lnTo>
                              <a:pt x="1246" y="554"/>
                            </a:lnTo>
                            <a:lnTo>
                              <a:pt x="1265" y="646"/>
                            </a:lnTo>
                            <a:lnTo>
                              <a:pt x="1276" y="766"/>
                            </a:lnTo>
                            <a:lnTo>
                              <a:pt x="1286" y="864"/>
                            </a:lnTo>
                            <a:lnTo>
                              <a:pt x="1013" y="868"/>
                            </a:lnTo>
                            <a:lnTo>
                              <a:pt x="845" y="878"/>
                            </a:lnTo>
                            <a:lnTo>
                              <a:pt x="713" y="882"/>
                            </a:lnTo>
                            <a:lnTo>
                              <a:pt x="343" y="864"/>
                            </a:lnTo>
                            <a:lnTo>
                              <a:pt x="197" y="857"/>
                            </a:lnTo>
                            <a:lnTo>
                              <a:pt x="76" y="850"/>
                            </a:lnTo>
                            <a:lnTo>
                              <a:pt x="80" y="811"/>
                            </a:lnTo>
                            <a:lnTo>
                              <a:pt x="65" y="769"/>
                            </a:lnTo>
                            <a:lnTo>
                              <a:pt x="29" y="741"/>
                            </a:lnTo>
                            <a:lnTo>
                              <a:pt x="0" y="723"/>
                            </a:lnTo>
                            <a:lnTo>
                              <a:pt x="153" y="671"/>
                            </a:lnTo>
                            <a:lnTo>
                              <a:pt x="281" y="621"/>
                            </a:lnTo>
                            <a:lnTo>
                              <a:pt x="336" y="597"/>
                            </a:lnTo>
                            <a:lnTo>
                              <a:pt x="383" y="575"/>
                            </a:lnTo>
                            <a:lnTo>
                              <a:pt x="416" y="530"/>
                            </a:lnTo>
                            <a:lnTo>
                              <a:pt x="423" y="512"/>
                            </a:lnTo>
                            <a:lnTo>
                              <a:pt x="427" y="473"/>
                            </a:lnTo>
                            <a:lnTo>
                              <a:pt x="431" y="449"/>
                            </a:lnTo>
                            <a:lnTo>
                              <a:pt x="445" y="403"/>
                            </a:lnTo>
                            <a:lnTo>
                              <a:pt x="453" y="382"/>
                            </a:lnTo>
                            <a:lnTo>
                              <a:pt x="456" y="346"/>
                            </a:lnTo>
                            <a:lnTo>
                              <a:pt x="464" y="294"/>
                            </a:lnTo>
                            <a:lnTo>
                              <a:pt x="482" y="262"/>
                            </a:lnTo>
                            <a:lnTo>
                              <a:pt x="482" y="227"/>
                            </a:lnTo>
                            <a:lnTo>
                              <a:pt x="573" y="125"/>
                            </a:lnTo>
                            <a:lnTo>
                              <a:pt x="591" y="142"/>
                            </a:lnTo>
                            <a:lnTo>
                              <a:pt x="764" y="8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2" name=""/>
                      <p:cNvSpPr/>
                      <p:nvPr/>
                    </p:nvSpPr>
                    <p:spPr>
                      <a:xfrm>
                        <a:off x="7936200" y="5105160"/>
                        <a:ext cx="73080" cy="17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2" h="669">
                            <a:moveTo>
                              <a:pt x="197" y="0"/>
                            </a:moveTo>
                            <a:lnTo>
                              <a:pt x="223" y="25"/>
                            </a:lnTo>
                            <a:lnTo>
                              <a:pt x="230" y="81"/>
                            </a:lnTo>
                            <a:lnTo>
                              <a:pt x="230" y="141"/>
                            </a:lnTo>
                            <a:lnTo>
                              <a:pt x="230" y="180"/>
                            </a:lnTo>
                            <a:lnTo>
                              <a:pt x="252" y="201"/>
                            </a:lnTo>
                            <a:lnTo>
                              <a:pt x="234" y="211"/>
                            </a:lnTo>
                            <a:lnTo>
                              <a:pt x="230" y="250"/>
                            </a:lnTo>
                            <a:lnTo>
                              <a:pt x="219" y="271"/>
                            </a:lnTo>
                            <a:lnTo>
                              <a:pt x="212" y="303"/>
                            </a:lnTo>
                            <a:lnTo>
                              <a:pt x="201" y="317"/>
                            </a:lnTo>
                            <a:lnTo>
                              <a:pt x="201" y="352"/>
                            </a:lnTo>
                            <a:lnTo>
                              <a:pt x="186" y="388"/>
                            </a:lnTo>
                            <a:lnTo>
                              <a:pt x="183" y="447"/>
                            </a:lnTo>
                            <a:lnTo>
                              <a:pt x="172" y="507"/>
                            </a:lnTo>
                            <a:lnTo>
                              <a:pt x="164" y="521"/>
                            </a:lnTo>
                            <a:lnTo>
                              <a:pt x="164" y="543"/>
                            </a:lnTo>
                            <a:lnTo>
                              <a:pt x="146" y="546"/>
                            </a:lnTo>
                            <a:lnTo>
                              <a:pt x="146" y="560"/>
                            </a:lnTo>
                            <a:lnTo>
                              <a:pt x="139" y="581"/>
                            </a:lnTo>
                            <a:lnTo>
                              <a:pt x="117" y="606"/>
                            </a:lnTo>
                            <a:lnTo>
                              <a:pt x="95" y="634"/>
                            </a:lnTo>
                            <a:lnTo>
                              <a:pt x="80" y="669"/>
                            </a:lnTo>
                            <a:lnTo>
                              <a:pt x="18" y="669"/>
                            </a:lnTo>
                            <a:lnTo>
                              <a:pt x="117" y="585"/>
                            </a:lnTo>
                            <a:lnTo>
                              <a:pt x="135" y="550"/>
                            </a:lnTo>
                            <a:lnTo>
                              <a:pt x="128" y="514"/>
                            </a:lnTo>
                            <a:lnTo>
                              <a:pt x="150" y="497"/>
                            </a:lnTo>
                            <a:lnTo>
                              <a:pt x="150" y="388"/>
                            </a:lnTo>
                            <a:lnTo>
                              <a:pt x="84" y="377"/>
                            </a:lnTo>
                            <a:lnTo>
                              <a:pt x="44" y="366"/>
                            </a:lnTo>
                            <a:lnTo>
                              <a:pt x="0" y="352"/>
                            </a:lnTo>
                            <a:lnTo>
                              <a:pt x="139" y="349"/>
                            </a:lnTo>
                            <a:lnTo>
                              <a:pt x="161" y="338"/>
                            </a:lnTo>
                            <a:lnTo>
                              <a:pt x="157" y="317"/>
                            </a:lnTo>
                            <a:lnTo>
                              <a:pt x="117" y="310"/>
                            </a:lnTo>
                            <a:lnTo>
                              <a:pt x="73" y="307"/>
                            </a:lnTo>
                            <a:lnTo>
                              <a:pt x="131" y="292"/>
                            </a:lnTo>
                            <a:lnTo>
                              <a:pt x="146" y="282"/>
                            </a:lnTo>
                            <a:lnTo>
                              <a:pt x="95" y="233"/>
                            </a:lnTo>
                            <a:lnTo>
                              <a:pt x="47" y="208"/>
                            </a:lnTo>
                            <a:lnTo>
                              <a:pt x="18" y="176"/>
                            </a:lnTo>
                            <a:lnTo>
                              <a:pt x="7" y="169"/>
                            </a:lnTo>
                            <a:lnTo>
                              <a:pt x="40" y="166"/>
                            </a:lnTo>
                            <a:lnTo>
                              <a:pt x="80" y="183"/>
                            </a:lnTo>
                            <a:lnTo>
                              <a:pt x="131" y="211"/>
                            </a:lnTo>
                            <a:lnTo>
                              <a:pt x="175" y="229"/>
                            </a:lnTo>
                            <a:lnTo>
                              <a:pt x="201" y="222"/>
                            </a:lnTo>
                            <a:lnTo>
                              <a:pt x="215" y="194"/>
                            </a:lnTo>
                            <a:lnTo>
                              <a:pt x="215" y="134"/>
                            </a:lnTo>
                            <a:lnTo>
                              <a:pt x="197" y="0"/>
                            </a:lnTo>
                            <a:close/>
                          </a:path>
                        </a:pathLst>
                      </a:custGeom>
                      <a:solidFill>
                        <a:srgbClr val="3f3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3" name=""/>
                      <p:cNvSpPr/>
                      <p:nvPr/>
                    </p:nvSpPr>
                    <p:spPr>
                      <a:xfrm>
                        <a:off x="7731360" y="5151960"/>
                        <a:ext cx="145080" cy="12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1" h="462">
                            <a:moveTo>
                              <a:pt x="0" y="462"/>
                            </a:moveTo>
                            <a:lnTo>
                              <a:pt x="314" y="356"/>
                            </a:lnTo>
                            <a:lnTo>
                              <a:pt x="339" y="335"/>
                            </a:lnTo>
                            <a:lnTo>
                              <a:pt x="365" y="300"/>
                            </a:lnTo>
                            <a:lnTo>
                              <a:pt x="369" y="264"/>
                            </a:lnTo>
                            <a:lnTo>
                              <a:pt x="372" y="162"/>
                            </a:lnTo>
                            <a:lnTo>
                              <a:pt x="383" y="233"/>
                            </a:lnTo>
                            <a:lnTo>
                              <a:pt x="405" y="250"/>
                            </a:lnTo>
                            <a:lnTo>
                              <a:pt x="420" y="194"/>
                            </a:lnTo>
                            <a:lnTo>
                              <a:pt x="434" y="141"/>
                            </a:lnTo>
                            <a:lnTo>
                              <a:pt x="487" y="0"/>
                            </a:lnTo>
                            <a:lnTo>
                              <a:pt x="454" y="120"/>
                            </a:lnTo>
                            <a:lnTo>
                              <a:pt x="434" y="194"/>
                            </a:lnTo>
                            <a:lnTo>
                              <a:pt x="423" y="250"/>
                            </a:lnTo>
                            <a:lnTo>
                              <a:pt x="405" y="286"/>
                            </a:lnTo>
                            <a:lnTo>
                              <a:pt x="383" y="314"/>
                            </a:lnTo>
                            <a:lnTo>
                              <a:pt x="409" y="335"/>
                            </a:lnTo>
                            <a:lnTo>
                              <a:pt x="442" y="331"/>
                            </a:lnTo>
                            <a:lnTo>
                              <a:pt x="501" y="282"/>
                            </a:lnTo>
                            <a:lnTo>
                              <a:pt x="423" y="370"/>
                            </a:lnTo>
                            <a:lnTo>
                              <a:pt x="343" y="388"/>
                            </a:lnTo>
                            <a:lnTo>
                              <a:pt x="252" y="405"/>
                            </a:lnTo>
                            <a:lnTo>
                              <a:pt x="164" y="423"/>
                            </a:lnTo>
                            <a:lnTo>
                              <a:pt x="66" y="444"/>
                            </a:lnTo>
                            <a:lnTo>
                              <a:pt x="0" y="462"/>
                            </a:lnTo>
                            <a:close/>
                          </a:path>
                        </a:pathLst>
                      </a:custGeom>
                      <a:solidFill>
                        <a:srgbClr val="3f3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4" name=""/>
                      <p:cNvSpPr/>
                      <p:nvPr/>
                    </p:nvSpPr>
                    <p:spPr>
                      <a:xfrm>
                        <a:off x="7860240" y="5068080"/>
                        <a:ext cx="113760" cy="20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2" h="768">
                            <a:moveTo>
                              <a:pt x="392" y="7"/>
                            </a:moveTo>
                            <a:lnTo>
                              <a:pt x="312" y="0"/>
                            </a:lnTo>
                            <a:lnTo>
                              <a:pt x="268" y="7"/>
                            </a:lnTo>
                            <a:lnTo>
                              <a:pt x="195" y="78"/>
                            </a:lnTo>
                            <a:lnTo>
                              <a:pt x="126" y="162"/>
                            </a:lnTo>
                            <a:lnTo>
                              <a:pt x="86" y="328"/>
                            </a:lnTo>
                            <a:lnTo>
                              <a:pt x="71" y="374"/>
                            </a:lnTo>
                            <a:lnTo>
                              <a:pt x="56" y="507"/>
                            </a:lnTo>
                            <a:lnTo>
                              <a:pt x="49" y="603"/>
                            </a:lnTo>
                            <a:lnTo>
                              <a:pt x="0" y="662"/>
                            </a:lnTo>
                            <a:lnTo>
                              <a:pt x="108" y="768"/>
                            </a:lnTo>
                            <a:lnTo>
                              <a:pt x="56" y="691"/>
                            </a:lnTo>
                            <a:lnTo>
                              <a:pt x="67" y="684"/>
                            </a:lnTo>
                            <a:lnTo>
                              <a:pt x="140" y="722"/>
                            </a:lnTo>
                            <a:lnTo>
                              <a:pt x="228" y="743"/>
                            </a:lnTo>
                            <a:lnTo>
                              <a:pt x="111" y="698"/>
                            </a:lnTo>
                            <a:lnTo>
                              <a:pt x="67" y="659"/>
                            </a:lnTo>
                            <a:lnTo>
                              <a:pt x="67" y="620"/>
                            </a:lnTo>
                            <a:lnTo>
                              <a:pt x="140" y="617"/>
                            </a:lnTo>
                            <a:lnTo>
                              <a:pt x="64" y="599"/>
                            </a:lnTo>
                            <a:lnTo>
                              <a:pt x="71" y="507"/>
                            </a:lnTo>
                            <a:lnTo>
                              <a:pt x="89" y="356"/>
                            </a:lnTo>
                            <a:lnTo>
                              <a:pt x="148" y="166"/>
                            </a:lnTo>
                            <a:lnTo>
                              <a:pt x="188" y="106"/>
                            </a:lnTo>
                            <a:lnTo>
                              <a:pt x="268" y="28"/>
                            </a:lnTo>
                            <a:lnTo>
                              <a:pt x="312" y="18"/>
                            </a:lnTo>
                            <a:lnTo>
                              <a:pt x="392" y="7"/>
                            </a:lnTo>
                            <a:close/>
                          </a:path>
                        </a:pathLst>
                      </a:custGeom>
                      <a:solidFill>
                        <a:srgbClr val="3f3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25" name=""/>
                      <p:cNvGrpSpPr/>
                      <p:nvPr/>
                    </p:nvGrpSpPr>
                    <p:grpSpPr>
                      <a:xfrm>
                        <a:off x="7766280" y="4911480"/>
                        <a:ext cx="185400" cy="255600"/>
                        <a:chOff x="7766280" y="4911480"/>
                        <a:chExt cx="185400" cy="255600"/>
                      </a:xfrm>
                    </p:grpSpPr>
                    <p:sp>
                      <p:nvSpPr>
                        <p:cNvPr id="826" name=""/>
                        <p:cNvSpPr/>
                        <p:nvPr/>
                      </p:nvSpPr>
                      <p:spPr>
                        <a:xfrm>
                          <a:off x="7845480" y="5049000"/>
                          <a:ext cx="66600" cy="60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1" h="229">
                              <a:moveTo>
                                <a:pt x="202" y="0"/>
                              </a:moveTo>
                              <a:lnTo>
                                <a:pt x="44" y="135"/>
                              </a:lnTo>
                              <a:lnTo>
                                <a:pt x="33" y="118"/>
                              </a:lnTo>
                              <a:lnTo>
                                <a:pt x="8" y="174"/>
                              </a:lnTo>
                              <a:lnTo>
                                <a:pt x="0" y="206"/>
                              </a:lnTo>
                              <a:lnTo>
                                <a:pt x="18" y="188"/>
                              </a:lnTo>
                              <a:lnTo>
                                <a:pt x="35" y="151"/>
                              </a:lnTo>
                              <a:lnTo>
                                <a:pt x="69" y="229"/>
                              </a:lnTo>
                              <a:lnTo>
                                <a:pt x="122" y="169"/>
                              </a:lnTo>
                              <a:lnTo>
                                <a:pt x="180" y="76"/>
                              </a:lnTo>
                              <a:lnTo>
                                <a:pt x="231" y="16"/>
                              </a:lnTo>
                              <a:lnTo>
                                <a:pt x="20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320" bIns="13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7" name=""/>
                        <p:cNvSpPr/>
                        <p:nvPr/>
                      </p:nvSpPr>
                      <p:spPr>
                        <a:xfrm>
                          <a:off x="7844400" y="5088600"/>
                          <a:ext cx="19080" cy="75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6" h="286">
                              <a:moveTo>
                                <a:pt x="37" y="0"/>
                              </a:moveTo>
                              <a:lnTo>
                                <a:pt x="26" y="13"/>
                              </a:lnTo>
                              <a:lnTo>
                                <a:pt x="19" y="23"/>
                              </a:lnTo>
                              <a:lnTo>
                                <a:pt x="13" y="37"/>
                              </a:lnTo>
                              <a:lnTo>
                                <a:pt x="6" y="60"/>
                              </a:lnTo>
                              <a:lnTo>
                                <a:pt x="4" y="83"/>
                              </a:lnTo>
                              <a:lnTo>
                                <a:pt x="6" y="105"/>
                              </a:lnTo>
                              <a:lnTo>
                                <a:pt x="10" y="129"/>
                              </a:lnTo>
                              <a:lnTo>
                                <a:pt x="14" y="142"/>
                              </a:lnTo>
                              <a:lnTo>
                                <a:pt x="2" y="195"/>
                              </a:lnTo>
                              <a:lnTo>
                                <a:pt x="0" y="218"/>
                              </a:lnTo>
                              <a:lnTo>
                                <a:pt x="0" y="247"/>
                              </a:lnTo>
                              <a:lnTo>
                                <a:pt x="4" y="286"/>
                              </a:lnTo>
                              <a:lnTo>
                                <a:pt x="25" y="198"/>
                              </a:lnTo>
                              <a:lnTo>
                                <a:pt x="36" y="139"/>
                              </a:lnTo>
                              <a:lnTo>
                                <a:pt x="66" y="65"/>
                              </a:lnTo>
                              <a:lnTo>
                                <a:pt x="3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440" bIns="28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8" name=""/>
                        <p:cNvSpPr/>
                        <p:nvPr/>
                      </p:nvSpPr>
                      <p:spPr>
                        <a:xfrm>
                          <a:off x="7845480" y="5088600"/>
                          <a:ext cx="17280" cy="40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2" h="151">
                              <a:moveTo>
                                <a:pt x="33" y="0"/>
                              </a:moveTo>
                              <a:lnTo>
                                <a:pt x="22" y="13"/>
                              </a:lnTo>
                              <a:lnTo>
                                <a:pt x="14" y="23"/>
                              </a:lnTo>
                              <a:lnTo>
                                <a:pt x="8" y="37"/>
                              </a:lnTo>
                              <a:lnTo>
                                <a:pt x="2" y="60"/>
                              </a:lnTo>
                              <a:lnTo>
                                <a:pt x="0" y="83"/>
                              </a:lnTo>
                              <a:lnTo>
                                <a:pt x="2" y="106"/>
                              </a:lnTo>
                              <a:lnTo>
                                <a:pt x="6" y="129"/>
                              </a:lnTo>
                              <a:lnTo>
                                <a:pt x="10" y="142"/>
                              </a:lnTo>
                              <a:lnTo>
                                <a:pt x="27" y="151"/>
                              </a:lnTo>
                              <a:lnTo>
                                <a:pt x="31" y="136"/>
                              </a:lnTo>
                              <a:lnTo>
                                <a:pt x="62" y="66"/>
                              </a:lnTo>
                              <a:lnTo>
                                <a:pt x="33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6480" bIns="-6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829" name=""/>
                        <p:cNvGrpSpPr/>
                        <p:nvPr/>
                      </p:nvGrpSpPr>
                      <p:grpSpPr>
                        <a:xfrm>
                          <a:off x="7766280" y="4911480"/>
                          <a:ext cx="185400" cy="177120"/>
                          <a:chOff x="7766280" y="4911480"/>
                          <a:chExt cx="185400" cy="177120"/>
                        </a:xfrm>
                      </p:grpSpPr>
                      <p:grpSp>
                        <p:nvGrpSpPr>
                          <p:cNvPr id="830" name=""/>
                          <p:cNvGrpSpPr/>
                          <p:nvPr/>
                        </p:nvGrpSpPr>
                        <p:grpSpPr>
                          <a:xfrm>
                            <a:off x="7785360" y="4930200"/>
                            <a:ext cx="137520" cy="158400"/>
                            <a:chOff x="7785360" y="4930200"/>
                            <a:chExt cx="137520" cy="158400"/>
                          </a:xfrm>
                        </p:grpSpPr>
                        <p:sp>
                          <p:nvSpPr>
                            <p:cNvPr id="831" name=""/>
                            <p:cNvSpPr/>
                            <p:nvPr/>
                          </p:nvSpPr>
                          <p:spPr>
                            <a:xfrm>
                              <a:off x="7785360" y="4930200"/>
                              <a:ext cx="137520" cy="158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74" h="598">
                                  <a:moveTo>
                                    <a:pt x="148" y="17"/>
                                  </a:moveTo>
                                  <a:lnTo>
                                    <a:pt x="114" y="36"/>
                                  </a:lnTo>
                                  <a:lnTo>
                                    <a:pt x="82" y="56"/>
                                  </a:lnTo>
                                  <a:lnTo>
                                    <a:pt x="59" y="75"/>
                                  </a:lnTo>
                                  <a:lnTo>
                                    <a:pt x="37" y="95"/>
                                  </a:lnTo>
                                  <a:lnTo>
                                    <a:pt x="20" y="116"/>
                                  </a:lnTo>
                                  <a:lnTo>
                                    <a:pt x="9" y="138"/>
                                  </a:lnTo>
                                  <a:lnTo>
                                    <a:pt x="5" y="162"/>
                                  </a:lnTo>
                                  <a:lnTo>
                                    <a:pt x="2" y="188"/>
                                  </a:lnTo>
                                  <a:lnTo>
                                    <a:pt x="0" y="219"/>
                                  </a:lnTo>
                                  <a:lnTo>
                                    <a:pt x="4" y="248"/>
                                  </a:lnTo>
                                  <a:lnTo>
                                    <a:pt x="0" y="286"/>
                                  </a:lnTo>
                                  <a:lnTo>
                                    <a:pt x="16" y="297"/>
                                  </a:lnTo>
                                  <a:lnTo>
                                    <a:pt x="30" y="307"/>
                                  </a:lnTo>
                                  <a:lnTo>
                                    <a:pt x="31" y="317"/>
                                  </a:lnTo>
                                  <a:lnTo>
                                    <a:pt x="31" y="332"/>
                                  </a:lnTo>
                                  <a:lnTo>
                                    <a:pt x="26" y="350"/>
                                  </a:lnTo>
                                  <a:lnTo>
                                    <a:pt x="11" y="398"/>
                                  </a:lnTo>
                                  <a:lnTo>
                                    <a:pt x="11" y="419"/>
                                  </a:lnTo>
                                  <a:lnTo>
                                    <a:pt x="23" y="424"/>
                                  </a:lnTo>
                                  <a:lnTo>
                                    <a:pt x="42" y="424"/>
                                  </a:lnTo>
                                  <a:lnTo>
                                    <a:pt x="55" y="424"/>
                                  </a:lnTo>
                                  <a:lnTo>
                                    <a:pt x="77" y="481"/>
                                  </a:lnTo>
                                  <a:lnTo>
                                    <a:pt x="78" y="502"/>
                                  </a:lnTo>
                                  <a:lnTo>
                                    <a:pt x="86" y="512"/>
                                  </a:lnTo>
                                  <a:lnTo>
                                    <a:pt x="95" y="515"/>
                                  </a:lnTo>
                                  <a:lnTo>
                                    <a:pt x="96" y="527"/>
                                  </a:lnTo>
                                  <a:lnTo>
                                    <a:pt x="95" y="543"/>
                                  </a:lnTo>
                                  <a:lnTo>
                                    <a:pt x="104" y="569"/>
                                  </a:lnTo>
                                  <a:lnTo>
                                    <a:pt x="115" y="586"/>
                                  </a:lnTo>
                                  <a:lnTo>
                                    <a:pt x="126" y="593"/>
                                  </a:lnTo>
                                  <a:lnTo>
                                    <a:pt x="151" y="598"/>
                                  </a:lnTo>
                                  <a:lnTo>
                                    <a:pt x="172" y="596"/>
                                  </a:lnTo>
                                  <a:lnTo>
                                    <a:pt x="201" y="583"/>
                                  </a:lnTo>
                                  <a:lnTo>
                                    <a:pt x="235" y="565"/>
                                  </a:lnTo>
                                  <a:lnTo>
                                    <a:pt x="250" y="582"/>
                                  </a:lnTo>
                                  <a:lnTo>
                                    <a:pt x="456" y="423"/>
                                  </a:lnTo>
                                  <a:lnTo>
                                    <a:pt x="443" y="396"/>
                                  </a:lnTo>
                                  <a:lnTo>
                                    <a:pt x="456" y="359"/>
                                  </a:lnTo>
                                  <a:lnTo>
                                    <a:pt x="469" y="311"/>
                                  </a:lnTo>
                                  <a:lnTo>
                                    <a:pt x="474" y="250"/>
                                  </a:lnTo>
                                  <a:lnTo>
                                    <a:pt x="473" y="204"/>
                                  </a:lnTo>
                                  <a:lnTo>
                                    <a:pt x="459" y="128"/>
                                  </a:lnTo>
                                  <a:lnTo>
                                    <a:pt x="440" y="60"/>
                                  </a:lnTo>
                                  <a:lnTo>
                                    <a:pt x="418" y="10"/>
                                  </a:lnTo>
                                  <a:lnTo>
                                    <a:pt x="335" y="0"/>
                                  </a:lnTo>
                                  <a:lnTo>
                                    <a:pt x="208" y="1"/>
                                  </a:lnTo>
                                  <a:lnTo>
                                    <a:pt x="148" y="17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bfb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832" name=""/>
                            <p:cNvGrpSpPr/>
                            <p:nvPr/>
                          </p:nvGrpSpPr>
                          <p:grpSpPr>
                            <a:xfrm>
                              <a:off x="7840080" y="5010120"/>
                              <a:ext cx="23400" cy="37080"/>
                              <a:chOff x="7840080" y="5010120"/>
                              <a:chExt cx="23400" cy="37080"/>
                            </a:xfrm>
                          </p:grpSpPr>
                          <p:sp>
                            <p:nvSpPr>
                              <p:cNvPr id="833" name=""/>
                              <p:cNvSpPr/>
                              <p:nvPr/>
                            </p:nvSpPr>
                            <p:spPr>
                              <a:xfrm>
                                <a:off x="7840080" y="5010120"/>
                                <a:ext cx="18360" cy="23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1" h="89">
                                    <a:moveTo>
                                      <a:pt x="0" y="37"/>
                                    </a:moveTo>
                                    <a:lnTo>
                                      <a:pt x="6" y="18"/>
                                    </a:lnTo>
                                    <a:lnTo>
                                      <a:pt x="11" y="5"/>
                                    </a:lnTo>
                                    <a:lnTo>
                                      <a:pt x="16" y="2"/>
                                    </a:lnTo>
                                    <a:lnTo>
                                      <a:pt x="24" y="0"/>
                                    </a:lnTo>
                                    <a:lnTo>
                                      <a:pt x="34" y="0"/>
                                    </a:lnTo>
                                    <a:lnTo>
                                      <a:pt x="44" y="2"/>
                                    </a:lnTo>
                                    <a:lnTo>
                                      <a:pt x="51" y="7"/>
                                    </a:lnTo>
                                    <a:lnTo>
                                      <a:pt x="56" y="16"/>
                                    </a:lnTo>
                                    <a:lnTo>
                                      <a:pt x="60" y="31"/>
                                    </a:lnTo>
                                    <a:lnTo>
                                      <a:pt x="61" y="44"/>
                                    </a:lnTo>
                                    <a:lnTo>
                                      <a:pt x="58" y="62"/>
                                    </a:lnTo>
                                    <a:lnTo>
                                      <a:pt x="55" y="78"/>
                                    </a:lnTo>
                                    <a:lnTo>
                                      <a:pt x="47" y="89"/>
                                    </a:lnTo>
                                    <a:lnTo>
                                      <a:pt x="44" y="76"/>
                                    </a:lnTo>
                                    <a:lnTo>
                                      <a:pt x="51" y="64"/>
                                    </a:lnTo>
                                    <a:lnTo>
                                      <a:pt x="46" y="49"/>
                                    </a:lnTo>
                                    <a:lnTo>
                                      <a:pt x="40" y="55"/>
                                    </a:lnTo>
                                    <a:lnTo>
                                      <a:pt x="27" y="61"/>
                                    </a:lnTo>
                                    <a:lnTo>
                                      <a:pt x="22" y="48"/>
                                    </a:lnTo>
                                    <a:lnTo>
                                      <a:pt x="33" y="43"/>
                                    </a:lnTo>
                                    <a:lnTo>
                                      <a:pt x="44" y="41"/>
                                    </a:lnTo>
                                    <a:lnTo>
                                      <a:pt x="44" y="32"/>
                                    </a:lnTo>
                                    <a:lnTo>
                                      <a:pt x="43" y="22"/>
                                    </a:lnTo>
                                    <a:lnTo>
                                      <a:pt x="49" y="23"/>
                                    </a:lnTo>
                                    <a:lnTo>
                                      <a:pt x="47" y="10"/>
                                    </a:lnTo>
                                    <a:lnTo>
                                      <a:pt x="45" y="7"/>
                                    </a:lnTo>
                                    <a:lnTo>
                                      <a:pt x="35" y="5"/>
                                    </a:lnTo>
                                    <a:lnTo>
                                      <a:pt x="18" y="7"/>
                                    </a:lnTo>
                                    <a:lnTo>
                                      <a:pt x="10" y="20"/>
                                    </a:lnTo>
                                    <a:lnTo>
                                      <a:pt x="0" y="37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df9f7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3040" bIns="-230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4" name=""/>
                              <p:cNvSpPr/>
                              <p:nvPr/>
                            </p:nvSpPr>
                            <p:spPr>
                              <a:xfrm>
                                <a:off x="7848000" y="5033880"/>
                                <a:ext cx="15480" cy="133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4" h="50">
                                    <a:moveTo>
                                      <a:pt x="40" y="0"/>
                                    </a:moveTo>
                                    <a:lnTo>
                                      <a:pt x="32" y="17"/>
                                    </a:lnTo>
                                    <a:lnTo>
                                      <a:pt x="29" y="25"/>
                                    </a:lnTo>
                                    <a:lnTo>
                                      <a:pt x="21" y="31"/>
                                    </a:lnTo>
                                    <a:lnTo>
                                      <a:pt x="12" y="32"/>
                                    </a:lnTo>
                                    <a:lnTo>
                                      <a:pt x="0" y="32"/>
                                    </a:lnTo>
                                    <a:lnTo>
                                      <a:pt x="26" y="35"/>
                                    </a:lnTo>
                                    <a:lnTo>
                                      <a:pt x="42" y="42"/>
                                    </a:lnTo>
                                    <a:lnTo>
                                      <a:pt x="54" y="50"/>
                                    </a:lnTo>
                                    <a:lnTo>
                                      <a:pt x="43" y="33"/>
                                    </a:lnTo>
                                    <a:lnTo>
                                      <a:pt x="41" y="17"/>
                                    </a:lnTo>
                                    <a:lnTo>
                                      <a:pt x="4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df9f7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3480" bIns="-334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835" name=""/>
                            <p:cNvSpPr/>
                            <p:nvPr/>
                          </p:nvSpPr>
                          <p:spPr>
                            <a:xfrm>
                              <a:off x="7808760" y="5032440"/>
                              <a:ext cx="12960" cy="17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7" h="67">
                                  <a:moveTo>
                                    <a:pt x="8" y="0"/>
                                  </a:moveTo>
                                  <a:lnTo>
                                    <a:pt x="14" y="6"/>
                                  </a:lnTo>
                                  <a:lnTo>
                                    <a:pt x="15" y="13"/>
                                  </a:lnTo>
                                  <a:lnTo>
                                    <a:pt x="13" y="19"/>
                                  </a:lnTo>
                                  <a:lnTo>
                                    <a:pt x="8" y="25"/>
                                  </a:lnTo>
                                  <a:lnTo>
                                    <a:pt x="0" y="30"/>
                                  </a:lnTo>
                                  <a:lnTo>
                                    <a:pt x="7" y="35"/>
                                  </a:lnTo>
                                  <a:lnTo>
                                    <a:pt x="17" y="38"/>
                                  </a:lnTo>
                                  <a:lnTo>
                                    <a:pt x="27" y="43"/>
                                  </a:lnTo>
                                  <a:lnTo>
                                    <a:pt x="47" y="67"/>
                                  </a:lnTo>
                                  <a:lnTo>
                                    <a:pt x="22" y="29"/>
                                  </a:lnTo>
                                  <a:lnTo>
                                    <a:pt x="19" y="21"/>
                                  </a:lnTo>
                                  <a:lnTo>
                                    <a:pt x="19" y="12"/>
                                  </a:lnTo>
                                  <a:lnTo>
                                    <a:pt x="21" y="7"/>
                                  </a:lnTo>
                                  <a:lnTo>
                                    <a:pt x="8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df9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9520" bIns="-295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36" name=""/>
                          <p:cNvGrpSpPr/>
                          <p:nvPr/>
                        </p:nvGrpSpPr>
                        <p:grpSpPr>
                          <a:xfrm>
                            <a:off x="7766280" y="4911480"/>
                            <a:ext cx="185400" cy="177120"/>
                            <a:chOff x="7766280" y="4911480"/>
                            <a:chExt cx="185400" cy="177120"/>
                          </a:xfrm>
                        </p:grpSpPr>
                        <p:sp>
                          <p:nvSpPr>
                            <p:cNvPr id="837" name=""/>
                            <p:cNvSpPr/>
                            <p:nvPr/>
                          </p:nvSpPr>
                          <p:spPr>
                            <a:xfrm>
                              <a:off x="7766280" y="4911480"/>
                              <a:ext cx="185400" cy="177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40" h="673">
                                  <a:moveTo>
                                    <a:pt x="307" y="0"/>
                                  </a:moveTo>
                                  <a:lnTo>
                                    <a:pt x="278" y="1"/>
                                  </a:lnTo>
                                  <a:lnTo>
                                    <a:pt x="256" y="5"/>
                                  </a:lnTo>
                                  <a:lnTo>
                                    <a:pt x="231" y="10"/>
                                  </a:lnTo>
                                  <a:lnTo>
                                    <a:pt x="203" y="20"/>
                                  </a:lnTo>
                                  <a:lnTo>
                                    <a:pt x="180" y="29"/>
                                  </a:lnTo>
                                  <a:lnTo>
                                    <a:pt x="154" y="51"/>
                                  </a:lnTo>
                                  <a:lnTo>
                                    <a:pt x="129" y="74"/>
                                  </a:lnTo>
                                  <a:lnTo>
                                    <a:pt x="106" y="98"/>
                                  </a:lnTo>
                                  <a:lnTo>
                                    <a:pt x="55" y="130"/>
                                  </a:lnTo>
                                  <a:lnTo>
                                    <a:pt x="37" y="142"/>
                                  </a:lnTo>
                                  <a:lnTo>
                                    <a:pt x="23" y="155"/>
                                  </a:lnTo>
                                  <a:lnTo>
                                    <a:pt x="15" y="167"/>
                                  </a:lnTo>
                                  <a:lnTo>
                                    <a:pt x="5" y="181"/>
                                  </a:lnTo>
                                  <a:lnTo>
                                    <a:pt x="1" y="195"/>
                                  </a:lnTo>
                                  <a:lnTo>
                                    <a:pt x="0" y="210"/>
                                  </a:lnTo>
                                  <a:lnTo>
                                    <a:pt x="0" y="225"/>
                                  </a:lnTo>
                                  <a:lnTo>
                                    <a:pt x="4" y="243"/>
                                  </a:lnTo>
                                  <a:lnTo>
                                    <a:pt x="14" y="263"/>
                                  </a:lnTo>
                                  <a:lnTo>
                                    <a:pt x="22" y="273"/>
                                  </a:lnTo>
                                  <a:lnTo>
                                    <a:pt x="33" y="282"/>
                                  </a:lnTo>
                                  <a:lnTo>
                                    <a:pt x="49" y="286"/>
                                  </a:lnTo>
                                  <a:lnTo>
                                    <a:pt x="66" y="290"/>
                                  </a:lnTo>
                                  <a:lnTo>
                                    <a:pt x="90" y="295"/>
                                  </a:lnTo>
                                  <a:lnTo>
                                    <a:pt x="76" y="276"/>
                                  </a:lnTo>
                                  <a:lnTo>
                                    <a:pt x="71" y="258"/>
                                  </a:lnTo>
                                  <a:lnTo>
                                    <a:pt x="72" y="237"/>
                                  </a:lnTo>
                                  <a:lnTo>
                                    <a:pt x="77" y="216"/>
                                  </a:lnTo>
                                  <a:lnTo>
                                    <a:pt x="84" y="203"/>
                                  </a:lnTo>
                                  <a:lnTo>
                                    <a:pt x="94" y="189"/>
                                  </a:lnTo>
                                  <a:lnTo>
                                    <a:pt x="106" y="177"/>
                                  </a:lnTo>
                                  <a:lnTo>
                                    <a:pt x="121" y="167"/>
                                  </a:lnTo>
                                  <a:lnTo>
                                    <a:pt x="139" y="157"/>
                                  </a:lnTo>
                                  <a:lnTo>
                                    <a:pt x="197" y="140"/>
                                  </a:lnTo>
                                  <a:lnTo>
                                    <a:pt x="186" y="151"/>
                                  </a:lnTo>
                                  <a:lnTo>
                                    <a:pt x="178" y="158"/>
                                  </a:lnTo>
                                  <a:lnTo>
                                    <a:pt x="166" y="163"/>
                                  </a:lnTo>
                                  <a:lnTo>
                                    <a:pt x="147" y="169"/>
                                  </a:lnTo>
                                  <a:lnTo>
                                    <a:pt x="135" y="172"/>
                                  </a:lnTo>
                                  <a:lnTo>
                                    <a:pt x="122" y="181"/>
                                  </a:lnTo>
                                  <a:lnTo>
                                    <a:pt x="116" y="191"/>
                                  </a:lnTo>
                                  <a:lnTo>
                                    <a:pt x="111" y="202"/>
                                  </a:lnTo>
                                  <a:lnTo>
                                    <a:pt x="108" y="214"/>
                                  </a:lnTo>
                                  <a:lnTo>
                                    <a:pt x="108" y="226"/>
                                  </a:lnTo>
                                  <a:lnTo>
                                    <a:pt x="113" y="241"/>
                                  </a:lnTo>
                                  <a:lnTo>
                                    <a:pt x="117" y="262"/>
                                  </a:lnTo>
                                  <a:lnTo>
                                    <a:pt x="127" y="280"/>
                                  </a:lnTo>
                                  <a:lnTo>
                                    <a:pt x="141" y="311"/>
                                  </a:lnTo>
                                  <a:lnTo>
                                    <a:pt x="167" y="371"/>
                                  </a:lnTo>
                                  <a:lnTo>
                                    <a:pt x="185" y="404"/>
                                  </a:lnTo>
                                  <a:lnTo>
                                    <a:pt x="206" y="412"/>
                                  </a:lnTo>
                                  <a:lnTo>
                                    <a:pt x="211" y="441"/>
                                  </a:lnTo>
                                  <a:lnTo>
                                    <a:pt x="214" y="515"/>
                                  </a:lnTo>
                                  <a:lnTo>
                                    <a:pt x="218" y="536"/>
                                  </a:lnTo>
                                  <a:lnTo>
                                    <a:pt x="220" y="554"/>
                                  </a:lnTo>
                                  <a:lnTo>
                                    <a:pt x="220" y="566"/>
                                  </a:lnTo>
                                  <a:lnTo>
                                    <a:pt x="210" y="579"/>
                                  </a:lnTo>
                                  <a:lnTo>
                                    <a:pt x="196" y="587"/>
                                  </a:lnTo>
                                  <a:lnTo>
                                    <a:pt x="179" y="596"/>
                                  </a:lnTo>
                                  <a:lnTo>
                                    <a:pt x="166" y="607"/>
                                  </a:lnTo>
                                  <a:lnTo>
                                    <a:pt x="163" y="614"/>
                                  </a:lnTo>
                                  <a:lnTo>
                                    <a:pt x="163" y="625"/>
                                  </a:lnTo>
                                  <a:lnTo>
                                    <a:pt x="166" y="633"/>
                                  </a:lnTo>
                                  <a:lnTo>
                                    <a:pt x="169" y="640"/>
                                  </a:lnTo>
                                  <a:lnTo>
                                    <a:pt x="173" y="649"/>
                                  </a:lnTo>
                                  <a:lnTo>
                                    <a:pt x="182" y="660"/>
                                  </a:lnTo>
                                  <a:lnTo>
                                    <a:pt x="190" y="666"/>
                                  </a:lnTo>
                                  <a:lnTo>
                                    <a:pt x="200" y="669"/>
                                  </a:lnTo>
                                  <a:lnTo>
                                    <a:pt x="211" y="672"/>
                                  </a:lnTo>
                                  <a:lnTo>
                                    <a:pt x="225" y="673"/>
                                  </a:lnTo>
                                  <a:lnTo>
                                    <a:pt x="236" y="672"/>
                                  </a:lnTo>
                                  <a:lnTo>
                                    <a:pt x="250" y="668"/>
                                  </a:lnTo>
                                  <a:lnTo>
                                    <a:pt x="261" y="664"/>
                                  </a:lnTo>
                                  <a:lnTo>
                                    <a:pt x="273" y="657"/>
                                  </a:lnTo>
                                  <a:lnTo>
                                    <a:pt x="287" y="648"/>
                                  </a:lnTo>
                                  <a:lnTo>
                                    <a:pt x="296" y="642"/>
                                  </a:lnTo>
                                  <a:lnTo>
                                    <a:pt x="295" y="613"/>
                                  </a:lnTo>
                                  <a:lnTo>
                                    <a:pt x="285" y="514"/>
                                  </a:lnTo>
                                  <a:lnTo>
                                    <a:pt x="253" y="458"/>
                                  </a:lnTo>
                                  <a:lnTo>
                                    <a:pt x="245" y="434"/>
                                  </a:lnTo>
                                  <a:lnTo>
                                    <a:pt x="240" y="411"/>
                                  </a:lnTo>
                                  <a:lnTo>
                                    <a:pt x="246" y="398"/>
                                  </a:lnTo>
                                  <a:lnTo>
                                    <a:pt x="253" y="383"/>
                                  </a:lnTo>
                                  <a:lnTo>
                                    <a:pt x="263" y="373"/>
                                  </a:lnTo>
                                  <a:lnTo>
                                    <a:pt x="278" y="367"/>
                                  </a:lnTo>
                                  <a:lnTo>
                                    <a:pt x="291" y="369"/>
                                  </a:lnTo>
                                  <a:lnTo>
                                    <a:pt x="307" y="373"/>
                                  </a:lnTo>
                                  <a:lnTo>
                                    <a:pt x="323" y="385"/>
                                  </a:lnTo>
                                  <a:lnTo>
                                    <a:pt x="329" y="396"/>
                                  </a:lnTo>
                                  <a:lnTo>
                                    <a:pt x="334" y="413"/>
                                  </a:lnTo>
                                  <a:lnTo>
                                    <a:pt x="335" y="430"/>
                                  </a:lnTo>
                                  <a:lnTo>
                                    <a:pt x="331" y="446"/>
                                  </a:lnTo>
                                  <a:lnTo>
                                    <a:pt x="328" y="460"/>
                                  </a:lnTo>
                                  <a:lnTo>
                                    <a:pt x="328" y="471"/>
                                  </a:lnTo>
                                  <a:lnTo>
                                    <a:pt x="335" y="480"/>
                                  </a:lnTo>
                                  <a:lnTo>
                                    <a:pt x="454" y="559"/>
                                  </a:lnTo>
                                  <a:lnTo>
                                    <a:pt x="499" y="554"/>
                                  </a:lnTo>
                                  <a:lnTo>
                                    <a:pt x="552" y="551"/>
                                  </a:lnTo>
                                  <a:lnTo>
                                    <a:pt x="598" y="539"/>
                                  </a:lnTo>
                                  <a:lnTo>
                                    <a:pt x="617" y="520"/>
                                  </a:lnTo>
                                  <a:lnTo>
                                    <a:pt x="628" y="509"/>
                                  </a:lnTo>
                                  <a:lnTo>
                                    <a:pt x="633" y="492"/>
                                  </a:lnTo>
                                  <a:lnTo>
                                    <a:pt x="637" y="472"/>
                                  </a:lnTo>
                                  <a:lnTo>
                                    <a:pt x="640" y="438"/>
                                  </a:lnTo>
                                  <a:lnTo>
                                    <a:pt x="630" y="416"/>
                                  </a:lnTo>
                                  <a:lnTo>
                                    <a:pt x="625" y="359"/>
                                  </a:lnTo>
                                  <a:lnTo>
                                    <a:pt x="606" y="282"/>
                                  </a:lnTo>
                                  <a:lnTo>
                                    <a:pt x="592" y="222"/>
                                  </a:lnTo>
                                  <a:lnTo>
                                    <a:pt x="563" y="163"/>
                                  </a:lnTo>
                                  <a:lnTo>
                                    <a:pt x="537" y="113"/>
                                  </a:lnTo>
                                  <a:lnTo>
                                    <a:pt x="522" y="88"/>
                                  </a:lnTo>
                                  <a:lnTo>
                                    <a:pt x="500" y="59"/>
                                  </a:lnTo>
                                  <a:lnTo>
                                    <a:pt x="482" y="43"/>
                                  </a:lnTo>
                                  <a:lnTo>
                                    <a:pt x="444" y="24"/>
                                  </a:lnTo>
                                  <a:lnTo>
                                    <a:pt x="412" y="10"/>
                                  </a:lnTo>
                                  <a:lnTo>
                                    <a:pt x="375" y="2"/>
                                  </a:lnTo>
                                  <a:lnTo>
                                    <a:pt x="340" y="0"/>
                                  </a:lnTo>
                                  <a:lnTo>
                                    <a:pt x="30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5f3f1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38" name=""/>
                            <p:cNvSpPr/>
                            <p:nvPr/>
                          </p:nvSpPr>
                          <p:spPr>
                            <a:xfrm>
                              <a:off x="7785360" y="5001480"/>
                              <a:ext cx="15480" cy="9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5" h="37">
                                  <a:moveTo>
                                    <a:pt x="2" y="0"/>
                                  </a:moveTo>
                                  <a:lnTo>
                                    <a:pt x="1" y="7"/>
                                  </a:lnTo>
                                  <a:lnTo>
                                    <a:pt x="0" y="17"/>
                                  </a:lnTo>
                                  <a:lnTo>
                                    <a:pt x="4" y="23"/>
                                  </a:lnTo>
                                  <a:lnTo>
                                    <a:pt x="11" y="28"/>
                                  </a:lnTo>
                                  <a:lnTo>
                                    <a:pt x="23" y="30"/>
                                  </a:lnTo>
                                  <a:lnTo>
                                    <a:pt x="35" y="31"/>
                                  </a:lnTo>
                                  <a:lnTo>
                                    <a:pt x="49" y="35"/>
                                  </a:lnTo>
                                  <a:lnTo>
                                    <a:pt x="55" y="37"/>
                                  </a:lnTo>
                                  <a:lnTo>
                                    <a:pt x="55" y="29"/>
                                  </a:lnTo>
                                  <a:lnTo>
                                    <a:pt x="42" y="18"/>
                                  </a:lnTo>
                                  <a:lnTo>
                                    <a:pt x="32" y="11"/>
                                  </a:lnTo>
                                  <a:lnTo>
                                    <a:pt x="19" y="5"/>
                                  </a:lnTo>
                                  <a:lnTo>
                                    <a:pt x="13" y="3"/>
                                  </a:lnTo>
                                  <a:lnTo>
                                    <a:pt x="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5f3f1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440" bIns="-374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39" name=""/>
                            <p:cNvSpPr/>
                            <p:nvPr/>
                          </p:nvSpPr>
                          <p:spPr>
                            <a:xfrm>
                              <a:off x="7791480" y="5012640"/>
                              <a:ext cx="8640" cy="28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2" h="13">
                                  <a:moveTo>
                                    <a:pt x="18" y="0"/>
                                  </a:moveTo>
                                  <a:lnTo>
                                    <a:pt x="14" y="6"/>
                                  </a:lnTo>
                                  <a:lnTo>
                                    <a:pt x="8" y="8"/>
                                  </a:lnTo>
                                  <a:lnTo>
                                    <a:pt x="0" y="9"/>
                                  </a:lnTo>
                                  <a:lnTo>
                                    <a:pt x="9" y="13"/>
                                  </a:lnTo>
                                  <a:lnTo>
                                    <a:pt x="24" y="13"/>
                                  </a:lnTo>
                                  <a:lnTo>
                                    <a:pt x="32" y="13"/>
                                  </a:lnTo>
                                  <a:lnTo>
                                    <a:pt x="18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5f3f1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920" bIns="-439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40" name=""/>
                            <p:cNvSpPr/>
                            <p:nvPr/>
                          </p:nvSpPr>
                          <p:spPr>
                            <a:xfrm>
                              <a:off x="7799400" y="5041080"/>
                              <a:ext cx="17280" cy="18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0" h="69">
                                  <a:moveTo>
                                    <a:pt x="9" y="1"/>
                                  </a:moveTo>
                                  <a:lnTo>
                                    <a:pt x="3" y="10"/>
                                  </a:lnTo>
                                  <a:lnTo>
                                    <a:pt x="1" y="17"/>
                                  </a:lnTo>
                                  <a:lnTo>
                                    <a:pt x="0" y="26"/>
                                  </a:lnTo>
                                  <a:lnTo>
                                    <a:pt x="0" y="34"/>
                                  </a:lnTo>
                                  <a:lnTo>
                                    <a:pt x="2" y="44"/>
                                  </a:lnTo>
                                  <a:lnTo>
                                    <a:pt x="4" y="53"/>
                                  </a:lnTo>
                                  <a:lnTo>
                                    <a:pt x="9" y="57"/>
                                  </a:lnTo>
                                  <a:lnTo>
                                    <a:pt x="14" y="61"/>
                                  </a:lnTo>
                                  <a:lnTo>
                                    <a:pt x="21" y="61"/>
                                  </a:lnTo>
                                  <a:lnTo>
                                    <a:pt x="30" y="61"/>
                                  </a:lnTo>
                                  <a:lnTo>
                                    <a:pt x="45" y="63"/>
                                  </a:lnTo>
                                  <a:lnTo>
                                    <a:pt x="60" y="69"/>
                                  </a:lnTo>
                                  <a:lnTo>
                                    <a:pt x="60" y="61"/>
                                  </a:lnTo>
                                  <a:lnTo>
                                    <a:pt x="56" y="50"/>
                                  </a:lnTo>
                                  <a:lnTo>
                                    <a:pt x="54" y="39"/>
                                  </a:lnTo>
                                  <a:lnTo>
                                    <a:pt x="47" y="28"/>
                                  </a:lnTo>
                                  <a:lnTo>
                                    <a:pt x="42" y="22"/>
                                  </a:lnTo>
                                  <a:lnTo>
                                    <a:pt x="35" y="15"/>
                                  </a:lnTo>
                                  <a:lnTo>
                                    <a:pt x="29" y="9"/>
                                  </a:lnTo>
                                  <a:lnTo>
                                    <a:pt x="24" y="5"/>
                                  </a:lnTo>
                                  <a:lnTo>
                                    <a:pt x="20" y="0"/>
                                  </a:lnTo>
                                  <a:lnTo>
                                    <a:pt x="9" y="1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5f3f1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8800" bIns="-28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41" name=""/>
                            <p:cNvSpPr/>
                            <p:nvPr/>
                          </p:nvSpPr>
                          <p:spPr>
                            <a:xfrm>
                              <a:off x="7769520" y="4942080"/>
                              <a:ext cx="41760" cy="37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6" h="146">
                                  <a:moveTo>
                                    <a:pt x="146" y="0"/>
                                  </a:moveTo>
                                  <a:lnTo>
                                    <a:pt x="121" y="11"/>
                                  </a:lnTo>
                                  <a:lnTo>
                                    <a:pt x="100" y="14"/>
                                  </a:lnTo>
                                  <a:lnTo>
                                    <a:pt x="79" y="20"/>
                                  </a:lnTo>
                                  <a:lnTo>
                                    <a:pt x="61" y="27"/>
                                  </a:lnTo>
                                  <a:lnTo>
                                    <a:pt x="43" y="35"/>
                                  </a:lnTo>
                                  <a:lnTo>
                                    <a:pt x="28" y="47"/>
                                  </a:lnTo>
                                  <a:lnTo>
                                    <a:pt x="19" y="59"/>
                                  </a:lnTo>
                                  <a:lnTo>
                                    <a:pt x="11" y="70"/>
                                  </a:lnTo>
                                  <a:lnTo>
                                    <a:pt x="5" y="80"/>
                                  </a:lnTo>
                                  <a:lnTo>
                                    <a:pt x="0" y="92"/>
                                  </a:lnTo>
                                  <a:lnTo>
                                    <a:pt x="8" y="84"/>
                                  </a:lnTo>
                                  <a:lnTo>
                                    <a:pt x="8" y="98"/>
                                  </a:lnTo>
                                  <a:lnTo>
                                    <a:pt x="8" y="119"/>
                                  </a:lnTo>
                                  <a:lnTo>
                                    <a:pt x="11" y="131"/>
                                  </a:lnTo>
                                  <a:lnTo>
                                    <a:pt x="19" y="146"/>
                                  </a:lnTo>
                                  <a:lnTo>
                                    <a:pt x="26" y="120"/>
                                  </a:lnTo>
                                  <a:lnTo>
                                    <a:pt x="33" y="95"/>
                                  </a:lnTo>
                                  <a:lnTo>
                                    <a:pt x="43" y="73"/>
                                  </a:lnTo>
                                  <a:lnTo>
                                    <a:pt x="55" y="53"/>
                                  </a:lnTo>
                                  <a:lnTo>
                                    <a:pt x="70" y="40"/>
                                  </a:lnTo>
                                  <a:lnTo>
                                    <a:pt x="83" y="30"/>
                                  </a:lnTo>
                                  <a:lnTo>
                                    <a:pt x="101" y="21"/>
                                  </a:lnTo>
                                  <a:lnTo>
                                    <a:pt x="146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5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9000" bIns="-9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842" name=""/>
                        <p:cNvSpPr/>
                        <p:nvPr/>
                      </p:nvSpPr>
                      <p:spPr>
                        <a:xfrm>
                          <a:off x="7869600" y="5052240"/>
                          <a:ext cx="52200" cy="100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2" h="381">
                              <a:moveTo>
                                <a:pt x="182" y="0"/>
                              </a:moveTo>
                              <a:lnTo>
                                <a:pt x="40" y="247"/>
                              </a:lnTo>
                              <a:lnTo>
                                <a:pt x="0" y="381"/>
                              </a:lnTo>
                              <a:lnTo>
                                <a:pt x="62" y="233"/>
                              </a:lnTo>
                              <a:lnTo>
                                <a:pt x="18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f3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3" name=""/>
                        <p:cNvSpPr/>
                        <p:nvPr/>
                      </p:nvSpPr>
                      <p:spPr>
                        <a:xfrm>
                          <a:off x="7816680" y="5122800"/>
                          <a:ext cx="19800" cy="44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0" h="168">
                              <a:moveTo>
                                <a:pt x="37" y="0"/>
                              </a:moveTo>
                              <a:lnTo>
                                <a:pt x="38" y="129"/>
                              </a:lnTo>
                              <a:lnTo>
                                <a:pt x="70" y="168"/>
                              </a:lnTo>
                              <a:lnTo>
                                <a:pt x="23" y="134"/>
                              </a:lnTo>
                              <a:lnTo>
                                <a:pt x="0" y="154"/>
                              </a:lnTo>
                              <a:lnTo>
                                <a:pt x="15" y="105"/>
                              </a:lnTo>
                              <a:lnTo>
                                <a:pt x="22" y="27"/>
                              </a:lnTo>
                              <a:lnTo>
                                <a:pt x="3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f3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" bIns="-2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44" name=""/>
                      <p:cNvSpPr/>
                      <p:nvPr/>
                    </p:nvSpPr>
                    <p:spPr>
                      <a:xfrm>
                        <a:off x="7794000" y="5185080"/>
                        <a:ext cx="30600" cy="47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181">
                            <a:moveTo>
                              <a:pt x="63" y="0"/>
                            </a:moveTo>
                            <a:lnTo>
                              <a:pt x="103" y="93"/>
                            </a:lnTo>
                            <a:lnTo>
                              <a:pt x="105" y="181"/>
                            </a:lnTo>
                            <a:lnTo>
                              <a:pt x="87" y="82"/>
                            </a:lnTo>
                            <a:lnTo>
                              <a:pt x="62" y="40"/>
                            </a:lnTo>
                            <a:lnTo>
                              <a:pt x="0" y="76"/>
                            </a:lnTo>
                            <a:lnTo>
                              <a:pt x="37" y="45"/>
                            </a:lnTo>
                            <a:lnTo>
                              <a:pt x="63" y="0"/>
                            </a:lnTo>
                            <a:close/>
                          </a:path>
                        </a:pathLst>
                      </a:custGeom>
                      <a:solidFill>
                        <a:srgbClr val="3f3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" bIns="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45" name=""/>
                    <p:cNvSpPr/>
                    <p:nvPr/>
                  </p:nvSpPr>
                  <p:spPr>
                    <a:xfrm>
                      <a:off x="7634880" y="5262120"/>
                      <a:ext cx="216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120">
                          <a:moveTo>
                            <a:pt x="53" y="0"/>
                          </a:moveTo>
                          <a:lnTo>
                            <a:pt x="2" y="98"/>
                          </a:lnTo>
                          <a:lnTo>
                            <a:pt x="0" y="120"/>
                          </a:lnTo>
                          <a:lnTo>
                            <a:pt x="18" y="105"/>
                          </a:lnTo>
                          <a:lnTo>
                            <a:pt x="75" y="6"/>
                          </a:lnTo>
                          <a:lnTo>
                            <a:pt x="66" y="5"/>
                          </a:lnTo>
                          <a:lnTo>
                            <a:pt x="58" y="2"/>
                          </a:lnTo>
                          <a:lnTo>
                            <a:pt x="53" y="0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46" name=""/>
                    <p:cNvGrpSpPr/>
                    <p:nvPr/>
                  </p:nvGrpSpPr>
                  <p:grpSpPr>
                    <a:xfrm>
                      <a:off x="7634160" y="5228640"/>
                      <a:ext cx="81720" cy="61200"/>
                      <a:chOff x="7634160" y="5228640"/>
                      <a:chExt cx="81720" cy="61200"/>
                    </a:xfrm>
                  </p:grpSpPr>
                  <p:grpSp>
                    <p:nvGrpSpPr>
                      <p:cNvPr id="847" name=""/>
                      <p:cNvGrpSpPr/>
                      <p:nvPr/>
                    </p:nvGrpSpPr>
                    <p:grpSpPr>
                      <a:xfrm>
                        <a:off x="7634160" y="5228640"/>
                        <a:ext cx="76320" cy="61200"/>
                        <a:chOff x="7634160" y="5228640"/>
                        <a:chExt cx="76320" cy="61200"/>
                      </a:xfrm>
                    </p:grpSpPr>
                    <p:sp>
                      <p:nvSpPr>
                        <p:cNvPr id="848" name=""/>
                        <p:cNvSpPr/>
                        <p:nvPr/>
                      </p:nvSpPr>
                      <p:spPr>
                        <a:xfrm>
                          <a:off x="7634160" y="5235480"/>
                          <a:ext cx="76320" cy="54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66" h="209">
                              <a:moveTo>
                                <a:pt x="197" y="29"/>
                              </a:moveTo>
                              <a:lnTo>
                                <a:pt x="181" y="32"/>
                              </a:lnTo>
                              <a:lnTo>
                                <a:pt x="168" y="25"/>
                              </a:lnTo>
                              <a:lnTo>
                                <a:pt x="151" y="17"/>
                              </a:lnTo>
                              <a:lnTo>
                                <a:pt x="134" y="11"/>
                              </a:lnTo>
                              <a:lnTo>
                                <a:pt x="107" y="4"/>
                              </a:lnTo>
                              <a:lnTo>
                                <a:pt x="92" y="0"/>
                              </a:lnTo>
                              <a:lnTo>
                                <a:pt x="41" y="12"/>
                              </a:lnTo>
                              <a:lnTo>
                                <a:pt x="33" y="17"/>
                              </a:lnTo>
                              <a:lnTo>
                                <a:pt x="25" y="22"/>
                              </a:lnTo>
                              <a:lnTo>
                                <a:pt x="19" y="31"/>
                              </a:lnTo>
                              <a:lnTo>
                                <a:pt x="14" y="44"/>
                              </a:lnTo>
                              <a:lnTo>
                                <a:pt x="9" y="64"/>
                              </a:lnTo>
                              <a:lnTo>
                                <a:pt x="5" y="90"/>
                              </a:lnTo>
                              <a:lnTo>
                                <a:pt x="3" y="113"/>
                              </a:lnTo>
                              <a:lnTo>
                                <a:pt x="0" y="130"/>
                              </a:lnTo>
                              <a:lnTo>
                                <a:pt x="0" y="140"/>
                              </a:lnTo>
                              <a:lnTo>
                                <a:pt x="3" y="148"/>
                              </a:lnTo>
                              <a:lnTo>
                                <a:pt x="5" y="155"/>
                              </a:lnTo>
                              <a:lnTo>
                                <a:pt x="11" y="165"/>
                              </a:lnTo>
                              <a:lnTo>
                                <a:pt x="34" y="188"/>
                              </a:lnTo>
                              <a:lnTo>
                                <a:pt x="45" y="194"/>
                              </a:lnTo>
                              <a:lnTo>
                                <a:pt x="64" y="204"/>
                              </a:lnTo>
                              <a:lnTo>
                                <a:pt x="76" y="209"/>
                              </a:lnTo>
                              <a:lnTo>
                                <a:pt x="86" y="205"/>
                              </a:lnTo>
                              <a:lnTo>
                                <a:pt x="89" y="198"/>
                              </a:lnTo>
                              <a:lnTo>
                                <a:pt x="99" y="198"/>
                              </a:lnTo>
                              <a:lnTo>
                                <a:pt x="110" y="198"/>
                              </a:lnTo>
                              <a:lnTo>
                                <a:pt x="125" y="201"/>
                              </a:lnTo>
                              <a:lnTo>
                                <a:pt x="134" y="202"/>
                              </a:lnTo>
                              <a:lnTo>
                                <a:pt x="137" y="194"/>
                              </a:lnTo>
                              <a:lnTo>
                                <a:pt x="140" y="188"/>
                              </a:lnTo>
                              <a:lnTo>
                                <a:pt x="148" y="191"/>
                              </a:lnTo>
                              <a:lnTo>
                                <a:pt x="158" y="191"/>
                              </a:lnTo>
                              <a:lnTo>
                                <a:pt x="162" y="185"/>
                              </a:lnTo>
                              <a:lnTo>
                                <a:pt x="165" y="178"/>
                              </a:lnTo>
                              <a:lnTo>
                                <a:pt x="168" y="168"/>
                              </a:lnTo>
                              <a:lnTo>
                                <a:pt x="183" y="170"/>
                              </a:lnTo>
                              <a:lnTo>
                                <a:pt x="198" y="170"/>
                              </a:lnTo>
                              <a:lnTo>
                                <a:pt x="208" y="166"/>
                              </a:lnTo>
                              <a:lnTo>
                                <a:pt x="218" y="161"/>
                              </a:lnTo>
                              <a:lnTo>
                                <a:pt x="225" y="154"/>
                              </a:lnTo>
                              <a:lnTo>
                                <a:pt x="233" y="145"/>
                              </a:lnTo>
                              <a:lnTo>
                                <a:pt x="260" y="139"/>
                              </a:lnTo>
                              <a:lnTo>
                                <a:pt x="265" y="107"/>
                              </a:lnTo>
                              <a:lnTo>
                                <a:pt x="266" y="86"/>
                              </a:lnTo>
                              <a:lnTo>
                                <a:pt x="259" y="62"/>
                              </a:lnTo>
                              <a:lnTo>
                                <a:pt x="250" y="47"/>
                              </a:lnTo>
                              <a:lnTo>
                                <a:pt x="241" y="39"/>
                              </a:lnTo>
                              <a:lnTo>
                                <a:pt x="226" y="31"/>
                              </a:lnTo>
                              <a:lnTo>
                                <a:pt x="208" y="25"/>
                              </a:lnTo>
                              <a:lnTo>
                                <a:pt x="197" y="2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bfb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560" bIns="7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9" name=""/>
                        <p:cNvSpPr/>
                        <p:nvPr/>
                      </p:nvSpPr>
                      <p:spPr>
                        <a:xfrm>
                          <a:off x="7639200" y="5246640"/>
                          <a:ext cx="52920" cy="39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2" h="151">
                              <a:moveTo>
                                <a:pt x="182" y="50"/>
                              </a:moveTo>
                              <a:lnTo>
                                <a:pt x="167" y="60"/>
                              </a:lnTo>
                              <a:lnTo>
                                <a:pt x="154" y="60"/>
                              </a:lnTo>
                              <a:lnTo>
                                <a:pt x="142" y="56"/>
                              </a:lnTo>
                              <a:lnTo>
                                <a:pt x="134" y="51"/>
                              </a:lnTo>
                              <a:lnTo>
                                <a:pt x="127" y="47"/>
                              </a:lnTo>
                              <a:lnTo>
                                <a:pt x="120" y="47"/>
                              </a:lnTo>
                              <a:lnTo>
                                <a:pt x="110" y="53"/>
                              </a:lnTo>
                              <a:lnTo>
                                <a:pt x="95" y="57"/>
                              </a:lnTo>
                              <a:lnTo>
                                <a:pt x="81" y="61"/>
                              </a:lnTo>
                              <a:lnTo>
                                <a:pt x="71" y="62"/>
                              </a:lnTo>
                              <a:lnTo>
                                <a:pt x="59" y="62"/>
                              </a:lnTo>
                              <a:lnTo>
                                <a:pt x="47" y="60"/>
                              </a:lnTo>
                              <a:lnTo>
                                <a:pt x="39" y="56"/>
                              </a:lnTo>
                              <a:lnTo>
                                <a:pt x="36" y="51"/>
                              </a:lnTo>
                              <a:lnTo>
                                <a:pt x="33" y="42"/>
                              </a:lnTo>
                              <a:lnTo>
                                <a:pt x="33" y="35"/>
                              </a:lnTo>
                              <a:lnTo>
                                <a:pt x="37" y="29"/>
                              </a:lnTo>
                              <a:lnTo>
                                <a:pt x="44" y="26"/>
                              </a:lnTo>
                              <a:lnTo>
                                <a:pt x="56" y="23"/>
                              </a:lnTo>
                              <a:lnTo>
                                <a:pt x="71" y="21"/>
                              </a:lnTo>
                              <a:lnTo>
                                <a:pt x="82" y="21"/>
                              </a:lnTo>
                              <a:lnTo>
                                <a:pt x="94" y="14"/>
                              </a:lnTo>
                              <a:lnTo>
                                <a:pt x="106" y="7"/>
                              </a:lnTo>
                              <a:lnTo>
                                <a:pt x="89" y="7"/>
                              </a:lnTo>
                              <a:lnTo>
                                <a:pt x="78" y="1"/>
                              </a:lnTo>
                              <a:lnTo>
                                <a:pt x="65" y="0"/>
                              </a:lnTo>
                              <a:lnTo>
                                <a:pt x="55" y="3"/>
                              </a:lnTo>
                              <a:lnTo>
                                <a:pt x="43" y="10"/>
                              </a:lnTo>
                              <a:lnTo>
                                <a:pt x="38" y="14"/>
                              </a:lnTo>
                              <a:lnTo>
                                <a:pt x="21" y="2"/>
                              </a:lnTo>
                              <a:lnTo>
                                <a:pt x="28" y="10"/>
                              </a:lnTo>
                              <a:lnTo>
                                <a:pt x="31" y="17"/>
                              </a:lnTo>
                              <a:lnTo>
                                <a:pt x="22" y="19"/>
                              </a:lnTo>
                              <a:lnTo>
                                <a:pt x="31" y="21"/>
                              </a:lnTo>
                              <a:lnTo>
                                <a:pt x="23" y="56"/>
                              </a:lnTo>
                              <a:lnTo>
                                <a:pt x="19" y="63"/>
                              </a:lnTo>
                              <a:lnTo>
                                <a:pt x="14" y="68"/>
                              </a:lnTo>
                              <a:lnTo>
                                <a:pt x="0" y="70"/>
                              </a:lnTo>
                              <a:lnTo>
                                <a:pt x="10" y="74"/>
                              </a:lnTo>
                              <a:lnTo>
                                <a:pt x="14" y="83"/>
                              </a:lnTo>
                              <a:lnTo>
                                <a:pt x="6" y="102"/>
                              </a:lnTo>
                              <a:lnTo>
                                <a:pt x="4" y="115"/>
                              </a:lnTo>
                              <a:lnTo>
                                <a:pt x="25" y="94"/>
                              </a:lnTo>
                              <a:lnTo>
                                <a:pt x="36" y="100"/>
                              </a:lnTo>
                              <a:lnTo>
                                <a:pt x="39" y="111"/>
                              </a:lnTo>
                              <a:lnTo>
                                <a:pt x="23" y="120"/>
                              </a:lnTo>
                              <a:lnTo>
                                <a:pt x="42" y="118"/>
                              </a:lnTo>
                              <a:lnTo>
                                <a:pt x="50" y="118"/>
                              </a:lnTo>
                              <a:lnTo>
                                <a:pt x="55" y="123"/>
                              </a:lnTo>
                              <a:lnTo>
                                <a:pt x="61" y="132"/>
                              </a:lnTo>
                              <a:lnTo>
                                <a:pt x="66" y="143"/>
                              </a:lnTo>
                              <a:lnTo>
                                <a:pt x="72" y="151"/>
                              </a:lnTo>
                              <a:lnTo>
                                <a:pt x="72" y="137"/>
                              </a:lnTo>
                              <a:lnTo>
                                <a:pt x="66" y="127"/>
                              </a:lnTo>
                              <a:lnTo>
                                <a:pt x="60" y="118"/>
                              </a:lnTo>
                              <a:lnTo>
                                <a:pt x="65" y="112"/>
                              </a:lnTo>
                              <a:lnTo>
                                <a:pt x="73" y="110"/>
                              </a:lnTo>
                              <a:lnTo>
                                <a:pt x="82" y="111"/>
                              </a:lnTo>
                              <a:lnTo>
                                <a:pt x="95" y="112"/>
                              </a:lnTo>
                              <a:lnTo>
                                <a:pt x="106" y="105"/>
                              </a:lnTo>
                              <a:lnTo>
                                <a:pt x="120" y="102"/>
                              </a:lnTo>
                              <a:lnTo>
                                <a:pt x="131" y="100"/>
                              </a:lnTo>
                              <a:lnTo>
                                <a:pt x="137" y="98"/>
                              </a:lnTo>
                              <a:lnTo>
                                <a:pt x="140" y="95"/>
                              </a:lnTo>
                              <a:lnTo>
                                <a:pt x="150" y="102"/>
                              </a:lnTo>
                              <a:lnTo>
                                <a:pt x="146" y="90"/>
                              </a:lnTo>
                              <a:lnTo>
                                <a:pt x="171" y="105"/>
                              </a:lnTo>
                              <a:lnTo>
                                <a:pt x="167" y="95"/>
                              </a:lnTo>
                              <a:lnTo>
                                <a:pt x="148" y="82"/>
                              </a:lnTo>
                              <a:lnTo>
                                <a:pt x="151" y="73"/>
                              </a:lnTo>
                              <a:lnTo>
                                <a:pt x="159" y="63"/>
                              </a:lnTo>
                              <a:lnTo>
                                <a:pt x="170" y="62"/>
                              </a:lnTo>
                              <a:lnTo>
                                <a:pt x="182" y="5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0" bIns="-7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0" name=""/>
                        <p:cNvSpPr/>
                        <p:nvPr/>
                      </p:nvSpPr>
                      <p:spPr>
                        <a:xfrm>
                          <a:off x="7656480" y="5228640"/>
                          <a:ext cx="18000" cy="23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4" h="90">
                              <a:moveTo>
                                <a:pt x="56" y="0"/>
                              </a:moveTo>
                              <a:lnTo>
                                <a:pt x="43" y="3"/>
                              </a:lnTo>
                              <a:lnTo>
                                <a:pt x="41" y="10"/>
                              </a:lnTo>
                              <a:lnTo>
                                <a:pt x="0" y="90"/>
                              </a:lnTo>
                              <a:lnTo>
                                <a:pt x="21" y="88"/>
                              </a:lnTo>
                              <a:lnTo>
                                <a:pt x="63" y="16"/>
                              </a:lnTo>
                              <a:lnTo>
                                <a:pt x="64" y="4"/>
                              </a:lnTo>
                              <a:lnTo>
                                <a:pt x="5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f3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400" bIns="-23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1" name=""/>
                        <p:cNvSpPr/>
                        <p:nvPr/>
                      </p:nvSpPr>
                      <p:spPr>
                        <a:xfrm>
                          <a:off x="7693200" y="5249160"/>
                          <a:ext cx="12960" cy="21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83">
                              <a:moveTo>
                                <a:pt x="0" y="0"/>
                              </a:moveTo>
                              <a:lnTo>
                                <a:pt x="9" y="12"/>
                              </a:lnTo>
                              <a:lnTo>
                                <a:pt x="14" y="22"/>
                              </a:lnTo>
                              <a:lnTo>
                                <a:pt x="17" y="35"/>
                              </a:lnTo>
                              <a:lnTo>
                                <a:pt x="18" y="48"/>
                              </a:lnTo>
                              <a:lnTo>
                                <a:pt x="17" y="62"/>
                              </a:lnTo>
                              <a:lnTo>
                                <a:pt x="12" y="83"/>
                              </a:lnTo>
                              <a:lnTo>
                                <a:pt x="28" y="45"/>
                              </a:lnTo>
                              <a:lnTo>
                                <a:pt x="38" y="33"/>
                              </a:lnTo>
                              <a:lnTo>
                                <a:pt x="45" y="22"/>
                              </a:lnTo>
                              <a:lnTo>
                                <a:pt x="33" y="18"/>
                              </a:lnTo>
                              <a:lnTo>
                                <a:pt x="21" y="9"/>
                              </a:lnTo>
                              <a:lnTo>
                                <a:pt x="12" y="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560" bIns="-25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2" name=""/>
                        <p:cNvSpPr/>
                        <p:nvPr/>
                      </p:nvSpPr>
                      <p:spPr>
                        <a:xfrm>
                          <a:off x="7663680" y="5230800"/>
                          <a:ext cx="10440" cy="21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8" h="84">
                              <a:moveTo>
                                <a:pt x="36" y="7"/>
                              </a:moveTo>
                              <a:lnTo>
                                <a:pt x="38" y="10"/>
                              </a:lnTo>
                              <a:lnTo>
                                <a:pt x="4" y="84"/>
                              </a:lnTo>
                              <a:lnTo>
                                <a:pt x="0" y="76"/>
                              </a:lnTo>
                              <a:lnTo>
                                <a:pt x="2" y="69"/>
                              </a:lnTo>
                              <a:lnTo>
                                <a:pt x="6" y="63"/>
                              </a:lnTo>
                              <a:lnTo>
                                <a:pt x="12" y="61"/>
                              </a:lnTo>
                              <a:lnTo>
                                <a:pt x="35" y="10"/>
                              </a:lnTo>
                              <a:lnTo>
                                <a:pt x="18" y="2"/>
                              </a:lnTo>
                              <a:lnTo>
                                <a:pt x="18" y="0"/>
                              </a:lnTo>
                              <a:lnTo>
                                <a:pt x="36" y="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840" bIns="-248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53" name=""/>
                      <p:cNvSpPr/>
                      <p:nvPr/>
                    </p:nvSpPr>
                    <p:spPr>
                      <a:xfrm>
                        <a:off x="7686360" y="5240160"/>
                        <a:ext cx="29520" cy="34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2" h="132">
                            <a:moveTo>
                              <a:pt x="0" y="7"/>
                            </a:moveTo>
                            <a:lnTo>
                              <a:pt x="18" y="15"/>
                            </a:lnTo>
                            <a:lnTo>
                              <a:pt x="38" y="26"/>
                            </a:lnTo>
                            <a:lnTo>
                              <a:pt x="47" y="34"/>
                            </a:lnTo>
                            <a:lnTo>
                              <a:pt x="56" y="47"/>
                            </a:lnTo>
                            <a:lnTo>
                              <a:pt x="63" y="58"/>
                            </a:lnTo>
                            <a:lnTo>
                              <a:pt x="68" y="73"/>
                            </a:lnTo>
                            <a:lnTo>
                              <a:pt x="72" y="96"/>
                            </a:lnTo>
                            <a:lnTo>
                              <a:pt x="70" y="117"/>
                            </a:lnTo>
                            <a:lnTo>
                              <a:pt x="66" y="132"/>
                            </a:lnTo>
                            <a:lnTo>
                              <a:pt x="97" y="130"/>
                            </a:lnTo>
                            <a:lnTo>
                              <a:pt x="102" y="105"/>
                            </a:lnTo>
                            <a:lnTo>
                              <a:pt x="102" y="86"/>
                            </a:lnTo>
                            <a:lnTo>
                              <a:pt x="100" y="65"/>
                            </a:lnTo>
                            <a:lnTo>
                              <a:pt x="94" y="49"/>
                            </a:lnTo>
                            <a:lnTo>
                              <a:pt x="81" y="29"/>
                            </a:lnTo>
                            <a:lnTo>
                              <a:pt x="70" y="19"/>
                            </a:lnTo>
                            <a:lnTo>
                              <a:pt x="52" y="9"/>
                            </a:lnTo>
                            <a:lnTo>
                              <a:pt x="31" y="0"/>
                            </a:lnTo>
                            <a:lnTo>
                              <a:pt x="0" y="7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854" name=""/>
                  <p:cNvGrpSpPr/>
                  <p:nvPr/>
                </p:nvGrpSpPr>
                <p:grpSpPr>
                  <a:xfrm>
                    <a:off x="7813080" y="5304960"/>
                    <a:ext cx="292320" cy="113760"/>
                    <a:chOff x="7813080" y="5304960"/>
                    <a:chExt cx="292320" cy="113760"/>
                  </a:xfrm>
                </p:grpSpPr>
                <p:sp>
                  <p:nvSpPr>
                    <p:cNvPr id="855" name=""/>
                    <p:cNvSpPr/>
                    <p:nvPr/>
                  </p:nvSpPr>
                  <p:spPr>
                    <a:xfrm flipV="1">
                      <a:off x="7938360" y="5380560"/>
                      <a:ext cx="125280" cy="37800"/>
                    </a:xfrm>
                    <a:custGeom>
                      <a:avLst/>
                      <a:gdLst>
                        <a:gd name="textAreaLeft" fmla="*/ 23760 w 125280"/>
                        <a:gd name="textAreaRight" fmla="*/ 101520 w 125280"/>
                        <a:gd name="textAreaTop" fmla="*/ 7200 h 37800"/>
                        <a:gd name="textAreaBottom" fmla="*/ 30600 h 378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7326" y="21600"/>
                          </a:lnTo>
                          <a:lnTo>
                            <a:pt x="4274" y="216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400" bIns="-23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6" name=""/>
                    <p:cNvSpPr/>
                    <p:nvPr/>
                  </p:nvSpPr>
                  <p:spPr>
                    <a:xfrm flipV="1">
                      <a:off x="7980120" y="5342400"/>
                      <a:ext cx="125280" cy="37800"/>
                    </a:xfrm>
                    <a:custGeom>
                      <a:avLst/>
                      <a:gdLst>
                        <a:gd name="textAreaLeft" fmla="*/ 23760 w 125280"/>
                        <a:gd name="textAreaRight" fmla="*/ 101520 w 125280"/>
                        <a:gd name="textAreaTop" fmla="*/ 7200 h 37800"/>
                        <a:gd name="textAreaBottom" fmla="*/ 30600 h 378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7326" y="21600"/>
                          </a:lnTo>
                          <a:lnTo>
                            <a:pt x="4274" y="216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400" bIns="-23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7" name=""/>
                    <p:cNvSpPr/>
                    <p:nvPr/>
                  </p:nvSpPr>
                  <p:spPr>
                    <a:xfrm flipV="1">
                      <a:off x="7896600" y="5304600"/>
                      <a:ext cx="125280" cy="37800"/>
                    </a:xfrm>
                    <a:custGeom>
                      <a:avLst/>
                      <a:gdLst>
                        <a:gd name="textAreaLeft" fmla="*/ 23760 w 125280"/>
                        <a:gd name="textAreaRight" fmla="*/ 101520 w 125280"/>
                        <a:gd name="textAreaTop" fmla="*/ 7200 h 37800"/>
                        <a:gd name="textAreaBottom" fmla="*/ 30600 h 378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7326" y="21600"/>
                          </a:lnTo>
                          <a:lnTo>
                            <a:pt x="4274" y="216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400" bIns="-23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8" name=""/>
                    <p:cNvSpPr/>
                    <p:nvPr/>
                  </p:nvSpPr>
                  <p:spPr>
                    <a:xfrm flipV="1">
                      <a:off x="7813080" y="5342400"/>
                      <a:ext cx="125280" cy="37800"/>
                    </a:xfrm>
                    <a:custGeom>
                      <a:avLst/>
                      <a:gdLst>
                        <a:gd name="textAreaLeft" fmla="*/ 23760 w 125280"/>
                        <a:gd name="textAreaRight" fmla="*/ 101520 w 125280"/>
                        <a:gd name="textAreaTop" fmla="*/ 7200 h 37800"/>
                        <a:gd name="textAreaBottom" fmla="*/ 30600 h 378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7326" y="21600"/>
                          </a:lnTo>
                          <a:lnTo>
                            <a:pt x="4274" y="216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400" bIns="-23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859" name=""/>
              <p:cNvSpPr/>
              <p:nvPr/>
            </p:nvSpPr>
            <p:spPr>
              <a:xfrm flipH="1" rot="19114200">
                <a:off x="7999920" y="4648320"/>
                <a:ext cx="860400" cy="355320"/>
              </a:xfrm>
              <a:prstGeom prst="rightArrow">
                <a:avLst>
                  <a:gd name="adj1" fmla="val 50000"/>
                  <a:gd name="adj2" fmla="val 60537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0" name=""/>
          <p:cNvGrpSpPr/>
          <p:nvPr/>
        </p:nvGrpSpPr>
        <p:grpSpPr>
          <a:xfrm>
            <a:off x="2003400" y="2057400"/>
            <a:ext cx="3962520" cy="1681200"/>
            <a:chOff x="2003400" y="2057400"/>
            <a:chExt cx="3962520" cy="1681200"/>
          </a:xfrm>
        </p:grpSpPr>
        <p:grpSp>
          <p:nvGrpSpPr>
            <p:cNvPr id="861" name=""/>
            <p:cNvGrpSpPr/>
            <p:nvPr/>
          </p:nvGrpSpPr>
          <p:grpSpPr>
            <a:xfrm>
              <a:off x="3767040" y="2820960"/>
              <a:ext cx="1589040" cy="917640"/>
              <a:chOff x="3767040" y="2820960"/>
              <a:chExt cx="1589040" cy="917640"/>
            </a:xfrm>
          </p:grpSpPr>
          <p:sp>
            <p:nvSpPr>
              <p:cNvPr id="862" name=""/>
              <p:cNvSpPr/>
              <p:nvPr/>
            </p:nvSpPr>
            <p:spPr>
              <a:xfrm>
                <a:off x="3767040" y="2820960"/>
                <a:ext cx="1589040" cy="917640"/>
              </a:xfrm>
              <a:prstGeom prst="ellipse">
                <a:avLst/>
              </a:prstGeom>
              <a:solidFill>
                <a:srgbClr val="d6d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3" name=""/>
              <p:cNvGrpSpPr/>
              <p:nvPr/>
            </p:nvGrpSpPr>
            <p:grpSpPr>
              <a:xfrm>
                <a:off x="4363560" y="3045240"/>
                <a:ext cx="393840" cy="336240"/>
                <a:chOff x="4363560" y="3045240"/>
                <a:chExt cx="393840" cy="336240"/>
              </a:xfrm>
            </p:grpSpPr>
            <p:grpSp>
              <p:nvGrpSpPr>
                <p:cNvPr id="864" name=""/>
                <p:cNvGrpSpPr/>
                <p:nvPr/>
              </p:nvGrpSpPr>
              <p:grpSpPr>
                <a:xfrm>
                  <a:off x="4363560" y="3147480"/>
                  <a:ext cx="393840" cy="234000"/>
                  <a:chOff x="4363560" y="3147480"/>
                  <a:chExt cx="393840" cy="234000"/>
                </a:xfrm>
              </p:grpSpPr>
              <p:grpSp>
                <p:nvGrpSpPr>
                  <p:cNvPr id="865" name=""/>
                  <p:cNvGrpSpPr/>
                  <p:nvPr/>
                </p:nvGrpSpPr>
                <p:grpSpPr>
                  <a:xfrm>
                    <a:off x="4477320" y="3157920"/>
                    <a:ext cx="149400" cy="218880"/>
                    <a:chOff x="4477320" y="3157920"/>
                    <a:chExt cx="149400" cy="218880"/>
                  </a:xfrm>
                </p:grpSpPr>
                <p:sp>
                  <p:nvSpPr>
                    <p:cNvPr id="866" name=""/>
                    <p:cNvSpPr/>
                    <p:nvPr/>
                  </p:nvSpPr>
                  <p:spPr>
                    <a:xfrm>
                      <a:off x="4477320" y="3157920"/>
                      <a:ext cx="149400" cy="21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6" h="828">
                          <a:moveTo>
                            <a:pt x="160" y="0"/>
                          </a:moveTo>
                          <a:lnTo>
                            <a:pt x="304" y="109"/>
                          </a:lnTo>
                          <a:lnTo>
                            <a:pt x="421" y="18"/>
                          </a:lnTo>
                          <a:lnTo>
                            <a:pt x="450" y="416"/>
                          </a:lnTo>
                          <a:lnTo>
                            <a:pt x="483" y="648"/>
                          </a:lnTo>
                          <a:lnTo>
                            <a:pt x="516" y="828"/>
                          </a:lnTo>
                          <a:lnTo>
                            <a:pt x="0" y="828"/>
                          </a:lnTo>
                          <a:lnTo>
                            <a:pt x="73" y="603"/>
                          </a:lnTo>
                          <a:lnTo>
                            <a:pt x="120" y="321"/>
                          </a:lnTo>
                          <a:lnTo>
                            <a:pt x="160" y="0"/>
                          </a:lnTo>
                          <a:close/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7" name=""/>
                    <p:cNvSpPr/>
                    <p:nvPr/>
                  </p:nvSpPr>
                  <p:spPr>
                    <a:xfrm>
                      <a:off x="4570200" y="3174480"/>
                      <a:ext cx="3564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50">
                          <a:moveTo>
                            <a:pt x="0" y="55"/>
                          </a:moveTo>
                          <a:lnTo>
                            <a:pt x="17" y="72"/>
                          </a:lnTo>
                          <a:lnTo>
                            <a:pt x="27" y="83"/>
                          </a:lnTo>
                          <a:lnTo>
                            <a:pt x="33" y="97"/>
                          </a:lnTo>
                          <a:lnTo>
                            <a:pt x="38" y="118"/>
                          </a:lnTo>
                          <a:lnTo>
                            <a:pt x="40" y="141"/>
                          </a:lnTo>
                          <a:lnTo>
                            <a:pt x="52" y="150"/>
                          </a:lnTo>
                          <a:lnTo>
                            <a:pt x="123" y="63"/>
                          </a:lnTo>
                          <a:lnTo>
                            <a:pt x="89" y="0"/>
                          </a:lnTo>
                          <a:lnTo>
                            <a:pt x="0" y="5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8" name=""/>
                    <p:cNvSpPr/>
                    <p:nvPr/>
                  </p:nvSpPr>
                  <p:spPr>
                    <a:xfrm>
                      <a:off x="4518720" y="3160080"/>
                      <a:ext cx="3024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209">
                          <a:moveTo>
                            <a:pt x="106" y="97"/>
                          </a:moveTo>
                          <a:lnTo>
                            <a:pt x="97" y="107"/>
                          </a:lnTo>
                          <a:lnTo>
                            <a:pt x="88" y="136"/>
                          </a:lnTo>
                          <a:lnTo>
                            <a:pt x="73" y="171"/>
                          </a:lnTo>
                          <a:lnTo>
                            <a:pt x="59" y="209"/>
                          </a:lnTo>
                          <a:lnTo>
                            <a:pt x="26" y="145"/>
                          </a:lnTo>
                          <a:lnTo>
                            <a:pt x="7" y="81"/>
                          </a:lnTo>
                          <a:lnTo>
                            <a:pt x="0" y="19"/>
                          </a:lnTo>
                          <a:lnTo>
                            <a:pt x="0" y="0"/>
                          </a:lnTo>
                          <a:lnTo>
                            <a:pt x="26" y="0"/>
                          </a:lnTo>
                          <a:lnTo>
                            <a:pt x="106" y="97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69" name=""/>
                    <p:cNvGrpSpPr/>
                    <p:nvPr/>
                  </p:nvGrpSpPr>
                  <p:grpSpPr>
                    <a:xfrm>
                      <a:off x="4508280" y="3249720"/>
                      <a:ext cx="98280" cy="114120"/>
                      <a:chOff x="4508280" y="3249720"/>
                      <a:chExt cx="98280" cy="114120"/>
                    </a:xfrm>
                  </p:grpSpPr>
                  <p:sp>
                    <p:nvSpPr>
                      <p:cNvPr id="870" name=""/>
                      <p:cNvSpPr/>
                      <p:nvPr/>
                    </p:nvSpPr>
                    <p:spPr>
                      <a:xfrm>
                        <a:off x="4519440" y="3249720"/>
                        <a:ext cx="72720" cy="63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4" h="241">
                            <a:moveTo>
                              <a:pt x="254" y="0"/>
                            </a:moveTo>
                            <a:lnTo>
                              <a:pt x="220" y="4"/>
                            </a:lnTo>
                            <a:lnTo>
                              <a:pt x="191" y="12"/>
                            </a:lnTo>
                            <a:lnTo>
                              <a:pt x="138" y="36"/>
                            </a:lnTo>
                            <a:lnTo>
                              <a:pt x="81" y="82"/>
                            </a:lnTo>
                            <a:lnTo>
                              <a:pt x="58" y="103"/>
                            </a:lnTo>
                            <a:lnTo>
                              <a:pt x="43" y="132"/>
                            </a:lnTo>
                            <a:lnTo>
                              <a:pt x="23" y="159"/>
                            </a:lnTo>
                            <a:lnTo>
                              <a:pt x="12" y="177"/>
                            </a:lnTo>
                            <a:lnTo>
                              <a:pt x="4" y="208"/>
                            </a:lnTo>
                            <a:lnTo>
                              <a:pt x="0" y="230"/>
                            </a:lnTo>
                            <a:lnTo>
                              <a:pt x="4" y="241"/>
                            </a:lnTo>
                            <a:lnTo>
                              <a:pt x="14" y="241"/>
                            </a:lnTo>
                            <a:lnTo>
                              <a:pt x="19" y="227"/>
                            </a:lnTo>
                            <a:lnTo>
                              <a:pt x="40" y="202"/>
                            </a:lnTo>
                            <a:lnTo>
                              <a:pt x="54" y="163"/>
                            </a:lnTo>
                            <a:lnTo>
                              <a:pt x="66" y="142"/>
                            </a:lnTo>
                            <a:lnTo>
                              <a:pt x="87" y="108"/>
                            </a:lnTo>
                            <a:lnTo>
                              <a:pt x="116" y="70"/>
                            </a:lnTo>
                            <a:lnTo>
                              <a:pt x="174" y="33"/>
                            </a:lnTo>
                            <a:lnTo>
                              <a:pt x="209" y="15"/>
                            </a:lnTo>
                            <a:lnTo>
                              <a:pt x="254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1" name=""/>
                      <p:cNvSpPr/>
                      <p:nvPr/>
                    </p:nvSpPr>
                    <p:spPr>
                      <a:xfrm>
                        <a:off x="4508280" y="3279960"/>
                        <a:ext cx="98280" cy="83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8" h="320">
                            <a:moveTo>
                              <a:pt x="335" y="0"/>
                            </a:moveTo>
                            <a:lnTo>
                              <a:pt x="291" y="46"/>
                            </a:lnTo>
                            <a:lnTo>
                              <a:pt x="264" y="60"/>
                            </a:lnTo>
                            <a:lnTo>
                              <a:pt x="242" y="67"/>
                            </a:lnTo>
                            <a:lnTo>
                              <a:pt x="214" y="85"/>
                            </a:lnTo>
                            <a:lnTo>
                              <a:pt x="117" y="149"/>
                            </a:lnTo>
                            <a:lnTo>
                              <a:pt x="96" y="170"/>
                            </a:lnTo>
                            <a:lnTo>
                              <a:pt x="66" y="191"/>
                            </a:lnTo>
                            <a:lnTo>
                              <a:pt x="44" y="205"/>
                            </a:lnTo>
                            <a:lnTo>
                              <a:pt x="22" y="219"/>
                            </a:lnTo>
                            <a:lnTo>
                              <a:pt x="4" y="232"/>
                            </a:lnTo>
                            <a:lnTo>
                              <a:pt x="0" y="243"/>
                            </a:lnTo>
                            <a:lnTo>
                              <a:pt x="1" y="253"/>
                            </a:lnTo>
                            <a:lnTo>
                              <a:pt x="12" y="253"/>
                            </a:lnTo>
                            <a:lnTo>
                              <a:pt x="30" y="243"/>
                            </a:lnTo>
                            <a:lnTo>
                              <a:pt x="51" y="230"/>
                            </a:lnTo>
                            <a:lnTo>
                              <a:pt x="69" y="218"/>
                            </a:lnTo>
                            <a:lnTo>
                              <a:pt x="67" y="237"/>
                            </a:lnTo>
                            <a:lnTo>
                              <a:pt x="52" y="258"/>
                            </a:lnTo>
                            <a:lnTo>
                              <a:pt x="40" y="267"/>
                            </a:lnTo>
                            <a:lnTo>
                              <a:pt x="37" y="276"/>
                            </a:lnTo>
                            <a:lnTo>
                              <a:pt x="22" y="289"/>
                            </a:lnTo>
                            <a:lnTo>
                              <a:pt x="9" y="306"/>
                            </a:lnTo>
                            <a:lnTo>
                              <a:pt x="11" y="320"/>
                            </a:lnTo>
                            <a:lnTo>
                              <a:pt x="51" y="317"/>
                            </a:lnTo>
                            <a:lnTo>
                              <a:pt x="62" y="293"/>
                            </a:lnTo>
                            <a:lnTo>
                              <a:pt x="88" y="269"/>
                            </a:lnTo>
                            <a:lnTo>
                              <a:pt x="84" y="251"/>
                            </a:lnTo>
                            <a:lnTo>
                              <a:pt x="117" y="225"/>
                            </a:lnTo>
                            <a:lnTo>
                              <a:pt x="297" y="105"/>
                            </a:lnTo>
                            <a:lnTo>
                              <a:pt x="265" y="102"/>
                            </a:lnTo>
                            <a:lnTo>
                              <a:pt x="254" y="78"/>
                            </a:lnTo>
                            <a:lnTo>
                              <a:pt x="282" y="70"/>
                            </a:lnTo>
                            <a:lnTo>
                              <a:pt x="291" y="63"/>
                            </a:lnTo>
                            <a:lnTo>
                              <a:pt x="301" y="63"/>
                            </a:lnTo>
                            <a:lnTo>
                              <a:pt x="338" y="15"/>
                            </a:lnTo>
                            <a:lnTo>
                              <a:pt x="335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080" bIns="37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72" name=""/>
                    <p:cNvSpPr/>
                    <p:nvPr/>
                  </p:nvSpPr>
                  <p:spPr>
                    <a:xfrm>
                      <a:off x="4541400" y="3186360"/>
                      <a:ext cx="45000" cy="17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673">
                          <a:moveTo>
                            <a:pt x="26" y="0"/>
                          </a:moveTo>
                          <a:lnTo>
                            <a:pt x="44" y="18"/>
                          </a:lnTo>
                          <a:lnTo>
                            <a:pt x="60" y="25"/>
                          </a:lnTo>
                          <a:lnTo>
                            <a:pt x="85" y="23"/>
                          </a:lnTo>
                          <a:lnTo>
                            <a:pt x="105" y="16"/>
                          </a:lnTo>
                          <a:lnTo>
                            <a:pt x="112" y="30"/>
                          </a:lnTo>
                          <a:lnTo>
                            <a:pt x="112" y="47"/>
                          </a:lnTo>
                          <a:lnTo>
                            <a:pt x="107" y="60"/>
                          </a:lnTo>
                          <a:lnTo>
                            <a:pt x="100" y="67"/>
                          </a:lnTo>
                          <a:lnTo>
                            <a:pt x="83" y="82"/>
                          </a:lnTo>
                          <a:lnTo>
                            <a:pt x="112" y="118"/>
                          </a:lnTo>
                          <a:lnTo>
                            <a:pt x="126" y="141"/>
                          </a:lnTo>
                          <a:lnTo>
                            <a:pt x="133" y="163"/>
                          </a:lnTo>
                          <a:lnTo>
                            <a:pt x="137" y="215"/>
                          </a:lnTo>
                          <a:lnTo>
                            <a:pt x="149" y="332"/>
                          </a:lnTo>
                          <a:lnTo>
                            <a:pt x="155" y="399"/>
                          </a:lnTo>
                          <a:lnTo>
                            <a:pt x="155" y="480"/>
                          </a:lnTo>
                          <a:lnTo>
                            <a:pt x="152" y="571"/>
                          </a:lnTo>
                          <a:lnTo>
                            <a:pt x="150" y="673"/>
                          </a:lnTo>
                          <a:lnTo>
                            <a:pt x="4" y="672"/>
                          </a:lnTo>
                          <a:lnTo>
                            <a:pt x="0" y="569"/>
                          </a:lnTo>
                          <a:lnTo>
                            <a:pt x="4" y="509"/>
                          </a:lnTo>
                          <a:lnTo>
                            <a:pt x="9" y="435"/>
                          </a:lnTo>
                          <a:lnTo>
                            <a:pt x="9" y="310"/>
                          </a:lnTo>
                          <a:lnTo>
                            <a:pt x="9" y="269"/>
                          </a:lnTo>
                          <a:lnTo>
                            <a:pt x="12" y="170"/>
                          </a:lnTo>
                          <a:lnTo>
                            <a:pt x="20" y="139"/>
                          </a:lnTo>
                          <a:lnTo>
                            <a:pt x="37" y="85"/>
                          </a:lnTo>
                          <a:lnTo>
                            <a:pt x="16" y="58"/>
                          </a:lnTo>
                          <a:lnTo>
                            <a:pt x="8" y="44"/>
                          </a:lnTo>
                          <a:lnTo>
                            <a:pt x="26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3" name=""/>
                  <p:cNvGrpSpPr/>
                  <p:nvPr/>
                </p:nvGrpSpPr>
                <p:grpSpPr>
                  <a:xfrm>
                    <a:off x="4363560" y="3147480"/>
                    <a:ext cx="393840" cy="234000"/>
                    <a:chOff x="4363560" y="3147480"/>
                    <a:chExt cx="393840" cy="234000"/>
                  </a:xfrm>
                </p:grpSpPr>
                <p:grpSp>
                  <p:nvGrpSpPr>
                    <p:cNvPr id="874" name=""/>
                    <p:cNvGrpSpPr/>
                    <p:nvPr/>
                  </p:nvGrpSpPr>
                  <p:grpSpPr>
                    <a:xfrm>
                      <a:off x="4363560" y="3152880"/>
                      <a:ext cx="166680" cy="228600"/>
                      <a:chOff x="4363560" y="3152880"/>
                      <a:chExt cx="166680" cy="228600"/>
                    </a:xfrm>
                  </p:grpSpPr>
                  <p:sp>
                    <p:nvSpPr>
                      <p:cNvPr id="875" name=""/>
                      <p:cNvSpPr/>
                      <p:nvPr/>
                    </p:nvSpPr>
                    <p:spPr>
                      <a:xfrm>
                        <a:off x="4363560" y="3156120"/>
                        <a:ext cx="165240" cy="22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0" h="852">
                            <a:moveTo>
                              <a:pt x="505" y="0"/>
                            </a:moveTo>
                            <a:lnTo>
                              <a:pt x="485" y="27"/>
                            </a:lnTo>
                            <a:lnTo>
                              <a:pt x="430" y="45"/>
                            </a:lnTo>
                            <a:lnTo>
                              <a:pt x="385" y="56"/>
                            </a:lnTo>
                            <a:lnTo>
                              <a:pt x="346" y="60"/>
                            </a:lnTo>
                            <a:lnTo>
                              <a:pt x="277" y="71"/>
                            </a:lnTo>
                            <a:lnTo>
                              <a:pt x="252" y="80"/>
                            </a:lnTo>
                            <a:lnTo>
                              <a:pt x="244" y="85"/>
                            </a:lnTo>
                            <a:lnTo>
                              <a:pt x="238" y="92"/>
                            </a:lnTo>
                            <a:lnTo>
                              <a:pt x="219" y="177"/>
                            </a:lnTo>
                            <a:lnTo>
                              <a:pt x="207" y="221"/>
                            </a:lnTo>
                            <a:lnTo>
                              <a:pt x="193" y="267"/>
                            </a:lnTo>
                            <a:lnTo>
                              <a:pt x="185" y="292"/>
                            </a:lnTo>
                            <a:lnTo>
                              <a:pt x="179" y="295"/>
                            </a:lnTo>
                            <a:lnTo>
                              <a:pt x="166" y="303"/>
                            </a:lnTo>
                            <a:lnTo>
                              <a:pt x="162" y="315"/>
                            </a:lnTo>
                            <a:lnTo>
                              <a:pt x="152" y="334"/>
                            </a:lnTo>
                            <a:lnTo>
                              <a:pt x="120" y="417"/>
                            </a:lnTo>
                            <a:lnTo>
                              <a:pt x="115" y="449"/>
                            </a:lnTo>
                            <a:lnTo>
                              <a:pt x="106" y="469"/>
                            </a:lnTo>
                            <a:lnTo>
                              <a:pt x="66" y="510"/>
                            </a:lnTo>
                            <a:lnTo>
                              <a:pt x="57" y="530"/>
                            </a:lnTo>
                            <a:lnTo>
                              <a:pt x="47" y="548"/>
                            </a:lnTo>
                            <a:lnTo>
                              <a:pt x="38" y="563"/>
                            </a:lnTo>
                            <a:lnTo>
                              <a:pt x="29" y="580"/>
                            </a:lnTo>
                            <a:lnTo>
                              <a:pt x="17" y="613"/>
                            </a:lnTo>
                            <a:lnTo>
                              <a:pt x="5" y="642"/>
                            </a:lnTo>
                            <a:lnTo>
                              <a:pt x="0" y="659"/>
                            </a:lnTo>
                            <a:lnTo>
                              <a:pt x="3" y="680"/>
                            </a:lnTo>
                            <a:lnTo>
                              <a:pt x="4" y="699"/>
                            </a:lnTo>
                            <a:lnTo>
                              <a:pt x="10" y="723"/>
                            </a:lnTo>
                            <a:lnTo>
                              <a:pt x="20" y="740"/>
                            </a:lnTo>
                            <a:lnTo>
                              <a:pt x="27" y="758"/>
                            </a:lnTo>
                            <a:lnTo>
                              <a:pt x="49" y="777"/>
                            </a:lnTo>
                            <a:lnTo>
                              <a:pt x="233" y="781"/>
                            </a:lnTo>
                            <a:lnTo>
                              <a:pt x="273" y="673"/>
                            </a:lnTo>
                            <a:lnTo>
                              <a:pt x="306" y="622"/>
                            </a:lnTo>
                            <a:lnTo>
                              <a:pt x="325" y="548"/>
                            </a:lnTo>
                            <a:lnTo>
                              <a:pt x="295" y="693"/>
                            </a:lnTo>
                            <a:lnTo>
                              <a:pt x="283" y="744"/>
                            </a:lnTo>
                            <a:lnTo>
                              <a:pt x="272" y="800"/>
                            </a:lnTo>
                            <a:lnTo>
                              <a:pt x="251" y="852"/>
                            </a:lnTo>
                            <a:lnTo>
                              <a:pt x="393" y="852"/>
                            </a:lnTo>
                            <a:lnTo>
                              <a:pt x="441" y="771"/>
                            </a:lnTo>
                            <a:lnTo>
                              <a:pt x="468" y="731"/>
                            </a:lnTo>
                            <a:lnTo>
                              <a:pt x="490" y="683"/>
                            </a:lnTo>
                            <a:lnTo>
                              <a:pt x="515" y="622"/>
                            </a:lnTo>
                            <a:lnTo>
                              <a:pt x="526" y="563"/>
                            </a:lnTo>
                            <a:lnTo>
                              <a:pt x="538" y="511"/>
                            </a:lnTo>
                            <a:lnTo>
                              <a:pt x="552" y="452"/>
                            </a:lnTo>
                            <a:lnTo>
                              <a:pt x="561" y="395"/>
                            </a:lnTo>
                            <a:lnTo>
                              <a:pt x="570" y="329"/>
                            </a:lnTo>
                            <a:lnTo>
                              <a:pt x="570" y="285"/>
                            </a:lnTo>
                            <a:lnTo>
                              <a:pt x="570" y="242"/>
                            </a:lnTo>
                            <a:lnTo>
                              <a:pt x="570" y="181"/>
                            </a:lnTo>
                            <a:lnTo>
                              <a:pt x="570" y="144"/>
                            </a:lnTo>
                            <a:lnTo>
                              <a:pt x="550" y="16"/>
                            </a:lnTo>
                            <a:lnTo>
                              <a:pt x="505" y="0"/>
                            </a:lnTo>
                            <a:close/>
                          </a:path>
                        </a:pathLst>
                      </a:custGeom>
                      <a:solidFill>
                        <a:srgbClr val="7f7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6" name=""/>
                      <p:cNvSpPr/>
                      <p:nvPr/>
                    </p:nvSpPr>
                    <p:spPr>
                      <a:xfrm>
                        <a:off x="4404240" y="3261600"/>
                        <a:ext cx="70200" cy="54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2" h="202">
                            <a:moveTo>
                              <a:pt x="81" y="0"/>
                            </a:moveTo>
                            <a:lnTo>
                              <a:pt x="107" y="7"/>
                            </a:lnTo>
                            <a:lnTo>
                              <a:pt x="125" y="12"/>
                            </a:lnTo>
                            <a:lnTo>
                              <a:pt x="136" y="21"/>
                            </a:lnTo>
                            <a:lnTo>
                              <a:pt x="149" y="28"/>
                            </a:lnTo>
                            <a:lnTo>
                              <a:pt x="160" y="35"/>
                            </a:lnTo>
                            <a:lnTo>
                              <a:pt x="173" y="43"/>
                            </a:lnTo>
                            <a:lnTo>
                              <a:pt x="190" y="19"/>
                            </a:lnTo>
                            <a:lnTo>
                              <a:pt x="191" y="50"/>
                            </a:lnTo>
                            <a:lnTo>
                              <a:pt x="197" y="71"/>
                            </a:lnTo>
                            <a:lnTo>
                              <a:pt x="216" y="53"/>
                            </a:lnTo>
                            <a:lnTo>
                              <a:pt x="231" y="36"/>
                            </a:lnTo>
                            <a:lnTo>
                              <a:pt x="242" y="24"/>
                            </a:lnTo>
                            <a:lnTo>
                              <a:pt x="242" y="49"/>
                            </a:lnTo>
                            <a:lnTo>
                              <a:pt x="231" y="77"/>
                            </a:lnTo>
                            <a:lnTo>
                              <a:pt x="220" y="102"/>
                            </a:lnTo>
                            <a:lnTo>
                              <a:pt x="204" y="117"/>
                            </a:lnTo>
                            <a:lnTo>
                              <a:pt x="194" y="128"/>
                            </a:lnTo>
                            <a:lnTo>
                              <a:pt x="180" y="128"/>
                            </a:lnTo>
                            <a:lnTo>
                              <a:pt x="158" y="201"/>
                            </a:lnTo>
                            <a:lnTo>
                              <a:pt x="135" y="202"/>
                            </a:lnTo>
                            <a:lnTo>
                              <a:pt x="113" y="195"/>
                            </a:lnTo>
                            <a:lnTo>
                              <a:pt x="96" y="187"/>
                            </a:lnTo>
                            <a:lnTo>
                              <a:pt x="118" y="176"/>
                            </a:lnTo>
                            <a:lnTo>
                              <a:pt x="124" y="172"/>
                            </a:lnTo>
                            <a:lnTo>
                              <a:pt x="76" y="128"/>
                            </a:lnTo>
                            <a:lnTo>
                              <a:pt x="51" y="123"/>
                            </a:lnTo>
                            <a:lnTo>
                              <a:pt x="15" y="124"/>
                            </a:lnTo>
                            <a:lnTo>
                              <a:pt x="8" y="124"/>
                            </a:lnTo>
                            <a:lnTo>
                              <a:pt x="0" y="116"/>
                            </a:lnTo>
                            <a:lnTo>
                              <a:pt x="0" y="102"/>
                            </a:lnTo>
                            <a:lnTo>
                              <a:pt x="47" y="102"/>
                            </a:lnTo>
                            <a:lnTo>
                              <a:pt x="62" y="103"/>
                            </a:lnTo>
                            <a:lnTo>
                              <a:pt x="58" y="107"/>
                            </a:lnTo>
                            <a:lnTo>
                              <a:pt x="80" y="121"/>
                            </a:lnTo>
                            <a:lnTo>
                              <a:pt x="106" y="142"/>
                            </a:lnTo>
                            <a:lnTo>
                              <a:pt x="124" y="156"/>
                            </a:lnTo>
                            <a:lnTo>
                              <a:pt x="143" y="124"/>
                            </a:lnTo>
                            <a:lnTo>
                              <a:pt x="143" y="114"/>
                            </a:lnTo>
                            <a:lnTo>
                              <a:pt x="140" y="86"/>
                            </a:lnTo>
                            <a:lnTo>
                              <a:pt x="158" y="91"/>
                            </a:lnTo>
                            <a:lnTo>
                              <a:pt x="168" y="81"/>
                            </a:lnTo>
                            <a:lnTo>
                              <a:pt x="153" y="67"/>
                            </a:lnTo>
                            <a:lnTo>
                              <a:pt x="138" y="53"/>
                            </a:lnTo>
                            <a:lnTo>
                              <a:pt x="114" y="36"/>
                            </a:lnTo>
                            <a:lnTo>
                              <a:pt x="102" y="17"/>
                            </a:lnTo>
                            <a:lnTo>
                              <a:pt x="81" y="0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7" name=""/>
                      <p:cNvSpPr/>
                      <p:nvPr/>
                    </p:nvSpPr>
                    <p:spPr>
                      <a:xfrm>
                        <a:off x="4427640" y="3187080"/>
                        <a:ext cx="32040" cy="71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271">
                            <a:moveTo>
                              <a:pt x="37" y="0"/>
                            </a:moveTo>
                            <a:lnTo>
                              <a:pt x="81" y="83"/>
                            </a:lnTo>
                            <a:lnTo>
                              <a:pt x="94" y="126"/>
                            </a:lnTo>
                            <a:lnTo>
                              <a:pt x="105" y="169"/>
                            </a:lnTo>
                            <a:lnTo>
                              <a:pt x="109" y="204"/>
                            </a:lnTo>
                            <a:lnTo>
                              <a:pt x="109" y="271"/>
                            </a:lnTo>
                            <a:lnTo>
                              <a:pt x="101" y="249"/>
                            </a:lnTo>
                            <a:lnTo>
                              <a:pt x="61" y="229"/>
                            </a:lnTo>
                            <a:lnTo>
                              <a:pt x="44" y="224"/>
                            </a:lnTo>
                            <a:lnTo>
                              <a:pt x="11" y="200"/>
                            </a:lnTo>
                            <a:lnTo>
                              <a:pt x="0" y="169"/>
                            </a:lnTo>
                            <a:lnTo>
                              <a:pt x="10" y="155"/>
                            </a:lnTo>
                            <a:lnTo>
                              <a:pt x="39" y="196"/>
                            </a:lnTo>
                            <a:lnTo>
                              <a:pt x="55" y="213"/>
                            </a:lnTo>
                            <a:lnTo>
                              <a:pt x="83" y="229"/>
                            </a:lnTo>
                            <a:lnTo>
                              <a:pt x="92" y="229"/>
                            </a:lnTo>
                            <a:lnTo>
                              <a:pt x="101" y="239"/>
                            </a:lnTo>
                            <a:lnTo>
                              <a:pt x="94" y="155"/>
                            </a:lnTo>
                            <a:lnTo>
                              <a:pt x="68" y="91"/>
                            </a:lnTo>
                            <a:lnTo>
                              <a:pt x="54" y="60"/>
                            </a:lnTo>
                            <a:lnTo>
                              <a:pt x="37" y="0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78" name=""/>
                      <p:cNvGrpSpPr/>
                      <p:nvPr/>
                    </p:nvGrpSpPr>
                    <p:grpSpPr>
                      <a:xfrm>
                        <a:off x="4456440" y="3152880"/>
                        <a:ext cx="73800" cy="228600"/>
                        <a:chOff x="4456440" y="3152880"/>
                        <a:chExt cx="73800" cy="228600"/>
                      </a:xfrm>
                    </p:grpSpPr>
                    <p:sp>
                      <p:nvSpPr>
                        <p:cNvPr id="879" name=""/>
                        <p:cNvSpPr/>
                        <p:nvPr/>
                      </p:nvSpPr>
                      <p:spPr>
                        <a:xfrm>
                          <a:off x="4456440" y="3156120"/>
                          <a:ext cx="72000" cy="225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7" h="852">
                              <a:moveTo>
                                <a:pt x="182" y="0"/>
                              </a:moveTo>
                              <a:lnTo>
                                <a:pt x="162" y="27"/>
                              </a:lnTo>
                              <a:lnTo>
                                <a:pt x="136" y="61"/>
                              </a:lnTo>
                              <a:lnTo>
                                <a:pt x="95" y="108"/>
                              </a:lnTo>
                              <a:lnTo>
                                <a:pt x="66" y="147"/>
                              </a:lnTo>
                              <a:lnTo>
                                <a:pt x="145" y="186"/>
                              </a:lnTo>
                              <a:lnTo>
                                <a:pt x="64" y="216"/>
                              </a:lnTo>
                              <a:lnTo>
                                <a:pt x="66" y="260"/>
                              </a:lnTo>
                              <a:lnTo>
                                <a:pt x="67" y="290"/>
                              </a:lnTo>
                              <a:lnTo>
                                <a:pt x="72" y="320"/>
                              </a:lnTo>
                              <a:lnTo>
                                <a:pt x="79" y="353"/>
                              </a:lnTo>
                              <a:lnTo>
                                <a:pt x="90" y="395"/>
                              </a:lnTo>
                              <a:lnTo>
                                <a:pt x="100" y="427"/>
                              </a:lnTo>
                              <a:lnTo>
                                <a:pt x="111" y="465"/>
                              </a:lnTo>
                              <a:lnTo>
                                <a:pt x="117" y="489"/>
                              </a:lnTo>
                              <a:lnTo>
                                <a:pt x="122" y="523"/>
                              </a:lnTo>
                              <a:lnTo>
                                <a:pt x="123" y="553"/>
                              </a:lnTo>
                              <a:lnTo>
                                <a:pt x="117" y="590"/>
                              </a:lnTo>
                              <a:lnTo>
                                <a:pt x="111" y="622"/>
                              </a:lnTo>
                              <a:lnTo>
                                <a:pt x="101" y="653"/>
                              </a:lnTo>
                              <a:lnTo>
                                <a:pt x="85" y="693"/>
                              </a:lnTo>
                              <a:lnTo>
                                <a:pt x="68" y="735"/>
                              </a:lnTo>
                              <a:lnTo>
                                <a:pt x="44" y="777"/>
                              </a:lnTo>
                              <a:lnTo>
                                <a:pt x="0" y="852"/>
                              </a:lnTo>
                              <a:lnTo>
                                <a:pt x="70" y="852"/>
                              </a:lnTo>
                              <a:lnTo>
                                <a:pt x="118" y="771"/>
                              </a:lnTo>
                              <a:lnTo>
                                <a:pt x="145" y="731"/>
                              </a:lnTo>
                              <a:lnTo>
                                <a:pt x="167" y="683"/>
                              </a:lnTo>
                              <a:lnTo>
                                <a:pt x="192" y="622"/>
                              </a:lnTo>
                              <a:lnTo>
                                <a:pt x="203" y="563"/>
                              </a:lnTo>
                              <a:lnTo>
                                <a:pt x="215" y="511"/>
                              </a:lnTo>
                              <a:lnTo>
                                <a:pt x="229" y="452"/>
                              </a:lnTo>
                              <a:lnTo>
                                <a:pt x="238" y="395"/>
                              </a:lnTo>
                              <a:lnTo>
                                <a:pt x="247" y="329"/>
                              </a:lnTo>
                              <a:lnTo>
                                <a:pt x="247" y="285"/>
                              </a:lnTo>
                              <a:lnTo>
                                <a:pt x="247" y="242"/>
                              </a:lnTo>
                              <a:lnTo>
                                <a:pt x="247" y="181"/>
                              </a:lnTo>
                              <a:lnTo>
                                <a:pt x="247" y="144"/>
                              </a:lnTo>
                              <a:lnTo>
                                <a:pt x="227" y="16"/>
                              </a:lnTo>
                              <a:lnTo>
                                <a:pt x="18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0" name=""/>
                        <p:cNvSpPr/>
                        <p:nvPr/>
                      </p:nvSpPr>
                      <p:spPr>
                        <a:xfrm>
                          <a:off x="4458960" y="3152880"/>
                          <a:ext cx="71280" cy="225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7" h="851">
                              <a:moveTo>
                                <a:pt x="183" y="0"/>
                              </a:moveTo>
                              <a:lnTo>
                                <a:pt x="162" y="27"/>
                              </a:lnTo>
                              <a:lnTo>
                                <a:pt x="136" y="61"/>
                              </a:lnTo>
                              <a:lnTo>
                                <a:pt x="95" y="108"/>
                              </a:lnTo>
                              <a:lnTo>
                                <a:pt x="66" y="147"/>
                              </a:lnTo>
                              <a:lnTo>
                                <a:pt x="145" y="185"/>
                              </a:lnTo>
                              <a:lnTo>
                                <a:pt x="65" y="216"/>
                              </a:lnTo>
                              <a:lnTo>
                                <a:pt x="66" y="259"/>
                              </a:lnTo>
                              <a:lnTo>
                                <a:pt x="67" y="290"/>
                              </a:lnTo>
                              <a:lnTo>
                                <a:pt x="72" y="319"/>
                              </a:lnTo>
                              <a:lnTo>
                                <a:pt x="79" y="352"/>
                              </a:lnTo>
                              <a:lnTo>
                                <a:pt x="90" y="394"/>
                              </a:lnTo>
                              <a:lnTo>
                                <a:pt x="100" y="426"/>
                              </a:lnTo>
                              <a:lnTo>
                                <a:pt x="111" y="461"/>
                              </a:lnTo>
                              <a:lnTo>
                                <a:pt x="117" y="488"/>
                              </a:lnTo>
                              <a:lnTo>
                                <a:pt x="122" y="522"/>
                              </a:lnTo>
                              <a:lnTo>
                                <a:pt x="123" y="553"/>
                              </a:lnTo>
                              <a:lnTo>
                                <a:pt x="117" y="589"/>
                              </a:lnTo>
                              <a:lnTo>
                                <a:pt x="111" y="621"/>
                              </a:lnTo>
                              <a:lnTo>
                                <a:pt x="101" y="653"/>
                              </a:lnTo>
                              <a:lnTo>
                                <a:pt x="85" y="693"/>
                              </a:lnTo>
                              <a:lnTo>
                                <a:pt x="68" y="735"/>
                              </a:lnTo>
                              <a:lnTo>
                                <a:pt x="44" y="776"/>
                              </a:lnTo>
                              <a:lnTo>
                                <a:pt x="0" y="851"/>
                              </a:lnTo>
                              <a:lnTo>
                                <a:pt x="71" y="851"/>
                              </a:lnTo>
                              <a:lnTo>
                                <a:pt x="118" y="770"/>
                              </a:lnTo>
                              <a:lnTo>
                                <a:pt x="145" y="730"/>
                              </a:lnTo>
                              <a:lnTo>
                                <a:pt x="167" y="682"/>
                              </a:lnTo>
                              <a:lnTo>
                                <a:pt x="192" y="621"/>
                              </a:lnTo>
                              <a:lnTo>
                                <a:pt x="203" y="562"/>
                              </a:lnTo>
                              <a:lnTo>
                                <a:pt x="216" y="511"/>
                              </a:lnTo>
                              <a:lnTo>
                                <a:pt x="229" y="452"/>
                              </a:lnTo>
                              <a:lnTo>
                                <a:pt x="239" y="394"/>
                              </a:lnTo>
                              <a:lnTo>
                                <a:pt x="247" y="329"/>
                              </a:lnTo>
                              <a:lnTo>
                                <a:pt x="247" y="284"/>
                              </a:lnTo>
                              <a:lnTo>
                                <a:pt x="247" y="242"/>
                              </a:lnTo>
                              <a:lnTo>
                                <a:pt x="247" y="181"/>
                              </a:lnTo>
                              <a:lnTo>
                                <a:pt x="247" y="143"/>
                              </a:lnTo>
                              <a:lnTo>
                                <a:pt x="228" y="15"/>
                              </a:lnTo>
                              <a:lnTo>
                                <a:pt x="183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7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81" name=""/>
                    <p:cNvGrpSpPr/>
                    <p:nvPr/>
                  </p:nvGrpSpPr>
                  <p:grpSpPr>
                    <a:xfrm>
                      <a:off x="4588920" y="3147480"/>
                      <a:ext cx="168480" cy="224640"/>
                      <a:chOff x="4588920" y="3147480"/>
                      <a:chExt cx="168480" cy="224640"/>
                    </a:xfrm>
                  </p:grpSpPr>
                  <p:sp>
                    <p:nvSpPr>
                      <p:cNvPr id="882" name=""/>
                      <p:cNvSpPr/>
                      <p:nvPr/>
                    </p:nvSpPr>
                    <p:spPr>
                      <a:xfrm>
                        <a:off x="4590360" y="3150000"/>
                        <a:ext cx="167040" cy="222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5" h="839">
                            <a:moveTo>
                              <a:pt x="84" y="13"/>
                            </a:moveTo>
                            <a:lnTo>
                              <a:pt x="20" y="0"/>
                            </a:lnTo>
                            <a:lnTo>
                              <a:pt x="9" y="38"/>
                            </a:lnTo>
                            <a:lnTo>
                              <a:pt x="0" y="101"/>
                            </a:lnTo>
                            <a:lnTo>
                              <a:pt x="7" y="208"/>
                            </a:lnTo>
                            <a:lnTo>
                              <a:pt x="13" y="247"/>
                            </a:lnTo>
                            <a:lnTo>
                              <a:pt x="31" y="311"/>
                            </a:lnTo>
                            <a:lnTo>
                              <a:pt x="31" y="384"/>
                            </a:lnTo>
                            <a:lnTo>
                              <a:pt x="35" y="473"/>
                            </a:lnTo>
                            <a:lnTo>
                              <a:pt x="43" y="564"/>
                            </a:lnTo>
                            <a:lnTo>
                              <a:pt x="47" y="608"/>
                            </a:lnTo>
                            <a:lnTo>
                              <a:pt x="69" y="680"/>
                            </a:lnTo>
                            <a:lnTo>
                              <a:pt x="84" y="736"/>
                            </a:lnTo>
                            <a:lnTo>
                              <a:pt x="104" y="812"/>
                            </a:lnTo>
                            <a:lnTo>
                              <a:pt x="117" y="839"/>
                            </a:lnTo>
                            <a:lnTo>
                              <a:pt x="534" y="839"/>
                            </a:lnTo>
                            <a:lnTo>
                              <a:pt x="575" y="816"/>
                            </a:lnTo>
                            <a:lnTo>
                              <a:pt x="549" y="637"/>
                            </a:lnTo>
                            <a:lnTo>
                              <a:pt x="531" y="573"/>
                            </a:lnTo>
                            <a:lnTo>
                              <a:pt x="531" y="529"/>
                            </a:lnTo>
                            <a:lnTo>
                              <a:pt x="526" y="513"/>
                            </a:lnTo>
                            <a:lnTo>
                              <a:pt x="523" y="497"/>
                            </a:lnTo>
                            <a:lnTo>
                              <a:pt x="514" y="487"/>
                            </a:lnTo>
                            <a:lnTo>
                              <a:pt x="495" y="465"/>
                            </a:lnTo>
                            <a:lnTo>
                              <a:pt x="489" y="446"/>
                            </a:lnTo>
                            <a:lnTo>
                              <a:pt x="481" y="419"/>
                            </a:lnTo>
                            <a:lnTo>
                              <a:pt x="474" y="395"/>
                            </a:lnTo>
                            <a:lnTo>
                              <a:pt x="457" y="363"/>
                            </a:lnTo>
                            <a:lnTo>
                              <a:pt x="435" y="278"/>
                            </a:lnTo>
                            <a:lnTo>
                              <a:pt x="422" y="260"/>
                            </a:lnTo>
                            <a:lnTo>
                              <a:pt x="408" y="251"/>
                            </a:lnTo>
                            <a:lnTo>
                              <a:pt x="394" y="241"/>
                            </a:lnTo>
                            <a:lnTo>
                              <a:pt x="400" y="217"/>
                            </a:lnTo>
                            <a:lnTo>
                              <a:pt x="395" y="208"/>
                            </a:lnTo>
                            <a:lnTo>
                              <a:pt x="374" y="177"/>
                            </a:lnTo>
                            <a:lnTo>
                              <a:pt x="384" y="159"/>
                            </a:lnTo>
                            <a:lnTo>
                              <a:pt x="386" y="146"/>
                            </a:lnTo>
                            <a:lnTo>
                              <a:pt x="385" y="133"/>
                            </a:lnTo>
                            <a:lnTo>
                              <a:pt x="380" y="119"/>
                            </a:lnTo>
                            <a:lnTo>
                              <a:pt x="373" y="98"/>
                            </a:lnTo>
                            <a:lnTo>
                              <a:pt x="367" y="85"/>
                            </a:lnTo>
                            <a:lnTo>
                              <a:pt x="360" y="80"/>
                            </a:lnTo>
                            <a:lnTo>
                              <a:pt x="349" y="75"/>
                            </a:lnTo>
                            <a:lnTo>
                              <a:pt x="334" y="72"/>
                            </a:lnTo>
                            <a:lnTo>
                              <a:pt x="288" y="71"/>
                            </a:lnTo>
                            <a:lnTo>
                              <a:pt x="237" y="64"/>
                            </a:lnTo>
                            <a:lnTo>
                              <a:pt x="183" y="51"/>
                            </a:lnTo>
                            <a:lnTo>
                              <a:pt x="134" y="36"/>
                            </a:lnTo>
                            <a:lnTo>
                              <a:pt x="84" y="13"/>
                            </a:lnTo>
                            <a:close/>
                          </a:path>
                        </a:pathLst>
                      </a:custGeom>
                      <a:solidFill>
                        <a:srgbClr val="7f7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3" name=""/>
                      <p:cNvSpPr/>
                      <p:nvPr/>
                    </p:nvSpPr>
                    <p:spPr>
                      <a:xfrm>
                        <a:off x="4653000" y="3175200"/>
                        <a:ext cx="79920" cy="153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6" h="579">
                            <a:moveTo>
                              <a:pt x="104" y="0"/>
                            </a:moveTo>
                            <a:lnTo>
                              <a:pt x="128" y="21"/>
                            </a:lnTo>
                            <a:lnTo>
                              <a:pt x="112" y="42"/>
                            </a:lnTo>
                            <a:lnTo>
                              <a:pt x="104" y="64"/>
                            </a:lnTo>
                            <a:lnTo>
                              <a:pt x="97" y="92"/>
                            </a:lnTo>
                            <a:lnTo>
                              <a:pt x="91" y="134"/>
                            </a:lnTo>
                            <a:lnTo>
                              <a:pt x="115" y="125"/>
                            </a:lnTo>
                            <a:lnTo>
                              <a:pt x="134" y="118"/>
                            </a:lnTo>
                            <a:lnTo>
                              <a:pt x="148" y="128"/>
                            </a:lnTo>
                            <a:lnTo>
                              <a:pt x="108" y="162"/>
                            </a:lnTo>
                            <a:lnTo>
                              <a:pt x="91" y="181"/>
                            </a:lnTo>
                            <a:lnTo>
                              <a:pt x="91" y="233"/>
                            </a:lnTo>
                            <a:lnTo>
                              <a:pt x="97" y="237"/>
                            </a:lnTo>
                            <a:lnTo>
                              <a:pt x="137" y="206"/>
                            </a:lnTo>
                            <a:lnTo>
                              <a:pt x="157" y="195"/>
                            </a:lnTo>
                            <a:lnTo>
                              <a:pt x="181" y="187"/>
                            </a:lnTo>
                            <a:lnTo>
                              <a:pt x="193" y="187"/>
                            </a:lnTo>
                            <a:lnTo>
                              <a:pt x="182" y="206"/>
                            </a:lnTo>
                            <a:lnTo>
                              <a:pt x="168" y="223"/>
                            </a:lnTo>
                            <a:lnTo>
                              <a:pt x="148" y="236"/>
                            </a:lnTo>
                            <a:lnTo>
                              <a:pt x="128" y="243"/>
                            </a:lnTo>
                            <a:lnTo>
                              <a:pt x="112" y="252"/>
                            </a:lnTo>
                            <a:lnTo>
                              <a:pt x="93" y="269"/>
                            </a:lnTo>
                            <a:lnTo>
                              <a:pt x="90" y="304"/>
                            </a:lnTo>
                            <a:lnTo>
                              <a:pt x="80" y="325"/>
                            </a:lnTo>
                            <a:lnTo>
                              <a:pt x="84" y="361"/>
                            </a:lnTo>
                            <a:lnTo>
                              <a:pt x="82" y="390"/>
                            </a:lnTo>
                            <a:lnTo>
                              <a:pt x="95" y="384"/>
                            </a:lnTo>
                            <a:lnTo>
                              <a:pt x="106" y="384"/>
                            </a:lnTo>
                            <a:lnTo>
                              <a:pt x="97" y="410"/>
                            </a:lnTo>
                            <a:lnTo>
                              <a:pt x="79" y="428"/>
                            </a:lnTo>
                            <a:lnTo>
                              <a:pt x="80" y="442"/>
                            </a:lnTo>
                            <a:lnTo>
                              <a:pt x="90" y="473"/>
                            </a:lnTo>
                            <a:lnTo>
                              <a:pt x="95" y="497"/>
                            </a:lnTo>
                            <a:lnTo>
                              <a:pt x="126" y="526"/>
                            </a:lnTo>
                            <a:lnTo>
                              <a:pt x="160" y="519"/>
                            </a:lnTo>
                            <a:lnTo>
                              <a:pt x="208" y="515"/>
                            </a:lnTo>
                            <a:lnTo>
                              <a:pt x="230" y="512"/>
                            </a:lnTo>
                            <a:lnTo>
                              <a:pt x="250" y="516"/>
                            </a:lnTo>
                            <a:lnTo>
                              <a:pt x="265" y="523"/>
                            </a:lnTo>
                            <a:lnTo>
                              <a:pt x="276" y="536"/>
                            </a:lnTo>
                            <a:lnTo>
                              <a:pt x="243" y="532"/>
                            </a:lnTo>
                            <a:lnTo>
                              <a:pt x="212" y="530"/>
                            </a:lnTo>
                            <a:lnTo>
                              <a:pt x="182" y="530"/>
                            </a:lnTo>
                            <a:lnTo>
                              <a:pt x="160" y="532"/>
                            </a:lnTo>
                            <a:lnTo>
                              <a:pt x="146" y="553"/>
                            </a:lnTo>
                            <a:lnTo>
                              <a:pt x="197" y="565"/>
                            </a:lnTo>
                            <a:lnTo>
                              <a:pt x="112" y="576"/>
                            </a:lnTo>
                            <a:lnTo>
                              <a:pt x="57" y="579"/>
                            </a:lnTo>
                            <a:lnTo>
                              <a:pt x="90" y="553"/>
                            </a:lnTo>
                            <a:lnTo>
                              <a:pt x="90" y="532"/>
                            </a:lnTo>
                            <a:lnTo>
                              <a:pt x="65" y="491"/>
                            </a:lnTo>
                            <a:lnTo>
                              <a:pt x="61" y="438"/>
                            </a:lnTo>
                            <a:lnTo>
                              <a:pt x="69" y="385"/>
                            </a:lnTo>
                            <a:lnTo>
                              <a:pt x="57" y="374"/>
                            </a:lnTo>
                            <a:lnTo>
                              <a:pt x="64" y="352"/>
                            </a:lnTo>
                            <a:lnTo>
                              <a:pt x="0" y="349"/>
                            </a:lnTo>
                            <a:lnTo>
                              <a:pt x="20" y="329"/>
                            </a:lnTo>
                            <a:lnTo>
                              <a:pt x="51" y="331"/>
                            </a:lnTo>
                            <a:lnTo>
                              <a:pt x="79" y="307"/>
                            </a:lnTo>
                            <a:lnTo>
                              <a:pt x="68" y="289"/>
                            </a:lnTo>
                            <a:lnTo>
                              <a:pt x="79" y="261"/>
                            </a:lnTo>
                            <a:lnTo>
                              <a:pt x="82" y="166"/>
                            </a:lnTo>
                            <a:lnTo>
                              <a:pt x="86" y="109"/>
                            </a:lnTo>
                            <a:lnTo>
                              <a:pt x="101" y="21"/>
                            </a:lnTo>
                            <a:lnTo>
                              <a:pt x="104" y="0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4" name=""/>
                      <p:cNvSpPr/>
                      <p:nvPr/>
                    </p:nvSpPr>
                    <p:spPr>
                      <a:xfrm>
                        <a:off x="4633920" y="3249000"/>
                        <a:ext cx="349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9" h="23">
                            <a:moveTo>
                              <a:pt x="119" y="0"/>
                            </a:moveTo>
                            <a:lnTo>
                              <a:pt x="0" y="20"/>
                            </a:lnTo>
                            <a:lnTo>
                              <a:pt x="66" y="23"/>
                            </a:lnTo>
                            <a:lnTo>
                              <a:pt x="119" y="0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85" name=""/>
                      <p:cNvGrpSpPr/>
                      <p:nvPr/>
                    </p:nvGrpSpPr>
                    <p:grpSpPr>
                      <a:xfrm>
                        <a:off x="4588920" y="3147480"/>
                        <a:ext cx="59400" cy="224640"/>
                        <a:chOff x="4588920" y="3147480"/>
                        <a:chExt cx="59400" cy="224640"/>
                      </a:xfrm>
                    </p:grpSpPr>
                    <p:sp>
                      <p:nvSpPr>
                        <p:cNvPr id="886" name=""/>
                        <p:cNvSpPr/>
                        <p:nvPr/>
                      </p:nvSpPr>
                      <p:spPr>
                        <a:xfrm>
                          <a:off x="4590360" y="3150000"/>
                          <a:ext cx="57960" cy="222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9" h="839">
                              <a:moveTo>
                                <a:pt x="84" y="13"/>
                              </a:moveTo>
                              <a:lnTo>
                                <a:pt x="20" y="0"/>
                              </a:lnTo>
                              <a:lnTo>
                                <a:pt x="9" y="38"/>
                              </a:lnTo>
                              <a:lnTo>
                                <a:pt x="0" y="101"/>
                              </a:lnTo>
                              <a:lnTo>
                                <a:pt x="7" y="208"/>
                              </a:lnTo>
                              <a:lnTo>
                                <a:pt x="13" y="247"/>
                              </a:lnTo>
                              <a:lnTo>
                                <a:pt x="31" y="311"/>
                              </a:lnTo>
                              <a:lnTo>
                                <a:pt x="31" y="384"/>
                              </a:lnTo>
                              <a:lnTo>
                                <a:pt x="35" y="473"/>
                              </a:lnTo>
                              <a:lnTo>
                                <a:pt x="43" y="564"/>
                              </a:lnTo>
                              <a:lnTo>
                                <a:pt x="47" y="608"/>
                              </a:lnTo>
                              <a:lnTo>
                                <a:pt x="69" y="680"/>
                              </a:lnTo>
                              <a:lnTo>
                                <a:pt x="84" y="736"/>
                              </a:lnTo>
                              <a:lnTo>
                                <a:pt x="104" y="812"/>
                              </a:lnTo>
                              <a:lnTo>
                                <a:pt x="117" y="839"/>
                              </a:lnTo>
                              <a:lnTo>
                                <a:pt x="176" y="839"/>
                              </a:lnTo>
                              <a:lnTo>
                                <a:pt x="166" y="817"/>
                              </a:lnTo>
                              <a:lnTo>
                                <a:pt x="145" y="762"/>
                              </a:lnTo>
                              <a:lnTo>
                                <a:pt x="133" y="723"/>
                              </a:lnTo>
                              <a:lnTo>
                                <a:pt x="121" y="680"/>
                              </a:lnTo>
                              <a:lnTo>
                                <a:pt x="115" y="635"/>
                              </a:lnTo>
                              <a:lnTo>
                                <a:pt x="115" y="591"/>
                              </a:lnTo>
                              <a:lnTo>
                                <a:pt x="117" y="548"/>
                              </a:lnTo>
                              <a:lnTo>
                                <a:pt x="131" y="480"/>
                              </a:lnTo>
                              <a:lnTo>
                                <a:pt x="142" y="436"/>
                              </a:lnTo>
                              <a:lnTo>
                                <a:pt x="159" y="384"/>
                              </a:lnTo>
                              <a:lnTo>
                                <a:pt x="179" y="325"/>
                              </a:lnTo>
                              <a:lnTo>
                                <a:pt x="183" y="290"/>
                              </a:lnTo>
                              <a:lnTo>
                                <a:pt x="190" y="251"/>
                              </a:lnTo>
                              <a:lnTo>
                                <a:pt x="193" y="226"/>
                              </a:lnTo>
                              <a:lnTo>
                                <a:pt x="105" y="207"/>
                              </a:lnTo>
                              <a:lnTo>
                                <a:pt x="199" y="154"/>
                              </a:lnTo>
                              <a:lnTo>
                                <a:pt x="165" y="126"/>
                              </a:lnTo>
                              <a:lnTo>
                                <a:pt x="142" y="98"/>
                              </a:lnTo>
                              <a:lnTo>
                                <a:pt x="112" y="58"/>
                              </a:lnTo>
                              <a:lnTo>
                                <a:pt x="84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7" name=""/>
                        <p:cNvSpPr/>
                        <p:nvPr/>
                      </p:nvSpPr>
                      <p:spPr>
                        <a:xfrm>
                          <a:off x="4588920" y="3147480"/>
                          <a:ext cx="57240" cy="221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9" h="838">
                              <a:moveTo>
                                <a:pt x="84" y="12"/>
                              </a:moveTo>
                              <a:lnTo>
                                <a:pt x="20" y="0"/>
                              </a:lnTo>
                              <a:lnTo>
                                <a:pt x="9" y="37"/>
                              </a:lnTo>
                              <a:lnTo>
                                <a:pt x="0" y="101"/>
                              </a:lnTo>
                              <a:lnTo>
                                <a:pt x="6" y="207"/>
                              </a:lnTo>
                              <a:lnTo>
                                <a:pt x="12" y="246"/>
                              </a:lnTo>
                              <a:lnTo>
                                <a:pt x="31" y="311"/>
                              </a:lnTo>
                              <a:lnTo>
                                <a:pt x="31" y="384"/>
                              </a:lnTo>
                              <a:lnTo>
                                <a:pt x="34" y="473"/>
                              </a:lnTo>
                              <a:lnTo>
                                <a:pt x="43" y="563"/>
                              </a:lnTo>
                              <a:lnTo>
                                <a:pt x="46" y="608"/>
                              </a:lnTo>
                              <a:lnTo>
                                <a:pt x="68" y="679"/>
                              </a:lnTo>
                              <a:lnTo>
                                <a:pt x="84" y="736"/>
                              </a:lnTo>
                              <a:lnTo>
                                <a:pt x="104" y="811"/>
                              </a:lnTo>
                              <a:lnTo>
                                <a:pt x="117" y="838"/>
                              </a:lnTo>
                              <a:lnTo>
                                <a:pt x="175" y="838"/>
                              </a:lnTo>
                              <a:lnTo>
                                <a:pt x="166" y="817"/>
                              </a:lnTo>
                              <a:lnTo>
                                <a:pt x="145" y="762"/>
                              </a:lnTo>
                              <a:lnTo>
                                <a:pt x="133" y="723"/>
                              </a:lnTo>
                              <a:lnTo>
                                <a:pt x="121" y="679"/>
                              </a:lnTo>
                              <a:lnTo>
                                <a:pt x="115" y="635"/>
                              </a:lnTo>
                              <a:lnTo>
                                <a:pt x="115" y="590"/>
                              </a:lnTo>
                              <a:lnTo>
                                <a:pt x="117" y="548"/>
                              </a:lnTo>
                              <a:lnTo>
                                <a:pt x="130" y="480"/>
                              </a:lnTo>
                              <a:lnTo>
                                <a:pt x="141" y="435"/>
                              </a:lnTo>
                              <a:lnTo>
                                <a:pt x="158" y="384"/>
                              </a:lnTo>
                              <a:lnTo>
                                <a:pt x="179" y="325"/>
                              </a:lnTo>
                              <a:lnTo>
                                <a:pt x="183" y="290"/>
                              </a:lnTo>
                              <a:lnTo>
                                <a:pt x="190" y="251"/>
                              </a:lnTo>
                              <a:lnTo>
                                <a:pt x="192" y="225"/>
                              </a:lnTo>
                              <a:lnTo>
                                <a:pt x="105" y="206"/>
                              </a:lnTo>
                              <a:lnTo>
                                <a:pt x="199" y="153"/>
                              </a:lnTo>
                              <a:lnTo>
                                <a:pt x="164" y="125"/>
                              </a:lnTo>
                              <a:lnTo>
                                <a:pt x="141" y="97"/>
                              </a:lnTo>
                              <a:lnTo>
                                <a:pt x="112" y="57"/>
                              </a:lnTo>
                              <a:lnTo>
                                <a:pt x="84" y="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7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888" name=""/>
                <p:cNvGrpSpPr/>
                <p:nvPr/>
              </p:nvGrpSpPr>
              <p:grpSpPr>
                <a:xfrm>
                  <a:off x="4484520" y="3045240"/>
                  <a:ext cx="131400" cy="147600"/>
                  <a:chOff x="4484520" y="3045240"/>
                  <a:chExt cx="131400" cy="147600"/>
                </a:xfrm>
              </p:grpSpPr>
              <p:sp>
                <p:nvSpPr>
                  <p:cNvPr id="889" name=""/>
                  <p:cNvSpPr/>
                  <p:nvPr/>
                </p:nvSpPr>
                <p:spPr>
                  <a:xfrm>
                    <a:off x="4488840" y="3049920"/>
                    <a:ext cx="12708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0" h="542">
                        <a:moveTo>
                          <a:pt x="15" y="274"/>
                        </a:moveTo>
                        <a:lnTo>
                          <a:pt x="4" y="279"/>
                        </a:lnTo>
                        <a:lnTo>
                          <a:pt x="0" y="290"/>
                        </a:lnTo>
                        <a:lnTo>
                          <a:pt x="3" y="314"/>
                        </a:lnTo>
                        <a:lnTo>
                          <a:pt x="14" y="347"/>
                        </a:lnTo>
                        <a:lnTo>
                          <a:pt x="25" y="367"/>
                        </a:lnTo>
                        <a:lnTo>
                          <a:pt x="44" y="386"/>
                        </a:lnTo>
                        <a:lnTo>
                          <a:pt x="70" y="404"/>
                        </a:lnTo>
                        <a:lnTo>
                          <a:pt x="87" y="413"/>
                        </a:lnTo>
                        <a:lnTo>
                          <a:pt x="106" y="420"/>
                        </a:lnTo>
                        <a:lnTo>
                          <a:pt x="117" y="419"/>
                        </a:lnTo>
                        <a:lnTo>
                          <a:pt x="125" y="421"/>
                        </a:lnTo>
                        <a:lnTo>
                          <a:pt x="128" y="435"/>
                        </a:lnTo>
                        <a:lnTo>
                          <a:pt x="133" y="449"/>
                        </a:lnTo>
                        <a:lnTo>
                          <a:pt x="139" y="462"/>
                        </a:lnTo>
                        <a:lnTo>
                          <a:pt x="148" y="471"/>
                        </a:lnTo>
                        <a:lnTo>
                          <a:pt x="157" y="480"/>
                        </a:lnTo>
                        <a:lnTo>
                          <a:pt x="173" y="492"/>
                        </a:lnTo>
                        <a:lnTo>
                          <a:pt x="193" y="502"/>
                        </a:lnTo>
                        <a:lnTo>
                          <a:pt x="218" y="527"/>
                        </a:lnTo>
                        <a:lnTo>
                          <a:pt x="232" y="536"/>
                        </a:lnTo>
                        <a:lnTo>
                          <a:pt x="243" y="541"/>
                        </a:lnTo>
                        <a:lnTo>
                          <a:pt x="261" y="542"/>
                        </a:lnTo>
                        <a:lnTo>
                          <a:pt x="276" y="541"/>
                        </a:lnTo>
                        <a:lnTo>
                          <a:pt x="290" y="537"/>
                        </a:lnTo>
                        <a:lnTo>
                          <a:pt x="302" y="533"/>
                        </a:lnTo>
                        <a:lnTo>
                          <a:pt x="319" y="523"/>
                        </a:lnTo>
                        <a:lnTo>
                          <a:pt x="334" y="515"/>
                        </a:lnTo>
                        <a:lnTo>
                          <a:pt x="349" y="502"/>
                        </a:lnTo>
                        <a:lnTo>
                          <a:pt x="370" y="502"/>
                        </a:lnTo>
                        <a:lnTo>
                          <a:pt x="389" y="490"/>
                        </a:lnTo>
                        <a:lnTo>
                          <a:pt x="406" y="460"/>
                        </a:lnTo>
                        <a:lnTo>
                          <a:pt x="420" y="442"/>
                        </a:lnTo>
                        <a:lnTo>
                          <a:pt x="433" y="420"/>
                        </a:lnTo>
                        <a:lnTo>
                          <a:pt x="439" y="388"/>
                        </a:lnTo>
                        <a:lnTo>
                          <a:pt x="440" y="360"/>
                        </a:lnTo>
                        <a:lnTo>
                          <a:pt x="436" y="331"/>
                        </a:lnTo>
                        <a:lnTo>
                          <a:pt x="428" y="310"/>
                        </a:lnTo>
                        <a:lnTo>
                          <a:pt x="424" y="288"/>
                        </a:lnTo>
                        <a:lnTo>
                          <a:pt x="422" y="257"/>
                        </a:lnTo>
                        <a:lnTo>
                          <a:pt x="413" y="219"/>
                        </a:lnTo>
                        <a:lnTo>
                          <a:pt x="400" y="190"/>
                        </a:lnTo>
                        <a:lnTo>
                          <a:pt x="388" y="172"/>
                        </a:lnTo>
                        <a:lnTo>
                          <a:pt x="381" y="152"/>
                        </a:lnTo>
                        <a:lnTo>
                          <a:pt x="367" y="121"/>
                        </a:lnTo>
                        <a:lnTo>
                          <a:pt x="347" y="88"/>
                        </a:lnTo>
                        <a:lnTo>
                          <a:pt x="325" y="60"/>
                        </a:lnTo>
                        <a:lnTo>
                          <a:pt x="304" y="36"/>
                        </a:lnTo>
                        <a:lnTo>
                          <a:pt x="276" y="17"/>
                        </a:lnTo>
                        <a:lnTo>
                          <a:pt x="244" y="4"/>
                        </a:lnTo>
                        <a:lnTo>
                          <a:pt x="215" y="0"/>
                        </a:lnTo>
                        <a:lnTo>
                          <a:pt x="189" y="0"/>
                        </a:lnTo>
                        <a:lnTo>
                          <a:pt x="150" y="4"/>
                        </a:lnTo>
                        <a:lnTo>
                          <a:pt x="149" y="7"/>
                        </a:lnTo>
                        <a:lnTo>
                          <a:pt x="121" y="15"/>
                        </a:lnTo>
                        <a:lnTo>
                          <a:pt x="87" y="31"/>
                        </a:lnTo>
                        <a:lnTo>
                          <a:pt x="55" y="49"/>
                        </a:lnTo>
                        <a:lnTo>
                          <a:pt x="37" y="67"/>
                        </a:lnTo>
                        <a:lnTo>
                          <a:pt x="22" y="85"/>
                        </a:lnTo>
                        <a:lnTo>
                          <a:pt x="14" y="110"/>
                        </a:lnTo>
                        <a:lnTo>
                          <a:pt x="4" y="152"/>
                        </a:lnTo>
                        <a:lnTo>
                          <a:pt x="4" y="190"/>
                        </a:lnTo>
                        <a:lnTo>
                          <a:pt x="8" y="229"/>
                        </a:lnTo>
                        <a:lnTo>
                          <a:pt x="15" y="274"/>
                        </a:lnTo>
                        <a:close/>
                      </a:path>
                    </a:pathLst>
                  </a:custGeom>
                  <a:solidFill>
                    <a:srgbClr val="f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90" name=""/>
                  <p:cNvGrpSpPr/>
                  <p:nvPr/>
                </p:nvGrpSpPr>
                <p:grpSpPr>
                  <a:xfrm>
                    <a:off x="4507200" y="3094200"/>
                    <a:ext cx="100800" cy="88200"/>
                    <a:chOff x="4507200" y="3094200"/>
                    <a:chExt cx="100800" cy="88200"/>
                  </a:xfrm>
                </p:grpSpPr>
                <p:grpSp>
                  <p:nvGrpSpPr>
                    <p:cNvPr id="891" name=""/>
                    <p:cNvGrpSpPr/>
                    <p:nvPr/>
                  </p:nvGrpSpPr>
                  <p:grpSpPr>
                    <a:xfrm>
                      <a:off x="4507200" y="3094200"/>
                      <a:ext cx="100800" cy="88200"/>
                      <a:chOff x="4507200" y="3094200"/>
                      <a:chExt cx="100800" cy="88200"/>
                    </a:xfrm>
                  </p:grpSpPr>
                  <p:sp>
                    <p:nvSpPr>
                      <p:cNvPr id="892" name=""/>
                      <p:cNvSpPr/>
                      <p:nvPr/>
                    </p:nvSpPr>
                    <p:spPr>
                      <a:xfrm>
                        <a:off x="4573080" y="3094200"/>
                        <a:ext cx="27720" cy="41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155">
                            <a:moveTo>
                              <a:pt x="64" y="0"/>
                            </a:moveTo>
                            <a:lnTo>
                              <a:pt x="64" y="11"/>
                            </a:lnTo>
                            <a:lnTo>
                              <a:pt x="61" y="21"/>
                            </a:lnTo>
                            <a:lnTo>
                              <a:pt x="54" y="26"/>
                            </a:lnTo>
                            <a:lnTo>
                              <a:pt x="42" y="36"/>
                            </a:lnTo>
                            <a:lnTo>
                              <a:pt x="28" y="49"/>
                            </a:lnTo>
                            <a:lnTo>
                              <a:pt x="89" y="37"/>
                            </a:lnTo>
                            <a:lnTo>
                              <a:pt x="95" y="40"/>
                            </a:lnTo>
                            <a:lnTo>
                              <a:pt x="83" y="46"/>
                            </a:lnTo>
                            <a:lnTo>
                              <a:pt x="75" y="54"/>
                            </a:lnTo>
                            <a:lnTo>
                              <a:pt x="66" y="61"/>
                            </a:lnTo>
                            <a:lnTo>
                              <a:pt x="59" y="64"/>
                            </a:lnTo>
                            <a:lnTo>
                              <a:pt x="48" y="64"/>
                            </a:lnTo>
                            <a:lnTo>
                              <a:pt x="31" y="63"/>
                            </a:lnTo>
                            <a:lnTo>
                              <a:pt x="49" y="68"/>
                            </a:lnTo>
                            <a:lnTo>
                              <a:pt x="55" y="71"/>
                            </a:lnTo>
                            <a:lnTo>
                              <a:pt x="67" y="71"/>
                            </a:lnTo>
                            <a:lnTo>
                              <a:pt x="77" y="68"/>
                            </a:lnTo>
                            <a:lnTo>
                              <a:pt x="88" y="62"/>
                            </a:lnTo>
                            <a:lnTo>
                              <a:pt x="97" y="54"/>
                            </a:lnTo>
                            <a:lnTo>
                              <a:pt x="76" y="74"/>
                            </a:lnTo>
                            <a:lnTo>
                              <a:pt x="65" y="76"/>
                            </a:lnTo>
                            <a:lnTo>
                              <a:pt x="55" y="76"/>
                            </a:lnTo>
                            <a:lnTo>
                              <a:pt x="47" y="74"/>
                            </a:lnTo>
                            <a:lnTo>
                              <a:pt x="39" y="71"/>
                            </a:lnTo>
                            <a:lnTo>
                              <a:pt x="32" y="71"/>
                            </a:lnTo>
                            <a:lnTo>
                              <a:pt x="25" y="71"/>
                            </a:lnTo>
                            <a:lnTo>
                              <a:pt x="30" y="92"/>
                            </a:lnTo>
                            <a:lnTo>
                              <a:pt x="38" y="107"/>
                            </a:lnTo>
                            <a:lnTo>
                              <a:pt x="45" y="114"/>
                            </a:lnTo>
                            <a:lnTo>
                              <a:pt x="53" y="119"/>
                            </a:lnTo>
                            <a:lnTo>
                              <a:pt x="59" y="127"/>
                            </a:lnTo>
                            <a:lnTo>
                              <a:pt x="62" y="135"/>
                            </a:lnTo>
                            <a:lnTo>
                              <a:pt x="64" y="147"/>
                            </a:lnTo>
                            <a:lnTo>
                              <a:pt x="59" y="155"/>
                            </a:lnTo>
                            <a:lnTo>
                              <a:pt x="56" y="137"/>
                            </a:lnTo>
                            <a:lnTo>
                              <a:pt x="53" y="128"/>
                            </a:lnTo>
                            <a:lnTo>
                              <a:pt x="45" y="124"/>
                            </a:lnTo>
                            <a:lnTo>
                              <a:pt x="34" y="119"/>
                            </a:lnTo>
                            <a:lnTo>
                              <a:pt x="27" y="116"/>
                            </a:lnTo>
                            <a:lnTo>
                              <a:pt x="20" y="110"/>
                            </a:lnTo>
                            <a:lnTo>
                              <a:pt x="11" y="102"/>
                            </a:lnTo>
                            <a:lnTo>
                              <a:pt x="5" y="92"/>
                            </a:lnTo>
                            <a:lnTo>
                              <a:pt x="2" y="82"/>
                            </a:lnTo>
                            <a:lnTo>
                              <a:pt x="0" y="69"/>
                            </a:lnTo>
                            <a:lnTo>
                              <a:pt x="2" y="57"/>
                            </a:lnTo>
                            <a:lnTo>
                              <a:pt x="5" y="43"/>
                            </a:lnTo>
                            <a:lnTo>
                              <a:pt x="64" y="0"/>
                            </a:lnTo>
                            <a:close/>
                          </a:path>
                        </a:pathLst>
                      </a:custGeom>
                      <a:solidFill>
                        <a:srgbClr val="df9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760" bIns="-5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93" name=""/>
                      <p:cNvGrpSpPr/>
                      <p:nvPr/>
                    </p:nvGrpSpPr>
                    <p:grpSpPr>
                      <a:xfrm>
                        <a:off x="4507200" y="3121200"/>
                        <a:ext cx="100800" cy="61200"/>
                        <a:chOff x="4507200" y="3121200"/>
                        <a:chExt cx="100800" cy="61200"/>
                      </a:xfrm>
                    </p:grpSpPr>
                    <p:sp>
                      <p:nvSpPr>
                        <p:cNvPr id="894" name=""/>
                        <p:cNvSpPr/>
                        <p:nvPr/>
                      </p:nvSpPr>
                      <p:spPr>
                        <a:xfrm>
                          <a:off x="4507200" y="3121200"/>
                          <a:ext cx="82440" cy="61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4" h="229">
                              <a:moveTo>
                                <a:pt x="12" y="0"/>
                              </a:moveTo>
                              <a:lnTo>
                                <a:pt x="16" y="22"/>
                              </a:lnTo>
                              <a:lnTo>
                                <a:pt x="25" y="42"/>
                              </a:lnTo>
                              <a:lnTo>
                                <a:pt x="44" y="63"/>
                              </a:lnTo>
                              <a:lnTo>
                                <a:pt x="55" y="74"/>
                              </a:lnTo>
                              <a:lnTo>
                                <a:pt x="68" y="82"/>
                              </a:lnTo>
                              <a:lnTo>
                                <a:pt x="86" y="82"/>
                              </a:lnTo>
                              <a:lnTo>
                                <a:pt x="112" y="79"/>
                              </a:lnTo>
                              <a:lnTo>
                                <a:pt x="136" y="79"/>
                              </a:lnTo>
                              <a:lnTo>
                                <a:pt x="150" y="74"/>
                              </a:lnTo>
                              <a:lnTo>
                                <a:pt x="162" y="75"/>
                              </a:lnTo>
                              <a:lnTo>
                                <a:pt x="161" y="90"/>
                              </a:lnTo>
                              <a:lnTo>
                                <a:pt x="164" y="107"/>
                              </a:lnTo>
                              <a:lnTo>
                                <a:pt x="152" y="108"/>
                              </a:lnTo>
                              <a:lnTo>
                                <a:pt x="137" y="110"/>
                              </a:lnTo>
                              <a:lnTo>
                                <a:pt x="136" y="122"/>
                              </a:lnTo>
                              <a:lnTo>
                                <a:pt x="139" y="136"/>
                              </a:lnTo>
                              <a:lnTo>
                                <a:pt x="144" y="152"/>
                              </a:lnTo>
                              <a:lnTo>
                                <a:pt x="155" y="163"/>
                              </a:lnTo>
                              <a:lnTo>
                                <a:pt x="170" y="168"/>
                              </a:lnTo>
                              <a:lnTo>
                                <a:pt x="191" y="167"/>
                              </a:lnTo>
                              <a:lnTo>
                                <a:pt x="202" y="167"/>
                              </a:lnTo>
                              <a:lnTo>
                                <a:pt x="213" y="177"/>
                              </a:lnTo>
                              <a:lnTo>
                                <a:pt x="226" y="188"/>
                              </a:lnTo>
                              <a:lnTo>
                                <a:pt x="243" y="194"/>
                              </a:lnTo>
                              <a:lnTo>
                                <a:pt x="260" y="194"/>
                              </a:lnTo>
                              <a:lnTo>
                                <a:pt x="269" y="193"/>
                              </a:lnTo>
                              <a:lnTo>
                                <a:pt x="276" y="206"/>
                              </a:lnTo>
                              <a:lnTo>
                                <a:pt x="284" y="215"/>
                              </a:lnTo>
                              <a:lnTo>
                                <a:pt x="270" y="223"/>
                              </a:lnTo>
                              <a:lnTo>
                                <a:pt x="256" y="229"/>
                              </a:lnTo>
                              <a:lnTo>
                                <a:pt x="236" y="229"/>
                              </a:lnTo>
                              <a:lnTo>
                                <a:pt x="217" y="229"/>
                              </a:lnTo>
                              <a:lnTo>
                                <a:pt x="214" y="229"/>
                              </a:lnTo>
                              <a:lnTo>
                                <a:pt x="180" y="224"/>
                              </a:lnTo>
                              <a:lnTo>
                                <a:pt x="162" y="218"/>
                              </a:lnTo>
                              <a:lnTo>
                                <a:pt x="139" y="204"/>
                              </a:lnTo>
                              <a:lnTo>
                                <a:pt x="109" y="177"/>
                              </a:lnTo>
                              <a:lnTo>
                                <a:pt x="68" y="142"/>
                              </a:lnTo>
                              <a:lnTo>
                                <a:pt x="29" y="103"/>
                              </a:lnTo>
                              <a:lnTo>
                                <a:pt x="12" y="82"/>
                              </a:lnTo>
                              <a:lnTo>
                                <a:pt x="1" y="61"/>
                              </a:lnTo>
                              <a:lnTo>
                                <a:pt x="0" y="45"/>
                              </a:lnTo>
                              <a:lnTo>
                                <a:pt x="1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4400" bIns="14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5" name=""/>
                        <p:cNvSpPr/>
                        <p:nvPr/>
                      </p:nvSpPr>
                      <p:spPr>
                        <a:xfrm>
                          <a:off x="4560120" y="3131280"/>
                          <a:ext cx="13680" cy="32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" h="121">
                              <a:moveTo>
                                <a:pt x="49" y="3"/>
                              </a:moveTo>
                              <a:lnTo>
                                <a:pt x="37" y="0"/>
                              </a:lnTo>
                              <a:lnTo>
                                <a:pt x="28" y="1"/>
                              </a:lnTo>
                              <a:lnTo>
                                <a:pt x="21" y="7"/>
                              </a:lnTo>
                              <a:lnTo>
                                <a:pt x="15" y="14"/>
                              </a:lnTo>
                              <a:lnTo>
                                <a:pt x="10" y="26"/>
                              </a:lnTo>
                              <a:lnTo>
                                <a:pt x="10" y="39"/>
                              </a:lnTo>
                              <a:lnTo>
                                <a:pt x="8" y="63"/>
                              </a:lnTo>
                              <a:lnTo>
                                <a:pt x="0" y="86"/>
                              </a:lnTo>
                              <a:lnTo>
                                <a:pt x="8" y="96"/>
                              </a:lnTo>
                              <a:lnTo>
                                <a:pt x="14" y="121"/>
                              </a:lnTo>
                              <a:lnTo>
                                <a:pt x="11" y="88"/>
                              </a:lnTo>
                              <a:lnTo>
                                <a:pt x="14" y="68"/>
                              </a:lnTo>
                              <a:lnTo>
                                <a:pt x="14" y="50"/>
                              </a:lnTo>
                              <a:lnTo>
                                <a:pt x="15" y="42"/>
                              </a:lnTo>
                              <a:lnTo>
                                <a:pt x="20" y="39"/>
                              </a:lnTo>
                              <a:lnTo>
                                <a:pt x="28" y="40"/>
                              </a:lnTo>
                              <a:lnTo>
                                <a:pt x="34" y="40"/>
                              </a:lnTo>
                              <a:lnTo>
                                <a:pt x="25" y="34"/>
                              </a:lnTo>
                              <a:lnTo>
                                <a:pt x="22" y="27"/>
                              </a:lnTo>
                              <a:lnTo>
                                <a:pt x="21" y="19"/>
                              </a:lnTo>
                              <a:lnTo>
                                <a:pt x="26" y="10"/>
                              </a:lnTo>
                              <a:lnTo>
                                <a:pt x="36" y="6"/>
                              </a:lnTo>
                              <a:lnTo>
                                <a:pt x="49" y="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4400" bIns="-14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6" name=""/>
                        <p:cNvSpPr/>
                        <p:nvPr/>
                      </p:nvSpPr>
                      <p:spPr>
                        <a:xfrm>
                          <a:off x="4570560" y="3135240"/>
                          <a:ext cx="8640" cy="5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22">
                              <a:moveTo>
                                <a:pt x="0" y="22"/>
                              </a:moveTo>
                              <a:lnTo>
                                <a:pt x="7" y="15"/>
                              </a:lnTo>
                              <a:lnTo>
                                <a:pt x="11" y="8"/>
                              </a:lnTo>
                              <a:lnTo>
                                <a:pt x="17" y="0"/>
                              </a:lnTo>
                              <a:lnTo>
                                <a:pt x="17" y="12"/>
                              </a:lnTo>
                              <a:lnTo>
                                <a:pt x="22" y="19"/>
                              </a:lnTo>
                              <a:lnTo>
                                <a:pt x="31" y="21"/>
                              </a:lnTo>
                              <a:lnTo>
                                <a:pt x="17" y="21"/>
                              </a:lnTo>
                              <a:lnTo>
                                <a:pt x="0" y="2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400" bIns="-41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7" name=""/>
                        <p:cNvSpPr/>
                        <p:nvPr/>
                      </p:nvSpPr>
                      <p:spPr>
                        <a:xfrm>
                          <a:off x="4578480" y="3137760"/>
                          <a:ext cx="10440" cy="2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6" h="13">
                              <a:moveTo>
                                <a:pt x="0" y="13"/>
                              </a:moveTo>
                              <a:lnTo>
                                <a:pt x="22" y="10"/>
                              </a:lnTo>
                              <a:lnTo>
                                <a:pt x="29" y="6"/>
                              </a:lnTo>
                              <a:lnTo>
                                <a:pt x="36" y="0"/>
                              </a:lnTo>
                              <a:lnTo>
                                <a:pt x="33" y="10"/>
                              </a:lnTo>
                              <a:lnTo>
                                <a:pt x="24" y="13"/>
                              </a:lnTo>
                              <a:lnTo>
                                <a:pt x="0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8" name=""/>
                        <p:cNvSpPr/>
                        <p:nvPr/>
                      </p:nvSpPr>
                      <p:spPr>
                        <a:xfrm>
                          <a:off x="4590720" y="3137760"/>
                          <a:ext cx="17280" cy="10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2" h="44">
                              <a:moveTo>
                                <a:pt x="0" y="2"/>
                              </a:moveTo>
                              <a:lnTo>
                                <a:pt x="13" y="7"/>
                              </a:lnTo>
                              <a:lnTo>
                                <a:pt x="24" y="11"/>
                              </a:lnTo>
                              <a:lnTo>
                                <a:pt x="37" y="18"/>
                              </a:lnTo>
                              <a:lnTo>
                                <a:pt x="47" y="29"/>
                              </a:lnTo>
                              <a:lnTo>
                                <a:pt x="62" y="44"/>
                              </a:lnTo>
                              <a:lnTo>
                                <a:pt x="55" y="28"/>
                              </a:lnTo>
                              <a:lnTo>
                                <a:pt x="46" y="18"/>
                              </a:lnTo>
                              <a:lnTo>
                                <a:pt x="38" y="10"/>
                              </a:lnTo>
                              <a:lnTo>
                                <a:pt x="28" y="5"/>
                              </a:lnTo>
                              <a:lnTo>
                                <a:pt x="16" y="0"/>
                              </a:lnTo>
                              <a:lnTo>
                                <a:pt x="0" y="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00" bIns="-36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9" name=""/>
                        <p:cNvSpPr/>
                        <p:nvPr/>
                      </p:nvSpPr>
                      <p:spPr>
                        <a:xfrm>
                          <a:off x="4583520" y="3143160"/>
                          <a:ext cx="2520" cy="6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" h="25">
                              <a:moveTo>
                                <a:pt x="0" y="0"/>
                              </a:moveTo>
                              <a:lnTo>
                                <a:pt x="11" y="14"/>
                              </a:lnTo>
                              <a:lnTo>
                                <a:pt x="9" y="25"/>
                              </a:lnTo>
                              <a:lnTo>
                                <a:pt x="2" y="1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320" bIns="-40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0" name=""/>
                        <p:cNvSpPr/>
                        <p:nvPr/>
                      </p:nvSpPr>
                      <p:spPr>
                        <a:xfrm>
                          <a:off x="4568760" y="3146400"/>
                          <a:ext cx="32040" cy="11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2" h="44">
                              <a:moveTo>
                                <a:pt x="0" y="44"/>
                              </a:moveTo>
                              <a:lnTo>
                                <a:pt x="16" y="39"/>
                              </a:lnTo>
                              <a:lnTo>
                                <a:pt x="28" y="34"/>
                              </a:lnTo>
                              <a:lnTo>
                                <a:pt x="41" y="25"/>
                              </a:lnTo>
                              <a:lnTo>
                                <a:pt x="53" y="18"/>
                              </a:lnTo>
                              <a:lnTo>
                                <a:pt x="67" y="18"/>
                              </a:lnTo>
                              <a:lnTo>
                                <a:pt x="70" y="8"/>
                              </a:lnTo>
                              <a:lnTo>
                                <a:pt x="80" y="5"/>
                              </a:lnTo>
                              <a:lnTo>
                                <a:pt x="93" y="4"/>
                              </a:lnTo>
                              <a:lnTo>
                                <a:pt x="104" y="4"/>
                              </a:lnTo>
                              <a:lnTo>
                                <a:pt x="112" y="0"/>
                              </a:lnTo>
                              <a:lnTo>
                                <a:pt x="95" y="11"/>
                              </a:lnTo>
                              <a:lnTo>
                                <a:pt x="85" y="14"/>
                              </a:lnTo>
                              <a:lnTo>
                                <a:pt x="74" y="21"/>
                              </a:lnTo>
                              <a:lnTo>
                                <a:pt x="67" y="28"/>
                              </a:lnTo>
                              <a:lnTo>
                                <a:pt x="56" y="30"/>
                              </a:lnTo>
                              <a:lnTo>
                                <a:pt x="45" y="34"/>
                              </a:lnTo>
                              <a:lnTo>
                                <a:pt x="31" y="40"/>
                              </a:lnTo>
                              <a:lnTo>
                                <a:pt x="20" y="44"/>
                              </a:lnTo>
                              <a:lnTo>
                                <a:pt x="0" y="4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920" bIns="-34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1" name=""/>
                        <p:cNvSpPr/>
                        <p:nvPr/>
                      </p:nvSpPr>
                      <p:spPr>
                        <a:xfrm>
                          <a:off x="4572360" y="3153600"/>
                          <a:ext cx="27000" cy="7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5" h="30">
                              <a:moveTo>
                                <a:pt x="0" y="24"/>
                              </a:moveTo>
                              <a:lnTo>
                                <a:pt x="23" y="26"/>
                              </a:lnTo>
                              <a:lnTo>
                                <a:pt x="45" y="23"/>
                              </a:lnTo>
                              <a:lnTo>
                                <a:pt x="53" y="18"/>
                              </a:lnTo>
                              <a:lnTo>
                                <a:pt x="63" y="12"/>
                              </a:lnTo>
                              <a:lnTo>
                                <a:pt x="72" y="6"/>
                              </a:lnTo>
                              <a:lnTo>
                                <a:pt x="81" y="5"/>
                              </a:lnTo>
                              <a:lnTo>
                                <a:pt x="95" y="0"/>
                              </a:lnTo>
                              <a:lnTo>
                                <a:pt x="84" y="9"/>
                              </a:lnTo>
                              <a:lnTo>
                                <a:pt x="72" y="10"/>
                              </a:lnTo>
                              <a:lnTo>
                                <a:pt x="63" y="17"/>
                              </a:lnTo>
                              <a:lnTo>
                                <a:pt x="52" y="25"/>
                              </a:lnTo>
                              <a:lnTo>
                                <a:pt x="44" y="30"/>
                              </a:lnTo>
                              <a:lnTo>
                                <a:pt x="30" y="30"/>
                              </a:lnTo>
                              <a:lnTo>
                                <a:pt x="16" y="27"/>
                              </a:lnTo>
                              <a:lnTo>
                                <a:pt x="0" y="2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902" name=""/>
                      <p:cNvSpPr/>
                      <p:nvPr/>
                    </p:nvSpPr>
                    <p:spPr>
                      <a:xfrm>
                        <a:off x="4533120" y="3120480"/>
                        <a:ext cx="2160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5" h="55">
                            <a:moveTo>
                              <a:pt x="74" y="0"/>
                            </a:moveTo>
                            <a:lnTo>
                              <a:pt x="75" y="22"/>
                            </a:lnTo>
                            <a:lnTo>
                              <a:pt x="72" y="35"/>
                            </a:lnTo>
                            <a:lnTo>
                              <a:pt x="64" y="47"/>
                            </a:lnTo>
                            <a:lnTo>
                              <a:pt x="51" y="52"/>
                            </a:lnTo>
                            <a:lnTo>
                              <a:pt x="33" y="55"/>
                            </a:lnTo>
                            <a:lnTo>
                              <a:pt x="20" y="54"/>
                            </a:lnTo>
                            <a:lnTo>
                              <a:pt x="11" y="49"/>
                            </a:lnTo>
                            <a:lnTo>
                              <a:pt x="5" y="44"/>
                            </a:lnTo>
                            <a:lnTo>
                              <a:pt x="0" y="38"/>
                            </a:lnTo>
                            <a:lnTo>
                              <a:pt x="3" y="34"/>
                            </a:lnTo>
                            <a:lnTo>
                              <a:pt x="13" y="44"/>
                            </a:lnTo>
                            <a:lnTo>
                              <a:pt x="22" y="50"/>
                            </a:lnTo>
                            <a:lnTo>
                              <a:pt x="35" y="52"/>
                            </a:lnTo>
                            <a:lnTo>
                              <a:pt x="50" y="50"/>
                            </a:lnTo>
                            <a:lnTo>
                              <a:pt x="58" y="42"/>
                            </a:lnTo>
                            <a:lnTo>
                              <a:pt x="64" y="31"/>
                            </a:lnTo>
                            <a:lnTo>
                              <a:pt x="69" y="23"/>
                            </a:lnTo>
                            <a:lnTo>
                              <a:pt x="72" y="14"/>
                            </a:lnTo>
                            <a:lnTo>
                              <a:pt x="61" y="21"/>
                            </a:lnTo>
                            <a:lnTo>
                              <a:pt x="51" y="24"/>
                            </a:lnTo>
                            <a:lnTo>
                              <a:pt x="38" y="24"/>
                            </a:lnTo>
                            <a:lnTo>
                              <a:pt x="24" y="24"/>
                            </a:lnTo>
                            <a:lnTo>
                              <a:pt x="61" y="12"/>
                            </a:lnTo>
                            <a:lnTo>
                              <a:pt x="74" y="0"/>
                            </a:lnTo>
                            <a:close/>
                          </a:path>
                        </a:pathLst>
                      </a:custGeom>
                      <a:solidFill>
                        <a:srgbClr val="df9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03" name=""/>
                    <p:cNvGrpSpPr/>
                    <p:nvPr/>
                  </p:nvGrpSpPr>
                  <p:grpSpPr>
                    <a:xfrm>
                      <a:off x="4579200" y="3102840"/>
                      <a:ext cx="20520" cy="7920"/>
                      <a:chOff x="4579200" y="3102840"/>
                      <a:chExt cx="20520" cy="7920"/>
                    </a:xfrm>
                  </p:grpSpPr>
                  <p:sp>
                    <p:nvSpPr>
                      <p:cNvPr id="904" name=""/>
                      <p:cNvSpPr/>
                      <p:nvPr/>
                    </p:nvSpPr>
                    <p:spPr>
                      <a:xfrm>
                        <a:off x="4579200" y="3102840"/>
                        <a:ext cx="2052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28">
                            <a:moveTo>
                              <a:pt x="0" y="26"/>
                            </a:moveTo>
                            <a:lnTo>
                              <a:pt x="7" y="16"/>
                            </a:lnTo>
                            <a:lnTo>
                              <a:pt x="14" y="10"/>
                            </a:lnTo>
                            <a:lnTo>
                              <a:pt x="22" y="4"/>
                            </a:lnTo>
                            <a:lnTo>
                              <a:pt x="33" y="1"/>
                            </a:lnTo>
                            <a:lnTo>
                              <a:pt x="44" y="0"/>
                            </a:lnTo>
                            <a:lnTo>
                              <a:pt x="55" y="1"/>
                            </a:lnTo>
                            <a:lnTo>
                              <a:pt x="70" y="6"/>
                            </a:lnTo>
                            <a:lnTo>
                              <a:pt x="53" y="9"/>
                            </a:lnTo>
                            <a:lnTo>
                              <a:pt x="46" y="16"/>
                            </a:lnTo>
                            <a:lnTo>
                              <a:pt x="38" y="23"/>
                            </a:lnTo>
                            <a:lnTo>
                              <a:pt x="31" y="27"/>
                            </a:lnTo>
                            <a:lnTo>
                              <a:pt x="22" y="28"/>
                            </a:lnTo>
                            <a:lnTo>
                              <a:pt x="0" y="2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05" name=""/>
                      <p:cNvSpPr/>
                      <p:nvPr/>
                    </p:nvSpPr>
                    <p:spPr>
                      <a:xfrm>
                        <a:off x="4579200" y="3102840"/>
                        <a:ext cx="19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29">
                            <a:moveTo>
                              <a:pt x="0" y="25"/>
                            </a:moveTo>
                            <a:lnTo>
                              <a:pt x="6" y="16"/>
                            </a:lnTo>
                            <a:lnTo>
                              <a:pt x="14" y="10"/>
                            </a:lnTo>
                            <a:lnTo>
                              <a:pt x="22" y="4"/>
                            </a:lnTo>
                            <a:lnTo>
                              <a:pt x="33" y="1"/>
                            </a:lnTo>
                            <a:lnTo>
                              <a:pt x="44" y="0"/>
                            </a:lnTo>
                            <a:lnTo>
                              <a:pt x="55" y="1"/>
                            </a:lnTo>
                            <a:lnTo>
                              <a:pt x="70" y="5"/>
                            </a:lnTo>
                            <a:lnTo>
                              <a:pt x="49" y="4"/>
                            </a:lnTo>
                            <a:lnTo>
                              <a:pt x="49" y="11"/>
                            </a:lnTo>
                            <a:lnTo>
                              <a:pt x="47" y="20"/>
                            </a:lnTo>
                            <a:lnTo>
                              <a:pt x="36" y="27"/>
                            </a:lnTo>
                            <a:lnTo>
                              <a:pt x="27" y="29"/>
                            </a:lnTo>
                            <a:lnTo>
                              <a:pt x="21" y="24"/>
                            </a:lnTo>
                            <a:lnTo>
                              <a:pt x="17" y="18"/>
                            </a:lnTo>
                            <a:lnTo>
                              <a:pt x="15" y="13"/>
                            </a:lnTo>
                            <a:lnTo>
                              <a:pt x="0" y="25"/>
                            </a:lnTo>
                            <a:close/>
                          </a:path>
                        </a:pathLst>
                      </a:cu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06" name=""/>
                    <p:cNvGrpSpPr/>
                    <p:nvPr/>
                  </p:nvGrpSpPr>
                  <p:grpSpPr>
                    <a:xfrm>
                      <a:off x="4530600" y="3118680"/>
                      <a:ext cx="24120" cy="9360"/>
                      <a:chOff x="4530600" y="3118680"/>
                      <a:chExt cx="24120" cy="9360"/>
                    </a:xfrm>
                  </p:grpSpPr>
                  <p:sp>
                    <p:nvSpPr>
                      <p:cNvPr id="907" name=""/>
                      <p:cNvSpPr/>
                      <p:nvPr/>
                    </p:nvSpPr>
                    <p:spPr>
                      <a:xfrm>
                        <a:off x="4531320" y="3118680"/>
                        <a:ext cx="2340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0" h="36">
                            <a:moveTo>
                              <a:pt x="0" y="35"/>
                            </a:moveTo>
                            <a:lnTo>
                              <a:pt x="24" y="25"/>
                            </a:lnTo>
                            <a:lnTo>
                              <a:pt x="39" y="18"/>
                            </a:lnTo>
                            <a:lnTo>
                              <a:pt x="56" y="9"/>
                            </a:lnTo>
                            <a:lnTo>
                              <a:pt x="68" y="2"/>
                            </a:lnTo>
                            <a:lnTo>
                              <a:pt x="74" y="0"/>
                            </a:lnTo>
                            <a:lnTo>
                              <a:pt x="80" y="5"/>
                            </a:lnTo>
                            <a:lnTo>
                              <a:pt x="80" y="15"/>
                            </a:lnTo>
                            <a:lnTo>
                              <a:pt x="74" y="24"/>
                            </a:lnTo>
                            <a:lnTo>
                              <a:pt x="73" y="25"/>
                            </a:lnTo>
                            <a:lnTo>
                              <a:pt x="63" y="30"/>
                            </a:lnTo>
                            <a:lnTo>
                              <a:pt x="62" y="31"/>
                            </a:lnTo>
                            <a:lnTo>
                              <a:pt x="42" y="35"/>
                            </a:lnTo>
                            <a:lnTo>
                              <a:pt x="16" y="36"/>
                            </a:lnTo>
                            <a:lnTo>
                              <a:pt x="0" y="35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08" name=""/>
                      <p:cNvSpPr/>
                      <p:nvPr/>
                    </p:nvSpPr>
                    <p:spPr>
                      <a:xfrm>
                        <a:off x="4530600" y="3118680"/>
                        <a:ext cx="2340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1" h="35">
                            <a:moveTo>
                              <a:pt x="0" y="35"/>
                            </a:moveTo>
                            <a:lnTo>
                              <a:pt x="25" y="25"/>
                            </a:lnTo>
                            <a:lnTo>
                              <a:pt x="39" y="18"/>
                            </a:lnTo>
                            <a:lnTo>
                              <a:pt x="56" y="9"/>
                            </a:lnTo>
                            <a:lnTo>
                              <a:pt x="69" y="2"/>
                            </a:lnTo>
                            <a:lnTo>
                              <a:pt x="75" y="0"/>
                            </a:lnTo>
                            <a:lnTo>
                              <a:pt x="81" y="3"/>
                            </a:lnTo>
                            <a:lnTo>
                              <a:pt x="71" y="5"/>
                            </a:lnTo>
                            <a:lnTo>
                              <a:pt x="76" y="10"/>
                            </a:lnTo>
                            <a:lnTo>
                              <a:pt x="77" y="17"/>
                            </a:lnTo>
                            <a:lnTo>
                              <a:pt x="72" y="29"/>
                            </a:lnTo>
                            <a:lnTo>
                              <a:pt x="63" y="32"/>
                            </a:lnTo>
                            <a:lnTo>
                              <a:pt x="50" y="35"/>
                            </a:lnTo>
                            <a:lnTo>
                              <a:pt x="41" y="30"/>
                            </a:lnTo>
                            <a:lnTo>
                              <a:pt x="35" y="24"/>
                            </a:lnTo>
                            <a:lnTo>
                              <a:pt x="19" y="30"/>
                            </a:lnTo>
                            <a:lnTo>
                              <a:pt x="0" y="35"/>
                            </a:lnTo>
                            <a:close/>
                          </a:path>
                        </a:pathLst>
                      </a:cu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09" name=""/>
                  <p:cNvGrpSpPr/>
                  <p:nvPr/>
                </p:nvGrpSpPr>
                <p:grpSpPr>
                  <a:xfrm>
                    <a:off x="4484520" y="3045240"/>
                    <a:ext cx="119160" cy="91800"/>
                    <a:chOff x="4484520" y="3045240"/>
                    <a:chExt cx="119160" cy="91800"/>
                  </a:xfrm>
                </p:grpSpPr>
                <p:grpSp>
                  <p:nvGrpSpPr>
                    <p:cNvPr id="910" name=""/>
                    <p:cNvGrpSpPr/>
                    <p:nvPr/>
                  </p:nvGrpSpPr>
                  <p:grpSpPr>
                    <a:xfrm>
                      <a:off x="4524480" y="3088800"/>
                      <a:ext cx="68400" cy="35640"/>
                      <a:chOff x="4524480" y="3088800"/>
                      <a:chExt cx="68400" cy="35640"/>
                    </a:xfrm>
                  </p:grpSpPr>
                  <p:sp>
                    <p:nvSpPr>
                      <p:cNvPr id="911" name=""/>
                      <p:cNvSpPr/>
                      <p:nvPr/>
                    </p:nvSpPr>
                    <p:spPr>
                      <a:xfrm>
                        <a:off x="4524480" y="3111120"/>
                        <a:ext cx="3276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4" h="51">
                            <a:moveTo>
                              <a:pt x="114" y="6"/>
                            </a:moveTo>
                            <a:lnTo>
                              <a:pt x="105" y="4"/>
                            </a:lnTo>
                            <a:lnTo>
                              <a:pt x="99" y="0"/>
                            </a:lnTo>
                            <a:lnTo>
                              <a:pt x="86" y="4"/>
                            </a:lnTo>
                            <a:lnTo>
                              <a:pt x="70" y="4"/>
                            </a:lnTo>
                            <a:lnTo>
                              <a:pt x="50" y="5"/>
                            </a:lnTo>
                            <a:lnTo>
                              <a:pt x="33" y="5"/>
                            </a:lnTo>
                            <a:lnTo>
                              <a:pt x="27" y="0"/>
                            </a:lnTo>
                            <a:lnTo>
                              <a:pt x="19" y="0"/>
                            </a:lnTo>
                            <a:lnTo>
                              <a:pt x="15" y="6"/>
                            </a:lnTo>
                            <a:lnTo>
                              <a:pt x="14" y="13"/>
                            </a:lnTo>
                            <a:lnTo>
                              <a:pt x="10" y="23"/>
                            </a:lnTo>
                            <a:lnTo>
                              <a:pt x="6" y="32"/>
                            </a:lnTo>
                            <a:lnTo>
                              <a:pt x="0" y="39"/>
                            </a:lnTo>
                            <a:lnTo>
                              <a:pt x="6" y="46"/>
                            </a:lnTo>
                            <a:lnTo>
                              <a:pt x="8" y="51"/>
                            </a:lnTo>
                            <a:lnTo>
                              <a:pt x="14" y="43"/>
                            </a:lnTo>
                            <a:lnTo>
                              <a:pt x="25" y="32"/>
                            </a:lnTo>
                            <a:lnTo>
                              <a:pt x="31" y="26"/>
                            </a:lnTo>
                            <a:lnTo>
                              <a:pt x="41" y="21"/>
                            </a:lnTo>
                            <a:lnTo>
                              <a:pt x="50" y="19"/>
                            </a:lnTo>
                            <a:lnTo>
                              <a:pt x="62" y="18"/>
                            </a:lnTo>
                            <a:lnTo>
                              <a:pt x="77" y="17"/>
                            </a:lnTo>
                            <a:lnTo>
                              <a:pt x="88" y="16"/>
                            </a:lnTo>
                            <a:lnTo>
                              <a:pt x="98" y="16"/>
                            </a:lnTo>
                            <a:lnTo>
                              <a:pt x="103" y="11"/>
                            </a:lnTo>
                            <a:lnTo>
                              <a:pt x="114" y="6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2" name=""/>
                      <p:cNvSpPr/>
                      <p:nvPr/>
                    </p:nvSpPr>
                    <p:spPr>
                      <a:xfrm>
                        <a:off x="4571280" y="3088800"/>
                        <a:ext cx="2160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84">
                            <a:moveTo>
                              <a:pt x="0" y="84"/>
                            </a:moveTo>
                            <a:lnTo>
                              <a:pt x="19" y="58"/>
                            </a:lnTo>
                            <a:lnTo>
                              <a:pt x="36" y="49"/>
                            </a:lnTo>
                            <a:lnTo>
                              <a:pt x="49" y="43"/>
                            </a:lnTo>
                            <a:lnTo>
                              <a:pt x="59" y="33"/>
                            </a:lnTo>
                            <a:lnTo>
                              <a:pt x="67" y="24"/>
                            </a:lnTo>
                            <a:lnTo>
                              <a:pt x="75" y="17"/>
                            </a:lnTo>
                            <a:lnTo>
                              <a:pt x="73" y="17"/>
                            </a:lnTo>
                            <a:lnTo>
                              <a:pt x="77" y="8"/>
                            </a:lnTo>
                            <a:lnTo>
                              <a:pt x="75" y="3"/>
                            </a:lnTo>
                            <a:lnTo>
                              <a:pt x="70" y="0"/>
                            </a:lnTo>
                            <a:lnTo>
                              <a:pt x="68" y="0"/>
                            </a:lnTo>
                            <a:lnTo>
                              <a:pt x="59" y="2"/>
                            </a:lnTo>
                            <a:lnTo>
                              <a:pt x="55" y="10"/>
                            </a:lnTo>
                            <a:lnTo>
                              <a:pt x="50" y="17"/>
                            </a:lnTo>
                            <a:lnTo>
                              <a:pt x="42" y="23"/>
                            </a:lnTo>
                            <a:lnTo>
                              <a:pt x="29" y="33"/>
                            </a:lnTo>
                            <a:lnTo>
                              <a:pt x="22" y="47"/>
                            </a:lnTo>
                            <a:lnTo>
                              <a:pt x="14" y="61"/>
                            </a:lnTo>
                            <a:lnTo>
                              <a:pt x="8" y="70"/>
                            </a:lnTo>
                            <a:lnTo>
                              <a:pt x="0" y="84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13" name=""/>
                    <p:cNvGrpSpPr/>
                    <p:nvPr/>
                  </p:nvGrpSpPr>
                  <p:grpSpPr>
                    <a:xfrm>
                      <a:off x="4484520" y="3045240"/>
                      <a:ext cx="119160" cy="91800"/>
                      <a:chOff x="4484520" y="3045240"/>
                      <a:chExt cx="119160" cy="91800"/>
                    </a:xfrm>
                  </p:grpSpPr>
                  <p:grpSp>
                    <p:nvGrpSpPr>
                      <p:cNvPr id="914" name=""/>
                      <p:cNvGrpSpPr/>
                      <p:nvPr/>
                    </p:nvGrpSpPr>
                    <p:grpSpPr>
                      <a:xfrm>
                        <a:off x="4484520" y="3045240"/>
                        <a:ext cx="119160" cy="91800"/>
                        <a:chOff x="4484520" y="3045240"/>
                        <a:chExt cx="119160" cy="91800"/>
                      </a:xfrm>
                    </p:grpSpPr>
                    <p:sp>
                      <p:nvSpPr>
                        <p:cNvPr id="915" name=""/>
                        <p:cNvSpPr/>
                        <p:nvPr/>
                      </p:nvSpPr>
                      <p:spPr>
                        <a:xfrm>
                          <a:off x="4484520" y="3045240"/>
                          <a:ext cx="119160" cy="91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3" h="349">
                              <a:moveTo>
                                <a:pt x="23" y="295"/>
                              </a:moveTo>
                              <a:lnTo>
                                <a:pt x="41" y="312"/>
                              </a:lnTo>
                              <a:lnTo>
                                <a:pt x="56" y="330"/>
                              </a:lnTo>
                              <a:lnTo>
                                <a:pt x="76" y="341"/>
                              </a:lnTo>
                              <a:lnTo>
                                <a:pt x="85" y="349"/>
                              </a:lnTo>
                              <a:lnTo>
                                <a:pt x="88" y="316"/>
                              </a:lnTo>
                              <a:lnTo>
                                <a:pt x="96" y="285"/>
                              </a:lnTo>
                              <a:lnTo>
                                <a:pt x="102" y="260"/>
                              </a:lnTo>
                              <a:lnTo>
                                <a:pt x="105" y="238"/>
                              </a:lnTo>
                              <a:lnTo>
                                <a:pt x="103" y="211"/>
                              </a:lnTo>
                              <a:lnTo>
                                <a:pt x="95" y="194"/>
                              </a:lnTo>
                              <a:lnTo>
                                <a:pt x="85" y="186"/>
                              </a:lnTo>
                              <a:lnTo>
                                <a:pt x="110" y="189"/>
                              </a:lnTo>
                              <a:lnTo>
                                <a:pt x="142" y="182"/>
                              </a:lnTo>
                              <a:lnTo>
                                <a:pt x="161" y="173"/>
                              </a:lnTo>
                              <a:lnTo>
                                <a:pt x="183" y="164"/>
                              </a:lnTo>
                              <a:lnTo>
                                <a:pt x="208" y="155"/>
                              </a:lnTo>
                              <a:lnTo>
                                <a:pt x="230" y="147"/>
                              </a:lnTo>
                              <a:lnTo>
                                <a:pt x="245" y="136"/>
                              </a:lnTo>
                              <a:lnTo>
                                <a:pt x="269" y="116"/>
                              </a:lnTo>
                              <a:lnTo>
                                <a:pt x="269" y="115"/>
                              </a:lnTo>
                              <a:lnTo>
                                <a:pt x="280" y="94"/>
                              </a:lnTo>
                              <a:lnTo>
                                <a:pt x="289" y="76"/>
                              </a:lnTo>
                              <a:lnTo>
                                <a:pt x="309" y="81"/>
                              </a:lnTo>
                              <a:lnTo>
                                <a:pt x="333" y="94"/>
                              </a:lnTo>
                              <a:lnTo>
                                <a:pt x="356" y="109"/>
                              </a:lnTo>
                              <a:lnTo>
                                <a:pt x="373" y="127"/>
                              </a:lnTo>
                              <a:lnTo>
                                <a:pt x="385" y="148"/>
                              </a:lnTo>
                              <a:lnTo>
                                <a:pt x="395" y="168"/>
                              </a:lnTo>
                              <a:lnTo>
                                <a:pt x="400" y="189"/>
                              </a:lnTo>
                              <a:lnTo>
                                <a:pt x="413" y="207"/>
                              </a:lnTo>
                              <a:lnTo>
                                <a:pt x="410" y="171"/>
                              </a:lnTo>
                              <a:lnTo>
                                <a:pt x="403" y="150"/>
                              </a:lnTo>
                              <a:lnTo>
                                <a:pt x="393" y="127"/>
                              </a:lnTo>
                              <a:lnTo>
                                <a:pt x="388" y="101"/>
                              </a:lnTo>
                              <a:lnTo>
                                <a:pt x="367" y="76"/>
                              </a:lnTo>
                              <a:lnTo>
                                <a:pt x="338" y="45"/>
                              </a:lnTo>
                              <a:lnTo>
                                <a:pt x="320" y="27"/>
                              </a:lnTo>
                              <a:lnTo>
                                <a:pt x="305" y="14"/>
                              </a:lnTo>
                              <a:lnTo>
                                <a:pt x="289" y="7"/>
                              </a:lnTo>
                              <a:lnTo>
                                <a:pt x="275" y="2"/>
                              </a:lnTo>
                              <a:lnTo>
                                <a:pt x="253" y="2"/>
                              </a:lnTo>
                              <a:lnTo>
                                <a:pt x="244" y="2"/>
                              </a:lnTo>
                              <a:lnTo>
                                <a:pt x="216" y="0"/>
                              </a:lnTo>
                              <a:lnTo>
                                <a:pt x="179" y="0"/>
                              </a:lnTo>
                              <a:lnTo>
                                <a:pt x="143" y="9"/>
                              </a:lnTo>
                              <a:lnTo>
                                <a:pt x="114" y="20"/>
                              </a:lnTo>
                              <a:lnTo>
                                <a:pt x="87" y="28"/>
                              </a:lnTo>
                              <a:lnTo>
                                <a:pt x="67" y="38"/>
                              </a:lnTo>
                              <a:lnTo>
                                <a:pt x="52" y="48"/>
                              </a:lnTo>
                              <a:lnTo>
                                <a:pt x="40" y="59"/>
                              </a:lnTo>
                              <a:lnTo>
                                <a:pt x="26" y="73"/>
                              </a:lnTo>
                              <a:lnTo>
                                <a:pt x="14" y="90"/>
                              </a:lnTo>
                              <a:lnTo>
                                <a:pt x="4" y="105"/>
                              </a:lnTo>
                              <a:lnTo>
                                <a:pt x="0" y="123"/>
                              </a:lnTo>
                              <a:lnTo>
                                <a:pt x="0" y="150"/>
                              </a:lnTo>
                              <a:lnTo>
                                <a:pt x="0" y="175"/>
                              </a:lnTo>
                              <a:lnTo>
                                <a:pt x="3" y="200"/>
                              </a:lnTo>
                              <a:lnTo>
                                <a:pt x="3" y="229"/>
                              </a:lnTo>
                              <a:lnTo>
                                <a:pt x="4" y="252"/>
                              </a:lnTo>
                              <a:lnTo>
                                <a:pt x="11" y="268"/>
                              </a:lnTo>
                              <a:lnTo>
                                <a:pt x="23" y="29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6" name=""/>
                        <p:cNvSpPr/>
                        <p:nvPr/>
                      </p:nvSpPr>
                      <p:spPr>
                        <a:xfrm>
                          <a:off x="4489560" y="3046680"/>
                          <a:ext cx="73080" cy="8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53" h="310">
                              <a:moveTo>
                                <a:pt x="157" y="10"/>
                              </a:moveTo>
                              <a:lnTo>
                                <a:pt x="171" y="3"/>
                              </a:lnTo>
                              <a:lnTo>
                                <a:pt x="186" y="0"/>
                              </a:lnTo>
                              <a:lnTo>
                                <a:pt x="199" y="0"/>
                              </a:lnTo>
                              <a:lnTo>
                                <a:pt x="219" y="4"/>
                              </a:lnTo>
                              <a:lnTo>
                                <a:pt x="229" y="7"/>
                              </a:lnTo>
                              <a:lnTo>
                                <a:pt x="237" y="18"/>
                              </a:lnTo>
                              <a:lnTo>
                                <a:pt x="246" y="33"/>
                              </a:lnTo>
                              <a:lnTo>
                                <a:pt x="253" y="44"/>
                              </a:lnTo>
                              <a:lnTo>
                                <a:pt x="253" y="55"/>
                              </a:lnTo>
                              <a:lnTo>
                                <a:pt x="252" y="68"/>
                              </a:lnTo>
                              <a:lnTo>
                                <a:pt x="241" y="85"/>
                              </a:lnTo>
                              <a:lnTo>
                                <a:pt x="231" y="99"/>
                              </a:lnTo>
                              <a:lnTo>
                                <a:pt x="219" y="111"/>
                              </a:lnTo>
                              <a:lnTo>
                                <a:pt x="204" y="121"/>
                              </a:lnTo>
                              <a:lnTo>
                                <a:pt x="193" y="129"/>
                              </a:lnTo>
                              <a:lnTo>
                                <a:pt x="175" y="134"/>
                              </a:lnTo>
                              <a:lnTo>
                                <a:pt x="157" y="141"/>
                              </a:lnTo>
                              <a:lnTo>
                                <a:pt x="141" y="147"/>
                              </a:lnTo>
                              <a:lnTo>
                                <a:pt x="128" y="152"/>
                              </a:lnTo>
                              <a:lnTo>
                                <a:pt x="117" y="152"/>
                              </a:lnTo>
                              <a:lnTo>
                                <a:pt x="109" y="155"/>
                              </a:lnTo>
                              <a:lnTo>
                                <a:pt x="106" y="159"/>
                              </a:lnTo>
                              <a:lnTo>
                                <a:pt x="123" y="159"/>
                              </a:lnTo>
                              <a:lnTo>
                                <a:pt x="112" y="165"/>
                              </a:lnTo>
                              <a:lnTo>
                                <a:pt x="97" y="169"/>
                              </a:lnTo>
                              <a:lnTo>
                                <a:pt x="77" y="169"/>
                              </a:lnTo>
                              <a:lnTo>
                                <a:pt x="62" y="169"/>
                              </a:lnTo>
                              <a:lnTo>
                                <a:pt x="57" y="173"/>
                              </a:lnTo>
                              <a:lnTo>
                                <a:pt x="66" y="193"/>
                              </a:lnTo>
                              <a:lnTo>
                                <a:pt x="70" y="214"/>
                              </a:lnTo>
                              <a:lnTo>
                                <a:pt x="70" y="233"/>
                              </a:lnTo>
                              <a:lnTo>
                                <a:pt x="70" y="253"/>
                              </a:lnTo>
                              <a:lnTo>
                                <a:pt x="74" y="267"/>
                              </a:lnTo>
                              <a:lnTo>
                                <a:pt x="69" y="286"/>
                              </a:lnTo>
                              <a:lnTo>
                                <a:pt x="62" y="308"/>
                              </a:lnTo>
                              <a:lnTo>
                                <a:pt x="55" y="310"/>
                              </a:lnTo>
                              <a:lnTo>
                                <a:pt x="49" y="302"/>
                              </a:lnTo>
                              <a:lnTo>
                                <a:pt x="28" y="281"/>
                              </a:lnTo>
                              <a:lnTo>
                                <a:pt x="7" y="269"/>
                              </a:lnTo>
                              <a:lnTo>
                                <a:pt x="30" y="269"/>
                              </a:lnTo>
                              <a:lnTo>
                                <a:pt x="21" y="246"/>
                              </a:lnTo>
                              <a:lnTo>
                                <a:pt x="8" y="235"/>
                              </a:lnTo>
                              <a:lnTo>
                                <a:pt x="18" y="217"/>
                              </a:lnTo>
                              <a:lnTo>
                                <a:pt x="12" y="212"/>
                              </a:lnTo>
                              <a:lnTo>
                                <a:pt x="22" y="214"/>
                              </a:lnTo>
                              <a:lnTo>
                                <a:pt x="11" y="193"/>
                              </a:lnTo>
                              <a:lnTo>
                                <a:pt x="24" y="194"/>
                              </a:lnTo>
                              <a:lnTo>
                                <a:pt x="2" y="167"/>
                              </a:lnTo>
                              <a:lnTo>
                                <a:pt x="0" y="143"/>
                              </a:lnTo>
                              <a:lnTo>
                                <a:pt x="11" y="152"/>
                              </a:lnTo>
                              <a:lnTo>
                                <a:pt x="3" y="135"/>
                              </a:lnTo>
                              <a:lnTo>
                                <a:pt x="29" y="138"/>
                              </a:lnTo>
                              <a:lnTo>
                                <a:pt x="39" y="133"/>
                              </a:lnTo>
                              <a:lnTo>
                                <a:pt x="28" y="120"/>
                              </a:lnTo>
                              <a:lnTo>
                                <a:pt x="46" y="118"/>
                              </a:lnTo>
                              <a:lnTo>
                                <a:pt x="29" y="108"/>
                              </a:lnTo>
                              <a:lnTo>
                                <a:pt x="14" y="98"/>
                              </a:lnTo>
                              <a:lnTo>
                                <a:pt x="44" y="106"/>
                              </a:lnTo>
                              <a:lnTo>
                                <a:pt x="63" y="111"/>
                              </a:lnTo>
                              <a:lnTo>
                                <a:pt x="80" y="112"/>
                              </a:lnTo>
                              <a:lnTo>
                                <a:pt x="102" y="114"/>
                              </a:lnTo>
                              <a:lnTo>
                                <a:pt x="123" y="113"/>
                              </a:lnTo>
                              <a:lnTo>
                                <a:pt x="130" y="109"/>
                              </a:lnTo>
                              <a:lnTo>
                                <a:pt x="124" y="101"/>
                              </a:lnTo>
                              <a:lnTo>
                                <a:pt x="148" y="98"/>
                              </a:lnTo>
                              <a:lnTo>
                                <a:pt x="128" y="94"/>
                              </a:lnTo>
                              <a:lnTo>
                                <a:pt x="108" y="92"/>
                              </a:lnTo>
                              <a:lnTo>
                                <a:pt x="86" y="92"/>
                              </a:lnTo>
                              <a:lnTo>
                                <a:pt x="64" y="92"/>
                              </a:lnTo>
                              <a:lnTo>
                                <a:pt x="80" y="80"/>
                              </a:lnTo>
                              <a:lnTo>
                                <a:pt x="61" y="85"/>
                              </a:lnTo>
                              <a:lnTo>
                                <a:pt x="44" y="82"/>
                              </a:lnTo>
                              <a:lnTo>
                                <a:pt x="29" y="80"/>
                              </a:lnTo>
                              <a:lnTo>
                                <a:pt x="21" y="79"/>
                              </a:lnTo>
                              <a:lnTo>
                                <a:pt x="40" y="74"/>
                              </a:lnTo>
                              <a:lnTo>
                                <a:pt x="55" y="71"/>
                              </a:lnTo>
                              <a:lnTo>
                                <a:pt x="66" y="66"/>
                              </a:lnTo>
                              <a:lnTo>
                                <a:pt x="72" y="64"/>
                              </a:lnTo>
                              <a:lnTo>
                                <a:pt x="58" y="64"/>
                              </a:lnTo>
                              <a:lnTo>
                                <a:pt x="83" y="52"/>
                              </a:lnTo>
                              <a:lnTo>
                                <a:pt x="69" y="48"/>
                              </a:lnTo>
                              <a:lnTo>
                                <a:pt x="58" y="48"/>
                              </a:lnTo>
                              <a:lnTo>
                                <a:pt x="80" y="45"/>
                              </a:lnTo>
                              <a:lnTo>
                                <a:pt x="106" y="47"/>
                              </a:lnTo>
                              <a:lnTo>
                                <a:pt x="118" y="52"/>
                              </a:lnTo>
                              <a:lnTo>
                                <a:pt x="133" y="53"/>
                              </a:lnTo>
                              <a:lnTo>
                                <a:pt x="146" y="53"/>
                              </a:lnTo>
                              <a:lnTo>
                                <a:pt x="161" y="52"/>
                              </a:lnTo>
                              <a:lnTo>
                                <a:pt x="170" y="47"/>
                              </a:lnTo>
                              <a:lnTo>
                                <a:pt x="180" y="43"/>
                              </a:lnTo>
                              <a:lnTo>
                                <a:pt x="186" y="39"/>
                              </a:lnTo>
                              <a:lnTo>
                                <a:pt x="171" y="39"/>
                              </a:lnTo>
                              <a:lnTo>
                                <a:pt x="154" y="37"/>
                              </a:lnTo>
                              <a:lnTo>
                                <a:pt x="131" y="35"/>
                              </a:lnTo>
                              <a:lnTo>
                                <a:pt x="163" y="32"/>
                              </a:lnTo>
                              <a:lnTo>
                                <a:pt x="180" y="28"/>
                              </a:lnTo>
                              <a:lnTo>
                                <a:pt x="192" y="26"/>
                              </a:lnTo>
                              <a:lnTo>
                                <a:pt x="201" y="20"/>
                              </a:lnTo>
                              <a:lnTo>
                                <a:pt x="186" y="21"/>
                              </a:lnTo>
                              <a:lnTo>
                                <a:pt x="193" y="12"/>
                              </a:lnTo>
                              <a:lnTo>
                                <a:pt x="201" y="10"/>
                              </a:lnTo>
                              <a:lnTo>
                                <a:pt x="182" y="10"/>
                              </a:lnTo>
                              <a:lnTo>
                                <a:pt x="168" y="11"/>
                              </a:lnTo>
                              <a:lnTo>
                                <a:pt x="157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f3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5640" bIns="35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917" name=""/>
                      <p:cNvSpPr/>
                      <p:nvPr/>
                    </p:nvSpPr>
                    <p:spPr>
                      <a:xfrm>
                        <a:off x="4563720" y="3046680"/>
                        <a:ext cx="2088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80">
                            <a:moveTo>
                              <a:pt x="0" y="0"/>
                            </a:moveTo>
                            <a:lnTo>
                              <a:pt x="14" y="16"/>
                            </a:lnTo>
                            <a:lnTo>
                              <a:pt x="23" y="22"/>
                            </a:lnTo>
                            <a:lnTo>
                              <a:pt x="33" y="30"/>
                            </a:lnTo>
                            <a:lnTo>
                              <a:pt x="44" y="35"/>
                            </a:lnTo>
                            <a:lnTo>
                              <a:pt x="57" y="41"/>
                            </a:lnTo>
                            <a:lnTo>
                              <a:pt x="40" y="37"/>
                            </a:lnTo>
                            <a:lnTo>
                              <a:pt x="28" y="34"/>
                            </a:lnTo>
                            <a:lnTo>
                              <a:pt x="23" y="36"/>
                            </a:lnTo>
                            <a:lnTo>
                              <a:pt x="31" y="47"/>
                            </a:lnTo>
                            <a:lnTo>
                              <a:pt x="37" y="59"/>
                            </a:lnTo>
                            <a:lnTo>
                              <a:pt x="52" y="67"/>
                            </a:lnTo>
                            <a:lnTo>
                              <a:pt x="70" y="80"/>
                            </a:lnTo>
                            <a:lnTo>
                              <a:pt x="46" y="68"/>
                            </a:lnTo>
                            <a:lnTo>
                              <a:pt x="33" y="61"/>
                            </a:lnTo>
                            <a:lnTo>
                              <a:pt x="19" y="56"/>
                            </a:lnTo>
                            <a:lnTo>
                              <a:pt x="11" y="46"/>
                            </a:lnTo>
                            <a:lnTo>
                              <a:pt x="11" y="32"/>
                            </a:lnTo>
                            <a:lnTo>
                              <a:pt x="3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3f3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918" name=""/>
              <p:cNvSpPr/>
              <p:nvPr/>
            </p:nvSpPr>
            <p:spPr>
              <a:xfrm>
                <a:off x="3913560" y="3359520"/>
                <a:ext cx="1296000" cy="202320"/>
              </a:xfrm>
              <a:custGeom>
                <a:avLst/>
                <a:gdLst/>
                <a:ahLst/>
                <a:rect l="l" t="t" r="r" b="b"/>
                <a:pathLst>
                  <a:path w="4462" h="766">
                    <a:moveTo>
                      <a:pt x="565" y="0"/>
                    </a:moveTo>
                    <a:lnTo>
                      <a:pt x="0" y="766"/>
                    </a:lnTo>
                    <a:lnTo>
                      <a:pt x="4462" y="766"/>
                    </a:lnTo>
                    <a:lnTo>
                      <a:pt x="4059" y="0"/>
                    </a:lnTo>
                    <a:lnTo>
                      <a:pt x="565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9" name=""/>
              <p:cNvGrpSpPr/>
              <p:nvPr/>
            </p:nvGrpSpPr>
            <p:grpSpPr>
              <a:xfrm>
                <a:off x="4368240" y="3310200"/>
                <a:ext cx="62280" cy="56880"/>
                <a:chOff x="4368240" y="3310200"/>
                <a:chExt cx="62280" cy="5688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4368240" y="3310200"/>
                  <a:ext cx="61560" cy="56880"/>
                </a:xfrm>
                <a:custGeom>
                  <a:avLst/>
                  <a:gdLst/>
                  <a:ahLst/>
                  <a:rect l="l" t="t" r="r" b="b"/>
                  <a:pathLst>
                    <a:path w="214" h="214">
                      <a:moveTo>
                        <a:pt x="35" y="33"/>
                      </a:moveTo>
                      <a:lnTo>
                        <a:pt x="66" y="5"/>
                      </a:lnTo>
                      <a:lnTo>
                        <a:pt x="85" y="0"/>
                      </a:lnTo>
                      <a:lnTo>
                        <a:pt x="122" y="5"/>
                      </a:lnTo>
                      <a:lnTo>
                        <a:pt x="161" y="11"/>
                      </a:lnTo>
                      <a:lnTo>
                        <a:pt x="187" y="16"/>
                      </a:lnTo>
                      <a:lnTo>
                        <a:pt x="195" y="22"/>
                      </a:lnTo>
                      <a:lnTo>
                        <a:pt x="200" y="35"/>
                      </a:lnTo>
                      <a:lnTo>
                        <a:pt x="202" y="43"/>
                      </a:lnTo>
                      <a:lnTo>
                        <a:pt x="195" y="52"/>
                      </a:lnTo>
                      <a:lnTo>
                        <a:pt x="203" y="60"/>
                      </a:lnTo>
                      <a:lnTo>
                        <a:pt x="206" y="72"/>
                      </a:lnTo>
                      <a:lnTo>
                        <a:pt x="204" y="79"/>
                      </a:lnTo>
                      <a:lnTo>
                        <a:pt x="210" y="87"/>
                      </a:lnTo>
                      <a:lnTo>
                        <a:pt x="213" y="96"/>
                      </a:lnTo>
                      <a:lnTo>
                        <a:pt x="211" y="107"/>
                      </a:lnTo>
                      <a:lnTo>
                        <a:pt x="204" y="119"/>
                      </a:lnTo>
                      <a:lnTo>
                        <a:pt x="210" y="130"/>
                      </a:lnTo>
                      <a:lnTo>
                        <a:pt x="214" y="144"/>
                      </a:lnTo>
                      <a:lnTo>
                        <a:pt x="209" y="159"/>
                      </a:lnTo>
                      <a:lnTo>
                        <a:pt x="200" y="166"/>
                      </a:lnTo>
                      <a:lnTo>
                        <a:pt x="200" y="189"/>
                      </a:lnTo>
                      <a:lnTo>
                        <a:pt x="192" y="202"/>
                      </a:lnTo>
                      <a:lnTo>
                        <a:pt x="174" y="208"/>
                      </a:lnTo>
                      <a:lnTo>
                        <a:pt x="94" y="214"/>
                      </a:lnTo>
                      <a:lnTo>
                        <a:pt x="56" y="200"/>
                      </a:lnTo>
                      <a:lnTo>
                        <a:pt x="8" y="148"/>
                      </a:lnTo>
                      <a:lnTo>
                        <a:pt x="1" y="126"/>
                      </a:lnTo>
                      <a:lnTo>
                        <a:pt x="0" y="108"/>
                      </a:lnTo>
                      <a:lnTo>
                        <a:pt x="2" y="92"/>
                      </a:lnTo>
                      <a:lnTo>
                        <a:pt x="9" y="66"/>
                      </a:lnTo>
                      <a:lnTo>
                        <a:pt x="18" y="53"/>
                      </a:lnTo>
                      <a:lnTo>
                        <a:pt x="35" y="33"/>
                      </a:lnTo>
                      <a:close/>
                    </a:path>
                  </a:pathLst>
                </a:custGeom>
                <a:solidFill>
                  <a:srgbClr val="f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1" name=""/>
                <p:cNvGrpSpPr/>
                <p:nvPr/>
              </p:nvGrpSpPr>
              <p:grpSpPr>
                <a:xfrm>
                  <a:off x="4383720" y="3317040"/>
                  <a:ext cx="46800" cy="49320"/>
                  <a:chOff x="4383720" y="3317040"/>
                  <a:chExt cx="46800" cy="49320"/>
                </a:xfrm>
              </p:grpSpPr>
              <p:sp>
                <p:nvSpPr>
                  <p:cNvPr id="922" name=""/>
                  <p:cNvSpPr/>
                  <p:nvPr/>
                </p:nvSpPr>
                <p:spPr>
                  <a:xfrm>
                    <a:off x="4383720" y="3328560"/>
                    <a:ext cx="46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144">
                        <a:moveTo>
                          <a:pt x="48" y="20"/>
                        </a:moveTo>
                        <a:lnTo>
                          <a:pt x="67" y="22"/>
                        </a:lnTo>
                        <a:lnTo>
                          <a:pt x="79" y="22"/>
                        </a:lnTo>
                        <a:lnTo>
                          <a:pt x="78" y="0"/>
                        </a:lnTo>
                        <a:lnTo>
                          <a:pt x="86" y="12"/>
                        </a:lnTo>
                        <a:lnTo>
                          <a:pt x="93" y="18"/>
                        </a:lnTo>
                        <a:lnTo>
                          <a:pt x="101" y="20"/>
                        </a:lnTo>
                        <a:lnTo>
                          <a:pt x="118" y="18"/>
                        </a:lnTo>
                        <a:lnTo>
                          <a:pt x="130" y="13"/>
                        </a:lnTo>
                        <a:lnTo>
                          <a:pt x="141" y="9"/>
                        </a:lnTo>
                        <a:lnTo>
                          <a:pt x="151" y="6"/>
                        </a:lnTo>
                        <a:lnTo>
                          <a:pt x="155" y="2"/>
                        </a:lnTo>
                        <a:lnTo>
                          <a:pt x="152" y="9"/>
                        </a:lnTo>
                        <a:lnTo>
                          <a:pt x="158" y="17"/>
                        </a:lnTo>
                        <a:lnTo>
                          <a:pt x="161" y="26"/>
                        </a:lnTo>
                        <a:lnTo>
                          <a:pt x="160" y="37"/>
                        </a:lnTo>
                        <a:lnTo>
                          <a:pt x="152" y="49"/>
                        </a:lnTo>
                        <a:lnTo>
                          <a:pt x="158" y="60"/>
                        </a:lnTo>
                        <a:lnTo>
                          <a:pt x="162" y="74"/>
                        </a:lnTo>
                        <a:lnTo>
                          <a:pt x="157" y="89"/>
                        </a:lnTo>
                        <a:lnTo>
                          <a:pt x="149" y="96"/>
                        </a:lnTo>
                        <a:lnTo>
                          <a:pt x="149" y="119"/>
                        </a:lnTo>
                        <a:lnTo>
                          <a:pt x="140" y="132"/>
                        </a:lnTo>
                        <a:lnTo>
                          <a:pt x="122" y="138"/>
                        </a:lnTo>
                        <a:lnTo>
                          <a:pt x="43" y="144"/>
                        </a:lnTo>
                        <a:lnTo>
                          <a:pt x="4" y="130"/>
                        </a:lnTo>
                        <a:lnTo>
                          <a:pt x="27" y="137"/>
                        </a:lnTo>
                        <a:lnTo>
                          <a:pt x="48" y="140"/>
                        </a:lnTo>
                        <a:lnTo>
                          <a:pt x="63" y="139"/>
                        </a:lnTo>
                        <a:lnTo>
                          <a:pt x="76" y="136"/>
                        </a:lnTo>
                        <a:lnTo>
                          <a:pt x="80" y="124"/>
                        </a:lnTo>
                        <a:lnTo>
                          <a:pt x="80" y="139"/>
                        </a:lnTo>
                        <a:lnTo>
                          <a:pt x="99" y="137"/>
                        </a:lnTo>
                        <a:lnTo>
                          <a:pt x="123" y="136"/>
                        </a:lnTo>
                        <a:lnTo>
                          <a:pt x="135" y="130"/>
                        </a:lnTo>
                        <a:lnTo>
                          <a:pt x="140" y="120"/>
                        </a:lnTo>
                        <a:lnTo>
                          <a:pt x="145" y="109"/>
                        </a:lnTo>
                        <a:lnTo>
                          <a:pt x="146" y="100"/>
                        </a:lnTo>
                        <a:lnTo>
                          <a:pt x="133" y="103"/>
                        </a:lnTo>
                        <a:lnTo>
                          <a:pt x="118" y="106"/>
                        </a:lnTo>
                        <a:lnTo>
                          <a:pt x="101" y="107"/>
                        </a:lnTo>
                        <a:lnTo>
                          <a:pt x="83" y="109"/>
                        </a:lnTo>
                        <a:lnTo>
                          <a:pt x="69" y="107"/>
                        </a:lnTo>
                        <a:lnTo>
                          <a:pt x="55" y="106"/>
                        </a:lnTo>
                        <a:lnTo>
                          <a:pt x="39" y="101"/>
                        </a:lnTo>
                        <a:lnTo>
                          <a:pt x="21" y="96"/>
                        </a:lnTo>
                        <a:lnTo>
                          <a:pt x="10" y="86"/>
                        </a:lnTo>
                        <a:lnTo>
                          <a:pt x="26" y="94"/>
                        </a:lnTo>
                        <a:lnTo>
                          <a:pt x="37" y="96"/>
                        </a:lnTo>
                        <a:lnTo>
                          <a:pt x="51" y="98"/>
                        </a:lnTo>
                        <a:lnTo>
                          <a:pt x="66" y="100"/>
                        </a:lnTo>
                        <a:lnTo>
                          <a:pt x="83" y="101"/>
                        </a:lnTo>
                        <a:lnTo>
                          <a:pt x="95" y="97"/>
                        </a:lnTo>
                        <a:lnTo>
                          <a:pt x="106" y="91"/>
                        </a:lnTo>
                        <a:lnTo>
                          <a:pt x="108" y="100"/>
                        </a:lnTo>
                        <a:lnTo>
                          <a:pt x="116" y="99"/>
                        </a:lnTo>
                        <a:lnTo>
                          <a:pt x="129" y="98"/>
                        </a:lnTo>
                        <a:lnTo>
                          <a:pt x="140" y="97"/>
                        </a:lnTo>
                        <a:lnTo>
                          <a:pt x="145" y="93"/>
                        </a:lnTo>
                        <a:lnTo>
                          <a:pt x="149" y="87"/>
                        </a:lnTo>
                        <a:lnTo>
                          <a:pt x="152" y="81"/>
                        </a:lnTo>
                        <a:lnTo>
                          <a:pt x="155" y="74"/>
                        </a:lnTo>
                        <a:lnTo>
                          <a:pt x="153" y="67"/>
                        </a:lnTo>
                        <a:lnTo>
                          <a:pt x="151" y="62"/>
                        </a:lnTo>
                        <a:lnTo>
                          <a:pt x="144" y="62"/>
                        </a:lnTo>
                        <a:lnTo>
                          <a:pt x="128" y="65"/>
                        </a:lnTo>
                        <a:lnTo>
                          <a:pt x="113" y="70"/>
                        </a:lnTo>
                        <a:lnTo>
                          <a:pt x="97" y="72"/>
                        </a:lnTo>
                        <a:lnTo>
                          <a:pt x="80" y="73"/>
                        </a:lnTo>
                        <a:lnTo>
                          <a:pt x="65" y="74"/>
                        </a:lnTo>
                        <a:lnTo>
                          <a:pt x="45" y="74"/>
                        </a:lnTo>
                        <a:lnTo>
                          <a:pt x="28" y="70"/>
                        </a:lnTo>
                        <a:lnTo>
                          <a:pt x="15" y="65"/>
                        </a:lnTo>
                        <a:lnTo>
                          <a:pt x="0" y="54"/>
                        </a:lnTo>
                        <a:lnTo>
                          <a:pt x="24" y="63"/>
                        </a:lnTo>
                        <a:lnTo>
                          <a:pt x="37" y="66"/>
                        </a:lnTo>
                        <a:lnTo>
                          <a:pt x="51" y="70"/>
                        </a:lnTo>
                        <a:lnTo>
                          <a:pt x="66" y="69"/>
                        </a:lnTo>
                        <a:lnTo>
                          <a:pt x="77" y="67"/>
                        </a:lnTo>
                        <a:lnTo>
                          <a:pt x="88" y="64"/>
                        </a:lnTo>
                        <a:lnTo>
                          <a:pt x="96" y="56"/>
                        </a:lnTo>
                        <a:lnTo>
                          <a:pt x="106" y="50"/>
                        </a:lnTo>
                        <a:lnTo>
                          <a:pt x="100" y="59"/>
                        </a:lnTo>
                        <a:lnTo>
                          <a:pt x="105" y="64"/>
                        </a:lnTo>
                        <a:lnTo>
                          <a:pt x="110" y="63"/>
                        </a:lnTo>
                        <a:lnTo>
                          <a:pt x="123" y="60"/>
                        </a:lnTo>
                        <a:lnTo>
                          <a:pt x="135" y="57"/>
                        </a:lnTo>
                        <a:lnTo>
                          <a:pt x="146" y="49"/>
                        </a:lnTo>
                        <a:lnTo>
                          <a:pt x="155" y="40"/>
                        </a:lnTo>
                        <a:lnTo>
                          <a:pt x="156" y="32"/>
                        </a:lnTo>
                        <a:lnTo>
                          <a:pt x="155" y="23"/>
                        </a:lnTo>
                        <a:lnTo>
                          <a:pt x="153" y="11"/>
                        </a:lnTo>
                        <a:lnTo>
                          <a:pt x="142" y="15"/>
                        </a:lnTo>
                        <a:lnTo>
                          <a:pt x="128" y="22"/>
                        </a:lnTo>
                        <a:lnTo>
                          <a:pt x="107" y="27"/>
                        </a:lnTo>
                        <a:lnTo>
                          <a:pt x="84" y="29"/>
                        </a:lnTo>
                        <a:lnTo>
                          <a:pt x="61" y="27"/>
                        </a:lnTo>
                        <a:lnTo>
                          <a:pt x="40" y="24"/>
                        </a:lnTo>
                        <a:lnTo>
                          <a:pt x="21" y="17"/>
                        </a:lnTo>
                        <a:lnTo>
                          <a:pt x="48" y="20"/>
                        </a:lnTo>
                        <a:close/>
                      </a:path>
                    </a:pathLst>
                  </a:custGeom>
                  <a:solidFill>
                    <a:srgbClr val="d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4385160" y="3317040"/>
                    <a:ext cx="30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8">
                        <a:moveTo>
                          <a:pt x="108" y="0"/>
                        </a:moveTo>
                        <a:lnTo>
                          <a:pt x="98" y="7"/>
                        </a:lnTo>
                        <a:lnTo>
                          <a:pt x="89" y="16"/>
                        </a:lnTo>
                        <a:lnTo>
                          <a:pt x="78" y="14"/>
                        </a:lnTo>
                        <a:lnTo>
                          <a:pt x="67" y="8"/>
                        </a:lnTo>
                        <a:lnTo>
                          <a:pt x="56" y="8"/>
                        </a:lnTo>
                        <a:lnTo>
                          <a:pt x="38" y="13"/>
                        </a:lnTo>
                        <a:lnTo>
                          <a:pt x="25" y="18"/>
                        </a:lnTo>
                        <a:lnTo>
                          <a:pt x="34" y="11"/>
                        </a:lnTo>
                        <a:lnTo>
                          <a:pt x="16" y="8"/>
                        </a:lnTo>
                        <a:lnTo>
                          <a:pt x="0" y="6"/>
                        </a:lnTo>
                        <a:lnTo>
                          <a:pt x="21" y="5"/>
                        </a:lnTo>
                        <a:lnTo>
                          <a:pt x="38" y="7"/>
                        </a:lnTo>
                        <a:lnTo>
                          <a:pt x="51" y="7"/>
                        </a:lnTo>
                        <a:lnTo>
                          <a:pt x="61" y="5"/>
                        </a:lnTo>
                        <a:lnTo>
                          <a:pt x="71" y="5"/>
                        </a:lnTo>
                        <a:lnTo>
                          <a:pt x="78" y="8"/>
                        </a:lnTo>
                        <a:lnTo>
                          <a:pt x="89" y="12"/>
                        </a:lnTo>
                        <a:lnTo>
                          <a:pt x="108" y="0"/>
                        </a:lnTo>
                        <a:close/>
                      </a:path>
                    </a:pathLst>
                  </a:custGeom>
                  <a:solidFill>
                    <a:srgbClr val="d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24" name=""/>
              <p:cNvGrpSpPr/>
              <p:nvPr/>
            </p:nvGrpSpPr>
            <p:grpSpPr>
              <a:xfrm>
                <a:off x="4412160" y="3363120"/>
                <a:ext cx="414720" cy="120600"/>
                <a:chOff x="4412160" y="3363120"/>
                <a:chExt cx="414720" cy="12060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4412160" y="3367440"/>
                  <a:ext cx="154440" cy="116280"/>
                </a:xfrm>
                <a:custGeom>
                  <a:avLst/>
                  <a:gdLst/>
                  <a:ahLst/>
                  <a:rect l="l" t="t" r="r" b="b"/>
                  <a:pathLst>
                    <a:path w="531" h="441">
                      <a:moveTo>
                        <a:pt x="113" y="0"/>
                      </a:moveTo>
                      <a:lnTo>
                        <a:pt x="0" y="396"/>
                      </a:lnTo>
                      <a:lnTo>
                        <a:pt x="427" y="441"/>
                      </a:lnTo>
                      <a:lnTo>
                        <a:pt x="531" y="32"/>
                      </a:lnTo>
                      <a:lnTo>
                        <a:pt x="113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4479120" y="3363120"/>
                  <a:ext cx="183960" cy="89280"/>
                </a:xfrm>
                <a:custGeom>
                  <a:avLst/>
                  <a:gdLst/>
                  <a:ahLst/>
                  <a:rect l="l" t="t" r="r" b="b"/>
                  <a:pathLst>
                    <a:path w="633" h="340">
                      <a:moveTo>
                        <a:pt x="0" y="74"/>
                      </a:moveTo>
                      <a:lnTo>
                        <a:pt x="197" y="340"/>
                      </a:lnTo>
                      <a:lnTo>
                        <a:pt x="633" y="212"/>
                      </a:lnTo>
                      <a:lnTo>
                        <a:pt x="418" y="0"/>
                      </a:lnTo>
                      <a:lnTo>
                        <a:pt x="0" y="74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607280" y="3366720"/>
                  <a:ext cx="219600" cy="75960"/>
                </a:xfrm>
                <a:custGeom>
                  <a:avLst/>
                  <a:gdLst/>
                  <a:ahLst/>
                  <a:rect l="l" t="t" r="r" b="b"/>
                  <a:pathLst>
                    <a:path w="756" h="290">
                      <a:moveTo>
                        <a:pt x="0" y="32"/>
                      </a:moveTo>
                      <a:lnTo>
                        <a:pt x="526" y="0"/>
                      </a:lnTo>
                      <a:lnTo>
                        <a:pt x="756" y="206"/>
                      </a:lnTo>
                      <a:lnTo>
                        <a:pt x="149" y="290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4655880" y="2997000"/>
                <a:ext cx="428760" cy="383040"/>
                <a:chOff x="4655880" y="2997000"/>
                <a:chExt cx="428760" cy="383040"/>
              </a:xfrm>
            </p:grpSpPr>
            <p:grpSp>
              <p:nvGrpSpPr>
                <p:cNvPr id="929" name=""/>
                <p:cNvGrpSpPr/>
                <p:nvPr/>
              </p:nvGrpSpPr>
              <p:grpSpPr>
                <a:xfrm>
                  <a:off x="4710600" y="2997000"/>
                  <a:ext cx="374040" cy="371880"/>
                  <a:chOff x="4710600" y="2997000"/>
                  <a:chExt cx="374040" cy="371880"/>
                </a:xfrm>
              </p:grpSpPr>
              <p:sp>
                <p:nvSpPr>
                  <p:cNvPr id="930" name=""/>
                  <p:cNvSpPr/>
                  <p:nvPr/>
                </p:nvSpPr>
                <p:spPr>
                  <a:xfrm>
                    <a:off x="4710600" y="3135600"/>
                    <a:ext cx="374040" cy="23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86" h="882">
                        <a:moveTo>
                          <a:pt x="764" y="8"/>
                        </a:moveTo>
                        <a:lnTo>
                          <a:pt x="830" y="0"/>
                        </a:lnTo>
                        <a:lnTo>
                          <a:pt x="896" y="8"/>
                        </a:lnTo>
                        <a:lnTo>
                          <a:pt x="929" y="22"/>
                        </a:lnTo>
                        <a:lnTo>
                          <a:pt x="1005" y="79"/>
                        </a:lnTo>
                        <a:lnTo>
                          <a:pt x="1053" y="125"/>
                        </a:lnTo>
                        <a:lnTo>
                          <a:pt x="1104" y="191"/>
                        </a:lnTo>
                        <a:lnTo>
                          <a:pt x="1148" y="258"/>
                        </a:lnTo>
                        <a:lnTo>
                          <a:pt x="1181" y="311"/>
                        </a:lnTo>
                        <a:lnTo>
                          <a:pt x="1195" y="339"/>
                        </a:lnTo>
                        <a:lnTo>
                          <a:pt x="1217" y="424"/>
                        </a:lnTo>
                        <a:lnTo>
                          <a:pt x="1246" y="554"/>
                        </a:lnTo>
                        <a:lnTo>
                          <a:pt x="1265" y="646"/>
                        </a:lnTo>
                        <a:lnTo>
                          <a:pt x="1276" y="766"/>
                        </a:lnTo>
                        <a:lnTo>
                          <a:pt x="1286" y="864"/>
                        </a:lnTo>
                        <a:lnTo>
                          <a:pt x="1013" y="868"/>
                        </a:lnTo>
                        <a:lnTo>
                          <a:pt x="845" y="878"/>
                        </a:lnTo>
                        <a:lnTo>
                          <a:pt x="713" y="882"/>
                        </a:lnTo>
                        <a:lnTo>
                          <a:pt x="343" y="864"/>
                        </a:lnTo>
                        <a:lnTo>
                          <a:pt x="197" y="857"/>
                        </a:lnTo>
                        <a:lnTo>
                          <a:pt x="76" y="850"/>
                        </a:lnTo>
                        <a:lnTo>
                          <a:pt x="80" y="811"/>
                        </a:lnTo>
                        <a:lnTo>
                          <a:pt x="65" y="769"/>
                        </a:lnTo>
                        <a:lnTo>
                          <a:pt x="29" y="741"/>
                        </a:lnTo>
                        <a:lnTo>
                          <a:pt x="0" y="723"/>
                        </a:lnTo>
                        <a:lnTo>
                          <a:pt x="153" y="671"/>
                        </a:lnTo>
                        <a:lnTo>
                          <a:pt x="281" y="621"/>
                        </a:lnTo>
                        <a:lnTo>
                          <a:pt x="336" y="597"/>
                        </a:lnTo>
                        <a:lnTo>
                          <a:pt x="383" y="575"/>
                        </a:lnTo>
                        <a:lnTo>
                          <a:pt x="416" y="530"/>
                        </a:lnTo>
                        <a:lnTo>
                          <a:pt x="423" y="512"/>
                        </a:lnTo>
                        <a:lnTo>
                          <a:pt x="427" y="473"/>
                        </a:lnTo>
                        <a:lnTo>
                          <a:pt x="431" y="449"/>
                        </a:lnTo>
                        <a:lnTo>
                          <a:pt x="445" y="403"/>
                        </a:lnTo>
                        <a:lnTo>
                          <a:pt x="453" y="382"/>
                        </a:lnTo>
                        <a:lnTo>
                          <a:pt x="456" y="346"/>
                        </a:lnTo>
                        <a:lnTo>
                          <a:pt x="464" y="294"/>
                        </a:lnTo>
                        <a:lnTo>
                          <a:pt x="482" y="262"/>
                        </a:lnTo>
                        <a:lnTo>
                          <a:pt x="482" y="227"/>
                        </a:lnTo>
                        <a:lnTo>
                          <a:pt x="573" y="125"/>
                        </a:lnTo>
                        <a:lnTo>
                          <a:pt x="591" y="142"/>
                        </a:lnTo>
                        <a:lnTo>
                          <a:pt x="764" y="8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4957920" y="3191040"/>
                    <a:ext cx="730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669">
                        <a:moveTo>
                          <a:pt x="197" y="0"/>
                        </a:moveTo>
                        <a:lnTo>
                          <a:pt x="223" y="25"/>
                        </a:lnTo>
                        <a:lnTo>
                          <a:pt x="230" y="81"/>
                        </a:lnTo>
                        <a:lnTo>
                          <a:pt x="230" y="141"/>
                        </a:lnTo>
                        <a:lnTo>
                          <a:pt x="230" y="180"/>
                        </a:lnTo>
                        <a:lnTo>
                          <a:pt x="252" y="201"/>
                        </a:lnTo>
                        <a:lnTo>
                          <a:pt x="234" y="211"/>
                        </a:lnTo>
                        <a:lnTo>
                          <a:pt x="230" y="250"/>
                        </a:lnTo>
                        <a:lnTo>
                          <a:pt x="219" y="271"/>
                        </a:lnTo>
                        <a:lnTo>
                          <a:pt x="212" y="303"/>
                        </a:lnTo>
                        <a:lnTo>
                          <a:pt x="201" y="317"/>
                        </a:lnTo>
                        <a:lnTo>
                          <a:pt x="201" y="352"/>
                        </a:lnTo>
                        <a:lnTo>
                          <a:pt x="186" y="388"/>
                        </a:lnTo>
                        <a:lnTo>
                          <a:pt x="183" y="447"/>
                        </a:lnTo>
                        <a:lnTo>
                          <a:pt x="172" y="507"/>
                        </a:lnTo>
                        <a:lnTo>
                          <a:pt x="164" y="521"/>
                        </a:lnTo>
                        <a:lnTo>
                          <a:pt x="164" y="543"/>
                        </a:lnTo>
                        <a:lnTo>
                          <a:pt x="146" y="546"/>
                        </a:lnTo>
                        <a:lnTo>
                          <a:pt x="146" y="560"/>
                        </a:lnTo>
                        <a:lnTo>
                          <a:pt x="139" y="581"/>
                        </a:lnTo>
                        <a:lnTo>
                          <a:pt x="117" y="606"/>
                        </a:lnTo>
                        <a:lnTo>
                          <a:pt x="95" y="634"/>
                        </a:lnTo>
                        <a:lnTo>
                          <a:pt x="80" y="669"/>
                        </a:lnTo>
                        <a:lnTo>
                          <a:pt x="18" y="669"/>
                        </a:lnTo>
                        <a:lnTo>
                          <a:pt x="117" y="585"/>
                        </a:lnTo>
                        <a:lnTo>
                          <a:pt x="135" y="550"/>
                        </a:lnTo>
                        <a:lnTo>
                          <a:pt x="128" y="514"/>
                        </a:lnTo>
                        <a:lnTo>
                          <a:pt x="150" y="497"/>
                        </a:lnTo>
                        <a:lnTo>
                          <a:pt x="150" y="388"/>
                        </a:lnTo>
                        <a:lnTo>
                          <a:pt x="84" y="377"/>
                        </a:lnTo>
                        <a:lnTo>
                          <a:pt x="44" y="366"/>
                        </a:lnTo>
                        <a:lnTo>
                          <a:pt x="0" y="352"/>
                        </a:lnTo>
                        <a:lnTo>
                          <a:pt x="139" y="349"/>
                        </a:lnTo>
                        <a:lnTo>
                          <a:pt x="161" y="338"/>
                        </a:lnTo>
                        <a:lnTo>
                          <a:pt x="157" y="317"/>
                        </a:lnTo>
                        <a:lnTo>
                          <a:pt x="117" y="310"/>
                        </a:lnTo>
                        <a:lnTo>
                          <a:pt x="73" y="307"/>
                        </a:lnTo>
                        <a:lnTo>
                          <a:pt x="131" y="292"/>
                        </a:lnTo>
                        <a:lnTo>
                          <a:pt x="146" y="282"/>
                        </a:lnTo>
                        <a:lnTo>
                          <a:pt x="95" y="233"/>
                        </a:lnTo>
                        <a:lnTo>
                          <a:pt x="47" y="208"/>
                        </a:lnTo>
                        <a:lnTo>
                          <a:pt x="18" y="176"/>
                        </a:lnTo>
                        <a:lnTo>
                          <a:pt x="7" y="169"/>
                        </a:lnTo>
                        <a:lnTo>
                          <a:pt x="40" y="166"/>
                        </a:lnTo>
                        <a:lnTo>
                          <a:pt x="80" y="183"/>
                        </a:lnTo>
                        <a:lnTo>
                          <a:pt x="131" y="211"/>
                        </a:lnTo>
                        <a:lnTo>
                          <a:pt x="175" y="229"/>
                        </a:lnTo>
                        <a:lnTo>
                          <a:pt x="201" y="222"/>
                        </a:lnTo>
                        <a:lnTo>
                          <a:pt x="215" y="194"/>
                        </a:lnTo>
                        <a:lnTo>
                          <a:pt x="215" y="134"/>
                        </a:lnTo>
                        <a:lnTo>
                          <a:pt x="197" y="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4753080" y="3237840"/>
                    <a:ext cx="145440" cy="122040"/>
                  </a:xfrm>
                  <a:custGeom>
                    <a:avLst/>
                    <a:gdLst/>
                    <a:ahLst/>
                    <a:rect l="l" t="t" r="r" b="b"/>
                    <a:pathLst>
                      <a:path w="501" h="462">
                        <a:moveTo>
                          <a:pt x="0" y="462"/>
                        </a:moveTo>
                        <a:lnTo>
                          <a:pt x="314" y="356"/>
                        </a:lnTo>
                        <a:lnTo>
                          <a:pt x="339" y="335"/>
                        </a:lnTo>
                        <a:lnTo>
                          <a:pt x="365" y="300"/>
                        </a:lnTo>
                        <a:lnTo>
                          <a:pt x="369" y="264"/>
                        </a:lnTo>
                        <a:lnTo>
                          <a:pt x="372" y="162"/>
                        </a:lnTo>
                        <a:lnTo>
                          <a:pt x="383" y="233"/>
                        </a:lnTo>
                        <a:lnTo>
                          <a:pt x="405" y="250"/>
                        </a:lnTo>
                        <a:lnTo>
                          <a:pt x="420" y="194"/>
                        </a:lnTo>
                        <a:lnTo>
                          <a:pt x="434" y="141"/>
                        </a:lnTo>
                        <a:lnTo>
                          <a:pt x="487" y="0"/>
                        </a:lnTo>
                        <a:lnTo>
                          <a:pt x="454" y="120"/>
                        </a:lnTo>
                        <a:lnTo>
                          <a:pt x="434" y="194"/>
                        </a:lnTo>
                        <a:lnTo>
                          <a:pt x="423" y="250"/>
                        </a:lnTo>
                        <a:lnTo>
                          <a:pt x="405" y="286"/>
                        </a:lnTo>
                        <a:lnTo>
                          <a:pt x="383" y="314"/>
                        </a:lnTo>
                        <a:lnTo>
                          <a:pt x="409" y="335"/>
                        </a:lnTo>
                        <a:lnTo>
                          <a:pt x="442" y="331"/>
                        </a:lnTo>
                        <a:lnTo>
                          <a:pt x="501" y="282"/>
                        </a:lnTo>
                        <a:lnTo>
                          <a:pt x="423" y="370"/>
                        </a:lnTo>
                        <a:lnTo>
                          <a:pt x="343" y="388"/>
                        </a:lnTo>
                        <a:lnTo>
                          <a:pt x="252" y="405"/>
                        </a:lnTo>
                        <a:lnTo>
                          <a:pt x="164" y="423"/>
                        </a:lnTo>
                        <a:lnTo>
                          <a:pt x="66" y="444"/>
                        </a:lnTo>
                        <a:lnTo>
                          <a:pt x="0" y="462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4882320" y="3153960"/>
                    <a:ext cx="113760" cy="2030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768">
                        <a:moveTo>
                          <a:pt x="392" y="7"/>
                        </a:moveTo>
                        <a:lnTo>
                          <a:pt x="312" y="0"/>
                        </a:lnTo>
                        <a:lnTo>
                          <a:pt x="268" y="7"/>
                        </a:lnTo>
                        <a:lnTo>
                          <a:pt x="195" y="78"/>
                        </a:lnTo>
                        <a:lnTo>
                          <a:pt x="126" y="162"/>
                        </a:lnTo>
                        <a:lnTo>
                          <a:pt x="86" y="328"/>
                        </a:lnTo>
                        <a:lnTo>
                          <a:pt x="71" y="374"/>
                        </a:lnTo>
                        <a:lnTo>
                          <a:pt x="56" y="507"/>
                        </a:lnTo>
                        <a:lnTo>
                          <a:pt x="49" y="603"/>
                        </a:lnTo>
                        <a:lnTo>
                          <a:pt x="0" y="662"/>
                        </a:lnTo>
                        <a:lnTo>
                          <a:pt x="108" y="768"/>
                        </a:lnTo>
                        <a:lnTo>
                          <a:pt x="56" y="691"/>
                        </a:lnTo>
                        <a:lnTo>
                          <a:pt x="67" y="684"/>
                        </a:lnTo>
                        <a:lnTo>
                          <a:pt x="140" y="722"/>
                        </a:lnTo>
                        <a:lnTo>
                          <a:pt x="228" y="743"/>
                        </a:lnTo>
                        <a:lnTo>
                          <a:pt x="111" y="698"/>
                        </a:lnTo>
                        <a:lnTo>
                          <a:pt x="67" y="659"/>
                        </a:lnTo>
                        <a:lnTo>
                          <a:pt x="67" y="620"/>
                        </a:lnTo>
                        <a:lnTo>
                          <a:pt x="140" y="617"/>
                        </a:lnTo>
                        <a:lnTo>
                          <a:pt x="64" y="599"/>
                        </a:lnTo>
                        <a:lnTo>
                          <a:pt x="71" y="507"/>
                        </a:lnTo>
                        <a:lnTo>
                          <a:pt x="89" y="356"/>
                        </a:lnTo>
                        <a:lnTo>
                          <a:pt x="148" y="166"/>
                        </a:lnTo>
                        <a:lnTo>
                          <a:pt x="188" y="106"/>
                        </a:lnTo>
                        <a:lnTo>
                          <a:pt x="268" y="28"/>
                        </a:lnTo>
                        <a:lnTo>
                          <a:pt x="312" y="18"/>
                        </a:lnTo>
                        <a:lnTo>
                          <a:pt x="392" y="7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34" name=""/>
                  <p:cNvGrpSpPr/>
                  <p:nvPr/>
                </p:nvGrpSpPr>
                <p:grpSpPr>
                  <a:xfrm>
                    <a:off x="4788000" y="2997000"/>
                    <a:ext cx="185760" cy="255960"/>
                    <a:chOff x="4788000" y="2997000"/>
                    <a:chExt cx="185760" cy="255960"/>
                  </a:xfrm>
                </p:grpSpPr>
                <p:sp>
                  <p:nvSpPr>
                    <p:cNvPr id="935" name=""/>
                    <p:cNvSpPr/>
                    <p:nvPr/>
                  </p:nvSpPr>
                  <p:spPr>
                    <a:xfrm>
                      <a:off x="4867200" y="3134880"/>
                      <a:ext cx="66960" cy="6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1" h="229">
                          <a:moveTo>
                            <a:pt x="202" y="0"/>
                          </a:moveTo>
                          <a:lnTo>
                            <a:pt x="44" y="135"/>
                          </a:lnTo>
                          <a:lnTo>
                            <a:pt x="33" y="118"/>
                          </a:lnTo>
                          <a:lnTo>
                            <a:pt x="8" y="174"/>
                          </a:lnTo>
                          <a:lnTo>
                            <a:pt x="0" y="206"/>
                          </a:lnTo>
                          <a:lnTo>
                            <a:pt x="18" y="188"/>
                          </a:lnTo>
                          <a:lnTo>
                            <a:pt x="35" y="151"/>
                          </a:lnTo>
                          <a:lnTo>
                            <a:pt x="69" y="229"/>
                          </a:lnTo>
                          <a:lnTo>
                            <a:pt x="122" y="169"/>
                          </a:lnTo>
                          <a:lnTo>
                            <a:pt x="180" y="76"/>
                          </a:lnTo>
                          <a:lnTo>
                            <a:pt x="231" y="16"/>
                          </a:lnTo>
                          <a:lnTo>
                            <a:pt x="202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"/>
                    <p:cNvSpPr/>
                    <p:nvPr/>
                  </p:nvSpPr>
                  <p:spPr>
                    <a:xfrm>
                      <a:off x="4866480" y="3174480"/>
                      <a:ext cx="19080" cy="7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286">
                          <a:moveTo>
                            <a:pt x="37" y="0"/>
                          </a:moveTo>
                          <a:lnTo>
                            <a:pt x="26" y="13"/>
                          </a:lnTo>
                          <a:lnTo>
                            <a:pt x="19" y="23"/>
                          </a:lnTo>
                          <a:lnTo>
                            <a:pt x="13" y="37"/>
                          </a:lnTo>
                          <a:lnTo>
                            <a:pt x="6" y="60"/>
                          </a:lnTo>
                          <a:lnTo>
                            <a:pt x="4" y="83"/>
                          </a:lnTo>
                          <a:lnTo>
                            <a:pt x="6" y="105"/>
                          </a:lnTo>
                          <a:lnTo>
                            <a:pt x="10" y="129"/>
                          </a:lnTo>
                          <a:lnTo>
                            <a:pt x="14" y="142"/>
                          </a:lnTo>
                          <a:lnTo>
                            <a:pt x="2" y="195"/>
                          </a:lnTo>
                          <a:lnTo>
                            <a:pt x="0" y="218"/>
                          </a:lnTo>
                          <a:lnTo>
                            <a:pt x="0" y="247"/>
                          </a:lnTo>
                          <a:lnTo>
                            <a:pt x="4" y="286"/>
                          </a:lnTo>
                          <a:lnTo>
                            <a:pt x="25" y="198"/>
                          </a:lnTo>
                          <a:lnTo>
                            <a:pt x="36" y="139"/>
                          </a:lnTo>
                          <a:lnTo>
                            <a:pt x="66" y="65"/>
                          </a:lnTo>
                          <a:lnTo>
                            <a:pt x="37" y="0"/>
                          </a:lnTo>
                          <a:close/>
                        </a:path>
                      </a:pathLst>
                    </a:custGeom>
                    <a:solidFill>
                      <a:srgbClr val="000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440" bIns="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7" name=""/>
                    <p:cNvSpPr/>
                    <p:nvPr/>
                  </p:nvSpPr>
                  <p:spPr>
                    <a:xfrm>
                      <a:off x="4867200" y="3174480"/>
                      <a:ext cx="1728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151">
                          <a:moveTo>
                            <a:pt x="33" y="0"/>
                          </a:moveTo>
                          <a:lnTo>
                            <a:pt x="22" y="13"/>
                          </a:lnTo>
                          <a:lnTo>
                            <a:pt x="14" y="23"/>
                          </a:lnTo>
                          <a:lnTo>
                            <a:pt x="8" y="37"/>
                          </a:lnTo>
                          <a:lnTo>
                            <a:pt x="2" y="60"/>
                          </a:lnTo>
                          <a:lnTo>
                            <a:pt x="0" y="83"/>
                          </a:lnTo>
                          <a:lnTo>
                            <a:pt x="2" y="106"/>
                          </a:lnTo>
                          <a:lnTo>
                            <a:pt x="6" y="129"/>
                          </a:lnTo>
                          <a:lnTo>
                            <a:pt x="10" y="142"/>
                          </a:lnTo>
                          <a:lnTo>
                            <a:pt x="27" y="151"/>
                          </a:lnTo>
                          <a:lnTo>
                            <a:pt x="31" y="136"/>
                          </a:lnTo>
                          <a:lnTo>
                            <a:pt x="62" y="66"/>
                          </a:lnTo>
                          <a:lnTo>
                            <a:pt x="33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38" name=""/>
                    <p:cNvGrpSpPr/>
                    <p:nvPr/>
                  </p:nvGrpSpPr>
                  <p:grpSpPr>
                    <a:xfrm>
                      <a:off x="4788000" y="2997000"/>
                      <a:ext cx="185760" cy="177480"/>
                      <a:chOff x="4788000" y="2997000"/>
                      <a:chExt cx="185760" cy="177480"/>
                    </a:xfrm>
                  </p:grpSpPr>
                  <p:grpSp>
                    <p:nvGrpSpPr>
                      <p:cNvPr id="939" name=""/>
                      <p:cNvGrpSpPr/>
                      <p:nvPr/>
                    </p:nvGrpSpPr>
                    <p:grpSpPr>
                      <a:xfrm>
                        <a:off x="4807080" y="3015720"/>
                        <a:ext cx="137520" cy="158760"/>
                        <a:chOff x="4807080" y="3015720"/>
                        <a:chExt cx="137520" cy="158760"/>
                      </a:xfrm>
                    </p:grpSpPr>
                    <p:sp>
                      <p:nvSpPr>
                        <p:cNvPr id="940" name=""/>
                        <p:cNvSpPr/>
                        <p:nvPr/>
                      </p:nvSpPr>
                      <p:spPr>
                        <a:xfrm>
                          <a:off x="4807080" y="3015720"/>
                          <a:ext cx="137520" cy="158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74" h="598">
                              <a:moveTo>
                                <a:pt x="148" y="17"/>
                              </a:moveTo>
                              <a:lnTo>
                                <a:pt x="114" y="36"/>
                              </a:lnTo>
                              <a:lnTo>
                                <a:pt x="82" y="56"/>
                              </a:lnTo>
                              <a:lnTo>
                                <a:pt x="59" y="75"/>
                              </a:lnTo>
                              <a:lnTo>
                                <a:pt x="37" y="95"/>
                              </a:lnTo>
                              <a:lnTo>
                                <a:pt x="20" y="116"/>
                              </a:lnTo>
                              <a:lnTo>
                                <a:pt x="9" y="138"/>
                              </a:lnTo>
                              <a:lnTo>
                                <a:pt x="5" y="162"/>
                              </a:lnTo>
                              <a:lnTo>
                                <a:pt x="2" y="188"/>
                              </a:lnTo>
                              <a:lnTo>
                                <a:pt x="0" y="219"/>
                              </a:lnTo>
                              <a:lnTo>
                                <a:pt x="4" y="248"/>
                              </a:lnTo>
                              <a:lnTo>
                                <a:pt x="0" y="286"/>
                              </a:lnTo>
                              <a:lnTo>
                                <a:pt x="16" y="297"/>
                              </a:lnTo>
                              <a:lnTo>
                                <a:pt x="30" y="307"/>
                              </a:lnTo>
                              <a:lnTo>
                                <a:pt x="31" y="317"/>
                              </a:lnTo>
                              <a:lnTo>
                                <a:pt x="31" y="332"/>
                              </a:lnTo>
                              <a:lnTo>
                                <a:pt x="26" y="350"/>
                              </a:lnTo>
                              <a:lnTo>
                                <a:pt x="11" y="398"/>
                              </a:lnTo>
                              <a:lnTo>
                                <a:pt x="11" y="419"/>
                              </a:lnTo>
                              <a:lnTo>
                                <a:pt x="23" y="424"/>
                              </a:lnTo>
                              <a:lnTo>
                                <a:pt x="42" y="424"/>
                              </a:lnTo>
                              <a:lnTo>
                                <a:pt x="55" y="424"/>
                              </a:lnTo>
                              <a:lnTo>
                                <a:pt x="77" y="481"/>
                              </a:lnTo>
                              <a:lnTo>
                                <a:pt x="78" y="502"/>
                              </a:lnTo>
                              <a:lnTo>
                                <a:pt x="86" y="512"/>
                              </a:lnTo>
                              <a:lnTo>
                                <a:pt x="95" y="515"/>
                              </a:lnTo>
                              <a:lnTo>
                                <a:pt x="96" y="527"/>
                              </a:lnTo>
                              <a:lnTo>
                                <a:pt x="95" y="543"/>
                              </a:lnTo>
                              <a:lnTo>
                                <a:pt x="104" y="569"/>
                              </a:lnTo>
                              <a:lnTo>
                                <a:pt x="115" y="586"/>
                              </a:lnTo>
                              <a:lnTo>
                                <a:pt x="126" y="593"/>
                              </a:lnTo>
                              <a:lnTo>
                                <a:pt x="151" y="598"/>
                              </a:lnTo>
                              <a:lnTo>
                                <a:pt x="172" y="596"/>
                              </a:lnTo>
                              <a:lnTo>
                                <a:pt x="201" y="583"/>
                              </a:lnTo>
                              <a:lnTo>
                                <a:pt x="235" y="565"/>
                              </a:lnTo>
                              <a:lnTo>
                                <a:pt x="250" y="582"/>
                              </a:lnTo>
                              <a:lnTo>
                                <a:pt x="456" y="423"/>
                              </a:lnTo>
                              <a:lnTo>
                                <a:pt x="443" y="396"/>
                              </a:lnTo>
                              <a:lnTo>
                                <a:pt x="456" y="359"/>
                              </a:lnTo>
                              <a:lnTo>
                                <a:pt x="469" y="311"/>
                              </a:lnTo>
                              <a:lnTo>
                                <a:pt x="474" y="250"/>
                              </a:lnTo>
                              <a:lnTo>
                                <a:pt x="473" y="204"/>
                              </a:lnTo>
                              <a:lnTo>
                                <a:pt x="459" y="128"/>
                              </a:lnTo>
                              <a:lnTo>
                                <a:pt x="440" y="60"/>
                              </a:lnTo>
                              <a:lnTo>
                                <a:pt x="418" y="10"/>
                              </a:lnTo>
                              <a:lnTo>
                                <a:pt x="335" y="0"/>
                              </a:lnTo>
                              <a:lnTo>
                                <a:pt x="208" y="1"/>
                              </a:lnTo>
                              <a:lnTo>
                                <a:pt x="148" y="1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bfb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941" name=""/>
                        <p:cNvGrpSpPr/>
                        <p:nvPr/>
                      </p:nvGrpSpPr>
                      <p:grpSpPr>
                        <a:xfrm>
                          <a:off x="4861800" y="3096000"/>
                          <a:ext cx="23400" cy="37080"/>
                          <a:chOff x="4861800" y="3096000"/>
                          <a:chExt cx="23400" cy="37080"/>
                        </a:xfrm>
                      </p:grpSpPr>
                      <p:sp>
                        <p:nvSpPr>
                          <p:cNvPr id="942" name=""/>
                          <p:cNvSpPr/>
                          <p:nvPr/>
                        </p:nvSpPr>
                        <p:spPr>
                          <a:xfrm>
                            <a:off x="4861800" y="3096000"/>
                            <a:ext cx="183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1" h="89">
                                <a:moveTo>
                                  <a:pt x="0" y="37"/>
                                </a:moveTo>
                                <a:lnTo>
                                  <a:pt x="6" y="18"/>
                                </a:lnTo>
                                <a:lnTo>
                                  <a:pt x="11" y="5"/>
                                </a:lnTo>
                                <a:lnTo>
                                  <a:pt x="16" y="2"/>
                                </a:lnTo>
                                <a:lnTo>
                                  <a:pt x="24" y="0"/>
                                </a:lnTo>
                                <a:lnTo>
                                  <a:pt x="34" y="0"/>
                                </a:lnTo>
                                <a:lnTo>
                                  <a:pt x="44" y="2"/>
                                </a:lnTo>
                                <a:lnTo>
                                  <a:pt x="51" y="7"/>
                                </a:lnTo>
                                <a:lnTo>
                                  <a:pt x="56" y="16"/>
                                </a:lnTo>
                                <a:lnTo>
                                  <a:pt x="60" y="31"/>
                                </a:lnTo>
                                <a:lnTo>
                                  <a:pt x="61" y="44"/>
                                </a:lnTo>
                                <a:lnTo>
                                  <a:pt x="58" y="62"/>
                                </a:lnTo>
                                <a:lnTo>
                                  <a:pt x="55" y="78"/>
                                </a:lnTo>
                                <a:lnTo>
                                  <a:pt x="47" y="89"/>
                                </a:lnTo>
                                <a:lnTo>
                                  <a:pt x="44" y="76"/>
                                </a:lnTo>
                                <a:lnTo>
                                  <a:pt x="51" y="64"/>
                                </a:lnTo>
                                <a:lnTo>
                                  <a:pt x="46" y="49"/>
                                </a:lnTo>
                                <a:lnTo>
                                  <a:pt x="40" y="55"/>
                                </a:lnTo>
                                <a:lnTo>
                                  <a:pt x="27" y="61"/>
                                </a:lnTo>
                                <a:lnTo>
                                  <a:pt x="22" y="48"/>
                                </a:lnTo>
                                <a:lnTo>
                                  <a:pt x="33" y="43"/>
                                </a:lnTo>
                                <a:lnTo>
                                  <a:pt x="44" y="41"/>
                                </a:lnTo>
                                <a:lnTo>
                                  <a:pt x="44" y="32"/>
                                </a:lnTo>
                                <a:lnTo>
                                  <a:pt x="43" y="22"/>
                                </a:lnTo>
                                <a:lnTo>
                                  <a:pt x="49" y="23"/>
                                </a:lnTo>
                                <a:lnTo>
                                  <a:pt x="47" y="10"/>
                                </a:lnTo>
                                <a:lnTo>
                                  <a:pt x="45" y="7"/>
                                </a:lnTo>
                                <a:lnTo>
                                  <a:pt x="35" y="5"/>
                                </a:lnTo>
                                <a:lnTo>
                                  <a:pt x="18" y="7"/>
                                </a:lnTo>
                                <a:lnTo>
                                  <a:pt x="10" y="20"/>
                                </a:lnTo>
                                <a:lnTo>
                                  <a:pt x="0" y="3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df9f7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43" name=""/>
                          <p:cNvSpPr/>
                          <p:nvPr/>
                        </p:nvSpPr>
                        <p:spPr>
                          <a:xfrm>
                            <a:off x="4869720" y="3119760"/>
                            <a:ext cx="15480" cy="13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4" h="50">
                                <a:moveTo>
                                  <a:pt x="40" y="0"/>
                                </a:moveTo>
                                <a:lnTo>
                                  <a:pt x="32" y="17"/>
                                </a:lnTo>
                                <a:lnTo>
                                  <a:pt x="29" y="25"/>
                                </a:lnTo>
                                <a:lnTo>
                                  <a:pt x="21" y="31"/>
                                </a:lnTo>
                                <a:lnTo>
                                  <a:pt x="12" y="32"/>
                                </a:lnTo>
                                <a:lnTo>
                                  <a:pt x="0" y="32"/>
                                </a:lnTo>
                                <a:lnTo>
                                  <a:pt x="26" y="35"/>
                                </a:lnTo>
                                <a:lnTo>
                                  <a:pt x="42" y="42"/>
                                </a:lnTo>
                                <a:lnTo>
                                  <a:pt x="54" y="50"/>
                                </a:lnTo>
                                <a:lnTo>
                                  <a:pt x="43" y="33"/>
                                </a:lnTo>
                                <a:lnTo>
                                  <a:pt x="41" y="17"/>
                                </a:lnTo>
                                <a:lnTo>
                                  <a:pt x="4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df9f7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3480" bIns="-334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944" name=""/>
                        <p:cNvSpPr/>
                        <p:nvPr/>
                      </p:nvSpPr>
                      <p:spPr>
                        <a:xfrm>
                          <a:off x="4830480" y="3117960"/>
                          <a:ext cx="12960" cy="17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7" h="67">
                              <a:moveTo>
                                <a:pt x="8" y="0"/>
                              </a:moveTo>
                              <a:lnTo>
                                <a:pt x="14" y="6"/>
                              </a:lnTo>
                              <a:lnTo>
                                <a:pt x="15" y="13"/>
                              </a:lnTo>
                              <a:lnTo>
                                <a:pt x="13" y="19"/>
                              </a:lnTo>
                              <a:lnTo>
                                <a:pt x="8" y="25"/>
                              </a:lnTo>
                              <a:lnTo>
                                <a:pt x="0" y="30"/>
                              </a:lnTo>
                              <a:lnTo>
                                <a:pt x="7" y="35"/>
                              </a:lnTo>
                              <a:lnTo>
                                <a:pt x="17" y="38"/>
                              </a:lnTo>
                              <a:lnTo>
                                <a:pt x="27" y="43"/>
                              </a:lnTo>
                              <a:lnTo>
                                <a:pt x="47" y="67"/>
                              </a:lnTo>
                              <a:lnTo>
                                <a:pt x="22" y="29"/>
                              </a:lnTo>
                              <a:lnTo>
                                <a:pt x="19" y="21"/>
                              </a:lnTo>
                              <a:lnTo>
                                <a:pt x="19" y="12"/>
                              </a:lnTo>
                              <a:lnTo>
                                <a:pt x="21" y="7"/>
                              </a:lnTo>
                              <a:lnTo>
                                <a:pt x="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45" name=""/>
                      <p:cNvGrpSpPr/>
                      <p:nvPr/>
                    </p:nvGrpSpPr>
                    <p:grpSpPr>
                      <a:xfrm>
                        <a:off x="4788000" y="2997000"/>
                        <a:ext cx="185760" cy="177480"/>
                        <a:chOff x="4788000" y="2997000"/>
                        <a:chExt cx="185760" cy="177480"/>
                      </a:xfrm>
                    </p:grpSpPr>
                    <p:sp>
                      <p:nvSpPr>
                        <p:cNvPr id="946" name=""/>
                        <p:cNvSpPr/>
                        <p:nvPr/>
                      </p:nvSpPr>
                      <p:spPr>
                        <a:xfrm>
                          <a:off x="4788000" y="2997000"/>
                          <a:ext cx="185760" cy="177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40" h="673">
                              <a:moveTo>
                                <a:pt x="307" y="0"/>
                              </a:moveTo>
                              <a:lnTo>
                                <a:pt x="278" y="1"/>
                              </a:lnTo>
                              <a:lnTo>
                                <a:pt x="256" y="5"/>
                              </a:lnTo>
                              <a:lnTo>
                                <a:pt x="231" y="10"/>
                              </a:lnTo>
                              <a:lnTo>
                                <a:pt x="203" y="20"/>
                              </a:lnTo>
                              <a:lnTo>
                                <a:pt x="180" y="29"/>
                              </a:lnTo>
                              <a:lnTo>
                                <a:pt x="154" y="51"/>
                              </a:lnTo>
                              <a:lnTo>
                                <a:pt x="129" y="74"/>
                              </a:lnTo>
                              <a:lnTo>
                                <a:pt x="106" y="98"/>
                              </a:lnTo>
                              <a:lnTo>
                                <a:pt x="55" y="130"/>
                              </a:lnTo>
                              <a:lnTo>
                                <a:pt x="37" y="142"/>
                              </a:lnTo>
                              <a:lnTo>
                                <a:pt x="23" y="155"/>
                              </a:lnTo>
                              <a:lnTo>
                                <a:pt x="15" y="167"/>
                              </a:lnTo>
                              <a:lnTo>
                                <a:pt x="5" y="181"/>
                              </a:lnTo>
                              <a:lnTo>
                                <a:pt x="1" y="195"/>
                              </a:lnTo>
                              <a:lnTo>
                                <a:pt x="0" y="210"/>
                              </a:lnTo>
                              <a:lnTo>
                                <a:pt x="0" y="225"/>
                              </a:lnTo>
                              <a:lnTo>
                                <a:pt x="4" y="243"/>
                              </a:lnTo>
                              <a:lnTo>
                                <a:pt x="14" y="263"/>
                              </a:lnTo>
                              <a:lnTo>
                                <a:pt x="22" y="273"/>
                              </a:lnTo>
                              <a:lnTo>
                                <a:pt x="33" y="282"/>
                              </a:lnTo>
                              <a:lnTo>
                                <a:pt x="49" y="286"/>
                              </a:lnTo>
                              <a:lnTo>
                                <a:pt x="66" y="290"/>
                              </a:lnTo>
                              <a:lnTo>
                                <a:pt x="90" y="295"/>
                              </a:lnTo>
                              <a:lnTo>
                                <a:pt x="76" y="276"/>
                              </a:lnTo>
                              <a:lnTo>
                                <a:pt x="71" y="258"/>
                              </a:lnTo>
                              <a:lnTo>
                                <a:pt x="72" y="237"/>
                              </a:lnTo>
                              <a:lnTo>
                                <a:pt x="77" y="216"/>
                              </a:lnTo>
                              <a:lnTo>
                                <a:pt x="84" y="203"/>
                              </a:lnTo>
                              <a:lnTo>
                                <a:pt x="94" y="189"/>
                              </a:lnTo>
                              <a:lnTo>
                                <a:pt x="106" y="177"/>
                              </a:lnTo>
                              <a:lnTo>
                                <a:pt x="121" y="167"/>
                              </a:lnTo>
                              <a:lnTo>
                                <a:pt x="139" y="157"/>
                              </a:lnTo>
                              <a:lnTo>
                                <a:pt x="197" y="140"/>
                              </a:lnTo>
                              <a:lnTo>
                                <a:pt x="186" y="151"/>
                              </a:lnTo>
                              <a:lnTo>
                                <a:pt x="178" y="158"/>
                              </a:lnTo>
                              <a:lnTo>
                                <a:pt x="166" y="163"/>
                              </a:lnTo>
                              <a:lnTo>
                                <a:pt x="147" y="169"/>
                              </a:lnTo>
                              <a:lnTo>
                                <a:pt x="135" y="172"/>
                              </a:lnTo>
                              <a:lnTo>
                                <a:pt x="122" y="181"/>
                              </a:lnTo>
                              <a:lnTo>
                                <a:pt x="116" y="191"/>
                              </a:lnTo>
                              <a:lnTo>
                                <a:pt x="111" y="202"/>
                              </a:lnTo>
                              <a:lnTo>
                                <a:pt x="108" y="214"/>
                              </a:lnTo>
                              <a:lnTo>
                                <a:pt x="108" y="226"/>
                              </a:lnTo>
                              <a:lnTo>
                                <a:pt x="113" y="241"/>
                              </a:lnTo>
                              <a:lnTo>
                                <a:pt x="117" y="262"/>
                              </a:lnTo>
                              <a:lnTo>
                                <a:pt x="127" y="280"/>
                              </a:lnTo>
                              <a:lnTo>
                                <a:pt x="141" y="311"/>
                              </a:lnTo>
                              <a:lnTo>
                                <a:pt x="167" y="371"/>
                              </a:lnTo>
                              <a:lnTo>
                                <a:pt x="185" y="404"/>
                              </a:lnTo>
                              <a:lnTo>
                                <a:pt x="206" y="412"/>
                              </a:lnTo>
                              <a:lnTo>
                                <a:pt x="211" y="441"/>
                              </a:lnTo>
                              <a:lnTo>
                                <a:pt x="214" y="515"/>
                              </a:lnTo>
                              <a:lnTo>
                                <a:pt x="218" y="536"/>
                              </a:lnTo>
                              <a:lnTo>
                                <a:pt x="220" y="554"/>
                              </a:lnTo>
                              <a:lnTo>
                                <a:pt x="220" y="566"/>
                              </a:lnTo>
                              <a:lnTo>
                                <a:pt x="210" y="579"/>
                              </a:lnTo>
                              <a:lnTo>
                                <a:pt x="196" y="587"/>
                              </a:lnTo>
                              <a:lnTo>
                                <a:pt x="179" y="596"/>
                              </a:lnTo>
                              <a:lnTo>
                                <a:pt x="166" y="607"/>
                              </a:lnTo>
                              <a:lnTo>
                                <a:pt x="163" y="614"/>
                              </a:lnTo>
                              <a:lnTo>
                                <a:pt x="163" y="625"/>
                              </a:lnTo>
                              <a:lnTo>
                                <a:pt x="166" y="633"/>
                              </a:lnTo>
                              <a:lnTo>
                                <a:pt x="169" y="640"/>
                              </a:lnTo>
                              <a:lnTo>
                                <a:pt x="173" y="649"/>
                              </a:lnTo>
                              <a:lnTo>
                                <a:pt x="182" y="660"/>
                              </a:lnTo>
                              <a:lnTo>
                                <a:pt x="190" y="666"/>
                              </a:lnTo>
                              <a:lnTo>
                                <a:pt x="200" y="669"/>
                              </a:lnTo>
                              <a:lnTo>
                                <a:pt x="211" y="672"/>
                              </a:lnTo>
                              <a:lnTo>
                                <a:pt x="225" y="673"/>
                              </a:lnTo>
                              <a:lnTo>
                                <a:pt x="236" y="672"/>
                              </a:lnTo>
                              <a:lnTo>
                                <a:pt x="250" y="668"/>
                              </a:lnTo>
                              <a:lnTo>
                                <a:pt x="261" y="664"/>
                              </a:lnTo>
                              <a:lnTo>
                                <a:pt x="273" y="657"/>
                              </a:lnTo>
                              <a:lnTo>
                                <a:pt x="287" y="648"/>
                              </a:lnTo>
                              <a:lnTo>
                                <a:pt x="296" y="642"/>
                              </a:lnTo>
                              <a:lnTo>
                                <a:pt x="295" y="613"/>
                              </a:lnTo>
                              <a:lnTo>
                                <a:pt x="285" y="514"/>
                              </a:lnTo>
                              <a:lnTo>
                                <a:pt x="253" y="458"/>
                              </a:lnTo>
                              <a:lnTo>
                                <a:pt x="245" y="434"/>
                              </a:lnTo>
                              <a:lnTo>
                                <a:pt x="240" y="411"/>
                              </a:lnTo>
                              <a:lnTo>
                                <a:pt x="246" y="398"/>
                              </a:lnTo>
                              <a:lnTo>
                                <a:pt x="253" y="383"/>
                              </a:lnTo>
                              <a:lnTo>
                                <a:pt x="263" y="373"/>
                              </a:lnTo>
                              <a:lnTo>
                                <a:pt x="278" y="367"/>
                              </a:lnTo>
                              <a:lnTo>
                                <a:pt x="291" y="369"/>
                              </a:lnTo>
                              <a:lnTo>
                                <a:pt x="307" y="373"/>
                              </a:lnTo>
                              <a:lnTo>
                                <a:pt x="323" y="385"/>
                              </a:lnTo>
                              <a:lnTo>
                                <a:pt x="329" y="396"/>
                              </a:lnTo>
                              <a:lnTo>
                                <a:pt x="334" y="413"/>
                              </a:lnTo>
                              <a:lnTo>
                                <a:pt x="335" y="430"/>
                              </a:lnTo>
                              <a:lnTo>
                                <a:pt x="331" y="446"/>
                              </a:lnTo>
                              <a:lnTo>
                                <a:pt x="328" y="460"/>
                              </a:lnTo>
                              <a:lnTo>
                                <a:pt x="328" y="471"/>
                              </a:lnTo>
                              <a:lnTo>
                                <a:pt x="335" y="480"/>
                              </a:lnTo>
                              <a:lnTo>
                                <a:pt x="454" y="559"/>
                              </a:lnTo>
                              <a:lnTo>
                                <a:pt x="499" y="554"/>
                              </a:lnTo>
                              <a:lnTo>
                                <a:pt x="552" y="551"/>
                              </a:lnTo>
                              <a:lnTo>
                                <a:pt x="598" y="539"/>
                              </a:lnTo>
                              <a:lnTo>
                                <a:pt x="617" y="520"/>
                              </a:lnTo>
                              <a:lnTo>
                                <a:pt x="628" y="509"/>
                              </a:lnTo>
                              <a:lnTo>
                                <a:pt x="633" y="492"/>
                              </a:lnTo>
                              <a:lnTo>
                                <a:pt x="637" y="472"/>
                              </a:lnTo>
                              <a:lnTo>
                                <a:pt x="640" y="438"/>
                              </a:lnTo>
                              <a:lnTo>
                                <a:pt x="630" y="416"/>
                              </a:lnTo>
                              <a:lnTo>
                                <a:pt x="625" y="359"/>
                              </a:lnTo>
                              <a:lnTo>
                                <a:pt x="606" y="282"/>
                              </a:lnTo>
                              <a:lnTo>
                                <a:pt x="592" y="222"/>
                              </a:lnTo>
                              <a:lnTo>
                                <a:pt x="563" y="163"/>
                              </a:lnTo>
                              <a:lnTo>
                                <a:pt x="537" y="113"/>
                              </a:lnTo>
                              <a:lnTo>
                                <a:pt x="522" y="88"/>
                              </a:lnTo>
                              <a:lnTo>
                                <a:pt x="500" y="59"/>
                              </a:lnTo>
                              <a:lnTo>
                                <a:pt x="482" y="43"/>
                              </a:lnTo>
                              <a:lnTo>
                                <a:pt x="444" y="24"/>
                              </a:lnTo>
                              <a:lnTo>
                                <a:pt x="412" y="10"/>
                              </a:lnTo>
                              <a:lnTo>
                                <a:pt x="375" y="2"/>
                              </a:lnTo>
                              <a:lnTo>
                                <a:pt x="340" y="0"/>
                              </a:lnTo>
                              <a:lnTo>
                                <a:pt x="30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7" name=""/>
                        <p:cNvSpPr/>
                        <p:nvPr/>
                      </p:nvSpPr>
                      <p:spPr>
                        <a:xfrm>
                          <a:off x="4807080" y="3087360"/>
                          <a:ext cx="15480" cy="9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5" h="37">
                              <a:moveTo>
                                <a:pt x="2" y="0"/>
                              </a:moveTo>
                              <a:lnTo>
                                <a:pt x="1" y="7"/>
                              </a:lnTo>
                              <a:lnTo>
                                <a:pt x="0" y="17"/>
                              </a:lnTo>
                              <a:lnTo>
                                <a:pt x="4" y="23"/>
                              </a:lnTo>
                              <a:lnTo>
                                <a:pt x="11" y="28"/>
                              </a:lnTo>
                              <a:lnTo>
                                <a:pt x="23" y="30"/>
                              </a:lnTo>
                              <a:lnTo>
                                <a:pt x="35" y="31"/>
                              </a:lnTo>
                              <a:lnTo>
                                <a:pt x="49" y="35"/>
                              </a:lnTo>
                              <a:lnTo>
                                <a:pt x="55" y="37"/>
                              </a:lnTo>
                              <a:lnTo>
                                <a:pt x="55" y="29"/>
                              </a:lnTo>
                              <a:lnTo>
                                <a:pt x="42" y="18"/>
                              </a:lnTo>
                              <a:lnTo>
                                <a:pt x="32" y="11"/>
                              </a:lnTo>
                              <a:lnTo>
                                <a:pt x="19" y="5"/>
                              </a:lnTo>
                              <a:lnTo>
                                <a:pt x="13" y="3"/>
                              </a:lnTo>
                              <a:lnTo>
                                <a:pt x="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8" name=""/>
                        <p:cNvSpPr/>
                        <p:nvPr/>
                      </p:nvSpPr>
                      <p:spPr>
                        <a:xfrm>
                          <a:off x="4813200" y="3098520"/>
                          <a:ext cx="8640" cy="3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13">
                              <a:moveTo>
                                <a:pt x="18" y="0"/>
                              </a:moveTo>
                              <a:lnTo>
                                <a:pt x="14" y="6"/>
                              </a:lnTo>
                              <a:lnTo>
                                <a:pt x="8" y="8"/>
                              </a:lnTo>
                              <a:lnTo>
                                <a:pt x="0" y="9"/>
                              </a:lnTo>
                              <a:lnTo>
                                <a:pt x="9" y="13"/>
                              </a:lnTo>
                              <a:lnTo>
                                <a:pt x="24" y="13"/>
                              </a:lnTo>
                              <a:lnTo>
                                <a:pt x="32" y="13"/>
                              </a:lnTo>
                              <a:lnTo>
                                <a:pt x="1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9" name=""/>
                        <p:cNvSpPr/>
                        <p:nvPr/>
                      </p:nvSpPr>
                      <p:spPr>
                        <a:xfrm>
                          <a:off x="4821120" y="3126960"/>
                          <a:ext cx="17280" cy="18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0" h="69">
                              <a:moveTo>
                                <a:pt x="9" y="1"/>
                              </a:moveTo>
                              <a:lnTo>
                                <a:pt x="3" y="10"/>
                              </a:lnTo>
                              <a:lnTo>
                                <a:pt x="1" y="17"/>
                              </a:lnTo>
                              <a:lnTo>
                                <a:pt x="0" y="26"/>
                              </a:lnTo>
                              <a:lnTo>
                                <a:pt x="0" y="34"/>
                              </a:lnTo>
                              <a:lnTo>
                                <a:pt x="2" y="44"/>
                              </a:lnTo>
                              <a:lnTo>
                                <a:pt x="4" y="53"/>
                              </a:lnTo>
                              <a:lnTo>
                                <a:pt x="9" y="57"/>
                              </a:lnTo>
                              <a:lnTo>
                                <a:pt x="14" y="61"/>
                              </a:lnTo>
                              <a:lnTo>
                                <a:pt x="21" y="61"/>
                              </a:lnTo>
                              <a:lnTo>
                                <a:pt x="30" y="61"/>
                              </a:lnTo>
                              <a:lnTo>
                                <a:pt x="45" y="63"/>
                              </a:lnTo>
                              <a:lnTo>
                                <a:pt x="60" y="69"/>
                              </a:lnTo>
                              <a:lnTo>
                                <a:pt x="60" y="61"/>
                              </a:lnTo>
                              <a:lnTo>
                                <a:pt x="56" y="50"/>
                              </a:lnTo>
                              <a:lnTo>
                                <a:pt x="54" y="39"/>
                              </a:lnTo>
                              <a:lnTo>
                                <a:pt x="47" y="28"/>
                              </a:lnTo>
                              <a:lnTo>
                                <a:pt x="42" y="22"/>
                              </a:lnTo>
                              <a:lnTo>
                                <a:pt x="35" y="15"/>
                              </a:lnTo>
                              <a:lnTo>
                                <a:pt x="29" y="9"/>
                              </a:lnTo>
                              <a:lnTo>
                                <a:pt x="24" y="5"/>
                              </a:lnTo>
                              <a:lnTo>
                                <a:pt x="20" y="0"/>
                              </a:lnTo>
                              <a:lnTo>
                                <a:pt x="9" y="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800" bIns="-28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0" name=""/>
                        <p:cNvSpPr/>
                        <p:nvPr/>
                      </p:nvSpPr>
                      <p:spPr>
                        <a:xfrm>
                          <a:off x="4791240" y="3027960"/>
                          <a:ext cx="41760" cy="37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6" h="146">
                              <a:moveTo>
                                <a:pt x="146" y="0"/>
                              </a:moveTo>
                              <a:lnTo>
                                <a:pt x="121" y="11"/>
                              </a:lnTo>
                              <a:lnTo>
                                <a:pt x="100" y="14"/>
                              </a:lnTo>
                              <a:lnTo>
                                <a:pt x="79" y="20"/>
                              </a:lnTo>
                              <a:lnTo>
                                <a:pt x="61" y="27"/>
                              </a:lnTo>
                              <a:lnTo>
                                <a:pt x="43" y="35"/>
                              </a:lnTo>
                              <a:lnTo>
                                <a:pt x="28" y="47"/>
                              </a:lnTo>
                              <a:lnTo>
                                <a:pt x="19" y="59"/>
                              </a:lnTo>
                              <a:lnTo>
                                <a:pt x="11" y="70"/>
                              </a:lnTo>
                              <a:lnTo>
                                <a:pt x="5" y="80"/>
                              </a:lnTo>
                              <a:lnTo>
                                <a:pt x="0" y="92"/>
                              </a:lnTo>
                              <a:lnTo>
                                <a:pt x="8" y="84"/>
                              </a:lnTo>
                              <a:lnTo>
                                <a:pt x="8" y="98"/>
                              </a:lnTo>
                              <a:lnTo>
                                <a:pt x="8" y="119"/>
                              </a:lnTo>
                              <a:lnTo>
                                <a:pt x="11" y="131"/>
                              </a:lnTo>
                              <a:lnTo>
                                <a:pt x="19" y="146"/>
                              </a:lnTo>
                              <a:lnTo>
                                <a:pt x="26" y="120"/>
                              </a:lnTo>
                              <a:lnTo>
                                <a:pt x="33" y="95"/>
                              </a:lnTo>
                              <a:lnTo>
                                <a:pt x="43" y="73"/>
                              </a:lnTo>
                              <a:lnTo>
                                <a:pt x="55" y="53"/>
                              </a:lnTo>
                              <a:lnTo>
                                <a:pt x="70" y="40"/>
                              </a:lnTo>
                              <a:lnTo>
                                <a:pt x="83" y="30"/>
                              </a:lnTo>
                              <a:lnTo>
                                <a:pt x="101" y="21"/>
                              </a:lnTo>
                              <a:lnTo>
                                <a:pt x="14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5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9000" bIns="-9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951" name=""/>
                    <p:cNvSpPr/>
                    <p:nvPr/>
                  </p:nvSpPr>
                  <p:spPr>
                    <a:xfrm>
                      <a:off x="4891680" y="3138120"/>
                      <a:ext cx="52200" cy="10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2" h="381">
                          <a:moveTo>
                            <a:pt x="182" y="0"/>
                          </a:moveTo>
                          <a:lnTo>
                            <a:pt x="40" y="247"/>
                          </a:lnTo>
                          <a:lnTo>
                            <a:pt x="0" y="381"/>
                          </a:lnTo>
                          <a:lnTo>
                            <a:pt x="62" y="233"/>
                          </a:lnTo>
                          <a:lnTo>
                            <a:pt x="182" y="0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"/>
                    <p:cNvSpPr/>
                    <p:nvPr/>
                  </p:nvSpPr>
                  <p:spPr>
                    <a:xfrm>
                      <a:off x="4838400" y="3208680"/>
                      <a:ext cx="1980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168">
                          <a:moveTo>
                            <a:pt x="37" y="0"/>
                          </a:moveTo>
                          <a:lnTo>
                            <a:pt x="38" y="129"/>
                          </a:lnTo>
                          <a:lnTo>
                            <a:pt x="70" y="168"/>
                          </a:lnTo>
                          <a:lnTo>
                            <a:pt x="23" y="134"/>
                          </a:lnTo>
                          <a:lnTo>
                            <a:pt x="0" y="154"/>
                          </a:lnTo>
                          <a:lnTo>
                            <a:pt x="15" y="105"/>
                          </a:lnTo>
                          <a:lnTo>
                            <a:pt x="22" y="27"/>
                          </a:lnTo>
                          <a:lnTo>
                            <a:pt x="37" y="0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3" name=""/>
                  <p:cNvSpPr/>
                  <p:nvPr/>
                </p:nvSpPr>
                <p:spPr>
                  <a:xfrm>
                    <a:off x="4815720" y="3271320"/>
                    <a:ext cx="306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81">
                        <a:moveTo>
                          <a:pt x="63" y="0"/>
                        </a:moveTo>
                        <a:lnTo>
                          <a:pt x="103" y="93"/>
                        </a:lnTo>
                        <a:lnTo>
                          <a:pt x="105" y="181"/>
                        </a:lnTo>
                        <a:lnTo>
                          <a:pt x="87" y="82"/>
                        </a:lnTo>
                        <a:lnTo>
                          <a:pt x="62" y="40"/>
                        </a:lnTo>
                        <a:lnTo>
                          <a:pt x="0" y="76"/>
                        </a:lnTo>
                        <a:lnTo>
                          <a:pt x="37" y="45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54" name=""/>
                <p:cNvSpPr/>
                <p:nvPr/>
              </p:nvSpPr>
              <p:spPr>
                <a:xfrm>
                  <a:off x="4656600" y="3348360"/>
                  <a:ext cx="21600" cy="31680"/>
                </a:xfrm>
                <a:custGeom>
                  <a:avLst/>
                  <a:gdLst/>
                  <a:ahLst/>
                  <a:rect l="l" t="t" r="r" b="b"/>
                  <a:pathLst>
                    <a:path w="75" h="120">
                      <a:moveTo>
                        <a:pt x="53" y="0"/>
                      </a:moveTo>
                      <a:lnTo>
                        <a:pt x="2" y="98"/>
                      </a:lnTo>
                      <a:lnTo>
                        <a:pt x="0" y="120"/>
                      </a:lnTo>
                      <a:lnTo>
                        <a:pt x="18" y="105"/>
                      </a:lnTo>
                      <a:lnTo>
                        <a:pt x="75" y="6"/>
                      </a:lnTo>
                      <a:lnTo>
                        <a:pt x="66" y="5"/>
                      </a:lnTo>
                      <a:lnTo>
                        <a:pt x="58" y="2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55" name=""/>
                <p:cNvGrpSpPr/>
                <p:nvPr/>
              </p:nvGrpSpPr>
              <p:grpSpPr>
                <a:xfrm>
                  <a:off x="4655880" y="3314880"/>
                  <a:ext cx="81720" cy="61200"/>
                  <a:chOff x="4655880" y="3314880"/>
                  <a:chExt cx="81720" cy="61200"/>
                </a:xfrm>
              </p:grpSpPr>
              <p:grpSp>
                <p:nvGrpSpPr>
                  <p:cNvPr id="956" name=""/>
                  <p:cNvGrpSpPr/>
                  <p:nvPr/>
                </p:nvGrpSpPr>
                <p:grpSpPr>
                  <a:xfrm>
                    <a:off x="4655880" y="3314880"/>
                    <a:ext cx="76680" cy="61200"/>
                    <a:chOff x="4655880" y="3314880"/>
                    <a:chExt cx="76680" cy="61200"/>
                  </a:xfrm>
                </p:grpSpPr>
                <p:sp>
                  <p:nvSpPr>
                    <p:cNvPr id="957" name=""/>
                    <p:cNvSpPr/>
                    <p:nvPr/>
                  </p:nvSpPr>
                  <p:spPr>
                    <a:xfrm>
                      <a:off x="4655880" y="3321720"/>
                      <a:ext cx="7668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6" h="209">
                          <a:moveTo>
                            <a:pt x="197" y="29"/>
                          </a:moveTo>
                          <a:lnTo>
                            <a:pt x="181" y="32"/>
                          </a:lnTo>
                          <a:lnTo>
                            <a:pt x="168" y="25"/>
                          </a:lnTo>
                          <a:lnTo>
                            <a:pt x="151" y="17"/>
                          </a:lnTo>
                          <a:lnTo>
                            <a:pt x="134" y="11"/>
                          </a:lnTo>
                          <a:lnTo>
                            <a:pt x="107" y="4"/>
                          </a:lnTo>
                          <a:lnTo>
                            <a:pt x="92" y="0"/>
                          </a:lnTo>
                          <a:lnTo>
                            <a:pt x="41" y="12"/>
                          </a:lnTo>
                          <a:lnTo>
                            <a:pt x="33" y="17"/>
                          </a:lnTo>
                          <a:lnTo>
                            <a:pt x="25" y="22"/>
                          </a:lnTo>
                          <a:lnTo>
                            <a:pt x="19" y="31"/>
                          </a:lnTo>
                          <a:lnTo>
                            <a:pt x="14" y="44"/>
                          </a:lnTo>
                          <a:lnTo>
                            <a:pt x="9" y="64"/>
                          </a:lnTo>
                          <a:lnTo>
                            <a:pt x="5" y="90"/>
                          </a:lnTo>
                          <a:lnTo>
                            <a:pt x="3" y="113"/>
                          </a:lnTo>
                          <a:lnTo>
                            <a:pt x="0" y="130"/>
                          </a:lnTo>
                          <a:lnTo>
                            <a:pt x="0" y="140"/>
                          </a:lnTo>
                          <a:lnTo>
                            <a:pt x="3" y="148"/>
                          </a:lnTo>
                          <a:lnTo>
                            <a:pt x="5" y="155"/>
                          </a:lnTo>
                          <a:lnTo>
                            <a:pt x="11" y="165"/>
                          </a:lnTo>
                          <a:lnTo>
                            <a:pt x="34" y="188"/>
                          </a:lnTo>
                          <a:lnTo>
                            <a:pt x="45" y="194"/>
                          </a:lnTo>
                          <a:lnTo>
                            <a:pt x="64" y="204"/>
                          </a:lnTo>
                          <a:lnTo>
                            <a:pt x="76" y="209"/>
                          </a:lnTo>
                          <a:lnTo>
                            <a:pt x="86" y="205"/>
                          </a:lnTo>
                          <a:lnTo>
                            <a:pt x="89" y="198"/>
                          </a:lnTo>
                          <a:lnTo>
                            <a:pt x="99" y="198"/>
                          </a:lnTo>
                          <a:lnTo>
                            <a:pt x="110" y="198"/>
                          </a:lnTo>
                          <a:lnTo>
                            <a:pt x="125" y="201"/>
                          </a:lnTo>
                          <a:lnTo>
                            <a:pt x="134" y="202"/>
                          </a:lnTo>
                          <a:lnTo>
                            <a:pt x="137" y="194"/>
                          </a:lnTo>
                          <a:lnTo>
                            <a:pt x="140" y="188"/>
                          </a:lnTo>
                          <a:lnTo>
                            <a:pt x="148" y="191"/>
                          </a:lnTo>
                          <a:lnTo>
                            <a:pt x="158" y="191"/>
                          </a:lnTo>
                          <a:lnTo>
                            <a:pt x="162" y="185"/>
                          </a:lnTo>
                          <a:lnTo>
                            <a:pt x="165" y="178"/>
                          </a:lnTo>
                          <a:lnTo>
                            <a:pt x="168" y="168"/>
                          </a:lnTo>
                          <a:lnTo>
                            <a:pt x="183" y="170"/>
                          </a:lnTo>
                          <a:lnTo>
                            <a:pt x="198" y="170"/>
                          </a:lnTo>
                          <a:lnTo>
                            <a:pt x="208" y="166"/>
                          </a:lnTo>
                          <a:lnTo>
                            <a:pt x="218" y="161"/>
                          </a:lnTo>
                          <a:lnTo>
                            <a:pt x="225" y="154"/>
                          </a:lnTo>
                          <a:lnTo>
                            <a:pt x="233" y="145"/>
                          </a:lnTo>
                          <a:lnTo>
                            <a:pt x="260" y="139"/>
                          </a:lnTo>
                          <a:lnTo>
                            <a:pt x="265" y="107"/>
                          </a:lnTo>
                          <a:lnTo>
                            <a:pt x="266" y="86"/>
                          </a:lnTo>
                          <a:lnTo>
                            <a:pt x="259" y="62"/>
                          </a:lnTo>
                          <a:lnTo>
                            <a:pt x="250" y="47"/>
                          </a:lnTo>
                          <a:lnTo>
                            <a:pt x="241" y="39"/>
                          </a:lnTo>
                          <a:lnTo>
                            <a:pt x="226" y="31"/>
                          </a:lnTo>
                          <a:lnTo>
                            <a:pt x="208" y="25"/>
                          </a:lnTo>
                          <a:lnTo>
                            <a:pt x="197" y="29"/>
                          </a:lnTo>
                          <a:close/>
                        </a:path>
                      </a:pathLst>
                    </a:custGeom>
                    <a:solidFill>
                      <a:srgbClr val="f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8" name=""/>
                    <p:cNvSpPr/>
                    <p:nvPr/>
                  </p:nvSpPr>
                  <p:spPr>
                    <a:xfrm>
                      <a:off x="4660920" y="3332880"/>
                      <a:ext cx="5292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2" h="151">
                          <a:moveTo>
                            <a:pt x="182" y="50"/>
                          </a:moveTo>
                          <a:lnTo>
                            <a:pt x="167" y="60"/>
                          </a:lnTo>
                          <a:lnTo>
                            <a:pt x="154" y="60"/>
                          </a:lnTo>
                          <a:lnTo>
                            <a:pt x="142" y="56"/>
                          </a:lnTo>
                          <a:lnTo>
                            <a:pt x="134" y="51"/>
                          </a:lnTo>
                          <a:lnTo>
                            <a:pt x="127" y="47"/>
                          </a:lnTo>
                          <a:lnTo>
                            <a:pt x="120" y="47"/>
                          </a:lnTo>
                          <a:lnTo>
                            <a:pt x="110" y="53"/>
                          </a:lnTo>
                          <a:lnTo>
                            <a:pt x="95" y="57"/>
                          </a:lnTo>
                          <a:lnTo>
                            <a:pt x="81" y="61"/>
                          </a:lnTo>
                          <a:lnTo>
                            <a:pt x="71" y="62"/>
                          </a:lnTo>
                          <a:lnTo>
                            <a:pt x="59" y="62"/>
                          </a:lnTo>
                          <a:lnTo>
                            <a:pt x="47" y="60"/>
                          </a:lnTo>
                          <a:lnTo>
                            <a:pt x="39" y="56"/>
                          </a:lnTo>
                          <a:lnTo>
                            <a:pt x="36" y="51"/>
                          </a:lnTo>
                          <a:lnTo>
                            <a:pt x="33" y="42"/>
                          </a:lnTo>
                          <a:lnTo>
                            <a:pt x="33" y="35"/>
                          </a:lnTo>
                          <a:lnTo>
                            <a:pt x="37" y="29"/>
                          </a:lnTo>
                          <a:lnTo>
                            <a:pt x="44" y="26"/>
                          </a:lnTo>
                          <a:lnTo>
                            <a:pt x="56" y="23"/>
                          </a:lnTo>
                          <a:lnTo>
                            <a:pt x="71" y="21"/>
                          </a:lnTo>
                          <a:lnTo>
                            <a:pt x="82" y="21"/>
                          </a:lnTo>
                          <a:lnTo>
                            <a:pt x="94" y="14"/>
                          </a:lnTo>
                          <a:lnTo>
                            <a:pt x="106" y="7"/>
                          </a:lnTo>
                          <a:lnTo>
                            <a:pt x="89" y="7"/>
                          </a:lnTo>
                          <a:lnTo>
                            <a:pt x="78" y="1"/>
                          </a:lnTo>
                          <a:lnTo>
                            <a:pt x="65" y="0"/>
                          </a:lnTo>
                          <a:lnTo>
                            <a:pt x="55" y="3"/>
                          </a:lnTo>
                          <a:lnTo>
                            <a:pt x="43" y="10"/>
                          </a:lnTo>
                          <a:lnTo>
                            <a:pt x="38" y="14"/>
                          </a:lnTo>
                          <a:lnTo>
                            <a:pt x="21" y="2"/>
                          </a:lnTo>
                          <a:lnTo>
                            <a:pt x="28" y="10"/>
                          </a:lnTo>
                          <a:lnTo>
                            <a:pt x="31" y="17"/>
                          </a:lnTo>
                          <a:lnTo>
                            <a:pt x="22" y="19"/>
                          </a:lnTo>
                          <a:lnTo>
                            <a:pt x="31" y="21"/>
                          </a:lnTo>
                          <a:lnTo>
                            <a:pt x="23" y="56"/>
                          </a:lnTo>
                          <a:lnTo>
                            <a:pt x="19" y="63"/>
                          </a:lnTo>
                          <a:lnTo>
                            <a:pt x="14" y="68"/>
                          </a:lnTo>
                          <a:lnTo>
                            <a:pt x="0" y="70"/>
                          </a:lnTo>
                          <a:lnTo>
                            <a:pt x="10" y="74"/>
                          </a:lnTo>
                          <a:lnTo>
                            <a:pt x="14" y="83"/>
                          </a:lnTo>
                          <a:lnTo>
                            <a:pt x="6" y="102"/>
                          </a:lnTo>
                          <a:lnTo>
                            <a:pt x="4" y="115"/>
                          </a:lnTo>
                          <a:lnTo>
                            <a:pt x="25" y="94"/>
                          </a:lnTo>
                          <a:lnTo>
                            <a:pt x="36" y="100"/>
                          </a:lnTo>
                          <a:lnTo>
                            <a:pt x="39" y="111"/>
                          </a:lnTo>
                          <a:lnTo>
                            <a:pt x="23" y="120"/>
                          </a:lnTo>
                          <a:lnTo>
                            <a:pt x="42" y="118"/>
                          </a:lnTo>
                          <a:lnTo>
                            <a:pt x="50" y="118"/>
                          </a:lnTo>
                          <a:lnTo>
                            <a:pt x="55" y="123"/>
                          </a:lnTo>
                          <a:lnTo>
                            <a:pt x="61" y="132"/>
                          </a:lnTo>
                          <a:lnTo>
                            <a:pt x="66" y="143"/>
                          </a:lnTo>
                          <a:lnTo>
                            <a:pt x="72" y="151"/>
                          </a:lnTo>
                          <a:lnTo>
                            <a:pt x="72" y="137"/>
                          </a:lnTo>
                          <a:lnTo>
                            <a:pt x="66" y="127"/>
                          </a:lnTo>
                          <a:lnTo>
                            <a:pt x="60" y="118"/>
                          </a:lnTo>
                          <a:lnTo>
                            <a:pt x="65" y="112"/>
                          </a:lnTo>
                          <a:lnTo>
                            <a:pt x="73" y="110"/>
                          </a:lnTo>
                          <a:lnTo>
                            <a:pt x="82" y="111"/>
                          </a:lnTo>
                          <a:lnTo>
                            <a:pt x="95" y="112"/>
                          </a:lnTo>
                          <a:lnTo>
                            <a:pt x="106" y="105"/>
                          </a:lnTo>
                          <a:lnTo>
                            <a:pt x="120" y="102"/>
                          </a:lnTo>
                          <a:lnTo>
                            <a:pt x="131" y="100"/>
                          </a:lnTo>
                          <a:lnTo>
                            <a:pt x="137" y="98"/>
                          </a:lnTo>
                          <a:lnTo>
                            <a:pt x="140" y="95"/>
                          </a:lnTo>
                          <a:lnTo>
                            <a:pt x="150" y="102"/>
                          </a:lnTo>
                          <a:lnTo>
                            <a:pt x="146" y="90"/>
                          </a:lnTo>
                          <a:lnTo>
                            <a:pt x="171" y="105"/>
                          </a:lnTo>
                          <a:lnTo>
                            <a:pt x="167" y="95"/>
                          </a:lnTo>
                          <a:lnTo>
                            <a:pt x="148" y="82"/>
                          </a:lnTo>
                          <a:lnTo>
                            <a:pt x="151" y="73"/>
                          </a:lnTo>
                          <a:lnTo>
                            <a:pt x="159" y="63"/>
                          </a:lnTo>
                          <a:lnTo>
                            <a:pt x="170" y="62"/>
                          </a:lnTo>
                          <a:lnTo>
                            <a:pt x="182" y="50"/>
                          </a:lnTo>
                          <a:close/>
                        </a:path>
                      </a:pathLst>
                    </a:custGeom>
                    <a:solidFill>
                      <a:srgbClr val="df9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9" name=""/>
                    <p:cNvSpPr/>
                    <p:nvPr/>
                  </p:nvSpPr>
                  <p:spPr>
                    <a:xfrm>
                      <a:off x="4678560" y="3314880"/>
                      <a:ext cx="1800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90">
                          <a:moveTo>
                            <a:pt x="56" y="0"/>
                          </a:moveTo>
                          <a:lnTo>
                            <a:pt x="43" y="3"/>
                          </a:lnTo>
                          <a:lnTo>
                            <a:pt x="41" y="10"/>
                          </a:lnTo>
                          <a:lnTo>
                            <a:pt x="0" y="90"/>
                          </a:lnTo>
                          <a:lnTo>
                            <a:pt x="21" y="88"/>
                          </a:lnTo>
                          <a:lnTo>
                            <a:pt x="63" y="16"/>
                          </a:lnTo>
                          <a:lnTo>
                            <a:pt x="64" y="4"/>
                          </a:lnTo>
                          <a:lnTo>
                            <a:pt x="56" y="0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0" name=""/>
                    <p:cNvSpPr/>
                    <p:nvPr/>
                  </p:nvSpPr>
                  <p:spPr>
                    <a:xfrm>
                      <a:off x="4715280" y="3335400"/>
                      <a:ext cx="1296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83">
                          <a:moveTo>
                            <a:pt x="0" y="0"/>
                          </a:moveTo>
                          <a:lnTo>
                            <a:pt x="9" y="12"/>
                          </a:lnTo>
                          <a:lnTo>
                            <a:pt x="14" y="22"/>
                          </a:lnTo>
                          <a:lnTo>
                            <a:pt x="17" y="35"/>
                          </a:lnTo>
                          <a:lnTo>
                            <a:pt x="18" y="48"/>
                          </a:lnTo>
                          <a:lnTo>
                            <a:pt x="17" y="62"/>
                          </a:lnTo>
                          <a:lnTo>
                            <a:pt x="12" y="83"/>
                          </a:lnTo>
                          <a:lnTo>
                            <a:pt x="28" y="45"/>
                          </a:lnTo>
                          <a:lnTo>
                            <a:pt x="38" y="33"/>
                          </a:lnTo>
                          <a:lnTo>
                            <a:pt x="45" y="22"/>
                          </a:lnTo>
                          <a:lnTo>
                            <a:pt x="33" y="18"/>
                          </a:lnTo>
                          <a:lnTo>
                            <a:pt x="21" y="9"/>
                          </a:lnTo>
                          <a:lnTo>
                            <a:pt x="12" y="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df9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1" name=""/>
                    <p:cNvSpPr/>
                    <p:nvPr/>
                  </p:nvSpPr>
                  <p:spPr>
                    <a:xfrm>
                      <a:off x="4685400" y="3317040"/>
                      <a:ext cx="1044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84">
                          <a:moveTo>
                            <a:pt x="36" y="7"/>
                          </a:moveTo>
                          <a:lnTo>
                            <a:pt x="38" y="10"/>
                          </a:lnTo>
                          <a:lnTo>
                            <a:pt x="4" y="84"/>
                          </a:lnTo>
                          <a:lnTo>
                            <a:pt x="0" y="76"/>
                          </a:lnTo>
                          <a:lnTo>
                            <a:pt x="2" y="69"/>
                          </a:lnTo>
                          <a:lnTo>
                            <a:pt x="6" y="63"/>
                          </a:lnTo>
                          <a:lnTo>
                            <a:pt x="12" y="61"/>
                          </a:lnTo>
                          <a:lnTo>
                            <a:pt x="35" y="10"/>
                          </a:lnTo>
                          <a:lnTo>
                            <a:pt x="18" y="2"/>
                          </a:lnTo>
                          <a:lnTo>
                            <a:pt x="18" y="0"/>
                          </a:lnTo>
                          <a:lnTo>
                            <a:pt x="36" y="7"/>
                          </a:lnTo>
                          <a:close/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2" name=""/>
                  <p:cNvSpPr/>
                  <p:nvPr/>
                </p:nvSpPr>
                <p:spPr>
                  <a:xfrm>
                    <a:off x="4708080" y="3326400"/>
                    <a:ext cx="295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32">
                        <a:moveTo>
                          <a:pt x="0" y="7"/>
                        </a:moveTo>
                        <a:lnTo>
                          <a:pt x="18" y="15"/>
                        </a:lnTo>
                        <a:lnTo>
                          <a:pt x="38" y="26"/>
                        </a:lnTo>
                        <a:lnTo>
                          <a:pt x="47" y="34"/>
                        </a:lnTo>
                        <a:lnTo>
                          <a:pt x="56" y="47"/>
                        </a:lnTo>
                        <a:lnTo>
                          <a:pt x="63" y="58"/>
                        </a:lnTo>
                        <a:lnTo>
                          <a:pt x="68" y="73"/>
                        </a:lnTo>
                        <a:lnTo>
                          <a:pt x="72" y="96"/>
                        </a:lnTo>
                        <a:lnTo>
                          <a:pt x="70" y="117"/>
                        </a:lnTo>
                        <a:lnTo>
                          <a:pt x="66" y="132"/>
                        </a:lnTo>
                        <a:lnTo>
                          <a:pt x="97" y="130"/>
                        </a:lnTo>
                        <a:lnTo>
                          <a:pt x="102" y="105"/>
                        </a:lnTo>
                        <a:lnTo>
                          <a:pt x="102" y="86"/>
                        </a:lnTo>
                        <a:lnTo>
                          <a:pt x="100" y="65"/>
                        </a:lnTo>
                        <a:lnTo>
                          <a:pt x="94" y="49"/>
                        </a:lnTo>
                        <a:lnTo>
                          <a:pt x="81" y="29"/>
                        </a:lnTo>
                        <a:lnTo>
                          <a:pt x="70" y="19"/>
                        </a:lnTo>
                        <a:lnTo>
                          <a:pt x="52" y="9"/>
                        </a:lnTo>
                        <a:lnTo>
                          <a:pt x="31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3" name=""/>
              <p:cNvGrpSpPr/>
              <p:nvPr/>
            </p:nvGrpSpPr>
            <p:grpSpPr>
              <a:xfrm>
                <a:off x="4021920" y="3033360"/>
                <a:ext cx="384840" cy="396720"/>
                <a:chOff x="4021920" y="3033360"/>
                <a:chExt cx="384840" cy="396720"/>
              </a:xfrm>
            </p:grpSpPr>
            <p:grpSp>
              <p:nvGrpSpPr>
                <p:cNvPr id="964" name=""/>
                <p:cNvGrpSpPr/>
                <p:nvPr/>
              </p:nvGrpSpPr>
              <p:grpSpPr>
                <a:xfrm>
                  <a:off x="4146480" y="3238920"/>
                  <a:ext cx="79200" cy="136800"/>
                  <a:chOff x="4146480" y="3238920"/>
                  <a:chExt cx="79200" cy="136800"/>
                </a:xfrm>
              </p:grpSpPr>
              <p:sp>
                <p:nvSpPr>
                  <p:cNvPr id="965" name=""/>
                  <p:cNvSpPr/>
                  <p:nvPr/>
                </p:nvSpPr>
                <p:spPr>
                  <a:xfrm>
                    <a:off x="4146480" y="32389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513">
                        <a:moveTo>
                          <a:pt x="0" y="0"/>
                        </a:moveTo>
                        <a:lnTo>
                          <a:pt x="26" y="14"/>
                        </a:lnTo>
                        <a:lnTo>
                          <a:pt x="56" y="23"/>
                        </a:lnTo>
                        <a:lnTo>
                          <a:pt x="91" y="30"/>
                        </a:lnTo>
                        <a:lnTo>
                          <a:pt x="129" y="37"/>
                        </a:lnTo>
                        <a:lnTo>
                          <a:pt x="154" y="35"/>
                        </a:lnTo>
                        <a:lnTo>
                          <a:pt x="183" y="28"/>
                        </a:lnTo>
                        <a:lnTo>
                          <a:pt x="208" y="20"/>
                        </a:lnTo>
                        <a:lnTo>
                          <a:pt x="235" y="3"/>
                        </a:lnTo>
                        <a:lnTo>
                          <a:pt x="263" y="125"/>
                        </a:lnTo>
                        <a:lnTo>
                          <a:pt x="267" y="203"/>
                        </a:lnTo>
                        <a:lnTo>
                          <a:pt x="271" y="238"/>
                        </a:lnTo>
                        <a:lnTo>
                          <a:pt x="271" y="305"/>
                        </a:lnTo>
                        <a:lnTo>
                          <a:pt x="267" y="361"/>
                        </a:lnTo>
                        <a:lnTo>
                          <a:pt x="259" y="430"/>
                        </a:lnTo>
                        <a:lnTo>
                          <a:pt x="246" y="492"/>
                        </a:lnTo>
                        <a:lnTo>
                          <a:pt x="67" y="513"/>
                        </a:lnTo>
                        <a:lnTo>
                          <a:pt x="41" y="289"/>
                        </a:lnTo>
                        <a:lnTo>
                          <a:pt x="22" y="1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4157640" y="3272760"/>
                    <a:ext cx="6660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390">
                        <a:moveTo>
                          <a:pt x="0" y="27"/>
                        </a:moveTo>
                        <a:lnTo>
                          <a:pt x="98" y="27"/>
                        </a:lnTo>
                        <a:lnTo>
                          <a:pt x="146" y="24"/>
                        </a:lnTo>
                        <a:lnTo>
                          <a:pt x="196" y="14"/>
                        </a:lnTo>
                        <a:lnTo>
                          <a:pt x="229" y="0"/>
                        </a:lnTo>
                        <a:lnTo>
                          <a:pt x="233" y="328"/>
                        </a:lnTo>
                        <a:lnTo>
                          <a:pt x="66" y="390"/>
                        </a:lnTo>
                        <a:lnTo>
                          <a:pt x="0" y="27"/>
                        </a:lnTo>
                        <a:close/>
                      </a:path>
                    </a:pathLst>
                  </a:custGeom>
                  <a:solidFill>
                    <a:srgbClr val="ffb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7" name=""/>
                <p:cNvGrpSpPr/>
                <p:nvPr/>
              </p:nvGrpSpPr>
              <p:grpSpPr>
                <a:xfrm>
                  <a:off x="4194360" y="3204000"/>
                  <a:ext cx="157680" cy="170640"/>
                  <a:chOff x="4194360" y="3204000"/>
                  <a:chExt cx="157680" cy="170640"/>
                </a:xfrm>
              </p:grpSpPr>
              <p:sp>
                <p:nvSpPr>
                  <p:cNvPr id="968" name=""/>
                  <p:cNvSpPr/>
                  <p:nvPr/>
                </p:nvSpPr>
                <p:spPr>
                  <a:xfrm>
                    <a:off x="4194360" y="3204000"/>
                    <a:ext cx="157680" cy="170640"/>
                  </a:xfrm>
                  <a:custGeom>
                    <a:avLst/>
                    <a:gdLst/>
                    <a:ahLst/>
                    <a:rect l="l" t="t" r="r" b="b"/>
                    <a:pathLst>
                      <a:path w="545" h="645">
                        <a:moveTo>
                          <a:pt x="22" y="0"/>
                        </a:moveTo>
                        <a:lnTo>
                          <a:pt x="55" y="14"/>
                        </a:lnTo>
                        <a:lnTo>
                          <a:pt x="91" y="53"/>
                        </a:lnTo>
                        <a:lnTo>
                          <a:pt x="224" y="99"/>
                        </a:lnTo>
                        <a:lnTo>
                          <a:pt x="260" y="120"/>
                        </a:lnTo>
                        <a:lnTo>
                          <a:pt x="300" y="190"/>
                        </a:lnTo>
                        <a:lnTo>
                          <a:pt x="300" y="236"/>
                        </a:lnTo>
                        <a:lnTo>
                          <a:pt x="308" y="271"/>
                        </a:lnTo>
                        <a:lnTo>
                          <a:pt x="330" y="331"/>
                        </a:lnTo>
                        <a:lnTo>
                          <a:pt x="392" y="434"/>
                        </a:lnTo>
                        <a:lnTo>
                          <a:pt x="436" y="504"/>
                        </a:lnTo>
                        <a:lnTo>
                          <a:pt x="483" y="564"/>
                        </a:lnTo>
                        <a:lnTo>
                          <a:pt x="545" y="634"/>
                        </a:lnTo>
                        <a:lnTo>
                          <a:pt x="29" y="645"/>
                        </a:lnTo>
                        <a:lnTo>
                          <a:pt x="62" y="578"/>
                        </a:lnTo>
                        <a:lnTo>
                          <a:pt x="76" y="529"/>
                        </a:lnTo>
                        <a:lnTo>
                          <a:pt x="84" y="441"/>
                        </a:lnTo>
                        <a:lnTo>
                          <a:pt x="80" y="293"/>
                        </a:lnTo>
                        <a:lnTo>
                          <a:pt x="66" y="183"/>
                        </a:lnTo>
                        <a:lnTo>
                          <a:pt x="44" y="106"/>
                        </a:lnTo>
                        <a:lnTo>
                          <a:pt x="0" y="35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4233240" y="3225240"/>
                    <a:ext cx="3384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338">
                        <a:moveTo>
                          <a:pt x="0" y="0"/>
                        </a:moveTo>
                        <a:lnTo>
                          <a:pt x="44" y="32"/>
                        </a:lnTo>
                        <a:lnTo>
                          <a:pt x="67" y="67"/>
                        </a:lnTo>
                        <a:lnTo>
                          <a:pt x="82" y="102"/>
                        </a:lnTo>
                        <a:lnTo>
                          <a:pt x="95" y="141"/>
                        </a:lnTo>
                        <a:lnTo>
                          <a:pt x="110" y="187"/>
                        </a:lnTo>
                        <a:lnTo>
                          <a:pt x="117" y="236"/>
                        </a:lnTo>
                        <a:lnTo>
                          <a:pt x="117" y="300"/>
                        </a:lnTo>
                        <a:lnTo>
                          <a:pt x="110" y="338"/>
                        </a:lnTo>
                        <a:lnTo>
                          <a:pt x="99" y="264"/>
                        </a:lnTo>
                        <a:lnTo>
                          <a:pt x="89" y="220"/>
                        </a:lnTo>
                        <a:lnTo>
                          <a:pt x="73" y="194"/>
                        </a:lnTo>
                        <a:lnTo>
                          <a:pt x="53" y="181"/>
                        </a:lnTo>
                        <a:lnTo>
                          <a:pt x="64" y="155"/>
                        </a:lnTo>
                        <a:lnTo>
                          <a:pt x="67" y="114"/>
                        </a:lnTo>
                        <a:lnTo>
                          <a:pt x="51" y="78"/>
                        </a:lnTo>
                        <a:lnTo>
                          <a:pt x="30" y="3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3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0" name=""/>
                <p:cNvSpPr/>
                <p:nvPr/>
              </p:nvSpPr>
              <p:spPr>
                <a:xfrm>
                  <a:off x="4179600" y="3350880"/>
                  <a:ext cx="46800" cy="33480"/>
                </a:xfrm>
                <a:custGeom>
                  <a:avLst/>
                  <a:gdLst/>
                  <a:ahLst/>
                  <a:rect l="l" t="t" r="r" b="b"/>
                  <a:pathLst>
                    <a:path w="160" h="125">
                      <a:moveTo>
                        <a:pt x="135" y="21"/>
                      </a:moveTo>
                      <a:lnTo>
                        <a:pt x="110" y="0"/>
                      </a:lnTo>
                      <a:lnTo>
                        <a:pt x="72" y="9"/>
                      </a:lnTo>
                      <a:lnTo>
                        <a:pt x="40" y="21"/>
                      </a:lnTo>
                      <a:lnTo>
                        <a:pt x="7" y="34"/>
                      </a:lnTo>
                      <a:lnTo>
                        <a:pt x="0" y="45"/>
                      </a:lnTo>
                      <a:lnTo>
                        <a:pt x="18" y="62"/>
                      </a:lnTo>
                      <a:lnTo>
                        <a:pt x="24" y="83"/>
                      </a:lnTo>
                      <a:lnTo>
                        <a:pt x="39" y="98"/>
                      </a:lnTo>
                      <a:lnTo>
                        <a:pt x="54" y="108"/>
                      </a:lnTo>
                      <a:lnTo>
                        <a:pt x="76" y="115"/>
                      </a:lnTo>
                      <a:lnTo>
                        <a:pt x="91" y="125"/>
                      </a:lnTo>
                      <a:lnTo>
                        <a:pt x="117" y="125"/>
                      </a:lnTo>
                      <a:lnTo>
                        <a:pt x="130" y="125"/>
                      </a:lnTo>
                      <a:lnTo>
                        <a:pt x="139" y="115"/>
                      </a:lnTo>
                      <a:lnTo>
                        <a:pt x="138" y="97"/>
                      </a:lnTo>
                      <a:lnTo>
                        <a:pt x="160" y="98"/>
                      </a:lnTo>
                      <a:lnTo>
                        <a:pt x="135" y="90"/>
                      </a:lnTo>
                      <a:lnTo>
                        <a:pt x="130" y="69"/>
                      </a:lnTo>
                      <a:lnTo>
                        <a:pt x="132" y="55"/>
                      </a:lnTo>
                      <a:lnTo>
                        <a:pt x="130" y="44"/>
                      </a:lnTo>
                      <a:lnTo>
                        <a:pt x="135" y="21"/>
                      </a:lnTo>
                      <a:close/>
                    </a:path>
                  </a:pathLst>
                </a:custGeom>
                <a:solidFill>
                  <a:srgbClr val="f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4115160" y="3399120"/>
                  <a:ext cx="22320" cy="23760"/>
                </a:xfrm>
                <a:custGeom>
                  <a:avLst/>
                  <a:gdLst/>
                  <a:ahLst/>
                  <a:rect l="l" t="t" r="r" b="b"/>
                  <a:pathLst>
                    <a:path w="77" h="90">
                      <a:moveTo>
                        <a:pt x="77" y="0"/>
                      </a:moveTo>
                      <a:lnTo>
                        <a:pt x="19" y="90"/>
                      </a:lnTo>
                      <a:lnTo>
                        <a:pt x="0" y="26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72" name=""/>
                <p:cNvGrpSpPr/>
                <p:nvPr/>
              </p:nvGrpSpPr>
              <p:grpSpPr>
                <a:xfrm>
                  <a:off x="4021920" y="3192840"/>
                  <a:ext cx="160200" cy="237240"/>
                  <a:chOff x="4021920" y="3192840"/>
                  <a:chExt cx="160200" cy="237240"/>
                </a:xfrm>
              </p:grpSpPr>
              <p:sp>
                <p:nvSpPr>
                  <p:cNvPr id="973" name=""/>
                  <p:cNvSpPr/>
                  <p:nvPr/>
                </p:nvSpPr>
                <p:spPr>
                  <a:xfrm>
                    <a:off x="4021920" y="3192840"/>
                    <a:ext cx="160200" cy="235800"/>
                  </a:xfrm>
                  <a:custGeom>
                    <a:avLst/>
                    <a:gdLst/>
                    <a:ahLst/>
                    <a:rect l="l" t="t" r="r" b="b"/>
                    <a:pathLst>
                      <a:path w="552" h="889">
                        <a:moveTo>
                          <a:pt x="427" y="11"/>
                        </a:moveTo>
                        <a:lnTo>
                          <a:pt x="351" y="0"/>
                        </a:lnTo>
                        <a:lnTo>
                          <a:pt x="296" y="4"/>
                        </a:lnTo>
                        <a:lnTo>
                          <a:pt x="234" y="11"/>
                        </a:lnTo>
                        <a:lnTo>
                          <a:pt x="201" y="18"/>
                        </a:lnTo>
                        <a:lnTo>
                          <a:pt x="183" y="39"/>
                        </a:lnTo>
                        <a:lnTo>
                          <a:pt x="161" y="35"/>
                        </a:lnTo>
                        <a:lnTo>
                          <a:pt x="128" y="60"/>
                        </a:lnTo>
                        <a:lnTo>
                          <a:pt x="102" y="88"/>
                        </a:lnTo>
                        <a:lnTo>
                          <a:pt x="84" y="116"/>
                        </a:lnTo>
                        <a:lnTo>
                          <a:pt x="62" y="152"/>
                        </a:lnTo>
                        <a:lnTo>
                          <a:pt x="51" y="190"/>
                        </a:lnTo>
                        <a:lnTo>
                          <a:pt x="40" y="257"/>
                        </a:lnTo>
                        <a:lnTo>
                          <a:pt x="33" y="303"/>
                        </a:lnTo>
                        <a:lnTo>
                          <a:pt x="33" y="377"/>
                        </a:lnTo>
                        <a:lnTo>
                          <a:pt x="48" y="426"/>
                        </a:lnTo>
                        <a:lnTo>
                          <a:pt x="44" y="462"/>
                        </a:lnTo>
                        <a:lnTo>
                          <a:pt x="33" y="553"/>
                        </a:lnTo>
                        <a:lnTo>
                          <a:pt x="22" y="592"/>
                        </a:lnTo>
                        <a:lnTo>
                          <a:pt x="18" y="634"/>
                        </a:lnTo>
                        <a:lnTo>
                          <a:pt x="7" y="662"/>
                        </a:lnTo>
                        <a:lnTo>
                          <a:pt x="0" y="694"/>
                        </a:lnTo>
                        <a:lnTo>
                          <a:pt x="4" y="729"/>
                        </a:lnTo>
                        <a:lnTo>
                          <a:pt x="18" y="761"/>
                        </a:lnTo>
                        <a:lnTo>
                          <a:pt x="48" y="789"/>
                        </a:lnTo>
                        <a:lnTo>
                          <a:pt x="99" y="835"/>
                        </a:lnTo>
                        <a:lnTo>
                          <a:pt x="128" y="846"/>
                        </a:lnTo>
                        <a:lnTo>
                          <a:pt x="165" y="856"/>
                        </a:lnTo>
                        <a:lnTo>
                          <a:pt x="194" y="868"/>
                        </a:lnTo>
                        <a:lnTo>
                          <a:pt x="219" y="882"/>
                        </a:lnTo>
                        <a:lnTo>
                          <a:pt x="340" y="889"/>
                        </a:lnTo>
                        <a:lnTo>
                          <a:pt x="420" y="786"/>
                        </a:lnTo>
                        <a:lnTo>
                          <a:pt x="449" y="691"/>
                        </a:lnTo>
                        <a:lnTo>
                          <a:pt x="552" y="691"/>
                        </a:lnTo>
                        <a:lnTo>
                          <a:pt x="544" y="553"/>
                        </a:lnTo>
                        <a:lnTo>
                          <a:pt x="526" y="398"/>
                        </a:lnTo>
                        <a:lnTo>
                          <a:pt x="493" y="204"/>
                        </a:lnTo>
                        <a:lnTo>
                          <a:pt x="475" y="116"/>
                        </a:lnTo>
                        <a:lnTo>
                          <a:pt x="427" y="11"/>
                        </a:lnTo>
                        <a:close/>
                      </a:path>
                    </a:pathLst>
                  </a:custGeom>
                  <a:solidFill>
                    <a:srgbClr val="f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4071240" y="3351600"/>
                    <a:ext cx="7236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296">
                        <a:moveTo>
                          <a:pt x="233" y="14"/>
                        </a:moveTo>
                        <a:lnTo>
                          <a:pt x="144" y="7"/>
                        </a:lnTo>
                        <a:lnTo>
                          <a:pt x="51" y="0"/>
                        </a:lnTo>
                        <a:lnTo>
                          <a:pt x="35" y="21"/>
                        </a:lnTo>
                        <a:lnTo>
                          <a:pt x="28" y="38"/>
                        </a:lnTo>
                        <a:lnTo>
                          <a:pt x="17" y="59"/>
                        </a:lnTo>
                        <a:lnTo>
                          <a:pt x="7" y="91"/>
                        </a:lnTo>
                        <a:lnTo>
                          <a:pt x="2" y="119"/>
                        </a:lnTo>
                        <a:lnTo>
                          <a:pt x="0" y="145"/>
                        </a:lnTo>
                        <a:lnTo>
                          <a:pt x="3" y="176"/>
                        </a:lnTo>
                        <a:lnTo>
                          <a:pt x="14" y="217"/>
                        </a:lnTo>
                        <a:lnTo>
                          <a:pt x="25" y="250"/>
                        </a:lnTo>
                        <a:lnTo>
                          <a:pt x="28" y="280"/>
                        </a:lnTo>
                        <a:lnTo>
                          <a:pt x="177" y="296"/>
                        </a:lnTo>
                        <a:lnTo>
                          <a:pt x="241" y="193"/>
                        </a:lnTo>
                        <a:lnTo>
                          <a:pt x="248" y="166"/>
                        </a:lnTo>
                        <a:lnTo>
                          <a:pt x="233" y="14"/>
                        </a:lnTo>
                        <a:close/>
                      </a:path>
                    </a:pathLst>
                  </a:custGeom>
                  <a:solidFill>
                    <a:srgbClr val="df1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4039200" y="3208680"/>
                    <a:ext cx="6768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567">
                        <a:moveTo>
                          <a:pt x="146" y="0"/>
                        </a:moveTo>
                        <a:lnTo>
                          <a:pt x="189" y="70"/>
                        </a:lnTo>
                        <a:lnTo>
                          <a:pt x="215" y="144"/>
                        </a:lnTo>
                        <a:lnTo>
                          <a:pt x="230" y="233"/>
                        </a:lnTo>
                        <a:lnTo>
                          <a:pt x="233" y="331"/>
                        </a:lnTo>
                        <a:lnTo>
                          <a:pt x="230" y="447"/>
                        </a:lnTo>
                        <a:lnTo>
                          <a:pt x="219" y="497"/>
                        </a:lnTo>
                        <a:lnTo>
                          <a:pt x="160" y="539"/>
                        </a:lnTo>
                        <a:lnTo>
                          <a:pt x="131" y="521"/>
                        </a:lnTo>
                        <a:lnTo>
                          <a:pt x="102" y="514"/>
                        </a:lnTo>
                        <a:lnTo>
                          <a:pt x="76" y="521"/>
                        </a:lnTo>
                        <a:lnTo>
                          <a:pt x="58" y="546"/>
                        </a:lnTo>
                        <a:lnTo>
                          <a:pt x="25" y="560"/>
                        </a:lnTo>
                        <a:lnTo>
                          <a:pt x="0" y="567"/>
                        </a:lnTo>
                        <a:lnTo>
                          <a:pt x="40" y="532"/>
                        </a:lnTo>
                        <a:lnTo>
                          <a:pt x="65" y="521"/>
                        </a:lnTo>
                        <a:lnTo>
                          <a:pt x="84" y="504"/>
                        </a:lnTo>
                        <a:lnTo>
                          <a:pt x="106" y="504"/>
                        </a:lnTo>
                        <a:lnTo>
                          <a:pt x="131" y="479"/>
                        </a:lnTo>
                        <a:lnTo>
                          <a:pt x="106" y="451"/>
                        </a:lnTo>
                        <a:lnTo>
                          <a:pt x="142" y="458"/>
                        </a:lnTo>
                        <a:lnTo>
                          <a:pt x="116" y="377"/>
                        </a:lnTo>
                        <a:lnTo>
                          <a:pt x="95" y="310"/>
                        </a:lnTo>
                        <a:lnTo>
                          <a:pt x="87" y="263"/>
                        </a:lnTo>
                        <a:lnTo>
                          <a:pt x="98" y="194"/>
                        </a:lnTo>
                        <a:lnTo>
                          <a:pt x="116" y="271"/>
                        </a:lnTo>
                        <a:lnTo>
                          <a:pt x="153" y="359"/>
                        </a:lnTo>
                        <a:lnTo>
                          <a:pt x="197" y="454"/>
                        </a:lnTo>
                        <a:lnTo>
                          <a:pt x="197" y="324"/>
                        </a:lnTo>
                        <a:lnTo>
                          <a:pt x="189" y="236"/>
                        </a:lnTo>
                        <a:lnTo>
                          <a:pt x="179" y="106"/>
                        </a:lnTo>
                        <a:lnTo>
                          <a:pt x="146" y="0"/>
                        </a:lnTo>
                        <a:close/>
                      </a:path>
                    </a:pathLst>
                  </a:custGeom>
                  <a:solidFill>
                    <a:srgbClr val="df3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6" name=""/>
                <p:cNvSpPr/>
                <p:nvPr/>
              </p:nvSpPr>
              <p:spPr>
                <a:xfrm>
                  <a:off x="4209120" y="3292200"/>
                  <a:ext cx="197640" cy="95040"/>
                </a:xfrm>
                <a:custGeom>
                  <a:avLst/>
                  <a:gdLst/>
                  <a:ahLst/>
                  <a:rect l="l" t="t" r="r" b="b"/>
                  <a:pathLst>
                    <a:path w="681" h="359">
                      <a:moveTo>
                        <a:pt x="0" y="292"/>
                      </a:moveTo>
                      <a:lnTo>
                        <a:pt x="263" y="0"/>
                      </a:lnTo>
                      <a:lnTo>
                        <a:pt x="681" y="111"/>
                      </a:lnTo>
                      <a:lnTo>
                        <a:pt x="509" y="320"/>
                      </a:lnTo>
                      <a:lnTo>
                        <a:pt x="402" y="344"/>
                      </a:lnTo>
                      <a:lnTo>
                        <a:pt x="293" y="359"/>
                      </a:lnTo>
                      <a:lnTo>
                        <a:pt x="55" y="345"/>
                      </a:lnTo>
                      <a:lnTo>
                        <a:pt x="0" y="292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4111560" y="3347640"/>
                  <a:ext cx="168840" cy="62640"/>
                </a:xfrm>
                <a:custGeom>
                  <a:avLst/>
                  <a:gdLst/>
                  <a:ahLst/>
                  <a:rect l="l" t="t" r="r" b="b"/>
                  <a:pathLst>
                    <a:path w="582" h="236">
                      <a:moveTo>
                        <a:pt x="32" y="57"/>
                      </a:moveTo>
                      <a:lnTo>
                        <a:pt x="249" y="29"/>
                      </a:lnTo>
                      <a:lnTo>
                        <a:pt x="295" y="12"/>
                      </a:lnTo>
                      <a:lnTo>
                        <a:pt x="318" y="3"/>
                      </a:lnTo>
                      <a:lnTo>
                        <a:pt x="342" y="0"/>
                      </a:lnTo>
                      <a:lnTo>
                        <a:pt x="375" y="5"/>
                      </a:lnTo>
                      <a:lnTo>
                        <a:pt x="412" y="12"/>
                      </a:lnTo>
                      <a:lnTo>
                        <a:pt x="439" y="15"/>
                      </a:lnTo>
                      <a:lnTo>
                        <a:pt x="491" y="21"/>
                      </a:lnTo>
                      <a:lnTo>
                        <a:pt x="517" y="22"/>
                      </a:lnTo>
                      <a:lnTo>
                        <a:pt x="537" y="26"/>
                      </a:lnTo>
                      <a:lnTo>
                        <a:pt x="559" y="29"/>
                      </a:lnTo>
                      <a:lnTo>
                        <a:pt x="577" y="36"/>
                      </a:lnTo>
                      <a:lnTo>
                        <a:pt x="582" y="46"/>
                      </a:lnTo>
                      <a:lnTo>
                        <a:pt x="574" y="54"/>
                      </a:lnTo>
                      <a:lnTo>
                        <a:pt x="537" y="56"/>
                      </a:lnTo>
                      <a:lnTo>
                        <a:pt x="523" y="57"/>
                      </a:lnTo>
                      <a:lnTo>
                        <a:pt x="520" y="82"/>
                      </a:lnTo>
                      <a:lnTo>
                        <a:pt x="512" y="92"/>
                      </a:lnTo>
                      <a:lnTo>
                        <a:pt x="506" y="93"/>
                      </a:lnTo>
                      <a:lnTo>
                        <a:pt x="501" y="109"/>
                      </a:lnTo>
                      <a:lnTo>
                        <a:pt x="490" y="121"/>
                      </a:lnTo>
                      <a:lnTo>
                        <a:pt x="476" y="127"/>
                      </a:lnTo>
                      <a:lnTo>
                        <a:pt x="468" y="137"/>
                      </a:lnTo>
                      <a:lnTo>
                        <a:pt x="457" y="142"/>
                      </a:lnTo>
                      <a:lnTo>
                        <a:pt x="423" y="160"/>
                      </a:lnTo>
                      <a:lnTo>
                        <a:pt x="405" y="167"/>
                      </a:lnTo>
                      <a:lnTo>
                        <a:pt x="351" y="169"/>
                      </a:lnTo>
                      <a:lnTo>
                        <a:pt x="311" y="165"/>
                      </a:lnTo>
                      <a:lnTo>
                        <a:pt x="288" y="155"/>
                      </a:lnTo>
                      <a:lnTo>
                        <a:pt x="277" y="151"/>
                      </a:lnTo>
                      <a:lnTo>
                        <a:pt x="256" y="155"/>
                      </a:lnTo>
                      <a:lnTo>
                        <a:pt x="222" y="158"/>
                      </a:lnTo>
                      <a:lnTo>
                        <a:pt x="193" y="163"/>
                      </a:lnTo>
                      <a:lnTo>
                        <a:pt x="70" y="208"/>
                      </a:lnTo>
                      <a:lnTo>
                        <a:pt x="17" y="236"/>
                      </a:lnTo>
                      <a:lnTo>
                        <a:pt x="3" y="187"/>
                      </a:lnTo>
                      <a:lnTo>
                        <a:pt x="0" y="156"/>
                      </a:lnTo>
                      <a:lnTo>
                        <a:pt x="0" y="131"/>
                      </a:lnTo>
                      <a:lnTo>
                        <a:pt x="10" y="99"/>
                      </a:lnTo>
                      <a:lnTo>
                        <a:pt x="32" y="57"/>
                      </a:lnTo>
                      <a:close/>
                    </a:path>
                  </a:pathLst>
                </a:custGeom>
                <a:solidFill>
                  <a:srgbClr val="f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78" name=""/>
                <p:cNvGrpSpPr/>
                <p:nvPr/>
              </p:nvGrpSpPr>
              <p:grpSpPr>
                <a:xfrm>
                  <a:off x="4079160" y="3033360"/>
                  <a:ext cx="185760" cy="219960"/>
                  <a:chOff x="4079160" y="3033360"/>
                  <a:chExt cx="185760" cy="219960"/>
                </a:xfrm>
              </p:grpSpPr>
              <p:grpSp>
                <p:nvGrpSpPr>
                  <p:cNvPr id="979" name=""/>
                  <p:cNvGrpSpPr/>
                  <p:nvPr/>
                </p:nvGrpSpPr>
                <p:grpSpPr>
                  <a:xfrm>
                    <a:off x="4246200" y="3092760"/>
                    <a:ext cx="16560" cy="39600"/>
                    <a:chOff x="4246200" y="3092760"/>
                    <a:chExt cx="16560" cy="39600"/>
                  </a:xfrm>
                </p:grpSpPr>
                <p:sp>
                  <p:nvSpPr>
                    <p:cNvPr id="980" name=""/>
                    <p:cNvSpPr/>
                    <p:nvPr/>
                  </p:nvSpPr>
                  <p:spPr>
                    <a:xfrm>
                      <a:off x="4246200" y="3092760"/>
                      <a:ext cx="16560" cy="39600"/>
                    </a:xfrm>
                    <a:prstGeom prst="ellipse">
                      <a:avLst/>
                    </a:prstGeom>
                    <a:solidFill>
                      <a:srgbClr val="7f3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1" name=""/>
                    <p:cNvSpPr/>
                    <p:nvPr/>
                  </p:nvSpPr>
                  <p:spPr>
                    <a:xfrm>
                      <a:off x="4247640" y="3093480"/>
                      <a:ext cx="14040" cy="37080"/>
                    </a:xfrm>
                    <a:prstGeom prst="ellipse">
                      <a:avLst/>
                    </a:prstGeom>
                    <a:solidFill>
                      <a:srgbClr val="ffd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2" name=""/>
                  <p:cNvGrpSpPr/>
                  <p:nvPr/>
                </p:nvGrpSpPr>
                <p:grpSpPr>
                  <a:xfrm>
                    <a:off x="4079160" y="3033360"/>
                    <a:ext cx="185760" cy="219960"/>
                    <a:chOff x="4079160" y="3033360"/>
                    <a:chExt cx="185760" cy="219960"/>
                  </a:xfrm>
                </p:grpSpPr>
                <p:grpSp>
                  <p:nvGrpSpPr>
                    <p:cNvPr id="983" name=""/>
                    <p:cNvGrpSpPr/>
                    <p:nvPr/>
                  </p:nvGrpSpPr>
                  <p:grpSpPr>
                    <a:xfrm>
                      <a:off x="4122360" y="3047760"/>
                      <a:ext cx="142560" cy="205560"/>
                      <a:chOff x="4122360" y="3047760"/>
                      <a:chExt cx="142560" cy="205560"/>
                    </a:xfrm>
                  </p:grpSpPr>
                  <p:sp>
                    <p:nvSpPr>
                      <p:cNvPr id="984" name=""/>
                      <p:cNvSpPr/>
                      <p:nvPr/>
                    </p:nvSpPr>
                    <p:spPr>
                      <a:xfrm>
                        <a:off x="4122360" y="3047760"/>
                        <a:ext cx="142560" cy="20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2" h="777">
                            <a:moveTo>
                              <a:pt x="318" y="14"/>
                            </a:moveTo>
                            <a:lnTo>
                              <a:pt x="359" y="29"/>
                            </a:lnTo>
                            <a:lnTo>
                              <a:pt x="383" y="44"/>
                            </a:lnTo>
                            <a:lnTo>
                              <a:pt x="402" y="64"/>
                            </a:lnTo>
                            <a:lnTo>
                              <a:pt x="413" y="86"/>
                            </a:lnTo>
                            <a:lnTo>
                              <a:pt x="421" y="111"/>
                            </a:lnTo>
                            <a:lnTo>
                              <a:pt x="427" y="135"/>
                            </a:lnTo>
                            <a:lnTo>
                              <a:pt x="434" y="171"/>
                            </a:lnTo>
                            <a:lnTo>
                              <a:pt x="438" y="206"/>
                            </a:lnTo>
                            <a:lnTo>
                              <a:pt x="433" y="227"/>
                            </a:lnTo>
                            <a:lnTo>
                              <a:pt x="431" y="248"/>
                            </a:lnTo>
                            <a:lnTo>
                              <a:pt x="442" y="269"/>
                            </a:lnTo>
                            <a:lnTo>
                              <a:pt x="475" y="303"/>
                            </a:lnTo>
                            <a:lnTo>
                              <a:pt x="483" y="313"/>
                            </a:lnTo>
                            <a:lnTo>
                              <a:pt x="490" y="322"/>
                            </a:lnTo>
                            <a:lnTo>
                              <a:pt x="492" y="330"/>
                            </a:lnTo>
                            <a:lnTo>
                              <a:pt x="488" y="337"/>
                            </a:lnTo>
                            <a:lnTo>
                              <a:pt x="480" y="342"/>
                            </a:lnTo>
                            <a:lnTo>
                              <a:pt x="464" y="347"/>
                            </a:lnTo>
                            <a:lnTo>
                              <a:pt x="458" y="353"/>
                            </a:lnTo>
                            <a:lnTo>
                              <a:pt x="464" y="367"/>
                            </a:lnTo>
                            <a:lnTo>
                              <a:pt x="462" y="375"/>
                            </a:lnTo>
                            <a:lnTo>
                              <a:pt x="456" y="382"/>
                            </a:lnTo>
                            <a:lnTo>
                              <a:pt x="443" y="389"/>
                            </a:lnTo>
                            <a:lnTo>
                              <a:pt x="425" y="397"/>
                            </a:lnTo>
                            <a:lnTo>
                              <a:pt x="414" y="401"/>
                            </a:lnTo>
                            <a:lnTo>
                              <a:pt x="453" y="410"/>
                            </a:lnTo>
                            <a:lnTo>
                              <a:pt x="458" y="417"/>
                            </a:lnTo>
                            <a:lnTo>
                              <a:pt x="448" y="433"/>
                            </a:lnTo>
                            <a:lnTo>
                              <a:pt x="447" y="454"/>
                            </a:lnTo>
                            <a:lnTo>
                              <a:pt x="447" y="484"/>
                            </a:lnTo>
                            <a:lnTo>
                              <a:pt x="447" y="496"/>
                            </a:lnTo>
                            <a:lnTo>
                              <a:pt x="442" y="505"/>
                            </a:lnTo>
                            <a:lnTo>
                              <a:pt x="431" y="514"/>
                            </a:lnTo>
                            <a:lnTo>
                              <a:pt x="414" y="518"/>
                            </a:lnTo>
                            <a:lnTo>
                              <a:pt x="396" y="523"/>
                            </a:lnTo>
                            <a:lnTo>
                              <a:pt x="354" y="530"/>
                            </a:lnTo>
                            <a:lnTo>
                              <a:pt x="330" y="536"/>
                            </a:lnTo>
                            <a:lnTo>
                              <a:pt x="312" y="543"/>
                            </a:lnTo>
                            <a:lnTo>
                              <a:pt x="298" y="553"/>
                            </a:lnTo>
                            <a:lnTo>
                              <a:pt x="253" y="615"/>
                            </a:lnTo>
                            <a:lnTo>
                              <a:pt x="320" y="754"/>
                            </a:lnTo>
                            <a:lnTo>
                              <a:pt x="281" y="765"/>
                            </a:lnTo>
                            <a:lnTo>
                              <a:pt x="221" y="777"/>
                            </a:lnTo>
                            <a:lnTo>
                              <a:pt x="169" y="774"/>
                            </a:lnTo>
                            <a:lnTo>
                              <a:pt x="139" y="758"/>
                            </a:lnTo>
                            <a:lnTo>
                              <a:pt x="68" y="545"/>
                            </a:lnTo>
                            <a:lnTo>
                              <a:pt x="68" y="474"/>
                            </a:lnTo>
                            <a:lnTo>
                              <a:pt x="47" y="436"/>
                            </a:lnTo>
                            <a:lnTo>
                              <a:pt x="22" y="387"/>
                            </a:lnTo>
                            <a:lnTo>
                              <a:pt x="11" y="359"/>
                            </a:lnTo>
                            <a:lnTo>
                              <a:pt x="4" y="321"/>
                            </a:lnTo>
                            <a:lnTo>
                              <a:pt x="0" y="280"/>
                            </a:lnTo>
                            <a:lnTo>
                              <a:pt x="0" y="231"/>
                            </a:lnTo>
                            <a:lnTo>
                              <a:pt x="6" y="185"/>
                            </a:lnTo>
                            <a:lnTo>
                              <a:pt x="14" y="145"/>
                            </a:lnTo>
                            <a:lnTo>
                              <a:pt x="28" y="111"/>
                            </a:lnTo>
                            <a:lnTo>
                              <a:pt x="44" y="78"/>
                            </a:lnTo>
                            <a:lnTo>
                              <a:pt x="68" y="47"/>
                            </a:lnTo>
                            <a:lnTo>
                              <a:pt x="102" y="23"/>
                            </a:lnTo>
                            <a:lnTo>
                              <a:pt x="139" y="9"/>
                            </a:lnTo>
                            <a:lnTo>
                              <a:pt x="181" y="2"/>
                            </a:lnTo>
                            <a:lnTo>
                              <a:pt x="219" y="0"/>
                            </a:lnTo>
                            <a:lnTo>
                              <a:pt x="269" y="3"/>
                            </a:lnTo>
                            <a:lnTo>
                              <a:pt x="318" y="14"/>
                            </a:lnTo>
                            <a:close/>
                          </a:path>
                        </a:pathLst>
                      </a:custGeom>
                      <a:solidFill>
                        <a:srgbClr val="ffb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985" name=""/>
                      <p:cNvGrpSpPr/>
                      <p:nvPr/>
                    </p:nvGrpSpPr>
                    <p:grpSpPr>
                      <a:xfrm>
                        <a:off x="4181400" y="3167640"/>
                        <a:ext cx="65520" cy="75240"/>
                        <a:chOff x="4181400" y="3167640"/>
                        <a:chExt cx="65520" cy="75240"/>
                      </a:xfrm>
                    </p:grpSpPr>
                    <p:sp>
                      <p:nvSpPr>
                        <p:cNvPr id="986" name=""/>
                        <p:cNvSpPr/>
                        <p:nvPr/>
                      </p:nvSpPr>
                      <p:spPr>
                        <a:xfrm>
                          <a:off x="4182120" y="3167640"/>
                          <a:ext cx="648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6" h="102">
                              <a:moveTo>
                                <a:pt x="0" y="0"/>
                              </a:moveTo>
                              <a:lnTo>
                                <a:pt x="33" y="14"/>
                              </a:lnTo>
                              <a:lnTo>
                                <a:pt x="67" y="25"/>
                              </a:lnTo>
                              <a:lnTo>
                                <a:pt x="92" y="32"/>
                              </a:lnTo>
                              <a:lnTo>
                                <a:pt x="125" y="41"/>
                              </a:lnTo>
                              <a:lnTo>
                                <a:pt x="147" y="45"/>
                              </a:lnTo>
                              <a:lnTo>
                                <a:pt x="178" y="50"/>
                              </a:lnTo>
                              <a:lnTo>
                                <a:pt x="201" y="50"/>
                              </a:lnTo>
                              <a:lnTo>
                                <a:pt x="226" y="50"/>
                              </a:lnTo>
                              <a:lnTo>
                                <a:pt x="202" y="59"/>
                              </a:lnTo>
                              <a:lnTo>
                                <a:pt x="168" y="66"/>
                              </a:lnTo>
                              <a:lnTo>
                                <a:pt x="141" y="72"/>
                              </a:lnTo>
                              <a:lnTo>
                                <a:pt x="119" y="78"/>
                              </a:lnTo>
                              <a:lnTo>
                                <a:pt x="97" y="85"/>
                              </a:lnTo>
                              <a:lnTo>
                                <a:pt x="84" y="91"/>
                              </a:lnTo>
                              <a:lnTo>
                                <a:pt x="69" y="102"/>
                              </a:lnTo>
                              <a:lnTo>
                                <a:pt x="83" y="86"/>
                              </a:lnTo>
                              <a:lnTo>
                                <a:pt x="95" y="75"/>
                              </a:lnTo>
                              <a:lnTo>
                                <a:pt x="98" y="65"/>
                              </a:lnTo>
                              <a:lnTo>
                                <a:pt x="98" y="57"/>
                              </a:lnTo>
                              <a:lnTo>
                                <a:pt x="95" y="49"/>
                              </a:lnTo>
                              <a:lnTo>
                                <a:pt x="85" y="44"/>
                              </a:lnTo>
                              <a:lnTo>
                                <a:pt x="74" y="41"/>
                              </a:lnTo>
                              <a:lnTo>
                                <a:pt x="55" y="38"/>
                              </a:lnTo>
                              <a:lnTo>
                                <a:pt x="38" y="36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7" name=""/>
                        <p:cNvSpPr/>
                        <p:nvPr/>
                      </p:nvSpPr>
                      <p:spPr>
                        <a:xfrm>
                          <a:off x="4181400" y="3205440"/>
                          <a:ext cx="15480" cy="37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6" h="142">
                              <a:moveTo>
                                <a:pt x="32" y="16"/>
                              </a:moveTo>
                              <a:lnTo>
                                <a:pt x="32" y="6"/>
                              </a:lnTo>
                              <a:lnTo>
                                <a:pt x="28" y="1"/>
                              </a:lnTo>
                              <a:lnTo>
                                <a:pt x="20" y="0"/>
                              </a:lnTo>
                              <a:lnTo>
                                <a:pt x="11" y="5"/>
                              </a:lnTo>
                              <a:lnTo>
                                <a:pt x="5" y="13"/>
                              </a:lnTo>
                              <a:lnTo>
                                <a:pt x="0" y="23"/>
                              </a:lnTo>
                              <a:lnTo>
                                <a:pt x="0" y="38"/>
                              </a:lnTo>
                              <a:lnTo>
                                <a:pt x="2" y="81"/>
                              </a:lnTo>
                              <a:lnTo>
                                <a:pt x="5" y="99"/>
                              </a:lnTo>
                              <a:lnTo>
                                <a:pt x="10" y="108"/>
                              </a:lnTo>
                              <a:lnTo>
                                <a:pt x="47" y="142"/>
                              </a:lnTo>
                              <a:lnTo>
                                <a:pt x="56" y="108"/>
                              </a:lnTo>
                              <a:lnTo>
                                <a:pt x="39" y="84"/>
                              </a:lnTo>
                              <a:lnTo>
                                <a:pt x="42" y="101"/>
                              </a:lnTo>
                              <a:lnTo>
                                <a:pt x="43" y="115"/>
                              </a:lnTo>
                              <a:lnTo>
                                <a:pt x="42" y="120"/>
                              </a:lnTo>
                              <a:lnTo>
                                <a:pt x="14" y="89"/>
                              </a:lnTo>
                              <a:lnTo>
                                <a:pt x="13" y="77"/>
                              </a:lnTo>
                              <a:lnTo>
                                <a:pt x="10" y="61"/>
                              </a:lnTo>
                              <a:lnTo>
                                <a:pt x="16" y="42"/>
                              </a:lnTo>
                              <a:lnTo>
                                <a:pt x="24" y="27"/>
                              </a:lnTo>
                              <a:lnTo>
                                <a:pt x="32" y="1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9360" bIns="-9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988" name=""/>
                    <p:cNvSpPr/>
                    <p:nvPr/>
                  </p:nvSpPr>
                  <p:spPr>
                    <a:xfrm>
                      <a:off x="4221720" y="3112560"/>
                      <a:ext cx="1044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9">
                          <a:moveTo>
                            <a:pt x="32" y="0"/>
                          </a:moveTo>
                          <a:lnTo>
                            <a:pt x="17" y="6"/>
                          </a:lnTo>
                          <a:lnTo>
                            <a:pt x="0" y="17"/>
                          </a:lnTo>
                          <a:lnTo>
                            <a:pt x="12" y="26"/>
                          </a:lnTo>
                          <a:lnTo>
                            <a:pt x="30" y="29"/>
                          </a:lnTo>
                          <a:lnTo>
                            <a:pt x="36" y="28"/>
                          </a:lnTo>
                          <a:lnTo>
                            <a:pt x="32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9" name=""/>
                    <p:cNvSpPr/>
                    <p:nvPr/>
                  </p:nvSpPr>
                  <p:spPr>
                    <a:xfrm>
                      <a:off x="4217400" y="3096720"/>
                      <a:ext cx="1836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53">
                          <a:moveTo>
                            <a:pt x="64" y="0"/>
                          </a:moveTo>
                          <a:lnTo>
                            <a:pt x="49" y="3"/>
                          </a:lnTo>
                          <a:lnTo>
                            <a:pt x="38" y="14"/>
                          </a:lnTo>
                          <a:lnTo>
                            <a:pt x="28" y="27"/>
                          </a:lnTo>
                          <a:lnTo>
                            <a:pt x="19" y="39"/>
                          </a:lnTo>
                          <a:lnTo>
                            <a:pt x="0" y="53"/>
                          </a:lnTo>
                          <a:lnTo>
                            <a:pt x="22" y="46"/>
                          </a:lnTo>
                          <a:lnTo>
                            <a:pt x="37" y="35"/>
                          </a:lnTo>
                          <a:lnTo>
                            <a:pt x="49" y="25"/>
                          </a:lnTo>
                          <a:lnTo>
                            <a:pt x="60" y="21"/>
                          </a:lnTo>
                          <a:lnTo>
                            <a:pt x="64" y="0"/>
                          </a:lnTo>
                          <a:close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90" name=""/>
                    <p:cNvGrpSpPr/>
                    <p:nvPr/>
                  </p:nvGrpSpPr>
                  <p:grpSpPr>
                    <a:xfrm>
                      <a:off x="4219920" y="3105720"/>
                      <a:ext cx="12960" cy="15120"/>
                      <a:chOff x="4219920" y="3105720"/>
                      <a:chExt cx="12960" cy="15120"/>
                    </a:xfrm>
                  </p:grpSpPr>
                  <p:sp>
                    <p:nvSpPr>
                      <p:cNvPr id="991" name=""/>
                      <p:cNvSpPr/>
                      <p:nvPr/>
                    </p:nvSpPr>
                    <p:spPr>
                      <a:xfrm>
                        <a:off x="4224960" y="3113640"/>
                        <a:ext cx="5760" cy="6120"/>
                      </a:xfrm>
                      <a:prstGeom prst="ellipse">
                        <a:avLst/>
                      </a:prstGeom>
                      <a:solidFill>
                        <a:srgbClr val="5f7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2" name=""/>
                      <p:cNvSpPr/>
                      <p:nvPr/>
                    </p:nvSpPr>
                    <p:spPr>
                      <a:xfrm>
                        <a:off x="4219920" y="3105720"/>
                        <a:ext cx="12960" cy="15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57">
                            <a:moveTo>
                              <a:pt x="38" y="14"/>
                            </a:moveTo>
                            <a:lnTo>
                              <a:pt x="26" y="25"/>
                            </a:lnTo>
                            <a:lnTo>
                              <a:pt x="30" y="0"/>
                            </a:lnTo>
                            <a:lnTo>
                              <a:pt x="20" y="25"/>
                            </a:lnTo>
                            <a:lnTo>
                              <a:pt x="12" y="35"/>
                            </a:lnTo>
                            <a:lnTo>
                              <a:pt x="0" y="44"/>
                            </a:lnTo>
                            <a:lnTo>
                              <a:pt x="15" y="54"/>
                            </a:lnTo>
                            <a:lnTo>
                              <a:pt x="16" y="54"/>
                            </a:lnTo>
                            <a:lnTo>
                              <a:pt x="26" y="57"/>
                            </a:lnTo>
                            <a:lnTo>
                              <a:pt x="39" y="57"/>
                            </a:lnTo>
                            <a:lnTo>
                              <a:pt x="37" y="48"/>
                            </a:lnTo>
                            <a:lnTo>
                              <a:pt x="26" y="51"/>
                            </a:lnTo>
                            <a:lnTo>
                              <a:pt x="15" y="46"/>
                            </a:lnTo>
                            <a:lnTo>
                              <a:pt x="6" y="42"/>
                            </a:lnTo>
                            <a:lnTo>
                              <a:pt x="15" y="38"/>
                            </a:lnTo>
                            <a:lnTo>
                              <a:pt x="30" y="32"/>
                            </a:lnTo>
                            <a:lnTo>
                              <a:pt x="44" y="25"/>
                            </a:lnTo>
                            <a:lnTo>
                              <a:pt x="38" y="14"/>
                            </a:lnTo>
                            <a:close/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680" bIns="-31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93" name=""/>
                    <p:cNvSpPr/>
                    <p:nvPr/>
                  </p:nvSpPr>
                  <p:spPr>
                    <a:xfrm>
                      <a:off x="4079160" y="3033360"/>
                      <a:ext cx="173160" cy="17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7" h="674">
                          <a:moveTo>
                            <a:pt x="579" y="199"/>
                          </a:moveTo>
                          <a:lnTo>
                            <a:pt x="586" y="192"/>
                          </a:lnTo>
                          <a:lnTo>
                            <a:pt x="594" y="183"/>
                          </a:lnTo>
                          <a:lnTo>
                            <a:pt x="597" y="162"/>
                          </a:lnTo>
                          <a:lnTo>
                            <a:pt x="597" y="123"/>
                          </a:lnTo>
                          <a:lnTo>
                            <a:pt x="586" y="91"/>
                          </a:lnTo>
                          <a:lnTo>
                            <a:pt x="571" y="74"/>
                          </a:lnTo>
                          <a:lnTo>
                            <a:pt x="549" y="52"/>
                          </a:lnTo>
                          <a:lnTo>
                            <a:pt x="504" y="45"/>
                          </a:lnTo>
                          <a:lnTo>
                            <a:pt x="439" y="35"/>
                          </a:lnTo>
                          <a:lnTo>
                            <a:pt x="380" y="21"/>
                          </a:lnTo>
                          <a:lnTo>
                            <a:pt x="333" y="10"/>
                          </a:lnTo>
                          <a:lnTo>
                            <a:pt x="274" y="0"/>
                          </a:lnTo>
                          <a:lnTo>
                            <a:pt x="245" y="10"/>
                          </a:lnTo>
                          <a:lnTo>
                            <a:pt x="212" y="35"/>
                          </a:lnTo>
                          <a:lnTo>
                            <a:pt x="183" y="63"/>
                          </a:lnTo>
                          <a:lnTo>
                            <a:pt x="161" y="95"/>
                          </a:lnTo>
                          <a:lnTo>
                            <a:pt x="135" y="144"/>
                          </a:lnTo>
                          <a:lnTo>
                            <a:pt x="121" y="190"/>
                          </a:lnTo>
                          <a:lnTo>
                            <a:pt x="114" y="236"/>
                          </a:lnTo>
                          <a:lnTo>
                            <a:pt x="103" y="288"/>
                          </a:lnTo>
                          <a:lnTo>
                            <a:pt x="103" y="334"/>
                          </a:lnTo>
                          <a:lnTo>
                            <a:pt x="88" y="387"/>
                          </a:lnTo>
                          <a:lnTo>
                            <a:pt x="70" y="434"/>
                          </a:lnTo>
                          <a:lnTo>
                            <a:pt x="48" y="466"/>
                          </a:lnTo>
                          <a:lnTo>
                            <a:pt x="26" y="487"/>
                          </a:lnTo>
                          <a:lnTo>
                            <a:pt x="4" y="512"/>
                          </a:lnTo>
                          <a:lnTo>
                            <a:pt x="4" y="519"/>
                          </a:lnTo>
                          <a:lnTo>
                            <a:pt x="0" y="540"/>
                          </a:lnTo>
                          <a:lnTo>
                            <a:pt x="0" y="575"/>
                          </a:lnTo>
                          <a:lnTo>
                            <a:pt x="11" y="603"/>
                          </a:lnTo>
                          <a:lnTo>
                            <a:pt x="30" y="621"/>
                          </a:lnTo>
                          <a:lnTo>
                            <a:pt x="88" y="621"/>
                          </a:lnTo>
                          <a:lnTo>
                            <a:pt x="135" y="628"/>
                          </a:lnTo>
                          <a:lnTo>
                            <a:pt x="183" y="660"/>
                          </a:lnTo>
                          <a:lnTo>
                            <a:pt x="234" y="674"/>
                          </a:lnTo>
                          <a:lnTo>
                            <a:pt x="278" y="674"/>
                          </a:lnTo>
                          <a:lnTo>
                            <a:pt x="314" y="652"/>
                          </a:lnTo>
                          <a:lnTo>
                            <a:pt x="329" y="621"/>
                          </a:lnTo>
                          <a:lnTo>
                            <a:pt x="325" y="578"/>
                          </a:lnTo>
                          <a:lnTo>
                            <a:pt x="307" y="547"/>
                          </a:lnTo>
                          <a:lnTo>
                            <a:pt x="303" y="515"/>
                          </a:lnTo>
                          <a:lnTo>
                            <a:pt x="307" y="483"/>
                          </a:lnTo>
                          <a:lnTo>
                            <a:pt x="336" y="455"/>
                          </a:lnTo>
                          <a:lnTo>
                            <a:pt x="369" y="445"/>
                          </a:lnTo>
                          <a:lnTo>
                            <a:pt x="391" y="427"/>
                          </a:lnTo>
                          <a:lnTo>
                            <a:pt x="409" y="399"/>
                          </a:lnTo>
                          <a:lnTo>
                            <a:pt x="413" y="352"/>
                          </a:lnTo>
                          <a:lnTo>
                            <a:pt x="413" y="331"/>
                          </a:lnTo>
                          <a:lnTo>
                            <a:pt x="439" y="324"/>
                          </a:lnTo>
                          <a:lnTo>
                            <a:pt x="464" y="303"/>
                          </a:lnTo>
                          <a:lnTo>
                            <a:pt x="479" y="267"/>
                          </a:lnTo>
                          <a:lnTo>
                            <a:pt x="493" y="218"/>
                          </a:lnTo>
                          <a:lnTo>
                            <a:pt x="486" y="158"/>
                          </a:lnTo>
                          <a:lnTo>
                            <a:pt x="475" y="123"/>
                          </a:lnTo>
                          <a:lnTo>
                            <a:pt x="442" y="98"/>
                          </a:lnTo>
                          <a:lnTo>
                            <a:pt x="519" y="123"/>
                          </a:lnTo>
                          <a:lnTo>
                            <a:pt x="546" y="162"/>
                          </a:lnTo>
                          <a:lnTo>
                            <a:pt x="574" y="185"/>
                          </a:lnTo>
                          <a:lnTo>
                            <a:pt x="579" y="199"/>
                          </a:lnTo>
                          <a:close/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4" name=""/>
                  <p:cNvGrpSpPr/>
                  <p:nvPr/>
                </p:nvGrpSpPr>
                <p:grpSpPr>
                  <a:xfrm>
                    <a:off x="4205160" y="3092760"/>
                    <a:ext cx="43920" cy="42120"/>
                    <a:chOff x="4205160" y="3092760"/>
                    <a:chExt cx="43920" cy="42120"/>
                  </a:xfrm>
                </p:grpSpPr>
                <p:sp>
                  <p:nvSpPr>
                    <p:cNvPr id="995" name=""/>
                    <p:cNvSpPr/>
                    <p:nvPr/>
                  </p:nvSpPr>
                  <p:spPr>
                    <a:xfrm flipV="1">
                      <a:off x="4245840" y="3110040"/>
                      <a:ext cx="3240" cy="720"/>
                    </a:xfrm>
                    <a:prstGeom prst="line">
                      <a:avLst/>
                    </a:prstGeom>
                    <a:ln w="3240">
                      <a:solidFill>
                        <a:srgbClr val="7f3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96" name=""/>
                    <p:cNvGrpSpPr/>
                    <p:nvPr/>
                  </p:nvGrpSpPr>
                  <p:grpSpPr>
                    <a:xfrm>
                      <a:off x="4205160" y="3092760"/>
                      <a:ext cx="40680" cy="42120"/>
                      <a:chOff x="4205160" y="3092760"/>
                      <a:chExt cx="40680" cy="42120"/>
                    </a:xfrm>
                  </p:grpSpPr>
                  <p:sp>
                    <p:nvSpPr>
                      <p:cNvPr id="997" name=""/>
                      <p:cNvSpPr/>
                      <p:nvPr/>
                    </p:nvSpPr>
                    <p:spPr>
                      <a:xfrm>
                        <a:off x="4205160" y="3116520"/>
                        <a:ext cx="28800" cy="15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" h="57">
                            <a:moveTo>
                              <a:pt x="12" y="0"/>
                            </a:moveTo>
                            <a:lnTo>
                              <a:pt x="30" y="16"/>
                            </a:lnTo>
                            <a:lnTo>
                              <a:pt x="45" y="25"/>
                            </a:lnTo>
                            <a:lnTo>
                              <a:pt x="56" y="31"/>
                            </a:lnTo>
                            <a:lnTo>
                              <a:pt x="71" y="37"/>
                            </a:lnTo>
                            <a:lnTo>
                              <a:pt x="84" y="39"/>
                            </a:lnTo>
                            <a:lnTo>
                              <a:pt x="95" y="37"/>
                            </a:lnTo>
                            <a:lnTo>
                              <a:pt x="99" y="57"/>
                            </a:lnTo>
                            <a:lnTo>
                              <a:pt x="83" y="57"/>
                            </a:lnTo>
                            <a:lnTo>
                              <a:pt x="71" y="56"/>
                            </a:lnTo>
                            <a:lnTo>
                              <a:pt x="55" y="49"/>
                            </a:lnTo>
                            <a:lnTo>
                              <a:pt x="40" y="38"/>
                            </a:lnTo>
                            <a:lnTo>
                              <a:pt x="27" y="29"/>
                            </a:lnTo>
                            <a:lnTo>
                              <a:pt x="0" y="5"/>
                            </a:lnTo>
                            <a:lnTo>
                              <a:pt x="12" y="0"/>
                            </a:lnTo>
                            <a:close/>
                          </a:path>
                        </a:pathLst>
                      </a:cu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680" bIns="-31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8" name=""/>
                      <p:cNvSpPr/>
                      <p:nvPr/>
                    </p:nvSpPr>
                    <p:spPr>
                      <a:xfrm>
                        <a:off x="4229280" y="3092760"/>
                        <a:ext cx="16200" cy="42120"/>
                      </a:xfrm>
                      <a:prstGeom prst="ellipse">
                        <a:avLst/>
                      </a:pr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920" bIns="-16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9" name=""/>
                      <p:cNvSpPr/>
                      <p:nvPr/>
                    </p:nvSpPr>
                    <p:spPr>
                      <a:xfrm>
                        <a:off x="4231080" y="3094200"/>
                        <a:ext cx="14760" cy="39600"/>
                      </a:xfrm>
                      <a:prstGeom prst="ellipse">
                        <a:avLst/>
                      </a:prstGeom>
                      <a:solidFill>
                        <a:srgbClr val="ffd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720" bIns="-18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000" name=""/>
              <p:cNvGrpSpPr/>
              <p:nvPr/>
            </p:nvGrpSpPr>
            <p:grpSpPr>
              <a:xfrm>
                <a:off x="3934080" y="3430440"/>
                <a:ext cx="417960" cy="113760"/>
                <a:chOff x="3934080" y="3430440"/>
                <a:chExt cx="417960" cy="113760"/>
              </a:xfrm>
            </p:grpSpPr>
            <p:sp>
              <p:nvSpPr>
                <p:cNvPr id="1001" name=""/>
                <p:cNvSpPr/>
                <p:nvPr/>
              </p:nvSpPr>
              <p:spPr>
                <a:xfrm flipV="1">
                  <a:off x="4226760" y="3506040"/>
                  <a:ext cx="125280" cy="37800"/>
                </a:xfrm>
                <a:custGeom>
                  <a:avLst/>
                  <a:gdLst>
                    <a:gd name="textAreaLeft" fmla="*/ 23760 w 125280"/>
                    <a:gd name="textAreaRight" fmla="*/ 101520 w 125280"/>
                    <a:gd name="textAreaTop" fmla="*/ 7200 h 37800"/>
                    <a:gd name="textAreaBottom" fmla="*/ 30600 h 3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326" y="21600"/>
                      </a:lnTo>
                      <a:lnTo>
                        <a:pt x="4274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 flipV="1">
                  <a:off x="4101120" y="3430440"/>
                  <a:ext cx="125280" cy="38160"/>
                </a:xfrm>
                <a:custGeom>
                  <a:avLst/>
                  <a:gdLst>
                    <a:gd name="textAreaLeft" fmla="*/ 23760 w 125280"/>
                    <a:gd name="textAreaRight" fmla="*/ 101520 w 125280"/>
                    <a:gd name="textAreaTop" fmla="*/ 7200 h 38160"/>
                    <a:gd name="textAreaBottom" fmla="*/ 30960 h 38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326" y="21600"/>
                      </a:lnTo>
                      <a:lnTo>
                        <a:pt x="4274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flipV="1">
                  <a:off x="3934080" y="3468600"/>
                  <a:ext cx="125280" cy="38160"/>
                </a:xfrm>
                <a:custGeom>
                  <a:avLst/>
                  <a:gdLst>
                    <a:gd name="textAreaLeft" fmla="*/ 23760 w 125280"/>
                    <a:gd name="textAreaRight" fmla="*/ 101520 w 125280"/>
                    <a:gd name="textAreaTop" fmla="*/ 7200 h 38160"/>
                    <a:gd name="textAreaBottom" fmla="*/ 30960 h 38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326" y="21600"/>
                      </a:lnTo>
                      <a:lnTo>
                        <a:pt x="4274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flipV="1">
                  <a:off x="4059360" y="3506040"/>
                  <a:ext cx="125280" cy="37800"/>
                </a:xfrm>
                <a:custGeom>
                  <a:avLst/>
                  <a:gdLst>
                    <a:gd name="textAreaLeft" fmla="*/ 23760 w 125280"/>
                    <a:gd name="textAreaRight" fmla="*/ 101520 w 125280"/>
                    <a:gd name="textAreaTop" fmla="*/ 7200 h 37800"/>
                    <a:gd name="textAreaBottom" fmla="*/ 30600 h 3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326" y="21600"/>
                      </a:lnTo>
                      <a:lnTo>
                        <a:pt x="4274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4352400" y="3391560"/>
                <a:ext cx="375840" cy="114480"/>
                <a:chOff x="4352400" y="3391560"/>
                <a:chExt cx="375840" cy="114480"/>
              </a:xfrm>
            </p:grpSpPr>
            <p:sp>
              <p:nvSpPr>
                <p:cNvPr id="1006" name=""/>
                <p:cNvSpPr/>
                <p:nvPr/>
              </p:nvSpPr>
              <p:spPr>
                <a:xfrm flipV="1">
                  <a:off x="4477680" y="3391200"/>
                  <a:ext cx="125280" cy="37800"/>
                </a:xfrm>
                <a:custGeom>
                  <a:avLst/>
                  <a:gdLst>
                    <a:gd name="textAreaLeft" fmla="*/ 23760 w 125280"/>
                    <a:gd name="textAreaRight" fmla="*/ 101520 w 125280"/>
                    <a:gd name="textAreaTop" fmla="*/ 7200 h 37800"/>
                    <a:gd name="textAreaBottom" fmla="*/ 30600 h 3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326" y="21600"/>
                      </a:lnTo>
                      <a:lnTo>
                        <a:pt x="4274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 flipV="1">
                  <a:off x="4602960" y="3391200"/>
                  <a:ext cx="125280" cy="37800"/>
                </a:xfrm>
                <a:custGeom>
                  <a:avLst/>
                  <a:gdLst>
                    <a:gd name="textAreaLeft" fmla="*/ 23760 w 125280"/>
                    <a:gd name="textAreaRight" fmla="*/ 101520 w 125280"/>
                    <a:gd name="textAreaTop" fmla="*/ 7200 h 37800"/>
                    <a:gd name="textAreaBottom" fmla="*/ 30600 h 3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326" y="21600"/>
                      </a:lnTo>
                      <a:lnTo>
                        <a:pt x="4274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 flipV="1">
                  <a:off x="4352400" y="3391200"/>
                  <a:ext cx="125280" cy="37800"/>
                </a:xfrm>
                <a:custGeom>
                  <a:avLst/>
                  <a:gdLst>
                    <a:gd name="textAreaLeft" fmla="*/ 23760 w 125280"/>
                    <a:gd name="textAreaRight" fmla="*/ 101520 w 125280"/>
                    <a:gd name="textAreaTop" fmla="*/ 7200 h 37800"/>
                    <a:gd name="textAreaBottom" fmla="*/ 30600 h 3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326" y="21600"/>
                      </a:lnTo>
                      <a:lnTo>
                        <a:pt x="4274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 flipV="1">
                  <a:off x="4435920" y="3467880"/>
                  <a:ext cx="125280" cy="38160"/>
                </a:xfrm>
                <a:custGeom>
                  <a:avLst/>
                  <a:gdLst>
                    <a:gd name="textAreaLeft" fmla="*/ 23760 w 125280"/>
                    <a:gd name="textAreaRight" fmla="*/ 101520 w 125280"/>
                    <a:gd name="textAreaTop" fmla="*/ 7200 h 38160"/>
                    <a:gd name="textAreaBottom" fmla="*/ 30960 h 38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326" y="21600"/>
                      </a:lnTo>
                      <a:lnTo>
                        <a:pt x="4274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0" name=""/>
              <p:cNvGrpSpPr/>
              <p:nvPr/>
            </p:nvGrpSpPr>
            <p:grpSpPr>
              <a:xfrm>
                <a:off x="4854240" y="3391920"/>
                <a:ext cx="292320" cy="113760"/>
                <a:chOff x="4854240" y="3391920"/>
                <a:chExt cx="292320" cy="113760"/>
              </a:xfrm>
            </p:grpSpPr>
            <p:sp>
              <p:nvSpPr>
                <p:cNvPr id="1011" name=""/>
                <p:cNvSpPr/>
                <p:nvPr/>
              </p:nvSpPr>
              <p:spPr>
                <a:xfrm flipV="1">
                  <a:off x="4979520" y="3467520"/>
                  <a:ext cx="125280" cy="37800"/>
                </a:xfrm>
                <a:custGeom>
                  <a:avLst/>
                  <a:gdLst>
                    <a:gd name="textAreaLeft" fmla="*/ 23760 w 125280"/>
                    <a:gd name="textAreaRight" fmla="*/ 101520 w 125280"/>
                    <a:gd name="textAreaTop" fmla="*/ 7200 h 37800"/>
                    <a:gd name="textAreaBottom" fmla="*/ 30600 h 3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326" y="21600"/>
                      </a:lnTo>
                      <a:lnTo>
                        <a:pt x="4274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V="1">
                  <a:off x="5021280" y="3430080"/>
                  <a:ext cx="125280" cy="38160"/>
                </a:xfrm>
                <a:custGeom>
                  <a:avLst/>
                  <a:gdLst>
                    <a:gd name="textAreaLeft" fmla="*/ 23760 w 125280"/>
                    <a:gd name="textAreaRight" fmla="*/ 101520 w 125280"/>
                    <a:gd name="textAreaTop" fmla="*/ 7200 h 38160"/>
                    <a:gd name="textAreaBottom" fmla="*/ 30960 h 38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326" y="21600"/>
                      </a:lnTo>
                      <a:lnTo>
                        <a:pt x="4274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 flipV="1">
                  <a:off x="4937760" y="3391920"/>
                  <a:ext cx="125280" cy="38160"/>
                </a:xfrm>
                <a:custGeom>
                  <a:avLst/>
                  <a:gdLst>
                    <a:gd name="textAreaLeft" fmla="*/ 23760 w 125280"/>
                    <a:gd name="textAreaRight" fmla="*/ 101520 w 125280"/>
                    <a:gd name="textAreaTop" fmla="*/ 7200 h 38160"/>
                    <a:gd name="textAreaBottom" fmla="*/ 30960 h 38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326" y="21600"/>
                      </a:lnTo>
                      <a:lnTo>
                        <a:pt x="4274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 flipV="1">
                  <a:off x="4854240" y="3430080"/>
                  <a:ext cx="125280" cy="38160"/>
                </a:xfrm>
                <a:custGeom>
                  <a:avLst/>
                  <a:gdLst>
                    <a:gd name="textAreaLeft" fmla="*/ 23760 w 125280"/>
                    <a:gd name="textAreaRight" fmla="*/ 101520 w 125280"/>
                    <a:gd name="textAreaTop" fmla="*/ 7200 h 38160"/>
                    <a:gd name="textAreaBottom" fmla="*/ 30960 h 38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326" y="21600"/>
                      </a:lnTo>
                      <a:lnTo>
                        <a:pt x="4274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5" name=""/>
            <p:cNvSpPr/>
            <p:nvPr/>
          </p:nvSpPr>
          <p:spPr>
            <a:xfrm>
              <a:off x="2003400" y="2057400"/>
              <a:ext cx="335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. O grupo organiza por tem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5056200" y="2190600"/>
              <a:ext cx="909720" cy="82728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360 h 827280"/>
                <a:gd name="textAreaBottom" fmla="*/ 828000 h 8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5145602"/>
                  <a:lnTo>
                    <a:pt x="11598" y="30"/>
                  </a:lnTo>
                  <a:arcTo wR="10800" hR="10800" stAng="-5145602" swAng="5145602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4738680" y="4809960"/>
            <a:ext cx="977400" cy="507600"/>
            <a:chOff x="4738680" y="4809960"/>
            <a:chExt cx="977400" cy="507600"/>
          </a:xfrm>
        </p:grpSpPr>
        <p:grpSp>
          <p:nvGrpSpPr>
            <p:cNvPr id="1018" name=""/>
            <p:cNvGrpSpPr/>
            <p:nvPr/>
          </p:nvGrpSpPr>
          <p:grpSpPr>
            <a:xfrm>
              <a:off x="4738680" y="4844880"/>
              <a:ext cx="408960" cy="397080"/>
              <a:chOff x="4738680" y="4844880"/>
              <a:chExt cx="408960" cy="397080"/>
            </a:xfrm>
          </p:grpSpPr>
          <p:grpSp>
            <p:nvGrpSpPr>
              <p:cNvPr id="1019" name=""/>
              <p:cNvGrpSpPr/>
              <p:nvPr/>
            </p:nvGrpSpPr>
            <p:grpSpPr>
              <a:xfrm>
                <a:off x="5085360" y="5121720"/>
                <a:ext cx="62280" cy="56520"/>
                <a:chOff x="5085360" y="5121720"/>
                <a:chExt cx="62280" cy="56520"/>
              </a:xfrm>
            </p:grpSpPr>
            <p:sp>
              <p:nvSpPr>
                <p:cNvPr id="1020" name=""/>
                <p:cNvSpPr/>
                <p:nvPr/>
              </p:nvSpPr>
              <p:spPr>
                <a:xfrm>
                  <a:off x="5085360" y="5121720"/>
                  <a:ext cx="61560" cy="56520"/>
                </a:xfrm>
                <a:custGeom>
                  <a:avLst/>
                  <a:gdLst/>
                  <a:ahLst/>
                  <a:rect l="l" t="t" r="r" b="b"/>
                  <a:pathLst>
                    <a:path w="214" h="214">
                      <a:moveTo>
                        <a:pt x="35" y="33"/>
                      </a:moveTo>
                      <a:lnTo>
                        <a:pt x="66" y="5"/>
                      </a:lnTo>
                      <a:lnTo>
                        <a:pt x="85" y="0"/>
                      </a:lnTo>
                      <a:lnTo>
                        <a:pt x="122" y="5"/>
                      </a:lnTo>
                      <a:lnTo>
                        <a:pt x="161" y="11"/>
                      </a:lnTo>
                      <a:lnTo>
                        <a:pt x="187" y="16"/>
                      </a:lnTo>
                      <a:lnTo>
                        <a:pt x="195" y="22"/>
                      </a:lnTo>
                      <a:lnTo>
                        <a:pt x="200" y="35"/>
                      </a:lnTo>
                      <a:lnTo>
                        <a:pt x="202" y="43"/>
                      </a:lnTo>
                      <a:lnTo>
                        <a:pt x="195" y="52"/>
                      </a:lnTo>
                      <a:lnTo>
                        <a:pt x="203" y="60"/>
                      </a:lnTo>
                      <a:lnTo>
                        <a:pt x="206" y="72"/>
                      </a:lnTo>
                      <a:lnTo>
                        <a:pt x="204" y="79"/>
                      </a:lnTo>
                      <a:lnTo>
                        <a:pt x="210" y="87"/>
                      </a:lnTo>
                      <a:lnTo>
                        <a:pt x="213" y="96"/>
                      </a:lnTo>
                      <a:lnTo>
                        <a:pt x="211" y="107"/>
                      </a:lnTo>
                      <a:lnTo>
                        <a:pt x="204" y="119"/>
                      </a:lnTo>
                      <a:lnTo>
                        <a:pt x="210" y="130"/>
                      </a:lnTo>
                      <a:lnTo>
                        <a:pt x="214" y="144"/>
                      </a:lnTo>
                      <a:lnTo>
                        <a:pt x="209" y="159"/>
                      </a:lnTo>
                      <a:lnTo>
                        <a:pt x="200" y="166"/>
                      </a:lnTo>
                      <a:lnTo>
                        <a:pt x="200" y="189"/>
                      </a:lnTo>
                      <a:lnTo>
                        <a:pt x="192" y="202"/>
                      </a:lnTo>
                      <a:lnTo>
                        <a:pt x="174" y="208"/>
                      </a:lnTo>
                      <a:lnTo>
                        <a:pt x="94" y="214"/>
                      </a:lnTo>
                      <a:lnTo>
                        <a:pt x="56" y="200"/>
                      </a:lnTo>
                      <a:lnTo>
                        <a:pt x="8" y="148"/>
                      </a:lnTo>
                      <a:lnTo>
                        <a:pt x="1" y="126"/>
                      </a:lnTo>
                      <a:lnTo>
                        <a:pt x="0" y="108"/>
                      </a:lnTo>
                      <a:lnTo>
                        <a:pt x="2" y="92"/>
                      </a:lnTo>
                      <a:lnTo>
                        <a:pt x="9" y="66"/>
                      </a:lnTo>
                      <a:lnTo>
                        <a:pt x="18" y="53"/>
                      </a:lnTo>
                      <a:lnTo>
                        <a:pt x="35" y="33"/>
                      </a:lnTo>
                      <a:close/>
                    </a:path>
                  </a:pathLst>
                </a:custGeom>
                <a:solidFill>
                  <a:srgbClr val="f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21" name=""/>
                <p:cNvGrpSpPr/>
                <p:nvPr/>
              </p:nvGrpSpPr>
              <p:grpSpPr>
                <a:xfrm>
                  <a:off x="5100840" y="5128560"/>
                  <a:ext cx="46800" cy="48960"/>
                  <a:chOff x="5100840" y="5128560"/>
                  <a:chExt cx="46800" cy="48960"/>
                </a:xfrm>
              </p:grpSpPr>
              <p:sp>
                <p:nvSpPr>
                  <p:cNvPr id="1022" name=""/>
                  <p:cNvSpPr/>
                  <p:nvPr/>
                </p:nvSpPr>
                <p:spPr>
                  <a:xfrm>
                    <a:off x="5100840" y="5140080"/>
                    <a:ext cx="4680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144">
                        <a:moveTo>
                          <a:pt x="48" y="20"/>
                        </a:moveTo>
                        <a:lnTo>
                          <a:pt x="67" y="22"/>
                        </a:lnTo>
                        <a:lnTo>
                          <a:pt x="79" y="22"/>
                        </a:lnTo>
                        <a:lnTo>
                          <a:pt x="78" y="0"/>
                        </a:lnTo>
                        <a:lnTo>
                          <a:pt x="86" y="12"/>
                        </a:lnTo>
                        <a:lnTo>
                          <a:pt x="93" y="18"/>
                        </a:lnTo>
                        <a:lnTo>
                          <a:pt x="101" y="20"/>
                        </a:lnTo>
                        <a:lnTo>
                          <a:pt x="118" y="18"/>
                        </a:lnTo>
                        <a:lnTo>
                          <a:pt x="130" y="13"/>
                        </a:lnTo>
                        <a:lnTo>
                          <a:pt x="141" y="9"/>
                        </a:lnTo>
                        <a:lnTo>
                          <a:pt x="151" y="6"/>
                        </a:lnTo>
                        <a:lnTo>
                          <a:pt x="155" y="2"/>
                        </a:lnTo>
                        <a:lnTo>
                          <a:pt x="152" y="9"/>
                        </a:lnTo>
                        <a:lnTo>
                          <a:pt x="158" y="17"/>
                        </a:lnTo>
                        <a:lnTo>
                          <a:pt x="161" y="26"/>
                        </a:lnTo>
                        <a:lnTo>
                          <a:pt x="160" y="37"/>
                        </a:lnTo>
                        <a:lnTo>
                          <a:pt x="152" y="49"/>
                        </a:lnTo>
                        <a:lnTo>
                          <a:pt x="158" y="60"/>
                        </a:lnTo>
                        <a:lnTo>
                          <a:pt x="162" y="74"/>
                        </a:lnTo>
                        <a:lnTo>
                          <a:pt x="157" y="89"/>
                        </a:lnTo>
                        <a:lnTo>
                          <a:pt x="149" y="96"/>
                        </a:lnTo>
                        <a:lnTo>
                          <a:pt x="149" y="119"/>
                        </a:lnTo>
                        <a:lnTo>
                          <a:pt x="140" y="132"/>
                        </a:lnTo>
                        <a:lnTo>
                          <a:pt x="122" y="138"/>
                        </a:lnTo>
                        <a:lnTo>
                          <a:pt x="43" y="144"/>
                        </a:lnTo>
                        <a:lnTo>
                          <a:pt x="4" y="130"/>
                        </a:lnTo>
                        <a:lnTo>
                          <a:pt x="27" y="137"/>
                        </a:lnTo>
                        <a:lnTo>
                          <a:pt x="48" y="140"/>
                        </a:lnTo>
                        <a:lnTo>
                          <a:pt x="63" y="139"/>
                        </a:lnTo>
                        <a:lnTo>
                          <a:pt x="76" y="136"/>
                        </a:lnTo>
                        <a:lnTo>
                          <a:pt x="80" y="124"/>
                        </a:lnTo>
                        <a:lnTo>
                          <a:pt x="80" y="139"/>
                        </a:lnTo>
                        <a:lnTo>
                          <a:pt x="99" y="137"/>
                        </a:lnTo>
                        <a:lnTo>
                          <a:pt x="123" y="136"/>
                        </a:lnTo>
                        <a:lnTo>
                          <a:pt x="135" y="130"/>
                        </a:lnTo>
                        <a:lnTo>
                          <a:pt x="140" y="120"/>
                        </a:lnTo>
                        <a:lnTo>
                          <a:pt x="145" y="109"/>
                        </a:lnTo>
                        <a:lnTo>
                          <a:pt x="146" y="100"/>
                        </a:lnTo>
                        <a:lnTo>
                          <a:pt x="133" y="103"/>
                        </a:lnTo>
                        <a:lnTo>
                          <a:pt x="118" y="106"/>
                        </a:lnTo>
                        <a:lnTo>
                          <a:pt x="101" y="107"/>
                        </a:lnTo>
                        <a:lnTo>
                          <a:pt x="83" y="109"/>
                        </a:lnTo>
                        <a:lnTo>
                          <a:pt x="69" y="107"/>
                        </a:lnTo>
                        <a:lnTo>
                          <a:pt x="55" y="106"/>
                        </a:lnTo>
                        <a:lnTo>
                          <a:pt x="39" y="101"/>
                        </a:lnTo>
                        <a:lnTo>
                          <a:pt x="21" y="96"/>
                        </a:lnTo>
                        <a:lnTo>
                          <a:pt x="10" y="86"/>
                        </a:lnTo>
                        <a:lnTo>
                          <a:pt x="26" y="94"/>
                        </a:lnTo>
                        <a:lnTo>
                          <a:pt x="37" y="96"/>
                        </a:lnTo>
                        <a:lnTo>
                          <a:pt x="51" y="98"/>
                        </a:lnTo>
                        <a:lnTo>
                          <a:pt x="66" y="100"/>
                        </a:lnTo>
                        <a:lnTo>
                          <a:pt x="83" y="101"/>
                        </a:lnTo>
                        <a:lnTo>
                          <a:pt x="95" y="97"/>
                        </a:lnTo>
                        <a:lnTo>
                          <a:pt x="106" y="91"/>
                        </a:lnTo>
                        <a:lnTo>
                          <a:pt x="108" y="100"/>
                        </a:lnTo>
                        <a:lnTo>
                          <a:pt x="116" y="99"/>
                        </a:lnTo>
                        <a:lnTo>
                          <a:pt x="129" y="98"/>
                        </a:lnTo>
                        <a:lnTo>
                          <a:pt x="140" y="97"/>
                        </a:lnTo>
                        <a:lnTo>
                          <a:pt x="145" y="93"/>
                        </a:lnTo>
                        <a:lnTo>
                          <a:pt x="149" y="87"/>
                        </a:lnTo>
                        <a:lnTo>
                          <a:pt x="152" y="81"/>
                        </a:lnTo>
                        <a:lnTo>
                          <a:pt x="155" y="74"/>
                        </a:lnTo>
                        <a:lnTo>
                          <a:pt x="153" y="67"/>
                        </a:lnTo>
                        <a:lnTo>
                          <a:pt x="151" y="62"/>
                        </a:lnTo>
                        <a:lnTo>
                          <a:pt x="144" y="62"/>
                        </a:lnTo>
                        <a:lnTo>
                          <a:pt x="128" y="65"/>
                        </a:lnTo>
                        <a:lnTo>
                          <a:pt x="113" y="70"/>
                        </a:lnTo>
                        <a:lnTo>
                          <a:pt x="97" y="72"/>
                        </a:lnTo>
                        <a:lnTo>
                          <a:pt x="80" y="73"/>
                        </a:lnTo>
                        <a:lnTo>
                          <a:pt x="65" y="74"/>
                        </a:lnTo>
                        <a:lnTo>
                          <a:pt x="45" y="74"/>
                        </a:lnTo>
                        <a:lnTo>
                          <a:pt x="28" y="70"/>
                        </a:lnTo>
                        <a:lnTo>
                          <a:pt x="15" y="65"/>
                        </a:lnTo>
                        <a:lnTo>
                          <a:pt x="0" y="54"/>
                        </a:lnTo>
                        <a:lnTo>
                          <a:pt x="24" y="63"/>
                        </a:lnTo>
                        <a:lnTo>
                          <a:pt x="37" y="66"/>
                        </a:lnTo>
                        <a:lnTo>
                          <a:pt x="51" y="70"/>
                        </a:lnTo>
                        <a:lnTo>
                          <a:pt x="66" y="69"/>
                        </a:lnTo>
                        <a:lnTo>
                          <a:pt x="77" y="67"/>
                        </a:lnTo>
                        <a:lnTo>
                          <a:pt x="88" y="64"/>
                        </a:lnTo>
                        <a:lnTo>
                          <a:pt x="96" y="56"/>
                        </a:lnTo>
                        <a:lnTo>
                          <a:pt x="106" y="50"/>
                        </a:lnTo>
                        <a:lnTo>
                          <a:pt x="100" y="59"/>
                        </a:lnTo>
                        <a:lnTo>
                          <a:pt x="105" y="64"/>
                        </a:lnTo>
                        <a:lnTo>
                          <a:pt x="110" y="63"/>
                        </a:lnTo>
                        <a:lnTo>
                          <a:pt x="123" y="60"/>
                        </a:lnTo>
                        <a:lnTo>
                          <a:pt x="135" y="57"/>
                        </a:lnTo>
                        <a:lnTo>
                          <a:pt x="146" y="49"/>
                        </a:lnTo>
                        <a:lnTo>
                          <a:pt x="155" y="40"/>
                        </a:lnTo>
                        <a:lnTo>
                          <a:pt x="156" y="32"/>
                        </a:lnTo>
                        <a:lnTo>
                          <a:pt x="155" y="23"/>
                        </a:lnTo>
                        <a:lnTo>
                          <a:pt x="153" y="11"/>
                        </a:lnTo>
                        <a:lnTo>
                          <a:pt x="142" y="15"/>
                        </a:lnTo>
                        <a:lnTo>
                          <a:pt x="128" y="22"/>
                        </a:lnTo>
                        <a:lnTo>
                          <a:pt x="107" y="27"/>
                        </a:lnTo>
                        <a:lnTo>
                          <a:pt x="84" y="29"/>
                        </a:lnTo>
                        <a:lnTo>
                          <a:pt x="61" y="27"/>
                        </a:lnTo>
                        <a:lnTo>
                          <a:pt x="40" y="24"/>
                        </a:lnTo>
                        <a:lnTo>
                          <a:pt x="21" y="17"/>
                        </a:lnTo>
                        <a:lnTo>
                          <a:pt x="48" y="20"/>
                        </a:lnTo>
                        <a:close/>
                      </a:path>
                    </a:pathLst>
                  </a:custGeom>
                  <a:solidFill>
                    <a:srgbClr val="d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5102280" y="5128560"/>
                    <a:ext cx="30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8">
                        <a:moveTo>
                          <a:pt x="108" y="0"/>
                        </a:moveTo>
                        <a:lnTo>
                          <a:pt x="98" y="7"/>
                        </a:lnTo>
                        <a:lnTo>
                          <a:pt x="89" y="16"/>
                        </a:lnTo>
                        <a:lnTo>
                          <a:pt x="78" y="14"/>
                        </a:lnTo>
                        <a:lnTo>
                          <a:pt x="67" y="8"/>
                        </a:lnTo>
                        <a:lnTo>
                          <a:pt x="56" y="8"/>
                        </a:lnTo>
                        <a:lnTo>
                          <a:pt x="38" y="13"/>
                        </a:lnTo>
                        <a:lnTo>
                          <a:pt x="25" y="18"/>
                        </a:lnTo>
                        <a:lnTo>
                          <a:pt x="34" y="11"/>
                        </a:lnTo>
                        <a:lnTo>
                          <a:pt x="16" y="8"/>
                        </a:lnTo>
                        <a:lnTo>
                          <a:pt x="0" y="6"/>
                        </a:lnTo>
                        <a:lnTo>
                          <a:pt x="21" y="5"/>
                        </a:lnTo>
                        <a:lnTo>
                          <a:pt x="38" y="7"/>
                        </a:lnTo>
                        <a:lnTo>
                          <a:pt x="51" y="7"/>
                        </a:lnTo>
                        <a:lnTo>
                          <a:pt x="61" y="5"/>
                        </a:lnTo>
                        <a:lnTo>
                          <a:pt x="71" y="5"/>
                        </a:lnTo>
                        <a:lnTo>
                          <a:pt x="78" y="8"/>
                        </a:lnTo>
                        <a:lnTo>
                          <a:pt x="89" y="12"/>
                        </a:lnTo>
                        <a:lnTo>
                          <a:pt x="108" y="0"/>
                        </a:lnTo>
                        <a:close/>
                      </a:path>
                    </a:pathLst>
                  </a:custGeom>
                  <a:solidFill>
                    <a:srgbClr val="d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24" name=""/>
              <p:cNvGrpSpPr/>
              <p:nvPr/>
            </p:nvGrpSpPr>
            <p:grpSpPr>
              <a:xfrm>
                <a:off x="4863240" y="5050440"/>
                <a:ext cx="79560" cy="136800"/>
                <a:chOff x="4863240" y="5050440"/>
                <a:chExt cx="79560" cy="136800"/>
              </a:xfrm>
            </p:grpSpPr>
            <p:sp>
              <p:nvSpPr>
                <p:cNvPr id="1025" name=""/>
                <p:cNvSpPr/>
                <p:nvPr/>
              </p:nvSpPr>
              <p:spPr>
                <a:xfrm>
                  <a:off x="4863240" y="5050440"/>
                  <a:ext cx="79560" cy="135720"/>
                </a:xfrm>
                <a:custGeom>
                  <a:avLst/>
                  <a:gdLst/>
                  <a:ahLst/>
                  <a:rect l="l" t="t" r="r" b="b"/>
                  <a:pathLst>
                    <a:path w="271" h="513">
                      <a:moveTo>
                        <a:pt x="0" y="0"/>
                      </a:moveTo>
                      <a:lnTo>
                        <a:pt x="26" y="14"/>
                      </a:lnTo>
                      <a:lnTo>
                        <a:pt x="56" y="23"/>
                      </a:lnTo>
                      <a:lnTo>
                        <a:pt x="91" y="30"/>
                      </a:lnTo>
                      <a:lnTo>
                        <a:pt x="129" y="37"/>
                      </a:lnTo>
                      <a:lnTo>
                        <a:pt x="154" y="35"/>
                      </a:lnTo>
                      <a:lnTo>
                        <a:pt x="183" y="28"/>
                      </a:lnTo>
                      <a:lnTo>
                        <a:pt x="208" y="20"/>
                      </a:lnTo>
                      <a:lnTo>
                        <a:pt x="235" y="3"/>
                      </a:lnTo>
                      <a:lnTo>
                        <a:pt x="263" y="125"/>
                      </a:lnTo>
                      <a:lnTo>
                        <a:pt x="267" y="203"/>
                      </a:lnTo>
                      <a:lnTo>
                        <a:pt x="271" y="238"/>
                      </a:lnTo>
                      <a:lnTo>
                        <a:pt x="271" y="305"/>
                      </a:lnTo>
                      <a:lnTo>
                        <a:pt x="267" y="361"/>
                      </a:lnTo>
                      <a:lnTo>
                        <a:pt x="259" y="430"/>
                      </a:lnTo>
                      <a:lnTo>
                        <a:pt x="246" y="492"/>
                      </a:lnTo>
                      <a:lnTo>
                        <a:pt x="67" y="513"/>
                      </a:lnTo>
                      <a:lnTo>
                        <a:pt x="41" y="289"/>
                      </a:lnTo>
                      <a:lnTo>
                        <a:pt x="22" y="1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874400" y="5084280"/>
                  <a:ext cx="66960" cy="102960"/>
                </a:xfrm>
                <a:custGeom>
                  <a:avLst/>
                  <a:gdLst/>
                  <a:ahLst/>
                  <a:rect l="l" t="t" r="r" b="b"/>
                  <a:pathLst>
                    <a:path w="233" h="390">
                      <a:moveTo>
                        <a:pt x="0" y="27"/>
                      </a:moveTo>
                      <a:lnTo>
                        <a:pt x="98" y="27"/>
                      </a:lnTo>
                      <a:lnTo>
                        <a:pt x="146" y="24"/>
                      </a:lnTo>
                      <a:lnTo>
                        <a:pt x="196" y="14"/>
                      </a:lnTo>
                      <a:lnTo>
                        <a:pt x="229" y="0"/>
                      </a:lnTo>
                      <a:lnTo>
                        <a:pt x="233" y="328"/>
                      </a:lnTo>
                      <a:lnTo>
                        <a:pt x="66" y="39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b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7" name=""/>
              <p:cNvGrpSpPr/>
              <p:nvPr/>
            </p:nvGrpSpPr>
            <p:grpSpPr>
              <a:xfrm>
                <a:off x="4910760" y="5015880"/>
                <a:ext cx="158760" cy="169920"/>
                <a:chOff x="4910760" y="5015880"/>
                <a:chExt cx="158760" cy="16992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4910760" y="5015880"/>
                  <a:ext cx="158760" cy="169920"/>
                </a:xfrm>
                <a:custGeom>
                  <a:avLst/>
                  <a:gdLst/>
                  <a:ahLst/>
                  <a:rect l="l" t="t" r="r" b="b"/>
                  <a:pathLst>
                    <a:path w="545" h="645">
                      <a:moveTo>
                        <a:pt x="22" y="0"/>
                      </a:moveTo>
                      <a:lnTo>
                        <a:pt x="55" y="14"/>
                      </a:lnTo>
                      <a:lnTo>
                        <a:pt x="91" y="53"/>
                      </a:lnTo>
                      <a:lnTo>
                        <a:pt x="224" y="99"/>
                      </a:lnTo>
                      <a:lnTo>
                        <a:pt x="260" y="120"/>
                      </a:lnTo>
                      <a:lnTo>
                        <a:pt x="300" y="190"/>
                      </a:lnTo>
                      <a:lnTo>
                        <a:pt x="300" y="236"/>
                      </a:lnTo>
                      <a:lnTo>
                        <a:pt x="308" y="271"/>
                      </a:lnTo>
                      <a:lnTo>
                        <a:pt x="330" y="331"/>
                      </a:lnTo>
                      <a:lnTo>
                        <a:pt x="392" y="434"/>
                      </a:lnTo>
                      <a:lnTo>
                        <a:pt x="436" y="504"/>
                      </a:lnTo>
                      <a:lnTo>
                        <a:pt x="483" y="564"/>
                      </a:lnTo>
                      <a:lnTo>
                        <a:pt x="545" y="634"/>
                      </a:lnTo>
                      <a:lnTo>
                        <a:pt x="29" y="645"/>
                      </a:lnTo>
                      <a:lnTo>
                        <a:pt x="62" y="578"/>
                      </a:lnTo>
                      <a:lnTo>
                        <a:pt x="76" y="529"/>
                      </a:lnTo>
                      <a:lnTo>
                        <a:pt x="84" y="441"/>
                      </a:lnTo>
                      <a:lnTo>
                        <a:pt x="80" y="293"/>
                      </a:lnTo>
                      <a:lnTo>
                        <a:pt x="66" y="183"/>
                      </a:lnTo>
                      <a:lnTo>
                        <a:pt x="44" y="106"/>
                      </a:lnTo>
                      <a:lnTo>
                        <a:pt x="0" y="35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f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950000" y="5037120"/>
                  <a:ext cx="34200" cy="89280"/>
                </a:xfrm>
                <a:custGeom>
                  <a:avLst/>
                  <a:gdLst/>
                  <a:ahLst/>
                  <a:rect l="l" t="t" r="r" b="b"/>
                  <a:pathLst>
                    <a:path w="117" h="338">
                      <a:moveTo>
                        <a:pt x="0" y="0"/>
                      </a:moveTo>
                      <a:lnTo>
                        <a:pt x="44" y="32"/>
                      </a:lnTo>
                      <a:lnTo>
                        <a:pt x="67" y="67"/>
                      </a:lnTo>
                      <a:lnTo>
                        <a:pt x="82" y="102"/>
                      </a:lnTo>
                      <a:lnTo>
                        <a:pt x="95" y="141"/>
                      </a:lnTo>
                      <a:lnTo>
                        <a:pt x="110" y="187"/>
                      </a:lnTo>
                      <a:lnTo>
                        <a:pt x="117" y="236"/>
                      </a:lnTo>
                      <a:lnTo>
                        <a:pt x="117" y="300"/>
                      </a:lnTo>
                      <a:lnTo>
                        <a:pt x="110" y="338"/>
                      </a:lnTo>
                      <a:lnTo>
                        <a:pt x="99" y="264"/>
                      </a:lnTo>
                      <a:lnTo>
                        <a:pt x="89" y="220"/>
                      </a:lnTo>
                      <a:lnTo>
                        <a:pt x="73" y="194"/>
                      </a:lnTo>
                      <a:lnTo>
                        <a:pt x="53" y="181"/>
                      </a:lnTo>
                      <a:lnTo>
                        <a:pt x="64" y="155"/>
                      </a:lnTo>
                      <a:lnTo>
                        <a:pt x="67" y="114"/>
                      </a:lnTo>
                      <a:lnTo>
                        <a:pt x="51" y="78"/>
                      </a:lnTo>
                      <a:lnTo>
                        <a:pt x="30" y="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f3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0" name=""/>
              <p:cNvSpPr/>
              <p:nvPr/>
            </p:nvSpPr>
            <p:spPr>
              <a:xfrm>
                <a:off x="4896000" y="5162040"/>
                <a:ext cx="47880" cy="33480"/>
              </a:xfrm>
              <a:custGeom>
                <a:avLst/>
                <a:gdLst/>
                <a:ahLst/>
                <a:rect l="l" t="t" r="r" b="b"/>
                <a:pathLst>
                  <a:path w="160" h="125">
                    <a:moveTo>
                      <a:pt x="135" y="21"/>
                    </a:moveTo>
                    <a:lnTo>
                      <a:pt x="110" y="0"/>
                    </a:lnTo>
                    <a:lnTo>
                      <a:pt x="72" y="9"/>
                    </a:lnTo>
                    <a:lnTo>
                      <a:pt x="40" y="21"/>
                    </a:lnTo>
                    <a:lnTo>
                      <a:pt x="7" y="34"/>
                    </a:lnTo>
                    <a:lnTo>
                      <a:pt x="0" y="45"/>
                    </a:lnTo>
                    <a:lnTo>
                      <a:pt x="18" y="62"/>
                    </a:lnTo>
                    <a:lnTo>
                      <a:pt x="24" y="83"/>
                    </a:lnTo>
                    <a:lnTo>
                      <a:pt x="39" y="98"/>
                    </a:lnTo>
                    <a:lnTo>
                      <a:pt x="54" y="108"/>
                    </a:lnTo>
                    <a:lnTo>
                      <a:pt x="76" y="115"/>
                    </a:lnTo>
                    <a:lnTo>
                      <a:pt x="91" y="125"/>
                    </a:lnTo>
                    <a:lnTo>
                      <a:pt x="117" y="125"/>
                    </a:lnTo>
                    <a:lnTo>
                      <a:pt x="130" y="125"/>
                    </a:lnTo>
                    <a:lnTo>
                      <a:pt x="139" y="115"/>
                    </a:lnTo>
                    <a:lnTo>
                      <a:pt x="138" y="97"/>
                    </a:lnTo>
                    <a:lnTo>
                      <a:pt x="160" y="98"/>
                    </a:lnTo>
                    <a:lnTo>
                      <a:pt x="135" y="90"/>
                    </a:lnTo>
                    <a:lnTo>
                      <a:pt x="130" y="69"/>
                    </a:lnTo>
                    <a:lnTo>
                      <a:pt x="132" y="55"/>
                    </a:lnTo>
                    <a:lnTo>
                      <a:pt x="130" y="44"/>
                    </a:lnTo>
                    <a:lnTo>
                      <a:pt x="135" y="21"/>
                    </a:lnTo>
                    <a:close/>
                  </a:path>
                </a:pathLst>
              </a:custGeom>
              <a:solidFill>
                <a:srgbClr val="f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832280" y="5210640"/>
                <a:ext cx="21600" cy="23760"/>
              </a:xfrm>
              <a:custGeom>
                <a:avLst/>
                <a:gdLst/>
                <a:ahLst/>
                <a:rect l="l" t="t" r="r" b="b"/>
                <a:pathLst>
                  <a:path w="77" h="90">
                    <a:moveTo>
                      <a:pt x="77" y="0"/>
                    </a:moveTo>
                    <a:lnTo>
                      <a:pt x="19" y="90"/>
                    </a:lnTo>
                    <a:lnTo>
                      <a:pt x="0" y="26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"/>
              <p:cNvGrpSpPr/>
              <p:nvPr/>
            </p:nvGrpSpPr>
            <p:grpSpPr>
              <a:xfrm>
                <a:off x="4738680" y="5004360"/>
                <a:ext cx="160560" cy="237600"/>
                <a:chOff x="4738680" y="5004360"/>
                <a:chExt cx="160560" cy="23760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4738680" y="5004360"/>
                  <a:ext cx="160560" cy="236160"/>
                </a:xfrm>
                <a:custGeom>
                  <a:avLst/>
                  <a:gdLst/>
                  <a:ahLst/>
                  <a:rect l="l" t="t" r="r" b="b"/>
                  <a:pathLst>
                    <a:path w="552" h="889">
                      <a:moveTo>
                        <a:pt x="427" y="11"/>
                      </a:moveTo>
                      <a:lnTo>
                        <a:pt x="351" y="0"/>
                      </a:lnTo>
                      <a:lnTo>
                        <a:pt x="296" y="4"/>
                      </a:lnTo>
                      <a:lnTo>
                        <a:pt x="234" y="11"/>
                      </a:lnTo>
                      <a:lnTo>
                        <a:pt x="201" y="18"/>
                      </a:lnTo>
                      <a:lnTo>
                        <a:pt x="183" y="39"/>
                      </a:lnTo>
                      <a:lnTo>
                        <a:pt x="161" y="35"/>
                      </a:lnTo>
                      <a:lnTo>
                        <a:pt x="128" y="60"/>
                      </a:lnTo>
                      <a:lnTo>
                        <a:pt x="102" y="88"/>
                      </a:lnTo>
                      <a:lnTo>
                        <a:pt x="84" y="116"/>
                      </a:lnTo>
                      <a:lnTo>
                        <a:pt x="62" y="152"/>
                      </a:lnTo>
                      <a:lnTo>
                        <a:pt x="51" y="190"/>
                      </a:lnTo>
                      <a:lnTo>
                        <a:pt x="40" y="257"/>
                      </a:lnTo>
                      <a:lnTo>
                        <a:pt x="33" y="303"/>
                      </a:lnTo>
                      <a:lnTo>
                        <a:pt x="33" y="377"/>
                      </a:lnTo>
                      <a:lnTo>
                        <a:pt x="48" y="426"/>
                      </a:lnTo>
                      <a:lnTo>
                        <a:pt x="44" y="462"/>
                      </a:lnTo>
                      <a:lnTo>
                        <a:pt x="33" y="553"/>
                      </a:lnTo>
                      <a:lnTo>
                        <a:pt x="22" y="592"/>
                      </a:lnTo>
                      <a:lnTo>
                        <a:pt x="18" y="634"/>
                      </a:lnTo>
                      <a:lnTo>
                        <a:pt x="7" y="662"/>
                      </a:lnTo>
                      <a:lnTo>
                        <a:pt x="0" y="694"/>
                      </a:lnTo>
                      <a:lnTo>
                        <a:pt x="4" y="729"/>
                      </a:lnTo>
                      <a:lnTo>
                        <a:pt x="18" y="761"/>
                      </a:lnTo>
                      <a:lnTo>
                        <a:pt x="48" y="789"/>
                      </a:lnTo>
                      <a:lnTo>
                        <a:pt x="99" y="835"/>
                      </a:lnTo>
                      <a:lnTo>
                        <a:pt x="128" y="846"/>
                      </a:lnTo>
                      <a:lnTo>
                        <a:pt x="165" y="856"/>
                      </a:lnTo>
                      <a:lnTo>
                        <a:pt x="194" y="868"/>
                      </a:lnTo>
                      <a:lnTo>
                        <a:pt x="219" y="882"/>
                      </a:lnTo>
                      <a:lnTo>
                        <a:pt x="340" y="889"/>
                      </a:lnTo>
                      <a:lnTo>
                        <a:pt x="420" y="786"/>
                      </a:lnTo>
                      <a:lnTo>
                        <a:pt x="449" y="691"/>
                      </a:lnTo>
                      <a:lnTo>
                        <a:pt x="552" y="691"/>
                      </a:lnTo>
                      <a:lnTo>
                        <a:pt x="544" y="553"/>
                      </a:lnTo>
                      <a:lnTo>
                        <a:pt x="526" y="398"/>
                      </a:lnTo>
                      <a:lnTo>
                        <a:pt x="493" y="204"/>
                      </a:lnTo>
                      <a:lnTo>
                        <a:pt x="475" y="116"/>
                      </a:lnTo>
                      <a:lnTo>
                        <a:pt x="427" y="11"/>
                      </a:lnTo>
                      <a:close/>
                    </a:path>
                  </a:pathLst>
                </a:custGeom>
                <a:solidFill>
                  <a:srgbClr val="f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4788360" y="5163480"/>
                  <a:ext cx="72360" cy="78480"/>
                </a:xfrm>
                <a:custGeom>
                  <a:avLst/>
                  <a:gdLst/>
                  <a:ahLst/>
                  <a:rect l="l" t="t" r="r" b="b"/>
                  <a:pathLst>
                    <a:path w="248" h="296">
                      <a:moveTo>
                        <a:pt x="233" y="14"/>
                      </a:moveTo>
                      <a:lnTo>
                        <a:pt x="144" y="7"/>
                      </a:lnTo>
                      <a:lnTo>
                        <a:pt x="51" y="0"/>
                      </a:lnTo>
                      <a:lnTo>
                        <a:pt x="35" y="21"/>
                      </a:lnTo>
                      <a:lnTo>
                        <a:pt x="28" y="38"/>
                      </a:lnTo>
                      <a:lnTo>
                        <a:pt x="17" y="59"/>
                      </a:lnTo>
                      <a:lnTo>
                        <a:pt x="7" y="91"/>
                      </a:lnTo>
                      <a:lnTo>
                        <a:pt x="2" y="119"/>
                      </a:lnTo>
                      <a:lnTo>
                        <a:pt x="0" y="145"/>
                      </a:lnTo>
                      <a:lnTo>
                        <a:pt x="3" y="176"/>
                      </a:lnTo>
                      <a:lnTo>
                        <a:pt x="14" y="217"/>
                      </a:lnTo>
                      <a:lnTo>
                        <a:pt x="25" y="250"/>
                      </a:lnTo>
                      <a:lnTo>
                        <a:pt x="28" y="280"/>
                      </a:lnTo>
                      <a:lnTo>
                        <a:pt x="177" y="296"/>
                      </a:lnTo>
                      <a:lnTo>
                        <a:pt x="241" y="193"/>
                      </a:lnTo>
                      <a:lnTo>
                        <a:pt x="248" y="166"/>
                      </a:lnTo>
                      <a:lnTo>
                        <a:pt x="233" y="14"/>
                      </a:lnTo>
                      <a:close/>
                    </a:path>
                  </a:pathLst>
                </a:custGeom>
                <a:solidFill>
                  <a:srgbClr val="d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755960" y="5020200"/>
                  <a:ext cx="68040" cy="150120"/>
                </a:xfrm>
                <a:custGeom>
                  <a:avLst/>
                  <a:gdLst/>
                  <a:ahLst/>
                  <a:rect l="l" t="t" r="r" b="b"/>
                  <a:pathLst>
                    <a:path w="233" h="567">
                      <a:moveTo>
                        <a:pt x="146" y="0"/>
                      </a:moveTo>
                      <a:lnTo>
                        <a:pt x="189" y="70"/>
                      </a:lnTo>
                      <a:lnTo>
                        <a:pt x="215" y="144"/>
                      </a:lnTo>
                      <a:lnTo>
                        <a:pt x="230" y="233"/>
                      </a:lnTo>
                      <a:lnTo>
                        <a:pt x="233" y="331"/>
                      </a:lnTo>
                      <a:lnTo>
                        <a:pt x="230" y="447"/>
                      </a:lnTo>
                      <a:lnTo>
                        <a:pt x="219" y="497"/>
                      </a:lnTo>
                      <a:lnTo>
                        <a:pt x="160" y="539"/>
                      </a:lnTo>
                      <a:lnTo>
                        <a:pt x="131" y="521"/>
                      </a:lnTo>
                      <a:lnTo>
                        <a:pt x="102" y="514"/>
                      </a:lnTo>
                      <a:lnTo>
                        <a:pt x="76" y="521"/>
                      </a:lnTo>
                      <a:lnTo>
                        <a:pt x="58" y="546"/>
                      </a:lnTo>
                      <a:lnTo>
                        <a:pt x="25" y="560"/>
                      </a:lnTo>
                      <a:lnTo>
                        <a:pt x="0" y="567"/>
                      </a:lnTo>
                      <a:lnTo>
                        <a:pt x="40" y="532"/>
                      </a:lnTo>
                      <a:lnTo>
                        <a:pt x="65" y="521"/>
                      </a:lnTo>
                      <a:lnTo>
                        <a:pt x="84" y="504"/>
                      </a:lnTo>
                      <a:lnTo>
                        <a:pt x="106" y="504"/>
                      </a:lnTo>
                      <a:lnTo>
                        <a:pt x="131" y="479"/>
                      </a:lnTo>
                      <a:lnTo>
                        <a:pt x="106" y="451"/>
                      </a:lnTo>
                      <a:lnTo>
                        <a:pt x="142" y="458"/>
                      </a:lnTo>
                      <a:lnTo>
                        <a:pt x="116" y="377"/>
                      </a:lnTo>
                      <a:lnTo>
                        <a:pt x="95" y="310"/>
                      </a:lnTo>
                      <a:lnTo>
                        <a:pt x="87" y="263"/>
                      </a:lnTo>
                      <a:lnTo>
                        <a:pt x="98" y="194"/>
                      </a:lnTo>
                      <a:lnTo>
                        <a:pt x="116" y="271"/>
                      </a:lnTo>
                      <a:lnTo>
                        <a:pt x="153" y="359"/>
                      </a:lnTo>
                      <a:lnTo>
                        <a:pt x="197" y="454"/>
                      </a:lnTo>
                      <a:lnTo>
                        <a:pt x="197" y="324"/>
                      </a:lnTo>
                      <a:lnTo>
                        <a:pt x="189" y="236"/>
                      </a:lnTo>
                      <a:lnTo>
                        <a:pt x="179" y="106"/>
                      </a:lnTo>
                      <a:lnTo>
                        <a:pt x="146" y="0"/>
                      </a:lnTo>
                      <a:close/>
                    </a:path>
                  </a:pathLst>
                </a:custGeom>
                <a:solidFill>
                  <a:srgbClr val="df3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6" name=""/>
              <p:cNvSpPr/>
              <p:nvPr/>
            </p:nvSpPr>
            <p:spPr>
              <a:xfrm>
                <a:off x="4925880" y="5103720"/>
                <a:ext cx="198000" cy="95400"/>
              </a:xfrm>
              <a:custGeom>
                <a:avLst/>
                <a:gdLst/>
                <a:ahLst/>
                <a:rect l="l" t="t" r="r" b="b"/>
                <a:pathLst>
                  <a:path w="681" h="359">
                    <a:moveTo>
                      <a:pt x="0" y="292"/>
                    </a:moveTo>
                    <a:lnTo>
                      <a:pt x="263" y="0"/>
                    </a:lnTo>
                    <a:lnTo>
                      <a:pt x="681" y="111"/>
                    </a:lnTo>
                    <a:lnTo>
                      <a:pt x="509" y="320"/>
                    </a:lnTo>
                    <a:lnTo>
                      <a:pt x="402" y="344"/>
                    </a:lnTo>
                    <a:lnTo>
                      <a:pt x="293" y="359"/>
                    </a:lnTo>
                    <a:lnTo>
                      <a:pt x="55" y="345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4827960" y="5159880"/>
                <a:ext cx="169560" cy="62280"/>
              </a:xfrm>
              <a:custGeom>
                <a:avLst/>
                <a:gdLst/>
                <a:ahLst/>
                <a:rect l="l" t="t" r="r" b="b"/>
                <a:pathLst>
                  <a:path w="582" h="236">
                    <a:moveTo>
                      <a:pt x="32" y="57"/>
                    </a:moveTo>
                    <a:lnTo>
                      <a:pt x="249" y="29"/>
                    </a:lnTo>
                    <a:lnTo>
                      <a:pt x="295" y="12"/>
                    </a:lnTo>
                    <a:lnTo>
                      <a:pt x="318" y="3"/>
                    </a:lnTo>
                    <a:lnTo>
                      <a:pt x="342" y="0"/>
                    </a:lnTo>
                    <a:lnTo>
                      <a:pt x="375" y="5"/>
                    </a:lnTo>
                    <a:lnTo>
                      <a:pt x="412" y="12"/>
                    </a:lnTo>
                    <a:lnTo>
                      <a:pt x="439" y="15"/>
                    </a:lnTo>
                    <a:lnTo>
                      <a:pt x="491" y="21"/>
                    </a:lnTo>
                    <a:lnTo>
                      <a:pt x="517" y="22"/>
                    </a:lnTo>
                    <a:lnTo>
                      <a:pt x="537" y="26"/>
                    </a:lnTo>
                    <a:lnTo>
                      <a:pt x="559" y="29"/>
                    </a:lnTo>
                    <a:lnTo>
                      <a:pt x="577" y="36"/>
                    </a:lnTo>
                    <a:lnTo>
                      <a:pt x="582" y="46"/>
                    </a:lnTo>
                    <a:lnTo>
                      <a:pt x="574" y="54"/>
                    </a:lnTo>
                    <a:lnTo>
                      <a:pt x="537" y="56"/>
                    </a:lnTo>
                    <a:lnTo>
                      <a:pt x="523" y="57"/>
                    </a:lnTo>
                    <a:lnTo>
                      <a:pt x="520" y="82"/>
                    </a:lnTo>
                    <a:lnTo>
                      <a:pt x="512" y="92"/>
                    </a:lnTo>
                    <a:lnTo>
                      <a:pt x="506" y="93"/>
                    </a:lnTo>
                    <a:lnTo>
                      <a:pt x="501" y="109"/>
                    </a:lnTo>
                    <a:lnTo>
                      <a:pt x="490" y="121"/>
                    </a:lnTo>
                    <a:lnTo>
                      <a:pt x="476" y="127"/>
                    </a:lnTo>
                    <a:lnTo>
                      <a:pt x="468" y="137"/>
                    </a:lnTo>
                    <a:lnTo>
                      <a:pt x="457" y="142"/>
                    </a:lnTo>
                    <a:lnTo>
                      <a:pt x="423" y="160"/>
                    </a:lnTo>
                    <a:lnTo>
                      <a:pt x="405" y="167"/>
                    </a:lnTo>
                    <a:lnTo>
                      <a:pt x="351" y="169"/>
                    </a:lnTo>
                    <a:lnTo>
                      <a:pt x="311" y="165"/>
                    </a:lnTo>
                    <a:lnTo>
                      <a:pt x="288" y="155"/>
                    </a:lnTo>
                    <a:lnTo>
                      <a:pt x="277" y="151"/>
                    </a:lnTo>
                    <a:lnTo>
                      <a:pt x="256" y="155"/>
                    </a:lnTo>
                    <a:lnTo>
                      <a:pt x="222" y="158"/>
                    </a:lnTo>
                    <a:lnTo>
                      <a:pt x="193" y="163"/>
                    </a:lnTo>
                    <a:lnTo>
                      <a:pt x="70" y="208"/>
                    </a:lnTo>
                    <a:lnTo>
                      <a:pt x="17" y="236"/>
                    </a:lnTo>
                    <a:lnTo>
                      <a:pt x="3" y="187"/>
                    </a:lnTo>
                    <a:lnTo>
                      <a:pt x="0" y="156"/>
                    </a:lnTo>
                    <a:lnTo>
                      <a:pt x="0" y="131"/>
                    </a:lnTo>
                    <a:lnTo>
                      <a:pt x="10" y="99"/>
                    </a:lnTo>
                    <a:lnTo>
                      <a:pt x="32" y="57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8" name=""/>
              <p:cNvGrpSpPr/>
              <p:nvPr/>
            </p:nvGrpSpPr>
            <p:grpSpPr>
              <a:xfrm>
                <a:off x="4796280" y="4844880"/>
                <a:ext cx="186120" cy="220320"/>
                <a:chOff x="4796280" y="4844880"/>
                <a:chExt cx="186120" cy="220320"/>
              </a:xfrm>
            </p:grpSpPr>
            <p:grpSp>
              <p:nvGrpSpPr>
                <p:cNvPr id="1039" name=""/>
                <p:cNvGrpSpPr/>
                <p:nvPr/>
              </p:nvGrpSpPr>
              <p:grpSpPr>
                <a:xfrm>
                  <a:off x="4963680" y="4904280"/>
                  <a:ext cx="16560" cy="39600"/>
                  <a:chOff x="4963680" y="4904280"/>
                  <a:chExt cx="16560" cy="39600"/>
                </a:xfrm>
              </p:grpSpPr>
              <p:sp>
                <p:nvSpPr>
                  <p:cNvPr id="1040" name=""/>
                  <p:cNvSpPr/>
                  <p:nvPr/>
                </p:nvSpPr>
                <p:spPr>
                  <a:xfrm>
                    <a:off x="4963680" y="4904280"/>
                    <a:ext cx="16560" cy="3960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4965120" y="4905000"/>
                    <a:ext cx="14040" cy="37080"/>
                  </a:xfrm>
                  <a:prstGeom prst="ellipse">
                    <a:avLst/>
                  </a:prstGeom>
                  <a:solidFill>
                    <a:srgbClr val="ffd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2" name=""/>
                <p:cNvGrpSpPr/>
                <p:nvPr/>
              </p:nvGrpSpPr>
              <p:grpSpPr>
                <a:xfrm>
                  <a:off x="4796280" y="4844880"/>
                  <a:ext cx="186120" cy="220320"/>
                  <a:chOff x="4796280" y="4844880"/>
                  <a:chExt cx="186120" cy="220320"/>
                </a:xfrm>
              </p:grpSpPr>
              <p:grpSp>
                <p:nvGrpSpPr>
                  <p:cNvPr id="1043" name=""/>
                  <p:cNvGrpSpPr/>
                  <p:nvPr/>
                </p:nvGrpSpPr>
                <p:grpSpPr>
                  <a:xfrm>
                    <a:off x="4839480" y="4859280"/>
                    <a:ext cx="142920" cy="205920"/>
                    <a:chOff x="4839480" y="4859280"/>
                    <a:chExt cx="142920" cy="205920"/>
                  </a:xfrm>
                </p:grpSpPr>
                <p:sp>
                  <p:nvSpPr>
                    <p:cNvPr id="1044" name=""/>
                    <p:cNvSpPr/>
                    <p:nvPr/>
                  </p:nvSpPr>
                  <p:spPr>
                    <a:xfrm>
                      <a:off x="4839480" y="4859280"/>
                      <a:ext cx="142920" cy="20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2" h="777">
                          <a:moveTo>
                            <a:pt x="318" y="14"/>
                          </a:moveTo>
                          <a:lnTo>
                            <a:pt x="359" y="29"/>
                          </a:lnTo>
                          <a:lnTo>
                            <a:pt x="383" y="44"/>
                          </a:lnTo>
                          <a:lnTo>
                            <a:pt x="402" y="64"/>
                          </a:lnTo>
                          <a:lnTo>
                            <a:pt x="413" y="86"/>
                          </a:lnTo>
                          <a:lnTo>
                            <a:pt x="421" y="111"/>
                          </a:lnTo>
                          <a:lnTo>
                            <a:pt x="427" y="135"/>
                          </a:lnTo>
                          <a:lnTo>
                            <a:pt x="434" y="171"/>
                          </a:lnTo>
                          <a:lnTo>
                            <a:pt x="438" y="206"/>
                          </a:lnTo>
                          <a:lnTo>
                            <a:pt x="433" y="227"/>
                          </a:lnTo>
                          <a:lnTo>
                            <a:pt x="431" y="248"/>
                          </a:lnTo>
                          <a:lnTo>
                            <a:pt x="442" y="269"/>
                          </a:lnTo>
                          <a:lnTo>
                            <a:pt x="475" y="303"/>
                          </a:lnTo>
                          <a:lnTo>
                            <a:pt x="483" y="313"/>
                          </a:lnTo>
                          <a:lnTo>
                            <a:pt x="490" y="322"/>
                          </a:lnTo>
                          <a:lnTo>
                            <a:pt x="492" y="330"/>
                          </a:lnTo>
                          <a:lnTo>
                            <a:pt x="488" y="337"/>
                          </a:lnTo>
                          <a:lnTo>
                            <a:pt x="480" y="342"/>
                          </a:lnTo>
                          <a:lnTo>
                            <a:pt x="464" y="347"/>
                          </a:lnTo>
                          <a:lnTo>
                            <a:pt x="458" y="353"/>
                          </a:lnTo>
                          <a:lnTo>
                            <a:pt x="464" y="367"/>
                          </a:lnTo>
                          <a:lnTo>
                            <a:pt x="462" y="375"/>
                          </a:lnTo>
                          <a:lnTo>
                            <a:pt x="456" y="382"/>
                          </a:lnTo>
                          <a:lnTo>
                            <a:pt x="443" y="389"/>
                          </a:lnTo>
                          <a:lnTo>
                            <a:pt x="425" y="397"/>
                          </a:lnTo>
                          <a:lnTo>
                            <a:pt x="414" y="401"/>
                          </a:lnTo>
                          <a:lnTo>
                            <a:pt x="453" y="410"/>
                          </a:lnTo>
                          <a:lnTo>
                            <a:pt x="458" y="417"/>
                          </a:lnTo>
                          <a:lnTo>
                            <a:pt x="448" y="433"/>
                          </a:lnTo>
                          <a:lnTo>
                            <a:pt x="447" y="454"/>
                          </a:lnTo>
                          <a:lnTo>
                            <a:pt x="447" y="484"/>
                          </a:lnTo>
                          <a:lnTo>
                            <a:pt x="447" y="496"/>
                          </a:lnTo>
                          <a:lnTo>
                            <a:pt x="442" y="505"/>
                          </a:lnTo>
                          <a:lnTo>
                            <a:pt x="431" y="514"/>
                          </a:lnTo>
                          <a:lnTo>
                            <a:pt x="414" y="518"/>
                          </a:lnTo>
                          <a:lnTo>
                            <a:pt x="396" y="523"/>
                          </a:lnTo>
                          <a:lnTo>
                            <a:pt x="354" y="530"/>
                          </a:lnTo>
                          <a:lnTo>
                            <a:pt x="330" y="536"/>
                          </a:lnTo>
                          <a:lnTo>
                            <a:pt x="312" y="543"/>
                          </a:lnTo>
                          <a:lnTo>
                            <a:pt x="298" y="553"/>
                          </a:lnTo>
                          <a:lnTo>
                            <a:pt x="253" y="615"/>
                          </a:lnTo>
                          <a:lnTo>
                            <a:pt x="320" y="754"/>
                          </a:lnTo>
                          <a:lnTo>
                            <a:pt x="281" y="765"/>
                          </a:lnTo>
                          <a:lnTo>
                            <a:pt x="221" y="777"/>
                          </a:lnTo>
                          <a:lnTo>
                            <a:pt x="169" y="774"/>
                          </a:lnTo>
                          <a:lnTo>
                            <a:pt x="139" y="758"/>
                          </a:lnTo>
                          <a:lnTo>
                            <a:pt x="68" y="545"/>
                          </a:lnTo>
                          <a:lnTo>
                            <a:pt x="68" y="474"/>
                          </a:lnTo>
                          <a:lnTo>
                            <a:pt x="47" y="436"/>
                          </a:lnTo>
                          <a:lnTo>
                            <a:pt x="22" y="387"/>
                          </a:lnTo>
                          <a:lnTo>
                            <a:pt x="11" y="359"/>
                          </a:lnTo>
                          <a:lnTo>
                            <a:pt x="4" y="321"/>
                          </a:lnTo>
                          <a:lnTo>
                            <a:pt x="0" y="280"/>
                          </a:lnTo>
                          <a:lnTo>
                            <a:pt x="0" y="231"/>
                          </a:lnTo>
                          <a:lnTo>
                            <a:pt x="6" y="185"/>
                          </a:lnTo>
                          <a:lnTo>
                            <a:pt x="14" y="145"/>
                          </a:lnTo>
                          <a:lnTo>
                            <a:pt x="28" y="111"/>
                          </a:lnTo>
                          <a:lnTo>
                            <a:pt x="44" y="78"/>
                          </a:lnTo>
                          <a:lnTo>
                            <a:pt x="68" y="47"/>
                          </a:lnTo>
                          <a:lnTo>
                            <a:pt x="102" y="23"/>
                          </a:lnTo>
                          <a:lnTo>
                            <a:pt x="139" y="9"/>
                          </a:lnTo>
                          <a:lnTo>
                            <a:pt x="181" y="2"/>
                          </a:lnTo>
                          <a:lnTo>
                            <a:pt x="219" y="0"/>
                          </a:lnTo>
                          <a:lnTo>
                            <a:pt x="269" y="3"/>
                          </a:lnTo>
                          <a:lnTo>
                            <a:pt x="318" y="14"/>
                          </a:lnTo>
                          <a:close/>
                        </a:path>
                      </a:pathLst>
                    </a:custGeom>
                    <a:solidFill>
                      <a:srgbClr val="f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45" name=""/>
                    <p:cNvGrpSpPr/>
                    <p:nvPr/>
                  </p:nvGrpSpPr>
                  <p:grpSpPr>
                    <a:xfrm>
                      <a:off x="4898520" y="4979160"/>
                      <a:ext cx="65880" cy="75600"/>
                      <a:chOff x="4898520" y="4979160"/>
                      <a:chExt cx="65880" cy="75600"/>
                    </a:xfrm>
                  </p:grpSpPr>
                  <p:sp>
                    <p:nvSpPr>
                      <p:cNvPr id="1046" name=""/>
                      <p:cNvSpPr/>
                      <p:nvPr/>
                    </p:nvSpPr>
                    <p:spPr>
                      <a:xfrm>
                        <a:off x="4899240" y="4979160"/>
                        <a:ext cx="651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6" h="102">
                            <a:moveTo>
                              <a:pt x="0" y="0"/>
                            </a:moveTo>
                            <a:lnTo>
                              <a:pt x="33" y="14"/>
                            </a:lnTo>
                            <a:lnTo>
                              <a:pt x="67" y="25"/>
                            </a:lnTo>
                            <a:lnTo>
                              <a:pt x="92" y="32"/>
                            </a:lnTo>
                            <a:lnTo>
                              <a:pt x="125" y="41"/>
                            </a:lnTo>
                            <a:lnTo>
                              <a:pt x="147" y="45"/>
                            </a:lnTo>
                            <a:lnTo>
                              <a:pt x="178" y="50"/>
                            </a:lnTo>
                            <a:lnTo>
                              <a:pt x="201" y="50"/>
                            </a:lnTo>
                            <a:lnTo>
                              <a:pt x="226" y="50"/>
                            </a:lnTo>
                            <a:lnTo>
                              <a:pt x="202" y="59"/>
                            </a:lnTo>
                            <a:lnTo>
                              <a:pt x="168" y="66"/>
                            </a:lnTo>
                            <a:lnTo>
                              <a:pt x="141" y="72"/>
                            </a:lnTo>
                            <a:lnTo>
                              <a:pt x="119" y="78"/>
                            </a:lnTo>
                            <a:lnTo>
                              <a:pt x="97" y="85"/>
                            </a:lnTo>
                            <a:lnTo>
                              <a:pt x="84" y="91"/>
                            </a:lnTo>
                            <a:lnTo>
                              <a:pt x="69" y="102"/>
                            </a:lnTo>
                            <a:lnTo>
                              <a:pt x="83" y="86"/>
                            </a:lnTo>
                            <a:lnTo>
                              <a:pt x="95" y="75"/>
                            </a:lnTo>
                            <a:lnTo>
                              <a:pt x="98" y="65"/>
                            </a:lnTo>
                            <a:lnTo>
                              <a:pt x="98" y="57"/>
                            </a:lnTo>
                            <a:lnTo>
                              <a:pt x="95" y="49"/>
                            </a:lnTo>
                            <a:lnTo>
                              <a:pt x="85" y="44"/>
                            </a:lnTo>
                            <a:lnTo>
                              <a:pt x="74" y="41"/>
                            </a:lnTo>
                            <a:lnTo>
                              <a:pt x="55" y="38"/>
                            </a:lnTo>
                            <a:lnTo>
                              <a:pt x="38" y="3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47" name=""/>
                      <p:cNvSpPr/>
                      <p:nvPr/>
                    </p:nvSpPr>
                    <p:spPr>
                      <a:xfrm>
                        <a:off x="4898520" y="5017320"/>
                        <a:ext cx="1548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142">
                            <a:moveTo>
                              <a:pt x="32" y="16"/>
                            </a:moveTo>
                            <a:lnTo>
                              <a:pt x="32" y="6"/>
                            </a:lnTo>
                            <a:lnTo>
                              <a:pt x="28" y="1"/>
                            </a:lnTo>
                            <a:lnTo>
                              <a:pt x="20" y="0"/>
                            </a:lnTo>
                            <a:lnTo>
                              <a:pt x="11" y="5"/>
                            </a:lnTo>
                            <a:lnTo>
                              <a:pt x="5" y="13"/>
                            </a:lnTo>
                            <a:lnTo>
                              <a:pt x="0" y="23"/>
                            </a:lnTo>
                            <a:lnTo>
                              <a:pt x="0" y="38"/>
                            </a:lnTo>
                            <a:lnTo>
                              <a:pt x="2" y="81"/>
                            </a:lnTo>
                            <a:lnTo>
                              <a:pt x="5" y="99"/>
                            </a:lnTo>
                            <a:lnTo>
                              <a:pt x="10" y="108"/>
                            </a:lnTo>
                            <a:lnTo>
                              <a:pt x="47" y="142"/>
                            </a:lnTo>
                            <a:lnTo>
                              <a:pt x="56" y="108"/>
                            </a:lnTo>
                            <a:lnTo>
                              <a:pt x="39" y="84"/>
                            </a:lnTo>
                            <a:lnTo>
                              <a:pt x="42" y="101"/>
                            </a:lnTo>
                            <a:lnTo>
                              <a:pt x="43" y="115"/>
                            </a:lnTo>
                            <a:lnTo>
                              <a:pt x="42" y="120"/>
                            </a:lnTo>
                            <a:lnTo>
                              <a:pt x="14" y="89"/>
                            </a:lnTo>
                            <a:lnTo>
                              <a:pt x="13" y="77"/>
                            </a:lnTo>
                            <a:lnTo>
                              <a:pt x="10" y="61"/>
                            </a:lnTo>
                            <a:lnTo>
                              <a:pt x="16" y="42"/>
                            </a:lnTo>
                            <a:lnTo>
                              <a:pt x="24" y="27"/>
                            </a:lnTo>
                            <a:lnTo>
                              <a:pt x="32" y="16"/>
                            </a:lnTo>
                            <a:close/>
                          </a:path>
                        </a:pathLst>
                      </a:custGeom>
                      <a:solidFill>
                        <a:srgbClr val="ff9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048" name=""/>
                  <p:cNvSpPr/>
                  <p:nvPr/>
                </p:nvSpPr>
                <p:spPr>
                  <a:xfrm>
                    <a:off x="4939200" y="4924440"/>
                    <a:ext cx="1044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9">
                        <a:moveTo>
                          <a:pt x="32" y="0"/>
                        </a:moveTo>
                        <a:lnTo>
                          <a:pt x="17" y="6"/>
                        </a:lnTo>
                        <a:lnTo>
                          <a:pt x="0" y="17"/>
                        </a:lnTo>
                        <a:lnTo>
                          <a:pt x="12" y="26"/>
                        </a:lnTo>
                        <a:lnTo>
                          <a:pt x="30" y="29"/>
                        </a:lnTo>
                        <a:lnTo>
                          <a:pt x="36" y="28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4934880" y="4908240"/>
                    <a:ext cx="183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3">
                        <a:moveTo>
                          <a:pt x="64" y="0"/>
                        </a:moveTo>
                        <a:lnTo>
                          <a:pt x="49" y="3"/>
                        </a:lnTo>
                        <a:lnTo>
                          <a:pt x="38" y="14"/>
                        </a:lnTo>
                        <a:lnTo>
                          <a:pt x="28" y="27"/>
                        </a:lnTo>
                        <a:lnTo>
                          <a:pt x="19" y="39"/>
                        </a:lnTo>
                        <a:lnTo>
                          <a:pt x="0" y="53"/>
                        </a:lnTo>
                        <a:lnTo>
                          <a:pt x="22" y="46"/>
                        </a:lnTo>
                        <a:lnTo>
                          <a:pt x="37" y="35"/>
                        </a:lnTo>
                        <a:lnTo>
                          <a:pt x="49" y="25"/>
                        </a:lnTo>
                        <a:lnTo>
                          <a:pt x="60" y="21"/>
                        </a:lnTo>
                        <a:lnTo>
                          <a:pt x="64" y="0"/>
                        </a:lnTo>
                        <a:close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50" name=""/>
                  <p:cNvGrpSpPr/>
                  <p:nvPr/>
                </p:nvGrpSpPr>
                <p:grpSpPr>
                  <a:xfrm>
                    <a:off x="4937400" y="4917240"/>
                    <a:ext cx="12960" cy="15120"/>
                    <a:chOff x="4937400" y="4917240"/>
                    <a:chExt cx="12960" cy="15120"/>
                  </a:xfrm>
                </p:grpSpPr>
                <p:sp>
                  <p:nvSpPr>
                    <p:cNvPr id="1051" name=""/>
                    <p:cNvSpPr/>
                    <p:nvPr/>
                  </p:nvSpPr>
                  <p:spPr>
                    <a:xfrm>
                      <a:off x="4942440" y="4925160"/>
                      <a:ext cx="5760" cy="6120"/>
                    </a:xfrm>
                    <a:prstGeom prst="ellipse">
                      <a:avLst/>
                    </a:prstGeom>
                    <a:solidFill>
                      <a:srgbClr val="5f7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2" name=""/>
                    <p:cNvSpPr/>
                    <p:nvPr/>
                  </p:nvSpPr>
                  <p:spPr>
                    <a:xfrm>
                      <a:off x="4937400" y="4917240"/>
                      <a:ext cx="12960" cy="1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57">
                          <a:moveTo>
                            <a:pt x="38" y="14"/>
                          </a:moveTo>
                          <a:lnTo>
                            <a:pt x="26" y="25"/>
                          </a:lnTo>
                          <a:lnTo>
                            <a:pt x="30" y="0"/>
                          </a:lnTo>
                          <a:lnTo>
                            <a:pt x="20" y="25"/>
                          </a:lnTo>
                          <a:lnTo>
                            <a:pt x="12" y="35"/>
                          </a:lnTo>
                          <a:lnTo>
                            <a:pt x="0" y="44"/>
                          </a:lnTo>
                          <a:lnTo>
                            <a:pt x="15" y="54"/>
                          </a:lnTo>
                          <a:lnTo>
                            <a:pt x="16" y="54"/>
                          </a:lnTo>
                          <a:lnTo>
                            <a:pt x="26" y="57"/>
                          </a:lnTo>
                          <a:lnTo>
                            <a:pt x="39" y="57"/>
                          </a:lnTo>
                          <a:lnTo>
                            <a:pt x="37" y="48"/>
                          </a:lnTo>
                          <a:lnTo>
                            <a:pt x="26" y="51"/>
                          </a:lnTo>
                          <a:lnTo>
                            <a:pt x="15" y="46"/>
                          </a:lnTo>
                          <a:lnTo>
                            <a:pt x="6" y="42"/>
                          </a:lnTo>
                          <a:lnTo>
                            <a:pt x="15" y="38"/>
                          </a:lnTo>
                          <a:lnTo>
                            <a:pt x="30" y="32"/>
                          </a:lnTo>
                          <a:lnTo>
                            <a:pt x="44" y="25"/>
                          </a:lnTo>
                          <a:lnTo>
                            <a:pt x="38" y="14"/>
                          </a:lnTo>
                          <a:close/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680" bIns="-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3" name=""/>
                  <p:cNvSpPr/>
                  <p:nvPr/>
                </p:nvSpPr>
                <p:spPr>
                  <a:xfrm>
                    <a:off x="4796280" y="4844880"/>
                    <a:ext cx="173520" cy="178920"/>
                  </a:xfrm>
                  <a:custGeom>
                    <a:avLst/>
                    <a:gdLst/>
                    <a:ahLst/>
                    <a:rect l="l" t="t" r="r" b="b"/>
                    <a:pathLst>
                      <a:path w="597" h="674">
                        <a:moveTo>
                          <a:pt x="579" y="199"/>
                        </a:moveTo>
                        <a:lnTo>
                          <a:pt x="586" y="192"/>
                        </a:lnTo>
                        <a:lnTo>
                          <a:pt x="594" y="183"/>
                        </a:lnTo>
                        <a:lnTo>
                          <a:pt x="597" y="162"/>
                        </a:lnTo>
                        <a:lnTo>
                          <a:pt x="597" y="123"/>
                        </a:lnTo>
                        <a:lnTo>
                          <a:pt x="586" y="91"/>
                        </a:lnTo>
                        <a:lnTo>
                          <a:pt x="571" y="74"/>
                        </a:lnTo>
                        <a:lnTo>
                          <a:pt x="549" y="52"/>
                        </a:lnTo>
                        <a:lnTo>
                          <a:pt x="504" y="45"/>
                        </a:lnTo>
                        <a:lnTo>
                          <a:pt x="439" y="35"/>
                        </a:lnTo>
                        <a:lnTo>
                          <a:pt x="380" y="21"/>
                        </a:lnTo>
                        <a:lnTo>
                          <a:pt x="333" y="10"/>
                        </a:lnTo>
                        <a:lnTo>
                          <a:pt x="274" y="0"/>
                        </a:lnTo>
                        <a:lnTo>
                          <a:pt x="245" y="10"/>
                        </a:lnTo>
                        <a:lnTo>
                          <a:pt x="212" y="35"/>
                        </a:lnTo>
                        <a:lnTo>
                          <a:pt x="183" y="63"/>
                        </a:lnTo>
                        <a:lnTo>
                          <a:pt x="161" y="95"/>
                        </a:lnTo>
                        <a:lnTo>
                          <a:pt x="135" y="144"/>
                        </a:lnTo>
                        <a:lnTo>
                          <a:pt x="121" y="190"/>
                        </a:lnTo>
                        <a:lnTo>
                          <a:pt x="114" y="236"/>
                        </a:lnTo>
                        <a:lnTo>
                          <a:pt x="103" y="288"/>
                        </a:lnTo>
                        <a:lnTo>
                          <a:pt x="103" y="334"/>
                        </a:lnTo>
                        <a:lnTo>
                          <a:pt x="88" y="387"/>
                        </a:lnTo>
                        <a:lnTo>
                          <a:pt x="70" y="434"/>
                        </a:lnTo>
                        <a:lnTo>
                          <a:pt x="48" y="466"/>
                        </a:lnTo>
                        <a:lnTo>
                          <a:pt x="26" y="487"/>
                        </a:lnTo>
                        <a:lnTo>
                          <a:pt x="4" y="512"/>
                        </a:lnTo>
                        <a:lnTo>
                          <a:pt x="4" y="519"/>
                        </a:lnTo>
                        <a:lnTo>
                          <a:pt x="0" y="540"/>
                        </a:lnTo>
                        <a:lnTo>
                          <a:pt x="0" y="575"/>
                        </a:lnTo>
                        <a:lnTo>
                          <a:pt x="11" y="603"/>
                        </a:lnTo>
                        <a:lnTo>
                          <a:pt x="30" y="621"/>
                        </a:lnTo>
                        <a:lnTo>
                          <a:pt x="88" y="621"/>
                        </a:lnTo>
                        <a:lnTo>
                          <a:pt x="135" y="628"/>
                        </a:lnTo>
                        <a:lnTo>
                          <a:pt x="183" y="660"/>
                        </a:lnTo>
                        <a:lnTo>
                          <a:pt x="234" y="674"/>
                        </a:lnTo>
                        <a:lnTo>
                          <a:pt x="278" y="674"/>
                        </a:lnTo>
                        <a:lnTo>
                          <a:pt x="314" y="652"/>
                        </a:lnTo>
                        <a:lnTo>
                          <a:pt x="329" y="621"/>
                        </a:lnTo>
                        <a:lnTo>
                          <a:pt x="325" y="578"/>
                        </a:lnTo>
                        <a:lnTo>
                          <a:pt x="307" y="547"/>
                        </a:lnTo>
                        <a:lnTo>
                          <a:pt x="303" y="515"/>
                        </a:lnTo>
                        <a:lnTo>
                          <a:pt x="307" y="483"/>
                        </a:lnTo>
                        <a:lnTo>
                          <a:pt x="336" y="455"/>
                        </a:lnTo>
                        <a:lnTo>
                          <a:pt x="369" y="445"/>
                        </a:lnTo>
                        <a:lnTo>
                          <a:pt x="391" y="427"/>
                        </a:lnTo>
                        <a:lnTo>
                          <a:pt x="409" y="399"/>
                        </a:lnTo>
                        <a:lnTo>
                          <a:pt x="413" y="352"/>
                        </a:lnTo>
                        <a:lnTo>
                          <a:pt x="413" y="331"/>
                        </a:lnTo>
                        <a:lnTo>
                          <a:pt x="439" y="324"/>
                        </a:lnTo>
                        <a:lnTo>
                          <a:pt x="464" y="303"/>
                        </a:lnTo>
                        <a:lnTo>
                          <a:pt x="479" y="267"/>
                        </a:lnTo>
                        <a:lnTo>
                          <a:pt x="493" y="218"/>
                        </a:lnTo>
                        <a:lnTo>
                          <a:pt x="486" y="158"/>
                        </a:lnTo>
                        <a:lnTo>
                          <a:pt x="475" y="123"/>
                        </a:lnTo>
                        <a:lnTo>
                          <a:pt x="442" y="98"/>
                        </a:lnTo>
                        <a:lnTo>
                          <a:pt x="519" y="123"/>
                        </a:lnTo>
                        <a:lnTo>
                          <a:pt x="546" y="162"/>
                        </a:lnTo>
                        <a:lnTo>
                          <a:pt x="574" y="185"/>
                        </a:lnTo>
                        <a:lnTo>
                          <a:pt x="579" y="199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4" name=""/>
                <p:cNvGrpSpPr/>
                <p:nvPr/>
              </p:nvGrpSpPr>
              <p:grpSpPr>
                <a:xfrm>
                  <a:off x="4922640" y="4904280"/>
                  <a:ext cx="43920" cy="42120"/>
                  <a:chOff x="4922640" y="4904280"/>
                  <a:chExt cx="43920" cy="42120"/>
                </a:xfrm>
              </p:grpSpPr>
              <p:sp>
                <p:nvSpPr>
                  <p:cNvPr id="1055" name=""/>
                  <p:cNvSpPr/>
                  <p:nvPr/>
                </p:nvSpPr>
                <p:spPr>
                  <a:xfrm flipV="1">
                    <a:off x="4963320" y="4921560"/>
                    <a:ext cx="3240" cy="720"/>
                  </a:xfrm>
                  <a:prstGeom prst="line">
                    <a:avLst/>
                  </a:prstGeom>
                  <a:ln w="324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56" name=""/>
                  <p:cNvGrpSpPr/>
                  <p:nvPr/>
                </p:nvGrpSpPr>
                <p:grpSpPr>
                  <a:xfrm>
                    <a:off x="4922640" y="4904280"/>
                    <a:ext cx="40680" cy="42120"/>
                    <a:chOff x="4922640" y="4904280"/>
                    <a:chExt cx="40680" cy="42120"/>
                  </a:xfrm>
                </p:grpSpPr>
                <p:sp>
                  <p:nvSpPr>
                    <p:cNvPr id="1057" name=""/>
                    <p:cNvSpPr/>
                    <p:nvPr/>
                  </p:nvSpPr>
                  <p:spPr>
                    <a:xfrm>
                      <a:off x="4922640" y="4928040"/>
                      <a:ext cx="28800" cy="1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" h="57">
                          <a:moveTo>
                            <a:pt x="12" y="0"/>
                          </a:moveTo>
                          <a:lnTo>
                            <a:pt x="30" y="16"/>
                          </a:lnTo>
                          <a:lnTo>
                            <a:pt x="45" y="25"/>
                          </a:lnTo>
                          <a:lnTo>
                            <a:pt x="56" y="31"/>
                          </a:lnTo>
                          <a:lnTo>
                            <a:pt x="71" y="37"/>
                          </a:lnTo>
                          <a:lnTo>
                            <a:pt x="84" y="39"/>
                          </a:lnTo>
                          <a:lnTo>
                            <a:pt x="95" y="37"/>
                          </a:lnTo>
                          <a:lnTo>
                            <a:pt x="99" y="57"/>
                          </a:lnTo>
                          <a:lnTo>
                            <a:pt x="83" y="57"/>
                          </a:lnTo>
                          <a:lnTo>
                            <a:pt x="71" y="56"/>
                          </a:lnTo>
                          <a:lnTo>
                            <a:pt x="55" y="49"/>
                          </a:lnTo>
                          <a:lnTo>
                            <a:pt x="40" y="38"/>
                          </a:lnTo>
                          <a:lnTo>
                            <a:pt x="27" y="29"/>
                          </a:lnTo>
                          <a:lnTo>
                            <a:pt x="0" y="5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7f3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680" bIns="-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8" name=""/>
                    <p:cNvSpPr/>
                    <p:nvPr/>
                  </p:nvSpPr>
                  <p:spPr>
                    <a:xfrm>
                      <a:off x="4946760" y="4904280"/>
                      <a:ext cx="16200" cy="42120"/>
                    </a:xfrm>
                    <a:prstGeom prst="ellipse">
                      <a:avLst/>
                    </a:prstGeom>
                    <a:solidFill>
                      <a:srgbClr val="7f3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9" name=""/>
                    <p:cNvSpPr/>
                    <p:nvPr/>
                  </p:nvSpPr>
                  <p:spPr>
                    <a:xfrm>
                      <a:off x="4948560" y="4905720"/>
                      <a:ext cx="14760" cy="39600"/>
                    </a:xfrm>
                    <a:prstGeom prst="ellipse">
                      <a:avLst/>
                    </a:prstGeom>
                    <a:solidFill>
                      <a:srgbClr val="ffd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060" name=""/>
            <p:cNvSpPr/>
            <p:nvPr/>
          </p:nvSpPr>
          <p:spPr>
            <a:xfrm flipH="1" rot="19674000">
              <a:off x="5195160" y="5105520"/>
              <a:ext cx="95400" cy="78840"/>
            </a:xfrm>
            <a:prstGeom prst="parallelogram">
              <a:avLst>
                <a:gd name="adj" fmla="val 189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5423040" y="5203800"/>
              <a:ext cx="293040" cy="113760"/>
              <a:chOff x="5423040" y="5203800"/>
              <a:chExt cx="293040" cy="113760"/>
            </a:xfrm>
          </p:grpSpPr>
          <p:sp>
            <p:nvSpPr>
              <p:cNvPr id="1062" name=""/>
              <p:cNvSpPr/>
              <p:nvPr/>
            </p:nvSpPr>
            <p:spPr>
              <a:xfrm flipV="1">
                <a:off x="5548680" y="5279400"/>
                <a:ext cx="125640" cy="37800"/>
              </a:xfrm>
              <a:custGeom>
                <a:avLst/>
                <a:gdLst>
                  <a:gd name="textAreaLeft" fmla="*/ 23760 w 125640"/>
                  <a:gd name="textAreaRight" fmla="*/ 101880 w 125640"/>
                  <a:gd name="textAreaTop" fmla="*/ 7200 h 37800"/>
                  <a:gd name="textAreaBottom" fmla="*/ 30600 h 3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326" y="21600"/>
                    </a:lnTo>
                    <a:lnTo>
                      <a:pt x="4274" y="2160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V="1">
                <a:off x="5590440" y="5241960"/>
                <a:ext cx="125640" cy="38160"/>
              </a:xfrm>
              <a:custGeom>
                <a:avLst/>
                <a:gdLst>
                  <a:gd name="textAreaLeft" fmla="*/ 23760 w 125640"/>
                  <a:gd name="textAreaRight" fmla="*/ 101880 w 125640"/>
                  <a:gd name="textAreaTop" fmla="*/ 7200 h 38160"/>
                  <a:gd name="textAreaBottom" fmla="*/ 30960 h 38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326" y="21600"/>
                    </a:lnTo>
                    <a:lnTo>
                      <a:pt x="4274" y="2160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V="1">
                <a:off x="5506560" y="5203800"/>
                <a:ext cx="125640" cy="38160"/>
              </a:xfrm>
              <a:custGeom>
                <a:avLst/>
                <a:gdLst>
                  <a:gd name="textAreaLeft" fmla="*/ 23760 w 125640"/>
                  <a:gd name="textAreaRight" fmla="*/ 101880 w 125640"/>
                  <a:gd name="textAreaTop" fmla="*/ 7200 h 38160"/>
                  <a:gd name="textAreaBottom" fmla="*/ 30960 h 38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326" y="21600"/>
                    </a:lnTo>
                    <a:lnTo>
                      <a:pt x="4274" y="2160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V="1">
                <a:off x="5423040" y="5241960"/>
                <a:ext cx="125640" cy="38160"/>
              </a:xfrm>
              <a:custGeom>
                <a:avLst/>
                <a:gdLst>
                  <a:gd name="textAreaLeft" fmla="*/ 23760 w 125640"/>
                  <a:gd name="textAreaRight" fmla="*/ 101880 w 125640"/>
                  <a:gd name="textAreaTop" fmla="*/ 7200 h 38160"/>
                  <a:gd name="textAreaBottom" fmla="*/ 30960 h 38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326" y="21600"/>
                    </a:lnTo>
                    <a:lnTo>
                      <a:pt x="4274" y="2160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6" name=""/>
            <p:cNvSpPr/>
            <p:nvPr/>
          </p:nvSpPr>
          <p:spPr>
            <a:xfrm>
              <a:off x="5235480" y="5067360"/>
              <a:ext cx="55800" cy="156960"/>
            </a:xfrm>
            <a:custGeom>
              <a:avLst/>
              <a:gdLst/>
              <a:ahLst/>
              <a:rect l="l" t="t" r="r" b="b"/>
              <a:pathLst>
                <a:path w="56" h="288">
                  <a:moveTo>
                    <a:pt x="56" y="0"/>
                  </a:moveTo>
                  <a:cubicBezTo>
                    <a:pt x="36" y="16"/>
                    <a:pt x="16" y="32"/>
                    <a:pt x="8" y="48"/>
                  </a:cubicBezTo>
                  <a:cubicBezTo>
                    <a:pt x="0" y="64"/>
                    <a:pt x="8" y="72"/>
                    <a:pt x="8" y="96"/>
                  </a:cubicBezTo>
                  <a:cubicBezTo>
                    <a:pt x="8" y="120"/>
                    <a:pt x="0" y="160"/>
                    <a:pt x="8" y="192"/>
                  </a:cubicBezTo>
                  <a:cubicBezTo>
                    <a:pt x="16" y="224"/>
                    <a:pt x="36" y="256"/>
                    <a:pt x="56" y="288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148360" y="5105520"/>
              <a:ext cx="142920" cy="46080"/>
            </a:xfrm>
            <a:custGeom>
              <a:avLst/>
              <a:gdLst/>
              <a:ahLst/>
              <a:rect l="l" t="t" r="r" b="b"/>
              <a:pathLst>
                <a:path w="144" h="56">
                  <a:moveTo>
                    <a:pt x="0" y="48"/>
                  </a:moveTo>
                  <a:cubicBezTo>
                    <a:pt x="12" y="52"/>
                    <a:pt x="24" y="56"/>
                    <a:pt x="48" y="48"/>
                  </a:cubicBezTo>
                  <a:cubicBezTo>
                    <a:pt x="72" y="40"/>
                    <a:pt x="108" y="20"/>
                    <a:pt x="144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"/>
            <p:cNvGrpSpPr/>
            <p:nvPr/>
          </p:nvGrpSpPr>
          <p:grpSpPr>
            <a:xfrm>
              <a:off x="5243400" y="4809960"/>
              <a:ext cx="430200" cy="382680"/>
              <a:chOff x="5243400" y="4809960"/>
              <a:chExt cx="430200" cy="382680"/>
            </a:xfrm>
          </p:grpSpPr>
          <p:grpSp>
            <p:nvGrpSpPr>
              <p:cNvPr id="1069" name=""/>
              <p:cNvGrpSpPr/>
              <p:nvPr/>
            </p:nvGrpSpPr>
            <p:grpSpPr>
              <a:xfrm>
                <a:off x="5298480" y="4809960"/>
                <a:ext cx="375120" cy="371160"/>
                <a:chOff x="5298480" y="4809960"/>
                <a:chExt cx="375120" cy="371160"/>
              </a:xfrm>
            </p:grpSpPr>
            <p:sp>
              <p:nvSpPr>
                <p:cNvPr id="1070" name=""/>
                <p:cNvSpPr/>
                <p:nvPr/>
              </p:nvSpPr>
              <p:spPr>
                <a:xfrm>
                  <a:off x="5298480" y="4948200"/>
                  <a:ext cx="375120" cy="232920"/>
                </a:xfrm>
                <a:custGeom>
                  <a:avLst/>
                  <a:gdLst/>
                  <a:ahLst/>
                  <a:rect l="l" t="t" r="r" b="b"/>
                  <a:pathLst>
                    <a:path w="1286" h="882">
                      <a:moveTo>
                        <a:pt x="764" y="8"/>
                      </a:moveTo>
                      <a:lnTo>
                        <a:pt x="830" y="0"/>
                      </a:lnTo>
                      <a:lnTo>
                        <a:pt x="896" y="8"/>
                      </a:lnTo>
                      <a:lnTo>
                        <a:pt x="929" y="22"/>
                      </a:lnTo>
                      <a:lnTo>
                        <a:pt x="1005" y="79"/>
                      </a:lnTo>
                      <a:lnTo>
                        <a:pt x="1053" y="125"/>
                      </a:lnTo>
                      <a:lnTo>
                        <a:pt x="1104" y="191"/>
                      </a:lnTo>
                      <a:lnTo>
                        <a:pt x="1148" y="258"/>
                      </a:lnTo>
                      <a:lnTo>
                        <a:pt x="1181" y="311"/>
                      </a:lnTo>
                      <a:lnTo>
                        <a:pt x="1195" y="339"/>
                      </a:lnTo>
                      <a:lnTo>
                        <a:pt x="1217" y="424"/>
                      </a:lnTo>
                      <a:lnTo>
                        <a:pt x="1246" y="554"/>
                      </a:lnTo>
                      <a:lnTo>
                        <a:pt x="1265" y="646"/>
                      </a:lnTo>
                      <a:lnTo>
                        <a:pt x="1276" y="766"/>
                      </a:lnTo>
                      <a:lnTo>
                        <a:pt x="1286" y="864"/>
                      </a:lnTo>
                      <a:lnTo>
                        <a:pt x="1013" y="868"/>
                      </a:lnTo>
                      <a:lnTo>
                        <a:pt x="845" y="878"/>
                      </a:lnTo>
                      <a:lnTo>
                        <a:pt x="713" y="882"/>
                      </a:lnTo>
                      <a:lnTo>
                        <a:pt x="343" y="864"/>
                      </a:lnTo>
                      <a:lnTo>
                        <a:pt x="197" y="857"/>
                      </a:lnTo>
                      <a:lnTo>
                        <a:pt x="76" y="850"/>
                      </a:lnTo>
                      <a:lnTo>
                        <a:pt x="80" y="811"/>
                      </a:lnTo>
                      <a:lnTo>
                        <a:pt x="65" y="769"/>
                      </a:lnTo>
                      <a:lnTo>
                        <a:pt x="29" y="741"/>
                      </a:lnTo>
                      <a:lnTo>
                        <a:pt x="0" y="723"/>
                      </a:lnTo>
                      <a:lnTo>
                        <a:pt x="153" y="671"/>
                      </a:lnTo>
                      <a:lnTo>
                        <a:pt x="281" y="621"/>
                      </a:lnTo>
                      <a:lnTo>
                        <a:pt x="336" y="597"/>
                      </a:lnTo>
                      <a:lnTo>
                        <a:pt x="383" y="575"/>
                      </a:lnTo>
                      <a:lnTo>
                        <a:pt x="416" y="530"/>
                      </a:lnTo>
                      <a:lnTo>
                        <a:pt x="423" y="512"/>
                      </a:lnTo>
                      <a:lnTo>
                        <a:pt x="427" y="473"/>
                      </a:lnTo>
                      <a:lnTo>
                        <a:pt x="431" y="449"/>
                      </a:lnTo>
                      <a:lnTo>
                        <a:pt x="445" y="403"/>
                      </a:lnTo>
                      <a:lnTo>
                        <a:pt x="453" y="382"/>
                      </a:lnTo>
                      <a:lnTo>
                        <a:pt x="456" y="346"/>
                      </a:lnTo>
                      <a:lnTo>
                        <a:pt x="464" y="294"/>
                      </a:lnTo>
                      <a:lnTo>
                        <a:pt x="482" y="262"/>
                      </a:lnTo>
                      <a:lnTo>
                        <a:pt x="482" y="227"/>
                      </a:lnTo>
                      <a:lnTo>
                        <a:pt x="573" y="125"/>
                      </a:lnTo>
                      <a:lnTo>
                        <a:pt x="591" y="142"/>
                      </a:lnTo>
                      <a:lnTo>
                        <a:pt x="764" y="8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5546520" y="5004000"/>
                  <a:ext cx="73440" cy="176400"/>
                </a:xfrm>
                <a:custGeom>
                  <a:avLst/>
                  <a:gdLst/>
                  <a:ahLst/>
                  <a:rect l="l" t="t" r="r" b="b"/>
                  <a:pathLst>
                    <a:path w="252" h="669">
                      <a:moveTo>
                        <a:pt x="197" y="0"/>
                      </a:moveTo>
                      <a:lnTo>
                        <a:pt x="223" y="25"/>
                      </a:lnTo>
                      <a:lnTo>
                        <a:pt x="230" y="81"/>
                      </a:lnTo>
                      <a:lnTo>
                        <a:pt x="230" y="141"/>
                      </a:lnTo>
                      <a:lnTo>
                        <a:pt x="230" y="180"/>
                      </a:lnTo>
                      <a:lnTo>
                        <a:pt x="252" y="201"/>
                      </a:lnTo>
                      <a:lnTo>
                        <a:pt x="234" y="211"/>
                      </a:lnTo>
                      <a:lnTo>
                        <a:pt x="230" y="250"/>
                      </a:lnTo>
                      <a:lnTo>
                        <a:pt x="219" y="271"/>
                      </a:lnTo>
                      <a:lnTo>
                        <a:pt x="212" y="303"/>
                      </a:lnTo>
                      <a:lnTo>
                        <a:pt x="201" y="317"/>
                      </a:lnTo>
                      <a:lnTo>
                        <a:pt x="201" y="352"/>
                      </a:lnTo>
                      <a:lnTo>
                        <a:pt x="186" y="388"/>
                      </a:lnTo>
                      <a:lnTo>
                        <a:pt x="183" y="447"/>
                      </a:lnTo>
                      <a:lnTo>
                        <a:pt x="172" y="507"/>
                      </a:lnTo>
                      <a:lnTo>
                        <a:pt x="164" y="521"/>
                      </a:lnTo>
                      <a:lnTo>
                        <a:pt x="164" y="543"/>
                      </a:lnTo>
                      <a:lnTo>
                        <a:pt x="146" y="546"/>
                      </a:lnTo>
                      <a:lnTo>
                        <a:pt x="146" y="560"/>
                      </a:lnTo>
                      <a:lnTo>
                        <a:pt x="139" y="581"/>
                      </a:lnTo>
                      <a:lnTo>
                        <a:pt x="117" y="606"/>
                      </a:lnTo>
                      <a:lnTo>
                        <a:pt x="95" y="634"/>
                      </a:lnTo>
                      <a:lnTo>
                        <a:pt x="80" y="669"/>
                      </a:lnTo>
                      <a:lnTo>
                        <a:pt x="18" y="669"/>
                      </a:lnTo>
                      <a:lnTo>
                        <a:pt x="117" y="585"/>
                      </a:lnTo>
                      <a:lnTo>
                        <a:pt x="135" y="550"/>
                      </a:lnTo>
                      <a:lnTo>
                        <a:pt x="128" y="514"/>
                      </a:lnTo>
                      <a:lnTo>
                        <a:pt x="150" y="497"/>
                      </a:lnTo>
                      <a:lnTo>
                        <a:pt x="150" y="388"/>
                      </a:lnTo>
                      <a:lnTo>
                        <a:pt x="84" y="377"/>
                      </a:lnTo>
                      <a:lnTo>
                        <a:pt x="44" y="366"/>
                      </a:lnTo>
                      <a:lnTo>
                        <a:pt x="0" y="352"/>
                      </a:lnTo>
                      <a:lnTo>
                        <a:pt x="139" y="349"/>
                      </a:lnTo>
                      <a:lnTo>
                        <a:pt x="161" y="338"/>
                      </a:lnTo>
                      <a:lnTo>
                        <a:pt x="157" y="317"/>
                      </a:lnTo>
                      <a:lnTo>
                        <a:pt x="117" y="310"/>
                      </a:lnTo>
                      <a:lnTo>
                        <a:pt x="73" y="307"/>
                      </a:lnTo>
                      <a:lnTo>
                        <a:pt x="131" y="292"/>
                      </a:lnTo>
                      <a:lnTo>
                        <a:pt x="146" y="282"/>
                      </a:lnTo>
                      <a:lnTo>
                        <a:pt x="95" y="233"/>
                      </a:lnTo>
                      <a:lnTo>
                        <a:pt x="47" y="208"/>
                      </a:lnTo>
                      <a:lnTo>
                        <a:pt x="18" y="176"/>
                      </a:lnTo>
                      <a:lnTo>
                        <a:pt x="7" y="169"/>
                      </a:lnTo>
                      <a:lnTo>
                        <a:pt x="40" y="166"/>
                      </a:lnTo>
                      <a:lnTo>
                        <a:pt x="80" y="183"/>
                      </a:lnTo>
                      <a:lnTo>
                        <a:pt x="131" y="211"/>
                      </a:lnTo>
                      <a:lnTo>
                        <a:pt x="175" y="229"/>
                      </a:lnTo>
                      <a:lnTo>
                        <a:pt x="201" y="222"/>
                      </a:lnTo>
                      <a:lnTo>
                        <a:pt x="215" y="194"/>
                      </a:lnTo>
                      <a:lnTo>
                        <a:pt x="215" y="134"/>
                      </a:lnTo>
                      <a:lnTo>
                        <a:pt x="197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5341320" y="5050800"/>
                  <a:ext cx="145800" cy="122040"/>
                </a:xfrm>
                <a:custGeom>
                  <a:avLst/>
                  <a:gdLst/>
                  <a:ahLst/>
                  <a:rect l="l" t="t" r="r" b="b"/>
                  <a:pathLst>
                    <a:path w="501" h="462">
                      <a:moveTo>
                        <a:pt x="0" y="462"/>
                      </a:moveTo>
                      <a:lnTo>
                        <a:pt x="314" y="356"/>
                      </a:lnTo>
                      <a:lnTo>
                        <a:pt x="339" y="335"/>
                      </a:lnTo>
                      <a:lnTo>
                        <a:pt x="365" y="300"/>
                      </a:lnTo>
                      <a:lnTo>
                        <a:pt x="369" y="264"/>
                      </a:lnTo>
                      <a:lnTo>
                        <a:pt x="372" y="162"/>
                      </a:lnTo>
                      <a:lnTo>
                        <a:pt x="383" y="233"/>
                      </a:lnTo>
                      <a:lnTo>
                        <a:pt x="405" y="250"/>
                      </a:lnTo>
                      <a:lnTo>
                        <a:pt x="420" y="194"/>
                      </a:lnTo>
                      <a:lnTo>
                        <a:pt x="434" y="141"/>
                      </a:lnTo>
                      <a:lnTo>
                        <a:pt x="487" y="0"/>
                      </a:lnTo>
                      <a:lnTo>
                        <a:pt x="454" y="120"/>
                      </a:lnTo>
                      <a:lnTo>
                        <a:pt x="434" y="194"/>
                      </a:lnTo>
                      <a:lnTo>
                        <a:pt x="423" y="250"/>
                      </a:lnTo>
                      <a:lnTo>
                        <a:pt x="405" y="286"/>
                      </a:lnTo>
                      <a:lnTo>
                        <a:pt x="383" y="314"/>
                      </a:lnTo>
                      <a:lnTo>
                        <a:pt x="409" y="335"/>
                      </a:lnTo>
                      <a:lnTo>
                        <a:pt x="442" y="331"/>
                      </a:lnTo>
                      <a:lnTo>
                        <a:pt x="501" y="282"/>
                      </a:lnTo>
                      <a:lnTo>
                        <a:pt x="423" y="370"/>
                      </a:lnTo>
                      <a:lnTo>
                        <a:pt x="343" y="388"/>
                      </a:lnTo>
                      <a:lnTo>
                        <a:pt x="252" y="405"/>
                      </a:lnTo>
                      <a:lnTo>
                        <a:pt x="164" y="423"/>
                      </a:lnTo>
                      <a:lnTo>
                        <a:pt x="66" y="444"/>
                      </a:lnTo>
                      <a:lnTo>
                        <a:pt x="0" y="462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5470560" y="4966560"/>
                  <a:ext cx="114120" cy="202680"/>
                </a:xfrm>
                <a:custGeom>
                  <a:avLst/>
                  <a:gdLst/>
                  <a:ahLst/>
                  <a:rect l="l" t="t" r="r" b="b"/>
                  <a:pathLst>
                    <a:path w="392" h="768">
                      <a:moveTo>
                        <a:pt x="392" y="7"/>
                      </a:moveTo>
                      <a:lnTo>
                        <a:pt x="312" y="0"/>
                      </a:lnTo>
                      <a:lnTo>
                        <a:pt x="268" y="7"/>
                      </a:lnTo>
                      <a:lnTo>
                        <a:pt x="195" y="78"/>
                      </a:lnTo>
                      <a:lnTo>
                        <a:pt x="126" y="162"/>
                      </a:lnTo>
                      <a:lnTo>
                        <a:pt x="86" y="328"/>
                      </a:lnTo>
                      <a:lnTo>
                        <a:pt x="71" y="374"/>
                      </a:lnTo>
                      <a:lnTo>
                        <a:pt x="56" y="507"/>
                      </a:lnTo>
                      <a:lnTo>
                        <a:pt x="49" y="603"/>
                      </a:lnTo>
                      <a:lnTo>
                        <a:pt x="0" y="662"/>
                      </a:lnTo>
                      <a:lnTo>
                        <a:pt x="108" y="768"/>
                      </a:lnTo>
                      <a:lnTo>
                        <a:pt x="56" y="691"/>
                      </a:lnTo>
                      <a:lnTo>
                        <a:pt x="67" y="684"/>
                      </a:lnTo>
                      <a:lnTo>
                        <a:pt x="140" y="722"/>
                      </a:lnTo>
                      <a:lnTo>
                        <a:pt x="228" y="743"/>
                      </a:lnTo>
                      <a:lnTo>
                        <a:pt x="111" y="698"/>
                      </a:lnTo>
                      <a:lnTo>
                        <a:pt x="67" y="659"/>
                      </a:lnTo>
                      <a:lnTo>
                        <a:pt x="67" y="620"/>
                      </a:lnTo>
                      <a:lnTo>
                        <a:pt x="140" y="617"/>
                      </a:lnTo>
                      <a:lnTo>
                        <a:pt x="64" y="599"/>
                      </a:lnTo>
                      <a:lnTo>
                        <a:pt x="71" y="507"/>
                      </a:lnTo>
                      <a:lnTo>
                        <a:pt x="89" y="356"/>
                      </a:lnTo>
                      <a:lnTo>
                        <a:pt x="148" y="166"/>
                      </a:lnTo>
                      <a:lnTo>
                        <a:pt x="188" y="106"/>
                      </a:lnTo>
                      <a:lnTo>
                        <a:pt x="268" y="28"/>
                      </a:lnTo>
                      <a:lnTo>
                        <a:pt x="312" y="18"/>
                      </a:lnTo>
                      <a:lnTo>
                        <a:pt x="392" y="7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74" name=""/>
                <p:cNvGrpSpPr/>
                <p:nvPr/>
              </p:nvGrpSpPr>
              <p:grpSpPr>
                <a:xfrm>
                  <a:off x="5375880" y="4809960"/>
                  <a:ext cx="186120" cy="255600"/>
                  <a:chOff x="5375880" y="4809960"/>
                  <a:chExt cx="186120" cy="255600"/>
                </a:xfrm>
              </p:grpSpPr>
              <p:sp>
                <p:nvSpPr>
                  <p:cNvPr id="1075" name=""/>
                  <p:cNvSpPr/>
                  <p:nvPr/>
                </p:nvSpPr>
                <p:spPr>
                  <a:xfrm>
                    <a:off x="5455440" y="4947480"/>
                    <a:ext cx="6696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1" h="229">
                        <a:moveTo>
                          <a:pt x="202" y="0"/>
                        </a:moveTo>
                        <a:lnTo>
                          <a:pt x="44" y="135"/>
                        </a:lnTo>
                        <a:lnTo>
                          <a:pt x="33" y="118"/>
                        </a:lnTo>
                        <a:lnTo>
                          <a:pt x="8" y="174"/>
                        </a:lnTo>
                        <a:lnTo>
                          <a:pt x="0" y="206"/>
                        </a:lnTo>
                        <a:lnTo>
                          <a:pt x="18" y="188"/>
                        </a:lnTo>
                        <a:lnTo>
                          <a:pt x="35" y="151"/>
                        </a:lnTo>
                        <a:lnTo>
                          <a:pt x="69" y="229"/>
                        </a:lnTo>
                        <a:lnTo>
                          <a:pt x="122" y="169"/>
                        </a:lnTo>
                        <a:lnTo>
                          <a:pt x="180" y="76"/>
                        </a:lnTo>
                        <a:lnTo>
                          <a:pt x="231" y="16"/>
                        </a:lnTo>
                        <a:lnTo>
                          <a:pt x="20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5454360" y="4987080"/>
                    <a:ext cx="1908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286">
                        <a:moveTo>
                          <a:pt x="37" y="0"/>
                        </a:moveTo>
                        <a:lnTo>
                          <a:pt x="26" y="13"/>
                        </a:lnTo>
                        <a:lnTo>
                          <a:pt x="19" y="23"/>
                        </a:lnTo>
                        <a:lnTo>
                          <a:pt x="13" y="37"/>
                        </a:lnTo>
                        <a:lnTo>
                          <a:pt x="6" y="60"/>
                        </a:lnTo>
                        <a:lnTo>
                          <a:pt x="4" y="83"/>
                        </a:lnTo>
                        <a:lnTo>
                          <a:pt x="6" y="105"/>
                        </a:lnTo>
                        <a:lnTo>
                          <a:pt x="10" y="129"/>
                        </a:lnTo>
                        <a:lnTo>
                          <a:pt x="14" y="142"/>
                        </a:lnTo>
                        <a:lnTo>
                          <a:pt x="2" y="195"/>
                        </a:lnTo>
                        <a:lnTo>
                          <a:pt x="0" y="218"/>
                        </a:lnTo>
                        <a:lnTo>
                          <a:pt x="0" y="247"/>
                        </a:lnTo>
                        <a:lnTo>
                          <a:pt x="4" y="286"/>
                        </a:lnTo>
                        <a:lnTo>
                          <a:pt x="25" y="198"/>
                        </a:lnTo>
                        <a:lnTo>
                          <a:pt x="36" y="139"/>
                        </a:lnTo>
                        <a:lnTo>
                          <a:pt x="66" y="65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5455440" y="4987080"/>
                    <a:ext cx="1728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151">
                        <a:moveTo>
                          <a:pt x="33" y="0"/>
                        </a:moveTo>
                        <a:lnTo>
                          <a:pt x="22" y="13"/>
                        </a:lnTo>
                        <a:lnTo>
                          <a:pt x="14" y="23"/>
                        </a:lnTo>
                        <a:lnTo>
                          <a:pt x="8" y="37"/>
                        </a:lnTo>
                        <a:lnTo>
                          <a:pt x="2" y="60"/>
                        </a:lnTo>
                        <a:lnTo>
                          <a:pt x="0" y="83"/>
                        </a:lnTo>
                        <a:lnTo>
                          <a:pt x="2" y="106"/>
                        </a:lnTo>
                        <a:lnTo>
                          <a:pt x="6" y="129"/>
                        </a:lnTo>
                        <a:lnTo>
                          <a:pt x="10" y="142"/>
                        </a:lnTo>
                        <a:lnTo>
                          <a:pt x="27" y="151"/>
                        </a:lnTo>
                        <a:lnTo>
                          <a:pt x="31" y="136"/>
                        </a:lnTo>
                        <a:lnTo>
                          <a:pt x="62" y="66"/>
                        </a:lnTo>
                        <a:lnTo>
                          <a:pt x="33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78" name=""/>
                  <p:cNvGrpSpPr/>
                  <p:nvPr/>
                </p:nvGrpSpPr>
                <p:grpSpPr>
                  <a:xfrm>
                    <a:off x="5375880" y="4809960"/>
                    <a:ext cx="186120" cy="177120"/>
                    <a:chOff x="5375880" y="4809960"/>
                    <a:chExt cx="186120" cy="177120"/>
                  </a:xfrm>
                </p:grpSpPr>
                <p:grpSp>
                  <p:nvGrpSpPr>
                    <p:cNvPr id="1079" name=""/>
                    <p:cNvGrpSpPr/>
                    <p:nvPr/>
                  </p:nvGrpSpPr>
                  <p:grpSpPr>
                    <a:xfrm>
                      <a:off x="5394960" y="4828680"/>
                      <a:ext cx="137880" cy="158400"/>
                      <a:chOff x="5394960" y="4828680"/>
                      <a:chExt cx="137880" cy="158400"/>
                    </a:xfrm>
                  </p:grpSpPr>
                  <p:sp>
                    <p:nvSpPr>
                      <p:cNvPr id="1080" name=""/>
                      <p:cNvSpPr/>
                      <p:nvPr/>
                    </p:nvSpPr>
                    <p:spPr>
                      <a:xfrm>
                        <a:off x="5394960" y="4828680"/>
                        <a:ext cx="137880" cy="158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4" h="598">
                            <a:moveTo>
                              <a:pt x="148" y="17"/>
                            </a:moveTo>
                            <a:lnTo>
                              <a:pt x="114" y="36"/>
                            </a:lnTo>
                            <a:lnTo>
                              <a:pt x="82" y="56"/>
                            </a:lnTo>
                            <a:lnTo>
                              <a:pt x="59" y="75"/>
                            </a:lnTo>
                            <a:lnTo>
                              <a:pt x="37" y="95"/>
                            </a:lnTo>
                            <a:lnTo>
                              <a:pt x="20" y="116"/>
                            </a:lnTo>
                            <a:lnTo>
                              <a:pt x="9" y="138"/>
                            </a:lnTo>
                            <a:lnTo>
                              <a:pt x="5" y="162"/>
                            </a:lnTo>
                            <a:lnTo>
                              <a:pt x="2" y="188"/>
                            </a:lnTo>
                            <a:lnTo>
                              <a:pt x="0" y="219"/>
                            </a:lnTo>
                            <a:lnTo>
                              <a:pt x="4" y="248"/>
                            </a:lnTo>
                            <a:lnTo>
                              <a:pt x="0" y="286"/>
                            </a:lnTo>
                            <a:lnTo>
                              <a:pt x="16" y="297"/>
                            </a:lnTo>
                            <a:lnTo>
                              <a:pt x="30" y="307"/>
                            </a:lnTo>
                            <a:lnTo>
                              <a:pt x="31" y="317"/>
                            </a:lnTo>
                            <a:lnTo>
                              <a:pt x="31" y="332"/>
                            </a:lnTo>
                            <a:lnTo>
                              <a:pt x="26" y="350"/>
                            </a:lnTo>
                            <a:lnTo>
                              <a:pt x="11" y="398"/>
                            </a:lnTo>
                            <a:lnTo>
                              <a:pt x="11" y="419"/>
                            </a:lnTo>
                            <a:lnTo>
                              <a:pt x="23" y="424"/>
                            </a:lnTo>
                            <a:lnTo>
                              <a:pt x="42" y="424"/>
                            </a:lnTo>
                            <a:lnTo>
                              <a:pt x="55" y="424"/>
                            </a:lnTo>
                            <a:lnTo>
                              <a:pt x="77" y="481"/>
                            </a:lnTo>
                            <a:lnTo>
                              <a:pt x="78" y="502"/>
                            </a:lnTo>
                            <a:lnTo>
                              <a:pt x="86" y="512"/>
                            </a:lnTo>
                            <a:lnTo>
                              <a:pt x="95" y="515"/>
                            </a:lnTo>
                            <a:lnTo>
                              <a:pt x="96" y="527"/>
                            </a:lnTo>
                            <a:lnTo>
                              <a:pt x="95" y="543"/>
                            </a:lnTo>
                            <a:lnTo>
                              <a:pt x="104" y="569"/>
                            </a:lnTo>
                            <a:lnTo>
                              <a:pt x="115" y="586"/>
                            </a:lnTo>
                            <a:lnTo>
                              <a:pt x="126" y="593"/>
                            </a:lnTo>
                            <a:lnTo>
                              <a:pt x="151" y="598"/>
                            </a:lnTo>
                            <a:lnTo>
                              <a:pt x="172" y="596"/>
                            </a:lnTo>
                            <a:lnTo>
                              <a:pt x="201" y="583"/>
                            </a:lnTo>
                            <a:lnTo>
                              <a:pt x="235" y="565"/>
                            </a:lnTo>
                            <a:lnTo>
                              <a:pt x="250" y="582"/>
                            </a:lnTo>
                            <a:lnTo>
                              <a:pt x="456" y="423"/>
                            </a:lnTo>
                            <a:lnTo>
                              <a:pt x="443" y="396"/>
                            </a:lnTo>
                            <a:lnTo>
                              <a:pt x="456" y="359"/>
                            </a:lnTo>
                            <a:lnTo>
                              <a:pt x="469" y="311"/>
                            </a:lnTo>
                            <a:lnTo>
                              <a:pt x="474" y="250"/>
                            </a:lnTo>
                            <a:lnTo>
                              <a:pt x="473" y="204"/>
                            </a:lnTo>
                            <a:lnTo>
                              <a:pt x="459" y="128"/>
                            </a:lnTo>
                            <a:lnTo>
                              <a:pt x="440" y="60"/>
                            </a:lnTo>
                            <a:lnTo>
                              <a:pt x="418" y="10"/>
                            </a:lnTo>
                            <a:lnTo>
                              <a:pt x="335" y="0"/>
                            </a:lnTo>
                            <a:lnTo>
                              <a:pt x="208" y="1"/>
                            </a:lnTo>
                            <a:lnTo>
                              <a:pt x="148" y="17"/>
                            </a:lnTo>
                            <a:close/>
                          </a:path>
                        </a:pathLst>
                      </a:custGeom>
                      <a:solidFill>
                        <a:srgbClr val="ffb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081" name=""/>
                      <p:cNvGrpSpPr/>
                      <p:nvPr/>
                    </p:nvGrpSpPr>
                    <p:grpSpPr>
                      <a:xfrm>
                        <a:off x="5449680" y="4908600"/>
                        <a:ext cx="23400" cy="37080"/>
                        <a:chOff x="5449680" y="4908600"/>
                        <a:chExt cx="23400" cy="37080"/>
                      </a:xfrm>
                    </p:grpSpPr>
                    <p:sp>
                      <p:nvSpPr>
                        <p:cNvPr id="1082" name=""/>
                        <p:cNvSpPr/>
                        <p:nvPr/>
                      </p:nvSpPr>
                      <p:spPr>
                        <a:xfrm>
                          <a:off x="5449680" y="4908600"/>
                          <a:ext cx="1836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89">
                              <a:moveTo>
                                <a:pt x="0" y="37"/>
                              </a:moveTo>
                              <a:lnTo>
                                <a:pt x="6" y="18"/>
                              </a:lnTo>
                              <a:lnTo>
                                <a:pt x="11" y="5"/>
                              </a:lnTo>
                              <a:lnTo>
                                <a:pt x="16" y="2"/>
                              </a:lnTo>
                              <a:lnTo>
                                <a:pt x="24" y="0"/>
                              </a:lnTo>
                              <a:lnTo>
                                <a:pt x="34" y="0"/>
                              </a:lnTo>
                              <a:lnTo>
                                <a:pt x="44" y="2"/>
                              </a:lnTo>
                              <a:lnTo>
                                <a:pt x="51" y="7"/>
                              </a:lnTo>
                              <a:lnTo>
                                <a:pt x="56" y="16"/>
                              </a:lnTo>
                              <a:lnTo>
                                <a:pt x="60" y="31"/>
                              </a:lnTo>
                              <a:lnTo>
                                <a:pt x="61" y="44"/>
                              </a:lnTo>
                              <a:lnTo>
                                <a:pt x="58" y="62"/>
                              </a:lnTo>
                              <a:lnTo>
                                <a:pt x="55" y="78"/>
                              </a:lnTo>
                              <a:lnTo>
                                <a:pt x="47" y="89"/>
                              </a:lnTo>
                              <a:lnTo>
                                <a:pt x="44" y="76"/>
                              </a:lnTo>
                              <a:lnTo>
                                <a:pt x="51" y="64"/>
                              </a:lnTo>
                              <a:lnTo>
                                <a:pt x="46" y="49"/>
                              </a:lnTo>
                              <a:lnTo>
                                <a:pt x="40" y="55"/>
                              </a:lnTo>
                              <a:lnTo>
                                <a:pt x="27" y="61"/>
                              </a:lnTo>
                              <a:lnTo>
                                <a:pt x="22" y="48"/>
                              </a:lnTo>
                              <a:lnTo>
                                <a:pt x="33" y="43"/>
                              </a:lnTo>
                              <a:lnTo>
                                <a:pt x="44" y="41"/>
                              </a:lnTo>
                              <a:lnTo>
                                <a:pt x="44" y="32"/>
                              </a:lnTo>
                              <a:lnTo>
                                <a:pt x="43" y="22"/>
                              </a:lnTo>
                              <a:lnTo>
                                <a:pt x="49" y="23"/>
                              </a:lnTo>
                              <a:lnTo>
                                <a:pt x="47" y="10"/>
                              </a:lnTo>
                              <a:lnTo>
                                <a:pt x="45" y="7"/>
                              </a:lnTo>
                              <a:lnTo>
                                <a:pt x="35" y="5"/>
                              </a:lnTo>
                              <a:lnTo>
                                <a:pt x="18" y="7"/>
                              </a:lnTo>
                              <a:lnTo>
                                <a:pt x="10" y="20"/>
                              </a:lnTo>
                              <a:lnTo>
                                <a:pt x="0" y="3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3" name=""/>
                        <p:cNvSpPr/>
                        <p:nvPr/>
                      </p:nvSpPr>
                      <p:spPr>
                        <a:xfrm>
                          <a:off x="5457600" y="4932360"/>
                          <a:ext cx="15480" cy="1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" h="50">
                              <a:moveTo>
                                <a:pt x="40" y="0"/>
                              </a:moveTo>
                              <a:lnTo>
                                <a:pt x="32" y="17"/>
                              </a:lnTo>
                              <a:lnTo>
                                <a:pt x="29" y="25"/>
                              </a:lnTo>
                              <a:lnTo>
                                <a:pt x="21" y="31"/>
                              </a:lnTo>
                              <a:lnTo>
                                <a:pt x="12" y="32"/>
                              </a:lnTo>
                              <a:lnTo>
                                <a:pt x="0" y="32"/>
                              </a:lnTo>
                              <a:lnTo>
                                <a:pt x="26" y="35"/>
                              </a:lnTo>
                              <a:lnTo>
                                <a:pt x="42" y="42"/>
                              </a:lnTo>
                              <a:lnTo>
                                <a:pt x="54" y="50"/>
                              </a:lnTo>
                              <a:lnTo>
                                <a:pt x="43" y="33"/>
                              </a:lnTo>
                              <a:lnTo>
                                <a:pt x="41" y="17"/>
                              </a:lnTo>
                              <a:lnTo>
                                <a:pt x="4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480" bIns="-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084" name=""/>
                      <p:cNvSpPr/>
                      <p:nvPr/>
                    </p:nvSpPr>
                    <p:spPr>
                      <a:xfrm>
                        <a:off x="5418360" y="4930920"/>
                        <a:ext cx="1296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" h="67">
                            <a:moveTo>
                              <a:pt x="8" y="0"/>
                            </a:moveTo>
                            <a:lnTo>
                              <a:pt x="14" y="6"/>
                            </a:lnTo>
                            <a:lnTo>
                              <a:pt x="15" y="13"/>
                            </a:lnTo>
                            <a:lnTo>
                              <a:pt x="13" y="19"/>
                            </a:lnTo>
                            <a:lnTo>
                              <a:pt x="8" y="25"/>
                            </a:lnTo>
                            <a:lnTo>
                              <a:pt x="0" y="30"/>
                            </a:lnTo>
                            <a:lnTo>
                              <a:pt x="7" y="35"/>
                            </a:lnTo>
                            <a:lnTo>
                              <a:pt x="17" y="38"/>
                            </a:lnTo>
                            <a:lnTo>
                              <a:pt x="27" y="43"/>
                            </a:lnTo>
                            <a:lnTo>
                              <a:pt x="47" y="67"/>
                            </a:lnTo>
                            <a:lnTo>
                              <a:pt x="22" y="29"/>
                            </a:lnTo>
                            <a:lnTo>
                              <a:pt x="19" y="21"/>
                            </a:lnTo>
                            <a:lnTo>
                              <a:pt x="19" y="12"/>
                            </a:lnTo>
                            <a:lnTo>
                              <a:pt x="21" y="7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df9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85" name=""/>
                    <p:cNvGrpSpPr/>
                    <p:nvPr/>
                  </p:nvGrpSpPr>
                  <p:grpSpPr>
                    <a:xfrm>
                      <a:off x="5375880" y="4809960"/>
                      <a:ext cx="186120" cy="177120"/>
                      <a:chOff x="5375880" y="4809960"/>
                      <a:chExt cx="186120" cy="177120"/>
                    </a:xfrm>
                  </p:grpSpPr>
                  <p:sp>
                    <p:nvSpPr>
                      <p:cNvPr id="1086" name=""/>
                      <p:cNvSpPr/>
                      <p:nvPr/>
                    </p:nvSpPr>
                    <p:spPr>
                      <a:xfrm>
                        <a:off x="5375880" y="4809960"/>
                        <a:ext cx="186120" cy="177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0" h="673">
                            <a:moveTo>
                              <a:pt x="307" y="0"/>
                            </a:moveTo>
                            <a:lnTo>
                              <a:pt x="278" y="1"/>
                            </a:lnTo>
                            <a:lnTo>
                              <a:pt x="256" y="5"/>
                            </a:lnTo>
                            <a:lnTo>
                              <a:pt x="231" y="10"/>
                            </a:lnTo>
                            <a:lnTo>
                              <a:pt x="203" y="20"/>
                            </a:lnTo>
                            <a:lnTo>
                              <a:pt x="180" y="29"/>
                            </a:lnTo>
                            <a:lnTo>
                              <a:pt x="154" y="51"/>
                            </a:lnTo>
                            <a:lnTo>
                              <a:pt x="129" y="74"/>
                            </a:lnTo>
                            <a:lnTo>
                              <a:pt x="106" y="98"/>
                            </a:lnTo>
                            <a:lnTo>
                              <a:pt x="55" y="130"/>
                            </a:lnTo>
                            <a:lnTo>
                              <a:pt x="37" y="142"/>
                            </a:lnTo>
                            <a:lnTo>
                              <a:pt x="23" y="155"/>
                            </a:lnTo>
                            <a:lnTo>
                              <a:pt x="15" y="167"/>
                            </a:lnTo>
                            <a:lnTo>
                              <a:pt x="5" y="181"/>
                            </a:lnTo>
                            <a:lnTo>
                              <a:pt x="1" y="195"/>
                            </a:lnTo>
                            <a:lnTo>
                              <a:pt x="0" y="210"/>
                            </a:lnTo>
                            <a:lnTo>
                              <a:pt x="0" y="225"/>
                            </a:lnTo>
                            <a:lnTo>
                              <a:pt x="4" y="243"/>
                            </a:lnTo>
                            <a:lnTo>
                              <a:pt x="14" y="263"/>
                            </a:lnTo>
                            <a:lnTo>
                              <a:pt x="22" y="273"/>
                            </a:lnTo>
                            <a:lnTo>
                              <a:pt x="33" y="282"/>
                            </a:lnTo>
                            <a:lnTo>
                              <a:pt x="49" y="286"/>
                            </a:lnTo>
                            <a:lnTo>
                              <a:pt x="66" y="290"/>
                            </a:lnTo>
                            <a:lnTo>
                              <a:pt x="90" y="295"/>
                            </a:lnTo>
                            <a:lnTo>
                              <a:pt x="76" y="276"/>
                            </a:lnTo>
                            <a:lnTo>
                              <a:pt x="71" y="258"/>
                            </a:lnTo>
                            <a:lnTo>
                              <a:pt x="72" y="237"/>
                            </a:lnTo>
                            <a:lnTo>
                              <a:pt x="77" y="216"/>
                            </a:lnTo>
                            <a:lnTo>
                              <a:pt x="84" y="203"/>
                            </a:lnTo>
                            <a:lnTo>
                              <a:pt x="94" y="189"/>
                            </a:lnTo>
                            <a:lnTo>
                              <a:pt x="106" y="177"/>
                            </a:lnTo>
                            <a:lnTo>
                              <a:pt x="121" y="167"/>
                            </a:lnTo>
                            <a:lnTo>
                              <a:pt x="139" y="157"/>
                            </a:lnTo>
                            <a:lnTo>
                              <a:pt x="197" y="140"/>
                            </a:lnTo>
                            <a:lnTo>
                              <a:pt x="186" y="151"/>
                            </a:lnTo>
                            <a:lnTo>
                              <a:pt x="178" y="158"/>
                            </a:lnTo>
                            <a:lnTo>
                              <a:pt x="166" y="163"/>
                            </a:lnTo>
                            <a:lnTo>
                              <a:pt x="147" y="169"/>
                            </a:lnTo>
                            <a:lnTo>
                              <a:pt x="135" y="172"/>
                            </a:lnTo>
                            <a:lnTo>
                              <a:pt x="122" y="181"/>
                            </a:lnTo>
                            <a:lnTo>
                              <a:pt x="116" y="191"/>
                            </a:lnTo>
                            <a:lnTo>
                              <a:pt x="111" y="202"/>
                            </a:lnTo>
                            <a:lnTo>
                              <a:pt x="108" y="214"/>
                            </a:lnTo>
                            <a:lnTo>
                              <a:pt x="108" y="226"/>
                            </a:lnTo>
                            <a:lnTo>
                              <a:pt x="113" y="241"/>
                            </a:lnTo>
                            <a:lnTo>
                              <a:pt x="117" y="262"/>
                            </a:lnTo>
                            <a:lnTo>
                              <a:pt x="127" y="280"/>
                            </a:lnTo>
                            <a:lnTo>
                              <a:pt x="141" y="311"/>
                            </a:lnTo>
                            <a:lnTo>
                              <a:pt x="167" y="371"/>
                            </a:lnTo>
                            <a:lnTo>
                              <a:pt x="185" y="404"/>
                            </a:lnTo>
                            <a:lnTo>
                              <a:pt x="206" y="412"/>
                            </a:lnTo>
                            <a:lnTo>
                              <a:pt x="211" y="441"/>
                            </a:lnTo>
                            <a:lnTo>
                              <a:pt x="214" y="515"/>
                            </a:lnTo>
                            <a:lnTo>
                              <a:pt x="218" y="536"/>
                            </a:lnTo>
                            <a:lnTo>
                              <a:pt x="220" y="554"/>
                            </a:lnTo>
                            <a:lnTo>
                              <a:pt x="220" y="566"/>
                            </a:lnTo>
                            <a:lnTo>
                              <a:pt x="210" y="579"/>
                            </a:lnTo>
                            <a:lnTo>
                              <a:pt x="196" y="587"/>
                            </a:lnTo>
                            <a:lnTo>
                              <a:pt x="179" y="596"/>
                            </a:lnTo>
                            <a:lnTo>
                              <a:pt x="166" y="607"/>
                            </a:lnTo>
                            <a:lnTo>
                              <a:pt x="163" y="614"/>
                            </a:lnTo>
                            <a:lnTo>
                              <a:pt x="163" y="625"/>
                            </a:lnTo>
                            <a:lnTo>
                              <a:pt x="166" y="633"/>
                            </a:lnTo>
                            <a:lnTo>
                              <a:pt x="169" y="640"/>
                            </a:lnTo>
                            <a:lnTo>
                              <a:pt x="173" y="649"/>
                            </a:lnTo>
                            <a:lnTo>
                              <a:pt x="182" y="660"/>
                            </a:lnTo>
                            <a:lnTo>
                              <a:pt x="190" y="666"/>
                            </a:lnTo>
                            <a:lnTo>
                              <a:pt x="200" y="669"/>
                            </a:lnTo>
                            <a:lnTo>
                              <a:pt x="211" y="672"/>
                            </a:lnTo>
                            <a:lnTo>
                              <a:pt x="225" y="673"/>
                            </a:lnTo>
                            <a:lnTo>
                              <a:pt x="236" y="672"/>
                            </a:lnTo>
                            <a:lnTo>
                              <a:pt x="250" y="668"/>
                            </a:lnTo>
                            <a:lnTo>
                              <a:pt x="261" y="664"/>
                            </a:lnTo>
                            <a:lnTo>
                              <a:pt x="273" y="657"/>
                            </a:lnTo>
                            <a:lnTo>
                              <a:pt x="287" y="648"/>
                            </a:lnTo>
                            <a:lnTo>
                              <a:pt x="296" y="642"/>
                            </a:lnTo>
                            <a:lnTo>
                              <a:pt x="295" y="613"/>
                            </a:lnTo>
                            <a:lnTo>
                              <a:pt x="285" y="514"/>
                            </a:lnTo>
                            <a:lnTo>
                              <a:pt x="253" y="458"/>
                            </a:lnTo>
                            <a:lnTo>
                              <a:pt x="245" y="434"/>
                            </a:lnTo>
                            <a:lnTo>
                              <a:pt x="240" y="411"/>
                            </a:lnTo>
                            <a:lnTo>
                              <a:pt x="246" y="398"/>
                            </a:lnTo>
                            <a:lnTo>
                              <a:pt x="253" y="383"/>
                            </a:lnTo>
                            <a:lnTo>
                              <a:pt x="263" y="373"/>
                            </a:lnTo>
                            <a:lnTo>
                              <a:pt x="278" y="367"/>
                            </a:lnTo>
                            <a:lnTo>
                              <a:pt x="291" y="369"/>
                            </a:lnTo>
                            <a:lnTo>
                              <a:pt x="307" y="373"/>
                            </a:lnTo>
                            <a:lnTo>
                              <a:pt x="323" y="385"/>
                            </a:lnTo>
                            <a:lnTo>
                              <a:pt x="329" y="396"/>
                            </a:lnTo>
                            <a:lnTo>
                              <a:pt x="334" y="413"/>
                            </a:lnTo>
                            <a:lnTo>
                              <a:pt x="335" y="430"/>
                            </a:lnTo>
                            <a:lnTo>
                              <a:pt x="331" y="446"/>
                            </a:lnTo>
                            <a:lnTo>
                              <a:pt x="328" y="460"/>
                            </a:lnTo>
                            <a:lnTo>
                              <a:pt x="328" y="471"/>
                            </a:lnTo>
                            <a:lnTo>
                              <a:pt x="335" y="480"/>
                            </a:lnTo>
                            <a:lnTo>
                              <a:pt x="454" y="559"/>
                            </a:lnTo>
                            <a:lnTo>
                              <a:pt x="499" y="554"/>
                            </a:lnTo>
                            <a:lnTo>
                              <a:pt x="552" y="551"/>
                            </a:lnTo>
                            <a:lnTo>
                              <a:pt x="598" y="539"/>
                            </a:lnTo>
                            <a:lnTo>
                              <a:pt x="617" y="520"/>
                            </a:lnTo>
                            <a:lnTo>
                              <a:pt x="628" y="509"/>
                            </a:lnTo>
                            <a:lnTo>
                              <a:pt x="633" y="492"/>
                            </a:lnTo>
                            <a:lnTo>
                              <a:pt x="637" y="472"/>
                            </a:lnTo>
                            <a:lnTo>
                              <a:pt x="640" y="438"/>
                            </a:lnTo>
                            <a:lnTo>
                              <a:pt x="630" y="416"/>
                            </a:lnTo>
                            <a:lnTo>
                              <a:pt x="625" y="359"/>
                            </a:lnTo>
                            <a:lnTo>
                              <a:pt x="606" y="282"/>
                            </a:lnTo>
                            <a:lnTo>
                              <a:pt x="592" y="222"/>
                            </a:lnTo>
                            <a:lnTo>
                              <a:pt x="563" y="163"/>
                            </a:lnTo>
                            <a:lnTo>
                              <a:pt x="537" y="113"/>
                            </a:lnTo>
                            <a:lnTo>
                              <a:pt x="522" y="88"/>
                            </a:lnTo>
                            <a:lnTo>
                              <a:pt x="500" y="59"/>
                            </a:lnTo>
                            <a:lnTo>
                              <a:pt x="482" y="43"/>
                            </a:lnTo>
                            <a:lnTo>
                              <a:pt x="444" y="24"/>
                            </a:lnTo>
                            <a:lnTo>
                              <a:pt x="412" y="10"/>
                            </a:lnTo>
                            <a:lnTo>
                              <a:pt x="375" y="2"/>
                            </a:lnTo>
                            <a:lnTo>
                              <a:pt x="340" y="0"/>
                            </a:lnTo>
                            <a:lnTo>
                              <a:pt x="307" y="0"/>
                            </a:lnTo>
                            <a:close/>
                          </a:path>
                        </a:pathLst>
                      </a:cu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7" name=""/>
                      <p:cNvSpPr/>
                      <p:nvPr/>
                    </p:nvSpPr>
                    <p:spPr>
                      <a:xfrm>
                        <a:off x="5394960" y="4899960"/>
                        <a:ext cx="1584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" h="37">
                            <a:moveTo>
                              <a:pt x="2" y="0"/>
                            </a:moveTo>
                            <a:lnTo>
                              <a:pt x="1" y="7"/>
                            </a:lnTo>
                            <a:lnTo>
                              <a:pt x="0" y="17"/>
                            </a:lnTo>
                            <a:lnTo>
                              <a:pt x="4" y="23"/>
                            </a:lnTo>
                            <a:lnTo>
                              <a:pt x="11" y="28"/>
                            </a:lnTo>
                            <a:lnTo>
                              <a:pt x="23" y="30"/>
                            </a:lnTo>
                            <a:lnTo>
                              <a:pt x="35" y="31"/>
                            </a:lnTo>
                            <a:lnTo>
                              <a:pt x="49" y="35"/>
                            </a:lnTo>
                            <a:lnTo>
                              <a:pt x="55" y="37"/>
                            </a:lnTo>
                            <a:lnTo>
                              <a:pt x="55" y="29"/>
                            </a:lnTo>
                            <a:lnTo>
                              <a:pt x="42" y="18"/>
                            </a:lnTo>
                            <a:lnTo>
                              <a:pt x="32" y="11"/>
                            </a:lnTo>
                            <a:lnTo>
                              <a:pt x="19" y="5"/>
                            </a:lnTo>
                            <a:lnTo>
                              <a:pt x="13" y="3"/>
                            </a:lnTo>
                            <a:lnTo>
                              <a:pt x="2" y="0"/>
                            </a:lnTo>
                            <a:close/>
                          </a:path>
                        </a:pathLst>
                      </a:cu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8" name=""/>
                      <p:cNvSpPr/>
                      <p:nvPr/>
                    </p:nvSpPr>
                    <p:spPr>
                      <a:xfrm>
                        <a:off x="5401080" y="4911120"/>
                        <a:ext cx="86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13">
                            <a:moveTo>
                              <a:pt x="18" y="0"/>
                            </a:moveTo>
                            <a:lnTo>
                              <a:pt x="14" y="6"/>
                            </a:lnTo>
                            <a:lnTo>
                              <a:pt x="8" y="8"/>
                            </a:lnTo>
                            <a:lnTo>
                              <a:pt x="0" y="9"/>
                            </a:lnTo>
                            <a:lnTo>
                              <a:pt x="9" y="13"/>
                            </a:lnTo>
                            <a:lnTo>
                              <a:pt x="24" y="13"/>
                            </a:lnTo>
                            <a:lnTo>
                              <a:pt x="32" y="13"/>
                            </a:lnTo>
                            <a:lnTo>
                              <a:pt x="18" y="0"/>
                            </a:lnTo>
                            <a:close/>
                          </a:path>
                        </a:pathLst>
                      </a:cu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9" name=""/>
                      <p:cNvSpPr/>
                      <p:nvPr/>
                    </p:nvSpPr>
                    <p:spPr>
                      <a:xfrm>
                        <a:off x="5409000" y="4939560"/>
                        <a:ext cx="1728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0" h="69">
                            <a:moveTo>
                              <a:pt x="9" y="1"/>
                            </a:moveTo>
                            <a:lnTo>
                              <a:pt x="3" y="10"/>
                            </a:lnTo>
                            <a:lnTo>
                              <a:pt x="1" y="17"/>
                            </a:lnTo>
                            <a:lnTo>
                              <a:pt x="0" y="26"/>
                            </a:lnTo>
                            <a:lnTo>
                              <a:pt x="0" y="34"/>
                            </a:lnTo>
                            <a:lnTo>
                              <a:pt x="2" y="44"/>
                            </a:lnTo>
                            <a:lnTo>
                              <a:pt x="4" y="53"/>
                            </a:lnTo>
                            <a:lnTo>
                              <a:pt x="9" y="57"/>
                            </a:lnTo>
                            <a:lnTo>
                              <a:pt x="14" y="61"/>
                            </a:lnTo>
                            <a:lnTo>
                              <a:pt x="21" y="61"/>
                            </a:lnTo>
                            <a:lnTo>
                              <a:pt x="30" y="61"/>
                            </a:lnTo>
                            <a:lnTo>
                              <a:pt x="45" y="63"/>
                            </a:lnTo>
                            <a:lnTo>
                              <a:pt x="60" y="69"/>
                            </a:lnTo>
                            <a:lnTo>
                              <a:pt x="60" y="61"/>
                            </a:lnTo>
                            <a:lnTo>
                              <a:pt x="56" y="50"/>
                            </a:lnTo>
                            <a:lnTo>
                              <a:pt x="54" y="39"/>
                            </a:lnTo>
                            <a:lnTo>
                              <a:pt x="47" y="28"/>
                            </a:lnTo>
                            <a:lnTo>
                              <a:pt x="42" y="22"/>
                            </a:lnTo>
                            <a:lnTo>
                              <a:pt x="35" y="15"/>
                            </a:lnTo>
                            <a:lnTo>
                              <a:pt x="29" y="9"/>
                            </a:lnTo>
                            <a:lnTo>
                              <a:pt x="24" y="5"/>
                            </a:lnTo>
                            <a:lnTo>
                              <a:pt x="20" y="0"/>
                            </a:lnTo>
                            <a:lnTo>
                              <a:pt x="9" y="1"/>
                            </a:lnTo>
                            <a:close/>
                          </a:path>
                        </a:pathLst>
                      </a:cu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90" name=""/>
                      <p:cNvSpPr/>
                      <p:nvPr/>
                    </p:nvSpPr>
                    <p:spPr>
                      <a:xfrm>
                        <a:off x="5379120" y="4840560"/>
                        <a:ext cx="41760" cy="37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6" h="146">
                            <a:moveTo>
                              <a:pt x="146" y="0"/>
                            </a:moveTo>
                            <a:lnTo>
                              <a:pt x="121" y="11"/>
                            </a:lnTo>
                            <a:lnTo>
                              <a:pt x="100" y="14"/>
                            </a:lnTo>
                            <a:lnTo>
                              <a:pt x="79" y="20"/>
                            </a:lnTo>
                            <a:lnTo>
                              <a:pt x="61" y="27"/>
                            </a:lnTo>
                            <a:lnTo>
                              <a:pt x="43" y="35"/>
                            </a:lnTo>
                            <a:lnTo>
                              <a:pt x="28" y="47"/>
                            </a:lnTo>
                            <a:lnTo>
                              <a:pt x="19" y="59"/>
                            </a:lnTo>
                            <a:lnTo>
                              <a:pt x="11" y="70"/>
                            </a:lnTo>
                            <a:lnTo>
                              <a:pt x="5" y="80"/>
                            </a:lnTo>
                            <a:lnTo>
                              <a:pt x="0" y="92"/>
                            </a:lnTo>
                            <a:lnTo>
                              <a:pt x="8" y="84"/>
                            </a:lnTo>
                            <a:lnTo>
                              <a:pt x="8" y="98"/>
                            </a:lnTo>
                            <a:lnTo>
                              <a:pt x="8" y="119"/>
                            </a:lnTo>
                            <a:lnTo>
                              <a:pt x="11" y="131"/>
                            </a:lnTo>
                            <a:lnTo>
                              <a:pt x="19" y="146"/>
                            </a:lnTo>
                            <a:lnTo>
                              <a:pt x="26" y="120"/>
                            </a:lnTo>
                            <a:lnTo>
                              <a:pt x="33" y="95"/>
                            </a:lnTo>
                            <a:lnTo>
                              <a:pt x="43" y="73"/>
                            </a:lnTo>
                            <a:lnTo>
                              <a:pt x="55" y="53"/>
                            </a:lnTo>
                            <a:lnTo>
                              <a:pt x="70" y="40"/>
                            </a:lnTo>
                            <a:lnTo>
                              <a:pt x="83" y="30"/>
                            </a:lnTo>
                            <a:lnTo>
                              <a:pt x="101" y="21"/>
                            </a:lnTo>
                            <a:lnTo>
                              <a:pt x="146" y="0"/>
                            </a:lnTo>
                            <a:close/>
                          </a:path>
                        </a:pathLst>
                      </a:cu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091" name=""/>
                  <p:cNvSpPr/>
                  <p:nvPr/>
                </p:nvSpPr>
                <p:spPr>
                  <a:xfrm>
                    <a:off x="5479920" y="4950720"/>
                    <a:ext cx="522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81">
                        <a:moveTo>
                          <a:pt x="182" y="0"/>
                        </a:moveTo>
                        <a:lnTo>
                          <a:pt x="40" y="247"/>
                        </a:lnTo>
                        <a:lnTo>
                          <a:pt x="0" y="381"/>
                        </a:lnTo>
                        <a:lnTo>
                          <a:pt x="62" y="233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5426280" y="5021280"/>
                    <a:ext cx="1980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68">
                        <a:moveTo>
                          <a:pt x="37" y="0"/>
                        </a:moveTo>
                        <a:lnTo>
                          <a:pt x="38" y="129"/>
                        </a:lnTo>
                        <a:lnTo>
                          <a:pt x="70" y="168"/>
                        </a:lnTo>
                        <a:lnTo>
                          <a:pt x="23" y="134"/>
                        </a:lnTo>
                        <a:lnTo>
                          <a:pt x="0" y="154"/>
                        </a:lnTo>
                        <a:lnTo>
                          <a:pt x="15" y="105"/>
                        </a:lnTo>
                        <a:lnTo>
                          <a:pt x="22" y="27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3" name=""/>
                <p:cNvSpPr/>
                <p:nvPr/>
              </p:nvSpPr>
              <p:spPr>
                <a:xfrm>
                  <a:off x="5403960" y="5083920"/>
                  <a:ext cx="30600" cy="47520"/>
                </a:xfrm>
                <a:custGeom>
                  <a:avLst/>
                  <a:gdLst/>
                  <a:ahLst/>
                  <a:rect l="l" t="t" r="r" b="b"/>
                  <a:pathLst>
                    <a:path w="105" h="181">
                      <a:moveTo>
                        <a:pt x="63" y="0"/>
                      </a:moveTo>
                      <a:lnTo>
                        <a:pt x="103" y="93"/>
                      </a:lnTo>
                      <a:lnTo>
                        <a:pt x="105" y="181"/>
                      </a:lnTo>
                      <a:lnTo>
                        <a:pt x="87" y="82"/>
                      </a:lnTo>
                      <a:lnTo>
                        <a:pt x="62" y="40"/>
                      </a:lnTo>
                      <a:lnTo>
                        <a:pt x="0" y="76"/>
                      </a:lnTo>
                      <a:lnTo>
                        <a:pt x="37" y="45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4" name=""/>
              <p:cNvSpPr/>
              <p:nvPr/>
            </p:nvSpPr>
            <p:spPr>
              <a:xfrm>
                <a:off x="5244120" y="5160960"/>
                <a:ext cx="21960" cy="31680"/>
              </a:xfrm>
              <a:custGeom>
                <a:avLst/>
                <a:gdLst/>
                <a:ahLst/>
                <a:rect l="l" t="t" r="r" b="b"/>
                <a:pathLst>
                  <a:path w="75" h="120">
                    <a:moveTo>
                      <a:pt x="53" y="0"/>
                    </a:moveTo>
                    <a:lnTo>
                      <a:pt x="2" y="98"/>
                    </a:lnTo>
                    <a:lnTo>
                      <a:pt x="0" y="120"/>
                    </a:lnTo>
                    <a:lnTo>
                      <a:pt x="18" y="105"/>
                    </a:lnTo>
                    <a:lnTo>
                      <a:pt x="75" y="6"/>
                    </a:lnTo>
                    <a:lnTo>
                      <a:pt x="66" y="5"/>
                    </a:lnTo>
                    <a:lnTo>
                      <a:pt x="58" y="2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5" name=""/>
              <p:cNvGrpSpPr/>
              <p:nvPr/>
            </p:nvGrpSpPr>
            <p:grpSpPr>
              <a:xfrm>
                <a:off x="5243400" y="5127480"/>
                <a:ext cx="81720" cy="61200"/>
                <a:chOff x="5243400" y="5127480"/>
                <a:chExt cx="81720" cy="61200"/>
              </a:xfrm>
            </p:grpSpPr>
            <p:grpSp>
              <p:nvGrpSpPr>
                <p:cNvPr id="1096" name=""/>
                <p:cNvGrpSpPr/>
                <p:nvPr/>
              </p:nvGrpSpPr>
              <p:grpSpPr>
                <a:xfrm>
                  <a:off x="5243400" y="5127480"/>
                  <a:ext cx="76680" cy="61200"/>
                  <a:chOff x="5243400" y="5127480"/>
                  <a:chExt cx="76680" cy="61200"/>
                </a:xfrm>
              </p:grpSpPr>
              <p:sp>
                <p:nvSpPr>
                  <p:cNvPr id="1097" name=""/>
                  <p:cNvSpPr/>
                  <p:nvPr/>
                </p:nvSpPr>
                <p:spPr>
                  <a:xfrm>
                    <a:off x="5243400" y="5134320"/>
                    <a:ext cx="7668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209">
                        <a:moveTo>
                          <a:pt x="197" y="29"/>
                        </a:moveTo>
                        <a:lnTo>
                          <a:pt x="181" y="32"/>
                        </a:lnTo>
                        <a:lnTo>
                          <a:pt x="168" y="25"/>
                        </a:lnTo>
                        <a:lnTo>
                          <a:pt x="151" y="17"/>
                        </a:lnTo>
                        <a:lnTo>
                          <a:pt x="134" y="11"/>
                        </a:lnTo>
                        <a:lnTo>
                          <a:pt x="107" y="4"/>
                        </a:lnTo>
                        <a:lnTo>
                          <a:pt x="92" y="0"/>
                        </a:lnTo>
                        <a:lnTo>
                          <a:pt x="41" y="12"/>
                        </a:lnTo>
                        <a:lnTo>
                          <a:pt x="33" y="17"/>
                        </a:lnTo>
                        <a:lnTo>
                          <a:pt x="25" y="22"/>
                        </a:lnTo>
                        <a:lnTo>
                          <a:pt x="19" y="31"/>
                        </a:lnTo>
                        <a:lnTo>
                          <a:pt x="14" y="44"/>
                        </a:lnTo>
                        <a:lnTo>
                          <a:pt x="9" y="64"/>
                        </a:lnTo>
                        <a:lnTo>
                          <a:pt x="5" y="90"/>
                        </a:lnTo>
                        <a:lnTo>
                          <a:pt x="3" y="113"/>
                        </a:lnTo>
                        <a:lnTo>
                          <a:pt x="0" y="130"/>
                        </a:lnTo>
                        <a:lnTo>
                          <a:pt x="0" y="140"/>
                        </a:lnTo>
                        <a:lnTo>
                          <a:pt x="3" y="148"/>
                        </a:lnTo>
                        <a:lnTo>
                          <a:pt x="5" y="155"/>
                        </a:lnTo>
                        <a:lnTo>
                          <a:pt x="11" y="165"/>
                        </a:lnTo>
                        <a:lnTo>
                          <a:pt x="34" y="188"/>
                        </a:lnTo>
                        <a:lnTo>
                          <a:pt x="45" y="194"/>
                        </a:lnTo>
                        <a:lnTo>
                          <a:pt x="64" y="204"/>
                        </a:lnTo>
                        <a:lnTo>
                          <a:pt x="76" y="209"/>
                        </a:lnTo>
                        <a:lnTo>
                          <a:pt x="86" y="205"/>
                        </a:lnTo>
                        <a:lnTo>
                          <a:pt x="89" y="198"/>
                        </a:lnTo>
                        <a:lnTo>
                          <a:pt x="99" y="198"/>
                        </a:lnTo>
                        <a:lnTo>
                          <a:pt x="110" y="198"/>
                        </a:lnTo>
                        <a:lnTo>
                          <a:pt x="125" y="201"/>
                        </a:lnTo>
                        <a:lnTo>
                          <a:pt x="134" y="202"/>
                        </a:lnTo>
                        <a:lnTo>
                          <a:pt x="137" y="194"/>
                        </a:lnTo>
                        <a:lnTo>
                          <a:pt x="140" y="188"/>
                        </a:lnTo>
                        <a:lnTo>
                          <a:pt x="148" y="191"/>
                        </a:lnTo>
                        <a:lnTo>
                          <a:pt x="158" y="191"/>
                        </a:lnTo>
                        <a:lnTo>
                          <a:pt x="162" y="185"/>
                        </a:lnTo>
                        <a:lnTo>
                          <a:pt x="165" y="178"/>
                        </a:lnTo>
                        <a:lnTo>
                          <a:pt x="168" y="168"/>
                        </a:lnTo>
                        <a:lnTo>
                          <a:pt x="183" y="170"/>
                        </a:lnTo>
                        <a:lnTo>
                          <a:pt x="198" y="170"/>
                        </a:lnTo>
                        <a:lnTo>
                          <a:pt x="208" y="166"/>
                        </a:lnTo>
                        <a:lnTo>
                          <a:pt x="218" y="161"/>
                        </a:lnTo>
                        <a:lnTo>
                          <a:pt x="225" y="154"/>
                        </a:lnTo>
                        <a:lnTo>
                          <a:pt x="233" y="145"/>
                        </a:lnTo>
                        <a:lnTo>
                          <a:pt x="260" y="139"/>
                        </a:lnTo>
                        <a:lnTo>
                          <a:pt x="265" y="107"/>
                        </a:lnTo>
                        <a:lnTo>
                          <a:pt x="266" y="86"/>
                        </a:lnTo>
                        <a:lnTo>
                          <a:pt x="259" y="62"/>
                        </a:lnTo>
                        <a:lnTo>
                          <a:pt x="250" y="47"/>
                        </a:lnTo>
                        <a:lnTo>
                          <a:pt x="241" y="39"/>
                        </a:lnTo>
                        <a:lnTo>
                          <a:pt x="226" y="31"/>
                        </a:lnTo>
                        <a:lnTo>
                          <a:pt x="208" y="25"/>
                        </a:lnTo>
                        <a:lnTo>
                          <a:pt x="197" y="29"/>
                        </a:lnTo>
                        <a:close/>
                      </a:path>
                    </a:pathLst>
                  </a:custGeom>
                  <a:solidFill>
                    <a:srgbClr val="f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5248440" y="5145480"/>
                    <a:ext cx="529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151">
                        <a:moveTo>
                          <a:pt x="182" y="50"/>
                        </a:moveTo>
                        <a:lnTo>
                          <a:pt x="167" y="60"/>
                        </a:lnTo>
                        <a:lnTo>
                          <a:pt x="154" y="60"/>
                        </a:lnTo>
                        <a:lnTo>
                          <a:pt x="142" y="56"/>
                        </a:lnTo>
                        <a:lnTo>
                          <a:pt x="134" y="51"/>
                        </a:lnTo>
                        <a:lnTo>
                          <a:pt x="127" y="47"/>
                        </a:lnTo>
                        <a:lnTo>
                          <a:pt x="120" y="47"/>
                        </a:lnTo>
                        <a:lnTo>
                          <a:pt x="110" y="53"/>
                        </a:lnTo>
                        <a:lnTo>
                          <a:pt x="95" y="57"/>
                        </a:lnTo>
                        <a:lnTo>
                          <a:pt x="81" y="61"/>
                        </a:lnTo>
                        <a:lnTo>
                          <a:pt x="71" y="62"/>
                        </a:lnTo>
                        <a:lnTo>
                          <a:pt x="59" y="62"/>
                        </a:lnTo>
                        <a:lnTo>
                          <a:pt x="47" y="60"/>
                        </a:lnTo>
                        <a:lnTo>
                          <a:pt x="39" y="56"/>
                        </a:lnTo>
                        <a:lnTo>
                          <a:pt x="36" y="51"/>
                        </a:lnTo>
                        <a:lnTo>
                          <a:pt x="33" y="42"/>
                        </a:lnTo>
                        <a:lnTo>
                          <a:pt x="33" y="35"/>
                        </a:lnTo>
                        <a:lnTo>
                          <a:pt x="37" y="29"/>
                        </a:lnTo>
                        <a:lnTo>
                          <a:pt x="44" y="26"/>
                        </a:lnTo>
                        <a:lnTo>
                          <a:pt x="56" y="23"/>
                        </a:lnTo>
                        <a:lnTo>
                          <a:pt x="71" y="21"/>
                        </a:lnTo>
                        <a:lnTo>
                          <a:pt x="82" y="21"/>
                        </a:lnTo>
                        <a:lnTo>
                          <a:pt x="94" y="14"/>
                        </a:lnTo>
                        <a:lnTo>
                          <a:pt x="106" y="7"/>
                        </a:lnTo>
                        <a:lnTo>
                          <a:pt x="89" y="7"/>
                        </a:lnTo>
                        <a:lnTo>
                          <a:pt x="78" y="1"/>
                        </a:lnTo>
                        <a:lnTo>
                          <a:pt x="65" y="0"/>
                        </a:lnTo>
                        <a:lnTo>
                          <a:pt x="55" y="3"/>
                        </a:lnTo>
                        <a:lnTo>
                          <a:pt x="43" y="10"/>
                        </a:lnTo>
                        <a:lnTo>
                          <a:pt x="38" y="14"/>
                        </a:lnTo>
                        <a:lnTo>
                          <a:pt x="21" y="2"/>
                        </a:lnTo>
                        <a:lnTo>
                          <a:pt x="28" y="10"/>
                        </a:lnTo>
                        <a:lnTo>
                          <a:pt x="31" y="17"/>
                        </a:lnTo>
                        <a:lnTo>
                          <a:pt x="22" y="19"/>
                        </a:lnTo>
                        <a:lnTo>
                          <a:pt x="31" y="21"/>
                        </a:lnTo>
                        <a:lnTo>
                          <a:pt x="23" y="56"/>
                        </a:lnTo>
                        <a:lnTo>
                          <a:pt x="19" y="63"/>
                        </a:lnTo>
                        <a:lnTo>
                          <a:pt x="14" y="68"/>
                        </a:lnTo>
                        <a:lnTo>
                          <a:pt x="0" y="70"/>
                        </a:lnTo>
                        <a:lnTo>
                          <a:pt x="10" y="74"/>
                        </a:lnTo>
                        <a:lnTo>
                          <a:pt x="14" y="83"/>
                        </a:lnTo>
                        <a:lnTo>
                          <a:pt x="6" y="102"/>
                        </a:lnTo>
                        <a:lnTo>
                          <a:pt x="4" y="115"/>
                        </a:lnTo>
                        <a:lnTo>
                          <a:pt x="25" y="94"/>
                        </a:lnTo>
                        <a:lnTo>
                          <a:pt x="36" y="100"/>
                        </a:lnTo>
                        <a:lnTo>
                          <a:pt x="39" y="111"/>
                        </a:lnTo>
                        <a:lnTo>
                          <a:pt x="23" y="120"/>
                        </a:lnTo>
                        <a:lnTo>
                          <a:pt x="42" y="118"/>
                        </a:lnTo>
                        <a:lnTo>
                          <a:pt x="50" y="118"/>
                        </a:lnTo>
                        <a:lnTo>
                          <a:pt x="55" y="123"/>
                        </a:lnTo>
                        <a:lnTo>
                          <a:pt x="61" y="132"/>
                        </a:lnTo>
                        <a:lnTo>
                          <a:pt x="66" y="143"/>
                        </a:lnTo>
                        <a:lnTo>
                          <a:pt x="72" y="151"/>
                        </a:lnTo>
                        <a:lnTo>
                          <a:pt x="72" y="137"/>
                        </a:lnTo>
                        <a:lnTo>
                          <a:pt x="66" y="127"/>
                        </a:lnTo>
                        <a:lnTo>
                          <a:pt x="60" y="118"/>
                        </a:lnTo>
                        <a:lnTo>
                          <a:pt x="65" y="112"/>
                        </a:lnTo>
                        <a:lnTo>
                          <a:pt x="73" y="110"/>
                        </a:lnTo>
                        <a:lnTo>
                          <a:pt x="82" y="111"/>
                        </a:lnTo>
                        <a:lnTo>
                          <a:pt x="95" y="112"/>
                        </a:lnTo>
                        <a:lnTo>
                          <a:pt x="106" y="105"/>
                        </a:lnTo>
                        <a:lnTo>
                          <a:pt x="120" y="102"/>
                        </a:lnTo>
                        <a:lnTo>
                          <a:pt x="131" y="100"/>
                        </a:lnTo>
                        <a:lnTo>
                          <a:pt x="137" y="98"/>
                        </a:lnTo>
                        <a:lnTo>
                          <a:pt x="140" y="95"/>
                        </a:lnTo>
                        <a:lnTo>
                          <a:pt x="150" y="102"/>
                        </a:lnTo>
                        <a:lnTo>
                          <a:pt x="146" y="90"/>
                        </a:lnTo>
                        <a:lnTo>
                          <a:pt x="171" y="105"/>
                        </a:lnTo>
                        <a:lnTo>
                          <a:pt x="167" y="95"/>
                        </a:lnTo>
                        <a:lnTo>
                          <a:pt x="148" y="82"/>
                        </a:lnTo>
                        <a:lnTo>
                          <a:pt x="151" y="73"/>
                        </a:lnTo>
                        <a:lnTo>
                          <a:pt x="159" y="63"/>
                        </a:lnTo>
                        <a:lnTo>
                          <a:pt x="170" y="62"/>
                        </a:lnTo>
                        <a:lnTo>
                          <a:pt x="182" y="50"/>
                        </a:lnTo>
                        <a:close/>
                      </a:path>
                    </a:pathLst>
                  </a:custGeom>
                  <a:solidFill>
                    <a:srgbClr val="d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5266080" y="5127480"/>
                    <a:ext cx="180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90">
                        <a:moveTo>
                          <a:pt x="56" y="0"/>
                        </a:moveTo>
                        <a:lnTo>
                          <a:pt x="43" y="3"/>
                        </a:lnTo>
                        <a:lnTo>
                          <a:pt x="41" y="10"/>
                        </a:lnTo>
                        <a:lnTo>
                          <a:pt x="0" y="90"/>
                        </a:lnTo>
                        <a:lnTo>
                          <a:pt x="21" y="88"/>
                        </a:lnTo>
                        <a:lnTo>
                          <a:pt x="63" y="16"/>
                        </a:lnTo>
                        <a:lnTo>
                          <a:pt x="64" y="4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5302800" y="5148000"/>
                    <a:ext cx="1296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83">
                        <a:moveTo>
                          <a:pt x="0" y="0"/>
                        </a:moveTo>
                        <a:lnTo>
                          <a:pt x="9" y="12"/>
                        </a:lnTo>
                        <a:lnTo>
                          <a:pt x="14" y="22"/>
                        </a:lnTo>
                        <a:lnTo>
                          <a:pt x="17" y="35"/>
                        </a:lnTo>
                        <a:lnTo>
                          <a:pt x="18" y="48"/>
                        </a:lnTo>
                        <a:lnTo>
                          <a:pt x="17" y="62"/>
                        </a:lnTo>
                        <a:lnTo>
                          <a:pt x="12" y="83"/>
                        </a:lnTo>
                        <a:lnTo>
                          <a:pt x="28" y="45"/>
                        </a:lnTo>
                        <a:lnTo>
                          <a:pt x="38" y="33"/>
                        </a:lnTo>
                        <a:lnTo>
                          <a:pt x="45" y="22"/>
                        </a:lnTo>
                        <a:lnTo>
                          <a:pt x="33" y="18"/>
                        </a:lnTo>
                        <a:lnTo>
                          <a:pt x="21" y="9"/>
                        </a:lnTo>
                        <a:lnTo>
                          <a:pt x="12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5272920" y="5129640"/>
                    <a:ext cx="104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84">
                        <a:moveTo>
                          <a:pt x="36" y="7"/>
                        </a:moveTo>
                        <a:lnTo>
                          <a:pt x="38" y="10"/>
                        </a:lnTo>
                        <a:lnTo>
                          <a:pt x="4" y="84"/>
                        </a:lnTo>
                        <a:lnTo>
                          <a:pt x="0" y="76"/>
                        </a:lnTo>
                        <a:lnTo>
                          <a:pt x="2" y="69"/>
                        </a:lnTo>
                        <a:lnTo>
                          <a:pt x="6" y="63"/>
                        </a:lnTo>
                        <a:lnTo>
                          <a:pt x="12" y="61"/>
                        </a:lnTo>
                        <a:lnTo>
                          <a:pt x="35" y="10"/>
                        </a:lnTo>
                        <a:lnTo>
                          <a:pt x="18" y="2"/>
                        </a:lnTo>
                        <a:lnTo>
                          <a:pt x="18" y="0"/>
                        </a:lnTo>
                        <a:lnTo>
                          <a:pt x="36" y="7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2" name=""/>
                <p:cNvSpPr/>
                <p:nvPr/>
              </p:nvSpPr>
              <p:spPr>
                <a:xfrm>
                  <a:off x="5295600" y="5139000"/>
                  <a:ext cx="29520" cy="34560"/>
                </a:xfrm>
                <a:custGeom>
                  <a:avLst/>
                  <a:gdLst/>
                  <a:ahLst/>
                  <a:rect l="l" t="t" r="r" b="b"/>
                  <a:pathLst>
                    <a:path w="102" h="132">
                      <a:moveTo>
                        <a:pt x="0" y="7"/>
                      </a:moveTo>
                      <a:lnTo>
                        <a:pt x="18" y="15"/>
                      </a:lnTo>
                      <a:lnTo>
                        <a:pt x="38" y="26"/>
                      </a:lnTo>
                      <a:lnTo>
                        <a:pt x="47" y="34"/>
                      </a:lnTo>
                      <a:lnTo>
                        <a:pt x="56" y="47"/>
                      </a:lnTo>
                      <a:lnTo>
                        <a:pt x="63" y="58"/>
                      </a:lnTo>
                      <a:lnTo>
                        <a:pt x="68" y="73"/>
                      </a:lnTo>
                      <a:lnTo>
                        <a:pt x="72" y="96"/>
                      </a:lnTo>
                      <a:lnTo>
                        <a:pt x="70" y="117"/>
                      </a:lnTo>
                      <a:lnTo>
                        <a:pt x="66" y="132"/>
                      </a:lnTo>
                      <a:lnTo>
                        <a:pt x="97" y="130"/>
                      </a:lnTo>
                      <a:lnTo>
                        <a:pt x="102" y="105"/>
                      </a:lnTo>
                      <a:lnTo>
                        <a:pt x="102" y="86"/>
                      </a:lnTo>
                      <a:lnTo>
                        <a:pt x="100" y="65"/>
                      </a:lnTo>
                      <a:lnTo>
                        <a:pt x="94" y="49"/>
                      </a:lnTo>
                      <a:lnTo>
                        <a:pt x="81" y="29"/>
                      </a:lnTo>
                      <a:lnTo>
                        <a:pt x="70" y="19"/>
                      </a:lnTo>
                      <a:lnTo>
                        <a:pt x="52" y="9"/>
                      </a:lnTo>
                      <a:lnTo>
                        <a:pt x="3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>
    <p:pull dir="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/>
          </p:nvPr>
        </p:nvSpPr>
        <p:spPr>
          <a:xfrm>
            <a:off x="0" y="825120"/>
            <a:ext cx="8169120" cy="58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etar as necessidades dos clientes de cada fase do ciclo de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upar e classificar as necess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r os requisitos dos 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er necessidades em requis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cionados com vários aspec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empenho fun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tores hum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riedades e espaç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abi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clo de 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ursos e manufatura (fabricaçã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r redundantes e classificar hierarquic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orar requisitos dos 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Tarefas da atividade “Identificar os requisitos dos clientes do produto” 3/4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8560" y="63000"/>
            <a:ext cx="7388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55320" y="1001520"/>
            <a:ext cx="8574120" cy="58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ualizar o Plano da fase de Projeto Informac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sar e atualizar o Escopo do produ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alhar ciclo de vida do produto e definir seus clie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icar os requisitos dos clientes do produ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ir os requisitos do produ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ir especificações meta do produ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itorar a viabilidade econômica do produ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valiar a fa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rovar a f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cumentar as decisões tomadas e lições aprendid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225360" y="0"/>
            <a:ext cx="38829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equisitos dos Cliente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404640" y="1028880"/>
            <a:ext cx="78663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ós o agrupamento, análise e classificação, estas necessidades, inicialmente descritas segundo a linguagem dos clientes, podem ser reescritas na forma do que chamamos de </a:t>
            </a: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requisitos dos client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976320" y="3224160"/>
            <a:ext cx="816768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equisitos dos clien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dem ser relacionados a aspectos tais como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sempenho func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tores humanos, propriedades, espaço, confiabilidade, ciclo de vida, recursos e manufatu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Converter dados originais em requisito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4038480" y="2438280"/>
            <a:ext cx="1600200" cy="1676520"/>
            <a:chOff x="4038480" y="2438280"/>
            <a:chExt cx="1600200" cy="1676520"/>
          </a:xfrm>
        </p:grpSpPr>
        <p:sp>
          <p:nvSpPr>
            <p:cNvPr id="1110" name=""/>
            <p:cNvSpPr/>
            <p:nvPr/>
          </p:nvSpPr>
          <p:spPr>
            <a:xfrm>
              <a:off x="5105520" y="2438280"/>
              <a:ext cx="533160" cy="2286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038480" y="2438280"/>
              <a:ext cx="533520" cy="2286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572000" y="2438280"/>
              <a:ext cx="533520" cy="2286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105520" y="2666880"/>
              <a:ext cx="533160" cy="144792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038480" y="2666880"/>
              <a:ext cx="533520" cy="144792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572000" y="2666880"/>
              <a:ext cx="533520" cy="144792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"/>
          <p:cNvSpPr/>
          <p:nvPr/>
        </p:nvSpPr>
        <p:spPr>
          <a:xfrm>
            <a:off x="577800" y="1218960"/>
            <a:ext cx="7309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riz de Transformação de Dados Originais em Requis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762120" y="5105520"/>
            <a:ext cx="8164440" cy="761760"/>
            <a:chOff x="762120" y="5105520"/>
            <a:chExt cx="8164440" cy="761760"/>
          </a:xfrm>
        </p:grpSpPr>
        <p:sp>
          <p:nvSpPr>
            <p:cNvPr id="1118" name=""/>
            <p:cNvSpPr/>
            <p:nvPr/>
          </p:nvSpPr>
          <p:spPr>
            <a:xfrm>
              <a:off x="762120" y="5105520"/>
              <a:ext cx="2678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ado Origi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440160" y="5105520"/>
              <a:ext cx="259092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en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031080" y="5105520"/>
              <a:ext cx="28954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Requisi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533160" y="2362320"/>
            <a:ext cx="5715360" cy="3123360"/>
            <a:chOff x="533160" y="2362320"/>
            <a:chExt cx="5715360" cy="3123360"/>
          </a:xfrm>
        </p:grpSpPr>
        <p:sp>
          <p:nvSpPr>
            <p:cNvPr id="1122" name=""/>
            <p:cNvSpPr/>
            <p:nvPr/>
          </p:nvSpPr>
          <p:spPr>
            <a:xfrm>
              <a:off x="3505320" y="2362320"/>
              <a:ext cx="2743200" cy="53316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23" name=""/>
            <p:cNvCxnSpPr>
              <a:stCxn id="1122" idx="1"/>
              <a:endCxn id="1118" idx="1"/>
            </p:cNvCxnSpPr>
            <p:nvPr/>
          </p:nvCxnSpPr>
          <p:spPr>
            <a:xfrm flipV="1" rot="10800000">
              <a:off x="761400" y="2628000"/>
              <a:ext cx="2743920" cy="2858040"/>
            </a:xfrm>
            <a:prstGeom prst="bentConnector3">
              <a:avLst>
                <a:gd name="adj1" fmla="val 108332"/>
              </a:avLst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</p:cxnSp>
      </p:grpSp>
    </p:spTree>
  </p:cSld>
  <p:transition>
    <p:pull dir="u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4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Converter dados originais em requisito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4038480" y="2438280"/>
            <a:ext cx="1600200" cy="1676520"/>
            <a:chOff x="4038480" y="2438280"/>
            <a:chExt cx="1600200" cy="1676520"/>
          </a:xfrm>
        </p:grpSpPr>
        <p:sp>
          <p:nvSpPr>
            <p:cNvPr id="1126" name=""/>
            <p:cNvSpPr/>
            <p:nvPr/>
          </p:nvSpPr>
          <p:spPr>
            <a:xfrm>
              <a:off x="5105520" y="2438280"/>
              <a:ext cx="533160" cy="2286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038480" y="2438280"/>
              <a:ext cx="533520" cy="2286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572000" y="2438280"/>
              <a:ext cx="533520" cy="2286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105520" y="2666880"/>
              <a:ext cx="533160" cy="144792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038480" y="2666880"/>
              <a:ext cx="533520" cy="144792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572000" y="2666880"/>
              <a:ext cx="533520" cy="144792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2133720" y="2438280"/>
            <a:ext cx="2971800" cy="4419000"/>
            <a:chOff x="2133720" y="2438280"/>
            <a:chExt cx="2971800" cy="4419000"/>
          </a:xfrm>
        </p:grpSpPr>
        <p:grpSp>
          <p:nvGrpSpPr>
            <p:cNvPr id="1133" name=""/>
            <p:cNvGrpSpPr/>
            <p:nvPr/>
          </p:nvGrpSpPr>
          <p:grpSpPr>
            <a:xfrm>
              <a:off x="2133720" y="5105520"/>
              <a:ext cx="1676160" cy="1751760"/>
              <a:chOff x="2133720" y="5105520"/>
              <a:chExt cx="1676160" cy="1751760"/>
            </a:xfrm>
          </p:grpSpPr>
          <p:sp>
            <p:nvSpPr>
              <p:cNvPr id="1134" name=""/>
              <p:cNvSpPr/>
              <p:nvPr/>
            </p:nvSpPr>
            <p:spPr>
              <a:xfrm>
                <a:off x="2133720" y="5105520"/>
                <a:ext cx="1676160" cy="3888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en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2133720" y="5494320"/>
                <a:ext cx="1676160" cy="136296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Operador que nunca havia operado o produto consegue instala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6" name=""/>
            <p:cNvSpPr/>
            <p:nvPr/>
          </p:nvSpPr>
          <p:spPr>
            <a:xfrm>
              <a:off x="2133720" y="4114800"/>
              <a:ext cx="2971800" cy="990720"/>
            </a:xfrm>
            <a:custGeom>
              <a:avLst/>
              <a:gdLst/>
              <a:ahLst/>
              <a:rect l="l" t="t" r="r" b="b"/>
              <a:pathLst>
                <a:path w="1872" h="624">
                  <a:moveTo>
                    <a:pt x="1536" y="0"/>
                  </a:moveTo>
                  <a:lnTo>
                    <a:pt x="0" y="624"/>
                  </a:lnTo>
                  <a:lnTo>
                    <a:pt x="1056" y="624"/>
                  </a:lnTo>
                  <a:lnTo>
                    <a:pt x="1872" y="0"/>
                  </a:lnTo>
                  <a:lnTo>
                    <a:pt x="1536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7" name=""/>
            <p:cNvGrpSpPr/>
            <p:nvPr/>
          </p:nvGrpSpPr>
          <p:grpSpPr>
            <a:xfrm>
              <a:off x="4572000" y="2438280"/>
              <a:ext cx="533520" cy="1676520"/>
              <a:chOff x="4572000" y="2438280"/>
              <a:chExt cx="533520" cy="1676520"/>
            </a:xfrm>
          </p:grpSpPr>
          <p:sp>
            <p:nvSpPr>
              <p:cNvPr id="1138" name=""/>
              <p:cNvSpPr/>
              <p:nvPr/>
            </p:nvSpPr>
            <p:spPr>
              <a:xfrm>
                <a:off x="4572000" y="2438280"/>
                <a:ext cx="533520" cy="22860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4572000" y="2666880"/>
                <a:ext cx="533520" cy="144792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0" name=""/>
          <p:cNvGrpSpPr/>
          <p:nvPr/>
        </p:nvGrpSpPr>
        <p:grpSpPr>
          <a:xfrm>
            <a:off x="457200" y="2438280"/>
            <a:ext cx="4114800" cy="4419000"/>
            <a:chOff x="457200" y="2438280"/>
            <a:chExt cx="4114800" cy="4419000"/>
          </a:xfrm>
        </p:grpSpPr>
        <p:grpSp>
          <p:nvGrpSpPr>
            <p:cNvPr id="1141" name=""/>
            <p:cNvGrpSpPr/>
            <p:nvPr/>
          </p:nvGrpSpPr>
          <p:grpSpPr>
            <a:xfrm>
              <a:off x="457200" y="5105520"/>
              <a:ext cx="1676520" cy="1751760"/>
              <a:chOff x="457200" y="5105520"/>
              <a:chExt cx="1676520" cy="1751760"/>
            </a:xfrm>
          </p:grpSpPr>
          <p:sp>
            <p:nvSpPr>
              <p:cNvPr id="1142" name=""/>
              <p:cNvSpPr/>
              <p:nvPr/>
            </p:nvSpPr>
            <p:spPr>
              <a:xfrm>
                <a:off x="457200" y="5105520"/>
                <a:ext cx="1676520" cy="3888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ado Origin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457200" y="5494320"/>
                <a:ext cx="1676520" cy="13629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Ser fácil de usa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4" name=""/>
            <p:cNvSpPr/>
            <p:nvPr/>
          </p:nvSpPr>
          <p:spPr>
            <a:xfrm>
              <a:off x="457200" y="4114800"/>
              <a:ext cx="4114800" cy="990720"/>
            </a:xfrm>
            <a:custGeom>
              <a:avLst/>
              <a:gdLst/>
              <a:ahLst/>
              <a:rect l="l" t="t" r="r" b="b"/>
              <a:pathLst>
                <a:path w="2592" h="624">
                  <a:moveTo>
                    <a:pt x="2592" y="0"/>
                  </a:moveTo>
                  <a:lnTo>
                    <a:pt x="1056" y="624"/>
                  </a:lnTo>
                  <a:lnTo>
                    <a:pt x="0" y="624"/>
                  </a:lnTo>
                  <a:lnTo>
                    <a:pt x="2256" y="0"/>
                  </a:lnTo>
                  <a:lnTo>
                    <a:pt x="259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5" name=""/>
            <p:cNvGrpSpPr/>
            <p:nvPr/>
          </p:nvGrpSpPr>
          <p:grpSpPr>
            <a:xfrm>
              <a:off x="4038480" y="2438280"/>
              <a:ext cx="533520" cy="1676520"/>
              <a:chOff x="4038480" y="2438280"/>
              <a:chExt cx="533520" cy="1676520"/>
            </a:xfrm>
          </p:grpSpPr>
          <p:sp>
            <p:nvSpPr>
              <p:cNvPr id="1146" name=""/>
              <p:cNvSpPr/>
              <p:nvPr/>
            </p:nvSpPr>
            <p:spPr>
              <a:xfrm>
                <a:off x="4038480" y="2438280"/>
                <a:ext cx="533520" cy="228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038480" y="2666880"/>
                <a:ext cx="533520" cy="1447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8" name=""/>
          <p:cNvGrpSpPr/>
          <p:nvPr/>
        </p:nvGrpSpPr>
        <p:grpSpPr>
          <a:xfrm>
            <a:off x="3809880" y="2438280"/>
            <a:ext cx="1828800" cy="4419000"/>
            <a:chOff x="3809880" y="2438280"/>
            <a:chExt cx="1828800" cy="4419000"/>
          </a:xfrm>
        </p:grpSpPr>
        <p:grpSp>
          <p:nvGrpSpPr>
            <p:cNvPr id="1149" name=""/>
            <p:cNvGrpSpPr/>
            <p:nvPr/>
          </p:nvGrpSpPr>
          <p:grpSpPr>
            <a:xfrm>
              <a:off x="3809880" y="5105520"/>
              <a:ext cx="1676520" cy="1751760"/>
              <a:chOff x="3809880" y="5105520"/>
              <a:chExt cx="1676520" cy="1751760"/>
            </a:xfrm>
          </p:grpSpPr>
          <p:sp>
            <p:nvSpPr>
              <p:cNvPr id="1150" name=""/>
              <p:cNvSpPr/>
              <p:nvPr/>
            </p:nvSpPr>
            <p:spPr>
              <a:xfrm>
                <a:off x="3809880" y="5105520"/>
                <a:ext cx="1676520" cy="3888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equisi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809880" y="5494320"/>
                <a:ext cx="1676520" cy="1362960"/>
              </a:xfrm>
              <a:prstGeom prst="rect">
                <a:avLst/>
              </a:prstGeom>
              <a:solidFill>
                <a:srgbClr val="33cc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rocedimento simples para serviço rotineir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2" name=""/>
            <p:cNvSpPr/>
            <p:nvPr/>
          </p:nvSpPr>
          <p:spPr>
            <a:xfrm>
              <a:off x="3809880" y="4114800"/>
              <a:ext cx="1752840" cy="99072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816" y="0"/>
                  </a:moveTo>
                  <a:lnTo>
                    <a:pt x="0" y="624"/>
                  </a:lnTo>
                  <a:lnTo>
                    <a:pt x="1056" y="624"/>
                  </a:lnTo>
                  <a:lnTo>
                    <a:pt x="1104" y="0"/>
                  </a:lnTo>
                  <a:lnTo>
                    <a:pt x="816" y="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3" name=""/>
            <p:cNvGrpSpPr/>
            <p:nvPr/>
          </p:nvGrpSpPr>
          <p:grpSpPr>
            <a:xfrm>
              <a:off x="5105520" y="2438280"/>
              <a:ext cx="533160" cy="1676520"/>
              <a:chOff x="5105520" y="2438280"/>
              <a:chExt cx="533160" cy="1676520"/>
            </a:xfrm>
          </p:grpSpPr>
          <p:sp>
            <p:nvSpPr>
              <p:cNvPr id="1154" name=""/>
              <p:cNvSpPr/>
              <p:nvPr/>
            </p:nvSpPr>
            <p:spPr>
              <a:xfrm>
                <a:off x="5105520" y="2438280"/>
                <a:ext cx="533160" cy="228600"/>
              </a:xfrm>
              <a:prstGeom prst="rect">
                <a:avLst/>
              </a:prstGeom>
              <a:solidFill>
                <a:srgbClr val="33cc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105520" y="2666880"/>
                <a:ext cx="533160" cy="1447920"/>
              </a:xfrm>
              <a:prstGeom prst="rect">
                <a:avLst/>
              </a:prstGeom>
              <a:solidFill>
                <a:srgbClr val="33cc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6" name=""/>
          <p:cNvSpPr/>
          <p:nvPr/>
        </p:nvSpPr>
        <p:spPr>
          <a:xfrm>
            <a:off x="1403280" y="765000"/>
            <a:ext cx="1981440" cy="1295640"/>
          </a:xfrm>
          <a:prstGeom prst="can">
            <a:avLst>
              <a:gd name="adj" fmla="val 25000"/>
            </a:avLst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ados Origi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7" name=""/>
          <p:cNvGrpSpPr/>
          <p:nvPr/>
        </p:nvGrpSpPr>
        <p:grpSpPr>
          <a:xfrm>
            <a:off x="228600" y="1905120"/>
            <a:ext cx="2666880" cy="2514600"/>
            <a:chOff x="228600" y="1905120"/>
            <a:chExt cx="2666880" cy="2514600"/>
          </a:xfrm>
        </p:grpSpPr>
        <p:grpSp>
          <p:nvGrpSpPr>
            <p:cNvPr id="1158" name=""/>
            <p:cNvGrpSpPr/>
            <p:nvPr/>
          </p:nvGrpSpPr>
          <p:grpSpPr>
            <a:xfrm>
              <a:off x="838080" y="1905120"/>
              <a:ext cx="685800" cy="1828800"/>
              <a:chOff x="838080" y="1905120"/>
              <a:chExt cx="685800" cy="1828800"/>
            </a:xfrm>
          </p:grpSpPr>
          <p:sp>
            <p:nvSpPr>
              <p:cNvPr id="1159" name=""/>
              <p:cNvSpPr/>
              <p:nvPr/>
            </p:nvSpPr>
            <p:spPr>
              <a:xfrm>
                <a:off x="1143000" y="3352680"/>
                <a:ext cx="38088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838080" y="1905120"/>
                <a:ext cx="38124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1" name=""/>
            <p:cNvGrpSpPr/>
            <p:nvPr/>
          </p:nvGrpSpPr>
          <p:grpSpPr>
            <a:xfrm>
              <a:off x="228600" y="2133720"/>
              <a:ext cx="2666880" cy="2286000"/>
              <a:chOff x="228600" y="2133720"/>
              <a:chExt cx="2666880" cy="2286000"/>
            </a:xfrm>
          </p:grpSpPr>
          <p:sp>
            <p:nvSpPr>
              <p:cNvPr id="1162" name=""/>
              <p:cNvSpPr/>
              <p:nvPr/>
            </p:nvSpPr>
            <p:spPr>
              <a:xfrm>
                <a:off x="1752480" y="2743200"/>
                <a:ext cx="38124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523880" y="3809880"/>
                <a:ext cx="38124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228600" y="2438280"/>
                <a:ext cx="38088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914400" y="2666880"/>
                <a:ext cx="38088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905120" y="3352680"/>
                <a:ext cx="38088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2438280" y="3809880"/>
                <a:ext cx="38124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1523880" y="2133720"/>
                <a:ext cx="38124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2514600" y="2971800"/>
                <a:ext cx="38088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2133720" y="2133720"/>
                <a:ext cx="38088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1066680" y="4038480"/>
                <a:ext cx="38124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28600" y="3200400"/>
                <a:ext cx="38088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09480" y="3733920"/>
                <a:ext cx="38124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4" name=""/>
          <p:cNvSpPr/>
          <p:nvPr/>
        </p:nvSpPr>
        <p:spPr>
          <a:xfrm>
            <a:off x="3200400" y="2666880"/>
            <a:ext cx="1219320" cy="1219320"/>
          </a:xfrm>
          <a:prstGeom prst="rightArrow">
            <a:avLst>
              <a:gd name="adj1" fmla="val 50000"/>
              <a:gd name="adj2" fmla="val 53644"/>
            </a:avLst>
          </a:prstGeom>
          <a:solidFill>
            <a:srgbClr val="3366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5334120" y="2590920"/>
            <a:ext cx="1218960" cy="1218960"/>
          </a:xfrm>
          <a:prstGeom prst="rightArrow">
            <a:avLst>
              <a:gd name="adj1" fmla="val 50000"/>
              <a:gd name="adj2" fmla="val 53644"/>
            </a:avLst>
          </a:prstGeom>
          <a:solidFill>
            <a:srgbClr val="3366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6477120" y="1828800"/>
            <a:ext cx="2666880" cy="2514600"/>
            <a:chOff x="6477120" y="1828800"/>
            <a:chExt cx="2666880" cy="2514600"/>
          </a:xfrm>
        </p:grpSpPr>
        <p:grpSp>
          <p:nvGrpSpPr>
            <p:cNvPr id="1177" name=""/>
            <p:cNvGrpSpPr/>
            <p:nvPr/>
          </p:nvGrpSpPr>
          <p:grpSpPr>
            <a:xfrm>
              <a:off x="7086600" y="1828800"/>
              <a:ext cx="685800" cy="1828800"/>
              <a:chOff x="7086600" y="1828800"/>
              <a:chExt cx="685800" cy="1828800"/>
            </a:xfrm>
          </p:grpSpPr>
          <p:sp>
            <p:nvSpPr>
              <p:cNvPr id="1178" name=""/>
              <p:cNvSpPr/>
              <p:nvPr/>
            </p:nvSpPr>
            <p:spPr>
              <a:xfrm>
                <a:off x="7391520" y="3276360"/>
                <a:ext cx="38088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7086600" y="1828800"/>
                <a:ext cx="38124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"/>
            <p:cNvGrpSpPr/>
            <p:nvPr/>
          </p:nvGrpSpPr>
          <p:grpSpPr>
            <a:xfrm>
              <a:off x="6477120" y="2057400"/>
              <a:ext cx="2666880" cy="2286000"/>
              <a:chOff x="6477120" y="2057400"/>
              <a:chExt cx="2666880" cy="2286000"/>
            </a:xfrm>
          </p:grpSpPr>
          <p:sp>
            <p:nvSpPr>
              <p:cNvPr id="1181" name=""/>
              <p:cNvSpPr/>
              <p:nvPr/>
            </p:nvSpPr>
            <p:spPr>
              <a:xfrm>
                <a:off x="8001000" y="2666880"/>
                <a:ext cx="38124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772400" y="3733560"/>
                <a:ext cx="38124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477120" y="2361960"/>
                <a:ext cx="38088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162920" y="2590560"/>
                <a:ext cx="38088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8153640" y="3276360"/>
                <a:ext cx="38088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8686800" y="3733560"/>
                <a:ext cx="38124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772400" y="2057400"/>
                <a:ext cx="38124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8763120" y="2895480"/>
                <a:ext cx="38088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8382240" y="2057400"/>
                <a:ext cx="38088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315200" y="3962160"/>
                <a:ext cx="38124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477120" y="3124080"/>
                <a:ext cx="38088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858000" y="3657600"/>
                <a:ext cx="38124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3" name=""/>
          <p:cNvSpPr/>
          <p:nvPr/>
        </p:nvSpPr>
        <p:spPr>
          <a:xfrm>
            <a:off x="6781680" y="5334120"/>
            <a:ext cx="1981440" cy="1295280"/>
          </a:xfrm>
          <a:prstGeom prst="can">
            <a:avLst>
              <a:gd name="adj" fmla="val 25000"/>
            </a:avLst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quis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rot="5400000">
            <a:off x="7162920" y="4419720"/>
            <a:ext cx="1218960" cy="1218960"/>
          </a:xfrm>
          <a:prstGeom prst="rightArrow">
            <a:avLst>
              <a:gd name="adj1" fmla="val 50000"/>
              <a:gd name="adj2" fmla="val 53644"/>
            </a:avLst>
          </a:prstGeom>
          <a:solidFill>
            <a:srgbClr val="3366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"/>
          <p:cNvSpPr/>
          <p:nvPr/>
        </p:nvSpPr>
        <p:spPr>
          <a:xfrm>
            <a:off x="1692360" y="765000"/>
            <a:ext cx="1981080" cy="1295640"/>
          </a:xfrm>
          <a:prstGeom prst="can">
            <a:avLst>
              <a:gd name="adj" fmla="val 25000"/>
            </a:avLst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quis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Eliminar Requisitos Redundante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1197" name=""/>
          <p:cNvGrpSpPr/>
          <p:nvPr/>
        </p:nvGrpSpPr>
        <p:grpSpPr>
          <a:xfrm>
            <a:off x="228600" y="1905120"/>
            <a:ext cx="2666880" cy="2514600"/>
            <a:chOff x="228600" y="1905120"/>
            <a:chExt cx="2666880" cy="2514600"/>
          </a:xfrm>
        </p:grpSpPr>
        <p:grpSp>
          <p:nvGrpSpPr>
            <p:cNvPr id="1198" name=""/>
            <p:cNvGrpSpPr/>
            <p:nvPr/>
          </p:nvGrpSpPr>
          <p:grpSpPr>
            <a:xfrm>
              <a:off x="838080" y="1905120"/>
              <a:ext cx="685800" cy="1828800"/>
              <a:chOff x="838080" y="1905120"/>
              <a:chExt cx="685800" cy="1828800"/>
            </a:xfrm>
          </p:grpSpPr>
          <p:sp>
            <p:nvSpPr>
              <p:cNvPr id="1199" name=""/>
              <p:cNvSpPr/>
              <p:nvPr/>
            </p:nvSpPr>
            <p:spPr>
              <a:xfrm>
                <a:off x="1143000" y="3352680"/>
                <a:ext cx="38088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38080" y="1905120"/>
                <a:ext cx="38124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1" name=""/>
            <p:cNvGrpSpPr/>
            <p:nvPr/>
          </p:nvGrpSpPr>
          <p:grpSpPr>
            <a:xfrm>
              <a:off x="228600" y="2133720"/>
              <a:ext cx="2666880" cy="2286000"/>
              <a:chOff x="228600" y="2133720"/>
              <a:chExt cx="2666880" cy="2286000"/>
            </a:xfrm>
          </p:grpSpPr>
          <p:sp>
            <p:nvSpPr>
              <p:cNvPr id="1202" name=""/>
              <p:cNvSpPr/>
              <p:nvPr/>
            </p:nvSpPr>
            <p:spPr>
              <a:xfrm>
                <a:off x="1752480" y="2743200"/>
                <a:ext cx="38124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523880" y="3809880"/>
                <a:ext cx="38124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28600" y="2438280"/>
                <a:ext cx="38088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914400" y="2666880"/>
                <a:ext cx="38088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905120" y="3352680"/>
                <a:ext cx="38088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2438280" y="3809880"/>
                <a:ext cx="38124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1523880" y="2133720"/>
                <a:ext cx="38124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2514600" y="2971800"/>
                <a:ext cx="38088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2133720" y="2133720"/>
                <a:ext cx="38088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066680" y="4038480"/>
                <a:ext cx="38124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28600" y="3200400"/>
                <a:ext cx="38088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09480" y="3733920"/>
                <a:ext cx="38124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4" name=""/>
          <p:cNvGrpSpPr/>
          <p:nvPr/>
        </p:nvGrpSpPr>
        <p:grpSpPr>
          <a:xfrm>
            <a:off x="761760" y="1905120"/>
            <a:ext cx="838080" cy="1828440"/>
            <a:chOff x="761760" y="1905120"/>
            <a:chExt cx="838080" cy="1828440"/>
          </a:xfrm>
        </p:grpSpPr>
        <p:grpSp>
          <p:nvGrpSpPr>
            <p:cNvPr id="1215" name=""/>
            <p:cNvGrpSpPr/>
            <p:nvPr/>
          </p:nvGrpSpPr>
          <p:grpSpPr>
            <a:xfrm>
              <a:off x="761760" y="1905120"/>
              <a:ext cx="533520" cy="380880"/>
              <a:chOff x="761760" y="1905120"/>
              <a:chExt cx="533520" cy="380880"/>
            </a:xfrm>
          </p:grpSpPr>
          <p:sp>
            <p:nvSpPr>
              <p:cNvPr id="1216" name=""/>
              <p:cNvSpPr/>
              <p:nvPr/>
            </p:nvSpPr>
            <p:spPr>
              <a:xfrm>
                <a:off x="762120" y="1905120"/>
                <a:ext cx="53316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flipH="1">
                <a:off x="761760" y="1905120"/>
                <a:ext cx="53316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8" name=""/>
            <p:cNvGrpSpPr/>
            <p:nvPr/>
          </p:nvGrpSpPr>
          <p:grpSpPr>
            <a:xfrm>
              <a:off x="1066320" y="3352680"/>
              <a:ext cx="533520" cy="380880"/>
              <a:chOff x="1066320" y="3352680"/>
              <a:chExt cx="533520" cy="380880"/>
            </a:xfrm>
          </p:grpSpPr>
          <p:sp>
            <p:nvSpPr>
              <p:cNvPr id="1219" name=""/>
              <p:cNvSpPr/>
              <p:nvPr/>
            </p:nvSpPr>
            <p:spPr>
              <a:xfrm>
                <a:off x="1066680" y="3352680"/>
                <a:ext cx="53316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flipH="1">
                <a:off x="1066320" y="3352680"/>
                <a:ext cx="53316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1" name=""/>
          <p:cNvGrpSpPr/>
          <p:nvPr/>
        </p:nvGrpSpPr>
        <p:grpSpPr>
          <a:xfrm>
            <a:off x="3429000" y="1676520"/>
            <a:ext cx="5181480" cy="4495680"/>
            <a:chOff x="3429000" y="1676520"/>
            <a:chExt cx="5181480" cy="4495680"/>
          </a:xfrm>
        </p:grpSpPr>
        <p:sp>
          <p:nvSpPr>
            <p:cNvPr id="1222" name=""/>
            <p:cNvSpPr/>
            <p:nvPr/>
          </p:nvSpPr>
          <p:spPr>
            <a:xfrm>
              <a:off x="3429000" y="1676520"/>
              <a:ext cx="5181480" cy="4495680"/>
            </a:xfrm>
            <a:prstGeom prst="ellipse">
              <a:avLst/>
            </a:prstGeom>
            <a:gradFill rotWithShape="0">
              <a:gsLst>
                <a:gs pos="0">
                  <a:srgbClr val="ebfef4"/>
                </a:gs>
                <a:gs pos="100000">
                  <a:srgbClr val="99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3" name=""/>
            <p:cNvGrpSpPr/>
            <p:nvPr/>
          </p:nvGrpSpPr>
          <p:grpSpPr>
            <a:xfrm>
              <a:off x="5334120" y="1828800"/>
              <a:ext cx="1589040" cy="915840"/>
              <a:chOff x="5334120" y="1828800"/>
              <a:chExt cx="1589040" cy="915840"/>
            </a:xfrm>
          </p:grpSpPr>
          <p:sp>
            <p:nvSpPr>
              <p:cNvPr id="1224" name=""/>
              <p:cNvSpPr/>
              <p:nvPr/>
            </p:nvSpPr>
            <p:spPr>
              <a:xfrm>
                <a:off x="5334120" y="1828800"/>
                <a:ext cx="1589040" cy="915840"/>
              </a:xfrm>
              <a:prstGeom prst="ellipse">
                <a:avLst/>
              </a:prstGeom>
              <a:solidFill>
                <a:srgbClr val="d6d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5" name=""/>
              <p:cNvGrpSpPr/>
              <p:nvPr/>
            </p:nvGrpSpPr>
            <p:grpSpPr>
              <a:xfrm>
                <a:off x="5930640" y="2052720"/>
                <a:ext cx="393840" cy="335160"/>
                <a:chOff x="5930640" y="2052720"/>
                <a:chExt cx="393840" cy="335160"/>
              </a:xfrm>
            </p:grpSpPr>
            <p:grpSp>
              <p:nvGrpSpPr>
                <p:cNvPr id="1226" name=""/>
                <p:cNvGrpSpPr/>
                <p:nvPr/>
              </p:nvGrpSpPr>
              <p:grpSpPr>
                <a:xfrm>
                  <a:off x="5930640" y="2154600"/>
                  <a:ext cx="393840" cy="233280"/>
                  <a:chOff x="5930640" y="2154600"/>
                  <a:chExt cx="393840" cy="233280"/>
                </a:xfrm>
              </p:grpSpPr>
              <p:grpSp>
                <p:nvGrpSpPr>
                  <p:cNvPr id="1227" name=""/>
                  <p:cNvGrpSpPr/>
                  <p:nvPr/>
                </p:nvGrpSpPr>
                <p:grpSpPr>
                  <a:xfrm>
                    <a:off x="6044400" y="2164680"/>
                    <a:ext cx="149400" cy="218520"/>
                    <a:chOff x="6044400" y="2164680"/>
                    <a:chExt cx="149400" cy="218520"/>
                  </a:xfrm>
                </p:grpSpPr>
                <p:sp>
                  <p:nvSpPr>
                    <p:cNvPr id="1228" name=""/>
                    <p:cNvSpPr/>
                    <p:nvPr/>
                  </p:nvSpPr>
                  <p:spPr>
                    <a:xfrm>
                      <a:off x="6044400" y="2164680"/>
                      <a:ext cx="149400" cy="21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6" h="828">
                          <a:moveTo>
                            <a:pt x="160" y="0"/>
                          </a:moveTo>
                          <a:lnTo>
                            <a:pt x="304" y="109"/>
                          </a:lnTo>
                          <a:lnTo>
                            <a:pt x="421" y="18"/>
                          </a:lnTo>
                          <a:lnTo>
                            <a:pt x="450" y="416"/>
                          </a:lnTo>
                          <a:lnTo>
                            <a:pt x="483" y="648"/>
                          </a:lnTo>
                          <a:lnTo>
                            <a:pt x="516" y="828"/>
                          </a:lnTo>
                          <a:lnTo>
                            <a:pt x="0" y="828"/>
                          </a:lnTo>
                          <a:lnTo>
                            <a:pt x="73" y="603"/>
                          </a:lnTo>
                          <a:lnTo>
                            <a:pt x="120" y="321"/>
                          </a:lnTo>
                          <a:lnTo>
                            <a:pt x="160" y="0"/>
                          </a:lnTo>
                          <a:close/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9" name=""/>
                    <p:cNvSpPr/>
                    <p:nvPr/>
                  </p:nvSpPr>
                  <p:spPr>
                    <a:xfrm>
                      <a:off x="6137280" y="2180880"/>
                      <a:ext cx="3564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50">
                          <a:moveTo>
                            <a:pt x="0" y="55"/>
                          </a:moveTo>
                          <a:lnTo>
                            <a:pt x="17" y="72"/>
                          </a:lnTo>
                          <a:lnTo>
                            <a:pt x="27" y="83"/>
                          </a:lnTo>
                          <a:lnTo>
                            <a:pt x="33" y="97"/>
                          </a:lnTo>
                          <a:lnTo>
                            <a:pt x="38" y="118"/>
                          </a:lnTo>
                          <a:lnTo>
                            <a:pt x="40" y="141"/>
                          </a:lnTo>
                          <a:lnTo>
                            <a:pt x="52" y="150"/>
                          </a:lnTo>
                          <a:lnTo>
                            <a:pt x="123" y="63"/>
                          </a:lnTo>
                          <a:lnTo>
                            <a:pt x="89" y="0"/>
                          </a:lnTo>
                          <a:lnTo>
                            <a:pt x="0" y="5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0" name=""/>
                    <p:cNvSpPr/>
                    <p:nvPr/>
                  </p:nvSpPr>
                  <p:spPr>
                    <a:xfrm>
                      <a:off x="6085800" y="2166840"/>
                      <a:ext cx="3024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209">
                          <a:moveTo>
                            <a:pt x="106" y="97"/>
                          </a:moveTo>
                          <a:lnTo>
                            <a:pt x="97" y="107"/>
                          </a:lnTo>
                          <a:lnTo>
                            <a:pt x="88" y="136"/>
                          </a:lnTo>
                          <a:lnTo>
                            <a:pt x="73" y="171"/>
                          </a:lnTo>
                          <a:lnTo>
                            <a:pt x="59" y="209"/>
                          </a:lnTo>
                          <a:lnTo>
                            <a:pt x="26" y="145"/>
                          </a:lnTo>
                          <a:lnTo>
                            <a:pt x="7" y="81"/>
                          </a:lnTo>
                          <a:lnTo>
                            <a:pt x="0" y="19"/>
                          </a:lnTo>
                          <a:lnTo>
                            <a:pt x="0" y="0"/>
                          </a:lnTo>
                          <a:lnTo>
                            <a:pt x="26" y="0"/>
                          </a:lnTo>
                          <a:lnTo>
                            <a:pt x="106" y="97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31" name=""/>
                    <p:cNvGrpSpPr/>
                    <p:nvPr/>
                  </p:nvGrpSpPr>
                  <p:grpSpPr>
                    <a:xfrm>
                      <a:off x="6075360" y="2256480"/>
                      <a:ext cx="98280" cy="113400"/>
                      <a:chOff x="6075360" y="2256480"/>
                      <a:chExt cx="98280" cy="113400"/>
                    </a:xfrm>
                  </p:grpSpPr>
                  <p:sp>
                    <p:nvSpPr>
                      <p:cNvPr id="1232" name=""/>
                      <p:cNvSpPr/>
                      <p:nvPr/>
                    </p:nvSpPr>
                    <p:spPr>
                      <a:xfrm>
                        <a:off x="6086520" y="2256480"/>
                        <a:ext cx="72720" cy="63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4" h="241">
                            <a:moveTo>
                              <a:pt x="254" y="0"/>
                            </a:moveTo>
                            <a:lnTo>
                              <a:pt x="220" y="4"/>
                            </a:lnTo>
                            <a:lnTo>
                              <a:pt x="191" y="12"/>
                            </a:lnTo>
                            <a:lnTo>
                              <a:pt x="138" y="36"/>
                            </a:lnTo>
                            <a:lnTo>
                              <a:pt x="81" y="82"/>
                            </a:lnTo>
                            <a:lnTo>
                              <a:pt x="58" y="103"/>
                            </a:lnTo>
                            <a:lnTo>
                              <a:pt x="43" y="132"/>
                            </a:lnTo>
                            <a:lnTo>
                              <a:pt x="23" y="159"/>
                            </a:lnTo>
                            <a:lnTo>
                              <a:pt x="12" y="177"/>
                            </a:lnTo>
                            <a:lnTo>
                              <a:pt x="4" y="208"/>
                            </a:lnTo>
                            <a:lnTo>
                              <a:pt x="0" y="230"/>
                            </a:lnTo>
                            <a:lnTo>
                              <a:pt x="4" y="241"/>
                            </a:lnTo>
                            <a:lnTo>
                              <a:pt x="14" y="241"/>
                            </a:lnTo>
                            <a:lnTo>
                              <a:pt x="19" y="227"/>
                            </a:lnTo>
                            <a:lnTo>
                              <a:pt x="40" y="202"/>
                            </a:lnTo>
                            <a:lnTo>
                              <a:pt x="54" y="163"/>
                            </a:lnTo>
                            <a:lnTo>
                              <a:pt x="66" y="142"/>
                            </a:lnTo>
                            <a:lnTo>
                              <a:pt x="87" y="108"/>
                            </a:lnTo>
                            <a:lnTo>
                              <a:pt x="116" y="70"/>
                            </a:lnTo>
                            <a:lnTo>
                              <a:pt x="174" y="33"/>
                            </a:lnTo>
                            <a:lnTo>
                              <a:pt x="209" y="15"/>
                            </a:lnTo>
                            <a:lnTo>
                              <a:pt x="254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200" bIns="16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33" name=""/>
                      <p:cNvSpPr/>
                      <p:nvPr/>
                    </p:nvSpPr>
                    <p:spPr>
                      <a:xfrm>
                        <a:off x="6075360" y="2286360"/>
                        <a:ext cx="98280" cy="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8" h="320">
                            <a:moveTo>
                              <a:pt x="335" y="0"/>
                            </a:moveTo>
                            <a:lnTo>
                              <a:pt x="291" y="46"/>
                            </a:lnTo>
                            <a:lnTo>
                              <a:pt x="264" y="60"/>
                            </a:lnTo>
                            <a:lnTo>
                              <a:pt x="242" y="67"/>
                            </a:lnTo>
                            <a:lnTo>
                              <a:pt x="214" y="85"/>
                            </a:lnTo>
                            <a:lnTo>
                              <a:pt x="117" y="149"/>
                            </a:lnTo>
                            <a:lnTo>
                              <a:pt x="96" y="170"/>
                            </a:lnTo>
                            <a:lnTo>
                              <a:pt x="66" y="191"/>
                            </a:lnTo>
                            <a:lnTo>
                              <a:pt x="44" y="205"/>
                            </a:lnTo>
                            <a:lnTo>
                              <a:pt x="22" y="219"/>
                            </a:lnTo>
                            <a:lnTo>
                              <a:pt x="4" y="232"/>
                            </a:lnTo>
                            <a:lnTo>
                              <a:pt x="0" y="243"/>
                            </a:lnTo>
                            <a:lnTo>
                              <a:pt x="1" y="253"/>
                            </a:lnTo>
                            <a:lnTo>
                              <a:pt x="12" y="253"/>
                            </a:lnTo>
                            <a:lnTo>
                              <a:pt x="30" y="243"/>
                            </a:lnTo>
                            <a:lnTo>
                              <a:pt x="51" y="230"/>
                            </a:lnTo>
                            <a:lnTo>
                              <a:pt x="69" y="218"/>
                            </a:lnTo>
                            <a:lnTo>
                              <a:pt x="67" y="237"/>
                            </a:lnTo>
                            <a:lnTo>
                              <a:pt x="52" y="258"/>
                            </a:lnTo>
                            <a:lnTo>
                              <a:pt x="40" y="267"/>
                            </a:lnTo>
                            <a:lnTo>
                              <a:pt x="37" y="276"/>
                            </a:lnTo>
                            <a:lnTo>
                              <a:pt x="22" y="289"/>
                            </a:lnTo>
                            <a:lnTo>
                              <a:pt x="9" y="306"/>
                            </a:lnTo>
                            <a:lnTo>
                              <a:pt x="11" y="320"/>
                            </a:lnTo>
                            <a:lnTo>
                              <a:pt x="51" y="317"/>
                            </a:lnTo>
                            <a:lnTo>
                              <a:pt x="62" y="293"/>
                            </a:lnTo>
                            <a:lnTo>
                              <a:pt x="88" y="269"/>
                            </a:lnTo>
                            <a:lnTo>
                              <a:pt x="84" y="251"/>
                            </a:lnTo>
                            <a:lnTo>
                              <a:pt x="117" y="225"/>
                            </a:lnTo>
                            <a:lnTo>
                              <a:pt x="297" y="105"/>
                            </a:lnTo>
                            <a:lnTo>
                              <a:pt x="265" y="102"/>
                            </a:lnTo>
                            <a:lnTo>
                              <a:pt x="254" y="78"/>
                            </a:lnTo>
                            <a:lnTo>
                              <a:pt x="282" y="70"/>
                            </a:lnTo>
                            <a:lnTo>
                              <a:pt x="291" y="63"/>
                            </a:lnTo>
                            <a:lnTo>
                              <a:pt x="301" y="63"/>
                            </a:lnTo>
                            <a:lnTo>
                              <a:pt x="338" y="15"/>
                            </a:lnTo>
                            <a:lnTo>
                              <a:pt x="335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720" bIns="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34" name=""/>
                    <p:cNvSpPr/>
                    <p:nvPr/>
                  </p:nvSpPr>
                  <p:spPr>
                    <a:xfrm>
                      <a:off x="6108480" y="2193120"/>
                      <a:ext cx="45000" cy="17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673">
                          <a:moveTo>
                            <a:pt x="26" y="0"/>
                          </a:moveTo>
                          <a:lnTo>
                            <a:pt x="44" y="18"/>
                          </a:lnTo>
                          <a:lnTo>
                            <a:pt x="60" y="25"/>
                          </a:lnTo>
                          <a:lnTo>
                            <a:pt x="85" y="23"/>
                          </a:lnTo>
                          <a:lnTo>
                            <a:pt x="105" y="16"/>
                          </a:lnTo>
                          <a:lnTo>
                            <a:pt x="112" y="30"/>
                          </a:lnTo>
                          <a:lnTo>
                            <a:pt x="112" y="47"/>
                          </a:lnTo>
                          <a:lnTo>
                            <a:pt x="107" y="60"/>
                          </a:lnTo>
                          <a:lnTo>
                            <a:pt x="100" y="67"/>
                          </a:lnTo>
                          <a:lnTo>
                            <a:pt x="83" y="82"/>
                          </a:lnTo>
                          <a:lnTo>
                            <a:pt x="112" y="118"/>
                          </a:lnTo>
                          <a:lnTo>
                            <a:pt x="126" y="141"/>
                          </a:lnTo>
                          <a:lnTo>
                            <a:pt x="133" y="163"/>
                          </a:lnTo>
                          <a:lnTo>
                            <a:pt x="137" y="215"/>
                          </a:lnTo>
                          <a:lnTo>
                            <a:pt x="149" y="332"/>
                          </a:lnTo>
                          <a:lnTo>
                            <a:pt x="155" y="399"/>
                          </a:lnTo>
                          <a:lnTo>
                            <a:pt x="155" y="480"/>
                          </a:lnTo>
                          <a:lnTo>
                            <a:pt x="152" y="571"/>
                          </a:lnTo>
                          <a:lnTo>
                            <a:pt x="150" y="673"/>
                          </a:lnTo>
                          <a:lnTo>
                            <a:pt x="4" y="672"/>
                          </a:lnTo>
                          <a:lnTo>
                            <a:pt x="0" y="569"/>
                          </a:lnTo>
                          <a:lnTo>
                            <a:pt x="4" y="509"/>
                          </a:lnTo>
                          <a:lnTo>
                            <a:pt x="9" y="435"/>
                          </a:lnTo>
                          <a:lnTo>
                            <a:pt x="9" y="310"/>
                          </a:lnTo>
                          <a:lnTo>
                            <a:pt x="9" y="269"/>
                          </a:lnTo>
                          <a:lnTo>
                            <a:pt x="12" y="170"/>
                          </a:lnTo>
                          <a:lnTo>
                            <a:pt x="20" y="139"/>
                          </a:lnTo>
                          <a:lnTo>
                            <a:pt x="37" y="85"/>
                          </a:lnTo>
                          <a:lnTo>
                            <a:pt x="16" y="58"/>
                          </a:lnTo>
                          <a:lnTo>
                            <a:pt x="8" y="44"/>
                          </a:lnTo>
                          <a:lnTo>
                            <a:pt x="26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5" name=""/>
                  <p:cNvGrpSpPr/>
                  <p:nvPr/>
                </p:nvGrpSpPr>
                <p:grpSpPr>
                  <a:xfrm>
                    <a:off x="5930640" y="2154600"/>
                    <a:ext cx="393840" cy="233280"/>
                    <a:chOff x="5930640" y="2154600"/>
                    <a:chExt cx="393840" cy="233280"/>
                  </a:xfrm>
                </p:grpSpPr>
                <p:grpSp>
                  <p:nvGrpSpPr>
                    <p:cNvPr id="1236" name=""/>
                    <p:cNvGrpSpPr/>
                    <p:nvPr/>
                  </p:nvGrpSpPr>
                  <p:grpSpPr>
                    <a:xfrm>
                      <a:off x="5930640" y="2160000"/>
                      <a:ext cx="166680" cy="227880"/>
                      <a:chOff x="5930640" y="2160000"/>
                      <a:chExt cx="166680" cy="227880"/>
                    </a:xfrm>
                  </p:grpSpPr>
                  <p:sp>
                    <p:nvSpPr>
                      <p:cNvPr id="1237" name=""/>
                      <p:cNvSpPr/>
                      <p:nvPr/>
                    </p:nvSpPr>
                    <p:spPr>
                      <a:xfrm>
                        <a:off x="5930640" y="2162880"/>
                        <a:ext cx="165240" cy="225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0" h="852">
                            <a:moveTo>
                              <a:pt x="505" y="0"/>
                            </a:moveTo>
                            <a:lnTo>
                              <a:pt x="485" y="27"/>
                            </a:lnTo>
                            <a:lnTo>
                              <a:pt x="430" y="45"/>
                            </a:lnTo>
                            <a:lnTo>
                              <a:pt x="385" y="56"/>
                            </a:lnTo>
                            <a:lnTo>
                              <a:pt x="346" y="60"/>
                            </a:lnTo>
                            <a:lnTo>
                              <a:pt x="277" y="71"/>
                            </a:lnTo>
                            <a:lnTo>
                              <a:pt x="252" y="80"/>
                            </a:lnTo>
                            <a:lnTo>
                              <a:pt x="244" y="85"/>
                            </a:lnTo>
                            <a:lnTo>
                              <a:pt x="238" y="92"/>
                            </a:lnTo>
                            <a:lnTo>
                              <a:pt x="219" y="177"/>
                            </a:lnTo>
                            <a:lnTo>
                              <a:pt x="207" y="221"/>
                            </a:lnTo>
                            <a:lnTo>
                              <a:pt x="193" y="267"/>
                            </a:lnTo>
                            <a:lnTo>
                              <a:pt x="185" y="292"/>
                            </a:lnTo>
                            <a:lnTo>
                              <a:pt x="179" y="295"/>
                            </a:lnTo>
                            <a:lnTo>
                              <a:pt x="166" y="303"/>
                            </a:lnTo>
                            <a:lnTo>
                              <a:pt x="162" y="315"/>
                            </a:lnTo>
                            <a:lnTo>
                              <a:pt x="152" y="334"/>
                            </a:lnTo>
                            <a:lnTo>
                              <a:pt x="120" y="417"/>
                            </a:lnTo>
                            <a:lnTo>
                              <a:pt x="115" y="449"/>
                            </a:lnTo>
                            <a:lnTo>
                              <a:pt x="106" y="469"/>
                            </a:lnTo>
                            <a:lnTo>
                              <a:pt x="66" y="510"/>
                            </a:lnTo>
                            <a:lnTo>
                              <a:pt x="57" y="530"/>
                            </a:lnTo>
                            <a:lnTo>
                              <a:pt x="47" y="548"/>
                            </a:lnTo>
                            <a:lnTo>
                              <a:pt x="38" y="563"/>
                            </a:lnTo>
                            <a:lnTo>
                              <a:pt x="29" y="580"/>
                            </a:lnTo>
                            <a:lnTo>
                              <a:pt x="17" y="613"/>
                            </a:lnTo>
                            <a:lnTo>
                              <a:pt x="5" y="642"/>
                            </a:lnTo>
                            <a:lnTo>
                              <a:pt x="0" y="659"/>
                            </a:lnTo>
                            <a:lnTo>
                              <a:pt x="3" y="680"/>
                            </a:lnTo>
                            <a:lnTo>
                              <a:pt x="4" y="699"/>
                            </a:lnTo>
                            <a:lnTo>
                              <a:pt x="10" y="723"/>
                            </a:lnTo>
                            <a:lnTo>
                              <a:pt x="20" y="740"/>
                            </a:lnTo>
                            <a:lnTo>
                              <a:pt x="27" y="758"/>
                            </a:lnTo>
                            <a:lnTo>
                              <a:pt x="49" y="777"/>
                            </a:lnTo>
                            <a:lnTo>
                              <a:pt x="233" y="781"/>
                            </a:lnTo>
                            <a:lnTo>
                              <a:pt x="273" y="673"/>
                            </a:lnTo>
                            <a:lnTo>
                              <a:pt x="306" y="622"/>
                            </a:lnTo>
                            <a:lnTo>
                              <a:pt x="325" y="548"/>
                            </a:lnTo>
                            <a:lnTo>
                              <a:pt x="295" y="693"/>
                            </a:lnTo>
                            <a:lnTo>
                              <a:pt x="283" y="744"/>
                            </a:lnTo>
                            <a:lnTo>
                              <a:pt x="272" y="800"/>
                            </a:lnTo>
                            <a:lnTo>
                              <a:pt x="251" y="852"/>
                            </a:lnTo>
                            <a:lnTo>
                              <a:pt x="393" y="852"/>
                            </a:lnTo>
                            <a:lnTo>
                              <a:pt x="441" y="771"/>
                            </a:lnTo>
                            <a:lnTo>
                              <a:pt x="468" y="731"/>
                            </a:lnTo>
                            <a:lnTo>
                              <a:pt x="490" y="683"/>
                            </a:lnTo>
                            <a:lnTo>
                              <a:pt x="515" y="622"/>
                            </a:lnTo>
                            <a:lnTo>
                              <a:pt x="526" y="563"/>
                            </a:lnTo>
                            <a:lnTo>
                              <a:pt x="538" y="511"/>
                            </a:lnTo>
                            <a:lnTo>
                              <a:pt x="552" y="452"/>
                            </a:lnTo>
                            <a:lnTo>
                              <a:pt x="561" y="395"/>
                            </a:lnTo>
                            <a:lnTo>
                              <a:pt x="570" y="329"/>
                            </a:lnTo>
                            <a:lnTo>
                              <a:pt x="570" y="285"/>
                            </a:lnTo>
                            <a:lnTo>
                              <a:pt x="570" y="242"/>
                            </a:lnTo>
                            <a:lnTo>
                              <a:pt x="570" y="181"/>
                            </a:lnTo>
                            <a:lnTo>
                              <a:pt x="570" y="144"/>
                            </a:lnTo>
                            <a:lnTo>
                              <a:pt x="550" y="16"/>
                            </a:lnTo>
                            <a:lnTo>
                              <a:pt x="505" y="0"/>
                            </a:lnTo>
                            <a:close/>
                          </a:path>
                        </a:pathLst>
                      </a:custGeom>
                      <a:solidFill>
                        <a:srgbClr val="7f7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38" name=""/>
                      <p:cNvSpPr/>
                      <p:nvPr/>
                    </p:nvSpPr>
                    <p:spPr>
                      <a:xfrm>
                        <a:off x="5971320" y="2268360"/>
                        <a:ext cx="70200" cy="53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2" h="202">
                            <a:moveTo>
                              <a:pt x="81" y="0"/>
                            </a:moveTo>
                            <a:lnTo>
                              <a:pt x="107" y="7"/>
                            </a:lnTo>
                            <a:lnTo>
                              <a:pt x="125" y="12"/>
                            </a:lnTo>
                            <a:lnTo>
                              <a:pt x="136" y="21"/>
                            </a:lnTo>
                            <a:lnTo>
                              <a:pt x="149" y="28"/>
                            </a:lnTo>
                            <a:lnTo>
                              <a:pt x="160" y="35"/>
                            </a:lnTo>
                            <a:lnTo>
                              <a:pt x="173" y="43"/>
                            </a:lnTo>
                            <a:lnTo>
                              <a:pt x="190" y="19"/>
                            </a:lnTo>
                            <a:lnTo>
                              <a:pt x="191" y="50"/>
                            </a:lnTo>
                            <a:lnTo>
                              <a:pt x="197" y="71"/>
                            </a:lnTo>
                            <a:lnTo>
                              <a:pt x="216" y="53"/>
                            </a:lnTo>
                            <a:lnTo>
                              <a:pt x="231" y="36"/>
                            </a:lnTo>
                            <a:lnTo>
                              <a:pt x="242" y="24"/>
                            </a:lnTo>
                            <a:lnTo>
                              <a:pt x="242" y="49"/>
                            </a:lnTo>
                            <a:lnTo>
                              <a:pt x="231" y="77"/>
                            </a:lnTo>
                            <a:lnTo>
                              <a:pt x="220" y="102"/>
                            </a:lnTo>
                            <a:lnTo>
                              <a:pt x="204" y="117"/>
                            </a:lnTo>
                            <a:lnTo>
                              <a:pt x="194" y="128"/>
                            </a:lnTo>
                            <a:lnTo>
                              <a:pt x="180" y="128"/>
                            </a:lnTo>
                            <a:lnTo>
                              <a:pt x="158" y="201"/>
                            </a:lnTo>
                            <a:lnTo>
                              <a:pt x="135" y="202"/>
                            </a:lnTo>
                            <a:lnTo>
                              <a:pt x="113" y="195"/>
                            </a:lnTo>
                            <a:lnTo>
                              <a:pt x="96" y="187"/>
                            </a:lnTo>
                            <a:lnTo>
                              <a:pt x="118" y="176"/>
                            </a:lnTo>
                            <a:lnTo>
                              <a:pt x="124" y="172"/>
                            </a:lnTo>
                            <a:lnTo>
                              <a:pt x="76" y="128"/>
                            </a:lnTo>
                            <a:lnTo>
                              <a:pt x="51" y="123"/>
                            </a:lnTo>
                            <a:lnTo>
                              <a:pt x="15" y="124"/>
                            </a:lnTo>
                            <a:lnTo>
                              <a:pt x="8" y="124"/>
                            </a:lnTo>
                            <a:lnTo>
                              <a:pt x="0" y="116"/>
                            </a:lnTo>
                            <a:lnTo>
                              <a:pt x="0" y="102"/>
                            </a:lnTo>
                            <a:lnTo>
                              <a:pt x="47" y="102"/>
                            </a:lnTo>
                            <a:lnTo>
                              <a:pt x="62" y="103"/>
                            </a:lnTo>
                            <a:lnTo>
                              <a:pt x="58" y="107"/>
                            </a:lnTo>
                            <a:lnTo>
                              <a:pt x="80" y="121"/>
                            </a:lnTo>
                            <a:lnTo>
                              <a:pt x="106" y="142"/>
                            </a:lnTo>
                            <a:lnTo>
                              <a:pt x="124" y="156"/>
                            </a:lnTo>
                            <a:lnTo>
                              <a:pt x="143" y="124"/>
                            </a:lnTo>
                            <a:lnTo>
                              <a:pt x="143" y="114"/>
                            </a:lnTo>
                            <a:lnTo>
                              <a:pt x="140" y="86"/>
                            </a:lnTo>
                            <a:lnTo>
                              <a:pt x="158" y="91"/>
                            </a:lnTo>
                            <a:lnTo>
                              <a:pt x="168" y="81"/>
                            </a:lnTo>
                            <a:lnTo>
                              <a:pt x="153" y="67"/>
                            </a:lnTo>
                            <a:lnTo>
                              <a:pt x="138" y="53"/>
                            </a:lnTo>
                            <a:lnTo>
                              <a:pt x="114" y="36"/>
                            </a:lnTo>
                            <a:lnTo>
                              <a:pt x="102" y="17"/>
                            </a:lnTo>
                            <a:lnTo>
                              <a:pt x="81" y="0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840" bIns="6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39" name=""/>
                      <p:cNvSpPr/>
                      <p:nvPr/>
                    </p:nvSpPr>
                    <p:spPr>
                      <a:xfrm>
                        <a:off x="5994720" y="2193840"/>
                        <a:ext cx="32040" cy="71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271">
                            <a:moveTo>
                              <a:pt x="37" y="0"/>
                            </a:moveTo>
                            <a:lnTo>
                              <a:pt x="81" y="83"/>
                            </a:lnTo>
                            <a:lnTo>
                              <a:pt x="94" y="126"/>
                            </a:lnTo>
                            <a:lnTo>
                              <a:pt x="105" y="169"/>
                            </a:lnTo>
                            <a:lnTo>
                              <a:pt x="109" y="204"/>
                            </a:lnTo>
                            <a:lnTo>
                              <a:pt x="109" y="271"/>
                            </a:lnTo>
                            <a:lnTo>
                              <a:pt x="101" y="249"/>
                            </a:lnTo>
                            <a:lnTo>
                              <a:pt x="61" y="229"/>
                            </a:lnTo>
                            <a:lnTo>
                              <a:pt x="44" y="224"/>
                            </a:lnTo>
                            <a:lnTo>
                              <a:pt x="11" y="200"/>
                            </a:lnTo>
                            <a:lnTo>
                              <a:pt x="0" y="169"/>
                            </a:lnTo>
                            <a:lnTo>
                              <a:pt x="10" y="155"/>
                            </a:lnTo>
                            <a:lnTo>
                              <a:pt x="39" y="196"/>
                            </a:lnTo>
                            <a:lnTo>
                              <a:pt x="55" y="213"/>
                            </a:lnTo>
                            <a:lnTo>
                              <a:pt x="83" y="229"/>
                            </a:lnTo>
                            <a:lnTo>
                              <a:pt x="92" y="229"/>
                            </a:lnTo>
                            <a:lnTo>
                              <a:pt x="101" y="239"/>
                            </a:lnTo>
                            <a:lnTo>
                              <a:pt x="94" y="155"/>
                            </a:lnTo>
                            <a:lnTo>
                              <a:pt x="68" y="91"/>
                            </a:lnTo>
                            <a:lnTo>
                              <a:pt x="54" y="60"/>
                            </a:lnTo>
                            <a:lnTo>
                              <a:pt x="37" y="0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40" name=""/>
                      <p:cNvGrpSpPr/>
                      <p:nvPr/>
                    </p:nvGrpSpPr>
                    <p:grpSpPr>
                      <a:xfrm>
                        <a:off x="6023520" y="2160000"/>
                        <a:ext cx="73800" cy="227880"/>
                        <a:chOff x="6023520" y="2160000"/>
                        <a:chExt cx="73800" cy="227880"/>
                      </a:xfrm>
                    </p:grpSpPr>
                    <p:sp>
                      <p:nvSpPr>
                        <p:cNvPr id="1241" name=""/>
                        <p:cNvSpPr/>
                        <p:nvPr/>
                      </p:nvSpPr>
                      <p:spPr>
                        <a:xfrm>
                          <a:off x="6023520" y="2162880"/>
                          <a:ext cx="72000" cy="225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7" h="852">
                              <a:moveTo>
                                <a:pt x="182" y="0"/>
                              </a:moveTo>
                              <a:lnTo>
                                <a:pt x="162" y="27"/>
                              </a:lnTo>
                              <a:lnTo>
                                <a:pt x="136" y="61"/>
                              </a:lnTo>
                              <a:lnTo>
                                <a:pt x="95" y="108"/>
                              </a:lnTo>
                              <a:lnTo>
                                <a:pt x="66" y="147"/>
                              </a:lnTo>
                              <a:lnTo>
                                <a:pt x="145" y="186"/>
                              </a:lnTo>
                              <a:lnTo>
                                <a:pt x="64" y="216"/>
                              </a:lnTo>
                              <a:lnTo>
                                <a:pt x="66" y="260"/>
                              </a:lnTo>
                              <a:lnTo>
                                <a:pt x="67" y="290"/>
                              </a:lnTo>
                              <a:lnTo>
                                <a:pt x="72" y="320"/>
                              </a:lnTo>
                              <a:lnTo>
                                <a:pt x="79" y="353"/>
                              </a:lnTo>
                              <a:lnTo>
                                <a:pt x="90" y="395"/>
                              </a:lnTo>
                              <a:lnTo>
                                <a:pt x="100" y="427"/>
                              </a:lnTo>
                              <a:lnTo>
                                <a:pt x="111" y="465"/>
                              </a:lnTo>
                              <a:lnTo>
                                <a:pt x="117" y="489"/>
                              </a:lnTo>
                              <a:lnTo>
                                <a:pt x="122" y="523"/>
                              </a:lnTo>
                              <a:lnTo>
                                <a:pt x="123" y="553"/>
                              </a:lnTo>
                              <a:lnTo>
                                <a:pt x="117" y="590"/>
                              </a:lnTo>
                              <a:lnTo>
                                <a:pt x="111" y="622"/>
                              </a:lnTo>
                              <a:lnTo>
                                <a:pt x="101" y="653"/>
                              </a:lnTo>
                              <a:lnTo>
                                <a:pt x="85" y="693"/>
                              </a:lnTo>
                              <a:lnTo>
                                <a:pt x="68" y="735"/>
                              </a:lnTo>
                              <a:lnTo>
                                <a:pt x="44" y="777"/>
                              </a:lnTo>
                              <a:lnTo>
                                <a:pt x="0" y="852"/>
                              </a:lnTo>
                              <a:lnTo>
                                <a:pt x="70" y="852"/>
                              </a:lnTo>
                              <a:lnTo>
                                <a:pt x="118" y="771"/>
                              </a:lnTo>
                              <a:lnTo>
                                <a:pt x="145" y="731"/>
                              </a:lnTo>
                              <a:lnTo>
                                <a:pt x="167" y="683"/>
                              </a:lnTo>
                              <a:lnTo>
                                <a:pt x="192" y="622"/>
                              </a:lnTo>
                              <a:lnTo>
                                <a:pt x="203" y="563"/>
                              </a:lnTo>
                              <a:lnTo>
                                <a:pt x="215" y="511"/>
                              </a:lnTo>
                              <a:lnTo>
                                <a:pt x="229" y="452"/>
                              </a:lnTo>
                              <a:lnTo>
                                <a:pt x="238" y="395"/>
                              </a:lnTo>
                              <a:lnTo>
                                <a:pt x="247" y="329"/>
                              </a:lnTo>
                              <a:lnTo>
                                <a:pt x="247" y="285"/>
                              </a:lnTo>
                              <a:lnTo>
                                <a:pt x="247" y="242"/>
                              </a:lnTo>
                              <a:lnTo>
                                <a:pt x="247" y="181"/>
                              </a:lnTo>
                              <a:lnTo>
                                <a:pt x="247" y="144"/>
                              </a:lnTo>
                              <a:lnTo>
                                <a:pt x="227" y="16"/>
                              </a:lnTo>
                              <a:lnTo>
                                <a:pt x="18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2" name=""/>
                        <p:cNvSpPr/>
                        <p:nvPr/>
                      </p:nvSpPr>
                      <p:spPr>
                        <a:xfrm>
                          <a:off x="6026040" y="2160000"/>
                          <a:ext cx="71280" cy="225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7" h="851">
                              <a:moveTo>
                                <a:pt x="183" y="0"/>
                              </a:moveTo>
                              <a:lnTo>
                                <a:pt x="162" y="27"/>
                              </a:lnTo>
                              <a:lnTo>
                                <a:pt x="136" y="61"/>
                              </a:lnTo>
                              <a:lnTo>
                                <a:pt x="95" y="108"/>
                              </a:lnTo>
                              <a:lnTo>
                                <a:pt x="66" y="147"/>
                              </a:lnTo>
                              <a:lnTo>
                                <a:pt x="145" y="185"/>
                              </a:lnTo>
                              <a:lnTo>
                                <a:pt x="65" y="216"/>
                              </a:lnTo>
                              <a:lnTo>
                                <a:pt x="66" y="259"/>
                              </a:lnTo>
                              <a:lnTo>
                                <a:pt x="67" y="290"/>
                              </a:lnTo>
                              <a:lnTo>
                                <a:pt x="72" y="319"/>
                              </a:lnTo>
                              <a:lnTo>
                                <a:pt x="79" y="352"/>
                              </a:lnTo>
                              <a:lnTo>
                                <a:pt x="90" y="394"/>
                              </a:lnTo>
                              <a:lnTo>
                                <a:pt x="100" y="426"/>
                              </a:lnTo>
                              <a:lnTo>
                                <a:pt x="111" y="461"/>
                              </a:lnTo>
                              <a:lnTo>
                                <a:pt x="117" y="488"/>
                              </a:lnTo>
                              <a:lnTo>
                                <a:pt x="122" y="522"/>
                              </a:lnTo>
                              <a:lnTo>
                                <a:pt x="123" y="553"/>
                              </a:lnTo>
                              <a:lnTo>
                                <a:pt x="117" y="589"/>
                              </a:lnTo>
                              <a:lnTo>
                                <a:pt x="111" y="621"/>
                              </a:lnTo>
                              <a:lnTo>
                                <a:pt x="101" y="653"/>
                              </a:lnTo>
                              <a:lnTo>
                                <a:pt x="85" y="693"/>
                              </a:lnTo>
                              <a:lnTo>
                                <a:pt x="68" y="735"/>
                              </a:lnTo>
                              <a:lnTo>
                                <a:pt x="44" y="776"/>
                              </a:lnTo>
                              <a:lnTo>
                                <a:pt x="0" y="851"/>
                              </a:lnTo>
                              <a:lnTo>
                                <a:pt x="71" y="851"/>
                              </a:lnTo>
                              <a:lnTo>
                                <a:pt x="118" y="770"/>
                              </a:lnTo>
                              <a:lnTo>
                                <a:pt x="145" y="730"/>
                              </a:lnTo>
                              <a:lnTo>
                                <a:pt x="167" y="682"/>
                              </a:lnTo>
                              <a:lnTo>
                                <a:pt x="192" y="621"/>
                              </a:lnTo>
                              <a:lnTo>
                                <a:pt x="203" y="562"/>
                              </a:lnTo>
                              <a:lnTo>
                                <a:pt x="216" y="511"/>
                              </a:lnTo>
                              <a:lnTo>
                                <a:pt x="229" y="452"/>
                              </a:lnTo>
                              <a:lnTo>
                                <a:pt x="239" y="394"/>
                              </a:lnTo>
                              <a:lnTo>
                                <a:pt x="247" y="329"/>
                              </a:lnTo>
                              <a:lnTo>
                                <a:pt x="247" y="284"/>
                              </a:lnTo>
                              <a:lnTo>
                                <a:pt x="247" y="242"/>
                              </a:lnTo>
                              <a:lnTo>
                                <a:pt x="247" y="181"/>
                              </a:lnTo>
                              <a:lnTo>
                                <a:pt x="247" y="143"/>
                              </a:lnTo>
                              <a:lnTo>
                                <a:pt x="228" y="15"/>
                              </a:lnTo>
                              <a:lnTo>
                                <a:pt x="183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7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43" name=""/>
                    <p:cNvGrpSpPr/>
                    <p:nvPr/>
                  </p:nvGrpSpPr>
                  <p:grpSpPr>
                    <a:xfrm>
                      <a:off x="6156000" y="2154600"/>
                      <a:ext cx="168480" cy="223920"/>
                      <a:chOff x="6156000" y="2154600"/>
                      <a:chExt cx="168480" cy="223920"/>
                    </a:xfrm>
                  </p:grpSpPr>
                  <p:sp>
                    <p:nvSpPr>
                      <p:cNvPr id="1244" name=""/>
                      <p:cNvSpPr/>
                      <p:nvPr/>
                    </p:nvSpPr>
                    <p:spPr>
                      <a:xfrm>
                        <a:off x="6157440" y="2156760"/>
                        <a:ext cx="167040" cy="22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5" h="839">
                            <a:moveTo>
                              <a:pt x="84" y="13"/>
                            </a:moveTo>
                            <a:lnTo>
                              <a:pt x="20" y="0"/>
                            </a:lnTo>
                            <a:lnTo>
                              <a:pt x="9" y="38"/>
                            </a:lnTo>
                            <a:lnTo>
                              <a:pt x="0" y="101"/>
                            </a:lnTo>
                            <a:lnTo>
                              <a:pt x="7" y="208"/>
                            </a:lnTo>
                            <a:lnTo>
                              <a:pt x="13" y="247"/>
                            </a:lnTo>
                            <a:lnTo>
                              <a:pt x="31" y="311"/>
                            </a:lnTo>
                            <a:lnTo>
                              <a:pt x="31" y="384"/>
                            </a:lnTo>
                            <a:lnTo>
                              <a:pt x="35" y="473"/>
                            </a:lnTo>
                            <a:lnTo>
                              <a:pt x="43" y="564"/>
                            </a:lnTo>
                            <a:lnTo>
                              <a:pt x="47" y="608"/>
                            </a:lnTo>
                            <a:lnTo>
                              <a:pt x="69" y="680"/>
                            </a:lnTo>
                            <a:lnTo>
                              <a:pt x="84" y="736"/>
                            </a:lnTo>
                            <a:lnTo>
                              <a:pt x="104" y="812"/>
                            </a:lnTo>
                            <a:lnTo>
                              <a:pt x="117" y="839"/>
                            </a:lnTo>
                            <a:lnTo>
                              <a:pt x="534" y="839"/>
                            </a:lnTo>
                            <a:lnTo>
                              <a:pt x="575" y="816"/>
                            </a:lnTo>
                            <a:lnTo>
                              <a:pt x="549" y="637"/>
                            </a:lnTo>
                            <a:lnTo>
                              <a:pt x="531" y="573"/>
                            </a:lnTo>
                            <a:lnTo>
                              <a:pt x="531" y="529"/>
                            </a:lnTo>
                            <a:lnTo>
                              <a:pt x="526" y="513"/>
                            </a:lnTo>
                            <a:lnTo>
                              <a:pt x="523" y="497"/>
                            </a:lnTo>
                            <a:lnTo>
                              <a:pt x="514" y="487"/>
                            </a:lnTo>
                            <a:lnTo>
                              <a:pt x="495" y="465"/>
                            </a:lnTo>
                            <a:lnTo>
                              <a:pt x="489" y="446"/>
                            </a:lnTo>
                            <a:lnTo>
                              <a:pt x="481" y="419"/>
                            </a:lnTo>
                            <a:lnTo>
                              <a:pt x="474" y="395"/>
                            </a:lnTo>
                            <a:lnTo>
                              <a:pt x="457" y="363"/>
                            </a:lnTo>
                            <a:lnTo>
                              <a:pt x="435" y="278"/>
                            </a:lnTo>
                            <a:lnTo>
                              <a:pt x="422" y="260"/>
                            </a:lnTo>
                            <a:lnTo>
                              <a:pt x="408" y="251"/>
                            </a:lnTo>
                            <a:lnTo>
                              <a:pt x="394" y="241"/>
                            </a:lnTo>
                            <a:lnTo>
                              <a:pt x="400" y="217"/>
                            </a:lnTo>
                            <a:lnTo>
                              <a:pt x="395" y="208"/>
                            </a:lnTo>
                            <a:lnTo>
                              <a:pt x="374" y="177"/>
                            </a:lnTo>
                            <a:lnTo>
                              <a:pt x="384" y="159"/>
                            </a:lnTo>
                            <a:lnTo>
                              <a:pt x="386" y="146"/>
                            </a:lnTo>
                            <a:lnTo>
                              <a:pt x="385" y="133"/>
                            </a:lnTo>
                            <a:lnTo>
                              <a:pt x="380" y="119"/>
                            </a:lnTo>
                            <a:lnTo>
                              <a:pt x="373" y="98"/>
                            </a:lnTo>
                            <a:lnTo>
                              <a:pt x="367" y="85"/>
                            </a:lnTo>
                            <a:lnTo>
                              <a:pt x="360" y="80"/>
                            </a:lnTo>
                            <a:lnTo>
                              <a:pt x="349" y="75"/>
                            </a:lnTo>
                            <a:lnTo>
                              <a:pt x="334" y="72"/>
                            </a:lnTo>
                            <a:lnTo>
                              <a:pt x="288" y="71"/>
                            </a:lnTo>
                            <a:lnTo>
                              <a:pt x="237" y="64"/>
                            </a:lnTo>
                            <a:lnTo>
                              <a:pt x="183" y="51"/>
                            </a:lnTo>
                            <a:lnTo>
                              <a:pt x="134" y="36"/>
                            </a:lnTo>
                            <a:lnTo>
                              <a:pt x="84" y="13"/>
                            </a:lnTo>
                            <a:close/>
                          </a:path>
                        </a:pathLst>
                      </a:custGeom>
                      <a:solidFill>
                        <a:srgbClr val="7f7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45" name=""/>
                      <p:cNvSpPr/>
                      <p:nvPr/>
                    </p:nvSpPr>
                    <p:spPr>
                      <a:xfrm>
                        <a:off x="6220080" y="2182320"/>
                        <a:ext cx="79920" cy="153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6" h="579">
                            <a:moveTo>
                              <a:pt x="104" y="0"/>
                            </a:moveTo>
                            <a:lnTo>
                              <a:pt x="128" y="21"/>
                            </a:lnTo>
                            <a:lnTo>
                              <a:pt x="112" y="42"/>
                            </a:lnTo>
                            <a:lnTo>
                              <a:pt x="104" y="64"/>
                            </a:lnTo>
                            <a:lnTo>
                              <a:pt x="97" y="92"/>
                            </a:lnTo>
                            <a:lnTo>
                              <a:pt x="91" y="134"/>
                            </a:lnTo>
                            <a:lnTo>
                              <a:pt x="115" y="125"/>
                            </a:lnTo>
                            <a:lnTo>
                              <a:pt x="134" y="118"/>
                            </a:lnTo>
                            <a:lnTo>
                              <a:pt x="148" y="128"/>
                            </a:lnTo>
                            <a:lnTo>
                              <a:pt x="108" y="162"/>
                            </a:lnTo>
                            <a:lnTo>
                              <a:pt x="91" y="181"/>
                            </a:lnTo>
                            <a:lnTo>
                              <a:pt x="91" y="233"/>
                            </a:lnTo>
                            <a:lnTo>
                              <a:pt x="97" y="237"/>
                            </a:lnTo>
                            <a:lnTo>
                              <a:pt x="137" y="206"/>
                            </a:lnTo>
                            <a:lnTo>
                              <a:pt x="157" y="195"/>
                            </a:lnTo>
                            <a:lnTo>
                              <a:pt x="181" y="187"/>
                            </a:lnTo>
                            <a:lnTo>
                              <a:pt x="193" y="187"/>
                            </a:lnTo>
                            <a:lnTo>
                              <a:pt x="182" y="206"/>
                            </a:lnTo>
                            <a:lnTo>
                              <a:pt x="168" y="223"/>
                            </a:lnTo>
                            <a:lnTo>
                              <a:pt x="148" y="236"/>
                            </a:lnTo>
                            <a:lnTo>
                              <a:pt x="128" y="243"/>
                            </a:lnTo>
                            <a:lnTo>
                              <a:pt x="112" y="252"/>
                            </a:lnTo>
                            <a:lnTo>
                              <a:pt x="93" y="269"/>
                            </a:lnTo>
                            <a:lnTo>
                              <a:pt x="90" y="304"/>
                            </a:lnTo>
                            <a:lnTo>
                              <a:pt x="80" y="325"/>
                            </a:lnTo>
                            <a:lnTo>
                              <a:pt x="84" y="361"/>
                            </a:lnTo>
                            <a:lnTo>
                              <a:pt x="82" y="390"/>
                            </a:lnTo>
                            <a:lnTo>
                              <a:pt x="95" y="384"/>
                            </a:lnTo>
                            <a:lnTo>
                              <a:pt x="106" y="384"/>
                            </a:lnTo>
                            <a:lnTo>
                              <a:pt x="97" y="410"/>
                            </a:lnTo>
                            <a:lnTo>
                              <a:pt x="79" y="428"/>
                            </a:lnTo>
                            <a:lnTo>
                              <a:pt x="80" y="442"/>
                            </a:lnTo>
                            <a:lnTo>
                              <a:pt x="90" y="473"/>
                            </a:lnTo>
                            <a:lnTo>
                              <a:pt x="95" y="497"/>
                            </a:lnTo>
                            <a:lnTo>
                              <a:pt x="126" y="526"/>
                            </a:lnTo>
                            <a:lnTo>
                              <a:pt x="160" y="519"/>
                            </a:lnTo>
                            <a:lnTo>
                              <a:pt x="208" y="515"/>
                            </a:lnTo>
                            <a:lnTo>
                              <a:pt x="230" y="512"/>
                            </a:lnTo>
                            <a:lnTo>
                              <a:pt x="250" y="516"/>
                            </a:lnTo>
                            <a:lnTo>
                              <a:pt x="265" y="523"/>
                            </a:lnTo>
                            <a:lnTo>
                              <a:pt x="276" y="536"/>
                            </a:lnTo>
                            <a:lnTo>
                              <a:pt x="243" y="532"/>
                            </a:lnTo>
                            <a:lnTo>
                              <a:pt x="212" y="530"/>
                            </a:lnTo>
                            <a:lnTo>
                              <a:pt x="182" y="530"/>
                            </a:lnTo>
                            <a:lnTo>
                              <a:pt x="160" y="532"/>
                            </a:lnTo>
                            <a:lnTo>
                              <a:pt x="146" y="553"/>
                            </a:lnTo>
                            <a:lnTo>
                              <a:pt x="197" y="565"/>
                            </a:lnTo>
                            <a:lnTo>
                              <a:pt x="112" y="576"/>
                            </a:lnTo>
                            <a:lnTo>
                              <a:pt x="57" y="579"/>
                            </a:lnTo>
                            <a:lnTo>
                              <a:pt x="90" y="553"/>
                            </a:lnTo>
                            <a:lnTo>
                              <a:pt x="90" y="532"/>
                            </a:lnTo>
                            <a:lnTo>
                              <a:pt x="65" y="491"/>
                            </a:lnTo>
                            <a:lnTo>
                              <a:pt x="61" y="438"/>
                            </a:lnTo>
                            <a:lnTo>
                              <a:pt x="69" y="385"/>
                            </a:lnTo>
                            <a:lnTo>
                              <a:pt x="57" y="374"/>
                            </a:lnTo>
                            <a:lnTo>
                              <a:pt x="64" y="352"/>
                            </a:lnTo>
                            <a:lnTo>
                              <a:pt x="0" y="349"/>
                            </a:lnTo>
                            <a:lnTo>
                              <a:pt x="20" y="329"/>
                            </a:lnTo>
                            <a:lnTo>
                              <a:pt x="51" y="331"/>
                            </a:lnTo>
                            <a:lnTo>
                              <a:pt x="79" y="307"/>
                            </a:lnTo>
                            <a:lnTo>
                              <a:pt x="68" y="289"/>
                            </a:lnTo>
                            <a:lnTo>
                              <a:pt x="79" y="261"/>
                            </a:lnTo>
                            <a:lnTo>
                              <a:pt x="82" y="166"/>
                            </a:lnTo>
                            <a:lnTo>
                              <a:pt x="86" y="109"/>
                            </a:lnTo>
                            <a:lnTo>
                              <a:pt x="101" y="21"/>
                            </a:lnTo>
                            <a:lnTo>
                              <a:pt x="104" y="0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46" name=""/>
                      <p:cNvSpPr/>
                      <p:nvPr/>
                    </p:nvSpPr>
                    <p:spPr>
                      <a:xfrm>
                        <a:off x="6201000" y="2256120"/>
                        <a:ext cx="349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9" h="23">
                            <a:moveTo>
                              <a:pt x="119" y="0"/>
                            </a:moveTo>
                            <a:lnTo>
                              <a:pt x="0" y="20"/>
                            </a:lnTo>
                            <a:lnTo>
                              <a:pt x="66" y="23"/>
                            </a:lnTo>
                            <a:lnTo>
                              <a:pt x="119" y="0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47" name=""/>
                      <p:cNvGrpSpPr/>
                      <p:nvPr/>
                    </p:nvGrpSpPr>
                    <p:grpSpPr>
                      <a:xfrm>
                        <a:off x="6156000" y="2154600"/>
                        <a:ext cx="59400" cy="223920"/>
                        <a:chOff x="6156000" y="2154600"/>
                        <a:chExt cx="59400" cy="223920"/>
                      </a:xfrm>
                    </p:grpSpPr>
                    <p:sp>
                      <p:nvSpPr>
                        <p:cNvPr id="1248" name=""/>
                        <p:cNvSpPr/>
                        <p:nvPr/>
                      </p:nvSpPr>
                      <p:spPr>
                        <a:xfrm>
                          <a:off x="6157440" y="2156760"/>
                          <a:ext cx="57960" cy="221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9" h="839">
                              <a:moveTo>
                                <a:pt x="84" y="13"/>
                              </a:moveTo>
                              <a:lnTo>
                                <a:pt x="20" y="0"/>
                              </a:lnTo>
                              <a:lnTo>
                                <a:pt x="9" y="38"/>
                              </a:lnTo>
                              <a:lnTo>
                                <a:pt x="0" y="101"/>
                              </a:lnTo>
                              <a:lnTo>
                                <a:pt x="7" y="208"/>
                              </a:lnTo>
                              <a:lnTo>
                                <a:pt x="13" y="247"/>
                              </a:lnTo>
                              <a:lnTo>
                                <a:pt x="31" y="311"/>
                              </a:lnTo>
                              <a:lnTo>
                                <a:pt x="31" y="384"/>
                              </a:lnTo>
                              <a:lnTo>
                                <a:pt x="35" y="473"/>
                              </a:lnTo>
                              <a:lnTo>
                                <a:pt x="43" y="564"/>
                              </a:lnTo>
                              <a:lnTo>
                                <a:pt x="47" y="608"/>
                              </a:lnTo>
                              <a:lnTo>
                                <a:pt x="69" y="680"/>
                              </a:lnTo>
                              <a:lnTo>
                                <a:pt x="84" y="736"/>
                              </a:lnTo>
                              <a:lnTo>
                                <a:pt x="104" y="812"/>
                              </a:lnTo>
                              <a:lnTo>
                                <a:pt x="117" y="839"/>
                              </a:lnTo>
                              <a:lnTo>
                                <a:pt x="176" y="839"/>
                              </a:lnTo>
                              <a:lnTo>
                                <a:pt x="166" y="817"/>
                              </a:lnTo>
                              <a:lnTo>
                                <a:pt x="145" y="762"/>
                              </a:lnTo>
                              <a:lnTo>
                                <a:pt x="133" y="723"/>
                              </a:lnTo>
                              <a:lnTo>
                                <a:pt x="121" y="680"/>
                              </a:lnTo>
                              <a:lnTo>
                                <a:pt x="115" y="635"/>
                              </a:lnTo>
                              <a:lnTo>
                                <a:pt x="115" y="591"/>
                              </a:lnTo>
                              <a:lnTo>
                                <a:pt x="117" y="548"/>
                              </a:lnTo>
                              <a:lnTo>
                                <a:pt x="131" y="480"/>
                              </a:lnTo>
                              <a:lnTo>
                                <a:pt x="142" y="436"/>
                              </a:lnTo>
                              <a:lnTo>
                                <a:pt x="159" y="384"/>
                              </a:lnTo>
                              <a:lnTo>
                                <a:pt x="179" y="325"/>
                              </a:lnTo>
                              <a:lnTo>
                                <a:pt x="183" y="290"/>
                              </a:lnTo>
                              <a:lnTo>
                                <a:pt x="190" y="251"/>
                              </a:lnTo>
                              <a:lnTo>
                                <a:pt x="193" y="226"/>
                              </a:lnTo>
                              <a:lnTo>
                                <a:pt x="105" y="207"/>
                              </a:lnTo>
                              <a:lnTo>
                                <a:pt x="199" y="154"/>
                              </a:lnTo>
                              <a:lnTo>
                                <a:pt x="165" y="126"/>
                              </a:lnTo>
                              <a:lnTo>
                                <a:pt x="142" y="98"/>
                              </a:lnTo>
                              <a:lnTo>
                                <a:pt x="112" y="58"/>
                              </a:lnTo>
                              <a:lnTo>
                                <a:pt x="84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9" name=""/>
                        <p:cNvSpPr/>
                        <p:nvPr/>
                      </p:nvSpPr>
                      <p:spPr>
                        <a:xfrm>
                          <a:off x="6156000" y="2154600"/>
                          <a:ext cx="57240" cy="221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9" h="838">
                              <a:moveTo>
                                <a:pt x="84" y="12"/>
                              </a:moveTo>
                              <a:lnTo>
                                <a:pt x="20" y="0"/>
                              </a:lnTo>
                              <a:lnTo>
                                <a:pt x="9" y="37"/>
                              </a:lnTo>
                              <a:lnTo>
                                <a:pt x="0" y="101"/>
                              </a:lnTo>
                              <a:lnTo>
                                <a:pt x="6" y="207"/>
                              </a:lnTo>
                              <a:lnTo>
                                <a:pt x="12" y="246"/>
                              </a:lnTo>
                              <a:lnTo>
                                <a:pt x="31" y="311"/>
                              </a:lnTo>
                              <a:lnTo>
                                <a:pt x="31" y="384"/>
                              </a:lnTo>
                              <a:lnTo>
                                <a:pt x="34" y="473"/>
                              </a:lnTo>
                              <a:lnTo>
                                <a:pt x="43" y="563"/>
                              </a:lnTo>
                              <a:lnTo>
                                <a:pt x="46" y="608"/>
                              </a:lnTo>
                              <a:lnTo>
                                <a:pt x="68" y="679"/>
                              </a:lnTo>
                              <a:lnTo>
                                <a:pt x="84" y="736"/>
                              </a:lnTo>
                              <a:lnTo>
                                <a:pt x="104" y="811"/>
                              </a:lnTo>
                              <a:lnTo>
                                <a:pt x="117" y="838"/>
                              </a:lnTo>
                              <a:lnTo>
                                <a:pt x="175" y="838"/>
                              </a:lnTo>
                              <a:lnTo>
                                <a:pt x="166" y="817"/>
                              </a:lnTo>
                              <a:lnTo>
                                <a:pt x="145" y="762"/>
                              </a:lnTo>
                              <a:lnTo>
                                <a:pt x="133" y="723"/>
                              </a:lnTo>
                              <a:lnTo>
                                <a:pt x="121" y="679"/>
                              </a:lnTo>
                              <a:lnTo>
                                <a:pt x="115" y="635"/>
                              </a:lnTo>
                              <a:lnTo>
                                <a:pt x="115" y="590"/>
                              </a:lnTo>
                              <a:lnTo>
                                <a:pt x="117" y="548"/>
                              </a:lnTo>
                              <a:lnTo>
                                <a:pt x="130" y="480"/>
                              </a:lnTo>
                              <a:lnTo>
                                <a:pt x="141" y="435"/>
                              </a:lnTo>
                              <a:lnTo>
                                <a:pt x="158" y="384"/>
                              </a:lnTo>
                              <a:lnTo>
                                <a:pt x="179" y="325"/>
                              </a:lnTo>
                              <a:lnTo>
                                <a:pt x="183" y="290"/>
                              </a:lnTo>
                              <a:lnTo>
                                <a:pt x="190" y="251"/>
                              </a:lnTo>
                              <a:lnTo>
                                <a:pt x="192" y="225"/>
                              </a:lnTo>
                              <a:lnTo>
                                <a:pt x="105" y="206"/>
                              </a:lnTo>
                              <a:lnTo>
                                <a:pt x="199" y="153"/>
                              </a:lnTo>
                              <a:lnTo>
                                <a:pt x="164" y="125"/>
                              </a:lnTo>
                              <a:lnTo>
                                <a:pt x="141" y="97"/>
                              </a:lnTo>
                              <a:lnTo>
                                <a:pt x="112" y="57"/>
                              </a:lnTo>
                              <a:lnTo>
                                <a:pt x="84" y="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7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250" name=""/>
                <p:cNvGrpSpPr/>
                <p:nvPr/>
              </p:nvGrpSpPr>
              <p:grpSpPr>
                <a:xfrm>
                  <a:off x="6051600" y="2052720"/>
                  <a:ext cx="131400" cy="146880"/>
                  <a:chOff x="6051600" y="2052720"/>
                  <a:chExt cx="131400" cy="146880"/>
                </a:xfrm>
              </p:grpSpPr>
              <p:sp>
                <p:nvSpPr>
                  <p:cNvPr id="1251" name=""/>
                  <p:cNvSpPr/>
                  <p:nvPr/>
                </p:nvSpPr>
                <p:spPr>
                  <a:xfrm>
                    <a:off x="6055920" y="2057040"/>
                    <a:ext cx="12708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0" h="542">
                        <a:moveTo>
                          <a:pt x="15" y="274"/>
                        </a:moveTo>
                        <a:lnTo>
                          <a:pt x="4" y="279"/>
                        </a:lnTo>
                        <a:lnTo>
                          <a:pt x="0" y="290"/>
                        </a:lnTo>
                        <a:lnTo>
                          <a:pt x="3" y="314"/>
                        </a:lnTo>
                        <a:lnTo>
                          <a:pt x="14" y="347"/>
                        </a:lnTo>
                        <a:lnTo>
                          <a:pt x="25" y="367"/>
                        </a:lnTo>
                        <a:lnTo>
                          <a:pt x="44" y="386"/>
                        </a:lnTo>
                        <a:lnTo>
                          <a:pt x="70" y="404"/>
                        </a:lnTo>
                        <a:lnTo>
                          <a:pt x="87" y="413"/>
                        </a:lnTo>
                        <a:lnTo>
                          <a:pt x="106" y="420"/>
                        </a:lnTo>
                        <a:lnTo>
                          <a:pt x="117" y="419"/>
                        </a:lnTo>
                        <a:lnTo>
                          <a:pt x="125" y="421"/>
                        </a:lnTo>
                        <a:lnTo>
                          <a:pt x="128" y="435"/>
                        </a:lnTo>
                        <a:lnTo>
                          <a:pt x="133" y="449"/>
                        </a:lnTo>
                        <a:lnTo>
                          <a:pt x="139" y="462"/>
                        </a:lnTo>
                        <a:lnTo>
                          <a:pt x="148" y="471"/>
                        </a:lnTo>
                        <a:lnTo>
                          <a:pt x="157" y="480"/>
                        </a:lnTo>
                        <a:lnTo>
                          <a:pt x="173" y="492"/>
                        </a:lnTo>
                        <a:lnTo>
                          <a:pt x="193" y="502"/>
                        </a:lnTo>
                        <a:lnTo>
                          <a:pt x="218" y="527"/>
                        </a:lnTo>
                        <a:lnTo>
                          <a:pt x="232" y="536"/>
                        </a:lnTo>
                        <a:lnTo>
                          <a:pt x="243" y="541"/>
                        </a:lnTo>
                        <a:lnTo>
                          <a:pt x="261" y="542"/>
                        </a:lnTo>
                        <a:lnTo>
                          <a:pt x="276" y="541"/>
                        </a:lnTo>
                        <a:lnTo>
                          <a:pt x="290" y="537"/>
                        </a:lnTo>
                        <a:lnTo>
                          <a:pt x="302" y="533"/>
                        </a:lnTo>
                        <a:lnTo>
                          <a:pt x="319" y="523"/>
                        </a:lnTo>
                        <a:lnTo>
                          <a:pt x="334" y="515"/>
                        </a:lnTo>
                        <a:lnTo>
                          <a:pt x="349" y="502"/>
                        </a:lnTo>
                        <a:lnTo>
                          <a:pt x="370" y="502"/>
                        </a:lnTo>
                        <a:lnTo>
                          <a:pt x="389" y="490"/>
                        </a:lnTo>
                        <a:lnTo>
                          <a:pt x="406" y="460"/>
                        </a:lnTo>
                        <a:lnTo>
                          <a:pt x="420" y="442"/>
                        </a:lnTo>
                        <a:lnTo>
                          <a:pt x="433" y="420"/>
                        </a:lnTo>
                        <a:lnTo>
                          <a:pt x="439" y="388"/>
                        </a:lnTo>
                        <a:lnTo>
                          <a:pt x="440" y="360"/>
                        </a:lnTo>
                        <a:lnTo>
                          <a:pt x="436" y="331"/>
                        </a:lnTo>
                        <a:lnTo>
                          <a:pt x="428" y="310"/>
                        </a:lnTo>
                        <a:lnTo>
                          <a:pt x="424" y="288"/>
                        </a:lnTo>
                        <a:lnTo>
                          <a:pt x="422" y="257"/>
                        </a:lnTo>
                        <a:lnTo>
                          <a:pt x="413" y="219"/>
                        </a:lnTo>
                        <a:lnTo>
                          <a:pt x="400" y="190"/>
                        </a:lnTo>
                        <a:lnTo>
                          <a:pt x="388" y="172"/>
                        </a:lnTo>
                        <a:lnTo>
                          <a:pt x="381" y="152"/>
                        </a:lnTo>
                        <a:lnTo>
                          <a:pt x="367" y="121"/>
                        </a:lnTo>
                        <a:lnTo>
                          <a:pt x="347" y="88"/>
                        </a:lnTo>
                        <a:lnTo>
                          <a:pt x="325" y="60"/>
                        </a:lnTo>
                        <a:lnTo>
                          <a:pt x="304" y="36"/>
                        </a:lnTo>
                        <a:lnTo>
                          <a:pt x="276" y="17"/>
                        </a:lnTo>
                        <a:lnTo>
                          <a:pt x="244" y="4"/>
                        </a:lnTo>
                        <a:lnTo>
                          <a:pt x="215" y="0"/>
                        </a:lnTo>
                        <a:lnTo>
                          <a:pt x="189" y="0"/>
                        </a:lnTo>
                        <a:lnTo>
                          <a:pt x="150" y="4"/>
                        </a:lnTo>
                        <a:lnTo>
                          <a:pt x="149" y="7"/>
                        </a:lnTo>
                        <a:lnTo>
                          <a:pt x="121" y="15"/>
                        </a:lnTo>
                        <a:lnTo>
                          <a:pt x="87" y="31"/>
                        </a:lnTo>
                        <a:lnTo>
                          <a:pt x="55" y="49"/>
                        </a:lnTo>
                        <a:lnTo>
                          <a:pt x="37" y="67"/>
                        </a:lnTo>
                        <a:lnTo>
                          <a:pt x="22" y="85"/>
                        </a:lnTo>
                        <a:lnTo>
                          <a:pt x="14" y="110"/>
                        </a:lnTo>
                        <a:lnTo>
                          <a:pt x="4" y="152"/>
                        </a:lnTo>
                        <a:lnTo>
                          <a:pt x="4" y="190"/>
                        </a:lnTo>
                        <a:lnTo>
                          <a:pt x="8" y="229"/>
                        </a:lnTo>
                        <a:lnTo>
                          <a:pt x="15" y="274"/>
                        </a:lnTo>
                        <a:close/>
                      </a:path>
                    </a:pathLst>
                  </a:custGeom>
                  <a:solidFill>
                    <a:srgbClr val="f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52" name=""/>
                  <p:cNvGrpSpPr/>
                  <p:nvPr/>
                </p:nvGrpSpPr>
                <p:grpSpPr>
                  <a:xfrm>
                    <a:off x="6074280" y="2101680"/>
                    <a:ext cx="100800" cy="87480"/>
                    <a:chOff x="6074280" y="2101680"/>
                    <a:chExt cx="100800" cy="87480"/>
                  </a:xfrm>
                </p:grpSpPr>
                <p:grpSp>
                  <p:nvGrpSpPr>
                    <p:cNvPr id="1253" name=""/>
                    <p:cNvGrpSpPr/>
                    <p:nvPr/>
                  </p:nvGrpSpPr>
                  <p:grpSpPr>
                    <a:xfrm>
                      <a:off x="6074280" y="2101680"/>
                      <a:ext cx="100800" cy="87480"/>
                      <a:chOff x="6074280" y="2101680"/>
                      <a:chExt cx="100800" cy="87480"/>
                    </a:xfrm>
                  </p:grpSpPr>
                  <p:sp>
                    <p:nvSpPr>
                      <p:cNvPr id="1254" name=""/>
                      <p:cNvSpPr/>
                      <p:nvPr/>
                    </p:nvSpPr>
                    <p:spPr>
                      <a:xfrm>
                        <a:off x="6140160" y="2101680"/>
                        <a:ext cx="27720" cy="41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155">
                            <a:moveTo>
                              <a:pt x="64" y="0"/>
                            </a:moveTo>
                            <a:lnTo>
                              <a:pt x="64" y="11"/>
                            </a:lnTo>
                            <a:lnTo>
                              <a:pt x="61" y="21"/>
                            </a:lnTo>
                            <a:lnTo>
                              <a:pt x="54" y="26"/>
                            </a:lnTo>
                            <a:lnTo>
                              <a:pt x="42" y="36"/>
                            </a:lnTo>
                            <a:lnTo>
                              <a:pt x="28" y="49"/>
                            </a:lnTo>
                            <a:lnTo>
                              <a:pt x="89" y="37"/>
                            </a:lnTo>
                            <a:lnTo>
                              <a:pt x="95" y="40"/>
                            </a:lnTo>
                            <a:lnTo>
                              <a:pt x="83" y="46"/>
                            </a:lnTo>
                            <a:lnTo>
                              <a:pt x="75" y="54"/>
                            </a:lnTo>
                            <a:lnTo>
                              <a:pt x="66" y="61"/>
                            </a:lnTo>
                            <a:lnTo>
                              <a:pt x="59" y="64"/>
                            </a:lnTo>
                            <a:lnTo>
                              <a:pt x="48" y="64"/>
                            </a:lnTo>
                            <a:lnTo>
                              <a:pt x="31" y="63"/>
                            </a:lnTo>
                            <a:lnTo>
                              <a:pt x="49" y="68"/>
                            </a:lnTo>
                            <a:lnTo>
                              <a:pt x="55" y="71"/>
                            </a:lnTo>
                            <a:lnTo>
                              <a:pt x="67" y="71"/>
                            </a:lnTo>
                            <a:lnTo>
                              <a:pt x="77" y="68"/>
                            </a:lnTo>
                            <a:lnTo>
                              <a:pt x="88" y="62"/>
                            </a:lnTo>
                            <a:lnTo>
                              <a:pt x="97" y="54"/>
                            </a:lnTo>
                            <a:lnTo>
                              <a:pt x="76" y="74"/>
                            </a:lnTo>
                            <a:lnTo>
                              <a:pt x="65" y="76"/>
                            </a:lnTo>
                            <a:lnTo>
                              <a:pt x="55" y="76"/>
                            </a:lnTo>
                            <a:lnTo>
                              <a:pt x="47" y="74"/>
                            </a:lnTo>
                            <a:lnTo>
                              <a:pt x="39" y="71"/>
                            </a:lnTo>
                            <a:lnTo>
                              <a:pt x="32" y="71"/>
                            </a:lnTo>
                            <a:lnTo>
                              <a:pt x="25" y="71"/>
                            </a:lnTo>
                            <a:lnTo>
                              <a:pt x="30" y="92"/>
                            </a:lnTo>
                            <a:lnTo>
                              <a:pt x="38" y="107"/>
                            </a:lnTo>
                            <a:lnTo>
                              <a:pt x="45" y="114"/>
                            </a:lnTo>
                            <a:lnTo>
                              <a:pt x="53" y="119"/>
                            </a:lnTo>
                            <a:lnTo>
                              <a:pt x="59" y="127"/>
                            </a:lnTo>
                            <a:lnTo>
                              <a:pt x="62" y="135"/>
                            </a:lnTo>
                            <a:lnTo>
                              <a:pt x="64" y="147"/>
                            </a:lnTo>
                            <a:lnTo>
                              <a:pt x="59" y="155"/>
                            </a:lnTo>
                            <a:lnTo>
                              <a:pt x="56" y="137"/>
                            </a:lnTo>
                            <a:lnTo>
                              <a:pt x="53" y="128"/>
                            </a:lnTo>
                            <a:lnTo>
                              <a:pt x="45" y="124"/>
                            </a:lnTo>
                            <a:lnTo>
                              <a:pt x="34" y="119"/>
                            </a:lnTo>
                            <a:lnTo>
                              <a:pt x="27" y="116"/>
                            </a:lnTo>
                            <a:lnTo>
                              <a:pt x="20" y="110"/>
                            </a:lnTo>
                            <a:lnTo>
                              <a:pt x="11" y="102"/>
                            </a:lnTo>
                            <a:lnTo>
                              <a:pt x="5" y="92"/>
                            </a:lnTo>
                            <a:lnTo>
                              <a:pt x="2" y="82"/>
                            </a:lnTo>
                            <a:lnTo>
                              <a:pt x="0" y="69"/>
                            </a:lnTo>
                            <a:lnTo>
                              <a:pt x="2" y="57"/>
                            </a:lnTo>
                            <a:lnTo>
                              <a:pt x="5" y="43"/>
                            </a:lnTo>
                            <a:lnTo>
                              <a:pt x="64" y="0"/>
                            </a:lnTo>
                            <a:close/>
                          </a:path>
                        </a:pathLst>
                      </a:custGeom>
                      <a:solidFill>
                        <a:srgbClr val="df9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760" bIns="-5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55" name=""/>
                      <p:cNvGrpSpPr/>
                      <p:nvPr/>
                    </p:nvGrpSpPr>
                    <p:grpSpPr>
                      <a:xfrm>
                        <a:off x="6074280" y="2128320"/>
                        <a:ext cx="100800" cy="60840"/>
                        <a:chOff x="6074280" y="2128320"/>
                        <a:chExt cx="100800" cy="60840"/>
                      </a:xfrm>
                    </p:grpSpPr>
                    <p:sp>
                      <p:nvSpPr>
                        <p:cNvPr id="1256" name=""/>
                        <p:cNvSpPr/>
                        <p:nvPr/>
                      </p:nvSpPr>
                      <p:spPr>
                        <a:xfrm>
                          <a:off x="6074280" y="2128320"/>
                          <a:ext cx="82440" cy="60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4" h="229">
                              <a:moveTo>
                                <a:pt x="12" y="0"/>
                              </a:moveTo>
                              <a:lnTo>
                                <a:pt x="16" y="22"/>
                              </a:lnTo>
                              <a:lnTo>
                                <a:pt x="25" y="42"/>
                              </a:lnTo>
                              <a:lnTo>
                                <a:pt x="44" y="63"/>
                              </a:lnTo>
                              <a:lnTo>
                                <a:pt x="55" y="74"/>
                              </a:lnTo>
                              <a:lnTo>
                                <a:pt x="68" y="82"/>
                              </a:lnTo>
                              <a:lnTo>
                                <a:pt x="86" y="82"/>
                              </a:lnTo>
                              <a:lnTo>
                                <a:pt x="112" y="79"/>
                              </a:lnTo>
                              <a:lnTo>
                                <a:pt x="136" y="79"/>
                              </a:lnTo>
                              <a:lnTo>
                                <a:pt x="150" y="74"/>
                              </a:lnTo>
                              <a:lnTo>
                                <a:pt x="162" y="75"/>
                              </a:lnTo>
                              <a:lnTo>
                                <a:pt x="161" y="90"/>
                              </a:lnTo>
                              <a:lnTo>
                                <a:pt x="164" y="107"/>
                              </a:lnTo>
                              <a:lnTo>
                                <a:pt x="152" y="108"/>
                              </a:lnTo>
                              <a:lnTo>
                                <a:pt x="137" y="110"/>
                              </a:lnTo>
                              <a:lnTo>
                                <a:pt x="136" y="122"/>
                              </a:lnTo>
                              <a:lnTo>
                                <a:pt x="139" y="136"/>
                              </a:lnTo>
                              <a:lnTo>
                                <a:pt x="144" y="152"/>
                              </a:lnTo>
                              <a:lnTo>
                                <a:pt x="155" y="163"/>
                              </a:lnTo>
                              <a:lnTo>
                                <a:pt x="170" y="168"/>
                              </a:lnTo>
                              <a:lnTo>
                                <a:pt x="191" y="167"/>
                              </a:lnTo>
                              <a:lnTo>
                                <a:pt x="202" y="167"/>
                              </a:lnTo>
                              <a:lnTo>
                                <a:pt x="213" y="177"/>
                              </a:lnTo>
                              <a:lnTo>
                                <a:pt x="226" y="188"/>
                              </a:lnTo>
                              <a:lnTo>
                                <a:pt x="243" y="194"/>
                              </a:lnTo>
                              <a:lnTo>
                                <a:pt x="260" y="194"/>
                              </a:lnTo>
                              <a:lnTo>
                                <a:pt x="269" y="193"/>
                              </a:lnTo>
                              <a:lnTo>
                                <a:pt x="276" y="206"/>
                              </a:lnTo>
                              <a:lnTo>
                                <a:pt x="284" y="215"/>
                              </a:lnTo>
                              <a:lnTo>
                                <a:pt x="270" y="223"/>
                              </a:lnTo>
                              <a:lnTo>
                                <a:pt x="256" y="229"/>
                              </a:lnTo>
                              <a:lnTo>
                                <a:pt x="236" y="229"/>
                              </a:lnTo>
                              <a:lnTo>
                                <a:pt x="217" y="229"/>
                              </a:lnTo>
                              <a:lnTo>
                                <a:pt x="214" y="229"/>
                              </a:lnTo>
                              <a:lnTo>
                                <a:pt x="180" y="224"/>
                              </a:lnTo>
                              <a:lnTo>
                                <a:pt x="162" y="218"/>
                              </a:lnTo>
                              <a:lnTo>
                                <a:pt x="139" y="204"/>
                              </a:lnTo>
                              <a:lnTo>
                                <a:pt x="109" y="177"/>
                              </a:lnTo>
                              <a:lnTo>
                                <a:pt x="68" y="142"/>
                              </a:lnTo>
                              <a:lnTo>
                                <a:pt x="29" y="103"/>
                              </a:lnTo>
                              <a:lnTo>
                                <a:pt x="12" y="82"/>
                              </a:lnTo>
                              <a:lnTo>
                                <a:pt x="1" y="61"/>
                              </a:lnTo>
                              <a:lnTo>
                                <a:pt x="0" y="45"/>
                              </a:lnTo>
                              <a:lnTo>
                                <a:pt x="1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4040" bIns="14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7" name=""/>
                        <p:cNvSpPr/>
                        <p:nvPr/>
                      </p:nvSpPr>
                      <p:spPr>
                        <a:xfrm>
                          <a:off x="6127200" y="2138400"/>
                          <a:ext cx="13680" cy="32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" h="121">
                              <a:moveTo>
                                <a:pt x="49" y="3"/>
                              </a:moveTo>
                              <a:lnTo>
                                <a:pt x="37" y="0"/>
                              </a:lnTo>
                              <a:lnTo>
                                <a:pt x="28" y="1"/>
                              </a:lnTo>
                              <a:lnTo>
                                <a:pt x="21" y="7"/>
                              </a:lnTo>
                              <a:lnTo>
                                <a:pt x="15" y="14"/>
                              </a:lnTo>
                              <a:lnTo>
                                <a:pt x="10" y="26"/>
                              </a:lnTo>
                              <a:lnTo>
                                <a:pt x="10" y="39"/>
                              </a:lnTo>
                              <a:lnTo>
                                <a:pt x="8" y="63"/>
                              </a:lnTo>
                              <a:lnTo>
                                <a:pt x="0" y="86"/>
                              </a:lnTo>
                              <a:lnTo>
                                <a:pt x="8" y="96"/>
                              </a:lnTo>
                              <a:lnTo>
                                <a:pt x="14" y="121"/>
                              </a:lnTo>
                              <a:lnTo>
                                <a:pt x="11" y="88"/>
                              </a:lnTo>
                              <a:lnTo>
                                <a:pt x="14" y="68"/>
                              </a:lnTo>
                              <a:lnTo>
                                <a:pt x="14" y="50"/>
                              </a:lnTo>
                              <a:lnTo>
                                <a:pt x="15" y="42"/>
                              </a:lnTo>
                              <a:lnTo>
                                <a:pt x="20" y="39"/>
                              </a:lnTo>
                              <a:lnTo>
                                <a:pt x="28" y="40"/>
                              </a:lnTo>
                              <a:lnTo>
                                <a:pt x="34" y="40"/>
                              </a:lnTo>
                              <a:lnTo>
                                <a:pt x="25" y="34"/>
                              </a:lnTo>
                              <a:lnTo>
                                <a:pt x="22" y="27"/>
                              </a:lnTo>
                              <a:lnTo>
                                <a:pt x="21" y="19"/>
                              </a:lnTo>
                              <a:lnTo>
                                <a:pt x="26" y="10"/>
                              </a:lnTo>
                              <a:lnTo>
                                <a:pt x="36" y="6"/>
                              </a:lnTo>
                              <a:lnTo>
                                <a:pt x="49" y="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4400" bIns="-14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8" name=""/>
                        <p:cNvSpPr/>
                        <p:nvPr/>
                      </p:nvSpPr>
                      <p:spPr>
                        <a:xfrm>
                          <a:off x="6137640" y="2142360"/>
                          <a:ext cx="8640" cy="5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22">
                              <a:moveTo>
                                <a:pt x="0" y="22"/>
                              </a:moveTo>
                              <a:lnTo>
                                <a:pt x="7" y="15"/>
                              </a:lnTo>
                              <a:lnTo>
                                <a:pt x="11" y="8"/>
                              </a:lnTo>
                              <a:lnTo>
                                <a:pt x="17" y="0"/>
                              </a:lnTo>
                              <a:lnTo>
                                <a:pt x="17" y="12"/>
                              </a:lnTo>
                              <a:lnTo>
                                <a:pt x="22" y="19"/>
                              </a:lnTo>
                              <a:lnTo>
                                <a:pt x="31" y="21"/>
                              </a:lnTo>
                              <a:lnTo>
                                <a:pt x="17" y="21"/>
                              </a:lnTo>
                              <a:lnTo>
                                <a:pt x="0" y="2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400" bIns="-41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9" name=""/>
                        <p:cNvSpPr/>
                        <p:nvPr/>
                      </p:nvSpPr>
                      <p:spPr>
                        <a:xfrm>
                          <a:off x="6145560" y="2144880"/>
                          <a:ext cx="10440" cy="2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6" h="13">
                              <a:moveTo>
                                <a:pt x="0" y="13"/>
                              </a:moveTo>
                              <a:lnTo>
                                <a:pt x="22" y="10"/>
                              </a:lnTo>
                              <a:lnTo>
                                <a:pt x="29" y="6"/>
                              </a:lnTo>
                              <a:lnTo>
                                <a:pt x="36" y="0"/>
                              </a:lnTo>
                              <a:lnTo>
                                <a:pt x="33" y="10"/>
                              </a:lnTo>
                              <a:lnTo>
                                <a:pt x="24" y="13"/>
                              </a:lnTo>
                              <a:lnTo>
                                <a:pt x="0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0" name=""/>
                        <p:cNvSpPr/>
                        <p:nvPr/>
                      </p:nvSpPr>
                      <p:spPr>
                        <a:xfrm>
                          <a:off x="6157800" y="2144880"/>
                          <a:ext cx="17280" cy="10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2" h="44">
                              <a:moveTo>
                                <a:pt x="0" y="2"/>
                              </a:moveTo>
                              <a:lnTo>
                                <a:pt x="13" y="7"/>
                              </a:lnTo>
                              <a:lnTo>
                                <a:pt x="24" y="11"/>
                              </a:lnTo>
                              <a:lnTo>
                                <a:pt x="37" y="18"/>
                              </a:lnTo>
                              <a:lnTo>
                                <a:pt x="47" y="29"/>
                              </a:lnTo>
                              <a:lnTo>
                                <a:pt x="62" y="44"/>
                              </a:lnTo>
                              <a:lnTo>
                                <a:pt x="55" y="28"/>
                              </a:lnTo>
                              <a:lnTo>
                                <a:pt x="46" y="18"/>
                              </a:lnTo>
                              <a:lnTo>
                                <a:pt x="38" y="10"/>
                              </a:lnTo>
                              <a:lnTo>
                                <a:pt x="28" y="5"/>
                              </a:lnTo>
                              <a:lnTo>
                                <a:pt x="16" y="0"/>
                              </a:lnTo>
                              <a:lnTo>
                                <a:pt x="0" y="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00" bIns="-36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1" name=""/>
                        <p:cNvSpPr/>
                        <p:nvPr/>
                      </p:nvSpPr>
                      <p:spPr>
                        <a:xfrm>
                          <a:off x="6150600" y="2150280"/>
                          <a:ext cx="2520" cy="6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" h="25">
                              <a:moveTo>
                                <a:pt x="0" y="0"/>
                              </a:moveTo>
                              <a:lnTo>
                                <a:pt x="11" y="14"/>
                              </a:lnTo>
                              <a:lnTo>
                                <a:pt x="9" y="25"/>
                              </a:lnTo>
                              <a:lnTo>
                                <a:pt x="2" y="1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2" name=""/>
                        <p:cNvSpPr/>
                        <p:nvPr/>
                      </p:nvSpPr>
                      <p:spPr>
                        <a:xfrm>
                          <a:off x="6135840" y="2153520"/>
                          <a:ext cx="32040" cy="11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2" h="44">
                              <a:moveTo>
                                <a:pt x="0" y="44"/>
                              </a:moveTo>
                              <a:lnTo>
                                <a:pt x="16" y="39"/>
                              </a:lnTo>
                              <a:lnTo>
                                <a:pt x="28" y="34"/>
                              </a:lnTo>
                              <a:lnTo>
                                <a:pt x="41" y="25"/>
                              </a:lnTo>
                              <a:lnTo>
                                <a:pt x="53" y="18"/>
                              </a:lnTo>
                              <a:lnTo>
                                <a:pt x="67" y="18"/>
                              </a:lnTo>
                              <a:lnTo>
                                <a:pt x="70" y="8"/>
                              </a:lnTo>
                              <a:lnTo>
                                <a:pt x="80" y="5"/>
                              </a:lnTo>
                              <a:lnTo>
                                <a:pt x="93" y="4"/>
                              </a:lnTo>
                              <a:lnTo>
                                <a:pt x="104" y="4"/>
                              </a:lnTo>
                              <a:lnTo>
                                <a:pt x="112" y="0"/>
                              </a:lnTo>
                              <a:lnTo>
                                <a:pt x="95" y="11"/>
                              </a:lnTo>
                              <a:lnTo>
                                <a:pt x="85" y="14"/>
                              </a:lnTo>
                              <a:lnTo>
                                <a:pt x="74" y="21"/>
                              </a:lnTo>
                              <a:lnTo>
                                <a:pt x="67" y="28"/>
                              </a:lnTo>
                              <a:lnTo>
                                <a:pt x="56" y="30"/>
                              </a:lnTo>
                              <a:lnTo>
                                <a:pt x="45" y="34"/>
                              </a:lnTo>
                              <a:lnTo>
                                <a:pt x="31" y="40"/>
                              </a:lnTo>
                              <a:lnTo>
                                <a:pt x="20" y="44"/>
                              </a:lnTo>
                              <a:lnTo>
                                <a:pt x="0" y="4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3" name=""/>
                        <p:cNvSpPr/>
                        <p:nvPr/>
                      </p:nvSpPr>
                      <p:spPr>
                        <a:xfrm>
                          <a:off x="6139440" y="2160720"/>
                          <a:ext cx="27000" cy="7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5" h="30">
                              <a:moveTo>
                                <a:pt x="0" y="24"/>
                              </a:moveTo>
                              <a:lnTo>
                                <a:pt x="23" y="26"/>
                              </a:lnTo>
                              <a:lnTo>
                                <a:pt x="45" y="23"/>
                              </a:lnTo>
                              <a:lnTo>
                                <a:pt x="53" y="18"/>
                              </a:lnTo>
                              <a:lnTo>
                                <a:pt x="63" y="12"/>
                              </a:lnTo>
                              <a:lnTo>
                                <a:pt x="72" y="6"/>
                              </a:lnTo>
                              <a:lnTo>
                                <a:pt x="81" y="5"/>
                              </a:lnTo>
                              <a:lnTo>
                                <a:pt x="95" y="0"/>
                              </a:lnTo>
                              <a:lnTo>
                                <a:pt x="84" y="9"/>
                              </a:lnTo>
                              <a:lnTo>
                                <a:pt x="72" y="10"/>
                              </a:lnTo>
                              <a:lnTo>
                                <a:pt x="63" y="17"/>
                              </a:lnTo>
                              <a:lnTo>
                                <a:pt x="52" y="25"/>
                              </a:lnTo>
                              <a:lnTo>
                                <a:pt x="44" y="30"/>
                              </a:lnTo>
                              <a:lnTo>
                                <a:pt x="30" y="30"/>
                              </a:lnTo>
                              <a:lnTo>
                                <a:pt x="16" y="27"/>
                              </a:lnTo>
                              <a:lnTo>
                                <a:pt x="0" y="2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264" name=""/>
                      <p:cNvSpPr/>
                      <p:nvPr/>
                    </p:nvSpPr>
                    <p:spPr>
                      <a:xfrm>
                        <a:off x="6100200" y="2127600"/>
                        <a:ext cx="2160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5" h="55">
                            <a:moveTo>
                              <a:pt x="74" y="0"/>
                            </a:moveTo>
                            <a:lnTo>
                              <a:pt x="75" y="22"/>
                            </a:lnTo>
                            <a:lnTo>
                              <a:pt x="72" y="35"/>
                            </a:lnTo>
                            <a:lnTo>
                              <a:pt x="64" y="47"/>
                            </a:lnTo>
                            <a:lnTo>
                              <a:pt x="51" y="52"/>
                            </a:lnTo>
                            <a:lnTo>
                              <a:pt x="33" y="55"/>
                            </a:lnTo>
                            <a:lnTo>
                              <a:pt x="20" y="54"/>
                            </a:lnTo>
                            <a:lnTo>
                              <a:pt x="11" y="49"/>
                            </a:lnTo>
                            <a:lnTo>
                              <a:pt x="5" y="44"/>
                            </a:lnTo>
                            <a:lnTo>
                              <a:pt x="0" y="38"/>
                            </a:lnTo>
                            <a:lnTo>
                              <a:pt x="3" y="34"/>
                            </a:lnTo>
                            <a:lnTo>
                              <a:pt x="13" y="44"/>
                            </a:lnTo>
                            <a:lnTo>
                              <a:pt x="22" y="50"/>
                            </a:lnTo>
                            <a:lnTo>
                              <a:pt x="35" y="52"/>
                            </a:lnTo>
                            <a:lnTo>
                              <a:pt x="50" y="50"/>
                            </a:lnTo>
                            <a:lnTo>
                              <a:pt x="58" y="42"/>
                            </a:lnTo>
                            <a:lnTo>
                              <a:pt x="64" y="31"/>
                            </a:lnTo>
                            <a:lnTo>
                              <a:pt x="69" y="23"/>
                            </a:lnTo>
                            <a:lnTo>
                              <a:pt x="72" y="14"/>
                            </a:lnTo>
                            <a:lnTo>
                              <a:pt x="61" y="21"/>
                            </a:lnTo>
                            <a:lnTo>
                              <a:pt x="51" y="24"/>
                            </a:lnTo>
                            <a:lnTo>
                              <a:pt x="38" y="24"/>
                            </a:lnTo>
                            <a:lnTo>
                              <a:pt x="24" y="24"/>
                            </a:lnTo>
                            <a:lnTo>
                              <a:pt x="61" y="12"/>
                            </a:lnTo>
                            <a:lnTo>
                              <a:pt x="74" y="0"/>
                            </a:lnTo>
                            <a:close/>
                          </a:path>
                        </a:pathLst>
                      </a:custGeom>
                      <a:solidFill>
                        <a:srgbClr val="df9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65" name=""/>
                    <p:cNvGrpSpPr/>
                    <p:nvPr/>
                  </p:nvGrpSpPr>
                  <p:grpSpPr>
                    <a:xfrm>
                      <a:off x="6146280" y="2110320"/>
                      <a:ext cx="20520" cy="7560"/>
                      <a:chOff x="6146280" y="2110320"/>
                      <a:chExt cx="20520" cy="7560"/>
                    </a:xfrm>
                  </p:grpSpPr>
                  <p:sp>
                    <p:nvSpPr>
                      <p:cNvPr id="1266" name=""/>
                      <p:cNvSpPr/>
                      <p:nvPr/>
                    </p:nvSpPr>
                    <p:spPr>
                      <a:xfrm>
                        <a:off x="6146280" y="2110320"/>
                        <a:ext cx="2052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28">
                            <a:moveTo>
                              <a:pt x="0" y="26"/>
                            </a:moveTo>
                            <a:lnTo>
                              <a:pt x="7" y="16"/>
                            </a:lnTo>
                            <a:lnTo>
                              <a:pt x="14" y="10"/>
                            </a:lnTo>
                            <a:lnTo>
                              <a:pt x="22" y="4"/>
                            </a:lnTo>
                            <a:lnTo>
                              <a:pt x="33" y="1"/>
                            </a:lnTo>
                            <a:lnTo>
                              <a:pt x="44" y="0"/>
                            </a:lnTo>
                            <a:lnTo>
                              <a:pt x="55" y="1"/>
                            </a:lnTo>
                            <a:lnTo>
                              <a:pt x="70" y="6"/>
                            </a:lnTo>
                            <a:lnTo>
                              <a:pt x="53" y="9"/>
                            </a:lnTo>
                            <a:lnTo>
                              <a:pt x="46" y="16"/>
                            </a:lnTo>
                            <a:lnTo>
                              <a:pt x="38" y="23"/>
                            </a:lnTo>
                            <a:lnTo>
                              <a:pt x="31" y="27"/>
                            </a:lnTo>
                            <a:lnTo>
                              <a:pt x="22" y="28"/>
                            </a:lnTo>
                            <a:lnTo>
                              <a:pt x="0" y="2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67" name=""/>
                      <p:cNvSpPr/>
                      <p:nvPr/>
                    </p:nvSpPr>
                    <p:spPr>
                      <a:xfrm>
                        <a:off x="6146280" y="2110320"/>
                        <a:ext cx="1980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29">
                            <a:moveTo>
                              <a:pt x="0" y="25"/>
                            </a:moveTo>
                            <a:lnTo>
                              <a:pt x="6" y="16"/>
                            </a:lnTo>
                            <a:lnTo>
                              <a:pt x="14" y="10"/>
                            </a:lnTo>
                            <a:lnTo>
                              <a:pt x="22" y="4"/>
                            </a:lnTo>
                            <a:lnTo>
                              <a:pt x="33" y="1"/>
                            </a:lnTo>
                            <a:lnTo>
                              <a:pt x="44" y="0"/>
                            </a:lnTo>
                            <a:lnTo>
                              <a:pt x="55" y="1"/>
                            </a:lnTo>
                            <a:lnTo>
                              <a:pt x="70" y="5"/>
                            </a:lnTo>
                            <a:lnTo>
                              <a:pt x="49" y="4"/>
                            </a:lnTo>
                            <a:lnTo>
                              <a:pt x="49" y="11"/>
                            </a:lnTo>
                            <a:lnTo>
                              <a:pt x="47" y="20"/>
                            </a:lnTo>
                            <a:lnTo>
                              <a:pt x="36" y="27"/>
                            </a:lnTo>
                            <a:lnTo>
                              <a:pt x="27" y="29"/>
                            </a:lnTo>
                            <a:lnTo>
                              <a:pt x="21" y="24"/>
                            </a:lnTo>
                            <a:lnTo>
                              <a:pt x="17" y="18"/>
                            </a:lnTo>
                            <a:lnTo>
                              <a:pt x="15" y="13"/>
                            </a:lnTo>
                            <a:lnTo>
                              <a:pt x="0" y="25"/>
                            </a:lnTo>
                            <a:close/>
                          </a:path>
                        </a:pathLst>
                      </a:cu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68" name=""/>
                    <p:cNvGrpSpPr/>
                    <p:nvPr/>
                  </p:nvGrpSpPr>
                  <p:grpSpPr>
                    <a:xfrm>
                      <a:off x="6097680" y="2126160"/>
                      <a:ext cx="24120" cy="9360"/>
                      <a:chOff x="6097680" y="2126160"/>
                      <a:chExt cx="24120" cy="9360"/>
                    </a:xfrm>
                  </p:grpSpPr>
                  <p:sp>
                    <p:nvSpPr>
                      <p:cNvPr id="1269" name=""/>
                      <p:cNvSpPr/>
                      <p:nvPr/>
                    </p:nvSpPr>
                    <p:spPr>
                      <a:xfrm>
                        <a:off x="6098400" y="2126160"/>
                        <a:ext cx="2340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0" h="36">
                            <a:moveTo>
                              <a:pt x="0" y="35"/>
                            </a:moveTo>
                            <a:lnTo>
                              <a:pt x="24" y="25"/>
                            </a:lnTo>
                            <a:lnTo>
                              <a:pt x="39" y="18"/>
                            </a:lnTo>
                            <a:lnTo>
                              <a:pt x="56" y="9"/>
                            </a:lnTo>
                            <a:lnTo>
                              <a:pt x="68" y="2"/>
                            </a:lnTo>
                            <a:lnTo>
                              <a:pt x="74" y="0"/>
                            </a:lnTo>
                            <a:lnTo>
                              <a:pt x="80" y="5"/>
                            </a:lnTo>
                            <a:lnTo>
                              <a:pt x="80" y="15"/>
                            </a:lnTo>
                            <a:lnTo>
                              <a:pt x="74" y="24"/>
                            </a:lnTo>
                            <a:lnTo>
                              <a:pt x="73" y="25"/>
                            </a:lnTo>
                            <a:lnTo>
                              <a:pt x="63" y="30"/>
                            </a:lnTo>
                            <a:lnTo>
                              <a:pt x="62" y="31"/>
                            </a:lnTo>
                            <a:lnTo>
                              <a:pt x="42" y="35"/>
                            </a:lnTo>
                            <a:lnTo>
                              <a:pt x="16" y="36"/>
                            </a:lnTo>
                            <a:lnTo>
                              <a:pt x="0" y="35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70" name=""/>
                      <p:cNvSpPr/>
                      <p:nvPr/>
                    </p:nvSpPr>
                    <p:spPr>
                      <a:xfrm>
                        <a:off x="6097680" y="2126160"/>
                        <a:ext cx="2340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1" h="35">
                            <a:moveTo>
                              <a:pt x="0" y="35"/>
                            </a:moveTo>
                            <a:lnTo>
                              <a:pt x="25" y="25"/>
                            </a:lnTo>
                            <a:lnTo>
                              <a:pt x="39" y="18"/>
                            </a:lnTo>
                            <a:lnTo>
                              <a:pt x="56" y="9"/>
                            </a:lnTo>
                            <a:lnTo>
                              <a:pt x="69" y="2"/>
                            </a:lnTo>
                            <a:lnTo>
                              <a:pt x="75" y="0"/>
                            </a:lnTo>
                            <a:lnTo>
                              <a:pt x="81" y="3"/>
                            </a:lnTo>
                            <a:lnTo>
                              <a:pt x="71" y="5"/>
                            </a:lnTo>
                            <a:lnTo>
                              <a:pt x="76" y="10"/>
                            </a:lnTo>
                            <a:lnTo>
                              <a:pt x="77" y="17"/>
                            </a:lnTo>
                            <a:lnTo>
                              <a:pt x="72" y="29"/>
                            </a:lnTo>
                            <a:lnTo>
                              <a:pt x="63" y="32"/>
                            </a:lnTo>
                            <a:lnTo>
                              <a:pt x="50" y="35"/>
                            </a:lnTo>
                            <a:lnTo>
                              <a:pt x="41" y="30"/>
                            </a:lnTo>
                            <a:lnTo>
                              <a:pt x="35" y="24"/>
                            </a:lnTo>
                            <a:lnTo>
                              <a:pt x="19" y="30"/>
                            </a:lnTo>
                            <a:lnTo>
                              <a:pt x="0" y="35"/>
                            </a:lnTo>
                            <a:close/>
                          </a:path>
                        </a:pathLst>
                      </a:cu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271" name=""/>
                  <p:cNvGrpSpPr/>
                  <p:nvPr/>
                </p:nvGrpSpPr>
                <p:grpSpPr>
                  <a:xfrm>
                    <a:off x="6051600" y="2052720"/>
                    <a:ext cx="119160" cy="91800"/>
                    <a:chOff x="6051600" y="2052720"/>
                    <a:chExt cx="119160" cy="91800"/>
                  </a:xfrm>
                </p:grpSpPr>
                <p:grpSp>
                  <p:nvGrpSpPr>
                    <p:cNvPr id="1272" name=""/>
                    <p:cNvGrpSpPr/>
                    <p:nvPr/>
                  </p:nvGrpSpPr>
                  <p:grpSpPr>
                    <a:xfrm>
                      <a:off x="6091560" y="2096280"/>
                      <a:ext cx="68400" cy="35640"/>
                      <a:chOff x="6091560" y="2096280"/>
                      <a:chExt cx="68400" cy="35640"/>
                    </a:xfrm>
                  </p:grpSpPr>
                  <p:sp>
                    <p:nvSpPr>
                      <p:cNvPr id="1273" name=""/>
                      <p:cNvSpPr/>
                      <p:nvPr/>
                    </p:nvSpPr>
                    <p:spPr>
                      <a:xfrm>
                        <a:off x="6091560" y="2118600"/>
                        <a:ext cx="3276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4" h="51">
                            <a:moveTo>
                              <a:pt x="114" y="6"/>
                            </a:moveTo>
                            <a:lnTo>
                              <a:pt x="105" y="4"/>
                            </a:lnTo>
                            <a:lnTo>
                              <a:pt x="99" y="0"/>
                            </a:lnTo>
                            <a:lnTo>
                              <a:pt x="86" y="4"/>
                            </a:lnTo>
                            <a:lnTo>
                              <a:pt x="70" y="4"/>
                            </a:lnTo>
                            <a:lnTo>
                              <a:pt x="50" y="5"/>
                            </a:lnTo>
                            <a:lnTo>
                              <a:pt x="33" y="5"/>
                            </a:lnTo>
                            <a:lnTo>
                              <a:pt x="27" y="0"/>
                            </a:lnTo>
                            <a:lnTo>
                              <a:pt x="19" y="0"/>
                            </a:lnTo>
                            <a:lnTo>
                              <a:pt x="15" y="6"/>
                            </a:lnTo>
                            <a:lnTo>
                              <a:pt x="14" y="13"/>
                            </a:lnTo>
                            <a:lnTo>
                              <a:pt x="10" y="23"/>
                            </a:lnTo>
                            <a:lnTo>
                              <a:pt x="6" y="32"/>
                            </a:lnTo>
                            <a:lnTo>
                              <a:pt x="0" y="39"/>
                            </a:lnTo>
                            <a:lnTo>
                              <a:pt x="6" y="46"/>
                            </a:lnTo>
                            <a:lnTo>
                              <a:pt x="8" y="51"/>
                            </a:lnTo>
                            <a:lnTo>
                              <a:pt x="14" y="43"/>
                            </a:lnTo>
                            <a:lnTo>
                              <a:pt x="25" y="32"/>
                            </a:lnTo>
                            <a:lnTo>
                              <a:pt x="31" y="26"/>
                            </a:lnTo>
                            <a:lnTo>
                              <a:pt x="41" y="21"/>
                            </a:lnTo>
                            <a:lnTo>
                              <a:pt x="50" y="19"/>
                            </a:lnTo>
                            <a:lnTo>
                              <a:pt x="62" y="18"/>
                            </a:lnTo>
                            <a:lnTo>
                              <a:pt x="77" y="17"/>
                            </a:lnTo>
                            <a:lnTo>
                              <a:pt x="88" y="16"/>
                            </a:lnTo>
                            <a:lnTo>
                              <a:pt x="98" y="16"/>
                            </a:lnTo>
                            <a:lnTo>
                              <a:pt x="103" y="11"/>
                            </a:lnTo>
                            <a:lnTo>
                              <a:pt x="114" y="6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74" name=""/>
                      <p:cNvSpPr/>
                      <p:nvPr/>
                    </p:nvSpPr>
                    <p:spPr>
                      <a:xfrm>
                        <a:off x="6138360" y="2096280"/>
                        <a:ext cx="2160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84">
                            <a:moveTo>
                              <a:pt x="0" y="84"/>
                            </a:moveTo>
                            <a:lnTo>
                              <a:pt x="19" y="58"/>
                            </a:lnTo>
                            <a:lnTo>
                              <a:pt x="36" y="49"/>
                            </a:lnTo>
                            <a:lnTo>
                              <a:pt x="49" y="43"/>
                            </a:lnTo>
                            <a:lnTo>
                              <a:pt x="59" y="33"/>
                            </a:lnTo>
                            <a:lnTo>
                              <a:pt x="67" y="24"/>
                            </a:lnTo>
                            <a:lnTo>
                              <a:pt x="75" y="17"/>
                            </a:lnTo>
                            <a:lnTo>
                              <a:pt x="73" y="17"/>
                            </a:lnTo>
                            <a:lnTo>
                              <a:pt x="77" y="8"/>
                            </a:lnTo>
                            <a:lnTo>
                              <a:pt x="75" y="3"/>
                            </a:lnTo>
                            <a:lnTo>
                              <a:pt x="70" y="0"/>
                            </a:lnTo>
                            <a:lnTo>
                              <a:pt x="68" y="0"/>
                            </a:lnTo>
                            <a:lnTo>
                              <a:pt x="59" y="2"/>
                            </a:lnTo>
                            <a:lnTo>
                              <a:pt x="55" y="10"/>
                            </a:lnTo>
                            <a:lnTo>
                              <a:pt x="50" y="17"/>
                            </a:lnTo>
                            <a:lnTo>
                              <a:pt x="42" y="23"/>
                            </a:lnTo>
                            <a:lnTo>
                              <a:pt x="29" y="33"/>
                            </a:lnTo>
                            <a:lnTo>
                              <a:pt x="22" y="47"/>
                            </a:lnTo>
                            <a:lnTo>
                              <a:pt x="14" y="61"/>
                            </a:lnTo>
                            <a:lnTo>
                              <a:pt x="8" y="70"/>
                            </a:lnTo>
                            <a:lnTo>
                              <a:pt x="0" y="84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75" name=""/>
                    <p:cNvGrpSpPr/>
                    <p:nvPr/>
                  </p:nvGrpSpPr>
                  <p:grpSpPr>
                    <a:xfrm>
                      <a:off x="6051600" y="2052720"/>
                      <a:ext cx="119160" cy="91800"/>
                      <a:chOff x="6051600" y="2052720"/>
                      <a:chExt cx="119160" cy="91800"/>
                    </a:xfrm>
                  </p:grpSpPr>
                  <p:grpSp>
                    <p:nvGrpSpPr>
                      <p:cNvPr id="1276" name=""/>
                      <p:cNvGrpSpPr/>
                      <p:nvPr/>
                    </p:nvGrpSpPr>
                    <p:grpSpPr>
                      <a:xfrm>
                        <a:off x="6051600" y="2052720"/>
                        <a:ext cx="119160" cy="91800"/>
                        <a:chOff x="6051600" y="2052720"/>
                        <a:chExt cx="119160" cy="91800"/>
                      </a:xfrm>
                    </p:grpSpPr>
                    <p:sp>
                      <p:nvSpPr>
                        <p:cNvPr id="1277" name=""/>
                        <p:cNvSpPr/>
                        <p:nvPr/>
                      </p:nvSpPr>
                      <p:spPr>
                        <a:xfrm>
                          <a:off x="6051600" y="2052720"/>
                          <a:ext cx="119160" cy="91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3" h="349">
                              <a:moveTo>
                                <a:pt x="23" y="295"/>
                              </a:moveTo>
                              <a:lnTo>
                                <a:pt x="41" y="312"/>
                              </a:lnTo>
                              <a:lnTo>
                                <a:pt x="56" y="330"/>
                              </a:lnTo>
                              <a:lnTo>
                                <a:pt x="76" y="341"/>
                              </a:lnTo>
                              <a:lnTo>
                                <a:pt x="85" y="349"/>
                              </a:lnTo>
                              <a:lnTo>
                                <a:pt x="88" y="316"/>
                              </a:lnTo>
                              <a:lnTo>
                                <a:pt x="96" y="285"/>
                              </a:lnTo>
                              <a:lnTo>
                                <a:pt x="102" y="260"/>
                              </a:lnTo>
                              <a:lnTo>
                                <a:pt x="105" y="238"/>
                              </a:lnTo>
                              <a:lnTo>
                                <a:pt x="103" y="211"/>
                              </a:lnTo>
                              <a:lnTo>
                                <a:pt x="95" y="194"/>
                              </a:lnTo>
                              <a:lnTo>
                                <a:pt x="85" y="186"/>
                              </a:lnTo>
                              <a:lnTo>
                                <a:pt x="110" y="189"/>
                              </a:lnTo>
                              <a:lnTo>
                                <a:pt x="142" y="182"/>
                              </a:lnTo>
                              <a:lnTo>
                                <a:pt x="161" y="173"/>
                              </a:lnTo>
                              <a:lnTo>
                                <a:pt x="183" y="164"/>
                              </a:lnTo>
                              <a:lnTo>
                                <a:pt x="208" y="155"/>
                              </a:lnTo>
                              <a:lnTo>
                                <a:pt x="230" y="147"/>
                              </a:lnTo>
                              <a:lnTo>
                                <a:pt x="245" y="136"/>
                              </a:lnTo>
                              <a:lnTo>
                                <a:pt x="269" y="116"/>
                              </a:lnTo>
                              <a:lnTo>
                                <a:pt x="269" y="115"/>
                              </a:lnTo>
                              <a:lnTo>
                                <a:pt x="280" y="94"/>
                              </a:lnTo>
                              <a:lnTo>
                                <a:pt x="289" y="76"/>
                              </a:lnTo>
                              <a:lnTo>
                                <a:pt x="309" y="81"/>
                              </a:lnTo>
                              <a:lnTo>
                                <a:pt x="333" y="94"/>
                              </a:lnTo>
                              <a:lnTo>
                                <a:pt x="356" y="109"/>
                              </a:lnTo>
                              <a:lnTo>
                                <a:pt x="373" y="127"/>
                              </a:lnTo>
                              <a:lnTo>
                                <a:pt x="385" y="148"/>
                              </a:lnTo>
                              <a:lnTo>
                                <a:pt x="395" y="168"/>
                              </a:lnTo>
                              <a:lnTo>
                                <a:pt x="400" y="189"/>
                              </a:lnTo>
                              <a:lnTo>
                                <a:pt x="413" y="207"/>
                              </a:lnTo>
                              <a:lnTo>
                                <a:pt x="410" y="171"/>
                              </a:lnTo>
                              <a:lnTo>
                                <a:pt x="403" y="150"/>
                              </a:lnTo>
                              <a:lnTo>
                                <a:pt x="393" y="127"/>
                              </a:lnTo>
                              <a:lnTo>
                                <a:pt x="388" y="101"/>
                              </a:lnTo>
                              <a:lnTo>
                                <a:pt x="367" y="76"/>
                              </a:lnTo>
                              <a:lnTo>
                                <a:pt x="338" y="45"/>
                              </a:lnTo>
                              <a:lnTo>
                                <a:pt x="320" y="27"/>
                              </a:lnTo>
                              <a:lnTo>
                                <a:pt x="305" y="14"/>
                              </a:lnTo>
                              <a:lnTo>
                                <a:pt x="289" y="7"/>
                              </a:lnTo>
                              <a:lnTo>
                                <a:pt x="275" y="2"/>
                              </a:lnTo>
                              <a:lnTo>
                                <a:pt x="253" y="2"/>
                              </a:lnTo>
                              <a:lnTo>
                                <a:pt x="244" y="2"/>
                              </a:lnTo>
                              <a:lnTo>
                                <a:pt x="216" y="0"/>
                              </a:lnTo>
                              <a:lnTo>
                                <a:pt x="179" y="0"/>
                              </a:lnTo>
                              <a:lnTo>
                                <a:pt x="143" y="9"/>
                              </a:lnTo>
                              <a:lnTo>
                                <a:pt x="114" y="20"/>
                              </a:lnTo>
                              <a:lnTo>
                                <a:pt x="87" y="28"/>
                              </a:lnTo>
                              <a:lnTo>
                                <a:pt x="67" y="38"/>
                              </a:lnTo>
                              <a:lnTo>
                                <a:pt x="52" y="48"/>
                              </a:lnTo>
                              <a:lnTo>
                                <a:pt x="40" y="59"/>
                              </a:lnTo>
                              <a:lnTo>
                                <a:pt x="26" y="73"/>
                              </a:lnTo>
                              <a:lnTo>
                                <a:pt x="14" y="90"/>
                              </a:lnTo>
                              <a:lnTo>
                                <a:pt x="4" y="105"/>
                              </a:lnTo>
                              <a:lnTo>
                                <a:pt x="0" y="123"/>
                              </a:lnTo>
                              <a:lnTo>
                                <a:pt x="0" y="150"/>
                              </a:lnTo>
                              <a:lnTo>
                                <a:pt x="0" y="175"/>
                              </a:lnTo>
                              <a:lnTo>
                                <a:pt x="3" y="200"/>
                              </a:lnTo>
                              <a:lnTo>
                                <a:pt x="3" y="229"/>
                              </a:lnTo>
                              <a:lnTo>
                                <a:pt x="4" y="252"/>
                              </a:lnTo>
                              <a:lnTo>
                                <a:pt x="11" y="268"/>
                              </a:lnTo>
                              <a:lnTo>
                                <a:pt x="23" y="29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8" name=""/>
                        <p:cNvSpPr/>
                        <p:nvPr/>
                      </p:nvSpPr>
                      <p:spPr>
                        <a:xfrm>
                          <a:off x="6056640" y="2054160"/>
                          <a:ext cx="73080" cy="8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53" h="310">
                              <a:moveTo>
                                <a:pt x="157" y="10"/>
                              </a:moveTo>
                              <a:lnTo>
                                <a:pt x="171" y="3"/>
                              </a:lnTo>
                              <a:lnTo>
                                <a:pt x="186" y="0"/>
                              </a:lnTo>
                              <a:lnTo>
                                <a:pt x="199" y="0"/>
                              </a:lnTo>
                              <a:lnTo>
                                <a:pt x="219" y="4"/>
                              </a:lnTo>
                              <a:lnTo>
                                <a:pt x="229" y="7"/>
                              </a:lnTo>
                              <a:lnTo>
                                <a:pt x="237" y="18"/>
                              </a:lnTo>
                              <a:lnTo>
                                <a:pt x="246" y="33"/>
                              </a:lnTo>
                              <a:lnTo>
                                <a:pt x="253" y="44"/>
                              </a:lnTo>
                              <a:lnTo>
                                <a:pt x="253" y="55"/>
                              </a:lnTo>
                              <a:lnTo>
                                <a:pt x="252" y="68"/>
                              </a:lnTo>
                              <a:lnTo>
                                <a:pt x="241" y="85"/>
                              </a:lnTo>
                              <a:lnTo>
                                <a:pt x="231" y="99"/>
                              </a:lnTo>
                              <a:lnTo>
                                <a:pt x="219" y="111"/>
                              </a:lnTo>
                              <a:lnTo>
                                <a:pt x="204" y="121"/>
                              </a:lnTo>
                              <a:lnTo>
                                <a:pt x="193" y="129"/>
                              </a:lnTo>
                              <a:lnTo>
                                <a:pt x="175" y="134"/>
                              </a:lnTo>
                              <a:lnTo>
                                <a:pt x="157" y="141"/>
                              </a:lnTo>
                              <a:lnTo>
                                <a:pt x="141" y="147"/>
                              </a:lnTo>
                              <a:lnTo>
                                <a:pt x="128" y="152"/>
                              </a:lnTo>
                              <a:lnTo>
                                <a:pt x="117" y="152"/>
                              </a:lnTo>
                              <a:lnTo>
                                <a:pt x="109" y="155"/>
                              </a:lnTo>
                              <a:lnTo>
                                <a:pt x="106" y="159"/>
                              </a:lnTo>
                              <a:lnTo>
                                <a:pt x="123" y="159"/>
                              </a:lnTo>
                              <a:lnTo>
                                <a:pt x="112" y="165"/>
                              </a:lnTo>
                              <a:lnTo>
                                <a:pt x="97" y="169"/>
                              </a:lnTo>
                              <a:lnTo>
                                <a:pt x="77" y="169"/>
                              </a:lnTo>
                              <a:lnTo>
                                <a:pt x="62" y="169"/>
                              </a:lnTo>
                              <a:lnTo>
                                <a:pt x="57" y="173"/>
                              </a:lnTo>
                              <a:lnTo>
                                <a:pt x="66" y="193"/>
                              </a:lnTo>
                              <a:lnTo>
                                <a:pt x="70" y="214"/>
                              </a:lnTo>
                              <a:lnTo>
                                <a:pt x="70" y="233"/>
                              </a:lnTo>
                              <a:lnTo>
                                <a:pt x="70" y="253"/>
                              </a:lnTo>
                              <a:lnTo>
                                <a:pt x="74" y="267"/>
                              </a:lnTo>
                              <a:lnTo>
                                <a:pt x="69" y="286"/>
                              </a:lnTo>
                              <a:lnTo>
                                <a:pt x="62" y="308"/>
                              </a:lnTo>
                              <a:lnTo>
                                <a:pt x="55" y="310"/>
                              </a:lnTo>
                              <a:lnTo>
                                <a:pt x="49" y="302"/>
                              </a:lnTo>
                              <a:lnTo>
                                <a:pt x="28" y="281"/>
                              </a:lnTo>
                              <a:lnTo>
                                <a:pt x="7" y="269"/>
                              </a:lnTo>
                              <a:lnTo>
                                <a:pt x="30" y="269"/>
                              </a:lnTo>
                              <a:lnTo>
                                <a:pt x="21" y="246"/>
                              </a:lnTo>
                              <a:lnTo>
                                <a:pt x="8" y="235"/>
                              </a:lnTo>
                              <a:lnTo>
                                <a:pt x="18" y="217"/>
                              </a:lnTo>
                              <a:lnTo>
                                <a:pt x="12" y="212"/>
                              </a:lnTo>
                              <a:lnTo>
                                <a:pt x="22" y="214"/>
                              </a:lnTo>
                              <a:lnTo>
                                <a:pt x="11" y="193"/>
                              </a:lnTo>
                              <a:lnTo>
                                <a:pt x="24" y="194"/>
                              </a:lnTo>
                              <a:lnTo>
                                <a:pt x="2" y="167"/>
                              </a:lnTo>
                              <a:lnTo>
                                <a:pt x="0" y="143"/>
                              </a:lnTo>
                              <a:lnTo>
                                <a:pt x="11" y="152"/>
                              </a:lnTo>
                              <a:lnTo>
                                <a:pt x="3" y="135"/>
                              </a:lnTo>
                              <a:lnTo>
                                <a:pt x="29" y="138"/>
                              </a:lnTo>
                              <a:lnTo>
                                <a:pt x="39" y="133"/>
                              </a:lnTo>
                              <a:lnTo>
                                <a:pt x="28" y="120"/>
                              </a:lnTo>
                              <a:lnTo>
                                <a:pt x="46" y="118"/>
                              </a:lnTo>
                              <a:lnTo>
                                <a:pt x="29" y="108"/>
                              </a:lnTo>
                              <a:lnTo>
                                <a:pt x="14" y="98"/>
                              </a:lnTo>
                              <a:lnTo>
                                <a:pt x="44" y="106"/>
                              </a:lnTo>
                              <a:lnTo>
                                <a:pt x="63" y="111"/>
                              </a:lnTo>
                              <a:lnTo>
                                <a:pt x="80" y="112"/>
                              </a:lnTo>
                              <a:lnTo>
                                <a:pt x="102" y="114"/>
                              </a:lnTo>
                              <a:lnTo>
                                <a:pt x="123" y="113"/>
                              </a:lnTo>
                              <a:lnTo>
                                <a:pt x="130" y="109"/>
                              </a:lnTo>
                              <a:lnTo>
                                <a:pt x="124" y="101"/>
                              </a:lnTo>
                              <a:lnTo>
                                <a:pt x="148" y="98"/>
                              </a:lnTo>
                              <a:lnTo>
                                <a:pt x="128" y="94"/>
                              </a:lnTo>
                              <a:lnTo>
                                <a:pt x="108" y="92"/>
                              </a:lnTo>
                              <a:lnTo>
                                <a:pt x="86" y="92"/>
                              </a:lnTo>
                              <a:lnTo>
                                <a:pt x="64" y="92"/>
                              </a:lnTo>
                              <a:lnTo>
                                <a:pt x="80" y="80"/>
                              </a:lnTo>
                              <a:lnTo>
                                <a:pt x="61" y="85"/>
                              </a:lnTo>
                              <a:lnTo>
                                <a:pt x="44" y="82"/>
                              </a:lnTo>
                              <a:lnTo>
                                <a:pt x="29" y="80"/>
                              </a:lnTo>
                              <a:lnTo>
                                <a:pt x="21" y="79"/>
                              </a:lnTo>
                              <a:lnTo>
                                <a:pt x="40" y="74"/>
                              </a:lnTo>
                              <a:lnTo>
                                <a:pt x="55" y="71"/>
                              </a:lnTo>
                              <a:lnTo>
                                <a:pt x="66" y="66"/>
                              </a:lnTo>
                              <a:lnTo>
                                <a:pt x="72" y="64"/>
                              </a:lnTo>
                              <a:lnTo>
                                <a:pt x="58" y="64"/>
                              </a:lnTo>
                              <a:lnTo>
                                <a:pt x="83" y="52"/>
                              </a:lnTo>
                              <a:lnTo>
                                <a:pt x="69" y="48"/>
                              </a:lnTo>
                              <a:lnTo>
                                <a:pt x="58" y="48"/>
                              </a:lnTo>
                              <a:lnTo>
                                <a:pt x="80" y="45"/>
                              </a:lnTo>
                              <a:lnTo>
                                <a:pt x="106" y="47"/>
                              </a:lnTo>
                              <a:lnTo>
                                <a:pt x="118" y="52"/>
                              </a:lnTo>
                              <a:lnTo>
                                <a:pt x="133" y="53"/>
                              </a:lnTo>
                              <a:lnTo>
                                <a:pt x="146" y="53"/>
                              </a:lnTo>
                              <a:lnTo>
                                <a:pt x="161" y="52"/>
                              </a:lnTo>
                              <a:lnTo>
                                <a:pt x="170" y="47"/>
                              </a:lnTo>
                              <a:lnTo>
                                <a:pt x="180" y="43"/>
                              </a:lnTo>
                              <a:lnTo>
                                <a:pt x="186" y="39"/>
                              </a:lnTo>
                              <a:lnTo>
                                <a:pt x="171" y="39"/>
                              </a:lnTo>
                              <a:lnTo>
                                <a:pt x="154" y="37"/>
                              </a:lnTo>
                              <a:lnTo>
                                <a:pt x="131" y="35"/>
                              </a:lnTo>
                              <a:lnTo>
                                <a:pt x="163" y="32"/>
                              </a:lnTo>
                              <a:lnTo>
                                <a:pt x="180" y="28"/>
                              </a:lnTo>
                              <a:lnTo>
                                <a:pt x="192" y="26"/>
                              </a:lnTo>
                              <a:lnTo>
                                <a:pt x="201" y="20"/>
                              </a:lnTo>
                              <a:lnTo>
                                <a:pt x="186" y="21"/>
                              </a:lnTo>
                              <a:lnTo>
                                <a:pt x="193" y="12"/>
                              </a:lnTo>
                              <a:lnTo>
                                <a:pt x="201" y="10"/>
                              </a:lnTo>
                              <a:lnTo>
                                <a:pt x="182" y="10"/>
                              </a:lnTo>
                              <a:lnTo>
                                <a:pt x="168" y="11"/>
                              </a:lnTo>
                              <a:lnTo>
                                <a:pt x="157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f3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5640" bIns="35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279" name=""/>
                      <p:cNvSpPr/>
                      <p:nvPr/>
                    </p:nvSpPr>
                    <p:spPr>
                      <a:xfrm>
                        <a:off x="6130800" y="2054160"/>
                        <a:ext cx="2088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80">
                            <a:moveTo>
                              <a:pt x="0" y="0"/>
                            </a:moveTo>
                            <a:lnTo>
                              <a:pt x="14" y="16"/>
                            </a:lnTo>
                            <a:lnTo>
                              <a:pt x="23" y="22"/>
                            </a:lnTo>
                            <a:lnTo>
                              <a:pt x="33" y="30"/>
                            </a:lnTo>
                            <a:lnTo>
                              <a:pt x="44" y="35"/>
                            </a:lnTo>
                            <a:lnTo>
                              <a:pt x="57" y="41"/>
                            </a:lnTo>
                            <a:lnTo>
                              <a:pt x="40" y="37"/>
                            </a:lnTo>
                            <a:lnTo>
                              <a:pt x="28" y="34"/>
                            </a:lnTo>
                            <a:lnTo>
                              <a:pt x="23" y="36"/>
                            </a:lnTo>
                            <a:lnTo>
                              <a:pt x="31" y="47"/>
                            </a:lnTo>
                            <a:lnTo>
                              <a:pt x="37" y="59"/>
                            </a:lnTo>
                            <a:lnTo>
                              <a:pt x="52" y="67"/>
                            </a:lnTo>
                            <a:lnTo>
                              <a:pt x="70" y="80"/>
                            </a:lnTo>
                            <a:lnTo>
                              <a:pt x="46" y="68"/>
                            </a:lnTo>
                            <a:lnTo>
                              <a:pt x="33" y="61"/>
                            </a:lnTo>
                            <a:lnTo>
                              <a:pt x="19" y="56"/>
                            </a:lnTo>
                            <a:lnTo>
                              <a:pt x="11" y="46"/>
                            </a:lnTo>
                            <a:lnTo>
                              <a:pt x="11" y="32"/>
                            </a:lnTo>
                            <a:lnTo>
                              <a:pt x="3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3f3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1280" name=""/>
              <p:cNvSpPr/>
              <p:nvPr/>
            </p:nvSpPr>
            <p:spPr>
              <a:xfrm>
                <a:off x="5480640" y="2366280"/>
                <a:ext cx="1296000" cy="201960"/>
              </a:xfrm>
              <a:custGeom>
                <a:avLst/>
                <a:gdLst/>
                <a:ahLst/>
                <a:rect l="l" t="t" r="r" b="b"/>
                <a:pathLst>
                  <a:path w="4462" h="766">
                    <a:moveTo>
                      <a:pt x="565" y="0"/>
                    </a:moveTo>
                    <a:lnTo>
                      <a:pt x="0" y="766"/>
                    </a:lnTo>
                    <a:lnTo>
                      <a:pt x="4462" y="766"/>
                    </a:lnTo>
                    <a:lnTo>
                      <a:pt x="4059" y="0"/>
                    </a:lnTo>
                    <a:lnTo>
                      <a:pt x="565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1" name=""/>
              <p:cNvGrpSpPr/>
              <p:nvPr/>
            </p:nvGrpSpPr>
            <p:grpSpPr>
              <a:xfrm>
                <a:off x="5935320" y="2317320"/>
                <a:ext cx="62280" cy="56880"/>
                <a:chOff x="5935320" y="2317320"/>
                <a:chExt cx="62280" cy="56880"/>
              </a:xfrm>
            </p:grpSpPr>
            <p:sp>
              <p:nvSpPr>
                <p:cNvPr id="1282" name=""/>
                <p:cNvSpPr/>
                <p:nvPr/>
              </p:nvSpPr>
              <p:spPr>
                <a:xfrm>
                  <a:off x="5935320" y="2317320"/>
                  <a:ext cx="61560" cy="56880"/>
                </a:xfrm>
                <a:custGeom>
                  <a:avLst/>
                  <a:gdLst/>
                  <a:ahLst/>
                  <a:rect l="l" t="t" r="r" b="b"/>
                  <a:pathLst>
                    <a:path w="214" h="214">
                      <a:moveTo>
                        <a:pt x="35" y="33"/>
                      </a:moveTo>
                      <a:lnTo>
                        <a:pt x="66" y="5"/>
                      </a:lnTo>
                      <a:lnTo>
                        <a:pt x="85" y="0"/>
                      </a:lnTo>
                      <a:lnTo>
                        <a:pt x="122" y="5"/>
                      </a:lnTo>
                      <a:lnTo>
                        <a:pt x="161" y="11"/>
                      </a:lnTo>
                      <a:lnTo>
                        <a:pt x="187" y="16"/>
                      </a:lnTo>
                      <a:lnTo>
                        <a:pt x="195" y="22"/>
                      </a:lnTo>
                      <a:lnTo>
                        <a:pt x="200" y="35"/>
                      </a:lnTo>
                      <a:lnTo>
                        <a:pt x="202" y="43"/>
                      </a:lnTo>
                      <a:lnTo>
                        <a:pt x="195" y="52"/>
                      </a:lnTo>
                      <a:lnTo>
                        <a:pt x="203" y="60"/>
                      </a:lnTo>
                      <a:lnTo>
                        <a:pt x="206" y="72"/>
                      </a:lnTo>
                      <a:lnTo>
                        <a:pt x="204" y="79"/>
                      </a:lnTo>
                      <a:lnTo>
                        <a:pt x="210" y="87"/>
                      </a:lnTo>
                      <a:lnTo>
                        <a:pt x="213" y="96"/>
                      </a:lnTo>
                      <a:lnTo>
                        <a:pt x="211" y="107"/>
                      </a:lnTo>
                      <a:lnTo>
                        <a:pt x="204" y="119"/>
                      </a:lnTo>
                      <a:lnTo>
                        <a:pt x="210" y="130"/>
                      </a:lnTo>
                      <a:lnTo>
                        <a:pt x="214" y="144"/>
                      </a:lnTo>
                      <a:lnTo>
                        <a:pt x="209" y="159"/>
                      </a:lnTo>
                      <a:lnTo>
                        <a:pt x="200" y="166"/>
                      </a:lnTo>
                      <a:lnTo>
                        <a:pt x="200" y="189"/>
                      </a:lnTo>
                      <a:lnTo>
                        <a:pt x="192" y="202"/>
                      </a:lnTo>
                      <a:lnTo>
                        <a:pt x="174" y="208"/>
                      </a:lnTo>
                      <a:lnTo>
                        <a:pt x="94" y="214"/>
                      </a:lnTo>
                      <a:lnTo>
                        <a:pt x="56" y="200"/>
                      </a:lnTo>
                      <a:lnTo>
                        <a:pt x="8" y="148"/>
                      </a:lnTo>
                      <a:lnTo>
                        <a:pt x="1" y="126"/>
                      </a:lnTo>
                      <a:lnTo>
                        <a:pt x="0" y="108"/>
                      </a:lnTo>
                      <a:lnTo>
                        <a:pt x="2" y="92"/>
                      </a:lnTo>
                      <a:lnTo>
                        <a:pt x="9" y="66"/>
                      </a:lnTo>
                      <a:lnTo>
                        <a:pt x="18" y="53"/>
                      </a:lnTo>
                      <a:lnTo>
                        <a:pt x="35" y="33"/>
                      </a:lnTo>
                      <a:close/>
                    </a:path>
                  </a:pathLst>
                </a:custGeom>
                <a:solidFill>
                  <a:srgbClr val="f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83" name=""/>
                <p:cNvGrpSpPr/>
                <p:nvPr/>
              </p:nvGrpSpPr>
              <p:grpSpPr>
                <a:xfrm>
                  <a:off x="5950800" y="2324160"/>
                  <a:ext cx="46800" cy="49320"/>
                  <a:chOff x="5950800" y="2324160"/>
                  <a:chExt cx="46800" cy="49320"/>
                </a:xfrm>
              </p:grpSpPr>
              <p:sp>
                <p:nvSpPr>
                  <p:cNvPr id="1284" name=""/>
                  <p:cNvSpPr/>
                  <p:nvPr/>
                </p:nvSpPr>
                <p:spPr>
                  <a:xfrm>
                    <a:off x="5950800" y="2335680"/>
                    <a:ext cx="46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144">
                        <a:moveTo>
                          <a:pt x="48" y="20"/>
                        </a:moveTo>
                        <a:lnTo>
                          <a:pt x="67" y="22"/>
                        </a:lnTo>
                        <a:lnTo>
                          <a:pt x="79" y="22"/>
                        </a:lnTo>
                        <a:lnTo>
                          <a:pt x="78" y="0"/>
                        </a:lnTo>
                        <a:lnTo>
                          <a:pt x="86" y="12"/>
                        </a:lnTo>
                        <a:lnTo>
                          <a:pt x="93" y="18"/>
                        </a:lnTo>
                        <a:lnTo>
                          <a:pt x="101" y="20"/>
                        </a:lnTo>
                        <a:lnTo>
                          <a:pt x="118" y="18"/>
                        </a:lnTo>
                        <a:lnTo>
                          <a:pt x="130" y="13"/>
                        </a:lnTo>
                        <a:lnTo>
                          <a:pt x="141" y="9"/>
                        </a:lnTo>
                        <a:lnTo>
                          <a:pt x="151" y="6"/>
                        </a:lnTo>
                        <a:lnTo>
                          <a:pt x="155" y="2"/>
                        </a:lnTo>
                        <a:lnTo>
                          <a:pt x="152" y="9"/>
                        </a:lnTo>
                        <a:lnTo>
                          <a:pt x="158" y="17"/>
                        </a:lnTo>
                        <a:lnTo>
                          <a:pt x="161" y="26"/>
                        </a:lnTo>
                        <a:lnTo>
                          <a:pt x="160" y="37"/>
                        </a:lnTo>
                        <a:lnTo>
                          <a:pt x="152" y="49"/>
                        </a:lnTo>
                        <a:lnTo>
                          <a:pt x="158" y="60"/>
                        </a:lnTo>
                        <a:lnTo>
                          <a:pt x="162" y="74"/>
                        </a:lnTo>
                        <a:lnTo>
                          <a:pt x="157" y="89"/>
                        </a:lnTo>
                        <a:lnTo>
                          <a:pt x="149" y="96"/>
                        </a:lnTo>
                        <a:lnTo>
                          <a:pt x="149" y="119"/>
                        </a:lnTo>
                        <a:lnTo>
                          <a:pt x="140" y="132"/>
                        </a:lnTo>
                        <a:lnTo>
                          <a:pt x="122" y="138"/>
                        </a:lnTo>
                        <a:lnTo>
                          <a:pt x="43" y="144"/>
                        </a:lnTo>
                        <a:lnTo>
                          <a:pt x="4" y="130"/>
                        </a:lnTo>
                        <a:lnTo>
                          <a:pt x="27" y="137"/>
                        </a:lnTo>
                        <a:lnTo>
                          <a:pt x="48" y="140"/>
                        </a:lnTo>
                        <a:lnTo>
                          <a:pt x="63" y="139"/>
                        </a:lnTo>
                        <a:lnTo>
                          <a:pt x="76" y="136"/>
                        </a:lnTo>
                        <a:lnTo>
                          <a:pt x="80" y="124"/>
                        </a:lnTo>
                        <a:lnTo>
                          <a:pt x="80" y="139"/>
                        </a:lnTo>
                        <a:lnTo>
                          <a:pt x="99" y="137"/>
                        </a:lnTo>
                        <a:lnTo>
                          <a:pt x="123" y="136"/>
                        </a:lnTo>
                        <a:lnTo>
                          <a:pt x="135" y="130"/>
                        </a:lnTo>
                        <a:lnTo>
                          <a:pt x="140" y="120"/>
                        </a:lnTo>
                        <a:lnTo>
                          <a:pt x="145" y="109"/>
                        </a:lnTo>
                        <a:lnTo>
                          <a:pt x="146" y="100"/>
                        </a:lnTo>
                        <a:lnTo>
                          <a:pt x="133" y="103"/>
                        </a:lnTo>
                        <a:lnTo>
                          <a:pt x="118" y="106"/>
                        </a:lnTo>
                        <a:lnTo>
                          <a:pt x="101" y="107"/>
                        </a:lnTo>
                        <a:lnTo>
                          <a:pt x="83" y="109"/>
                        </a:lnTo>
                        <a:lnTo>
                          <a:pt x="69" y="107"/>
                        </a:lnTo>
                        <a:lnTo>
                          <a:pt x="55" y="106"/>
                        </a:lnTo>
                        <a:lnTo>
                          <a:pt x="39" y="101"/>
                        </a:lnTo>
                        <a:lnTo>
                          <a:pt x="21" y="96"/>
                        </a:lnTo>
                        <a:lnTo>
                          <a:pt x="10" y="86"/>
                        </a:lnTo>
                        <a:lnTo>
                          <a:pt x="26" y="94"/>
                        </a:lnTo>
                        <a:lnTo>
                          <a:pt x="37" y="96"/>
                        </a:lnTo>
                        <a:lnTo>
                          <a:pt x="51" y="98"/>
                        </a:lnTo>
                        <a:lnTo>
                          <a:pt x="66" y="100"/>
                        </a:lnTo>
                        <a:lnTo>
                          <a:pt x="83" y="101"/>
                        </a:lnTo>
                        <a:lnTo>
                          <a:pt x="95" y="97"/>
                        </a:lnTo>
                        <a:lnTo>
                          <a:pt x="106" y="91"/>
                        </a:lnTo>
                        <a:lnTo>
                          <a:pt x="108" y="100"/>
                        </a:lnTo>
                        <a:lnTo>
                          <a:pt x="116" y="99"/>
                        </a:lnTo>
                        <a:lnTo>
                          <a:pt x="129" y="98"/>
                        </a:lnTo>
                        <a:lnTo>
                          <a:pt x="140" y="97"/>
                        </a:lnTo>
                        <a:lnTo>
                          <a:pt x="145" y="93"/>
                        </a:lnTo>
                        <a:lnTo>
                          <a:pt x="149" y="87"/>
                        </a:lnTo>
                        <a:lnTo>
                          <a:pt x="152" y="81"/>
                        </a:lnTo>
                        <a:lnTo>
                          <a:pt x="155" y="74"/>
                        </a:lnTo>
                        <a:lnTo>
                          <a:pt x="153" y="67"/>
                        </a:lnTo>
                        <a:lnTo>
                          <a:pt x="151" y="62"/>
                        </a:lnTo>
                        <a:lnTo>
                          <a:pt x="144" y="62"/>
                        </a:lnTo>
                        <a:lnTo>
                          <a:pt x="128" y="65"/>
                        </a:lnTo>
                        <a:lnTo>
                          <a:pt x="113" y="70"/>
                        </a:lnTo>
                        <a:lnTo>
                          <a:pt x="97" y="72"/>
                        </a:lnTo>
                        <a:lnTo>
                          <a:pt x="80" y="73"/>
                        </a:lnTo>
                        <a:lnTo>
                          <a:pt x="65" y="74"/>
                        </a:lnTo>
                        <a:lnTo>
                          <a:pt x="45" y="74"/>
                        </a:lnTo>
                        <a:lnTo>
                          <a:pt x="28" y="70"/>
                        </a:lnTo>
                        <a:lnTo>
                          <a:pt x="15" y="65"/>
                        </a:lnTo>
                        <a:lnTo>
                          <a:pt x="0" y="54"/>
                        </a:lnTo>
                        <a:lnTo>
                          <a:pt x="24" y="63"/>
                        </a:lnTo>
                        <a:lnTo>
                          <a:pt x="37" y="66"/>
                        </a:lnTo>
                        <a:lnTo>
                          <a:pt x="51" y="70"/>
                        </a:lnTo>
                        <a:lnTo>
                          <a:pt x="66" y="69"/>
                        </a:lnTo>
                        <a:lnTo>
                          <a:pt x="77" y="67"/>
                        </a:lnTo>
                        <a:lnTo>
                          <a:pt x="88" y="64"/>
                        </a:lnTo>
                        <a:lnTo>
                          <a:pt x="96" y="56"/>
                        </a:lnTo>
                        <a:lnTo>
                          <a:pt x="106" y="50"/>
                        </a:lnTo>
                        <a:lnTo>
                          <a:pt x="100" y="59"/>
                        </a:lnTo>
                        <a:lnTo>
                          <a:pt x="105" y="64"/>
                        </a:lnTo>
                        <a:lnTo>
                          <a:pt x="110" y="63"/>
                        </a:lnTo>
                        <a:lnTo>
                          <a:pt x="123" y="60"/>
                        </a:lnTo>
                        <a:lnTo>
                          <a:pt x="135" y="57"/>
                        </a:lnTo>
                        <a:lnTo>
                          <a:pt x="146" y="49"/>
                        </a:lnTo>
                        <a:lnTo>
                          <a:pt x="155" y="40"/>
                        </a:lnTo>
                        <a:lnTo>
                          <a:pt x="156" y="32"/>
                        </a:lnTo>
                        <a:lnTo>
                          <a:pt x="155" y="23"/>
                        </a:lnTo>
                        <a:lnTo>
                          <a:pt x="153" y="11"/>
                        </a:lnTo>
                        <a:lnTo>
                          <a:pt x="142" y="15"/>
                        </a:lnTo>
                        <a:lnTo>
                          <a:pt x="128" y="22"/>
                        </a:lnTo>
                        <a:lnTo>
                          <a:pt x="107" y="27"/>
                        </a:lnTo>
                        <a:lnTo>
                          <a:pt x="84" y="29"/>
                        </a:lnTo>
                        <a:lnTo>
                          <a:pt x="61" y="27"/>
                        </a:lnTo>
                        <a:lnTo>
                          <a:pt x="40" y="24"/>
                        </a:lnTo>
                        <a:lnTo>
                          <a:pt x="21" y="17"/>
                        </a:lnTo>
                        <a:lnTo>
                          <a:pt x="48" y="20"/>
                        </a:lnTo>
                        <a:close/>
                      </a:path>
                    </a:pathLst>
                  </a:custGeom>
                  <a:solidFill>
                    <a:srgbClr val="d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5952240" y="2324160"/>
                    <a:ext cx="30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8">
                        <a:moveTo>
                          <a:pt x="108" y="0"/>
                        </a:moveTo>
                        <a:lnTo>
                          <a:pt x="98" y="7"/>
                        </a:lnTo>
                        <a:lnTo>
                          <a:pt x="89" y="16"/>
                        </a:lnTo>
                        <a:lnTo>
                          <a:pt x="78" y="14"/>
                        </a:lnTo>
                        <a:lnTo>
                          <a:pt x="67" y="8"/>
                        </a:lnTo>
                        <a:lnTo>
                          <a:pt x="56" y="8"/>
                        </a:lnTo>
                        <a:lnTo>
                          <a:pt x="38" y="13"/>
                        </a:lnTo>
                        <a:lnTo>
                          <a:pt x="25" y="18"/>
                        </a:lnTo>
                        <a:lnTo>
                          <a:pt x="34" y="11"/>
                        </a:lnTo>
                        <a:lnTo>
                          <a:pt x="16" y="8"/>
                        </a:lnTo>
                        <a:lnTo>
                          <a:pt x="0" y="6"/>
                        </a:lnTo>
                        <a:lnTo>
                          <a:pt x="21" y="5"/>
                        </a:lnTo>
                        <a:lnTo>
                          <a:pt x="38" y="7"/>
                        </a:lnTo>
                        <a:lnTo>
                          <a:pt x="51" y="7"/>
                        </a:lnTo>
                        <a:lnTo>
                          <a:pt x="61" y="5"/>
                        </a:lnTo>
                        <a:lnTo>
                          <a:pt x="71" y="5"/>
                        </a:lnTo>
                        <a:lnTo>
                          <a:pt x="78" y="8"/>
                        </a:lnTo>
                        <a:lnTo>
                          <a:pt x="89" y="12"/>
                        </a:lnTo>
                        <a:lnTo>
                          <a:pt x="108" y="0"/>
                        </a:lnTo>
                        <a:close/>
                      </a:path>
                    </a:pathLst>
                  </a:custGeom>
                  <a:solidFill>
                    <a:srgbClr val="d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6" name=""/>
              <p:cNvGrpSpPr/>
              <p:nvPr/>
            </p:nvGrpSpPr>
            <p:grpSpPr>
              <a:xfrm>
                <a:off x="5979240" y="2369880"/>
                <a:ext cx="414720" cy="120240"/>
                <a:chOff x="5979240" y="2369880"/>
                <a:chExt cx="414720" cy="120240"/>
              </a:xfrm>
            </p:grpSpPr>
            <p:sp>
              <p:nvSpPr>
                <p:cNvPr id="1287" name=""/>
                <p:cNvSpPr/>
                <p:nvPr/>
              </p:nvSpPr>
              <p:spPr>
                <a:xfrm>
                  <a:off x="5979240" y="2374200"/>
                  <a:ext cx="154440" cy="115920"/>
                </a:xfrm>
                <a:custGeom>
                  <a:avLst/>
                  <a:gdLst/>
                  <a:ahLst/>
                  <a:rect l="l" t="t" r="r" b="b"/>
                  <a:pathLst>
                    <a:path w="531" h="441">
                      <a:moveTo>
                        <a:pt x="113" y="0"/>
                      </a:moveTo>
                      <a:lnTo>
                        <a:pt x="0" y="396"/>
                      </a:lnTo>
                      <a:lnTo>
                        <a:pt x="427" y="441"/>
                      </a:lnTo>
                      <a:lnTo>
                        <a:pt x="531" y="32"/>
                      </a:lnTo>
                      <a:lnTo>
                        <a:pt x="113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6046200" y="2369880"/>
                  <a:ext cx="183960" cy="88920"/>
                </a:xfrm>
                <a:custGeom>
                  <a:avLst/>
                  <a:gdLst/>
                  <a:ahLst/>
                  <a:rect l="l" t="t" r="r" b="b"/>
                  <a:pathLst>
                    <a:path w="633" h="340">
                      <a:moveTo>
                        <a:pt x="0" y="74"/>
                      </a:moveTo>
                      <a:lnTo>
                        <a:pt x="197" y="340"/>
                      </a:lnTo>
                      <a:lnTo>
                        <a:pt x="633" y="212"/>
                      </a:lnTo>
                      <a:lnTo>
                        <a:pt x="418" y="0"/>
                      </a:lnTo>
                      <a:lnTo>
                        <a:pt x="0" y="74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6174360" y="2373480"/>
                  <a:ext cx="219600" cy="75600"/>
                </a:xfrm>
                <a:custGeom>
                  <a:avLst/>
                  <a:gdLst/>
                  <a:ahLst/>
                  <a:rect l="l" t="t" r="r" b="b"/>
                  <a:pathLst>
                    <a:path w="756" h="290">
                      <a:moveTo>
                        <a:pt x="0" y="32"/>
                      </a:moveTo>
                      <a:lnTo>
                        <a:pt x="526" y="0"/>
                      </a:lnTo>
                      <a:lnTo>
                        <a:pt x="756" y="206"/>
                      </a:lnTo>
                      <a:lnTo>
                        <a:pt x="149" y="290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0" name=""/>
              <p:cNvGrpSpPr/>
              <p:nvPr/>
            </p:nvGrpSpPr>
            <p:grpSpPr>
              <a:xfrm>
                <a:off x="6222960" y="2004480"/>
                <a:ext cx="428760" cy="382320"/>
                <a:chOff x="6222960" y="2004480"/>
                <a:chExt cx="428760" cy="382320"/>
              </a:xfrm>
            </p:grpSpPr>
            <p:grpSp>
              <p:nvGrpSpPr>
                <p:cNvPr id="1291" name=""/>
                <p:cNvGrpSpPr/>
                <p:nvPr/>
              </p:nvGrpSpPr>
              <p:grpSpPr>
                <a:xfrm>
                  <a:off x="6277680" y="2004480"/>
                  <a:ext cx="374040" cy="370800"/>
                  <a:chOff x="6277680" y="2004480"/>
                  <a:chExt cx="374040" cy="370800"/>
                </a:xfrm>
              </p:grpSpPr>
              <p:sp>
                <p:nvSpPr>
                  <p:cNvPr id="1292" name=""/>
                  <p:cNvSpPr/>
                  <p:nvPr/>
                </p:nvSpPr>
                <p:spPr>
                  <a:xfrm>
                    <a:off x="6277680" y="2142720"/>
                    <a:ext cx="37404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6" h="882">
                        <a:moveTo>
                          <a:pt x="764" y="8"/>
                        </a:moveTo>
                        <a:lnTo>
                          <a:pt x="830" y="0"/>
                        </a:lnTo>
                        <a:lnTo>
                          <a:pt x="896" y="8"/>
                        </a:lnTo>
                        <a:lnTo>
                          <a:pt x="929" y="22"/>
                        </a:lnTo>
                        <a:lnTo>
                          <a:pt x="1005" y="79"/>
                        </a:lnTo>
                        <a:lnTo>
                          <a:pt x="1053" y="125"/>
                        </a:lnTo>
                        <a:lnTo>
                          <a:pt x="1104" y="191"/>
                        </a:lnTo>
                        <a:lnTo>
                          <a:pt x="1148" y="258"/>
                        </a:lnTo>
                        <a:lnTo>
                          <a:pt x="1181" y="311"/>
                        </a:lnTo>
                        <a:lnTo>
                          <a:pt x="1195" y="339"/>
                        </a:lnTo>
                        <a:lnTo>
                          <a:pt x="1217" y="424"/>
                        </a:lnTo>
                        <a:lnTo>
                          <a:pt x="1246" y="554"/>
                        </a:lnTo>
                        <a:lnTo>
                          <a:pt x="1265" y="646"/>
                        </a:lnTo>
                        <a:lnTo>
                          <a:pt x="1276" y="766"/>
                        </a:lnTo>
                        <a:lnTo>
                          <a:pt x="1286" y="864"/>
                        </a:lnTo>
                        <a:lnTo>
                          <a:pt x="1013" y="868"/>
                        </a:lnTo>
                        <a:lnTo>
                          <a:pt x="845" y="878"/>
                        </a:lnTo>
                        <a:lnTo>
                          <a:pt x="713" y="882"/>
                        </a:lnTo>
                        <a:lnTo>
                          <a:pt x="343" y="864"/>
                        </a:lnTo>
                        <a:lnTo>
                          <a:pt x="197" y="857"/>
                        </a:lnTo>
                        <a:lnTo>
                          <a:pt x="76" y="850"/>
                        </a:lnTo>
                        <a:lnTo>
                          <a:pt x="80" y="811"/>
                        </a:lnTo>
                        <a:lnTo>
                          <a:pt x="65" y="769"/>
                        </a:lnTo>
                        <a:lnTo>
                          <a:pt x="29" y="741"/>
                        </a:lnTo>
                        <a:lnTo>
                          <a:pt x="0" y="723"/>
                        </a:lnTo>
                        <a:lnTo>
                          <a:pt x="153" y="671"/>
                        </a:lnTo>
                        <a:lnTo>
                          <a:pt x="281" y="621"/>
                        </a:lnTo>
                        <a:lnTo>
                          <a:pt x="336" y="597"/>
                        </a:lnTo>
                        <a:lnTo>
                          <a:pt x="383" y="575"/>
                        </a:lnTo>
                        <a:lnTo>
                          <a:pt x="416" y="530"/>
                        </a:lnTo>
                        <a:lnTo>
                          <a:pt x="423" y="512"/>
                        </a:lnTo>
                        <a:lnTo>
                          <a:pt x="427" y="473"/>
                        </a:lnTo>
                        <a:lnTo>
                          <a:pt x="431" y="449"/>
                        </a:lnTo>
                        <a:lnTo>
                          <a:pt x="445" y="403"/>
                        </a:lnTo>
                        <a:lnTo>
                          <a:pt x="453" y="382"/>
                        </a:lnTo>
                        <a:lnTo>
                          <a:pt x="456" y="346"/>
                        </a:lnTo>
                        <a:lnTo>
                          <a:pt x="464" y="294"/>
                        </a:lnTo>
                        <a:lnTo>
                          <a:pt x="482" y="262"/>
                        </a:lnTo>
                        <a:lnTo>
                          <a:pt x="482" y="227"/>
                        </a:lnTo>
                        <a:lnTo>
                          <a:pt x="573" y="125"/>
                        </a:lnTo>
                        <a:lnTo>
                          <a:pt x="591" y="142"/>
                        </a:lnTo>
                        <a:lnTo>
                          <a:pt x="764" y="8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"/>
                  <p:cNvSpPr/>
                  <p:nvPr/>
                </p:nvSpPr>
                <p:spPr>
                  <a:xfrm>
                    <a:off x="6525000" y="2198160"/>
                    <a:ext cx="7308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669">
                        <a:moveTo>
                          <a:pt x="197" y="0"/>
                        </a:moveTo>
                        <a:lnTo>
                          <a:pt x="223" y="25"/>
                        </a:lnTo>
                        <a:lnTo>
                          <a:pt x="230" y="81"/>
                        </a:lnTo>
                        <a:lnTo>
                          <a:pt x="230" y="141"/>
                        </a:lnTo>
                        <a:lnTo>
                          <a:pt x="230" y="180"/>
                        </a:lnTo>
                        <a:lnTo>
                          <a:pt x="252" y="201"/>
                        </a:lnTo>
                        <a:lnTo>
                          <a:pt x="234" y="211"/>
                        </a:lnTo>
                        <a:lnTo>
                          <a:pt x="230" y="250"/>
                        </a:lnTo>
                        <a:lnTo>
                          <a:pt x="219" y="271"/>
                        </a:lnTo>
                        <a:lnTo>
                          <a:pt x="212" y="303"/>
                        </a:lnTo>
                        <a:lnTo>
                          <a:pt x="201" y="317"/>
                        </a:lnTo>
                        <a:lnTo>
                          <a:pt x="201" y="352"/>
                        </a:lnTo>
                        <a:lnTo>
                          <a:pt x="186" y="388"/>
                        </a:lnTo>
                        <a:lnTo>
                          <a:pt x="183" y="447"/>
                        </a:lnTo>
                        <a:lnTo>
                          <a:pt x="172" y="507"/>
                        </a:lnTo>
                        <a:lnTo>
                          <a:pt x="164" y="521"/>
                        </a:lnTo>
                        <a:lnTo>
                          <a:pt x="164" y="543"/>
                        </a:lnTo>
                        <a:lnTo>
                          <a:pt x="146" y="546"/>
                        </a:lnTo>
                        <a:lnTo>
                          <a:pt x="146" y="560"/>
                        </a:lnTo>
                        <a:lnTo>
                          <a:pt x="139" y="581"/>
                        </a:lnTo>
                        <a:lnTo>
                          <a:pt x="117" y="606"/>
                        </a:lnTo>
                        <a:lnTo>
                          <a:pt x="95" y="634"/>
                        </a:lnTo>
                        <a:lnTo>
                          <a:pt x="80" y="669"/>
                        </a:lnTo>
                        <a:lnTo>
                          <a:pt x="18" y="669"/>
                        </a:lnTo>
                        <a:lnTo>
                          <a:pt x="117" y="585"/>
                        </a:lnTo>
                        <a:lnTo>
                          <a:pt x="135" y="550"/>
                        </a:lnTo>
                        <a:lnTo>
                          <a:pt x="128" y="514"/>
                        </a:lnTo>
                        <a:lnTo>
                          <a:pt x="150" y="497"/>
                        </a:lnTo>
                        <a:lnTo>
                          <a:pt x="150" y="388"/>
                        </a:lnTo>
                        <a:lnTo>
                          <a:pt x="84" y="377"/>
                        </a:lnTo>
                        <a:lnTo>
                          <a:pt x="44" y="366"/>
                        </a:lnTo>
                        <a:lnTo>
                          <a:pt x="0" y="352"/>
                        </a:lnTo>
                        <a:lnTo>
                          <a:pt x="139" y="349"/>
                        </a:lnTo>
                        <a:lnTo>
                          <a:pt x="161" y="338"/>
                        </a:lnTo>
                        <a:lnTo>
                          <a:pt x="157" y="317"/>
                        </a:lnTo>
                        <a:lnTo>
                          <a:pt x="117" y="310"/>
                        </a:lnTo>
                        <a:lnTo>
                          <a:pt x="73" y="307"/>
                        </a:lnTo>
                        <a:lnTo>
                          <a:pt x="131" y="292"/>
                        </a:lnTo>
                        <a:lnTo>
                          <a:pt x="146" y="282"/>
                        </a:lnTo>
                        <a:lnTo>
                          <a:pt x="95" y="233"/>
                        </a:lnTo>
                        <a:lnTo>
                          <a:pt x="47" y="208"/>
                        </a:lnTo>
                        <a:lnTo>
                          <a:pt x="18" y="176"/>
                        </a:lnTo>
                        <a:lnTo>
                          <a:pt x="7" y="169"/>
                        </a:lnTo>
                        <a:lnTo>
                          <a:pt x="40" y="166"/>
                        </a:lnTo>
                        <a:lnTo>
                          <a:pt x="80" y="183"/>
                        </a:lnTo>
                        <a:lnTo>
                          <a:pt x="131" y="211"/>
                        </a:lnTo>
                        <a:lnTo>
                          <a:pt x="175" y="229"/>
                        </a:lnTo>
                        <a:lnTo>
                          <a:pt x="201" y="222"/>
                        </a:lnTo>
                        <a:lnTo>
                          <a:pt x="215" y="194"/>
                        </a:lnTo>
                        <a:lnTo>
                          <a:pt x="215" y="134"/>
                        </a:lnTo>
                        <a:lnTo>
                          <a:pt x="197" y="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>
                    <a:off x="6320160" y="2244960"/>
                    <a:ext cx="14544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01" h="462">
                        <a:moveTo>
                          <a:pt x="0" y="462"/>
                        </a:moveTo>
                        <a:lnTo>
                          <a:pt x="314" y="356"/>
                        </a:lnTo>
                        <a:lnTo>
                          <a:pt x="339" y="335"/>
                        </a:lnTo>
                        <a:lnTo>
                          <a:pt x="365" y="300"/>
                        </a:lnTo>
                        <a:lnTo>
                          <a:pt x="369" y="264"/>
                        </a:lnTo>
                        <a:lnTo>
                          <a:pt x="372" y="162"/>
                        </a:lnTo>
                        <a:lnTo>
                          <a:pt x="383" y="233"/>
                        </a:lnTo>
                        <a:lnTo>
                          <a:pt x="405" y="250"/>
                        </a:lnTo>
                        <a:lnTo>
                          <a:pt x="420" y="194"/>
                        </a:lnTo>
                        <a:lnTo>
                          <a:pt x="434" y="141"/>
                        </a:lnTo>
                        <a:lnTo>
                          <a:pt x="487" y="0"/>
                        </a:lnTo>
                        <a:lnTo>
                          <a:pt x="454" y="120"/>
                        </a:lnTo>
                        <a:lnTo>
                          <a:pt x="434" y="194"/>
                        </a:lnTo>
                        <a:lnTo>
                          <a:pt x="423" y="250"/>
                        </a:lnTo>
                        <a:lnTo>
                          <a:pt x="405" y="286"/>
                        </a:lnTo>
                        <a:lnTo>
                          <a:pt x="383" y="314"/>
                        </a:lnTo>
                        <a:lnTo>
                          <a:pt x="409" y="335"/>
                        </a:lnTo>
                        <a:lnTo>
                          <a:pt x="442" y="331"/>
                        </a:lnTo>
                        <a:lnTo>
                          <a:pt x="501" y="282"/>
                        </a:lnTo>
                        <a:lnTo>
                          <a:pt x="423" y="370"/>
                        </a:lnTo>
                        <a:lnTo>
                          <a:pt x="343" y="388"/>
                        </a:lnTo>
                        <a:lnTo>
                          <a:pt x="252" y="405"/>
                        </a:lnTo>
                        <a:lnTo>
                          <a:pt x="164" y="423"/>
                        </a:lnTo>
                        <a:lnTo>
                          <a:pt x="66" y="444"/>
                        </a:lnTo>
                        <a:lnTo>
                          <a:pt x="0" y="462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6449400" y="2161080"/>
                    <a:ext cx="113760" cy="202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768">
                        <a:moveTo>
                          <a:pt x="392" y="7"/>
                        </a:moveTo>
                        <a:lnTo>
                          <a:pt x="312" y="0"/>
                        </a:lnTo>
                        <a:lnTo>
                          <a:pt x="268" y="7"/>
                        </a:lnTo>
                        <a:lnTo>
                          <a:pt x="195" y="78"/>
                        </a:lnTo>
                        <a:lnTo>
                          <a:pt x="126" y="162"/>
                        </a:lnTo>
                        <a:lnTo>
                          <a:pt x="86" y="328"/>
                        </a:lnTo>
                        <a:lnTo>
                          <a:pt x="71" y="374"/>
                        </a:lnTo>
                        <a:lnTo>
                          <a:pt x="56" y="507"/>
                        </a:lnTo>
                        <a:lnTo>
                          <a:pt x="49" y="603"/>
                        </a:lnTo>
                        <a:lnTo>
                          <a:pt x="0" y="662"/>
                        </a:lnTo>
                        <a:lnTo>
                          <a:pt x="108" y="768"/>
                        </a:lnTo>
                        <a:lnTo>
                          <a:pt x="56" y="691"/>
                        </a:lnTo>
                        <a:lnTo>
                          <a:pt x="67" y="684"/>
                        </a:lnTo>
                        <a:lnTo>
                          <a:pt x="140" y="722"/>
                        </a:lnTo>
                        <a:lnTo>
                          <a:pt x="228" y="743"/>
                        </a:lnTo>
                        <a:lnTo>
                          <a:pt x="111" y="698"/>
                        </a:lnTo>
                        <a:lnTo>
                          <a:pt x="67" y="659"/>
                        </a:lnTo>
                        <a:lnTo>
                          <a:pt x="67" y="620"/>
                        </a:lnTo>
                        <a:lnTo>
                          <a:pt x="140" y="617"/>
                        </a:lnTo>
                        <a:lnTo>
                          <a:pt x="64" y="599"/>
                        </a:lnTo>
                        <a:lnTo>
                          <a:pt x="71" y="507"/>
                        </a:lnTo>
                        <a:lnTo>
                          <a:pt x="89" y="356"/>
                        </a:lnTo>
                        <a:lnTo>
                          <a:pt x="148" y="166"/>
                        </a:lnTo>
                        <a:lnTo>
                          <a:pt x="188" y="106"/>
                        </a:lnTo>
                        <a:lnTo>
                          <a:pt x="268" y="28"/>
                        </a:lnTo>
                        <a:lnTo>
                          <a:pt x="312" y="18"/>
                        </a:lnTo>
                        <a:lnTo>
                          <a:pt x="392" y="7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96" name=""/>
                  <p:cNvGrpSpPr/>
                  <p:nvPr/>
                </p:nvGrpSpPr>
                <p:grpSpPr>
                  <a:xfrm>
                    <a:off x="6355080" y="2004480"/>
                    <a:ext cx="185760" cy="255600"/>
                    <a:chOff x="6355080" y="2004480"/>
                    <a:chExt cx="185760" cy="255600"/>
                  </a:xfrm>
                </p:grpSpPr>
                <p:sp>
                  <p:nvSpPr>
                    <p:cNvPr id="1297" name=""/>
                    <p:cNvSpPr/>
                    <p:nvPr/>
                  </p:nvSpPr>
                  <p:spPr>
                    <a:xfrm>
                      <a:off x="6434280" y="2142000"/>
                      <a:ext cx="66960" cy="6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1" h="229">
                          <a:moveTo>
                            <a:pt x="202" y="0"/>
                          </a:moveTo>
                          <a:lnTo>
                            <a:pt x="44" y="135"/>
                          </a:lnTo>
                          <a:lnTo>
                            <a:pt x="33" y="118"/>
                          </a:lnTo>
                          <a:lnTo>
                            <a:pt x="8" y="174"/>
                          </a:lnTo>
                          <a:lnTo>
                            <a:pt x="0" y="206"/>
                          </a:lnTo>
                          <a:lnTo>
                            <a:pt x="18" y="188"/>
                          </a:lnTo>
                          <a:lnTo>
                            <a:pt x="35" y="151"/>
                          </a:lnTo>
                          <a:lnTo>
                            <a:pt x="69" y="229"/>
                          </a:lnTo>
                          <a:lnTo>
                            <a:pt x="122" y="169"/>
                          </a:lnTo>
                          <a:lnTo>
                            <a:pt x="180" y="76"/>
                          </a:lnTo>
                          <a:lnTo>
                            <a:pt x="231" y="16"/>
                          </a:lnTo>
                          <a:lnTo>
                            <a:pt x="202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8" name=""/>
                    <p:cNvSpPr/>
                    <p:nvPr/>
                  </p:nvSpPr>
                  <p:spPr>
                    <a:xfrm>
                      <a:off x="6433560" y="2181600"/>
                      <a:ext cx="19080" cy="7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286">
                          <a:moveTo>
                            <a:pt x="37" y="0"/>
                          </a:moveTo>
                          <a:lnTo>
                            <a:pt x="26" y="13"/>
                          </a:lnTo>
                          <a:lnTo>
                            <a:pt x="19" y="23"/>
                          </a:lnTo>
                          <a:lnTo>
                            <a:pt x="13" y="37"/>
                          </a:lnTo>
                          <a:lnTo>
                            <a:pt x="6" y="60"/>
                          </a:lnTo>
                          <a:lnTo>
                            <a:pt x="4" y="83"/>
                          </a:lnTo>
                          <a:lnTo>
                            <a:pt x="6" y="105"/>
                          </a:lnTo>
                          <a:lnTo>
                            <a:pt x="10" y="129"/>
                          </a:lnTo>
                          <a:lnTo>
                            <a:pt x="14" y="142"/>
                          </a:lnTo>
                          <a:lnTo>
                            <a:pt x="2" y="195"/>
                          </a:lnTo>
                          <a:lnTo>
                            <a:pt x="0" y="218"/>
                          </a:lnTo>
                          <a:lnTo>
                            <a:pt x="0" y="247"/>
                          </a:lnTo>
                          <a:lnTo>
                            <a:pt x="4" y="286"/>
                          </a:lnTo>
                          <a:lnTo>
                            <a:pt x="25" y="198"/>
                          </a:lnTo>
                          <a:lnTo>
                            <a:pt x="36" y="139"/>
                          </a:lnTo>
                          <a:lnTo>
                            <a:pt x="66" y="65"/>
                          </a:lnTo>
                          <a:lnTo>
                            <a:pt x="37" y="0"/>
                          </a:lnTo>
                          <a:close/>
                        </a:path>
                      </a:pathLst>
                    </a:custGeom>
                    <a:solidFill>
                      <a:srgbClr val="000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440" bIns="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9" name=""/>
                    <p:cNvSpPr/>
                    <p:nvPr/>
                  </p:nvSpPr>
                  <p:spPr>
                    <a:xfrm>
                      <a:off x="6434280" y="2181600"/>
                      <a:ext cx="1728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151">
                          <a:moveTo>
                            <a:pt x="33" y="0"/>
                          </a:moveTo>
                          <a:lnTo>
                            <a:pt x="22" y="13"/>
                          </a:lnTo>
                          <a:lnTo>
                            <a:pt x="14" y="23"/>
                          </a:lnTo>
                          <a:lnTo>
                            <a:pt x="8" y="37"/>
                          </a:lnTo>
                          <a:lnTo>
                            <a:pt x="2" y="60"/>
                          </a:lnTo>
                          <a:lnTo>
                            <a:pt x="0" y="83"/>
                          </a:lnTo>
                          <a:lnTo>
                            <a:pt x="2" y="106"/>
                          </a:lnTo>
                          <a:lnTo>
                            <a:pt x="6" y="129"/>
                          </a:lnTo>
                          <a:lnTo>
                            <a:pt x="10" y="142"/>
                          </a:lnTo>
                          <a:lnTo>
                            <a:pt x="27" y="151"/>
                          </a:lnTo>
                          <a:lnTo>
                            <a:pt x="31" y="136"/>
                          </a:lnTo>
                          <a:lnTo>
                            <a:pt x="62" y="66"/>
                          </a:lnTo>
                          <a:lnTo>
                            <a:pt x="33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00" name=""/>
                    <p:cNvGrpSpPr/>
                    <p:nvPr/>
                  </p:nvGrpSpPr>
                  <p:grpSpPr>
                    <a:xfrm>
                      <a:off x="6355080" y="2004480"/>
                      <a:ext cx="185760" cy="177120"/>
                      <a:chOff x="6355080" y="2004480"/>
                      <a:chExt cx="185760" cy="177120"/>
                    </a:xfrm>
                  </p:grpSpPr>
                  <p:grpSp>
                    <p:nvGrpSpPr>
                      <p:cNvPr id="1301" name=""/>
                      <p:cNvGrpSpPr/>
                      <p:nvPr/>
                    </p:nvGrpSpPr>
                    <p:grpSpPr>
                      <a:xfrm>
                        <a:off x="6374160" y="2023200"/>
                        <a:ext cx="137520" cy="158400"/>
                        <a:chOff x="6374160" y="2023200"/>
                        <a:chExt cx="137520" cy="158400"/>
                      </a:xfrm>
                    </p:grpSpPr>
                    <p:sp>
                      <p:nvSpPr>
                        <p:cNvPr id="1302" name=""/>
                        <p:cNvSpPr/>
                        <p:nvPr/>
                      </p:nvSpPr>
                      <p:spPr>
                        <a:xfrm>
                          <a:off x="6374160" y="2023200"/>
                          <a:ext cx="137520" cy="158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74" h="598">
                              <a:moveTo>
                                <a:pt x="148" y="17"/>
                              </a:moveTo>
                              <a:lnTo>
                                <a:pt x="114" y="36"/>
                              </a:lnTo>
                              <a:lnTo>
                                <a:pt x="82" y="56"/>
                              </a:lnTo>
                              <a:lnTo>
                                <a:pt x="59" y="75"/>
                              </a:lnTo>
                              <a:lnTo>
                                <a:pt x="37" y="95"/>
                              </a:lnTo>
                              <a:lnTo>
                                <a:pt x="20" y="116"/>
                              </a:lnTo>
                              <a:lnTo>
                                <a:pt x="9" y="138"/>
                              </a:lnTo>
                              <a:lnTo>
                                <a:pt x="5" y="162"/>
                              </a:lnTo>
                              <a:lnTo>
                                <a:pt x="2" y="188"/>
                              </a:lnTo>
                              <a:lnTo>
                                <a:pt x="0" y="219"/>
                              </a:lnTo>
                              <a:lnTo>
                                <a:pt x="4" y="248"/>
                              </a:lnTo>
                              <a:lnTo>
                                <a:pt x="0" y="286"/>
                              </a:lnTo>
                              <a:lnTo>
                                <a:pt x="16" y="297"/>
                              </a:lnTo>
                              <a:lnTo>
                                <a:pt x="30" y="307"/>
                              </a:lnTo>
                              <a:lnTo>
                                <a:pt x="31" y="317"/>
                              </a:lnTo>
                              <a:lnTo>
                                <a:pt x="31" y="332"/>
                              </a:lnTo>
                              <a:lnTo>
                                <a:pt x="26" y="350"/>
                              </a:lnTo>
                              <a:lnTo>
                                <a:pt x="11" y="398"/>
                              </a:lnTo>
                              <a:lnTo>
                                <a:pt x="11" y="419"/>
                              </a:lnTo>
                              <a:lnTo>
                                <a:pt x="23" y="424"/>
                              </a:lnTo>
                              <a:lnTo>
                                <a:pt x="42" y="424"/>
                              </a:lnTo>
                              <a:lnTo>
                                <a:pt x="55" y="424"/>
                              </a:lnTo>
                              <a:lnTo>
                                <a:pt x="77" y="481"/>
                              </a:lnTo>
                              <a:lnTo>
                                <a:pt x="78" y="502"/>
                              </a:lnTo>
                              <a:lnTo>
                                <a:pt x="86" y="512"/>
                              </a:lnTo>
                              <a:lnTo>
                                <a:pt x="95" y="515"/>
                              </a:lnTo>
                              <a:lnTo>
                                <a:pt x="96" y="527"/>
                              </a:lnTo>
                              <a:lnTo>
                                <a:pt x="95" y="543"/>
                              </a:lnTo>
                              <a:lnTo>
                                <a:pt x="104" y="569"/>
                              </a:lnTo>
                              <a:lnTo>
                                <a:pt x="115" y="586"/>
                              </a:lnTo>
                              <a:lnTo>
                                <a:pt x="126" y="593"/>
                              </a:lnTo>
                              <a:lnTo>
                                <a:pt x="151" y="598"/>
                              </a:lnTo>
                              <a:lnTo>
                                <a:pt x="172" y="596"/>
                              </a:lnTo>
                              <a:lnTo>
                                <a:pt x="201" y="583"/>
                              </a:lnTo>
                              <a:lnTo>
                                <a:pt x="235" y="565"/>
                              </a:lnTo>
                              <a:lnTo>
                                <a:pt x="250" y="582"/>
                              </a:lnTo>
                              <a:lnTo>
                                <a:pt x="456" y="423"/>
                              </a:lnTo>
                              <a:lnTo>
                                <a:pt x="443" y="396"/>
                              </a:lnTo>
                              <a:lnTo>
                                <a:pt x="456" y="359"/>
                              </a:lnTo>
                              <a:lnTo>
                                <a:pt x="469" y="311"/>
                              </a:lnTo>
                              <a:lnTo>
                                <a:pt x="474" y="250"/>
                              </a:lnTo>
                              <a:lnTo>
                                <a:pt x="473" y="204"/>
                              </a:lnTo>
                              <a:lnTo>
                                <a:pt x="459" y="128"/>
                              </a:lnTo>
                              <a:lnTo>
                                <a:pt x="440" y="60"/>
                              </a:lnTo>
                              <a:lnTo>
                                <a:pt x="418" y="10"/>
                              </a:lnTo>
                              <a:lnTo>
                                <a:pt x="335" y="0"/>
                              </a:lnTo>
                              <a:lnTo>
                                <a:pt x="208" y="1"/>
                              </a:lnTo>
                              <a:lnTo>
                                <a:pt x="148" y="1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bfb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303" name=""/>
                        <p:cNvGrpSpPr/>
                        <p:nvPr/>
                      </p:nvGrpSpPr>
                      <p:grpSpPr>
                        <a:xfrm>
                          <a:off x="6428880" y="2103120"/>
                          <a:ext cx="23400" cy="37080"/>
                          <a:chOff x="6428880" y="2103120"/>
                          <a:chExt cx="23400" cy="37080"/>
                        </a:xfrm>
                      </p:grpSpPr>
                      <p:sp>
                        <p:nvSpPr>
                          <p:cNvPr id="1304" name=""/>
                          <p:cNvSpPr/>
                          <p:nvPr/>
                        </p:nvSpPr>
                        <p:spPr>
                          <a:xfrm>
                            <a:off x="6428880" y="2103120"/>
                            <a:ext cx="183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1" h="89">
                                <a:moveTo>
                                  <a:pt x="0" y="37"/>
                                </a:moveTo>
                                <a:lnTo>
                                  <a:pt x="6" y="18"/>
                                </a:lnTo>
                                <a:lnTo>
                                  <a:pt x="11" y="5"/>
                                </a:lnTo>
                                <a:lnTo>
                                  <a:pt x="16" y="2"/>
                                </a:lnTo>
                                <a:lnTo>
                                  <a:pt x="24" y="0"/>
                                </a:lnTo>
                                <a:lnTo>
                                  <a:pt x="34" y="0"/>
                                </a:lnTo>
                                <a:lnTo>
                                  <a:pt x="44" y="2"/>
                                </a:lnTo>
                                <a:lnTo>
                                  <a:pt x="51" y="7"/>
                                </a:lnTo>
                                <a:lnTo>
                                  <a:pt x="56" y="16"/>
                                </a:lnTo>
                                <a:lnTo>
                                  <a:pt x="60" y="31"/>
                                </a:lnTo>
                                <a:lnTo>
                                  <a:pt x="61" y="44"/>
                                </a:lnTo>
                                <a:lnTo>
                                  <a:pt x="58" y="62"/>
                                </a:lnTo>
                                <a:lnTo>
                                  <a:pt x="55" y="78"/>
                                </a:lnTo>
                                <a:lnTo>
                                  <a:pt x="47" y="89"/>
                                </a:lnTo>
                                <a:lnTo>
                                  <a:pt x="44" y="76"/>
                                </a:lnTo>
                                <a:lnTo>
                                  <a:pt x="51" y="64"/>
                                </a:lnTo>
                                <a:lnTo>
                                  <a:pt x="46" y="49"/>
                                </a:lnTo>
                                <a:lnTo>
                                  <a:pt x="40" y="55"/>
                                </a:lnTo>
                                <a:lnTo>
                                  <a:pt x="27" y="61"/>
                                </a:lnTo>
                                <a:lnTo>
                                  <a:pt x="22" y="48"/>
                                </a:lnTo>
                                <a:lnTo>
                                  <a:pt x="33" y="43"/>
                                </a:lnTo>
                                <a:lnTo>
                                  <a:pt x="44" y="41"/>
                                </a:lnTo>
                                <a:lnTo>
                                  <a:pt x="44" y="32"/>
                                </a:lnTo>
                                <a:lnTo>
                                  <a:pt x="43" y="22"/>
                                </a:lnTo>
                                <a:lnTo>
                                  <a:pt x="49" y="23"/>
                                </a:lnTo>
                                <a:lnTo>
                                  <a:pt x="47" y="10"/>
                                </a:lnTo>
                                <a:lnTo>
                                  <a:pt x="45" y="7"/>
                                </a:lnTo>
                                <a:lnTo>
                                  <a:pt x="35" y="5"/>
                                </a:lnTo>
                                <a:lnTo>
                                  <a:pt x="18" y="7"/>
                                </a:lnTo>
                                <a:lnTo>
                                  <a:pt x="10" y="20"/>
                                </a:lnTo>
                                <a:lnTo>
                                  <a:pt x="0" y="3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df9f7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05" name=""/>
                          <p:cNvSpPr/>
                          <p:nvPr/>
                        </p:nvSpPr>
                        <p:spPr>
                          <a:xfrm>
                            <a:off x="6436800" y="2126880"/>
                            <a:ext cx="15480" cy="13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4" h="50">
                                <a:moveTo>
                                  <a:pt x="40" y="0"/>
                                </a:moveTo>
                                <a:lnTo>
                                  <a:pt x="32" y="17"/>
                                </a:lnTo>
                                <a:lnTo>
                                  <a:pt x="29" y="25"/>
                                </a:lnTo>
                                <a:lnTo>
                                  <a:pt x="21" y="31"/>
                                </a:lnTo>
                                <a:lnTo>
                                  <a:pt x="12" y="32"/>
                                </a:lnTo>
                                <a:lnTo>
                                  <a:pt x="0" y="32"/>
                                </a:lnTo>
                                <a:lnTo>
                                  <a:pt x="26" y="35"/>
                                </a:lnTo>
                                <a:lnTo>
                                  <a:pt x="42" y="42"/>
                                </a:lnTo>
                                <a:lnTo>
                                  <a:pt x="54" y="50"/>
                                </a:lnTo>
                                <a:lnTo>
                                  <a:pt x="43" y="33"/>
                                </a:lnTo>
                                <a:lnTo>
                                  <a:pt x="41" y="17"/>
                                </a:lnTo>
                                <a:lnTo>
                                  <a:pt x="4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df9f7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3480" bIns="-334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306" name=""/>
                        <p:cNvSpPr/>
                        <p:nvPr/>
                      </p:nvSpPr>
                      <p:spPr>
                        <a:xfrm>
                          <a:off x="6397560" y="2125440"/>
                          <a:ext cx="12960" cy="17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7" h="67">
                              <a:moveTo>
                                <a:pt x="8" y="0"/>
                              </a:moveTo>
                              <a:lnTo>
                                <a:pt x="14" y="6"/>
                              </a:lnTo>
                              <a:lnTo>
                                <a:pt x="15" y="13"/>
                              </a:lnTo>
                              <a:lnTo>
                                <a:pt x="13" y="19"/>
                              </a:lnTo>
                              <a:lnTo>
                                <a:pt x="8" y="25"/>
                              </a:lnTo>
                              <a:lnTo>
                                <a:pt x="0" y="30"/>
                              </a:lnTo>
                              <a:lnTo>
                                <a:pt x="7" y="35"/>
                              </a:lnTo>
                              <a:lnTo>
                                <a:pt x="17" y="38"/>
                              </a:lnTo>
                              <a:lnTo>
                                <a:pt x="27" y="43"/>
                              </a:lnTo>
                              <a:lnTo>
                                <a:pt x="47" y="67"/>
                              </a:lnTo>
                              <a:lnTo>
                                <a:pt x="22" y="29"/>
                              </a:lnTo>
                              <a:lnTo>
                                <a:pt x="19" y="21"/>
                              </a:lnTo>
                              <a:lnTo>
                                <a:pt x="19" y="12"/>
                              </a:lnTo>
                              <a:lnTo>
                                <a:pt x="21" y="7"/>
                              </a:lnTo>
                              <a:lnTo>
                                <a:pt x="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07" name=""/>
                      <p:cNvGrpSpPr/>
                      <p:nvPr/>
                    </p:nvGrpSpPr>
                    <p:grpSpPr>
                      <a:xfrm>
                        <a:off x="6355080" y="2004480"/>
                        <a:ext cx="185760" cy="177120"/>
                        <a:chOff x="6355080" y="2004480"/>
                        <a:chExt cx="185760" cy="177120"/>
                      </a:xfrm>
                    </p:grpSpPr>
                    <p:sp>
                      <p:nvSpPr>
                        <p:cNvPr id="1308" name=""/>
                        <p:cNvSpPr/>
                        <p:nvPr/>
                      </p:nvSpPr>
                      <p:spPr>
                        <a:xfrm>
                          <a:off x="6355080" y="2004480"/>
                          <a:ext cx="185760" cy="177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40" h="673">
                              <a:moveTo>
                                <a:pt x="307" y="0"/>
                              </a:moveTo>
                              <a:lnTo>
                                <a:pt x="278" y="1"/>
                              </a:lnTo>
                              <a:lnTo>
                                <a:pt x="256" y="5"/>
                              </a:lnTo>
                              <a:lnTo>
                                <a:pt x="231" y="10"/>
                              </a:lnTo>
                              <a:lnTo>
                                <a:pt x="203" y="20"/>
                              </a:lnTo>
                              <a:lnTo>
                                <a:pt x="180" y="29"/>
                              </a:lnTo>
                              <a:lnTo>
                                <a:pt x="154" y="51"/>
                              </a:lnTo>
                              <a:lnTo>
                                <a:pt x="129" y="74"/>
                              </a:lnTo>
                              <a:lnTo>
                                <a:pt x="106" y="98"/>
                              </a:lnTo>
                              <a:lnTo>
                                <a:pt x="55" y="130"/>
                              </a:lnTo>
                              <a:lnTo>
                                <a:pt x="37" y="142"/>
                              </a:lnTo>
                              <a:lnTo>
                                <a:pt x="23" y="155"/>
                              </a:lnTo>
                              <a:lnTo>
                                <a:pt x="15" y="167"/>
                              </a:lnTo>
                              <a:lnTo>
                                <a:pt x="5" y="181"/>
                              </a:lnTo>
                              <a:lnTo>
                                <a:pt x="1" y="195"/>
                              </a:lnTo>
                              <a:lnTo>
                                <a:pt x="0" y="210"/>
                              </a:lnTo>
                              <a:lnTo>
                                <a:pt x="0" y="225"/>
                              </a:lnTo>
                              <a:lnTo>
                                <a:pt x="4" y="243"/>
                              </a:lnTo>
                              <a:lnTo>
                                <a:pt x="14" y="263"/>
                              </a:lnTo>
                              <a:lnTo>
                                <a:pt x="22" y="273"/>
                              </a:lnTo>
                              <a:lnTo>
                                <a:pt x="33" y="282"/>
                              </a:lnTo>
                              <a:lnTo>
                                <a:pt x="49" y="286"/>
                              </a:lnTo>
                              <a:lnTo>
                                <a:pt x="66" y="290"/>
                              </a:lnTo>
                              <a:lnTo>
                                <a:pt x="90" y="295"/>
                              </a:lnTo>
                              <a:lnTo>
                                <a:pt x="76" y="276"/>
                              </a:lnTo>
                              <a:lnTo>
                                <a:pt x="71" y="258"/>
                              </a:lnTo>
                              <a:lnTo>
                                <a:pt x="72" y="237"/>
                              </a:lnTo>
                              <a:lnTo>
                                <a:pt x="77" y="216"/>
                              </a:lnTo>
                              <a:lnTo>
                                <a:pt x="84" y="203"/>
                              </a:lnTo>
                              <a:lnTo>
                                <a:pt x="94" y="189"/>
                              </a:lnTo>
                              <a:lnTo>
                                <a:pt x="106" y="177"/>
                              </a:lnTo>
                              <a:lnTo>
                                <a:pt x="121" y="167"/>
                              </a:lnTo>
                              <a:lnTo>
                                <a:pt x="139" y="157"/>
                              </a:lnTo>
                              <a:lnTo>
                                <a:pt x="197" y="140"/>
                              </a:lnTo>
                              <a:lnTo>
                                <a:pt x="186" y="151"/>
                              </a:lnTo>
                              <a:lnTo>
                                <a:pt x="178" y="158"/>
                              </a:lnTo>
                              <a:lnTo>
                                <a:pt x="166" y="163"/>
                              </a:lnTo>
                              <a:lnTo>
                                <a:pt x="147" y="169"/>
                              </a:lnTo>
                              <a:lnTo>
                                <a:pt x="135" y="172"/>
                              </a:lnTo>
                              <a:lnTo>
                                <a:pt x="122" y="181"/>
                              </a:lnTo>
                              <a:lnTo>
                                <a:pt x="116" y="191"/>
                              </a:lnTo>
                              <a:lnTo>
                                <a:pt x="111" y="202"/>
                              </a:lnTo>
                              <a:lnTo>
                                <a:pt x="108" y="214"/>
                              </a:lnTo>
                              <a:lnTo>
                                <a:pt x="108" y="226"/>
                              </a:lnTo>
                              <a:lnTo>
                                <a:pt x="113" y="241"/>
                              </a:lnTo>
                              <a:lnTo>
                                <a:pt x="117" y="262"/>
                              </a:lnTo>
                              <a:lnTo>
                                <a:pt x="127" y="280"/>
                              </a:lnTo>
                              <a:lnTo>
                                <a:pt x="141" y="311"/>
                              </a:lnTo>
                              <a:lnTo>
                                <a:pt x="167" y="371"/>
                              </a:lnTo>
                              <a:lnTo>
                                <a:pt x="185" y="404"/>
                              </a:lnTo>
                              <a:lnTo>
                                <a:pt x="206" y="412"/>
                              </a:lnTo>
                              <a:lnTo>
                                <a:pt x="211" y="441"/>
                              </a:lnTo>
                              <a:lnTo>
                                <a:pt x="214" y="515"/>
                              </a:lnTo>
                              <a:lnTo>
                                <a:pt x="218" y="536"/>
                              </a:lnTo>
                              <a:lnTo>
                                <a:pt x="220" y="554"/>
                              </a:lnTo>
                              <a:lnTo>
                                <a:pt x="220" y="566"/>
                              </a:lnTo>
                              <a:lnTo>
                                <a:pt x="210" y="579"/>
                              </a:lnTo>
                              <a:lnTo>
                                <a:pt x="196" y="587"/>
                              </a:lnTo>
                              <a:lnTo>
                                <a:pt x="179" y="596"/>
                              </a:lnTo>
                              <a:lnTo>
                                <a:pt x="166" y="607"/>
                              </a:lnTo>
                              <a:lnTo>
                                <a:pt x="163" y="614"/>
                              </a:lnTo>
                              <a:lnTo>
                                <a:pt x="163" y="625"/>
                              </a:lnTo>
                              <a:lnTo>
                                <a:pt x="166" y="633"/>
                              </a:lnTo>
                              <a:lnTo>
                                <a:pt x="169" y="640"/>
                              </a:lnTo>
                              <a:lnTo>
                                <a:pt x="173" y="649"/>
                              </a:lnTo>
                              <a:lnTo>
                                <a:pt x="182" y="660"/>
                              </a:lnTo>
                              <a:lnTo>
                                <a:pt x="190" y="666"/>
                              </a:lnTo>
                              <a:lnTo>
                                <a:pt x="200" y="669"/>
                              </a:lnTo>
                              <a:lnTo>
                                <a:pt x="211" y="672"/>
                              </a:lnTo>
                              <a:lnTo>
                                <a:pt x="225" y="673"/>
                              </a:lnTo>
                              <a:lnTo>
                                <a:pt x="236" y="672"/>
                              </a:lnTo>
                              <a:lnTo>
                                <a:pt x="250" y="668"/>
                              </a:lnTo>
                              <a:lnTo>
                                <a:pt x="261" y="664"/>
                              </a:lnTo>
                              <a:lnTo>
                                <a:pt x="273" y="657"/>
                              </a:lnTo>
                              <a:lnTo>
                                <a:pt x="287" y="648"/>
                              </a:lnTo>
                              <a:lnTo>
                                <a:pt x="296" y="642"/>
                              </a:lnTo>
                              <a:lnTo>
                                <a:pt x="295" y="613"/>
                              </a:lnTo>
                              <a:lnTo>
                                <a:pt x="285" y="514"/>
                              </a:lnTo>
                              <a:lnTo>
                                <a:pt x="253" y="458"/>
                              </a:lnTo>
                              <a:lnTo>
                                <a:pt x="245" y="434"/>
                              </a:lnTo>
                              <a:lnTo>
                                <a:pt x="240" y="411"/>
                              </a:lnTo>
                              <a:lnTo>
                                <a:pt x="246" y="398"/>
                              </a:lnTo>
                              <a:lnTo>
                                <a:pt x="253" y="383"/>
                              </a:lnTo>
                              <a:lnTo>
                                <a:pt x="263" y="373"/>
                              </a:lnTo>
                              <a:lnTo>
                                <a:pt x="278" y="367"/>
                              </a:lnTo>
                              <a:lnTo>
                                <a:pt x="291" y="369"/>
                              </a:lnTo>
                              <a:lnTo>
                                <a:pt x="307" y="373"/>
                              </a:lnTo>
                              <a:lnTo>
                                <a:pt x="323" y="385"/>
                              </a:lnTo>
                              <a:lnTo>
                                <a:pt x="329" y="396"/>
                              </a:lnTo>
                              <a:lnTo>
                                <a:pt x="334" y="413"/>
                              </a:lnTo>
                              <a:lnTo>
                                <a:pt x="335" y="430"/>
                              </a:lnTo>
                              <a:lnTo>
                                <a:pt x="331" y="446"/>
                              </a:lnTo>
                              <a:lnTo>
                                <a:pt x="328" y="460"/>
                              </a:lnTo>
                              <a:lnTo>
                                <a:pt x="328" y="471"/>
                              </a:lnTo>
                              <a:lnTo>
                                <a:pt x="335" y="480"/>
                              </a:lnTo>
                              <a:lnTo>
                                <a:pt x="454" y="559"/>
                              </a:lnTo>
                              <a:lnTo>
                                <a:pt x="499" y="554"/>
                              </a:lnTo>
                              <a:lnTo>
                                <a:pt x="552" y="551"/>
                              </a:lnTo>
                              <a:lnTo>
                                <a:pt x="598" y="539"/>
                              </a:lnTo>
                              <a:lnTo>
                                <a:pt x="617" y="520"/>
                              </a:lnTo>
                              <a:lnTo>
                                <a:pt x="628" y="509"/>
                              </a:lnTo>
                              <a:lnTo>
                                <a:pt x="633" y="492"/>
                              </a:lnTo>
                              <a:lnTo>
                                <a:pt x="637" y="472"/>
                              </a:lnTo>
                              <a:lnTo>
                                <a:pt x="640" y="438"/>
                              </a:lnTo>
                              <a:lnTo>
                                <a:pt x="630" y="416"/>
                              </a:lnTo>
                              <a:lnTo>
                                <a:pt x="625" y="359"/>
                              </a:lnTo>
                              <a:lnTo>
                                <a:pt x="606" y="282"/>
                              </a:lnTo>
                              <a:lnTo>
                                <a:pt x="592" y="222"/>
                              </a:lnTo>
                              <a:lnTo>
                                <a:pt x="563" y="163"/>
                              </a:lnTo>
                              <a:lnTo>
                                <a:pt x="537" y="113"/>
                              </a:lnTo>
                              <a:lnTo>
                                <a:pt x="522" y="88"/>
                              </a:lnTo>
                              <a:lnTo>
                                <a:pt x="500" y="59"/>
                              </a:lnTo>
                              <a:lnTo>
                                <a:pt x="482" y="43"/>
                              </a:lnTo>
                              <a:lnTo>
                                <a:pt x="444" y="24"/>
                              </a:lnTo>
                              <a:lnTo>
                                <a:pt x="412" y="10"/>
                              </a:lnTo>
                              <a:lnTo>
                                <a:pt x="375" y="2"/>
                              </a:lnTo>
                              <a:lnTo>
                                <a:pt x="340" y="0"/>
                              </a:lnTo>
                              <a:lnTo>
                                <a:pt x="30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9" name=""/>
                        <p:cNvSpPr/>
                        <p:nvPr/>
                      </p:nvSpPr>
                      <p:spPr>
                        <a:xfrm>
                          <a:off x="6374160" y="2094480"/>
                          <a:ext cx="15480" cy="9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5" h="37">
                              <a:moveTo>
                                <a:pt x="2" y="0"/>
                              </a:moveTo>
                              <a:lnTo>
                                <a:pt x="1" y="7"/>
                              </a:lnTo>
                              <a:lnTo>
                                <a:pt x="0" y="17"/>
                              </a:lnTo>
                              <a:lnTo>
                                <a:pt x="4" y="23"/>
                              </a:lnTo>
                              <a:lnTo>
                                <a:pt x="11" y="28"/>
                              </a:lnTo>
                              <a:lnTo>
                                <a:pt x="23" y="30"/>
                              </a:lnTo>
                              <a:lnTo>
                                <a:pt x="35" y="31"/>
                              </a:lnTo>
                              <a:lnTo>
                                <a:pt x="49" y="35"/>
                              </a:lnTo>
                              <a:lnTo>
                                <a:pt x="55" y="37"/>
                              </a:lnTo>
                              <a:lnTo>
                                <a:pt x="55" y="29"/>
                              </a:lnTo>
                              <a:lnTo>
                                <a:pt x="42" y="18"/>
                              </a:lnTo>
                              <a:lnTo>
                                <a:pt x="32" y="11"/>
                              </a:lnTo>
                              <a:lnTo>
                                <a:pt x="19" y="5"/>
                              </a:lnTo>
                              <a:lnTo>
                                <a:pt x="13" y="3"/>
                              </a:lnTo>
                              <a:lnTo>
                                <a:pt x="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0" name=""/>
                        <p:cNvSpPr/>
                        <p:nvPr/>
                      </p:nvSpPr>
                      <p:spPr>
                        <a:xfrm>
                          <a:off x="6380280" y="2105640"/>
                          <a:ext cx="8640" cy="2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13">
                              <a:moveTo>
                                <a:pt x="18" y="0"/>
                              </a:moveTo>
                              <a:lnTo>
                                <a:pt x="14" y="6"/>
                              </a:lnTo>
                              <a:lnTo>
                                <a:pt x="8" y="8"/>
                              </a:lnTo>
                              <a:lnTo>
                                <a:pt x="0" y="9"/>
                              </a:lnTo>
                              <a:lnTo>
                                <a:pt x="9" y="13"/>
                              </a:lnTo>
                              <a:lnTo>
                                <a:pt x="24" y="13"/>
                              </a:lnTo>
                              <a:lnTo>
                                <a:pt x="32" y="13"/>
                              </a:lnTo>
                              <a:lnTo>
                                <a:pt x="1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1" name=""/>
                        <p:cNvSpPr/>
                        <p:nvPr/>
                      </p:nvSpPr>
                      <p:spPr>
                        <a:xfrm>
                          <a:off x="6388200" y="2134080"/>
                          <a:ext cx="17280" cy="18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0" h="69">
                              <a:moveTo>
                                <a:pt x="9" y="1"/>
                              </a:moveTo>
                              <a:lnTo>
                                <a:pt x="3" y="10"/>
                              </a:lnTo>
                              <a:lnTo>
                                <a:pt x="1" y="17"/>
                              </a:lnTo>
                              <a:lnTo>
                                <a:pt x="0" y="26"/>
                              </a:lnTo>
                              <a:lnTo>
                                <a:pt x="0" y="34"/>
                              </a:lnTo>
                              <a:lnTo>
                                <a:pt x="2" y="44"/>
                              </a:lnTo>
                              <a:lnTo>
                                <a:pt x="4" y="53"/>
                              </a:lnTo>
                              <a:lnTo>
                                <a:pt x="9" y="57"/>
                              </a:lnTo>
                              <a:lnTo>
                                <a:pt x="14" y="61"/>
                              </a:lnTo>
                              <a:lnTo>
                                <a:pt x="21" y="61"/>
                              </a:lnTo>
                              <a:lnTo>
                                <a:pt x="30" y="61"/>
                              </a:lnTo>
                              <a:lnTo>
                                <a:pt x="45" y="63"/>
                              </a:lnTo>
                              <a:lnTo>
                                <a:pt x="60" y="69"/>
                              </a:lnTo>
                              <a:lnTo>
                                <a:pt x="60" y="61"/>
                              </a:lnTo>
                              <a:lnTo>
                                <a:pt x="56" y="50"/>
                              </a:lnTo>
                              <a:lnTo>
                                <a:pt x="54" y="39"/>
                              </a:lnTo>
                              <a:lnTo>
                                <a:pt x="47" y="28"/>
                              </a:lnTo>
                              <a:lnTo>
                                <a:pt x="42" y="22"/>
                              </a:lnTo>
                              <a:lnTo>
                                <a:pt x="35" y="15"/>
                              </a:lnTo>
                              <a:lnTo>
                                <a:pt x="29" y="9"/>
                              </a:lnTo>
                              <a:lnTo>
                                <a:pt x="24" y="5"/>
                              </a:lnTo>
                              <a:lnTo>
                                <a:pt x="20" y="0"/>
                              </a:lnTo>
                              <a:lnTo>
                                <a:pt x="9" y="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800" bIns="-28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2" name=""/>
                        <p:cNvSpPr/>
                        <p:nvPr/>
                      </p:nvSpPr>
                      <p:spPr>
                        <a:xfrm>
                          <a:off x="6358320" y="2035080"/>
                          <a:ext cx="41760" cy="37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6" h="146">
                              <a:moveTo>
                                <a:pt x="146" y="0"/>
                              </a:moveTo>
                              <a:lnTo>
                                <a:pt x="121" y="11"/>
                              </a:lnTo>
                              <a:lnTo>
                                <a:pt x="100" y="14"/>
                              </a:lnTo>
                              <a:lnTo>
                                <a:pt x="79" y="20"/>
                              </a:lnTo>
                              <a:lnTo>
                                <a:pt x="61" y="27"/>
                              </a:lnTo>
                              <a:lnTo>
                                <a:pt x="43" y="35"/>
                              </a:lnTo>
                              <a:lnTo>
                                <a:pt x="28" y="47"/>
                              </a:lnTo>
                              <a:lnTo>
                                <a:pt x="19" y="59"/>
                              </a:lnTo>
                              <a:lnTo>
                                <a:pt x="11" y="70"/>
                              </a:lnTo>
                              <a:lnTo>
                                <a:pt x="5" y="80"/>
                              </a:lnTo>
                              <a:lnTo>
                                <a:pt x="0" y="92"/>
                              </a:lnTo>
                              <a:lnTo>
                                <a:pt x="8" y="84"/>
                              </a:lnTo>
                              <a:lnTo>
                                <a:pt x="8" y="98"/>
                              </a:lnTo>
                              <a:lnTo>
                                <a:pt x="8" y="119"/>
                              </a:lnTo>
                              <a:lnTo>
                                <a:pt x="11" y="131"/>
                              </a:lnTo>
                              <a:lnTo>
                                <a:pt x="19" y="146"/>
                              </a:lnTo>
                              <a:lnTo>
                                <a:pt x="26" y="120"/>
                              </a:lnTo>
                              <a:lnTo>
                                <a:pt x="33" y="95"/>
                              </a:lnTo>
                              <a:lnTo>
                                <a:pt x="43" y="73"/>
                              </a:lnTo>
                              <a:lnTo>
                                <a:pt x="55" y="53"/>
                              </a:lnTo>
                              <a:lnTo>
                                <a:pt x="70" y="40"/>
                              </a:lnTo>
                              <a:lnTo>
                                <a:pt x="83" y="30"/>
                              </a:lnTo>
                              <a:lnTo>
                                <a:pt x="101" y="21"/>
                              </a:lnTo>
                              <a:lnTo>
                                <a:pt x="14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5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9000" bIns="-9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313" name=""/>
                    <p:cNvSpPr/>
                    <p:nvPr/>
                  </p:nvSpPr>
                  <p:spPr>
                    <a:xfrm>
                      <a:off x="6458760" y="2145240"/>
                      <a:ext cx="52200" cy="10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2" h="381">
                          <a:moveTo>
                            <a:pt x="182" y="0"/>
                          </a:moveTo>
                          <a:lnTo>
                            <a:pt x="40" y="247"/>
                          </a:lnTo>
                          <a:lnTo>
                            <a:pt x="0" y="381"/>
                          </a:lnTo>
                          <a:lnTo>
                            <a:pt x="62" y="233"/>
                          </a:lnTo>
                          <a:lnTo>
                            <a:pt x="182" y="0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4" name=""/>
                    <p:cNvSpPr/>
                    <p:nvPr/>
                  </p:nvSpPr>
                  <p:spPr>
                    <a:xfrm>
                      <a:off x="6405480" y="2215800"/>
                      <a:ext cx="1980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168">
                          <a:moveTo>
                            <a:pt x="37" y="0"/>
                          </a:moveTo>
                          <a:lnTo>
                            <a:pt x="38" y="129"/>
                          </a:lnTo>
                          <a:lnTo>
                            <a:pt x="70" y="168"/>
                          </a:lnTo>
                          <a:lnTo>
                            <a:pt x="23" y="134"/>
                          </a:lnTo>
                          <a:lnTo>
                            <a:pt x="0" y="154"/>
                          </a:lnTo>
                          <a:lnTo>
                            <a:pt x="15" y="105"/>
                          </a:lnTo>
                          <a:lnTo>
                            <a:pt x="22" y="27"/>
                          </a:lnTo>
                          <a:lnTo>
                            <a:pt x="37" y="0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5" name=""/>
                  <p:cNvSpPr/>
                  <p:nvPr/>
                </p:nvSpPr>
                <p:spPr>
                  <a:xfrm>
                    <a:off x="6382800" y="2278080"/>
                    <a:ext cx="306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81">
                        <a:moveTo>
                          <a:pt x="63" y="0"/>
                        </a:moveTo>
                        <a:lnTo>
                          <a:pt x="103" y="93"/>
                        </a:lnTo>
                        <a:lnTo>
                          <a:pt x="105" y="181"/>
                        </a:lnTo>
                        <a:lnTo>
                          <a:pt x="87" y="82"/>
                        </a:lnTo>
                        <a:lnTo>
                          <a:pt x="62" y="40"/>
                        </a:lnTo>
                        <a:lnTo>
                          <a:pt x="0" y="76"/>
                        </a:lnTo>
                        <a:lnTo>
                          <a:pt x="37" y="45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6" name=""/>
                <p:cNvSpPr/>
                <p:nvPr/>
              </p:nvSpPr>
              <p:spPr>
                <a:xfrm>
                  <a:off x="6223680" y="2355120"/>
                  <a:ext cx="21600" cy="31680"/>
                </a:xfrm>
                <a:custGeom>
                  <a:avLst/>
                  <a:gdLst/>
                  <a:ahLst/>
                  <a:rect l="l" t="t" r="r" b="b"/>
                  <a:pathLst>
                    <a:path w="75" h="120">
                      <a:moveTo>
                        <a:pt x="53" y="0"/>
                      </a:moveTo>
                      <a:lnTo>
                        <a:pt x="2" y="98"/>
                      </a:lnTo>
                      <a:lnTo>
                        <a:pt x="0" y="120"/>
                      </a:lnTo>
                      <a:lnTo>
                        <a:pt x="18" y="105"/>
                      </a:lnTo>
                      <a:lnTo>
                        <a:pt x="75" y="6"/>
                      </a:lnTo>
                      <a:lnTo>
                        <a:pt x="66" y="5"/>
                      </a:lnTo>
                      <a:lnTo>
                        <a:pt x="58" y="2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17" name=""/>
                <p:cNvGrpSpPr/>
                <p:nvPr/>
              </p:nvGrpSpPr>
              <p:grpSpPr>
                <a:xfrm>
                  <a:off x="6222960" y="2321640"/>
                  <a:ext cx="81720" cy="61200"/>
                  <a:chOff x="6222960" y="2321640"/>
                  <a:chExt cx="81720" cy="61200"/>
                </a:xfrm>
              </p:grpSpPr>
              <p:grpSp>
                <p:nvGrpSpPr>
                  <p:cNvPr id="1318" name=""/>
                  <p:cNvGrpSpPr/>
                  <p:nvPr/>
                </p:nvGrpSpPr>
                <p:grpSpPr>
                  <a:xfrm>
                    <a:off x="6222960" y="2321640"/>
                    <a:ext cx="76680" cy="61200"/>
                    <a:chOff x="6222960" y="2321640"/>
                    <a:chExt cx="76680" cy="61200"/>
                  </a:xfrm>
                </p:grpSpPr>
                <p:sp>
                  <p:nvSpPr>
                    <p:cNvPr id="1319" name=""/>
                    <p:cNvSpPr/>
                    <p:nvPr/>
                  </p:nvSpPr>
                  <p:spPr>
                    <a:xfrm>
                      <a:off x="6222960" y="2328480"/>
                      <a:ext cx="7668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6" h="209">
                          <a:moveTo>
                            <a:pt x="197" y="29"/>
                          </a:moveTo>
                          <a:lnTo>
                            <a:pt x="181" y="32"/>
                          </a:lnTo>
                          <a:lnTo>
                            <a:pt x="168" y="25"/>
                          </a:lnTo>
                          <a:lnTo>
                            <a:pt x="151" y="17"/>
                          </a:lnTo>
                          <a:lnTo>
                            <a:pt x="134" y="11"/>
                          </a:lnTo>
                          <a:lnTo>
                            <a:pt x="107" y="4"/>
                          </a:lnTo>
                          <a:lnTo>
                            <a:pt x="92" y="0"/>
                          </a:lnTo>
                          <a:lnTo>
                            <a:pt x="41" y="12"/>
                          </a:lnTo>
                          <a:lnTo>
                            <a:pt x="33" y="17"/>
                          </a:lnTo>
                          <a:lnTo>
                            <a:pt x="25" y="22"/>
                          </a:lnTo>
                          <a:lnTo>
                            <a:pt x="19" y="31"/>
                          </a:lnTo>
                          <a:lnTo>
                            <a:pt x="14" y="44"/>
                          </a:lnTo>
                          <a:lnTo>
                            <a:pt x="9" y="64"/>
                          </a:lnTo>
                          <a:lnTo>
                            <a:pt x="5" y="90"/>
                          </a:lnTo>
                          <a:lnTo>
                            <a:pt x="3" y="113"/>
                          </a:lnTo>
                          <a:lnTo>
                            <a:pt x="0" y="130"/>
                          </a:lnTo>
                          <a:lnTo>
                            <a:pt x="0" y="140"/>
                          </a:lnTo>
                          <a:lnTo>
                            <a:pt x="3" y="148"/>
                          </a:lnTo>
                          <a:lnTo>
                            <a:pt x="5" y="155"/>
                          </a:lnTo>
                          <a:lnTo>
                            <a:pt x="11" y="165"/>
                          </a:lnTo>
                          <a:lnTo>
                            <a:pt x="34" y="188"/>
                          </a:lnTo>
                          <a:lnTo>
                            <a:pt x="45" y="194"/>
                          </a:lnTo>
                          <a:lnTo>
                            <a:pt x="64" y="204"/>
                          </a:lnTo>
                          <a:lnTo>
                            <a:pt x="76" y="209"/>
                          </a:lnTo>
                          <a:lnTo>
                            <a:pt x="86" y="205"/>
                          </a:lnTo>
                          <a:lnTo>
                            <a:pt x="89" y="198"/>
                          </a:lnTo>
                          <a:lnTo>
                            <a:pt x="99" y="198"/>
                          </a:lnTo>
                          <a:lnTo>
                            <a:pt x="110" y="198"/>
                          </a:lnTo>
                          <a:lnTo>
                            <a:pt x="125" y="201"/>
                          </a:lnTo>
                          <a:lnTo>
                            <a:pt x="134" y="202"/>
                          </a:lnTo>
                          <a:lnTo>
                            <a:pt x="137" y="194"/>
                          </a:lnTo>
                          <a:lnTo>
                            <a:pt x="140" y="188"/>
                          </a:lnTo>
                          <a:lnTo>
                            <a:pt x="148" y="191"/>
                          </a:lnTo>
                          <a:lnTo>
                            <a:pt x="158" y="191"/>
                          </a:lnTo>
                          <a:lnTo>
                            <a:pt x="162" y="185"/>
                          </a:lnTo>
                          <a:lnTo>
                            <a:pt x="165" y="178"/>
                          </a:lnTo>
                          <a:lnTo>
                            <a:pt x="168" y="168"/>
                          </a:lnTo>
                          <a:lnTo>
                            <a:pt x="183" y="170"/>
                          </a:lnTo>
                          <a:lnTo>
                            <a:pt x="198" y="170"/>
                          </a:lnTo>
                          <a:lnTo>
                            <a:pt x="208" y="166"/>
                          </a:lnTo>
                          <a:lnTo>
                            <a:pt x="218" y="161"/>
                          </a:lnTo>
                          <a:lnTo>
                            <a:pt x="225" y="154"/>
                          </a:lnTo>
                          <a:lnTo>
                            <a:pt x="233" y="145"/>
                          </a:lnTo>
                          <a:lnTo>
                            <a:pt x="260" y="139"/>
                          </a:lnTo>
                          <a:lnTo>
                            <a:pt x="265" y="107"/>
                          </a:lnTo>
                          <a:lnTo>
                            <a:pt x="266" y="86"/>
                          </a:lnTo>
                          <a:lnTo>
                            <a:pt x="259" y="62"/>
                          </a:lnTo>
                          <a:lnTo>
                            <a:pt x="250" y="47"/>
                          </a:lnTo>
                          <a:lnTo>
                            <a:pt x="241" y="39"/>
                          </a:lnTo>
                          <a:lnTo>
                            <a:pt x="226" y="31"/>
                          </a:lnTo>
                          <a:lnTo>
                            <a:pt x="208" y="25"/>
                          </a:lnTo>
                          <a:lnTo>
                            <a:pt x="197" y="29"/>
                          </a:lnTo>
                          <a:close/>
                        </a:path>
                      </a:pathLst>
                    </a:custGeom>
                    <a:solidFill>
                      <a:srgbClr val="f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0" name=""/>
                    <p:cNvSpPr/>
                    <p:nvPr/>
                  </p:nvSpPr>
                  <p:spPr>
                    <a:xfrm>
                      <a:off x="6228000" y="2339640"/>
                      <a:ext cx="5292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2" h="151">
                          <a:moveTo>
                            <a:pt x="182" y="50"/>
                          </a:moveTo>
                          <a:lnTo>
                            <a:pt x="167" y="60"/>
                          </a:lnTo>
                          <a:lnTo>
                            <a:pt x="154" y="60"/>
                          </a:lnTo>
                          <a:lnTo>
                            <a:pt x="142" y="56"/>
                          </a:lnTo>
                          <a:lnTo>
                            <a:pt x="134" y="51"/>
                          </a:lnTo>
                          <a:lnTo>
                            <a:pt x="127" y="47"/>
                          </a:lnTo>
                          <a:lnTo>
                            <a:pt x="120" y="47"/>
                          </a:lnTo>
                          <a:lnTo>
                            <a:pt x="110" y="53"/>
                          </a:lnTo>
                          <a:lnTo>
                            <a:pt x="95" y="57"/>
                          </a:lnTo>
                          <a:lnTo>
                            <a:pt x="81" y="61"/>
                          </a:lnTo>
                          <a:lnTo>
                            <a:pt x="71" y="62"/>
                          </a:lnTo>
                          <a:lnTo>
                            <a:pt x="59" y="62"/>
                          </a:lnTo>
                          <a:lnTo>
                            <a:pt x="47" y="60"/>
                          </a:lnTo>
                          <a:lnTo>
                            <a:pt x="39" y="56"/>
                          </a:lnTo>
                          <a:lnTo>
                            <a:pt x="36" y="51"/>
                          </a:lnTo>
                          <a:lnTo>
                            <a:pt x="33" y="42"/>
                          </a:lnTo>
                          <a:lnTo>
                            <a:pt x="33" y="35"/>
                          </a:lnTo>
                          <a:lnTo>
                            <a:pt x="37" y="29"/>
                          </a:lnTo>
                          <a:lnTo>
                            <a:pt x="44" y="26"/>
                          </a:lnTo>
                          <a:lnTo>
                            <a:pt x="56" y="23"/>
                          </a:lnTo>
                          <a:lnTo>
                            <a:pt x="71" y="21"/>
                          </a:lnTo>
                          <a:lnTo>
                            <a:pt x="82" y="21"/>
                          </a:lnTo>
                          <a:lnTo>
                            <a:pt x="94" y="14"/>
                          </a:lnTo>
                          <a:lnTo>
                            <a:pt x="106" y="7"/>
                          </a:lnTo>
                          <a:lnTo>
                            <a:pt x="89" y="7"/>
                          </a:lnTo>
                          <a:lnTo>
                            <a:pt x="78" y="1"/>
                          </a:lnTo>
                          <a:lnTo>
                            <a:pt x="65" y="0"/>
                          </a:lnTo>
                          <a:lnTo>
                            <a:pt x="55" y="3"/>
                          </a:lnTo>
                          <a:lnTo>
                            <a:pt x="43" y="10"/>
                          </a:lnTo>
                          <a:lnTo>
                            <a:pt x="38" y="14"/>
                          </a:lnTo>
                          <a:lnTo>
                            <a:pt x="21" y="2"/>
                          </a:lnTo>
                          <a:lnTo>
                            <a:pt x="28" y="10"/>
                          </a:lnTo>
                          <a:lnTo>
                            <a:pt x="31" y="17"/>
                          </a:lnTo>
                          <a:lnTo>
                            <a:pt x="22" y="19"/>
                          </a:lnTo>
                          <a:lnTo>
                            <a:pt x="31" y="21"/>
                          </a:lnTo>
                          <a:lnTo>
                            <a:pt x="23" y="56"/>
                          </a:lnTo>
                          <a:lnTo>
                            <a:pt x="19" y="63"/>
                          </a:lnTo>
                          <a:lnTo>
                            <a:pt x="14" y="68"/>
                          </a:lnTo>
                          <a:lnTo>
                            <a:pt x="0" y="70"/>
                          </a:lnTo>
                          <a:lnTo>
                            <a:pt x="10" y="74"/>
                          </a:lnTo>
                          <a:lnTo>
                            <a:pt x="14" y="83"/>
                          </a:lnTo>
                          <a:lnTo>
                            <a:pt x="6" y="102"/>
                          </a:lnTo>
                          <a:lnTo>
                            <a:pt x="4" y="115"/>
                          </a:lnTo>
                          <a:lnTo>
                            <a:pt x="25" y="94"/>
                          </a:lnTo>
                          <a:lnTo>
                            <a:pt x="36" y="100"/>
                          </a:lnTo>
                          <a:lnTo>
                            <a:pt x="39" y="111"/>
                          </a:lnTo>
                          <a:lnTo>
                            <a:pt x="23" y="120"/>
                          </a:lnTo>
                          <a:lnTo>
                            <a:pt x="42" y="118"/>
                          </a:lnTo>
                          <a:lnTo>
                            <a:pt x="50" y="118"/>
                          </a:lnTo>
                          <a:lnTo>
                            <a:pt x="55" y="123"/>
                          </a:lnTo>
                          <a:lnTo>
                            <a:pt x="61" y="132"/>
                          </a:lnTo>
                          <a:lnTo>
                            <a:pt x="66" y="143"/>
                          </a:lnTo>
                          <a:lnTo>
                            <a:pt x="72" y="151"/>
                          </a:lnTo>
                          <a:lnTo>
                            <a:pt x="72" y="137"/>
                          </a:lnTo>
                          <a:lnTo>
                            <a:pt x="66" y="127"/>
                          </a:lnTo>
                          <a:lnTo>
                            <a:pt x="60" y="118"/>
                          </a:lnTo>
                          <a:lnTo>
                            <a:pt x="65" y="112"/>
                          </a:lnTo>
                          <a:lnTo>
                            <a:pt x="73" y="110"/>
                          </a:lnTo>
                          <a:lnTo>
                            <a:pt x="82" y="111"/>
                          </a:lnTo>
                          <a:lnTo>
                            <a:pt x="95" y="112"/>
                          </a:lnTo>
                          <a:lnTo>
                            <a:pt x="106" y="105"/>
                          </a:lnTo>
                          <a:lnTo>
                            <a:pt x="120" y="102"/>
                          </a:lnTo>
                          <a:lnTo>
                            <a:pt x="131" y="100"/>
                          </a:lnTo>
                          <a:lnTo>
                            <a:pt x="137" y="98"/>
                          </a:lnTo>
                          <a:lnTo>
                            <a:pt x="140" y="95"/>
                          </a:lnTo>
                          <a:lnTo>
                            <a:pt x="150" y="102"/>
                          </a:lnTo>
                          <a:lnTo>
                            <a:pt x="146" y="90"/>
                          </a:lnTo>
                          <a:lnTo>
                            <a:pt x="171" y="105"/>
                          </a:lnTo>
                          <a:lnTo>
                            <a:pt x="167" y="95"/>
                          </a:lnTo>
                          <a:lnTo>
                            <a:pt x="148" y="82"/>
                          </a:lnTo>
                          <a:lnTo>
                            <a:pt x="151" y="73"/>
                          </a:lnTo>
                          <a:lnTo>
                            <a:pt x="159" y="63"/>
                          </a:lnTo>
                          <a:lnTo>
                            <a:pt x="170" y="62"/>
                          </a:lnTo>
                          <a:lnTo>
                            <a:pt x="182" y="50"/>
                          </a:lnTo>
                          <a:close/>
                        </a:path>
                      </a:pathLst>
                    </a:custGeom>
                    <a:solidFill>
                      <a:srgbClr val="df9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1" name=""/>
                    <p:cNvSpPr/>
                    <p:nvPr/>
                  </p:nvSpPr>
                  <p:spPr>
                    <a:xfrm>
                      <a:off x="6245640" y="2321640"/>
                      <a:ext cx="1800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90">
                          <a:moveTo>
                            <a:pt x="56" y="0"/>
                          </a:moveTo>
                          <a:lnTo>
                            <a:pt x="43" y="3"/>
                          </a:lnTo>
                          <a:lnTo>
                            <a:pt x="41" y="10"/>
                          </a:lnTo>
                          <a:lnTo>
                            <a:pt x="0" y="90"/>
                          </a:lnTo>
                          <a:lnTo>
                            <a:pt x="21" y="88"/>
                          </a:lnTo>
                          <a:lnTo>
                            <a:pt x="63" y="16"/>
                          </a:lnTo>
                          <a:lnTo>
                            <a:pt x="64" y="4"/>
                          </a:lnTo>
                          <a:lnTo>
                            <a:pt x="56" y="0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2" name=""/>
                    <p:cNvSpPr/>
                    <p:nvPr/>
                  </p:nvSpPr>
                  <p:spPr>
                    <a:xfrm>
                      <a:off x="6282360" y="2342160"/>
                      <a:ext cx="1296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83">
                          <a:moveTo>
                            <a:pt x="0" y="0"/>
                          </a:moveTo>
                          <a:lnTo>
                            <a:pt x="9" y="12"/>
                          </a:lnTo>
                          <a:lnTo>
                            <a:pt x="14" y="22"/>
                          </a:lnTo>
                          <a:lnTo>
                            <a:pt x="17" y="35"/>
                          </a:lnTo>
                          <a:lnTo>
                            <a:pt x="18" y="48"/>
                          </a:lnTo>
                          <a:lnTo>
                            <a:pt x="17" y="62"/>
                          </a:lnTo>
                          <a:lnTo>
                            <a:pt x="12" y="83"/>
                          </a:lnTo>
                          <a:lnTo>
                            <a:pt x="28" y="45"/>
                          </a:lnTo>
                          <a:lnTo>
                            <a:pt x="38" y="33"/>
                          </a:lnTo>
                          <a:lnTo>
                            <a:pt x="45" y="22"/>
                          </a:lnTo>
                          <a:lnTo>
                            <a:pt x="33" y="18"/>
                          </a:lnTo>
                          <a:lnTo>
                            <a:pt x="21" y="9"/>
                          </a:lnTo>
                          <a:lnTo>
                            <a:pt x="12" y="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df9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3" name=""/>
                    <p:cNvSpPr/>
                    <p:nvPr/>
                  </p:nvSpPr>
                  <p:spPr>
                    <a:xfrm>
                      <a:off x="6252480" y="2323800"/>
                      <a:ext cx="1044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84">
                          <a:moveTo>
                            <a:pt x="36" y="7"/>
                          </a:moveTo>
                          <a:lnTo>
                            <a:pt x="38" y="10"/>
                          </a:lnTo>
                          <a:lnTo>
                            <a:pt x="4" y="84"/>
                          </a:lnTo>
                          <a:lnTo>
                            <a:pt x="0" y="76"/>
                          </a:lnTo>
                          <a:lnTo>
                            <a:pt x="2" y="69"/>
                          </a:lnTo>
                          <a:lnTo>
                            <a:pt x="6" y="63"/>
                          </a:lnTo>
                          <a:lnTo>
                            <a:pt x="12" y="61"/>
                          </a:lnTo>
                          <a:lnTo>
                            <a:pt x="35" y="10"/>
                          </a:lnTo>
                          <a:lnTo>
                            <a:pt x="18" y="2"/>
                          </a:lnTo>
                          <a:lnTo>
                            <a:pt x="18" y="0"/>
                          </a:lnTo>
                          <a:lnTo>
                            <a:pt x="36" y="7"/>
                          </a:lnTo>
                          <a:close/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4" name=""/>
                  <p:cNvSpPr/>
                  <p:nvPr/>
                </p:nvSpPr>
                <p:spPr>
                  <a:xfrm>
                    <a:off x="6275160" y="2333160"/>
                    <a:ext cx="295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32">
                        <a:moveTo>
                          <a:pt x="0" y="7"/>
                        </a:moveTo>
                        <a:lnTo>
                          <a:pt x="18" y="15"/>
                        </a:lnTo>
                        <a:lnTo>
                          <a:pt x="38" y="26"/>
                        </a:lnTo>
                        <a:lnTo>
                          <a:pt x="47" y="34"/>
                        </a:lnTo>
                        <a:lnTo>
                          <a:pt x="56" y="47"/>
                        </a:lnTo>
                        <a:lnTo>
                          <a:pt x="63" y="58"/>
                        </a:lnTo>
                        <a:lnTo>
                          <a:pt x="68" y="73"/>
                        </a:lnTo>
                        <a:lnTo>
                          <a:pt x="72" y="96"/>
                        </a:lnTo>
                        <a:lnTo>
                          <a:pt x="70" y="117"/>
                        </a:lnTo>
                        <a:lnTo>
                          <a:pt x="66" y="132"/>
                        </a:lnTo>
                        <a:lnTo>
                          <a:pt x="97" y="130"/>
                        </a:lnTo>
                        <a:lnTo>
                          <a:pt x="102" y="105"/>
                        </a:lnTo>
                        <a:lnTo>
                          <a:pt x="102" y="86"/>
                        </a:lnTo>
                        <a:lnTo>
                          <a:pt x="100" y="65"/>
                        </a:lnTo>
                        <a:lnTo>
                          <a:pt x="94" y="49"/>
                        </a:lnTo>
                        <a:lnTo>
                          <a:pt x="81" y="29"/>
                        </a:lnTo>
                        <a:lnTo>
                          <a:pt x="70" y="19"/>
                        </a:lnTo>
                        <a:lnTo>
                          <a:pt x="52" y="9"/>
                        </a:lnTo>
                        <a:lnTo>
                          <a:pt x="31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5" name=""/>
              <p:cNvGrpSpPr/>
              <p:nvPr/>
            </p:nvGrpSpPr>
            <p:grpSpPr>
              <a:xfrm>
                <a:off x="5589000" y="2040840"/>
                <a:ext cx="384840" cy="395280"/>
                <a:chOff x="5589000" y="2040840"/>
                <a:chExt cx="384840" cy="395280"/>
              </a:xfrm>
            </p:grpSpPr>
            <p:grpSp>
              <p:nvGrpSpPr>
                <p:cNvPr id="1326" name=""/>
                <p:cNvGrpSpPr/>
                <p:nvPr/>
              </p:nvGrpSpPr>
              <p:grpSpPr>
                <a:xfrm>
                  <a:off x="5713560" y="2246040"/>
                  <a:ext cx="79200" cy="136800"/>
                  <a:chOff x="5713560" y="2246040"/>
                  <a:chExt cx="79200" cy="136800"/>
                </a:xfrm>
              </p:grpSpPr>
              <p:sp>
                <p:nvSpPr>
                  <p:cNvPr id="1327" name=""/>
                  <p:cNvSpPr/>
                  <p:nvPr/>
                </p:nvSpPr>
                <p:spPr>
                  <a:xfrm>
                    <a:off x="5713560" y="2246040"/>
                    <a:ext cx="79200" cy="13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513">
                        <a:moveTo>
                          <a:pt x="0" y="0"/>
                        </a:moveTo>
                        <a:lnTo>
                          <a:pt x="26" y="14"/>
                        </a:lnTo>
                        <a:lnTo>
                          <a:pt x="56" y="23"/>
                        </a:lnTo>
                        <a:lnTo>
                          <a:pt x="91" y="30"/>
                        </a:lnTo>
                        <a:lnTo>
                          <a:pt x="129" y="37"/>
                        </a:lnTo>
                        <a:lnTo>
                          <a:pt x="154" y="35"/>
                        </a:lnTo>
                        <a:lnTo>
                          <a:pt x="183" y="28"/>
                        </a:lnTo>
                        <a:lnTo>
                          <a:pt x="208" y="20"/>
                        </a:lnTo>
                        <a:lnTo>
                          <a:pt x="235" y="3"/>
                        </a:lnTo>
                        <a:lnTo>
                          <a:pt x="263" y="125"/>
                        </a:lnTo>
                        <a:lnTo>
                          <a:pt x="267" y="203"/>
                        </a:lnTo>
                        <a:lnTo>
                          <a:pt x="271" y="238"/>
                        </a:lnTo>
                        <a:lnTo>
                          <a:pt x="271" y="305"/>
                        </a:lnTo>
                        <a:lnTo>
                          <a:pt x="267" y="361"/>
                        </a:lnTo>
                        <a:lnTo>
                          <a:pt x="259" y="430"/>
                        </a:lnTo>
                        <a:lnTo>
                          <a:pt x="246" y="492"/>
                        </a:lnTo>
                        <a:lnTo>
                          <a:pt x="67" y="513"/>
                        </a:lnTo>
                        <a:lnTo>
                          <a:pt x="41" y="289"/>
                        </a:lnTo>
                        <a:lnTo>
                          <a:pt x="22" y="1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"/>
                  <p:cNvSpPr/>
                  <p:nvPr/>
                </p:nvSpPr>
                <p:spPr>
                  <a:xfrm>
                    <a:off x="5724720" y="2279880"/>
                    <a:ext cx="6660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390">
                        <a:moveTo>
                          <a:pt x="0" y="27"/>
                        </a:moveTo>
                        <a:lnTo>
                          <a:pt x="98" y="27"/>
                        </a:lnTo>
                        <a:lnTo>
                          <a:pt x="146" y="24"/>
                        </a:lnTo>
                        <a:lnTo>
                          <a:pt x="196" y="14"/>
                        </a:lnTo>
                        <a:lnTo>
                          <a:pt x="229" y="0"/>
                        </a:lnTo>
                        <a:lnTo>
                          <a:pt x="233" y="328"/>
                        </a:lnTo>
                        <a:lnTo>
                          <a:pt x="66" y="390"/>
                        </a:lnTo>
                        <a:lnTo>
                          <a:pt x="0" y="27"/>
                        </a:lnTo>
                        <a:close/>
                      </a:path>
                    </a:pathLst>
                  </a:custGeom>
                  <a:solidFill>
                    <a:srgbClr val="ffb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9" name=""/>
                <p:cNvGrpSpPr/>
                <p:nvPr/>
              </p:nvGrpSpPr>
              <p:grpSpPr>
                <a:xfrm>
                  <a:off x="5761440" y="2211120"/>
                  <a:ext cx="157680" cy="170280"/>
                  <a:chOff x="5761440" y="2211120"/>
                  <a:chExt cx="157680" cy="170280"/>
                </a:xfrm>
              </p:grpSpPr>
              <p:sp>
                <p:nvSpPr>
                  <p:cNvPr id="1330" name=""/>
                  <p:cNvSpPr/>
                  <p:nvPr/>
                </p:nvSpPr>
                <p:spPr>
                  <a:xfrm>
                    <a:off x="5761440" y="2211120"/>
                    <a:ext cx="15768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545" h="645">
                        <a:moveTo>
                          <a:pt x="22" y="0"/>
                        </a:moveTo>
                        <a:lnTo>
                          <a:pt x="55" y="14"/>
                        </a:lnTo>
                        <a:lnTo>
                          <a:pt x="91" y="53"/>
                        </a:lnTo>
                        <a:lnTo>
                          <a:pt x="224" y="99"/>
                        </a:lnTo>
                        <a:lnTo>
                          <a:pt x="260" y="120"/>
                        </a:lnTo>
                        <a:lnTo>
                          <a:pt x="300" y="190"/>
                        </a:lnTo>
                        <a:lnTo>
                          <a:pt x="300" y="236"/>
                        </a:lnTo>
                        <a:lnTo>
                          <a:pt x="308" y="271"/>
                        </a:lnTo>
                        <a:lnTo>
                          <a:pt x="330" y="331"/>
                        </a:lnTo>
                        <a:lnTo>
                          <a:pt x="392" y="434"/>
                        </a:lnTo>
                        <a:lnTo>
                          <a:pt x="436" y="504"/>
                        </a:lnTo>
                        <a:lnTo>
                          <a:pt x="483" y="564"/>
                        </a:lnTo>
                        <a:lnTo>
                          <a:pt x="545" y="634"/>
                        </a:lnTo>
                        <a:lnTo>
                          <a:pt x="29" y="645"/>
                        </a:lnTo>
                        <a:lnTo>
                          <a:pt x="62" y="578"/>
                        </a:lnTo>
                        <a:lnTo>
                          <a:pt x="76" y="529"/>
                        </a:lnTo>
                        <a:lnTo>
                          <a:pt x="84" y="441"/>
                        </a:lnTo>
                        <a:lnTo>
                          <a:pt x="80" y="293"/>
                        </a:lnTo>
                        <a:lnTo>
                          <a:pt x="66" y="183"/>
                        </a:lnTo>
                        <a:lnTo>
                          <a:pt x="44" y="106"/>
                        </a:lnTo>
                        <a:lnTo>
                          <a:pt x="0" y="35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"/>
                  <p:cNvSpPr/>
                  <p:nvPr/>
                </p:nvSpPr>
                <p:spPr>
                  <a:xfrm>
                    <a:off x="5800320" y="2232360"/>
                    <a:ext cx="33840" cy="89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338">
                        <a:moveTo>
                          <a:pt x="0" y="0"/>
                        </a:moveTo>
                        <a:lnTo>
                          <a:pt x="44" y="32"/>
                        </a:lnTo>
                        <a:lnTo>
                          <a:pt x="67" y="67"/>
                        </a:lnTo>
                        <a:lnTo>
                          <a:pt x="82" y="102"/>
                        </a:lnTo>
                        <a:lnTo>
                          <a:pt x="95" y="141"/>
                        </a:lnTo>
                        <a:lnTo>
                          <a:pt x="110" y="187"/>
                        </a:lnTo>
                        <a:lnTo>
                          <a:pt x="117" y="236"/>
                        </a:lnTo>
                        <a:lnTo>
                          <a:pt x="117" y="300"/>
                        </a:lnTo>
                        <a:lnTo>
                          <a:pt x="110" y="338"/>
                        </a:lnTo>
                        <a:lnTo>
                          <a:pt x="99" y="264"/>
                        </a:lnTo>
                        <a:lnTo>
                          <a:pt x="89" y="220"/>
                        </a:lnTo>
                        <a:lnTo>
                          <a:pt x="73" y="194"/>
                        </a:lnTo>
                        <a:lnTo>
                          <a:pt x="53" y="181"/>
                        </a:lnTo>
                        <a:lnTo>
                          <a:pt x="64" y="155"/>
                        </a:lnTo>
                        <a:lnTo>
                          <a:pt x="67" y="114"/>
                        </a:lnTo>
                        <a:lnTo>
                          <a:pt x="51" y="78"/>
                        </a:lnTo>
                        <a:lnTo>
                          <a:pt x="30" y="3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3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2" name=""/>
                <p:cNvSpPr/>
                <p:nvPr/>
              </p:nvSpPr>
              <p:spPr>
                <a:xfrm>
                  <a:off x="5746680" y="2357640"/>
                  <a:ext cx="46800" cy="33120"/>
                </a:xfrm>
                <a:custGeom>
                  <a:avLst/>
                  <a:gdLst/>
                  <a:ahLst/>
                  <a:rect l="l" t="t" r="r" b="b"/>
                  <a:pathLst>
                    <a:path w="160" h="125">
                      <a:moveTo>
                        <a:pt x="135" y="21"/>
                      </a:moveTo>
                      <a:lnTo>
                        <a:pt x="110" y="0"/>
                      </a:lnTo>
                      <a:lnTo>
                        <a:pt x="72" y="9"/>
                      </a:lnTo>
                      <a:lnTo>
                        <a:pt x="40" y="21"/>
                      </a:lnTo>
                      <a:lnTo>
                        <a:pt x="7" y="34"/>
                      </a:lnTo>
                      <a:lnTo>
                        <a:pt x="0" y="45"/>
                      </a:lnTo>
                      <a:lnTo>
                        <a:pt x="18" y="62"/>
                      </a:lnTo>
                      <a:lnTo>
                        <a:pt x="24" y="83"/>
                      </a:lnTo>
                      <a:lnTo>
                        <a:pt x="39" y="98"/>
                      </a:lnTo>
                      <a:lnTo>
                        <a:pt x="54" y="108"/>
                      </a:lnTo>
                      <a:lnTo>
                        <a:pt x="76" y="115"/>
                      </a:lnTo>
                      <a:lnTo>
                        <a:pt x="91" y="125"/>
                      </a:lnTo>
                      <a:lnTo>
                        <a:pt x="117" y="125"/>
                      </a:lnTo>
                      <a:lnTo>
                        <a:pt x="130" y="125"/>
                      </a:lnTo>
                      <a:lnTo>
                        <a:pt x="139" y="115"/>
                      </a:lnTo>
                      <a:lnTo>
                        <a:pt x="138" y="97"/>
                      </a:lnTo>
                      <a:lnTo>
                        <a:pt x="160" y="98"/>
                      </a:lnTo>
                      <a:lnTo>
                        <a:pt x="135" y="90"/>
                      </a:lnTo>
                      <a:lnTo>
                        <a:pt x="130" y="69"/>
                      </a:lnTo>
                      <a:lnTo>
                        <a:pt x="132" y="55"/>
                      </a:lnTo>
                      <a:lnTo>
                        <a:pt x="130" y="44"/>
                      </a:lnTo>
                      <a:lnTo>
                        <a:pt x="135" y="21"/>
                      </a:lnTo>
                      <a:close/>
                    </a:path>
                  </a:pathLst>
                </a:custGeom>
                <a:solidFill>
                  <a:srgbClr val="f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5682240" y="2405880"/>
                  <a:ext cx="22320" cy="23760"/>
                </a:xfrm>
                <a:custGeom>
                  <a:avLst/>
                  <a:gdLst/>
                  <a:ahLst/>
                  <a:rect l="l" t="t" r="r" b="b"/>
                  <a:pathLst>
                    <a:path w="77" h="90">
                      <a:moveTo>
                        <a:pt x="77" y="0"/>
                      </a:moveTo>
                      <a:lnTo>
                        <a:pt x="19" y="90"/>
                      </a:lnTo>
                      <a:lnTo>
                        <a:pt x="0" y="26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34" name=""/>
                <p:cNvGrpSpPr/>
                <p:nvPr/>
              </p:nvGrpSpPr>
              <p:grpSpPr>
                <a:xfrm>
                  <a:off x="5589000" y="2199960"/>
                  <a:ext cx="160200" cy="236160"/>
                  <a:chOff x="5589000" y="2199960"/>
                  <a:chExt cx="160200" cy="236160"/>
                </a:xfrm>
              </p:grpSpPr>
              <p:sp>
                <p:nvSpPr>
                  <p:cNvPr id="1335" name=""/>
                  <p:cNvSpPr/>
                  <p:nvPr/>
                </p:nvSpPr>
                <p:spPr>
                  <a:xfrm>
                    <a:off x="5589000" y="2199960"/>
                    <a:ext cx="160200" cy="235080"/>
                  </a:xfrm>
                  <a:custGeom>
                    <a:avLst/>
                    <a:gdLst/>
                    <a:ahLst/>
                    <a:rect l="l" t="t" r="r" b="b"/>
                    <a:pathLst>
                      <a:path w="552" h="889">
                        <a:moveTo>
                          <a:pt x="427" y="11"/>
                        </a:moveTo>
                        <a:lnTo>
                          <a:pt x="351" y="0"/>
                        </a:lnTo>
                        <a:lnTo>
                          <a:pt x="296" y="4"/>
                        </a:lnTo>
                        <a:lnTo>
                          <a:pt x="234" y="11"/>
                        </a:lnTo>
                        <a:lnTo>
                          <a:pt x="201" y="18"/>
                        </a:lnTo>
                        <a:lnTo>
                          <a:pt x="183" y="39"/>
                        </a:lnTo>
                        <a:lnTo>
                          <a:pt x="161" y="35"/>
                        </a:lnTo>
                        <a:lnTo>
                          <a:pt x="128" y="60"/>
                        </a:lnTo>
                        <a:lnTo>
                          <a:pt x="102" y="88"/>
                        </a:lnTo>
                        <a:lnTo>
                          <a:pt x="84" y="116"/>
                        </a:lnTo>
                        <a:lnTo>
                          <a:pt x="62" y="152"/>
                        </a:lnTo>
                        <a:lnTo>
                          <a:pt x="51" y="190"/>
                        </a:lnTo>
                        <a:lnTo>
                          <a:pt x="40" y="257"/>
                        </a:lnTo>
                        <a:lnTo>
                          <a:pt x="33" y="303"/>
                        </a:lnTo>
                        <a:lnTo>
                          <a:pt x="33" y="377"/>
                        </a:lnTo>
                        <a:lnTo>
                          <a:pt x="48" y="426"/>
                        </a:lnTo>
                        <a:lnTo>
                          <a:pt x="44" y="462"/>
                        </a:lnTo>
                        <a:lnTo>
                          <a:pt x="33" y="553"/>
                        </a:lnTo>
                        <a:lnTo>
                          <a:pt x="22" y="592"/>
                        </a:lnTo>
                        <a:lnTo>
                          <a:pt x="18" y="634"/>
                        </a:lnTo>
                        <a:lnTo>
                          <a:pt x="7" y="662"/>
                        </a:lnTo>
                        <a:lnTo>
                          <a:pt x="0" y="694"/>
                        </a:lnTo>
                        <a:lnTo>
                          <a:pt x="4" y="729"/>
                        </a:lnTo>
                        <a:lnTo>
                          <a:pt x="18" y="761"/>
                        </a:lnTo>
                        <a:lnTo>
                          <a:pt x="48" y="789"/>
                        </a:lnTo>
                        <a:lnTo>
                          <a:pt x="99" y="835"/>
                        </a:lnTo>
                        <a:lnTo>
                          <a:pt x="128" y="846"/>
                        </a:lnTo>
                        <a:lnTo>
                          <a:pt x="165" y="856"/>
                        </a:lnTo>
                        <a:lnTo>
                          <a:pt x="194" y="868"/>
                        </a:lnTo>
                        <a:lnTo>
                          <a:pt x="219" y="882"/>
                        </a:lnTo>
                        <a:lnTo>
                          <a:pt x="340" y="889"/>
                        </a:lnTo>
                        <a:lnTo>
                          <a:pt x="420" y="786"/>
                        </a:lnTo>
                        <a:lnTo>
                          <a:pt x="449" y="691"/>
                        </a:lnTo>
                        <a:lnTo>
                          <a:pt x="552" y="691"/>
                        </a:lnTo>
                        <a:lnTo>
                          <a:pt x="544" y="553"/>
                        </a:lnTo>
                        <a:lnTo>
                          <a:pt x="526" y="398"/>
                        </a:lnTo>
                        <a:lnTo>
                          <a:pt x="493" y="204"/>
                        </a:lnTo>
                        <a:lnTo>
                          <a:pt x="475" y="116"/>
                        </a:lnTo>
                        <a:lnTo>
                          <a:pt x="427" y="11"/>
                        </a:lnTo>
                        <a:close/>
                      </a:path>
                    </a:pathLst>
                  </a:custGeom>
                  <a:solidFill>
                    <a:srgbClr val="f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>
                    <a:off x="5638320" y="2358000"/>
                    <a:ext cx="7236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296">
                        <a:moveTo>
                          <a:pt x="233" y="14"/>
                        </a:moveTo>
                        <a:lnTo>
                          <a:pt x="144" y="7"/>
                        </a:lnTo>
                        <a:lnTo>
                          <a:pt x="51" y="0"/>
                        </a:lnTo>
                        <a:lnTo>
                          <a:pt x="35" y="21"/>
                        </a:lnTo>
                        <a:lnTo>
                          <a:pt x="28" y="38"/>
                        </a:lnTo>
                        <a:lnTo>
                          <a:pt x="17" y="59"/>
                        </a:lnTo>
                        <a:lnTo>
                          <a:pt x="7" y="91"/>
                        </a:lnTo>
                        <a:lnTo>
                          <a:pt x="2" y="119"/>
                        </a:lnTo>
                        <a:lnTo>
                          <a:pt x="0" y="145"/>
                        </a:lnTo>
                        <a:lnTo>
                          <a:pt x="3" y="176"/>
                        </a:lnTo>
                        <a:lnTo>
                          <a:pt x="14" y="217"/>
                        </a:lnTo>
                        <a:lnTo>
                          <a:pt x="25" y="250"/>
                        </a:lnTo>
                        <a:lnTo>
                          <a:pt x="28" y="280"/>
                        </a:lnTo>
                        <a:lnTo>
                          <a:pt x="177" y="296"/>
                        </a:lnTo>
                        <a:lnTo>
                          <a:pt x="241" y="193"/>
                        </a:lnTo>
                        <a:lnTo>
                          <a:pt x="248" y="166"/>
                        </a:lnTo>
                        <a:lnTo>
                          <a:pt x="233" y="14"/>
                        </a:lnTo>
                        <a:close/>
                      </a:path>
                    </a:pathLst>
                  </a:custGeom>
                  <a:solidFill>
                    <a:srgbClr val="df1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"/>
                  <p:cNvSpPr/>
                  <p:nvPr/>
                </p:nvSpPr>
                <p:spPr>
                  <a:xfrm>
                    <a:off x="5606280" y="2215440"/>
                    <a:ext cx="6768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567">
                        <a:moveTo>
                          <a:pt x="146" y="0"/>
                        </a:moveTo>
                        <a:lnTo>
                          <a:pt x="189" y="70"/>
                        </a:lnTo>
                        <a:lnTo>
                          <a:pt x="215" y="144"/>
                        </a:lnTo>
                        <a:lnTo>
                          <a:pt x="230" y="233"/>
                        </a:lnTo>
                        <a:lnTo>
                          <a:pt x="233" y="331"/>
                        </a:lnTo>
                        <a:lnTo>
                          <a:pt x="230" y="447"/>
                        </a:lnTo>
                        <a:lnTo>
                          <a:pt x="219" y="497"/>
                        </a:lnTo>
                        <a:lnTo>
                          <a:pt x="160" y="539"/>
                        </a:lnTo>
                        <a:lnTo>
                          <a:pt x="131" y="521"/>
                        </a:lnTo>
                        <a:lnTo>
                          <a:pt x="102" y="514"/>
                        </a:lnTo>
                        <a:lnTo>
                          <a:pt x="76" y="521"/>
                        </a:lnTo>
                        <a:lnTo>
                          <a:pt x="58" y="546"/>
                        </a:lnTo>
                        <a:lnTo>
                          <a:pt x="25" y="560"/>
                        </a:lnTo>
                        <a:lnTo>
                          <a:pt x="0" y="567"/>
                        </a:lnTo>
                        <a:lnTo>
                          <a:pt x="40" y="532"/>
                        </a:lnTo>
                        <a:lnTo>
                          <a:pt x="65" y="521"/>
                        </a:lnTo>
                        <a:lnTo>
                          <a:pt x="84" y="504"/>
                        </a:lnTo>
                        <a:lnTo>
                          <a:pt x="106" y="504"/>
                        </a:lnTo>
                        <a:lnTo>
                          <a:pt x="131" y="479"/>
                        </a:lnTo>
                        <a:lnTo>
                          <a:pt x="106" y="451"/>
                        </a:lnTo>
                        <a:lnTo>
                          <a:pt x="142" y="458"/>
                        </a:lnTo>
                        <a:lnTo>
                          <a:pt x="116" y="377"/>
                        </a:lnTo>
                        <a:lnTo>
                          <a:pt x="95" y="310"/>
                        </a:lnTo>
                        <a:lnTo>
                          <a:pt x="87" y="263"/>
                        </a:lnTo>
                        <a:lnTo>
                          <a:pt x="98" y="194"/>
                        </a:lnTo>
                        <a:lnTo>
                          <a:pt x="116" y="271"/>
                        </a:lnTo>
                        <a:lnTo>
                          <a:pt x="153" y="359"/>
                        </a:lnTo>
                        <a:lnTo>
                          <a:pt x="197" y="454"/>
                        </a:lnTo>
                        <a:lnTo>
                          <a:pt x="197" y="324"/>
                        </a:lnTo>
                        <a:lnTo>
                          <a:pt x="189" y="236"/>
                        </a:lnTo>
                        <a:lnTo>
                          <a:pt x="179" y="106"/>
                        </a:lnTo>
                        <a:lnTo>
                          <a:pt x="146" y="0"/>
                        </a:lnTo>
                        <a:close/>
                      </a:path>
                    </a:pathLst>
                  </a:custGeom>
                  <a:solidFill>
                    <a:srgbClr val="df3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8" name=""/>
                <p:cNvSpPr/>
                <p:nvPr/>
              </p:nvSpPr>
              <p:spPr>
                <a:xfrm>
                  <a:off x="5776200" y="2298960"/>
                  <a:ext cx="197640" cy="95040"/>
                </a:xfrm>
                <a:custGeom>
                  <a:avLst/>
                  <a:gdLst/>
                  <a:ahLst/>
                  <a:rect l="l" t="t" r="r" b="b"/>
                  <a:pathLst>
                    <a:path w="681" h="359">
                      <a:moveTo>
                        <a:pt x="0" y="292"/>
                      </a:moveTo>
                      <a:lnTo>
                        <a:pt x="263" y="0"/>
                      </a:lnTo>
                      <a:lnTo>
                        <a:pt x="681" y="111"/>
                      </a:lnTo>
                      <a:lnTo>
                        <a:pt x="509" y="320"/>
                      </a:lnTo>
                      <a:lnTo>
                        <a:pt x="402" y="344"/>
                      </a:lnTo>
                      <a:lnTo>
                        <a:pt x="293" y="359"/>
                      </a:lnTo>
                      <a:lnTo>
                        <a:pt x="55" y="345"/>
                      </a:lnTo>
                      <a:lnTo>
                        <a:pt x="0" y="292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5678640" y="2354400"/>
                  <a:ext cx="168840" cy="62280"/>
                </a:xfrm>
                <a:custGeom>
                  <a:avLst/>
                  <a:gdLst/>
                  <a:ahLst/>
                  <a:rect l="l" t="t" r="r" b="b"/>
                  <a:pathLst>
                    <a:path w="582" h="236">
                      <a:moveTo>
                        <a:pt x="32" y="57"/>
                      </a:moveTo>
                      <a:lnTo>
                        <a:pt x="249" y="29"/>
                      </a:lnTo>
                      <a:lnTo>
                        <a:pt x="295" y="12"/>
                      </a:lnTo>
                      <a:lnTo>
                        <a:pt x="318" y="3"/>
                      </a:lnTo>
                      <a:lnTo>
                        <a:pt x="342" y="0"/>
                      </a:lnTo>
                      <a:lnTo>
                        <a:pt x="375" y="5"/>
                      </a:lnTo>
                      <a:lnTo>
                        <a:pt x="412" y="12"/>
                      </a:lnTo>
                      <a:lnTo>
                        <a:pt x="439" y="15"/>
                      </a:lnTo>
                      <a:lnTo>
                        <a:pt x="491" y="21"/>
                      </a:lnTo>
                      <a:lnTo>
                        <a:pt x="517" y="22"/>
                      </a:lnTo>
                      <a:lnTo>
                        <a:pt x="537" y="26"/>
                      </a:lnTo>
                      <a:lnTo>
                        <a:pt x="559" y="29"/>
                      </a:lnTo>
                      <a:lnTo>
                        <a:pt x="577" y="36"/>
                      </a:lnTo>
                      <a:lnTo>
                        <a:pt x="582" y="46"/>
                      </a:lnTo>
                      <a:lnTo>
                        <a:pt x="574" y="54"/>
                      </a:lnTo>
                      <a:lnTo>
                        <a:pt x="537" y="56"/>
                      </a:lnTo>
                      <a:lnTo>
                        <a:pt x="523" y="57"/>
                      </a:lnTo>
                      <a:lnTo>
                        <a:pt x="520" y="82"/>
                      </a:lnTo>
                      <a:lnTo>
                        <a:pt x="512" y="92"/>
                      </a:lnTo>
                      <a:lnTo>
                        <a:pt x="506" y="93"/>
                      </a:lnTo>
                      <a:lnTo>
                        <a:pt x="501" y="109"/>
                      </a:lnTo>
                      <a:lnTo>
                        <a:pt x="490" y="121"/>
                      </a:lnTo>
                      <a:lnTo>
                        <a:pt x="476" y="127"/>
                      </a:lnTo>
                      <a:lnTo>
                        <a:pt x="468" y="137"/>
                      </a:lnTo>
                      <a:lnTo>
                        <a:pt x="457" y="142"/>
                      </a:lnTo>
                      <a:lnTo>
                        <a:pt x="423" y="160"/>
                      </a:lnTo>
                      <a:lnTo>
                        <a:pt x="405" y="167"/>
                      </a:lnTo>
                      <a:lnTo>
                        <a:pt x="351" y="169"/>
                      </a:lnTo>
                      <a:lnTo>
                        <a:pt x="311" y="165"/>
                      </a:lnTo>
                      <a:lnTo>
                        <a:pt x="288" y="155"/>
                      </a:lnTo>
                      <a:lnTo>
                        <a:pt x="277" y="151"/>
                      </a:lnTo>
                      <a:lnTo>
                        <a:pt x="256" y="155"/>
                      </a:lnTo>
                      <a:lnTo>
                        <a:pt x="222" y="158"/>
                      </a:lnTo>
                      <a:lnTo>
                        <a:pt x="193" y="163"/>
                      </a:lnTo>
                      <a:lnTo>
                        <a:pt x="70" y="208"/>
                      </a:lnTo>
                      <a:lnTo>
                        <a:pt x="17" y="236"/>
                      </a:lnTo>
                      <a:lnTo>
                        <a:pt x="3" y="187"/>
                      </a:lnTo>
                      <a:lnTo>
                        <a:pt x="0" y="156"/>
                      </a:lnTo>
                      <a:lnTo>
                        <a:pt x="0" y="131"/>
                      </a:lnTo>
                      <a:lnTo>
                        <a:pt x="10" y="99"/>
                      </a:lnTo>
                      <a:lnTo>
                        <a:pt x="32" y="57"/>
                      </a:lnTo>
                      <a:close/>
                    </a:path>
                  </a:pathLst>
                </a:custGeom>
                <a:solidFill>
                  <a:srgbClr val="f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40" name=""/>
                <p:cNvGrpSpPr/>
                <p:nvPr/>
              </p:nvGrpSpPr>
              <p:grpSpPr>
                <a:xfrm>
                  <a:off x="5646240" y="2040840"/>
                  <a:ext cx="185760" cy="218880"/>
                  <a:chOff x="5646240" y="2040840"/>
                  <a:chExt cx="185760" cy="218880"/>
                </a:xfrm>
              </p:grpSpPr>
              <p:grpSp>
                <p:nvGrpSpPr>
                  <p:cNvPr id="1341" name=""/>
                  <p:cNvGrpSpPr/>
                  <p:nvPr/>
                </p:nvGrpSpPr>
                <p:grpSpPr>
                  <a:xfrm>
                    <a:off x="5813280" y="2100240"/>
                    <a:ext cx="16560" cy="39600"/>
                    <a:chOff x="5813280" y="2100240"/>
                    <a:chExt cx="16560" cy="39600"/>
                  </a:xfrm>
                </p:grpSpPr>
                <p:sp>
                  <p:nvSpPr>
                    <p:cNvPr id="1342" name=""/>
                    <p:cNvSpPr/>
                    <p:nvPr/>
                  </p:nvSpPr>
                  <p:spPr>
                    <a:xfrm>
                      <a:off x="5813280" y="2100240"/>
                      <a:ext cx="16560" cy="39600"/>
                    </a:xfrm>
                    <a:prstGeom prst="ellipse">
                      <a:avLst/>
                    </a:prstGeom>
                    <a:solidFill>
                      <a:srgbClr val="7f3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3" name=""/>
                    <p:cNvSpPr/>
                    <p:nvPr/>
                  </p:nvSpPr>
                  <p:spPr>
                    <a:xfrm>
                      <a:off x="5814720" y="2100960"/>
                      <a:ext cx="14040" cy="37080"/>
                    </a:xfrm>
                    <a:prstGeom prst="ellipse">
                      <a:avLst/>
                    </a:prstGeom>
                    <a:solidFill>
                      <a:srgbClr val="ffd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4" name=""/>
                  <p:cNvGrpSpPr/>
                  <p:nvPr/>
                </p:nvGrpSpPr>
                <p:grpSpPr>
                  <a:xfrm>
                    <a:off x="5646240" y="2040840"/>
                    <a:ext cx="185760" cy="218880"/>
                    <a:chOff x="5646240" y="2040840"/>
                    <a:chExt cx="185760" cy="218880"/>
                  </a:xfrm>
                </p:grpSpPr>
                <p:grpSp>
                  <p:nvGrpSpPr>
                    <p:cNvPr id="1345" name=""/>
                    <p:cNvGrpSpPr/>
                    <p:nvPr/>
                  </p:nvGrpSpPr>
                  <p:grpSpPr>
                    <a:xfrm>
                      <a:off x="5689440" y="2054880"/>
                      <a:ext cx="142560" cy="204840"/>
                      <a:chOff x="5689440" y="2054880"/>
                      <a:chExt cx="142560" cy="204840"/>
                    </a:xfrm>
                  </p:grpSpPr>
                  <p:sp>
                    <p:nvSpPr>
                      <p:cNvPr id="1346" name=""/>
                      <p:cNvSpPr/>
                      <p:nvPr/>
                    </p:nvSpPr>
                    <p:spPr>
                      <a:xfrm>
                        <a:off x="5689440" y="2054880"/>
                        <a:ext cx="142560" cy="20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2" h="777">
                            <a:moveTo>
                              <a:pt x="318" y="14"/>
                            </a:moveTo>
                            <a:lnTo>
                              <a:pt x="359" y="29"/>
                            </a:lnTo>
                            <a:lnTo>
                              <a:pt x="383" y="44"/>
                            </a:lnTo>
                            <a:lnTo>
                              <a:pt x="402" y="64"/>
                            </a:lnTo>
                            <a:lnTo>
                              <a:pt x="413" y="86"/>
                            </a:lnTo>
                            <a:lnTo>
                              <a:pt x="421" y="111"/>
                            </a:lnTo>
                            <a:lnTo>
                              <a:pt x="427" y="135"/>
                            </a:lnTo>
                            <a:lnTo>
                              <a:pt x="434" y="171"/>
                            </a:lnTo>
                            <a:lnTo>
                              <a:pt x="438" y="206"/>
                            </a:lnTo>
                            <a:lnTo>
                              <a:pt x="433" y="227"/>
                            </a:lnTo>
                            <a:lnTo>
                              <a:pt x="431" y="248"/>
                            </a:lnTo>
                            <a:lnTo>
                              <a:pt x="442" y="269"/>
                            </a:lnTo>
                            <a:lnTo>
                              <a:pt x="475" y="303"/>
                            </a:lnTo>
                            <a:lnTo>
                              <a:pt x="483" y="313"/>
                            </a:lnTo>
                            <a:lnTo>
                              <a:pt x="490" y="322"/>
                            </a:lnTo>
                            <a:lnTo>
                              <a:pt x="492" y="330"/>
                            </a:lnTo>
                            <a:lnTo>
                              <a:pt x="488" y="337"/>
                            </a:lnTo>
                            <a:lnTo>
                              <a:pt x="480" y="342"/>
                            </a:lnTo>
                            <a:lnTo>
                              <a:pt x="464" y="347"/>
                            </a:lnTo>
                            <a:lnTo>
                              <a:pt x="458" y="353"/>
                            </a:lnTo>
                            <a:lnTo>
                              <a:pt x="464" y="367"/>
                            </a:lnTo>
                            <a:lnTo>
                              <a:pt x="462" y="375"/>
                            </a:lnTo>
                            <a:lnTo>
                              <a:pt x="456" y="382"/>
                            </a:lnTo>
                            <a:lnTo>
                              <a:pt x="443" y="389"/>
                            </a:lnTo>
                            <a:lnTo>
                              <a:pt x="425" y="397"/>
                            </a:lnTo>
                            <a:lnTo>
                              <a:pt x="414" y="401"/>
                            </a:lnTo>
                            <a:lnTo>
                              <a:pt x="453" y="410"/>
                            </a:lnTo>
                            <a:lnTo>
                              <a:pt x="458" y="417"/>
                            </a:lnTo>
                            <a:lnTo>
                              <a:pt x="448" y="433"/>
                            </a:lnTo>
                            <a:lnTo>
                              <a:pt x="447" y="454"/>
                            </a:lnTo>
                            <a:lnTo>
                              <a:pt x="447" y="484"/>
                            </a:lnTo>
                            <a:lnTo>
                              <a:pt x="447" y="496"/>
                            </a:lnTo>
                            <a:lnTo>
                              <a:pt x="442" y="505"/>
                            </a:lnTo>
                            <a:lnTo>
                              <a:pt x="431" y="514"/>
                            </a:lnTo>
                            <a:lnTo>
                              <a:pt x="414" y="518"/>
                            </a:lnTo>
                            <a:lnTo>
                              <a:pt x="396" y="523"/>
                            </a:lnTo>
                            <a:lnTo>
                              <a:pt x="354" y="530"/>
                            </a:lnTo>
                            <a:lnTo>
                              <a:pt x="330" y="536"/>
                            </a:lnTo>
                            <a:lnTo>
                              <a:pt x="312" y="543"/>
                            </a:lnTo>
                            <a:lnTo>
                              <a:pt x="298" y="553"/>
                            </a:lnTo>
                            <a:lnTo>
                              <a:pt x="253" y="615"/>
                            </a:lnTo>
                            <a:lnTo>
                              <a:pt x="320" y="754"/>
                            </a:lnTo>
                            <a:lnTo>
                              <a:pt x="281" y="765"/>
                            </a:lnTo>
                            <a:lnTo>
                              <a:pt x="221" y="777"/>
                            </a:lnTo>
                            <a:lnTo>
                              <a:pt x="169" y="774"/>
                            </a:lnTo>
                            <a:lnTo>
                              <a:pt x="139" y="758"/>
                            </a:lnTo>
                            <a:lnTo>
                              <a:pt x="68" y="545"/>
                            </a:lnTo>
                            <a:lnTo>
                              <a:pt x="68" y="474"/>
                            </a:lnTo>
                            <a:lnTo>
                              <a:pt x="47" y="436"/>
                            </a:lnTo>
                            <a:lnTo>
                              <a:pt x="22" y="387"/>
                            </a:lnTo>
                            <a:lnTo>
                              <a:pt x="11" y="359"/>
                            </a:lnTo>
                            <a:lnTo>
                              <a:pt x="4" y="321"/>
                            </a:lnTo>
                            <a:lnTo>
                              <a:pt x="0" y="280"/>
                            </a:lnTo>
                            <a:lnTo>
                              <a:pt x="0" y="231"/>
                            </a:lnTo>
                            <a:lnTo>
                              <a:pt x="6" y="185"/>
                            </a:lnTo>
                            <a:lnTo>
                              <a:pt x="14" y="145"/>
                            </a:lnTo>
                            <a:lnTo>
                              <a:pt x="28" y="111"/>
                            </a:lnTo>
                            <a:lnTo>
                              <a:pt x="44" y="78"/>
                            </a:lnTo>
                            <a:lnTo>
                              <a:pt x="68" y="47"/>
                            </a:lnTo>
                            <a:lnTo>
                              <a:pt x="102" y="23"/>
                            </a:lnTo>
                            <a:lnTo>
                              <a:pt x="139" y="9"/>
                            </a:lnTo>
                            <a:lnTo>
                              <a:pt x="181" y="2"/>
                            </a:lnTo>
                            <a:lnTo>
                              <a:pt x="219" y="0"/>
                            </a:lnTo>
                            <a:lnTo>
                              <a:pt x="269" y="3"/>
                            </a:lnTo>
                            <a:lnTo>
                              <a:pt x="318" y="14"/>
                            </a:lnTo>
                            <a:close/>
                          </a:path>
                        </a:pathLst>
                      </a:custGeom>
                      <a:solidFill>
                        <a:srgbClr val="ffb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347" name=""/>
                      <p:cNvGrpSpPr/>
                      <p:nvPr/>
                    </p:nvGrpSpPr>
                    <p:grpSpPr>
                      <a:xfrm>
                        <a:off x="5748480" y="2174400"/>
                        <a:ext cx="65520" cy="74520"/>
                        <a:chOff x="5748480" y="2174400"/>
                        <a:chExt cx="65520" cy="74520"/>
                      </a:xfrm>
                    </p:grpSpPr>
                    <p:sp>
                      <p:nvSpPr>
                        <p:cNvPr id="1348" name=""/>
                        <p:cNvSpPr/>
                        <p:nvPr/>
                      </p:nvSpPr>
                      <p:spPr>
                        <a:xfrm>
                          <a:off x="5749200" y="2174400"/>
                          <a:ext cx="64800" cy="26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6" h="102">
                              <a:moveTo>
                                <a:pt x="0" y="0"/>
                              </a:moveTo>
                              <a:lnTo>
                                <a:pt x="33" y="14"/>
                              </a:lnTo>
                              <a:lnTo>
                                <a:pt x="67" y="25"/>
                              </a:lnTo>
                              <a:lnTo>
                                <a:pt x="92" y="32"/>
                              </a:lnTo>
                              <a:lnTo>
                                <a:pt x="125" y="41"/>
                              </a:lnTo>
                              <a:lnTo>
                                <a:pt x="147" y="45"/>
                              </a:lnTo>
                              <a:lnTo>
                                <a:pt x="178" y="50"/>
                              </a:lnTo>
                              <a:lnTo>
                                <a:pt x="201" y="50"/>
                              </a:lnTo>
                              <a:lnTo>
                                <a:pt x="226" y="50"/>
                              </a:lnTo>
                              <a:lnTo>
                                <a:pt x="202" y="59"/>
                              </a:lnTo>
                              <a:lnTo>
                                <a:pt x="168" y="66"/>
                              </a:lnTo>
                              <a:lnTo>
                                <a:pt x="141" y="72"/>
                              </a:lnTo>
                              <a:lnTo>
                                <a:pt x="119" y="78"/>
                              </a:lnTo>
                              <a:lnTo>
                                <a:pt x="97" y="85"/>
                              </a:lnTo>
                              <a:lnTo>
                                <a:pt x="84" y="91"/>
                              </a:lnTo>
                              <a:lnTo>
                                <a:pt x="69" y="102"/>
                              </a:lnTo>
                              <a:lnTo>
                                <a:pt x="83" y="86"/>
                              </a:lnTo>
                              <a:lnTo>
                                <a:pt x="95" y="75"/>
                              </a:lnTo>
                              <a:lnTo>
                                <a:pt x="98" y="65"/>
                              </a:lnTo>
                              <a:lnTo>
                                <a:pt x="98" y="57"/>
                              </a:lnTo>
                              <a:lnTo>
                                <a:pt x="95" y="49"/>
                              </a:lnTo>
                              <a:lnTo>
                                <a:pt x="85" y="44"/>
                              </a:lnTo>
                              <a:lnTo>
                                <a:pt x="74" y="41"/>
                              </a:lnTo>
                              <a:lnTo>
                                <a:pt x="55" y="38"/>
                              </a:lnTo>
                              <a:lnTo>
                                <a:pt x="38" y="36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160" bIns="-20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9" name=""/>
                        <p:cNvSpPr/>
                        <p:nvPr/>
                      </p:nvSpPr>
                      <p:spPr>
                        <a:xfrm>
                          <a:off x="5748480" y="2211840"/>
                          <a:ext cx="15480" cy="37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6" h="142">
                              <a:moveTo>
                                <a:pt x="32" y="16"/>
                              </a:moveTo>
                              <a:lnTo>
                                <a:pt x="32" y="6"/>
                              </a:lnTo>
                              <a:lnTo>
                                <a:pt x="28" y="1"/>
                              </a:lnTo>
                              <a:lnTo>
                                <a:pt x="20" y="0"/>
                              </a:lnTo>
                              <a:lnTo>
                                <a:pt x="11" y="5"/>
                              </a:lnTo>
                              <a:lnTo>
                                <a:pt x="5" y="13"/>
                              </a:lnTo>
                              <a:lnTo>
                                <a:pt x="0" y="23"/>
                              </a:lnTo>
                              <a:lnTo>
                                <a:pt x="0" y="38"/>
                              </a:lnTo>
                              <a:lnTo>
                                <a:pt x="2" y="81"/>
                              </a:lnTo>
                              <a:lnTo>
                                <a:pt x="5" y="99"/>
                              </a:lnTo>
                              <a:lnTo>
                                <a:pt x="10" y="108"/>
                              </a:lnTo>
                              <a:lnTo>
                                <a:pt x="47" y="142"/>
                              </a:lnTo>
                              <a:lnTo>
                                <a:pt x="56" y="108"/>
                              </a:lnTo>
                              <a:lnTo>
                                <a:pt x="39" y="84"/>
                              </a:lnTo>
                              <a:lnTo>
                                <a:pt x="42" y="101"/>
                              </a:lnTo>
                              <a:lnTo>
                                <a:pt x="43" y="115"/>
                              </a:lnTo>
                              <a:lnTo>
                                <a:pt x="42" y="120"/>
                              </a:lnTo>
                              <a:lnTo>
                                <a:pt x="14" y="89"/>
                              </a:lnTo>
                              <a:lnTo>
                                <a:pt x="13" y="77"/>
                              </a:lnTo>
                              <a:lnTo>
                                <a:pt x="10" y="61"/>
                              </a:lnTo>
                              <a:lnTo>
                                <a:pt x="16" y="42"/>
                              </a:lnTo>
                              <a:lnTo>
                                <a:pt x="24" y="27"/>
                              </a:lnTo>
                              <a:lnTo>
                                <a:pt x="32" y="1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9720" bIns="-9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350" name=""/>
                    <p:cNvSpPr/>
                    <p:nvPr/>
                  </p:nvSpPr>
                  <p:spPr>
                    <a:xfrm>
                      <a:off x="5788800" y="2119680"/>
                      <a:ext cx="10440" cy="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9">
                          <a:moveTo>
                            <a:pt x="32" y="0"/>
                          </a:moveTo>
                          <a:lnTo>
                            <a:pt x="17" y="6"/>
                          </a:lnTo>
                          <a:lnTo>
                            <a:pt x="0" y="17"/>
                          </a:lnTo>
                          <a:lnTo>
                            <a:pt x="12" y="26"/>
                          </a:lnTo>
                          <a:lnTo>
                            <a:pt x="30" y="29"/>
                          </a:lnTo>
                          <a:lnTo>
                            <a:pt x="36" y="28"/>
                          </a:lnTo>
                          <a:lnTo>
                            <a:pt x="32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1" name=""/>
                    <p:cNvSpPr/>
                    <p:nvPr/>
                  </p:nvSpPr>
                  <p:spPr>
                    <a:xfrm>
                      <a:off x="5784480" y="2104200"/>
                      <a:ext cx="1836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53">
                          <a:moveTo>
                            <a:pt x="64" y="0"/>
                          </a:moveTo>
                          <a:lnTo>
                            <a:pt x="49" y="3"/>
                          </a:lnTo>
                          <a:lnTo>
                            <a:pt x="38" y="14"/>
                          </a:lnTo>
                          <a:lnTo>
                            <a:pt x="28" y="27"/>
                          </a:lnTo>
                          <a:lnTo>
                            <a:pt x="19" y="39"/>
                          </a:lnTo>
                          <a:lnTo>
                            <a:pt x="0" y="53"/>
                          </a:lnTo>
                          <a:lnTo>
                            <a:pt x="22" y="46"/>
                          </a:lnTo>
                          <a:lnTo>
                            <a:pt x="37" y="35"/>
                          </a:lnTo>
                          <a:lnTo>
                            <a:pt x="49" y="25"/>
                          </a:lnTo>
                          <a:lnTo>
                            <a:pt x="60" y="21"/>
                          </a:lnTo>
                          <a:lnTo>
                            <a:pt x="64" y="0"/>
                          </a:lnTo>
                          <a:close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52" name=""/>
                    <p:cNvGrpSpPr/>
                    <p:nvPr/>
                  </p:nvGrpSpPr>
                  <p:grpSpPr>
                    <a:xfrm>
                      <a:off x="5787000" y="2112840"/>
                      <a:ext cx="12960" cy="14760"/>
                      <a:chOff x="5787000" y="2112840"/>
                      <a:chExt cx="12960" cy="14760"/>
                    </a:xfrm>
                  </p:grpSpPr>
                  <p:sp>
                    <p:nvSpPr>
                      <p:cNvPr id="1353" name=""/>
                      <p:cNvSpPr/>
                      <p:nvPr/>
                    </p:nvSpPr>
                    <p:spPr>
                      <a:xfrm>
                        <a:off x="5792040" y="2120400"/>
                        <a:ext cx="5760" cy="6120"/>
                      </a:xfrm>
                      <a:prstGeom prst="ellipse">
                        <a:avLst/>
                      </a:prstGeom>
                      <a:solidFill>
                        <a:srgbClr val="5f7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4" name=""/>
                      <p:cNvSpPr/>
                      <p:nvPr/>
                    </p:nvSpPr>
                    <p:spPr>
                      <a:xfrm>
                        <a:off x="5787000" y="2112840"/>
                        <a:ext cx="1296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57">
                            <a:moveTo>
                              <a:pt x="38" y="14"/>
                            </a:moveTo>
                            <a:lnTo>
                              <a:pt x="26" y="25"/>
                            </a:lnTo>
                            <a:lnTo>
                              <a:pt x="30" y="0"/>
                            </a:lnTo>
                            <a:lnTo>
                              <a:pt x="20" y="25"/>
                            </a:lnTo>
                            <a:lnTo>
                              <a:pt x="12" y="35"/>
                            </a:lnTo>
                            <a:lnTo>
                              <a:pt x="0" y="44"/>
                            </a:lnTo>
                            <a:lnTo>
                              <a:pt x="15" y="54"/>
                            </a:lnTo>
                            <a:lnTo>
                              <a:pt x="16" y="54"/>
                            </a:lnTo>
                            <a:lnTo>
                              <a:pt x="26" y="57"/>
                            </a:lnTo>
                            <a:lnTo>
                              <a:pt x="39" y="57"/>
                            </a:lnTo>
                            <a:lnTo>
                              <a:pt x="37" y="48"/>
                            </a:lnTo>
                            <a:lnTo>
                              <a:pt x="26" y="51"/>
                            </a:lnTo>
                            <a:lnTo>
                              <a:pt x="15" y="46"/>
                            </a:lnTo>
                            <a:lnTo>
                              <a:pt x="6" y="42"/>
                            </a:lnTo>
                            <a:lnTo>
                              <a:pt x="15" y="38"/>
                            </a:lnTo>
                            <a:lnTo>
                              <a:pt x="30" y="32"/>
                            </a:lnTo>
                            <a:lnTo>
                              <a:pt x="44" y="25"/>
                            </a:lnTo>
                            <a:lnTo>
                              <a:pt x="38" y="14"/>
                            </a:lnTo>
                            <a:close/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55" name=""/>
                    <p:cNvSpPr/>
                    <p:nvPr/>
                  </p:nvSpPr>
                  <p:spPr>
                    <a:xfrm>
                      <a:off x="5646240" y="2040840"/>
                      <a:ext cx="173160" cy="17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7" h="674">
                          <a:moveTo>
                            <a:pt x="579" y="199"/>
                          </a:moveTo>
                          <a:lnTo>
                            <a:pt x="586" y="192"/>
                          </a:lnTo>
                          <a:lnTo>
                            <a:pt x="594" y="183"/>
                          </a:lnTo>
                          <a:lnTo>
                            <a:pt x="597" y="162"/>
                          </a:lnTo>
                          <a:lnTo>
                            <a:pt x="597" y="123"/>
                          </a:lnTo>
                          <a:lnTo>
                            <a:pt x="586" y="91"/>
                          </a:lnTo>
                          <a:lnTo>
                            <a:pt x="571" y="74"/>
                          </a:lnTo>
                          <a:lnTo>
                            <a:pt x="549" y="52"/>
                          </a:lnTo>
                          <a:lnTo>
                            <a:pt x="504" y="45"/>
                          </a:lnTo>
                          <a:lnTo>
                            <a:pt x="439" y="35"/>
                          </a:lnTo>
                          <a:lnTo>
                            <a:pt x="380" y="21"/>
                          </a:lnTo>
                          <a:lnTo>
                            <a:pt x="333" y="10"/>
                          </a:lnTo>
                          <a:lnTo>
                            <a:pt x="274" y="0"/>
                          </a:lnTo>
                          <a:lnTo>
                            <a:pt x="245" y="10"/>
                          </a:lnTo>
                          <a:lnTo>
                            <a:pt x="212" y="35"/>
                          </a:lnTo>
                          <a:lnTo>
                            <a:pt x="183" y="63"/>
                          </a:lnTo>
                          <a:lnTo>
                            <a:pt x="161" y="95"/>
                          </a:lnTo>
                          <a:lnTo>
                            <a:pt x="135" y="144"/>
                          </a:lnTo>
                          <a:lnTo>
                            <a:pt x="121" y="190"/>
                          </a:lnTo>
                          <a:lnTo>
                            <a:pt x="114" y="236"/>
                          </a:lnTo>
                          <a:lnTo>
                            <a:pt x="103" y="288"/>
                          </a:lnTo>
                          <a:lnTo>
                            <a:pt x="103" y="334"/>
                          </a:lnTo>
                          <a:lnTo>
                            <a:pt x="88" y="387"/>
                          </a:lnTo>
                          <a:lnTo>
                            <a:pt x="70" y="434"/>
                          </a:lnTo>
                          <a:lnTo>
                            <a:pt x="48" y="466"/>
                          </a:lnTo>
                          <a:lnTo>
                            <a:pt x="26" y="487"/>
                          </a:lnTo>
                          <a:lnTo>
                            <a:pt x="4" y="512"/>
                          </a:lnTo>
                          <a:lnTo>
                            <a:pt x="4" y="519"/>
                          </a:lnTo>
                          <a:lnTo>
                            <a:pt x="0" y="540"/>
                          </a:lnTo>
                          <a:lnTo>
                            <a:pt x="0" y="575"/>
                          </a:lnTo>
                          <a:lnTo>
                            <a:pt x="11" y="603"/>
                          </a:lnTo>
                          <a:lnTo>
                            <a:pt x="30" y="621"/>
                          </a:lnTo>
                          <a:lnTo>
                            <a:pt x="88" y="621"/>
                          </a:lnTo>
                          <a:lnTo>
                            <a:pt x="135" y="628"/>
                          </a:lnTo>
                          <a:lnTo>
                            <a:pt x="183" y="660"/>
                          </a:lnTo>
                          <a:lnTo>
                            <a:pt x="234" y="674"/>
                          </a:lnTo>
                          <a:lnTo>
                            <a:pt x="278" y="674"/>
                          </a:lnTo>
                          <a:lnTo>
                            <a:pt x="314" y="652"/>
                          </a:lnTo>
                          <a:lnTo>
                            <a:pt x="329" y="621"/>
                          </a:lnTo>
                          <a:lnTo>
                            <a:pt x="325" y="578"/>
                          </a:lnTo>
                          <a:lnTo>
                            <a:pt x="307" y="547"/>
                          </a:lnTo>
                          <a:lnTo>
                            <a:pt x="303" y="515"/>
                          </a:lnTo>
                          <a:lnTo>
                            <a:pt x="307" y="483"/>
                          </a:lnTo>
                          <a:lnTo>
                            <a:pt x="336" y="455"/>
                          </a:lnTo>
                          <a:lnTo>
                            <a:pt x="369" y="445"/>
                          </a:lnTo>
                          <a:lnTo>
                            <a:pt x="391" y="427"/>
                          </a:lnTo>
                          <a:lnTo>
                            <a:pt x="409" y="399"/>
                          </a:lnTo>
                          <a:lnTo>
                            <a:pt x="413" y="352"/>
                          </a:lnTo>
                          <a:lnTo>
                            <a:pt x="413" y="331"/>
                          </a:lnTo>
                          <a:lnTo>
                            <a:pt x="439" y="324"/>
                          </a:lnTo>
                          <a:lnTo>
                            <a:pt x="464" y="303"/>
                          </a:lnTo>
                          <a:lnTo>
                            <a:pt x="479" y="267"/>
                          </a:lnTo>
                          <a:lnTo>
                            <a:pt x="493" y="218"/>
                          </a:lnTo>
                          <a:lnTo>
                            <a:pt x="486" y="158"/>
                          </a:lnTo>
                          <a:lnTo>
                            <a:pt x="475" y="123"/>
                          </a:lnTo>
                          <a:lnTo>
                            <a:pt x="442" y="98"/>
                          </a:lnTo>
                          <a:lnTo>
                            <a:pt x="519" y="123"/>
                          </a:lnTo>
                          <a:lnTo>
                            <a:pt x="546" y="162"/>
                          </a:lnTo>
                          <a:lnTo>
                            <a:pt x="574" y="185"/>
                          </a:lnTo>
                          <a:lnTo>
                            <a:pt x="579" y="199"/>
                          </a:lnTo>
                          <a:close/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6" name=""/>
                  <p:cNvGrpSpPr/>
                  <p:nvPr/>
                </p:nvGrpSpPr>
                <p:grpSpPr>
                  <a:xfrm>
                    <a:off x="5772240" y="2100240"/>
                    <a:ext cx="43920" cy="41760"/>
                    <a:chOff x="5772240" y="2100240"/>
                    <a:chExt cx="43920" cy="41760"/>
                  </a:xfrm>
                </p:grpSpPr>
                <p:sp>
                  <p:nvSpPr>
                    <p:cNvPr id="1357" name=""/>
                    <p:cNvSpPr/>
                    <p:nvPr/>
                  </p:nvSpPr>
                  <p:spPr>
                    <a:xfrm flipV="1">
                      <a:off x="5812920" y="2117520"/>
                      <a:ext cx="3240" cy="720"/>
                    </a:xfrm>
                    <a:prstGeom prst="line">
                      <a:avLst/>
                    </a:prstGeom>
                    <a:ln w="3240">
                      <a:solidFill>
                        <a:srgbClr val="7f3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58" name=""/>
                    <p:cNvGrpSpPr/>
                    <p:nvPr/>
                  </p:nvGrpSpPr>
                  <p:grpSpPr>
                    <a:xfrm>
                      <a:off x="5772240" y="2100240"/>
                      <a:ext cx="40680" cy="41760"/>
                      <a:chOff x="5772240" y="2100240"/>
                      <a:chExt cx="40680" cy="41760"/>
                    </a:xfrm>
                  </p:grpSpPr>
                  <p:sp>
                    <p:nvSpPr>
                      <p:cNvPr id="1359" name=""/>
                      <p:cNvSpPr/>
                      <p:nvPr/>
                    </p:nvSpPr>
                    <p:spPr>
                      <a:xfrm>
                        <a:off x="5772240" y="2123640"/>
                        <a:ext cx="2880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" h="57">
                            <a:moveTo>
                              <a:pt x="12" y="0"/>
                            </a:moveTo>
                            <a:lnTo>
                              <a:pt x="30" y="16"/>
                            </a:lnTo>
                            <a:lnTo>
                              <a:pt x="45" y="25"/>
                            </a:lnTo>
                            <a:lnTo>
                              <a:pt x="56" y="31"/>
                            </a:lnTo>
                            <a:lnTo>
                              <a:pt x="71" y="37"/>
                            </a:lnTo>
                            <a:lnTo>
                              <a:pt x="84" y="39"/>
                            </a:lnTo>
                            <a:lnTo>
                              <a:pt x="95" y="37"/>
                            </a:lnTo>
                            <a:lnTo>
                              <a:pt x="99" y="57"/>
                            </a:lnTo>
                            <a:lnTo>
                              <a:pt x="83" y="57"/>
                            </a:lnTo>
                            <a:lnTo>
                              <a:pt x="71" y="56"/>
                            </a:lnTo>
                            <a:lnTo>
                              <a:pt x="55" y="49"/>
                            </a:lnTo>
                            <a:lnTo>
                              <a:pt x="40" y="38"/>
                            </a:lnTo>
                            <a:lnTo>
                              <a:pt x="27" y="29"/>
                            </a:lnTo>
                            <a:lnTo>
                              <a:pt x="0" y="5"/>
                            </a:lnTo>
                            <a:lnTo>
                              <a:pt x="12" y="0"/>
                            </a:lnTo>
                            <a:close/>
                          </a:path>
                        </a:pathLst>
                      </a:cu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0" name=""/>
                      <p:cNvSpPr/>
                      <p:nvPr/>
                    </p:nvSpPr>
                    <p:spPr>
                      <a:xfrm>
                        <a:off x="5796360" y="2100240"/>
                        <a:ext cx="16200" cy="41760"/>
                      </a:xfrm>
                      <a:prstGeom prst="ellipse">
                        <a:avLst/>
                      </a:pr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280" bIns="-17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1" name=""/>
                      <p:cNvSpPr/>
                      <p:nvPr/>
                    </p:nvSpPr>
                    <p:spPr>
                      <a:xfrm>
                        <a:off x="5798160" y="2101680"/>
                        <a:ext cx="14760" cy="39600"/>
                      </a:xfrm>
                      <a:prstGeom prst="ellipse">
                        <a:avLst/>
                      </a:prstGeom>
                      <a:solidFill>
                        <a:srgbClr val="ffd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720" bIns="-18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362" name=""/>
              <p:cNvGrpSpPr/>
              <p:nvPr/>
            </p:nvGrpSpPr>
            <p:grpSpPr>
              <a:xfrm>
                <a:off x="5501160" y="2436840"/>
                <a:ext cx="417960" cy="113760"/>
                <a:chOff x="5501160" y="2436840"/>
                <a:chExt cx="417960" cy="113760"/>
              </a:xfrm>
            </p:grpSpPr>
            <p:sp>
              <p:nvSpPr>
                <p:cNvPr id="1363" name=""/>
                <p:cNvSpPr/>
                <p:nvPr/>
              </p:nvSpPr>
              <p:spPr>
                <a:xfrm flipV="1">
                  <a:off x="5793840" y="2512440"/>
                  <a:ext cx="125280" cy="37800"/>
                </a:xfrm>
                <a:custGeom>
                  <a:avLst/>
                  <a:gdLst>
                    <a:gd name="textAreaLeft" fmla="*/ 23760 w 125280"/>
                    <a:gd name="textAreaRight" fmla="*/ 101520 w 125280"/>
                    <a:gd name="textAreaTop" fmla="*/ 7200 h 37800"/>
                    <a:gd name="textAreaBottom" fmla="*/ 30600 h 3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326" y="21600"/>
                      </a:lnTo>
                      <a:lnTo>
                        <a:pt x="4274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 flipV="1">
                  <a:off x="5668200" y="2436480"/>
                  <a:ext cx="125280" cy="37800"/>
                </a:xfrm>
                <a:custGeom>
                  <a:avLst/>
                  <a:gdLst>
                    <a:gd name="textAreaLeft" fmla="*/ 23760 w 125280"/>
                    <a:gd name="textAreaRight" fmla="*/ 101520 w 125280"/>
                    <a:gd name="textAreaTop" fmla="*/ 7200 h 37800"/>
                    <a:gd name="textAreaBottom" fmla="*/ 30600 h 3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326" y="21600"/>
                      </a:lnTo>
                      <a:lnTo>
                        <a:pt x="4274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 flipV="1">
                  <a:off x="5501160" y="2474280"/>
                  <a:ext cx="125280" cy="37800"/>
                </a:xfrm>
                <a:custGeom>
                  <a:avLst/>
                  <a:gdLst>
                    <a:gd name="textAreaLeft" fmla="*/ 23760 w 125280"/>
                    <a:gd name="textAreaRight" fmla="*/ 101520 w 125280"/>
                    <a:gd name="textAreaTop" fmla="*/ 7200 h 37800"/>
                    <a:gd name="textAreaBottom" fmla="*/ 30600 h 3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326" y="21600"/>
                      </a:lnTo>
                      <a:lnTo>
                        <a:pt x="4274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 flipV="1">
                  <a:off x="5626440" y="2512440"/>
                  <a:ext cx="125280" cy="37800"/>
                </a:xfrm>
                <a:custGeom>
                  <a:avLst/>
                  <a:gdLst>
                    <a:gd name="textAreaLeft" fmla="*/ 23760 w 125280"/>
                    <a:gd name="textAreaRight" fmla="*/ 101520 w 125280"/>
                    <a:gd name="textAreaTop" fmla="*/ 7200 h 37800"/>
                    <a:gd name="textAreaBottom" fmla="*/ 30600 h 3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326" y="21600"/>
                      </a:lnTo>
                      <a:lnTo>
                        <a:pt x="4274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7" name=""/>
              <p:cNvGrpSpPr/>
              <p:nvPr/>
            </p:nvGrpSpPr>
            <p:grpSpPr>
              <a:xfrm>
                <a:off x="5919480" y="2398320"/>
                <a:ext cx="375840" cy="113400"/>
                <a:chOff x="5919480" y="2398320"/>
                <a:chExt cx="375840" cy="113400"/>
              </a:xfrm>
            </p:grpSpPr>
            <p:sp>
              <p:nvSpPr>
                <p:cNvPr id="1368" name=""/>
                <p:cNvSpPr/>
                <p:nvPr/>
              </p:nvSpPr>
              <p:spPr>
                <a:xfrm flipV="1">
                  <a:off x="6044760" y="2397960"/>
                  <a:ext cx="125280" cy="37800"/>
                </a:xfrm>
                <a:custGeom>
                  <a:avLst/>
                  <a:gdLst>
                    <a:gd name="textAreaLeft" fmla="*/ 23760 w 125280"/>
                    <a:gd name="textAreaRight" fmla="*/ 101520 w 125280"/>
                    <a:gd name="textAreaTop" fmla="*/ 7200 h 37800"/>
                    <a:gd name="textAreaBottom" fmla="*/ 30600 h 3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326" y="21600"/>
                      </a:lnTo>
                      <a:lnTo>
                        <a:pt x="4274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 flipV="1">
                  <a:off x="6170040" y="2397960"/>
                  <a:ext cx="125280" cy="37800"/>
                </a:xfrm>
                <a:custGeom>
                  <a:avLst/>
                  <a:gdLst>
                    <a:gd name="textAreaLeft" fmla="*/ 23760 w 125280"/>
                    <a:gd name="textAreaRight" fmla="*/ 101520 w 125280"/>
                    <a:gd name="textAreaTop" fmla="*/ 7200 h 37800"/>
                    <a:gd name="textAreaBottom" fmla="*/ 30600 h 3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326" y="21600"/>
                      </a:lnTo>
                      <a:lnTo>
                        <a:pt x="4274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 flipV="1">
                  <a:off x="5919480" y="2397960"/>
                  <a:ext cx="125280" cy="37800"/>
                </a:xfrm>
                <a:custGeom>
                  <a:avLst/>
                  <a:gdLst>
                    <a:gd name="textAreaLeft" fmla="*/ 23760 w 125280"/>
                    <a:gd name="textAreaRight" fmla="*/ 101520 w 125280"/>
                    <a:gd name="textAreaTop" fmla="*/ 7200 h 37800"/>
                    <a:gd name="textAreaBottom" fmla="*/ 30600 h 3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326" y="21600"/>
                      </a:lnTo>
                      <a:lnTo>
                        <a:pt x="4274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 flipV="1">
                  <a:off x="6003000" y="2473560"/>
                  <a:ext cx="125280" cy="37800"/>
                </a:xfrm>
                <a:custGeom>
                  <a:avLst/>
                  <a:gdLst>
                    <a:gd name="textAreaLeft" fmla="*/ 23760 w 125280"/>
                    <a:gd name="textAreaRight" fmla="*/ 101520 w 125280"/>
                    <a:gd name="textAreaTop" fmla="*/ 7200 h 37800"/>
                    <a:gd name="textAreaBottom" fmla="*/ 30600 h 3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326" y="21600"/>
                      </a:lnTo>
                      <a:lnTo>
                        <a:pt x="4274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2" name=""/>
              <p:cNvGrpSpPr/>
              <p:nvPr/>
            </p:nvGrpSpPr>
            <p:grpSpPr>
              <a:xfrm>
                <a:off x="6421320" y="2398320"/>
                <a:ext cx="292320" cy="113760"/>
                <a:chOff x="6421320" y="2398320"/>
                <a:chExt cx="292320" cy="113760"/>
              </a:xfrm>
            </p:grpSpPr>
            <p:sp>
              <p:nvSpPr>
                <p:cNvPr id="1373" name=""/>
                <p:cNvSpPr/>
                <p:nvPr/>
              </p:nvSpPr>
              <p:spPr>
                <a:xfrm flipV="1">
                  <a:off x="6546600" y="2473920"/>
                  <a:ext cx="125280" cy="37800"/>
                </a:xfrm>
                <a:custGeom>
                  <a:avLst/>
                  <a:gdLst>
                    <a:gd name="textAreaLeft" fmla="*/ 23760 w 125280"/>
                    <a:gd name="textAreaRight" fmla="*/ 101520 w 125280"/>
                    <a:gd name="textAreaTop" fmla="*/ 7200 h 37800"/>
                    <a:gd name="textAreaBottom" fmla="*/ 30600 h 3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326" y="21600"/>
                      </a:lnTo>
                      <a:lnTo>
                        <a:pt x="4274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 flipV="1">
                  <a:off x="6588360" y="2435760"/>
                  <a:ext cx="125280" cy="37800"/>
                </a:xfrm>
                <a:custGeom>
                  <a:avLst/>
                  <a:gdLst>
                    <a:gd name="textAreaLeft" fmla="*/ 23760 w 125280"/>
                    <a:gd name="textAreaRight" fmla="*/ 101520 w 125280"/>
                    <a:gd name="textAreaTop" fmla="*/ 7200 h 37800"/>
                    <a:gd name="textAreaBottom" fmla="*/ 30600 h 3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326" y="21600"/>
                      </a:lnTo>
                      <a:lnTo>
                        <a:pt x="4274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 flipV="1">
                  <a:off x="6504840" y="2397960"/>
                  <a:ext cx="125280" cy="37800"/>
                </a:xfrm>
                <a:custGeom>
                  <a:avLst/>
                  <a:gdLst>
                    <a:gd name="textAreaLeft" fmla="*/ 23760 w 125280"/>
                    <a:gd name="textAreaRight" fmla="*/ 101520 w 125280"/>
                    <a:gd name="textAreaTop" fmla="*/ 7200 h 37800"/>
                    <a:gd name="textAreaBottom" fmla="*/ 30600 h 3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326" y="21600"/>
                      </a:lnTo>
                      <a:lnTo>
                        <a:pt x="4274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 flipV="1">
                  <a:off x="6421320" y="2435760"/>
                  <a:ext cx="125280" cy="37800"/>
                </a:xfrm>
                <a:custGeom>
                  <a:avLst/>
                  <a:gdLst>
                    <a:gd name="textAreaLeft" fmla="*/ 23760 w 125280"/>
                    <a:gd name="textAreaRight" fmla="*/ 101520 w 125280"/>
                    <a:gd name="textAreaTop" fmla="*/ 7200 h 37800"/>
                    <a:gd name="textAreaBottom" fmla="*/ 30600 h 3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326" y="21600"/>
                      </a:lnTo>
                      <a:lnTo>
                        <a:pt x="4274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"/>
            <p:cNvGrpSpPr/>
            <p:nvPr/>
          </p:nvGrpSpPr>
          <p:grpSpPr>
            <a:xfrm>
              <a:off x="4222800" y="4672080"/>
              <a:ext cx="2294280" cy="788760"/>
              <a:chOff x="4222800" y="4672080"/>
              <a:chExt cx="2294280" cy="788760"/>
            </a:xfrm>
          </p:grpSpPr>
          <p:sp>
            <p:nvSpPr>
              <p:cNvPr id="1378" name=""/>
              <p:cNvSpPr/>
              <p:nvPr/>
            </p:nvSpPr>
            <p:spPr>
              <a:xfrm>
                <a:off x="4222800" y="4672080"/>
                <a:ext cx="1349280" cy="788760"/>
              </a:xfrm>
              <a:prstGeom prst="ellipse">
                <a:avLst/>
              </a:prstGeom>
              <a:solidFill>
                <a:srgbClr val="d6d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 rot="21591600">
                <a:off x="5655960" y="5049360"/>
                <a:ext cx="860400" cy="355680"/>
              </a:xfrm>
              <a:prstGeom prst="rightArrow">
                <a:avLst>
                  <a:gd name="adj1" fmla="val 50000"/>
                  <a:gd name="adj2" fmla="val 60476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0" name=""/>
            <p:cNvGrpSpPr/>
            <p:nvPr/>
          </p:nvGrpSpPr>
          <p:grpSpPr>
            <a:xfrm>
              <a:off x="3792600" y="3647880"/>
              <a:ext cx="1576440" cy="1536840"/>
              <a:chOff x="3792600" y="3647880"/>
              <a:chExt cx="1576440" cy="1536840"/>
            </a:xfrm>
          </p:grpSpPr>
          <p:sp>
            <p:nvSpPr>
              <p:cNvPr id="1381" name=""/>
              <p:cNvSpPr/>
              <p:nvPr/>
            </p:nvSpPr>
            <p:spPr>
              <a:xfrm>
                <a:off x="3840120" y="3805200"/>
                <a:ext cx="1338480" cy="1379520"/>
              </a:xfrm>
              <a:custGeom>
                <a:avLst/>
                <a:gdLst/>
                <a:ahLst/>
                <a:rect l="l" t="t" r="r" b="b"/>
                <a:pathLst>
                  <a:path w="1344" h="1680">
                    <a:moveTo>
                      <a:pt x="816" y="1680"/>
                    </a:moveTo>
                    <a:lnTo>
                      <a:pt x="1296" y="1632"/>
                    </a:lnTo>
                    <a:lnTo>
                      <a:pt x="1344" y="96"/>
                    </a:lnTo>
                    <a:lnTo>
                      <a:pt x="144" y="0"/>
                    </a:lnTo>
                    <a:lnTo>
                      <a:pt x="0" y="288"/>
                    </a:lnTo>
                    <a:lnTo>
                      <a:pt x="816" y="168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3792600" y="3767040"/>
                <a:ext cx="620640" cy="511200"/>
              </a:xfrm>
              <a:prstGeom prst="foldedCorner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4556160" y="3767040"/>
                <a:ext cx="622440" cy="511200"/>
              </a:xfrm>
              <a:prstGeom prst="foldedCorner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V="1">
                <a:off x="4460760" y="3647880"/>
                <a:ext cx="860400" cy="70956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flipH="1" flipV="1">
                <a:off x="4508640" y="3687480"/>
                <a:ext cx="860400" cy="70956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6" name=""/>
            <p:cNvGrpSpPr/>
            <p:nvPr/>
          </p:nvGrpSpPr>
          <p:grpSpPr>
            <a:xfrm>
              <a:off x="6543720" y="2502720"/>
              <a:ext cx="1482120" cy="1476360"/>
              <a:chOff x="6543720" y="2502720"/>
              <a:chExt cx="1482120" cy="1476360"/>
            </a:xfrm>
          </p:grpSpPr>
          <p:grpSp>
            <p:nvGrpSpPr>
              <p:cNvPr id="1387" name=""/>
              <p:cNvGrpSpPr/>
              <p:nvPr/>
            </p:nvGrpSpPr>
            <p:grpSpPr>
              <a:xfrm>
                <a:off x="7238880" y="3200400"/>
                <a:ext cx="786960" cy="778680"/>
                <a:chOff x="7238880" y="3200400"/>
                <a:chExt cx="786960" cy="778680"/>
              </a:xfrm>
            </p:grpSpPr>
            <p:grpSp>
              <p:nvGrpSpPr>
                <p:cNvPr id="1388" name=""/>
                <p:cNvGrpSpPr/>
                <p:nvPr/>
              </p:nvGrpSpPr>
              <p:grpSpPr>
                <a:xfrm>
                  <a:off x="7536240" y="3603960"/>
                  <a:ext cx="188640" cy="269640"/>
                  <a:chOff x="7536240" y="3603960"/>
                  <a:chExt cx="188640" cy="269640"/>
                </a:xfrm>
              </p:grpSpPr>
              <p:sp>
                <p:nvSpPr>
                  <p:cNvPr id="1389" name=""/>
                  <p:cNvSpPr/>
                  <p:nvPr/>
                </p:nvSpPr>
                <p:spPr>
                  <a:xfrm>
                    <a:off x="7536240" y="3603960"/>
                    <a:ext cx="188640" cy="26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513">
                        <a:moveTo>
                          <a:pt x="0" y="0"/>
                        </a:moveTo>
                        <a:lnTo>
                          <a:pt x="26" y="14"/>
                        </a:lnTo>
                        <a:lnTo>
                          <a:pt x="56" y="23"/>
                        </a:lnTo>
                        <a:lnTo>
                          <a:pt x="91" y="30"/>
                        </a:lnTo>
                        <a:lnTo>
                          <a:pt x="129" y="37"/>
                        </a:lnTo>
                        <a:lnTo>
                          <a:pt x="154" y="35"/>
                        </a:lnTo>
                        <a:lnTo>
                          <a:pt x="183" y="28"/>
                        </a:lnTo>
                        <a:lnTo>
                          <a:pt x="208" y="20"/>
                        </a:lnTo>
                        <a:lnTo>
                          <a:pt x="235" y="3"/>
                        </a:lnTo>
                        <a:lnTo>
                          <a:pt x="263" y="125"/>
                        </a:lnTo>
                        <a:lnTo>
                          <a:pt x="267" y="203"/>
                        </a:lnTo>
                        <a:lnTo>
                          <a:pt x="271" y="238"/>
                        </a:lnTo>
                        <a:lnTo>
                          <a:pt x="271" y="305"/>
                        </a:lnTo>
                        <a:lnTo>
                          <a:pt x="267" y="361"/>
                        </a:lnTo>
                        <a:lnTo>
                          <a:pt x="259" y="430"/>
                        </a:lnTo>
                        <a:lnTo>
                          <a:pt x="246" y="492"/>
                        </a:lnTo>
                        <a:lnTo>
                          <a:pt x="67" y="513"/>
                        </a:lnTo>
                        <a:lnTo>
                          <a:pt x="41" y="289"/>
                        </a:lnTo>
                        <a:lnTo>
                          <a:pt x="22" y="1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"/>
                  <p:cNvSpPr/>
                  <p:nvPr/>
                </p:nvSpPr>
                <p:spPr>
                  <a:xfrm>
                    <a:off x="7563240" y="3670920"/>
                    <a:ext cx="159120" cy="20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390">
                        <a:moveTo>
                          <a:pt x="0" y="27"/>
                        </a:moveTo>
                        <a:lnTo>
                          <a:pt x="98" y="27"/>
                        </a:lnTo>
                        <a:lnTo>
                          <a:pt x="146" y="24"/>
                        </a:lnTo>
                        <a:lnTo>
                          <a:pt x="196" y="14"/>
                        </a:lnTo>
                        <a:lnTo>
                          <a:pt x="229" y="0"/>
                        </a:lnTo>
                        <a:lnTo>
                          <a:pt x="233" y="328"/>
                        </a:lnTo>
                        <a:lnTo>
                          <a:pt x="66" y="390"/>
                        </a:lnTo>
                        <a:lnTo>
                          <a:pt x="0" y="27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1" name=""/>
                <p:cNvGrpSpPr/>
                <p:nvPr/>
              </p:nvGrpSpPr>
              <p:grpSpPr>
                <a:xfrm>
                  <a:off x="7650360" y="3535200"/>
                  <a:ext cx="375480" cy="335520"/>
                  <a:chOff x="7650360" y="3535200"/>
                  <a:chExt cx="375480" cy="335520"/>
                </a:xfrm>
              </p:grpSpPr>
              <p:sp>
                <p:nvSpPr>
                  <p:cNvPr id="1392" name=""/>
                  <p:cNvSpPr/>
                  <p:nvPr/>
                </p:nvSpPr>
                <p:spPr>
                  <a:xfrm>
                    <a:off x="7650360" y="3535200"/>
                    <a:ext cx="375480" cy="335520"/>
                  </a:xfrm>
                  <a:custGeom>
                    <a:avLst/>
                    <a:gdLst/>
                    <a:ahLst/>
                    <a:rect l="l" t="t" r="r" b="b"/>
                    <a:pathLst>
                      <a:path w="545" h="645">
                        <a:moveTo>
                          <a:pt x="22" y="0"/>
                        </a:moveTo>
                        <a:lnTo>
                          <a:pt x="55" y="14"/>
                        </a:lnTo>
                        <a:lnTo>
                          <a:pt x="91" y="53"/>
                        </a:lnTo>
                        <a:lnTo>
                          <a:pt x="224" y="99"/>
                        </a:lnTo>
                        <a:lnTo>
                          <a:pt x="260" y="120"/>
                        </a:lnTo>
                        <a:lnTo>
                          <a:pt x="300" y="190"/>
                        </a:lnTo>
                        <a:lnTo>
                          <a:pt x="300" y="236"/>
                        </a:lnTo>
                        <a:lnTo>
                          <a:pt x="308" y="271"/>
                        </a:lnTo>
                        <a:lnTo>
                          <a:pt x="330" y="331"/>
                        </a:lnTo>
                        <a:lnTo>
                          <a:pt x="392" y="434"/>
                        </a:lnTo>
                        <a:lnTo>
                          <a:pt x="436" y="504"/>
                        </a:lnTo>
                        <a:lnTo>
                          <a:pt x="483" y="564"/>
                        </a:lnTo>
                        <a:lnTo>
                          <a:pt x="545" y="634"/>
                        </a:lnTo>
                        <a:lnTo>
                          <a:pt x="29" y="645"/>
                        </a:lnTo>
                        <a:lnTo>
                          <a:pt x="62" y="578"/>
                        </a:lnTo>
                        <a:lnTo>
                          <a:pt x="76" y="529"/>
                        </a:lnTo>
                        <a:lnTo>
                          <a:pt x="84" y="441"/>
                        </a:lnTo>
                        <a:lnTo>
                          <a:pt x="80" y="293"/>
                        </a:lnTo>
                        <a:lnTo>
                          <a:pt x="66" y="183"/>
                        </a:lnTo>
                        <a:lnTo>
                          <a:pt x="44" y="106"/>
                        </a:lnTo>
                        <a:lnTo>
                          <a:pt x="0" y="35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5f7f"/>
                  </a:solidFill>
                  <a:ln w="936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" name=""/>
                  <p:cNvSpPr/>
                  <p:nvPr/>
                </p:nvSpPr>
                <p:spPr>
                  <a:xfrm>
                    <a:off x="7743240" y="3576960"/>
                    <a:ext cx="8064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338">
                        <a:moveTo>
                          <a:pt x="0" y="0"/>
                        </a:moveTo>
                        <a:lnTo>
                          <a:pt x="44" y="32"/>
                        </a:lnTo>
                        <a:lnTo>
                          <a:pt x="67" y="67"/>
                        </a:lnTo>
                        <a:lnTo>
                          <a:pt x="82" y="102"/>
                        </a:lnTo>
                        <a:lnTo>
                          <a:pt x="95" y="141"/>
                        </a:lnTo>
                        <a:lnTo>
                          <a:pt x="110" y="187"/>
                        </a:lnTo>
                        <a:lnTo>
                          <a:pt x="117" y="236"/>
                        </a:lnTo>
                        <a:lnTo>
                          <a:pt x="117" y="300"/>
                        </a:lnTo>
                        <a:lnTo>
                          <a:pt x="110" y="338"/>
                        </a:lnTo>
                        <a:lnTo>
                          <a:pt x="99" y="264"/>
                        </a:lnTo>
                        <a:lnTo>
                          <a:pt x="89" y="220"/>
                        </a:lnTo>
                        <a:lnTo>
                          <a:pt x="73" y="194"/>
                        </a:lnTo>
                        <a:lnTo>
                          <a:pt x="53" y="181"/>
                        </a:lnTo>
                        <a:lnTo>
                          <a:pt x="64" y="155"/>
                        </a:lnTo>
                        <a:lnTo>
                          <a:pt x="67" y="114"/>
                        </a:lnTo>
                        <a:lnTo>
                          <a:pt x="51" y="78"/>
                        </a:lnTo>
                        <a:lnTo>
                          <a:pt x="30" y="3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3f5f"/>
                  </a:solidFill>
                  <a:ln w="936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4" name=""/>
                <p:cNvSpPr/>
                <p:nvPr/>
              </p:nvSpPr>
              <p:spPr>
                <a:xfrm>
                  <a:off x="7614720" y="3823920"/>
                  <a:ext cx="112320" cy="65520"/>
                </a:xfrm>
                <a:custGeom>
                  <a:avLst/>
                  <a:gdLst/>
                  <a:ahLst/>
                  <a:rect l="l" t="t" r="r" b="b"/>
                  <a:pathLst>
                    <a:path w="160" h="125">
                      <a:moveTo>
                        <a:pt x="135" y="21"/>
                      </a:moveTo>
                      <a:lnTo>
                        <a:pt x="110" y="0"/>
                      </a:lnTo>
                      <a:lnTo>
                        <a:pt x="72" y="9"/>
                      </a:lnTo>
                      <a:lnTo>
                        <a:pt x="40" y="21"/>
                      </a:lnTo>
                      <a:lnTo>
                        <a:pt x="7" y="34"/>
                      </a:lnTo>
                      <a:lnTo>
                        <a:pt x="0" y="45"/>
                      </a:lnTo>
                      <a:lnTo>
                        <a:pt x="18" y="62"/>
                      </a:lnTo>
                      <a:lnTo>
                        <a:pt x="24" y="83"/>
                      </a:lnTo>
                      <a:lnTo>
                        <a:pt x="39" y="98"/>
                      </a:lnTo>
                      <a:lnTo>
                        <a:pt x="54" y="108"/>
                      </a:lnTo>
                      <a:lnTo>
                        <a:pt x="76" y="115"/>
                      </a:lnTo>
                      <a:lnTo>
                        <a:pt x="91" y="125"/>
                      </a:lnTo>
                      <a:lnTo>
                        <a:pt x="117" y="125"/>
                      </a:lnTo>
                      <a:lnTo>
                        <a:pt x="130" y="125"/>
                      </a:lnTo>
                      <a:lnTo>
                        <a:pt x="139" y="115"/>
                      </a:lnTo>
                      <a:lnTo>
                        <a:pt x="138" y="97"/>
                      </a:lnTo>
                      <a:lnTo>
                        <a:pt x="160" y="98"/>
                      </a:lnTo>
                      <a:lnTo>
                        <a:pt x="135" y="90"/>
                      </a:lnTo>
                      <a:lnTo>
                        <a:pt x="130" y="69"/>
                      </a:lnTo>
                      <a:lnTo>
                        <a:pt x="132" y="55"/>
                      </a:lnTo>
                      <a:lnTo>
                        <a:pt x="130" y="44"/>
                      </a:lnTo>
                      <a:lnTo>
                        <a:pt x="135" y="21"/>
                      </a:lnTo>
                      <a:close/>
                    </a:path>
                  </a:pathLst>
                </a:custGeom>
                <a:solidFill>
                  <a:srgbClr val="f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7461360" y="3918960"/>
                  <a:ext cx="53640" cy="46800"/>
                </a:xfrm>
                <a:custGeom>
                  <a:avLst/>
                  <a:gdLst/>
                  <a:ahLst/>
                  <a:rect l="l" t="t" r="r" b="b"/>
                  <a:pathLst>
                    <a:path w="77" h="90">
                      <a:moveTo>
                        <a:pt x="77" y="0"/>
                      </a:moveTo>
                      <a:lnTo>
                        <a:pt x="19" y="90"/>
                      </a:lnTo>
                      <a:lnTo>
                        <a:pt x="0" y="26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96" name=""/>
                <p:cNvGrpSpPr/>
                <p:nvPr/>
              </p:nvGrpSpPr>
              <p:grpSpPr>
                <a:xfrm>
                  <a:off x="7238880" y="3513600"/>
                  <a:ext cx="382320" cy="465480"/>
                  <a:chOff x="7238880" y="3513600"/>
                  <a:chExt cx="382320" cy="465480"/>
                </a:xfrm>
              </p:grpSpPr>
              <p:sp>
                <p:nvSpPr>
                  <p:cNvPr id="1397" name=""/>
                  <p:cNvSpPr/>
                  <p:nvPr/>
                </p:nvSpPr>
                <p:spPr>
                  <a:xfrm>
                    <a:off x="7238880" y="3513600"/>
                    <a:ext cx="382320" cy="462960"/>
                  </a:xfrm>
                  <a:custGeom>
                    <a:avLst/>
                    <a:gdLst/>
                    <a:ahLst/>
                    <a:rect l="l" t="t" r="r" b="b"/>
                    <a:pathLst>
                      <a:path w="552" h="889">
                        <a:moveTo>
                          <a:pt x="427" y="11"/>
                        </a:moveTo>
                        <a:lnTo>
                          <a:pt x="351" y="0"/>
                        </a:lnTo>
                        <a:lnTo>
                          <a:pt x="296" y="4"/>
                        </a:lnTo>
                        <a:lnTo>
                          <a:pt x="234" y="11"/>
                        </a:lnTo>
                        <a:lnTo>
                          <a:pt x="201" y="18"/>
                        </a:lnTo>
                        <a:lnTo>
                          <a:pt x="183" y="39"/>
                        </a:lnTo>
                        <a:lnTo>
                          <a:pt x="161" y="35"/>
                        </a:lnTo>
                        <a:lnTo>
                          <a:pt x="128" y="60"/>
                        </a:lnTo>
                        <a:lnTo>
                          <a:pt x="102" y="88"/>
                        </a:lnTo>
                        <a:lnTo>
                          <a:pt x="84" y="116"/>
                        </a:lnTo>
                        <a:lnTo>
                          <a:pt x="62" y="152"/>
                        </a:lnTo>
                        <a:lnTo>
                          <a:pt x="51" y="190"/>
                        </a:lnTo>
                        <a:lnTo>
                          <a:pt x="40" y="257"/>
                        </a:lnTo>
                        <a:lnTo>
                          <a:pt x="33" y="303"/>
                        </a:lnTo>
                        <a:lnTo>
                          <a:pt x="33" y="377"/>
                        </a:lnTo>
                        <a:lnTo>
                          <a:pt x="48" y="426"/>
                        </a:lnTo>
                        <a:lnTo>
                          <a:pt x="44" y="462"/>
                        </a:lnTo>
                        <a:lnTo>
                          <a:pt x="33" y="553"/>
                        </a:lnTo>
                        <a:lnTo>
                          <a:pt x="22" y="592"/>
                        </a:lnTo>
                        <a:lnTo>
                          <a:pt x="18" y="634"/>
                        </a:lnTo>
                        <a:lnTo>
                          <a:pt x="7" y="662"/>
                        </a:lnTo>
                        <a:lnTo>
                          <a:pt x="0" y="694"/>
                        </a:lnTo>
                        <a:lnTo>
                          <a:pt x="4" y="729"/>
                        </a:lnTo>
                        <a:lnTo>
                          <a:pt x="18" y="761"/>
                        </a:lnTo>
                        <a:lnTo>
                          <a:pt x="48" y="789"/>
                        </a:lnTo>
                        <a:lnTo>
                          <a:pt x="99" y="835"/>
                        </a:lnTo>
                        <a:lnTo>
                          <a:pt x="128" y="846"/>
                        </a:lnTo>
                        <a:lnTo>
                          <a:pt x="165" y="856"/>
                        </a:lnTo>
                        <a:lnTo>
                          <a:pt x="194" y="868"/>
                        </a:lnTo>
                        <a:lnTo>
                          <a:pt x="219" y="882"/>
                        </a:lnTo>
                        <a:lnTo>
                          <a:pt x="340" y="889"/>
                        </a:lnTo>
                        <a:lnTo>
                          <a:pt x="420" y="786"/>
                        </a:lnTo>
                        <a:lnTo>
                          <a:pt x="449" y="691"/>
                        </a:lnTo>
                        <a:lnTo>
                          <a:pt x="552" y="691"/>
                        </a:lnTo>
                        <a:lnTo>
                          <a:pt x="544" y="553"/>
                        </a:lnTo>
                        <a:lnTo>
                          <a:pt x="526" y="398"/>
                        </a:lnTo>
                        <a:lnTo>
                          <a:pt x="493" y="204"/>
                        </a:lnTo>
                        <a:lnTo>
                          <a:pt x="475" y="116"/>
                        </a:lnTo>
                        <a:lnTo>
                          <a:pt x="427" y="11"/>
                        </a:lnTo>
                        <a:close/>
                      </a:path>
                    </a:pathLst>
                  </a:custGeom>
                  <a:solidFill>
                    <a:srgbClr val="ff5f7f"/>
                  </a:solidFill>
                  <a:ln w="936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"/>
                  <p:cNvSpPr/>
                  <p:nvPr/>
                </p:nvSpPr>
                <p:spPr>
                  <a:xfrm>
                    <a:off x="7356960" y="3825000"/>
                    <a:ext cx="17244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296">
                        <a:moveTo>
                          <a:pt x="233" y="14"/>
                        </a:moveTo>
                        <a:lnTo>
                          <a:pt x="144" y="7"/>
                        </a:lnTo>
                        <a:lnTo>
                          <a:pt x="51" y="0"/>
                        </a:lnTo>
                        <a:lnTo>
                          <a:pt x="35" y="21"/>
                        </a:lnTo>
                        <a:lnTo>
                          <a:pt x="28" y="38"/>
                        </a:lnTo>
                        <a:lnTo>
                          <a:pt x="17" y="59"/>
                        </a:lnTo>
                        <a:lnTo>
                          <a:pt x="7" y="91"/>
                        </a:lnTo>
                        <a:lnTo>
                          <a:pt x="2" y="119"/>
                        </a:lnTo>
                        <a:lnTo>
                          <a:pt x="0" y="145"/>
                        </a:lnTo>
                        <a:lnTo>
                          <a:pt x="3" y="176"/>
                        </a:lnTo>
                        <a:lnTo>
                          <a:pt x="14" y="217"/>
                        </a:lnTo>
                        <a:lnTo>
                          <a:pt x="25" y="250"/>
                        </a:lnTo>
                        <a:lnTo>
                          <a:pt x="28" y="280"/>
                        </a:lnTo>
                        <a:lnTo>
                          <a:pt x="177" y="296"/>
                        </a:lnTo>
                        <a:lnTo>
                          <a:pt x="241" y="193"/>
                        </a:lnTo>
                        <a:lnTo>
                          <a:pt x="248" y="166"/>
                        </a:lnTo>
                        <a:lnTo>
                          <a:pt x="233" y="14"/>
                        </a:lnTo>
                        <a:close/>
                      </a:path>
                    </a:pathLst>
                  </a:custGeom>
                  <a:solidFill>
                    <a:srgbClr val="df1f3f"/>
                  </a:solidFill>
                  <a:ln w="936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" name=""/>
                  <p:cNvSpPr/>
                  <p:nvPr/>
                </p:nvSpPr>
                <p:spPr>
                  <a:xfrm>
                    <a:off x="7280280" y="3544560"/>
                    <a:ext cx="162000" cy="2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567">
                        <a:moveTo>
                          <a:pt x="146" y="0"/>
                        </a:moveTo>
                        <a:lnTo>
                          <a:pt x="189" y="70"/>
                        </a:lnTo>
                        <a:lnTo>
                          <a:pt x="215" y="144"/>
                        </a:lnTo>
                        <a:lnTo>
                          <a:pt x="230" y="233"/>
                        </a:lnTo>
                        <a:lnTo>
                          <a:pt x="233" y="331"/>
                        </a:lnTo>
                        <a:lnTo>
                          <a:pt x="230" y="447"/>
                        </a:lnTo>
                        <a:lnTo>
                          <a:pt x="219" y="497"/>
                        </a:lnTo>
                        <a:lnTo>
                          <a:pt x="160" y="539"/>
                        </a:lnTo>
                        <a:lnTo>
                          <a:pt x="131" y="521"/>
                        </a:lnTo>
                        <a:lnTo>
                          <a:pt x="102" y="514"/>
                        </a:lnTo>
                        <a:lnTo>
                          <a:pt x="76" y="521"/>
                        </a:lnTo>
                        <a:lnTo>
                          <a:pt x="58" y="546"/>
                        </a:lnTo>
                        <a:lnTo>
                          <a:pt x="25" y="560"/>
                        </a:lnTo>
                        <a:lnTo>
                          <a:pt x="0" y="567"/>
                        </a:lnTo>
                        <a:lnTo>
                          <a:pt x="40" y="532"/>
                        </a:lnTo>
                        <a:lnTo>
                          <a:pt x="65" y="521"/>
                        </a:lnTo>
                        <a:lnTo>
                          <a:pt x="84" y="504"/>
                        </a:lnTo>
                        <a:lnTo>
                          <a:pt x="106" y="504"/>
                        </a:lnTo>
                        <a:lnTo>
                          <a:pt x="131" y="479"/>
                        </a:lnTo>
                        <a:lnTo>
                          <a:pt x="106" y="451"/>
                        </a:lnTo>
                        <a:lnTo>
                          <a:pt x="142" y="458"/>
                        </a:lnTo>
                        <a:lnTo>
                          <a:pt x="116" y="377"/>
                        </a:lnTo>
                        <a:lnTo>
                          <a:pt x="95" y="310"/>
                        </a:lnTo>
                        <a:lnTo>
                          <a:pt x="87" y="263"/>
                        </a:lnTo>
                        <a:lnTo>
                          <a:pt x="98" y="194"/>
                        </a:lnTo>
                        <a:lnTo>
                          <a:pt x="116" y="271"/>
                        </a:lnTo>
                        <a:lnTo>
                          <a:pt x="153" y="359"/>
                        </a:lnTo>
                        <a:lnTo>
                          <a:pt x="197" y="454"/>
                        </a:lnTo>
                        <a:lnTo>
                          <a:pt x="197" y="324"/>
                        </a:lnTo>
                        <a:lnTo>
                          <a:pt x="189" y="236"/>
                        </a:lnTo>
                        <a:lnTo>
                          <a:pt x="179" y="106"/>
                        </a:lnTo>
                        <a:lnTo>
                          <a:pt x="146" y="0"/>
                        </a:lnTo>
                        <a:close/>
                      </a:path>
                    </a:pathLst>
                  </a:custGeom>
                  <a:solidFill>
                    <a:srgbClr val="df3f5f"/>
                  </a:solidFill>
                  <a:ln w="936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0" name=""/>
                <p:cNvSpPr/>
                <p:nvPr/>
              </p:nvSpPr>
              <p:spPr>
                <a:xfrm>
                  <a:off x="7686360" y="3756960"/>
                  <a:ext cx="220680" cy="138600"/>
                </a:xfrm>
                <a:custGeom>
                  <a:avLst/>
                  <a:gdLst/>
                  <a:ahLst/>
                  <a:rect l="l" t="t" r="r" b="b"/>
                  <a:pathLst>
                    <a:path w="681" h="359">
                      <a:moveTo>
                        <a:pt x="0" y="292"/>
                      </a:moveTo>
                      <a:lnTo>
                        <a:pt x="263" y="0"/>
                      </a:lnTo>
                      <a:lnTo>
                        <a:pt x="681" y="111"/>
                      </a:lnTo>
                      <a:lnTo>
                        <a:pt x="509" y="320"/>
                      </a:lnTo>
                      <a:lnTo>
                        <a:pt x="402" y="344"/>
                      </a:lnTo>
                      <a:lnTo>
                        <a:pt x="293" y="359"/>
                      </a:lnTo>
                      <a:lnTo>
                        <a:pt x="55" y="345"/>
                      </a:lnTo>
                      <a:lnTo>
                        <a:pt x="0" y="29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7452360" y="3817800"/>
                  <a:ext cx="403920" cy="123840"/>
                </a:xfrm>
                <a:custGeom>
                  <a:avLst/>
                  <a:gdLst/>
                  <a:ahLst/>
                  <a:rect l="l" t="t" r="r" b="b"/>
                  <a:pathLst>
                    <a:path w="582" h="236">
                      <a:moveTo>
                        <a:pt x="32" y="57"/>
                      </a:moveTo>
                      <a:lnTo>
                        <a:pt x="249" y="29"/>
                      </a:lnTo>
                      <a:lnTo>
                        <a:pt x="295" y="12"/>
                      </a:lnTo>
                      <a:lnTo>
                        <a:pt x="318" y="3"/>
                      </a:lnTo>
                      <a:lnTo>
                        <a:pt x="342" y="0"/>
                      </a:lnTo>
                      <a:lnTo>
                        <a:pt x="375" y="5"/>
                      </a:lnTo>
                      <a:lnTo>
                        <a:pt x="412" y="12"/>
                      </a:lnTo>
                      <a:lnTo>
                        <a:pt x="439" y="15"/>
                      </a:lnTo>
                      <a:lnTo>
                        <a:pt x="491" y="21"/>
                      </a:lnTo>
                      <a:lnTo>
                        <a:pt x="517" y="22"/>
                      </a:lnTo>
                      <a:lnTo>
                        <a:pt x="537" y="26"/>
                      </a:lnTo>
                      <a:lnTo>
                        <a:pt x="559" y="29"/>
                      </a:lnTo>
                      <a:lnTo>
                        <a:pt x="577" y="36"/>
                      </a:lnTo>
                      <a:lnTo>
                        <a:pt x="582" y="46"/>
                      </a:lnTo>
                      <a:lnTo>
                        <a:pt x="574" y="54"/>
                      </a:lnTo>
                      <a:lnTo>
                        <a:pt x="537" y="56"/>
                      </a:lnTo>
                      <a:lnTo>
                        <a:pt x="523" y="57"/>
                      </a:lnTo>
                      <a:lnTo>
                        <a:pt x="520" y="82"/>
                      </a:lnTo>
                      <a:lnTo>
                        <a:pt x="512" y="92"/>
                      </a:lnTo>
                      <a:lnTo>
                        <a:pt x="506" y="93"/>
                      </a:lnTo>
                      <a:lnTo>
                        <a:pt x="501" y="109"/>
                      </a:lnTo>
                      <a:lnTo>
                        <a:pt x="490" y="121"/>
                      </a:lnTo>
                      <a:lnTo>
                        <a:pt x="476" y="127"/>
                      </a:lnTo>
                      <a:lnTo>
                        <a:pt x="468" y="137"/>
                      </a:lnTo>
                      <a:lnTo>
                        <a:pt x="457" y="142"/>
                      </a:lnTo>
                      <a:lnTo>
                        <a:pt x="423" y="160"/>
                      </a:lnTo>
                      <a:lnTo>
                        <a:pt x="405" y="167"/>
                      </a:lnTo>
                      <a:lnTo>
                        <a:pt x="351" y="169"/>
                      </a:lnTo>
                      <a:lnTo>
                        <a:pt x="311" y="165"/>
                      </a:lnTo>
                      <a:lnTo>
                        <a:pt x="288" y="155"/>
                      </a:lnTo>
                      <a:lnTo>
                        <a:pt x="277" y="151"/>
                      </a:lnTo>
                      <a:lnTo>
                        <a:pt x="256" y="155"/>
                      </a:lnTo>
                      <a:lnTo>
                        <a:pt x="222" y="158"/>
                      </a:lnTo>
                      <a:lnTo>
                        <a:pt x="193" y="163"/>
                      </a:lnTo>
                      <a:lnTo>
                        <a:pt x="70" y="208"/>
                      </a:lnTo>
                      <a:lnTo>
                        <a:pt x="17" y="236"/>
                      </a:lnTo>
                      <a:lnTo>
                        <a:pt x="3" y="187"/>
                      </a:lnTo>
                      <a:lnTo>
                        <a:pt x="0" y="156"/>
                      </a:lnTo>
                      <a:lnTo>
                        <a:pt x="0" y="131"/>
                      </a:lnTo>
                      <a:lnTo>
                        <a:pt x="10" y="99"/>
                      </a:lnTo>
                      <a:lnTo>
                        <a:pt x="32" y="57"/>
                      </a:lnTo>
                      <a:close/>
                    </a:path>
                  </a:pathLst>
                </a:custGeom>
                <a:solidFill>
                  <a:srgbClr val="f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02" name=""/>
                <p:cNvGrpSpPr/>
                <p:nvPr/>
              </p:nvGrpSpPr>
              <p:grpSpPr>
                <a:xfrm>
                  <a:off x="7376040" y="3200400"/>
                  <a:ext cx="443160" cy="430920"/>
                  <a:chOff x="7376040" y="3200400"/>
                  <a:chExt cx="443160" cy="430920"/>
                </a:xfrm>
              </p:grpSpPr>
              <p:grpSp>
                <p:nvGrpSpPr>
                  <p:cNvPr id="1403" name=""/>
                  <p:cNvGrpSpPr/>
                  <p:nvPr/>
                </p:nvGrpSpPr>
                <p:grpSpPr>
                  <a:xfrm>
                    <a:off x="7774200" y="3317040"/>
                    <a:ext cx="38880" cy="77760"/>
                    <a:chOff x="7774200" y="3317040"/>
                    <a:chExt cx="38880" cy="77760"/>
                  </a:xfrm>
                </p:grpSpPr>
                <p:sp>
                  <p:nvSpPr>
                    <p:cNvPr id="1404" name=""/>
                    <p:cNvSpPr/>
                    <p:nvPr/>
                  </p:nvSpPr>
                  <p:spPr>
                    <a:xfrm>
                      <a:off x="7774200" y="3317040"/>
                      <a:ext cx="38880" cy="77760"/>
                    </a:xfrm>
                    <a:prstGeom prst="ellipse">
                      <a:avLst/>
                    </a:prstGeom>
                    <a:solidFill>
                      <a:srgbClr val="7f3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5" name=""/>
                    <p:cNvSpPr/>
                    <p:nvPr/>
                  </p:nvSpPr>
                  <p:spPr>
                    <a:xfrm>
                      <a:off x="7778160" y="3318480"/>
                      <a:ext cx="32760" cy="72720"/>
                    </a:xfrm>
                    <a:prstGeom prst="ellipse">
                      <a:avLst/>
                    </a:prstGeom>
                    <a:solidFill>
                      <a:srgbClr val="ffd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040" bIns="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6" name=""/>
                  <p:cNvGrpSpPr/>
                  <p:nvPr/>
                </p:nvGrpSpPr>
                <p:grpSpPr>
                  <a:xfrm>
                    <a:off x="7376040" y="3200400"/>
                    <a:ext cx="443160" cy="430920"/>
                    <a:chOff x="7376040" y="3200400"/>
                    <a:chExt cx="443160" cy="430920"/>
                  </a:xfrm>
                </p:grpSpPr>
                <p:grpSp>
                  <p:nvGrpSpPr>
                    <p:cNvPr id="1407" name=""/>
                    <p:cNvGrpSpPr/>
                    <p:nvPr/>
                  </p:nvGrpSpPr>
                  <p:grpSpPr>
                    <a:xfrm>
                      <a:off x="7479360" y="3228480"/>
                      <a:ext cx="339840" cy="402840"/>
                      <a:chOff x="7479360" y="3228480"/>
                      <a:chExt cx="339840" cy="402840"/>
                    </a:xfrm>
                  </p:grpSpPr>
                  <p:sp>
                    <p:nvSpPr>
                      <p:cNvPr id="1408" name=""/>
                      <p:cNvSpPr/>
                      <p:nvPr/>
                    </p:nvSpPr>
                    <p:spPr>
                      <a:xfrm>
                        <a:off x="7479360" y="3228480"/>
                        <a:ext cx="339840" cy="40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2" h="777">
                            <a:moveTo>
                              <a:pt x="318" y="14"/>
                            </a:moveTo>
                            <a:lnTo>
                              <a:pt x="359" y="29"/>
                            </a:lnTo>
                            <a:lnTo>
                              <a:pt x="383" y="44"/>
                            </a:lnTo>
                            <a:lnTo>
                              <a:pt x="402" y="64"/>
                            </a:lnTo>
                            <a:lnTo>
                              <a:pt x="413" y="86"/>
                            </a:lnTo>
                            <a:lnTo>
                              <a:pt x="421" y="111"/>
                            </a:lnTo>
                            <a:lnTo>
                              <a:pt x="427" y="135"/>
                            </a:lnTo>
                            <a:lnTo>
                              <a:pt x="434" y="171"/>
                            </a:lnTo>
                            <a:lnTo>
                              <a:pt x="438" y="206"/>
                            </a:lnTo>
                            <a:lnTo>
                              <a:pt x="433" y="227"/>
                            </a:lnTo>
                            <a:lnTo>
                              <a:pt x="431" y="248"/>
                            </a:lnTo>
                            <a:lnTo>
                              <a:pt x="442" y="269"/>
                            </a:lnTo>
                            <a:lnTo>
                              <a:pt x="475" y="303"/>
                            </a:lnTo>
                            <a:lnTo>
                              <a:pt x="483" y="313"/>
                            </a:lnTo>
                            <a:lnTo>
                              <a:pt x="490" y="322"/>
                            </a:lnTo>
                            <a:lnTo>
                              <a:pt x="492" y="330"/>
                            </a:lnTo>
                            <a:lnTo>
                              <a:pt x="488" y="337"/>
                            </a:lnTo>
                            <a:lnTo>
                              <a:pt x="480" y="342"/>
                            </a:lnTo>
                            <a:lnTo>
                              <a:pt x="464" y="347"/>
                            </a:lnTo>
                            <a:lnTo>
                              <a:pt x="458" y="353"/>
                            </a:lnTo>
                            <a:lnTo>
                              <a:pt x="464" y="367"/>
                            </a:lnTo>
                            <a:lnTo>
                              <a:pt x="462" y="375"/>
                            </a:lnTo>
                            <a:lnTo>
                              <a:pt x="456" y="382"/>
                            </a:lnTo>
                            <a:lnTo>
                              <a:pt x="443" y="389"/>
                            </a:lnTo>
                            <a:lnTo>
                              <a:pt x="425" y="397"/>
                            </a:lnTo>
                            <a:lnTo>
                              <a:pt x="414" y="401"/>
                            </a:lnTo>
                            <a:lnTo>
                              <a:pt x="453" y="410"/>
                            </a:lnTo>
                            <a:lnTo>
                              <a:pt x="458" y="417"/>
                            </a:lnTo>
                            <a:lnTo>
                              <a:pt x="448" y="433"/>
                            </a:lnTo>
                            <a:lnTo>
                              <a:pt x="447" y="454"/>
                            </a:lnTo>
                            <a:lnTo>
                              <a:pt x="447" y="484"/>
                            </a:lnTo>
                            <a:lnTo>
                              <a:pt x="447" y="496"/>
                            </a:lnTo>
                            <a:lnTo>
                              <a:pt x="442" y="505"/>
                            </a:lnTo>
                            <a:lnTo>
                              <a:pt x="431" y="514"/>
                            </a:lnTo>
                            <a:lnTo>
                              <a:pt x="414" y="518"/>
                            </a:lnTo>
                            <a:lnTo>
                              <a:pt x="396" y="523"/>
                            </a:lnTo>
                            <a:lnTo>
                              <a:pt x="354" y="530"/>
                            </a:lnTo>
                            <a:lnTo>
                              <a:pt x="330" y="536"/>
                            </a:lnTo>
                            <a:lnTo>
                              <a:pt x="312" y="543"/>
                            </a:lnTo>
                            <a:lnTo>
                              <a:pt x="298" y="553"/>
                            </a:lnTo>
                            <a:lnTo>
                              <a:pt x="253" y="615"/>
                            </a:lnTo>
                            <a:lnTo>
                              <a:pt x="320" y="754"/>
                            </a:lnTo>
                            <a:lnTo>
                              <a:pt x="281" y="765"/>
                            </a:lnTo>
                            <a:lnTo>
                              <a:pt x="221" y="777"/>
                            </a:lnTo>
                            <a:lnTo>
                              <a:pt x="169" y="774"/>
                            </a:lnTo>
                            <a:lnTo>
                              <a:pt x="139" y="758"/>
                            </a:lnTo>
                            <a:lnTo>
                              <a:pt x="68" y="545"/>
                            </a:lnTo>
                            <a:lnTo>
                              <a:pt x="68" y="474"/>
                            </a:lnTo>
                            <a:lnTo>
                              <a:pt x="47" y="436"/>
                            </a:lnTo>
                            <a:lnTo>
                              <a:pt x="22" y="387"/>
                            </a:lnTo>
                            <a:lnTo>
                              <a:pt x="11" y="359"/>
                            </a:lnTo>
                            <a:lnTo>
                              <a:pt x="4" y="321"/>
                            </a:lnTo>
                            <a:lnTo>
                              <a:pt x="0" y="280"/>
                            </a:lnTo>
                            <a:lnTo>
                              <a:pt x="0" y="231"/>
                            </a:lnTo>
                            <a:lnTo>
                              <a:pt x="6" y="185"/>
                            </a:lnTo>
                            <a:lnTo>
                              <a:pt x="14" y="145"/>
                            </a:lnTo>
                            <a:lnTo>
                              <a:pt x="28" y="111"/>
                            </a:lnTo>
                            <a:lnTo>
                              <a:pt x="44" y="78"/>
                            </a:lnTo>
                            <a:lnTo>
                              <a:pt x="68" y="47"/>
                            </a:lnTo>
                            <a:lnTo>
                              <a:pt x="102" y="23"/>
                            </a:lnTo>
                            <a:lnTo>
                              <a:pt x="139" y="9"/>
                            </a:lnTo>
                            <a:lnTo>
                              <a:pt x="181" y="2"/>
                            </a:lnTo>
                            <a:lnTo>
                              <a:pt x="219" y="0"/>
                            </a:lnTo>
                            <a:lnTo>
                              <a:pt x="269" y="3"/>
                            </a:lnTo>
                            <a:lnTo>
                              <a:pt x="318" y="14"/>
                            </a:lnTo>
                            <a:close/>
                          </a:path>
                        </a:pathLst>
                      </a:custGeom>
                      <a:solidFill>
                        <a:srgbClr val="ffb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409" name=""/>
                      <p:cNvGrpSpPr/>
                      <p:nvPr/>
                    </p:nvGrpSpPr>
                    <p:grpSpPr>
                      <a:xfrm>
                        <a:off x="7620120" y="3463200"/>
                        <a:ext cx="156960" cy="147240"/>
                        <a:chOff x="7620120" y="3463200"/>
                        <a:chExt cx="156960" cy="147240"/>
                      </a:xfrm>
                    </p:grpSpPr>
                    <p:sp>
                      <p:nvSpPr>
                        <p:cNvPr id="1410" name=""/>
                        <p:cNvSpPr/>
                        <p:nvPr/>
                      </p:nvSpPr>
                      <p:spPr>
                        <a:xfrm>
                          <a:off x="7622280" y="3463200"/>
                          <a:ext cx="154800" cy="52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6" h="102">
                              <a:moveTo>
                                <a:pt x="0" y="0"/>
                              </a:moveTo>
                              <a:lnTo>
                                <a:pt x="33" y="14"/>
                              </a:lnTo>
                              <a:lnTo>
                                <a:pt x="67" y="25"/>
                              </a:lnTo>
                              <a:lnTo>
                                <a:pt x="92" y="32"/>
                              </a:lnTo>
                              <a:lnTo>
                                <a:pt x="125" y="41"/>
                              </a:lnTo>
                              <a:lnTo>
                                <a:pt x="147" y="45"/>
                              </a:lnTo>
                              <a:lnTo>
                                <a:pt x="178" y="50"/>
                              </a:lnTo>
                              <a:lnTo>
                                <a:pt x="201" y="50"/>
                              </a:lnTo>
                              <a:lnTo>
                                <a:pt x="226" y="50"/>
                              </a:lnTo>
                              <a:lnTo>
                                <a:pt x="202" y="59"/>
                              </a:lnTo>
                              <a:lnTo>
                                <a:pt x="168" y="66"/>
                              </a:lnTo>
                              <a:lnTo>
                                <a:pt x="141" y="72"/>
                              </a:lnTo>
                              <a:lnTo>
                                <a:pt x="119" y="78"/>
                              </a:lnTo>
                              <a:lnTo>
                                <a:pt x="97" y="85"/>
                              </a:lnTo>
                              <a:lnTo>
                                <a:pt x="84" y="91"/>
                              </a:lnTo>
                              <a:lnTo>
                                <a:pt x="69" y="102"/>
                              </a:lnTo>
                              <a:lnTo>
                                <a:pt x="83" y="86"/>
                              </a:lnTo>
                              <a:lnTo>
                                <a:pt x="95" y="75"/>
                              </a:lnTo>
                              <a:lnTo>
                                <a:pt x="98" y="65"/>
                              </a:lnTo>
                              <a:lnTo>
                                <a:pt x="98" y="57"/>
                              </a:lnTo>
                              <a:lnTo>
                                <a:pt x="95" y="49"/>
                              </a:lnTo>
                              <a:lnTo>
                                <a:pt x="85" y="44"/>
                              </a:lnTo>
                              <a:lnTo>
                                <a:pt x="74" y="41"/>
                              </a:lnTo>
                              <a:lnTo>
                                <a:pt x="55" y="38"/>
                              </a:lnTo>
                              <a:lnTo>
                                <a:pt x="38" y="36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760" bIns="57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1" name=""/>
                        <p:cNvSpPr/>
                        <p:nvPr/>
                      </p:nvSpPr>
                      <p:spPr>
                        <a:xfrm>
                          <a:off x="7620120" y="3537360"/>
                          <a:ext cx="36720" cy="7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6" h="142">
                              <a:moveTo>
                                <a:pt x="32" y="16"/>
                              </a:moveTo>
                              <a:lnTo>
                                <a:pt x="32" y="6"/>
                              </a:lnTo>
                              <a:lnTo>
                                <a:pt x="28" y="1"/>
                              </a:lnTo>
                              <a:lnTo>
                                <a:pt x="20" y="0"/>
                              </a:lnTo>
                              <a:lnTo>
                                <a:pt x="11" y="5"/>
                              </a:lnTo>
                              <a:lnTo>
                                <a:pt x="5" y="13"/>
                              </a:lnTo>
                              <a:lnTo>
                                <a:pt x="0" y="23"/>
                              </a:lnTo>
                              <a:lnTo>
                                <a:pt x="0" y="38"/>
                              </a:lnTo>
                              <a:lnTo>
                                <a:pt x="2" y="81"/>
                              </a:lnTo>
                              <a:lnTo>
                                <a:pt x="5" y="99"/>
                              </a:lnTo>
                              <a:lnTo>
                                <a:pt x="10" y="108"/>
                              </a:lnTo>
                              <a:lnTo>
                                <a:pt x="47" y="142"/>
                              </a:lnTo>
                              <a:lnTo>
                                <a:pt x="56" y="108"/>
                              </a:lnTo>
                              <a:lnTo>
                                <a:pt x="39" y="84"/>
                              </a:lnTo>
                              <a:lnTo>
                                <a:pt x="42" y="101"/>
                              </a:lnTo>
                              <a:lnTo>
                                <a:pt x="43" y="115"/>
                              </a:lnTo>
                              <a:lnTo>
                                <a:pt x="42" y="120"/>
                              </a:lnTo>
                              <a:lnTo>
                                <a:pt x="14" y="89"/>
                              </a:lnTo>
                              <a:lnTo>
                                <a:pt x="13" y="77"/>
                              </a:lnTo>
                              <a:lnTo>
                                <a:pt x="10" y="61"/>
                              </a:lnTo>
                              <a:lnTo>
                                <a:pt x="16" y="42"/>
                              </a:lnTo>
                              <a:lnTo>
                                <a:pt x="24" y="27"/>
                              </a:lnTo>
                              <a:lnTo>
                                <a:pt x="32" y="1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280" bIns="26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412" name=""/>
                    <p:cNvSpPr/>
                    <p:nvPr/>
                  </p:nvSpPr>
                  <p:spPr>
                    <a:xfrm>
                      <a:off x="7716240" y="3355920"/>
                      <a:ext cx="2484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9">
                          <a:moveTo>
                            <a:pt x="32" y="0"/>
                          </a:moveTo>
                          <a:lnTo>
                            <a:pt x="17" y="6"/>
                          </a:lnTo>
                          <a:lnTo>
                            <a:pt x="0" y="17"/>
                          </a:lnTo>
                          <a:lnTo>
                            <a:pt x="12" y="26"/>
                          </a:lnTo>
                          <a:lnTo>
                            <a:pt x="30" y="29"/>
                          </a:lnTo>
                          <a:lnTo>
                            <a:pt x="36" y="28"/>
                          </a:lnTo>
                          <a:lnTo>
                            <a:pt x="32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3" name=""/>
                    <p:cNvSpPr/>
                    <p:nvPr/>
                  </p:nvSpPr>
                  <p:spPr>
                    <a:xfrm>
                      <a:off x="7705800" y="3324960"/>
                      <a:ext cx="4356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53">
                          <a:moveTo>
                            <a:pt x="64" y="0"/>
                          </a:moveTo>
                          <a:lnTo>
                            <a:pt x="49" y="3"/>
                          </a:lnTo>
                          <a:lnTo>
                            <a:pt x="38" y="14"/>
                          </a:lnTo>
                          <a:lnTo>
                            <a:pt x="28" y="27"/>
                          </a:lnTo>
                          <a:lnTo>
                            <a:pt x="19" y="39"/>
                          </a:lnTo>
                          <a:lnTo>
                            <a:pt x="0" y="53"/>
                          </a:lnTo>
                          <a:lnTo>
                            <a:pt x="22" y="46"/>
                          </a:lnTo>
                          <a:lnTo>
                            <a:pt x="37" y="35"/>
                          </a:lnTo>
                          <a:lnTo>
                            <a:pt x="49" y="25"/>
                          </a:lnTo>
                          <a:lnTo>
                            <a:pt x="60" y="21"/>
                          </a:lnTo>
                          <a:lnTo>
                            <a:pt x="64" y="0"/>
                          </a:lnTo>
                          <a:close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414" name=""/>
                    <p:cNvGrpSpPr/>
                    <p:nvPr/>
                  </p:nvGrpSpPr>
                  <p:grpSpPr>
                    <a:xfrm>
                      <a:off x="7711920" y="3342240"/>
                      <a:ext cx="30600" cy="29520"/>
                      <a:chOff x="7711920" y="3342240"/>
                      <a:chExt cx="30600" cy="29520"/>
                    </a:xfrm>
                  </p:grpSpPr>
                  <p:sp>
                    <p:nvSpPr>
                      <p:cNvPr id="1415" name=""/>
                      <p:cNvSpPr/>
                      <p:nvPr/>
                    </p:nvSpPr>
                    <p:spPr>
                      <a:xfrm>
                        <a:off x="7724520" y="3357360"/>
                        <a:ext cx="13680" cy="12240"/>
                      </a:xfrm>
                      <a:prstGeom prst="ellipse">
                        <a:avLst/>
                      </a:prstGeom>
                      <a:solidFill>
                        <a:srgbClr val="5f7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16" name=""/>
                      <p:cNvSpPr/>
                      <p:nvPr/>
                    </p:nvSpPr>
                    <p:spPr>
                      <a:xfrm>
                        <a:off x="7711920" y="3342240"/>
                        <a:ext cx="30600" cy="29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57">
                            <a:moveTo>
                              <a:pt x="38" y="14"/>
                            </a:moveTo>
                            <a:lnTo>
                              <a:pt x="26" y="25"/>
                            </a:lnTo>
                            <a:lnTo>
                              <a:pt x="30" y="0"/>
                            </a:lnTo>
                            <a:lnTo>
                              <a:pt x="20" y="25"/>
                            </a:lnTo>
                            <a:lnTo>
                              <a:pt x="12" y="35"/>
                            </a:lnTo>
                            <a:lnTo>
                              <a:pt x="0" y="44"/>
                            </a:lnTo>
                            <a:lnTo>
                              <a:pt x="15" y="54"/>
                            </a:lnTo>
                            <a:lnTo>
                              <a:pt x="16" y="54"/>
                            </a:lnTo>
                            <a:lnTo>
                              <a:pt x="26" y="57"/>
                            </a:lnTo>
                            <a:lnTo>
                              <a:pt x="39" y="57"/>
                            </a:lnTo>
                            <a:lnTo>
                              <a:pt x="37" y="48"/>
                            </a:lnTo>
                            <a:lnTo>
                              <a:pt x="26" y="51"/>
                            </a:lnTo>
                            <a:lnTo>
                              <a:pt x="15" y="46"/>
                            </a:lnTo>
                            <a:lnTo>
                              <a:pt x="6" y="42"/>
                            </a:lnTo>
                            <a:lnTo>
                              <a:pt x="15" y="38"/>
                            </a:lnTo>
                            <a:lnTo>
                              <a:pt x="30" y="32"/>
                            </a:lnTo>
                            <a:lnTo>
                              <a:pt x="44" y="25"/>
                            </a:lnTo>
                            <a:lnTo>
                              <a:pt x="38" y="14"/>
                            </a:lnTo>
                            <a:close/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280" bIns="-17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17" name=""/>
                    <p:cNvSpPr/>
                    <p:nvPr/>
                  </p:nvSpPr>
                  <p:spPr>
                    <a:xfrm>
                      <a:off x="7376040" y="3200400"/>
                      <a:ext cx="412560" cy="35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7" h="674">
                          <a:moveTo>
                            <a:pt x="579" y="199"/>
                          </a:moveTo>
                          <a:lnTo>
                            <a:pt x="586" y="192"/>
                          </a:lnTo>
                          <a:lnTo>
                            <a:pt x="594" y="183"/>
                          </a:lnTo>
                          <a:lnTo>
                            <a:pt x="597" y="162"/>
                          </a:lnTo>
                          <a:lnTo>
                            <a:pt x="597" y="123"/>
                          </a:lnTo>
                          <a:lnTo>
                            <a:pt x="586" y="91"/>
                          </a:lnTo>
                          <a:lnTo>
                            <a:pt x="571" y="74"/>
                          </a:lnTo>
                          <a:lnTo>
                            <a:pt x="549" y="52"/>
                          </a:lnTo>
                          <a:lnTo>
                            <a:pt x="504" y="45"/>
                          </a:lnTo>
                          <a:lnTo>
                            <a:pt x="439" y="35"/>
                          </a:lnTo>
                          <a:lnTo>
                            <a:pt x="380" y="21"/>
                          </a:lnTo>
                          <a:lnTo>
                            <a:pt x="333" y="10"/>
                          </a:lnTo>
                          <a:lnTo>
                            <a:pt x="274" y="0"/>
                          </a:lnTo>
                          <a:lnTo>
                            <a:pt x="245" y="10"/>
                          </a:lnTo>
                          <a:lnTo>
                            <a:pt x="212" y="35"/>
                          </a:lnTo>
                          <a:lnTo>
                            <a:pt x="183" y="63"/>
                          </a:lnTo>
                          <a:lnTo>
                            <a:pt x="161" y="95"/>
                          </a:lnTo>
                          <a:lnTo>
                            <a:pt x="135" y="144"/>
                          </a:lnTo>
                          <a:lnTo>
                            <a:pt x="121" y="190"/>
                          </a:lnTo>
                          <a:lnTo>
                            <a:pt x="114" y="236"/>
                          </a:lnTo>
                          <a:lnTo>
                            <a:pt x="103" y="288"/>
                          </a:lnTo>
                          <a:lnTo>
                            <a:pt x="103" y="334"/>
                          </a:lnTo>
                          <a:lnTo>
                            <a:pt x="88" y="387"/>
                          </a:lnTo>
                          <a:lnTo>
                            <a:pt x="70" y="434"/>
                          </a:lnTo>
                          <a:lnTo>
                            <a:pt x="48" y="466"/>
                          </a:lnTo>
                          <a:lnTo>
                            <a:pt x="26" y="487"/>
                          </a:lnTo>
                          <a:lnTo>
                            <a:pt x="4" y="512"/>
                          </a:lnTo>
                          <a:lnTo>
                            <a:pt x="4" y="519"/>
                          </a:lnTo>
                          <a:lnTo>
                            <a:pt x="0" y="540"/>
                          </a:lnTo>
                          <a:lnTo>
                            <a:pt x="0" y="575"/>
                          </a:lnTo>
                          <a:lnTo>
                            <a:pt x="11" y="603"/>
                          </a:lnTo>
                          <a:lnTo>
                            <a:pt x="30" y="621"/>
                          </a:lnTo>
                          <a:lnTo>
                            <a:pt x="88" y="621"/>
                          </a:lnTo>
                          <a:lnTo>
                            <a:pt x="135" y="628"/>
                          </a:lnTo>
                          <a:lnTo>
                            <a:pt x="183" y="660"/>
                          </a:lnTo>
                          <a:lnTo>
                            <a:pt x="234" y="674"/>
                          </a:lnTo>
                          <a:lnTo>
                            <a:pt x="278" y="674"/>
                          </a:lnTo>
                          <a:lnTo>
                            <a:pt x="314" y="652"/>
                          </a:lnTo>
                          <a:lnTo>
                            <a:pt x="329" y="621"/>
                          </a:lnTo>
                          <a:lnTo>
                            <a:pt x="325" y="578"/>
                          </a:lnTo>
                          <a:lnTo>
                            <a:pt x="307" y="547"/>
                          </a:lnTo>
                          <a:lnTo>
                            <a:pt x="303" y="515"/>
                          </a:lnTo>
                          <a:lnTo>
                            <a:pt x="307" y="483"/>
                          </a:lnTo>
                          <a:lnTo>
                            <a:pt x="336" y="455"/>
                          </a:lnTo>
                          <a:lnTo>
                            <a:pt x="369" y="445"/>
                          </a:lnTo>
                          <a:lnTo>
                            <a:pt x="391" y="427"/>
                          </a:lnTo>
                          <a:lnTo>
                            <a:pt x="409" y="399"/>
                          </a:lnTo>
                          <a:lnTo>
                            <a:pt x="413" y="352"/>
                          </a:lnTo>
                          <a:lnTo>
                            <a:pt x="413" y="331"/>
                          </a:lnTo>
                          <a:lnTo>
                            <a:pt x="439" y="324"/>
                          </a:lnTo>
                          <a:lnTo>
                            <a:pt x="464" y="303"/>
                          </a:lnTo>
                          <a:lnTo>
                            <a:pt x="479" y="267"/>
                          </a:lnTo>
                          <a:lnTo>
                            <a:pt x="493" y="218"/>
                          </a:lnTo>
                          <a:lnTo>
                            <a:pt x="486" y="158"/>
                          </a:lnTo>
                          <a:lnTo>
                            <a:pt x="475" y="123"/>
                          </a:lnTo>
                          <a:lnTo>
                            <a:pt x="442" y="98"/>
                          </a:lnTo>
                          <a:lnTo>
                            <a:pt x="519" y="123"/>
                          </a:lnTo>
                          <a:lnTo>
                            <a:pt x="546" y="162"/>
                          </a:lnTo>
                          <a:lnTo>
                            <a:pt x="574" y="185"/>
                          </a:lnTo>
                          <a:lnTo>
                            <a:pt x="579" y="199"/>
                          </a:lnTo>
                          <a:close/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8" name=""/>
                  <p:cNvGrpSpPr/>
                  <p:nvPr/>
                </p:nvGrpSpPr>
                <p:grpSpPr>
                  <a:xfrm>
                    <a:off x="7676640" y="3317040"/>
                    <a:ext cx="105480" cy="82440"/>
                    <a:chOff x="7676640" y="3317040"/>
                    <a:chExt cx="105480" cy="82440"/>
                  </a:xfrm>
                </p:grpSpPr>
                <p:sp>
                  <p:nvSpPr>
                    <p:cNvPr id="1419" name=""/>
                    <p:cNvSpPr/>
                    <p:nvPr/>
                  </p:nvSpPr>
                  <p:spPr>
                    <a:xfrm flipV="1">
                      <a:off x="7773840" y="3350880"/>
                      <a:ext cx="8280" cy="1440"/>
                    </a:xfrm>
                    <a:prstGeom prst="line">
                      <a:avLst/>
                    </a:prstGeom>
                    <a:ln w="3240">
                      <a:solidFill>
                        <a:srgbClr val="7f3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420" name=""/>
                    <p:cNvGrpSpPr/>
                    <p:nvPr/>
                  </p:nvGrpSpPr>
                  <p:grpSpPr>
                    <a:xfrm>
                      <a:off x="7676640" y="3317040"/>
                      <a:ext cx="96840" cy="82440"/>
                      <a:chOff x="7676640" y="3317040"/>
                      <a:chExt cx="96840" cy="82440"/>
                    </a:xfrm>
                  </p:grpSpPr>
                  <p:sp>
                    <p:nvSpPr>
                      <p:cNvPr id="1421" name=""/>
                      <p:cNvSpPr/>
                      <p:nvPr/>
                    </p:nvSpPr>
                    <p:spPr>
                      <a:xfrm>
                        <a:off x="7676640" y="3363480"/>
                        <a:ext cx="68400" cy="29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" h="57">
                            <a:moveTo>
                              <a:pt x="12" y="0"/>
                            </a:moveTo>
                            <a:lnTo>
                              <a:pt x="30" y="16"/>
                            </a:lnTo>
                            <a:lnTo>
                              <a:pt x="45" y="25"/>
                            </a:lnTo>
                            <a:lnTo>
                              <a:pt x="56" y="31"/>
                            </a:lnTo>
                            <a:lnTo>
                              <a:pt x="71" y="37"/>
                            </a:lnTo>
                            <a:lnTo>
                              <a:pt x="84" y="39"/>
                            </a:lnTo>
                            <a:lnTo>
                              <a:pt x="95" y="37"/>
                            </a:lnTo>
                            <a:lnTo>
                              <a:pt x="99" y="57"/>
                            </a:lnTo>
                            <a:lnTo>
                              <a:pt x="83" y="57"/>
                            </a:lnTo>
                            <a:lnTo>
                              <a:pt x="71" y="56"/>
                            </a:lnTo>
                            <a:lnTo>
                              <a:pt x="55" y="49"/>
                            </a:lnTo>
                            <a:lnTo>
                              <a:pt x="40" y="38"/>
                            </a:lnTo>
                            <a:lnTo>
                              <a:pt x="27" y="29"/>
                            </a:lnTo>
                            <a:lnTo>
                              <a:pt x="0" y="5"/>
                            </a:lnTo>
                            <a:lnTo>
                              <a:pt x="12" y="0"/>
                            </a:lnTo>
                            <a:close/>
                          </a:path>
                        </a:pathLst>
                      </a:cu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280" bIns="-17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22" name=""/>
                      <p:cNvSpPr/>
                      <p:nvPr/>
                    </p:nvSpPr>
                    <p:spPr>
                      <a:xfrm>
                        <a:off x="7734600" y="3317040"/>
                        <a:ext cx="38880" cy="82440"/>
                      </a:xfrm>
                      <a:prstGeom prst="ellipse">
                        <a:avLst/>
                      </a:pr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880" bIns="11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23" name=""/>
                      <p:cNvSpPr/>
                      <p:nvPr/>
                    </p:nvSpPr>
                    <p:spPr>
                      <a:xfrm>
                        <a:off x="7738200" y="3319920"/>
                        <a:ext cx="34920" cy="77760"/>
                      </a:xfrm>
                      <a:prstGeom prst="ellipse">
                        <a:avLst/>
                      </a:prstGeom>
                      <a:solidFill>
                        <a:srgbClr val="ffd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1424" name=""/>
              <p:cNvSpPr/>
              <p:nvPr/>
            </p:nvSpPr>
            <p:spPr>
              <a:xfrm rot="2485800">
                <a:off x="6552720" y="2742840"/>
                <a:ext cx="860400" cy="353880"/>
              </a:xfrm>
              <a:prstGeom prst="rightArrow">
                <a:avLst>
                  <a:gd name="adj1" fmla="val 50000"/>
                  <a:gd name="adj2" fmla="val 60783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5" name=""/>
            <p:cNvGrpSpPr/>
            <p:nvPr/>
          </p:nvGrpSpPr>
          <p:grpSpPr>
            <a:xfrm>
              <a:off x="6611760" y="4026960"/>
              <a:ext cx="1497600" cy="1535400"/>
              <a:chOff x="6611760" y="4026960"/>
              <a:chExt cx="1497600" cy="1535400"/>
            </a:xfrm>
          </p:grpSpPr>
          <p:grpSp>
            <p:nvGrpSpPr>
              <p:cNvPr id="1426" name=""/>
              <p:cNvGrpSpPr/>
              <p:nvPr/>
            </p:nvGrpSpPr>
            <p:grpSpPr>
              <a:xfrm>
                <a:off x="6611760" y="4775040"/>
                <a:ext cx="1351080" cy="787320"/>
                <a:chOff x="6611760" y="4775040"/>
                <a:chExt cx="1351080" cy="787320"/>
              </a:xfrm>
            </p:grpSpPr>
            <p:sp>
              <p:nvSpPr>
                <p:cNvPr id="1427" name=""/>
                <p:cNvSpPr/>
                <p:nvPr/>
              </p:nvSpPr>
              <p:spPr>
                <a:xfrm>
                  <a:off x="6611760" y="4775040"/>
                  <a:ext cx="1351080" cy="787320"/>
                </a:xfrm>
                <a:prstGeom prst="ellipse">
                  <a:avLst/>
                </a:prstGeom>
                <a:solidFill>
                  <a:srgbClr val="d6d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28" name=""/>
                <p:cNvGrpSpPr/>
                <p:nvPr/>
              </p:nvGrpSpPr>
              <p:grpSpPr>
                <a:xfrm>
                  <a:off x="6824520" y="4948200"/>
                  <a:ext cx="408960" cy="394920"/>
                  <a:chOff x="6824520" y="4948200"/>
                  <a:chExt cx="408960" cy="394920"/>
                </a:xfrm>
              </p:grpSpPr>
              <p:grpSp>
                <p:nvGrpSpPr>
                  <p:cNvPr id="1429" name=""/>
                  <p:cNvGrpSpPr/>
                  <p:nvPr/>
                </p:nvGrpSpPr>
                <p:grpSpPr>
                  <a:xfrm>
                    <a:off x="7171200" y="5223960"/>
                    <a:ext cx="62280" cy="56160"/>
                    <a:chOff x="7171200" y="5223960"/>
                    <a:chExt cx="62280" cy="56160"/>
                  </a:xfrm>
                </p:grpSpPr>
                <p:sp>
                  <p:nvSpPr>
                    <p:cNvPr id="1430" name=""/>
                    <p:cNvSpPr/>
                    <p:nvPr/>
                  </p:nvSpPr>
                  <p:spPr>
                    <a:xfrm>
                      <a:off x="7171200" y="5223960"/>
                      <a:ext cx="6156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4" h="214">
                          <a:moveTo>
                            <a:pt x="35" y="33"/>
                          </a:moveTo>
                          <a:lnTo>
                            <a:pt x="66" y="5"/>
                          </a:lnTo>
                          <a:lnTo>
                            <a:pt x="85" y="0"/>
                          </a:lnTo>
                          <a:lnTo>
                            <a:pt x="122" y="5"/>
                          </a:lnTo>
                          <a:lnTo>
                            <a:pt x="161" y="11"/>
                          </a:lnTo>
                          <a:lnTo>
                            <a:pt x="187" y="16"/>
                          </a:lnTo>
                          <a:lnTo>
                            <a:pt x="195" y="22"/>
                          </a:lnTo>
                          <a:lnTo>
                            <a:pt x="200" y="35"/>
                          </a:lnTo>
                          <a:lnTo>
                            <a:pt x="202" y="43"/>
                          </a:lnTo>
                          <a:lnTo>
                            <a:pt x="195" y="52"/>
                          </a:lnTo>
                          <a:lnTo>
                            <a:pt x="203" y="60"/>
                          </a:lnTo>
                          <a:lnTo>
                            <a:pt x="206" y="72"/>
                          </a:lnTo>
                          <a:lnTo>
                            <a:pt x="204" y="79"/>
                          </a:lnTo>
                          <a:lnTo>
                            <a:pt x="210" y="87"/>
                          </a:lnTo>
                          <a:lnTo>
                            <a:pt x="213" y="96"/>
                          </a:lnTo>
                          <a:lnTo>
                            <a:pt x="211" y="107"/>
                          </a:lnTo>
                          <a:lnTo>
                            <a:pt x="204" y="119"/>
                          </a:lnTo>
                          <a:lnTo>
                            <a:pt x="210" y="130"/>
                          </a:lnTo>
                          <a:lnTo>
                            <a:pt x="214" y="144"/>
                          </a:lnTo>
                          <a:lnTo>
                            <a:pt x="209" y="159"/>
                          </a:lnTo>
                          <a:lnTo>
                            <a:pt x="200" y="166"/>
                          </a:lnTo>
                          <a:lnTo>
                            <a:pt x="200" y="189"/>
                          </a:lnTo>
                          <a:lnTo>
                            <a:pt x="192" y="202"/>
                          </a:lnTo>
                          <a:lnTo>
                            <a:pt x="174" y="208"/>
                          </a:lnTo>
                          <a:lnTo>
                            <a:pt x="94" y="214"/>
                          </a:lnTo>
                          <a:lnTo>
                            <a:pt x="56" y="200"/>
                          </a:lnTo>
                          <a:lnTo>
                            <a:pt x="8" y="148"/>
                          </a:lnTo>
                          <a:lnTo>
                            <a:pt x="1" y="126"/>
                          </a:lnTo>
                          <a:lnTo>
                            <a:pt x="0" y="108"/>
                          </a:lnTo>
                          <a:lnTo>
                            <a:pt x="2" y="92"/>
                          </a:lnTo>
                          <a:lnTo>
                            <a:pt x="9" y="66"/>
                          </a:lnTo>
                          <a:lnTo>
                            <a:pt x="18" y="53"/>
                          </a:lnTo>
                          <a:lnTo>
                            <a:pt x="35" y="33"/>
                          </a:lnTo>
                          <a:close/>
                        </a:path>
                      </a:pathLst>
                    </a:custGeom>
                    <a:solidFill>
                      <a:srgbClr val="f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431" name=""/>
                    <p:cNvGrpSpPr/>
                    <p:nvPr/>
                  </p:nvGrpSpPr>
                  <p:grpSpPr>
                    <a:xfrm>
                      <a:off x="7186680" y="5230800"/>
                      <a:ext cx="46800" cy="48960"/>
                      <a:chOff x="7186680" y="5230800"/>
                      <a:chExt cx="46800" cy="48960"/>
                    </a:xfrm>
                  </p:grpSpPr>
                  <p:sp>
                    <p:nvSpPr>
                      <p:cNvPr id="1432" name=""/>
                      <p:cNvSpPr/>
                      <p:nvPr/>
                    </p:nvSpPr>
                    <p:spPr>
                      <a:xfrm>
                        <a:off x="7186680" y="5242320"/>
                        <a:ext cx="4680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2" h="144">
                            <a:moveTo>
                              <a:pt x="48" y="20"/>
                            </a:moveTo>
                            <a:lnTo>
                              <a:pt x="67" y="22"/>
                            </a:lnTo>
                            <a:lnTo>
                              <a:pt x="79" y="22"/>
                            </a:lnTo>
                            <a:lnTo>
                              <a:pt x="78" y="0"/>
                            </a:lnTo>
                            <a:lnTo>
                              <a:pt x="86" y="12"/>
                            </a:lnTo>
                            <a:lnTo>
                              <a:pt x="93" y="18"/>
                            </a:lnTo>
                            <a:lnTo>
                              <a:pt x="101" y="20"/>
                            </a:lnTo>
                            <a:lnTo>
                              <a:pt x="118" y="18"/>
                            </a:lnTo>
                            <a:lnTo>
                              <a:pt x="130" y="13"/>
                            </a:lnTo>
                            <a:lnTo>
                              <a:pt x="141" y="9"/>
                            </a:lnTo>
                            <a:lnTo>
                              <a:pt x="151" y="6"/>
                            </a:lnTo>
                            <a:lnTo>
                              <a:pt x="155" y="2"/>
                            </a:lnTo>
                            <a:lnTo>
                              <a:pt x="152" y="9"/>
                            </a:lnTo>
                            <a:lnTo>
                              <a:pt x="158" y="17"/>
                            </a:lnTo>
                            <a:lnTo>
                              <a:pt x="161" y="26"/>
                            </a:lnTo>
                            <a:lnTo>
                              <a:pt x="160" y="37"/>
                            </a:lnTo>
                            <a:lnTo>
                              <a:pt x="152" y="49"/>
                            </a:lnTo>
                            <a:lnTo>
                              <a:pt x="158" y="60"/>
                            </a:lnTo>
                            <a:lnTo>
                              <a:pt x="162" y="74"/>
                            </a:lnTo>
                            <a:lnTo>
                              <a:pt x="157" y="89"/>
                            </a:lnTo>
                            <a:lnTo>
                              <a:pt x="149" y="96"/>
                            </a:lnTo>
                            <a:lnTo>
                              <a:pt x="149" y="119"/>
                            </a:lnTo>
                            <a:lnTo>
                              <a:pt x="140" y="132"/>
                            </a:lnTo>
                            <a:lnTo>
                              <a:pt x="122" y="138"/>
                            </a:lnTo>
                            <a:lnTo>
                              <a:pt x="43" y="144"/>
                            </a:lnTo>
                            <a:lnTo>
                              <a:pt x="4" y="130"/>
                            </a:lnTo>
                            <a:lnTo>
                              <a:pt x="27" y="137"/>
                            </a:lnTo>
                            <a:lnTo>
                              <a:pt x="48" y="140"/>
                            </a:lnTo>
                            <a:lnTo>
                              <a:pt x="63" y="139"/>
                            </a:lnTo>
                            <a:lnTo>
                              <a:pt x="76" y="136"/>
                            </a:lnTo>
                            <a:lnTo>
                              <a:pt x="80" y="124"/>
                            </a:lnTo>
                            <a:lnTo>
                              <a:pt x="80" y="139"/>
                            </a:lnTo>
                            <a:lnTo>
                              <a:pt x="99" y="137"/>
                            </a:lnTo>
                            <a:lnTo>
                              <a:pt x="123" y="136"/>
                            </a:lnTo>
                            <a:lnTo>
                              <a:pt x="135" y="130"/>
                            </a:lnTo>
                            <a:lnTo>
                              <a:pt x="140" y="120"/>
                            </a:lnTo>
                            <a:lnTo>
                              <a:pt x="145" y="109"/>
                            </a:lnTo>
                            <a:lnTo>
                              <a:pt x="146" y="100"/>
                            </a:lnTo>
                            <a:lnTo>
                              <a:pt x="133" y="103"/>
                            </a:lnTo>
                            <a:lnTo>
                              <a:pt x="118" y="106"/>
                            </a:lnTo>
                            <a:lnTo>
                              <a:pt x="101" y="107"/>
                            </a:lnTo>
                            <a:lnTo>
                              <a:pt x="83" y="109"/>
                            </a:lnTo>
                            <a:lnTo>
                              <a:pt x="69" y="107"/>
                            </a:lnTo>
                            <a:lnTo>
                              <a:pt x="55" y="106"/>
                            </a:lnTo>
                            <a:lnTo>
                              <a:pt x="39" y="101"/>
                            </a:lnTo>
                            <a:lnTo>
                              <a:pt x="21" y="96"/>
                            </a:lnTo>
                            <a:lnTo>
                              <a:pt x="10" y="86"/>
                            </a:lnTo>
                            <a:lnTo>
                              <a:pt x="26" y="94"/>
                            </a:lnTo>
                            <a:lnTo>
                              <a:pt x="37" y="96"/>
                            </a:lnTo>
                            <a:lnTo>
                              <a:pt x="51" y="98"/>
                            </a:lnTo>
                            <a:lnTo>
                              <a:pt x="66" y="100"/>
                            </a:lnTo>
                            <a:lnTo>
                              <a:pt x="83" y="101"/>
                            </a:lnTo>
                            <a:lnTo>
                              <a:pt x="95" y="97"/>
                            </a:lnTo>
                            <a:lnTo>
                              <a:pt x="106" y="91"/>
                            </a:lnTo>
                            <a:lnTo>
                              <a:pt x="108" y="100"/>
                            </a:lnTo>
                            <a:lnTo>
                              <a:pt x="116" y="99"/>
                            </a:lnTo>
                            <a:lnTo>
                              <a:pt x="129" y="98"/>
                            </a:lnTo>
                            <a:lnTo>
                              <a:pt x="140" y="97"/>
                            </a:lnTo>
                            <a:lnTo>
                              <a:pt x="145" y="93"/>
                            </a:lnTo>
                            <a:lnTo>
                              <a:pt x="149" y="87"/>
                            </a:lnTo>
                            <a:lnTo>
                              <a:pt x="152" y="81"/>
                            </a:lnTo>
                            <a:lnTo>
                              <a:pt x="155" y="74"/>
                            </a:lnTo>
                            <a:lnTo>
                              <a:pt x="153" y="67"/>
                            </a:lnTo>
                            <a:lnTo>
                              <a:pt x="151" y="62"/>
                            </a:lnTo>
                            <a:lnTo>
                              <a:pt x="144" y="62"/>
                            </a:lnTo>
                            <a:lnTo>
                              <a:pt x="128" y="65"/>
                            </a:lnTo>
                            <a:lnTo>
                              <a:pt x="113" y="70"/>
                            </a:lnTo>
                            <a:lnTo>
                              <a:pt x="97" y="72"/>
                            </a:lnTo>
                            <a:lnTo>
                              <a:pt x="80" y="73"/>
                            </a:lnTo>
                            <a:lnTo>
                              <a:pt x="65" y="74"/>
                            </a:lnTo>
                            <a:lnTo>
                              <a:pt x="45" y="74"/>
                            </a:lnTo>
                            <a:lnTo>
                              <a:pt x="28" y="70"/>
                            </a:lnTo>
                            <a:lnTo>
                              <a:pt x="15" y="65"/>
                            </a:lnTo>
                            <a:lnTo>
                              <a:pt x="0" y="54"/>
                            </a:lnTo>
                            <a:lnTo>
                              <a:pt x="24" y="63"/>
                            </a:lnTo>
                            <a:lnTo>
                              <a:pt x="37" y="66"/>
                            </a:lnTo>
                            <a:lnTo>
                              <a:pt x="51" y="70"/>
                            </a:lnTo>
                            <a:lnTo>
                              <a:pt x="66" y="69"/>
                            </a:lnTo>
                            <a:lnTo>
                              <a:pt x="77" y="67"/>
                            </a:lnTo>
                            <a:lnTo>
                              <a:pt x="88" y="64"/>
                            </a:lnTo>
                            <a:lnTo>
                              <a:pt x="96" y="56"/>
                            </a:lnTo>
                            <a:lnTo>
                              <a:pt x="106" y="50"/>
                            </a:lnTo>
                            <a:lnTo>
                              <a:pt x="100" y="59"/>
                            </a:lnTo>
                            <a:lnTo>
                              <a:pt x="105" y="64"/>
                            </a:lnTo>
                            <a:lnTo>
                              <a:pt x="110" y="63"/>
                            </a:lnTo>
                            <a:lnTo>
                              <a:pt x="123" y="60"/>
                            </a:lnTo>
                            <a:lnTo>
                              <a:pt x="135" y="57"/>
                            </a:lnTo>
                            <a:lnTo>
                              <a:pt x="146" y="49"/>
                            </a:lnTo>
                            <a:lnTo>
                              <a:pt x="155" y="40"/>
                            </a:lnTo>
                            <a:lnTo>
                              <a:pt x="156" y="32"/>
                            </a:lnTo>
                            <a:lnTo>
                              <a:pt x="155" y="23"/>
                            </a:lnTo>
                            <a:lnTo>
                              <a:pt x="153" y="11"/>
                            </a:lnTo>
                            <a:lnTo>
                              <a:pt x="142" y="15"/>
                            </a:lnTo>
                            <a:lnTo>
                              <a:pt x="128" y="22"/>
                            </a:lnTo>
                            <a:lnTo>
                              <a:pt x="107" y="27"/>
                            </a:lnTo>
                            <a:lnTo>
                              <a:pt x="84" y="29"/>
                            </a:lnTo>
                            <a:lnTo>
                              <a:pt x="61" y="27"/>
                            </a:lnTo>
                            <a:lnTo>
                              <a:pt x="40" y="24"/>
                            </a:lnTo>
                            <a:lnTo>
                              <a:pt x="21" y="17"/>
                            </a:lnTo>
                            <a:lnTo>
                              <a:pt x="48" y="20"/>
                            </a:lnTo>
                            <a:close/>
                          </a:path>
                        </a:pathLst>
                      </a:custGeom>
                      <a:solidFill>
                        <a:srgbClr val="df9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33" name=""/>
                      <p:cNvSpPr/>
                      <p:nvPr/>
                    </p:nvSpPr>
                    <p:spPr>
                      <a:xfrm>
                        <a:off x="7188120" y="5230800"/>
                        <a:ext cx="3096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" h="18">
                            <a:moveTo>
                              <a:pt x="108" y="0"/>
                            </a:moveTo>
                            <a:lnTo>
                              <a:pt x="98" y="7"/>
                            </a:lnTo>
                            <a:lnTo>
                              <a:pt x="89" y="16"/>
                            </a:lnTo>
                            <a:lnTo>
                              <a:pt x="78" y="14"/>
                            </a:lnTo>
                            <a:lnTo>
                              <a:pt x="67" y="8"/>
                            </a:lnTo>
                            <a:lnTo>
                              <a:pt x="56" y="8"/>
                            </a:lnTo>
                            <a:lnTo>
                              <a:pt x="38" y="13"/>
                            </a:lnTo>
                            <a:lnTo>
                              <a:pt x="25" y="18"/>
                            </a:lnTo>
                            <a:lnTo>
                              <a:pt x="34" y="11"/>
                            </a:lnTo>
                            <a:lnTo>
                              <a:pt x="16" y="8"/>
                            </a:lnTo>
                            <a:lnTo>
                              <a:pt x="0" y="6"/>
                            </a:lnTo>
                            <a:lnTo>
                              <a:pt x="21" y="5"/>
                            </a:lnTo>
                            <a:lnTo>
                              <a:pt x="38" y="7"/>
                            </a:lnTo>
                            <a:lnTo>
                              <a:pt x="51" y="7"/>
                            </a:lnTo>
                            <a:lnTo>
                              <a:pt x="61" y="5"/>
                            </a:lnTo>
                            <a:lnTo>
                              <a:pt x="71" y="5"/>
                            </a:lnTo>
                            <a:lnTo>
                              <a:pt x="78" y="8"/>
                            </a:lnTo>
                            <a:lnTo>
                              <a:pt x="89" y="12"/>
                            </a:lnTo>
                            <a:lnTo>
                              <a:pt x="108" y="0"/>
                            </a:lnTo>
                            <a:close/>
                          </a:path>
                        </a:pathLst>
                      </a:custGeom>
                      <a:solidFill>
                        <a:srgbClr val="df9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434" name=""/>
                  <p:cNvGrpSpPr/>
                  <p:nvPr/>
                </p:nvGrpSpPr>
                <p:grpSpPr>
                  <a:xfrm>
                    <a:off x="6949080" y="5152680"/>
                    <a:ext cx="79560" cy="136440"/>
                    <a:chOff x="6949080" y="5152680"/>
                    <a:chExt cx="79560" cy="136440"/>
                  </a:xfrm>
                </p:grpSpPr>
                <p:sp>
                  <p:nvSpPr>
                    <p:cNvPr id="1435" name=""/>
                    <p:cNvSpPr/>
                    <p:nvPr/>
                  </p:nvSpPr>
                  <p:spPr>
                    <a:xfrm>
                      <a:off x="6949080" y="5152680"/>
                      <a:ext cx="7956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1" h="513">
                          <a:moveTo>
                            <a:pt x="0" y="0"/>
                          </a:moveTo>
                          <a:lnTo>
                            <a:pt x="26" y="14"/>
                          </a:lnTo>
                          <a:lnTo>
                            <a:pt x="56" y="23"/>
                          </a:lnTo>
                          <a:lnTo>
                            <a:pt x="91" y="30"/>
                          </a:lnTo>
                          <a:lnTo>
                            <a:pt x="129" y="37"/>
                          </a:lnTo>
                          <a:lnTo>
                            <a:pt x="154" y="35"/>
                          </a:lnTo>
                          <a:lnTo>
                            <a:pt x="183" y="28"/>
                          </a:lnTo>
                          <a:lnTo>
                            <a:pt x="208" y="20"/>
                          </a:lnTo>
                          <a:lnTo>
                            <a:pt x="235" y="3"/>
                          </a:lnTo>
                          <a:lnTo>
                            <a:pt x="263" y="125"/>
                          </a:lnTo>
                          <a:lnTo>
                            <a:pt x="267" y="203"/>
                          </a:lnTo>
                          <a:lnTo>
                            <a:pt x="271" y="238"/>
                          </a:lnTo>
                          <a:lnTo>
                            <a:pt x="271" y="305"/>
                          </a:lnTo>
                          <a:lnTo>
                            <a:pt x="267" y="361"/>
                          </a:lnTo>
                          <a:lnTo>
                            <a:pt x="259" y="430"/>
                          </a:lnTo>
                          <a:lnTo>
                            <a:pt x="246" y="492"/>
                          </a:lnTo>
                          <a:lnTo>
                            <a:pt x="67" y="513"/>
                          </a:lnTo>
                          <a:lnTo>
                            <a:pt x="41" y="289"/>
                          </a:lnTo>
                          <a:lnTo>
                            <a:pt x="22" y="13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6" name=""/>
                    <p:cNvSpPr/>
                    <p:nvPr/>
                  </p:nvSpPr>
                  <p:spPr>
                    <a:xfrm>
                      <a:off x="6960240" y="5186520"/>
                      <a:ext cx="66960" cy="10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3" h="390">
                          <a:moveTo>
                            <a:pt x="0" y="27"/>
                          </a:moveTo>
                          <a:lnTo>
                            <a:pt x="98" y="27"/>
                          </a:lnTo>
                          <a:lnTo>
                            <a:pt x="146" y="24"/>
                          </a:lnTo>
                          <a:lnTo>
                            <a:pt x="196" y="14"/>
                          </a:lnTo>
                          <a:lnTo>
                            <a:pt x="229" y="0"/>
                          </a:lnTo>
                          <a:lnTo>
                            <a:pt x="233" y="328"/>
                          </a:lnTo>
                          <a:lnTo>
                            <a:pt x="66" y="390"/>
                          </a:lnTo>
                          <a:lnTo>
                            <a:pt x="0" y="27"/>
                          </a:lnTo>
                          <a:close/>
                        </a:path>
                      </a:pathLst>
                    </a:custGeom>
                    <a:solidFill>
                      <a:srgbClr val="ffb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7" name=""/>
                  <p:cNvGrpSpPr/>
                  <p:nvPr/>
                </p:nvGrpSpPr>
                <p:grpSpPr>
                  <a:xfrm>
                    <a:off x="6996600" y="5118120"/>
                    <a:ext cx="158760" cy="169200"/>
                    <a:chOff x="6996600" y="5118120"/>
                    <a:chExt cx="158760" cy="169200"/>
                  </a:xfrm>
                </p:grpSpPr>
                <p:sp>
                  <p:nvSpPr>
                    <p:cNvPr id="1438" name=""/>
                    <p:cNvSpPr/>
                    <p:nvPr/>
                  </p:nvSpPr>
                  <p:spPr>
                    <a:xfrm>
                      <a:off x="6996600" y="5118120"/>
                      <a:ext cx="158760" cy="16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5" h="645">
                          <a:moveTo>
                            <a:pt x="22" y="0"/>
                          </a:moveTo>
                          <a:lnTo>
                            <a:pt x="55" y="14"/>
                          </a:lnTo>
                          <a:lnTo>
                            <a:pt x="91" y="53"/>
                          </a:lnTo>
                          <a:lnTo>
                            <a:pt x="224" y="99"/>
                          </a:lnTo>
                          <a:lnTo>
                            <a:pt x="260" y="120"/>
                          </a:lnTo>
                          <a:lnTo>
                            <a:pt x="300" y="190"/>
                          </a:lnTo>
                          <a:lnTo>
                            <a:pt x="300" y="236"/>
                          </a:lnTo>
                          <a:lnTo>
                            <a:pt x="308" y="271"/>
                          </a:lnTo>
                          <a:lnTo>
                            <a:pt x="330" y="331"/>
                          </a:lnTo>
                          <a:lnTo>
                            <a:pt x="392" y="434"/>
                          </a:lnTo>
                          <a:lnTo>
                            <a:pt x="436" y="504"/>
                          </a:lnTo>
                          <a:lnTo>
                            <a:pt x="483" y="564"/>
                          </a:lnTo>
                          <a:lnTo>
                            <a:pt x="545" y="634"/>
                          </a:lnTo>
                          <a:lnTo>
                            <a:pt x="29" y="645"/>
                          </a:lnTo>
                          <a:lnTo>
                            <a:pt x="62" y="578"/>
                          </a:lnTo>
                          <a:lnTo>
                            <a:pt x="76" y="529"/>
                          </a:lnTo>
                          <a:lnTo>
                            <a:pt x="84" y="441"/>
                          </a:lnTo>
                          <a:lnTo>
                            <a:pt x="80" y="293"/>
                          </a:lnTo>
                          <a:lnTo>
                            <a:pt x="66" y="183"/>
                          </a:lnTo>
                          <a:lnTo>
                            <a:pt x="44" y="106"/>
                          </a:lnTo>
                          <a:lnTo>
                            <a:pt x="0" y="35"/>
                          </a:lnTo>
                          <a:lnTo>
                            <a:pt x="22" y="0"/>
                          </a:lnTo>
                          <a:close/>
                        </a:path>
                      </a:pathLst>
                    </a:custGeom>
                    <a:solidFill>
                      <a:srgbClr val="f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9" name=""/>
                    <p:cNvSpPr/>
                    <p:nvPr/>
                  </p:nvSpPr>
                  <p:spPr>
                    <a:xfrm>
                      <a:off x="7035840" y="5139360"/>
                      <a:ext cx="34200" cy="8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" h="338">
                          <a:moveTo>
                            <a:pt x="0" y="0"/>
                          </a:moveTo>
                          <a:lnTo>
                            <a:pt x="44" y="32"/>
                          </a:lnTo>
                          <a:lnTo>
                            <a:pt x="67" y="67"/>
                          </a:lnTo>
                          <a:lnTo>
                            <a:pt x="82" y="102"/>
                          </a:lnTo>
                          <a:lnTo>
                            <a:pt x="95" y="141"/>
                          </a:lnTo>
                          <a:lnTo>
                            <a:pt x="110" y="187"/>
                          </a:lnTo>
                          <a:lnTo>
                            <a:pt x="117" y="236"/>
                          </a:lnTo>
                          <a:lnTo>
                            <a:pt x="117" y="300"/>
                          </a:lnTo>
                          <a:lnTo>
                            <a:pt x="110" y="338"/>
                          </a:lnTo>
                          <a:lnTo>
                            <a:pt x="99" y="264"/>
                          </a:lnTo>
                          <a:lnTo>
                            <a:pt x="89" y="220"/>
                          </a:lnTo>
                          <a:lnTo>
                            <a:pt x="73" y="194"/>
                          </a:lnTo>
                          <a:lnTo>
                            <a:pt x="53" y="181"/>
                          </a:lnTo>
                          <a:lnTo>
                            <a:pt x="64" y="155"/>
                          </a:lnTo>
                          <a:lnTo>
                            <a:pt x="67" y="114"/>
                          </a:lnTo>
                          <a:lnTo>
                            <a:pt x="51" y="78"/>
                          </a:lnTo>
                          <a:lnTo>
                            <a:pt x="30" y="3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df3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120" bIns="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0" name=""/>
                  <p:cNvSpPr/>
                  <p:nvPr/>
                </p:nvSpPr>
                <p:spPr>
                  <a:xfrm>
                    <a:off x="6981840" y="5263920"/>
                    <a:ext cx="478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25">
                        <a:moveTo>
                          <a:pt x="135" y="21"/>
                        </a:moveTo>
                        <a:lnTo>
                          <a:pt x="110" y="0"/>
                        </a:lnTo>
                        <a:lnTo>
                          <a:pt x="72" y="9"/>
                        </a:lnTo>
                        <a:lnTo>
                          <a:pt x="40" y="21"/>
                        </a:lnTo>
                        <a:lnTo>
                          <a:pt x="7" y="34"/>
                        </a:lnTo>
                        <a:lnTo>
                          <a:pt x="0" y="45"/>
                        </a:lnTo>
                        <a:lnTo>
                          <a:pt x="18" y="62"/>
                        </a:lnTo>
                        <a:lnTo>
                          <a:pt x="24" y="83"/>
                        </a:lnTo>
                        <a:lnTo>
                          <a:pt x="39" y="98"/>
                        </a:lnTo>
                        <a:lnTo>
                          <a:pt x="54" y="108"/>
                        </a:lnTo>
                        <a:lnTo>
                          <a:pt x="76" y="115"/>
                        </a:lnTo>
                        <a:lnTo>
                          <a:pt x="91" y="125"/>
                        </a:lnTo>
                        <a:lnTo>
                          <a:pt x="117" y="125"/>
                        </a:lnTo>
                        <a:lnTo>
                          <a:pt x="130" y="125"/>
                        </a:lnTo>
                        <a:lnTo>
                          <a:pt x="139" y="115"/>
                        </a:lnTo>
                        <a:lnTo>
                          <a:pt x="138" y="97"/>
                        </a:lnTo>
                        <a:lnTo>
                          <a:pt x="160" y="98"/>
                        </a:lnTo>
                        <a:lnTo>
                          <a:pt x="135" y="90"/>
                        </a:lnTo>
                        <a:lnTo>
                          <a:pt x="130" y="69"/>
                        </a:lnTo>
                        <a:lnTo>
                          <a:pt x="132" y="55"/>
                        </a:lnTo>
                        <a:lnTo>
                          <a:pt x="130" y="44"/>
                        </a:lnTo>
                        <a:lnTo>
                          <a:pt x="135" y="21"/>
                        </a:lnTo>
                        <a:close/>
                      </a:path>
                    </a:pathLst>
                  </a:custGeom>
                  <a:solidFill>
                    <a:srgbClr val="f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>
                    <a:off x="6918120" y="5312160"/>
                    <a:ext cx="21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90">
                        <a:moveTo>
                          <a:pt x="77" y="0"/>
                        </a:moveTo>
                        <a:lnTo>
                          <a:pt x="19" y="90"/>
                        </a:lnTo>
                        <a:lnTo>
                          <a:pt x="0" y="26"/>
                        </a:lnTo>
                        <a:lnTo>
                          <a:pt x="77" y="0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42" name=""/>
                  <p:cNvGrpSpPr/>
                  <p:nvPr/>
                </p:nvGrpSpPr>
                <p:grpSpPr>
                  <a:xfrm>
                    <a:off x="6824520" y="5106960"/>
                    <a:ext cx="160560" cy="236160"/>
                    <a:chOff x="6824520" y="5106960"/>
                    <a:chExt cx="160560" cy="236160"/>
                  </a:xfrm>
                </p:grpSpPr>
                <p:sp>
                  <p:nvSpPr>
                    <p:cNvPr id="1443" name=""/>
                    <p:cNvSpPr/>
                    <p:nvPr/>
                  </p:nvSpPr>
                  <p:spPr>
                    <a:xfrm>
                      <a:off x="6824520" y="5106960"/>
                      <a:ext cx="160560" cy="23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2" h="889">
                          <a:moveTo>
                            <a:pt x="427" y="11"/>
                          </a:moveTo>
                          <a:lnTo>
                            <a:pt x="351" y="0"/>
                          </a:lnTo>
                          <a:lnTo>
                            <a:pt x="296" y="4"/>
                          </a:lnTo>
                          <a:lnTo>
                            <a:pt x="234" y="11"/>
                          </a:lnTo>
                          <a:lnTo>
                            <a:pt x="201" y="18"/>
                          </a:lnTo>
                          <a:lnTo>
                            <a:pt x="183" y="39"/>
                          </a:lnTo>
                          <a:lnTo>
                            <a:pt x="161" y="35"/>
                          </a:lnTo>
                          <a:lnTo>
                            <a:pt x="128" y="60"/>
                          </a:lnTo>
                          <a:lnTo>
                            <a:pt x="102" y="88"/>
                          </a:lnTo>
                          <a:lnTo>
                            <a:pt x="84" y="116"/>
                          </a:lnTo>
                          <a:lnTo>
                            <a:pt x="62" y="152"/>
                          </a:lnTo>
                          <a:lnTo>
                            <a:pt x="51" y="190"/>
                          </a:lnTo>
                          <a:lnTo>
                            <a:pt x="40" y="257"/>
                          </a:lnTo>
                          <a:lnTo>
                            <a:pt x="33" y="303"/>
                          </a:lnTo>
                          <a:lnTo>
                            <a:pt x="33" y="377"/>
                          </a:lnTo>
                          <a:lnTo>
                            <a:pt x="48" y="426"/>
                          </a:lnTo>
                          <a:lnTo>
                            <a:pt x="44" y="462"/>
                          </a:lnTo>
                          <a:lnTo>
                            <a:pt x="33" y="553"/>
                          </a:lnTo>
                          <a:lnTo>
                            <a:pt x="22" y="592"/>
                          </a:lnTo>
                          <a:lnTo>
                            <a:pt x="18" y="634"/>
                          </a:lnTo>
                          <a:lnTo>
                            <a:pt x="7" y="662"/>
                          </a:lnTo>
                          <a:lnTo>
                            <a:pt x="0" y="694"/>
                          </a:lnTo>
                          <a:lnTo>
                            <a:pt x="4" y="729"/>
                          </a:lnTo>
                          <a:lnTo>
                            <a:pt x="18" y="761"/>
                          </a:lnTo>
                          <a:lnTo>
                            <a:pt x="48" y="789"/>
                          </a:lnTo>
                          <a:lnTo>
                            <a:pt x="99" y="835"/>
                          </a:lnTo>
                          <a:lnTo>
                            <a:pt x="128" y="846"/>
                          </a:lnTo>
                          <a:lnTo>
                            <a:pt x="165" y="856"/>
                          </a:lnTo>
                          <a:lnTo>
                            <a:pt x="194" y="868"/>
                          </a:lnTo>
                          <a:lnTo>
                            <a:pt x="219" y="882"/>
                          </a:lnTo>
                          <a:lnTo>
                            <a:pt x="340" y="889"/>
                          </a:lnTo>
                          <a:lnTo>
                            <a:pt x="420" y="786"/>
                          </a:lnTo>
                          <a:lnTo>
                            <a:pt x="449" y="691"/>
                          </a:lnTo>
                          <a:lnTo>
                            <a:pt x="552" y="691"/>
                          </a:lnTo>
                          <a:lnTo>
                            <a:pt x="544" y="553"/>
                          </a:lnTo>
                          <a:lnTo>
                            <a:pt x="526" y="398"/>
                          </a:lnTo>
                          <a:lnTo>
                            <a:pt x="493" y="204"/>
                          </a:lnTo>
                          <a:lnTo>
                            <a:pt x="475" y="116"/>
                          </a:lnTo>
                          <a:lnTo>
                            <a:pt x="427" y="11"/>
                          </a:lnTo>
                          <a:close/>
                        </a:path>
                      </a:pathLst>
                    </a:custGeom>
                    <a:solidFill>
                      <a:srgbClr val="f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4" name=""/>
                    <p:cNvSpPr/>
                    <p:nvPr/>
                  </p:nvSpPr>
                  <p:spPr>
                    <a:xfrm>
                      <a:off x="6874200" y="5265000"/>
                      <a:ext cx="72360" cy="7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8" h="296">
                          <a:moveTo>
                            <a:pt x="233" y="14"/>
                          </a:moveTo>
                          <a:lnTo>
                            <a:pt x="144" y="7"/>
                          </a:lnTo>
                          <a:lnTo>
                            <a:pt x="51" y="0"/>
                          </a:lnTo>
                          <a:lnTo>
                            <a:pt x="35" y="21"/>
                          </a:lnTo>
                          <a:lnTo>
                            <a:pt x="28" y="38"/>
                          </a:lnTo>
                          <a:lnTo>
                            <a:pt x="17" y="59"/>
                          </a:lnTo>
                          <a:lnTo>
                            <a:pt x="7" y="91"/>
                          </a:lnTo>
                          <a:lnTo>
                            <a:pt x="2" y="119"/>
                          </a:lnTo>
                          <a:lnTo>
                            <a:pt x="0" y="145"/>
                          </a:lnTo>
                          <a:lnTo>
                            <a:pt x="3" y="176"/>
                          </a:lnTo>
                          <a:lnTo>
                            <a:pt x="14" y="217"/>
                          </a:lnTo>
                          <a:lnTo>
                            <a:pt x="25" y="250"/>
                          </a:lnTo>
                          <a:lnTo>
                            <a:pt x="28" y="280"/>
                          </a:lnTo>
                          <a:lnTo>
                            <a:pt x="177" y="296"/>
                          </a:lnTo>
                          <a:lnTo>
                            <a:pt x="241" y="193"/>
                          </a:lnTo>
                          <a:lnTo>
                            <a:pt x="248" y="166"/>
                          </a:lnTo>
                          <a:lnTo>
                            <a:pt x="233" y="14"/>
                          </a:lnTo>
                          <a:close/>
                        </a:path>
                      </a:pathLst>
                    </a:custGeom>
                    <a:solidFill>
                      <a:srgbClr val="df1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320" bIns="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5" name=""/>
                    <p:cNvSpPr/>
                    <p:nvPr/>
                  </p:nvSpPr>
                  <p:spPr>
                    <a:xfrm>
                      <a:off x="6841800" y="5122440"/>
                      <a:ext cx="68040" cy="14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3" h="567">
                          <a:moveTo>
                            <a:pt x="146" y="0"/>
                          </a:moveTo>
                          <a:lnTo>
                            <a:pt x="189" y="70"/>
                          </a:lnTo>
                          <a:lnTo>
                            <a:pt x="215" y="144"/>
                          </a:lnTo>
                          <a:lnTo>
                            <a:pt x="230" y="233"/>
                          </a:lnTo>
                          <a:lnTo>
                            <a:pt x="233" y="331"/>
                          </a:lnTo>
                          <a:lnTo>
                            <a:pt x="230" y="447"/>
                          </a:lnTo>
                          <a:lnTo>
                            <a:pt x="219" y="497"/>
                          </a:lnTo>
                          <a:lnTo>
                            <a:pt x="160" y="539"/>
                          </a:lnTo>
                          <a:lnTo>
                            <a:pt x="131" y="521"/>
                          </a:lnTo>
                          <a:lnTo>
                            <a:pt x="102" y="514"/>
                          </a:lnTo>
                          <a:lnTo>
                            <a:pt x="76" y="521"/>
                          </a:lnTo>
                          <a:lnTo>
                            <a:pt x="58" y="546"/>
                          </a:lnTo>
                          <a:lnTo>
                            <a:pt x="25" y="560"/>
                          </a:lnTo>
                          <a:lnTo>
                            <a:pt x="0" y="567"/>
                          </a:lnTo>
                          <a:lnTo>
                            <a:pt x="40" y="532"/>
                          </a:lnTo>
                          <a:lnTo>
                            <a:pt x="65" y="521"/>
                          </a:lnTo>
                          <a:lnTo>
                            <a:pt x="84" y="504"/>
                          </a:lnTo>
                          <a:lnTo>
                            <a:pt x="106" y="504"/>
                          </a:lnTo>
                          <a:lnTo>
                            <a:pt x="131" y="479"/>
                          </a:lnTo>
                          <a:lnTo>
                            <a:pt x="106" y="451"/>
                          </a:lnTo>
                          <a:lnTo>
                            <a:pt x="142" y="458"/>
                          </a:lnTo>
                          <a:lnTo>
                            <a:pt x="116" y="377"/>
                          </a:lnTo>
                          <a:lnTo>
                            <a:pt x="95" y="310"/>
                          </a:lnTo>
                          <a:lnTo>
                            <a:pt x="87" y="263"/>
                          </a:lnTo>
                          <a:lnTo>
                            <a:pt x="98" y="194"/>
                          </a:lnTo>
                          <a:lnTo>
                            <a:pt x="116" y="271"/>
                          </a:lnTo>
                          <a:lnTo>
                            <a:pt x="153" y="359"/>
                          </a:lnTo>
                          <a:lnTo>
                            <a:pt x="197" y="454"/>
                          </a:lnTo>
                          <a:lnTo>
                            <a:pt x="197" y="324"/>
                          </a:lnTo>
                          <a:lnTo>
                            <a:pt x="189" y="236"/>
                          </a:lnTo>
                          <a:lnTo>
                            <a:pt x="179" y="106"/>
                          </a:lnTo>
                          <a:lnTo>
                            <a:pt x="146" y="0"/>
                          </a:lnTo>
                          <a:close/>
                        </a:path>
                      </a:pathLst>
                    </a:custGeom>
                    <a:solidFill>
                      <a:srgbClr val="df3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6" name=""/>
                  <p:cNvSpPr/>
                  <p:nvPr/>
                </p:nvSpPr>
                <p:spPr>
                  <a:xfrm>
                    <a:off x="7011720" y="5205960"/>
                    <a:ext cx="1980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1" h="359">
                        <a:moveTo>
                          <a:pt x="0" y="292"/>
                        </a:moveTo>
                        <a:lnTo>
                          <a:pt x="263" y="0"/>
                        </a:lnTo>
                        <a:lnTo>
                          <a:pt x="681" y="111"/>
                        </a:lnTo>
                        <a:lnTo>
                          <a:pt x="509" y="320"/>
                        </a:lnTo>
                        <a:lnTo>
                          <a:pt x="402" y="344"/>
                        </a:lnTo>
                        <a:lnTo>
                          <a:pt x="293" y="359"/>
                        </a:lnTo>
                        <a:lnTo>
                          <a:pt x="55" y="345"/>
                        </a:lnTo>
                        <a:lnTo>
                          <a:pt x="0" y="292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7" name=""/>
                  <p:cNvSpPr/>
                  <p:nvPr/>
                </p:nvSpPr>
                <p:spPr>
                  <a:xfrm>
                    <a:off x="6913800" y="5261760"/>
                    <a:ext cx="1695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82" h="236">
                        <a:moveTo>
                          <a:pt x="32" y="57"/>
                        </a:moveTo>
                        <a:lnTo>
                          <a:pt x="249" y="29"/>
                        </a:lnTo>
                        <a:lnTo>
                          <a:pt x="295" y="12"/>
                        </a:lnTo>
                        <a:lnTo>
                          <a:pt x="318" y="3"/>
                        </a:lnTo>
                        <a:lnTo>
                          <a:pt x="342" y="0"/>
                        </a:lnTo>
                        <a:lnTo>
                          <a:pt x="375" y="5"/>
                        </a:lnTo>
                        <a:lnTo>
                          <a:pt x="412" y="12"/>
                        </a:lnTo>
                        <a:lnTo>
                          <a:pt x="439" y="15"/>
                        </a:lnTo>
                        <a:lnTo>
                          <a:pt x="491" y="21"/>
                        </a:lnTo>
                        <a:lnTo>
                          <a:pt x="517" y="22"/>
                        </a:lnTo>
                        <a:lnTo>
                          <a:pt x="537" y="26"/>
                        </a:lnTo>
                        <a:lnTo>
                          <a:pt x="559" y="29"/>
                        </a:lnTo>
                        <a:lnTo>
                          <a:pt x="577" y="36"/>
                        </a:lnTo>
                        <a:lnTo>
                          <a:pt x="582" y="46"/>
                        </a:lnTo>
                        <a:lnTo>
                          <a:pt x="574" y="54"/>
                        </a:lnTo>
                        <a:lnTo>
                          <a:pt x="537" y="56"/>
                        </a:lnTo>
                        <a:lnTo>
                          <a:pt x="523" y="57"/>
                        </a:lnTo>
                        <a:lnTo>
                          <a:pt x="520" y="82"/>
                        </a:lnTo>
                        <a:lnTo>
                          <a:pt x="512" y="92"/>
                        </a:lnTo>
                        <a:lnTo>
                          <a:pt x="506" y="93"/>
                        </a:lnTo>
                        <a:lnTo>
                          <a:pt x="501" y="109"/>
                        </a:lnTo>
                        <a:lnTo>
                          <a:pt x="490" y="121"/>
                        </a:lnTo>
                        <a:lnTo>
                          <a:pt x="476" y="127"/>
                        </a:lnTo>
                        <a:lnTo>
                          <a:pt x="468" y="137"/>
                        </a:lnTo>
                        <a:lnTo>
                          <a:pt x="457" y="142"/>
                        </a:lnTo>
                        <a:lnTo>
                          <a:pt x="423" y="160"/>
                        </a:lnTo>
                        <a:lnTo>
                          <a:pt x="405" y="167"/>
                        </a:lnTo>
                        <a:lnTo>
                          <a:pt x="351" y="169"/>
                        </a:lnTo>
                        <a:lnTo>
                          <a:pt x="311" y="165"/>
                        </a:lnTo>
                        <a:lnTo>
                          <a:pt x="288" y="155"/>
                        </a:lnTo>
                        <a:lnTo>
                          <a:pt x="277" y="151"/>
                        </a:lnTo>
                        <a:lnTo>
                          <a:pt x="256" y="155"/>
                        </a:lnTo>
                        <a:lnTo>
                          <a:pt x="222" y="158"/>
                        </a:lnTo>
                        <a:lnTo>
                          <a:pt x="193" y="163"/>
                        </a:lnTo>
                        <a:lnTo>
                          <a:pt x="70" y="208"/>
                        </a:lnTo>
                        <a:lnTo>
                          <a:pt x="17" y="236"/>
                        </a:lnTo>
                        <a:lnTo>
                          <a:pt x="3" y="187"/>
                        </a:lnTo>
                        <a:lnTo>
                          <a:pt x="0" y="156"/>
                        </a:lnTo>
                        <a:lnTo>
                          <a:pt x="0" y="131"/>
                        </a:lnTo>
                        <a:lnTo>
                          <a:pt x="10" y="99"/>
                        </a:lnTo>
                        <a:lnTo>
                          <a:pt x="32" y="57"/>
                        </a:lnTo>
                        <a:close/>
                      </a:path>
                    </a:pathLst>
                  </a:custGeom>
                  <a:solidFill>
                    <a:srgbClr val="f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48" name=""/>
                  <p:cNvGrpSpPr/>
                  <p:nvPr/>
                </p:nvGrpSpPr>
                <p:grpSpPr>
                  <a:xfrm>
                    <a:off x="6882120" y="4948200"/>
                    <a:ext cx="186120" cy="218880"/>
                    <a:chOff x="6882120" y="4948200"/>
                    <a:chExt cx="186120" cy="218880"/>
                  </a:xfrm>
                </p:grpSpPr>
                <p:grpSp>
                  <p:nvGrpSpPr>
                    <p:cNvPr id="1449" name=""/>
                    <p:cNvGrpSpPr/>
                    <p:nvPr/>
                  </p:nvGrpSpPr>
                  <p:grpSpPr>
                    <a:xfrm>
                      <a:off x="7049520" y="5007600"/>
                      <a:ext cx="16560" cy="39600"/>
                      <a:chOff x="7049520" y="5007600"/>
                      <a:chExt cx="16560" cy="39600"/>
                    </a:xfrm>
                  </p:grpSpPr>
                  <p:sp>
                    <p:nvSpPr>
                      <p:cNvPr id="1450" name=""/>
                      <p:cNvSpPr/>
                      <p:nvPr/>
                    </p:nvSpPr>
                    <p:spPr>
                      <a:xfrm>
                        <a:off x="7049520" y="5007600"/>
                        <a:ext cx="16560" cy="39600"/>
                      </a:xfrm>
                      <a:prstGeom prst="ellipse">
                        <a:avLst/>
                      </a:pr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720" bIns="-18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51" name=""/>
                      <p:cNvSpPr/>
                      <p:nvPr/>
                    </p:nvSpPr>
                    <p:spPr>
                      <a:xfrm>
                        <a:off x="7050960" y="5008320"/>
                        <a:ext cx="14040" cy="37080"/>
                      </a:xfrm>
                      <a:prstGeom prst="ellipse">
                        <a:avLst/>
                      </a:prstGeom>
                      <a:solidFill>
                        <a:srgbClr val="ffd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452" name=""/>
                    <p:cNvGrpSpPr/>
                    <p:nvPr/>
                  </p:nvGrpSpPr>
                  <p:grpSpPr>
                    <a:xfrm>
                      <a:off x="6882120" y="4948200"/>
                      <a:ext cx="186120" cy="218880"/>
                      <a:chOff x="6882120" y="4948200"/>
                      <a:chExt cx="186120" cy="218880"/>
                    </a:xfrm>
                  </p:grpSpPr>
                  <p:grpSp>
                    <p:nvGrpSpPr>
                      <p:cNvPr id="1453" name=""/>
                      <p:cNvGrpSpPr/>
                      <p:nvPr/>
                    </p:nvGrpSpPr>
                    <p:grpSpPr>
                      <a:xfrm>
                        <a:off x="6925320" y="4962240"/>
                        <a:ext cx="142920" cy="204840"/>
                        <a:chOff x="6925320" y="4962240"/>
                        <a:chExt cx="142920" cy="204840"/>
                      </a:xfrm>
                    </p:grpSpPr>
                    <p:sp>
                      <p:nvSpPr>
                        <p:cNvPr id="1454" name=""/>
                        <p:cNvSpPr/>
                        <p:nvPr/>
                      </p:nvSpPr>
                      <p:spPr>
                        <a:xfrm>
                          <a:off x="6925320" y="4962240"/>
                          <a:ext cx="142920" cy="204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2" h="777">
                              <a:moveTo>
                                <a:pt x="318" y="14"/>
                              </a:moveTo>
                              <a:lnTo>
                                <a:pt x="359" y="29"/>
                              </a:lnTo>
                              <a:lnTo>
                                <a:pt x="383" y="44"/>
                              </a:lnTo>
                              <a:lnTo>
                                <a:pt x="402" y="64"/>
                              </a:lnTo>
                              <a:lnTo>
                                <a:pt x="413" y="86"/>
                              </a:lnTo>
                              <a:lnTo>
                                <a:pt x="421" y="111"/>
                              </a:lnTo>
                              <a:lnTo>
                                <a:pt x="427" y="135"/>
                              </a:lnTo>
                              <a:lnTo>
                                <a:pt x="434" y="171"/>
                              </a:lnTo>
                              <a:lnTo>
                                <a:pt x="438" y="206"/>
                              </a:lnTo>
                              <a:lnTo>
                                <a:pt x="433" y="227"/>
                              </a:lnTo>
                              <a:lnTo>
                                <a:pt x="431" y="248"/>
                              </a:lnTo>
                              <a:lnTo>
                                <a:pt x="442" y="269"/>
                              </a:lnTo>
                              <a:lnTo>
                                <a:pt x="475" y="303"/>
                              </a:lnTo>
                              <a:lnTo>
                                <a:pt x="483" y="313"/>
                              </a:lnTo>
                              <a:lnTo>
                                <a:pt x="490" y="322"/>
                              </a:lnTo>
                              <a:lnTo>
                                <a:pt x="492" y="330"/>
                              </a:lnTo>
                              <a:lnTo>
                                <a:pt x="488" y="337"/>
                              </a:lnTo>
                              <a:lnTo>
                                <a:pt x="480" y="342"/>
                              </a:lnTo>
                              <a:lnTo>
                                <a:pt x="464" y="347"/>
                              </a:lnTo>
                              <a:lnTo>
                                <a:pt x="458" y="353"/>
                              </a:lnTo>
                              <a:lnTo>
                                <a:pt x="464" y="367"/>
                              </a:lnTo>
                              <a:lnTo>
                                <a:pt x="462" y="375"/>
                              </a:lnTo>
                              <a:lnTo>
                                <a:pt x="456" y="382"/>
                              </a:lnTo>
                              <a:lnTo>
                                <a:pt x="443" y="389"/>
                              </a:lnTo>
                              <a:lnTo>
                                <a:pt x="425" y="397"/>
                              </a:lnTo>
                              <a:lnTo>
                                <a:pt x="414" y="401"/>
                              </a:lnTo>
                              <a:lnTo>
                                <a:pt x="453" y="410"/>
                              </a:lnTo>
                              <a:lnTo>
                                <a:pt x="458" y="417"/>
                              </a:lnTo>
                              <a:lnTo>
                                <a:pt x="448" y="433"/>
                              </a:lnTo>
                              <a:lnTo>
                                <a:pt x="447" y="454"/>
                              </a:lnTo>
                              <a:lnTo>
                                <a:pt x="447" y="484"/>
                              </a:lnTo>
                              <a:lnTo>
                                <a:pt x="447" y="496"/>
                              </a:lnTo>
                              <a:lnTo>
                                <a:pt x="442" y="505"/>
                              </a:lnTo>
                              <a:lnTo>
                                <a:pt x="431" y="514"/>
                              </a:lnTo>
                              <a:lnTo>
                                <a:pt x="414" y="518"/>
                              </a:lnTo>
                              <a:lnTo>
                                <a:pt x="396" y="523"/>
                              </a:lnTo>
                              <a:lnTo>
                                <a:pt x="354" y="530"/>
                              </a:lnTo>
                              <a:lnTo>
                                <a:pt x="330" y="536"/>
                              </a:lnTo>
                              <a:lnTo>
                                <a:pt x="312" y="543"/>
                              </a:lnTo>
                              <a:lnTo>
                                <a:pt x="298" y="553"/>
                              </a:lnTo>
                              <a:lnTo>
                                <a:pt x="253" y="615"/>
                              </a:lnTo>
                              <a:lnTo>
                                <a:pt x="320" y="754"/>
                              </a:lnTo>
                              <a:lnTo>
                                <a:pt x="281" y="765"/>
                              </a:lnTo>
                              <a:lnTo>
                                <a:pt x="221" y="777"/>
                              </a:lnTo>
                              <a:lnTo>
                                <a:pt x="169" y="774"/>
                              </a:lnTo>
                              <a:lnTo>
                                <a:pt x="139" y="758"/>
                              </a:lnTo>
                              <a:lnTo>
                                <a:pt x="68" y="545"/>
                              </a:lnTo>
                              <a:lnTo>
                                <a:pt x="68" y="474"/>
                              </a:lnTo>
                              <a:lnTo>
                                <a:pt x="47" y="436"/>
                              </a:lnTo>
                              <a:lnTo>
                                <a:pt x="22" y="387"/>
                              </a:lnTo>
                              <a:lnTo>
                                <a:pt x="11" y="359"/>
                              </a:lnTo>
                              <a:lnTo>
                                <a:pt x="4" y="321"/>
                              </a:lnTo>
                              <a:lnTo>
                                <a:pt x="0" y="280"/>
                              </a:lnTo>
                              <a:lnTo>
                                <a:pt x="0" y="231"/>
                              </a:lnTo>
                              <a:lnTo>
                                <a:pt x="6" y="185"/>
                              </a:lnTo>
                              <a:lnTo>
                                <a:pt x="14" y="145"/>
                              </a:lnTo>
                              <a:lnTo>
                                <a:pt x="28" y="111"/>
                              </a:lnTo>
                              <a:lnTo>
                                <a:pt x="44" y="78"/>
                              </a:lnTo>
                              <a:lnTo>
                                <a:pt x="68" y="47"/>
                              </a:lnTo>
                              <a:lnTo>
                                <a:pt x="102" y="23"/>
                              </a:lnTo>
                              <a:lnTo>
                                <a:pt x="139" y="9"/>
                              </a:lnTo>
                              <a:lnTo>
                                <a:pt x="181" y="2"/>
                              </a:lnTo>
                              <a:lnTo>
                                <a:pt x="219" y="0"/>
                              </a:lnTo>
                              <a:lnTo>
                                <a:pt x="269" y="3"/>
                              </a:lnTo>
                              <a:lnTo>
                                <a:pt x="318" y="1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bfb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455" name=""/>
                        <p:cNvGrpSpPr/>
                        <p:nvPr/>
                      </p:nvGrpSpPr>
                      <p:grpSpPr>
                        <a:xfrm>
                          <a:off x="6984360" y="5081760"/>
                          <a:ext cx="65880" cy="74520"/>
                          <a:chOff x="6984360" y="5081760"/>
                          <a:chExt cx="65880" cy="74520"/>
                        </a:xfrm>
                      </p:grpSpPr>
                      <p:sp>
                        <p:nvSpPr>
                          <p:cNvPr id="1456" name=""/>
                          <p:cNvSpPr/>
                          <p:nvPr/>
                        </p:nvSpPr>
                        <p:spPr>
                          <a:xfrm>
                            <a:off x="6985080" y="5081760"/>
                            <a:ext cx="65160" cy="26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6" h="102">
                                <a:moveTo>
                                  <a:pt x="0" y="0"/>
                                </a:moveTo>
                                <a:lnTo>
                                  <a:pt x="33" y="14"/>
                                </a:lnTo>
                                <a:lnTo>
                                  <a:pt x="67" y="25"/>
                                </a:lnTo>
                                <a:lnTo>
                                  <a:pt x="92" y="32"/>
                                </a:lnTo>
                                <a:lnTo>
                                  <a:pt x="125" y="41"/>
                                </a:lnTo>
                                <a:lnTo>
                                  <a:pt x="147" y="45"/>
                                </a:lnTo>
                                <a:lnTo>
                                  <a:pt x="178" y="50"/>
                                </a:lnTo>
                                <a:lnTo>
                                  <a:pt x="201" y="50"/>
                                </a:lnTo>
                                <a:lnTo>
                                  <a:pt x="226" y="50"/>
                                </a:lnTo>
                                <a:lnTo>
                                  <a:pt x="202" y="59"/>
                                </a:lnTo>
                                <a:lnTo>
                                  <a:pt x="168" y="66"/>
                                </a:lnTo>
                                <a:lnTo>
                                  <a:pt x="141" y="72"/>
                                </a:lnTo>
                                <a:lnTo>
                                  <a:pt x="119" y="78"/>
                                </a:lnTo>
                                <a:lnTo>
                                  <a:pt x="97" y="85"/>
                                </a:lnTo>
                                <a:lnTo>
                                  <a:pt x="84" y="91"/>
                                </a:lnTo>
                                <a:lnTo>
                                  <a:pt x="69" y="102"/>
                                </a:lnTo>
                                <a:lnTo>
                                  <a:pt x="83" y="86"/>
                                </a:lnTo>
                                <a:lnTo>
                                  <a:pt x="95" y="75"/>
                                </a:lnTo>
                                <a:lnTo>
                                  <a:pt x="98" y="65"/>
                                </a:lnTo>
                                <a:lnTo>
                                  <a:pt x="98" y="57"/>
                                </a:lnTo>
                                <a:lnTo>
                                  <a:pt x="95" y="49"/>
                                </a:lnTo>
                                <a:lnTo>
                                  <a:pt x="85" y="44"/>
                                </a:lnTo>
                                <a:lnTo>
                                  <a:pt x="74" y="41"/>
                                </a:lnTo>
                                <a:lnTo>
                                  <a:pt x="55" y="38"/>
                                </a:lnTo>
                                <a:lnTo>
                                  <a:pt x="38" y="36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0160" bIns="-201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57" name=""/>
                          <p:cNvSpPr/>
                          <p:nvPr/>
                        </p:nvSpPr>
                        <p:spPr>
                          <a:xfrm>
                            <a:off x="6984360" y="5119200"/>
                            <a:ext cx="15480" cy="37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6" h="142">
                                <a:moveTo>
                                  <a:pt x="32" y="16"/>
                                </a:moveTo>
                                <a:lnTo>
                                  <a:pt x="32" y="6"/>
                                </a:lnTo>
                                <a:lnTo>
                                  <a:pt x="28" y="1"/>
                                </a:lnTo>
                                <a:lnTo>
                                  <a:pt x="20" y="0"/>
                                </a:lnTo>
                                <a:lnTo>
                                  <a:pt x="11" y="5"/>
                                </a:lnTo>
                                <a:lnTo>
                                  <a:pt x="5" y="13"/>
                                </a:lnTo>
                                <a:lnTo>
                                  <a:pt x="0" y="23"/>
                                </a:lnTo>
                                <a:lnTo>
                                  <a:pt x="0" y="38"/>
                                </a:lnTo>
                                <a:lnTo>
                                  <a:pt x="2" y="81"/>
                                </a:lnTo>
                                <a:lnTo>
                                  <a:pt x="5" y="99"/>
                                </a:lnTo>
                                <a:lnTo>
                                  <a:pt x="10" y="108"/>
                                </a:lnTo>
                                <a:lnTo>
                                  <a:pt x="47" y="142"/>
                                </a:lnTo>
                                <a:lnTo>
                                  <a:pt x="56" y="108"/>
                                </a:lnTo>
                                <a:lnTo>
                                  <a:pt x="39" y="84"/>
                                </a:lnTo>
                                <a:lnTo>
                                  <a:pt x="42" y="101"/>
                                </a:lnTo>
                                <a:lnTo>
                                  <a:pt x="43" y="115"/>
                                </a:lnTo>
                                <a:lnTo>
                                  <a:pt x="42" y="120"/>
                                </a:lnTo>
                                <a:lnTo>
                                  <a:pt x="14" y="89"/>
                                </a:lnTo>
                                <a:lnTo>
                                  <a:pt x="13" y="77"/>
                                </a:lnTo>
                                <a:lnTo>
                                  <a:pt x="10" y="61"/>
                                </a:lnTo>
                                <a:lnTo>
                                  <a:pt x="16" y="42"/>
                                </a:lnTo>
                                <a:lnTo>
                                  <a:pt x="24" y="27"/>
                                </a:lnTo>
                                <a:lnTo>
                                  <a:pt x="32" y="1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9720" bIns="-97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458" name=""/>
                      <p:cNvSpPr/>
                      <p:nvPr/>
                    </p:nvSpPr>
                    <p:spPr>
                      <a:xfrm>
                        <a:off x="7025040" y="5027040"/>
                        <a:ext cx="10440" cy="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" h="29">
                            <a:moveTo>
                              <a:pt x="32" y="0"/>
                            </a:moveTo>
                            <a:lnTo>
                              <a:pt x="17" y="6"/>
                            </a:lnTo>
                            <a:lnTo>
                              <a:pt x="0" y="17"/>
                            </a:lnTo>
                            <a:lnTo>
                              <a:pt x="12" y="26"/>
                            </a:lnTo>
                            <a:lnTo>
                              <a:pt x="30" y="29"/>
                            </a:lnTo>
                            <a:lnTo>
                              <a:pt x="36" y="28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59" name=""/>
                      <p:cNvSpPr/>
                      <p:nvPr/>
                    </p:nvSpPr>
                    <p:spPr>
                      <a:xfrm>
                        <a:off x="7020720" y="5011560"/>
                        <a:ext cx="1836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53">
                            <a:moveTo>
                              <a:pt x="64" y="0"/>
                            </a:moveTo>
                            <a:lnTo>
                              <a:pt x="49" y="3"/>
                            </a:lnTo>
                            <a:lnTo>
                              <a:pt x="38" y="14"/>
                            </a:lnTo>
                            <a:lnTo>
                              <a:pt x="28" y="27"/>
                            </a:lnTo>
                            <a:lnTo>
                              <a:pt x="19" y="39"/>
                            </a:lnTo>
                            <a:lnTo>
                              <a:pt x="0" y="53"/>
                            </a:lnTo>
                            <a:lnTo>
                              <a:pt x="22" y="46"/>
                            </a:lnTo>
                            <a:lnTo>
                              <a:pt x="37" y="35"/>
                            </a:lnTo>
                            <a:lnTo>
                              <a:pt x="49" y="25"/>
                            </a:lnTo>
                            <a:lnTo>
                              <a:pt x="60" y="21"/>
                            </a:lnTo>
                            <a:lnTo>
                              <a:pt x="64" y="0"/>
                            </a:lnTo>
                            <a:close/>
                          </a:path>
                        </a:pathLst>
                      </a:cu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460" name=""/>
                      <p:cNvGrpSpPr/>
                      <p:nvPr/>
                    </p:nvGrpSpPr>
                    <p:grpSpPr>
                      <a:xfrm>
                        <a:off x="7023240" y="5020200"/>
                        <a:ext cx="12960" cy="14760"/>
                        <a:chOff x="7023240" y="5020200"/>
                        <a:chExt cx="12960" cy="14760"/>
                      </a:xfrm>
                    </p:grpSpPr>
                    <p:sp>
                      <p:nvSpPr>
                        <p:cNvPr id="1461" name=""/>
                        <p:cNvSpPr/>
                        <p:nvPr/>
                      </p:nvSpPr>
                      <p:spPr>
                        <a:xfrm>
                          <a:off x="7028280" y="5027760"/>
                          <a:ext cx="5760" cy="6120"/>
                        </a:xfrm>
                        <a:prstGeom prst="ellipse">
                          <a:avLst/>
                        </a:prstGeom>
                        <a:solidFill>
                          <a:srgbClr val="5f7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2" name=""/>
                        <p:cNvSpPr/>
                        <p:nvPr/>
                      </p:nvSpPr>
                      <p:spPr>
                        <a:xfrm>
                          <a:off x="7023240" y="5020200"/>
                          <a:ext cx="12960" cy="14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4" h="57">
                              <a:moveTo>
                                <a:pt x="38" y="14"/>
                              </a:moveTo>
                              <a:lnTo>
                                <a:pt x="26" y="25"/>
                              </a:lnTo>
                              <a:lnTo>
                                <a:pt x="30" y="0"/>
                              </a:lnTo>
                              <a:lnTo>
                                <a:pt x="20" y="25"/>
                              </a:lnTo>
                              <a:lnTo>
                                <a:pt x="12" y="35"/>
                              </a:lnTo>
                              <a:lnTo>
                                <a:pt x="0" y="44"/>
                              </a:lnTo>
                              <a:lnTo>
                                <a:pt x="15" y="54"/>
                              </a:lnTo>
                              <a:lnTo>
                                <a:pt x="16" y="54"/>
                              </a:lnTo>
                              <a:lnTo>
                                <a:pt x="26" y="57"/>
                              </a:lnTo>
                              <a:lnTo>
                                <a:pt x="39" y="57"/>
                              </a:lnTo>
                              <a:lnTo>
                                <a:pt x="37" y="48"/>
                              </a:lnTo>
                              <a:lnTo>
                                <a:pt x="26" y="51"/>
                              </a:lnTo>
                              <a:lnTo>
                                <a:pt x="15" y="46"/>
                              </a:lnTo>
                              <a:lnTo>
                                <a:pt x="6" y="42"/>
                              </a:lnTo>
                              <a:lnTo>
                                <a:pt x="15" y="38"/>
                              </a:lnTo>
                              <a:lnTo>
                                <a:pt x="30" y="32"/>
                              </a:lnTo>
                              <a:lnTo>
                                <a:pt x="44" y="25"/>
                              </a:lnTo>
                              <a:lnTo>
                                <a:pt x="38" y="1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f1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040" bIns="-32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463" name=""/>
                      <p:cNvSpPr/>
                      <p:nvPr/>
                    </p:nvSpPr>
                    <p:spPr>
                      <a:xfrm>
                        <a:off x="6882120" y="4948200"/>
                        <a:ext cx="173520" cy="17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7" h="674">
                            <a:moveTo>
                              <a:pt x="579" y="199"/>
                            </a:moveTo>
                            <a:lnTo>
                              <a:pt x="586" y="192"/>
                            </a:lnTo>
                            <a:lnTo>
                              <a:pt x="594" y="183"/>
                            </a:lnTo>
                            <a:lnTo>
                              <a:pt x="597" y="162"/>
                            </a:lnTo>
                            <a:lnTo>
                              <a:pt x="597" y="123"/>
                            </a:lnTo>
                            <a:lnTo>
                              <a:pt x="586" y="91"/>
                            </a:lnTo>
                            <a:lnTo>
                              <a:pt x="571" y="74"/>
                            </a:lnTo>
                            <a:lnTo>
                              <a:pt x="549" y="52"/>
                            </a:lnTo>
                            <a:lnTo>
                              <a:pt x="504" y="45"/>
                            </a:lnTo>
                            <a:lnTo>
                              <a:pt x="439" y="35"/>
                            </a:lnTo>
                            <a:lnTo>
                              <a:pt x="380" y="21"/>
                            </a:lnTo>
                            <a:lnTo>
                              <a:pt x="333" y="10"/>
                            </a:lnTo>
                            <a:lnTo>
                              <a:pt x="274" y="0"/>
                            </a:lnTo>
                            <a:lnTo>
                              <a:pt x="245" y="10"/>
                            </a:lnTo>
                            <a:lnTo>
                              <a:pt x="212" y="35"/>
                            </a:lnTo>
                            <a:lnTo>
                              <a:pt x="183" y="63"/>
                            </a:lnTo>
                            <a:lnTo>
                              <a:pt x="161" y="95"/>
                            </a:lnTo>
                            <a:lnTo>
                              <a:pt x="135" y="144"/>
                            </a:lnTo>
                            <a:lnTo>
                              <a:pt x="121" y="190"/>
                            </a:lnTo>
                            <a:lnTo>
                              <a:pt x="114" y="236"/>
                            </a:lnTo>
                            <a:lnTo>
                              <a:pt x="103" y="288"/>
                            </a:lnTo>
                            <a:lnTo>
                              <a:pt x="103" y="334"/>
                            </a:lnTo>
                            <a:lnTo>
                              <a:pt x="88" y="387"/>
                            </a:lnTo>
                            <a:lnTo>
                              <a:pt x="70" y="434"/>
                            </a:lnTo>
                            <a:lnTo>
                              <a:pt x="48" y="466"/>
                            </a:lnTo>
                            <a:lnTo>
                              <a:pt x="26" y="487"/>
                            </a:lnTo>
                            <a:lnTo>
                              <a:pt x="4" y="512"/>
                            </a:lnTo>
                            <a:lnTo>
                              <a:pt x="4" y="519"/>
                            </a:lnTo>
                            <a:lnTo>
                              <a:pt x="0" y="540"/>
                            </a:lnTo>
                            <a:lnTo>
                              <a:pt x="0" y="575"/>
                            </a:lnTo>
                            <a:lnTo>
                              <a:pt x="11" y="603"/>
                            </a:lnTo>
                            <a:lnTo>
                              <a:pt x="30" y="621"/>
                            </a:lnTo>
                            <a:lnTo>
                              <a:pt x="88" y="621"/>
                            </a:lnTo>
                            <a:lnTo>
                              <a:pt x="135" y="628"/>
                            </a:lnTo>
                            <a:lnTo>
                              <a:pt x="183" y="660"/>
                            </a:lnTo>
                            <a:lnTo>
                              <a:pt x="234" y="674"/>
                            </a:lnTo>
                            <a:lnTo>
                              <a:pt x="278" y="674"/>
                            </a:lnTo>
                            <a:lnTo>
                              <a:pt x="314" y="652"/>
                            </a:lnTo>
                            <a:lnTo>
                              <a:pt x="329" y="621"/>
                            </a:lnTo>
                            <a:lnTo>
                              <a:pt x="325" y="578"/>
                            </a:lnTo>
                            <a:lnTo>
                              <a:pt x="307" y="547"/>
                            </a:lnTo>
                            <a:lnTo>
                              <a:pt x="303" y="515"/>
                            </a:lnTo>
                            <a:lnTo>
                              <a:pt x="307" y="483"/>
                            </a:lnTo>
                            <a:lnTo>
                              <a:pt x="336" y="455"/>
                            </a:lnTo>
                            <a:lnTo>
                              <a:pt x="369" y="445"/>
                            </a:lnTo>
                            <a:lnTo>
                              <a:pt x="391" y="427"/>
                            </a:lnTo>
                            <a:lnTo>
                              <a:pt x="409" y="399"/>
                            </a:lnTo>
                            <a:lnTo>
                              <a:pt x="413" y="352"/>
                            </a:lnTo>
                            <a:lnTo>
                              <a:pt x="413" y="331"/>
                            </a:lnTo>
                            <a:lnTo>
                              <a:pt x="439" y="324"/>
                            </a:lnTo>
                            <a:lnTo>
                              <a:pt x="464" y="303"/>
                            </a:lnTo>
                            <a:lnTo>
                              <a:pt x="479" y="267"/>
                            </a:lnTo>
                            <a:lnTo>
                              <a:pt x="493" y="218"/>
                            </a:lnTo>
                            <a:lnTo>
                              <a:pt x="486" y="158"/>
                            </a:lnTo>
                            <a:lnTo>
                              <a:pt x="475" y="123"/>
                            </a:lnTo>
                            <a:lnTo>
                              <a:pt x="442" y="98"/>
                            </a:lnTo>
                            <a:lnTo>
                              <a:pt x="519" y="123"/>
                            </a:lnTo>
                            <a:lnTo>
                              <a:pt x="546" y="162"/>
                            </a:lnTo>
                            <a:lnTo>
                              <a:pt x="574" y="185"/>
                            </a:lnTo>
                            <a:lnTo>
                              <a:pt x="579" y="199"/>
                            </a:lnTo>
                            <a:close/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464" name=""/>
                    <p:cNvGrpSpPr/>
                    <p:nvPr/>
                  </p:nvGrpSpPr>
                  <p:grpSpPr>
                    <a:xfrm>
                      <a:off x="7008480" y="5007600"/>
                      <a:ext cx="43920" cy="41760"/>
                      <a:chOff x="7008480" y="5007600"/>
                      <a:chExt cx="43920" cy="41760"/>
                    </a:xfrm>
                  </p:grpSpPr>
                  <p:sp>
                    <p:nvSpPr>
                      <p:cNvPr id="1465" name=""/>
                      <p:cNvSpPr/>
                      <p:nvPr/>
                    </p:nvSpPr>
                    <p:spPr>
                      <a:xfrm flipV="1">
                        <a:off x="7049160" y="5024880"/>
                        <a:ext cx="3240" cy="720"/>
                      </a:xfrm>
                      <a:prstGeom prst="line">
                        <a:avLst/>
                      </a:prstGeom>
                      <a:ln w="3240">
                        <a:solidFill>
                          <a:srgbClr val="7f3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466" name=""/>
                      <p:cNvGrpSpPr/>
                      <p:nvPr/>
                    </p:nvGrpSpPr>
                    <p:grpSpPr>
                      <a:xfrm>
                        <a:off x="7008480" y="5007600"/>
                        <a:ext cx="40680" cy="41760"/>
                        <a:chOff x="7008480" y="5007600"/>
                        <a:chExt cx="40680" cy="41760"/>
                      </a:xfrm>
                    </p:grpSpPr>
                    <p:sp>
                      <p:nvSpPr>
                        <p:cNvPr id="1467" name=""/>
                        <p:cNvSpPr/>
                        <p:nvPr/>
                      </p:nvSpPr>
                      <p:spPr>
                        <a:xfrm>
                          <a:off x="7008480" y="5031000"/>
                          <a:ext cx="28800" cy="14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9" h="57">
                              <a:moveTo>
                                <a:pt x="12" y="0"/>
                              </a:moveTo>
                              <a:lnTo>
                                <a:pt x="30" y="16"/>
                              </a:lnTo>
                              <a:lnTo>
                                <a:pt x="45" y="25"/>
                              </a:lnTo>
                              <a:lnTo>
                                <a:pt x="56" y="31"/>
                              </a:lnTo>
                              <a:lnTo>
                                <a:pt x="71" y="37"/>
                              </a:lnTo>
                              <a:lnTo>
                                <a:pt x="84" y="39"/>
                              </a:lnTo>
                              <a:lnTo>
                                <a:pt x="95" y="37"/>
                              </a:lnTo>
                              <a:lnTo>
                                <a:pt x="99" y="57"/>
                              </a:lnTo>
                              <a:lnTo>
                                <a:pt x="83" y="57"/>
                              </a:lnTo>
                              <a:lnTo>
                                <a:pt x="71" y="56"/>
                              </a:lnTo>
                              <a:lnTo>
                                <a:pt x="55" y="49"/>
                              </a:lnTo>
                              <a:lnTo>
                                <a:pt x="40" y="38"/>
                              </a:lnTo>
                              <a:lnTo>
                                <a:pt x="27" y="29"/>
                              </a:lnTo>
                              <a:lnTo>
                                <a:pt x="0" y="5"/>
                              </a:lnTo>
                              <a:lnTo>
                                <a:pt x="1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3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040" bIns="-32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8" name=""/>
                        <p:cNvSpPr/>
                        <p:nvPr/>
                      </p:nvSpPr>
                      <p:spPr>
                        <a:xfrm>
                          <a:off x="7032600" y="5007600"/>
                          <a:ext cx="16200" cy="41760"/>
                        </a:xfrm>
                        <a:prstGeom prst="ellipse">
                          <a:avLst/>
                        </a:prstGeom>
                        <a:solidFill>
                          <a:srgbClr val="7f3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7280" bIns="-17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9" name=""/>
                        <p:cNvSpPr/>
                        <p:nvPr/>
                      </p:nvSpPr>
                      <p:spPr>
                        <a:xfrm>
                          <a:off x="7034400" y="5009040"/>
                          <a:ext cx="14760" cy="39600"/>
                        </a:xfrm>
                        <a:prstGeom prst="ellipse">
                          <a:avLst/>
                        </a:prstGeom>
                        <a:solidFill>
                          <a:srgbClr val="ffdfb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720" bIns="-18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470" name=""/>
                <p:cNvGrpSpPr/>
                <p:nvPr/>
              </p:nvGrpSpPr>
              <p:grpSpPr>
                <a:xfrm>
                  <a:off x="7268040" y="4911480"/>
                  <a:ext cx="532440" cy="507240"/>
                  <a:chOff x="7268040" y="4911480"/>
                  <a:chExt cx="532440" cy="507240"/>
                </a:xfrm>
              </p:grpSpPr>
              <p:sp>
                <p:nvSpPr>
                  <p:cNvPr id="1471" name=""/>
                  <p:cNvSpPr/>
                  <p:nvPr/>
                </p:nvSpPr>
                <p:spPr>
                  <a:xfrm flipH="1" rot="19674000">
                    <a:off x="7281360" y="5207760"/>
                    <a:ext cx="95400" cy="78120"/>
                  </a:xfrm>
                  <a:prstGeom prst="parallelogram">
                    <a:avLst>
                      <a:gd name="adj" fmla="val 19081"/>
                    </a:avLst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72" name=""/>
                  <p:cNvGrpSpPr/>
                  <p:nvPr/>
                </p:nvGrpSpPr>
                <p:grpSpPr>
                  <a:xfrm>
                    <a:off x="7329240" y="4911480"/>
                    <a:ext cx="428400" cy="382320"/>
                    <a:chOff x="7329240" y="4911480"/>
                    <a:chExt cx="428400" cy="382320"/>
                  </a:xfrm>
                </p:grpSpPr>
                <p:grpSp>
                  <p:nvGrpSpPr>
                    <p:cNvPr id="1473" name=""/>
                    <p:cNvGrpSpPr/>
                    <p:nvPr/>
                  </p:nvGrpSpPr>
                  <p:grpSpPr>
                    <a:xfrm>
                      <a:off x="7383960" y="4911480"/>
                      <a:ext cx="373680" cy="370800"/>
                      <a:chOff x="7383960" y="4911480"/>
                      <a:chExt cx="373680" cy="370800"/>
                    </a:xfrm>
                  </p:grpSpPr>
                  <p:sp>
                    <p:nvSpPr>
                      <p:cNvPr id="1474" name=""/>
                      <p:cNvSpPr/>
                      <p:nvPr/>
                    </p:nvSpPr>
                    <p:spPr>
                      <a:xfrm>
                        <a:off x="7383960" y="5049720"/>
                        <a:ext cx="373680" cy="232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86" h="882">
                            <a:moveTo>
                              <a:pt x="764" y="8"/>
                            </a:moveTo>
                            <a:lnTo>
                              <a:pt x="830" y="0"/>
                            </a:lnTo>
                            <a:lnTo>
                              <a:pt x="896" y="8"/>
                            </a:lnTo>
                            <a:lnTo>
                              <a:pt x="929" y="22"/>
                            </a:lnTo>
                            <a:lnTo>
                              <a:pt x="1005" y="79"/>
                            </a:lnTo>
                            <a:lnTo>
                              <a:pt x="1053" y="125"/>
                            </a:lnTo>
                            <a:lnTo>
                              <a:pt x="1104" y="191"/>
                            </a:lnTo>
                            <a:lnTo>
                              <a:pt x="1148" y="258"/>
                            </a:lnTo>
                            <a:lnTo>
                              <a:pt x="1181" y="311"/>
                            </a:lnTo>
                            <a:lnTo>
                              <a:pt x="1195" y="339"/>
                            </a:lnTo>
                            <a:lnTo>
                              <a:pt x="1217" y="424"/>
                            </a:lnTo>
                            <a:lnTo>
                              <a:pt x="1246" y="554"/>
                            </a:lnTo>
                            <a:lnTo>
                              <a:pt x="1265" y="646"/>
                            </a:lnTo>
                            <a:lnTo>
                              <a:pt x="1276" y="766"/>
                            </a:lnTo>
                            <a:lnTo>
                              <a:pt x="1286" y="864"/>
                            </a:lnTo>
                            <a:lnTo>
                              <a:pt x="1013" y="868"/>
                            </a:lnTo>
                            <a:lnTo>
                              <a:pt x="845" y="878"/>
                            </a:lnTo>
                            <a:lnTo>
                              <a:pt x="713" y="882"/>
                            </a:lnTo>
                            <a:lnTo>
                              <a:pt x="343" y="864"/>
                            </a:lnTo>
                            <a:lnTo>
                              <a:pt x="197" y="857"/>
                            </a:lnTo>
                            <a:lnTo>
                              <a:pt x="76" y="850"/>
                            </a:lnTo>
                            <a:lnTo>
                              <a:pt x="80" y="811"/>
                            </a:lnTo>
                            <a:lnTo>
                              <a:pt x="65" y="769"/>
                            </a:lnTo>
                            <a:lnTo>
                              <a:pt x="29" y="741"/>
                            </a:lnTo>
                            <a:lnTo>
                              <a:pt x="0" y="723"/>
                            </a:lnTo>
                            <a:lnTo>
                              <a:pt x="153" y="671"/>
                            </a:lnTo>
                            <a:lnTo>
                              <a:pt x="281" y="621"/>
                            </a:lnTo>
                            <a:lnTo>
                              <a:pt x="336" y="597"/>
                            </a:lnTo>
                            <a:lnTo>
                              <a:pt x="383" y="575"/>
                            </a:lnTo>
                            <a:lnTo>
                              <a:pt x="416" y="530"/>
                            </a:lnTo>
                            <a:lnTo>
                              <a:pt x="423" y="512"/>
                            </a:lnTo>
                            <a:lnTo>
                              <a:pt x="427" y="473"/>
                            </a:lnTo>
                            <a:lnTo>
                              <a:pt x="431" y="449"/>
                            </a:lnTo>
                            <a:lnTo>
                              <a:pt x="445" y="403"/>
                            </a:lnTo>
                            <a:lnTo>
                              <a:pt x="453" y="382"/>
                            </a:lnTo>
                            <a:lnTo>
                              <a:pt x="456" y="346"/>
                            </a:lnTo>
                            <a:lnTo>
                              <a:pt x="464" y="294"/>
                            </a:lnTo>
                            <a:lnTo>
                              <a:pt x="482" y="262"/>
                            </a:lnTo>
                            <a:lnTo>
                              <a:pt x="482" y="227"/>
                            </a:lnTo>
                            <a:lnTo>
                              <a:pt x="573" y="125"/>
                            </a:lnTo>
                            <a:lnTo>
                              <a:pt x="591" y="142"/>
                            </a:lnTo>
                            <a:lnTo>
                              <a:pt x="764" y="8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5" name=""/>
                      <p:cNvSpPr/>
                      <p:nvPr/>
                    </p:nvSpPr>
                    <p:spPr>
                      <a:xfrm>
                        <a:off x="7631280" y="5105160"/>
                        <a:ext cx="73080" cy="17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2" h="669">
                            <a:moveTo>
                              <a:pt x="197" y="0"/>
                            </a:moveTo>
                            <a:lnTo>
                              <a:pt x="223" y="25"/>
                            </a:lnTo>
                            <a:lnTo>
                              <a:pt x="230" y="81"/>
                            </a:lnTo>
                            <a:lnTo>
                              <a:pt x="230" y="141"/>
                            </a:lnTo>
                            <a:lnTo>
                              <a:pt x="230" y="180"/>
                            </a:lnTo>
                            <a:lnTo>
                              <a:pt x="252" y="201"/>
                            </a:lnTo>
                            <a:lnTo>
                              <a:pt x="234" y="211"/>
                            </a:lnTo>
                            <a:lnTo>
                              <a:pt x="230" y="250"/>
                            </a:lnTo>
                            <a:lnTo>
                              <a:pt x="219" y="271"/>
                            </a:lnTo>
                            <a:lnTo>
                              <a:pt x="212" y="303"/>
                            </a:lnTo>
                            <a:lnTo>
                              <a:pt x="201" y="317"/>
                            </a:lnTo>
                            <a:lnTo>
                              <a:pt x="201" y="352"/>
                            </a:lnTo>
                            <a:lnTo>
                              <a:pt x="186" y="388"/>
                            </a:lnTo>
                            <a:lnTo>
                              <a:pt x="183" y="447"/>
                            </a:lnTo>
                            <a:lnTo>
                              <a:pt x="172" y="507"/>
                            </a:lnTo>
                            <a:lnTo>
                              <a:pt x="164" y="521"/>
                            </a:lnTo>
                            <a:lnTo>
                              <a:pt x="164" y="543"/>
                            </a:lnTo>
                            <a:lnTo>
                              <a:pt x="146" y="546"/>
                            </a:lnTo>
                            <a:lnTo>
                              <a:pt x="146" y="560"/>
                            </a:lnTo>
                            <a:lnTo>
                              <a:pt x="139" y="581"/>
                            </a:lnTo>
                            <a:lnTo>
                              <a:pt x="117" y="606"/>
                            </a:lnTo>
                            <a:lnTo>
                              <a:pt x="95" y="634"/>
                            </a:lnTo>
                            <a:lnTo>
                              <a:pt x="80" y="669"/>
                            </a:lnTo>
                            <a:lnTo>
                              <a:pt x="18" y="669"/>
                            </a:lnTo>
                            <a:lnTo>
                              <a:pt x="117" y="585"/>
                            </a:lnTo>
                            <a:lnTo>
                              <a:pt x="135" y="550"/>
                            </a:lnTo>
                            <a:lnTo>
                              <a:pt x="128" y="514"/>
                            </a:lnTo>
                            <a:lnTo>
                              <a:pt x="150" y="497"/>
                            </a:lnTo>
                            <a:lnTo>
                              <a:pt x="150" y="388"/>
                            </a:lnTo>
                            <a:lnTo>
                              <a:pt x="84" y="377"/>
                            </a:lnTo>
                            <a:lnTo>
                              <a:pt x="44" y="366"/>
                            </a:lnTo>
                            <a:lnTo>
                              <a:pt x="0" y="352"/>
                            </a:lnTo>
                            <a:lnTo>
                              <a:pt x="139" y="349"/>
                            </a:lnTo>
                            <a:lnTo>
                              <a:pt x="161" y="338"/>
                            </a:lnTo>
                            <a:lnTo>
                              <a:pt x="157" y="317"/>
                            </a:lnTo>
                            <a:lnTo>
                              <a:pt x="117" y="310"/>
                            </a:lnTo>
                            <a:lnTo>
                              <a:pt x="73" y="307"/>
                            </a:lnTo>
                            <a:lnTo>
                              <a:pt x="131" y="292"/>
                            </a:lnTo>
                            <a:lnTo>
                              <a:pt x="146" y="282"/>
                            </a:lnTo>
                            <a:lnTo>
                              <a:pt x="95" y="233"/>
                            </a:lnTo>
                            <a:lnTo>
                              <a:pt x="47" y="208"/>
                            </a:lnTo>
                            <a:lnTo>
                              <a:pt x="18" y="176"/>
                            </a:lnTo>
                            <a:lnTo>
                              <a:pt x="7" y="169"/>
                            </a:lnTo>
                            <a:lnTo>
                              <a:pt x="40" y="166"/>
                            </a:lnTo>
                            <a:lnTo>
                              <a:pt x="80" y="183"/>
                            </a:lnTo>
                            <a:lnTo>
                              <a:pt x="131" y="211"/>
                            </a:lnTo>
                            <a:lnTo>
                              <a:pt x="175" y="229"/>
                            </a:lnTo>
                            <a:lnTo>
                              <a:pt x="201" y="222"/>
                            </a:lnTo>
                            <a:lnTo>
                              <a:pt x="215" y="194"/>
                            </a:lnTo>
                            <a:lnTo>
                              <a:pt x="215" y="134"/>
                            </a:lnTo>
                            <a:lnTo>
                              <a:pt x="197" y="0"/>
                            </a:lnTo>
                            <a:close/>
                          </a:path>
                        </a:pathLst>
                      </a:custGeom>
                      <a:solidFill>
                        <a:srgbClr val="3f3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6" name=""/>
                      <p:cNvSpPr/>
                      <p:nvPr/>
                    </p:nvSpPr>
                    <p:spPr>
                      <a:xfrm>
                        <a:off x="7426440" y="5151960"/>
                        <a:ext cx="145080" cy="12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1" h="462">
                            <a:moveTo>
                              <a:pt x="0" y="462"/>
                            </a:moveTo>
                            <a:lnTo>
                              <a:pt x="314" y="356"/>
                            </a:lnTo>
                            <a:lnTo>
                              <a:pt x="339" y="335"/>
                            </a:lnTo>
                            <a:lnTo>
                              <a:pt x="365" y="300"/>
                            </a:lnTo>
                            <a:lnTo>
                              <a:pt x="369" y="264"/>
                            </a:lnTo>
                            <a:lnTo>
                              <a:pt x="372" y="162"/>
                            </a:lnTo>
                            <a:lnTo>
                              <a:pt x="383" y="233"/>
                            </a:lnTo>
                            <a:lnTo>
                              <a:pt x="405" y="250"/>
                            </a:lnTo>
                            <a:lnTo>
                              <a:pt x="420" y="194"/>
                            </a:lnTo>
                            <a:lnTo>
                              <a:pt x="434" y="141"/>
                            </a:lnTo>
                            <a:lnTo>
                              <a:pt x="487" y="0"/>
                            </a:lnTo>
                            <a:lnTo>
                              <a:pt x="454" y="120"/>
                            </a:lnTo>
                            <a:lnTo>
                              <a:pt x="434" y="194"/>
                            </a:lnTo>
                            <a:lnTo>
                              <a:pt x="423" y="250"/>
                            </a:lnTo>
                            <a:lnTo>
                              <a:pt x="405" y="286"/>
                            </a:lnTo>
                            <a:lnTo>
                              <a:pt x="383" y="314"/>
                            </a:lnTo>
                            <a:lnTo>
                              <a:pt x="409" y="335"/>
                            </a:lnTo>
                            <a:lnTo>
                              <a:pt x="442" y="331"/>
                            </a:lnTo>
                            <a:lnTo>
                              <a:pt x="501" y="282"/>
                            </a:lnTo>
                            <a:lnTo>
                              <a:pt x="423" y="370"/>
                            </a:lnTo>
                            <a:lnTo>
                              <a:pt x="343" y="388"/>
                            </a:lnTo>
                            <a:lnTo>
                              <a:pt x="252" y="405"/>
                            </a:lnTo>
                            <a:lnTo>
                              <a:pt x="164" y="423"/>
                            </a:lnTo>
                            <a:lnTo>
                              <a:pt x="66" y="444"/>
                            </a:lnTo>
                            <a:lnTo>
                              <a:pt x="0" y="462"/>
                            </a:lnTo>
                            <a:close/>
                          </a:path>
                        </a:pathLst>
                      </a:custGeom>
                      <a:solidFill>
                        <a:srgbClr val="3f3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7" name=""/>
                      <p:cNvSpPr/>
                      <p:nvPr/>
                    </p:nvSpPr>
                    <p:spPr>
                      <a:xfrm>
                        <a:off x="7555320" y="5068080"/>
                        <a:ext cx="113760" cy="20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2" h="768">
                            <a:moveTo>
                              <a:pt x="392" y="7"/>
                            </a:moveTo>
                            <a:lnTo>
                              <a:pt x="312" y="0"/>
                            </a:lnTo>
                            <a:lnTo>
                              <a:pt x="268" y="7"/>
                            </a:lnTo>
                            <a:lnTo>
                              <a:pt x="195" y="78"/>
                            </a:lnTo>
                            <a:lnTo>
                              <a:pt x="126" y="162"/>
                            </a:lnTo>
                            <a:lnTo>
                              <a:pt x="86" y="328"/>
                            </a:lnTo>
                            <a:lnTo>
                              <a:pt x="71" y="374"/>
                            </a:lnTo>
                            <a:lnTo>
                              <a:pt x="56" y="507"/>
                            </a:lnTo>
                            <a:lnTo>
                              <a:pt x="49" y="603"/>
                            </a:lnTo>
                            <a:lnTo>
                              <a:pt x="0" y="662"/>
                            </a:lnTo>
                            <a:lnTo>
                              <a:pt x="108" y="768"/>
                            </a:lnTo>
                            <a:lnTo>
                              <a:pt x="56" y="691"/>
                            </a:lnTo>
                            <a:lnTo>
                              <a:pt x="67" y="684"/>
                            </a:lnTo>
                            <a:lnTo>
                              <a:pt x="140" y="722"/>
                            </a:lnTo>
                            <a:lnTo>
                              <a:pt x="228" y="743"/>
                            </a:lnTo>
                            <a:lnTo>
                              <a:pt x="111" y="698"/>
                            </a:lnTo>
                            <a:lnTo>
                              <a:pt x="67" y="659"/>
                            </a:lnTo>
                            <a:lnTo>
                              <a:pt x="67" y="620"/>
                            </a:lnTo>
                            <a:lnTo>
                              <a:pt x="140" y="617"/>
                            </a:lnTo>
                            <a:lnTo>
                              <a:pt x="64" y="599"/>
                            </a:lnTo>
                            <a:lnTo>
                              <a:pt x="71" y="507"/>
                            </a:lnTo>
                            <a:lnTo>
                              <a:pt x="89" y="356"/>
                            </a:lnTo>
                            <a:lnTo>
                              <a:pt x="148" y="166"/>
                            </a:lnTo>
                            <a:lnTo>
                              <a:pt x="188" y="106"/>
                            </a:lnTo>
                            <a:lnTo>
                              <a:pt x="268" y="28"/>
                            </a:lnTo>
                            <a:lnTo>
                              <a:pt x="312" y="18"/>
                            </a:lnTo>
                            <a:lnTo>
                              <a:pt x="392" y="7"/>
                            </a:lnTo>
                            <a:close/>
                          </a:path>
                        </a:pathLst>
                      </a:custGeom>
                      <a:solidFill>
                        <a:srgbClr val="3f3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478" name=""/>
                      <p:cNvGrpSpPr/>
                      <p:nvPr/>
                    </p:nvGrpSpPr>
                    <p:grpSpPr>
                      <a:xfrm>
                        <a:off x="7461360" y="4911480"/>
                        <a:ext cx="185400" cy="255600"/>
                        <a:chOff x="7461360" y="4911480"/>
                        <a:chExt cx="185400" cy="255600"/>
                      </a:xfrm>
                    </p:grpSpPr>
                    <p:sp>
                      <p:nvSpPr>
                        <p:cNvPr id="1479" name=""/>
                        <p:cNvSpPr/>
                        <p:nvPr/>
                      </p:nvSpPr>
                      <p:spPr>
                        <a:xfrm>
                          <a:off x="7540560" y="5049000"/>
                          <a:ext cx="66600" cy="60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1" h="229">
                              <a:moveTo>
                                <a:pt x="202" y="0"/>
                              </a:moveTo>
                              <a:lnTo>
                                <a:pt x="44" y="135"/>
                              </a:lnTo>
                              <a:lnTo>
                                <a:pt x="33" y="118"/>
                              </a:lnTo>
                              <a:lnTo>
                                <a:pt x="8" y="174"/>
                              </a:lnTo>
                              <a:lnTo>
                                <a:pt x="0" y="206"/>
                              </a:lnTo>
                              <a:lnTo>
                                <a:pt x="18" y="188"/>
                              </a:lnTo>
                              <a:lnTo>
                                <a:pt x="35" y="151"/>
                              </a:lnTo>
                              <a:lnTo>
                                <a:pt x="69" y="229"/>
                              </a:lnTo>
                              <a:lnTo>
                                <a:pt x="122" y="169"/>
                              </a:lnTo>
                              <a:lnTo>
                                <a:pt x="180" y="76"/>
                              </a:lnTo>
                              <a:lnTo>
                                <a:pt x="231" y="16"/>
                              </a:lnTo>
                              <a:lnTo>
                                <a:pt x="20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320" bIns="13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0" name=""/>
                        <p:cNvSpPr/>
                        <p:nvPr/>
                      </p:nvSpPr>
                      <p:spPr>
                        <a:xfrm>
                          <a:off x="7539480" y="5088600"/>
                          <a:ext cx="19080" cy="75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6" h="286">
                              <a:moveTo>
                                <a:pt x="37" y="0"/>
                              </a:moveTo>
                              <a:lnTo>
                                <a:pt x="26" y="13"/>
                              </a:lnTo>
                              <a:lnTo>
                                <a:pt x="19" y="23"/>
                              </a:lnTo>
                              <a:lnTo>
                                <a:pt x="13" y="37"/>
                              </a:lnTo>
                              <a:lnTo>
                                <a:pt x="6" y="60"/>
                              </a:lnTo>
                              <a:lnTo>
                                <a:pt x="4" y="83"/>
                              </a:lnTo>
                              <a:lnTo>
                                <a:pt x="6" y="105"/>
                              </a:lnTo>
                              <a:lnTo>
                                <a:pt x="10" y="129"/>
                              </a:lnTo>
                              <a:lnTo>
                                <a:pt x="14" y="142"/>
                              </a:lnTo>
                              <a:lnTo>
                                <a:pt x="2" y="195"/>
                              </a:lnTo>
                              <a:lnTo>
                                <a:pt x="0" y="218"/>
                              </a:lnTo>
                              <a:lnTo>
                                <a:pt x="0" y="247"/>
                              </a:lnTo>
                              <a:lnTo>
                                <a:pt x="4" y="286"/>
                              </a:lnTo>
                              <a:lnTo>
                                <a:pt x="25" y="198"/>
                              </a:lnTo>
                              <a:lnTo>
                                <a:pt x="36" y="139"/>
                              </a:lnTo>
                              <a:lnTo>
                                <a:pt x="66" y="65"/>
                              </a:lnTo>
                              <a:lnTo>
                                <a:pt x="3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440" bIns="28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1" name=""/>
                        <p:cNvSpPr/>
                        <p:nvPr/>
                      </p:nvSpPr>
                      <p:spPr>
                        <a:xfrm>
                          <a:off x="7540560" y="5088600"/>
                          <a:ext cx="17280" cy="40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2" h="151">
                              <a:moveTo>
                                <a:pt x="33" y="0"/>
                              </a:moveTo>
                              <a:lnTo>
                                <a:pt x="22" y="13"/>
                              </a:lnTo>
                              <a:lnTo>
                                <a:pt x="14" y="23"/>
                              </a:lnTo>
                              <a:lnTo>
                                <a:pt x="8" y="37"/>
                              </a:lnTo>
                              <a:lnTo>
                                <a:pt x="2" y="60"/>
                              </a:lnTo>
                              <a:lnTo>
                                <a:pt x="0" y="83"/>
                              </a:lnTo>
                              <a:lnTo>
                                <a:pt x="2" y="106"/>
                              </a:lnTo>
                              <a:lnTo>
                                <a:pt x="6" y="129"/>
                              </a:lnTo>
                              <a:lnTo>
                                <a:pt x="10" y="142"/>
                              </a:lnTo>
                              <a:lnTo>
                                <a:pt x="27" y="151"/>
                              </a:lnTo>
                              <a:lnTo>
                                <a:pt x="31" y="136"/>
                              </a:lnTo>
                              <a:lnTo>
                                <a:pt x="62" y="66"/>
                              </a:lnTo>
                              <a:lnTo>
                                <a:pt x="33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6480" bIns="-6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482" name=""/>
                        <p:cNvGrpSpPr/>
                        <p:nvPr/>
                      </p:nvGrpSpPr>
                      <p:grpSpPr>
                        <a:xfrm>
                          <a:off x="7461360" y="4911480"/>
                          <a:ext cx="185400" cy="177120"/>
                          <a:chOff x="7461360" y="4911480"/>
                          <a:chExt cx="185400" cy="177120"/>
                        </a:xfrm>
                      </p:grpSpPr>
                      <p:grpSp>
                        <p:nvGrpSpPr>
                          <p:cNvPr id="1483" name=""/>
                          <p:cNvGrpSpPr/>
                          <p:nvPr/>
                        </p:nvGrpSpPr>
                        <p:grpSpPr>
                          <a:xfrm>
                            <a:off x="7480440" y="4930200"/>
                            <a:ext cx="137520" cy="158400"/>
                            <a:chOff x="7480440" y="4930200"/>
                            <a:chExt cx="137520" cy="158400"/>
                          </a:xfrm>
                        </p:grpSpPr>
                        <p:sp>
                          <p:nvSpPr>
                            <p:cNvPr id="1484" name=""/>
                            <p:cNvSpPr/>
                            <p:nvPr/>
                          </p:nvSpPr>
                          <p:spPr>
                            <a:xfrm>
                              <a:off x="7480440" y="4930200"/>
                              <a:ext cx="137520" cy="158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74" h="598">
                                  <a:moveTo>
                                    <a:pt x="148" y="17"/>
                                  </a:moveTo>
                                  <a:lnTo>
                                    <a:pt x="114" y="36"/>
                                  </a:lnTo>
                                  <a:lnTo>
                                    <a:pt x="82" y="56"/>
                                  </a:lnTo>
                                  <a:lnTo>
                                    <a:pt x="59" y="75"/>
                                  </a:lnTo>
                                  <a:lnTo>
                                    <a:pt x="37" y="95"/>
                                  </a:lnTo>
                                  <a:lnTo>
                                    <a:pt x="20" y="116"/>
                                  </a:lnTo>
                                  <a:lnTo>
                                    <a:pt x="9" y="138"/>
                                  </a:lnTo>
                                  <a:lnTo>
                                    <a:pt x="5" y="162"/>
                                  </a:lnTo>
                                  <a:lnTo>
                                    <a:pt x="2" y="188"/>
                                  </a:lnTo>
                                  <a:lnTo>
                                    <a:pt x="0" y="219"/>
                                  </a:lnTo>
                                  <a:lnTo>
                                    <a:pt x="4" y="248"/>
                                  </a:lnTo>
                                  <a:lnTo>
                                    <a:pt x="0" y="286"/>
                                  </a:lnTo>
                                  <a:lnTo>
                                    <a:pt x="16" y="297"/>
                                  </a:lnTo>
                                  <a:lnTo>
                                    <a:pt x="30" y="307"/>
                                  </a:lnTo>
                                  <a:lnTo>
                                    <a:pt x="31" y="317"/>
                                  </a:lnTo>
                                  <a:lnTo>
                                    <a:pt x="31" y="332"/>
                                  </a:lnTo>
                                  <a:lnTo>
                                    <a:pt x="26" y="350"/>
                                  </a:lnTo>
                                  <a:lnTo>
                                    <a:pt x="11" y="398"/>
                                  </a:lnTo>
                                  <a:lnTo>
                                    <a:pt x="11" y="419"/>
                                  </a:lnTo>
                                  <a:lnTo>
                                    <a:pt x="23" y="424"/>
                                  </a:lnTo>
                                  <a:lnTo>
                                    <a:pt x="42" y="424"/>
                                  </a:lnTo>
                                  <a:lnTo>
                                    <a:pt x="55" y="424"/>
                                  </a:lnTo>
                                  <a:lnTo>
                                    <a:pt x="77" y="481"/>
                                  </a:lnTo>
                                  <a:lnTo>
                                    <a:pt x="78" y="502"/>
                                  </a:lnTo>
                                  <a:lnTo>
                                    <a:pt x="86" y="512"/>
                                  </a:lnTo>
                                  <a:lnTo>
                                    <a:pt x="95" y="515"/>
                                  </a:lnTo>
                                  <a:lnTo>
                                    <a:pt x="96" y="527"/>
                                  </a:lnTo>
                                  <a:lnTo>
                                    <a:pt x="95" y="543"/>
                                  </a:lnTo>
                                  <a:lnTo>
                                    <a:pt x="104" y="569"/>
                                  </a:lnTo>
                                  <a:lnTo>
                                    <a:pt x="115" y="586"/>
                                  </a:lnTo>
                                  <a:lnTo>
                                    <a:pt x="126" y="593"/>
                                  </a:lnTo>
                                  <a:lnTo>
                                    <a:pt x="151" y="598"/>
                                  </a:lnTo>
                                  <a:lnTo>
                                    <a:pt x="172" y="596"/>
                                  </a:lnTo>
                                  <a:lnTo>
                                    <a:pt x="201" y="583"/>
                                  </a:lnTo>
                                  <a:lnTo>
                                    <a:pt x="235" y="565"/>
                                  </a:lnTo>
                                  <a:lnTo>
                                    <a:pt x="250" y="582"/>
                                  </a:lnTo>
                                  <a:lnTo>
                                    <a:pt x="456" y="423"/>
                                  </a:lnTo>
                                  <a:lnTo>
                                    <a:pt x="443" y="396"/>
                                  </a:lnTo>
                                  <a:lnTo>
                                    <a:pt x="456" y="359"/>
                                  </a:lnTo>
                                  <a:lnTo>
                                    <a:pt x="469" y="311"/>
                                  </a:lnTo>
                                  <a:lnTo>
                                    <a:pt x="474" y="250"/>
                                  </a:lnTo>
                                  <a:lnTo>
                                    <a:pt x="473" y="204"/>
                                  </a:lnTo>
                                  <a:lnTo>
                                    <a:pt x="459" y="128"/>
                                  </a:lnTo>
                                  <a:lnTo>
                                    <a:pt x="440" y="60"/>
                                  </a:lnTo>
                                  <a:lnTo>
                                    <a:pt x="418" y="10"/>
                                  </a:lnTo>
                                  <a:lnTo>
                                    <a:pt x="335" y="0"/>
                                  </a:lnTo>
                                  <a:lnTo>
                                    <a:pt x="208" y="1"/>
                                  </a:lnTo>
                                  <a:lnTo>
                                    <a:pt x="148" y="17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bfb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1485" name=""/>
                            <p:cNvGrpSpPr/>
                            <p:nvPr/>
                          </p:nvGrpSpPr>
                          <p:grpSpPr>
                            <a:xfrm>
                              <a:off x="7535160" y="5010120"/>
                              <a:ext cx="23400" cy="37080"/>
                              <a:chOff x="7535160" y="5010120"/>
                              <a:chExt cx="23400" cy="37080"/>
                            </a:xfrm>
                          </p:grpSpPr>
                          <p:sp>
                            <p:nvSpPr>
                              <p:cNvPr id="1486" name=""/>
                              <p:cNvSpPr/>
                              <p:nvPr/>
                            </p:nvSpPr>
                            <p:spPr>
                              <a:xfrm>
                                <a:off x="7535160" y="5010120"/>
                                <a:ext cx="18360" cy="23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1" h="89">
                                    <a:moveTo>
                                      <a:pt x="0" y="37"/>
                                    </a:moveTo>
                                    <a:lnTo>
                                      <a:pt x="6" y="18"/>
                                    </a:lnTo>
                                    <a:lnTo>
                                      <a:pt x="11" y="5"/>
                                    </a:lnTo>
                                    <a:lnTo>
                                      <a:pt x="16" y="2"/>
                                    </a:lnTo>
                                    <a:lnTo>
                                      <a:pt x="24" y="0"/>
                                    </a:lnTo>
                                    <a:lnTo>
                                      <a:pt x="34" y="0"/>
                                    </a:lnTo>
                                    <a:lnTo>
                                      <a:pt x="44" y="2"/>
                                    </a:lnTo>
                                    <a:lnTo>
                                      <a:pt x="51" y="7"/>
                                    </a:lnTo>
                                    <a:lnTo>
                                      <a:pt x="56" y="16"/>
                                    </a:lnTo>
                                    <a:lnTo>
                                      <a:pt x="60" y="31"/>
                                    </a:lnTo>
                                    <a:lnTo>
                                      <a:pt x="61" y="44"/>
                                    </a:lnTo>
                                    <a:lnTo>
                                      <a:pt x="58" y="62"/>
                                    </a:lnTo>
                                    <a:lnTo>
                                      <a:pt x="55" y="78"/>
                                    </a:lnTo>
                                    <a:lnTo>
                                      <a:pt x="47" y="89"/>
                                    </a:lnTo>
                                    <a:lnTo>
                                      <a:pt x="44" y="76"/>
                                    </a:lnTo>
                                    <a:lnTo>
                                      <a:pt x="51" y="64"/>
                                    </a:lnTo>
                                    <a:lnTo>
                                      <a:pt x="46" y="49"/>
                                    </a:lnTo>
                                    <a:lnTo>
                                      <a:pt x="40" y="55"/>
                                    </a:lnTo>
                                    <a:lnTo>
                                      <a:pt x="27" y="61"/>
                                    </a:lnTo>
                                    <a:lnTo>
                                      <a:pt x="22" y="48"/>
                                    </a:lnTo>
                                    <a:lnTo>
                                      <a:pt x="33" y="43"/>
                                    </a:lnTo>
                                    <a:lnTo>
                                      <a:pt x="44" y="41"/>
                                    </a:lnTo>
                                    <a:lnTo>
                                      <a:pt x="44" y="32"/>
                                    </a:lnTo>
                                    <a:lnTo>
                                      <a:pt x="43" y="22"/>
                                    </a:lnTo>
                                    <a:lnTo>
                                      <a:pt x="49" y="23"/>
                                    </a:lnTo>
                                    <a:lnTo>
                                      <a:pt x="47" y="10"/>
                                    </a:lnTo>
                                    <a:lnTo>
                                      <a:pt x="45" y="7"/>
                                    </a:lnTo>
                                    <a:lnTo>
                                      <a:pt x="35" y="5"/>
                                    </a:lnTo>
                                    <a:lnTo>
                                      <a:pt x="18" y="7"/>
                                    </a:lnTo>
                                    <a:lnTo>
                                      <a:pt x="10" y="20"/>
                                    </a:lnTo>
                                    <a:lnTo>
                                      <a:pt x="0" y="37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df9f7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3040" bIns="-230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87" name=""/>
                              <p:cNvSpPr/>
                              <p:nvPr/>
                            </p:nvSpPr>
                            <p:spPr>
                              <a:xfrm>
                                <a:off x="7543080" y="5033880"/>
                                <a:ext cx="15480" cy="133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4" h="50">
                                    <a:moveTo>
                                      <a:pt x="40" y="0"/>
                                    </a:moveTo>
                                    <a:lnTo>
                                      <a:pt x="32" y="17"/>
                                    </a:lnTo>
                                    <a:lnTo>
                                      <a:pt x="29" y="25"/>
                                    </a:lnTo>
                                    <a:lnTo>
                                      <a:pt x="21" y="31"/>
                                    </a:lnTo>
                                    <a:lnTo>
                                      <a:pt x="12" y="32"/>
                                    </a:lnTo>
                                    <a:lnTo>
                                      <a:pt x="0" y="32"/>
                                    </a:lnTo>
                                    <a:lnTo>
                                      <a:pt x="26" y="35"/>
                                    </a:lnTo>
                                    <a:lnTo>
                                      <a:pt x="42" y="42"/>
                                    </a:lnTo>
                                    <a:lnTo>
                                      <a:pt x="54" y="50"/>
                                    </a:lnTo>
                                    <a:lnTo>
                                      <a:pt x="43" y="33"/>
                                    </a:lnTo>
                                    <a:lnTo>
                                      <a:pt x="41" y="17"/>
                                    </a:lnTo>
                                    <a:lnTo>
                                      <a:pt x="4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df9f7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3480" bIns="-334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488" name=""/>
                            <p:cNvSpPr/>
                            <p:nvPr/>
                          </p:nvSpPr>
                          <p:spPr>
                            <a:xfrm>
                              <a:off x="7503840" y="5032440"/>
                              <a:ext cx="12960" cy="17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7" h="67">
                                  <a:moveTo>
                                    <a:pt x="8" y="0"/>
                                  </a:moveTo>
                                  <a:lnTo>
                                    <a:pt x="14" y="6"/>
                                  </a:lnTo>
                                  <a:lnTo>
                                    <a:pt x="15" y="13"/>
                                  </a:lnTo>
                                  <a:lnTo>
                                    <a:pt x="13" y="19"/>
                                  </a:lnTo>
                                  <a:lnTo>
                                    <a:pt x="8" y="25"/>
                                  </a:lnTo>
                                  <a:lnTo>
                                    <a:pt x="0" y="30"/>
                                  </a:lnTo>
                                  <a:lnTo>
                                    <a:pt x="7" y="35"/>
                                  </a:lnTo>
                                  <a:lnTo>
                                    <a:pt x="17" y="38"/>
                                  </a:lnTo>
                                  <a:lnTo>
                                    <a:pt x="27" y="43"/>
                                  </a:lnTo>
                                  <a:lnTo>
                                    <a:pt x="47" y="67"/>
                                  </a:lnTo>
                                  <a:lnTo>
                                    <a:pt x="22" y="29"/>
                                  </a:lnTo>
                                  <a:lnTo>
                                    <a:pt x="19" y="21"/>
                                  </a:lnTo>
                                  <a:lnTo>
                                    <a:pt x="19" y="12"/>
                                  </a:lnTo>
                                  <a:lnTo>
                                    <a:pt x="21" y="7"/>
                                  </a:lnTo>
                                  <a:lnTo>
                                    <a:pt x="8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df9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9520" bIns="-295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89" name=""/>
                          <p:cNvGrpSpPr/>
                          <p:nvPr/>
                        </p:nvGrpSpPr>
                        <p:grpSpPr>
                          <a:xfrm>
                            <a:off x="7461360" y="4911480"/>
                            <a:ext cx="185400" cy="177120"/>
                            <a:chOff x="7461360" y="4911480"/>
                            <a:chExt cx="185400" cy="177120"/>
                          </a:xfrm>
                        </p:grpSpPr>
                        <p:sp>
                          <p:nvSpPr>
                            <p:cNvPr id="1490" name=""/>
                            <p:cNvSpPr/>
                            <p:nvPr/>
                          </p:nvSpPr>
                          <p:spPr>
                            <a:xfrm>
                              <a:off x="7461360" y="4911480"/>
                              <a:ext cx="185400" cy="177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40" h="673">
                                  <a:moveTo>
                                    <a:pt x="307" y="0"/>
                                  </a:moveTo>
                                  <a:lnTo>
                                    <a:pt x="278" y="1"/>
                                  </a:lnTo>
                                  <a:lnTo>
                                    <a:pt x="256" y="5"/>
                                  </a:lnTo>
                                  <a:lnTo>
                                    <a:pt x="231" y="10"/>
                                  </a:lnTo>
                                  <a:lnTo>
                                    <a:pt x="203" y="20"/>
                                  </a:lnTo>
                                  <a:lnTo>
                                    <a:pt x="180" y="29"/>
                                  </a:lnTo>
                                  <a:lnTo>
                                    <a:pt x="154" y="51"/>
                                  </a:lnTo>
                                  <a:lnTo>
                                    <a:pt x="129" y="74"/>
                                  </a:lnTo>
                                  <a:lnTo>
                                    <a:pt x="106" y="98"/>
                                  </a:lnTo>
                                  <a:lnTo>
                                    <a:pt x="55" y="130"/>
                                  </a:lnTo>
                                  <a:lnTo>
                                    <a:pt x="37" y="142"/>
                                  </a:lnTo>
                                  <a:lnTo>
                                    <a:pt x="23" y="155"/>
                                  </a:lnTo>
                                  <a:lnTo>
                                    <a:pt x="15" y="167"/>
                                  </a:lnTo>
                                  <a:lnTo>
                                    <a:pt x="5" y="181"/>
                                  </a:lnTo>
                                  <a:lnTo>
                                    <a:pt x="1" y="195"/>
                                  </a:lnTo>
                                  <a:lnTo>
                                    <a:pt x="0" y="210"/>
                                  </a:lnTo>
                                  <a:lnTo>
                                    <a:pt x="0" y="225"/>
                                  </a:lnTo>
                                  <a:lnTo>
                                    <a:pt x="4" y="243"/>
                                  </a:lnTo>
                                  <a:lnTo>
                                    <a:pt x="14" y="263"/>
                                  </a:lnTo>
                                  <a:lnTo>
                                    <a:pt x="22" y="273"/>
                                  </a:lnTo>
                                  <a:lnTo>
                                    <a:pt x="33" y="282"/>
                                  </a:lnTo>
                                  <a:lnTo>
                                    <a:pt x="49" y="286"/>
                                  </a:lnTo>
                                  <a:lnTo>
                                    <a:pt x="66" y="290"/>
                                  </a:lnTo>
                                  <a:lnTo>
                                    <a:pt x="90" y="295"/>
                                  </a:lnTo>
                                  <a:lnTo>
                                    <a:pt x="76" y="276"/>
                                  </a:lnTo>
                                  <a:lnTo>
                                    <a:pt x="71" y="258"/>
                                  </a:lnTo>
                                  <a:lnTo>
                                    <a:pt x="72" y="237"/>
                                  </a:lnTo>
                                  <a:lnTo>
                                    <a:pt x="77" y="216"/>
                                  </a:lnTo>
                                  <a:lnTo>
                                    <a:pt x="84" y="203"/>
                                  </a:lnTo>
                                  <a:lnTo>
                                    <a:pt x="94" y="189"/>
                                  </a:lnTo>
                                  <a:lnTo>
                                    <a:pt x="106" y="177"/>
                                  </a:lnTo>
                                  <a:lnTo>
                                    <a:pt x="121" y="167"/>
                                  </a:lnTo>
                                  <a:lnTo>
                                    <a:pt x="139" y="157"/>
                                  </a:lnTo>
                                  <a:lnTo>
                                    <a:pt x="197" y="140"/>
                                  </a:lnTo>
                                  <a:lnTo>
                                    <a:pt x="186" y="151"/>
                                  </a:lnTo>
                                  <a:lnTo>
                                    <a:pt x="178" y="158"/>
                                  </a:lnTo>
                                  <a:lnTo>
                                    <a:pt x="166" y="163"/>
                                  </a:lnTo>
                                  <a:lnTo>
                                    <a:pt x="147" y="169"/>
                                  </a:lnTo>
                                  <a:lnTo>
                                    <a:pt x="135" y="172"/>
                                  </a:lnTo>
                                  <a:lnTo>
                                    <a:pt x="122" y="181"/>
                                  </a:lnTo>
                                  <a:lnTo>
                                    <a:pt x="116" y="191"/>
                                  </a:lnTo>
                                  <a:lnTo>
                                    <a:pt x="111" y="202"/>
                                  </a:lnTo>
                                  <a:lnTo>
                                    <a:pt x="108" y="214"/>
                                  </a:lnTo>
                                  <a:lnTo>
                                    <a:pt x="108" y="226"/>
                                  </a:lnTo>
                                  <a:lnTo>
                                    <a:pt x="113" y="241"/>
                                  </a:lnTo>
                                  <a:lnTo>
                                    <a:pt x="117" y="262"/>
                                  </a:lnTo>
                                  <a:lnTo>
                                    <a:pt x="127" y="280"/>
                                  </a:lnTo>
                                  <a:lnTo>
                                    <a:pt x="141" y="311"/>
                                  </a:lnTo>
                                  <a:lnTo>
                                    <a:pt x="167" y="371"/>
                                  </a:lnTo>
                                  <a:lnTo>
                                    <a:pt x="185" y="404"/>
                                  </a:lnTo>
                                  <a:lnTo>
                                    <a:pt x="206" y="412"/>
                                  </a:lnTo>
                                  <a:lnTo>
                                    <a:pt x="211" y="441"/>
                                  </a:lnTo>
                                  <a:lnTo>
                                    <a:pt x="214" y="515"/>
                                  </a:lnTo>
                                  <a:lnTo>
                                    <a:pt x="218" y="536"/>
                                  </a:lnTo>
                                  <a:lnTo>
                                    <a:pt x="220" y="554"/>
                                  </a:lnTo>
                                  <a:lnTo>
                                    <a:pt x="220" y="566"/>
                                  </a:lnTo>
                                  <a:lnTo>
                                    <a:pt x="210" y="579"/>
                                  </a:lnTo>
                                  <a:lnTo>
                                    <a:pt x="196" y="587"/>
                                  </a:lnTo>
                                  <a:lnTo>
                                    <a:pt x="179" y="596"/>
                                  </a:lnTo>
                                  <a:lnTo>
                                    <a:pt x="166" y="607"/>
                                  </a:lnTo>
                                  <a:lnTo>
                                    <a:pt x="163" y="614"/>
                                  </a:lnTo>
                                  <a:lnTo>
                                    <a:pt x="163" y="625"/>
                                  </a:lnTo>
                                  <a:lnTo>
                                    <a:pt x="166" y="633"/>
                                  </a:lnTo>
                                  <a:lnTo>
                                    <a:pt x="169" y="640"/>
                                  </a:lnTo>
                                  <a:lnTo>
                                    <a:pt x="173" y="649"/>
                                  </a:lnTo>
                                  <a:lnTo>
                                    <a:pt x="182" y="660"/>
                                  </a:lnTo>
                                  <a:lnTo>
                                    <a:pt x="190" y="666"/>
                                  </a:lnTo>
                                  <a:lnTo>
                                    <a:pt x="200" y="669"/>
                                  </a:lnTo>
                                  <a:lnTo>
                                    <a:pt x="211" y="672"/>
                                  </a:lnTo>
                                  <a:lnTo>
                                    <a:pt x="225" y="673"/>
                                  </a:lnTo>
                                  <a:lnTo>
                                    <a:pt x="236" y="672"/>
                                  </a:lnTo>
                                  <a:lnTo>
                                    <a:pt x="250" y="668"/>
                                  </a:lnTo>
                                  <a:lnTo>
                                    <a:pt x="261" y="664"/>
                                  </a:lnTo>
                                  <a:lnTo>
                                    <a:pt x="273" y="657"/>
                                  </a:lnTo>
                                  <a:lnTo>
                                    <a:pt x="287" y="648"/>
                                  </a:lnTo>
                                  <a:lnTo>
                                    <a:pt x="296" y="642"/>
                                  </a:lnTo>
                                  <a:lnTo>
                                    <a:pt x="295" y="613"/>
                                  </a:lnTo>
                                  <a:lnTo>
                                    <a:pt x="285" y="514"/>
                                  </a:lnTo>
                                  <a:lnTo>
                                    <a:pt x="253" y="458"/>
                                  </a:lnTo>
                                  <a:lnTo>
                                    <a:pt x="245" y="434"/>
                                  </a:lnTo>
                                  <a:lnTo>
                                    <a:pt x="240" y="411"/>
                                  </a:lnTo>
                                  <a:lnTo>
                                    <a:pt x="246" y="398"/>
                                  </a:lnTo>
                                  <a:lnTo>
                                    <a:pt x="253" y="383"/>
                                  </a:lnTo>
                                  <a:lnTo>
                                    <a:pt x="263" y="373"/>
                                  </a:lnTo>
                                  <a:lnTo>
                                    <a:pt x="278" y="367"/>
                                  </a:lnTo>
                                  <a:lnTo>
                                    <a:pt x="291" y="369"/>
                                  </a:lnTo>
                                  <a:lnTo>
                                    <a:pt x="307" y="373"/>
                                  </a:lnTo>
                                  <a:lnTo>
                                    <a:pt x="323" y="385"/>
                                  </a:lnTo>
                                  <a:lnTo>
                                    <a:pt x="329" y="396"/>
                                  </a:lnTo>
                                  <a:lnTo>
                                    <a:pt x="334" y="413"/>
                                  </a:lnTo>
                                  <a:lnTo>
                                    <a:pt x="335" y="430"/>
                                  </a:lnTo>
                                  <a:lnTo>
                                    <a:pt x="331" y="446"/>
                                  </a:lnTo>
                                  <a:lnTo>
                                    <a:pt x="328" y="460"/>
                                  </a:lnTo>
                                  <a:lnTo>
                                    <a:pt x="328" y="471"/>
                                  </a:lnTo>
                                  <a:lnTo>
                                    <a:pt x="335" y="480"/>
                                  </a:lnTo>
                                  <a:lnTo>
                                    <a:pt x="454" y="559"/>
                                  </a:lnTo>
                                  <a:lnTo>
                                    <a:pt x="499" y="554"/>
                                  </a:lnTo>
                                  <a:lnTo>
                                    <a:pt x="552" y="551"/>
                                  </a:lnTo>
                                  <a:lnTo>
                                    <a:pt x="598" y="539"/>
                                  </a:lnTo>
                                  <a:lnTo>
                                    <a:pt x="617" y="520"/>
                                  </a:lnTo>
                                  <a:lnTo>
                                    <a:pt x="628" y="509"/>
                                  </a:lnTo>
                                  <a:lnTo>
                                    <a:pt x="633" y="492"/>
                                  </a:lnTo>
                                  <a:lnTo>
                                    <a:pt x="637" y="472"/>
                                  </a:lnTo>
                                  <a:lnTo>
                                    <a:pt x="640" y="438"/>
                                  </a:lnTo>
                                  <a:lnTo>
                                    <a:pt x="630" y="416"/>
                                  </a:lnTo>
                                  <a:lnTo>
                                    <a:pt x="625" y="359"/>
                                  </a:lnTo>
                                  <a:lnTo>
                                    <a:pt x="606" y="282"/>
                                  </a:lnTo>
                                  <a:lnTo>
                                    <a:pt x="592" y="222"/>
                                  </a:lnTo>
                                  <a:lnTo>
                                    <a:pt x="563" y="163"/>
                                  </a:lnTo>
                                  <a:lnTo>
                                    <a:pt x="537" y="113"/>
                                  </a:lnTo>
                                  <a:lnTo>
                                    <a:pt x="522" y="88"/>
                                  </a:lnTo>
                                  <a:lnTo>
                                    <a:pt x="500" y="59"/>
                                  </a:lnTo>
                                  <a:lnTo>
                                    <a:pt x="482" y="43"/>
                                  </a:lnTo>
                                  <a:lnTo>
                                    <a:pt x="444" y="24"/>
                                  </a:lnTo>
                                  <a:lnTo>
                                    <a:pt x="412" y="10"/>
                                  </a:lnTo>
                                  <a:lnTo>
                                    <a:pt x="375" y="2"/>
                                  </a:lnTo>
                                  <a:lnTo>
                                    <a:pt x="340" y="0"/>
                                  </a:lnTo>
                                  <a:lnTo>
                                    <a:pt x="30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5f3f1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91" name=""/>
                            <p:cNvSpPr/>
                            <p:nvPr/>
                          </p:nvSpPr>
                          <p:spPr>
                            <a:xfrm>
                              <a:off x="7480440" y="5001480"/>
                              <a:ext cx="15480" cy="9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5" h="37">
                                  <a:moveTo>
                                    <a:pt x="2" y="0"/>
                                  </a:moveTo>
                                  <a:lnTo>
                                    <a:pt x="1" y="7"/>
                                  </a:lnTo>
                                  <a:lnTo>
                                    <a:pt x="0" y="17"/>
                                  </a:lnTo>
                                  <a:lnTo>
                                    <a:pt x="4" y="23"/>
                                  </a:lnTo>
                                  <a:lnTo>
                                    <a:pt x="11" y="28"/>
                                  </a:lnTo>
                                  <a:lnTo>
                                    <a:pt x="23" y="30"/>
                                  </a:lnTo>
                                  <a:lnTo>
                                    <a:pt x="35" y="31"/>
                                  </a:lnTo>
                                  <a:lnTo>
                                    <a:pt x="49" y="35"/>
                                  </a:lnTo>
                                  <a:lnTo>
                                    <a:pt x="55" y="37"/>
                                  </a:lnTo>
                                  <a:lnTo>
                                    <a:pt x="55" y="29"/>
                                  </a:lnTo>
                                  <a:lnTo>
                                    <a:pt x="42" y="18"/>
                                  </a:lnTo>
                                  <a:lnTo>
                                    <a:pt x="32" y="11"/>
                                  </a:lnTo>
                                  <a:lnTo>
                                    <a:pt x="19" y="5"/>
                                  </a:lnTo>
                                  <a:lnTo>
                                    <a:pt x="13" y="3"/>
                                  </a:lnTo>
                                  <a:lnTo>
                                    <a:pt x="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5f3f1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440" bIns="-374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92" name=""/>
                            <p:cNvSpPr/>
                            <p:nvPr/>
                          </p:nvSpPr>
                          <p:spPr>
                            <a:xfrm>
                              <a:off x="7486560" y="5012640"/>
                              <a:ext cx="8640" cy="28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2" h="13">
                                  <a:moveTo>
                                    <a:pt x="18" y="0"/>
                                  </a:moveTo>
                                  <a:lnTo>
                                    <a:pt x="14" y="6"/>
                                  </a:lnTo>
                                  <a:lnTo>
                                    <a:pt x="8" y="8"/>
                                  </a:lnTo>
                                  <a:lnTo>
                                    <a:pt x="0" y="9"/>
                                  </a:lnTo>
                                  <a:lnTo>
                                    <a:pt x="9" y="13"/>
                                  </a:lnTo>
                                  <a:lnTo>
                                    <a:pt x="24" y="13"/>
                                  </a:lnTo>
                                  <a:lnTo>
                                    <a:pt x="32" y="13"/>
                                  </a:lnTo>
                                  <a:lnTo>
                                    <a:pt x="18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5f3f1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920" bIns="-439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93" name=""/>
                            <p:cNvSpPr/>
                            <p:nvPr/>
                          </p:nvSpPr>
                          <p:spPr>
                            <a:xfrm>
                              <a:off x="7494480" y="5041080"/>
                              <a:ext cx="17280" cy="18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0" h="69">
                                  <a:moveTo>
                                    <a:pt x="9" y="1"/>
                                  </a:moveTo>
                                  <a:lnTo>
                                    <a:pt x="3" y="10"/>
                                  </a:lnTo>
                                  <a:lnTo>
                                    <a:pt x="1" y="17"/>
                                  </a:lnTo>
                                  <a:lnTo>
                                    <a:pt x="0" y="26"/>
                                  </a:lnTo>
                                  <a:lnTo>
                                    <a:pt x="0" y="34"/>
                                  </a:lnTo>
                                  <a:lnTo>
                                    <a:pt x="2" y="44"/>
                                  </a:lnTo>
                                  <a:lnTo>
                                    <a:pt x="4" y="53"/>
                                  </a:lnTo>
                                  <a:lnTo>
                                    <a:pt x="9" y="57"/>
                                  </a:lnTo>
                                  <a:lnTo>
                                    <a:pt x="14" y="61"/>
                                  </a:lnTo>
                                  <a:lnTo>
                                    <a:pt x="21" y="61"/>
                                  </a:lnTo>
                                  <a:lnTo>
                                    <a:pt x="30" y="61"/>
                                  </a:lnTo>
                                  <a:lnTo>
                                    <a:pt x="45" y="63"/>
                                  </a:lnTo>
                                  <a:lnTo>
                                    <a:pt x="60" y="69"/>
                                  </a:lnTo>
                                  <a:lnTo>
                                    <a:pt x="60" y="61"/>
                                  </a:lnTo>
                                  <a:lnTo>
                                    <a:pt x="56" y="50"/>
                                  </a:lnTo>
                                  <a:lnTo>
                                    <a:pt x="54" y="39"/>
                                  </a:lnTo>
                                  <a:lnTo>
                                    <a:pt x="47" y="28"/>
                                  </a:lnTo>
                                  <a:lnTo>
                                    <a:pt x="42" y="22"/>
                                  </a:lnTo>
                                  <a:lnTo>
                                    <a:pt x="35" y="15"/>
                                  </a:lnTo>
                                  <a:lnTo>
                                    <a:pt x="29" y="9"/>
                                  </a:lnTo>
                                  <a:lnTo>
                                    <a:pt x="24" y="5"/>
                                  </a:lnTo>
                                  <a:lnTo>
                                    <a:pt x="20" y="0"/>
                                  </a:lnTo>
                                  <a:lnTo>
                                    <a:pt x="9" y="1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5f3f1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8800" bIns="-28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94" name=""/>
                            <p:cNvSpPr/>
                            <p:nvPr/>
                          </p:nvSpPr>
                          <p:spPr>
                            <a:xfrm>
                              <a:off x="7464600" y="4942080"/>
                              <a:ext cx="41760" cy="37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6" h="146">
                                  <a:moveTo>
                                    <a:pt x="146" y="0"/>
                                  </a:moveTo>
                                  <a:lnTo>
                                    <a:pt x="121" y="11"/>
                                  </a:lnTo>
                                  <a:lnTo>
                                    <a:pt x="100" y="14"/>
                                  </a:lnTo>
                                  <a:lnTo>
                                    <a:pt x="79" y="20"/>
                                  </a:lnTo>
                                  <a:lnTo>
                                    <a:pt x="61" y="27"/>
                                  </a:lnTo>
                                  <a:lnTo>
                                    <a:pt x="43" y="35"/>
                                  </a:lnTo>
                                  <a:lnTo>
                                    <a:pt x="28" y="47"/>
                                  </a:lnTo>
                                  <a:lnTo>
                                    <a:pt x="19" y="59"/>
                                  </a:lnTo>
                                  <a:lnTo>
                                    <a:pt x="11" y="70"/>
                                  </a:lnTo>
                                  <a:lnTo>
                                    <a:pt x="5" y="80"/>
                                  </a:lnTo>
                                  <a:lnTo>
                                    <a:pt x="0" y="92"/>
                                  </a:lnTo>
                                  <a:lnTo>
                                    <a:pt x="8" y="84"/>
                                  </a:lnTo>
                                  <a:lnTo>
                                    <a:pt x="8" y="98"/>
                                  </a:lnTo>
                                  <a:lnTo>
                                    <a:pt x="8" y="119"/>
                                  </a:lnTo>
                                  <a:lnTo>
                                    <a:pt x="11" y="131"/>
                                  </a:lnTo>
                                  <a:lnTo>
                                    <a:pt x="19" y="146"/>
                                  </a:lnTo>
                                  <a:lnTo>
                                    <a:pt x="26" y="120"/>
                                  </a:lnTo>
                                  <a:lnTo>
                                    <a:pt x="33" y="95"/>
                                  </a:lnTo>
                                  <a:lnTo>
                                    <a:pt x="43" y="73"/>
                                  </a:lnTo>
                                  <a:lnTo>
                                    <a:pt x="55" y="53"/>
                                  </a:lnTo>
                                  <a:lnTo>
                                    <a:pt x="70" y="40"/>
                                  </a:lnTo>
                                  <a:lnTo>
                                    <a:pt x="83" y="30"/>
                                  </a:lnTo>
                                  <a:lnTo>
                                    <a:pt x="101" y="21"/>
                                  </a:lnTo>
                                  <a:lnTo>
                                    <a:pt x="146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5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9000" bIns="-9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1495" name=""/>
                        <p:cNvSpPr/>
                        <p:nvPr/>
                      </p:nvSpPr>
                      <p:spPr>
                        <a:xfrm>
                          <a:off x="7564680" y="5052240"/>
                          <a:ext cx="52200" cy="100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2" h="381">
                              <a:moveTo>
                                <a:pt x="182" y="0"/>
                              </a:moveTo>
                              <a:lnTo>
                                <a:pt x="40" y="247"/>
                              </a:lnTo>
                              <a:lnTo>
                                <a:pt x="0" y="381"/>
                              </a:lnTo>
                              <a:lnTo>
                                <a:pt x="62" y="233"/>
                              </a:lnTo>
                              <a:lnTo>
                                <a:pt x="18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f3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6" name=""/>
                        <p:cNvSpPr/>
                        <p:nvPr/>
                      </p:nvSpPr>
                      <p:spPr>
                        <a:xfrm>
                          <a:off x="7511760" y="5122800"/>
                          <a:ext cx="19800" cy="44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0" h="168">
                              <a:moveTo>
                                <a:pt x="37" y="0"/>
                              </a:moveTo>
                              <a:lnTo>
                                <a:pt x="38" y="129"/>
                              </a:lnTo>
                              <a:lnTo>
                                <a:pt x="70" y="168"/>
                              </a:lnTo>
                              <a:lnTo>
                                <a:pt x="23" y="134"/>
                              </a:lnTo>
                              <a:lnTo>
                                <a:pt x="0" y="154"/>
                              </a:lnTo>
                              <a:lnTo>
                                <a:pt x="15" y="105"/>
                              </a:lnTo>
                              <a:lnTo>
                                <a:pt x="22" y="27"/>
                              </a:lnTo>
                              <a:lnTo>
                                <a:pt x="3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f3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" bIns="-2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497" name=""/>
                      <p:cNvSpPr/>
                      <p:nvPr/>
                    </p:nvSpPr>
                    <p:spPr>
                      <a:xfrm>
                        <a:off x="7489080" y="5185080"/>
                        <a:ext cx="30600" cy="47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181">
                            <a:moveTo>
                              <a:pt x="63" y="0"/>
                            </a:moveTo>
                            <a:lnTo>
                              <a:pt x="103" y="93"/>
                            </a:lnTo>
                            <a:lnTo>
                              <a:pt x="105" y="181"/>
                            </a:lnTo>
                            <a:lnTo>
                              <a:pt x="87" y="82"/>
                            </a:lnTo>
                            <a:lnTo>
                              <a:pt x="62" y="40"/>
                            </a:lnTo>
                            <a:lnTo>
                              <a:pt x="0" y="76"/>
                            </a:lnTo>
                            <a:lnTo>
                              <a:pt x="37" y="45"/>
                            </a:lnTo>
                            <a:lnTo>
                              <a:pt x="63" y="0"/>
                            </a:lnTo>
                            <a:close/>
                          </a:path>
                        </a:pathLst>
                      </a:custGeom>
                      <a:solidFill>
                        <a:srgbClr val="3f3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" bIns="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98" name=""/>
                    <p:cNvSpPr/>
                    <p:nvPr/>
                  </p:nvSpPr>
                  <p:spPr>
                    <a:xfrm>
                      <a:off x="7329960" y="5262120"/>
                      <a:ext cx="216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120">
                          <a:moveTo>
                            <a:pt x="53" y="0"/>
                          </a:moveTo>
                          <a:lnTo>
                            <a:pt x="2" y="98"/>
                          </a:lnTo>
                          <a:lnTo>
                            <a:pt x="0" y="120"/>
                          </a:lnTo>
                          <a:lnTo>
                            <a:pt x="18" y="105"/>
                          </a:lnTo>
                          <a:lnTo>
                            <a:pt x="75" y="6"/>
                          </a:lnTo>
                          <a:lnTo>
                            <a:pt x="66" y="5"/>
                          </a:lnTo>
                          <a:lnTo>
                            <a:pt x="58" y="2"/>
                          </a:lnTo>
                          <a:lnTo>
                            <a:pt x="53" y="0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499" name=""/>
                    <p:cNvGrpSpPr/>
                    <p:nvPr/>
                  </p:nvGrpSpPr>
                  <p:grpSpPr>
                    <a:xfrm>
                      <a:off x="7329240" y="5228640"/>
                      <a:ext cx="81720" cy="61200"/>
                      <a:chOff x="7329240" y="5228640"/>
                      <a:chExt cx="81720" cy="61200"/>
                    </a:xfrm>
                  </p:grpSpPr>
                  <p:grpSp>
                    <p:nvGrpSpPr>
                      <p:cNvPr id="1500" name=""/>
                      <p:cNvGrpSpPr/>
                      <p:nvPr/>
                    </p:nvGrpSpPr>
                    <p:grpSpPr>
                      <a:xfrm>
                        <a:off x="7329240" y="5228640"/>
                        <a:ext cx="76320" cy="61200"/>
                        <a:chOff x="7329240" y="5228640"/>
                        <a:chExt cx="76320" cy="61200"/>
                      </a:xfrm>
                    </p:grpSpPr>
                    <p:sp>
                      <p:nvSpPr>
                        <p:cNvPr id="1501" name=""/>
                        <p:cNvSpPr/>
                        <p:nvPr/>
                      </p:nvSpPr>
                      <p:spPr>
                        <a:xfrm>
                          <a:off x="7329240" y="5235480"/>
                          <a:ext cx="76320" cy="54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66" h="209">
                              <a:moveTo>
                                <a:pt x="197" y="29"/>
                              </a:moveTo>
                              <a:lnTo>
                                <a:pt x="181" y="32"/>
                              </a:lnTo>
                              <a:lnTo>
                                <a:pt x="168" y="25"/>
                              </a:lnTo>
                              <a:lnTo>
                                <a:pt x="151" y="17"/>
                              </a:lnTo>
                              <a:lnTo>
                                <a:pt x="134" y="11"/>
                              </a:lnTo>
                              <a:lnTo>
                                <a:pt x="107" y="4"/>
                              </a:lnTo>
                              <a:lnTo>
                                <a:pt x="92" y="0"/>
                              </a:lnTo>
                              <a:lnTo>
                                <a:pt x="41" y="12"/>
                              </a:lnTo>
                              <a:lnTo>
                                <a:pt x="33" y="17"/>
                              </a:lnTo>
                              <a:lnTo>
                                <a:pt x="25" y="22"/>
                              </a:lnTo>
                              <a:lnTo>
                                <a:pt x="19" y="31"/>
                              </a:lnTo>
                              <a:lnTo>
                                <a:pt x="14" y="44"/>
                              </a:lnTo>
                              <a:lnTo>
                                <a:pt x="9" y="64"/>
                              </a:lnTo>
                              <a:lnTo>
                                <a:pt x="5" y="90"/>
                              </a:lnTo>
                              <a:lnTo>
                                <a:pt x="3" y="113"/>
                              </a:lnTo>
                              <a:lnTo>
                                <a:pt x="0" y="130"/>
                              </a:lnTo>
                              <a:lnTo>
                                <a:pt x="0" y="140"/>
                              </a:lnTo>
                              <a:lnTo>
                                <a:pt x="3" y="148"/>
                              </a:lnTo>
                              <a:lnTo>
                                <a:pt x="5" y="155"/>
                              </a:lnTo>
                              <a:lnTo>
                                <a:pt x="11" y="165"/>
                              </a:lnTo>
                              <a:lnTo>
                                <a:pt x="34" y="188"/>
                              </a:lnTo>
                              <a:lnTo>
                                <a:pt x="45" y="194"/>
                              </a:lnTo>
                              <a:lnTo>
                                <a:pt x="64" y="204"/>
                              </a:lnTo>
                              <a:lnTo>
                                <a:pt x="76" y="209"/>
                              </a:lnTo>
                              <a:lnTo>
                                <a:pt x="86" y="205"/>
                              </a:lnTo>
                              <a:lnTo>
                                <a:pt x="89" y="198"/>
                              </a:lnTo>
                              <a:lnTo>
                                <a:pt x="99" y="198"/>
                              </a:lnTo>
                              <a:lnTo>
                                <a:pt x="110" y="198"/>
                              </a:lnTo>
                              <a:lnTo>
                                <a:pt x="125" y="201"/>
                              </a:lnTo>
                              <a:lnTo>
                                <a:pt x="134" y="202"/>
                              </a:lnTo>
                              <a:lnTo>
                                <a:pt x="137" y="194"/>
                              </a:lnTo>
                              <a:lnTo>
                                <a:pt x="140" y="188"/>
                              </a:lnTo>
                              <a:lnTo>
                                <a:pt x="148" y="191"/>
                              </a:lnTo>
                              <a:lnTo>
                                <a:pt x="158" y="191"/>
                              </a:lnTo>
                              <a:lnTo>
                                <a:pt x="162" y="185"/>
                              </a:lnTo>
                              <a:lnTo>
                                <a:pt x="165" y="178"/>
                              </a:lnTo>
                              <a:lnTo>
                                <a:pt x="168" y="168"/>
                              </a:lnTo>
                              <a:lnTo>
                                <a:pt x="183" y="170"/>
                              </a:lnTo>
                              <a:lnTo>
                                <a:pt x="198" y="170"/>
                              </a:lnTo>
                              <a:lnTo>
                                <a:pt x="208" y="166"/>
                              </a:lnTo>
                              <a:lnTo>
                                <a:pt x="218" y="161"/>
                              </a:lnTo>
                              <a:lnTo>
                                <a:pt x="225" y="154"/>
                              </a:lnTo>
                              <a:lnTo>
                                <a:pt x="233" y="145"/>
                              </a:lnTo>
                              <a:lnTo>
                                <a:pt x="260" y="139"/>
                              </a:lnTo>
                              <a:lnTo>
                                <a:pt x="265" y="107"/>
                              </a:lnTo>
                              <a:lnTo>
                                <a:pt x="266" y="86"/>
                              </a:lnTo>
                              <a:lnTo>
                                <a:pt x="259" y="62"/>
                              </a:lnTo>
                              <a:lnTo>
                                <a:pt x="250" y="47"/>
                              </a:lnTo>
                              <a:lnTo>
                                <a:pt x="241" y="39"/>
                              </a:lnTo>
                              <a:lnTo>
                                <a:pt x="226" y="31"/>
                              </a:lnTo>
                              <a:lnTo>
                                <a:pt x="208" y="25"/>
                              </a:lnTo>
                              <a:lnTo>
                                <a:pt x="197" y="2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bfb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560" bIns="7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2" name=""/>
                        <p:cNvSpPr/>
                        <p:nvPr/>
                      </p:nvSpPr>
                      <p:spPr>
                        <a:xfrm>
                          <a:off x="7334280" y="5246640"/>
                          <a:ext cx="52920" cy="39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2" h="151">
                              <a:moveTo>
                                <a:pt x="182" y="50"/>
                              </a:moveTo>
                              <a:lnTo>
                                <a:pt x="167" y="60"/>
                              </a:lnTo>
                              <a:lnTo>
                                <a:pt x="154" y="60"/>
                              </a:lnTo>
                              <a:lnTo>
                                <a:pt x="142" y="56"/>
                              </a:lnTo>
                              <a:lnTo>
                                <a:pt x="134" y="51"/>
                              </a:lnTo>
                              <a:lnTo>
                                <a:pt x="127" y="47"/>
                              </a:lnTo>
                              <a:lnTo>
                                <a:pt x="120" y="47"/>
                              </a:lnTo>
                              <a:lnTo>
                                <a:pt x="110" y="53"/>
                              </a:lnTo>
                              <a:lnTo>
                                <a:pt x="95" y="57"/>
                              </a:lnTo>
                              <a:lnTo>
                                <a:pt x="81" y="61"/>
                              </a:lnTo>
                              <a:lnTo>
                                <a:pt x="71" y="62"/>
                              </a:lnTo>
                              <a:lnTo>
                                <a:pt x="59" y="62"/>
                              </a:lnTo>
                              <a:lnTo>
                                <a:pt x="47" y="60"/>
                              </a:lnTo>
                              <a:lnTo>
                                <a:pt x="39" y="56"/>
                              </a:lnTo>
                              <a:lnTo>
                                <a:pt x="36" y="51"/>
                              </a:lnTo>
                              <a:lnTo>
                                <a:pt x="33" y="42"/>
                              </a:lnTo>
                              <a:lnTo>
                                <a:pt x="33" y="35"/>
                              </a:lnTo>
                              <a:lnTo>
                                <a:pt x="37" y="29"/>
                              </a:lnTo>
                              <a:lnTo>
                                <a:pt x="44" y="26"/>
                              </a:lnTo>
                              <a:lnTo>
                                <a:pt x="56" y="23"/>
                              </a:lnTo>
                              <a:lnTo>
                                <a:pt x="71" y="21"/>
                              </a:lnTo>
                              <a:lnTo>
                                <a:pt x="82" y="21"/>
                              </a:lnTo>
                              <a:lnTo>
                                <a:pt x="94" y="14"/>
                              </a:lnTo>
                              <a:lnTo>
                                <a:pt x="106" y="7"/>
                              </a:lnTo>
                              <a:lnTo>
                                <a:pt x="89" y="7"/>
                              </a:lnTo>
                              <a:lnTo>
                                <a:pt x="78" y="1"/>
                              </a:lnTo>
                              <a:lnTo>
                                <a:pt x="65" y="0"/>
                              </a:lnTo>
                              <a:lnTo>
                                <a:pt x="55" y="3"/>
                              </a:lnTo>
                              <a:lnTo>
                                <a:pt x="43" y="10"/>
                              </a:lnTo>
                              <a:lnTo>
                                <a:pt x="38" y="14"/>
                              </a:lnTo>
                              <a:lnTo>
                                <a:pt x="21" y="2"/>
                              </a:lnTo>
                              <a:lnTo>
                                <a:pt x="28" y="10"/>
                              </a:lnTo>
                              <a:lnTo>
                                <a:pt x="31" y="17"/>
                              </a:lnTo>
                              <a:lnTo>
                                <a:pt x="22" y="19"/>
                              </a:lnTo>
                              <a:lnTo>
                                <a:pt x="31" y="21"/>
                              </a:lnTo>
                              <a:lnTo>
                                <a:pt x="23" y="56"/>
                              </a:lnTo>
                              <a:lnTo>
                                <a:pt x="19" y="63"/>
                              </a:lnTo>
                              <a:lnTo>
                                <a:pt x="14" y="68"/>
                              </a:lnTo>
                              <a:lnTo>
                                <a:pt x="0" y="70"/>
                              </a:lnTo>
                              <a:lnTo>
                                <a:pt x="10" y="74"/>
                              </a:lnTo>
                              <a:lnTo>
                                <a:pt x="14" y="83"/>
                              </a:lnTo>
                              <a:lnTo>
                                <a:pt x="6" y="102"/>
                              </a:lnTo>
                              <a:lnTo>
                                <a:pt x="4" y="115"/>
                              </a:lnTo>
                              <a:lnTo>
                                <a:pt x="25" y="94"/>
                              </a:lnTo>
                              <a:lnTo>
                                <a:pt x="36" y="100"/>
                              </a:lnTo>
                              <a:lnTo>
                                <a:pt x="39" y="111"/>
                              </a:lnTo>
                              <a:lnTo>
                                <a:pt x="23" y="120"/>
                              </a:lnTo>
                              <a:lnTo>
                                <a:pt x="42" y="118"/>
                              </a:lnTo>
                              <a:lnTo>
                                <a:pt x="50" y="118"/>
                              </a:lnTo>
                              <a:lnTo>
                                <a:pt x="55" y="123"/>
                              </a:lnTo>
                              <a:lnTo>
                                <a:pt x="61" y="132"/>
                              </a:lnTo>
                              <a:lnTo>
                                <a:pt x="66" y="143"/>
                              </a:lnTo>
                              <a:lnTo>
                                <a:pt x="72" y="151"/>
                              </a:lnTo>
                              <a:lnTo>
                                <a:pt x="72" y="137"/>
                              </a:lnTo>
                              <a:lnTo>
                                <a:pt x="66" y="127"/>
                              </a:lnTo>
                              <a:lnTo>
                                <a:pt x="60" y="118"/>
                              </a:lnTo>
                              <a:lnTo>
                                <a:pt x="65" y="112"/>
                              </a:lnTo>
                              <a:lnTo>
                                <a:pt x="73" y="110"/>
                              </a:lnTo>
                              <a:lnTo>
                                <a:pt x="82" y="111"/>
                              </a:lnTo>
                              <a:lnTo>
                                <a:pt x="95" y="112"/>
                              </a:lnTo>
                              <a:lnTo>
                                <a:pt x="106" y="105"/>
                              </a:lnTo>
                              <a:lnTo>
                                <a:pt x="120" y="102"/>
                              </a:lnTo>
                              <a:lnTo>
                                <a:pt x="131" y="100"/>
                              </a:lnTo>
                              <a:lnTo>
                                <a:pt x="137" y="98"/>
                              </a:lnTo>
                              <a:lnTo>
                                <a:pt x="140" y="95"/>
                              </a:lnTo>
                              <a:lnTo>
                                <a:pt x="150" y="102"/>
                              </a:lnTo>
                              <a:lnTo>
                                <a:pt x="146" y="90"/>
                              </a:lnTo>
                              <a:lnTo>
                                <a:pt x="171" y="105"/>
                              </a:lnTo>
                              <a:lnTo>
                                <a:pt x="167" y="95"/>
                              </a:lnTo>
                              <a:lnTo>
                                <a:pt x="148" y="82"/>
                              </a:lnTo>
                              <a:lnTo>
                                <a:pt x="151" y="73"/>
                              </a:lnTo>
                              <a:lnTo>
                                <a:pt x="159" y="63"/>
                              </a:lnTo>
                              <a:lnTo>
                                <a:pt x="170" y="62"/>
                              </a:lnTo>
                              <a:lnTo>
                                <a:pt x="182" y="5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0" bIns="-7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3" name=""/>
                        <p:cNvSpPr/>
                        <p:nvPr/>
                      </p:nvSpPr>
                      <p:spPr>
                        <a:xfrm>
                          <a:off x="7351560" y="5228640"/>
                          <a:ext cx="18000" cy="23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4" h="90">
                              <a:moveTo>
                                <a:pt x="56" y="0"/>
                              </a:moveTo>
                              <a:lnTo>
                                <a:pt x="43" y="3"/>
                              </a:lnTo>
                              <a:lnTo>
                                <a:pt x="41" y="10"/>
                              </a:lnTo>
                              <a:lnTo>
                                <a:pt x="0" y="90"/>
                              </a:lnTo>
                              <a:lnTo>
                                <a:pt x="21" y="88"/>
                              </a:lnTo>
                              <a:lnTo>
                                <a:pt x="63" y="16"/>
                              </a:lnTo>
                              <a:lnTo>
                                <a:pt x="64" y="4"/>
                              </a:lnTo>
                              <a:lnTo>
                                <a:pt x="5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f3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400" bIns="-23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4" name=""/>
                        <p:cNvSpPr/>
                        <p:nvPr/>
                      </p:nvSpPr>
                      <p:spPr>
                        <a:xfrm>
                          <a:off x="7388280" y="5249160"/>
                          <a:ext cx="12960" cy="21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83">
                              <a:moveTo>
                                <a:pt x="0" y="0"/>
                              </a:moveTo>
                              <a:lnTo>
                                <a:pt x="9" y="12"/>
                              </a:lnTo>
                              <a:lnTo>
                                <a:pt x="14" y="22"/>
                              </a:lnTo>
                              <a:lnTo>
                                <a:pt x="17" y="35"/>
                              </a:lnTo>
                              <a:lnTo>
                                <a:pt x="18" y="48"/>
                              </a:lnTo>
                              <a:lnTo>
                                <a:pt x="17" y="62"/>
                              </a:lnTo>
                              <a:lnTo>
                                <a:pt x="12" y="83"/>
                              </a:lnTo>
                              <a:lnTo>
                                <a:pt x="28" y="45"/>
                              </a:lnTo>
                              <a:lnTo>
                                <a:pt x="38" y="33"/>
                              </a:lnTo>
                              <a:lnTo>
                                <a:pt x="45" y="22"/>
                              </a:lnTo>
                              <a:lnTo>
                                <a:pt x="33" y="18"/>
                              </a:lnTo>
                              <a:lnTo>
                                <a:pt x="21" y="9"/>
                              </a:lnTo>
                              <a:lnTo>
                                <a:pt x="12" y="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560" bIns="-25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5" name=""/>
                        <p:cNvSpPr/>
                        <p:nvPr/>
                      </p:nvSpPr>
                      <p:spPr>
                        <a:xfrm>
                          <a:off x="7358760" y="5230800"/>
                          <a:ext cx="10440" cy="21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8" h="84">
                              <a:moveTo>
                                <a:pt x="36" y="7"/>
                              </a:moveTo>
                              <a:lnTo>
                                <a:pt x="38" y="10"/>
                              </a:lnTo>
                              <a:lnTo>
                                <a:pt x="4" y="84"/>
                              </a:lnTo>
                              <a:lnTo>
                                <a:pt x="0" y="76"/>
                              </a:lnTo>
                              <a:lnTo>
                                <a:pt x="2" y="69"/>
                              </a:lnTo>
                              <a:lnTo>
                                <a:pt x="6" y="63"/>
                              </a:lnTo>
                              <a:lnTo>
                                <a:pt x="12" y="61"/>
                              </a:lnTo>
                              <a:lnTo>
                                <a:pt x="35" y="10"/>
                              </a:lnTo>
                              <a:lnTo>
                                <a:pt x="18" y="2"/>
                              </a:lnTo>
                              <a:lnTo>
                                <a:pt x="18" y="0"/>
                              </a:lnTo>
                              <a:lnTo>
                                <a:pt x="36" y="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840" bIns="-248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506" name=""/>
                      <p:cNvSpPr/>
                      <p:nvPr/>
                    </p:nvSpPr>
                    <p:spPr>
                      <a:xfrm>
                        <a:off x="7381440" y="5240160"/>
                        <a:ext cx="29520" cy="34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2" h="132">
                            <a:moveTo>
                              <a:pt x="0" y="7"/>
                            </a:moveTo>
                            <a:lnTo>
                              <a:pt x="18" y="15"/>
                            </a:lnTo>
                            <a:lnTo>
                              <a:pt x="38" y="26"/>
                            </a:lnTo>
                            <a:lnTo>
                              <a:pt x="47" y="34"/>
                            </a:lnTo>
                            <a:lnTo>
                              <a:pt x="56" y="47"/>
                            </a:lnTo>
                            <a:lnTo>
                              <a:pt x="63" y="58"/>
                            </a:lnTo>
                            <a:lnTo>
                              <a:pt x="68" y="73"/>
                            </a:lnTo>
                            <a:lnTo>
                              <a:pt x="72" y="96"/>
                            </a:lnTo>
                            <a:lnTo>
                              <a:pt x="70" y="117"/>
                            </a:lnTo>
                            <a:lnTo>
                              <a:pt x="66" y="132"/>
                            </a:lnTo>
                            <a:lnTo>
                              <a:pt x="97" y="130"/>
                            </a:lnTo>
                            <a:lnTo>
                              <a:pt x="102" y="105"/>
                            </a:lnTo>
                            <a:lnTo>
                              <a:pt x="102" y="86"/>
                            </a:lnTo>
                            <a:lnTo>
                              <a:pt x="100" y="65"/>
                            </a:lnTo>
                            <a:lnTo>
                              <a:pt x="94" y="49"/>
                            </a:lnTo>
                            <a:lnTo>
                              <a:pt x="81" y="29"/>
                            </a:lnTo>
                            <a:lnTo>
                              <a:pt x="70" y="19"/>
                            </a:lnTo>
                            <a:lnTo>
                              <a:pt x="52" y="9"/>
                            </a:lnTo>
                            <a:lnTo>
                              <a:pt x="31" y="0"/>
                            </a:lnTo>
                            <a:lnTo>
                              <a:pt x="0" y="7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507" name=""/>
                  <p:cNvGrpSpPr/>
                  <p:nvPr/>
                </p:nvGrpSpPr>
                <p:grpSpPr>
                  <a:xfrm>
                    <a:off x="7508160" y="5304960"/>
                    <a:ext cx="292320" cy="113760"/>
                    <a:chOff x="7508160" y="5304960"/>
                    <a:chExt cx="292320" cy="113760"/>
                  </a:xfrm>
                </p:grpSpPr>
                <p:sp>
                  <p:nvSpPr>
                    <p:cNvPr id="1508" name=""/>
                    <p:cNvSpPr/>
                    <p:nvPr/>
                  </p:nvSpPr>
                  <p:spPr>
                    <a:xfrm flipV="1">
                      <a:off x="7633440" y="5380560"/>
                      <a:ext cx="125280" cy="37800"/>
                    </a:xfrm>
                    <a:custGeom>
                      <a:avLst/>
                      <a:gdLst>
                        <a:gd name="textAreaLeft" fmla="*/ 23760 w 125280"/>
                        <a:gd name="textAreaRight" fmla="*/ 101520 w 125280"/>
                        <a:gd name="textAreaTop" fmla="*/ 7200 h 37800"/>
                        <a:gd name="textAreaBottom" fmla="*/ 30600 h 378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7326" y="21600"/>
                          </a:lnTo>
                          <a:lnTo>
                            <a:pt x="4274" y="216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400" bIns="-23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 flipV="1">
                      <a:off x="7675200" y="5342400"/>
                      <a:ext cx="125280" cy="37800"/>
                    </a:xfrm>
                    <a:custGeom>
                      <a:avLst/>
                      <a:gdLst>
                        <a:gd name="textAreaLeft" fmla="*/ 23760 w 125280"/>
                        <a:gd name="textAreaRight" fmla="*/ 101520 w 125280"/>
                        <a:gd name="textAreaTop" fmla="*/ 7200 h 37800"/>
                        <a:gd name="textAreaBottom" fmla="*/ 30600 h 378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7326" y="21600"/>
                          </a:lnTo>
                          <a:lnTo>
                            <a:pt x="4274" y="216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400" bIns="-23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0" name=""/>
                    <p:cNvSpPr/>
                    <p:nvPr/>
                  </p:nvSpPr>
                  <p:spPr>
                    <a:xfrm flipV="1">
                      <a:off x="7591680" y="5304600"/>
                      <a:ext cx="125280" cy="37800"/>
                    </a:xfrm>
                    <a:custGeom>
                      <a:avLst/>
                      <a:gdLst>
                        <a:gd name="textAreaLeft" fmla="*/ 23760 w 125280"/>
                        <a:gd name="textAreaRight" fmla="*/ 101520 w 125280"/>
                        <a:gd name="textAreaTop" fmla="*/ 7200 h 37800"/>
                        <a:gd name="textAreaBottom" fmla="*/ 30600 h 378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7326" y="21600"/>
                          </a:lnTo>
                          <a:lnTo>
                            <a:pt x="4274" y="216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400" bIns="-23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1" name=""/>
                    <p:cNvSpPr/>
                    <p:nvPr/>
                  </p:nvSpPr>
                  <p:spPr>
                    <a:xfrm flipV="1">
                      <a:off x="7508160" y="5342400"/>
                      <a:ext cx="125280" cy="37800"/>
                    </a:xfrm>
                    <a:custGeom>
                      <a:avLst/>
                      <a:gdLst>
                        <a:gd name="textAreaLeft" fmla="*/ 23760 w 125280"/>
                        <a:gd name="textAreaRight" fmla="*/ 101520 w 125280"/>
                        <a:gd name="textAreaTop" fmla="*/ 7200 h 37800"/>
                        <a:gd name="textAreaBottom" fmla="*/ 30600 h 378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7326" y="21600"/>
                          </a:lnTo>
                          <a:lnTo>
                            <a:pt x="4274" y="216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400" bIns="-23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512" name=""/>
              <p:cNvSpPr/>
              <p:nvPr/>
            </p:nvSpPr>
            <p:spPr>
              <a:xfrm flipH="1" rot="19114200">
                <a:off x="7238880" y="4267080"/>
                <a:ext cx="860400" cy="355680"/>
              </a:xfrm>
              <a:prstGeom prst="rightArrow">
                <a:avLst>
                  <a:gd name="adj1" fmla="val 50000"/>
                  <a:gd name="adj2" fmla="val 60476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"/>
            <p:cNvGrpSpPr/>
            <p:nvPr/>
          </p:nvGrpSpPr>
          <p:grpSpPr>
            <a:xfrm>
              <a:off x="3745080" y="2514240"/>
              <a:ext cx="2117520" cy="1224360"/>
              <a:chOff x="3745080" y="2514240"/>
              <a:chExt cx="2117520" cy="1224360"/>
            </a:xfrm>
          </p:grpSpPr>
          <p:grpSp>
            <p:nvGrpSpPr>
              <p:cNvPr id="1514" name=""/>
              <p:cNvGrpSpPr/>
              <p:nvPr/>
            </p:nvGrpSpPr>
            <p:grpSpPr>
              <a:xfrm>
                <a:off x="3745080" y="2820960"/>
                <a:ext cx="1589040" cy="917640"/>
                <a:chOff x="3745080" y="2820960"/>
                <a:chExt cx="1589040" cy="917640"/>
              </a:xfrm>
            </p:grpSpPr>
            <p:sp>
              <p:nvSpPr>
                <p:cNvPr id="1515" name=""/>
                <p:cNvSpPr/>
                <p:nvPr/>
              </p:nvSpPr>
              <p:spPr>
                <a:xfrm>
                  <a:off x="3745080" y="2820960"/>
                  <a:ext cx="1589040" cy="917640"/>
                </a:xfrm>
                <a:prstGeom prst="ellipse">
                  <a:avLst/>
                </a:prstGeom>
                <a:solidFill>
                  <a:srgbClr val="d6d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16" name=""/>
                <p:cNvGrpSpPr/>
                <p:nvPr/>
              </p:nvGrpSpPr>
              <p:grpSpPr>
                <a:xfrm>
                  <a:off x="4341600" y="3045240"/>
                  <a:ext cx="393840" cy="336240"/>
                  <a:chOff x="4341600" y="3045240"/>
                  <a:chExt cx="393840" cy="336240"/>
                </a:xfrm>
              </p:grpSpPr>
              <p:grpSp>
                <p:nvGrpSpPr>
                  <p:cNvPr id="1517" name=""/>
                  <p:cNvGrpSpPr/>
                  <p:nvPr/>
                </p:nvGrpSpPr>
                <p:grpSpPr>
                  <a:xfrm>
                    <a:off x="4341600" y="3147480"/>
                    <a:ext cx="393840" cy="234000"/>
                    <a:chOff x="4341600" y="3147480"/>
                    <a:chExt cx="393840" cy="234000"/>
                  </a:xfrm>
                </p:grpSpPr>
                <p:grpSp>
                  <p:nvGrpSpPr>
                    <p:cNvPr id="1518" name=""/>
                    <p:cNvGrpSpPr/>
                    <p:nvPr/>
                  </p:nvGrpSpPr>
                  <p:grpSpPr>
                    <a:xfrm>
                      <a:off x="4455360" y="3157920"/>
                      <a:ext cx="149400" cy="218880"/>
                      <a:chOff x="4455360" y="3157920"/>
                      <a:chExt cx="149400" cy="218880"/>
                    </a:xfrm>
                  </p:grpSpPr>
                  <p:sp>
                    <p:nvSpPr>
                      <p:cNvPr id="1519" name=""/>
                      <p:cNvSpPr/>
                      <p:nvPr/>
                    </p:nvSpPr>
                    <p:spPr>
                      <a:xfrm>
                        <a:off x="4455360" y="3157920"/>
                        <a:ext cx="149400" cy="218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16" h="828">
                            <a:moveTo>
                              <a:pt x="160" y="0"/>
                            </a:moveTo>
                            <a:lnTo>
                              <a:pt x="304" y="109"/>
                            </a:lnTo>
                            <a:lnTo>
                              <a:pt x="421" y="18"/>
                            </a:lnTo>
                            <a:lnTo>
                              <a:pt x="450" y="416"/>
                            </a:lnTo>
                            <a:lnTo>
                              <a:pt x="483" y="648"/>
                            </a:lnTo>
                            <a:lnTo>
                              <a:pt x="516" y="828"/>
                            </a:lnTo>
                            <a:lnTo>
                              <a:pt x="0" y="828"/>
                            </a:lnTo>
                            <a:lnTo>
                              <a:pt x="73" y="603"/>
                            </a:lnTo>
                            <a:lnTo>
                              <a:pt x="120" y="321"/>
                            </a:lnTo>
                            <a:lnTo>
                              <a:pt x="160" y="0"/>
                            </a:lnTo>
                            <a:close/>
                          </a:path>
                        </a:pathLst>
                      </a:custGeom>
                      <a:solidFill>
                        <a:srgbClr val="dfd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0" name=""/>
                      <p:cNvSpPr/>
                      <p:nvPr/>
                    </p:nvSpPr>
                    <p:spPr>
                      <a:xfrm>
                        <a:off x="4548240" y="3174480"/>
                        <a:ext cx="3564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50">
                            <a:moveTo>
                              <a:pt x="0" y="55"/>
                            </a:moveTo>
                            <a:lnTo>
                              <a:pt x="17" y="72"/>
                            </a:lnTo>
                            <a:lnTo>
                              <a:pt x="27" y="83"/>
                            </a:lnTo>
                            <a:lnTo>
                              <a:pt x="33" y="97"/>
                            </a:lnTo>
                            <a:lnTo>
                              <a:pt x="38" y="118"/>
                            </a:lnTo>
                            <a:lnTo>
                              <a:pt x="40" y="141"/>
                            </a:lnTo>
                            <a:lnTo>
                              <a:pt x="52" y="150"/>
                            </a:lnTo>
                            <a:lnTo>
                              <a:pt x="123" y="63"/>
                            </a:lnTo>
                            <a:lnTo>
                              <a:pt x="89" y="0"/>
                            </a:lnTo>
                            <a:lnTo>
                              <a:pt x="0" y="55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1" name=""/>
                      <p:cNvSpPr/>
                      <p:nvPr/>
                    </p:nvSpPr>
                    <p:spPr>
                      <a:xfrm>
                        <a:off x="4496760" y="3160080"/>
                        <a:ext cx="3024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209">
                            <a:moveTo>
                              <a:pt x="106" y="97"/>
                            </a:moveTo>
                            <a:lnTo>
                              <a:pt x="97" y="107"/>
                            </a:lnTo>
                            <a:lnTo>
                              <a:pt x="88" y="136"/>
                            </a:lnTo>
                            <a:lnTo>
                              <a:pt x="73" y="171"/>
                            </a:lnTo>
                            <a:lnTo>
                              <a:pt x="59" y="209"/>
                            </a:lnTo>
                            <a:lnTo>
                              <a:pt x="26" y="145"/>
                            </a:lnTo>
                            <a:lnTo>
                              <a:pt x="7" y="81"/>
                            </a:lnTo>
                            <a:lnTo>
                              <a:pt x="0" y="19"/>
                            </a:lnTo>
                            <a:lnTo>
                              <a:pt x="0" y="0"/>
                            </a:lnTo>
                            <a:lnTo>
                              <a:pt x="26" y="0"/>
                            </a:lnTo>
                            <a:lnTo>
                              <a:pt x="106" y="97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522" name=""/>
                      <p:cNvGrpSpPr/>
                      <p:nvPr/>
                    </p:nvGrpSpPr>
                    <p:grpSpPr>
                      <a:xfrm>
                        <a:off x="4486320" y="3249720"/>
                        <a:ext cx="98280" cy="114120"/>
                        <a:chOff x="4486320" y="3249720"/>
                        <a:chExt cx="98280" cy="114120"/>
                      </a:xfrm>
                    </p:grpSpPr>
                    <p:sp>
                      <p:nvSpPr>
                        <p:cNvPr id="1523" name=""/>
                        <p:cNvSpPr/>
                        <p:nvPr/>
                      </p:nvSpPr>
                      <p:spPr>
                        <a:xfrm>
                          <a:off x="4497480" y="3249720"/>
                          <a:ext cx="72720" cy="63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54" h="241">
                              <a:moveTo>
                                <a:pt x="254" y="0"/>
                              </a:moveTo>
                              <a:lnTo>
                                <a:pt x="220" y="4"/>
                              </a:lnTo>
                              <a:lnTo>
                                <a:pt x="191" y="12"/>
                              </a:lnTo>
                              <a:lnTo>
                                <a:pt x="138" y="36"/>
                              </a:lnTo>
                              <a:lnTo>
                                <a:pt x="81" y="82"/>
                              </a:lnTo>
                              <a:lnTo>
                                <a:pt x="58" y="103"/>
                              </a:lnTo>
                              <a:lnTo>
                                <a:pt x="43" y="132"/>
                              </a:lnTo>
                              <a:lnTo>
                                <a:pt x="23" y="159"/>
                              </a:lnTo>
                              <a:lnTo>
                                <a:pt x="12" y="177"/>
                              </a:lnTo>
                              <a:lnTo>
                                <a:pt x="4" y="208"/>
                              </a:lnTo>
                              <a:lnTo>
                                <a:pt x="0" y="230"/>
                              </a:lnTo>
                              <a:lnTo>
                                <a:pt x="4" y="241"/>
                              </a:lnTo>
                              <a:lnTo>
                                <a:pt x="14" y="241"/>
                              </a:lnTo>
                              <a:lnTo>
                                <a:pt x="19" y="227"/>
                              </a:lnTo>
                              <a:lnTo>
                                <a:pt x="40" y="202"/>
                              </a:lnTo>
                              <a:lnTo>
                                <a:pt x="54" y="163"/>
                              </a:lnTo>
                              <a:lnTo>
                                <a:pt x="66" y="142"/>
                              </a:lnTo>
                              <a:lnTo>
                                <a:pt x="87" y="108"/>
                              </a:lnTo>
                              <a:lnTo>
                                <a:pt x="116" y="70"/>
                              </a:lnTo>
                              <a:lnTo>
                                <a:pt x="174" y="33"/>
                              </a:lnTo>
                              <a:lnTo>
                                <a:pt x="209" y="15"/>
                              </a:lnTo>
                              <a:lnTo>
                                <a:pt x="254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6560" bIns="16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4" name=""/>
                        <p:cNvSpPr/>
                        <p:nvPr/>
                      </p:nvSpPr>
                      <p:spPr>
                        <a:xfrm>
                          <a:off x="4486320" y="3279960"/>
                          <a:ext cx="98280" cy="83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8" h="320">
                              <a:moveTo>
                                <a:pt x="335" y="0"/>
                              </a:moveTo>
                              <a:lnTo>
                                <a:pt x="291" y="46"/>
                              </a:lnTo>
                              <a:lnTo>
                                <a:pt x="264" y="60"/>
                              </a:lnTo>
                              <a:lnTo>
                                <a:pt x="242" y="67"/>
                              </a:lnTo>
                              <a:lnTo>
                                <a:pt x="214" y="85"/>
                              </a:lnTo>
                              <a:lnTo>
                                <a:pt x="117" y="149"/>
                              </a:lnTo>
                              <a:lnTo>
                                <a:pt x="96" y="170"/>
                              </a:lnTo>
                              <a:lnTo>
                                <a:pt x="66" y="191"/>
                              </a:lnTo>
                              <a:lnTo>
                                <a:pt x="44" y="205"/>
                              </a:lnTo>
                              <a:lnTo>
                                <a:pt x="22" y="219"/>
                              </a:lnTo>
                              <a:lnTo>
                                <a:pt x="4" y="232"/>
                              </a:lnTo>
                              <a:lnTo>
                                <a:pt x="0" y="243"/>
                              </a:lnTo>
                              <a:lnTo>
                                <a:pt x="1" y="253"/>
                              </a:lnTo>
                              <a:lnTo>
                                <a:pt x="12" y="253"/>
                              </a:lnTo>
                              <a:lnTo>
                                <a:pt x="30" y="243"/>
                              </a:lnTo>
                              <a:lnTo>
                                <a:pt x="51" y="230"/>
                              </a:lnTo>
                              <a:lnTo>
                                <a:pt x="69" y="218"/>
                              </a:lnTo>
                              <a:lnTo>
                                <a:pt x="67" y="237"/>
                              </a:lnTo>
                              <a:lnTo>
                                <a:pt x="52" y="258"/>
                              </a:lnTo>
                              <a:lnTo>
                                <a:pt x="40" y="267"/>
                              </a:lnTo>
                              <a:lnTo>
                                <a:pt x="37" y="276"/>
                              </a:lnTo>
                              <a:lnTo>
                                <a:pt x="22" y="289"/>
                              </a:lnTo>
                              <a:lnTo>
                                <a:pt x="9" y="306"/>
                              </a:lnTo>
                              <a:lnTo>
                                <a:pt x="11" y="320"/>
                              </a:lnTo>
                              <a:lnTo>
                                <a:pt x="51" y="317"/>
                              </a:lnTo>
                              <a:lnTo>
                                <a:pt x="62" y="293"/>
                              </a:lnTo>
                              <a:lnTo>
                                <a:pt x="88" y="269"/>
                              </a:lnTo>
                              <a:lnTo>
                                <a:pt x="84" y="251"/>
                              </a:lnTo>
                              <a:lnTo>
                                <a:pt x="117" y="225"/>
                              </a:lnTo>
                              <a:lnTo>
                                <a:pt x="297" y="105"/>
                              </a:lnTo>
                              <a:lnTo>
                                <a:pt x="265" y="102"/>
                              </a:lnTo>
                              <a:lnTo>
                                <a:pt x="254" y="78"/>
                              </a:lnTo>
                              <a:lnTo>
                                <a:pt x="282" y="70"/>
                              </a:lnTo>
                              <a:lnTo>
                                <a:pt x="291" y="63"/>
                              </a:lnTo>
                              <a:lnTo>
                                <a:pt x="301" y="63"/>
                              </a:lnTo>
                              <a:lnTo>
                                <a:pt x="338" y="15"/>
                              </a:lnTo>
                              <a:lnTo>
                                <a:pt x="335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7080" bIns="37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525" name=""/>
                      <p:cNvSpPr/>
                      <p:nvPr/>
                    </p:nvSpPr>
                    <p:spPr>
                      <a:xfrm>
                        <a:off x="4519440" y="3186360"/>
                        <a:ext cx="45000" cy="17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5" h="673">
                            <a:moveTo>
                              <a:pt x="26" y="0"/>
                            </a:moveTo>
                            <a:lnTo>
                              <a:pt x="44" y="18"/>
                            </a:lnTo>
                            <a:lnTo>
                              <a:pt x="60" y="25"/>
                            </a:lnTo>
                            <a:lnTo>
                              <a:pt x="85" y="23"/>
                            </a:lnTo>
                            <a:lnTo>
                              <a:pt x="105" y="16"/>
                            </a:lnTo>
                            <a:lnTo>
                              <a:pt x="112" y="30"/>
                            </a:lnTo>
                            <a:lnTo>
                              <a:pt x="112" y="47"/>
                            </a:lnTo>
                            <a:lnTo>
                              <a:pt x="107" y="60"/>
                            </a:lnTo>
                            <a:lnTo>
                              <a:pt x="100" y="67"/>
                            </a:lnTo>
                            <a:lnTo>
                              <a:pt x="83" y="82"/>
                            </a:lnTo>
                            <a:lnTo>
                              <a:pt x="112" y="118"/>
                            </a:lnTo>
                            <a:lnTo>
                              <a:pt x="126" y="141"/>
                            </a:lnTo>
                            <a:lnTo>
                              <a:pt x="133" y="163"/>
                            </a:lnTo>
                            <a:lnTo>
                              <a:pt x="137" y="215"/>
                            </a:lnTo>
                            <a:lnTo>
                              <a:pt x="149" y="332"/>
                            </a:lnTo>
                            <a:lnTo>
                              <a:pt x="155" y="399"/>
                            </a:lnTo>
                            <a:lnTo>
                              <a:pt x="155" y="480"/>
                            </a:lnTo>
                            <a:lnTo>
                              <a:pt x="152" y="571"/>
                            </a:lnTo>
                            <a:lnTo>
                              <a:pt x="150" y="673"/>
                            </a:lnTo>
                            <a:lnTo>
                              <a:pt x="4" y="672"/>
                            </a:lnTo>
                            <a:lnTo>
                              <a:pt x="0" y="569"/>
                            </a:lnTo>
                            <a:lnTo>
                              <a:pt x="4" y="509"/>
                            </a:lnTo>
                            <a:lnTo>
                              <a:pt x="9" y="435"/>
                            </a:lnTo>
                            <a:lnTo>
                              <a:pt x="9" y="310"/>
                            </a:lnTo>
                            <a:lnTo>
                              <a:pt x="9" y="269"/>
                            </a:lnTo>
                            <a:lnTo>
                              <a:pt x="12" y="170"/>
                            </a:lnTo>
                            <a:lnTo>
                              <a:pt x="20" y="139"/>
                            </a:lnTo>
                            <a:lnTo>
                              <a:pt x="37" y="85"/>
                            </a:lnTo>
                            <a:lnTo>
                              <a:pt x="16" y="58"/>
                            </a:lnTo>
                            <a:lnTo>
                              <a:pt x="8" y="44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000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26" name=""/>
                    <p:cNvGrpSpPr/>
                    <p:nvPr/>
                  </p:nvGrpSpPr>
                  <p:grpSpPr>
                    <a:xfrm>
                      <a:off x="4341600" y="3147480"/>
                      <a:ext cx="393840" cy="234000"/>
                      <a:chOff x="4341600" y="3147480"/>
                      <a:chExt cx="393840" cy="234000"/>
                    </a:xfrm>
                  </p:grpSpPr>
                  <p:grpSp>
                    <p:nvGrpSpPr>
                      <p:cNvPr id="1527" name=""/>
                      <p:cNvGrpSpPr/>
                      <p:nvPr/>
                    </p:nvGrpSpPr>
                    <p:grpSpPr>
                      <a:xfrm>
                        <a:off x="4341600" y="3152880"/>
                        <a:ext cx="166680" cy="228600"/>
                        <a:chOff x="4341600" y="3152880"/>
                        <a:chExt cx="166680" cy="228600"/>
                      </a:xfrm>
                    </p:grpSpPr>
                    <p:sp>
                      <p:nvSpPr>
                        <p:cNvPr id="1528" name=""/>
                        <p:cNvSpPr/>
                        <p:nvPr/>
                      </p:nvSpPr>
                      <p:spPr>
                        <a:xfrm>
                          <a:off x="4341600" y="3156120"/>
                          <a:ext cx="165240" cy="225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70" h="852">
                              <a:moveTo>
                                <a:pt x="505" y="0"/>
                              </a:moveTo>
                              <a:lnTo>
                                <a:pt x="485" y="27"/>
                              </a:lnTo>
                              <a:lnTo>
                                <a:pt x="430" y="45"/>
                              </a:lnTo>
                              <a:lnTo>
                                <a:pt x="385" y="56"/>
                              </a:lnTo>
                              <a:lnTo>
                                <a:pt x="346" y="60"/>
                              </a:lnTo>
                              <a:lnTo>
                                <a:pt x="277" y="71"/>
                              </a:lnTo>
                              <a:lnTo>
                                <a:pt x="252" y="80"/>
                              </a:lnTo>
                              <a:lnTo>
                                <a:pt x="244" y="85"/>
                              </a:lnTo>
                              <a:lnTo>
                                <a:pt x="238" y="92"/>
                              </a:lnTo>
                              <a:lnTo>
                                <a:pt x="219" y="177"/>
                              </a:lnTo>
                              <a:lnTo>
                                <a:pt x="207" y="221"/>
                              </a:lnTo>
                              <a:lnTo>
                                <a:pt x="193" y="267"/>
                              </a:lnTo>
                              <a:lnTo>
                                <a:pt x="185" y="292"/>
                              </a:lnTo>
                              <a:lnTo>
                                <a:pt x="179" y="295"/>
                              </a:lnTo>
                              <a:lnTo>
                                <a:pt x="166" y="303"/>
                              </a:lnTo>
                              <a:lnTo>
                                <a:pt x="162" y="315"/>
                              </a:lnTo>
                              <a:lnTo>
                                <a:pt x="152" y="334"/>
                              </a:lnTo>
                              <a:lnTo>
                                <a:pt x="120" y="417"/>
                              </a:lnTo>
                              <a:lnTo>
                                <a:pt x="115" y="449"/>
                              </a:lnTo>
                              <a:lnTo>
                                <a:pt x="106" y="469"/>
                              </a:lnTo>
                              <a:lnTo>
                                <a:pt x="66" y="510"/>
                              </a:lnTo>
                              <a:lnTo>
                                <a:pt x="57" y="530"/>
                              </a:lnTo>
                              <a:lnTo>
                                <a:pt x="47" y="548"/>
                              </a:lnTo>
                              <a:lnTo>
                                <a:pt x="38" y="563"/>
                              </a:lnTo>
                              <a:lnTo>
                                <a:pt x="29" y="580"/>
                              </a:lnTo>
                              <a:lnTo>
                                <a:pt x="17" y="613"/>
                              </a:lnTo>
                              <a:lnTo>
                                <a:pt x="5" y="642"/>
                              </a:lnTo>
                              <a:lnTo>
                                <a:pt x="0" y="659"/>
                              </a:lnTo>
                              <a:lnTo>
                                <a:pt x="3" y="680"/>
                              </a:lnTo>
                              <a:lnTo>
                                <a:pt x="4" y="699"/>
                              </a:lnTo>
                              <a:lnTo>
                                <a:pt x="10" y="723"/>
                              </a:lnTo>
                              <a:lnTo>
                                <a:pt x="20" y="740"/>
                              </a:lnTo>
                              <a:lnTo>
                                <a:pt x="27" y="758"/>
                              </a:lnTo>
                              <a:lnTo>
                                <a:pt x="49" y="777"/>
                              </a:lnTo>
                              <a:lnTo>
                                <a:pt x="233" y="781"/>
                              </a:lnTo>
                              <a:lnTo>
                                <a:pt x="273" y="673"/>
                              </a:lnTo>
                              <a:lnTo>
                                <a:pt x="306" y="622"/>
                              </a:lnTo>
                              <a:lnTo>
                                <a:pt x="325" y="548"/>
                              </a:lnTo>
                              <a:lnTo>
                                <a:pt x="295" y="693"/>
                              </a:lnTo>
                              <a:lnTo>
                                <a:pt x="283" y="744"/>
                              </a:lnTo>
                              <a:lnTo>
                                <a:pt x="272" y="800"/>
                              </a:lnTo>
                              <a:lnTo>
                                <a:pt x="251" y="852"/>
                              </a:lnTo>
                              <a:lnTo>
                                <a:pt x="393" y="852"/>
                              </a:lnTo>
                              <a:lnTo>
                                <a:pt x="441" y="771"/>
                              </a:lnTo>
                              <a:lnTo>
                                <a:pt x="468" y="731"/>
                              </a:lnTo>
                              <a:lnTo>
                                <a:pt x="490" y="683"/>
                              </a:lnTo>
                              <a:lnTo>
                                <a:pt x="515" y="622"/>
                              </a:lnTo>
                              <a:lnTo>
                                <a:pt x="526" y="563"/>
                              </a:lnTo>
                              <a:lnTo>
                                <a:pt x="538" y="511"/>
                              </a:lnTo>
                              <a:lnTo>
                                <a:pt x="552" y="452"/>
                              </a:lnTo>
                              <a:lnTo>
                                <a:pt x="561" y="395"/>
                              </a:lnTo>
                              <a:lnTo>
                                <a:pt x="570" y="329"/>
                              </a:lnTo>
                              <a:lnTo>
                                <a:pt x="570" y="285"/>
                              </a:lnTo>
                              <a:lnTo>
                                <a:pt x="570" y="242"/>
                              </a:lnTo>
                              <a:lnTo>
                                <a:pt x="570" y="181"/>
                              </a:lnTo>
                              <a:lnTo>
                                <a:pt x="570" y="144"/>
                              </a:lnTo>
                              <a:lnTo>
                                <a:pt x="550" y="16"/>
                              </a:lnTo>
                              <a:lnTo>
                                <a:pt x="505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7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9" name=""/>
                        <p:cNvSpPr/>
                        <p:nvPr/>
                      </p:nvSpPr>
                      <p:spPr>
                        <a:xfrm>
                          <a:off x="4382280" y="3261600"/>
                          <a:ext cx="70200" cy="54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2" h="202">
                              <a:moveTo>
                                <a:pt x="81" y="0"/>
                              </a:moveTo>
                              <a:lnTo>
                                <a:pt x="107" y="7"/>
                              </a:lnTo>
                              <a:lnTo>
                                <a:pt x="125" y="12"/>
                              </a:lnTo>
                              <a:lnTo>
                                <a:pt x="136" y="21"/>
                              </a:lnTo>
                              <a:lnTo>
                                <a:pt x="149" y="28"/>
                              </a:lnTo>
                              <a:lnTo>
                                <a:pt x="160" y="35"/>
                              </a:lnTo>
                              <a:lnTo>
                                <a:pt x="173" y="43"/>
                              </a:lnTo>
                              <a:lnTo>
                                <a:pt x="190" y="19"/>
                              </a:lnTo>
                              <a:lnTo>
                                <a:pt x="191" y="50"/>
                              </a:lnTo>
                              <a:lnTo>
                                <a:pt x="197" y="71"/>
                              </a:lnTo>
                              <a:lnTo>
                                <a:pt x="216" y="53"/>
                              </a:lnTo>
                              <a:lnTo>
                                <a:pt x="231" y="36"/>
                              </a:lnTo>
                              <a:lnTo>
                                <a:pt x="242" y="24"/>
                              </a:lnTo>
                              <a:lnTo>
                                <a:pt x="242" y="49"/>
                              </a:lnTo>
                              <a:lnTo>
                                <a:pt x="231" y="77"/>
                              </a:lnTo>
                              <a:lnTo>
                                <a:pt x="220" y="102"/>
                              </a:lnTo>
                              <a:lnTo>
                                <a:pt x="204" y="117"/>
                              </a:lnTo>
                              <a:lnTo>
                                <a:pt x="194" y="128"/>
                              </a:lnTo>
                              <a:lnTo>
                                <a:pt x="180" y="128"/>
                              </a:lnTo>
                              <a:lnTo>
                                <a:pt x="158" y="201"/>
                              </a:lnTo>
                              <a:lnTo>
                                <a:pt x="135" y="202"/>
                              </a:lnTo>
                              <a:lnTo>
                                <a:pt x="113" y="195"/>
                              </a:lnTo>
                              <a:lnTo>
                                <a:pt x="96" y="187"/>
                              </a:lnTo>
                              <a:lnTo>
                                <a:pt x="118" y="176"/>
                              </a:lnTo>
                              <a:lnTo>
                                <a:pt x="124" y="172"/>
                              </a:lnTo>
                              <a:lnTo>
                                <a:pt x="76" y="128"/>
                              </a:lnTo>
                              <a:lnTo>
                                <a:pt x="51" y="123"/>
                              </a:lnTo>
                              <a:lnTo>
                                <a:pt x="15" y="124"/>
                              </a:lnTo>
                              <a:lnTo>
                                <a:pt x="8" y="124"/>
                              </a:lnTo>
                              <a:lnTo>
                                <a:pt x="0" y="116"/>
                              </a:lnTo>
                              <a:lnTo>
                                <a:pt x="0" y="102"/>
                              </a:lnTo>
                              <a:lnTo>
                                <a:pt x="47" y="102"/>
                              </a:lnTo>
                              <a:lnTo>
                                <a:pt x="62" y="103"/>
                              </a:lnTo>
                              <a:lnTo>
                                <a:pt x="58" y="107"/>
                              </a:lnTo>
                              <a:lnTo>
                                <a:pt x="80" y="121"/>
                              </a:lnTo>
                              <a:lnTo>
                                <a:pt x="106" y="142"/>
                              </a:lnTo>
                              <a:lnTo>
                                <a:pt x="124" y="156"/>
                              </a:lnTo>
                              <a:lnTo>
                                <a:pt x="143" y="124"/>
                              </a:lnTo>
                              <a:lnTo>
                                <a:pt x="143" y="114"/>
                              </a:lnTo>
                              <a:lnTo>
                                <a:pt x="140" y="86"/>
                              </a:lnTo>
                              <a:lnTo>
                                <a:pt x="158" y="91"/>
                              </a:lnTo>
                              <a:lnTo>
                                <a:pt x="168" y="81"/>
                              </a:lnTo>
                              <a:lnTo>
                                <a:pt x="153" y="67"/>
                              </a:lnTo>
                              <a:lnTo>
                                <a:pt x="138" y="53"/>
                              </a:lnTo>
                              <a:lnTo>
                                <a:pt x="114" y="36"/>
                              </a:lnTo>
                              <a:lnTo>
                                <a:pt x="102" y="17"/>
                              </a:lnTo>
                              <a:lnTo>
                                <a:pt x="8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0" name=""/>
                        <p:cNvSpPr/>
                        <p:nvPr/>
                      </p:nvSpPr>
                      <p:spPr>
                        <a:xfrm>
                          <a:off x="4405680" y="3187080"/>
                          <a:ext cx="32040" cy="71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9" h="271">
                              <a:moveTo>
                                <a:pt x="37" y="0"/>
                              </a:moveTo>
                              <a:lnTo>
                                <a:pt x="81" y="83"/>
                              </a:lnTo>
                              <a:lnTo>
                                <a:pt x="94" y="126"/>
                              </a:lnTo>
                              <a:lnTo>
                                <a:pt x="105" y="169"/>
                              </a:lnTo>
                              <a:lnTo>
                                <a:pt x="109" y="204"/>
                              </a:lnTo>
                              <a:lnTo>
                                <a:pt x="109" y="271"/>
                              </a:lnTo>
                              <a:lnTo>
                                <a:pt x="101" y="249"/>
                              </a:lnTo>
                              <a:lnTo>
                                <a:pt x="61" y="229"/>
                              </a:lnTo>
                              <a:lnTo>
                                <a:pt x="44" y="224"/>
                              </a:lnTo>
                              <a:lnTo>
                                <a:pt x="11" y="200"/>
                              </a:lnTo>
                              <a:lnTo>
                                <a:pt x="0" y="169"/>
                              </a:lnTo>
                              <a:lnTo>
                                <a:pt x="10" y="155"/>
                              </a:lnTo>
                              <a:lnTo>
                                <a:pt x="39" y="196"/>
                              </a:lnTo>
                              <a:lnTo>
                                <a:pt x="55" y="213"/>
                              </a:lnTo>
                              <a:lnTo>
                                <a:pt x="83" y="229"/>
                              </a:lnTo>
                              <a:lnTo>
                                <a:pt x="92" y="229"/>
                              </a:lnTo>
                              <a:lnTo>
                                <a:pt x="101" y="239"/>
                              </a:lnTo>
                              <a:lnTo>
                                <a:pt x="94" y="155"/>
                              </a:lnTo>
                              <a:lnTo>
                                <a:pt x="68" y="91"/>
                              </a:lnTo>
                              <a:lnTo>
                                <a:pt x="54" y="60"/>
                              </a:lnTo>
                              <a:lnTo>
                                <a:pt x="3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4480" bIns="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531" name=""/>
                        <p:cNvGrpSpPr/>
                        <p:nvPr/>
                      </p:nvGrpSpPr>
                      <p:grpSpPr>
                        <a:xfrm>
                          <a:off x="4434480" y="3152880"/>
                          <a:ext cx="73800" cy="228600"/>
                          <a:chOff x="4434480" y="3152880"/>
                          <a:chExt cx="73800" cy="228600"/>
                        </a:xfrm>
                      </p:grpSpPr>
                      <p:sp>
                        <p:nvSpPr>
                          <p:cNvPr id="1532" name=""/>
                          <p:cNvSpPr/>
                          <p:nvPr/>
                        </p:nvSpPr>
                        <p:spPr>
                          <a:xfrm>
                            <a:off x="4434480" y="3156120"/>
                            <a:ext cx="72000" cy="225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7" h="852">
                                <a:moveTo>
                                  <a:pt x="182" y="0"/>
                                </a:moveTo>
                                <a:lnTo>
                                  <a:pt x="162" y="27"/>
                                </a:lnTo>
                                <a:lnTo>
                                  <a:pt x="136" y="61"/>
                                </a:lnTo>
                                <a:lnTo>
                                  <a:pt x="95" y="108"/>
                                </a:lnTo>
                                <a:lnTo>
                                  <a:pt x="66" y="147"/>
                                </a:lnTo>
                                <a:lnTo>
                                  <a:pt x="145" y="186"/>
                                </a:lnTo>
                                <a:lnTo>
                                  <a:pt x="64" y="216"/>
                                </a:lnTo>
                                <a:lnTo>
                                  <a:pt x="66" y="260"/>
                                </a:lnTo>
                                <a:lnTo>
                                  <a:pt x="67" y="290"/>
                                </a:lnTo>
                                <a:lnTo>
                                  <a:pt x="72" y="320"/>
                                </a:lnTo>
                                <a:lnTo>
                                  <a:pt x="79" y="353"/>
                                </a:lnTo>
                                <a:lnTo>
                                  <a:pt x="90" y="395"/>
                                </a:lnTo>
                                <a:lnTo>
                                  <a:pt x="100" y="427"/>
                                </a:lnTo>
                                <a:lnTo>
                                  <a:pt x="111" y="465"/>
                                </a:lnTo>
                                <a:lnTo>
                                  <a:pt x="117" y="489"/>
                                </a:lnTo>
                                <a:lnTo>
                                  <a:pt x="122" y="523"/>
                                </a:lnTo>
                                <a:lnTo>
                                  <a:pt x="123" y="553"/>
                                </a:lnTo>
                                <a:lnTo>
                                  <a:pt x="117" y="590"/>
                                </a:lnTo>
                                <a:lnTo>
                                  <a:pt x="111" y="622"/>
                                </a:lnTo>
                                <a:lnTo>
                                  <a:pt x="101" y="653"/>
                                </a:lnTo>
                                <a:lnTo>
                                  <a:pt x="85" y="693"/>
                                </a:lnTo>
                                <a:lnTo>
                                  <a:pt x="68" y="735"/>
                                </a:lnTo>
                                <a:lnTo>
                                  <a:pt x="44" y="777"/>
                                </a:lnTo>
                                <a:lnTo>
                                  <a:pt x="0" y="852"/>
                                </a:lnTo>
                                <a:lnTo>
                                  <a:pt x="70" y="852"/>
                                </a:lnTo>
                                <a:lnTo>
                                  <a:pt x="118" y="771"/>
                                </a:lnTo>
                                <a:lnTo>
                                  <a:pt x="145" y="731"/>
                                </a:lnTo>
                                <a:lnTo>
                                  <a:pt x="167" y="683"/>
                                </a:lnTo>
                                <a:lnTo>
                                  <a:pt x="192" y="622"/>
                                </a:lnTo>
                                <a:lnTo>
                                  <a:pt x="203" y="563"/>
                                </a:lnTo>
                                <a:lnTo>
                                  <a:pt x="215" y="511"/>
                                </a:lnTo>
                                <a:lnTo>
                                  <a:pt x="229" y="452"/>
                                </a:lnTo>
                                <a:lnTo>
                                  <a:pt x="238" y="395"/>
                                </a:lnTo>
                                <a:lnTo>
                                  <a:pt x="247" y="329"/>
                                </a:lnTo>
                                <a:lnTo>
                                  <a:pt x="247" y="285"/>
                                </a:lnTo>
                                <a:lnTo>
                                  <a:pt x="247" y="242"/>
                                </a:lnTo>
                                <a:lnTo>
                                  <a:pt x="247" y="181"/>
                                </a:lnTo>
                                <a:lnTo>
                                  <a:pt x="247" y="144"/>
                                </a:lnTo>
                                <a:lnTo>
                                  <a:pt x="227" y="16"/>
                                </a:lnTo>
                                <a:lnTo>
                                  <a:pt x="182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33" name=""/>
                          <p:cNvSpPr/>
                          <p:nvPr/>
                        </p:nvSpPr>
                        <p:spPr>
                          <a:xfrm>
                            <a:off x="4437000" y="3152880"/>
                            <a:ext cx="71280" cy="225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7" h="851">
                                <a:moveTo>
                                  <a:pt x="183" y="0"/>
                                </a:moveTo>
                                <a:lnTo>
                                  <a:pt x="162" y="27"/>
                                </a:lnTo>
                                <a:lnTo>
                                  <a:pt x="136" y="61"/>
                                </a:lnTo>
                                <a:lnTo>
                                  <a:pt x="95" y="108"/>
                                </a:lnTo>
                                <a:lnTo>
                                  <a:pt x="66" y="147"/>
                                </a:lnTo>
                                <a:lnTo>
                                  <a:pt x="145" y="185"/>
                                </a:lnTo>
                                <a:lnTo>
                                  <a:pt x="65" y="216"/>
                                </a:lnTo>
                                <a:lnTo>
                                  <a:pt x="66" y="259"/>
                                </a:lnTo>
                                <a:lnTo>
                                  <a:pt x="67" y="290"/>
                                </a:lnTo>
                                <a:lnTo>
                                  <a:pt x="72" y="319"/>
                                </a:lnTo>
                                <a:lnTo>
                                  <a:pt x="79" y="352"/>
                                </a:lnTo>
                                <a:lnTo>
                                  <a:pt x="90" y="394"/>
                                </a:lnTo>
                                <a:lnTo>
                                  <a:pt x="100" y="426"/>
                                </a:lnTo>
                                <a:lnTo>
                                  <a:pt x="111" y="461"/>
                                </a:lnTo>
                                <a:lnTo>
                                  <a:pt x="117" y="488"/>
                                </a:lnTo>
                                <a:lnTo>
                                  <a:pt x="122" y="522"/>
                                </a:lnTo>
                                <a:lnTo>
                                  <a:pt x="123" y="553"/>
                                </a:lnTo>
                                <a:lnTo>
                                  <a:pt x="117" y="589"/>
                                </a:lnTo>
                                <a:lnTo>
                                  <a:pt x="111" y="621"/>
                                </a:lnTo>
                                <a:lnTo>
                                  <a:pt x="101" y="653"/>
                                </a:lnTo>
                                <a:lnTo>
                                  <a:pt x="85" y="693"/>
                                </a:lnTo>
                                <a:lnTo>
                                  <a:pt x="68" y="735"/>
                                </a:lnTo>
                                <a:lnTo>
                                  <a:pt x="44" y="776"/>
                                </a:lnTo>
                                <a:lnTo>
                                  <a:pt x="0" y="851"/>
                                </a:lnTo>
                                <a:lnTo>
                                  <a:pt x="71" y="851"/>
                                </a:lnTo>
                                <a:lnTo>
                                  <a:pt x="118" y="770"/>
                                </a:lnTo>
                                <a:lnTo>
                                  <a:pt x="145" y="730"/>
                                </a:lnTo>
                                <a:lnTo>
                                  <a:pt x="167" y="682"/>
                                </a:lnTo>
                                <a:lnTo>
                                  <a:pt x="192" y="621"/>
                                </a:lnTo>
                                <a:lnTo>
                                  <a:pt x="203" y="562"/>
                                </a:lnTo>
                                <a:lnTo>
                                  <a:pt x="216" y="511"/>
                                </a:lnTo>
                                <a:lnTo>
                                  <a:pt x="229" y="452"/>
                                </a:lnTo>
                                <a:lnTo>
                                  <a:pt x="239" y="394"/>
                                </a:lnTo>
                                <a:lnTo>
                                  <a:pt x="247" y="329"/>
                                </a:lnTo>
                                <a:lnTo>
                                  <a:pt x="247" y="284"/>
                                </a:lnTo>
                                <a:lnTo>
                                  <a:pt x="247" y="242"/>
                                </a:lnTo>
                                <a:lnTo>
                                  <a:pt x="247" y="181"/>
                                </a:lnTo>
                                <a:lnTo>
                                  <a:pt x="247" y="143"/>
                                </a:lnTo>
                                <a:lnTo>
                                  <a:pt x="228" y="15"/>
                                </a:lnTo>
                                <a:lnTo>
                                  <a:pt x="183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534" name=""/>
                      <p:cNvGrpSpPr/>
                      <p:nvPr/>
                    </p:nvGrpSpPr>
                    <p:grpSpPr>
                      <a:xfrm>
                        <a:off x="4566960" y="3147480"/>
                        <a:ext cx="168480" cy="224640"/>
                        <a:chOff x="4566960" y="3147480"/>
                        <a:chExt cx="168480" cy="224640"/>
                      </a:xfrm>
                    </p:grpSpPr>
                    <p:sp>
                      <p:nvSpPr>
                        <p:cNvPr id="1535" name=""/>
                        <p:cNvSpPr/>
                        <p:nvPr/>
                      </p:nvSpPr>
                      <p:spPr>
                        <a:xfrm>
                          <a:off x="4568400" y="3150000"/>
                          <a:ext cx="167040" cy="222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75" h="839">
                              <a:moveTo>
                                <a:pt x="84" y="13"/>
                              </a:moveTo>
                              <a:lnTo>
                                <a:pt x="20" y="0"/>
                              </a:lnTo>
                              <a:lnTo>
                                <a:pt x="9" y="38"/>
                              </a:lnTo>
                              <a:lnTo>
                                <a:pt x="0" y="101"/>
                              </a:lnTo>
                              <a:lnTo>
                                <a:pt x="7" y="208"/>
                              </a:lnTo>
                              <a:lnTo>
                                <a:pt x="13" y="247"/>
                              </a:lnTo>
                              <a:lnTo>
                                <a:pt x="31" y="311"/>
                              </a:lnTo>
                              <a:lnTo>
                                <a:pt x="31" y="384"/>
                              </a:lnTo>
                              <a:lnTo>
                                <a:pt x="35" y="473"/>
                              </a:lnTo>
                              <a:lnTo>
                                <a:pt x="43" y="564"/>
                              </a:lnTo>
                              <a:lnTo>
                                <a:pt x="47" y="608"/>
                              </a:lnTo>
                              <a:lnTo>
                                <a:pt x="69" y="680"/>
                              </a:lnTo>
                              <a:lnTo>
                                <a:pt x="84" y="736"/>
                              </a:lnTo>
                              <a:lnTo>
                                <a:pt x="104" y="812"/>
                              </a:lnTo>
                              <a:lnTo>
                                <a:pt x="117" y="839"/>
                              </a:lnTo>
                              <a:lnTo>
                                <a:pt x="534" y="839"/>
                              </a:lnTo>
                              <a:lnTo>
                                <a:pt x="575" y="816"/>
                              </a:lnTo>
                              <a:lnTo>
                                <a:pt x="549" y="637"/>
                              </a:lnTo>
                              <a:lnTo>
                                <a:pt x="531" y="573"/>
                              </a:lnTo>
                              <a:lnTo>
                                <a:pt x="531" y="529"/>
                              </a:lnTo>
                              <a:lnTo>
                                <a:pt x="526" y="513"/>
                              </a:lnTo>
                              <a:lnTo>
                                <a:pt x="523" y="497"/>
                              </a:lnTo>
                              <a:lnTo>
                                <a:pt x="514" y="487"/>
                              </a:lnTo>
                              <a:lnTo>
                                <a:pt x="495" y="465"/>
                              </a:lnTo>
                              <a:lnTo>
                                <a:pt x="489" y="446"/>
                              </a:lnTo>
                              <a:lnTo>
                                <a:pt x="481" y="419"/>
                              </a:lnTo>
                              <a:lnTo>
                                <a:pt x="474" y="395"/>
                              </a:lnTo>
                              <a:lnTo>
                                <a:pt x="457" y="363"/>
                              </a:lnTo>
                              <a:lnTo>
                                <a:pt x="435" y="278"/>
                              </a:lnTo>
                              <a:lnTo>
                                <a:pt x="422" y="260"/>
                              </a:lnTo>
                              <a:lnTo>
                                <a:pt x="408" y="251"/>
                              </a:lnTo>
                              <a:lnTo>
                                <a:pt x="394" y="241"/>
                              </a:lnTo>
                              <a:lnTo>
                                <a:pt x="400" y="217"/>
                              </a:lnTo>
                              <a:lnTo>
                                <a:pt x="395" y="208"/>
                              </a:lnTo>
                              <a:lnTo>
                                <a:pt x="374" y="177"/>
                              </a:lnTo>
                              <a:lnTo>
                                <a:pt x="384" y="159"/>
                              </a:lnTo>
                              <a:lnTo>
                                <a:pt x="386" y="146"/>
                              </a:lnTo>
                              <a:lnTo>
                                <a:pt x="385" y="133"/>
                              </a:lnTo>
                              <a:lnTo>
                                <a:pt x="380" y="119"/>
                              </a:lnTo>
                              <a:lnTo>
                                <a:pt x="373" y="98"/>
                              </a:lnTo>
                              <a:lnTo>
                                <a:pt x="367" y="85"/>
                              </a:lnTo>
                              <a:lnTo>
                                <a:pt x="360" y="80"/>
                              </a:lnTo>
                              <a:lnTo>
                                <a:pt x="349" y="75"/>
                              </a:lnTo>
                              <a:lnTo>
                                <a:pt x="334" y="72"/>
                              </a:lnTo>
                              <a:lnTo>
                                <a:pt x="288" y="71"/>
                              </a:lnTo>
                              <a:lnTo>
                                <a:pt x="237" y="64"/>
                              </a:lnTo>
                              <a:lnTo>
                                <a:pt x="183" y="51"/>
                              </a:lnTo>
                              <a:lnTo>
                                <a:pt x="134" y="36"/>
                              </a:lnTo>
                              <a:lnTo>
                                <a:pt x="84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7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6" name=""/>
                        <p:cNvSpPr/>
                        <p:nvPr/>
                      </p:nvSpPr>
                      <p:spPr>
                        <a:xfrm>
                          <a:off x="4631040" y="3175200"/>
                          <a:ext cx="79920" cy="153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6" h="579">
                              <a:moveTo>
                                <a:pt x="104" y="0"/>
                              </a:moveTo>
                              <a:lnTo>
                                <a:pt x="128" y="21"/>
                              </a:lnTo>
                              <a:lnTo>
                                <a:pt x="112" y="42"/>
                              </a:lnTo>
                              <a:lnTo>
                                <a:pt x="104" y="64"/>
                              </a:lnTo>
                              <a:lnTo>
                                <a:pt x="97" y="92"/>
                              </a:lnTo>
                              <a:lnTo>
                                <a:pt x="91" y="134"/>
                              </a:lnTo>
                              <a:lnTo>
                                <a:pt x="115" y="125"/>
                              </a:lnTo>
                              <a:lnTo>
                                <a:pt x="134" y="118"/>
                              </a:lnTo>
                              <a:lnTo>
                                <a:pt x="148" y="128"/>
                              </a:lnTo>
                              <a:lnTo>
                                <a:pt x="108" y="162"/>
                              </a:lnTo>
                              <a:lnTo>
                                <a:pt x="91" y="181"/>
                              </a:lnTo>
                              <a:lnTo>
                                <a:pt x="91" y="233"/>
                              </a:lnTo>
                              <a:lnTo>
                                <a:pt x="97" y="237"/>
                              </a:lnTo>
                              <a:lnTo>
                                <a:pt x="137" y="206"/>
                              </a:lnTo>
                              <a:lnTo>
                                <a:pt x="157" y="195"/>
                              </a:lnTo>
                              <a:lnTo>
                                <a:pt x="181" y="187"/>
                              </a:lnTo>
                              <a:lnTo>
                                <a:pt x="193" y="187"/>
                              </a:lnTo>
                              <a:lnTo>
                                <a:pt x="182" y="206"/>
                              </a:lnTo>
                              <a:lnTo>
                                <a:pt x="168" y="223"/>
                              </a:lnTo>
                              <a:lnTo>
                                <a:pt x="148" y="236"/>
                              </a:lnTo>
                              <a:lnTo>
                                <a:pt x="128" y="243"/>
                              </a:lnTo>
                              <a:lnTo>
                                <a:pt x="112" y="252"/>
                              </a:lnTo>
                              <a:lnTo>
                                <a:pt x="93" y="269"/>
                              </a:lnTo>
                              <a:lnTo>
                                <a:pt x="90" y="304"/>
                              </a:lnTo>
                              <a:lnTo>
                                <a:pt x="80" y="325"/>
                              </a:lnTo>
                              <a:lnTo>
                                <a:pt x="84" y="361"/>
                              </a:lnTo>
                              <a:lnTo>
                                <a:pt x="82" y="390"/>
                              </a:lnTo>
                              <a:lnTo>
                                <a:pt x="95" y="384"/>
                              </a:lnTo>
                              <a:lnTo>
                                <a:pt x="106" y="384"/>
                              </a:lnTo>
                              <a:lnTo>
                                <a:pt x="97" y="410"/>
                              </a:lnTo>
                              <a:lnTo>
                                <a:pt x="79" y="428"/>
                              </a:lnTo>
                              <a:lnTo>
                                <a:pt x="80" y="442"/>
                              </a:lnTo>
                              <a:lnTo>
                                <a:pt x="90" y="473"/>
                              </a:lnTo>
                              <a:lnTo>
                                <a:pt x="95" y="497"/>
                              </a:lnTo>
                              <a:lnTo>
                                <a:pt x="126" y="526"/>
                              </a:lnTo>
                              <a:lnTo>
                                <a:pt x="160" y="519"/>
                              </a:lnTo>
                              <a:lnTo>
                                <a:pt x="208" y="515"/>
                              </a:lnTo>
                              <a:lnTo>
                                <a:pt x="230" y="512"/>
                              </a:lnTo>
                              <a:lnTo>
                                <a:pt x="250" y="516"/>
                              </a:lnTo>
                              <a:lnTo>
                                <a:pt x="265" y="523"/>
                              </a:lnTo>
                              <a:lnTo>
                                <a:pt x="276" y="536"/>
                              </a:lnTo>
                              <a:lnTo>
                                <a:pt x="243" y="532"/>
                              </a:lnTo>
                              <a:lnTo>
                                <a:pt x="212" y="530"/>
                              </a:lnTo>
                              <a:lnTo>
                                <a:pt x="182" y="530"/>
                              </a:lnTo>
                              <a:lnTo>
                                <a:pt x="160" y="532"/>
                              </a:lnTo>
                              <a:lnTo>
                                <a:pt x="146" y="553"/>
                              </a:lnTo>
                              <a:lnTo>
                                <a:pt x="197" y="565"/>
                              </a:lnTo>
                              <a:lnTo>
                                <a:pt x="112" y="576"/>
                              </a:lnTo>
                              <a:lnTo>
                                <a:pt x="57" y="579"/>
                              </a:lnTo>
                              <a:lnTo>
                                <a:pt x="90" y="553"/>
                              </a:lnTo>
                              <a:lnTo>
                                <a:pt x="90" y="532"/>
                              </a:lnTo>
                              <a:lnTo>
                                <a:pt x="65" y="491"/>
                              </a:lnTo>
                              <a:lnTo>
                                <a:pt x="61" y="438"/>
                              </a:lnTo>
                              <a:lnTo>
                                <a:pt x="69" y="385"/>
                              </a:lnTo>
                              <a:lnTo>
                                <a:pt x="57" y="374"/>
                              </a:lnTo>
                              <a:lnTo>
                                <a:pt x="64" y="352"/>
                              </a:lnTo>
                              <a:lnTo>
                                <a:pt x="0" y="349"/>
                              </a:lnTo>
                              <a:lnTo>
                                <a:pt x="20" y="329"/>
                              </a:lnTo>
                              <a:lnTo>
                                <a:pt x="51" y="331"/>
                              </a:lnTo>
                              <a:lnTo>
                                <a:pt x="79" y="307"/>
                              </a:lnTo>
                              <a:lnTo>
                                <a:pt x="68" y="289"/>
                              </a:lnTo>
                              <a:lnTo>
                                <a:pt x="79" y="261"/>
                              </a:lnTo>
                              <a:lnTo>
                                <a:pt x="82" y="166"/>
                              </a:lnTo>
                              <a:lnTo>
                                <a:pt x="86" y="109"/>
                              </a:lnTo>
                              <a:lnTo>
                                <a:pt x="101" y="21"/>
                              </a:lnTo>
                              <a:lnTo>
                                <a:pt x="104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7" name=""/>
                        <p:cNvSpPr/>
                        <p:nvPr/>
                      </p:nvSpPr>
                      <p:spPr>
                        <a:xfrm>
                          <a:off x="4611960" y="3249000"/>
                          <a:ext cx="34920" cy="6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9" h="23">
                              <a:moveTo>
                                <a:pt x="119" y="0"/>
                              </a:moveTo>
                              <a:lnTo>
                                <a:pt x="0" y="20"/>
                              </a:lnTo>
                              <a:lnTo>
                                <a:pt x="66" y="23"/>
                              </a:lnTo>
                              <a:lnTo>
                                <a:pt x="119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538" name=""/>
                        <p:cNvGrpSpPr/>
                        <p:nvPr/>
                      </p:nvGrpSpPr>
                      <p:grpSpPr>
                        <a:xfrm>
                          <a:off x="4566960" y="3147480"/>
                          <a:ext cx="59400" cy="224640"/>
                          <a:chOff x="4566960" y="3147480"/>
                          <a:chExt cx="59400" cy="224640"/>
                        </a:xfrm>
                      </p:grpSpPr>
                      <p:sp>
                        <p:nvSpPr>
                          <p:cNvPr id="1539" name=""/>
                          <p:cNvSpPr/>
                          <p:nvPr/>
                        </p:nvSpPr>
                        <p:spPr>
                          <a:xfrm>
                            <a:off x="4568400" y="3150000"/>
                            <a:ext cx="57960" cy="222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9" h="839">
                                <a:moveTo>
                                  <a:pt x="84" y="13"/>
                                </a:moveTo>
                                <a:lnTo>
                                  <a:pt x="20" y="0"/>
                                </a:lnTo>
                                <a:lnTo>
                                  <a:pt x="9" y="38"/>
                                </a:lnTo>
                                <a:lnTo>
                                  <a:pt x="0" y="101"/>
                                </a:lnTo>
                                <a:lnTo>
                                  <a:pt x="7" y="208"/>
                                </a:lnTo>
                                <a:lnTo>
                                  <a:pt x="13" y="247"/>
                                </a:lnTo>
                                <a:lnTo>
                                  <a:pt x="31" y="311"/>
                                </a:lnTo>
                                <a:lnTo>
                                  <a:pt x="31" y="384"/>
                                </a:lnTo>
                                <a:lnTo>
                                  <a:pt x="35" y="473"/>
                                </a:lnTo>
                                <a:lnTo>
                                  <a:pt x="43" y="564"/>
                                </a:lnTo>
                                <a:lnTo>
                                  <a:pt x="47" y="608"/>
                                </a:lnTo>
                                <a:lnTo>
                                  <a:pt x="69" y="680"/>
                                </a:lnTo>
                                <a:lnTo>
                                  <a:pt x="84" y="736"/>
                                </a:lnTo>
                                <a:lnTo>
                                  <a:pt x="104" y="812"/>
                                </a:lnTo>
                                <a:lnTo>
                                  <a:pt x="117" y="839"/>
                                </a:lnTo>
                                <a:lnTo>
                                  <a:pt x="176" y="839"/>
                                </a:lnTo>
                                <a:lnTo>
                                  <a:pt x="166" y="817"/>
                                </a:lnTo>
                                <a:lnTo>
                                  <a:pt x="145" y="762"/>
                                </a:lnTo>
                                <a:lnTo>
                                  <a:pt x="133" y="723"/>
                                </a:lnTo>
                                <a:lnTo>
                                  <a:pt x="121" y="680"/>
                                </a:lnTo>
                                <a:lnTo>
                                  <a:pt x="115" y="635"/>
                                </a:lnTo>
                                <a:lnTo>
                                  <a:pt x="115" y="591"/>
                                </a:lnTo>
                                <a:lnTo>
                                  <a:pt x="117" y="548"/>
                                </a:lnTo>
                                <a:lnTo>
                                  <a:pt x="131" y="480"/>
                                </a:lnTo>
                                <a:lnTo>
                                  <a:pt x="142" y="436"/>
                                </a:lnTo>
                                <a:lnTo>
                                  <a:pt x="159" y="384"/>
                                </a:lnTo>
                                <a:lnTo>
                                  <a:pt x="179" y="325"/>
                                </a:lnTo>
                                <a:lnTo>
                                  <a:pt x="183" y="290"/>
                                </a:lnTo>
                                <a:lnTo>
                                  <a:pt x="190" y="251"/>
                                </a:lnTo>
                                <a:lnTo>
                                  <a:pt x="193" y="226"/>
                                </a:lnTo>
                                <a:lnTo>
                                  <a:pt x="105" y="207"/>
                                </a:lnTo>
                                <a:lnTo>
                                  <a:pt x="199" y="154"/>
                                </a:lnTo>
                                <a:lnTo>
                                  <a:pt x="165" y="126"/>
                                </a:lnTo>
                                <a:lnTo>
                                  <a:pt x="142" y="98"/>
                                </a:lnTo>
                                <a:lnTo>
                                  <a:pt x="112" y="58"/>
                                </a:lnTo>
                                <a:lnTo>
                                  <a:pt x="84" y="1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40" name=""/>
                          <p:cNvSpPr/>
                          <p:nvPr/>
                        </p:nvSpPr>
                        <p:spPr>
                          <a:xfrm>
                            <a:off x="4566960" y="3147480"/>
                            <a:ext cx="57240" cy="22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9" h="838">
                                <a:moveTo>
                                  <a:pt x="84" y="12"/>
                                </a:moveTo>
                                <a:lnTo>
                                  <a:pt x="20" y="0"/>
                                </a:lnTo>
                                <a:lnTo>
                                  <a:pt x="9" y="37"/>
                                </a:lnTo>
                                <a:lnTo>
                                  <a:pt x="0" y="101"/>
                                </a:lnTo>
                                <a:lnTo>
                                  <a:pt x="6" y="207"/>
                                </a:lnTo>
                                <a:lnTo>
                                  <a:pt x="12" y="246"/>
                                </a:lnTo>
                                <a:lnTo>
                                  <a:pt x="31" y="311"/>
                                </a:lnTo>
                                <a:lnTo>
                                  <a:pt x="31" y="384"/>
                                </a:lnTo>
                                <a:lnTo>
                                  <a:pt x="34" y="473"/>
                                </a:lnTo>
                                <a:lnTo>
                                  <a:pt x="43" y="563"/>
                                </a:lnTo>
                                <a:lnTo>
                                  <a:pt x="46" y="608"/>
                                </a:lnTo>
                                <a:lnTo>
                                  <a:pt x="68" y="679"/>
                                </a:lnTo>
                                <a:lnTo>
                                  <a:pt x="84" y="736"/>
                                </a:lnTo>
                                <a:lnTo>
                                  <a:pt x="104" y="811"/>
                                </a:lnTo>
                                <a:lnTo>
                                  <a:pt x="117" y="838"/>
                                </a:lnTo>
                                <a:lnTo>
                                  <a:pt x="175" y="838"/>
                                </a:lnTo>
                                <a:lnTo>
                                  <a:pt x="166" y="817"/>
                                </a:lnTo>
                                <a:lnTo>
                                  <a:pt x="145" y="762"/>
                                </a:lnTo>
                                <a:lnTo>
                                  <a:pt x="133" y="723"/>
                                </a:lnTo>
                                <a:lnTo>
                                  <a:pt x="121" y="679"/>
                                </a:lnTo>
                                <a:lnTo>
                                  <a:pt x="115" y="635"/>
                                </a:lnTo>
                                <a:lnTo>
                                  <a:pt x="115" y="590"/>
                                </a:lnTo>
                                <a:lnTo>
                                  <a:pt x="117" y="548"/>
                                </a:lnTo>
                                <a:lnTo>
                                  <a:pt x="130" y="480"/>
                                </a:lnTo>
                                <a:lnTo>
                                  <a:pt x="141" y="435"/>
                                </a:lnTo>
                                <a:lnTo>
                                  <a:pt x="158" y="384"/>
                                </a:lnTo>
                                <a:lnTo>
                                  <a:pt x="179" y="325"/>
                                </a:lnTo>
                                <a:lnTo>
                                  <a:pt x="183" y="290"/>
                                </a:lnTo>
                                <a:lnTo>
                                  <a:pt x="190" y="251"/>
                                </a:lnTo>
                                <a:lnTo>
                                  <a:pt x="192" y="225"/>
                                </a:lnTo>
                                <a:lnTo>
                                  <a:pt x="105" y="206"/>
                                </a:lnTo>
                                <a:lnTo>
                                  <a:pt x="199" y="153"/>
                                </a:lnTo>
                                <a:lnTo>
                                  <a:pt x="164" y="125"/>
                                </a:lnTo>
                                <a:lnTo>
                                  <a:pt x="141" y="97"/>
                                </a:lnTo>
                                <a:lnTo>
                                  <a:pt x="112" y="57"/>
                                </a:lnTo>
                                <a:lnTo>
                                  <a:pt x="84" y="1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1541" name=""/>
                  <p:cNvGrpSpPr/>
                  <p:nvPr/>
                </p:nvGrpSpPr>
                <p:grpSpPr>
                  <a:xfrm>
                    <a:off x="4462560" y="3045240"/>
                    <a:ext cx="131400" cy="147600"/>
                    <a:chOff x="4462560" y="3045240"/>
                    <a:chExt cx="131400" cy="147600"/>
                  </a:xfrm>
                </p:grpSpPr>
                <p:sp>
                  <p:nvSpPr>
                    <p:cNvPr id="1542" name=""/>
                    <p:cNvSpPr/>
                    <p:nvPr/>
                  </p:nvSpPr>
                  <p:spPr>
                    <a:xfrm>
                      <a:off x="4466880" y="3049920"/>
                      <a:ext cx="12708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0" h="542">
                          <a:moveTo>
                            <a:pt x="15" y="274"/>
                          </a:moveTo>
                          <a:lnTo>
                            <a:pt x="4" y="279"/>
                          </a:lnTo>
                          <a:lnTo>
                            <a:pt x="0" y="290"/>
                          </a:lnTo>
                          <a:lnTo>
                            <a:pt x="3" y="314"/>
                          </a:lnTo>
                          <a:lnTo>
                            <a:pt x="14" y="347"/>
                          </a:lnTo>
                          <a:lnTo>
                            <a:pt x="25" y="367"/>
                          </a:lnTo>
                          <a:lnTo>
                            <a:pt x="44" y="386"/>
                          </a:lnTo>
                          <a:lnTo>
                            <a:pt x="70" y="404"/>
                          </a:lnTo>
                          <a:lnTo>
                            <a:pt x="87" y="413"/>
                          </a:lnTo>
                          <a:lnTo>
                            <a:pt x="106" y="420"/>
                          </a:lnTo>
                          <a:lnTo>
                            <a:pt x="117" y="419"/>
                          </a:lnTo>
                          <a:lnTo>
                            <a:pt x="125" y="421"/>
                          </a:lnTo>
                          <a:lnTo>
                            <a:pt x="128" y="435"/>
                          </a:lnTo>
                          <a:lnTo>
                            <a:pt x="133" y="449"/>
                          </a:lnTo>
                          <a:lnTo>
                            <a:pt x="139" y="462"/>
                          </a:lnTo>
                          <a:lnTo>
                            <a:pt x="148" y="471"/>
                          </a:lnTo>
                          <a:lnTo>
                            <a:pt x="157" y="480"/>
                          </a:lnTo>
                          <a:lnTo>
                            <a:pt x="173" y="492"/>
                          </a:lnTo>
                          <a:lnTo>
                            <a:pt x="193" y="502"/>
                          </a:lnTo>
                          <a:lnTo>
                            <a:pt x="218" y="527"/>
                          </a:lnTo>
                          <a:lnTo>
                            <a:pt x="232" y="536"/>
                          </a:lnTo>
                          <a:lnTo>
                            <a:pt x="243" y="541"/>
                          </a:lnTo>
                          <a:lnTo>
                            <a:pt x="261" y="542"/>
                          </a:lnTo>
                          <a:lnTo>
                            <a:pt x="276" y="541"/>
                          </a:lnTo>
                          <a:lnTo>
                            <a:pt x="290" y="537"/>
                          </a:lnTo>
                          <a:lnTo>
                            <a:pt x="302" y="533"/>
                          </a:lnTo>
                          <a:lnTo>
                            <a:pt x="319" y="523"/>
                          </a:lnTo>
                          <a:lnTo>
                            <a:pt x="334" y="515"/>
                          </a:lnTo>
                          <a:lnTo>
                            <a:pt x="349" y="502"/>
                          </a:lnTo>
                          <a:lnTo>
                            <a:pt x="370" y="502"/>
                          </a:lnTo>
                          <a:lnTo>
                            <a:pt x="389" y="490"/>
                          </a:lnTo>
                          <a:lnTo>
                            <a:pt x="406" y="460"/>
                          </a:lnTo>
                          <a:lnTo>
                            <a:pt x="420" y="442"/>
                          </a:lnTo>
                          <a:lnTo>
                            <a:pt x="433" y="420"/>
                          </a:lnTo>
                          <a:lnTo>
                            <a:pt x="439" y="388"/>
                          </a:lnTo>
                          <a:lnTo>
                            <a:pt x="440" y="360"/>
                          </a:lnTo>
                          <a:lnTo>
                            <a:pt x="436" y="331"/>
                          </a:lnTo>
                          <a:lnTo>
                            <a:pt x="428" y="310"/>
                          </a:lnTo>
                          <a:lnTo>
                            <a:pt x="424" y="288"/>
                          </a:lnTo>
                          <a:lnTo>
                            <a:pt x="422" y="257"/>
                          </a:lnTo>
                          <a:lnTo>
                            <a:pt x="413" y="219"/>
                          </a:lnTo>
                          <a:lnTo>
                            <a:pt x="400" y="190"/>
                          </a:lnTo>
                          <a:lnTo>
                            <a:pt x="388" y="172"/>
                          </a:lnTo>
                          <a:lnTo>
                            <a:pt x="381" y="152"/>
                          </a:lnTo>
                          <a:lnTo>
                            <a:pt x="367" y="121"/>
                          </a:lnTo>
                          <a:lnTo>
                            <a:pt x="347" y="88"/>
                          </a:lnTo>
                          <a:lnTo>
                            <a:pt x="325" y="60"/>
                          </a:lnTo>
                          <a:lnTo>
                            <a:pt x="304" y="36"/>
                          </a:lnTo>
                          <a:lnTo>
                            <a:pt x="276" y="17"/>
                          </a:lnTo>
                          <a:lnTo>
                            <a:pt x="244" y="4"/>
                          </a:lnTo>
                          <a:lnTo>
                            <a:pt x="215" y="0"/>
                          </a:lnTo>
                          <a:lnTo>
                            <a:pt x="189" y="0"/>
                          </a:lnTo>
                          <a:lnTo>
                            <a:pt x="150" y="4"/>
                          </a:lnTo>
                          <a:lnTo>
                            <a:pt x="149" y="7"/>
                          </a:lnTo>
                          <a:lnTo>
                            <a:pt x="121" y="15"/>
                          </a:lnTo>
                          <a:lnTo>
                            <a:pt x="87" y="31"/>
                          </a:lnTo>
                          <a:lnTo>
                            <a:pt x="55" y="49"/>
                          </a:lnTo>
                          <a:lnTo>
                            <a:pt x="37" y="67"/>
                          </a:lnTo>
                          <a:lnTo>
                            <a:pt x="22" y="85"/>
                          </a:lnTo>
                          <a:lnTo>
                            <a:pt x="14" y="110"/>
                          </a:lnTo>
                          <a:lnTo>
                            <a:pt x="4" y="152"/>
                          </a:lnTo>
                          <a:lnTo>
                            <a:pt x="4" y="190"/>
                          </a:lnTo>
                          <a:lnTo>
                            <a:pt x="8" y="229"/>
                          </a:lnTo>
                          <a:lnTo>
                            <a:pt x="15" y="274"/>
                          </a:lnTo>
                          <a:close/>
                        </a:path>
                      </a:pathLst>
                    </a:custGeom>
                    <a:solidFill>
                      <a:srgbClr val="f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543" name=""/>
                    <p:cNvGrpSpPr/>
                    <p:nvPr/>
                  </p:nvGrpSpPr>
                  <p:grpSpPr>
                    <a:xfrm>
                      <a:off x="4485240" y="3094200"/>
                      <a:ext cx="100800" cy="88200"/>
                      <a:chOff x="4485240" y="3094200"/>
                      <a:chExt cx="100800" cy="88200"/>
                    </a:xfrm>
                  </p:grpSpPr>
                  <p:grpSp>
                    <p:nvGrpSpPr>
                      <p:cNvPr id="1544" name=""/>
                      <p:cNvGrpSpPr/>
                      <p:nvPr/>
                    </p:nvGrpSpPr>
                    <p:grpSpPr>
                      <a:xfrm>
                        <a:off x="4485240" y="3094200"/>
                        <a:ext cx="100800" cy="88200"/>
                        <a:chOff x="4485240" y="3094200"/>
                        <a:chExt cx="100800" cy="88200"/>
                      </a:xfrm>
                    </p:grpSpPr>
                    <p:sp>
                      <p:nvSpPr>
                        <p:cNvPr id="1545" name=""/>
                        <p:cNvSpPr/>
                        <p:nvPr/>
                      </p:nvSpPr>
                      <p:spPr>
                        <a:xfrm>
                          <a:off x="4551120" y="3094200"/>
                          <a:ext cx="27720" cy="41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7" h="155">
                              <a:moveTo>
                                <a:pt x="64" y="0"/>
                              </a:moveTo>
                              <a:lnTo>
                                <a:pt x="64" y="11"/>
                              </a:lnTo>
                              <a:lnTo>
                                <a:pt x="61" y="21"/>
                              </a:lnTo>
                              <a:lnTo>
                                <a:pt x="54" y="26"/>
                              </a:lnTo>
                              <a:lnTo>
                                <a:pt x="42" y="36"/>
                              </a:lnTo>
                              <a:lnTo>
                                <a:pt x="28" y="49"/>
                              </a:lnTo>
                              <a:lnTo>
                                <a:pt x="89" y="37"/>
                              </a:lnTo>
                              <a:lnTo>
                                <a:pt x="95" y="40"/>
                              </a:lnTo>
                              <a:lnTo>
                                <a:pt x="83" y="46"/>
                              </a:lnTo>
                              <a:lnTo>
                                <a:pt x="75" y="54"/>
                              </a:lnTo>
                              <a:lnTo>
                                <a:pt x="66" y="61"/>
                              </a:lnTo>
                              <a:lnTo>
                                <a:pt x="59" y="64"/>
                              </a:lnTo>
                              <a:lnTo>
                                <a:pt x="48" y="64"/>
                              </a:lnTo>
                              <a:lnTo>
                                <a:pt x="31" y="63"/>
                              </a:lnTo>
                              <a:lnTo>
                                <a:pt x="49" y="68"/>
                              </a:lnTo>
                              <a:lnTo>
                                <a:pt x="55" y="71"/>
                              </a:lnTo>
                              <a:lnTo>
                                <a:pt x="67" y="71"/>
                              </a:lnTo>
                              <a:lnTo>
                                <a:pt x="77" y="68"/>
                              </a:lnTo>
                              <a:lnTo>
                                <a:pt x="88" y="62"/>
                              </a:lnTo>
                              <a:lnTo>
                                <a:pt x="97" y="54"/>
                              </a:lnTo>
                              <a:lnTo>
                                <a:pt x="76" y="74"/>
                              </a:lnTo>
                              <a:lnTo>
                                <a:pt x="65" y="76"/>
                              </a:lnTo>
                              <a:lnTo>
                                <a:pt x="55" y="76"/>
                              </a:lnTo>
                              <a:lnTo>
                                <a:pt x="47" y="74"/>
                              </a:lnTo>
                              <a:lnTo>
                                <a:pt x="39" y="71"/>
                              </a:lnTo>
                              <a:lnTo>
                                <a:pt x="32" y="71"/>
                              </a:lnTo>
                              <a:lnTo>
                                <a:pt x="25" y="71"/>
                              </a:lnTo>
                              <a:lnTo>
                                <a:pt x="30" y="92"/>
                              </a:lnTo>
                              <a:lnTo>
                                <a:pt x="38" y="107"/>
                              </a:lnTo>
                              <a:lnTo>
                                <a:pt x="45" y="114"/>
                              </a:lnTo>
                              <a:lnTo>
                                <a:pt x="53" y="119"/>
                              </a:lnTo>
                              <a:lnTo>
                                <a:pt x="59" y="127"/>
                              </a:lnTo>
                              <a:lnTo>
                                <a:pt x="62" y="135"/>
                              </a:lnTo>
                              <a:lnTo>
                                <a:pt x="64" y="147"/>
                              </a:lnTo>
                              <a:lnTo>
                                <a:pt x="59" y="155"/>
                              </a:lnTo>
                              <a:lnTo>
                                <a:pt x="56" y="137"/>
                              </a:lnTo>
                              <a:lnTo>
                                <a:pt x="53" y="128"/>
                              </a:lnTo>
                              <a:lnTo>
                                <a:pt x="45" y="124"/>
                              </a:lnTo>
                              <a:lnTo>
                                <a:pt x="34" y="119"/>
                              </a:lnTo>
                              <a:lnTo>
                                <a:pt x="27" y="116"/>
                              </a:lnTo>
                              <a:lnTo>
                                <a:pt x="20" y="110"/>
                              </a:lnTo>
                              <a:lnTo>
                                <a:pt x="11" y="102"/>
                              </a:lnTo>
                              <a:lnTo>
                                <a:pt x="5" y="92"/>
                              </a:lnTo>
                              <a:lnTo>
                                <a:pt x="2" y="82"/>
                              </a:lnTo>
                              <a:lnTo>
                                <a:pt x="0" y="69"/>
                              </a:lnTo>
                              <a:lnTo>
                                <a:pt x="2" y="57"/>
                              </a:lnTo>
                              <a:lnTo>
                                <a:pt x="5" y="43"/>
                              </a:lnTo>
                              <a:lnTo>
                                <a:pt x="64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760" bIns="-57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546" name=""/>
                        <p:cNvGrpSpPr/>
                        <p:nvPr/>
                      </p:nvGrpSpPr>
                      <p:grpSpPr>
                        <a:xfrm>
                          <a:off x="4485240" y="3121200"/>
                          <a:ext cx="100800" cy="61200"/>
                          <a:chOff x="4485240" y="3121200"/>
                          <a:chExt cx="100800" cy="61200"/>
                        </a:xfrm>
                      </p:grpSpPr>
                      <p:sp>
                        <p:nvSpPr>
                          <p:cNvPr id="1547" name=""/>
                          <p:cNvSpPr/>
                          <p:nvPr/>
                        </p:nvSpPr>
                        <p:spPr>
                          <a:xfrm>
                            <a:off x="4485240" y="3121200"/>
                            <a:ext cx="82440" cy="61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4" h="229">
                                <a:moveTo>
                                  <a:pt x="12" y="0"/>
                                </a:moveTo>
                                <a:lnTo>
                                  <a:pt x="16" y="22"/>
                                </a:lnTo>
                                <a:lnTo>
                                  <a:pt x="25" y="42"/>
                                </a:lnTo>
                                <a:lnTo>
                                  <a:pt x="44" y="63"/>
                                </a:lnTo>
                                <a:lnTo>
                                  <a:pt x="55" y="74"/>
                                </a:lnTo>
                                <a:lnTo>
                                  <a:pt x="68" y="82"/>
                                </a:lnTo>
                                <a:lnTo>
                                  <a:pt x="86" y="82"/>
                                </a:lnTo>
                                <a:lnTo>
                                  <a:pt x="112" y="79"/>
                                </a:lnTo>
                                <a:lnTo>
                                  <a:pt x="136" y="79"/>
                                </a:lnTo>
                                <a:lnTo>
                                  <a:pt x="150" y="74"/>
                                </a:lnTo>
                                <a:lnTo>
                                  <a:pt x="162" y="75"/>
                                </a:lnTo>
                                <a:lnTo>
                                  <a:pt x="161" y="90"/>
                                </a:lnTo>
                                <a:lnTo>
                                  <a:pt x="164" y="107"/>
                                </a:lnTo>
                                <a:lnTo>
                                  <a:pt x="152" y="108"/>
                                </a:lnTo>
                                <a:lnTo>
                                  <a:pt x="137" y="110"/>
                                </a:lnTo>
                                <a:lnTo>
                                  <a:pt x="136" y="122"/>
                                </a:lnTo>
                                <a:lnTo>
                                  <a:pt x="139" y="136"/>
                                </a:lnTo>
                                <a:lnTo>
                                  <a:pt x="144" y="152"/>
                                </a:lnTo>
                                <a:lnTo>
                                  <a:pt x="155" y="163"/>
                                </a:lnTo>
                                <a:lnTo>
                                  <a:pt x="170" y="168"/>
                                </a:lnTo>
                                <a:lnTo>
                                  <a:pt x="191" y="167"/>
                                </a:lnTo>
                                <a:lnTo>
                                  <a:pt x="202" y="167"/>
                                </a:lnTo>
                                <a:lnTo>
                                  <a:pt x="213" y="177"/>
                                </a:lnTo>
                                <a:lnTo>
                                  <a:pt x="226" y="188"/>
                                </a:lnTo>
                                <a:lnTo>
                                  <a:pt x="243" y="194"/>
                                </a:lnTo>
                                <a:lnTo>
                                  <a:pt x="260" y="194"/>
                                </a:lnTo>
                                <a:lnTo>
                                  <a:pt x="269" y="193"/>
                                </a:lnTo>
                                <a:lnTo>
                                  <a:pt x="276" y="206"/>
                                </a:lnTo>
                                <a:lnTo>
                                  <a:pt x="284" y="215"/>
                                </a:lnTo>
                                <a:lnTo>
                                  <a:pt x="270" y="223"/>
                                </a:lnTo>
                                <a:lnTo>
                                  <a:pt x="256" y="229"/>
                                </a:lnTo>
                                <a:lnTo>
                                  <a:pt x="236" y="229"/>
                                </a:lnTo>
                                <a:lnTo>
                                  <a:pt x="217" y="229"/>
                                </a:lnTo>
                                <a:lnTo>
                                  <a:pt x="214" y="229"/>
                                </a:lnTo>
                                <a:lnTo>
                                  <a:pt x="180" y="224"/>
                                </a:lnTo>
                                <a:lnTo>
                                  <a:pt x="162" y="218"/>
                                </a:lnTo>
                                <a:lnTo>
                                  <a:pt x="139" y="204"/>
                                </a:lnTo>
                                <a:lnTo>
                                  <a:pt x="109" y="177"/>
                                </a:lnTo>
                                <a:lnTo>
                                  <a:pt x="68" y="142"/>
                                </a:lnTo>
                                <a:lnTo>
                                  <a:pt x="29" y="103"/>
                                </a:lnTo>
                                <a:lnTo>
                                  <a:pt x="12" y="82"/>
                                </a:lnTo>
                                <a:lnTo>
                                  <a:pt x="1" y="61"/>
                                </a:lnTo>
                                <a:lnTo>
                                  <a:pt x="0" y="45"/>
                                </a:lnTo>
                                <a:lnTo>
                                  <a:pt x="12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df9f7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4400" bIns="144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48" name=""/>
                          <p:cNvSpPr/>
                          <p:nvPr/>
                        </p:nvSpPr>
                        <p:spPr>
                          <a:xfrm>
                            <a:off x="4538160" y="3131280"/>
                            <a:ext cx="13680" cy="32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9" h="121">
                                <a:moveTo>
                                  <a:pt x="49" y="3"/>
                                </a:moveTo>
                                <a:lnTo>
                                  <a:pt x="37" y="0"/>
                                </a:lnTo>
                                <a:lnTo>
                                  <a:pt x="28" y="1"/>
                                </a:lnTo>
                                <a:lnTo>
                                  <a:pt x="21" y="7"/>
                                </a:lnTo>
                                <a:lnTo>
                                  <a:pt x="15" y="14"/>
                                </a:lnTo>
                                <a:lnTo>
                                  <a:pt x="10" y="26"/>
                                </a:lnTo>
                                <a:lnTo>
                                  <a:pt x="10" y="39"/>
                                </a:lnTo>
                                <a:lnTo>
                                  <a:pt x="8" y="63"/>
                                </a:lnTo>
                                <a:lnTo>
                                  <a:pt x="0" y="86"/>
                                </a:lnTo>
                                <a:lnTo>
                                  <a:pt x="8" y="96"/>
                                </a:lnTo>
                                <a:lnTo>
                                  <a:pt x="14" y="121"/>
                                </a:lnTo>
                                <a:lnTo>
                                  <a:pt x="11" y="88"/>
                                </a:lnTo>
                                <a:lnTo>
                                  <a:pt x="14" y="68"/>
                                </a:lnTo>
                                <a:lnTo>
                                  <a:pt x="14" y="50"/>
                                </a:lnTo>
                                <a:lnTo>
                                  <a:pt x="15" y="42"/>
                                </a:lnTo>
                                <a:lnTo>
                                  <a:pt x="20" y="39"/>
                                </a:lnTo>
                                <a:lnTo>
                                  <a:pt x="28" y="40"/>
                                </a:lnTo>
                                <a:lnTo>
                                  <a:pt x="34" y="40"/>
                                </a:lnTo>
                                <a:lnTo>
                                  <a:pt x="25" y="34"/>
                                </a:lnTo>
                                <a:lnTo>
                                  <a:pt x="22" y="27"/>
                                </a:lnTo>
                                <a:lnTo>
                                  <a:pt x="21" y="19"/>
                                </a:lnTo>
                                <a:lnTo>
                                  <a:pt x="26" y="10"/>
                                </a:lnTo>
                                <a:lnTo>
                                  <a:pt x="36" y="6"/>
                                </a:lnTo>
                                <a:lnTo>
                                  <a:pt x="49" y="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df9f7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4400" bIns="-144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49" name=""/>
                          <p:cNvSpPr/>
                          <p:nvPr/>
                        </p:nvSpPr>
                        <p:spPr>
                          <a:xfrm>
                            <a:off x="4548600" y="3135240"/>
                            <a:ext cx="8640" cy="5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1" h="22">
                                <a:moveTo>
                                  <a:pt x="0" y="22"/>
                                </a:moveTo>
                                <a:lnTo>
                                  <a:pt x="7" y="15"/>
                                </a:lnTo>
                                <a:lnTo>
                                  <a:pt x="11" y="8"/>
                                </a:lnTo>
                                <a:lnTo>
                                  <a:pt x="17" y="0"/>
                                </a:lnTo>
                                <a:lnTo>
                                  <a:pt x="17" y="12"/>
                                </a:lnTo>
                                <a:lnTo>
                                  <a:pt x="22" y="19"/>
                                </a:lnTo>
                                <a:lnTo>
                                  <a:pt x="31" y="21"/>
                                </a:lnTo>
                                <a:lnTo>
                                  <a:pt x="17" y="21"/>
                                </a:lnTo>
                                <a:lnTo>
                                  <a:pt x="0" y="2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df9f7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400" bIns="-414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50" name=""/>
                          <p:cNvSpPr/>
                          <p:nvPr/>
                        </p:nvSpPr>
                        <p:spPr>
                          <a:xfrm>
                            <a:off x="4556520" y="3137760"/>
                            <a:ext cx="10440" cy="2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" h="13">
                                <a:moveTo>
                                  <a:pt x="0" y="13"/>
                                </a:moveTo>
                                <a:lnTo>
                                  <a:pt x="22" y="10"/>
                                </a:lnTo>
                                <a:lnTo>
                                  <a:pt x="29" y="6"/>
                                </a:lnTo>
                                <a:lnTo>
                                  <a:pt x="36" y="0"/>
                                </a:lnTo>
                                <a:lnTo>
                                  <a:pt x="33" y="10"/>
                                </a:lnTo>
                                <a:lnTo>
                                  <a:pt x="24" y="13"/>
                                </a:lnTo>
                                <a:lnTo>
                                  <a:pt x="0" y="1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df9f7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920" bIns="-439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51" name=""/>
                          <p:cNvSpPr/>
                          <p:nvPr/>
                        </p:nvSpPr>
                        <p:spPr>
                          <a:xfrm>
                            <a:off x="4568760" y="3137760"/>
                            <a:ext cx="17280" cy="10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2" h="44">
                                <a:moveTo>
                                  <a:pt x="0" y="2"/>
                                </a:moveTo>
                                <a:lnTo>
                                  <a:pt x="13" y="7"/>
                                </a:lnTo>
                                <a:lnTo>
                                  <a:pt x="24" y="11"/>
                                </a:lnTo>
                                <a:lnTo>
                                  <a:pt x="37" y="18"/>
                                </a:lnTo>
                                <a:lnTo>
                                  <a:pt x="47" y="29"/>
                                </a:lnTo>
                                <a:lnTo>
                                  <a:pt x="62" y="44"/>
                                </a:lnTo>
                                <a:lnTo>
                                  <a:pt x="55" y="28"/>
                                </a:lnTo>
                                <a:lnTo>
                                  <a:pt x="46" y="18"/>
                                </a:lnTo>
                                <a:lnTo>
                                  <a:pt x="38" y="10"/>
                                </a:lnTo>
                                <a:lnTo>
                                  <a:pt x="28" y="5"/>
                                </a:lnTo>
                                <a:lnTo>
                                  <a:pt x="16" y="0"/>
                                </a:lnTo>
                                <a:lnTo>
                                  <a:pt x="0" y="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df9f7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000" bIns="-36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52" name=""/>
                          <p:cNvSpPr/>
                          <p:nvPr/>
                        </p:nvSpPr>
                        <p:spPr>
                          <a:xfrm>
                            <a:off x="4561560" y="3143160"/>
                            <a:ext cx="2520" cy="6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" h="25">
                                <a:moveTo>
                                  <a:pt x="0" y="0"/>
                                </a:moveTo>
                                <a:lnTo>
                                  <a:pt x="11" y="14"/>
                                </a:lnTo>
                                <a:lnTo>
                                  <a:pt x="9" y="25"/>
                                </a:lnTo>
                                <a:lnTo>
                                  <a:pt x="2" y="13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df9f7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320" bIns="-403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53" name=""/>
                          <p:cNvSpPr/>
                          <p:nvPr/>
                        </p:nvSpPr>
                        <p:spPr>
                          <a:xfrm>
                            <a:off x="4546800" y="3146400"/>
                            <a:ext cx="32040" cy="11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2" h="44">
                                <a:moveTo>
                                  <a:pt x="0" y="44"/>
                                </a:moveTo>
                                <a:lnTo>
                                  <a:pt x="16" y="39"/>
                                </a:lnTo>
                                <a:lnTo>
                                  <a:pt x="28" y="34"/>
                                </a:lnTo>
                                <a:lnTo>
                                  <a:pt x="41" y="25"/>
                                </a:lnTo>
                                <a:lnTo>
                                  <a:pt x="53" y="18"/>
                                </a:lnTo>
                                <a:lnTo>
                                  <a:pt x="67" y="18"/>
                                </a:lnTo>
                                <a:lnTo>
                                  <a:pt x="70" y="8"/>
                                </a:lnTo>
                                <a:lnTo>
                                  <a:pt x="80" y="5"/>
                                </a:lnTo>
                                <a:lnTo>
                                  <a:pt x="93" y="4"/>
                                </a:lnTo>
                                <a:lnTo>
                                  <a:pt x="104" y="4"/>
                                </a:lnTo>
                                <a:lnTo>
                                  <a:pt x="112" y="0"/>
                                </a:lnTo>
                                <a:lnTo>
                                  <a:pt x="95" y="11"/>
                                </a:lnTo>
                                <a:lnTo>
                                  <a:pt x="85" y="14"/>
                                </a:lnTo>
                                <a:lnTo>
                                  <a:pt x="74" y="21"/>
                                </a:lnTo>
                                <a:lnTo>
                                  <a:pt x="67" y="28"/>
                                </a:lnTo>
                                <a:lnTo>
                                  <a:pt x="56" y="30"/>
                                </a:lnTo>
                                <a:lnTo>
                                  <a:pt x="45" y="34"/>
                                </a:lnTo>
                                <a:lnTo>
                                  <a:pt x="31" y="40"/>
                                </a:lnTo>
                                <a:lnTo>
                                  <a:pt x="20" y="44"/>
                                </a:lnTo>
                                <a:lnTo>
                                  <a:pt x="0" y="44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df9f7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4920" bIns="-349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54" name=""/>
                          <p:cNvSpPr/>
                          <p:nvPr/>
                        </p:nvSpPr>
                        <p:spPr>
                          <a:xfrm>
                            <a:off x="4550400" y="3153600"/>
                            <a:ext cx="27000" cy="7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5" h="30">
                                <a:moveTo>
                                  <a:pt x="0" y="24"/>
                                </a:moveTo>
                                <a:lnTo>
                                  <a:pt x="23" y="26"/>
                                </a:lnTo>
                                <a:lnTo>
                                  <a:pt x="45" y="23"/>
                                </a:lnTo>
                                <a:lnTo>
                                  <a:pt x="53" y="18"/>
                                </a:lnTo>
                                <a:lnTo>
                                  <a:pt x="63" y="12"/>
                                </a:lnTo>
                                <a:lnTo>
                                  <a:pt x="72" y="6"/>
                                </a:lnTo>
                                <a:lnTo>
                                  <a:pt x="81" y="5"/>
                                </a:lnTo>
                                <a:lnTo>
                                  <a:pt x="95" y="0"/>
                                </a:lnTo>
                                <a:lnTo>
                                  <a:pt x="84" y="9"/>
                                </a:lnTo>
                                <a:lnTo>
                                  <a:pt x="72" y="10"/>
                                </a:lnTo>
                                <a:lnTo>
                                  <a:pt x="63" y="17"/>
                                </a:lnTo>
                                <a:lnTo>
                                  <a:pt x="52" y="25"/>
                                </a:lnTo>
                                <a:lnTo>
                                  <a:pt x="44" y="30"/>
                                </a:lnTo>
                                <a:lnTo>
                                  <a:pt x="30" y="30"/>
                                </a:lnTo>
                                <a:lnTo>
                                  <a:pt x="16" y="27"/>
                                </a:lnTo>
                                <a:lnTo>
                                  <a:pt x="0" y="24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df9f7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555" name=""/>
                        <p:cNvSpPr/>
                        <p:nvPr/>
                      </p:nvSpPr>
                      <p:spPr>
                        <a:xfrm>
                          <a:off x="4511160" y="3120480"/>
                          <a:ext cx="21600" cy="14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5" h="55">
                              <a:moveTo>
                                <a:pt x="74" y="0"/>
                              </a:moveTo>
                              <a:lnTo>
                                <a:pt x="75" y="22"/>
                              </a:lnTo>
                              <a:lnTo>
                                <a:pt x="72" y="35"/>
                              </a:lnTo>
                              <a:lnTo>
                                <a:pt x="64" y="47"/>
                              </a:lnTo>
                              <a:lnTo>
                                <a:pt x="51" y="52"/>
                              </a:lnTo>
                              <a:lnTo>
                                <a:pt x="33" y="55"/>
                              </a:lnTo>
                              <a:lnTo>
                                <a:pt x="20" y="54"/>
                              </a:lnTo>
                              <a:lnTo>
                                <a:pt x="11" y="49"/>
                              </a:lnTo>
                              <a:lnTo>
                                <a:pt x="5" y="44"/>
                              </a:lnTo>
                              <a:lnTo>
                                <a:pt x="0" y="38"/>
                              </a:lnTo>
                              <a:lnTo>
                                <a:pt x="3" y="34"/>
                              </a:lnTo>
                              <a:lnTo>
                                <a:pt x="13" y="44"/>
                              </a:lnTo>
                              <a:lnTo>
                                <a:pt x="22" y="50"/>
                              </a:lnTo>
                              <a:lnTo>
                                <a:pt x="35" y="52"/>
                              </a:lnTo>
                              <a:lnTo>
                                <a:pt x="50" y="50"/>
                              </a:lnTo>
                              <a:lnTo>
                                <a:pt x="58" y="42"/>
                              </a:lnTo>
                              <a:lnTo>
                                <a:pt x="64" y="31"/>
                              </a:lnTo>
                              <a:lnTo>
                                <a:pt x="69" y="23"/>
                              </a:lnTo>
                              <a:lnTo>
                                <a:pt x="72" y="14"/>
                              </a:lnTo>
                              <a:lnTo>
                                <a:pt x="61" y="21"/>
                              </a:lnTo>
                              <a:lnTo>
                                <a:pt x="51" y="24"/>
                              </a:lnTo>
                              <a:lnTo>
                                <a:pt x="38" y="24"/>
                              </a:lnTo>
                              <a:lnTo>
                                <a:pt x="24" y="24"/>
                              </a:lnTo>
                              <a:lnTo>
                                <a:pt x="61" y="12"/>
                              </a:lnTo>
                              <a:lnTo>
                                <a:pt x="74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040" bIns="-32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56" name=""/>
                      <p:cNvGrpSpPr/>
                      <p:nvPr/>
                    </p:nvGrpSpPr>
                    <p:grpSpPr>
                      <a:xfrm>
                        <a:off x="4557240" y="3102840"/>
                        <a:ext cx="20520" cy="7920"/>
                        <a:chOff x="4557240" y="3102840"/>
                        <a:chExt cx="20520" cy="7920"/>
                      </a:xfrm>
                    </p:grpSpPr>
                    <p:sp>
                      <p:nvSpPr>
                        <p:cNvPr id="1557" name=""/>
                        <p:cNvSpPr/>
                        <p:nvPr/>
                      </p:nvSpPr>
                      <p:spPr>
                        <a:xfrm>
                          <a:off x="4557240" y="3102840"/>
                          <a:ext cx="20520" cy="7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0" h="28">
                              <a:moveTo>
                                <a:pt x="0" y="26"/>
                              </a:moveTo>
                              <a:lnTo>
                                <a:pt x="7" y="16"/>
                              </a:lnTo>
                              <a:lnTo>
                                <a:pt x="14" y="10"/>
                              </a:lnTo>
                              <a:lnTo>
                                <a:pt x="22" y="4"/>
                              </a:lnTo>
                              <a:lnTo>
                                <a:pt x="33" y="1"/>
                              </a:lnTo>
                              <a:lnTo>
                                <a:pt x="44" y="0"/>
                              </a:lnTo>
                              <a:lnTo>
                                <a:pt x="55" y="1"/>
                              </a:lnTo>
                              <a:lnTo>
                                <a:pt x="70" y="6"/>
                              </a:lnTo>
                              <a:lnTo>
                                <a:pt x="53" y="9"/>
                              </a:lnTo>
                              <a:lnTo>
                                <a:pt x="46" y="16"/>
                              </a:lnTo>
                              <a:lnTo>
                                <a:pt x="38" y="23"/>
                              </a:lnTo>
                              <a:lnTo>
                                <a:pt x="31" y="27"/>
                              </a:lnTo>
                              <a:lnTo>
                                <a:pt x="22" y="28"/>
                              </a:lnTo>
                              <a:lnTo>
                                <a:pt x="0" y="2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8" name=""/>
                        <p:cNvSpPr/>
                        <p:nvPr/>
                      </p:nvSpPr>
                      <p:spPr>
                        <a:xfrm>
                          <a:off x="4557240" y="3102840"/>
                          <a:ext cx="19800" cy="7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0" h="29">
                              <a:moveTo>
                                <a:pt x="0" y="25"/>
                              </a:moveTo>
                              <a:lnTo>
                                <a:pt x="6" y="16"/>
                              </a:lnTo>
                              <a:lnTo>
                                <a:pt x="14" y="10"/>
                              </a:lnTo>
                              <a:lnTo>
                                <a:pt x="22" y="4"/>
                              </a:lnTo>
                              <a:lnTo>
                                <a:pt x="33" y="1"/>
                              </a:lnTo>
                              <a:lnTo>
                                <a:pt x="44" y="0"/>
                              </a:lnTo>
                              <a:lnTo>
                                <a:pt x="55" y="1"/>
                              </a:lnTo>
                              <a:lnTo>
                                <a:pt x="70" y="5"/>
                              </a:lnTo>
                              <a:lnTo>
                                <a:pt x="49" y="4"/>
                              </a:lnTo>
                              <a:lnTo>
                                <a:pt x="49" y="11"/>
                              </a:lnTo>
                              <a:lnTo>
                                <a:pt x="47" y="20"/>
                              </a:lnTo>
                              <a:lnTo>
                                <a:pt x="36" y="27"/>
                              </a:lnTo>
                              <a:lnTo>
                                <a:pt x="27" y="29"/>
                              </a:lnTo>
                              <a:lnTo>
                                <a:pt x="21" y="24"/>
                              </a:lnTo>
                              <a:lnTo>
                                <a:pt x="17" y="18"/>
                              </a:lnTo>
                              <a:lnTo>
                                <a:pt x="15" y="13"/>
                              </a:lnTo>
                              <a:lnTo>
                                <a:pt x="0" y="2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3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59" name=""/>
                      <p:cNvGrpSpPr/>
                      <p:nvPr/>
                    </p:nvGrpSpPr>
                    <p:grpSpPr>
                      <a:xfrm>
                        <a:off x="4508640" y="3118680"/>
                        <a:ext cx="24120" cy="9360"/>
                        <a:chOff x="4508640" y="3118680"/>
                        <a:chExt cx="24120" cy="9360"/>
                      </a:xfrm>
                    </p:grpSpPr>
                    <p:sp>
                      <p:nvSpPr>
                        <p:cNvPr id="1560" name=""/>
                        <p:cNvSpPr/>
                        <p:nvPr/>
                      </p:nvSpPr>
                      <p:spPr>
                        <a:xfrm>
                          <a:off x="4509360" y="3118680"/>
                          <a:ext cx="23400" cy="9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0" h="36">
                              <a:moveTo>
                                <a:pt x="0" y="35"/>
                              </a:moveTo>
                              <a:lnTo>
                                <a:pt x="24" y="25"/>
                              </a:lnTo>
                              <a:lnTo>
                                <a:pt x="39" y="18"/>
                              </a:lnTo>
                              <a:lnTo>
                                <a:pt x="56" y="9"/>
                              </a:lnTo>
                              <a:lnTo>
                                <a:pt x="68" y="2"/>
                              </a:lnTo>
                              <a:lnTo>
                                <a:pt x="74" y="0"/>
                              </a:lnTo>
                              <a:lnTo>
                                <a:pt x="80" y="5"/>
                              </a:lnTo>
                              <a:lnTo>
                                <a:pt x="80" y="15"/>
                              </a:lnTo>
                              <a:lnTo>
                                <a:pt x="74" y="24"/>
                              </a:lnTo>
                              <a:lnTo>
                                <a:pt x="73" y="25"/>
                              </a:lnTo>
                              <a:lnTo>
                                <a:pt x="63" y="30"/>
                              </a:lnTo>
                              <a:lnTo>
                                <a:pt x="62" y="31"/>
                              </a:lnTo>
                              <a:lnTo>
                                <a:pt x="42" y="35"/>
                              </a:lnTo>
                              <a:lnTo>
                                <a:pt x="16" y="36"/>
                              </a:lnTo>
                              <a:lnTo>
                                <a:pt x="0" y="3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1" name=""/>
                        <p:cNvSpPr/>
                        <p:nvPr/>
                      </p:nvSpPr>
                      <p:spPr>
                        <a:xfrm>
                          <a:off x="4508640" y="3118680"/>
                          <a:ext cx="23400" cy="8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1" h="35">
                              <a:moveTo>
                                <a:pt x="0" y="35"/>
                              </a:moveTo>
                              <a:lnTo>
                                <a:pt x="25" y="25"/>
                              </a:lnTo>
                              <a:lnTo>
                                <a:pt x="39" y="18"/>
                              </a:lnTo>
                              <a:lnTo>
                                <a:pt x="56" y="9"/>
                              </a:lnTo>
                              <a:lnTo>
                                <a:pt x="69" y="2"/>
                              </a:lnTo>
                              <a:lnTo>
                                <a:pt x="75" y="0"/>
                              </a:lnTo>
                              <a:lnTo>
                                <a:pt x="81" y="3"/>
                              </a:lnTo>
                              <a:lnTo>
                                <a:pt x="71" y="5"/>
                              </a:lnTo>
                              <a:lnTo>
                                <a:pt x="76" y="10"/>
                              </a:lnTo>
                              <a:lnTo>
                                <a:pt x="77" y="17"/>
                              </a:lnTo>
                              <a:lnTo>
                                <a:pt x="72" y="29"/>
                              </a:lnTo>
                              <a:lnTo>
                                <a:pt x="63" y="32"/>
                              </a:lnTo>
                              <a:lnTo>
                                <a:pt x="50" y="35"/>
                              </a:lnTo>
                              <a:lnTo>
                                <a:pt x="41" y="30"/>
                              </a:lnTo>
                              <a:lnTo>
                                <a:pt x="35" y="24"/>
                              </a:lnTo>
                              <a:lnTo>
                                <a:pt x="19" y="30"/>
                              </a:lnTo>
                              <a:lnTo>
                                <a:pt x="0" y="3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3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160" bIns="-38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562" name=""/>
                    <p:cNvGrpSpPr/>
                    <p:nvPr/>
                  </p:nvGrpSpPr>
                  <p:grpSpPr>
                    <a:xfrm>
                      <a:off x="4462560" y="3045240"/>
                      <a:ext cx="119160" cy="91800"/>
                      <a:chOff x="4462560" y="3045240"/>
                      <a:chExt cx="119160" cy="91800"/>
                    </a:xfrm>
                  </p:grpSpPr>
                  <p:grpSp>
                    <p:nvGrpSpPr>
                      <p:cNvPr id="1563" name=""/>
                      <p:cNvGrpSpPr/>
                      <p:nvPr/>
                    </p:nvGrpSpPr>
                    <p:grpSpPr>
                      <a:xfrm>
                        <a:off x="4502520" y="3088800"/>
                        <a:ext cx="68400" cy="35640"/>
                        <a:chOff x="4502520" y="3088800"/>
                        <a:chExt cx="68400" cy="35640"/>
                      </a:xfrm>
                    </p:grpSpPr>
                    <p:sp>
                      <p:nvSpPr>
                        <p:cNvPr id="1564" name=""/>
                        <p:cNvSpPr/>
                        <p:nvPr/>
                      </p:nvSpPr>
                      <p:spPr>
                        <a:xfrm>
                          <a:off x="4502520" y="3111120"/>
                          <a:ext cx="32760" cy="1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4" h="51">
                              <a:moveTo>
                                <a:pt x="114" y="6"/>
                              </a:moveTo>
                              <a:lnTo>
                                <a:pt x="105" y="4"/>
                              </a:lnTo>
                              <a:lnTo>
                                <a:pt x="99" y="0"/>
                              </a:lnTo>
                              <a:lnTo>
                                <a:pt x="86" y="4"/>
                              </a:lnTo>
                              <a:lnTo>
                                <a:pt x="70" y="4"/>
                              </a:lnTo>
                              <a:lnTo>
                                <a:pt x="50" y="5"/>
                              </a:lnTo>
                              <a:lnTo>
                                <a:pt x="33" y="5"/>
                              </a:lnTo>
                              <a:lnTo>
                                <a:pt x="27" y="0"/>
                              </a:lnTo>
                              <a:lnTo>
                                <a:pt x="19" y="0"/>
                              </a:lnTo>
                              <a:lnTo>
                                <a:pt x="15" y="6"/>
                              </a:lnTo>
                              <a:lnTo>
                                <a:pt x="14" y="13"/>
                              </a:lnTo>
                              <a:lnTo>
                                <a:pt x="10" y="23"/>
                              </a:lnTo>
                              <a:lnTo>
                                <a:pt x="6" y="32"/>
                              </a:lnTo>
                              <a:lnTo>
                                <a:pt x="0" y="39"/>
                              </a:lnTo>
                              <a:lnTo>
                                <a:pt x="6" y="46"/>
                              </a:lnTo>
                              <a:lnTo>
                                <a:pt x="8" y="51"/>
                              </a:lnTo>
                              <a:lnTo>
                                <a:pt x="14" y="43"/>
                              </a:lnTo>
                              <a:lnTo>
                                <a:pt x="25" y="32"/>
                              </a:lnTo>
                              <a:lnTo>
                                <a:pt x="31" y="26"/>
                              </a:lnTo>
                              <a:lnTo>
                                <a:pt x="41" y="21"/>
                              </a:lnTo>
                              <a:lnTo>
                                <a:pt x="50" y="19"/>
                              </a:lnTo>
                              <a:lnTo>
                                <a:pt x="62" y="18"/>
                              </a:lnTo>
                              <a:lnTo>
                                <a:pt x="77" y="17"/>
                              </a:lnTo>
                              <a:lnTo>
                                <a:pt x="88" y="16"/>
                              </a:lnTo>
                              <a:lnTo>
                                <a:pt x="98" y="16"/>
                              </a:lnTo>
                              <a:lnTo>
                                <a:pt x="103" y="11"/>
                              </a:lnTo>
                              <a:lnTo>
                                <a:pt x="114" y="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480" bIns="-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5" name=""/>
                        <p:cNvSpPr/>
                        <p:nvPr/>
                      </p:nvSpPr>
                      <p:spPr>
                        <a:xfrm>
                          <a:off x="4549320" y="3088800"/>
                          <a:ext cx="2160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7" h="84">
                              <a:moveTo>
                                <a:pt x="0" y="84"/>
                              </a:moveTo>
                              <a:lnTo>
                                <a:pt x="19" y="58"/>
                              </a:lnTo>
                              <a:lnTo>
                                <a:pt x="36" y="49"/>
                              </a:lnTo>
                              <a:lnTo>
                                <a:pt x="49" y="43"/>
                              </a:lnTo>
                              <a:lnTo>
                                <a:pt x="59" y="33"/>
                              </a:lnTo>
                              <a:lnTo>
                                <a:pt x="67" y="24"/>
                              </a:lnTo>
                              <a:lnTo>
                                <a:pt x="75" y="17"/>
                              </a:lnTo>
                              <a:lnTo>
                                <a:pt x="73" y="17"/>
                              </a:lnTo>
                              <a:lnTo>
                                <a:pt x="77" y="8"/>
                              </a:lnTo>
                              <a:lnTo>
                                <a:pt x="75" y="3"/>
                              </a:lnTo>
                              <a:lnTo>
                                <a:pt x="70" y="0"/>
                              </a:lnTo>
                              <a:lnTo>
                                <a:pt x="68" y="0"/>
                              </a:lnTo>
                              <a:lnTo>
                                <a:pt x="59" y="2"/>
                              </a:lnTo>
                              <a:lnTo>
                                <a:pt x="55" y="10"/>
                              </a:lnTo>
                              <a:lnTo>
                                <a:pt x="50" y="17"/>
                              </a:lnTo>
                              <a:lnTo>
                                <a:pt x="42" y="23"/>
                              </a:lnTo>
                              <a:lnTo>
                                <a:pt x="29" y="33"/>
                              </a:lnTo>
                              <a:lnTo>
                                <a:pt x="22" y="47"/>
                              </a:lnTo>
                              <a:lnTo>
                                <a:pt x="14" y="61"/>
                              </a:lnTo>
                              <a:lnTo>
                                <a:pt x="8" y="70"/>
                              </a:lnTo>
                              <a:lnTo>
                                <a:pt x="0" y="8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66" name=""/>
                      <p:cNvGrpSpPr/>
                      <p:nvPr/>
                    </p:nvGrpSpPr>
                    <p:grpSpPr>
                      <a:xfrm>
                        <a:off x="4462560" y="3045240"/>
                        <a:ext cx="119160" cy="91800"/>
                        <a:chOff x="4462560" y="3045240"/>
                        <a:chExt cx="119160" cy="91800"/>
                      </a:xfrm>
                    </p:grpSpPr>
                    <p:grpSp>
                      <p:nvGrpSpPr>
                        <p:cNvPr id="1567" name=""/>
                        <p:cNvGrpSpPr/>
                        <p:nvPr/>
                      </p:nvGrpSpPr>
                      <p:grpSpPr>
                        <a:xfrm>
                          <a:off x="4462560" y="3045240"/>
                          <a:ext cx="119160" cy="91800"/>
                          <a:chOff x="4462560" y="3045240"/>
                          <a:chExt cx="119160" cy="91800"/>
                        </a:xfrm>
                      </p:grpSpPr>
                      <p:sp>
                        <p:nvSpPr>
                          <p:cNvPr id="1568" name=""/>
                          <p:cNvSpPr/>
                          <p:nvPr/>
                        </p:nvSpPr>
                        <p:spPr>
                          <a:xfrm>
                            <a:off x="4462560" y="3045240"/>
                            <a:ext cx="119160" cy="91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13" h="349">
                                <a:moveTo>
                                  <a:pt x="23" y="295"/>
                                </a:moveTo>
                                <a:lnTo>
                                  <a:pt x="41" y="312"/>
                                </a:lnTo>
                                <a:lnTo>
                                  <a:pt x="56" y="330"/>
                                </a:lnTo>
                                <a:lnTo>
                                  <a:pt x="76" y="341"/>
                                </a:lnTo>
                                <a:lnTo>
                                  <a:pt x="85" y="349"/>
                                </a:lnTo>
                                <a:lnTo>
                                  <a:pt x="88" y="316"/>
                                </a:lnTo>
                                <a:lnTo>
                                  <a:pt x="96" y="285"/>
                                </a:lnTo>
                                <a:lnTo>
                                  <a:pt x="102" y="260"/>
                                </a:lnTo>
                                <a:lnTo>
                                  <a:pt x="105" y="238"/>
                                </a:lnTo>
                                <a:lnTo>
                                  <a:pt x="103" y="211"/>
                                </a:lnTo>
                                <a:lnTo>
                                  <a:pt x="95" y="194"/>
                                </a:lnTo>
                                <a:lnTo>
                                  <a:pt x="85" y="186"/>
                                </a:lnTo>
                                <a:lnTo>
                                  <a:pt x="110" y="189"/>
                                </a:lnTo>
                                <a:lnTo>
                                  <a:pt x="142" y="182"/>
                                </a:lnTo>
                                <a:lnTo>
                                  <a:pt x="161" y="173"/>
                                </a:lnTo>
                                <a:lnTo>
                                  <a:pt x="183" y="164"/>
                                </a:lnTo>
                                <a:lnTo>
                                  <a:pt x="208" y="155"/>
                                </a:lnTo>
                                <a:lnTo>
                                  <a:pt x="230" y="147"/>
                                </a:lnTo>
                                <a:lnTo>
                                  <a:pt x="245" y="136"/>
                                </a:lnTo>
                                <a:lnTo>
                                  <a:pt x="269" y="116"/>
                                </a:lnTo>
                                <a:lnTo>
                                  <a:pt x="269" y="115"/>
                                </a:lnTo>
                                <a:lnTo>
                                  <a:pt x="280" y="94"/>
                                </a:lnTo>
                                <a:lnTo>
                                  <a:pt x="289" y="76"/>
                                </a:lnTo>
                                <a:lnTo>
                                  <a:pt x="309" y="81"/>
                                </a:lnTo>
                                <a:lnTo>
                                  <a:pt x="333" y="94"/>
                                </a:lnTo>
                                <a:lnTo>
                                  <a:pt x="356" y="109"/>
                                </a:lnTo>
                                <a:lnTo>
                                  <a:pt x="373" y="127"/>
                                </a:lnTo>
                                <a:lnTo>
                                  <a:pt x="385" y="148"/>
                                </a:lnTo>
                                <a:lnTo>
                                  <a:pt x="395" y="168"/>
                                </a:lnTo>
                                <a:lnTo>
                                  <a:pt x="400" y="189"/>
                                </a:lnTo>
                                <a:lnTo>
                                  <a:pt x="413" y="207"/>
                                </a:lnTo>
                                <a:lnTo>
                                  <a:pt x="410" y="171"/>
                                </a:lnTo>
                                <a:lnTo>
                                  <a:pt x="403" y="150"/>
                                </a:lnTo>
                                <a:lnTo>
                                  <a:pt x="393" y="127"/>
                                </a:lnTo>
                                <a:lnTo>
                                  <a:pt x="388" y="101"/>
                                </a:lnTo>
                                <a:lnTo>
                                  <a:pt x="367" y="76"/>
                                </a:lnTo>
                                <a:lnTo>
                                  <a:pt x="338" y="45"/>
                                </a:lnTo>
                                <a:lnTo>
                                  <a:pt x="320" y="27"/>
                                </a:lnTo>
                                <a:lnTo>
                                  <a:pt x="305" y="14"/>
                                </a:lnTo>
                                <a:lnTo>
                                  <a:pt x="289" y="7"/>
                                </a:lnTo>
                                <a:lnTo>
                                  <a:pt x="275" y="2"/>
                                </a:lnTo>
                                <a:lnTo>
                                  <a:pt x="253" y="2"/>
                                </a:lnTo>
                                <a:lnTo>
                                  <a:pt x="244" y="2"/>
                                </a:lnTo>
                                <a:lnTo>
                                  <a:pt x="216" y="0"/>
                                </a:lnTo>
                                <a:lnTo>
                                  <a:pt x="179" y="0"/>
                                </a:lnTo>
                                <a:lnTo>
                                  <a:pt x="143" y="9"/>
                                </a:lnTo>
                                <a:lnTo>
                                  <a:pt x="114" y="20"/>
                                </a:lnTo>
                                <a:lnTo>
                                  <a:pt x="87" y="28"/>
                                </a:lnTo>
                                <a:lnTo>
                                  <a:pt x="67" y="38"/>
                                </a:lnTo>
                                <a:lnTo>
                                  <a:pt x="52" y="48"/>
                                </a:lnTo>
                                <a:lnTo>
                                  <a:pt x="40" y="59"/>
                                </a:lnTo>
                                <a:lnTo>
                                  <a:pt x="26" y="73"/>
                                </a:lnTo>
                                <a:lnTo>
                                  <a:pt x="14" y="90"/>
                                </a:lnTo>
                                <a:lnTo>
                                  <a:pt x="4" y="105"/>
                                </a:lnTo>
                                <a:lnTo>
                                  <a:pt x="0" y="123"/>
                                </a:lnTo>
                                <a:lnTo>
                                  <a:pt x="0" y="150"/>
                                </a:lnTo>
                                <a:lnTo>
                                  <a:pt x="0" y="175"/>
                                </a:lnTo>
                                <a:lnTo>
                                  <a:pt x="3" y="200"/>
                                </a:lnTo>
                                <a:lnTo>
                                  <a:pt x="3" y="229"/>
                                </a:lnTo>
                                <a:lnTo>
                                  <a:pt x="4" y="252"/>
                                </a:lnTo>
                                <a:lnTo>
                                  <a:pt x="11" y="268"/>
                                </a:lnTo>
                                <a:lnTo>
                                  <a:pt x="23" y="29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69" name=""/>
                          <p:cNvSpPr/>
                          <p:nvPr/>
                        </p:nvSpPr>
                        <p:spPr>
                          <a:xfrm>
                            <a:off x="4467600" y="3046680"/>
                            <a:ext cx="73080" cy="82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53" h="310">
                                <a:moveTo>
                                  <a:pt x="157" y="10"/>
                                </a:moveTo>
                                <a:lnTo>
                                  <a:pt x="171" y="3"/>
                                </a:lnTo>
                                <a:lnTo>
                                  <a:pt x="186" y="0"/>
                                </a:lnTo>
                                <a:lnTo>
                                  <a:pt x="199" y="0"/>
                                </a:lnTo>
                                <a:lnTo>
                                  <a:pt x="219" y="4"/>
                                </a:lnTo>
                                <a:lnTo>
                                  <a:pt x="229" y="7"/>
                                </a:lnTo>
                                <a:lnTo>
                                  <a:pt x="237" y="18"/>
                                </a:lnTo>
                                <a:lnTo>
                                  <a:pt x="246" y="33"/>
                                </a:lnTo>
                                <a:lnTo>
                                  <a:pt x="253" y="44"/>
                                </a:lnTo>
                                <a:lnTo>
                                  <a:pt x="253" y="55"/>
                                </a:lnTo>
                                <a:lnTo>
                                  <a:pt x="252" y="68"/>
                                </a:lnTo>
                                <a:lnTo>
                                  <a:pt x="241" y="85"/>
                                </a:lnTo>
                                <a:lnTo>
                                  <a:pt x="231" y="99"/>
                                </a:lnTo>
                                <a:lnTo>
                                  <a:pt x="219" y="111"/>
                                </a:lnTo>
                                <a:lnTo>
                                  <a:pt x="204" y="121"/>
                                </a:lnTo>
                                <a:lnTo>
                                  <a:pt x="193" y="129"/>
                                </a:lnTo>
                                <a:lnTo>
                                  <a:pt x="175" y="134"/>
                                </a:lnTo>
                                <a:lnTo>
                                  <a:pt x="157" y="141"/>
                                </a:lnTo>
                                <a:lnTo>
                                  <a:pt x="141" y="147"/>
                                </a:lnTo>
                                <a:lnTo>
                                  <a:pt x="128" y="152"/>
                                </a:lnTo>
                                <a:lnTo>
                                  <a:pt x="117" y="152"/>
                                </a:lnTo>
                                <a:lnTo>
                                  <a:pt x="109" y="155"/>
                                </a:lnTo>
                                <a:lnTo>
                                  <a:pt x="106" y="159"/>
                                </a:lnTo>
                                <a:lnTo>
                                  <a:pt x="123" y="159"/>
                                </a:lnTo>
                                <a:lnTo>
                                  <a:pt x="112" y="165"/>
                                </a:lnTo>
                                <a:lnTo>
                                  <a:pt x="97" y="169"/>
                                </a:lnTo>
                                <a:lnTo>
                                  <a:pt x="77" y="169"/>
                                </a:lnTo>
                                <a:lnTo>
                                  <a:pt x="62" y="169"/>
                                </a:lnTo>
                                <a:lnTo>
                                  <a:pt x="57" y="173"/>
                                </a:lnTo>
                                <a:lnTo>
                                  <a:pt x="66" y="193"/>
                                </a:lnTo>
                                <a:lnTo>
                                  <a:pt x="70" y="214"/>
                                </a:lnTo>
                                <a:lnTo>
                                  <a:pt x="70" y="233"/>
                                </a:lnTo>
                                <a:lnTo>
                                  <a:pt x="70" y="253"/>
                                </a:lnTo>
                                <a:lnTo>
                                  <a:pt x="74" y="267"/>
                                </a:lnTo>
                                <a:lnTo>
                                  <a:pt x="69" y="286"/>
                                </a:lnTo>
                                <a:lnTo>
                                  <a:pt x="62" y="308"/>
                                </a:lnTo>
                                <a:lnTo>
                                  <a:pt x="55" y="310"/>
                                </a:lnTo>
                                <a:lnTo>
                                  <a:pt x="49" y="302"/>
                                </a:lnTo>
                                <a:lnTo>
                                  <a:pt x="28" y="281"/>
                                </a:lnTo>
                                <a:lnTo>
                                  <a:pt x="7" y="269"/>
                                </a:lnTo>
                                <a:lnTo>
                                  <a:pt x="30" y="269"/>
                                </a:lnTo>
                                <a:lnTo>
                                  <a:pt x="21" y="246"/>
                                </a:lnTo>
                                <a:lnTo>
                                  <a:pt x="8" y="235"/>
                                </a:lnTo>
                                <a:lnTo>
                                  <a:pt x="18" y="217"/>
                                </a:lnTo>
                                <a:lnTo>
                                  <a:pt x="12" y="212"/>
                                </a:lnTo>
                                <a:lnTo>
                                  <a:pt x="22" y="214"/>
                                </a:lnTo>
                                <a:lnTo>
                                  <a:pt x="11" y="193"/>
                                </a:lnTo>
                                <a:lnTo>
                                  <a:pt x="24" y="194"/>
                                </a:lnTo>
                                <a:lnTo>
                                  <a:pt x="2" y="167"/>
                                </a:lnTo>
                                <a:lnTo>
                                  <a:pt x="0" y="143"/>
                                </a:lnTo>
                                <a:lnTo>
                                  <a:pt x="11" y="152"/>
                                </a:lnTo>
                                <a:lnTo>
                                  <a:pt x="3" y="135"/>
                                </a:lnTo>
                                <a:lnTo>
                                  <a:pt x="29" y="138"/>
                                </a:lnTo>
                                <a:lnTo>
                                  <a:pt x="39" y="133"/>
                                </a:lnTo>
                                <a:lnTo>
                                  <a:pt x="28" y="120"/>
                                </a:lnTo>
                                <a:lnTo>
                                  <a:pt x="46" y="118"/>
                                </a:lnTo>
                                <a:lnTo>
                                  <a:pt x="29" y="108"/>
                                </a:lnTo>
                                <a:lnTo>
                                  <a:pt x="14" y="98"/>
                                </a:lnTo>
                                <a:lnTo>
                                  <a:pt x="44" y="106"/>
                                </a:lnTo>
                                <a:lnTo>
                                  <a:pt x="63" y="111"/>
                                </a:lnTo>
                                <a:lnTo>
                                  <a:pt x="80" y="112"/>
                                </a:lnTo>
                                <a:lnTo>
                                  <a:pt x="102" y="114"/>
                                </a:lnTo>
                                <a:lnTo>
                                  <a:pt x="123" y="113"/>
                                </a:lnTo>
                                <a:lnTo>
                                  <a:pt x="130" y="109"/>
                                </a:lnTo>
                                <a:lnTo>
                                  <a:pt x="124" y="101"/>
                                </a:lnTo>
                                <a:lnTo>
                                  <a:pt x="148" y="98"/>
                                </a:lnTo>
                                <a:lnTo>
                                  <a:pt x="128" y="94"/>
                                </a:lnTo>
                                <a:lnTo>
                                  <a:pt x="108" y="92"/>
                                </a:lnTo>
                                <a:lnTo>
                                  <a:pt x="86" y="92"/>
                                </a:lnTo>
                                <a:lnTo>
                                  <a:pt x="64" y="92"/>
                                </a:lnTo>
                                <a:lnTo>
                                  <a:pt x="80" y="80"/>
                                </a:lnTo>
                                <a:lnTo>
                                  <a:pt x="61" y="85"/>
                                </a:lnTo>
                                <a:lnTo>
                                  <a:pt x="44" y="82"/>
                                </a:lnTo>
                                <a:lnTo>
                                  <a:pt x="29" y="80"/>
                                </a:lnTo>
                                <a:lnTo>
                                  <a:pt x="21" y="79"/>
                                </a:lnTo>
                                <a:lnTo>
                                  <a:pt x="40" y="74"/>
                                </a:lnTo>
                                <a:lnTo>
                                  <a:pt x="55" y="71"/>
                                </a:lnTo>
                                <a:lnTo>
                                  <a:pt x="66" y="66"/>
                                </a:lnTo>
                                <a:lnTo>
                                  <a:pt x="72" y="64"/>
                                </a:lnTo>
                                <a:lnTo>
                                  <a:pt x="58" y="64"/>
                                </a:lnTo>
                                <a:lnTo>
                                  <a:pt x="83" y="52"/>
                                </a:lnTo>
                                <a:lnTo>
                                  <a:pt x="69" y="48"/>
                                </a:lnTo>
                                <a:lnTo>
                                  <a:pt x="58" y="48"/>
                                </a:lnTo>
                                <a:lnTo>
                                  <a:pt x="80" y="45"/>
                                </a:lnTo>
                                <a:lnTo>
                                  <a:pt x="106" y="47"/>
                                </a:lnTo>
                                <a:lnTo>
                                  <a:pt x="118" y="52"/>
                                </a:lnTo>
                                <a:lnTo>
                                  <a:pt x="133" y="53"/>
                                </a:lnTo>
                                <a:lnTo>
                                  <a:pt x="146" y="53"/>
                                </a:lnTo>
                                <a:lnTo>
                                  <a:pt x="161" y="52"/>
                                </a:lnTo>
                                <a:lnTo>
                                  <a:pt x="170" y="47"/>
                                </a:lnTo>
                                <a:lnTo>
                                  <a:pt x="180" y="43"/>
                                </a:lnTo>
                                <a:lnTo>
                                  <a:pt x="186" y="39"/>
                                </a:lnTo>
                                <a:lnTo>
                                  <a:pt x="171" y="39"/>
                                </a:lnTo>
                                <a:lnTo>
                                  <a:pt x="154" y="37"/>
                                </a:lnTo>
                                <a:lnTo>
                                  <a:pt x="131" y="35"/>
                                </a:lnTo>
                                <a:lnTo>
                                  <a:pt x="163" y="32"/>
                                </a:lnTo>
                                <a:lnTo>
                                  <a:pt x="180" y="28"/>
                                </a:lnTo>
                                <a:lnTo>
                                  <a:pt x="192" y="26"/>
                                </a:lnTo>
                                <a:lnTo>
                                  <a:pt x="201" y="20"/>
                                </a:lnTo>
                                <a:lnTo>
                                  <a:pt x="186" y="21"/>
                                </a:lnTo>
                                <a:lnTo>
                                  <a:pt x="193" y="12"/>
                                </a:lnTo>
                                <a:lnTo>
                                  <a:pt x="201" y="10"/>
                                </a:lnTo>
                                <a:lnTo>
                                  <a:pt x="182" y="10"/>
                                </a:lnTo>
                                <a:lnTo>
                                  <a:pt x="168" y="11"/>
                                </a:lnTo>
                                <a:lnTo>
                                  <a:pt x="157" y="1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3f3f3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5640" bIns="356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570" name=""/>
                        <p:cNvSpPr/>
                        <p:nvPr/>
                      </p:nvSpPr>
                      <p:spPr>
                        <a:xfrm>
                          <a:off x="4541760" y="3046680"/>
                          <a:ext cx="20880" cy="20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0" h="80">
                              <a:moveTo>
                                <a:pt x="0" y="0"/>
                              </a:moveTo>
                              <a:lnTo>
                                <a:pt x="14" y="16"/>
                              </a:lnTo>
                              <a:lnTo>
                                <a:pt x="23" y="22"/>
                              </a:lnTo>
                              <a:lnTo>
                                <a:pt x="33" y="30"/>
                              </a:lnTo>
                              <a:lnTo>
                                <a:pt x="44" y="35"/>
                              </a:lnTo>
                              <a:lnTo>
                                <a:pt x="57" y="41"/>
                              </a:lnTo>
                              <a:lnTo>
                                <a:pt x="40" y="37"/>
                              </a:lnTo>
                              <a:lnTo>
                                <a:pt x="28" y="34"/>
                              </a:lnTo>
                              <a:lnTo>
                                <a:pt x="23" y="36"/>
                              </a:lnTo>
                              <a:lnTo>
                                <a:pt x="31" y="47"/>
                              </a:lnTo>
                              <a:lnTo>
                                <a:pt x="37" y="59"/>
                              </a:lnTo>
                              <a:lnTo>
                                <a:pt x="52" y="67"/>
                              </a:lnTo>
                              <a:lnTo>
                                <a:pt x="70" y="80"/>
                              </a:lnTo>
                              <a:lnTo>
                                <a:pt x="46" y="68"/>
                              </a:lnTo>
                              <a:lnTo>
                                <a:pt x="33" y="61"/>
                              </a:lnTo>
                              <a:lnTo>
                                <a:pt x="19" y="56"/>
                              </a:lnTo>
                              <a:lnTo>
                                <a:pt x="11" y="46"/>
                              </a:lnTo>
                              <a:lnTo>
                                <a:pt x="11" y="32"/>
                              </a:lnTo>
                              <a:lnTo>
                                <a:pt x="3" y="19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f3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280" bIns="-26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1571" name=""/>
                <p:cNvSpPr/>
                <p:nvPr/>
              </p:nvSpPr>
              <p:spPr>
                <a:xfrm>
                  <a:off x="3891600" y="3359520"/>
                  <a:ext cx="1296000" cy="202320"/>
                </a:xfrm>
                <a:custGeom>
                  <a:avLst/>
                  <a:gdLst/>
                  <a:ahLst/>
                  <a:rect l="l" t="t" r="r" b="b"/>
                  <a:pathLst>
                    <a:path w="4462" h="766">
                      <a:moveTo>
                        <a:pt x="565" y="0"/>
                      </a:moveTo>
                      <a:lnTo>
                        <a:pt x="0" y="766"/>
                      </a:lnTo>
                      <a:lnTo>
                        <a:pt x="4462" y="766"/>
                      </a:lnTo>
                      <a:lnTo>
                        <a:pt x="4059" y="0"/>
                      </a:lnTo>
                      <a:lnTo>
                        <a:pt x="565" y="0"/>
                      </a:lnTo>
                      <a:close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72" name=""/>
                <p:cNvGrpSpPr/>
                <p:nvPr/>
              </p:nvGrpSpPr>
              <p:grpSpPr>
                <a:xfrm>
                  <a:off x="4346280" y="3310200"/>
                  <a:ext cx="62280" cy="56880"/>
                  <a:chOff x="4346280" y="3310200"/>
                  <a:chExt cx="62280" cy="56880"/>
                </a:xfrm>
              </p:grpSpPr>
              <p:sp>
                <p:nvSpPr>
                  <p:cNvPr id="1573" name=""/>
                  <p:cNvSpPr/>
                  <p:nvPr/>
                </p:nvSpPr>
                <p:spPr>
                  <a:xfrm>
                    <a:off x="4346280" y="3310200"/>
                    <a:ext cx="6156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4" h="214">
                        <a:moveTo>
                          <a:pt x="35" y="33"/>
                        </a:moveTo>
                        <a:lnTo>
                          <a:pt x="66" y="5"/>
                        </a:lnTo>
                        <a:lnTo>
                          <a:pt x="85" y="0"/>
                        </a:lnTo>
                        <a:lnTo>
                          <a:pt x="122" y="5"/>
                        </a:lnTo>
                        <a:lnTo>
                          <a:pt x="161" y="11"/>
                        </a:lnTo>
                        <a:lnTo>
                          <a:pt x="187" y="16"/>
                        </a:lnTo>
                        <a:lnTo>
                          <a:pt x="195" y="22"/>
                        </a:lnTo>
                        <a:lnTo>
                          <a:pt x="200" y="35"/>
                        </a:lnTo>
                        <a:lnTo>
                          <a:pt x="202" y="43"/>
                        </a:lnTo>
                        <a:lnTo>
                          <a:pt x="195" y="52"/>
                        </a:lnTo>
                        <a:lnTo>
                          <a:pt x="203" y="60"/>
                        </a:lnTo>
                        <a:lnTo>
                          <a:pt x="206" y="72"/>
                        </a:lnTo>
                        <a:lnTo>
                          <a:pt x="204" y="79"/>
                        </a:lnTo>
                        <a:lnTo>
                          <a:pt x="210" y="87"/>
                        </a:lnTo>
                        <a:lnTo>
                          <a:pt x="213" y="96"/>
                        </a:lnTo>
                        <a:lnTo>
                          <a:pt x="211" y="107"/>
                        </a:lnTo>
                        <a:lnTo>
                          <a:pt x="204" y="119"/>
                        </a:lnTo>
                        <a:lnTo>
                          <a:pt x="210" y="130"/>
                        </a:lnTo>
                        <a:lnTo>
                          <a:pt x="214" y="144"/>
                        </a:lnTo>
                        <a:lnTo>
                          <a:pt x="209" y="159"/>
                        </a:lnTo>
                        <a:lnTo>
                          <a:pt x="200" y="166"/>
                        </a:lnTo>
                        <a:lnTo>
                          <a:pt x="200" y="189"/>
                        </a:lnTo>
                        <a:lnTo>
                          <a:pt x="192" y="202"/>
                        </a:lnTo>
                        <a:lnTo>
                          <a:pt x="174" y="208"/>
                        </a:lnTo>
                        <a:lnTo>
                          <a:pt x="94" y="214"/>
                        </a:lnTo>
                        <a:lnTo>
                          <a:pt x="56" y="200"/>
                        </a:lnTo>
                        <a:lnTo>
                          <a:pt x="8" y="148"/>
                        </a:lnTo>
                        <a:lnTo>
                          <a:pt x="1" y="126"/>
                        </a:lnTo>
                        <a:lnTo>
                          <a:pt x="0" y="108"/>
                        </a:lnTo>
                        <a:lnTo>
                          <a:pt x="2" y="92"/>
                        </a:lnTo>
                        <a:lnTo>
                          <a:pt x="9" y="66"/>
                        </a:lnTo>
                        <a:lnTo>
                          <a:pt x="18" y="53"/>
                        </a:lnTo>
                        <a:lnTo>
                          <a:pt x="35" y="33"/>
                        </a:lnTo>
                        <a:close/>
                      </a:path>
                    </a:pathLst>
                  </a:custGeom>
                  <a:solidFill>
                    <a:srgbClr val="f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74" name=""/>
                  <p:cNvGrpSpPr/>
                  <p:nvPr/>
                </p:nvGrpSpPr>
                <p:grpSpPr>
                  <a:xfrm>
                    <a:off x="4361760" y="3317040"/>
                    <a:ext cx="46800" cy="49320"/>
                    <a:chOff x="4361760" y="3317040"/>
                    <a:chExt cx="46800" cy="49320"/>
                  </a:xfrm>
                </p:grpSpPr>
                <p:sp>
                  <p:nvSpPr>
                    <p:cNvPr id="1575" name=""/>
                    <p:cNvSpPr/>
                    <p:nvPr/>
                  </p:nvSpPr>
                  <p:spPr>
                    <a:xfrm>
                      <a:off x="4361760" y="3328560"/>
                      <a:ext cx="4680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2" h="144">
                          <a:moveTo>
                            <a:pt x="48" y="20"/>
                          </a:moveTo>
                          <a:lnTo>
                            <a:pt x="67" y="22"/>
                          </a:lnTo>
                          <a:lnTo>
                            <a:pt x="79" y="22"/>
                          </a:lnTo>
                          <a:lnTo>
                            <a:pt x="78" y="0"/>
                          </a:lnTo>
                          <a:lnTo>
                            <a:pt x="86" y="12"/>
                          </a:lnTo>
                          <a:lnTo>
                            <a:pt x="93" y="18"/>
                          </a:lnTo>
                          <a:lnTo>
                            <a:pt x="101" y="20"/>
                          </a:lnTo>
                          <a:lnTo>
                            <a:pt x="118" y="18"/>
                          </a:lnTo>
                          <a:lnTo>
                            <a:pt x="130" y="13"/>
                          </a:lnTo>
                          <a:lnTo>
                            <a:pt x="141" y="9"/>
                          </a:lnTo>
                          <a:lnTo>
                            <a:pt x="151" y="6"/>
                          </a:lnTo>
                          <a:lnTo>
                            <a:pt x="155" y="2"/>
                          </a:lnTo>
                          <a:lnTo>
                            <a:pt x="152" y="9"/>
                          </a:lnTo>
                          <a:lnTo>
                            <a:pt x="158" y="17"/>
                          </a:lnTo>
                          <a:lnTo>
                            <a:pt x="161" y="26"/>
                          </a:lnTo>
                          <a:lnTo>
                            <a:pt x="160" y="37"/>
                          </a:lnTo>
                          <a:lnTo>
                            <a:pt x="152" y="49"/>
                          </a:lnTo>
                          <a:lnTo>
                            <a:pt x="158" y="60"/>
                          </a:lnTo>
                          <a:lnTo>
                            <a:pt x="162" y="74"/>
                          </a:lnTo>
                          <a:lnTo>
                            <a:pt x="157" y="89"/>
                          </a:lnTo>
                          <a:lnTo>
                            <a:pt x="149" y="96"/>
                          </a:lnTo>
                          <a:lnTo>
                            <a:pt x="149" y="119"/>
                          </a:lnTo>
                          <a:lnTo>
                            <a:pt x="140" y="132"/>
                          </a:lnTo>
                          <a:lnTo>
                            <a:pt x="122" y="138"/>
                          </a:lnTo>
                          <a:lnTo>
                            <a:pt x="43" y="144"/>
                          </a:lnTo>
                          <a:lnTo>
                            <a:pt x="4" y="130"/>
                          </a:lnTo>
                          <a:lnTo>
                            <a:pt x="27" y="137"/>
                          </a:lnTo>
                          <a:lnTo>
                            <a:pt x="48" y="140"/>
                          </a:lnTo>
                          <a:lnTo>
                            <a:pt x="63" y="139"/>
                          </a:lnTo>
                          <a:lnTo>
                            <a:pt x="76" y="136"/>
                          </a:lnTo>
                          <a:lnTo>
                            <a:pt x="80" y="124"/>
                          </a:lnTo>
                          <a:lnTo>
                            <a:pt x="80" y="139"/>
                          </a:lnTo>
                          <a:lnTo>
                            <a:pt x="99" y="137"/>
                          </a:lnTo>
                          <a:lnTo>
                            <a:pt x="123" y="136"/>
                          </a:lnTo>
                          <a:lnTo>
                            <a:pt x="135" y="130"/>
                          </a:lnTo>
                          <a:lnTo>
                            <a:pt x="140" y="120"/>
                          </a:lnTo>
                          <a:lnTo>
                            <a:pt x="145" y="109"/>
                          </a:lnTo>
                          <a:lnTo>
                            <a:pt x="146" y="100"/>
                          </a:lnTo>
                          <a:lnTo>
                            <a:pt x="133" y="103"/>
                          </a:lnTo>
                          <a:lnTo>
                            <a:pt x="118" y="106"/>
                          </a:lnTo>
                          <a:lnTo>
                            <a:pt x="101" y="107"/>
                          </a:lnTo>
                          <a:lnTo>
                            <a:pt x="83" y="109"/>
                          </a:lnTo>
                          <a:lnTo>
                            <a:pt x="69" y="107"/>
                          </a:lnTo>
                          <a:lnTo>
                            <a:pt x="55" y="106"/>
                          </a:lnTo>
                          <a:lnTo>
                            <a:pt x="39" y="101"/>
                          </a:lnTo>
                          <a:lnTo>
                            <a:pt x="21" y="96"/>
                          </a:lnTo>
                          <a:lnTo>
                            <a:pt x="10" y="86"/>
                          </a:lnTo>
                          <a:lnTo>
                            <a:pt x="26" y="94"/>
                          </a:lnTo>
                          <a:lnTo>
                            <a:pt x="37" y="96"/>
                          </a:lnTo>
                          <a:lnTo>
                            <a:pt x="51" y="98"/>
                          </a:lnTo>
                          <a:lnTo>
                            <a:pt x="66" y="100"/>
                          </a:lnTo>
                          <a:lnTo>
                            <a:pt x="83" y="101"/>
                          </a:lnTo>
                          <a:lnTo>
                            <a:pt x="95" y="97"/>
                          </a:lnTo>
                          <a:lnTo>
                            <a:pt x="106" y="91"/>
                          </a:lnTo>
                          <a:lnTo>
                            <a:pt x="108" y="100"/>
                          </a:lnTo>
                          <a:lnTo>
                            <a:pt x="116" y="99"/>
                          </a:lnTo>
                          <a:lnTo>
                            <a:pt x="129" y="98"/>
                          </a:lnTo>
                          <a:lnTo>
                            <a:pt x="140" y="97"/>
                          </a:lnTo>
                          <a:lnTo>
                            <a:pt x="145" y="93"/>
                          </a:lnTo>
                          <a:lnTo>
                            <a:pt x="149" y="87"/>
                          </a:lnTo>
                          <a:lnTo>
                            <a:pt x="152" y="81"/>
                          </a:lnTo>
                          <a:lnTo>
                            <a:pt x="155" y="74"/>
                          </a:lnTo>
                          <a:lnTo>
                            <a:pt x="153" y="67"/>
                          </a:lnTo>
                          <a:lnTo>
                            <a:pt x="151" y="62"/>
                          </a:lnTo>
                          <a:lnTo>
                            <a:pt x="144" y="62"/>
                          </a:lnTo>
                          <a:lnTo>
                            <a:pt x="128" y="65"/>
                          </a:lnTo>
                          <a:lnTo>
                            <a:pt x="113" y="70"/>
                          </a:lnTo>
                          <a:lnTo>
                            <a:pt x="97" y="72"/>
                          </a:lnTo>
                          <a:lnTo>
                            <a:pt x="80" y="73"/>
                          </a:lnTo>
                          <a:lnTo>
                            <a:pt x="65" y="74"/>
                          </a:lnTo>
                          <a:lnTo>
                            <a:pt x="45" y="74"/>
                          </a:lnTo>
                          <a:lnTo>
                            <a:pt x="28" y="70"/>
                          </a:lnTo>
                          <a:lnTo>
                            <a:pt x="15" y="65"/>
                          </a:lnTo>
                          <a:lnTo>
                            <a:pt x="0" y="54"/>
                          </a:lnTo>
                          <a:lnTo>
                            <a:pt x="24" y="63"/>
                          </a:lnTo>
                          <a:lnTo>
                            <a:pt x="37" y="66"/>
                          </a:lnTo>
                          <a:lnTo>
                            <a:pt x="51" y="70"/>
                          </a:lnTo>
                          <a:lnTo>
                            <a:pt x="66" y="69"/>
                          </a:lnTo>
                          <a:lnTo>
                            <a:pt x="77" y="67"/>
                          </a:lnTo>
                          <a:lnTo>
                            <a:pt x="88" y="64"/>
                          </a:lnTo>
                          <a:lnTo>
                            <a:pt x="96" y="56"/>
                          </a:lnTo>
                          <a:lnTo>
                            <a:pt x="106" y="50"/>
                          </a:lnTo>
                          <a:lnTo>
                            <a:pt x="100" y="59"/>
                          </a:lnTo>
                          <a:lnTo>
                            <a:pt x="105" y="64"/>
                          </a:lnTo>
                          <a:lnTo>
                            <a:pt x="110" y="63"/>
                          </a:lnTo>
                          <a:lnTo>
                            <a:pt x="123" y="60"/>
                          </a:lnTo>
                          <a:lnTo>
                            <a:pt x="135" y="57"/>
                          </a:lnTo>
                          <a:lnTo>
                            <a:pt x="146" y="49"/>
                          </a:lnTo>
                          <a:lnTo>
                            <a:pt x="155" y="40"/>
                          </a:lnTo>
                          <a:lnTo>
                            <a:pt x="156" y="32"/>
                          </a:lnTo>
                          <a:lnTo>
                            <a:pt x="155" y="23"/>
                          </a:lnTo>
                          <a:lnTo>
                            <a:pt x="153" y="11"/>
                          </a:lnTo>
                          <a:lnTo>
                            <a:pt x="142" y="15"/>
                          </a:lnTo>
                          <a:lnTo>
                            <a:pt x="128" y="22"/>
                          </a:lnTo>
                          <a:lnTo>
                            <a:pt x="107" y="27"/>
                          </a:lnTo>
                          <a:lnTo>
                            <a:pt x="84" y="29"/>
                          </a:lnTo>
                          <a:lnTo>
                            <a:pt x="61" y="27"/>
                          </a:lnTo>
                          <a:lnTo>
                            <a:pt x="40" y="24"/>
                          </a:lnTo>
                          <a:lnTo>
                            <a:pt x="21" y="17"/>
                          </a:lnTo>
                          <a:lnTo>
                            <a:pt x="48" y="20"/>
                          </a:lnTo>
                          <a:close/>
                        </a:path>
                      </a:pathLst>
                    </a:custGeom>
                    <a:solidFill>
                      <a:srgbClr val="df9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6" name=""/>
                    <p:cNvSpPr/>
                    <p:nvPr/>
                  </p:nvSpPr>
                  <p:spPr>
                    <a:xfrm>
                      <a:off x="4363200" y="3317040"/>
                      <a:ext cx="309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" h="18">
                          <a:moveTo>
                            <a:pt x="108" y="0"/>
                          </a:moveTo>
                          <a:lnTo>
                            <a:pt x="98" y="7"/>
                          </a:lnTo>
                          <a:lnTo>
                            <a:pt x="89" y="16"/>
                          </a:lnTo>
                          <a:lnTo>
                            <a:pt x="78" y="14"/>
                          </a:lnTo>
                          <a:lnTo>
                            <a:pt x="67" y="8"/>
                          </a:lnTo>
                          <a:lnTo>
                            <a:pt x="56" y="8"/>
                          </a:lnTo>
                          <a:lnTo>
                            <a:pt x="38" y="13"/>
                          </a:lnTo>
                          <a:lnTo>
                            <a:pt x="25" y="18"/>
                          </a:lnTo>
                          <a:lnTo>
                            <a:pt x="34" y="11"/>
                          </a:lnTo>
                          <a:lnTo>
                            <a:pt x="16" y="8"/>
                          </a:lnTo>
                          <a:lnTo>
                            <a:pt x="0" y="6"/>
                          </a:lnTo>
                          <a:lnTo>
                            <a:pt x="21" y="5"/>
                          </a:lnTo>
                          <a:lnTo>
                            <a:pt x="38" y="7"/>
                          </a:lnTo>
                          <a:lnTo>
                            <a:pt x="51" y="7"/>
                          </a:lnTo>
                          <a:lnTo>
                            <a:pt x="61" y="5"/>
                          </a:lnTo>
                          <a:lnTo>
                            <a:pt x="71" y="5"/>
                          </a:lnTo>
                          <a:lnTo>
                            <a:pt x="78" y="8"/>
                          </a:lnTo>
                          <a:lnTo>
                            <a:pt x="89" y="12"/>
                          </a:lnTo>
                          <a:lnTo>
                            <a:pt x="108" y="0"/>
                          </a:lnTo>
                          <a:close/>
                        </a:path>
                      </a:pathLst>
                    </a:custGeom>
                    <a:solidFill>
                      <a:srgbClr val="df9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577" name=""/>
                <p:cNvGrpSpPr/>
                <p:nvPr/>
              </p:nvGrpSpPr>
              <p:grpSpPr>
                <a:xfrm>
                  <a:off x="4390200" y="3363120"/>
                  <a:ext cx="414720" cy="120600"/>
                  <a:chOff x="4390200" y="3363120"/>
                  <a:chExt cx="414720" cy="120600"/>
                </a:xfrm>
              </p:grpSpPr>
              <p:sp>
                <p:nvSpPr>
                  <p:cNvPr id="1578" name=""/>
                  <p:cNvSpPr/>
                  <p:nvPr/>
                </p:nvSpPr>
                <p:spPr>
                  <a:xfrm>
                    <a:off x="4390200" y="3367440"/>
                    <a:ext cx="154440" cy="116280"/>
                  </a:xfrm>
                  <a:custGeom>
                    <a:avLst/>
                    <a:gdLst/>
                    <a:ahLst/>
                    <a:rect l="l" t="t" r="r" b="b"/>
                    <a:pathLst>
                      <a:path w="531" h="441">
                        <a:moveTo>
                          <a:pt x="113" y="0"/>
                        </a:moveTo>
                        <a:lnTo>
                          <a:pt x="0" y="396"/>
                        </a:lnTo>
                        <a:lnTo>
                          <a:pt x="427" y="441"/>
                        </a:lnTo>
                        <a:lnTo>
                          <a:pt x="531" y="32"/>
                        </a:lnTo>
                        <a:lnTo>
                          <a:pt x="113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>
                    <a:off x="4457160" y="3363120"/>
                    <a:ext cx="183960" cy="89280"/>
                  </a:xfrm>
                  <a:custGeom>
                    <a:avLst/>
                    <a:gdLst/>
                    <a:ahLst/>
                    <a:rect l="l" t="t" r="r" b="b"/>
                    <a:pathLst>
                      <a:path w="633" h="340">
                        <a:moveTo>
                          <a:pt x="0" y="74"/>
                        </a:moveTo>
                        <a:lnTo>
                          <a:pt x="197" y="340"/>
                        </a:lnTo>
                        <a:lnTo>
                          <a:pt x="633" y="212"/>
                        </a:lnTo>
                        <a:lnTo>
                          <a:pt x="418" y="0"/>
                        </a:lnTo>
                        <a:lnTo>
                          <a:pt x="0" y="74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"/>
                  <p:cNvSpPr/>
                  <p:nvPr/>
                </p:nvSpPr>
                <p:spPr>
                  <a:xfrm>
                    <a:off x="4585320" y="3366720"/>
                    <a:ext cx="21960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756" h="290">
                        <a:moveTo>
                          <a:pt x="0" y="32"/>
                        </a:moveTo>
                        <a:lnTo>
                          <a:pt x="526" y="0"/>
                        </a:lnTo>
                        <a:lnTo>
                          <a:pt x="756" y="206"/>
                        </a:lnTo>
                        <a:lnTo>
                          <a:pt x="149" y="290"/>
                        </a:lnTo>
                        <a:lnTo>
                          <a:pt x="0" y="32"/>
                        </a:lnTo>
                        <a:close/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1" name=""/>
                <p:cNvGrpSpPr/>
                <p:nvPr/>
              </p:nvGrpSpPr>
              <p:grpSpPr>
                <a:xfrm>
                  <a:off x="4633920" y="2997000"/>
                  <a:ext cx="428760" cy="383040"/>
                  <a:chOff x="4633920" y="2997000"/>
                  <a:chExt cx="428760" cy="383040"/>
                </a:xfrm>
              </p:grpSpPr>
              <p:grpSp>
                <p:nvGrpSpPr>
                  <p:cNvPr id="1582" name=""/>
                  <p:cNvGrpSpPr/>
                  <p:nvPr/>
                </p:nvGrpSpPr>
                <p:grpSpPr>
                  <a:xfrm>
                    <a:off x="4688640" y="2997000"/>
                    <a:ext cx="374040" cy="371880"/>
                    <a:chOff x="4688640" y="2997000"/>
                    <a:chExt cx="374040" cy="371880"/>
                  </a:xfrm>
                </p:grpSpPr>
                <p:sp>
                  <p:nvSpPr>
                    <p:cNvPr id="1583" name=""/>
                    <p:cNvSpPr/>
                    <p:nvPr/>
                  </p:nvSpPr>
                  <p:spPr>
                    <a:xfrm>
                      <a:off x="4688640" y="3135600"/>
                      <a:ext cx="374040" cy="23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86" h="882">
                          <a:moveTo>
                            <a:pt x="764" y="8"/>
                          </a:moveTo>
                          <a:lnTo>
                            <a:pt x="830" y="0"/>
                          </a:lnTo>
                          <a:lnTo>
                            <a:pt x="896" y="8"/>
                          </a:lnTo>
                          <a:lnTo>
                            <a:pt x="929" y="22"/>
                          </a:lnTo>
                          <a:lnTo>
                            <a:pt x="1005" y="79"/>
                          </a:lnTo>
                          <a:lnTo>
                            <a:pt x="1053" y="125"/>
                          </a:lnTo>
                          <a:lnTo>
                            <a:pt x="1104" y="191"/>
                          </a:lnTo>
                          <a:lnTo>
                            <a:pt x="1148" y="258"/>
                          </a:lnTo>
                          <a:lnTo>
                            <a:pt x="1181" y="311"/>
                          </a:lnTo>
                          <a:lnTo>
                            <a:pt x="1195" y="339"/>
                          </a:lnTo>
                          <a:lnTo>
                            <a:pt x="1217" y="424"/>
                          </a:lnTo>
                          <a:lnTo>
                            <a:pt x="1246" y="554"/>
                          </a:lnTo>
                          <a:lnTo>
                            <a:pt x="1265" y="646"/>
                          </a:lnTo>
                          <a:lnTo>
                            <a:pt x="1276" y="766"/>
                          </a:lnTo>
                          <a:lnTo>
                            <a:pt x="1286" y="864"/>
                          </a:lnTo>
                          <a:lnTo>
                            <a:pt x="1013" y="868"/>
                          </a:lnTo>
                          <a:lnTo>
                            <a:pt x="845" y="878"/>
                          </a:lnTo>
                          <a:lnTo>
                            <a:pt x="713" y="882"/>
                          </a:lnTo>
                          <a:lnTo>
                            <a:pt x="343" y="864"/>
                          </a:lnTo>
                          <a:lnTo>
                            <a:pt x="197" y="857"/>
                          </a:lnTo>
                          <a:lnTo>
                            <a:pt x="76" y="850"/>
                          </a:lnTo>
                          <a:lnTo>
                            <a:pt x="80" y="811"/>
                          </a:lnTo>
                          <a:lnTo>
                            <a:pt x="65" y="769"/>
                          </a:lnTo>
                          <a:lnTo>
                            <a:pt x="29" y="741"/>
                          </a:lnTo>
                          <a:lnTo>
                            <a:pt x="0" y="723"/>
                          </a:lnTo>
                          <a:lnTo>
                            <a:pt x="153" y="671"/>
                          </a:lnTo>
                          <a:lnTo>
                            <a:pt x="281" y="621"/>
                          </a:lnTo>
                          <a:lnTo>
                            <a:pt x="336" y="597"/>
                          </a:lnTo>
                          <a:lnTo>
                            <a:pt x="383" y="575"/>
                          </a:lnTo>
                          <a:lnTo>
                            <a:pt x="416" y="530"/>
                          </a:lnTo>
                          <a:lnTo>
                            <a:pt x="423" y="512"/>
                          </a:lnTo>
                          <a:lnTo>
                            <a:pt x="427" y="473"/>
                          </a:lnTo>
                          <a:lnTo>
                            <a:pt x="431" y="449"/>
                          </a:lnTo>
                          <a:lnTo>
                            <a:pt x="445" y="403"/>
                          </a:lnTo>
                          <a:lnTo>
                            <a:pt x="453" y="382"/>
                          </a:lnTo>
                          <a:lnTo>
                            <a:pt x="456" y="346"/>
                          </a:lnTo>
                          <a:lnTo>
                            <a:pt x="464" y="294"/>
                          </a:lnTo>
                          <a:lnTo>
                            <a:pt x="482" y="262"/>
                          </a:lnTo>
                          <a:lnTo>
                            <a:pt x="482" y="227"/>
                          </a:lnTo>
                          <a:lnTo>
                            <a:pt x="573" y="125"/>
                          </a:lnTo>
                          <a:lnTo>
                            <a:pt x="591" y="142"/>
                          </a:lnTo>
                          <a:lnTo>
                            <a:pt x="764" y="8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4" name=""/>
                    <p:cNvSpPr/>
                    <p:nvPr/>
                  </p:nvSpPr>
                  <p:spPr>
                    <a:xfrm>
                      <a:off x="4935960" y="3191040"/>
                      <a:ext cx="73080" cy="17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2" h="669">
                          <a:moveTo>
                            <a:pt x="197" y="0"/>
                          </a:moveTo>
                          <a:lnTo>
                            <a:pt x="223" y="25"/>
                          </a:lnTo>
                          <a:lnTo>
                            <a:pt x="230" y="81"/>
                          </a:lnTo>
                          <a:lnTo>
                            <a:pt x="230" y="141"/>
                          </a:lnTo>
                          <a:lnTo>
                            <a:pt x="230" y="180"/>
                          </a:lnTo>
                          <a:lnTo>
                            <a:pt x="252" y="201"/>
                          </a:lnTo>
                          <a:lnTo>
                            <a:pt x="234" y="211"/>
                          </a:lnTo>
                          <a:lnTo>
                            <a:pt x="230" y="250"/>
                          </a:lnTo>
                          <a:lnTo>
                            <a:pt x="219" y="271"/>
                          </a:lnTo>
                          <a:lnTo>
                            <a:pt x="212" y="303"/>
                          </a:lnTo>
                          <a:lnTo>
                            <a:pt x="201" y="317"/>
                          </a:lnTo>
                          <a:lnTo>
                            <a:pt x="201" y="352"/>
                          </a:lnTo>
                          <a:lnTo>
                            <a:pt x="186" y="388"/>
                          </a:lnTo>
                          <a:lnTo>
                            <a:pt x="183" y="447"/>
                          </a:lnTo>
                          <a:lnTo>
                            <a:pt x="172" y="507"/>
                          </a:lnTo>
                          <a:lnTo>
                            <a:pt x="164" y="521"/>
                          </a:lnTo>
                          <a:lnTo>
                            <a:pt x="164" y="543"/>
                          </a:lnTo>
                          <a:lnTo>
                            <a:pt x="146" y="546"/>
                          </a:lnTo>
                          <a:lnTo>
                            <a:pt x="146" y="560"/>
                          </a:lnTo>
                          <a:lnTo>
                            <a:pt x="139" y="581"/>
                          </a:lnTo>
                          <a:lnTo>
                            <a:pt x="117" y="606"/>
                          </a:lnTo>
                          <a:lnTo>
                            <a:pt x="95" y="634"/>
                          </a:lnTo>
                          <a:lnTo>
                            <a:pt x="80" y="669"/>
                          </a:lnTo>
                          <a:lnTo>
                            <a:pt x="18" y="669"/>
                          </a:lnTo>
                          <a:lnTo>
                            <a:pt x="117" y="585"/>
                          </a:lnTo>
                          <a:lnTo>
                            <a:pt x="135" y="550"/>
                          </a:lnTo>
                          <a:lnTo>
                            <a:pt x="128" y="514"/>
                          </a:lnTo>
                          <a:lnTo>
                            <a:pt x="150" y="497"/>
                          </a:lnTo>
                          <a:lnTo>
                            <a:pt x="150" y="388"/>
                          </a:lnTo>
                          <a:lnTo>
                            <a:pt x="84" y="377"/>
                          </a:lnTo>
                          <a:lnTo>
                            <a:pt x="44" y="366"/>
                          </a:lnTo>
                          <a:lnTo>
                            <a:pt x="0" y="352"/>
                          </a:lnTo>
                          <a:lnTo>
                            <a:pt x="139" y="349"/>
                          </a:lnTo>
                          <a:lnTo>
                            <a:pt x="161" y="338"/>
                          </a:lnTo>
                          <a:lnTo>
                            <a:pt x="157" y="317"/>
                          </a:lnTo>
                          <a:lnTo>
                            <a:pt x="117" y="310"/>
                          </a:lnTo>
                          <a:lnTo>
                            <a:pt x="73" y="307"/>
                          </a:lnTo>
                          <a:lnTo>
                            <a:pt x="131" y="292"/>
                          </a:lnTo>
                          <a:lnTo>
                            <a:pt x="146" y="282"/>
                          </a:lnTo>
                          <a:lnTo>
                            <a:pt x="95" y="233"/>
                          </a:lnTo>
                          <a:lnTo>
                            <a:pt x="47" y="208"/>
                          </a:lnTo>
                          <a:lnTo>
                            <a:pt x="18" y="176"/>
                          </a:lnTo>
                          <a:lnTo>
                            <a:pt x="7" y="169"/>
                          </a:lnTo>
                          <a:lnTo>
                            <a:pt x="40" y="166"/>
                          </a:lnTo>
                          <a:lnTo>
                            <a:pt x="80" y="183"/>
                          </a:lnTo>
                          <a:lnTo>
                            <a:pt x="131" y="211"/>
                          </a:lnTo>
                          <a:lnTo>
                            <a:pt x="175" y="229"/>
                          </a:lnTo>
                          <a:lnTo>
                            <a:pt x="201" y="222"/>
                          </a:lnTo>
                          <a:lnTo>
                            <a:pt x="215" y="194"/>
                          </a:lnTo>
                          <a:lnTo>
                            <a:pt x="215" y="134"/>
                          </a:lnTo>
                          <a:lnTo>
                            <a:pt x="197" y="0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5" name=""/>
                    <p:cNvSpPr/>
                    <p:nvPr/>
                  </p:nvSpPr>
                  <p:spPr>
                    <a:xfrm>
                      <a:off x="4731120" y="3237840"/>
                      <a:ext cx="145440" cy="12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1" h="462">
                          <a:moveTo>
                            <a:pt x="0" y="462"/>
                          </a:moveTo>
                          <a:lnTo>
                            <a:pt x="314" y="356"/>
                          </a:lnTo>
                          <a:lnTo>
                            <a:pt x="339" y="335"/>
                          </a:lnTo>
                          <a:lnTo>
                            <a:pt x="365" y="300"/>
                          </a:lnTo>
                          <a:lnTo>
                            <a:pt x="369" y="264"/>
                          </a:lnTo>
                          <a:lnTo>
                            <a:pt x="372" y="162"/>
                          </a:lnTo>
                          <a:lnTo>
                            <a:pt x="383" y="233"/>
                          </a:lnTo>
                          <a:lnTo>
                            <a:pt x="405" y="250"/>
                          </a:lnTo>
                          <a:lnTo>
                            <a:pt x="420" y="194"/>
                          </a:lnTo>
                          <a:lnTo>
                            <a:pt x="434" y="141"/>
                          </a:lnTo>
                          <a:lnTo>
                            <a:pt x="487" y="0"/>
                          </a:lnTo>
                          <a:lnTo>
                            <a:pt x="454" y="120"/>
                          </a:lnTo>
                          <a:lnTo>
                            <a:pt x="434" y="194"/>
                          </a:lnTo>
                          <a:lnTo>
                            <a:pt x="423" y="250"/>
                          </a:lnTo>
                          <a:lnTo>
                            <a:pt x="405" y="286"/>
                          </a:lnTo>
                          <a:lnTo>
                            <a:pt x="383" y="314"/>
                          </a:lnTo>
                          <a:lnTo>
                            <a:pt x="409" y="335"/>
                          </a:lnTo>
                          <a:lnTo>
                            <a:pt x="442" y="331"/>
                          </a:lnTo>
                          <a:lnTo>
                            <a:pt x="501" y="282"/>
                          </a:lnTo>
                          <a:lnTo>
                            <a:pt x="423" y="370"/>
                          </a:lnTo>
                          <a:lnTo>
                            <a:pt x="343" y="388"/>
                          </a:lnTo>
                          <a:lnTo>
                            <a:pt x="252" y="405"/>
                          </a:lnTo>
                          <a:lnTo>
                            <a:pt x="164" y="423"/>
                          </a:lnTo>
                          <a:lnTo>
                            <a:pt x="66" y="444"/>
                          </a:lnTo>
                          <a:lnTo>
                            <a:pt x="0" y="462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6" name=""/>
                    <p:cNvSpPr/>
                    <p:nvPr/>
                  </p:nvSpPr>
                  <p:spPr>
                    <a:xfrm>
                      <a:off x="4860360" y="3153960"/>
                      <a:ext cx="113760" cy="20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2" h="768">
                          <a:moveTo>
                            <a:pt x="392" y="7"/>
                          </a:moveTo>
                          <a:lnTo>
                            <a:pt x="312" y="0"/>
                          </a:lnTo>
                          <a:lnTo>
                            <a:pt x="268" y="7"/>
                          </a:lnTo>
                          <a:lnTo>
                            <a:pt x="195" y="78"/>
                          </a:lnTo>
                          <a:lnTo>
                            <a:pt x="126" y="162"/>
                          </a:lnTo>
                          <a:lnTo>
                            <a:pt x="86" y="328"/>
                          </a:lnTo>
                          <a:lnTo>
                            <a:pt x="71" y="374"/>
                          </a:lnTo>
                          <a:lnTo>
                            <a:pt x="56" y="507"/>
                          </a:lnTo>
                          <a:lnTo>
                            <a:pt x="49" y="603"/>
                          </a:lnTo>
                          <a:lnTo>
                            <a:pt x="0" y="662"/>
                          </a:lnTo>
                          <a:lnTo>
                            <a:pt x="108" y="768"/>
                          </a:lnTo>
                          <a:lnTo>
                            <a:pt x="56" y="691"/>
                          </a:lnTo>
                          <a:lnTo>
                            <a:pt x="67" y="684"/>
                          </a:lnTo>
                          <a:lnTo>
                            <a:pt x="140" y="722"/>
                          </a:lnTo>
                          <a:lnTo>
                            <a:pt x="228" y="743"/>
                          </a:lnTo>
                          <a:lnTo>
                            <a:pt x="111" y="698"/>
                          </a:lnTo>
                          <a:lnTo>
                            <a:pt x="67" y="659"/>
                          </a:lnTo>
                          <a:lnTo>
                            <a:pt x="67" y="620"/>
                          </a:lnTo>
                          <a:lnTo>
                            <a:pt x="140" y="617"/>
                          </a:lnTo>
                          <a:lnTo>
                            <a:pt x="64" y="599"/>
                          </a:lnTo>
                          <a:lnTo>
                            <a:pt x="71" y="507"/>
                          </a:lnTo>
                          <a:lnTo>
                            <a:pt x="89" y="356"/>
                          </a:lnTo>
                          <a:lnTo>
                            <a:pt x="148" y="166"/>
                          </a:lnTo>
                          <a:lnTo>
                            <a:pt x="188" y="106"/>
                          </a:lnTo>
                          <a:lnTo>
                            <a:pt x="268" y="28"/>
                          </a:lnTo>
                          <a:lnTo>
                            <a:pt x="312" y="18"/>
                          </a:lnTo>
                          <a:lnTo>
                            <a:pt x="392" y="7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587" name=""/>
                    <p:cNvGrpSpPr/>
                    <p:nvPr/>
                  </p:nvGrpSpPr>
                  <p:grpSpPr>
                    <a:xfrm>
                      <a:off x="4766040" y="2997000"/>
                      <a:ext cx="185760" cy="255960"/>
                      <a:chOff x="4766040" y="2997000"/>
                      <a:chExt cx="185760" cy="255960"/>
                    </a:xfrm>
                  </p:grpSpPr>
                  <p:sp>
                    <p:nvSpPr>
                      <p:cNvPr id="1588" name=""/>
                      <p:cNvSpPr/>
                      <p:nvPr/>
                    </p:nvSpPr>
                    <p:spPr>
                      <a:xfrm>
                        <a:off x="4845240" y="3134880"/>
                        <a:ext cx="66960" cy="60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1" h="229">
                            <a:moveTo>
                              <a:pt x="202" y="0"/>
                            </a:moveTo>
                            <a:lnTo>
                              <a:pt x="44" y="135"/>
                            </a:lnTo>
                            <a:lnTo>
                              <a:pt x="33" y="118"/>
                            </a:lnTo>
                            <a:lnTo>
                              <a:pt x="8" y="174"/>
                            </a:lnTo>
                            <a:lnTo>
                              <a:pt x="0" y="206"/>
                            </a:lnTo>
                            <a:lnTo>
                              <a:pt x="18" y="188"/>
                            </a:lnTo>
                            <a:lnTo>
                              <a:pt x="35" y="151"/>
                            </a:lnTo>
                            <a:lnTo>
                              <a:pt x="69" y="229"/>
                            </a:lnTo>
                            <a:lnTo>
                              <a:pt x="122" y="169"/>
                            </a:lnTo>
                            <a:lnTo>
                              <a:pt x="180" y="76"/>
                            </a:lnTo>
                            <a:lnTo>
                              <a:pt x="231" y="16"/>
                            </a:lnTo>
                            <a:lnTo>
                              <a:pt x="202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320" bIns="13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9" name=""/>
                      <p:cNvSpPr/>
                      <p:nvPr/>
                    </p:nvSpPr>
                    <p:spPr>
                      <a:xfrm>
                        <a:off x="4844520" y="3174480"/>
                        <a:ext cx="19080" cy="75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" h="286">
                            <a:moveTo>
                              <a:pt x="37" y="0"/>
                            </a:moveTo>
                            <a:lnTo>
                              <a:pt x="26" y="13"/>
                            </a:lnTo>
                            <a:lnTo>
                              <a:pt x="19" y="23"/>
                            </a:lnTo>
                            <a:lnTo>
                              <a:pt x="13" y="37"/>
                            </a:lnTo>
                            <a:lnTo>
                              <a:pt x="6" y="60"/>
                            </a:lnTo>
                            <a:lnTo>
                              <a:pt x="4" y="83"/>
                            </a:lnTo>
                            <a:lnTo>
                              <a:pt x="6" y="105"/>
                            </a:lnTo>
                            <a:lnTo>
                              <a:pt x="10" y="129"/>
                            </a:lnTo>
                            <a:lnTo>
                              <a:pt x="14" y="142"/>
                            </a:lnTo>
                            <a:lnTo>
                              <a:pt x="2" y="195"/>
                            </a:lnTo>
                            <a:lnTo>
                              <a:pt x="0" y="218"/>
                            </a:lnTo>
                            <a:lnTo>
                              <a:pt x="0" y="247"/>
                            </a:lnTo>
                            <a:lnTo>
                              <a:pt x="4" y="286"/>
                            </a:lnTo>
                            <a:lnTo>
                              <a:pt x="25" y="198"/>
                            </a:lnTo>
                            <a:lnTo>
                              <a:pt x="36" y="139"/>
                            </a:lnTo>
                            <a:lnTo>
                              <a:pt x="66" y="65"/>
                            </a:lnTo>
                            <a:lnTo>
                              <a:pt x="37" y="0"/>
                            </a:lnTo>
                            <a:close/>
                          </a:path>
                        </a:pathLst>
                      </a:custGeom>
                      <a:solidFill>
                        <a:srgbClr val="000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440" bIns="28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0" name=""/>
                      <p:cNvSpPr/>
                      <p:nvPr/>
                    </p:nvSpPr>
                    <p:spPr>
                      <a:xfrm>
                        <a:off x="4845240" y="3174480"/>
                        <a:ext cx="17280" cy="40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2" h="151">
                            <a:moveTo>
                              <a:pt x="33" y="0"/>
                            </a:moveTo>
                            <a:lnTo>
                              <a:pt x="22" y="13"/>
                            </a:lnTo>
                            <a:lnTo>
                              <a:pt x="14" y="23"/>
                            </a:lnTo>
                            <a:lnTo>
                              <a:pt x="8" y="37"/>
                            </a:lnTo>
                            <a:lnTo>
                              <a:pt x="2" y="60"/>
                            </a:lnTo>
                            <a:lnTo>
                              <a:pt x="0" y="83"/>
                            </a:lnTo>
                            <a:lnTo>
                              <a:pt x="2" y="106"/>
                            </a:lnTo>
                            <a:lnTo>
                              <a:pt x="6" y="129"/>
                            </a:lnTo>
                            <a:lnTo>
                              <a:pt x="10" y="142"/>
                            </a:lnTo>
                            <a:lnTo>
                              <a:pt x="27" y="151"/>
                            </a:lnTo>
                            <a:lnTo>
                              <a:pt x="31" y="136"/>
                            </a:lnTo>
                            <a:lnTo>
                              <a:pt x="62" y="66"/>
                            </a:lnTo>
                            <a:lnTo>
                              <a:pt x="33" y="0"/>
                            </a:lnTo>
                            <a:close/>
                          </a:path>
                        </a:pathLst>
                      </a:custGeom>
                      <a:solidFill>
                        <a:srgbClr val="000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591" name=""/>
                      <p:cNvGrpSpPr/>
                      <p:nvPr/>
                    </p:nvGrpSpPr>
                    <p:grpSpPr>
                      <a:xfrm>
                        <a:off x="4766040" y="2997000"/>
                        <a:ext cx="185760" cy="177480"/>
                        <a:chOff x="4766040" y="2997000"/>
                        <a:chExt cx="185760" cy="177480"/>
                      </a:xfrm>
                    </p:grpSpPr>
                    <p:grpSp>
                      <p:nvGrpSpPr>
                        <p:cNvPr id="1592" name=""/>
                        <p:cNvGrpSpPr/>
                        <p:nvPr/>
                      </p:nvGrpSpPr>
                      <p:grpSpPr>
                        <a:xfrm>
                          <a:off x="4785120" y="3015720"/>
                          <a:ext cx="137520" cy="158760"/>
                          <a:chOff x="4785120" y="3015720"/>
                          <a:chExt cx="137520" cy="158760"/>
                        </a:xfrm>
                      </p:grpSpPr>
                      <p:sp>
                        <p:nvSpPr>
                          <p:cNvPr id="1593" name=""/>
                          <p:cNvSpPr/>
                          <p:nvPr/>
                        </p:nvSpPr>
                        <p:spPr>
                          <a:xfrm>
                            <a:off x="4785120" y="3015720"/>
                            <a:ext cx="137520" cy="158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74" h="598">
                                <a:moveTo>
                                  <a:pt x="148" y="17"/>
                                </a:moveTo>
                                <a:lnTo>
                                  <a:pt x="114" y="36"/>
                                </a:lnTo>
                                <a:lnTo>
                                  <a:pt x="82" y="56"/>
                                </a:lnTo>
                                <a:lnTo>
                                  <a:pt x="59" y="75"/>
                                </a:lnTo>
                                <a:lnTo>
                                  <a:pt x="37" y="95"/>
                                </a:lnTo>
                                <a:lnTo>
                                  <a:pt x="20" y="116"/>
                                </a:lnTo>
                                <a:lnTo>
                                  <a:pt x="9" y="138"/>
                                </a:lnTo>
                                <a:lnTo>
                                  <a:pt x="5" y="162"/>
                                </a:lnTo>
                                <a:lnTo>
                                  <a:pt x="2" y="188"/>
                                </a:lnTo>
                                <a:lnTo>
                                  <a:pt x="0" y="219"/>
                                </a:lnTo>
                                <a:lnTo>
                                  <a:pt x="4" y="248"/>
                                </a:lnTo>
                                <a:lnTo>
                                  <a:pt x="0" y="286"/>
                                </a:lnTo>
                                <a:lnTo>
                                  <a:pt x="16" y="297"/>
                                </a:lnTo>
                                <a:lnTo>
                                  <a:pt x="30" y="307"/>
                                </a:lnTo>
                                <a:lnTo>
                                  <a:pt x="31" y="317"/>
                                </a:lnTo>
                                <a:lnTo>
                                  <a:pt x="31" y="332"/>
                                </a:lnTo>
                                <a:lnTo>
                                  <a:pt x="26" y="350"/>
                                </a:lnTo>
                                <a:lnTo>
                                  <a:pt x="11" y="398"/>
                                </a:lnTo>
                                <a:lnTo>
                                  <a:pt x="11" y="419"/>
                                </a:lnTo>
                                <a:lnTo>
                                  <a:pt x="23" y="424"/>
                                </a:lnTo>
                                <a:lnTo>
                                  <a:pt x="42" y="424"/>
                                </a:lnTo>
                                <a:lnTo>
                                  <a:pt x="55" y="424"/>
                                </a:lnTo>
                                <a:lnTo>
                                  <a:pt x="77" y="481"/>
                                </a:lnTo>
                                <a:lnTo>
                                  <a:pt x="78" y="502"/>
                                </a:lnTo>
                                <a:lnTo>
                                  <a:pt x="86" y="512"/>
                                </a:lnTo>
                                <a:lnTo>
                                  <a:pt x="95" y="515"/>
                                </a:lnTo>
                                <a:lnTo>
                                  <a:pt x="96" y="527"/>
                                </a:lnTo>
                                <a:lnTo>
                                  <a:pt x="95" y="543"/>
                                </a:lnTo>
                                <a:lnTo>
                                  <a:pt x="104" y="569"/>
                                </a:lnTo>
                                <a:lnTo>
                                  <a:pt x="115" y="586"/>
                                </a:lnTo>
                                <a:lnTo>
                                  <a:pt x="126" y="593"/>
                                </a:lnTo>
                                <a:lnTo>
                                  <a:pt x="151" y="598"/>
                                </a:lnTo>
                                <a:lnTo>
                                  <a:pt x="172" y="596"/>
                                </a:lnTo>
                                <a:lnTo>
                                  <a:pt x="201" y="583"/>
                                </a:lnTo>
                                <a:lnTo>
                                  <a:pt x="235" y="565"/>
                                </a:lnTo>
                                <a:lnTo>
                                  <a:pt x="250" y="582"/>
                                </a:lnTo>
                                <a:lnTo>
                                  <a:pt x="456" y="423"/>
                                </a:lnTo>
                                <a:lnTo>
                                  <a:pt x="443" y="396"/>
                                </a:lnTo>
                                <a:lnTo>
                                  <a:pt x="456" y="359"/>
                                </a:lnTo>
                                <a:lnTo>
                                  <a:pt x="469" y="311"/>
                                </a:lnTo>
                                <a:lnTo>
                                  <a:pt x="474" y="250"/>
                                </a:lnTo>
                                <a:lnTo>
                                  <a:pt x="473" y="204"/>
                                </a:lnTo>
                                <a:lnTo>
                                  <a:pt x="459" y="128"/>
                                </a:lnTo>
                                <a:lnTo>
                                  <a:pt x="440" y="60"/>
                                </a:lnTo>
                                <a:lnTo>
                                  <a:pt x="418" y="10"/>
                                </a:lnTo>
                                <a:lnTo>
                                  <a:pt x="335" y="0"/>
                                </a:lnTo>
                                <a:lnTo>
                                  <a:pt x="208" y="1"/>
                                </a:lnTo>
                                <a:lnTo>
                                  <a:pt x="148" y="1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bfb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594" name=""/>
                          <p:cNvGrpSpPr/>
                          <p:nvPr/>
                        </p:nvGrpSpPr>
                        <p:grpSpPr>
                          <a:xfrm>
                            <a:off x="4839840" y="3096000"/>
                            <a:ext cx="23400" cy="37080"/>
                            <a:chOff x="4839840" y="3096000"/>
                            <a:chExt cx="23400" cy="37080"/>
                          </a:xfrm>
                        </p:grpSpPr>
                        <p:sp>
                          <p:nvSpPr>
                            <p:cNvPr id="1595" name=""/>
                            <p:cNvSpPr/>
                            <p:nvPr/>
                          </p:nvSpPr>
                          <p:spPr>
                            <a:xfrm>
                              <a:off x="4839840" y="3096000"/>
                              <a:ext cx="18360" cy="237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1" h="89">
                                  <a:moveTo>
                                    <a:pt x="0" y="37"/>
                                  </a:moveTo>
                                  <a:lnTo>
                                    <a:pt x="6" y="18"/>
                                  </a:lnTo>
                                  <a:lnTo>
                                    <a:pt x="11" y="5"/>
                                  </a:lnTo>
                                  <a:lnTo>
                                    <a:pt x="16" y="2"/>
                                  </a:lnTo>
                                  <a:lnTo>
                                    <a:pt x="24" y="0"/>
                                  </a:lnTo>
                                  <a:lnTo>
                                    <a:pt x="34" y="0"/>
                                  </a:lnTo>
                                  <a:lnTo>
                                    <a:pt x="44" y="2"/>
                                  </a:lnTo>
                                  <a:lnTo>
                                    <a:pt x="51" y="7"/>
                                  </a:lnTo>
                                  <a:lnTo>
                                    <a:pt x="56" y="16"/>
                                  </a:lnTo>
                                  <a:lnTo>
                                    <a:pt x="60" y="31"/>
                                  </a:lnTo>
                                  <a:lnTo>
                                    <a:pt x="61" y="44"/>
                                  </a:lnTo>
                                  <a:lnTo>
                                    <a:pt x="58" y="62"/>
                                  </a:lnTo>
                                  <a:lnTo>
                                    <a:pt x="55" y="78"/>
                                  </a:lnTo>
                                  <a:lnTo>
                                    <a:pt x="47" y="89"/>
                                  </a:lnTo>
                                  <a:lnTo>
                                    <a:pt x="44" y="76"/>
                                  </a:lnTo>
                                  <a:lnTo>
                                    <a:pt x="51" y="64"/>
                                  </a:lnTo>
                                  <a:lnTo>
                                    <a:pt x="46" y="49"/>
                                  </a:lnTo>
                                  <a:lnTo>
                                    <a:pt x="40" y="55"/>
                                  </a:lnTo>
                                  <a:lnTo>
                                    <a:pt x="27" y="61"/>
                                  </a:lnTo>
                                  <a:lnTo>
                                    <a:pt x="22" y="48"/>
                                  </a:lnTo>
                                  <a:lnTo>
                                    <a:pt x="33" y="43"/>
                                  </a:lnTo>
                                  <a:lnTo>
                                    <a:pt x="44" y="41"/>
                                  </a:lnTo>
                                  <a:lnTo>
                                    <a:pt x="44" y="32"/>
                                  </a:lnTo>
                                  <a:lnTo>
                                    <a:pt x="43" y="22"/>
                                  </a:lnTo>
                                  <a:lnTo>
                                    <a:pt x="49" y="23"/>
                                  </a:lnTo>
                                  <a:lnTo>
                                    <a:pt x="47" y="10"/>
                                  </a:lnTo>
                                  <a:lnTo>
                                    <a:pt x="45" y="7"/>
                                  </a:lnTo>
                                  <a:lnTo>
                                    <a:pt x="35" y="5"/>
                                  </a:lnTo>
                                  <a:lnTo>
                                    <a:pt x="18" y="7"/>
                                  </a:lnTo>
                                  <a:lnTo>
                                    <a:pt x="10" y="20"/>
                                  </a:lnTo>
                                  <a:lnTo>
                                    <a:pt x="0" y="37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df9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3040" bIns="-230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96" name=""/>
                            <p:cNvSpPr/>
                            <p:nvPr/>
                          </p:nvSpPr>
                          <p:spPr>
                            <a:xfrm>
                              <a:off x="4847760" y="3119760"/>
                              <a:ext cx="15480" cy="13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4" h="50">
                                  <a:moveTo>
                                    <a:pt x="40" y="0"/>
                                  </a:moveTo>
                                  <a:lnTo>
                                    <a:pt x="32" y="17"/>
                                  </a:lnTo>
                                  <a:lnTo>
                                    <a:pt x="29" y="25"/>
                                  </a:lnTo>
                                  <a:lnTo>
                                    <a:pt x="21" y="31"/>
                                  </a:lnTo>
                                  <a:lnTo>
                                    <a:pt x="12" y="32"/>
                                  </a:lnTo>
                                  <a:lnTo>
                                    <a:pt x="0" y="32"/>
                                  </a:lnTo>
                                  <a:lnTo>
                                    <a:pt x="26" y="35"/>
                                  </a:lnTo>
                                  <a:lnTo>
                                    <a:pt x="42" y="42"/>
                                  </a:lnTo>
                                  <a:lnTo>
                                    <a:pt x="54" y="50"/>
                                  </a:lnTo>
                                  <a:lnTo>
                                    <a:pt x="43" y="33"/>
                                  </a:lnTo>
                                  <a:lnTo>
                                    <a:pt x="41" y="17"/>
                                  </a:lnTo>
                                  <a:lnTo>
                                    <a:pt x="4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df9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3480" bIns="-334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597" name=""/>
                          <p:cNvSpPr/>
                          <p:nvPr/>
                        </p:nvSpPr>
                        <p:spPr>
                          <a:xfrm>
                            <a:off x="4808520" y="3117960"/>
                            <a:ext cx="12960" cy="17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7" h="67">
                                <a:moveTo>
                                  <a:pt x="8" y="0"/>
                                </a:moveTo>
                                <a:lnTo>
                                  <a:pt x="14" y="6"/>
                                </a:lnTo>
                                <a:lnTo>
                                  <a:pt x="15" y="13"/>
                                </a:lnTo>
                                <a:lnTo>
                                  <a:pt x="13" y="19"/>
                                </a:lnTo>
                                <a:lnTo>
                                  <a:pt x="8" y="25"/>
                                </a:lnTo>
                                <a:lnTo>
                                  <a:pt x="0" y="30"/>
                                </a:lnTo>
                                <a:lnTo>
                                  <a:pt x="7" y="35"/>
                                </a:lnTo>
                                <a:lnTo>
                                  <a:pt x="17" y="38"/>
                                </a:lnTo>
                                <a:lnTo>
                                  <a:pt x="27" y="43"/>
                                </a:lnTo>
                                <a:lnTo>
                                  <a:pt x="47" y="67"/>
                                </a:lnTo>
                                <a:lnTo>
                                  <a:pt x="22" y="29"/>
                                </a:lnTo>
                                <a:lnTo>
                                  <a:pt x="19" y="21"/>
                                </a:lnTo>
                                <a:lnTo>
                                  <a:pt x="19" y="12"/>
                                </a:lnTo>
                                <a:lnTo>
                                  <a:pt x="21" y="7"/>
                                </a:lnTo>
                                <a:lnTo>
                                  <a:pt x="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df9f7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598" name=""/>
                        <p:cNvGrpSpPr/>
                        <p:nvPr/>
                      </p:nvGrpSpPr>
                      <p:grpSpPr>
                        <a:xfrm>
                          <a:off x="4766040" y="2997000"/>
                          <a:ext cx="185760" cy="177480"/>
                          <a:chOff x="4766040" y="2997000"/>
                          <a:chExt cx="185760" cy="177480"/>
                        </a:xfrm>
                      </p:grpSpPr>
                      <p:sp>
                        <p:nvSpPr>
                          <p:cNvPr id="1599" name=""/>
                          <p:cNvSpPr/>
                          <p:nvPr/>
                        </p:nvSpPr>
                        <p:spPr>
                          <a:xfrm>
                            <a:off x="4766040" y="2997000"/>
                            <a:ext cx="185760" cy="177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0" h="673">
                                <a:moveTo>
                                  <a:pt x="307" y="0"/>
                                </a:moveTo>
                                <a:lnTo>
                                  <a:pt x="278" y="1"/>
                                </a:lnTo>
                                <a:lnTo>
                                  <a:pt x="256" y="5"/>
                                </a:lnTo>
                                <a:lnTo>
                                  <a:pt x="231" y="10"/>
                                </a:lnTo>
                                <a:lnTo>
                                  <a:pt x="203" y="20"/>
                                </a:lnTo>
                                <a:lnTo>
                                  <a:pt x="180" y="29"/>
                                </a:lnTo>
                                <a:lnTo>
                                  <a:pt x="154" y="51"/>
                                </a:lnTo>
                                <a:lnTo>
                                  <a:pt x="129" y="74"/>
                                </a:lnTo>
                                <a:lnTo>
                                  <a:pt x="106" y="98"/>
                                </a:lnTo>
                                <a:lnTo>
                                  <a:pt x="55" y="130"/>
                                </a:lnTo>
                                <a:lnTo>
                                  <a:pt x="37" y="142"/>
                                </a:lnTo>
                                <a:lnTo>
                                  <a:pt x="23" y="155"/>
                                </a:lnTo>
                                <a:lnTo>
                                  <a:pt x="15" y="167"/>
                                </a:lnTo>
                                <a:lnTo>
                                  <a:pt x="5" y="181"/>
                                </a:lnTo>
                                <a:lnTo>
                                  <a:pt x="1" y="195"/>
                                </a:lnTo>
                                <a:lnTo>
                                  <a:pt x="0" y="210"/>
                                </a:lnTo>
                                <a:lnTo>
                                  <a:pt x="0" y="225"/>
                                </a:lnTo>
                                <a:lnTo>
                                  <a:pt x="4" y="243"/>
                                </a:lnTo>
                                <a:lnTo>
                                  <a:pt x="14" y="263"/>
                                </a:lnTo>
                                <a:lnTo>
                                  <a:pt x="22" y="273"/>
                                </a:lnTo>
                                <a:lnTo>
                                  <a:pt x="33" y="282"/>
                                </a:lnTo>
                                <a:lnTo>
                                  <a:pt x="49" y="286"/>
                                </a:lnTo>
                                <a:lnTo>
                                  <a:pt x="66" y="290"/>
                                </a:lnTo>
                                <a:lnTo>
                                  <a:pt x="90" y="295"/>
                                </a:lnTo>
                                <a:lnTo>
                                  <a:pt x="76" y="276"/>
                                </a:lnTo>
                                <a:lnTo>
                                  <a:pt x="71" y="258"/>
                                </a:lnTo>
                                <a:lnTo>
                                  <a:pt x="72" y="237"/>
                                </a:lnTo>
                                <a:lnTo>
                                  <a:pt x="77" y="216"/>
                                </a:lnTo>
                                <a:lnTo>
                                  <a:pt x="84" y="203"/>
                                </a:lnTo>
                                <a:lnTo>
                                  <a:pt x="94" y="189"/>
                                </a:lnTo>
                                <a:lnTo>
                                  <a:pt x="106" y="177"/>
                                </a:lnTo>
                                <a:lnTo>
                                  <a:pt x="121" y="167"/>
                                </a:lnTo>
                                <a:lnTo>
                                  <a:pt x="139" y="157"/>
                                </a:lnTo>
                                <a:lnTo>
                                  <a:pt x="197" y="140"/>
                                </a:lnTo>
                                <a:lnTo>
                                  <a:pt x="186" y="151"/>
                                </a:lnTo>
                                <a:lnTo>
                                  <a:pt x="178" y="158"/>
                                </a:lnTo>
                                <a:lnTo>
                                  <a:pt x="166" y="163"/>
                                </a:lnTo>
                                <a:lnTo>
                                  <a:pt x="147" y="169"/>
                                </a:lnTo>
                                <a:lnTo>
                                  <a:pt x="135" y="172"/>
                                </a:lnTo>
                                <a:lnTo>
                                  <a:pt x="122" y="181"/>
                                </a:lnTo>
                                <a:lnTo>
                                  <a:pt x="116" y="191"/>
                                </a:lnTo>
                                <a:lnTo>
                                  <a:pt x="111" y="202"/>
                                </a:lnTo>
                                <a:lnTo>
                                  <a:pt x="108" y="214"/>
                                </a:lnTo>
                                <a:lnTo>
                                  <a:pt x="108" y="226"/>
                                </a:lnTo>
                                <a:lnTo>
                                  <a:pt x="113" y="241"/>
                                </a:lnTo>
                                <a:lnTo>
                                  <a:pt x="117" y="262"/>
                                </a:lnTo>
                                <a:lnTo>
                                  <a:pt x="127" y="280"/>
                                </a:lnTo>
                                <a:lnTo>
                                  <a:pt x="141" y="311"/>
                                </a:lnTo>
                                <a:lnTo>
                                  <a:pt x="167" y="371"/>
                                </a:lnTo>
                                <a:lnTo>
                                  <a:pt x="185" y="404"/>
                                </a:lnTo>
                                <a:lnTo>
                                  <a:pt x="206" y="412"/>
                                </a:lnTo>
                                <a:lnTo>
                                  <a:pt x="211" y="441"/>
                                </a:lnTo>
                                <a:lnTo>
                                  <a:pt x="214" y="515"/>
                                </a:lnTo>
                                <a:lnTo>
                                  <a:pt x="218" y="536"/>
                                </a:lnTo>
                                <a:lnTo>
                                  <a:pt x="220" y="554"/>
                                </a:lnTo>
                                <a:lnTo>
                                  <a:pt x="220" y="566"/>
                                </a:lnTo>
                                <a:lnTo>
                                  <a:pt x="210" y="579"/>
                                </a:lnTo>
                                <a:lnTo>
                                  <a:pt x="196" y="587"/>
                                </a:lnTo>
                                <a:lnTo>
                                  <a:pt x="179" y="596"/>
                                </a:lnTo>
                                <a:lnTo>
                                  <a:pt x="166" y="607"/>
                                </a:lnTo>
                                <a:lnTo>
                                  <a:pt x="163" y="614"/>
                                </a:lnTo>
                                <a:lnTo>
                                  <a:pt x="163" y="625"/>
                                </a:lnTo>
                                <a:lnTo>
                                  <a:pt x="166" y="633"/>
                                </a:lnTo>
                                <a:lnTo>
                                  <a:pt x="169" y="640"/>
                                </a:lnTo>
                                <a:lnTo>
                                  <a:pt x="173" y="649"/>
                                </a:lnTo>
                                <a:lnTo>
                                  <a:pt x="182" y="660"/>
                                </a:lnTo>
                                <a:lnTo>
                                  <a:pt x="190" y="666"/>
                                </a:lnTo>
                                <a:lnTo>
                                  <a:pt x="200" y="669"/>
                                </a:lnTo>
                                <a:lnTo>
                                  <a:pt x="211" y="672"/>
                                </a:lnTo>
                                <a:lnTo>
                                  <a:pt x="225" y="673"/>
                                </a:lnTo>
                                <a:lnTo>
                                  <a:pt x="236" y="672"/>
                                </a:lnTo>
                                <a:lnTo>
                                  <a:pt x="250" y="668"/>
                                </a:lnTo>
                                <a:lnTo>
                                  <a:pt x="261" y="664"/>
                                </a:lnTo>
                                <a:lnTo>
                                  <a:pt x="273" y="657"/>
                                </a:lnTo>
                                <a:lnTo>
                                  <a:pt x="287" y="648"/>
                                </a:lnTo>
                                <a:lnTo>
                                  <a:pt x="296" y="642"/>
                                </a:lnTo>
                                <a:lnTo>
                                  <a:pt x="295" y="613"/>
                                </a:lnTo>
                                <a:lnTo>
                                  <a:pt x="285" y="514"/>
                                </a:lnTo>
                                <a:lnTo>
                                  <a:pt x="253" y="458"/>
                                </a:lnTo>
                                <a:lnTo>
                                  <a:pt x="245" y="434"/>
                                </a:lnTo>
                                <a:lnTo>
                                  <a:pt x="240" y="411"/>
                                </a:lnTo>
                                <a:lnTo>
                                  <a:pt x="246" y="398"/>
                                </a:lnTo>
                                <a:lnTo>
                                  <a:pt x="253" y="383"/>
                                </a:lnTo>
                                <a:lnTo>
                                  <a:pt x="263" y="373"/>
                                </a:lnTo>
                                <a:lnTo>
                                  <a:pt x="278" y="367"/>
                                </a:lnTo>
                                <a:lnTo>
                                  <a:pt x="291" y="369"/>
                                </a:lnTo>
                                <a:lnTo>
                                  <a:pt x="307" y="373"/>
                                </a:lnTo>
                                <a:lnTo>
                                  <a:pt x="323" y="385"/>
                                </a:lnTo>
                                <a:lnTo>
                                  <a:pt x="329" y="396"/>
                                </a:lnTo>
                                <a:lnTo>
                                  <a:pt x="334" y="413"/>
                                </a:lnTo>
                                <a:lnTo>
                                  <a:pt x="335" y="430"/>
                                </a:lnTo>
                                <a:lnTo>
                                  <a:pt x="331" y="446"/>
                                </a:lnTo>
                                <a:lnTo>
                                  <a:pt x="328" y="460"/>
                                </a:lnTo>
                                <a:lnTo>
                                  <a:pt x="328" y="471"/>
                                </a:lnTo>
                                <a:lnTo>
                                  <a:pt x="335" y="480"/>
                                </a:lnTo>
                                <a:lnTo>
                                  <a:pt x="454" y="559"/>
                                </a:lnTo>
                                <a:lnTo>
                                  <a:pt x="499" y="554"/>
                                </a:lnTo>
                                <a:lnTo>
                                  <a:pt x="552" y="551"/>
                                </a:lnTo>
                                <a:lnTo>
                                  <a:pt x="598" y="539"/>
                                </a:lnTo>
                                <a:lnTo>
                                  <a:pt x="617" y="520"/>
                                </a:lnTo>
                                <a:lnTo>
                                  <a:pt x="628" y="509"/>
                                </a:lnTo>
                                <a:lnTo>
                                  <a:pt x="633" y="492"/>
                                </a:lnTo>
                                <a:lnTo>
                                  <a:pt x="637" y="472"/>
                                </a:lnTo>
                                <a:lnTo>
                                  <a:pt x="640" y="438"/>
                                </a:lnTo>
                                <a:lnTo>
                                  <a:pt x="630" y="416"/>
                                </a:lnTo>
                                <a:lnTo>
                                  <a:pt x="625" y="359"/>
                                </a:lnTo>
                                <a:lnTo>
                                  <a:pt x="606" y="282"/>
                                </a:lnTo>
                                <a:lnTo>
                                  <a:pt x="592" y="222"/>
                                </a:lnTo>
                                <a:lnTo>
                                  <a:pt x="563" y="163"/>
                                </a:lnTo>
                                <a:lnTo>
                                  <a:pt x="537" y="113"/>
                                </a:lnTo>
                                <a:lnTo>
                                  <a:pt x="522" y="88"/>
                                </a:lnTo>
                                <a:lnTo>
                                  <a:pt x="500" y="59"/>
                                </a:lnTo>
                                <a:lnTo>
                                  <a:pt x="482" y="43"/>
                                </a:lnTo>
                                <a:lnTo>
                                  <a:pt x="444" y="24"/>
                                </a:lnTo>
                                <a:lnTo>
                                  <a:pt x="412" y="10"/>
                                </a:lnTo>
                                <a:lnTo>
                                  <a:pt x="375" y="2"/>
                                </a:lnTo>
                                <a:lnTo>
                                  <a:pt x="340" y="0"/>
                                </a:lnTo>
                                <a:lnTo>
                                  <a:pt x="307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5f3f1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00" name=""/>
                          <p:cNvSpPr/>
                          <p:nvPr/>
                        </p:nvSpPr>
                        <p:spPr>
                          <a:xfrm>
                            <a:off x="4785120" y="3087360"/>
                            <a:ext cx="15480" cy="9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5" h="37">
                                <a:moveTo>
                                  <a:pt x="2" y="0"/>
                                </a:moveTo>
                                <a:lnTo>
                                  <a:pt x="1" y="7"/>
                                </a:lnTo>
                                <a:lnTo>
                                  <a:pt x="0" y="17"/>
                                </a:lnTo>
                                <a:lnTo>
                                  <a:pt x="4" y="23"/>
                                </a:lnTo>
                                <a:lnTo>
                                  <a:pt x="11" y="28"/>
                                </a:lnTo>
                                <a:lnTo>
                                  <a:pt x="23" y="30"/>
                                </a:lnTo>
                                <a:lnTo>
                                  <a:pt x="35" y="31"/>
                                </a:lnTo>
                                <a:lnTo>
                                  <a:pt x="49" y="35"/>
                                </a:lnTo>
                                <a:lnTo>
                                  <a:pt x="55" y="37"/>
                                </a:lnTo>
                                <a:lnTo>
                                  <a:pt x="55" y="29"/>
                                </a:lnTo>
                                <a:lnTo>
                                  <a:pt x="42" y="18"/>
                                </a:lnTo>
                                <a:lnTo>
                                  <a:pt x="32" y="11"/>
                                </a:lnTo>
                                <a:lnTo>
                                  <a:pt x="19" y="5"/>
                                </a:lnTo>
                                <a:lnTo>
                                  <a:pt x="13" y="3"/>
                                </a:lnTo>
                                <a:lnTo>
                                  <a:pt x="2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5f3f1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440" bIns="-374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01" name=""/>
                          <p:cNvSpPr/>
                          <p:nvPr/>
                        </p:nvSpPr>
                        <p:spPr>
                          <a:xfrm>
                            <a:off x="4791240" y="3098520"/>
                            <a:ext cx="8640" cy="3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2" h="13">
                                <a:moveTo>
                                  <a:pt x="18" y="0"/>
                                </a:moveTo>
                                <a:lnTo>
                                  <a:pt x="14" y="6"/>
                                </a:lnTo>
                                <a:lnTo>
                                  <a:pt x="8" y="8"/>
                                </a:lnTo>
                                <a:lnTo>
                                  <a:pt x="0" y="9"/>
                                </a:lnTo>
                                <a:lnTo>
                                  <a:pt x="9" y="13"/>
                                </a:lnTo>
                                <a:lnTo>
                                  <a:pt x="24" y="13"/>
                                </a:lnTo>
                                <a:lnTo>
                                  <a:pt x="32" y="13"/>
                                </a:lnTo>
                                <a:lnTo>
                                  <a:pt x="1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5f3f1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02" name=""/>
                          <p:cNvSpPr/>
                          <p:nvPr/>
                        </p:nvSpPr>
                        <p:spPr>
                          <a:xfrm>
                            <a:off x="4799160" y="3126960"/>
                            <a:ext cx="17280" cy="180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0" h="69">
                                <a:moveTo>
                                  <a:pt x="9" y="1"/>
                                </a:moveTo>
                                <a:lnTo>
                                  <a:pt x="3" y="10"/>
                                </a:lnTo>
                                <a:lnTo>
                                  <a:pt x="1" y="17"/>
                                </a:lnTo>
                                <a:lnTo>
                                  <a:pt x="0" y="26"/>
                                </a:lnTo>
                                <a:lnTo>
                                  <a:pt x="0" y="34"/>
                                </a:lnTo>
                                <a:lnTo>
                                  <a:pt x="2" y="44"/>
                                </a:lnTo>
                                <a:lnTo>
                                  <a:pt x="4" y="53"/>
                                </a:lnTo>
                                <a:lnTo>
                                  <a:pt x="9" y="57"/>
                                </a:lnTo>
                                <a:lnTo>
                                  <a:pt x="14" y="61"/>
                                </a:lnTo>
                                <a:lnTo>
                                  <a:pt x="21" y="61"/>
                                </a:lnTo>
                                <a:lnTo>
                                  <a:pt x="30" y="61"/>
                                </a:lnTo>
                                <a:lnTo>
                                  <a:pt x="45" y="63"/>
                                </a:lnTo>
                                <a:lnTo>
                                  <a:pt x="60" y="69"/>
                                </a:lnTo>
                                <a:lnTo>
                                  <a:pt x="60" y="61"/>
                                </a:lnTo>
                                <a:lnTo>
                                  <a:pt x="56" y="50"/>
                                </a:lnTo>
                                <a:lnTo>
                                  <a:pt x="54" y="39"/>
                                </a:lnTo>
                                <a:lnTo>
                                  <a:pt x="47" y="28"/>
                                </a:lnTo>
                                <a:lnTo>
                                  <a:pt x="42" y="22"/>
                                </a:lnTo>
                                <a:lnTo>
                                  <a:pt x="35" y="15"/>
                                </a:lnTo>
                                <a:lnTo>
                                  <a:pt x="29" y="9"/>
                                </a:lnTo>
                                <a:lnTo>
                                  <a:pt x="24" y="5"/>
                                </a:lnTo>
                                <a:lnTo>
                                  <a:pt x="20" y="0"/>
                                </a:lnTo>
                                <a:lnTo>
                                  <a:pt x="9" y="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5f3f1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0" bIns="-28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03" name=""/>
                          <p:cNvSpPr/>
                          <p:nvPr/>
                        </p:nvSpPr>
                        <p:spPr>
                          <a:xfrm>
                            <a:off x="4769280" y="3027960"/>
                            <a:ext cx="41760" cy="37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6" h="146">
                                <a:moveTo>
                                  <a:pt x="146" y="0"/>
                                </a:moveTo>
                                <a:lnTo>
                                  <a:pt x="121" y="11"/>
                                </a:lnTo>
                                <a:lnTo>
                                  <a:pt x="100" y="14"/>
                                </a:lnTo>
                                <a:lnTo>
                                  <a:pt x="79" y="20"/>
                                </a:lnTo>
                                <a:lnTo>
                                  <a:pt x="61" y="27"/>
                                </a:lnTo>
                                <a:lnTo>
                                  <a:pt x="43" y="35"/>
                                </a:lnTo>
                                <a:lnTo>
                                  <a:pt x="28" y="47"/>
                                </a:lnTo>
                                <a:lnTo>
                                  <a:pt x="19" y="59"/>
                                </a:lnTo>
                                <a:lnTo>
                                  <a:pt x="11" y="70"/>
                                </a:lnTo>
                                <a:lnTo>
                                  <a:pt x="5" y="80"/>
                                </a:lnTo>
                                <a:lnTo>
                                  <a:pt x="0" y="92"/>
                                </a:lnTo>
                                <a:lnTo>
                                  <a:pt x="8" y="84"/>
                                </a:lnTo>
                                <a:lnTo>
                                  <a:pt x="8" y="98"/>
                                </a:lnTo>
                                <a:lnTo>
                                  <a:pt x="8" y="119"/>
                                </a:lnTo>
                                <a:lnTo>
                                  <a:pt x="11" y="131"/>
                                </a:lnTo>
                                <a:lnTo>
                                  <a:pt x="19" y="146"/>
                                </a:lnTo>
                                <a:lnTo>
                                  <a:pt x="26" y="120"/>
                                </a:lnTo>
                                <a:lnTo>
                                  <a:pt x="33" y="95"/>
                                </a:lnTo>
                                <a:lnTo>
                                  <a:pt x="43" y="73"/>
                                </a:lnTo>
                                <a:lnTo>
                                  <a:pt x="55" y="53"/>
                                </a:lnTo>
                                <a:lnTo>
                                  <a:pt x="70" y="40"/>
                                </a:lnTo>
                                <a:lnTo>
                                  <a:pt x="83" y="30"/>
                                </a:lnTo>
                                <a:lnTo>
                                  <a:pt x="101" y="21"/>
                                </a:lnTo>
                                <a:lnTo>
                                  <a:pt x="146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5f3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9000" bIns="-9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604" name=""/>
                      <p:cNvSpPr/>
                      <p:nvPr/>
                    </p:nvSpPr>
                    <p:spPr>
                      <a:xfrm>
                        <a:off x="4869720" y="3138120"/>
                        <a:ext cx="52200" cy="10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2" h="381">
                            <a:moveTo>
                              <a:pt x="182" y="0"/>
                            </a:moveTo>
                            <a:lnTo>
                              <a:pt x="40" y="247"/>
                            </a:lnTo>
                            <a:lnTo>
                              <a:pt x="0" y="381"/>
                            </a:lnTo>
                            <a:lnTo>
                              <a:pt x="62" y="233"/>
                            </a:lnTo>
                            <a:lnTo>
                              <a:pt x="182" y="0"/>
                            </a:lnTo>
                            <a:close/>
                          </a:path>
                        </a:pathLst>
                      </a:custGeom>
                      <a:solidFill>
                        <a:srgbClr val="3f3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5" name=""/>
                      <p:cNvSpPr/>
                      <p:nvPr/>
                    </p:nvSpPr>
                    <p:spPr>
                      <a:xfrm>
                        <a:off x="4816440" y="3208680"/>
                        <a:ext cx="19800" cy="44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168">
                            <a:moveTo>
                              <a:pt x="37" y="0"/>
                            </a:moveTo>
                            <a:lnTo>
                              <a:pt x="38" y="129"/>
                            </a:lnTo>
                            <a:lnTo>
                              <a:pt x="70" y="168"/>
                            </a:lnTo>
                            <a:lnTo>
                              <a:pt x="23" y="134"/>
                            </a:lnTo>
                            <a:lnTo>
                              <a:pt x="0" y="154"/>
                            </a:lnTo>
                            <a:lnTo>
                              <a:pt x="15" y="105"/>
                            </a:lnTo>
                            <a:lnTo>
                              <a:pt x="22" y="27"/>
                            </a:lnTo>
                            <a:lnTo>
                              <a:pt x="37" y="0"/>
                            </a:lnTo>
                            <a:close/>
                          </a:path>
                        </a:pathLst>
                      </a:custGeom>
                      <a:solidFill>
                        <a:srgbClr val="3f3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" bIns="-2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606" name=""/>
                    <p:cNvSpPr/>
                    <p:nvPr/>
                  </p:nvSpPr>
                  <p:spPr>
                    <a:xfrm>
                      <a:off x="4793760" y="3271320"/>
                      <a:ext cx="3060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81">
                          <a:moveTo>
                            <a:pt x="63" y="0"/>
                          </a:moveTo>
                          <a:lnTo>
                            <a:pt x="103" y="93"/>
                          </a:lnTo>
                          <a:lnTo>
                            <a:pt x="105" y="181"/>
                          </a:lnTo>
                          <a:lnTo>
                            <a:pt x="87" y="82"/>
                          </a:lnTo>
                          <a:lnTo>
                            <a:pt x="62" y="40"/>
                          </a:lnTo>
                          <a:lnTo>
                            <a:pt x="0" y="76"/>
                          </a:lnTo>
                          <a:lnTo>
                            <a:pt x="37" y="45"/>
                          </a:lnTo>
                          <a:lnTo>
                            <a:pt x="63" y="0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07" name=""/>
                  <p:cNvSpPr/>
                  <p:nvPr/>
                </p:nvSpPr>
                <p:spPr>
                  <a:xfrm>
                    <a:off x="4634640" y="3348360"/>
                    <a:ext cx="216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120">
                        <a:moveTo>
                          <a:pt x="53" y="0"/>
                        </a:moveTo>
                        <a:lnTo>
                          <a:pt x="2" y="98"/>
                        </a:lnTo>
                        <a:lnTo>
                          <a:pt x="0" y="120"/>
                        </a:lnTo>
                        <a:lnTo>
                          <a:pt x="18" y="105"/>
                        </a:lnTo>
                        <a:lnTo>
                          <a:pt x="75" y="6"/>
                        </a:lnTo>
                        <a:lnTo>
                          <a:pt x="66" y="5"/>
                        </a:lnTo>
                        <a:lnTo>
                          <a:pt x="58" y="2"/>
                        </a:lnTo>
                        <a:lnTo>
                          <a:pt x="53" y="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8" name=""/>
                  <p:cNvGrpSpPr/>
                  <p:nvPr/>
                </p:nvGrpSpPr>
                <p:grpSpPr>
                  <a:xfrm>
                    <a:off x="4633920" y="3314880"/>
                    <a:ext cx="81720" cy="61200"/>
                    <a:chOff x="4633920" y="3314880"/>
                    <a:chExt cx="81720" cy="61200"/>
                  </a:xfrm>
                </p:grpSpPr>
                <p:grpSp>
                  <p:nvGrpSpPr>
                    <p:cNvPr id="1609" name=""/>
                    <p:cNvGrpSpPr/>
                    <p:nvPr/>
                  </p:nvGrpSpPr>
                  <p:grpSpPr>
                    <a:xfrm>
                      <a:off x="4633920" y="3314880"/>
                      <a:ext cx="76680" cy="61200"/>
                      <a:chOff x="4633920" y="3314880"/>
                      <a:chExt cx="76680" cy="61200"/>
                    </a:xfrm>
                  </p:grpSpPr>
                  <p:sp>
                    <p:nvSpPr>
                      <p:cNvPr id="1610" name=""/>
                      <p:cNvSpPr/>
                      <p:nvPr/>
                    </p:nvSpPr>
                    <p:spPr>
                      <a:xfrm>
                        <a:off x="4633920" y="3321720"/>
                        <a:ext cx="76680" cy="54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6" h="209">
                            <a:moveTo>
                              <a:pt x="197" y="29"/>
                            </a:moveTo>
                            <a:lnTo>
                              <a:pt x="181" y="32"/>
                            </a:lnTo>
                            <a:lnTo>
                              <a:pt x="168" y="25"/>
                            </a:lnTo>
                            <a:lnTo>
                              <a:pt x="151" y="17"/>
                            </a:lnTo>
                            <a:lnTo>
                              <a:pt x="134" y="11"/>
                            </a:lnTo>
                            <a:lnTo>
                              <a:pt x="107" y="4"/>
                            </a:lnTo>
                            <a:lnTo>
                              <a:pt x="92" y="0"/>
                            </a:lnTo>
                            <a:lnTo>
                              <a:pt x="41" y="12"/>
                            </a:lnTo>
                            <a:lnTo>
                              <a:pt x="33" y="17"/>
                            </a:lnTo>
                            <a:lnTo>
                              <a:pt x="25" y="22"/>
                            </a:lnTo>
                            <a:lnTo>
                              <a:pt x="19" y="31"/>
                            </a:lnTo>
                            <a:lnTo>
                              <a:pt x="14" y="44"/>
                            </a:lnTo>
                            <a:lnTo>
                              <a:pt x="9" y="64"/>
                            </a:lnTo>
                            <a:lnTo>
                              <a:pt x="5" y="90"/>
                            </a:lnTo>
                            <a:lnTo>
                              <a:pt x="3" y="113"/>
                            </a:lnTo>
                            <a:lnTo>
                              <a:pt x="0" y="130"/>
                            </a:lnTo>
                            <a:lnTo>
                              <a:pt x="0" y="140"/>
                            </a:lnTo>
                            <a:lnTo>
                              <a:pt x="3" y="148"/>
                            </a:lnTo>
                            <a:lnTo>
                              <a:pt x="5" y="155"/>
                            </a:lnTo>
                            <a:lnTo>
                              <a:pt x="11" y="165"/>
                            </a:lnTo>
                            <a:lnTo>
                              <a:pt x="34" y="188"/>
                            </a:lnTo>
                            <a:lnTo>
                              <a:pt x="45" y="194"/>
                            </a:lnTo>
                            <a:lnTo>
                              <a:pt x="64" y="204"/>
                            </a:lnTo>
                            <a:lnTo>
                              <a:pt x="76" y="209"/>
                            </a:lnTo>
                            <a:lnTo>
                              <a:pt x="86" y="205"/>
                            </a:lnTo>
                            <a:lnTo>
                              <a:pt x="89" y="198"/>
                            </a:lnTo>
                            <a:lnTo>
                              <a:pt x="99" y="198"/>
                            </a:lnTo>
                            <a:lnTo>
                              <a:pt x="110" y="198"/>
                            </a:lnTo>
                            <a:lnTo>
                              <a:pt x="125" y="201"/>
                            </a:lnTo>
                            <a:lnTo>
                              <a:pt x="134" y="202"/>
                            </a:lnTo>
                            <a:lnTo>
                              <a:pt x="137" y="194"/>
                            </a:lnTo>
                            <a:lnTo>
                              <a:pt x="140" y="188"/>
                            </a:lnTo>
                            <a:lnTo>
                              <a:pt x="148" y="191"/>
                            </a:lnTo>
                            <a:lnTo>
                              <a:pt x="158" y="191"/>
                            </a:lnTo>
                            <a:lnTo>
                              <a:pt x="162" y="185"/>
                            </a:lnTo>
                            <a:lnTo>
                              <a:pt x="165" y="178"/>
                            </a:lnTo>
                            <a:lnTo>
                              <a:pt x="168" y="168"/>
                            </a:lnTo>
                            <a:lnTo>
                              <a:pt x="183" y="170"/>
                            </a:lnTo>
                            <a:lnTo>
                              <a:pt x="198" y="170"/>
                            </a:lnTo>
                            <a:lnTo>
                              <a:pt x="208" y="166"/>
                            </a:lnTo>
                            <a:lnTo>
                              <a:pt x="218" y="161"/>
                            </a:lnTo>
                            <a:lnTo>
                              <a:pt x="225" y="154"/>
                            </a:lnTo>
                            <a:lnTo>
                              <a:pt x="233" y="145"/>
                            </a:lnTo>
                            <a:lnTo>
                              <a:pt x="260" y="139"/>
                            </a:lnTo>
                            <a:lnTo>
                              <a:pt x="265" y="107"/>
                            </a:lnTo>
                            <a:lnTo>
                              <a:pt x="266" y="86"/>
                            </a:lnTo>
                            <a:lnTo>
                              <a:pt x="259" y="62"/>
                            </a:lnTo>
                            <a:lnTo>
                              <a:pt x="250" y="47"/>
                            </a:lnTo>
                            <a:lnTo>
                              <a:pt x="241" y="39"/>
                            </a:lnTo>
                            <a:lnTo>
                              <a:pt x="226" y="31"/>
                            </a:lnTo>
                            <a:lnTo>
                              <a:pt x="208" y="25"/>
                            </a:lnTo>
                            <a:lnTo>
                              <a:pt x="197" y="29"/>
                            </a:lnTo>
                            <a:close/>
                          </a:path>
                        </a:pathLst>
                      </a:custGeom>
                      <a:solidFill>
                        <a:srgbClr val="ffb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1" name=""/>
                      <p:cNvSpPr/>
                      <p:nvPr/>
                    </p:nvSpPr>
                    <p:spPr>
                      <a:xfrm>
                        <a:off x="4638960" y="3332880"/>
                        <a:ext cx="5292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2" h="151">
                            <a:moveTo>
                              <a:pt x="182" y="50"/>
                            </a:moveTo>
                            <a:lnTo>
                              <a:pt x="167" y="60"/>
                            </a:lnTo>
                            <a:lnTo>
                              <a:pt x="154" y="60"/>
                            </a:lnTo>
                            <a:lnTo>
                              <a:pt x="142" y="56"/>
                            </a:lnTo>
                            <a:lnTo>
                              <a:pt x="134" y="51"/>
                            </a:lnTo>
                            <a:lnTo>
                              <a:pt x="127" y="47"/>
                            </a:lnTo>
                            <a:lnTo>
                              <a:pt x="120" y="47"/>
                            </a:lnTo>
                            <a:lnTo>
                              <a:pt x="110" y="53"/>
                            </a:lnTo>
                            <a:lnTo>
                              <a:pt x="95" y="57"/>
                            </a:lnTo>
                            <a:lnTo>
                              <a:pt x="81" y="61"/>
                            </a:lnTo>
                            <a:lnTo>
                              <a:pt x="71" y="62"/>
                            </a:lnTo>
                            <a:lnTo>
                              <a:pt x="59" y="62"/>
                            </a:lnTo>
                            <a:lnTo>
                              <a:pt x="47" y="60"/>
                            </a:lnTo>
                            <a:lnTo>
                              <a:pt x="39" y="56"/>
                            </a:lnTo>
                            <a:lnTo>
                              <a:pt x="36" y="51"/>
                            </a:lnTo>
                            <a:lnTo>
                              <a:pt x="33" y="42"/>
                            </a:lnTo>
                            <a:lnTo>
                              <a:pt x="33" y="35"/>
                            </a:lnTo>
                            <a:lnTo>
                              <a:pt x="37" y="29"/>
                            </a:lnTo>
                            <a:lnTo>
                              <a:pt x="44" y="26"/>
                            </a:lnTo>
                            <a:lnTo>
                              <a:pt x="56" y="23"/>
                            </a:lnTo>
                            <a:lnTo>
                              <a:pt x="71" y="21"/>
                            </a:lnTo>
                            <a:lnTo>
                              <a:pt x="82" y="21"/>
                            </a:lnTo>
                            <a:lnTo>
                              <a:pt x="94" y="14"/>
                            </a:lnTo>
                            <a:lnTo>
                              <a:pt x="106" y="7"/>
                            </a:lnTo>
                            <a:lnTo>
                              <a:pt x="89" y="7"/>
                            </a:lnTo>
                            <a:lnTo>
                              <a:pt x="78" y="1"/>
                            </a:lnTo>
                            <a:lnTo>
                              <a:pt x="65" y="0"/>
                            </a:lnTo>
                            <a:lnTo>
                              <a:pt x="55" y="3"/>
                            </a:lnTo>
                            <a:lnTo>
                              <a:pt x="43" y="10"/>
                            </a:lnTo>
                            <a:lnTo>
                              <a:pt x="38" y="14"/>
                            </a:lnTo>
                            <a:lnTo>
                              <a:pt x="21" y="2"/>
                            </a:lnTo>
                            <a:lnTo>
                              <a:pt x="28" y="10"/>
                            </a:lnTo>
                            <a:lnTo>
                              <a:pt x="31" y="17"/>
                            </a:lnTo>
                            <a:lnTo>
                              <a:pt x="22" y="19"/>
                            </a:lnTo>
                            <a:lnTo>
                              <a:pt x="31" y="21"/>
                            </a:lnTo>
                            <a:lnTo>
                              <a:pt x="23" y="56"/>
                            </a:lnTo>
                            <a:lnTo>
                              <a:pt x="19" y="63"/>
                            </a:lnTo>
                            <a:lnTo>
                              <a:pt x="14" y="68"/>
                            </a:lnTo>
                            <a:lnTo>
                              <a:pt x="0" y="70"/>
                            </a:lnTo>
                            <a:lnTo>
                              <a:pt x="10" y="74"/>
                            </a:lnTo>
                            <a:lnTo>
                              <a:pt x="14" y="83"/>
                            </a:lnTo>
                            <a:lnTo>
                              <a:pt x="6" y="102"/>
                            </a:lnTo>
                            <a:lnTo>
                              <a:pt x="4" y="115"/>
                            </a:lnTo>
                            <a:lnTo>
                              <a:pt x="25" y="94"/>
                            </a:lnTo>
                            <a:lnTo>
                              <a:pt x="36" y="100"/>
                            </a:lnTo>
                            <a:lnTo>
                              <a:pt x="39" y="111"/>
                            </a:lnTo>
                            <a:lnTo>
                              <a:pt x="23" y="120"/>
                            </a:lnTo>
                            <a:lnTo>
                              <a:pt x="42" y="118"/>
                            </a:lnTo>
                            <a:lnTo>
                              <a:pt x="50" y="118"/>
                            </a:lnTo>
                            <a:lnTo>
                              <a:pt x="55" y="123"/>
                            </a:lnTo>
                            <a:lnTo>
                              <a:pt x="61" y="132"/>
                            </a:lnTo>
                            <a:lnTo>
                              <a:pt x="66" y="143"/>
                            </a:lnTo>
                            <a:lnTo>
                              <a:pt x="72" y="151"/>
                            </a:lnTo>
                            <a:lnTo>
                              <a:pt x="72" y="137"/>
                            </a:lnTo>
                            <a:lnTo>
                              <a:pt x="66" y="127"/>
                            </a:lnTo>
                            <a:lnTo>
                              <a:pt x="60" y="118"/>
                            </a:lnTo>
                            <a:lnTo>
                              <a:pt x="65" y="112"/>
                            </a:lnTo>
                            <a:lnTo>
                              <a:pt x="73" y="110"/>
                            </a:lnTo>
                            <a:lnTo>
                              <a:pt x="82" y="111"/>
                            </a:lnTo>
                            <a:lnTo>
                              <a:pt x="95" y="112"/>
                            </a:lnTo>
                            <a:lnTo>
                              <a:pt x="106" y="105"/>
                            </a:lnTo>
                            <a:lnTo>
                              <a:pt x="120" y="102"/>
                            </a:lnTo>
                            <a:lnTo>
                              <a:pt x="131" y="100"/>
                            </a:lnTo>
                            <a:lnTo>
                              <a:pt x="137" y="98"/>
                            </a:lnTo>
                            <a:lnTo>
                              <a:pt x="140" y="95"/>
                            </a:lnTo>
                            <a:lnTo>
                              <a:pt x="150" y="102"/>
                            </a:lnTo>
                            <a:lnTo>
                              <a:pt x="146" y="90"/>
                            </a:lnTo>
                            <a:lnTo>
                              <a:pt x="171" y="105"/>
                            </a:lnTo>
                            <a:lnTo>
                              <a:pt x="167" y="95"/>
                            </a:lnTo>
                            <a:lnTo>
                              <a:pt x="148" y="82"/>
                            </a:lnTo>
                            <a:lnTo>
                              <a:pt x="151" y="73"/>
                            </a:lnTo>
                            <a:lnTo>
                              <a:pt x="159" y="63"/>
                            </a:lnTo>
                            <a:lnTo>
                              <a:pt x="170" y="62"/>
                            </a:lnTo>
                            <a:lnTo>
                              <a:pt x="182" y="50"/>
                            </a:lnTo>
                            <a:close/>
                          </a:path>
                        </a:pathLst>
                      </a:custGeom>
                      <a:solidFill>
                        <a:srgbClr val="df9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2" name=""/>
                      <p:cNvSpPr/>
                      <p:nvPr/>
                    </p:nvSpPr>
                    <p:spPr>
                      <a:xfrm>
                        <a:off x="4656600" y="3314880"/>
                        <a:ext cx="1800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90">
                            <a:moveTo>
                              <a:pt x="56" y="0"/>
                            </a:moveTo>
                            <a:lnTo>
                              <a:pt x="43" y="3"/>
                            </a:lnTo>
                            <a:lnTo>
                              <a:pt x="41" y="10"/>
                            </a:lnTo>
                            <a:lnTo>
                              <a:pt x="0" y="90"/>
                            </a:lnTo>
                            <a:lnTo>
                              <a:pt x="21" y="88"/>
                            </a:lnTo>
                            <a:lnTo>
                              <a:pt x="63" y="16"/>
                            </a:lnTo>
                            <a:lnTo>
                              <a:pt x="64" y="4"/>
                            </a:lnTo>
                            <a:lnTo>
                              <a:pt x="56" y="0"/>
                            </a:lnTo>
                            <a:close/>
                          </a:path>
                        </a:pathLst>
                      </a:custGeom>
                      <a:solidFill>
                        <a:srgbClr val="3f3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3" name=""/>
                      <p:cNvSpPr/>
                      <p:nvPr/>
                    </p:nvSpPr>
                    <p:spPr>
                      <a:xfrm>
                        <a:off x="4693320" y="3335400"/>
                        <a:ext cx="1296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83">
                            <a:moveTo>
                              <a:pt x="0" y="0"/>
                            </a:moveTo>
                            <a:lnTo>
                              <a:pt x="9" y="12"/>
                            </a:lnTo>
                            <a:lnTo>
                              <a:pt x="14" y="22"/>
                            </a:lnTo>
                            <a:lnTo>
                              <a:pt x="17" y="35"/>
                            </a:lnTo>
                            <a:lnTo>
                              <a:pt x="18" y="48"/>
                            </a:lnTo>
                            <a:lnTo>
                              <a:pt x="17" y="62"/>
                            </a:lnTo>
                            <a:lnTo>
                              <a:pt x="12" y="83"/>
                            </a:lnTo>
                            <a:lnTo>
                              <a:pt x="28" y="45"/>
                            </a:lnTo>
                            <a:lnTo>
                              <a:pt x="38" y="33"/>
                            </a:lnTo>
                            <a:lnTo>
                              <a:pt x="45" y="22"/>
                            </a:lnTo>
                            <a:lnTo>
                              <a:pt x="33" y="18"/>
                            </a:lnTo>
                            <a:lnTo>
                              <a:pt x="21" y="9"/>
                            </a:lnTo>
                            <a:lnTo>
                              <a:pt x="12" y="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df9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4" name=""/>
                      <p:cNvSpPr/>
                      <p:nvPr/>
                    </p:nvSpPr>
                    <p:spPr>
                      <a:xfrm>
                        <a:off x="4663440" y="3317040"/>
                        <a:ext cx="1044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84">
                            <a:moveTo>
                              <a:pt x="36" y="7"/>
                            </a:moveTo>
                            <a:lnTo>
                              <a:pt x="38" y="10"/>
                            </a:lnTo>
                            <a:lnTo>
                              <a:pt x="4" y="84"/>
                            </a:lnTo>
                            <a:lnTo>
                              <a:pt x="0" y="76"/>
                            </a:lnTo>
                            <a:lnTo>
                              <a:pt x="2" y="69"/>
                            </a:lnTo>
                            <a:lnTo>
                              <a:pt x="6" y="63"/>
                            </a:lnTo>
                            <a:lnTo>
                              <a:pt x="12" y="61"/>
                            </a:lnTo>
                            <a:lnTo>
                              <a:pt x="35" y="10"/>
                            </a:lnTo>
                            <a:lnTo>
                              <a:pt x="18" y="2"/>
                            </a:lnTo>
                            <a:lnTo>
                              <a:pt x="18" y="0"/>
                            </a:lnTo>
                            <a:lnTo>
                              <a:pt x="36" y="7"/>
                            </a:lnTo>
                            <a:close/>
                          </a:path>
                        </a:pathLst>
                      </a:custGeom>
                      <a:solidFill>
                        <a:srgbClr val="9f9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615" name=""/>
                    <p:cNvSpPr/>
                    <p:nvPr/>
                  </p:nvSpPr>
                  <p:spPr>
                    <a:xfrm>
                      <a:off x="4686120" y="3326400"/>
                      <a:ext cx="2952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" h="132">
                          <a:moveTo>
                            <a:pt x="0" y="7"/>
                          </a:moveTo>
                          <a:lnTo>
                            <a:pt x="18" y="15"/>
                          </a:lnTo>
                          <a:lnTo>
                            <a:pt x="38" y="26"/>
                          </a:lnTo>
                          <a:lnTo>
                            <a:pt x="47" y="34"/>
                          </a:lnTo>
                          <a:lnTo>
                            <a:pt x="56" y="47"/>
                          </a:lnTo>
                          <a:lnTo>
                            <a:pt x="63" y="58"/>
                          </a:lnTo>
                          <a:lnTo>
                            <a:pt x="68" y="73"/>
                          </a:lnTo>
                          <a:lnTo>
                            <a:pt x="72" y="96"/>
                          </a:lnTo>
                          <a:lnTo>
                            <a:pt x="70" y="117"/>
                          </a:lnTo>
                          <a:lnTo>
                            <a:pt x="66" y="132"/>
                          </a:lnTo>
                          <a:lnTo>
                            <a:pt x="97" y="130"/>
                          </a:lnTo>
                          <a:lnTo>
                            <a:pt x="102" y="105"/>
                          </a:lnTo>
                          <a:lnTo>
                            <a:pt x="102" y="86"/>
                          </a:lnTo>
                          <a:lnTo>
                            <a:pt x="100" y="65"/>
                          </a:lnTo>
                          <a:lnTo>
                            <a:pt x="94" y="49"/>
                          </a:lnTo>
                          <a:lnTo>
                            <a:pt x="81" y="29"/>
                          </a:lnTo>
                          <a:lnTo>
                            <a:pt x="70" y="19"/>
                          </a:lnTo>
                          <a:lnTo>
                            <a:pt x="52" y="9"/>
                          </a:lnTo>
                          <a:lnTo>
                            <a:pt x="31" y="0"/>
                          </a:lnTo>
                          <a:lnTo>
                            <a:pt x="0" y="7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616" name=""/>
                <p:cNvGrpSpPr/>
                <p:nvPr/>
              </p:nvGrpSpPr>
              <p:grpSpPr>
                <a:xfrm>
                  <a:off x="3999960" y="3033360"/>
                  <a:ext cx="384840" cy="396720"/>
                  <a:chOff x="3999960" y="3033360"/>
                  <a:chExt cx="384840" cy="396720"/>
                </a:xfrm>
              </p:grpSpPr>
              <p:grpSp>
                <p:nvGrpSpPr>
                  <p:cNvPr id="1617" name=""/>
                  <p:cNvGrpSpPr/>
                  <p:nvPr/>
                </p:nvGrpSpPr>
                <p:grpSpPr>
                  <a:xfrm>
                    <a:off x="4124520" y="3238920"/>
                    <a:ext cx="79200" cy="136800"/>
                    <a:chOff x="4124520" y="3238920"/>
                    <a:chExt cx="79200" cy="136800"/>
                  </a:xfrm>
                </p:grpSpPr>
                <p:sp>
                  <p:nvSpPr>
                    <p:cNvPr id="1618" name=""/>
                    <p:cNvSpPr/>
                    <p:nvPr/>
                  </p:nvSpPr>
                  <p:spPr>
                    <a:xfrm>
                      <a:off x="4124520" y="3238920"/>
                      <a:ext cx="79200" cy="13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1" h="513">
                          <a:moveTo>
                            <a:pt x="0" y="0"/>
                          </a:moveTo>
                          <a:lnTo>
                            <a:pt x="26" y="14"/>
                          </a:lnTo>
                          <a:lnTo>
                            <a:pt x="56" y="23"/>
                          </a:lnTo>
                          <a:lnTo>
                            <a:pt x="91" y="30"/>
                          </a:lnTo>
                          <a:lnTo>
                            <a:pt x="129" y="37"/>
                          </a:lnTo>
                          <a:lnTo>
                            <a:pt x="154" y="35"/>
                          </a:lnTo>
                          <a:lnTo>
                            <a:pt x="183" y="28"/>
                          </a:lnTo>
                          <a:lnTo>
                            <a:pt x="208" y="20"/>
                          </a:lnTo>
                          <a:lnTo>
                            <a:pt x="235" y="3"/>
                          </a:lnTo>
                          <a:lnTo>
                            <a:pt x="263" y="125"/>
                          </a:lnTo>
                          <a:lnTo>
                            <a:pt x="267" y="203"/>
                          </a:lnTo>
                          <a:lnTo>
                            <a:pt x="271" y="238"/>
                          </a:lnTo>
                          <a:lnTo>
                            <a:pt x="271" y="305"/>
                          </a:lnTo>
                          <a:lnTo>
                            <a:pt x="267" y="361"/>
                          </a:lnTo>
                          <a:lnTo>
                            <a:pt x="259" y="430"/>
                          </a:lnTo>
                          <a:lnTo>
                            <a:pt x="246" y="492"/>
                          </a:lnTo>
                          <a:lnTo>
                            <a:pt x="67" y="513"/>
                          </a:lnTo>
                          <a:lnTo>
                            <a:pt x="41" y="289"/>
                          </a:lnTo>
                          <a:lnTo>
                            <a:pt x="22" y="13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9" name=""/>
                    <p:cNvSpPr/>
                    <p:nvPr/>
                  </p:nvSpPr>
                  <p:spPr>
                    <a:xfrm>
                      <a:off x="4135680" y="3272760"/>
                      <a:ext cx="66600" cy="10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3" h="390">
                          <a:moveTo>
                            <a:pt x="0" y="27"/>
                          </a:moveTo>
                          <a:lnTo>
                            <a:pt x="98" y="27"/>
                          </a:lnTo>
                          <a:lnTo>
                            <a:pt x="146" y="24"/>
                          </a:lnTo>
                          <a:lnTo>
                            <a:pt x="196" y="14"/>
                          </a:lnTo>
                          <a:lnTo>
                            <a:pt x="229" y="0"/>
                          </a:lnTo>
                          <a:lnTo>
                            <a:pt x="233" y="328"/>
                          </a:lnTo>
                          <a:lnTo>
                            <a:pt x="66" y="390"/>
                          </a:lnTo>
                          <a:lnTo>
                            <a:pt x="0" y="27"/>
                          </a:lnTo>
                          <a:close/>
                        </a:path>
                      </a:pathLst>
                    </a:custGeom>
                    <a:solidFill>
                      <a:srgbClr val="ffb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20" name=""/>
                  <p:cNvGrpSpPr/>
                  <p:nvPr/>
                </p:nvGrpSpPr>
                <p:grpSpPr>
                  <a:xfrm>
                    <a:off x="4172400" y="3204000"/>
                    <a:ext cx="157680" cy="170640"/>
                    <a:chOff x="4172400" y="3204000"/>
                    <a:chExt cx="157680" cy="170640"/>
                  </a:xfrm>
                </p:grpSpPr>
                <p:sp>
                  <p:nvSpPr>
                    <p:cNvPr id="1621" name=""/>
                    <p:cNvSpPr/>
                    <p:nvPr/>
                  </p:nvSpPr>
                  <p:spPr>
                    <a:xfrm>
                      <a:off x="4172400" y="3204000"/>
                      <a:ext cx="157680" cy="17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5" h="645">
                          <a:moveTo>
                            <a:pt x="22" y="0"/>
                          </a:moveTo>
                          <a:lnTo>
                            <a:pt x="55" y="14"/>
                          </a:lnTo>
                          <a:lnTo>
                            <a:pt x="91" y="53"/>
                          </a:lnTo>
                          <a:lnTo>
                            <a:pt x="224" y="99"/>
                          </a:lnTo>
                          <a:lnTo>
                            <a:pt x="260" y="120"/>
                          </a:lnTo>
                          <a:lnTo>
                            <a:pt x="300" y="190"/>
                          </a:lnTo>
                          <a:lnTo>
                            <a:pt x="300" y="236"/>
                          </a:lnTo>
                          <a:lnTo>
                            <a:pt x="308" y="271"/>
                          </a:lnTo>
                          <a:lnTo>
                            <a:pt x="330" y="331"/>
                          </a:lnTo>
                          <a:lnTo>
                            <a:pt x="392" y="434"/>
                          </a:lnTo>
                          <a:lnTo>
                            <a:pt x="436" y="504"/>
                          </a:lnTo>
                          <a:lnTo>
                            <a:pt x="483" y="564"/>
                          </a:lnTo>
                          <a:lnTo>
                            <a:pt x="545" y="634"/>
                          </a:lnTo>
                          <a:lnTo>
                            <a:pt x="29" y="645"/>
                          </a:lnTo>
                          <a:lnTo>
                            <a:pt x="62" y="578"/>
                          </a:lnTo>
                          <a:lnTo>
                            <a:pt x="76" y="529"/>
                          </a:lnTo>
                          <a:lnTo>
                            <a:pt x="84" y="441"/>
                          </a:lnTo>
                          <a:lnTo>
                            <a:pt x="80" y="293"/>
                          </a:lnTo>
                          <a:lnTo>
                            <a:pt x="66" y="183"/>
                          </a:lnTo>
                          <a:lnTo>
                            <a:pt x="44" y="106"/>
                          </a:lnTo>
                          <a:lnTo>
                            <a:pt x="0" y="35"/>
                          </a:lnTo>
                          <a:lnTo>
                            <a:pt x="22" y="0"/>
                          </a:lnTo>
                          <a:close/>
                        </a:path>
                      </a:pathLst>
                    </a:custGeom>
                    <a:solidFill>
                      <a:srgbClr val="f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2" name=""/>
                    <p:cNvSpPr/>
                    <p:nvPr/>
                  </p:nvSpPr>
                  <p:spPr>
                    <a:xfrm>
                      <a:off x="4211280" y="3225240"/>
                      <a:ext cx="33840" cy="8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" h="338">
                          <a:moveTo>
                            <a:pt x="0" y="0"/>
                          </a:moveTo>
                          <a:lnTo>
                            <a:pt x="44" y="32"/>
                          </a:lnTo>
                          <a:lnTo>
                            <a:pt x="67" y="67"/>
                          </a:lnTo>
                          <a:lnTo>
                            <a:pt x="82" y="102"/>
                          </a:lnTo>
                          <a:lnTo>
                            <a:pt x="95" y="141"/>
                          </a:lnTo>
                          <a:lnTo>
                            <a:pt x="110" y="187"/>
                          </a:lnTo>
                          <a:lnTo>
                            <a:pt x="117" y="236"/>
                          </a:lnTo>
                          <a:lnTo>
                            <a:pt x="117" y="300"/>
                          </a:lnTo>
                          <a:lnTo>
                            <a:pt x="110" y="338"/>
                          </a:lnTo>
                          <a:lnTo>
                            <a:pt x="99" y="264"/>
                          </a:lnTo>
                          <a:lnTo>
                            <a:pt x="89" y="220"/>
                          </a:lnTo>
                          <a:lnTo>
                            <a:pt x="73" y="194"/>
                          </a:lnTo>
                          <a:lnTo>
                            <a:pt x="53" y="181"/>
                          </a:lnTo>
                          <a:lnTo>
                            <a:pt x="64" y="155"/>
                          </a:lnTo>
                          <a:lnTo>
                            <a:pt x="67" y="114"/>
                          </a:lnTo>
                          <a:lnTo>
                            <a:pt x="51" y="78"/>
                          </a:lnTo>
                          <a:lnTo>
                            <a:pt x="30" y="3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df3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840" bIns="42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23" name=""/>
                  <p:cNvSpPr/>
                  <p:nvPr/>
                </p:nvSpPr>
                <p:spPr>
                  <a:xfrm>
                    <a:off x="4157640" y="3350880"/>
                    <a:ext cx="468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25">
                        <a:moveTo>
                          <a:pt x="135" y="21"/>
                        </a:moveTo>
                        <a:lnTo>
                          <a:pt x="110" y="0"/>
                        </a:lnTo>
                        <a:lnTo>
                          <a:pt x="72" y="9"/>
                        </a:lnTo>
                        <a:lnTo>
                          <a:pt x="40" y="21"/>
                        </a:lnTo>
                        <a:lnTo>
                          <a:pt x="7" y="34"/>
                        </a:lnTo>
                        <a:lnTo>
                          <a:pt x="0" y="45"/>
                        </a:lnTo>
                        <a:lnTo>
                          <a:pt x="18" y="62"/>
                        </a:lnTo>
                        <a:lnTo>
                          <a:pt x="24" y="83"/>
                        </a:lnTo>
                        <a:lnTo>
                          <a:pt x="39" y="98"/>
                        </a:lnTo>
                        <a:lnTo>
                          <a:pt x="54" y="108"/>
                        </a:lnTo>
                        <a:lnTo>
                          <a:pt x="76" y="115"/>
                        </a:lnTo>
                        <a:lnTo>
                          <a:pt x="91" y="125"/>
                        </a:lnTo>
                        <a:lnTo>
                          <a:pt x="117" y="125"/>
                        </a:lnTo>
                        <a:lnTo>
                          <a:pt x="130" y="125"/>
                        </a:lnTo>
                        <a:lnTo>
                          <a:pt x="139" y="115"/>
                        </a:lnTo>
                        <a:lnTo>
                          <a:pt x="138" y="97"/>
                        </a:lnTo>
                        <a:lnTo>
                          <a:pt x="160" y="98"/>
                        </a:lnTo>
                        <a:lnTo>
                          <a:pt x="135" y="90"/>
                        </a:lnTo>
                        <a:lnTo>
                          <a:pt x="130" y="69"/>
                        </a:lnTo>
                        <a:lnTo>
                          <a:pt x="132" y="55"/>
                        </a:lnTo>
                        <a:lnTo>
                          <a:pt x="130" y="44"/>
                        </a:lnTo>
                        <a:lnTo>
                          <a:pt x="135" y="21"/>
                        </a:lnTo>
                        <a:close/>
                      </a:path>
                    </a:pathLst>
                  </a:custGeom>
                  <a:solidFill>
                    <a:srgbClr val="f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4" name=""/>
                  <p:cNvSpPr/>
                  <p:nvPr/>
                </p:nvSpPr>
                <p:spPr>
                  <a:xfrm>
                    <a:off x="4093200" y="3399120"/>
                    <a:ext cx="22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90">
                        <a:moveTo>
                          <a:pt x="77" y="0"/>
                        </a:moveTo>
                        <a:lnTo>
                          <a:pt x="19" y="90"/>
                        </a:lnTo>
                        <a:lnTo>
                          <a:pt x="0" y="26"/>
                        </a:lnTo>
                        <a:lnTo>
                          <a:pt x="77" y="0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25" name=""/>
                  <p:cNvGrpSpPr/>
                  <p:nvPr/>
                </p:nvGrpSpPr>
                <p:grpSpPr>
                  <a:xfrm>
                    <a:off x="3999960" y="3192840"/>
                    <a:ext cx="160200" cy="237240"/>
                    <a:chOff x="3999960" y="3192840"/>
                    <a:chExt cx="160200" cy="237240"/>
                  </a:xfrm>
                </p:grpSpPr>
                <p:sp>
                  <p:nvSpPr>
                    <p:cNvPr id="1626" name=""/>
                    <p:cNvSpPr/>
                    <p:nvPr/>
                  </p:nvSpPr>
                  <p:spPr>
                    <a:xfrm>
                      <a:off x="3999960" y="3192840"/>
                      <a:ext cx="160200" cy="23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2" h="889">
                          <a:moveTo>
                            <a:pt x="427" y="11"/>
                          </a:moveTo>
                          <a:lnTo>
                            <a:pt x="351" y="0"/>
                          </a:lnTo>
                          <a:lnTo>
                            <a:pt x="296" y="4"/>
                          </a:lnTo>
                          <a:lnTo>
                            <a:pt x="234" y="11"/>
                          </a:lnTo>
                          <a:lnTo>
                            <a:pt x="201" y="18"/>
                          </a:lnTo>
                          <a:lnTo>
                            <a:pt x="183" y="39"/>
                          </a:lnTo>
                          <a:lnTo>
                            <a:pt x="161" y="35"/>
                          </a:lnTo>
                          <a:lnTo>
                            <a:pt x="128" y="60"/>
                          </a:lnTo>
                          <a:lnTo>
                            <a:pt x="102" y="88"/>
                          </a:lnTo>
                          <a:lnTo>
                            <a:pt x="84" y="116"/>
                          </a:lnTo>
                          <a:lnTo>
                            <a:pt x="62" y="152"/>
                          </a:lnTo>
                          <a:lnTo>
                            <a:pt x="51" y="190"/>
                          </a:lnTo>
                          <a:lnTo>
                            <a:pt x="40" y="257"/>
                          </a:lnTo>
                          <a:lnTo>
                            <a:pt x="33" y="303"/>
                          </a:lnTo>
                          <a:lnTo>
                            <a:pt x="33" y="377"/>
                          </a:lnTo>
                          <a:lnTo>
                            <a:pt x="48" y="426"/>
                          </a:lnTo>
                          <a:lnTo>
                            <a:pt x="44" y="462"/>
                          </a:lnTo>
                          <a:lnTo>
                            <a:pt x="33" y="553"/>
                          </a:lnTo>
                          <a:lnTo>
                            <a:pt x="22" y="592"/>
                          </a:lnTo>
                          <a:lnTo>
                            <a:pt x="18" y="634"/>
                          </a:lnTo>
                          <a:lnTo>
                            <a:pt x="7" y="662"/>
                          </a:lnTo>
                          <a:lnTo>
                            <a:pt x="0" y="694"/>
                          </a:lnTo>
                          <a:lnTo>
                            <a:pt x="4" y="729"/>
                          </a:lnTo>
                          <a:lnTo>
                            <a:pt x="18" y="761"/>
                          </a:lnTo>
                          <a:lnTo>
                            <a:pt x="48" y="789"/>
                          </a:lnTo>
                          <a:lnTo>
                            <a:pt x="99" y="835"/>
                          </a:lnTo>
                          <a:lnTo>
                            <a:pt x="128" y="846"/>
                          </a:lnTo>
                          <a:lnTo>
                            <a:pt x="165" y="856"/>
                          </a:lnTo>
                          <a:lnTo>
                            <a:pt x="194" y="868"/>
                          </a:lnTo>
                          <a:lnTo>
                            <a:pt x="219" y="882"/>
                          </a:lnTo>
                          <a:lnTo>
                            <a:pt x="340" y="889"/>
                          </a:lnTo>
                          <a:lnTo>
                            <a:pt x="420" y="786"/>
                          </a:lnTo>
                          <a:lnTo>
                            <a:pt x="449" y="691"/>
                          </a:lnTo>
                          <a:lnTo>
                            <a:pt x="552" y="691"/>
                          </a:lnTo>
                          <a:lnTo>
                            <a:pt x="544" y="553"/>
                          </a:lnTo>
                          <a:lnTo>
                            <a:pt x="526" y="398"/>
                          </a:lnTo>
                          <a:lnTo>
                            <a:pt x="493" y="204"/>
                          </a:lnTo>
                          <a:lnTo>
                            <a:pt x="475" y="116"/>
                          </a:lnTo>
                          <a:lnTo>
                            <a:pt x="427" y="11"/>
                          </a:lnTo>
                          <a:close/>
                        </a:path>
                      </a:pathLst>
                    </a:custGeom>
                    <a:solidFill>
                      <a:srgbClr val="f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7" name=""/>
                    <p:cNvSpPr/>
                    <p:nvPr/>
                  </p:nvSpPr>
                  <p:spPr>
                    <a:xfrm>
                      <a:off x="4049280" y="3351600"/>
                      <a:ext cx="72360" cy="7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8" h="296">
                          <a:moveTo>
                            <a:pt x="233" y="14"/>
                          </a:moveTo>
                          <a:lnTo>
                            <a:pt x="144" y="7"/>
                          </a:lnTo>
                          <a:lnTo>
                            <a:pt x="51" y="0"/>
                          </a:lnTo>
                          <a:lnTo>
                            <a:pt x="35" y="21"/>
                          </a:lnTo>
                          <a:lnTo>
                            <a:pt x="28" y="38"/>
                          </a:lnTo>
                          <a:lnTo>
                            <a:pt x="17" y="59"/>
                          </a:lnTo>
                          <a:lnTo>
                            <a:pt x="7" y="91"/>
                          </a:lnTo>
                          <a:lnTo>
                            <a:pt x="2" y="119"/>
                          </a:lnTo>
                          <a:lnTo>
                            <a:pt x="0" y="145"/>
                          </a:lnTo>
                          <a:lnTo>
                            <a:pt x="3" y="176"/>
                          </a:lnTo>
                          <a:lnTo>
                            <a:pt x="14" y="217"/>
                          </a:lnTo>
                          <a:lnTo>
                            <a:pt x="25" y="250"/>
                          </a:lnTo>
                          <a:lnTo>
                            <a:pt x="28" y="280"/>
                          </a:lnTo>
                          <a:lnTo>
                            <a:pt x="177" y="296"/>
                          </a:lnTo>
                          <a:lnTo>
                            <a:pt x="241" y="193"/>
                          </a:lnTo>
                          <a:lnTo>
                            <a:pt x="248" y="166"/>
                          </a:lnTo>
                          <a:lnTo>
                            <a:pt x="233" y="14"/>
                          </a:lnTo>
                          <a:close/>
                        </a:path>
                      </a:pathLst>
                    </a:custGeom>
                    <a:solidFill>
                      <a:srgbClr val="df1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8" name=""/>
                    <p:cNvSpPr/>
                    <p:nvPr/>
                  </p:nvSpPr>
                  <p:spPr>
                    <a:xfrm>
                      <a:off x="4017240" y="3208680"/>
                      <a:ext cx="67680" cy="14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3" h="567">
                          <a:moveTo>
                            <a:pt x="146" y="0"/>
                          </a:moveTo>
                          <a:lnTo>
                            <a:pt x="189" y="70"/>
                          </a:lnTo>
                          <a:lnTo>
                            <a:pt x="215" y="144"/>
                          </a:lnTo>
                          <a:lnTo>
                            <a:pt x="230" y="233"/>
                          </a:lnTo>
                          <a:lnTo>
                            <a:pt x="233" y="331"/>
                          </a:lnTo>
                          <a:lnTo>
                            <a:pt x="230" y="447"/>
                          </a:lnTo>
                          <a:lnTo>
                            <a:pt x="219" y="497"/>
                          </a:lnTo>
                          <a:lnTo>
                            <a:pt x="160" y="539"/>
                          </a:lnTo>
                          <a:lnTo>
                            <a:pt x="131" y="521"/>
                          </a:lnTo>
                          <a:lnTo>
                            <a:pt x="102" y="514"/>
                          </a:lnTo>
                          <a:lnTo>
                            <a:pt x="76" y="521"/>
                          </a:lnTo>
                          <a:lnTo>
                            <a:pt x="58" y="546"/>
                          </a:lnTo>
                          <a:lnTo>
                            <a:pt x="25" y="560"/>
                          </a:lnTo>
                          <a:lnTo>
                            <a:pt x="0" y="567"/>
                          </a:lnTo>
                          <a:lnTo>
                            <a:pt x="40" y="532"/>
                          </a:lnTo>
                          <a:lnTo>
                            <a:pt x="65" y="521"/>
                          </a:lnTo>
                          <a:lnTo>
                            <a:pt x="84" y="504"/>
                          </a:lnTo>
                          <a:lnTo>
                            <a:pt x="106" y="504"/>
                          </a:lnTo>
                          <a:lnTo>
                            <a:pt x="131" y="479"/>
                          </a:lnTo>
                          <a:lnTo>
                            <a:pt x="106" y="451"/>
                          </a:lnTo>
                          <a:lnTo>
                            <a:pt x="142" y="458"/>
                          </a:lnTo>
                          <a:lnTo>
                            <a:pt x="116" y="377"/>
                          </a:lnTo>
                          <a:lnTo>
                            <a:pt x="95" y="310"/>
                          </a:lnTo>
                          <a:lnTo>
                            <a:pt x="87" y="263"/>
                          </a:lnTo>
                          <a:lnTo>
                            <a:pt x="98" y="194"/>
                          </a:lnTo>
                          <a:lnTo>
                            <a:pt x="116" y="271"/>
                          </a:lnTo>
                          <a:lnTo>
                            <a:pt x="153" y="359"/>
                          </a:lnTo>
                          <a:lnTo>
                            <a:pt x="197" y="454"/>
                          </a:lnTo>
                          <a:lnTo>
                            <a:pt x="197" y="324"/>
                          </a:lnTo>
                          <a:lnTo>
                            <a:pt x="189" y="236"/>
                          </a:lnTo>
                          <a:lnTo>
                            <a:pt x="179" y="106"/>
                          </a:lnTo>
                          <a:lnTo>
                            <a:pt x="146" y="0"/>
                          </a:lnTo>
                          <a:close/>
                        </a:path>
                      </a:pathLst>
                    </a:custGeom>
                    <a:solidFill>
                      <a:srgbClr val="df3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29" name=""/>
                  <p:cNvSpPr/>
                  <p:nvPr/>
                </p:nvSpPr>
                <p:spPr>
                  <a:xfrm>
                    <a:off x="4187160" y="3292200"/>
                    <a:ext cx="19764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1" h="359">
                        <a:moveTo>
                          <a:pt x="0" y="292"/>
                        </a:moveTo>
                        <a:lnTo>
                          <a:pt x="263" y="0"/>
                        </a:lnTo>
                        <a:lnTo>
                          <a:pt x="681" y="111"/>
                        </a:lnTo>
                        <a:lnTo>
                          <a:pt x="509" y="320"/>
                        </a:lnTo>
                        <a:lnTo>
                          <a:pt x="402" y="344"/>
                        </a:lnTo>
                        <a:lnTo>
                          <a:pt x="293" y="359"/>
                        </a:lnTo>
                        <a:lnTo>
                          <a:pt x="55" y="345"/>
                        </a:lnTo>
                        <a:lnTo>
                          <a:pt x="0" y="292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0" name=""/>
                  <p:cNvSpPr/>
                  <p:nvPr/>
                </p:nvSpPr>
                <p:spPr>
                  <a:xfrm>
                    <a:off x="4089600" y="3347640"/>
                    <a:ext cx="16884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582" h="236">
                        <a:moveTo>
                          <a:pt x="32" y="57"/>
                        </a:moveTo>
                        <a:lnTo>
                          <a:pt x="249" y="29"/>
                        </a:lnTo>
                        <a:lnTo>
                          <a:pt x="295" y="12"/>
                        </a:lnTo>
                        <a:lnTo>
                          <a:pt x="318" y="3"/>
                        </a:lnTo>
                        <a:lnTo>
                          <a:pt x="342" y="0"/>
                        </a:lnTo>
                        <a:lnTo>
                          <a:pt x="375" y="5"/>
                        </a:lnTo>
                        <a:lnTo>
                          <a:pt x="412" y="12"/>
                        </a:lnTo>
                        <a:lnTo>
                          <a:pt x="439" y="15"/>
                        </a:lnTo>
                        <a:lnTo>
                          <a:pt x="491" y="21"/>
                        </a:lnTo>
                        <a:lnTo>
                          <a:pt x="517" y="22"/>
                        </a:lnTo>
                        <a:lnTo>
                          <a:pt x="537" y="26"/>
                        </a:lnTo>
                        <a:lnTo>
                          <a:pt x="559" y="29"/>
                        </a:lnTo>
                        <a:lnTo>
                          <a:pt x="577" y="36"/>
                        </a:lnTo>
                        <a:lnTo>
                          <a:pt x="582" y="46"/>
                        </a:lnTo>
                        <a:lnTo>
                          <a:pt x="574" y="54"/>
                        </a:lnTo>
                        <a:lnTo>
                          <a:pt x="537" y="56"/>
                        </a:lnTo>
                        <a:lnTo>
                          <a:pt x="523" y="57"/>
                        </a:lnTo>
                        <a:lnTo>
                          <a:pt x="520" y="82"/>
                        </a:lnTo>
                        <a:lnTo>
                          <a:pt x="512" y="92"/>
                        </a:lnTo>
                        <a:lnTo>
                          <a:pt x="506" y="93"/>
                        </a:lnTo>
                        <a:lnTo>
                          <a:pt x="501" y="109"/>
                        </a:lnTo>
                        <a:lnTo>
                          <a:pt x="490" y="121"/>
                        </a:lnTo>
                        <a:lnTo>
                          <a:pt x="476" y="127"/>
                        </a:lnTo>
                        <a:lnTo>
                          <a:pt x="468" y="137"/>
                        </a:lnTo>
                        <a:lnTo>
                          <a:pt x="457" y="142"/>
                        </a:lnTo>
                        <a:lnTo>
                          <a:pt x="423" y="160"/>
                        </a:lnTo>
                        <a:lnTo>
                          <a:pt x="405" y="167"/>
                        </a:lnTo>
                        <a:lnTo>
                          <a:pt x="351" y="169"/>
                        </a:lnTo>
                        <a:lnTo>
                          <a:pt x="311" y="165"/>
                        </a:lnTo>
                        <a:lnTo>
                          <a:pt x="288" y="155"/>
                        </a:lnTo>
                        <a:lnTo>
                          <a:pt x="277" y="151"/>
                        </a:lnTo>
                        <a:lnTo>
                          <a:pt x="256" y="155"/>
                        </a:lnTo>
                        <a:lnTo>
                          <a:pt x="222" y="158"/>
                        </a:lnTo>
                        <a:lnTo>
                          <a:pt x="193" y="163"/>
                        </a:lnTo>
                        <a:lnTo>
                          <a:pt x="70" y="208"/>
                        </a:lnTo>
                        <a:lnTo>
                          <a:pt x="17" y="236"/>
                        </a:lnTo>
                        <a:lnTo>
                          <a:pt x="3" y="187"/>
                        </a:lnTo>
                        <a:lnTo>
                          <a:pt x="0" y="156"/>
                        </a:lnTo>
                        <a:lnTo>
                          <a:pt x="0" y="131"/>
                        </a:lnTo>
                        <a:lnTo>
                          <a:pt x="10" y="99"/>
                        </a:lnTo>
                        <a:lnTo>
                          <a:pt x="32" y="57"/>
                        </a:lnTo>
                        <a:close/>
                      </a:path>
                    </a:pathLst>
                  </a:custGeom>
                  <a:solidFill>
                    <a:srgbClr val="f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31" name=""/>
                  <p:cNvGrpSpPr/>
                  <p:nvPr/>
                </p:nvGrpSpPr>
                <p:grpSpPr>
                  <a:xfrm>
                    <a:off x="4057200" y="3033360"/>
                    <a:ext cx="185760" cy="219960"/>
                    <a:chOff x="4057200" y="3033360"/>
                    <a:chExt cx="185760" cy="219960"/>
                  </a:xfrm>
                </p:grpSpPr>
                <p:grpSp>
                  <p:nvGrpSpPr>
                    <p:cNvPr id="1632" name=""/>
                    <p:cNvGrpSpPr/>
                    <p:nvPr/>
                  </p:nvGrpSpPr>
                  <p:grpSpPr>
                    <a:xfrm>
                      <a:off x="4224240" y="3092760"/>
                      <a:ext cx="16560" cy="39600"/>
                      <a:chOff x="4224240" y="3092760"/>
                      <a:chExt cx="16560" cy="39600"/>
                    </a:xfrm>
                  </p:grpSpPr>
                  <p:sp>
                    <p:nvSpPr>
                      <p:cNvPr id="1633" name=""/>
                      <p:cNvSpPr/>
                      <p:nvPr/>
                    </p:nvSpPr>
                    <p:spPr>
                      <a:xfrm>
                        <a:off x="4224240" y="3092760"/>
                        <a:ext cx="16560" cy="39600"/>
                      </a:xfrm>
                      <a:prstGeom prst="ellipse">
                        <a:avLst/>
                      </a:pr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720" bIns="-18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4" name=""/>
                      <p:cNvSpPr/>
                      <p:nvPr/>
                    </p:nvSpPr>
                    <p:spPr>
                      <a:xfrm>
                        <a:off x="4225680" y="3093480"/>
                        <a:ext cx="14040" cy="37080"/>
                      </a:xfrm>
                      <a:prstGeom prst="ellipse">
                        <a:avLst/>
                      </a:prstGeom>
                      <a:solidFill>
                        <a:srgbClr val="ffd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35" name=""/>
                    <p:cNvGrpSpPr/>
                    <p:nvPr/>
                  </p:nvGrpSpPr>
                  <p:grpSpPr>
                    <a:xfrm>
                      <a:off x="4057200" y="3033360"/>
                      <a:ext cx="185760" cy="219960"/>
                      <a:chOff x="4057200" y="3033360"/>
                      <a:chExt cx="185760" cy="219960"/>
                    </a:xfrm>
                  </p:grpSpPr>
                  <p:grpSp>
                    <p:nvGrpSpPr>
                      <p:cNvPr id="1636" name=""/>
                      <p:cNvGrpSpPr/>
                      <p:nvPr/>
                    </p:nvGrpSpPr>
                    <p:grpSpPr>
                      <a:xfrm>
                        <a:off x="4100400" y="3047760"/>
                        <a:ext cx="142560" cy="205560"/>
                        <a:chOff x="4100400" y="3047760"/>
                        <a:chExt cx="142560" cy="205560"/>
                      </a:xfrm>
                    </p:grpSpPr>
                    <p:sp>
                      <p:nvSpPr>
                        <p:cNvPr id="1637" name=""/>
                        <p:cNvSpPr/>
                        <p:nvPr/>
                      </p:nvSpPr>
                      <p:spPr>
                        <a:xfrm>
                          <a:off x="4100400" y="3047760"/>
                          <a:ext cx="142560" cy="20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2" h="777">
                              <a:moveTo>
                                <a:pt x="318" y="14"/>
                              </a:moveTo>
                              <a:lnTo>
                                <a:pt x="359" y="29"/>
                              </a:lnTo>
                              <a:lnTo>
                                <a:pt x="383" y="44"/>
                              </a:lnTo>
                              <a:lnTo>
                                <a:pt x="402" y="64"/>
                              </a:lnTo>
                              <a:lnTo>
                                <a:pt x="413" y="86"/>
                              </a:lnTo>
                              <a:lnTo>
                                <a:pt x="421" y="111"/>
                              </a:lnTo>
                              <a:lnTo>
                                <a:pt x="427" y="135"/>
                              </a:lnTo>
                              <a:lnTo>
                                <a:pt x="434" y="171"/>
                              </a:lnTo>
                              <a:lnTo>
                                <a:pt x="438" y="206"/>
                              </a:lnTo>
                              <a:lnTo>
                                <a:pt x="433" y="227"/>
                              </a:lnTo>
                              <a:lnTo>
                                <a:pt x="431" y="248"/>
                              </a:lnTo>
                              <a:lnTo>
                                <a:pt x="442" y="269"/>
                              </a:lnTo>
                              <a:lnTo>
                                <a:pt x="475" y="303"/>
                              </a:lnTo>
                              <a:lnTo>
                                <a:pt x="483" y="313"/>
                              </a:lnTo>
                              <a:lnTo>
                                <a:pt x="490" y="322"/>
                              </a:lnTo>
                              <a:lnTo>
                                <a:pt x="492" y="330"/>
                              </a:lnTo>
                              <a:lnTo>
                                <a:pt x="488" y="337"/>
                              </a:lnTo>
                              <a:lnTo>
                                <a:pt x="480" y="342"/>
                              </a:lnTo>
                              <a:lnTo>
                                <a:pt x="464" y="347"/>
                              </a:lnTo>
                              <a:lnTo>
                                <a:pt x="458" y="353"/>
                              </a:lnTo>
                              <a:lnTo>
                                <a:pt x="464" y="367"/>
                              </a:lnTo>
                              <a:lnTo>
                                <a:pt x="462" y="375"/>
                              </a:lnTo>
                              <a:lnTo>
                                <a:pt x="456" y="382"/>
                              </a:lnTo>
                              <a:lnTo>
                                <a:pt x="443" y="389"/>
                              </a:lnTo>
                              <a:lnTo>
                                <a:pt x="425" y="397"/>
                              </a:lnTo>
                              <a:lnTo>
                                <a:pt x="414" y="401"/>
                              </a:lnTo>
                              <a:lnTo>
                                <a:pt x="453" y="410"/>
                              </a:lnTo>
                              <a:lnTo>
                                <a:pt x="458" y="417"/>
                              </a:lnTo>
                              <a:lnTo>
                                <a:pt x="448" y="433"/>
                              </a:lnTo>
                              <a:lnTo>
                                <a:pt x="447" y="454"/>
                              </a:lnTo>
                              <a:lnTo>
                                <a:pt x="447" y="484"/>
                              </a:lnTo>
                              <a:lnTo>
                                <a:pt x="447" y="496"/>
                              </a:lnTo>
                              <a:lnTo>
                                <a:pt x="442" y="505"/>
                              </a:lnTo>
                              <a:lnTo>
                                <a:pt x="431" y="514"/>
                              </a:lnTo>
                              <a:lnTo>
                                <a:pt x="414" y="518"/>
                              </a:lnTo>
                              <a:lnTo>
                                <a:pt x="396" y="523"/>
                              </a:lnTo>
                              <a:lnTo>
                                <a:pt x="354" y="530"/>
                              </a:lnTo>
                              <a:lnTo>
                                <a:pt x="330" y="536"/>
                              </a:lnTo>
                              <a:lnTo>
                                <a:pt x="312" y="543"/>
                              </a:lnTo>
                              <a:lnTo>
                                <a:pt x="298" y="553"/>
                              </a:lnTo>
                              <a:lnTo>
                                <a:pt x="253" y="615"/>
                              </a:lnTo>
                              <a:lnTo>
                                <a:pt x="320" y="754"/>
                              </a:lnTo>
                              <a:lnTo>
                                <a:pt x="281" y="765"/>
                              </a:lnTo>
                              <a:lnTo>
                                <a:pt x="221" y="777"/>
                              </a:lnTo>
                              <a:lnTo>
                                <a:pt x="169" y="774"/>
                              </a:lnTo>
                              <a:lnTo>
                                <a:pt x="139" y="758"/>
                              </a:lnTo>
                              <a:lnTo>
                                <a:pt x="68" y="545"/>
                              </a:lnTo>
                              <a:lnTo>
                                <a:pt x="68" y="474"/>
                              </a:lnTo>
                              <a:lnTo>
                                <a:pt x="47" y="436"/>
                              </a:lnTo>
                              <a:lnTo>
                                <a:pt x="22" y="387"/>
                              </a:lnTo>
                              <a:lnTo>
                                <a:pt x="11" y="359"/>
                              </a:lnTo>
                              <a:lnTo>
                                <a:pt x="4" y="321"/>
                              </a:lnTo>
                              <a:lnTo>
                                <a:pt x="0" y="280"/>
                              </a:lnTo>
                              <a:lnTo>
                                <a:pt x="0" y="231"/>
                              </a:lnTo>
                              <a:lnTo>
                                <a:pt x="6" y="185"/>
                              </a:lnTo>
                              <a:lnTo>
                                <a:pt x="14" y="145"/>
                              </a:lnTo>
                              <a:lnTo>
                                <a:pt x="28" y="111"/>
                              </a:lnTo>
                              <a:lnTo>
                                <a:pt x="44" y="78"/>
                              </a:lnTo>
                              <a:lnTo>
                                <a:pt x="68" y="47"/>
                              </a:lnTo>
                              <a:lnTo>
                                <a:pt x="102" y="23"/>
                              </a:lnTo>
                              <a:lnTo>
                                <a:pt x="139" y="9"/>
                              </a:lnTo>
                              <a:lnTo>
                                <a:pt x="181" y="2"/>
                              </a:lnTo>
                              <a:lnTo>
                                <a:pt x="219" y="0"/>
                              </a:lnTo>
                              <a:lnTo>
                                <a:pt x="269" y="3"/>
                              </a:lnTo>
                              <a:lnTo>
                                <a:pt x="318" y="1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bfb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638" name=""/>
                        <p:cNvGrpSpPr/>
                        <p:nvPr/>
                      </p:nvGrpSpPr>
                      <p:grpSpPr>
                        <a:xfrm>
                          <a:off x="4159440" y="3167640"/>
                          <a:ext cx="65520" cy="75240"/>
                          <a:chOff x="4159440" y="3167640"/>
                          <a:chExt cx="65520" cy="75240"/>
                        </a:xfrm>
                      </p:grpSpPr>
                      <p:sp>
                        <p:nvSpPr>
                          <p:cNvPr id="1639" name=""/>
                          <p:cNvSpPr/>
                          <p:nvPr/>
                        </p:nvSpPr>
                        <p:spPr>
                          <a:xfrm>
                            <a:off x="4160160" y="3167640"/>
                            <a:ext cx="64800" cy="270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6" h="102">
                                <a:moveTo>
                                  <a:pt x="0" y="0"/>
                                </a:moveTo>
                                <a:lnTo>
                                  <a:pt x="33" y="14"/>
                                </a:lnTo>
                                <a:lnTo>
                                  <a:pt x="67" y="25"/>
                                </a:lnTo>
                                <a:lnTo>
                                  <a:pt x="92" y="32"/>
                                </a:lnTo>
                                <a:lnTo>
                                  <a:pt x="125" y="41"/>
                                </a:lnTo>
                                <a:lnTo>
                                  <a:pt x="147" y="45"/>
                                </a:lnTo>
                                <a:lnTo>
                                  <a:pt x="178" y="50"/>
                                </a:lnTo>
                                <a:lnTo>
                                  <a:pt x="201" y="50"/>
                                </a:lnTo>
                                <a:lnTo>
                                  <a:pt x="226" y="50"/>
                                </a:lnTo>
                                <a:lnTo>
                                  <a:pt x="202" y="59"/>
                                </a:lnTo>
                                <a:lnTo>
                                  <a:pt x="168" y="66"/>
                                </a:lnTo>
                                <a:lnTo>
                                  <a:pt x="141" y="72"/>
                                </a:lnTo>
                                <a:lnTo>
                                  <a:pt x="119" y="78"/>
                                </a:lnTo>
                                <a:lnTo>
                                  <a:pt x="97" y="85"/>
                                </a:lnTo>
                                <a:lnTo>
                                  <a:pt x="84" y="91"/>
                                </a:lnTo>
                                <a:lnTo>
                                  <a:pt x="69" y="102"/>
                                </a:lnTo>
                                <a:lnTo>
                                  <a:pt x="83" y="86"/>
                                </a:lnTo>
                                <a:lnTo>
                                  <a:pt x="95" y="75"/>
                                </a:lnTo>
                                <a:lnTo>
                                  <a:pt x="98" y="65"/>
                                </a:lnTo>
                                <a:lnTo>
                                  <a:pt x="98" y="57"/>
                                </a:lnTo>
                                <a:lnTo>
                                  <a:pt x="95" y="49"/>
                                </a:lnTo>
                                <a:lnTo>
                                  <a:pt x="85" y="44"/>
                                </a:lnTo>
                                <a:lnTo>
                                  <a:pt x="74" y="41"/>
                                </a:lnTo>
                                <a:lnTo>
                                  <a:pt x="55" y="38"/>
                                </a:lnTo>
                                <a:lnTo>
                                  <a:pt x="38" y="36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9800" bIns="-19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40" name=""/>
                          <p:cNvSpPr/>
                          <p:nvPr/>
                        </p:nvSpPr>
                        <p:spPr>
                          <a:xfrm>
                            <a:off x="4159440" y="3205440"/>
                            <a:ext cx="15480" cy="37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6" h="142">
                                <a:moveTo>
                                  <a:pt x="32" y="16"/>
                                </a:moveTo>
                                <a:lnTo>
                                  <a:pt x="32" y="6"/>
                                </a:lnTo>
                                <a:lnTo>
                                  <a:pt x="28" y="1"/>
                                </a:lnTo>
                                <a:lnTo>
                                  <a:pt x="20" y="0"/>
                                </a:lnTo>
                                <a:lnTo>
                                  <a:pt x="11" y="5"/>
                                </a:lnTo>
                                <a:lnTo>
                                  <a:pt x="5" y="13"/>
                                </a:lnTo>
                                <a:lnTo>
                                  <a:pt x="0" y="23"/>
                                </a:lnTo>
                                <a:lnTo>
                                  <a:pt x="0" y="38"/>
                                </a:lnTo>
                                <a:lnTo>
                                  <a:pt x="2" y="81"/>
                                </a:lnTo>
                                <a:lnTo>
                                  <a:pt x="5" y="99"/>
                                </a:lnTo>
                                <a:lnTo>
                                  <a:pt x="10" y="108"/>
                                </a:lnTo>
                                <a:lnTo>
                                  <a:pt x="47" y="142"/>
                                </a:lnTo>
                                <a:lnTo>
                                  <a:pt x="56" y="108"/>
                                </a:lnTo>
                                <a:lnTo>
                                  <a:pt x="39" y="84"/>
                                </a:lnTo>
                                <a:lnTo>
                                  <a:pt x="42" y="101"/>
                                </a:lnTo>
                                <a:lnTo>
                                  <a:pt x="43" y="115"/>
                                </a:lnTo>
                                <a:lnTo>
                                  <a:pt x="42" y="120"/>
                                </a:lnTo>
                                <a:lnTo>
                                  <a:pt x="14" y="89"/>
                                </a:lnTo>
                                <a:lnTo>
                                  <a:pt x="13" y="77"/>
                                </a:lnTo>
                                <a:lnTo>
                                  <a:pt x="10" y="61"/>
                                </a:lnTo>
                                <a:lnTo>
                                  <a:pt x="16" y="42"/>
                                </a:lnTo>
                                <a:lnTo>
                                  <a:pt x="24" y="27"/>
                                </a:lnTo>
                                <a:lnTo>
                                  <a:pt x="32" y="1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9360" bIns="-93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641" name=""/>
                      <p:cNvSpPr/>
                      <p:nvPr/>
                    </p:nvSpPr>
                    <p:spPr>
                      <a:xfrm>
                        <a:off x="4199760" y="3112560"/>
                        <a:ext cx="10440" cy="7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" h="29">
                            <a:moveTo>
                              <a:pt x="32" y="0"/>
                            </a:moveTo>
                            <a:lnTo>
                              <a:pt x="17" y="6"/>
                            </a:lnTo>
                            <a:lnTo>
                              <a:pt x="0" y="17"/>
                            </a:lnTo>
                            <a:lnTo>
                              <a:pt x="12" y="26"/>
                            </a:lnTo>
                            <a:lnTo>
                              <a:pt x="30" y="29"/>
                            </a:lnTo>
                            <a:lnTo>
                              <a:pt x="36" y="28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2" name=""/>
                      <p:cNvSpPr/>
                      <p:nvPr/>
                    </p:nvSpPr>
                    <p:spPr>
                      <a:xfrm>
                        <a:off x="4195440" y="3096720"/>
                        <a:ext cx="1836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53">
                            <a:moveTo>
                              <a:pt x="64" y="0"/>
                            </a:moveTo>
                            <a:lnTo>
                              <a:pt x="49" y="3"/>
                            </a:lnTo>
                            <a:lnTo>
                              <a:pt x="38" y="14"/>
                            </a:lnTo>
                            <a:lnTo>
                              <a:pt x="28" y="27"/>
                            </a:lnTo>
                            <a:lnTo>
                              <a:pt x="19" y="39"/>
                            </a:lnTo>
                            <a:lnTo>
                              <a:pt x="0" y="53"/>
                            </a:lnTo>
                            <a:lnTo>
                              <a:pt x="22" y="46"/>
                            </a:lnTo>
                            <a:lnTo>
                              <a:pt x="37" y="35"/>
                            </a:lnTo>
                            <a:lnTo>
                              <a:pt x="49" y="25"/>
                            </a:lnTo>
                            <a:lnTo>
                              <a:pt x="60" y="21"/>
                            </a:lnTo>
                            <a:lnTo>
                              <a:pt x="64" y="0"/>
                            </a:lnTo>
                            <a:close/>
                          </a:path>
                        </a:pathLst>
                      </a:cu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643" name=""/>
                      <p:cNvGrpSpPr/>
                      <p:nvPr/>
                    </p:nvGrpSpPr>
                    <p:grpSpPr>
                      <a:xfrm>
                        <a:off x="4197960" y="3105720"/>
                        <a:ext cx="12960" cy="15120"/>
                        <a:chOff x="4197960" y="3105720"/>
                        <a:chExt cx="12960" cy="15120"/>
                      </a:xfrm>
                    </p:grpSpPr>
                    <p:sp>
                      <p:nvSpPr>
                        <p:cNvPr id="1644" name=""/>
                        <p:cNvSpPr/>
                        <p:nvPr/>
                      </p:nvSpPr>
                      <p:spPr>
                        <a:xfrm>
                          <a:off x="4203000" y="3113640"/>
                          <a:ext cx="5760" cy="6120"/>
                        </a:xfrm>
                        <a:prstGeom prst="ellipse">
                          <a:avLst/>
                        </a:prstGeom>
                        <a:solidFill>
                          <a:srgbClr val="5f7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5" name=""/>
                        <p:cNvSpPr/>
                        <p:nvPr/>
                      </p:nvSpPr>
                      <p:spPr>
                        <a:xfrm>
                          <a:off x="4197960" y="3105720"/>
                          <a:ext cx="12960" cy="15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4" h="57">
                              <a:moveTo>
                                <a:pt x="38" y="14"/>
                              </a:moveTo>
                              <a:lnTo>
                                <a:pt x="26" y="25"/>
                              </a:lnTo>
                              <a:lnTo>
                                <a:pt x="30" y="0"/>
                              </a:lnTo>
                              <a:lnTo>
                                <a:pt x="20" y="25"/>
                              </a:lnTo>
                              <a:lnTo>
                                <a:pt x="12" y="35"/>
                              </a:lnTo>
                              <a:lnTo>
                                <a:pt x="0" y="44"/>
                              </a:lnTo>
                              <a:lnTo>
                                <a:pt x="15" y="54"/>
                              </a:lnTo>
                              <a:lnTo>
                                <a:pt x="16" y="54"/>
                              </a:lnTo>
                              <a:lnTo>
                                <a:pt x="26" y="57"/>
                              </a:lnTo>
                              <a:lnTo>
                                <a:pt x="39" y="57"/>
                              </a:lnTo>
                              <a:lnTo>
                                <a:pt x="37" y="48"/>
                              </a:lnTo>
                              <a:lnTo>
                                <a:pt x="26" y="51"/>
                              </a:lnTo>
                              <a:lnTo>
                                <a:pt x="15" y="46"/>
                              </a:lnTo>
                              <a:lnTo>
                                <a:pt x="6" y="42"/>
                              </a:lnTo>
                              <a:lnTo>
                                <a:pt x="15" y="38"/>
                              </a:lnTo>
                              <a:lnTo>
                                <a:pt x="30" y="32"/>
                              </a:lnTo>
                              <a:lnTo>
                                <a:pt x="44" y="25"/>
                              </a:lnTo>
                              <a:lnTo>
                                <a:pt x="38" y="1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f1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680" bIns="-31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646" name=""/>
                      <p:cNvSpPr/>
                      <p:nvPr/>
                    </p:nvSpPr>
                    <p:spPr>
                      <a:xfrm>
                        <a:off x="4057200" y="3033360"/>
                        <a:ext cx="173160" cy="178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7" h="674">
                            <a:moveTo>
                              <a:pt x="579" y="199"/>
                            </a:moveTo>
                            <a:lnTo>
                              <a:pt x="586" y="192"/>
                            </a:lnTo>
                            <a:lnTo>
                              <a:pt x="594" y="183"/>
                            </a:lnTo>
                            <a:lnTo>
                              <a:pt x="597" y="162"/>
                            </a:lnTo>
                            <a:lnTo>
                              <a:pt x="597" y="123"/>
                            </a:lnTo>
                            <a:lnTo>
                              <a:pt x="586" y="91"/>
                            </a:lnTo>
                            <a:lnTo>
                              <a:pt x="571" y="74"/>
                            </a:lnTo>
                            <a:lnTo>
                              <a:pt x="549" y="52"/>
                            </a:lnTo>
                            <a:lnTo>
                              <a:pt x="504" y="45"/>
                            </a:lnTo>
                            <a:lnTo>
                              <a:pt x="439" y="35"/>
                            </a:lnTo>
                            <a:lnTo>
                              <a:pt x="380" y="21"/>
                            </a:lnTo>
                            <a:lnTo>
                              <a:pt x="333" y="10"/>
                            </a:lnTo>
                            <a:lnTo>
                              <a:pt x="274" y="0"/>
                            </a:lnTo>
                            <a:lnTo>
                              <a:pt x="245" y="10"/>
                            </a:lnTo>
                            <a:lnTo>
                              <a:pt x="212" y="35"/>
                            </a:lnTo>
                            <a:lnTo>
                              <a:pt x="183" y="63"/>
                            </a:lnTo>
                            <a:lnTo>
                              <a:pt x="161" y="95"/>
                            </a:lnTo>
                            <a:lnTo>
                              <a:pt x="135" y="144"/>
                            </a:lnTo>
                            <a:lnTo>
                              <a:pt x="121" y="190"/>
                            </a:lnTo>
                            <a:lnTo>
                              <a:pt x="114" y="236"/>
                            </a:lnTo>
                            <a:lnTo>
                              <a:pt x="103" y="288"/>
                            </a:lnTo>
                            <a:lnTo>
                              <a:pt x="103" y="334"/>
                            </a:lnTo>
                            <a:lnTo>
                              <a:pt x="88" y="387"/>
                            </a:lnTo>
                            <a:lnTo>
                              <a:pt x="70" y="434"/>
                            </a:lnTo>
                            <a:lnTo>
                              <a:pt x="48" y="466"/>
                            </a:lnTo>
                            <a:lnTo>
                              <a:pt x="26" y="487"/>
                            </a:lnTo>
                            <a:lnTo>
                              <a:pt x="4" y="512"/>
                            </a:lnTo>
                            <a:lnTo>
                              <a:pt x="4" y="519"/>
                            </a:lnTo>
                            <a:lnTo>
                              <a:pt x="0" y="540"/>
                            </a:lnTo>
                            <a:lnTo>
                              <a:pt x="0" y="575"/>
                            </a:lnTo>
                            <a:lnTo>
                              <a:pt x="11" y="603"/>
                            </a:lnTo>
                            <a:lnTo>
                              <a:pt x="30" y="621"/>
                            </a:lnTo>
                            <a:lnTo>
                              <a:pt x="88" y="621"/>
                            </a:lnTo>
                            <a:lnTo>
                              <a:pt x="135" y="628"/>
                            </a:lnTo>
                            <a:lnTo>
                              <a:pt x="183" y="660"/>
                            </a:lnTo>
                            <a:lnTo>
                              <a:pt x="234" y="674"/>
                            </a:lnTo>
                            <a:lnTo>
                              <a:pt x="278" y="674"/>
                            </a:lnTo>
                            <a:lnTo>
                              <a:pt x="314" y="652"/>
                            </a:lnTo>
                            <a:lnTo>
                              <a:pt x="329" y="621"/>
                            </a:lnTo>
                            <a:lnTo>
                              <a:pt x="325" y="578"/>
                            </a:lnTo>
                            <a:lnTo>
                              <a:pt x="307" y="547"/>
                            </a:lnTo>
                            <a:lnTo>
                              <a:pt x="303" y="515"/>
                            </a:lnTo>
                            <a:lnTo>
                              <a:pt x="307" y="483"/>
                            </a:lnTo>
                            <a:lnTo>
                              <a:pt x="336" y="455"/>
                            </a:lnTo>
                            <a:lnTo>
                              <a:pt x="369" y="445"/>
                            </a:lnTo>
                            <a:lnTo>
                              <a:pt x="391" y="427"/>
                            </a:lnTo>
                            <a:lnTo>
                              <a:pt x="409" y="399"/>
                            </a:lnTo>
                            <a:lnTo>
                              <a:pt x="413" y="352"/>
                            </a:lnTo>
                            <a:lnTo>
                              <a:pt x="413" y="331"/>
                            </a:lnTo>
                            <a:lnTo>
                              <a:pt x="439" y="324"/>
                            </a:lnTo>
                            <a:lnTo>
                              <a:pt x="464" y="303"/>
                            </a:lnTo>
                            <a:lnTo>
                              <a:pt x="479" y="267"/>
                            </a:lnTo>
                            <a:lnTo>
                              <a:pt x="493" y="218"/>
                            </a:lnTo>
                            <a:lnTo>
                              <a:pt x="486" y="158"/>
                            </a:lnTo>
                            <a:lnTo>
                              <a:pt x="475" y="123"/>
                            </a:lnTo>
                            <a:lnTo>
                              <a:pt x="442" y="98"/>
                            </a:lnTo>
                            <a:lnTo>
                              <a:pt x="519" y="123"/>
                            </a:lnTo>
                            <a:lnTo>
                              <a:pt x="546" y="162"/>
                            </a:lnTo>
                            <a:lnTo>
                              <a:pt x="574" y="185"/>
                            </a:lnTo>
                            <a:lnTo>
                              <a:pt x="579" y="199"/>
                            </a:lnTo>
                            <a:close/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47" name=""/>
                    <p:cNvGrpSpPr/>
                    <p:nvPr/>
                  </p:nvGrpSpPr>
                  <p:grpSpPr>
                    <a:xfrm>
                      <a:off x="4183200" y="3092760"/>
                      <a:ext cx="43920" cy="42120"/>
                      <a:chOff x="4183200" y="3092760"/>
                      <a:chExt cx="43920" cy="42120"/>
                    </a:xfrm>
                  </p:grpSpPr>
                  <p:sp>
                    <p:nvSpPr>
                      <p:cNvPr id="1648" name=""/>
                      <p:cNvSpPr/>
                      <p:nvPr/>
                    </p:nvSpPr>
                    <p:spPr>
                      <a:xfrm flipV="1">
                        <a:off x="4223880" y="3110040"/>
                        <a:ext cx="3240" cy="720"/>
                      </a:xfrm>
                      <a:prstGeom prst="line">
                        <a:avLst/>
                      </a:prstGeom>
                      <a:ln w="3240">
                        <a:solidFill>
                          <a:srgbClr val="7f3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649" name=""/>
                      <p:cNvGrpSpPr/>
                      <p:nvPr/>
                    </p:nvGrpSpPr>
                    <p:grpSpPr>
                      <a:xfrm>
                        <a:off x="4183200" y="3092760"/>
                        <a:ext cx="40680" cy="42120"/>
                        <a:chOff x="4183200" y="3092760"/>
                        <a:chExt cx="40680" cy="42120"/>
                      </a:xfrm>
                    </p:grpSpPr>
                    <p:sp>
                      <p:nvSpPr>
                        <p:cNvPr id="1650" name=""/>
                        <p:cNvSpPr/>
                        <p:nvPr/>
                      </p:nvSpPr>
                      <p:spPr>
                        <a:xfrm>
                          <a:off x="4183200" y="3116520"/>
                          <a:ext cx="28800" cy="15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9" h="57">
                              <a:moveTo>
                                <a:pt x="12" y="0"/>
                              </a:moveTo>
                              <a:lnTo>
                                <a:pt x="30" y="16"/>
                              </a:lnTo>
                              <a:lnTo>
                                <a:pt x="45" y="25"/>
                              </a:lnTo>
                              <a:lnTo>
                                <a:pt x="56" y="31"/>
                              </a:lnTo>
                              <a:lnTo>
                                <a:pt x="71" y="37"/>
                              </a:lnTo>
                              <a:lnTo>
                                <a:pt x="84" y="39"/>
                              </a:lnTo>
                              <a:lnTo>
                                <a:pt x="95" y="37"/>
                              </a:lnTo>
                              <a:lnTo>
                                <a:pt x="99" y="57"/>
                              </a:lnTo>
                              <a:lnTo>
                                <a:pt x="83" y="57"/>
                              </a:lnTo>
                              <a:lnTo>
                                <a:pt x="71" y="56"/>
                              </a:lnTo>
                              <a:lnTo>
                                <a:pt x="55" y="49"/>
                              </a:lnTo>
                              <a:lnTo>
                                <a:pt x="40" y="38"/>
                              </a:lnTo>
                              <a:lnTo>
                                <a:pt x="27" y="29"/>
                              </a:lnTo>
                              <a:lnTo>
                                <a:pt x="0" y="5"/>
                              </a:lnTo>
                              <a:lnTo>
                                <a:pt x="1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3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680" bIns="-31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1" name=""/>
                        <p:cNvSpPr/>
                        <p:nvPr/>
                      </p:nvSpPr>
                      <p:spPr>
                        <a:xfrm>
                          <a:off x="4207320" y="3092760"/>
                          <a:ext cx="16200" cy="42120"/>
                        </a:xfrm>
                        <a:prstGeom prst="ellipse">
                          <a:avLst/>
                        </a:prstGeom>
                        <a:solidFill>
                          <a:srgbClr val="7f3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920" bIns="-16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2" name=""/>
                        <p:cNvSpPr/>
                        <p:nvPr/>
                      </p:nvSpPr>
                      <p:spPr>
                        <a:xfrm>
                          <a:off x="4209120" y="3094200"/>
                          <a:ext cx="14760" cy="39600"/>
                        </a:xfrm>
                        <a:prstGeom prst="ellipse">
                          <a:avLst/>
                        </a:prstGeom>
                        <a:solidFill>
                          <a:srgbClr val="ffdfb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720" bIns="-18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653" name=""/>
                <p:cNvGrpSpPr/>
                <p:nvPr/>
              </p:nvGrpSpPr>
              <p:grpSpPr>
                <a:xfrm>
                  <a:off x="3912120" y="3430440"/>
                  <a:ext cx="417960" cy="113760"/>
                  <a:chOff x="3912120" y="3430440"/>
                  <a:chExt cx="417960" cy="113760"/>
                </a:xfrm>
              </p:grpSpPr>
              <p:sp>
                <p:nvSpPr>
                  <p:cNvPr id="1654" name=""/>
                  <p:cNvSpPr/>
                  <p:nvPr/>
                </p:nvSpPr>
                <p:spPr>
                  <a:xfrm flipV="1">
                    <a:off x="4204800" y="3506040"/>
                    <a:ext cx="125280" cy="37800"/>
                  </a:xfrm>
                  <a:custGeom>
                    <a:avLst/>
                    <a:gdLst>
                      <a:gd name="textAreaLeft" fmla="*/ 23760 w 125280"/>
                      <a:gd name="textAreaRight" fmla="*/ 101520 w 125280"/>
                      <a:gd name="textAreaTop" fmla="*/ 7200 h 37800"/>
                      <a:gd name="textAreaBottom" fmla="*/ 30600 h 37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7326" y="21600"/>
                        </a:lnTo>
                        <a:lnTo>
                          <a:pt x="4274" y="216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"/>
                  <p:cNvSpPr/>
                  <p:nvPr/>
                </p:nvSpPr>
                <p:spPr>
                  <a:xfrm flipV="1">
                    <a:off x="4079160" y="3430440"/>
                    <a:ext cx="125280" cy="38160"/>
                  </a:xfrm>
                  <a:custGeom>
                    <a:avLst/>
                    <a:gdLst>
                      <a:gd name="textAreaLeft" fmla="*/ 23760 w 125280"/>
                      <a:gd name="textAreaRight" fmla="*/ 101520 w 125280"/>
                      <a:gd name="textAreaTop" fmla="*/ 7200 h 38160"/>
                      <a:gd name="textAreaBottom" fmla="*/ 30960 h 38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7326" y="21600"/>
                        </a:lnTo>
                        <a:lnTo>
                          <a:pt x="4274" y="216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6" name=""/>
                  <p:cNvSpPr/>
                  <p:nvPr/>
                </p:nvSpPr>
                <p:spPr>
                  <a:xfrm flipV="1">
                    <a:off x="3912120" y="3468600"/>
                    <a:ext cx="125280" cy="38160"/>
                  </a:xfrm>
                  <a:custGeom>
                    <a:avLst/>
                    <a:gdLst>
                      <a:gd name="textAreaLeft" fmla="*/ 23760 w 125280"/>
                      <a:gd name="textAreaRight" fmla="*/ 101520 w 125280"/>
                      <a:gd name="textAreaTop" fmla="*/ 7200 h 38160"/>
                      <a:gd name="textAreaBottom" fmla="*/ 30960 h 38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7326" y="21600"/>
                        </a:lnTo>
                        <a:lnTo>
                          <a:pt x="4274" y="216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7" name=""/>
                  <p:cNvSpPr/>
                  <p:nvPr/>
                </p:nvSpPr>
                <p:spPr>
                  <a:xfrm flipV="1">
                    <a:off x="4037400" y="3506040"/>
                    <a:ext cx="125280" cy="37800"/>
                  </a:xfrm>
                  <a:custGeom>
                    <a:avLst/>
                    <a:gdLst>
                      <a:gd name="textAreaLeft" fmla="*/ 23760 w 125280"/>
                      <a:gd name="textAreaRight" fmla="*/ 101520 w 125280"/>
                      <a:gd name="textAreaTop" fmla="*/ 7200 h 37800"/>
                      <a:gd name="textAreaBottom" fmla="*/ 30600 h 37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7326" y="21600"/>
                        </a:lnTo>
                        <a:lnTo>
                          <a:pt x="4274" y="216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8" name=""/>
                <p:cNvGrpSpPr/>
                <p:nvPr/>
              </p:nvGrpSpPr>
              <p:grpSpPr>
                <a:xfrm>
                  <a:off x="4330440" y="3391560"/>
                  <a:ext cx="375840" cy="114480"/>
                  <a:chOff x="4330440" y="3391560"/>
                  <a:chExt cx="375840" cy="114480"/>
                </a:xfrm>
              </p:grpSpPr>
              <p:sp>
                <p:nvSpPr>
                  <p:cNvPr id="1659" name=""/>
                  <p:cNvSpPr/>
                  <p:nvPr/>
                </p:nvSpPr>
                <p:spPr>
                  <a:xfrm flipV="1">
                    <a:off x="4455720" y="3391200"/>
                    <a:ext cx="125280" cy="37800"/>
                  </a:xfrm>
                  <a:custGeom>
                    <a:avLst/>
                    <a:gdLst>
                      <a:gd name="textAreaLeft" fmla="*/ 23760 w 125280"/>
                      <a:gd name="textAreaRight" fmla="*/ 101520 w 125280"/>
                      <a:gd name="textAreaTop" fmla="*/ 7200 h 37800"/>
                      <a:gd name="textAreaBottom" fmla="*/ 30600 h 37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7326" y="21600"/>
                        </a:lnTo>
                        <a:lnTo>
                          <a:pt x="4274" y="216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0" name=""/>
                  <p:cNvSpPr/>
                  <p:nvPr/>
                </p:nvSpPr>
                <p:spPr>
                  <a:xfrm flipV="1">
                    <a:off x="4581000" y="3391200"/>
                    <a:ext cx="125280" cy="37800"/>
                  </a:xfrm>
                  <a:custGeom>
                    <a:avLst/>
                    <a:gdLst>
                      <a:gd name="textAreaLeft" fmla="*/ 23760 w 125280"/>
                      <a:gd name="textAreaRight" fmla="*/ 101520 w 125280"/>
                      <a:gd name="textAreaTop" fmla="*/ 7200 h 37800"/>
                      <a:gd name="textAreaBottom" fmla="*/ 30600 h 37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7326" y="21600"/>
                        </a:lnTo>
                        <a:lnTo>
                          <a:pt x="4274" y="216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1" name=""/>
                  <p:cNvSpPr/>
                  <p:nvPr/>
                </p:nvSpPr>
                <p:spPr>
                  <a:xfrm flipV="1">
                    <a:off x="4330440" y="3391200"/>
                    <a:ext cx="125280" cy="37800"/>
                  </a:xfrm>
                  <a:custGeom>
                    <a:avLst/>
                    <a:gdLst>
                      <a:gd name="textAreaLeft" fmla="*/ 23760 w 125280"/>
                      <a:gd name="textAreaRight" fmla="*/ 101520 w 125280"/>
                      <a:gd name="textAreaTop" fmla="*/ 7200 h 37800"/>
                      <a:gd name="textAreaBottom" fmla="*/ 30600 h 37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7326" y="21600"/>
                        </a:lnTo>
                        <a:lnTo>
                          <a:pt x="4274" y="216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2" name=""/>
                  <p:cNvSpPr/>
                  <p:nvPr/>
                </p:nvSpPr>
                <p:spPr>
                  <a:xfrm flipV="1">
                    <a:off x="4413960" y="3467880"/>
                    <a:ext cx="125280" cy="38160"/>
                  </a:xfrm>
                  <a:custGeom>
                    <a:avLst/>
                    <a:gdLst>
                      <a:gd name="textAreaLeft" fmla="*/ 23760 w 125280"/>
                      <a:gd name="textAreaRight" fmla="*/ 101520 w 125280"/>
                      <a:gd name="textAreaTop" fmla="*/ 7200 h 38160"/>
                      <a:gd name="textAreaBottom" fmla="*/ 30960 h 38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7326" y="21600"/>
                        </a:lnTo>
                        <a:lnTo>
                          <a:pt x="4274" y="216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3" name=""/>
                <p:cNvGrpSpPr/>
                <p:nvPr/>
              </p:nvGrpSpPr>
              <p:grpSpPr>
                <a:xfrm>
                  <a:off x="4832280" y="3391920"/>
                  <a:ext cx="292320" cy="113760"/>
                  <a:chOff x="4832280" y="3391920"/>
                  <a:chExt cx="292320" cy="113760"/>
                </a:xfrm>
              </p:grpSpPr>
              <p:sp>
                <p:nvSpPr>
                  <p:cNvPr id="1664" name=""/>
                  <p:cNvSpPr/>
                  <p:nvPr/>
                </p:nvSpPr>
                <p:spPr>
                  <a:xfrm flipV="1">
                    <a:off x="4957560" y="3467520"/>
                    <a:ext cx="125280" cy="37800"/>
                  </a:xfrm>
                  <a:custGeom>
                    <a:avLst/>
                    <a:gdLst>
                      <a:gd name="textAreaLeft" fmla="*/ 23760 w 125280"/>
                      <a:gd name="textAreaRight" fmla="*/ 101520 w 125280"/>
                      <a:gd name="textAreaTop" fmla="*/ 7200 h 37800"/>
                      <a:gd name="textAreaBottom" fmla="*/ 30600 h 37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7326" y="21600"/>
                        </a:lnTo>
                        <a:lnTo>
                          <a:pt x="4274" y="216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 flipV="1">
                    <a:off x="4999320" y="3430080"/>
                    <a:ext cx="125280" cy="38160"/>
                  </a:xfrm>
                  <a:custGeom>
                    <a:avLst/>
                    <a:gdLst>
                      <a:gd name="textAreaLeft" fmla="*/ 23760 w 125280"/>
                      <a:gd name="textAreaRight" fmla="*/ 101520 w 125280"/>
                      <a:gd name="textAreaTop" fmla="*/ 7200 h 38160"/>
                      <a:gd name="textAreaBottom" fmla="*/ 30960 h 38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7326" y="21600"/>
                        </a:lnTo>
                        <a:lnTo>
                          <a:pt x="4274" y="216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6" name=""/>
                  <p:cNvSpPr/>
                  <p:nvPr/>
                </p:nvSpPr>
                <p:spPr>
                  <a:xfrm flipV="1">
                    <a:off x="4915800" y="3391920"/>
                    <a:ext cx="125280" cy="38160"/>
                  </a:xfrm>
                  <a:custGeom>
                    <a:avLst/>
                    <a:gdLst>
                      <a:gd name="textAreaLeft" fmla="*/ 23760 w 125280"/>
                      <a:gd name="textAreaRight" fmla="*/ 101520 w 125280"/>
                      <a:gd name="textAreaTop" fmla="*/ 7200 h 38160"/>
                      <a:gd name="textAreaBottom" fmla="*/ 30960 h 38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7326" y="21600"/>
                        </a:lnTo>
                        <a:lnTo>
                          <a:pt x="4274" y="216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"/>
                  <p:cNvSpPr/>
                  <p:nvPr/>
                </p:nvSpPr>
                <p:spPr>
                  <a:xfrm flipV="1">
                    <a:off x="4832280" y="3430080"/>
                    <a:ext cx="125280" cy="38160"/>
                  </a:xfrm>
                  <a:custGeom>
                    <a:avLst/>
                    <a:gdLst>
                      <a:gd name="textAreaLeft" fmla="*/ 23760 w 125280"/>
                      <a:gd name="textAreaRight" fmla="*/ 101520 w 125280"/>
                      <a:gd name="textAreaTop" fmla="*/ 7200 h 38160"/>
                      <a:gd name="textAreaBottom" fmla="*/ 30960 h 38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7326" y="21600"/>
                        </a:lnTo>
                        <a:lnTo>
                          <a:pt x="4274" y="216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68" name=""/>
              <p:cNvSpPr/>
              <p:nvPr/>
            </p:nvSpPr>
            <p:spPr>
              <a:xfrm flipV="1">
                <a:off x="4952880" y="2513880"/>
                <a:ext cx="909720" cy="826920"/>
              </a:xfrm>
              <a:custGeom>
                <a:avLst/>
                <a:gdLst>
                  <a:gd name="textAreaLeft" fmla="*/ 0 w 909720"/>
                  <a:gd name="textAreaRight" fmla="*/ 910080 w 909720"/>
                  <a:gd name="textAreaTop" fmla="*/ -360 h 826920"/>
                  <a:gd name="textAreaBottom" fmla="*/ 826920 h 82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5145602"/>
                    <a:lnTo>
                      <a:pt x="11598" y="30"/>
                    </a:lnTo>
                    <a:arcTo wR="10800" hR="10800" stAng="-5145602" swAng="5145602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9" name=""/>
            <p:cNvGrpSpPr/>
            <p:nvPr/>
          </p:nvGrpSpPr>
          <p:grpSpPr>
            <a:xfrm>
              <a:off x="4433760" y="4809960"/>
              <a:ext cx="978120" cy="507600"/>
              <a:chOff x="4433760" y="4809960"/>
              <a:chExt cx="978120" cy="507600"/>
            </a:xfrm>
          </p:grpSpPr>
          <p:grpSp>
            <p:nvGrpSpPr>
              <p:cNvPr id="1670" name=""/>
              <p:cNvGrpSpPr/>
              <p:nvPr/>
            </p:nvGrpSpPr>
            <p:grpSpPr>
              <a:xfrm>
                <a:off x="4433760" y="4844880"/>
                <a:ext cx="408960" cy="397080"/>
                <a:chOff x="4433760" y="4844880"/>
                <a:chExt cx="408960" cy="397080"/>
              </a:xfrm>
            </p:grpSpPr>
            <p:grpSp>
              <p:nvGrpSpPr>
                <p:cNvPr id="1671" name=""/>
                <p:cNvGrpSpPr/>
                <p:nvPr/>
              </p:nvGrpSpPr>
              <p:grpSpPr>
                <a:xfrm>
                  <a:off x="4780440" y="5121720"/>
                  <a:ext cx="62280" cy="56520"/>
                  <a:chOff x="4780440" y="5121720"/>
                  <a:chExt cx="62280" cy="56520"/>
                </a:xfrm>
              </p:grpSpPr>
              <p:sp>
                <p:nvSpPr>
                  <p:cNvPr id="1672" name=""/>
                  <p:cNvSpPr/>
                  <p:nvPr/>
                </p:nvSpPr>
                <p:spPr>
                  <a:xfrm>
                    <a:off x="4780440" y="5121720"/>
                    <a:ext cx="61560" cy="5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4" h="214">
                        <a:moveTo>
                          <a:pt x="35" y="33"/>
                        </a:moveTo>
                        <a:lnTo>
                          <a:pt x="66" y="5"/>
                        </a:lnTo>
                        <a:lnTo>
                          <a:pt x="85" y="0"/>
                        </a:lnTo>
                        <a:lnTo>
                          <a:pt x="122" y="5"/>
                        </a:lnTo>
                        <a:lnTo>
                          <a:pt x="161" y="11"/>
                        </a:lnTo>
                        <a:lnTo>
                          <a:pt x="187" y="16"/>
                        </a:lnTo>
                        <a:lnTo>
                          <a:pt x="195" y="22"/>
                        </a:lnTo>
                        <a:lnTo>
                          <a:pt x="200" y="35"/>
                        </a:lnTo>
                        <a:lnTo>
                          <a:pt x="202" y="43"/>
                        </a:lnTo>
                        <a:lnTo>
                          <a:pt x="195" y="52"/>
                        </a:lnTo>
                        <a:lnTo>
                          <a:pt x="203" y="60"/>
                        </a:lnTo>
                        <a:lnTo>
                          <a:pt x="206" y="72"/>
                        </a:lnTo>
                        <a:lnTo>
                          <a:pt x="204" y="79"/>
                        </a:lnTo>
                        <a:lnTo>
                          <a:pt x="210" y="87"/>
                        </a:lnTo>
                        <a:lnTo>
                          <a:pt x="213" y="96"/>
                        </a:lnTo>
                        <a:lnTo>
                          <a:pt x="211" y="107"/>
                        </a:lnTo>
                        <a:lnTo>
                          <a:pt x="204" y="119"/>
                        </a:lnTo>
                        <a:lnTo>
                          <a:pt x="210" y="130"/>
                        </a:lnTo>
                        <a:lnTo>
                          <a:pt x="214" y="144"/>
                        </a:lnTo>
                        <a:lnTo>
                          <a:pt x="209" y="159"/>
                        </a:lnTo>
                        <a:lnTo>
                          <a:pt x="200" y="166"/>
                        </a:lnTo>
                        <a:lnTo>
                          <a:pt x="200" y="189"/>
                        </a:lnTo>
                        <a:lnTo>
                          <a:pt x="192" y="202"/>
                        </a:lnTo>
                        <a:lnTo>
                          <a:pt x="174" y="208"/>
                        </a:lnTo>
                        <a:lnTo>
                          <a:pt x="94" y="214"/>
                        </a:lnTo>
                        <a:lnTo>
                          <a:pt x="56" y="200"/>
                        </a:lnTo>
                        <a:lnTo>
                          <a:pt x="8" y="148"/>
                        </a:lnTo>
                        <a:lnTo>
                          <a:pt x="1" y="126"/>
                        </a:lnTo>
                        <a:lnTo>
                          <a:pt x="0" y="108"/>
                        </a:lnTo>
                        <a:lnTo>
                          <a:pt x="2" y="92"/>
                        </a:lnTo>
                        <a:lnTo>
                          <a:pt x="9" y="66"/>
                        </a:lnTo>
                        <a:lnTo>
                          <a:pt x="18" y="53"/>
                        </a:lnTo>
                        <a:lnTo>
                          <a:pt x="35" y="33"/>
                        </a:lnTo>
                        <a:close/>
                      </a:path>
                    </a:pathLst>
                  </a:custGeom>
                  <a:solidFill>
                    <a:srgbClr val="f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73" name=""/>
                  <p:cNvGrpSpPr/>
                  <p:nvPr/>
                </p:nvGrpSpPr>
                <p:grpSpPr>
                  <a:xfrm>
                    <a:off x="4795920" y="5128560"/>
                    <a:ext cx="46800" cy="48960"/>
                    <a:chOff x="4795920" y="5128560"/>
                    <a:chExt cx="46800" cy="48960"/>
                  </a:xfrm>
                </p:grpSpPr>
                <p:sp>
                  <p:nvSpPr>
                    <p:cNvPr id="1674" name=""/>
                    <p:cNvSpPr/>
                    <p:nvPr/>
                  </p:nvSpPr>
                  <p:spPr>
                    <a:xfrm>
                      <a:off x="4795920" y="5140080"/>
                      <a:ext cx="4680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2" h="144">
                          <a:moveTo>
                            <a:pt x="48" y="20"/>
                          </a:moveTo>
                          <a:lnTo>
                            <a:pt x="67" y="22"/>
                          </a:lnTo>
                          <a:lnTo>
                            <a:pt x="79" y="22"/>
                          </a:lnTo>
                          <a:lnTo>
                            <a:pt x="78" y="0"/>
                          </a:lnTo>
                          <a:lnTo>
                            <a:pt x="86" y="12"/>
                          </a:lnTo>
                          <a:lnTo>
                            <a:pt x="93" y="18"/>
                          </a:lnTo>
                          <a:lnTo>
                            <a:pt x="101" y="20"/>
                          </a:lnTo>
                          <a:lnTo>
                            <a:pt x="118" y="18"/>
                          </a:lnTo>
                          <a:lnTo>
                            <a:pt x="130" y="13"/>
                          </a:lnTo>
                          <a:lnTo>
                            <a:pt x="141" y="9"/>
                          </a:lnTo>
                          <a:lnTo>
                            <a:pt x="151" y="6"/>
                          </a:lnTo>
                          <a:lnTo>
                            <a:pt x="155" y="2"/>
                          </a:lnTo>
                          <a:lnTo>
                            <a:pt x="152" y="9"/>
                          </a:lnTo>
                          <a:lnTo>
                            <a:pt x="158" y="17"/>
                          </a:lnTo>
                          <a:lnTo>
                            <a:pt x="161" y="26"/>
                          </a:lnTo>
                          <a:lnTo>
                            <a:pt x="160" y="37"/>
                          </a:lnTo>
                          <a:lnTo>
                            <a:pt x="152" y="49"/>
                          </a:lnTo>
                          <a:lnTo>
                            <a:pt x="158" y="60"/>
                          </a:lnTo>
                          <a:lnTo>
                            <a:pt x="162" y="74"/>
                          </a:lnTo>
                          <a:lnTo>
                            <a:pt x="157" y="89"/>
                          </a:lnTo>
                          <a:lnTo>
                            <a:pt x="149" y="96"/>
                          </a:lnTo>
                          <a:lnTo>
                            <a:pt x="149" y="119"/>
                          </a:lnTo>
                          <a:lnTo>
                            <a:pt x="140" y="132"/>
                          </a:lnTo>
                          <a:lnTo>
                            <a:pt x="122" y="138"/>
                          </a:lnTo>
                          <a:lnTo>
                            <a:pt x="43" y="144"/>
                          </a:lnTo>
                          <a:lnTo>
                            <a:pt x="4" y="130"/>
                          </a:lnTo>
                          <a:lnTo>
                            <a:pt x="27" y="137"/>
                          </a:lnTo>
                          <a:lnTo>
                            <a:pt x="48" y="140"/>
                          </a:lnTo>
                          <a:lnTo>
                            <a:pt x="63" y="139"/>
                          </a:lnTo>
                          <a:lnTo>
                            <a:pt x="76" y="136"/>
                          </a:lnTo>
                          <a:lnTo>
                            <a:pt x="80" y="124"/>
                          </a:lnTo>
                          <a:lnTo>
                            <a:pt x="80" y="139"/>
                          </a:lnTo>
                          <a:lnTo>
                            <a:pt x="99" y="137"/>
                          </a:lnTo>
                          <a:lnTo>
                            <a:pt x="123" y="136"/>
                          </a:lnTo>
                          <a:lnTo>
                            <a:pt x="135" y="130"/>
                          </a:lnTo>
                          <a:lnTo>
                            <a:pt x="140" y="120"/>
                          </a:lnTo>
                          <a:lnTo>
                            <a:pt x="145" y="109"/>
                          </a:lnTo>
                          <a:lnTo>
                            <a:pt x="146" y="100"/>
                          </a:lnTo>
                          <a:lnTo>
                            <a:pt x="133" y="103"/>
                          </a:lnTo>
                          <a:lnTo>
                            <a:pt x="118" y="106"/>
                          </a:lnTo>
                          <a:lnTo>
                            <a:pt x="101" y="107"/>
                          </a:lnTo>
                          <a:lnTo>
                            <a:pt x="83" y="109"/>
                          </a:lnTo>
                          <a:lnTo>
                            <a:pt x="69" y="107"/>
                          </a:lnTo>
                          <a:lnTo>
                            <a:pt x="55" y="106"/>
                          </a:lnTo>
                          <a:lnTo>
                            <a:pt x="39" y="101"/>
                          </a:lnTo>
                          <a:lnTo>
                            <a:pt x="21" y="96"/>
                          </a:lnTo>
                          <a:lnTo>
                            <a:pt x="10" y="86"/>
                          </a:lnTo>
                          <a:lnTo>
                            <a:pt x="26" y="94"/>
                          </a:lnTo>
                          <a:lnTo>
                            <a:pt x="37" y="96"/>
                          </a:lnTo>
                          <a:lnTo>
                            <a:pt x="51" y="98"/>
                          </a:lnTo>
                          <a:lnTo>
                            <a:pt x="66" y="100"/>
                          </a:lnTo>
                          <a:lnTo>
                            <a:pt x="83" y="101"/>
                          </a:lnTo>
                          <a:lnTo>
                            <a:pt x="95" y="97"/>
                          </a:lnTo>
                          <a:lnTo>
                            <a:pt x="106" y="91"/>
                          </a:lnTo>
                          <a:lnTo>
                            <a:pt x="108" y="100"/>
                          </a:lnTo>
                          <a:lnTo>
                            <a:pt x="116" y="99"/>
                          </a:lnTo>
                          <a:lnTo>
                            <a:pt x="129" y="98"/>
                          </a:lnTo>
                          <a:lnTo>
                            <a:pt x="140" y="97"/>
                          </a:lnTo>
                          <a:lnTo>
                            <a:pt x="145" y="93"/>
                          </a:lnTo>
                          <a:lnTo>
                            <a:pt x="149" y="87"/>
                          </a:lnTo>
                          <a:lnTo>
                            <a:pt x="152" y="81"/>
                          </a:lnTo>
                          <a:lnTo>
                            <a:pt x="155" y="74"/>
                          </a:lnTo>
                          <a:lnTo>
                            <a:pt x="153" y="67"/>
                          </a:lnTo>
                          <a:lnTo>
                            <a:pt x="151" y="62"/>
                          </a:lnTo>
                          <a:lnTo>
                            <a:pt x="144" y="62"/>
                          </a:lnTo>
                          <a:lnTo>
                            <a:pt x="128" y="65"/>
                          </a:lnTo>
                          <a:lnTo>
                            <a:pt x="113" y="70"/>
                          </a:lnTo>
                          <a:lnTo>
                            <a:pt x="97" y="72"/>
                          </a:lnTo>
                          <a:lnTo>
                            <a:pt x="80" y="73"/>
                          </a:lnTo>
                          <a:lnTo>
                            <a:pt x="65" y="74"/>
                          </a:lnTo>
                          <a:lnTo>
                            <a:pt x="45" y="74"/>
                          </a:lnTo>
                          <a:lnTo>
                            <a:pt x="28" y="70"/>
                          </a:lnTo>
                          <a:lnTo>
                            <a:pt x="15" y="65"/>
                          </a:lnTo>
                          <a:lnTo>
                            <a:pt x="0" y="54"/>
                          </a:lnTo>
                          <a:lnTo>
                            <a:pt x="24" y="63"/>
                          </a:lnTo>
                          <a:lnTo>
                            <a:pt x="37" y="66"/>
                          </a:lnTo>
                          <a:lnTo>
                            <a:pt x="51" y="70"/>
                          </a:lnTo>
                          <a:lnTo>
                            <a:pt x="66" y="69"/>
                          </a:lnTo>
                          <a:lnTo>
                            <a:pt x="77" y="67"/>
                          </a:lnTo>
                          <a:lnTo>
                            <a:pt x="88" y="64"/>
                          </a:lnTo>
                          <a:lnTo>
                            <a:pt x="96" y="56"/>
                          </a:lnTo>
                          <a:lnTo>
                            <a:pt x="106" y="50"/>
                          </a:lnTo>
                          <a:lnTo>
                            <a:pt x="100" y="59"/>
                          </a:lnTo>
                          <a:lnTo>
                            <a:pt x="105" y="64"/>
                          </a:lnTo>
                          <a:lnTo>
                            <a:pt x="110" y="63"/>
                          </a:lnTo>
                          <a:lnTo>
                            <a:pt x="123" y="60"/>
                          </a:lnTo>
                          <a:lnTo>
                            <a:pt x="135" y="57"/>
                          </a:lnTo>
                          <a:lnTo>
                            <a:pt x="146" y="49"/>
                          </a:lnTo>
                          <a:lnTo>
                            <a:pt x="155" y="40"/>
                          </a:lnTo>
                          <a:lnTo>
                            <a:pt x="156" y="32"/>
                          </a:lnTo>
                          <a:lnTo>
                            <a:pt x="155" y="23"/>
                          </a:lnTo>
                          <a:lnTo>
                            <a:pt x="153" y="11"/>
                          </a:lnTo>
                          <a:lnTo>
                            <a:pt x="142" y="15"/>
                          </a:lnTo>
                          <a:lnTo>
                            <a:pt x="128" y="22"/>
                          </a:lnTo>
                          <a:lnTo>
                            <a:pt x="107" y="27"/>
                          </a:lnTo>
                          <a:lnTo>
                            <a:pt x="84" y="29"/>
                          </a:lnTo>
                          <a:lnTo>
                            <a:pt x="61" y="27"/>
                          </a:lnTo>
                          <a:lnTo>
                            <a:pt x="40" y="24"/>
                          </a:lnTo>
                          <a:lnTo>
                            <a:pt x="21" y="17"/>
                          </a:lnTo>
                          <a:lnTo>
                            <a:pt x="48" y="20"/>
                          </a:lnTo>
                          <a:close/>
                        </a:path>
                      </a:pathLst>
                    </a:custGeom>
                    <a:solidFill>
                      <a:srgbClr val="df9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5" name=""/>
                    <p:cNvSpPr/>
                    <p:nvPr/>
                  </p:nvSpPr>
                  <p:spPr>
                    <a:xfrm>
                      <a:off x="4797360" y="5128560"/>
                      <a:ext cx="309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" h="18">
                          <a:moveTo>
                            <a:pt x="108" y="0"/>
                          </a:moveTo>
                          <a:lnTo>
                            <a:pt x="98" y="7"/>
                          </a:lnTo>
                          <a:lnTo>
                            <a:pt x="89" y="16"/>
                          </a:lnTo>
                          <a:lnTo>
                            <a:pt x="78" y="14"/>
                          </a:lnTo>
                          <a:lnTo>
                            <a:pt x="67" y="8"/>
                          </a:lnTo>
                          <a:lnTo>
                            <a:pt x="56" y="8"/>
                          </a:lnTo>
                          <a:lnTo>
                            <a:pt x="38" y="13"/>
                          </a:lnTo>
                          <a:lnTo>
                            <a:pt x="25" y="18"/>
                          </a:lnTo>
                          <a:lnTo>
                            <a:pt x="34" y="11"/>
                          </a:lnTo>
                          <a:lnTo>
                            <a:pt x="16" y="8"/>
                          </a:lnTo>
                          <a:lnTo>
                            <a:pt x="0" y="6"/>
                          </a:lnTo>
                          <a:lnTo>
                            <a:pt x="21" y="5"/>
                          </a:lnTo>
                          <a:lnTo>
                            <a:pt x="38" y="7"/>
                          </a:lnTo>
                          <a:lnTo>
                            <a:pt x="51" y="7"/>
                          </a:lnTo>
                          <a:lnTo>
                            <a:pt x="61" y="5"/>
                          </a:lnTo>
                          <a:lnTo>
                            <a:pt x="71" y="5"/>
                          </a:lnTo>
                          <a:lnTo>
                            <a:pt x="78" y="8"/>
                          </a:lnTo>
                          <a:lnTo>
                            <a:pt x="89" y="12"/>
                          </a:lnTo>
                          <a:lnTo>
                            <a:pt x="108" y="0"/>
                          </a:lnTo>
                          <a:close/>
                        </a:path>
                      </a:pathLst>
                    </a:custGeom>
                    <a:solidFill>
                      <a:srgbClr val="df9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676" name=""/>
                <p:cNvGrpSpPr/>
                <p:nvPr/>
              </p:nvGrpSpPr>
              <p:grpSpPr>
                <a:xfrm>
                  <a:off x="4558320" y="5050440"/>
                  <a:ext cx="79560" cy="136800"/>
                  <a:chOff x="4558320" y="5050440"/>
                  <a:chExt cx="79560" cy="136800"/>
                </a:xfrm>
              </p:grpSpPr>
              <p:sp>
                <p:nvSpPr>
                  <p:cNvPr id="1677" name=""/>
                  <p:cNvSpPr/>
                  <p:nvPr/>
                </p:nvSpPr>
                <p:spPr>
                  <a:xfrm>
                    <a:off x="4558320" y="5050440"/>
                    <a:ext cx="7956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513">
                        <a:moveTo>
                          <a:pt x="0" y="0"/>
                        </a:moveTo>
                        <a:lnTo>
                          <a:pt x="26" y="14"/>
                        </a:lnTo>
                        <a:lnTo>
                          <a:pt x="56" y="23"/>
                        </a:lnTo>
                        <a:lnTo>
                          <a:pt x="91" y="30"/>
                        </a:lnTo>
                        <a:lnTo>
                          <a:pt x="129" y="37"/>
                        </a:lnTo>
                        <a:lnTo>
                          <a:pt x="154" y="35"/>
                        </a:lnTo>
                        <a:lnTo>
                          <a:pt x="183" y="28"/>
                        </a:lnTo>
                        <a:lnTo>
                          <a:pt x="208" y="20"/>
                        </a:lnTo>
                        <a:lnTo>
                          <a:pt x="235" y="3"/>
                        </a:lnTo>
                        <a:lnTo>
                          <a:pt x="263" y="125"/>
                        </a:lnTo>
                        <a:lnTo>
                          <a:pt x="267" y="203"/>
                        </a:lnTo>
                        <a:lnTo>
                          <a:pt x="271" y="238"/>
                        </a:lnTo>
                        <a:lnTo>
                          <a:pt x="271" y="305"/>
                        </a:lnTo>
                        <a:lnTo>
                          <a:pt x="267" y="361"/>
                        </a:lnTo>
                        <a:lnTo>
                          <a:pt x="259" y="430"/>
                        </a:lnTo>
                        <a:lnTo>
                          <a:pt x="246" y="492"/>
                        </a:lnTo>
                        <a:lnTo>
                          <a:pt x="67" y="513"/>
                        </a:lnTo>
                        <a:lnTo>
                          <a:pt x="41" y="289"/>
                        </a:lnTo>
                        <a:lnTo>
                          <a:pt x="22" y="1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8" name=""/>
                  <p:cNvSpPr/>
                  <p:nvPr/>
                </p:nvSpPr>
                <p:spPr>
                  <a:xfrm>
                    <a:off x="4569480" y="5084280"/>
                    <a:ext cx="6696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390">
                        <a:moveTo>
                          <a:pt x="0" y="27"/>
                        </a:moveTo>
                        <a:lnTo>
                          <a:pt x="98" y="27"/>
                        </a:lnTo>
                        <a:lnTo>
                          <a:pt x="146" y="24"/>
                        </a:lnTo>
                        <a:lnTo>
                          <a:pt x="196" y="14"/>
                        </a:lnTo>
                        <a:lnTo>
                          <a:pt x="229" y="0"/>
                        </a:lnTo>
                        <a:lnTo>
                          <a:pt x="233" y="328"/>
                        </a:lnTo>
                        <a:lnTo>
                          <a:pt x="66" y="390"/>
                        </a:lnTo>
                        <a:lnTo>
                          <a:pt x="0" y="27"/>
                        </a:lnTo>
                        <a:close/>
                      </a:path>
                    </a:pathLst>
                  </a:custGeom>
                  <a:solidFill>
                    <a:srgbClr val="ffb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9" name=""/>
                <p:cNvGrpSpPr/>
                <p:nvPr/>
              </p:nvGrpSpPr>
              <p:grpSpPr>
                <a:xfrm>
                  <a:off x="4605840" y="5015880"/>
                  <a:ext cx="158760" cy="169920"/>
                  <a:chOff x="4605840" y="5015880"/>
                  <a:chExt cx="158760" cy="169920"/>
                </a:xfrm>
              </p:grpSpPr>
              <p:sp>
                <p:nvSpPr>
                  <p:cNvPr id="1680" name=""/>
                  <p:cNvSpPr/>
                  <p:nvPr/>
                </p:nvSpPr>
                <p:spPr>
                  <a:xfrm>
                    <a:off x="4605840" y="5015880"/>
                    <a:ext cx="15876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545" h="645">
                        <a:moveTo>
                          <a:pt x="22" y="0"/>
                        </a:moveTo>
                        <a:lnTo>
                          <a:pt x="55" y="14"/>
                        </a:lnTo>
                        <a:lnTo>
                          <a:pt x="91" y="53"/>
                        </a:lnTo>
                        <a:lnTo>
                          <a:pt x="224" y="99"/>
                        </a:lnTo>
                        <a:lnTo>
                          <a:pt x="260" y="120"/>
                        </a:lnTo>
                        <a:lnTo>
                          <a:pt x="300" y="190"/>
                        </a:lnTo>
                        <a:lnTo>
                          <a:pt x="300" y="236"/>
                        </a:lnTo>
                        <a:lnTo>
                          <a:pt x="308" y="271"/>
                        </a:lnTo>
                        <a:lnTo>
                          <a:pt x="330" y="331"/>
                        </a:lnTo>
                        <a:lnTo>
                          <a:pt x="392" y="434"/>
                        </a:lnTo>
                        <a:lnTo>
                          <a:pt x="436" y="504"/>
                        </a:lnTo>
                        <a:lnTo>
                          <a:pt x="483" y="564"/>
                        </a:lnTo>
                        <a:lnTo>
                          <a:pt x="545" y="634"/>
                        </a:lnTo>
                        <a:lnTo>
                          <a:pt x="29" y="645"/>
                        </a:lnTo>
                        <a:lnTo>
                          <a:pt x="62" y="578"/>
                        </a:lnTo>
                        <a:lnTo>
                          <a:pt x="76" y="529"/>
                        </a:lnTo>
                        <a:lnTo>
                          <a:pt x="84" y="441"/>
                        </a:lnTo>
                        <a:lnTo>
                          <a:pt x="80" y="293"/>
                        </a:lnTo>
                        <a:lnTo>
                          <a:pt x="66" y="183"/>
                        </a:lnTo>
                        <a:lnTo>
                          <a:pt x="44" y="106"/>
                        </a:lnTo>
                        <a:lnTo>
                          <a:pt x="0" y="35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>
                    <a:off x="4645080" y="5037120"/>
                    <a:ext cx="34200" cy="89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338">
                        <a:moveTo>
                          <a:pt x="0" y="0"/>
                        </a:moveTo>
                        <a:lnTo>
                          <a:pt x="44" y="32"/>
                        </a:lnTo>
                        <a:lnTo>
                          <a:pt x="67" y="67"/>
                        </a:lnTo>
                        <a:lnTo>
                          <a:pt x="82" y="102"/>
                        </a:lnTo>
                        <a:lnTo>
                          <a:pt x="95" y="141"/>
                        </a:lnTo>
                        <a:lnTo>
                          <a:pt x="110" y="187"/>
                        </a:lnTo>
                        <a:lnTo>
                          <a:pt x="117" y="236"/>
                        </a:lnTo>
                        <a:lnTo>
                          <a:pt x="117" y="300"/>
                        </a:lnTo>
                        <a:lnTo>
                          <a:pt x="110" y="338"/>
                        </a:lnTo>
                        <a:lnTo>
                          <a:pt x="99" y="264"/>
                        </a:lnTo>
                        <a:lnTo>
                          <a:pt x="89" y="220"/>
                        </a:lnTo>
                        <a:lnTo>
                          <a:pt x="73" y="194"/>
                        </a:lnTo>
                        <a:lnTo>
                          <a:pt x="53" y="181"/>
                        </a:lnTo>
                        <a:lnTo>
                          <a:pt x="64" y="155"/>
                        </a:lnTo>
                        <a:lnTo>
                          <a:pt x="67" y="114"/>
                        </a:lnTo>
                        <a:lnTo>
                          <a:pt x="51" y="78"/>
                        </a:lnTo>
                        <a:lnTo>
                          <a:pt x="30" y="3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3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82" name=""/>
                <p:cNvSpPr/>
                <p:nvPr/>
              </p:nvSpPr>
              <p:spPr>
                <a:xfrm>
                  <a:off x="4591080" y="5162040"/>
                  <a:ext cx="47880" cy="33480"/>
                </a:xfrm>
                <a:custGeom>
                  <a:avLst/>
                  <a:gdLst/>
                  <a:ahLst/>
                  <a:rect l="l" t="t" r="r" b="b"/>
                  <a:pathLst>
                    <a:path w="160" h="125">
                      <a:moveTo>
                        <a:pt x="135" y="21"/>
                      </a:moveTo>
                      <a:lnTo>
                        <a:pt x="110" y="0"/>
                      </a:lnTo>
                      <a:lnTo>
                        <a:pt x="72" y="9"/>
                      </a:lnTo>
                      <a:lnTo>
                        <a:pt x="40" y="21"/>
                      </a:lnTo>
                      <a:lnTo>
                        <a:pt x="7" y="34"/>
                      </a:lnTo>
                      <a:lnTo>
                        <a:pt x="0" y="45"/>
                      </a:lnTo>
                      <a:lnTo>
                        <a:pt x="18" y="62"/>
                      </a:lnTo>
                      <a:lnTo>
                        <a:pt x="24" y="83"/>
                      </a:lnTo>
                      <a:lnTo>
                        <a:pt x="39" y="98"/>
                      </a:lnTo>
                      <a:lnTo>
                        <a:pt x="54" y="108"/>
                      </a:lnTo>
                      <a:lnTo>
                        <a:pt x="76" y="115"/>
                      </a:lnTo>
                      <a:lnTo>
                        <a:pt x="91" y="125"/>
                      </a:lnTo>
                      <a:lnTo>
                        <a:pt x="117" y="125"/>
                      </a:lnTo>
                      <a:lnTo>
                        <a:pt x="130" y="125"/>
                      </a:lnTo>
                      <a:lnTo>
                        <a:pt x="139" y="115"/>
                      </a:lnTo>
                      <a:lnTo>
                        <a:pt x="138" y="97"/>
                      </a:lnTo>
                      <a:lnTo>
                        <a:pt x="160" y="98"/>
                      </a:lnTo>
                      <a:lnTo>
                        <a:pt x="135" y="90"/>
                      </a:lnTo>
                      <a:lnTo>
                        <a:pt x="130" y="69"/>
                      </a:lnTo>
                      <a:lnTo>
                        <a:pt x="132" y="55"/>
                      </a:lnTo>
                      <a:lnTo>
                        <a:pt x="130" y="44"/>
                      </a:lnTo>
                      <a:lnTo>
                        <a:pt x="135" y="21"/>
                      </a:lnTo>
                      <a:close/>
                    </a:path>
                  </a:pathLst>
                </a:custGeom>
                <a:solidFill>
                  <a:srgbClr val="f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4527360" y="5210640"/>
                  <a:ext cx="21600" cy="23760"/>
                </a:xfrm>
                <a:custGeom>
                  <a:avLst/>
                  <a:gdLst/>
                  <a:ahLst/>
                  <a:rect l="l" t="t" r="r" b="b"/>
                  <a:pathLst>
                    <a:path w="77" h="90">
                      <a:moveTo>
                        <a:pt x="77" y="0"/>
                      </a:moveTo>
                      <a:lnTo>
                        <a:pt x="19" y="90"/>
                      </a:lnTo>
                      <a:lnTo>
                        <a:pt x="0" y="26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84" name=""/>
                <p:cNvGrpSpPr/>
                <p:nvPr/>
              </p:nvGrpSpPr>
              <p:grpSpPr>
                <a:xfrm>
                  <a:off x="4433760" y="5004360"/>
                  <a:ext cx="160560" cy="237600"/>
                  <a:chOff x="4433760" y="5004360"/>
                  <a:chExt cx="160560" cy="237600"/>
                </a:xfrm>
              </p:grpSpPr>
              <p:sp>
                <p:nvSpPr>
                  <p:cNvPr id="1685" name=""/>
                  <p:cNvSpPr/>
                  <p:nvPr/>
                </p:nvSpPr>
                <p:spPr>
                  <a:xfrm>
                    <a:off x="4433760" y="5004360"/>
                    <a:ext cx="160560" cy="236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2" h="889">
                        <a:moveTo>
                          <a:pt x="427" y="11"/>
                        </a:moveTo>
                        <a:lnTo>
                          <a:pt x="351" y="0"/>
                        </a:lnTo>
                        <a:lnTo>
                          <a:pt x="296" y="4"/>
                        </a:lnTo>
                        <a:lnTo>
                          <a:pt x="234" y="11"/>
                        </a:lnTo>
                        <a:lnTo>
                          <a:pt x="201" y="18"/>
                        </a:lnTo>
                        <a:lnTo>
                          <a:pt x="183" y="39"/>
                        </a:lnTo>
                        <a:lnTo>
                          <a:pt x="161" y="35"/>
                        </a:lnTo>
                        <a:lnTo>
                          <a:pt x="128" y="60"/>
                        </a:lnTo>
                        <a:lnTo>
                          <a:pt x="102" y="88"/>
                        </a:lnTo>
                        <a:lnTo>
                          <a:pt x="84" y="116"/>
                        </a:lnTo>
                        <a:lnTo>
                          <a:pt x="62" y="152"/>
                        </a:lnTo>
                        <a:lnTo>
                          <a:pt x="51" y="190"/>
                        </a:lnTo>
                        <a:lnTo>
                          <a:pt x="40" y="257"/>
                        </a:lnTo>
                        <a:lnTo>
                          <a:pt x="33" y="303"/>
                        </a:lnTo>
                        <a:lnTo>
                          <a:pt x="33" y="377"/>
                        </a:lnTo>
                        <a:lnTo>
                          <a:pt x="48" y="426"/>
                        </a:lnTo>
                        <a:lnTo>
                          <a:pt x="44" y="462"/>
                        </a:lnTo>
                        <a:lnTo>
                          <a:pt x="33" y="553"/>
                        </a:lnTo>
                        <a:lnTo>
                          <a:pt x="22" y="592"/>
                        </a:lnTo>
                        <a:lnTo>
                          <a:pt x="18" y="634"/>
                        </a:lnTo>
                        <a:lnTo>
                          <a:pt x="7" y="662"/>
                        </a:lnTo>
                        <a:lnTo>
                          <a:pt x="0" y="694"/>
                        </a:lnTo>
                        <a:lnTo>
                          <a:pt x="4" y="729"/>
                        </a:lnTo>
                        <a:lnTo>
                          <a:pt x="18" y="761"/>
                        </a:lnTo>
                        <a:lnTo>
                          <a:pt x="48" y="789"/>
                        </a:lnTo>
                        <a:lnTo>
                          <a:pt x="99" y="835"/>
                        </a:lnTo>
                        <a:lnTo>
                          <a:pt x="128" y="846"/>
                        </a:lnTo>
                        <a:lnTo>
                          <a:pt x="165" y="856"/>
                        </a:lnTo>
                        <a:lnTo>
                          <a:pt x="194" y="868"/>
                        </a:lnTo>
                        <a:lnTo>
                          <a:pt x="219" y="882"/>
                        </a:lnTo>
                        <a:lnTo>
                          <a:pt x="340" y="889"/>
                        </a:lnTo>
                        <a:lnTo>
                          <a:pt x="420" y="786"/>
                        </a:lnTo>
                        <a:lnTo>
                          <a:pt x="449" y="691"/>
                        </a:lnTo>
                        <a:lnTo>
                          <a:pt x="552" y="691"/>
                        </a:lnTo>
                        <a:lnTo>
                          <a:pt x="544" y="553"/>
                        </a:lnTo>
                        <a:lnTo>
                          <a:pt x="526" y="398"/>
                        </a:lnTo>
                        <a:lnTo>
                          <a:pt x="493" y="204"/>
                        </a:lnTo>
                        <a:lnTo>
                          <a:pt x="475" y="116"/>
                        </a:lnTo>
                        <a:lnTo>
                          <a:pt x="427" y="11"/>
                        </a:lnTo>
                        <a:close/>
                      </a:path>
                    </a:pathLst>
                  </a:custGeom>
                  <a:solidFill>
                    <a:srgbClr val="f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6" name=""/>
                  <p:cNvSpPr/>
                  <p:nvPr/>
                </p:nvSpPr>
                <p:spPr>
                  <a:xfrm>
                    <a:off x="4483440" y="5163480"/>
                    <a:ext cx="7236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296">
                        <a:moveTo>
                          <a:pt x="233" y="14"/>
                        </a:moveTo>
                        <a:lnTo>
                          <a:pt x="144" y="7"/>
                        </a:lnTo>
                        <a:lnTo>
                          <a:pt x="51" y="0"/>
                        </a:lnTo>
                        <a:lnTo>
                          <a:pt x="35" y="21"/>
                        </a:lnTo>
                        <a:lnTo>
                          <a:pt x="28" y="38"/>
                        </a:lnTo>
                        <a:lnTo>
                          <a:pt x="17" y="59"/>
                        </a:lnTo>
                        <a:lnTo>
                          <a:pt x="7" y="91"/>
                        </a:lnTo>
                        <a:lnTo>
                          <a:pt x="2" y="119"/>
                        </a:lnTo>
                        <a:lnTo>
                          <a:pt x="0" y="145"/>
                        </a:lnTo>
                        <a:lnTo>
                          <a:pt x="3" y="176"/>
                        </a:lnTo>
                        <a:lnTo>
                          <a:pt x="14" y="217"/>
                        </a:lnTo>
                        <a:lnTo>
                          <a:pt x="25" y="250"/>
                        </a:lnTo>
                        <a:lnTo>
                          <a:pt x="28" y="280"/>
                        </a:lnTo>
                        <a:lnTo>
                          <a:pt x="177" y="296"/>
                        </a:lnTo>
                        <a:lnTo>
                          <a:pt x="241" y="193"/>
                        </a:lnTo>
                        <a:lnTo>
                          <a:pt x="248" y="166"/>
                        </a:lnTo>
                        <a:lnTo>
                          <a:pt x="233" y="14"/>
                        </a:lnTo>
                        <a:close/>
                      </a:path>
                    </a:pathLst>
                  </a:custGeom>
                  <a:solidFill>
                    <a:srgbClr val="df1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7" name=""/>
                  <p:cNvSpPr/>
                  <p:nvPr/>
                </p:nvSpPr>
                <p:spPr>
                  <a:xfrm>
                    <a:off x="4451040" y="5020200"/>
                    <a:ext cx="6804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567">
                        <a:moveTo>
                          <a:pt x="146" y="0"/>
                        </a:moveTo>
                        <a:lnTo>
                          <a:pt x="189" y="70"/>
                        </a:lnTo>
                        <a:lnTo>
                          <a:pt x="215" y="144"/>
                        </a:lnTo>
                        <a:lnTo>
                          <a:pt x="230" y="233"/>
                        </a:lnTo>
                        <a:lnTo>
                          <a:pt x="233" y="331"/>
                        </a:lnTo>
                        <a:lnTo>
                          <a:pt x="230" y="447"/>
                        </a:lnTo>
                        <a:lnTo>
                          <a:pt x="219" y="497"/>
                        </a:lnTo>
                        <a:lnTo>
                          <a:pt x="160" y="539"/>
                        </a:lnTo>
                        <a:lnTo>
                          <a:pt x="131" y="521"/>
                        </a:lnTo>
                        <a:lnTo>
                          <a:pt x="102" y="514"/>
                        </a:lnTo>
                        <a:lnTo>
                          <a:pt x="76" y="521"/>
                        </a:lnTo>
                        <a:lnTo>
                          <a:pt x="58" y="546"/>
                        </a:lnTo>
                        <a:lnTo>
                          <a:pt x="25" y="560"/>
                        </a:lnTo>
                        <a:lnTo>
                          <a:pt x="0" y="567"/>
                        </a:lnTo>
                        <a:lnTo>
                          <a:pt x="40" y="532"/>
                        </a:lnTo>
                        <a:lnTo>
                          <a:pt x="65" y="521"/>
                        </a:lnTo>
                        <a:lnTo>
                          <a:pt x="84" y="504"/>
                        </a:lnTo>
                        <a:lnTo>
                          <a:pt x="106" y="504"/>
                        </a:lnTo>
                        <a:lnTo>
                          <a:pt x="131" y="479"/>
                        </a:lnTo>
                        <a:lnTo>
                          <a:pt x="106" y="451"/>
                        </a:lnTo>
                        <a:lnTo>
                          <a:pt x="142" y="458"/>
                        </a:lnTo>
                        <a:lnTo>
                          <a:pt x="116" y="377"/>
                        </a:lnTo>
                        <a:lnTo>
                          <a:pt x="95" y="310"/>
                        </a:lnTo>
                        <a:lnTo>
                          <a:pt x="87" y="263"/>
                        </a:lnTo>
                        <a:lnTo>
                          <a:pt x="98" y="194"/>
                        </a:lnTo>
                        <a:lnTo>
                          <a:pt x="116" y="271"/>
                        </a:lnTo>
                        <a:lnTo>
                          <a:pt x="153" y="359"/>
                        </a:lnTo>
                        <a:lnTo>
                          <a:pt x="197" y="454"/>
                        </a:lnTo>
                        <a:lnTo>
                          <a:pt x="197" y="324"/>
                        </a:lnTo>
                        <a:lnTo>
                          <a:pt x="189" y="236"/>
                        </a:lnTo>
                        <a:lnTo>
                          <a:pt x="179" y="106"/>
                        </a:lnTo>
                        <a:lnTo>
                          <a:pt x="146" y="0"/>
                        </a:lnTo>
                        <a:close/>
                      </a:path>
                    </a:pathLst>
                  </a:custGeom>
                  <a:solidFill>
                    <a:srgbClr val="df3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88" name=""/>
                <p:cNvSpPr/>
                <p:nvPr/>
              </p:nvSpPr>
              <p:spPr>
                <a:xfrm>
                  <a:off x="4620960" y="5103720"/>
                  <a:ext cx="198000" cy="95400"/>
                </a:xfrm>
                <a:custGeom>
                  <a:avLst/>
                  <a:gdLst/>
                  <a:ahLst/>
                  <a:rect l="l" t="t" r="r" b="b"/>
                  <a:pathLst>
                    <a:path w="681" h="359">
                      <a:moveTo>
                        <a:pt x="0" y="292"/>
                      </a:moveTo>
                      <a:lnTo>
                        <a:pt x="263" y="0"/>
                      </a:lnTo>
                      <a:lnTo>
                        <a:pt x="681" y="111"/>
                      </a:lnTo>
                      <a:lnTo>
                        <a:pt x="509" y="320"/>
                      </a:lnTo>
                      <a:lnTo>
                        <a:pt x="402" y="344"/>
                      </a:lnTo>
                      <a:lnTo>
                        <a:pt x="293" y="359"/>
                      </a:lnTo>
                      <a:lnTo>
                        <a:pt x="55" y="345"/>
                      </a:lnTo>
                      <a:lnTo>
                        <a:pt x="0" y="29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4523040" y="5159880"/>
                  <a:ext cx="169560" cy="62280"/>
                </a:xfrm>
                <a:custGeom>
                  <a:avLst/>
                  <a:gdLst/>
                  <a:ahLst/>
                  <a:rect l="l" t="t" r="r" b="b"/>
                  <a:pathLst>
                    <a:path w="582" h="236">
                      <a:moveTo>
                        <a:pt x="32" y="57"/>
                      </a:moveTo>
                      <a:lnTo>
                        <a:pt x="249" y="29"/>
                      </a:lnTo>
                      <a:lnTo>
                        <a:pt x="295" y="12"/>
                      </a:lnTo>
                      <a:lnTo>
                        <a:pt x="318" y="3"/>
                      </a:lnTo>
                      <a:lnTo>
                        <a:pt x="342" y="0"/>
                      </a:lnTo>
                      <a:lnTo>
                        <a:pt x="375" y="5"/>
                      </a:lnTo>
                      <a:lnTo>
                        <a:pt x="412" y="12"/>
                      </a:lnTo>
                      <a:lnTo>
                        <a:pt x="439" y="15"/>
                      </a:lnTo>
                      <a:lnTo>
                        <a:pt x="491" y="21"/>
                      </a:lnTo>
                      <a:lnTo>
                        <a:pt x="517" y="22"/>
                      </a:lnTo>
                      <a:lnTo>
                        <a:pt x="537" y="26"/>
                      </a:lnTo>
                      <a:lnTo>
                        <a:pt x="559" y="29"/>
                      </a:lnTo>
                      <a:lnTo>
                        <a:pt x="577" y="36"/>
                      </a:lnTo>
                      <a:lnTo>
                        <a:pt x="582" y="46"/>
                      </a:lnTo>
                      <a:lnTo>
                        <a:pt x="574" y="54"/>
                      </a:lnTo>
                      <a:lnTo>
                        <a:pt x="537" y="56"/>
                      </a:lnTo>
                      <a:lnTo>
                        <a:pt x="523" y="57"/>
                      </a:lnTo>
                      <a:lnTo>
                        <a:pt x="520" y="82"/>
                      </a:lnTo>
                      <a:lnTo>
                        <a:pt x="512" y="92"/>
                      </a:lnTo>
                      <a:lnTo>
                        <a:pt x="506" y="93"/>
                      </a:lnTo>
                      <a:lnTo>
                        <a:pt x="501" y="109"/>
                      </a:lnTo>
                      <a:lnTo>
                        <a:pt x="490" y="121"/>
                      </a:lnTo>
                      <a:lnTo>
                        <a:pt x="476" y="127"/>
                      </a:lnTo>
                      <a:lnTo>
                        <a:pt x="468" y="137"/>
                      </a:lnTo>
                      <a:lnTo>
                        <a:pt x="457" y="142"/>
                      </a:lnTo>
                      <a:lnTo>
                        <a:pt x="423" y="160"/>
                      </a:lnTo>
                      <a:lnTo>
                        <a:pt x="405" y="167"/>
                      </a:lnTo>
                      <a:lnTo>
                        <a:pt x="351" y="169"/>
                      </a:lnTo>
                      <a:lnTo>
                        <a:pt x="311" y="165"/>
                      </a:lnTo>
                      <a:lnTo>
                        <a:pt x="288" y="155"/>
                      </a:lnTo>
                      <a:lnTo>
                        <a:pt x="277" y="151"/>
                      </a:lnTo>
                      <a:lnTo>
                        <a:pt x="256" y="155"/>
                      </a:lnTo>
                      <a:lnTo>
                        <a:pt x="222" y="158"/>
                      </a:lnTo>
                      <a:lnTo>
                        <a:pt x="193" y="163"/>
                      </a:lnTo>
                      <a:lnTo>
                        <a:pt x="70" y="208"/>
                      </a:lnTo>
                      <a:lnTo>
                        <a:pt x="17" y="236"/>
                      </a:lnTo>
                      <a:lnTo>
                        <a:pt x="3" y="187"/>
                      </a:lnTo>
                      <a:lnTo>
                        <a:pt x="0" y="156"/>
                      </a:lnTo>
                      <a:lnTo>
                        <a:pt x="0" y="131"/>
                      </a:lnTo>
                      <a:lnTo>
                        <a:pt x="10" y="99"/>
                      </a:lnTo>
                      <a:lnTo>
                        <a:pt x="32" y="57"/>
                      </a:lnTo>
                      <a:close/>
                    </a:path>
                  </a:pathLst>
                </a:custGeom>
                <a:solidFill>
                  <a:srgbClr val="f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0" name=""/>
                <p:cNvGrpSpPr/>
                <p:nvPr/>
              </p:nvGrpSpPr>
              <p:grpSpPr>
                <a:xfrm>
                  <a:off x="4491360" y="4844880"/>
                  <a:ext cx="186120" cy="220320"/>
                  <a:chOff x="4491360" y="4844880"/>
                  <a:chExt cx="186120" cy="220320"/>
                </a:xfrm>
              </p:grpSpPr>
              <p:grpSp>
                <p:nvGrpSpPr>
                  <p:cNvPr id="1691" name=""/>
                  <p:cNvGrpSpPr/>
                  <p:nvPr/>
                </p:nvGrpSpPr>
                <p:grpSpPr>
                  <a:xfrm>
                    <a:off x="4658760" y="4904280"/>
                    <a:ext cx="16560" cy="39600"/>
                    <a:chOff x="4658760" y="4904280"/>
                    <a:chExt cx="16560" cy="39600"/>
                  </a:xfrm>
                </p:grpSpPr>
                <p:sp>
                  <p:nvSpPr>
                    <p:cNvPr id="1692" name=""/>
                    <p:cNvSpPr/>
                    <p:nvPr/>
                  </p:nvSpPr>
                  <p:spPr>
                    <a:xfrm>
                      <a:off x="4658760" y="4904280"/>
                      <a:ext cx="16560" cy="39600"/>
                    </a:xfrm>
                    <a:prstGeom prst="ellipse">
                      <a:avLst/>
                    </a:prstGeom>
                    <a:solidFill>
                      <a:srgbClr val="7f3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3" name=""/>
                    <p:cNvSpPr/>
                    <p:nvPr/>
                  </p:nvSpPr>
                  <p:spPr>
                    <a:xfrm>
                      <a:off x="4660200" y="4905000"/>
                      <a:ext cx="14040" cy="37080"/>
                    </a:xfrm>
                    <a:prstGeom prst="ellipse">
                      <a:avLst/>
                    </a:prstGeom>
                    <a:solidFill>
                      <a:srgbClr val="ffd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4" name=""/>
                  <p:cNvGrpSpPr/>
                  <p:nvPr/>
                </p:nvGrpSpPr>
                <p:grpSpPr>
                  <a:xfrm>
                    <a:off x="4491360" y="4844880"/>
                    <a:ext cx="186120" cy="220320"/>
                    <a:chOff x="4491360" y="4844880"/>
                    <a:chExt cx="186120" cy="220320"/>
                  </a:xfrm>
                </p:grpSpPr>
                <p:grpSp>
                  <p:nvGrpSpPr>
                    <p:cNvPr id="1695" name=""/>
                    <p:cNvGrpSpPr/>
                    <p:nvPr/>
                  </p:nvGrpSpPr>
                  <p:grpSpPr>
                    <a:xfrm>
                      <a:off x="4534560" y="4859280"/>
                      <a:ext cx="142920" cy="205920"/>
                      <a:chOff x="4534560" y="4859280"/>
                      <a:chExt cx="142920" cy="205920"/>
                    </a:xfrm>
                  </p:grpSpPr>
                  <p:sp>
                    <p:nvSpPr>
                      <p:cNvPr id="1696" name=""/>
                      <p:cNvSpPr/>
                      <p:nvPr/>
                    </p:nvSpPr>
                    <p:spPr>
                      <a:xfrm>
                        <a:off x="4534560" y="4859280"/>
                        <a:ext cx="142920" cy="20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2" h="777">
                            <a:moveTo>
                              <a:pt x="318" y="14"/>
                            </a:moveTo>
                            <a:lnTo>
                              <a:pt x="359" y="29"/>
                            </a:lnTo>
                            <a:lnTo>
                              <a:pt x="383" y="44"/>
                            </a:lnTo>
                            <a:lnTo>
                              <a:pt x="402" y="64"/>
                            </a:lnTo>
                            <a:lnTo>
                              <a:pt x="413" y="86"/>
                            </a:lnTo>
                            <a:lnTo>
                              <a:pt x="421" y="111"/>
                            </a:lnTo>
                            <a:lnTo>
                              <a:pt x="427" y="135"/>
                            </a:lnTo>
                            <a:lnTo>
                              <a:pt x="434" y="171"/>
                            </a:lnTo>
                            <a:lnTo>
                              <a:pt x="438" y="206"/>
                            </a:lnTo>
                            <a:lnTo>
                              <a:pt x="433" y="227"/>
                            </a:lnTo>
                            <a:lnTo>
                              <a:pt x="431" y="248"/>
                            </a:lnTo>
                            <a:lnTo>
                              <a:pt x="442" y="269"/>
                            </a:lnTo>
                            <a:lnTo>
                              <a:pt x="475" y="303"/>
                            </a:lnTo>
                            <a:lnTo>
                              <a:pt x="483" y="313"/>
                            </a:lnTo>
                            <a:lnTo>
                              <a:pt x="490" y="322"/>
                            </a:lnTo>
                            <a:lnTo>
                              <a:pt x="492" y="330"/>
                            </a:lnTo>
                            <a:lnTo>
                              <a:pt x="488" y="337"/>
                            </a:lnTo>
                            <a:lnTo>
                              <a:pt x="480" y="342"/>
                            </a:lnTo>
                            <a:lnTo>
                              <a:pt x="464" y="347"/>
                            </a:lnTo>
                            <a:lnTo>
                              <a:pt x="458" y="353"/>
                            </a:lnTo>
                            <a:lnTo>
                              <a:pt x="464" y="367"/>
                            </a:lnTo>
                            <a:lnTo>
                              <a:pt x="462" y="375"/>
                            </a:lnTo>
                            <a:lnTo>
                              <a:pt x="456" y="382"/>
                            </a:lnTo>
                            <a:lnTo>
                              <a:pt x="443" y="389"/>
                            </a:lnTo>
                            <a:lnTo>
                              <a:pt x="425" y="397"/>
                            </a:lnTo>
                            <a:lnTo>
                              <a:pt x="414" y="401"/>
                            </a:lnTo>
                            <a:lnTo>
                              <a:pt x="453" y="410"/>
                            </a:lnTo>
                            <a:lnTo>
                              <a:pt x="458" y="417"/>
                            </a:lnTo>
                            <a:lnTo>
                              <a:pt x="448" y="433"/>
                            </a:lnTo>
                            <a:lnTo>
                              <a:pt x="447" y="454"/>
                            </a:lnTo>
                            <a:lnTo>
                              <a:pt x="447" y="484"/>
                            </a:lnTo>
                            <a:lnTo>
                              <a:pt x="447" y="496"/>
                            </a:lnTo>
                            <a:lnTo>
                              <a:pt x="442" y="505"/>
                            </a:lnTo>
                            <a:lnTo>
                              <a:pt x="431" y="514"/>
                            </a:lnTo>
                            <a:lnTo>
                              <a:pt x="414" y="518"/>
                            </a:lnTo>
                            <a:lnTo>
                              <a:pt x="396" y="523"/>
                            </a:lnTo>
                            <a:lnTo>
                              <a:pt x="354" y="530"/>
                            </a:lnTo>
                            <a:lnTo>
                              <a:pt x="330" y="536"/>
                            </a:lnTo>
                            <a:lnTo>
                              <a:pt x="312" y="543"/>
                            </a:lnTo>
                            <a:lnTo>
                              <a:pt x="298" y="553"/>
                            </a:lnTo>
                            <a:lnTo>
                              <a:pt x="253" y="615"/>
                            </a:lnTo>
                            <a:lnTo>
                              <a:pt x="320" y="754"/>
                            </a:lnTo>
                            <a:lnTo>
                              <a:pt x="281" y="765"/>
                            </a:lnTo>
                            <a:lnTo>
                              <a:pt x="221" y="777"/>
                            </a:lnTo>
                            <a:lnTo>
                              <a:pt x="169" y="774"/>
                            </a:lnTo>
                            <a:lnTo>
                              <a:pt x="139" y="758"/>
                            </a:lnTo>
                            <a:lnTo>
                              <a:pt x="68" y="545"/>
                            </a:lnTo>
                            <a:lnTo>
                              <a:pt x="68" y="474"/>
                            </a:lnTo>
                            <a:lnTo>
                              <a:pt x="47" y="436"/>
                            </a:lnTo>
                            <a:lnTo>
                              <a:pt x="22" y="387"/>
                            </a:lnTo>
                            <a:lnTo>
                              <a:pt x="11" y="359"/>
                            </a:lnTo>
                            <a:lnTo>
                              <a:pt x="4" y="321"/>
                            </a:lnTo>
                            <a:lnTo>
                              <a:pt x="0" y="280"/>
                            </a:lnTo>
                            <a:lnTo>
                              <a:pt x="0" y="231"/>
                            </a:lnTo>
                            <a:lnTo>
                              <a:pt x="6" y="185"/>
                            </a:lnTo>
                            <a:lnTo>
                              <a:pt x="14" y="145"/>
                            </a:lnTo>
                            <a:lnTo>
                              <a:pt x="28" y="111"/>
                            </a:lnTo>
                            <a:lnTo>
                              <a:pt x="44" y="78"/>
                            </a:lnTo>
                            <a:lnTo>
                              <a:pt x="68" y="47"/>
                            </a:lnTo>
                            <a:lnTo>
                              <a:pt x="102" y="23"/>
                            </a:lnTo>
                            <a:lnTo>
                              <a:pt x="139" y="9"/>
                            </a:lnTo>
                            <a:lnTo>
                              <a:pt x="181" y="2"/>
                            </a:lnTo>
                            <a:lnTo>
                              <a:pt x="219" y="0"/>
                            </a:lnTo>
                            <a:lnTo>
                              <a:pt x="269" y="3"/>
                            </a:lnTo>
                            <a:lnTo>
                              <a:pt x="318" y="14"/>
                            </a:lnTo>
                            <a:close/>
                          </a:path>
                        </a:pathLst>
                      </a:custGeom>
                      <a:solidFill>
                        <a:srgbClr val="ffb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697" name=""/>
                      <p:cNvGrpSpPr/>
                      <p:nvPr/>
                    </p:nvGrpSpPr>
                    <p:grpSpPr>
                      <a:xfrm>
                        <a:off x="4593600" y="4979160"/>
                        <a:ext cx="65880" cy="75600"/>
                        <a:chOff x="4593600" y="4979160"/>
                        <a:chExt cx="65880" cy="75600"/>
                      </a:xfrm>
                    </p:grpSpPr>
                    <p:sp>
                      <p:nvSpPr>
                        <p:cNvPr id="1698" name=""/>
                        <p:cNvSpPr/>
                        <p:nvPr/>
                      </p:nvSpPr>
                      <p:spPr>
                        <a:xfrm>
                          <a:off x="4594320" y="4979160"/>
                          <a:ext cx="6516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6" h="102">
                              <a:moveTo>
                                <a:pt x="0" y="0"/>
                              </a:moveTo>
                              <a:lnTo>
                                <a:pt x="33" y="14"/>
                              </a:lnTo>
                              <a:lnTo>
                                <a:pt x="67" y="25"/>
                              </a:lnTo>
                              <a:lnTo>
                                <a:pt x="92" y="32"/>
                              </a:lnTo>
                              <a:lnTo>
                                <a:pt x="125" y="41"/>
                              </a:lnTo>
                              <a:lnTo>
                                <a:pt x="147" y="45"/>
                              </a:lnTo>
                              <a:lnTo>
                                <a:pt x="178" y="50"/>
                              </a:lnTo>
                              <a:lnTo>
                                <a:pt x="201" y="50"/>
                              </a:lnTo>
                              <a:lnTo>
                                <a:pt x="226" y="50"/>
                              </a:lnTo>
                              <a:lnTo>
                                <a:pt x="202" y="59"/>
                              </a:lnTo>
                              <a:lnTo>
                                <a:pt x="168" y="66"/>
                              </a:lnTo>
                              <a:lnTo>
                                <a:pt x="141" y="72"/>
                              </a:lnTo>
                              <a:lnTo>
                                <a:pt x="119" y="78"/>
                              </a:lnTo>
                              <a:lnTo>
                                <a:pt x="97" y="85"/>
                              </a:lnTo>
                              <a:lnTo>
                                <a:pt x="84" y="91"/>
                              </a:lnTo>
                              <a:lnTo>
                                <a:pt x="69" y="102"/>
                              </a:lnTo>
                              <a:lnTo>
                                <a:pt x="83" y="86"/>
                              </a:lnTo>
                              <a:lnTo>
                                <a:pt x="95" y="75"/>
                              </a:lnTo>
                              <a:lnTo>
                                <a:pt x="98" y="65"/>
                              </a:lnTo>
                              <a:lnTo>
                                <a:pt x="98" y="57"/>
                              </a:lnTo>
                              <a:lnTo>
                                <a:pt x="95" y="49"/>
                              </a:lnTo>
                              <a:lnTo>
                                <a:pt x="85" y="44"/>
                              </a:lnTo>
                              <a:lnTo>
                                <a:pt x="74" y="41"/>
                              </a:lnTo>
                              <a:lnTo>
                                <a:pt x="55" y="38"/>
                              </a:lnTo>
                              <a:lnTo>
                                <a:pt x="38" y="36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9" name=""/>
                        <p:cNvSpPr/>
                        <p:nvPr/>
                      </p:nvSpPr>
                      <p:spPr>
                        <a:xfrm>
                          <a:off x="4593600" y="5017320"/>
                          <a:ext cx="15480" cy="37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6" h="142">
                              <a:moveTo>
                                <a:pt x="32" y="16"/>
                              </a:moveTo>
                              <a:lnTo>
                                <a:pt x="32" y="6"/>
                              </a:lnTo>
                              <a:lnTo>
                                <a:pt x="28" y="1"/>
                              </a:lnTo>
                              <a:lnTo>
                                <a:pt x="20" y="0"/>
                              </a:lnTo>
                              <a:lnTo>
                                <a:pt x="11" y="5"/>
                              </a:lnTo>
                              <a:lnTo>
                                <a:pt x="5" y="13"/>
                              </a:lnTo>
                              <a:lnTo>
                                <a:pt x="0" y="23"/>
                              </a:lnTo>
                              <a:lnTo>
                                <a:pt x="0" y="38"/>
                              </a:lnTo>
                              <a:lnTo>
                                <a:pt x="2" y="81"/>
                              </a:lnTo>
                              <a:lnTo>
                                <a:pt x="5" y="99"/>
                              </a:lnTo>
                              <a:lnTo>
                                <a:pt x="10" y="108"/>
                              </a:lnTo>
                              <a:lnTo>
                                <a:pt x="47" y="142"/>
                              </a:lnTo>
                              <a:lnTo>
                                <a:pt x="56" y="108"/>
                              </a:lnTo>
                              <a:lnTo>
                                <a:pt x="39" y="84"/>
                              </a:lnTo>
                              <a:lnTo>
                                <a:pt x="42" y="101"/>
                              </a:lnTo>
                              <a:lnTo>
                                <a:pt x="43" y="115"/>
                              </a:lnTo>
                              <a:lnTo>
                                <a:pt x="42" y="120"/>
                              </a:lnTo>
                              <a:lnTo>
                                <a:pt x="14" y="89"/>
                              </a:lnTo>
                              <a:lnTo>
                                <a:pt x="13" y="77"/>
                              </a:lnTo>
                              <a:lnTo>
                                <a:pt x="10" y="61"/>
                              </a:lnTo>
                              <a:lnTo>
                                <a:pt x="16" y="42"/>
                              </a:lnTo>
                              <a:lnTo>
                                <a:pt x="24" y="27"/>
                              </a:lnTo>
                              <a:lnTo>
                                <a:pt x="32" y="1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9360" bIns="-9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700" name=""/>
                    <p:cNvSpPr/>
                    <p:nvPr/>
                  </p:nvSpPr>
                  <p:spPr>
                    <a:xfrm>
                      <a:off x="4634280" y="4924440"/>
                      <a:ext cx="1044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9">
                          <a:moveTo>
                            <a:pt x="32" y="0"/>
                          </a:moveTo>
                          <a:lnTo>
                            <a:pt x="17" y="6"/>
                          </a:lnTo>
                          <a:lnTo>
                            <a:pt x="0" y="17"/>
                          </a:lnTo>
                          <a:lnTo>
                            <a:pt x="12" y="26"/>
                          </a:lnTo>
                          <a:lnTo>
                            <a:pt x="30" y="29"/>
                          </a:lnTo>
                          <a:lnTo>
                            <a:pt x="36" y="28"/>
                          </a:lnTo>
                          <a:lnTo>
                            <a:pt x="32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"/>
                    <p:cNvSpPr/>
                    <p:nvPr/>
                  </p:nvSpPr>
                  <p:spPr>
                    <a:xfrm>
                      <a:off x="4629960" y="4908240"/>
                      <a:ext cx="1836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53">
                          <a:moveTo>
                            <a:pt x="64" y="0"/>
                          </a:moveTo>
                          <a:lnTo>
                            <a:pt x="49" y="3"/>
                          </a:lnTo>
                          <a:lnTo>
                            <a:pt x="38" y="14"/>
                          </a:lnTo>
                          <a:lnTo>
                            <a:pt x="28" y="27"/>
                          </a:lnTo>
                          <a:lnTo>
                            <a:pt x="19" y="39"/>
                          </a:lnTo>
                          <a:lnTo>
                            <a:pt x="0" y="53"/>
                          </a:lnTo>
                          <a:lnTo>
                            <a:pt x="22" y="46"/>
                          </a:lnTo>
                          <a:lnTo>
                            <a:pt x="37" y="35"/>
                          </a:lnTo>
                          <a:lnTo>
                            <a:pt x="49" y="25"/>
                          </a:lnTo>
                          <a:lnTo>
                            <a:pt x="60" y="21"/>
                          </a:lnTo>
                          <a:lnTo>
                            <a:pt x="64" y="0"/>
                          </a:lnTo>
                          <a:close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02" name=""/>
                    <p:cNvGrpSpPr/>
                    <p:nvPr/>
                  </p:nvGrpSpPr>
                  <p:grpSpPr>
                    <a:xfrm>
                      <a:off x="4632480" y="4917240"/>
                      <a:ext cx="12960" cy="15120"/>
                      <a:chOff x="4632480" y="4917240"/>
                      <a:chExt cx="12960" cy="15120"/>
                    </a:xfrm>
                  </p:grpSpPr>
                  <p:sp>
                    <p:nvSpPr>
                      <p:cNvPr id="1703" name=""/>
                      <p:cNvSpPr/>
                      <p:nvPr/>
                    </p:nvSpPr>
                    <p:spPr>
                      <a:xfrm>
                        <a:off x="4637520" y="4925160"/>
                        <a:ext cx="5760" cy="6120"/>
                      </a:xfrm>
                      <a:prstGeom prst="ellipse">
                        <a:avLst/>
                      </a:prstGeom>
                      <a:solidFill>
                        <a:srgbClr val="5f7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4" name=""/>
                      <p:cNvSpPr/>
                      <p:nvPr/>
                    </p:nvSpPr>
                    <p:spPr>
                      <a:xfrm>
                        <a:off x="4632480" y="4917240"/>
                        <a:ext cx="12960" cy="15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57">
                            <a:moveTo>
                              <a:pt x="38" y="14"/>
                            </a:moveTo>
                            <a:lnTo>
                              <a:pt x="26" y="25"/>
                            </a:lnTo>
                            <a:lnTo>
                              <a:pt x="30" y="0"/>
                            </a:lnTo>
                            <a:lnTo>
                              <a:pt x="20" y="25"/>
                            </a:lnTo>
                            <a:lnTo>
                              <a:pt x="12" y="35"/>
                            </a:lnTo>
                            <a:lnTo>
                              <a:pt x="0" y="44"/>
                            </a:lnTo>
                            <a:lnTo>
                              <a:pt x="15" y="54"/>
                            </a:lnTo>
                            <a:lnTo>
                              <a:pt x="16" y="54"/>
                            </a:lnTo>
                            <a:lnTo>
                              <a:pt x="26" y="57"/>
                            </a:lnTo>
                            <a:lnTo>
                              <a:pt x="39" y="57"/>
                            </a:lnTo>
                            <a:lnTo>
                              <a:pt x="37" y="48"/>
                            </a:lnTo>
                            <a:lnTo>
                              <a:pt x="26" y="51"/>
                            </a:lnTo>
                            <a:lnTo>
                              <a:pt x="15" y="46"/>
                            </a:lnTo>
                            <a:lnTo>
                              <a:pt x="6" y="42"/>
                            </a:lnTo>
                            <a:lnTo>
                              <a:pt x="15" y="38"/>
                            </a:lnTo>
                            <a:lnTo>
                              <a:pt x="30" y="32"/>
                            </a:lnTo>
                            <a:lnTo>
                              <a:pt x="44" y="25"/>
                            </a:lnTo>
                            <a:lnTo>
                              <a:pt x="38" y="14"/>
                            </a:lnTo>
                            <a:close/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680" bIns="-31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705" name=""/>
                    <p:cNvSpPr/>
                    <p:nvPr/>
                  </p:nvSpPr>
                  <p:spPr>
                    <a:xfrm>
                      <a:off x="4491360" y="4844880"/>
                      <a:ext cx="173520" cy="17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7" h="674">
                          <a:moveTo>
                            <a:pt x="579" y="199"/>
                          </a:moveTo>
                          <a:lnTo>
                            <a:pt x="586" y="192"/>
                          </a:lnTo>
                          <a:lnTo>
                            <a:pt x="594" y="183"/>
                          </a:lnTo>
                          <a:lnTo>
                            <a:pt x="597" y="162"/>
                          </a:lnTo>
                          <a:lnTo>
                            <a:pt x="597" y="123"/>
                          </a:lnTo>
                          <a:lnTo>
                            <a:pt x="586" y="91"/>
                          </a:lnTo>
                          <a:lnTo>
                            <a:pt x="571" y="74"/>
                          </a:lnTo>
                          <a:lnTo>
                            <a:pt x="549" y="52"/>
                          </a:lnTo>
                          <a:lnTo>
                            <a:pt x="504" y="45"/>
                          </a:lnTo>
                          <a:lnTo>
                            <a:pt x="439" y="35"/>
                          </a:lnTo>
                          <a:lnTo>
                            <a:pt x="380" y="21"/>
                          </a:lnTo>
                          <a:lnTo>
                            <a:pt x="333" y="10"/>
                          </a:lnTo>
                          <a:lnTo>
                            <a:pt x="274" y="0"/>
                          </a:lnTo>
                          <a:lnTo>
                            <a:pt x="245" y="10"/>
                          </a:lnTo>
                          <a:lnTo>
                            <a:pt x="212" y="35"/>
                          </a:lnTo>
                          <a:lnTo>
                            <a:pt x="183" y="63"/>
                          </a:lnTo>
                          <a:lnTo>
                            <a:pt x="161" y="95"/>
                          </a:lnTo>
                          <a:lnTo>
                            <a:pt x="135" y="144"/>
                          </a:lnTo>
                          <a:lnTo>
                            <a:pt x="121" y="190"/>
                          </a:lnTo>
                          <a:lnTo>
                            <a:pt x="114" y="236"/>
                          </a:lnTo>
                          <a:lnTo>
                            <a:pt x="103" y="288"/>
                          </a:lnTo>
                          <a:lnTo>
                            <a:pt x="103" y="334"/>
                          </a:lnTo>
                          <a:lnTo>
                            <a:pt x="88" y="387"/>
                          </a:lnTo>
                          <a:lnTo>
                            <a:pt x="70" y="434"/>
                          </a:lnTo>
                          <a:lnTo>
                            <a:pt x="48" y="466"/>
                          </a:lnTo>
                          <a:lnTo>
                            <a:pt x="26" y="487"/>
                          </a:lnTo>
                          <a:lnTo>
                            <a:pt x="4" y="512"/>
                          </a:lnTo>
                          <a:lnTo>
                            <a:pt x="4" y="519"/>
                          </a:lnTo>
                          <a:lnTo>
                            <a:pt x="0" y="540"/>
                          </a:lnTo>
                          <a:lnTo>
                            <a:pt x="0" y="575"/>
                          </a:lnTo>
                          <a:lnTo>
                            <a:pt x="11" y="603"/>
                          </a:lnTo>
                          <a:lnTo>
                            <a:pt x="30" y="621"/>
                          </a:lnTo>
                          <a:lnTo>
                            <a:pt x="88" y="621"/>
                          </a:lnTo>
                          <a:lnTo>
                            <a:pt x="135" y="628"/>
                          </a:lnTo>
                          <a:lnTo>
                            <a:pt x="183" y="660"/>
                          </a:lnTo>
                          <a:lnTo>
                            <a:pt x="234" y="674"/>
                          </a:lnTo>
                          <a:lnTo>
                            <a:pt x="278" y="674"/>
                          </a:lnTo>
                          <a:lnTo>
                            <a:pt x="314" y="652"/>
                          </a:lnTo>
                          <a:lnTo>
                            <a:pt x="329" y="621"/>
                          </a:lnTo>
                          <a:lnTo>
                            <a:pt x="325" y="578"/>
                          </a:lnTo>
                          <a:lnTo>
                            <a:pt x="307" y="547"/>
                          </a:lnTo>
                          <a:lnTo>
                            <a:pt x="303" y="515"/>
                          </a:lnTo>
                          <a:lnTo>
                            <a:pt x="307" y="483"/>
                          </a:lnTo>
                          <a:lnTo>
                            <a:pt x="336" y="455"/>
                          </a:lnTo>
                          <a:lnTo>
                            <a:pt x="369" y="445"/>
                          </a:lnTo>
                          <a:lnTo>
                            <a:pt x="391" y="427"/>
                          </a:lnTo>
                          <a:lnTo>
                            <a:pt x="409" y="399"/>
                          </a:lnTo>
                          <a:lnTo>
                            <a:pt x="413" y="352"/>
                          </a:lnTo>
                          <a:lnTo>
                            <a:pt x="413" y="331"/>
                          </a:lnTo>
                          <a:lnTo>
                            <a:pt x="439" y="324"/>
                          </a:lnTo>
                          <a:lnTo>
                            <a:pt x="464" y="303"/>
                          </a:lnTo>
                          <a:lnTo>
                            <a:pt x="479" y="267"/>
                          </a:lnTo>
                          <a:lnTo>
                            <a:pt x="493" y="218"/>
                          </a:lnTo>
                          <a:lnTo>
                            <a:pt x="486" y="158"/>
                          </a:lnTo>
                          <a:lnTo>
                            <a:pt x="475" y="123"/>
                          </a:lnTo>
                          <a:lnTo>
                            <a:pt x="442" y="98"/>
                          </a:lnTo>
                          <a:lnTo>
                            <a:pt x="519" y="123"/>
                          </a:lnTo>
                          <a:lnTo>
                            <a:pt x="546" y="162"/>
                          </a:lnTo>
                          <a:lnTo>
                            <a:pt x="574" y="185"/>
                          </a:lnTo>
                          <a:lnTo>
                            <a:pt x="579" y="199"/>
                          </a:lnTo>
                          <a:close/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06" name=""/>
                  <p:cNvGrpSpPr/>
                  <p:nvPr/>
                </p:nvGrpSpPr>
                <p:grpSpPr>
                  <a:xfrm>
                    <a:off x="4617720" y="4904280"/>
                    <a:ext cx="43920" cy="42120"/>
                    <a:chOff x="4617720" y="4904280"/>
                    <a:chExt cx="43920" cy="42120"/>
                  </a:xfrm>
                </p:grpSpPr>
                <p:sp>
                  <p:nvSpPr>
                    <p:cNvPr id="1707" name=""/>
                    <p:cNvSpPr/>
                    <p:nvPr/>
                  </p:nvSpPr>
                  <p:spPr>
                    <a:xfrm flipV="1">
                      <a:off x="4658400" y="4921560"/>
                      <a:ext cx="3240" cy="720"/>
                    </a:xfrm>
                    <a:prstGeom prst="line">
                      <a:avLst/>
                    </a:prstGeom>
                    <a:ln w="3240">
                      <a:solidFill>
                        <a:srgbClr val="7f3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08" name=""/>
                    <p:cNvGrpSpPr/>
                    <p:nvPr/>
                  </p:nvGrpSpPr>
                  <p:grpSpPr>
                    <a:xfrm>
                      <a:off x="4617720" y="4904280"/>
                      <a:ext cx="40680" cy="42120"/>
                      <a:chOff x="4617720" y="4904280"/>
                      <a:chExt cx="40680" cy="42120"/>
                    </a:xfrm>
                  </p:grpSpPr>
                  <p:sp>
                    <p:nvSpPr>
                      <p:cNvPr id="1709" name=""/>
                      <p:cNvSpPr/>
                      <p:nvPr/>
                    </p:nvSpPr>
                    <p:spPr>
                      <a:xfrm>
                        <a:off x="4617720" y="4928040"/>
                        <a:ext cx="28800" cy="15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" h="57">
                            <a:moveTo>
                              <a:pt x="12" y="0"/>
                            </a:moveTo>
                            <a:lnTo>
                              <a:pt x="30" y="16"/>
                            </a:lnTo>
                            <a:lnTo>
                              <a:pt x="45" y="25"/>
                            </a:lnTo>
                            <a:lnTo>
                              <a:pt x="56" y="31"/>
                            </a:lnTo>
                            <a:lnTo>
                              <a:pt x="71" y="37"/>
                            </a:lnTo>
                            <a:lnTo>
                              <a:pt x="84" y="39"/>
                            </a:lnTo>
                            <a:lnTo>
                              <a:pt x="95" y="37"/>
                            </a:lnTo>
                            <a:lnTo>
                              <a:pt x="99" y="57"/>
                            </a:lnTo>
                            <a:lnTo>
                              <a:pt x="83" y="57"/>
                            </a:lnTo>
                            <a:lnTo>
                              <a:pt x="71" y="56"/>
                            </a:lnTo>
                            <a:lnTo>
                              <a:pt x="55" y="49"/>
                            </a:lnTo>
                            <a:lnTo>
                              <a:pt x="40" y="38"/>
                            </a:lnTo>
                            <a:lnTo>
                              <a:pt x="27" y="29"/>
                            </a:lnTo>
                            <a:lnTo>
                              <a:pt x="0" y="5"/>
                            </a:lnTo>
                            <a:lnTo>
                              <a:pt x="12" y="0"/>
                            </a:lnTo>
                            <a:close/>
                          </a:path>
                        </a:pathLst>
                      </a:cu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680" bIns="-31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0" name=""/>
                      <p:cNvSpPr/>
                      <p:nvPr/>
                    </p:nvSpPr>
                    <p:spPr>
                      <a:xfrm>
                        <a:off x="4641840" y="4904280"/>
                        <a:ext cx="16200" cy="42120"/>
                      </a:xfrm>
                      <a:prstGeom prst="ellipse">
                        <a:avLst/>
                      </a:pr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920" bIns="-16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1" name=""/>
                      <p:cNvSpPr/>
                      <p:nvPr/>
                    </p:nvSpPr>
                    <p:spPr>
                      <a:xfrm>
                        <a:off x="4643640" y="4905720"/>
                        <a:ext cx="14760" cy="39600"/>
                      </a:xfrm>
                      <a:prstGeom prst="ellipse">
                        <a:avLst/>
                      </a:prstGeom>
                      <a:solidFill>
                        <a:srgbClr val="ffd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720" bIns="-18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1712" name=""/>
              <p:cNvSpPr/>
              <p:nvPr/>
            </p:nvSpPr>
            <p:spPr>
              <a:xfrm flipH="1" rot="19674000">
                <a:off x="4890240" y="5105520"/>
                <a:ext cx="95400" cy="78840"/>
              </a:xfrm>
              <a:prstGeom prst="parallelogram">
                <a:avLst>
                  <a:gd name="adj" fmla="val 1890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3" name=""/>
              <p:cNvGrpSpPr/>
              <p:nvPr/>
            </p:nvGrpSpPr>
            <p:grpSpPr>
              <a:xfrm>
                <a:off x="5118120" y="5203800"/>
                <a:ext cx="293760" cy="113760"/>
                <a:chOff x="5118120" y="5203800"/>
                <a:chExt cx="293760" cy="113760"/>
              </a:xfrm>
            </p:grpSpPr>
            <p:sp>
              <p:nvSpPr>
                <p:cNvPr id="1714" name=""/>
                <p:cNvSpPr/>
                <p:nvPr/>
              </p:nvSpPr>
              <p:spPr>
                <a:xfrm flipV="1">
                  <a:off x="5244120" y="5279400"/>
                  <a:ext cx="126000" cy="37800"/>
                </a:xfrm>
                <a:custGeom>
                  <a:avLst/>
                  <a:gdLst>
                    <a:gd name="textAreaLeft" fmla="*/ 24120 w 126000"/>
                    <a:gd name="textAreaRight" fmla="*/ 101880 w 126000"/>
                    <a:gd name="textAreaTop" fmla="*/ 7200 h 37800"/>
                    <a:gd name="textAreaBottom" fmla="*/ 30600 h 3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326" y="21600"/>
                      </a:lnTo>
                      <a:lnTo>
                        <a:pt x="4274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 flipV="1">
                  <a:off x="5285880" y="5241960"/>
                  <a:ext cx="126000" cy="38160"/>
                </a:xfrm>
                <a:custGeom>
                  <a:avLst/>
                  <a:gdLst>
                    <a:gd name="textAreaLeft" fmla="*/ 24120 w 126000"/>
                    <a:gd name="textAreaRight" fmla="*/ 101880 w 126000"/>
                    <a:gd name="textAreaTop" fmla="*/ 7200 h 38160"/>
                    <a:gd name="textAreaBottom" fmla="*/ 30960 h 38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326" y="21600"/>
                      </a:lnTo>
                      <a:lnTo>
                        <a:pt x="4274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 flipV="1">
                  <a:off x="5202000" y="5203800"/>
                  <a:ext cx="126000" cy="38160"/>
                </a:xfrm>
                <a:custGeom>
                  <a:avLst/>
                  <a:gdLst>
                    <a:gd name="textAreaLeft" fmla="*/ 24120 w 126000"/>
                    <a:gd name="textAreaRight" fmla="*/ 101880 w 126000"/>
                    <a:gd name="textAreaTop" fmla="*/ 7200 h 38160"/>
                    <a:gd name="textAreaBottom" fmla="*/ 30960 h 38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326" y="21600"/>
                      </a:lnTo>
                      <a:lnTo>
                        <a:pt x="4274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 flipV="1">
                  <a:off x="5118120" y="5241960"/>
                  <a:ext cx="126000" cy="38160"/>
                </a:xfrm>
                <a:custGeom>
                  <a:avLst/>
                  <a:gdLst>
                    <a:gd name="textAreaLeft" fmla="*/ 24120 w 126000"/>
                    <a:gd name="textAreaRight" fmla="*/ 101880 w 126000"/>
                    <a:gd name="textAreaTop" fmla="*/ 7200 h 38160"/>
                    <a:gd name="textAreaBottom" fmla="*/ 30960 h 38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326" y="21600"/>
                      </a:lnTo>
                      <a:lnTo>
                        <a:pt x="4274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8" name=""/>
              <p:cNvSpPr/>
              <p:nvPr/>
            </p:nvSpPr>
            <p:spPr>
              <a:xfrm>
                <a:off x="4930920" y="5067360"/>
                <a:ext cx="55440" cy="156960"/>
              </a:xfrm>
              <a:custGeom>
                <a:avLst/>
                <a:gdLst/>
                <a:ahLst/>
                <a:rect l="l" t="t" r="r" b="b"/>
                <a:pathLst>
                  <a:path w="56" h="288">
                    <a:moveTo>
                      <a:pt x="56" y="0"/>
                    </a:moveTo>
                    <a:cubicBezTo>
                      <a:pt x="36" y="16"/>
                      <a:pt x="16" y="32"/>
                      <a:pt x="8" y="48"/>
                    </a:cubicBezTo>
                    <a:cubicBezTo>
                      <a:pt x="0" y="64"/>
                      <a:pt x="8" y="72"/>
                      <a:pt x="8" y="96"/>
                    </a:cubicBezTo>
                    <a:cubicBezTo>
                      <a:pt x="8" y="120"/>
                      <a:pt x="0" y="160"/>
                      <a:pt x="8" y="192"/>
                    </a:cubicBezTo>
                    <a:cubicBezTo>
                      <a:pt x="16" y="224"/>
                      <a:pt x="36" y="256"/>
                      <a:pt x="56" y="288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4843440" y="5105520"/>
                <a:ext cx="142920" cy="46080"/>
              </a:xfrm>
              <a:custGeom>
                <a:avLst/>
                <a:gdLst/>
                <a:ahLst/>
                <a:rect l="l" t="t" r="r" b="b"/>
                <a:pathLst>
                  <a:path w="144" h="56">
                    <a:moveTo>
                      <a:pt x="0" y="48"/>
                    </a:moveTo>
                    <a:cubicBezTo>
                      <a:pt x="12" y="52"/>
                      <a:pt x="24" y="56"/>
                      <a:pt x="48" y="48"/>
                    </a:cubicBezTo>
                    <a:cubicBezTo>
                      <a:pt x="72" y="40"/>
                      <a:pt x="108" y="20"/>
                      <a:pt x="144" y="0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0" name=""/>
              <p:cNvGrpSpPr/>
              <p:nvPr/>
            </p:nvGrpSpPr>
            <p:grpSpPr>
              <a:xfrm>
                <a:off x="4938840" y="4809960"/>
                <a:ext cx="430200" cy="382680"/>
                <a:chOff x="4938840" y="4809960"/>
                <a:chExt cx="430200" cy="382680"/>
              </a:xfrm>
            </p:grpSpPr>
            <p:grpSp>
              <p:nvGrpSpPr>
                <p:cNvPr id="1721" name=""/>
                <p:cNvGrpSpPr/>
                <p:nvPr/>
              </p:nvGrpSpPr>
              <p:grpSpPr>
                <a:xfrm>
                  <a:off x="4993920" y="4809960"/>
                  <a:ext cx="375120" cy="371160"/>
                  <a:chOff x="4993920" y="4809960"/>
                  <a:chExt cx="375120" cy="371160"/>
                </a:xfrm>
              </p:grpSpPr>
              <p:sp>
                <p:nvSpPr>
                  <p:cNvPr id="1722" name=""/>
                  <p:cNvSpPr/>
                  <p:nvPr/>
                </p:nvSpPr>
                <p:spPr>
                  <a:xfrm>
                    <a:off x="4993920" y="4948200"/>
                    <a:ext cx="375120" cy="23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6" h="882">
                        <a:moveTo>
                          <a:pt x="764" y="8"/>
                        </a:moveTo>
                        <a:lnTo>
                          <a:pt x="830" y="0"/>
                        </a:lnTo>
                        <a:lnTo>
                          <a:pt x="896" y="8"/>
                        </a:lnTo>
                        <a:lnTo>
                          <a:pt x="929" y="22"/>
                        </a:lnTo>
                        <a:lnTo>
                          <a:pt x="1005" y="79"/>
                        </a:lnTo>
                        <a:lnTo>
                          <a:pt x="1053" y="125"/>
                        </a:lnTo>
                        <a:lnTo>
                          <a:pt x="1104" y="191"/>
                        </a:lnTo>
                        <a:lnTo>
                          <a:pt x="1148" y="258"/>
                        </a:lnTo>
                        <a:lnTo>
                          <a:pt x="1181" y="311"/>
                        </a:lnTo>
                        <a:lnTo>
                          <a:pt x="1195" y="339"/>
                        </a:lnTo>
                        <a:lnTo>
                          <a:pt x="1217" y="424"/>
                        </a:lnTo>
                        <a:lnTo>
                          <a:pt x="1246" y="554"/>
                        </a:lnTo>
                        <a:lnTo>
                          <a:pt x="1265" y="646"/>
                        </a:lnTo>
                        <a:lnTo>
                          <a:pt x="1276" y="766"/>
                        </a:lnTo>
                        <a:lnTo>
                          <a:pt x="1286" y="864"/>
                        </a:lnTo>
                        <a:lnTo>
                          <a:pt x="1013" y="868"/>
                        </a:lnTo>
                        <a:lnTo>
                          <a:pt x="845" y="878"/>
                        </a:lnTo>
                        <a:lnTo>
                          <a:pt x="713" y="882"/>
                        </a:lnTo>
                        <a:lnTo>
                          <a:pt x="343" y="864"/>
                        </a:lnTo>
                        <a:lnTo>
                          <a:pt x="197" y="857"/>
                        </a:lnTo>
                        <a:lnTo>
                          <a:pt x="76" y="850"/>
                        </a:lnTo>
                        <a:lnTo>
                          <a:pt x="80" y="811"/>
                        </a:lnTo>
                        <a:lnTo>
                          <a:pt x="65" y="769"/>
                        </a:lnTo>
                        <a:lnTo>
                          <a:pt x="29" y="741"/>
                        </a:lnTo>
                        <a:lnTo>
                          <a:pt x="0" y="723"/>
                        </a:lnTo>
                        <a:lnTo>
                          <a:pt x="153" y="671"/>
                        </a:lnTo>
                        <a:lnTo>
                          <a:pt x="281" y="621"/>
                        </a:lnTo>
                        <a:lnTo>
                          <a:pt x="336" y="597"/>
                        </a:lnTo>
                        <a:lnTo>
                          <a:pt x="383" y="575"/>
                        </a:lnTo>
                        <a:lnTo>
                          <a:pt x="416" y="530"/>
                        </a:lnTo>
                        <a:lnTo>
                          <a:pt x="423" y="512"/>
                        </a:lnTo>
                        <a:lnTo>
                          <a:pt x="427" y="473"/>
                        </a:lnTo>
                        <a:lnTo>
                          <a:pt x="431" y="449"/>
                        </a:lnTo>
                        <a:lnTo>
                          <a:pt x="445" y="403"/>
                        </a:lnTo>
                        <a:lnTo>
                          <a:pt x="453" y="382"/>
                        </a:lnTo>
                        <a:lnTo>
                          <a:pt x="456" y="346"/>
                        </a:lnTo>
                        <a:lnTo>
                          <a:pt x="464" y="294"/>
                        </a:lnTo>
                        <a:lnTo>
                          <a:pt x="482" y="262"/>
                        </a:lnTo>
                        <a:lnTo>
                          <a:pt x="482" y="227"/>
                        </a:lnTo>
                        <a:lnTo>
                          <a:pt x="573" y="125"/>
                        </a:lnTo>
                        <a:lnTo>
                          <a:pt x="591" y="142"/>
                        </a:lnTo>
                        <a:lnTo>
                          <a:pt x="764" y="8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3" name=""/>
                  <p:cNvSpPr/>
                  <p:nvPr/>
                </p:nvSpPr>
                <p:spPr>
                  <a:xfrm>
                    <a:off x="5241960" y="5004000"/>
                    <a:ext cx="7344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669">
                        <a:moveTo>
                          <a:pt x="197" y="0"/>
                        </a:moveTo>
                        <a:lnTo>
                          <a:pt x="223" y="25"/>
                        </a:lnTo>
                        <a:lnTo>
                          <a:pt x="230" y="81"/>
                        </a:lnTo>
                        <a:lnTo>
                          <a:pt x="230" y="141"/>
                        </a:lnTo>
                        <a:lnTo>
                          <a:pt x="230" y="180"/>
                        </a:lnTo>
                        <a:lnTo>
                          <a:pt x="252" y="201"/>
                        </a:lnTo>
                        <a:lnTo>
                          <a:pt x="234" y="211"/>
                        </a:lnTo>
                        <a:lnTo>
                          <a:pt x="230" y="250"/>
                        </a:lnTo>
                        <a:lnTo>
                          <a:pt x="219" y="271"/>
                        </a:lnTo>
                        <a:lnTo>
                          <a:pt x="212" y="303"/>
                        </a:lnTo>
                        <a:lnTo>
                          <a:pt x="201" y="317"/>
                        </a:lnTo>
                        <a:lnTo>
                          <a:pt x="201" y="352"/>
                        </a:lnTo>
                        <a:lnTo>
                          <a:pt x="186" y="388"/>
                        </a:lnTo>
                        <a:lnTo>
                          <a:pt x="183" y="447"/>
                        </a:lnTo>
                        <a:lnTo>
                          <a:pt x="172" y="507"/>
                        </a:lnTo>
                        <a:lnTo>
                          <a:pt x="164" y="521"/>
                        </a:lnTo>
                        <a:lnTo>
                          <a:pt x="164" y="543"/>
                        </a:lnTo>
                        <a:lnTo>
                          <a:pt x="146" y="546"/>
                        </a:lnTo>
                        <a:lnTo>
                          <a:pt x="146" y="560"/>
                        </a:lnTo>
                        <a:lnTo>
                          <a:pt x="139" y="581"/>
                        </a:lnTo>
                        <a:lnTo>
                          <a:pt x="117" y="606"/>
                        </a:lnTo>
                        <a:lnTo>
                          <a:pt x="95" y="634"/>
                        </a:lnTo>
                        <a:lnTo>
                          <a:pt x="80" y="669"/>
                        </a:lnTo>
                        <a:lnTo>
                          <a:pt x="18" y="669"/>
                        </a:lnTo>
                        <a:lnTo>
                          <a:pt x="117" y="585"/>
                        </a:lnTo>
                        <a:lnTo>
                          <a:pt x="135" y="550"/>
                        </a:lnTo>
                        <a:lnTo>
                          <a:pt x="128" y="514"/>
                        </a:lnTo>
                        <a:lnTo>
                          <a:pt x="150" y="497"/>
                        </a:lnTo>
                        <a:lnTo>
                          <a:pt x="150" y="388"/>
                        </a:lnTo>
                        <a:lnTo>
                          <a:pt x="84" y="377"/>
                        </a:lnTo>
                        <a:lnTo>
                          <a:pt x="44" y="366"/>
                        </a:lnTo>
                        <a:lnTo>
                          <a:pt x="0" y="352"/>
                        </a:lnTo>
                        <a:lnTo>
                          <a:pt x="139" y="349"/>
                        </a:lnTo>
                        <a:lnTo>
                          <a:pt x="161" y="338"/>
                        </a:lnTo>
                        <a:lnTo>
                          <a:pt x="157" y="317"/>
                        </a:lnTo>
                        <a:lnTo>
                          <a:pt x="117" y="310"/>
                        </a:lnTo>
                        <a:lnTo>
                          <a:pt x="73" y="307"/>
                        </a:lnTo>
                        <a:lnTo>
                          <a:pt x="131" y="292"/>
                        </a:lnTo>
                        <a:lnTo>
                          <a:pt x="146" y="282"/>
                        </a:lnTo>
                        <a:lnTo>
                          <a:pt x="95" y="233"/>
                        </a:lnTo>
                        <a:lnTo>
                          <a:pt x="47" y="208"/>
                        </a:lnTo>
                        <a:lnTo>
                          <a:pt x="18" y="176"/>
                        </a:lnTo>
                        <a:lnTo>
                          <a:pt x="7" y="169"/>
                        </a:lnTo>
                        <a:lnTo>
                          <a:pt x="40" y="166"/>
                        </a:lnTo>
                        <a:lnTo>
                          <a:pt x="80" y="183"/>
                        </a:lnTo>
                        <a:lnTo>
                          <a:pt x="131" y="211"/>
                        </a:lnTo>
                        <a:lnTo>
                          <a:pt x="175" y="229"/>
                        </a:lnTo>
                        <a:lnTo>
                          <a:pt x="201" y="222"/>
                        </a:lnTo>
                        <a:lnTo>
                          <a:pt x="215" y="194"/>
                        </a:lnTo>
                        <a:lnTo>
                          <a:pt x="215" y="134"/>
                        </a:lnTo>
                        <a:lnTo>
                          <a:pt x="197" y="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4" name=""/>
                  <p:cNvSpPr/>
                  <p:nvPr/>
                </p:nvSpPr>
                <p:spPr>
                  <a:xfrm>
                    <a:off x="5036760" y="5050800"/>
                    <a:ext cx="145800" cy="122040"/>
                  </a:xfrm>
                  <a:custGeom>
                    <a:avLst/>
                    <a:gdLst/>
                    <a:ahLst/>
                    <a:rect l="l" t="t" r="r" b="b"/>
                    <a:pathLst>
                      <a:path w="501" h="462">
                        <a:moveTo>
                          <a:pt x="0" y="462"/>
                        </a:moveTo>
                        <a:lnTo>
                          <a:pt x="314" y="356"/>
                        </a:lnTo>
                        <a:lnTo>
                          <a:pt x="339" y="335"/>
                        </a:lnTo>
                        <a:lnTo>
                          <a:pt x="365" y="300"/>
                        </a:lnTo>
                        <a:lnTo>
                          <a:pt x="369" y="264"/>
                        </a:lnTo>
                        <a:lnTo>
                          <a:pt x="372" y="162"/>
                        </a:lnTo>
                        <a:lnTo>
                          <a:pt x="383" y="233"/>
                        </a:lnTo>
                        <a:lnTo>
                          <a:pt x="405" y="250"/>
                        </a:lnTo>
                        <a:lnTo>
                          <a:pt x="420" y="194"/>
                        </a:lnTo>
                        <a:lnTo>
                          <a:pt x="434" y="141"/>
                        </a:lnTo>
                        <a:lnTo>
                          <a:pt x="487" y="0"/>
                        </a:lnTo>
                        <a:lnTo>
                          <a:pt x="454" y="120"/>
                        </a:lnTo>
                        <a:lnTo>
                          <a:pt x="434" y="194"/>
                        </a:lnTo>
                        <a:lnTo>
                          <a:pt x="423" y="250"/>
                        </a:lnTo>
                        <a:lnTo>
                          <a:pt x="405" y="286"/>
                        </a:lnTo>
                        <a:lnTo>
                          <a:pt x="383" y="314"/>
                        </a:lnTo>
                        <a:lnTo>
                          <a:pt x="409" y="335"/>
                        </a:lnTo>
                        <a:lnTo>
                          <a:pt x="442" y="331"/>
                        </a:lnTo>
                        <a:lnTo>
                          <a:pt x="501" y="282"/>
                        </a:lnTo>
                        <a:lnTo>
                          <a:pt x="423" y="370"/>
                        </a:lnTo>
                        <a:lnTo>
                          <a:pt x="343" y="388"/>
                        </a:lnTo>
                        <a:lnTo>
                          <a:pt x="252" y="405"/>
                        </a:lnTo>
                        <a:lnTo>
                          <a:pt x="164" y="423"/>
                        </a:lnTo>
                        <a:lnTo>
                          <a:pt x="66" y="444"/>
                        </a:lnTo>
                        <a:lnTo>
                          <a:pt x="0" y="462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5" name=""/>
                  <p:cNvSpPr/>
                  <p:nvPr/>
                </p:nvSpPr>
                <p:spPr>
                  <a:xfrm>
                    <a:off x="5166000" y="4966560"/>
                    <a:ext cx="114120" cy="202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768">
                        <a:moveTo>
                          <a:pt x="392" y="7"/>
                        </a:moveTo>
                        <a:lnTo>
                          <a:pt x="312" y="0"/>
                        </a:lnTo>
                        <a:lnTo>
                          <a:pt x="268" y="7"/>
                        </a:lnTo>
                        <a:lnTo>
                          <a:pt x="195" y="78"/>
                        </a:lnTo>
                        <a:lnTo>
                          <a:pt x="126" y="162"/>
                        </a:lnTo>
                        <a:lnTo>
                          <a:pt x="86" y="328"/>
                        </a:lnTo>
                        <a:lnTo>
                          <a:pt x="71" y="374"/>
                        </a:lnTo>
                        <a:lnTo>
                          <a:pt x="56" y="507"/>
                        </a:lnTo>
                        <a:lnTo>
                          <a:pt x="49" y="603"/>
                        </a:lnTo>
                        <a:lnTo>
                          <a:pt x="0" y="662"/>
                        </a:lnTo>
                        <a:lnTo>
                          <a:pt x="108" y="768"/>
                        </a:lnTo>
                        <a:lnTo>
                          <a:pt x="56" y="691"/>
                        </a:lnTo>
                        <a:lnTo>
                          <a:pt x="67" y="684"/>
                        </a:lnTo>
                        <a:lnTo>
                          <a:pt x="140" y="722"/>
                        </a:lnTo>
                        <a:lnTo>
                          <a:pt x="228" y="743"/>
                        </a:lnTo>
                        <a:lnTo>
                          <a:pt x="111" y="698"/>
                        </a:lnTo>
                        <a:lnTo>
                          <a:pt x="67" y="659"/>
                        </a:lnTo>
                        <a:lnTo>
                          <a:pt x="67" y="620"/>
                        </a:lnTo>
                        <a:lnTo>
                          <a:pt x="140" y="617"/>
                        </a:lnTo>
                        <a:lnTo>
                          <a:pt x="64" y="599"/>
                        </a:lnTo>
                        <a:lnTo>
                          <a:pt x="71" y="507"/>
                        </a:lnTo>
                        <a:lnTo>
                          <a:pt x="89" y="356"/>
                        </a:lnTo>
                        <a:lnTo>
                          <a:pt x="148" y="166"/>
                        </a:lnTo>
                        <a:lnTo>
                          <a:pt x="188" y="106"/>
                        </a:lnTo>
                        <a:lnTo>
                          <a:pt x="268" y="28"/>
                        </a:lnTo>
                        <a:lnTo>
                          <a:pt x="312" y="18"/>
                        </a:lnTo>
                        <a:lnTo>
                          <a:pt x="392" y="7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26" name=""/>
                  <p:cNvGrpSpPr/>
                  <p:nvPr/>
                </p:nvGrpSpPr>
                <p:grpSpPr>
                  <a:xfrm>
                    <a:off x="5071320" y="4809960"/>
                    <a:ext cx="186120" cy="255600"/>
                    <a:chOff x="5071320" y="4809960"/>
                    <a:chExt cx="186120" cy="255600"/>
                  </a:xfrm>
                </p:grpSpPr>
                <p:sp>
                  <p:nvSpPr>
                    <p:cNvPr id="1727" name=""/>
                    <p:cNvSpPr/>
                    <p:nvPr/>
                  </p:nvSpPr>
                  <p:spPr>
                    <a:xfrm>
                      <a:off x="5150880" y="4947480"/>
                      <a:ext cx="66960" cy="6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1" h="229">
                          <a:moveTo>
                            <a:pt x="202" y="0"/>
                          </a:moveTo>
                          <a:lnTo>
                            <a:pt x="44" y="135"/>
                          </a:lnTo>
                          <a:lnTo>
                            <a:pt x="33" y="118"/>
                          </a:lnTo>
                          <a:lnTo>
                            <a:pt x="8" y="174"/>
                          </a:lnTo>
                          <a:lnTo>
                            <a:pt x="0" y="206"/>
                          </a:lnTo>
                          <a:lnTo>
                            <a:pt x="18" y="188"/>
                          </a:lnTo>
                          <a:lnTo>
                            <a:pt x="35" y="151"/>
                          </a:lnTo>
                          <a:lnTo>
                            <a:pt x="69" y="229"/>
                          </a:lnTo>
                          <a:lnTo>
                            <a:pt x="122" y="169"/>
                          </a:lnTo>
                          <a:lnTo>
                            <a:pt x="180" y="76"/>
                          </a:lnTo>
                          <a:lnTo>
                            <a:pt x="231" y="16"/>
                          </a:lnTo>
                          <a:lnTo>
                            <a:pt x="202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8" name=""/>
                    <p:cNvSpPr/>
                    <p:nvPr/>
                  </p:nvSpPr>
                  <p:spPr>
                    <a:xfrm>
                      <a:off x="5149800" y="4987080"/>
                      <a:ext cx="19080" cy="7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286">
                          <a:moveTo>
                            <a:pt x="37" y="0"/>
                          </a:moveTo>
                          <a:lnTo>
                            <a:pt x="26" y="13"/>
                          </a:lnTo>
                          <a:lnTo>
                            <a:pt x="19" y="23"/>
                          </a:lnTo>
                          <a:lnTo>
                            <a:pt x="13" y="37"/>
                          </a:lnTo>
                          <a:lnTo>
                            <a:pt x="6" y="60"/>
                          </a:lnTo>
                          <a:lnTo>
                            <a:pt x="4" y="83"/>
                          </a:lnTo>
                          <a:lnTo>
                            <a:pt x="6" y="105"/>
                          </a:lnTo>
                          <a:lnTo>
                            <a:pt x="10" y="129"/>
                          </a:lnTo>
                          <a:lnTo>
                            <a:pt x="14" y="142"/>
                          </a:lnTo>
                          <a:lnTo>
                            <a:pt x="2" y="195"/>
                          </a:lnTo>
                          <a:lnTo>
                            <a:pt x="0" y="218"/>
                          </a:lnTo>
                          <a:lnTo>
                            <a:pt x="0" y="247"/>
                          </a:lnTo>
                          <a:lnTo>
                            <a:pt x="4" y="286"/>
                          </a:lnTo>
                          <a:lnTo>
                            <a:pt x="25" y="198"/>
                          </a:lnTo>
                          <a:lnTo>
                            <a:pt x="36" y="139"/>
                          </a:lnTo>
                          <a:lnTo>
                            <a:pt x="66" y="65"/>
                          </a:lnTo>
                          <a:lnTo>
                            <a:pt x="37" y="0"/>
                          </a:lnTo>
                          <a:close/>
                        </a:path>
                      </a:pathLst>
                    </a:custGeom>
                    <a:solidFill>
                      <a:srgbClr val="000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440" bIns="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9" name=""/>
                    <p:cNvSpPr/>
                    <p:nvPr/>
                  </p:nvSpPr>
                  <p:spPr>
                    <a:xfrm>
                      <a:off x="5150880" y="4987080"/>
                      <a:ext cx="1728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151">
                          <a:moveTo>
                            <a:pt x="33" y="0"/>
                          </a:moveTo>
                          <a:lnTo>
                            <a:pt x="22" y="13"/>
                          </a:lnTo>
                          <a:lnTo>
                            <a:pt x="14" y="23"/>
                          </a:lnTo>
                          <a:lnTo>
                            <a:pt x="8" y="37"/>
                          </a:lnTo>
                          <a:lnTo>
                            <a:pt x="2" y="60"/>
                          </a:lnTo>
                          <a:lnTo>
                            <a:pt x="0" y="83"/>
                          </a:lnTo>
                          <a:lnTo>
                            <a:pt x="2" y="106"/>
                          </a:lnTo>
                          <a:lnTo>
                            <a:pt x="6" y="129"/>
                          </a:lnTo>
                          <a:lnTo>
                            <a:pt x="10" y="142"/>
                          </a:lnTo>
                          <a:lnTo>
                            <a:pt x="27" y="151"/>
                          </a:lnTo>
                          <a:lnTo>
                            <a:pt x="31" y="136"/>
                          </a:lnTo>
                          <a:lnTo>
                            <a:pt x="62" y="66"/>
                          </a:lnTo>
                          <a:lnTo>
                            <a:pt x="33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30" name=""/>
                    <p:cNvGrpSpPr/>
                    <p:nvPr/>
                  </p:nvGrpSpPr>
                  <p:grpSpPr>
                    <a:xfrm>
                      <a:off x="5071320" y="4809960"/>
                      <a:ext cx="186120" cy="177120"/>
                      <a:chOff x="5071320" y="4809960"/>
                      <a:chExt cx="186120" cy="177120"/>
                    </a:xfrm>
                  </p:grpSpPr>
                  <p:grpSp>
                    <p:nvGrpSpPr>
                      <p:cNvPr id="1731" name=""/>
                      <p:cNvGrpSpPr/>
                      <p:nvPr/>
                    </p:nvGrpSpPr>
                    <p:grpSpPr>
                      <a:xfrm>
                        <a:off x="5090400" y="4828680"/>
                        <a:ext cx="137880" cy="158400"/>
                        <a:chOff x="5090400" y="4828680"/>
                        <a:chExt cx="137880" cy="158400"/>
                      </a:xfrm>
                    </p:grpSpPr>
                    <p:sp>
                      <p:nvSpPr>
                        <p:cNvPr id="1732" name=""/>
                        <p:cNvSpPr/>
                        <p:nvPr/>
                      </p:nvSpPr>
                      <p:spPr>
                        <a:xfrm>
                          <a:off x="5090400" y="4828680"/>
                          <a:ext cx="137880" cy="158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74" h="598">
                              <a:moveTo>
                                <a:pt x="148" y="17"/>
                              </a:moveTo>
                              <a:lnTo>
                                <a:pt x="114" y="36"/>
                              </a:lnTo>
                              <a:lnTo>
                                <a:pt x="82" y="56"/>
                              </a:lnTo>
                              <a:lnTo>
                                <a:pt x="59" y="75"/>
                              </a:lnTo>
                              <a:lnTo>
                                <a:pt x="37" y="95"/>
                              </a:lnTo>
                              <a:lnTo>
                                <a:pt x="20" y="116"/>
                              </a:lnTo>
                              <a:lnTo>
                                <a:pt x="9" y="138"/>
                              </a:lnTo>
                              <a:lnTo>
                                <a:pt x="5" y="162"/>
                              </a:lnTo>
                              <a:lnTo>
                                <a:pt x="2" y="188"/>
                              </a:lnTo>
                              <a:lnTo>
                                <a:pt x="0" y="219"/>
                              </a:lnTo>
                              <a:lnTo>
                                <a:pt x="4" y="248"/>
                              </a:lnTo>
                              <a:lnTo>
                                <a:pt x="0" y="286"/>
                              </a:lnTo>
                              <a:lnTo>
                                <a:pt x="16" y="297"/>
                              </a:lnTo>
                              <a:lnTo>
                                <a:pt x="30" y="307"/>
                              </a:lnTo>
                              <a:lnTo>
                                <a:pt x="31" y="317"/>
                              </a:lnTo>
                              <a:lnTo>
                                <a:pt x="31" y="332"/>
                              </a:lnTo>
                              <a:lnTo>
                                <a:pt x="26" y="350"/>
                              </a:lnTo>
                              <a:lnTo>
                                <a:pt x="11" y="398"/>
                              </a:lnTo>
                              <a:lnTo>
                                <a:pt x="11" y="419"/>
                              </a:lnTo>
                              <a:lnTo>
                                <a:pt x="23" y="424"/>
                              </a:lnTo>
                              <a:lnTo>
                                <a:pt x="42" y="424"/>
                              </a:lnTo>
                              <a:lnTo>
                                <a:pt x="55" y="424"/>
                              </a:lnTo>
                              <a:lnTo>
                                <a:pt x="77" y="481"/>
                              </a:lnTo>
                              <a:lnTo>
                                <a:pt x="78" y="502"/>
                              </a:lnTo>
                              <a:lnTo>
                                <a:pt x="86" y="512"/>
                              </a:lnTo>
                              <a:lnTo>
                                <a:pt x="95" y="515"/>
                              </a:lnTo>
                              <a:lnTo>
                                <a:pt x="96" y="527"/>
                              </a:lnTo>
                              <a:lnTo>
                                <a:pt x="95" y="543"/>
                              </a:lnTo>
                              <a:lnTo>
                                <a:pt x="104" y="569"/>
                              </a:lnTo>
                              <a:lnTo>
                                <a:pt x="115" y="586"/>
                              </a:lnTo>
                              <a:lnTo>
                                <a:pt x="126" y="593"/>
                              </a:lnTo>
                              <a:lnTo>
                                <a:pt x="151" y="598"/>
                              </a:lnTo>
                              <a:lnTo>
                                <a:pt x="172" y="596"/>
                              </a:lnTo>
                              <a:lnTo>
                                <a:pt x="201" y="583"/>
                              </a:lnTo>
                              <a:lnTo>
                                <a:pt x="235" y="565"/>
                              </a:lnTo>
                              <a:lnTo>
                                <a:pt x="250" y="582"/>
                              </a:lnTo>
                              <a:lnTo>
                                <a:pt x="456" y="423"/>
                              </a:lnTo>
                              <a:lnTo>
                                <a:pt x="443" y="396"/>
                              </a:lnTo>
                              <a:lnTo>
                                <a:pt x="456" y="359"/>
                              </a:lnTo>
                              <a:lnTo>
                                <a:pt x="469" y="311"/>
                              </a:lnTo>
                              <a:lnTo>
                                <a:pt x="474" y="250"/>
                              </a:lnTo>
                              <a:lnTo>
                                <a:pt x="473" y="204"/>
                              </a:lnTo>
                              <a:lnTo>
                                <a:pt x="459" y="128"/>
                              </a:lnTo>
                              <a:lnTo>
                                <a:pt x="440" y="60"/>
                              </a:lnTo>
                              <a:lnTo>
                                <a:pt x="418" y="10"/>
                              </a:lnTo>
                              <a:lnTo>
                                <a:pt x="335" y="0"/>
                              </a:lnTo>
                              <a:lnTo>
                                <a:pt x="208" y="1"/>
                              </a:lnTo>
                              <a:lnTo>
                                <a:pt x="148" y="1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bfb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733" name=""/>
                        <p:cNvGrpSpPr/>
                        <p:nvPr/>
                      </p:nvGrpSpPr>
                      <p:grpSpPr>
                        <a:xfrm>
                          <a:off x="5145120" y="4908600"/>
                          <a:ext cx="23400" cy="37080"/>
                          <a:chOff x="5145120" y="4908600"/>
                          <a:chExt cx="23400" cy="37080"/>
                        </a:xfrm>
                      </p:grpSpPr>
                      <p:sp>
                        <p:nvSpPr>
                          <p:cNvPr id="1734" name=""/>
                          <p:cNvSpPr/>
                          <p:nvPr/>
                        </p:nvSpPr>
                        <p:spPr>
                          <a:xfrm>
                            <a:off x="5145120" y="4908600"/>
                            <a:ext cx="183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1" h="89">
                                <a:moveTo>
                                  <a:pt x="0" y="37"/>
                                </a:moveTo>
                                <a:lnTo>
                                  <a:pt x="6" y="18"/>
                                </a:lnTo>
                                <a:lnTo>
                                  <a:pt x="11" y="5"/>
                                </a:lnTo>
                                <a:lnTo>
                                  <a:pt x="16" y="2"/>
                                </a:lnTo>
                                <a:lnTo>
                                  <a:pt x="24" y="0"/>
                                </a:lnTo>
                                <a:lnTo>
                                  <a:pt x="34" y="0"/>
                                </a:lnTo>
                                <a:lnTo>
                                  <a:pt x="44" y="2"/>
                                </a:lnTo>
                                <a:lnTo>
                                  <a:pt x="51" y="7"/>
                                </a:lnTo>
                                <a:lnTo>
                                  <a:pt x="56" y="16"/>
                                </a:lnTo>
                                <a:lnTo>
                                  <a:pt x="60" y="31"/>
                                </a:lnTo>
                                <a:lnTo>
                                  <a:pt x="61" y="44"/>
                                </a:lnTo>
                                <a:lnTo>
                                  <a:pt x="58" y="62"/>
                                </a:lnTo>
                                <a:lnTo>
                                  <a:pt x="55" y="78"/>
                                </a:lnTo>
                                <a:lnTo>
                                  <a:pt x="47" y="89"/>
                                </a:lnTo>
                                <a:lnTo>
                                  <a:pt x="44" y="76"/>
                                </a:lnTo>
                                <a:lnTo>
                                  <a:pt x="51" y="64"/>
                                </a:lnTo>
                                <a:lnTo>
                                  <a:pt x="46" y="49"/>
                                </a:lnTo>
                                <a:lnTo>
                                  <a:pt x="40" y="55"/>
                                </a:lnTo>
                                <a:lnTo>
                                  <a:pt x="27" y="61"/>
                                </a:lnTo>
                                <a:lnTo>
                                  <a:pt x="22" y="48"/>
                                </a:lnTo>
                                <a:lnTo>
                                  <a:pt x="33" y="43"/>
                                </a:lnTo>
                                <a:lnTo>
                                  <a:pt x="44" y="41"/>
                                </a:lnTo>
                                <a:lnTo>
                                  <a:pt x="44" y="32"/>
                                </a:lnTo>
                                <a:lnTo>
                                  <a:pt x="43" y="22"/>
                                </a:lnTo>
                                <a:lnTo>
                                  <a:pt x="49" y="23"/>
                                </a:lnTo>
                                <a:lnTo>
                                  <a:pt x="47" y="10"/>
                                </a:lnTo>
                                <a:lnTo>
                                  <a:pt x="45" y="7"/>
                                </a:lnTo>
                                <a:lnTo>
                                  <a:pt x="35" y="5"/>
                                </a:lnTo>
                                <a:lnTo>
                                  <a:pt x="18" y="7"/>
                                </a:lnTo>
                                <a:lnTo>
                                  <a:pt x="10" y="20"/>
                                </a:lnTo>
                                <a:lnTo>
                                  <a:pt x="0" y="3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df9f7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35" name=""/>
                          <p:cNvSpPr/>
                          <p:nvPr/>
                        </p:nvSpPr>
                        <p:spPr>
                          <a:xfrm>
                            <a:off x="5153040" y="4932360"/>
                            <a:ext cx="15480" cy="13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4" h="50">
                                <a:moveTo>
                                  <a:pt x="40" y="0"/>
                                </a:moveTo>
                                <a:lnTo>
                                  <a:pt x="32" y="17"/>
                                </a:lnTo>
                                <a:lnTo>
                                  <a:pt x="29" y="25"/>
                                </a:lnTo>
                                <a:lnTo>
                                  <a:pt x="21" y="31"/>
                                </a:lnTo>
                                <a:lnTo>
                                  <a:pt x="12" y="32"/>
                                </a:lnTo>
                                <a:lnTo>
                                  <a:pt x="0" y="32"/>
                                </a:lnTo>
                                <a:lnTo>
                                  <a:pt x="26" y="35"/>
                                </a:lnTo>
                                <a:lnTo>
                                  <a:pt x="42" y="42"/>
                                </a:lnTo>
                                <a:lnTo>
                                  <a:pt x="54" y="50"/>
                                </a:lnTo>
                                <a:lnTo>
                                  <a:pt x="43" y="33"/>
                                </a:lnTo>
                                <a:lnTo>
                                  <a:pt x="41" y="17"/>
                                </a:lnTo>
                                <a:lnTo>
                                  <a:pt x="4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df9f7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3480" bIns="-334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736" name=""/>
                        <p:cNvSpPr/>
                        <p:nvPr/>
                      </p:nvSpPr>
                      <p:spPr>
                        <a:xfrm>
                          <a:off x="5113800" y="4930920"/>
                          <a:ext cx="12960" cy="17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7" h="67">
                              <a:moveTo>
                                <a:pt x="8" y="0"/>
                              </a:moveTo>
                              <a:lnTo>
                                <a:pt x="14" y="6"/>
                              </a:lnTo>
                              <a:lnTo>
                                <a:pt x="15" y="13"/>
                              </a:lnTo>
                              <a:lnTo>
                                <a:pt x="13" y="19"/>
                              </a:lnTo>
                              <a:lnTo>
                                <a:pt x="8" y="25"/>
                              </a:lnTo>
                              <a:lnTo>
                                <a:pt x="0" y="30"/>
                              </a:lnTo>
                              <a:lnTo>
                                <a:pt x="7" y="35"/>
                              </a:lnTo>
                              <a:lnTo>
                                <a:pt x="17" y="38"/>
                              </a:lnTo>
                              <a:lnTo>
                                <a:pt x="27" y="43"/>
                              </a:lnTo>
                              <a:lnTo>
                                <a:pt x="47" y="67"/>
                              </a:lnTo>
                              <a:lnTo>
                                <a:pt x="22" y="29"/>
                              </a:lnTo>
                              <a:lnTo>
                                <a:pt x="19" y="21"/>
                              </a:lnTo>
                              <a:lnTo>
                                <a:pt x="19" y="12"/>
                              </a:lnTo>
                              <a:lnTo>
                                <a:pt x="21" y="7"/>
                              </a:lnTo>
                              <a:lnTo>
                                <a:pt x="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737" name=""/>
                      <p:cNvGrpSpPr/>
                      <p:nvPr/>
                    </p:nvGrpSpPr>
                    <p:grpSpPr>
                      <a:xfrm>
                        <a:off x="5071320" y="4809960"/>
                        <a:ext cx="186120" cy="177120"/>
                        <a:chOff x="5071320" y="4809960"/>
                        <a:chExt cx="186120" cy="177120"/>
                      </a:xfrm>
                    </p:grpSpPr>
                    <p:sp>
                      <p:nvSpPr>
                        <p:cNvPr id="1738" name=""/>
                        <p:cNvSpPr/>
                        <p:nvPr/>
                      </p:nvSpPr>
                      <p:spPr>
                        <a:xfrm>
                          <a:off x="5071320" y="4809960"/>
                          <a:ext cx="186120" cy="177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40" h="673">
                              <a:moveTo>
                                <a:pt x="307" y="0"/>
                              </a:moveTo>
                              <a:lnTo>
                                <a:pt x="278" y="1"/>
                              </a:lnTo>
                              <a:lnTo>
                                <a:pt x="256" y="5"/>
                              </a:lnTo>
                              <a:lnTo>
                                <a:pt x="231" y="10"/>
                              </a:lnTo>
                              <a:lnTo>
                                <a:pt x="203" y="20"/>
                              </a:lnTo>
                              <a:lnTo>
                                <a:pt x="180" y="29"/>
                              </a:lnTo>
                              <a:lnTo>
                                <a:pt x="154" y="51"/>
                              </a:lnTo>
                              <a:lnTo>
                                <a:pt x="129" y="74"/>
                              </a:lnTo>
                              <a:lnTo>
                                <a:pt x="106" y="98"/>
                              </a:lnTo>
                              <a:lnTo>
                                <a:pt x="55" y="130"/>
                              </a:lnTo>
                              <a:lnTo>
                                <a:pt x="37" y="142"/>
                              </a:lnTo>
                              <a:lnTo>
                                <a:pt x="23" y="155"/>
                              </a:lnTo>
                              <a:lnTo>
                                <a:pt x="15" y="167"/>
                              </a:lnTo>
                              <a:lnTo>
                                <a:pt x="5" y="181"/>
                              </a:lnTo>
                              <a:lnTo>
                                <a:pt x="1" y="195"/>
                              </a:lnTo>
                              <a:lnTo>
                                <a:pt x="0" y="210"/>
                              </a:lnTo>
                              <a:lnTo>
                                <a:pt x="0" y="225"/>
                              </a:lnTo>
                              <a:lnTo>
                                <a:pt x="4" y="243"/>
                              </a:lnTo>
                              <a:lnTo>
                                <a:pt x="14" y="263"/>
                              </a:lnTo>
                              <a:lnTo>
                                <a:pt x="22" y="273"/>
                              </a:lnTo>
                              <a:lnTo>
                                <a:pt x="33" y="282"/>
                              </a:lnTo>
                              <a:lnTo>
                                <a:pt x="49" y="286"/>
                              </a:lnTo>
                              <a:lnTo>
                                <a:pt x="66" y="290"/>
                              </a:lnTo>
                              <a:lnTo>
                                <a:pt x="90" y="295"/>
                              </a:lnTo>
                              <a:lnTo>
                                <a:pt x="76" y="276"/>
                              </a:lnTo>
                              <a:lnTo>
                                <a:pt x="71" y="258"/>
                              </a:lnTo>
                              <a:lnTo>
                                <a:pt x="72" y="237"/>
                              </a:lnTo>
                              <a:lnTo>
                                <a:pt x="77" y="216"/>
                              </a:lnTo>
                              <a:lnTo>
                                <a:pt x="84" y="203"/>
                              </a:lnTo>
                              <a:lnTo>
                                <a:pt x="94" y="189"/>
                              </a:lnTo>
                              <a:lnTo>
                                <a:pt x="106" y="177"/>
                              </a:lnTo>
                              <a:lnTo>
                                <a:pt x="121" y="167"/>
                              </a:lnTo>
                              <a:lnTo>
                                <a:pt x="139" y="157"/>
                              </a:lnTo>
                              <a:lnTo>
                                <a:pt x="197" y="140"/>
                              </a:lnTo>
                              <a:lnTo>
                                <a:pt x="186" y="151"/>
                              </a:lnTo>
                              <a:lnTo>
                                <a:pt x="178" y="158"/>
                              </a:lnTo>
                              <a:lnTo>
                                <a:pt x="166" y="163"/>
                              </a:lnTo>
                              <a:lnTo>
                                <a:pt x="147" y="169"/>
                              </a:lnTo>
                              <a:lnTo>
                                <a:pt x="135" y="172"/>
                              </a:lnTo>
                              <a:lnTo>
                                <a:pt x="122" y="181"/>
                              </a:lnTo>
                              <a:lnTo>
                                <a:pt x="116" y="191"/>
                              </a:lnTo>
                              <a:lnTo>
                                <a:pt x="111" y="202"/>
                              </a:lnTo>
                              <a:lnTo>
                                <a:pt x="108" y="214"/>
                              </a:lnTo>
                              <a:lnTo>
                                <a:pt x="108" y="226"/>
                              </a:lnTo>
                              <a:lnTo>
                                <a:pt x="113" y="241"/>
                              </a:lnTo>
                              <a:lnTo>
                                <a:pt x="117" y="262"/>
                              </a:lnTo>
                              <a:lnTo>
                                <a:pt x="127" y="280"/>
                              </a:lnTo>
                              <a:lnTo>
                                <a:pt x="141" y="311"/>
                              </a:lnTo>
                              <a:lnTo>
                                <a:pt x="167" y="371"/>
                              </a:lnTo>
                              <a:lnTo>
                                <a:pt x="185" y="404"/>
                              </a:lnTo>
                              <a:lnTo>
                                <a:pt x="206" y="412"/>
                              </a:lnTo>
                              <a:lnTo>
                                <a:pt x="211" y="441"/>
                              </a:lnTo>
                              <a:lnTo>
                                <a:pt x="214" y="515"/>
                              </a:lnTo>
                              <a:lnTo>
                                <a:pt x="218" y="536"/>
                              </a:lnTo>
                              <a:lnTo>
                                <a:pt x="220" y="554"/>
                              </a:lnTo>
                              <a:lnTo>
                                <a:pt x="220" y="566"/>
                              </a:lnTo>
                              <a:lnTo>
                                <a:pt x="210" y="579"/>
                              </a:lnTo>
                              <a:lnTo>
                                <a:pt x="196" y="587"/>
                              </a:lnTo>
                              <a:lnTo>
                                <a:pt x="179" y="596"/>
                              </a:lnTo>
                              <a:lnTo>
                                <a:pt x="166" y="607"/>
                              </a:lnTo>
                              <a:lnTo>
                                <a:pt x="163" y="614"/>
                              </a:lnTo>
                              <a:lnTo>
                                <a:pt x="163" y="625"/>
                              </a:lnTo>
                              <a:lnTo>
                                <a:pt x="166" y="633"/>
                              </a:lnTo>
                              <a:lnTo>
                                <a:pt x="169" y="640"/>
                              </a:lnTo>
                              <a:lnTo>
                                <a:pt x="173" y="649"/>
                              </a:lnTo>
                              <a:lnTo>
                                <a:pt x="182" y="660"/>
                              </a:lnTo>
                              <a:lnTo>
                                <a:pt x="190" y="666"/>
                              </a:lnTo>
                              <a:lnTo>
                                <a:pt x="200" y="669"/>
                              </a:lnTo>
                              <a:lnTo>
                                <a:pt x="211" y="672"/>
                              </a:lnTo>
                              <a:lnTo>
                                <a:pt x="225" y="673"/>
                              </a:lnTo>
                              <a:lnTo>
                                <a:pt x="236" y="672"/>
                              </a:lnTo>
                              <a:lnTo>
                                <a:pt x="250" y="668"/>
                              </a:lnTo>
                              <a:lnTo>
                                <a:pt x="261" y="664"/>
                              </a:lnTo>
                              <a:lnTo>
                                <a:pt x="273" y="657"/>
                              </a:lnTo>
                              <a:lnTo>
                                <a:pt x="287" y="648"/>
                              </a:lnTo>
                              <a:lnTo>
                                <a:pt x="296" y="642"/>
                              </a:lnTo>
                              <a:lnTo>
                                <a:pt x="295" y="613"/>
                              </a:lnTo>
                              <a:lnTo>
                                <a:pt x="285" y="514"/>
                              </a:lnTo>
                              <a:lnTo>
                                <a:pt x="253" y="458"/>
                              </a:lnTo>
                              <a:lnTo>
                                <a:pt x="245" y="434"/>
                              </a:lnTo>
                              <a:lnTo>
                                <a:pt x="240" y="411"/>
                              </a:lnTo>
                              <a:lnTo>
                                <a:pt x="246" y="398"/>
                              </a:lnTo>
                              <a:lnTo>
                                <a:pt x="253" y="383"/>
                              </a:lnTo>
                              <a:lnTo>
                                <a:pt x="263" y="373"/>
                              </a:lnTo>
                              <a:lnTo>
                                <a:pt x="278" y="367"/>
                              </a:lnTo>
                              <a:lnTo>
                                <a:pt x="291" y="369"/>
                              </a:lnTo>
                              <a:lnTo>
                                <a:pt x="307" y="373"/>
                              </a:lnTo>
                              <a:lnTo>
                                <a:pt x="323" y="385"/>
                              </a:lnTo>
                              <a:lnTo>
                                <a:pt x="329" y="396"/>
                              </a:lnTo>
                              <a:lnTo>
                                <a:pt x="334" y="413"/>
                              </a:lnTo>
                              <a:lnTo>
                                <a:pt x="335" y="430"/>
                              </a:lnTo>
                              <a:lnTo>
                                <a:pt x="331" y="446"/>
                              </a:lnTo>
                              <a:lnTo>
                                <a:pt x="328" y="460"/>
                              </a:lnTo>
                              <a:lnTo>
                                <a:pt x="328" y="471"/>
                              </a:lnTo>
                              <a:lnTo>
                                <a:pt x="335" y="480"/>
                              </a:lnTo>
                              <a:lnTo>
                                <a:pt x="454" y="559"/>
                              </a:lnTo>
                              <a:lnTo>
                                <a:pt x="499" y="554"/>
                              </a:lnTo>
                              <a:lnTo>
                                <a:pt x="552" y="551"/>
                              </a:lnTo>
                              <a:lnTo>
                                <a:pt x="598" y="539"/>
                              </a:lnTo>
                              <a:lnTo>
                                <a:pt x="617" y="520"/>
                              </a:lnTo>
                              <a:lnTo>
                                <a:pt x="628" y="509"/>
                              </a:lnTo>
                              <a:lnTo>
                                <a:pt x="633" y="492"/>
                              </a:lnTo>
                              <a:lnTo>
                                <a:pt x="637" y="472"/>
                              </a:lnTo>
                              <a:lnTo>
                                <a:pt x="640" y="438"/>
                              </a:lnTo>
                              <a:lnTo>
                                <a:pt x="630" y="416"/>
                              </a:lnTo>
                              <a:lnTo>
                                <a:pt x="625" y="359"/>
                              </a:lnTo>
                              <a:lnTo>
                                <a:pt x="606" y="282"/>
                              </a:lnTo>
                              <a:lnTo>
                                <a:pt x="592" y="222"/>
                              </a:lnTo>
                              <a:lnTo>
                                <a:pt x="563" y="163"/>
                              </a:lnTo>
                              <a:lnTo>
                                <a:pt x="537" y="113"/>
                              </a:lnTo>
                              <a:lnTo>
                                <a:pt x="522" y="88"/>
                              </a:lnTo>
                              <a:lnTo>
                                <a:pt x="500" y="59"/>
                              </a:lnTo>
                              <a:lnTo>
                                <a:pt x="482" y="43"/>
                              </a:lnTo>
                              <a:lnTo>
                                <a:pt x="444" y="24"/>
                              </a:lnTo>
                              <a:lnTo>
                                <a:pt x="412" y="10"/>
                              </a:lnTo>
                              <a:lnTo>
                                <a:pt x="375" y="2"/>
                              </a:lnTo>
                              <a:lnTo>
                                <a:pt x="340" y="0"/>
                              </a:lnTo>
                              <a:lnTo>
                                <a:pt x="30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9" name=""/>
                        <p:cNvSpPr/>
                        <p:nvPr/>
                      </p:nvSpPr>
                      <p:spPr>
                        <a:xfrm>
                          <a:off x="5090400" y="4899960"/>
                          <a:ext cx="15840" cy="9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5" h="37">
                              <a:moveTo>
                                <a:pt x="2" y="0"/>
                              </a:moveTo>
                              <a:lnTo>
                                <a:pt x="1" y="7"/>
                              </a:lnTo>
                              <a:lnTo>
                                <a:pt x="0" y="17"/>
                              </a:lnTo>
                              <a:lnTo>
                                <a:pt x="4" y="23"/>
                              </a:lnTo>
                              <a:lnTo>
                                <a:pt x="11" y="28"/>
                              </a:lnTo>
                              <a:lnTo>
                                <a:pt x="23" y="30"/>
                              </a:lnTo>
                              <a:lnTo>
                                <a:pt x="35" y="31"/>
                              </a:lnTo>
                              <a:lnTo>
                                <a:pt x="49" y="35"/>
                              </a:lnTo>
                              <a:lnTo>
                                <a:pt x="55" y="37"/>
                              </a:lnTo>
                              <a:lnTo>
                                <a:pt x="55" y="29"/>
                              </a:lnTo>
                              <a:lnTo>
                                <a:pt x="42" y="18"/>
                              </a:lnTo>
                              <a:lnTo>
                                <a:pt x="32" y="11"/>
                              </a:lnTo>
                              <a:lnTo>
                                <a:pt x="19" y="5"/>
                              </a:lnTo>
                              <a:lnTo>
                                <a:pt x="13" y="3"/>
                              </a:lnTo>
                              <a:lnTo>
                                <a:pt x="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0" name=""/>
                        <p:cNvSpPr/>
                        <p:nvPr/>
                      </p:nvSpPr>
                      <p:spPr>
                        <a:xfrm>
                          <a:off x="5096520" y="4911120"/>
                          <a:ext cx="8640" cy="2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13">
                              <a:moveTo>
                                <a:pt x="18" y="0"/>
                              </a:moveTo>
                              <a:lnTo>
                                <a:pt x="14" y="6"/>
                              </a:lnTo>
                              <a:lnTo>
                                <a:pt x="8" y="8"/>
                              </a:lnTo>
                              <a:lnTo>
                                <a:pt x="0" y="9"/>
                              </a:lnTo>
                              <a:lnTo>
                                <a:pt x="9" y="13"/>
                              </a:lnTo>
                              <a:lnTo>
                                <a:pt x="24" y="13"/>
                              </a:lnTo>
                              <a:lnTo>
                                <a:pt x="32" y="13"/>
                              </a:lnTo>
                              <a:lnTo>
                                <a:pt x="1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1" name=""/>
                        <p:cNvSpPr/>
                        <p:nvPr/>
                      </p:nvSpPr>
                      <p:spPr>
                        <a:xfrm>
                          <a:off x="5104440" y="4939560"/>
                          <a:ext cx="17280" cy="18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0" h="69">
                              <a:moveTo>
                                <a:pt x="9" y="1"/>
                              </a:moveTo>
                              <a:lnTo>
                                <a:pt x="3" y="10"/>
                              </a:lnTo>
                              <a:lnTo>
                                <a:pt x="1" y="17"/>
                              </a:lnTo>
                              <a:lnTo>
                                <a:pt x="0" y="26"/>
                              </a:lnTo>
                              <a:lnTo>
                                <a:pt x="0" y="34"/>
                              </a:lnTo>
                              <a:lnTo>
                                <a:pt x="2" y="44"/>
                              </a:lnTo>
                              <a:lnTo>
                                <a:pt x="4" y="53"/>
                              </a:lnTo>
                              <a:lnTo>
                                <a:pt x="9" y="57"/>
                              </a:lnTo>
                              <a:lnTo>
                                <a:pt x="14" y="61"/>
                              </a:lnTo>
                              <a:lnTo>
                                <a:pt x="21" y="61"/>
                              </a:lnTo>
                              <a:lnTo>
                                <a:pt x="30" y="61"/>
                              </a:lnTo>
                              <a:lnTo>
                                <a:pt x="45" y="63"/>
                              </a:lnTo>
                              <a:lnTo>
                                <a:pt x="60" y="69"/>
                              </a:lnTo>
                              <a:lnTo>
                                <a:pt x="60" y="61"/>
                              </a:lnTo>
                              <a:lnTo>
                                <a:pt x="56" y="50"/>
                              </a:lnTo>
                              <a:lnTo>
                                <a:pt x="54" y="39"/>
                              </a:lnTo>
                              <a:lnTo>
                                <a:pt x="47" y="28"/>
                              </a:lnTo>
                              <a:lnTo>
                                <a:pt x="42" y="22"/>
                              </a:lnTo>
                              <a:lnTo>
                                <a:pt x="35" y="15"/>
                              </a:lnTo>
                              <a:lnTo>
                                <a:pt x="29" y="9"/>
                              </a:lnTo>
                              <a:lnTo>
                                <a:pt x="24" y="5"/>
                              </a:lnTo>
                              <a:lnTo>
                                <a:pt x="20" y="0"/>
                              </a:lnTo>
                              <a:lnTo>
                                <a:pt x="9" y="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800" bIns="-28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2" name=""/>
                        <p:cNvSpPr/>
                        <p:nvPr/>
                      </p:nvSpPr>
                      <p:spPr>
                        <a:xfrm>
                          <a:off x="5074560" y="4840560"/>
                          <a:ext cx="41760" cy="37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6" h="146">
                              <a:moveTo>
                                <a:pt x="146" y="0"/>
                              </a:moveTo>
                              <a:lnTo>
                                <a:pt x="121" y="11"/>
                              </a:lnTo>
                              <a:lnTo>
                                <a:pt x="100" y="14"/>
                              </a:lnTo>
                              <a:lnTo>
                                <a:pt x="79" y="20"/>
                              </a:lnTo>
                              <a:lnTo>
                                <a:pt x="61" y="27"/>
                              </a:lnTo>
                              <a:lnTo>
                                <a:pt x="43" y="35"/>
                              </a:lnTo>
                              <a:lnTo>
                                <a:pt x="28" y="47"/>
                              </a:lnTo>
                              <a:lnTo>
                                <a:pt x="19" y="59"/>
                              </a:lnTo>
                              <a:lnTo>
                                <a:pt x="11" y="70"/>
                              </a:lnTo>
                              <a:lnTo>
                                <a:pt x="5" y="80"/>
                              </a:lnTo>
                              <a:lnTo>
                                <a:pt x="0" y="92"/>
                              </a:lnTo>
                              <a:lnTo>
                                <a:pt x="8" y="84"/>
                              </a:lnTo>
                              <a:lnTo>
                                <a:pt x="8" y="98"/>
                              </a:lnTo>
                              <a:lnTo>
                                <a:pt x="8" y="119"/>
                              </a:lnTo>
                              <a:lnTo>
                                <a:pt x="11" y="131"/>
                              </a:lnTo>
                              <a:lnTo>
                                <a:pt x="19" y="146"/>
                              </a:lnTo>
                              <a:lnTo>
                                <a:pt x="26" y="120"/>
                              </a:lnTo>
                              <a:lnTo>
                                <a:pt x="33" y="95"/>
                              </a:lnTo>
                              <a:lnTo>
                                <a:pt x="43" y="73"/>
                              </a:lnTo>
                              <a:lnTo>
                                <a:pt x="55" y="53"/>
                              </a:lnTo>
                              <a:lnTo>
                                <a:pt x="70" y="40"/>
                              </a:lnTo>
                              <a:lnTo>
                                <a:pt x="83" y="30"/>
                              </a:lnTo>
                              <a:lnTo>
                                <a:pt x="101" y="21"/>
                              </a:lnTo>
                              <a:lnTo>
                                <a:pt x="14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5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9000" bIns="-9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743" name=""/>
                    <p:cNvSpPr/>
                    <p:nvPr/>
                  </p:nvSpPr>
                  <p:spPr>
                    <a:xfrm>
                      <a:off x="5175360" y="4950720"/>
                      <a:ext cx="52200" cy="10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2" h="381">
                          <a:moveTo>
                            <a:pt x="182" y="0"/>
                          </a:moveTo>
                          <a:lnTo>
                            <a:pt x="40" y="247"/>
                          </a:lnTo>
                          <a:lnTo>
                            <a:pt x="0" y="381"/>
                          </a:lnTo>
                          <a:lnTo>
                            <a:pt x="62" y="233"/>
                          </a:lnTo>
                          <a:lnTo>
                            <a:pt x="182" y="0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4" name=""/>
                    <p:cNvSpPr/>
                    <p:nvPr/>
                  </p:nvSpPr>
                  <p:spPr>
                    <a:xfrm>
                      <a:off x="5121720" y="5021280"/>
                      <a:ext cx="1980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168">
                          <a:moveTo>
                            <a:pt x="37" y="0"/>
                          </a:moveTo>
                          <a:lnTo>
                            <a:pt x="38" y="129"/>
                          </a:lnTo>
                          <a:lnTo>
                            <a:pt x="70" y="168"/>
                          </a:lnTo>
                          <a:lnTo>
                            <a:pt x="23" y="134"/>
                          </a:lnTo>
                          <a:lnTo>
                            <a:pt x="0" y="154"/>
                          </a:lnTo>
                          <a:lnTo>
                            <a:pt x="15" y="105"/>
                          </a:lnTo>
                          <a:lnTo>
                            <a:pt x="22" y="27"/>
                          </a:lnTo>
                          <a:lnTo>
                            <a:pt x="37" y="0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45" name=""/>
                  <p:cNvSpPr/>
                  <p:nvPr/>
                </p:nvSpPr>
                <p:spPr>
                  <a:xfrm>
                    <a:off x="5099400" y="5083920"/>
                    <a:ext cx="306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81">
                        <a:moveTo>
                          <a:pt x="63" y="0"/>
                        </a:moveTo>
                        <a:lnTo>
                          <a:pt x="103" y="93"/>
                        </a:lnTo>
                        <a:lnTo>
                          <a:pt x="105" y="181"/>
                        </a:lnTo>
                        <a:lnTo>
                          <a:pt x="87" y="82"/>
                        </a:lnTo>
                        <a:lnTo>
                          <a:pt x="62" y="40"/>
                        </a:lnTo>
                        <a:lnTo>
                          <a:pt x="0" y="76"/>
                        </a:lnTo>
                        <a:lnTo>
                          <a:pt x="37" y="45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46" name=""/>
                <p:cNvSpPr/>
                <p:nvPr/>
              </p:nvSpPr>
              <p:spPr>
                <a:xfrm>
                  <a:off x="4939560" y="5160960"/>
                  <a:ext cx="21960" cy="31680"/>
                </a:xfrm>
                <a:custGeom>
                  <a:avLst/>
                  <a:gdLst/>
                  <a:ahLst/>
                  <a:rect l="l" t="t" r="r" b="b"/>
                  <a:pathLst>
                    <a:path w="75" h="120">
                      <a:moveTo>
                        <a:pt x="53" y="0"/>
                      </a:moveTo>
                      <a:lnTo>
                        <a:pt x="2" y="98"/>
                      </a:lnTo>
                      <a:lnTo>
                        <a:pt x="0" y="120"/>
                      </a:lnTo>
                      <a:lnTo>
                        <a:pt x="18" y="105"/>
                      </a:lnTo>
                      <a:lnTo>
                        <a:pt x="75" y="6"/>
                      </a:lnTo>
                      <a:lnTo>
                        <a:pt x="66" y="5"/>
                      </a:lnTo>
                      <a:lnTo>
                        <a:pt x="58" y="2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47" name=""/>
                <p:cNvGrpSpPr/>
                <p:nvPr/>
              </p:nvGrpSpPr>
              <p:grpSpPr>
                <a:xfrm>
                  <a:off x="4938840" y="5127480"/>
                  <a:ext cx="81720" cy="61200"/>
                  <a:chOff x="4938840" y="5127480"/>
                  <a:chExt cx="81720" cy="61200"/>
                </a:xfrm>
              </p:grpSpPr>
              <p:grpSp>
                <p:nvGrpSpPr>
                  <p:cNvPr id="1748" name=""/>
                  <p:cNvGrpSpPr/>
                  <p:nvPr/>
                </p:nvGrpSpPr>
                <p:grpSpPr>
                  <a:xfrm>
                    <a:off x="4938840" y="5127480"/>
                    <a:ext cx="76680" cy="61200"/>
                    <a:chOff x="4938840" y="5127480"/>
                    <a:chExt cx="76680" cy="61200"/>
                  </a:xfrm>
                </p:grpSpPr>
                <p:sp>
                  <p:nvSpPr>
                    <p:cNvPr id="1749" name=""/>
                    <p:cNvSpPr/>
                    <p:nvPr/>
                  </p:nvSpPr>
                  <p:spPr>
                    <a:xfrm>
                      <a:off x="4938840" y="5134320"/>
                      <a:ext cx="7668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6" h="209">
                          <a:moveTo>
                            <a:pt x="197" y="29"/>
                          </a:moveTo>
                          <a:lnTo>
                            <a:pt x="181" y="32"/>
                          </a:lnTo>
                          <a:lnTo>
                            <a:pt x="168" y="25"/>
                          </a:lnTo>
                          <a:lnTo>
                            <a:pt x="151" y="17"/>
                          </a:lnTo>
                          <a:lnTo>
                            <a:pt x="134" y="11"/>
                          </a:lnTo>
                          <a:lnTo>
                            <a:pt x="107" y="4"/>
                          </a:lnTo>
                          <a:lnTo>
                            <a:pt x="92" y="0"/>
                          </a:lnTo>
                          <a:lnTo>
                            <a:pt x="41" y="12"/>
                          </a:lnTo>
                          <a:lnTo>
                            <a:pt x="33" y="17"/>
                          </a:lnTo>
                          <a:lnTo>
                            <a:pt x="25" y="22"/>
                          </a:lnTo>
                          <a:lnTo>
                            <a:pt x="19" y="31"/>
                          </a:lnTo>
                          <a:lnTo>
                            <a:pt x="14" y="44"/>
                          </a:lnTo>
                          <a:lnTo>
                            <a:pt x="9" y="64"/>
                          </a:lnTo>
                          <a:lnTo>
                            <a:pt x="5" y="90"/>
                          </a:lnTo>
                          <a:lnTo>
                            <a:pt x="3" y="113"/>
                          </a:lnTo>
                          <a:lnTo>
                            <a:pt x="0" y="130"/>
                          </a:lnTo>
                          <a:lnTo>
                            <a:pt x="0" y="140"/>
                          </a:lnTo>
                          <a:lnTo>
                            <a:pt x="3" y="148"/>
                          </a:lnTo>
                          <a:lnTo>
                            <a:pt x="5" y="155"/>
                          </a:lnTo>
                          <a:lnTo>
                            <a:pt x="11" y="165"/>
                          </a:lnTo>
                          <a:lnTo>
                            <a:pt x="34" y="188"/>
                          </a:lnTo>
                          <a:lnTo>
                            <a:pt x="45" y="194"/>
                          </a:lnTo>
                          <a:lnTo>
                            <a:pt x="64" y="204"/>
                          </a:lnTo>
                          <a:lnTo>
                            <a:pt x="76" y="209"/>
                          </a:lnTo>
                          <a:lnTo>
                            <a:pt x="86" y="205"/>
                          </a:lnTo>
                          <a:lnTo>
                            <a:pt x="89" y="198"/>
                          </a:lnTo>
                          <a:lnTo>
                            <a:pt x="99" y="198"/>
                          </a:lnTo>
                          <a:lnTo>
                            <a:pt x="110" y="198"/>
                          </a:lnTo>
                          <a:lnTo>
                            <a:pt x="125" y="201"/>
                          </a:lnTo>
                          <a:lnTo>
                            <a:pt x="134" y="202"/>
                          </a:lnTo>
                          <a:lnTo>
                            <a:pt x="137" y="194"/>
                          </a:lnTo>
                          <a:lnTo>
                            <a:pt x="140" y="188"/>
                          </a:lnTo>
                          <a:lnTo>
                            <a:pt x="148" y="191"/>
                          </a:lnTo>
                          <a:lnTo>
                            <a:pt x="158" y="191"/>
                          </a:lnTo>
                          <a:lnTo>
                            <a:pt x="162" y="185"/>
                          </a:lnTo>
                          <a:lnTo>
                            <a:pt x="165" y="178"/>
                          </a:lnTo>
                          <a:lnTo>
                            <a:pt x="168" y="168"/>
                          </a:lnTo>
                          <a:lnTo>
                            <a:pt x="183" y="170"/>
                          </a:lnTo>
                          <a:lnTo>
                            <a:pt x="198" y="170"/>
                          </a:lnTo>
                          <a:lnTo>
                            <a:pt x="208" y="166"/>
                          </a:lnTo>
                          <a:lnTo>
                            <a:pt x="218" y="161"/>
                          </a:lnTo>
                          <a:lnTo>
                            <a:pt x="225" y="154"/>
                          </a:lnTo>
                          <a:lnTo>
                            <a:pt x="233" y="145"/>
                          </a:lnTo>
                          <a:lnTo>
                            <a:pt x="260" y="139"/>
                          </a:lnTo>
                          <a:lnTo>
                            <a:pt x="265" y="107"/>
                          </a:lnTo>
                          <a:lnTo>
                            <a:pt x="266" y="86"/>
                          </a:lnTo>
                          <a:lnTo>
                            <a:pt x="259" y="62"/>
                          </a:lnTo>
                          <a:lnTo>
                            <a:pt x="250" y="47"/>
                          </a:lnTo>
                          <a:lnTo>
                            <a:pt x="241" y="39"/>
                          </a:lnTo>
                          <a:lnTo>
                            <a:pt x="226" y="31"/>
                          </a:lnTo>
                          <a:lnTo>
                            <a:pt x="208" y="25"/>
                          </a:lnTo>
                          <a:lnTo>
                            <a:pt x="197" y="29"/>
                          </a:lnTo>
                          <a:close/>
                        </a:path>
                      </a:pathLst>
                    </a:custGeom>
                    <a:solidFill>
                      <a:srgbClr val="f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0" name=""/>
                    <p:cNvSpPr/>
                    <p:nvPr/>
                  </p:nvSpPr>
                  <p:spPr>
                    <a:xfrm>
                      <a:off x="4943880" y="5145480"/>
                      <a:ext cx="5292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2" h="151">
                          <a:moveTo>
                            <a:pt x="182" y="50"/>
                          </a:moveTo>
                          <a:lnTo>
                            <a:pt x="167" y="60"/>
                          </a:lnTo>
                          <a:lnTo>
                            <a:pt x="154" y="60"/>
                          </a:lnTo>
                          <a:lnTo>
                            <a:pt x="142" y="56"/>
                          </a:lnTo>
                          <a:lnTo>
                            <a:pt x="134" y="51"/>
                          </a:lnTo>
                          <a:lnTo>
                            <a:pt x="127" y="47"/>
                          </a:lnTo>
                          <a:lnTo>
                            <a:pt x="120" y="47"/>
                          </a:lnTo>
                          <a:lnTo>
                            <a:pt x="110" y="53"/>
                          </a:lnTo>
                          <a:lnTo>
                            <a:pt x="95" y="57"/>
                          </a:lnTo>
                          <a:lnTo>
                            <a:pt x="81" y="61"/>
                          </a:lnTo>
                          <a:lnTo>
                            <a:pt x="71" y="62"/>
                          </a:lnTo>
                          <a:lnTo>
                            <a:pt x="59" y="62"/>
                          </a:lnTo>
                          <a:lnTo>
                            <a:pt x="47" y="60"/>
                          </a:lnTo>
                          <a:lnTo>
                            <a:pt x="39" y="56"/>
                          </a:lnTo>
                          <a:lnTo>
                            <a:pt x="36" y="51"/>
                          </a:lnTo>
                          <a:lnTo>
                            <a:pt x="33" y="42"/>
                          </a:lnTo>
                          <a:lnTo>
                            <a:pt x="33" y="35"/>
                          </a:lnTo>
                          <a:lnTo>
                            <a:pt x="37" y="29"/>
                          </a:lnTo>
                          <a:lnTo>
                            <a:pt x="44" y="26"/>
                          </a:lnTo>
                          <a:lnTo>
                            <a:pt x="56" y="23"/>
                          </a:lnTo>
                          <a:lnTo>
                            <a:pt x="71" y="21"/>
                          </a:lnTo>
                          <a:lnTo>
                            <a:pt x="82" y="21"/>
                          </a:lnTo>
                          <a:lnTo>
                            <a:pt x="94" y="14"/>
                          </a:lnTo>
                          <a:lnTo>
                            <a:pt x="106" y="7"/>
                          </a:lnTo>
                          <a:lnTo>
                            <a:pt x="89" y="7"/>
                          </a:lnTo>
                          <a:lnTo>
                            <a:pt x="78" y="1"/>
                          </a:lnTo>
                          <a:lnTo>
                            <a:pt x="65" y="0"/>
                          </a:lnTo>
                          <a:lnTo>
                            <a:pt x="55" y="3"/>
                          </a:lnTo>
                          <a:lnTo>
                            <a:pt x="43" y="10"/>
                          </a:lnTo>
                          <a:lnTo>
                            <a:pt x="38" y="14"/>
                          </a:lnTo>
                          <a:lnTo>
                            <a:pt x="21" y="2"/>
                          </a:lnTo>
                          <a:lnTo>
                            <a:pt x="28" y="10"/>
                          </a:lnTo>
                          <a:lnTo>
                            <a:pt x="31" y="17"/>
                          </a:lnTo>
                          <a:lnTo>
                            <a:pt x="22" y="19"/>
                          </a:lnTo>
                          <a:lnTo>
                            <a:pt x="31" y="21"/>
                          </a:lnTo>
                          <a:lnTo>
                            <a:pt x="23" y="56"/>
                          </a:lnTo>
                          <a:lnTo>
                            <a:pt x="19" y="63"/>
                          </a:lnTo>
                          <a:lnTo>
                            <a:pt x="14" y="68"/>
                          </a:lnTo>
                          <a:lnTo>
                            <a:pt x="0" y="70"/>
                          </a:lnTo>
                          <a:lnTo>
                            <a:pt x="10" y="74"/>
                          </a:lnTo>
                          <a:lnTo>
                            <a:pt x="14" y="83"/>
                          </a:lnTo>
                          <a:lnTo>
                            <a:pt x="6" y="102"/>
                          </a:lnTo>
                          <a:lnTo>
                            <a:pt x="4" y="115"/>
                          </a:lnTo>
                          <a:lnTo>
                            <a:pt x="25" y="94"/>
                          </a:lnTo>
                          <a:lnTo>
                            <a:pt x="36" y="100"/>
                          </a:lnTo>
                          <a:lnTo>
                            <a:pt x="39" y="111"/>
                          </a:lnTo>
                          <a:lnTo>
                            <a:pt x="23" y="120"/>
                          </a:lnTo>
                          <a:lnTo>
                            <a:pt x="42" y="118"/>
                          </a:lnTo>
                          <a:lnTo>
                            <a:pt x="50" y="118"/>
                          </a:lnTo>
                          <a:lnTo>
                            <a:pt x="55" y="123"/>
                          </a:lnTo>
                          <a:lnTo>
                            <a:pt x="61" y="132"/>
                          </a:lnTo>
                          <a:lnTo>
                            <a:pt x="66" y="143"/>
                          </a:lnTo>
                          <a:lnTo>
                            <a:pt x="72" y="151"/>
                          </a:lnTo>
                          <a:lnTo>
                            <a:pt x="72" y="137"/>
                          </a:lnTo>
                          <a:lnTo>
                            <a:pt x="66" y="127"/>
                          </a:lnTo>
                          <a:lnTo>
                            <a:pt x="60" y="118"/>
                          </a:lnTo>
                          <a:lnTo>
                            <a:pt x="65" y="112"/>
                          </a:lnTo>
                          <a:lnTo>
                            <a:pt x="73" y="110"/>
                          </a:lnTo>
                          <a:lnTo>
                            <a:pt x="82" y="111"/>
                          </a:lnTo>
                          <a:lnTo>
                            <a:pt x="95" y="112"/>
                          </a:lnTo>
                          <a:lnTo>
                            <a:pt x="106" y="105"/>
                          </a:lnTo>
                          <a:lnTo>
                            <a:pt x="120" y="102"/>
                          </a:lnTo>
                          <a:lnTo>
                            <a:pt x="131" y="100"/>
                          </a:lnTo>
                          <a:lnTo>
                            <a:pt x="137" y="98"/>
                          </a:lnTo>
                          <a:lnTo>
                            <a:pt x="140" y="95"/>
                          </a:lnTo>
                          <a:lnTo>
                            <a:pt x="150" y="102"/>
                          </a:lnTo>
                          <a:lnTo>
                            <a:pt x="146" y="90"/>
                          </a:lnTo>
                          <a:lnTo>
                            <a:pt x="171" y="105"/>
                          </a:lnTo>
                          <a:lnTo>
                            <a:pt x="167" y="95"/>
                          </a:lnTo>
                          <a:lnTo>
                            <a:pt x="148" y="82"/>
                          </a:lnTo>
                          <a:lnTo>
                            <a:pt x="151" y="73"/>
                          </a:lnTo>
                          <a:lnTo>
                            <a:pt x="159" y="63"/>
                          </a:lnTo>
                          <a:lnTo>
                            <a:pt x="170" y="62"/>
                          </a:lnTo>
                          <a:lnTo>
                            <a:pt x="182" y="50"/>
                          </a:lnTo>
                          <a:close/>
                        </a:path>
                      </a:pathLst>
                    </a:custGeom>
                    <a:solidFill>
                      <a:srgbClr val="df9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1" name=""/>
                    <p:cNvSpPr/>
                    <p:nvPr/>
                  </p:nvSpPr>
                  <p:spPr>
                    <a:xfrm>
                      <a:off x="4961520" y="5127480"/>
                      <a:ext cx="1800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90">
                          <a:moveTo>
                            <a:pt x="56" y="0"/>
                          </a:moveTo>
                          <a:lnTo>
                            <a:pt x="43" y="3"/>
                          </a:lnTo>
                          <a:lnTo>
                            <a:pt x="41" y="10"/>
                          </a:lnTo>
                          <a:lnTo>
                            <a:pt x="0" y="90"/>
                          </a:lnTo>
                          <a:lnTo>
                            <a:pt x="21" y="88"/>
                          </a:lnTo>
                          <a:lnTo>
                            <a:pt x="63" y="16"/>
                          </a:lnTo>
                          <a:lnTo>
                            <a:pt x="64" y="4"/>
                          </a:lnTo>
                          <a:lnTo>
                            <a:pt x="56" y="0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2" name=""/>
                    <p:cNvSpPr/>
                    <p:nvPr/>
                  </p:nvSpPr>
                  <p:spPr>
                    <a:xfrm>
                      <a:off x="4998240" y="5148000"/>
                      <a:ext cx="1296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83">
                          <a:moveTo>
                            <a:pt x="0" y="0"/>
                          </a:moveTo>
                          <a:lnTo>
                            <a:pt x="9" y="12"/>
                          </a:lnTo>
                          <a:lnTo>
                            <a:pt x="14" y="22"/>
                          </a:lnTo>
                          <a:lnTo>
                            <a:pt x="17" y="35"/>
                          </a:lnTo>
                          <a:lnTo>
                            <a:pt x="18" y="48"/>
                          </a:lnTo>
                          <a:lnTo>
                            <a:pt x="17" y="62"/>
                          </a:lnTo>
                          <a:lnTo>
                            <a:pt x="12" y="83"/>
                          </a:lnTo>
                          <a:lnTo>
                            <a:pt x="28" y="45"/>
                          </a:lnTo>
                          <a:lnTo>
                            <a:pt x="38" y="33"/>
                          </a:lnTo>
                          <a:lnTo>
                            <a:pt x="45" y="22"/>
                          </a:lnTo>
                          <a:lnTo>
                            <a:pt x="33" y="18"/>
                          </a:lnTo>
                          <a:lnTo>
                            <a:pt x="21" y="9"/>
                          </a:lnTo>
                          <a:lnTo>
                            <a:pt x="12" y="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df9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3" name=""/>
                    <p:cNvSpPr/>
                    <p:nvPr/>
                  </p:nvSpPr>
                  <p:spPr>
                    <a:xfrm>
                      <a:off x="4968360" y="5129640"/>
                      <a:ext cx="1044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84">
                          <a:moveTo>
                            <a:pt x="36" y="7"/>
                          </a:moveTo>
                          <a:lnTo>
                            <a:pt x="38" y="10"/>
                          </a:lnTo>
                          <a:lnTo>
                            <a:pt x="4" y="84"/>
                          </a:lnTo>
                          <a:lnTo>
                            <a:pt x="0" y="76"/>
                          </a:lnTo>
                          <a:lnTo>
                            <a:pt x="2" y="69"/>
                          </a:lnTo>
                          <a:lnTo>
                            <a:pt x="6" y="63"/>
                          </a:lnTo>
                          <a:lnTo>
                            <a:pt x="12" y="61"/>
                          </a:lnTo>
                          <a:lnTo>
                            <a:pt x="35" y="10"/>
                          </a:lnTo>
                          <a:lnTo>
                            <a:pt x="18" y="2"/>
                          </a:lnTo>
                          <a:lnTo>
                            <a:pt x="18" y="0"/>
                          </a:lnTo>
                          <a:lnTo>
                            <a:pt x="36" y="7"/>
                          </a:lnTo>
                          <a:close/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54" name=""/>
                  <p:cNvSpPr/>
                  <p:nvPr/>
                </p:nvSpPr>
                <p:spPr>
                  <a:xfrm>
                    <a:off x="4991040" y="5139000"/>
                    <a:ext cx="295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32">
                        <a:moveTo>
                          <a:pt x="0" y="7"/>
                        </a:moveTo>
                        <a:lnTo>
                          <a:pt x="18" y="15"/>
                        </a:lnTo>
                        <a:lnTo>
                          <a:pt x="38" y="26"/>
                        </a:lnTo>
                        <a:lnTo>
                          <a:pt x="47" y="34"/>
                        </a:lnTo>
                        <a:lnTo>
                          <a:pt x="56" y="47"/>
                        </a:lnTo>
                        <a:lnTo>
                          <a:pt x="63" y="58"/>
                        </a:lnTo>
                        <a:lnTo>
                          <a:pt x="68" y="73"/>
                        </a:lnTo>
                        <a:lnTo>
                          <a:pt x="72" y="96"/>
                        </a:lnTo>
                        <a:lnTo>
                          <a:pt x="70" y="117"/>
                        </a:lnTo>
                        <a:lnTo>
                          <a:pt x="66" y="132"/>
                        </a:lnTo>
                        <a:lnTo>
                          <a:pt x="97" y="130"/>
                        </a:lnTo>
                        <a:lnTo>
                          <a:pt x="102" y="105"/>
                        </a:lnTo>
                        <a:lnTo>
                          <a:pt x="102" y="86"/>
                        </a:lnTo>
                        <a:lnTo>
                          <a:pt x="100" y="65"/>
                        </a:lnTo>
                        <a:lnTo>
                          <a:pt x="94" y="49"/>
                        </a:lnTo>
                        <a:lnTo>
                          <a:pt x="81" y="29"/>
                        </a:lnTo>
                        <a:lnTo>
                          <a:pt x="70" y="19"/>
                        </a:lnTo>
                        <a:lnTo>
                          <a:pt x="52" y="9"/>
                        </a:lnTo>
                        <a:lnTo>
                          <a:pt x="31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p:transition>
    <p:pull dir="ru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5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5" name=""/>
          <p:cNvGrpSpPr/>
          <p:nvPr/>
        </p:nvGrpSpPr>
        <p:grpSpPr>
          <a:xfrm>
            <a:off x="3276720" y="3352680"/>
            <a:ext cx="5029200" cy="3276720"/>
            <a:chOff x="3276720" y="3352680"/>
            <a:chExt cx="5029200" cy="3276720"/>
          </a:xfrm>
        </p:grpSpPr>
        <p:grpSp>
          <p:nvGrpSpPr>
            <p:cNvPr id="1756" name=""/>
            <p:cNvGrpSpPr/>
            <p:nvPr/>
          </p:nvGrpSpPr>
          <p:grpSpPr>
            <a:xfrm>
              <a:off x="3276720" y="3352680"/>
              <a:ext cx="5029200" cy="3276720"/>
              <a:chOff x="3276720" y="3352680"/>
              <a:chExt cx="5029200" cy="3276720"/>
            </a:xfrm>
          </p:grpSpPr>
          <p:grpSp>
            <p:nvGrpSpPr>
              <p:cNvPr id="1757" name=""/>
              <p:cNvGrpSpPr/>
              <p:nvPr/>
            </p:nvGrpSpPr>
            <p:grpSpPr>
              <a:xfrm>
                <a:off x="3276720" y="3352680"/>
                <a:ext cx="5029200" cy="3276720"/>
                <a:chOff x="3276720" y="3352680"/>
                <a:chExt cx="5029200" cy="3276720"/>
              </a:xfrm>
            </p:grpSpPr>
            <p:sp>
              <p:nvSpPr>
                <p:cNvPr id="1758" name=""/>
                <p:cNvSpPr/>
                <p:nvPr/>
              </p:nvSpPr>
              <p:spPr>
                <a:xfrm>
                  <a:off x="5105520" y="3352680"/>
                  <a:ext cx="3200400" cy="3276720"/>
                </a:xfrm>
                <a:custGeom>
                  <a:avLst/>
                  <a:gdLst/>
                  <a:ahLst/>
                  <a:rect l="l" t="t" r="r" b="b"/>
                  <a:pathLst>
                    <a:path w="2016" h="2064">
                      <a:moveTo>
                        <a:pt x="48" y="2064"/>
                      </a:moveTo>
                      <a:lnTo>
                        <a:pt x="912" y="2064"/>
                      </a:lnTo>
                      <a:lnTo>
                        <a:pt x="2016" y="432"/>
                      </a:lnTo>
                      <a:lnTo>
                        <a:pt x="1680" y="144"/>
                      </a:lnTo>
                      <a:lnTo>
                        <a:pt x="1536" y="0"/>
                      </a:lnTo>
                      <a:lnTo>
                        <a:pt x="1104" y="48"/>
                      </a:lnTo>
                      <a:lnTo>
                        <a:pt x="864" y="192"/>
                      </a:lnTo>
                      <a:lnTo>
                        <a:pt x="0" y="816"/>
                      </a:lnTo>
                      <a:lnTo>
                        <a:pt x="48" y="206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99"/>
                    </a:gs>
                    <a:gs pos="100000">
                      <a:srgbClr val="f6fafa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3276720" y="3429000"/>
                  <a:ext cx="3276360" cy="3200400"/>
                </a:xfrm>
                <a:custGeom>
                  <a:avLst/>
                  <a:gdLst/>
                  <a:ahLst/>
                  <a:rect l="l" t="t" r="r" b="b"/>
                  <a:pathLst>
                    <a:path w="2064" h="2016">
                      <a:moveTo>
                        <a:pt x="912" y="48"/>
                      </a:moveTo>
                      <a:lnTo>
                        <a:pt x="1344" y="96"/>
                      </a:lnTo>
                      <a:lnTo>
                        <a:pt x="2064" y="768"/>
                      </a:lnTo>
                      <a:lnTo>
                        <a:pt x="1152" y="2016"/>
                      </a:lnTo>
                      <a:lnTo>
                        <a:pt x="0" y="144"/>
                      </a:lnTo>
                      <a:lnTo>
                        <a:pt x="432" y="0"/>
                      </a:lnTo>
                      <a:lnTo>
                        <a:pt x="960" y="48"/>
                      </a:lnTo>
                    </a:path>
                  </a:pathLst>
                </a:custGeom>
                <a:gradFill rotWithShape="0">
                  <a:gsLst>
                    <a:gs pos="0">
                      <a:srgbClr val="009999"/>
                    </a:gs>
                    <a:gs pos="100000">
                      <a:srgbClr val="f6fafa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0" name=""/>
              <p:cNvSpPr/>
              <p:nvPr/>
            </p:nvSpPr>
            <p:spPr>
              <a:xfrm>
                <a:off x="5181480" y="4648320"/>
                <a:ext cx="1371600" cy="198108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f6faf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1" name=""/>
            <p:cNvGrpSpPr/>
            <p:nvPr/>
          </p:nvGrpSpPr>
          <p:grpSpPr>
            <a:xfrm>
              <a:off x="5486400" y="4800600"/>
              <a:ext cx="761760" cy="1600200"/>
              <a:chOff x="5486400" y="4800600"/>
              <a:chExt cx="761760" cy="1600200"/>
            </a:xfrm>
          </p:grpSpPr>
          <p:sp>
            <p:nvSpPr>
              <p:cNvPr id="1762" name=""/>
              <p:cNvSpPr/>
              <p:nvPr/>
            </p:nvSpPr>
            <p:spPr>
              <a:xfrm>
                <a:off x="5486400" y="4800600"/>
                <a:ext cx="469080" cy="11052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779440" y="4948920"/>
                <a:ext cx="468720" cy="11052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779440" y="5097960"/>
                <a:ext cx="468720" cy="11052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486400" y="5246280"/>
                <a:ext cx="469080" cy="11052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5779440" y="5396040"/>
                <a:ext cx="468720" cy="11016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5486400" y="5545440"/>
                <a:ext cx="469080" cy="11016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5779440" y="5693760"/>
                <a:ext cx="468720" cy="11016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5486400" y="5843160"/>
                <a:ext cx="469080" cy="11016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5779440" y="5991480"/>
                <a:ext cx="468720" cy="11016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5779440" y="6140880"/>
                <a:ext cx="468720" cy="11016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5779440" y="6290280"/>
                <a:ext cx="468720" cy="11052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73" name=""/>
          <p:cNvGrpSpPr/>
          <p:nvPr/>
        </p:nvGrpSpPr>
        <p:grpSpPr>
          <a:xfrm>
            <a:off x="2286000" y="990720"/>
            <a:ext cx="4765680" cy="1686960"/>
            <a:chOff x="2286000" y="990720"/>
            <a:chExt cx="4765680" cy="1686960"/>
          </a:xfrm>
        </p:grpSpPr>
        <p:grpSp>
          <p:nvGrpSpPr>
            <p:cNvPr id="1774" name=""/>
            <p:cNvGrpSpPr/>
            <p:nvPr/>
          </p:nvGrpSpPr>
          <p:grpSpPr>
            <a:xfrm>
              <a:off x="4191120" y="990720"/>
              <a:ext cx="2860560" cy="1686960"/>
              <a:chOff x="4191120" y="990720"/>
              <a:chExt cx="2860560" cy="1686960"/>
            </a:xfrm>
          </p:grpSpPr>
          <p:grpSp>
            <p:nvGrpSpPr>
              <p:cNvPr id="1775" name=""/>
              <p:cNvGrpSpPr/>
              <p:nvPr/>
            </p:nvGrpSpPr>
            <p:grpSpPr>
              <a:xfrm>
                <a:off x="5184720" y="1134720"/>
                <a:ext cx="868320" cy="1002960"/>
                <a:chOff x="5184720" y="1134720"/>
                <a:chExt cx="868320" cy="1002960"/>
              </a:xfrm>
            </p:grpSpPr>
            <p:grpSp>
              <p:nvGrpSpPr>
                <p:cNvPr id="1776" name=""/>
                <p:cNvGrpSpPr/>
                <p:nvPr/>
              </p:nvGrpSpPr>
              <p:grpSpPr>
                <a:xfrm>
                  <a:off x="5184720" y="1440000"/>
                  <a:ext cx="868320" cy="697680"/>
                  <a:chOff x="5184720" y="1440000"/>
                  <a:chExt cx="868320" cy="697680"/>
                </a:xfrm>
              </p:grpSpPr>
              <p:grpSp>
                <p:nvGrpSpPr>
                  <p:cNvPr id="1777" name=""/>
                  <p:cNvGrpSpPr/>
                  <p:nvPr/>
                </p:nvGrpSpPr>
                <p:grpSpPr>
                  <a:xfrm>
                    <a:off x="5436000" y="1470960"/>
                    <a:ext cx="329400" cy="653400"/>
                    <a:chOff x="5436000" y="1470960"/>
                    <a:chExt cx="329400" cy="653400"/>
                  </a:xfrm>
                </p:grpSpPr>
                <p:sp>
                  <p:nvSpPr>
                    <p:cNvPr id="1778" name=""/>
                    <p:cNvSpPr/>
                    <p:nvPr/>
                  </p:nvSpPr>
                  <p:spPr>
                    <a:xfrm>
                      <a:off x="5436000" y="1470960"/>
                      <a:ext cx="329400" cy="65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6" h="828">
                          <a:moveTo>
                            <a:pt x="160" y="0"/>
                          </a:moveTo>
                          <a:lnTo>
                            <a:pt x="304" y="109"/>
                          </a:lnTo>
                          <a:lnTo>
                            <a:pt x="421" y="18"/>
                          </a:lnTo>
                          <a:lnTo>
                            <a:pt x="450" y="416"/>
                          </a:lnTo>
                          <a:lnTo>
                            <a:pt x="483" y="648"/>
                          </a:lnTo>
                          <a:lnTo>
                            <a:pt x="516" y="828"/>
                          </a:lnTo>
                          <a:lnTo>
                            <a:pt x="0" y="828"/>
                          </a:lnTo>
                          <a:lnTo>
                            <a:pt x="73" y="603"/>
                          </a:lnTo>
                          <a:lnTo>
                            <a:pt x="120" y="321"/>
                          </a:lnTo>
                          <a:lnTo>
                            <a:pt x="160" y="0"/>
                          </a:lnTo>
                          <a:close/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9" name=""/>
                    <p:cNvSpPr/>
                    <p:nvPr/>
                  </p:nvSpPr>
                  <p:spPr>
                    <a:xfrm>
                      <a:off x="5640840" y="1520280"/>
                      <a:ext cx="78480" cy="11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50">
                          <a:moveTo>
                            <a:pt x="0" y="55"/>
                          </a:moveTo>
                          <a:lnTo>
                            <a:pt x="17" y="72"/>
                          </a:lnTo>
                          <a:lnTo>
                            <a:pt x="27" y="83"/>
                          </a:lnTo>
                          <a:lnTo>
                            <a:pt x="33" y="97"/>
                          </a:lnTo>
                          <a:lnTo>
                            <a:pt x="38" y="118"/>
                          </a:lnTo>
                          <a:lnTo>
                            <a:pt x="40" y="141"/>
                          </a:lnTo>
                          <a:lnTo>
                            <a:pt x="52" y="150"/>
                          </a:lnTo>
                          <a:lnTo>
                            <a:pt x="123" y="63"/>
                          </a:lnTo>
                          <a:lnTo>
                            <a:pt x="89" y="0"/>
                          </a:lnTo>
                          <a:lnTo>
                            <a:pt x="0" y="5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0" name=""/>
                    <p:cNvSpPr/>
                    <p:nvPr/>
                  </p:nvSpPr>
                  <p:spPr>
                    <a:xfrm>
                      <a:off x="5527440" y="1477800"/>
                      <a:ext cx="67320" cy="16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209">
                          <a:moveTo>
                            <a:pt x="106" y="97"/>
                          </a:moveTo>
                          <a:lnTo>
                            <a:pt x="97" y="107"/>
                          </a:lnTo>
                          <a:lnTo>
                            <a:pt x="88" y="136"/>
                          </a:lnTo>
                          <a:lnTo>
                            <a:pt x="73" y="171"/>
                          </a:lnTo>
                          <a:lnTo>
                            <a:pt x="59" y="209"/>
                          </a:lnTo>
                          <a:lnTo>
                            <a:pt x="26" y="145"/>
                          </a:lnTo>
                          <a:lnTo>
                            <a:pt x="7" y="81"/>
                          </a:lnTo>
                          <a:lnTo>
                            <a:pt x="0" y="19"/>
                          </a:lnTo>
                          <a:lnTo>
                            <a:pt x="0" y="0"/>
                          </a:lnTo>
                          <a:lnTo>
                            <a:pt x="26" y="0"/>
                          </a:lnTo>
                          <a:lnTo>
                            <a:pt x="106" y="97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81" name=""/>
                    <p:cNvGrpSpPr/>
                    <p:nvPr/>
                  </p:nvGrpSpPr>
                  <p:grpSpPr>
                    <a:xfrm>
                      <a:off x="5504400" y="1745280"/>
                      <a:ext cx="216360" cy="340560"/>
                      <a:chOff x="5504400" y="1745280"/>
                      <a:chExt cx="216360" cy="340560"/>
                    </a:xfrm>
                  </p:grpSpPr>
                  <p:sp>
                    <p:nvSpPr>
                      <p:cNvPr id="1782" name=""/>
                      <p:cNvSpPr/>
                      <p:nvPr/>
                    </p:nvSpPr>
                    <p:spPr>
                      <a:xfrm>
                        <a:off x="5529240" y="1745280"/>
                        <a:ext cx="160560" cy="18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4" h="241">
                            <a:moveTo>
                              <a:pt x="254" y="0"/>
                            </a:moveTo>
                            <a:lnTo>
                              <a:pt x="220" y="4"/>
                            </a:lnTo>
                            <a:lnTo>
                              <a:pt x="191" y="12"/>
                            </a:lnTo>
                            <a:lnTo>
                              <a:pt x="138" y="36"/>
                            </a:lnTo>
                            <a:lnTo>
                              <a:pt x="81" y="82"/>
                            </a:lnTo>
                            <a:lnTo>
                              <a:pt x="58" y="103"/>
                            </a:lnTo>
                            <a:lnTo>
                              <a:pt x="43" y="132"/>
                            </a:lnTo>
                            <a:lnTo>
                              <a:pt x="23" y="159"/>
                            </a:lnTo>
                            <a:lnTo>
                              <a:pt x="12" y="177"/>
                            </a:lnTo>
                            <a:lnTo>
                              <a:pt x="4" y="208"/>
                            </a:lnTo>
                            <a:lnTo>
                              <a:pt x="0" y="230"/>
                            </a:lnTo>
                            <a:lnTo>
                              <a:pt x="4" y="241"/>
                            </a:lnTo>
                            <a:lnTo>
                              <a:pt x="14" y="241"/>
                            </a:lnTo>
                            <a:lnTo>
                              <a:pt x="19" y="227"/>
                            </a:lnTo>
                            <a:lnTo>
                              <a:pt x="40" y="202"/>
                            </a:lnTo>
                            <a:lnTo>
                              <a:pt x="54" y="163"/>
                            </a:lnTo>
                            <a:lnTo>
                              <a:pt x="66" y="142"/>
                            </a:lnTo>
                            <a:lnTo>
                              <a:pt x="87" y="108"/>
                            </a:lnTo>
                            <a:lnTo>
                              <a:pt x="116" y="70"/>
                            </a:lnTo>
                            <a:lnTo>
                              <a:pt x="174" y="33"/>
                            </a:lnTo>
                            <a:lnTo>
                              <a:pt x="209" y="15"/>
                            </a:lnTo>
                            <a:lnTo>
                              <a:pt x="254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3" name=""/>
                      <p:cNvSpPr/>
                      <p:nvPr/>
                    </p:nvSpPr>
                    <p:spPr>
                      <a:xfrm>
                        <a:off x="5504400" y="1835280"/>
                        <a:ext cx="216360" cy="250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8" h="320">
                            <a:moveTo>
                              <a:pt x="335" y="0"/>
                            </a:moveTo>
                            <a:lnTo>
                              <a:pt x="291" y="46"/>
                            </a:lnTo>
                            <a:lnTo>
                              <a:pt x="264" y="60"/>
                            </a:lnTo>
                            <a:lnTo>
                              <a:pt x="242" y="67"/>
                            </a:lnTo>
                            <a:lnTo>
                              <a:pt x="214" y="85"/>
                            </a:lnTo>
                            <a:lnTo>
                              <a:pt x="117" y="149"/>
                            </a:lnTo>
                            <a:lnTo>
                              <a:pt x="96" y="170"/>
                            </a:lnTo>
                            <a:lnTo>
                              <a:pt x="66" y="191"/>
                            </a:lnTo>
                            <a:lnTo>
                              <a:pt x="44" y="205"/>
                            </a:lnTo>
                            <a:lnTo>
                              <a:pt x="22" y="219"/>
                            </a:lnTo>
                            <a:lnTo>
                              <a:pt x="4" y="232"/>
                            </a:lnTo>
                            <a:lnTo>
                              <a:pt x="0" y="243"/>
                            </a:lnTo>
                            <a:lnTo>
                              <a:pt x="1" y="253"/>
                            </a:lnTo>
                            <a:lnTo>
                              <a:pt x="12" y="253"/>
                            </a:lnTo>
                            <a:lnTo>
                              <a:pt x="30" y="243"/>
                            </a:lnTo>
                            <a:lnTo>
                              <a:pt x="51" y="230"/>
                            </a:lnTo>
                            <a:lnTo>
                              <a:pt x="69" y="218"/>
                            </a:lnTo>
                            <a:lnTo>
                              <a:pt x="67" y="237"/>
                            </a:lnTo>
                            <a:lnTo>
                              <a:pt x="52" y="258"/>
                            </a:lnTo>
                            <a:lnTo>
                              <a:pt x="40" y="267"/>
                            </a:lnTo>
                            <a:lnTo>
                              <a:pt x="37" y="276"/>
                            </a:lnTo>
                            <a:lnTo>
                              <a:pt x="22" y="289"/>
                            </a:lnTo>
                            <a:lnTo>
                              <a:pt x="9" y="306"/>
                            </a:lnTo>
                            <a:lnTo>
                              <a:pt x="11" y="320"/>
                            </a:lnTo>
                            <a:lnTo>
                              <a:pt x="51" y="317"/>
                            </a:lnTo>
                            <a:lnTo>
                              <a:pt x="62" y="293"/>
                            </a:lnTo>
                            <a:lnTo>
                              <a:pt x="88" y="269"/>
                            </a:lnTo>
                            <a:lnTo>
                              <a:pt x="84" y="251"/>
                            </a:lnTo>
                            <a:lnTo>
                              <a:pt x="117" y="225"/>
                            </a:lnTo>
                            <a:lnTo>
                              <a:pt x="297" y="105"/>
                            </a:lnTo>
                            <a:lnTo>
                              <a:pt x="265" y="102"/>
                            </a:lnTo>
                            <a:lnTo>
                              <a:pt x="254" y="78"/>
                            </a:lnTo>
                            <a:lnTo>
                              <a:pt x="282" y="70"/>
                            </a:lnTo>
                            <a:lnTo>
                              <a:pt x="291" y="63"/>
                            </a:lnTo>
                            <a:lnTo>
                              <a:pt x="301" y="63"/>
                            </a:lnTo>
                            <a:lnTo>
                              <a:pt x="338" y="15"/>
                            </a:lnTo>
                            <a:lnTo>
                              <a:pt x="335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784" name=""/>
                    <p:cNvSpPr/>
                    <p:nvPr/>
                  </p:nvSpPr>
                  <p:spPr>
                    <a:xfrm>
                      <a:off x="5577480" y="1556280"/>
                      <a:ext cx="99360" cy="52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673">
                          <a:moveTo>
                            <a:pt x="26" y="0"/>
                          </a:moveTo>
                          <a:lnTo>
                            <a:pt x="44" y="18"/>
                          </a:lnTo>
                          <a:lnTo>
                            <a:pt x="60" y="25"/>
                          </a:lnTo>
                          <a:lnTo>
                            <a:pt x="85" y="23"/>
                          </a:lnTo>
                          <a:lnTo>
                            <a:pt x="105" y="16"/>
                          </a:lnTo>
                          <a:lnTo>
                            <a:pt x="112" y="30"/>
                          </a:lnTo>
                          <a:lnTo>
                            <a:pt x="112" y="47"/>
                          </a:lnTo>
                          <a:lnTo>
                            <a:pt x="107" y="60"/>
                          </a:lnTo>
                          <a:lnTo>
                            <a:pt x="100" y="67"/>
                          </a:lnTo>
                          <a:lnTo>
                            <a:pt x="83" y="82"/>
                          </a:lnTo>
                          <a:lnTo>
                            <a:pt x="112" y="118"/>
                          </a:lnTo>
                          <a:lnTo>
                            <a:pt x="126" y="141"/>
                          </a:lnTo>
                          <a:lnTo>
                            <a:pt x="133" y="163"/>
                          </a:lnTo>
                          <a:lnTo>
                            <a:pt x="137" y="215"/>
                          </a:lnTo>
                          <a:lnTo>
                            <a:pt x="149" y="332"/>
                          </a:lnTo>
                          <a:lnTo>
                            <a:pt x="155" y="399"/>
                          </a:lnTo>
                          <a:lnTo>
                            <a:pt x="155" y="480"/>
                          </a:lnTo>
                          <a:lnTo>
                            <a:pt x="152" y="571"/>
                          </a:lnTo>
                          <a:lnTo>
                            <a:pt x="150" y="673"/>
                          </a:lnTo>
                          <a:lnTo>
                            <a:pt x="4" y="672"/>
                          </a:lnTo>
                          <a:lnTo>
                            <a:pt x="0" y="569"/>
                          </a:lnTo>
                          <a:lnTo>
                            <a:pt x="4" y="509"/>
                          </a:lnTo>
                          <a:lnTo>
                            <a:pt x="9" y="435"/>
                          </a:lnTo>
                          <a:lnTo>
                            <a:pt x="9" y="310"/>
                          </a:lnTo>
                          <a:lnTo>
                            <a:pt x="9" y="269"/>
                          </a:lnTo>
                          <a:lnTo>
                            <a:pt x="12" y="170"/>
                          </a:lnTo>
                          <a:lnTo>
                            <a:pt x="20" y="139"/>
                          </a:lnTo>
                          <a:lnTo>
                            <a:pt x="37" y="85"/>
                          </a:lnTo>
                          <a:lnTo>
                            <a:pt x="16" y="58"/>
                          </a:lnTo>
                          <a:lnTo>
                            <a:pt x="8" y="44"/>
                          </a:lnTo>
                          <a:lnTo>
                            <a:pt x="26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85" name=""/>
                  <p:cNvGrpSpPr/>
                  <p:nvPr/>
                </p:nvGrpSpPr>
                <p:grpSpPr>
                  <a:xfrm>
                    <a:off x="5184720" y="1440000"/>
                    <a:ext cx="868320" cy="697680"/>
                    <a:chOff x="5184720" y="1440000"/>
                    <a:chExt cx="868320" cy="697680"/>
                  </a:xfrm>
                </p:grpSpPr>
                <p:grpSp>
                  <p:nvGrpSpPr>
                    <p:cNvPr id="1786" name=""/>
                    <p:cNvGrpSpPr/>
                    <p:nvPr/>
                  </p:nvGrpSpPr>
                  <p:grpSpPr>
                    <a:xfrm>
                      <a:off x="5184720" y="1456560"/>
                      <a:ext cx="367200" cy="681120"/>
                      <a:chOff x="5184720" y="1456560"/>
                      <a:chExt cx="367200" cy="681120"/>
                    </a:xfrm>
                  </p:grpSpPr>
                  <p:sp>
                    <p:nvSpPr>
                      <p:cNvPr id="1787" name=""/>
                      <p:cNvSpPr/>
                      <p:nvPr/>
                    </p:nvSpPr>
                    <p:spPr>
                      <a:xfrm>
                        <a:off x="5184720" y="1465920"/>
                        <a:ext cx="363960" cy="67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0" h="852">
                            <a:moveTo>
                              <a:pt x="505" y="0"/>
                            </a:moveTo>
                            <a:lnTo>
                              <a:pt x="485" y="27"/>
                            </a:lnTo>
                            <a:lnTo>
                              <a:pt x="430" y="45"/>
                            </a:lnTo>
                            <a:lnTo>
                              <a:pt x="385" y="56"/>
                            </a:lnTo>
                            <a:lnTo>
                              <a:pt x="346" y="60"/>
                            </a:lnTo>
                            <a:lnTo>
                              <a:pt x="277" y="71"/>
                            </a:lnTo>
                            <a:lnTo>
                              <a:pt x="252" y="80"/>
                            </a:lnTo>
                            <a:lnTo>
                              <a:pt x="244" y="85"/>
                            </a:lnTo>
                            <a:lnTo>
                              <a:pt x="238" y="92"/>
                            </a:lnTo>
                            <a:lnTo>
                              <a:pt x="219" y="177"/>
                            </a:lnTo>
                            <a:lnTo>
                              <a:pt x="207" y="221"/>
                            </a:lnTo>
                            <a:lnTo>
                              <a:pt x="193" y="267"/>
                            </a:lnTo>
                            <a:lnTo>
                              <a:pt x="185" y="292"/>
                            </a:lnTo>
                            <a:lnTo>
                              <a:pt x="179" y="295"/>
                            </a:lnTo>
                            <a:lnTo>
                              <a:pt x="166" y="303"/>
                            </a:lnTo>
                            <a:lnTo>
                              <a:pt x="162" y="315"/>
                            </a:lnTo>
                            <a:lnTo>
                              <a:pt x="152" y="334"/>
                            </a:lnTo>
                            <a:lnTo>
                              <a:pt x="120" y="417"/>
                            </a:lnTo>
                            <a:lnTo>
                              <a:pt x="115" y="449"/>
                            </a:lnTo>
                            <a:lnTo>
                              <a:pt x="106" y="469"/>
                            </a:lnTo>
                            <a:lnTo>
                              <a:pt x="66" y="510"/>
                            </a:lnTo>
                            <a:lnTo>
                              <a:pt x="57" y="530"/>
                            </a:lnTo>
                            <a:lnTo>
                              <a:pt x="47" y="548"/>
                            </a:lnTo>
                            <a:lnTo>
                              <a:pt x="38" y="563"/>
                            </a:lnTo>
                            <a:lnTo>
                              <a:pt x="29" y="580"/>
                            </a:lnTo>
                            <a:lnTo>
                              <a:pt x="17" y="613"/>
                            </a:lnTo>
                            <a:lnTo>
                              <a:pt x="5" y="642"/>
                            </a:lnTo>
                            <a:lnTo>
                              <a:pt x="0" y="659"/>
                            </a:lnTo>
                            <a:lnTo>
                              <a:pt x="3" y="680"/>
                            </a:lnTo>
                            <a:lnTo>
                              <a:pt x="4" y="699"/>
                            </a:lnTo>
                            <a:lnTo>
                              <a:pt x="10" y="723"/>
                            </a:lnTo>
                            <a:lnTo>
                              <a:pt x="20" y="740"/>
                            </a:lnTo>
                            <a:lnTo>
                              <a:pt x="27" y="758"/>
                            </a:lnTo>
                            <a:lnTo>
                              <a:pt x="49" y="777"/>
                            </a:lnTo>
                            <a:lnTo>
                              <a:pt x="233" y="781"/>
                            </a:lnTo>
                            <a:lnTo>
                              <a:pt x="273" y="673"/>
                            </a:lnTo>
                            <a:lnTo>
                              <a:pt x="306" y="622"/>
                            </a:lnTo>
                            <a:lnTo>
                              <a:pt x="325" y="548"/>
                            </a:lnTo>
                            <a:lnTo>
                              <a:pt x="295" y="693"/>
                            </a:lnTo>
                            <a:lnTo>
                              <a:pt x="283" y="744"/>
                            </a:lnTo>
                            <a:lnTo>
                              <a:pt x="272" y="800"/>
                            </a:lnTo>
                            <a:lnTo>
                              <a:pt x="251" y="852"/>
                            </a:lnTo>
                            <a:lnTo>
                              <a:pt x="393" y="852"/>
                            </a:lnTo>
                            <a:lnTo>
                              <a:pt x="441" y="771"/>
                            </a:lnTo>
                            <a:lnTo>
                              <a:pt x="468" y="731"/>
                            </a:lnTo>
                            <a:lnTo>
                              <a:pt x="490" y="683"/>
                            </a:lnTo>
                            <a:lnTo>
                              <a:pt x="515" y="622"/>
                            </a:lnTo>
                            <a:lnTo>
                              <a:pt x="526" y="563"/>
                            </a:lnTo>
                            <a:lnTo>
                              <a:pt x="538" y="511"/>
                            </a:lnTo>
                            <a:lnTo>
                              <a:pt x="552" y="452"/>
                            </a:lnTo>
                            <a:lnTo>
                              <a:pt x="561" y="395"/>
                            </a:lnTo>
                            <a:lnTo>
                              <a:pt x="570" y="329"/>
                            </a:lnTo>
                            <a:lnTo>
                              <a:pt x="570" y="285"/>
                            </a:lnTo>
                            <a:lnTo>
                              <a:pt x="570" y="242"/>
                            </a:lnTo>
                            <a:lnTo>
                              <a:pt x="570" y="181"/>
                            </a:lnTo>
                            <a:lnTo>
                              <a:pt x="570" y="144"/>
                            </a:lnTo>
                            <a:lnTo>
                              <a:pt x="550" y="16"/>
                            </a:lnTo>
                            <a:lnTo>
                              <a:pt x="505" y="0"/>
                            </a:lnTo>
                            <a:close/>
                          </a:path>
                        </a:pathLst>
                      </a:custGeom>
                      <a:solidFill>
                        <a:srgbClr val="7f7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8" name=""/>
                      <p:cNvSpPr/>
                      <p:nvPr/>
                    </p:nvSpPr>
                    <p:spPr>
                      <a:xfrm>
                        <a:off x="5274360" y="1780560"/>
                        <a:ext cx="155160" cy="160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2" h="202">
                            <a:moveTo>
                              <a:pt x="81" y="0"/>
                            </a:moveTo>
                            <a:lnTo>
                              <a:pt x="107" y="7"/>
                            </a:lnTo>
                            <a:lnTo>
                              <a:pt x="125" y="12"/>
                            </a:lnTo>
                            <a:lnTo>
                              <a:pt x="136" y="21"/>
                            </a:lnTo>
                            <a:lnTo>
                              <a:pt x="149" y="28"/>
                            </a:lnTo>
                            <a:lnTo>
                              <a:pt x="160" y="35"/>
                            </a:lnTo>
                            <a:lnTo>
                              <a:pt x="173" y="43"/>
                            </a:lnTo>
                            <a:lnTo>
                              <a:pt x="190" y="19"/>
                            </a:lnTo>
                            <a:lnTo>
                              <a:pt x="191" y="50"/>
                            </a:lnTo>
                            <a:lnTo>
                              <a:pt x="197" y="71"/>
                            </a:lnTo>
                            <a:lnTo>
                              <a:pt x="216" y="53"/>
                            </a:lnTo>
                            <a:lnTo>
                              <a:pt x="231" y="36"/>
                            </a:lnTo>
                            <a:lnTo>
                              <a:pt x="242" y="24"/>
                            </a:lnTo>
                            <a:lnTo>
                              <a:pt x="242" y="49"/>
                            </a:lnTo>
                            <a:lnTo>
                              <a:pt x="231" y="77"/>
                            </a:lnTo>
                            <a:lnTo>
                              <a:pt x="220" y="102"/>
                            </a:lnTo>
                            <a:lnTo>
                              <a:pt x="204" y="117"/>
                            </a:lnTo>
                            <a:lnTo>
                              <a:pt x="194" y="128"/>
                            </a:lnTo>
                            <a:lnTo>
                              <a:pt x="180" y="128"/>
                            </a:lnTo>
                            <a:lnTo>
                              <a:pt x="158" y="201"/>
                            </a:lnTo>
                            <a:lnTo>
                              <a:pt x="135" y="202"/>
                            </a:lnTo>
                            <a:lnTo>
                              <a:pt x="113" y="195"/>
                            </a:lnTo>
                            <a:lnTo>
                              <a:pt x="96" y="187"/>
                            </a:lnTo>
                            <a:lnTo>
                              <a:pt x="118" y="176"/>
                            </a:lnTo>
                            <a:lnTo>
                              <a:pt x="124" y="172"/>
                            </a:lnTo>
                            <a:lnTo>
                              <a:pt x="76" y="128"/>
                            </a:lnTo>
                            <a:lnTo>
                              <a:pt x="51" y="123"/>
                            </a:lnTo>
                            <a:lnTo>
                              <a:pt x="15" y="124"/>
                            </a:lnTo>
                            <a:lnTo>
                              <a:pt x="8" y="124"/>
                            </a:lnTo>
                            <a:lnTo>
                              <a:pt x="0" y="116"/>
                            </a:lnTo>
                            <a:lnTo>
                              <a:pt x="0" y="102"/>
                            </a:lnTo>
                            <a:lnTo>
                              <a:pt x="47" y="102"/>
                            </a:lnTo>
                            <a:lnTo>
                              <a:pt x="62" y="103"/>
                            </a:lnTo>
                            <a:lnTo>
                              <a:pt x="58" y="107"/>
                            </a:lnTo>
                            <a:lnTo>
                              <a:pt x="80" y="121"/>
                            </a:lnTo>
                            <a:lnTo>
                              <a:pt x="106" y="142"/>
                            </a:lnTo>
                            <a:lnTo>
                              <a:pt x="124" y="156"/>
                            </a:lnTo>
                            <a:lnTo>
                              <a:pt x="143" y="124"/>
                            </a:lnTo>
                            <a:lnTo>
                              <a:pt x="143" y="114"/>
                            </a:lnTo>
                            <a:lnTo>
                              <a:pt x="140" y="86"/>
                            </a:lnTo>
                            <a:lnTo>
                              <a:pt x="158" y="91"/>
                            </a:lnTo>
                            <a:lnTo>
                              <a:pt x="168" y="81"/>
                            </a:lnTo>
                            <a:lnTo>
                              <a:pt x="153" y="67"/>
                            </a:lnTo>
                            <a:lnTo>
                              <a:pt x="138" y="53"/>
                            </a:lnTo>
                            <a:lnTo>
                              <a:pt x="114" y="36"/>
                            </a:lnTo>
                            <a:lnTo>
                              <a:pt x="102" y="17"/>
                            </a:lnTo>
                            <a:lnTo>
                              <a:pt x="81" y="0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9" name=""/>
                      <p:cNvSpPr/>
                      <p:nvPr/>
                    </p:nvSpPr>
                    <p:spPr>
                      <a:xfrm>
                        <a:off x="5326200" y="1558440"/>
                        <a:ext cx="70560" cy="212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271">
                            <a:moveTo>
                              <a:pt x="37" y="0"/>
                            </a:moveTo>
                            <a:lnTo>
                              <a:pt x="81" y="83"/>
                            </a:lnTo>
                            <a:lnTo>
                              <a:pt x="94" y="126"/>
                            </a:lnTo>
                            <a:lnTo>
                              <a:pt x="105" y="169"/>
                            </a:lnTo>
                            <a:lnTo>
                              <a:pt x="109" y="204"/>
                            </a:lnTo>
                            <a:lnTo>
                              <a:pt x="109" y="271"/>
                            </a:lnTo>
                            <a:lnTo>
                              <a:pt x="101" y="249"/>
                            </a:lnTo>
                            <a:lnTo>
                              <a:pt x="61" y="229"/>
                            </a:lnTo>
                            <a:lnTo>
                              <a:pt x="44" y="224"/>
                            </a:lnTo>
                            <a:lnTo>
                              <a:pt x="11" y="200"/>
                            </a:lnTo>
                            <a:lnTo>
                              <a:pt x="0" y="169"/>
                            </a:lnTo>
                            <a:lnTo>
                              <a:pt x="10" y="155"/>
                            </a:lnTo>
                            <a:lnTo>
                              <a:pt x="39" y="196"/>
                            </a:lnTo>
                            <a:lnTo>
                              <a:pt x="55" y="213"/>
                            </a:lnTo>
                            <a:lnTo>
                              <a:pt x="83" y="229"/>
                            </a:lnTo>
                            <a:lnTo>
                              <a:pt x="92" y="229"/>
                            </a:lnTo>
                            <a:lnTo>
                              <a:pt x="101" y="239"/>
                            </a:lnTo>
                            <a:lnTo>
                              <a:pt x="94" y="155"/>
                            </a:lnTo>
                            <a:lnTo>
                              <a:pt x="68" y="91"/>
                            </a:lnTo>
                            <a:lnTo>
                              <a:pt x="54" y="60"/>
                            </a:lnTo>
                            <a:lnTo>
                              <a:pt x="37" y="0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90" name=""/>
                      <p:cNvGrpSpPr/>
                      <p:nvPr/>
                    </p:nvGrpSpPr>
                    <p:grpSpPr>
                      <a:xfrm>
                        <a:off x="5389560" y="1456560"/>
                        <a:ext cx="162360" cy="680760"/>
                        <a:chOff x="5389560" y="1456560"/>
                        <a:chExt cx="162360" cy="680760"/>
                      </a:xfrm>
                    </p:grpSpPr>
                    <p:sp>
                      <p:nvSpPr>
                        <p:cNvPr id="1791" name=""/>
                        <p:cNvSpPr/>
                        <p:nvPr/>
                      </p:nvSpPr>
                      <p:spPr>
                        <a:xfrm>
                          <a:off x="5389560" y="1465920"/>
                          <a:ext cx="158400" cy="671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7" h="852">
                              <a:moveTo>
                                <a:pt x="182" y="0"/>
                              </a:moveTo>
                              <a:lnTo>
                                <a:pt x="162" y="27"/>
                              </a:lnTo>
                              <a:lnTo>
                                <a:pt x="136" y="61"/>
                              </a:lnTo>
                              <a:lnTo>
                                <a:pt x="95" y="108"/>
                              </a:lnTo>
                              <a:lnTo>
                                <a:pt x="66" y="147"/>
                              </a:lnTo>
                              <a:lnTo>
                                <a:pt x="145" y="186"/>
                              </a:lnTo>
                              <a:lnTo>
                                <a:pt x="64" y="216"/>
                              </a:lnTo>
                              <a:lnTo>
                                <a:pt x="66" y="260"/>
                              </a:lnTo>
                              <a:lnTo>
                                <a:pt x="67" y="290"/>
                              </a:lnTo>
                              <a:lnTo>
                                <a:pt x="72" y="320"/>
                              </a:lnTo>
                              <a:lnTo>
                                <a:pt x="79" y="353"/>
                              </a:lnTo>
                              <a:lnTo>
                                <a:pt x="90" y="395"/>
                              </a:lnTo>
                              <a:lnTo>
                                <a:pt x="100" y="427"/>
                              </a:lnTo>
                              <a:lnTo>
                                <a:pt x="111" y="465"/>
                              </a:lnTo>
                              <a:lnTo>
                                <a:pt x="117" y="489"/>
                              </a:lnTo>
                              <a:lnTo>
                                <a:pt x="122" y="523"/>
                              </a:lnTo>
                              <a:lnTo>
                                <a:pt x="123" y="553"/>
                              </a:lnTo>
                              <a:lnTo>
                                <a:pt x="117" y="590"/>
                              </a:lnTo>
                              <a:lnTo>
                                <a:pt x="111" y="622"/>
                              </a:lnTo>
                              <a:lnTo>
                                <a:pt x="101" y="653"/>
                              </a:lnTo>
                              <a:lnTo>
                                <a:pt x="85" y="693"/>
                              </a:lnTo>
                              <a:lnTo>
                                <a:pt x="68" y="735"/>
                              </a:lnTo>
                              <a:lnTo>
                                <a:pt x="44" y="777"/>
                              </a:lnTo>
                              <a:lnTo>
                                <a:pt x="0" y="852"/>
                              </a:lnTo>
                              <a:lnTo>
                                <a:pt x="70" y="852"/>
                              </a:lnTo>
                              <a:lnTo>
                                <a:pt x="118" y="771"/>
                              </a:lnTo>
                              <a:lnTo>
                                <a:pt x="145" y="731"/>
                              </a:lnTo>
                              <a:lnTo>
                                <a:pt x="167" y="683"/>
                              </a:lnTo>
                              <a:lnTo>
                                <a:pt x="192" y="622"/>
                              </a:lnTo>
                              <a:lnTo>
                                <a:pt x="203" y="563"/>
                              </a:lnTo>
                              <a:lnTo>
                                <a:pt x="215" y="511"/>
                              </a:lnTo>
                              <a:lnTo>
                                <a:pt x="229" y="452"/>
                              </a:lnTo>
                              <a:lnTo>
                                <a:pt x="238" y="395"/>
                              </a:lnTo>
                              <a:lnTo>
                                <a:pt x="247" y="329"/>
                              </a:lnTo>
                              <a:lnTo>
                                <a:pt x="247" y="285"/>
                              </a:lnTo>
                              <a:lnTo>
                                <a:pt x="247" y="242"/>
                              </a:lnTo>
                              <a:lnTo>
                                <a:pt x="247" y="181"/>
                              </a:lnTo>
                              <a:lnTo>
                                <a:pt x="247" y="144"/>
                              </a:lnTo>
                              <a:lnTo>
                                <a:pt x="227" y="16"/>
                              </a:lnTo>
                              <a:lnTo>
                                <a:pt x="18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2" name=""/>
                        <p:cNvSpPr/>
                        <p:nvPr/>
                      </p:nvSpPr>
                      <p:spPr>
                        <a:xfrm>
                          <a:off x="5394960" y="1456560"/>
                          <a:ext cx="156960" cy="672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7" h="851">
                              <a:moveTo>
                                <a:pt x="183" y="0"/>
                              </a:moveTo>
                              <a:lnTo>
                                <a:pt x="162" y="27"/>
                              </a:lnTo>
                              <a:lnTo>
                                <a:pt x="136" y="61"/>
                              </a:lnTo>
                              <a:lnTo>
                                <a:pt x="95" y="108"/>
                              </a:lnTo>
                              <a:lnTo>
                                <a:pt x="66" y="147"/>
                              </a:lnTo>
                              <a:lnTo>
                                <a:pt x="145" y="185"/>
                              </a:lnTo>
                              <a:lnTo>
                                <a:pt x="65" y="216"/>
                              </a:lnTo>
                              <a:lnTo>
                                <a:pt x="66" y="259"/>
                              </a:lnTo>
                              <a:lnTo>
                                <a:pt x="67" y="290"/>
                              </a:lnTo>
                              <a:lnTo>
                                <a:pt x="72" y="319"/>
                              </a:lnTo>
                              <a:lnTo>
                                <a:pt x="79" y="352"/>
                              </a:lnTo>
                              <a:lnTo>
                                <a:pt x="90" y="394"/>
                              </a:lnTo>
                              <a:lnTo>
                                <a:pt x="100" y="426"/>
                              </a:lnTo>
                              <a:lnTo>
                                <a:pt x="111" y="461"/>
                              </a:lnTo>
                              <a:lnTo>
                                <a:pt x="117" y="488"/>
                              </a:lnTo>
                              <a:lnTo>
                                <a:pt x="122" y="522"/>
                              </a:lnTo>
                              <a:lnTo>
                                <a:pt x="123" y="553"/>
                              </a:lnTo>
                              <a:lnTo>
                                <a:pt x="117" y="589"/>
                              </a:lnTo>
                              <a:lnTo>
                                <a:pt x="111" y="621"/>
                              </a:lnTo>
                              <a:lnTo>
                                <a:pt x="101" y="653"/>
                              </a:lnTo>
                              <a:lnTo>
                                <a:pt x="85" y="693"/>
                              </a:lnTo>
                              <a:lnTo>
                                <a:pt x="68" y="735"/>
                              </a:lnTo>
                              <a:lnTo>
                                <a:pt x="44" y="776"/>
                              </a:lnTo>
                              <a:lnTo>
                                <a:pt x="0" y="851"/>
                              </a:lnTo>
                              <a:lnTo>
                                <a:pt x="71" y="851"/>
                              </a:lnTo>
                              <a:lnTo>
                                <a:pt x="118" y="770"/>
                              </a:lnTo>
                              <a:lnTo>
                                <a:pt x="145" y="730"/>
                              </a:lnTo>
                              <a:lnTo>
                                <a:pt x="167" y="682"/>
                              </a:lnTo>
                              <a:lnTo>
                                <a:pt x="192" y="621"/>
                              </a:lnTo>
                              <a:lnTo>
                                <a:pt x="203" y="562"/>
                              </a:lnTo>
                              <a:lnTo>
                                <a:pt x="216" y="511"/>
                              </a:lnTo>
                              <a:lnTo>
                                <a:pt x="229" y="452"/>
                              </a:lnTo>
                              <a:lnTo>
                                <a:pt x="239" y="394"/>
                              </a:lnTo>
                              <a:lnTo>
                                <a:pt x="247" y="329"/>
                              </a:lnTo>
                              <a:lnTo>
                                <a:pt x="247" y="284"/>
                              </a:lnTo>
                              <a:lnTo>
                                <a:pt x="247" y="242"/>
                              </a:lnTo>
                              <a:lnTo>
                                <a:pt x="247" y="181"/>
                              </a:lnTo>
                              <a:lnTo>
                                <a:pt x="247" y="143"/>
                              </a:lnTo>
                              <a:lnTo>
                                <a:pt x="228" y="15"/>
                              </a:lnTo>
                              <a:lnTo>
                                <a:pt x="183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7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93" name=""/>
                    <p:cNvGrpSpPr/>
                    <p:nvPr/>
                  </p:nvGrpSpPr>
                  <p:grpSpPr>
                    <a:xfrm>
                      <a:off x="5681520" y="1440000"/>
                      <a:ext cx="371520" cy="669240"/>
                      <a:chOff x="5681520" y="1440000"/>
                      <a:chExt cx="371520" cy="669240"/>
                    </a:xfrm>
                  </p:grpSpPr>
                  <p:sp>
                    <p:nvSpPr>
                      <p:cNvPr id="1794" name=""/>
                      <p:cNvSpPr/>
                      <p:nvPr/>
                    </p:nvSpPr>
                    <p:spPr>
                      <a:xfrm>
                        <a:off x="5685120" y="1447200"/>
                        <a:ext cx="367920" cy="662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5" h="839">
                            <a:moveTo>
                              <a:pt x="84" y="13"/>
                            </a:moveTo>
                            <a:lnTo>
                              <a:pt x="20" y="0"/>
                            </a:lnTo>
                            <a:lnTo>
                              <a:pt x="9" y="38"/>
                            </a:lnTo>
                            <a:lnTo>
                              <a:pt x="0" y="101"/>
                            </a:lnTo>
                            <a:lnTo>
                              <a:pt x="7" y="208"/>
                            </a:lnTo>
                            <a:lnTo>
                              <a:pt x="13" y="247"/>
                            </a:lnTo>
                            <a:lnTo>
                              <a:pt x="31" y="311"/>
                            </a:lnTo>
                            <a:lnTo>
                              <a:pt x="31" y="384"/>
                            </a:lnTo>
                            <a:lnTo>
                              <a:pt x="35" y="473"/>
                            </a:lnTo>
                            <a:lnTo>
                              <a:pt x="43" y="564"/>
                            </a:lnTo>
                            <a:lnTo>
                              <a:pt x="47" y="608"/>
                            </a:lnTo>
                            <a:lnTo>
                              <a:pt x="69" y="680"/>
                            </a:lnTo>
                            <a:lnTo>
                              <a:pt x="84" y="736"/>
                            </a:lnTo>
                            <a:lnTo>
                              <a:pt x="104" y="812"/>
                            </a:lnTo>
                            <a:lnTo>
                              <a:pt x="117" y="839"/>
                            </a:lnTo>
                            <a:lnTo>
                              <a:pt x="534" y="839"/>
                            </a:lnTo>
                            <a:lnTo>
                              <a:pt x="575" y="816"/>
                            </a:lnTo>
                            <a:lnTo>
                              <a:pt x="549" y="637"/>
                            </a:lnTo>
                            <a:lnTo>
                              <a:pt x="531" y="573"/>
                            </a:lnTo>
                            <a:lnTo>
                              <a:pt x="531" y="529"/>
                            </a:lnTo>
                            <a:lnTo>
                              <a:pt x="526" y="513"/>
                            </a:lnTo>
                            <a:lnTo>
                              <a:pt x="523" y="497"/>
                            </a:lnTo>
                            <a:lnTo>
                              <a:pt x="514" y="487"/>
                            </a:lnTo>
                            <a:lnTo>
                              <a:pt x="495" y="465"/>
                            </a:lnTo>
                            <a:lnTo>
                              <a:pt x="489" y="446"/>
                            </a:lnTo>
                            <a:lnTo>
                              <a:pt x="481" y="419"/>
                            </a:lnTo>
                            <a:lnTo>
                              <a:pt x="474" y="395"/>
                            </a:lnTo>
                            <a:lnTo>
                              <a:pt x="457" y="363"/>
                            </a:lnTo>
                            <a:lnTo>
                              <a:pt x="435" y="278"/>
                            </a:lnTo>
                            <a:lnTo>
                              <a:pt x="422" y="260"/>
                            </a:lnTo>
                            <a:lnTo>
                              <a:pt x="408" y="251"/>
                            </a:lnTo>
                            <a:lnTo>
                              <a:pt x="394" y="241"/>
                            </a:lnTo>
                            <a:lnTo>
                              <a:pt x="400" y="217"/>
                            </a:lnTo>
                            <a:lnTo>
                              <a:pt x="395" y="208"/>
                            </a:lnTo>
                            <a:lnTo>
                              <a:pt x="374" y="177"/>
                            </a:lnTo>
                            <a:lnTo>
                              <a:pt x="384" y="159"/>
                            </a:lnTo>
                            <a:lnTo>
                              <a:pt x="386" y="146"/>
                            </a:lnTo>
                            <a:lnTo>
                              <a:pt x="385" y="133"/>
                            </a:lnTo>
                            <a:lnTo>
                              <a:pt x="380" y="119"/>
                            </a:lnTo>
                            <a:lnTo>
                              <a:pt x="373" y="98"/>
                            </a:lnTo>
                            <a:lnTo>
                              <a:pt x="367" y="85"/>
                            </a:lnTo>
                            <a:lnTo>
                              <a:pt x="360" y="80"/>
                            </a:lnTo>
                            <a:lnTo>
                              <a:pt x="349" y="75"/>
                            </a:lnTo>
                            <a:lnTo>
                              <a:pt x="334" y="72"/>
                            </a:lnTo>
                            <a:lnTo>
                              <a:pt x="288" y="71"/>
                            </a:lnTo>
                            <a:lnTo>
                              <a:pt x="237" y="64"/>
                            </a:lnTo>
                            <a:lnTo>
                              <a:pt x="183" y="51"/>
                            </a:lnTo>
                            <a:lnTo>
                              <a:pt x="134" y="36"/>
                            </a:lnTo>
                            <a:lnTo>
                              <a:pt x="84" y="13"/>
                            </a:lnTo>
                            <a:close/>
                          </a:path>
                        </a:pathLst>
                      </a:custGeom>
                      <a:solidFill>
                        <a:srgbClr val="7f7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5" name=""/>
                      <p:cNvSpPr/>
                      <p:nvPr/>
                    </p:nvSpPr>
                    <p:spPr>
                      <a:xfrm>
                        <a:off x="5823000" y="1523160"/>
                        <a:ext cx="176400" cy="45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6" h="579">
                            <a:moveTo>
                              <a:pt x="104" y="0"/>
                            </a:moveTo>
                            <a:lnTo>
                              <a:pt x="128" y="21"/>
                            </a:lnTo>
                            <a:lnTo>
                              <a:pt x="112" y="42"/>
                            </a:lnTo>
                            <a:lnTo>
                              <a:pt x="104" y="64"/>
                            </a:lnTo>
                            <a:lnTo>
                              <a:pt x="97" y="92"/>
                            </a:lnTo>
                            <a:lnTo>
                              <a:pt x="91" y="134"/>
                            </a:lnTo>
                            <a:lnTo>
                              <a:pt x="115" y="125"/>
                            </a:lnTo>
                            <a:lnTo>
                              <a:pt x="134" y="118"/>
                            </a:lnTo>
                            <a:lnTo>
                              <a:pt x="148" y="128"/>
                            </a:lnTo>
                            <a:lnTo>
                              <a:pt x="108" y="162"/>
                            </a:lnTo>
                            <a:lnTo>
                              <a:pt x="91" y="181"/>
                            </a:lnTo>
                            <a:lnTo>
                              <a:pt x="91" y="233"/>
                            </a:lnTo>
                            <a:lnTo>
                              <a:pt x="97" y="237"/>
                            </a:lnTo>
                            <a:lnTo>
                              <a:pt x="137" y="206"/>
                            </a:lnTo>
                            <a:lnTo>
                              <a:pt x="157" y="195"/>
                            </a:lnTo>
                            <a:lnTo>
                              <a:pt x="181" y="187"/>
                            </a:lnTo>
                            <a:lnTo>
                              <a:pt x="193" y="187"/>
                            </a:lnTo>
                            <a:lnTo>
                              <a:pt x="182" y="206"/>
                            </a:lnTo>
                            <a:lnTo>
                              <a:pt x="168" y="223"/>
                            </a:lnTo>
                            <a:lnTo>
                              <a:pt x="148" y="236"/>
                            </a:lnTo>
                            <a:lnTo>
                              <a:pt x="128" y="243"/>
                            </a:lnTo>
                            <a:lnTo>
                              <a:pt x="112" y="252"/>
                            </a:lnTo>
                            <a:lnTo>
                              <a:pt x="93" y="269"/>
                            </a:lnTo>
                            <a:lnTo>
                              <a:pt x="90" y="304"/>
                            </a:lnTo>
                            <a:lnTo>
                              <a:pt x="80" y="325"/>
                            </a:lnTo>
                            <a:lnTo>
                              <a:pt x="84" y="361"/>
                            </a:lnTo>
                            <a:lnTo>
                              <a:pt x="82" y="390"/>
                            </a:lnTo>
                            <a:lnTo>
                              <a:pt x="95" y="384"/>
                            </a:lnTo>
                            <a:lnTo>
                              <a:pt x="106" y="384"/>
                            </a:lnTo>
                            <a:lnTo>
                              <a:pt x="97" y="410"/>
                            </a:lnTo>
                            <a:lnTo>
                              <a:pt x="79" y="428"/>
                            </a:lnTo>
                            <a:lnTo>
                              <a:pt x="80" y="442"/>
                            </a:lnTo>
                            <a:lnTo>
                              <a:pt x="90" y="473"/>
                            </a:lnTo>
                            <a:lnTo>
                              <a:pt x="95" y="497"/>
                            </a:lnTo>
                            <a:lnTo>
                              <a:pt x="126" y="526"/>
                            </a:lnTo>
                            <a:lnTo>
                              <a:pt x="160" y="519"/>
                            </a:lnTo>
                            <a:lnTo>
                              <a:pt x="208" y="515"/>
                            </a:lnTo>
                            <a:lnTo>
                              <a:pt x="230" y="512"/>
                            </a:lnTo>
                            <a:lnTo>
                              <a:pt x="250" y="516"/>
                            </a:lnTo>
                            <a:lnTo>
                              <a:pt x="265" y="523"/>
                            </a:lnTo>
                            <a:lnTo>
                              <a:pt x="276" y="536"/>
                            </a:lnTo>
                            <a:lnTo>
                              <a:pt x="243" y="532"/>
                            </a:lnTo>
                            <a:lnTo>
                              <a:pt x="212" y="530"/>
                            </a:lnTo>
                            <a:lnTo>
                              <a:pt x="182" y="530"/>
                            </a:lnTo>
                            <a:lnTo>
                              <a:pt x="160" y="532"/>
                            </a:lnTo>
                            <a:lnTo>
                              <a:pt x="146" y="553"/>
                            </a:lnTo>
                            <a:lnTo>
                              <a:pt x="197" y="565"/>
                            </a:lnTo>
                            <a:lnTo>
                              <a:pt x="112" y="576"/>
                            </a:lnTo>
                            <a:lnTo>
                              <a:pt x="57" y="579"/>
                            </a:lnTo>
                            <a:lnTo>
                              <a:pt x="90" y="553"/>
                            </a:lnTo>
                            <a:lnTo>
                              <a:pt x="90" y="532"/>
                            </a:lnTo>
                            <a:lnTo>
                              <a:pt x="65" y="491"/>
                            </a:lnTo>
                            <a:lnTo>
                              <a:pt x="61" y="438"/>
                            </a:lnTo>
                            <a:lnTo>
                              <a:pt x="69" y="385"/>
                            </a:lnTo>
                            <a:lnTo>
                              <a:pt x="57" y="374"/>
                            </a:lnTo>
                            <a:lnTo>
                              <a:pt x="64" y="352"/>
                            </a:lnTo>
                            <a:lnTo>
                              <a:pt x="0" y="349"/>
                            </a:lnTo>
                            <a:lnTo>
                              <a:pt x="20" y="329"/>
                            </a:lnTo>
                            <a:lnTo>
                              <a:pt x="51" y="331"/>
                            </a:lnTo>
                            <a:lnTo>
                              <a:pt x="79" y="307"/>
                            </a:lnTo>
                            <a:lnTo>
                              <a:pt x="68" y="289"/>
                            </a:lnTo>
                            <a:lnTo>
                              <a:pt x="79" y="261"/>
                            </a:lnTo>
                            <a:lnTo>
                              <a:pt x="82" y="166"/>
                            </a:lnTo>
                            <a:lnTo>
                              <a:pt x="86" y="109"/>
                            </a:lnTo>
                            <a:lnTo>
                              <a:pt x="101" y="21"/>
                            </a:lnTo>
                            <a:lnTo>
                              <a:pt x="104" y="0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6" name=""/>
                      <p:cNvSpPr/>
                      <p:nvPr/>
                    </p:nvSpPr>
                    <p:spPr>
                      <a:xfrm>
                        <a:off x="5780880" y="1743120"/>
                        <a:ext cx="7668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9" h="23">
                            <a:moveTo>
                              <a:pt x="119" y="0"/>
                            </a:moveTo>
                            <a:lnTo>
                              <a:pt x="0" y="20"/>
                            </a:lnTo>
                            <a:lnTo>
                              <a:pt x="66" y="23"/>
                            </a:lnTo>
                            <a:lnTo>
                              <a:pt x="119" y="0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97" name=""/>
                      <p:cNvGrpSpPr/>
                      <p:nvPr/>
                    </p:nvGrpSpPr>
                    <p:grpSpPr>
                      <a:xfrm>
                        <a:off x="5681520" y="1440000"/>
                        <a:ext cx="131400" cy="668880"/>
                        <a:chOff x="5681520" y="1440000"/>
                        <a:chExt cx="131400" cy="668880"/>
                      </a:xfrm>
                    </p:grpSpPr>
                    <p:sp>
                      <p:nvSpPr>
                        <p:cNvPr id="1798" name=""/>
                        <p:cNvSpPr/>
                        <p:nvPr/>
                      </p:nvSpPr>
                      <p:spPr>
                        <a:xfrm>
                          <a:off x="5685120" y="1447200"/>
                          <a:ext cx="127800" cy="66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9" h="839">
                              <a:moveTo>
                                <a:pt x="84" y="13"/>
                              </a:moveTo>
                              <a:lnTo>
                                <a:pt x="20" y="0"/>
                              </a:lnTo>
                              <a:lnTo>
                                <a:pt x="9" y="38"/>
                              </a:lnTo>
                              <a:lnTo>
                                <a:pt x="0" y="101"/>
                              </a:lnTo>
                              <a:lnTo>
                                <a:pt x="7" y="208"/>
                              </a:lnTo>
                              <a:lnTo>
                                <a:pt x="13" y="247"/>
                              </a:lnTo>
                              <a:lnTo>
                                <a:pt x="31" y="311"/>
                              </a:lnTo>
                              <a:lnTo>
                                <a:pt x="31" y="384"/>
                              </a:lnTo>
                              <a:lnTo>
                                <a:pt x="35" y="473"/>
                              </a:lnTo>
                              <a:lnTo>
                                <a:pt x="43" y="564"/>
                              </a:lnTo>
                              <a:lnTo>
                                <a:pt x="47" y="608"/>
                              </a:lnTo>
                              <a:lnTo>
                                <a:pt x="69" y="680"/>
                              </a:lnTo>
                              <a:lnTo>
                                <a:pt x="84" y="736"/>
                              </a:lnTo>
                              <a:lnTo>
                                <a:pt x="104" y="812"/>
                              </a:lnTo>
                              <a:lnTo>
                                <a:pt x="117" y="839"/>
                              </a:lnTo>
                              <a:lnTo>
                                <a:pt x="176" y="839"/>
                              </a:lnTo>
                              <a:lnTo>
                                <a:pt x="166" y="817"/>
                              </a:lnTo>
                              <a:lnTo>
                                <a:pt x="145" y="762"/>
                              </a:lnTo>
                              <a:lnTo>
                                <a:pt x="133" y="723"/>
                              </a:lnTo>
                              <a:lnTo>
                                <a:pt x="121" y="680"/>
                              </a:lnTo>
                              <a:lnTo>
                                <a:pt x="115" y="635"/>
                              </a:lnTo>
                              <a:lnTo>
                                <a:pt x="115" y="591"/>
                              </a:lnTo>
                              <a:lnTo>
                                <a:pt x="117" y="548"/>
                              </a:lnTo>
                              <a:lnTo>
                                <a:pt x="131" y="480"/>
                              </a:lnTo>
                              <a:lnTo>
                                <a:pt x="142" y="436"/>
                              </a:lnTo>
                              <a:lnTo>
                                <a:pt x="159" y="384"/>
                              </a:lnTo>
                              <a:lnTo>
                                <a:pt x="179" y="325"/>
                              </a:lnTo>
                              <a:lnTo>
                                <a:pt x="183" y="290"/>
                              </a:lnTo>
                              <a:lnTo>
                                <a:pt x="190" y="251"/>
                              </a:lnTo>
                              <a:lnTo>
                                <a:pt x="193" y="226"/>
                              </a:lnTo>
                              <a:lnTo>
                                <a:pt x="105" y="207"/>
                              </a:lnTo>
                              <a:lnTo>
                                <a:pt x="199" y="154"/>
                              </a:lnTo>
                              <a:lnTo>
                                <a:pt x="165" y="126"/>
                              </a:lnTo>
                              <a:lnTo>
                                <a:pt x="142" y="98"/>
                              </a:lnTo>
                              <a:lnTo>
                                <a:pt x="112" y="58"/>
                              </a:lnTo>
                              <a:lnTo>
                                <a:pt x="84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9" name=""/>
                        <p:cNvSpPr/>
                        <p:nvPr/>
                      </p:nvSpPr>
                      <p:spPr>
                        <a:xfrm>
                          <a:off x="5681520" y="1440000"/>
                          <a:ext cx="126360" cy="660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9" h="838">
                              <a:moveTo>
                                <a:pt x="84" y="12"/>
                              </a:moveTo>
                              <a:lnTo>
                                <a:pt x="20" y="0"/>
                              </a:lnTo>
                              <a:lnTo>
                                <a:pt x="9" y="37"/>
                              </a:lnTo>
                              <a:lnTo>
                                <a:pt x="0" y="101"/>
                              </a:lnTo>
                              <a:lnTo>
                                <a:pt x="6" y="207"/>
                              </a:lnTo>
                              <a:lnTo>
                                <a:pt x="12" y="246"/>
                              </a:lnTo>
                              <a:lnTo>
                                <a:pt x="31" y="311"/>
                              </a:lnTo>
                              <a:lnTo>
                                <a:pt x="31" y="384"/>
                              </a:lnTo>
                              <a:lnTo>
                                <a:pt x="34" y="473"/>
                              </a:lnTo>
                              <a:lnTo>
                                <a:pt x="43" y="563"/>
                              </a:lnTo>
                              <a:lnTo>
                                <a:pt x="46" y="608"/>
                              </a:lnTo>
                              <a:lnTo>
                                <a:pt x="68" y="679"/>
                              </a:lnTo>
                              <a:lnTo>
                                <a:pt x="84" y="736"/>
                              </a:lnTo>
                              <a:lnTo>
                                <a:pt x="104" y="811"/>
                              </a:lnTo>
                              <a:lnTo>
                                <a:pt x="117" y="838"/>
                              </a:lnTo>
                              <a:lnTo>
                                <a:pt x="175" y="838"/>
                              </a:lnTo>
                              <a:lnTo>
                                <a:pt x="166" y="817"/>
                              </a:lnTo>
                              <a:lnTo>
                                <a:pt x="145" y="762"/>
                              </a:lnTo>
                              <a:lnTo>
                                <a:pt x="133" y="723"/>
                              </a:lnTo>
                              <a:lnTo>
                                <a:pt x="121" y="679"/>
                              </a:lnTo>
                              <a:lnTo>
                                <a:pt x="115" y="635"/>
                              </a:lnTo>
                              <a:lnTo>
                                <a:pt x="115" y="590"/>
                              </a:lnTo>
                              <a:lnTo>
                                <a:pt x="117" y="548"/>
                              </a:lnTo>
                              <a:lnTo>
                                <a:pt x="130" y="480"/>
                              </a:lnTo>
                              <a:lnTo>
                                <a:pt x="141" y="435"/>
                              </a:lnTo>
                              <a:lnTo>
                                <a:pt x="158" y="384"/>
                              </a:lnTo>
                              <a:lnTo>
                                <a:pt x="179" y="325"/>
                              </a:lnTo>
                              <a:lnTo>
                                <a:pt x="183" y="290"/>
                              </a:lnTo>
                              <a:lnTo>
                                <a:pt x="190" y="251"/>
                              </a:lnTo>
                              <a:lnTo>
                                <a:pt x="192" y="225"/>
                              </a:lnTo>
                              <a:lnTo>
                                <a:pt x="105" y="206"/>
                              </a:lnTo>
                              <a:lnTo>
                                <a:pt x="199" y="153"/>
                              </a:lnTo>
                              <a:lnTo>
                                <a:pt x="164" y="125"/>
                              </a:lnTo>
                              <a:lnTo>
                                <a:pt x="141" y="97"/>
                              </a:lnTo>
                              <a:lnTo>
                                <a:pt x="112" y="57"/>
                              </a:lnTo>
                              <a:lnTo>
                                <a:pt x="84" y="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7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800" name=""/>
                <p:cNvGrpSpPr/>
                <p:nvPr/>
              </p:nvGrpSpPr>
              <p:grpSpPr>
                <a:xfrm>
                  <a:off x="5451480" y="1134720"/>
                  <a:ext cx="289440" cy="439920"/>
                  <a:chOff x="5451480" y="1134720"/>
                  <a:chExt cx="289440" cy="439920"/>
                </a:xfrm>
              </p:grpSpPr>
              <p:sp>
                <p:nvSpPr>
                  <p:cNvPr id="1801" name=""/>
                  <p:cNvSpPr/>
                  <p:nvPr/>
                </p:nvSpPr>
                <p:spPr>
                  <a:xfrm>
                    <a:off x="5460840" y="1148400"/>
                    <a:ext cx="280080" cy="426240"/>
                  </a:xfrm>
                  <a:custGeom>
                    <a:avLst/>
                    <a:gdLst/>
                    <a:ahLst/>
                    <a:rect l="l" t="t" r="r" b="b"/>
                    <a:pathLst>
                      <a:path w="440" h="542">
                        <a:moveTo>
                          <a:pt x="15" y="274"/>
                        </a:moveTo>
                        <a:lnTo>
                          <a:pt x="4" y="279"/>
                        </a:lnTo>
                        <a:lnTo>
                          <a:pt x="0" y="290"/>
                        </a:lnTo>
                        <a:lnTo>
                          <a:pt x="3" y="314"/>
                        </a:lnTo>
                        <a:lnTo>
                          <a:pt x="14" y="347"/>
                        </a:lnTo>
                        <a:lnTo>
                          <a:pt x="25" y="367"/>
                        </a:lnTo>
                        <a:lnTo>
                          <a:pt x="44" y="386"/>
                        </a:lnTo>
                        <a:lnTo>
                          <a:pt x="70" y="404"/>
                        </a:lnTo>
                        <a:lnTo>
                          <a:pt x="87" y="413"/>
                        </a:lnTo>
                        <a:lnTo>
                          <a:pt x="106" y="420"/>
                        </a:lnTo>
                        <a:lnTo>
                          <a:pt x="117" y="419"/>
                        </a:lnTo>
                        <a:lnTo>
                          <a:pt x="125" y="421"/>
                        </a:lnTo>
                        <a:lnTo>
                          <a:pt x="128" y="435"/>
                        </a:lnTo>
                        <a:lnTo>
                          <a:pt x="133" y="449"/>
                        </a:lnTo>
                        <a:lnTo>
                          <a:pt x="139" y="462"/>
                        </a:lnTo>
                        <a:lnTo>
                          <a:pt x="148" y="471"/>
                        </a:lnTo>
                        <a:lnTo>
                          <a:pt x="157" y="480"/>
                        </a:lnTo>
                        <a:lnTo>
                          <a:pt x="173" y="492"/>
                        </a:lnTo>
                        <a:lnTo>
                          <a:pt x="193" y="502"/>
                        </a:lnTo>
                        <a:lnTo>
                          <a:pt x="218" y="527"/>
                        </a:lnTo>
                        <a:lnTo>
                          <a:pt x="232" y="536"/>
                        </a:lnTo>
                        <a:lnTo>
                          <a:pt x="243" y="541"/>
                        </a:lnTo>
                        <a:lnTo>
                          <a:pt x="261" y="542"/>
                        </a:lnTo>
                        <a:lnTo>
                          <a:pt x="276" y="541"/>
                        </a:lnTo>
                        <a:lnTo>
                          <a:pt x="290" y="537"/>
                        </a:lnTo>
                        <a:lnTo>
                          <a:pt x="302" y="533"/>
                        </a:lnTo>
                        <a:lnTo>
                          <a:pt x="319" y="523"/>
                        </a:lnTo>
                        <a:lnTo>
                          <a:pt x="334" y="515"/>
                        </a:lnTo>
                        <a:lnTo>
                          <a:pt x="349" y="502"/>
                        </a:lnTo>
                        <a:lnTo>
                          <a:pt x="370" y="502"/>
                        </a:lnTo>
                        <a:lnTo>
                          <a:pt x="389" y="490"/>
                        </a:lnTo>
                        <a:lnTo>
                          <a:pt x="406" y="460"/>
                        </a:lnTo>
                        <a:lnTo>
                          <a:pt x="420" y="442"/>
                        </a:lnTo>
                        <a:lnTo>
                          <a:pt x="433" y="420"/>
                        </a:lnTo>
                        <a:lnTo>
                          <a:pt x="439" y="388"/>
                        </a:lnTo>
                        <a:lnTo>
                          <a:pt x="440" y="360"/>
                        </a:lnTo>
                        <a:lnTo>
                          <a:pt x="436" y="331"/>
                        </a:lnTo>
                        <a:lnTo>
                          <a:pt x="428" y="310"/>
                        </a:lnTo>
                        <a:lnTo>
                          <a:pt x="424" y="288"/>
                        </a:lnTo>
                        <a:lnTo>
                          <a:pt x="422" y="257"/>
                        </a:lnTo>
                        <a:lnTo>
                          <a:pt x="413" y="219"/>
                        </a:lnTo>
                        <a:lnTo>
                          <a:pt x="400" y="190"/>
                        </a:lnTo>
                        <a:lnTo>
                          <a:pt x="388" y="172"/>
                        </a:lnTo>
                        <a:lnTo>
                          <a:pt x="381" y="152"/>
                        </a:lnTo>
                        <a:lnTo>
                          <a:pt x="367" y="121"/>
                        </a:lnTo>
                        <a:lnTo>
                          <a:pt x="347" y="88"/>
                        </a:lnTo>
                        <a:lnTo>
                          <a:pt x="325" y="60"/>
                        </a:lnTo>
                        <a:lnTo>
                          <a:pt x="304" y="36"/>
                        </a:lnTo>
                        <a:lnTo>
                          <a:pt x="276" y="17"/>
                        </a:lnTo>
                        <a:lnTo>
                          <a:pt x="244" y="4"/>
                        </a:lnTo>
                        <a:lnTo>
                          <a:pt x="215" y="0"/>
                        </a:lnTo>
                        <a:lnTo>
                          <a:pt x="189" y="0"/>
                        </a:lnTo>
                        <a:lnTo>
                          <a:pt x="150" y="4"/>
                        </a:lnTo>
                        <a:lnTo>
                          <a:pt x="149" y="7"/>
                        </a:lnTo>
                        <a:lnTo>
                          <a:pt x="121" y="15"/>
                        </a:lnTo>
                        <a:lnTo>
                          <a:pt x="87" y="31"/>
                        </a:lnTo>
                        <a:lnTo>
                          <a:pt x="55" y="49"/>
                        </a:lnTo>
                        <a:lnTo>
                          <a:pt x="37" y="67"/>
                        </a:lnTo>
                        <a:lnTo>
                          <a:pt x="22" y="85"/>
                        </a:lnTo>
                        <a:lnTo>
                          <a:pt x="14" y="110"/>
                        </a:lnTo>
                        <a:lnTo>
                          <a:pt x="4" y="152"/>
                        </a:lnTo>
                        <a:lnTo>
                          <a:pt x="4" y="190"/>
                        </a:lnTo>
                        <a:lnTo>
                          <a:pt x="8" y="229"/>
                        </a:lnTo>
                        <a:lnTo>
                          <a:pt x="15" y="274"/>
                        </a:lnTo>
                        <a:close/>
                      </a:path>
                    </a:pathLst>
                  </a:custGeom>
                  <a:solidFill>
                    <a:srgbClr val="f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02" name=""/>
                  <p:cNvGrpSpPr/>
                  <p:nvPr/>
                </p:nvGrpSpPr>
                <p:grpSpPr>
                  <a:xfrm>
                    <a:off x="5501160" y="1281240"/>
                    <a:ext cx="220680" cy="262080"/>
                    <a:chOff x="5501160" y="1281240"/>
                    <a:chExt cx="220680" cy="262080"/>
                  </a:xfrm>
                </p:grpSpPr>
                <p:grpSp>
                  <p:nvGrpSpPr>
                    <p:cNvPr id="1803" name=""/>
                    <p:cNvGrpSpPr/>
                    <p:nvPr/>
                  </p:nvGrpSpPr>
                  <p:grpSpPr>
                    <a:xfrm>
                      <a:off x="5501160" y="1281240"/>
                      <a:ext cx="220680" cy="262080"/>
                      <a:chOff x="5501160" y="1281240"/>
                      <a:chExt cx="220680" cy="262080"/>
                    </a:xfrm>
                  </p:grpSpPr>
                  <p:sp>
                    <p:nvSpPr>
                      <p:cNvPr id="1804" name=""/>
                      <p:cNvSpPr/>
                      <p:nvPr/>
                    </p:nvSpPr>
                    <p:spPr>
                      <a:xfrm>
                        <a:off x="5646240" y="1281240"/>
                        <a:ext cx="60840" cy="122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155">
                            <a:moveTo>
                              <a:pt x="64" y="0"/>
                            </a:moveTo>
                            <a:lnTo>
                              <a:pt x="64" y="11"/>
                            </a:lnTo>
                            <a:lnTo>
                              <a:pt x="61" y="21"/>
                            </a:lnTo>
                            <a:lnTo>
                              <a:pt x="54" y="26"/>
                            </a:lnTo>
                            <a:lnTo>
                              <a:pt x="42" y="36"/>
                            </a:lnTo>
                            <a:lnTo>
                              <a:pt x="28" y="49"/>
                            </a:lnTo>
                            <a:lnTo>
                              <a:pt x="89" y="37"/>
                            </a:lnTo>
                            <a:lnTo>
                              <a:pt x="95" y="40"/>
                            </a:lnTo>
                            <a:lnTo>
                              <a:pt x="83" y="46"/>
                            </a:lnTo>
                            <a:lnTo>
                              <a:pt x="75" y="54"/>
                            </a:lnTo>
                            <a:lnTo>
                              <a:pt x="66" y="61"/>
                            </a:lnTo>
                            <a:lnTo>
                              <a:pt x="59" y="64"/>
                            </a:lnTo>
                            <a:lnTo>
                              <a:pt x="48" y="64"/>
                            </a:lnTo>
                            <a:lnTo>
                              <a:pt x="31" y="63"/>
                            </a:lnTo>
                            <a:lnTo>
                              <a:pt x="49" y="68"/>
                            </a:lnTo>
                            <a:lnTo>
                              <a:pt x="55" y="71"/>
                            </a:lnTo>
                            <a:lnTo>
                              <a:pt x="67" y="71"/>
                            </a:lnTo>
                            <a:lnTo>
                              <a:pt x="77" y="68"/>
                            </a:lnTo>
                            <a:lnTo>
                              <a:pt x="88" y="62"/>
                            </a:lnTo>
                            <a:lnTo>
                              <a:pt x="97" y="54"/>
                            </a:lnTo>
                            <a:lnTo>
                              <a:pt x="76" y="74"/>
                            </a:lnTo>
                            <a:lnTo>
                              <a:pt x="65" y="76"/>
                            </a:lnTo>
                            <a:lnTo>
                              <a:pt x="55" y="76"/>
                            </a:lnTo>
                            <a:lnTo>
                              <a:pt x="47" y="74"/>
                            </a:lnTo>
                            <a:lnTo>
                              <a:pt x="39" y="71"/>
                            </a:lnTo>
                            <a:lnTo>
                              <a:pt x="32" y="71"/>
                            </a:lnTo>
                            <a:lnTo>
                              <a:pt x="25" y="71"/>
                            </a:lnTo>
                            <a:lnTo>
                              <a:pt x="30" y="92"/>
                            </a:lnTo>
                            <a:lnTo>
                              <a:pt x="38" y="107"/>
                            </a:lnTo>
                            <a:lnTo>
                              <a:pt x="45" y="114"/>
                            </a:lnTo>
                            <a:lnTo>
                              <a:pt x="53" y="119"/>
                            </a:lnTo>
                            <a:lnTo>
                              <a:pt x="59" y="127"/>
                            </a:lnTo>
                            <a:lnTo>
                              <a:pt x="62" y="135"/>
                            </a:lnTo>
                            <a:lnTo>
                              <a:pt x="64" y="147"/>
                            </a:lnTo>
                            <a:lnTo>
                              <a:pt x="59" y="155"/>
                            </a:lnTo>
                            <a:lnTo>
                              <a:pt x="56" y="137"/>
                            </a:lnTo>
                            <a:lnTo>
                              <a:pt x="53" y="128"/>
                            </a:lnTo>
                            <a:lnTo>
                              <a:pt x="45" y="124"/>
                            </a:lnTo>
                            <a:lnTo>
                              <a:pt x="34" y="119"/>
                            </a:lnTo>
                            <a:lnTo>
                              <a:pt x="27" y="116"/>
                            </a:lnTo>
                            <a:lnTo>
                              <a:pt x="20" y="110"/>
                            </a:lnTo>
                            <a:lnTo>
                              <a:pt x="11" y="102"/>
                            </a:lnTo>
                            <a:lnTo>
                              <a:pt x="5" y="92"/>
                            </a:lnTo>
                            <a:lnTo>
                              <a:pt x="2" y="82"/>
                            </a:lnTo>
                            <a:lnTo>
                              <a:pt x="0" y="69"/>
                            </a:lnTo>
                            <a:lnTo>
                              <a:pt x="2" y="57"/>
                            </a:lnTo>
                            <a:lnTo>
                              <a:pt x="5" y="43"/>
                            </a:lnTo>
                            <a:lnTo>
                              <a:pt x="64" y="0"/>
                            </a:lnTo>
                            <a:close/>
                          </a:path>
                        </a:pathLst>
                      </a:custGeom>
                      <a:solidFill>
                        <a:srgbClr val="df9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805" name=""/>
                      <p:cNvGrpSpPr/>
                      <p:nvPr/>
                    </p:nvGrpSpPr>
                    <p:grpSpPr>
                      <a:xfrm>
                        <a:off x="5501160" y="1361520"/>
                        <a:ext cx="220680" cy="181800"/>
                        <a:chOff x="5501160" y="1361520"/>
                        <a:chExt cx="220680" cy="181800"/>
                      </a:xfrm>
                    </p:grpSpPr>
                    <p:sp>
                      <p:nvSpPr>
                        <p:cNvPr id="1806" name=""/>
                        <p:cNvSpPr/>
                        <p:nvPr/>
                      </p:nvSpPr>
                      <p:spPr>
                        <a:xfrm>
                          <a:off x="5501160" y="1361520"/>
                          <a:ext cx="180720" cy="181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4" h="229">
                              <a:moveTo>
                                <a:pt x="12" y="0"/>
                              </a:moveTo>
                              <a:lnTo>
                                <a:pt x="16" y="22"/>
                              </a:lnTo>
                              <a:lnTo>
                                <a:pt x="25" y="42"/>
                              </a:lnTo>
                              <a:lnTo>
                                <a:pt x="44" y="63"/>
                              </a:lnTo>
                              <a:lnTo>
                                <a:pt x="55" y="74"/>
                              </a:lnTo>
                              <a:lnTo>
                                <a:pt x="68" y="82"/>
                              </a:lnTo>
                              <a:lnTo>
                                <a:pt x="86" y="82"/>
                              </a:lnTo>
                              <a:lnTo>
                                <a:pt x="112" y="79"/>
                              </a:lnTo>
                              <a:lnTo>
                                <a:pt x="136" y="79"/>
                              </a:lnTo>
                              <a:lnTo>
                                <a:pt x="150" y="74"/>
                              </a:lnTo>
                              <a:lnTo>
                                <a:pt x="162" y="75"/>
                              </a:lnTo>
                              <a:lnTo>
                                <a:pt x="161" y="90"/>
                              </a:lnTo>
                              <a:lnTo>
                                <a:pt x="164" y="107"/>
                              </a:lnTo>
                              <a:lnTo>
                                <a:pt x="152" y="108"/>
                              </a:lnTo>
                              <a:lnTo>
                                <a:pt x="137" y="110"/>
                              </a:lnTo>
                              <a:lnTo>
                                <a:pt x="136" y="122"/>
                              </a:lnTo>
                              <a:lnTo>
                                <a:pt x="139" y="136"/>
                              </a:lnTo>
                              <a:lnTo>
                                <a:pt x="144" y="152"/>
                              </a:lnTo>
                              <a:lnTo>
                                <a:pt x="155" y="163"/>
                              </a:lnTo>
                              <a:lnTo>
                                <a:pt x="170" y="168"/>
                              </a:lnTo>
                              <a:lnTo>
                                <a:pt x="191" y="167"/>
                              </a:lnTo>
                              <a:lnTo>
                                <a:pt x="202" y="167"/>
                              </a:lnTo>
                              <a:lnTo>
                                <a:pt x="213" y="177"/>
                              </a:lnTo>
                              <a:lnTo>
                                <a:pt x="226" y="188"/>
                              </a:lnTo>
                              <a:lnTo>
                                <a:pt x="243" y="194"/>
                              </a:lnTo>
                              <a:lnTo>
                                <a:pt x="260" y="194"/>
                              </a:lnTo>
                              <a:lnTo>
                                <a:pt x="269" y="193"/>
                              </a:lnTo>
                              <a:lnTo>
                                <a:pt x="276" y="206"/>
                              </a:lnTo>
                              <a:lnTo>
                                <a:pt x="284" y="215"/>
                              </a:lnTo>
                              <a:lnTo>
                                <a:pt x="270" y="223"/>
                              </a:lnTo>
                              <a:lnTo>
                                <a:pt x="256" y="229"/>
                              </a:lnTo>
                              <a:lnTo>
                                <a:pt x="236" y="229"/>
                              </a:lnTo>
                              <a:lnTo>
                                <a:pt x="217" y="229"/>
                              </a:lnTo>
                              <a:lnTo>
                                <a:pt x="214" y="229"/>
                              </a:lnTo>
                              <a:lnTo>
                                <a:pt x="180" y="224"/>
                              </a:lnTo>
                              <a:lnTo>
                                <a:pt x="162" y="218"/>
                              </a:lnTo>
                              <a:lnTo>
                                <a:pt x="139" y="204"/>
                              </a:lnTo>
                              <a:lnTo>
                                <a:pt x="109" y="177"/>
                              </a:lnTo>
                              <a:lnTo>
                                <a:pt x="68" y="142"/>
                              </a:lnTo>
                              <a:lnTo>
                                <a:pt x="29" y="103"/>
                              </a:lnTo>
                              <a:lnTo>
                                <a:pt x="12" y="82"/>
                              </a:lnTo>
                              <a:lnTo>
                                <a:pt x="1" y="61"/>
                              </a:lnTo>
                              <a:lnTo>
                                <a:pt x="0" y="45"/>
                              </a:lnTo>
                              <a:lnTo>
                                <a:pt x="1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7" name=""/>
                        <p:cNvSpPr/>
                        <p:nvPr/>
                      </p:nvSpPr>
                      <p:spPr>
                        <a:xfrm>
                          <a:off x="5617440" y="1391760"/>
                          <a:ext cx="30240" cy="96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" h="121">
                              <a:moveTo>
                                <a:pt x="49" y="3"/>
                              </a:moveTo>
                              <a:lnTo>
                                <a:pt x="37" y="0"/>
                              </a:lnTo>
                              <a:lnTo>
                                <a:pt x="28" y="1"/>
                              </a:lnTo>
                              <a:lnTo>
                                <a:pt x="21" y="7"/>
                              </a:lnTo>
                              <a:lnTo>
                                <a:pt x="15" y="14"/>
                              </a:lnTo>
                              <a:lnTo>
                                <a:pt x="10" y="26"/>
                              </a:lnTo>
                              <a:lnTo>
                                <a:pt x="10" y="39"/>
                              </a:lnTo>
                              <a:lnTo>
                                <a:pt x="8" y="63"/>
                              </a:lnTo>
                              <a:lnTo>
                                <a:pt x="0" y="86"/>
                              </a:lnTo>
                              <a:lnTo>
                                <a:pt x="8" y="96"/>
                              </a:lnTo>
                              <a:lnTo>
                                <a:pt x="14" y="121"/>
                              </a:lnTo>
                              <a:lnTo>
                                <a:pt x="11" y="88"/>
                              </a:lnTo>
                              <a:lnTo>
                                <a:pt x="14" y="68"/>
                              </a:lnTo>
                              <a:lnTo>
                                <a:pt x="14" y="50"/>
                              </a:lnTo>
                              <a:lnTo>
                                <a:pt x="15" y="42"/>
                              </a:lnTo>
                              <a:lnTo>
                                <a:pt x="20" y="39"/>
                              </a:lnTo>
                              <a:lnTo>
                                <a:pt x="28" y="40"/>
                              </a:lnTo>
                              <a:lnTo>
                                <a:pt x="34" y="40"/>
                              </a:lnTo>
                              <a:lnTo>
                                <a:pt x="25" y="34"/>
                              </a:lnTo>
                              <a:lnTo>
                                <a:pt x="22" y="27"/>
                              </a:lnTo>
                              <a:lnTo>
                                <a:pt x="21" y="19"/>
                              </a:lnTo>
                              <a:lnTo>
                                <a:pt x="26" y="10"/>
                              </a:lnTo>
                              <a:lnTo>
                                <a:pt x="36" y="6"/>
                              </a:lnTo>
                              <a:lnTo>
                                <a:pt x="49" y="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8" name=""/>
                        <p:cNvSpPr/>
                        <p:nvPr/>
                      </p:nvSpPr>
                      <p:spPr>
                        <a:xfrm>
                          <a:off x="5640120" y="1403640"/>
                          <a:ext cx="19440" cy="1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22">
                              <a:moveTo>
                                <a:pt x="0" y="22"/>
                              </a:moveTo>
                              <a:lnTo>
                                <a:pt x="7" y="15"/>
                              </a:lnTo>
                              <a:lnTo>
                                <a:pt x="11" y="8"/>
                              </a:lnTo>
                              <a:lnTo>
                                <a:pt x="17" y="0"/>
                              </a:lnTo>
                              <a:lnTo>
                                <a:pt x="17" y="12"/>
                              </a:lnTo>
                              <a:lnTo>
                                <a:pt x="22" y="19"/>
                              </a:lnTo>
                              <a:lnTo>
                                <a:pt x="31" y="21"/>
                              </a:lnTo>
                              <a:lnTo>
                                <a:pt x="17" y="21"/>
                              </a:lnTo>
                              <a:lnTo>
                                <a:pt x="0" y="2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240" bIns="-30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9" name=""/>
                        <p:cNvSpPr/>
                        <p:nvPr/>
                      </p:nvSpPr>
                      <p:spPr>
                        <a:xfrm>
                          <a:off x="5657400" y="1411200"/>
                          <a:ext cx="22680" cy="9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6" h="13">
                              <a:moveTo>
                                <a:pt x="0" y="13"/>
                              </a:moveTo>
                              <a:lnTo>
                                <a:pt x="22" y="10"/>
                              </a:lnTo>
                              <a:lnTo>
                                <a:pt x="29" y="6"/>
                              </a:lnTo>
                              <a:lnTo>
                                <a:pt x="36" y="0"/>
                              </a:lnTo>
                              <a:lnTo>
                                <a:pt x="33" y="10"/>
                              </a:lnTo>
                              <a:lnTo>
                                <a:pt x="24" y="13"/>
                              </a:lnTo>
                              <a:lnTo>
                                <a:pt x="0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800" bIns="-37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0" name=""/>
                        <p:cNvSpPr/>
                        <p:nvPr/>
                      </p:nvSpPr>
                      <p:spPr>
                        <a:xfrm>
                          <a:off x="5684040" y="1411200"/>
                          <a:ext cx="37800" cy="32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2" h="44">
                              <a:moveTo>
                                <a:pt x="0" y="2"/>
                              </a:moveTo>
                              <a:lnTo>
                                <a:pt x="13" y="7"/>
                              </a:lnTo>
                              <a:lnTo>
                                <a:pt x="24" y="11"/>
                              </a:lnTo>
                              <a:lnTo>
                                <a:pt x="37" y="18"/>
                              </a:lnTo>
                              <a:lnTo>
                                <a:pt x="47" y="29"/>
                              </a:lnTo>
                              <a:lnTo>
                                <a:pt x="62" y="44"/>
                              </a:lnTo>
                              <a:lnTo>
                                <a:pt x="55" y="28"/>
                              </a:lnTo>
                              <a:lnTo>
                                <a:pt x="46" y="18"/>
                              </a:lnTo>
                              <a:lnTo>
                                <a:pt x="38" y="10"/>
                              </a:lnTo>
                              <a:lnTo>
                                <a:pt x="28" y="5"/>
                              </a:lnTo>
                              <a:lnTo>
                                <a:pt x="16" y="0"/>
                              </a:lnTo>
                              <a:lnTo>
                                <a:pt x="0" y="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4400" bIns="-14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1" name=""/>
                        <p:cNvSpPr/>
                        <p:nvPr/>
                      </p:nvSpPr>
                      <p:spPr>
                        <a:xfrm>
                          <a:off x="5668920" y="1427040"/>
                          <a:ext cx="5400" cy="19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" h="25">
                              <a:moveTo>
                                <a:pt x="0" y="0"/>
                              </a:moveTo>
                              <a:lnTo>
                                <a:pt x="11" y="14"/>
                              </a:lnTo>
                              <a:lnTo>
                                <a:pt x="9" y="25"/>
                              </a:lnTo>
                              <a:lnTo>
                                <a:pt x="2" y="1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720" bIns="-27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2" name=""/>
                        <p:cNvSpPr/>
                        <p:nvPr/>
                      </p:nvSpPr>
                      <p:spPr>
                        <a:xfrm>
                          <a:off x="5636520" y="1436760"/>
                          <a:ext cx="70560" cy="35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2" h="44">
                              <a:moveTo>
                                <a:pt x="0" y="44"/>
                              </a:moveTo>
                              <a:lnTo>
                                <a:pt x="16" y="39"/>
                              </a:lnTo>
                              <a:lnTo>
                                <a:pt x="28" y="34"/>
                              </a:lnTo>
                              <a:lnTo>
                                <a:pt x="41" y="25"/>
                              </a:lnTo>
                              <a:lnTo>
                                <a:pt x="53" y="18"/>
                              </a:lnTo>
                              <a:lnTo>
                                <a:pt x="67" y="18"/>
                              </a:lnTo>
                              <a:lnTo>
                                <a:pt x="70" y="8"/>
                              </a:lnTo>
                              <a:lnTo>
                                <a:pt x="80" y="5"/>
                              </a:lnTo>
                              <a:lnTo>
                                <a:pt x="93" y="4"/>
                              </a:lnTo>
                              <a:lnTo>
                                <a:pt x="104" y="4"/>
                              </a:lnTo>
                              <a:lnTo>
                                <a:pt x="112" y="0"/>
                              </a:lnTo>
                              <a:lnTo>
                                <a:pt x="95" y="11"/>
                              </a:lnTo>
                              <a:lnTo>
                                <a:pt x="85" y="14"/>
                              </a:lnTo>
                              <a:lnTo>
                                <a:pt x="74" y="21"/>
                              </a:lnTo>
                              <a:lnTo>
                                <a:pt x="67" y="28"/>
                              </a:lnTo>
                              <a:lnTo>
                                <a:pt x="56" y="30"/>
                              </a:lnTo>
                              <a:lnTo>
                                <a:pt x="45" y="34"/>
                              </a:lnTo>
                              <a:lnTo>
                                <a:pt x="31" y="40"/>
                              </a:lnTo>
                              <a:lnTo>
                                <a:pt x="20" y="44"/>
                              </a:lnTo>
                              <a:lnTo>
                                <a:pt x="0" y="4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3" name=""/>
                        <p:cNvSpPr/>
                        <p:nvPr/>
                      </p:nvSpPr>
                      <p:spPr>
                        <a:xfrm>
                          <a:off x="5644080" y="1458360"/>
                          <a:ext cx="59040" cy="23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5" h="30">
                              <a:moveTo>
                                <a:pt x="0" y="24"/>
                              </a:moveTo>
                              <a:lnTo>
                                <a:pt x="23" y="26"/>
                              </a:lnTo>
                              <a:lnTo>
                                <a:pt x="45" y="23"/>
                              </a:lnTo>
                              <a:lnTo>
                                <a:pt x="53" y="18"/>
                              </a:lnTo>
                              <a:lnTo>
                                <a:pt x="63" y="12"/>
                              </a:lnTo>
                              <a:lnTo>
                                <a:pt x="72" y="6"/>
                              </a:lnTo>
                              <a:lnTo>
                                <a:pt x="81" y="5"/>
                              </a:lnTo>
                              <a:lnTo>
                                <a:pt x="95" y="0"/>
                              </a:lnTo>
                              <a:lnTo>
                                <a:pt x="84" y="9"/>
                              </a:lnTo>
                              <a:lnTo>
                                <a:pt x="72" y="10"/>
                              </a:lnTo>
                              <a:lnTo>
                                <a:pt x="63" y="17"/>
                              </a:lnTo>
                              <a:lnTo>
                                <a:pt x="52" y="25"/>
                              </a:lnTo>
                              <a:lnTo>
                                <a:pt x="44" y="30"/>
                              </a:lnTo>
                              <a:lnTo>
                                <a:pt x="30" y="30"/>
                              </a:lnTo>
                              <a:lnTo>
                                <a:pt x="16" y="27"/>
                              </a:lnTo>
                              <a:lnTo>
                                <a:pt x="0" y="2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400" bIns="-23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814" name=""/>
                      <p:cNvSpPr/>
                      <p:nvPr/>
                    </p:nvSpPr>
                    <p:spPr>
                      <a:xfrm>
                        <a:off x="5558400" y="1359360"/>
                        <a:ext cx="47520" cy="44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5" h="55">
                            <a:moveTo>
                              <a:pt x="74" y="0"/>
                            </a:moveTo>
                            <a:lnTo>
                              <a:pt x="75" y="22"/>
                            </a:lnTo>
                            <a:lnTo>
                              <a:pt x="72" y="35"/>
                            </a:lnTo>
                            <a:lnTo>
                              <a:pt x="64" y="47"/>
                            </a:lnTo>
                            <a:lnTo>
                              <a:pt x="51" y="52"/>
                            </a:lnTo>
                            <a:lnTo>
                              <a:pt x="33" y="55"/>
                            </a:lnTo>
                            <a:lnTo>
                              <a:pt x="20" y="54"/>
                            </a:lnTo>
                            <a:lnTo>
                              <a:pt x="11" y="49"/>
                            </a:lnTo>
                            <a:lnTo>
                              <a:pt x="5" y="44"/>
                            </a:lnTo>
                            <a:lnTo>
                              <a:pt x="0" y="38"/>
                            </a:lnTo>
                            <a:lnTo>
                              <a:pt x="3" y="34"/>
                            </a:lnTo>
                            <a:lnTo>
                              <a:pt x="13" y="44"/>
                            </a:lnTo>
                            <a:lnTo>
                              <a:pt x="22" y="50"/>
                            </a:lnTo>
                            <a:lnTo>
                              <a:pt x="35" y="52"/>
                            </a:lnTo>
                            <a:lnTo>
                              <a:pt x="50" y="50"/>
                            </a:lnTo>
                            <a:lnTo>
                              <a:pt x="58" y="42"/>
                            </a:lnTo>
                            <a:lnTo>
                              <a:pt x="64" y="31"/>
                            </a:lnTo>
                            <a:lnTo>
                              <a:pt x="69" y="23"/>
                            </a:lnTo>
                            <a:lnTo>
                              <a:pt x="72" y="14"/>
                            </a:lnTo>
                            <a:lnTo>
                              <a:pt x="61" y="21"/>
                            </a:lnTo>
                            <a:lnTo>
                              <a:pt x="51" y="24"/>
                            </a:lnTo>
                            <a:lnTo>
                              <a:pt x="38" y="24"/>
                            </a:lnTo>
                            <a:lnTo>
                              <a:pt x="24" y="24"/>
                            </a:lnTo>
                            <a:lnTo>
                              <a:pt x="61" y="12"/>
                            </a:lnTo>
                            <a:lnTo>
                              <a:pt x="74" y="0"/>
                            </a:lnTo>
                            <a:close/>
                          </a:path>
                        </a:pathLst>
                      </a:custGeom>
                      <a:solidFill>
                        <a:srgbClr val="df9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" bIns="-2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15" name=""/>
                    <p:cNvGrpSpPr/>
                    <p:nvPr/>
                  </p:nvGrpSpPr>
                  <p:grpSpPr>
                    <a:xfrm>
                      <a:off x="5659920" y="1307520"/>
                      <a:ext cx="45000" cy="23040"/>
                      <a:chOff x="5659920" y="1307520"/>
                      <a:chExt cx="45000" cy="23040"/>
                    </a:xfrm>
                  </p:grpSpPr>
                  <p:sp>
                    <p:nvSpPr>
                      <p:cNvPr id="1816" name=""/>
                      <p:cNvSpPr/>
                      <p:nvPr/>
                    </p:nvSpPr>
                    <p:spPr>
                      <a:xfrm>
                        <a:off x="5659920" y="1307520"/>
                        <a:ext cx="4500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28">
                            <a:moveTo>
                              <a:pt x="0" y="26"/>
                            </a:moveTo>
                            <a:lnTo>
                              <a:pt x="7" y="16"/>
                            </a:lnTo>
                            <a:lnTo>
                              <a:pt x="14" y="10"/>
                            </a:lnTo>
                            <a:lnTo>
                              <a:pt x="22" y="4"/>
                            </a:lnTo>
                            <a:lnTo>
                              <a:pt x="33" y="1"/>
                            </a:lnTo>
                            <a:lnTo>
                              <a:pt x="44" y="0"/>
                            </a:lnTo>
                            <a:lnTo>
                              <a:pt x="55" y="1"/>
                            </a:lnTo>
                            <a:lnTo>
                              <a:pt x="70" y="6"/>
                            </a:lnTo>
                            <a:lnTo>
                              <a:pt x="53" y="9"/>
                            </a:lnTo>
                            <a:lnTo>
                              <a:pt x="46" y="16"/>
                            </a:lnTo>
                            <a:lnTo>
                              <a:pt x="38" y="23"/>
                            </a:lnTo>
                            <a:lnTo>
                              <a:pt x="31" y="27"/>
                            </a:lnTo>
                            <a:lnTo>
                              <a:pt x="22" y="28"/>
                            </a:lnTo>
                            <a:lnTo>
                              <a:pt x="0" y="2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7" name=""/>
                      <p:cNvSpPr/>
                      <p:nvPr/>
                    </p:nvSpPr>
                    <p:spPr>
                      <a:xfrm>
                        <a:off x="5659920" y="1307520"/>
                        <a:ext cx="4356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29">
                            <a:moveTo>
                              <a:pt x="0" y="25"/>
                            </a:moveTo>
                            <a:lnTo>
                              <a:pt x="6" y="16"/>
                            </a:lnTo>
                            <a:lnTo>
                              <a:pt x="14" y="10"/>
                            </a:lnTo>
                            <a:lnTo>
                              <a:pt x="22" y="4"/>
                            </a:lnTo>
                            <a:lnTo>
                              <a:pt x="33" y="1"/>
                            </a:lnTo>
                            <a:lnTo>
                              <a:pt x="44" y="0"/>
                            </a:lnTo>
                            <a:lnTo>
                              <a:pt x="55" y="1"/>
                            </a:lnTo>
                            <a:lnTo>
                              <a:pt x="70" y="5"/>
                            </a:lnTo>
                            <a:lnTo>
                              <a:pt x="49" y="4"/>
                            </a:lnTo>
                            <a:lnTo>
                              <a:pt x="49" y="11"/>
                            </a:lnTo>
                            <a:lnTo>
                              <a:pt x="47" y="20"/>
                            </a:lnTo>
                            <a:lnTo>
                              <a:pt x="36" y="27"/>
                            </a:lnTo>
                            <a:lnTo>
                              <a:pt x="27" y="29"/>
                            </a:lnTo>
                            <a:lnTo>
                              <a:pt x="21" y="24"/>
                            </a:lnTo>
                            <a:lnTo>
                              <a:pt x="17" y="18"/>
                            </a:lnTo>
                            <a:lnTo>
                              <a:pt x="15" y="13"/>
                            </a:lnTo>
                            <a:lnTo>
                              <a:pt x="0" y="25"/>
                            </a:lnTo>
                            <a:close/>
                          </a:path>
                        </a:pathLst>
                      </a:cu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18" name=""/>
                    <p:cNvGrpSpPr/>
                    <p:nvPr/>
                  </p:nvGrpSpPr>
                  <p:grpSpPr>
                    <a:xfrm>
                      <a:off x="5552640" y="1354680"/>
                      <a:ext cx="52560" cy="28080"/>
                      <a:chOff x="5552640" y="1354680"/>
                      <a:chExt cx="52560" cy="28080"/>
                    </a:xfrm>
                  </p:grpSpPr>
                  <p:sp>
                    <p:nvSpPr>
                      <p:cNvPr id="1819" name=""/>
                      <p:cNvSpPr/>
                      <p:nvPr/>
                    </p:nvSpPr>
                    <p:spPr>
                      <a:xfrm>
                        <a:off x="5554080" y="1354680"/>
                        <a:ext cx="51120" cy="28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0" h="36">
                            <a:moveTo>
                              <a:pt x="0" y="35"/>
                            </a:moveTo>
                            <a:lnTo>
                              <a:pt x="24" y="25"/>
                            </a:lnTo>
                            <a:lnTo>
                              <a:pt x="39" y="18"/>
                            </a:lnTo>
                            <a:lnTo>
                              <a:pt x="56" y="9"/>
                            </a:lnTo>
                            <a:lnTo>
                              <a:pt x="68" y="2"/>
                            </a:lnTo>
                            <a:lnTo>
                              <a:pt x="74" y="0"/>
                            </a:lnTo>
                            <a:lnTo>
                              <a:pt x="80" y="5"/>
                            </a:lnTo>
                            <a:lnTo>
                              <a:pt x="80" y="15"/>
                            </a:lnTo>
                            <a:lnTo>
                              <a:pt x="74" y="24"/>
                            </a:lnTo>
                            <a:lnTo>
                              <a:pt x="73" y="25"/>
                            </a:lnTo>
                            <a:lnTo>
                              <a:pt x="63" y="30"/>
                            </a:lnTo>
                            <a:lnTo>
                              <a:pt x="62" y="31"/>
                            </a:lnTo>
                            <a:lnTo>
                              <a:pt x="42" y="35"/>
                            </a:lnTo>
                            <a:lnTo>
                              <a:pt x="16" y="36"/>
                            </a:lnTo>
                            <a:lnTo>
                              <a:pt x="0" y="35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720" bIns="-18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0" name=""/>
                      <p:cNvSpPr/>
                      <p:nvPr/>
                    </p:nvSpPr>
                    <p:spPr>
                      <a:xfrm>
                        <a:off x="5552640" y="1354680"/>
                        <a:ext cx="51120" cy="2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1" h="35">
                            <a:moveTo>
                              <a:pt x="0" y="35"/>
                            </a:moveTo>
                            <a:lnTo>
                              <a:pt x="25" y="25"/>
                            </a:lnTo>
                            <a:lnTo>
                              <a:pt x="39" y="18"/>
                            </a:lnTo>
                            <a:lnTo>
                              <a:pt x="56" y="9"/>
                            </a:lnTo>
                            <a:lnTo>
                              <a:pt x="69" y="2"/>
                            </a:lnTo>
                            <a:lnTo>
                              <a:pt x="75" y="0"/>
                            </a:lnTo>
                            <a:lnTo>
                              <a:pt x="81" y="3"/>
                            </a:lnTo>
                            <a:lnTo>
                              <a:pt x="71" y="5"/>
                            </a:lnTo>
                            <a:lnTo>
                              <a:pt x="76" y="10"/>
                            </a:lnTo>
                            <a:lnTo>
                              <a:pt x="77" y="17"/>
                            </a:lnTo>
                            <a:lnTo>
                              <a:pt x="72" y="29"/>
                            </a:lnTo>
                            <a:lnTo>
                              <a:pt x="63" y="32"/>
                            </a:lnTo>
                            <a:lnTo>
                              <a:pt x="50" y="35"/>
                            </a:lnTo>
                            <a:lnTo>
                              <a:pt x="41" y="30"/>
                            </a:lnTo>
                            <a:lnTo>
                              <a:pt x="35" y="24"/>
                            </a:lnTo>
                            <a:lnTo>
                              <a:pt x="19" y="30"/>
                            </a:lnTo>
                            <a:lnTo>
                              <a:pt x="0" y="35"/>
                            </a:lnTo>
                            <a:close/>
                          </a:path>
                        </a:pathLst>
                      </a:cu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821" name=""/>
                  <p:cNvGrpSpPr/>
                  <p:nvPr/>
                </p:nvGrpSpPr>
                <p:grpSpPr>
                  <a:xfrm>
                    <a:off x="5451480" y="1134720"/>
                    <a:ext cx="261360" cy="273240"/>
                    <a:chOff x="5451480" y="1134720"/>
                    <a:chExt cx="261360" cy="273240"/>
                  </a:xfrm>
                </p:grpSpPr>
                <p:grpSp>
                  <p:nvGrpSpPr>
                    <p:cNvPr id="1822" name=""/>
                    <p:cNvGrpSpPr/>
                    <p:nvPr/>
                  </p:nvGrpSpPr>
                  <p:grpSpPr>
                    <a:xfrm>
                      <a:off x="5539320" y="1264320"/>
                      <a:ext cx="150480" cy="106200"/>
                      <a:chOff x="5539320" y="1264320"/>
                      <a:chExt cx="150480" cy="106200"/>
                    </a:xfrm>
                  </p:grpSpPr>
                  <p:sp>
                    <p:nvSpPr>
                      <p:cNvPr id="1823" name=""/>
                      <p:cNvSpPr/>
                      <p:nvPr/>
                    </p:nvSpPr>
                    <p:spPr>
                      <a:xfrm>
                        <a:off x="5539320" y="1330560"/>
                        <a:ext cx="72000" cy="3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4" h="51">
                            <a:moveTo>
                              <a:pt x="114" y="6"/>
                            </a:moveTo>
                            <a:lnTo>
                              <a:pt x="105" y="4"/>
                            </a:lnTo>
                            <a:lnTo>
                              <a:pt x="99" y="0"/>
                            </a:lnTo>
                            <a:lnTo>
                              <a:pt x="86" y="4"/>
                            </a:lnTo>
                            <a:lnTo>
                              <a:pt x="70" y="4"/>
                            </a:lnTo>
                            <a:lnTo>
                              <a:pt x="50" y="5"/>
                            </a:lnTo>
                            <a:lnTo>
                              <a:pt x="33" y="5"/>
                            </a:lnTo>
                            <a:lnTo>
                              <a:pt x="27" y="0"/>
                            </a:lnTo>
                            <a:lnTo>
                              <a:pt x="19" y="0"/>
                            </a:lnTo>
                            <a:lnTo>
                              <a:pt x="15" y="6"/>
                            </a:lnTo>
                            <a:lnTo>
                              <a:pt x="14" y="13"/>
                            </a:lnTo>
                            <a:lnTo>
                              <a:pt x="10" y="23"/>
                            </a:lnTo>
                            <a:lnTo>
                              <a:pt x="6" y="32"/>
                            </a:lnTo>
                            <a:lnTo>
                              <a:pt x="0" y="39"/>
                            </a:lnTo>
                            <a:lnTo>
                              <a:pt x="6" y="46"/>
                            </a:lnTo>
                            <a:lnTo>
                              <a:pt x="8" y="51"/>
                            </a:lnTo>
                            <a:lnTo>
                              <a:pt x="14" y="43"/>
                            </a:lnTo>
                            <a:lnTo>
                              <a:pt x="25" y="32"/>
                            </a:lnTo>
                            <a:lnTo>
                              <a:pt x="31" y="26"/>
                            </a:lnTo>
                            <a:lnTo>
                              <a:pt x="41" y="21"/>
                            </a:lnTo>
                            <a:lnTo>
                              <a:pt x="50" y="19"/>
                            </a:lnTo>
                            <a:lnTo>
                              <a:pt x="62" y="18"/>
                            </a:lnTo>
                            <a:lnTo>
                              <a:pt x="77" y="17"/>
                            </a:lnTo>
                            <a:lnTo>
                              <a:pt x="88" y="16"/>
                            </a:lnTo>
                            <a:lnTo>
                              <a:pt x="98" y="16"/>
                            </a:lnTo>
                            <a:lnTo>
                              <a:pt x="103" y="11"/>
                            </a:lnTo>
                            <a:lnTo>
                              <a:pt x="114" y="6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840" bIns="-6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4" name=""/>
                      <p:cNvSpPr/>
                      <p:nvPr/>
                    </p:nvSpPr>
                    <p:spPr>
                      <a:xfrm>
                        <a:off x="5642280" y="1264320"/>
                        <a:ext cx="47520" cy="66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84">
                            <a:moveTo>
                              <a:pt x="0" y="84"/>
                            </a:moveTo>
                            <a:lnTo>
                              <a:pt x="19" y="58"/>
                            </a:lnTo>
                            <a:lnTo>
                              <a:pt x="36" y="49"/>
                            </a:lnTo>
                            <a:lnTo>
                              <a:pt x="49" y="43"/>
                            </a:lnTo>
                            <a:lnTo>
                              <a:pt x="59" y="33"/>
                            </a:lnTo>
                            <a:lnTo>
                              <a:pt x="67" y="24"/>
                            </a:lnTo>
                            <a:lnTo>
                              <a:pt x="75" y="17"/>
                            </a:lnTo>
                            <a:lnTo>
                              <a:pt x="73" y="17"/>
                            </a:lnTo>
                            <a:lnTo>
                              <a:pt x="77" y="8"/>
                            </a:lnTo>
                            <a:lnTo>
                              <a:pt x="75" y="3"/>
                            </a:lnTo>
                            <a:lnTo>
                              <a:pt x="70" y="0"/>
                            </a:lnTo>
                            <a:lnTo>
                              <a:pt x="68" y="0"/>
                            </a:lnTo>
                            <a:lnTo>
                              <a:pt x="59" y="2"/>
                            </a:lnTo>
                            <a:lnTo>
                              <a:pt x="55" y="10"/>
                            </a:lnTo>
                            <a:lnTo>
                              <a:pt x="50" y="17"/>
                            </a:lnTo>
                            <a:lnTo>
                              <a:pt x="42" y="23"/>
                            </a:lnTo>
                            <a:lnTo>
                              <a:pt x="29" y="33"/>
                            </a:lnTo>
                            <a:lnTo>
                              <a:pt x="22" y="47"/>
                            </a:lnTo>
                            <a:lnTo>
                              <a:pt x="14" y="61"/>
                            </a:lnTo>
                            <a:lnTo>
                              <a:pt x="8" y="70"/>
                            </a:lnTo>
                            <a:lnTo>
                              <a:pt x="0" y="84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9440" bIns="19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25" name=""/>
                    <p:cNvGrpSpPr/>
                    <p:nvPr/>
                  </p:nvGrpSpPr>
                  <p:grpSpPr>
                    <a:xfrm>
                      <a:off x="5451480" y="1134720"/>
                      <a:ext cx="261360" cy="273240"/>
                      <a:chOff x="5451480" y="1134720"/>
                      <a:chExt cx="261360" cy="273240"/>
                    </a:xfrm>
                  </p:grpSpPr>
                  <p:grpSp>
                    <p:nvGrpSpPr>
                      <p:cNvPr id="1826" name=""/>
                      <p:cNvGrpSpPr/>
                      <p:nvPr/>
                    </p:nvGrpSpPr>
                    <p:grpSpPr>
                      <a:xfrm>
                        <a:off x="5451480" y="1134720"/>
                        <a:ext cx="261360" cy="273240"/>
                        <a:chOff x="5451480" y="1134720"/>
                        <a:chExt cx="261360" cy="273240"/>
                      </a:xfrm>
                    </p:grpSpPr>
                    <p:sp>
                      <p:nvSpPr>
                        <p:cNvPr id="1827" name=""/>
                        <p:cNvSpPr/>
                        <p:nvPr/>
                      </p:nvSpPr>
                      <p:spPr>
                        <a:xfrm>
                          <a:off x="5451480" y="1134720"/>
                          <a:ext cx="261360" cy="273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3" h="349">
                              <a:moveTo>
                                <a:pt x="23" y="295"/>
                              </a:moveTo>
                              <a:lnTo>
                                <a:pt x="41" y="312"/>
                              </a:lnTo>
                              <a:lnTo>
                                <a:pt x="56" y="330"/>
                              </a:lnTo>
                              <a:lnTo>
                                <a:pt x="76" y="341"/>
                              </a:lnTo>
                              <a:lnTo>
                                <a:pt x="85" y="349"/>
                              </a:lnTo>
                              <a:lnTo>
                                <a:pt x="88" y="316"/>
                              </a:lnTo>
                              <a:lnTo>
                                <a:pt x="96" y="285"/>
                              </a:lnTo>
                              <a:lnTo>
                                <a:pt x="102" y="260"/>
                              </a:lnTo>
                              <a:lnTo>
                                <a:pt x="105" y="238"/>
                              </a:lnTo>
                              <a:lnTo>
                                <a:pt x="103" y="211"/>
                              </a:lnTo>
                              <a:lnTo>
                                <a:pt x="95" y="194"/>
                              </a:lnTo>
                              <a:lnTo>
                                <a:pt x="85" y="186"/>
                              </a:lnTo>
                              <a:lnTo>
                                <a:pt x="110" y="189"/>
                              </a:lnTo>
                              <a:lnTo>
                                <a:pt x="142" y="182"/>
                              </a:lnTo>
                              <a:lnTo>
                                <a:pt x="161" y="173"/>
                              </a:lnTo>
                              <a:lnTo>
                                <a:pt x="183" y="164"/>
                              </a:lnTo>
                              <a:lnTo>
                                <a:pt x="208" y="155"/>
                              </a:lnTo>
                              <a:lnTo>
                                <a:pt x="230" y="147"/>
                              </a:lnTo>
                              <a:lnTo>
                                <a:pt x="245" y="136"/>
                              </a:lnTo>
                              <a:lnTo>
                                <a:pt x="269" y="116"/>
                              </a:lnTo>
                              <a:lnTo>
                                <a:pt x="269" y="115"/>
                              </a:lnTo>
                              <a:lnTo>
                                <a:pt x="280" y="94"/>
                              </a:lnTo>
                              <a:lnTo>
                                <a:pt x="289" y="76"/>
                              </a:lnTo>
                              <a:lnTo>
                                <a:pt x="309" y="81"/>
                              </a:lnTo>
                              <a:lnTo>
                                <a:pt x="333" y="94"/>
                              </a:lnTo>
                              <a:lnTo>
                                <a:pt x="356" y="109"/>
                              </a:lnTo>
                              <a:lnTo>
                                <a:pt x="373" y="127"/>
                              </a:lnTo>
                              <a:lnTo>
                                <a:pt x="385" y="148"/>
                              </a:lnTo>
                              <a:lnTo>
                                <a:pt x="395" y="168"/>
                              </a:lnTo>
                              <a:lnTo>
                                <a:pt x="400" y="189"/>
                              </a:lnTo>
                              <a:lnTo>
                                <a:pt x="413" y="207"/>
                              </a:lnTo>
                              <a:lnTo>
                                <a:pt x="410" y="171"/>
                              </a:lnTo>
                              <a:lnTo>
                                <a:pt x="403" y="150"/>
                              </a:lnTo>
                              <a:lnTo>
                                <a:pt x="393" y="127"/>
                              </a:lnTo>
                              <a:lnTo>
                                <a:pt x="388" y="101"/>
                              </a:lnTo>
                              <a:lnTo>
                                <a:pt x="367" y="76"/>
                              </a:lnTo>
                              <a:lnTo>
                                <a:pt x="338" y="45"/>
                              </a:lnTo>
                              <a:lnTo>
                                <a:pt x="320" y="27"/>
                              </a:lnTo>
                              <a:lnTo>
                                <a:pt x="305" y="14"/>
                              </a:lnTo>
                              <a:lnTo>
                                <a:pt x="289" y="7"/>
                              </a:lnTo>
                              <a:lnTo>
                                <a:pt x="275" y="2"/>
                              </a:lnTo>
                              <a:lnTo>
                                <a:pt x="253" y="2"/>
                              </a:lnTo>
                              <a:lnTo>
                                <a:pt x="244" y="2"/>
                              </a:lnTo>
                              <a:lnTo>
                                <a:pt x="216" y="0"/>
                              </a:lnTo>
                              <a:lnTo>
                                <a:pt x="179" y="0"/>
                              </a:lnTo>
                              <a:lnTo>
                                <a:pt x="143" y="9"/>
                              </a:lnTo>
                              <a:lnTo>
                                <a:pt x="114" y="20"/>
                              </a:lnTo>
                              <a:lnTo>
                                <a:pt x="87" y="28"/>
                              </a:lnTo>
                              <a:lnTo>
                                <a:pt x="67" y="38"/>
                              </a:lnTo>
                              <a:lnTo>
                                <a:pt x="52" y="48"/>
                              </a:lnTo>
                              <a:lnTo>
                                <a:pt x="40" y="59"/>
                              </a:lnTo>
                              <a:lnTo>
                                <a:pt x="26" y="73"/>
                              </a:lnTo>
                              <a:lnTo>
                                <a:pt x="14" y="90"/>
                              </a:lnTo>
                              <a:lnTo>
                                <a:pt x="4" y="105"/>
                              </a:lnTo>
                              <a:lnTo>
                                <a:pt x="0" y="123"/>
                              </a:lnTo>
                              <a:lnTo>
                                <a:pt x="0" y="150"/>
                              </a:lnTo>
                              <a:lnTo>
                                <a:pt x="0" y="175"/>
                              </a:lnTo>
                              <a:lnTo>
                                <a:pt x="3" y="200"/>
                              </a:lnTo>
                              <a:lnTo>
                                <a:pt x="3" y="229"/>
                              </a:lnTo>
                              <a:lnTo>
                                <a:pt x="4" y="252"/>
                              </a:lnTo>
                              <a:lnTo>
                                <a:pt x="11" y="268"/>
                              </a:lnTo>
                              <a:lnTo>
                                <a:pt x="23" y="29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8" name=""/>
                        <p:cNvSpPr/>
                        <p:nvPr/>
                      </p:nvSpPr>
                      <p:spPr>
                        <a:xfrm>
                          <a:off x="5462640" y="1138680"/>
                          <a:ext cx="160560" cy="245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53" h="310">
                              <a:moveTo>
                                <a:pt x="157" y="10"/>
                              </a:moveTo>
                              <a:lnTo>
                                <a:pt x="171" y="3"/>
                              </a:lnTo>
                              <a:lnTo>
                                <a:pt x="186" y="0"/>
                              </a:lnTo>
                              <a:lnTo>
                                <a:pt x="199" y="0"/>
                              </a:lnTo>
                              <a:lnTo>
                                <a:pt x="219" y="4"/>
                              </a:lnTo>
                              <a:lnTo>
                                <a:pt x="229" y="7"/>
                              </a:lnTo>
                              <a:lnTo>
                                <a:pt x="237" y="18"/>
                              </a:lnTo>
                              <a:lnTo>
                                <a:pt x="246" y="33"/>
                              </a:lnTo>
                              <a:lnTo>
                                <a:pt x="253" y="44"/>
                              </a:lnTo>
                              <a:lnTo>
                                <a:pt x="253" y="55"/>
                              </a:lnTo>
                              <a:lnTo>
                                <a:pt x="252" y="68"/>
                              </a:lnTo>
                              <a:lnTo>
                                <a:pt x="241" y="85"/>
                              </a:lnTo>
                              <a:lnTo>
                                <a:pt x="231" y="99"/>
                              </a:lnTo>
                              <a:lnTo>
                                <a:pt x="219" y="111"/>
                              </a:lnTo>
                              <a:lnTo>
                                <a:pt x="204" y="121"/>
                              </a:lnTo>
                              <a:lnTo>
                                <a:pt x="193" y="129"/>
                              </a:lnTo>
                              <a:lnTo>
                                <a:pt x="175" y="134"/>
                              </a:lnTo>
                              <a:lnTo>
                                <a:pt x="157" y="141"/>
                              </a:lnTo>
                              <a:lnTo>
                                <a:pt x="141" y="147"/>
                              </a:lnTo>
                              <a:lnTo>
                                <a:pt x="128" y="152"/>
                              </a:lnTo>
                              <a:lnTo>
                                <a:pt x="117" y="152"/>
                              </a:lnTo>
                              <a:lnTo>
                                <a:pt x="109" y="155"/>
                              </a:lnTo>
                              <a:lnTo>
                                <a:pt x="106" y="159"/>
                              </a:lnTo>
                              <a:lnTo>
                                <a:pt x="123" y="159"/>
                              </a:lnTo>
                              <a:lnTo>
                                <a:pt x="112" y="165"/>
                              </a:lnTo>
                              <a:lnTo>
                                <a:pt x="97" y="169"/>
                              </a:lnTo>
                              <a:lnTo>
                                <a:pt x="77" y="169"/>
                              </a:lnTo>
                              <a:lnTo>
                                <a:pt x="62" y="169"/>
                              </a:lnTo>
                              <a:lnTo>
                                <a:pt x="57" y="173"/>
                              </a:lnTo>
                              <a:lnTo>
                                <a:pt x="66" y="193"/>
                              </a:lnTo>
                              <a:lnTo>
                                <a:pt x="70" y="214"/>
                              </a:lnTo>
                              <a:lnTo>
                                <a:pt x="70" y="233"/>
                              </a:lnTo>
                              <a:lnTo>
                                <a:pt x="70" y="253"/>
                              </a:lnTo>
                              <a:lnTo>
                                <a:pt x="74" y="267"/>
                              </a:lnTo>
                              <a:lnTo>
                                <a:pt x="69" y="286"/>
                              </a:lnTo>
                              <a:lnTo>
                                <a:pt x="62" y="308"/>
                              </a:lnTo>
                              <a:lnTo>
                                <a:pt x="55" y="310"/>
                              </a:lnTo>
                              <a:lnTo>
                                <a:pt x="49" y="302"/>
                              </a:lnTo>
                              <a:lnTo>
                                <a:pt x="28" y="281"/>
                              </a:lnTo>
                              <a:lnTo>
                                <a:pt x="7" y="269"/>
                              </a:lnTo>
                              <a:lnTo>
                                <a:pt x="30" y="269"/>
                              </a:lnTo>
                              <a:lnTo>
                                <a:pt x="21" y="246"/>
                              </a:lnTo>
                              <a:lnTo>
                                <a:pt x="8" y="235"/>
                              </a:lnTo>
                              <a:lnTo>
                                <a:pt x="18" y="217"/>
                              </a:lnTo>
                              <a:lnTo>
                                <a:pt x="12" y="212"/>
                              </a:lnTo>
                              <a:lnTo>
                                <a:pt x="22" y="214"/>
                              </a:lnTo>
                              <a:lnTo>
                                <a:pt x="11" y="193"/>
                              </a:lnTo>
                              <a:lnTo>
                                <a:pt x="24" y="194"/>
                              </a:lnTo>
                              <a:lnTo>
                                <a:pt x="2" y="167"/>
                              </a:lnTo>
                              <a:lnTo>
                                <a:pt x="0" y="143"/>
                              </a:lnTo>
                              <a:lnTo>
                                <a:pt x="11" y="152"/>
                              </a:lnTo>
                              <a:lnTo>
                                <a:pt x="3" y="135"/>
                              </a:lnTo>
                              <a:lnTo>
                                <a:pt x="29" y="138"/>
                              </a:lnTo>
                              <a:lnTo>
                                <a:pt x="39" y="133"/>
                              </a:lnTo>
                              <a:lnTo>
                                <a:pt x="28" y="120"/>
                              </a:lnTo>
                              <a:lnTo>
                                <a:pt x="46" y="118"/>
                              </a:lnTo>
                              <a:lnTo>
                                <a:pt x="29" y="108"/>
                              </a:lnTo>
                              <a:lnTo>
                                <a:pt x="14" y="98"/>
                              </a:lnTo>
                              <a:lnTo>
                                <a:pt x="44" y="106"/>
                              </a:lnTo>
                              <a:lnTo>
                                <a:pt x="63" y="111"/>
                              </a:lnTo>
                              <a:lnTo>
                                <a:pt x="80" y="112"/>
                              </a:lnTo>
                              <a:lnTo>
                                <a:pt x="102" y="114"/>
                              </a:lnTo>
                              <a:lnTo>
                                <a:pt x="123" y="113"/>
                              </a:lnTo>
                              <a:lnTo>
                                <a:pt x="130" y="109"/>
                              </a:lnTo>
                              <a:lnTo>
                                <a:pt x="124" y="101"/>
                              </a:lnTo>
                              <a:lnTo>
                                <a:pt x="148" y="98"/>
                              </a:lnTo>
                              <a:lnTo>
                                <a:pt x="128" y="94"/>
                              </a:lnTo>
                              <a:lnTo>
                                <a:pt x="108" y="92"/>
                              </a:lnTo>
                              <a:lnTo>
                                <a:pt x="86" y="92"/>
                              </a:lnTo>
                              <a:lnTo>
                                <a:pt x="64" y="92"/>
                              </a:lnTo>
                              <a:lnTo>
                                <a:pt x="80" y="80"/>
                              </a:lnTo>
                              <a:lnTo>
                                <a:pt x="61" y="85"/>
                              </a:lnTo>
                              <a:lnTo>
                                <a:pt x="44" y="82"/>
                              </a:lnTo>
                              <a:lnTo>
                                <a:pt x="29" y="80"/>
                              </a:lnTo>
                              <a:lnTo>
                                <a:pt x="21" y="79"/>
                              </a:lnTo>
                              <a:lnTo>
                                <a:pt x="40" y="74"/>
                              </a:lnTo>
                              <a:lnTo>
                                <a:pt x="55" y="71"/>
                              </a:lnTo>
                              <a:lnTo>
                                <a:pt x="66" y="66"/>
                              </a:lnTo>
                              <a:lnTo>
                                <a:pt x="72" y="64"/>
                              </a:lnTo>
                              <a:lnTo>
                                <a:pt x="58" y="64"/>
                              </a:lnTo>
                              <a:lnTo>
                                <a:pt x="83" y="52"/>
                              </a:lnTo>
                              <a:lnTo>
                                <a:pt x="69" y="48"/>
                              </a:lnTo>
                              <a:lnTo>
                                <a:pt x="58" y="48"/>
                              </a:lnTo>
                              <a:lnTo>
                                <a:pt x="80" y="45"/>
                              </a:lnTo>
                              <a:lnTo>
                                <a:pt x="106" y="47"/>
                              </a:lnTo>
                              <a:lnTo>
                                <a:pt x="118" y="52"/>
                              </a:lnTo>
                              <a:lnTo>
                                <a:pt x="133" y="53"/>
                              </a:lnTo>
                              <a:lnTo>
                                <a:pt x="146" y="53"/>
                              </a:lnTo>
                              <a:lnTo>
                                <a:pt x="161" y="52"/>
                              </a:lnTo>
                              <a:lnTo>
                                <a:pt x="170" y="47"/>
                              </a:lnTo>
                              <a:lnTo>
                                <a:pt x="180" y="43"/>
                              </a:lnTo>
                              <a:lnTo>
                                <a:pt x="186" y="39"/>
                              </a:lnTo>
                              <a:lnTo>
                                <a:pt x="171" y="39"/>
                              </a:lnTo>
                              <a:lnTo>
                                <a:pt x="154" y="37"/>
                              </a:lnTo>
                              <a:lnTo>
                                <a:pt x="131" y="35"/>
                              </a:lnTo>
                              <a:lnTo>
                                <a:pt x="163" y="32"/>
                              </a:lnTo>
                              <a:lnTo>
                                <a:pt x="180" y="28"/>
                              </a:lnTo>
                              <a:lnTo>
                                <a:pt x="192" y="26"/>
                              </a:lnTo>
                              <a:lnTo>
                                <a:pt x="201" y="20"/>
                              </a:lnTo>
                              <a:lnTo>
                                <a:pt x="186" y="21"/>
                              </a:lnTo>
                              <a:lnTo>
                                <a:pt x="193" y="12"/>
                              </a:lnTo>
                              <a:lnTo>
                                <a:pt x="201" y="10"/>
                              </a:lnTo>
                              <a:lnTo>
                                <a:pt x="182" y="10"/>
                              </a:lnTo>
                              <a:lnTo>
                                <a:pt x="168" y="11"/>
                              </a:lnTo>
                              <a:lnTo>
                                <a:pt x="157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f3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829" name=""/>
                      <p:cNvSpPr/>
                      <p:nvPr/>
                    </p:nvSpPr>
                    <p:spPr>
                      <a:xfrm>
                        <a:off x="5625360" y="1138680"/>
                        <a:ext cx="45720" cy="6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80">
                            <a:moveTo>
                              <a:pt x="0" y="0"/>
                            </a:moveTo>
                            <a:lnTo>
                              <a:pt x="14" y="16"/>
                            </a:lnTo>
                            <a:lnTo>
                              <a:pt x="23" y="22"/>
                            </a:lnTo>
                            <a:lnTo>
                              <a:pt x="33" y="30"/>
                            </a:lnTo>
                            <a:lnTo>
                              <a:pt x="44" y="35"/>
                            </a:lnTo>
                            <a:lnTo>
                              <a:pt x="57" y="41"/>
                            </a:lnTo>
                            <a:lnTo>
                              <a:pt x="40" y="37"/>
                            </a:lnTo>
                            <a:lnTo>
                              <a:pt x="28" y="34"/>
                            </a:lnTo>
                            <a:lnTo>
                              <a:pt x="23" y="36"/>
                            </a:lnTo>
                            <a:lnTo>
                              <a:pt x="31" y="47"/>
                            </a:lnTo>
                            <a:lnTo>
                              <a:pt x="37" y="59"/>
                            </a:lnTo>
                            <a:lnTo>
                              <a:pt x="52" y="67"/>
                            </a:lnTo>
                            <a:lnTo>
                              <a:pt x="70" y="80"/>
                            </a:lnTo>
                            <a:lnTo>
                              <a:pt x="46" y="68"/>
                            </a:lnTo>
                            <a:lnTo>
                              <a:pt x="33" y="61"/>
                            </a:lnTo>
                            <a:lnTo>
                              <a:pt x="19" y="56"/>
                            </a:lnTo>
                            <a:lnTo>
                              <a:pt x="11" y="46"/>
                            </a:lnTo>
                            <a:lnTo>
                              <a:pt x="11" y="32"/>
                            </a:lnTo>
                            <a:lnTo>
                              <a:pt x="3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3f3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760" bIns="14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1830" name=""/>
              <p:cNvSpPr/>
              <p:nvPr/>
            </p:nvSpPr>
            <p:spPr>
              <a:xfrm>
                <a:off x="4191120" y="2072880"/>
                <a:ext cx="2860560" cy="604800"/>
              </a:xfrm>
              <a:custGeom>
                <a:avLst/>
                <a:gdLst/>
                <a:ahLst/>
                <a:rect l="l" t="t" r="r" b="b"/>
                <a:pathLst>
                  <a:path w="4462" h="766">
                    <a:moveTo>
                      <a:pt x="565" y="0"/>
                    </a:moveTo>
                    <a:lnTo>
                      <a:pt x="0" y="766"/>
                    </a:lnTo>
                    <a:lnTo>
                      <a:pt x="4462" y="766"/>
                    </a:lnTo>
                    <a:lnTo>
                      <a:pt x="4059" y="0"/>
                    </a:lnTo>
                    <a:lnTo>
                      <a:pt x="56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1" name=""/>
              <p:cNvGrpSpPr/>
              <p:nvPr/>
            </p:nvGrpSpPr>
            <p:grpSpPr>
              <a:xfrm>
                <a:off x="5195880" y="1925280"/>
                <a:ext cx="137520" cy="171000"/>
                <a:chOff x="5195880" y="1925280"/>
                <a:chExt cx="137520" cy="171000"/>
              </a:xfrm>
            </p:grpSpPr>
            <p:sp>
              <p:nvSpPr>
                <p:cNvPr id="1832" name=""/>
                <p:cNvSpPr/>
                <p:nvPr/>
              </p:nvSpPr>
              <p:spPr>
                <a:xfrm>
                  <a:off x="5195880" y="1925280"/>
                  <a:ext cx="135720" cy="171000"/>
                </a:xfrm>
                <a:custGeom>
                  <a:avLst/>
                  <a:gdLst/>
                  <a:ahLst/>
                  <a:rect l="l" t="t" r="r" b="b"/>
                  <a:pathLst>
                    <a:path w="214" h="214">
                      <a:moveTo>
                        <a:pt x="35" y="33"/>
                      </a:moveTo>
                      <a:lnTo>
                        <a:pt x="66" y="5"/>
                      </a:lnTo>
                      <a:lnTo>
                        <a:pt x="85" y="0"/>
                      </a:lnTo>
                      <a:lnTo>
                        <a:pt x="122" y="5"/>
                      </a:lnTo>
                      <a:lnTo>
                        <a:pt x="161" y="11"/>
                      </a:lnTo>
                      <a:lnTo>
                        <a:pt x="187" y="16"/>
                      </a:lnTo>
                      <a:lnTo>
                        <a:pt x="195" y="22"/>
                      </a:lnTo>
                      <a:lnTo>
                        <a:pt x="200" y="35"/>
                      </a:lnTo>
                      <a:lnTo>
                        <a:pt x="202" y="43"/>
                      </a:lnTo>
                      <a:lnTo>
                        <a:pt x="195" y="52"/>
                      </a:lnTo>
                      <a:lnTo>
                        <a:pt x="203" y="60"/>
                      </a:lnTo>
                      <a:lnTo>
                        <a:pt x="206" y="72"/>
                      </a:lnTo>
                      <a:lnTo>
                        <a:pt x="204" y="79"/>
                      </a:lnTo>
                      <a:lnTo>
                        <a:pt x="210" y="87"/>
                      </a:lnTo>
                      <a:lnTo>
                        <a:pt x="213" y="96"/>
                      </a:lnTo>
                      <a:lnTo>
                        <a:pt x="211" y="107"/>
                      </a:lnTo>
                      <a:lnTo>
                        <a:pt x="204" y="119"/>
                      </a:lnTo>
                      <a:lnTo>
                        <a:pt x="210" y="130"/>
                      </a:lnTo>
                      <a:lnTo>
                        <a:pt x="214" y="144"/>
                      </a:lnTo>
                      <a:lnTo>
                        <a:pt x="209" y="159"/>
                      </a:lnTo>
                      <a:lnTo>
                        <a:pt x="200" y="166"/>
                      </a:lnTo>
                      <a:lnTo>
                        <a:pt x="200" y="189"/>
                      </a:lnTo>
                      <a:lnTo>
                        <a:pt x="192" y="202"/>
                      </a:lnTo>
                      <a:lnTo>
                        <a:pt x="174" y="208"/>
                      </a:lnTo>
                      <a:lnTo>
                        <a:pt x="94" y="214"/>
                      </a:lnTo>
                      <a:lnTo>
                        <a:pt x="56" y="200"/>
                      </a:lnTo>
                      <a:lnTo>
                        <a:pt x="8" y="148"/>
                      </a:lnTo>
                      <a:lnTo>
                        <a:pt x="1" y="126"/>
                      </a:lnTo>
                      <a:lnTo>
                        <a:pt x="0" y="108"/>
                      </a:lnTo>
                      <a:lnTo>
                        <a:pt x="2" y="92"/>
                      </a:lnTo>
                      <a:lnTo>
                        <a:pt x="9" y="66"/>
                      </a:lnTo>
                      <a:lnTo>
                        <a:pt x="18" y="53"/>
                      </a:lnTo>
                      <a:lnTo>
                        <a:pt x="35" y="33"/>
                      </a:lnTo>
                      <a:close/>
                    </a:path>
                  </a:pathLst>
                </a:custGeom>
                <a:solidFill>
                  <a:srgbClr val="f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3" name=""/>
                <p:cNvGrpSpPr/>
                <p:nvPr/>
              </p:nvGrpSpPr>
              <p:grpSpPr>
                <a:xfrm>
                  <a:off x="5230440" y="1946520"/>
                  <a:ext cx="102960" cy="149040"/>
                  <a:chOff x="5230440" y="1946520"/>
                  <a:chExt cx="102960" cy="149040"/>
                </a:xfrm>
              </p:grpSpPr>
              <p:sp>
                <p:nvSpPr>
                  <p:cNvPr id="1834" name=""/>
                  <p:cNvSpPr/>
                  <p:nvPr/>
                </p:nvSpPr>
                <p:spPr>
                  <a:xfrm>
                    <a:off x="5230440" y="1981800"/>
                    <a:ext cx="10296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144">
                        <a:moveTo>
                          <a:pt x="48" y="20"/>
                        </a:moveTo>
                        <a:lnTo>
                          <a:pt x="67" y="22"/>
                        </a:lnTo>
                        <a:lnTo>
                          <a:pt x="79" y="22"/>
                        </a:lnTo>
                        <a:lnTo>
                          <a:pt x="78" y="0"/>
                        </a:lnTo>
                        <a:lnTo>
                          <a:pt x="86" y="12"/>
                        </a:lnTo>
                        <a:lnTo>
                          <a:pt x="93" y="18"/>
                        </a:lnTo>
                        <a:lnTo>
                          <a:pt x="101" y="20"/>
                        </a:lnTo>
                        <a:lnTo>
                          <a:pt x="118" y="18"/>
                        </a:lnTo>
                        <a:lnTo>
                          <a:pt x="130" y="13"/>
                        </a:lnTo>
                        <a:lnTo>
                          <a:pt x="141" y="9"/>
                        </a:lnTo>
                        <a:lnTo>
                          <a:pt x="151" y="6"/>
                        </a:lnTo>
                        <a:lnTo>
                          <a:pt x="155" y="2"/>
                        </a:lnTo>
                        <a:lnTo>
                          <a:pt x="152" y="9"/>
                        </a:lnTo>
                        <a:lnTo>
                          <a:pt x="158" y="17"/>
                        </a:lnTo>
                        <a:lnTo>
                          <a:pt x="161" y="26"/>
                        </a:lnTo>
                        <a:lnTo>
                          <a:pt x="160" y="37"/>
                        </a:lnTo>
                        <a:lnTo>
                          <a:pt x="152" y="49"/>
                        </a:lnTo>
                        <a:lnTo>
                          <a:pt x="158" y="60"/>
                        </a:lnTo>
                        <a:lnTo>
                          <a:pt x="162" y="74"/>
                        </a:lnTo>
                        <a:lnTo>
                          <a:pt x="157" y="89"/>
                        </a:lnTo>
                        <a:lnTo>
                          <a:pt x="149" y="96"/>
                        </a:lnTo>
                        <a:lnTo>
                          <a:pt x="149" y="119"/>
                        </a:lnTo>
                        <a:lnTo>
                          <a:pt x="140" y="132"/>
                        </a:lnTo>
                        <a:lnTo>
                          <a:pt x="122" y="138"/>
                        </a:lnTo>
                        <a:lnTo>
                          <a:pt x="43" y="144"/>
                        </a:lnTo>
                        <a:lnTo>
                          <a:pt x="4" y="130"/>
                        </a:lnTo>
                        <a:lnTo>
                          <a:pt x="27" y="137"/>
                        </a:lnTo>
                        <a:lnTo>
                          <a:pt x="48" y="140"/>
                        </a:lnTo>
                        <a:lnTo>
                          <a:pt x="63" y="139"/>
                        </a:lnTo>
                        <a:lnTo>
                          <a:pt x="76" y="136"/>
                        </a:lnTo>
                        <a:lnTo>
                          <a:pt x="80" y="124"/>
                        </a:lnTo>
                        <a:lnTo>
                          <a:pt x="80" y="139"/>
                        </a:lnTo>
                        <a:lnTo>
                          <a:pt x="99" y="137"/>
                        </a:lnTo>
                        <a:lnTo>
                          <a:pt x="123" y="136"/>
                        </a:lnTo>
                        <a:lnTo>
                          <a:pt x="135" y="130"/>
                        </a:lnTo>
                        <a:lnTo>
                          <a:pt x="140" y="120"/>
                        </a:lnTo>
                        <a:lnTo>
                          <a:pt x="145" y="109"/>
                        </a:lnTo>
                        <a:lnTo>
                          <a:pt x="146" y="100"/>
                        </a:lnTo>
                        <a:lnTo>
                          <a:pt x="133" y="103"/>
                        </a:lnTo>
                        <a:lnTo>
                          <a:pt x="118" y="106"/>
                        </a:lnTo>
                        <a:lnTo>
                          <a:pt x="101" y="107"/>
                        </a:lnTo>
                        <a:lnTo>
                          <a:pt x="83" y="109"/>
                        </a:lnTo>
                        <a:lnTo>
                          <a:pt x="69" y="107"/>
                        </a:lnTo>
                        <a:lnTo>
                          <a:pt x="55" y="106"/>
                        </a:lnTo>
                        <a:lnTo>
                          <a:pt x="39" y="101"/>
                        </a:lnTo>
                        <a:lnTo>
                          <a:pt x="21" y="96"/>
                        </a:lnTo>
                        <a:lnTo>
                          <a:pt x="10" y="86"/>
                        </a:lnTo>
                        <a:lnTo>
                          <a:pt x="26" y="94"/>
                        </a:lnTo>
                        <a:lnTo>
                          <a:pt x="37" y="96"/>
                        </a:lnTo>
                        <a:lnTo>
                          <a:pt x="51" y="98"/>
                        </a:lnTo>
                        <a:lnTo>
                          <a:pt x="66" y="100"/>
                        </a:lnTo>
                        <a:lnTo>
                          <a:pt x="83" y="101"/>
                        </a:lnTo>
                        <a:lnTo>
                          <a:pt x="95" y="97"/>
                        </a:lnTo>
                        <a:lnTo>
                          <a:pt x="106" y="91"/>
                        </a:lnTo>
                        <a:lnTo>
                          <a:pt x="108" y="100"/>
                        </a:lnTo>
                        <a:lnTo>
                          <a:pt x="116" y="99"/>
                        </a:lnTo>
                        <a:lnTo>
                          <a:pt x="129" y="98"/>
                        </a:lnTo>
                        <a:lnTo>
                          <a:pt x="140" y="97"/>
                        </a:lnTo>
                        <a:lnTo>
                          <a:pt x="145" y="93"/>
                        </a:lnTo>
                        <a:lnTo>
                          <a:pt x="149" y="87"/>
                        </a:lnTo>
                        <a:lnTo>
                          <a:pt x="152" y="81"/>
                        </a:lnTo>
                        <a:lnTo>
                          <a:pt x="155" y="74"/>
                        </a:lnTo>
                        <a:lnTo>
                          <a:pt x="153" y="67"/>
                        </a:lnTo>
                        <a:lnTo>
                          <a:pt x="151" y="62"/>
                        </a:lnTo>
                        <a:lnTo>
                          <a:pt x="144" y="62"/>
                        </a:lnTo>
                        <a:lnTo>
                          <a:pt x="128" y="65"/>
                        </a:lnTo>
                        <a:lnTo>
                          <a:pt x="113" y="70"/>
                        </a:lnTo>
                        <a:lnTo>
                          <a:pt x="97" y="72"/>
                        </a:lnTo>
                        <a:lnTo>
                          <a:pt x="80" y="73"/>
                        </a:lnTo>
                        <a:lnTo>
                          <a:pt x="65" y="74"/>
                        </a:lnTo>
                        <a:lnTo>
                          <a:pt x="45" y="74"/>
                        </a:lnTo>
                        <a:lnTo>
                          <a:pt x="28" y="70"/>
                        </a:lnTo>
                        <a:lnTo>
                          <a:pt x="15" y="65"/>
                        </a:lnTo>
                        <a:lnTo>
                          <a:pt x="0" y="54"/>
                        </a:lnTo>
                        <a:lnTo>
                          <a:pt x="24" y="63"/>
                        </a:lnTo>
                        <a:lnTo>
                          <a:pt x="37" y="66"/>
                        </a:lnTo>
                        <a:lnTo>
                          <a:pt x="51" y="70"/>
                        </a:lnTo>
                        <a:lnTo>
                          <a:pt x="66" y="69"/>
                        </a:lnTo>
                        <a:lnTo>
                          <a:pt x="77" y="67"/>
                        </a:lnTo>
                        <a:lnTo>
                          <a:pt x="88" y="64"/>
                        </a:lnTo>
                        <a:lnTo>
                          <a:pt x="96" y="56"/>
                        </a:lnTo>
                        <a:lnTo>
                          <a:pt x="106" y="50"/>
                        </a:lnTo>
                        <a:lnTo>
                          <a:pt x="100" y="59"/>
                        </a:lnTo>
                        <a:lnTo>
                          <a:pt x="105" y="64"/>
                        </a:lnTo>
                        <a:lnTo>
                          <a:pt x="110" y="63"/>
                        </a:lnTo>
                        <a:lnTo>
                          <a:pt x="123" y="60"/>
                        </a:lnTo>
                        <a:lnTo>
                          <a:pt x="135" y="57"/>
                        </a:lnTo>
                        <a:lnTo>
                          <a:pt x="146" y="49"/>
                        </a:lnTo>
                        <a:lnTo>
                          <a:pt x="155" y="40"/>
                        </a:lnTo>
                        <a:lnTo>
                          <a:pt x="156" y="32"/>
                        </a:lnTo>
                        <a:lnTo>
                          <a:pt x="155" y="23"/>
                        </a:lnTo>
                        <a:lnTo>
                          <a:pt x="153" y="11"/>
                        </a:lnTo>
                        <a:lnTo>
                          <a:pt x="142" y="15"/>
                        </a:lnTo>
                        <a:lnTo>
                          <a:pt x="128" y="22"/>
                        </a:lnTo>
                        <a:lnTo>
                          <a:pt x="107" y="27"/>
                        </a:lnTo>
                        <a:lnTo>
                          <a:pt x="84" y="29"/>
                        </a:lnTo>
                        <a:lnTo>
                          <a:pt x="61" y="27"/>
                        </a:lnTo>
                        <a:lnTo>
                          <a:pt x="40" y="24"/>
                        </a:lnTo>
                        <a:lnTo>
                          <a:pt x="21" y="17"/>
                        </a:lnTo>
                        <a:lnTo>
                          <a:pt x="48" y="20"/>
                        </a:lnTo>
                        <a:close/>
                      </a:path>
                    </a:pathLst>
                  </a:custGeom>
                  <a:solidFill>
                    <a:srgbClr val="d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5" name=""/>
                  <p:cNvSpPr/>
                  <p:nvPr/>
                </p:nvSpPr>
                <p:spPr>
                  <a:xfrm>
                    <a:off x="5234040" y="1946520"/>
                    <a:ext cx="684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8">
                        <a:moveTo>
                          <a:pt x="108" y="0"/>
                        </a:moveTo>
                        <a:lnTo>
                          <a:pt x="98" y="7"/>
                        </a:lnTo>
                        <a:lnTo>
                          <a:pt x="89" y="16"/>
                        </a:lnTo>
                        <a:lnTo>
                          <a:pt x="78" y="14"/>
                        </a:lnTo>
                        <a:lnTo>
                          <a:pt x="67" y="8"/>
                        </a:lnTo>
                        <a:lnTo>
                          <a:pt x="56" y="8"/>
                        </a:lnTo>
                        <a:lnTo>
                          <a:pt x="38" y="13"/>
                        </a:lnTo>
                        <a:lnTo>
                          <a:pt x="25" y="18"/>
                        </a:lnTo>
                        <a:lnTo>
                          <a:pt x="34" y="11"/>
                        </a:lnTo>
                        <a:lnTo>
                          <a:pt x="16" y="8"/>
                        </a:lnTo>
                        <a:lnTo>
                          <a:pt x="0" y="6"/>
                        </a:lnTo>
                        <a:lnTo>
                          <a:pt x="21" y="5"/>
                        </a:lnTo>
                        <a:lnTo>
                          <a:pt x="38" y="7"/>
                        </a:lnTo>
                        <a:lnTo>
                          <a:pt x="51" y="7"/>
                        </a:lnTo>
                        <a:lnTo>
                          <a:pt x="61" y="5"/>
                        </a:lnTo>
                        <a:lnTo>
                          <a:pt x="71" y="5"/>
                        </a:lnTo>
                        <a:lnTo>
                          <a:pt x="78" y="8"/>
                        </a:lnTo>
                        <a:lnTo>
                          <a:pt x="89" y="12"/>
                        </a:lnTo>
                        <a:lnTo>
                          <a:pt x="108" y="0"/>
                        </a:lnTo>
                        <a:close/>
                      </a:path>
                    </a:pathLst>
                  </a:custGeom>
                  <a:solidFill>
                    <a:srgbClr val="d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36" name=""/>
              <p:cNvGrpSpPr/>
              <p:nvPr/>
            </p:nvGrpSpPr>
            <p:grpSpPr>
              <a:xfrm>
                <a:off x="5291280" y="2084040"/>
                <a:ext cx="915480" cy="361080"/>
                <a:chOff x="5291280" y="2084040"/>
                <a:chExt cx="915480" cy="361080"/>
              </a:xfrm>
            </p:grpSpPr>
            <p:sp>
              <p:nvSpPr>
                <p:cNvPr id="1837" name=""/>
                <p:cNvSpPr/>
                <p:nvPr/>
              </p:nvSpPr>
              <p:spPr>
                <a:xfrm>
                  <a:off x="5291280" y="2097720"/>
                  <a:ext cx="340560" cy="347400"/>
                </a:xfrm>
                <a:custGeom>
                  <a:avLst/>
                  <a:gdLst/>
                  <a:ahLst/>
                  <a:rect l="l" t="t" r="r" b="b"/>
                  <a:pathLst>
                    <a:path w="531" h="441">
                      <a:moveTo>
                        <a:pt x="113" y="0"/>
                      </a:moveTo>
                      <a:lnTo>
                        <a:pt x="0" y="396"/>
                      </a:lnTo>
                      <a:lnTo>
                        <a:pt x="427" y="441"/>
                      </a:lnTo>
                      <a:lnTo>
                        <a:pt x="531" y="32"/>
                      </a:lnTo>
                      <a:lnTo>
                        <a:pt x="113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5439600" y="2084040"/>
                  <a:ext cx="405720" cy="267120"/>
                </a:xfrm>
                <a:custGeom>
                  <a:avLst/>
                  <a:gdLst/>
                  <a:ahLst/>
                  <a:rect l="l" t="t" r="r" b="b"/>
                  <a:pathLst>
                    <a:path w="633" h="340">
                      <a:moveTo>
                        <a:pt x="0" y="74"/>
                      </a:moveTo>
                      <a:lnTo>
                        <a:pt x="197" y="340"/>
                      </a:lnTo>
                      <a:lnTo>
                        <a:pt x="633" y="212"/>
                      </a:lnTo>
                      <a:lnTo>
                        <a:pt x="418" y="0"/>
                      </a:lnTo>
                      <a:lnTo>
                        <a:pt x="0" y="74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5722200" y="2095560"/>
                  <a:ext cx="484560" cy="226800"/>
                </a:xfrm>
                <a:custGeom>
                  <a:avLst/>
                  <a:gdLst/>
                  <a:ahLst/>
                  <a:rect l="l" t="t" r="r" b="b"/>
                  <a:pathLst>
                    <a:path w="756" h="290">
                      <a:moveTo>
                        <a:pt x="0" y="32"/>
                      </a:moveTo>
                      <a:lnTo>
                        <a:pt x="526" y="0"/>
                      </a:lnTo>
                      <a:lnTo>
                        <a:pt x="756" y="206"/>
                      </a:lnTo>
                      <a:lnTo>
                        <a:pt x="149" y="290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0" name=""/>
              <p:cNvGrpSpPr/>
              <p:nvPr/>
            </p:nvGrpSpPr>
            <p:grpSpPr>
              <a:xfrm>
                <a:off x="5829480" y="990720"/>
                <a:ext cx="946800" cy="1143720"/>
                <a:chOff x="5829480" y="990720"/>
                <a:chExt cx="946800" cy="1143720"/>
              </a:xfrm>
            </p:grpSpPr>
            <p:grpSp>
              <p:nvGrpSpPr>
                <p:cNvPr id="1841" name=""/>
                <p:cNvGrpSpPr/>
                <p:nvPr/>
              </p:nvGrpSpPr>
              <p:grpSpPr>
                <a:xfrm>
                  <a:off x="5950800" y="990720"/>
                  <a:ext cx="825480" cy="1109880"/>
                  <a:chOff x="5950800" y="990720"/>
                  <a:chExt cx="825480" cy="1109880"/>
                </a:xfrm>
              </p:grpSpPr>
              <p:sp>
                <p:nvSpPr>
                  <p:cNvPr id="1842" name=""/>
                  <p:cNvSpPr/>
                  <p:nvPr/>
                </p:nvSpPr>
                <p:spPr>
                  <a:xfrm>
                    <a:off x="5950800" y="1404360"/>
                    <a:ext cx="825480" cy="69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86" h="882">
                        <a:moveTo>
                          <a:pt x="764" y="8"/>
                        </a:moveTo>
                        <a:lnTo>
                          <a:pt x="830" y="0"/>
                        </a:lnTo>
                        <a:lnTo>
                          <a:pt x="896" y="8"/>
                        </a:lnTo>
                        <a:lnTo>
                          <a:pt x="929" y="22"/>
                        </a:lnTo>
                        <a:lnTo>
                          <a:pt x="1005" y="79"/>
                        </a:lnTo>
                        <a:lnTo>
                          <a:pt x="1053" y="125"/>
                        </a:lnTo>
                        <a:lnTo>
                          <a:pt x="1104" y="191"/>
                        </a:lnTo>
                        <a:lnTo>
                          <a:pt x="1148" y="258"/>
                        </a:lnTo>
                        <a:lnTo>
                          <a:pt x="1181" y="311"/>
                        </a:lnTo>
                        <a:lnTo>
                          <a:pt x="1195" y="339"/>
                        </a:lnTo>
                        <a:lnTo>
                          <a:pt x="1217" y="424"/>
                        </a:lnTo>
                        <a:lnTo>
                          <a:pt x="1246" y="554"/>
                        </a:lnTo>
                        <a:lnTo>
                          <a:pt x="1265" y="646"/>
                        </a:lnTo>
                        <a:lnTo>
                          <a:pt x="1276" y="766"/>
                        </a:lnTo>
                        <a:lnTo>
                          <a:pt x="1286" y="864"/>
                        </a:lnTo>
                        <a:lnTo>
                          <a:pt x="1013" y="868"/>
                        </a:lnTo>
                        <a:lnTo>
                          <a:pt x="845" y="878"/>
                        </a:lnTo>
                        <a:lnTo>
                          <a:pt x="713" y="882"/>
                        </a:lnTo>
                        <a:lnTo>
                          <a:pt x="343" y="864"/>
                        </a:lnTo>
                        <a:lnTo>
                          <a:pt x="197" y="857"/>
                        </a:lnTo>
                        <a:lnTo>
                          <a:pt x="76" y="850"/>
                        </a:lnTo>
                        <a:lnTo>
                          <a:pt x="80" y="811"/>
                        </a:lnTo>
                        <a:lnTo>
                          <a:pt x="65" y="769"/>
                        </a:lnTo>
                        <a:lnTo>
                          <a:pt x="29" y="741"/>
                        </a:lnTo>
                        <a:lnTo>
                          <a:pt x="0" y="723"/>
                        </a:lnTo>
                        <a:lnTo>
                          <a:pt x="153" y="671"/>
                        </a:lnTo>
                        <a:lnTo>
                          <a:pt x="281" y="621"/>
                        </a:lnTo>
                        <a:lnTo>
                          <a:pt x="336" y="597"/>
                        </a:lnTo>
                        <a:lnTo>
                          <a:pt x="383" y="575"/>
                        </a:lnTo>
                        <a:lnTo>
                          <a:pt x="416" y="530"/>
                        </a:lnTo>
                        <a:lnTo>
                          <a:pt x="423" y="512"/>
                        </a:lnTo>
                        <a:lnTo>
                          <a:pt x="427" y="473"/>
                        </a:lnTo>
                        <a:lnTo>
                          <a:pt x="431" y="449"/>
                        </a:lnTo>
                        <a:lnTo>
                          <a:pt x="445" y="403"/>
                        </a:lnTo>
                        <a:lnTo>
                          <a:pt x="453" y="382"/>
                        </a:lnTo>
                        <a:lnTo>
                          <a:pt x="456" y="346"/>
                        </a:lnTo>
                        <a:lnTo>
                          <a:pt x="464" y="294"/>
                        </a:lnTo>
                        <a:lnTo>
                          <a:pt x="482" y="262"/>
                        </a:lnTo>
                        <a:lnTo>
                          <a:pt x="482" y="227"/>
                        </a:lnTo>
                        <a:lnTo>
                          <a:pt x="573" y="125"/>
                        </a:lnTo>
                        <a:lnTo>
                          <a:pt x="591" y="142"/>
                        </a:lnTo>
                        <a:lnTo>
                          <a:pt x="764" y="8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3" name=""/>
                  <p:cNvSpPr/>
                  <p:nvPr/>
                </p:nvSpPr>
                <p:spPr>
                  <a:xfrm>
                    <a:off x="6496920" y="1570320"/>
                    <a:ext cx="161640" cy="52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669">
                        <a:moveTo>
                          <a:pt x="197" y="0"/>
                        </a:moveTo>
                        <a:lnTo>
                          <a:pt x="223" y="25"/>
                        </a:lnTo>
                        <a:lnTo>
                          <a:pt x="230" y="81"/>
                        </a:lnTo>
                        <a:lnTo>
                          <a:pt x="230" y="141"/>
                        </a:lnTo>
                        <a:lnTo>
                          <a:pt x="230" y="180"/>
                        </a:lnTo>
                        <a:lnTo>
                          <a:pt x="252" y="201"/>
                        </a:lnTo>
                        <a:lnTo>
                          <a:pt x="234" y="211"/>
                        </a:lnTo>
                        <a:lnTo>
                          <a:pt x="230" y="250"/>
                        </a:lnTo>
                        <a:lnTo>
                          <a:pt x="219" y="271"/>
                        </a:lnTo>
                        <a:lnTo>
                          <a:pt x="212" y="303"/>
                        </a:lnTo>
                        <a:lnTo>
                          <a:pt x="201" y="317"/>
                        </a:lnTo>
                        <a:lnTo>
                          <a:pt x="201" y="352"/>
                        </a:lnTo>
                        <a:lnTo>
                          <a:pt x="186" y="388"/>
                        </a:lnTo>
                        <a:lnTo>
                          <a:pt x="183" y="447"/>
                        </a:lnTo>
                        <a:lnTo>
                          <a:pt x="172" y="507"/>
                        </a:lnTo>
                        <a:lnTo>
                          <a:pt x="164" y="521"/>
                        </a:lnTo>
                        <a:lnTo>
                          <a:pt x="164" y="543"/>
                        </a:lnTo>
                        <a:lnTo>
                          <a:pt x="146" y="546"/>
                        </a:lnTo>
                        <a:lnTo>
                          <a:pt x="146" y="560"/>
                        </a:lnTo>
                        <a:lnTo>
                          <a:pt x="139" y="581"/>
                        </a:lnTo>
                        <a:lnTo>
                          <a:pt x="117" y="606"/>
                        </a:lnTo>
                        <a:lnTo>
                          <a:pt x="95" y="634"/>
                        </a:lnTo>
                        <a:lnTo>
                          <a:pt x="80" y="669"/>
                        </a:lnTo>
                        <a:lnTo>
                          <a:pt x="18" y="669"/>
                        </a:lnTo>
                        <a:lnTo>
                          <a:pt x="117" y="585"/>
                        </a:lnTo>
                        <a:lnTo>
                          <a:pt x="135" y="550"/>
                        </a:lnTo>
                        <a:lnTo>
                          <a:pt x="128" y="514"/>
                        </a:lnTo>
                        <a:lnTo>
                          <a:pt x="150" y="497"/>
                        </a:lnTo>
                        <a:lnTo>
                          <a:pt x="150" y="388"/>
                        </a:lnTo>
                        <a:lnTo>
                          <a:pt x="84" y="377"/>
                        </a:lnTo>
                        <a:lnTo>
                          <a:pt x="44" y="366"/>
                        </a:lnTo>
                        <a:lnTo>
                          <a:pt x="0" y="352"/>
                        </a:lnTo>
                        <a:lnTo>
                          <a:pt x="139" y="349"/>
                        </a:lnTo>
                        <a:lnTo>
                          <a:pt x="161" y="338"/>
                        </a:lnTo>
                        <a:lnTo>
                          <a:pt x="157" y="317"/>
                        </a:lnTo>
                        <a:lnTo>
                          <a:pt x="117" y="310"/>
                        </a:lnTo>
                        <a:lnTo>
                          <a:pt x="73" y="307"/>
                        </a:lnTo>
                        <a:lnTo>
                          <a:pt x="131" y="292"/>
                        </a:lnTo>
                        <a:lnTo>
                          <a:pt x="146" y="282"/>
                        </a:lnTo>
                        <a:lnTo>
                          <a:pt x="95" y="233"/>
                        </a:lnTo>
                        <a:lnTo>
                          <a:pt x="47" y="208"/>
                        </a:lnTo>
                        <a:lnTo>
                          <a:pt x="18" y="176"/>
                        </a:lnTo>
                        <a:lnTo>
                          <a:pt x="7" y="169"/>
                        </a:lnTo>
                        <a:lnTo>
                          <a:pt x="40" y="166"/>
                        </a:lnTo>
                        <a:lnTo>
                          <a:pt x="80" y="183"/>
                        </a:lnTo>
                        <a:lnTo>
                          <a:pt x="131" y="211"/>
                        </a:lnTo>
                        <a:lnTo>
                          <a:pt x="175" y="229"/>
                        </a:lnTo>
                        <a:lnTo>
                          <a:pt x="201" y="222"/>
                        </a:lnTo>
                        <a:lnTo>
                          <a:pt x="215" y="194"/>
                        </a:lnTo>
                        <a:lnTo>
                          <a:pt x="215" y="134"/>
                        </a:lnTo>
                        <a:lnTo>
                          <a:pt x="197" y="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4" name=""/>
                  <p:cNvSpPr/>
                  <p:nvPr/>
                </p:nvSpPr>
                <p:spPr>
                  <a:xfrm>
                    <a:off x="6044760" y="1710000"/>
                    <a:ext cx="321120" cy="364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1" h="462">
                        <a:moveTo>
                          <a:pt x="0" y="462"/>
                        </a:moveTo>
                        <a:lnTo>
                          <a:pt x="314" y="356"/>
                        </a:lnTo>
                        <a:lnTo>
                          <a:pt x="339" y="335"/>
                        </a:lnTo>
                        <a:lnTo>
                          <a:pt x="365" y="300"/>
                        </a:lnTo>
                        <a:lnTo>
                          <a:pt x="369" y="264"/>
                        </a:lnTo>
                        <a:lnTo>
                          <a:pt x="372" y="162"/>
                        </a:lnTo>
                        <a:lnTo>
                          <a:pt x="383" y="233"/>
                        </a:lnTo>
                        <a:lnTo>
                          <a:pt x="405" y="250"/>
                        </a:lnTo>
                        <a:lnTo>
                          <a:pt x="420" y="194"/>
                        </a:lnTo>
                        <a:lnTo>
                          <a:pt x="434" y="141"/>
                        </a:lnTo>
                        <a:lnTo>
                          <a:pt x="487" y="0"/>
                        </a:lnTo>
                        <a:lnTo>
                          <a:pt x="454" y="120"/>
                        </a:lnTo>
                        <a:lnTo>
                          <a:pt x="434" y="194"/>
                        </a:lnTo>
                        <a:lnTo>
                          <a:pt x="423" y="250"/>
                        </a:lnTo>
                        <a:lnTo>
                          <a:pt x="405" y="286"/>
                        </a:lnTo>
                        <a:lnTo>
                          <a:pt x="383" y="314"/>
                        </a:lnTo>
                        <a:lnTo>
                          <a:pt x="409" y="335"/>
                        </a:lnTo>
                        <a:lnTo>
                          <a:pt x="442" y="331"/>
                        </a:lnTo>
                        <a:lnTo>
                          <a:pt x="501" y="282"/>
                        </a:lnTo>
                        <a:lnTo>
                          <a:pt x="423" y="370"/>
                        </a:lnTo>
                        <a:lnTo>
                          <a:pt x="343" y="388"/>
                        </a:lnTo>
                        <a:lnTo>
                          <a:pt x="252" y="405"/>
                        </a:lnTo>
                        <a:lnTo>
                          <a:pt x="164" y="423"/>
                        </a:lnTo>
                        <a:lnTo>
                          <a:pt x="66" y="444"/>
                        </a:lnTo>
                        <a:lnTo>
                          <a:pt x="0" y="462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5" name=""/>
                  <p:cNvSpPr/>
                  <p:nvPr/>
                </p:nvSpPr>
                <p:spPr>
                  <a:xfrm>
                    <a:off x="6329880" y="1459440"/>
                    <a:ext cx="2516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768">
                        <a:moveTo>
                          <a:pt x="392" y="7"/>
                        </a:moveTo>
                        <a:lnTo>
                          <a:pt x="312" y="0"/>
                        </a:lnTo>
                        <a:lnTo>
                          <a:pt x="268" y="7"/>
                        </a:lnTo>
                        <a:lnTo>
                          <a:pt x="195" y="78"/>
                        </a:lnTo>
                        <a:lnTo>
                          <a:pt x="126" y="162"/>
                        </a:lnTo>
                        <a:lnTo>
                          <a:pt x="86" y="328"/>
                        </a:lnTo>
                        <a:lnTo>
                          <a:pt x="71" y="374"/>
                        </a:lnTo>
                        <a:lnTo>
                          <a:pt x="56" y="507"/>
                        </a:lnTo>
                        <a:lnTo>
                          <a:pt x="49" y="603"/>
                        </a:lnTo>
                        <a:lnTo>
                          <a:pt x="0" y="662"/>
                        </a:lnTo>
                        <a:lnTo>
                          <a:pt x="108" y="768"/>
                        </a:lnTo>
                        <a:lnTo>
                          <a:pt x="56" y="691"/>
                        </a:lnTo>
                        <a:lnTo>
                          <a:pt x="67" y="684"/>
                        </a:lnTo>
                        <a:lnTo>
                          <a:pt x="140" y="722"/>
                        </a:lnTo>
                        <a:lnTo>
                          <a:pt x="228" y="743"/>
                        </a:lnTo>
                        <a:lnTo>
                          <a:pt x="111" y="698"/>
                        </a:lnTo>
                        <a:lnTo>
                          <a:pt x="67" y="659"/>
                        </a:lnTo>
                        <a:lnTo>
                          <a:pt x="67" y="620"/>
                        </a:lnTo>
                        <a:lnTo>
                          <a:pt x="140" y="617"/>
                        </a:lnTo>
                        <a:lnTo>
                          <a:pt x="64" y="599"/>
                        </a:lnTo>
                        <a:lnTo>
                          <a:pt x="71" y="507"/>
                        </a:lnTo>
                        <a:lnTo>
                          <a:pt x="89" y="356"/>
                        </a:lnTo>
                        <a:lnTo>
                          <a:pt x="148" y="166"/>
                        </a:lnTo>
                        <a:lnTo>
                          <a:pt x="188" y="106"/>
                        </a:lnTo>
                        <a:lnTo>
                          <a:pt x="268" y="28"/>
                        </a:lnTo>
                        <a:lnTo>
                          <a:pt x="312" y="18"/>
                        </a:lnTo>
                        <a:lnTo>
                          <a:pt x="392" y="7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46" name=""/>
                  <p:cNvGrpSpPr/>
                  <p:nvPr/>
                </p:nvGrpSpPr>
                <p:grpSpPr>
                  <a:xfrm>
                    <a:off x="6121800" y="990720"/>
                    <a:ext cx="408960" cy="763920"/>
                    <a:chOff x="6121800" y="990720"/>
                    <a:chExt cx="408960" cy="763920"/>
                  </a:xfrm>
                </p:grpSpPr>
                <p:sp>
                  <p:nvSpPr>
                    <p:cNvPr id="1847" name=""/>
                    <p:cNvSpPr/>
                    <p:nvPr/>
                  </p:nvSpPr>
                  <p:spPr>
                    <a:xfrm>
                      <a:off x="6297120" y="1402200"/>
                      <a:ext cx="147600" cy="17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1" h="229">
                          <a:moveTo>
                            <a:pt x="202" y="0"/>
                          </a:moveTo>
                          <a:lnTo>
                            <a:pt x="44" y="135"/>
                          </a:lnTo>
                          <a:lnTo>
                            <a:pt x="33" y="118"/>
                          </a:lnTo>
                          <a:lnTo>
                            <a:pt x="8" y="174"/>
                          </a:lnTo>
                          <a:lnTo>
                            <a:pt x="0" y="206"/>
                          </a:lnTo>
                          <a:lnTo>
                            <a:pt x="18" y="188"/>
                          </a:lnTo>
                          <a:lnTo>
                            <a:pt x="35" y="151"/>
                          </a:lnTo>
                          <a:lnTo>
                            <a:pt x="69" y="229"/>
                          </a:lnTo>
                          <a:lnTo>
                            <a:pt x="122" y="169"/>
                          </a:lnTo>
                          <a:lnTo>
                            <a:pt x="180" y="76"/>
                          </a:lnTo>
                          <a:lnTo>
                            <a:pt x="231" y="16"/>
                          </a:lnTo>
                          <a:lnTo>
                            <a:pt x="202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8" name=""/>
                    <p:cNvSpPr/>
                    <p:nvPr/>
                  </p:nvSpPr>
                  <p:spPr>
                    <a:xfrm>
                      <a:off x="6294600" y="1520280"/>
                      <a:ext cx="42120" cy="22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286">
                          <a:moveTo>
                            <a:pt x="37" y="0"/>
                          </a:moveTo>
                          <a:lnTo>
                            <a:pt x="26" y="13"/>
                          </a:lnTo>
                          <a:lnTo>
                            <a:pt x="19" y="23"/>
                          </a:lnTo>
                          <a:lnTo>
                            <a:pt x="13" y="37"/>
                          </a:lnTo>
                          <a:lnTo>
                            <a:pt x="6" y="60"/>
                          </a:lnTo>
                          <a:lnTo>
                            <a:pt x="4" y="83"/>
                          </a:lnTo>
                          <a:lnTo>
                            <a:pt x="6" y="105"/>
                          </a:lnTo>
                          <a:lnTo>
                            <a:pt x="10" y="129"/>
                          </a:lnTo>
                          <a:lnTo>
                            <a:pt x="14" y="142"/>
                          </a:lnTo>
                          <a:lnTo>
                            <a:pt x="2" y="195"/>
                          </a:lnTo>
                          <a:lnTo>
                            <a:pt x="0" y="218"/>
                          </a:lnTo>
                          <a:lnTo>
                            <a:pt x="0" y="247"/>
                          </a:lnTo>
                          <a:lnTo>
                            <a:pt x="4" y="286"/>
                          </a:lnTo>
                          <a:lnTo>
                            <a:pt x="25" y="198"/>
                          </a:lnTo>
                          <a:lnTo>
                            <a:pt x="36" y="139"/>
                          </a:lnTo>
                          <a:lnTo>
                            <a:pt x="66" y="65"/>
                          </a:lnTo>
                          <a:lnTo>
                            <a:pt x="37" y="0"/>
                          </a:lnTo>
                          <a:close/>
                        </a:path>
                      </a:pathLst>
                    </a:custGeom>
                    <a:solidFill>
                      <a:srgbClr val="000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9" name=""/>
                    <p:cNvSpPr/>
                    <p:nvPr/>
                  </p:nvSpPr>
                  <p:spPr>
                    <a:xfrm>
                      <a:off x="6297120" y="1520280"/>
                      <a:ext cx="3816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151">
                          <a:moveTo>
                            <a:pt x="33" y="0"/>
                          </a:moveTo>
                          <a:lnTo>
                            <a:pt x="22" y="13"/>
                          </a:lnTo>
                          <a:lnTo>
                            <a:pt x="14" y="23"/>
                          </a:lnTo>
                          <a:lnTo>
                            <a:pt x="8" y="37"/>
                          </a:lnTo>
                          <a:lnTo>
                            <a:pt x="2" y="60"/>
                          </a:lnTo>
                          <a:lnTo>
                            <a:pt x="0" y="83"/>
                          </a:lnTo>
                          <a:lnTo>
                            <a:pt x="2" y="106"/>
                          </a:lnTo>
                          <a:lnTo>
                            <a:pt x="6" y="129"/>
                          </a:lnTo>
                          <a:lnTo>
                            <a:pt x="10" y="142"/>
                          </a:lnTo>
                          <a:lnTo>
                            <a:pt x="27" y="151"/>
                          </a:lnTo>
                          <a:lnTo>
                            <a:pt x="31" y="136"/>
                          </a:lnTo>
                          <a:lnTo>
                            <a:pt x="62" y="66"/>
                          </a:lnTo>
                          <a:lnTo>
                            <a:pt x="33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850" name=""/>
                    <p:cNvGrpSpPr/>
                    <p:nvPr/>
                  </p:nvGrpSpPr>
                  <p:grpSpPr>
                    <a:xfrm>
                      <a:off x="6121800" y="990720"/>
                      <a:ext cx="408960" cy="528840"/>
                      <a:chOff x="6121800" y="990720"/>
                      <a:chExt cx="408960" cy="528840"/>
                    </a:xfrm>
                  </p:grpSpPr>
                  <p:grpSp>
                    <p:nvGrpSpPr>
                      <p:cNvPr id="1851" name=""/>
                      <p:cNvGrpSpPr/>
                      <p:nvPr/>
                    </p:nvGrpSpPr>
                    <p:grpSpPr>
                      <a:xfrm>
                        <a:off x="6163920" y="1046880"/>
                        <a:ext cx="303120" cy="472680"/>
                        <a:chOff x="6163920" y="1046880"/>
                        <a:chExt cx="303120" cy="472680"/>
                      </a:xfrm>
                    </p:grpSpPr>
                    <p:sp>
                      <p:nvSpPr>
                        <p:cNvPr id="1852" name=""/>
                        <p:cNvSpPr/>
                        <p:nvPr/>
                      </p:nvSpPr>
                      <p:spPr>
                        <a:xfrm>
                          <a:off x="6163920" y="1046880"/>
                          <a:ext cx="303120" cy="47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74" h="598">
                              <a:moveTo>
                                <a:pt x="148" y="17"/>
                              </a:moveTo>
                              <a:lnTo>
                                <a:pt x="114" y="36"/>
                              </a:lnTo>
                              <a:lnTo>
                                <a:pt x="82" y="56"/>
                              </a:lnTo>
                              <a:lnTo>
                                <a:pt x="59" y="75"/>
                              </a:lnTo>
                              <a:lnTo>
                                <a:pt x="37" y="95"/>
                              </a:lnTo>
                              <a:lnTo>
                                <a:pt x="20" y="116"/>
                              </a:lnTo>
                              <a:lnTo>
                                <a:pt x="9" y="138"/>
                              </a:lnTo>
                              <a:lnTo>
                                <a:pt x="5" y="162"/>
                              </a:lnTo>
                              <a:lnTo>
                                <a:pt x="2" y="188"/>
                              </a:lnTo>
                              <a:lnTo>
                                <a:pt x="0" y="219"/>
                              </a:lnTo>
                              <a:lnTo>
                                <a:pt x="4" y="248"/>
                              </a:lnTo>
                              <a:lnTo>
                                <a:pt x="0" y="286"/>
                              </a:lnTo>
                              <a:lnTo>
                                <a:pt x="16" y="297"/>
                              </a:lnTo>
                              <a:lnTo>
                                <a:pt x="30" y="307"/>
                              </a:lnTo>
                              <a:lnTo>
                                <a:pt x="31" y="317"/>
                              </a:lnTo>
                              <a:lnTo>
                                <a:pt x="31" y="332"/>
                              </a:lnTo>
                              <a:lnTo>
                                <a:pt x="26" y="350"/>
                              </a:lnTo>
                              <a:lnTo>
                                <a:pt x="11" y="398"/>
                              </a:lnTo>
                              <a:lnTo>
                                <a:pt x="11" y="419"/>
                              </a:lnTo>
                              <a:lnTo>
                                <a:pt x="23" y="424"/>
                              </a:lnTo>
                              <a:lnTo>
                                <a:pt x="42" y="424"/>
                              </a:lnTo>
                              <a:lnTo>
                                <a:pt x="55" y="424"/>
                              </a:lnTo>
                              <a:lnTo>
                                <a:pt x="77" y="481"/>
                              </a:lnTo>
                              <a:lnTo>
                                <a:pt x="78" y="502"/>
                              </a:lnTo>
                              <a:lnTo>
                                <a:pt x="86" y="512"/>
                              </a:lnTo>
                              <a:lnTo>
                                <a:pt x="95" y="515"/>
                              </a:lnTo>
                              <a:lnTo>
                                <a:pt x="96" y="527"/>
                              </a:lnTo>
                              <a:lnTo>
                                <a:pt x="95" y="543"/>
                              </a:lnTo>
                              <a:lnTo>
                                <a:pt x="104" y="569"/>
                              </a:lnTo>
                              <a:lnTo>
                                <a:pt x="115" y="586"/>
                              </a:lnTo>
                              <a:lnTo>
                                <a:pt x="126" y="593"/>
                              </a:lnTo>
                              <a:lnTo>
                                <a:pt x="151" y="598"/>
                              </a:lnTo>
                              <a:lnTo>
                                <a:pt x="172" y="596"/>
                              </a:lnTo>
                              <a:lnTo>
                                <a:pt x="201" y="583"/>
                              </a:lnTo>
                              <a:lnTo>
                                <a:pt x="235" y="565"/>
                              </a:lnTo>
                              <a:lnTo>
                                <a:pt x="250" y="582"/>
                              </a:lnTo>
                              <a:lnTo>
                                <a:pt x="456" y="423"/>
                              </a:lnTo>
                              <a:lnTo>
                                <a:pt x="443" y="396"/>
                              </a:lnTo>
                              <a:lnTo>
                                <a:pt x="456" y="359"/>
                              </a:lnTo>
                              <a:lnTo>
                                <a:pt x="469" y="311"/>
                              </a:lnTo>
                              <a:lnTo>
                                <a:pt x="474" y="250"/>
                              </a:lnTo>
                              <a:lnTo>
                                <a:pt x="473" y="204"/>
                              </a:lnTo>
                              <a:lnTo>
                                <a:pt x="459" y="128"/>
                              </a:lnTo>
                              <a:lnTo>
                                <a:pt x="440" y="60"/>
                              </a:lnTo>
                              <a:lnTo>
                                <a:pt x="418" y="10"/>
                              </a:lnTo>
                              <a:lnTo>
                                <a:pt x="335" y="0"/>
                              </a:lnTo>
                              <a:lnTo>
                                <a:pt x="208" y="1"/>
                              </a:lnTo>
                              <a:lnTo>
                                <a:pt x="148" y="1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bfb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853" name=""/>
                        <p:cNvGrpSpPr/>
                        <p:nvPr/>
                      </p:nvGrpSpPr>
                      <p:grpSpPr>
                        <a:xfrm>
                          <a:off x="6284880" y="1285920"/>
                          <a:ext cx="51120" cy="110520"/>
                          <a:chOff x="6284880" y="1285920"/>
                          <a:chExt cx="51120" cy="110520"/>
                        </a:xfrm>
                      </p:grpSpPr>
                      <p:sp>
                        <p:nvSpPr>
                          <p:cNvPr id="1854" name=""/>
                          <p:cNvSpPr/>
                          <p:nvPr/>
                        </p:nvSpPr>
                        <p:spPr>
                          <a:xfrm>
                            <a:off x="6284880" y="1285920"/>
                            <a:ext cx="39960" cy="70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1" h="89">
                                <a:moveTo>
                                  <a:pt x="0" y="37"/>
                                </a:moveTo>
                                <a:lnTo>
                                  <a:pt x="6" y="18"/>
                                </a:lnTo>
                                <a:lnTo>
                                  <a:pt x="11" y="5"/>
                                </a:lnTo>
                                <a:lnTo>
                                  <a:pt x="16" y="2"/>
                                </a:lnTo>
                                <a:lnTo>
                                  <a:pt x="24" y="0"/>
                                </a:lnTo>
                                <a:lnTo>
                                  <a:pt x="34" y="0"/>
                                </a:lnTo>
                                <a:lnTo>
                                  <a:pt x="44" y="2"/>
                                </a:lnTo>
                                <a:lnTo>
                                  <a:pt x="51" y="7"/>
                                </a:lnTo>
                                <a:lnTo>
                                  <a:pt x="56" y="16"/>
                                </a:lnTo>
                                <a:lnTo>
                                  <a:pt x="60" y="31"/>
                                </a:lnTo>
                                <a:lnTo>
                                  <a:pt x="61" y="44"/>
                                </a:lnTo>
                                <a:lnTo>
                                  <a:pt x="58" y="62"/>
                                </a:lnTo>
                                <a:lnTo>
                                  <a:pt x="55" y="78"/>
                                </a:lnTo>
                                <a:lnTo>
                                  <a:pt x="47" y="89"/>
                                </a:lnTo>
                                <a:lnTo>
                                  <a:pt x="44" y="76"/>
                                </a:lnTo>
                                <a:lnTo>
                                  <a:pt x="51" y="64"/>
                                </a:lnTo>
                                <a:lnTo>
                                  <a:pt x="46" y="49"/>
                                </a:lnTo>
                                <a:lnTo>
                                  <a:pt x="40" y="55"/>
                                </a:lnTo>
                                <a:lnTo>
                                  <a:pt x="27" y="61"/>
                                </a:lnTo>
                                <a:lnTo>
                                  <a:pt x="22" y="48"/>
                                </a:lnTo>
                                <a:lnTo>
                                  <a:pt x="33" y="43"/>
                                </a:lnTo>
                                <a:lnTo>
                                  <a:pt x="44" y="41"/>
                                </a:lnTo>
                                <a:lnTo>
                                  <a:pt x="44" y="32"/>
                                </a:lnTo>
                                <a:lnTo>
                                  <a:pt x="43" y="22"/>
                                </a:lnTo>
                                <a:lnTo>
                                  <a:pt x="49" y="23"/>
                                </a:lnTo>
                                <a:lnTo>
                                  <a:pt x="47" y="10"/>
                                </a:lnTo>
                                <a:lnTo>
                                  <a:pt x="45" y="7"/>
                                </a:lnTo>
                                <a:lnTo>
                                  <a:pt x="35" y="5"/>
                                </a:lnTo>
                                <a:lnTo>
                                  <a:pt x="18" y="7"/>
                                </a:lnTo>
                                <a:lnTo>
                                  <a:pt x="10" y="20"/>
                                </a:lnTo>
                                <a:lnTo>
                                  <a:pt x="0" y="3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df9f7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3760" bIns="237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855" name=""/>
                          <p:cNvSpPr/>
                          <p:nvPr/>
                        </p:nvSpPr>
                        <p:spPr>
                          <a:xfrm>
                            <a:off x="6302160" y="1356480"/>
                            <a:ext cx="33840" cy="39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4" h="50">
                                <a:moveTo>
                                  <a:pt x="40" y="0"/>
                                </a:moveTo>
                                <a:lnTo>
                                  <a:pt x="32" y="17"/>
                                </a:lnTo>
                                <a:lnTo>
                                  <a:pt x="29" y="25"/>
                                </a:lnTo>
                                <a:lnTo>
                                  <a:pt x="21" y="31"/>
                                </a:lnTo>
                                <a:lnTo>
                                  <a:pt x="12" y="32"/>
                                </a:lnTo>
                                <a:lnTo>
                                  <a:pt x="0" y="32"/>
                                </a:lnTo>
                                <a:lnTo>
                                  <a:pt x="26" y="35"/>
                                </a:lnTo>
                                <a:lnTo>
                                  <a:pt x="42" y="42"/>
                                </a:lnTo>
                                <a:lnTo>
                                  <a:pt x="54" y="50"/>
                                </a:lnTo>
                                <a:lnTo>
                                  <a:pt x="43" y="33"/>
                                </a:lnTo>
                                <a:lnTo>
                                  <a:pt x="41" y="17"/>
                                </a:lnTo>
                                <a:lnTo>
                                  <a:pt x="4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df9f7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6840" bIns="-68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856" name=""/>
                        <p:cNvSpPr/>
                        <p:nvPr/>
                      </p:nvSpPr>
                      <p:spPr>
                        <a:xfrm>
                          <a:off x="6215400" y="1351800"/>
                          <a:ext cx="28440" cy="51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7" h="67">
                              <a:moveTo>
                                <a:pt x="8" y="0"/>
                              </a:moveTo>
                              <a:lnTo>
                                <a:pt x="14" y="6"/>
                              </a:lnTo>
                              <a:lnTo>
                                <a:pt x="15" y="13"/>
                              </a:lnTo>
                              <a:lnTo>
                                <a:pt x="13" y="19"/>
                              </a:lnTo>
                              <a:lnTo>
                                <a:pt x="8" y="25"/>
                              </a:lnTo>
                              <a:lnTo>
                                <a:pt x="0" y="30"/>
                              </a:lnTo>
                              <a:lnTo>
                                <a:pt x="7" y="35"/>
                              </a:lnTo>
                              <a:lnTo>
                                <a:pt x="17" y="38"/>
                              </a:lnTo>
                              <a:lnTo>
                                <a:pt x="27" y="43"/>
                              </a:lnTo>
                              <a:lnTo>
                                <a:pt x="47" y="67"/>
                              </a:lnTo>
                              <a:lnTo>
                                <a:pt x="22" y="29"/>
                              </a:lnTo>
                              <a:lnTo>
                                <a:pt x="19" y="21"/>
                              </a:lnTo>
                              <a:lnTo>
                                <a:pt x="19" y="12"/>
                              </a:lnTo>
                              <a:lnTo>
                                <a:pt x="21" y="7"/>
                              </a:lnTo>
                              <a:lnTo>
                                <a:pt x="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040" bIns="5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857" name=""/>
                      <p:cNvGrpSpPr/>
                      <p:nvPr/>
                    </p:nvGrpSpPr>
                    <p:grpSpPr>
                      <a:xfrm>
                        <a:off x="6121800" y="990720"/>
                        <a:ext cx="408960" cy="528840"/>
                        <a:chOff x="6121800" y="990720"/>
                        <a:chExt cx="408960" cy="528840"/>
                      </a:xfrm>
                    </p:grpSpPr>
                    <p:sp>
                      <p:nvSpPr>
                        <p:cNvPr id="1858" name=""/>
                        <p:cNvSpPr/>
                        <p:nvPr/>
                      </p:nvSpPr>
                      <p:spPr>
                        <a:xfrm>
                          <a:off x="6121800" y="990720"/>
                          <a:ext cx="408960" cy="528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40" h="673">
                              <a:moveTo>
                                <a:pt x="307" y="0"/>
                              </a:moveTo>
                              <a:lnTo>
                                <a:pt x="278" y="1"/>
                              </a:lnTo>
                              <a:lnTo>
                                <a:pt x="256" y="5"/>
                              </a:lnTo>
                              <a:lnTo>
                                <a:pt x="231" y="10"/>
                              </a:lnTo>
                              <a:lnTo>
                                <a:pt x="203" y="20"/>
                              </a:lnTo>
                              <a:lnTo>
                                <a:pt x="180" y="29"/>
                              </a:lnTo>
                              <a:lnTo>
                                <a:pt x="154" y="51"/>
                              </a:lnTo>
                              <a:lnTo>
                                <a:pt x="129" y="74"/>
                              </a:lnTo>
                              <a:lnTo>
                                <a:pt x="106" y="98"/>
                              </a:lnTo>
                              <a:lnTo>
                                <a:pt x="55" y="130"/>
                              </a:lnTo>
                              <a:lnTo>
                                <a:pt x="37" y="142"/>
                              </a:lnTo>
                              <a:lnTo>
                                <a:pt x="23" y="155"/>
                              </a:lnTo>
                              <a:lnTo>
                                <a:pt x="15" y="167"/>
                              </a:lnTo>
                              <a:lnTo>
                                <a:pt x="5" y="181"/>
                              </a:lnTo>
                              <a:lnTo>
                                <a:pt x="1" y="195"/>
                              </a:lnTo>
                              <a:lnTo>
                                <a:pt x="0" y="210"/>
                              </a:lnTo>
                              <a:lnTo>
                                <a:pt x="0" y="225"/>
                              </a:lnTo>
                              <a:lnTo>
                                <a:pt x="4" y="243"/>
                              </a:lnTo>
                              <a:lnTo>
                                <a:pt x="14" y="263"/>
                              </a:lnTo>
                              <a:lnTo>
                                <a:pt x="22" y="273"/>
                              </a:lnTo>
                              <a:lnTo>
                                <a:pt x="33" y="282"/>
                              </a:lnTo>
                              <a:lnTo>
                                <a:pt x="49" y="286"/>
                              </a:lnTo>
                              <a:lnTo>
                                <a:pt x="66" y="290"/>
                              </a:lnTo>
                              <a:lnTo>
                                <a:pt x="90" y="295"/>
                              </a:lnTo>
                              <a:lnTo>
                                <a:pt x="76" y="276"/>
                              </a:lnTo>
                              <a:lnTo>
                                <a:pt x="71" y="258"/>
                              </a:lnTo>
                              <a:lnTo>
                                <a:pt x="72" y="237"/>
                              </a:lnTo>
                              <a:lnTo>
                                <a:pt x="77" y="216"/>
                              </a:lnTo>
                              <a:lnTo>
                                <a:pt x="84" y="203"/>
                              </a:lnTo>
                              <a:lnTo>
                                <a:pt x="94" y="189"/>
                              </a:lnTo>
                              <a:lnTo>
                                <a:pt x="106" y="177"/>
                              </a:lnTo>
                              <a:lnTo>
                                <a:pt x="121" y="167"/>
                              </a:lnTo>
                              <a:lnTo>
                                <a:pt x="139" y="157"/>
                              </a:lnTo>
                              <a:lnTo>
                                <a:pt x="197" y="140"/>
                              </a:lnTo>
                              <a:lnTo>
                                <a:pt x="186" y="151"/>
                              </a:lnTo>
                              <a:lnTo>
                                <a:pt x="178" y="158"/>
                              </a:lnTo>
                              <a:lnTo>
                                <a:pt x="166" y="163"/>
                              </a:lnTo>
                              <a:lnTo>
                                <a:pt x="147" y="169"/>
                              </a:lnTo>
                              <a:lnTo>
                                <a:pt x="135" y="172"/>
                              </a:lnTo>
                              <a:lnTo>
                                <a:pt x="122" y="181"/>
                              </a:lnTo>
                              <a:lnTo>
                                <a:pt x="116" y="191"/>
                              </a:lnTo>
                              <a:lnTo>
                                <a:pt x="111" y="202"/>
                              </a:lnTo>
                              <a:lnTo>
                                <a:pt x="108" y="214"/>
                              </a:lnTo>
                              <a:lnTo>
                                <a:pt x="108" y="226"/>
                              </a:lnTo>
                              <a:lnTo>
                                <a:pt x="113" y="241"/>
                              </a:lnTo>
                              <a:lnTo>
                                <a:pt x="117" y="262"/>
                              </a:lnTo>
                              <a:lnTo>
                                <a:pt x="127" y="280"/>
                              </a:lnTo>
                              <a:lnTo>
                                <a:pt x="141" y="311"/>
                              </a:lnTo>
                              <a:lnTo>
                                <a:pt x="167" y="371"/>
                              </a:lnTo>
                              <a:lnTo>
                                <a:pt x="185" y="404"/>
                              </a:lnTo>
                              <a:lnTo>
                                <a:pt x="206" y="412"/>
                              </a:lnTo>
                              <a:lnTo>
                                <a:pt x="211" y="441"/>
                              </a:lnTo>
                              <a:lnTo>
                                <a:pt x="214" y="515"/>
                              </a:lnTo>
                              <a:lnTo>
                                <a:pt x="218" y="536"/>
                              </a:lnTo>
                              <a:lnTo>
                                <a:pt x="220" y="554"/>
                              </a:lnTo>
                              <a:lnTo>
                                <a:pt x="220" y="566"/>
                              </a:lnTo>
                              <a:lnTo>
                                <a:pt x="210" y="579"/>
                              </a:lnTo>
                              <a:lnTo>
                                <a:pt x="196" y="587"/>
                              </a:lnTo>
                              <a:lnTo>
                                <a:pt x="179" y="596"/>
                              </a:lnTo>
                              <a:lnTo>
                                <a:pt x="166" y="607"/>
                              </a:lnTo>
                              <a:lnTo>
                                <a:pt x="163" y="614"/>
                              </a:lnTo>
                              <a:lnTo>
                                <a:pt x="163" y="625"/>
                              </a:lnTo>
                              <a:lnTo>
                                <a:pt x="166" y="633"/>
                              </a:lnTo>
                              <a:lnTo>
                                <a:pt x="169" y="640"/>
                              </a:lnTo>
                              <a:lnTo>
                                <a:pt x="173" y="649"/>
                              </a:lnTo>
                              <a:lnTo>
                                <a:pt x="182" y="660"/>
                              </a:lnTo>
                              <a:lnTo>
                                <a:pt x="190" y="666"/>
                              </a:lnTo>
                              <a:lnTo>
                                <a:pt x="200" y="669"/>
                              </a:lnTo>
                              <a:lnTo>
                                <a:pt x="211" y="672"/>
                              </a:lnTo>
                              <a:lnTo>
                                <a:pt x="225" y="673"/>
                              </a:lnTo>
                              <a:lnTo>
                                <a:pt x="236" y="672"/>
                              </a:lnTo>
                              <a:lnTo>
                                <a:pt x="250" y="668"/>
                              </a:lnTo>
                              <a:lnTo>
                                <a:pt x="261" y="664"/>
                              </a:lnTo>
                              <a:lnTo>
                                <a:pt x="273" y="657"/>
                              </a:lnTo>
                              <a:lnTo>
                                <a:pt x="287" y="648"/>
                              </a:lnTo>
                              <a:lnTo>
                                <a:pt x="296" y="642"/>
                              </a:lnTo>
                              <a:lnTo>
                                <a:pt x="295" y="613"/>
                              </a:lnTo>
                              <a:lnTo>
                                <a:pt x="285" y="514"/>
                              </a:lnTo>
                              <a:lnTo>
                                <a:pt x="253" y="458"/>
                              </a:lnTo>
                              <a:lnTo>
                                <a:pt x="245" y="434"/>
                              </a:lnTo>
                              <a:lnTo>
                                <a:pt x="240" y="411"/>
                              </a:lnTo>
                              <a:lnTo>
                                <a:pt x="246" y="398"/>
                              </a:lnTo>
                              <a:lnTo>
                                <a:pt x="253" y="383"/>
                              </a:lnTo>
                              <a:lnTo>
                                <a:pt x="263" y="373"/>
                              </a:lnTo>
                              <a:lnTo>
                                <a:pt x="278" y="367"/>
                              </a:lnTo>
                              <a:lnTo>
                                <a:pt x="291" y="369"/>
                              </a:lnTo>
                              <a:lnTo>
                                <a:pt x="307" y="373"/>
                              </a:lnTo>
                              <a:lnTo>
                                <a:pt x="323" y="385"/>
                              </a:lnTo>
                              <a:lnTo>
                                <a:pt x="329" y="396"/>
                              </a:lnTo>
                              <a:lnTo>
                                <a:pt x="334" y="413"/>
                              </a:lnTo>
                              <a:lnTo>
                                <a:pt x="335" y="430"/>
                              </a:lnTo>
                              <a:lnTo>
                                <a:pt x="331" y="446"/>
                              </a:lnTo>
                              <a:lnTo>
                                <a:pt x="328" y="460"/>
                              </a:lnTo>
                              <a:lnTo>
                                <a:pt x="328" y="471"/>
                              </a:lnTo>
                              <a:lnTo>
                                <a:pt x="335" y="480"/>
                              </a:lnTo>
                              <a:lnTo>
                                <a:pt x="454" y="559"/>
                              </a:lnTo>
                              <a:lnTo>
                                <a:pt x="499" y="554"/>
                              </a:lnTo>
                              <a:lnTo>
                                <a:pt x="552" y="551"/>
                              </a:lnTo>
                              <a:lnTo>
                                <a:pt x="598" y="539"/>
                              </a:lnTo>
                              <a:lnTo>
                                <a:pt x="617" y="520"/>
                              </a:lnTo>
                              <a:lnTo>
                                <a:pt x="628" y="509"/>
                              </a:lnTo>
                              <a:lnTo>
                                <a:pt x="633" y="492"/>
                              </a:lnTo>
                              <a:lnTo>
                                <a:pt x="637" y="472"/>
                              </a:lnTo>
                              <a:lnTo>
                                <a:pt x="640" y="438"/>
                              </a:lnTo>
                              <a:lnTo>
                                <a:pt x="630" y="416"/>
                              </a:lnTo>
                              <a:lnTo>
                                <a:pt x="625" y="359"/>
                              </a:lnTo>
                              <a:lnTo>
                                <a:pt x="606" y="282"/>
                              </a:lnTo>
                              <a:lnTo>
                                <a:pt x="592" y="222"/>
                              </a:lnTo>
                              <a:lnTo>
                                <a:pt x="563" y="163"/>
                              </a:lnTo>
                              <a:lnTo>
                                <a:pt x="537" y="113"/>
                              </a:lnTo>
                              <a:lnTo>
                                <a:pt x="522" y="88"/>
                              </a:lnTo>
                              <a:lnTo>
                                <a:pt x="500" y="59"/>
                              </a:lnTo>
                              <a:lnTo>
                                <a:pt x="482" y="43"/>
                              </a:lnTo>
                              <a:lnTo>
                                <a:pt x="444" y="24"/>
                              </a:lnTo>
                              <a:lnTo>
                                <a:pt x="412" y="10"/>
                              </a:lnTo>
                              <a:lnTo>
                                <a:pt x="375" y="2"/>
                              </a:lnTo>
                              <a:lnTo>
                                <a:pt x="340" y="0"/>
                              </a:lnTo>
                              <a:lnTo>
                                <a:pt x="30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9" name=""/>
                        <p:cNvSpPr/>
                        <p:nvPr/>
                      </p:nvSpPr>
                      <p:spPr>
                        <a:xfrm>
                          <a:off x="6163920" y="1259640"/>
                          <a:ext cx="34560" cy="28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5" h="37">
                              <a:moveTo>
                                <a:pt x="2" y="0"/>
                              </a:moveTo>
                              <a:lnTo>
                                <a:pt x="1" y="7"/>
                              </a:lnTo>
                              <a:lnTo>
                                <a:pt x="0" y="17"/>
                              </a:lnTo>
                              <a:lnTo>
                                <a:pt x="4" y="23"/>
                              </a:lnTo>
                              <a:lnTo>
                                <a:pt x="11" y="28"/>
                              </a:lnTo>
                              <a:lnTo>
                                <a:pt x="23" y="30"/>
                              </a:lnTo>
                              <a:lnTo>
                                <a:pt x="35" y="31"/>
                              </a:lnTo>
                              <a:lnTo>
                                <a:pt x="49" y="35"/>
                              </a:lnTo>
                              <a:lnTo>
                                <a:pt x="55" y="37"/>
                              </a:lnTo>
                              <a:lnTo>
                                <a:pt x="55" y="29"/>
                              </a:lnTo>
                              <a:lnTo>
                                <a:pt x="42" y="18"/>
                              </a:lnTo>
                              <a:lnTo>
                                <a:pt x="32" y="11"/>
                              </a:lnTo>
                              <a:lnTo>
                                <a:pt x="19" y="5"/>
                              </a:lnTo>
                              <a:lnTo>
                                <a:pt x="13" y="3"/>
                              </a:lnTo>
                              <a:lnTo>
                                <a:pt x="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720" bIns="-18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0" name=""/>
                        <p:cNvSpPr/>
                        <p:nvPr/>
                      </p:nvSpPr>
                      <p:spPr>
                        <a:xfrm>
                          <a:off x="6177240" y="1292760"/>
                          <a:ext cx="19080" cy="9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13">
                              <a:moveTo>
                                <a:pt x="18" y="0"/>
                              </a:moveTo>
                              <a:lnTo>
                                <a:pt x="14" y="6"/>
                              </a:lnTo>
                              <a:lnTo>
                                <a:pt x="8" y="8"/>
                              </a:lnTo>
                              <a:lnTo>
                                <a:pt x="0" y="9"/>
                              </a:lnTo>
                              <a:lnTo>
                                <a:pt x="9" y="13"/>
                              </a:lnTo>
                              <a:lnTo>
                                <a:pt x="24" y="13"/>
                              </a:lnTo>
                              <a:lnTo>
                                <a:pt x="32" y="13"/>
                              </a:lnTo>
                              <a:lnTo>
                                <a:pt x="1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1" name=""/>
                        <p:cNvSpPr/>
                        <p:nvPr/>
                      </p:nvSpPr>
                      <p:spPr>
                        <a:xfrm>
                          <a:off x="6194880" y="1378080"/>
                          <a:ext cx="38160" cy="54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0" h="69">
                              <a:moveTo>
                                <a:pt x="9" y="1"/>
                              </a:moveTo>
                              <a:lnTo>
                                <a:pt x="3" y="10"/>
                              </a:lnTo>
                              <a:lnTo>
                                <a:pt x="1" y="17"/>
                              </a:lnTo>
                              <a:lnTo>
                                <a:pt x="0" y="26"/>
                              </a:lnTo>
                              <a:lnTo>
                                <a:pt x="0" y="34"/>
                              </a:lnTo>
                              <a:lnTo>
                                <a:pt x="2" y="44"/>
                              </a:lnTo>
                              <a:lnTo>
                                <a:pt x="4" y="53"/>
                              </a:lnTo>
                              <a:lnTo>
                                <a:pt x="9" y="57"/>
                              </a:lnTo>
                              <a:lnTo>
                                <a:pt x="14" y="61"/>
                              </a:lnTo>
                              <a:lnTo>
                                <a:pt x="21" y="61"/>
                              </a:lnTo>
                              <a:lnTo>
                                <a:pt x="30" y="61"/>
                              </a:lnTo>
                              <a:lnTo>
                                <a:pt x="45" y="63"/>
                              </a:lnTo>
                              <a:lnTo>
                                <a:pt x="60" y="69"/>
                              </a:lnTo>
                              <a:lnTo>
                                <a:pt x="60" y="61"/>
                              </a:lnTo>
                              <a:lnTo>
                                <a:pt x="56" y="50"/>
                              </a:lnTo>
                              <a:lnTo>
                                <a:pt x="54" y="39"/>
                              </a:lnTo>
                              <a:lnTo>
                                <a:pt x="47" y="28"/>
                              </a:lnTo>
                              <a:lnTo>
                                <a:pt x="42" y="22"/>
                              </a:lnTo>
                              <a:lnTo>
                                <a:pt x="35" y="15"/>
                              </a:lnTo>
                              <a:lnTo>
                                <a:pt x="29" y="9"/>
                              </a:lnTo>
                              <a:lnTo>
                                <a:pt x="24" y="5"/>
                              </a:lnTo>
                              <a:lnTo>
                                <a:pt x="20" y="0"/>
                              </a:lnTo>
                              <a:lnTo>
                                <a:pt x="9" y="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2" name=""/>
                        <p:cNvSpPr/>
                        <p:nvPr/>
                      </p:nvSpPr>
                      <p:spPr>
                        <a:xfrm>
                          <a:off x="6129360" y="1082880"/>
                          <a:ext cx="92160" cy="113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6" h="146">
                              <a:moveTo>
                                <a:pt x="146" y="0"/>
                              </a:moveTo>
                              <a:lnTo>
                                <a:pt x="121" y="11"/>
                              </a:lnTo>
                              <a:lnTo>
                                <a:pt x="100" y="14"/>
                              </a:lnTo>
                              <a:lnTo>
                                <a:pt x="79" y="20"/>
                              </a:lnTo>
                              <a:lnTo>
                                <a:pt x="61" y="27"/>
                              </a:lnTo>
                              <a:lnTo>
                                <a:pt x="43" y="35"/>
                              </a:lnTo>
                              <a:lnTo>
                                <a:pt x="28" y="47"/>
                              </a:lnTo>
                              <a:lnTo>
                                <a:pt x="19" y="59"/>
                              </a:lnTo>
                              <a:lnTo>
                                <a:pt x="11" y="70"/>
                              </a:lnTo>
                              <a:lnTo>
                                <a:pt x="5" y="80"/>
                              </a:lnTo>
                              <a:lnTo>
                                <a:pt x="0" y="92"/>
                              </a:lnTo>
                              <a:lnTo>
                                <a:pt x="8" y="84"/>
                              </a:lnTo>
                              <a:lnTo>
                                <a:pt x="8" y="98"/>
                              </a:lnTo>
                              <a:lnTo>
                                <a:pt x="8" y="119"/>
                              </a:lnTo>
                              <a:lnTo>
                                <a:pt x="11" y="131"/>
                              </a:lnTo>
                              <a:lnTo>
                                <a:pt x="19" y="146"/>
                              </a:lnTo>
                              <a:lnTo>
                                <a:pt x="26" y="120"/>
                              </a:lnTo>
                              <a:lnTo>
                                <a:pt x="33" y="95"/>
                              </a:lnTo>
                              <a:lnTo>
                                <a:pt x="43" y="73"/>
                              </a:lnTo>
                              <a:lnTo>
                                <a:pt x="55" y="53"/>
                              </a:lnTo>
                              <a:lnTo>
                                <a:pt x="70" y="40"/>
                              </a:lnTo>
                              <a:lnTo>
                                <a:pt x="83" y="30"/>
                              </a:lnTo>
                              <a:lnTo>
                                <a:pt x="101" y="21"/>
                              </a:lnTo>
                              <a:lnTo>
                                <a:pt x="14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5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863" name=""/>
                    <p:cNvSpPr/>
                    <p:nvPr/>
                  </p:nvSpPr>
                  <p:spPr>
                    <a:xfrm>
                      <a:off x="6350760" y="1411920"/>
                      <a:ext cx="115560" cy="30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2" h="381">
                          <a:moveTo>
                            <a:pt x="182" y="0"/>
                          </a:moveTo>
                          <a:lnTo>
                            <a:pt x="40" y="247"/>
                          </a:lnTo>
                          <a:lnTo>
                            <a:pt x="0" y="381"/>
                          </a:lnTo>
                          <a:lnTo>
                            <a:pt x="62" y="233"/>
                          </a:lnTo>
                          <a:lnTo>
                            <a:pt x="182" y="0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4" name=""/>
                    <p:cNvSpPr/>
                    <p:nvPr/>
                  </p:nvSpPr>
                  <p:spPr>
                    <a:xfrm>
                      <a:off x="6233400" y="1622160"/>
                      <a:ext cx="43920" cy="13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168">
                          <a:moveTo>
                            <a:pt x="37" y="0"/>
                          </a:moveTo>
                          <a:lnTo>
                            <a:pt x="38" y="129"/>
                          </a:lnTo>
                          <a:lnTo>
                            <a:pt x="70" y="168"/>
                          </a:lnTo>
                          <a:lnTo>
                            <a:pt x="23" y="134"/>
                          </a:lnTo>
                          <a:lnTo>
                            <a:pt x="0" y="154"/>
                          </a:lnTo>
                          <a:lnTo>
                            <a:pt x="15" y="105"/>
                          </a:lnTo>
                          <a:lnTo>
                            <a:pt x="22" y="27"/>
                          </a:lnTo>
                          <a:lnTo>
                            <a:pt x="37" y="0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65" name=""/>
                  <p:cNvSpPr/>
                  <p:nvPr/>
                </p:nvSpPr>
                <p:spPr>
                  <a:xfrm>
                    <a:off x="6183360" y="1809360"/>
                    <a:ext cx="6732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81">
                        <a:moveTo>
                          <a:pt x="63" y="0"/>
                        </a:moveTo>
                        <a:lnTo>
                          <a:pt x="103" y="93"/>
                        </a:lnTo>
                        <a:lnTo>
                          <a:pt x="105" y="181"/>
                        </a:lnTo>
                        <a:lnTo>
                          <a:pt x="87" y="82"/>
                        </a:lnTo>
                        <a:lnTo>
                          <a:pt x="62" y="40"/>
                        </a:lnTo>
                        <a:lnTo>
                          <a:pt x="0" y="76"/>
                        </a:lnTo>
                        <a:lnTo>
                          <a:pt x="37" y="45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66" name=""/>
                <p:cNvSpPr/>
                <p:nvPr/>
              </p:nvSpPr>
              <p:spPr>
                <a:xfrm>
                  <a:off x="5830920" y="2039400"/>
                  <a:ext cx="48240" cy="95040"/>
                </a:xfrm>
                <a:custGeom>
                  <a:avLst/>
                  <a:gdLst/>
                  <a:ahLst/>
                  <a:rect l="l" t="t" r="r" b="b"/>
                  <a:pathLst>
                    <a:path w="75" h="120">
                      <a:moveTo>
                        <a:pt x="53" y="0"/>
                      </a:moveTo>
                      <a:lnTo>
                        <a:pt x="2" y="98"/>
                      </a:lnTo>
                      <a:lnTo>
                        <a:pt x="0" y="120"/>
                      </a:lnTo>
                      <a:lnTo>
                        <a:pt x="18" y="105"/>
                      </a:lnTo>
                      <a:lnTo>
                        <a:pt x="75" y="6"/>
                      </a:lnTo>
                      <a:lnTo>
                        <a:pt x="66" y="5"/>
                      </a:lnTo>
                      <a:lnTo>
                        <a:pt x="58" y="2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67" name=""/>
                <p:cNvGrpSpPr/>
                <p:nvPr/>
              </p:nvGrpSpPr>
              <p:grpSpPr>
                <a:xfrm>
                  <a:off x="5829480" y="1940040"/>
                  <a:ext cx="180720" cy="183960"/>
                  <a:chOff x="5829480" y="1940040"/>
                  <a:chExt cx="180720" cy="183960"/>
                </a:xfrm>
              </p:grpSpPr>
              <p:grpSp>
                <p:nvGrpSpPr>
                  <p:cNvPr id="1868" name=""/>
                  <p:cNvGrpSpPr/>
                  <p:nvPr/>
                </p:nvGrpSpPr>
                <p:grpSpPr>
                  <a:xfrm>
                    <a:off x="5829480" y="1940040"/>
                    <a:ext cx="168840" cy="183960"/>
                    <a:chOff x="5829480" y="1940040"/>
                    <a:chExt cx="168840" cy="183960"/>
                  </a:xfrm>
                </p:grpSpPr>
                <p:sp>
                  <p:nvSpPr>
                    <p:cNvPr id="1869" name=""/>
                    <p:cNvSpPr/>
                    <p:nvPr/>
                  </p:nvSpPr>
                  <p:spPr>
                    <a:xfrm>
                      <a:off x="5829480" y="1961280"/>
                      <a:ext cx="168840" cy="16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6" h="209">
                          <a:moveTo>
                            <a:pt x="197" y="29"/>
                          </a:moveTo>
                          <a:lnTo>
                            <a:pt x="181" y="32"/>
                          </a:lnTo>
                          <a:lnTo>
                            <a:pt x="168" y="25"/>
                          </a:lnTo>
                          <a:lnTo>
                            <a:pt x="151" y="17"/>
                          </a:lnTo>
                          <a:lnTo>
                            <a:pt x="134" y="11"/>
                          </a:lnTo>
                          <a:lnTo>
                            <a:pt x="107" y="4"/>
                          </a:lnTo>
                          <a:lnTo>
                            <a:pt x="92" y="0"/>
                          </a:lnTo>
                          <a:lnTo>
                            <a:pt x="41" y="12"/>
                          </a:lnTo>
                          <a:lnTo>
                            <a:pt x="33" y="17"/>
                          </a:lnTo>
                          <a:lnTo>
                            <a:pt x="25" y="22"/>
                          </a:lnTo>
                          <a:lnTo>
                            <a:pt x="19" y="31"/>
                          </a:lnTo>
                          <a:lnTo>
                            <a:pt x="14" y="44"/>
                          </a:lnTo>
                          <a:lnTo>
                            <a:pt x="9" y="64"/>
                          </a:lnTo>
                          <a:lnTo>
                            <a:pt x="5" y="90"/>
                          </a:lnTo>
                          <a:lnTo>
                            <a:pt x="3" y="113"/>
                          </a:lnTo>
                          <a:lnTo>
                            <a:pt x="0" y="130"/>
                          </a:lnTo>
                          <a:lnTo>
                            <a:pt x="0" y="140"/>
                          </a:lnTo>
                          <a:lnTo>
                            <a:pt x="3" y="148"/>
                          </a:lnTo>
                          <a:lnTo>
                            <a:pt x="5" y="155"/>
                          </a:lnTo>
                          <a:lnTo>
                            <a:pt x="11" y="165"/>
                          </a:lnTo>
                          <a:lnTo>
                            <a:pt x="34" y="188"/>
                          </a:lnTo>
                          <a:lnTo>
                            <a:pt x="45" y="194"/>
                          </a:lnTo>
                          <a:lnTo>
                            <a:pt x="64" y="204"/>
                          </a:lnTo>
                          <a:lnTo>
                            <a:pt x="76" y="209"/>
                          </a:lnTo>
                          <a:lnTo>
                            <a:pt x="86" y="205"/>
                          </a:lnTo>
                          <a:lnTo>
                            <a:pt x="89" y="198"/>
                          </a:lnTo>
                          <a:lnTo>
                            <a:pt x="99" y="198"/>
                          </a:lnTo>
                          <a:lnTo>
                            <a:pt x="110" y="198"/>
                          </a:lnTo>
                          <a:lnTo>
                            <a:pt x="125" y="201"/>
                          </a:lnTo>
                          <a:lnTo>
                            <a:pt x="134" y="202"/>
                          </a:lnTo>
                          <a:lnTo>
                            <a:pt x="137" y="194"/>
                          </a:lnTo>
                          <a:lnTo>
                            <a:pt x="140" y="188"/>
                          </a:lnTo>
                          <a:lnTo>
                            <a:pt x="148" y="191"/>
                          </a:lnTo>
                          <a:lnTo>
                            <a:pt x="158" y="191"/>
                          </a:lnTo>
                          <a:lnTo>
                            <a:pt x="162" y="185"/>
                          </a:lnTo>
                          <a:lnTo>
                            <a:pt x="165" y="178"/>
                          </a:lnTo>
                          <a:lnTo>
                            <a:pt x="168" y="168"/>
                          </a:lnTo>
                          <a:lnTo>
                            <a:pt x="183" y="170"/>
                          </a:lnTo>
                          <a:lnTo>
                            <a:pt x="198" y="170"/>
                          </a:lnTo>
                          <a:lnTo>
                            <a:pt x="208" y="166"/>
                          </a:lnTo>
                          <a:lnTo>
                            <a:pt x="218" y="161"/>
                          </a:lnTo>
                          <a:lnTo>
                            <a:pt x="225" y="154"/>
                          </a:lnTo>
                          <a:lnTo>
                            <a:pt x="233" y="145"/>
                          </a:lnTo>
                          <a:lnTo>
                            <a:pt x="260" y="139"/>
                          </a:lnTo>
                          <a:lnTo>
                            <a:pt x="265" y="107"/>
                          </a:lnTo>
                          <a:lnTo>
                            <a:pt x="266" y="86"/>
                          </a:lnTo>
                          <a:lnTo>
                            <a:pt x="259" y="62"/>
                          </a:lnTo>
                          <a:lnTo>
                            <a:pt x="250" y="47"/>
                          </a:lnTo>
                          <a:lnTo>
                            <a:pt x="241" y="39"/>
                          </a:lnTo>
                          <a:lnTo>
                            <a:pt x="226" y="31"/>
                          </a:lnTo>
                          <a:lnTo>
                            <a:pt x="208" y="25"/>
                          </a:lnTo>
                          <a:lnTo>
                            <a:pt x="197" y="29"/>
                          </a:lnTo>
                          <a:close/>
                        </a:path>
                      </a:pathLst>
                    </a:custGeom>
                    <a:solidFill>
                      <a:srgbClr val="f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0" name=""/>
                    <p:cNvSpPr/>
                    <p:nvPr/>
                  </p:nvSpPr>
                  <p:spPr>
                    <a:xfrm>
                      <a:off x="5840640" y="1994040"/>
                      <a:ext cx="117000" cy="11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2" h="151">
                          <a:moveTo>
                            <a:pt x="182" y="50"/>
                          </a:moveTo>
                          <a:lnTo>
                            <a:pt x="167" y="60"/>
                          </a:lnTo>
                          <a:lnTo>
                            <a:pt x="154" y="60"/>
                          </a:lnTo>
                          <a:lnTo>
                            <a:pt x="142" y="56"/>
                          </a:lnTo>
                          <a:lnTo>
                            <a:pt x="134" y="51"/>
                          </a:lnTo>
                          <a:lnTo>
                            <a:pt x="127" y="47"/>
                          </a:lnTo>
                          <a:lnTo>
                            <a:pt x="120" y="47"/>
                          </a:lnTo>
                          <a:lnTo>
                            <a:pt x="110" y="53"/>
                          </a:lnTo>
                          <a:lnTo>
                            <a:pt x="95" y="57"/>
                          </a:lnTo>
                          <a:lnTo>
                            <a:pt x="81" y="61"/>
                          </a:lnTo>
                          <a:lnTo>
                            <a:pt x="71" y="62"/>
                          </a:lnTo>
                          <a:lnTo>
                            <a:pt x="59" y="62"/>
                          </a:lnTo>
                          <a:lnTo>
                            <a:pt x="47" y="60"/>
                          </a:lnTo>
                          <a:lnTo>
                            <a:pt x="39" y="56"/>
                          </a:lnTo>
                          <a:lnTo>
                            <a:pt x="36" y="51"/>
                          </a:lnTo>
                          <a:lnTo>
                            <a:pt x="33" y="42"/>
                          </a:lnTo>
                          <a:lnTo>
                            <a:pt x="33" y="35"/>
                          </a:lnTo>
                          <a:lnTo>
                            <a:pt x="37" y="29"/>
                          </a:lnTo>
                          <a:lnTo>
                            <a:pt x="44" y="26"/>
                          </a:lnTo>
                          <a:lnTo>
                            <a:pt x="56" y="23"/>
                          </a:lnTo>
                          <a:lnTo>
                            <a:pt x="71" y="21"/>
                          </a:lnTo>
                          <a:lnTo>
                            <a:pt x="82" y="21"/>
                          </a:lnTo>
                          <a:lnTo>
                            <a:pt x="94" y="14"/>
                          </a:lnTo>
                          <a:lnTo>
                            <a:pt x="106" y="7"/>
                          </a:lnTo>
                          <a:lnTo>
                            <a:pt x="89" y="7"/>
                          </a:lnTo>
                          <a:lnTo>
                            <a:pt x="78" y="1"/>
                          </a:lnTo>
                          <a:lnTo>
                            <a:pt x="65" y="0"/>
                          </a:lnTo>
                          <a:lnTo>
                            <a:pt x="55" y="3"/>
                          </a:lnTo>
                          <a:lnTo>
                            <a:pt x="43" y="10"/>
                          </a:lnTo>
                          <a:lnTo>
                            <a:pt x="38" y="14"/>
                          </a:lnTo>
                          <a:lnTo>
                            <a:pt x="21" y="2"/>
                          </a:lnTo>
                          <a:lnTo>
                            <a:pt x="28" y="10"/>
                          </a:lnTo>
                          <a:lnTo>
                            <a:pt x="31" y="17"/>
                          </a:lnTo>
                          <a:lnTo>
                            <a:pt x="22" y="19"/>
                          </a:lnTo>
                          <a:lnTo>
                            <a:pt x="31" y="21"/>
                          </a:lnTo>
                          <a:lnTo>
                            <a:pt x="23" y="56"/>
                          </a:lnTo>
                          <a:lnTo>
                            <a:pt x="19" y="63"/>
                          </a:lnTo>
                          <a:lnTo>
                            <a:pt x="14" y="68"/>
                          </a:lnTo>
                          <a:lnTo>
                            <a:pt x="0" y="70"/>
                          </a:lnTo>
                          <a:lnTo>
                            <a:pt x="10" y="74"/>
                          </a:lnTo>
                          <a:lnTo>
                            <a:pt x="14" y="83"/>
                          </a:lnTo>
                          <a:lnTo>
                            <a:pt x="6" y="102"/>
                          </a:lnTo>
                          <a:lnTo>
                            <a:pt x="4" y="115"/>
                          </a:lnTo>
                          <a:lnTo>
                            <a:pt x="25" y="94"/>
                          </a:lnTo>
                          <a:lnTo>
                            <a:pt x="36" y="100"/>
                          </a:lnTo>
                          <a:lnTo>
                            <a:pt x="39" y="111"/>
                          </a:lnTo>
                          <a:lnTo>
                            <a:pt x="23" y="120"/>
                          </a:lnTo>
                          <a:lnTo>
                            <a:pt x="42" y="118"/>
                          </a:lnTo>
                          <a:lnTo>
                            <a:pt x="50" y="118"/>
                          </a:lnTo>
                          <a:lnTo>
                            <a:pt x="55" y="123"/>
                          </a:lnTo>
                          <a:lnTo>
                            <a:pt x="61" y="132"/>
                          </a:lnTo>
                          <a:lnTo>
                            <a:pt x="66" y="143"/>
                          </a:lnTo>
                          <a:lnTo>
                            <a:pt x="72" y="151"/>
                          </a:lnTo>
                          <a:lnTo>
                            <a:pt x="72" y="137"/>
                          </a:lnTo>
                          <a:lnTo>
                            <a:pt x="66" y="127"/>
                          </a:lnTo>
                          <a:lnTo>
                            <a:pt x="60" y="118"/>
                          </a:lnTo>
                          <a:lnTo>
                            <a:pt x="65" y="112"/>
                          </a:lnTo>
                          <a:lnTo>
                            <a:pt x="73" y="110"/>
                          </a:lnTo>
                          <a:lnTo>
                            <a:pt x="82" y="111"/>
                          </a:lnTo>
                          <a:lnTo>
                            <a:pt x="95" y="112"/>
                          </a:lnTo>
                          <a:lnTo>
                            <a:pt x="106" y="105"/>
                          </a:lnTo>
                          <a:lnTo>
                            <a:pt x="120" y="102"/>
                          </a:lnTo>
                          <a:lnTo>
                            <a:pt x="131" y="100"/>
                          </a:lnTo>
                          <a:lnTo>
                            <a:pt x="137" y="98"/>
                          </a:lnTo>
                          <a:lnTo>
                            <a:pt x="140" y="95"/>
                          </a:lnTo>
                          <a:lnTo>
                            <a:pt x="150" y="102"/>
                          </a:lnTo>
                          <a:lnTo>
                            <a:pt x="146" y="90"/>
                          </a:lnTo>
                          <a:lnTo>
                            <a:pt x="171" y="105"/>
                          </a:lnTo>
                          <a:lnTo>
                            <a:pt x="167" y="95"/>
                          </a:lnTo>
                          <a:lnTo>
                            <a:pt x="148" y="82"/>
                          </a:lnTo>
                          <a:lnTo>
                            <a:pt x="151" y="73"/>
                          </a:lnTo>
                          <a:lnTo>
                            <a:pt x="159" y="63"/>
                          </a:lnTo>
                          <a:lnTo>
                            <a:pt x="170" y="62"/>
                          </a:lnTo>
                          <a:lnTo>
                            <a:pt x="182" y="50"/>
                          </a:lnTo>
                          <a:close/>
                        </a:path>
                      </a:pathLst>
                    </a:custGeom>
                    <a:solidFill>
                      <a:srgbClr val="df9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1" name=""/>
                    <p:cNvSpPr/>
                    <p:nvPr/>
                  </p:nvSpPr>
                  <p:spPr>
                    <a:xfrm>
                      <a:off x="5879520" y="1940040"/>
                      <a:ext cx="39960" cy="7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90">
                          <a:moveTo>
                            <a:pt x="56" y="0"/>
                          </a:moveTo>
                          <a:lnTo>
                            <a:pt x="43" y="3"/>
                          </a:lnTo>
                          <a:lnTo>
                            <a:pt x="41" y="10"/>
                          </a:lnTo>
                          <a:lnTo>
                            <a:pt x="0" y="90"/>
                          </a:lnTo>
                          <a:lnTo>
                            <a:pt x="21" y="88"/>
                          </a:lnTo>
                          <a:lnTo>
                            <a:pt x="63" y="16"/>
                          </a:lnTo>
                          <a:lnTo>
                            <a:pt x="64" y="4"/>
                          </a:lnTo>
                          <a:lnTo>
                            <a:pt x="56" y="0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2" name=""/>
                    <p:cNvSpPr/>
                    <p:nvPr/>
                  </p:nvSpPr>
                  <p:spPr>
                    <a:xfrm>
                      <a:off x="5960160" y="2001600"/>
                      <a:ext cx="2844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83">
                          <a:moveTo>
                            <a:pt x="0" y="0"/>
                          </a:moveTo>
                          <a:lnTo>
                            <a:pt x="9" y="12"/>
                          </a:lnTo>
                          <a:lnTo>
                            <a:pt x="14" y="22"/>
                          </a:lnTo>
                          <a:lnTo>
                            <a:pt x="17" y="35"/>
                          </a:lnTo>
                          <a:lnTo>
                            <a:pt x="18" y="48"/>
                          </a:lnTo>
                          <a:lnTo>
                            <a:pt x="17" y="62"/>
                          </a:lnTo>
                          <a:lnTo>
                            <a:pt x="12" y="83"/>
                          </a:lnTo>
                          <a:lnTo>
                            <a:pt x="28" y="45"/>
                          </a:lnTo>
                          <a:lnTo>
                            <a:pt x="38" y="33"/>
                          </a:lnTo>
                          <a:lnTo>
                            <a:pt x="45" y="22"/>
                          </a:lnTo>
                          <a:lnTo>
                            <a:pt x="33" y="18"/>
                          </a:lnTo>
                          <a:lnTo>
                            <a:pt x="21" y="9"/>
                          </a:lnTo>
                          <a:lnTo>
                            <a:pt x="12" y="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df9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3" name=""/>
                    <p:cNvSpPr/>
                    <p:nvPr/>
                  </p:nvSpPr>
                  <p:spPr>
                    <a:xfrm>
                      <a:off x="5894640" y="1946880"/>
                      <a:ext cx="23040" cy="6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84">
                          <a:moveTo>
                            <a:pt x="36" y="7"/>
                          </a:moveTo>
                          <a:lnTo>
                            <a:pt x="38" y="10"/>
                          </a:lnTo>
                          <a:lnTo>
                            <a:pt x="4" y="84"/>
                          </a:lnTo>
                          <a:lnTo>
                            <a:pt x="0" y="76"/>
                          </a:lnTo>
                          <a:lnTo>
                            <a:pt x="2" y="69"/>
                          </a:lnTo>
                          <a:lnTo>
                            <a:pt x="6" y="63"/>
                          </a:lnTo>
                          <a:lnTo>
                            <a:pt x="12" y="61"/>
                          </a:lnTo>
                          <a:lnTo>
                            <a:pt x="35" y="10"/>
                          </a:lnTo>
                          <a:lnTo>
                            <a:pt x="18" y="2"/>
                          </a:lnTo>
                          <a:lnTo>
                            <a:pt x="18" y="0"/>
                          </a:lnTo>
                          <a:lnTo>
                            <a:pt x="36" y="7"/>
                          </a:lnTo>
                          <a:close/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440" bIns="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74" name=""/>
                  <p:cNvSpPr/>
                  <p:nvPr/>
                </p:nvSpPr>
                <p:spPr>
                  <a:xfrm>
                    <a:off x="5945040" y="1975320"/>
                    <a:ext cx="65160" cy="10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32">
                        <a:moveTo>
                          <a:pt x="0" y="7"/>
                        </a:moveTo>
                        <a:lnTo>
                          <a:pt x="18" y="15"/>
                        </a:lnTo>
                        <a:lnTo>
                          <a:pt x="38" y="26"/>
                        </a:lnTo>
                        <a:lnTo>
                          <a:pt x="47" y="34"/>
                        </a:lnTo>
                        <a:lnTo>
                          <a:pt x="56" y="47"/>
                        </a:lnTo>
                        <a:lnTo>
                          <a:pt x="63" y="58"/>
                        </a:lnTo>
                        <a:lnTo>
                          <a:pt x="68" y="73"/>
                        </a:lnTo>
                        <a:lnTo>
                          <a:pt x="72" y="96"/>
                        </a:lnTo>
                        <a:lnTo>
                          <a:pt x="70" y="117"/>
                        </a:lnTo>
                        <a:lnTo>
                          <a:pt x="66" y="132"/>
                        </a:lnTo>
                        <a:lnTo>
                          <a:pt x="97" y="130"/>
                        </a:lnTo>
                        <a:lnTo>
                          <a:pt x="102" y="105"/>
                        </a:lnTo>
                        <a:lnTo>
                          <a:pt x="102" y="86"/>
                        </a:lnTo>
                        <a:lnTo>
                          <a:pt x="100" y="65"/>
                        </a:lnTo>
                        <a:lnTo>
                          <a:pt x="94" y="49"/>
                        </a:lnTo>
                        <a:lnTo>
                          <a:pt x="81" y="29"/>
                        </a:lnTo>
                        <a:lnTo>
                          <a:pt x="70" y="19"/>
                        </a:lnTo>
                        <a:lnTo>
                          <a:pt x="52" y="9"/>
                        </a:lnTo>
                        <a:lnTo>
                          <a:pt x="31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75" name=""/>
              <p:cNvGrpSpPr/>
              <p:nvPr/>
            </p:nvGrpSpPr>
            <p:grpSpPr>
              <a:xfrm>
                <a:off x="4430880" y="1098360"/>
                <a:ext cx="850320" cy="1185840"/>
                <a:chOff x="4430880" y="1098360"/>
                <a:chExt cx="850320" cy="1185840"/>
              </a:xfrm>
            </p:grpSpPr>
            <p:grpSp>
              <p:nvGrpSpPr>
                <p:cNvPr id="1876" name=""/>
                <p:cNvGrpSpPr/>
                <p:nvPr/>
              </p:nvGrpSpPr>
              <p:grpSpPr>
                <a:xfrm>
                  <a:off x="4705560" y="1713240"/>
                  <a:ext cx="174960" cy="409680"/>
                  <a:chOff x="4705560" y="1713240"/>
                  <a:chExt cx="174960" cy="409680"/>
                </a:xfrm>
              </p:grpSpPr>
              <p:sp>
                <p:nvSpPr>
                  <p:cNvPr id="1877" name=""/>
                  <p:cNvSpPr/>
                  <p:nvPr/>
                </p:nvSpPr>
                <p:spPr>
                  <a:xfrm>
                    <a:off x="4705560" y="1713240"/>
                    <a:ext cx="174960" cy="40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513">
                        <a:moveTo>
                          <a:pt x="0" y="0"/>
                        </a:moveTo>
                        <a:lnTo>
                          <a:pt x="26" y="14"/>
                        </a:lnTo>
                        <a:lnTo>
                          <a:pt x="56" y="23"/>
                        </a:lnTo>
                        <a:lnTo>
                          <a:pt x="91" y="30"/>
                        </a:lnTo>
                        <a:lnTo>
                          <a:pt x="129" y="37"/>
                        </a:lnTo>
                        <a:lnTo>
                          <a:pt x="154" y="35"/>
                        </a:lnTo>
                        <a:lnTo>
                          <a:pt x="183" y="28"/>
                        </a:lnTo>
                        <a:lnTo>
                          <a:pt x="208" y="20"/>
                        </a:lnTo>
                        <a:lnTo>
                          <a:pt x="235" y="3"/>
                        </a:lnTo>
                        <a:lnTo>
                          <a:pt x="263" y="125"/>
                        </a:lnTo>
                        <a:lnTo>
                          <a:pt x="267" y="203"/>
                        </a:lnTo>
                        <a:lnTo>
                          <a:pt x="271" y="238"/>
                        </a:lnTo>
                        <a:lnTo>
                          <a:pt x="271" y="305"/>
                        </a:lnTo>
                        <a:lnTo>
                          <a:pt x="267" y="361"/>
                        </a:lnTo>
                        <a:lnTo>
                          <a:pt x="259" y="430"/>
                        </a:lnTo>
                        <a:lnTo>
                          <a:pt x="246" y="492"/>
                        </a:lnTo>
                        <a:lnTo>
                          <a:pt x="67" y="513"/>
                        </a:lnTo>
                        <a:lnTo>
                          <a:pt x="41" y="289"/>
                        </a:lnTo>
                        <a:lnTo>
                          <a:pt x="22" y="1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8" name=""/>
                  <p:cNvSpPr/>
                  <p:nvPr/>
                </p:nvSpPr>
                <p:spPr>
                  <a:xfrm>
                    <a:off x="4730760" y="1814760"/>
                    <a:ext cx="14760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390">
                        <a:moveTo>
                          <a:pt x="0" y="27"/>
                        </a:moveTo>
                        <a:lnTo>
                          <a:pt x="98" y="27"/>
                        </a:lnTo>
                        <a:lnTo>
                          <a:pt x="146" y="24"/>
                        </a:lnTo>
                        <a:lnTo>
                          <a:pt x="196" y="14"/>
                        </a:lnTo>
                        <a:lnTo>
                          <a:pt x="229" y="0"/>
                        </a:lnTo>
                        <a:lnTo>
                          <a:pt x="233" y="328"/>
                        </a:lnTo>
                        <a:lnTo>
                          <a:pt x="66" y="390"/>
                        </a:lnTo>
                        <a:lnTo>
                          <a:pt x="0" y="27"/>
                        </a:lnTo>
                        <a:close/>
                      </a:path>
                    </a:pathLst>
                  </a:custGeom>
                  <a:solidFill>
                    <a:srgbClr val="ffb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9" name=""/>
                <p:cNvGrpSpPr/>
                <p:nvPr/>
              </p:nvGrpSpPr>
              <p:grpSpPr>
                <a:xfrm>
                  <a:off x="4811760" y="1608840"/>
                  <a:ext cx="347760" cy="509760"/>
                  <a:chOff x="4811760" y="1608840"/>
                  <a:chExt cx="347760" cy="509760"/>
                </a:xfrm>
              </p:grpSpPr>
              <p:sp>
                <p:nvSpPr>
                  <p:cNvPr id="1880" name=""/>
                  <p:cNvSpPr/>
                  <p:nvPr/>
                </p:nvSpPr>
                <p:spPr>
                  <a:xfrm>
                    <a:off x="4811760" y="1608840"/>
                    <a:ext cx="347760" cy="50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45" h="645">
                        <a:moveTo>
                          <a:pt x="22" y="0"/>
                        </a:moveTo>
                        <a:lnTo>
                          <a:pt x="55" y="14"/>
                        </a:lnTo>
                        <a:lnTo>
                          <a:pt x="91" y="53"/>
                        </a:lnTo>
                        <a:lnTo>
                          <a:pt x="224" y="99"/>
                        </a:lnTo>
                        <a:lnTo>
                          <a:pt x="260" y="120"/>
                        </a:lnTo>
                        <a:lnTo>
                          <a:pt x="300" y="190"/>
                        </a:lnTo>
                        <a:lnTo>
                          <a:pt x="300" y="236"/>
                        </a:lnTo>
                        <a:lnTo>
                          <a:pt x="308" y="271"/>
                        </a:lnTo>
                        <a:lnTo>
                          <a:pt x="330" y="331"/>
                        </a:lnTo>
                        <a:lnTo>
                          <a:pt x="392" y="434"/>
                        </a:lnTo>
                        <a:lnTo>
                          <a:pt x="436" y="504"/>
                        </a:lnTo>
                        <a:lnTo>
                          <a:pt x="483" y="564"/>
                        </a:lnTo>
                        <a:lnTo>
                          <a:pt x="545" y="634"/>
                        </a:lnTo>
                        <a:lnTo>
                          <a:pt x="29" y="645"/>
                        </a:lnTo>
                        <a:lnTo>
                          <a:pt x="62" y="578"/>
                        </a:lnTo>
                        <a:lnTo>
                          <a:pt x="76" y="529"/>
                        </a:lnTo>
                        <a:lnTo>
                          <a:pt x="84" y="441"/>
                        </a:lnTo>
                        <a:lnTo>
                          <a:pt x="80" y="293"/>
                        </a:lnTo>
                        <a:lnTo>
                          <a:pt x="66" y="183"/>
                        </a:lnTo>
                        <a:lnTo>
                          <a:pt x="44" y="106"/>
                        </a:lnTo>
                        <a:lnTo>
                          <a:pt x="0" y="35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1" name=""/>
                  <p:cNvSpPr/>
                  <p:nvPr/>
                </p:nvSpPr>
                <p:spPr>
                  <a:xfrm>
                    <a:off x="4897800" y="1672560"/>
                    <a:ext cx="74880" cy="267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338">
                        <a:moveTo>
                          <a:pt x="0" y="0"/>
                        </a:moveTo>
                        <a:lnTo>
                          <a:pt x="44" y="32"/>
                        </a:lnTo>
                        <a:lnTo>
                          <a:pt x="67" y="67"/>
                        </a:lnTo>
                        <a:lnTo>
                          <a:pt x="82" y="102"/>
                        </a:lnTo>
                        <a:lnTo>
                          <a:pt x="95" y="141"/>
                        </a:lnTo>
                        <a:lnTo>
                          <a:pt x="110" y="187"/>
                        </a:lnTo>
                        <a:lnTo>
                          <a:pt x="117" y="236"/>
                        </a:lnTo>
                        <a:lnTo>
                          <a:pt x="117" y="300"/>
                        </a:lnTo>
                        <a:lnTo>
                          <a:pt x="110" y="338"/>
                        </a:lnTo>
                        <a:lnTo>
                          <a:pt x="99" y="264"/>
                        </a:lnTo>
                        <a:lnTo>
                          <a:pt x="89" y="220"/>
                        </a:lnTo>
                        <a:lnTo>
                          <a:pt x="73" y="194"/>
                        </a:lnTo>
                        <a:lnTo>
                          <a:pt x="53" y="181"/>
                        </a:lnTo>
                        <a:lnTo>
                          <a:pt x="64" y="155"/>
                        </a:lnTo>
                        <a:lnTo>
                          <a:pt x="67" y="114"/>
                        </a:lnTo>
                        <a:lnTo>
                          <a:pt x="51" y="78"/>
                        </a:lnTo>
                        <a:lnTo>
                          <a:pt x="30" y="3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3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82" name=""/>
                <p:cNvSpPr/>
                <p:nvPr/>
              </p:nvSpPr>
              <p:spPr>
                <a:xfrm>
                  <a:off x="4779000" y="2047680"/>
                  <a:ext cx="103680" cy="100080"/>
                </a:xfrm>
                <a:custGeom>
                  <a:avLst/>
                  <a:gdLst/>
                  <a:ahLst/>
                  <a:rect l="l" t="t" r="r" b="b"/>
                  <a:pathLst>
                    <a:path w="160" h="125">
                      <a:moveTo>
                        <a:pt x="135" y="21"/>
                      </a:moveTo>
                      <a:lnTo>
                        <a:pt x="110" y="0"/>
                      </a:lnTo>
                      <a:lnTo>
                        <a:pt x="72" y="9"/>
                      </a:lnTo>
                      <a:lnTo>
                        <a:pt x="40" y="21"/>
                      </a:lnTo>
                      <a:lnTo>
                        <a:pt x="7" y="34"/>
                      </a:lnTo>
                      <a:lnTo>
                        <a:pt x="0" y="45"/>
                      </a:lnTo>
                      <a:lnTo>
                        <a:pt x="18" y="62"/>
                      </a:lnTo>
                      <a:lnTo>
                        <a:pt x="24" y="83"/>
                      </a:lnTo>
                      <a:lnTo>
                        <a:pt x="39" y="98"/>
                      </a:lnTo>
                      <a:lnTo>
                        <a:pt x="54" y="108"/>
                      </a:lnTo>
                      <a:lnTo>
                        <a:pt x="76" y="115"/>
                      </a:lnTo>
                      <a:lnTo>
                        <a:pt x="91" y="125"/>
                      </a:lnTo>
                      <a:lnTo>
                        <a:pt x="117" y="125"/>
                      </a:lnTo>
                      <a:lnTo>
                        <a:pt x="130" y="125"/>
                      </a:lnTo>
                      <a:lnTo>
                        <a:pt x="139" y="115"/>
                      </a:lnTo>
                      <a:lnTo>
                        <a:pt x="138" y="97"/>
                      </a:lnTo>
                      <a:lnTo>
                        <a:pt x="160" y="98"/>
                      </a:lnTo>
                      <a:lnTo>
                        <a:pt x="135" y="90"/>
                      </a:lnTo>
                      <a:lnTo>
                        <a:pt x="130" y="69"/>
                      </a:lnTo>
                      <a:lnTo>
                        <a:pt x="132" y="55"/>
                      </a:lnTo>
                      <a:lnTo>
                        <a:pt x="130" y="44"/>
                      </a:lnTo>
                      <a:lnTo>
                        <a:pt x="135" y="21"/>
                      </a:lnTo>
                      <a:close/>
                    </a:path>
                  </a:pathLst>
                </a:custGeom>
                <a:solidFill>
                  <a:srgbClr val="f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4636800" y="2192400"/>
                  <a:ext cx="49680" cy="71280"/>
                </a:xfrm>
                <a:custGeom>
                  <a:avLst/>
                  <a:gdLst/>
                  <a:ahLst/>
                  <a:rect l="l" t="t" r="r" b="b"/>
                  <a:pathLst>
                    <a:path w="77" h="90">
                      <a:moveTo>
                        <a:pt x="77" y="0"/>
                      </a:moveTo>
                      <a:lnTo>
                        <a:pt x="19" y="90"/>
                      </a:lnTo>
                      <a:lnTo>
                        <a:pt x="0" y="26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84" name=""/>
                <p:cNvGrpSpPr/>
                <p:nvPr/>
              </p:nvGrpSpPr>
              <p:grpSpPr>
                <a:xfrm>
                  <a:off x="4430880" y="1575720"/>
                  <a:ext cx="353520" cy="708480"/>
                  <a:chOff x="4430880" y="1575720"/>
                  <a:chExt cx="353520" cy="708480"/>
                </a:xfrm>
              </p:grpSpPr>
              <p:sp>
                <p:nvSpPr>
                  <p:cNvPr id="1885" name=""/>
                  <p:cNvSpPr/>
                  <p:nvPr/>
                </p:nvSpPr>
                <p:spPr>
                  <a:xfrm>
                    <a:off x="4430880" y="1575720"/>
                    <a:ext cx="353520" cy="704520"/>
                  </a:xfrm>
                  <a:custGeom>
                    <a:avLst/>
                    <a:gdLst/>
                    <a:ahLst/>
                    <a:rect l="l" t="t" r="r" b="b"/>
                    <a:pathLst>
                      <a:path w="552" h="889">
                        <a:moveTo>
                          <a:pt x="427" y="11"/>
                        </a:moveTo>
                        <a:lnTo>
                          <a:pt x="351" y="0"/>
                        </a:lnTo>
                        <a:lnTo>
                          <a:pt x="296" y="4"/>
                        </a:lnTo>
                        <a:lnTo>
                          <a:pt x="234" y="11"/>
                        </a:lnTo>
                        <a:lnTo>
                          <a:pt x="201" y="18"/>
                        </a:lnTo>
                        <a:lnTo>
                          <a:pt x="183" y="39"/>
                        </a:lnTo>
                        <a:lnTo>
                          <a:pt x="161" y="35"/>
                        </a:lnTo>
                        <a:lnTo>
                          <a:pt x="128" y="60"/>
                        </a:lnTo>
                        <a:lnTo>
                          <a:pt x="102" y="88"/>
                        </a:lnTo>
                        <a:lnTo>
                          <a:pt x="84" y="116"/>
                        </a:lnTo>
                        <a:lnTo>
                          <a:pt x="62" y="152"/>
                        </a:lnTo>
                        <a:lnTo>
                          <a:pt x="51" y="190"/>
                        </a:lnTo>
                        <a:lnTo>
                          <a:pt x="40" y="257"/>
                        </a:lnTo>
                        <a:lnTo>
                          <a:pt x="33" y="303"/>
                        </a:lnTo>
                        <a:lnTo>
                          <a:pt x="33" y="377"/>
                        </a:lnTo>
                        <a:lnTo>
                          <a:pt x="48" y="426"/>
                        </a:lnTo>
                        <a:lnTo>
                          <a:pt x="44" y="462"/>
                        </a:lnTo>
                        <a:lnTo>
                          <a:pt x="33" y="553"/>
                        </a:lnTo>
                        <a:lnTo>
                          <a:pt x="22" y="592"/>
                        </a:lnTo>
                        <a:lnTo>
                          <a:pt x="18" y="634"/>
                        </a:lnTo>
                        <a:lnTo>
                          <a:pt x="7" y="662"/>
                        </a:lnTo>
                        <a:lnTo>
                          <a:pt x="0" y="694"/>
                        </a:lnTo>
                        <a:lnTo>
                          <a:pt x="4" y="729"/>
                        </a:lnTo>
                        <a:lnTo>
                          <a:pt x="18" y="761"/>
                        </a:lnTo>
                        <a:lnTo>
                          <a:pt x="48" y="789"/>
                        </a:lnTo>
                        <a:lnTo>
                          <a:pt x="99" y="835"/>
                        </a:lnTo>
                        <a:lnTo>
                          <a:pt x="128" y="846"/>
                        </a:lnTo>
                        <a:lnTo>
                          <a:pt x="165" y="856"/>
                        </a:lnTo>
                        <a:lnTo>
                          <a:pt x="194" y="868"/>
                        </a:lnTo>
                        <a:lnTo>
                          <a:pt x="219" y="882"/>
                        </a:lnTo>
                        <a:lnTo>
                          <a:pt x="340" y="889"/>
                        </a:lnTo>
                        <a:lnTo>
                          <a:pt x="420" y="786"/>
                        </a:lnTo>
                        <a:lnTo>
                          <a:pt x="449" y="691"/>
                        </a:lnTo>
                        <a:lnTo>
                          <a:pt x="552" y="691"/>
                        </a:lnTo>
                        <a:lnTo>
                          <a:pt x="544" y="553"/>
                        </a:lnTo>
                        <a:lnTo>
                          <a:pt x="526" y="398"/>
                        </a:lnTo>
                        <a:lnTo>
                          <a:pt x="493" y="204"/>
                        </a:lnTo>
                        <a:lnTo>
                          <a:pt x="475" y="116"/>
                        </a:lnTo>
                        <a:lnTo>
                          <a:pt x="427" y="11"/>
                        </a:lnTo>
                        <a:close/>
                      </a:path>
                    </a:pathLst>
                  </a:custGeom>
                  <a:solidFill>
                    <a:srgbClr val="f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6" name=""/>
                  <p:cNvSpPr/>
                  <p:nvPr/>
                </p:nvSpPr>
                <p:spPr>
                  <a:xfrm>
                    <a:off x="4540320" y="2049840"/>
                    <a:ext cx="159480" cy="23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296">
                        <a:moveTo>
                          <a:pt x="233" y="14"/>
                        </a:moveTo>
                        <a:lnTo>
                          <a:pt x="144" y="7"/>
                        </a:lnTo>
                        <a:lnTo>
                          <a:pt x="51" y="0"/>
                        </a:lnTo>
                        <a:lnTo>
                          <a:pt x="35" y="21"/>
                        </a:lnTo>
                        <a:lnTo>
                          <a:pt x="28" y="38"/>
                        </a:lnTo>
                        <a:lnTo>
                          <a:pt x="17" y="59"/>
                        </a:lnTo>
                        <a:lnTo>
                          <a:pt x="7" y="91"/>
                        </a:lnTo>
                        <a:lnTo>
                          <a:pt x="2" y="119"/>
                        </a:lnTo>
                        <a:lnTo>
                          <a:pt x="0" y="145"/>
                        </a:lnTo>
                        <a:lnTo>
                          <a:pt x="3" y="176"/>
                        </a:lnTo>
                        <a:lnTo>
                          <a:pt x="14" y="217"/>
                        </a:lnTo>
                        <a:lnTo>
                          <a:pt x="25" y="250"/>
                        </a:lnTo>
                        <a:lnTo>
                          <a:pt x="28" y="280"/>
                        </a:lnTo>
                        <a:lnTo>
                          <a:pt x="177" y="296"/>
                        </a:lnTo>
                        <a:lnTo>
                          <a:pt x="241" y="193"/>
                        </a:lnTo>
                        <a:lnTo>
                          <a:pt x="248" y="166"/>
                        </a:lnTo>
                        <a:lnTo>
                          <a:pt x="233" y="14"/>
                        </a:lnTo>
                        <a:close/>
                      </a:path>
                    </a:pathLst>
                  </a:custGeom>
                  <a:solidFill>
                    <a:srgbClr val="df1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7" name=""/>
                  <p:cNvSpPr/>
                  <p:nvPr/>
                </p:nvSpPr>
                <p:spPr>
                  <a:xfrm>
                    <a:off x="4469040" y="1622880"/>
                    <a:ext cx="149760" cy="44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567">
                        <a:moveTo>
                          <a:pt x="146" y="0"/>
                        </a:moveTo>
                        <a:lnTo>
                          <a:pt x="189" y="70"/>
                        </a:lnTo>
                        <a:lnTo>
                          <a:pt x="215" y="144"/>
                        </a:lnTo>
                        <a:lnTo>
                          <a:pt x="230" y="233"/>
                        </a:lnTo>
                        <a:lnTo>
                          <a:pt x="233" y="331"/>
                        </a:lnTo>
                        <a:lnTo>
                          <a:pt x="230" y="447"/>
                        </a:lnTo>
                        <a:lnTo>
                          <a:pt x="219" y="497"/>
                        </a:lnTo>
                        <a:lnTo>
                          <a:pt x="160" y="539"/>
                        </a:lnTo>
                        <a:lnTo>
                          <a:pt x="131" y="521"/>
                        </a:lnTo>
                        <a:lnTo>
                          <a:pt x="102" y="514"/>
                        </a:lnTo>
                        <a:lnTo>
                          <a:pt x="76" y="521"/>
                        </a:lnTo>
                        <a:lnTo>
                          <a:pt x="58" y="546"/>
                        </a:lnTo>
                        <a:lnTo>
                          <a:pt x="25" y="560"/>
                        </a:lnTo>
                        <a:lnTo>
                          <a:pt x="0" y="567"/>
                        </a:lnTo>
                        <a:lnTo>
                          <a:pt x="40" y="532"/>
                        </a:lnTo>
                        <a:lnTo>
                          <a:pt x="65" y="521"/>
                        </a:lnTo>
                        <a:lnTo>
                          <a:pt x="84" y="504"/>
                        </a:lnTo>
                        <a:lnTo>
                          <a:pt x="106" y="504"/>
                        </a:lnTo>
                        <a:lnTo>
                          <a:pt x="131" y="479"/>
                        </a:lnTo>
                        <a:lnTo>
                          <a:pt x="106" y="451"/>
                        </a:lnTo>
                        <a:lnTo>
                          <a:pt x="142" y="458"/>
                        </a:lnTo>
                        <a:lnTo>
                          <a:pt x="116" y="377"/>
                        </a:lnTo>
                        <a:lnTo>
                          <a:pt x="95" y="310"/>
                        </a:lnTo>
                        <a:lnTo>
                          <a:pt x="87" y="263"/>
                        </a:lnTo>
                        <a:lnTo>
                          <a:pt x="98" y="194"/>
                        </a:lnTo>
                        <a:lnTo>
                          <a:pt x="116" y="271"/>
                        </a:lnTo>
                        <a:lnTo>
                          <a:pt x="153" y="359"/>
                        </a:lnTo>
                        <a:lnTo>
                          <a:pt x="197" y="454"/>
                        </a:lnTo>
                        <a:lnTo>
                          <a:pt x="197" y="324"/>
                        </a:lnTo>
                        <a:lnTo>
                          <a:pt x="189" y="236"/>
                        </a:lnTo>
                        <a:lnTo>
                          <a:pt x="179" y="106"/>
                        </a:lnTo>
                        <a:lnTo>
                          <a:pt x="146" y="0"/>
                        </a:lnTo>
                        <a:close/>
                      </a:path>
                    </a:pathLst>
                  </a:custGeom>
                  <a:solidFill>
                    <a:srgbClr val="df3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88" name=""/>
                <p:cNvSpPr/>
                <p:nvPr/>
              </p:nvSpPr>
              <p:spPr>
                <a:xfrm>
                  <a:off x="4844520" y="1872000"/>
                  <a:ext cx="436680" cy="284400"/>
                </a:xfrm>
                <a:custGeom>
                  <a:avLst/>
                  <a:gdLst/>
                  <a:ahLst/>
                  <a:rect l="l" t="t" r="r" b="b"/>
                  <a:pathLst>
                    <a:path w="681" h="359">
                      <a:moveTo>
                        <a:pt x="0" y="292"/>
                      </a:moveTo>
                      <a:lnTo>
                        <a:pt x="263" y="0"/>
                      </a:lnTo>
                      <a:lnTo>
                        <a:pt x="681" y="111"/>
                      </a:lnTo>
                      <a:lnTo>
                        <a:pt x="509" y="320"/>
                      </a:lnTo>
                      <a:lnTo>
                        <a:pt x="402" y="344"/>
                      </a:lnTo>
                      <a:lnTo>
                        <a:pt x="293" y="359"/>
                      </a:lnTo>
                      <a:lnTo>
                        <a:pt x="55" y="345"/>
                      </a:lnTo>
                      <a:lnTo>
                        <a:pt x="0" y="292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4628880" y="2038320"/>
                  <a:ext cx="372960" cy="187200"/>
                </a:xfrm>
                <a:custGeom>
                  <a:avLst/>
                  <a:gdLst/>
                  <a:ahLst/>
                  <a:rect l="l" t="t" r="r" b="b"/>
                  <a:pathLst>
                    <a:path w="582" h="236">
                      <a:moveTo>
                        <a:pt x="32" y="57"/>
                      </a:moveTo>
                      <a:lnTo>
                        <a:pt x="249" y="29"/>
                      </a:lnTo>
                      <a:lnTo>
                        <a:pt x="295" y="12"/>
                      </a:lnTo>
                      <a:lnTo>
                        <a:pt x="318" y="3"/>
                      </a:lnTo>
                      <a:lnTo>
                        <a:pt x="342" y="0"/>
                      </a:lnTo>
                      <a:lnTo>
                        <a:pt x="375" y="5"/>
                      </a:lnTo>
                      <a:lnTo>
                        <a:pt x="412" y="12"/>
                      </a:lnTo>
                      <a:lnTo>
                        <a:pt x="439" y="15"/>
                      </a:lnTo>
                      <a:lnTo>
                        <a:pt x="491" y="21"/>
                      </a:lnTo>
                      <a:lnTo>
                        <a:pt x="517" y="22"/>
                      </a:lnTo>
                      <a:lnTo>
                        <a:pt x="537" y="26"/>
                      </a:lnTo>
                      <a:lnTo>
                        <a:pt x="559" y="29"/>
                      </a:lnTo>
                      <a:lnTo>
                        <a:pt x="577" y="36"/>
                      </a:lnTo>
                      <a:lnTo>
                        <a:pt x="582" y="46"/>
                      </a:lnTo>
                      <a:lnTo>
                        <a:pt x="574" y="54"/>
                      </a:lnTo>
                      <a:lnTo>
                        <a:pt x="537" y="56"/>
                      </a:lnTo>
                      <a:lnTo>
                        <a:pt x="523" y="57"/>
                      </a:lnTo>
                      <a:lnTo>
                        <a:pt x="520" y="82"/>
                      </a:lnTo>
                      <a:lnTo>
                        <a:pt x="512" y="92"/>
                      </a:lnTo>
                      <a:lnTo>
                        <a:pt x="506" y="93"/>
                      </a:lnTo>
                      <a:lnTo>
                        <a:pt x="501" y="109"/>
                      </a:lnTo>
                      <a:lnTo>
                        <a:pt x="490" y="121"/>
                      </a:lnTo>
                      <a:lnTo>
                        <a:pt x="476" y="127"/>
                      </a:lnTo>
                      <a:lnTo>
                        <a:pt x="468" y="137"/>
                      </a:lnTo>
                      <a:lnTo>
                        <a:pt x="457" y="142"/>
                      </a:lnTo>
                      <a:lnTo>
                        <a:pt x="423" y="160"/>
                      </a:lnTo>
                      <a:lnTo>
                        <a:pt x="405" y="167"/>
                      </a:lnTo>
                      <a:lnTo>
                        <a:pt x="351" y="169"/>
                      </a:lnTo>
                      <a:lnTo>
                        <a:pt x="311" y="165"/>
                      </a:lnTo>
                      <a:lnTo>
                        <a:pt x="288" y="155"/>
                      </a:lnTo>
                      <a:lnTo>
                        <a:pt x="277" y="151"/>
                      </a:lnTo>
                      <a:lnTo>
                        <a:pt x="256" y="155"/>
                      </a:lnTo>
                      <a:lnTo>
                        <a:pt x="222" y="158"/>
                      </a:lnTo>
                      <a:lnTo>
                        <a:pt x="193" y="163"/>
                      </a:lnTo>
                      <a:lnTo>
                        <a:pt x="70" y="208"/>
                      </a:lnTo>
                      <a:lnTo>
                        <a:pt x="17" y="236"/>
                      </a:lnTo>
                      <a:lnTo>
                        <a:pt x="3" y="187"/>
                      </a:lnTo>
                      <a:lnTo>
                        <a:pt x="0" y="156"/>
                      </a:lnTo>
                      <a:lnTo>
                        <a:pt x="0" y="131"/>
                      </a:lnTo>
                      <a:lnTo>
                        <a:pt x="10" y="99"/>
                      </a:lnTo>
                      <a:lnTo>
                        <a:pt x="32" y="57"/>
                      </a:lnTo>
                      <a:close/>
                    </a:path>
                  </a:pathLst>
                </a:custGeom>
                <a:solidFill>
                  <a:srgbClr val="f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90" name=""/>
                <p:cNvGrpSpPr/>
                <p:nvPr/>
              </p:nvGrpSpPr>
              <p:grpSpPr>
                <a:xfrm>
                  <a:off x="4557600" y="1098360"/>
                  <a:ext cx="410400" cy="656280"/>
                  <a:chOff x="4557600" y="1098360"/>
                  <a:chExt cx="410400" cy="656280"/>
                </a:xfrm>
              </p:grpSpPr>
              <p:grpSp>
                <p:nvGrpSpPr>
                  <p:cNvPr id="1891" name=""/>
                  <p:cNvGrpSpPr/>
                  <p:nvPr/>
                </p:nvGrpSpPr>
                <p:grpSpPr>
                  <a:xfrm>
                    <a:off x="4926600" y="1276200"/>
                    <a:ext cx="36000" cy="118440"/>
                    <a:chOff x="4926600" y="1276200"/>
                    <a:chExt cx="36000" cy="118440"/>
                  </a:xfrm>
                </p:grpSpPr>
                <p:sp>
                  <p:nvSpPr>
                    <p:cNvPr id="1892" name=""/>
                    <p:cNvSpPr/>
                    <p:nvPr/>
                  </p:nvSpPr>
                  <p:spPr>
                    <a:xfrm>
                      <a:off x="4926600" y="1276200"/>
                      <a:ext cx="36000" cy="118440"/>
                    </a:xfrm>
                    <a:prstGeom prst="ellipse">
                      <a:avLst/>
                    </a:prstGeom>
                    <a:solidFill>
                      <a:srgbClr val="7f3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3" name=""/>
                    <p:cNvSpPr/>
                    <p:nvPr/>
                  </p:nvSpPr>
                  <p:spPr>
                    <a:xfrm>
                      <a:off x="4930200" y="1278720"/>
                      <a:ext cx="30600" cy="110880"/>
                    </a:xfrm>
                    <a:prstGeom prst="ellipse">
                      <a:avLst/>
                    </a:prstGeom>
                    <a:solidFill>
                      <a:srgbClr val="ffd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4" name=""/>
                  <p:cNvGrpSpPr/>
                  <p:nvPr/>
                </p:nvGrpSpPr>
                <p:grpSpPr>
                  <a:xfrm>
                    <a:off x="4557600" y="1098360"/>
                    <a:ext cx="410400" cy="656280"/>
                    <a:chOff x="4557600" y="1098360"/>
                    <a:chExt cx="410400" cy="656280"/>
                  </a:xfrm>
                </p:grpSpPr>
                <p:grpSp>
                  <p:nvGrpSpPr>
                    <p:cNvPr id="1895" name=""/>
                    <p:cNvGrpSpPr/>
                    <p:nvPr/>
                  </p:nvGrpSpPr>
                  <p:grpSpPr>
                    <a:xfrm>
                      <a:off x="4653360" y="1141200"/>
                      <a:ext cx="314640" cy="613440"/>
                      <a:chOff x="4653360" y="1141200"/>
                      <a:chExt cx="314640" cy="613440"/>
                    </a:xfrm>
                  </p:grpSpPr>
                  <p:sp>
                    <p:nvSpPr>
                      <p:cNvPr id="1896" name=""/>
                      <p:cNvSpPr/>
                      <p:nvPr/>
                    </p:nvSpPr>
                    <p:spPr>
                      <a:xfrm>
                        <a:off x="4653360" y="1141200"/>
                        <a:ext cx="314640" cy="61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2" h="777">
                            <a:moveTo>
                              <a:pt x="318" y="14"/>
                            </a:moveTo>
                            <a:lnTo>
                              <a:pt x="359" y="29"/>
                            </a:lnTo>
                            <a:lnTo>
                              <a:pt x="383" y="44"/>
                            </a:lnTo>
                            <a:lnTo>
                              <a:pt x="402" y="64"/>
                            </a:lnTo>
                            <a:lnTo>
                              <a:pt x="413" y="86"/>
                            </a:lnTo>
                            <a:lnTo>
                              <a:pt x="421" y="111"/>
                            </a:lnTo>
                            <a:lnTo>
                              <a:pt x="427" y="135"/>
                            </a:lnTo>
                            <a:lnTo>
                              <a:pt x="434" y="171"/>
                            </a:lnTo>
                            <a:lnTo>
                              <a:pt x="438" y="206"/>
                            </a:lnTo>
                            <a:lnTo>
                              <a:pt x="433" y="227"/>
                            </a:lnTo>
                            <a:lnTo>
                              <a:pt x="431" y="248"/>
                            </a:lnTo>
                            <a:lnTo>
                              <a:pt x="442" y="269"/>
                            </a:lnTo>
                            <a:lnTo>
                              <a:pt x="475" y="303"/>
                            </a:lnTo>
                            <a:lnTo>
                              <a:pt x="483" y="313"/>
                            </a:lnTo>
                            <a:lnTo>
                              <a:pt x="490" y="322"/>
                            </a:lnTo>
                            <a:lnTo>
                              <a:pt x="492" y="330"/>
                            </a:lnTo>
                            <a:lnTo>
                              <a:pt x="488" y="337"/>
                            </a:lnTo>
                            <a:lnTo>
                              <a:pt x="480" y="342"/>
                            </a:lnTo>
                            <a:lnTo>
                              <a:pt x="464" y="347"/>
                            </a:lnTo>
                            <a:lnTo>
                              <a:pt x="458" y="353"/>
                            </a:lnTo>
                            <a:lnTo>
                              <a:pt x="464" y="367"/>
                            </a:lnTo>
                            <a:lnTo>
                              <a:pt x="462" y="375"/>
                            </a:lnTo>
                            <a:lnTo>
                              <a:pt x="456" y="382"/>
                            </a:lnTo>
                            <a:lnTo>
                              <a:pt x="443" y="389"/>
                            </a:lnTo>
                            <a:lnTo>
                              <a:pt x="425" y="397"/>
                            </a:lnTo>
                            <a:lnTo>
                              <a:pt x="414" y="401"/>
                            </a:lnTo>
                            <a:lnTo>
                              <a:pt x="453" y="410"/>
                            </a:lnTo>
                            <a:lnTo>
                              <a:pt x="458" y="417"/>
                            </a:lnTo>
                            <a:lnTo>
                              <a:pt x="448" y="433"/>
                            </a:lnTo>
                            <a:lnTo>
                              <a:pt x="447" y="454"/>
                            </a:lnTo>
                            <a:lnTo>
                              <a:pt x="447" y="484"/>
                            </a:lnTo>
                            <a:lnTo>
                              <a:pt x="447" y="496"/>
                            </a:lnTo>
                            <a:lnTo>
                              <a:pt x="442" y="505"/>
                            </a:lnTo>
                            <a:lnTo>
                              <a:pt x="431" y="514"/>
                            </a:lnTo>
                            <a:lnTo>
                              <a:pt x="414" y="518"/>
                            </a:lnTo>
                            <a:lnTo>
                              <a:pt x="396" y="523"/>
                            </a:lnTo>
                            <a:lnTo>
                              <a:pt x="354" y="530"/>
                            </a:lnTo>
                            <a:lnTo>
                              <a:pt x="330" y="536"/>
                            </a:lnTo>
                            <a:lnTo>
                              <a:pt x="312" y="543"/>
                            </a:lnTo>
                            <a:lnTo>
                              <a:pt x="298" y="553"/>
                            </a:lnTo>
                            <a:lnTo>
                              <a:pt x="253" y="615"/>
                            </a:lnTo>
                            <a:lnTo>
                              <a:pt x="320" y="754"/>
                            </a:lnTo>
                            <a:lnTo>
                              <a:pt x="281" y="765"/>
                            </a:lnTo>
                            <a:lnTo>
                              <a:pt x="221" y="777"/>
                            </a:lnTo>
                            <a:lnTo>
                              <a:pt x="169" y="774"/>
                            </a:lnTo>
                            <a:lnTo>
                              <a:pt x="139" y="758"/>
                            </a:lnTo>
                            <a:lnTo>
                              <a:pt x="68" y="545"/>
                            </a:lnTo>
                            <a:lnTo>
                              <a:pt x="68" y="474"/>
                            </a:lnTo>
                            <a:lnTo>
                              <a:pt x="47" y="436"/>
                            </a:lnTo>
                            <a:lnTo>
                              <a:pt x="22" y="387"/>
                            </a:lnTo>
                            <a:lnTo>
                              <a:pt x="11" y="359"/>
                            </a:lnTo>
                            <a:lnTo>
                              <a:pt x="4" y="321"/>
                            </a:lnTo>
                            <a:lnTo>
                              <a:pt x="0" y="280"/>
                            </a:lnTo>
                            <a:lnTo>
                              <a:pt x="0" y="231"/>
                            </a:lnTo>
                            <a:lnTo>
                              <a:pt x="6" y="185"/>
                            </a:lnTo>
                            <a:lnTo>
                              <a:pt x="14" y="145"/>
                            </a:lnTo>
                            <a:lnTo>
                              <a:pt x="28" y="111"/>
                            </a:lnTo>
                            <a:lnTo>
                              <a:pt x="44" y="78"/>
                            </a:lnTo>
                            <a:lnTo>
                              <a:pt x="68" y="47"/>
                            </a:lnTo>
                            <a:lnTo>
                              <a:pt x="102" y="23"/>
                            </a:lnTo>
                            <a:lnTo>
                              <a:pt x="139" y="9"/>
                            </a:lnTo>
                            <a:lnTo>
                              <a:pt x="181" y="2"/>
                            </a:lnTo>
                            <a:lnTo>
                              <a:pt x="219" y="0"/>
                            </a:lnTo>
                            <a:lnTo>
                              <a:pt x="269" y="3"/>
                            </a:lnTo>
                            <a:lnTo>
                              <a:pt x="318" y="14"/>
                            </a:lnTo>
                            <a:close/>
                          </a:path>
                        </a:pathLst>
                      </a:custGeom>
                      <a:solidFill>
                        <a:srgbClr val="ffb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897" name=""/>
                      <p:cNvGrpSpPr/>
                      <p:nvPr/>
                    </p:nvGrpSpPr>
                    <p:grpSpPr>
                      <a:xfrm>
                        <a:off x="4783680" y="1499040"/>
                        <a:ext cx="145440" cy="224640"/>
                        <a:chOff x="4783680" y="1499040"/>
                        <a:chExt cx="145440" cy="224640"/>
                      </a:xfrm>
                    </p:grpSpPr>
                    <p:sp>
                      <p:nvSpPr>
                        <p:cNvPr id="1898" name=""/>
                        <p:cNvSpPr/>
                        <p:nvPr/>
                      </p:nvSpPr>
                      <p:spPr>
                        <a:xfrm>
                          <a:off x="4785840" y="1499040"/>
                          <a:ext cx="143280" cy="80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6" h="102">
                              <a:moveTo>
                                <a:pt x="0" y="0"/>
                              </a:moveTo>
                              <a:lnTo>
                                <a:pt x="33" y="14"/>
                              </a:lnTo>
                              <a:lnTo>
                                <a:pt x="67" y="25"/>
                              </a:lnTo>
                              <a:lnTo>
                                <a:pt x="92" y="32"/>
                              </a:lnTo>
                              <a:lnTo>
                                <a:pt x="125" y="41"/>
                              </a:lnTo>
                              <a:lnTo>
                                <a:pt x="147" y="45"/>
                              </a:lnTo>
                              <a:lnTo>
                                <a:pt x="178" y="50"/>
                              </a:lnTo>
                              <a:lnTo>
                                <a:pt x="201" y="50"/>
                              </a:lnTo>
                              <a:lnTo>
                                <a:pt x="226" y="50"/>
                              </a:lnTo>
                              <a:lnTo>
                                <a:pt x="202" y="59"/>
                              </a:lnTo>
                              <a:lnTo>
                                <a:pt x="168" y="66"/>
                              </a:lnTo>
                              <a:lnTo>
                                <a:pt x="141" y="72"/>
                              </a:lnTo>
                              <a:lnTo>
                                <a:pt x="119" y="78"/>
                              </a:lnTo>
                              <a:lnTo>
                                <a:pt x="97" y="85"/>
                              </a:lnTo>
                              <a:lnTo>
                                <a:pt x="84" y="91"/>
                              </a:lnTo>
                              <a:lnTo>
                                <a:pt x="69" y="102"/>
                              </a:lnTo>
                              <a:lnTo>
                                <a:pt x="83" y="86"/>
                              </a:lnTo>
                              <a:lnTo>
                                <a:pt x="95" y="75"/>
                              </a:lnTo>
                              <a:lnTo>
                                <a:pt x="98" y="65"/>
                              </a:lnTo>
                              <a:lnTo>
                                <a:pt x="98" y="57"/>
                              </a:lnTo>
                              <a:lnTo>
                                <a:pt x="95" y="49"/>
                              </a:lnTo>
                              <a:lnTo>
                                <a:pt x="85" y="44"/>
                              </a:lnTo>
                              <a:lnTo>
                                <a:pt x="74" y="41"/>
                              </a:lnTo>
                              <a:lnTo>
                                <a:pt x="55" y="38"/>
                              </a:lnTo>
                              <a:lnTo>
                                <a:pt x="38" y="36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3480" bIns="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9" name=""/>
                        <p:cNvSpPr/>
                        <p:nvPr/>
                      </p:nvSpPr>
                      <p:spPr>
                        <a:xfrm>
                          <a:off x="4783680" y="1612080"/>
                          <a:ext cx="34200" cy="111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6" h="142">
                              <a:moveTo>
                                <a:pt x="32" y="16"/>
                              </a:moveTo>
                              <a:lnTo>
                                <a:pt x="32" y="6"/>
                              </a:lnTo>
                              <a:lnTo>
                                <a:pt x="28" y="1"/>
                              </a:lnTo>
                              <a:lnTo>
                                <a:pt x="20" y="0"/>
                              </a:lnTo>
                              <a:lnTo>
                                <a:pt x="11" y="5"/>
                              </a:lnTo>
                              <a:lnTo>
                                <a:pt x="5" y="13"/>
                              </a:lnTo>
                              <a:lnTo>
                                <a:pt x="0" y="23"/>
                              </a:lnTo>
                              <a:lnTo>
                                <a:pt x="0" y="38"/>
                              </a:lnTo>
                              <a:lnTo>
                                <a:pt x="2" y="81"/>
                              </a:lnTo>
                              <a:lnTo>
                                <a:pt x="5" y="99"/>
                              </a:lnTo>
                              <a:lnTo>
                                <a:pt x="10" y="108"/>
                              </a:lnTo>
                              <a:lnTo>
                                <a:pt x="47" y="142"/>
                              </a:lnTo>
                              <a:lnTo>
                                <a:pt x="56" y="108"/>
                              </a:lnTo>
                              <a:lnTo>
                                <a:pt x="39" y="84"/>
                              </a:lnTo>
                              <a:lnTo>
                                <a:pt x="42" y="101"/>
                              </a:lnTo>
                              <a:lnTo>
                                <a:pt x="43" y="115"/>
                              </a:lnTo>
                              <a:lnTo>
                                <a:pt x="42" y="120"/>
                              </a:lnTo>
                              <a:lnTo>
                                <a:pt x="14" y="89"/>
                              </a:lnTo>
                              <a:lnTo>
                                <a:pt x="13" y="77"/>
                              </a:lnTo>
                              <a:lnTo>
                                <a:pt x="10" y="61"/>
                              </a:lnTo>
                              <a:lnTo>
                                <a:pt x="16" y="42"/>
                              </a:lnTo>
                              <a:lnTo>
                                <a:pt x="24" y="27"/>
                              </a:lnTo>
                              <a:lnTo>
                                <a:pt x="32" y="1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900" name=""/>
                    <p:cNvSpPr/>
                    <p:nvPr/>
                  </p:nvSpPr>
                  <p:spPr>
                    <a:xfrm>
                      <a:off x="4872600" y="1335240"/>
                      <a:ext cx="2304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9">
                          <a:moveTo>
                            <a:pt x="32" y="0"/>
                          </a:moveTo>
                          <a:lnTo>
                            <a:pt x="17" y="6"/>
                          </a:lnTo>
                          <a:lnTo>
                            <a:pt x="0" y="17"/>
                          </a:lnTo>
                          <a:lnTo>
                            <a:pt x="12" y="26"/>
                          </a:lnTo>
                          <a:lnTo>
                            <a:pt x="30" y="29"/>
                          </a:lnTo>
                          <a:lnTo>
                            <a:pt x="36" y="28"/>
                          </a:lnTo>
                          <a:lnTo>
                            <a:pt x="32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1" name=""/>
                    <p:cNvSpPr/>
                    <p:nvPr/>
                  </p:nvSpPr>
                  <p:spPr>
                    <a:xfrm>
                      <a:off x="4862880" y="1288080"/>
                      <a:ext cx="4032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53">
                          <a:moveTo>
                            <a:pt x="64" y="0"/>
                          </a:moveTo>
                          <a:lnTo>
                            <a:pt x="49" y="3"/>
                          </a:lnTo>
                          <a:lnTo>
                            <a:pt x="38" y="14"/>
                          </a:lnTo>
                          <a:lnTo>
                            <a:pt x="28" y="27"/>
                          </a:lnTo>
                          <a:lnTo>
                            <a:pt x="19" y="39"/>
                          </a:lnTo>
                          <a:lnTo>
                            <a:pt x="0" y="53"/>
                          </a:lnTo>
                          <a:lnTo>
                            <a:pt x="22" y="46"/>
                          </a:lnTo>
                          <a:lnTo>
                            <a:pt x="37" y="35"/>
                          </a:lnTo>
                          <a:lnTo>
                            <a:pt x="49" y="25"/>
                          </a:lnTo>
                          <a:lnTo>
                            <a:pt x="60" y="21"/>
                          </a:lnTo>
                          <a:lnTo>
                            <a:pt x="64" y="0"/>
                          </a:lnTo>
                          <a:close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902" name=""/>
                    <p:cNvGrpSpPr/>
                    <p:nvPr/>
                  </p:nvGrpSpPr>
                  <p:grpSpPr>
                    <a:xfrm>
                      <a:off x="4868640" y="1314360"/>
                      <a:ext cx="28080" cy="44640"/>
                      <a:chOff x="4868640" y="1314360"/>
                      <a:chExt cx="28080" cy="44640"/>
                    </a:xfrm>
                  </p:grpSpPr>
                  <p:sp>
                    <p:nvSpPr>
                      <p:cNvPr id="1903" name=""/>
                      <p:cNvSpPr/>
                      <p:nvPr/>
                    </p:nvSpPr>
                    <p:spPr>
                      <a:xfrm>
                        <a:off x="4880160" y="1337760"/>
                        <a:ext cx="12600" cy="18360"/>
                      </a:xfrm>
                      <a:prstGeom prst="ellipse">
                        <a:avLst/>
                      </a:prstGeom>
                      <a:solidFill>
                        <a:srgbClr val="5f7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4" name=""/>
                      <p:cNvSpPr/>
                      <p:nvPr/>
                    </p:nvSpPr>
                    <p:spPr>
                      <a:xfrm>
                        <a:off x="4868640" y="1314360"/>
                        <a:ext cx="28080" cy="4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57">
                            <a:moveTo>
                              <a:pt x="38" y="14"/>
                            </a:moveTo>
                            <a:lnTo>
                              <a:pt x="26" y="25"/>
                            </a:lnTo>
                            <a:lnTo>
                              <a:pt x="30" y="0"/>
                            </a:lnTo>
                            <a:lnTo>
                              <a:pt x="20" y="25"/>
                            </a:lnTo>
                            <a:lnTo>
                              <a:pt x="12" y="35"/>
                            </a:lnTo>
                            <a:lnTo>
                              <a:pt x="0" y="44"/>
                            </a:lnTo>
                            <a:lnTo>
                              <a:pt x="15" y="54"/>
                            </a:lnTo>
                            <a:lnTo>
                              <a:pt x="16" y="54"/>
                            </a:lnTo>
                            <a:lnTo>
                              <a:pt x="26" y="57"/>
                            </a:lnTo>
                            <a:lnTo>
                              <a:pt x="39" y="57"/>
                            </a:lnTo>
                            <a:lnTo>
                              <a:pt x="37" y="48"/>
                            </a:lnTo>
                            <a:lnTo>
                              <a:pt x="26" y="51"/>
                            </a:lnTo>
                            <a:lnTo>
                              <a:pt x="15" y="46"/>
                            </a:lnTo>
                            <a:lnTo>
                              <a:pt x="6" y="42"/>
                            </a:lnTo>
                            <a:lnTo>
                              <a:pt x="15" y="38"/>
                            </a:lnTo>
                            <a:lnTo>
                              <a:pt x="30" y="32"/>
                            </a:lnTo>
                            <a:lnTo>
                              <a:pt x="44" y="25"/>
                            </a:lnTo>
                            <a:lnTo>
                              <a:pt x="38" y="14"/>
                            </a:lnTo>
                            <a:close/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905" name=""/>
                    <p:cNvSpPr/>
                    <p:nvPr/>
                  </p:nvSpPr>
                  <p:spPr>
                    <a:xfrm>
                      <a:off x="4557600" y="1098360"/>
                      <a:ext cx="381960" cy="53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7" h="674">
                          <a:moveTo>
                            <a:pt x="579" y="199"/>
                          </a:moveTo>
                          <a:lnTo>
                            <a:pt x="586" y="192"/>
                          </a:lnTo>
                          <a:lnTo>
                            <a:pt x="594" y="183"/>
                          </a:lnTo>
                          <a:lnTo>
                            <a:pt x="597" y="162"/>
                          </a:lnTo>
                          <a:lnTo>
                            <a:pt x="597" y="123"/>
                          </a:lnTo>
                          <a:lnTo>
                            <a:pt x="586" y="91"/>
                          </a:lnTo>
                          <a:lnTo>
                            <a:pt x="571" y="74"/>
                          </a:lnTo>
                          <a:lnTo>
                            <a:pt x="549" y="52"/>
                          </a:lnTo>
                          <a:lnTo>
                            <a:pt x="504" y="45"/>
                          </a:lnTo>
                          <a:lnTo>
                            <a:pt x="439" y="35"/>
                          </a:lnTo>
                          <a:lnTo>
                            <a:pt x="380" y="21"/>
                          </a:lnTo>
                          <a:lnTo>
                            <a:pt x="333" y="10"/>
                          </a:lnTo>
                          <a:lnTo>
                            <a:pt x="274" y="0"/>
                          </a:lnTo>
                          <a:lnTo>
                            <a:pt x="245" y="10"/>
                          </a:lnTo>
                          <a:lnTo>
                            <a:pt x="212" y="35"/>
                          </a:lnTo>
                          <a:lnTo>
                            <a:pt x="183" y="63"/>
                          </a:lnTo>
                          <a:lnTo>
                            <a:pt x="161" y="95"/>
                          </a:lnTo>
                          <a:lnTo>
                            <a:pt x="135" y="144"/>
                          </a:lnTo>
                          <a:lnTo>
                            <a:pt x="121" y="190"/>
                          </a:lnTo>
                          <a:lnTo>
                            <a:pt x="114" y="236"/>
                          </a:lnTo>
                          <a:lnTo>
                            <a:pt x="103" y="288"/>
                          </a:lnTo>
                          <a:lnTo>
                            <a:pt x="103" y="334"/>
                          </a:lnTo>
                          <a:lnTo>
                            <a:pt x="88" y="387"/>
                          </a:lnTo>
                          <a:lnTo>
                            <a:pt x="70" y="434"/>
                          </a:lnTo>
                          <a:lnTo>
                            <a:pt x="48" y="466"/>
                          </a:lnTo>
                          <a:lnTo>
                            <a:pt x="26" y="487"/>
                          </a:lnTo>
                          <a:lnTo>
                            <a:pt x="4" y="512"/>
                          </a:lnTo>
                          <a:lnTo>
                            <a:pt x="4" y="519"/>
                          </a:lnTo>
                          <a:lnTo>
                            <a:pt x="0" y="540"/>
                          </a:lnTo>
                          <a:lnTo>
                            <a:pt x="0" y="575"/>
                          </a:lnTo>
                          <a:lnTo>
                            <a:pt x="11" y="603"/>
                          </a:lnTo>
                          <a:lnTo>
                            <a:pt x="30" y="621"/>
                          </a:lnTo>
                          <a:lnTo>
                            <a:pt x="88" y="621"/>
                          </a:lnTo>
                          <a:lnTo>
                            <a:pt x="135" y="628"/>
                          </a:lnTo>
                          <a:lnTo>
                            <a:pt x="183" y="660"/>
                          </a:lnTo>
                          <a:lnTo>
                            <a:pt x="234" y="674"/>
                          </a:lnTo>
                          <a:lnTo>
                            <a:pt x="278" y="674"/>
                          </a:lnTo>
                          <a:lnTo>
                            <a:pt x="314" y="652"/>
                          </a:lnTo>
                          <a:lnTo>
                            <a:pt x="329" y="621"/>
                          </a:lnTo>
                          <a:lnTo>
                            <a:pt x="325" y="578"/>
                          </a:lnTo>
                          <a:lnTo>
                            <a:pt x="307" y="547"/>
                          </a:lnTo>
                          <a:lnTo>
                            <a:pt x="303" y="515"/>
                          </a:lnTo>
                          <a:lnTo>
                            <a:pt x="307" y="483"/>
                          </a:lnTo>
                          <a:lnTo>
                            <a:pt x="336" y="455"/>
                          </a:lnTo>
                          <a:lnTo>
                            <a:pt x="369" y="445"/>
                          </a:lnTo>
                          <a:lnTo>
                            <a:pt x="391" y="427"/>
                          </a:lnTo>
                          <a:lnTo>
                            <a:pt x="409" y="399"/>
                          </a:lnTo>
                          <a:lnTo>
                            <a:pt x="413" y="352"/>
                          </a:lnTo>
                          <a:lnTo>
                            <a:pt x="413" y="331"/>
                          </a:lnTo>
                          <a:lnTo>
                            <a:pt x="439" y="324"/>
                          </a:lnTo>
                          <a:lnTo>
                            <a:pt x="464" y="303"/>
                          </a:lnTo>
                          <a:lnTo>
                            <a:pt x="479" y="267"/>
                          </a:lnTo>
                          <a:lnTo>
                            <a:pt x="493" y="218"/>
                          </a:lnTo>
                          <a:lnTo>
                            <a:pt x="486" y="158"/>
                          </a:lnTo>
                          <a:lnTo>
                            <a:pt x="475" y="123"/>
                          </a:lnTo>
                          <a:lnTo>
                            <a:pt x="442" y="98"/>
                          </a:lnTo>
                          <a:lnTo>
                            <a:pt x="519" y="123"/>
                          </a:lnTo>
                          <a:lnTo>
                            <a:pt x="546" y="162"/>
                          </a:lnTo>
                          <a:lnTo>
                            <a:pt x="574" y="185"/>
                          </a:lnTo>
                          <a:lnTo>
                            <a:pt x="579" y="199"/>
                          </a:lnTo>
                          <a:close/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06" name=""/>
                  <p:cNvGrpSpPr/>
                  <p:nvPr/>
                </p:nvGrpSpPr>
                <p:grpSpPr>
                  <a:xfrm>
                    <a:off x="4836240" y="1276200"/>
                    <a:ext cx="97560" cy="124920"/>
                    <a:chOff x="4836240" y="1276200"/>
                    <a:chExt cx="97560" cy="124920"/>
                  </a:xfrm>
                </p:grpSpPr>
                <p:sp>
                  <p:nvSpPr>
                    <p:cNvPr id="1907" name=""/>
                    <p:cNvSpPr/>
                    <p:nvPr/>
                  </p:nvSpPr>
                  <p:spPr>
                    <a:xfrm flipV="1">
                      <a:off x="4926240" y="1327680"/>
                      <a:ext cx="7560" cy="2520"/>
                    </a:xfrm>
                    <a:prstGeom prst="line">
                      <a:avLst/>
                    </a:prstGeom>
                    <a:ln w="3240">
                      <a:solidFill>
                        <a:srgbClr val="7f3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908" name=""/>
                    <p:cNvGrpSpPr/>
                    <p:nvPr/>
                  </p:nvGrpSpPr>
                  <p:grpSpPr>
                    <a:xfrm>
                      <a:off x="4836240" y="1276200"/>
                      <a:ext cx="89640" cy="124920"/>
                      <a:chOff x="4836240" y="1276200"/>
                      <a:chExt cx="89640" cy="124920"/>
                    </a:xfrm>
                  </p:grpSpPr>
                  <p:sp>
                    <p:nvSpPr>
                      <p:cNvPr id="1909" name=""/>
                      <p:cNvSpPr/>
                      <p:nvPr/>
                    </p:nvSpPr>
                    <p:spPr>
                      <a:xfrm>
                        <a:off x="4836240" y="1346760"/>
                        <a:ext cx="63360" cy="4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" h="57">
                            <a:moveTo>
                              <a:pt x="12" y="0"/>
                            </a:moveTo>
                            <a:lnTo>
                              <a:pt x="30" y="16"/>
                            </a:lnTo>
                            <a:lnTo>
                              <a:pt x="45" y="25"/>
                            </a:lnTo>
                            <a:lnTo>
                              <a:pt x="56" y="31"/>
                            </a:lnTo>
                            <a:lnTo>
                              <a:pt x="71" y="37"/>
                            </a:lnTo>
                            <a:lnTo>
                              <a:pt x="84" y="39"/>
                            </a:lnTo>
                            <a:lnTo>
                              <a:pt x="95" y="37"/>
                            </a:lnTo>
                            <a:lnTo>
                              <a:pt x="99" y="57"/>
                            </a:lnTo>
                            <a:lnTo>
                              <a:pt x="83" y="57"/>
                            </a:lnTo>
                            <a:lnTo>
                              <a:pt x="71" y="56"/>
                            </a:lnTo>
                            <a:lnTo>
                              <a:pt x="55" y="49"/>
                            </a:lnTo>
                            <a:lnTo>
                              <a:pt x="40" y="38"/>
                            </a:lnTo>
                            <a:lnTo>
                              <a:pt x="27" y="29"/>
                            </a:lnTo>
                            <a:lnTo>
                              <a:pt x="0" y="5"/>
                            </a:lnTo>
                            <a:lnTo>
                              <a:pt x="12" y="0"/>
                            </a:lnTo>
                            <a:close/>
                          </a:path>
                        </a:pathLst>
                      </a:cu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0" name=""/>
                      <p:cNvSpPr/>
                      <p:nvPr/>
                    </p:nvSpPr>
                    <p:spPr>
                      <a:xfrm>
                        <a:off x="4889880" y="1276200"/>
                        <a:ext cx="36000" cy="124920"/>
                      </a:xfrm>
                      <a:prstGeom prst="ellipse">
                        <a:avLst/>
                      </a:pr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2120" bIns="42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1" name=""/>
                      <p:cNvSpPr/>
                      <p:nvPr/>
                    </p:nvSpPr>
                    <p:spPr>
                      <a:xfrm>
                        <a:off x="4893480" y="1280880"/>
                        <a:ext cx="32400" cy="118080"/>
                      </a:xfrm>
                      <a:prstGeom prst="ellipse">
                        <a:avLst/>
                      </a:prstGeom>
                      <a:solidFill>
                        <a:srgbClr val="ffd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720" bIns="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  <p:sp>
          <p:nvSpPr>
            <p:cNvPr id="1912" name=""/>
            <p:cNvSpPr/>
            <p:nvPr/>
          </p:nvSpPr>
          <p:spPr>
            <a:xfrm>
              <a:off x="2286000" y="1295280"/>
              <a:ext cx="1981080" cy="1219320"/>
            </a:xfrm>
            <a:prstGeom prst="rightArrow">
              <a:avLst>
                <a:gd name="adj1" fmla="val 50000"/>
                <a:gd name="adj2" fmla="val 4061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3" name=""/>
          <p:cNvSpPr/>
          <p:nvPr/>
        </p:nvSpPr>
        <p:spPr>
          <a:xfrm>
            <a:off x="539640" y="692280"/>
            <a:ext cx="1981440" cy="1295280"/>
          </a:xfrm>
          <a:prstGeom prst="can">
            <a:avLst>
              <a:gd name="adj" fmla="val 25000"/>
            </a:avLst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quis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Classificar e Hierarquizar Requisito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1915" name=""/>
          <p:cNvGrpSpPr/>
          <p:nvPr/>
        </p:nvGrpSpPr>
        <p:grpSpPr>
          <a:xfrm>
            <a:off x="3657600" y="2437920"/>
            <a:ext cx="4240080" cy="533160"/>
            <a:chOff x="3657600" y="2437920"/>
            <a:chExt cx="4240080" cy="533160"/>
          </a:xfrm>
        </p:grpSpPr>
        <p:grpSp>
          <p:nvGrpSpPr>
            <p:cNvPr id="1916" name=""/>
            <p:cNvGrpSpPr/>
            <p:nvPr/>
          </p:nvGrpSpPr>
          <p:grpSpPr>
            <a:xfrm>
              <a:off x="6705720" y="2437920"/>
              <a:ext cx="1191960" cy="533160"/>
              <a:chOff x="6705720" y="2437920"/>
              <a:chExt cx="1191960" cy="533160"/>
            </a:xfrm>
          </p:grpSpPr>
          <p:sp>
            <p:nvSpPr>
              <p:cNvPr id="1917" name=""/>
              <p:cNvSpPr/>
              <p:nvPr/>
            </p:nvSpPr>
            <p:spPr>
              <a:xfrm flipV="1">
                <a:off x="7620120" y="2704680"/>
                <a:ext cx="277560" cy="114480"/>
              </a:xfrm>
              <a:custGeom>
                <a:avLst/>
                <a:gdLst>
                  <a:gd name="textAreaLeft" fmla="*/ 52920 w 277560"/>
                  <a:gd name="textAreaRight" fmla="*/ 224640 w 277560"/>
                  <a:gd name="textAreaTop" fmla="*/ 21600 h 114480"/>
                  <a:gd name="textAreaBottom" fmla="*/ 92880 h 114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326" y="21600"/>
                    </a:lnTo>
                    <a:lnTo>
                      <a:pt x="4274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flipV="1">
                <a:off x="7010280" y="2856600"/>
                <a:ext cx="276480" cy="114120"/>
              </a:xfrm>
              <a:custGeom>
                <a:avLst/>
                <a:gdLst>
                  <a:gd name="textAreaLeft" fmla="*/ 52560 w 276480"/>
                  <a:gd name="textAreaRight" fmla="*/ 223920 w 276480"/>
                  <a:gd name="textAreaTop" fmla="*/ 21600 h 114120"/>
                  <a:gd name="textAreaBottom" fmla="*/ 92520 h 11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326" y="21600"/>
                    </a:lnTo>
                    <a:lnTo>
                      <a:pt x="4274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flipV="1">
                <a:off x="7238880" y="2704680"/>
                <a:ext cx="277920" cy="114480"/>
              </a:xfrm>
              <a:custGeom>
                <a:avLst/>
                <a:gdLst>
                  <a:gd name="textAreaLeft" fmla="*/ 52920 w 277920"/>
                  <a:gd name="textAreaRight" fmla="*/ 225000 w 277920"/>
                  <a:gd name="textAreaTop" fmla="*/ 21600 h 114480"/>
                  <a:gd name="textAreaBottom" fmla="*/ 92880 h 114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326" y="21600"/>
                    </a:lnTo>
                    <a:lnTo>
                      <a:pt x="4274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 flipV="1">
                <a:off x="6781680" y="2704680"/>
                <a:ext cx="276480" cy="114480"/>
              </a:xfrm>
              <a:custGeom>
                <a:avLst/>
                <a:gdLst>
                  <a:gd name="textAreaLeft" fmla="*/ 52560 w 276480"/>
                  <a:gd name="textAreaRight" fmla="*/ 223920 w 276480"/>
                  <a:gd name="textAreaTop" fmla="*/ 21600 h 114480"/>
                  <a:gd name="textAreaBottom" fmla="*/ 92880 h 114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326" y="21600"/>
                    </a:lnTo>
                    <a:lnTo>
                      <a:pt x="4274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V="1">
                <a:off x="7074000" y="2437560"/>
                <a:ext cx="276120" cy="112680"/>
              </a:xfrm>
              <a:custGeom>
                <a:avLst/>
                <a:gdLst>
                  <a:gd name="textAreaLeft" fmla="*/ 52560 w 276120"/>
                  <a:gd name="textAreaRight" fmla="*/ 223560 w 276120"/>
                  <a:gd name="textAreaTop" fmla="*/ 21240 h 112680"/>
                  <a:gd name="textAreaBottom" fmla="*/ 91440 h 112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326" y="21600"/>
                    </a:lnTo>
                    <a:lnTo>
                      <a:pt x="4274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V="1">
                <a:off x="7467480" y="2476080"/>
                <a:ext cx="276480" cy="114480"/>
              </a:xfrm>
              <a:custGeom>
                <a:avLst/>
                <a:gdLst>
                  <a:gd name="textAreaLeft" fmla="*/ 52560 w 276480"/>
                  <a:gd name="textAreaRight" fmla="*/ 223920 w 276480"/>
                  <a:gd name="textAreaTop" fmla="*/ 21600 h 114480"/>
                  <a:gd name="textAreaBottom" fmla="*/ 92880 h 114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326" y="21600"/>
                    </a:lnTo>
                    <a:lnTo>
                      <a:pt x="4274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flipV="1">
                <a:off x="6705720" y="2437560"/>
                <a:ext cx="276120" cy="112680"/>
              </a:xfrm>
              <a:custGeom>
                <a:avLst/>
                <a:gdLst>
                  <a:gd name="textAreaLeft" fmla="*/ 52560 w 276120"/>
                  <a:gd name="textAreaRight" fmla="*/ 223560 w 276120"/>
                  <a:gd name="textAreaTop" fmla="*/ 21240 h 112680"/>
                  <a:gd name="textAreaBottom" fmla="*/ 91440 h 112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326" y="21600"/>
                    </a:lnTo>
                    <a:lnTo>
                      <a:pt x="4274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4" name=""/>
            <p:cNvGrpSpPr/>
            <p:nvPr/>
          </p:nvGrpSpPr>
          <p:grpSpPr>
            <a:xfrm>
              <a:off x="3657600" y="2438280"/>
              <a:ext cx="885960" cy="495000"/>
              <a:chOff x="3657600" y="2438280"/>
              <a:chExt cx="885960" cy="495000"/>
            </a:xfrm>
          </p:grpSpPr>
          <p:sp>
            <p:nvSpPr>
              <p:cNvPr id="1925" name=""/>
              <p:cNvSpPr/>
              <p:nvPr/>
            </p:nvSpPr>
            <p:spPr>
              <a:xfrm flipV="1">
                <a:off x="3657600" y="2818800"/>
                <a:ext cx="276120" cy="114120"/>
              </a:xfrm>
              <a:custGeom>
                <a:avLst/>
                <a:gdLst>
                  <a:gd name="textAreaLeft" fmla="*/ 52560 w 276120"/>
                  <a:gd name="textAreaRight" fmla="*/ 223560 w 276120"/>
                  <a:gd name="textAreaTop" fmla="*/ 21600 h 114120"/>
                  <a:gd name="textAreaBottom" fmla="*/ 92520 h 11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326" y="21600"/>
                    </a:lnTo>
                    <a:lnTo>
                      <a:pt x="4274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flipV="1">
                <a:off x="3886200" y="2666880"/>
                <a:ext cx="276120" cy="114480"/>
              </a:xfrm>
              <a:custGeom>
                <a:avLst/>
                <a:gdLst>
                  <a:gd name="textAreaLeft" fmla="*/ 52560 w 276120"/>
                  <a:gd name="textAreaRight" fmla="*/ 223560 w 276120"/>
                  <a:gd name="textAreaTop" fmla="*/ 21600 h 114480"/>
                  <a:gd name="textAreaBottom" fmla="*/ 92880 h 114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326" y="21600"/>
                    </a:lnTo>
                    <a:lnTo>
                      <a:pt x="4274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 flipV="1">
                <a:off x="3886200" y="2438280"/>
                <a:ext cx="277920" cy="114480"/>
              </a:xfrm>
              <a:custGeom>
                <a:avLst/>
                <a:gdLst>
                  <a:gd name="textAreaLeft" fmla="*/ 52920 w 277920"/>
                  <a:gd name="textAreaRight" fmla="*/ 225000 w 277920"/>
                  <a:gd name="textAreaTop" fmla="*/ 21600 h 114480"/>
                  <a:gd name="textAreaBottom" fmla="*/ 92880 h 114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326" y="21600"/>
                    </a:lnTo>
                    <a:lnTo>
                      <a:pt x="4274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 flipV="1">
                <a:off x="4267080" y="2666160"/>
                <a:ext cx="276480" cy="112680"/>
              </a:xfrm>
              <a:custGeom>
                <a:avLst/>
                <a:gdLst>
                  <a:gd name="textAreaLeft" fmla="*/ 52560 w 276480"/>
                  <a:gd name="textAreaRight" fmla="*/ 223920 w 276480"/>
                  <a:gd name="textAreaTop" fmla="*/ 21240 h 112680"/>
                  <a:gd name="textAreaBottom" fmla="*/ 91440 h 112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326" y="21600"/>
                    </a:lnTo>
                    <a:lnTo>
                      <a:pt x="4274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 flipV="1">
                <a:off x="4191120" y="2514600"/>
                <a:ext cx="277560" cy="114480"/>
              </a:xfrm>
              <a:custGeom>
                <a:avLst/>
                <a:gdLst>
                  <a:gd name="textAreaLeft" fmla="*/ 52920 w 277560"/>
                  <a:gd name="textAreaRight" fmla="*/ 224640 w 277560"/>
                  <a:gd name="textAreaTop" fmla="*/ 21600 h 114480"/>
                  <a:gd name="textAreaBottom" fmla="*/ 92880 h 114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326" y="21600"/>
                    </a:lnTo>
                    <a:lnTo>
                      <a:pt x="4274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30" name=""/>
          <p:cNvGrpSpPr/>
          <p:nvPr/>
        </p:nvGrpSpPr>
        <p:grpSpPr>
          <a:xfrm>
            <a:off x="3276720" y="2895480"/>
            <a:ext cx="5029200" cy="1447920"/>
            <a:chOff x="3276720" y="2895480"/>
            <a:chExt cx="5029200" cy="1447920"/>
          </a:xfrm>
        </p:grpSpPr>
        <p:grpSp>
          <p:nvGrpSpPr>
            <p:cNvPr id="1931" name=""/>
            <p:cNvGrpSpPr/>
            <p:nvPr/>
          </p:nvGrpSpPr>
          <p:grpSpPr>
            <a:xfrm>
              <a:off x="3276720" y="2895480"/>
              <a:ext cx="2133000" cy="1447920"/>
              <a:chOff x="3276720" y="2895480"/>
              <a:chExt cx="2133000" cy="1447920"/>
            </a:xfrm>
          </p:grpSpPr>
          <p:sp>
            <p:nvSpPr>
              <p:cNvPr id="1932" name=""/>
              <p:cNvSpPr/>
              <p:nvPr/>
            </p:nvSpPr>
            <p:spPr>
              <a:xfrm rot="5400000">
                <a:off x="3924000" y="2628720"/>
                <a:ext cx="685800" cy="121932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33" name=""/>
              <p:cNvGrpSpPr/>
              <p:nvPr/>
            </p:nvGrpSpPr>
            <p:grpSpPr>
              <a:xfrm>
                <a:off x="4648320" y="3429000"/>
                <a:ext cx="761400" cy="914400"/>
                <a:chOff x="4648320" y="3429000"/>
                <a:chExt cx="761400" cy="914400"/>
              </a:xfrm>
            </p:grpSpPr>
            <p:sp>
              <p:nvSpPr>
                <p:cNvPr id="1934" name=""/>
                <p:cNvSpPr/>
                <p:nvPr/>
              </p:nvSpPr>
              <p:spPr>
                <a:xfrm>
                  <a:off x="5028840" y="3962160"/>
                  <a:ext cx="380880" cy="381240"/>
                </a:xfrm>
                <a:prstGeom prst="foldedCorner">
                  <a:avLst>
                    <a:gd name="adj" fmla="val 37500"/>
                  </a:avLst>
                </a:prstGeom>
                <a:solidFill>
                  <a:srgbClr val="66ff66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5028840" y="3733560"/>
                  <a:ext cx="380880" cy="381240"/>
                </a:xfrm>
                <a:prstGeom prst="foldedCorner">
                  <a:avLst>
                    <a:gd name="adj" fmla="val 37500"/>
                  </a:avLst>
                </a:prstGeom>
                <a:solidFill>
                  <a:srgbClr val="66ff66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5028840" y="3504960"/>
                  <a:ext cx="380880" cy="381240"/>
                </a:xfrm>
                <a:prstGeom prst="foldedCorner">
                  <a:avLst>
                    <a:gd name="adj" fmla="val 37500"/>
                  </a:avLst>
                </a:prstGeom>
                <a:solidFill>
                  <a:srgbClr val="66ff66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4648320" y="3429000"/>
                  <a:ext cx="380520" cy="380880"/>
                </a:xfrm>
                <a:prstGeom prst="foldedCorner">
                  <a:avLst>
                    <a:gd name="adj" fmla="val 37500"/>
                  </a:avLst>
                </a:prstGeom>
                <a:solidFill>
                  <a:srgbClr val="66ff66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8" name=""/>
              <p:cNvGrpSpPr/>
              <p:nvPr/>
            </p:nvGrpSpPr>
            <p:grpSpPr>
              <a:xfrm>
                <a:off x="3276720" y="3429000"/>
                <a:ext cx="761400" cy="685800"/>
                <a:chOff x="3276720" y="3429000"/>
                <a:chExt cx="761400" cy="685800"/>
              </a:xfrm>
            </p:grpSpPr>
            <p:sp>
              <p:nvSpPr>
                <p:cNvPr id="1939" name=""/>
                <p:cNvSpPr/>
                <p:nvPr/>
              </p:nvSpPr>
              <p:spPr>
                <a:xfrm>
                  <a:off x="3657240" y="3733920"/>
                  <a:ext cx="380880" cy="380880"/>
                </a:xfrm>
                <a:prstGeom prst="foldedCorner">
                  <a:avLst>
                    <a:gd name="adj" fmla="val 37500"/>
                  </a:avLst>
                </a:prstGeom>
                <a:solidFill>
                  <a:srgbClr val="66ff66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3657240" y="3505320"/>
                  <a:ext cx="380880" cy="380880"/>
                </a:xfrm>
                <a:prstGeom prst="foldedCorner">
                  <a:avLst>
                    <a:gd name="adj" fmla="val 37500"/>
                  </a:avLst>
                </a:prstGeom>
                <a:solidFill>
                  <a:srgbClr val="66ff66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3276720" y="3429000"/>
                  <a:ext cx="380520" cy="381240"/>
                </a:xfrm>
                <a:prstGeom prst="foldedCorner">
                  <a:avLst>
                    <a:gd name="adj" fmla="val 37500"/>
                  </a:avLst>
                </a:prstGeom>
                <a:solidFill>
                  <a:srgbClr val="66ff66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42" name=""/>
            <p:cNvGrpSpPr/>
            <p:nvPr/>
          </p:nvGrpSpPr>
          <p:grpSpPr>
            <a:xfrm>
              <a:off x="6400800" y="2895480"/>
              <a:ext cx="1905120" cy="1371240"/>
              <a:chOff x="6400800" y="2895480"/>
              <a:chExt cx="1905120" cy="1371240"/>
            </a:xfrm>
          </p:grpSpPr>
          <p:sp>
            <p:nvSpPr>
              <p:cNvPr id="1943" name=""/>
              <p:cNvSpPr/>
              <p:nvPr/>
            </p:nvSpPr>
            <p:spPr>
              <a:xfrm rot="5400000">
                <a:off x="6972120" y="2628720"/>
                <a:ext cx="685800" cy="12189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4" name=""/>
              <p:cNvGrpSpPr/>
              <p:nvPr/>
            </p:nvGrpSpPr>
            <p:grpSpPr>
              <a:xfrm>
                <a:off x="6400800" y="3505320"/>
                <a:ext cx="761760" cy="532800"/>
                <a:chOff x="6400800" y="3505320"/>
                <a:chExt cx="761760" cy="532800"/>
              </a:xfrm>
            </p:grpSpPr>
            <p:sp>
              <p:nvSpPr>
                <p:cNvPr id="1945" name=""/>
                <p:cNvSpPr/>
                <p:nvPr/>
              </p:nvSpPr>
              <p:spPr>
                <a:xfrm>
                  <a:off x="6781680" y="3657240"/>
                  <a:ext cx="380880" cy="380880"/>
                </a:xfrm>
                <a:prstGeom prst="foldedCorner">
                  <a:avLst>
                    <a:gd name="adj" fmla="val 37500"/>
                  </a:avLst>
                </a:prstGeom>
                <a:solidFill>
                  <a:srgbClr val="66ff66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6400800" y="3505320"/>
                  <a:ext cx="380880" cy="380520"/>
                </a:xfrm>
                <a:prstGeom prst="foldedCorner">
                  <a:avLst>
                    <a:gd name="adj" fmla="val 37500"/>
                  </a:avLst>
                </a:prstGeom>
                <a:solidFill>
                  <a:srgbClr val="66ff66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7" name=""/>
              <p:cNvGrpSpPr/>
              <p:nvPr/>
            </p:nvGrpSpPr>
            <p:grpSpPr>
              <a:xfrm>
                <a:off x="7620120" y="3505320"/>
                <a:ext cx="685800" cy="761400"/>
                <a:chOff x="7620120" y="3505320"/>
                <a:chExt cx="685800" cy="761400"/>
              </a:xfrm>
            </p:grpSpPr>
            <p:sp>
              <p:nvSpPr>
                <p:cNvPr id="1948" name=""/>
                <p:cNvSpPr/>
                <p:nvPr/>
              </p:nvSpPr>
              <p:spPr>
                <a:xfrm>
                  <a:off x="7925040" y="3886200"/>
                  <a:ext cx="380880" cy="380520"/>
                </a:xfrm>
                <a:prstGeom prst="foldedCorner">
                  <a:avLst>
                    <a:gd name="adj" fmla="val 37500"/>
                  </a:avLst>
                </a:prstGeom>
                <a:solidFill>
                  <a:srgbClr val="66ff66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7925040" y="3657600"/>
                  <a:ext cx="380880" cy="380520"/>
                </a:xfrm>
                <a:prstGeom prst="foldedCorner">
                  <a:avLst>
                    <a:gd name="adj" fmla="val 37500"/>
                  </a:avLst>
                </a:prstGeom>
                <a:solidFill>
                  <a:srgbClr val="66ff66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7620120" y="3505320"/>
                  <a:ext cx="381240" cy="380880"/>
                </a:xfrm>
                <a:prstGeom prst="foldedCorner">
                  <a:avLst>
                    <a:gd name="adj" fmla="val 37500"/>
                  </a:avLst>
                </a:prstGeom>
                <a:solidFill>
                  <a:srgbClr val="66ff66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51" name=""/>
          <p:cNvGrpSpPr/>
          <p:nvPr/>
        </p:nvGrpSpPr>
        <p:grpSpPr>
          <a:xfrm>
            <a:off x="228600" y="1905120"/>
            <a:ext cx="2666880" cy="2514600"/>
            <a:chOff x="228600" y="1905120"/>
            <a:chExt cx="2666880" cy="2514600"/>
          </a:xfrm>
        </p:grpSpPr>
        <p:grpSp>
          <p:nvGrpSpPr>
            <p:cNvPr id="1952" name=""/>
            <p:cNvGrpSpPr/>
            <p:nvPr/>
          </p:nvGrpSpPr>
          <p:grpSpPr>
            <a:xfrm>
              <a:off x="838080" y="1905120"/>
              <a:ext cx="685800" cy="1828800"/>
              <a:chOff x="838080" y="1905120"/>
              <a:chExt cx="685800" cy="1828800"/>
            </a:xfrm>
          </p:grpSpPr>
          <p:sp>
            <p:nvSpPr>
              <p:cNvPr id="1953" name=""/>
              <p:cNvSpPr/>
              <p:nvPr/>
            </p:nvSpPr>
            <p:spPr>
              <a:xfrm>
                <a:off x="1143000" y="3352680"/>
                <a:ext cx="38088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838080" y="1905120"/>
                <a:ext cx="38124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5" name=""/>
            <p:cNvGrpSpPr/>
            <p:nvPr/>
          </p:nvGrpSpPr>
          <p:grpSpPr>
            <a:xfrm>
              <a:off x="228600" y="2133720"/>
              <a:ext cx="2666880" cy="2286000"/>
              <a:chOff x="228600" y="2133720"/>
              <a:chExt cx="2666880" cy="2286000"/>
            </a:xfrm>
          </p:grpSpPr>
          <p:sp>
            <p:nvSpPr>
              <p:cNvPr id="1956" name=""/>
              <p:cNvSpPr/>
              <p:nvPr/>
            </p:nvSpPr>
            <p:spPr>
              <a:xfrm>
                <a:off x="1752480" y="2743200"/>
                <a:ext cx="38124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1523880" y="3809880"/>
                <a:ext cx="38124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28600" y="2438280"/>
                <a:ext cx="38088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914400" y="2666880"/>
                <a:ext cx="38088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1905120" y="3352680"/>
                <a:ext cx="38088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2438280" y="3809880"/>
                <a:ext cx="38124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1523880" y="2133720"/>
                <a:ext cx="38124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2514600" y="2971800"/>
                <a:ext cx="38088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133720" y="2133720"/>
                <a:ext cx="38088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1066680" y="4038480"/>
                <a:ext cx="38124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28600" y="3200400"/>
                <a:ext cx="38088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609480" y="3733920"/>
                <a:ext cx="38124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pull dir="u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6" dur="5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/>
          </p:nvPr>
        </p:nvSpPr>
        <p:spPr>
          <a:xfrm>
            <a:off x="385920" y="1220760"/>
            <a:ext cx="79200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letar as necessidades dos clientes de cada fase do ciclo de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grupar e classificar as necess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ir os requisitos dos 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lorar requisitos dos 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agrama de K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enchma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agrama de Mu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ultam nos requisitos = qualidade proje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title"/>
          </p:nvPr>
        </p:nvSpPr>
        <p:spPr>
          <a:xfrm>
            <a:off x="142560" y="5724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Tarefas da atividade “Identificar os requisitos dos clientes do produto” 4/4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0" name=""/>
          <p:cNvGrpSpPr/>
          <p:nvPr/>
        </p:nvGrpSpPr>
        <p:grpSpPr>
          <a:xfrm>
            <a:off x="-1243800" y="-354960"/>
            <a:ext cx="8550000" cy="10684440"/>
            <a:chOff x="-1243800" y="-354960"/>
            <a:chExt cx="8550000" cy="10684440"/>
          </a:xfrm>
        </p:grpSpPr>
        <p:sp>
          <p:nvSpPr>
            <p:cNvPr id="1971" name=""/>
            <p:cNvSpPr/>
            <p:nvPr/>
          </p:nvSpPr>
          <p:spPr>
            <a:xfrm>
              <a:off x="876960" y="4021920"/>
              <a:ext cx="488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V="1">
              <a:off x="3486960" y="1846800"/>
              <a:ext cx="0" cy="435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949760" y="1535040"/>
              <a:ext cx="307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ente satisfei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1949760" y="6234480"/>
              <a:ext cx="307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ente insatisfei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4621680" y="3467160"/>
              <a:ext cx="22719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lnSpc>
                  <a:spcPct val="4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sempenh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xcel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0" y="4230720"/>
              <a:ext cx="16596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lnSpc>
                  <a:spcPct val="4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sempenh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b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V="1">
              <a:off x="1606320" y="2112480"/>
              <a:ext cx="3693600" cy="3905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V="1" rot="21363600">
              <a:off x="-1115280" y="-160920"/>
              <a:ext cx="5783760" cy="394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66" y="278"/>
                  </a:moveTo>
                  <a:arcTo wR="10800" hR="10800" stAng="-6181523" swAng="5668279"/>
                  <a:lnTo>
                    <a:pt x="10800" y="10800"/>
                  </a:lnTo>
                  <a:close/>
                </a:path>
                <a:path fill="none" w="21600" h="21600">
                  <a:moveTo>
                    <a:pt x="8366" y="278"/>
                  </a:moveTo>
                  <a:arcTo wR="10800" hR="10800" stAng="-6181523" swAng="5668279"/>
                </a:path>
              </a:pathLst>
            </a:custGeom>
            <a:noFill/>
            <a:ln w="3816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 rot="19020000">
              <a:off x="953640" y="4943880"/>
              <a:ext cx="5784840" cy="394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897" y="730"/>
                  </a:moveTo>
                  <a:arcTo wR="10800" hR="10800" stAng="-6671013" swAng="4760701"/>
                  <a:lnTo>
                    <a:pt x="10800" y="10800"/>
                  </a:lnTo>
                  <a:close/>
                </a:path>
                <a:path fill="none" w="21600" h="21600">
                  <a:moveTo>
                    <a:pt x="6897" y="730"/>
                  </a:moveTo>
                  <a:arcTo wR="10800" hR="10800" stAng="-6671013" swAng="4760701"/>
                </a:path>
              </a:pathLst>
            </a:custGeom>
            <a:noFill/>
            <a:ln w="3816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641760" y="4678560"/>
              <a:ext cx="1378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bás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 rot="19008000">
              <a:off x="3884040" y="2992680"/>
              <a:ext cx="171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esper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307520" y="3237480"/>
              <a:ext cx="1378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excit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185400" y="4284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Diagrama de Kano para avaliação dos requisito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1984" name=""/>
          <p:cNvGrpSpPr/>
          <p:nvPr/>
        </p:nvGrpSpPr>
        <p:grpSpPr>
          <a:xfrm>
            <a:off x="4062240" y="4884840"/>
            <a:ext cx="4778640" cy="1008720"/>
            <a:chOff x="4062240" y="4884840"/>
            <a:chExt cx="4778640" cy="1008720"/>
          </a:xfrm>
        </p:grpSpPr>
        <p:grpSp>
          <p:nvGrpSpPr>
            <p:cNvPr id="1985" name=""/>
            <p:cNvGrpSpPr/>
            <p:nvPr/>
          </p:nvGrpSpPr>
          <p:grpSpPr>
            <a:xfrm>
              <a:off x="4062240" y="5056200"/>
              <a:ext cx="749520" cy="673200"/>
              <a:chOff x="4062240" y="5056200"/>
              <a:chExt cx="749520" cy="673200"/>
            </a:xfrm>
          </p:grpSpPr>
          <p:sp>
            <p:nvSpPr>
              <p:cNvPr id="1986" name=""/>
              <p:cNvSpPr/>
              <p:nvPr/>
            </p:nvSpPr>
            <p:spPr>
              <a:xfrm>
                <a:off x="4062240" y="5056200"/>
                <a:ext cx="749520" cy="673200"/>
              </a:xfrm>
              <a:prstGeom prst="ellipse">
                <a:avLst/>
              </a:prstGeom>
              <a:solidFill>
                <a:srgbClr val="f76681"/>
              </a:solidFill>
              <a:ln w="12600">
                <a:solidFill>
                  <a:srgbClr val="cf0e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7" name=""/>
              <p:cNvGrpSpPr/>
              <p:nvPr/>
            </p:nvGrpSpPr>
            <p:grpSpPr>
              <a:xfrm>
                <a:off x="4290840" y="5284800"/>
                <a:ext cx="292320" cy="63360"/>
                <a:chOff x="4290840" y="5284800"/>
                <a:chExt cx="292320" cy="63360"/>
              </a:xfrm>
            </p:grpSpPr>
            <p:sp>
              <p:nvSpPr>
                <p:cNvPr id="1988" name=""/>
                <p:cNvSpPr/>
                <p:nvPr/>
              </p:nvSpPr>
              <p:spPr>
                <a:xfrm>
                  <a:off x="4290840" y="5284800"/>
                  <a:ext cx="63720" cy="63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4519440" y="5284800"/>
                  <a:ext cx="63720" cy="63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0" name=""/>
              <p:cNvGrpSpPr/>
              <p:nvPr/>
            </p:nvGrpSpPr>
            <p:grpSpPr>
              <a:xfrm>
                <a:off x="4284720" y="5430960"/>
                <a:ext cx="306360" cy="291240"/>
                <a:chOff x="4284720" y="5430960"/>
                <a:chExt cx="306360" cy="291240"/>
              </a:xfrm>
            </p:grpSpPr>
            <p:sp>
              <p:nvSpPr>
                <p:cNvPr id="1991" name=""/>
                <p:cNvSpPr/>
                <p:nvPr/>
              </p:nvSpPr>
              <p:spPr>
                <a:xfrm rot="10800000">
                  <a:off x="4299120" y="5430960"/>
                  <a:ext cx="29196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 rot="10800000">
                  <a:off x="4284720" y="5430960"/>
                  <a:ext cx="29124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93" name=""/>
            <p:cNvSpPr/>
            <p:nvPr/>
          </p:nvSpPr>
          <p:spPr>
            <a:xfrm>
              <a:off x="4740120" y="4884840"/>
              <a:ext cx="4100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 cliente não verbaliza, mas se faltar ele ficará insatisfeito (conhecido também como óbvi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4" name=""/>
          <p:cNvGrpSpPr/>
          <p:nvPr/>
        </p:nvGrpSpPr>
        <p:grpSpPr>
          <a:xfrm>
            <a:off x="5284800" y="1690560"/>
            <a:ext cx="3859200" cy="1008720"/>
            <a:chOff x="5284800" y="1690560"/>
            <a:chExt cx="3859200" cy="1008720"/>
          </a:xfrm>
        </p:grpSpPr>
        <p:grpSp>
          <p:nvGrpSpPr>
            <p:cNvPr id="1995" name=""/>
            <p:cNvGrpSpPr/>
            <p:nvPr/>
          </p:nvGrpSpPr>
          <p:grpSpPr>
            <a:xfrm>
              <a:off x="5284800" y="1703520"/>
              <a:ext cx="749160" cy="672840"/>
              <a:chOff x="5284800" y="1703520"/>
              <a:chExt cx="749160" cy="672840"/>
            </a:xfrm>
          </p:grpSpPr>
          <p:sp>
            <p:nvSpPr>
              <p:cNvPr id="1996" name=""/>
              <p:cNvSpPr/>
              <p:nvPr/>
            </p:nvSpPr>
            <p:spPr>
              <a:xfrm>
                <a:off x="5284800" y="1703520"/>
                <a:ext cx="749160" cy="672840"/>
              </a:xfrm>
              <a:prstGeom prst="ellipse">
                <a:avLst/>
              </a:prstGeom>
              <a:solidFill>
                <a:srgbClr val="fafd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7" name=""/>
              <p:cNvGrpSpPr/>
              <p:nvPr/>
            </p:nvGrpSpPr>
            <p:grpSpPr>
              <a:xfrm>
                <a:off x="5513040" y="1931760"/>
                <a:ext cx="291600" cy="63360"/>
                <a:chOff x="5513040" y="1931760"/>
                <a:chExt cx="291600" cy="63360"/>
              </a:xfrm>
            </p:grpSpPr>
            <p:sp>
              <p:nvSpPr>
                <p:cNvPr id="1998" name=""/>
                <p:cNvSpPr/>
                <p:nvPr/>
              </p:nvSpPr>
              <p:spPr>
                <a:xfrm>
                  <a:off x="5513040" y="1931760"/>
                  <a:ext cx="63360" cy="63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5741280" y="1931760"/>
                  <a:ext cx="63360" cy="63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0" name=""/>
              <p:cNvSpPr/>
              <p:nvPr/>
            </p:nvSpPr>
            <p:spPr>
              <a:xfrm>
                <a:off x="5491080" y="2179440"/>
                <a:ext cx="313920" cy="0"/>
              </a:xfrm>
              <a:prstGeom prst="line">
                <a:avLst/>
              </a:prstGeom>
              <a:ln w="12600">
                <a:solidFill>
                  <a:srgbClr val="3737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1" name=""/>
            <p:cNvSpPr/>
            <p:nvPr/>
          </p:nvSpPr>
          <p:spPr>
            <a:xfrm>
              <a:off x="5932440" y="1690560"/>
              <a:ext cx="3211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Quanto maior o desempenho, maior a satisfaçã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2" name=""/>
          <p:cNvGrpSpPr/>
          <p:nvPr/>
        </p:nvGrpSpPr>
        <p:grpSpPr>
          <a:xfrm>
            <a:off x="380880" y="2011320"/>
            <a:ext cx="2417760" cy="1313640"/>
            <a:chOff x="380880" y="2011320"/>
            <a:chExt cx="2417760" cy="1313640"/>
          </a:xfrm>
        </p:grpSpPr>
        <p:grpSp>
          <p:nvGrpSpPr>
            <p:cNvPr id="2003" name=""/>
            <p:cNvGrpSpPr/>
            <p:nvPr/>
          </p:nvGrpSpPr>
          <p:grpSpPr>
            <a:xfrm>
              <a:off x="2049480" y="2236680"/>
              <a:ext cx="749160" cy="673200"/>
              <a:chOff x="2049480" y="2236680"/>
              <a:chExt cx="749160" cy="673200"/>
            </a:xfrm>
          </p:grpSpPr>
          <p:sp>
            <p:nvSpPr>
              <p:cNvPr id="2004" name=""/>
              <p:cNvSpPr/>
              <p:nvPr/>
            </p:nvSpPr>
            <p:spPr>
              <a:xfrm>
                <a:off x="2049480" y="2236680"/>
                <a:ext cx="749160" cy="673200"/>
              </a:xfrm>
              <a:prstGeom prst="ellipse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5" name=""/>
              <p:cNvGrpSpPr/>
              <p:nvPr/>
            </p:nvGrpSpPr>
            <p:grpSpPr>
              <a:xfrm>
                <a:off x="2278080" y="2465280"/>
                <a:ext cx="291600" cy="63720"/>
                <a:chOff x="2278080" y="2465280"/>
                <a:chExt cx="291600" cy="63720"/>
              </a:xfrm>
            </p:grpSpPr>
            <p:sp>
              <p:nvSpPr>
                <p:cNvPr id="2006" name=""/>
                <p:cNvSpPr/>
                <p:nvPr/>
              </p:nvSpPr>
              <p:spPr>
                <a:xfrm>
                  <a:off x="2278080" y="2465280"/>
                  <a:ext cx="63360" cy="637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2506320" y="2465280"/>
                  <a:ext cx="63360" cy="637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8" name=""/>
              <p:cNvGrpSpPr/>
              <p:nvPr/>
            </p:nvGrpSpPr>
            <p:grpSpPr>
              <a:xfrm>
                <a:off x="2277720" y="2465280"/>
                <a:ext cx="293040" cy="291960"/>
                <a:chOff x="2277720" y="2465280"/>
                <a:chExt cx="293040" cy="291960"/>
              </a:xfrm>
            </p:grpSpPr>
            <p:sp>
              <p:nvSpPr>
                <p:cNvPr id="2009" name=""/>
                <p:cNvSpPr/>
                <p:nvPr/>
              </p:nvSpPr>
              <p:spPr>
                <a:xfrm>
                  <a:off x="2277720" y="2465280"/>
                  <a:ext cx="291960" cy="29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2279520" y="2465280"/>
                  <a:ext cx="291240" cy="29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11" name=""/>
            <p:cNvSpPr/>
            <p:nvPr/>
          </p:nvSpPr>
          <p:spPr>
            <a:xfrm>
              <a:off x="380880" y="2011320"/>
              <a:ext cx="2406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 cliente não esperava, é surpreendido. Causam impacto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0360" y="4284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Benchmarking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198000" y="1044720"/>
            <a:ext cx="8574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produtos dos concorrentes são avali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de-se para o cliente para avaliar os produtos dos concorrentes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 e os produtos atuais da empresa (para verificar o quanto se deve melhorar – quando for o ca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-se evitar a qualidade exage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157320" y="57240"/>
            <a:ext cx="73879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Diagrama de Mudg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ação dos requisitos aos p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 cada comparação duas pergunt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 requisito é mais importante para o sucesso do produ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o mais importante é este requisi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6" name="" descr=""/>
          <p:cNvPicPr/>
          <p:nvPr/>
        </p:nvPicPr>
        <p:blipFill>
          <a:blip r:embed="rId1"/>
          <a:srcRect l="2829" t="0" r="1465" b="0"/>
          <a:stretch/>
        </p:blipFill>
        <p:spPr>
          <a:xfrm>
            <a:off x="17640" y="3405240"/>
            <a:ext cx="8912160" cy="2479680"/>
          </a:xfrm>
          <a:prstGeom prst="rect">
            <a:avLst/>
          </a:prstGeom>
          <a:ln w="0">
            <a:noFill/>
          </a:ln>
        </p:spPr>
      </p:pic>
      <p:sp>
        <p:nvSpPr>
          <p:cNvPr id="2017" name=""/>
          <p:cNvSpPr/>
          <p:nvPr/>
        </p:nvSpPr>
        <p:spPr>
          <a:xfrm>
            <a:off x="1339920" y="5540400"/>
            <a:ext cx="17604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"/>
          <p:cNvSpPr/>
          <p:nvPr/>
        </p:nvSpPr>
        <p:spPr>
          <a:xfrm>
            <a:off x="0" y="711360"/>
            <a:ext cx="8001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6597720" y="749160"/>
            <a:ext cx="157464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isão dos custos do ciclo de vida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1" name=""/>
          <p:cNvGraphicFramePr/>
          <p:nvPr/>
        </p:nvGraphicFramePr>
        <p:xfrm>
          <a:off x="349200" y="54000"/>
          <a:ext cx="5504040" cy="68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54000"/>
                    <a:ext cx="5504040" cy="68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77480" y="1230120"/>
            <a:ext cx="8574120" cy="48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lientes e Ciclo de Vida (quadro 6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isão dos custos do ciclo de vida (quadro 6.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hecklist para obtenção de requisitos de produto (quadro 6.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FD (Quality Function Deployment) (quadro 6.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-360" y="63000"/>
            <a:ext cx="7388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conceitos e ferramentas (quadros)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plicação da matriz de QFD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236520" y="96840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requisitos identificados podem ser registrados em uma tabela, mas com a aplicação do QFD são preenchidas as regiões marcadas na fig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5" name=""/>
          <p:cNvGraphicFramePr/>
          <p:nvPr/>
        </p:nvGraphicFramePr>
        <p:xfrm>
          <a:off x="2293920" y="2413080"/>
          <a:ext cx="4390920" cy="39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3920" y="2413080"/>
                    <a:ext cx="4390920" cy="39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7" name=""/>
          <p:cNvSpPr/>
          <p:nvPr/>
        </p:nvSpPr>
        <p:spPr>
          <a:xfrm>
            <a:off x="2166840" y="3613320"/>
            <a:ext cx="1592280" cy="2312640"/>
          </a:xfrm>
          <a:prstGeom prst="rect">
            <a:avLst/>
          </a:prstGeom>
          <a:solidFill>
            <a:srgbClr val="ffff66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5573880" y="3657600"/>
            <a:ext cx="1196640" cy="2244600"/>
          </a:xfrm>
          <a:prstGeom prst="rect">
            <a:avLst/>
          </a:prstGeom>
          <a:solidFill>
            <a:srgbClr val="ffff66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6458040" y="6443640"/>
            <a:ext cx="25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QFD (quality function deploy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0" name=""/>
          <p:cNvGrpSpPr/>
          <p:nvPr/>
        </p:nvGrpSpPr>
        <p:grpSpPr>
          <a:xfrm>
            <a:off x="554040" y="3943440"/>
            <a:ext cx="761760" cy="1600200"/>
            <a:chOff x="554040" y="3943440"/>
            <a:chExt cx="761760" cy="1600200"/>
          </a:xfrm>
        </p:grpSpPr>
        <p:sp>
          <p:nvSpPr>
            <p:cNvPr id="2031" name=""/>
            <p:cNvSpPr/>
            <p:nvPr/>
          </p:nvSpPr>
          <p:spPr>
            <a:xfrm>
              <a:off x="554040" y="3943440"/>
              <a:ext cx="469080" cy="11052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847080" y="4091760"/>
              <a:ext cx="468720" cy="11052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847080" y="4240800"/>
              <a:ext cx="468720" cy="11052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54040" y="4389120"/>
              <a:ext cx="469080" cy="11052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847080" y="4538880"/>
              <a:ext cx="468720" cy="11016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54040" y="4688280"/>
              <a:ext cx="469080" cy="11016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847080" y="4836600"/>
              <a:ext cx="468720" cy="11016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54040" y="4986000"/>
              <a:ext cx="469080" cy="11016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847080" y="5134320"/>
              <a:ext cx="468720" cy="11016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847080" y="5283720"/>
              <a:ext cx="468720" cy="11016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847080" y="5433120"/>
              <a:ext cx="468720" cy="11052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2" name=""/>
          <p:cNvSpPr/>
          <p:nvPr/>
        </p:nvSpPr>
        <p:spPr>
          <a:xfrm>
            <a:off x="1568520" y="4437000"/>
            <a:ext cx="858600" cy="642960"/>
          </a:xfrm>
          <a:prstGeom prst="rightArrow">
            <a:avLst>
              <a:gd name="adj1" fmla="val 50000"/>
              <a:gd name="adj2" fmla="val 33385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ualizar o Plano do Projeto Inform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ar e atualizar o escopo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lhar ciclo de vida do produto e definir seu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r os requisitos dos clientes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finir os requisitos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especificações-meta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ar a viabilidade econômica financ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ovar a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r as decisões tomadas e registrar lições apren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Informações e tarefas da atividade “Definir requisitos de projeto do produto”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2046" name=""/>
          <p:cNvGrpSpPr/>
          <p:nvPr/>
        </p:nvGrpSpPr>
        <p:grpSpPr>
          <a:xfrm>
            <a:off x="152280" y="1108080"/>
            <a:ext cx="7947000" cy="5183280"/>
            <a:chOff x="152280" y="1108080"/>
            <a:chExt cx="7947000" cy="5183280"/>
          </a:xfrm>
        </p:grpSpPr>
        <p:grpSp>
          <p:nvGrpSpPr>
            <p:cNvPr id="2047" name=""/>
            <p:cNvGrpSpPr/>
            <p:nvPr/>
          </p:nvGrpSpPr>
          <p:grpSpPr>
            <a:xfrm>
              <a:off x="2820960" y="1287360"/>
              <a:ext cx="5278320" cy="2382840"/>
              <a:chOff x="2820960" y="1287360"/>
              <a:chExt cx="5278320" cy="2382840"/>
            </a:xfrm>
          </p:grpSpPr>
          <p:sp>
            <p:nvSpPr>
              <p:cNvPr id="2048" name=""/>
              <p:cNvSpPr/>
              <p:nvPr/>
            </p:nvSpPr>
            <p:spPr>
              <a:xfrm>
                <a:off x="2820960" y="1287360"/>
                <a:ext cx="5278320" cy="2382840"/>
              </a:xfrm>
              <a:custGeom>
                <a:avLst/>
                <a:gdLst/>
                <a:ahLst/>
                <a:rect l="l" t="t" r="r" b="b"/>
                <a:pathLst>
                  <a:path w="3325" h="1501">
                    <a:moveTo>
                      <a:pt x="0" y="479"/>
                    </a:moveTo>
                    <a:lnTo>
                      <a:pt x="782" y="0"/>
                    </a:lnTo>
                    <a:lnTo>
                      <a:pt x="3325" y="0"/>
                    </a:lnTo>
                    <a:lnTo>
                      <a:pt x="3316" y="1501"/>
                    </a:lnTo>
                    <a:lnTo>
                      <a:pt x="783" y="1501"/>
                    </a:lnTo>
                    <a:lnTo>
                      <a:pt x="16" y="803"/>
                    </a:lnTo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4186080" y="1401840"/>
                <a:ext cx="3760920" cy="487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onverter requisitos de clientes em expressões mensurávei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4191120" y="2254320"/>
                <a:ext cx="3781440" cy="487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nalisar e classificar os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equisitos do produt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4178160" y="3029040"/>
                <a:ext cx="3802320" cy="487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ierarquizar requisitos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o produt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2" name=""/>
            <p:cNvSpPr/>
            <p:nvPr/>
          </p:nvSpPr>
          <p:spPr>
            <a:xfrm>
              <a:off x="152280" y="1639440"/>
              <a:ext cx="1335240" cy="4726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jeto Informac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 rot="10800000">
              <a:off x="1662120" y="2909880"/>
              <a:ext cx="665280" cy="1540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 rot="10800000">
              <a:off x="1673280" y="1569960"/>
              <a:ext cx="665280" cy="1540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944280" y="1108080"/>
              <a:ext cx="2225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quisitos dos clie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282680" y="1943280"/>
              <a:ext cx="1731960" cy="730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finir requisitos de projeto do produ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996840" y="3227400"/>
              <a:ext cx="2202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quisitos do produ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8" name=""/>
            <p:cNvGrpSpPr/>
            <p:nvPr/>
          </p:nvGrpSpPr>
          <p:grpSpPr>
            <a:xfrm>
              <a:off x="365040" y="4495680"/>
              <a:ext cx="7688520" cy="1795680"/>
              <a:chOff x="365040" y="4495680"/>
              <a:chExt cx="7688520" cy="1795680"/>
            </a:xfrm>
          </p:grpSpPr>
          <p:sp>
            <p:nvSpPr>
              <p:cNvPr id="2059" name=""/>
              <p:cNvSpPr/>
              <p:nvPr/>
            </p:nvSpPr>
            <p:spPr>
              <a:xfrm>
                <a:off x="3805200" y="4878360"/>
                <a:ext cx="4248360" cy="1413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4037040" y="5162400"/>
                <a:ext cx="3782880" cy="10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Matriz de Atributos, </a:t>
                </a:r>
                <a:r>
                  <a:rPr b="0" i="1" lang="pt-BR" sz="1800" spc="-1" strike="noStrike">
                    <a:solidFill>
                      <a:srgbClr val="000000"/>
                    </a:solidFill>
                    <a:latin typeface="Arial"/>
                  </a:rPr>
                  <a:t>check-lists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, Primeira Matriz do QFD, </a:t>
                </a:r>
                <a:r>
                  <a:rPr b="0" i="1" lang="pt-BR" sz="1800" spc="-1" strike="noStrike">
                    <a:solidFill>
                      <a:srgbClr val="000000"/>
                    </a:solidFill>
                    <a:latin typeface="Arial"/>
                  </a:rPr>
                  <a:t>Brainstorming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, Análise paramétrica, Diagrama de Mudg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3962520" y="4495680"/>
                <a:ext cx="3746520" cy="5490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Métodos, ferramentas, documentos de apo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365040" y="4878360"/>
                <a:ext cx="3384720" cy="1413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557280" y="4495680"/>
                <a:ext cx="2984400" cy="5490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elação com outras atividad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6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55800" y="5168880"/>
                <a:ext cx="2219040" cy="1090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Aplicação do QFD (quality function deployment) e as atividades do modelo unificad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187200" y="2511000"/>
            <a:ext cx="719784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r os requisitos dos clientes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os requisitos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especificações-meta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737640" y="1397160"/>
            <a:ext cx="693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plicação do QFD cobre as seguintes ativida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1330200" y="5052960"/>
            <a:ext cx="617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ntão vamos conhecer os conceitos do QFD, antes de descrever a atividade de definir os requisitos do produto (quadro 6.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9" name=""/>
          <p:cNvGrpSpPr/>
          <p:nvPr/>
        </p:nvGrpSpPr>
        <p:grpSpPr>
          <a:xfrm>
            <a:off x="7362720" y="2577960"/>
            <a:ext cx="1533600" cy="1465200"/>
            <a:chOff x="7362720" y="2577960"/>
            <a:chExt cx="1533600" cy="1465200"/>
          </a:xfrm>
        </p:grpSpPr>
        <p:sp>
          <p:nvSpPr>
            <p:cNvPr id="2070" name=""/>
            <p:cNvSpPr/>
            <p:nvPr/>
          </p:nvSpPr>
          <p:spPr>
            <a:xfrm>
              <a:off x="7614000" y="2929680"/>
              <a:ext cx="703800" cy="557280"/>
            </a:xfrm>
            <a:prstGeom prst="rect">
              <a:avLst/>
            </a:prstGeom>
            <a:solidFill>
              <a:srgbClr val="00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7362720" y="2929680"/>
              <a:ext cx="251280" cy="557280"/>
            </a:xfrm>
            <a:custGeom>
              <a:avLst/>
              <a:gdLst/>
              <a:ahLst/>
              <a:rect l="l" t="t" r="r" b="b"/>
              <a:pathLst>
                <a:path w="1632" h="1152">
                  <a:moveTo>
                    <a:pt x="1632" y="0"/>
                  </a:moveTo>
                  <a:lnTo>
                    <a:pt x="0" y="576"/>
                  </a:lnTo>
                  <a:lnTo>
                    <a:pt x="1632" y="1152"/>
                  </a:lnTo>
                </a:path>
              </a:pathLst>
            </a:custGeom>
            <a:noFill/>
            <a:ln w="1260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8317800" y="2929680"/>
              <a:ext cx="150480" cy="557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8468640" y="2929680"/>
              <a:ext cx="151200" cy="557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8745840" y="2929680"/>
              <a:ext cx="150480" cy="557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8645040" y="3138840"/>
              <a:ext cx="100440" cy="115560"/>
            </a:xfrm>
            <a:prstGeom prst="rightArrow">
              <a:avLst>
                <a:gd name="adj1" fmla="val 50000"/>
                <a:gd name="adj2" fmla="val 5729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 rot="16200000">
              <a:off x="7896600" y="3204000"/>
              <a:ext cx="138600" cy="703800"/>
            </a:xfrm>
            <a:prstGeom prst="rect">
              <a:avLst/>
            </a:prstGeom>
            <a:solidFill>
              <a:srgbClr val="00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 rot="16200000">
              <a:off x="7896240" y="3342960"/>
              <a:ext cx="139320" cy="703800"/>
            </a:xfrm>
            <a:prstGeom prst="rect">
              <a:avLst/>
            </a:prstGeom>
            <a:solidFill>
              <a:srgbClr val="00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 rot="5400000">
              <a:off x="7956720" y="3771720"/>
              <a:ext cx="93240" cy="125640"/>
            </a:xfrm>
            <a:prstGeom prst="rightArrow">
              <a:avLst>
                <a:gd name="adj1" fmla="val 50000"/>
                <a:gd name="adj2" fmla="val 57292"/>
              </a:avLst>
            </a:prstGeom>
            <a:solidFill>
              <a:srgbClr val="00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 rot="16200000">
              <a:off x="7896240" y="3621600"/>
              <a:ext cx="139320" cy="703800"/>
            </a:xfrm>
            <a:prstGeom prst="rect">
              <a:avLst/>
            </a:prstGeom>
            <a:solidFill>
              <a:srgbClr val="00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 rot="16200000">
              <a:off x="7862040" y="2472840"/>
              <a:ext cx="208440" cy="703800"/>
            </a:xfrm>
            <a:prstGeom prst="rect">
              <a:avLst/>
            </a:prstGeom>
            <a:solidFill>
              <a:srgbClr val="00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7614360" y="2581560"/>
              <a:ext cx="703800" cy="139320"/>
            </a:xfrm>
            <a:custGeom>
              <a:avLst/>
              <a:gdLst/>
              <a:ahLst/>
              <a:rect l="l" t="t" r="r" b="b"/>
              <a:pathLst>
                <a:path w="1344" h="288">
                  <a:moveTo>
                    <a:pt x="1344" y="288"/>
                  </a:moveTo>
                  <a:lnTo>
                    <a:pt x="672" y="0"/>
                  </a:lnTo>
                  <a:lnTo>
                    <a:pt x="0" y="288"/>
                  </a:lnTo>
                  <a:lnTo>
                    <a:pt x="1344" y="288"/>
                  </a:lnTo>
                  <a:close/>
                </a:path>
              </a:pathLst>
            </a:custGeom>
            <a:solidFill>
              <a:srgbClr val="00cc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7362720" y="2929680"/>
              <a:ext cx="251280" cy="557280"/>
            </a:xfrm>
            <a:custGeom>
              <a:avLst/>
              <a:gdLst/>
              <a:ahLst/>
              <a:rect l="l" t="t" r="r" b="b"/>
              <a:pathLst>
                <a:path w="1632" h="1152">
                  <a:moveTo>
                    <a:pt x="1632" y="0"/>
                  </a:moveTo>
                  <a:lnTo>
                    <a:pt x="0" y="576"/>
                  </a:lnTo>
                  <a:lnTo>
                    <a:pt x="1632" y="1152"/>
                  </a:lnTo>
                </a:path>
              </a:pathLst>
            </a:custGeom>
            <a:solidFill>
              <a:srgbClr val="ffff00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8317800" y="2929680"/>
              <a:ext cx="150480" cy="557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8468640" y="2929680"/>
              <a:ext cx="151200" cy="557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8745840" y="2929680"/>
              <a:ext cx="150480" cy="557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8645040" y="3138840"/>
              <a:ext cx="100440" cy="115560"/>
            </a:xfrm>
            <a:prstGeom prst="rightArrow">
              <a:avLst>
                <a:gd name="adj1" fmla="val 50000"/>
                <a:gd name="adj2" fmla="val 57292"/>
              </a:avLst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7" name=""/>
            <p:cNvGrpSpPr/>
            <p:nvPr/>
          </p:nvGrpSpPr>
          <p:grpSpPr>
            <a:xfrm>
              <a:off x="7618320" y="2577960"/>
              <a:ext cx="704520" cy="1461600"/>
              <a:chOff x="7618320" y="2577960"/>
              <a:chExt cx="704520" cy="1461600"/>
            </a:xfrm>
          </p:grpSpPr>
          <p:sp>
            <p:nvSpPr>
              <p:cNvPr id="2088" name=""/>
              <p:cNvSpPr/>
              <p:nvPr/>
            </p:nvSpPr>
            <p:spPr>
              <a:xfrm>
                <a:off x="7618320" y="2926080"/>
                <a:ext cx="704160" cy="556920"/>
              </a:xfrm>
              <a:prstGeom prst="rect">
                <a:avLst/>
              </a:prstGeom>
              <a:solidFill>
                <a:srgbClr val="00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rot="16200000">
                <a:off x="7900920" y="3200400"/>
                <a:ext cx="138960" cy="704160"/>
              </a:xfrm>
              <a:prstGeom prst="rect">
                <a:avLst/>
              </a:prstGeom>
              <a:solidFill>
                <a:srgbClr val="00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rot="16200000">
                <a:off x="7900920" y="3339720"/>
                <a:ext cx="138960" cy="704160"/>
              </a:xfrm>
              <a:prstGeom prst="rect">
                <a:avLst/>
              </a:prstGeom>
              <a:solidFill>
                <a:srgbClr val="00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 rot="16200000">
                <a:off x="7900920" y="3618000"/>
                <a:ext cx="138960" cy="704160"/>
              </a:xfrm>
              <a:prstGeom prst="rect">
                <a:avLst/>
              </a:prstGeom>
              <a:solidFill>
                <a:srgbClr val="00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rot="16200000">
                <a:off x="7866360" y="2469240"/>
                <a:ext cx="208800" cy="704160"/>
              </a:xfrm>
              <a:prstGeom prst="rect">
                <a:avLst/>
              </a:prstGeom>
              <a:solidFill>
                <a:srgbClr val="00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7618680" y="2577960"/>
                <a:ext cx="704160" cy="138960"/>
              </a:xfrm>
              <a:custGeom>
                <a:avLst/>
                <a:gdLst/>
                <a:ahLst/>
                <a:rect l="l" t="t" r="r" b="b"/>
                <a:pathLst>
                  <a:path w="1344" h="288">
                    <a:moveTo>
                      <a:pt x="1344" y="288"/>
                    </a:moveTo>
                    <a:lnTo>
                      <a:pt x="672" y="0"/>
                    </a:lnTo>
                    <a:lnTo>
                      <a:pt x="0" y="288"/>
                    </a:lnTo>
                    <a:lnTo>
                      <a:pt x="1344" y="288"/>
                    </a:lnTo>
                    <a:close/>
                  </a:path>
                </a:pathLst>
              </a:custGeom>
              <a:solidFill>
                <a:srgbClr val="00cc6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4" name=""/>
          <p:cNvSpPr/>
          <p:nvPr/>
        </p:nvSpPr>
        <p:spPr>
          <a:xfrm>
            <a:off x="7032600" y="2438280"/>
            <a:ext cx="0" cy="18399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"/>
          <p:cNvSpPr/>
          <p:nvPr/>
        </p:nvSpPr>
        <p:spPr>
          <a:xfrm>
            <a:off x="2895480" y="3962520"/>
            <a:ext cx="4173480" cy="990360"/>
          </a:xfrm>
          <a:prstGeom prst="ellipse">
            <a:avLst/>
          </a:prstGeom>
          <a:solidFill>
            <a:srgbClr val="990033"/>
          </a:solidFill>
          <a:ln w="0">
            <a:noFill/>
          </a:ln>
          <a:effectLst>
            <a:outerShdw dist="17819" dir="2700000" blurRad="0" rotWithShape="0">
              <a:srgbClr val="5b00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6" name=""/>
          <p:cNvGrpSpPr/>
          <p:nvPr/>
        </p:nvGrpSpPr>
        <p:grpSpPr>
          <a:xfrm>
            <a:off x="5105520" y="4495320"/>
            <a:ext cx="1600200" cy="457560"/>
            <a:chOff x="5105520" y="4495320"/>
            <a:chExt cx="1600200" cy="457560"/>
          </a:xfrm>
        </p:grpSpPr>
        <p:grpSp>
          <p:nvGrpSpPr>
            <p:cNvPr id="2097" name=""/>
            <p:cNvGrpSpPr/>
            <p:nvPr/>
          </p:nvGrpSpPr>
          <p:grpSpPr>
            <a:xfrm>
              <a:off x="5105520" y="4495680"/>
              <a:ext cx="1600200" cy="457200"/>
              <a:chOff x="5105520" y="4495680"/>
              <a:chExt cx="1600200" cy="457200"/>
            </a:xfrm>
          </p:grpSpPr>
          <p:sp>
            <p:nvSpPr>
              <p:cNvPr id="2098" name=""/>
              <p:cNvSpPr/>
              <p:nvPr/>
            </p:nvSpPr>
            <p:spPr>
              <a:xfrm>
                <a:off x="5486400" y="4495680"/>
                <a:ext cx="609480" cy="30492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192" y="0"/>
                    </a:moveTo>
                    <a:lnTo>
                      <a:pt x="384" y="0"/>
                    </a:lnTo>
                    <a:lnTo>
                      <a:pt x="192" y="192"/>
                    </a:lnTo>
                    <a:lnTo>
                      <a:pt x="0" y="192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99c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5105520" y="4495680"/>
                <a:ext cx="1447560" cy="228600"/>
              </a:xfrm>
              <a:custGeom>
                <a:avLst/>
                <a:gdLst/>
                <a:ahLst/>
                <a:rect l="l" t="t" r="r" b="b"/>
                <a:pathLst>
                  <a:path w="912" h="144">
                    <a:moveTo>
                      <a:pt x="192" y="0"/>
                    </a:moveTo>
                    <a:lnTo>
                      <a:pt x="912" y="0"/>
                    </a:lnTo>
                    <a:lnTo>
                      <a:pt x="768" y="144"/>
                    </a:lnTo>
                    <a:lnTo>
                      <a:pt x="0" y="144"/>
                    </a:lnTo>
                    <a:lnTo>
                      <a:pt x="144" y="0"/>
                    </a:lnTo>
                    <a:lnTo>
                      <a:pt x="240" y="0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99c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6324480" y="4495680"/>
                <a:ext cx="381240" cy="228600"/>
              </a:xfrm>
              <a:custGeom>
                <a:avLst/>
                <a:gdLst/>
                <a:ahLst/>
                <a:rect l="l" t="t" r="r" b="b"/>
                <a:pathLst>
                  <a:path w="240" h="144">
                    <a:moveTo>
                      <a:pt x="144" y="0"/>
                    </a:moveTo>
                    <a:lnTo>
                      <a:pt x="240" y="48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99c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5486400" y="4800600"/>
                <a:ext cx="304920" cy="152280"/>
              </a:xfrm>
              <a:custGeom>
                <a:avLst/>
                <a:gdLst/>
                <a:ahLst/>
                <a:rect l="l" t="t" r="r" b="b"/>
                <a:pathLst>
                  <a:path w="192" h="96">
                    <a:moveTo>
                      <a:pt x="192" y="0"/>
                    </a:moveTo>
                    <a:lnTo>
                      <a:pt x="0" y="9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c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5486400" y="480060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flipH="1">
                <a:off x="6324120" y="4495680"/>
                <a:ext cx="22860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4" name=""/>
            <p:cNvSpPr/>
            <p:nvPr/>
          </p:nvSpPr>
          <p:spPr>
            <a:xfrm flipV="1">
              <a:off x="5867640" y="449532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5562720" y="449532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104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QFD 1: Papel do QFD no desenvolvimento de produto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2107" name=""/>
          <p:cNvGrpSpPr/>
          <p:nvPr/>
        </p:nvGrpSpPr>
        <p:grpSpPr>
          <a:xfrm>
            <a:off x="2880" y="685800"/>
            <a:ext cx="7835760" cy="4038480"/>
            <a:chOff x="2880" y="685800"/>
            <a:chExt cx="7835760" cy="4038480"/>
          </a:xfrm>
        </p:grpSpPr>
        <p:sp>
          <p:nvSpPr>
            <p:cNvPr id="2108" name=""/>
            <p:cNvSpPr/>
            <p:nvPr/>
          </p:nvSpPr>
          <p:spPr>
            <a:xfrm>
              <a:off x="844200" y="2590920"/>
              <a:ext cx="5257440" cy="2133360"/>
            </a:xfrm>
            <a:custGeom>
              <a:avLst/>
              <a:gdLst/>
              <a:ahLst/>
              <a:rect l="l" t="t" r="r" b="b"/>
              <a:pathLst>
                <a:path w="2544" h="1248">
                  <a:moveTo>
                    <a:pt x="0" y="0"/>
                  </a:moveTo>
                  <a:lnTo>
                    <a:pt x="2256" y="0"/>
                  </a:lnTo>
                  <a:lnTo>
                    <a:pt x="2544" y="1152"/>
                  </a:lnTo>
                  <a:lnTo>
                    <a:pt x="2448" y="124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dbdbf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9" name=""/>
            <p:cNvGrpSpPr/>
            <p:nvPr/>
          </p:nvGrpSpPr>
          <p:grpSpPr>
            <a:xfrm>
              <a:off x="2880" y="685800"/>
              <a:ext cx="7835760" cy="2590920"/>
              <a:chOff x="2880" y="685800"/>
              <a:chExt cx="7835760" cy="2590920"/>
            </a:xfrm>
          </p:grpSpPr>
          <p:sp>
            <p:nvSpPr>
              <p:cNvPr id="2110" name=""/>
              <p:cNvSpPr/>
              <p:nvPr/>
            </p:nvSpPr>
            <p:spPr>
              <a:xfrm>
                <a:off x="844200" y="685800"/>
                <a:ext cx="6994440" cy="2590920"/>
              </a:xfrm>
              <a:prstGeom prst="rightArrow">
                <a:avLst>
                  <a:gd name="adj1" fmla="val 50000"/>
                  <a:gd name="adj2" fmla="val 67490"/>
                </a:avLst>
              </a:prstGeom>
              <a:gradFill rotWithShape="0">
                <a:gsLst>
                  <a:gs pos="0">
                    <a:srgbClr val="b1b1df"/>
                  </a:gs>
                  <a:gs pos="100000">
                    <a:srgbClr val="0000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1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55440" y="1371600"/>
                <a:ext cx="2754000" cy="126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287440" y="1600200"/>
                <a:ext cx="2220480" cy="101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841560" y="1371600"/>
                <a:ext cx="2665080" cy="12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4" name=""/>
              <p:cNvSpPr/>
              <p:nvPr/>
            </p:nvSpPr>
            <p:spPr>
              <a:xfrm>
                <a:off x="2880" y="863640"/>
                <a:ext cx="633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Processo Desenvolvimento de Produt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15" name="" descr="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1752480" y="266688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2116" name="" descr=""/>
          <p:cNvPicPr/>
          <p:nvPr/>
        </p:nvPicPr>
        <p:blipFill>
          <a:blip r:embed="rId5"/>
          <a:stretch/>
        </p:blipFill>
        <p:spPr>
          <a:xfrm>
            <a:off x="7543800" y="2895480"/>
            <a:ext cx="1905120" cy="1320840"/>
          </a:xfrm>
          <a:prstGeom prst="rect">
            <a:avLst/>
          </a:prstGeom>
          <a:ln w="0">
            <a:noFill/>
          </a:ln>
        </p:spPr>
      </p:pic>
      <p:sp>
        <p:nvSpPr>
          <p:cNvPr id="2117" name=""/>
          <p:cNvSpPr/>
          <p:nvPr/>
        </p:nvSpPr>
        <p:spPr>
          <a:xfrm>
            <a:off x="7543800" y="4191120"/>
            <a:ext cx="1523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1071720" y="5029200"/>
            <a:ext cx="3701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de Desenvolv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0" y="5057640"/>
            <a:ext cx="9144000" cy="180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 QFD permite orientar o trabalho do time de desenvolvimento em direção às necessidades dos clientes por meio do desdobramento dos requisitos dos clientes em  requisitos do prod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179280" y="3068640"/>
            <a:ext cx="16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FD: quality function de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1" name="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3047760" cy="2201760"/>
          </a:xfrm>
          <a:prstGeom prst="rect">
            <a:avLst/>
          </a:prstGeom>
          <a:ln w="0">
            <a:noFill/>
          </a:ln>
        </p:spPr>
      </p:pic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142560" y="171360"/>
            <a:ext cx="73882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QFD 2: Princípio da Casa da Qualidad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2123" name=""/>
          <p:cNvGrpSpPr/>
          <p:nvPr/>
        </p:nvGrpSpPr>
        <p:grpSpPr>
          <a:xfrm>
            <a:off x="6019200" y="1676520"/>
            <a:ext cx="2972160" cy="2744280"/>
            <a:chOff x="6019200" y="1676520"/>
            <a:chExt cx="2972160" cy="2744280"/>
          </a:xfrm>
        </p:grpSpPr>
        <p:sp>
          <p:nvSpPr>
            <p:cNvPr id="2124" name=""/>
            <p:cNvSpPr/>
            <p:nvPr/>
          </p:nvSpPr>
          <p:spPr>
            <a:xfrm flipH="1" rot="10800000">
              <a:off x="6018840" y="2743200"/>
              <a:ext cx="2971800" cy="167760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Requisitos d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oduto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>
              <a:off x="6019200" y="1676520"/>
              <a:ext cx="2971800" cy="10666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6" name=""/>
          <p:cNvSpPr/>
          <p:nvPr/>
        </p:nvSpPr>
        <p:spPr>
          <a:xfrm>
            <a:off x="990720" y="1295280"/>
            <a:ext cx="2438280" cy="703440"/>
          </a:xfrm>
          <a:prstGeom prst="rect">
            <a:avLst/>
          </a:prstGeom>
          <a:solidFill>
            <a:srgbClr val="9900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rojetis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7" name=""/>
          <p:cNvGrpSpPr/>
          <p:nvPr/>
        </p:nvGrpSpPr>
        <p:grpSpPr>
          <a:xfrm>
            <a:off x="2084400" y="2489760"/>
            <a:ext cx="2460240" cy="2277000"/>
            <a:chOff x="2084400" y="2489760"/>
            <a:chExt cx="2460240" cy="2277000"/>
          </a:xfrm>
        </p:grpSpPr>
        <p:sp>
          <p:nvSpPr>
            <p:cNvPr id="2128" name=""/>
            <p:cNvSpPr/>
            <p:nvPr/>
          </p:nvSpPr>
          <p:spPr>
            <a:xfrm flipV="1" rot="5850600">
              <a:off x="4123440" y="2505600"/>
              <a:ext cx="388800" cy="40644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V="1" rot="5850600">
              <a:off x="3670920" y="2874240"/>
              <a:ext cx="514080" cy="56016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 flipV="1" rot="5850600">
              <a:off x="3110400" y="3329640"/>
              <a:ext cx="741240" cy="81252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V="1" rot="5850600">
              <a:off x="2326320" y="3664080"/>
              <a:ext cx="833400" cy="121896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2" name=""/>
          <p:cNvSpPr/>
          <p:nvPr/>
        </p:nvSpPr>
        <p:spPr>
          <a:xfrm>
            <a:off x="0" y="4267080"/>
            <a:ext cx="2840040" cy="259092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3" name="" descr=""/>
          <p:cNvPicPr/>
          <p:nvPr/>
        </p:nvPicPr>
        <p:blipFill>
          <a:blip r:embed="rId2"/>
          <a:stretch/>
        </p:blipFill>
        <p:spPr>
          <a:xfrm>
            <a:off x="655560" y="4267080"/>
            <a:ext cx="2621160" cy="2138400"/>
          </a:xfrm>
          <a:prstGeom prst="rect">
            <a:avLst/>
          </a:prstGeom>
          <a:ln w="0">
            <a:noFill/>
          </a:ln>
        </p:spPr>
      </p:pic>
      <p:grpSp>
        <p:nvGrpSpPr>
          <p:cNvPr id="2134" name=""/>
          <p:cNvGrpSpPr/>
          <p:nvPr/>
        </p:nvGrpSpPr>
        <p:grpSpPr>
          <a:xfrm>
            <a:off x="2819520" y="4495320"/>
            <a:ext cx="3162240" cy="1676880"/>
            <a:chOff x="2819520" y="4495320"/>
            <a:chExt cx="3162240" cy="1676880"/>
          </a:xfrm>
        </p:grpSpPr>
        <p:sp>
          <p:nvSpPr>
            <p:cNvPr id="2135" name=""/>
            <p:cNvSpPr/>
            <p:nvPr/>
          </p:nvSpPr>
          <p:spPr>
            <a:xfrm flipV="1">
              <a:off x="3660840" y="4494960"/>
              <a:ext cx="2320920" cy="167652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Requisitos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os Client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2819520" y="4495680"/>
              <a:ext cx="838440" cy="1676520"/>
            </a:xfrm>
            <a:custGeom>
              <a:avLst/>
              <a:gdLst/>
              <a:ahLst/>
              <a:rect l="l" t="t" r="r" b="b"/>
              <a:pathLst>
                <a:path w="528" h="1056">
                  <a:moveTo>
                    <a:pt x="528" y="0"/>
                  </a:moveTo>
                  <a:lnTo>
                    <a:pt x="0" y="528"/>
                  </a:lnTo>
                  <a:lnTo>
                    <a:pt x="528" y="1056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7" name=""/>
          <p:cNvSpPr/>
          <p:nvPr/>
        </p:nvSpPr>
        <p:spPr>
          <a:xfrm>
            <a:off x="2714400" y="6247440"/>
            <a:ext cx="419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a dos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6045480" y="1141920"/>
            <a:ext cx="300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acterístic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éc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76320" y="3429000"/>
            <a:ext cx="2438280" cy="703440"/>
          </a:xfrm>
          <a:prstGeom prst="rect">
            <a:avLst/>
          </a:prstGeom>
          <a:solidFill>
            <a:srgbClr val="9900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0" name=""/>
          <p:cNvGrpSpPr/>
          <p:nvPr/>
        </p:nvGrpSpPr>
        <p:grpSpPr>
          <a:xfrm>
            <a:off x="6428880" y="4120920"/>
            <a:ext cx="2364480" cy="2012040"/>
            <a:chOff x="6428880" y="4120920"/>
            <a:chExt cx="2364480" cy="2012040"/>
          </a:xfrm>
        </p:grpSpPr>
        <p:sp>
          <p:nvSpPr>
            <p:cNvPr id="2141" name=""/>
            <p:cNvSpPr/>
            <p:nvPr/>
          </p:nvSpPr>
          <p:spPr>
            <a:xfrm>
              <a:off x="6428880" y="4941720"/>
              <a:ext cx="2364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specific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o desempenh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o siste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H="1" flipV="1">
              <a:off x="7664400" y="4120920"/>
              <a:ext cx="101520" cy="834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u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2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2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5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"/>
          <p:cNvSpPr/>
          <p:nvPr/>
        </p:nvSpPr>
        <p:spPr>
          <a:xfrm>
            <a:off x="179280" y="4221000"/>
            <a:ext cx="1440000" cy="79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171000" y="4284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QFD 3: Informações e estrutura da casa da qualidade (1ª matriz)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1981080" y="2925720"/>
            <a:ext cx="213372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1219320" y="2925720"/>
            <a:ext cx="761760" cy="1828800"/>
          </a:xfrm>
          <a:custGeom>
            <a:avLst/>
            <a:gdLst/>
            <a:ahLst/>
            <a:rect l="l" t="t" r="r" b="b"/>
            <a:pathLst>
              <a:path w="1632" h="1152">
                <a:moveTo>
                  <a:pt x="1632" y="0"/>
                </a:moveTo>
                <a:lnTo>
                  <a:pt x="0" y="576"/>
                </a:lnTo>
                <a:lnTo>
                  <a:pt x="1632" y="1152"/>
                </a:lnTo>
              </a:path>
            </a:pathLst>
          </a:custGeom>
          <a:noFill/>
          <a:ln w="1260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4114800" y="2925720"/>
            <a:ext cx="45720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4572000" y="2925720"/>
            <a:ext cx="45720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5410080" y="2925720"/>
            <a:ext cx="45720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5105520" y="3611520"/>
            <a:ext cx="304560" cy="380880"/>
          </a:xfrm>
          <a:prstGeom prst="rightArrow">
            <a:avLst>
              <a:gd name="adj1" fmla="val 50000"/>
              <a:gd name="adj2" fmla="val 572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 rot="16200000">
            <a:off x="2819160" y="3916080"/>
            <a:ext cx="457200" cy="213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 rot="16200000">
            <a:off x="2819160" y="4373280"/>
            <a:ext cx="457200" cy="213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 rot="5400000">
            <a:off x="3009960" y="5707080"/>
            <a:ext cx="304560" cy="380880"/>
          </a:xfrm>
          <a:prstGeom prst="rightArrow">
            <a:avLst>
              <a:gd name="adj1" fmla="val 50000"/>
              <a:gd name="adj2" fmla="val 57292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 rot="16200000">
            <a:off x="2819160" y="5287680"/>
            <a:ext cx="457200" cy="213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 rot="16200000">
            <a:off x="2706480" y="1515600"/>
            <a:ext cx="685800" cy="213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1982880" y="1782720"/>
            <a:ext cx="2133360" cy="457200"/>
          </a:xfrm>
          <a:custGeom>
            <a:avLst/>
            <a:gdLst/>
            <a:ahLst/>
            <a:rect l="l" t="t" r="r" b="b"/>
            <a:pathLst>
              <a:path w="1344" h="288">
                <a:moveTo>
                  <a:pt x="1344" y="288"/>
                </a:moveTo>
                <a:lnTo>
                  <a:pt x="672" y="0"/>
                </a:lnTo>
                <a:lnTo>
                  <a:pt x="0" y="288"/>
                </a:lnTo>
                <a:lnTo>
                  <a:pt x="1344" y="288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7" name=""/>
          <p:cNvGrpSpPr/>
          <p:nvPr/>
        </p:nvGrpSpPr>
        <p:grpSpPr>
          <a:xfrm>
            <a:off x="4112640" y="5821920"/>
            <a:ext cx="3411720" cy="1068840"/>
            <a:chOff x="4112640" y="5821920"/>
            <a:chExt cx="3411720" cy="1068840"/>
          </a:xfrm>
        </p:grpSpPr>
        <p:sp>
          <p:nvSpPr>
            <p:cNvPr id="2158" name=""/>
            <p:cNvSpPr/>
            <p:nvPr/>
          </p:nvSpPr>
          <p:spPr>
            <a:xfrm>
              <a:off x="4158360" y="5821920"/>
              <a:ext cx="336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Qualidade Projetad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59" name=""/>
            <p:cNvCxnSpPr>
              <a:stCxn id="2158" idx="1"/>
              <a:endCxn id="2154" idx="2"/>
            </p:cNvCxnSpPr>
            <p:nvPr/>
          </p:nvCxnSpPr>
          <p:spPr>
            <a:xfrm flipH="1" flipV="1">
              <a:off x="4112640" y="6352920"/>
              <a:ext cx="9327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60" name=""/>
          <p:cNvGrpSpPr/>
          <p:nvPr/>
        </p:nvGrpSpPr>
        <p:grpSpPr>
          <a:xfrm>
            <a:off x="5866560" y="3062880"/>
            <a:ext cx="3201120" cy="1068840"/>
            <a:chOff x="5866560" y="3062880"/>
            <a:chExt cx="3201120" cy="1068840"/>
          </a:xfrm>
        </p:grpSpPr>
        <p:sp>
          <p:nvSpPr>
            <p:cNvPr id="2161" name=""/>
            <p:cNvSpPr/>
            <p:nvPr/>
          </p:nvSpPr>
          <p:spPr>
            <a:xfrm>
              <a:off x="6248520" y="3062880"/>
              <a:ext cx="2819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Qualidade Planejad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62" name=""/>
            <p:cNvCxnSpPr>
              <a:stCxn id="2161" idx="1"/>
              <a:endCxn id="2149" idx="3"/>
            </p:cNvCxnSpPr>
            <p:nvPr/>
          </p:nvCxnSpPr>
          <p:spPr>
            <a:xfrm flipH="1">
              <a:off x="5866560" y="3595320"/>
              <a:ext cx="381960" cy="244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63" name=""/>
          <p:cNvGrpSpPr/>
          <p:nvPr/>
        </p:nvGrpSpPr>
        <p:grpSpPr>
          <a:xfrm>
            <a:off x="0" y="3839760"/>
            <a:ext cx="1828800" cy="1130040"/>
            <a:chOff x="0" y="3839760"/>
            <a:chExt cx="1828800" cy="1130040"/>
          </a:xfrm>
        </p:grpSpPr>
        <p:sp>
          <p:nvSpPr>
            <p:cNvPr id="2164" name=""/>
            <p:cNvSpPr/>
            <p:nvPr/>
          </p:nvSpPr>
          <p:spPr>
            <a:xfrm>
              <a:off x="0" y="4266000"/>
              <a:ext cx="182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quisitos dos clien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65" name=""/>
            <p:cNvCxnSpPr>
              <a:stCxn id="2164" idx="0"/>
              <a:endCxn id="2146" idx="0"/>
            </p:cNvCxnSpPr>
            <p:nvPr/>
          </p:nvCxnSpPr>
          <p:spPr>
            <a:xfrm flipV="1">
              <a:off x="914040" y="3839760"/>
              <a:ext cx="305640" cy="4276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66" name=""/>
          <p:cNvGrpSpPr/>
          <p:nvPr/>
        </p:nvGrpSpPr>
        <p:grpSpPr>
          <a:xfrm>
            <a:off x="76320" y="1506960"/>
            <a:ext cx="1904760" cy="1074600"/>
            <a:chOff x="76320" y="1506960"/>
            <a:chExt cx="1904760" cy="1074600"/>
          </a:xfrm>
        </p:grpSpPr>
        <p:sp>
          <p:nvSpPr>
            <p:cNvPr id="2167" name=""/>
            <p:cNvSpPr/>
            <p:nvPr/>
          </p:nvSpPr>
          <p:spPr>
            <a:xfrm>
              <a:off x="76320" y="1506960"/>
              <a:ext cx="1904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racterísticas de qualida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68" name=""/>
            <p:cNvCxnSpPr>
              <a:stCxn id="2167" idx="2"/>
              <a:endCxn id="2155" idx="0"/>
            </p:cNvCxnSpPr>
            <p:nvPr/>
          </p:nvCxnSpPr>
          <p:spPr>
            <a:xfrm>
              <a:off x="1028520" y="2209680"/>
              <a:ext cx="952920" cy="3722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69" name=""/>
          <p:cNvGrpSpPr/>
          <p:nvPr/>
        </p:nvGrpSpPr>
        <p:grpSpPr>
          <a:xfrm>
            <a:off x="1219320" y="2925720"/>
            <a:ext cx="4647960" cy="1828800"/>
            <a:chOff x="1219320" y="2925720"/>
            <a:chExt cx="4647960" cy="1828800"/>
          </a:xfrm>
        </p:grpSpPr>
        <p:sp>
          <p:nvSpPr>
            <p:cNvPr id="2170" name=""/>
            <p:cNvSpPr/>
            <p:nvPr/>
          </p:nvSpPr>
          <p:spPr>
            <a:xfrm>
              <a:off x="1219320" y="2925720"/>
              <a:ext cx="761760" cy="1828800"/>
            </a:xfrm>
            <a:custGeom>
              <a:avLst/>
              <a:gdLst/>
              <a:ahLst/>
              <a:rect l="l" t="t" r="r" b="b"/>
              <a:pathLst>
                <a:path w="1632" h="1152">
                  <a:moveTo>
                    <a:pt x="1632" y="0"/>
                  </a:moveTo>
                  <a:lnTo>
                    <a:pt x="0" y="576"/>
                  </a:lnTo>
                  <a:lnTo>
                    <a:pt x="1632" y="1152"/>
                  </a:lnTo>
                </a:path>
              </a:pathLst>
            </a:custGeom>
            <a:solidFill>
              <a:srgbClr val="ffff00"/>
            </a:solidFill>
            <a:ln w="1260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114800" y="2925720"/>
              <a:ext cx="457200" cy="18288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572000" y="2925720"/>
              <a:ext cx="457200" cy="18288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410080" y="2925720"/>
              <a:ext cx="457200" cy="18288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105520" y="3611520"/>
              <a:ext cx="304560" cy="380880"/>
            </a:xfrm>
            <a:prstGeom prst="rightArrow">
              <a:avLst>
                <a:gd name="adj1" fmla="val 50000"/>
                <a:gd name="adj2" fmla="val 57292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5" name=""/>
          <p:cNvGrpSpPr/>
          <p:nvPr/>
        </p:nvGrpSpPr>
        <p:grpSpPr>
          <a:xfrm>
            <a:off x="1994040" y="1770120"/>
            <a:ext cx="2135160" cy="4800600"/>
            <a:chOff x="1994040" y="1770120"/>
            <a:chExt cx="2135160" cy="4800600"/>
          </a:xfrm>
        </p:grpSpPr>
        <p:sp>
          <p:nvSpPr>
            <p:cNvPr id="2176" name=""/>
            <p:cNvSpPr/>
            <p:nvPr/>
          </p:nvSpPr>
          <p:spPr>
            <a:xfrm>
              <a:off x="1994040" y="2913120"/>
              <a:ext cx="2133360" cy="18288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 rot="16200000">
              <a:off x="2832120" y="3903840"/>
              <a:ext cx="457200" cy="21333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 rot="16200000">
              <a:off x="2832120" y="4361040"/>
              <a:ext cx="457200" cy="21333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 rot="16200000">
              <a:off x="2832120" y="5275440"/>
              <a:ext cx="457200" cy="21333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 rot="16200000">
              <a:off x="2719440" y="1503000"/>
              <a:ext cx="685800" cy="2133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995480" y="1770120"/>
              <a:ext cx="2133720" cy="457200"/>
            </a:xfrm>
            <a:custGeom>
              <a:avLst/>
              <a:gdLst/>
              <a:ahLst/>
              <a:rect l="l" t="t" r="r" b="b"/>
              <a:pathLst>
                <a:path w="1344" h="288">
                  <a:moveTo>
                    <a:pt x="1344" y="288"/>
                  </a:moveTo>
                  <a:lnTo>
                    <a:pt x="672" y="0"/>
                  </a:lnTo>
                  <a:lnTo>
                    <a:pt x="0" y="288"/>
                  </a:lnTo>
                  <a:lnTo>
                    <a:pt x="1344" y="288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2" name=""/>
          <p:cNvGrpSpPr/>
          <p:nvPr/>
        </p:nvGrpSpPr>
        <p:grpSpPr>
          <a:xfrm>
            <a:off x="4800240" y="1980360"/>
            <a:ext cx="2895840" cy="945720"/>
            <a:chOff x="4800240" y="1980360"/>
            <a:chExt cx="2895840" cy="945720"/>
          </a:xfrm>
        </p:grpSpPr>
        <p:sp>
          <p:nvSpPr>
            <p:cNvPr id="2183" name=""/>
            <p:cNvSpPr/>
            <p:nvPr/>
          </p:nvSpPr>
          <p:spPr>
            <a:xfrm>
              <a:off x="5791320" y="1980360"/>
              <a:ext cx="190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enchmark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84" name=""/>
            <p:cNvCxnSpPr>
              <a:stCxn id="2183" idx="1"/>
            </p:cNvCxnSpPr>
            <p:nvPr/>
          </p:nvCxnSpPr>
          <p:spPr>
            <a:xfrm flipH="1">
              <a:off x="4800240" y="2179800"/>
              <a:ext cx="991440" cy="7466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85" name=""/>
          <p:cNvGrpSpPr/>
          <p:nvPr/>
        </p:nvGrpSpPr>
        <p:grpSpPr>
          <a:xfrm>
            <a:off x="4325040" y="1446840"/>
            <a:ext cx="4649040" cy="1479240"/>
            <a:chOff x="4325040" y="1446840"/>
            <a:chExt cx="4649040" cy="1479240"/>
          </a:xfrm>
        </p:grpSpPr>
        <p:sp>
          <p:nvSpPr>
            <p:cNvPr id="2186" name=""/>
            <p:cNvSpPr/>
            <p:nvPr/>
          </p:nvSpPr>
          <p:spPr>
            <a:xfrm>
              <a:off x="4478040" y="1446840"/>
              <a:ext cx="449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iorização (clientes, intern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87" name=""/>
            <p:cNvCxnSpPr>
              <a:stCxn id="2186" idx="1"/>
            </p:cNvCxnSpPr>
            <p:nvPr/>
          </p:nvCxnSpPr>
          <p:spPr>
            <a:xfrm flipH="1">
              <a:off x="4325040" y="1646280"/>
              <a:ext cx="153000" cy="1280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88" name=""/>
          <p:cNvGrpSpPr/>
          <p:nvPr/>
        </p:nvGrpSpPr>
        <p:grpSpPr>
          <a:xfrm>
            <a:off x="4112640" y="4631400"/>
            <a:ext cx="4726440" cy="703800"/>
            <a:chOff x="4112640" y="4631400"/>
            <a:chExt cx="4726440" cy="703800"/>
          </a:xfrm>
        </p:grpSpPr>
        <p:sp>
          <p:nvSpPr>
            <p:cNvPr id="2189" name=""/>
            <p:cNvSpPr/>
            <p:nvPr/>
          </p:nvSpPr>
          <p:spPr>
            <a:xfrm>
              <a:off x="6248520" y="4631400"/>
              <a:ext cx="259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iorizaçã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de conversã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0" name=""/>
            <p:cNvCxnSpPr>
              <a:stCxn id="2189" idx="1"/>
            </p:cNvCxnSpPr>
            <p:nvPr/>
          </p:nvCxnSpPr>
          <p:spPr>
            <a:xfrm flipH="1" flipV="1">
              <a:off x="4112640" y="4981320"/>
              <a:ext cx="213588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91" name=""/>
          <p:cNvGrpSpPr/>
          <p:nvPr/>
        </p:nvGrpSpPr>
        <p:grpSpPr>
          <a:xfrm>
            <a:off x="4112640" y="5409360"/>
            <a:ext cx="3659760" cy="398880"/>
            <a:chOff x="4112640" y="5409360"/>
            <a:chExt cx="3659760" cy="398880"/>
          </a:xfrm>
        </p:grpSpPr>
        <p:sp>
          <p:nvSpPr>
            <p:cNvPr id="2192" name=""/>
            <p:cNvSpPr/>
            <p:nvPr/>
          </p:nvSpPr>
          <p:spPr>
            <a:xfrm>
              <a:off x="5791320" y="540936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enchmark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3" name=""/>
            <p:cNvCxnSpPr>
              <a:stCxn id="2192" idx="1"/>
            </p:cNvCxnSpPr>
            <p:nvPr/>
          </p:nvCxnSpPr>
          <p:spPr>
            <a:xfrm flipH="1" flipV="1">
              <a:off x="4112640" y="5438520"/>
              <a:ext cx="1678680" cy="1706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94" name=""/>
          <p:cNvSpPr/>
          <p:nvPr/>
        </p:nvSpPr>
        <p:spPr>
          <a:xfrm>
            <a:off x="7213680" y="5807160"/>
            <a:ext cx="1822320" cy="1008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sitos do produto (valor me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2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500"/>
                            </p:stCondLst>
                            <p:childTnLst>
                              <p:par>
                                <p:cTn id="49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3500"/>
                            </p:stCondLst>
                            <p:childTnLst>
                              <p:par>
                                <p:cTn id="50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4000"/>
                            </p:stCondLst>
                            <p:childTnLst>
                              <p:par>
                                <p:cTn id="51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500"/>
                            </p:stCondLst>
                            <p:childTnLst>
                              <p:par>
                                <p:cTn id="5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3000"/>
                            </p:stCondLst>
                            <p:childTnLst>
                              <p:par>
                                <p:cTn id="57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35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4000"/>
                            </p:stCondLst>
                            <p:childTnLst>
                              <p:par>
                                <p:cTn id="5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-360" y="21276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QFD 4: Exemplo de relacionando entre requisitos dos clientes e requisitos do produto (características técnicas do produto)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2196" name=""/>
          <p:cNvGrpSpPr/>
          <p:nvPr/>
        </p:nvGrpSpPr>
        <p:grpSpPr>
          <a:xfrm>
            <a:off x="2819520" y="3124080"/>
            <a:ext cx="4647960" cy="2362320"/>
            <a:chOff x="2819520" y="3124080"/>
            <a:chExt cx="4647960" cy="2362320"/>
          </a:xfrm>
        </p:grpSpPr>
        <p:sp>
          <p:nvSpPr>
            <p:cNvPr id="2197" name=""/>
            <p:cNvSpPr/>
            <p:nvPr/>
          </p:nvSpPr>
          <p:spPr>
            <a:xfrm>
              <a:off x="4495680" y="3124080"/>
              <a:ext cx="2971800" cy="236232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 rot="16200000">
              <a:off x="2476440" y="3467160"/>
              <a:ext cx="2362320" cy="167616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9" name=""/>
          <p:cNvGrpSpPr/>
          <p:nvPr/>
        </p:nvGrpSpPr>
        <p:grpSpPr>
          <a:xfrm>
            <a:off x="4495680" y="1447920"/>
            <a:ext cx="2362320" cy="4647960"/>
            <a:chOff x="4495680" y="1447920"/>
            <a:chExt cx="2362320" cy="4647960"/>
          </a:xfrm>
        </p:grpSpPr>
        <p:sp>
          <p:nvSpPr>
            <p:cNvPr id="2200" name=""/>
            <p:cNvSpPr/>
            <p:nvPr/>
          </p:nvSpPr>
          <p:spPr>
            <a:xfrm rot="5400000">
              <a:off x="4190760" y="3428640"/>
              <a:ext cx="2971800" cy="236232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495680" y="1447920"/>
              <a:ext cx="2362320" cy="167616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2" name=""/>
          <p:cNvSpPr/>
          <p:nvPr/>
        </p:nvSpPr>
        <p:spPr>
          <a:xfrm rot="16200000">
            <a:off x="2476440" y="3467160"/>
            <a:ext cx="2362320" cy="1676160"/>
          </a:xfrm>
          <a:prstGeom prst="triangle">
            <a:avLst>
              <a:gd name="adj" fmla="val 51273"/>
            </a:avLst>
          </a:prstGeom>
          <a:solidFill>
            <a:srgbClr val="ffff00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1708560" y="3429000"/>
            <a:ext cx="232668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533520" y="5029200"/>
            <a:ext cx="2895480" cy="1600200"/>
          </a:xfrm>
          <a:prstGeom prst="wedgeRectCallout">
            <a:avLst>
              <a:gd name="adj1" fmla="val 14527"/>
              <a:gd name="adj2" fmla="val -8561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idade 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es. Ex.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ten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4495680" y="1447920"/>
            <a:ext cx="2362320" cy="1676160"/>
          </a:xfrm>
          <a:prstGeom prst="triangle">
            <a:avLst>
              <a:gd name="adj" fmla="val 51273"/>
            </a:avLst>
          </a:prstGeom>
          <a:solidFill>
            <a:srgbClr val="009900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4696560" y="1752480"/>
            <a:ext cx="2190960" cy="106884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7819" dir="2700000" blurRad="0" rotWithShape="0">
              <a:srgbClr val="00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si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Prod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662400" y="1392840"/>
            <a:ext cx="2790000" cy="1557360"/>
          </a:xfrm>
          <a:prstGeom prst="wedgeRectCallout">
            <a:avLst>
              <a:gd name="adj1" fmla="val 95009"/>
              <a:gd name="adj2" fmla="val 5671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écnicas. Ex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. de ciclos en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roca de ól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8" name=""/>
          <p:cNvGrpSpPr/>
          <p:nvPr/>
        </p:nvGrpSpPr>
        <p:grpSpPr>
          <a:xfrm>
            <a:off x="4495680" y="2845800"/>
            <a:ext cx="4317840" cy="4254840"/>
            <a:chOff x="4495680" y="2845800"/>
            <a:chExt cx="4317840" cy="4254840"/>
          </a:xfrm>
        </p:grpSpPr>
        <p:sp>
          <p:nvSpPr>
            <p:cNvPr id="2209" name=""/>
            <p:cNvSpPr/>
            <p:nvPr/>
          </p:nvSpPr>
          <p:spPr>
            <a:xfrm>
              <a:off x="4495680" y="5486400"/>
              <a:ext cx="2362320" cy="609480"/>
            </a:xfrm>
            <a:prstGeom prst="rect">
              <a:avLst/>
            </a:prstGeom>
            <a:solidFill>
              <a:srgbClr val="d9d9ff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 rot="18756600">
              <a:off x="5294520" y="3326040"/>
              <a:ext cx="2750760" cy="3294360"/>
            </a:xfrm>
            <a:prstGeom prst="leftArrow">
              <a:avLst>
                <a:gd name="adj1" fmla="val 54889"/>
                <a:gd name="adj2" fmla="val 49102"/>
              </a:avLst>
            </a:prstGeom>
            <a:solidFill>
              <a:srgbClr val="009900"/>
            </a:solidFill>
            <a:ln w="0">
              <a:noFill/>
            </a:ln>
            <a:effectLst>
              <a:outerShdw dist="17819" dir="2700000" blurRad="0" rotWithShape="0">
                <a:srgbClr val="005b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etas Mensuráveis para as Característica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écnicas hierarquizad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d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0" dur="500"/>
                                        <p:tgtEl>
                                          <p:spTgt spid="2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1" name=""/>
          <p:cNvGrpSpPr/>
          <p:nvPr/>
        </p:nvGrpSpPr>
        <p:grpSpPr>
          <a:xfrm>
            <a:off x="533520" y="1158840"/>
            <a:ext cx="8229600" cy="5546520"/>
            <a:chOff x="533520" y="1158840"/>
            <a:chExt cx="8229600" cy="5546520"/>
          </a:xfrm>
        </p:grpSpPr>
        <p:sp>
          <p:nvSpPr>
            <p:cNvPr id="2212" name=""/>
            <p:cNvSpPr/>
            <p:nvPr/>
          </p:nvSpPr>
          <p:spPr>
            <a:xfrm>
              <a:off x="533520" y="1158840"/>
              <a:ext cx="182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asa da Qualida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3" name=""/>
            <p:cNvGrpSpPr/>
            <p:nvPr/>
          </p:nvGrpSpPr>
          <p:grpSpPr>
            <a:xfrm>
              <a:off x="838080" y="1981080"/>
              <a:ext cx="838440" cy="838080"/>
              <a:chOff x="838080" y="1981080"/>
              <a:chExt cx="838440" cy="838080"/>
            </a:xfrm>
          </p:grpSpPr>
          <p:sp>
            <p:nvSpPr>
              <p:cNvPr id="2214" name=""/>
              <p:cNvSpPr/>
              <p:nvPr/>
            </p:nvSpPr>
            <p:spPr>
              <a:xfrm>
                <a:off x="838080" y="2116080"/>
                <a:ext cx="179640" cy="56808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1017720" y="2116080"/>
                <a:ext cx="658800" cy="56808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1017720" y="2684160"/>
                <a:ext cx="658800" cy="13500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1017720" y="1981080"/>
                <a:ext cx="658800" cy="13500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218" name=""/>
            <p:cNvCxnSpPr>
              <a:stCxn id="2216" idx="2"/>
              <a:endCxn id="2219" idx="1"/>
            </p:cNvCxnSpPr>
            <p:nvPr/>
          </p:nvCxnSpPr>
          <p:spPr>
            <a:xfrm flipH="1" rot="16200000">
              <a:off x="1415880" y="2759760"/>
              <a:ext cx="410400" cy="548280"/>
            </a:xfrm>
            <a:prstGeom prst="bentConnector2">
              <a:avLst/>
            </a:prstGeom>
            <a:ln w="57240">
              <a:solidFill>
                <a:srgbClr val="ff3300"/>
              </a:solidFill>
              <a:miter/>
              <a:tailEnd len="sm" type="triangle" w="sm"/>
            </a:ln>
          </p:spPr>
        </p:cxnSp>
        <p:grpSp>
          <p:nvGrpSpPr>
            <p:cNvPr id="2220" name=""/>
            <p:cNvGrpSpPr/>
            <p:nvPr/>
          </p:nvGrpSpPr>
          <p:grpSpPr>
            <a:xfrm>
              <a:off x="1905120" y="2819520"/>
              <a:ext cx="837720" cy="838080"/>
              <a:chOff x="1905120" y="2819520"/>
              <a:chExt cx="837720" cy="838080"/>
            </a:xfrm>
          </p:grpSpPr>
          <p:sp>
            <p:nvSpPr>
              <p:cNvPr id="2219" name=""/>
              <p:cNvSpPr/>
              <p:nvPr/>
            </p:nvSpPr>
            <p:spPr>
              <a:xfrm>
                <a:off x="1905120" y="2954520"/>
                <a:ext cx="179280" cy="56772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2084400" y="2954520"/>
                <a:ext cx="658440" cy="56772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2084400" y="3522600"/>
                <a:ext cx="658440" cy="13500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2084400" y="2819520"/>
                <a:ext cx="658440" cy="13500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224" name=""/>
            <p:cNvCxnSpPr>
              <a:stCxn id="2222" idx="2"/>
              <a:endCxn id="2225" idx="1"/>
            </p:cNvCxnSpPr>
            <p:nvPr/>
          </p:nvCxnSpPr>
          <p:spPr>
            <a:xfrm flipH="1" rot="16200000">
              <a:off x="2558880" y="3521160"/>
              <a:ext cx="334080" cy="624600"/>
            </a:xfrm>
            <a:prstGeom prst="bentConnector2">
              <a:avLst/>
            </a:prstGeom>
            <a:ln w="57240">
              <a:solidFill>
                <a:srgbClr val="ff3300"/>
              </a:solidFill>
              <a:miter/>
              <a:tailEnd len="sm" type="triangle" w="sm"/>
            </a:ln>
          </p:spPr>
        </p:cxnSp>
        <p:sp>
          <p:nvSpPr>
            <p:cNvPr id="2226" name=""/>
            <p:cNvSpPr/>
            <p:nvPr/>
          </p:nvSpPr>
          <p:spPr>
            <a:xfrm>
              <a:off x="1828800" y="22860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ste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7" name=""/>
            <p:cNvGrpSpPr/>
            <p:nvPr/>
          </p:nvGrpSpPr>
          <p:grpSpPr>
            <a:xfrm>
              <a:off x="3048120" y="3581280"/>
              <a:ext cx="837720" cy="838080"/>
              <a:chOff x="3048120" y="3581280"/>
              <a:chExt cx="837720" cy="838080"/>
            </a:xfrm>
          </p:grpSpPr>
          <p:sp>
            <p:nvSpPr>
              <p:cNvPr id="2225" name=""/>
              <p:cNvSpPr/>
              <p:nvPr/>
            </p:nvSpPr>
            <p:spPr>
              <a:xfrm>
                <a:off x="3048120" y="3716280"/>
                <a:ext cx="179280" cy="56808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3227400" y="3716280"/>
                <a:ext cx="658440" cy="56808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3227400" y="4284360"/>
                <a:ext cx="658440" cy="13500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3227400" y="3581280"/>
                <a:ext cx="658440" cy="13500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1" name=""/>
            <p:cNvGrpSpPr/>
            <p:nvPr/>
          </p:nvGrpSpPr>
          <p:grpSpPr>
            <a:xfrm>
              <a:off x="4343400" y="4343400"/>
              <a:ext cx="837720" cy="838080"/>
              <a:chOff x="4343400" y="4343400"/>
              <a:chExt cx="837720" cy="838080"/>
            </a:xfrm>
          </p:grpSpPr>
          <p:sp>
            <p:nvSpPr>
              <p:cNvPr id="2232" name=""/>
              <p:cNvSpPr/>
              <p:nvPr/>
            </p:nvSpPr>
            <p:spPr>
              <a:xfrm>
                <a:off x="4343400" y="4478400"/>
                <a:ext cx="179280" cy="56772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4522680" y="4478400"/>
                <a:ext cx="658440" cy="56772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4522680" y="5046480"/>
                <a:ext cx="658440" cy="13500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4522680" y="4343400"/>
                <a:ext cx="658440" cy="13500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236" name=""/>
            <p:cNvCxnSpPr>
              <a:stCxn id="2229" idx="2"/>
              <a:endCxn id="2232" idx="1"/>
            </p:cNvCxnSpPr>
            <p:nvPr/>
          </p:nvCxnSpPr>
          <p:spPr>
            <a:xfrm flipH="1" rot="16200000">
              <a:off x="3778200" y="4207320"/>
              <a:ext cx="334080" cy="777240"/>
            </a:xfrm>
            <a:prstGeom prst="bentConnector2">
              <a:avLst/>
            </a:prstGeom>
            <a:ln w="57240">
              <a:solidFill>
                <a:srgbClr val="ff3300"/>
              </a:solidFill>
              <a:miter/>
              <a:tailEnd len="sm" type="triangle" w="sm"/>
            </a:ln>
          </p:spPr>
        </p:cxnSp>
        <p:grpSp>
          <p:nvGrpSpPr>
            <p:cNvPr id="2237" name=""/>
            <p:cNvGrpSpPr/>
            <p:nvPr/>
          </p:nvGrpSpPr>
          <p:grpSpPr>
            <a:xfrm>
              <a:off x="5562720" y="5105520"/>
              <a:ext cx="837720" cy="838080"/>
              <a:chOff x="5562720" y="5105520"/>
              <a:chExt cx="837720" cy="838080"/>
            </a:xfrm>
          </p:grpSpPr>
          <p:sp>
            <p:nvSpPr>
              <p:cNvPr id="2238" name=""/>
              <p:cNvSpPr/>
              <p:nvPr/>
            </p:nvSpPr>
            <p:spPr>
              <a:xfrm>
                <a:off x="5562720" y="5240520"/>
                <a:ext cx="179280" cy="56772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5742000" y="5240520"/>
                <a:ext cx="658440" cy="56772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5742000" y="5808600"/>
                <a:ext cx="658440" cy="13500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5742000" y="5105520"/>
                <a:ext cx="658440" cy="13500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2" name=""/>
            <p:cNvGrpSpPr/>
            <p:nvPr/>
          </p:nvGrpSpPr>
          <p:grpSpPr>
            <a:xfrm>
              <a:off x="6858000" y="5867280"/>
              <a:ext cx="837720" cy="838080"/>
              <a:chOff x="6858000" y="5867280"/>
              <a:chExt cx="837720" cy="838080"/>
            </a:xfrm>
          </p:grpSpPr>
          <p:sp>
            <p:nvSpPr>
              <p:cNvPr id="2243" name=""/>
              <p:cNvSpPr/>
              <p:nvPr/>
            </p:nvSpPr>
            <p:spPr>
              <a:xfrm>
                <a:off x="6858000" y="6002280"/>
                <a:ext cx="179280" cy="56808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7037280" y="6002280"/>
                <a:ext cx="658440" cy="56808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037280" y="6570360"/>
                <a:ext cx="658440" cy="13500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037280" y="5867280"/>
                <a:ext cx="658440" cy="13500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7" name=""/>
            <p:cNvSpPr/>
            <p:nvPr/>
          </p:nvSpPr>
          <p:spPr>
            <a:xfrm>
              <a:off x="4038480" y="388620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onen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48" name=""/>
            <p:cNvCxnSpPr>
              <a:stCxn id="2234" idx="2"/>
              <a:endCxn id="2238" idx="1"/>
            </p:cNvCxnSpPr>
            <p:nvPr/>
          </p:nvCxnSpPr>
          <p:spPr>
            <a:xfrm flipH="1" rot="16200000">
              <a:off x="5036400" y="5007960"/>
              <a:ext cx="334080" cy="700200"/>
            </a:xfrm>
            <a:prstGeom prst="bentConnector2">
              <a:avLst/>
            </a:prstGeom>
            <a:ln w="57240">
              <a:solidFill>
                <a:srgbClr val="ff3300"/>
              </a:solidFill>
              <a:miter/>
              <a:tailEnd len="sm" type="triangle" w="sm"/>
            </a:ln>
          </p:spPr>
        </p:cxnSp>
        <p:sp>
          <p:nvSpPr>
            <p:cNvPr id="2249" name=""/>
            <p:cNvSpPr/>
            <p:nvPr/>
          </p:nvSpPr>
          <p:spPr>
            <a:xfrm>
              <a:off x="5334120" y="4648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cess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553080" y="541008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du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51" name=""/>
            <p:cNvCxnSpPr>
              <a:stCxn id="2240" idx="2"/>
              <a:endCxn id="2243" idx="1"/>
            </p:cNvCxnSpPr>
            <p:nvPr/>
          </p:nvCxnSpPr>
          <p:spPr>
            <a:xfrm flipH="1" rot="16200000">
              <a:off x="6292800" y="5730840"/>
              <a:ext cx="334080" cy="777240"/>
            </a:xfrm>
            <a:prstGeom prst="bentConnector2">
              <a:avLst/>
            </a:prstGeom>
            <a:ln w="57240">
              <a:solidFill>
                <a:srgbClr val="ff3300"/>
              </a:solidFill>
              <a:miter/>
              <a:tailEnd len="sm" type="triangle" w="sm"/>
            </a:ln>
          </p:spPr>
        </p:cxnSp>
        <p:sp>
          <p:nvSpPr>
            <p:cNvPr id="2252" name=""/>
            <p:cNvSpPr/>
            <p:nvPr/>
          </p:nvSpPr>
          <p:spPr>
            <a:xfrm>
              <a:off x="3048120" y="31240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ubsiste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142560" y="4284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QFD 5: Desdobramentos sucessivos do QFD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401760" y="5950080"/>
            <a:ext cx="40730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limitada aplicação pr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4356000" y="1484280"/>
            <a:ext cx="396108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ação mais comum da primeira casa de qua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6" name=""/>
          <p:cNvGrpSpPr/>
          <p:nvPr/>
        </p:nvGrpSpPr>
        <p:grpSpPr>
          <a:xfrm>
            <a:off x="1992240" y="3141720"/>
            <a:ext cx="1174680" cy="379440"/>
            <a:chOff x="1992240" y="3141720"/>
            <a:chExt cx="1174680" cy="379440"/>
          </a:xfrm>
        </p:grpSpPr>
        <p:sp>
          <p:nvSpPr>
            <p:cNvPr id="2257" name=""/>
            <p:cNvSpPr/>
            <p:nvPr/>
          </p:nvSpPr>
          <p:spPr>
            <a:xfrm>
              <a:off x="1992240" y="3141720"/>
              <a:ext cx="0" cy="379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3166920" y="3141720"/>
              <a:ext cx="0" cy="379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9" name=""/>
          <p:cNvSpPr/>
          <p:nvPr/>
        </p:nvSpPr>
        <p:spPr>
          <a:xfrm>
            <a:off x="1992240" y="3521160"/>
            <a:ext cx="1174680" cy="101124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5832360" y="3060720"/>
            <a:ext cx="1136880" cy="4413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4581360" y="3511440"/>
            <a:ext cx="1175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4511520" y="4522680"/>
            <a:ext cx="1312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5824440" y="3511440"/>
            <a:ext cx="1174680" cy="10112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5824440" y="4522680"/>
            <a:ext cx="1174680" cy="379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1986120" y="3521160"/>
            <a:ext cx="2355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1967040" y="4532400"/>
            <a:ext cx="237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3567240" y="2762280"/>
            <a:ext cx="1401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3567240" y="1751040"/>
            <a:ext cx="1401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4968720" y="1751040"/>
            <a:ext cx="0" cy="1833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>
            <a:off x="3795840" y="1751040"/>
            <a:ext cx="0" cy="1833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3567240" y="1878120"/>
            <a:ext cx="1301760" cy="884160"/>
          </a:xfrm>
          <a:custGeom>
            <a:avLst/>
            <a:gdLst/>
            <a:ahLst/>
            <a:rect l="l" t="t" r="r" b="b"/>
            <a:pathLst>
              <a:path w="1264" h="1056">
                <a:moveTo>
                  <a:pt x="0" y="0"/>
                </a:moveTo>
                <a:cubicBezTo>
                  <a:pt x="332" y="0"/>
                  <a:pt x="664" y="0"/>
                  <a:pt x="864" y="48"/>
                </a:cubicBezTo>
                <a:cubicBezTo>
                  <a:pt x="1064" y="96"/>
                  <a:pt x="1136" y="144"/>
                  <a:pt x="1200" y="288"/>
                </a:cubicBezTo>
                <a:cubicBezTo>
                  <a:pt x="1264" y="432"/>
                  <a:pt x="1240" y="784"/>
                  <a:pt x="1248" y="912"/>
                </a:cubicBezTo>
                <a:cubicBezTo>
                  <a:pt x="1256" y="1040"/>
                  <a:pt x="1252" y="1048"/>
                  <a:pt x="1248" y="105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3567240" y="2193840"/>
            <a:ext cx="1001520" cy="568440"/>
          </a:xfrm>
          <a:custGeom>
            <a:avLst/>
            <a:gdLst/>
            <a:ahLst/>
            <a:rect l="l" t="t" r="r" b="b"/>
            <a:pathLst>
              <a:path w="1264" h="1056">
                <a:moveTo>
                  <a:pt x="0" y="0"/>
                </a:moveTo>
                <a:cubicBezTo>
                  <a:pt x="332" y="0"/>
                  <a:pt x="664" y="0"/>
                  <a:pt x="864" y="48"/>
                </a:cubicBezTo>
                <a:cubicBezTo>
                  <a:pt x="1064" y="96"/>
                  <a:pt x="1136" y="144"/>
                  <a:pt x="1200" y="288"/>
                </a:cubicBezTo>
                <a:cubicBezTo>
                  <a:pt x="1264" y="432"/>
                  <a:pt x="1240" y="784"/>
                  <a:pt x="1248" y="912"/>
                </a:cubicBezTo>
                <a:cubicBezTo>
                  <a:pt x="1256" y="1040"/>
                  <a:pt x="1252" y="1048"/>
                  <a:pt x="1248" y="105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3567240" y="2509920"/>
            <a:ext cx="701640" cy="252360"/>
          </a:xfrm>
          <a:custGeom>
            <a:avLst/>
            <a:gdLst/>
            <a:ahLst/>
            <a:rect l="l" t="t" r="r" b="b"/>
            <a:pathLst>
              <a:path w="1264" h="1056">
                <a:moveTo>
                  <a:pt x="0" y="0"/>
                </a:moveTo>
                <a:cubicBezTo>
                  <a:pt x="332" y="0"/>
                  <a:pt x="664" y="0"/>
                  <a:pt x="864" y="48"/>
                </a:cubicBezTo>
                <a:cubicBezTo>
                  <a:pt x="1064" y="96"/>
                  <a:pt x="1136" y="144"/>
                  <a:pt x="1200" y="288"/>
                </a:cubicBezTo>
                <a:cubicBezTo>
                  <a:pt x="1264" y="432"/>
                  <a:pt x="1240" y="784"/>
                  <a:pt x="1248" y="912"/>
                </a:cubicBezTo>
                <a:cubicBezTo>
                  <a:pt x="1256" y="1040"/>
                  <a:pt x="1252" y="1048"/>
                  <a:pt x="1248" y="105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3794040" y="3521160"/>
            <a:ext cx="1174680" cy="10112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3794040" y="3078000"/>
            <a:ext cx="1174680" cy="4431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4968720" y="3517920"/>
            <a:ext cx="406440" cy="1015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6999120" y="4902120"/>
            <a:ext cx="0" cy="252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5824440" y="5154480"/>
            <a:ext cx="1174680" cy="10112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6997680" y="5146560"/>
            <a:ext cx="469800" cy="1016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0" name=""/>
          <p:cNvGrpSpPr/>
          <p:nvPr/>
        </p:nvGrpSpPr>
        <p:grpSpPr>
          <a:xfrm>
            <a:off x="1357200" y="3536280"/>
            <a:ext cx="1011240" cy="1003320"/>
            <a:chOff x="1357200" y="3536280"/>
            <a:chExt cx="1011240" cy="1003320"/>
          </a:xfrm>
        </p:grpSpPr>
        <p:sp>
          <p:nvSpPr>
            <p:cNvPr id="2281" name=""/>
            <p:cNvSpPr/>
            <p:nvPr/>
          </p:nvSpPr>
          <p:spPr>
            <a:xfrm rot="16200000">
              <a:off x="1655640" y="3507840"/>
              <a:ext cx="41436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 flipV="1" rot="5400000">
              <a:off x="1236600" y="3783600"/>
              <a:ext cx="1003320" cy="50796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3" name=""/>
          <p:cNvSpPr/>
          <p:nvPr/>
        </p:nvSpPr>
        <p:spPr>
          <a:xfrm flipV="1" rot="5400000">
            <a:off x="5060880" y="5402880"/>
            <a:ext cx="1003320" cy="5079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1994040" y="1751040"/>
            <a:ext cx="1172880" cy="101124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1994040" y="1295280"/>
            <a:ext cx="1172880" cy="4431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3166920" y="1751040"/>
            <a:ext cx="414360" cy="101124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1994040" y="2762280"/>
            <a:ext cx="1172880" cy="379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 flipV="1" rot="5400000">
            <a:off x="1236600" y="2005560"/>
            <a:ext cx="1003320" cy="5079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685800" y="3885480"/>
            <a:ext cx="1060560" cy="368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3962520" y="5714280"/>
            <a:ext cx="1606320" cy="368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 flipV="1">
            <a:off x="1814400" y="1521720"/>
            <a:ext cx="609840" cy="685800"/>
          </a:xfrm>
          <a:custGeom>
            <a:avLst/>
            <a:gdLst>
              <a:gd name="textAreaLeft" fmla="*/ 0 w 609840"/>
              <a:gd name="textAreaRight" fmla="*/ 610200 w 60984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21600" h="21600">
                <a:moveTo>
                  <a:pt x="3037" y="10800"/>
                </a:moveTo>
                <a:arcTo wR="-7763" hR="-7763" stAng="-10800000" swAng="-6471480"/>
                <a:lnTo>
                  <a:pt x="7488" y="520"/>
                </a:lnTo>
                <a:arcTo wR="10800" hR="10800" stAng="-6471480" swAng="6471480"/>
                <a:lnTo>
                  <a:pt x="24300" y="10800"/>
                </a:lnTo>
                <a:lnTo>
                  <a:pt x="20082" y="15019"/>
                </a:lnTo>
                <a:lnTo>
                  <a:pt x="15863" y="108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 flipV="1" rot="10800000">
            <a:off x="2728800" y="2283480"/>
            <a:ext cx="609840" cy="685800"/>
          </a:xfrm>
          <a:custGeom>
            <a:avLst/>
            <a:gdLst>
              <a:gd name="textAreaLeft" fmla="*/ 0 w 609840"/>
              <a:gd name="textAreaRight" fmla="*/ 610200 w 60984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21600" h="21600">
                <a:moveTo>
                  <a:pt x="3037" y="10800"/>
                </a:moveTo>
                <a:arcTo wR="-7763" hR="-7763" stAng="-10800000" swAng="-6471480"/>
                <a:lnTo>
                  <a:pt x="7488" y="520"/>
                </a:lnTo>
                <a:arcTo wR="10800" hR="10800" stAng="-6471480" swAng="6471480"/>
                <a:lnTo>
                  <a:pt x="24300" y="10800"/>
                </a:lnTo>
                <a:lnTo>
                  <a:pt x="20082" y="15019"/>
                </a:lnTo>
                <a:lnTo>
                  <a:pt x="15863" y="108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 rot="5400000">
            <a:off x="1814040" y="3351240"/>
            <a:ext cx="609480" cy="685800"/>
          </a:xfrm>
          <a:custGeom>
            <a:avLst/>
            <a:gdLst>
              <a:gd name="textAreaLeft" fmla="*/ 0 w 609480"/>
              <a:gd name="textAreaRight" fmla="*/ 609840 w 6094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3037" y="10800"/>
                </a:moveTo>
                <a:arcTo wR="-7763" hR="-7763" stAng="-10800000" swAng="-6471480"/>
                <a:lnTo>
                  <a:pt x="7488" y="520"/>
                </a:lnTo>
                <a:arcTo wR="10800" hR="10800" stAng="-6471480" swAng="6471480"/>
                <a:lnTo>
                  <a:pt x="24300" y="10800"/>
                </a:lnTo>
                <a:lnTo>
                  <a:pt x="20082" y="15019"/>
                </a:lnTo>
                <a:lnTo>
                  <a:pt x="15863" y="108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3781440" y="4494240"/>
            <a:ext cx="1173240" cy="379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 rot="16200000">
            <a:off x="4505400" y="3998520"/>
            <a:ext cx="609480" cy="685800"/>
          </a:xfrm>
          <a:custGeom>
            <a:avLst/>
            <a:gdLst>
              <a:gd name="textAreaLeft" fmla="*/ 0 w 609480"/>
              <a:gd name="textAreaRight" fmla="*/ 609840 w 6094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3037" y="10800"/>
                </a:moveTo>
                <a:arcTo wR="-7763" hR="-7763" stAng="-10800000" swAng="-6471480"/>
                <a:lnTo>
                  <a:pt x="7488" y="520"/>
                </a:lnTo>
                <a:arcTo wR="10800" hR="10800" stAng="-6471480" swAng="6471480"/>
                <a:lnTo>
                  <a:pt x="24300" y="10800"/>
                </a:lnTo>
                <a:lnTo>
                  <a:pt x="20082" y="15019"/>
                </a:lnTo>
                <a:lnTo>
                  <a:pt x="15863" y="108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7004160" y="3494160"/>
            <a:ext cx="406440" cy="1015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 flipV="1">
            <a:off x="5632560" y="3340800"/>
            <a:ext cx="609480" cy="685800"/>
          </a:xfrm>
          <a:custGeom>
            <a:avLst/>
            <a:gdLst>
              <a:gd name="textAreaLeft" fmla="*/ 0 w 609480"/>
              <a:gd name="textAreaRight" fmla="*/ 609840 w 60948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21600" h="21600">
                <a:moveTo>
                  <a:pt x="3037" y="10800"/>
                </a:moveTo>
                <a:arcTo wR="-7763" hR="-7763" stAng="-10800000" swAng="-6471480"/>
                <a:lnTo>
                  <a:pt x="7488" y="520"/>
                </a:lnTo>
                <a:arcTo wR="10800" hR="10800" stAng="-6471480" swAng="6471480"/>
                <a:lnTo>
                  <a:pt x="24300" y="10800"/>
                </a:lnTo>
                <a:lnTo>
                  <a:pt x="20082" y="15019"/>
                </a:lnTo>
                <a:lnTo>
                  <a:pt x="15863" y="108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 flipV="1" rot="10800000">
            <a:off x="6546600" y="4026240"/>
            <a:ext cx="609480" cy="685800"/>
          </a:xfrm>
          <a:custGeom>
            <a:avLst/>
            <a:gdLst>
              <a:gd name="textAreaLeft" fmla="*/ 0 w 609480"/>
              <a:gd name="textAreaRight" fmla="*/ 609840 w 60948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21600" h="21600">
                <a:moveTo>
                  <a:pt x="3037" y="10800"/>
                </a:moveTo>
                <a:arcTo wR="-7763" hR="-7763" stAng="-10800000" swAng="-6471480"/>
                <a:lnTo>
                  <a:pt x="7488" y="520"/>
                </a:lnTo>
                <a:arcTo wR="10800" hR="10800" stAng="-6471480" swAng="6471480"/>
                <a:lnTo>
                  <a:pt x="24300" y="10800"/>
                </a:lnTo>
                <a:lnTo>
                  <a:pt x="20082" y="15019"/>
                </a:lnTo>
                <a:lnTo>
                  <a:pt x="15863" y="108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5818320" y="4911840"/>
            <a:ext cx="0" cy="252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 rot="5400000">
            <a:off x="5670360" y="4979880"/>
            <a:ext cx="609480" cy="685800"/>
          </a:xfrm>
          <a:custGeom>
            <a:avLst/>
            <a:gdLst>
              <a:gd name="textAreaLeft" fmla="*/ 0 w 609480"/>
              <a:gd name="textAreaRight" fmla="*/ 609840 w 6094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3037" y="10800"/>
                </a:moveTo>
                <a:arcTo wR="-7763" hR="-7763" stAng="-10800000" swAng="-6471480"/>
                <a:lnTo>
                  <a:pt x="7488" y="520"/>
                </a:lnTo>
                <a:arcTo wR="10800" hR="10800" stAng="-6471480" swAng="6471480"/>
                <a:lnTo>
                  <a:pt x="24300" y="10800"/>
                </a:lnTo>
                <a:lnTo>
                  <a:pt x="20082" y="15019"/>
                </a:lnTo>
                <a:lnTo>
                  <a:pt x="15863" y="108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5845320" y="6137280"/>
            <a:ext cx="1174680" cy="379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 rot="16200000">
            <a:off x="6508800" y="5665320"/>
            <a:ext cx="609480" cy="685800"/>
          </a:xfrm>
          <a:custGeom>
            <a:avLst/>
            <a:gdLst>
              <a:gd name="textAreaLeft" fmla="*/ 0 w 609480"/>
              <a:gd name="textAreaRight" fmla="*/ 609840 w 6094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3037" y="10800"/>
                </a:moveTo>
                <a:arcTo wR="-7763" hR="-7763" stAng="-10800000" swAng="-6471480"/>
                <a:lnTo>
                  <a:pt x="7488" y="520"/>
                </a:lnTo>
                <a:arcTo wR="10800" hR="10800" stAng="-6471480" swAng="6471480"/>
                <a:lnTo>
                  <a:pt x="24300" y="10800"/>
                </a:lnTo>
                <a:lnTo>
                  <a:pt x="20082" y="15019"/>
                </a:lnTo>
                <a:lnTo>
                  <a:pt x="15863" y="108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2594160" y="91404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a 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5943600" y="2894760"/>
            <a:ext cx="1492200" cy="368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ist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0" y="1904400"/>
            <a:ext cx="1689120" cy="642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sitos dos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152280" y="2818800"/>
            <a:ext cx="1689120" cy="642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sitos do prod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 flipV="1">
            <a:off x="1752480" y="312408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152280" y="4343400"/>
            <a:ext cx="129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ções que atendam aos requisitos do produ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2514600" y="502920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ância dos requisitos dos clien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 flipV="1">
            <a:off x="3733920" y="48765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 flipV="1">
            <a:off x="3276720" y="2666880"/>
            <a:ext cx="15228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6853320" y="1373040"/>
            <a:ext cx="1295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ância das funções com relação aos requisitos dos cli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 flipH="1">
            <a:off x="5181120" y="1685880"/>
            <a:ext cx="1667160" cy="204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 flipH="1">
            <a:off x="7315200" y="2505240"/>
            <a:ext cx="223920" cy="12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7620120" y="434340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stemas que realizam as funç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 flipH="1">
            <a:off x="7009920" y="4724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7" name=""/>
          <p:cNvCxnSpPr>
            <a:stCxn id="2315" idx="2"/>
            <a:endCxn id="2301" idx="3"/>
          </p:cNvCxnSpPr>
          <p:nvPr/>
        </p:nvCxnSpPr>
        <p:spPr>
          <a:xfrm rot="5400000">
            <a:off x="7022880" y="5083560"/>
            <a:ext cx="1254960" cy="12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8" name=""/>
          <p:cNvSpPr txBox="1"/>
          <p:nvPr/>
        </p:nvSpPr>
        <p:spPr>
          <a:xfrm rot="5400000">
            <a:off x="2305080" y="1962000"/>
            <a:ext cx="457200" cy="495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33cc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bbe0e3"/>
                </a:solidFill>
                <a:miter/>
              </a:ln>
              <a:solidFill>
                <a:srgbClr val="33cc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19" name=""/>
          <p:cNvSpPr txBox="1"/>
          <p:nvPr/>
        </p:nvSpPr>
        <p:spPr>
          <a:xfrm rot="5400000">
            <a:off x="2457360" y="3867120"/>
            <a:ext cx="457200" cy="495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33cc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bbe0e3"/>
                </a:solidFill>
                <a:miter/>
              </a:ln>
              <a:solidFill>
                <a:srgbClr val="33cc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20" name=""/>
          <p:cNvSpPr txBox="1"/>
          <p:nvPr/>
        </p:nvSpPr>
        <p:spPr>
          <a:xfrm rot="5400000">
            <a:off x="3981600" y="3790800"/>
            <a:ext cx="457200" cy="495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33cc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bbe0e3"/>
                </a:solidFill>
                <a:miter/>
              </a:ln>
              <a:solidFill>
                <a:srgbClr val="33cc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21" name=""/>
          <p:cNvSpPr txBox="1"/>
          <p:nvPr/>
        </p:nvSpPr>
        <p:spPr>
          <a:xfrm rot="5400000">
            <a:off x="6191280" y="3714840"/>
            <a:ext cx="457200" cy="495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33cc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</a:t>
            </a:r>
            <a:endParaRPr b="0" lang="en-US" sz="1800" spc="1" strike="noStrike">
              <a:ln w="9360">
                <a:solidFill>
                  <a:srgbClr val="bbe0e3"/>
                </a:solidFill>
                <a:miter/>
              </a:ln>
              <a:solidFill>
                <a:srgbClr val="33cc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22" name=""/>
          <p:cNvSpPr txBox="1"/>
          <p:nvPr/>
        </p:nvSpPr>
        <p:spPr>
          <a:xfrm rot="5400000">
            <a:off x="6191280" y="5391000"/>
            <a:ext cx="457200" cy="495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33cc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</a:t>
            </a:r>
            <a:endParaRPr b="0" lang="en-US" sz="1800" spc="1" strike="noStrike">
              <a:ln w="9360">
                <a:solidFill>
                  <a:srgbClr val="bbe0e3"/>
                </a:solidFill>
                <a:miter/>
              </a:ln>
              <a:solidFill>
                <a:srgbClr val="33cc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QFD 6: Modelo conceitual para definir as matrize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5366520" y="836640"/>
            <a:ext cx="18572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 flexí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544680" y="6165720"/>
            <a:ext cx="3312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or aplicação pr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Informações principais e dependência entre as atividades da fase de Projeto Informacional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0" y="866880"/>
            <a:ext cx="8694360" cy="5867280"/>
            <a:chOff x="0" y="866880"/>
            <a:chExt cx="8694360" cy="5867280"/>
          </a:xfrm>
        </p:grpSpPr>
        <p:sp>
          <p:nvSpPr>
            <p:cNvPr id="263" name=""/>
            <p:cNvSpPr/>
            <p:nvPr/>
          </p:nvSpPr>
          <p:spPr>
            <a:xfrm>
              <a:off x="2094120" y="866880"/>
              <a:ext cx="6600240" cy="5867280"/>
            </a:xfrm>
            <a:custGeom>
              <a:avLst/>
              <a:gdLst/>
              <a:ahLst/>
              <a:rect l="l" t="t" r="r" b="b"/>
              <a:pathLst>
                <a:path w="4249" h="3792">
                  <a:moveTo>
                    <a:pt x="15" y="733"/>
                  </a:moveTo>
                  <a:lnTo>
                    <a:pt x="741" y="0"/>
                  </a:lnTo>
                  <a:lnTo>
                    <a:pt x="4249" y="0"/>
                  </a:lnTo>
                  <a:lnTo>
                    <a:pt x="4249" y="3792"/>
                  </a:lnTo>
                  <a:lnTo>
                    <a:pt x="786" y="3792"/>
                  </a:lnTo>
                  <a:lnTo>
                    <a:pt x="0" y="1017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3418920" y="942480"/>
              <a:ext cx="4990680" cy="5702040"/>
              <a:chOff x="3418920" y="942480"/>
              <a:chExt cx="4990680" cy="5702040"/>
            </a:xfrm>
          </p:grpSpPr>
          <p:sp>
            <p:nvSpPr>
              <p:cNvPr id="265" name=""/>
              <p:cNvSpPr/>
              <p:nvPr/>
            </p:nvSpPr>
            <p:spPr>
              <a:xfrm>
                <a:off x="7035120" y="5508000"/>
                <a:ext cx="1374480" cy="10659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ocumentar as decisões tomadas e registrar lições aprendid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3738960" y="6004800"/>
                <a:ext cx="1400400" cy="639720"/>
                <a:chOff x="3738960" y="6004800"/>
                <a:chExt cx="1400400" cy="6397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738960" y="6004800"/>
                  <a:ext cx="1400400" cy="639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onitorar viabilidade econôm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923720" y="6012000"/>
                  <a:ext cx="198720" cy="75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9" name=""/>
              <p:cNvSpPr/>
              <p:nvPr/>
            </p:nvSpPr>
            <p:spPr>
              <a:xfrm>
                <a:off x="3418920" y="942480"/>
                <a:ext cx="1991160" cy="426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tualizar o Plano do Projeto Informacion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746520" y="1739160"/>
                <a:ext cx="1383840" cy="8528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visar e atualizar o escopo do produ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463000" y="2537640"/>
                <a:ext cx="2357640" cy="639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talhar ciclo de vida do produto e definir seus clientes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505680" y="3279960"/>
                <a:ext cx="1866960" cy="639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dentificar os requisitos dos clientes do produ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808800" y="4246920"/>
                <a:ext cx="1262520" cy="639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finir requisitos do produ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752640" y="5130360"/>
                <a:ext cx="1373040" cy="639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finir especificações me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75" name=""/>
              <p:cNvCxnSpPr>
                <a:stCxn id="270" idx="3"/>
                <a:endCxn id="271" idx="0"/>
              </p:cNvCxnSpPr>
              <p:nvPr/>
            </p:nvCxnSpPr>
            <p:spPr>
              <a:xfrm>
                <a:off x="5144040" y="2167920"/>
                <a:ext cx="1497960" cy="35640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76" name=""/>
              <p:cNvCxnSpPr>
                <a:stCxn id="271" idx="2"/>
                <a:endCxn id="272" idx="3"/>
              </p:cNvCxnSpPr>
              <p:nvPr/>
            </p:nvCxnSpPr>
            <p:spPr>
              <a:xfrm rot="5400000">
                <a:off x="5811840" y="2775240"/>
                <a:ext cx="404280" cy="12556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77" name=""/>
              <p:cNvCxnSpPr>
                <a:stCxn id="270" idx="2"/>
                <a:endCxn id="272" idx="0"/>
              </p:cNvCxnSpPr>
              <p:nvPr/>
            </p:nvCxnSpPr>
            <p:spPr>
              <a:xfrm flipV="1" rot="10800000">
                <a:off x="4438440" y="2610000"/>
                <a:ext cx="1080" cy="65664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78" name=""/>
              <p:cNvCxnSpPr>
                <a:stCxn id="272" idx="2"/>
                <a:endCxn id="273" idx="0"/>
              </p:cNvCxnSpPr>
              <p:nvPr/>
            </p:nvCxnSpPr>
            <p:spPr>
              <a:xfrm>
                <a:off x="4439160" y="3943800"/>
                <a:ext cx="2160" cy="2901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79" name=""/>
              <p:cNvCxnSpPr>
                <a:stCxn id="273" idx="2"/>
                <a:endCxn id="274" idx="0"/>
              </p:cNvCxnSpPr>
              <p:nvPr/>
            </p:nvCxnSpPr>
            <p:spPr>
              <a:xfrm flipH="1">
                <a:off x="4438800" y="4910760"/>
                <a:ext cx="2160" cy="2066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0" name=""/>
              <p:cNvCxnSpPr>
                <a:stCxn id="274" idx="1"/>
                <a:endCxn id="267" idx="1"/>
              </p:cNvCxnSpPr>
              <p:nvPr/>
            </p:nvCxnSpPr>
            <p:spPr>
              <a:xfrm flipV="1" rot="10800000">
                <a:off x="3728880" y="5455080"/>
                <a:ext cx="10080" cy="870480"/>
              </a:xfrm>
              <a:prstGeom prst="bentConnector3">
                <a:avLst>
                  <a:gd name="adj1" fmla="val 24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281" name=""/>
              <p:cNvGrpSpPr/>
              <p:nvPr/>
            </p:nvGrpSpPr>
            <p:grpSpPr>
              <a:xfrm>
                <a:off x="5640120" y="5426280"/>
                <a:ext cx="821520" cy="1212120"/>
                <a:chOff x="5640120" y="5426280"/>
                <a:chExt cx="821520" cy="121212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5640120" y="5426280"/>
                  <a:ext cx="821520" cy="42660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valiar Fas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666400" y="6211800"/>
                  <a:ext cx="770040" cy="42660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provar Fas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84" name=""/>
                <p:cNvCxnSpPr>
                  <a:stCxn id="282" idx="2"/>
                  <a:endCxn id="283" idx="0"/>
                </p:cNvCxnSpPr>
                <p:nvPr/>
              </p:nvCxnSpPr>
              <p:spPr>
                <a:xfrm>
                  <a:off x="6051240" y="5868000"/>
                  <a:ext cx="1080" cy="334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cxnSp>
            <p:nvCxnSpPr>
              <p:cNvPr id="285" name=""/>
              <p:cNvCxnSpPr>
                <a:stCxn id="283" idx="3"/>
                <a:endCxn id="265" idx="1"/>
              </p:cNvCxnSpPr>
              <p:nvPr/>
            </p:nvCxnSpPr>
            <p:spPr>
              <a:xfrm flipV="1">
                <a:off x="6445800" y="6035040"/>
                <a:ext cx="579960" cy="393480"/>
              </a:xfrm>
              <a:prstGeom prst="bentConnector3">
                <a:avLst>
                  <a:gd name="adj1" fmla="val 49813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6" name=""/>
              <p:cNvCxnSpPr>
                <a:stCxn id="267" idx="3"/>
                <a:endCxn id="282" idx="1"/>
              </p:cNvCxnSpPr>
              <p:nvPr/>
            </p:nvCxnSpPr>
            <p:spPr>
              <a:xfrm flipV="1">
                <a:off x="5149080" y="5641920"/>
                <a:ext cx="482040" cy="68292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87" name=""/>
            <p:cNvSpPr/>
            <p:nvPr/>
          </p:nvSpPr>
          <p:spPr>
            <a:xfrm>
              <a:off x="571680" y="1939320"/>
              <a:ext cx="1591920" cy="608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to Inform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1042200" y="2707920"/>
              <a:ext cx="650880" cy="14976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1042200" y="1686240"/>
              <a:ext cx="650880" cy="1501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52960" y="1287720"/>
              <a:ext cx="1610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éia do produ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240" y="2978640"/>
              <a:ext cx="2854800" cy="10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specificações-Me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quisitos com valores me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formações adicionais qualitativ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4355640"/>
              <a:ext cx="25970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Especificações para desenvolvimento –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elo textual do produt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"/>
          <p:cNvSpPr/>
          <p:nvPr/>
        </p:nvSpPr>
        <p:spPr>
          <a:xfrm>
            <a:off x="0" y="723960"/>
            <a:ext cx="8010360" cy="17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158760" y="622440"/>
            <a:ext cx="3635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QFD 7: Relação entre os campos do QFD e as atividades principais da fase de projeto informacional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pic>
        <p:nvPicPr>
          <p:cNvPr id="2328" name="" descr=""/>
          <p:cNvPicPr/>
          <p:nvPr/>
        </p:nvPicPr>
        <p:blipFill>
          <a:blip r:embed="rId1"/>
          <a:stretch/>
        </p:blipFill>
        <p:spPr>
          <a:xfrm>
            <a:off x="30240" y="4035600"/>
            <a:ext cx="9113760" cy="308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9" name=""/>
          <p:cNvGraphicFramePr/>
          <p:nvPr/>
        </p:nvGraphicFramePr>
        <p:xfrm>
          <a:off x="3308400" y="50760"/>
          <a:ext cx="4390920" cy="397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8400" y="50760"/>
                    <a:ext cx="4390920" cy="39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1" name=""/>
          <p:cNvSpPr/>
          <p:nvPr/>
        </p:nvSpPr>
        <p:spPr>
          <a:xfrm>
            <a:off x="244440" y="2770200"/>
            <a:ext cx="274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 de volta à descrição da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85320" y="28080"/>
            <a:ext cx="7388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Informações e tarefas da atividade “Definir requisitos de projeto do produto”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2333" name=""/>
          <p:cNvGrpSpPr/>
          <p:nvPr/>
        </p:nvGrpSpPr>
        <p:grpSpPr>
          <a:xfrm>
            <a:off x="152280" y="1108080"/>
            <a:ext cx="7947000" cy="5183280"/>
            <a:chOff x="152280" y="1108080"/>
            <a:chExt cx="7947000" cy="5183280"/>
          </a:xfrm>
        </p:grpSpPr>
        <p:grpSp>
          <p:nvGrpSpPr>
            <p:cNvPr id="2334" name=""/>
            <p:cNvGrpSpPr/>
            <p:nvPr/>
          </p:nvGrpSpPr>
          <p:grpSpPr>
            <a:xfrm>
              <a:off x="2820960" y="1287360"/>
              <a:ext cx="5278320" cy="2382840"/>
              <a:chOff x="2820960" y="1287360"/>
              <a:chExt cx="5278320" cy="2382840"/>
            </a:xfrm>
          </p:grpSpPr>
          <p:sp>
            <p:nvSpPr>
              <p:cNvPr id="2335" name=""/>
              <p:cNvSpPr/>
              <p:nvPr/>
            </p:nvSpPr>
            <p:spPr>
              <a:xfrm>
                <a:off x="2820960" y="1287360"/>
                <a:ext cx="5278320" cy="2382840"/>
              </a:xfrm>
              <a:custGeom>
                <a:avLst/>
                <a:gdLst/>
                <a:ahLst/>
                <a:rect l="l" t="t" r="r" b="b"/>
                <a:pathLst>
                  <a:path w="3325" h="1501">
                    <a:moveTo>
                      <a:pt x="0" y="479"/>
                    </a:moveTo>
                    <a:lnTo>
                      <a:pt x="782" y="0"/>
                    </a:lnTo>
                    <a:lnTo>
                      <a:pt x="3325" y="0"/>
                    </a:lnTo>
                    <a:lnTo>
                      <a:pt x="3316" y="1501"/>
                    </a:lnTo>
                    <a:lnTo>
                      <a:pt x="783" y="1501"/>
                    </a:lnTo>
                    <a:lnTo>
                      <a:pt x="16" y="803"/>
                    </a:lnTo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4186080" y="1401840"/>
                <a:ext cx="3760920" cy="487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onverter requisitos de clientes em expressões mensurávei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4191120" y="2254320"/>
                <a:ext cx="3781440" cy="487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nalisar e classificar os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equisitos do produt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4178160" y="3029040"/>
                <a:ext cx="3802320" cy="487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ierarquizar requisitos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o produt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9" name=""/>
            <p:cNvSpPr/>
            <p:nvPr/>
          </p:nvSpPr>
          <p:spPr>
            <a:xfrm>
              <a:off x="152280" y="1639440"/>
              <a:ext cx="1335240" cy="4726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jeto Informac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 rot="10800000">
              <a:off x="1662120" y="2909880"/>
              <a:ext cx="665280" cy="1540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 rot="10800000">
              <a:off x="1673280" y="1569960"/>
              <a:ext cx="665280" cy="1540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944280" y="1108080"/>
              <a:ext cx="2225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quisitos dos clie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1282680" y="1943280"/>
              <a:ext cx="1731960" cy="730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finir requisitos de projeto do produ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996840" y="3227400"/>
              <a:ext cx="2202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quisitos do produ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5" name=""/>
            <p:cNvGrpSpPr/>
            <p:nvPr/>
          </p:nvGrpSpPr>
          <p:grpSpPr>
            <a:xfrm>
              <a:off x="365040" y="4495680"/>
              <a:ext cx="7688520" cy="1795680"/>
              <a:chOff x="365040" y="4495680"/>
              <a:chExt cx="7688520" cy="1795680"/>
            </a:xfrm>
          </p:grpSpPr>
          <p:sp>
            <p:nvSpPr>
              <p:cNvPr id="2346" name=""/>
              <p:cNvSpPr/>
              <p:nvPr/>
            </p:nvSpPr>
            <p:spPr>
              <a:xfrm>
                <a:off x="3805200" y="4878360"/>
                <a:ext cx="4248360" cy="1413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4037040" y="5162400"/>
                <a:ext cx="3782880" cy="10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Matriz de Atributos, </a:t>
                </a:r>
                <a:r>
                  <a:rPr b="0" i="1" lang="pt-BR" sz="1800" spc="-1" strike="noStrike">
                    <a:solidFill>
                      <a:srgbClr val="000000"/>
                    </a:solidFill>
                    <a:latin typeface="Arial"/>
                  </a:rPr>
                  <a:t>check-lists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, Primeira Matriz do QFD, </a:t>
                </a:r>
                <a:r>
                  <a:rPr b="0" i="1" lang="pt-BR" sz="1800" spc="-1" strike="noStrike">
                    <a:solidFill>
                      <a:srgbClr val="000000"/>
                    </a:solidFill>
                    <a:latin typeface="Arial"/>
                  </a:rPr>
                  <a:t>Brainstorming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, Análise paramétrica, Diagrama de Mudg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3962520" y="4495680"/>
                <a:ext cx="3746520" cy="5490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Métodos, ferramentas, documentos de apo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365040" y="4878360"/>
                <a:ext cx="3384720" cy="1413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557280" y="4495680"/>
                <a:ext cx="2984400" cy="5490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elação com outras atividad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5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55800" y="5168880"/>
                <a:ext cx="2219040" cy="1090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Tarefas da atividade “Definir requisitos de projeto do produto” 1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verter requisitos de clientes em expressões mensuráveis (requisitos do produ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lisando pesquisas d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heck list (quadro 6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formações de outros prod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car nos requisitos de clientes mai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verter (extrair) e depois correlacio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alisar e classificar os requisitos do prod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ierarquizar requisitos do prod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4" name="" descr=""/>
          <p:cNvPicPr/>
          <p:nvPr/>
        </p:nvPicPr>
        <p:blipFill>
          <a:blip r:embed="rId1"/>
          <a:stretch/>
        </p:blipFill>
        <p:spPr>
          <a:xfrm>
            <a:off x="876240" y="960480"/>
            <a:ext cx="5105520" cy="3476520"/>
          </a:xfrm>
          <a:prstGeom prst="rect">
            <a:avLst/>
          </a:prstGeom>
          <a:ln w="0">
            <a:noFill/>
          </a:ln>
        </p:spPr>
      </p:pic>
      <p:sp>
        <p:nvSpPr>
          <p:cNvPr id="2355" name=""/>
          <p:cNvSpPr/>
          <p:nvPr/>
        </p:nvSpPr>
        <p:spPr>
          <a:xfrm>
            <a:off x="2717640" y="1738440"/>
            <a:ext cx="21844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cess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se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igê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3238560" y="4711680"/>
            <a:ext cx="1981080" cy="129528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quisi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o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7" name=""/>
          <p:cNvGrpSpPr/>
          <p:nvPr/>
        </p:nvGrpSpPr>
        <p:grpSpPr>
          <a:xfrm>
            <a:off x="3848040" y="3263760"/>
            <a:ext cx="4343400" cy="2743200"/>
            <a:chOff x="3848040" y="3263760"/>
            <a:chExt cx="4343400" cy="2743200"/>
          </a:xfrm>
        </p:grpSpPr>
        <p:sp>
          <p:nvSpPr>
            <p:cNvPr id="2358" name=""/>
            <p:cNvSpPr/>
            <p:nvPr/>
          </p:nvSpPr>
          <p:spPr>
            <a:xfrm>
              <a:off x="6210360" y="4711680"/>
              <a:ext cx="1981080" cy="1295280"/>
            </a:xfrm>
            <a:prstGeom prst="can">
              <a:avLst>
                <a:gd name="adj" fmla="val 25000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Requisitos do Produ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3848040" y="3263760"/>
              <a:ext cx="3581640" cy="2362320"/>
            </a:xfrm>
            <a:custGeom>
              <a:avLst/>
              <a:gdLst>
                <a:gd name="textAreaLeft" fmla="*/ 0 w 3581640"/>
                <a:gd name="textAreaRight" fmla="*/ 3582000 w 3581640"/>
                <a:gd name="textAreaTop" fmla="*/ 0 h 2362320"/>
                <a:gd name="textAreaBottom" fmla="*/ 236268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021" y="10974"/>
                  </a:moveTo>
                  <a:arcTo wR="-6781" hR="-6781" stAng="10711781" swAng="-10538137"/>
                  <a:lnTo>
                    <a:pt x="14" y="10255"/>
                  </a:lnTo>
                  <a:arcTo wR="10800" hR="10800" stAng="-10626357" swAng="10538137"/>
                  <a:lnTo>
                    <a:pt x="24296" y="10454"/>
                  </a:lnTo>
                  <a:lnTo>
                    <a:pt x="19708" y="15282"/>
                  </a:lnTo>
                  <a:lnTo>
                    <a:pt x="14880" y="10695"/>
                  </a:lnTo>
                  <a:close/>
                </a:path>
              </a:pathLst>
            </a:cu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0" name=""/>
          <p:cNvSpPr/>
          <p:nvPr/>
        </p:nvSpPr>
        <p:spPr>
          <a:xfrm>
            <a:off x="5600880" y="1320840"/>
            <a:ext cx="2705040" cy="1557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É preciso transforma-los em requisitos do produ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>
            <a:off x="50760" y="0"/>
            <a:ext cx="685476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Definir Requisitos do produto a partir dos Requisitos do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75"/>
                                        <p:tgtEl>
                                          <p:spTgt spid="2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2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1" dur="1000"/>
                                        <p:tgtEl>
                                          <p:spTgt spid="2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"/>
          <p:cNvSpPr/>
          <p:nvPr/>
        </p:nvSpPr>
        <p:spPr>
          <a:xfrm>
            <a:off x="179280" y="4221000"/>
            <a:ext cx="1440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70920" y="4284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Transformar requisitos dos clientes em requisitos do produ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1981080" y="2925720"/>
            <a:ext cx="213372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1219320" y="2925720"/>
            <a:ext cx="761760" cy="1828800"/>
          </a:xfrm>
          <a:custGeom>
            <a:avLst/>
            <a:gdLst/>
            <a:ahLst/>
            <a:rect l="l" t="t" r="r" b="b"/>
            <a:pathLst>
              <a:path w="1632" h="1152">
                <a:moveTo>
                  <a:pt x="1632" y="0"/>
                </a:moveTo>
                <a:lnTo>
                  <a:pt x="0" y="576"/>
                </a:lnTo>
                <a:lnTo>
                  <a:pt x="1632" y="1152"/>
                </a:lnTo>
              </a:path>
            </a:pathLst>
          </a:custGeom>
          <a:noFill/>
          <a:ln w="1260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4114800" y="2925720"/>
            <a:ext cx="45720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4572000" y="2925720"/>
            <a:ext cx="45720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5410080" y="2925720"/>
            <a:ext cx="45720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5105520" y="3611520"/>
            <a:ext cx="304560" cy="380880"/>
          </a:xfrm>
          <a:prstGeom prst="rightArrow">
            <a:avLst>
              <a:gd name="adj1" fmla="val 50000"/>
              <a:gd name="adj2" fmla="val 572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 rot="16200000">
            <a:off x="2819160" y="3916080"/>
            <a:ext cx="457200" cy="213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 rot="16200000">
            <a:off x="2819160" y="4373280"/>
            <a:ext cx="457200" cy="213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 rot="5400000">
            <a:off x="3009960" y="5707080"/>
            <a:ext cx="304560" cy="380880"/>
          </a:xfrm>
          <a:prstGeom prst="rightArrow">
            <a:avLst>
              <a:gd name="adj1" fmla="val 50000"/>
              <a:gd name="adj2" fmla="val 572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 rot="16200000">
            <a:off x="2819160" y="5287680"/>
            <a:ext cx="457200" cy="213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 rot="16200000">
            <a:off x="2706480" y="1515600"/>
            <a:ext cx="685800" cy="213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1982880" y="1782720"/>
            <a:ext cx="2133360" cy="457200"/>
          </a:xfrm>
          <a:custGeom>
            <a:avLst/>
            <a:gdLst/>
            <a:ahLst/>
            <a:rect l="l" t="t" r="r" b="b"/>
            <a:pathLst>
              <a:path w="1344" h="288">
                <a:moveTo>
                  <a:pt x="1344" y="288"/>
                </a:moveTo>
                <a:lnTo>
                  <a:pt x="672" y="0"/>
                </a:lnTo>
                <a:lnTo>
                  <a:pt x="0" y="288"/>
                </a:lnTo>
                <a:lnTo>
                  <a:pt x="1344" y="288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6" name=""/>
          <p:cNvGrpSpPr/>
          <p:nvPr/>
        </p:nvGrpSpPr>
        <p:grpSpPr>
          <a:xfrm>
            <a:off x="4112640" y="5821920"/>
            <a:ext cx="3411720" cy="1068840"/>
            <a:chOff x="4112640" y="5821920"/>
            <a:chExt cx="3411720" cy="1068840"/>
          </a:xfrm>
        </p:grpSpPr>
        <p:sp>
          <p:nvSpPr>
            <p:cNvPr id="2377" name=""/>
            <p:cNvSpPr/>
            <p:nvPr/>
          </p:nvSpPr>
          <p:spPr>
            <a:xfrm>
              <a:off x="4158360" y="5821920"/>
              <a:ext cx="336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Qualidade Projetad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78" name=""/>
            <p:cNvCxnSpPr>
              <a:stCxn id="2377" idx="1"/>
              <a:endCxn id="2373" idx="2"/>
            </p:cNvCxnSpPr>
            <p:nvPr/>
          </p:nvCxnSpPr>
          <p:spPr>
            <a:xfrm flipH="1" flipV="1">
              <a:off x="4112640" y="6352920"/>
              <a:ext cx="9327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79" name=""/>
          <p:cNvGrpSpPr/>
          <p:nvPr/>
        </p:nvGrpSpPr>
        <p:grpSpPr>
          <a:xfrm>
            <a:off x="5866560" y="3062880"/>
            <a:ext cx="3201120" cy="1068840"/>
            <a:chOff x="5866560" y="3062880"/>
            <a:chExt cx="3201120" cy="1068840"/>
          </a:xfrm>
        </p:grpSpPr>
        <p:sp>
          <p:nvSpPr>
            <p:cNvPr id="2380" name=""/>
            <p:cNvSpPr/>
            <p:nvPr/>
          </p:nvSpPr>
          <p:spPr>
            <a:xfrm>
              <a:off x="6248520" y="3062880"/>
              <a:ext cx="2819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Qualidade Planejad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81" name=""/>
            <p:cNvCxnSpPr>
              <a:stCxn id="2380" idx="1"/>
              <a:endCxn id="2368" idx="3"/>
            </p:cNvCxnSpPr>
            <p:nvPr/>
          </p:nvCxnSpPr>
          <p:spPr>
            <a:xfrm flipH="1">
              <a:off x="5866560" y="3595320"/>
              <a:ext cx="381960" cy="244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82" name=""/>
          <p:cNvGrpSpPr/>
          <p:nvPr/>
        </p:nvGrpSpPr>
        <p:grpSpPr>
          <a:xfrm>
            <a:off x="0" y="3839760"/>
            <a:ext cx="1828800" cy="1130040"/>
            <a:chOff x="0" y="3839760"/>
            <a:chExt cx="1828800" cy="1130040"/>
          </a:xfrm>
        </p:grpSpPr>
        <p:sp>
          <p:nvSpPr>
            <p:cNvPr id="2383" name=""/>
            <p:cNvSpPr/>
            <p:nvPr/>
          </p:nvSpPr>
          <p:spPr>
            <a:xfrm>
              <a:off x="0" y="4266000"/>
              <a:ext cx="182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quisitos dos clien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84" name=""/>
            <p:cNvCxnSpPr>
              <a:stCxn id="2383" idx="0"/>
              <a:endCxn id="2365" idx="0"/>
            </p:cNvCxnSpPr>
            <p:nvPr/>
          </p:nvCxnSpPr>
          <p:spPr>
            <a:xfrm flipV="1">
              <a:off x="914040" y="3839760"/>
              <a:ext cx="305640" cy="4276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85" name=""/>
          <p:cNvGrpSpPr/>
          <p:nvPr/>
        </p:nvGrpSpPr>
        <p:grpSpPr>
          <a:xfrm>
            <a:off x="76320" y="1506960"/>
            <a:ext cx="1904760" cy="1074600"/>
            <a:chOff x="76320" y="1506960"/>
            <a:chExt cx="1904760" cy="1074600"/>
          </a:xfrm>
        </p:grpSpPr>
        <p:sp>
          <p:nvSpPr>
            <p:cNvPr id="2386" name=""/>
            <p:cNvSpPr/>
            <p:nvPr/>
          </p:nvSpPr>
          <p:spPr>
            <a:xfrm>
              <a:off x="76320" y="1506960"/>
              <a:ext cx="1904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quisitos do produ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87" name=""/>
            <p:cNvCxnSpPr>
              <a:stCxn id="2386" idx="2"/>
              <a:endCxn id="2374" idx="0"/>
            </p:cNvCxnSpPr>
            <p:nvPr/>
          </p:nvCxnSpPr>
          <p:spPr>
            <a:xfrm>
              <a:off x="1028520" y="2209680"/>
              <a:ext cx="952920" cy="3722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388" name=""/>
          <p:cNvSpPr/>
          <p:nvPr/>
        </p:nvSpPr>
        <p:spPr>
          <a:xfrm>
            <a:off x="1219320" y="2925720"/>
            <a:ext cx="761760" cy="1828800"/>
          </a:xfrm>
          <a:custGeom>
            <a:avLst/>
            <a:gdLst/>
            <a:ahLst/>
            <a:rect l="l" t="t" r="r" b="b"/>
            <a:pathLst>
              <a:path w="1632" h="1152">
                <a:moveTo>
                  <a:pt x="1632" y="0"/>
                </a:moveTo>
                <a:lnTo>
                  <a:pt x="0" y="576"/>
                </a:lnTo>
                <a:lnTo>
                  <a:pt x="1632" y="1152"/>
                </a:lnTo>
              </a:path>
            </a:pathLst>
          </a:custGeom>
          <a:solidFill>
            <a:srgbClr val="ffff00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4114800" y="2925720"/>
            <a:ext cx="457200" cy="1828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4572000" y="2925720"/>
            <a:ext cx="457200" cy="1828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5410080" y="2925720"/>
            <a:ext cx="457200" cy="1828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5105520" y="3611520"/>
            <a:ext cx="304560" cy="380880"/>
          </a:xfrm>
          <a:prstGeom prst="rightArrow">
            <a:avLst>
              <a:gd name="adj1" fmla="val 50000"/>
              <a:gd name="adj2" fmla="val 57292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1994040" y="2913120"/>
            <a:ext cx="213336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 rot="16200000">
            <a:off x="2832120" y="3903840"/>
            <a:ext cx="457200" cy="213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 rot="16200000">
            <a:off x="2832120" y="4361040"/>
            <a:ext cx="457200" cy="213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 rot="16200000">
            <a:off x="2832120" y="5275440"/>
            <a:ext cx="457200" cy="213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 rot="16200000">
            <a:off x="2719440" y="1503000"/>
            <a:ext cx="685800" cy="21337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1995480" y="1770120"/>
            <a:ext cx="2133720" cy="457200"/>
          </a:xfrm>
          <a:custGeom>
            <a:avLst/>
            <a:gdLst/>
            <a:ahLst/>
            <a:rect l="l" t="t" r="r" b="b"/>
            <a:pathLst>
              <a:path w="1344" h="288">
                <a:moveTo>
                  <a:pt x="1344" y="288"/>
                </a:moveTo>
                <a:lnTo>
                  <a:pt x="672" y="0"/>
                </a:lnTo>
                <a:lnTo>
                  <a:pt x="0" y="288"/>
                </a:lnTo>
                <a:lnTo>
                  <a:pt x="1344" y="288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9" name=""/>
          <p:cNvGrpSpPr/>
          <p:nvPr/>
        </p:nvGrpSpPr>
        <p:grpSpPr>
          <a:xfrm>
            <a:off x="4800240" y="1980360"/>
            <a:ext cx="2895840" cy="945720"/>
            <a:chOff x="4800240" y="1980360"/>
            <a:chExt cx="2895840" cy="945720"/>
          </a:xfrm>
        </p:grpSpPr>
        <p:sp>
          <p:nvSpPr>
            <p:cNvPr id="2400" name=""/>
            <p:cNvSpPr/>
            <p:nvPr/>
          </p:nvSpPr>
          <p:spPr>
            <a:xfrm>
              <a:off x="5791320" y="1980360"/>
              <a:ext cx="190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enchmark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01" name=""/>
            <p:cNvCxnSpPr>
              <a:stCxn id="2400" idx="1"/>
            </p:cNvCxnSpPr>
            <p:nvPr/>
          </p:nvCxnSpPr>
          <p:spPr>
            <a:xfrm flipH="1">
              <a:off x="4800240" y="2179800"/>
              <a:ext cx="991440" cy="7466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402" name=""/>
          <p:cNvSpPr/>
          <p:nvPr/>
        </p:nvSpPr>
        <p:spPr>
          <a:xfrm>
            <a:off x="4985640" y="1446840"/>
            <a:ext cx="34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zação (clientes, inte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3" name=""/>
          <p:cNvCxnSpPr>
            <a:stCxn id="2402" idx="1"/>
          </p:cNvCxnSpPr>
          <p:nvPr/>
        </p:nvCxnSpPr>
        <p:spPr>
          <a:xfrm flipH="1">
            <a:off x="4379400" y="1645920"/>
            <a:ext cx="610560" cy="1269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04" name=""/>
          <p:cNvGrpSpPr/>
          <p:nvPr/>
        </p:nvGrpSpPr>
        <p:grpSpPr>
          <a:xfrm>
            <a:off x="4112640" y="4631400"/>
            <a:ext cx="4726440" cy="703800"/>
            <a:chOff x="4112640" y="4631400"/>
            <a:chExt cx="4726440" cy="703800"/>
          </a:xfrm>
        </p:grpSpPr>
        <p:sp>
          <p:nvSpPr>
            <p:cNvPr id="2405" name=""/>
            <p:cNvSpPr/>
            <p:nvPr/>
          </p:nvSpPr>
          <p:spPr>
            <a:xfrm>
              <a:off x="6248520" y="4631400"/>
              <a:ext cx="259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iorizaçã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de conversã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06" name=""/>
            <p:cNvCxnSpPr>
              <a:stCxn id="2405" idx="1"/>
            </p:cNvCxnSpPr>
            <p:nvPr/>
          </p:nvCxnSpPr>
          <p:spPr>
            <a:xfrm flipH="1" flipV="1">
              <a:off x="4112640" y="4981320"/>
              <a:ext cx="213588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407" name=""/>
          <p:cNvGrpSpPr/>
          <p:nvPr/>
        </p:nvGrpSpPr>
        <p:grpSpPr>
          <a:xfrm>
            <a:off x="4112640" y="5409360"/>
            <a:ext cx="3659760" cy="398880"/>
            <a:chOff x="4112640" y="5409360"/>
            <a:chExt cx="3659760" cy="398880"/>
          </a:xfrm>
        </p:grpSpPr>
        <p:sp>
          <p:nvSpPr>
            <p:cNvPr id="2408" name=""/>
            <p:cNvSpPr/>
            <p:nvPr/>
          </p:nvSpPr>
          <p:spPr>
            <a:xfrm>
              <a:off x="5791320" y="540936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enchmark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09" name=""/>
            <p:cNvCxnSpPr>
              <a:stCxn id="2408" idx="1"/>
            </p:cNvCxnSpPr>
            <p:nvPr/>
          </p:nvCxnSpPr>
          <p:spPr>
            <a:xfrm flipH="1" flipV="1">
              <a:off x="4112640" y="5438520"/>
              <a:ext cx="1678680" cy="1706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410" name=""/>
          <p:cNvSpPr/>
          <p:nvPr/>
        </p:nvSpPr>
        <p:spPr>
          <a:xfrm>
            <a:off x="7213680" y="5807160"/>
            <a:ext cx="1822320" cy="1008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sitos do produto (valor me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1763640" y="91656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l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2" name=""/>
          <p:cNvCxnSpPr>
            <a:stCxn id="2411" idx="2"/>
          </p:cNvCxnSpPr>
          <p:nvPr/>
        </p:nvCxnSpPr>
        <p:spPr>
          <a:xfrm>
            <a:off x="2716200" y="1314360"/>
            <a:ext cx="272160" cy="386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3" name=""/>
          <p:cNvGrpSpPr/>
          <p:nvPr/>
        </p:nvGrpSpPr>
        <p:grpSpPr>
          <a:xfrm>
            <a:off x="1905120" y="2849400"/>
            <a:ext cx="2006280" cy="596520"/>
            <a:chOff x="1905120" y="2849400"/>
            <a:chExt cx="2006280" cy="596520"/>
          </a:xfrm>
        </p:grpSpPr>
        <p:sp>
          <p:nvSpPr>
            <p:cNvPr id="2414" name=""/>
            <p:cNvSpPr/>
            <p:nvPr/>
          </p:nvSpPr>
          <p:spPr>
            <a:xfrm>
              <a:off x="1905120" y="2849400"/>
              <a:ext cx="635040" cy="533520"/>
            </a:xfrm>
            <a:custGeom>
              <a:avLst/>
              <a:gdLst/>
              <a:ahLst/>
              <a:rect l="l" t="t" r="r" b="b"/>
              <a:pathLst>
                <a:path w="400" h="336">
                  <a:moveTo>
                    <a:pt x="0" y="288"/>
                  </a:moveTo>
                  <a:cubicBezTo>
                    <a:pt x="136" y="312"/>
                    <a:pt x="272" y="336"/>
                    <a:pt x="336" y="288"/>
                  </a:cubicBezTo>
                  <a:cubicBezTo>
                    <a:pt x="400" y="240"/>
                    <a:pt x="392" y="120"/>
                    <a:pt x="384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627280" y="3016800"/>
              <a:ext cx="1284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Extraçã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ver dir="l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114480" y="57240"/>
            <a:ext cx="73879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Matriz para a Transformação dos Requisito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2417" name=""/>
          <p:cNvGrpSpPr/>
          <p:nvPr/>
        </p:nvGrpSpPr>
        <p:grpSpPr>
          <a:xfrm>
            <a:off x="4038480" y="2438280"/>
            <a:ext cx="1600200" cy="1676520"/>
            <a:chOff x="4038480" y="2438280"/>
            <a:chExt cx="1600200" cy="1676520"/>
          </a:xfrm>
        </p:grpSpPr>
        <p:sp>
          <p:nvSpPr>
            <p:cNvPr id="2418" name=""/>
            <p:cNvSpPr/>
            <p:nvPr/>
          </p:nvSpPr>
          <p:spPr>
            <a:xfrm>
              <a:off x="5105520" y="2438280"/>
              <a:ext cx="533160" cy="2286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4038480" y="2438280"/>
              <a:ext cx="533520" cy="2286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4572000" y="2438280"/>
              <a:ext cx="533520" cy="2286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5105520" y="2666880"/>
              <a:ext cx="533160" cy="144792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4038480" y="2666880"/>
              <a:ext cx="533520" cy="144792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4572000" y="2666880"/>
              <a:ext cx="533520" cy="144792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4" name=""/>
          <p:cNvGrpSpPr/>
          <p:nvPr/>
        </p:nvGrpSpPr>
        <p:grpSpPr>
          <a:xfrm>
            <a:off x="304920" y="5105520"/>
            <a:ext cx="6552720" cy="1065960"/>
            <a:chOff x="304920" y="5105520"/>
            <a:chExt cx="6552720" cy="1065960"/>
          </a:xfrm>
        </p:grpSpPr>
        <p:sp>
          <p:nvSpPr>
            <p:cNvPr id="2425" name=""/>
            <p:cNvSpPr/>
            <p:nvPr/>
          </p:nvSpPr>
          <p:spPr>
            <a:xfrm>
              <a:off x="2489400" y="5105520"/>
              <a:ext cx="2183760" cy="106596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le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4673160" y="5105520"/>
              <a:ext cx="2184480" cy="106596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quisitos do produ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304920" y="5105520"/>
              <a:ext cx="2184480" cy="106596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quisitos do cli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8" name=""/>
          <p:cNvGrpSpPr/>
          <p:nvPr/>
        </p:nvGrpSpPr>
        <p:grpSpPr>
          <a:xfrm>
            <a:off x="1396800" y="2362320"/>
            <a:ext cx="4546800" cy="2742480"/>
            <a:chOff x="1396800" y="2362320"/>
            <a:chExt cx="4546800" cy="2742480"/>
          </a:xfrm>
        </p:grpSpPr>
        <p:sp>
          <p:nvSpPr>
            <p:cNvPr id="2429" name=""/>
            <p:cNvSpPr/>
            <p:nvPr/>
          </p:nvSpPr>
          <p:spPr>
            <a:xfrm>
              <a:off x="3581280" y="2362320"/>
              <a:ext cx="2362320" cy="4572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30" name=""/>
            <p:cNvCxnSpPr>
              <a:stCxn id="2429" idx="1"/>
              <a:endCxn id="2427" idx="0"/>
            </p:cNvCxnSpPr>
            <p:nvPr/>
          </p:nvCxnSpPr>
          <p:spPr>
            <a:xfrm flipV="1" rot="10800000">
              <a:off x="1396440" y="2589840"/>
              <a:ext cx="2165760" cy="2515320"/>
            </a:xfrm>
            <a:prstGeom prst="bentConnector2">
              <a:avLst/>
            </a:prstGeom>
            <a:ln w="38160">
              <a:solidFill>
                <a:srgbClr val="333399"/>
              </a:solidFill>
              <a:prstDash val="lgDash"/>
              <a:miter/>
              <a:tailEnd len="med" type="triangle" w="med"/>
            </a:ln>
          </p:spPr>
        </p:cxnSp>
      </p:grpSp>
    </p:spTree>
  </p:cSld>
  <p:transition>
    <p:pull dir="u"/>
  </p:transition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99720" y="5724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Matriz para a Transformação dos Requisito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2432" name=""/>
          <p:cNvGrpSpPr/>
          <p:nvPr/>
        </p:nvGrpSpPr>
        <p:grpSpPr>
          <a:xfrm>
            <a:off x="4038480" y="2438280"/>
            <a:ext cx="1600200" cy="1676520"/>
            <a:chOff x="4038480" y="2438280"/>
            <a:chExt cx="1600200" cy="1676520"/>
          </a:xfrm>
        </p:grpSpPr>
        <p:sp>
          <p:nvSpPr>
            <p:cNvPr id="2433" name=""/>
            <p:cNvSpPr/>
            <p:nvPr/>
          </p:nvSpPr>
          <p:spPr>
            <a:xfrm>
              <a:off x="5105520" y="2438280"/>
              <a:ext cx="533160" cy="2286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4038480" y="2438280"/>
              <a:ext cx="533520" cy="2286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4572000" y="2438280"/>
              <a:ext cx="533520" cy="2286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105520" y="2666880"/>
              <a:ext cx="533160" cy="144792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4038480" y="2666880"/>
              <a:ext cx="533520" cy="144792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4572000" y="2666880"/>
              <a:ext cx="533520" cy="144792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9" name=""/>
          <p:cNvGrpSpPr/>
          <p:nvPr/>
        </p:nvGrpSpPr>
        <p:grpSpPr>
          <a:xfrm>
            <a:off x="2133720" y="2438280"/>
            <a:ext cx="2971800" cy="4419000"/>
            <a:chOff x="2133720" y="2438280"/>
            <a:chExt cx="2971800" cy="4419000"/>
          </a:xfrm>
        </p:grpSpPr>
        <p:grpSp>
          <p:nvGrpSpPr>
            <p:cNvPr id="2440" name=""/>
            <p:cNvGrpSpPr/>
            <p:nvPr/>
          </p:nvGrpSpPr>
          <p:grpSpPr>
            <a:xfrm>
              <a:off x="2133720" y="5105520"/>
              <a:ext cx="1676160" cy="1751760"/>
              <a:chOff x="2133720" y="5105520"/>
              <a:chExt cx="1676160" cy="1751760"/>
            </a:xfrm>
          </p:grpSpPr>
          <p:sp>
            <p:nvSpPr>
              <p:cNvPr id="2441" name=""/>
              <p:cNvSpPr/>
              <p:nvPr/>
            </p:nvSpPr>
            <p:spPr>
              <a:xfrm>
                <a:off x="2133720" y="5105520"/>
                <a:ext cx="1676160" cy="38880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Element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2133720" y="5494320"/>
                <a:ext cx="1676160" cy="136296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amanh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3" name=""/>
            <p:cNvSpPr/>
            <p:nvPr/>
          </p:nvSpPr>
          <p:spPr>
            <a:xfrm>
              <a:off x="2133720" y="4114800"/>
              <a:ext cx="2971800" cy="990720"/>
            </a:xfrm>
            <a:custGeom>
              <a:avLst/>
              <a:gdLst/>
              <a:ahLst/>
              <a:rect l="l" t="t" r="r" b="b"/>
              <a:pathLst>
                <a:path w="1872" h="624">
                  <a:moveTo>
                    <a:pt x="1536" y="0"/>
                  </a:moveTo>
                  <a:lnTo>
                    <a:pt x="0" y="624"/>
                  </a:lnTo>
                  <a:lnTo>
                    <a:pt x="1056" y="624"/>
                  </a:lnTo>
                  <a:lnTo>
                    <a:pt x="1872" y="0"/>
                  </a:lnTo>
                  <a:lnTo>
                    <a:pt x="1536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4" name=""/>
            <p:cNvGrpSpPr/>
            <p:nvPr/>
          </p:nvGrpSpPr>
          <p:grpSpPr>
            <a:xfrm>
              <a:off x="4572000" y="2438280"/>
              <a:ext cx="533520" cy="1676520"/>
              <a:chOff x="4572000" y="2438280"/>
              <a:chExt cx="533520" cy="1676520"/>
            </a:xfrm>
          </p:grpSpPr>
          <p:sp>
            <p:nvSpPr>
              <p:cNvPr id="2445" name=""/>
              <p:cNvSpPr/>
              <p:nvPr/>
            </p:nvSpPr>
            <p:spPr>
              <a:xfrm>
                <a:off x="4572000" y="2438280"/>
                <a:ext cx="533520" cy="22860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4572000" y="2666880"/>
                <a:ext cx="533520" cy="14479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47" name=""/>
          <p:cNvGrpSpPr/>
          <p:nvPr/>
        </p:nvGrpSpPr>
        <p:grpSpPr>
          <a:xfrm>
            <a:off x="3809880" y="2438280"/>
            <a:ext cx="1828800" cy="4419720"/>
            <a:chOff x="3809880" y="2438280"/>
            <a:chExt cx="1828800" cy="4419720"/>
          </a:xfrm>
        </p:grpSpPr>
        <p:grpSp>
          <p:nvGrpSpPr>
            <p:cNvPr id="2448" name=""/>
            <p:cNvGrpSpPr/>
            <p:nvPr/>
          </p:nvGrpSpPr>
          <p:grpSpPr>
            <a:xfrm>
              <a:off x="3809880" y="5105520"/>
              <a:ext cx="1676520" cy="1752480"/>
              <a:chOff x="3809880" y="5105520"/>
              <a:chExt cx="1676520" cy="1752480"/>
            </a:xfrm>
          </p:grpSpPr>
          <p:sp>
            <p:nvSpPr>
              <p:cNvPr id="2449" name=""/>
              <p:cNvSpPr/>
              <p:nvPr/>
            </p:nvSpPr>
            <p:spPr>
              <a:xfrm>
                <a:off x="3809880" y="5105520"/>
                <a:ext cx="1676520" cy="3888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quisito Produto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3809880" y="5494320"/>
                <a:ext cx="1676520" cy="136368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Volum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1" name=""/>
            <p:cNvSpPr/>
            <p:nvPr/>
          </p:nvSpPr>
          <p:spPr>
            <a:xfrm>
              <a:off x="3809880" y="4114800"/>
              <a:ext cx="1752840" cy="99072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816" y="0"/>
                  </a:moveTo>
                  <a:lnTo>
                    <a:pt x="0" y="624"/>
                  </a:lnTo>
                  <a:lnTo>
                    <a:pt x="1056" y="624"/>
                  </a:lnTo>
                  <a:lnTo>
                    <a:pt x="1104" y="0"/>
                  </a:lnTo>
                  <a:lnTo>
                    <a:pt x="816" y="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2" name=""/>
            <p:cNvGrpSpPr/>
            <p:nvPr/>
          </p:nvGrpSpPr>
          <p:grpSpPr>
            <a:xfrm>
              <a:off x="5105520" y="2438280"/>
              <a:ext cx="533160" cy="1676520"/>
              <a:chOff x="5105520" y="2438280"/>
              <a:chExt cx="533160" cy="1676520"/>
            </a:xfrm>
          </p:grpSpPr>
          <p:sp>
            <p:nvSpPr>
              <p:cNvPr id="2453" name=""/>
              <p:cNvSpPr/>
              <p:nvPr/>
            </p:nvSpPr>
            <p:spPr>
              <a:xfrm>
                <a:off x="5105520" y="2438280"/>
                <a:ext cx="533160" cy="22860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5105520" y="2666880"/>
                <a:ext cx="533160" cy="144792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5" name=""/>
          <p:cNvSpPr/>
          <p:nvPr/>
        </p:nvSpPr>
        <p:spPr>
          <a:xfrm>
            <a:off x="-36360" y="981000"/>
            <a:ext cx="1981080" cy="1295640"/>
          </a:xfrm>
          <a:prstGeom prst="can">
            <a:avLst>
              <a:gd name="adj" fmla="val 25000"/>
            </a:avLst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quisi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6" name=""/>
          <p:cNvGrpSpPr/>
          <p:nvPr/>
        </p:nvGrpSpPr>
        <p:grpSpPr>
          <a:xfrm>
            <a:off x="228600" y="1905120"/>
            <a:ext cx="2666880" cy="2514600"/>
            <a:chOff x="228600" y="1905120"/>
            <a:chExt cx="2666880" cy="2514600"/>
          </a:xfrm>
        </p:grpSpPr>
        <p:grpSp>
          <p:nvGrpSpPr>
            <p:cNvPr id="2457" name=""/>
            <p:cNvGrpSpPr/>
            <p:nvPr/>
          </p:nvGrpSpPr>
          <p:grpSpPr>
            <a:xfrm>
              <a:off x="838080" y="1905120"/>
              <a:ext cx="685800" cy="1828800"/>
              <a:chOff x="838080" y="1905120"/>
              <a:chExt cx="685800" cy="1828800"/>
            </a:xfrm>
          </p:grpSpPr>
          <p:sp>
            <p:nvSpPr>
              <p:cNvPr id="2458" name=""/>
              <p:cNvSpPr/>
              <p:nvPr/>
            </p:nvSpPr>
            <p:spPr>
              <a:xfrm>
                <a:off x="1143000" y="3352680"/>
                <a:ext cx="38088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838080" y="1905120"/>
                <a:ext cx="38124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0" name=""/>
            <p:cNvGrpSpPr/>
            <p:nvPr/>
          </p:nvGrpSpPr>
          <p:grpSpPr>
            <a:xfrm>
              <a:off x="228600" y="2133720"/>
              <a:ext cx="2666880" cy="2286000"/>
              <a:chOff x="228600" y="2133720"/>
              <a:chExt cx="2666880" cy="2286000"/>
            </a:xfrm>
          </p:grpSpPr>
          <p:sp>
            <p:nvSpPr>
              <p:cNvPr id="2461" name=""/>
              <p:cNvSpPr/>
              <p:nvPr/>
            </p:nvSpPr>
            <p:spPr>
              <a:xfrm>
                <a:off x="1752480" y="2743200"/>
                <a:ext cx="38124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1523880" y="3809880"/>
                <a:ext cx="38124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228600" y="2438280"/>
                <a:ext cx="38088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914400" y="2666880"/>
                <a:ext cx="38088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1905120" y="3352680"/>
                <a:ext cx="38088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2438280" y="3809880"/>
                <a:ext cx="38124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1523880" y="2133720"/>
                <a:ext cx="38124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2514600" y="2971800"/>
                <a:ext cx="38088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2133720" y="2133720"/>
                <a:ext cx="38088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1066680" y="4038480"/>
                <a:ext cx="38124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228600" y="3200400"/>
                <a:ext cx="38088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609480" y="3733920"/>
                <a:ext cx="38124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66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73" name=""/>
          <p:cNvGrpSpPr/>
          <p:nvPr/>
        </p:nvGrpSpPr>
        <p:grpSpPr>
          <a:xfrm>
            <a:off x="457200" y="2438280"/>
            <a:ext cx="4114800" cy="4419720"/>
            <a:chOff x="457200" y="2438280"/>
            <a:chExt cx="4114800" cy="4419720"/>
          </a:xfrm>
        </p:grpSpPr>
        <p:grpSp>
          <p:nvGrpSpPr>
            <p:cNvPr id="2474" name=""/>
            <p:cNvGrpSpPr/>
            <p:nvPr/>
          </p:nvGrpSpPr>
          <p:grpSpPr>
            <a:xfrm>
              <a:off x="457200" y="2438280"/>
              <a:ext cx="4114800" cy="4419720"/>
              <a:chOff x="457200" y="2438280"/>
              <a:chExt cx="4114800" cy="4419720"/>
            </a:xfrm>
          </p:grpSpPr>
          <p:grpSp>
            <p:nvGrpSpPr>
              <p:cNvPr id="2475" name=""/>
              <p:cNvGrpSpPr/>
              <p:nvPr/>
            </p:nvGrpSpPr>
            <p:grpSpPr>
              <a:xfrm>
                <a:off x="457200" y="5105520"/>
                <a:ext cx="1676520" cy="1752480"/>
                <a:chOff x="457200" y="5105520"/>
                <a:chExt cx="1676520" cy="1752480"/>
              </a:xfrm>
            </p:grpSpPr>
            <p:sp>
              <p:nvSpPr>
                <p:cNvPr id="2476" name=""/>
                <p:cNvSpPr/>
                <p:nvPr/>
              </p:nvSpPr>
              <p:spPr>
                <a:xfrm>
                  <a:off x="457200" y="5105520"/>
                  <a:ext cx="1676520" cy="38880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Requisito Cli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>
                  <a:off x="457200" y="5494320"/>
                  <a:ext cx="1676520" cy="1363680"/>
                </a:xfrm>
                <a:prstGeom prst="rect">
                  <a:avLst/>
                </a:prstGeom>
                <a:solidFill>
                  <a:srgbClr val="66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acilidade de Instalaçã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8" name=""/>
              <p:cNvSpPr/>
              <p:nvPr/>
            </p:nvSpPr>
            <p:spPr>
              <a:xfrm>
                <a:off x="457200" y="4114800"/>
                <a:ext cx="4114800" cy="990720"/>
              </a:xfrm>
              <a:custGeom>
                <a:avLst/>
                <a:gdLst/>
                <a:ahLst/>
                <a:rect l="l" t="t" r="r" b="b"/>
                <a:pathLst>
                  <a:path w="2592" h="624">
                    <a:moveTo>
                      <a:pt x="2592" y="0"/>
                    </a:moveTo>
                    <a:lnTo>
                      <a:pt x="1056" y="624"/>
                    </a:lnTo>
                    <a:lnTo>
                      <a:pt x="0" y="624"/>
                    </a:lnTo>
                    <a:lnTo>
                      <a:pt x="2256" y="0"/>
                    </a:lnTo>
                    <a:lnTo>
                      <a:pt x="259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9" name=""/>
              <p:cNvGrpSpPr/>
              <p:nvPr/>
            </p:nvGrpSpPr>
            <p:grpSpPr>
              <a:xfrm>
                <a:off x="4038480" y="2438280"/>
                <a:ext cx="533520" cy="1676520"/>
                <a:chOff x="4038480" y="2438280"/>
                <a:chExt cx="533520" cy="1676520"/>
              </a:xfrm>
            </p:grpSpPr>
            <p:sp>
              <p:nvSpPr>
                <p:cNvPr id="2480" name=""/>
                <p:cNvSpPr/>
                <p:nvPr/>
              </p:nvSpPr>
              <p:spPr>
                <a:xfrm>
                  <a:off x="4038480" y="2438280"/>
                  <a:ext cx="533520" cy="228600"/>
                </a:xfrm>
                <a:prstGeom prst="rect">
                  <a:avLst/>
                </a:prstGeom>
                <a:solidFill>
                  <a:srgbClr val="66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>
                  <a:off x="4038480" y="2666880"/>
                  <a:ext cx="533520" cy="1447920"/>
                </a:xfrm>
                <a:prstGeom prst="rect">
                  <a:avLst/>
                </a:prstGeom>
                <a:solidFill>
                  <a:srgbClr val="66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82" name=""/>
            <p:cNvSpPr/>
            <p:nvPr/>
          </p:nvSpPr>
          <p:spPr>
            <a:xfrm>
              <a:off x="3200400" y="2666880"/>
              <a:ext cx="1219320" cy="1219320"/>
            </a:xfrm>
            <a:prstGeom prst="rightArrow">
              <a:avLst>
                <a:gd name="adj1" fmla="val 50000"/>
                <a:gd name="adj2" fmla="val 53644"/>
              </a:avLst>
            </a:prstGeom>
            <a:solidFill>
              <a:srgbClr val="3366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3" name=""/>
          <p:cNvSpPr/>
          <p:nvPr/>
        </p:nvSpPr>
        <p:spPr>
          <a:xfrm>
            <a:off x="5334120" y="2590920"/>
            <a:ext cx="1218960" cy="1218960"/>
          </a:xfrm>
          <a:prstGeom prst="rightArrow">
            <a:avLst>
              <a:gd name="adj1" fmla="val 50000"/>
              <a:gd name="adj2" fmla="val 53644"/>
            </a:avLst>
          </a:prstGeom>
          <a:solidFill>
            <a:srgbClr val="3366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4" name=""/>
          <p:cNvGrpSpPr/>
          <p:nvPr/>
        </p:nvGrpSpPr>
        <p:grpSpPr>
          <a:xfrm>
            <a:off x="6477120" y="1828800"/>
            <a:ext cx="2666880" cy="2514600"/>
            <a:chOff x="6477120" y="1828800"/>
            <a:chExt cx="2666880" cy="2514600"/>
          </a:xfrm>
        </p:grpSpPr>
        <p:grpSp>
          <p:nvGrpSpPr>
            <p:cNvPr id="2485" name=""/>
            <p:cNvGrpSpPr/>
            <p:nvPr/>
          </p:nvGrpSpPr>
          <p:grpSpPr>
            <a:xfrm>
              <a:off x="7086600" y="1828800"/>
              <a:ext cx="685800" cy="1828800"/>
              <a:chOff x="7086600" y="1828800"/>
              <a:chExt cx="685800" cy="1828800"/>
            </a:xfrm>
          </p:grpSpPr>
          <p:sp>
            <p:nvSpPr>
              <p:cNvPr id="2486" name=""/>
              <p:cNvSpPr/>
              <p:nvPr/>
            </p:nvSpPr>
            <p:spPr>
              <a:xfrm>
                <a:off x="7391520" y="3276360"/>
                <a:ext cx="38088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99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7086600" y="1828800"/>
                <a:ext cx="38124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99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8" name=""/>
            <p:cNvGrpSpPr/>
            <p:nvPr/>
          </p:nvGrpSpPr>
          <p:grpSpPr>
            <a:xfrm>
              <a:off x="6477120" y="2057400"/>
              <a:ext cx="2666880" cy="2286000"/>
              <a:chOff x="6477120" y="2057400"/>
              <a:chExt cx="2666880" cy="2286000"/>
            </a:xfrm>
          </p:grpSpPr>
          <p:sp>
            <p:nvSpPr>
              <p:cNvPr id="2489" name=""/>
              <p:cNvSpPr/>
              <p:nvPr/>
            </p:nvSpPr>
            <p:spPr>
              <a:xfrm>
                <a:off x="8001000" y="2666880"/>
                <a:ext cx="38124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99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7772400" y="3733560"/>
                <a:ext cx="38124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99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477120" y="2361960"/>
                <a:ext cx="38088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99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7162920" y="2590560"/>
                <a:ext cx="38088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99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8153640" y="3276360"/>
                <a:ext cx="38088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99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8686800" y="3733560"/>
                <a:ext cx="38124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99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7772400" y="2057400"/>
                <a:ext cx="38124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99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8763120" y="2895480"/>
                <a:ext cx="38088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99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8382240" y="2057400"/>
                <a:ext cx="38088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99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7315200" y="3962160"/>
                <a:ext cx="381240" cy="381240"/>
              </a:xfrm>
              <a:prstGeom prst="foldedCorner">
                <a:avLst>
                  <a:gd name="adj" fmla="val 37500"/>
                </a:avLst>
              </a:prstGeom>
              <a:solidFill>
                <a:srgbClr val="99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477120" y="3124080"/>
                <a:ext cx="38088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99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858000" y="3657600"/>
                <a:ext cx="381240" cy="380880"/>
              </a:xfrm>
              <a:prstGeom prst="foldedCorner">
                <a:avLst>
                  <a:gd name="adj" fmla="val 37500"/>
                </a:avLst>
              </a:prstGeom>
              <a:solidFill>
                <a:srgbClr val="99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01" name=""/>
          <p:cNvSpPr/>
          <p:nvPr/>
        </p:nvSpPr>
        <p:spPr>
          <a:xfrm>
            <a:off x="6781680" y="5334120"/>
            <a:ext cx="1981440" cy="1295280"/>
          </a:xfrm>
          <a:prstGeom prst="can">
            <a:avLst>
              <a:gd name="adj" fmla="val 25000"/>
            </a:avLst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quisitos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 rot="5400000">
            <a:off x="7162920" y="4419720"/>
            <a:ext cx="1218960" cy="1218960"/>
          </a:xfrm>
          <a:prstGeom prst="rightArrow">
            <a:avLst>
              <a:gd name="adj1" fmla="val 50000"/>
              <a:gd name="adj2" fmla="val 53644"/>
            </a:avLst>
          </a:prstGeom>
          <a:solidFill>
            <a:srgbClr val="3366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500"/>
                            </p:stCondLst>
                            <p:childTnLst>
                              <p:par>
                                <p:cTn id="7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6" dur="500"/>
                                        <p:tgtEl>
                                          <p:spTgt spid="2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000"/>
                            </p:stCondLst>
                            <p:childTnLst>
                              <p:par>
                                <p:cTn id="7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2500"/>
                            </p:stCondLst>
                            <p:childTnLst>
                              <p:par>
                                <p:cTn id="7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3000"/>
                            </p:stCondLst>
                            <p:childTnLst>
                              <p:par>
                                <p:cTn id="7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500"/>
                            </p:stCondLst>
                            <p:childTnLst>
                              <p:par>
                                <p:cTn id="7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4000"/>
                            </p:stCondLst>
                            <p:childTnLst>
                              <p:par>
                                <p:cTn id="7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Exemplo: Matriz de Conversã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>
            <a:off x="3238560" y="1600200"/>
            <a:ext cx="2857320" cy="1752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ector de Entrada do Ca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6095880" y="1600200"/>
            <a:ext cx="28432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úmero de Entr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3238560" y="3352680"/>
            <a:ext cx="2857320" cy="990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o de 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380880" y="838080"/>
            <a:ext cx="289584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sitos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3238560" y="838080"/>
            <a:ext cx="289548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>
            <a:off x="6095880" y="838080"/>
            <a:ext cx="284328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sitos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6095880" y="2286000"/>
            <a:ext cx="2843280" cy="1066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rões Disponíveis 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6095880" y="3359160"/>
            <a:ext cx="2843280" cy="981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s de Protocolo de 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379440" y="1600200"/>
            <a:ext cx="2857320" cy="17524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dade da Conexão Física com o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>
            <a:off x="3240000" y="5486400"/>
            <a:ext cx="2857680" cy="13255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de Insta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>
            <a:off x="380880" y="3352680"/>
            <a:ext cx="2857680" cy="99072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dade com o Protocolo do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>
            <a:off x="380880" y="4343400"/>
            <a:ext cx="2857680" cy="24670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dade para o Reconhecimento da Máquina pela 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6" name=""/>
          <p:cNvGrpSpPr/>
          <p:nvPr/>
        </p:nvGrpSpPr>
        <p:grpSpPr>
          <a:xfrm>
            <a:off x="3227400" y="4343400"/>
            <a:ext cx="2868480" cy="1143000"/>
            <a:chOff x="3227400" y="4343400"/>
            <a:chExt cx="2868480" cy="1143000"/>
          </a:xfrm>
        </p:grpSpPr>
        <p:sp>
          <p:nvSpPr>
            <p:cNvPr id="2517" name=""/>
            <p:cNvSpPr/>
            <p:nvPr/>
          </p:nvSpPr>
          <p:spPr>
            <a:xfrm>
              <a:off x="3238560" y="4343400"/>
              <a:ext cx="2857320" cy="6858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ector de Entrada do Cab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3227400" y="5029200"/>
              <a:ext cx="2857320" cy="4572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tocolo de Re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9" name=""/>
          <p:cNvGrpSpPr/>
          <p:nvPr/>
        </p:nvGrpSpPr>
        <p:grpSpPr>
          <a:xfrm>
            <a:off x="6095880" y="4343400"/>
            <a:ext cx="2843280" cy="1166760"/>
            <a:chOff x="6095880" y="4343400"/>
            <a:chExt cx="2843280" cy="1166760"/>
          </a:xfrm>
        </p:grpSpPr>
        <p:sp>
          <p:nvSpPr>
            <p:cNvPr id="2520" name=""/>
            <p:cNvSpPr/>
            <p:nvPr/>
          </p:nvSpPr>
          <p:spPr>
            <a:xfrm>
              <a:off x="6095880" y="4343400"/>
              <a:ext cx="2843280" cy="6858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6095880" y="5029200"/>
              <a:ext cx="2843280" cy="4809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6083280" y="5511960"/>
            <a:ext cx="2843280" cy="579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. Passos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>
            <a:off x="6078600" y="6108840"/>
            <a:ext cx="2843280" cy="684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. Passos Confi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0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8" dur="500"/>
                                        <p:tgtEl>
                                          <p:spTgt spid="2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2" dur="500"/>
                                        <p:tgtEl>
                                          <p:spTgt spid="2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000"/>
                            </p:stCondLst>
                            <p:childTnLst>
                              <p:par>
                                <p:cTn id="7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6" dur="500"/>
                                        <p:tgtEl>
                                          <p:spTgt spid="2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500"/>
                            </p:stCondLst>
                            <p:childTnLst>
                              <p:par>
                                <p:cTn id="75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0" dur="500"/>
                                        <p:tgtEl>
                                          <p:spTgt spid="2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2000"/>
                            </p:stCondLst>
                            <p:childTnLst>
                              <p:par>
                                <p:cTn id="76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4" dur="500"/>
                                        <p:tgtEl>
                                          <p:spTgt spid="2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3000"/>
                            </p:stCondLst>
                            <p:childTnLst>
                              <p:par>
                                <p:cTn id="7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1" dur="500"/>
                                        <p:tgtEl>
                                          <p:spTgt spid="2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7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5" dur="500"/>
                                        <p:tgtEl>
                                          <p:spTgt spid="2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9" dur="500"/>
                                        <p:tgtEl>
                                          <p:spTgt spid="2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4500"/>
                            </p:stCondLst>
                            <p:childTnLst>
                              <p:par>
                                <p:cTn id="7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3" dur="500"/>
                                        <p:tgtEl>
                                          <p:spTgt spid="2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0"/>
                            </p:stCondLst>
                            <p:childTnLst>
                              <p:par>
                                <p:cTn id="7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500"/>
                            </p:stCondLst>
                            <p:childTnLst>
                              <p:par>
                                <p:cTn id="7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0" dur="500"/>
                                        <p:tgtEl>
                                          <p:spTgt spid="2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60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2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"/>
          <p:cNvSpPr/>
          <p:nvPr/>
        </p:nvSpPr>
        <p:spPr>
          <a:xfrm>
            <a:off x="657360" y="1311120"/>
            <a:ext cx="7772400" cy="4876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Obs.: Todo requisito do produto tem de ser mensurável na prática !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Tarefas da atividade “Definir requisitos de projeto do produto” 2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112320" y="877680"/>
            <a:ext cx="857412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er requisitos de clientes em expressões mensuráveis (requisitos do produ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isar e classificar os requisitos do prod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arquizar requisitos do prod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7" name=""/>
          <p:cNvGrpSpPr/>
          <p:nvPr/>
        </p:nvGrpSpPr>
        <p:grpSpPr>
          <a:xfrm>
            <a:off x="3394080" y="2492280"/>
            <a:ext cx="5284080" cy="3969720"/>
            <a:chOff x="3394080" y="2492280"/>
            <a:chExt cx="5284080" cy="3969720"/>
          </a:xfrm>
        </p:grpSpPr>
        <p:sp>
          <p:nvSpPr>
            <p:cNvPr id="2528" name=""/>
            <p:cNvSpPr/>
            <p:nvPr/>
          </p:nvSpPr>
          <p:spPr>
            <a:xfrm>
              <a:off x="3923280" y="3889440"/>
              <a:ext cx="1482120" cy="127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3394080" y="3889440"/>
              <a:ext cx="529200" cy="1270440"/>
            </a:xfrm>
            <a:custGeom>
              <a:avLst/>
              <a:gdLst/>
              <a:ahLst/>
              <a:rect l="l" t="t" r="r" b="b"/>
              <a:pathLst>
                <a:path w="1632" h="1152">
                  <a:moveTo>
                    <a:pt x="1632" y="0"/>
                  </a:moveTo>
                  <a:lnTo>
                    <a:pt x="0" y="576"/>
                  </a:lnTo>
                  <a:lnTo>
                    <a:pt x="1632" y="1152"/>
                  </a:lnTo>
                </a:path>
              </a:pathLst>
            </a:custGeom>
            <a:noFill/>
            <a:ln w="1260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5405760" y="3889440"/>
              <a:ext cx="317520" cy="127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723280" y="3889440"/>
              <a:ext cx="317520" cy="127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6305400" y="3889440"/>
              <a:ext cx="317520" cy="127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6093720" y="4366080"/>
              <a:ext cx="211680" cy="264600"/>
            </a:xfrm>
            <a:prstGeom prst="rightArrow">
              <a:avLst>
                <a:gd name="adj1" fmla="val 50000"/>
                <a:gd name="adj2" fmla="val 5729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 rot="16200000">
              <a:off x="4505400" y="4577400"/>
              <a:ext cx="317520" cy="148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 rot="16200000">
              <a:off x="4505400" y="4895280"/>
              <a:ext cx="317520" cy="148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 rot="5400000">
              <a:off x="4637880" y="5821920"/>
              <a:ext cx="211680" cy="264240"/>
            </a:xfrm>
            <a:prstGeom prst="rightArrow">
              <a:avLst>
                <a:gd name="adj1" fmla="val 50000"/>
                <a:gd name="adj2" fmla="val 5729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 rot="16200000">
              <a:off x="4505400" y="5530680"/>
              <a:ext cx="317520" cy="148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 rot="16200000">
              <a:off x="4427280" y="2909880"/>
              <a:ext cx="476280" cy="148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3924360" y="3095280"/>
              <a:ext cx="1482120" cy="317520"/>
            </a:xfrm>
            <a:custGeom>
              <a:avLst/>
              <a:gdLst/>
              <a:ahLst/>
              <a:rect l="l" t="t" r="r" b="b"/>
              <a:pathLst>
                <a:path w="1344" h="288">
                  <a:moveTo>
                    <a:pt x="1344" y="288"/>
                  </a:moveTo>
                  <a:lnTo>
                    <a:pt x="672" y="0"/>
                  </a:lnTo>
                  <a:lnTo>
                    <a:pt x="0" y="288"/>
                  </a:lnTo>
                  <a:lnTo>
                    <a:pt x="1344" y="288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3394080" y="3889440"/>
              <a:ext cx="529200" cy="1270440"/>
            </a:xfrm>
            <a:custGeom>
              <a:avLst/>
              <a:gdLst/>
              <a:ahLst/>
              <a:rect l="l" t="t" r="r" b="b"/>
              <a:pathLst>
                <a:path w="1632" h="1152">
                  <a:moveTo>
                    <a:pt x="1632" y="0"/>
                  </a:moveTo>
                  <a:lnTo>
                    <a:pt x="0" y="576"/>
                  </a:lnTo>
                  <a:lnTo>
                    <a:pt x="1632" y="1152"/>
                  </a:lnTo>
                </a:path>
              </a:pathLst>
            </a:custGeom>
            <a:solidFill>
              <a:srgbClr val="ffff00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405760" y="3889440"/>
              <a:ext cx="317520" cy="12704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5723280" y="3889440"/>
              <a:ext cx="317520" cy="12704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6305400" y="3889440"/>
              <a:ext cx="317520" cy="12704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6093720" y="4366080"/>
              <a:ext cx="211680" cy="264600"/>
            </a:xfrm>
            <a:prstGeom prst="rightArrow">
              <a:avLst>
                <a:gd name="adj1" fmla="val 50000"/>
                <a:gd name="adj2" fmla="val 57292"/>
              </a:avLst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5" name=""/>
            <p:cNvGrpSpPr/>
            <p:nvPr/>
          </p:nvGrpSpPr>
          <p:grpSpPr>
            <a:xfrm>
              <a:off x="3931920" y="3086280"/>
              <a:ext cx="1482840" cy="3334680"/>
              <a:chOff x="3931920" y="3086280"/>
              <a:chExt cx="1482840" cy="3334680"/>
            </a:xfrm>
          </p:grpSpPr>
          <p:sp>
            <p:nvSpPr>
              <p:cNvPr id="2546" name=""/>
              <p:cNvSpPr/>
              <p:nvPr/>
            </p:nvSpPr>
            <p:spPr>
              <a:xfrm>
                <a:off x="3931920" y="3880080"/>
                <a:ext cx="1481760" cy="1270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 rot="16200000">
                <a:off x="4514040" y="4568760"/>
                <a:ext cx="317520" cy="1481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rot="16200000">
                <a:off x="4514040" y="4886280"/>
                <a:ext cx="317520" cy="1481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rot="16200000">
                <a:off x="4514040" y="5521320"/>
                <a:ext cx="317520" cy="1481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 rot="16200000">
                <a:off x="4435560" y="2900520"/>
                <a:ext cx="476280" cy="148212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3932640" y="3086280"/>
                <a:ext cx="1482120" cy="317520"/>
              </a:xfrm>
              <a:custGeom>
                <a:avLst/>
                <a:gdLst/>
                <a:ahLst/>
                <a:rect l="l" t="t" r="r" b="b"/>
                <a:pathLst>
                  <a:path w="1344" h="288">
                    <a:moveTo>
                      <a:pt x="1344" y="288"/>
                    </a:moveTo>
                    <a:lnTo>
                      <a:pt x="672" y="0"/>
                    </a:lnTo>
                    <a:lnTo>
                      <a:pt x="0" y="288"/>
                    </a:lnTo>
                    <a:lnTo>
                      <a:pt x="1344" y="288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2" name=""/>
            <p:cNvSpPr/>
            <p:nvPr/>
          </p:nvSpPr>
          <p:spPr>
            <a:xfrm flipH="1" flipV="1">
              <a:off x="5193720" y="3709440"/>
              <a:ext cx="846720" cy="19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 rot="1794000">
              <a:off x="6883560" y="4874400"/>
              <a:ext cx="317520" cy="370080"/>
            </a:xfrm>
            <a:prstGeom prst="downArrow">
              <a:avLst>
                <a:gd name="adj1" fmla="val 50000"/>
                <a:gd name="adj2" fmla="val 29138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4" name=""/>
            <p:cNvGrpSpPr/>
            <p:nvPr/>
          </p:nvGrpSpPr>
          <p:grpSpPr>
            <a:xfrm>
              <a:off x="5877720" y="5297400"/>
              <a:ext cx="1121400" cy="1164600"/>
              <a:chOff x="5877720" y="5297400"/>
              <a:chExt cx="1121400" cy="1164600"/>
            </a:xfrm>
          </p:grpSpPr>
          <p:sp>
            <p:nvSpPr>
              <p:cNvPr id="2555" name=""/>
              <p:cNvSpPr/>
              <p:nvPr/>
            </p:nvSpPr>
            <p:spPr>
              <a:xfrm rot="16200000">
                <a:off x="5856120" y="5319000"/>
                <a:ext cx="1164600" cy="112140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56" name=""/>
              <p:cNvGrpSpPr/>
              <p:nvPr/>
            </p:nvGrpSpPr>
            <p:grpSpPr>
              <a:xfrm>
                <a:off x="5909400" y="5368320"/>
                <a:ext cx="960840" cy="987480"/>
                <a:chOff x="5909400" y="5368320"/>
                <a:chExt cx="960840" cy="987480"/>
              </a:xfrm>
            </p:grpSpPr>
            <p:sp>
              <p:nvSpPr>
                <p:cNvPr id="2557" name=""/>
                <p:cNvSpPr/>
                <p:nvPr/>
              </p:nvSpPr>
              <p:spPr>
                <a:xfrm>
                  <a:off x="5909400" y="5826600"/>
                  <a:ext cx="159480" cy="14076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>
                  <a:off x="6230160" y="5509080"/>
                  <a:ext cx="159840" cy="14076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>
                  <a:off x="6230160" y="5791320"/>
                  <a:ext cx="159840" cy="14076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>
                  <a:off x="6230160" y="6073920"/>
                  <a:ext cx="159840" cy="14076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>
                  <a:off x="6517800" y="5614920"/>
                  <a:ext cx="160920" cy="141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>
                  <a:off x="6517800" y="5826600"/>
                  <a:ext cx="160920" cy="14076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>
                  <a:off x="6517800" y="6038640"/>
                  <a:ext cx="160920" cy="14076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>
                  <a:off x="6710760" y="6214680"/>
                  <a:ext cx="159480" cy="141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>
                  <a:off x="6710760" y="5368320"/>
                  <a:ext cx="159480" cy="14076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66" name=""/>
            <p:cNvSpPr/>
            <p:nvPr/>
          </p:nvSpPr>
          <p:spPr>
            <a:xfrm>
              <a:off x="6671520" y="2492280"/>
              <a:ext cx="1164600" cy="740880"/>
            </a:xfrm>
            <a:prstGeom prst="can">
              <a:avLst>
                <a:gd name="adj" fmla="val 25000"/>
              </a:avLst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Requisit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7" name=""/>
            <p:cNvGrpSpPr/>
            <p:nvPr/>
          </p:nvGrpSpPr>
          <p:grpSpPr>
            <a:xfrm>
              <a:off x="6720120" y="3444840"/>
              <a:ext cx="1905120" cy="1429200"/>
              <a:chOff x="6720120" y="3444840"/>
              <a:chExt cx="1905120" cy="1429200"/>
            </a:xfrm>
          </p:grpSpPr>
          <p:sp>
            <p:nvSpPr>
              <p:cNvPr id="2568" name=""/>
              <p:cNvSpPr/>
              <p:nvPr/>
            </p:nvSpPr>
            <p:spPr>
              <a:xfrm flipH="1" flipV="1">
                <a:off x="7990200" y="3444480"/>
                <a:ext cx="635040" cy="582120"/>
              </a:xfrm>
              <a:custGeom>
                <a:avLst/>
                <a:gdLst>
                  <a:gd name="textAreaLeft" fmla="*/ 360 w 635040"/>
                  <a:gd name="textAreaRight" fmla="*/ 635760 w 635040"/>
                  <a:gd name="textAreaTop" fmla="*/ -360 h 582120"/>
                  <a:gd name="textAreaBottom" fmla="*/ 582120 h 58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501" y="16773"/>
                    </a:moveTo>
                    <a:arcTo wR="-6555" hR="-6555" stAng="3940046" swAng="-3940046"/>
                    <a:lnTo>
                      <a:pt x="0" y="10800"/>
                    </a:lnTo>
                    <a:arcTo wR="10800" hR="10800" stAng="10800000" swAng="3940046"/>
                    <a:lnTo>
                      <a:pt x="5238" y="-1501"/>
                    </a:lnTo>
                    <a:lnTo>
                      <a:pt x="11619" y="906"/>
                    </a:lnTo>
                    <a:lnTo>
                      <a:pt x="9212" y="7287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9" name=""/>
              <p:cNvGrpSpPr/>
              <p:nvPr/>
            </p:nvGrpSpPr>
            <p:grpSpPr>
              <a:xfrm>
                <a:off x="6720120" y="3868560"/>
                <a:ext cx="1216800" cy="1005480"/>
                <a:chOff x="6720120" y="3868560"/>
                <a:chExt cx="1216800" cy="1005480"/>
              </a:xfrm>
            </p:grpSpPr>
            <p:sp>
              <p:nvSpPr>
                <p:cNvPr id="2570" name=""/>
                <p:cNvSpPr/>
                <p:nvPr/>
              </p:nvSpPr>
              <p:spPr>
                <a:xfrm>
                  <a:off x="6984360" y="3974040"/>
                  <a:ext cx="211680" cy="10584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>
                  <a:off x="7355160" y="4133160"/>
                  <a:ext cx="211320" cy="10584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>
                  <a:off x="7090200" y="4186080"/>
                  <a:ext cx="211680" cy="10548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>
                  <a:off x="7355160" y="4556520"/>
                  <a:ext cx="211320" cy="10548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>
                  <a:off x="7302240" y="3868560"/>
                  <a:ext cx="211680" cy="10548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>
                  <a:off x="6772680" y="4133160"/>
                  <a:ext cx="211680" cy="10584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>
                  <a:off x="7037640" y="4397760"/>
                  <a:ext cx="211320" cy="10548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>
                  <a:off x="7725240" y="4186080"/>
                  <a:ext cx="211680" cy="10548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>
                  <a:off x="7619760" y="3974040"/>
                  <a:ext cx="211680" cy="10584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>
                  <a:off x="7725240" y="4450680"/>
                  <a:ext cx="211680" cy="10584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>
                  <a:off x="7355160" y="4344840"/>
                  <a:ext cx="211320" cy="10548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>
                  <a:off x="6720120" y="4344840"/>
                  <a:ext cx="211320" cy="10548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>
                  <a:off x="7037640" y="4662360"/>
                  <a:ext cx="211320" cy="10548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>
                  <a:off x="7672680" y="4715640"/>
                  <a:ext cx="211320" cy="10548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>
                  <a:off x="7355160" y="4768200"/>
                  <a:ext cx="211320" cy="10584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85" name=""/>
            <p:cNvGrpSpPr/>
            <p:nvPr/>
          </p:nvGrpSpPr>
          <p:grpSpPr>
            <a:xfrm>
              <a:off x="7725600" y="2703600"/>
              <a:ext cx="952560" cy="899640"/>
              <a:chOff x="7725600" y="2703600"/>
              <a:chExt cx="952560" cy="899640"/>
            </a:xfrm>
          </p:grpSpPr>
          <p:grpSp>
            <p:nvGrpSpPr>
              <p:cNvPr id="2586" name=""/>
              <p:cNvGrpSpPr/>
              <p:nvPr/>
            </p:nvGrpSpPr>
            <p:grpSpPr>
              <a:xfrm>
                <a:off x="8043480" y="3126960"/>
                <a:ext cx="634680" cy="476280"/>
                <a:chOff x="8043480" y="3126960"/>
                <a:chExt cx="634680" cy="476280"/>
              </a:xfrm>
            </p:grpSpPr>
            <p:sp>
              <p:nvSpPr>
                <p:cNvPr id="2587" name=""/>
                <p:cNvSpPr/>
                <p:nvPr/>
              </p:nvSpPr>
              <p:spPr>
                <a:xfrm>
                  <a:off x="8043480" y="3126960"/>
                  <a:ext cx="211680" cy="476280"/>
                </a:xfrm>
                <a:prstGeom prst="rect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>
                  <a:off x="8255160" y="3126960"/>
                  <a:ext cx="211680" cy="47628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>
                  <a:off x="8466840" y="3126960"/>
                  <a:ext cx="211320" cy="47628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90" name=""/>
              <p:cNvSpPr/>
              <p:nvPr/>
            </p:nvSpPr>
            <p:spPr>
              <a:xfrm rot="5400000">
                <a:off x="7698960" y="2730240"/>
                <a:ext cx="635400" cy="582120"/>
              </a:xfrm>
              <a:custGeom>
                <a:avLst/>
                <a:gdLst>
                  <a:gd name="textAreaLeft" fmla="*/ 0 w 635400"/>
                  <a:gd name="textAreaRight" fmla="*/ 635400 w 635400"/>
                  <a:gd name="textAreaTop" fmla="*/ 0 h 582120"/>
                  <a:gd name="textAreaBottom" fmla="*/ 582480 h 58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501" y="16773"/>
                    </a:moveTo>
                    <a:arcTo wR="-6555" hR="-6555" stAng="3940046" swAng="-3940046"/>
                    <a:lnTo>
                      <a:pt x="0" y="10800"/>
                    </a:lnTo>
                    <a:arcTo wR="10800" hR="10800" stAng="10800000" swAng="3940046"/>
                    <a:lnTo>
                      <a:pt x="5238" y="-1501"/>
                    </a:lnTo>
                    <a:lnTo>
                      <a:pt x="11619" y="906"/>
                    </a:lnTo>
                    <a:lnTo>
                      <a:pt x="9212" y="7287"/>
                    </a:lnTo>
                    <a:close/>
                  </a:path>
                </a:pathLst>
              </a:custGeom>
              <a:solidFill>
                <a:srgbClr val="66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1" name=""/>
            <p:cNvGrpSpPr/>
            <p:nvPr/>
          </p:nvGrpSpPr>
          <p:grpSpPr>
            <a:xfrm>
              <a:off x="6728760" y="4132800"/>
              <a:ext cx="1217160" cy="635400"/>
              <a:chOff x="6728760" y="4132800"/>
              <a:chExt cx="1217160" cy="635400"/>
            </a:xfrm>
          </p:grpSpPr>
          <p:grpSp>
            <p:nvGrpSpPr>
              <p:cNvPr id="2592" name=""/>
              <p:cNvGrpSpPr/>
              <p:nvPr/>
            </p:nvGrpSpPr>
            <p:grpSpPr>
              <a:xfrm>
                <a:off x="6993360" y="4609080"/>
                <a:ext cx="264240" cy="159120"/>
                <a:chOff x="6993360" y="4609080"/>
                <a:chExt cx="264240" cy="159120"/>
              </a:xfrm>
            </p:grpSpPr>
            <p:sp>
              <p:nvSpPr>
                <p:cNvPr id="2593" name=""/>
                <p:cNvSpPr/>
                <p:nvPr/>
              </p:nvSpPr>
              <p:spPr>
                <a:xfrm>
                  <a:off x="6993360" y="4609440"/>
                  <a:ext cx="264240" cy="158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 flipV="1">
                  <a:off x="6993360" y="4609080"/>
                  <a:ext cx="264240" cy="158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5" name=""/>
              <p:cNvGrpSpPr/>
              <p:nvPr/>
            </p:nvGrpSpPr>
            <p:grpSpPr>
              <a:xfrm>
                <a:off x="7310880" y="4132800"/>
                <a:ext cx="264240" cy="159120"/>
                <a:chOff x="7310880" y="4132800"/>
                <a:chExt cx="264240" cy="159120"/>
              </a:xfrm>
            </p:grpSpPr>
            <p:sp>
              <p:nvSpPr>
                <p:cNvPr id="2596" name=""/>
                <p:cNvSpPr/>
                <p:nvPr/>
              </p:nvSpPr>
              <p:spPr>
                <a:xfrm>
                  <a:off x="7310880" y="4133160"/>
                  <a:ext cx="264240" cy="158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 flipV="1">
                  <a:off x="7310880" y="4132800"/>
                  <a:ext cx="264240" cy="158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8" name=""/>
              <p:cNvGrpSpPr/>
              <p:nvPr/>
            </p:nvGrpSpPr>
            <p:grpSpPr>
              <a:xfrm>
                <a:off x="7681320" y="4397400"/>
                <a:ext cx="264600" cy="159120"/>
                <a:chOff x="7681320" y="4397400"/>
                <a:chExt cx="264600" cy="159120"/>
              </a:xfrm>
            </p:grpSpPr>
            <p:sp>
              <p:nvSpPr>
                <p:cNvPr id="2599" name=""/>
                <p:cNvSpPr/>
                <p:nvPr/>
              </p:nvSpPr>
              <p:spPr>
                <a:xfrm>
                  <a:off x="7681320" y="4397760"/>
                  <a:ext cx="264600" cy="158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 flipV="1">
                  <a:off x="7681320" y="4397400"/>
                  <a:ext cx="264600" cy="158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1" name=""/>
              <p:cNvGrpSpPr/>
              <p:nvPr/>
            </p:nvGrpSpPr>
            <p:grpSpPr>
              <a:xfrm>
                <a:off x="6728760" y="4132800"/>
                <a:ext cx="264600" cy="159120"/>
                <a:chOff x="6728760" y="4132800"/>
                <a:chExt cx="264600" cy="159120"/>
              </a:xfrm>
            </p:grpSpPr>
            <p:sp>
              <p:nvSpPr>
                <p:cNvPr id="2602" name=""/>
                <p:cNvSpPr/>
                <p:nvPr/>
              </p:nvSpPr>
              <p:spPr>
                <a:xfrm>
                  <a:off x="6728760" y="4133160"/>
                  <a:ext cx="264600" cy="158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 flipV="1">
                  <a:off x="6728760" y="4132800"/>
                  <a:ext cx="264600" cy="158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04" name=""/>
          <p:cNvSpPr/>
          <p:nvPr/>
        </p:nvSpPr>
        <p:spPr>
          <a:xfrm>
            <a:off x="531000" y="349416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sitos do prod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2890800" y="3678120"/>
            <a:ext cx="1173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Conceitos básicos para entendimento da fase de projeto informacional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574640" y="2031840"/>
            <a:ext cx="6309000" cy="42008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355680" y="901800"/>
            <a:ext cx="850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lação entre os principais conceitos na fase de projeto informac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"/>
          <p:cNvSpPr/>
          <p:nvPr/>
        </p:nvSpPr>
        <p:spPr>
          <a:xfrm>
            <a:off x="152280" y="1904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Arial"/>
              </a:rPr>
              <a:t>Checklist para obtenção de requisitos de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203040" y="1333440"/>
            <a:ext cx="8940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empenh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rmazenamento e vida de pratel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io Ambien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Tes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ida em serviç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egur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ficiênci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olítica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port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Implicações sociais e polí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balage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Responsabilidade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tidad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peração e instal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fraestrutur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Re-uso, reciclagem e desc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manho e p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er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rgono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ética, aparência e acab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609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ualizar o Plano do Projeto Inform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ar e atualizar o escopo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lhar ciclo de vida do produto e definir seu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r os requisitos dos clientes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os requisitos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finir especificações-meta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ar a viabilidade econômica financ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ovar a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r as decisões tomadas e registrar lições apren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Informações e tarefas da atividade “Definir especificações meta do produto”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2611" name=""/>
          <p:cNvGrpSpPr/>
          <p:nvPr/>
        </p:nvGrpSpPr>
        <p:grpSpPr>
          <a:xfrm>
            <a:off x="152280" y="1233360"/>
            <a:ext cx="7726320" cy="5210280"/>
            <a:chOff x="152280" y="1233360"/>
            <a:chExt cx="7726320" cy="5210280"/>
          </a:xfrm>
        </p:grpSpPr>
        <p:sp>
          <p:nvSpPr>
            <p:cNvPr id="2612" name=""/>
            <p:cNvSpPr/>
            <p:nvPr/>
          </p:nvSpPr>
          <p:spPr>
            <a:xfrm>
              <a:off x="2627280" y="1233360"/>
              <a:ext cx="5251320" cy="3017880"/>
            </a:xfrm>
            <a:custGeom>
              <a:avLst/>
              <a:gdLst/>
              <a:ahLst/>
              <a:rect l="l" t="t" r="r" b="b"/>
              <a:pathLst>
                <a:path w="3308" h="1901">
                  <a:moveTo>
                    <a:pt x="0" y="595"/>
                  </a:moveTo>
                  <a:lnTo>
                    <a:pt x="1097" y="0"/>
                  </a:lnTo>
                  <a:lnTo>
                    <a:pt x="3308" y="0"/>
                  </a:lnTo>
                  <a:lnTo>
                    <a:pt x="3308" y="1898"/>
                  </a:lnTo>
                  <a:lnTo>
                    <a:pt x="763" y="1901"/>
                  </a:lnTo>
                  <a:lnTo>
                    <a:pt x="24" y="1178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152280" y="1816920"/>
              <a:ext cx="1335240" cy="4726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jeto Informac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 rot="10800000">
              <a:off x="1662120" y="3354120"/>
              <a:ext cx="665280" cy="1537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 rot="10800000">
              <a:off x="1673280" y="1747800"/>
              <a:ext cx="665280" cy="1540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1204920" y="2120760"/>
              <a:ext cx="1565280" cy="97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finir especificações- meta do produ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4573440" y="1352520"/>
              <a:ext cx="2421000" cy="426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orar requisitos do produ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4576680" y="2125800"/>
              <a:ext cx="2416320" cy="426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alisar perfil técnico e de merc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3959280" y="2898720"/>
              <a:ext cx="3651120" cy="426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alisar restrições de projeto do produto (contrato, ambientais, legislação, normas..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3963960" y="3673440"/>
              <a:ext cx="3641760" cy="426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laborar o conjunto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pecificações-meta do produ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348480" y="3714840"/>
              <a:ext cx="3046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specificações-meta do produ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3932280" y="4929120"/>
              <a:ext cx="3641760" cy="1514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4048200" y="5291280"/>
              <a:ext cx="34542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equisitos de projeto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Arial"/>
                </a:rPr>
                <a:t>Check-list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; Primeira matriz do QFD, Análise paramétric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4137120" y="4546440"/>
              <a:ext cx="3211560" cy="5490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étodos, ferramentas, documentos de apo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492120" y="4925880"/>
              <a:ext cx="3384720" cy="149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684360" y="4521240"/>
              <a:ext cx="2984400" cy="5490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lação com outras ativida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27" name="" descr=""/>
            <p:cNvPicPr/>
            <p:nvPr/>
          </p:nvPicPr>
          <p:blipFill>
            <a:blip r:embed="rId1"/>
            <a:stretch/>
          </p:blipFill>
          <p:spPr>
            <a:xfrm>
              <a:off x="965160" y="5186520"/>
              <a:ext cx="2500200" cy="119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8" name=""/>
            <p:cNvSpPr/>
            <p:nvPr/>
          </p:nvSpPr>
          <p:spPr>
            <a:xfrm>
              <a:off x="399960" y="1241280"/>
              <a:ext cx="312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quisitos de projeto do produ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Tarefas da atividade “Definir especificações meta do produto”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226800" y="1044720"/>
            <a:ext cx="8574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lorar requisitos do prod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r unidade de medida e valor / faixa de tolerâ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alisar perfil técnico e de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enchmarking de produto (clínica de produto – desmontar e analisar produtos / características da concorrênci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alisar restrições de projeto do produto (contrato, ambientais, legislação, normas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laborar o conjunto de especificações-meta do prod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valiar a correlação entre requisitos (positiva e negati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"/>
          <p:cNvSpPr/>
          <p:nvPr/>
        </p:nvSpPr>
        <p:spPr>
          <a:xfrm>
            <a:off x="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2" name=""/>
          <p:cNvGraphicFramePr/>
          <p:nvPr/>
        </p:nvGraphicFramePr>
        <p:xfrm>
          <a:off x="1568520" y="617400"/>
          <a:ext cx="6905520" cy="624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8520" y="617400"/>
                    <a:ext cx="6905520" cy="624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Primeira matriz do QFD: a casa de qualidad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"/>
          <p:cNvSpPr/>
          <p:nvPr/>
        </p:nvSpPr>
        <p:spPr>
          <a:xfrm>
            <a:off x="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6" name=""/>
          <p:cNvGraphicFramePr/>
          <p:nvPr/>
        </p:nvGraphicFramePr>
        <p:xfrm>
          <a:off x="162000" y="2529000"/>
          <a:ext cx="8807400" cy="24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2529000"/>
                    <a:ext cx="8807400" cy="24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Estrutura de uma lista de especificações-meta do produto 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"/>
          <p:cNvSpPr/>
          <p:nvPr/>
        </p:nvSpPr>
        <p:spPr>
          <a:xfrm>
            <a:off x="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0" name=""/>
          <p:cNvGraphicFramePr/>
          <p:nvPr/>
        </p:nvGraphicFramePr>
        <p:xfrm>
          <a:off x="1500120" y="1104840"/>
          <a:ext cx="5319720" cy="549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1104840"/>
                    <a:ext cx="5319720" cy="54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Evolução das informações na fase de projeto informacional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644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ualizar o Plano do Projeto Inform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ar e atualizar o escopo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lhar ciclo de vida do produto e definir seu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r os requisitos dos clientes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os requisitos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especificações-meta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nitorar a viabilidade econômico-financ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ovar a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r as decisões tomadas e registrar lições apren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76320" y="98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tividade genérica: monitorar viabilidade econômico-financeira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2646" name=""/>
          <p:cNvGrpSpPr/>
          <p:nvPr/>
        </p:nvGrpSpPr>
        <p:grpSpPr>
          <a:xfrm>
            <a:off x="22320" y="1005840"/>
            <a:ext cx="8420040" cy="5729040"/>
            <a:chOff x="22320" y="1005840"/>
            <a:chExt cx="8420040" cy="5729040"/>
          </a:xfrm>
        </p:grpSpPr>
        <p:sp>
          <p:nvSpPr>
            <p:cNvPr id="2647" name=""/>
            <p:cNvSpPr/>
            <p:nvPr/>
          </p:nvSpPr>
          <p:spPr>
            <a:xfrm>
              <a:off x="1284120" y="1005840"/>
              <a:ext cx="6929640" cy="48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valiar mudanças nas condições do mercado, características técnicas do produto, indicadores de desempenho do projeto (prazos e custo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5761080" y="1907280"/>
              <a:ext cx="2327040" cy="48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valiar impacto dessas mudanças no proje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1549440" y="1907280"/>
              <a:ext cx="2396880" cy="48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tualizar as premissas financeiras do proje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22320" y="3095640"/>
              <a:ext cx="1901520" cy="730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tualizar o custo-alvo nos diversos níveis do produ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5008320" y="3095640"/>
              <a:ext cx="2098800" cy="730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tualizar as necessidades de investimen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2463840" y="3339360"/>
              <a:ext cx="1979640" cy="48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tualizar as receitas futur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2026440" y="4535640"/>
              <a:ext cx="2855880" cy="243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lcular o novo fluxo de caix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1505880" y="5488200"/>
              <a:ext cx="3895200" cy="243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lcular os novos indicadores financeir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1052280" y="6247800"/>
              <a:ext cx="2498760" cy="48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alisar as novas premissas e indicad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5519520" y="6247800"/>
              <a:ext cx="2776680" cy="48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valiar possíveis desvios e impactos no proje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57" name=""/>
            <p:cNvCxnSpPr>
              <a:stCxn id="2647" idx="3"/>
              <a:endCxn id="2648" idx="3"/>
            </p:cNvCxnSpPr>
            <p:nvPr/>
          </p:nvCxnSpPr>
          <p:spPr>
            <a:xfrm flipH="1">
              <a:off x="8102160" y="1248840"/>
              <a:ext cx="126000" cy="902520"/>
            </a:xfrm>
            <a:prstGeom prst="bentConnector3">
              <a:avLst>
                <a:gd name="adj1" fmla="val -170773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58" name=""/>
            <p:cNvCxnSpPr>
              <a:stCxn id="2648" idx="1"/>
              <a:endCxn id="2649" idx="3"/>
            </p:cNvCxnSpPr>
            <p:nvPr/>
          </p:nvCxnSpPr>
          <p:spPr>
            <a:xfrm flipH="1">
              <a:off x="3960000" y="2150640"/>
              <a:ext cx="17866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59" name=""/>
            <p:cNvCxnSpPr>
              <a:stCxn id="2647" idx="1"/>
              <a:endCxn id="2649" idx="1"/>
            </p:cNvCxnSpPr>
            <p:nvPr/>
          </p:nvCxnSpPr>
          <p:spPr>
            <a:xfrm flipH="1" flipV="1" rot="10800000">
              <a:off x="1269720" y="1248120"/>
              <a:ext cx="265680" cy="902520"/>
            </a:xfrm>
            <a:prstGeom prst="bentConnector3">
              <a:avLst>
                <a:gd name="adj1" fmla="val -80732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0" name=""/>
            <p:cNvCxnSpPr>
              <a:stCxn id="2649" idx="2"/>
              <a:endCxn id="2650" idx="0"/>
            </p:cNvCxnSpPr>
            <p:nvPr/>
          </p:nvCxnSpPr>
          <p:spPr>
            <a:xfrm flipH="1">
              <a:off x="972720" y="2423880"/>
              <a:ext cx="1775520" cy="641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1" name=""/>
            <p:cNvCxnSpPr>
              <a:stCxn id="2649" idx="2"/>
              <a:endCxn id="2652" idx="0"/>
            </p:cNvCxnSpPr>
            <p:nvPr/>
          </p:nvCxnSpPr>
          <p:spPr>
            <a:xfrm>
              <a:off x="2747880" y="2424240"/>
              <a:ext cx="707040" cy="886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2" name=""/>
            <p:cNvCxnSpPr>
              <a:stCxn id="2649" idx="2"/>
              <a:endCxn id="2651" idx="0"/>
            </p:cNvCxnSpPr>
            <p:nvPr/>
          </p:nvCxnSpPr>
          <p:spPr>
            <a:xfrm>
              <a:off x="2747880" y="2423880"/>
              <a:ext cx="3310560" cy="641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3" name=""/>
            <p:cNvCxnSpPr>
              <a:stCxn id="2651" idx="2"/>
              <a:endCxn id="2653" idx="3"/>
            </p:cNvCxnSpPr>
            <p:nvPr/>
          </p:nvCxnSpPr>
          <p:spPr>
            <a:xfrm rot="5400000">
              <a:off x="5081760" y="3682080"/>
              <a:ext cx="802440" cy="1149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4" name=""/>
            <p:cNvCxnSpPr>
              <a:stCxn id="2650" idx="2"/>
              <a:endCxn id="2653" idx="1"/>
            </p:cNvCxnSpPr>
            <p:nvPr/>
          </p:nvCxnSpPr>
          <p:spPr>
            <a:xfrm flipH="1" rot="16200000">
              <a:off x="1084680" y="3742920"/>
              <a:ext cx="802440" cy="1027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5" name=""/>
            <p:cNvCxnSpPr>
              <a:stCxn id="2652" idx="2"/>
              <a:endCxn id="2653" idx="0"/>
            </p:cNvCxnSpPr>
            <p:nvPr/>
          </p:nvCxnSpPr>
          <p:spPr>
            <a:xfrm>
              <a:off x="3453840" y="3855960"/>
              <a:ext cx="1080" cy="651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6" name=""/>
            <p:cNvCxnSpPr>
              <a:stCxn id="2653" idx="2"/>
              <a:endCxn id="2654" idx="0"/>
            </p:cNvCxnSpPr>
            <p:nvPr/>
          </p:nvCxnSpPr>
          <p:spPr>
            <a:xfrm>
              <a:off x="3453840" y="4808520"/>
              <a:ext cx="1080" cy="651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7" name=""/>
            <p:cNvCxnSpPr>
              <a:stCxn id="2654" idx="1"/>
              <a:endCxn id="2655" idx="1"/>
            </p:cNvCxnSpPr>
            <p:nvPr/>
          </p:nvCxnSpPr>
          <p:spPr>
            <a:xfrm flipV="1" rot="10800000">
              <a:off x="1037520" y="5609160"/>
              <a:ext cx="443520" cy="881640"/>
            </a:xfrm>
            <a:prstGeom prst="bentConnector3">
              <a:avLst>
                <a:gd name="adj1" fmla="val 14833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8" name=""/>
            <p:cNvCxnSpPr>
              <a:stCxn id="2655" idx="3"/>
              <a:endCxn id="2656" idx="1"/>
            </p:cNvCxnSpPr>
            <p:nvPr/>
          </p:nvCxnSpPr>
          <p:spPr>
            <a:xfrm>
              <a:off x="3565080" y="6490800"/>
              <a:ext cx="19407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ualizar o Plano do Projeto Inform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ar e atualizar o escopo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lhar ciclo de vida do produto e definir seu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r os requisitos dos clientes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os requisitos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especificações-meta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ar a viabilidade econômico-financ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valiar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ovar a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r as decisões tomadas e registrar lições apren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55320" y="1001880"/>
            <a:ext cx="8574120" cy="51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tualizar o Plano do Projeto Inform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ar e atualizar o Escopo do prod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lhar ciclo de vida do produto e definir seus 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r os requisitos dos clientes do prod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r os requisitos do prod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r especificações meta do prod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ar a viabilidade econômica do prod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liar e aprovar 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ar as decisões tomadas e lições aprend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tividade genérica: avaliar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2672" name=""/>
          <p:cNvGrpSpPr/>
          <p:nvPr/>
        </p:nvGrpSpPr>
        <p:grpSpPr>
          <a:xfrm>
            <a:off x="374760" y="1481400"/>
            <a:ext cx="8508960" cy="5191560"/>
            <a:chOff x="374760" y="1481400"/>
            <a:chExt cx="8508960" cy="5191560"/>
          </a:xfrm>
        </p:grpSpPr>
        <p:grpSp>
          <p:nvGrpSpPr>
            <p:cNvPr id="2673" name=""/>
            <p:cNvGrpSpPr/>
            <p:nvPr/>
          </p:nvGrpSpPr>
          <p:grpSpPr>
            <a:xfrm>
              <a:off x="374760" y="1481400"/>
              <a:ext cx="8508960" cy="973800"/>
              <a:chOff x="374760" y="1481400"/>
              <a:chExt cx="8508960" cy="973800"/>
            </a:xfrm>
          </p:grpSpPr>
          <p:sp>
            <p:nvSpPr>
              <p:cNvPr id="2674" name=""/>
              <p:cNvSpPr/>
              <p:nvPr/>
            </p:nvSpPr>
            <p:spPr>
              <a:xfrm>
                <a:off x="374760" y="1481400"/>
                <a:ext cx="1576440" cy="97380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valiar o cumprimento das tarefas planejada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 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2357280" y="1481400"/>
                <a:ext cx="2138400" cy="97380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valiar os resultados obtidos segundo os critérios estabelecid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4903920" y="1481400"/>
                <a:ext cx="2009520" cy="97380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valiar os demais critérios quantitativos e indicador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7321680" y="1481400"/>
                <a:ext cx="1562040" cy="97380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valiar o estudo da viabilidade econômi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678" name=""/>
            <p:cNvCxnSpPr>
              <a:stCxn id="2674" idx="2"/>
              <a:endCxn id="2679" idx="1"/>
            </p:cNvCxnSpPr>
            <p:nvPr/>
          </p:nvCxnSpPr>
          <p:spPr>
            <a:xfrm flipH="1" rot="16200000">
              <a:off x="1695240" y="1953720"/>
              <a:ext cx="1315080" cy="2378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80" name=""/>
            <p:cNvCxnSpPr>
              <a:stCxn id="2677" idx="2"/>
              <a:endCxn id="2679" idx="3"/>
            </p:cNvCxnSpPr>
            <p:nvPr/>
          </p:nvCxnSpPr>
          <p:spPr>
            <a:xfrm rot="5400000">
              <a:off x="6252480" y="1951200"/>
              <a:ext cx="1315080" cy="2384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81" name=""/>
            <p:cNvCxnSpPr>
              <a:stCxn id="2676" idx="2"/>
              <a:endCxn id="2679" idx="0"/>
            </p:cNvCxnSpPr>
            <p:nvPr/>
          </p:nvCxnSpPr>
          <p:spPr>
            <a:xfrm flipH="1">
              <a:off x="4630320" y="2486160"/>
              <a:ext cx="1278720" cy="1041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82" name=""/>
            <p:cNvCxnSpPr>
              <a:stCxn id="2675" idx="2"/>
              <a:endCxn id="2679" idx="0"/>
            </p:cNvCxnSpPr>
            <p:nvPr/>
          </p:nvCxnSpPr>
          <p:spPr>
            <a:xfrm>
              <a:off x="3427560" y="2486160"/>
              <a:ext cx="1203840" cy="1041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683" name=""/>
            <p:cNvGrpSpPr/>
            <p:nvPr/>
          </p:nvGrpSpPr>
          <p:grpSpPr>
            <a:xfrm>
              <a:off x="3413160" y="3556800"/>
              <a:ext cx="2432160" cy="3116160"/>
              <a:chOff x="3413160" y="3556800"/>
              <a:chExt cx="2432160" cy="3116160"/>
            </a:xfrm>
          </p:grpSpPr>
          <p:sp>
            <p:nvSpPr>
              <p:cNvPr id="2679" name=""/>
              <p:cNvSpPr/>
              <p:nvPr/>
            </p:nvSpPr>
            <p:spPr>
              <a:xfrm>
                <a:off x="3556080" y="3556800"/>
                <a:ext cx="2147760" cy="48708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cidir implementar ações corretiva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3421080" y="4749480"/>
                <a:ext cx="2417760" cy="73044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cidir se pode ser realizada a atividade de aprovaçã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3413160" y="6185880"/>
                <a:ext cx="2432160" cy="48708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eparar relatório para o time de avaliaçã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86" name=""/>
              <p:cNvCxnSpPr>
                <a:stCxn id="2679" idx="2"/>
                <a:endCxn id="2684" idx="0"/>
              </p:cNvCxnSpPr>
              <p:nvPr/>
            </p:nvCxnSpPr>
            <p:spPr>
              <a:xfrm>
                <a:off x="4630320" y="4073040"/>
                <a:ext cx="1080" cy="64692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87" name=""/>
              <p:cNvCxnSpPr>
                <a:stCxn id="2684" idx="2"/>
                <a:endCxn id="2685" idx="0"/>
              </p:cNvCxnSpPr>
              <p:nvPr/>
            </p:nvCxnSpPr>
            <p:spPr>
              <a:xfrm flipH="1">
                <a:off x="4628880" y="5509800"/>
                <a:ext cx="2160" cy="64692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2688" name=""/>
          <p:cNvSpPr/>
          <p:nvPr/>
        </p:nvSpPr>
        <p:spPr>
          <a:xfrm>
            <a:off x="1763640" y="4149720"/>
            <a:ext cx="1035000" cy="73656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-avaliaçã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>
            <a:off x="232920" y="6054840"/>
            <a:ext cx="1854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nvolv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0" name=""/>
          <p:cNvGrpSpPr/>
          <p:nvPr/>
        </p:nvGrpSpPr>
        <p:grpSpPr>
          <a:xfrm>
            <a:off x="608040" y="5267160"/>
            <a:ext cx="1371240" cy="687600"/>
            <a:chOff x="608040" y="5267160"/>
            <a:chExt cx="1371240" cy="687600"/>
          </a:xfrm>
        </p:grpSpPr>
        <p:grpSp>
          <p:nvGrpSpPr>
            <p:cNvPr id="2691" name=""/>
            <p:cNvGrpSpPr/>
            <p:nvPr/>
          </p:nvGrpSpPr>
          <p:grpSpPr>
            <a:xfrm>
              <a:off x="608040" y="5267160"/>
              <a:ext cx="1371240" cy="687600"/>
              <a:chOff x="608040" y="5267160"/>
              <a:chExt cx="1371240" cy="687600"/>
            </a:xfrm>
          </p:grpSpPr>
          <p:sp>
            <p:nvSpPr>
              <p:cNvPr id="2692" name=""/>
              <p:cNvSpPr/>
              <p:nvPr/>
            </p:nvSpPr>
            <p:spPr>
              <a:xfrm>
                <a:off x="918720" y="5457600"/>
                <a:ext cx="293760" cy="291600"/>
              </a:xfrm>
              <a:custGeom>
                <a:avLst/>
                <a:gdLst/>
                <a:ahLst/>
                <a:rect l="l" t="t" r="r" b="b"/>
                <a:pathLst>
                  <a:path w="3542" h="2755">
                    <a:moveTo>
                      <a:pt x="3542" y="2755"/>
                    </a:moveTo>
                    <a:lnTo>
                      <a:pt x="3452" y="2648"/>
                    </a:lnTo>
                    <a:lnTo>
                      <a:pt x="3415" y="2476"/>
                    </a:lnTo>
                    <a:lnTo>
                      <a:pt x="3307" y="2404"/>
                    </a:lnTo>
                    <a:lnTo>
                      <a:pt x="3290" y="2296"/>
                    </a:lnTo>
                    <a:lnTo>
                      <a:pt x="3355" y="2222"/>
                    </a:lnTo>
                    <a:lnTo>
                      <a:pt x="3355" y="2141"/>
                    </a:lnTo>
                    <a:lnTo>
                      <a:pt x="3314" y="2052"/>
                    </a:lnTo>
                    <a:lnTo>
                      <a:pt x="3248" y="1954"/>
                    </a:lnTo>
                    <a:lnTo>
                      <a:pt x="3248" y="1791"/>
                    </a:lnTo>
                    <a:lnTo>
                      <a:pt x="3307" y="1724"/>
                    </a:lnTo>
                    <a:lnTo>
                      <a:pt x="3299" y="1652"/>
                    </a:lnTo>
                    <a:lnTo>
                      <a:pt x="3233" y="1604"/>
                    </a:lnTo>
                    <a:lnTo>
                      <a:pt x="3200" y="1503"/>
                    </a:lnTo>
                    <a:lnTo>
                      <a:pt x="3209" y="1417"/>
                    </a:lnTo>
                    <a:lnTo>
                      <a:pt x="3191" y="1286"/>
                    </a:lnTo>
                    <a:lnTo>
                      <a:pt x="3166" y="1114"/>
                    </a:lnTo>
                    <a:lnTo>
                      <a:pt x="3166" y="910"/>
                    </a:lnTo>
                    <a:lnTo>
                      <a:pt x="3166" y="754"/>
                    </a:lnTo>
                    <a:lnTo>
                      <a:pt x="3161" y="592"/>
                    </a:lnTo>
                    <a:lnTo>
                      <a:pt x="3125" y="451"/>
                    </a:lnTo>
                    <a:lnTo>
                      <a:pt x="3092" y="360"/>
                    </a:lnTo>
                    <a:lnTo>
                      <a:pt x="2712" y="171"/>
                    </a:lnTo>
                    <a:lnTo>
                      <a:pt x="2492" y="110"/>
                    </a:lnTo>
                    <a:lnTo>
                      <a:pt x="2279" y="68"/>
                    </a:lnTo>
                    <a:lnTo>
                      <a:pt x="2044" y="0"/>
                    </a:lnTo>
                    <a:lnTo>
                      <a:pt x="890" y="27"/>
                    </a:lnTo>
                    <a:lnTo>
                      <a:pt x="556" y="85"/>
                    </a:lnTo>
                    <a:lnTo>
                      <a:pt x="222" y="205"/>
                    </a:lnTo>
                    <a:lnTo>
                      <a:pt x="123" y="264"/>
                    </a:lnTo>
                    <a:lnTo>
                      <a:pt x="40" y="461"/>
                    </a:lnTo>
                    <a:lnTo>
                      <a:pt x="40" y="1145"/>
                    </a:lnTo>
                    <a:lnTo>
                      <a:pt x="0" y="1235"/>
                    </a:lnTo>
                    <a:lnTo>
                      <a:pt x="540" y="2755"/>
                    </a:lnTo>
                    <a:lnTo>
                      <a:pt x="3542" y="275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932040" y="5464440"/>
                <a:ext cx="133200" cy="144720"/>
              </a:xfrm>
              <a:custGeom>
                <a:avLst/>
                <a:gdLst/>
                <a:ahLst/>
                <a:rect l="l" t="t" r="r" b="b"/>
                <a:pathLst>
                  <a:path w="1609" h="1365">
                    <a:moveTo>
                      <a:pt x="1609" y="1365"/>
                    </a:moveTo>
                    <a:lnTo>
                      <a:pt x="1148" y="499"/>
                    </a:lnTo>
                    <a:lnTo>
                      <a:pt x="1019" y="323"/>
                    </a:lnTo>
                    <a:lnTo>
                      <a:pt x="763" y="187"/>
                    </a:lnTo>
                    <a:lnTo>
                      <a:pt x="493" y="121"/>
                    </a:lnTo>
                    <a:lnTo>
                      <a:pt x="279" y="130"/>
                    </a:lnTo>
                    <a:lnTo>
                      <a:pt x="0" y="169"/>
                    </a:lnTo>
                    <a:lnTo>
                      <a:pt x="67" y="121"/>
                    </a:lnTo>
                    <a:lnTo>
                      <a:pt x="353" y="31"/>
                    </a:lnTo>
                    <a:lnTo>
                      <a:pt x="650" y="0"/>
                    </a:lnTo>
                    <a:lnTo>
                      <a:pt x="862" y="31"/>
                    </a:lnTo>
                    <a:lnTo>
                      <a:pt x="1102" y="255"/>
                    </a:lnTo>
                    <a:lnTo>
                      <a:pt x="1264" y="547"/>
                    </a:lnTo>
                    <a:lnTo>
                      <a:pt x="1346" y="767"/>
                    </a:lnTo>
                    <a:lnTo>
                      <a:pt x="1609" y="1365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920880" y="5503680"/>
                <a:ext cx="68400" cy="140760"/>
              </a:xfrm>
              <a:custGeom>
                <a:avLst/>
                <a:gdLst/>
                <a:ahLst/>
                <a:rect l="l" t="t" r="r" b="b"/>
                <a:pathLst>
                  <a:path w="829" h="1330">
                    <a:moveTo>
                      <a:pt x="548" y="586"/>
                    </a:moveTo>
                    <a:lnTo>
                      <a:pt x="484" y="464"/>
                    </a:lnTo>
                    <a:lnTo>
                      <a:pt x="394" y="360"/>
                    </a:lnTo>
                    <a:lnTo>
                      <a:pt x="304" y="286"/>
                    </a:lnTo>
                    <a:lnTo>
                      <a:pt x="205" y="235"/>
                    </a:lnTo>
                    <a:lnTo>
                      <a:pt x="156" y="226"/>
                    </a:lnTo>
                    <a:lnTo>
                      <a:pt x="221" y="374"/>
                    </a:lnTo>
                    <a:lnTo>
                      <a:pt x="359" y="554"/>
                    </a:lnTo>
                    <a:lnTo>
                      <a:pt x="516" y="694"/>
                    </a:lnTo>
                    <a:lnTo>
                      <a:pt x="714" y="835"/>
                    </a:lnTo>
                    <a:lnTo>
                      <a:pt x="745" y="851"/>
                    </a:lnTo>
                    <a:lnTo>
                      <a:pt x="829" y="1100"/>
                    </a:lnTo>
                    <a:lnTo>
                      <a:pt x="756" y="1158"/>
                    </a:lnTo>
                    <a:lnTo>
                      <a:pt x="809" y="1330"/>
                    </a:lnTo>
                    <a:lnTo>
                      <a:pt x="631" y="1305"/>
                    </a:lnTo>
                    <a:lnTo>
                      <a:pt x="703" y="1275"/>
                    </a:lnTo>
                    <a:lnTo>
                      <a:pt x="590" y="1127"/>
                    </a:lnTo>
                    <a:lnTo>
                      <a:pt x="304" y="1013"/>
                    </a:lnTo>
                    <a:lnTo>
                      <a:pt x="128" y="888"/>
                    </a:lnTo>
                    <a:lnTo>
                      <a:pt x="82" y="851"/>
                    </a:lnTo>
                    <a:lnTo>
                      <a:pt x="106" y="923"/>
                    </a:lnTo>
                    <a:lnTo>
                      <a:pt x="179" y="1028"/>
                    </a:lnTo>
                    <a:lnTo>
                      <a:pt x="39" y="906"/>
                    </a:lnTo>
                    <a:lnTo>
                      <a:pt x="7" y="791"/>
                    </a:lnTo>
                    <a:lnTo>
                      <a:pt x="0" y="743"/>
                    </a:lnTo>
                    <a:lnTo>
                      <a:pt x="48" y="586"/>
                    </a:lnTo>
                    <a:lnTo>
                      <a:pt x="64" y="0"/>
                    </a:lnTo>
                    <a:lnTo>
                      <a:pt x="286" y="148"/>
                    </a:lnTo>
                    <a:lnTo>
                      <a:pt x="431" y="307"/>
                    </a:lnTo>
                    <a:lnTo>
                      <a:pt x="509" y="448"/>
                    </a:lnTo>
                    <a:lnTo>
                      <a:pt x="548" y="586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939240" y="5614560"/>
                <a:ext cx="48960" cy="75240"/>
              </a:xfrm>
              <a:custGeom>
                <a:avLst/>
                <a:gdLst/>
                <a:ahLst/>
                <a:rect l="l" t="t" r="r" b="b"/>
                <a:pathLst>
                  <a:path w="593" h="716">
                    <a:moveTo>
                      <a:pt x="19" y="0"/>
                    </a:moveTo>
                    <a:lnTo>
                      <a:pt x="132" y="54"/>
                    </a:lnTo>
                    <a:lnTo>
                      <a:pt x="190" y="187"/>
                    </a:lnTo>
                    <a:lnTo>
                      <a:pt x="331" y="268"/>
                    </a:lnTo>
                    <a:lnTo>
                      <a:pt x="222" y="259"/>
                    </a:lnTo>
                    <a:lnTo>
                      <a:pt x="289" y="310"/>
                    </a:lnTo>
                    <a:lnTo>
                      <a:pt x="455" y="358"/>
                    </a:lnTo>
                    <a:lnTo>
                      <a:pt x="534" y="448"/>
                    </a:lnTo>
                    <a:lnTo>
                      <a:pt x="492" y="538"/>
                    </a:lnTo>
                    <a:lnTo>
                      <a:pt x="388" y="473"/>
                    </a:lnTo>
                    <a:lnTo>
                      <a:pt x="354" y="529"/>
                    </a:lnTo>
                    <a:lnTo>
                      <a:pt x="503" y="587"/>
                    </a:lnTo>
                    <a:lnTo>
                      <a:pt x="593" y="554"/>
                    </a:lnTo>
                    <a:lnTo>
                      <a:pt x="518" y="716"/>
                    </a:lnTo>
                    <a:lnTo>
                      <a:pt x="275" y="554"/>
                    </a:lnTo>
                    <a:lnTo>
                      <a:pt x="0" y="2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993600" y="5682600"/>
                <a:ext cx="101880" cy="84600"/>
              </a:xfrm>
              <a:custGeom>
                <a:avLst/>
                <a:gdLst/>
                <a:ahLst/>
                <a:rect l="l" t="t" r="r" b="b"/>
                <a:pathLst>
                  <a:path w="1232" h="800">
                    <a:moveTo>
                      <a:pt x="141" y="141"/>
                    </a:moveTo>
                    <a:lnTo>
                      <a:pt x="188" y="171"/>
                    </a:lnTo>
                    <a:lnTo>
                      <a:pt x="215" y="0"/>
                    </a:lnTo>
                    <a:lnTo>
                      <a:pt x="282" y="254"/>
                    </a:lnTo>
                    <a:lnTo>
                      <a:pt x="248" y="325"/>
                    </a:lnTo>
                    <a:lnTo>
                      <a:pt x="575" y="435"/>
                    </a:lnTo>
                    <a:lnTo>
                      <a:pt x="764" y="595"/>
                    </a:lnTo>
                    <a:lnTo>
                      <a:pt x="1174" y="595"/>
                    </a:lnTo>
                    <a:lnTo>
                      <a:pt x="1232" y="717"/>
                    </a:lnTo>
                    <a:lnTo>
                      <a:pt x="764" y="800"/>
                    </a:lnTo>
                    <a:lnTo>
                      <a:pt x="0" y="341"/>
                    </a:lnTo>
                    <a:lnTo>
                      <a:pt x="141" y="14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1001520" y="5501160"/>
                <a:ext cx="185400" cy="205920"/>
              </a:xfrm>
              <a:custGeom>
                <a:avLst/>
                <a:gdLst/>
                <a:ahLst/>
                <a:rect l="l" t="t" r="r" b="b"/>
                <a:pathLst>
                  <a:path w="2241" h="1943">
                    <a:moveTo>
                      <a:pt x="1241" y="0"/>
                    </a:moveTo>
                    <a:lnTo>
                      <a:pt x="1308" y="277"/>
                    </a:lnTo>
                    <a:lnTo>
                      <a:pt x="1314" y="623"/>
                    </a:lnTo>
                    <a:lnTo>
                      <a:pt x="1250" y="1053"/>
                    </a:lnTo>
                    <a:lnTo>
                      <a:pt x="1133" y="1404"/>
                    </a:lnTo>
                    <a:lnTo>
                      <a:pt x="1232" y="1496"/>
                    </a:lnTo>
                    <a:lnTo>
                      <a:pt x="1035" y="1559"/>
                    </a:lnTo>
                    <a:lnTo>
                      <a:pt x="674" y="1519"/>
                    </a:lnTo>
                    <a:lnTo>
                      <a:pt x="248" y="1528"/>
                    </a:lnTo>
                    <a:lnTo>
                      <a:pt x="0" y="1544"/>
                    </a:lnTo>
                    <a:lnTo>
                      <a:pt x="149" y="1722"/>
                    </a:lnTo>
                    <a:lnTo>
                      <a:pt x="1133" y="1803"/>
                    </a:lnTo>
                    <a:lnTo>
                      <a:pt x="1815" y="1943"/>
                    </a:lnTo>
                    <a:lnTo>
                      <a:pt x="1898" y="1886"/>
                    </a:lnTo>
                    <a:lnTo>
                      <a:pt x="1802" y="1812"/>
                    </a:lnTo>
                    <a:lnTo>
                      <a:pt x="1872" y="1748"/>
                    </a:lnTo>
                    <a:lnTo>
                      <a:pt x="2013" y="1722"/>
                    </a:lnTo>
                    <a:lnTo>
                      <a:pt x="2241" y="1739"/>
                    </a:lnTo>
                    <a:lnTo>
                      <a:pt x="2064" y="1634"/>
                    </a:lnTo>
                    <a:lnTo>
                      <a:pt x="1956" y="1501"/>
                    </a:lnTo>
                    <a:lnTo>
                      <a:pt x="1965" y="1404"/>
                    </a:lnTo>
                    <a:lnTo>
                      <a:pt x="2151" y="1307"/>
                    </a:lnTo>
                    <a:lnTo>
                      <a:pt x="2202" y="1168"/>
                    </a:lnTo>
                    <a:lnTo>
                      <a:pt x="2103" y="1215"/>
                    </a:lnTo>
                    <a:lnTo>
                      <a:pt x="1995" y="1210"/>
                    </a:lnTo>
                    <a:lnTo>
                      <a:pt x="1971" y="1168"/>
                    </a:lnTo>
                    <a:lnTo>
                      <a:pt x="2064" y="1075"/>
                    </a:lnTo>
                    <a:lnTo>
                      <a:pt x="1979" y="1071"/>
                    </a:lnTo>
                    <a:lnTo>
                      <a:pt x="1988" y="972"/>
                    </a:lnTo>
                    <a:lnTo>
                      <a:pt x="2028" y="832"/>
                    </a:lnTo>
                    <a:lnTo>
                      <a:pt x="2120" y="876"/>
                    </a:lnTo>
                    <a:lnTo>
                      <a:pt x="2151" y="963"/>
                    </a:lnTo>
                    <a:lnTo>
                      <a:pt x="2186" y="840"/>
                    </a:lnTo>
                    <a:lnTo>
                      <a:pt x="2145" y="537"/>
                    </a:lnTo>
                    <a:lnTo>
                      <a:pt x="2168" y="311"/>
                    </a:lnTo>
                    <a:lnTo>
                      <a:pt x="2094" y="645"/>
                    </a:lnTo>
                    <a:lnTo>
                      <a:pt x="1979" y="816"/>
                    </a:lnTo>
                    <a:lnTo>
                      <a:pt x="1760" y="1134"/>
                    </a:lnTo>
                    <a:lnTo>
                      <a:pt x="1608" y="1282"/>
                    </a:lnTo>
                    <a:lnTo>
                      <a:pt x="1398" y="1422"/>
                    </a:lnTo>
                    <a:lnTo>
                      <a:pt x="1331" y="1429"/>
                    </a:lnTo>
                    <a:lnTo>
                      <a:pt x="1398" y="1307"/>
                    </a:lnTo>
                    <a:lnTo>
                      <a:pt x="1430" y="1111"/>
                    </a:lnTo>
                    <a:lnTo>
                      <a:pt x="1446" y="800"/>
                    </a:lnTo>
                    <a:lnTo>
                      <a:pt x="1430" y="521"/>
                    </a:lnTo>
                    <a:lnTo>
                      <a:pt x="1398" y="269"/>
                    </a:lnTo>
                    <a:lnTo>
                      <a:pt x="1349" y="113"/>
                    </a:lnTo>
                    <a:lnTo>
                      <a:pt x="1241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1156320" y="5712120"/>
                <a:ext cx="46800" cy="37080"/>
              </a:xfrm>
              <a:custGeom>
                <a:avLst/>
                <a:gdLst/>
                <a:ahLst/>
                <a:rect l="l" t="t" r="r" b="b"/>
                <a:pathLst>
                  <a:path w="567" h="351">
                    <a:moveTo>
                      <a:pt x="129" y="0"/>
                    </a:moveTo>
                    <a:lnTo>
                      <a:pt x="198" y="72"/>
                    </a:lnTo>
                    <a:lnTo>
                      <a:pt x="173" y="162"/>
                    </a:lnTo>
                    <a:lnTo>
                      <a:pt x="237" y="114"/>
                    </a:lnTo>
                    <a:lnTo>
                      <a:pt x="261" y="251"/>
                    </a:lnTo>
                    <a:lnTo>
                      <a:pt x="355" y="169"/>
                    </a:lnTo>
                    <a:lnTo>
                      <a:pt x="426" y="219"/>
                    </a:lnTo>
                    <a:lnTo>
                      <a:pt x="375" y="268"/>
                    </a:lnTo>
                    <a:lnTo>
                      <a:pt x="417" y="327"/>
                    </a:lnTo>
                    <a:lnTo>
                      <a:pt x="507" y="309"/>
                    </a:lnTo>
                    <a:lnTo>
                      <a:pt x="567" y="351"/>
                    </a:lnTo>
                    <a:lnTo>
                      <a:pt x="204" y="351"/>
                    </a:lnTo>
                    <a:lnTo>
                      <a:pt x="0" y="196"/>
                    </a:lnTo>
                    <a:lnTo>
                      <a:pt x="23" y="37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1174680" y="5644440"/>
                <a:ext cx="12960" cy="20880"/>
              </a:xfrm>
              <a:custGeom>
                <a:avLst/>
                <a:gdLst/>
                <a:ahLst/>
                <a:rect l="l" t="t" r="r" b="b"/>
                <a:pathLst>
                  <a:path w="156" h="200">
                    <a:moveTo>
                      <a:pt x="0" y="79"/>
                    </a:moveTo>
                    <a:lnTo>
                      <a:pt x="81" y="79"/>
                    </a:lnTo>
                    <a:lnTo>
                      <a:pt x="74" y="137"/>
                    </a:lnTo>
                    <a:lnTo>
                      <a:pt x="18" y="128"/>
                    </a:lnTo>
                    <a:lnTo>
                      <a:pt x="127" y="200"/>
                    </a:lnTo>
                    <a:lnTo>
                      <a:pt x="156" y="0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1077840" y="5699520"/>
                <a:ext cx="80280" cy="65880"/>
              </a:xfrm>
              <a:custGeom>
                <a:avLst/>
                <a:gdLst/>
                <a:ahLst/>
                <a:rect l="l" t="t" r="r" b="b"/>
                <a:pathLst>
                  <a:path w="966" h="621">
                    <a:moveTo>
                      <a:pt x="0" y="237"/>
                    </a:moveTo>
                    <a:lnTo>
                      <a:pt x="70" y="310"/>
                    </a:lnTo>
                    <a:lnTo>
                      <a:pt x="138" y="432"/>
                    </a:lnTo>
                    <a:lnTo>
                      <a:pt x="171" y="545"/>
                    </a:lnTo>
                    <a:lnTo>
                      <a:pt x="303" y="621"/>
                    </a:lnTo>
                    <a:lnTo>
                      <a:pt x="484" y="596"/>
                    </a:lnTo>
                    <a:lnTo>
                      <a:pt x="681" y="561"/>
                    </a:lnTo>
                    <a:lnTo>
                      <a:pt x="966" y="450"/>
                    </a:lnTo>
                    <a:lnTo>
                      <a:pt x="966" y="220"/>
                    </a:lnTo>
                    <a:lnTo>
                      <a:pt x="910" y="81"/>
                    </a:lnTo>
                    <a:lnTo>
                      <a:pt x="562" y="0"/>
                    </a:lnTo>
                    <a:lnTo>
                      <a:pt x="244" y="160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1067400" y="5520600"/>
                <a:ext cx="10440" cy="11880"/>
              </a:xfrm>
              <a:custGeom>
                <a:avLst/>
                <a:gdLst/>
                <a:ahLst/>
                <a:rect l="l" t="t" r="r" b="b"/>
                <a:pathLst>
                  <a:path w="125" h="113">
                    <a:moveTo>
                      <a:pt x="90" y="0"/>
                    </a:moveTo>
                    <a:lnTo>
                      <a:pt x="33" y="14"/>
                    </a:lnTo>
                    <a:lnTo>
                      <a:pt x="0" y="69"/>
                    </a:lnTo>
                    <a:lnTo>
                      <a:pt x="42" y="113"/>
                    </a:lnTo>
                    <a:lnTo>
                      <a:pt x="99" y="113"/>
                    </a:lnTo>
                    <a:lnTo>
                      <a:pt x="125" y="78"/>
                    </a:lnTo>
                    <a:lnTo>
                      <a:pt x="125" y="3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1076760" y="5595120"/>
                <a:ext cx="7200" cy="9360"/>
              </a:xfrm>
              <a:custGeom>
                <a:avLst/>
                <a:gdLst/>
                <a:ahLst/>
                <a:rect l="l" t="t" r="r" b="b"/>
                <a:pathLst>
                  <a:path w="88" h="94">
                    <a:moveTo>
                      <a:pt x="82" y="21"/>
                    </a:moveTo>
                    <a:lnTo>
                      <a:pt x="55" y="0"/>
                    </a:lnTo>
                    <a:lnTo>
                      <a:pt x="7" y="12"/>
                    </a:lnTo>
                    <a:lnTo>
                      <a:pt x="0" y="69"/>
                    </a:lnTo>
                    <a:lnTo>
                      <a:pt x="42" y="94"/>
                    </a:lnTo>
                    <a:lnTo>
                      <a:pt x="88" y="69"/>
                    </a:lnTo>
                    <a:lnTo>
                      <a:pt x="82" y="21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1014840" y="5302440"/>
                <a:ext cx="95400" cy="212760"/>
              </a:xfrm>
              <a:custGeom>
                <a:avLst/>
                <a:gdLst/>
                <a:ahLst/>
                <a:rect l="l" t="t" r="r" b="b"/>
                <a:pathLst>
                  <a:path w="1157" h="2007">
                    <a:moveTo>
                      <a:pt x="35" y="1688"/>
                    </a:moveTo>
                    <a:lnTo>
                      <a:pt x="95" y="1780"/>
                    </a:lnTo>
                    <a:lnTo>
                      <a:pt x="251" y="1881"/>
                    </a:lnTo>
                    <a:lnTo>
                      <a:pt x="411" y="1937"/>
                    </a:lnTo>
                    <a:lnTo>
                      <a:pt x="596" y="1976"/>
                    </a:lnTo>
                    <a:lnTo>
                      <a:pt x="789" y="2007"/>
                    </a:lnTo>
                    <a:lnTo>
                      <a:pt x="895" y="1971"/>
                    </a:lnTo>
                    <a:lnTo>
                      <a:pt x="945" y="1911"/>
                    </a:lnTo>
                    <a:lnTo>
                      <a:pt x="956" y="1766"/>
                    </a:lnTo>
                    <a:lnTo>
                      <a:pt x="915" y="1577"/>
                    </a:lnTo>
                    <a:lnTo>
                      <a:pt x="875" y="1422"/>
                    </a:lnTo>
                    <a:lnTo>
                      <a:pt x="961" y="1317"/>
                    </a:lnTo>
                    <a:lnTo>
                      <a:pt x="1055" y="1143"/>
                    </a:lnTo>
                    <a:lnTo>
                      <a:pt x="1093" y="1009"/>
                    </a:lnTo>
                    <a:lnTo>
                      <a:pt x="1148" y="772"/>
                    </a:lnTo>
                    <a:lnTo>
                      <a:pt x="1157" y="648"/>
                    </a:lnTo>
                    <a:lnTo>
                      <a:pt x="1157" y="480"/>
                    </a:lnTo>
                    <a:lnTo>
                      <a:pt x="1125" y="231"/>
                    </a:lnTo>
                    <a:lnTo>
                      <a:pt x="994" y="14"/>
                    </a:lnTo>
                    <a:lnTo>
                      <a:pt x="411" y="0"/>
                    </a:lnTo>
                    <a:lnTo>
                      <a:pt x="129" y="378"/>
                    </a:lnTo>
                    <a:lnTo>
                      <a:pt x="0" y="576"/>
                    </a:lnTo>
                    <a:lnTo>
                      <a:pt x="5" y="733"/>
                    </a:lnTo>
                    <a:lnTo>
                      <a:pt x="69" y="1056"/>
                    </a:lnTo>
                    <a:lnTo>
                      <a:pt x="23" y="1568"/>
                    </a:lnTo>
                    <a:lnTo>
                      <a:pt x="35" y="1688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1019520" y="5393520"/>
                <a:ext cx="10440" cy="24480"/>
              </a:xfrm>
              <a:custGeom>
                <a:avLst/>
                <a:gdLst/>
                <a:ahLst/>
                <a:rect l="l" t="t" r="r" b="b"/>
                <a:pathLst>
                  <a:path w="129" h="233">
                    <a:moveTo>
                      <a:pt x="33" y="12"/>
                    </a:moveTo>
                    <a:lnTo>
                      <a:pt x="67" y="0"/>
                    </a:lnTo>
                    <a:lnTo>
                      <a:pt x="101" y="25"/>
                    </a:lnTo>
                    <a:lnTo>
                      <a:pt x="129" y="79"/>
                    </a:lnTo>
                    <a:lnTo>
                      <a:pt x="123" y="194"/>
                    </a:lnTo>
                    <a:lnTo>
                      <a:pt x="81" y="233"/>
                    </a:lnTo>
                    <a:lnTo>
                      <a:pt x="0" y="194"/>
                    </a:lnTo>
                    <a:lnTo>
                      <a:pt x="0" y="95"/>
                    </a:lnTo>
                    <a:lnTo>
                      <a:pt x="33" y="12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1105920" y="540000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4" h="123">
                    <a:moveTo>
                      <a:pt x="24" y="0"/>
                    </a:moveTo>
                    <a:lnTo>
                      <a:pt x="0" y="123"/>
                    </a:lnTo>
                    <a:lnTo>
                      <a:pt x="28" y="121"/>
                    </a:lnTo>
                    <a:lnTo>
                      <a:pt x="44" y="88"/>
                    </a:lnTo>
                    <a:lnTo>
                      <a:pt x="39" y="4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629640" y="5488200"/>
                <a:ext cx="433440" cy="410400"/>
              </a:xfrm>
              <a:custGeom>
                <a:avLst/>
                <a:gdLst/>
                <a:ahLst/>
                <a:rect l="l" t="t" r="r" b="b"/>
                <a:pathLst>
                  <a:path w="5233" h="3878">
                    <a:moveTo>
                      <a:pt x="4452" y="3024"/>
                    </a:moveTo>
                    <a:lnTo>
                      <a:pt x="4030" y="2787"/>
                    </a:lnTo>
                    <a:lnTo>
                      <a:pt x="3672" y="2893"/>
                    </a:lnTo>
                    <a:lnTo>
                      <a:pt x="3525" y="2812"/>
                    </a:lnTo>
                    <a:lnTo>
                      <a:pt x="3052" y="2393"/>
                    </a:lnTo>
                    <a:lnTo>
                      <a:pt x="2947" y="3010"/>
                    </a:lnTo>
                    <a:lnTo>
                      <a:pt x="3131" y="3089"/>
                    </a:lnTo>
                    <a:lnTo>
                      <a:pt x="3356" y="2999"/>
                    </a:lnTo>
                    <a:lnTo>
                      <a:pt x="3608" y="3076"/>
                    </a:lnTo>
                    <a:lnTo>
                      <a:pt x="3790" y="3063"/>
                    </a:lnTo>
                    <a:lnTo>
                      <a:pt x="4318" y="3052"/>
                    </a:lnTo>
                    <a:lnTo>
                      <a:pt x="4468" y="3234"/>
                    </a:lnTo>
                    <a:lnTo>
                      <a:pt x="4410" y="3612"/>
                    </a:lnTo>
                    <a:lnTo>
                      <a:pt x="4336" y="3681"/>
                    </a:lnTo>
                    <a:lnTo>
                      <a:pt x="3845" y="3681"/>
                    </a:lnTo>
                    <a:lnTo>
                      <a:pt x="1901" y="3878"/>
                    </a:lnTo>
                    <a:lnTo>
                      <a:pt x="11" y="3654"/>
                    </a:lnTo>
                    <a:lnTo>
                      <a:pt x="0" y="1987"/>
                    </a:lnTo>
                    <a:lnTo>
                      <a:pt x="103" y="1510"/>
                    </a:lnTo>
                    <a:lnTo>
                      <a:pt x="304" y="1037"/>
                    </a:lnTo>
                    <a:lnTo>
                      <a:pt x="408" y="892"/>
                    </a:lnTo>
                    <a:lnTo>
                      <a:pt x="685" y="590"/>
                    </a:lnTo>
                    <a:lnTo>
                      <a:pt x="975" y="394"/>
                    </a:lnTo>
                    <a:lnTo>
                      <a:pt x="1213" y="248"/>
                    </a:lnTo>
                    <a:lnTo>
                      <a:pt x="1466" y="145"/>
                    </a:lnTo>
                    <a:lnTo>
                      <a:pt x="1572" y="0"/>
                    </a:lnTo>
                    <a:lnTo>
                      <a:pt x="2604" y="343"/>
                    </a:lnTo>
                    <a:lnTo>
                      <a:pt x="2747" y="514"/>
                    </a:lnTo>
                    <a:lnTo>
                      <a:pt x="2947" y="643"/>
                    </a:lnTo>
                    <a:lnTo>
                      <a:pt x="3172" y="828"/>
                    </a:lnTo>
                    <a:lnTo>
                      <a:pt x="3474" y="1210"/>
                    </a:lnTo>
                    <a:lnTo>
                      <a:pt x="4307" y="1995"/>
                    </a:lnTo>
                    <a:lnTo>
                      <a:pt x="4491" y="2079"/>
                    </a:lnTo>
                    <a:lnTo>
                      <a:pt x="4544" y="2236"/>
                    </a:lnTo>
                    <a:lnTo>
                      <a:pt x="4956" y="2340"/>
                    </a:lnTo>
                    <a:lnTo>
                      <a:pt x="5140" y="2551"/>
                    </a:lnTo>
                    <a:lnTo>
                      <a:pt x="5233" y="2812"/>
                    </a:lnTo>
                    <a:lnTo>
                      <a:pt x="4452" y="3024"/>
                    </a:lnTo>
                    <a:close/>
                  </a:path>
                </a:pathLst>
              </a:custGeom>
              <a:solidFill>
                <a:srgbClr val="00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1063440" y="5716440"/>
                <a:ext cx="66960" cy="134640"/>
              </a:xfrm>
              <a:custGeom>
                <a:avLst/>
                <a:gdLst/>
                <a:ahLst/>
                <a:rect l="l" t="t" r="r" b="b"/>
                <a:pathLst>
                  <a:path w="803" h="1268">
                    <a:moveTo>
                      <a:pt x="0" y="23"/>
                    </a:moveTo>
                    <a:lnTo>
                      <a:pt x="0" y="44"/>
                    </a:lnTo>
                    <a:lnTo>
                      <a:pt x="12" y="69"/>
                    </a:lnTo>
                    <a:lnTo>
                      <a:pt x="708" y="1183"/>
                    </a:lnTo>
                    <a:lnTo>
                      <a:pt x="803" y="1268"/>
                    </a:lnTo>
                    <a:lnTo>
                      <a:pt x="759" y="1139"/>
                    </a:lnTo>
                    <a:lnTo>
                      <a:pt x="61" y="5"/>
                    </a:lnTo>
                    <a:lnTo>
                      <a:pt x="19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1013040" y="5774040"/>
                <a:ext cx="100080" cy="81000"/>
              </a:xfrm>
              <a:custGeom>
                <a:avLst/>
                <a:gdLst/>
                <a:ahLst/>
                <a:rect l="l" t="t" r="r" b="b"/>
                <a:pathLst>
                  <a:path w="1202" h="775">
                    <a:moveTo>
                      <a:pt x="0" y="289"/>
                    </a:moveTo>
                    <a:lnTo>
                      <a:pt x="63" y="132"/>
                    </a:lnTo>
                    <a:lnTo>
                      <a:pt x="182" y="66"/>
                    </a:lnTo>
                    <a:lnTo>
                      <a:pt x="287" y="81"/>
                    </a:lnTo>
                    <a:lnTo>
                      <a:pt x="487" y="118"/>
                    </a:lnTo>
                    <a:lnTo>
                      <a:pt x="607" y="28"/>
                    </a:lnTo>
                    <a:lnTo>
                      <a:pt x="709" y="0"/>
                    </a:lnTo>
                    <a:lnTo>
                      <a:pt x="1147" y="66"/>
                    </a:lnTo>
                    <a:lnTo>
                      <a:pt x="1188" y="171"/>
                    </a:lnTo>
                    <a:lnTo>
                      <a:pt x="1135" y="199"/>
                    </a:lnTo>
                    <a:lnTo>
                      <a:pt x="793" y="224"/>
                    </a:lnTo>
                    <a:lnTo>
                      <a:pt x="1162" y="382"/>
                    </a:lnTo>
                    <a:lnTo>
                      <a:pt x="1202" y="475"/>
                    </a:lnTo>
                    <a:lnTo>
                      <a:pt x="1174" y="552"/>
                    </a:lnTo>
                    <a:lnTo>
                      <a:pt x="1068" y="630"/>
                    </a:lnTo>
                    <a:lnTo>
                      <a:pt x="1029" y="738"/>
                    </a:lnTo>
                    <a:lnTo>
                      <a:pt x="709" y="775"/>
                    </a:lnTo>
                    <a:lnTo>
                      <a:pt x="130" y="710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754560" y="5375520"/>
                <a:ext cx="135720" cy="202680"/>
              </a:xfrm>
              <a:custGeom>
                <a:avLst/>
                <a:gdLst/>
                <a:ahLst/>
                <a:rect l="l" t="t" r="r" b="b"/>
                <a:pathLst>
                  <a:path w="1639" h="1907">
                    <a:moveTo>
                      <a:pt x="0" y="538"/>
                    </a:moveTo>
                    <a:lnTo>
                      <a:pt x="53" y="850"/>
                    </a:lnTo>
                    <a:lnTo>
                      <a:pt x="73" y="949"/>
                    </a:lnTo>
                    <a:lnTo>
                      <a:pt x="127" y="1008"/>
                    </a:lnTo>
                    <a:lnTo>
                      <a:pt x="99" y="1109"/>
                    </a:lnTo>
                    <a:lnTo>
                      <a:pt x="154" y="1217"/>
                    </a:lnTo>
                    <a:lnTo>
                      <a:pt x="207" y="1305"/>
                    </a:lnTo>
                    <a:lnTo>
                      <a:pt x="272" y="1409"/>
                    </a:lnTo>
                    <a:lnTo>
                      <a:pt x="495" y="1599"/>
                    </a:lnTo>
                    <a:lnTo>
                      <a:pt x="784" y="1907"/>
                    </a:lnTo>
                    <a:lnTo>
                      <a:pt x="822" y="1859"/>
                    </a:lnTo>
                    <a:lnTo>
                      <a:pt x="881" y="1736"/>
                    </a:lnTo>
                    <a:lnTo>
                      <a:pt x="905" y="1598"/>
                    </a:lnTo>
                    <a:lnTo>
                      <a:pt x="1030" y="1630"/>
                    </a:lnTo>
                    <a:lnTo>
                      <a:pt x="1155" y="1617"/>
                    </a:lnTo>
                    <a:lnTo>
                      <a:pt x="1213" y="1584"/>
                    </a:lnTo>
                    <a:lnTo>
                      <a:pt x="1270" y="1522"/>
                    </a:lnTo>
                    <a:lnTo>
                      <a:pt x="1429" y="1179"/>
                    </a:lnTo>
                    <a:lnTo>
                      <a:pt x="1510" y="1077"/>
                    </a:lnTo>
                    <a:lnTo>
                      <a:pt x="1572" y="905"/>
                    </a:lnTo>
                    <a:lnTo>
                      <a:pt x="1586" y="718"/>
                    </a:lnTo>
                    <a:lnTo>
                      <a:pt x="1618" y="632"/>
                    </a:lnTo>
                    <a:lnTo>
                      <a:pt x="1635" y="575"/>
                    </a:lnTo>
                    <a:lnTo>
                      <a:pt x="1639" y="261"/>
                    </a:lnTo>
                    <a:lnTo>
                      <a:pt x="1609" y="118"/>
                    </a:lnTo>
                    <a:lnTo>
                      <a:pt x="1540" y="0"/>
                    </a:lnTo>
                    <a:lnTo>
                      <a:pt x="207" y="155"/>
                    </a:lnTo>
                    <a:lnTo>
                      <a:pt x="0" y="538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812880" y="5586480"/>
                <a:ext cx="30240" cy="204120"/>
              </a:xfrm>
              <a:custGeom>
                <a:avLst/>
                <a:gdLst/>
                <a:ahLst/>
                <a:rect l="l" t="t" r="r" b="b"/>
                <a:pathLst>
                  <a:path w="369" h="1920">
                    <a:moveTo>
                      <a:pt x="92" y="0"/>
                    </a:moveTo>
                    <a:lnTo>
                      <a:pt x="40" y="52"/>
                    </a:lnTo>
                    <a:lnTo>
                      <a:pt x="0" y="142"/>
                    </a:lnTo>
                    <a:lnTo>
                      <a:pt x="27" y="313"/>
                    </a:lnTo>
                    <a:lnTo>
                      <a:pt x="14" y="973"/>
                    </a:lnTo>
                    <a:lnTo>
                      <a:pt x="40" y="1433"/>
                    </a:lnTo>
                    <a:lnTo>
                      <a:pt x="119" y="1920"/>
                    </a:lnTo>
                    <a:lnTo>
                      <a:pt x="200" y="1920"/>
                    </a:lnTo>
                    <a:lnTo>
                      <a:pt x="319" y="1920"/>
                    </a:lnTo>
                    <a:lnTo>
                      <a:pt x="369" y="1841"/>
                    </a:lnTo>
                    <a:lnTo>
                      <a:pt x="263" y="1498"/>
                    </a:lnTo>
                    <a:lnTo>
                      <a:pt x="212" y="1169"/>
                    </a:lnTo>
                    <a:lnTo>
                      <a:pt x="200" y="776"/>
                    </a:lnTo>
                    <a:lnTo>
                      <a:pt x="159" y="313"/>
                    </a:lnTo>
                    <a:lnTo>
                      <a:pt x="185" y="211"/>
                    </a:lnTo>
                    <a:lnTo>
                      <a:pt x="159" y="66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828000" y="5323680"/>
                <a:ext cx="75600" cy="99000"/>
              </a:xfrm>
              <a:custGeom>
                <a:avLst/>
                <a:gdLst/>
                <a:ahLst/>
                <a:rect l="l" t="t" r="r" b="b"/>
                <a:pathLst>
                  <a:path w="914" h="936">
                    <a:moveTo>
                      <a:pt x="635" y="499"/>
                    </a:moveTo>
                    <a:lnTo>
                      <a:pt x="714" y="607"/>
                    </a:lnTo>
                    <a:lnTo>
                      <a:pt x="844" y="936"/>
                    </a:lnTo>
                    <a:lnTo>
                      <a:pt x="899" y="855"/>
                    </a:lnTo>
                    <a:lnTo>
                      <a:pt x="914" y="581"/>
                    </a:lnTo>
                    <a:lnTo>
                      <a:pt x="914" y="510"/>
                    </a:lnTo>
                    <a:lnTo>
                      <a:pt x="859" y="462"/>
                    </a:lnTo>
                    <a:lnTo>
                      <a:pt x="767" y="381"/>
                    </a:lnTo>
                    <a:lnTo>
                      <a:pt x="686" y="224"/>
                    </a:lnTo>
                    <a:lnTo>
                      <a:pt x="541" y="79"/>
                    </a:lnTo>
                    <a:lnTo>
                      <a:pt x="356" y="40"/>
                    </a:lnTo>
                    <a:lnTo>
                      <a:pt x="145" y="0"/>
                    </a:lnTo>
                    <a:lnTo>
                      <a:pt x="0" y="51"/>
                    </a:lnTo>
                    <a:lnTo>
                      <a:pt x="15" y="593"/>
                    </a:lnTo>
                    <a:lnTo>
                      <a:pt x="635" y="499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819360" y="5430600"/>
                <a:ext cx="20160" cy="10080"/>
              </a:xfrm>
              <a:custGeom>
                <a:avLst/>
                <a:gdLst/>
                <a:ahLst/>
                <a:rect l="l" t="t" r="r" b="b"/>
                <a:pathLst>
                  <a:path w="251" h="93">
                    <a:moveTo>
                      <a:pt x="0" y="55"/>
                    </a:moveTo>
                    <a:lnTo>
                      <a:pt x="147" y="70"/>
                    </a:lnTo>
                    <a:lnTo>
                      <a:pt x="251" y="93"/>
                    </a:lnTo>
                    <a:lnTo>
                      <a:pt x="196" y="0"/>
                    </a:lnTo>
                    <a:lnTo>
                      <a:pt x="53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866520" y="5442480"/>
                <a:ext cx="15120" cy="11520"/>
              </a:xfrm>
              <a:custGeom>
                <a:avLst/>
                <a:gdLst/>
                <a:ahLst/>
                <a:rect l="l" t="t" r="r" b="b"/>
                <a:pathLst>
                  <a:path w="183" h="119">
                    <a:moveTo>
                      <a:pt x="0" y="66"/>
                    </a:moveTo>
                    <a:lnTo>
                      <a:pt x="106" y="119"/>
                    </a:lnTo>
                    <a:lnTo>
                      <a:pt x="183" y="105"/>
                    </a:lnTo>
                    <a:lnTo>
                      <a:pt x="172" y="77"/>
                    </a:lnTo>
                    <a:lnTo>
                      <a:pt x="37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1044720" y="536940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18" h="86">
                    <a:moveTo>
                      <a:pt x="0" y="14"/>
                    </a:moveTo>
                    <a:lnTo>
                      <a:pt x="62" y="60"/>
                    </a:lnTo>
                    <a:lnTo>
                      <a:pt x="97" y="86"/>
                    </a:lnTo>
                    <a:lnTo>
                      <a:pt x="181" y="86"/>
                    </a:lnTo>
                    <a:lnTo>
                      <a:pt x="218" y="58"/>
                    </a:lnTo>
                    <a:lnTo>
                      <a:pt x="177" y="9"/>
                    </a:lnTo>
                    <a:lnTo>
                      <a:pt x="103" y="0"/>
                    </a:lnTo>
                    <a:lnTo>
                      <a:pt x="20" y="9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1083960" y="5373000"/>
                <a:ext cx="17640" cy="8280"/>
              </a:xfrm>
              <a:custGeom>
                <a:avLst/>
                <a:gdLst/>
                <a:ahLst/>
                <a:rect l="l" t="t" r="r" b="b"/>
                <a:pathLst>
                  <a:path w="216" h="83">
                    <a:moveTo>
                      <a:pt x="0" y="48"/>
                    </a:moveTo>
                    <a:lnTo>
                      <a:pt x="50" y="7"/>
                    </a:lnTo>
                    <a:lnTo>
                      <a:pt x="130" y="0"/>
                    </a:lnTo>
                    <a:lnTo>
                      <a:pt x="216" y="35"/>
                    </a:lnTo>
                    <a:lnTo>
                      <a:pt x="163" y="66"/>
                    </a:lnTo>
                    <a:lnTo>
                      <a:pt x="121" y="81"/>
                    </a:lnTo>
                    <a:lnTo>
                      <a:pt x="75" y="83"/>
                    </a:lnTo>
                    <a:lnTo>
                      <a:pt x="18" y="62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1057320" y="5424840"/>
                <a:ext cx="28080" cy="7560"/>
              </a:xfrm>
              <a:custGeom>
                <a:avLst/>
                <a:gdLst/>
                <a:ahLst/>
                <a:rect l="l" t="t" r="r" b="b"/>
                <a:pathLst>
                  <a:path w="350" h="67">
                    <a:moveTo>
                      <a:pt x="0" y="4"/>
                    </a:moveTo>
                    <a:lnTo>
                      <a:pt x="82" y="50"/>
                    </a:lnTo>
                    <a:lnTo>
                      <a:pt x="203" y="67"/>
                    </a:lnTo>
                    <a:lnTo>
                      <a:pt x="260" y="65"/>
                    </a:lnTo>
                    <a:lnTo>
                      <a:pt x="299" y="46"/>
                    </a:lnTo>
                    <a:lnTo>
                      <a:pt x="332" y="21"/>
                    </a:lnTo>
                    <a:lnTo>
                      <a:pt x="350" y="0"/>
                    </a:lnTo>
                    <a:lnTo>
                      <a:pt x="249" y="6"/>
                    </a:lnTo>
                    <a:lnTo>
                      <a:pt x="194" y="14"/>
                    </a:lnTo>
                    <a:lnTo>
                      <a:pt x="108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1537920" y="5455440"/>
                <a:ext cx="391680" cy="442440"/>
              </a:xfrm>
              <a:custGeom>
                <a:avLst/>
                <a:gdLst/>
                <a:ahLst/>
                <a:rect l="l" t="t" r="r" b="b"/>
                <a:pathLst>
                  <a:path w="4729" h="4178">
                    <a:moveTo>
                      <a:pt x="602" y="3182"/>
                    </a:moveTo>
                    <a:lnTo>
                      <a:pt x="1411" y="2760"/>
                    </a:lnTo>
                    <a:lnTo>
                      <a:pt x="1677" y="2463"/>
                    </a:lnTo>
                    <a:lnTo>
                      <a:pt x="1928" y="3087"/>
                    </a:lnTo>
                    <a:lnTo>
                      <a:pt x="1940" y="3300"/>
                    </a:lnTo>
                    <a:lnTo>
                      <a:pt x="1846" y="3325"/>
                    </a:lnTo>
                    <a:lnTo>
                      <a:pt x="1640" y="3288"/>
                    </a:lnTo>
                    <a:lnTo>
                      <a:pt x="1486" y="3279"/>
                    </a:lnTo>
                    <a:lnTo>
                      <a:pt x="1398" y="3241"/>
                    </a:lnTo>
                    <a:lnTo>
                      <a:pt x="1218" y="3265"/>
                    </a:lnTo>
                    <a:lnTo>
                      <a:pt x="1050" y="3230"/>
                    </a:lnTo>
                    <a:lnTo>
                      <a:pt x="844" y="3168"/>
                    </a:lnTo>
                    <a:lnTo>
                      <a:pt x="672" y="3254"/>
                    </a:lnTo>
                    <a:lnTo>
                      <a:pt x="541" y="3491"/>
                    </a:lnTo>
                    <a:lnTo>
                      <a:pt x="640" y="3841"/>
                    </a:lnTo>
                    <a:lnTo>
                      <a:pt x="1070" y="3903"/>
                    </a:lnTo>
                    <a:lnTo>
                      <a:pt x="1640" y="4032"/>
                    </a:lnTo>
                    <a:lnTo>
                      <a:pt x="2013" y="4139"/>
                    </a:lnTo>
                    <a:lnTo>
                      <a:pt x="2919" y="4178"/>
                    </a:lnTo>
                    <a:lnTo>
                      <a:pt x="3270" y="4153"/>
                    </a:lnTo>
                    <a:lnTo>
                      <a:pt x="3620" y="4056"/>
                    </a:lnTo>
                    <a:lnTo>
                      <a:pt x="4667" y="2951"/>
                    </a:lnTo>
                    <a:lnTo>
                      <a:pt x="4729" y="1824"/>
                    </a:lnTo>
                    <a:lnTo>
                      <a:pt x="4584" y="1298"/>
                    </a:lnTo>
                    <a:lnTo>
                      <a:pt x="4425" y="1019"/>
                    </a:lnTo>
                    <a:lnTo>
                      <a:pt x="4138" y="639"/>
                    </a:lnTo>
                    <a:lnTo>
                      <a:pt x="3595" y="384"/>
                    </a:lnTo>
                    <a:lnTo>
                      <a:pt x="3450" y="422"/>
                    </a:lnTo>
                    <a:lnTo>
                      <a:pt x="3342" y="362"/>
                    </a:lnTo>
                    <a:lnTo>
                      <a:pt x="3256" y="194"/>
                    </a:lnTo>
                    <a:lnTo>
                      <a:pt x="3053" y="121"/>
                    </a:lnTo>
                    <a:lnTo>
                      <a:pt x="2872" y="0"/>
                    </a:lnTo>
                    <a:lnTo>
                      <a:pt x="2666" y="12"/>
                    </a:lnTo>
                    <a:lnTo>
                      <a:pt x="1709" y="602"/>
                    </a:lnTo>
                    <a:lnTo>
                      <a:pt x="1558" y="720"/>
                    </a:lnTo>
                    <a:lnTo>
                      <a:pt x="1460" y="817"/>
                    </a:lnTo>
                    <a:lnTo>
                      <a:pt x="1281" y="911"/>
                    </a:lnTo>
                    <a:lnTo>
                      <a:pt x="1070" y="1503"/>
                    </a:lnTo>
                    <a:lnTo>
                      <a:pt x="1064" y="1702"/>
                    </a:lnTo>
                    <a:lnTo>
                      <a:pt x="989" y="1979"/>
                    </a:lnTo>
                    <a:lnTo>
                      <a:pt x="808" y="2039"/>
                    </a:lnTo>
                    <a:lnTo>
                      <a:pt x="723" y="2136"/>
                    </a:lnTo>
                    <a:lnTo>
                      <a:pt x="699" y="2259"/>
                    </a:lnTo>
                    <a:lnTo>
                      <a:pt x="578" y="2377"/>
                    </a:lnTo>
                    <a:lnTo>
                      <a:pt x="240" y="2606"/>
                    </a:lnTo>
                    <a:lnTo>
                      <a:pt x="0" y="2917"/>
                    </a:lnTo>
                    <a:lnTo>
                      <a:pt x="277" y="3145"/>
                    </a:lnTo>
                    <a:lnTo>
                      <a:pt x="602" y="31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1577880" y="5568840"/>
                <a:ext cx="115200" cy="230400"/>
              </a:xfrm>
              <a:custGeom>
                <a:avLst/>
                <a:gdLst/>
                <a:ahLst/>
                <a:rect l="l" t="t" r="r" b="b"/>
                <a:pathLst>
                  <a:path w="1387" h="2184">
                    <a:moveTo>
                      <a:pt x="691" y="312"/>
                    </a:moveTo>
                    <a:lnTo>
                      <a:pt x="679" y="433"/>
                    </a:lnTo>
                    <a:lnTo>
                      <a:pt x="712" y="479"/>
                    </a:lnTo>
                    <a:lnTo>
                      <a:pt x="807" y="528"/>
                    </a:lnTo>
                    <a:lnTo>
                      <a:pt x="859" y="578"/>
                    </a:lnTo>
                    <a:lnTo>
                      <a:pt x="859" y="683"/>
                    </a:lnTo>
                    <a:lnTo>
                      <a:pt x="664" y="731"/>
                    </a:lnTo>
                    <a:lnTo>
                      <a:pt x="605" y="731"/>
                    </a:lnTo>
                    <a:lnTo>
                      <a:pt x="555" y="671"/>
                    </a:lnTo>
                    <a:lnTo>
                      <a:pt x="508" y="899"/>
                    </a:lnTo>
                    <a:lnTo>
                      <a:pt x="290" y="1031"/>
                    </a:lnTo>
                    <a:lnTo>
                      <a:pt x="664" y="899"/>
                    </a:lnTo>
                    <a:lnTo>
                      <a:pt x="749" y="899"/>
                    </a:lnTo>
                    <a:lnTo>
                      <a:pt x="712" y="945"/>
                    </a:lnTo>
                    <a:lnTo>
                      <a:pt x="447" y="1103"/>
                    </a:lnTo>
                    <a:lnTo>
                      <a:pt x="726" y="1103"/>
                    </a:lnTo>
                    <a:lnTo>
                      <a:pt x="737" y="1213"/>
                    </a:lnTo>
                    <a:lnTo>
                      <a:pt x="133" y="1273"/>
                    </a:lnTo>
                    <a:lnTo>
                      <a:pt x="0" y="1369"/>
                    </a:lnTo>
                    <a:lnTo>
                      <a:pt x="170" y="1426"/>
                    </a:lnTo>
                    <a:lnTo>
                      <a:pt x="279" y="1525"/>
                    </a:lnTo>
                    <a:lnTo>
                      <a:pt x="290" y="1593"/>
                    </a:lnTo>
                    <a:lnTo>
                      <a:pt x="181" y="1690"/>
                    </a:lnTo>
                    <a:lnTo>
                      <a:pt x="181" y="1810"/>
                    </a:lnTo>
                    <a:lnTo>
                      <a:pt x="242" y="1932"/>
                    </a:lnTo>
                    <a:lnTo>
                      <a:pt x="84" y="2075"/>
                    </a:lnTo>
                    <a:lnTo>
                      <a:pt x="218" y="2184"/>
                    </a:lnTo>
                    <a:lnTo>
                      <a:pt x="373" y="2098"/>
                    </a:lnTo>
                    <a:lnTo>
                      <a:pt x="472" y="2123"/>
                    </a:lnTo>
                    <a:lnTo>
                      <a:pt x="679" y="1964"/>
                    </a:lnTo>
                    <a:lnTo>
                      <a:pt x="989" y="1630"/>
                    </a:lnTo>
                    <a:lnTo>
                      <a:pt x="1207" y="1379"/>
                    </a:lnTo>
                    <a:lnTo>
                      <a:pt x="1350" y="1752"/>
                    </a:lnTo>
                    <a:lnTo>
                      <a:pt x="1387" y="1358"/>
                    </a:lnTo>
                    <a:lnTo>
                      <a:pt x="1387" y="1199"/>
                    </a:lnTo>
                    <a:lnTo>
                      <a:pt x="1242" y="1093"/>
                    </a:lnTo>
                    <a:lnTo>
                      <a:pt x="1122" y="923"/>
                    </a:lnTo>
                    <a:lnTo>
                      <a:pt x="1014" y="740"/>
                    </a:lnTo>
                    <a:lnTo>
                      <a:pt x="930" y="528"/>
                    </a:lnTo>
                    <a:lnTo>
                      <a:pt x="834" y="228"/>
                    </a:lnTo>
                    <a:lnTo>
                      <a:pt x="800" y="0"/>
                    </a:lnTo>
                    <a:lnTo>
                      <a:pt x="700" y="215"/>
                    </a:lnTo>
                    <a:lnTo>
                      <a:pt x="691" y="3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1636200" y="5570640"/>
                <a:ext cx="236520" cy="331560"/>
              </a:xfrm>
              <a:custGeom>
                <a:avLst/>
                <a:gdLst/>
                <a:ahLst/>
                <a:rect l="l" t="t" r="r" b="b"/>
                <a:pathLst>
                  <a:path w="2861" h="3124">
                    <a:moveTo>
                      <a:pt x="988" y="1321"/>
                    </a:moveTo>
                    <a:lnTo>
                      <a:pt x="1377" y="1443"/>
                    </a:lnTo>
                    <a:lnTo>
                      <a:pt x="1691" y="1504"/>
                    </a:lnTo>
                    <a:lnTo>
                      <a:pt x="1909" y="1095"/>
                    </a:lnTo>
                    <a:lnTo>
                      <a:pt x="1895" y="698"/>
                    </a:lnTo>
                    <a:lnTo>
                      <a:pt x="2146" y="231"/>
                    </a:lnTo>
                    <a:lnTo>
                      <a:pt x="2642" y="0"/>
                    </a:lnTo>
                    <a:lnTo>
                      <a:pt x="2232" y="399"/>
                    </a:lnTo>
                    <a:lnTo>
                      <a:pt x="2111" y="770"/>
                    </a:lnTo>
                    <a:lnTo>
                      <a:pt x="2111" y="1168"/>
                    </a:lnTo>
                    <a:lnTo>
                      <a:pt x="2350" y="985"/>
                    </a:lnTo>
                    <a:lnTo>
                      <a:pt x="2665" y="627"/>
                    </a:lnTo>
                    <a:lnTo>
                      <a:pt x="2861" y="420"/>
                    </a:lnTo>
                    <a:lnTo>
                      <a:pt x="2861" y="590"/>
                    </a:lnTo>
                    <a:lnTo>
                      <a:pt x="2642" y="1010"/>
                    </a:lnTo>
                    <a:lnTo>
                      <a:pt x="2280" y="1478"/>
                    </a:lnTo>
                    <a:lnTo>
                      <a:pt x="1981" y="1741"/>
                    </a:lnTo>
                    <a:lnTo>
                      <a:pt x="1773" y="1838"/>
                    </a:lnTo>
                    <a:lnTo>
                      <a:pt x="1773" y="1959"/>
                    </a:lnTo>
                    <a:lnTo>
                      <a:pt x="1918" y="2188"/>
                    </a:lnTo>
                    <a:lnTo>
                      <a:pt x="2063" y="2545"/>
                    </a:lnTo>
                    <a:lnTo>
                      <a:pt x="1955" y="2451"/>
                    </a:lnTo>
                    <a:lnTo>
                      <a:pt x="1836" y="2333"/>
                    </a:lnTo>
                    <a:lnTo>
                      <a:pt x="1665" y="2257"/>
                    </a:lnTo>
                    <a:lnTo>
                      <a:pt x="1508" y="2222"/>
                    </a:lnTo>
                    <a:lnTo>
                      <a:pt x="1388" y="2197"/>
                    </a:lnTo>
                    <a:lnTo>
                      <a:pt x="1460" y="2429"/>
                    </a:lnTo>
                    <a:lnTo>
                      <a:pt x="1691" y="2621"/>
                    </a:lnTo>
                    <a:lnTo>
                      <a:pt x="1872" y="2725"/>
                    </a:lnTo>
                    <a:lnTo>
                      <a:pt x="1785" y="2534"/>
                    </a:lnTo>
                    <a:lnTo>
                      <a:pt x="1981" y="2582"/>
                    </a:lnTo>
                    <a:lnTo>
                      <a:pt x="2052" y="2750"/>
                    </a:lnTo>
                    <a:lnTo>
                      <a:pt x="2025" y="2978"/>
                    </a:lnTo>
                    <a:lnTo>
                      <a:pt x="1895" y="3110"/>
                    </a:lnTo>
                    <a:lnTo>
                      <a:pt x="1665" y="3124"/>
                    </a:lnTo>
                    <a:lnTo>
                      <a:pt x="1425" y="3001"/>
                    </a:lnTo>
                    <a:lnTo>
                      <a:pt x="1326" y="2796"/>
                    </a:lnTo>
                    <a:lnTo>
                      <a:pt x="1181" y="2400"/>
                    </a:lnTo>
                    <a:lnTo>
                      <a:pt x="988" y="2284"/>
                    </a:lnTo>
                    <a:lnTo>
                      <a:pt x="485" y="2391"/>
                    </a:lnTo>
                    <a:lnTo>
                      <a:pt x="171" y="2568"/>
                    </a:lnTo>
                    <a:lnTo>
                      <a:pt x="134" y="2499"/>
                    </a:lnTo>
                    <a:lnTo>
                      <a:pt x="217" y="2319"/>
                    </a:lnTo>
                    <a:lnTo>
                      <a:pt x="0" y="2400"/>
                    </a:lnTo>
                    <a:lnTo>
                      <a:pt x="87" y="2271"/>
                    </a:lnTo>
                    <a:lnTo>
                      <a:pt x="362" y="2197"/>
                    </a:lnTo>
                    <a:lnTo>
                      <a:pt x="558" y="2222"/>
                    </a:lnTo>
                    <a:lnTo>
                      <a:pt x="676" y="2234"/>
                    </a:lnTo>
                    <a:lnTo>
                      <a:pt x="950" y="2174"/>
                    </a:lnTo>
                    <a:lnTo>
                      <a:pt x="988" y="132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1713240" y="5569560"/>
                <a:ext cx="41760" cy="150840"/>
              </a:xfrm>
              <a:custGeom>
                <a:avLst/>
                <a:gdLst/>
                <a:ahLst/>
                <a:rect l="l" t="t" r="r" b="b"/>
                <a:pathLst>
                  <a:path w="507" h="1428">
                    <a:moveTo>
                      <a:pt x="143" y="1404"/>
                    </a:moveTo>
                    <a:lnTo>
                      <a:pt x="180" y="1130"/>
                    </a:lnTo>
                    <a:lnTo>
                      <a:pt x="242" y="780"/>
                    </a:lnTo>
                    <a:lnTo>
                      <a:pt x="242" y="613"/>
                    </a:lnTo>
                    <a:lnTo>
                      <a:pt x="194" y="446"/>
                    </a:lnTo>
                    <a:lnTo>
                      <a:pt x="206" y="312"/>
                    </a:lnTo>
                    <a:lnTo>
                      <a:pt x="266" y="134"/>
                    </a:lnTo>
                    <a:lnTo>
                      <a:pt x="507" y="158"/>
                    </a:lnTo>
                    <a:lnTo>
                      <a:pt x="143" y="0"/>
                    </a:lnTo>
                    <a:lnTo>
                      <a:pt x="0" y="325"/>
                    </a:lnTo>
                    <a:lnTo>
                      <a:pt x="21" y="1428"/>
                    </a:lnTo>
                    <a:lnTo>
                      <a:pt x="143" y="140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1764720" y="5453640"/>
                <a:ext cx="164880" cy="452880"/>
              </a:xfrm>
              <a:custGeom>
                <a:avLst/>
                <a:gdLst/>
                <a:ahLst/>
                <a:rect l="l" t="t" r="r" b="b"/>
                <a:pathLst>
                  <a:path w="1991" h="4272">
                    <a:moveTo>
                      <a:pt x="48" y="182"/>
                    </a:moveTo>
                    <a:lnTo>
                      <a:pt x="181" y="445"/>
                    </a:lnTo>
                    <a:lnTo>
                      <a:pt x="134" y="922"/>
                    </a:lnTo>
                    <a:lnTo>
                      <a:pt x="325" y="240"/>
                    </a:lnTo>
                    <a:lnTo>
                      <a:pt x="409" y="217"/>
                    </a:lnTo>
                    <a:lnTo>
                      <a:pt x="495" y="339"/>
                    </a:lnTo>
                    <a:lnTo>
                      <a:pt x="468" y="468"/>
                    </a:lnTo>
                    <a:lnTo>
                      <a:pt x="371" y="694"/>
                    </a:lnTo>
                    <a:lnTo>
                      <a:pt x="543" y="519"/>
                    </a:lnTo>
                    <a:lnTo>
                      <a:pt x="613" y="540"/>
                    </a:lnTo>
                    <a:lnTo>
                      <a:pt x="251" y="1092"/>
                    </a:lnTo>
                    <a:lnTo>
                      <a:pt x="903" y="481"/>
                    </a:lnTo>
                    <a:lnTo>
                      <a:pt x="1304" y="661"/>
                    </a:lnTo>
                    <a:lnTo>
                      <a:pt x="1387" y="936"/>
                    </a:lnTo>
                    <a:lnTo>
                      <a:pt x="1664" y="1189"/>
                    </a:lnTo>
                    <a:lnTo>
                      <a:pt x="1687" y="1452"/>
                    </a:lnTo>
                    <a:lnTo>
                      <a:pt x="1822" y="1659"/>
                    </a:lnTo>
                    <a:lnTo>
                      <a:pt x="1738" y="1909"/>
                    </a:lnTo>
                    <a:lnTo>
                      <a:pt x="1422" y="2038"/>
                    </a:lnTo>
                    <a:lnTo>
                      <a:pt x="1433" y="2138"/>
                    </a:lnTo>
                    <a:lnTo>
                      <a:pt x="1712" y="2366"/>
                    </a:lnTo>
                    <a:lnTo>
                      <a:pt x="1496" y="2388"/>
                    </a:lnTo>
                    <a:lnTo>
                      <a:pt x="1253" y="2280"/>
                    </a:lnTo>
                    <a:lnTo>
                      <a:pt x="1747" y="2748"/>
                    </a:lnTo>
                    <a:lnTo>
                      <a:pt x="1687" y="2806"/>
                    </a:lnTo>
                    <a:lnTo>
                      <a:pt x="1350" y="2748"/>
                    </a:lnTo>
                    <a:lnTo>
                      <a:pt x="1350" y="3061"/>
                    </a:lnTo>
                    <a:lnTo>
                      <a:pt x="1182" y="3252"/>
                    </a:lnTo>
                    <a:lnTo>
                      <a:pt x="1073" y="3156"/>
                    </a:lnTo>
                    <a:lnTo>
                      <a:pt x="806" y="3636"/>
                    </a:lnTo>
                    <a:lnTo>
                      <a:pt x="506" y="3898"/>
                    </a:lnTo>
                    <a:lnTo>
                      <a:pt x="387" y="4199"/>
                    </a:lnTo>
                    <a:lnTo>
                      <a:pt x="481" y="4272"/>
                    </a:lnTo>
                    <a:lnTo>
                      <a:pt x="1290" y="3995"/>
                    </a:lnTo>
                    <a:lnTo>
                      <a:pt x="1991" y="2833"/>
                    </a:lnTo>
                    <a:lnTo>
                      <a:pt x="1991" y="1821"/>
                    </a:lnTo>
                    <a:lnTo>
                      <a:pt x="1798" y="1199"/>
                    </a:lnTo>
                    <a:lnTo>
                      <a:pt x="1653" y="947"/>
                    </a:lnTo>
                    <a:lnTo>
                      <a:pt x="1521" y="828"/>
                    </a:lnTo>
                    <a:lnTo>
                      <a:pt x="1387" y="613"/>
                    </a:lnTo>
                    <a:lnTo>
                      <a:pt x="831" y="358"/>
                    </a:lnTo>
                    <a:lnTo>
                      <a:pt x="686" y="433"/>
                    </a:lnTo>
                    <a:lnTo>
                      <a:pt x="613" y="358"/>
                    </a:lnTo>
                    <a:lnTo>
                      <a:pt x="578" y="228"/>
                    </a:lnTo>
                    <a:lnTo>
                      <a:pt x="361" y="108"/>
                    </a:lnTo>
                    <a:lnTo>
                      <a:pt x="244" y="97"/>
                    </a:lnTo>
                    <a:lnTo>
                      <a:pt x="134" y="0"/>
                    </a:lnTo>
                    <a:lnTo>
                      <a:pt x="0" y="11"/>
                    </a:lnTo>
                    <a:lnTo>
                      <a:pt x="48" y="18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1693800" y="5544360"/>
                <a:ext cx="36360" cy="260280"/>
              </a:xfrm>
              <a:custGeom>
                <a:avLst/>
                <a:gdLst/>
                <a:ahLst/>
                <a:rect l="l" t="t" r="r" b="b"/>
                <a:pathLst>
                  <a:path w="434" h="2461">
                    <a:moveTo>
                      <a:pt x="276" y="0"/>
                    </a:moveTo>
                    <a:lnTo>
                      <a:pt x="166" y="72"/>
                    </a:lnTo>
                    <a:lnTo>
                      <a:pt x="106" y="204"/>
                    </a:lnTo>
                    <a:lnTo>
                      <a:pt x="96" y="326"/>
                    </a:lnTo>
                    <a:lnTo>
                      <a:pt x="106" y="688"/>
                    </a:lnTo>
                    <a:lnTo>
                      <a:pt x="72" y="962"/>
                    </a:lnTo>
                    <a:lnTo>
                      <a:pt x="37" y="1275"/>
                    </a:lnTo>
                    <a:lnTo>
                      <a:pt x="0" y="1504"/>
                    </a:lnTo>
                    <a:lnTo>
                      <a:pt x="0" y="1780"/>
                    </a:lnTo>
                    <a:lnTo>
                      <a:pt x="10" y="2029"/>
                    </a:lnTo>
                    <a:lnTo>
                      <a:pt x="145" y="2461"/>
                    </a:lnTo>
                    <a:lnTo>
                      <a:pt x="434" y="2391"/>
                    </a:lnTo>
                    <a:lnTo>
                      <a:pt x="311" y="1993"/>
                    </a:lnTo>
                    <a:lnTo>
                      <a:pt x="263" y="1684"/>
                    </a:lnTo>
                    <a:lnTo>
                      <a:pt x="287" y="1407"/>
                    </a:lnTo>
                    <a:lnTo>
                      <a:pt x="337" y="1130"/>
                    </a:lnTo>
                    <a:lnTo>
                      <a:pt x="397" y="879"/>
                    </a:lnTo>
                    <a:lnTo>
                      <a:pt x="397" y="734"/>
                    </a:lnTo>
                    <a:lnTo>
                      <a:pt x="360" y="602"/>
                    </a:lnTo>
                    <a:lnTo>
                      <a:pt x="311" y="519"/>
                    </a:lnTo>
                    <a:lnTo>
                      <a:pt x="325" y="194"/>
                    </a:lnTo>
                    <a:lnTo>
                      <a:pt x="337" y="12"/>
                    </a:lnTo>
                    <a:lnTo>
                      <a:pt x="276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1486800" y="5743440"/>
                <a:ext cx="109440" cy="114120"/>
              </a:xfrm>
              <a:custGeom>
                <a:avLst/>
                <a:gdLst/>
                <a:ahLst/>
                <a:rect l="l" t="t" r="r" b="b"/>
                <a:pathLst>
                  <a:path w="1314" h="1079">
                    <a:moveTo>
                      <a:pt x="374" y="0"/>
                    </a:moveTo>
                    <a:lnTo>
                      <a:pt x="300" y="35"/>
                    </a:lnTo>
                    <a:lnTo>
                      <a:pt x="300" y="97"/>
                    </a:lnTo>
                    <a:lnTo>
                      <a:pt x="194" y="143"/>
                    </a:lnTo>
                    <a:lnTo>
                      <a:pt x="167" y="192"/>
                    </a:lnTo>
                    <a:lnTo>
                      <a:pt x="129" y="335"/>
                    </a:lnTo>
                    <a:lnTo>
                      <a:pt x="24" y="395"/>
                    </a:lnTo>
                    <a:lnTo>
                      <a:pt x="0" y="613"/>
                    </a:lnTo>
                    <a:lnTo>
                      <a:pt x="59" y="830"/>
                    </a:lnTo>
                    <a:lnTo>
                      <a:pt x="290" y="934"/>
                    </a:lnTo>
                    <a:lnTo>
                      <a:pt x="662" y="1056"/>
                    </a:lnTo>
                    <a:lnTo>
                      <a:pt x="938" y="1068"/>
                    </a:lnTo>
                    <a:lnTo>
                      <a:pt x="1241" y="1079"/>
                    </a:lnTo>
                    <a:lnTo>
                      <a:pt x="1217" y="925"/>
                    </a:lnTo>
                    <a:lnTo>
                      <a:pt x="1217" y="817"/>
                    </a:lnTo>
                    <a:lnTo>
                      <a:pt x="1229" y="699"/>
                    </a:lnTo>
                    <a:lnTo>
                      <a:pt x="1314" y="529"/>
                    </a:lnTo>
                    <a:lnTo>
                      <a:pt x="1229" y="480"/>
                    </a:lnTo>
                    <a:lnTo>
                      <a:pt x="1156" y="408"/>
                    </a:lnTo>
                    <a:lnTo>
                      <a:pt x="1096" y="309"/>
                    </a:lnTo>
                    <a:lnTo>
                      <a:pt x="1024" y="226"/>
                    </a:lnTo>
                    <a:lnTo>
                      <a:pt x="950" y="167"/>
                    </a:lnTo>
                    <a:lnTo>
                      <a:pt x="879" y="143"/>
                    </a:lnTo>
                    <a:lnTo>
                      <a:pt x="769" y="167"/>
                    </a:lnTo>
                    <a:lnTo>
                      <a:pt x="637" y="204"/>
                    </a:lnTo>
                    <a:lnTo>
                      <a:pt x="588" y="180"/>
                    </a:lnTo>
                    <a:lnTo>
                      <a:pt x="528" y="59"/>
                    </a:lnTo>
                    <a:lnTo>
                      <a:pt x="470" y="26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1635480" y="5319360"/>
                <a:ext cx="149760" cy="227880"/>
              </a:xfrm>
              <a:custGeom>
                <a:avLst/>
                <a:gdLst/>
                <a:ahLst/>
                <a:rect l="l" t="t" r="r" b="b"/>
                <a:pathLst>
                  <a:path w="1808" h="2151">
                    <a:moveTo>
                      <a:pt x="1784" y="591"/>
                    </a:moveTo>
                    <a:lnTo>
                      <a:pt x="1808" y="681"/>
                    </a:lnTo>
                    <a:lnTo>
                      <a:pt x="1803" y="758"/>
                    </a:lnTo>
                    <a:lnTo>
                      <a:pt x="1773" y="877"/>
                    </a:lnTo>
                    <a:lnTo>
                      <a:pt x="1698" y="1052"/>
                    </a:lnTo>
                    <a:lnTo>
                      <a:pt x="1573" y="1178"/>
                    </a:lnTo>
                    <a:lnTo>
                      <a:pt x="1459" y="1701"/>
                    </a:lnTo>
                    <a:lnTo>
                      <a:pt x="1289" y="1884"/>
                    </a:lnTo>
                    <a:lnTo>
                      <a:pt x="1164" y="2022"/>
                    </a:lnTo>
                    <a:lnTo>
                      <a:pt x="1091" y="2133"/>
                    </a:lnTo>
                    <a:lnTo>
                      <a:pt x="1045" y="2151"/>
                    </a:lnTo>
                    <a:lnTo>
                      <a:pt x="835" y="1868"/>
                    </a:lnTo>
                    <a:lnTo>
                      <a:pt x="657" y="1890"/>
                    </a:lnTo>
                    <a:lnTo>
                      <a:pt x="569" y="1890"/>
                    </a:lnTo>
                    <a:lnTo>
                      <a:pt x="512" y="1852"/>
                    </a:lnTo>
                    <a:lnTo>
                      <a:pt x="477" y="1791"/>
                    </a:lnTo>
                    <a:lnTo>
                      <a:pt x="429" y="1628"/>
                    </a:lnTo>
                    <a:lnTo>
                      <a:pt x="289" y="1351"/>
                    </a:lnTo>
                    <a:lnTo>
                      <a:pt x="141" y="1169"/>
                    </a:lnTo>
                    <a:lnTo>
                      <a:pt x="107" y="1022"/>
                    </a:lnTo>
                    <a:lnTo>
                      <a:pt x="76" y="872"/>
                    </a:lnTo>
                    <a:lnTo>
                      <a:pt x="28" y="653"/>
                    </a:lnTo>
                    <a:lnTo>
                      <a:pt x="0" y="353"/>
                    </a:lnTo>
                    <a:lnTo>
                      <a:pt x="24" y="208"/>
                    </a:lnTo>
                    <a:lnTo>
                      <a:pt x="76" y="99"/>
                    </a:lnTo>
                    <a:lnTo>
                      <a:pt x="1324" y="0"/>
                    </a:lnTo>
                    <a:lnTo>
                      <a:pt x="1698" y="433"/>
                    </a:lnTo>
                    <a:lnTo>
                      <a:pt x="1784" y="59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1649520" y="5407920"/>
                <a:ext cx="12240" cy="11880"/>
              </a:xfrm>
              <a:custGeom>
                <a:avLst/>
                <a:gdLst/>
                <a:ahLst/>
                <a:rect l="l" t="t" r="r" b="b"/>
                <a:pathLst>
                  <a:path w="152" h="113">
                    <a:moveTo>
                      <a:pt x="0" y="83"/>
                    </a:moveTo>
                    <a:lnTo>
                      <a:pt x="49" y="113"/>
                    </a:lnTo>
                    <a:lnTo>
                      <a:pt x="152" y="79"/>
                    </a:lnTo>
                    <a:lnTo>
                      <a:pt x="152" y="0"/>
                    </a:lnTo>
                    <a:lnTo>
                      <a:pt x="33" y="16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1695960" y="5395680"/>
                <a:ext cx="18360" cy="8280"/>
              </a:xfrm>
              <a:custGeom>
                <a:avLst/>
                <a:gdLst/>
                <a:ahLst/>
                <a:rect l="l" t="t" r="r" b="b"/>
                <a:pathLst>
                  <a:path w="231" h="83">
                    <a:moveTo>
                      <a:pt x="27" y="83"/>
                    </a:moveTo>
                    <a:lnTo>
                      <a:pt x="130" y="74"/>
                    </a:lnTo>
                    <a:lnTo>
                      <a:pt x="231" y="47"/>
                    </a:lnTo>
                    <a:lnTo>
                      <a:pt x="104" y="0"/>
                    </a:lnTo>
                    <a:lnTo>
                      <a:pt x="0" y="0"/>
                    </a:lnTo>
                    <a:lnTo>
                      <a:pt x="27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1636200" y="5288760"/>
                <a:ext cx="119880" cy="47160"/>
              </a:xfrm>
              <a:custGeom>
                <a:avLst/>
                <a:gdLst/>
                <a:ahLst/>
                <a:rect l="l" t="t" r="r" b="b"/>
                <a:pathLst>
                  <a:path w="1451" h="452">
                    <a:moveTo>
                      <a:pt x="110" y="41"/>
                    </a:moveTo>
                    <a:lnTo>
                      <a:pt x="237" y="0"/>
                    </a:lnTo>
                    <a:lnTo>
                      <a:pt x="603" y="0"/>
                    </a:lnTo>
                    <a:lnTo>
                      <a:pt x="1255" y="165"/>
                    </a:lnTo>
                    <a:lnTo>
                      <a:pt x="1451" y="391"/>
                    </a:lnTo>
                    <a:lnTo>
                      <a:pt x="1134" y="318"/>
                    </a:lnTo>
                    <a:lnTo>
                      <a:pt x="981" y="360"/>
                    </a:lnTo>
                    <a:lnTo>
                      <a:pt x="846" y="424"/>
                    </a:lnTo>
                    <a:lnTo>
                      <a:pt x="647" y="452"/>
                    </a:lnTo>
                    <a:lnTo>
                      <a:pt x="426" y="444"/>
                    </a:lnTo>
                    <a:lnTo>
                      <a:pt x="218" y="391"/>
                    </a:lnTo>
                    <a:lnTo>
                      <a:pt x="68" y="318"/>
                    </a:lnTo>
                    <a:lnTo>
                      <a:pt x="16" y="251"/>
                    </a:lnTo>
                    <a:lnTo>
                      <a:pt x="0" y="186"/>
                    </a:lnTo>
                    <a:lnTo>
                      <a:pt x="4" y="129"/>
                    </a:lnTo>
                    <a:lnTo>
                      <a:pt x="110" y="4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1729800" y="5333040"/>
                <a:ext cx="58320" cy="65880"/>
              </a:xfrm>
              <a:custGeom>
                <a:avLst/>
                <a:gdLst/>
                <a:ahLst/>
                <a:rect l="l" t="t" r="r" b="b"/>
                <a:pathLst>
                  <a:path w="700" h="629">
                    <a:moveTo>
                      <a:pt x="666" y="482"/>
                    </a:moveTo>
                    <a:lnTo>
                      <a:pt x="548" y="411"/>
                    </a:lnTo>
                    <a:lnTo>
                      <a:pt x="449" y="405"/>
                    </a:lnTo>
                    <a:lnTo>
                      <a:pt x="392" y="482"/>
                    </a:lnTo>
                    <a:lnTo>
                      <a:pt x="378" y="629"/>
                    </a:lnTo>
                    <a:lnTo>
                      <a:pt x="173" y="604"/>
                    </a:lnTo>
                    <a:lnTo>
                      <a:pt x="182" y="528"/>
                    </a:lnTo>
                    <a:lnTo>
                      <a:pt x="139" y="433"/>
                    </a:lnTo>
                    <a:lnTo>
                      <a:pt x="76" y="374"/>
                    </a:lnTo>
                    <a:lnTo>
                      <a:pt x="36" y="350"/>
                    </a:lnTo>
                    <a:lnTo>
                      <a:pt x="0" y="141"/>
                    </a:lnTo>
                    <a:lnTo>
                      <a:pt x="286" y="0"/>
                    </a:lnTo>
                    <a:lnTo>
                      <a:pt x="588" y="110"/>
                    </a:lnTo>
                    <a:lnTo>
                      <a:pt x="632" y="360"/>
                    </a:lnTo>
                    <a:lnTo>
                      <a:pt x="700" y="447"/>
                    </a:lnTo>
                    <a:lnTo>
                      <a:pt x="666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1723680" y="5320440"/>
                <a:ext cx="64080" cy="67680"/>
              </a:xfrm>
              <a:custGeom>
                <a:avLst/>
                <a:gdLst/>
                <a:ahLst/>
                <a:rect l="l" t="t" r="r" b="b"/>
                <a:pathLst>
                  <a:path w="775" h="641">
                    <a:moveTo>
                      <a:pt x="747" y="575"/>
                    </a:moveTo>
                    <a:lnTo>
                      <a:pt x="701" y="518"/>
                    </a:lnTo>
                    <a:lnTo>
                      <a:pt x="643" y="461"/>
                    </a:lnTo>
                    <a:lnTo>
                      <a:pt x="608" y="397"/>
                    </a:lnTo>
                    <a:lnTo>
                      <a:pt x="617" y="309"/>
                    </a:lnTo>
                    <a:lnTo>
                      <a:pt x="586" y="261"/>
                    </a:lnTo>
                    <a:lnTo>
                      <a:pt x="530" y="230"/>
                    </a:lnTo>
                    <a:lnTo>
                      <a:pt x="496" y="226"/>
                    </a:lnTo>
                    <a:lnTo>
                      <a:pt x="440" y="230"/>
                    </a:lnTo>
                    <a:lnTo>
                      <a:pt x="488" y="316"/>
                    </a:lnTo>
                    <a:lnTo>
                      <a:pt x="571" y="397"/>
                    </a:lnTo>
                    <a:lnTo>
                      <a:pt x="440" y="316"/>
                    </a:lnTo>
                    <a:lnTo>
                      <a:pt x="343" y="274"/>
                    </a:lnTo>
                    <a:lnTo>
                      <a:pt x="242" y="283"/>
                    </a:lnTo>
                    <a:lnTo>
                      <a:pt x="161" y="288"/>
                    </a:lnTo>
                    <a:lnTo>
                      <a:pt x="118" y="300"/>
                    </a:lnTo>
                    <a:lnTo>
                      <a:pt x="152" y="371"/>
                    </a:lnTo>
                    <a:lnTo>
                      <a:pt x="320" y="378"/>
                    </a:lnTo>
                    <a:lnTo>
                      <a:pt x="454" y="447"/>
                    </a:lnTo>
                    <a:lnTo>
                      <a:pt x="336" y="447"/>
                    </a:lnTo>
                    <a:lnTo>
                      <a:pt x="384" y="518"/>
                    </a:lnTo>
                    <a:lnTo>
                      <a:pt x="413" y="602"/>
                    </a:lnTo>
                    <a:lnTo>
                      <a:pt x="378" y="641"/>
                    </a:lnTo>
                    <a:lnTo>
                      <a:pt x="274" y="586"/>
                    </a:lnTo>
                    <a:lnTo>
                      <a:pt x="182" y="542"/>
                    </a:lnTo>
                    <a:lnTo>
                      <a:pt x="161" y="503"/>
                    </a:lnTo>
                    <a:lnTo>
                      <a:pt x="90" y="480"/>
                    </a:lnTo>
                    <a:lnTo>
                      <a:pt x="57" y="378"/>
                    </a:lnTo>
                    <a:lnTo>
                      <a:pt x="48" y="239"/>
                    </a:lnTo>
                    <a:lnTo>
                      <a:pt x="23" y="191"/>
                    </a:lnTo>
                    <a:lnTo>
                      <a:pt x="39" y="136"/>
                    </a:lnTo>
                    <a:lnTo>
                      <a:pt x="0" y="127"/>
                    </a:lnTo>
                    <a:lnTo>
                      <a:pt x="48" y="78"/>
                    </a:lnTo>
                    <a:lnTo>
                      <a:pt x="175" y="63"/>
                    </a:lnTo>
                    <a:lnTo>
                      <a:pt x="343" y="85"/>
                    </a:lnTo>
                    <a:lnTo>
                      <a:pt x="518" y="0"/>
                    </a:lnTo>
                    <a:lnTo>
                      <a:pt x="622" y="94"/>
                    </a:lnTo>
                    <a:lnTo>
                      <a:pt x="678" y="182"/>
                    </a:lnTo>
                    <a:lnTo>
                      <a:pt x="692" y="274"/>
                    </a:lnTo>
                    <a:lnTo>
                      <a:pt x="701" y="406"/>
                    </a:lnTo>
                    <a:lnTo>
                      <a:pt x="705" y="489"/>
                    </a:lnTo>
                    <a:lnTo>
                      <a:pt x="775" y="595"/>
                    </a:lnTo>
                    <a:lnTo>
                      <a:pt x="747" y="57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1288800" y="5408640"/>
                <a:ext cx="357840" cy="339120"/>
              </a:xfrm>
              <a:custGeom>
                <a:avLst/>
                <a:gdLst/>
                <a:ahLst/>
                <a:rect l="l" t="t" r="r" b="b"/>
                <a:pathLst>
                  <a:path w="4318" h="3200">
                    <a:moveTo>
                      <a:pt x="4072" y="2092"/>
                    </a:moveTo>
                    <a:lnTo>
                      <a:pt x="4095" y="1897"/>
                    </a:lnTo>
                    <a:lnTo>
                      <a:pt x="4208" y="1706"/>
                    </a:lnTo>
                    <a:lnTo>
                      <a:pt x="4318" y="1345"/>
                    </a:lnTo>
                    <a:lnTo>
                      <a:pt x="4249" y="1246"/>
                    </a:lnTo>
                    <a:lnTo>
                      <a:pt x="4090" y="1246"/>
                    </a:lnTo>
                    <a:lnTo>
                      <a:pt x="3986" y="1086"/>
                    </a:lnTo>
                    <a:lnTo>
                      <a:pt x="3929" y="1035"/>
                    </a:lnTo>
                    <a:lnTo>
                      <a:pt x="3909" y="1035"/>
                    </a:lnTo>
                    <a:lnTo>
                      <a:pt x="3808" y="1057"/>
                    </a:lnTo>
                    <a:lnTo>
                      <a:pt x="3498" y="561"/>
                    </a:lnTo>
                    <a:lnTo>
                      <a:pt x="3329" y="459"/>
                    </a:lnTo>
                    <a:lnTo>
                      <a:pt x="3087" y="139"/>
                    </a:lnTo>
                    <a:lnTo>
                      <a:pt x="2935" y="99"/>
                    </a:lnTo>
                    <a:lnTo>
                      <a:pt x="2834" y="132"/>
                    </a:lnTo>
                    <a:lnTo>
                      <a:pt x="2723" y="113"/>
                    </a:lnTo>
                    <a:lnTo>
                      <a:pt x="2615" y="148"/>
                    </a:lnTo>
                    <a:lnTo>
                      <a:pt x="2327" y="180"/>
                    </a:lnTo>
                    <a:lnTo>
                      <a:pt x="2237" y="148"/>
                    </a:lnTo>
                    <a:lnTo>
                      <a:pt x="2126" y="189"/>
                    </a:lnTo>
                    <a:lnTo>
                      <a:pt x="2057" y="113"/>
                    </a:lnTo>
                    <a:lnTo>
                      <a:pt x="1973" y="31"/>
                    </a:lnTo>
                    <a:lnTo>
                      <a:pt x="1914" y="0"/>
                    </a:lnTo>
                    <a:lnTo>
                      <a:pt x="1232" y="249"/>
                    </a:lnTo>
                    <a:lnTo>
                      <a:pt x="1171" y="420"/>
                    </a:lnTo>
                    <a:lnTo>
                      <a:pt x="853" y="589"/>
                    </a:lnTo>
                    <a:lnTo>
                      <a:pt x="632" y="627"/>
                    </a:lnTo>
                    <a:lnTo>
                      <a:pt x="441" y="807"/>
                    </a:lnTo>
                    <a:lnTo>
                      <a:pt x="413" y="910"/>
                    </a:lnTo>
                    <a:lnTo>
                      <a:pt x="371" y="1015"/>
                    </a:lnTo>
                    <a:lnTo>
                      <a:pt x="259" y="1356"/>
                    </a:lnTo>
                    <a:lnTo>
                      <a:pt x="210" y="1624"/>
                    </a:lnTo>
                    <a:lnTo>
                      <a:pt x="270" y="1854"/>
                    </a:lnTo>
                    <a:lnTo>
                      <a:pt x="180" y="2075"/>
                    </a:lnTo>
                    <a:lnTo>
                      <a:pt x="90" y="2103"/>
                    </a:lnTo>
                    <a:lnTo>
                      <a:pt x="0" y="2193"/>
                    </a:lnTo>
                    <a:lnTo>
                      <a:pt x="191" y="2792"/>
                    </a:lnTo>
                    <a:lnTo>
                      <a:pt x="399" y="2861"/>
                    </a:lnTo>
                    <a:lnTo>
                      <a:pt x="761" y="2613"/>
                    </a:lnTo>
                    <a:lnTo>
                      <a:pt x="1042" y="1945"/>
                    </a:lnTo>
                    <a:lnTo>
                      <a:pt x="1211" y="2262"/>
                    </a:lnTo>
                    <a:lnTo>
                      <a:pt x="1303" y="2771"/>
                    </a:lnTo>
                    <a:lnTo>
                      <a:pt x="1232" y="2903"/>
                    </a:lnTo>
                    <a:lnTo>
                      <a:pt x="1204" y="3129"/>
                    </a:lnTo>
                    <a:lnTo>
                      <a:pt x="1261" y="3200"/>
                    </a:lnTo>
                    <a:lnTo>
                      <a:pt x="3408" y="2892"/>
                    </a:lnTo>
                    <a:lnTo>
                      <a:pt x="3355" y="1517"/>
                    </a:lnTo>
                    <a:lnTo>
                      <a:pt x="3569" y="1695"/>
                    </a:lnTo>
                    <a:lnTo>
                      <a:pt x="3707" y="1714"/>
                    </a:lnTo>
                    <a:lnTo>
                      <a:pt x="3777" y="1846"/>
                    </a:lnTo>
                    <a:lnTo>
                      <a:pt x="3938" y="1854"/>
                    </a:lnTo>
                    <a:lnTo>
                      <a:pt x="4028" y="1994"/>
                    </a:lnTo>
                    <a:lnTo>
                      <a:pt x="4072" y="20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1472400" y="5707080"/>
                <a:ext cx="33120" cy="29520"/>
              </a:xfrm>
              <a:custGeom>
                <a:avLst/>
                <a:gdLst/>
                <a:ahLst/>
                <a:rect l="l" t="t" r="r" b="b"/>
                <a:pathLst>
                  <a:path w="400" h="279">
                    <a:moveTo>
                      <a:pt x="279" y="0"/>
                    </a:moveTo>
                    <a:lnTo>
                      <a:pt x="130" y="0"/>
                    </a:lnTo>
                    <a:lnTo>
                      <a:pt x="8" y="83"/>
                    </a:lnTo>
                    <a:lnTo>
                      <a:pt x="0" y="242"/>
                    </a:lnTo>
                    <a:lnTo>
                      <a:pt x="40" y="279"/>
                    </a:lnTo>
                    <a:lnTo>
                      <a:pt x="391" y="210"/>
                    </a:lnTo>
                    <a:lnTo>
                      <a:pt x="400" y="162"/>
                    </a:lnTo>
                    <a:lnTo>
                      <a:pt x="349" y="30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1306800" y="5509440"/>
                <a:ext cx="18360" cy="104040"/>
              </a:xfrm>
              <a:custGeom>
                <a:avLst/>
                <a:gdLst/>
                <a:ahLst/>
                <a:rect l="l" t="t" r="r" b="b"/>
                <a:pathLst>
                  <a:path w="231" h="977">
                    <a:moveTo>
                      <a:pt x="183" y="0"/>
                    </a:moveTo>
                    <a:lnTo>
                      <a:pt x="183" y="283"/>
                    </a:lnTo>
                    <a:lnTo>
                      <a:pt x="231" y="659"/>
                    </a:lnTo>
                    <a:lnTo>
                      <a:pt x="90" y="648"/>
                    </a:lnTo>
                    <a:lnTo>
                      <a:pt x="210" y="856"/>
                    </a:lnTo>
                    <a:lnTo>
                      <a:pt x="148" y="977"/>
                    </a:lnTo>
                    <a:lnTo>
                      <a:pt x="0" y="687"/>
                    </a:lnTo>
                    <a:lnTo>
                      <a:pt x="0" y="560"/>
                    </a:lnTo>
                    <a:lnTo>
                      <a:pt x="130" y="129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1293480" y="5551920"/>
                <a:ext cx="83160" cy="158400"/>
              </a:xfrm>
              <a:custGeom>
                <a:avLst/>
                <a:gdLst/>
                <a:ahLst/>
                <a:rect l="l" t="t" r="r" b="b"/>
                <a:pathLst>
                  <a:path w="1008" h="1494">
                    <a:moveTo>
                      <a:pt x="0" y="778"/>
                    </a:moveTo>
                    <a:lnTo>
                      <a:pt x="28" y="837"/>
                    </a:lnTo>
                    <a:lnTo>
                      <a:pt x="28" y="975"/>
                    </a:lnTo>
                    <a:lnTo>
                      <a:pt x="99" y="1156"/>
                    </a:lnTo>
                    <a:lnTo>
                      <a:pt x="159" y="1048"/>
                    </a:lnTo>
                    <a:lnTo>
                      <a:pt x="281" y="1305"/>
                    </a:lnTo>
                    <a:lnTo>
                      <a:pt x="120" y="1378"/>
                    </a:lnTo>
                    <a:lnTo>
                      <a:pt x="342" y="1494"/>
                    </a:lnTo>
                    <a:lnTo>
                      <a:pt x="648" y="1385"/>
                    </a:lnTo>
                    <a:lnTo>
                      <a:pt x="839" y="1057"/>
                    </a:lnTo>
                    <a:lnTo>
                      <a:pt x="883" y="820"/>
                    </a:lnTo>
                    <a:lnTo>
                      <a:pt x="911" y="589"/>
                    </a:lnTo>
                    <a:lnTo>
                      <a:pt x="1008" y="310"/>
                    </a:lnTo>
                    <a:lnTo>
                      <a:pt x="869" y="30"/>
                    </a:lnTo>
                    <a:lnTo>
                      <a:pt x="812" y="0"/>
                    </a:lnTo>
                    <a:lnTo>
                      <a:pt x="710" y="279"/>
                    </a:lnTo>
                    <a:lnTo>
                      <a:pt x="779" y="350"/>
                    </a:lnTo>
                    <a:lnTo>
                      <a:pt x="890" y="400"/>
                    </a:lnTo>
                    <a:lnTo>
                      <a:pt x="770" y="679"/>
                    </a:lnTo>
                    <a:lnTo>
                      <a:pt x="770" y="848"/>
                    </a:lnTo>
                    <a:lnTo>
                      <a:pt x="648" y="1026"/>
                    </a:lnTo>
                    <a:lnTo>
                      <a:pt x="438" y="1057"/>
                    </a:lnTo>
                    <a:lnTo>
                      <a:pt x="307" y="589"/>
                    </a:lnTo>
                    <a:lnTo>
                      <a:pt x="69" y="736"/>
                    </a:lnTo>
                    <a:lnTo>
                      <a:pt x="0" y="77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1370880" y="5458680"/>
                <a:ext cx="195120" cy="290880"/>
              </a:xfrm>
              <a:custGeom>
                <a:avLst/>
                <a:gdLst/>
                <a:ahLst/>
                <a:rect l="l" t="t" r="r" b="b"/>
                <a:pathLst>
                  <a:path w="2355" h="2742">
                    <a:moveTo>
                      <a:pt x="303" y="558"/>
                    </a:moveTo>
                    <a:lnTo>
                      <a:pt x="413" y="639"/>
                    </a:lnTo>
                    <a:lnTo>
                      <a:pt x="289" y="1119"/>
                    </a:lnTo>
                    <a:lnTo>
                      <a:pt x="289" y="1398"/>
                    </a:lnTo>
                    <a:lnTo>
                      <a:pt x="630" y="1476"/>
                    </a:lnTo>
                    <a:lnTo>
                      <a:pt x="604" y="411"/>
                    </a:lnTo>
                    <a:lnTo>
                      <a:pt x="630" y="208"/>
                    </a:lnTo>
                    <a:lnTo>
                      <a:pt x="503" y="150"/>
                    </a:lnTo>
                    <a:lnTo>
                      <a:pt x="382" y="231"/>
                    </a:lnTo>
                    <a:lnTo>
                      <a:pt x="360" y="208"/>
                    </a:lnTo>
                    <a:lnTo>
                      <a:pt x="450" y="143"/>
                    </a:lnTo>
                    <a:lnTo>
                      <a:pt x="503" y="72"/>
                    </a:lnTo>
                    <a:lnTo>
                      <a:pt x="833" y="0"/>
                    </a:lnTo>
                    <a:lnTo>
                      <a:pt x="991" y="84"/>
                    </a:lnTo>
                    <a:lnTo>
                      <a:pt x="943" y="121"/>
                    </a:lnTo>
                    <a:lnTo>
                      <a:pt x="833" y="112"/>
                    </a:lnTo>
                    <a:lnTo>
                      <a:pt x="782" y="252"/>
                    </a:lnTo>
                    <a:lnTo>
                      <a:pt x="1092" y="1558"/>
                    </a:lnTo>
                    <a:lnTo>
                      <a:pt x="1413" y="1747"/>
                    </a:lnTo>
                    <a:lnTo>
                      <a:pt x="1965" y="2035"/>
                    </a:lnTo>
                    <a:lnTo>
                      <a:pt x="1905" y="1875"/>
                    </a:lnTo>
                    <a:lnTo>
                      <a:pt x="2207" y="1993"/>
                    </a:lnTo>
                    <a:lnTo>
                      <a:pt x="2297" y="1773"/>
                    </a:lnTo>
                    <a:lnTo>
                      <a:pt x="2345" y="1785"/>
                    </a:lnTo>
                    <a:lnTo>
                      <a:pt x="2306" y="2145"/>
                    </a:lnTo>
                    <a:lnTo>
                      <a:pt x="2355" y="2343"/>
                    </a:lnTo>
                    <a:lnTo>
                      <a:pt x="2133" y="2393"/>
                    </a:lnTo>
                    <a:lnTo>
                      <a:pt x="1598" y="2356"/>
                    </a:lnTo>
                    <a:lnTo>
                      <a:pt x="1723" y="2272"/>
                    </a:lnTo>
                    <a:lnTo>
                      <a:pt x="1644" y="2126"/>
                    </a:lnTo>
                    <a:lnTo>
                      <a:pt x="1732" y="2085"/>
                    </a:lnTo>
                    <a:lnTo>
                      <a:pt x="1503" y="2015"/>
                    </a:lnTo>
                    <a:lnTo>
                      <a:pt x="1503" y="2165"/>
                    </a:lnTo>
                    <a:lnTo>
                      <a:pt x="1444" y="2334"/>
                    </a:lnTo>
                    <a:lnTo>
                      <a:pt x="1246" y="2405"/>
                    </a:lnTo>
                    <a:lnTo>
                      <a:pt x="1273" y="2384"/>
                    </a:lnTo>
                    <a:lnTo>
                      <a:pt x="1135" y="2043"/>
                    </a:lnTo>
                    <a:lnTo>
                      <a:pt x="863" y="1868"/>
                    </a:lnTo>
                    <a:lnTo>
                      <a:pt x="591" y="1826"/>
                    </a:lnTo>
                    <a:lnTo>
                      <a:pt x="663" y="1916"/>
                    </a:lnTo>
                    <a:lnTo>
                      <a:pt x="624" y="1936"/>
                    </a:lnTo>
                    <a:lnTo>
                      <a:pt x="773" y="1976"/>
                    </a:lnTo>
                    <a:lnTo>
                      <a:pt x="1054" y="2204"/>
                    </a:lnTo>
                    <a:lnTo>
                      <a:pt x="1171" y="2322"/>
                    </a:lnTo>
                    <a:lnTo>
                      <a:pt x="962" y="2315"/>
                    </a:lnTo>
                    <a:lnTo>
                      <a:pt x="734" y="2246"/>
                    </a:lnTo>
                    <a:lnTo>
                      <a:pt x="923" y="2405"/>
                    </a:lnTo>
                    <a:lnTo>
                      <a:pt x="743" y="2463"/>
                    </a:lnTo>
                    <a:lnTo>
                      <a:pt x="521" y="2601"/>
                    </a:lnTo>
                    <a:lnTo>
                      <a:pt x="851" y="2525"/>
                    </a:lnTo>
                    <a:lnTo>
                      <a:pt x="552" y="2742"/>
                    </a:lnTo>
                    <a:lnTo>
                      <a:pt x="250" y="2742"/>
                    </a:lnTo>
                    <a:lnTo>
                      <a:pt x="213" y="2652"/>
                    </a:lnTo>
                    <a:lnTo>
                      <a:pt x="303" y="2272"/>
                    </a:lnTo>
                    <a:lnTo>
                      <a:pt x="270" y="2114"/>
                    </a:lnTo>
                    <a:lnTo>
                      <a:pt x="0" y="1178"/>
                    </a:lnTo>
                    <a:lnTo>
                      <a:pt x="81" y="720"/>
                    </a:lnTo>
                    <a:lnTo>
                      <a:pt x="303" y="55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1463040" y="5418000"/>
                <a:ext cx="70560" cy="65160"/>
              </a:xfrm>
              <a:custGeom>
                <a:avLst/>
                <a:gdLst/>
                <a:ahLst/>
                <a:rect l="l" t="t" r="r" b="b"/>
                <a:pathLst>
                  <a:path w="851" h="616">
                    <a:moveTo>
                      <a:pt x="0" y="385"/>
                    </a:moveTo>
                    <a:lnTo>
                      <a:pt x="77" y="207"/>
                    </a:lnTo>
                    <a:lnTo>
                      <a:pt x="77" y="348"/>
                    </a:lnTo>
                    <a:lnTo>
                      <a:pt x="299" y="97"/>
                    </a:lnTo>
                    <a:lnTo>
                      <a:pt x="378" y="616"/>
                    </a:lnTo>
                    <a:lnTo>
                      <a:pt x="417" y="227"/>
                    </a:lnTo>
                    <a:lnTo>
                      <a:pt x="618" y="69"/>
                    </a:lnTo>
                    <a:lnTo>
                      <a:pt x="740" y="97"/>
                    </a:lnTo>
                    <a:lnTo>
                      <a:pt x="851" y="7"/>
                    </a:lnTo>
                    <a:lnTo>
                      <a:pt x="721" y="40"/>
                    </a:lnTo>
                    <a:lnTo>
                      <a:pt x="653" y="40"/>
                    </a:lnTo>
                    <a:lnTo>
                      <a:pt x="618" y="0"/>
                    </a:lnTo>
                    <a:lnTo>
                      <a:pt x="521" y="69"/>
                    </a:lnTo>
                    <a:lnTo>
                      <a:pt x="389" y="47"/>
                    </a:lnTo>
                    <a:lnTo>
                      <a:pt x="279" y="40"/>
                    </a:lnTo>
                    <a:lnTo>
                      <a:pt x="118" y="77"/>
                    </a:lnTo>
                    <a:lnTo>
                      <a:pt x="21" y="189"/>
                    </a:lnTo>
                    <a:lnTo>
                      <a:pt x="0" y="38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1540080" y="5478120"/>
                <a:ext cx="66600" cy="167760"/>
              </a:xfrm>
              <a:custGeom>
                <a:avLst/>
                <a:gdLst/>
                <a:ahLst/>
                <a:rect l="l" t="t" r="r" b="b"/>
                <a:pathLst>
                  <a:path w="811" h="1587">
                    <a:moveTo>
                      <a:pt x="481" y="171"/>
                    </a:moveTo>
                    <a:lnTo>
                      <a:pt x="481" y="429"/>
                    </a:lnTo>
                    <a:lnTo>
                      <a:pt x="380" y="600"/>
                    </a:lnTo>
                    <a:lnTo>
                      <a:pt x="239" y="429"/>
                    </a:lnTo>
                    <a:lnTo>
                      <a:pt x="128" y="259"/>
                    </a:lnTo>
                    <a:lnTo>
                      <a:pt x="239" y="860"/>
                    </a:lnTo>
                    <a:lnTo>
                      <a:pt x="207" y="1257"/>
                    </a:lnTo>
                    <a:lnTo>
                      <a:pt x="0" y="1556"/>
                    </a:lnTo>
                    <a:lnTo>
                      <a:pt x="170" y="1587"/>
                    </a:lnTo>
                    <a:lnTo>
                      <a:pt x="361" y="1483"/>
                    </a:lnTo>
                    <a:lnTo>
                      <a:pt x="318" y="840"/>
                    </a:lnTo>
                    <a:lnTo>
                      <a:pt x="509" y="1049"/>
                    </a:lnTo>
                    <a:lnTo>
                      <a:pt x="640" y="1049"/>
                    </a:lnTo>
                    <a:lnTo>
                      <a:pt x="541" y="939"/>
                    </a:lnTo>
                    <a:lnTo>
                      <a:pt x="521" y="770"/>
                    </a:lnTo>
                    <a:lnTo>
                      <a:pt x="582" y="600"/>
                    </a:lnTo>
                    <a:lnTo>
                      <a:pt x="659" y="489"/>
                    </a:lnTo>
                    <a:lnTo>
                      <a:pt x="721" y="392"/>
                    </a:lnTo>
                    <a:lnTo>
                      <a:pt x="762" y="528"/>
                    </a:lnTo>
                    <a:lnTo>
                      <a:pt x="811" y="400"/>
                    </a:lnTo>
                    <a:lnTo>
                      <a:pt x="780" y="293"/>
                    </a:lnTo>
                    <a:lnTo>
                      <a:pt x="721" y="150"/>
                    </a:lnTo>
                    <a:lnTo>
                      <a:pt x="548" y="0"/>
                    </a:lnTo>
                    <a:lnTo>
                      <a:pt x="481" y="17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1601640" y="5535720"/>
                <a:ext cx="45360" cy="64080"/>
              </a:xfrm>
              <a:custGeom>
                <a:avLst/>
                <a:gdLst/>
                <a:ahLst/>
                <a:rect l="l" t="t" r="r" b="b"/>
                <a:pathLst>
                  <a:path w="552" h="609">
                    <a:moveTo>
                      <a:pt x="152" y="0"/>
                    </a:moveTo>
                    <a:lnTo>
                      <a:pt x="31" y="152"/>
                    </a:lnTo>
                    <a:lnTo>
                      <a:pt x="132" y="293"/>
                    </a:lnTo>
                    <a:lnTo>
                      <a:pt x="373" y="133"/>
                    </a:lnTo>
                    <a:lnTo>
                      <a:pt x="453" y="293"/>
                    </a:lnTo>
                    <a:lnTo>
                      <a:pt x="0" y="609"/>
                    </a:lnTo>
                    <a:lnTo>
                      <a:pt x="420" y="541"/>
                    </a:lnTo>
                    <a:lnTo>
                      <a:pt x="552" y="133"/>
                    </a:lnTo>
                    <a:lnTo>
                      <a:pt x="453" y="42"/>
                    </a:lnTo>
                    <a:lnTo>
                      <a:pt x="299" y="62"/>
                    </a:lnTo>
                    <a:lnTo>
                      <a:pt x="193" y="23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1422720" y="5453640"/>
                <a:ext cx="68040" cy="260280"/>
              </a:xfrm>
              <a:custGeom>
                <a:avLst/>
                <a:gdLst/>
                <a:ahLst/>
                <a:rect l="l" t="t" r="r" b="b"/>
                <a:pathLst>
                  <a:path w="820" h="2453">
                    <a:moveTo>
                      <a:pt x="186" y="21"/>
                    </a:moveTo>
                    <a:lnTo>
                      <a:pt x="178" y="110"/>
                    </a:lnTo>
                    <a:lnTo>
                      <a:pt x="136" y="198"/>
                    </a:lnTo>
                    <a:lnTo>
                      <a:pt x="119" y="228"/>
                    </a:lnTo>
                    <a:lnTo>
                      <a:pt x="186" y="309"/>
                    </a:lnTo>
                    <a:lnTo>
                      <a:pt x="288" y="487"/>
                    </a:lnTo>
                    <a:lnTo>
                      <a:pt x="400" y="817"/>
                    </a:lnTo>
                    <a:lnTo>
                      <a:pt x="520" y="1245"/>
                    </a:lnTo>
                    <a:lnTo>
                      <a:pt x="693" y="1806"/>
                    </a:lnTo>
                    <a:lnTo>
                      <a:pt x="820" y="2125"/>
                    </a:lnTo>
                    <a:lnTo>
                      <a:pt x="672" y="2453"/>
                    </a:lnTo>
                    <a:lnTo>
                      <a:pt x="347" y="2204"/>
                    </a:lnTo>
                    <a:lnTo>
                      <a:pt x="68" y="708"/>
                    </a:lnTo>
                    <a:lnTo>
                      <a:pt x="46" y="440"/>
                    </a:lnTo>
                    <a:lnTo>
                      <a:pt x="68" y="270"/>
                    </a:lnTo>
                    <a:lnTo>
                      <a:pt x="68" y="228"/>
                    </a:lnTo>
                    <a:lnTo>
                      <a:pt x="0" y="141"/>
                    </a:lnTo>
                    <a:lnTo>
                      <a:pt x="6" y="0"/>
                    </a:lnTo>
                    <a:lnTo>
                      <a:pt x="149" y="11"/>
                    </a:lnTo>
                    <a:lnTo>
                      <a:pt x="186" y="2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1419480" y="5453640"/>
                <a:ext cx="71640" cy="262800"/>
              </a:xfrm>
              <a:custGeom>
                <a:avLst/>
                <a:gdLst/>
                <a:ahLst/>
                <a:rect l="l" t="t" r="r" b="b"/>
                <a:pathLst>
                  <a:path w="862" h="2474">
                    <a:moveTo>
                      <a:pt x="152" y="11"/>
                    </a:moveTo>
                    <a:lnTo>
                      <a:pt x="129" y="251"/>
                    </a:lnTo>
                    <a:lnTo>
                      <a:pt x="178" y="670"/>
                    </a:lnTo>
                    <a:lnTo>
                      <a:pt x="281" y="1141"/>
                    </a:lnTo>
                    <a:lnTo>
                      <a:pt x="461" y="1863"/>
                    </a:lnTo>
                    <a:lnTo>
                      <a:pt x="499" y="2174"/>
                    </a:lnTo>
                    <a:lnTo>
                      <a:pt x="691" y="2370"/>
                    </a:lnTo>
                    <a:lnTo>
                      <a:pt x="811" y="2112"/>
                    </a:lnTo>
                    <a:lnTo>
                      <a:pt x="629" y="1694"/>
                    </a:lnTo>
                    <a:lnTo>
                      <a:pt x="519" y="1257"/>
                    </a:lnTo>
                    <a:lnTo>
                      <a:pt x="422" y="876"/>
                    </a:lnTo>
                    <a:lnTo>
                      <a:pt x="288" y="468"/>
                    </a:lnTo>
                    <a:lnTo>
                      <a:pt x="211" y="309"/>
                    </a:lnTo>
                    <a:lnTo>
                      <a:pt x="170" y="228"/>
                    </a:lnTo>
                    <a:lnTo>
                      <a:pt x="288" y="389"/>
                    </a:lnTo>
                    <a:lnTo>
                      <a:pt x="409" y="738"/>
                    </a:lnTo>
                    <a:lnTo>
                      <a:pt x="562" y="1195"/>
                    </a:lnTo>
                    <a:lnTo>
                      <a:pt x="714" y="1705"/>
                    </a:lnTo>
                    <a:lnTo>
                      <a:pt x="783" y="1936"/>
                    </a:lnTo>
                    <a:lnTo>
                      <a:pt x="862" y="2112"/>
                    </a:lnTo>
                    <a:lnTo>
                      <a:pt x="721" y="2474"/>
                    </a:lnTo>
                    <a:lnTo>
                      <a:pt x="380" y="2193"/>
                    </a:lnTo>
                    <a:lnTo>
                      <a:pt x="251" y="1505"/>
                    </a:lnTo>
                    <a:lnTo>
                      <a:pt x="119" y="717"/>
                    </a:lnTo>
                    <a:lnTo>
                      <a:pt x="110" y="440"/>
                    </a:lnTo>
                    <a:lnTo>
                      <a:pt x="88" y="228"/>
                    </a:lnTo>
                    <a:lnTo>
                      <a:pt x="0" y="110"/>
                    </a:lnTo>
                    <a:lnTo>
                      <a:pt x="60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1354320" y="5445000"/>
                <a:ext cx="47520" cy="108360"/>
              </a:xfrm>
              <a:custGeom>
                <a:avLst/>
                <a:gdLst/>
                <a:ahLst/>
                <a:rect l="l" t="t" r="r" b="b"/>
                <a:pathLst>
                  <a:path w="578" h="1028">
                    <a:moveTo>
                      <a:pt x="42" y="938"/>
                    </a:moveTo>
                    <a:lnTo>
                      <a:pt x="37" y="775"/>
                    </a:lnTo>
                    <a:lnTo>
                      <a:pt x="0" y="360"/>
                    </a:lnTo>
                    <a:lnTo>
                      <a:pt x="37" y="276"/>
                    </a:lnTo>
                    <a:lnTo>
                      <a:pt x="293" y="0"/>
                    </a:lnTo>
                    <a:lnTo>
                      <a:pt x="523" y="48"/>
                    </a:lnTo>
                    <a:lnTo>
                      <a:pt x="578" y="184"/>
                    </a:lnTo>
                    <a:lnTo>
                      <a:pt x="528" y="247"/>
                    </a:lnTo>
                    <a:lnTo>
                      <a:pt x="563" y="465"/>
                    </a:lnTo>
                    <a:lnTo>
                      <a:pt x="486" y="487"/>
                    </a:lnTo>
                    <a:lnTo>
                      <a:pt x="464" y="705"/>
                    </a:lnTo>
                    <a:lnTo>
                      <a:pt x="406" y="805"/>
                    </a:lnTo>
                    <a:lnTo>
                      <a:pt x="358" y="874"/>
                    </a:lnTo>
                    <a:lnTo>
                      <a:pt x="305" y="938"/>
                    </a:lnTo>
                    <a:lnTo>
                      <a:pt x="263" y="1028"/>
                    </a:lnTo>
                    <a:lnTo>
                      <a:pt x="92" y="1001"/>
                    </a:lnTo>
                    <a:lnTo>
                      <a:pt x="42" y="938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1358280" y="5276160"/>
                <a:ext cx="107280" cy="172800"/>
              </a:xfrm>
              <a:custGeom>
                <a:avLst/>
                <a:gdLst/>
                <a:ahLst/>
                <a:rect l="l" t="t" r="r" b="b"/>
                <a:pathLst>
                  <a:path w="1289" h="1630">
                    <a:moveTo>
                      <a:pt x="37" y="717"/>
                    </a:moveTo>
                    <a:lnTo>
                      <a:pt x="0" y="784"/>
                    </a:lnTo>
                    <a:lnTo>
                      <a:pt x="0" y="915"/>
                    </a:lnTo>
                    <a:lnTo>
                      <a:pt x="85" y="1036"/>
                    </a:lnTo>
                    <a:lnTo>
                      <a:pt x="200" y="1120"/>
                    </a:lnTo>
                    <a:lnTo>
                      <a:pt x="235" y="1120"/>
                    </a:lnTo>
                    <a:lnTo>
                      <a:pt x="298" y="1263"/>
                    </a:lnTo>
                    <a:lnTo>
                      <a:pt x="348" y="1395"/>
                    </a:lnTo>
                    <a:lnTo>
                      <a:pt x="447" y="1508"/>
                    </a:lnTo>
                    <a:lnTo>
                      <a:pt x="555" y="1572"/>
                    </a:lnTo>
                    <a:lnTo>
                      <a:pt x="705" y="1621"/>
                    </a:lnTo>
                    <a:lnTo>
                      <a:pt x="855" y="1630"/>
                    </a:lnTo>
                    <a:lnTo>
                      <a:pt x="947" y="1579"/>
                    </a:lnTo>
                    <a:lnTo>
                      <a:pt x="1019" y="1494"/>
                    </a:lnTo>
                    <a:lnTo>
                      <a:pt x="1090" y="1374"/>
                    </a:lnTo>
                    <a:lnTo>
                      <a:pt x="1118" y="1263"/>
                    </a:lnTo>
                    <a:lnTo>
                      <a:pt x="1140" y="1056"/>
                    </a:lnTo>
                    <a:lnTo>
                      <a:pt x="1203" y="1001"/>
                    </a:lnTo>
                    <a:lnTo>
                      <a:pt x="1284" y="889"/>
                    </a:lnTo>
                    <a:lnTo>
                      <a:pt x="1289" y="768"/>
                    </a:lnTo>
                    <a:lnTo>
                      <a:pt x="1274" y="662"/>
                    </a:lnTo>
                    <a:lnTo>
                      <a:pt x="1261" y="627"/>
                    </a:lnTo>
                    <a:lnTo>
                      <a:pt x="1203" y="595"/>
                    </a:lnTo>
                    <a:lnTo>
                      <a:pt x="1118" y="325"/>
                    </a:lnTo>
                    <a:lnTo>
                      <a:pt x="1012" y="94"/>
                    </a:lnTo>
                    <a:lnTo>
                      <a:pt x="692" y="0"/>
                    </a:lnTo>
                    <a:lnTo>
                      <a:pt x="270" y="85"/>
                    </a:lnTo>
                    <a:lnTo>
                      <a:pt x="85" y="247"/>
                    </a:lnTo>
                    <a:lnTo>
                      <a:pt x="41" y="429"/>
                    </a:lnTo>
                    <a:lnTo>
                      <a:pt x="41" y="657"/>
                    </a:lnTo>
                    <a:lnTo>
                      <a:pt x="37" y="717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1383480" y="5378760"/>
                <a:ext cx="18360" cy="13320"/>
              </a:xfrm>
              <a:custGeom>
                <a:avLst/>
                <a:gdLst/>
                <a:ahLst/>
                <a:rect l="l" t="t" r="r" b="b"/>
                <a:pathLst>
                  <a:path w="223" h="120">
                    <a:moveTo>
                      <a:pt x="223" y="6"/>
                    </a:moveTo>
                    <a:lnTo>
                      <a:pt x="223" y="41"/>
                    </a:lnTo>
                    <a:lnTo>
                      <a:pt x="140" y="108"/>
                    </a:lnTo>
                    <a:lnTo>
                      <a:pt x="57" y="120"/>
                    </a:lnTo>
                    <a:lnTo>
                      <a:pt x="0" y="78"/>
                    </a:lnTo>
                    <a:lnTo>
                      <a:pt x="16" y="0"/>
                    </a:lnTo>
                    <a:lnTo>
                      <a:pt x="92" y="28"/>
                    </a:lnTo>
                    <a:lnTo>
                      <a:pt x="140" y="35"/>
                    </a:lnTo>
                    <a:lnTo>
                      <a:pt x="223" y="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1426680" y="5367960"/>
                <a:ext cx="19800" cy="15120"/>
              </a:xfrm>
              <a:custGeom>
                <a:avLst/>
                <a:gdLst/>
                <a:ahLst/>
                <a:rect l="l" t="t" r="r" b="b"/>
                <a:pathLst>
                  <a:path w="245" h="141">
                    <a:moveTo>
                      <a:pt x="0" y="85"/>
                    </a:moveTo>
                    <a:lnTo>
                      <a:pt x="18" y="112"/>
                    </a:lnTo>
                    <a:lnTo>
                      <a:pt x="117" y="141"/>
                    </a:lnTo>
                    <a:lnTo>
                      <a:pt x="212" y="134"/>
                    </a:lnTo>
                    <a:lnTo>
                      <a:pt x="245" y="79"/>
                    </a:lnTo>
                    <a:lnTo>
                      <a:pt x="238" y="0"/>
                    </a:lnTo>
                    <a:lnTo>
                      <a:pt x="179" y="42"/>
                    </a:lnTo>
                    <a:lnTo>
                      <a:pt x="139" y="79"/>
                    </a:lnTo>
                    <a:lnTo>
                      <a:pt x="83" y="9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1411920" y="5373000"/>
                <a:ext cx="10440" cy="25200"/>
              </a:xfrm>
              <a:custGeom>
                <a:avLst/>
                <a:gdLst/>
                <a:ahLst/>
                <a:rect l="l" t="t" r="r" b="b"/>
                <a:pathLst>
                  <a:path w="120" h="235">
                    <a:moveTo>
                      <a:pt x="57" y="37"/>
                    </a:moveTo>
                    <a:lnTo>
                      <a:pt x="37" y="0"/>
                    </a:lnTo>
                    <a:lnTo>
                      <a:pt x="13" y="16"/>
                    </a:lnTo>
                    <a:lnTo>
                      <a:pt x="22" y="141"/>
                    </a:lnTo>
                    <a:lnTo>
                      <a:pt x="0" y="169"/>
                    </a:lnTo>
                    <a:lnTo>
                      <a:pt x="13" y="220"/>
                    </a:lnTo>
                    <a:lnTo>
                      <a:pt x="64" y="235"/>
                    </a:lnTo>
                    <a:lnTo>
                      <a:pt x="108" y="220"/>
                    </a:lnTo>
                    <a:lnTo>
                      <a:pt x="120" y="178"/>
                    </a:lnTo>
                    <a:lnTo>
                      <a:pt x="112" y="148"/>
                    </a:lnTo>
                    <a:lnTo>
                      <a:pt x="78" y="121"/>
                    </a:lnTo>
                    <a:lnTo>
                      <a:pt x="57" y="3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1404000" y="53881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51" h="42">
                    <a:moveTo>
                      <a:pt x="25" y="0"/>
                    </a:moveTo>
                    <a:lnTo>
                      <a:pt x="0" y="25"/>
                    </a:lnTo>
                    <a:lnTo>
                      <a:pt x="25" y="42"/>
                    </a:lnTo>
                    <a:lnTo>
                      <a:pt x="51" y="7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1423800" y="538560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6"/>
                    </a:moveTo>
                    <a:lnTo>
                      <a:pt x="21" y="36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1406880" y="5413680"/>
                <a:ext cx="27720" cy="7200"/>
              </a:xfrm>
              <a:custGeom>
                <a:avLst/>
                <a:gdLst/>
                <a:ahLst/>
                <a:rect l="l" t="t" r="r" b="b"/>
                <a:pathLst>
                  <a:path w="343" h="70">
                    <a:moveTo>
                      <a:pt x="0" y="44"/>
                    </a:moveTo>
                    <a:lnTo>
                      <a:pt x="128" y="70"/>
                    </a:lnTo>
                    <a:lnTo>
                      <a:pt x="235" y="55"/>
                    </a:lnTo>
                    <a:lnTo>
                      <a:pt x="322" y="21"/>
                    </a:lnTo>
                    <a:lnTo>
                      <a:pt x="343" y="7"/>
                    </a:lnTo>
                    <a:lnTo>
                      <a:pt x="297" y="0"/>
                    </a:lnTo>
                    <a:lnTo>
                      <a:pt x="214" y="21"/>
                    </a:lnTo>
                    <a:lnTo>
                      <a:pt x="135" y="26"/>
                    </a:lnTo>
                    <a:lnTo>
                      <a:pt x="20" y="21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1370880" y="5309280"/>
                <a:ext cx="29520" cy="45000"/>
              </a:xfrm>
              <a:custGeom>
                <a:avLst/>
                <a:gdLst/>
                <a:ahLst/>
                <a:rect l="l" t="t" r="r" b="b"/>
                <a:pathLst>
                  <a:path w="363" h="429">
                    <a:moveTo>
                      <a:pt x="226" y="35"/>
                    </a:moveTo>
                    <a:lnTo>
                      <a:pt x="158" y="99"/>
                    </a:lnTo>
                    <a:lnTo>
                      <a:pt x="127" y="182"/>
                    </a:lnTo>
                    <a:lnTo>
                      <a:pt x="127" y="266"/>
                    </a:lnTo>
                    <a:lnTo>
                      <a:pt x="149" y="337"/>
                    </a:lnTo>
                    <a:lnTo>
                      <a:pt x="363" y="394"/>
                    </a:lnTo>
                    <a:lnTo>
                      <a:pt x="185" y="389"/>
                    </a:lnTo>
                    <a:lnTo>
                      <a:pt x="63" y="429"/>
                    </a:lnTo>
                    <a:lnTo>
                      <a:pt x="79" y="380"/>
                    </a:lnTo>
                    <a:lnTo>
                      <a:pt x="33" y="323"/>
                    </a:lnTo>
                    <a:lnTo>
                      <a:pt x="6" y="231"/>
                    </a:lnTo>
                    <a:lnTo>
                      <a:pt x="0" y="134"/>
                    </a:lnTo>
                    <a:lnTo>
                      <a:pt x="19" y="62"/>
                    </a:lnTo>
                    <a:lnTo>
                      <a:pt x="68" y="14"/>
                    </a:lnTo>
                    <a:lnTo>
                      <a:pt x="136" y="0"/>
                    </a:lnTo>
                    <a:lnTo>
                      <a:pt x="192" y="7"/>
                    </a:lnTo>
                    <a:lnTo>
                      <a:pt x="226" y="3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1416600" y="533232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14" h="154">
                    <a:moveTo>
                      <a:pt x="70" y="115"/>
                    </a:moveTo>
                    <a:lnTo>
                      <a:pt x="226" y="34"/>
                    </a:lnTo>
                    <a:lnTo>
                      <a:pt x="314" y="30"/>
                    </a:lnTo>
                    <a:lnTo>
                      <a:pt x="249" y="0"/>
                    </a:lnTo>
                    <a:lnTo>
                      <a:pt x="176" y="30"/>
                    </a:lnTo>
                    <a:lnTo>
                      <a:pt x="0" y="154"/>
                    </a:lnTo>
                    <a:lnTo>
                      <a:pt x="70" y="11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1361880" y="5359320"/>
                <a:ext cx="8280" cy="6840"/>
              </a:xfrm>
              <a:custGeom>
                <a:avLst/>
                <a:gdLst/>
                <a:ahLst/>
                <a:rect l="l" t="t" r="r" b="b"/>
                <a:pathLst>
                  <a:path w="105" h="60">
                    <a:moveTo>
                      <a:pt x="0" y="44"/>
                    </a:moveTo>
                    <a:lnTo>
                      <a:pt x="96" y="60"/>
                    </a:lnTo>
                    <a:lnTo>
                      <a:pt x="105" y="31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1451880" y="5344200"/>
                <a:ext cx="8280" cy="11880"/>
              </a:xfrm>
              <a:custGeom>
                <a:avLst/>
                <a:gdLst/>
                <a:ahLst/>
                <a:rect l="l" t="t" r="r" b="b"/>
                <a:pathLst>
                  <a:path w="99" h="111">
                    <a:moveTo>
                      <a:pt x="0" y="111"/>
                    </a:moveTo>
                    <a:lnTo>
                      <a:pt x="19" y="111"/>
                    </a:lnTo>
                    <a:lnTo>
                      <a:pt x="99" y="35"/>
                    </a:lnTo>
                    <a:lnTo>
                      <a:pt x="90" y="0"/>
                    </a:lnTo>
                    <a:lnTo>
                      <a:pt x="55" y="0"/>
                    </a:lnTo>
                    <a:lnTo>
                      <a:pt x="7" y="39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1415520" y="543240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154" h="84">
                    <a:moveTo>
                      <a:pt x="27" y="7"/>
                    </a:moveTo>
                    <a:lnTo>
                      <a:pt x="0" y="49"/>
                    </a:lnTo>
                    <a:lnTo>
                      <a:pt x="32" y="84"/>
                    </a:lnTo>
                    <a:lnTo>
                      <a:pt x="140" y="69"/>
                    </a:lnTo>
                    <a:lnTo>
                      <a:pt x="154" y="27"/>
                    </a:lnTo>
                    <a:lnTo>
                      <a:pt x="127" y="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1360440" y="5495040"/>
                <a:ext cx="14400" cy="35280"/>
              </a:xfrm>
              <a:custGeom>
                <a:avLst/>
                <a:gdLst/>
                <a:ahLst/>
                <a:rect l="l" t="t" r="r" b="b"/>
                <a:pathLst>
                  <a:path w="172" h="336">
                    <a:moveTo>
                      <a:pt x="7" y="42"/>
                    </a:moveTo>
                    <a:lnTo>
                      <a:pt x="51" y="211"/>
                    </a:lnTo>
                    <a:lnTo>
                      <a:pt x="73" y="336"/>
                    </a:lnTo>
                    <a:lnTo>
                      <a:pt x="156" y="336"/>
                    </a:lnTo>
                    <a:lnTo>
                      <a:pt x="172" y="279"/>
                    </a:lnTo>
                    <a:lnTo>
                      <a:pt x="99" y="231"/>
                    </a:lnTo>
                    <a:lnTo>
                      <a:pt x="73" y="147"/>
                    </a:lnTo>
                    <a:lnTo>
                      <a:pt x="78" y="75"/>
                    </a:lnTo>
                    <a:lnTo>
                      <a:pt x="0" y="0"/>
                    </a:lnTo>
                    <a:lnTo>
                      <a:pt x="7" y="42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1360800" y="5471280"/>
                <a:ext cx="21600" cy="12600"/>
              </a:xfrm>
              <a:custGeom>
                <a:avLst/>
                <a:gdLst/>
                <a:ahLst/>
                <a:rect l="l" t="t" r="r" b="b"/>
                <a:pathLst>
                  <a:path w="264" h="122">
                    <a:moveTo>
                      <a:pt x="0" y="106"/>
                    </a:moveTo>
                    <a:lnTo>
                      <a:pt x="13" y="122"/>
                    </a:lnTo>
                    <a:lnTo>
                      <a:pt x="57" y="78"/>
                    </a:lnTo>
                    <a:lnTo>
                      <a:pt x="114" y="97"/>
                    </a:lnTo>
                    <a:lnTo>
                      <a:pt x="140" y="53"/>
                    </a:lnTo>
                    <a:lnTo>
                      <a:pt x="264" y="106"/>
                    </a:lnTo>
                    <a:lnTo>
                      <a:pt x="127" y="0"/>
                    </a:lnTo>
                    <a:lnTo>
                      <a:pt x="101" y="14"/>
                    </a:lnTo>
                    <a:lnTo>
                      <a:pt x="32" y="64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1378440" y="5513040"/>
                <a:ext cx="8280" cy="15840"/>
              </a:xfrm>
              <a:custGeom>
                <a:avLst/>
                <a:gdLst/>
                <a:ahLst/>
                <a:rect l="l" t="t" r="r" b="b"/>
                <a:pathLst>
                  <a:path w="106" h="147">
                    <a:moveTo>
                      <a:pt x="0" y="44"/>
                    </a:moveTo>
                    <a:lnTo>
                      <a:pt x="41" y="85"/>
                    </a:lnTo>
                    <a:lnTo>
                      <a:pt x="63" y="147"/>
                    </a:lnTo>
                    <a:lnTo>
                      <a:pt x="106" y="92"/>
                    </a:lnTo>
                    <a:lnTo>
                      <a:pt x="99" y="35"/>
                    </a:lnTo>
                    <a:lnTo>
                      <a:pt x="63" y="9"/>
                    </a:lnTo>
                    <a:lnTo>
                      <a:pt x="7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1386720" y="536364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44" h="94">
                    <a:moveTo>
                      <a:pt x="0" y="34"/>
                    </a:moveTo>
                    <a:lnTo>
                      <a:pt x="45" y="81"/>
                    </a:lnTo>
                    <a:lnTo>
                      <a:pt x="89" y="94"/>
                    </a:lnTo>
                    <a:lnTo>
                      <a:pt x="114" y="94"/>
                    </a:lnTo>
                    <a:lnTo>
                      <a:pt x="167" y="94"/>
                    </a:lnTo>
                    <a:lnTo>
                      <a:pt x="244" y="43"/>
                    </a:lnTo>
                    <a:lnTo>
                      <a:pt x="204" y="0"/>
                    </a:lnTo>
                    <a:lnTo>
                      <a:pt x="123" y="9"/>
                    </a:lnTo>
                    <a:lnTo>
                      <a:pt x="45" y="28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1423440" y="535932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221" h="85">
                    <a:moveTo>
                      <a:pt x="0" y="70"/>
                    </a:moveTo>
                    <a:lnTo>
                      <a:pt x="44" y="7"/>
                    </a:lnTo>
                    <a:lnTo>
                      <a:pt x="129" y="0"/>
                    </a:lnTo>
                    <a:lnTo>
                      <a:pt x="221" y="7"/>
                    </a:lnTo>
                    <a:lnTo>
                      <a:pt x="216" y="26"/>
                    </a:lnTo>
                    <a:lnTo>
                      <a:pt x="185" y="57"/>
                    </a:lnTo>
                    <a:lnTo>
                      <a:pt x="115" y="85"/>
                    </a:lnTo>
                    <a:lnTo>
                      <a:pt x="51" y="85"/>
                    </a:lnTo>
                    <a:lnTo>
                      <a:pt x="9" y="85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808200" y="5411160"/>
                <a:ext cx="45000" cy="37080"/>
              </a:xfrm>
              <a:custGeom>
                <a:avLst/>
                <a:gdLst/>
                <a:ahLst/>
                <a:rect l="l" t="t" r="r" b="b"/>
                <a:pathLst>
                  <a:path w="546" h="352">
                    <a:moveTo>
                      <a:pt x="53" y="229"/>
                    </a:moveTo>
                    <a:lnTo>
                      <a:pt x="126" y="174"/>
                    </a:lnTo>
                    <a:lnTo>
                      <a:pt x="163" y="161"/>
                    </a:lnTo>
                    <a:lnTo>
                      <a:pt x="313" y="161"/>
                    </a:lnTo>
                    <a:lnTo>
                      <a:pt x="387" y="167"/>
                    </a:lnTo>
                    <a:lnTo>
                      <a:pt x="194" y="94"/>
                    </a:lnTo>
                    <a:lnTo>
                      <a:pt x="60" y="94"/>
                    </a:lnTo>
                    <a:lnTo>
                      <a:pt x="9" y="82"/>
                    </a:lnTo>
                    <a:lnTo>
                      <a:pt x="0" y="75"/>
                    </a:lnTo>
                    <a:lnTo>
                      <a:pt x="145" y="0"/>
                    </a:lnTo>
                    <a:lnTo>
                      <a:pt x="224" y="13"/>
                    </a:lnTo>
                    <a:lnTo>
                      <a:pt x="313" y="64"/>
                    </a:lnTo>
                    <a:lnTo>
                      <a:pt x="415" y="108"/>
                    </a:lnTo>
                    <a:lnTo>
                      <a:pt x="498" y="130"/>
                    </a:lnTo>
                    <a:lnTo>
                      <a:pt x="546" y="198"/>
                    </a:lnTo>
                    <a:lnTo>
                      <a:pt x="521" y="255"/>
                    </a:lnTo>
                    <a:lnTo>
                      <a:pt x="484" y="255"/>
                    </a:lnTo>
                    <a:lnTo>
                      <a:pt x="431" y="322"/>
                    </a:lnTo>
                    <a:lnTo>
                      <a:pt x="376" y="329"/>
                    </a:lnTo>
                    <a:lnTo>
                      <a:pt x="286" y="352"/>
                    </a:lnTo>
                    <a:lnTo>
                      <a:pt x="365" y="280"/>
                    </a:lnTo>
                    <a:lnTo>
                      <a:pt x="401" y="235"/>
                    </a:lnTo>
                    <a:lnTo>
                      <a:pt x="401" y="218"/>
                    </a:lnTo>
                    <a:lnTo>
                      <a:pt x="365" y="209"/>
                    </a:lnTo>
                    <a:lnTo>
                      <a:pt x="304" y="191"/>
                    </a:lnTo>
                    <a:lnTo>
                      <a:pt x="286" y="235"/>
                    </a:lnTo>
                    <a:lnTo>
                      <a:pt x="282" y="205"/>
                    </a:lnTo>
                    <a:lnTo>
                      <a:pt x="256" y="205"/>
                    </a:lnTo>
                    <a:lnTo>
                      <a:pt x="253" y="225"/>
                    </a:lnTo>
                    <a:lnTo>
                      <a:pt x="277" y="244"/>
                    </a:lnTo>
                    <a:lnTo>
                      <a:pt x="268" y="266"/>
                    </a:lnTo>
                    <a:lnTo>
                      <a:pt x="84" y="244"/>
                    </a:lnTo>
                    <a:lnTo>
                      <a:pt x="53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816840" y="5440680"/>
                <a:ext cx="18360" cy="4680"/>
              </a:xfrm>
              <a:custGeom>
                <a:avLst/>
                <a:gdLst/>
                <a:ahLst/>
                <a:rect l="l" t="t" r="r" b="b"/>
                <a:pathLst>
                  <a:path w="224" h="49">
                    <a:moveTo>
                      <a:pt x="0" y="0"/>
                    </a:moveTo>
                    <a:lnTo>
                      <a:pt x="40" y="33"/>
                    </a:lnTo>
                    <a:lnTo>
                      <a:pt x="139" y="49"/>
                    </a:lnTo>
                    <a:lnTo>
                      <a:pt x="224" y="3"/>
                    </a:lnTo>
                    <a:lnTo>
                      <a:pt x="132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835200" y="5430600"/>
                <a:ext cx="5040" cy="10080"/>
              </a:xfrm>
              <a:custGeom>
                <a:avLst/>
                <a:gdLst/>
                <a:ahLst/>
                <a:rect l="l" t="t" r="r" b="b"/>
                <a:pathLst>
                  <a:path w="64" h="98">
                    <a:moveTo>
                      <a:pt x="0" y="0"/>
                    </a:moveTo>
                    <a:lnTo>
                      <a:pt x="53" y="98"/>
                    </a:lnTo>
                    <a:lnTo>
                      <a:pt x="64" y="81"/>
                    </a:lnTo>
                    <a:lnTo>
                      <a:pt x="3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57160" y="5429520"/>
                <a:ext cx="33480" cy="55080"/>
              </a:xfrm>
              <a:custGeom>
                <a:avLst/>
                <a:gdLst/>
                <a:ahLst/>
                <a:rect l="l" t="t" r="r" b="b"/>
                <a:pathLst>
                  <a:path w="406" h="514">
                    <a:moveTo>
                      <a:pt x="0" y="10"/>
                    </a:moveTo>
                    <a:lnTo>
                      <a:pt x="0" y="63"/>
                    </a:lnTo>
                    <a:lnTo>
                      <a:pt x="28" y="99"/>
                    </a:lnTo>
                    <a:lnTo>
                      <a:pt x="12" y="388"/>
                    </a:lnTo>
                    <a:lnTo>
                      <a:pt x="35" y="514"/>
                    </a:lnTo>
                    <a:lnTo>
                      <a:pt x="28" y="380"/>
                    </a:lnTo>
                    <a:lnTo>
                      <a:pt x="39" y="213"/>
                    </a:lnTo>
                    <a:lnTo>
                      <a:pt x="146" y="288"/>
                    </a:lnTo>
                    <a:lnTo>
                      <a:pt x="105" y="201"/>
                    </a:lnTo>
                    <a:lnTo>
                      <a:pt x="197" y="235"/>
                    </a:lnTo>
                    <a:lnTo>
                      <a:pt x="275" y="222"/>
                    </a:lnTo>
                    <a:lnTo>
                      <a:pt x="202" y="201"/>
                    </a:lnTo>
                    <a:lnTo>
                      <a:pt x="202" y="178"/>
                    </a:lnTo>
                    <a:lnTo>
                      <a:pt x="233" y="160"/>
                    </a:lnTo>
                    <a:lnTo>
                      <a:pt x="294" y="208"/>
                    </a:lnTo>
                    <a:lnTo>
                      <a:pt x="328" y="189"/>
                    </a:lnTo>
                    <a:lnTo>
                      <a:pt x="250" y="114"/>
                    </a:lnTo>
                    <a:lnTo>
                      <a:pt x="202" y="85"/>
                    </a:lnTo>
                    <a:lnTo>
                      <a:pt x="202" y="65"/>
                    </a:lnTo>
                    <a:lnTo>
                      <a:pt x="321" y="90"/>
                    </a:lnTo>
                    <a:lnTo>
                      <a:pt x="356" y="132"/>
                    </a:lnTo>
                    <a:lnTo>
                      <a:pt x="344" y="164"/>
                    </a:lnTo>
                    <a:lnTo>
                      <a:pt x="406" y="141"/>
                    </a:lnTo>
                    <a:lnTo>
                      <a:pt x="406" y="54"/>
                    </a:lnTo>
                    <a:lnTo>
                      <a:pt x="365" y="17"/>
                    </a:lnTo>
                    <a:lnTo>
                      <a:pt x="270" y="17"/>
                    </a:lnTo>
                    <a:lnTo>
                      <a:pt x="79" y="0"/>
                    </a:lnTo>
                    <a:lnTo>
                      <a:pt x="35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855720" y="548820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44" h="62">
                    <a:moveTo>
                      <a:pt x="0" y="46"/>
                    </a:moveTo>
                    <a:lnTo>
                      <a:pt x="28" y="62"/>
                    </a:lnTo>
                    <a:lnTo>
                      <a:pt x="44" y="49"/>
                    </a:lnTo>
                    <a:lnTo>
                      <a:pt x="35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11440" y="5481360"/>
                <a:ext cx="53640" cy="36360"/>
              </a:xfrm>
              <a:custGeom>
                <a:avLst/>
                <a:gdLst/>
                <a:ahLst/>
                <a:rect l="l" t="t" r="r" b="b"/>
                <a:pathLst>
                  <a:path w="647" h="347">
                    <a:moveTo>
                      <a:pt x="509" y="114"/>
                    </a:moveTo>
                    <a:lnTo>
                      <a:pt x="466" y="117"/>
                    </a:lnTo>
                    <a:lnTo>
                      <a:pt x="374" y="29"/>
                    </a:lnTo>
                    <a:lnTo>
                      <a:pt x="311" y="0"/>
                    </a:lnTo>
                    <a:lnTo>
                      <a:pt x="219" y="31"/>
                    </a:lnTo>
                    <a:lnTo>
                      <a:pt x="219" y="57"/>
                    </a:lnTo>
                    <a:lnTo>
                      <a:pt x="258" y="64"/>
                    </a:lnTo>
                    <a:lnTo>
                      <a:pt x="120" y="105"/>
                    </a:lnTo>
                    <a:lnTo>
                      <a:pt x="0" y="181"/>
                    </a:lnTo>
                    <a:lnTo>
                      <a:pt x="23" y="225"/>
                    </a:lnTo>
                    <a:lnTo>
                      <a:pt x="95" y="220"/>
                    </a:lnTo>
                    <a:lnTo>
                      <a:pt x="157" y="237"/>
                    </a:lnTo>
                    <a:lnTo>
                      <a:pt x="240" y="193"/>
                    </a:lnTo>
                    <a:lnTo>
                      <a:pt x="357" y="211"/>
                    </a:lnTo>
                    <a:lnTo>
                      <a:pt x="461" y="200"/>
                    </a:lnTo>
                    <a:lnTo>
                      <a:pt x="521" y="257"/>
                    </a:lnTo>
                    <a:lnTo>
                      <a:pt x="567" y="279"/>
                    </a:lnTo>
                    <a:lnTo>
                      <a:pt x="620" y="347"/>
                    </a:lnTo>
                    <a:lnTo>
                      <a:pt x="647" y="334"/>
                    </a:lnTo>
                    <a:lnTo>
                      <a:pt x="643" y="225"/>
                    </a:lnTo>
                    <a:lnTo>
                      <a:pt x="567" y="105"/>
                    </a:lnTo>
                    <a:lnTo>
                      <a:pt x="509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841320" y="5464440"/>
                <a:ext cx="5760" cy="9360"/>
              </a:xfrm>
              <a:custGeom>
                <a:avLst/>
                <a:gdLst/>
                <a:ahLst/>
                <a:rect l="l" t="t" r="r" b="b"/>
                <a:pathLst>
                  <a:path w="72" h="86">
                    <a:moveTo>
                      <a:pt x="0" y="55"/>
                    </a:moveTo>
                    <a:lnTo>
                      <a:pt x="37" y="86"/>
                    </a:lnTo>
                    <a:lnTo>
                      <a:pt x="72" y="24"/>
                    </a:lnTo>
                    <a:lnTo>
                      <a:pt x="60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829440" y="5510160"/>
                <a:ext cx="24840" cy="13320"/>
              </a:xfrm>
              <a:custGeom>
                <a:avLst/>
                <a:gdLst/>
                <a:ahLst/>
                <a:rect l="l" t="t" r="r" b="b"/>
                <a:pathLst>
                  <a:path w="302" h="129">
                    <a:moveTo>
                      <a:pt x="0" y="26"/>
                    </a:moveTo>
                    <a:lnTo>
                      <a:pt x="48" y="0"/>
                    </a:lnTo>
                    <a:lnTo>
                      <a:pt x="302" y="42"/>
                    </a:lnTo>
                    <a:lnTo>
                      <a:pt x="279" y="129"/>
                    </a:lnTo>
                    <a:lnTo>
                      <a:pt x="228" y="98"/>
                    </a:lnTo>
                    <a:lnTo>
                      <a:pt x="30" y="9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788760" y="5321880"/>
                <a:ext cx="105120" cy="73080"/>
              </a:xfrm>
              <a:custGeom>
                <a:avLst/>
                <a:gdLst/>
                <a:ahLst/>
                <a:rect l="l" t="t" r="r" b="b"/>
                <a:pathLst>
                  <a:path w="1275" h="682">
                    <a:moveTo>
                      <a:pt x="934" y="170"/>
                    </a:moveTo>
                    <a:lnTo>
                      <a:pt x="1037" y="159"/>
                    </a:lnTo>
                    <a:lnTo>
                      <a:pt x="1037" y="136"/>
                    </a:lnTo>
                    <a:lnTo>
                      <a:pt x="970" y="92"/>
                    </a:lnTo>
                    <a:lnTo>
                      <a:pt x="834" y="42"/>
                    </a:lnTo>
                    <a:lnTo>
                      <a:pt x="730" y="25"/>
                    </a:lnTo>
                    <a:lnTo>
                      <a:pt x="431" y="7"/>
                    </a:lnTo>
                    <a:lnTo>
                      <a:pt x="652" y="0"/>
                    </a:lnTo>
                    <a:lnTo>
                      <a:pt x="868" y="18"/>
                    </a:lnTo>
                    <a:lnTo>
                      <a:pt x="1037" y="73"/>
                    </a:lnTo>
                    <a:lnTo>
                      <a:pt x="1157" y="154"/>
                    </a:lnTo>
                    <a:lnTo>
                      <a:pt x="1249" y="251"/>
                    </a:lnTo>
                    <a:lnTo>
                      <a:pt x="1275" y="325"/>
                    </a:lnTo>
                    <a:lnTo>
                      <a:pt x="1275" y="387"/>
                    </a:lnTo>
                    <a:lnTo>
                      <a:pt x="1217" y="449"/>
                    </a:lnTo>
                    <a:lnTo>
                      <a:pt x="1104" y="530"/>
                    </a:lnTo>
                    <a:lnTo>
                      <a:pt x="943" y="578"/>
                    </a:lnTo>
                    <a:lnTo>
                      <a:pt x="730" y="631"/>
                    </a:lnTo>
                    <a:lnTo>
                      <a:pt x="315" y="664"/>
                    </a:lnTo>
                    <a:lnTo>
                      <a:pt x="0" y="682"/>
                    </a:lnTo>
                    <a:lnTo>
                      <a:pt x="703" y="504"/>
                    </a:lnTo>
                    <a:lnTo>
                      <a:pt x="864" y="449"/>
                    </a:lnTo>
                    <a:lnTo>
                      <a:pt x="952" y="407"/>
                    </a:lnTo>
                    <a:lnTo>
                      <a:pt x="975" y="387"/>
                    </a:lnTo>
                    <a:lnTo>
                      <a:pt x="970" y="374"/>
                    </a:lnTo>
                    <a:lnTo>
                      <a:pt x="917" y="367"/>
                    </a:lnTo>
                    <a:lnTo>
                      <a:pt x="1074" y="325"/>
                    </a:lnTo>
                    <a:lnTo>
                      <a:pt x="1086" y="304"/>
                    </a:lnTo>
                    <a:lnTo>
                      <a:pt x="1157" y="306"/>
                    </a:lnTo>
                    <a:lnTo>
                      <a:pt x="1161" y="284"/>
                    </a:lnTo>
                    <a:lnTo>
                      <a:pt x="1136" y="271"/>
                    </a:lnTo>
                    <a:lnTo>
                      <a:pt x="1018" y="242"/>
                    </a:lnTo>
                    <a:lnTo>
                      <a:pt x="1123" y="242"/>
                    </a:lnTo>
                    <a:lnTo>
                      <a:pt x="1123" y="216"/>
                    </a:lnTo>
                    <a:lnTo>
                      <a:pt x="1044" y="189"/>
                    </a:lnTo>
                    <a:lnTo>
                      <a:pt x="934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750960" y="5321880"/>
                <a:ext cx="115200" cy="144000"/>
              </a:xfrm>
              <a:custGeom>
                <a:avLst/>
                <a:gdLst/>
                <a:ahLst/>
                <a:rect l="l" t="t" r="r" b="b"/>
                <a:pathLst>
                  <a:path w="1400" h="1354">
                    <a:moveTo>
                      <a:pt x="585" y="668"/>
                    </a:moveTo>
                    <a:lnTo>
                      <a:pt x="486" y="811"/>
                    </a:lnTo>
                    <a:lnTo>
                      <a:pt x="468" y="885"/>
                    </a:lnTo>
                    <a:lnTo>
                      <a:pt x="413" y="947"/>
                    </a:lnTo>
                    <a:lnTo>
                      <a:pt x="352" y="1130"/>
                    </a:lnTo>
                    <a:lnTo>
                      <a:pt x="277" y="1118"/>
                    </a:lnTo>
                    <a:lnTo>
                      <a:pt x="233" y="1002"/>
                    </a:lnTo>
                    <a:lnTo>
                      <a:pt x="171" y="975"/>
                    </a:lnTo>
                    <a:lnTo>
                      <a:pt x="110" y="991"/>
                    </a:lnTo>
                    <a:lnTo>
                      <a:pt x="67" y="1064"/>
                    </a:lnTo>
                    <a:lnTo>
                      <a:pt x="97" y="1354"/>
                    </a:lnTo>
                    <a:lnTo>
                      <a:pt x="46" y="1263"/>
                    </a:lnTo>
                    <a:lnTo>
                      <a:pt x="0" y="730"/>
                    </a:lnTo>
                    <a:lnTo>
                      <a:pt x="40" y="627"/>
                    </a:lnTo>
                    <a:lnTo>
                      <a:pt x="110" y="438"/>
                    </a:lnTo>
                    <a:lnTo>
                      <a:pt x="270" y="242"/>
                    </a:lnTo>
                    <a:lnTo>
                      <a:pt x="486" y="71"/>
                    </a:lnTo>
                    <a:lnTo>
                      <a:pt x="754" y="11"/>
                    </a:lnTo>
                    <a:lnTo>
                      <a:pt x="976" y="0"/>
                    </a:lnTo>
                    <a:lnTo>
                      <a:pt x="1095" y="55"/>
                    </a:lnTo>
                    <a:lnTo>
                      <a:pt x="1160" y="124"/>
                    </a:lnTo>
                    <a:lnTo>
                      <a:pt x="1286" y="165"/>
                    </a:lnTo>
                    <a:lnTo>
                      <a:pt x="1240" y="165"/>
                    </a:lnTo>
                    <a:lnTo>
                      <a:pt x="1240" y="189"/>
                    </a:lnTo>
                    <a:lnTo>
                      <a:pt x="1342" y="223"/>
                    </a:lnTo>
                    <a:lnTo>
                      <a:pt x="1270" y="251"/>
                    </a:lnTo>
                    <a:lnTo>
                      <a:pt x="1277" y="271"/>
                    </a:lnTo>
                    <a:lnTo>
                      <a:pt x="1314" y="290"/>
                    </a:lnTo>
                    <a:lnTo>
                      <a:pt x="1229" y="318"/>
                    </a:lnTo>
                    <a:lnTo>
                      <a:pt x="1277" y="365"/>
                    </a:lnTo>
                    <a:lnTo>
                      <a:pt x="1125" y="403"/>
                    </a:lnTo>
                    <a:lnTo>
                      <a:pt x="1125" y="413"/>
                    </a:lnTo>
                    <a:lnTo>
                      <a:pt x="1266" y="424"/>
                    </a:lnTo>
                    <a:lnTo>
                      <a:pt x="1116" y="470"/>
                    </a:lnTo>
                    <a:lnTo>
                      <a:pt x="1400" y="438"/>
                    </a:lnTo>
                    <a:lnTo>
                      <a:pt x="1383" y="530"/>
                    </a:lnTo>
                    <a:lnTo>
                      <a:pt x="864" y="631"/>
                    </a:lnTo>
                    <a:lnTo>
                      <a:pt x="585" y="6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58960" y="5369400"/>
                <a:ext cx="46800" cy="167040"/>
              </a:xfrm>
              <a:custGeom>
                <a:avLst/>
                <a:gdLst/>
                <a:ahLst/>
                <a:rect l="l" t="t" r="r" b="b"/>
                <a:pathLst>
                  <a:path w="567" h="1578">
                    <a:moveTo>
                      <a:pt x="320" y="150"/>
                    </a:moveTo>
                    <a:lnTo>
                      <a:pt x="358" y="245"/>
                    </a:lnTo>
                    <a:lnTo>
                      <a:pt x="358" y="635"/>
                    </a:lnTo>
                    <a:lnTo>
                      <a:pt x="304" y="761"/>
                    </a:lnTo>
                    <a:lnTo>
                      <a:pt x="304" y="904"/>
                    </a:lnTo>
                    <a:lnTo>
                      <a:pt x="239" y="1119"/>
                    </a:lnTo>
                    <a:lnTo>
                      <a:pt x="147" y="1255"/>
                    </a:lnTo>
                    <a:lnTo>
                      <a:pt x="0" y="1578"/>
                    </a:lnTo>
                    <a:lnTo>
                      <a:pt x="90" y="1471"/>
                    </a:lnTo>
                    <a:lnTo>
                      <a:pt x="198" y="1211"/>
                    </a:lnTo>
                    <a:lnTo>
                      <a:pt x="270" y="1105"/>
                    </a:lnTo>
                    <a:lnTo>
                      <a:pt x="341" y="941"/>
                    </a:lnTo>
                    <a:lnTo>
                      <a:pt x="341" y="794"/>
                    </a:lnTo>
                    <a:lnTo>
                      <a:pt x="484" y="704"/>
                    </a:lnTo>
                    <a:lnTo>
                      <a:pt x="567" y="455"/>
                    </a:lnTo>
                    <a:lnTo>
                      <a:pt x="567" y="261"/>
                    </a:lnTo>
                    <a:lnTo>
                      <a:pt x="558" y="121"/>
                    </a:lnTo>
                    <a:lnTo>
                      <a:pt x="532" y="42"/>
                    </a:lnTo>
                    <a:lnTo>
                      <a:pt x="468" y="0"/>
                    </a:lnTo>
                    <a:lnTo>
                      <a:pt x="521" y="60"/>
                    </a:lnTo>
                    <a:lnTo>
                      <a:pt x="532" y="110"/>
                    </a:lnTo>
                    <a:lnTo>
                      <a:pt x="521" y="139"/>
                    </a:lnTo>
                    <a:lnTo>
                      <a:pt x="444" y="90"/>
                    </a:lnTo>
                    <a:lnTo>
                      <a:pt x="437" y="97"/>
                    </a:lnTo>
                    <a:lnTo>
                      <a:pt x="488" y="178"/>
                    </a:lnTo>
                    <a:lnTo>
                      <a:pt x="505" y="305"/>
                    </a:lnTo>
                    <a:lnTo>
                      <a:pt x="505" y="429"/>
                    </a:lnTo>
                    <a:lnTo>
                      <a:pt x="468" y="275"/>
                    </a:lnTo>
                    <a:lnTo>
                      <a:pt x="345" y="110"/>
                    </a:lnTo>
                    <a:lnTo>
                      <a:pt x="320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768240" y="5466240"/>
                <a:ext cx="87480" cy="110880"/>
              </a:xfrm>
              <a:custGeom>
                <a:avLst/>
                <a:gdLst/>
                <a:ahLst/>
                <a:rect l="l" t="t" r="r" b="b"/>
                <a:pathLst>
                  <a:path w="1057" h="1050">
                    <a:moveTo>
                      <a:pt x="90" y="0"/>
                    </a:moveTo>
                    <a:lnTo>
                      <a:pt x="68" y="195"/>
                    </a:lnTo>
                    <a:lnTo>
                      <a:pt x="72" y="281"/>
                    </a:lnTo>
                    <a:lnTo>
                      <a:pt x="105" y="356"/>
                    </a:lnTo>
                    <a:lnTo>
                      <a:pt x="158" y="424"/>
                    </a:lnTo>
                    <a:lnTo>
                      <a:pt x="259" y="506"/>
                    </a:lnTo>
                    <a:lnTo>
                      <a:pt x="558" y="651"/>
                    </a:lnTo>
                    <a:lnTo>
                      <a:pt x="842" y="758"/>
                    </a:lnTo>
                    <a:lnTo>
                      <a:pt x="925" y="762"/>
                    </a:lnTo>
                    <a:lnTo>
                      <a:pt x="995" y="758"/>
                    </a:lnTo>
                    <a:lnTo>
                      <a:pt x="1057" y="730"/>
                    </a:lnTo>
                    <a:lnTo>
                      <a:pt x="1006" y="767"/>
                    </a:lnTo>
                    <a:lnTo>
                      <a:pt x="944" y="783"/>
                    </a:lnTo>
                    <a:lnTo>
                      <a:pt x="863" y="785"/>
                    </a:lnTo>
                    <a:lnTo>
                      <a:pt x="753" y="767"/>
                    </a:lnTo>
                    <a:lnTo>
                      <a:pt x="753" y="817"/>
                    </a:lnTo>
                    <a:lnTo>
                      <a:pt x="738" y="882"/>
                    </a:lnTo>
                    <a:lnTo>
                      <a:pt x="661" y="1009"/>
                    </a:lnTo>
                    <a:lnTo>
                      <a:pt x="704" y="901"/>
                    </a:lnTo>
                    <a:lnTo>
                      <a:pt x="709" y="824"/>
                    </a:lnTo>
                    <a:lnTo>
                      <a:pt x="624" y="861"/>
                    </a:lnTo>
                    <a:lnTo>
                      <a:pt x="624" y="978"/>
                    </a:lnTo>
                    <a:lnTo>
                      <a:pt x="598" y="1013"/>
                    </a:lnTo>
                    <a:lnTo>
                      <a:pt x="624" y="1050"/>
                    </a:lnTo>
                    <a:lnTo>
                      <a:pt x="591" y="1050"/>
                    </a:lnTo>
                    <a:lnTo>
                      <a:pt x="506" y="1009"/>
                    </a:lnTo>
                    <a:lnTo>
                      <a:pt x="328" y="843"/>
                    </a:lnTo>
                    <a:lnTo>
                      <a:pt x="215" y="721"/>
                    </a:lnTo>
                    <a:lnTo>
                      <a:pt x="98" y="567"/>
                    </a:lnTo>
                    <a:lnTo>
                      <a:pt x="0" y="370"/>
                    </a:lnTo>
                    <a:lnTo>
                      <a:pt x="107" y="541"/>
                    </a:lnTo>
                    <a:lnTo>
                      <a:pt x="204" y="633"/>
                    </a:lnTo>
                    <a:lnTo>
                      <a:pt x="81" y="411"/>
                    </a:lnTo>
                    <a:lnTo>
                      <a:pt x="52" y="288"/>
                    </a:lnTo>
                    <a:lnTo>
                      <a:pt x="52" y="213"/>
                    </a:lnTo>
                    <a:lnTo>
                      <a:pt x="68" y="91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760320" y="5434200"/>
                <a:ext cx="14400" cy="32760"/>
              </a:xfrm>
              <a:custGeom>
                <a:avLst/>
                <a:gdLst/>
                <a:ahLst/>
                <a:rect l="l" t="t" r="r" b="b"/>
                <a:pathLst>
                  <a:path w="180" h="312">
                    <a:moveTo>
                      <a:pt x="37" y="0"/>
                    </a:moveTo>
                    <a:lnTo>
                      <a:pt x="88" y="7"/>
                    </a:lnTo>
                    <a:lnTo>
                      <a:pt x="175" y="62"/>
                    </a:lnTo>
                    <a:lnTo>
                      <a:pt x="180" y="164"/>
                    </a:lnTo>
                    <a:lnTo>
                      <a:pt x="146" y="147"/>
                    </a:lnTo>
                    <a:lnTo>
                      <a:pt x="136" y="134"/>
                    </a:lnTo>
                    <a:lnTo>
                      <a:pt x="94" y="171"/>
                    </a:lnTo>
                    <a:lnTo>
                      <a:pt x="94" y="185"/>
                    </a:lnTo>
                    <a:lnTo>
                      <a:pt x="125" y="204"/>
                    </a:lnTo>
                    <a:lnTo>
                      <a:pt x="155" y="301"/>
                    </a:lnTo>
                    <a:lnTo>
                      <a:pt x="132" y="312"/>
                    </a:lnTo>
                    <a:lnTo>
                      <a:pt x="100" y="257"/>
                    </a:lnTo>
                    <a:lnTo>
                      <a:pt x="19" y="233"/>
                    </a:lnTo>
                    <a:lnTo>
                      <a:pt x="0" y="111"/>
                    </a:lnTo>
                    <a:lnTo>
                      <a:pt x="19" y="95"/>
                    </a:lnTo>
                    <a:lnTo>
                      <a:pt x="105" y="53"/>
                    </a:lnTo>
                    <a:lnTo>
                      <a:pt x="81" y="26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761760" y="546552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69" h="17">
                    <a:moveTo>
                      <a:pt x="0" y="0"/>
                    </a:moveTo>
                    <a:lnTo>
                      <a:pt x="69" y="17"/>
                    </a:lnTo>
                    <a:lnTo>
                      <a:pt x="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760320" y="5473800"/>
                <a:ext cx="11880" cy="20160"/>
              </a:xfrm>
              <a:custGeom>
                <a:avLst/>
                <a:gdLst/>
                <a:ahLst/>
                <a:rect l="l" t="t" r="r" b="b"/>
                <a:pathLst>
                  <a:path w="143" h="195">
                    <a:moveTo>
                      <a:pt x="0" y="0"/>
                    </a:moveTo>
                    <a:lnTo>
                      <a:pt x="26" y="23"/>
                    </a:lnTo>
                    <a:lnTo>
                      <a:pt x="67" y="37"/>
                    </a:lnTo>
                    <a:lnTo>
                      <a:pt x="143" y="18"/>
                    </a:lnTo>
                    <a:lnTo>
                      <a:pt x="114" y="85"/>
                    </a:lnTo>
                    <a:lnTo>
                      <a:pt x="61" y="103"/>
                    </a:lnTo>
                    <a:lnTo>
                      <a:pt x="33" y="195"/>
                    </a:lnTo>
                    <a:lnTo>
                      <a:pt x="6" y="140"/>
                    </a:lnTo>
                    <a:lnTo>
                      <a:pt x="6" y="112"/>
                    </a:lnTo>
                    <a:lnTo>
                      <a:pt x="33" y="85"/>
                    </a:lnTo>
                    <a:lnTo>
                      <a:pt x="15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780480" y="5436720"/>
                <a:ext cx="576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781560" y="5431320"/>
                <a:ext cx="8640" cy="35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786960" y="5441760"/>
                <a:ext cx="7920" cy="28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792360" y="5451840"/>
                <a:ext cx="5760" cy="18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822600" y="5392440"/>
                <a:ext cx="60840" cy="17640"/>
              </a:xfrm>
              <a:custGeom>
                <a:avLst/>
                <a:gdLst/>
                <a:ahLst/>
                <a:rect l="l" t="t" r="r" b="b"/>
                <a:pathLst>
                  <a:path w="743" h="165">
                    <a:moveTo>
                      <a:pt x="0" y="0"/>
                    </a:moveTo>
                    <a:lnTo>
                      <a:pt x="116" y="18"/>
                    </a:lnTo>
                    <a:lnTo>
                      <a:pt x="351" y="101"/>
                    </a:lnTo>
                    <a:lnTo>
                      <a:pt x="519" y="138"/>
                    </a:lnTo>
                    <a:lnTo>
                      <a:pt x="743" y="16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835200" y="5389920"/>
                <a:ext cx="40320" cy="14400"/>
              </a:xfrm>
              <a:custGeom>
                <a:avLst/>
                <a:gdLst/>
                <a:ahLst/>
                <a:rect l="l" t="t" r="r" b="b"/>
                <a:pathLst>
                  <a:path w="491" h="134">
                    <a:moveTo>
                      <a:pt x="0" y="0"/>
                    </a:moveTo>
                    <a:lnTo>
                      <a:pt x="82" y="28"/>
                    </a:lnTo>
                    <a:lnTo>
                      <a:pt x="260" y="88"/>
                    </a:lnTo>
                    <a:lnTo>
                      <a:pt x="491" y="1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727200" y="5494320"/>
                <a:ext cx="29520" cy="61920"/>
              </a:xfrm>
              <a:custGeom>
                <a:avLst/>
                <a:gdLst/>
                <a:ahLst/>
                <a:rect l="l" t="t" r="r" b="b"/>
                <a:pathLst>
                  <a:path w="365" h="579">
                    <a:moveTo>
                      <a:pt x="365" y="0"/>
                    </a:moveTo>
                    <a:lnTo>
                      <a:pt x="277" y="129"/>
                    </a:lnTo>
                    <a:lnTo>
                      <a:pt x="277" y="265"/>
                    </a:lnTo>
                    <a:lnTo>
                      <a:pt x="350" y="579"/>
                    </a:lnTo>
                    <a:lnTo>
                      <a:pt x="224" y="290"/>
                    </a:lnTo>
                    <a:lnTo>
                      <a:pt x="224" y="199"/>
                    </a:lnTo>
                    <a:lnTo>
                      <a:pt x="0" y="199"/>
                    </a:lnTo>
                    <a:lnTo>
                      <a:pt x="187" y="76"/>
                    </a:lnTo>
                    <a:lnTo>
                      <a:pt x="277" y="76"/>
                    </a:lnTo>
                    <a:lnTo>
                      <a:pt x="3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608040" y="5534280"/>
                <a:ext cx="348480" cy="420480"/>
              </a:xfrm>
              <a:custGeom>
                <a:avLst/>
                <a:gdLst/>
                <a:ahLst/>
                <a:rect l="l" t="t" r="r" b="b"/>
                <a:pathLst>
                  <a:path w="4215" h="3969">
                    <a:moveTo>
                      <a:pt x="1158" y="0"/>
                    </a:moveTo>
                    <a:lnTo>
                      <a:pt x="897" y="255"/>
                    </a:lnTo>
                    <a:lnTo>
                      <a:pt x="743" y="466"/>
                    </a:lnTo>
                    <a:lnTo>
                      <a:pt x="743" y="706"/>
                    </a:lnTo>
                    <a:lnTo>
                      <a:pt x="920" y="591"/>
                    </a:lnTo>
                    <a:lnTo>
                      <a:pt x="920" y="756"/>
                    </a:lnTo>
                    <a:lnTo>
                      <a:pt x="1314" y="1684"/>
                    </a:lnTo>
                    <a:lnTo>
                      <a:pt x="1224" y="1582"/>
                    </a:lnTo>
                    <a:lnTo>
                      <a:pt x="1134" y="1582"/>
                    </a:lnTo>
                    <a:lnTo>
                      <a:pt x="1072" y="1610"/>
                    </a:lnTo>
                    <a:lnTo>
                      <a:pt x="1031" y="1644"/>
                    </a:lnTo>
                    <a:lnTo>
                      <a:pt x="1174" y="1960"/>
                    </a:lnTo>
                    <a:lnTo>
                      <a:pt x="1448" y="2451"/>
                    </a:lnTo>
                    <a:lnTo>
                      <a:pt x="1868" y="2890"/>
                    </a:lnTo>
                    <a:lnTo>
                      <a:pt x="2031" y="3026"/>
                    </a:lnTo>
                    <a:lnTo>
                      <a:pt x="2031" y="3116"/>
                    </a:lnTo>
                    <a:lnTo>
                      <a:pt x="1930" y="3239"/>
                    </a:lnTo>
                    <a:lnTo>
                      <a:pt x="1930" y="3380"/>
                    </a:lnTo>
                    <a:lnTo>
                      <a:pt x="2129" y="3343"/>
                    </a:lnTo>
                    <a:lnTo>
                      <a:pt x="2158" y="3295"/>
                    </a:lnTo>
                    <a:lnTo>
                      <a:pt x="2145" y="3228"/>
                    </a:lnTo>
                    <a:lnTo>
                      <a:pt x="2094" y="3191"/>
                    </a:lnTo>
                    <a:lnTo>
                      <a:pt x="2296" y="3239"/>
                    </a:lnTo>
                    <a:lnTo>
                      <a:pt x="2435" y="3228"/>
                    </a:lnTo>
                    <a:lnTo>
                      <a:pt x="2575" y="3178"/>
                    </a:lnTo>
                    <a:lnTo>
                      <a:pt x="2712" y="3065"/>
                    </a:lnTo>
                    <a:lnTo>
                      <a:pt x="2815" y="2967"/>
                    </a:lnTo>
                    <a:lnTo>
                      <a:pt x="2749" y="3076"/>
                    </a:lnTo>
                    <a:lnTo>
                      <a:pt x="2700" y="3166"/>
                    </a:lnTo>
                    <a:lnTo>
                      <a:pt x="2903" y="3191"/>
                    </a:lnTo>
                    <a:lnTo>
                      <a:pt x="3154" y="3203"/>
                    </a:lnTo>
                    <a:lnTo>
                      <a:pt x="3357" y="3154"/>
                    </a:lnTo>
                    <a:lnTo>
                      <a:pt x="3433" y="2855"/>
                    </a:lnTo>
                    <a:lnTo>
                      <a:pt x="3468" y="2855"/>
                    </a:lnTo>
                    <a:lnTo>
                      <a:pt x="3494" y="2890"/>
                    </a:lnTo>
                    <a:lnTo>
                      <a:pt x="3521" y="2991"/>
                    </a:lnTo>
                    <a:lnTo>
                      <a:pt x="3535" y="3076"/>
                    </a:lnTo>
                    <a:lnTo>
                      <a:pt x="4203" y="3039"/>
                    </a:lnTo>
                    <a:lnTo>
                      <a:pt x="4215" y="3116"/>
                    </a:lnTo>
                    <a:lnTo>
                      <a:pt x="4215" y="3178"/>
                    </a:lnTo>
                    <a:lnTo>
                      <a:pt x="4189" y="3254"/>
                    </a:lnTo>
                    <a:lnTo>
                      <a:pt x="4037" y="3265"/>
                    </a:lnTo>
                    <a:lnTo>
                      <a:pt x="3913" y="3343"/>
                    </a:lnTo>
                    <a:lnTo>
                      <a:pt x="3683" y="3390"/>
                    </a:lnTo>
                    <a:lnTo>
                      <a:pt x="3481" y="3380"/>
                    </a:lnTo>
                    <a:lnTo>
                      <a:pt x="3281" y="3441"/>
                    </a:lnTo>
                    <a:lnTo>
                      <a:pt x="3105" y="3481"/>
                    </a:lnTo>
                    <a:lnTo>
                      <a:pt x="2852" y="3492"/>
                    </a:lnTo>
                    <a:lnTo>
                      <a:pt x="2547" y="3457"/>
                    </a:lnTo>
                    <a:lnTo>
                      <a:pt x="2320" y="3481"/>
                    </a:lnTo>
                    <a:lnTo>
                      <a:pt x="2129" y="3542"/>
                    </a:lnTo>
                    <a:lnTo>
                      <a:pt x="1990" y="3620"/>
                    </a:lnTo>
                    <a:lnTo>
                      <a:pt x="1615" y="3516"/>
                    </a:lnTo>
                    <a:lnTo>
                      <a:pt x="681" y="3969"/>
                    </a:lnTo>
                    <a:lnTo>
                      <a:pt x="0" y="3969"/>
                    </a:lnTo>
                    <a:lnTo>
                      <a:pt x="176" y="1723"/>
                    </a:lnTo>
                    <a:lnTo>
                      <a:pt x="328" y="1244"/>
                    </a:lnTo>
                    <a:lnTo>
                      <a:pt x="266" y="1558"/>
                    </a:lnTo>
                    <a:lnTo>
                      <a:pt x="418" y="2059"/>
                    </a:lnTo>
                    <a:lnTo>
                      <a:pt x="418" y="2500"/>
                    </a:lnTo>
                    <a:lnTo>
                      <a:pt x="591" y="2977"/>
                    </a:lnTo>
                    <a:lnTo>
                      <a:pt x="681" y="2977"/>
                    </a:lnTo>
                    <a:lnTo>
                      <a:pt x="907" y="2488"/>
                    </a:lnTo>
                    <a:lnTo>
                      <a:pt x="602" y="1886"/>
                    </a:lnTo>
                    <a:lnTo>
                      <a:pt x="556" y="1697"/>
                    </a:lnTo>
                    <a:lnTo>
                      <a:pt x="528" y="1497"/>
                    </a:lnTo>
                    <a:lnTo>
                      <a:pt x="556" y="1281"/>
                    </a:lnTo>
                    <a:lnTo>
                      <a:pt x="681" y="780"/>
                    </a:lnTo>
                    <a:lnTo>
                      <a:pt x="618" y="729"/>
                    </a:lnTo>
                    <a:lnTo>
                      <a:pt x="577" y="665"/>
                    </a:lnTo>
                    <a:lnTo>
                      <a:pt x="567" y="618"/>
                    </a:lnTo>
                    <a:lnTo>
                      <a:pt x="441" y="905"/>
                    </a:lnTo>
                    <a:lnTo>
                      <a:pt x="540" y="591"/>
                    </a:lnTo>
                    <a:lnTo>
                      <a:pt x="591" y="517"/>
                    </a:lnTo>
                    <a:lnTo>
                      <a:pt x="769" y="317"/>
                    </a:lnTo>
                    <a:lnTo>
                      <a:pt x="943" y="139"/>
                    </a:lnTo>
                    <a:lnTo>
                      <a:pt x="11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720720" y="5586480"/>
                <a:ext cx="107640" cy="224640"/>
              </a:xfrm>
              <a:custGeom>
                <a:avLst/>
                <a:gdLst/>
                <a:ahLst/>
                <a:rect l="l" t="t" r="r" b="b"/>
                <a:pathLst>
                  <a:path w="1300" h="2125">
                    <a:moveTo>
                      <a:pt x="0" y="140"/>
                    </a:moveTo>
                    <a:lnTo>
                      <a:pt x="378" y="378"/>
                    </a:lnTo>
                    <a:lnTo>
                      <a:pt x="641" y="829"/>
                    </a:lnTo>
                    <a:lnTo>
                      <a:pt x="641" y="1020"/>
                    </a:lnTo>
                    <a:lnTo>
                      <a:pt x="984" y="1318"/>
                    </a:lnTo>
                    <a:lnTo>
                      <a:pt x="1111" y="1556"/>
                    </a:lnTo>
                    <a:lnTo>
                      <a:pt x="1083" y="967"/>
                    </a:lnTo>
                    <a:lnTo>
                      <a:pt x="1083" y="589"/>
                    </a:lnTo>
                    <a:lnTo>
                      <a:pt x="1111" y="327"/>
                    </a:lnTo>
                    <a:lnTo>
                      <a:pt x="1072" y="266"/>
                    </a:lnTo>
                    <a:lnTo>
                      <a:pt x="984" y="378"/>
                    </a:lnTo>
                    <a:lnTo>
                      <a:pt x="906" y="424"/>
                    </a:lnTo>
                    <a:lnTo>
                      <a:pt x="998" y="327"/>
                    </a:lnTo>
                    <a:lnTo>
                      <a:pt x="1072" y="165"/>
                    </a:lnTo>
                    <a:lnTo>
                      <a:pt x="1160" y="27"/>
                    </a:lnTo>
                    <a:lnTo>
                      <a:pt x="1212" y="0"/>
                    </a:lnTo>
                    <a:lnTo>
                      <a:pt x="1160" y="80"/>
                    </a:lnTo>
                    <a:lnTo>
                      <a:pt x="1224" y="304"/>
                    </a:lnTo>
                    <a:lnTo>
                      <a:pt x="1160" y="304"/>
                    </a:lnTo>
                    <a:lnTo>
                      <a:pt x="1146" y="516"/>
                    </a:lnTo>
                    <a:lnTo>
                      <a:pt x="1184" y="1120"/>
                    </a:lnTo>
                    <a:lnTo>
                      <a:pt x="1247" y="1723"/>
                    </a:lnTo>
                    <a:lnTo>
                      <a:pt x="1300" y="1910"/>
                    </a:lnTo>
                    <a:lnTo>
                      <a:pt x="1035" y="2059"/>
                    </a:lnTo>
                    <a:lnTo>
                      <a:pt x="1146" y="1961"/>
                    </a:lnTo>
                    <a:lnTo>
                      <a:pt x="1095" y="1881"/>
                    </a:lnTo>
                    <a:lnTo>
                      <a:pt x="971" y="1910"/>
                    </a:lnTo>
                    <a:lnTo>
                      <a:pt x="694" y="2099"/>
                    </a:lnTo>
                    <a:lnTo>
                      <a:pt x="606" y="2125"/>
                    </a:lnTo>
                    <a:lnTo>
                      <a:pt x="593" y="2086"/>
                    </a:lnTo>
                    <a:lnTo>
                      <a:pt x="756" y="1934"/>
                    </a:lnTo>
                    <a:lnTo>
                      <a:pt x="1095" y="1821"/>
                    </a:lnTo>
                    <a:lnTo>
                      <a:pt x="1045" y="1685"/>
                    </a:lnTo>
                    <a:lnTo>
                      <a:pt x="1045" y="1547"/>
                    </a:lnTo>
                    <a:lnTo>
                      <a:pt x="998" y="1470"/>
                    </a:lnTo>
                    <a:lnTo>
                      <a:pt x="606" y="1169"/>
                    </a:lnTo>
                    <a:lnTo>
                      <a:pt x="138" y="841"/>
                    </a:lnTo>
                    <a:lnTo>
                      <a:pt x="657" y="1154"/>
                    </a:lnTo>
                    <a:lnTo>
                      <a:pt x="390" y="463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786240" y="5809680"/>
                <a:ext cx="17280" cy="49680"/>
              </a:xfrm>
              <a:custGeom>
                <a:avLst/>
                <a:gdLst/>
                <a:ahLst/>
                <a:rect l="l" t="t" r="r" b="b"/>
                <a:pathLst>
                  <a:path w="203" h="466">
                    <a:moveTo>
                      <a:pt x="203" y="0"/>
                    </a:moveTo>
                    <a:lnTo>
                      <a:pt x="111" y="51"/>
                    </a:lnTo>
                    <a:lnTo>
                      <a:pt x="0" y="403"/>
                    </a:lnTo>
                    <a:lnTo>
                      <a:pt x="99" y="466"/>
                    </a:lnTo>
                    <a:lnTo>
                      <a:pt x="203" y="378"/>
                    </a:lnTo>
                    <a:lnTo>
                      <a:pt x="203" y="136"/>
                    </a:lnTo>
                    <a:lnTo>
                      <a:pt x="152" y="136"/>
                    </a:lnTo>
                    <a:lnTo>
                      <a:pt x="152" y="76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804240" y="5797080"/>
                <a:ext cx="41760" cy="63360"/>
              </a:xfrm>
              <a:custGeom>
                <a:avLst/>
                <a:gdLst/>
                <a:ahLst/>
                <a:rect l="l" t="t" r="r" b="b"/>
                <a:pathLst>
                  <a:path w="506" h="599">
                    <a:moveTo>
                      <a:pt x="138" y="162"/>
                    </a:moveTo>
                    <a:lnTo>
                      <a:pt x="317" y="0"/>
                    </a:lnTo>
                    <a:lnTo>
                      <a:pt x="506" y="72"/>
                    </a:lnTo>
                    <a:lnTo>
                      <a:pt x="506" y="173"/>
                    </a:lnTo>
                    <a:lnTo>
                      <a:pt x="391" y="325"/>
                    </a:lnTo>
                    <a:lnTo>
                      <a:pt x="0" y="599"/>
                    </a:lnTo>
                    <a:lnTo>
                      <a:pt x="279" y="364"/>
                    </a:lnTo>
                    <a:lnTo>
                      <a:pt x="317" y="274"/>
                    </a:lnTo>
                    <a:lnTo>
                      <a:pt x="329" y="198"/>
                    </a:lnTo>
                    <a:lnTo>
                      <a:pt x="317" y="138"/>
                    </a:lnTo>
                    <a:lnTo>
                      <a:pt x="279" y="112"/>
                    </a:lnTo>
                    <a:lnTo>
                      <a:pt x="230" y="112"/>
                    </a:lnTo>
                    <a:lnTo>
                      <a:pt x="138" y="1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853200" y="5774040"/>
                <a:ext cx="257760" cy="105120"/>
              </a:xfrm>
              <a:custGeom>
                <a:avLst/>
                <a:gdLst/>
                <a:ahLst/>
                <a:rect l="l" t="t" r="r" b="b"/>
                <a:pathLst>
                  <a:path w="3106" h="992">
                    <a:moveTo>
                      <a:pt x="0" y="215"/>
                    </a:moveTo>
                    <a:lnTo>
                      <a:pt x="430" y="377"/>
                    </a:lnTo>
                    <a:lnTo>
                      <a:pt x="540" y="268"/>
                    </a:lnTo>
                    <a:lnTo>
                      <a:pt x="770" y="268"/>
                    </a:lnTo>
                    <a:lnTo>
                      <a:pt x="896" y="364"/>
                    </a:lnTo>
                    <a:lnTo>
                      <a:pt x="1010" y="327"/>
                    </a:lnTo>
                    <a:lnTo>
                      <a:pt x="1603" y="314"/>
                    </a:lnTo>
                    <a:lnTo>
                      <a:pt x="2017" y="226"/>
                    </a:lnTo>
                    <a:lnTo>
                      <a:pt x="2589" y="0"/>
                    </a:lnTo>
                    <a:lnTo>
                      <a:pt x="2663" y="49"/>
                    </a:lnTo>
                    <a:lnTo>
                      <a:pt x="2676" y="100"/>
                    </a:lnTo>
                    <a:lnTo>
                      <a:pt x="2614" y="162"/>
                    </a:lnTo>
                    <a:lnTo>
                      <a:pt x="2689" y="238"/>
                    </a:lnTo>
                    <a:lnTo>
                      <a:pt x="2713" y="302"/>
                    </a:lnTo>
                    <a:lnTo>
                      <a:pt x="2689" y="377"/>
                    </a:lnTo>
                    <a:lnTo>
                      <a:pt x="3091" y="413"/>
                    </a:lnTo>
                    <a:lnTo>
                      <a:pt x="3106" y="439"/>
                    </a:lnTo>
                    <a:lnTo>
                      <a:pt x="2689" y="461"/>
                    </a:lnTo>
                    <a:lnTo>
                      <a:pt x="2689" y="500"/>
                    </a:lnTo>
                    <a:lnTo>
                      <a:pt x="2713" y="540"/>
                    </a:lnTo>
                    <a:lnTo>
                      <a:pt x="3078" y="553"/>
                    </a:lnTo>
                    <a:lnTo>
                      <a:pt x="3043" y="602"/>
                    </a:lnTo>
                    <a:lnTo>
                      <a:pt x="2737" y="665"/>
                    </a:lnTo>
                    <a:lnTo>
                      <a:pt x="2737" y="715"/>
                    </a:lnTo>
                    <a:lnTo>
                      <a:pt x="2953" y="715"/>
                    </a:lnTo>
                    <a:lnTo>
                      <a:pt x="2977" y="680"/>
                    </a:lnTo>
                    <a:lnTo>
                      <a:pt x="2965" y="740"/>
                    </a:lnTo>
                    <a:lnTo>
                      <a:pt x="2589" y="791"/>
                    </a:lnTo>
                    <a:lnTo>
                      <a:pt x="2160" y="814"/>
                    </a:lnTo>
                    <a:lnTo>
                      <a:pt x="1992" y="814"/>
                    </a:lnTo>
                    <a:lnTo>
                      <a:pt x="1753" y="854"/>
                    </a:lnTo>
                    <a:lnTo>
                      <a:pt x="1676" y="992"/>
                    </a:lnTo>
                    <a:lnTo>
                      <a:pt x="1314" y="992"/>
                    </a:lnTo>
                    <a:lnTo>
                      <a:pt x="1641" y="953"/>
                    </a:lnTo>
                    <a:lnTo>
                      <a:pt x="1692" y="867"/>
                    </a:lnTo>
                    <a:lnTo>
                      <a:pt x="1715" y="752"/>
                    </a:lnTo>
                    <a:lnTo>
                      <a:pt x="1715" y="641"/>
                    </a:lnTo>
                    <a:lnTo>
                      <a:pt x="1676" y="489"/>
                    </a:lnTo>
                    <a:lnTo>
                      <a:pt x="1630" y="364"/>
                    </a:lnTo>
                    <a:lnTo>
                      <a:pt x="1010" y="377"/>
                    </a:lnTo>
                    <a:lnTo>
                      <a:pt x="881" y="401"/>
                    </a:lnTo>
                    <a:lnTo>
                      <a:pt x="669" y="314"/>
                    </a:lnTo>
                    <a:lnTo>
                      <a:pt x="468" y="473"/>
                    </a:lnTo>
                    <a:lnTo>
                      <a:pt x="415" y="401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924840" y="5827680"/>
                <a:ext cx="29520" cy="15120"/>
              </a:xfrm>
              <a:custGeom>
                <a:avLst/>
                <a:gdLst/>
                <a:ahLst/>
                <a:rect l="l" t="t" r="r" b="b"/>
                <a:pathLst>
                  <a:path w="366" h="150">
                    <a:moveTo>
                      <a:pt x="366" y="114"/>
                    </a:moveTo>
                    <a:lnTo>
                      <a:pt x="200" y="0"/>
                    </a:lnTo>
                    <a:lnTo>
                      <a:pt x="0" y="40"/>
                    </a:lnTo>
                    <a:lnTo>
                      <a:pt x="38" y="93"/>
                    </a:lnTo>
                    <a:lnTo>
                      <a:pt x="302" y="150"/>
                    </a:lnTo>
                    <a:lnTo>
                      <a:pt x="366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823320" y="5563800"/>
                <a:ext cx="25560" cy="231480"/>
              </a:xfrm>
              <a:custGeom>
                <a:avLst/>
                <a:gdLst/>
                <a:ahLst/>
                <a:rect l="l" t="t" r="r" b="b"/>
                <a:pathLst>
                  <a:path w="315" h="2186">
                    <a:moveTo>
                      <a:pt x="175" y="2133"/>
                    </a:moveTo>
                    <a:lnTo>
                      <a:pt x="214" y="2085"/>
                    </a:lnTo>
                    <a:lnTo>
                      <a:pt x="214" y="1958"/>
                    </a:lnTo>
                    <a:lnTo>
                      <a:pt x="124" y="1633"/>
                    </a:lnTo>
                    <a:lnTo>
                      <a:pt x="62" y="1180"/>
                    </a:lnTo>
                    <a:lnTo>
                      <a:pt x="49" y="796"/>
                    </a:lnTo>
                    <a:lnTo>
                      <a:pt x="21" y="540"/>
                    </a:lnTo>
                    <a:lnTo>
                      <a:pt x="49" y="466"/>
                    </a:lnTo>
                    <a:lnTo>
                      <a:pt x="49" y="325"/>
                    </a:lnTo>
                    <a:lnTo>
                      <a:pt x="0" y="213"/>
                    </a:lnTo>
                    <a:lnTo>
                      <a:pt x="73" y="277"/>
                    </a:lnTo>
                    <a:lnTo>
                      <a:pt x="99" y="213"/>
                    </a:lnTo>
                    <a:lnTo>
                      <a:pt x="111" y="127"/>
                    </a:lnTo>
                    <a:lnTo>
                      <a:pt x="111" y="0"/>
                    </a:lnTo>
                    <a:lnTo>
                      <a:pt x="124" y="104"/>
                    </a:lnTo>
                    <a:lnTo>
                      <a:pt x="136" y="213"/>
                    </a:lnTo>
                    <a:lnTo>
                      <a:pt x="111" y="341"/>
                    </a:lnTo>
                    <a:lnTo>
                      <a:pt x="73" y="466"/>
                    </a:lnTo>
                    <a:lnTo>
                      <a:pt x="49" y="551"/>
                    </a:lnTo>
                    <a:lnTo>
                      <a:pt x="111" y="1292"/>
                    </a:lnTo>
                    <a:lnTo>
                      <a:pt x="185" y="1732"/>
                    </a:lnTo>
                    <a:lnTo>
                      <a:pt x="262" y="1958"/>
                    </a:lnTo>
                    <a:lnTo>
                      <a:pt x="315" y="2186"/>
                    </a:lnTo>
                    <a:lnTo>
                      <a:pt x="175" y="2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849960" y="5546880"/>
                <a:ext cx="143640" cy="260280"/>
              </a:xfrm>
              <a:custGeom>
                <a:avLst/>
                <a:gdLst/>
                <a:ahLst/>
                <a:rect l="l" t="t" r="r" b="b"/>
                <a:pathLst>
                  <a:path w="1731" h="2462">
                    <a:moveTo>
                      <a:pt x="152" y="0"/>
                    </a:moveTo>
                    <a:lnTo>
                      <a:pt x="379" y="203"/>
                    </a:lnTo>
                    <a:lnTo>
                      <a:pt x="440" y="376"/>
                    </a:lnTo>
                    <a:lnTo>
                      <a:pt x="480" y="541"/>
                    </a:lnTo>
                    <a:lnTo>
                      <a:pt x="480" y="800"/>
                    </a:lnTo>
                    <a:lnTo>
                      <a:pt x="368" y="1646"/>
                    </a:lnTo>
                    <a:lnTo>
                      <a:pt x="267" y="1747"/>
                    </a:lnTo>
                    <a:lnTo>
                      <a:pt x="0" y="1784"/>
                    </a:lnTo>
                    <a:lnTo>
                      <a:pt x="368" y="1772"/>
                    </a:lnTo>
                    <a:lnTo>
                      <a:pt x="254" y="2450"/>
                    </a:lnTo>
                    <a:lnTo>
                      <a:pt x="278" y="2462"/>
                    </a:lnTo>
                    <a:lnTo>
                      <a:pt x="406" y="1881"/>
                    </a:lnTo>
                    <a:lnTo>
                      <a:pt x="883" y="2273"/>
                    </a:lnTo>
                    <a:lnTo>
                      <a:pt x="996" y="2273"/>
                    </a:lnTo>
                    <a:lnTo>
                      <a:pt x="1174" y="2185"/>
                    </a:lnTo>
                    <a:lnTo>
                      <a:pt x="1363" y="2035"/>
                    </a:lnTo>
                    <a:lnTo>
                      <a:pt x="1500" y="1895"/>
                    </a:lnTo>
                    <a:lnTo>
                      <a:pt x="1603" y="1759"/>
                    </a:lnTo>
                    <a:lnTo>
                      <a:pt x="1462" y="1881"/>
                    </a:lnTo>
                    <a:lnTo>
                      <a:pt x="1363" y="1809"/>
                    </a:lnTo>
                    <a:lnTo>
                      <a:pt x="1480" y="1734"/>
                    </a:lnTo>
                    <a:lnTo>
                      <a:pt x="1238" y="1809"/>
                    </a:lnTo>
                    <a:lnTo>
                      <a:pt x="950" y="1846"/>
                    </a:lnTo>
                    <a:lnTo>
                      <a:pt x="669" y="1846"/>
                    </a:lnTo>
                    <a:lnTo>
                      <a:pt x="555" y="1846"/>
                    </a:lnTo>
                    <a:lnTo>
                      <a:pt x="469" y="1784"/>
                    </a:lnTo>
                    <a:lnTo>
                      <a:pt x="647" y="1708"/>
                    </a:lnTo>
                    <a:lnTo>
                      <a:pt x="1012" y="1708"/>
                    </a:lnTo>
                    <a:lnTo>
                      <a:pt x="1300" y="1545"/>
                    </a:lnTo>
                    <a:lnTo>
                      <a:pt x="1012" y="1631"/>
                    </a:lnTo>
                    <a:lnTo>
                      <a:pt x="647" y="1631"/>
                    </a:lnTo>
                    <a:lnTo>
                      <a:pt x="440" y="1685"/>
                    </a:lnTo>
                    <a:lnTo>
                      <a:pt x="440" y="1496"/>
                    </a:lnTo>
                    <a:lnTo>
                      <a:pt x="987" y="1409"/>
                    </a:lnTo>
                    <a:lnTo>
                      <a:pt x="781" y="892"/>
                    </a:lnTo>
                    <a:lnTo>
                      <a:pt x="555" y="592"/>
                    </a:lnTo>
                    <a:lnTo>
                      <a:pt x="555" y="415"/>
                    </a:lnTo>
                    <a:lnTo>
                      <a:pt x="1570" y="1444"/>
                    </a:lnTo>
                    <a:lnTo>
                      <a:pt x="1731" y="1519"/>
                    </a:lnTo>
                    <a:lnTo>
                      <a:pt x="1642" y="1332"/>
                    </a:lnTo>
                    <a:lnTo>
                      <a:pt x="733" y="477"/>
                    </a:lnTo>
                    <a:lnTo>
                      <a:pt x="620" y="267"/>
                    </a:lnTo>
                    <a:lnTo>
                      <a:pt x="304" y="51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936000" y="5747040"/>
                <a:ext cx="64800" cy="61920"/>
              </a:xfrm>
              <a:custGeom>
                <a:avLst/>
                <a:gdLst/>
                <a:ahLst/>
                <a:rect l="l" t="t" r="r" b="b"/>
                <a:pathLst>
                  <a:path w="783" h="580">
                    <a:moveTo>
                      <a:pt x="0" y="442"/>
                    </a:moveTo>
                    <a:lnTo>
                      <a:pt x="317" y="378"/>
                    </a:lnTo>
                    <a:lnTo>
                      <a:pt x="670" y="580"/>
                    </a:lnTo>
                    <a:lnTo>
                      <a:pt x="783" y="540"/>
                    </a:lnTo>
                    <a:lnTo>
                      <a:pt x="504" y="378"/>
                    </a:lnTo>
                    <a:lnTo>
                      <a:pt x="619" y="166"/>
                    </a:lnTo>
                    <a:lnTo>
                      <a:pt x="619" y="0"/>
                    </a:lnTo>
                    <a:lnTo>
                      <a:pt x="402" y="265"/>
                    </a:lnTo>
                    <a:lnTo>
                      <a:pt x="216" y="362"/>
                    </a:lnTo>
                    <a:lnTo>
                      <a:pt x="0" y="4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983160" y="5703840"/>
                <a:ext cx="81360" cy="74520"/>
              </a:xfrm>
              <a:custGeom>
                <a:avLst/>
                <a:gdLst/>
                <a:ahLst/>
                <a:rect l="l" t="t" r="r" b="b"/>
                <a:pathLst>
                  <a:path w="984" h="703">
                    <a:moveTo>
                      <a:pt x="189" y="314"/>
                    </a:moveTo>
                    <a:lnTo>
                      <a:pt x="367" y="212"/>
                    </a:lnTo>
                    <a:lnTo>
                      <a:pt x="744" y="364"/>
                    </a:lnTo>
                    <a:lnTo>
                      <a:pt x="744" y="500"/>
                    </a:lnTo>
                    <a:lnTo>
                      <a:pt x="442" y="579"/>
                    </a:lnTo>
                    <a:lnTo>
                      <a:pt x="809" y="567"/>
                    </a:lnTo>
                    <a:lnTo>
                      <a:pt x="984" y="703"/>
                    </a:lnTo>
                    <a:lnTo>
                      <a:pt x="870" y="450"/>
                    </a:lnTo>
                    <a:lnTo>
                      <a:pt x="707" y="265"/>
                    </a:lnTo>
                    <a:lnTo>
                      <a:pt x="343" y="164"/>
                    </a:lnTo>
                    <a:lnTo>
                      <a:pt x="202" y="0"/>
                    </a:lnTo>
                    <a:lnTo>
                      <a:pt x="0" y="164"/>
                    </a:lnTo>
                    <a:lnTo>
                      <a:pt x="178" y="63"/>
                    </a:lnTo>
                    <a:lnTo>
                      <a:pt x="239" y="149"/>
                    </a:lnTo>
                    <a:lnTo>
                      <a:pt x="189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1069920" y="5772600"/>
                <a:ext cx="48240" cy="43920"/>
              </a:xfrm>
              <a:custGeom>
                <a:avLst/>
                <a:gdLst/>
                <a:ahLst/>
                <a:rect l="l" t="t" r="r" b="b"/>
                <a:pathLst>
                  <a:path w="581" h="415">
                    <a:moveTo>
                      <a:pt x="22" y="0"/>
                    </a:moveTo>
                    <a:lnTo>
                      <a:pt x="464" y="37"/>
                    </a:lnTo>
                    <a:lnTo>
                      <a:pt x="581" y="240"/>
                    </a:lnTo>
                    <a:lnTo>
                      <a:pt x="581" y="288"/>
                    </a:lnTo>
                    <a:lnTo>
                      <a:pt x="492" y="316"/>
                    </a:lnTo>
                    <a:lnTo>
                      <a:pt x="363" y="240"/>
                    </a:lnTo>
                    <a:lnTo>
                      <a:pt x="187" y="240"/>
                    </a:lnTo>
                    <a:lnTo>
                      <a:pt x="477" y="351"/>
                    </a:lnTo>
                    <a:lnTo>
                      <a:pt x="492" y="415"/>
                    </a:lnTo>
                    <a:lnTo>
                      <a:pt x="453" y="367"/>
                    </a:lnTo>
                    <a:lnTo>
                      <a:pt x="22" y="229"/>
                    </a:lnTo>
                    <a:lnTo>
                      <a:pt x="0" y="192"/>
                    </a:lnTo>
                    <a:lnTo>
                      <a:pt x="464" y="176"/>
                    </a:lnTo>
                    <a:lnTo>
                      <a:pt x="453" y="75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1093680" y="5811480"/>
                <a:ext cx="19080" cy="37080"/>
              </a:xfrm>
              <a:custGeom>
                <a:avLst/>
                <a:gdLst/>
                <a:ahLst/>
                <a:rect l="l" t="t" r="r" b="b"/>
                <a:pathLst>
                  <a:path w="228" h="352">
                    <a:moveTo>
                      <a:pt x="186" y="99"/>
                    </a:moveTo>
                    <a:lnTo>
                      <a:pt x="186" y="163"/>
                    </a:lnTo>
                    <a:lnTo>
                      <a:pt x="96" y="210"/>
                    </a:lnTo>
                    <a:lnTo>
                      <a:pt x="0" y="275"/>
                    </a:lnTo>
                    <a:lnTo>
                      <a:pt x="72" y="352"/>
                    </a:lnTo>
                    <a:lnTo>
                      <a:pt x="125" y="249"/>
                    </a:lnTo>
                    <a:lnTo>
                      <a:pt x="228" y="187"/>
                    </a:lnTo>
                    <a:lnTo>
                      <a:pt x="228" y="74"/>
                    </a:lnTo>
                    <a:lnTo>
                      <a:pt x="186" y="0"/>
                    </a:lnTo>
                    <a:lnTo>
                      <a:pt x="186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1099800" y="5795280"/>
                <a:ext cx="30240" cy="55080"/>
              </a:xfrm>
              <a:custGeom>
                <a:avLst/>
                <a:gdLst/>
                <a:ahLst/>
                <a:rect l="l" t="t" r="r" b="b"/>
                <a:pathLst>
                  <a:path w="369" h="514">
                    <a:moveTo>
                      <a:pt x="129" y="71"/>
                    </a:moveTo>
                    <a:lnTo>
                      <a:pt x="325" y="396"/>
                    </a:lnTo>
                    <a:lnTo>
                      <a:pt x="369" y="514"/>
                    </a:lnTo>
                    <a:lnTo>
                      <a:pt x="269" y="42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1064160" y="5716440"/>
                <a:ext cx="33480" cy="60840"/>
              </a:xfrm>
              <a:custGeom>
                <a:avLst/>
                <a:gdLst/>
                <a:ahLst/>
                <a:rect l="l" t="t" r="r" b="b"/>
                <a:pathLst>
                  <a:path w="413" h="576">
                    <a:moveTo>
                      <a:pt x="319" y="558"/>
                    </a:moveTo>
                    <a:lnTo>
                      <a:pt x="0" y="46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22" y="0"/>
                    </a:lnTo>
                    <a:lnTo>
                      <a:pt x="37" y="0"/>
                    </a:lnTo>
                    <a:lnTo>
                      <a:pt x="59" y="5"/>
                    </a:lnTo>
                    <a:lnTo>
                      <a:pt x="413" y="57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1011600" y="5779080"/>
                <a:ext cx="39600" cy="26280"/>
              </a:xfrm>
              <a:custGeom>
                <a:avLst/>
                <a:gdLst/>
                <a:ahLst/>
                <a:rect l="l" t="t" r="r" b="b"/>
                <a:pathLst>
                  <a:path w="477" h="244">
                    <a:moveTo>
                      <a:pt x="67" y="181"/>
                    </a:moveTo>
                    <a:lnTo>
                      <a:pt x="99" y="82"/>
                    </a:lnTo>
                    <a:lnTo>
                      <a:pt x="180" y="34"/>
                    </a:lnTo>
                    <a:lnTo>
                      <a:pt x="279" y="34"/>
                    </a:lnTo>
                    <a:lnTo>
                      <a:pt x="427" y="62"/>
                    </a:lnTo>
                    <a:lnTo>
                      <a:pt x="477" y="34"/>
                    </a:lnTo>
                    <a:lnTo>
                      <a:pt x="310" y="0"/>
                    </a:lnTo>
                    <a:lnTo>
                      <a:pt x="198" y="0"/>
                    </a:lnTo>
                    <a:lnTo>
                      <a:pt x="99" y="34"/>
                    </a:lnTo>
                    <a:lnTo>
                      <a:pt x="51" y="99"/>
                    </a:lnTo>
                    <a:lnTo>
                      <a:pt x="0" y="244"/>
                    </a:lnTo>
                    <a:lnTo>
                      <a:pt x="67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981360" y="5277960"/>
                <a:ext cx="133560" cy="209160"/>
              </a:xfrm>
              <a:custGeom>
                <a:avLst/>
                <a:gdLst/>
                <a:ahLst/>
                <a:rect l="l" t="t" r="r" b="b"/>
                <a:pathLst>
                  <a:path w="1617" h="1969">
                    <a:moveTo>
                      <a:pt x="1578" y="822"/>
                    </a:moveTo>
                    <a:lnTo>
                      <a:pt x="1615" y="694"/>
                    </a:lnTo>
                    <a:lnTo>
                      <a:pt x="1617" y="512"/>
                    </a:lnTo>
                    <a:lnTo>
                      <a:pt x="1573" y="350"/>
                    </a:lnTo>
                    <a:lnTo>
                      <a:pt x="1506" y="233"/>
                    </a:lnTo>
                    <a:lnTo>
                      <a:pt x="1413" y="123"/>
                    </a:lnTo>
                    <a:lnTo>
                      <a:pt x="1275" y="48"/>
                    </a:lnTo>
                    <a:lnTo>
                      <a:pt x="980" y="0"/>
                    </a:lnTo>
                    <a:lnTo>
                      <a:pt x="710" y="73"/>
                    </a:lnTo>
                    <a:lnTo>
                      <a:pt x="565" y="198"/>
                    </a:lnTo>
                    <a:lnTo>
                      <a:pt x="439" y="417"/>
                    </a:lnTo>
                    <a:lnTo>
                      <a:pt x="404" y="631"/>
                    </a:lnTo>
                    <a:lnTo>
                      <a:pt x="351" y="818"/>
                    </a:lnTo>
                    <a:lnTo>
                      <a:pt x="356" y="910"/>
                    </a:lnTo>
                    <a:lnTo>
                      <a:pt x="404" y="1026"/>
                    </a:lnTo>
                    <a:lnTo>
                      <a:pt x="393" y="1095"/>
                    </a:lnTo>
                    <a:lnTo>
                      <a:pt x="268" y="1185"/>
                    </a:lnTo>
                    <a:lnTo>
                      <a:pt x="171" y="1270"/>
                    </a:lnTo>
                    <a:lnTo>
                      <a:pt x="106" y="1411"/>
                    </a:lnTo>
                    <a:lnTo>
                      <a:pt x="106" y="1484"/>
                    </a:lnTo>
                    <a:lnTo>
                      <a:pt x="116" y="1554"/>
                    </a:lnTo>
                    <a:lnTo>
                      <a:pt x="130" y="1597"/>
                    </a:lnTo>
                    <a:lnTo>
                      <a:pt x="112" y="1653"/>
                    </a:lnTo>
                    <a:lnTo>
                      <a:pt x="0" y="1754"/>
                    </a:lnTo>
                    <a:lnTo>
                      <a:pt x="160" y="1712"/>
                    </a:lnTo>
                    <a:lnTo>
                      <a:pt x="347" y="1657"/>
                    </a:lnTo>
                    <a:lnTo>
                      <a:pt x="415" y="1861"/>
                    </a:lnTo>
                    <a:lnTo>
                      <a:pt x="479" y="1969"/>
                    </a:lnTo>
                    <a:lnTo>
                      <a:pt x="450" y="1872"/>
                    </a:lnTo>
                    <a:lnTo>
                      <a:pt x="450" y="1800"/>
                    </a:lnTo>
                    <a:lnTo>
                      <a:pt x="468" y="1758"/>
                    </a:lnTo>
                    <a:lnTo>
                      <a:pt x="505" y="1754"/>
                    </a:lnTo>
                    <a:lnTo>
                      <a:pt x="565" y="1769"/>
                    </a:lnTo>
                    <a:lnTo>
                      <a:pt x="628" y="1826"/>
                    </a:lnTo>
                    <a:lnTo>
                      <a:pt x="685" y="1904"/>
                    </a:lnTo>
                    <a:lnTo>
                      <a:pt x="639" y="1754"/>
                    </a:lnTo>
                    <a:lnTo>
                      <a:pt x="618" y="1641"/>
                    </a:lnTo>
                    <a:lnTo>
                      <a:pt x="604" y="1507"/>
                    </a:lnTo>
                    <a:lnTo>
                      <a:pt x="611" y="1411"/>
                    </a:lnTo>
                    <a:lnTo>
                      <a:pt x="674" y="1507"/>
                    </a:lnTo>
                    <a:lnTo>
                      <a:pt x="765" y="1593"/>
                    </a:lnTo>
                    <a:lnTo>
                      <a:pt x="870" y="1666"/>
                    </a:lnTo>
                    <a:lnTo>
                      <a:pt x="980" y="1703"/>
                    </a:lnTo>
                    <a:lnTo>
                      <a:pt x="888" y="1666"/>
                    </a:lnTo>
                    <a:lnTo>
                      <a:pt x="802" y="1613"/>
                    </a:lnTo>
                    <a:lnTo>
                      <a:pt x="717" y="1533"/>
                    </a:lnTo>
                    <a:lnTo>
                      <a:pt x="671" y="1466"/>
                    </a:lnTo>
                    <a:lnTo>
                      <a:pt x="632" y="1399"/>
                    </a:lnTo>
                    <a:lnTo>
                      <a:pt x="618" y="1339"/>
                    </a:lnTo>
                    <a:lnTo>
                      <a:pt x="611" y="1261"/>
                    </a:lnTo>
                    <a:lnTo>
                      <a:pt x="598" y="1180"/>
                    </a:lnTo>
                    <a:lnTo>
                      <a:pt x="591" y="1042"/>
                    </a:lnTo>
                    <a:lnTo>
                      <a:pt x="584" y="1237"/>
                    </a:lnTo>
                    <a:lnTo>
                      <a:pt x="569" y="1261"/>
                    </a:lnTo>
                    <a:lnTo>
                      <a:pt x="538" y="1277"/>
                    </a:lnTo>
                    <a:lnTo>
                      <a:pt x="499" y="1261"/>
                    </a:lnTo>
                    <a:lnTo>
                      <a:pt x="479" y="1217"/>
                    </a:lnTo>
                    <a:lnTo>
                      <a:pt x="479" y="1167"/>
                    </a:lnTo>
                    <a:lnTo>
                      <a:pt x="494" y="1114"/>
                    </a:lnTo>
                    <a:lnTo>
                      <a:pt x="523" y="1072"/>
                    </a:lnTo>
                    <a:lnTo>
                      <a:pt x="487" y="1092"/>
                    </a:lnTo>
                    <a:lnTo>
                      <a:pt x="429" y="963"/>
                    </a:lnTo>
                    <a:lnTo>
                      <a:pt x="411" y="910"/>
                    </a:lnTo>
                    <a:lnTo>
                      <a:pt x="404" y="853"/>
                    </a:lnTo>
                    <a:lnTo>
                      <a:pt x="411" y="804"/>
                    </a:lnTo>
                    <a:lnTo>
                      <a:pt x="436" y="776"/>
                    </a:lnTo>
                    <a:lnTo>
                      <a:pt x="461" y="751"/>
                    </a:lnTo>
                    <a:lnTo>
                      <a:pt x="487" y="751"/>
                    </a:lnTo>
                    <a:lnTo>
                      <a:pt x="514" y="767"/>
                    </a:lnTo>
                    <a:lnTo>
                      <a:pt x="538" y="804"/>
                    </a:lnTo>
                    <a:lnTo>
                      <a:pt x="565" y="890"/>
                    </a:lnTo>
                    <a:lnTo>
                      <a:pt x="574" y="782"/>
                    </a:lnTo>
                    <a:lnTo>
                      <a:pt x="622" y="687"/>
                    </a:lnTo>
                    <a:lnTo>
                      <a:pt x="697" y="549"/>
                    </a:lnTo>
                    <a:lnTo>
                      <a:pt x="741" y="435"/>
                    </a:lnTo>
                    <a:lnTo>
                      <a:pt x="798" y="354"/>
                    </a:lnTo>
                    <a:lnTo>
                      <a:pt x="888" y="304"/>
                    </a:lnTo>
                    <a:lnTo>
                      <a:pt x="1038" y="286"/>
                    </a:lnTo>
                    <a:lnTo>
                      <a:pt x="1195" y="304"/>
                    </a:lnTo>
                    <a:lnTo>
                      <a:pt x="1393" y="343"/>
                    </a:lnTo>
                    <a:lnTo>
                      <a:pt x="1470" y="406"/>
                    </a:lnTo>
                    <a:lnTo>
                      <a:pt x="1520" y="519"/>
                    </a:lnTo>
                    <a:lnTo>
                      <a:pt x="1549" y="641"/>
                    </a:lnTo>
                    <a:lnTo>
                      <a:pt x="1569" y="883"/>
                    </a:lnTo>
                    <a:lnTo>
                      <a:pt x="1578" y="8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1043280" y="5382360"/>
                <a:ext cx="67320" cy="124560"/>
              </a:xfrm>
              <a:custGeom>
                <a:avLst/>
                <a:gdLst/>
                <a:ahLst/>
                <a:rect l="l" t="t" r="r" b="b"/>
                <a:pathLst>
                  <a:path w="817" h="1173">
                    <a:moveTo>
                      <a:pt x="817" y="0"/>
                    </a:moveTo>
                    <a:lnTo>
                      <a:pt x="786" y="103"/>
                    </a:lnTo>
                    <a:lnTo>
                      <a:pt x="718" y="359"/>
                    </a:lnTo>
                    <a:lnTo>
                      <a:pt x="634" y="514"/>
                    </a:lnTo>
                    <a:lnTo>
                      <a:pt x="569" y="608"/>
                    </a:lnTo>
                    <a:lnTo>
                      <a:pt x="481" y="703"/>
                    </a:lnTo>
                    <a:lnTo>
                      <a:pt x="417" y="723"/>
                    </a:lnTo>
                    <a:lnTo>
                      <a:pt x="305" y="732"/>
                    </a:lnTo>
                    <a:lnTo>
                      <a:pt x="187" y="707"/>
                    </a:lnTo>
                    <a:lnTo>
                      <a:pt x="94" y="661"/>
                    </a:lnTo>
                    <a:lnTo>
                      <a:pt x="0" y="596"/>
                    </a:lnTo>
                    <a:lnTo>
                      <a:pt x="57" y="692"/>
                    </a:lnTo>
                    <a:lnTo>
                      <a:pt x="136" y="758"/>
                    </a:lnTo>
                    <a:lnTo>
                      <a:pt x="206" y="800"/>
                    </a:lnTo>
                    <a:lnTo>
                      <a:pt x="300" y="825"/>
                    </a:lnTo>
                    <a:lnTo>
                      <a:pt x="380" y="825"/>
                    </a:lnTo>
                    <a:lnTo>
                      <a:pt x="329" y="1173"/>
                    </a:lnTo>
                    <a:lnTo>
                      <a:pt x="376" y="1064"/>
                    </a:lnTo>
                    <a:lnTo>
                      <a:pt x="443" y="795"/>
                    </a:lnTo>
                    <a:lnTo>
                      <a:pt x="477" y="747"/>
                    </a:lnTo>
                    <a:lnTo>
                      <a:pt x="527" y="820"/>
                    </a:lnTo>
                    <a:lnTo>
                      <a:pt x="574" y="940"/>
                    </a:lnTo>
                    <a:lnTo>
                      <a:pt x="551" y="800"/>
                    </a:lnTo>
                    <a:lnTo>
                      <a:pt x="503" y="707"/>
                    </a:lnTo>
                    <a:lnTo>
                      <a:pt x="579" y="617"/>
                    </a:lnTo>
                    <a:lnTo>
                      <a:pt x="668" y="493"/>
                    </a:lnTo>
                    <a:lnTo>
                      <a:pt x="720" y="373"/>
                    </a:lnTo>
                    <a:lnTo>
                      <a:pt x="754" y="286"/>
                    </a:lnTo>
                    <a:lnTo>
                      <a:pt x="793" y="115"/>
                    </a:lnTo>
                    <a:lnTo>
                      <a:pt x="8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1017720" y="5364360"/>
                <a:ext cx="7920" cy="22680"/>
              </a:xfrm>
              <a:custGeom>
                <a:avLst/>
                <a:gdLst/>
                <a:ahLst/>
                <a:rect l="l" t="t" r="r" b="b"/>
                <a:pathLst>
                  <a:path w="99" h="215">
                    <a:moveTo>
                      <a:pt x="11" y="0"/>
                    </a:moveTo>
                    <a:lnTo>
                      <a:pt x="48" y="7"/>
                    </a:lnTo>
                    <a:lnTo>
                      <a:pt x="91" y="60"/>
                    </a:lnTo>
                    <a:lnTo>
                      <a:pt x="99" y="111"/>
                    </a:lnTo>
                    <a:lnTo>
                      <a:pt x="94" y="145"/>
                    </a:lnTo>
                    <a:lnTo>
                      <a:pt x="60" y="162"/>
                    </a:lnTo>
                    <a:lnTo>
                      <a:pt x="55" y="180"/>
                    </a:lnTo>
                    <a:lnTo>
                      <a:pt x="73" y="215"/>
                    </a:lnTo>
                    <a:lnTo>
                      <a:pt x="22" y="169"/>
                    </a:lnTo>
                    <a:lnTo>
                      <a:pt x="22" y="145"/>
                    </a:lnTo>
                    <a:lnTo>
                      <a:pt x="36" y="123"/>
                    </a:lnTo>
                    <a:lnTo>
                      <a:pt x="55" y="106"/>
                    </a:lnTo>
                    <a:lnTo>
                      <a:pt x="84" y="92"/>
                    </a:lnTo>
                    <a:lnTo>
                      <a:pt x="73" y="65"/>
                    </a:lnTo>
                    <a:lnTo>
                      <a:pt x="60" y="42"/>
                    </a:lnTo>
                    <a:lnTo>
                      <a:pt x="36" y="28"/>
                    </a:lnTo>
                    <a:lnTo>
                      <a:pt x="11" y="60"/>
                    </a:lnTo>
                    <a:lnTo>
                      <a:pt x="11" y="79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1028160" y="5372280"/>
                <a:ext cx="3600" cy="25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1030320" y="5376240"/>
                <a:ext cx="50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1035000" y="5391000"/>
                <a:ext cx="32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1020960" y="5394240"/>
                <a:ext cx="5760" cy="16920"/>
              </a:xfrm>
              <a:custGeom>
                <a:avLst/>
                <a:gdLst/>
                <a:ahLst/>
                <a:rect l="l" t="t" r="r" b="b"/>
                <a:pathLst>
                  <a:path w="77" h="162">
                    <a:moveTo>
                      <a:pt x="33" y="0"/>
                    </a:moveTo>
                    <a:lnTo>
                      <a:pt x="59" y="28"/>
                    </a:lnTo>
                    <a:lnTo>
                      <a:pt x="72" y="63"/>
                    </a:lnTo>
                    <a:lnTo>
                      <a:pt x="77" y="112"/>
                    </a:lnTo>
                    <a:lnTo>
                      <a:pt x="72" y="145"/>
                    </a:lnTo>
                    <a:lnTo>
                      <a:pt x="54" y="158"/>
                    </a:lnTo>
                    <a:lnTo>
                      <a:pt x="33" y="162"/>
                    </a:lnTo>
                    <a:lnTo>
                      <a:pt x="8" y="158"/>
                    </a:lnTo>
                    <a:lnTo>
                      <a:pt x="0" y="116"/>
                    </a:lnTo>
                    <a:lnTo>
                      <a:pt x="44" y="123"/>
                    </a:lnTo>
                    <a:lnTo>
                      <a:pt x="51" y="88"/>
                    </a:lnTo>
                    <a:lnTo>
                      <a:pt x="59" y="63"/>
                    </a:lnTo>
                    <a:lnTo>
                      <a:pt x="54" y="3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929520" y="5449320"/>
                <a:ext cx="235800" cy="159120"/>
              </a:xfrm>
              <a:custGeom>
                <a:avLst/>
                <a:gdLst/>
                <a:ahLst/>
                <a:rect l="l" t="t" r="r" b="b"/>
                <a:pathLst>
                  <a:path w="2847" h="1510">
                    <a:moveTo>
                      <a:pt x="1072" y="246"/>
                    </a:moveTo>
                    <a:lnTo>
                      <a:pt x="1129" y="369"/>
                    </a:lnTo>
                    <a:lnTo>
                      <a:pt x="1228" y="441"/>
                    </a:lnTo>
                    <a:lnTo>
                      <a:pt x="1369" y="516"/>
                    </a:lnTo>
                    <a:lnTo>
                      <a:pt x="1558" y="567"/>
                    </a:lnTo>
                    <a:lnTo>
                      <a:pt x="1798" y="606"/>
                    </a:lnTo>
                    <a:lnTo>
                      <a:pt x="1903" y="576"/>
                    </a:lnTo>
                    <a:lnTo>
                      <a:pt x="1945" y="507"/>
                    </a:lnTo>
                    <a:lnTo>
                      <a:pt x="1969" y="408"/>
                    </a:lnTo>
                    <a:lnTo>
                      <a:pt x="1969" y="345"/>
                    </a:lnTo>
                    <a:lnTo>
                      <a:pt x="1929" y="239"/>
                    </a:lnTo>
                    <a:lnTo>
                      <a:pt x="1890" y="171"/>
                    </a:lnTo>
                    <a:lnTo>
                      <a:pt x="1839" y="120"/>
                    </a:lnTo>
                    <a:lnTo>
                      <a:pt x="1903" y="32"/>
                    </a:lnTo>
                    <a:lnTo>
                      <a:pt x="1945" y="0"/>
                    </a:lnTo>
                    <a:lnTo>
                      <a:pt x="2160" y="113"/>
                    </a:lnTo>
                    <a:lnTo>
                      <a:pt x="2400" y="162"/>
                    </a:lnTo>
                    <a:lnTo>
                      <a:pt x="2630" y="252"/>
                    </a:lnTo>
                    <a:lnTo>
                      <a:pt x="2847" y="378"/>
                    </a:lnTo>
                    <a:lnTo>
                      <a:pt x="2556" y="252"/>
                    </a:lnTo>
                    <a:lnTo>
                      <a:pt x="2342" y="191"/>
                    </a:lnTo>
                    <a:lnTo>
                      <a:pt x="2202" y="171"/>
                    </a:lnTo>
                    <a:lnTo>
                      <a:pt x="2052" y="171"/>
                    </a:lnTo>
                    <a:lnTo>
                      <a:pt x="1987" y="215"/>
                    </a:lnTo>
                    <a:lnTo>
                      <a:pt x="2004" y="387"/>
                    </a:lnTo>
                    <a:lnTo>
                      <a:pt x="1987" y="484"/>
                    </a:lnTo>
                    <a:lnTo>
                      <a:pt x="1953" y="590"/>
                    </a:lnTo>
                    <a:lnTo>
                      <a:pt x="1903" y="655"/>
                    </a:lnTo>
                    <a:lnTo>
                      <a:pt x="1789" y="760"/>
                    </a:lnTo>
                    <a:lnTo>
                      <a:pt x="1789" y="707"/>
                    </a:lnTo>
                    <a:lnTo>
                      <a:pt x="1749" y="673"/>
                    </a:lnTo>
                    <a:lnTo>
                      <a:pt x="1708" y="687"/>
                    </a:lnTo>
                    <a:lnTo>
                      <a:pt x="1696" y="738"/>
                    </a:lnTo>
                    <a:lnTo>
                      <a:pt x="1720" y="770"/>
                    </a:lnTo>
                    <a:lnTo>
                      <a:pt x="1756" y="779"/>
                    </a:lnTo>
                    <a:lnTo>
                      <a:pt x="1731" y="813"/>
                    </a:lnTo>
                    <a:lnTo>
                      <a:pt x="1674" y="802"/>
                    </a:lnTo>
                    <a:lnTo>
                      <a:pt x="1648" y="760"/>
                    </a:lnTo>
                    <a:lnTo>
                      <a:pt x="1659" y="707"/>
                    </a:lnTo>
                    <a:lnTo>
                      <a:pt x="1681" y="666"/>
                    </a:lnTo>
                    <a:lnTo>
                      <a:pt x="1720" y="648"/>
                    </a:lnTo>
                    <a:lnTo>
                      <a:pt x="1780" y="624"/>
                    </a:lnTo>
                    <a:lnTo>
                      <a:pt x="1433" y="567"/>
                    </a:lnTo>
                    <a:lnTo>
                      <a:pt x="1235" y="500"/>
                    </a:lnTo>
                    <a:lnTo>
                      <a:pt x="1353" y="795"/>
                    </a:lnTo>
                    <a:lnTo>
                      <a:pt x="1549" y="1289"/>
                    </a:lnTo>
                    <a:lnTo>
                      <a:pt x="1648" y="1510"/>
                    </a:lnTo>
                    <a:lnTo>
                      <a:pt x="1358" y="903"/>
                    </a:lnTo>
                    <a:lnTo>
                      <a:pt x="1201" y="576"/>
                    </a:lnTo>
                    <a:lnTo>
                      <a:pt x="1046" y="378"/>
                    </a:lnTo>
                    <a:lnTo>
                      <a:pt x="896" y="239"/>
                    </a:lnTo>
                    <a:lnTo>
                      <a:pt x="774" y="156"/>
                    </a:lnTo>
                    <a:lnTo>
                      <a:pt x="668" y="147"/>
                    </a:lnTo>
                    <a:lnTo>
                      <a:pt x="525" y="162"/>
                    </a:lnTo>
                    <a:lnTo>
                      <a:pt x="106" y="270"/>
                    </a:lnTo>
                    <a:lnTo>
                      <a:pt x="0" y="345"/>
                    </a:lnTo>
                    <a:lnTo>
                      <a:pt x="106" y="239"/>
                    </a:lnTo>
                    <a:lnTo>
                      <a:pt x="493" y="94"/>
                    </a:lnTo>
                    <a:lnTo>
                      <a:pt x="749" y="90"/>
                    </a:lnTo>
                    <a:lnTo>
                      <a:pt x="995" y="15"/>
                    </a:lnTo>
                    <a:lnTo>
                      <a:pt x="1072" y="2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914040" y="5493240"/>
                <a:ext cx="93960" cy="181440"/>
              </a:xfrm>
              <a:custGeom>
                <a:avLst/>
                <a:gdLst/>
                <a:ahLst/>
                <a:rect l="l" t="t" r="r" b="b"/>
                <a:pathLst>
                  <a:path w="1134" h="1714">
                    <a:moveTo>
                      <a:pt x="159" y="0"/>
                    </a:moveTo>
                    <a:lnTo>
                      <a:pt x="264" y="31"/>
                    </a:lnTo>
                    <a:lnTo>
                      <a:pt x="365" y="113"/>
                    </a:lnTo>
                    <a:lnTo>
                      <a:pt x="447" y="229"/>
                    </a:lnTo>
                    <a:lnTo>
                      <a:pt x="521" y="367"/>
                    </a:lnTo>
                    <a:lnTo>
                      <a:pt x="570" y="484"/>
                    </a:lnTo>
                    <a:lnTo>
                      <a:pt x="611" y="591"/>
                    </a:lnTo>
                    <a:lnTo>
                      <a:pt x="491" y="409"/>
                    </a:lnTo>
                    <a:lnTo>
                      <a:pt x="387" y="288"/>
                    </a:lnTo>
                    <a:lnTo>
                      <a:pt x="264" y="205"/>
                    </a:lnTo>
                    <a:lnTo>
                      <a:pt x="167" y="157"/>
                    </a:lnTo>
                    <a:lnTo>
                      <a:pt x="167" y="319"/>
                    </a:lnTo>
                    <a:lnTo>
                      <a:pt x="222" y="499"/>
                    </a:lnTo>
                    <a:lnTo>
                      <a:pt x="312" y="646"/>
                    </a:lnTo>
                    <a:lnTo>
                      <a:pt x="413" y="754"/>
                    </a:lnTo>
                    <a:lnTo>
                      <a:pt x="598" y="886"/>
                    </a:lnTo>
                    <a:lnTo>
                      <a:pt x="768" y="998"/>
                    </a:lnTo>
                    <a:lnTo>
                      <a:pt x="860" y="1049"/>
                    </a:lnTo>
                    <a:lnTo>
                      <a:pt x="818" y="925"/>
                    </a:lnTo>
                    <a:lnTo>
                      <a:pt x="923" y="1132"/>
                    </a:lnTo>
                    <a:lnTo>
                      <a:pt x="976" y="1301"/>
                    </a:lnTo>
                    <a:lnTo>
                      <a:pt x="1007" y="1508"/>
                    </a:lnTo>
                    <a:lnTo>
                      <a:pt x="1081" y="1631"/>
                    </a:lnTo>
                    <a:lnTo>
                      <a:pt x="1134" y="1714"/>
                    </a:lnTo>
                    <a:lnTo>
                      <a:pt x="959" y="1559"/>
                    </a:lnTo>
                    <a:lnTo>
                      <a:pt x="959" y="1642"/>
                    </a:lnTo>
                    <a:lnTo>
                      <a:pt x="877" y="1665"/>
                    </a:lnTo>
                    <a:lnTo>
                      <a:pt x="918" y="1609"/>
                    </a:lnTo>
                    <a:lnTo>
                      <a:pt x="908" y="1534"/>
                    </a:lnTo>
                    <a:lnTo>
                      <a:pt x="703" y="1402"/>
                    </a:lnTo>
                    <a:lnTo>
                      <a:pt x="877" y="1411"/>
                    </a:lnTo>
                    <a:lnTo>
                      <a:pt x="736" y="1204"/>
                    </a:lnTo>
                    <a:lnTo>
                      <a:pt x="853" y="1195"/>
                    </a:lnTo>
                    <a:lnTo>
                      <a:pt x="869" y="1147"/>
                    </a:lnTo>
                    <a:lnTo>
                      <a:pt x="703" y="1141"/>
                    </a:lnTo>
                    <a:lnTo>
                      <a:pt x="494" y="1077"/>
                    </a:lnTo>
                    <a:lnTo>
                      <a:pt x="249" y="967"/>
                    </a:lnTo>
                    <a:lnTo>
                      <a:pt x="99" y="860"/>
                    </a:lnTo>
                    <a:lnTo>
                      <a:pt x="84" y="886"/>
                    </a:lnTo>
                    <a:lnTo>
                      <a:pt x="143" y="985"/>
                    </a:lnTo>
                    <a:lnTo>
                      <a:pt x="240" y="1077"/>
                    </a:lnTo>
                    <a:lnTo>
                      <a:pt x="339" y="1132"/>
                    </a:lnTo>
                    <a:lnTo>
                      <a:pt x="413" y="1338"/>
                    </a:lnTo>
                    <a:lnTo>
                      <a:pt x="644" y="1402"/>
                    </a:lnTo>
                    <a:lnTo>
                      <a:pt x="482" y="1386"/>
                    </a:lnTo>
                    <a:lnTo>
                      <a:pt x="556" y="1460"/>
                    </a:lnTo>
                    <a:lnTo>
                      <a:pt x="763" y="1508"/>
                    </a:lnTo>
                    <a:lnTo>
                      <a:pt x="853" y="1582"/>
                    </a:lnTo>
                    <a:lnTo>
                      <a:pt x="826" y="1631"/>
                    </a:lnTo>
                    <a:lnTo>
                      <a:pt x="694" y="1591"/>
                    </a:lnTo>
                    <a:lnTo>
                      <a:pt x="598" y="1600"/>
                    </a:lnTo>
                    <a:lnTo>
                      <a:pt x="51" y="1107"/>
                    </a:lnTo>
                    <a:lnTo>
                      <a:pt x="21" y="943"/>
                    </a:lnTo>
                    <a:lnTo>
                      <a:pt x="9" y="826"/>
                    </a:lnTo>
                    <a:lnTo>
                      <a:pt x="51" y="770"/>
                    </a:lnTo>
                    <a:lnTo>
                      <a:pt x="21" y="642"/>
                    </a:lnTo>
                    <a:lnTo>
                      <a:pt x="0" y="443"/>
                    </a:lnTo>
                    <a:lnTo>
                      <a:pt x="25" y="279"/>
                    </a:lnTo>
                    <a:lnTo>
                      <a:pt x="77" y="132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979920" y="5667120"/>
                <a:ext cx="26280" cy="42480"/>
              </a:xfrm>
              <a:custGeom>
                <a:avLst/>
                <a:gdLst/>
                <a:ahLst/>
                <a:rect l="l" t="t" r="r" b="b"/>
                <a:pathLst>
                  <a:path w="318" h="399">
                    <a:moveTo>
                      <a:pt x="0" y="138"/>
                    </a:moveTo>
                    <a:lnTo>
                      <a:pt x="87" y="23"/>
                    </a:lnTo>
                    <a:lnTo>
                      <a:pt x="168" y="0"/>
                    </a:lnTo>
                    <a:lnTo>
                      <a:pt x="221" y="72"/>
                    </a:lnTo>
                    <a:lnTo>
                      <a:pt x="221" y="336"/>
                    </a:lnTo>
                    <a:lnTo>
                      <a:pt x="285" y="106"/>
                    </a:lnTo>
                    <a:lnTo>
                      <a:pt x="318" y="196"/>
                    </a:lnTo>
                    <a:lnTo>
                      <a:pt x="318" y="295"/>
                    </a:lnTo>
                    <a:lnTo>
                      <a:pt x="246" y="399"/>
                    </a:lnTo>
                    <a:lnTo>
                      <a:pt x="186" y="399"/>
                    </a:lnTo>
                    <a:lnTo>
                      <a:pt x="39" y="261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1002960" y="5504400"/>
                <a:ext cx="193320" cy="227880"/>
              </a:xfrm>
              <a:custGeom>
                <a:avLst/>
                <a:gdLst/>
                <a:ahLst/>
                <a:rect l="l" t="t" r="r" b="b"/>
                <a:pathLst>
                  <a:path w="2335" h="2151">
                    <a:moveTo>
                      <a:pt x="87" y="1633"/>
                    </a:moveTo>
                    <a:lnTo>
                      <a:pt x="112" y="1705"/>
                    </a:lnTo>
                    <a:lnTo>
                      <a:pt x="123" y="1896"/>
                    </a:lnTo>
                    <a:lnTo>
                      <a:pt x="0" y="1953"/>
                    </a:lnTo>
                    <a:lnTo>
                      <a:pt x="39" y="1978"/>
                    </a:lnTo>
                    <a:lnTo>
                      <a:pt x="182" y="1953"/>
                    </a:lnTo>
                    <a:lnTo>
                      <a:pt x="742" y="2068"/>
                    </a:lnTo>
                    <a:lnTo>
                      <a:pt x="732" y="2032"/>
                    </a:lnTo>
                    <a:lnTo>
                      <a:pt x="732" y="2011"/>
                    </a:lnTo>
                    <a:lnTo>
                      <a:pt x="758" y="1997"/>
                    </a:lnTo>
                    <a:lnTo>
                      <a:pt x="791" y="2002"/>
                    </a:lnTo>
                    <a:lnTo>
                      <a:pt x="806" y="2032"/>
                    </a:lnTo>
                    <a:lnTo>
                      <a:pt x="830" y="2061"/>
                    </a:lnTo>
                    <a:lnTo>
                      <a:pt x="883" y="2068"/>
                    </a:lnTo>
                    <a:lnTo>
                      <a:pt x="958" y="2127"/>
                    </a:lnTo>
                    <a:lnTo>
                      <a:pt x="938" y="2068"/>
                    </a:lnTo>
                    <a:lnTo>
                      <a:pt x="1180" y="2011"/>
                    </a:lnTo>
                    <a:lnTo>
                      <a:pt x="1477" y="1845"/>
                    </a:lnTo>
                    <a:lnTo>
                      <a:pt x="1807" y="1930"/>
                    </a:lnTo>
                    <a:lnTo>
                      <a:pt x="1872" y="2061"/>
                    </a:lnTo>
                    <a:lnTo>
                      <a:pt x="1872" y="2142"/>
                    </a:lnTo>
                    <a:lnTo>
                      <a:pt x="1883" y="2151"/>
                    </a:lnTo>
                    <a:lnTo>
                      <a:pt x="1897" y="2061"/>
                    </a:lnTo>
                    <a:lnTo>
                      <a:pt x="1823" y="1912"/>
                    </a:lnTo>
                    <a:lnTo>
                      <a:pt x="1666" y="1815"/>
                    </a:lnTo>
                    <a:lnTo>
                      <a:pt x="1731" y="1714"/>
                    </a:lnTo>
                    <a:lnTo>
                      <a:pt x="1855" y="1668"/>
                    </a:lnTo>
                    <a:lnTo>
                      <a:pt x="2003" y="1642"/>
                    </a:lnTo>
                    <a:lnTo>
                      <a:pt x="2189" y="1674"/>
                    </a:lnTo>
                    <a:lnTo>
                      <a:pt x="2226" y="1705"/>
                    </a:lnTo>
                    <a:lnTo>
                      <a:pt x="2235" y="1804"/>
                    </a:lnTo>
                    <a:lnTo>
                      <a:pt x="2285" y="1887"/>
                    </a:lnTo>
                    <a:lnTo>
                      <a:pt x="2335" y="1771"/>
                    </a:lnTo>
                    <a:lnTo>
                      <a:pt x="2309" y="1700"/>
                    </a:lnTo>
                    <a:lnTo>
                      <a:pt x="2219" y="1608"/>
                    </a:lnTo>
                    <a:lnTo>
                      <a:pt x="2102" y="1510"/>
                    </a:lnTo>
                    <a:lnTo>
                      <a:pt x="2010" y="1402"/>
                    </a:lnTo>
                    <a:lnTo>
                      <a:pt x="1929" y="1439"/>
                    </a:lnTo>
                    <a:lnTo>
                      <a:pt x="1883" y="1559"/>
                    </a:lnTo>
                    <a:lnTo>
                      <a:pt x="1839" y="1536"/>
                    </a:lnTo>
                    <a:lnTo>
                      <a:pt x="1883" y="1428"/>
                    </a:lnTo>
                    <a:lnTo>
                      <a:pt x="1929" y="1338"/>
                    </a:lnTo>
                    <a:lnTo>
                      <a:pt x="2138" y="1255"/>
                    </a:lnTo>
                    <a:lnTo>
                      <a:pt x="2235" y="1165"/>
                    </a:lnTo>
                    <a:lnTo>
                      <a:pt x="2189" y="1041"/>
                    </a:lnTo>
                    <a:lnTo>
                      <a:pt x="2169" y="1142"/>
                    </a:lnTo>
                    <a:lnTo>
                      <a:pt x="2063" y="1206"/>
                    </a:lnTo>
                    <a:lnTo>
                      <a:pt x="1962" y="1232"/>
                    </a:lnTo>
                    <a:lnTo>
                      <a:pt x="1883" y="1239"/>
                    </a:lnTo>
                    <a:lnTo>
                      <a:pt x="1855" y="1213"/>
                    </a:lnTo>
                    <a:lnTo>
                      <a:pt x="1872" y="1181"/>
                    </a:lnTo>
                    <a:lnTo>
                      <a:pt x="2039" y="1066"/>
                    </a:lnTo>
                    <a:lnTo>
                      <a:pt x="2169" y="943"/>
                    </a:lnTo>
                    <a:lnTo>
                      <a:pt x="2197" y="1001"/>
                    </a:lnTo>
                    <a:lnTo>
                      <a:pt x="2201" y="868"/>
                    </a:lnTo>
                    <a:lnTo>
                      <a:pt x="2180" y="720"/>
                    </a:lnTo>
                    <a:lnTo>
                      <a:pt x="2169" y="565"/>
                    </a:lnTo>
                    <a:lnTo>
                      <a:pt x="2180" y="337"/>
                    </a:lnTo>
                    <a:lnTo>
                      <a:pt x="2153" y="114"/>
                    </a:lnTo>
                    <a:lnTo>
                      <a:pt x="2111" y="0"/>
                    </a:lnTo>
                    <a:lnTo>
                      <a:pt x="2144" y="182"/>
                    </a:lnTo>
                    <a:lnTo>
                      <a:pt x="2144" y="400"/>
                    </a:lnTo>
                    <a:lnTo>
                      <a:pt x="2111" y="582"/>
                    </a:lnTo>
                    <a:lnTo>
                      <a:pt x="1982" y="868"/>
                    </a:lnTo>
                    <a:lnTo>
                      <a:pt x="2088" y="706"/>
                    </a:lnTo>
                    <a:lnTo>
                      <a:pt x="2127" y="771"/>
                    </a:lnTo>
                    <a:lnTo>
                      <a:pt x="2144" y="861"/>
                    </a:lnTo>
                    <a:lnTo>
                      <a:pt x="2120" y="936"/>
                    </a:lnTo>
                    <a:lnTo>
                      <a:pt x="2003" y="1041"/>
                    </a:lnTo>
                    <a:lnTo>
                      <a:pt x="1865" y="1125"/>
                    </a:lnTo>
                    <a:lnTo>
                      <a:pt x="1872" y="1050"/>
                    </a:lnTo>
                    <a:lnTo>
                      <a:pt x="1673" y="1273"/>
                    </a:lnTo>
                    <a:lnTo>
                      <a:pt x="1402" y="1476"/>
                    </a:lnTo>
                    <a:lnTo>
                      <a:pt x="1169" y="1584"/>
                    </a:lnTo>
                    <a:lnTo>
                      <a:pt x="965" y="1633"/>
                    </a:lnTo>
                    <a:lnTo>
                      <a:pt x="615" y="1600"/>
                    </a:lnTo>
                    <a:lnTo>
                      <a:pt x="410" y="1608"/>
                    </a:lnTo>
                    <a:lnTo>
                      <a:pt x="195" y="1626"/>
                    </a:lnTo>
                    <a:lnTo>
                      <a:pt x="87" y="16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1104480" y="5495040"/>
                <a:ext cx="14400" cy="149040"/>
              </a:xfrm>
              <a:custGeom>
                <a:avLst/>
                <a:gdLst/>
                <a:ahLst/>
                <a:rect l="l" t="t" r="r" b="b"/>
                <a:pathLst>
                  <a:path w="180" h="1411">
                    <a:moveTo>
                      <a:pt x="0" y="33"/>
                    </a:moveTo>
                    <a:lnTo>
                      <a:pt x="99" y="263"/>
                    </a:lnTo>
                    <a:lnTo>
                      <a:pt x="129" y="483"/>
                    </a:lnTo>
                    <a:lnTo>
                      <a:pt x="124" y="802"/>
                    </a:lnTo>
                    <a:lnTo>
                      <a:pt x="81" y="1075"/>
                    </a:lnTo>
                    <a:lnTo>
                      <a:pt x="9" y="1411"/>
                    </a:lnTo>
                    <a:lnTo>
                      <a:pt x="90" y="1386"/>
                    </a:lnTo>
                    <a:lnTo>
                      <a:pt x="140" y="1303"/>
                    </a:lnTo>
                    <a:lnTo>
                      <a:pt x="171" y="1140"/>
                    </a:lnTo>
                    <a:lnTo>
                      <a:pt x="180" y="886"/>
                    </a:lnTo>
                    <a:lnTo>
                      <a:pt x="171" y="556"/>
                    </a:lnTo>
                    <a:lnTo>
                      <a:pt x="145" y="344"/>
                    </a:lnTo>
                    <a:lnTo>
                      <a:pt x="105" y="180"/>
                    </a:lnTo>
                    <a:lnTo>
                      <a:pt x="39" y="22"/>
                    </a:lnTo>
                    <a:lnTo>
                      <a:pt x="9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1073520" y="5592600"/>
                <a:ext cx="11520" cy="15120"/>
              </a:xfrm>
              <a:custGeom>
                <a:avLst/>
                <a:gdLst/>
                <a:ahLst/>
                <a:rect l="l" t="t" r="r" b="b"/>
                <a:pathLst>
                  <a:path w="141" h="141">
                    <a:moveTo>
                      <a:pt x="101" y="7"/>
                    </a:moveTo>
                    <a:lnTo>
                      <a:pt x="66" y="7"/>
                    </a:lnTo>
                    <a:lnTo>
                      <a:pt x="42" y="31"/>
                    </a:lnTo>
                    <a:lnTo>
                      <a:pt x="51" y="62"/>
                    </a:lnTo>
                    <a:lnTo>
                      <a:pt x="77" y="88"/>
                    </a:lnTo>
                    <a:lnTo>
                      <a:pt x="110" y="72"/>
                    </a:lnTo>
                    <a:lnTo>
                      <a:pt x="123" y="49"/>
                    </a:lnTo>
                    <a:lnTo>
                      <a:pt x="123" y="31"/>
                    </a:lnTo>
                    <a:lnTo>
                      <a:pt x="141" y="62"/>
                    </a:lnTo>
                    <a:lnTo>
                      <a:pt x="123" y="113"/>
                    </a:lnTo>
                    <a:lnTo>
                      <a:pt x="77" y="141"/>
                    </a:lnTo>
                    <a:lnTo>
                      <a:pt x="18" y="106"/>
                    </a:lnTo>
                    <a:lnTo>
                      <a:pt x="0" y="49"/>
                    </a:lnTo>
                    <a:lnTo>
                      <a:pt x="42" y="7"/>
                    </a:lnTo>
                    <a:lnTo>
                      <a:pt x="66" y="0"/>
                    </a:lnTo>
                    <a:lnTo>
                      <a:pt x="10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1174680" y="5631480"/>
                <a:ext cx="21600" cy="53280"/>
              </a:xfrm>
              <a:custGeom>
                <a:avLst/>
                <a:gdLst/>
                <a:ahLst/>
                <a:rect l="l" t="t" r="r" b="b"/>
                <a:pathLst>
                  <a:path w="265" h="505">
                    <a:moveTo>
                      <a:pt x="215" y="0"/>
                    </a:moveTo>
                    <a:lnTo>
                      <a:pt x="215" y="71"/>
                    </a:lnTo>
                    <a:lnTo>
                      <a:pt x="0" y="193"/>
                    </a:lnTo>
                    <a:lnTo>
                      <a:pt x="131" y="152"/>
                    </a:lnTo>
                    <a:lnTo>
                      <a:pt x="131" y="277"/>
                    </a:lnTo>
                    <a:lnTo>
                      <a:pt x="57" y="258"/>
                    </a:lnTo>
                    <a:lnTo>
                      <a:pt x="239" y="431"/>
                    </a:lnTo>
                    <a:lnTo>
                      <a:pt x="265" y="505"/>
                    </a:lnTo>
                    <a:lnTo>
                      <a:pt x="255" y="405"/>
                    </a:lnTo>
                    <a:lnTo>
                      <a:pt x="180" y="308"/>
                    </a:lnTo>
                    <a:lnTo>
                      <a:pt x="180" y="143"/>
                    </a:lnTo>
                    <a:lnTo>
                      <a:pt x="233" y="92"/>
                    </a:lnTo>
                    <a:lnTo>
                      <a:pt x="233" y="51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1149480" y="5690160"/>
                <a:ext cx="75960" cy="56880"/>
              </a:xfrm>
              <a:custGeom>
                <a:avLst/>
                <a:gdLst/>
                <a:ahLst/>
                <a:rect l="l" t="t" r="r" b="b"/>
                <a:pathLst>
                  <a:path w="918" h="541">
                    <a:moveTo>
                      <a:pt x="529" y="181"/>
                    </a:moveTo>
                    <a:lnTo>
                      <a:pt x="520" y="211"/>
                    </a:lnTo>
                    <a:lnTo>
                      <a:pt x="470" y="211"/>
                    </a:lnTo>
                    <a:lnTo>
                      <a:pt x="379" y="55"/>
                    </a:lnTo>
                    <a:lnTo>
                      <a:pt x="217" y="0"/>
                    </a:lnTo>
                    <a:lnTo>
                      <a:pt x="35" y="55"/>
                    </a:lnTo>
                    <a:lnTo>
                      <a:pt x="0" y="123"/>
                    </a:lnTo>
                    <a:lnTo>
                      <a:pt x="65" y="186"/>
                    </a:lnTo>
                    <a:lnTo>
                      <a:pt x="123" y="294"/>
                    </a:lnTo>
                    <a:lnTo>
                      <a:pt x="245" y="172"/>
                    </a:lnTo>
                    <a:lnTo>
                      <a:pt x="373" y="195"/>
                    </a:lnTo>
                    <a:lnTo>
                      <a:pt x="553" y="283"/>
                    </a:lnTo>
                    <a:lnTo>
                      <a:pt x="613" y="319"/>
                    </a:lnTo>
                    <a:lnTo>
                      <a:pt x="619" y="411"/>
                    </a:lnTo>
                    <a:lnTo>
                      <a:pt x="529" y="474"/>
                    </a:lnTo>
                    <a:lnTo>
                      <a:pt x="619" y="541"/>
                    </a:lnTo>
                    <a:lnTo>
                      <a:pt x="918" y="541"/>
                    </a:lnTo>
                    <a:lnTo>
                      <a:pt x="793" y="424"/>
                    </a:lnTo>
                    <a:lnTo>
                      <a:pt x="727" y="424"/>
                    </a:lnTo>
                    <a:lnTo>
                      <a:pt x="660" y="253"/>
                    </a:lnTo>
                    <a:lnTo>
                      <a:pt x="577" y="204"/>
                    </a:lnTo>
                    <a:lnTo>
                      <a:pt x="529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1087200" y="5716440"/>
                <a:ext cx="108000" cy="48960"/>
              </a:xfrm>
              <a:custGeom>
                <a:avLst/>
                <a:gdLst/>
                <a:ahLst/>
                <a:rect l="l" t="t" r="r" b="b"/>
                <a:pathLst>
                  <a:path w="1305" h="464">
                    <a:moveTo>
                      <a:pt x="1248" y="185"/>
                    </a:moveTo>
                    <a:lnTo>
                      <a:pt x="1184" y="130"/>
                    </a:lnTo>
                    <a:lnTo>
                      <a:pt x="1149" y="53"/>
                    </a:lnTo>
                    <a:lnTo>
                      <a:pt x="1066" y="71"/>
                    </a:lnTo>
                    <a:lnTo>
                      <a:pt x="1033" y="242"/>
                    </a:lnTo>
                    <a:lnTo>
                      <a:pt x="1089" y="293"/>
                    </a:lnTo>
                    <a:lnTo>
                      <a:pt x="944" y="293"/>
                    </a:lnTo>
                    <a:lnTo>
                      <a:pt x="826" y="341"/>
                    </a:lnTo>
                    <a:lnTo>
                      <a:pt x="497" y="433"/>
                    </a:lnTo>
                    <a:lnTo>
                      <a:pt x="308" y="464"/>
                    </a:lnTo>
                    <a:lnTo>
                      <a:pt x="149" y="464"/>
                    </a:lnTo>
                    <a:lnTo>
                      <a:pt x="50" y="433"/>
                    </a:lnTo>
                    <a:lnTo>
                      <a:pt x="0" y="350"/>
                    </a:lnTo>
                    <a:lnTo>
                      <a:pt x="50" y="350"/>
                    </a:lnTo>
                    <a:lnTo>
                      <a:pt x="200" y="415"/>
                    </a:lnTo>
                    <a:lnTo>
                      <a:pt x="349" y="424"/>
                    </a:lnTo>
                    <a:lnTo>
                      <a:pt x="547" y="392"/>
                    </a:lnTo>
                    <a:lnTo>
                      <a:pt x="769" y="311"/>
                    </a:lnTo>
                    <a:lnTo>
                      <a:pt x="826" y="286"/>
                    </a:lnTo>
                    <a:lnTo>
                      <a:pt x="769" y="176"/>
                    </a:lnTo>
                    <a:lnTo>
                      <a:pt x="695" y="110"/>
                    </a:lnTo>
                    <a:lnTo>
                      <a:pt x="605" y="14"/>
                    </a:lnTo>
                    <a:lnTo>
                      <a:pt x="769" y="46"/>
                    </a:lnTo>
                    <a:lnTo>
                      <a:pt x="810" y="110"/>
                    </a:lnTo>
                    <a:lnTo>
                      <a:pt x="870" y="64"/>
                    </a:lnTo>
                    <a:lnTo>
                      <a:pt x="870" y="130"/>
                    </a:lnTo>
                    <a:lnTo>
                      <a:pt x="1033" y="0"/>
                    </a:lnTo>
                    <a:lnTo>
                      <a:pt x="1257" y="46"/>
                    </a:lnTo>
                    <a:lnTo>
                      <a:pt x="1305" y="145"/>
                    </a:lnTo>
                    <a:lnTo>
                      <a:pt x="1248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1161000" y="5748840"/>
                <a:ext cx="2484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1105920" y="5399280"/>
                <a:ext cx="4320" cy="13320"/>
              </a:xfrm>
              <a:custGeom>
                <a:avLst/>
                <a:gdLst/>
                <a:ahLst/>
                <a:rect l="l" t="t" r="r" b="b"/>
                <a:pathLst>
                  <a:path w="50" h="123">
                    <a:moveTo>
                      <a:pt x="32" y="0"/>
                    </a:moveTo>
                    <a:lnTo>
                      <a:pt x="50" y="42"/>
                    </a:lnTo>
                    <a:lnTo>
                      <a:pt x="50" y="83"/>
                    </a:lnTo>
                    <a:lnTo>
                      <a:pt x="32" y="118"/>
                    </a:lnTo>
                    <a:lnTo>
                      <a:pt x="14" y="123"/>
                    </a:lnTo>
                    <a:lnTo>
                      <a:pt x="0" y="123"/>
                    </a:lnTo>
                    <a:lnTo>
                      <a:pt x="0" y="111"/>
                    </a:lnTo>
                    <a:lnTo>
                      <a:pt x="19" y="111"/>
                    </a:lnTo>
                    <a:lnTo>
                      <a:pt x="32" y="83"/>
                    </a:lnTo>
                    <a:lnTo>
                      <a:pt x="39" y="48"/>
                    </a:lnTo>
                    <a:lnTo>
                      <a:pt x="19" y="1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1040760" y="5366160"/>
                <a:ext cx="25560" cy="15120"/>
              </a:xfrm>
              <a:custGeom>
                <a:avLst/>
                <a:gdLst/>
                <a:ahLst/>
                <a:rect l="l" t="t" r="r" b="b"/>
                <a:pathLst>
                  <a:path w="311" h="142">
                    <a:moveTo>
                      <a:pt x="0" y="49"/>
                    </a:moveTo>
                    <a:lnTo>
                      <a:pt x="48" y="39"/>
                    </a:lnTo>
                    <a:lnTo>
                      <a:pt x="14" y="26"/>
                    </a:lnTo>
                    <a:lnTo>
                      <a:pt x="55" y="0"/>
                    </a:lnTo>
                    <a:lnTo>
                      <a:pt x="117" y="1"/>
                    </a:lnTo>
                    <a:lnTo>
                      <a:pt x="179" y="1"/>
                    </a:lnTo>
                    <a:lnTo>
                      <a:pt x="255" y="37"/>
                    </a:lnTo>
                    <a:lnTo>
                      <a:pt x="218" y="37"/>
                    </a:lnTo>
                    <a:lnTo>
                      <a:pt x="267" y="83"/>
                    </a:lnTo>
                    <a:lnTo>
                      <a:pt x="278" y="54"/>
                    </a:lnTo>
                    <a:lnTo>
                      <a:pt x="311" y="107"/>
                    </a:lnTo>
                    <a:lnTo>
                      <a:pt x="273" y="142"/>
                    </a:lnTo>
                    <a:lnTo>
                      <a:pt x="276" y="109"/>
                    </a:lnTo>
                    <a:lnTo>
                      <a:pt x="223" y="122"/>
                    </a:lnTo>
                    <a:lnTo>
                      <a:pt x="188" y="120"/>
                    </a:lnTo>
                    <a:lnTo>
                      <a:pt x="240" y="109"/>
                    </a:lnTo>
                    <a:lnTo>
                      <a:pt x="253" y="92"/>
                    </a:lnTo>
                    <a:lnTo>
                      <a:pt x="235" y="61"/>
                    </a:lnTo>
                    <a:lnTo>
                      <a:pt x="191" y="39"/>
                    </a:lnTo>
                    <a:lnTo>
                      <a:pt x="156" y="37"/>
                    </a:lnTo>
                    <a:lnTo>
                      <a:pt x="101" y="41"/>
                    </a:lnTo>
                    <a:lnTo>
                      <a:pt x="60" y="46"/>
                    </a:lnTo>
                    <a:lnTo>
                      <a:pt x="95" y="81"/>
                    </a:lnTo>
                    <a:lnTo>
                      <a:pt x="140" y="109"/>
                    </a:lnTo>
                    <a:lnTo>
                      <a:pt x="122" y="122"/>
                    </a:lnTo>
                    <a:lnTo>
                      <a:pt x="106" y="104"/>
                    </a:lnTo>
                    <a:lnTo>
                      <a:pt x="71" y="109"/>
                    </a:lnTo>
                    <a:lnTo>
                      <a:pt x="66" y="81"/>
                    </a:lnTo>
                    <a:lnTo>
                      <a:pt x="36" y="79"/>
                    </a:lnTo>
                    <a:lnTo>
                      <a:pt x="43" y="61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1083240" y="5369400"/>
                <a:ext cx="21600" cy="12600"/>
              </a:xfrm>
              <a:custGeom>
                <a:avLst/>
                <a:gdLst/>
                <a:ahLst/>
                <a:rect l="l" t="t" r="r" b="b"/>
                <a:pathLst>
                  <a:path w="263" h="121">
                    <a:moveTo>
                      <a:pt x="0" y="75"/>
                    </a:moveTo>
                    <a:lnTo>
                      <a:pt x="26" y="31"/>
                    </a:lnTo>
                    <a:lnTo>
                      <a:pt x="92" y="0"/>
                    </a:lnTo>
                    <a:lnTo>
                      <a:pt x="127" y="0"/>
                    </a:lnTo>
                    <a:lnTo>
                      <a:pt x="109" y="24"/>
                    </a:lnTo>
                    <a:lnTo>
                      <a:pt x="145" y="24"/>
                    </a:lnTo>
                    <a:lnTo>
                      <a:pt x="151" y="5"/>
                    </a:lnTo>
                    <a:lnTo>
                      <a:pt x="175" y="17"/>
                    </a:lnTo>
                    <a:lnTo>
                      <a:pt x="208" y="12"/>
                    </a:lnTo>
                    <a:lnTo>
                      <a:pt x="217" y="29"/>
                    </a:lnTo>
                    <a:lnTo>
                      <a:pt x="259" y="24"/>
                    </a:lnTo>
                    <a:lnTo>
                      <a:pt x="226" y="58"/>
                    </a:lnTo>
                    <a:lnTo>
                      <a:pt x="263" y="77"/>
                    </a:lnTo>
                    <a:lnTo>
                      <a:pt x="208" y="86"/>
                    </a:lnTo>
                    <a:lnTo>
                      <a:pt x="206" y="104"/>
                    </a:lnTo>
                    <a:lnTo>
                      <a:pt x="180" y="97"/>
                    </a:lnTo>
                    <a:lnTo>
                      <a:pt x="151" y="121"/>
                    </a:lnTo>
                    <a:lnTo>
                      <a:pt x="134" y="110"/>
                    </a:lnTo>
                    <a:lnTo>
                      <a:pt x="97" y="110"/>
                    </a:lnTo>
                    <a:lnTo>
                      <a:pt x="151" y="97"/>
                    </a:lnTo>
                    <a:lnTo>
                      <a:pt x="184" y="77"/>
                    </a:lnTo>
                    <a:lnTo>
                      <a:pt x="206" y="68"/>
                    </a:lnTo>
                    <a:lnTo>
                      <a:pt x="169" y="51"/>
                    </a:lnTo>
                    <a:lnTo>
                      <a:pt x="134" y="38"/>
                    </a:lnTo>
                    <a:lnTo>
                      <a:pt x="85" y="31"/>
                    </a:lnTo>
                    <a:lnTo>
                      <a:pt x="37" y="58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1085400" y="53787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51" h="17">
                    <a:moveTo>
                      <a:pt x="14" y="0"/>
                    </a:moveTo>
                    <a:lnTo>
                      <a:pt x="51" y="17"/>
                    </a:lnTo>
                    <a:lnTo>
                      <a:pt x="0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1042920" y="5354280"/>
                <a:ext cx="25560" cy="15120"/>
              </a:xfrm>
              <a:custGeom>
                <a:avLst/>
                <a:gdLst/>
                <a:ahLst/>
                <a:rect l="l" t="t" r="r" b="b"/>
                <a:pathLst>
                  <a:path w="310" h="140">
                    <a:moveTo>
                      <a:pt x="0" y="28"/>
                    </a:moveTo>
                    <a:lnTo>
                      <a:pt x="93" y="0"/>
                    </a:lnTo>
                    <a:lnTo>
                      <a:pt x="238" y="57"/>
                    </a:lnTo>
                    <a:lnTo>
                      <a:pt x="310" y="140"/>
                    </a:lnTo>
                    <a:lnTo>
                      <a:pt x="244" y="74"/>
                    </a:lnTo>
                    <a:lnTo>
                      <a:pt x="145" y="28"/>
                    </a:lnTo>
                    <a:lnTo>
                      <a:pt x="81" y="21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1085400" y="5358600"/>
                <a:ext cx="19800" cy="6480"/>
              </a:xfrm>
              <a:custGeom>
                <a:avLst/>
                <a:gdLst/>
                <a:ahLst/>
                <a:rect l="l" t="t" r="r" b="b"/>
                <a:pathLst>
                  <a:path w="245" h="64">
                    <a:moveTo>
                      <a:pt x="0" y="64"/>
                    </a:moveTo>
                    <a:lnTo>
                      <a:pt x="86" y="31"/>
                    </a:lnTo>
                    <a:lnTo>
                      <a:pt x="157" y="18"/>
                    </a:lnTo>
                    <a:lnTo>
                      <a:pt x="218" y="18"/>
                    </a:lnTo>
                    <a:lnTo>
                      <a:pt x="245" y="35"/>
                    </a:lnTo>
                    <a:lnTo>
                      <a:pt x="229" y="0"/>
                    </a:lnTo>
                    <a:lnTo>
                      <a:pt x="168" y="0"/>
                    </a:lnTo>
                    <a:lnTo>
                      <a:pt x="69" y="18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1062720" y="5406120"/>
                <a:ext cx="16200" cy="10800"/>
              </a:xfrm>
              <a:custGeom>
                <a:avLst/>
                <a:gdLst/>
                <a:ahLst/>
                <a:rect l="l" t="t" r="r" b="b"/>
                <a:pathLst>
                  <a:path w="207" h="103">
                    <a:moveTo>
                      <a:pt x="207" y="38"/>
                    </a:moveTo>
                    <a:lnTo>
                      <a:pt x="152" y="73"/>
                    </a:lnTo>
                    <a:lnTo>
                      <a:pt x="130" y="66"/>
                    </a:lnTo>
                    <a:lnTo>
                      <a:pt x="101" y="38"/>
                    </a:lnTo>
                    <a:lnTo>
                      <a:pt x="58" y="29"/>
                    </a:lnTo>
                    <a:lnTo>
                      <a:pt x="11" y="22"/>
                    </a:lnTo>
                    <a:lnTo>
                      <a:pt x="11" y="0"/>
                    </a:lnTo>
                    <a:lnTo>
                      <a:pt x="0" y="22"/>
                    </a:lnTo>
                    <a:lnTo>
                      <a:pt x="11" y="38"/>
                    </a:lnTo>
                    <a:lnTo>
                      <a:pt x="67" y="57"/>
                    </a:lnTo>
                    <a:lnTo>
                      <a:pt x="125" y="103"/>
                    </a:lnTo>
                    <a:lnTo>
                      <a:pt x="148" y="103"/>
                    </a:lnTo>
                    <a:lnTo>
                      <a:pt x="207" y="66"/>
                    </a:lnTo>
                    <a:lnTo>
                      <a:pt x="20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1078560" y="5366880"/>
                <a:ext cx="4320" cy="18360"/>
              </a:xfrm>
              <a:custGeom>
                <a:avLst/>
                <a:gdLst/>
                <a:ahLst/>
                <a:rect l="l" t="t" r="r" b="b"/>
                <a:pathLst>
                  <a:path w="57" h="172">
                    <a:moveTo>
                      <a:pt x="57" y="0"/>
                    </a:moveTo>
                    <a:lnTo>
                      <a:pt x="15" y="51"/>
                    </a:lnTo>
                    <a:lnTo>
                      <a:pt x="0" y="106"/>
                    </a:lnTo>
                    <a:lnTo>
                      <a:pt x="4" y="141"/>
                    </a:lnTo>
                    <a:lnTo>
                      <a:pt x="33" y="172"/>
                    </a:lnTo>
                    <a:lnTo>
                      <a:pt x="15" y="134"/>
                    </a:lnTo>
                    <a:lnTo>
                      <a:pt x="15" y="95"/>
                    </a:lnTo>
                    <a:lnTo>
                      <a:pt x="28" y="49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1050840" y="53694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1" h="74">
                    <a:moveTo>
                      <a:pt x="0" y="6"/>
                    </a:moveTo>
                    <a:lnTo>
                      <a:pt x="6" y="57"/>
                    </a:lnTo>
                    <a:lnTo>
                      <a:pt x="30" y="74"/>
                    </a:lnTo>
                    <a:lnTo>
                      <a:pt x="57" y="74"/>
                    </a:lnTo>
                    <a:lnTo>
                      <a:pt x="72" y="39"/>
                    </a:lnTo>
                    <a:lnTo>
                      <a:pt x="81" y="17"/>
                    </a:lnTo>
                    <a:lnTo>
                      <a:pt x="57" y="32"/>
                    </a:lnTo>
                    <a:lnTo>
                      <a:pt x="37" y="50"/>
                    </a:lnTo>
                    <a:lnTo>
                      <a:pt x="30" y="39"/>
                    </a:lnTo>
                    <a:lnTo>
                      <a:pt x="3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1087920" y="5373000"/>
                <a:ext cx="7200" cy="6480"/>
              </a:xfrm>
              <a:custGeom>
                <a:avLst/>
                <a:gdLst/>
                <a:ahLst/>
                <a:rect l="l" t="t" r="r" b="b"/>
                <a:pathLst>
                  <a:path w="92" h="64">
                    <a:moveTo>
                      <a:pt x="0" y="12"/>
                    </a:moveTo>
                    <a:lnTo>
                      <a:pt x="5" y="64"/>
                    </a:lnTo>
                    <a:lnTo>
                      <a:pt x="64" y="64"/>
                    </a:lnTo>
                    <a:lnTo>
                      <a:pt x="89" y="35"/>
                    </a:lnTo>
                    <a:lnTo>
                      <a:pt x="92" y="0"/>
                    </a:lnTo>
                    <a:lnTo>
                      <a:pt x="55" y="0"/>
                    </a:lnTo>
                    <a:lnTo>
                      <a:pt x="64" y="31"/>
                    </a:lnTo>
                    <a:lnTo>
                      <a:pt x="41" y="42"/>
                    </a:lnTo>
                    <a:lnTo>
                      <a:pt x="27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1056600" y="5423760"/>
                <a:ext cx="28440" cy="3240"/>
              </a:xfrm>
              <a:custGeom>
                <a:avLst/>
                <a:gdLst/>
                <a:ahLst/>
                <a:rect l="l" t="t" r="r" b="b"/>
                <a:pathLst>
                  <a:path w="350" h="31">
                    <a:moveTo>
                      <a:pt x="0" y="5"/>
                    </a:moveTo>
                    <a:lnTo>
                      <a:pt x="111" y="0"/>
                    </a:lnTo>
                    <a:lnTo>
                      <a:pt x="198" y="14"/>
                    </a:lnTo>
                    <a:lnTo>
                      <a:pt x="251" y="5"/>
                    </a:lnTo>
                    <a:lnTo>
                      <a:pt x="350" y="14"/>
                    </a:lnTo>
                    <a:lnTo>
                      <a:pt x="276" y="24"/>
                    </a:lnTo>
                    <a:lnTo>
                      <a:pt x="198" y="31"/>
                    </a:lnTo>
                    <a:lnTo>
                      <a:pt x="46" y="1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1062000" y="5429520"/>
                <a:ext cx="19080" cy="4320"/>
              </a:xfrm>
              <a:custGeom>
                <a:avLst/>
                <a:gdLst/>
                <a:ahLst/>
                <a:rect l="l" t="t" r="r" b="b"/>
                <a:pathLst>
                  <a:path w="233" h="42">
                    <a:moveTo>
                      <a:pt x="0" y="0"/>
                    </a:moveTo>
                    <a:lnTo>
                      <a:pt x="60" y="35"/>
                    </a:lnTo>
                    <a:lnTo>
                      <a:pt x="159" y="42"/>
                    </a:lnTo>
                    <a:lnTo>
                      <a:pt x="233" y="7"/>
                    </a:lnTo>
                    <a:lnTo>
                      <a:pt x="164" y="24"/>
                    </a:lnTo>
                    <a:lnTo>
                      <a:pt x="7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1355040" y="54432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595" h="512">
                    <a:moveTo>
                      <a:pt x="97" y="215"/>
                    </a:moveTo>
                    <a:lnTo>
                      <a:pt x="120" y="122"/>
                    </a:lnTo>
                    <a:lnTo>
                      <a:pt x="305" y="0"/>
                    </a:lnTo>
                    <a:lnTo>
                      <a:pt x="498" y="68"/>
                    </a:lnTo>
                    <a:lnTo>
                      <a:pt x="395" y="68"/>
                    </a:lnTo>
                    <a:lnTo>
                      <a:pt x="514" y="209"/>
                    </a:lnTo>
                    <a:lnTo>
                      <a:pt x="569" y="191"/>
                    </a:lnTo>
                    <a:lnTo>
                      <a:pt x="525" y="96"/>
                    </a:lnTo>
                    <a:lnTo>
                      <a:pt x="595" y="209"/>
                    </a:lnTo>
                    <a:lnTo>
                      <a:pt x="551" y="261"/>
                    </a:lnTo>
                    <a:lnTo>
                      <a:pt x="595" y="503"/>
                    </a:lnTo>
                    <a:lnTo>
                      <a:pt x="533" y="512"/>
                    </a:lnTo>
                    <a:lnTo>
                      <a:pt x="464" y="494"/>
                    </a:lnTo>
                    <a:lnTo>
                      <a:pt x="542" y="486"/>
                    </a:lnTo>
                    <a:lnTo>
                      <a:pt x="475" y="329"/>
                    </a:lnTo>
                    <a:lnTo>
                      <a:pt x="351" y="200"/>
                    </a:lnTo>
                    <a:lnTo>
                      <a:pt x="489" y="311"/>
                    </a:lnTo>
                    <a:lnTo>
                      <a:pt x="542" y="424"/>
                    </a:lnTo>
                    <a:lnTo>
                      <a:pt x="510" y="244"/>
                    </a:lnTo>
                    <a:lnTo>
                      <a:pt x="305" y="41"/>
                    </a:lnTo>
                    <a:lnTo>
                      <a:pt x="261" y="122"/>
                    </a:lnTo>
                    <a:lnTo>
                      <a:pt x="305" y="173"/>
                    </a:lnTo>
                    <a:lnTo>
                      <a:pt x="228" y="173"/>
                    </a:lnTo>
                    <a:lnTo>
                      <a:pt x="323" y="306"/>
                    </a:lnTo>
                    <a:lnTo>
                      <a:pt x="191" y="209"/>
                    </a:lnTo>
                    <a:lnTo>
                      <a:pt x="0" y="373"/>
                    </a:lnTo>
                    <a:lnTo>
                      <a:pt x="17" y="253"/>
                    </a:lnTo>
                    <a:lnTo>
                      <a:pt x="97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1362960" y="5478840"/>
                <a:ext cx="34920" cy="55800"/>
              </a:xfrm>
              <a:custGeom>
                <a:avLst/>
                <a:gdLst/>
                <a:ahLst/>
                <a:rect l="l" t="t" r="r" b="b"/>
                <a:pathLst>
                  <a:path w="417" h="531">
                    <a:moveTo>
                      <a:pt x="351" y="198"/>
                    </a:moveTo>
                    <a:lnTo>
                      <a:pt x="307" y="183"/>
                    </a:lnTo>
                    <a:lnTo>
                      <a:pt x="254" y="114"/>
                    </a:lnTo>
                    <a:lnTo>
                      <a:pt x="208" y="114"/>
                    </a:lnTo>
                    <a:lnTo>
                      <a:pt x="146" y="62"/>
                    </a:lnTo>
                    <a:lnTo>
                      <a:pt x="146" y="104"/>
                    </a:lnTo>
                    <a:lnTo>
                      <a:pt x="94" y="114"/>
                    </a:lnTo>
                    <a:lnTo>
                      <a:pt x="44" y="53"/>
                    </a:lnTo>
                    <a:lnTo>
                      <a:pt x="72" y="132"/>
                    </a:lnTo>
                    <a:lnTo>
                      <a:pt x="0" y="132"/>
                    </a:lnTo>
                    <a:lnTo>
                      <a:pt x="87" y="189"/>
                    </a:lnTo>
                    <a:lnTo>
                      <a:pt x="78" y="270"/>
                    </a:lnTo>
                    <a:lnTo>
                      <a:pt x="131" y="383"/>
                    </a:lnTo>
                    <a:lnTo>
                      <a:pt x="131" y="305"/>
                    </a:lnTo>
                    <a:lnTo>
                      <a:pt x="164" y="279"/>
                    </a:lnTo>
                    <a:lnTo>
                      <a:pt x="182" y="321"/>
                    </a:lnTo>
                    <a:lnTo>
                      <a:pt x="219" y="288"/>
                    </a:lnTo>
                    <a:lnTo>
                      <a:pt x="272" y="288"/>
                    </a:lnTo>
                    <a:lnTo>
                      <a:pt x="340" y="347"/>
                    </a:lnTo>
                    <a:lnTo>
                      <a:pt x="332" y="436"/>
                    </a:lnTo>
                    <a:lnTo>
                      <a:pt x="291" y="531"/>
                    </a:lnTo>
                    <a:lnTo>
                      <a:pt x="383" y="383"/>
                    </a:lnTo>
                    <a:lnTo>
                      <a:pt x="413" y="288"/>
                    </a:lnTo>
                    <a:lnTo>
                      <a:pt x="417" y="156"/>
                    </a:lnTo>
                    <a:lnTo>
                      <a:pt x="383" y="156"/>
                    </a:lnTo>
                    <a:lnTo>
                      <a:pt x="323" y="42"/>
                    </a:lnTo>
                    <a:lnTo>
                      <a:pt x="261" y="0"/>
                    </a:lnTo>
                    <a:lnTo>
                      <a:pt x="314" y="77"/>
                    </a:lnTo>
                    <a:lnTo>
                      <a:pt x="351" y="148"/>
                    </a:lnTo>
                    <a:lnTo>
                      <a:pt x="351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1320480" y="5486760"/>
                <a:ext cx="141840" cy="259200"/>
              </a:xfrm>
              <a:custGeom>
                <a:avLst/>
                <a:gdLst/>
                <a:ahLst/>
                <a:rect l="l" t="t" r="r" b="b"/>
                <a:pathLst>
                  <a:path w="1712" h="2448">
                    <a:moveTo>
                      <a:pt x="420" y="0"/>
                    </a:moveTo>
                    <a:lnTo>
                      <a:pt x="499" y="424"/>
                    </a:lnTo>
                    <a:lnTo>
                      <a:pt x="522" y="451"/>
                    </a:lnTo>
                    <a:lnTo>
                      <a:pt x="561" y="468"/>
                    </a:lnTo>
                    <a:lnTo>
                      <a:pt x="534" y="495"/>
                    </a:lnTo>
                    <a:lnTo>
                      <a:pt x="483" y="486"/>
                    </a:lnTo>
                    <a:lnTo>
                      <a:pt x="475" y="550"/>
                    </a:lnTo>
                    <a:lnTo>
                      <a:pt x="499" y="599"/>
                    </a:lnTo>
                    <a:lnTo>
                      <a:pt x="540" y="615"/>
                    </a:lnTo>
                    <a:lnTo>
                      <a:pt x="589" y="606"/>
                    </a:lnTo>
                    <a:lnTo>
                      <a:pt x="611" y="479"/>
                    </a:lnTo>
                    <a:lnTo>
                      <a:pt x="663" y="479"/>
                    </a:lnTo>
                    <a:lnTo>
                      <a:pt x="711" y="451"/>
                    </a:lnTo>
                    <a:lnTo>
                      <a:pt x="743" y="398"/>
                    </a:lnTo>
                    <a:lnTo>
                      <a:pt x="743" y="461"/>
                    </a:lnTo>
                    <a:lnTo>
                      <a:pt x="771" y="451"/>
                    </a:lnTo>
                    <a:lnTo>
                      <a:pt x="824" y="424"/>
                    </a:lnTo>
                    <a:lnTo>
                      <a:pt x="798" y="461"/>
                    </a:lnTo>
                    <a:lnTo>
                      <a:pt x="743" y="530"/>
                    </a:lnTo>
                    <a:lnTo>
                      <a:pt x="699" y="650"/>
                    </a:lnTo>
                    <a:lnTo>
                      <a:pt x="909" y="415"/>
                    </a:lnTo>
                    <a:lnTo>
                      <a:pt x="945" y="444"/>
                    </a:lnTo>
                    <a:lnTo>
                      <a:pt x="815" y="798"/>
                    </a:lnTo>
                    <a:lnTo>
                      <a:pt x="824" y="1260"/>
                    </a:lnTo>
                    <a:lnTo>
                      <a:pt x="1172" y="1295"/>
                    </a:lnTo>
                    <a:lnTo>
                      <a:pt x="1331" y="1371"/>
                    </a:lnTo>
                    <a:lnTo>
                      <a:pt x="1417" y="1371"/>
                    </a:lnTo>
                    <a:lnTo>
                      <a:pt x="1460" y="1442"/>
                    </a:lnTo>
                    <a:lnTo>
                      <a:pt x="1172" y="1332"/>
                    </a:lnTo>
                    <a:lnTo>
                      <a:pt x="953" y="1314"/>
                    </a:lnTo>
                    <a:lnTo>
                      <a:pt x="1059" y="1380"/>
                    </a:lnTo>
                    <a:lnTo>
                      <a:pt x="953" y="1380"/>
                    </a:lnTo>
                    <a:lnTo>
                      <a:pt x="798" y="1362"/>
                    </a:lnTo>
                    <a:lnTo>
                      <a:pt x="909" y="1459"/>
                    </a:lnTo>
                    <a:lnTo>
                      <a:pt x="1296" y="1523"/>
                    </a:lnTo>
                    <a:lnTo>
                      <a:pt x="971" y="1493"/>
                    </a:lnTo>
                    <a:lnTo>
                      <a:pt x="1172" y="1611"/>
                    </a:lnTo>
                    <a:lnTo>
                      <a:pt x="1147" y="1636"/>
                    </a:lnTo>
                    <a:lnTo>
                      <a:pt x="875" y="1503"/>
                    </a:lnTo>
                    <a:lnTo>
                      <a:pt x="918" y="1636"/>
                    </a:lnTo>
                    <a:lnTo>
                      <a:pt x="1349" y="1747"/>
                    </a:lnTo>
                    <a:lnTo>
                      <a:pt x="1626" y="1921"/>
                    </a:lnTo>
                    <a:lnTo>
                      <a:pt x="1349" y="1867"/>
                    </a:lnTo>
                    <a:lnTo>
                      <a:pt x="1191" y="1765"/>
                    </a:lnTo>
                    <a:lnTo>
                      <a:pt x="953" y="1701"/>
                    </a:lnTo>
                    <a:lnTo>
                      <a:pt x="1068" y="1826"/>
                    </a:lnTo>
                    <a:lnTo>
                      <a:pt x="1712" y="2049"/>
                    </a:lnTo>
                    <a:lnTo>
                      <a:pt x="1068" y="1867"/>
                    </a:lnTo>
                    <a:lnTo>
                      <a:pt x="884" y="1736"/>
                    </a:lnTo>
                    <a:lnTo>
                      <a:pt x="895" y="1809"/>
                    </a:lnTo>
                    <a:lnTo>
                      <a:pt x="1068" y="1973"/>
                    </a:lnTo>
                    <a:lnTo>
                      <a:pt x="1321" y="2024"/>
                    </a:lnTo>
                    <a:lnTo>
                      <a:pt x="1460" y="2121"/>
                    </a:lnTo>
                    <a:lnTo>
                      <a:pt x="1259" y="2097"/>
                    </a:lnTo>
                    <a:lnTo>
                      <a:pt x="1008" y="1973"/>
                    </a:lnTo>
                    <a:lnTo>
                      <a:pt x="934" y="1982"/>
                    </a:lnTo>
                    <a:lnTo>
                      <a:pt x="971" y="2112"/>
                    </a:lnTo>
                    <a:lnTo>
                      <a:pt x="1033" y="2156"/>
                    </a:lnTo>
                    <a:lnTo>
                      <a:pt x="1349" y="2171"/>
                    </a:lnTo>
                    <a:lnTo>
                      <a:pt x="1024" y="2330"/>
                    </a:lnTo>
                    <a:lnTo>
                      <a:pt x="980" y="2314"/>
                    </a:lnTo>
                    <a:lnTo>
                      <a:pt x="909" y="2084"/>
                    </a:lnTo>
                    <a:lnTo>
                      <a:pt x="831" y="2339"/>
                    </a:lnTo>
                    <a:lnTo>
                      <a:pt x="849" y="2448"/>
                    </a:lnTo>
                    <a:lnTo>
                      <a:pt x="760" y="2354"/>
                    </a:lnTo>
                    <a:lnTo>
                      <a:pt x="895" y="2013"/>
                    </a:lnTo>
                    <a:lnTo>
                      <a:pt x="884" y="1921"/>
                    </a:lnTo>
                    <a:lnTo>
                      <a:pt x="824" y="1765"/>
                    </a:lnTo>
                    <a:lnTo>
                      <a:pt x="778" y="1563"/>
                    </a:lnTo>
                    <a:lnTo>
                      <a:pt x="674" y="1304"/>
                    </a:lnTo>
                    <a:lnTo>
                      <a:pt x="554" y="1523"/>
                    </a:lnTo>
                    <a:lnTo>
                      <a:pt x="554" y="1747"/>
                    </a:lnTo>
                    <a:lnTo>
                      <a:pt x="316" y="2033"/>
                    </a:lnTo>
                    <a:lnTo>
                      <a:pt x="0" y="2148"/>
                    </a:lnTo>
                    <a:lnTo>
                      <a:pt x="37" y="1973"/>
                    </a:lnTo>
                    <a:lnTo>
                      <a:pt x="217" y="1791"/>
                    </a:lnTo>
                    <a:lnTo>
                      <a:pt x="437" y="1685"/>
                    </a:lnTo>
                    <a:lnTo>
                      <a:pt x="534" y="1436"/>
                    </a:lnTo>
                    <a:lnTo>
                      <a:pt x="522" y="1314"/>
                    </a:lnTo>
                    <a:lnTo>
                      <a:pt x="611" y="1026"/>
                    </a:lnTo>
                    <a:lnTo>
                      <a:pt x="510" y="1000"/>
                    </a:lnTo>
                    <a:lnTo>
                      <a:pt x="420" y="938"/>
                    </a:lnTo>
                    <a:lnTo>
                      <a:pt x="522" y="650"/>
                    </a:lnTo>
                    <a:lnTo>
                      <a:pt x="475" y="627"/>
                    </a:lnTo>
                    <a:lnTo>
                      <a:pt x="448" y="541"/>
                    </a:lnTo>
                    <a:lnTo>
                      <a:pt x="448" y="433"/>
                    </a:lnTo>
                    <a:lnTo>
                      <a:pt x="420" y="53"/>
                    </a:lnTo>
                    <a:lnTo>
                      <a:pt x="4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1289520" y="5508720"/>
                <a:ext cx="56880" cy="184680"/>
              </a:xfrm>
              <a:custGeom>
                <a:avLst/>
                <a:gdLst/>
                <a:ahLst/>
                <a:rect l="l" t="t" r="r" b="b"/>
                <a:pathLst>
                  <a:path w="691" h="1748">
                    <a:moveTo>
                      <a:pt x="691" y="312"/>
                    </a:moveTo>
                    <a:lnTo>
                      <a:pt x="586" y="572"/>
                    </a:lnTo>
                    <a:lnTo>
                      <a:pt x="516" y="729"/>
                    </a:lnTo>
                    <a:lnTo>
                      <a:pt x="392" y="982"/>
                    </a:lnTo>
                    <a:lnTo>
                      <a:pt x="334" y="1017"/>
                    </a:lnTo>
                    <a:lnTo>
                      <a:pt x="351" y="1243"/>
                    </a:lnTo>
                    <a:lnTo>
                      <a:pt x="412" y="1527"/>
                    </a:lnTo>
                    <a:lnTo>
                      <a:pt x="472" y="1748"/>
                    </a:lnTo>
                    <a:lnTo>
                      <a:pt x="388" y="1485"/>
                    </a:lnTo>
                    <a:lnTo>
                      <a:pt x="334" y="1233"/>
                    </a:lnTo>
                    <a:lnTo>
                      <a:pt x="243" y="1171"/>
                    </a:lnTo>
                    <a:lnTo>
                      <a:pt x="254" y="1330"/>
                    </a:lnTo>
                    <a:lnTo>
                      <a:pt x="351" y="1591"/>
                    </a:lnTo>
                    <a:lnTo>
                      <a:pt x="239" y="1345"/>
                    </a:lnTo>
                    <a:lnTo>
                      <a:pt x="193" y="1153"/>
                    </a:lnTo>
                    <a:lnTo>
                      <a:pt x="87" y="1153"/>
                    </a:lnTo>
                    <a:lnTo>
                      <a:pt x="0" y="1227"/>
                    </a:lnTo>
                    <a:lnTo>
                      <a:pt x="87" y="1139"/>
                    </a:lnTo>
                    <a:lnTo>
                      <a:pt x="157" y="1112"/>
                    </a:lnTo>
                    <a:lnTo>
                      <a:pt x="219" y="895"/>
                    </a:lnTo>
                    <a:lnTo>
                      <a:pt x="219" y="782"/>
                    </a:lnTo>
                    <a:lnTo>
                      <a:pt x="175" y="721"/>
                    </a:lnTo>
                    <a:lnTo>
                      <a:pt x="175" y="644"/>
                    </a:lnTo>
                    <a:lnTo>
                      <a:pt x="279" y="235"/>
                    </a:lnTo>
                    <a:lnTo>
                      <a:pt x="388" y="0"/>
                    </a:lnTo>
                    <a:lnTo>
                      <a:pt x="307" y="341"/>
                    </a:lnTo>
                    <a:lnTo>
                      <a:pt x="219" y="685"/>
                    </a:lnTo>
                    <a:lnTo>
                      <a:pt x="307" y="798"/>
                    </a:lnTo>
                    <a:lnTo>
                      <a:pt x="366" y="914"/>
                    </a:lnTo>
                    <a:lnTo>
                      <a:pt x="606" y="462"/>
                    </a:lnTo>
                    <a:lnTo>
                      <a:pt x="691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1331640" y="5601960"/>
                <a:ext cx="6480" cy="45720"/>
              </a:xfrm>
              <a:custGeom>
                <a:avLst/>
                <a:gdLst/>
                <a:ahLst/>
                <a:rect l="l" t="t" r="r" b="b"/>
                <a:pathLst>
                  <a:path w="83" h="431">
                    <a:moveTo>
                      <a:pt x="0" y="0"/>
                    </a:moveTo>
                    <a:lnTo>
                      <a:pt x="51" y="106"/>
                    </a:lnTo>
                    <a:lnTo>
                      <a:pt x="51" y="297"/>
                    </a:lnTo>
                    <a:lnTo>
                      <a:pt x="83" y="385"/>
                    </a:lnTo>
                    <a:lnTo>
                      <a:pt x="42" y="431"/>
                    </a:lnTo>
                    <a:lnTo>
                      <a:pt x="24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1289520" y="5641920"/>
                <a:ext cx="34920" cy="72000"/>
              </a:xfrm>
              <a:custGeom>
                <a:avLst/>
                <a:gdLst/>
                <a:ahLst/>
                <a:rect l="l" t="t" r="r" b="b"/>
                <a:pathLst>
                  <a:path w="427" h="680">
                    <a:moveTo>
                      <a:pt x="0" y="0"/>
                    </a:moveTo>
                    <a:lnTo>
                      <a:pt x="175" y="532"/>
                    </a:lnTo>
                    <a:lnTo>
                      <a:pt x="307" y="543"/>
                    </a:lnTo>
                    <a:lnTo>
                      <a:pt x="427" y="629"/>
                    </a:lnTo>
                    <a:lnTo>
                      <a:pt x="366" y="680"/>
                    </a:lnTo>
                    <a:lnTo>
                      <a:pt x="175" y="611"/>
                    </a:lnTo>
                    <a:lnTo>
                      <a:pt x="81" y="3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1295280" y="5628960"/>
                <a:ext cx="10440" cy="34560"/>
              </a:xfrm>
              <a:custGeom>
                <a:avLst/>
                <a:gdLst/>
                <a:ahLst/>
                <a:rect l="l" t="t" r="r" b="b"/>
                <a:pathLst>
                  <a:path w="131" h="329">
                    <a:moveTo>
                      <a:pt x="131" y="14"/>
                    </a:moveTo>
                    <a:lnTo>
                      <a:pt x="43" y="329"/>
                    </a:lnTo>
                    <a:lnTo>
                      <a:pt x="0" y="226"/>
                    </a:lnTo>
                    <a:lnTo>
                      <a:pt x="112" y="0"/>
                    </a:lnTo>
                    <a:lnTo>
                      <a:pt x="13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1311480" y="5537520"/>
                <a:ext cx="8280" cy="32760"/>
              </a:xfrm>
              <a:custGeom>
                <a:avLst/>
                <a:gdLst/>
                <a:ahLst/>
                <a:rect l="l" t="t" r="r" b="b"/>
                <a:pathLst>
                  <a:path w="103" h="319">
                    <a:moveTo>
                      <a:pt x="71" y="0"/>
                    </a:moveTo>
                    <a:lnTo>
                      <a:pt x="71" y="171"/>
                    </a:lnTo>
                    <a:lnTo>
                      <a:pt x="103" y="319"/>
                    </a:lnTo>
                    <a:lnTo>
                      <a:pt x="0" y="21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1322640" y="5460120"/>
                <a:ext cx="44280" cy="75240"/>
              </a:xfrm>
              <a:custGeom>
                <a:avLst/>
                <a:gdLst/>
                <a:ahLst/>
                <a:rect l="l" t="t" r="r" b="b"/>
                <a:pathLst>
                  <a:path w="533" h="711">
                    <a:moveTo>
                      <a:pt x="0" y="393"/>
                    </a:moveTo>
                    <a:lnTo>
                      <a:pt x="60" y="393"/>
                    </a:lnTo>
                    <a:lnTo>
                      <a:pt x="174" y="520"/>
                    </a:lnTo>
                    <a:lnTo>
                      <a:pt x="254" y="711"/>
                    </a:lnTo>
                    <a:lnTo>
                      <a:pt x="189" y="503"/>
                    </a:lnTo>
                    <a:lnTo>
                      <a:pt x="93" y="329"/>
                    </a:lnTo>
                    <a:lnTo>
                      <a:pt x="51" y="305"/>
                    </a:lnTo>
                    <a:lnTo>
                      <a:pt x="227" y="164"/>
                    </a:lnTo>
                    <a:lnTo>
                      <a:pt x="427" y="141"/>
                    </a:lnTo>
                    <a:lnTo>
                      <a:pt x="533" y="0"/>
                    </a:lnTo>
                    <a:lnTo>
                      <a:pt x="306" y="35"/>
                    </a:lnTo>
                    <a:lnTo>
                      <a:pt x="189" y="153"/>
                    </a:lnTo>
                    <a:lnTo>
                      <a:pt x="21" y="305"/>
                    </a:lnTo>
                    <a:lnTo>
                      <a:pt x="0" y="3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1385640" y="5430600"/>
                <a:ext cx="9720" cy="16920"/>
              </a:xfrm>
              <a:custGeom>
                <a:avLst/>
                <a:gdLst/>
                <a:ahLst/>
                <a:rect l="l" t="t" r="r" b="b"/>
                <a:pathLst>
                  <a:path w="118" h="158">
                    <a:moveTo>
                      <a:pt x="63" y="0"/>
                    </a:moveTo>
                    <a:lnTo>
                      <a:pt x="0" y="158"/>
                    </a:lnTo>
                    <a:lnTo>
                      <a:pt x="26" y="158"/>
                    </a:lnTo>
                    <a:lnTo>
                      <a:pt x="118" y="38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1398240" y="5477040"/>
                <a:ext cx="81360" cy="64440"/>
              </a:xfrm>
              <a:custGeom>
                <a:avLst/>
                <a:gdLst/>
                <a:ahLst/>
                <a:rect l="l" t="t" r="r" b="b"/>
                <a:pathLst>
                  <a:path w="985" h="611">
                    <a:moveTo>
                      <a:pt x="55" y="194"/>
                    </a:moveTo>
                    <a:lnTo>
                      <a:pt x="107" y="264"/>
                    </a:lnTo>
                    <a:lnTo>
                      <a:pt x="182" y="334"/>
                    </a:lnTo>
                    <a:lnTo>
                      <a:pt x="199" y="354"/>
                    </a:lnTo>
                    <a:lnTo>
                      <a:pt x="257" y="334"/>
                    </a:lnTo>
                    <a:lnTo>
                      <a:pt x="254" y="387"/>
                    </a:lnTo>
                    <a:lnTo>
                      <a:pt x="301" y="424"/>
                    </a:lnTo>
                    <a:lnTo>
                      <a:pt x="413" y="470"/>
                    </a:lnTo>
                    <a:lnTo>
                      <a:pt x="479" y="502"/>
                    </a:lnTo>
                    <a:lnTo>
                      <a:pt x="538" y="543"/>
                    </a:lnTo>
                    <a:lnTo>
                      <a:pt x="580" y="585"/>
                    </a:lnTo>
                    <a:lnTo>
                      <a:pt x="901" y="20"/>
                    </a:lnTo>
                    <a:lnTo>
                      <a:pt x="938" y="0"/>
                    </a:lnTo>
                    <a:lnTo>
                      <a:pt x="976" y="0"/>
                    </a:lnTo>
                    <a:lnTo>
                      <a:pt x="985" y="20"/>
                    </a:lnTo>
                    <a:lnTo>
                      <a:pt x="967" y="29"/>
                    </a:lnTo>
                    <a:lnTo>
                      <a:pt x="936" y="29"/>
                    </a:lnTo>
                    <a:lnTo>
                      <a:pt x="899" y="48"/>
                    </a:lnTo>
                    <a:lnTo>
                      <a:pt x="865" y="90"/>
                    </a:lnTo>
                    <a:lnTo>
                      <a:pt x="580" y="611"/>
                    </a:lnTo>
                    <a:lnTo>
                      <a:pt x="459" y="565"/>
                    </a:lnTo>
                    <a:lnTo>
                      <a:pt x="538" y="578"/>
                    </a:lnTo>
                    <a:lnTo>
                      <a:pt x="485" y="532"/>
                    </a:lnTo>
                    <a:lnTo>
                      <a:pt x="404" y="486"/>
                    </a:lnTo>
                    <a:lnTo>
                      <a:pt x="325" y="458"/>
                    </a:lnTo>
                    <a:lnTo>
                      <a:pt x="296" y="453"/>
                    </a:lnTo>
                    <a:lnTo>
                      <a:pt x="362" y="519"/>
                    </a:lnTo>
                    <a:lnTo>
                      <a:pt x="301" y="475"/>
                    </a:lnTo>
                    <a:lnTo>
                      <a:pt x="257" y="440"/>
                    </a:lnTo>
                    <a:lnTo>
                      <a:pt x="204" y="383"/>
                    </a:lnTo>
                    <a:lnTo>
                      <a:pt x="136" y="315"/>
                    </a:lnTo>
                    <a:lnTo>
                      <a:pt x="74" y="269"/>
                    </a:lnTo>
                    <a:lnTo>
                      <a:pt x="24" y="224"/>
                    </a:lnTo>
                    <a:lnTo>
                      <a:pt x="0" y="185"/>
                    </a:lnTo>
                    <a:lnTo>
                      <a:pt x="55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1398240" y="5415480"/>
                <a:ext cx="23760" cy="37080"/>
              </a:xfrm>
              <a:custGeom>
                <a:avLst/>
                <a:gdLst/>
                <a:ahLst/>
                <a:rect l="l" t="t" r="r" b="b"/>
                <a:pathLst>
                  <a:path w="281" h="354">
                    <a:moveTo>
                      <a:pt x="0" y="338"/>
                    </a:moveTo>
                    <a:lnTo>
                      <a:pt x="199" y="42"/>
                    </a:lnTo>
                    <a:lnTo>
                      <a:pt x="228" y="17"/>
                    </a:lnTo>
                    <a:lnTo>
                      <a:pt x="254" y="0"/>
                    </a:lnTo>
                    <a:lnTo>
                      <a:pt x="281" y="6"/>
                    </a:lnTo>
                    <a:lnTo>
                      <a:pt x="241" y="22"/>
                    </a:lnTo>
                    <a:lnTo>
                      <a:pt x="206" y="54"/>
                    </a:lnTo>
                    <a:lnTo>
                      <a:pt x="4" y="354"/>
                    </a:lnTo>
                    <a:lnTo>
                      <a:pt x="0" y="3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1400760" y="5453640"/>
                <a:ext cx="57600" cy="25200"/>
              </a:xfrm>
              <a:custGeom>
                <a:avLst/>
                <a:gdLst/>
                <a:ahLst/>
                <a:rect l="l" t="t" r="r" b="b"/>
                <a:pathLst>
                  <a:path w="696" h="242">
                    <a:moveTo>
                      <a:pt x="0" y="242"/>
                    </a:moveTo>
                    <a:lnTo>
                      <a:pt x="39" y="215"/>
                    </a:lnTo>
                    <a:lnTo>
                      <a:pt x="81" y="180"/>
                    </a:lnTo>
                    <a:lnTo>
                      <a:pt x="131" y="111"/>
                    </a:lnTo>
                    <a:lnTo>
                      <a:pt x="156" y="69"/>
                    </a:lnTo>
                    <a:lnTo>
                      <a:pt x="180" y="49"/>
                    </a:lnTo>
                    <a:lnTo>
                      <a:pt x="208" y="31"/>
                    </a:lnTo>
                    <a:lnTo>
                      <a:pt x="248" y="21"/>
                    </a:lnTo>
                    <a:lnTo>
                      <a:pt x="369" y="0"/>
                    </a:lnTo>
                    <a:lnTo>
                      <a:pt x="439" y="3"/>
                    </a:lnTo>
                    <a:lnTo>
                      <a:pt x="527" y="40"/>
                    </a:lnTo>
                    <a:lnTo>
                      <a:pt x="592" y="88"/>
                    </a:lnTo>
                    <a:lnTo>
                      <a:pt x="696" y="137"/>
                    </a:lnTo>
                    <a:lnTo>
                      <a:pt x="617" y="125"/>
                    </a:lnTo>
                    <a:lnTo>
                      <a:pt x="564" y="106"/>
                    </a:lnTo>
                    <a:lnTo>
                      <a:pt x="527" y="86"/>
                    </a:lnTo>
                    <a:lnTo>
                      <a:pt x="483" y="75"/>
                    </a:lnTo>
                    <a:lnTo>
                      <a:pt x="459" y="79"/>
                    </a:lnTo>
                    <a:lnTo>
                      <a:pt x="435" y="150"/>
                    </a:lnTo>
                    <a:lnTo>
                      <a:pt x="384" y="211"/>
                    </a:lnTo>
                    <a:lnTo>
                      <a:pt x="421" y="152"/>
                    </a:lnTo>
                    <a:lnTo>
                      <a:pt x="447" y="69"/>
                    </a:lnTo>
                    <a:lnTo>
                      <a:pt x="447" y="49"/>
                    </a:lnTo>
                    <a:lnTo>
                      <a:pt x="430" y="28"/>
                    </a:lnTo>
                    <a:lnTo>
                      <a:pt x="384" y="16"/>
                    </a:lnTo>
                    <a:lnTo>
                      <a:pt x="329" y="21"/>
                    </a:lnTo>
                    <a:lnTo>
                      <a:pt x="313" y="44"/>
                    </a:lnTo>
                    <a:lnTo>
                      <a:pt x="343" y="222"/>
                    </a:lnTo>
                    <a:lnTo>
                      <a:pt x="325" y="222"/>
                    </a:lnTo>
                    <a:lnTo>
                      <a:pt x="256" y="198"/>
                    </a:lnTo>
                    <a:lnTo>
                      <a:pt x="195" y="174"/>
                    </a:lnTo>
                    <a:lnTo>
                      <a:pt x="164" y="150"/>
                    </a:lnTo>
                    <a:lnTo>
                      <a:pt x="145" y="137"/>
                    </a:lnTo>
                    <a:lnTo>
                      <a:pt x="108" y="174"/>
                    </a:lnTo>
                    <a:lnTo>
                      <a:pt x="67" y="210"/>
                    </a:lnTo>
                    <a:lnTo>
                      <a:pt x="25" y="231"/>
                    </a:lnTo>
                    <a:lnTo>
                      <a:pt x="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1455840" y="5414400"/>
                <a:ext cx="32400" cy="46440"/>
              </a:xfrm>
              <a:custGeom>
                <a:avLst/>
                <a:gdLst/>
                <a:ahLst/>
                <a:rect l="l" t="t" r="r" b="b"/>
                <a:pathLst>
                  <a:path w="385" h="439">
                    <a:moveTo>
                      <a:pt x="0" y="0"/>
                    </a:moveTo>
                    <a:lnTo>
                      <a:pt x="40" y="55"/>
                    </a:lnTo>
                    <a:lnTo>
                      <a:pt x="63" y="111"/>
                    </a:lnTo>
                    <a:lnTo>
                      <a:pt x="86" y="256"/>
                    </a:lnTo>
                    <a:lnTo>
                      <a:pt x="75" y="439"/>
                    </a:lnTo>
                    <a:lnTo>
                      <a:pt x="114" y="274"/>
                    </a:lnTo>
                    <a:lnTo>
                      <a:pt x="148" y="189"/>
                    </a:lnTo>
                    <a:lnTo>
                      <a:pt x="204" y="107"/>
                    </a:lnTo>
                    <a:lnTo>
                      <a:pt x="235" y="111"/>
                    </a:lnTo>
                    <a:lnTo>
                      <a:pt x="211" y="256"/>
                    </a:lnTo>
                    <a:lnTo>
                      <a:pt x="215" y="292"/>
                    </a:lnTo>
                    <a:lnTo>
                      <a:pt x="385" y="74"/>
                    </a:lnTo>
                    <a:lnTo>
                      <a:pt x="310" y="26"/>
                    </a:lnTo>
                    <a:lnTo>
                      <a:pt x="252" y="67"/>
                    </a:lnTo>
                    <a:lnTo>
                      <a:pt x="204" y="58"/>
                    </a:lnTo>
                    <a:lnTo>
                      <a:pt x="112" y="81"/>
                    </a:lnTo>
                    <a:lnTo>
                      <a:pt x="81" y="81"/>
                    </a:lnTo>
                    <a:lnTo>
                      <a:pt x="37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1424880" y="5473800"/>
                <a:ext cx="68040" cy="245880"/>
              </a:xfrm>
              <a:custGeom>
                <a:avLst/>
                <a:gdLst/>
                <a:ahLst/>
                <a:rect l="l" t="t" r="r" b="b"/>
                <a:pathLst>
                  <a:path w="819" h="2318">
                    <a:moveTo>
                      <a:pt x="102" y="23"/>
                    </a:moveTo>
                    <a:lnTo>
                      <a:pt x="196" y="140"/>
                    </a:lnTo>
                    <a:lnTo>
                      <a:pt x="275" y="327"/>
                    </a:lnTo>
                    <a:lnTo>
                      <a:pt x="424" y="714"/>
                    </a:lnTo>
                    <a:lnTo>
                      <a:pt x="579" y="1265"/>
                    </a:lnTo>
                    <a:lnTo>
                      <a:pt x="712" y="1680"/>
                    </a:lnTo>
                    <a:lnTo>
                      <a:pt x="819" y="1925"/>
                    </a:lnTo>
                    <a:lnTo>
                      <a:pt x="660" y="2318"/>
                    </a:lnTo>
                    <a:lnTo>
                      <a:pt x="526" y="2190"/>
                    </a:lnTo>
                    <a:lnTo>
                      <a:pt x="252" y="1992"/>
                    </a:lnTo>
                    <a:lnTo>
                      <a:pt x="35" y="546"/>
                    </a:lnTo>
                    <a:lnTo>
                      <a:pt x="0" y="274"/>
                    </a:lnTo>
                    <a:lnTo>
                      <a:pt x="17" y="103"/>
                    </a:lnTo>
                    <a:lnTo>
                      <a:pt x="35" y="41"/>
                    </a:lnTo>
                    <a:lnTo>
                      <a:pt x="35" y="0"/>
                    </a:lnTo>
                    <a:lnTo>
                      <a:pt x="60" y="41"/>
                    </a:lnTo>
                    <a:lnTo>
                      <a:pt x="53" y="134"/>
                    </a:lnTo>
                    <a:lnTo>
                      <a:pt x="60" y="292"/>
                    </a:lnTo>
                    <a:lnTo>
                      <a:pt x="77" y="465"/>
                    </a:lnTo>
                    <a:lnTo>
                      <a:pt x="116" y="707"/>
                    </a:lnTo>
                    <a:lnTo>
                      <a:pt x="284" y="1487"/>
                    </a:lnTo>
                    <a:lnTo>
                      <a:pt x="343" y="1953"/>
                    </a:lnTo>
                    <a:lnTo>
                      <a:pt x="360" y="2010"/>
                    </a:lnTo>
                    <a:lnTo>
                      <a:pt x="512" y="2142"/>
                    </a:lnTo>
                    <a:lnTo>
                      <a:pt x="642" y="2252"/>
                    </a:lnTo>
                    <a:lnTo>
                      <a:pt x="734" y="2019"/>
                    </a:lnTo>
                    <a:lnTo>
                      <a:pt x="778" y="1925"/>
                    </a:lnTo>
                    <a:lnTo>
                      <a:pt x="651" y="1604"/>
                    </a:lnTo>
                    <a:lnTo>
                      <a:pt x="561" y="1296"/>
                    </a:lnTo>
                    <a:lnTo>
                      <a:pt x="433" y="863"/>
                    </a:lnTo>
                    <a:lnTo>
                      <a:pt x="351" y="555"/>
                    </a:lnTo>
                    <a:lnTo>
                      <a:pt x="235" y="239"/>
                    </a:lnTo>
                    <a:lnTo>
                      <a:pt x="162" y="116"/>
                    </a:lnTo>
                    <a:lnTo>
                      <a:pt x="10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1405440" y="5551200"/>
                <a:ext cx="187560" cy="197640"/>
              </a:xfrm>
              <a:custGeom>
                <a:avLst/>
                <a:gdLst/>
                <a:ahLst/>
                <a:rect l="l" t="t" r="r" b="b"/>
                <a:pathLst>
                  <a:path w="2266" h="1862">
                    <a:moveTo>
                      <a:pt x="947" y="954"/>
                    </a:moveTo>
                    <a:lnTo>
                      <a:pt x="1211" y="1046"/>
                    </a:lnTo>
                    <a:lnTo>
                      <a:pt x="1455" y="1180"/>
                    </a:lnTo>
                    <a:lnTo>
                      <a:pt x="1630" y="1244"/>
                    </a:lnTo>
                    <a:lnTo>
                      <a:pt x="1747" y="1362"/>
                    </a:lnTo>
                    <a:lnTo>
                      <a:pt x="1925" y="1436"/>
                    </a:lnTo>
                    <a:lnTo>
                      <a:pt x="1914" y="1348"/>
                    </a:lnTo>
                    <a:lnTo>
                      <a:pt x="1764" y="1189"/>
                    </a:lnTo>
                    <a:lnTo>
                      <a:pt x="1582" y="1055"/>
                    </a:lnTo>
                    <a:lnTo>
                      <a:pt x="1854" y="1194"/>
                    </a:lnTo>
                    <a:lnTo>
                      <a:pt x="1905" y="908"/>
                    </a:lnTo>
                    <a:lnTo>
                      <a:pt x="1815" y="921"/>
                    </a:lnTo>
                    <a:lnTo>
                      <a:pt x="1747" y="908"/>
                    </a:lnTo>
                    <a:lnTo>
                      <a:pt x="1663" y="855"/>
                    </a:lnTo>
                    <a:lnTo>
                      <a:pt x="1738" y="839"/>
                    </a:lnTo>
                    <a:lnTo>
                      <a:pt x="1815" y="765"/>
                    </a:lnTo>
                    <a:lnTo>
                      <a:pt x="1863" y="682"/>
                    </a:lnTo>
                    <a:lnTo>
                      <a:pt x="1905" y="506"/>
                    </a:lnTo>
                    <a:lnTo>
                      <a:pt x="1914" y="273"/>
                    </a:lnTo>
                    <a:lnTo>
                      <a:pt x="1872" y="0"/>
                    </a:lnTo>
                    <a:lnTo>
                      <a:pt x="2048" y="168"/>
                    </a:lnTo>
                    <a:lnTo>
                      <a:pt x="2131" y="308"/>
                    </a:lnTo>
                    <a:lnTo>
                      <a:pt x="2110" y="325"/>
                    </a:lnTo>
                    <a:lnTo>
                      <a:pt x="1988" y="242"/>
                    </a:lnTo>
                    <a:lnTo>
                      <a:pt x="2013" y="541"/>
                    </a:lnTo>
                    <a:lnTo>
                      <a:pt x="2165" y="839"/>
                    </a:lnTo>
                    <a:lnTo>
                      <a:pt x="2206" y="1014"/>
                    </a:lnTo>
                    <a:lnTo>
                      <a:pt x="2149" y="1079"/>
                    </a:lnTo>
                    <a:lnTo>
                      <a:pt x="2156" y="1180"/>
                    </a:lnTo>
                    <a:lnTo>
                      <a:pt x="2266" y="1348"/>
                    </a:lnTo>
                    <a:lnTo>
                      <a:pt x="2266" y="1398"/>
                    </a:lnTo>
                    <a:lnTo>
                      <a:pt x="2215" y="1459"/>
                    </a:lnTo>
                    <a:lnTo>
                      <a:pt x="2013" y="1593"/>
                    </a:lnTo>
                    <a:lnTo>
                      <a:pt x="1896" y="1680"/>
                    </a:lnTo>
                    <a:lnTo>
                      <a:pt x="1738" y="1862"/>
                    </a:lnTo>
                    <a:lnTo>
                      <a:pt x="1496" y="1862"/>
                    </a:lnTo>
                    <a:lnTo>
                      <a:pt x="1444" y="1833"/>
                    </a:lnTo>
                    <a:lnTo>
                      <a:pt x="1356" y="1824"/>
                    </a:lnTo>
                    <a:lnTo>
                      <a:pt x="1305" y="1862"/>
                    </a:lnTo>
                    <a:lnTo>
                      <a:pt x="0" y="1862"/>
                    </a:lnTo>
                    <a:lnTo>
                      <a:pt x="169" y="1752"/>
                    </a:lnTo>
                    <a:lnTo>
                      <a:pt x="344" y="1662"/>
                    </a:lnTo>
                    <a:lnTo>
                      <a:pt x="542" y="1578"/>
                    </a:lnTo>
                    <a:lnTo>
                      <a:pt x="747" y="1512"/>
                    </a:lnTo>
                    <a:lnTo>
                      <a:pt x="830" y="1496"/>
                    </a:lnTo>
                    <a:lnTo>
                      <a:pt x="865" y="1545"/>
                    </a:lnTo>
                    <a:lnTo>
                      <a:pt x="837" y="1668"/>
                    </a:lnTo>
                    <a:lnTo>
                      <a:pt x="877" y="1721"/>
                    </a:lnTo>
                    <a:lnTo>
                      <a:pt x="1178" y="1680"/>
                    </a:lnTo>
                    <a:lnTo>
                      <a:pt x="1187" y="1653"/>
                    </a:lnTo>
                    <a:lnTo>
                      <a:pt x="1174" y="1629"/>
                    </a:lnTo>
                    <a:lnTo>
                      <a:pt x="947" y="1653"/>
                    </a:lnTo>
                    <a:lnTo>
                      <a:pt x="911" y="1635"/>
                    </a:lnTo>
                    <a:lnTo>
                      <a:pt x="906" y="1545"/>
                    </a:lnTo>
                    <a:lnTo>
                      <a:pt x="964" y="1503"/>
                    </a:lnTo>
                    <a:lnTo>
                      <a:pt x="994" y="1539"/>
                    </a:lnTo>
                    <a:lnTo>
                      <a:pt x="1037" y="1593"/>
                    </a:lnTo>
                    <a:lnTo>
                      <a:pt x="1103" y="1593"/>
                    </a:lnTo>
                    <a:lnTo>
                      <a:pt x="1139" y="1521"/>
                    </a:lnTo>
                    <a:lnTo>
                      <a:pt x="1019" y="1479"/>
                    </a:lnTo>
                    <a:lnTo>
                      <a:pt x="969" y="1470"/>
                    </a:lnTo>
                    <a:lnTo>
                      <a:pt x="1156" y="1459"/>
                    </a:lnTo>
                    <a:lnTo>
                      <a:pt x="1428" y="1452"/>
                    </a:lnTo>
                    <a:lnTo>
                      <a:pt x="1571" y="1459"/>
                    </a:lnTo>
                    <a:lnTo>
                      <a:pt x="1413" y="1398"/>
                    </a:lnTo>
                    <a:lnTo>
                      <a:pt x="1331" y="1319"/>
                    </a:lnTo>
                    <a:lnTo>
                      <a:pt x="1437" y="1353"/>
                    </a:lnTo>
                    <a:lnTo>
                      <a:pt x="1707" y="1459"/>
                    </a:lnTo>
                    <a:lnTo>
                      <a:pt x="1848" y="1479"/>
                    </a:lnTo>
                    <a:lnTo>
                      <a:pt x="1531" y="1256"/>
                    </a:lnTo>
                    <a:lnTo>
                      <a:pt x="1266" y="1106"/>
                    </a:lnTo>
                    <a:lnTo>
                      <a:pt x="1095" y="1064"/>
                    </a:lnTo>
                    <a:lnTo>
                      <a:pt x="1037" y="1002"/>
                    </a:lnTo>
                    <a:lnTo>
                      <a:pt x="947" y="9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1496160" y="541548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443" h="201">
                    <a:moveTo>
                      <a:pt x="0" y="69"/>
                    </a:moveTo>
                    <a:lnTo>
                      <a:pt x="0" y="201"/>
                    </a:lnTo>
                    <a:lnTo>
                      <a:pt x="236" y="46"/>
                    </a:lnTo>
                    <a:lnTo>
                      <a:pt x="261" y="69"/>
                    </a:lnTo>
                    <a:lnTo>
                      <a:pt x="351" y="78"/>
                    </a:lnTo>
                    <a:lnTo>
                      <a:pt x="443" y="19"/>
                    </a:lnTo>
                    <a:lnTo>
                      <a:pt x="342" y="51"/>
                    </a:lnTo>
                    <a:lnTo>
                      <a:pt x="287" y="46"/>
                    </a:lnTo>
                    <a:lnTo>
                      <a:pt x="236" y="0"/>
                    </a:lnTo>
                    <a:lnTo>
                      <a:pt x="134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1544040" y="5423040"/>
                <a:ext cx="57240" cy="114480"/>
              </a:xfrm>
              <a:custGeom>
                <a:avLst/>
                <a:gdLst/>
                <a:ahLst/>
                <a:rect l="l" t="t" r="r" b="b"/>
                <a:pathLst>
                  <a:path w="701" h="1079">
                    <a:moveTo>
                      <a:pt x="0" y="0"/>
                    </a:moveTo>
                    <a:lnTo>
                      <a:pt x="281" y="374"/>
                    </a:lnTo>
                    <a:lnTo>
                      <a:pt x="424" y="438"/>
                    </a:lnTo>
                    <a:lnTo>
                      <a:pt x="438" y="688"/>
                    </a:lnTo>
                    <a:lnTo>
                      <a:pt x="519" y="823"/>
                    </a:lnTo>
                    <a:lnTo>
                      <a:pt x="519" y="1079"/>
                    </a:lnTo>
                    <a:lnTo>
                      <a:pt x="551" y="1035"/>
                    </a:lnTo>
                    <a:lnTo>
                      <a:pt x="551" y="680"/>
                    </a:lnTo>
                    <a:lnTo>
                      <a:pt x="659" y="747"/>
                    </a:lnTo>
                    <a:lnTo>
                      <a:pt x="684" y="862"/>
                    </a:lnTo>
                    <a:lnTo>
                      <a:pt x="701" y="754"/>
                    </a:lnTo>
                    <a:lnTo>
                      <a:pt x="627" y="583"/>
                    </a:lnTo>
                    <a:lnTo>
                      <a:pt x="361" y="316"/>
                    </a:lnTo>
                    <a:lnTo>
                      <a:pt x="253" y="28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1514160" y="5470560"/>
                <a:ext cx="30960" cy="55800"/>
              </a:xfrm>
              <a:custGeom>
                <a:avLst/>
                <a:gdLst/>
                <a:ahLst/>
                <a:rect l="l" t="t" r="r" b="b"/>
                <a:pathLst>
                  <a:path w="378" h="533">
                    <a:moveTo>
                      <a:pt x="0" y="257"/>
                    </a:moveTo>
                    <a:lnTo>
                      <a:pt x="70" y="107"/>
                    </a:lnTo>
                    <a:lnTo>
                      <a:pt x="143" y="98"/>
                    </a:lnTo>
                    <a:lnTo>
                      <a:pt x="235" y="118"/>
                    </a:lnTo>
                    <a:lnTo>
                      <a:pt x="253" y="0"/>
                    </a:lnTo>
                    <a:lnTo>
                      <a:pt x="378" y="533"/>
                    </a:lnTo>
                    <a:lnTo>
                      <a:pt x="235" y="272"/>
                    </a:lnTo>
                    <a:lnTo>
                      <a:pt x="166" y="233"/>
                    </a:lnTo>
                    <a:lnTo>
                      <a:pt x="83" y="222"/>
                    </a:lnTo>
                    <a:lnTo>
                      <a:pt x="0" y="2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1585080" y="5510160"/>
                <a:ext cx="59400" cy="122760"/>
              </a:xfrm>
              <a:custGeom>
                <a:avLst/>
                <a:gdLst/>
                <a:ahLst/>
                <a:rect l="l" t="t" r="r" b="b"/>
                <a:pathLst>
                  <a:path w="717" h="1161">
                    <a:moveTo>
                      <a:pt x="261" y="0"/>
                    </a:moveTo>
                    <a:lnTo>
                      <a:pt x="252" y="99"/>
                    </a:lnTo>
                    <a:lnTo>
                      <a:pt x="177" y="240"/>
                    </a:lnTo>
                    <a:lnTo>
                      <a:pt x="76" y="390"/>
                    </a:lnTo>
                    <a:lnTo>
                      <a:pt x="34" y="509"/>
                    </a:lnTo>
                    <a:lnTo>
                      <a:pt x="34" y="572"/>
                    </a:lnTo>
                    <a:lnTo>
                      <a:pt x="67" y="656"/>
                    </a:lnTo>
                    <a:lnTo>
                      <a:pt x="94" y="724"/>
                    </a:lnTo>
                    <a:lnTo>
                      <a:pt x="0" y="724"/>
                    </a:lnTo>
                    <a:lnTo>
                      <a:pt x="127" y="763"/>
                    </a:lnTo>
                    <a:lnTo>
                      <a:pt x="177" y="889"/>
                    </a:lnTo>
                    <a:lnTo>
                      <a:pt x="325" y="889"/>
                    </a:lnTo>
                    <a:lnTo>
                      <a:pt x="496" y="1161"/>
                    </a:lnTo>
                    <a:lnTo>
                      <a:pt x="535" y="1091"/>
                    </a:lnTo>
                    <a:lnTo>
                      <a:pt x="535" y="970"/>
                    </a:lnTo>
                    <a:lnTo>
                      <a:pt x="643" y="774"/>
                    </a:lnTo>
                    <a:lnTo>
                      <a:pt x="717" y="473"/>
                    </a:lnTo>
                    <a:lnTo>
                      <a:pt x="616" y="756"/>
                    </a:lnTo>
                    <a:lnTo>
                      <a:pt x="560" y="733"/>
                    </a:lnTo>
                    <a:lnTo>
                      <a:pt x="595" y="673"/>
                    </a:lnTo>
                    <a:lnTo>
                      <a:pt x="217" y="839"/>
                    </a:lnTo>
                    <a:lnTo>
                      <a:pt x="210" y="763"/>
                    </a:lnTo>
                    <a:lnTo>
                      <a:pt x="127" y="708"/>
                    </a:lnTo>
                    <a:lnTo>
                      <a:pt x="337" y="524"/>
                    </a:lnTo>
                    <a:lnTo>
                      <a:pt x="184" y="608"/>
                    </a:lnTo>
                    <a:lnTo>
                      <a:pt x="153" y="524"/>
                    </a:lnTo>
                    <a:lnTo>
                      <a:pt x="159" y="422"/>
                    </a:lnTo>
                    <a:lnTo>
                      <a:pt x="201" y="341"/>
                    </a:lnTo>
                    <a:lnTo>
                      <a:pt x="344" y="168"/>
                    </a:lnTo>
                    <a:lnTo>
                      <a:pt x="360" y="99"/>
                    </a:lnTo>
                    <a:lnTo>
                      <a:pt x="344" y="58"/>
                    </a:lnTo>
                    <a:lnTo>
                      <a:pt x="293" y="58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1596600" y="5638320"/>
                <a:ext cx="64080" cy="53280"/>
              </a:xfrm>
              <a:custGeom>
                <a:avLst/>
                <a:gdLst/>
                <a:ahLst/>
                <a:rect l="l" t="t" r="r" b="b"/>
                <a:pathLst>
                  <a:path w="775" h="510">
                    <a:moveTo>
                      <a:pt x="0" y="510"/>
                    </a:moveTo>
                    <a:lnTo>
                      <a:pt x="92" y="353"/>
                    </a:lnTo>
                    <a:lnTo>
                      <a:pt x="472" y="182"/>
                    </a:lnTo>
                    <a:lnTo>
                      <a:pt x="672" y="182"/>
                    </a:lnTo>
                    <a:lnTo>
                      <a:pt x="775" y="118"/>
                    </a:lnTo>
                    <a:lnTo>
                      <a:pt x="540" y="118"/>
                    </a:lnTo>
                    <a:lnTo>
                      <a:pt x="393" y="171"/>
                    </a:lnTo>
                    <a:lnTo>
                      <a:pt x="327" y="143"/>
                    </a:lnTo>
                    <a:lnTo>
                      <a:pt x="342" y="0"/>
                    </a:lnTo>
                    <a:lnTo>
                      <a:pt x="261" y="14"/>
                    </a:lnTo>
                    <a:lnTo>
                      <a:pt x="261" y="171"/>
                    </a:lnTo>
                    <a:lnTo>
                      <a:pt x="197" y="251"/>
                    </a:lnTo>
                    <a:lnTo>
                      <a:pt x="105" y="261"/>
                    </a:lnTo>
                    <a:lnTo>
                      <a:pt x="12" y="393"/>
                    </a:lnTo>
                    <a:lnTo>
                      <a:pt x="0" y="5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1601640" y="5789520"/>
                <a:ext cx="98640" cy="47160"/>
              </a:xfrm>
              <a:custGeom>
                <a:avLst/>
                <a:gdLst/>
                <a:ahLst/>
                <a:rect l="l" t="t" r="r" b="b"/>
                <a:pathLst>
                  <a:path w="1191" h="446">
                    <a:moveTo>
                      <a:pt x="1191" y="174"/>
                    </a:moveTo>
                    <a:lnTo>
                      <a:pt x="841" y="283"/>
                    </a:lnTo>
                    <a:lnTo>
                      <a:pt x="622" y="446"/>
                    </a:lnTo>
                    <a:lnTo>
                      <a:pt x="609" y="374"/>
                    </a:lnTo>
                    <a:lnTo>
                      <a:pt x="912" y="176"/>
                    </a:lnTo>
                    <a:lnTo>
                      <a:pt x="877" y="137"/>
                    </a:lnTo>
                    <a:lnTo>
                      <a:pt x="708" y="149"/>
                    </a:lnTo>
                    <a:lnTo>
                      <a:pt x="490" y="213"/>
                    </a:lnTo>
                    <a:lnTo>
                      <a:pt x="512" y="108"/>
                    </a:lnTo>
                    <a:lnTo>
                      <a:pt x="313" y="96"/>
                    </a:lnTo>
                    <a:lnTo>
                      <a:pt x="205" y="55"/>
                    </a:lnTo>
                    <a:lnTo>
                      <a:pt x="69" y="2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246" y="47"/>
                    </a:lnTo>
                    <a:lnTo>
                      <a:pt x="409" y="77"/>
                    </a:lnTo>
                    <a:lnTo>
                      <a:pt x="537" y="73"/>
                    </a:lnTo>
                    <a:lnTo>
                      <a:pt x="652" y="55"/>
                    </a:lnTo>
                    <a:lnTo>
                      <a:pt x="749" y="112"/>
                    </a:lnTo>
                    <a:lnTo>
                      <a:pt x="1028" y="96"/>
                    </a:lnTo>
                    <a:lnTo>
                      <a:pt x="1164" y="154"/>
                    </a:lnTo>
                    <a:lnTo>
                      <a:pt x="1191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1484280" y="5742720"/>
                <a:ext cx="145080" cy="129600"/>
              </a:xfrm>
              <a:custGeom>
                <a:avLst/>
                <a:gdLst/>
                <a:ahLst/>
                <a:rect l="l" t="t" r="r" b="b"/>
                <a:pathLst>
                  <a:path w="1754" h="1222">
                    <a:moveTo>
                      <a:pt x="1289" y="666"/>
                    </a:moveTo>
                    <a:lnTo>
                      <a:pt x="1258" y="826"/>
                    </a:lnTo>
                    <a:lnTo>
                      <a:pt x="1258" y="945"/>
                    </a:lnTo>
                    <a:lnTo>
                      <a:pt x="1289" y="1042"/>
                    </a:lnTo>
                    <a:lnTo>
                      <a:pt x="1311" y="1098"/>
                    </a:lnTo>
                    <a:lnTo>
                      <a:pt x="1754" y="1222"/>
                    </a:lnTo>
                    <a:lnTo>
                      <a:pt x="1293" y="1160"/>
                    </a:lnTo>
                    <a:lnTo>
                      <a:pt x="1251" y="1098"/>
                    </a:lnTo>
                    <a:lnTo>
                      <a:pt x="876" y="1092"/>
                    </a:lnTo>
                    <a:lnTo>
                      <a:pt x="576" y="1035"/>
                    </a:lnTo>
                    <a:lnTo>
                      <a:pt x="311" y="955"/>
                    </a:lnTo>
                    <a:lnTo>
                      <a:pt x="93" y="860"/>
                    </a:lnTo>
                    <a:lnTo>
                      <a:pt x="69" y="826"/>
                    </a:lnTo>
                    <a:lnTo>
                      <a:pt x="51" y="749"/>
                    </a:lnTo>
                    <a:lnTo>
                      <a:pt x="0" y="652"/>
                    </a:lnTo>
                    <a:lnTo>
                      <a:pt x="12" y="615"/>
                    </a:lnTo>
                    <a:lnTo>
                      <a:pt x="32" y="588"/>
                    </a:lnTo>
                    <a:lnTo>
                      <a:pt x="32" y="452"/>
                    </a:lnTo>
                    <a:lnTo>
                      <a:pt x="51" y="406"/>
                    </a:lnTo>
                    <a:lnTo>
                      <a:pt x="80" y="382"/>
                    </a:lnTo>
                    <a:lnTo>
                      <a:pt x="58" y="433"/>
                    </a:lnTo>
                    <a:lnTo>
                      <a:pt x="51" y="547"/>
                    </a:lnTo>
                    <a:lnTo>
                      <a:pt x="58" y="613"/>
                    </a:lnTo>
                    <a:lnTo>
                      <a:pt x="230" y="756"/>
                    </a:lnTo>
                    <a:lnTo>
                      <a:pt x="258" y="749"/>
                    </a:lnTo>
                    <a:lnTo>
                      <a:pt x="278" y="670"/>
                    </a:lnTo>
                    <a:lnTo>
                      <a:pt x="170" y="494"/>
                    </a:lnTo>
                    <a:lnTo>
                      <a:pt x="140" y="344"/>
                    </a:lnTo>
                    <a:lnTo>
                      <a:pt x="201" y="202"/>
                    </a:lnTo>
                    <a:lnTo>
                      <a:pt x="201" y="426"/>
                    </a:lnTo>
                    <a:lnTo>
                      <a:pt x="361" y="786"/>
                    </a:lnTo>
                    <a:lnTo>
                      <a:pt x="438" y="802"/>
                    </a:lnTo>
                    <a:lnTo>
                      <a:pt x="489" y="770"/>
                    </a:lnTo>
                    <a:lnTo>
                      <a:pt x="480" y="685"/>
                    </a:lnTo>
                    <a:lnTo>
                      <a:pt x="320" y="286"/>
                    </a:lnTo>
                    <a:lnTo>
                      <a:pt x="320" y="166"/>
                    </a:lnTo>
                    <a:lnTo>
                      <a:pt x="320" y="72"/>
                    </a:lnTo>
                    <a:lnTo>
                      <a:pt x="361" y="0"/>
                    </a:lnTo>
                    <a:lnTo>
                      <a:pt x="343" y="136"/>
                    </a:lnTo>
                    <a:lnTo>
                      <a:pt x="350" y="272"/>
                    </a:lnTo>
                    <a:lnTo>
                      <a:pt x="451" y="540"/>
                    </a:lnTo>
                    <a:lnTo>
                      <a:pt x="493" y="560"/>
                    </a:lnTo>
                    <a:lnTo>
                      <a:pt x="535" y="516"/>
                    </a:lnTo>
                    <a:lnTo>
                      <a:pt x="553" y="468"/>
                    </a:lnTo>
                    <a:lnTo>
                      <a:pt x="546" y="362"/>
                    </a:lnTo>
                    <a:lnTo>
                      <a:pt x="528" y="219"/>
                    </a:lnTo>
                    <a:lnTo>
                      <a:pt x="553" y="215"/>
                    </a:lnTo>
                    <a:lnTo>
                      <a:pt x="581" y="459"/>
                    </a:lnTo>
                    <a:lnTo>
                      <a:pt x="570" y="523"/>
                    </a:lnTo>
                    <a:lnTo>
                      <a:pt x="541" y="569"/>
                    </a:lnTo>
                    <a:lnTo>
                      <a:pt x="498" y="613"/>
                    </a:lnTo>
                    <a:lnTo>
                      <a:pt x="511" y="740"/>
                    </a:lnTo>
                    <a:lnTo>
                      <a:pt x="504" y="826"/>
                    </a:lnTo>
                    <a:lnTo>
                      <a:pt x="456" y="844"/>
                    </a:lnTo>
                    <a:lnTo>
                      <a:pt x="392" y="839"/>
                    </a:lnTo>
                    <a:lnTo>
                      <a:pt x="311" y="795"/>
                    </a:lnTo>
                    <a:lnTo>
                      <a:pt x="265" y="802"/>
                    </a:lnTo>
                    <a:lnTo>
                      <a:pt x="93" y="724"/>
                    </a:lnTo>
                    <a:lnTo>
                      <a:pt x="87" y="806"/>
                    </a:lnTo>
                    <a:lnTo>
                      <a:pt x="152" y="867"/>
                    </a:lnTo>
                    <a:lnTo>
                      <a:pt x="504" y="986"/>
                    </a:lnTo>
                    <a:lnTo>
                      <a:pt x="792" y="1048"/>
                    </a:lnTo>
                    <a:lnTo>
                      <a:pt x="1042" y="1058"/>
                    </a:lnTo>
                    <a:lnTo>
                      <a:pt x="1238" y="1058"/>
                    </a:lnTo>
                    <a:lnTo>
                      <a:pt x="1229" y="955"/>
                    </a:lnTo>
                    <a:lnTo>
                      <a:pt x="1238" y="826"/>
                    </a:lnTo>
                    <a:lnTo>
                      <a:pt x="1263" y="722"/>
                    </a:lnTo>
                    <a:lnTo>
                      <a:pt x="1289" y="6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1527480" y="5742720"/>
                <a:ext cx="69480" cy="57600"/>
              </a:xfrm>
              <a:custGeom>
                <a:avLst/>
                <a:gdLst/>
                <a:ahLst/>
                <a:rect l="l" t="t" r="r" b="b"/>
                <a:pathLst>
                  <a:path w="846" h="547">
                    <a:moveTo>
                      <a:pt x="0" y="30"/>
                    </a:moveTo>
                    <a:lnTo>
                      <a:pt x="45" y="94"/>
                    </a:lnTo>
                    <a:lnTo>
                      <a:pt x="101" y="210"/>
                    </a:lnTo>
                    <a:lnTo>
                      <a:pt x="36" y="219"/>
                    </a:lnTo>
                    <a:lnTo>
                      <a:pt x="36" y="237"/>
                    </a:lnTo>
                    <a:lnTo>
                      <a:pt x="174" y="246"/>
                    </a:lnTo>
                    <a:lnTo>
                      <a:pt x="322" y="254"/>
                    </a:lnTo>
                    <a:lnTo>
                      <a:pt x="248" y="233"/>
                    </a:lnTo>
                    <a:lnTo>
                      <a:pt x="394" y="178"/>
                    </a:lnTo>
                    <a:lnTo>
                      <a:pt x="472" y="189"/>
                    </a:lnTo>
                    <a:lnTo>
                      <a:pt x="598" y="297"/>
                    </a:lnTo>
                    <a:lnTo>
                      <a:pt x="675" y="422"/>
                    </a:lnTo>
                    <a:lnTo>
                      <a:pt x="767" y="512"/>
                    </a:lnTo>
                    <a:lnTo>
                      <a:pt x="820" y="547"/>
                    </a:lnTo>
                    <a:lnTo>
                      <a:pt x="846" y="523"/>
                    </a:lnTo>
                    <a:lnTo>
                      <a:pt x="758" y="468"/>
                    </a:lnTo>
                    <a:lnTo>
                      <a:pt x="679" y="392"/>
                    </a:lnTo>
                    <a:lnTo>
                      <a:pt x="611" y="286"/>
                    </a:lnTo>
                    <a:lnTo>
                      <a:pt x="534" y="184"/>
                    </a:lnTo>
                    <a:lnTo>
                      <a:pt x="394" y="136"/>
                    </a:lnTo>
                    <a:lnTo>
                      <a:pt x="317" y="154"/>
                    </a:lnTo>
                    <a:lnTo>
                      <a:pt x="223" y="189"/>
                    </a:lnTo>
                    <a:lnTo>
                      <a:pt x="161" y="184"/>
                    </a:lnTo>
                    <a:lnTo>
                      <a:pt x="244" y="90"/>
                    </a:lnTo>
                    <a:lnTo>
                      <a:pt x="283" y="30"/>
                    </a:lnTo>
                    <a:lnTo>
                      <a:pt x="275" y="0"/>
                    </a:lnTo>
                    <a:lnTo>
                      <a:pt x="223" y="79"/>
                    </a:lnTo>
                    <a:lnTo>
                      <a:pt x="119" y="154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1357560" y="5268600"/>
                <a:ext cx="109440" cy="130320"/>
              </a:xfrm>
              <a:custGeom>
                <a:avLst/>
                <a:gdLst/>
                <a:ahLst/>
                <a:rect l="l" t="t" r="r" b="b"/>
                <a:pathLst>
                  <a:path w="1323" h="1233">
                    <a:moveTo>
                      <a:pt x="680" y="329"/>
                    </a:moveTo>
                    <a:lnTo>
                      <a:pt x="759" y="233"/>
                    </a:lnTo>
                    <a:lnTo>
                      <a:pt x="833" y="191"/>
                    </a:lnTo>
                    <a:lnTo>
                      <a:pt x="918" y="186"/>
                    </a:lnTo>
                    <a:lnTo>
                      <a:pt x="1026" y="239"/>
                    </a:lnTo>
                    <a:lnTo>
                      <a:pt x="1086" y="329"/>
                    </a:lnTo>
                    <a:lnTo>
                      <a:pt x="1116" y="433"/>
                    </a:lnTo>
                    <a:lnTo>
                      <a:pt x="1128" y="539"/>
                    </a:lnTo>
                    <a:lnTo>
                      <a:pt x="1123" y="648"/>
                    </a:lnTo>
                    <a:lnTo>
                      <a:pt x="1112" y="753"/>
                    </a:lnTo>
                    <a:lnTo>
                      <a:pt x="1141" y="857"/>
                    </a:lnTo>
                    <a:lnTo>
                      <a:pt x="1165" y="744"/>
                    </a:lnTo>
                    <a:lnTo>
                      <a:pt x="1242" y="689"/>
                    </a:lnTo>
                    <a:lnTo>
                      <a:pt x="1291" y="728"/>
                    </a:lnTo>
                    <a:lnTo>
                      <a:pt x="1305" y="857"/>
                    </a:lnTo>
                    <a:lnTo>
                      <a:pt x="1296" y="960"/>
                    </a:lnTo>
                    <a:lnTo>
                      <a:pt x="1238" y="1046"/>
                    </a:lnTo>
                    <a:lnTo>
                      <a:pt x="1209" y="1083"/>
                    </a:lnTo>
                    <a:lnTo>
                      <a:pt x="1152" y="1127"/>
                    </a:lnTo>
                    <a:lnTo>
                      <a:pt x="1222" y="1101"/>
                    </a:lnTo>
                    <a:lnTo>
                      <a:pt x="1310" y="966"/>
                    </a:lnTo>
                    <a:lnTo>
                      <a:pt x="1323" y="834"/>
                    </a:lnTo>
                    <a:lnTo>
                      <a:pt x="1296" y="696"/>
                    </a:lnTo>
                    <a:lnTo>
                      <a:pt x="1242" y="666"/>
                    </a:lnTo>
                    <a:lnTo>
                      <a:pt x="1242" y="585"/>
                    </a:lnTo>
                    <a:lnTo>
                      <a:pt x="1183" y="323"/>
                    </a:lnTo>
                    <a:lnTo>
                      <a:pt x="1086" y="175"/>
                    </a:lnTo>
                    <a:lnTo>
                      <a:pt x="971" y="74"/>
                    </a:lnTo>
                    <a:lnTo>
                      <a:pt x="840" y="32"/>
                    </a:lnTo>
                    <a:lnTo>
                      <a:pt x="629" y="0"/>
                    </a:lnTo>
                    <a:lnTo>
                      <a:pt x="392" y="32"/>
                    </a:lnTo>
                    <a:lnTo>
                      <a:pt x="213" y="131"/>
                    </a:lnTo>
                    <a:lnTo>
                      <a:pt x="97" y="255"/>
                    </a:lnTo>
                    <a:lnTo>
                      <a:pt x="26" y="404"/>
                    </a:lnTo>
                    <a:lnTo>
                      <a:pt x="12" y="562"/>
                    </a:lnTo>
                    <a:lnTo>
                      <a:pt x="26" y="786"/>
                    </a:lnTo>
                    <a:lnTo>
                      <a:pt x="0" y="857"/>
                    </a:lnTo>
                    <a:lnTo>
                      <a:pt x="23" y="995"/>
                    </a:lnTo>
                    <a:lnTo>
                      <a:pt x="97" y="1113"/>
                    </a:lnTo>
                    <a:lnTo>
                      <a:pt x="198" y="1196"/>
                    </a:lnTo>
                    <a:lnTo>
                      <a:pt x="249" y="1201"/>
                    </a:lnTo>
                    <a:lnTo>
                      <a:pt x="279" y="1233"/>
                    </a:lnTo>
                    <a:lnTo>
                      <a:pt x="264" y="1152"/>
                    </a:lnTo>
                    <a:lnTo>
                      <a:pt x="213" y="1187"/>
                    </a:lnTo>
                    <a:lnTo>
                      <a:pt x="104" y="1106"/>
                    </a:lnTo>
                    <a:lnTo>
                      <a:pt x="33" y="973"/>
                    </a:lnTo>
                    <a:lnTo>
                      <a:pt x="26" y="868"/>
                    </a:lnTo>
                    <a:lnTo>
                      <a:pt x="49" y="843"/>
                    </a:lnTo>
                    <a:lnTo>
                      <a:pt x="121" y="857"/>
                    </a:lnTo>
                    <a:lnTo>
                      <a:pt x="213" y="936"/>
                    </a:lnTo>
                    <a:lnTo>
                      <a:pt x="194" y="830"/>
                    </a:lnTo>
                    <a:lnTo>
                      <a:pt x="167" y="771"/>
                    </a:lnTo>
                    <a:lnTo>
                      <a:pt x="130" y="668"/>
                    </a:lnTo>
                    <a:lnTo>
                      <a:pt x="108" y="551"/>
                    </a:lnTo>
                    <a:lnTo>
                      <a:pt x="108" y="459"/>
                    </a:lnTo>
                    <a:lnTo>
                      <a:pt x="130" y="382"/>
                    </a:lnTo>
                    <a:lnTo>
                      <a:pt x="171" y="323"/>
                    </a:lnTo>
                    <a:lnTo>
                      <a:pt x="227" y="281"/>
                    </a:lnTo>
                    <a:lnTo>
                      <a:pt x="286" y="265"/>
                    </a:lnTo>
                    <a:lnTo>
                      <a:pt x="354" y="281"/>
                    </a:lnTo>
                    <a:lnTo>
                      <a:pt x="420" y="318"/>
                    </a:lnTo>
                    <a:lnTo>
                      <a:pt x="466" y="355"/>
                    </a:lnTo>
                    <a:lnTo>
                      <a:pt x="521" y="369"/>
                    </a:lnTo>
                    <a:lnTo>
                      <a:pt x="607" y="362"/>
                    </a:lnTo>
                    <a:lnTo>
                      <a:pt x="655" y="345"/>
                    </a:lnTo>
                    <a:lnTo>
                      <a:pt x="680" y="3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1381680" y="5361120"/>
                <a:ext cx="34920" cy="8280"/>
              </a:xfrm>
              <a:custGeom>
                <a:avLst/>
                <a:gdLst/>
                <a:ahLst/>
                <a:rect l="l" t="t" r="r" b="b"/>
                <a:pathLst>
                  <a:path w="424" h="83">
                    <a:moveTo>
                      <a:pt x="0" y="42"/>
                    </a:moveTo>
                    <a:lnTo>
                      <a:pt x="74" y="22"/>
                    </a:lnTo>
                    <a:lnTo>
                      <a:pt x="157" y="15"/>
                    </a:lnTo>
                    <a:lnTo>
                      <a:pt x="274" y="15"/>
                    </a:lnTo>
                    <a:lnTo>
                      <a:pt x="338" y="8"/>
                    </a:lnTo>
                    <a:lnTo>
                      <a:pt x="424" y="0"/>
                    </a:lnTo>
                    <a:lnTo>
                      <a:pt x="389" y="46"/>
                    </a:lnTo>
                    <a:lnTo>
                      <a:pt x="300" y="52"/>
                    </a:lnTo>
                    <a:lnTo>
                      <a:pt x="305" y="83"/>
                    </a:lnTo>
                    <a:lnTo>
                      <a:pt x="263" y="52"/>
                    </a:lnTo>
                    <a:lnTo>
                      <a:pt x="204" y="46"/>
                    </a:lnTo>
                    <a:lnTo>
                      <a:pt x="129" y="56"/>
                    </a:lnTo>
                    <a:lnTo>
                      <a:pt x="210" y="28"/>
                    </a:lnTo>
                    <a:lnTo>
                      <a:pt x="134" y="28"/>
                    </a:lnTo>
                    <a:lnTo>
                      <a:pt x="63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1380240" y="5362920"/>
                <a:ext cx="26280" cy="17640"/>
              </a:xfrm>
              <a:custGeom>
                <a:avLst/>
                <a:gdLst/>
                <a:ahLst/>
                <a:rect l="l" t="t" r="r" b="b"/>
                <a:pathLst>
                  <a:path w="318" h="161">
                    <a:moveTo>
                      <a:pt x="0" y="22"/>
                    </a:moveTo>
                    <a:lnTo>
                      <a:pt x="24" y="50"/>
                    </a:lnTo>
                    <a:lnTo>
                      <a:pt x="92" y="74"/>
                    </a:lnTo>
                    <a:lnTo>
                      <a:pt x="138" y="108"/>
                    </a:lnTo>
                    <a:lnTo>
                      <a:pt x="119" y="127"/>
                    </a:lnTo>
                    <a:lnTo>
                      <a:pt x="175" y="161"/>
                    </a:lnTo>
                    <a:lnTo>
                      <a:pt x="237" y="145"/>
                    </a:lnTo>
                    <a:lnTo>
                      <a:pt x="281" y="117"/>
                    </a:lnTo>
                    <a:lnTo>
                      <a:pt x="228" y="108"/>
                    </a:lnTo>
                    <a:lnTo>
                      <a:pt x="318" y="59"/>
                    </a:lnTo>
                    <a:lnTo>
                      <a:pt x="310" y="44"/>
                    </a:lnTo>
                    <a:lnTo>
                      <a:pt x="222" y="97"/>
                    </a:lnTo>
                    <a:lnTo>
                      <a:pt x="175" y="103"/>
                    </a:lnTo>
                    <a:lnTo>
                      <a:pt x="119" y="81"/>
                    </a:lnTo>
                    <a:lnTo>
                      <a:pt x="99" y="53"/>
                    </a:lnTo>
                    <a:lnTo>
                      <a:pt x="156" y="32"/>
                    </a:lnTo>
                    <a:lnTo>
                      <a:pt x="99" y="39"/>
                    </a:lnTo>
                    <a:lnTo>
                      <a:pt x="77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1419480" y="5350680"/>
                <a:ext cx="27000" cy="8280"/>
              </a:xfrm>
              <a:custGeom>
                <a:avLst/>
                <a:gdLst/>
                <a:ahLst/>
                <a:rect l="l" t="t" r="r" b="b"/>
                <a:pathLst>
                  <a:path w="327" h="85">
                    <a:moveTo>
                      <a:pt x="0" y="85"/>
                    </a:moveTo>
                    <a:lnTo>
                      <a:pt x="211" y="0"/>
                    </a:lnTo>
                    <a:lnTo>
                      <a:pt x="269" y="12"/>
                    </a:lnTo>
                    <a:lnTo>
                      <a:pt x="327" y="35"/>
                    </a:lnTo>
                    <a:lnTo>
                      <a:pt x="253" y="28"/>
                    </a:lnTo>
                    <a:lnTo>
                      <a:pt x="200" y="28"/>
                    </a:lnTo>
                    <a:lnTo>
                      <a:pt x="130" y="48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1421280" y="5359320"/>
                <a:ext cx="21600" cy="10080"/>
              </a:xfrm>
              <a:custGeom>
                <a:avLst/>
                <a:gdLst/>
                <a:ahLst/>
                <a:rect l="l" t="t" r="r" b="b"/>
                <a:pathLst>
                  <a:path w="261" h="99">
                    <a:moveTo>
                      <a:pt x="0" y="53"/>
                    </a:moveTo>
                    <a:lnTo>
                      <a:pt x="70" y="2"/>
                    </a:lnTo>
                    <a:lnTo>
                      <a:pt x="166" y="0"/>
                    </a:lnTo>
                    <a:lnTo>
                      <a:pt x="261" y="11"/>
                    </a:lnTo>
                    <a:lnTo>
                      <a:pt x="224" y="57"/>
                    </a:lnTo>
                    <a:lnTo>
                      <a:pt x="166" y="85"/>
                    </a:lnTo>
                    <a:lnTo>
                      <a:pt x="116" y="99"/>
                    </a:lnTo>
                    <a:lnTo>
                      <a:pt x="42" y="88"/>
                    </a:lnTo>
                    <a:lnTo>
                      <a:pt x="116" y="88"/>
                    </a:lnTo>
                    <a:lnTo>
                      <a:pt x="193" y="57"/>
                    </a:lnTo>
                    <a:lnTo>
                      <a:pt x="240" y="15"/>
                    </a:lnTo>
                    <a:lnTo>
                      <a:pt x="153" y="11"/>
                    </a:lnTo>
                    <a:lnTo>
                      <a:pt x="83" y="15"/>
                    </a:lnTo>
                    <a:lnTo>
                      <a:pt x="3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1415880" y="5354280"/>
                <a:ext cx="20520" cy="29520"/>
              </a:xfrm>
              <a:custGeom>
                <a:avLst/>
                <a:gdLst/>
                <a:ahLst/>
                <a:rect l="l" t="t" r="r" b="b"/>
                <a:pathLst>
                  <a:path w="248" h="281">
                    <a:moveTo>
                      <a:pt x="173" y="11"/>
                    </a:moveTo>
                    <a:lnTo>
                      <a:pt x="248" y="25"/>
                    </a:lnTo>
                    <a:lnTo>
                      <a:pt x="158" y="25"/>
                    </a:lnTo>
                    <a:lnTo>
                      <a:pt x="122" y="63"/>
                    </a:lnTo>
                    <a:lnTo>
                      <a:pt x="74" y="94"/>
                    </a:lnTo>
                    <a:lnTo>
                      <a:pt x="55" y="133"/>
                    </a:lnTo>
                    <a:lnTo>
                      <a:pt x="55" y="186"/>
                    </a:lnTo>
                    <a:lnTo>
                      <a:pt x="74" y="281"/>
                    </a:lnTo>
                    <a:lnTo>
                      <a:pt x="43" y="191"/>
                    </a:lnTo>
                    <a:lnTo>
                      <a:pt x="37" y="142"/>
                    </a:lnTo>
                    <a:lnTo>
                      <a:pt x="34" y="105"/>
                    </a:lnTo>
                    <a:lnTo>
                      <a:pt x="0" y="63"/>
                    </a:lnTo>
                    <a:lnTo>
                      <a:pt x="140" y="21"/>
                    </a:lnTo>
                    <a:lnTo>
                      <a:pt x="204" y="0"/>
                    </a:lnTo>
                    <a:lnTo>
                      <a:pt x="17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1408320" y="5365440"/>
                <a:ext cx="3600" cy="24480"/>
              </a:xfrm>
              <a:custGeom>
                <a:avLst/>
                <a:gdLst/>
                <a:ahLst/>
                <a:rect l="l" t="t" r="r" b="b"/>
                <a:pathLst>
                  <a:path w="48" h="233">
                    <a:moveTo>
                      <a:pt x="0" y="10"/>
                    </a:moveTo>
                    <a:lnTo>
                      <a:pt x="22" y="90"/>
                    </a:lnTo>
                    <a:lnTo>
                      <a:pt x="27" y="153"/>
                    </a:lnTo>
                    <a:lnTo>
                      <a:pt x="39" y="233"/>
                    </a:lnTo>
                    <a:lnTo>
                      <a:pt x="48" y="149"/>
                    </a:lnTo>
                    <a:lnTo>
                      <a:pt x="41" y="85"/>
                    </a:lnTo>
                    <a:lnTo>
                      <a:pt x="35" y="32"/>
                    </a:lnTo>
                    <a:lnTo>
                      <a:pt x="27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1424880" y="5368680"/>
                <a:ext cx="14400" cy="5760"/>
              </a:xfrm>
              <a:custGeom>
                <a:avLst/>
                <a:gdLst/>
                <a:ahLst/>
                <a:rect l="l" t="t" r="r" b="b"/>
                <a:pathLst>
                  <a:path w="171" h="55">
                    <a:moveTo>
                      <a:pt x="32" y="11"/>
                    </a:moveTo>
                    <a:lnTo>
                      <a:pt x="0" y="44"/>
                    </a:lnTo>
                    <a:lnTo>
                      <a:pt x="65" y="55"/>
                    </a:lnTo>
                    <a:lnTo>
                      <a:pt x="106" y="44"/>
                    </a:lnTo>
                    <a:lnTo>
                      <a:pt x="171" y="11"/>
                    </a:lnTo>
                    <a:lnTo>
                      <a:pt x="124" y="11"/>
                    </a:lnTo>
                    <a:lnTo>
                      <a:pt x="81" y="0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1362240" y="5367960"/>
                <a:ext cx="13680" cy="17640"/>
              </a:xfrm>
              <a:custGeom>
                <a:avLst/>
                <a:gdLst/>
                <a:ahLst/>
                <a:rect l="l" t="t" r="r" b="b"/>
                <a:pathLst>
                  <a:path w="174" h="170">
                    <a:moveTo>
                      <a:pt x="157" y="30"/>
                    </a:moveTo>
                    <a:lnTo>
                      <a:pt x="88" y="6"/>
                    </a:lnTo>
                    <a:lnTo>
                      <a:pt x="0" y="0"/>
                    </a:lnTo>
                    <a:lnTo>
                      <a:pt x="33" y="20"/>
                    </a:lnTo>
                    <a:lnTo>
                      <a:pt x="51" y="90"/>
                    </a:lnTo>
                    <a:lnTo>
                      <a:pt x="77" y="129"/>
                    </a:lnTo>
                    <a:lnTo>
                      <a:pt x="60" y="78"/>
                    </a:lnTo>
                    <a:lnTo>
                      <a:pt x="70" y="37"/>
                    </a:lnTo>
                    <a:lnTo>
                      <a:pt x="104" y="44"/>
                    </a:lnTo>
                    <a:lnTo>
                      <a:pt x="97" y="78"/>
                    </a:lnTo>
                    <a:lnTo>
                      <a:pt x="108" y="123"/>
                    </a:lnTo>
                    <a:lnTo>
                      <a:pt x="136" y="136"/>
                    </a:lnTo>
                    <a:lnTo>
                      <a:pt x="174" y="170"/>
                    </a:lnTo>
                    <a:lnTo>
                      <a:pt x="157" y="123"/>
                    </a:lnTo>
                    <a:lnTo>
                      <a:pt x="167" y="83"/>
                    </a:lnTo>
                    <a:lnTo>
                      <a:pt x="160" y="59"/>
                    </a:lnTo>
                    <a:lnTo>
                      <a:pt x="15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1452600" y="5349960"/>
                <a:ext cx="10440" cy="30240"/>
              </a:xfrm>
              <a:custGeom>
                <a:avLst/>
                <a:gdLst/>
                <a:ahLst/>
                <a:rect l="l" t="t" r="r" b="b"/>
                <a:pathLst>
                  <a:path w="129" h="292">
                    <a:moveTo>
                      <a:pt x="0" y="116"/>
                    </a:moveTo>
                    <a:lnTo>
                      <a:pt x="23" y="109"/>
                    </a:lnTo>
                    <a:lnTo>
                      <a:pt x="63" y="55"/>
                    </a:lnTo>
                    <a:lnTo>
                      <a:pt x="116" y="0"/>
                    </a:lnTo>
                    <a:lnTo>
                      <a:pt x="104" y="46"/>
                    </a:lnTo>
                    <a:lnTo>
                      <a:pt x="129" y="90"/>
                    </a:lnTo>
                    <a:lnTo>
                      <a:pt x="129" y="147"/>
                    </a:lnTo>
                    <a:lnTo>
                      <a:pt x="104" y="199"/>
                    </a:lnTo>
                    <a:lnTo>
                      <a:pt x="116" y="136"/>
                    </a:lnTo>
                    <a:lnTo>
                      <a:pt x="113" y="105"/>
                    </a:lnTo>
                    <a:lnTo>
                      <a:pt x="83" y="76"/>
                    </a:lnTo>
                    <a:lnTo>
                      <a:pt x="69" y="109"/>
                    </a:lnTo>
                    <a:lnTo>
                      <a:pt x="92" y="147"/>
                    </a:lnTo>
                    <a:lnTo>
                      <a:pt x="83" y="184"/>
                    </a:lnTo>
                    <a:lnTo>
                      <a:pt x="54" y="199"/>
                    </a:lnTo>
                    <a:lnTo>
                      <a:pt x="37" y="228"/>
                    </a:lnTo>
                    <a:lnTo>
                      <a:pt x="19" y="292"/>
                    </a:lnTo>
                    <a:lnTo>
                      <a:pt x="17" y="237"/>
                    </a:lnTo>
                    <a:lnTo>
                      <a:pt x="30" y="184"/>
                    </a:lnTo>
                    <a:lnTo>
                      <a:pt x="19" y="164"/>
                    </a:lnTo>
                    <a:lnTo>
                      <a:pt x="0" y="143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1392840" y="536544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99" h="63">
                    <a:moveTo>
                      <a:pt x="0" y="14"/>
                    </a:moveTo>
                    <a:lnTo>
                      <a:pt x="16" y="46"/>
                    </a:lnTo>
                    <a:lnTo>
                      <a:pt x="42" y="63"/>
                    </a:lnTo>
                    <a:lnTo>
                      <a:pt x="81" y="50"/>
                    </a:lnTo>
                    <a:lnTo>
                      <a:pt x="99" y="32"/>
                    </a:lnTo>
                    <a:lnTo>
                      <a:pt x="99" y="0"/>
                    </a:lnTo>
                    <a:lnTo>
                      <a:pt x="64" y="4"/>
                    </a:lnTo>
                    <a:lnTo>
                      <a:pt x="69" y="21"/>
                    </a:lnTo>
                    <a:lnTo>
                      <a:pt x="53" y="35"/>
                    </a:lnTo>
                    <a:lnTo>
                      <a:pt x="42" y="26"/>
                    </a:lnTo>
                    <a:lnTo>
                      <a:pt x="37" y="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1428120" y="535932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92" h="61">
                    <a:moveTo>
                      <a:pt x="0" y="17"/>
                    </a:moveTo>
                    <a:lnTo>
                      <a:pt x="9" y="55"/>
                    </a:lnTo>
                    <a:lnTo>
                      <a:pt x="42" y="61"/>
                    </a:lnTo>
                    <a:lnTo>
                      <a:pt x="74" y="51"/>
                    </a:lnTo>
                    <a:lnTo>
                      <a:pt x="92" y="31"/>
                    </a:lnTo>
                    <a:lnTo>
                      <a:pt x="86" y="0"/>
                    </a:lnTo>
                    <a:lnTo>
                      <a:pt x="64" y="0"/>
                    </a:lnTo>
                    <a:lnTo>
                      <a:pt x="60" y="33"/>
                    </a:lnTo>
                    <a:lnTo>
                      <a:pt x="37" y="33"/>
                    </a:lnTo>
                    <a:lnTo>
                      <a:pt x="27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1402200" y="5388120"/>
                <a:ext cx="30960" cy="21240"/>
              </a:xfrm>
              <a:custGeom>
                <a:avLst/>
                <a:gdLst/>
                <a:ahLst/>
                <a:rect l="l" t="t" r="r" b="b"/>
                <a:pathLst>
                  <a:path w="374" h="198">
                    <a:moveTo>
                      <a:pt x="31" y="0"/>
                    </a:moveTo>
                    <a:lnTo>
                      <a:pt x="0" y="37"/>
                    </a:lnTo>
                    <a:lnTo>
                      <a:pt x="0" y="79"/>
                    </a:lnTo>
                    <a:lnTo>
                      <a:pt x="26" y="90"/>
                    </a:lnTo>
                    <a:lnTo>
                      <a:pt x="46" y="132"/>
                    </a:lnTo>
                    <a:lnTo>
                      <a:pt x="127" y="163"/>
                    </a:lnTo>
                    <a:lnTo>
                      <a:pt x="199" y="198"/>
                    </a:lnTo>
                    <a:lnTo>
                      <a:pt x="235" y="198"/>
                    </a:lnTo>
                    <a:lnTo>
                      <a:pt x="305" y="120"/>
                    </a:lnTo>
                    <a:lnTo>
                      <a:pt x="360" y="90"/>
                    </a:lnTo>
                    <a:lnTo>
                      <a:pt x="374" y="37"/>
                    </a:lnTo>
                    <a:lnTo>
                      <a:pt x="365" y="22"/>
                    </a:lnTo>
                    <a:lnTo>
                      <a:pt x="342" y="0"/>
                    </a:lnTo>
                    <a:lnTo>
                      <a:pt x="354" y="25"/>
                    </a:lnTo>
                    <a:lnTo>
                      <a:pt x="347" y="46"/>
                    </a:lnTo>
                    <a:lnTo>
                      <a:pt x="325" y="46"/>
                    </a:lnTo>
                    <a:lnTo>
                      <a:pt x="285" y="69"/>
                    </a:lnTo>
                    <a:lnTo>
                      <a:pt x="261" y="97"/>
                    </a:lnTo>
                    <a:lnTo>
                      <a:pt x="235" y="120"/>
                    </a:lnTo>
                    <a:lnTo>
                      <a:pt x="187" y="127"/>
                    </a:lnTo>
                    <a:lnTo>
                      <a:pt x="141" y="117"/>
                    </a:lnTo>
                    <a:lnTo>
                      <a:pt x="107" y="97"/>
                    </a:lnTo>
                    <a:lnTo>
                      <a:pt x="63" y="79"/>
                    </a:lnTo>
                    <a:lnTo>
                      <a:pt x="26" y="79"/>
                    </a:lnTo>
                    <a:lnTo>
                      <a:pt x="8" y="60"/>
                    </a:lnTo>
                    <a:lnTo>
                      <a:pt x="15" y="37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1399320" y="5408640"/>
                <a:ext cx="42840" cy="9360"/>
              </a:xfrm>
              <a:custGeom>
                <a:avLst/>
                <a:gdLst/>
                <a:ahLst/>
                <a:rect l="l" t="t" r="r" b="b"/>
                <a:pathLst>
                  <a:path w="520" h="90">
                    <a:moveTo>
                      <a:pt x="48" y="60"/>
                    </a:moveTo>
                    <a:lnTo>
                      <a:pt x="101" y="40"/>
                    </a:lnTo>
                    <a:lnTo>
                      <a:pt x="174" y="23"/>
                    </a:lnTo>
                    <a:lnTo>
                      <a:pt x="259" y="24"/>
                    </a:lnTo>
                    <a:lnTo>
                      <a:pt x="343" y="7"/>
                    </a:lnTo>
                    <a:lnTo>
                      <a:pt x="488" y="23"/>
                    </a:lnTo>
                    <a:lnTo>
                      <a:pt x="511" y="0"/>
                    </a:lnTo>
                    <a:lnTo>
                      <a:pt x="520" y="31"/>
                    </a:lnTo>
                    <a:lnTo>
                      <a:pt x="501" y="46"/>
                    </a:lnTo>
                    <a:lnTo>
                      <a:pt x="477" y="31"/>
                    </a:lnTo>
                    <a:lnTo>
                      <a:pt x="417" y="24"/>
                    </a:lnTo>
                    <a:lnTo>
                      <a:pt x="327" y="46"/>
                    </a:lnTo>
                    <a:lnTo>
                      <a:pt x="253" y="64"/>
                    </a:lnTo>
                    <a:lnTo>
                      <a:pt x="128" y="60"/>
                    </a:lnTo>
                    <a:lnTo>
                      <a:pt x="41" y="70"/>
                    </a:lnTo>
                    <a:lnTo>
                      <a:pt x="20" y="90"/>
                    </a:lnTo>
                    <a:lnTo>
                      <a:pt x="0" y="79"/>
                    </a:lnTo>
                    <a:lnTo>
                      <a:pt x="4" y="53"/>
                    </a:lnTo>
                    <a:lnTo>
                      <a:pt x="27" y="46"/>
                    </a:lnTo>
                    <a:lnTo>
                      <a:pt x="48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1408680" y="5420520"/>
                <a:ext cx="23760" cy="10080"/>
              </a:xfrm>
              <a:custGeom>
                <a:avLst/>
                <a:gdLst/>
                <a:ahLst/>
                <a:rect l="l" t="t" r="r" b="b"/>
                <a:pathLst>
                  <a:path w="286" h="94">
                    <a:moveTo>
                      <a:pt x="0" y="22"/>
                    </a:moveTo>
                    <a:lnTo>
                      <a:pt x="64" y="31"/>
                    </a:lnTo>
                    <a:lnTo>
                      <a:pt x="123" y="31"/>
                    </a:lnTo>
                    <a:lnTo>
                      <a:pt x="194" y="26"/>
                    </a:lnTo>
                    <a:lnTo>
                      <a:pt x="286" y="0"/>
                    </a:lnTo>
                    <a:lnTo>
                      <a:pt x="231" y="46"/>
                    </a:lnTo>
                    <a:lnTo>
                      <a:pt x="244" y="83"/>
                    </a:lnTo>
                    <a:lnTo>
                      <a:pt x="171" y="83"/>
                    </a:lnTo>
                    <a:lnTo>
                      <a:pt x="64" y="94"/>
                    </a:lnTo>
                    <a:lnTo>
                      <a:pt x="70" y="63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1378800" y="5386680"/>
                <a:ext cx="75600" cy="64080"/>
              </a:xfrm>
              <a:custGeom>
                <a:avLst/>
                <a:gdLst/>
                <a:ahLst/>
                <a:rect l="l" t="t" r="r" b="b"/>
                <a:pathLst>
                  <a:path w="911" h="609">
                    <a:moveTo>
                      <a:pt x="0" y="83"/>
                    </a:moveTo>
                    <a:lnTo>
                      <a:pt x="96" y="339"/>
                    </a:lnTo>
                    <a:lnTo>
                      <a:pt x="157" y="438"/>
                    </a:lnTo>
                    <a:lnTo>
                      <a:pt x="226" y="498"/>
                    </a:lnTo>
                    <a:lnTo>
                      <a:pt x="304" y="546"/>
                    </a:lnTo>
                    <a:lnTo>
                      <a:pt x="394" y="576"/>
                    </a:lnTo>
                    <a:lnTo>
                      <a:pt x="487" y="609"/>
                    </a:lnTo>
                    <a:lnTo>
                      <a:pt x="570" y="609"/>
                    </a:lnTo>
                    <a:lnTo>
                      <a:pt x="669" y="581"/>
                    </a:lnTo>
                    <a:lnTo>
                      <a:pt x="735" y="535"/>
                    </a:lnTo>
                    <a:lnTo>
                      <a:pt x="793" y="464"/>
                    </a:lnTo>
                    <a:lnTo>
                      <a:pt x="848" y="374"/>
                    </a:lnTo>
                    <a:lnTo>
                      <a:pt x="883" y="288"/>
                    </a:lnTo>
                    <a:lnTo>
                      <a:pt x="898" y="183"/>
                    </a:lnTo>
                    <a:lnTo>
                      <a:pt x="911" y="0"/>
                    </a:lnTo>
                    <a:lnTo>
                      <a:pt x="892" y="14"/>
                    </a:lnTo>
                    <a:lnTo>
                      <a:pt x="869" y="265"/>
                    </a:lnTo>
                    <a:lnTo>
                      <a:pt x="839" y="353"/>
                    </a:lnTo>
                    <a:lnTo>
                      <a:pt x="793" y="434"/>
                    </a:lnTo>
                    <a:lnTo>
                      <a:pt x="724" y="517"/>
                    </a:lnTo>
                    <a:lnTo>
                      <a:pt x="659" y="558"/>
                    </a:lnTo>
                    <a:lnTo>
                      <a:pt x="659" y="528"/>
                    </a:lnTo>
                    <a:lnTo>
                      <a:pt x="595" y="551"/>
                    </a:lnTo>
                    <a:lnTo>
                      <a:pt x="511" y="557"/>
                    </a:lnTo>
                    <a:lnTo>
                      <a:pt x="450" y="551"/>
                    </a:lnTo>
                    <a:lnTo>
                      <a:pt x="392" y="528"/>
                    </a:lnTo>
                    <a:lnTo>
                      <a:pt x="408" y="558"/>
                    </a:lnTo>
                    <a:lnTo>
                      <a:pt x="293" y="524"/>
                    </a:lnTo>
                    <a:lnTo>
                      <a:pt x="203" y="445"/>
                    </a:lnTo>
                    <a:lnTo>
                      <a:pt x="138" y="368"/>
                    </a:lnTo>
                    <a:lnTo>
                      <a:pt x="90" y="279"/>
                    </a:lnTo>
                    <a:lnTo>
                      <a:pt x="10" y="74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1385640" y="5395680"/>
                <a:ext cx="15120" cy="29520"/>
              </a:xfrm>
              <a:custGeom>
                <a:avLst/>
                <a:gdLst/>
                <a:ahLst/>
                <a:rect l="l" t="t" r="r" b="b"/>
                <a:pathLst>
                  <a:path w="187" h="278">
                    <a:moveTo>
                      <a:pt x="22" y="58"/>
                    </a:moveTo>
                    <a:lnTo>
                      <a:pt x="97" y="53"/>
                    </a:lnTo>
                    <a:lnTo>
                      <a:pt x="134" y="36"/>
                    </a:lnTo>
                    <a:lnTo>
                      <a:pt x="187" y="0"/>
                    </a:lnTo>
                    <a:lnTo>
                      <a:pt x="157" y="58"/>
                    </a:lnTo>
                    <a:lnTo>
                      <a:pt x="111" y="117"/>
                    </a:lnTo>
                    <a:lnTo>
                      <a:pt x="118" y="181"/>
                    </a:lnTo>
                    <a:lnTo>
                      <a:pt x="163" y="278"/>
                    </a:lnTo>
                    <a:lnTo>
                      <a:pt x="111" y="207"/>
                    </a:lnTo>
                    <a:lnTo>
                      <a:pt x="77" y="133"/>
                    </a:lnTo>
                    <a:lnTo>
                      <a:pt x="40" y="117"/>
                    </a:lnTo>
                    <a:lnTo>
                      <a:pt x="0" y="64"/>
                    </a:lnTo>
                    <a:lnTo>
                      <a:pt x="22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1434600" y="5391720"/>
                <a:ext cx="12960" cy="23760"/>
              </a:xfrm>
              <a:custGeom>
                <a:avLst/>
                <a:gdLst/>
                <a:ahLst/>
                <a:rect l="l" t="t" r="r" b="b"/>
                <a:pathLst>
                  <a:path w="156" h="222">
                    <a:moveTo>
                      <a:pt x="0" y="0"/>
                    </a:moveTo>
                    <a:lnTo>
                      <a:pt x="31" y="29"/>
                    </a:lnTo>
                    <a:lnTo>
                      <a:pt x="94" y="68"/>
                    </a:lnTo>
                    <a:lnTo>
                      <a:pt x="112" y="94"/>
                    </a:lnTo>
                    <a:lnTo>
                      <a:pt x="124" y="140"/>
                    </a:lnTo>
                    <a:lnTo>
                      <a:pt x="117" y="222"/>
                    </a:lnTo>
                    <a:lnTo>
                      <a:pt x="134" y="136"/>
                    </a:lnTo>
                    <a:lnTo>
                      <a:pt x="156" y="46"/>
                    </a:lnTo>
                    <a:lnTo>
                      <a:pt x="156" y="9"/>
                    </a:lnTo>
                    <a:lnTo>
                      <a:pt x="88" y="13"/>
                    </a:lnTo>
                    <a:lnTo>
                      <a:pt x="3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1614960" y="5521320"/>
                <a:ext cx="54360" cy="30240"/>
              </a:xfrm>
              <a:custGeom>
                <a:avLst/>
                <a:gdLst/>
                <a:ahLst/>
                <a:rect l="l" t="t" r="r" b="b"/>
                <a:pathLst>
                  <a:path w="652" h="291">
                    <a:moveTo>
                      <a:pt x="50" y="0"/>
                    </a:moveTo>
                    <a:lnTo>
                      <a:pt x="59" y="44"/>
                    </a:lnTo>
                    <a:lnTo>
                      <a:pt x="59" y="85"/>
                    </a:lnTo>
                    <a:lnTo>
                      <a:pt x="34" y="126"/>
                    </a:lnTo>
                    <a:lnTo>
                      <a:pt x="0" y="152"/>
                    </a:lnTo>
                    <a:lnTo>
                      <a:pt x="136" y="291"/>
                    </a:lnTo>
                    <a:lnTo>
                      <a:pt x="294" y="192"/>
                    </a:lnTo>
                    <a:lnTo>
                      <a:pt x="384" y="291"/>
                    </a:lnTo>
                    <a:lnTo>
                      <a:pt x="452" y="233"/>
                    </a:lnTo>
                    <a:lnTo>
                      <a:pt x="583" y="152"/>
                    </a:lnTo>
                    <a:lnTo>
                      <a:pt x="652" y="69"/>
                    </a:lnTo>
                    <a:lnTo>
                      <a:pt x="553" y="152"/>
                    </a:lnTo>
                    <a:lnTo>
                      <a:pt x="410" y="210"/>
                    </a:lnTo>
                    <a:lnTo>
                      <a:pt x="343" y="159"/>
                    </a:lnTo>
                    <a:lnTo>
                      <a:pt x="184" y="159"/>
                    </a:lnTo>
                    <a:lnTo>
                      <a:pt x="94" y="9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1636920" y="5397480"/>
                <a:ext cx="34920" cy="46440"/>
              </a:xfrm>
              <a:custGeom>
                <a:avLst/>
                <a:gdLst/>
                <a:ahLst/>
                <a:rect l="l" t="t" r="r" b="b"/>
                <a:pathLst>
                  <a:path w="419" h="442">
                    <a:moveTo>
                      <a:pt x="36" y="0"/>
                    </a:moveTo>
                    <a:lnTo>
                      <a:pt x="134" y="35"/>
                    </a:lnTo>
                    <a:lnTo>
                      <a:pt x="260" y="13"/>
                    </a:lnTo>
                    <a:lnTo>
                      <a:pt x="382" y="42"/>
                    </a:lnTo>
                    <a:lnTo>
                      <a:pt x="396" y="0"/>
                    </a:lnTo>
                    <a:lnTo>
                      <a:pt x="419" y="92"/>
                    </a:lnTo>
                    <a:lnTo>
                      <a:pt x="419" y="189"/>
                    </a:lnTo>
                    <a:lnTo>
                      <a:pt x="403" y="334"/>
                    </a:lnTo>
                    <a:lnTo>
                      <a:pt x="373" y="442"/>
                    </a:lnTo>
                    <a:lnTo>
                      <a:pt x="396" y="316"/>
                    </a:lnTo>
                    <a:lnTo>
                      <a:pt x="396" y="260"/>
                    </a:lnTo>
                    <a:lnTo>
                      <a:pt x="290" y="327"/>
                    </a:lnTo>
                    <a:lnTo>
                      <a:pt x="269" y="327"/>
                    </a:lnTo>
                    <a:lnTo>
                      <a:pt x="260" y="308"/>
                    </a:lnTo>
                    <a:lnTo>
                      <a:pt x="359" y="202"/>
                    </a:lnTo>
                    <a:lnTo>
                      <a:pt x="352" y="145"/>
                    </a:lnTo>
                    <a:lnTo>
                      <a:pt x="246" y="214"/>
                    </a:lnTo>
                    <a:lnTo>
                      <a:pt x="274" y="165"/>
                    </a:lnTo>
                    <a:lnTo>
                      <a:pt x="260" y="154"/>
                    </a:lnTo>
                    <a:lnTo>
                      <a:pt x="253" y="110"/>
                    </a:lnTo>
                    <a:lnTo>
                      <a:pt x="218" y="110"/>
                    </a:lnTo>
                    <a:lnTo>
                      <a:pt x="154" y="175"/>
                    </a:lnTo>
                    <a:lnTo>
                      <a:pt x="134" y="175"/>
                    </a:lnTo>
                    <a:lnTo>
                      <a:pt x="134" y="141"/>
                    </a:lnTo>
                    <a:lnTo>
                      <a:pt x="163" y="103"/>
                    </a:lnTo>
                    <a:lnTo>
                      <a:pt x="62" y="79"/>
                    </a:lnTo>
                    <a:lnTo>
                      <a:pt x="62" y="117"/>
                    </a:lnTo>
                    <a:lnTo>
                      <a:pt x="90" y="161"/>
                    </a:lnTo>
                    <a:lnTo>
                      <a:pt x="29" y="117"/>
                    </a:lnTo>
                    <a:lnTo>
                      <a:pt x="0" y="55"/>
                    </a:lnTo>
                    <a:lnTo>
                      <a:pt x="7" y="13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1646280" y="5418000"/>
                <a:ext cx="8280" cy="5760"/>
              </a:xfrm>
              <a:custGeom>
                <a:avLst/>
                <a:gdLst/>
                <a:ahLst/>
                <a:rect l="l" t="t" r="r" b="b"/>
                <a:pathLst>
                  <a:path w="96" h="60">
                    <a:moveTo>
                      <a:pt x="13" y="0"/>
                    </a:moveTo>
                    <a:lnTo>
                      <a:pt x="96" y="35"/>
                    </a:lnTo>
                    <a:lnTo>
                      <a:pt x="96" y="57"/>
                    </a:lnTo>
                    <a:lnTo>
                      <a:pt x="72" y="60"/>
                    </a:lnTo>
                    <a:lnTo>
                      <a:pt x="4" y="29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1672560" y="5370480"/>
                <a:ext cx="54360" cy="50760"/>
              </a:xfrm>
              <a:custGeom>
                <a:avLst/>
                <a:gdLst/>
                <a:ahLst/>
                <a:rect l="l" t="t" r="r" b="b"/>
                <a:pathLst>
                  <a:path w="655" h="483">
                    <a:moveTo>
                      <a:pt x="0" y="132"/>
                    </a:moveTo>
                    <a:lnTo>
                      <a:pt x="41" y="279"/>
                    </a:lnTo>
                    <a:lnTo>
                      <a:pt x="103" y="351"/>
                    </a:lnTo>
                    <a:lnTo>
                      <a:pt x="103" y="473"/>
                    </a:lnTo>
                    <a:lnTo>
                      <a:pt x="161" y="362"/>
                    </a:lnTo>
                    <a:lnTo>
                      <a:pt x="364" y="483"/>
                    </a:lnTo>
                    <a:lnTo>
                      <a:pt x="521" y="376"/>
                    </a:lnTo>
                    <a:lnTo>
                      <a:pt x="352" y="376"/>
                    </a:lnTo>
                    <a:lnTo>
                      <a:pt x="297" y="356"/>
                    </a:lnTo>
                    <a:lnTo>
                      <a:pt x="224" y="356"/>
                    </a:lnTo>
                    <a:lnTo>
                      <a:pt x="217" y="332"/>
                    </a:lnTo>
                    <a:lnTo>
                      <a:pt x="329" y="314"/>
                    </a:lnTo>
                    <a:lnTo>
                      <a:pt x="329" y="259"/>
                    </a:lnTo>
                    <a:lnTo>
                      <a:pt x="391" y="224"/>
                    </a:lnTo>
                    <a:lnTo>
                      <a:pt x="323" y="224"/>
                    </a:lnTo>
                    <a:lnTo>
                      <a:pt x="308" y="208"/>
                    </a:lnTo>
                    <a:lnTo>
                      <a:pt x="426" y="160"/>
                    </a:lnTo>
                    <a:lnTo>
                      <a:pt x="479" y="107"/>
                    </a:lnTo>
                    <a:lnTo>
                      <a:pt x="631" y="169"/>
                    </a:lnTo>
                    <a:lnTo>
                      <a:pt x="655" y="160"/>
                    </a:lnTo>
                    <a:lnTo>
                      <a:pt x="527" y="0"/>
                    </a:lnTo>
                    <a:lnTo>
                      <a:pt x="479" y="0"/>
                    </a:lnTo>
                    <a:lnTo>
                      <a:pt x="290" y="99"/>
                    </a:lnTo>
                    <a:lnTo>
                      <a:pt x="140" y="187"/>
                    </a:lnTo>
                    <a:lnTo>
                      <a:pt x="134" y="238"/>
                    </a:lnTo>
                    <a:lnTo>
                      <a:pt x="90" y="245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1703160" y="5394240"/>
                <a:ext cx="15840" cy="8280"/>
              </a:xfrm>
              <a:custGeom>
                <a:avLst/>
                <a:gdLst/>
                <a:ahLst/>
                <a:rect l="l" t="t" r="r" b="b"/>
                <a:pathLst>
                  <a:path w="191" h="81">
                    <a:moveTo>
                      <a:pt x="0" y="0"/>
                    </a:moveTo>
                    <a:lnTo>
                      <a:pt x="34" y="65"/>
                    </a:lnTo>
                    <a:lnTo>
                      <a:pt x="20" y="81"/>
                    </a:lnTo>
                    <a:lnTo>
                      <a:pt x="176" y="72"/>
                    </a:lnTo>
                    <a:lnTo>
                      <a:pt x="191" y="50"/>
                    </a:lnTo>
                    <a:lnTo>
                      <a:pt x="101" y="0"/>
                    </a:lnTo>
                    <a:lnTo>
                      <a:pt x="2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1667880" y="544500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396" h="226">
                    <a:moveTo>
                      <a:pt x="0" y="41"/>
                    </a:moveTo>
                    <a:lnTo>
                      <a:pt x="69" y="83"/>
                    </a:lnTo>
                    <a:lnTo>
                      <a:pt x="136" y="83"/>
                    </a:lnTo>
                    <a:lnTo>
                      <a:pt x="228" y="14"/>
                    </a:lnTo>
                    <a:lnTo>
                      <a:pt x="297" y="0"/>
                    </a:lnTo>
                    <a:lnTo>
                      <a:pt x="302" y="14"/>
                    </a:lnTo>
                    <a:lnTo>
                      <a:pt x="339" y="26"/>
                    </a:lnTo>
                    <a:lnTo>
                      <a:pt x="396" y="14"/>
                    </a:lnTo>
                    <a:lnTo>
                      <a:pt x="359" y="63"/>
                    </a:lnTo>
                    <a:lnTo>
                      <a:pt x="219" y="109"/>
                    </a:lnTo>
                    <a:lnTo>
                      <a:pt x="214" y="180"/>
                    </a:lnTo>
                    <a:lnTo>
                      <a:pt x="168" y="226"/>
                    </a:lnTo>
                    <a:lnTo>
                      <a:pt x="99" y="118"/>
                    </a:lnTo>
                    <a:lnTo>
                      <a:pt x="46" y="104"/>
                    </a:lnTo>
                    <a:lnTo>
                      <a:pt x="0" y="63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1685880" y="5432400"/>
                <a:ext cx="12600" cy="5760"/>
              </a:xfrm>
              <a:custGeom>
                <a:avLst/>
                <a:gdLst/>
                <a:ahLst/>
                <a:rect l="l" t="t" r="r" b="b"/>
                <a:pathLst>
                  <a:path w="155" h="58">
                    <a:moveTo>
                      <a:pt x="0" y="58"/>
                    </a:moveTo>
                    <a:lnTo>
                      <a:pt x="106" y="32"/>
                    </a:lnTo>
                    <a:lnTo>
                      <a:pt x="155" y="44"/>
                    </a:lnTo>
                    <a:lnTo>
                      <a:pt x="106" y="0"/>
                    </a:lnTo>
                    <a:lnTo>
                      <a:pt x="41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1700640" y="5439960"/>
                <a:ext cx="27000" cy="48240"/>
              </a:xfrm>
              <a:custGeom>
                <a:avLst/>
                <a:gdLst/>
                <a:ahLst/>
                <a:rect l="l" t="t" r="r" b="b"/>
                <a:pathLst>
                  <a:path w="323" h="453">
                    <a:moveTo>
                      <a:pt x="0" y="0"/>
                    </a:moveTo>
                    <a:lnTo>
                      <a:pt x="7" y="54"/>
                    </a:lnTo>
                    <a:lnTo>
                      <a:pt x="84" y="119"/>
                    </a:lnTo>
                    <a:lnTo>
                      <a:pt x="169" y="229"/>
                    </a:lnTo>
                    <a:lnTo>
                      <a:pt x="99" y="275"/>
                    </a:lnTo>
                    <a:lnTo>
                      <a:pt x="209" y="453"/>
                    </a:lnTo>
                    <a:lnTo>
                      <a:pt x="282" y="453"/>
                    </a:lnTo>
                    <a:lnTo>
                      <a:pt x="323" y="299"/>
                    </a:lnTo>
                    <a:lnTo>
                      <a:pt x="308" y="250"/>
                    </a:lnTo>
                    <a:lnTo>
                      <a:pt x="224" y="222"/>
                    </a:lnTo>
                    <a:lnTo>
                      <a:pt x="205" y="119"/>
                    </a:lnTo>
                    <a:lnTo>
                      <a:pt x="104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1643400" y="5422320"/>
                <a:ext cx="33480" cy="87840"/>
              </a:xfrm>
              <a:custGeom>
                <a:avLst/>
                <a:gdLst/>
                <a:ahLst/>
                <a:rect l="l" t="t" r="r" b="b"/>
                <a:pathLst>
                  <a:path w="411" h="827">
                    <a:moveTo>
                      <a:pt x="290" y="272"/>
                    </a:moveTo>
                    <a:lnTo>
                      <a:pt x="197" y="272"/>
                    </a:lnTo>
                    <a:lnTo>
                      <a:pt x="121" y="230"/>
                    </a:lnTo>
                    <a:lnTo>
                      <a:pt x="51" y="167"/>
                    </a:lnTo>
                    <a:lnTo>
                      <a:pt x="0" y="0"/>
                    </a:lnTo>
                    <a:lnTo>
                      <a:pt x="29" y="193"/>
                    </a:lnTo>
                    <a:lnTo>
                      <a:pt x="160" y="378"/>
                    </a:lnTo>
                    <a:lnTo>
                      <a:pt x="282" y="629"/>
                    </a:lnTo>
                    <a:lnTo>
                      <a:pt x="342" y="708"/>
                    </a:lnTo>
                    <a:lnTo>
                      <a:pt x="395" y="827"/>
                    </a:lnTo>
                    <a:lnTo>
                      <a:pt x="354" y="636"/>
                    </a:lnTo>
                    <a:lnTo>
                      <a:pt x="411" y="609"/>
                    </a:lnTo>
                    <a:lnTo>
                      <a:pt x="354" y="565"/>
                    </a:lnTo>
                    <a:lnTo>
                      <a:pt x="354" y="530"/>
                    </a:lnTo>
                    <a:lnTo>
                      <a:pt x="386" y="507"/>
                    </a:lnTo>
                    <a:lnTo>
                      <a:pt x="319" y="523"/>
                    </a:lnTo>
                    <a:lnTo>
                      <a:pt x="282" y="507"/>
                    </a:lnTo>
                    <a:lnTo>
                      <a:pt x="268" y="466"/>
                    </a:lnTo>
                    <a:lnTo>
                      <a:pt x="268" y="356"/>
                    </a:lnTo>
                    <a:lnTo>
                      <a:pt x="290" y="2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1679400" y="5468040"/>
                <a:ext cx="30960" cy="7560"/>
              </a:xfrm>
              <a:custGeom>
                <a:avLst/>
                <a:gdLst/>
                <a:ahLst/>
                <a:rect l="l" t="t" r="r" b="b"/>
                <a:pathLst>
                  <a:path w="381" h="76">
                    <a:moveTo>
                      <a:pt x="0" y="76"/>
                    </a:moveTo>
                    <a:lnTo>
                      <a:pt x="175" y="40"/>
                    </a:lnTo>
                    <a:lnTo>
                      <a:pt x="260" y="0"/>
                    </a:lnTo>
                    <a:lnTo>
                      <a:pt x="313" y="0"/>
                    </a:lnTo>
                    <a:lnTo>
                      <a:pt x="381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1681920" y="5478120"/>
                <a:ext cx="25560" cy="20160"/>
              </a:xfrm>
              <a:custGeom>
                <a:avLst/>
                <a:gdLst/>
                <a:ahLst/>
                <a:rect l="l" t="t" r="r" b="b"/>
                <a:pathLst>
                  <a:path w="316" h="191">
                    <a:moveTo>
                      <a:pt x="0" y="79"/>
                    </a:moveTo>
                    <a:lnTo>
                      <a:pt x="242" y="26"/>
                    </a:lnTo>
                    <a:lnTo>
                      <a:pt x="295" y="0"/>
                    </a:lnTo>
                    <a:lnTo>
                      <a:pt x="303" y="19"/>
                    </a:lnTo>
                    <a:lnTo>
                      <a:pt x="219" y="64"/>
                    </a:lnTo>
                    <a:lnTo>
                      <a:pt x="235" y="112"/>
                    </a:lnTo>
                    <a:lnTo>
                      <a:pt x="316" y="191"/>
                    </a:lnTo>
                    <a:lnTo>
                      <a:pt x="228" y="162"/>
                    </a:lnTo>
                    <a:lnTo>
                      <a:pt x="150" y="162"/>
                    </a:lnTo>
                    <a:lnTo>
                      <a:pt x="72" y="182"/>
                    </a:lnTo>
                    <a:lnTo>
                      <a:pt x="46" y="191"/>
                    </a:lnTo>
                    <a:lnTo>
                      <a:pt x="60" y="156"/>
                    </a:lnTo>
                    <a:lnTo>
                      <a:pt x="24" y="9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1616400" y="5290560"/>
                <a:ext cx="141840" cy="109080"/>
              </a:xfrm>
              <a:custGeom>
                <a:avLst/>
                <a:gdLst/>
                <a:ahLst/>
                <a:rect l="l" t="t" r="r" b="b"/>
                <a:pathLst>
                  <a:path w="1704" h="1028">
                    <a:moveTo>
                      <a:pt x="159" y="340"/>
                    </a:moveTo>
                    <a:lnTo>
                      <a:pt x="122" y="404"/>
                    </a:lnTo>
                    <a:lnTo>
                      <a:pt x="0" y="551"/>
                    </a:lnTo>
                    <a:lnTo>
                      <a:pt x="0" y="609"/>
                    </a:lnTo>
                    <a:lnTo>
                      <a:pt x="76" y="749"/>
                    </a:lnTo>
                    <a:lnTo>
                      <a:pt x="48" y="874"/>
                    </a:lnTo>
                    <a:lnTo>
                      <a:pt x="111" y="978"/>
                    </a:lnTo>
                    <a:lnTo>
                      <a:pt x="245" y="987"/>
                    </a:lnTo>
                    <a:lnTo>
                      <a:pt x="286" y="1028"/>
                    </a:lnTo>
                    <a:lnTo>
                      <a:pt x="252" y="692"/>
                    </a:lnTo>
                    <a:lnTo>
                      <a:pt x="252" y="588"/>
                    </a:lnTo>
                    <a:lnTo>
                      <a:pt x="265" y="507"/>
                    </a:lnTo>
                    <a:lnTo>
                      <a:pt x="286" y="457"/>
                    </a:lnTo>
                    <a:lnTo>
                      <a:pt x="408" y="507"/>
                    </a:lnTo>
                    <a:lnTo>
                      <a:pt x="555" y="529"/>
                    </a:lnTo>
                    <a:lnTo>
                      <a:pt x="738" y="529"/>
                    </a:lnTo>
                    <a:lnTo>
                      <a:pt x="966" y="507"/>
                    </a:lnTo>
                    <a:lnTo>
                      <a:pt x="851" y="503"/>
                    </a:lnTo>
                    <a:lnTo>
                      <a:pt x="708" y="434"/>
                    </a:lnTo>
                    <a:lnTo>
                      <a:pt x="865" y="441"/>
                    </a:lnTo>
                    <a:lnTo>
                      <a:pt x="992" y="434"/>
                    </a:lnTo>
                    <a:lnTo>
                      <a:pt x="1162" y="397"/>
                    </a:lnTo>
                    <a:lnTo>
                      <a:pt x="1280" y="349"/>
                    </a:lnTo>
                    <a:lnTo>
                      <a:pt x="1441" y="334"/>
                    </a:lnTo>
                    <a:lnTo>
                      <a:pt x="1513" y="362"/>
                    </a:lnTo>
                    <a:lnTo>
                      <a:pt x="1586" y="397"/>
                    </a:lnTo>
                    <a:lnTo>
                      <a:pt x="1644" y="397"/>
                    </a:lnTo>
                    <a:lnTo>
                      <a:pt x="1704" y="362"/>
                    </a:lnTo>
                    <a:lnTo>
                      <a:pt x="1634" y="272"/>
                    </a:lnTo>
                    <a:lnTo>
                      <a:pt x="1526" y="286"/>
                    </a:lnTo>
                    <a:lnTo>
                      <a:pt x="1441" y="259"/>
                    </a:lnTo>
                    <a:lnTo>
                      <a:pt x="1358" y="250"/>
                    </a:lnTo>
                    <a:lnTo>
                      <a:pt x="1280" y="279"/>
                    </a:lnTo>
                    <a:lnTo>
                      <a:pt x="1139" y="340"/>
                    </a:lnTo>
                    <a:lnTo>
                      <a:pt x="1014" y="371"/>
                    </a:lnTo>
                    <a:lnTo>
                      <a:pt x="878" y="378"/>
                    </a:lnTo>
                    <a:lnTo>
                      <a:pt x="766" y="384"/>
                    </a:lnTo>
                    <a:lnTo>
                      <a:pt x="590" y="362"/>
                    </a:lnTo>
                    <a:lnTo>
                      <a:pt x="696" y="334"/>
                    </a:lnTo>
                    <a:lnTo>
                      <a:pt x="570" y="318"/>
                    </a:lnTo>
                    <a:lnTo>
                      <a:pt x="443" y="291"/>
                    </a:lnTo>
                    <a:lnTo>
                      <a:pt x="379" y="265"/>
                    </a:lnTo>
                    <a:lnTo>
                      <a:pt x="482" y="226"/>
                    </a:lnTo>
                    <a:lnTo>
                      <a:pt x="300" y="201"/>
                    </a:lnTo>
                    <a:lnTo>
                      <a:pt x="265" y="173"/>
                    </a:lnTo>
                    <a:lnTo>
                      <a:pt x="258" y="145"/>
                    </a:lnTo>
                    <a:lnTo>
                      <a:pt x="265" y="102"/>
                    </a:lnTo>
                    <a:lnTo>
                      <a:pt x="295" y="54"/>
                    </a:lnTo>
                    <a:lnTo>
                      <a:pt x="373" y="0"/>
                    </a:lnTo>
                    <a:lnTo>
                      <a:pt x="217" y="67"/>
                    </a:lnTo>
                    <a:lnTo>
                      <a:pt x="60" y="164"/>
                    </a:lnTo>
                    <a:lnTo>
                      <a:pt x="69" y="189"/>
                    </a:lnTo>
                    <a:lnTo>
                      <a:pt x="118" y="286"/>
                    </a:lnTo>
                    <a:lnTo>
                      <a:pt x="159" y="3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1654920" y="5267160"/>
                <a:ext cx="137160" cy="279000"/>
              </a:xfrm>
              <a:custGeom>
                <a:avLst/>
                <a:gdLst/>
                <a:ahLst/>
                <a:rect l="l" t="t" r="r" b="b"/>
                <a:pathLst>
                  <a:path w="1658" h="2635">
                    <a:moveTo>
                      <a:pt x="7" y="196"/>
                    </a:moveTo>
                    <a:lnTo>
                      <a:pt x="0" y="216"/>
                    </a:lnTo>
                    <a:lnTo>
                      <a:pt x="14" y="231"/>
                    </a:lnTo>
                    <a:lnTo>
                      <a:pt x="58" y="251"/>
                    </a:lnTo>
                    <a:lnTo>
                      <a:pt x="106" y="260"/>
                    </a:lnTo>
                    <a:lnTo>
                      <a:pt x="185" y="260"/>
                    </a:lnTo>
                    <a:lnTo>
                      <a:pt x="291" y="244"/>
                    </a:lnTo>
                    <a:lnTo>
                      <a:pt x="208" y="279"/>
                    </a:lnTo>
                    <a:lnTo>
                      <a:pt x="114" y="292"/>
                    </a:lnTo>
                    <a:lnTo>
                      <a:pt x="35" y="292"/>
                    </a:lnTo>
                    <a:lnTo>
                      <a:pt x="35" y="315"/>
                    </a:lnTo>
                    <a:lnTo>
                      <a:pt x="58" y="341"/>
                    </a:lnTo>
                    <a:lnTo>
                      <a:pt x="114" y="366"/>
                    </a:lnTo>
                    <a:lnTo>
                      <a:pt x="185" y="354"/>
                    </a:lnTo>
                    <a:lnTo>
                      <a:pt x="231" y="385"/>
                    </a:lnTo>
                    <a:lnTo>
                      <a:pt x="226" y="398"/>
                    </a:lnTo>
                    <a:lnTo>
                      <a:pt x="185" y="420"/>
                    </a:lnTo>
                    <a:lnTo>
                      <a:pt x="141" y="426"/>
                    </a:lnTo>
                    <a:lnTo>
                      <a:pt x="220" y="435"/>
                    </a:lnTo>
                    <a:lnTo>
                      <a:pt x="354" y="435"/>
                    </a:lnTo>
                    <a:lnTo>
                      <a:pt x="510" y="414"/>
                    </a:lnTo>
                    <a:lnTo>
                      <a:pt x="611" y="385"/>
                    </a:lnTo>
                    <a:lnTo>
                      <a:pt x="487" y="426"/>
                    </a:lnTo>
                    <a:lnTo>
                      <a:pt x="345" y="456"/>
                    </a:lnTo>
                    <a:lnTo>
                      <a:pt x="244" y="475"/>
                    </a:lnTo>
                    <a:lnTo>
                      <a:pt x="305" y="504"/>
                    </a:lnTo>
                    <a:lnTo>
                      <a:pt x="437" y="523"/>
                    </a:lnTo>
                    <a:lnTo>
                      <a:pt x="543" y="532"/>
                    </a:lnTo>
                    <a:lnTo>
                      <a:pt x="662" y="532"/>
                    </a:lnTo>
                    <a:lnTo>
                      <a:pt x="741" y="511"/>
                    </a:lnTo>
                    <a:lnTo>
                      <a:pt x="625" y="475"/>
                    </a:lnTo>
                    <a:lnTo>
                      <a:pt x="824" y="398"/>
                    </a:lnTo>
                    <a:lnTo>
                      <a:pt x="763" y="370"/>
                    </a:lnTo>
                    <a:lnTo>
                      <a:pt x="875" y="378"/>
                    </a:lnTo>
                    <a:lnTo>
                      <a:pt x="945" y="414"/>
                    </a:lnTo>
                    <a:lnTo>
                      <a:pt x="1029" y="470"/>
                    </a:lnTo>
                    <a:lnTo>
                      <a:pt x="1095" y="511"/>
                    </a:lnTo>
                    <a:lnTo>
                      <a:pt x="1142" y="622"/>
                    </a:lnTo>
                    <a:lnTo>
                      <a:pt x="1204" y="622"/>
                    </a:lnTo>
                    <a:lnTo>
                      <a:pt x="1257" y="609"/>
                    </a:lnTo>
                    <a:lnTo>
                      <a:pt x="1296" y="580"/>
                    </a:lnTo>
                    <a:lnTo>
                      <a:pt x="1331" y="537"/>
                    </a:lnTo>
                    <a:lnTo>
                      <a:pt x="1354" y="511"/>
                    </a:lnTo>
                    <a:lnTo>
                      <a:pt x="1361" y="559"/>
                    </a:lnTo>
                    <a:lnTo>
                      <a:pt x="1347" y="609"/>
                    </a:lnTo>
                    <a:lnTo>
                      <a:pt x="1310" y="651"/>
                    </a:lnTo>
                    <a:lnTo>
                      <a:pt x="1382" y="651"/>
                    </a:lnTo>
                    <a:lnTo>
                      <a:pt x="1446" y="638"/>
                    </a:lnTo>
                    <a:lnTo>
                      <a:pt x="1485" y="651"/>
                    </a:lnTo>
                    <a:lnTo>
                      <a:pt x="1508" y="684"/>
                    </a:lnTo>
                    <a:lnTo>
                      <a:pt x="1523" y="765"/>
                    </a:lnTo>
                    <a:lnTo>
                      <a:pt x="1517" y="936"/>
                    </a:lnTo>
                    <a:lnTo>
                      <a:pt x="1543" y="996"/>
                    </a:lnTo>
                    <a:lnTo>
                      <a:pt x="1580" y="1030"/>
                    </a:lnTo>
                    <a:lnTo>
                      <a:pt x="1591" y="1073"/>
                    </a:lnTo>
                    <a:lnTo>
                      <a:pt x="1559" y="1073"/>
                    </a:lnTo>
                    <a:lnTo>
                      <a:pt x="1469" y="1014"/>
                    </a:lnTo>
                    <a:lnTo>
                      <a:pt x="1354" y="1009"/>
                    </a:lnTo>
                    <a:lnTo>
                      <a:pt x="1287" y="1095"/>
                    </a:lnTo>
                    <a:lnTo>
                      <a:pt x="1268" y="1226"/>
                    </a:lnTo>
                    <a:lnTo>
                      <a:pt x="1340" y="1284"/>
                    </a:lnTo>
                    <a:lnTo>
                      <a:pt x="1319" y="1457"/>
                    </a:lnTo>
                    <a:lnTo>
                      <a:pt x="1361" y="1374"/>
                    </a:lnTo>
                    <a:lnTo>
                      <a:pt x="1460" y="1330"/>
                    </a:lnTo>
                    <a:lnTo>
                      <a:pt x="1422" y="1240"/>
                    </a:lnTo>
                    <a:lnTo>
                      <a:pt x="1340" y="1219"/>
                    </a:lnTo>
                    <a:lnTo>
                      <a:pt x="1409" y="1143"/>
                    </a:lnTo>
                    <a:lnTo>
                      <a:pt x="1508" y="1212"/>
                    </a:lnTo>
                    <a:lnTo>
                      <a:pt x="1479" y="1106"/>
                    </a:lnTo>
                    <a:lnTo>
                      <a:pt x="1517" y="1095"/>
                    </a:lnTo>
                    <a:lnTo>
                      <a:pt x="1422" y="1099"/>
                    </a:lnTo>
                    <a:lnTo>
                      <a:pt x="1303" y="1189"/>
                    </a:lnTo>
                    <a:lnTo>
                      <a:pt x="1319" y="1099"/>
                    </a:lnTo>
                    <a:lnTo>
                      <a:pt x="1367" y="1035"/>
                    </a:lnTo>
                    <a:lnTo>
                      <a:pt x="1460" y="1035"/>
                    </a:lnTo>
                    <a:lnTo>
                      <a:pt x="1559" y="1095"/>
                    </a:lnTo>
                    <a:lnTo>
                      <a:pt x="1564" y="1198"/>
                    </a:lnTo>
                    <a:lnTo>
                      <a:pt x="1543" y="1316"/>
                    </a:lnTo>
                    <a:lnTo>
                      <a:pt x="1469" y="1435"/>
                    </a:lnTo>
                    <a:lnTo>
                      <a:pt x="1446" y="1519"/>
                    </a:lnTo>
                    <a:lnTo>
                      <a:pt x="1361" y="1560"/>
                    </a:lnTo>
                    <a:lnTo>
                      <a:pt x="1296" y="1493"/>
                    </a:lnTo>
                    <a:lnTo>
                      <a:pt x="1220" y="1968"/>
                    </a:lnTo>
                    <a:lnTo>
                      <a:pt x="1163" y="2261"/>
                    </a:lnTo>
                    <a:lnTo>
                      <a:pt x="939" y="2501"/>
                    </a:lnTo>
                    <a:lnTo>
                      <a:pt x="851" y="2635"/>
                    </a:lnTo>
                    <a:lnTo>
                      <a:pt x="958" y="2492"/>
                    </a:lnTo>
                    <a:lnTo>
                      <a:pt x="1257" y="2174"/>
                    </a:lnTo>
                    <a:lnTo>
                      <a:pt x="1446" y="1827"/>
                    </a:lnTo>
                    <a:lnTo>
                      <a:pt x="1430" y="1807"/>
                    </a:lnTo>
                    <a:lnTo>
                      <a:pt x="1382" y="1811"/>
                    </a:lnTo>
                    <a:lnTo>
                      <a:pt x="1384" y="1730"/>
                    </a:lnTo>
                    <a:lnTo>
                      <a:pt x="1494" y="1701"/>
                    </a:lnTo>
                    <a:lnTo>
                      <a:pt x="1494" y="1624"/>
                    </a:lnTo>
                    <a:lnTo>
                      <a:pt x="1591" y="1592"/>
                    </a:lnTo>
                    <a:lnTo>
                      <a:pt x="1619" y="1457"/>
                    </a:lnTo>
                    <a:lnTo>
                      <a:pt x="1658" y="1394"/>
                    </a:lnTo>
                    <a:lnTo>
                      <a:pt x="1580" y="1350"/>
                    </a:lnTo>
                    <a:lnTo>
                      <a:pt x="1573" y="1306"/>
                    </a:lnTo>
                    <a:lnTo>
                      <a:pt x="1591" y="1240"/>
                    </a:lnTo>
                    <a:lnTo>
                      <a:pt x="1591" y="1154"/>
                    </a:lnTo>
                    <a:lnTo>
                      <a:pt x="1580" y="1122"/>
                    </a:lnTo>
                    <a:lnTo>
                      <a:pt x="1642" y="1143"/>
                    </a:lnTo>
                    <a:lnTo>
                      <a:pt x="1619" y="1057"/>
                    </a:lnTo>
                    <a:lnTo>
                      <a:pt x="1564" y="967"/>
                    </a:lnTo>
                    <a:lnTo>
                      <a:pt x="1550" y="897"/>
                    </a:lnTo>
                    <a:lnTo>
                      <a:pt x="1550" y="813"/>
                    </a:lnTo>
                    <a:lnTo>
                      <a:pt x="1543" y="741"/>
                    </a:lnTo>
                    <a:lnTo>
                      <a:pt x="1550" y="700"/>
                    </a:lnTo>
                    <a:lnTo>
                      <a:pt x="1501" y="580"/>
                    </a:lnTo>
                    <a:lnTo>
                      <a:pt x="1418" y="462"/>
                    </a:lnTo>
                    <a:lnTo>
                      <a:pt x="1326" y="389"/>
                    </a:lnTo>
                    <a:lnTo>
                      <a:pt x="1257" y="341"/>
                    </a:lnTo>
                    <a:lnTo>
                      <a:pt x="1227" y="225"/>
                    </a:lnTo>
                    <a:lnTo>
                      <a:pt x="1137" y="147"/>
                    </a:lnTo>
                    <a:lnTo>
                      <a:pt x="1044" y="119"/>
                    </a:lnTo>
                    <a:lnTo>
                      <a:pt x="909" y="40"/>
                    </a:lnTo>
                    <a:lnTo>
                      <a:pt x="747" y="0"/>
                    </a:lnTo>
                    <a:lnTo>
                      <a:pt x="584" y="4"/>
                    </a:lnTo>
                    <a:lnTo>
                      <a:pt x="427" y="36"/>
                    </a:lnTo>
                    <a:lnTo>
                      <a:pt x="298" y="97"/>
                    </a:lnTo>
                    <a:lnTo>
                      <a:pt x="127" y="161"/>
                    </a:lnTo>
                    <a:lnTo>
                      <a:pt x="7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1719000" y="5323680"/>
                <a:ext cx="37080" cy="37080"/>
              </a:xfrm>
              <a:custGeom>
                <a:avLst/>
                <a:gdLst/>
                <a:ahLst/>
                <a:rect l="l" t="t" r="r" b="b"/>
                <a:pathLst>
                  <a:path w="445" h="358">
                    <a:moveTo>
                      <a:pt x="141" y="27"/>
                    </a:moveTo>
                    <a:lnTo>
                      <a:pt x="69" y="48"/>
                    </a:lnTo>
                    <a:lnTo>
                      <a:pt x="0" y="113"/>
                    </a:lnTo>
                    <a:lnTo>
                      <a:pt x="84" y="113"/>
                    </a:lnTo>
                    <a:lnTo>
                      <a:pt x="42" y="209"/>
                    </a:lnTo>
                    <a:lnTo>
                      <a:pt x="93" y="233"/>
                    </a:lnTo>
                    <a:lnTo>
                      <a:pt x="127" y="358"/>
                    </a:lnTo>
                    <a:lnTo>
                      <a:pt x="115" y="222"/>
                    </a:lnTo>
                    <a:lnTo>
                      <a:pt x="163" y="180"/>
                    </a:lnTo>
                    <a:lnTo>
                      <a:pt x="240" y="161"/>
                    </a:lnTo>
                    <a:lnTo>
                      <a:pt x="316" y="161"/>
                    </a:lnTo>
                    <a:lnTo>
                      <a:pt x="385" y="173"/>
                    </a:lnTo>
                    <a:lnTo>
                      <a:pt x="445" y="209"/>
                    </a:lnTo>
                    <a:lnTo>
                      <a:pt x="374" y="161"/>
                    </a:lnTo>
                    <a:lnTo>
                      <a:pt x="268" y="134"/>
                    </a:lnTo>
                    <a:lnTo>
                      <a:pt x="189" y="134"/>
                    </a:lnTo>
                    <a:lnTo>
                      <a:pt x="99" y="161"/>
                    </a:lnTo>
                    <a:lnTo>
                      <a:pt x="106" y="119"/>
                    </a:lnTo>
                    <a:lnTo>
                      <a:pt x="150" y="90"/>
                    </a:lnTo>
                    <a:lnTo>
                      <a:pt x="62" y="90"/>
                    </a:lnTo>
                    <a:lnTo>
                      <a:pt x="99" y="64"/>
                    </a:lnTo>
                    <a:lnTo>
                      <a:pt x="163" y="33"/>
                    </a:lnTo>
                    <a:lnTo>
                      <a:pt x="219" y="42"/>
                    </a:lnTo>
                    <a:lnTo>
                      <a:pt x="316" y="64"/>
                    </a:lnTo>
                    <a:lnTo>
                      <a:pt x="247" y="20"/>
                    </a:lnTo>
                    <a:lnTo>
                      <a:pt x="163" y="0"/>
                    </a:lnTo>
                    <a:lnTo>
                      <a:pt x="14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1730880" y="536688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387" h="303">
                    <a:moveTo>
                      <a:pt x="22" y="18"/>
                    </a:moveTo>
                    <a:lnTo>
                      <a:pt x="115" y="0"/>
                    </a:lnTo>
                    <a:lnTo>
                      <a:pt x="191" y="18"/>
                    </a:lnTo>
                    <a:lnTo>
                      <a:pt x="244" y="53"/>
                    </a:lnTo>
                    <a:lnTo>
                      <a:pt x="281" y="92"/>
                    </a:lnTo>
                    <a:lnTo>
                      <a:pt x="288" y="138"/>
                    </a:lnTo>
                    <a:lnTo>
                      <a:pt x="281" y="156"/>
                    </a:lnTo>
                    <a:lnTo>
                      <a:pt x="255" y="152"/>
                    </a:lnTo>
                    <a:lnTo>
                      <a:pt x="219" y="130"/>
                    </a:lnTo>
                    <a:lnTo>
                      <a:pt x="175" y="92"/>
                    </a:lnTo>
                    <a:lnTo>
                      <a:pt x="127" y="87"/>
                    </a:lnTo>
                    <a:lnTo>
                      <a:pt x="172" y="152"/>
                    </a:lnTo>
                    <a:lnTo>
                      <a:pt x="191" y="207"/>
                    </a:lnTo>
                    <a:lnTo>
                      <a:pt x="182" y="260"/>
                    </a:lnTo>
                    <a:lnTo>
                      <a:pt x="360" y="290"/>
                    </a:lnTo>
                    <a:lnTo>
                      <a:pt x="387" y="303"/>
                    </a:lnTo>
                    <a:lnTo>
                      <a:pt x="147" y="276"/>
                    </a:lnTo>
                    <a:lnTo>
                      <a:pt x="163" y="239"/>
                    </a:lnTo>
                    <a:lnTo>
                      <a:pt x="156" y="191"/>
                    </a:lnTo>
                    <a:lnTo>
                      <a:pt x="121" y="130"/>
                    </a:lnTo>
                    <a:lnTo>
                      <a:pt x="83" y="87"/>
                    </a:lnTo>
                    <a:lnTo>
                      <a:pt x="16" y="53"/>
                    </a:lnTo>
                    <a:lnTo>
                      <a:pt x="0" y="9"/>
                    </a:lnTo>
                    <a:lnTo>
                      <a:pt x="2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1737720" y="5395680"/>
                <a:ext cx="17640" cy="33840"/>
              </a:xfrm>
              <a:custGeom>
                <a:avLst/>
                <a:gdLst/>
                <a:ahLst/>
                <a:rect l="l" t="t" r="r" b="b"/>
                <a:pathLst>
                  <a:path w="214" h="313">
                    <a:moveTo>
                      <a:pt x="89" y="0"/>
                    </a:moveTo>
                    <a:lnTo>
                      <a:pt x="0" y="179"/>
                    </a:lnTo>
                    <a:lnTo>
                      <a:pt x="9" y="313"/>
                    </a:lnTo>
                    <a:lnTo>
                      <a:pt x="214" y="65"/>
                    </a:lnTo>
                    <a:lnTo>
                      <a:pt x="214" y="14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1677960" y="5481360"/>
                <a:ext cx="70920" cy="67680"/>
              </a:xfrm>
              <a:custGeom>
                <a:avLst/>
                <a:gdLst/>
                <a:ahLst/>
                <a:rect l="l" t="t" r="r" b="b"/>
                <a:pathLst>
                  <a:path w="857" h="640">
                    <a:moveTo>
                      <a:pt x="857" y="0"/>
                    </a:moveTo>
                    <a:lnTo>
                      <a:pt x="749" y="53"/>
                    </a:lnTo>
                    <a:lnTo>
                      <a:pt x="648" y="198"/>
                    </a:lnTo>
                    <a:lnTo>
                      <a:pt x="514" y="187"/>
                    </a:lnTo>
                    <a:lnTo>
                      <a:pt x="470" y="260"/>
                    </a:lnTo>
                    <a:lnTo>
                      <a:pt x="415" y="297"/>
                    </a:lnTo>
                    <a:lnTo>
                      <a:pt x="276" y="288"/>
                    </a:lnTo>
                    <a:lnTo>
                      <a:pt x="186" y="321"/>
                    </a:lnTo>
                    <a:lnTo>
                      <a:pt x="118" y="345"/>
                    </a:lnTo>
                    <a:lnTo>
                      <a:pt x="48" y="345"/>
                    </a:lnTo>
                    <a:lnTo>
                      <a:pt x="0" y="317"/>
                    </a:lnTo>
                    <a:lnTo>
                      <a:pt x="48" y="359"/>
                    </a:lnTo>
                    <a:lnTo>
                      <a:pt x="105" y="366"/>
                    </a:lnTo>
                    <a:lnTo>
                      <a:pt x="223" y="366"/>
                    </a:lnTo>
                    <a:lnTo>
                      <a:pt x="294" y="391"/>
                    </a:lnTo>
                    <a:lnTo>
                      <a:pt x="382" y="514"/>
                    </a:lnTo>
                    <a:lnTo>
                      <a:pt x="507" y="611"/>
                    </a:lnTo>
                    <a:lnTo>
                      <a:pt x="527" y="640"/>
                    </a:lnTo>
                    <a:lnTo>
                      <a:pt x="564" y="615"/>
                    </a:lnTo>
                    <a:lnTo>
                      <a:pt x="555" y="550"/>
                    </a:lnTo>
                    <a:lnTo>
                      <a:pt x="544" y="461"/>
                    </a:lnTo>
                    <a:lnTo>
                      <a:pt x="555" y="380"/>
                    </a:lnTo>
                    <a:lnTo>
                      <a:pt x="569" y="327"/>
                    </a:lnTo>
                    <a:lnTo>
                      <a:pt x="630" y="267"/>
                    </a:lnTo>
                    <a:lnTo>
                      <a:pt x="685" y="226"/>
                    </a:lnTo>
                    <a:lnTo>
                      <a:pt x="738" y="132"/>
                    </a:lnTo>
                    <a:lnTo>
                      <a:pt x="800" y="57"/>
                    </a:lnTo>
                    <a:lnTo>
                      <a:pt x="8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1733040" y="5440680"/>
                <a:ext cx="5760" cy="36000"/>
              </a:xfrm>
              <a:custGeom>
                <a:avLst/>
                <a:gdLst/>
                <a:ahLst/>
                <a:rect l="l" t="t" r="r" b="b"/>
                <a:pathLst>
                  <a:path w="72" h="339">
                    <a:moveTo>
                      <a:pt x="56" y="0"/>
                    </a:moveTo>
                    <a:lnTo>
                      <a:pt x="0" y="339"/>
                    </a:lnTo>
                    <a:lnTo>
                      <a:pt x="72" y="117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1659960" y="5357880"/>
                <a:ext cx="62280" cy="19080"/>
              </a:xfrm>
              <a:custGeom>
                <a:avLst/>
                <a:gdLst/>
                <a:ahLst/>
                <a:rect l="l" t="t" r="r" b="b"/>
                <a:pathLst>
                  <a:path w="747" h="189">
                    <a:moveTo>
                      <a:pt x="0" y="189"/>
                    </a:moveTo>
                    <a:lnTo>
                      <a:pt x="38" y="145"/>
                    </a:lnTo>
                    <a:lnTo>
                      <a:pt x="95" y="117"/>
                    </a:lnTo>
                    <a:lnTo>
                      <a:pt x="189" y="97"/>
                    </a:lnTo>
                    <a:lnTo>
                      <a:pt x="341" y="78"/>
                    </a:lnTo>
                    <a:lnTo>
                      <a:pt x="460" y="39"/>
                    </a:lnTo>
                    <a:lnTo>
                      <a:pt x="581" y="0"/>
                    </a:lnTo>
                    <a:lnTo>
                      <a:pt x="664" y="0"/>
                    </a:lnTo>
                    <a:lnTo>
                      <a:pt x="715" y="29"/>
                    </a:lnTo>
                    <a:lnTo>
                      <a:pt x="747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1674000" y="5350680"/>
                <a:ext cx="46440" cy="11880"/>
              </a:xfrm>
              <a:custGeom>
                <a:avLst/>
                <a:gdLst/>
                <a:ahLst/>
                <a:rect l="l" t="t" r="r" b="b"/>
                <a:pathLst>
                  <a:path w="563" h="118">
                    <a:moveTo>
                      <a:pt x="0" y="118"/>
                    </a:moveTo>
                    <a:lnTo>
                      <a:pt x="134" y="94"/>
                    </a:lnTo>
                    <a:lnTo>
                      <a:pt x="266" y="41"/>
                    </a:lnTo>
                    <a:lnTo>
                      <a:pt x="362" y="4"/>
                    </a:lnTo>
                    <a:lnTo>
                      <a:pt x="436" y="0"/>
                    </a:lnTo>
                    <a:lnTo>
                      <a:pt x="496" y="17"/>
                    </a:lnTo>
                    <a:lnTo>
                      <a:pt x="563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1691280" y="5344920"/>
                <a:ext cx="23040" cy="5760"/>
              </a:xfrm>
              <a:custGeom>
                <a:avLst/>
                <a:gdLst/>
                <a:ahLst/>
                <a:rect l="l" t="t" r="r" b="b"/>
                <a:pathLst>
                  <a:path w="279" h="62">
                    <a:moveTo>
                      <a:pt x="0" y="62"/>
                    </a:moveTo>
                    <a:lnTo>
                      <a:pt x="161" y="7"/>
                    </a:lnTo>
                    <a:lnTo>
                      <a:pt x="223" y="0"/>
                    </a:lnTo>
                    <a:lnTo>
                      <a:pt x="279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1717920" y="538236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105" h="128">
                    <a:moveTo>
                      <a:pt x="0" y="0"/>
                    </a:moveTo>
                    <a:lnTo>
                      <a:pt x="0" y="101"/>
                    </a:lnTo>
                    <a:lnTo>
                      <a:pt x="52" y="128"/>
                    </a:lnTo>
                    <a:lnTo>
                      <a:pt x="105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1803240" y="5553720"/>
                <a:ext cx="176040" cy="400320"/>
              </a:xfrm>
              <a:custGeom>
                <a:avLst/>
                <a:gdLst/>
                <a:ahLst/>
                <a:rect l="l" t="t" r="r" b="b"/>
                <a:pathLst>
                  <a:path w="2124" h="3774">
                    <a:moveTo>
                      <a:pt x="1483" y="509"/>
                    </a:moveTo>
                    <a:lnTo>
                      <a:pt x="1612" y="966"/>
                    </a:lnTo>
                    <a:lnTo>
                      <a:pt x="1929" y="1474"/>
                    </a:lnTo>
                    <a:lnTo>
                      <a:pt x="1810" y="2116"/>
                    </a:lnTo>
                    <a:lnTo>
                      <a:pt x="2124" y="3119"/>
                    </a:lnTo>
                    <a:lnTo>
                      <a:pt x="2124" y="3774"/>
                    </a:lnTo>
                    <a:lnTo>
                      <a:pt x="916" y="3766"/>
                    </a:lnTo>
                    <a:lnTo>
                      <a:pt x="0" y="3302"/>
                    </a:lnTo>
                    <a:lnTo>
                      <a:pt x="499" y="2990"/>
                    </a:lnTo>
                    <a:lnTo>
                      <a:pt x="510" y="2782"/>
                    </a:lnTo>
                    <a:lnTo>
                      <a:pt x="589" y="2443"/>
                    </a:lnTo>
                    <a:lnTo>
                      <a:pt x="589" y="2755"/>
                    </a:lnTo>
                    <a:lnTo>
                      <a:pt x="932" y="2375"/>
                    </a:lnTo>
                    <a:lnTo>
                      <a:pt x="995" y="2285"/>
                    </a:lnTo>
                    <a:lnTo>
                      <a:pt x="1024" y="2116"/>
                    </a:lnTo>
                    <a:lnTo>
                      <a:pt x="1063" y="1931"/>
                    </a:lnTo>
                    <a:lnTo>
                      <a:pt x="1301" y="1946"/>
                    </a:lnTo>
                    <a:lnTo>
                      <a:pt x="1377" y="1812"/>
                    </a:lnTo>
                    <a:lnTo>
                      <a:pt x="1206" y="1501"/>
                    </a:lnTo>
                    <a:lnTo>
                      <a:pt x="1377" y="1501"/>
                    </a:lnTo>
                    <a:lnTo>
                      <a:pt x="1377" y="1434"/>
                    </a:lnTo>
                    <a:lnTo>
                      <a:pt x="1232" y="1265"/>
                    </a:lnTo>
                    <a:lnTo>
                      <a:pt x="1246" y="1148"/>
                    </a:lnTo>
                    <a:lnTo>
                      <a:pt x="1457" y="966"/>
                    </a:lnTo>
                    <a:lnTo>
                      <a:pt x="1470" y="717"/>
                    </a:lnTo>
                    <a:lnTo>
                      <a:pt x="1351" y="496"/>
                    </a:lnTo>
                    <a:lnTo>
                      <a:pt x="1324" y="258"/>
                    </a:lnTo>
                    <a:lnTo>
                      <a:pt x="1206" y="0"/>
                    </a:lnTo>
                    <a:lnTo>
                      <a:pt x="1419" y="351"/>
                    </a:lnTo>
                    <a:lnTo>
                      <a:pt x="1483" y="5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1776240" y="5454360"/>
                <a:ext cx="60840" cy="92160"/>
              </a:xfrm>
              <a:custGeom>
                <a:avLst/>
                <a:gdLst/>
                <a:ahLst/>
                <a:rect l="l" t="t" r="r" b="b"/>
                <a:pathLst>
                  <a:path w="734" h="874">
                    <a:moveTo>
                      <a:pt x="38" y="65"/>
                    </a:moveTo>
                    <a:lnTo>
                      <a:pt x="156" y="301"/>
                    </a:lnTo>
                    <a:lnTo>
                      <a:pt x="0" y="874"/>
                    </a:lnTo>
                    <a:lnTo>
                      <a:pt x="220" y="222"/>
                    </a:lnTo>
                    <a:lnTo>
                      <a:pt x="220" y="158"/>
                    </a:lnTo>
                    <a:lnTo>
                      <a:pt x="195" y="106"/>
                    </a:lnTo>
                    <a:lnTo>
                      <a:pt x="328" y="158"/>
                    </a:lnTo>
                    <a:lnTo>
                      <a:pt x="420" y="250"/>
                    </a:lnTo>
                    <a:lnTo>
                      <a:pt x="446" y="367"/>
                    </a:lnTo>
                    <a:lnTo>
                      <a:pt x="378" y="547"/>
                    </a:lnTo>
                    <a:lnTo>
                      <a:pt x="486" y="404"/>
                    </a:lnTo>
                    <a:lnTo>
                      <a:pt x="576" y="433"/>
                    </a:lnTo>
                    <a:lnTo>
                      <a:pt x="290" y="874"/>
                    </a:lnTo>
                    <a:lnTo>
                      <a:pt x="734" y="378"/>
                    </a:lnTo>
                    <a:lnTo>
                      <a:pt x="681" y="325"/>
                    </a:lnTo>
                    <a:lnTo>
                      <a:pt x="617" y="367"/>
                    </a:lnTo>
                    <a:lnTo>
                      <a:pt x="499" y="339"/>
                    </a:lnTo>
                    <a:lnTo>
                      <a:pt x="472" y="235"/>
                    </a:lnTo>
                    <a:lnTo>
                      <a:pt x="393" y="158"/>
                    </a:lnTo>
                    <a:lnTo>
                      <a:pt x="248" y="79"/>
                    </a:lnTo>
                    <a:lnTo>
                      <a:pt x="156" y="79"/>
                    </a:lnTo>
                    <a:lnTo>
                      <a:pt x="0" y="0"/>
                    </a:lnTo>
                    <a:lnTo>
                      <a:pt x="38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1847160" y="5498640"/>
                <a:ext cx="52920" cy="52200"/>
              </a:xfrm>
              <a:custGeom>
                <a:avLst/>
                <a:gdLst/>
                <a:ahLst/>
                <a:rect l="l" t="t" r="r" b="b"/>
                <a:pathLst>
                  <a:path w="643" h="496">
                    <a:moveTo>
                      <a:pt x="0" y="0"/>
                    </a:moveTo>
                    <a:lnTo>
                      <a:pt x="198" y="94"/>
                    </a:lnTo>
                    <a:lnTo>
                      <a:pt x="420" y="168"/>
                    </a:lnTo>
                    <a:lnTo>
                      <a:pt x="643" y="496"/>
                    </a:lnTo>
                    <a:lnTo>
                      <a:pt x="500" y="442"/>
                    </a:lnTo>
                    <a:lnTo>
                      <a:pt x="408" y="2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1705680" y="5552640"/>
                <a:ext cx="54720" cy="258480"/>
              </a:xfrm>
              <a:custGeom>
                <a:avLst/>
                <a:gdLst/>
                <a:ahLst/>
                <a:rect l="l" t="t" r="r" b="b"/>
                <a:pathLst>
                  <a:path w="667" h="2442">
                    <a:moveTo>
                      <a:pt x="208" y="0"/>
                    </a:moveTo>
                    <a:lnTo>
                      <a:pt x="208" y="88"/>
                    </a:lnTo>
                    <a:lnTo>
                      <a:pt x="618" y="326"/>
                    </a:lnTo>
                    <a:lnTo>
                      <a:pt x="272" y="194"/>
                    </a:lnTo>
                    <a:lnTo>
                      <a:pt x="208" y="440"/>
                    </a:lnTo>
                    <a:lnTo>
                      <a:pt x="272" y="625"/>
                    </a:lnTo>
                    <a:lnTo>
                      <a:pt x="272" y="794"/>
                    </a:lnTo>
                    <a:lnTo>
                      <a:pt x="208" y="1190"/>
                    </a:lnTo>
                    <a:lnTo>
                      <a:pt x="153" y="1543"/>
                    </a:lnTo>
                    <a:lnTo>
                      <a:pt x="185" y="1734"/>
                    </a:lnTo>
                    <a:lnTo>
                      <a:pt x="314" y="1996"/>
                    </a:lnTo>
                    <a:lnTo>
                      <a:pt x="512" y="2218"/>
                    </a:lnTo>
                    <a:lnTo>
                      <a:pt x="667" y="2257"/>
                    </a:lnTo>
                    <a:lnTo>
                      <a:pt x="470" y="2242"/>
                    </a:lnTo>
                    <a:lnTo>
                      <a:pt x="404" y="2273"/>
                    </a:lnTo>
                    <a:lnTo>
                      <a:pt x="404" y="2442"/>
                    </a:lnTo>
                    <a:lnTo>
                      <a:pt x="272" y="2321"/>
                    </a:lnTo>
                    <a:lnTo>
                      <a:pt x="0" y="2400"/>
                    </a:lnTo>
                    <a:lnTo>
                      <a:pt x="245" y="2297"/>
                    </a:lnTo>
                    <a:lnTo>
                      <a:pt x="185" y="2089"/>
                    </a:lnTo>
                    <a:lnTo>
                      <a:pt x="129" y="1801"/>
                    </a:lnTo>
                    <a:lnTo>
                      <a:pt x="116" y="1501"/>
                    </a:lnTo>
                    <a:lnTo>
                      <a:pt x="143" y="1200"/>
                    </a:lnTo>
                    <a:lnTo>
                      <a:pt x="208" y="911"/>
                    </a:lnTo>
                    <a:lnTo>
                      <a:pt x="233" y="756"/>
                    </a:lnTo>
                    <a:lnTo>
                      <a:pt x="233" y="598"/>
                    </a:lnTo>
                    <a:lnTo>
                      <a:pt x="185" y="494"/>
                    </a:lnTo>
                    <a:lnTo>
                      <a:pt x="51" y="440"/>
                    </a:lnTo>
                    <a:lnTo>
                      <a:pt x="185" y="130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2" name=""/>
            <p:cNvSpPr/>
            <p:nvPr/>
          </p:nvSpPr>
          <p:spPr>
            <a:xfrm>
              <a:off x="1625040" y="5549400"/>
              <a:ext cx="90000" cy="258480"/>
            </a:xfrm>
            <a:custGeom>
              <a:avLst/>
              <a:gdLst/>
              <a:ahLst/>
              <a:rect l="l" t="t" r="r" b="b"/>
              <a:pathLst>
                <a:path w="1088" h="2442">
                  <a:moveTo>
                    <a:pt x="1035" y="0"/>
                  </a:moveTo>
                  <a:lnTo>
                    <a:pt x="958" y="116"/>
                  </a:lnTo>
                  <a:lnTo>
                    <a:pt x="943" y="238"/>
                  </a:lnTo>
                  <a:lnTo>
                    <a:pt x="943" y="455"/>
                  </a:lnTo>
                  <a:lnTo>
                    <a:pt x="931" y="784"/>
                  </a:lnTo>
                  <a:lnTo>
                    <a:pt x="866" y="1292"/>
                  </a:lnTo>
                  <a:lnTo>
                    <a:pt x="838" y="1672"/>
                  </a:lnTo>
                  <a:lnTo>
                    <a:pt x="853" y="1894"/>
                  </a:lnTo>
                  <a:lnTo>
                    <a:pt x="890" y="2074"/>
                  </a:lnTo>
                  <a:lnTo>
                    <a:pt x="943" y="2207"/>
                  </a:lnTo>
                  <a:lnTo>
                    <a:pt x="1023" y="2338"/>
                  </a:lnTo>
                  <a:lnTo>
                    <a:pt x="1088" y="2378"/>
                  </a:lnTo>
                  <a:lnTo>
                    <a:pt x="980" y="2442"/>
                  </a:lnTo>
                  <a:lnTo>
                    <a:pt x="866" y="2442"/>
                  </a:lnTo>
                  <a:lnTo>
                    <a:pt x="866" y="2232"/>
                  </a:lnTo>
                  <a:lnTo>
                    <a:pt x="798" y="2052"/>
                  </a:lnTo>
                  <a:lnTo>
                    <a:pt x="576" y="1424"/>
                  </a:lnTo>
                  <a:lnTo>
                    <a:pt x="156" y="1488"/>
                  </a:lnTo>
                  <a:lnTo>
                    <a:pt x="75" y="1474"/>
                  </a:lnTo>
                  <a:lnTo>
                    <a:pt x="391" y="1345"/>
                  </a:lnTo>
                  <a:lnTo>
                    <a:pt x="341" y="1228"/>
                  </a:lnTo>
                  <a:lnTo>
                    <a:pt x="0" y="1228"/>
                  </a:lnTo>
                  <a:lnTo>
                    <a:pt x="260" y="1110"/>
                  </a:lnTo>
                  <a:lnTo>
                    <a:pt x="456" y="1096"/>
                  </a:lnTo>
                  <a:lnTo>
                    <a:pt x="417" y="849"/>
                  </a:lnTo>
                  <a:lnTo>
                    <a:pt x="798" y="1905"/>
                  </a:lnTo>
                  <a:lnTo>
                    <a:pt x="798" y="1608"/>
                  </a:lnTo>
                  <a:lnTo>
                    <a:pt x="838" y="1257"/>
                  </a:lnTo>
                  <a:lnTo>
                    <a:pt x="890" y="863"/>
                  </a:lnTo>
                  <a:lnTo>
                    <a:pt x="919" y="575"/>
                  </a:lnTo>
                  <a:lnTo>
                    <a:pt x="919" y="169"/>
                  </a:lnTo>
                  <a:lnTo>
                    <a:pt x="972" y="53"/>
                  </a:lnTo>
                  <a:lnTo>
                    <a:pt x="10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1745640" y="5586480"/>
              <a:ext cx="119880" cy="222840"/>
            </a:xfrm>
            <a:custGeom>
              <a:avLst/>
              <a:gdLst/>
              <a:ahLst/>
              <a:rect l="l" t="t" r="r" b="b"/>
              <a:pathLst>
                <a:path w="1444" h="2100">
                  <a:moveTo>
                    <a:pt x="198" y="1931"/>
                  </a:moveTo>
                  <a:lnTo>
                    <a:pt x="407" y="1995"/>
                  </a:lnTo>
                  <a:lnTo>
                    <a:pt x="589" y="2100"/>
                  </a:lnTo>
                  <a:lnTo>
                    <a:pt x="446" y="1931"/>
                  </a:lnTo>
                  <a:lnTo>
                    <a:pt x="343" y="1841"/>
                  </a:lnTo>
                  <a:lnTo>
                    <a:pt x="248" y="1826"/>
                  </a:lnTo>
                  <a:lnTo>
                    <a:pt x="211" y="1812"/>
                  </a:lnTo>
                  <a:lnTo>
                    <a:pt x="211" y="1632"/>
                  </a:lnTo>
                  <a:lnTo>
                    <a:pt x="264" y="1593"/>
                  </a:lnTo>
                  <a:lnTo>
                    <a:pt x="499" y="1498"/>
                  </a:lnTo>
                  <a:lnTo>
                    <a:pt x="776" y="1318"/>
                  </a:lnTo>
                  <a:lnTo>
                    <a:pt x="1025" y="1070"/>
                  </a:lnTo>
                  <a:lnTo>
                    <a:pt x="1444" y="495"/>
                  </a:lnTo>
                  <a:lnTo>
                    <a:pt x="1444" y="403"/>
                  </a:lnTo>
                  <a:lnTo>
                    <a:pt x="1092" y="834"/>
                  </a:lnTo>
                  <a:lnTo>
                    <a:pt x="710" y="1217"/>
                  </a:lnTo>
                  <a:lnTo>
                    <a:pt x="369" y="1448"/>
                  </a:lnTo>
                  <a:lnTo>
                    <a:pt x="578" y="1081"/>
                  </a:lnTo>
                  <a:lnTo>
                    <a:pt x="684" y="732"/>
                  </a:lnTo>
                  <a:lnTo>
                    <a:pt x="710" y="495"/>
                  </a:lnTo>
                  <a:lnTo>
                    <a:pt x="879" y="140"/>
                  </a:lnTo>
                  <a:lnTo>
                    <a:pt x="1117" y="0"/>
                  </a:lnTo>
                  <a:lnTo>
                    <a:pt x="855" y="127"/>
                  </a:lnTo>
                  <a:lnTo>
                    <a:pt x="644" y="442"/>
                  </a:lnTo>
                  <a:lnTo>
                    <a:pt x="644" y="769"/>
                  </a:lnTo>
                  <a:lnTo>
                    <a:pt x="525" y="1081"/>
                  </a:lnTo>
                  <a:lnTo>
                    <a:pt x="356" y="1371"/>
                  </a:lnTo>
                  <a:lnTo>
                    <a:pt x="184" y="1604"/>
                  </a:lnTo>
                  <a:lnTo>
                    <a:pt x="184" y="1826"/>
                  </a:lnTo>
                  <a:lnTo>
                    <a:pt x="0" y="1905"/>
                  </a:lnTo>
                  <a:lnTo>
                    <a:pt x="198" y="19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1742400" y="5818320"/>
              <a:ext cx="67320" cy="81000"/>
            </a:xfrm>
            <a:custGeom>
              <a:avLst/>
              <a:gdLst/>
              <a:ahLst/>
              <a:rect l="l" t="t" r="r" b="b"/>
              <a:pathLst>
                <a:path w="818" h="773">
                  <a:moveTo>
                    <a:pt x="671" y="0"/>
                  </a:moveTo>
                  <a:lnTo>
                    <a:pt x="776" y="184"/>
                  </a:lnTo>
                  <a:lnTo>
                    <a:pt x="818" y="419"/>
                  </a:lnTo>
                  <a:lnTo>
                    <a:pt x="818" y="564"/>
                  </a:lnTo>
                  <a:lnTo>
                    <a:pt x="739" y="758"/>
                  </a:lnTo>
                  <a:lnTo>
                    <a:pt x="606" y="773"/>
                  </a:lnTo>
                  <a:lnTo>
                    <a:pt x="369" y="654"/>
                  </a:lnTo>
                  <a:lnTo>
                    <a:pt x="226" y="498"/>
                  </a:lnTo>
                  <a:lnTo>
                    <a:pt x="0" y="14"/>
                  </a:lnTo>
                  <a:lnTo>
                    <a:pt x="161" y="290"/>
                  </a:lnTo>
                  <a:lnTo>
                    <a:pt x="435" y="512"/>
                  </a:lnTo>
                  <a:lnTo>
                    <a:pt x="739" y="588"/>
                  </a:lnTo>
                  <a:lnTo>
                    <a:pt x="752" y="474"/>
                  </a:lnTo>
                  <a:lnTo>
                    <a:pt x="712" y="327"/>
                  </a:lnTo>
                  <a:lnTo>
                    <a:pt x="620" y="235"/>
                  </a:lnTo>
                  <a:lnTo>
                    <a:pt x="477" y="184"/>
                  </a:lnTo>
                  <a:lnTo>
                    <a:pt x="620" y="147"/>
                  </a:lnTo>
                  <a:lnTo>
                    <a:pt x="671" y="65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1603080" y="5837760"/>
              <a:ext cx="174960" cy="64080"/>
            </a:xfrm>
            <a:custGeom>
              <a:avLst/>
              <a:gdLst/>
              <a:ahLst/>
              <a:rect l="l" t="t" r="r" b="b"/>
              <a:pathLst>
                <a:path w="2111" h="613">
                  <a:moveTo>
                    <a:pt x="2111" y="613"/>
                  </a:moveTo>
                  <a:lnTo>
                    <a:pt x="1718" y="602"/>
                  </a:lnTo>
                  <a:lnTo>
                    <a:pt x="1194" y="549"/>
                  </a:lnTo>
                  <a:lnTo>
                    <a:pt x="593" y="380"/>
                  </a:lnTo>
                  <a:lnTo>
                    <a:pt x="103" y="301"/>
                  </a:lnTo>
                  <a:lnTo>
                    <a:pt x="26" y="235"/>
                  </a:lnTo>
                  <a:lnTo>
                    <a:pt x="0" y="90"/>
                  </a:lnTo>
                  <a:lnTo>
                    <a:pt x="353" y="143"/>
                  </a:lnTo>
                  <a:lnTo>
                    <a:pt x="364" y="0"/>
                  </a:lnTo>
                  <a:lnTo>
                    <a:pt x="406" y="143"/>
                  </a:lnTo>
                  <a:lnTo>
                    <a:pt x="643" y="143"/>
                  </a:lnTo>
                  <a:lnTo>
                    <a:pt x="419" y="249"/>
                  </a:lnTo>
                  <a:lnTo>
                    <a:pt x="445" y="328"/>
                  </a:lnTo>
                  <a:lnTo>
                    <a:pt x="929" y="290"/>
                  </a:lnTo>
                  <a:lnTo>
                    <a:pt x="1243" y="301"/>
                  </a:lnTo>
                  <a:lnTo>
                    <a:pt x="1586" y="362"/>
                  </a:lnTo>
                  <a:lnTo>
                    <a:pt x="1773" y="433"/>
                  </a:lnTo>
                  <a:lnTo>
                    <a:pt x="1625" y="249"/>
                  </a:lnTo>
                  <a:lnTo>
                    <a:pt x="1494" y="169"/>
                  </a:lnTo>
                  <a:lnTo>
                    <a:pt x="1221" y="106"/>
                  </a:lnTo>
                  <a:lnTo>
                    <a:pt x="1549" y="106"/>
                  </a:lnTo>
                  <a:lnTo>
                    <a:pt x="1747" y="235"/>
                  </a:lnTo>
                  <a:lnTo>
                    <a:pt x="1821" y="393"/>
                  </a:lnTo>
                  <a:lnTo>
                    <a:pt x="1929" y="496"/>
                  </a:lnTo>
                  <a:lnTo>
                    <a:pt x="2019" y="574"/>
                  </a:lnTo>
                  <a:lnTo>
                    <a:pt x="2111" y="6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1603080" y="5714640"/>
              <a:ext cx="75600" cy="77040"/>
            </a:xfrm>
            <a:custGeom>
              <a:avLst/>
              <a:gdLst/>
              <a:ahLst/>
              <a:rect l="l" t="t" r="r" b="b"/>
              <a:pathLst>
                <a:path w="905" h="731">
                  <a:moveTo>
                    <a:pt x="168" y="731"/>
                  </a:moveTo>
                  <a:lnTo>
                    <a:pt x="301" y="612"/>
                  </a:lnTo>
                  <a:lnTo>
                    <a:pt x="301" y="563"/>
                  </a:lnTo>
                  <a:lnTo>
                    <a:pt x="263" y="512"/>
                  </a:lnTo>
                  <a:lnTo>
                    <a:pt x="143" y="457"/>
                  </a:lnTo>
                  <a:lnTo>
                    <a:pt x="26" y="417"/>
                  </a:lnTo>
                  <a:lnTo>
                    <a:pt x="0" y="393"/>
                  </a:lnTo>
                  <a:lnTo>
                    <a:pt x="0" y="340"/>
                  </a:lnTo>
                  <a:lnTo>
                    <a:pt x="26" y="312"/>
                  </a:lnTo>
                  <a:lnTo>
                    <a:pt x="103" y="275"/>
                  </a:lnTo>
                  <a:lnTo>
                    <a:pt x="118" y="312"/>
                  </a:lnTo>
                  <a:lnTo>
                    <a:pt x="158" y="351"/>
                  </a:lnTo>
                  <a:lnTo>
                    <a:pt x="301" y="379"/>
                  </a:lnTo>
                  <a:lnTo>
                    <a:pt x="285" y="287"/>
                  </a:lnTo>
                  <a:lnTo>
                    <a:pt x="221" y="208"/>
                  </a:lnTo>
                  <a:lnTo>
                    <a:pt x="143" y="129"/>
                  </a:lnTo>
                  <a:lnTo>
                    <a:pt x="13" y="54"/>
                  </a:lnTo>
                  <a:lnTo>
                    <a:pt x="90" y="39"/>
                  </a:lnTo>
                  <a:lnTo>
                    <a:pt x="237" y="79"/>
                  </a:lnTo>
                  <a:lnTo>
                    <a:pt x="364" y="158"/>
                  </a:lnTo>
                  <a:lnTo>
                    <a:pt x="472" y="298"/>
                  </a:lnTo>
                  <a:lnTo>
                    <a:pt x="617" y="235"/>
                  </a:lnTo>
                  <a:lnTo>
                    <a:pt x="461" y="158"/>
                  </a:lnTo>
                  <a:lnTo>
                    <a:pt x="433" y="118"/>
                  </a:lnTo>
                  <a:lnTo>
                    <a:pt x="461" y="79"/>
                  </a:lnTo>
                  <a:lnTo>
                    <a:pt x="562" y="39"/>
                  </a:lnTo>
                  <a:lnTo>
                    <a:pt x="747" y="0"/>
                  </a:lnTo>
                  <a:lnTo>
                    <a:pt x="905" y="0"/>
                  </a:lnTo>
                  <a:lnTo>
                    <a:pt x="823" y="158"/>
                  </a:lnTo>
                  <a:lnTo>
                    <a:pt x="643" y="362"/>
                  </a:lnTo>
                  <a:lnTo>
                    <a:pt x="445" y="549"/>
                  </a:lnTo>
                  <a:lnTo>
                    <a:pt x="301" y="667"/>
                  </a:lnTo>
                  <a:lnTo>
                    <a:pt x="168" y="7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1641960" y="5549400"/>
              <a:ext cx="12960" cy="82080"/>
            </a:xfrm>
            <a:custGeom>
              <a:avLst/>
              <a:gdLst/>
              <a:ahLst/>
              <a:rect l="l" t="t" r="r" b="b"/>
              <a:pathLst>
                <a:path w="157" h="771">
                  <a:moveTo>
                    <a:pt x="65" y="116"/>
                  </a:moveTo>
                  <a:lnTo>
                    <a:pt x="90" y="378"/>
                  </a:lnTo>
                  <a:lnTo>
                    <a:pt x="132" y="626"/>
                  </a:lnTo>
                  <a:lnTo>
                    <a:pt x="157" y="771"/>
                  </a:lnTo>
                  <a:lnTo>
                    <a:pt x="24" y="354"/>
                  </a:lnTo>
                  <a:lnTo>
                    <a:pt x="0" y="222"/>
                  </a:lnTo>
                  <a:lnTo>
                    <a:pt x="51" y="0"/>
                  </a:lnTo>
                  <a:lnTo>
                    <a:pt x="65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u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Processo da sistemática de gates: avaliar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899" name=""/>
          <p:cNvSpPr/>
          <p:nvPr/>
        </p:nvSpPr>
        <p:spPr>
          <a:xfrm>
            <a:off x="3610080" y="2013120"/>
            <a:ext cx="3360600" cy="569880"/>
          </a:xfrm>
          <a:custGeom>
            <a:avLst/>
            <a:gdLst/>
            <a:ahLst/>
            <a:rect l="l" t="t" r="r" b="b"/>
            <a:pathLst>
              <a:path w="2117" h="359">
                <a:moveTo>
                  <a:pt x="1047" y="15"/>
                </a:moveTo>
                <a:lnTo>
                  <a:pt x="0" y="359"/>
                </a:lnTo>
                <a:lnTo>
                  <a:pt x="2117" y="359"/>
                </a:lnTo>
                <a:lnTo>
                  <a:pt x="1496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"/>
          <p:cNvSpPr/>
          <p:nvPr/>
        </p:nvSpPr>
        <p:spPr>
          <a:xfrm>
            <a:off x="1722600" y="3425760"/>
            <a:ext cx="1946160" cy="439920"/>
          </a:xfrm>
          <a:custGeom>
            <a:avLst/>
            <a:gdLst/>
            <a:ahLst/>
            <a:rect l="l" t="t" r="r" b="b"/>
            <a:pathLst>
              <a:path w="1226" h="277">
                <a:moveTo>
                  <a:pt x="1174" y="0"/>
                </a:moveTo>
                <a:lnTo>
                  <a:pt x="1226" y="277"/>
                </a:lnTo>
                <a:lnTo>
                  <a:pt x="0" y="277"/>
                </a:lnTo>
                <a:lnTo>
                  <a:pt x="1174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"/>
          <p:cNvSpPr/>
          <p:nvPr/>
        </p:nvSpPr>
        <p:spPr>
          <a:xfrm>
            <a:off x="5261040" y="3436920"/>
            <a:ext cx="3360600" cy="428760"/>
          </a:xfrm>
          <a:custGeom>
            <a:avLst/>
            <a:gdLst/>
            <a:ahLst/>
            <a:rect l="l" t="t" r="r" b="b"/>
            <a:pathLst>
              <a:path w="2117" h="270">
                <a:moveTo>
                  <a:pt x="1055" y="0"/>
                </a:moveTo>
                <a:lnTo>
                  <a:pt x="0" y="255"/>
                </a:lnTo>
                <a:lnTo>
                  <a:pt x="2117" y="270"/>
                </a:lnTo>
                <a:lnTo>
                  <a:pt x="1055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"/>
          <p:cNvSpPr/>
          <p:nvPr/>
        </p:nvSpPr>
        <p:spPr>
          <a:xfrm>
            <a:off x="3456000" y="4530600"/>
            <a:ext cx="2790720" cy="2149560"/>
          </a:xfrm>
          <a:custGeom>
            <a:avLst/>
            <a:gdLst/>
            <a:ahLst/>
            <a:rect l="l" t="t" r="r" b="b"/>
            <a:pathLst>
              <a:path w="1758" h="1354">
                <a:moveTo>
                  <a:pt x="1758" y="15"/>
                </a:moveTo>
                <a:lnTo>
                  <a:pt x="1758" y="1354"/>
                </a:lnTo>
                <a:lnTo>
                  <a:pt x="0" y="1354"/>
                </a:lnTo>
                <a:lnTo>
                  <a:pt x="0" y="456"/>
                </a:lnTo>
                <a:lnTo>
                  <a:pt x="1152" y="0"/>
                </a:lnTo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3" name=""/>
          <p:cNvGrpSpPr/>
          <p:nvPr/>
        </p:nvGrpSpPr>
        <p:grpSpPr>
          <a:xfrm>
            <a:off x="4292640" y="1430280"/>
            <a:ext cx="2916360" cy="627120"/>
            <a:chOff x="4292640" y="1430280"/>
            <a:chExt cx="2916360" cy="627120"/>
          </a:xfrm>
        </p:grpSpPr>
        <p:sp>
          <p:nvSpPr>
            <p:cNvPr id="2904" name=""/>
            <p:cNvSpPr/>
            <p:nvPr/>
          </p:nvSpPr>
          <p:spPr>
            <a:xfrm>
              <a:off x="6042240" y="1430280"/>
              <a:ext cx="1166760" cy="6271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5167440" y="1430280"/>
              <a:ext cx="1166760" cy="6271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4292640" y="1430280"/>
              <a:ext cx="1166760" cy="6271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7" name=""/>
          <p:cNvSpPr/>
          <p:nvPr/>
        </p:nvSpPr>
        <p:spPr>
          <a:xfrm>
            <a:off x="4309560" y="1120680"/>
            <a:ext cx="2831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to do produto 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8" name=""/>
          <p:cNvGrpSpPr/>
          <p:nvPr/>
        </p:nvGrpSpPr>
        <p:grpSpPr>
          <a:xfrm>
            <a:off x="3449160" y="2562120"/>
            <a:ext cx="3722760" cy="1239480"/>
            <a:chOff x="3449160" y="2562120"/>
            <a:chExt cx="3722760" cy="1239480"/>
          </a:xfrm>
        </p:grpSpPr>
        <p:grpSp>
          <p:nvGrpSpPr>
            <p:cNvPr id="2909" name=""/>
            <p:cNvGrpSpPr/>
            <p:nvPr/>
          </p:nvGrpSpPr>
          <p:grpSpPr>
            <a:xfrm>
              <a:off x="6816960" y="2949120"/>
              <a:ext cx="245160" cy="852480"/>
              <a:chOff x="6816960" y="2949120"/>
              <a:chExt cx="245160" cy="852480"/>
            </a:xfrm>
          </p:grpSpPr>
          <p:sp>
            <p:nvSpPr>
              <p:cNvPr id="2910" name=""/>
              <p:cNvSpPr/>
              <p:nvPr/>
            </p:nvSpPr>
            <p:spPr>
              <a:xfrm>
                <a:off x="6939000" y="2949120"/>
                <a:ext cx="0" cy="85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rot="2700000">
                <a:off x="6843960" y="3245760"/>
                <a:ext cx="190800" cy="1558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2" name=""/>
            <p:cNvSpPr/>
            <p:nvPr/>
          </p:nvSpPr>
          <p:spPr>
            <a:xfrm>
              <a:off x="3569040" y="2562120"/>
              <a:ext cx="3602880" cy="387000"/>
            </a:xfrm>
            <a:custGeom>
              <a:avLst/>
              <a:gdLst>
                <a:gd name="textAreaLeft" fmla="*/ 0 w 3602880"/>
                <a:gd name="textAreaRight" fmla="*/ 3603240 w 3602880"/>
                <a:gd name="textAreaTop" fmla="*/ 0 h 387000"/>
                <a:gd name="textAreaBottom" fmla="*/ 387360 h 38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582" y="0"/>
                  </a:lnTo>
                  <a:lnTo>
                    <a:pt x="21600" y="10800"/>
                  </a:lnTo>
                  <a:lnTo>
                    <a:pt x="20582" y="21600"/>
                  </a:lnTo>
                  <a:lnTo>
                    <a:pt x="0" y="21600"/>
                  </a:lnTo>
                  <a:lnTo>
                    <a:pt x="1018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3" name=""/>
            <p:cNvGrpSpPr/>
            <p:nvPr/>
          </p:nvGrpSpPr>
          <p:grpSpPr>
            <a:xfrm>
              <a:off x="3449160" y="2943720"/>
              <a:ext cx="245160" cy="852480"/>
              <a:chOff x="3449160" y="2943720"/>
              <a:chExt cx="245160" cy="852480"/>
            </a:xfrm>
          </p:grpSpPr>
          <p:sp>
            <p:nvSpPr>
              <p:cNvPr id="2914" name=""/>
              <p:cNvSpPr/>
              <p:nvPr/>
            </p:nvSpPr>
            <p:spPr>
              <a:xfrm>
                <a:off x="3571200" y="2943720"/>
                <a:ext cx="0" cy="85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rot="2700000">
                <a:off x="3476160" y="3240360"/>
                <a:ext cx="190800" cy="1558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16" name=""/>
          <p:cNvSpPr/>
          <p:nvPr/>
        </p:nvSpPr>
        <p:spPr>
          <a:xfrm>
            <a:off x="2152800" y="3817800"/>
            <a:ext cx="1533240" cy="73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finição de critérios para próximo 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5213520" y="3814920"/>
            <a:ext cx="1035000" cy="73656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-avaliaçã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3962520" y="3622680"/>
            <a:ext cx="94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é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3682800" y="5719680"/>
            <a:ext cx="1854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nvolv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0" name="" descr=""/>
          <p:cNvPicPr/>
          <p:nvPr/>
        </p:nvPicPr>
        <p:blipFill>
          <a:blip r:embed="rId1"/>
          <a:stretch/>
        </p:blipFill>
        <p:spPr>
          <a:xfrm>
            <a:off x="5931000" y="5168880"/>
            <a:ext cx="658800" cy="723960"/>
          </a:xfrm>
          <a:prstGeom prst="rect">
            <a:avLst/>
          </a:prstGeom>
          <a:ln w="0">
            <a:noFill/>
          </a:ln>
        </p:spPr>
      </p:pic>
      <p:sp>
        <p:nvSpPr>
          <p:cNvPr id="2921" name=""/>
          <p:cNvSpPr/>
          <p:nvPr/>
        </p:nvSpPr>
        <p:spPr>
          <a:xfrm>
            <a:off x="5764680" y="4851360"/>
            <a:ext cx="9676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ó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2" name=""/>
          <p:cNvGrpSpPr/>
          <p:nvPr/>
        </p:nvGrpSpPr>
        <p:grpSpPr>
          <a:xfrm>
            <a:off x="4057560" y="4932360"/>
            <a:ext cx="1371240" cy="686880"/>
            <a:chOff x="4057560" y="4932360"/>
            <a:chExt cx="1371240" cy="686880"/>
          </a:xfrm>
        </p:grpSpPr>
        <p:grpSp>
          <p:nvGrpSpPr>
            <p:cNvPr id="2923" name=""/>
            <p:cNvGrpSpPr/>
            <p:nvPr/>
          </p:nvGrpSpPr>
          <p:grpSpPr>
            <a:xfrm>
              <a:off x="4057560" y="4932360"/>
              <a:ext cx="1371240" cy="686880"/>
              <a:chOff x="4057560" y="4932360"/>
              <a:chExt cx="1371240" cy="686880"/>
            </a:xfrm>
          </p:grpSpPr>
          <p:sp>
            <p:nvSpPr>
              <p:cNvPr id="2924" name=""/>
              <p:cNvSpPr/>
              <p:nvPr/>
            </p:nvSpPr>
            <p:spPr>
              <a:xfrm>
                <a:off x="4368240" y="5122800"/>
                <a:ext cx="293760" cy="291600"/>
              </a:xfrm>
              <a:custGeom>
                <a:avLst/>
                <a:gdLst/>
                <a:ahLst/>
                <a:rect l="l" t="t" r="r" b="b"/>
                <a:pathLst>
                  <a:path w="3542" h="2755">
                    <a:moveTo>
                      <a:pt x="3542" y="2755"/>
                    </a:moveTo>
                    <a:lnTo>
                      <a:pt x="3452" y="2648"/>
                    </a:lnTo>
                    <a:lnTo>
                      <a:pt x="3415" y="2476"/>
                    </a:lnTo>
                    <a:lnTo>
                      <a:pt x="3307" y="2404"/>
                    </a:lnTo>
                    <a:lnTo>
                      <a:pt x="3290" y="2296"/>
                    </a:lnTo>
                    <a:lnTo>
                      <a:pt x="3355" y="2222"/>
                    </a:lnTo>
                    <a:lnTo>
                      <a:pt x="3355" y="2141"/>
                    </a:lnTo>
                    <a:lnTo>
                      <a:pt x="3314" y="2052"/>
                    </a:lnTo>
                    <a:lnTo>
                      <a:pt x="3248" y="1954"/>
                    </a:lnTo>
                    <a:lnTo>
                      <a:pt x="3248" y="1791"/>
                    </a:lnTo>
                    <a:lnTo>
                      <a:pt x="3307" y="1724"/>
                    </a:lnTo>
                    <a:lnTo>
                      <a:pt x="3299" y="1652"/>
                    </a:lnTo>
                    <a:lnTo>
                      <a:pt x="3233" y="1604"/>
                    </a:lnTo>
                    <a:lnTo>
                      <a:pt x="3200" y="1503"/>
                    </a:lnTo>
                    <a:lnTo>
                      <a:pt x="3209" y="1417"/>
                    </a:lnTo>
                    <a:lnTo>
                      <a:pt x="3191" y="1286"/>
                    </a:lnTo>
                    <a:lnTo>
                      <a:pt x="3166" y="1114"/>
                    </a:lnTo>
                    <a:lnTo>
                      <a:pt x="3166" y="910"/>
                    </a:lnTo>
                    <a:lnTo>
                      <a:pt x="3166" y="754"/>
                    </a:lnTo>
                    <a:lnTo>
                      <a:pt x="3161" y="592"/>
                    </a:lnTo>
                    <a:lnTo>
                      <a:pt x="3125" y="451"/>
                    </a:lnTo>
                    <a:lnTo>
                      <a:pt x="3092" y="360"/>
                    </a:lnTo>
                    <a:lnTo>
                      <a:pt x="2712" y="171"/>
                    </a:lnTo>
                    <a:lnTo>
                      <a:pt x="2492" y="110"/>
                    </a:lnTo>
                    <a:lnTo>
                      <a:pt x="2279" y="68"/>
                    </a:lnTo>
                    <a:lnTo>
                      <a:pt x="2044" y="0"/>
                    </a:lnTo>
                    <a:lnTo>
                      <a:pt x="890" y="27"/>
                    </a:lnTo>
                    <a:lnTo>
                      <a:pt x="556" y="85"/>
                    </a:lnTo>
                    <a:lnTo>
                      <a:pt x="222" y="205"/>
                    </a:lnTo>
                    <a:lnTo>
                      <a:pt x="123" y="264"/>
                    </a:lnTo>
                    <a:lnTo>
                      <a:pt x="40" y="461"/>
                    </a:lnTo>
                    <a:lnTo>
                      <a:pt x="40" y="1145"/>
                    </a:lnTo>
                    <a:lnTo>
                      <a:pt x="0" y="1235"/>
                    </a:lnTo>
                    <a:lnTo>
                      <a:pt x="540" y="2755"/>
                    </a:lnTo>
                    <a:lnTo>
                      <a:pt x="3542" y="275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4381560" y="5129640"/>
                <a:ext cx="133200" cy="144720"/>
              </a:xfrm>
              <a:custGeom>
                <a:avLst/>
                <a:gdLst/>
                <a:ahLst/>
                <a:rect l="l" t="t" r="r" b="b"/>
                <a:pathLst>
                  <a:path w="1609" h="1365">
                    <a:moveTo>
                      <a:pt x="1609" y="1365"/>
                    </a:moveTo>
                    <a:lnTo>
                      <a:pt x="1148" y="499"/>
                    </a:lnTo>
                    <a:lnTo>
                      <a:pt x="1019" y="323"/>
                    </a:lnTo>
                    <a:lnTo>
                      <a:pt x="763" y="187"/>
                    </a:lnTo>
                    <a:lnTo>
                      <a:pt x="493" y="121"/>
                    </a:lnTo>
                    <a:lnTo>
                      <a:pt x="279" y="130"/>
                    </a:lnTo>
                    <a:lnTo>
                      <a:pt x="0" y="169"/>
                    </a:lnTo>
                    <a:lnTo>
                      <a:pt x="67" y="121"/>
                    </a:lnTo>
                    <a:lnTo>
                      <a:pt x="353" y="31"/>
                    </a:lnTo>
                    <a:lnTo>
                      <a:pt x="650" y="0"/>
                    </a:lnTo>
                    <a:lnTo>
                      <a:pt x="862" y="31"/>
                    </a:lnTo>
                    <a:lnTo>
                      <a:pt x="1102" y="255"/>
                    </a:lnTo>
                    <a:lnTo>
                      <a:pt x="1264" y="547"/>
                    </a:lnTo>
                    <a:lnTo>
                      <a:pt x="1346" y="767"/>
                    </a:lnTo>
                    <a:lnTo>
                      <a:pt x="1609" y="1365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4370400" y="5168520"/>
                <a:ext cx="68400" cy="140400"/>
              </a:xfrm>
              <a:custGeom>
                <a:avLst/>
                <a:gdLst/>
                <a:ahLst/>
                <a:rect l="l" t="t" r="r" b="b"/>
                <a:pathLst>
                  <a:path w="829" h="1330">
                    <a:moveTo>
                      <a:pt x="548" y="586"/>
                    </a:moveTo>
                    <a:lnTo>
                      <a:pt x="484" y="464"/>
                    </a:lnTo>
                    <a:lnTo>
                      <a:pt x="394" y="360"/>
                    </a:lnTo>
                    <a:lnTo>
                      <a:pt x="304" y="286"/>
                    </a:lnTo>
                    <a:lnTo>
                      <a:pt x="205" y="235"/>
                    </a:lnTo>
                    <a:lnTo>
                      <a:pt x="156" y="226"/>
                    </a:lnTo>
                    <a:lnTo>
                      <a:pt x="221" y="374"/>
                    </a:lnTo>
                    <a:lnTo>
                      <a:pt x="359" y="554"/>
                    </a:lnTo>
                    <a:lnTo>
                      <a:pt x="516" y="694"/>
                    </a:lnTo>
                    <a:lnTo>
                      <a:pt x="714" y="835"/>
                    </a:lnTo>
                    <a:lnTo>
                      <a:pt x="745" y="851"/>
                    </a:lnTo>
                    <a:lnTo>
                      <a:pt x="829" y="1100"/>
                    </a:lnTo>
                    <a:lnTo>
                      <a:pt x="756" y="1158"/>
                    </a:lnTo>
                    <a:lnTo>
                      <a:pt x="809" y="1330"/>
                    </a:lnTo>
                    <a:lnTo>
                      <a:pt x="631" y="1305"/>
                    </a:lnTo>
                    <a:lnTo>
                      <a:pt x="703" y="1275"/>
                    </a:lnTo>
                    <a:lnTo>
                      <a:pt x="590" y="1127"/>
                    </a:lnTo>
                    <a:lnTo>
                      <a:pt x="304" y="1013"/>
                    </a:lnTo>
                    <a:lnTo>
                      <a:pt x="128" y="888"/>
                    </a:lnTo>
                    <a:lnTo>
                      <a:pt x="82" y="851"/>
                    </a:lnTo>
                    <a:lnTo>
                      <a:pt x="106" y="923"/>
                    </a:lnTo>
                    <a:lnTo>
                      <a:pt x="179" y="1028"/>
                    </a:lnTo>
                    <a:lnTo>
                      <a:pt x="39" y="906"/>
                    </a:lnTo>
                    <a:lnTo>
                      <a:pt x="7" y="791"/>
                    </a:lnTo>
                    <a:lnTo>
                      <a:pt x="0" y="743"/>
                    </a:lnTo>
                    <a:lnTo>
                      <a:pt x="48" y="586"/>
                    </a:lnTo>
                    <a:lnTo>
                      <a:pt x="64" y="0"/>
                    </a:lnTo>
                    <a:lnTo>
                      <a:pt x="286" y="148"/>
                    </a:lnTo>
                    <a:lnTo>
                      <a:pt x="431" y="307"/>
                    </a:lnTo>
                    <a:lnTo>
                      <a:pt x="509" y="448"/>
                    </a:lnTo>
                    <a:lnTo>
                      <a:pt x="548" y="586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4388760" y="5279760"/>
                <a:ext cx="48960" cy="75240"/>
              </a:xfrm>
              <a:custGeom>
                <a:avLst/>
                <a:gdLst/>
                <a:ahLst/>
                <a:rect l="l" t="t" r="r" b="b"/>
                <a:pathLst>
                  <a:path w="593" h="716">
                    <a:moveTo>
                      <a:pt x="19" y="0"/>
                    </a:moveTo>
                    <a:lnTo>
                      <a:pt x="132" y="54"/>
                    </a:lnTo>
                    <a:lnTo>
                      <a:pt x="190" y="187"/>
                    </a:lnTo>
                    <a:lnTo>
                      <a:pt x="331" y="268"/>
                    </a:lnTo>
                    <a:lnTo>
                      <a:pt x="222" y="259"/>
                    </a:lnTo>
                    <a:lnTo>
                      <a:pt x="289" y="310"/>
                    </a:lnTo>
                    <a:lnTo>
                      <a:pt x="455" y="358"/>
                    </a:lnTo>
                    <a:lnTo>
                      <a:pt x="534" y="448"/>
                    </a:lnTo>
                    <a:lnTo>
                      <a:pt x="492" y="538"/>
                    </a:lnTo>
                    <a:lnTo>
                      <a:pt x="388" y="473"/>
                    </a:lnTo>
                    <a:lnTo>
                      <a:pt x="354" y="529"/>
                    </a:lnTo>
                    <a:lnTo>
                      <a:pt x="503" y="587"/>
                    </a:lnTo>
                    <a:lnTo>
                      <a:pt x="593" y="554"/>
                    </a:lnTo>
                    <a:lnTo>
                      <a:pt x="518" y="716"/>
                    </a:lnTo>
                    <a:lnTo>
                      <a:pt x="275" y="554"/>
                    </a:lnTo>
                    <a:lnTo>
                      <a:pt x="0" y="2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4443120" y="5347440"/>
                <a:ext cx="101880" cy="84600"/>
              </a:xfrm>
              <a:custGeom>
                <a:avLst/>
                <a:gdLst/>
                <a:ahLst/>
                <a:rect l="l" t="t" r="r" b="b"/>
                <a:pathLst>
                  <a:path w="1232" h="800">
                    <a:moveTo>
                      <a:pt x="141" y="141"/>
                    </a:moveTo>
                    <a:lnTo>
                      <a:pt x="188" y="171"/>
                    </a:lnTo>
                    <a:lnTo>
                      <a:pt x="215" y="0"/>
                    </a:lnTo>
                    <a:lnTo>
                      <a:pt x="282" y="254"/>
                    </a:lnTo>
                    <a:lnTo>
                      <a:pt x="248" y="325"/>
                    </a:lnTo>
                    <a:lnTo>
                      <a:pt x="575" y="435"/>
                    </a:lnTo>
                    <a:lnTo>
                      <a:pt x="764" y="595"/>
                    </a:lnTo>
                    <a:lnTo>
                      <a:pt x="1174" y="595"/>
                    </a:lnTo>
                    <a:lnTo>
                      <a:pt x="1232" y="717"/>
                    </a:lnTo>
                    <a:lnTo>
                      <a:pt x="764" y="800"/>
                    </a:lnTo>
                    <a:lnTo>
                      <a:pt x="0" y="341"/>
                    </a:lnTo>
                    <a:lnTo>
                      <a:pt x="141" y="14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4451040" y="5166000"/>
                <a:ext cx="185400" cy="205560"/>
              </a:xfrm>
              <a:custGeom>
                <a:avLst/>
                <a:gdLst/>
                <a:ahLst/>
                <a:rect l="l" t="t" r="r" b="b"/>
                <a:pathLst>
                  <a:path w="2241" h="1943">
                    <a:moveTo>
                      <a:pt x="1241" y="0"/>
                    </a:moveTo>
                    <a:lnTo>
                      <a:pt x="1308" y="277"/>
                    </a:lnTo>
                    <a:lnTo>
                      <a:pt x="1314" y="623"/>
                    </a:lnTo>
                    <a:lnTo>
                      <a:pt x="1250" y="1053"/>
                    </a:lnTo>
                    <a:lnTo>
                      <a:pt x="1133" y="1404"/>
                    </a:lnTo>
                    <a:lnTo>
                      <a:pt x="1232" y="1496"/>
                    </a:lnTo>
                    <a:lnTo>
                      <a:pt x="1035" y="1559"/>
                    </a:lnTo>
                    <a:lnTo>
                      <a:pt x="674" y="1519"/>
                    </a:lnTo>
                    <a:lnTo>
                      <a:pt x="248" y="1528"/>
                    </a:lnTo>
                    <a:lnTo>
                      <a:pt x="0" y="1544"/>
                    </a:lnTo>
                    <a:lnTo>
                      <a:pt x="149" y="1722"/>
                    </a:lnTo>
                    <a:lnTo>
                      <a:pt x="1133" y="1803"/>
                    </a:lnTo>
                    <a:lnTo>
                      <a:pt x="1815" y="1943"/>
                    </a:lnTo>
                    <a:lnTo>
                      <a:pt x="1898" y="1886"/>
                    </a:lnTo>
                    <a:lnTo>
                      <a:pt x="1802" y="1812"/>
                    </a:lnTo>
                    <a:lnTo>
                      <a:pt x="1872" y="1748"/>
                    </a:lnTo>
                    <a:lnTo>
                      <a:pt x="2013" y="1722"/>
                    </a:lnTo>
                    <a:lnTo>
                      <a:pt x="2241" y="1739"/>
                    </a:lnTo>
                    <a:lnTo>
                      <a:pt x="2064" y="1634"/>
                    </a:lnTo>
                    <a:lnTo>
                      <a:pt x="1956" y="1501"/>
                    </a:lnTo>
                    <a:lnTo>
                      <a:pt x="1965" y="1404"/>
                    </a:lnTo>
                    <a:lnTo>
                      <a:pt x="2151" y="1307"/>
                    </a:lnTo>
                    <a:lnTo>
                      <a:pt x="2202" y="1168"/>
                    </a:lnTo>
                    <a:lnTo>
                      <a:pt x="2103" y="1215"/>
                    </a:lnTo>
                    <a:lnTo>
                      <a:pt x="1995" y="1210"/>
                    </a:lnTo>
                    <a:lnTo>
                      <a:pt x="1971" y="1168"/>
                    </a:lnTo>
                    <a:lnTo>
                      <a:pt x="2064" y="1075"/>
                    </a:lnTo>
                    <a:lnTo>
                      <a:pt x="1979" y="1071"/>
                    </a:lnTo>
                    <a:lnTo>
                      <a:pt x="1988" y="972"/>
                    </a:lnTo>
                    <a:lnTo>
                      <a:pt x="2028" y="832"/>
                    </a:lnTo>
                    <a:lnTo>
                      <a:pt x="2120" y="876"/>
                    </a:lnTo>
                    <a:lnTo>
                      <a:pt x="2151" y="963"/>
                    </a:lnTo>
                    <a:lnTo>
                      <a:pt x="2186" y="840"/>
                    </a:lnTo>
                    <a:lnTo>
                      <a:pt x="2145" y="537"/>
                    </a:lnTo>
                    <a:lnTo>
                      <a:pt x="2168" y="311"/>
                    </a:lnTo>
                    <a:lnTo>
                      <a:pt x="2094" y="645"/>
                    </a:lnTo>
                    <a:lnTo>
                      <a:pt x="1979" y="816"/>
                    </a:lnTo>
                    <a:lnTo>
                      <a:pt x="1760" y="1134"/>
                    </a:lnTo>
                    <a:lnTo>
                      <a:pt x="1608" y="1282"/>
                    </a:lnTo>
                    <a:lnTo>
                      <a:pt x="1398" y="1422"/>
                    </a:lnTo>
                    <a:lnTo>
                      <a:pt x="1331" y="1429"/>
                    </a:lnTo>
                    <a:lnTo>
                      <a:pt x="1398" y="1307"/>
                    </a:lnTo>
                    <a:lnTo>
                      <a:pt x="1430" y="1111"/>
                    </a:lnTo>
                    <a:lnTo>
                      <a:pt x="1446" y="800"/>
                    </a:lnTo>
                    <a:lnTo>
                      <a:pt x="1430" y="521"/>
                    </a:lnTo>
                    <a:lnTo>
                      <a:pt x="1398" y="269"/>
                    </a:lnTo>
                    <a:lnTo>
                      <a:pt x="1349" y="113"/>
                    </a:lnTo>
                    <a:lnTo>
                      <a:pt x="1241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4605840" y="5377320"/>
                <a:ext cx="46800" cy="37080"/>
              </a:xfrm>
              <a:custGeom>
                <a:avLst/>
                <a:gdLst/>
                <a:ahLst/>
                <a:rect l="l" t="t" r="r" b="b"/>
                <a:pathLst>
                  <a:path w="567" h="351">
                    <a:moveTo>
                      <a:pt x="129" y="0"/>
                    </a:moveTo>
                    <a:lnTo>
                      <a:pt x="198" y="72"/>
                    </a:lnTo>
                    <a:lnTo>
                      <a:pt x="173" y="162"/>
                    </a:lnTo>
                    <a:lnTo>
                      <a:pt x="237" y="114"/>
                    </a:lnTo>
                    <a:lnTo>
                      <a:pt x="261" y="251"/>
                    </a:lnTo>
                    <a:lnTo>
                      <a:pt x="355" y="169"/>
                    </a:lnTo>
                    <a:lnTo>
                      <a:pt x="426" y="219"/>
                    </a:lnTo>
                    <a:lnTo>
                      <a:pt x="375" y="268"/>
                    </a:lnTo>
                    <a:lnTo>
                      <a:pt x="417" y="327"/>
                    </a:lnTo>
                    <a:lnTo>
                      <a:pt x="507" y="309"/>
                    </a:lnTo>
                    <a:lnTo>
                      <a:pt x="567" y="351"/>
                    </a:lnTo>
                    <a:lnTo>
                      <a:pt x="204" y="351"/>
                    </a:lnTo>
                    <a:lnTo>
                      <a:pt x="0" y="196"/>
                    </a:lnTo>
                    <a:lnTo>
                      <a:pt x="23" y="37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4624200" y="5309280"/>
                <a:ext cx="12960" cy="20880"/>
              </a:xfrm>
              <a:custGeom>
                <a:avLst/>
                <a:gdLst/>
                <a:ahLst/>
                <a:rect l="l" t="t" r="r" b="b"/>
                <a:pathLst>
                  <a:path w="156" h="200">
                    <a:moveTo>
                      <a:pt x="0" y="79"/>
                    </a:moveTo>
                    <a:lnTo>
                      <a:pt x="81" y="79"/>
                    </a:lnTo>
                    <a:lnTo>
                      <a:pt x="74" y="137"/>
                    </a:lnTo>
                    <a:lnTo>
                      <a:pt x="18" y="128"/>
                    </a:lnTo>
                    <a:lnTo>
                      <a:pt x="127" y="200"/>
                    </a:lnTo>
                    <a:lnTo>
                      <a:pt x="156" y="0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4527360" y="5364360"/>
                <a:ext cx="80280" cy="65880"/>
              </a:xfrm>
              <a:custGeom>
                <a:avLst/>
                <a:gdLst/>
                <a:ahLst/>
                <a:rect l="l" t="t" r="r" b="b"/>
                <a:pathLst>
                  <a:path w="966" h="621">
                    <a:moveTo>
                      <a:pt x="0" y="237"/>
                    </a:moveTo>
                    <a:lnTo>
                      <a:pt x="70" y="310"/>
                    </a:lnTo>
                    <a:lnTo>
                      <a:pt x="138" y="432"/>
                    </a:lnTo>
                    <a:lnTo>
                      <a:pt x="171" y="545"/>
                    </a:lnTo>
                    <a:lnTo>
                      <a:pt x="303" y="621"/>
                    </a:lnTo>
                    <a:lnTo>
                      <a:pt x="484" y="596"/>
                    </a:lnTo>
                    <a:lnTo>
                      <a:pt x="681" y="561"/>
                    </a:lnTo>
                    <a:lnTo>
                      <a:pt x="966" y="450"/>
                    </a:lnTo>
                    <a:lnTo>
                      <a:pt x="966" y="220"/>
                    </a:lnTo>
                    <a:lnTo>
                      <a:pt x="910" y="81"/>
                    </a:lnTo>
                    <a:lnTo>
                      <a:pt x="562" y="0"/>
                    </a:lnTo>
                    <a:lnTo>
                      <a:pt x="244" y="160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4516920" y="5185440"/>
                <a:ext cx="10440" cy="11880"/>
              </a:xfrm>
              <a:custGeom>
                <a:avLst/>
                <a:gdLst/>
                <a:ahLst/>
                <a:rect l="l" t="t" r="r" b="b"/>
                <a:pathLst>
                  <a:path w="125" h="113">
                    <a:moveTo>
                      <a:pt x="90" y="0"/>
                    </a:moveTo>
                    <a:lnTo>
                      <a:pt x="33" y="14"/>
                    </a:lnTo>
                    <a:lnTo>
                      <a:pt x="0" y="69"/>
                    </a:lnTo>
                    <a:lnTo>
                      <a:pt x="42" y="113"/>
                    </a:lnTo>
                    <a:lnTo>
                      <a:pt x="99" y="113"/>
                    </a:lnTo>
                    <a:lnTo>
                      <a:pt x="125" y="78"/>
                    </a:lnTo>
                    <a:lnTo>
                      <a:pt x="125" y="3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4526280" y="5259960"/>
                <a:ext cx="7200" cy="9360"/>
              </a:xfrm>
              <a:custGeom>
                <a:avLst/>
                <a:gdLst/>
                <a:ahLst/>
                <a:rect l="l" t="t" r="r" b="b"/>
                <a:pathLst>
                  <a:path w="88" h="94">
                    <a:moveTo>
                      <a:pt x="82" y="21"/>
                    </a:moveTo>
                    <a:lnTo>
                      <a:pt x="55" y="0"/>
                    </a:lnTo>
                    <a:lnTo>
                      <a:pt x="7" y="12"/>
                    </a:lnTo>
                    <a:lnTo>
                      <a:pt x="0" y="69"/>
                    </a:lnTo>
                    <a:lnTo>
                      <a:pt x="42" y="94"/>
                    </a:lnTo>
                    <a:lnTo>
                      <a:pt x="88" y="69"/>
                    </a:lnTo>
                    <a:lnTo>
                      <a:pt x="82" y="21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4464360" y="4967640"/>
                <a:ext cx="95400" cy="212760"/>
              </a:xfrm>
              <a:custGeom>
                <a:avLst/>
                <a:gdLst/>
                <a:ahLst/>
                <a:rect l="l" t="t" r="r" b="b"/>
                <a:pathLst>
                  <a:path w="1157" h="2007">
                    <a:moveTo>
                      <a:pt x="35" y="1688"/>
                    </a:moveTo>
                    <a:lnTo>
                      <a:pt x="95" y="1780"/>
                    </a:lnTo>
                    <a:lnTo>
                      <a:pt x="251" y="1881"/>
                    </a:lnTo>
                    <a:lnTo>
                      <a:pt x="411" y="1937"/>
                    </a:lnTo>
                    <a:lnTo>
                      <a:pt x="596" y="1976"/>
                    </a:lnTo>
                    <a:lnTo>
                      <a:pt x="789" y="2007"/>
                    </a:lnTo>
                    <a:lnTo>
                      <a:pt x="895" y="1971"/>
                    </a:lnTo>
                    <a:lnTo>
                      <a:pt x="945" y="1911"/>
                    </a:lnTo>
                    <a:lnTo>
                      <a:pt x="956" y="1766"/>
                    </a:lnTo>
                    <a:lnTo>
                      <a:pt x="915" y="1577"/>
                    </a:lnTo>
                    <a:lnTo>
                      <a:pt x="875" y="1422"/>
                    </a:lnTo>
                    <a:lnTo>
                      <a:pt x="961" y="1317"/>
                    </a:lnTo>
                    <a:lnTo>
                      <a:pt x="1055" y="1143"/>
                    </a:lnTo>
                    <a:lnTo>
                      <a:pt x="1093" y="1009"/>
                    </a:lnTo>
                    <a:lnTo>
                      <a:pt x="1148" y="772"/>
                    </a:lnTo>
                    <a:lnTo>
                      <a:pt x="1157" y="648"/>
                    </a:lnTo>
                    <a:lnTo>
                      <a:pt x="1157" y="480"/>
                    </a:lnTo>
                    <a:lnTo>
                      <a:pt x="1125" y="231"/>
                    </a:lnTo>
                    <a:lnTo>
                      <a:pt x="994" y="14"/>
                    </a:lnTo>
                    <a:lnTo>
                      <a:pt x="411" y="0"/>
                    </a:lnTo>
                    <a:lnTo>
                      <a:pt x="129" y="378"/>
                    </a:lnTo>
                    <a:lnTo>
                      <a:pt x="0" y="576"/>
                    </a:lnTo>
                    <a:lnTo>
                      <a:pt x="5" y="733"/>
                    </a:lnTo>
                    <a:lnTo>
                      <a:pt x="69" y="1056"/>
                    </a:lnTo>
                    <a:lnTo>
                      <a:pt x="23" y="1568"/>
                    </a:lnTo>
                    <a:lnTo>
                      <a:pt x="35" y="1688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4469040" y="5058360"/>
                <a:ext cx="10440" cy="24480"/>
              </a:xfrm>
              <a:custGeom>
                <a:avLst/>
                <a:gdLst/>
                <a:ahLst/>
                <a:rect l="l" t="t" r="r" b="b"/>
                <a:pathLst>
                  <a:path w="129" h="233">
                    <a:moveTo>
                      <a:pt x="33" y="12"/>
                    </a:moveTo>
                    <a:lnTo>
                      <a:pt x="67" y="0"/>
                    </a:lnTo>
                    <a:lnTo>
                      <a:pt x="101" y="25"/>
                    </a:lnTo>
                    <a:lnTo>
                      <a:pt x="129" y="79"/>
                    </a:lnTo>
                    <a:lnTo>
                      <a:pt x="123" y="194"/>
                    </a:lnTo>
                    <a:lnTo>
                      <a:pt x="81" y="233"/>
                    </a:lnTo>
                    <a:lnTo>
                      <a:pt x="0" y="194"/>
                    </a:lnTo>
                    <a:lnTo>
                      <a:pt x="0" y="95"/>
                    </a:lnTo>
                    <a:lnTo>
                      <a:pt x="33" y="12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4555440" y="506520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4" h="123">
                    <a:moveTo>
                      <a:pt x="24" y="0"/>
                    </a:moveTo>
                    <a:lnTo>
                      <a:pt x="0" y="123"/>
                    </a:lnTo>
                    <a:lnTo>
                      <a:pt x="28" y="121"/>
                    </a:lnTo>
                    <a:lnTo>
                      <a:pt x="44" y="88"/>
                    </a:lnTo>
                    <a:lnTo>
                      <a:pt x="39" y="4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4079160" y="5153400"/>
                <a:ext cx="433440" cy="410040"/>
              </a:xfrm>
              <a:custGeom>
                <a:avLst/>
                <a:gdLst/>
                <a:ahLst/>
                <a:rect l="l" t="t" r="r" b="b"/>
                <a:pathLst>
                  <a:path w="5233" h="3878">
                    <a:moveTo>
                      <a:pt x="4452" y="3024"/>
                    </a:moveTo>
                    <a:lnTo>
                      <a:pt x="4030" y="2787"/>
                    </a:lnTo>
                    <a:lnTo>
                      <a:pt x="3672" y="2893"/>
                    </a:lnTo>
                    <a:lnTo>
                      <a:pt x="3525" y="2812"/>
                    </a:lnTo>
                    <a:lnTo>
                      <a:pt x="3052" y="2393"/>
                    </a:lnTo>
                    <a:lnTo>
                      <a:pt x="2947" y="3010"/>
                    </a:lnTo>
                    <a:lnTo>
                      <a:pt x="3131" y="3089"/>
                    </a:lnTo>
                    <a:lnTo>
                      <a:pt x="3356" y="2999"/>
                    </a:lnTo>
                    <a:lnTo>
                      <a:pt x="3608" y="3076"/>
                    </a:lnTo>
                    <a:lnTo>
                      <a:pt x="3790" y="3063"/>
                    </a:lnTo>
                    <a:lnTo>
                      <a:pt x="4318" y="3052"/>
                    </a:lnTo>
                    <a:lnTo>
                      <a:pt x="4468" y="3234"/>
                    </a:lnTo>
                    <a:lnTo>
                      <a:pt x="4410" y="3612"/>
                    </a:lnTo>
                    <a:lnTo>
                      <a:pt x="4336" y="3681"/>
                    </a:lnTo>
                    <a:lnTo>
                      <a:pt x="3845" y="3681"/>
                    </a:lnTo>
                    <a:lnTo>
                      <a:pt x="1901" y="3878"/>
                    </a:lnTo>
                    <a:lnTo>
                      <a:pt x="11" y="3654"/>
                    </a:lnTo>
                    <a:lnTo>
                      <a:pt x="0" y="1987"/>
                    </a:lnTo>
                    <a:lnTo>
                      <a:pt x="103" y="1510"/>
                    </a:lnTo>
                    <a:lnTo>
                      <a:pt x="304" y="1037"/>
                    </a:lnTo>
                    <a:lnTo>
                      <a:pt x="408" y="892"/>
                    </a:lnTo>
                    <a:lnTo>
                      <a:pt x="685" y="590"/>
                    </a:lnTo>
                    <a:lnTo>
                      <a:pt x="975" y="394"/>
                    </a:lnTo>
                    <a:lnTo>
                      <a:pt x="1213" y="248"/>
                    </a:lnTo>
                    <a:lnTo>
                      <a:pt x="1466" y="145"/>
                    </a:lnTo>
                    <a:lnTo>
                      <a:pt x="1572" y="0"/>
                    </a:lnTo>
                    <a:lnTo>
                      <a:pt x="2604" y="343"/>
                    </a:lnTo>
                    <a:lnTo>
                      <a:pt x="2747" y="514"/>
                    </a:lnTo>
                    <a:lnTo>
                      <a:pt x="2947" y="643"/>
                    </a:lnTo>
                    <a:lnTo>
                      <a:pt x="3172" y="828"/>
                    </a:lnTo>
                    <a:lnTo>
                      <a:pt x="3474" y="1210"/>
                    </a:lnTo>
                    <a:lnTo>
                      <a:pt x="4307" y="1995"/>
                    </a:lnTo>
                    <a:lnTo>
                      <a:pt x="4491" y="2079"/>
                    </a:lnTo>
                    <a:lnTo>
                      <a:pt x="4544" y="2236"/>
                    </a:lnTo>
                    <a:lnTo>
                      <a:pt x="4956" y="2340"/>
                    </a:lnTo>
                    <a:lnTo>
                      <a:pt x="5140" y="2551"/>
                    </a:lnTo>
                    <a:lnTo>
                      <a:pt x="5233" y="2812"/>
                    </a:lnTo>
                    <a:lnTo>
                      <a:pt x="4452" y="3024"/>
                    </a:lnTo>
                    <a:close/>
                  </a:path>
                </a:pathLst>
              </a:custGeom>
              <a:solidFill>
                <a:srgbClr val="00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4512960" y="5381280"/>
                <a:ext cx="66960" cy="134640"/>
              </a:xfrm>
              <a:custGeom>
                <a:avLst/>
                <a:gdLst/>
                <a:ahLst/>
                <a:rect l="l" t="t" r="r" b="b"/>
                <a:pathLst>
                  <a:path w="803" h="1268">
                    <a:moveTo>
                      <a:pt x="0" y="23"/>
                    </a:moveTo>
                    <a:lnTo>
                      <a:pt x="0" y="44"/>
                    </a:lnTo>
                    <a:lnTo>
                      <a:pt x="12" y="69"/>
                    </a:lnTo>
                    <a:lnTo>
                      <a:pt x="708" y="1183"/>
                    </a:lnTo>
                    <a:lnTo>
                      <a:pt x="803" y="1268"/>
                    </a:lnTo>
                    <a:lnTo>
                      <a:pt x="759" y="1139"/>
                    </a:lnTo>
                    <a:lnTo>
                      <a:pt x="61" y="5"/>
                    </a:lnTo>
                    <a:lnTo>
                      <a:pt x="19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4462560" y="5439240"/>
                <a:ext cx="100080" cy="81000"/>
              </a:xfrm>
              <a:custGeom>
                <a:avLst/>
                <a:gdLst/>
                <a:ahLst/>
                <a:rect l="l" t="t" r="r" b="b"/>
                <a:pathLst>
                  <a:path w="1202" h="775">
                    <a:moveTo>
                      <a:pt x="0" y="289"/>
                    </a:moveTo>
                    <a:lnTo>
                      <a:pt x="63" y="132"/>
                    </a:lnTo>
                    <a:lnTo>
                      <a:pt x="182" y="66"/>
                    </a:lnTo>
                    <a:lnTo>
                      <a:pt x="287" y="81"/>
                    </a:lnTo>
                    <a:lnTo>
                      <a:pt x="487" y="118"/>
                    </a:lnTo>
                    <a:lnTo>
                      <a:pt x="607" y="28"/>
                    </a:lnTo>
                    <a:lnTo>
                      <a:pt x="709" y="0"/>
                    </a:lnTo>
                    <a:lnTo>
                      <a:pt x="1147" y="66"/>
                    </a:lnTo>
                    <a:lnTo>
                      <a:pt x="1188" y="171"/>
                    </a:lnTo>
                    <a:lnTo>
                      <a:pt x="1135" y="199"/>
                    </a:lnTo>
                    <a:lnTo>
                      <a:pt x="793" y="224"/>
                    </a:lnTo>
                    <a:lnTo>
                      <a:pt x="1162" y="382"/>
                    </a:lnTo>
                    <a:lnTo>
                      <a:pt x="1202" y="475"/>
                    </a:lnTo>
                    <a:lnTo>
                      <a:pt x="1174" y="552"/>
                    </a:lnTo>
                    <a:lnTo>
                      <a:pt x="1068" y="630"/>
                    </a:lnTo>
                    <a:lnTo>
                      <a:pt x="1029" y="738"/>
                    </a:lnTo>
                    <a:lnTo>
                      <a:pt x="709" y="775"/>
                    </a:lnTo>
                    <a:lnTo>
                      <a:pt x="130" y="710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4204080" y="5040720"/>
                <a:ext cx="135720" cy="202320"/>
              </a:xfrm>
              <a:custGeom>
                <a:avLst/>
                <a:gdLst/>
                <a:ahLst/>
                <a:rect l="l" t="t" r="r" b="b"/>
                <a:pathLst>
                  <a:path w="1639" h="1907">
                    <a:moveTo>
                      <a:pt x="0" y="538"/>
                    </a:moveTo>
                    <a:lnTo>
                      <a:pt x="53" y="850"/>
                    </a:lnTo>
                    <a:lnTo>
                      <a:pt x="73" y="949"/>
                    </a:lnTo>
                    <a:lnTo>
                      <a:pt x="127" y="1008"/>
                    </a:lnTo>
                    <a:lnTo>
                      <a:pt x="99" y="1109"/>
                    </a:lnTo>
                    <a:lnTo>
                      <a:pt x="154" y="1217"/>
                    </a:lnTo>
                    <a:lnTo>
                      <a:pt x="207" y="1305"/>
                    </a:lnTo>
                    <a:lnTo>
                      <a:pt x="272" y="1409"/>
                    </a:lnTo>
                    <a:lnTo>
                      <a:pt x="495" y="1599"/>
                    </a:lnTo>
                    <a:lnTo>
                      <a:pt x="784" y="1907"/>
                    </a:lnTo>
                    <a:lnTo>
                      <a:pt x="822" y="1859"/>
                    </a:lnTo>
                    <a:lnTo>
                      <a:pt x="881" y="1736"/>
                    </a:lnTo>
                    <a:lnTo>
                      <a:pt x="905" y="1598"/>
                    </a:lnTo>
                    <a:lnTo>
                      <a:pt x="1030" y="1630"/>
                    </a:lnTo>
                    <a:lnTo>
                      <a:pt x="1155" y="1617"/>
                    </a:lnTo>
                    <a:lnTo>
                      <a:pt x="1213" y="1584"/>
                    </a:lnTo>
                    <a:lnTo>
                      <a:pt x="1270" y="1522"/>
                    </a:lnTo>
                    <a:lnTo>
                      <a:pt x="1429" y="1179"/>
                    </a:lnTo>
                    <a:lnTo>
                      <a:pt x="1510" y="1077"/>
                    </a:lnTo>
                    <a:lnTo>
                      <a:pt x="1572" y="905"/>
                    </a:lnTo>
                    <a:lnTo>
                      <a:pt x="1586" y="718"/>
                    </a:lnTo>
                    <a:lnTo>
                      <a:pt x="1618" y="632"/>
                    </a:lnTo>
                    <a:lnTo>
                      <a:pt x="1635" y="575"/>
                    </a:lnTo>
                    <a:lnTo>
                      <a:pt x="1639" y="261"/>
                    </a:lnTo>
                    <a:lnTo>
                      <a:pt x="1609" y="118"/>
                    </a:lnTo>
                    <a:lnTo>
                      <a:pt x="1540" y="0"/>
                    </a:lnTo>
                    <a:lnTo>
                      <a:pt x="207" y="155"/>
                    </a:lnTo>
                    <a:lnTo>
                      <a:pt x="0" y="538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4262400" y="5251680"/>
                <a:ext cx="30240" cy="204120"/>
              </a:xfrm>
              <a:custGeom>
                <a:avLst/>
                <a:gdLst/>
                <a:ahLst/>
                <a:rect l="l" t="t" r="r" b="b"/>
                <a:pathLst>
                  <a:path w="369" h="1920">
                    <a:moveTo>
                      <a:pt x="92" y="0"/>
                    </a:moveTo>
                    <a:lnTo>
                      <a:pt x="40" y="52"/>
                    </a:lnTo>
                    <a:lnTo>
                      <a:pt x="0" y="142"/>
                    </a:lnTo>
                    <a:lnTo>
                      <a:pt x="27" y="313"/>
                    </a:lnTo>
                    <a:lnTo>
                      <a:pt x="14" y="973"/>
                    </a:lnTo>
                    <a:lnTo>
                      <a:pt x="40" y="1433"/>
                    </a:lnTo>
                    <a:lnTo>
                      <a:pt x="119" y="1920"/>
                    </a:lnTo>
                    <a:lnTo>
                      <a:pt x="200" y="1920"/>
                    </a:lnTo>
                    <a:lnTo>
                      <a:pt x="319" y="1920"/>
                    </a:lnTo>
                    <a:lnTo>
                      <a:pt x="369" y="1841"/>
                    </a:lnTo>
                    <a:lnTo>
                      <a:pt x="263" y="1498"/>
                    </a:lnTo>
                    <a:lnTo>
                      <a:pt x="212" y="1169"/>
                    </a:lnTo>
                    <a:lnTo>
                      <a:pt x="200" y="776"/>
                    </a:lnTo>
                    <a:lnTo>
                      <a:pt x="159" y="313"/>
                    </a:lnTo>
                    <a:lnTo>
                      <a:pt x="185" y="211"/>
                    </a:lnTo>
                    <a:lnTo>
                      <a:pt x="159" y="66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4277520" y="4988880"/>
                <a:ext cx="75600" cy="99000"/>
              </a:xfrm>
              <a:custGeom>
                <a:avLst/>
                <a:gdLst/>
                <a:ahLst/>
                <a:rect l="l" t="t" r="r" b="b"/>
                <a:pathLst>
                  <a:path w="914" h="936">
                    <a:moveTo>
                      <a:pt x="635" y="499"/>
                    </a:moveTo>
                    <a:lnTo>
                      <a:pt x="714" y="607"/>
                    </a:lnTo>
                    <a:lnTo>
                      <a:pt x="844" y="936"/>
                    </a:lnTo>
                    <a:lnTo>
                      <a:pt x="899" y="855"/>
                    </a:lnTo>
                    <a:lnTo>
                      <a:pt x="914" y="581"/>
                    </a:lnTo>
                    <a:lnTo>
                      <a:pt x="914" y="510"/>
                    </a:lnTo>
                    <a:lnTo>
                      <a:pt x="859" y="462"/>
                    </a:lnTo>
                    <a:lnTo>
                      <a:pt x="767" y="381"/>
                    </a:lnTo>
                    <a:lnTo>
                      <a:pt x="686" y="224"/>
                    </a:lnTo>
                    <a:lnTo>
                      <a:pt x="541" y="79"/>
                    </a:lnTo>
                    <a:lnTo>
                      <a:pt x="356" y="40"/>
                    </a:lnTo>
                    <a:lnTo>
                      <a:pt x="145" y="0"/>
                    </a:lnTo>
                    <a:lnTo>
                      <a:pt x="0" y="51"/>
                    </a:lnTo>
                    <a:lnTo>
                      <a:pt x="15" y="593"/>
                    </a:lnTo>
                    <a:lnTo>
                      <a:pt x="635" y="499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4268880" y="5095800"/>
                <a:ext cx="20160" cy="10080"/>
              </a:xfrm>
              <a:custGeom>
                <a:avLst/>
                <a:gdLst/>
                <a:ahLst/>
                <a:rect l="l" t="t" r="r" b="b"/>
                <a:pathLst>
                  <a:path w="251" h="93">
                    <a:moveTo>
                      <a:pt x="0" y="55"/>
                    </a:moveTo>
                    <a:lnTo>
                      <a:pt x="147" y="70"/>
                    </a:lnTo>
                    <a:lnTo>
                      <a:pt x="251" y="93"/>
                    </a:lnTo>
                    <a:lnTo>
                      <a:pt x="196" y="0"/>
                    </a:lnTo>
                    <a:lnTo>
                      <a:pt x="53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4316040" y="5107680"/>
                <a:ext cx="15120" cy="11520"/>
              </a:xfrm>
              <a:custGeom>
                <a:avLst/>
                <a:gdLst/>
                <a:ahLst/>
                <a:rect l="l" t="t" r="r" b="b"/>
                <a:pathLst>
                  <a:path w="183" h="119">
                    <a:moveTo>
                      <a:pt x="0" y="66"/>
                    </a:moveTo>
                    <a:lnTo>
                      <a:pt x="106" y="119"/>
                    </a:lnTo>
                    <a:lnTo>
                      <a:pt x="183" y="105"/>
                    </a:lnTo>
                    <a:lnTo>
                      <a:pt x="172" y="77"/>
                    </a:lnTo>
                    <a:lnTo>
                      <a:pt x="37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4494240" y="503460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18" h="86">
                    <a:moveTo>
                      <a:pt x="0" y="14"/>
                    </a:moveTo>
                    <a:lnTo>
                      <a:pt x="62" y="60"/>
                    </a:lnTo>
                    <a:lnTo>
                      <a:pt x="97" y="86"/>
                    </a:lnTo>
                    <a:lnTo>
                      <a:pt x="181" y="86"/>
                    </a:lnTo>
                    <a:lnTo>
                      <a:pt x="218" y="58"/>
                    </a:lnTo>
                    <a:lnTo>
                      <a:pt x="177" y="9"/>
                    </a:lnTo>
                    <a:lnTo>
                      <a:pt x="103" y="0"/>
                    </a:lnTo>
                    <a:lnTo>
                      <a:pt x="20" y="9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4533480" y="5038200"/>
                <a:ext cx="17640" cy="8280"/>
              </a:xfrm>
              <a:custGeom>
                <a:avLst/>
                <a:gdLst/>
                <a:ahLst/>
                <a:rect l="l" t="t" r="r" b="b"/>
                <a:pathLst>
                  <a:path w="216" h="83">
                    <a:moveTo>
                      <a:pt x="0" y="48"/>
                    </a:moveTo>
                    <a:lnTo>
                      <a:pt x="50" y="7"/>
                    </a:lnTo>
                    <a:lnTo>
                      <a:pt x="130" y="0"/>
                    </a:lnTo>
                    <a:lnTo>
                      <a:pt x="216" y="35"/>
                    </a:lnTo>
                    <a:lnTo>
                      <a:pt x="163" y="66"/>
                    </a:lnTo>
                    <a:lnTo>
                      <a:pt x="121" y="81"/>
                    </a:lnTo>
                    <a:lnTo>
                      <a:pt x="75" y="83"/>
                    </a:lnTo>
                    <a:lnTo>
                      <a:pt x="18" y="62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4506840" y="5089680"/>
                <a:ext cx="28080" cy="7560"/>
              </a:xfrm>
              <a:custGeom>
                <a:avLst/>
                <a:gdLst/>
                <a:ahLst/>
                <a:rect l="l" t="t" r="r" b="b"/>
                <a:pathLst>
                  <a:path w="350" h="67">
                    <a:moveTo>
                      <a:pt x="0" y="4"/>
                    </a:moveTo>
                    <a:lnTo>
                      <a:pt x="82" y="50"/>
                    </a:lnTo>
                    <a:lnTo>
                      <a:pt x="203" y="67"/>
                    </a:lnTo>
                    <a:lnTo>
                      <a:pt x="260" y="65"/>
                    </a:lnTo>
                    <a:lnTo>
                      <a:pt x="299" y="46"/>
                    </a:lnTo>
                    <a:lnTo>
                      <a:pt x="332" y="21"/>
                    </a:lnTo>
                    <a:lnTo>
                      <a:pt x="350" y="0"/>
                    </a:lnTo>
                    <a:lnTo>
                      <a:pt x="249" y="6"/>
                    </a:lnTo>
                    <a:lnTo>
                      <a:pt x="194" y="14"/>
                    </a:lnTo>
                    <a:lnTo>
                      <a:pt x="108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4987440" y="5120280"/>
                <a:ext cx="391680" cy="442440"/>
              </a:xfrm>
              <a:custGeom>
                <a:avLst/>
                <a:gdLst/>
                <a:ahLst/>
                <a:rect l="l" t="t" r="r" b="b"/>
                <a:pathLst>
                  <a:path w="4729" h="4178">
                    <a:moveTo>
                      <a:pt x="602" y="3182"/>
                    </a:moveTo>
                    <a:lnTo>
                      <a:pt x="1411" y="2760"/>
                    </a:lnTo>
                    <a:lnTo>
                      <a:pt x="1677" y="2463"/>
                    </a:lnTo>
                    <a:lnTo>
                      <a:pt x="1928" y="3087"/>
                    </a:lnTo>
                    <a:lnTo>
                      <a:pt x="1940" y="3300"/>
                    </a:lnTo>
                    <a:lnTo>
                      <a:pt x="1846" y="3325"/>
                    </a:lnTo>
                    <a:lnTo>
                      <a:pt x="1640" y="3288"/>
                    </a:lnTo>
                    <a:lnTo>
                      <a:pt x="1486" y="3279"/>
                    </a:lnTo>
                    <a:lnTo>
                      <a:pt x="1398" y="3241"/>
                    </a:lnTo>
                    <a:lnTo>
                      <a:pt x="1218" y="3265"/>
                    </a:lnTo>
                    <a:lnTo>
                      <a:pt x="1050" y="3230"/>
                    </a:lnTo>
                    <a:lnTo>
                      <a:pt x="844" y="3168"/>
                    </a:lnTo>
                    <a:lnTo>
                      <a:pt x="672" y="3254"/>
                    </a:lnTo>
                    <a:lnTo>
                      <a:pt x="541" y="3491"/>
                    </a:lnTo>
                    <a:lnTo>
                      <a:pt x="640" y="3841"/>
                    </a:lnTo>
                    <a:lnTo>
                      <a:pt x="1070" y="3903"/>
                    </a:lnTo>
                    <a:lnTo>
                      <a:pt x="1640" y="4032"/>
                    </a:lnTo>
                    <a:lnTo>
                      <a:pt x="2013" y="4139"/>
                    </a:lnTo>
                    <a:lnTo>
                      <a:pt x="2919" y="4178"/>
                    </a:lnTo>
                    <a:lnTo>
                      <a:pt x="3270" y="4153"/>
                    </a:lnTo>
                    <a:lnTo>
                      <a:pt x="3620" y="4056"/>
                    </a:lnTo>
                    <a:lnTo>
                      <a:pt x="4667" y="2951"/>
                    </a:lnTo>
                    <a:lnTo>
                      <a:pt x="4729" y="1824"/>
                    </a:lnTo>
                    <a:lnTo>
                      <a:pt x="4584" y="1298"/>
                    </a:lnTo>
                    <a:lnTo>
                      <a:pt x="4425" y="1019"/>
                    </a:lnTo>
                    <a:lnTo>
                      <a:pt x="4138" y="639"/>
                    </a:lnTo>
                    <a:lnTo>
                      <a:pt x="3595" y="384"/>
                    </a:lnTo>
                    <a:lnTo>
                      <a:pt x="3450" y="422"/>
                    </a:lnTo>
                    <a:lnTo>
                      <a:pt x="3342" y="362"/>
                    </a:lnTo>
                    <a:lnTo>
                      <a:pt x="3256" y="194"/>
                    </a:lnTo>
                    <a:lnTo>
                      <a:pt x="3053" y="121"/>
                    </a:lnTo>
                    <a:lnTo>
                      <a:pt x="2872" y="0"/>
                    </a:lnTo>
                    <a:lnTo>
                      <a:pt x="2666" y="12"/>
                    </a:lnTo>
                    <a:lnTo>
                      <a:pt x="1709" y="602"/>
                    </a:lnTo>
                    <a:lnTo>
                      <a:pt x="1558" y="720"/>
                    </a:lnTo>
                    <a:lnTo>
                      <a:pt x="1460" y="817"/>
                    </a:lnTo>
                    <a:lnTo>
                      <a:pt x="1281" y="911"/>
                    </a:lnTo>
                    <a:lnTo>
                      <a:pt x="1070" y="1503"/>
                    </a:lnTo>
                    <a:lnTo>
                      <a:pt x="1064" y="1702"/>
                    </a:lnTo>
                    <a:lnTo>
                      <a:pt x="989" y="1979"/>
                    </a:lnTo>
                    <a:lnTo>
                      <a:pt x="808" y="2039"/>
                    </a:lnTo>
                    <a:lnTo>
                      <a:pt x="723" y="2136"/>
                    </a:lnTo>
                    <a:lnTo>
                      <a:pt x="699" y="2259"/>
                    </a:lnTo>
                    <a:lnTo>
                      <a:pt x="578" y="2377"/>
                    </a:lnTo>
                    <a:lnTo>
                      <a:pt x="240" y="2606"/>
                    </a:lnTo>
                    <a:lnTo>
                      <a:pt x="0" y="2917"/>
                    </a:lnTo>
                    <a:lnTo>
                      <a:pt x="277" y="3145"/>
                    </a:lnTo>
                    <a:lnTo>
                      <a:pt x="602" y="31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5027400" y="5234040"/>
                <a:ext cx="115200" cy="230400"/>
              </a:xfrm>
              <a:custGeom>
                <a:avLst/>
                <a:gdLst/>
                <a:ahLst/>
                <a:rect l="l" t="t" r="r" b="b"/>
                <a:pathLst>
                  <a:path w="1387" h="2184">
                    <a:moveTo>
                      <a:pt x="691" y="312"/>
                    </a:moveTo>
                    <a:lnTo>
                      <a:pt x="679" y="433"/>
                    </a:lnTo>
                    <a:lnTo>
                      <a:pt x="712" y="479"/>
                    </a:lnTo>
                    <a:lnTo>
                      <a:pt x="807" y="528"/>
                    </a:lnTo>
                    <a:lnTo>
                      <a:pt x="859" y="578"/>
                    </a:lnTo>
                    <a:lnTo>
                      <a:pt x="859" y="683"/>
                    </a:lnTo>
                    <a:lnTo>
                      <a:pt x="664" y="731"/>
                    </a:lnTo>
                    <a:lnTo>
                      <a:pt x="605" y="731"/>
                    </a:lnTo>
                    <a:lnTo>
                      <a:pt x="555" y="671"/>
                    </a:lnTo>
                    <a:lnTo>
                      <a:pt x="508" y="899"/>
                    </a:lnTo>
                    <a:lnTo>
                      <a:pt x="290" y="1031"/>
                    </a:lnTo>
                    <a:lnTo>
                      <a:pt x="664" y="899"/>
                    </a:lnTo>
                    <a:lnTo>
                      <a:pt x="749" y="899"/>
                    </a:lnTo>
                    <a:lnTo>
                      <a:pt x="712" y="945"/>
                    </a:lnTo>
                    <a:lnTo>
                      <a:pt x="447" y="1103"/>
                    </a:lnTo>
                    <a:lnTo>
                      <a:pt x="726" y="1103"/>
                    </a:lnTo>
                    <a:lnTo>
                      <a:pt x="737" y="1213"/>
                    </a:lnTo>
                    <a:lnTo>
                      <a:pt x="133" y="1273"/>
                    </a:lnTo>
                    <a:lnTo>
                      <a:pt x="0" y="1369"/>
                    </a:lnTo>
                    <a:lnTo>
                      <a:pt x="170" y="1426"/>
                    </a:lnTo>
                    <a:lnTo>
                      <a:pt x="279" y="1525"/>
                    </a:lnTo>
                    <a:lnTo>
                      <a:pt x="290" y="1593"/>
                    </a:lnTo>
                    <a:lnTo>
                      <a:pt x="181" y="1690"/>
                    </a:lnTo>
                    <a:lnTo>
                      <a:pt x="181" y="1810"/>
                    </a:lnTo>
                    <a:lnTo>
                      <a:pt x="242" y="1932"/>
                    </a:lnTo>
                    <a:lnTo>
                      <a:pt x="84" y="2075"/>
                    </a:lnTo>
                    <a:lnTo>
                      <a:pt x="218" y="2184"/>
                    </a:lnTo>
                    <a:lnTo>
                      <a:pt x="373" y="2098"/>
                    </a:lnTo>
                    <a:lnTo>
                      <a:pt x="472" y="2123"/>
                    </a:lnTo>
                    <a:lnTo>
                      <a:pt x="679" y="1964"/>
                    </a:lnTo>
                    <a:lnTo>
                      <a:pt x="989" y="1630"/>
                    </a:lnTo>
                    <a:lnTo>
                      <a:pt x="1207" y="1379"/>
                    </a:lnTo>
                    <a:lnTo>
                      <a:pt x="1350" y="1752"/>
                    </a:lnTo>
                    <a:lnTo>
                      <a:pt x="1387" y="1358"/>
                    </a:lnTo>
                    <a:lnTo>
                      <a:pt x="1387" y="1199"/>
                    </a:lnTo>
                    <a:lnTo>
                      <a:pt x="1242" y="1093"/>
                    </a:lnTo>
                    <a:lnTo>
                      <a:pt x="1122" y="923"/>
                    </a:lnTo>
                    <a:lnTo>
                      <a:pt x="1014" y="740"/>
                    </a:lnTo>
                    <a:lnTo>
                      <a:pt x="930" y="528"/>
                    </a:lnTo>
                    <a:lnTo>
                      <a:pt x="834" y="228"/>
                    </a:lnTo>
                    <a:lnTo>
                      <a:pt x="800" y="0"/>
                    </a:lnTo>
                    <a:lnTo>
                      <a:pt x="700" y="215"/>
                    </a:lnTo>
                    <a:lnTo>
                      <a:pt x="691" y="3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5085720" y="5235480"/>
                <a:ext cx="236520" cy="331560"/>
              </a:xfrm>
              <a:custGeom>
                <a:avLst/>
                <a:gdLst/>
                <a:ahLst/>
                <a:rect l="l" t="t" r="r" b="b"/>
                <a:pathLst>
                  <a:path w="2861" h="3124">
                    <a:moveTo>
                      <a:pt x="988" y="1321"/>
                    </a:moveTo>
                    <a:lnTo>
                      <a:pt x="1377" y="1443"/>
                    </a:lnTo>
                    <a:lnTo>
                      <a:pt x="1691" y="1504"/>
                    </a:lnTo>
                    <a:lnTo>
                      <a:pt x="1909" y="1095"/>
                    </a:lnTo>
                    <a:lnTo>
                      <a:pt x="1895" y="698"/>
                    </a:lnTo>
                    <a:lnTo>
                      <a:pt x="2146" y="231"/>
                    </a:lnTo>
                    <a:lnTo>
                      <a:pt x="2642" y="0"/>
                    </a:lnTo>
                    <a:lnTo>
                      <a:pt x="2232" y="399"/>
                    </a:lnTo>
                    <a:lnTo>
                      <a:pt x="2111" y="770"/>
                    </a:lnTo>
                    <a:lnTo>
                      <a:pt x="2111" y="1168"/>
                    </a:lnTo>
                    <a:lnTo>
                      <a:pt x="2350" y="985"/>
                    </a:lnTo>
                    <a:lnTo>
                      <a:pt x="2665" y="627"/>
                    </a:lnTo>
                    <a:lnTo>
                      <a:pt x="2861" y="420"/>
                    </a:lnTo>
                    <a:lnTo>
                      <a:pt x="2861" y="590"/>
                    </a:lnTo>
                    <a:lnTo>
                      <a:pt x="2642" y="1010"/>
                    </a:lnTo>
                    <a:lnTo>
                      <a:pt x="2280" y="1478"/>
                    </a:lnTo>
                    <a:lnTo>
                      <a:pt x="1981" y="1741"/>
                    </a:lnTo>
                    <a:lnTo>
                      <a:pt x="1773" y="1838"/>
                    </a:lnTo>
                    <a:lnTo>
                      <a:pt x="1773" y="1959"/>
                    </a:lnTo>
                    <a:lnTo>
                      <a:pt x="1918" y="2188"/>
                    </a:lnTo>
                    <a:lnTo>
                      <a:pt x="2063" y="2545"/>
                    </a:lnTo>
                    <a:lnTo>
                      <a:pt x="1955" y="2451"/>
                    </a:lnTo>
                    <a:lnTo>
                      <a:pt x="1836" y="2333"/>
                    </a:lnTo>
                    <a:lnTo>
                      <a:pt x="1665" y="2257"/>
                    </a:lnTo>
                    <a:lnTo>
                      <a:pt x="1508" y="2222"/>
                    </a:lnTo>
                    <a:lnTo>
                      <a:pt x="1388" y="2197"/>
                    </a:lnTo>
                    <a:lnTo>
                      <a:pt x="1460" y="2429"/>
                    </a:lnTo>
                    <a:lnTo>
                      <a:pt x="1691" y="2621"/>
                    </a:lnTo>
                    <a:lnTo>
                      <a:pt x="1872" y="2725"/>
                    </a:lnTo>
                    <a:lnTo>
                      <a:pt x="1785" y="2534"/>
                    </a:lnTo>
                    <a:lnTo>
                      <a:pt x="1981" y="2582"/>
                    </a:lnTo>
                    <a:lnTo>
                      <a:pt x="2052" y="2750"/>
                    </a:lnTo>
                    <a:lnTo>
                      <a:pt x="2025" y="2978"/>
                    </a:lnTo>
                    <a:lnTo>
                      <a:pt x="1895" y="3110"/>
                    </a:lnTo>
                    <a:lnTo>
                      <a:pt x="1665" y="3124"/>
                    </a:lnTo>
                    <a:lnTo>
                      <a:pt x="1425" y="3001"/>
                    </a:lnTo>
                    <a:lnTo>
                      <a:pt x="1326" y="2796"/>
                    </a:lnTo>
                    <a:lnTo>
                      <a:pt x="1181" y="2400"/>
                    </a:lnTo>
                    <a:lnTo>
                      <a:pt x="988" y="2284"/>
                    </a:lnTo>
                    <a:lnTo>
                      <a:pt x="485" y="2391"/>
                    </a:lnTo>
                    <a:lnTo>
                      <a:pt x="171" y="2568"/>
                    </a:lnTo>
                    <a:lnTo>
                      <a:pt x="134" y="2499"/>
                    </a:lnTo>
                    <a:lnTo>
                      <a:pt x="217" y="2319"/>
                    </a:lnTo>
                    <a:lnTo>
                      <a:pt x="0" y="2400"/>
                    </a:lnTo>
                    <a:lnTo>
                      <a:pt x="87" y="2271"/>
                    </a:lnTo>
                    <a:lnTo>
                      <a:pt x="362" y="2197"/>
                    </a:lnTo>
                    <a:lnTo>
                      <a:pt x="558" y="2222"/>
                    </a:lnTo>
                    <a:lnTo>
                      <a:pt x="676" y="2234"/>
                    </a:lnTo>
                    <a:lnTo>
                      <a:pt x="950" y="2174"/>
                    </a:lnTo>
                    <a:lnTo>
                      <a:pt x="988" y="132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5162760" y="5234760"/>
                <a:ext cx="41760" cy="150840"/>
              </a:xfrm>
              <a:custGeom>
                <a:avLst/>
                <a:gdLst/>
                <a:ahLst/>
                <a:rect l="l" t="t" r="r" b="b"/>
                <a:pathLst>
                  <a:path w="507" h="1428">
                    <a:moveTo>
                      <a:pt x="143" y="1404"/>
                    </a:moveTo>
                    <a:lnTo>
                      <a:pt x="180" y="1130"/>
                    </a:lnTo>
                    <a:lnTo>
                      <a:pt x="242" y="780"/>
                    </a:lnTo>
                    <a:lnTo>
                      <a:pt x="242" y="613"/>
                    </a:lnTo>
                    <a:lnTo>
                      <a:pt x="194" y="446"/>
                    </a:lnTo>
                    <a:lnTo>
                      <a:pt x="206" y="312"/>
                    </a:lnTo>
                    <a:lnTo>
                      <a:pt x="266" y="134"/>
                    </a:lnTo>
                    <a:lnTo>
                      <a:pt x="507" y="158"/>
                    </a:lnTo>
                    <a:lnTo>
                      <a:pt x="143" y="0"/>
                    </a:lnTo>
                    <a:lnTo>
                      <a:pt x="0" y="325"/>
                    </a:lnTo>
                    <a:lnTo>
                      <a:pt x="21" y="1428"/>
                    </a:lnTo>
                    <a:lnTo>
                      <a:pt x="143" y="140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5214240" y="5118480"/>
                <a:ext cx="164880" cy="452520"/>
              </a:xfrm>
              <a:custGeom>
                <a:avLst/>
                <a:gdLst/>
                <a:ahLst/>
                <a:rect l="l" t="t" r="r" b="b"/>
                <a:pathLst>
                  <a:path w="1991" h="4272">
                    <a:moveTo>
                      <a:pt x="48" y="182"/>
                    </a:moveTo>
                    <a:lnTo>
                      <a:pt x="181" y="445"/>
                    </a:lnTo>
                    <a:lnTo>
                      <a:pt x="134" y="922"/>
                    </a:lnTo>
                    <a:lnTo>
                      <a:pt x="325" y="240"/>
                    </a:lnTo>
                    <a:lnTo>
                      <a:pt x="409" y="217"/>
                    </a:lnTo>
                    <a:lnTo>
                      <a:pt x="495" y="339"/>
                    </a:lnTo>
                    <a:lnTo>
                      <a:pt x="468" y="468"/>
                    </a:lnTo>
                    <a:lnTo>
                      <a:pt x="371" y="694"/>
                    </a:lnTo>
                    <a:lnTo>
                      <a:pt x="543" y="519"/>
                    </a:lnTo>
                    <a:lnTo>
                      <a:pt x="613" y="540"/>
                    </a:lnTo>
                    <a:lnTo>
                      <a:pt x="251" y="1092"/>
                    </a:lnTo>
                    <a:lnTo>
                      <a:pt x="903" y="481"/>
                    </a:lnTo>
                    <a:lnTo>
                      <a:pt x="1304" y="661"/>
                    </a:lnTo>
                    <a:lnTo>
                      <a:pt x="1387" y="936"/>
                    </a:lnTo>
                    <a:lnTo>
                      <a:pt x="1664" y="1189"/>
                    </a:lnTo>
                    <a:lnTo>
                      <a:pt x="1687" y="1452"/>
                    </a:lnTo>
                    <a:lnTo>
                      <a:pt x="1822" y="1659"/>
                    </a:lnTo>
                    <a:lnTo>
                      <a:pt x="1738" y="1909"/>
                    </a:lnTo>
                    <a:lnTo>
                      <a:pt x="1422" y="2038"/>
                    </a:lnTo>
                    <a:lnTo>
                      <a:pt x="1433" y="2138"/>
                    </a:lnTo>
                    <a:lnTo>
                      <a:pt x="1712" y="2366"/>
                    </a:lnTo>
                    <a:lnTo>
                      <a:pt x="1496" y="2388"/>
                    </a:lnTo>
                    <a:lnTo>
                      <a:pt x="1253" y="2280"/>
                    </a:lnTo>
                    <a:lnTo>
                      <a:pt x="1747" y="2748"/>
                    </a:lnTo>
                    <a:lnTo>
                      <a:pt x="1687" y="2806"/>
                    </a:lnTo>
                    <a:lnTo>
                      <a:pt x="1350" y="2748"/>
                    </a:lnTo>
                    <a:lnTo>
                      <a:pt x="1350" y="3061"/>
                    </a:lnTo>
                    <a:lnTo>
                      <a:pt x="1182" y="3252"/>
                    </a:lnTo>
                    <a:lnTo>
                      <a:pt x="1073" y="3156"/>
                    </a:lnTo>
                    <a:lnTo>
                      <a:pt x="806" y="3636"/>
                    </a:lnTo>
                    <a:lnTo>
                      <a:pt x="506" y="3898"/>
                    </a:lnTo>
                    <a:lnTo>
                      <a:pt x="387" y="4199"/>
                    </a:lnTo>
                    <a:lnTo>
                      <a:pt x="481" y="4272"/>
                    </a:lnTo>
                    <a:lnTo>
                      <a:pt x="1290" y="3995"/>
                    </a:lnTo>
                    <a:lnTo>
                      <a:pt x="1991" y="2833"/>
                    </a:lnTo>
                    <a:lnTo>
                      <a:pt x="1991" y="1821"/>
                    </a:lnTo>
                    <a:lnTo>
                      <a:pt x="1798" y="1199"/>
                    </a:lnTo>
                    <a:lnTo>
                      <a:pt x="1653" y="947"/>
                    </a:lnTo>
                    <a:lnTo>
                      <a:pt x="1521" y="828"/>
                    </a:lnTo>
                    <a:lnTo>
                      <a:pt x="1387" y="613"/>
                    </a:lnTo>
                    <a:lnTo>
                      <a:pt x="831" y="358"/>
                    </a:lnTo>
                    <a:lnTo>
                      <a:pt x="686" y="433"/>
                    </a:lnTo>
                    <a:lnTo>
                      <a:pt x="613" y="358"/>
                    </a:lnTo>
                    <a:lnTo>
                      <a:pt x="578" y="228"/>
                    </a:lnTo>
                    <a:lnTo>
                      <a:pt x="361" y="108"/>
                    </a:lnTo>
                    <a:lnTo>
                      <a:pt x="244" y="97"/>
                    </a:lnTo>
                    <a:lnTo>
                      <a:pt x="134" y="0"/>
                    </a:lnTo>
                    <a:lnTo>
                      <a:pt x="0" y="11"/>
                    </a:lnTo>
                    <a:lnTo>
                      <a:pt x="48" y="18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5143320" y="5209200"/>
                <a:ext cx="36360" cy="259920"/>
              </a:xfrm>
              <a:custGeom>
                <a:avLst/>
                <a:gdLst/>
                <a:ahLst/>
                <a:rect l="l" t="t" r="r" b="b"/>
                <a:pathLst>
                  <a:path w="434" h="2461">
                    <a:moveTo>
                      <a:pt x="276" y="0"/>
                    </a:moveTo>
                    <a:lnTo>
                      <a:pt x="166" y="72"/>
                    </a:lnTo>
                    <a:lnTo>
                      <a:pt x="106" y="204"/>
                    </a:lnTo>
                    <a:lnTo>
                      <a:pt x="96" y="326"/>
                    </a:lnTo>
                    <a:lnTo>
                      <a:pt x="106" y="688"/>
                    </a:lnTo>
                    <a:lnTo>
                      <a:pt x="72" y="962"/>
                    </a:lnTo>
                    <a:lnTo>
                      <a:pt x="37" y="1275"/>
                    </a:lnTo>
                    <a:lnTo>
                      <a:pt x="0" y="1504"/>
                    </a:lnTo>
                    <a:lnTo>
                      <a:pt x="0" y="1780"/>
                    </a:lnTo>
                    <a:lnTo>
                      <a:pt x="10" y="2029"/>
                    </a:lnTo>
                    <a:lnTo>
                      <a:pt x="145" y="2461"/>
                    </a:lnTo>
                    <a:lnTo>
                      <a:pt x="434" y="2391"/>
                    </a:lnTo>
                    <a:lnTo>
                      <a:pt x="311" y="1993"/>
                    </a:lnTo>
                    <a:lnTo>
                      <a:pt x="263" y="1684"/>
                    </a:lnTo>
                    <a:lnTo>
                      <a:pt x="287" y="1407"/>
                    </a:lnTo>
                    <a:lnTo>
                      <a:pt x="337" y="1130"/>
                    </a:lnTo>
                    <a:lnTo>
                      <a:pt x="397" y="879"/>
                    </a:lnTo>
                    <a:lnTo>
                      <a:pt x="397" y="734"/>
                    </a:lnTo>
                    <a:lnTo>
                      <a:pt x="360" y="602"/>
                    </a:lnTo>
                    <a:lnTo>
                      <a:pt x="311" y="519"/>
                    </a:lnTo>
                    <a:lnTo>
                      <a:pt x="325" y="194"/>
                    </a:lnTo>
                    <a:lnTo>
                      <a:pt x="337" y="12"/>
                    </a:lnTo>
                    <a:lnTo>
                      <a:pt x="276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4936320" y="5408640"/>
                <a:ext cx="109440" cy="114120"/>
              </a:xfrm>
              <a:custGeom>
                <a:avLst/>
                <a:gdLst/>
                <a:ahLst/>
                <a:rect l="l" t="t" r="r" b="b"/>
                <a:pathLst>
                  <a:path w="1314" h="1079">
                    <a:moveTo>
                      <a:pt x="374" y="0"/>
                    </a:moveTo>
                    <a:lnTo>
                      <a:pt x="300" y="35"/>
                    </a:lnTo>
                    <a:lnTo>
                      <a:pt x="300" y="97"/>
                    </a:lnTo>
                    <a:lnTo>
                      <a:pt x="194" y="143"/>
                    </a:lnTo>
                    <a:lnTo>
                      <a:pt x="167" y="192"/>
                    </a:lnTo>
                    <a:lnTo>
                      <a:pt x="129" y="335"/>
                    </a:lnTo>
                    <a:lnTo>
                      <a:pt x="24" y="395"/>
                    </a:lnTo>
                    <a:lnTo>
                      <a:pt x="0" y="613"/>
                    </a:lnTo>
                    <a:lnTo>
                      <a:pt x="59" y="830"/>
                    </a:lnTo>
                    <a:lnTo>
                      <a:pt x="290" y="934"/>
                    </a:lnTo>
                    <a:lnTo>
                      <a:pt x="662" y="1056"/>
                    </a:lnTo>
                    <a:lnTo>
                      <a:pt x="938" y="1068"/>
                    </a:lnTo>
                    <a:lnTo>
                      <a:pt x="1241" y="1079"/>
                    </a:lnTo>
                    <a:lnTo>
                      <a:pt x="1217" y="925"/>
                    </a:lnTo>
                    <a:lnTo>
                      <a:pt x="1217" y="817"/>
                    </a:lnTo>
                    <a:lnTo>
                      <a:pt x="1229" y="699"/>
                    </a:lnTo>
                    <a:lnTo>
                      <a:pt x="1314" y="529"/>
                    </a:lnTo>
                    <a:lnTo>
                      <a:pt x="1229" y="480"/>
                    </a:lnTo>
                    <a:lnTo>
                      <a:pt x="1156" y="408"/>
                    </a:lnTo>
                    <a:lnTo>
                      <a:pt x="1096" y="309"/>
                    </a:lnTo>
                    <a:lnTo>
                      <a:pt x="1024" y="226"/>
                    </a:lnTo>
                    <a:lnTo>
                      <a:pt x="950" y="167"/>
                    </a:lnTo>
                    <a:lnTo>
                      <a:pt x="879" y="143"/>
                    </a:lnTo>
                    <a:lnTo>
                      <a:pt x="769" y="167"/>
                    </a:lnTo>
                    <a:lnTo>
                      <a:pt x="637" y="204"/>
                    </a:lnTo>
                    <a:lnTo>
                      <a:pt x="588" y="180"/>
                    </a:lnTo>
                    <a:lnTo>
                      <a:pt x="528" y="59"/>
                    </a:lnTo>
                    <a:lnTo>
                      <a:pt x="470" y="26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5085000" y="4984560"/>
                <a:ext cx="149760" cy="227880"/>
              </a:xfrm>
              <a:custGeom>
                <a:avLst/>
                <a:gdLst/>
                <a:ahLst/>
                <a:rect l="l" t="t" r="r" b="b"/>
                <a:pathLst>
                  <a:path w="1808" h="2151">
                    <a:moveTo>
                      <a:pt x="1784" y="591"/>
                    </a:moveTo>
                    <a:lnTo>
                      <a:pt x="1808" y="681"/>
                    </a:lnTo>
                    <a:lnTo>
                      <a:pt x="1803" y="758"/>
                    </a:lnTo>
                    <a:lnTo>
                      <a:pt x="1773" y="877"/>
                    </a:lnTo>
                    <a:lnTo>
                      <a:pt x="1698" y="1052"/>
                    </a:lnTo>
                    <a:lnTo>
                      <a:pt x="1573" y="1178"/>
                    </a:lnTo>
                    <a:lnTo>
                      <a:pt x="1459" y="1701"/>
                    </a:lnTo>
                    <a:lnTo>
                      <a:pt x="1289" y="1884"/>
                    </a:lnTo>
                    <a:lnTo>
                      <a:pt x="1164" y="2022"/>
                    </a:lnTo>
                    <a:lnTo>
                      <a:pt x="1091" y="2133"/>
                    </a:lnTo>
                    <a:lnTo>
                      <a:pt x="1045" y="2151"/>
                    </a:lnTo>
                    <a:lnTo>
                      <a:pt x="835" y="1868"/>
                    </a:lnTo>
                    <a:lnTo>
                      <a:pt x="657" y="1890"/>
                    </a:lnTo>
                    <a:lnTo>
                      <a:pt x="569" y="1890"/>
                    </a:lnTo>
                    <a:lnTo>
                      <a:pt x="512" y="1852"/>
                    </a:lnTo>
                    <a:lnTo>
                      <a:pt x="477" y="1791"/>
                    </a:lnTo>
                    <a:lnTo>
                      <a:pt x="429" y="1628"/>
                    </a:lnTo>
                    <a:lnTo>
                      <a:pt x="289" y="1351"/>
                    </a:lnTo>
                    <a:lnTo>
                      <a:pt x="141" y="1169"/>
                    </a:lnTo>
                    <a:lnTo>
                      <a:pt x="107" y="1022"/>
                    </a:lnTo>
                    <a:lnTo>
                      <a:pt x="76" y="872"/>
                    </a:lnTo>
                    <a:lnTo>
                      <a:pt x="28" y="653"/>
                    </a:lnTo>
                    <a:lnTo>
                      <a:pt x="0" y="353"/>
                    </a:lnTo>
                    <a:lnTo>
                      <a:pt x="24" y="208"/>
                    </a:lnTo>
                    <a:lnTo>
                      <a:pt x="76" y="99"/>
                    </a:lnTo>
                    <a:lnTo>
                      <a:pt x="1324" y="0"/>
                    </a:lnTo>
                    <a:lnTo>
                      <a:pt x="1698" y="433"/>
                    </a:lnTo>
                    <a:lnTo>
                      <a:pt x="1784" y="59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5099040" y="5072760"/>
                <a:ext cx="12240" cy="11880"/>
              </a:xfrm>
              <a:custGeom>
                <a:avLst/>
                <a:gdLst/>
                <a:ahLst/>
                <a:rect l="l" t="t" r="r" b="b"/>
                <a:pathLst>
                  <a:path w="152" h="113">
                    <a:moveTo>
                      <a:pt x="0" y="83"/>
                    </a:moveTo>
                    <a:lnTo>
                      <a:pt x="49" y="113"/>
                    </a:lnTo>
                    <a:lnTo>
                      <a:pt x="152" y="79"/>
                    </a:lnTo>
                    <a:lnTo>
                      <a:pt x="152" y="0"/>
                    </a:lnTo>
                    <a:lnTo>
                      <a:pt x="33" y="16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5145480" y="5060880"/>
                <a:ext cx="18360" cy="8280"/>
              </a:xfrm>
              <a:custGeom>
                <a:avLst/>
                <a:gdLst/>
                <a:ahLst/>
                <a:rect l="l" t="t" r="r" b="b"/>
                <a:pathLst>
                  <a:path w="231" h="83">
                    <a:moveTo>
                      <a:pt x="27" y="83"/>
                    </a:moveTo>
                    <a:lnTo>
                      <a:pt x="130" y="74"/>
                    </a:lnTo>
                    <a:lnTo>
                      <a:pt x="231" y="47"/>
                    </a:lnTo>
                    <a:lnTo>
                      <a:pt x="104" y="0"/>
                    </a:lnTo>
                    <a:lnTo>
                      <a:pt x="0" y="0"/>
                    </a:lnTo>
                    <a:lnTo>
                      <a:pt x="27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5085720" y="4953960"/>
                <a:ext cx="119880" cy="47160"/>
              </a:xfrm>
              <a:custGeom>
                <a:avLst/>
                <a:gdLst/>
                <a:ahLst/>
                <a:rect l="l" t="t" r="r" b="b"/>
                <a:pathLst>
                  <a:path w="1451" h="452">
                    <a:moveTo>
                      <a:pt x="110" y="41"/>
                    </a:moveTo>
                    <a:lnTo>
                      <a:pt x="237" y="0"/>
                    </a:lnTo>
                    <a:lnTo>
                      <a:pt x="603" y="0"/>
                    </a:lnTo>
                    <a:lnTo>
                      <a:pt x="1255" y="165"/>
                    </a:lnTo>
                    <a:lnTo>
                      <a:pt x="1451" y="391"/>
                    </a:lnTo>
                    <a:lnTo>
                      <a:pt x="1134" y="318"/>
                    </a:lnTo>
                    <a:lnTo>
                      <a:pt x="981" y="360"/>
                    </a:lnTo>
                    <a:lnTo>
                      <a:pt x="846" y="424"/>
                    </a:lnTo>
                    <a:lnTo>
                      <a:pt x="647" y="452"/>
                    </a:lnTo>
                    <a:lnTo>
                      <a:pt x="426" y="444"/>
                    </a:lnTo>
                    <a:lnTo>
                      <a:pt x="218" y="391"/>
                    </a:lnTo>
                    <a:lnTo>
                      <a:pt x="68" y="318"/>
                    </a:lnTo>
                    <a:lnTo>
                      <a:pt x="16" y="251"/>
                    </a:lnTo>
                    <a:lnTo>
                      <a:pt x="0" y="186"/>
                    </a:lnTo>
                    <a:lnTo>
                      <a:pt x="4" y="129"/>
                    </a:lnTo>
                    <a:lnTo>
                      <a:pt x="110" y="4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5179320" y="4998240"/>
                <a:ext cx="58320" cy="65880"/>
              </a:xfrm>
              <a:custGeom>
                <a:avLst/>
                <a:gdLst/>
                <a:ahLst/>
                <a:rect l="l" t="t" r="r" b="b"/>
                <a:pathLst>
                  <a:path w="700" h="629">
                    <a:moveTo>
                      <a:pt x="666" y="482"/>
                    </a:moveTo>
                    <a:lnTo>
                      <a:pt x="548" y="411"/>
                    </a:lnTo>
                    <a:lnTo>
                      <a:pt x="449" y="405"/>
                    </a:lnTo>
                    <a:lnTo>
                      <a:pt x="392" y="482"/>
                    </a:lnTo>
                    <a:lnTo>
                      <a:pt x="378" y="629"/>
                    </a:lnTo>
                    <a:lnTo>
                      <a:pt x="173" y="604"/>
                    </a:lnTo>
                    <a:lnTo>
                      <a:pt x="182" y="528"/>
                    </a:lnTo>
                    <a:lnTo>
                      <a:pt x="139" y="433"/>
                    </a:lnTo>
                    <a:lnTo>
                      <a:pt x="76" y="374"/>
                    </a:lnTo>
                    <a:lnTo>
                      <a:pt x="36" y="350"/>
                    </a:lnTo>
                    <a:lnTo>
                      <a:pt x="0" y="141"/>
                    </a:lnTo>
                    <a:lnTo>
                      <a:pt x="286" y="0"/>
                    </a:lnTo>
                    <a:lnTo>
                      <a:pt x="588" y="110"/>
                    </a:lnTo>
                    <a:lnTo>
                      <a:pt x="632" y="360"/>
                    </a:lnTo>
                    <a:lnTo>
                      <a:pt x="700" y="447"/>
                    </a:lnTo>
                    <a:lnTo>
                      <a:pt x="666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5173200" y="4985640"/>
                <a:ext cx="64080" cy="67320"/>
              </a:xfrm>
              <a:custGeom>
                <a:avLst/>
                <a:gdLst/>
                <a:ahLst/>
                <a:rect l="l" t="t" r="r" b="b"/>
                <a:pathLst>
                  <a:path w="775" h="641">
                    <a:moveTo>
                      <a:pt x="747" y="575"/>
                    </a:moveTo>
                    <a:lnTo>
                      <a:pt x="701" y="518"/>
                    </a:lnTo>
                    <a:lnTo>
                      <a:pt x="643" y="461"/>
                    </a:lnTo>
                    <a:lnTo>
                      <a:pt x="608" y="397"/>
                    </a:lnTo>
                    <a:lnTo>
                      <a:pt x="617" y="309"/>
                    </a:lnTo>
                    <a:lnTo>
                      <a:pt x="586" y="261"/>
                    </a:lnTo>
                    <a:lnTo>
                      <a:pt x="530" y="230"/>
                    </a:lnTo>
                    <a:lnTo>
                      <a:pt x="496" y="226"/>
                    </a:lnTo>
                    <a:lnTo>
                      <a:pt x="440" y="230"/>
                    </a:lnTo>
                    <a:lnTo>
                      <a:pt x="488" y="316"/>
                    </a:lnTo>
                    <a:lnTo>
                      <a:pt x="571" y="397"/>
                    </a:lnTo>
                    <a:lnTo>
                      <a:pt x="440" y="316"/>
                    </a:lnTo>
                    <a:lnTo>
                      <a:pt x="343" y="274"/>
                    </a:lnTo>
                    <a:lnTo>
                      <a:pt x="242" y="283"/>
                    </a:lnTo>
                    <a:lnTo>
                      <a:pt x="161" y="288"/>
                    </a:lnTo>
                    <a:lnTo>
                      <a:pt x="118" y="300"/>
                    </a:lnTo>
                    <a:lnTo>
                      <a:pt x="152" y="371"/>
                    </a:lnTo>
                    <a:lnTo>
                      <a:pt x="320" y="378"/>
                    </a:lnTo>
                    <a:lnTo>
                      <a:pt x="454" y="447"/>
                    </a:lnTo>
                    <a:lnTo>
                      <a:pt x="336" y="447"/>
                    </a:lnTo>
                    <a:lnTo>
                      <a:pt x="384" y="518"/>
                    </a:lnTo>
                    <a:lnTo>
                      <a:pt x="413" y="602"/>
                    </a:lnTo>
                    <a:lnTo>
                      <a:pt x="378" y="641"/>
                    </a:lnTo>
                    <a:lnTo>
                      <a:pt x="274" y="586"/>
                    </a:lnTo>
                    <a:lnTo>
                      <a:pt x="182" y="542"/>
                    </a:lnTo>
                    <a:lnTo>
                      <a:pt x="161" y="503"/>
                    </a:lnTo>
                    <a:lnTo>
                      <a:pt x="90" y="480"/>
                    </a:lnTo>
                    <a:lnTo>
                      <a:pt x="57" y="378"/>
                    </a:lnTo>
                    <a:lnTo>
                      <a:pt x="48" y="239"/>
                    </a:lnTo>
                    <a:lnTo>
                      <a:pt x="23" y="191"/>
                    </a:lnTo>
                    <a:lnTo>
                      <a:pt x="39" y="136"/>
                    </a:lnTo>
                    <a:lnTo>
                      <a:pt x="0" y="127"/>
                    </a:lnTo>
                    <a:lnTo>
                      <a:pt x="48" y="78"/>
                    </a:lnTo>
                    <a:lnTo>
                      <a:pt x="175" y="63"/>
                    </a:lnTo>
                    <a:lnTo>
                      <a:pt x="343" y="85"/>
                    </a:lnTo>
                    <a:lnTo>
                      <a:pt x="518" y="0"/>
                    </a:lnTo>
                    <a:lnTo>
                      <a:pt x="622" y="94"/>
                    </a:lnTo>
                    <a:lnTo>
                      <a:pt x="678" y="182"/>
                    </a:lnTo>
                    <a:lnTo>
                      <a:pt x="692" y="274"/>
                    </a:lnTo>
                    <a:lnTo>
                      <a:pt x="701" y="406"/>
                    </a:lnTo>
                    <a:lnTo>
                      <a:pt x="705" y="489"/>
                    </a:lnTo>
                    <a:lnTo>
                      <a:pt x="775" y="595"/>
                    </a:lnTo>
                    <a:lnTo>
                      <a:pt x="747" y="57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4738320" y="5073480"/>
                <a:ext cx="357840" cy="338760"/>
              </a:xfrm>
              <a:custGeom>
                <a:avLst/>
                <a:gdLst/>
                <a:ahLst/>
                <a:rect l="l" t="t" r="r" b="b"/>
                <a:pathLst>
                  <a:path w="4318" h="3200">
                    <a:moveTo>
                      <a:pt x="4072" y="2092"/>
                    </a:moveTo>
                    <a:lnTo>
                      <a:pt x="4095" y="1897"/>
                    </a:lnTo>
                    <a:lnTo>
                      <a:pt x="4208" y="1706"/>
                    </a:lnTo>
                    <a:lnTo>
                      <a:pt x="4318" y="1345"/>
                    </a:lnTo>
                    <a:lnTo>
                      <a:pt x="4249" y="1246"/>
                    </a:lnTo>
                    <a:lnTo>
                      <a:pt x="4090" y="1246"/>
                    </a:lnTo>
                    <a:lnTo>
                      <a:pt x="3986" y="1086"/>
                    </a:lnTo>
                    <a:lnTo>
                      <a:pt x="3929" y="1035"/>
                    </a:lnTo>
                    <a:lnTo>
                      <a:pt x="3909" y="1035"/>
                    </a:lnTo>
                    <a:lnTo>
                      <a:pt x="3808" y="1057"/>
                    </a:lnTo>
                    <a:lnTo>
                      <a:pt x="3498" y="561"/>
                    </a:lnTo>
                    <a:lnTo>
                      <a:pt x="3329" y="459"/>
                    </a:lnTo>
                    <a:lnTo>
                      <a:pt x="3087" y="139"/>
                    </a:lnTo>
                    <a:lnTo>
                      <a:pt x="2935" y="99"/>
                    </a:lnTo>
                    <a:lnTo>
                      <a:pt x="2834" y="132"/>
                    </a:lnTo>
                    <a:lnTo>
                      <a:pt x="2723" y="113"/>
                    </a:lnTo>
                    <a:lnTo>
                      <a:pt x="2615" y="148"/>
                    </a:lnTo>
                    <a:lnTo>
                      <a:pt x="2327" y="180"/>
                    </a:lnTo>
                    <a:lnTo>
                      <a:pt x="2237" y="148"/>
                    </a:lnTo>
                    <a:lnTo>
                      <a:pt x="2126" y="189"/>
                    </a:lnTo>
                    <a:lnTo>
                      <a:pt x="2057" y="113"/>
                    </a:lnTo>
                    <a:lnTo>
                      <a:pt x="1973" y="31"/>
                    </a:lnTo>
                    <a:lnTo>
                      <a:pt x="1914" y="0"/>
                    </a:lnTo>
                    <a:lnTo>
                      <a:pt x="1232" y="249"/>
                    </a:lnTo>
                    <a:lnTo>
                      <a:pt x="1171" y="420"/>
                    </a:lnTo>
                    <a:lnTo>
                      <a:pt x="853" y="589"/>
                    </a:lnTo>
                    <a:lnTo>
                      <a:pt x="632" y="627"/>
                    </a:lnTo>
                    <a:lnTo>
                      <a:pt x="441" y="807"/>
                    </a:lnTo>
                    <a:lnTo>
                      <a:pt x="413" y="910"/>
                    </a:lnTo>
                    <a:lnTo>
                      <a:pt x="371" y="1015"/>
                    </a:lnTo>
                    <a:lnTo>
                      <a:pt x="259" y="1356"/>
                    </a:lnTo>
                    <a:lnTo>
                      <a:pt x="210" y="1624"/>
                    </a:lnTo>
                    <a:lnTo>
                      <a:pt x="270" y="1854"/>
                    </a:lnTo>
                    <a:lnTo>
                      <a:pt x="180" y="2075"/>
                    </a:lnTo>
                    <a:lnTo>
                      <a:pt x="90" y="2103"/>
                    </a:lnTo>
                    <a:lnTo>
                      <a:pt x="0" y="2193"/>
                    </a:lnTo>
                    <a:lnTo>
                      <a:pt x="191" y="2792"/>
                    </a:lnTo>
                    <a:lnTo>
                      <a:pt x="399" y="2861"/>
                    </a:lnTo>
                    <a:lnTo>
                      <a:pt x="761" y="2613"/>
                    </a:lnTo>
                    <a:lnTo>
                      <a:pt x="1042" y="1945"/>
                    </a:lnTo>
                    <a:lnTo>
                      <a:pt x="1211" y="2262"/>
                    </a:lnTo>
                    <a:lnTo>
                      <a:pt x="1303" y="2771"/>
                    </a:lnTo>
                    <a:lnTo>
                      <a:pt x="1232" y="2903"/>
                    </a:lnTo>
                    <a:lnTo>
                      <a:pt x="1204" y="3129"/>
                    </a:lnTo>
                    <a:lnTo>
                      <a:pt x="1261" y="3200"/>
                    </a:lnTo>
                    <a:lnTo>
                      <a:pt x="3408" y="2892"/>
                    </a:lnTo>
                    <a:lnTo>
                      <a:pt x="3355" y="1517"/>
                    </a:lnTo>
                    <a:lnTo>
                      <a:pt x="3569" y="1695"/>
                    </a:lnTo>
                    <a:lnTo>
                      <a:pt x="3707" y="1714"/>
                    </a:lnTo>
                    <a:lnTo>
                      <a:pt x="3777" y="1846"/>
                    </a:lnTo>
                    <a:lnTo>
                      <a:pt x="3938" y="1854"/>
                    </a:lnTo>
                    <a:lnTo>
                      <a:pt x="4028" y="1994"/>
                    </a:lnTo>
                    <a:lnTo>
                      <a:pt x="4072" y="20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4921920" y="5371920"/>
                <a:ext cx="33120" cy="29520"/>
              </a:xfrm>
              <a:custGeom>
                <a:avLst/>
                <a:gdLst/>
                <a:ahLst/>
                <a:rect l="l" t="t" r="r" b="b"/>
                <a:pathLst>
                  <a:path w="400" h="279">
                    <a:moveTo>
                      <a:pt x="279" y="0"/>
                    </a:moveTo>
                    <a:lnTo>
                      <a:pt x="130" y="0"/>
                    </a:lnTo>
                    <a:lnTo>
                      <a:pt x="8" y="83"/>
                    </a:lnTo>
                    <a:lnTo>
                      <a:pt x="0" y="242"/>
                    </a:lnTo>
                    <a:lnTo>
                      <a:pt x="40" y="279"/>
                    </a:lnTo>
                    <a:lnTo>
                      <a:pt x="391" y="210"/>
                    </a:lnTo>
                    <a:lnTo>
                      <a:pt x="400" y="162"/>
                    </a:lnTo>
                    <a:lnTo>
                      <a:pt x="349" y="30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4756320" y="5174640"/>
                <a:ext cx="18360" cy="104040"/>
              </a:xfrm>
              <a:custGeom>
                <a:avLst/>
                <a:gdLst/>
                <a:ahLst/>
                <a:rect l="l" t="t" r="r" b="b"/>
                <a:pathLst>
                  <a:path w="231" h="977">
                    <a:moveTo>
                      <a:pt x="183" y="0"/>
                    </a:moveTo>
                    <a:lnTo>
                      <a:pt x="183" y="283"/>
                    </a:lnTo>
                    <a:lnTo>
                      <a:pt x="231" y="659"/>
                    </a:lnTo>
                    <a:lnTo>
                      <a:pt x="90" y="648"/>
                    </a:lnTo>
                    <a:lnTo>
                      <a:pt x="210" y="856"/>
                    </a:lnTo>
                    <a:lnTo>
                      <a:pt x="148" y="977"/>
                    </a:lnTo>
                    <a:lnTo>
                      <a:pt x="0" y="687"/>
                    </a:lnTo>
                    <a:lnTo>
                      <a:pt x="0" y="560"/>
                    </a:lnTo>
                    <a:lnTo>
                      <a:pt x="130" y="129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4743000" y="5216760"/>
                <a:ext cx="83160" cy="158400"/>
              </a:xfrm>
              <a:custGeom>
                <a:avLst/>
                <a:gdLst/>
                <a:ahLst/>
                <a:rect l="l" t="t" r="r" b="b"/>
                <a:pathLst>
                  <a:path w="1008" h="1494">
                    <a:moveTo>
                      <a:pt x="0" y="778"/>
                    </a:moveTo>
                    <a:lnTo>
                      <a:pt x="28" y="837"/>
                    </a:lnTo>
                    <a:lnTo>
                      <a:pt x="28" y="975"/>
                    </a:lnTo>
                    <a:lnTo>
                      <a:pt x="99" y="1156"/>
                    </a:lnTo>
                    <a:lnTo>
                      <a:pt x="159" y="1048"/>
                    </a:lnTo>
                    <a:lnTo>
                      <a:pt x="281" y="1305"/>
                    </a:lnTo>
                    <a:lnTo>
                      <a:pt x="120" y="1378"/>
                    </a:lnTo>
                    <a:lnTo>
                      <a:pt x="342" y="1494"/>
                    </a:lnTo>
                    <a:lnTo>
                      <a:pt x="648" y="1385"/>
                    </a:lnTo>
                    <a:lnTo>
                      <a:pt x="839" y="1057"/>
                    </a:lnTo>
                    <a:lnTo>
                      <a:pt x="883" y="820"/>
                    </a:lnTo>
                    <a:lnTo>
                      <a:pt x="911" y="589"/>
                    </a:lnTo>
                    <a:lnTo>
                      <a:pt x="1008" y="310"/>
                    </a:lnTo>
                    <a:lnTo>
                      <a:pt x="869" y="30"/>
                    </a:lnTo>
                    <a:lnTo>
                      <a:pt x="812" y="0"/>
                    </a:lnTo>
                    <a:lnTo>
                      <a:pt x="710" y="279"/>
                    </a:lnTo>
                    <a:lnTo>
                      <a:pt x="779" y="350"/>
                    </a:lnTo>
                    <a:lnTo>
                      <a:pt x="890" y="400"/>
                    </a:lnTo>
                    <a:lnTo>
                      <a:pt x="770" y="679"/>
                    </a:lnTo>
                    <a:lnTo>
                      <a:pt x="770" y="848"/>
                    </a:lnTo>
                    <a:lnTo>
                      <a:pt x="648" y="1026"/>
                    </a:lnTo>
                    <a:lnTo>
                      <a:pt x="438" y="1057"/>
                    </a:lnTo>
                    <a:lnTo>
                      <a:pt x="307" y="589"/>
                    </a:lnTo>
                    <a:lnTo>
                      <a:pt x="69" y="736"/>
                    </a:lnTo>
                    <a:lnTo>
                      <a:pt x="0" y="77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4820400" y="5123520"/>
                <a:ext cx="195120" cy="290520"/>
              </a:xfrm>
              <a:custGeom>
                <a:avLst/>
                <a:gdLst/>
                <a:ahLst/>
                <a:rect l="l" t="t" r="r" b="b"/>
                <a:pathLst>
                  <a:path w="2355" h="2742">
                    <a:moveTo>
                      <a:pt x="303" y="558"/>
                    </a:moveTo>
                    <a:lnTo>
                      <a:pt x="413" y="639"/>
                    </a:lnTo>
                    <a:lnTo>
                      <a:pt x="289" y="1119"/>
                    </a:lnTo>
                    <a:lnTo>
                      <a:pt x="289" y="1398"/>
                    </a:lnTo>
                    <a:lnTo>
                      <a:pt x="630" y="1476"/>
                    </a:lnTo>
                    <a:lnTo>
                      <a:pt x="604" y="411"/>
                    </a:lnTo>
                    <a:lnTo>
                      <a:pt x="630" y="208"/>
                    </a:lnTo>
                    <a:lnTo>
                      <a:pt x="503" y="150"/>
                    </a:lnTo>
                    <a:lnTo>
                      <a:pt x="382" y="231"/>
                    </a:lnTo>
                    <a:lnTo>
                      <a:pt x="360" y="208"/>
                    </a:lnTo>
                    <a:lnTo>
                      <a:pt x="450" y="143"/>
                    </a:lnTo>
                    <a:lnTo>
                      <a:pt x="503" y="72"/>
                    </a:lnTo>
                    <a:lnTo>
                      <a:pt x="833" y="0"/>
                    </a:lnTo>
                    <a:lnTo>
                      <a:pt x="991" y="84"/>
                    </a:lnTo>
                    <a:lnTo>
                      <a:pt x="943" y="121"/>
                    </a:lnTo>
                    <a:lnTo>
                      <a:pt x="833" y="112"/>
                    </a:lnTo>
                    <a:lnTo>
                      <a:pt x="782" y="252"/>
                    </a:lnTo>
                    <a:lnTo>
                      <a:pt x="1092" y="1558"/>
                    </a:lnTo>
                    <a:lnTo>
                      <a:pt x="1413" y="1747"/>
                    </a:lnTo>
                    <a:lnTo>
                      <a:pt x="1965" y="2035"/>
                    </a:lnTo>
                    <a:lnTo>
                      <a:pt x="1905" y="1875"/>
                    </a:lnTo>
                    <a:lnTo>
                      <a:pt x="2207" y="1993"/>
                    </a:lnTo>
                    <a:lnTo>
                      <a:pt x="2297" y="1773"/>
                    </a:lnTo>
                    <a:lnTo>
                      <a:pt x="2345" y="1785"/>
                    </a:lnTo>
                    <a:lnTo>
                      <a:pt x="2306" y="2145"/>
                    </a:lnTo>
                    <a:lnTo>
                      <a:pt x="2355" y="2343"/>
                    </a:lnTo>
                    <a:lnTo>
                      <a:pt x="2133" y="2393"/>
                    </a:lnTo>
                    <a:lnTo>
                      <a:pt x="1598" y="2356"/>
                    </a:lnTo>
                    <a:lnTo>
                      <a:pt x="1723" y="2272"/>
                    </a:lnTo>
                    <a:lnTo>
                      <a:pt x="1644" y="2126"/>
                    </a:lnTo>
                    <a:lnTo>
                      <a:pt x="1732" y="2085"/>
                    </a:lnTo>
                    <a:lnTo>
                      <a:pt x="1503" y="2015"/>
                    </a:lnTo>
                    <a:lnTo>
                      <a:pt x="1503" y="2165"/>
                    </a:lnTo>
                    <a:lnTo>
                      <a:pt x="1444" y="2334"/>
                    </a:lnTo>
                    <a:lnTo>
                      <a:pt x="1246" y="2405"/>
                    </a:lnTo>
                    <a:lnTo>
                      <a:pt x="1273" y="2384"/>
                    </a:lnTo>
                    <a:lnTo>
                      <a:pt x="1135" y="2043"/>
                    </a:lnTo>
                    <a:lnTo>
                      <a:pt x="863" y="1868"/>
                    </a:lnTo>
                    <a:lnTo>
                      <a:pt x="591" y="1826"/>
                    </a:lnTo>
                    <a:lnTo>
                      <a:pt x="663" y="1916"/>
                    </a:lnTo>
                    <a:lnTo>
                      <a:pt x="624" y="1936"/>
                    </a:lnTo>
                    <a:lnTo>
                      <a:pt x="773" y="1976"/>
                    </a:lnTo>
                    <a:lnTo>
                      <a:pt x="1054" y="2204"/>
                    </a:lnTo>
                    <a:lnTo>
                      <a:pt x="1171" y="2322"/>
                    </a:lnTo>
                    <a:lnTo>
                      <a:pt x="962" y="2315"/>
                    </a:lnTo>
                    <a:lnTo>
                      <a:pt x="734" y="2246"/>
                    </a:lnTo>
                    <a:lnTo>
                      <a:pt x="923" y="2405"/>
                    </a:lnTo>
                    <a:lnTo>
                      <a:pt x="743" y="2463"/>
                    </a:lnTo>
                    <a:lnTo>
                      <a:pt x="521" y="2601"/>
                    </a:lnTo>
                    <a:lnTo>
                      <a:pt x="851" y="2525"/>
                    </a:lnTo>
                    <a:lnTo>
                      <a:pt x="552" y="2742"/>
                    </a:lnTo>
                    <a:lnTo>
                      <a:pt x="250" y="2742"/>
                    </a:lnTo>
                    <a:lnTo>
                      <a:pt x="213" y="2652"/>
                    </a:lnTo>
                    <a:lnTo>
                      <a:pt x="303" y="2272"/>
                    </a:lnTo>
                    <a:lnTo>
                      <a:pt x="270" y="2114"/>
                    </a:lnTo>
                    <a:lnTo>
                      <a:pt x="0" y="1178"/>
                    </a:lnTo>
                    <a:lnTo>
                      <a:pt x="81" y="720"/>
                    </a:lnTo>
                    <a:lnTo>
                      <a:pt x="303" y="55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4912560" y="5083200"/>
                <a:ext cx="70560" cy="65160"/>
              </a:xfrm>
              <a:custGeom>
                <a:avLst/>
                <a:gdLst/>
                <a:ahLst/>
                <a:rect l="l" t="t" r="r" b="b"/>
                <a:pathLst>
                  <a:path w="851" h="616">
                    <a:moveTo>
                      <a:pt x="0" y="385"/>
                    </a:moveTo>
                    <a:lnTo>
                      <a:pt x="77" y="207"/>
                    </a:lnTo>
                    <a:lnTo>
                      <a:pt x="77" y="348"/>
                    </a:lnTo>
                    <a:lnTo>
                      <a:pt x="299" y="97"/>
                    </a:lnTo>
                    <a:lnTo>
                      <a:pt x="378" y="616"/>
                    </a:lnTo>
                    <a:lnTo>
                      <a:pt x="417" y="227"/>
                    </a:lnTo>
                    <a:lnTo>
                      <a:pt x="618" y="69"/>
                    </a:lnTo>
                    <a:lnTo>
                      <a:pt x="740" y="97"/>
                    </a:lnTo>
                    <a:lnTo>
                      <a:pt x="851" y="7"/>
                    </a:lnTo>
                    <a:lnTo>
                      <a:pt x="721" y="40"/>
                    </a:lnTo>
                    <a:lnTo>
                      <a:pt x="653" y="40"/>
                    </a:lnTo>
                    <a:lnTo>
                      <a:pt x="618" y="0"/>
                    </a:lnTo>
                    <a:lnTo>
                      <a:pt x="521" y="69"/>
                    </a:lnTo>
                    <a:lnTo>
                      <a:pt x="389" y="47"/>
                    </a:lnTo>
                    <a:lnTo>
                      <a:pt x="279" y="40"/>
                    </a:lnTo>
                    <a:lnTo>
                      <a:pt x="118" y="77"/>
                    </a:lnTo>
                    <a:lnTo>
                      <a:pt x="21" y="189"/>
                    </a:lnTo>
                    <a:lnTo>
                      <a:pt x="0" y="38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4989600" y="5143320"/>
                <a:ext cx="66600" cy="167760"/>
              </a:xfrm>
              <a:custGeom>
                <a:avLst/>
                <a:gdLst/>
                <a:ahLst/>
                <a:rect l="l" t="t" r="r" b="b"/>
                <a:pathLst>
                  <a:path w="811" h="1587">
                    <a:moveTo>
                      <a:pt x="481" y="171"/>
                    </a:moveTo>
                    <a:lnTo>
                      <a:pt x="481" y="429"/>
                    </a:lnTo>
                    <a:lnTo>
                      <a:pt x="380" y="600"/>
                    </a:lnTo>
                    <a:lnTo>
                      <a:pt x="239" y="429"/>
                    </a:lnTo>
                    <a:lnTo>
                      <a:pt x="128" y="259"/>
                    </a:lnTo>
                    <a:lnTo>
                      <a:pt x="239" y="860"/>
                    </a:lnTo>
                    <a:lnTo>
                      <a:pt x="207" y="1257"/>
                    </a:lnTo>
                    <a:lnTo>
                      <a:pt x="0" y="1556"/>
                    </a:lnTo>
                    <a:lnTo>
                      <a:pt x="170" y="1587"/>
                    </a:lnTo>
                    <a:lnTo>
                      <a:pt x="361" y="1483"/>
                    </a:lnTo>
                    <a:lnTo>
                      <a:pt x="318" y="840"/>
                    </a:lnTo>
                    <a:lnTo>
                      <a:pt x="509" y="1049"/>
                    </a:lnTo>
                    <a:lnTo>
                      <a:pt x="640" y="1049"/>
                    </a:lnTo>
                    <a:lnTo>
                      <a:pt x="541" y="939"/>
                    </a:lnTo>
                    <a:lnTo>
                      <a:pt x="521" y="770"/>
                    </a:lnTo>
                    <a:lnTo>
                      <a:pt x="582" y="600"/>
                    </a:lnTo>
                    <a:lnTo>
                      <a:pt x="659" y="489"/>
                    </a:lnTo>
                    <a:lnTo>
                      <a:pt x="721" y="392"/>
                    </a:lnTo>
                    <a:lnTo>
                      <a:pt x="762" y="528"/>
                    </a:lnTo>
                    <a:lnTo>
                      <a:pt x="811" y="400"/>
                    </a:lnTo>
                    <a:lnTo>
                      <a:pt x="780" y="293"/>
                    </a:lnTo>
                    <a:lnTo>
                      <a:pt x="721" y="150"/>
                    </a:lnTo>
                    <a:lnTo>
                      <a:pt x="548" y="0"/>
                    </a:lnTo>
                    <a:lnTo>
                      <a:pt x="481" y="17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5051160" y="5200920"/>
                <a:ext cx="45360" cy="64080"/>
              </a:xfrm>
              <a:custGeom>
                <a:avLst/>
                <a:gdLst/>
                <a:ahLst/>
                <a:rect l="l" t="t" r="r" b="b"/>
                <a:pathLst>
                  <a:path w="552" h="609">
                    <a:moveTo>
                      <a:pt x="152" y="0"/>
                    </a:moveTo>
                    <a:lnTo>
                      <a:pt x="31" y="152"/>
                    </a:lnTo>
                    <a:lnTo>
                      <a:pt x="132" y="293"/>
                    </a:lnTo>
                    <a:lnTo>
                      <a:pt x="373" y="133"/>
                    </a:lnTo>
                    <a:lnTo>
                      <a:pt x="453" y="293"/>
                    </a:lnTo>
                    <a:lnTo>
                      <a:pt x="0" y="609"/>
                    </a:lnTo>
                    <a:lnTo>
                      <a:pt x="420" y="541"/>
                    </a:lnTo>
                    <a:lnTo>
                      <a:pt x="552" y="133"/>
                    </a:lnTo>
                    <a:lnTo>
                      <a:pt x="453" y="42"/>
                    </a:lnTo>
                    <a:lnTo>
                      <a:pt x="299" y="62"/>
                    </a:lnTo>
                    <a:lnTo>
                      <a:pt x="193" y="23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4872240" y="5118480"/>
                <a:ext cx="68040" cy="259920"/>
              </a:xfrm>
              <a:custGeom>
                <a:avLst/>
                <a:gdLst/>
                <a:ahLst/>
                <a:rect l="l" t="t" r="r" b="b"/>
                <a:pathLst>
                  <a:path w="820" h="2453">
                    <a:moveTo>
                      <a:pt x="186" y="21"/>
                    </a:moveTo>
                    <a:lnTo>
                      <a:pt x="178" y="110"/>
                    </a:lnTo>
                    <a:lnTo>
                      <a:pt x="136" y="198"/>
                    </a:lnTo>
                    <a:lnTo>
                      <a:pt x="119" y="228"/>
                    </a:lnTo>
                    <a:lnTo>
                      <a:pt x="186" y="309"/>
                    </a:lnTo>
                    <a:lnTo>
                      <a:pt x="288" y="487"/>
                    </a:lnTo>
                    <a:lnTo>
                      <a:pt x="400" y="817"/>
                    </a:lnTo>
                    <a:lnTo>
                      <a:pt x="520" y="1245"/>
                    </a:lnTo>
                    <a:lnTo>
                      <a:pt x="693" y="1806"/>
                    </a:lnTo>
                    <a:lnTo>
                      <a:pt x="820" y="2125"/>
                    </a:lnTo>
                    <a:lnTo>
                      <a:pt x="672" y="2453"/>
                    </a:lnTo>
                    <a:lnTo>
                      <a:pt x="347" y="2204"/>
                    </a:lnTo>
                    <a:lnTo>
                      <a:pt x="68" y="708"/>
                    </a:lnTo>
                    <a:lnTo>
                      <a:pt x="46" y="440"/>
                    </a:lnTo>
                    <a:lnTo>
                      <a:pt x="68" y="270"/>
                    </a:lnTo>
                    <a:lnTo>
                      <a:pt x="68" y="228"/>
                    </a:lnTo>
                    <a:lnTo>
                      <a:pt x="0" y="141"/>
                    </a:lnTo>
                    <a:lnTo>
                      <a:pt x="6" y="0"/>
                    </a:lnTo>
                    <a:lnTo>
                      <a:pt x="149" y="11"/>
                    </a:lnTo>
                    <a:lnTo>
                      <a:pt x="186" y="2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4869000" y="5118480"/>
                <a:ext cx="71640" cy="262440"/>
              </a:xfrm>
              <a:custGeom>
                <a:avLst/>
                <a:gdLst/>
                <a:ahLst/>
                <a:rect l="l" t="t" r="r" b="b"/>
                <a:pathLst>
                  <a:path w="862" h="2474">
                    <a:moveTo>
                      <a:pt x="152" y="11"/>
                    </a:moveTo>
                    <a:lnTo>
                      <a:pt x="129" y="251"/>
                    </a:lnTo>
                    <a:lnTo>
                      <a:pt x="178" y="670"/>
                    </a:lnTo>
                    <a:lnTo>
                      <a:pt x="281" y="1141"/>
                    </a:lnTo>
                    <a:lnTo>
                      <a:pt x="461" y="1863"/>
                    </a:lnTo>
                    <a:lnTo>
                      <a:pt x="499" y="2174"/>
                    </a:lnTo>
                    <a:lnTo>
                      <a:pt x="691" y="2370"/>
                    </a:lnTo>
                    <a:lnTo>
                      <a:pt x="811" y="2112"/>
                    </a:lnTo>
                    <a:lnTo>
                      <a:pt x="629" y="1694"/>
                    </a:lnTo>
                    <a:lnTo>
                      <a:pt x="519" y="1257"/>
                    </a:lnTo>
                    <a:lnTo>
                      <a:pt x="422" y="876"/>
                    </a:lnTo>
                    <a:lnTo>
                      <a:pt x="288" y="468"/>
                    </a:lnTo>
                    <a:lnTo>
                      <a:pt x="211" y="309"/>
                    </a:lnTo>
                    <a:lnTo>
                      <a:pt x="170" y="228"/>
                    </a:lnTo>
                    <a:lnTo>
                      <a:pt x="288" y="389"/>
                    </a:lnTo>
                    <a:lnTo>
                      <a:pt x="409" y="738"/>
                    </a:lnTo>
                    <a:lnTo>
                      <a:pt x="562" y="1195"/>
                    </a:lnTo>
                    <a:lnTo>
                      <a:pt x="714" y="1705"/>
                    </a:lnTo>
                    <a:lnTo>
                      <a:pt x="783" y="1936"/>
                    </a:lnTo>
                    <a:lnTo>
                      <a:pt x="862" y="2112"/>
                    </a:lnTo>
                    <a:lnTo>
                      <a:pt x="721" y="2474"/>
                    </a:lnTo>
                    <a:lnTo>
                      <a:pt x="380" y="2193"/>
                    </a:lnTo>
                    <a:lnTo>
                      <a:pt x="251" y="1505"/>
                    </a:lnTo>
                    <a:lnTo>
                      <a:pt x="119" y="717"/>
                    </a:lnTo>
                    <a:lnTo>
                      <a:pt x="110" y="440"/>
                    </a:lnTo>
                    <a:lnTo>
                      <a:pt x="88" y="228"/>
                    </a:lnTo>
                    <a:lnTo>
                      <a:pt x="0" y="110"/>
                    </a:lnTo>
                    <a:lnTo>
                      <a:pt x="60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4803840" y="5110200"/>
                <a:ext cx="47520" cy="108360"/>
              </a:xfrm>
              <a:custGeom>
                <a:avLst/>
                <a:gdLst/>
                <a:ahLst/>
                <a:rect l="l" t="t" r="r" b="b"/>
                <a:pathLst>
                  <a:path w="578" h="1028">
                    <a:moveTo>
                      <a:pt x="42" y="938"/>
                    </a:moveTo>
                    <a:lnTo>
                      <a:pt x="37" y="775"/>
                    </a:lnTo>
                    <a:lnTo>
                      <a:pt x="0" y="360"/>
                    </a:lnTo>
                    <a:lnTo>
                      <a:pt x="37" y="276"/>
                    </a:lnTo>
                    <a:lnTo>
                      <a:pt x="293" y="0"/>
                    </a:lnTo>
                    <a:lnTo>
                      <a:pt x="523" y="48"/>
                    </a:lnTo>
                    <a:lnTo>
                      <a:pt x="578" y="184"/>
                    </a:lnTo>
                    <a:lnTo>
                      <a:pt x="528" y="247"/>
                    </a:lnTo>
                    <a:lnTo>
                      <a:pt x="563" y="465"/>
                    </a:lnTo>
                    <a:lnTo>
                      <a:pt x="486" y="487"/>
                    </a:lnTo>
                    <a:lnTo>
                      <a:pt x="464" y="705"/>
                    </a:lnTo>
                    <a:lnTo>
                      <a:pt x="406" y="805"/>
                    </a:lnTo>
                    <a:lnTo>
                      <a:pt x="358" y="874"/>
                    </a:lnTo>
                    <a:lnTo>
                      <a:pt x="305" y="938"/>
                    </a:lnTo>
                    <a:lnTo>
                      <a:pt x="263" y="1028"/>
                    </a:lnTo>
                    <a:lnTo>
                      <a:pt x="92" y="1001"/>
                    </a:lnTo>
                    <a:lnTo>
                      <a:pt x="42" y="938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4807800" y="4941360"/>
                <a:ext cx="107280" cy="172800"/>
              </a:xfrm>
              <a:custGeom>
                <a:avLst/>
                <a:gdLst/>
                <a:ahLst/>
                <a:rect l="l" t="t" r="r" b="b"/>
                <a:pathLst>
                  <a:path w="1289" h="1630">
                    <a:moveTo>
                      <a:pt x="37" y="717"/>
                    </a:moveTo>
                    <a:lnTo>
                      <a:pt x="0" y="784"/>
                    </a:lnTo>
                    <a:lnTo>
                      <a:pt x="0" y="915"/>
                    </a:lnTo>
                    <a:lnTo>
                      <a:pt x="85" y="1036"/>
                    </a:lnTo>
                    <a:lnTo>
                      <a:pt x="200" y="1120"/>
                    </a:lnTo>
                    <a:lnTo>
                      <a:pt x="235" y="1120"/>
                    </a:lnTo>
                    <a:lnTo>
                      <a:pt x="298" y="1263"/>
                    </a:lnTo>
                    <a:lnTo>
                      <a:pt x="348" y="1395"/>
                    </a:lnTo>
                    <a:lnTo>
                      <a:pt x="447" y="1508"/>
                    </a:lnTo>
                    <a:lnTo>
                      <a:pt x="555" y="1572"/>
                    </a:lnTo>
                    <a:lnTo>
                      <a:pt x="705" y="1621"/>
                    </a:lnTo>
                    <a:lnTo>
                      <a:pt x="855" y="1630"/>
                    </a:lnTo>
                    <a:lnTo>
                      <a:pt x="947" y="1579"/>
                    </a:lnTo>
                    <a:lnTo>
                      <a:pt x="1019" y="1494"/>
                    </a:lnTo>
                    <a:lnTo>
                      <a:pt x="1090" y="1374"/>
                    </a:lnTo>
                    <a:lnTo>
                      <a:pt x="1118" y="1263"/>
                    </a:lnTo>
                    <a:lnTo>
                      <a:pt x="1140" y="1056"/>
                    </a:lnTo>
                    <a:lnTo>
                      <a:pt x="1203" y="1001"/>
                    </a:lnTo>
                    <a:lnTo>
                      <a:pt x="1284" y="889"/>
                    </a:lnTo>
                    <a:lnTo>
                      <a:pt x="1289" y="768"/>
                    </a:lnTo>
                    <a:lnTo>
                      <a:pt x="1274" y="662"/>
                    </a:lnTo>
                    <a:lnTo>
                      <a:pt x="1261" y="627"/>
                    </a:lnTo>
                    <a:lnTo>
                      <a:pt x="1203" y="595"/>
                    </a:lnTo>
                    <a:lnTo>
                      <a:pt x="1118" y="325"/>
                    </a:lnTo>
                    <a:lnTo>
                      <a:pt x="1012" y="94"/>
                    </a:lnTo>
                    <a:lnTo>
                      <a:pt x="692" y="0"/>
                    </a:lnTo>
                    <a:lnTo>
                      <a:pt x="270" y="85"/>
                    </a:lnTo>
                    <a:lnTo>
                      <a:pt x="85" y="247"/>
                    </a:lnTo>
                    <a:lnTo>
                      <a:pt x="41" y="429"/>
                    </a:lnTo>
                    <a:lnTo>
                      <a:pt x="41" y="657"/>
                    </a:lnTo>
                    <a:lnTo>
                      <a:pt x="37" y="717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4833000" y="5043960"/>
                <a:ext cx="18360" cy="13320"/>
              </a:xfrm>
              <a:custGeom>
                <a:avLst/>
                <a:gdLst/>
                <a:ahLst/>
                <a:rect l="l" t="t" r="r" b="b"/>
                <a:pathLst>
                  <a:path w="223" h="120">
                    <a:moveTo>
                      <a:pt x="223" y="6"/>
                    </a:moveTo>
                    <a:lnTo>
                      <a:pt x="223" y="41"/>
                    </a:lnTo>
                    <a:lnTo>
                      <a:pt x="140" y="108"/>
                    </a:lnTo>
                    <a:lnTo>
                      <a:pt x="57" y="120"/>
                    </a:lnTo>
                    <a:lnTo>
                      <a:pt x="0" y="78"/>
                    </a:lnTo>
                    <a:lnTo>
                      <a:pt x="16" y="0"/>
                    </a:lnTo>
                    <a:lnTo>
                      <a:pt x="92" y="28"/>
                    </a:lnTo>
                    <a:lnTo>
                      <a:pt x="140" y="35"/>
                    </a:lnTo>
                    <a:lnTo>
                      <a:pt x="223" y="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4876200" y="5033160"/>
                <a:ext cx="19800" cy="15120"/>
              </a:xfrm>
              <a:custGeom>
                <a:avLst/>
                <a:gdLst/>
                <a:ahLst/>
                <a:rect l="l" t="t" r="r" b="b"/>
                <a:pathLst>
                  <a:path w="245" h="141">
                    <a:moveTo>
                      <a:pt x="0" y="85"/>
                    </a:moveTo>
                    <a:lnTo>
                      <a:pt x="18" y="112"/>
                    </a:lnTo>
                    <a:lnTo>
                      <a:pt x="117" y="141"/>
                    </a:lnTo>
                    <a:lnTo>
                      <a:pt x="212" y="134"/>
                    </a:lnTo>
                    <a:lnTo>
                      <a:pt x="245" y="79"/>
                    </a:lnTo>
                    <a:lnTo>
                      <a:pt x="238" y="0"/>
                    </a:lnTo>
                    <a:lnTo>
                      <a:pt x="179" y="42"/>
                    </a:lnTo>
                    <a:lnTo>
                      <a:pt x="139" y="79"/>
                    </a:lnTo>
                    <a:lnTo>
                      <a:pt x="83" y="9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4861440" y="5038200"/>
                <a:ext cx="10440" cy="25200"/>
              </a:xfrm>
              <a:custGeom>
                <a:avLst/>
                <a:gdLst/>
                <a:ahLst/>
                <a:rect l="l" t="t" r="r" b="b"/>
                <a:pathLst>
                  <a:path w="120" h="235">
                    <a:moveTo>
                      <a:pt x="57" y="37"/>
                    </a:moveTo>
                    <a:lnTo>
                      <a:pt x="37" y="0"/>
                    </a:lnTo>
                    <a:lnTo>
                      <a:pt x="13" y="16"/>
                    </a:lnTo>
                    <a:lnTo>
                      <a:pt x="22" y="141"/>
                    </a:lnTo>
                    <a:lnTo>
                      <a:pt x="0" y="169"/>
                    </a:lnTo>
                    <a:lnTo>
                      <a:pt x="13" y="220"/>
                    </a:lnTo>
                    <a:lnTo>
                      <a:pt x="64" y="235"/>
                    </a:lnTo>
                    <a:lnTo>
                      <a:pt x="108" y="220"/>
                    </a:lnTo>
                    <a:lnTo>
                      <a:pt x="120" y="178"/>
                    </a:lnTo>
                    <a:lnTo>
                      <a:pt x="112" y="148"/>
                    </a:lnTo>
                    <a:lnTo>
                      <a:pt x="78" y="121"/>
                    </a:lnTo>
                    <a:lnTo>
                      <a:pt x="57" y="3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4853520" y="50533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51" h="42">
                    <a:moveTo>
                      <a:pt x="25" y="0"/>
                    </a:moveTo>
                    <a:lnTo>
                      <a:pt x="0" y="25"/>
                    </a:lnTo>
                    <a:lnTo>
                      <a:pt x="25" y="42"/>
                    </a:lnTo>
                    <a:lnTo>
                      <a:pt x="51" y="7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4873320" y="505080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6"/>
                    </a:moveTo>
                    <a:lnTo>
                      <a:pt x="21" y="36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4856400" y="5078880"/>
                <a:ext cx="27720" cy="7200"/>
              </a:xfrm>
              <a:custGeom>
                <a:avLst/>
                <a:gdLst/>
                <a:ahLst/>
                <a:rect l="l" t="t" r="r" b="b"/>
                <a:pathLst>
                  <a:path w="343" h="70">
                    <a:moveTo>
                      <a:pt x="0" y="44"/>
                    </a:moveTo>
                    <a:lnTo>
                      <a:pt x="128" y="70"/>
                    </a:lnTo>
                    <a:lnTo>
                      <a:pt x="235" y="55"/>
                    </a:lnTo>
                    <a:lnTo>
                      <a:pt x="322" y="21"/>
                    </a:lnTo>
                    <a:lnTo>
                      <a:pt x="343" y="7"/>
                    </a:lnTo>
                    <a:lnTo>
                      <a:pt x="297" y="0"/>
                    </a:lnTo>
                    <a:lnTo>
                      <a:pt x="214" y="21"/>
                    </a:lnTo>
                    <a:lnTo>
                      <a:pt x="135" y="26"/>
                    </a:lnTo>
                    <a:lnTo>
                      <a:pt x="20" y="21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4820400" y="4974480"/>
                <a:ext cx="29520" cy="44640"/>
              </a:xfrm>
              <a:custGeom>
                <a:avLst/>
                <a:gdLst/>
                <a:ahLst/>
                <a:rect l="l" t="t" r="r" b="b"/>
                <a:pathLst>
                  <a:path w="363" h="429">
                    <a:moveTo>
                      <a:pt x="226" y="35"/>
                    </a:moveTo>
                    <a:lnTo>
                      <a:pt x="158" y="99"/>
                    </a:lnTo>
                    <a:lnTo>
                      <a:pt x="127" y="182"/>
                    </a:lnTo>
                    <a:lnTo>
                      <a:pt x="127" y="266"/>
                    </a:lnTo>
                    <a:lnTo>
                      <a:pt x="149" y="337"/>
                    </a:lnTo>
                    <a:lnTo>
                      <a:pt x="363" y="394"/>
                    </a:lnTo>
                    <a:lnTo>
                      <a:pt x="185" y="389"/>
                    </a:lnTo>
                    <a:lnTo>
                      <a:pt x="63" y="429"/>
                    </a:lnTo>
                    <a:lnTo>
                      <a:pt x="79" y="380"/>
                    </a:lnTo>
                    <a:lnTo>
                      <a:pt x="33" y="323"/>
                    </a:lnTo>
                    <a:lnTo>
                      <a:pt x="6" y="231"/>
                    </a:lnTo>
                    <a:lnTo>
                      <a:pt x="0" y="134"/>
                    </a:lnTo>
                    <a:lnTo>
                      <a:pt x="19" y="62"/>
                    </a:lnTo>
                    <a:lnTo>
                      <a:pt x="68" y="14"/>
                    </a:lnTo>
                    <a:lnTo>
                      <a:pt x="136" y="0"/>
                    </a:lnTo>
                    <a:lnTo>
                      <a:pt x="192" y="7"/>
                    </a:lnTo>
                    <a:lnTo>
                      <a:pt x="226" y="3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4866120" y="499752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14" h="154">
                    <a:moveTo>
                      <a:pt x="70" y="115"/>
                    </a:moveTo>
                    <a:lnTo>
                      <a:pt x="226" y="34"/>
                    </a:lnTo>
                    <a:lnTo>
                      <a:pt x="314" y="30"/>
                    </a:lnTo>
                    <a:lnTo>
                      <a:pt x="249" y="0"/>
                    </a:lnTo>
                    <a:lnTo>
                      <a:pt x="176" y="30"/>
                    </a:lnTo>
                    <a:lnTo>
                      <a:pt x="0" y="154"/>
                    </a:lnTo>
                    <a:lnTo>
                      <a:pt x="70" y="11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4811400" y="5024520"/>
                <a:ext cx="8280" cy="6840"/>
              </a:xfrm>
              <a:custGeom>
                <a:avLst/>
                <a:gdLst/>
                <a:ahLst/>
                <a:rect l="l" t="t" r="r" b="b"/>
                <a:pathLst>
                  <a:path w="105" h="60">
                    <a:moveTo>
                      <a:pt x="0" y="44"/>
                    </a:moveTo>
                    <a:lnTo>
                      <a:pt x="96" y="60"/>
                    </a:lnTo>
                    <a:lnTo>
                      <a:pt x="105" y="31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4901400" y="5009400"/>
                <a:ext cx="8280" cy="11880"/>
              </a:xfrm>
              <a:custGeom>
                <a:avLst/>
                <a:gdLst/>
                <a:ahLst/>
                <a:rect l="l" t="t" r="r" b="b"/>
                <a:pathLst>
                  <a:path w="99" h="111">
                    <a:moveTo>
                      <a:pt x="0" y="111"/>
                    </a:moveTo>
                    <a:lnTo>
                      <a:pt x="19" y="111"/>
                    </a:lnTo>
                    <a:lnTo>
                      <a:pt x="99" y="35"/>
                    </a:lnTo>
                    <a:lnTo>
                      <a:pt x="90" y="0"/>
                    </a:lnTo>
                    <a:lnTo>
                      <a:pt x="55" y="0"/>
                    </a:lnTo>
                    <a:lnTo>
                      <a:pt x="7" y="39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4865040" y="509760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154" h="84">
                    <a:moveTo>
                      <a:pt x="27" y="7"/>
                    </a:moveTo>
                    <a:lnTo>
                      <a:pt x="0" y="49"/>
                    </a:lnTo>
                    <a:lnTo>
                      <a:pt x="32" y="84"/>
                    </a:lnTo>
                    <a:lnTo>
                      <a:pt x="140" y="69"/>
                    </a:lnTo>
                    <a:lnTo>
                      <a:pt x="154" y="27"/>
                    </a:lnTo>
                    <a:lnTo>
                      <a:pt x="127" y="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4809960" y="5160240"/>
                <a:ext cx="14400" cy="35280"/>
              </a:xfrm>
              <a:custGeom>
                <a:avLst/>
                <a:gdLst/>
                <a:ahLst/>
                <a:rect l="l" t="t" r="r" b="b"/>
                <a:pathLst>
                  <a:path w="172" h="336">
                    <a:moveTo>
                      <a:pt x="7" y="42"/>
                    </a:moveTo>
                    <a:lnTo>
                      <a:pt x="51" y="211"/>
                    </a:lnTo>
                    <a:lnTo>
                      <a:pt x="73" y="336"/>
                    </a:lnTo>
                    <a:lnTo>
                      <a:pt x="156" y="336"/>
                    </a:lnTo>
                    <a:lnTo>
                      <a:pt x="172" y="279"/>
                    </a:lnTo>
                    <a:lnTo>
                      <a:pt x="99" y="231"/>
                    </a:lnTo>
                    <a:lnTo>
                      <a:pt x="73" y="147"/>
                    </a:lnTo>
                    <a:lnTo>
                      <a:pt x="78" y="75"/>
                    </a:lnTo>
                    <a:lnTo>
                      <a:pt x="0" y="0"/>
                    </a:lnTo>
                    <a:lnTo>
                      <a:pt x="7" y="42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4810320" y="5136480"/>
                <a:ext cx="21600" cy="12600"/>
              </a:xfrm>
              <a:custGeom>
                <a:avLst/>
                <a:gdLst/>
                <a:ahLst/>
                <a:rect l="l" t="t" r="r" b="b"/>
                <a:pathLst>
                  <a:path w="264" h="122">
                    <a:moveTo>
                      <a:pt x="0" y="106"/>
                    </a:moveTo>
                    <a:lnTo>
                      <a:pt x="13" y="122"/>
                    </a:lnTo>
                    <a:lnTo>
                      <a:pt x="57" y="78"/>
                    </a:lnTo>
                    <a:lnTo>
                      <a:pt x="114" y="97"/>
                    </a:lnTo>
                    <a:lnTo>
                      <a:pt x="140" y="53"/>
                    </a:lnTo>
                    <a:lnTo>
                      <a:pt x="264" y="106"/>
                    </a:lnTo>
                    <a:lnTo>
                      <a:pt x="127" y="0"/>
                    </a:lnTo>
                    <a:lnTo>
                      <a:pt x="101" y="14"/>
                    </a:lnTo>
                    <a:lnTo>
                      <a:pt x="32" y="64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4827960" y="5177880"/>
                <a:ext cx="8280" cy="15840"/>
              </a:xfrm>
              <a:custGeom>
                <a:avLst/>
                <a:gdLst/>
                <a:ahLst/>
                <a:rect l="l" t="t" r="r" b="b"/>
                <a:pathLst>
                  <a:path w="106" h="147">
                    <a:moveTo>
                      <a:pt x="0" y="44"/>
                    </a:moveTo>
                    <a:lnTo>
                      <a:pt x="41" y="85"/>
                    </a:lnTo>
                    <a:lnTo>
                      <a:pt x="63" y="147"/>
                    </a:lnTo>
                    <a:lnTo>
                      <a:pt x="106" y="92"/>
                    </a:lnTo>
                    <a:lnTo>
                      <a:pt x="99" y="35"/>
                    </a:lnTo>
                    <a:lnTo>
                      <a:pt x="63" y="9"/>
                    </a:lnTo>
                    <a:lnTo>
                      <a:pt x="7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4836240" y="502884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44" h="94">
                    <a:moveTo>
                      <a:pt x="0" y="34"/>
                    </a:moveTo>
                    <a:lnTo>
                      <a:pt x="45" y="81"/>
                    </a:lnTo>
                    <a:lnTo>
                      <a:pt x="89" y="94"/>
                    </a:lnTo>
                    <a:lnTo>
                      <a:pt x="114" y="94"/>
                    </a:lnTo>
                    <a:lnTo>
                      <a:pt x="167" y="94"/>
                    </a:lnTo>
                    <a:lnTo>
                      <a:pt x="244" y="43"/>
                    </a:lnTo>
                    <a:lnTo>
                      <a:pt x="204" y="0"/>
                    </a:lnTo>
                    <a:lnTo>
                      <a:pt x="123" y="9"/>
                    </a:lnTo>
                    <a:lnTo>
                      <a:pt x="45" y="28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4872960" y="502452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221" h="85">
                    <a:moveTo>
                      <a:pt x="0" y="70"/>
                    </a:moveTo>
                    <a:lnTo>
                      <a:pt x="44" y="7"/>
                    </a:lnTo>
                    <a:lnTo>
                      <a:pt x="129" y="0"/>
                    </a:lnTo>
                    <a:lnTo>
                      <a:pt x="221" y="7"/>
                    </a:lnTo>
                    <a:lnTo>
                      <a:pt x="216" y="26"/>
                    </a:lnTo>
                    <a:lnTo>
                      <a:pt x="185" y="57"/>
                    </a:lnTo>
                    <a:lnTo>
                      <a:pt x="115" y="85"/>
                    </a:lnTo>
                    <a:lnTo>
                      <a:pt x="51" y="85"/>
                    </a:lnTo>
                    <a:lnTo>
                      <a:pt x="9" y="85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4257720" y="5076000"/>
                <a:ext cx="45000" cy="37080"/>
              </a:xfrm>
              <a:custGeom>
                <a:avLst/>
                <a:gdLst/>
                <a:ahLst/>
                <a:rect l="l" t="t" r="r" b="b"/>
                <a:pathLst>
                  <a:path w="546" h="352">
                    <a:moveTo>
                      <a:pt x="53" y="229"/>
                    </a:moveTo>
                    <a:lnTo>
                      <a:pt x="126" y="174"/>
                    </a:lnTo>
                    <a:lnTo>
                      <a:pt x="163" y="161"/>
                    </a:lnTo>
                    <a:lnTo>
                      <a:pt x="313" y="161"/>
                    </a:lnTo>
                    <a:lnTo>
                      <a:pt x="387" y="167"/>
                    </a:lnTo>
                    <a:lnTo>
                      <a:pt x="194" y="94"/>
                    </a:lnTo>
                    <a:lnTo>
                      <a:pt x="60" y="94"/>
                    </a:lnTo>
                    <a:lnTo>
                      <a:pt x="9" y="82"/>
                    </a:lnTo>
                    <a:lnTo>
                      <a:pt x="0" y="75"/>
                    </a:lnTo>
                    <a:lnTo>
                      <a:pt x="145" y="0"/>
                    </a:lnTo>
                    <a:lnTo>
                      <a:pt x="224" y="13"/>
                    </a:lnTo>
                    <a:lnTo>
                      <a:pt x="313" y="64"/>
                    </a:lnTo>
                    <a:lnTo>
                      <a:pt x="415" y="108"/>
                    </a:lnTo>
                    <a:lnTo>
                      <a:pt x="498" y="130"/>
                    </a:lnTo>
                    <a:lnTo>
                      <a:pt x="546" y="198"/>
                    </a:lnTo>
                    <a:lnTo>
                      <a:pt x="521" y="255"/>
                    </a:lnTo>
                    <a:lnTo>
                      <a:pt x="484" y="255"/>
                    </a:lnTo>
                    <a:lnTo>
                      <a:pt x="431" y="322"/>
                    </a:lnTo>
                    <a:lnTo>
                      <a:pt x="376" y="329"/>
                    </a:lnTo>
                    <a:lnTo>
                      <a:pt x="286" y="352"/>
                    </a:lnTo>
                    <a:lnTo>
                      <a:pt x="365" y="280"/>
                    </a:lnTo>
                    <a:lnTo>
                      <a:pt x="401" y="235"/>
                    </a:lnTo>
                    <a:lnTo>
                      <a:pt x="401" y="218"/>
                    </a:lnTo>
                    <a:lnTo>
                      <a:pt x="365" y="209"/>
                    </a:lnTo>
                    <a:lnTo>
                      <a:pt x="304" y="191"/>
                    </a:lnTo>
                    <a:lnTo>
                      <a:pt x="286" y="235"/>
                    </a:lnTo>
                    <a:lnTo>
                      <a:pt x="282" y="205"/>
                    </a:lnTo>
                    <a:lnTo>
                      <a:pt x="256" y="205"/>
                    </a:lnTo>
                    <a:lnTo>
                      <a:pt x="253" y="225"/>
                    </a:lnTo>
                    <a:lnTo>
                      <a:pt x="277" y="244"/>
                    </a:lnTo>
                    <a:lnTo>
                      <a:pt x="268" y="266"/>
                    </a:lnTo>
                    <a:lnTo>
                      <a:pt x="84" y="244"/>
                    </a:lnTo>
                    <a:lnTo>
                      <a:pt x="53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4266360" y="5105880"/>
                <a:ext cx="18360" cy="4680"/>
              </a:xfrm>
              <a:custGeom>
                <a:avLst/>
                <a:gdLst/>
                <a:ahLst/>
                <a:rect l="l" t="t" r="r" b="b"/>
                <a:pathLst>
                  <a:path w="224" h="49">
                    <a:moveTo>
                      <a:pt x="0" y="0"/>
                    </a:moveTo>
                    <a:lnTo>
                      <a:pt x="40" y="33"/>
                    </a:lnTo>
                    <a:lnTo>
                      <a:pt x="139" y="49"/>
                    </a:lnTo>
                    <a:lnTo>
                      <a:pt x="224" y="3"/>
                    </a:lnTo>
                    <a:lnTo>
                      <a:pt x="132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4284720" y="5095800"/>
                <a:ext cx="5040" cy="10080"/>
              </a:xfrm>
              <a:custGeom>
                <a:avLst/>
                <a:gdLst/>
                <a:ahLst/>
                <a:rect l="l" t="t" r="r" b="b"/>
                <a:pathLst>
                  <a:path w="64" h="98">
                    <a:moveTo>
                      <a:pt x="0" y="0"/>
                    </a:moveTo>
                    <a:lnTo>
                      <a:pt x="53" y="98"/>
                    </a:lnTo>
                    <a:lnTo>
                      <a:pt x="64" y="81"/>
                    </a:lnTo>
                    <a:lnTo>
                      <a:pt x="3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4306680" y="5094720"/>
                <a:ext cx="33480" cy="55080"/>
              </a:xfrm>
              <a:custGeom>
                <a:avLst/>
                <a:gdLst/>
                <a:ahLst/>
                <a:rect l="l" t="t" r="r" b="b"/>
                <a:pathLst>
                  <a:path w="406" h="514">
                    <a:moveTo>
                      <a:pt x="0" y="10"/>
                    </a:moveTo>
                    <a:lnTo>
                      <a:pt x="0" y="63"/>
                    </a:lnTo>
                    <a:lnTo>
                      <a:pt x="28" y="99"/>
                    </a:lnTo>
                    <a:lnTo>
                      <a:pt x="12" y="388"/>
                    </a:lnTo>
                    <a:lnTo>
                      <a:pt x="35" y="514"/>
                    </a:lnTo>
                    <a:lnTo>
                      <a:pt x="28" y="380"/>
                    </a:lnTo>
                    <a:lnTo>
                      <a:pt x="39" y="213"/>
                    </a:lnTo>
                    <a:lnTo>
                      <a:pt x="146" y="288"/>
                    </a:lnTo>
                    <a:lnTo>
                      <a:pt x="105" y="201"/>
                    </a:lnTo>
                    <a:lnTo>
                      <a:pt x="197" y="235"/>
                    </a:lnTo>
                    <a:lnTo>
                      <a:pt x="275" y="222"/>
                    </a:lnTo>
                    <a:lnTo>
                      <a:pt x="202" y="201"/>
                    </a:lnTo>
                    <a:lnTo>
                      <a:pt x="202" y="178"/>
                    </a:lnTo>
                    <a:lnTo>
                      <a:pt x="233" y="160"/>
                    </a:lnTo>
                    <a:lnTo>
                      <a:pt x="294" y="208"/>
                    </a:lnTo>
                    <a:lnTo>
                      <a:pt x="328" y="189"/>
                    </a:lnTo>
                    <a:lnTo>
                      <a:pt x="250" y="114"/>
                    </a:lnTo>
                    <a:lnTo>
                      <a:pt x="202" y="85"/>
                    </a:lnTo>
                    <a:lnTo>
                      <a:pt x="202" y="65"/>
                    </a:lnTo>
                    <a:lnTo>
                      <a:pt x="321" y="90"/>
                    </a:lnTo>
                    <a:lnTo>
                      <a:pt x="356" y="132"/>
                    </a:lnTo>
                    <a:lnTo>
                      <a:pt x="344" y="164"/>
                    </a:lnTo>
                    <a:lnTo>
                      <a:pt x="406" y="141"/>
                    </a:lnTo>
                    <a:lnTo>
                      <a:pt x="406" y="54"/>
                    </a:lnTo>
                    <a:lnTo>
                      <a:pt x="365" y="17"/>
                    </a:lnTo>
                    <a:lnTo>
                      <a:pt x="270" y="17"/>
                    </a:lnTo>
                    <a:lnTo>
                      <a:pt x="79" y="0"/>
                    </a:lnTo>
                    <a:lnTo>
                      <a:pt x="35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4305240" y="515340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44" h="62">
                    <a:moveTo>
                      <a:pt x="0" y="46"/>
                    </a:moveTo>
                    <a:lnTo>
                      <a:pt x="28" y="62"/>
                    </a:lnTo>
                    <a:lnTo>
                      <a:pt x="44" y="49"/>
                    </a:lnTo>
                    <a:lnTo>
                      <a:pt x="35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4260960" y="5146560"/>
                <a:ext cx="53640" cy="36360"/>
              </a:xfrm>
              <a:custGeom>
                <a:avLst/>
                <a:gdLst/>
                <a:ahLst/>
                <a:rect l="l" t="t" r="r" b="b"/>
                <a:pathLst>
                  <a:path w="647" h="347">
                    <a:moveTo>
                      <a:pt x="509" y="114"/>
                    </a:moveTo>
                    <a:lnTo>
                      <a:pt x="466" y="117"/>
                    </a:lnTo>
                    <a:lnTo>
                      <a:pt x="374" y="29"/>
                    </a:lnTo>
                    <a:lnTo>
                      <a:pt x="311" y="0"/>
                    </a:lnTo>
                    <a:lnTo>
                      <a:pt x="219" y="31"/>
                    </a:lnTo>
                    <a:lnTo>
                      <a:pt x="219" y="57"/>
                    </a:lnTo>
                    <a:lnTo>
                      <a:pt x="258" y="64"/>
                    </a:lnTo>
                    <a:lnTo>
                      <a:pt x="120" y="105"/>
                    </a:lnTo>
                    <a:lnTo>
                      <a:pt x="0" y="181"/>
                    </a:lnTo>
                    <a:lnTo>
                      <a:pt x="23" y="225"/>
                    </a:lnTo>
                    <a:lnTo>
                      <a:pt x="95" y="220"/>
                    </a:lnTo>
                    <a:lnTo>
                      <a:pt x="157" y="237"/>
                    </a:lnTo>
                    <a:lnTo>
                      <a:pt x="240" y="193"/>
                    </a:lnTo>
                    <a:lnTo>
                      <a:pt x="357" y="211"/>
                    </a:lnTo>
                    <a:lnTo>
                      <a:pt x="461" y="200"/>
                    </a:lnTo>
                    <a:lnTo>
                      <a:pt x="521" y="257"/>
                    </a:lnTo>
                    <a:lnTo>
                      <a:pt x="567" y="279"/>
                    </a:lnTo>
                    <a:lnTo>
                      <a:pt x="620" y="347"/>
                    </a:lnTo>
                    <a:lnTo>
                      <a:pt x="647" y="334"/>
                    </a:lnTo>
                    <a:lnTo>
                      <a:pt x="643" y="225"/>
                    </a:lnTo>
                    <a:lnTo>
                      <a:pt x="567" y="105"/>
                    </a:lnTo>
                    <a:lnTo>
                      <a:pt x="509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4290840" y="5129640"/>
                <a:ext cx="5760" cy="9360"/>
              </a:xfrm>
              <a:custGeom>
                <a:avLst/>
                <a:gdLst/>
                <a:ahLst/>
                <a:rect l="l" t="t" r="r" b="b"/>
                <a:pathLst>
                  <a:path w="72" h="86">
                    <a:moveTo>
                      <a:pt x="0" y="55"/>
                    </a:moveTo>
                    <a:lnTo>
                      <a:pt x="37" y="86"/>
                    </a:lnTo>
                    <a:lnTo>
                      <a:pt x="72" y="24"/>
                    </a:lnTo>
                    <a:lnTo>
                      <a:pt x="60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4278960" y="5175360"/>
                <a:ext cx="24840" cy="13320"/>
              </a:xfrm>
              <a:custGeom>
                <a:avLst/>
                <a:gdLst/>
                <a:ahLst/>
                <a:rect l="l" t="t" r="r" b="b"/>
                <a:pathLst>
                  <a:path w="302" h="129">
                    <a:moveTo>
                      <a:pt x="0" y="26"/>
                    </a:moveTo>
                    <a:lnTo>
                      <a:pt x="48" y="0"/>
                    </a:lnTo>
                    <a:lnTo>
                      <a:pt x="302" y="42"/>
                    </a:lnTo>
                    <a:lnTo>
                      <a:pt x="279" y="129"/>
                    </a:lnTo>
                    <a:lnTo>
                      <a:pt x="228" y="98"/>
                    </a:lnTo>
                    <a:lnTo>
                      <a:pt x="30" y="9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4238280" y="4987080"/>
                <a:ext cx="105120" cy="72720"/>
              </a:xfrm>
              <a:custGeom>
                <a:avLst/>
                <a:gdLst/>
                <a:ahLst/>
                <a:rect l="l" t="t" r="r" b="b"/>
                <a:pathLst>
                  <a:path w="1275" h="682">
                    <a:moveTo>
                      <a:pt x="934" y="170"/>
                    </a:moveTo>
                    <a:lnTo>
                      <a:pt x="1037" y="159"/>
                    </a:lnTo>
                    <a:lnTo>
                      <a:pt x="1037" y="136"/>
                    </a:lnTo>
                    <a:lnTo>
                      <a:pt x="970" y="92"/>
                    </a:lnTo>
                    <a:lnTo>
                      <a:pt x="834" y="42"/>
                    </a:lnTo>
                    <a:lnTo>
                      <a:pt x="730" y="25"/>
                    </a:lnTo>
                    <a:lnTo>
                      <a:pt x="431" y="7"/>
                    </a:lnTo>
                    <a:lnTo>
                      <a:pt x="652" y="0"/>
                    </a:lnTo>
                    <a:lnTo>
                      <a:pt x="868" y="18"/>
                    </a:lnTo>
                    <a:lnTo>
                      <a:pt x="1037" y="73"/>
                    </a:lnTo>
                    <a:lnTo>
                      <a:pt x="1157" y="154"/>
                    </a:lnTo>
                    <a:lnTo>
                      <a:pt x="1249" y="251"/>
                    </a:lnTo>
                    <a:lnTo>
                      <a:pt x="1275" y="325"/>
                    </a:lnTo>
                    <a:lnTo>
                      <a:pt x="1275" y="387"/>
                    </a:lnTo>
                    <a:lnTo>
                      <a:pt x="1217" y="449"/>
                    </a:lnTo>
                    <a:lnTo>
                      <a:pt x="1104" y="530"/>
                    </a:lnTo>
                    <a:lnTo>
                      <a:pt x="943" y="578"/>
                    </a:lnTo>
                    <a:lnTo>
                      <a:pt x="730" y="631"/>
                    </a:lnTo>
                    <a:lnTo>
                      <a:pt x="315" y="664"/>
                    </a:lnTo>
                    <a:lnTo>
                      <a:pt x="0" y="682"/>
                    </a:lnTo>
                    <a:lnTo>
                      <a:pt x="703" y="504"/>
                    </a:lnTo>
                    <a:lnTo>
                      <a:pt x="864" y="449"/>
                    </a:lnTo>
                    <a:lnTo>
                      <a:pt x="952" y="407"/>
                    </a:lnTo>
                    <a:lnTo>
                      <a:pt x="975" y="387"/>
                    </a:lnTo>
                    <a:lnTo>
                      <a:pt x="970" y="374"/>
                    </a:lnTo>
                    <a:lnTo>
                      <a:pt x="917" y="367"/>
                    </a:lnTo>
                    <a:lnTo>
                      <a:pt x="1074" y="325"/>
                    </a:lnTo>
                    <a:lnTo>
                      <a:pt x="1086" y="304"/>
                    </a:lnTo>
                    <a:lnTo>
                      <a:pt x="1157" y="306"/>
                    </a:lnTo>
                    <a:lnTo>
                      <a:pt x="1161" y="284"/>
                    </a:lnTo>
                    <a:lnTo>
                      <a:pt x="1136" y="271"/>
                    </a:lnTo>
                    <a:lnTo>
                      <a:pt x="1018" y="242"/>
                    </a:lnTo>
                    <a:lnTo>
                      <a:pt x="1123" y="242"/>
                    </a:lnTo>
                    <a:lnTo>
                      <a:pt x="1123" y="216"/>
                    </a:lnTo>
                    <a:lnTo>
                      <a:pt x="1044" y="189"/>
                    </a:lnTo>
                    <a:lnTo>
                      <a:pt x="934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4200480" y="4987080"/>
                <a:ext cx="115200" cy="144000"/>
              </a:xfrm>
              <a:custGeom>
                <a:avLst/>
                <a:gdLst/>
                <a:ahLst/>
                <a:rect l="l" t="t" r="r" b="b"/>
                <a:pathLst>
                  <a:path w="1400" h="1354">
                    <a:moveTo>
                      <a:pt x="585" y="668"/>
                    </a:moveTo>
                    <a:lnTo>
                      <a:pt x="486" y="811"/>
                    </a:lnTo>
                    <a:lnTo>
                      <a:pt x="468" y="885"/>
                    </a:lnTo>
                    <a:lnTo>
                      <a:pt x="413" y="947"/>
                    </a:lnTo>
                    <a:lnTo>
                      <a:pt x="352" y="1130"/>
                    </a:lnTo>
                    <a:lnTo>
                      <a:pt x="277" y="1118"/>
                    </a:lnTo>
                    <a:lnTo>
                      <a:pt x="233" y="1002"/>
                    </a:lnTo>
                    <a:lnTo>
                      <a:pt x="171" y="975"/>
                    </a:lnTo>
                    <a:lnTo>
                      <a:pt x="110" y="991"/>
                    </a:lnTo>
                    <a:lnTo>
                      <a:pt x="67" y="1064"/>
                    </a:lnTo>
                    <a:lnTo>
                      <a:pt x="97" y="1354"/>
                    </a:lnTo>
                    <a:lnTo>
                      <a:pt x="46" y="1263"/>
                    </a:lnTo>
                    <a:lnTo>
                      <a:pt x="0" y="730"/>
                    </a:lnTo>
                    <a:lnTo>
                      <a:pt x="40" y="627"/>
                    </a:lnTo>
                    <a:lnTo>
                      <a:pt x="110" y="438"/>
                    </a:lnTo>
                    <a:lnTo>
                      <a:pt x="270" y="242"/>
                    </a:lnTo>
                    <a:lnTo>
                      <a:pt x="486" y="71"/>
                    </a:lnTo>
                    <a:lnTo>
                      <a:pt x="754" y="11"/>
                    </a:lnTo>
                    <a:lnTo>
                      <a:pt x="976" y="0"/>
                    </a:lnTo>
                    <a:lnTo>
                      <a:pt x="1095" y="55"/>
                    </a:lnTo>
                    <a:lnTo>
                      <a:pt x="1160" y="124"/>
                    </a:lnTo>
                    <a:lnTo>
                      <a:pt x="1286" y="165"/>
                    </a:lnTo>
                    <a:lnTo>
                      <a:pt x="1240" y="165"/>
                    </a:lnTo>
                    <a:lnTo>
                      <a:pt x="1240" y="189"/>
                    </a:lnTo>
                    <a:lnTo>
                      <a:pt x="1342" y="223"/>
                    </a:lnTo>
                    <a:lnTo>
                      <a:pt x="1270" y="251"/>
                    </a:lnTo>
                    <a:lnTo>
                      <a:pt x="1277" y="271"/>
                    </a:lnTo>
                    <a:lnTo>
                      <a:pt x="1314" y="290"/>
                    </a:lnTo>
                    <a:lnTo>
                      <a:pt x="1229" y="318"/>
                    </a:lnTo>
                    <a:lnTo>
                      <a:pt x="1277" y="365"/>
                    </a:lnTo>
                    <a:lnTo>
                      <a:pt x="1125" y="403"/>
                    </a:lnTo>
                    <a:lnTo>
                      <a:pt x="1125" y="413"/>
                    </a:lnTo>
                    <a:lnTo>
                      <a:pt x="1266" y="424"/>
                    </a:lnTo>
                    <a:lnTo>
                      <a:pt x="1116" y="470"/>
                    </a:lnTo>
                    <a:lnTo>
                      <a:pt x="1400" y="438"/>
                    </a:lnTo>
                    <a:lnTo>
                      <a:pt x="1383" y="530"/>
                    </a:lnTo>
                    <a:lnTo>
                      <a:pt x="864" y="631"/>
                    </a:lnTo>
                    <a:lnTo>
                      <a:pt x="585" y="6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4308480" y="5034600"/>
                <a:ext cx="46800" cy="167040"/>
              </a:xfrm>
              <a:custGeom>
                <a:avLst/>
                <a:gdLst/>
                <a:ahLst/>
                <a:rect l="l" t="t" r="r" b="b"/>
                <a:pathLst>
                  <a:path w="567" h="1578">
                    <a:moveTo>
                      <a:pt x="320" y="150"/>
                    </a:moveTo>
                    <a:lnTo>
                      <a:pt x="358" y="245"/>
                    </a:lnTo>
                    <a:lnTo>
                      <a:pt x="358" y="635"/>
                    </a:lnTo>
                    <a:lnTo>
                      <a:pt x="304" y="761"/>
                    </a:lnTo>
                    <a:lnTo>
                      <a:pt x="304" y="904"/>
                    </a:lnTo>
                    <a:lnTo>
                      <a:pt x="239" y="1119"/>
                    </a:lnTo>
                    <a:lnTo>
                      <a:pt x="147" y="1255"/>
                    </a:lnTo>
                    <a:lnTo>
                      <a:pt x="0" y="1578"/>
                    </a:lnTo>
                    <a:lnTo>
                      <a:pt x="90" y="1471"/>
                    </a:lnTo>
                    <a:lnTo>
                      <a:pt x="198" y="1211"/>
                    </a:lnTo>
                    <a:lnTo>
                      <a:pt x="270" y="1105"/>
                    </a:lnTo>
                    <a:lnTo>
                      <a:pt x="341" y="941"/>
                    </a:lnTo>
                    <a:lnTo>
                      <a:pt x="341" y="794"/>
                    </a:lnTo>
                    <a:lnTo>
                      <a:pt x="484" y="704"/>
                    </a:lnTo>
                    <a:lnTo>
                      <a:pt x="567" y="455"/>
                    </a:lnTo>
                    <a:lnTo>
                      <a:pt x="567" y="261"/>
                    </a:lnTo>
                    <a:lnTo>
                      <a:pt x="558" y="121"/>
                    </a:lnTo>
                    <a:lnTo>
                      <a:pt x="532" y="42"/>
                    </a:lnTo>
                    <a:lnTo>
                      <a:pt x="468" y="0"/>
                    </a:lnTo>
                    <a:lnTo>
                      <a:pt x="521" y="60"/>
                    </a:lnTo>
                    <a:lnTo>
                      <a:pt x="532" y="110"/>
                    </a:lnTo>
                    <a:lnTo>
                      <a:pt x="521" y="139"/>
                    </a:lnTo>
                    <a:lnTo>
                      <a:pt x="444" y="90"/>
                    </a:lnTo>
                    <a:lnTo>
                      <a:pt x="437" y="97"/>
                    </a:lnTo>
                    <a:lnTo>
                      <a:pt x="488" y="178"/>
                    </a:lnTo>
                    <a:lnTo>
                      <a:pt x="505" y="305"/>
                    </a:lnTo>
                    <a:lnTo>
                      <a:pt x="505" y="429"/>
                    </a:lnTo>
                    <a:lnTo>
                      <a:pt x="468" y="275"/>
                    </a:lnTo>
                    <a:lnTo>
                      <a:pt x="345" y="110"/>
                    </a:lnTo>
                    <a:lnTo>
                      <a:pt x="320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4217760" y="5131440"/>
                <a:ext cx="87480" cy="110880"/>
              </a:xfrm>
              <a:custGeom>
                <a:avLst/>
                <a:gdLst/>
                <a:ahLst/>
                <a:rect l="l" t="t" r="r" b="b"/>
                <a:pathLst>
                  <a:path w="1057" h="1050">
                    <a:moveTo>
                      <a:pt x="90" y="0"/>
                    </a:moveTo>
                    <a:lnTo>
                      <a:pt x="68" y="195"/>
                    </a:lnTo>
                    <a:lnTo>
                      <a:pt x="72" y="281"/>
                    </a:lnTo>
                    <a:lnTo>
                      <a:pt x="105" y="356"/>
                    </a:lnTo>
                    <a:lnTo>
                      <a:pt x="158" y="424"/>
                    </a:lnTo>
                    <a:lnTo>
                      <a:pt x="259" y="506"/>
                    </a:lnTo>
                    <a:lnTo>
                      <a:pt x="558" y="651"/>
                    </a:lnTo>
                    <a:lnTo>
                      <a:pt x="842" y="758"/>
                    </a:lnTo>
                    <a:lnTo>
                      <a:pt x="925" y="762"/>
                    </a:lnTo>
                    <a:lnTo>
                      <a:pt x="995" y="758"/>
                    </a:lnTo>
                    <a:lnTo>
                      <a:pt x="1057" y="730"/>
                    </a:lnTo>
                    <a:lnTo>
                      <a:pt x="1006" y="767"/>
                    </a:lnTo>
                    <a:lnTo>
                      <a:pt x="944" y="783"/>
                    </a:lnTo>
                    <a:lnTo>
                      <a:pt x="863" y="785"/>
                    </a:lnTo>
                    <a:lnTo>
                      <a:pt x="753" y="767"/>
                    </a:lnTo>
                    <a:lnTo>
                      <a:pt x="753" y="817"/>
                    </a:lnTo>
                    <a:lnTo>
                      <a:pt x="738" y="882"/>
                    </a:lnTo>
                    <a:lnTo>
                      <a:pt x="661" y="1009"/>
                    </a:lnTo>
                    <a:lnTo>
                      <a:pt x="704" y="901"/>
                    </a:lnTo>
                    <a:lnTo>
                      <a:pt x="709" y="824"/>
                    </a:lnTo>
                    <a:lnTo>
                      <a:pt x="624" y="861"/>
                    </a:lnTo>
                    <a:lnTo>
                      <a:pt x="624" y="978"/>
                    </a:lnTo>
                    <a:lnTo>
                      <a:pt x="598" y="1013"/>
                    </a:lnTo>
                    <a:lnTo>
                      <a:pt x="624" y="1050"/>
                    </a:lnTo>
                    <a:lnTo>
                      <a:pt x="591" y="1050"/>
                    </a:lnTo>
                    <a:lnTo>
                      <a:pt x="506" y="1009"/>
                    </a:lnTo>
                    <a:lnTo>
                      <a:pt x="328" y="843"/>
                    </a:lnTo>
                    <a:lnTo>
                      <a:pt x="215" y="721"/>
                    </a:lnTo>
                    <a:lnTo>
                      <a:pt x="98" y="567"/>
                    </a:lnTo>
                    <a:lnTo>
                      <a:pt x="0" y="370"/>
                    </a:lnTo>
                    <a:lnTo>
                      <a:pt x="107" y="541"/>
                    </a:lnTo>
                    <a:lnTo>
                      <a:pt x="204" y="633"/>
                    </a:lnTo>
                    <a:lnTo>
                      <a:pt x="81" y="411"/>
                    </a:lnTo>
                    <a:lnTo>
                      <a:pt x="52" y="288"/>
                    </a:lnTo>
                    <a:lnTo>
                      <a:pt x="52" y="213"/>
                    </a:lnTo>
                    <a:lnTo>
                      <a:pt x="68" y="91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4209840" y="5099400"/>
                <a:ext cx="14400" cy="32760"/>
              </a:xfrm>
              <a:custGeom>
                <a:avLst/>
                <a:gdLst/>
                <a:ahLst/>
                <a:rect l="l" t="t" r="r" b="b"/>
                <a:pathLst>
                  <a:path w="180" h="312">
                    <a:moveTo>
                      <a:pt x="37" y="0"/>
                    </a:moveTo>
                    <a:lnTo>
                      <a:pt x="88" y="7"/>
                    </a:lnTo>
                    <a:lnTo>
                      <a:pt x="175" y="62"/>
                    </a:lnTo>
                    <a:lnTo>
                      <a:pt x="180" y="164"/>
                    </a:lnTo>
                    <a:lnTo>
                      <a:pt x="146" y="147"/>
                    </a:lnTo>
                    <a:lnTo>
                      <a:pt x="136" y="134"/>
                    </a:lnTo>
                    <a:lnTo>
                      <a:pt x="94" y="171"/>
                    </a:lnTo>
                    <a:lnTo>
                      <a:pt x="94" y="185"/>
                    </a:lnTo>
                    <a:lnTo>
                      <a:pt x="125" y="204"/>
                    </a:lnTo>
                    <a:lnTo>
                      <a:pt x="155" y="301"/>
                    </a:lnTo>
                    <a:lnTo>
                      <a:pt x="132" y="312"/>
                    </a:lnTo>
                    <a:lnTo>
                      <a:pt x="100" y="257"/>
                    </a:lnTo>
                    <a:lnTo>
                      <a:pt x="19" y="233"/>
                    </a:lnTo>
                    <a:lnTo>
                      <a:pt x="0" y="111"/>
                    </a:lnTo>
                    <a:lnTo>
                      <a:pt x="19" y="95"/>
                    </a:lnTo>
                    <a:lnTo>
                      <a:pt x="105" y="53"/>
                    </a:lnTo>
                    <a:lnTo>
                      <a:pt x="81" y="26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4211280" y="513072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69" h="17">
                    <a:moveTo>
                      <a:pt x="0" y="0"/>
                    </a:moveTo>
                    <a:lnTo>
                      <a:pt x="69" y="17"/>
                    </a:lnTo>
                    <a:lnTo>
                      <a:pt x="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4209840" y="5139000"/>
                <a:ext cx="11880" cy="20160"/>
              </a:xfrm>
              <a:custGeom>
                <a:avLst/>
                <a:gdLst/>
                <a:ahLst/>
                <a:rect l="l" t="t" r="r" b="b"/>
                <a:pathLst>
                  <a:path w="143" h="195">
                    <a:moveTo>
                      <a:pt x="0" y="0"/>
                    </a:moveTo>
                    <a:lnTo>
                      <a:pt x="26" y="23"/>
                    </a:lnTo>
                    <a:lnTo>
                      <a:pt x="67" y="37"/>
                    </a:lnTo>
                    <a:lnTo>
                      <a:pt x="143" y="18"/>
                    </a:lnTo>
                    <a:lnTo>
                      <a:pt x="114" y="85"/>
                    </a:lnTo>
                    <a:lnTo>
                      <a:pt x="61" y="103"/>
                    </a:lnTo>
                    <a:lnTo>
                      <a:pt x="33" y="195"/>
                    </a:lnTo>
                    <a:lnTo>
                      <a:pt x="6" y="140"/>
                    </a:lnTo>
                    <a:lnTo>
                      <a:pt x="6" y="112"/>
                    </a:lnTo>
                    <a:lnTo>
                      <a:pt x="33" y="85"/>
                    </a:lnTo>
                    <a:lnTo>
                      <a:pt x="15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4230000" y="5101560"/>
                <a:ext cx="576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4231080" y="5096520"/>
                <a:ext cx="8640" cy="35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4236480" y="5106600"/>
                <a:ext cx="7920" cy="27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4241880" y="5117040"/>
                <a:ext cx="5760" cy="18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4272120" y="5057640"/>
                <a:ext cx="60840" cy="17640"/>
              </a:xfrm>
              <a:custGeom>
                <a:avLst/>
                <a:gdLst/>
                <a:ahLst/>
                <a:rect l="l" t="t" r="r" b="b"/>
                <a:pathLst>
                  <a:path w="743" h="165">
                    <a:moveTo>
                      <a:pt x="0" y="0"/>
                    </a:moveTo>
                    <a:lnTo>
                      <a:pt x="116" y="18"/>
                    </a:lnTo>
                    <a:lnTo>
                      <a:pt x="351" y="101"/>
                    </a:lnTo>
                    <a:lnTo>
                      <a:pt x="519" y="138"/>
                    </a:lnTo>
                    <a:lnTo>
                      <a:pt x="743" y="16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4284720" y="5055120"/>
                <a:ext cx="40320" cy="14400"/>
              </a:xfrm>
              <a:custGeom>
                <a:avLst/>
                <a:gdLst/>
                <a:ahLst/>
                <a:rect l="l" t="t" r="r" b="b"/>
                <a:pathLst>
                  <a:path w="491" h="134">
                    <a:moveTo>
                      <a:pt x="0" y="0"/>
                    </a:moveTo>
                    <a:lnTo>
                      <a:pt x="82" y="28"/>
                    </a:lnTo>
                    <a:lnTo>
                      <a:pt x="260" y="88"/>
                    </a:lnTo>
                    <a:lnTo>
                      <a:pt x="491" y="1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4176720" y="5159520"/>
                <a:ext cx="29520" cy="61560"/>
              </a:xfrm>
              <a:custGeom>
                <a:avLst/>
                <a:gdLst/>
                <a:ahLst/>
                <a:rect l="l" t="t" r="r" b="b"/>
                <a:pathLst>
                  <a:path w="365" h="579">
                    <a:moveTo>
                      <a:pt x="365" y="0"/>
                    </a:moveTo>
                    <a:lnTo>
                      <a:pt x="277" y="129"/>
                    </a:lnTo>
                    <a:lnTo>
                      <a:pt x="277" y="265"/>
                    </a:lnTo>
                    <a:lnTo>
                      <a:pt x="350" y="579"/>
                    </a:lnTo>
                    <a:lnTo>
                      <a:pt x="224" y="290"/>
                    </a:lnTo>
                    <a:lnTo>
                      <a:pt x="224" y="199"/>
                    </a:lnTo>
                    <a:lnTo>
                      <a:pt x="0" y="199"/>
                    </a:lnTo>
                    <a:lnTo>
                      <a:pt x="187" y="76"/>
                    </a:lnTo>
                    <a:lnTo>
                      <a:pt x="277" y="76"/>
                    </a:lnTo>
                    <a:lnTo>
                      <a:pt x="3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4057560" y="5199120"/>
                <a:ext cx="348480" cy="420120"/>
              </a:xfrm>
              <a:custGeom>
                <a:avLst/>
                <a:gdLst/>
                <a:ahLst/>
                <a:rect l="l" t="t" r="r" b="b"/>
                <a:pathLst>
                  <a:path w="4215" h="3969">
                    <a:moveTo>
                      <a:pt x="1158" y="0"/>
                    </a:moveTo>
                    <a:lnTo>
                      <a:pt x="897" y="255"/>
                    </a:lnTo>
                    <a:lnTo>
                      <a:pt x="743" y="466"/>
                    </a:lnTo>
                    <a:lnTo>
                      <a:pt x="743" y="706"/>
                    </a:lnTo>
                    <a:lnTo>
                      <a:pt x="920" y="591"/>
                    </a:lnTo>
                    <a:lnTo>
                      <a:pt x="920" y="756"/>
                    </a:lnTo>
                    <a:lnTo>
                      <a:pt x="1314" y="1684"/>
                    </a:lnTo>
                    <a:lnTo>
                      <a:pt x="1224" y="1582"/>
                    </a:lnTo>
                    <a:lnTo>
                      <a:pt x="1134" y="1582"/>
                    </a:lnTo>
                    <a:lnTo>
                      <a:pt x="1072" y="1610"/>
                    </a:lnTo>
                    <a:lnTo>
                      <a:pt x="1031" y="1644"/>
                    </a:lnTo>
                    <a:lnTo>
                      <a:pt x="1174" y="1960"/>
                    </a:lnTo>
                    <a:lnTo>
                      <a:pt x="1448" y="2451"/>
                    </a:lnTo>
                    <a:lnTo>
                      <a:pt x="1868" y="2890"/>
                    </a:lnTo>
                    <a:lnTo>
                      <a:pt x="2031" y="3026"/>
                    </a:lnTo>
                    <a:lnTo>
                      <a:pt x="2031" y="3116"/>
                    </a:lnTo>
                    <a:lnTo>
                      <a:pt x="1930" y="3239"/>
                    </a:lnTo>
                    <a:lnTo>
                      <a:pt x="1930" y="3380"/>
                    </a:lnTo>
                    <a:lnTo>
                      <a:pt x="2129" y="3343"/>
                    </a:lnTo>
                    <a:lnTo>
                      <a:pt x="2158" y="3295"/>
                    </a:lnTo>
                    <a:lnTo>
                      <a:pt x="2145" y="3228"/>
                    </a:lnTo>
                    <a:lnTo>
                      <a:pt x="2094" y="3191"/>
                    </a:lnTo>
                    <a:lnTo>
                      <a:pt x="2296" y="3239"/>
                    </a:lnTo>
                    <a:lnTo>
                      <a:pt x="2435" y="3228"/>
                    </a:lnTo>
                    <a:lnTo>
                      <a:pt x="2575" y="3178"/>
                    </a:lnTo>
                    <a:lnTo>
                      <a:pt x="2712" y="3065"/>
                    </a:lnTo>
                    <a:lnTo>
                      <a:pt x="2815" y="2967"/>
                    </a:lnTo>
                    <a:lnTo>
                      <a:pt x="2749" y="3076"/>
                    </a:lnTo>
                    <a:lnTo>
                      <a:pt x="2700" y="3166"/>
                    </a:lnTo>
                    <a:lnTo>
                      <a:pt x="2903" y="3191"/>
                    </a:lnTo>
                    <a:lnTo>
                      <a:pt x="3154" y="3203"/>
                    </a:lnTo>
                    <a:lnTo>
                      <a:pt x="3357" y="3154"/>
                    </a:lnTo>
                    <a:lnTo>
                      <a:pt x="3433" y="2855"/>
                    </a:lnTo>
                    <a:lnTo>
                      <a:pt x="3468" y="2855"/>
                    </a:lnTo>
                    <a:lnTo>
                      <a:pt x="3494" y="2890"/>
                    </a:lnTo>
                    <a:lnTo>
                      <a:pt x="3521" y="2991"/>
                    </a:lnTo>
                    <a:lnTo>
                      <a:pt x="3535" y="3076"/>
                    </a:lnTo>
                    <a:lnTo>
                      <a:pt x="4203" y="3039"/>
                    </a:lnTo>
                    <a:lnTo>
                      <a:pt x="4215" y="3116"/>
                    </a:lnTo>
                    <a:lnTo>
                      <a:pt x="4215" y="3178"/>
                    </a:lnTo>
                    <a:lnTo>
                      <a:pt x="4189" y="3254"/>
                    </a:lnTo>
                    <a:lnTo>
                      <a:pt x="4037" y="3265"/>
                    </a:lnTo>
                    <a:lnTo>
                      <a:pt x="3913" y="3343"/>
                    </a:lnTo>
                    <a:lnTo>
                      <a:pt x="3683" y="3390"/>
                    </a:lnTo>
                    <a:lnTo>
                      <a:pt x="3481" y="3380"/>
                    </a:lnTo>
                    <a:lnTo>
                      <a:pt x="3281" y="3441"/>
                    </a:lnTo>
                    <a:lnTo>
                      <a:pt x="3105" y="3481"/>
                    </a:lnTo>
                    <a:lnTo>
                      <a:pt x="2852" y="3492"/>
                    </a:lnTo>
                    <a:lnTo>
                      <a:pt x="2547" y="3457"/>
                    </a:lnTo>
                    <a:lnTo>
                      <a:pt x="2320" y="3481"/>
                    </a:lnTo>
                    <a:lnTo>
                      <a:pt x="2129" y="3542"/>
                    </a:lnTo>
                    <a:lnTo>
                      <a:pt x="1990" y="3620"/>
                    </a:lnTo>
                    <a:lnTo>
                      <a:pt x="1615" y="3516"/>
                    </a:lnTo>
                    <a:lnTo>
                      <a:pt x="681" y="3969"/>
                    </a:lnTo>
                    <a:lnTo>
                      <a:pt x="0" y="3969"/>
                    </a:lnTo>
                    <a:lnTo>
                      <a:pt x="176" y="1723"/>
                    </a:lnTo>
                    <a:lnTo>
                      <a:pt x="328" y="1244"/>
                    </a:lnTo>
                    <a:lnTo>
                      <a:pt x="266" y="1558"/>
                    </a:lnTo>
                    <a:lnTo>
                      <a:pt x="418" y="2059"/>
                    </a:lnTo>
                    <a:lnTo>
                      <a:pt x="418" y="2500"/>
                    </a:lnTo>
                    <a:lnTo>
                      <a:pt x="591" y="2977"/>
                    </a:lnTo>
                    <a:lnTo>
                      <a:pt x="681" y="2977"/>
                    </a:lnTo>
                    <a:lnTo>
                      <a:pt x="907" y="2488"/>
                    </a:lnTo>
                    <a:lnTo>
                      <a:pt x="602" y="1886"/>
                    </a:lnTo>
                    <a:lnTo>
                      <a:pt x="556" y="1697"/>
                    </a:lnTo>
                    <a:lnTo>
                      <a:pt x="528" y="1497"/>
                    </a:lnTo>
                    <a:lnTo>
                      <a:pt x="556" y="1281"/>
                    </a:lnTo>
                    <a:lnTo>
                      <a:pt x="681" y="780"/>
                    </a:lnTo>
                    <a:lnTo>
                      <a:pt x="618" y="729"/>
                    </a:lnTo>
                    <a:lnTo>
                      <a:pt x="577" y="665"/>
                    </a:lnTo>
                    <a:lnTo>
                      <a:pt x="567" y="618"/>
                    </a:lnTo>
                    <a:lnTo>
                      <a:pt x="441" y="905"/>
                    </a:lnTo>
                    <a:lnTo>
                      <a:pt x="540" y="591"/>
                    </a:lnTo>
                    <a:lnTo>
                      <a:pt x="591" y="517"/>
                    </a:lnTo>
                    <a:lnTo>
                      <a:pt x="769" y="317"/>
                    </a:lnTo>
                    <a:lnTo>
                      <a:pt x="943" y="139"/>
                    </a:lnTo>
                    <a:lnTo>
                      <a:pt x="11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4170240" y="5251680"/>
                <a:ext cx="107640" cy="224640"/>
              </a:xfrm>
              <a:custGeom>
                <a:avLst/>
                <a:gdLst/>
                <a:ahLst/>
                <a:rect l="l" t="t" r="r" b="b"/>
                <a:pathLst>
                  <a:path w="1300" h="2125">
                    <a:moveTo>
                      <a:pt x="0" y="140"/>
                    </a:moveTo>
                    <a:lnTo>
                      <a:pt x="378" y="378"/>
                    </a:lnTo>
                    <a:lnTo>
                      <a:pt x="641" y="829"/>
                    </a:lnTo>
                    <a:lnTo>
                      <a:pt x="641" y="1020"/>
                    </a:lnTo>
                    <a:lnTo>
                      <a:pt x="984" y="1318"/>
                    </a:lnTo>
                    <a:lnTo>
                      <a:pt x="1111" y="1556"/>
                    </a:lnTo>
                    <a:lnTo>
                      <a:pt x="1083" y="967"/>
                    </a:lnTo>
                    <a:lnTo>
                      <a:pt x="1083" y="589"/>
                    </a:lnTo>
                    <a:lnTo>
                      <a:pt x="1111" y="327"/>
                    </a:lnTo>
                    <a:lnTo>
                      <a:pt x="1072" y="266"/>
                    </a:lnTo>
                    <a:lnTo>
                      <a:pt x="984" y="378"/>
                    </a:lnTo>
                    <a:lnTo>
                      <a:pt x="906" y="424"/>
                    </a:lnTo>
                    <a:lnTo>
                      <a:pt x="998" y="327"/>
                    </a:lnTo>
                    <a:lnTo>
                      <a:pt x="1072" y="165"/>
                    </a:lnTo>
                    <a:lnTo>
                      <a:pt x="1160" y="27"/>
                    </a:lnTo>
                    <a:lnTo>
                      <a:pt x="1212" y="0"/>
                    </a:lnTo>
                    <a:lnTo>
                      <a:pt x="1160" y="80"/>
                    </a:lnTo>
                    <a:lnTo>
                      <a:pt x="1224" y="304"/>
                    </a:lnTo>
                    <a:lnTo>
                      <a:pt x="1160" y="304"/>
                    </a:lnTo>
                    <a:lnTo>
                      <a:pt x="1146" y="516"/>
                    </a:lnTo>
                    <a:lnTo>
                      <a:pt x="1184" y="1120"/>
                    </a:lnTo>
                    <a:lnTo>
                      <a:pt x="1247" y="1723"/>
                    </a:lnTo>
                    <a:lnTo>
                      <a:pt x="1300" y="1910"/>
                    </a:lnTo>
                    <a:lnTo>
                      <a:pt x="1035" y="2059"/>
                    </a:lnTo>
                    <a:lnTo>
                      <a:pt x="1146" y="1961"/>
                    </a:lnTo>
                    <a:lnTo>
                      <a:pt x="1095" y="1881"/>
                    </a:lnTo>
                    <a:lnTo>
                      <a:pt x="971" y="1910"/>
                    </a:lnTo>
                    <a:lnTo>
                      <a:pt x="694" y="2099"/>
                    </a:lnTo>
                    <a:lnTo>
                      <a:pt x="606" y="2125"/>
                    </a:lnTo>
                    <a:lnTo>
                      <a:pt x="593" y="2086"/>
                    </a:lnTo>
                    <a:lnTo>
                      <a:pt x="756" y="1934"/>
                    </a:lnTo>
                    <a:lnTo>
                      <a:pt x="1095" y="1821"/>
                    </a:lnTo>
                    <a:lnTo>
                      <a:pt x="1045" y="1685"/>
                    </a:lnTo>
                    <a:lnTo>
                      <a:pt x="1045" y="1547"/>
                    </a:lnTo>
                    <a:lnTo>
                      <a:pt x="998" y="1470"/>
                    </a:lnTo>
                    <a:lnTo>
                      <a:pt x="606" y="1169"/>
                    </a:lnTo>
                    <a:lnTo>
                      <a:pt x="138" y="841"/>
                    </a:lnTo>
                    <a:lnTo>
                      <a:pt x="657" y="1154"/>
                    </a:lnTo>
                    <a:lnTo>
                      <a:pt x="390" y="463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4235760" y="5474520"/>
                <a:ext cx="17280" cy="49680"/>
              </a:xfrm>
              <a:custGeom>
                <a:avLst/>
                <a:gdLst/>
                <a:ahLst/>
                <a:rect l="l" t="t" r="r" b="b"/>
                <a:pathLst>
                  <a:path w="203" h="466">
                    <a:moveTo>
                      <a:pt x="203" y="0"/>
                    </a:moveTo>
                    <a:lnTo>
                      <a:pt x="111" y="51"/>
                    </a:lnTo>
                    <a:lnTo>
                      <a:pt x="0" y="403"/>
                    </a:lnTo>
                    <a:lnTo>
                      <a:pt x="99" y="466"/>
                    </a:lnTo>
                    <a:lnTo>
                      <a:pt x="203" y="378"/>
                    </a:lnTo>
                    <a:lnTo>
                      <a:pt x="203" y="136"/>
                    </a:lnTo>
                    <a:lnTo>
                      <a:pt x="152" y="136"/>
                    </a:lnTo>
                    <a:lnTo>
                      <a:pt x="152" y="76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4253760" y="5461920"/>
                <a:ext cx="41760" cy="63360"/>
              </a:xfrm>
              <a:custGeom>
                <a:avLst/>
                <a:gdLst/>
                <a:ahLst/>
                <a:rect l="l" t="t" r="r" b="b"/>
                <a:pathLst>
                  <a:path w="506" h="599">
                    <a:moveTo>
                      <a:pt x="138" y="162"/>
                    </a:moveTo>
                    <a:lnTo>
                      <a:pt x="317" y="0"/>
                    </a:lnTo>
                    <a:lnTo>
                      <a:pt x="506" y="72"/>
                    </a:lnTo>
                    <a:lnTo>
                      <a:pt x="506" y="173"/>
                    </a:lnTo>
                    <a:lnTo>
                      <a:pt x="391" y="325"/>
                    </a:lnTo>
                    <a:lnTo>
                      <a:pt x="0" y="599"/>
                    </a:lnTo>
                    <a:lnTo>
                      <a:pt x="279" y="364"/>
                    </a:lnTo>
                    <a:lnTo>
                      <a:pt x="317" y="274"/>
                    </a:lnTo>
                    <a:lnTo>
                      <a:pt x="329" y="198"/>
                    </a:lnTo>
                    <a:lnTo>
                      <a:pt x="317" y="138"/>
                    </a:lnTo>
                    <a:lnTo>
                      <a:pt x="279" y="112"/>
                    </a:lnTo>
                    <a:lnTo>
                      <a:pt x="230" y="112"/>
                    </a:lnTo>
                    <a:lnTo>
                      <a:pt x="138" y="1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4302720" y="5439240"/>
                <a:ext cx="257760" cy="105120"/>
              </a:xfrm>
              <a:custGeom>
                <a:avLst/>
                <a:gdLst/>
                <a:ahLst/>
                <a:rect l="l" t="t" r="r" b="b"/>
                <a:pathLst>
                  <a:path w="3106" h="992">
                    <a:moveTo>
                      <a:pt x="0" y="215"/>
                    </a:moveTo>
                    <a:lnTo>
                      <a:pt x="430" y="377"/>
                    </a:lnTo>
                    <a:lnTo>
                      <a:pt x="540" y="268"/>
                    </a:lnTo>
                    <a:lnTo>
                      <a:pt x="770" y="268"/>
                    </a:lnTo>
                    <a:lnTo>
                      <a:pt x="896" y="364"/>
                    </a:lnTo>
                    <a:lnTo>
                      <a:pt x="1010" y="327"/>
                    </a:lnTo>
                    <a:lnTo>
                      <a:pt x="1603" y="314"/>
                    </a:lnTo>
                    <a:lnTo>
                      <a:pt x="2017" y="226"/>
                    </a:lnTo>
                    <a:lnTo>
                      <a:pt x="2589" y="0"/>
                    </a:lnTo>
                    <a:lnTo>
                      <a:pt x="2663" y="49"/>
                    </a:lnTo>
                    <a:lnTo>
                      <a:pt x="2676" y="100"/>
                    </a:lnTo>
                    <a:lnTo>
                      <a:pt x="2614" y="162"/>
                    </a:lnTo>
                    <a:lnTo>
                      <a:pt x="2689" y="238"/>
                    </a:lnTo>
                    <a:lnTo>
                      <a:pt x="2713" y="302"/>
                    </a:lnTo>
                    <a:lnTo>
                      <a:pt x="2689" y="377"/>
                    </a:lnTo>
                    <a:lnTo>
                      <a:pt x="3091" y="413"/>
                    </a:lnTo>
                    <a:lnTo>
                      <a:pt x="3106" y="439"/>
                    </a:lnTo>
                    <a:lnTo>
                      <a:pt x="2689" y="461"/>
                    </a:lnTo>
                    <a:lnTo>
                      <a:pt x="2689" y="500"/>
                    </a:lnTo>
                    <a:lnTo>
                      <a:pt x="2713" y="540"/>
                    </a:lnTo>
                    <a:lnTo>
                      <a:pt x="3078" y="553"/>
                    </a:lnTo>
                    <a:lnTo>
                      <a:pt x="3043" y="602"/>
                    </a:lnTo>
                    <a:lnTo>
                      <a:pt x="2737" y="665"/>
                    </a:lnTo>
                    <a:lnTo>
                      <a:pt x="2737" y="715"/>
                    </a:lnTo>
                    <a:lnTo>
                      <a:pt x="2953" y="715"/>
                    </a:lnTo>
                    <a:lnTo>
                      <a:pt x="2977" y="680"/>
                    </a:lnTo>
                    <a:lnTo>
                      <a:pt x="2965" y="740"/>
                    </a:lnTo>
                    <a:lnTo>
                      <a:pt x="2589" y="791"/>
                    </a:lnTo>
                    <a:lnTo>
                      <a:pt x="2160" y="814"/>
                    </a:lnTo>
                    <a:lnTo>
                      <a:pt x="1992" y="814"/>
                    </a:lnTo>
                    <a:lnTo>
                      <a:pt x="1753" y="854"/>
                    </a:lnTo>
                    <a:lnTo>
                      <a:pt x="1676" y="992"/>
                    </a:lnTo>
                    <a:lnTo>
                      <a:pt x="1314" y="992"/>
                    </a:lnTo>
                    <a:lnTo>
                      <a:pt x="1641" y="953"/>
                    </a:lnTo>
                    <a:lnTo>
                      <a:pt x="1692" y="867"/>
                    </a:lnTo>
                    <a:lnTo>
                      <a:pt x="1715" y="752"/>
                    </a:lnTo>
                    <a:lnTo>
                      <a:pt x="1715" y="641"/>
                    </a:lnTo>
                    <a:lnTo>
                      <a:pt x="1676" y="489"/>
                    </a:lnTo>
                    <a:lnTo>
                      <a:pt x="1630" y="364"/>
                    </a:lnTo>
                    <a:lnTo>
                      <a:pt x="1010" y="377"/>
                    </a:lnTo>
                    <a:lnTo>
                      <a:pt x="881" y="401"/>
                    </a:lnTo>
                    <a:lnTo>
                      <a:pt x="669" y="314"/>
                    </a:lnTo>
                    <a:lnTo>
                      <a:pt x="468" y="473"/>
                    </a:lnTo>
                    <a:lnTo>
                      <a:pt x="415" y="401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4374360" y="5492520"/>
                <a:ext cx="29520" cy="15120"/>
              </a:xfrm>
              <a:custGeom>
                <a:avLst/>
                <a:gdLst/>
                <a:ahLst/>
                <a:rect l="l" t="t" r="r" b="b"/>
                <a:pathLst>
                  <a:path w="366" h="150">
                    <a:moveTo>
                      <a:pt x="366" y="114"/>
                    </a:moveTo>
                    <a:lnTo>
                      <a:pt x="200" y="0"/>
                    </a:lnTo>
                    <a:lnTo>
                      <a:pt x="0" y="40"/>
                    </a:lnTo>
                    <a:lnTo>
                      <a:pt x="38" y="93"/>
                    </a:lnTo>
                    <a:lnTo>
                      <a:pt x="302" y="150"/>
                    </a:lnTo>
                    <a:lnTo>
                      <a:pt x="366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4272840" y="5228640"/>
                <a:ext cx="25560" cy="231120"/>
              </a:xfrm>
              <a:custGeom>
                <a:avLst/>
                <a:gdLst/>
                <a:ahLst/>
                <a:rect l="l" t="t" r="r" b="b"/>
                <a:pathLst>
                  <a:path w="315" h="2186">
                    <a:moveTo>
                      <a:pt x="175" y="2133"/>
                    </a:moveTo>
                    <a:lnTo>
                      <a:pt x="214" y="2085"/>
                    </a:lnTo>
                    <a:lnTo>
                      <a:pt x="214" y="1958"/>
                    </a:lnTo>
                    <a:lnTo>
                      <a:pt x="124" y="1633"/>
                    </a:lnTo>
                    <a:lnTo>
                      <a:pt x="62" y="1180"/>
                    </a:lnTo>
                    <a:lnTo>
                      <a:pt x="49" y="796"/>
                    </a:lnTo>
                    <a:lnTo>
                      <a:pt x="21" y="540"/>
                    </a:lnTo>
                    <a:lnTo>
                      <a:pt x="49" y="466"/>
                    </a:lnTo>
                    <a:lnTo>
                      <a:pt x="49" y="325"/>
                    </a:lnTo>
                    <a:lnTo>
                      <a:pt x="0" y="213"/>
                    </a:lnTo>
                    <a:lnTo>
                      <a:pt x="73" y="277"/>
                    </a:lnTo>
                    <a:lnTo>
                      <a:pt x="99" y="213"/>
                    </a:lnTo>
                    <a:lnTo>
                      <a:pt x="111" y="127"/>
                    </a:lnTo>
                    <a:lnTo>
                      <a:pt x="111" y="0"/>
                    </a:lnTo>
                    <a:lnTo>
                      <a:pt x="124" y="104"/>
                    </a:lnTo>
                    <a:lnTo>
                      <a:pt x="136" y="213"/>
                    </a:lnTo>
                    <a:lnTo>
                      <a:pt x="111" y="341"/>
                    </a:lnTo>
                    <a:lnTo>
                      <a:pt x="73" y="466"/>
                    </a:lnTo>
                    <a:lnTo>
                      <a:pt x="49" y="551"/>
                    </a:lnTo>
                    <a:lnTo>
                      <a:pt x="111" y="1292"/>
                    </a:lnTo>
                    <a:lnTo>
                      <a:pt x="185" y="1732"/>
                    </a:lnTo>
                    <a:lnTo>
                      <a:pt x="262" y="1958"/>
                    </a:lnTo>
                    <a:lnTo>
                      <a:pt x="315" y="2186"/>
                    </a:lnTo>
                    <a:lnTo>
                      <a:pt x="175" y="2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4299480" y="5211720"/>
                <a:ext cx="143640" cy="259920"/>
              </a:xfrm>
              <a:custGeom>
                <a:avLst/>
                <a:gdLst/>
                <a:ahLst/>
                <a:rect l="l" t="t" r="r" b="b"/>
                <a:pathLst>
                  <a:path w="1731" h="2462">
                    <a:moveTo>
                      <a:pt x="152" y="0"/>
                    </a:moveTo>
                    <a:lnTo>
                      <a:pt x="379" y="203"/>
                    </a:lnTo>
                    <a:lnTo>
                      <a:pt x="440" y="376"/>
                    </a:lnTo>
                    <a:lnTo>
                      <a:pt x="480" y="541"/>
                    </a:lnTo>
                    <a:lnTo>
                      <a:pt x="480" y="800"/>
                    </a:lnTo>
                    <a:lnTo>
                      <a:pt x="368" y="1646"/>
                    </a:lnTo>
                    <a:lnTo>
                      <a:pt x="267" y="1747"/>
                    </a:lnTo>
                    <a:lnTo>
                      <a:pt x="0" y="1784"/>
                    </a:lnTo>
                    <a:lnTo>
                      <a:pt x="368" y="1772"/>
                    </a:lnTo>
                    <a:lnTo>
                      <a:pt x="254" y="2450"/>
                    </a:lnTo>
                    <a:lnTo>
                      <a:pt x="278" y="2462"/>
                    </a:lnTo>
                    <a:lnTo>
                      <a:pt x="406" y="1881"/>
                    </a:lnTo>
                    <a:lnTo>
                      <a:pt x="883" y="2273"/>
                    </a:lnTo>
                    <a:lnTo>
                      <a:pt x="996" y="2273"/>
                    </a:lnTo>
                    <a:lnTo>
                      <a:pt x="1174" y="2185"/>
                    </a:lnTo>
                    <a:lnTo>
                      <a:pt x="1363" y="2035"/>
                    </a:lnTo>
                    <a:lnTo>
                      <a:pt x="1500" y="1895"/>
                    </a:lnTo>
                    <a:lnTo>
                      <a:pt x="1603" y="1759"/>
                    </a:lnTo>
                    <a:lnTo>
                      <a:pt x="1462" y="1881"/>
                    </a:lnTo>
                    <a:lnTo>
                      <a:pt x="1363" y="1809"/>
                    </a:lnTo>
                    <a:lnTo>
                      <a:pt x="1480" y="1734"/>
                    </a:lnTo>
                    <a:lnTo>
                      <a:pt x="1238" y="1809"/>
                    </a:lnTo>
                    <a:lnTo>
                      <a:pt x="950" y="1846"/>
                    </a:lnTo>
                    <a:lnTo>
                      <a:pt x="669" y="1846"/>
                    </a:lnTo>
                    <a:lnTo>
                      <a:pt x="555" y="1846"/>
                    </a:lnTo>
                    <a:lnTo>
                      <a:pt x="469" y="1784"/>
                    </a:lnTo>
                    <a:lnTo>
                      <a:pt x="647" y="1708"/>
                    </a:lnTo>
                    <a:lnTo>
                      <a:pt x="1012" y="1708"/>
                    </a:lnTo>
                    <a:lnTo>
                      <a:pt x="1300" y="1545"/>
                    </a:lnTo>
                    <a:lnTo>
                      <a:pt x="1012" y="1631"/>
                    </a:lnTo>
                    <a:lnTo>
                      <a:pt x="647" y="1631"/>
                    </a:lnTo>
                    <a:lnTo>
                      <a:pt x="440" y="1685"/>
                    </a:lnTo>
                    <a:lnTo>
                      <a:pt x="440" y="1496"/>
                    </a:lnTo>
                    <a:lnTo>
                      <a:pt x="987" y="1409"/>
                    </a:lnTo>
                    <a:lnTo>
                      <a:pt x="781" y="892"/>
                    </a:lnTo>
                    <a:lnTo>
                      <a:pt x="555" y="592"/>
                    </a:lnTo>
                    <a:lnTo>
                      <a:pt x="555" y="415"/>
                    </a:lnTo>
                    <a:lnTo>
                      <a:pt x="1570" y="1444"/>
                    </a:lnTo>
                    <a:lnTo>
                      <a:pt x="1731" y="1519"/>
                    </a:lnTo>
                    <a:lnTo>
                      <a:pt x="1642" y="1332"/>
                    </a:lnTo>
                    <a:lnTo>
                      <a:pt x="733" y="477"/>
                    </a:lnTo>
                    <a:lnTo>
                      <a:pt x="620" y="267"/>
                    </a:lnTo>
                    <a:lnTo>
                      <a:pt x="304" y="51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4385520" y="5411880"/>
                <a:ext cx="64800" cy="61560"/>
              </a:xfrm>
              <a:custGeom>
                <a:avLst/>
                <a:gdLst/>
                <a:ahLst/>
                <a:rect l="l" t="t" r="r" b="b"/>
                <a:pathLst>
                  <a:path w="783" h="580">
                    <a:moveTo>
                      <a:pt x="0" y="442"/>
                    </a:moveTo>
                    <a:lnTo>
                      <a:pt x="317" y="378"/>
                    </a:lnTo>
                    <a:lnTo>
                      <a:pt x="670" y="580"/>
                    </a:lnTo>
                    <a:lnTo>
                      <a:pt x="783" y="540"/>
                    </a:lnTo>
                    <a:lnTo>
                      <a:pt x="504" y="378"/>
                    </a:lnTo>
                    <a:lnTo>
                      <a:pt x="619" y="166"/>
                    </a:lnTo>
                    <a:lnTo>
                      <a:pt x="619" y="0"/>
                    </a:lnTo>
                    <a:lnTo>
                      <a:pt x="402" y="265"/>
                    </a:lnTo>
                    <a:lnTo>
                      <a:pt x="216" y="362"/>
                    </a:lnTo>
                    <a:lnTo>
                      <a:pt x="0" y="4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4432680" y="5368680"/>
                <a:ext cx="81360" cy="74520"/>
              </a:xfrm>
              <a:custGeom>
                <a:avLst/>
                <a:gdLst/>
                <a:ahLst/>
                <a:rect l="l" t="t" r="r" b="b"/>
                <a:pathLst>
                  <a:path w="984" h="703">
                    <a:moveTo>
                      <a:pt x="189" y="314"/>
                    </a:moveTo>
                    <a:lnTo>
                      <a:pt x="367" y="212"/>
                    </a:lnTo>
                    <a:lnTo>
                      <a:pt x="744" y="364"/>
                    </a:lnTo>
                    <a:lnTo>
                      <a:pt x="744" y="500"/>
                    </a:lnTo>
                    <a:lnTo>
                      <a:pt x="442" y="579"/>
                    </a:lnTo>
                    <a:lnTo>
                      <a:pt x="809" y="567"/>
                    </a:lnTo>
                    <a:lnTo>
                      <a:pt x="984" y="703"/>
                    </a:lnTo>
                    <a:lnTo>
                      <a:pt x="870" y="450"/>
                    </a:lnTo>
                    <a:lnTo>
                      <a:pt x="707" y="265"/>
                    </a:lnTo>
                    <a:lnTo>
                      <a:pt x="343" y="164"/>
                    </a:lnTo>
                    <a:lnTo>
                      <a:pt x="202" y="0"/>
                    </a:lnTo>
                    <a:lnTo>
                      <a:pt x="0" y="164"/>
                    </a:lnTo>
                    <a:lnTo>
                      <a:pt x="178" y="63"/>
                    </a:lnTo>
                    <a:lnTo>
                      <a:pt x="239" y="149"/>
                    </a:lnTo>
                    <a:lnTo>
                      <a:pt x="189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4519440" y="5437440"/>
                <a:ext cx="48240" cy="43920"/>
              </a:xfrm>
              <a:custGeom>
                <a:avLst/>
                <a:gdLst/>
                <a:ahLst/>
                <a:rect l="l" t="t" r="r" b="b"/>
                <a:pathLst>
                  <a:path w="581" h="415">
                    <a:moveTo>
                      <a:pt x="22" y="0"/>
                    </a:moveTo>
                    <a:lnTo>
                      <a:pt x="464" y="37"/>
                    </a:lnTo>
                    <a:lnTo>
                      <a:pt x="581" y="240"/>
                    </a:lnTo>
                    <a:lnTo>
                      <a:pt x="581" y="288"/>
                    </a:lnTo>
                    <a:lnTo>
                      <a:pt x="492" y="316"/>
                    </a:lnTo>
                    <a:lnTo>
                      <a:pt x="363" y="240"/>
                    </a:lnTo>
                    <a:lnTo>
                      <a:pt x="187" y="240"/>
                    </a:lnTo>
                    <a:lnTo>
                      <a:pt x="477" y="351"/>
                    </a:lnTo>
                    <a:lnTo>
                      <a:pt x="492" y="415"/>
                    </a:lnTo>
                    <a:lnTo>
                      <a:pt x="453" y="367"/>
                    </a:lnTo>
                    <a:lnTo>
                      <a:pt x="22" y="229"/>
                    </a:lnTo>
                    <a:lnTo>
                      <a:pt x="0" y="192"/>
                    </a:lnTo>
                    <a:lnTo>
                      <a:pt x="464" y="176"/>
                    </a:lnTo>
                    <a:lnTo>
                      <a:pt x="453" y="75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4543200" y="5476320"/>
                <a:ext cx="19080" cy="37080"/>
              </a:xfrm>
              <a:custGeom>
                <a:avLst/>
                <a:gdLst/>
                <a:ahLst/>
                <a:rect l="l" t="t" r="r" b="b"/>
                <a:pathLst>
                  <a:path w="228" h="352">
                    <a:moveTo>
                      <a:pt x="186" y="99"/>
                    </a:moveTo>
                    <a:lnTo>
                      <a:pt x="186" y="163"/>
                    </a:lnTo>
                    <a:lnTo>
                      <a:pt x="96" y="210"/>
                    </a:lnTo>
                    <a:lnTo>
                      <a:pt x="0" y="275"/>
                    </a:lnTo>
                    <a:lnTo>
                      <a:pt x="72" y="352"/>
                    </a:lnTo>
                    <a:lnTo>
                      <a:pt x="125" y="249"/>
                    </a:lnTo>
                    <a:lnTo>
                      <a:pt x="228" y="187"/>
                    </a:lnTo>
                    <a:lnTo>
                      <a:pt x="228" y="74"/>
                    </a:lnTo>
                    <a:lnTo>
                      <a:pt x="186" y="0"/>
                    </a:lnTo>
                    <a:lnTo>
                      <a:pt x="186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4549320" y="5460120"/>
                <a:ext cx="30240" cy="55080"/>
              </a:xfrm>
              <a:custGeom>
                <a:avLst/>
                <a:gdLst/>
                <a:ahLst/>
                <a:rect l="l" t="t" r="r" b="b"/>
                <a:pathLst>
                  <a:path w="369" h="514">
                    <a:moveTo>
                      <a:pt x="129" y="71"/>
                    </a:moveTo>
                    <a:lnTo>
                      <a:pt x="325" y="396"/>
                    </a:lnTo>
                    <a:lnTo>
                      <a:pt x="369" y="514"/>
                    </a:lnTo>
                    <a:lnTo>
                      <a:pt x="269" y="42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4513680" y="5381280"/>
                <a:ext cx="33480" cy="60840"/>
              </a:xfrm>
              <a:custGeom>
                <a:avLst/>
                <a:gdLst/>
                <a:ahLst/>
                <a:rect l="l" t="t" r="r" b="b"/>
                <a:pathLst>
                  <a:path w="413" h="576">
                    <a:moveTo>
                      <a:pt x="319" y="558"/>
                    </a:moveTo>
                    <a:lnTo>
                      <a:pt x="0" y="46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22" y="0"/>
                    </a:lnTo>
                    <a:lnTo>
                      <a:pt x="37" y="0"/>
                    </a:lnTo>
                    <a:lnTo>
                      <a:pt x="59" y="5"/>
                    </a:lnTo>
                    <a:lnTo>
                      <a:pt x="413" y="57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461120" y="5443920"/>
                <a:ext cx="39600" cy="26280"/>
              </a:xfrm>
              <a:custGeom>
                <a:avLst/>
                <a:gdLst/>
                <a:ahLst/>
                <a:rect l="l" t="t" r="r" b="b"/>
                <a:pathLst>
                  <a:path w="477" h="244">
                    <a:moveTo>
                      <a:pt x="67" y="181"/>
                    </a:moveTo>
                    <a:lnTo>
                      <a:pt x="99" y="82"/>
                    </a:lnTo>
                    <a:lnTo>
                      <a:pt x="180" y="34"/>
                    </a:lnTo>
                    <a:lnTo>
                      <a:pt x="279" y="34"/>
                    </a:lnTo>
                    <a:lnTo>
                      <a:pt x="427" y="62"/>
                    </a:lnTo>
                    <a:lnTo>
                      <a:pt x="477" y="34"/>
                    </a:lnTo>
                    <a:lnTo>
                      <a:pt x="310" y="0"/>
                    </a:lnTo>
                    <a:lnTo>
                      <a:pt x="198" y="0"/>
                    </a:lnTo>
                    <a:lnTo>
                      <a:pt x="99" y="34"/>
                    </a:lnTo>
                    <a:lnTo>
                      <a:pt x="51" y="99"/>
                    </a:lnTo>
                    <a:lnTo>
                      <a:pt x="0" y="244"/>
                    </a:lnTo>
                    <a:lnTo>
                      <a:pt x="67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4430880" y="4943160"/>
                <a:ext cx="133560" cy="209160"/>
              </a:xfrm>
              <a:custGeom>
                <a:avLst/>
                <a:gdLst/>
                <a:ahLst/>
                <a:rect l="l" t="t" r="r" b="b"/>
                <a:pathLst>
                  <a:path w="1617" h="1969">
                    <a:moveTo>
                      <a:pt x="1578" y="822"/>
                    </a:moveTo>
                    <a:lnTo>
                      <a:pt x="1615" y="694"/>
                    </a:lnTo>
                    <a:lnTo>
                      <a:pt x="1617" y="512"/>
                    </a:lnTo>
                    <a:lnTo>
                      <a:pt x="1573" y="350"/>
                    </a:lnTo>
                    <a:lnTo>
                      <a:pt x="1506" y="233"/>
                    </a:lnTo>
                    <a:lnTo>
                      <a:pt x="1413" y="123"/>
                    </a:lnTo>
                    <a:lnTo>
                      <a:pt x="1275" y="48"/>
                    </a:lnTo>
                    <a:lnTo>
                      <a:pt x="980" y="0"/>
                    </a:lnTo>
                    <a:lnTo>
                      <a:pt x="710" y="73"/>
                    </a:lnTo>
                    <a:lnTo>
                      <a:pt x="565" y="198"/>
                    </a:lnTo>
                    <a:lnTo>
                      <a:pt x="439" y="417"/>
                    </a:lnTo>
                    <a:lnTo>
                      <a:pt x="404" y="631"/>
                    </a:lnTo>
                    <a:lnTo>
                      <a:pt x="351" y="818"/>
                    </a:lnTo>
                    <a:lnTo>
                      <a:pt x="356" y="910"/>
                    </a:lnTo>
                    <a:lnTo>
                      <a:pt x="404" y="1026"/>
                    </a:lnTo>
                    <a:lnTo>
                      <a:pt x="393" y="1095"/>
                    </a:lnTo>
                    <a:lnTo>
                      <a:pt x="268" y="1185"/>
                    </a:lnTo>
                    <a:lnTo>
                      <a:pt x="171" y="1270"/>
                    </a:lnTo>
                    <a:lnTo>
                      <a:pt x="106" y="1411"/>
                    </a:lnTo>
                    <a:lnTo>
                      <a:pt x="106" y="1484"/>
                    </a:lnTo>
                    <a:lnTo>
                      <a:pt x="116" y="1554"/>
                    </a:lnTo>
                    <a:lnTo>
                      <a:pt x="130" y="1597"/>
                    </a:lnTo>
                    <a:lnTo>
                      <a:pt x="112" y="1653"/>
                    </a:lnTo>
                    <a:lnTo>
                      <a:pt x="0" y="1754"/>
                    </a:lnTo>
                    <a:lnTo>
                      <a:pt x="160" y="1712"/>
                    </a:lnTo>
                    <a:lnTo>
                      <a:pt x="347" y="1657"/>
                    </a:lnTo>
                    <a:lnTo>
                      <a:pt x="415" y="1861"/>
                    </a:lnTo>
                    <a:lnTo>
                      <a:pt x="479" y="1969"/>
                    </a:lnTo>
                    <a:lnTo>
                      <a:pt x="450" y="1872"/>
                    </a:lnTo>
                    <a:lnTo>
                      <a:pt x="450" y="1800"/>
                    </a:lnTo>
                    <a:lnTo>
                      <a:pt x="468" y="1758"/>
                    </a:lnTo>
                    <a:lnTo>
                      <a:pt x="505" y="1754"/>
                    </a:lnTo>
                    <a:lnTo>
                      <a:pt x="565" y="1769"/>
                    </a:lnTo>
                    <a:lnTo>
                      <a:pt x="628" y="1826"/>
                    </a:lnTo>
                    <a:lnTo>
                      <a:pt x="685" y="1904"/>
                    </a:lnTo>
                    <a:lnTo>
                      <a:pt x="639" y="1754"/>
                    </a:lnTo>
                    <a:lnTo>
                      <a:pt x="618" y="1641"/>
                    </a:lnTo>
                    <a:lnTo>
                      <a:pt x="604" y="1507"/>
                    </a:lnTo>
                    <a:lnTo>
                      <a:pt x="611" y="1411"/>
                    </a:lnTo>
                    <a:lnTo>
                      <a:pt x="674" y="1507"/>
                    </a:lnTo>
                    <a:lnTo>
                      <a:pt x="765" y="1593"/>
                    </a:lnTo>
                    <a:lnTo>
                      <a:pt x="870" y="1666"/>
                    </a:lnTo>
                    <a:lnTo>
                      <a:pt x="980" y="1703"/>
                    </a:lnTo>
                    <a:lnTo>
                      <a:pt x="888" y="1666"/>
                    </a:lnTo>
                    <a:lnTo>
                      <a:pt x="802" y="1613"/>
                    </a:lnTo>
                    <a:lnTo>
                      <a:pt x="717" y="1533"/>
                    </a:lnTo>
                    <a:lnTo>
                      <a:pt x="671" y="1466"/>
                    </a:lnTo>
                    <a:lnTo>
                      <a:pt x="632" y="1399"/>
                    </a:lnTo>
                    <a:lnTo>
                      <a:pt x="618" y="1339"/>
                    </a:lnTo>
                    <a:lnTo>
                      <a:pt x="611" y="1261"/>
                    </a:lnTo>
                    <a:lnTo>
                      <a:pt x="598" y="1180"/>
                    </a:lnTo>
                    <a:lnTo>
                      <a:pt x="591" y="1042"/>
                    </a:lnTo>
                    <a:lnTo>
                      <a:pt x="584" y="1237"/>
                    </a:lnTo>
                    <a:lnTo>
                      <a:pt x="569" y="1261"/>
                    </a:lnTo>
                    <a:lnTo>
                      <a:pt x="538" y="1277"/>
                    </a:lnTo>
                    <a:lnTo>
                      <a:pt x="499" y="1261"/>
                    </a:lnTo>
                    <a:lnTo>
                      <a:pt x="479" y="1217"/>
                    </a:lnTo>
                    <a:lnTo>
                      <a:pt x="479" y="1167"/>
                    </a:lnTo>
                    <a:lnTo>
                      <a:pt x="494" y="1114"/>
                    </a:lnTo>
                    <a:lnTo>
                      <a:pt x="523" y="1072"/>
                    </a:lnTo>
                    <a:lnTo>
                      <a:pt x="487" y="1092"/>
                    </a:lnTo>
                    <a:lnTo>
                      <a:pt x="429" y="963"/>
                    </a:lnTo>
                    <a:lnTo>
                      <a:pt x="411" y="910"/>
                    </a:lnTo>
                    <a:lnTo>
                      <a:pt x="404" y="853"/>
                    </a:lnTo>
                    <a:lnTo>
                      <a:pt x="411" y="804"/>
                    </a:lnTo>
                    <a:lnTo>
                      <a:pt x="436" y="776"/>
                    </a:lnTo>
                    <a:lnTo>
                      <a:pt x="461" y="751"/>
                    </a:lnTo>
                    <a:lnTo>
                      <a:pt x="487" y="751"/>
                    </a:lnTo>
                    <a:lnTo>
                      <a:pt x="514" y="767"/>
                    </a:lnTo>
                    <a:lnTo>
                      <a:pt x="538" y="804"/>
                    </a:lnTo>
                    <a:lnTo>
                      <a:pt x="565" y="890"/>
                    </a:lnTo>
                    <a:lnTo>
                      <a:pt x="574" y="782"/>
                    </a:lnTo>
                    <a:lnTo>
                      <a:pt x="622" y="687"/>
                    </a:lnTo>
                    <a:lnTo>
                      <a:pt x="697" y="549"/>
                    </a:lnTo>
                    <a:lnTo>
                      <a:pt x="741" y="435"/>
                    </a:lnTo>
                    <a:lnTo>
                      <a:pt x="798" y="354"/>
                    </a:lnTo>
                    <a:lnTo>
                      <a:pt x="888" y="304"/>
                    </a:lnTo>
                    <a:lnTo>
                      <a:pt x="1038" y="286"/>
                    </a:lnTo>
                    <a:lnTo>
                      <a:pt x="1195" y="304"/>
                    </a:lnTo>
                    <a:lnTo>
                      <a:pt x="1393" y="343"/>
                    </a:lnTo>
                    <a:lnTo>
                      <a:pt x="1470" y="406"/>
                    </a:lnTo>
                    <a:lnTo>
                      <a:pt x="1520" y="519"/>
                    </a:lnTo>
                    <a:lnTo>
                      <a:pt x="1549" y="641"/>
                    </a:lnTo>
                    <a:lnTo>
                      <a:pt x="1569" y="883"/>
                    </a:lnTo>
                    <a:lnTo>
                      <a:pt x="1578" y="8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4492800" y="5047560"/>
                <a:ext cx="67320" cy="124560"/>
              </a:xfrm>
              <a:custGeom>
                <a:avLst/>
                <a:gdLst/>
                <a:ahLst/>
                <a:rect l="l" t="t" r="r" b="b"/>
                <a:pathLst>
                  <a:path w="817" h="1173">
                    <a:moveTo>
                      <a:pt x="817" y="0"/>
                    </a:moveTo>
                    <a:lnTo>
                      <a:pt x="786" y="103"/>
                    </a:lnTo>
                    <a:lnTo>
                      <a:pt x="718" y="359"/>
                    </a:lnTo>
                    <a:lnTo>
                      <a:pt x="634" y="514"/>
                    </a:lnTo>
                    <a:lnTo>
                      <a:pt x="569" y="608"/>
                    </a:lnTo>
                    <a:lnTo>
                      <a:pt x="481" y="703"/>
                    </a:lnTo>
                    <a:lnTo>
                      <a:pt x="417" y="723"/>
                    </a:lnTo>
                    <a:lnTo>
                      <a:pt x="305" y="732"/>
                    </a:lnTo>
                    <a:lnTo>
                      <a:pt x="187" y="707"/>
                    </a:lnTo>
                    <a:lnTo>
                      <a:pt x="94" y="661"/>
                    </a:lnTo>
                    <a:lnTo>
                      <a:pt x="0" y="596"/>
                    </a:lnTo>
                    <a:lnTo>
                      <a:pt x="57" y="692"/>
                    </a:lnTo>
                    <a:lnTo>
                      <a:pt x="136" y="758"/>
                    </a:lnTo>
                    <a:lnTo>
                      <a:pt x="206" y="800"/>
                    </a:lnTo>
                    <a:lnTo>
                      <a:pt x="300" y="825"/>
                    </a:lnTo>
                    <a:lnTo>
                      <a:pt x="380" y="825"/>
                    </a:lnTo>
                    <a:lnTo>
                      <a:pt x="329" y="1173"/>
                    </a:lnTo>
                    <a:lnTo>
                      <a:pt x="376" y="1064"/>
                    </a:lnTo>
                    <a:lnTo>
                      <a:pt x="443" y="795"/>
                    </a:lnTo>
                    <a:lnTo>
                      <a:pt x="477" y="747"/>
                    </a:lnTo>
                    <a:lnTo>
                      <a:pt x="527" y="820"/>
                    </a:lnTo>
                    <a:lnTo>
                      <a:pt x="574" y="940"/>
                    </a:lnTo>
                    <a:lnTo>
                      <a:pt x="551" y="800"/>
                    </a:lnTo>
                    <a:lnTo>
                      <a:pt x="503" y="707"/>
                    </a:lnTo>
                    <a:lnTo>
                      <a:pt x="579" y="617"/>
                    </a:lnTo>
                    <a:lnTo>
                      <a:pt x="668" y="493"/>
                    </a:lnTo>
                    <a:lnTo>
                      <a:pt x="720" y="373"/>
                    </a:lnTo>
                    <a:lnTo>
                      <a:pt x="754" y="286"/>
                    </a:lnTo>
                    <a:lnTo>
                      <a:pt x="793" y="115"/>
                    </a:lnTo>
                    <a:lnTo>
                      <a:pt x="8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4467240" y="5029560"/>
                <a:ext cx="7920" cy="22680"/>
              </a:xfrm>
              <a:custGeom>
                <a:avLst/>
                <a:gdLst/>
                <a:ahLst/>
                <a:rect l="l" t="t" r="r" b="b"/>
                <a:pathLst>
                  <a:path w="99" h="215">
                    <a:moveTo>
                      <a:pt x="11" y="0"/>
                    </a:moveTo>
                    <a:lnTo>
                      <a:pt x="48" y="7"/>
                    </a:lnTo>
                    <a:lnTo>
                      <a:pt x="91" y="60"/>
                    </a:lnTo>
                    <a:lnTo>
                      <a:pt x="99" y="111"/>
                    </a:lnTo>
                    <a:lnTo>
                      <a:pt x="94" y="145"/>
                    </a:lnTo>
                    <a:lnTo>
                      <a:pt x="60" y="162"/>
                    </a:lnTo>
                    <a:lnTo>
                      <a:pt x="55" y="180"/>
                    </a:lnTo>
                    <a:lnTo>
                      <a:pt x="73" y="215"/>
                    </a:lnTo>
                    <a:lnTo>
                      <a:pt x="22" y="169"/>
                    </a:lnTo>
                    <a:lnTo>
                      <a:pt x="22" y="145"/>
                    </a:lnTo>
                    <a:lnTo>
                      <a:pt x="36" y="123"/>
                    </a:lnTo>
                    <a:lnTo>
                      <a:pt x="55" y="106"/>
                    </a:lnTo>
                    <a:lnTo>
                      <a:pt x="84" y="92"/>
                    </a:lnTo>
                    <a:lnTo>
                      <a:pt x="73" y="65"/>
                    </a:lnTo>
                    <a:lnTo>
                      <a:pt x="60" y="42"/>
                    </a:lnTo>
                    <a:lnTo>
                      <a:pt x="36" y="28"/>
                    </a:lnTo>
                    <a:lnTo>
                      <a:pt x="11" y="60"/>
                    </a:lnTo>
                    <a:lnTo>
                      <a:pt x="11" y="79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4477680" y="5037480"/>
                <a:ext cx="3600" cy="25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4479840" y="5041440"/>
                <a:ext cx="50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4484520" y="5055840"/>
                <a:ext cx="32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4470480" y="5059080"/>
                <a:ext cx="5760" cy="16560"/>
              </a:xfrm>
              <a:custGeom>
                <a:avLst/>
                <a:gdLst/>
                <a:ahLst/>
                <a:rect l="l" t="t" r="r" b="b"/>
                <a:pathLst>
                  <a:path w="77" h="162">
                    <a:moveTo>
                      <a:pt x="33" y="0"/>
                    </a:moveTo>
                    <a:lnTo>
                      <a:pt x="59" y="28"/>
                    </a:lnTo>
                    <a:lnTo>
                      <a:pt x="72" y="63"/>
                    </a:lnTo>
                    <a:lnTo>
                      <a:pt x="77" y="112"/>
                    </a:lnTo>
                    <a:lnTo>
                      <a:pt x="72" y="145"/>
                    </a:lnTo>
                    <a:lnTo>
                      <a:pt x="54" y="158"/>
                    </a:lnTo>
                    <a:lnTo>
                      <a:pt x="33" y="162"/>
                    </a:lnTo>
                    <a:lnTo>
                      <a:pt x="8" y="158"/>
                    </a:lnTo>
                    <a:lnTo>
                      <a:pt x="0" y="116"/>
                    </a:lnTo>
                    <a:lnTo>
                      <a:pt x="44" y="123"/>
                    </a:lnTo>
                    <a:lnTo>
                      <a:pt x="51" y="88"/>
                    </a:lnTo>
                    <a:lnTo>
                      <a:pt x="59" y="63"/>
                    </a:lnTo>
                    <a:lnTo>
                      <a:pt x="54" y="3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4379040" y="5114520"/>
                <a:ext cx="235800" cy="159120"/>
              </a:xfrm>
              <a:custGeom>
                <a:avLst/>
                <a:gdLst/>
                <a:ahLst/>
                <a:rect l="l" t="t" r="r" b="b"/>
                <a:pathLst>
                  <a:path w="2847" h="1510">
                    <a:moveTo>
                      <a:pt x="1072" y="246"/>
                    </a:moveTo>
                    <a:lnTo>
                      <a:pt x="1129" y="369"/>
                    </a:lnTo>
                    <a:lnTo>
                      <a:pt x="1228" y="441"/>
                    </a:lnTo>
                    <a:lnTo>
                      <a:pt x="1369" y="516"/>
                    </a:lnTo>
                    <a:lnTo>
                      <a:pt x="1558" y="567"/>
                    </a:lnTo>
                    <a:lnTo>
                      <a:pt x="1798" y="606"/>
                    </a:lnTo>
                    <a:lnTo>
                      <a:pt x="1903" y="576"/>
                    </a:lnTo>
                    <a:lnTo>
                      <a:pt x="1945" y="507"/>
                    </a:lnTo>
                    <a:lnTo>
                      <a:pt x="1969" y="408"/>
                    </a:lnTo>
                    <a:lnTo>
                      <a:pt x="1969" y="345"/>
                    </a:lnTo>
                    <a:lnTo>
                      <a:pt x="1929" y="239"/>
                    </a:lnTo>
                    <a:lnTo>
                      <a:pt x="1890" y="171"/>
                    </a:lnTo>
                    <a:lnTo>
                      <a:pt x="1839" y="120"/>
                    </a:lnTo>
                    <a:lnTo>
                      <a:pt x="1903" y="32"/>
                    </a:lnTo>
                    <a:lnTo>
                      <a:pt x="1945" y="0"/>
                    </a:lnTo>
                    <a:lnTo>
                      <a:pt x="2160" y="113"/>
                    </a:lnTo>
                    <a:lnTo>
                      <a:pt x="2400" y="162"/>
                    </a:lnTo>
                    <a:lnTo>
                      <a:pt x="2630" y="252"/>
                    </a:lnTo>
                    <a:lnTo>
                      <a:pt x="2847" y="378"/>
                    </a:lnTo>
                    <a:lnTo>
                      <a:pt x="2556" y="252"/>
                    </a:lnTo>
                    <a:lnTo>
                      <a:pt x="2342" y="191"/>
                    </a:lnTo>
                    <a:lnTo>
                      <a:pt x="2202" y="171"/>
                    </a:lnTo>
                    <a:lnTo>
                      <a:pt x="2052" y="171"/>
                    </a:lnTo>
                    <a:lnTo>
                      <a:pt x="1987" y="215"/>
                    </a:lnTo>
                    <a:lnTo>
                      <a:pt x="2004" y="387"/>
                    </a:lnTo>
                    <a:lnTo>
                      <a:pt x="1987" y="484"/>
                    </a:lnTo>
                    <a:lnTo>
                      <a:pt x="1953" y="590"/>
                    </a:lnTo>
                    <a:lnTo>
                      <a:pt x="1903" y="655"/>
                    </a:lnTo>
                    <a:lnTo>
                      <a:pt x="1789" y="760"/>
                    </a:lnTo>
                    <a:lnTo>
                      <a:pt x="1789" y="707"/>
                    </a:lnTo>
                    <a:lnTo>
                      <a:pt x="1749" y="673"/>
                    </a:lnTo>
                    <a:lnTo>
                      <a:pt x="1708" y="687"/>
                    </a:lnTo>
                    <a:lnTo>
                      <a:pt x="1696" y="738"/>
                    </a:lnTo>
                    <a:lnTo>
                      <a:pt x="1720" y="770"/>
                    </a:lnTo>
                    <a:lnTo>
                      <a:pt x="1756" y="779"/>
                    </a:lnTo>
                    <a:lnTo>
                      <a:pt x="1731" y="813"/>
                    </a:lnTo>
                    <a:lnTo>
                      <a:pt x="1674" y="802"/>
                    </a:lnTo>
                    <a:lnTo>
                      <a:pt x="1648" y="760"/>
                    </a:lnTo>
                    <a:lnTo>
                      <a:pt x="1659" y="707"/>
                    </a:lnTo>
                    <a:lnTo>
                      <a:pt x="1681" y="666"/>
                    </a:lnTo>
                    <a:lnTo>
                      <a:pt x="1720" y="648"/>
                    </a:lnTo>
                    <a:lnTo>
                      <a:pt x="1780" y="624"/>
                    </a:lnTo>
                    <a:lnTo>
                      <a:pt x="1433" y="567"/>
                    </a:lnTo>
                    <a:lnTo>
                      <a:pt x="1235" y="500"/>
                    </a:lnTo>
                    <a:lnTo>
                      <a:pt x="1353" y="795"/>
                    </a:lnTo>
                    <a:lnTo>
                      <a:pt x="1549" y="1289"/>
                    </a:lnTo>
                    <a:lnTo>
                      <a:pt x="1648" y="1510"/>
                    </a:lnTo>
                    <a:lnTo>
                      <a:pt x="1358" y="903"/>
                    </a:lnTo>
                    <a:lnTo>
                      <a:pt x="1201" y="576"/>
                    </a:lnTo>
                    <a:lnTo>
                      <a:pt x="1046" y="378"/>
                    </a:lnTo>
                    <a:lnTo>
                      <a:pt x="896" y="239"/>
                    </a:lnTo>
                    <a:lnTo>
                      <a:pt x="774" y="156"/>
                    </a:lnTo>
                    <a:lnTo>
                      <a:pt x="668" y="147"/>
                    </a:lnTo>
                    <a:lnTo>
                      <a:pt x="525" y="162"/>
                    </a:lnTo>
                    <a:lnTo>
                      <a:pt x="106" y="270"/>
                    </a:lnTo>
                    <a:lnTo>
                      <a:pt x="0" y="345"/>
                    </a:lnTo>
                    <a:lnTo>
                      <a:pt x="106" y="239"/>
                    </a:lnTo>
                    <a:lnTo>
                      <a:pt x="493" y="94"/>
                    </a:lnTo>
                    <a:lnTo>
                      <a:pt x="749" y="90"/>
                    </a:lnTo>
                    <a:lnTo>
                      <a:pt x="995" y="15"/>
                    </a:lnTo>
                    <a:lnTo>
                      <a:pt x="1072" y="2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4363560" y="5158440"/>
                <a:ext cx="93960" cy="181440"/>
              </a:xfrm>
              <a:custGeom>
                <a:avLst/>
                <a:gdLst/>
                <a:ahLst/>
                <a:rect l="l" t="t" r="r" b="b"/>
                <a:pathLst>
                  <a:path w="1134" h="1714">
                    <a:moveTo>
                      <a:pt x="159" y="0"/>
                    </a:moveTo>
                    <a:lnTo>
                      <a:pt x="264" y="31"/>
                    </a:lnTo>
                    <a:lnTo>
                      <a:pt x="365" y="113"/>
                    </a:lnTo>
                    <a:lnTo>
                      <a:pt x="447" y="229"/>
                    </a:lnTo>
                    <a:lnTo>
                      <a:pt x="521" y="367"/>
                    </a:lnTo>
                    <a:lnTo>
                      <a:pt x="570" y="484"/>
                    </a:lnTo>
                    <a:lnTo>
                      <a:pt x="611" y="591"/>
                    </a:lnTo>
                    <a:lnTo>
                      <a:pt x="491" y="409"/>
                    </a:lnTo>
                    <a:lnTo>
                      <a:pt x="387" y="288"/>
                    </a:lnTo>
                    <a:lnTo>
                      <a:pt x="264" y="205"/>
                    </a:lnTo>
                    <a:lnTo>
                      <a:pt x="167" y="157"/>
                    </a:lnTo>
                    <a:lnTo>
                      <a:pt x="167" y="319"/>
                    </a:lnTo>
                    <a:lnTo>
                      <a:pt x="222" y="499"/>
                    </a:lnTo>
                    <a:lnTo>
                      <a:pt x="312" y="646"/>
                    </a:lnTo>
                    <a:lnTo>
                      <a:pt x="413" y="754"/>
                    </a:lnTo>
                    <a:lnTo>
                      <a:pt x="598" y="886"/>
                    </a:lnTo>
                    <a:lnTo>
                      <a:pt x="768" y="998"/>
                    </a:lnTo>
                    <a:lnTo>
                      <a:pt x="860" y="1049"/>
                    </a:lnTo>
                    <a:lnTo>
                      <a:pt x="818" y="925"/>
                    </a:lnTo>
                    <a:lnTo>
                      <a:pt x="923" y="1132"/>
                    </a:lnTo>
                    <a:lnTo>
                      <a:pt x="976" y="1301"/>
                    </a:lnTo>
                    <a:lnTo>
                      <a:pt x="1007" y="1508"/>
                    </a:lnTo>
                    <a:lnTo>
                      <a:pt x="1081" y="1631"/>
                    </a:lnTo>
                    <a:lnTo>
                      <a:pt x="1134" y="1714"/>
                    </a:lnTo>
                    <a:lnTo>
                      <a:pt x="959" y="1559"/>
                    </a:lnTo>
                    <a:lnTo>
                      <a:pt x="959" y="1642"/>
                    </a:lnTo>
                    <a:lnTo>
                      <a:pt x="877" y="1665"/>
                    </a:lnTo>
                    <a:lnTo>
                      <a:pt x="918" y="1609"/>
                    </a:lnTo>
                    <a:lnTo>
                      <a:pt x="908" y="1534"/>
                    </a:lnTo>
                    <a:lnTo>
                      <a:pt x="703" y="1402"/>
                    </a:lnTo>
                    <a:lnTo>
                      <a:pt x="877" y="1411"/>
                    </a:lnTo>
                    <a:lnTo>
                      <a:pt x="736" y="1204"/>
                    </a:lnTo>
                    <a:lnTo>
                      <a:pt x="853" y="1195"/>
                    </a:lnTo>
                    <a:lnTo>
                      <a:pt x="869" y="1147"/>
                    </a:lnTo>
                    <a:lnTo>
                      <a:pt x="703" y="1141"/>
                    </a:lnTo>
                    <a:lnTo>
                      <a:pt x="494" y="1077"/>
                    </a:lnTo>
                    <a:lnTo>
                      <a:pt x="249" y="967"/>
                    </a:lnTo>
                    <a:lnTo>
                      <a:pt x="99" y="860"/>
                    </a:lnTo>
                    <a:lnTo>
                      <a:pt x="84" y="886"/>
                    </a:lnTo>
                    <a:lnTo>
                      <a:pt x="143" y="985"/>
                    </a:lnTo>
                    <a:lnTo>
                      <a:pt x="240" y="1077"/>
                    </a:lnTo>
                    <a:lnTo>
                      <a:pt x="339" y="1132"/>
                    </a:lnTo>
                    <a:lnTo>
                      <a:pt x="413" y="1338"/>
                    </a:lnTo>
                    <a:lnTo>
                      <a:pt x="644" y="1402"/>
                    </a:lnTo>
                    <a:lnTo>
                      <a:pt x="482" y="1386"/>
                    </a:lnTo>
                    <a:lnTo>
                      <a:pt x="556" y="1460"/>
                    </a:lnTo>
                    <a:lnTo>
                      <a:pt x="763" y="1508"/>
                    </a:lnTo>
                    <a:lnTo>
                      <a:pt x="853" y="1582"/>
                    </a:lnTo>
                    <a:lnTo>
                      <a:pt x="826" y="1631"/>
                    </a:lnTo>
                    <a:lnTo>
                      <a:pt x="694" y="1591"/>
                    </a:lnTo>
                    <a:lnTo>
                      <a:pt x="598" y="1600"/>
                    </a:lnTo>
                    <a:lnTo>
                      <a:pt x="51" y="1107"/>
                    </a:lnTo>
                    <a:lnTo>
                      <a:pt x="21" y="943"/>
                    </a:lnTo>
                    <a:lnTo>
                      <a:pt x="9" y="826"/>
                    </a:lnTo>
                    <a:lnTo>
                      <a:pt x="51" y="770"/>
                    </a:lnTo>
                    <a:lnTo>
                      <a:pt x="21" y="642"/>
                    </a:lnTo>
                    <a:lnTo>
                      <a:pt x="0" y="443"/>
                    </a:lnTo>
                    <a:lnTo>
                      <a:pt x="25" y="279"/>
                    </a:lnTo>
                    <a:lnTo>
                      <a:pt x="77" y="132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429440" y="5332320"/>
                <a:ext cx="26280" cy="42480"/>
              </a:xfrm>
              <a:custGeom>
                <a:avLst/>
                <a:gdLst/>
                <a:ahLst/>
                <a:rect l="l" t="t" r="r" b="b"/>
                <a:pathLst>
                  <a:path w="318" h="399">
                    <a:moveTo>
                      <a:pt x="0" y="138"/>
                    </a:moveTo>
                    <a:lnTo>
                      <a:pt x="87" y="23"/>
                    </a:lnTo>
                    <a:lnTo>
                      <a:pt x="168" y="0"/>
                    </a:lnTo>
                    <a:lnTo>
                      <a:pt x="221" y="72"/>
                    </a:lnTo>
                    <a:lnTo>
                      <a:pt x="221" y="336"/>
                    </a:lnTo>
                    <a:lnTo>
                      <a:pt x="285" y="106"/>
                    </a:lnTo>
                    <a:lnTo>
                      <a:pt x="318" y="196"/>
                    </a:lnTo>
                    <a:lnTo>
                      <a:pt x="318" y="295"/>
                    </a:lnTo>
                    <a:lnTo>
                      <a:pt x="246" y="399"/>
                    </a:lnTo>
                    <a:lnTo>
                      <a:pt x="186" y="399"/>
                    </a:lnTo>
                    <a:lnTo>
                      <a:pt x="39" y="261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4452480" y="5169600"/>
                <a:ext cx="193320" cy="227880"/>
              </a:xfrm>
              <a:custGeom>
                <a:avLst/>
                <a:gdLst/>
                <a:ahLst/>
                <a:rect l="l" t="t" r="r" b="b"/>
                <a:pathLst>
                  <a:path w="2335" h="2151">
                    <a:moveTo>
                      <a:pt x="87" y="1633"/>
                    </a:moveTo>
                    <a:lnTo>
                      <a:pt x="112" y="1705"/>
                    </a:lnTo>
                    <a:lnTo>
                      <a:pt x="123" y="1896"/>
                    </a:lnTo>
                    <a:lnTo>
                      <a:pt x="0" y="1953"/>
                    </a:lnTo>
                    <a:lnTo>
                      <a:pt x="39" y="1978"/>
                    </a:lnTo>
                    <a:lnTo>
                      <a:pt x="182" y="1953"/>
                    </a:lnTo>
                    <a:lnTo>
                      <a:pt x="742" y="2068"/>
                    </a:lnTo>
                    <a:lnTo>
                      <a:pt x="732" y="2032"/>
                    </a:lnTo>
                    <a:lnTo>
                      <a:pt x="732" y="2011"/>
                    </a:lnTo>
                    <a:lnTo>
                      <a:pt x="758" y="1997"/>
                    </a:lnTo>
                    <a:lnTo>
                      <a:pt x="791" y="2002"/>
                    </a:lnTo>
                    <a:lnTo>
                      <a:pt x="806" y="2032"/>
                    </a:lnTo>
                    <a:lnTo>
                      <a:pt x="830" y="2061"/>
                    </a:lnTo>
                    <a:lnTo>
                      <a:pt x="883" y="2068"/>
                    </a:lnTo>
                    <a:lnTo>
                      <a:pt x="958" y="2127"/>
                    </a:lnTo>
                    <a:lnTo>
                      <a:pt x="938" y="2068"/>
                    </a:lnTo>
                    <a:lnTo>
                      <a:pt x="1180" y="2011"/>
                    </a:lnTo>
                    <a:lnTo>
                      <a:pt x="1477" y="1845"/>
                    </a:lnTo>
                    <a:lnTo>
                      <a:pt x="1807" y="1930"/>
                    </a:lnTo>
                    <a:lnTo>
                      <a:pt x="1872" y="2061"/>
                    </a:lnTo>
                    <a:lnTo>
                      <a:pt x="1872" y="2142"/>
                    </a:lnTo>
                    <a:lnTo>
                      <a:pt x="1883" y="2151"/>
                    </a:lnTo>
                    <a:lnTo>
                      <a:pt x="1897" y="2061"/>
                    </a:lnTo>
                    <a:lnTo>
                      <a:pt x="1823" y="1912"/>
                    </a:lnTo>
                    <a:lnTo>
                      <a:pt x="1666" y="1815"/>
                    </a:lnTo>
                    <a:lnTo>
                      <a:pt x="1731" y="1714"/>
                    </a:lnTo>
                    <a:lnTo>
                      <a:pt x="1855" y="1668"/>
                    </a:lnTo>
                    <a:lnTo>
                      <a:pt x="2003" y="1642"/>
                    </a:lnTo>
                    <a:lnTo>
                      <a:pt x="2189" y="1674"/>
                    </a:lnTo>
                    <a:lnTo>
                      <a:pt x="2226" y="1705"/>
                    </a:lnTo>
                    <a:lnTo>
                      <a:pt x="2235" y="1804"/>
                    </a:lnTo>
                    <a:lnTo>
                      <a:pt x="2285" y="1887"/>
                    </a:lnTo>
                    <a:lnTo>
                      <a:pt x="2335" y="1771"/>
                    </a:lnTo>
                    <a:lnTo>
                      <a:pt x="2309" y="1700"/>
                    </a:lnTo>
                    <a:lnTo>
                      <a:pt x="2219" y="1608"/>
                    </a:lnTo>
                    <a:lnTo>
                      <a:pt x="2102" y="1510"/>
                    </a:lnTo>
                    <a:lnTo>
                      <a:pt x="2010" y="1402"/>
                    </a:lnTo>
                    <a:lnTo>
                      <a:pt x="1929" y="1439"/>
                    </a:lnTo>
                    <a:lnTo>
                      <a:pt x="1883" y="1559"/>
                    </a:lnTo>
                    <a:lnTo>
                      <a:pt x="1839" y="1536"/>
                    </a:lnTo>
                    <a:lnTo>
                      <a:pt x="1883" y="1428"/>
                    </a:lnTo>
                    <a:lnTo>
                      <a:pt x="1929" y="1338"/>
                    </a:lnTo>
                    <a:lnTo>
                      <a:pt x="2138" y="1255"/>
                    </a:lnTo>
                    <a:lnTo>
                      <a:pt x="2235" y="1165"/>
                    </a:lnTo>
                    <a:lnTo>
                      <a:pt x="2189" y="1041"/>
                    </a:lnTo>
                    <a:lnTo>
                      <a:pt x="2169" y="1142"/>
                    </a:lnTo>
                    <a:lnTo>
                      <a:pt x="2063" y="1206"/>
                    </a:lnTo>
                    <a:lnTo>
                      <a:pt x="1962" y="1232"/>
                    </a:lnTo>
                    <a:lnTo>
                      <a:pt x="1883" y="1239"/>
                    </a:lnTo>
                    <a:lnTo>
                      <a:pt x="1855" y="1213"/>
                    </a:lnTo>
                    <a:lnTo>
                      <a:pt x="1872" y="1181"/>
                    </a:lnTo>
                    <a:lnTo>
                      <a:pt x="2039" y="1066"/>
                    </a:lnTo>
                    <a:lnTo>
                      <a:pt x="2169" y="943"/>
                    </a:lnTo>
                    <a:lnTo>
                      <a:pt x="2197" y="1001"/>
                    </a:lnTo>
                    <a:lnTo>
                      <a:pt x="2201" y="868"/>
                    </a:lnTo>
                    <a:lnTo>
                      <a:pt x="2180" y="720"/>
                    </a:lnTo>
                    <a:lnTo>
                      <a:pt x="2169" y="565"/>
                    </a:lnTo>
                    <a:lnTo>
                      <a:pt x="2180" y="337"/>
                    </a:lnTo>
                    <a:lnTo>
                      <a:pt x="2153" y="114"/>
                    </a:lnTo>
                    <a:lnTo>
                      <a:pt x="2111" y="0"/>
                    </a:lnTo>
                    <a:lnTo>
                      <a:pt x="2144" y="182"/>
                    </a:lnTo>
                    <a:lnTo>
                      <a:pt x="2144" y="400"/>
                    </a:lnTo>
                    <a:lnTo>
                      <a:pt x="2111" y="582"/>
                    </a:lnTo>
                    <a:lnTo>
                      <a:pt x="1982" y="868"/>
                    </a:lnTo>
                    <a:lnTo>
                      <a:pt x="2088" y="706"/>
                    </a:lnTo>
                    <a:lnTo>
                      <a:pt x="2127" y="771"/>
                    </a:lnTo>
                    <a:lnTo>
                      <a:pt x="2144" y="861"/>
                    </a:lnTo>
                    <a:lnTo>
                      <a:pt x="2120" y="936"/>
                    </a:lnTo>
                    <a:lnTo>
                      <a:pt x="2003" y="1041"/>
                    </a:lnTo>
                    <a:lnTo>
                      <a:pt x="1865" y="1125"/>
                    </a:lnTo>
                    <a:lnTo>
                      <a:pt x="1872" y="1050"/>
                    </a:lnTo>
                    <a:lnTo>
                      <a:pt x="1673" y="1273"/>
                    </a:lnTo>
                    <a:lnTo>
                      <a:pt x="1402" y="1476"/>
                    </a:lnTo>
                    <a:lnTo>
                      <a:pt x="1169" y="1584"/>
                    </a:lnTo>
                    <a:lnTo>
                      <a:pt x="965" y="1633"/>
                    </a:lnTo>
                    <a:lnTo>
                      <a:pt x="615" y="1600"/>
                    </a:lnTo>
                    <a:lnTo>
                      <a:pt x="410" y="1608"/>
                    </a:lnTo>
                    <a:lnTo>
                      <a:pt x="195" y="1626"/>
                    </a:lnTo>
                    <a:lnTo>
                      <a:pt x="87" y="16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4554000" y="5160240"/>
                <a:ext cx="14400" cy="149040"/>
              </a:xfrm>
              <a:custGeom>
                <a:avLst/>
                <a:gdLst/>
                <a:ahLst/>
                <a:rect l="l" t="t" r="r" b="b"/>
                <a:pathLst>
                  <a:path w="180" h="1411">
                    <a:moveTo>
                      <a:pt x="0" y="33"/>
                    </a:moveTo>
                    <a:lnTo>
                      <a:pt x="99" y="263"/>
                    </a:lnTo>
                    <a:lnTo>
                      <a:pt x="129" y="483"/>
                    </a:lnTo>
                    <a:lnTo>
                      <a:pt x="124" y="802"/>
                    </a:lnTo>
                    <a:lnTo>
                      <a:pt x="81" y="1075"/>
                    </a:lnTo>
                    <a:lnTo>
                      <a:pt x="9" y="1411"/>
                    </a:lnTo>
                    <a:lnTo>
                      <a:pt x="90" y="1386"/>
                    </a:lnTo>
                    <a:lnTo>
                      <a:pt x="140" y="1303"/>
                    </a:lnTo>
                    <a:lnTo>
                      <a:pt x="171" y="1140"/>
                    </a:lnTo>
                    <a:lnTo>
                      <a:pt x="180" y="886"/>
                    </a:lnTo>
                    <a:lnTo>
                      <a:pt x="171" y="556"/>
                    </a:lnTo>
                    <a:lnTo>
                      <a:pt x="145" y="344"/>
                    </a:lnTo>
                    <a:lnTo>
                      <a:pt x="105" y="180"/>
                    </a:lnTo>
                    <a:lnTo>
                      <a:pt x="39" y="22"/>
                    </a:lnTo>
                    <a:lnTo>
                      <a:pt x="9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4523040" y="5257800"/>
                <a:ext cx="11520" cy="15120"/>
              </a:xfrm>
              <a:custGeom>
                <a:avLst/>
                <a:gdLst/>
                <a:ahLst/>
                <a:rect l="l" t="t" r="r" b="b"/>
                <a:pathLst>
                  <a:path w="141" h="141">
                    <a:moveTo>
                      <a:pt x="101" y="7"/>
                    </a:moveTo>
                    <a:lnTo>
                      <a:pt x="66" y="7"/>
                    </a:lnTo>
                    <a:lnTo>
                      <a:pt x="42" y="31"/>
                    </a:lnTo>
                    <a:lnTo>
                      <a:pt x="51" y="62"/>
                    </a:lnTo>
                    <a:lnTo>
                      <a:pt x="77" y="88"/>
                    </a:lnTo>
                    <a:lnTo>
                      <a:pt x="110" y="72"/>
                    </a:lnTo>
                    <a:lnTo>
                      <a:pt x="123" y="49"/>
                    </a:lnTo>
                    <a:lnTo>
                      <a:pt x="123" y="31"/>
                    </a:lnTo>
                    <a:lnTo>
                      <a:pt x="141" y="62"/>
                    </a:lnTo>
                    <a:lnTo>
                      <a:pt x="123" y="113"/>
                    </a:lnTo>
                    <a:lnTo>
                      <a:pt x="77" y="141"/>
                    </a:lnTo>
                    <a:lnTo>
                      <a:pt x="18" y="106"/>
                    </a:lnTo>
                    <a:lnTo>
                      <a:pt x="0" y="49"/>
                    </a:lnTo>
                    <a:lnTo>
                      <a:pt x="42" y="7"/>
                    </a:lnTo>
                    <a:lnTo>
                      <a:pt x="66" y="0"/>
                    </a:lnTo>
                    <a:lnTo>
                      <a:pt x="10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4624200" y="5296680"/>
                <a:ext cx="21600" cy="53280"/>
              </a:xfrm>
              <a:custGeom>
                <a:avLst/>
                <a:gdLst/>
                <a:ahLst/>
                <a:rect l="l" t="t" r="r" b="b"/>
                <a:pathLst>
                  <a:path w="265" h="505">
                    <a:moveTo>
                      <a:pt x="215" y="0"/>
                    </a:moveTo>
                    <a:lnTo>
                      <a:pt x="215" y="71"/>
                    </a:lnTo>
                    <a:lnTo>
                      <a:pt x="0" y="193"/>
                    </a:lnTo>
                    <a:lnTo>
                      <a:pt x="131" y="152"/>
                    </a:lnTo>
                    <a:lnTo>
                      <a:pt x="131" y="277"/>
                    </a:lnTo>
                    <a:lnTo>
                      <a:pt x="57" y="258"/>
                    </a:lnTo>
                    <a:lnTo>
                      <a:pt x="239" y="431"/>
                    </a:lnTo>
                    <a:lnTo>
                      <a:pt x="265" y="505"/>
                    </a:lnTo>
                    <a:lnTo>
                      <a:pt x="255" y="405"/>
                    </a:lnTo>
                    <a:lnTo>
                      <a:pt x="180" y="308"/>
                    </a:lnTo>
                    <a:lnTo>
                      <a:pt x="180" y="143"/>
                    </a:lnTo>
                    <a:lnTo>
                      <a:pt x="233" y="92"/>
                    </a:lnTo>
                    <a:lnTo>
                      <a:pt x="233" y="51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4599000" y="5355000"/>
                <a:ext cx="75960" cy="56880"/>
              </a:xfrm>
              <a:custGeom>
                <a:avLst/>
                <a:gdLst/>
                <a:ahLst/>
                <a:rect l="l" t="t" r="r" b="b"/>
                <a:pathLst>
                  <a:path w="918" h="541">
                    <a:moveTo>
                      <a:pt x="529" y="181"/>
                    </a:moveTo>
                    <a:lnTo>
                      <a:pt x="520" y="211"/>
                    </a:lnTo>
                    <a:lnTo>
                      <a:pt x="470" y="211"/>
                    </a:lnTo>
                    <a:lnTo>
                      <a:pt x="379" y="55"/>
                    </a:lnTo>
                    <a:lnTo>
                      <a:pt x="217" y="0"/>
                    </a:lnTo>
                    <a:lnTo>
                      <a:pt x="35" y="55"/>
                    </a:lnTo>
                    <a:lnTo>
                      <a:pt x="0" y="123"/>
                    </a:lnTo>
                    <a:lnTo>
                      <a:pt x="65" y="186"/>
                    </a:lnTo>
                    <a:lnTo>
                      <a:pt x="123" y="294"/>
                    </a:lnTo>
                    <a:lnTo>
                      <a:pt x="245" y="172"/>
                    </a:lnTo>
                    <a:lnTo>
                      <a:pt x="373" y="195"/>
                    </a:lnTo>
                    <a:lnTo>
                      <a:pt x="553" y="283"/>
                    </a:lnTo>
                    <a:lnTo>
                      <a:pt x="613" y="319"/>
                    </a:lnTo>
                    <a:lnTo>
                      <a:pt x="619" y="411"/>
                    </a:lnTo>
                    <a:lnTo>
                      <a:pt x="529" y="474"/>
                    </a:lnTo>
                    <a:lnTo>
                      <a:pt x="619" y="541"/>
                    </a:lnTo>
                    <a:lnTo>
                      <a:pt x="918" y="541"/>
                    </a:lnTo>
                    <a:lnTo>
                      <a:pt x="793" y="424"/>
                    </a:lnTo>
                    <a:lnTo>
                      <a:pt x="727" y="424"/>
                    </a:lnTo>
                    <a:lnTo>
                      <a:pt x="660" y="253"/>
                    </a:lnTo>
                    <a:lnTo>
                      <a:pt x="577" y="204"/>
                    </a:lnTo>
                    <a:lnTo>
                      <a:pt x="529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4536720" y="5381280"/>
                <a:ext cx="108000" cy="48960"/>
              </a:xfrm>
              <a:custGeom>
                <a:avLst/>
                <a:gdLst/>
                <a:ahLst/>
                <a:rect l="l" t="t" r="r" b="b"/>
                <a:pathLst>
                  <a:path w="1305" h="464">
                    <a:moveTo>
                      <a:pt x="1248" y="185"/>
                    </a:moveTo>
                    <a:lnTo>
                      <a:pt x="1184" y="130"/>
                    </a:lnTo>
                    <a:lnTo>
                      <a:pt x="1149" y="53"/>
                    </a:lnTo>
                    <a:lnTo>
                      <a:pt x="1066" y="71"/>
                    </a:lnTo>
                    <a:lnTo>
                      <a:pt x="1033" y="242"/>
                    </a:lnTo>
                    <a:lnTo>
                      <a:pt x="1089" y="293"/>
                    </a:lnTo>
                    <a:lnTo>
                      <a:pt x="944" y="293"/>
                    </a:lnTo>
                    <a:lnTo>
                      <a:pt x="826" y="341"/>
                    </a:lnTo>
                    <a:lnTo>
                      <a:pt x="497" y="433"/>
                    </a:lnTo>
                    <a:lnTo>
                      <a:pt x="308" y="464"/>
                    </a:lnTo>
                    <a:lnTo>
                      <a:pt x="149" y="464"/>
                    </a:lnTo>
                    <a:lnTo>
                      <a:pt x="50" y="433"/>
                    </a:lnTo>
                    <a:lnTo>
                      <a:pt x="0" y="350"/>
                    </a:lnTo>
                    <a:lnTo>
                      <a:pt x="50" y="350"/>
                    </a:lnTo>
                    <a:lnTo>
                      <a:pt x="200" y="415"/>
                    </a:lnTo>
                    <a:lnTo>
                      <a:pt x="349" y="424"/>
                    </a:lnTo>
                    <a:lnTo>
                      <a:pt x="547" y="392"/>
                    </a:lnTo>
                    <a:lnTo>
                      <a:pt x="769" y="311"/>
                    </a:lnTo>
                    <a:lnTo>
                      <a:pt x="826" y="286"/>
                    </a:lnTo>
                    <a:lnTo>
                      <a:pt x="769" y="176"/>
                    </a:lnTo>
                    <a:lnTo>
                      <a:pt x="695" y="110"/>
                    </a:lnTo>
                    <a:lnTo>
                      <a:pt x="605" y="14"/>
                    </a:lnTo>
                    <a:lnTo>
                      <a:pt x="769" y="46"/>
                    </a:lnTo>
                    <a:lnTo>
                      <a:pt x="810" y="110"/>
                    </a:lnTo>
                    <a:lnTo>
                      <a:pt x="870" y="64"/>
                    </a:lnTo>
                    <a:lnTo>
                      <a:pt x="870" y="130"/>
                    </a:lnTo>
                    <a:lnTo>
                      <a:pt x="1033" y="0"/>
                    </a:lnTo>
                    <a:lnTo>
                      <a:pt x="1257" y="46"/>
                    </a:lnTo>
                    <a:lnTo>
                      <a:pt x="1305" y="145"/>
                    </a:lnTo>
                    <a:lnTo>
                      <a:pt x="1248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4610520" y="5413680"/>
                <a:ext cx="2484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4555440" y="5064480"/>
                <a:ext cx="4320" cy="13320"/>
              </a:xfrm>
              <a:custGeom>
                <a:avLst/>
                <a:gdLst/>
                <a:ahLst/>
                <a:rect l="l" t="t" r="r" b="b"/>
                <a:pathLst>
                  <a:path w="50" h="123">
                    <a:moveTo>
                      <a:pt x="32" y="0"/>
                    </a:moveTo>
                    <a:lnTo>
                      <a:pt x="50" y="42"/>
                    </a:lnTo>
                    <a:lnTo>
                      <a:pt x="50" y="83"/>
                    </a:lnTo>
                    <a:lnTo>
                      <a:pt x="32" y="118"/>
                    </a:lnTo>
                    <a:lnTo>
                      <a:pt x="14" y="123"/>
                    </a:lnTo>
                    <a:lnTo>
                      <a:pt x="0" y="123"/>
                    </a:lnTo>
                    <a:lnTo>
                      <a:pt x="0" y="111"/>
                    </a:lnTo>
                    <a:lnTo>
                      <a:pt x="19" y="111"/>
                    </a:lnTo>
                    <a:lnTo>
                      <a:pt x="32" y="83"/>
                    </a:lnTo>
                    <a:lnTo>
                      <a:pt x="39" y="48"/>
                    </a:lnTo>
                    <a:lnTo>
                      <a:pt x="19" y="1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4490280" y="5031360"/>
                <a:ext cx="25560" cy="15120"/>
              </a:xfrm>
              <a:custGeom>
                <a:avLst/>
                <a:gdLst/>
                <a:ahLst/>
                <a:rect l="l" t="t" r="r" b="b"/>
                <a:pathLst>
                  <a:path w="311" h="142">
                    <a:moveTo>
                      <a:pt x="0" y="49"/>
                    </a:moveTo>
                    <a:lnTo>
                      <a:pt x="48" y="39"/>
                    </a:lnTo>
                    <a:lnTo>
                      <a:pt x="14" y="26"/>
                    </a:lnTo>
                    <a:lnTo>
                      <a:pt x="55" y="0"/>
                    </a:lnTo>
                    <a:lnTo>
                      <a:pt x="117" y="1"/>
                    </a:lnTo>
                    <a:lnTo>
                      <a:pt x="179" y="1"/>
                    </a:lnTo>
                    <a:lnTo>
                      <a:pt x="255" y="37"/>
                    </a:lnTo>
                    <a:lnTo>
                      <a:pt x="218" y="37"/>
                    </a:lnTo>
                    <a:lnTo>
                      <a:pt x="267" y="83"/>
                    </a:lnTo>
                    <a:lnTo>
                      <a:pt x="278" y="54"/>
                    </a:lnTo>
                    <a:lnTo>
                      <a:pt x="311" y="107"/>
                    </a:lnTo>
                    <a:lnTo>
                      <a:pt x="273" y="142"/>
                    </a:lnTo>
                    <a:lnTo>
                      <a:pt x="276" y="109"/>
                    </a:lnTo>
                    <a:lnTo>
                      <a:pt x="223" y="122"/>
                    </a:lnTo>
                    <a:lnTo>
                      <a:pt x="188" y="120"/>
                    </a:lnTo>
                    <a:lnTo>
                      <a:pt x="240" y="109"/>
                    </a:lnTo>
                    <a:lnTo>
                      <a:pt x="253" y="92"/>
                    </a:lnTo>
                    <a:lnTo>
                      <a:pt x="235" y="61"/>
                    </a:lnTo>
                    <a:lnTo>
                      <a:pt x="191" y="39"/>
                    </a:lnTo>
                    <a:lnTo>
                      <a:pt x="156" y="37"/>
                    </a:lnTo>
                    <a:lnTo>
                      <a:pt x="101" y="41"/>
                    </a:lnTo>
                    <a:lnTo>
                      <a:pt x="60" y="46"/>
                    </a:lnTo>
                    <a:lnTo>
                      <a:pt x="95" y="81"/>
                    </a:lnTo>
                    <a:lnTo>
                      <a:pt x="140" y="109"/>
                    </a:lnTo>
                    <a:lnTo>
                      <a:pt x="122" y="122"/>
                    </a:lnTo>
                    <a:lnTo>
                      <a:pt x="106" y="104"/>
                    </a:lnTo>
                    <a:lnTo>
                      <a:pt x="71" y="109"/>
                    </a:lnTo>
                    <a:lnTo>
                      <a:pt x="66" y="81"/>
                    </a:lnTo>
                    <a:lnTo>
                      <a:pt x="36" y="79"/>
                    </a:lnTo>
                    <a:lnTo>
                      <a:pt x="43" y="61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4532760" y="5034600"/>
                <a:ext cx="21600" cy="12600"/>
              </a:xfrm>
              <a:custGeom>
                <a:avLst/>
                <a:gdLst/>
                <a:ahLst/>
                <a:rect l="l" t="t" r="r" b="b"/>
                <a:pathLst>
                  <a:path w="263" h="121">
                    <a:moveTo>
                      <a:pt x="0" y="75"/>
                    </a:moveTo>
                    <a:lnTo>
                      <a:pt x="26" y="31"/>
                    </a:lnTo>
                    <a:lnTo>
                      <a:pt x="92" y="0"/>
                    </a:lnTo>
                    <a:lnTo>
                      <a:pt x="127" y="0"/>
                    </a:lnTo>
                    <a:lnTo>
                      <a:pt x="109" y="24"/>
                    </a:lnTo>
                    <a:lnTo>
                      <a:pt x="145" y="24"/>
                    </a:lnTo>
                    <a:lnTo>
                      <a:pt x="151" y="5"/>
                    </a:lnTo>
                    <a:lnTo>
                      <a:pt x="175" y="17"/>
                    </a:lnTo>
                    <a:lnTo>
                      <a:pt x="208" y="12"/>
                    </a:lnTo>
                    <a:lnTo>
                      <a:pt x="217" y="29"/>
                    </a:lnTo>
                    <a:lnTo>
                      <a:pt x="259" y="24"/>
                    </a:lnTo>
                    <a:lnTo>
                      <a:pt x="226" y="58"/>
                    </a:lnTo>
                    <a:lnTo>
                      <a:pt x="263" y="77"/>
                    </a:lnTo>
                    <a:lnTo>
                      <a:pt x="208" y="86"/>
                    </a:lnTo>
                    <a:lnTo>
                      <a:pt x="206" y="104"/>
                    </a:lnTo>
                    <a:lnTo>
                      <a:pt x="180" y="97"/>
                    </a:lnTo>
                    <a:lnTo>
                      <a:pt x="151" y="121"/>
                    </a:lnTo>
                    <a:lnTo>
                      <a:pt x="134" y="110"/>
                    </a:lnTo>
                    <a:lnTo>
                      <a:pt x="97" y="110"/>
                    </a:lnTo>
                    <a:lnTo>
                      <a:pt x="151" y="97"/>
                    </a:lnTo>
                    <a:lnTo>
                      <a:pt x="184" y="77"/>
                    </a:lnTo>
                    <a:lnTo>
                      <a:pt x="206" y="68"/>
                    </a:lnTo>
                    <a:lnTo>
                      <a:pt x="169" y="51"/>
                    </a:lnTo>
                    <a:lnTo>
                      <a:pt x="134" y="38"/>
                    </a:lnTo>
                    <a:lnTo>
                      <a:pt x="85" y="31"/>
                    </a:lnTo>
                    <a:lnTo>
                      <a:pt x="37" y="58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4534920" y="50439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51" h="17">
                    <a:moveTo>
                      <a:pt x="14" y="0"/>
                    </a:moveTo>
                    <a:lnTo>
                      <a:pt x="51" y="17"/>
                    </a:lnTo>
                    <a:lnTo>
                      <a:pt x="0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4492440" y="5019480"/>
                <a:ext cx="25560" cy="15120"/>
              </a:xfrm>
              <a:custGeom>
                <a:avLst/>
                <a:gdLst/>
                <a:ahLst/>
                <a:rect l="l" t="t" r="r" b="b"/>
                <a:pathLst>
                  <a:path w="310" h="140">
                    <a:moveTo>
                      <a:pt x="0" y="28"/>
                    </a:moveTo>
                    <a:lnTo>
                      <a:pt x="93" y="0"/>
                    </a:lnTo>
                    <a:lnTo>
                      <a:pt x="238" y="57"/>
                    </a:lnTo>
                    <a:lnTo>
                      <a:pt x="310" y="140"/>
                    </a:lnTo>
                    <a:lnTo>
                      <a:pt x="244" y="74"/>
                    </a:lnTo>
                    <a:lnTo>
                      <a:pt x="145" y="28"/>
                    </a:lnTo>
                    <a:lnTo>
                      <a:pt x="81" y="21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4534920" y="5023800"/>
                <a:ext cx="19800" cy="6480"/>
              </a:xfrm>
              <a:custGeom>
                <a:avLst/>
                <a:gdLst/>
                <a:ahLst/>
                <a:rect l="l" t="t" r="r" b="b"/>
                <a:pathLst>
                  <a:path w="245" h="64">
                    <a:moveTo>
                      <a:pt x="0" y="64"/>
                    </a:moveTo>
                    <a:lnTo>
                      <a:pt x="86" y="31"/>
                    </a:lnTo>
                    <a:lnTo>
                      <a:pt x="157" y="18"/>
                    </a:lnTo>
                    <a:lnTo>
                      <a:pt x="218" y="18"/>
                    </a:lnTo>
                    <a:lnTo>
                      <a:pt x="245" y="35"/>
                    </a:lnTo>
                    <a:lnTo>
                      <a:pt x="229" y="0"/>
                    </a:lnTo>
                    <a:lnTo>
                      <a:pt x="168" y="0"/>
                    </a:lnTo>
                    <a:lnTo>
                      <a:pt x="69" y="18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4512240" y="5071320"/>
                <a:ext cx="16200" cy="10800"/>
              </a:xfrm>
              <a:custGeom>
                <a:avLst/>
                <a:gdLst/>
                <a:ahLst/>
                <a:rect l="l" t="t" r="r" b="b"/>
                <a:pathLst>
                  <a:path w="207" h="103">
                    <a:moveTo>
                      <a:pt x="207" y="38"/>
                    </a:moveTo>
                    <a:lnTo>
                      <a:pt x="152" y="73"/>
                    </a:lnTo>
                    <a:lnTo>
                      <a:pt x="130" y="66"/>
                    </a:lnTo>
                    <a:lnTo>
                      <a:pt x="101" y="38"/>
                    </a:lnTo>
                    <a:lnTo>
                      <a:pt x="58" y="29"/>
                    </a:lnTo>
                    <a:lnTo>
                      <a:pt x="11" y="22"/>
                    </a:lnTo>
                    <a:lnTo>
                      <a:pt x="11" y="0"/>
                    </a:lnTo>
                    <a:lnTo>
                      <a:pt x="0" y="22"/>
                    </a:lnTo>
                    <a:lnTo>
                      <a:pt x="11" y="38"/>
                    </a:lnTo>
                    <a:lnTo>
                      <a:pt x="67" y="57"/>
                    </a:lnTo>
                    <a:lnTo>
                      <a:pt x="125" y="103"/>
                    </a:lnTo>
                    <a:lnTo>
                      <a:pt x="148" y="103"/>
                    </a:lnTo>
                    <a:lnTo>
                      <a:pt x="207" y="66"/>
                    </a:lnTo>
                    <a:lnTo>
                      <a:pt x="20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4528080" y="5032080"/>
                <a:ext cx="4320" cy="18360"/>
              </a:xfrm>
              <a:custGeom>
                <a:avLst/>
                <a:gdLst/>
                <a:ahLst/>
                <a:rect l="l" t="t" r="r" b="b"/>
                <a:pathLst>
                  <a:path w="57" h="172">
                    <a:moveTo>
                      <a:pt x="57" y="0"/>
                    </a:moveTo>
                    <a:lnTo>
                      <a:pt x="15" y="51"/>
                    </a:lnTo>
                    <a:lnTo>
                      <a:pt x="0" y="106"/>
                    </a:lnTo>
                    <a:lnTo>
                      <a:pt x="4" y="141"/>
                    </a:lnTo>
                    <a:lnTo>
                      <a:pt x="33" y="172"/>
                    </a:lnTo>
                    <a:lnTo>
                      <a:pt x="15" y="134"/>
                    </a:lnTo>
                    <a:lnTo>
                      <a:pt x="15" y="95"/>
                    </a:lnTo>
                    <a:lnTo>
                      <a:pt x="28" y="49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4500360" y="50346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1" h="74">
                    <a:moveTo>
                      <a:pt x="0" y="6"/>
                    </a:moveTo>
                    <a:lnTo>
                      <a:pt x="6" y="57"/>
                    </a:lnTo>
                    <a:lnTo>
                      <a:pt x="30" y="74"/>
                    </a:lnTo>
                    <a:lnTo>
                      <a:pt x="57" y="74"/>
                    </a:lnTo>
                    <a:lnTo>
                      <a:pt x="72" y="39"/>
                    </a:lnTo>
                    <a:lnTo>
                      <a:pt x="81" y="17"/>
                    </a:lnTo>
                    <a:lnTo>
                      <a:pt x="57" y="32"/>
                    </a:lnTo>
                    <a:lnTo>
                      <a:pt x="37" y="50"/>
                    </a:lnTo>
                    <a:lnTo>
                      <a:pt x="30" y="39"/>
                    </a:lnTo>
                    <a:lnTo>
                      <a:pt x="3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4537440" y="5038200"/>
                <a:ext cx="7200" cy="6480"/>
              </a:xfrm>
              <a:custGeom>
                <a:avLst/>
                <a:gdLst/>
                <a:ahLst/>
                <a:rect l="l" t="t" r="r" b="b"/>
                <a:pathLst>
                  <a:path w="92" h="64">
                    <a:moveTo>
                      <a:pt x="0" y="12"/>
                    </a:moveTo>
                    <a:lnTo>
                      <a:pt x="5" y="64"/>
                    </a:lnTo>
                    <a:lnTo>
                      <a:pt x="64" y="64"/>
                    </a:lnTo>
                    <a:lnTo>
                      <a:pt x="89" y="35"/>
                    </a:lnTo>
                    <a:lnTo>
                      <a:pt x="92" y="0"/>
                    </a:lnTo>
                    <a:lnTo>
                      <a:pt x="55" y="0"/>
                    </a:lnTo>
                    <a:lnTo>
                      <a:pt x="64" y="31"/>
                    </a:lnTo>
                    <a:lnTo>
                      <a:pt x="41" y="42"/>
                    </a:lnTo>
                    <a:lnTo>
                      <a:pt x="27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4506120" y="5088960"/>
                <a:ext cx="28440" cy="3240"/>
              </a:xfrm>
              <a:custGeom>
                <a:avLst/>
                <a:gdLst/>
                <a:ahLst/>
                <a:rect l="l" t="t" r="r" b="b"/>
                <a:pathLst>
                  <a:path w="350" h="31">
                    <a:moveTo>
                      <a:pt x="0" y="5"/>
                    </a:moveTo>
                    <a:lnTo>
                      <a:pt x="111" y="0"/>
                    </a:lnTo>
                    <a:lnTo>
                      <a:pt x="198" y="14"/>
                    </a:lnTo>
                    <a:lnTo>
                      <a:pt x="251" y="5"/>
                    </a:lnTo>
                    <a:lnTo>
                      <a:pt x="350" y="14"/>
                    </a:lnTo>
                    <a:lnTo>
                      <a:pt x="276" y="24"/>
                    </a:lnTo>
                    <a:lnTo>
                      <a:pt x="198" y="31"/>
                    </a:lnTo>
                    <a:lnTo>
                      <a:pt x="46" y="1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4511520" y="5094720"/>
                <a:ext cx="19080" cy="4320"/>
              </a:xfrm>
              <a:custGeom>
                <a:avLst/>
                <a:gdLst/>
                <a:ahLst/>
                <a:rect l="l" t="t" r="r" b="b"/>
                <a:pathLst>
                  <a:path w="233" h="42">
                    <a:moveTo>
                      <a:pt x="0" y="0"/>
                    </a:moveTo>
                    <a:lnTo>
                      <a:pt x="60" y="35"/>
                    </a:lnTo>
                    <a:lnTo>
                      <a:pt x="159" y="42"/>
                    </a:lnTo>
                    <a:lnTo>
                      <a:pt x="233" y="7"/>
                    </a:lnTo>
                    <a:lnTo>
                      <a:pt x="164" y="24"/>
                    </a:lnTo>
                    <a:lnTo>
                      <a:pt x="7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4804560" y="5108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595" h="512">
                    <a:moveTo>
                      <a:pt x="97" y="215"/>
                    </a:moveTo>
                    <a:lnTo>
                      <a:pt x="120" y="122"/>
                    </a:lnTo>
                    <a:lnTo>
                      <a:pt x="305" y="0"/>
                    </a:lnTo>
                    <a:lnTo>
                      <a:pt x="498" y="68"/>
                    </a:lnTo>
                    <a:lnTo>
                      <a:pt x="395" y="68"/>
                    </a:lnTo>
                    <a:lnTo>
                      <a:pt x="514" y="209"/>
                    </a:lnTo>
                    <a:lnTo>
                      <a:pt x="569" y="191"/>
                    </a:lnTo>
                    <a:lnTo>
                      <a:pt x="525" y="96"/>
                    </a:lnTo>
                    <a:lnTo>
                      <a:pt x="595" y="209"/>
                    </a:lnTo>
                    <a:lnTo>
                      <a:pt x="551" y="261"/>
                    </a:lnTo>
                    <a:lnTo>
                      <a:pt x="595" y="503"/>
                    </a:lnTo>
                    <a:lnTo>
                      <a:pt x="533" y="512"/>
                    </a:lnTo>
                    <a:lnTo>
                      <a:pt x="464" y="494"/>
                    </a:lnTo>
                    <a:lnTo>
                      <a:pt x="542" y="486"/>
                    </a:lnTo>
                    <a:lnTo>
                      <a:pt x="475" y="329"/>
                    </a:lnTo>
                    <a:lnTo>
                      <a:pt x="351" y="200"/>
                    </a:lnTo>
                    <a:lnTo>
                      <a:pt x="489" y="311"/>
                    </a:lnTo>
                    <a:lnTo>
                      <a:pt x="542" y="424"/>
                    </a:lnTo>
                    <a:lnTo>
                      <a:pt x="510" y="244"/>
                    </a:lnTo>
                    <a:lnTo>
                      <a:pt x="305" y="41"/>
                    </a:lnTo>
                    <a:lnTo>
                      <a:pt x="261" y="122"/>
                    </a:lnTo>
                    <a:lnTo>
                      <a:pt x="305" y="173"/>
                    </a:lnTo>
                    <a:lnTo>
                      <a:pt x="228" y="173"/>
                    </a:lnTo>
                    <a:lnTo>
                      <a:pt x="323" y="306"/>
                    </a:lnTo>
                    <a:lnTo>
                      <a:pt x="191" y="209"/>
                    </a:lnTo>
                    <a:lnTo>
                      <a:pt x="0" y="373"/>
                    </a:lnTo>
                    <a:lnTo>
                      <a:pt x="17" y="253"/>
                    </a:lnTo>
                    <a:lnTo>
                      <a:pt x="97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4812480" y="5144040"/>
                <a:ext cx="34920" cy="55800"/>
              </a:xfrm>
              <a:custGeom>
                <a:avLst/>
                <a:gdLst/>
                <a:ahLst/>
                <a:rect l="l" t="t" r="r" b="b"/>
                <a:pathLst>
                  <a:path w="417" h="531">
                    <a:moveTo>
                      <a:pt x="351" y="198"/>
                    </a:moveTo>
                    <a:lnTo>
                      <a:pt x="307" y="183"/>
                    </a:lnTo>
                    <a:lnTo>
                      <a:pt x="254" y="114"/>
                    </a:lnTo>
                    <a:lnTo>
                      <a:pt x="208" y="114"/>
                    </a:lnTo>
                    <a:lnTo>
                      <a:pt x="146" y="62"/>
                    </a:lnTo>
                    <a:lnTo>
                      <a:pt x="146" y="104"/>
                    </a:lnTo>
                    <a:lnTo>
                      <a:pt x="94" y="114"/>
                    </a:lnTo>
                    <a:lnTo>
                      <a:pt x="44" y="53"/>
                    </a:lnTo>
                    <a:lnTo>
                      <a:pt x="72" y="132"/>
                    </a:lnTo>
                    <a:lnTo>
                      <a:pt x="0" y="132"/>
                    </a:lnTo>
                    <a:lnTo>
                      <a:pt x="87" y="189"/>
                    </a:lnTo>
                    <a:lnTo>
                      <a:pt x="78" y="270"/>
                    </a:lnTo>
                    <a:lnTo>
                      <a:pt x="131" y="383"/>
                    </a:lnTo>
                    <a:lnTo>
                      <a:pt x="131" y="305"/>
                    </a:lnTo>
                    <a:lnTo>
                      <a:pt x="164" y="279"/>
                    </a:lnTo>
                    <a:lnTo>
                      <a:pt x="182" y="321"/>
                    </a:lnTo>
                    <a:lnTo>
                      <a:pt x="219" y="288"/>
                    </a:lnTo>
                    <a:lnTo>
                      <a:pt x="272" y="288"/>
                    </a:lnTo>
                    <a:lnTo>
                      <a:pt x="340" y="347"/>
                    </a:lnTo>
                    <a:lnTo>
                      <a:pt x="332" y="436"/>
                    </a:lnTo>
                    <a:lnTo>
                      <a:pt x="291" y="531"/>
                    </a:lnTo>
                    <a:lnTo>
                      <a:pt x="383" y="383"/>
                    </a:lnTo>
                    <a:lnTo>
                      <a:pt x="413" y="288"/>
                    </a:lnTo>
                    <a:lnTo>
                      <a:pt x="417" y="156"/>
                    </a:lnTo>
                    <a:lnTo>
                      <a:pt x="383" y="156"/>
                    </a:lnTo>
                    <a:lnTo>
                      <a:pt x="323" y="42"/>
                    </a:lnTo>
                    <a:lnTo>
                      <a:pt x="261" y="0"/>
                    </a:lnTo>
                    <a:lnTo>
                      <a:pt x="314" y="77"/>
                    </a:lnTo>
                    <a:lnTo>
                      <a:pt x="351" y="148"/>
                    </a:lnTo>
                    <a:lnTo>
                      <a:pt x="351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4770000" y="5151600"/>
                <a:ext cx="141840" cy="259200"/>
              </a:xfrm>
              <a:custGeom>
                <a:avLst/>
                <a:gdLst/>
                <a:ahLst/>
                <a:rect l="l" t="t" r="r" b="b"/>
                <a:pathLst>
                  <a:path w="1712" h="2448">
                    <a:moveTo>
                      <a:pt x="420" y="0"/>
                    </a:moveTo>
                    <a:lnTo>
                      <a:pt x="499" y="424"/>
                    </a:lnTo>
                    <a:lnTo>
                      <a:pt x="522" y="451"/>
                    </a:lnTo>
                    <a:lnTo>
                      <a:pt x="561" y="468"/>
                    </a:lnTo>
                    <a:lnTo>
                      <a:pt x="534" y="495"/>
                    </a:lnTo>
                    <a:lnTo>
                      <a:pt x="483" y="486"/>
                    </a:lnTo>
                    <a:lnTo>
                      <a:pt x="475" y="550"/>
                    </a:lnTo>
                    <a:lnTo>
                      <a:pt x="499" y="599"/>
                    </a:lnTo>
                    <a:lnTo>
                      <a:pt x="540" y="615"/>
                    </a:lnTo>
                    <a:lnTo>
                      <a:pt x="589" y="606"/>
                    </a:lnTo>
                    <a:lnTo>
                      <a:pt x="611" y="479"/>
                    </a:lnTo>
                    <a:lnTo>
                      <a:pt x="663" y="479"/>
                    </a:lnTo>
                    <a:lnTo>
                      <a:pt x="711" y="451"/>
                    </a:lnTo>
                    <a:lnTo>
                      <a:pt x="743" y="398"/>
                    </a:lnTo>
                    <a:lnTo>
                      <a:pt x="743" y="461"/>
                    </a:lnTo>
                    <a:lnTo>
                      <a:pt x="771" y="451"/>
                    </a:lnTo>
                    <a:lnTo>
                      <a:pt x="824" y="424"/>
                    </a:lnTo>
                    <a:lnTo>
                      <a:pt x="798" y="461"/>
                    </a:lnTo>
                    <a:lnTo>
                      <a:pt x="743" y="530"/>
                    </a:lnTo>
                    <a:lnTo>
                      <a:pt x="699" y="650"/>
                    </a:lnTo>
                    <a:lnTo>
                      <a:pt x="909" y="415"/>
                    </a:lnTo>
                    <a:lnTo>
                      <a:pt x="945" y="444"/>
                    </a:lnTo>
                    <a:lnTo>
                      <a:pt x="815" y="798"/>
                    </a:lnTo>
                    <a:lnTo>
                      <a:pt x="824" y="1260"/>
                    </a:lnTo>
                    <a:lnTo>
                      <a:pt x="1172" y="1295"/>
                    </a:lnTo>
                    <a:lnTo>
                      <a:pt x="1331" y="1371"/>
                    </a:lnTo>
                    <a:lnTo>
                      <a:pt x="1417" y="1371"/>
                    </a:lnTo>
                    <a:lnTo>
                      <a:pt x="1460" y="1442"/>
                    </a:lnTo>
                    <a:lnTo>
                      <a:pt x="1172" y="1332"/>
                    </a:lnTo>
                    <a:lnTo>
                      <a:pt x="953" y="1314"/>
                    </a:lnTo>
                    <a:lnTo>
                      <a:pt x="1059" y="1380"/>
                    </a:lnTo>
                    <a:lnTo>
                      <a:pt x="953" y="1380"/>
                    </a:lnTo>
                    <a:lnTo>
                      <a:pt x="798" y="1362"/>
                    </a:lnTo>
                    <a:lnTo>
                      <a:pt x="909" y="1459"/>
                    </a:lnTo>
                    <a:lnTo>
                      <a:pt x="1296" y="1523"/>
                    </a:lnTo>
                    <a:lnTo>
                      <a:pt x="971" y="1493"/>
                    </a:lnTo>
                    <a:lnTo>
                      <a:pt x="1172" y="1611"/>
                    </a:lnTo>
                    <a:lnTo>
                      <a:pt x="1147" y="1636"/>
                    </a:lnTo>
                    <a:lnTo>
                      <a:pt x="875" y="1503"/>
                    </a:lnTo>
                    <a:lnTo>
                      <a:pt x="918" y="1636"/>
                    </a:lnTo>
                    <a:lnTo>
                      <a:pt x="1349" y="1747"/>
                    </a:lnTo>
                    <a:lnTo>
                      <a:pt x="1626" y="1921"/>
                    </a:lnTo>
                    <a:lnTo>
                      <a:pt x="1349" y="1867"/>
                    </a:lnTo>
                    <a:lnTo>
                      <a:pt x="1191" y="1765"/>
                    </a:lnTo>
                    <a:lnTo>
                      <a:pt x="953" y="1701"/>
                    </a:lnTo>
                    <a:lnTo>
                      <a:pt x="1068" y="1826"/>
                    </a:lnTo>
                    <a:lnTo>
                      <a:pt x="1712" y="2049"/>
                    </a:lnTo>
                    <a:lnTo>
                      <a:pt x="1068" y="1867"/>
                    </a:lnTo>
                    <a:lnTo>
                      <a:pt x="884" y="1736"/>
                    </a:lnTo>
                    <a:lnTo>
                      <a:pt x="895" y="1809"/>
                    </a:lnTo>
                    <a:lnTo>
                      <a:pt x="1068" y="1973"/>
                    </a:lnTo>
                    <a:lnTo>
                      <a:pt x="1321" y="2024"/>
                    </a:lnTo>
                    <a:lnTo>
                      <a:pt x="1460" y="2121"/>
                    </a:lnTo>
                    <a:lnTo>
                      <a:pt x="1259" y="2097"/>
                    </a:lnTo>
                    <a:lnTo>
                      <a:pt x="1008" y="1973"/>
                    </a:lnTo>
                    <a:lnTo>
                      <a:pt x="934" y="1982"/>
                    </a:lnTo>
                    <a:lnTo>
                      <a:pt x="971" y="2112"/>
                    </a:lnTo>
                    <a:lnTo>
                      <a:pt x="1033" y="2156"/>
                    </a:lnTo>
                    <a:lnTo>
                      <a:pt x="1349" y="2171"/>
                    </a:lnTo>
                    <a:lnTo>
                      <a:pt x="1024" y="2330"/>
                    </a:lnTo>
                    <a:lnTo>
                      <a:pt x="980" y="2314"/>
                    </a:lnTo>
                    <a:lnTo>
                      <a:pt x="909" y="2084"/>
                    </a:lnTo>
                    <a:lnTo>
                      <a:pt x="831" y="2339"/>
                    </a:lnTo>
                    <a:lnTo>
                      <a:pt x="849" y="2448"/>
                    </a:lnTo>
                    <a:lnTo>
                      <a:pt x="760" y="2354"/>
                    </a:lnTo>
                    <a:lnTo>
                      <a:pt x="895" y="2013"/>
                    </a:lnTo>
                    <a:lnTo>
                      <a:pt x="884" y="1921"/>
                    </a:lnTo>
                    <a:lnTo>
                      <a:pt x="824" y="1765"/>
                    </a:lnTo>
                    <a:lnTo>
                      <a:pt x="778" y="1563"/>
                    </a:lnTo>
                    <a:lnTo>
                      <a:pt x="674" y="1304"/>
                    </a:lnTo>
                    <a:lnTo>
                      <a:pt x="554" y="1523"/>
                    </a:lnTo>
                    <a:lnTo>
                      <a:pt x="554" y="1747"/>
                    </a:lnTo>
                    <a:lnTo>
                      <a:pt x="316" y="2033"/>
                    </a:lnTo>
                    <a:lnTo>
                      <a:pt x="0" y="2148"/>
                    </a:lnTo>
                    <a:lnTo>
                      <a:pt x="37" y="1973"/>
                    </a:lnTo>
                    <a:lnTo>
                      <a:pt x="217" y="1791"/>
                    </a:lnTo>
                    <a:lnTo>
                      <a:pt x="437" y="1685"/>
                    </a:lnTo>
                    <a:lnTo>
                      <a:pt x="534" y="1436"/>
                    </a:lnTo>
                    <a:lnTo>
                      <a:pt x="522" y="1314"/>
                    </a:lnTo>
                    <a:lnTo>
                      <a:pt x="611" y="1026"/>
                    </a:lnTo>
                    <a:lnTo>
                      <a:pt x="510" y="1000"/>
                    </a:lnTo>
                    <a:lnTo>
                      <a:pt x="420" y="938"/>
                    </a:lnTo>
                    <a:lnTo>
                      <a:pt x="522" y="650"/>
                    </a:lnTo>
                    <a:lnTo>
                      <a:pt x="475" y="627"/>
                    </a:lnTo>
                    <a:lnTo>
                      <a:pt x="448" y="541"/>
                    </a:lnTo>
                    <a:lnTo>
                      <a:pt x="448" y="433"/>
                    </a:lnTo>
                    <a:lnTo>
                      <a:pt x="420" y="53"/>
                    </a:lnTo>
                    <a:lnTo>
                      <a:pt x="4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4739040" y="5173920"/>
                <a:ext cx="56880" cy="184680"/>
              </a:xfrm>
              <a:custGeom>
                <a:avLst/>
                <a:gdLst/>
                <a:ahLst/>
                <a:rect l="l" t="t" r="r" b="b"/>
                <a:pathLst>
                  <a:path w="691" h="1748">
                    <a:moveTo>
                      <a:pt x="691" y="312"/>
                    </a:moveTo>
                    <a:lnTo>
                      <a:pt x="586" y="572"/>
                    </a:lnTo>
                    <a:lnTo>
                      <a:pt x="516" y="729"/>
                    </a:lnTo>
                    <a:lnTo>
                      <a:pt x="392" y="982"/>
                    </a:lnTo>
                    <a:lnTo>
                      <a:pt x="334" y="1017"/>
                    </a:lnTo>
                    <a:lnTo>
                      <a:pt x="351" y="1243"/>
                    </a:lnTo>
                    <a:lnTo>
                      <a:pt x="412" y="1527"/>
                    </a:lnTo>
                    <a:lnTo>
                      <a:pt x="472" y="1748"/>
                    </a:lnTo>
                    <a:lnTo>
                      <a:pt x="388" y="1485"/>
                    </a:lnTo>
                    <a:lnTo>
                      <a:pt x="334" y="1233"/>
                    </a:lnTo>
                    <a:lnTo>
                      <a:pt x="243" y="1171"/>
                    </a:lnTo>
                    <a:lnTo>
                      <a:pt x="254" y="1330"/>
                    </a:lnTo>
                    <a:lnTo>
                      <a:pt x="351" y="1591"/>
                    </a:lnTo>
                    <a:lnTo>
                      <a:pt x="239" y="1345"/>
                    </a:lnTo>
                    <a:lnTo>
                      <a:pt x="193" y="1153"/>
                    </a:lnTo>
                    <a:lnTo>
                      <a:pt x="87" y="1153"/>
                    </a:lnTo>
                    <a:lnTo>
                      <a:pt x="0" y="1227"/>
                    </a:lnTo>
                    <a:lnTo>
                      <a:pt x="87" y="1139"/>
                    </a:lnTo>
                    <a:lnTo>
                      <a:pt x="157" y="1112"/>
                    </a:lnTo>
                    <a:lnTo>
                      <a:pt x="219" y="895"/>
                    </a:lnTo>
                    <a:lnTo>
                      <a:pt x="219" y="782"/>
                    </a:lnTo>
                    <a:lnTo>
                      <a:pt x="175" y="721"/>
                    </a:lnTo>
                    <a:lnTo>
                      <a:pt x="175" y="644"/>
                    </a:lnTo>
                    <a:lnTo>
                      <a:pt x="279" y="235"/>
                    </a:lnTo>
                    <a:lnTo>
                      <a:pt x="388" y="0"/>
                    </a:lnTo>
                    <a:lnTo>
                      <a:pt x="307" y="341"/>
                    </a:lnTo>
                    <a:lnTo>
                      <a:pt x="219" y="685"/>
                    </a:lnTo>
                    <a:lnTo>
                      <a:pt x="307" y="798"/>
                    </a:lnTo>
                    <a:lnTo>
                      <a:pt x="366" y="914"/>
                    </a:lnTo>
                    <a:lnTo>
                      <a:pt x="606" y="462"/>
                    </a:lnTo>
                    <a:lnTo>
                      <a:pt x="691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4781160" y="5267160"/>
                <a:ext cx="6480" cy="45720"/>
              </a:xfrm>
              <a:custGeom>
                <a:avLst/>
                <a:gdLst/>
                <a:ahLst/>
                <a:rect l="l" t="t" r="r" b="b"/>
                <a:pathLst>
                  <a:path w="83" h="431">
                    <a:moveTo>
                      <a:pt x="0" y="0"/>
                    </a:moveTo>
                    <a:lnTo>
                      <a:pt x="51" y="106"/>
                    </a:lnTo>
                    <a:lnTo>
                      <a:pt x="51" y="297"/>
                    </a:lnTo>
                    <a:lnTo>
                      <a:pt x="83" y="385"/>
                    </a:lnTo>
                    <a:lnTo>
                      <a:pt x="42" y="431"/>
                    </a:lnTo>
                    <a:lnTo>
                      <a:pt x="24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4739040" y="5306760"/>
                <a:ext cx="34920" cy="72000"/>
              </a:xfrm>
              <a:custGeom>
                <a:avLst/>
                <a:gdLst/>
                <a:ahLst/>
                <a:rect l="l" t="t" r="r" b="b"/>
                <a:pathLst>
                  <a:path w="427" h="680">
                    <a:moveTo>
                      <a:pt x="0" y="0"/>
                    </a:moveTo>
                    <a:lnTo>
                      <a:pt x="175" y="532"/>
                    </a:lnTo>
                    <a:lnTo>
                      <a:pt x="307" y="543"/>
                    </a:lnTo>
                    <a:lnTo>
                      <a:pt x="427" y="629"/>
                    </a:lnTo>
                    <a:lnTo>
                      <a:pt x="366" y="680"/>
                    </a:lnTo>
                    <a:lnTo>
                      <a:pt x="175" y="611"/>
                    </a:lnTo>
                    <a:lnTo>
                      <a:pt x="81" y="3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4744800" y="5294160"/>
                <a:ext cx="10440" cy="34560"/>
              </a:xfrm>
              <a:custGeom>
                <a:avLst/>
                <a:gdLst/>
                <a:ahLst/>
                <a:rect l="l" t="t" r="r" b="b"/>
                <a:pathLst>
                  <a:path w="131" h="329">
                    <a:moveTo>
                      <a:pt x="131" y="14"/>
                    </a:moveTo>
                    <a:lnTo>
                      <a:pt x="43" y="329"/>
                    </a:lnTo>
                    <a:lnTo>
                      <a:pt x="0" y="226"/>
                    </a:lnTo>
                    <a:lnTo>
                      <a:pt x="112" y="0"/>
                    </a:lnTo>
                    <a:lnTo>
                      <a:pt x="13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4761000" y="5202720"/>
                <a:ext cx="8280" cy="32760"/>
              </a:xfrm>
              <a:custGeom>
                <a:avLst/>
                <a:gdLst/>
                <a:ahLst/>
                <a:rect l="l" t="t" r="r" b="b"/>
                <a:pathLst>
                  <a:path w="103" h="319">
                    <a:moveTo>
                      <a:pt x="71" y="0"/>
                    </a:moveTo>
                    <a:lnTo>
                      <a:pt x="71" y="171"/>
                    </a:lnTo>
                    <a:lnTo>
                      <a:pt x="103" y="319"/>
                    </a:lnTo>
                    <a:lnTo>
                      <a:pt x="0" y="21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4772160" y="5125320"/>
                <a:ext cx="44280" cy="75240"/>
              </a:xfrm>
              <a:custGeom>
                <a:avLst/>
                <a:gdLst/>
                <a:ahLst/>
                <a:rect l="l" t="t" r="r" b="b"/>
                <a:pathLst>
                  <a:path w="533" h="711">
                    <a:moveTo>
                      <a:pt x="0" y="393"/>
                    </a:moveTo>
                    <a:lnTo>
                      <a:pt x="60" y="393"/>
                    </a:lnTo>
                    <a:lnTo>
                      <a:pt x="174" y="520"/>
                    </a:lnTo>
                    <a:lnTo>
                      <a:pt x="254" y="711"/>
                    </a:lnTo>
                    <a:lnTo>
                      <a:pt x="189" y="503"/>
                    </a:lnTo>
                    <a:lnTo>
                      <a:pt x="93" y="329"/>
                    </a:lnTo>
                    <a:lnTo>
                      <a:pt x="51" y="305"/>
                    </a:lnTo>
                    <a:lnTo>
                      <a:pt x="227" y="164"/>
                    </a:lnTo>
                    <a:lnTo>
                      <a:pt x="427" y="141"/>
                    </a:lnTo>
                    <a:lnTo>
                      <a:pt x="533" y="0"/>
                    </a:lnTo>
                    <a:lnTo>
                      <a:pt x="306" y="35"/>
                    </a:lnTo>
                    <a:lnTo>
                      <a:pt x="189" y="153"/>
                    </a:lnTo>
                    <a:lnTo>
                      <a:pt x="21" y="305"/>
                    </a:lnTo>
                    <a:lnTo>
                      <a:pt x="0" y="3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4835160" y="509580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118" h="158">
                    <a:moveTo>
                      <a:pt x="63" y="0"/>
                    </a:moveTo>
                    <a:lnTo>
                      <a:pt x="0" y="158"/>
                    </a:lnTo>
                    <a:lnTo>
                      <a:pt x="26" y="158"/>
                    </a:lnTo>
                    <a:lnTo>
                      <a:pt x="118" y="38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4847760" y="5142240"/>
                <a:ext cx="81360" cy="64440"/>
              </a:xfrm>
              <a:custGeom>
                <a:avLst/>
                <a:gdLst/>
                <a:ahLst/>
                <a:rect l="l" t="t" r="r" b="b"/>
                <a:pathLst>
                  <a:path w="985" h="611">
                    <a:moveTo>
                      <a:pt x="55" y="194"/>
                    </a:moveTo>
                    <a:lnTo>
                      <a:pt x="107" y="264"/>
                    </a:lnTo>
                    <a:lnTo>
                      <a:pt x="182" y="334"/>
                    </a:lnTo>
                    <a:lnTo>
                      <a:pt x="199" y="354"/>
                    </a:lnTo>
                    <a:lnTo>
                      <a:pt x="257" y="334"/>
                    </a:lnTo>
                    <a:lnTo>
                      <a:pt x="254" y="387"/>
                    </a:lnTo>
                    <a:lnTo>
                      <a:pt x="301" y="424"/>
                    </a:lnTo>
                    <a:lnTo>
                      <a:pt x="413" y="470"/>
                    </a:lnTo>
                    <a:lnTo>
                      <a:pt x="479" y="502"/>
                    </a:lnTo>
                    <a:lnTo>
                      <a:pt x="538" y="543"/>
                    </a:lnTo>
                    <a:lnTo>
                      <a:pt x="580" y="585"/>
                    </a:lnTo>
                    <a:lnTo>
                      <a:pt x="901" y="20"/>
                    </a:lnTo>
                    <a:lnTo>
                      <a:pt x="938" y="0"/>
                    </a:lnTo>
                    <a:lnTo>
                      <a:pt x="976" y="0"/>
                    </a:lnTo>
                    <a:lnTo>
                      <a:pt x="985" y="20"/>
                    </a:lnTo>
                    <a:lnTo>
                      <a:pt x="967" y="29"/>
                    </a:lnTo>
                    <a:lnTo>
                      <a:pt x="936" y="29"/>
                    </a:lnTo>
                    <a:lnTo>
                      <a:pt x="899" y="48"/>
                    </a:lnTo>
                    <a:lnTo>
                      <a:pt x="865" y="90"/>
                    </a:lnTo>
                    <a:lnTo>
                      <a:pt x="580" y="611"/>
                    </a:lnTo>
                    <a:lnTo>
                      <a:pt x="459" y="565"/>
                    </a:lnTo>
                    <a:lnTo>
                      <a:pt x="538" y="578"/>
                    </a:lnTo>
                    <a:lnTo>
                      <a:pt x="485" y="532"/>
                    </a:lnTo>
                    <a:lnTo>
                      <a:pt x="404" y="486"/>
                    </a:lnTo>
                    <a:lnTo>
                      <a:pt x="325" y="458"/>
                    </a:lnTo>
                    <a:lnTo>
                      <a:pt x="296" y="453"/>
                    </a:lnTo>
                    <a:lnTo>
                      <a:pt x="362" y="519"/>
                    </a:lnTo>
                    <a:lnTo>
                      <a:pt x="301" y="475"/>
                    </a:lnTo>
                    <a:lnTo>
                      <a:pt x="257" y="440"/>
                    </a:lnTo>
                    <a:lnTo>
                      <a:pt x="204" y="383"/>
                    </a:lnTo>
                    <a:lnTo>
                      <a:pt x="136" y="315"/>
                    </a:lnTo>
                    <a:lnTo>
                      <a:pt x="74" y="269"/>
                    </a:lnTo>
                    <a:lnTo>
                      <a:pt x="24" y="224"/>
                    </a:lnTo>
                    <a:lnTo>
                      <a:pt x="0" y="185"/>
                    </a:lnTo>
                    <a:lnTo>
                      <a:pt x="55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4847760" y="5080680"/>
                <a:ext cx="23760" cy="37080"/>
              </a:xfrm>
              <a:custGeom>
                <a:avLst/>
                <a:gdLst/>
                <a:ahLst/>
                <a:rect l="l" t="t" r="r" b="b"/>
                <a:pathLst>
                  <a:path w="281" h="354">
                    <a:moveTo>
                      <a:pt x="0" y="338"/>
                    </a:moveTo>
                    <a:lnTo>
                      <a:pt x="199" y="42"/>
                    </a:lnTo>
                    <a:lnTo>
                      <a:pt x="228" y="17"/>
                    </a:lnTo>
                    <a:lnTo>
                      <a:pt x="254" y="0"/>
                    </a:lnTo>
                    <a:lnTo>
                      <a:pt x="281" y="6"/>
                    </a:lnTo>
                    <a:lnTo>
                      <a:pt x="241" y="22"/>
                    </a:lnTo>
                    <a:lnTo>
                      <a:pt x="206" y="54"/>
                    </a:lnTo>
                    <a:lnTo>
                      <a:pt x="4" y="354"/>
                    </a:lnTo>
                    <a:lnTo>
                      <a:pt x="0" y="3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4850280" y="5118480"/>
                <a:ext cx="57600" cy="25200"/>
              </a:xfrm>
              <a:custGeom>
                <a:avLst/>
                <a:gdLst/>
                <a:ahLst/>
                <a:rect l="l" t="t" r="r" b="b"/>
                <a:pathLst>
                  <a:path w="696" h="242">
                    <a:moveTo>
                      <a:pt x="0" y="242"/>
                    </a:moveTo>
                    <a:lnTo>
                      <a:pt x="39" y="215"/>
                    </a:lnTo>
                    <a:lnTo>
                      <a:pt x="81" y="180"/>
                    </a:lnTo>
                    <a:lnTo>
                      <a:pt x="131" y="111"/>
                    </a:lnTo>
                    <a:lnTo>
                      <a:pt x="156" y="69"/>
                    </a:lnTo>
                    <a:lnTo>
                      <a:pt x="180" y="49"/>
                    </a:lnTo>
                    <a:lnTo>
                      <a:pt x="208" y="31"/>
                    </a:lnTo>
                    <a:lnTo>
                      <a:pt x="248" y="21"/>
                    </a:lnTo>
                    <a:lnTo>
                      <a:pt x="369" y="0"/>
                    </a:lnTo>
                    <a:lnTo>
                      <a:pt x="439" y="3"/>
                    </a:lnTo>
                    <a:lnTo>
                      <a:pt x="527" y="40"/>
                    </a:lnTo>
                    <a:lnTo>
                      <a:pt x="592" y="88"/>
                    </a:lnTo>
                    <a:lnTo>
                      <a:pt x="696" y="137"/>
                    </a:lnTo>
                    <a:lnTo>
                      <a:pt x="617" y="125"/>
                    </a:lnTo>
                    <a:lnTo>
                      <a:pt x="564" y="106"/>
                    </a:lnTo>
                    <a:lnTo>
                      <a:pt x="527" y="86"/>
                    </a:lnTo>
                    <a:lnTo>
                      <a:pt x="483" y="75"/>
                    </a:lnTo>
                    <a:lnTo>
                      <a:pt x="459" y="79"/>
                    </a:lnTo>
                    <a:lnTo>
                      <a:pt x="435" y="150"/>
                    </a:lnTo>
                    <a:lnTo>
                      <a:pt x="384" y="211"/>
                    </a:lnTo>
                    <a:lnTo>
                      <a:pt x="421" y="152"/>
                    </a:lnTo>
                    <a:lnTo>
                      <a:pt x="447" y="69"/>
                    </a:lnTo>
                    <a:lnTo>
                      <a:pt x="447" y="49"/>
                    </a:lnTo>
                    <a:lnTo>
                      <a:pt x="430" y="28"/>
                    </a:lnTo>
                    <a:lnTo>
                      <a:pt x="384" y="16"/>
                    </a:lnTo>
                    <a:lnTo>
                      <a:pt x="329" y="21"/>
                    </a:lnTo>
                    <a:lnTo>
                      <a:pt x="313" y="44"/>
                    </a:lnTo>
                    <a:lnTo>
                      <a:pt x="343" y="222"/>
                    </a:lnTo>
                    <a:lnTo>
                      <a:pt x="325" y="222"/>
                    </a:lnTo>
                    <a:lnTo>
                      <a:pt x="256" y="198"/>
                    </a:lnTo>
                    <a:lnTo>
                      <a:pt x="195" y="174"/>
                    </a:lnTo>
                    <a:lnTo>
                      <a:pt x="164" y="150"/>
                    </a:lnTo>
                    <a:lnTo>
                      <a:pt x="145" y="137"/>
                    </a:lnTo>
                    <a:lnTo>
                      <a:pt x="108" y="174"/>
                    </a:lnTo>
                    <a:lnTo>
                      <a:pt x="67" y="210"/>
                    </a:lnTo>
                    <a:lnTo>
                      <a:pt x="25" y="231"/>
                    </a:lnTo>
                    <a:lnTo>
                      <a:pt x="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4905360" y="5079600"/>
                <a:ext cx="32400" cy="46440"/>
              </a:xfrm>
              <a:custGeom>
                <a:avLst/>
                <a:gdLst/>
                <a:ahLst/>
                <a:rect l="l" t="t" r="r" b="b"/>
                <a:pathLst>
                  <a:path w="385" h="439">
                    <a:moveTo>
                      <a:pt x="0" y="0"/>
                    </a:moveTo>
                    <a:lnTo>
                      <a:pt x="40" y="55"/>
                    </a:lnTo>
                    <a:lnTo>
                      <a:pt x="63" y="111"/>
                    </a:lnTo>
                    <a:lnTo>
                      <a:pt x="86" y="256"/>
                    </a:lnTo>
                    <a:lnTo>
                      <a:pt x="75" y="439"/>
                    </a:lnTo>
                    <a:lnTo>
                      <a:pt x="114" y="274"/>
                    </a:lnTo>
                    <a:lnTo>
                      <a:pt x="148" y="189"/>
                    </a:lnTo>
                    <a:lnTo>
                      <a:pt x="204" y="107"/>
                    </a:lnTo>
                    <a:lnTo>
                      <a:pt x="235" y="111"/>
                    </a:lnTo>
                    <a:lnTo>
                      <a:pt x="211" y="256"/>
                    </a:lnTo>
                    <a:lnTo>
                      <a:pt x="215" y="292"/>
                    </a:lnTo>
                    <a:lnTo>
                      <a:pt x="385" y="74"/>
                    </a:lnTo>
                    <a:lnTo>
                      <a:pt x="310" y="26"/>
                    </a:lnTo>
                    <a:lnTo>
                      <a:pt x="252" y="67"/>
                    </a:lnTo>
                    <a:lnTo>
                      <a:pt x="204" y="58"/>
                    </a:lnTo>
                    <a:lnTo>
                      <a:pt x="112" y="81"/>
                    </a:lnTo>
                    <a:lnTo>
                      <a:pt x="81" y="81"/>
                    </a:lnTo>
                    <a:lnTo>
                      <a:pt x="37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4874400" y="5139000"/>
                <a:ext cx="68040" cy="245520"/>
              </a:xfrm>
              <a:custGeom>
                <a:avLst/>
                <a:gdLst/>
                <a:ahLst/>
                <a:rect l="l" t="t" r="r" b="b"/>
                <a:pathLst>
                  <a:path w="819" h="2318">
                    <a:moveTo>
                      <a:pt x="102" y="23"/>
                    </a:moveTo>
                    <a:lnTo>
                      <a:pt x="196" y="140"/>
                    </a:lnTo>
                    <a:lnTo>
                      <a:pt x="275" y="327"/>
                    </a:lnTo>
                    <a:lnTo>
                      <a:pt x="424" y="714"/>
                    </a:lnTo>
                    <a:lnTo>
                      <a:pt x="579" y="1265"/>
                    </a:lnTo>
                    <a:lnTo>
                      <a:pt x="712" y="1680"/>
                    </a:lnTo>
                    <a:lnTo>
                      <a:pt x="819" y="1925"/>
                    </a:lnTo>
                    <a:lnTo>
                      <a:pt x="660" y="2318"/>
                    </a:lnTo>
                    <a:lnTo>
                      <a:pt x="526" y="2190"/>
                    </a:lnTo>
                    <a:lnTo>
                      <a:pt x="252" y="1992"/>
                    </a:lnTo>
                    <a:lnTo>
                      <a:pt x="35" y="546"/>
                    </a:lnTo>
                    <a:lnTo>
                      <a:pt x="0" y="274"/>
                    </a:lnTo>
                    <a:lnTo>
                      <a:pt x="17" y="103"/>
                    </a:lnTo>
                    <a:lnTo>
                      <a:pt x="35" y="41"/>
                    </a:lnTo>
                    <a:lnTo>
                      <a:pt x="35" y="0"/>
                    </a:lnTo>
                    <a:lnTo>
                      <a:pt x="60" y="41"/>
                    </a:lnTo>
                    <a:lnTo>
                      <a:pt x="53" y="134"/>
                    </a:lnTo>
                    <a:lnTo>
                      <a:pt x="60" y="292"/>
                    </a:lnTo>
                    <a:lnTo>
                      <a:pt x="77" y="465"/>
                    </a:lnTo>
                    <a:lnTo>
                      <a:pt x="116" y="707"/>
                    </a:lnTo>
                    <a:lnTo>
                      <a:pt x="284" y="1487"/>
                    </a:lnTo>
                    <a:lnTo>
                      <a:pt x="343" y="1953"/>
                    </a:lnTo>
                    <a:lnTo>
                      <a:pt x="360" y="2010"/>
                    </a:lnTo>
                    <a:lnTo>
                      <a:pt x="512" y="2142"/>
                    </a:lnTo>
                    <a:lnTo>
                      <a:pt x="642" y="2252"/>
                    </a:lnTo>
                    <a:lnTo>
                      <a:pt x="734" y="2019"/>
                    </a:lnTo>
                    <a:lnTo>
                      <a:pt x="778" y="1925"/>
                    </a:lnTo>
                    <a:lnTo>
                      <a:pt x="651" y="1604"/>
                    </a:lnTo>
                    <a:lnTo>
                      <a:pt x="561" y="1296"/>
                    </a:lnTo>
                    <a:lnTo>
                      <a:pt x="433" y="863"/>
                    </a:lnTo>
                    <a:lnTo>
                      <a:pt x="351" y="555"/>
                    </a:lnTo>
                    <a:lnTo>
                      <a:pt x="235" y="239"/>
                    </a:lnTo>
                    <a:lnTo>
                      <a:pt x="162" y="116"/>
                    </a:lnTo>
                    <a:lnTo>
                      <a:pt x="10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4854960" y="5216040"/>
                <a:ext cx="187560" cy="197280"/>
              </a:xfrm>
              <a:custGeom>
                <a:avLst/>
                <a:gdLst/>
                <a:ahLst/>
                <a:rect l="l" t="t" r="r" b="b"/>
                <a:pathLst>
                  <a:path w="2266" h="1862">
                    <a:moveTo>
                      <a:pt x="947" y="954"/>
                    </a:moveTo>
                    <a:lnTo>
                      <a:pt x="1211" y="1046"/>
                    </a:lnTo>
                    <a:lnTo>
                      <a:pt x="1455" y="1180"/>
                    </a:lnTo>
                    <a:lnTo>
                      <a:pt x="1630" y="1244"/>
                    </a:lnTo>
                    <a:lnTo>
                      <a:pt x="1747" y="1362"/>
                    </a:lnTo>
                    <a:lnTo>
                      <a:pt x="1925" y="1436"/>
                    </a:lnTo>
                    <a:lnTo>
                      <a:pt x="1914" y="1348"/>
                    </a:lnTo>
                    <a:lnTo>
                      <a:pt x="1764" y="1189"/>
                    </a:lnTo>
                    <a:lnTo>
                      <a:pt x="1582" y="1055"/>
                    </a:lnTo>
                    <a:lnTo>
                      <a:pt x="1854" y="1194"/>
                    </a:lnTo>
                    <a:lnTo>
                      <a:pt x="1905" y="908"/>
                    </a:lnTo>
                    <a:lnTo>
                      <a:pt x="1815" y="921"/>
                    </a:lnTo>
                    <a:lnTo>
                      <a:pt x="1747" y="908"/>
                    </a:lnTo>
                    <a:lnTo>
                      <a:pt x="1663" y="855"/>
                    </a:lnTo>
                    <a:lnTo>
                      <a:pt x="1738" y="839"/>
                    </a:lnTo>
                    <a:lnTo>
                      <a:pt x="1815" y="765"/>
                    </a:lnTo>
                    <a:lnTo>
                      <a:pt x="1863" y="682"/>
                    </a:lnTo>
                    <a:lnTo>
                      <a:pt x="1905" y="506"/>
                    </a:lnTo>
                    <a:lnTo>
                      <a:pt x="1914" y="273"/>
                    </a:lnTo>
                    <a:lnTo>
                      <a:pt x="1872" y="0"/>
                    </a:lnTo>
                    <a:lnTo>
                      <a:pt x="2048" y="168"/>
                    </a:lnTo>
                    <a:lnTo>
                      <a:pt x="2131" y="308"/>
                    </a:lnTo>
                    <a:lnTo>
                      <a:pt x="2110" y="325"/>
                    </a:lnTo>
                    <a:lnTo>
                      <a:pt x="1988" y="242"/>
                    </a:lnTo>
                    <a:lnTo>
                      <a:pt x="2013" y="541"/>
                    </a:lnTo>
                    <a:lnTo>
                      <a:pt x="2165" y="839"/>
                    </a:lnTo>
                    <a:lnTo>
                      <a:pt x="2206" y="1014"/>
                    </a:lnTo>
                    <a:lnTo>
                      <a:pt x="2149" y="1079"/>
                    </a:lnTo>
                    <a:lnTo>
                      <a:pt x="2156" y="1180"/>
                    </a:lnTo>
                    <a:lnTo>
                      <a:pt x="2266" y="1348"/>
                    </a:lnTo>
                    <a:lnTo>
                      <a:pt x="2266" y="1398"/>
                    </a:lnTo>
                    <a:lnTo>
                      <a:pt x="2215" y="1459"/>
                    </a:lnTo>
                    <a:lnTo>
                      <a:pt x="2013" y="1593"/>
                    </a:lnTo>
                    <a:lnTo>
                      <a:pt x="1896" y="1680"/>
                    </a:lnTo>
                    <a:lnTo>
                      <a:pt x="1738" y="1862"/>
                    </a:lnTo>
                    <a:lnTo>
                      <a:pt x="1496" y="1862"/>
                    </a:lnTo>
                    <a:lnTo>
                      <a:pt x="1444" y="1833"/>
                    </a:lnTo>
                    <a:lnTo>
                      <a:pt x="1356" y="1824"/>
                    </a:lnTo>
                    <a:lnTo>
                      <a:pt x="1305" y="1862"/>
                    </a:lnTo>
                    <a:lnTo>
                      <a:pt x="0" y="1862"/>
                    </a:lnTo>
                    <a:lnTo>
                      <a:pt x="169" y="1752"/>
                    </a:lnTo>
                    <a:lnTo>
                      <a:pt x="344" y="1662"/>
                    </a:lnTo>
                    <a:lnTo>
                      <a:pt x="542" y="1578"/>
                    </a:lnTo>
                    <a:lnTo>
                      <a:pt x="747" y="1512"/>
                    </a:lnTo>
                    <a:lnTo>
                      <a:pt x="830" y="1496"/>
                    </a:lnTo>
                    <a:lnTo>
                      <a:pt x="865" y="1545"/>
                    </a:lnTo>
                    <a:lnTo>
                      <a:pt x="837" y="1668"/>
                    </a:lnTo>
                    <a:lnTo>
                      <a:pt x="877" y="1721"/>
                    </a:lnTo>
                    <a:lnTo>
                      <a:pt x="1178" y="1680"/>
                    </a:lnTo>
                    <a:lnTo>
                      <a:pt x="1187" y="1653"/>
                    </a:lnTo>
                    <a:lnTo>
                      <a:pt x="1174" y="1629"/>
                    </a:lnTo>
                    <a:lnTo>
                      <a:pt x="947" y="1653"/>
                    </a:lnTo>
                    <a:lnTo>
                      <a:pt x="911" y="1635"/>
                    </a:lnTo>
                    <a:lnTo>
                      <a:pt x="906" y="1545"/>
                    </a:lnTo>
                    <a:lnTo>
                      <a:pt x="964" y="1503"/>
                    </a:lnTo>
                    <a:lnTo>
                      <a:pt x="994" y="1539"/>
                    </a:lnTo>
                    <a:lnTo>
                      <a:pt x="1037" y="1593"/>
                    </a:lnTo>
                    <a:lnTo>
                      <a:pt x="1103" y="1593"/>
                    </a:lnTo>
                    <a:lnTo>
                      <a:pt x="1139" y="1521"/>
                    </a:lnTo>
                    <a:lnTo>
                      <a:pt x="1019" y="1479"/>
                    </a:lnTo>
                    <a:lnTo>
                      <a:pt x="969" y="1470"/>
                    </a:lnTo>
                    <a:lnTo>
                      <a:pt x="1156" y="1459"/>
                    </a:lnTo>
                    <a:lnTo>
                      <a:pt x="1428" y="1452"/>
                    </a:lnTo>
                    <a:lnTo>
                      <a:pt x="1571" y="1459"/>
                    </a:lnTo>
                    <a:lnTo>
                      <a:pt x="1413" y="1398"/>
                    </a:lnTo>
                    <a:lnTo>
                      <a:pt x="1331" y="1319"/>
                    </a:lnTo>
                    <a:lnTo>
                      <a:pt x="1437" y="1353"/>
                    </a:lnTo>
                    <a:lnTo>
                      <a:pt x="1707" y="1459"/>
                    </a:lnTo>
                    <a:lnTo>
                      <a:pt x="1848" y="1479"/>
                    </a:lnTo>
                    <a:lnTo>
                      <a:pt x="1531" y="1256"/>
                    </a:lnTo>
                    <a:lnTo>
                      <a:pt x="1266" y="1106"/>
                    </a:lnTo>
                    <a:lnTo>
                      <a:pt x="1095" y="1064"/>
                    </a:lnTo>
                    <a:lnTo>
                      <a:pt x="1037" y="1002"/>
                    </a:lnTo>
                    <a:lnTo>
                      <a:pt x="947" y="9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4945680" y="508068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443" h="201">
                    <a:moveTo>
                      <a:pt x="0" y="69"/>
                    </a:moveTo>
                    <a:lnTo>
                      <a:pt x="0" y="201"/>
                    </a:lnTo>
                    <a:lnTo>
                      <a:pt x="236" y="46"/>
                    </a:lnTo>
                    <a:lnTo>
                      <a:pt x="261" y="69"/>
                    </a:lnTo>
                    <a:lnTo>
                      <a:pt x="351" y="78"/>
                    </a:lnTo>
                    <a:lnTo>
                      <a:pt x="443" y="19"/>
                    </a:lnTo>
                    <a:lnTo>
                      <a:pt x="342" y="51"/>
                    </a:lnTo>
                    <a:lnTo>
                      <a:pt x="287" y="46"/>
                    </a:lnTo>
                    <a:lnTo>
                      <a:pt x="236" y="0"/>
                    </a:lnTo>
                    <a:lnTo>
                      <a:pt x="134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4993560" y="5088240"/>
                <a:ext cx="57240" cy="114480"/>
              </a:xfrm>
              <a:custGeom>
                <a:avLst/>
                <a:gdLst/>
                <a:ahLst/>
                <a:rect l="l" t="t" r="r" b="b"/>
                <a:pathLst>
                  <a:path w="701" h="1079">
                    <a:moveTo>
                      <a:pt x="0" y="0"/>
                    </a:moveTo>
                    <a:lnTo>
                      <a:pt x="281" y="374"/>
                    </a:lnTo>
                    <a:lnTo>
                      <a:pt x="424" y="438"/>
                    </a:lnTo>
                    <a:lnTo>
                      <a:pt x="438" y="688"/>
                    </a:lnTo>
                    <a:lnTo>
                      <a:pt x="519" y="823"/>
                    </a:lnTo>
                    <a:lnTo>
                      <a:pt x="519" y="1079"/>
                    </a:lnTo>
                    <a:lnTo>
                      <a:pt x="551" y="1035"/>
                    </a:lnTo>
                    <a:lnTo>
                      <a:pt x="551" y="680"/>
                    </a:lnTo>
                    <a:lnTo>
                      <a:pt x="659" y="747"/>
                    </a:lnTo>
                    <a:lnTo>
                      <a:pt x="684" y="862"/>
                    </a:lnTo>
                    <a:lnTo>
                      <a:pt x="701" y="754"/>
                    </a:lnTo>
                    <a:lnTo>
                      <a:pt x="627" y="583"/>
                    </a:lnTo>
                    <a:lnTo>
                      <a:pt x="361" y="316"/>
                    </a:lnTo>
                    <a:lnTo>
                      <a:pt x="253" y="28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4963680" y="5135400"/>
                <a:ext cx="30960" cy="55800"/>
              </a:xfrm>
              <a:custGeom>
                <a:avLst/>
                <a:gdLst/>
                <a:ahLst/>
                <a:rect l="l" t="t" r="r" b="b"/>
                <a:pathLst>
                  <a:path w="378" h="533">
                    <a:moveTo>
                      <a:pt x="0" y="257"/>
                    </a:moveTo>
                    <a:lnTo>
                      <a:pt x="70" y="107"/>
                    </a:lnTo>
                    <a:lnTo>
                      <a:pt x="143" y="98"/>
                    </a:lnTo>
                    <a:lnTo>
                      <a:pt x="235" y="118"/>
                    </a:lnTo>
                    <a:lnTo>
                      <a:pt x="253" y="0"/>
                    </a:lnTo>
                    <a:lnTo>
                      <a:pt x="378" y="533"/>
                    </a:lnTo>
                    <a:lnTo>
                      <a:pt x="235" y="272"/>
                    </a:lnTo>
                    <a:lnTo>
                      <a:pt x="166" y="233"/>
                    </a:lnTo>
                    <a:lnTo>
                      <a:pt x="83" y="222"/>
                    </a:lnTo>
                    <a:lnTo>
                      <a:pt x="0" y="2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034600" y="5175360"/>
                <a:ext cx="59400" cy="122760"/>
              </a:xfrm>
              <a:custGeom>
                <a:avLst/>
                <a:gdLst/>
                <a:ahLst/>
                <a:rect l="l" t="t" r="r" b="b"/>
                <a:pathLst>
                  <a:path w="717" h="1161">
                    <a:moveTo>
                      <a:pt x="261" y="0"/>
                    </a:moveTo>
                    <a:lnTo>
                      <a:pt x="252" y="99"/>
                    </a:lnTo>
                    <a:lnTo>
                      <a:pt x="177" y="240"/>
                    </a:lnTo>
                    <a:lnTo>
                      <a:pt x="76" y="390"/>
                    </a:lnTo>
                    <a:lnTo>
                      <a:pt x="34" y="509"/>
                    </a:lnTo>
                    <a:lnTo>
                      <a:pt x="34" y="572"/>
                    </a:lnTo>
                    <a:lnTo>
                      <a:pt x="67" y="656"/>
                    </a:lnTo>
                    <a:lnTo>
                      <a:pt x="94" y="724"/>
                    </a:lnTo>
                    <a:lnTo>
                      <a:pt x="0" y="724"/>
                    </a:lnTo>
                    <a:lnTo>
                      <a:pt x="127" y="763"/>
                    </a:lnTo>
                    <a:lnTo>
                      <a:pt x="177" y="889"/>
                    </a:lnTo>
                    <a:lnTo>
                      <a:pt x="325" y="889"/>
                    </a:lnTo>
                    <a:lnTo>
                      <a:pt x="496" y="1161"/>
                    </a:lnTo>
                    <a:lnTo>
                      <a:pt x="535" y="1091"/>
                    </a:lnTo>
                    <a:lnTo>
                      <a:pt x="535" y="970"/>
                    </a:lnTo>
                    <a:lnTo>
                      <a:pt x="643" y="774"/>
                    </a:lnTo>
                    <a:lnTo>
                      <a:pt x="717" y="473"/>
                    </a:lnTo>
                    <a:lnTo>
                      <a:pt x="616" y="756"/>
                    </a:lnTo>
                    <a:lnTo>
                      <a:pt x="560" y="733"/>
                    </a:lnTo>
                    <a:lnTo>
                      <a:pt x="595" y="673"/>
                    </a:lnTo>
                    <a:lnTo>
                      <a:pt x="217" y="839"/>
                    </a:lnTo>
                    <a:lnTo>
                      <a:pt x="210" y="763"/>
                    </a:lnTo>
                    <a:lnTo>
                      <a:pt x="127" y="708"/>
                    </a:lnTo>
                    <a:lnTo>
                      <a:pt x="337" y="524"/>
                    </a:lnTo>
                    <a:lnTo>
                      <a:pt x="184" y="608"/>
                    </a:lnTo>
                    <a:lnTo>
                      <a:pt x="153" y="524"/>
                    </a:lnTo>
                    <a:lnTo>
                      <a:pt x="159" y="422"/>
                    </a:lnTo>
                    <a:lnTo>
                      <a:pt x="201" y="341"/>
                    </a:lnTo>
                    <a:lnTo>
                      <a:pt x="344" y="168"/>
                    </a:lnTo>
                    <a:lnTo>
                      <a:pt x="360" y="99"/>
                    </a:lnTo>
                    <a:lnTo>
                      <a:pt x="344" y="58"/>
                    </a:lnTo>
                    <a:lnTo>
                      <a:pt x="293" y="58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046120" y="5303520"/>
                <a:ext cx="64080" cy="53280"/>
              </a:xfrm>
              <a:custGeom>
                <a:avLst/>
                <a:gdLst/>
                <a:ahLst/>
                <a:rect l="l" t="t" r="r" b="b"/>
                <a:pathLst>
                  <a:path w="775" h="510">
                    <a:moveTo>
                      <a:pt x="0" y="510"/>
                    </a:moveTo>
                    <a:lnTo>
                      <a:pt x="92" y="353"/>
                    </a:lnTo>
                    <a:lnTo>
                      <a:pt x="472" y="182"/>
                    </a:lnTo>
                    <a:lnTo>
                      <a:pt x="672" y="182"/>
                    </a:lnTo>
                    <a:lnTo>
                      <a:pt x="775" y="118"/>
                    </a:lnTo>
                    <a:lnTo>
                      <a:pt x="540" y="118"/>
                    </a:lnTo>
                    <a:lnTo>
                      <a:pt x="393" y="171"/>
                    </a:lnTo>
                    <a:lnTo>
                      <a:pt x="327" y="143"/>
                    </a:lnTo>
                    <a:lnTo>
                      <a:pt x="342" y="0"/>
                    </a:lnTo>
                    <a:lnTo>
                      <a:pt x="261" y="14"/>
                    </a:lnTo>
                    <a:lnTo>
                      <a:pt x="261" y="171"/>
                    </a:lnTo>
                    <a:lnTo>
                      <a:pt x="197" y="251"/>
                    </a:lnTo>
                    <a:lnTo>
                      <a:pt x="105" y="261"/>
                    </a:lnTo>
                    <a:lnTo>
                      <a:pt x="12" y="393"/>
                    </a:lnTo>
                    <a:lnTo>
                      <a:pt x="0" y="5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5051160" y="5454360"/>
                <a:ext cx="98640" cy="47160"/>
              </a:xfrm>
              <a:custGeom>
                <a:avLst/>
                <a:gdLst/>
                <a:ahLst/>
                <a:rect l="l" t="t" r="r" b="b"/>
                <a:pathLst>
                  <a:path w="1191" h="446">
                    <a:moveTo>
                      <a:pt x="1191" y="174"/>
                    </a:moveTo>
                    <a:lnTo>
                      <a:pt x="841" y="283"/>
                    </a:lnTo>
                    <a:lnTo>
                      <a:pt x="622" y="446"/>
                    </a:lnTo>
                    <a:lnTo>
                      <a:pt x="609" y="374"/>
                    </a:lnTo>
                    <a:lnTo>
                      <a:pt x="912" y="176"/>
                    </a:lnTo>
                    <a:lnTo>
                      <a:pt x="877" y="137"/>
                    </a:lnTo>
                    <a:lnTo>
                      <a:pt x="708" y="149"/>
                    </a:lnTo>
                    <a:lnTo>
                      <a:pt x="490" y="213"/>
                    </a:lnTo>
                    <a:lnTo>
                      <a:pt x="512" y="108"/>
                    </a:lnTo>
                    <a:lnTo>
                      <a:pt x="313" y="96"/>
                    </a:lnTo>
                    <a:lnTo>
                      <a:pt x="205" y="55"/>
                    </a:lnTo>
                    <a:lnTo>
                      <a:pt x="69" y="2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246" y="47"/>
                    </a:lnTo>
                    <a:lnTo>
                      <a:pt x="409" y="77"/>
                    </a:lnTo>
                    <a:lnTo>
                      <a:pt x="537" y="73"/>
                    </a:lnTo>
                    <a:lnTo>
                      <a:pt x="652" y="55"/>
                    </a:lnTo>
                    <a:lnTo>
                      <a:pt x="749" y="112"/>
                    </a:lnTo>
                    <a:lnTo>
                      <a:pt x="1028" y="96"/>
                    </a:lnTo>
                    <a:lnTo>
                      <a:pt x="1164" y="154"/>
                    </a:lnTo>
                    <a:lnTo>
                      <a:pt x="1191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4933800" y="5407920"/>
                <a:ext cx="145080" cy="129240"/>
              </a:xfrm>
              <a:custGeom>
                <a:avLst/>
                <a:gdLst/>
                <a:ahLst/>
                <a:rect l="l" t="t" r="r" b="b"/>
                <a:pathLst>
                  <a:path w="1754" h="1222">
                    <a:moveTo>
                      <a:pt x="1289" y="666"/>
                    </a:moveTo>
                    <a:lnTo>
                      <a:pt x="1258" y="826"/>
                    </a:lnTo>
                    <a:lnTo>
                      <a:pt x="1258" y="945"/>
                    </a:lnTo>
                    <a:lnTo>
                      <a:pt x="1289" y="1042"/>
                    </a:lnTo>
                    <a:lnTo>
                      <a:pt x="1311" y="1098"/>
                    </a:lnTo>
                    <a:lnTo>
                      <a:pt x="1754" y="1222"/>
                    </a:lnTo>
                    <a:lnTo>
                      <a:pt x="1293" y="1160"/>
                    </a:lnTo>
                    <a:lnTo>
                      <a:pt x="1251" y="1098"/>
                    </a:lnTo>
                    <a:lnTo>
                      <a:pt x="876" y="1092"/>
                    </a:lnTo>
                    <a:lnTo>
                      <a:pt x="576" y="1035"/>
                    </a:lnTo>
                    <a:lnTo>
                      <a:pt x="311" y="955"/>
                    </a:lnTo>
                    <a:lnTo>
                      <a:pt x="93" y="860"/>
                    </a:lnTo>
                    <a:lnTo>
                      <a:pt x="69" y="826"/>
                    </a:lnTo>
                    <a:lnTo>
                      <a:pt x="51" y="749"/>
                    </a:lnTo>
                    <a:lnTo>
                      <a:pt x="0" y="652"/>
                    </a:lnTo>
                    <a:lnTo>
                      <a:pt x="12" y="615"/>
                    </a:lnTo>
                    <a:lnTo>
                      <a:pt x="32" y="588"/>
                    </a:lnTo>
                    <a:lnTo>
                      <a:pt x="32" y="452"/>
                    </a:lnTo>
                    <a:lnTo>
                      <a:pt x="51" y="406"/>
                    </a:lnTo>
                    <a:lnTo>
                      <a:pt x="80" y="382"/>
                    </a:lnTo>
                    <a:lnTo>
                      <a:pt x="58" y="433"/>
                    </a:lnTo>
                    <a:lnTo>
                      <a:pt x="51" y="547"/>
                    </a:lnTo>
                    <a:lnTo>
                      <a:pt x="58" y="613"/>
                    </a:lnTo>
                    <a:lnTo>
                      <a:pt x="230" y="756"/>
                    </a:lnTo>
                    <a:lnTo>
                      <a:pt x="258" y="749"/>
                    </a:lnTo>
                    <a:lnTo>
                      <a:pt x="278" y="670"/>
                    </a:lnTo>
                    <a:lnTo>
                      <a:pt x="170" y="494"/>
                    </a:lnTo>
                    <a:lnTo>
                      <a:pt x="140" y="344"/>
                    </a:lnTo>
                    <a:lnTo>
                      <a:pt x="201" y="202"/>
                    </a:lnTo>
                    <a:lnTo>
                      <a:pt x="201" y="426"/>
                    </a:lnTo>
                    <a:lnTo>
                      <a:pt x="361" y="786"/>
                    </a:lnTo>
                    <a:lnTo>
                      <a:pt x="438" y="802"/>
                    </a:lnTo>
                    <a:lnTo>
                      <a:pt x="489" y="770"/>
                    </a:lnTo>
                    <a:lnTo>
                      <a:pt x="480" y="685"/>
                    </a:lnTo>
                    <a:lnTo>
                      <a:pt x="320" y="286"/>
                    </a:lnTo>
                    <a:lnTo>
                      <a:pt x="320" y="166"/>
                    </a:lnTo>
                    <a:lnTo>
                      <a:pt x="320" y="72"/>
                    </a:lnTo>
                    <a:lnTo>
                      <a:pt x="361" y="0"/>
                    </a:lnTo>
                    <a:lnTo>
                      <a:pt x="343" y="136"/>
                    </a:lnTo>
                    <a:lnTo>
                      <a:pt x="350" y="272"/>
                    </a:lnTo>
                    <a:lnTo>
                      <a:pt x="451" y="540"/>
                    </a:lnTo>
                    <a:lnTo>
                      <a:pt x="493" y="560"/>
                    </a:lnTo>
                    <a:lnTo>
                      <a:pt x="535" y="516"/>
                    </a:lnTo>
                    <a:lnTo>
                      <a:pt x="553" y="468"/>
                    </a:lnTo>
                    <a:lnTo>
                      <a:pt x="546" y="362"/>
                    </a:lnTo>
                    <a:lnTo>
                      <a:pt x="528" y="219"/>
                    </a:lnTo>
                    <a:lnTo>
                      <a:pt x="553" y="215"/>
                    </a:lnTo>
                    <a:lnTo>
                      <a:pt x="581" y="459"/>
                    </a:lnTo>
                    <a:lnTo>
                      <a:pt x="570" y="523"/>
                    </a:lnTo>
                    <a:lnTo>
                      <a:pt x="541" y="569"/>
                    </a:lnTo>
                    <a:lnTo>
                      <a:pt x="498" y="613"/>
                    </a:lnTo>
                    <a:lnTo>
                      <a:pt x="511" y="740"/>
                    </a:lnTo>
                    <a:lnTo>
                      <a:pt x="504" y="826"/>
                    </a:lnTo>
                    <a:lnTo>
                      <a:pt x="456" y="844"/>
                    </a:lnTo>
                    <a:lnTo>
                      <a:pt x="392" y="839"/>
                    </a:lnTo>
                    <a:lnTo>
                      <a:pt x="311" y="795"/>
                    </a:lnTo>
                    <a:lnTo>
                      <a:pt x="265" y="802"/>
                    </a:lnTo>
                    <a:lnTo>
                      <a:pt x="93" y="724"/>
                    </a:lnTo>
                    <a:lnTo>
                      <a:pt x="87" y="806"/>
                    </a:lnTo>
                    <a:lnTo>
                      <a:pt x="152" y="867"/>
                    </a:lnTo>
                    <a:lnTo>
                      <a:pt x="504" y="986"/>
                    </a:lnTo>
                    <a:lnTo>
                      <a:pt x="792" y="1048"/>
                    </a:lnTo>
                    <a:lnTo>
                      <a:pt x="1042" y="1058"/>
                    </a:lnTo>
                    <a:lnTo>
                      <a:pt x="1238" y="1058"/>
                    </a:lnTo>
                    <a:lnTo>
                      <a:pt x="1229" y="955"/>
                    </a:lnTo>
                    <a:lnTo>
                      <a:pt x="1238" y="826"/>
                    </a:lnTo>
                    <a:lnTo>
                      <a:pt x="1263" y="722"/>
                    </a:lnTo>
                    <a:lnTo>
                      <a:pt x="1289" y="6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4977000" y="5407920"/>
                <a:ext cx="69480" cy="57600"/>
              </a:xfrm>
              <a:custGeom>
                <a:avLst/>
                <a:gdLst/>
                <a:ahLst/>
                <a:rect l="l" t="t" r="r" b="b"/>
                <a:pathLst>
                  <a:path w="846" h="547">
                    <a:moveTo>
                      <a:pt x="0" y="30"/>
                    </a:moveTo>
                    <a:lnTo>
                      <a:pt x="45" y="94"/>
                    </a:lnTo>
                    <a:lnTo>
                      <a:pt x="101" y="210"/>
                    </a:lnTo>
                    <a:lnTo>
                      <a:pt x="36" y="219"/>
                    </a:lnTo>
                    <a:lnTo>
                      <a:pt x="36" y="237"/>
                    </a:lnTo>
                    <a:lnTo>
                      <a:pt x="174" y="246"/>
                    </a:lnTo>
                    <a:lnTo>
                      <a:pt x="322" y="254"/>
                    </a:lnTo>
                    <a:lnTo>
                      <a:pt x="248" y="233"/>
                    </a:lnTo>
                    <a:lnTo>
                      <a:pt x="394" y="178"/>
                    </a:lnTo>
                    <a:lnTo>
                      <a:pt x="472" y="189"/>
                    </a:lnTo>
                    <a:lnTo>
                      <a:pt x="598" y="297"/>
                    </a:lnTo>
                    <a:lnTo>
                      <a:pt x="675" y="422"/>
                    </a:lnTo>
                    <a:lnTo>
                      <a:pt x="767" y="512"/>
                    </a:lnTo>
                    <a:lnTo>
                      <a:pt x="820" y="547"/>
                    </a:lnTo>
                    <a:lnTo>
                      <a:pt x="846" y="523"/>
                    </a:lnTo>
                    <a:lnTo>
                      <a:pt x="758" y="468"/>
                    </a:lnTo>
                    <a:lnTo>
                      <a:pt x="679" y="392"/>
                    </a:lnTo>
                    <a:lnTo>
                      <a:pt x="611" y="286"/>
                    </a:lnTo>
                    <a:lnTo>
                      <a:pt x="534" y="184"/>
                    </a:lnTo>
                    <a:lnTo>
                      <a:pt x="394" y="136"/>
                    </a:lnTo>
                    <a:lnTo>
                      <a:pt x="317" y="154"/>
                    </a:lnTo>
                    <a:lnTo>
                      <a:pt x="223" y="189"/>
                    </a:lnTo>
                    <a:lnTo>
                      <a:pt x="161" y="184"/>
                    </a:lnTo>
                    <a:lnTo>
                      <a:pt x="244" y="90"/>
                    </a:lnTo>
                    <a:lnTo>
                      <a:pt x="283" y="30"/>
                    </a:lnTo>
                    <a:lnTo>
                      <a:pt x="275" y="0"/>
                    </a:lnTo>
                    <a:lnTo>
                      <a:pt x="223" y="79"/>
                    </a:lnTo>
                    <a:lnTo>
                      <a:pt x="119" y="154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4807080" y="4933800"/>
                <a:ext cx="109440" cy="130320"/>
              </a:xfrm>
              <a:custGeom>
                <a:avLst/>
                <a:gdLst/>
                <a:ahLst/>
                <a:rect l="l" t="t" r="r" b="b"/>
                <a:pathLst>
                  <a:path w="1323" h="1233">
                    <a:moveTo>
                      <a:pt x="680" y="329"/>
                    </a:moveTo>
                    <a:lnTo>
                      <a:pt x="759" y="233"/>
                    </a:lnTo>
                    <a:lnTo>
                      <a:pt x="833" y="191"/>
                    </a:lnTo>
                    <a:lnTo>
                      <a:pt x="918" y="186"/>
                    </a:lnTo>
                    <a:lnTo>
                      <a:pt x="1026" y="239"/>
                    </a:lnTo>
                    <a:lnTo>
                      <a:pt x="1086" y="329"/>
                    </a:lnTo>
                    <a:lnTo>
                      <a:pt x="1116" y="433"/>
                    </a:lnTo>
                    <a:lnTo>
                      <a:pt x="1128" y="539"/>
                    </a:lnTo>
                    <a:lnTo>
                      <a:pt x="1123" y="648"/>
                    </a:lnTo>
                    <a:lnTo>
                      <a:pt x="1112" y="753"/>
                    </a:lnTo>
                    <a:lnTo>
                      <a:pt x="1141" y="857"/>
                    </a:lnTo>
                    <a:lnTo>
                      <a:pt x="1165" y="744"/>
                    </a:lnTo>
                    <a:lnTo>
                      <a:pt x="1242" y="689"/>
                    </a:lnTo>
                    <a:lnTo>
                      <a:pt x="1291" y="728"/>
                    </a:lnTo>
                    <a:lnTo>
                      <a:pt x="1305" y="857"/>
                    </a:lnTo>
                    <a:lnTo>
                      <a:pt x="1296" y="960"/>
                    </a:lnTo>
                    <a:lnTo>
                      <a:pt x="1238" y="1046"/>
                    </a:lnTo>
                    <a:lnTo>
                      <a:pt x="1209" y="1083"/>
                    </a:lnTo>
                    <a:lnTo>
                      <a:pt x="1152" y="1127"/>
                    </a:lnTo>
                    <a:lnTo>
                      <a:pt x="1222" y="1101"/>
                    </a:lnTo>
                    <a:lnTo>
                      <a:pt x="1310" y="966"/>
                    </a:lnTo>
                    <a:lnTo>
                      <a:pt x="1323" y="834"/>
                    </a:lnTo>
                    <a:lnTo>
                      <a:pt x="1296" y="696"/>
                    </a:lnTo>
                    <a:lnTo>
                      <a:pt x="1242" y="666"/>
                    </a:lnTo>
                    <a:lnTo>
                      <a:pt x="1242" y="585"/>
                    </a:lnTo>
                    <a:lnTo>
                      <a:pt x="1183" y="323"/>
                    </a:lnTo>
                    <a:lnTo>
                      <a:pt x="1086" y="175"/>
                    </a:lnTo>
                    <a:lnTo>
                      <a:pt x="971" y="74"/>
                    </a:lnTo>
                    <a:lnTo>
                      <a:pt x="840" y="32"/>
                    </a:lnTo>
                    <a:lnTo>
                      <a:pt x="629" y="0"/>
                    </a:lnTo>
                    <a:lnTo>
                      <a:pt x="392" y="32"/>
                    </a:lnTo>
                    <a:lnTo>
                      <a:pt x="213" y="131"/>
                    </a:lnTo>
                    <a:lnTo>
                      <a:pt x="97" y="255"/>
                    </a:lnTo>
                    <a:lnTo>
                      <a:pt x="26" y="404"/>
                    </a:lnTo>
                    <a:lnTo>
                      <a:pt x="12" y="562"/>
                    </a:lnTo>
                    <a:lnTo>
                      <a:pt x="26" y="786"/>
                    </a:lnTo>
                    <a:lnTo>
                      <a:pt x="0" y="857"/>
                    </a:lnTo>
                    <a:lnTo>
                      <a:pt x="23" y="995"/>
                    </a:lnTo>
                    <a:lnTo>
                      <a:pt x="97" y="1113"/>
                    </a:lnTo>
                    <a:lnTo>
                      <a:pt x="198" y="1196"/>
                    </a:lnTo>
                    <a:lnTo>
                      <a:pt x="249" y="1201"/>
                    </a:lnTo>
                    <a:lnTo>
                      <a:pt x="279" y="1233"/>
                    </a:lnTo>
                    <a:lnTo>
                      <a:pt x="264" y="1152"/>
                    </a:lnTo>
                    <a:lnTo>
                      <a:pt x="213" y="1187"/>
                    </a:lnTo>
                    <a:lnTo>
                      <a:pt x="104" y="1106"/>
                    </a:lnTo>
                    <a:lnTo>
                      <a:pt x="33" y="973"/>
                    </a:lnTo>
                    <a:lnTo>
                      <a:pt x="26" y="868"/>
                    </a:lnTo>
                    <a:lnTo>
                      <a:pt x="49" y="843"/>
                    </a:lnTo>
                    <a:lnTo>
                      <a:pt x="121" y="857"/>
                    </a:lnTo>
                    <a:lnTo>
                      <a:pt x="213" y="936"/>
                    </a:lnTo>
                    <a:lnTo>
                      <a:pt x="194" y="830"/>
                    </a:lnTo>
                    <a:lnTo>
                      <a:pt x="167" y="771"/>
                    </a:lnTo>
                    <a:lnTo>
                      <a:pt x="130" y="668"/>
                    </a:lnTo>
                    <a:lnTo>
                      <a:pt x="108" y="551"/>
                    </a:lnTo>
                    <a:lnTo>
                      <a:pt x="108" y="459"/>
                    </a:lnTo>
                    <a:lnTo>
                      <a:pt x="130" y="382"/>
                    </a:lnTo>
                    <a:lnTo>
                      <a:pt x="171" y="323"/>
                    </a:lnTo>
                    <a:lnTo>
                      <a:pt x="227" y="281"/>
                    </a:lnTo>
                    <a:lnTo>
                      <a:pt x="286" y="265"/>
                    </a:lnTo>
                    <a:lnTo>
                      <a:pt x="354" y="281"/>
                    </a:lnTo>
                    <a:lnTo>
                      <a:pt x="420" y="318"/>
                    </a:lnTo>
                    <a:lnTo>
                      <a:pt x="466" y="355"/>
                    </a:lnTo>
                    <a:lnTo>
                      <a:pt x="521" y="369"/>
                    </a:lnTo>
                    <a:lnTo>
                      <a:pt x="607" y="362"/>
                    </a:lnTo>
                    <a:lnTo>
                      <a:pt x="655" y="345"/>
                    </a:lnTo>
                    <a:lnTo>
                      <a:pt x="680" y="3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4831200" y="5026320"/>
                <a:ext cx="34920" cy="8280"/>
              </a:xfrm>
              <a:custGeom>
                <a:avLst/>
                <a:gdLst/>
                <a:ahLst/>
                <a:rect l="l" t="t" r="r" b="b"/>
                <a:pathLst>
                  <a:path w="424" h="83">
                    <a:moveTo>
                      <a:pt x="0" y="42"/>
                    </a:moveTo>
                    <a:lnTo>
                      <a:pt x="74" y="22"/>
                    </a:lnTo>
                    <a:lnTo>
                      <a:pt x="157" y="15"/>
                    </a:lnTo>
                    <a:lnTo>
                      <a:pt x="274" y="15"/>
                    </a:lnTo>
                    <a:lnTo>
                      <a:pt x="338" y="8"/>
                    </a:lnTo>
                    <a:lnTo>
                      <a:pt x="424" y="0"/>
                    </a:lnTo>
                    <a:lnTo>
                      <a:pt x="389" y="46"/>
                    </a:lnTo>
                    <a:lnTo>
                      <a:pt x="300" y="52"/>
                    </a:lnTo>
                    <a:lnTo>
                      <a:pt x="305" y="83"/>
                    </a:lnTo>
                    <a:lnTo>
                      <a:pt x="263" y="52"/>
                    </a:lnTo>
                    <a:lnTo>
                      <a:pt x="204" y="46"/>
                    </a:lnTo>
                    <a:lnTo>
                      <a:pt x="129" y="56"/>
                    </a:lnTo>
                    <a:lnTo>
                      <a:pt x="210" y="28"/>
                    </a:lnTo>
                    <a:lnTo>
                      <a:pt x="134" y="28"/>
                    </a:lnTo>
                    <a:lnTo>
                      <a:pt x="63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4829760" y="5027760"/>
                <a:ext cx="26280" cy="17640"/>
              </a:xfrm>
              <a:custGeom>
                <a:avLst/>
                <a:gdLst/>
                <a:ahLst/>
                <a:rect l="l" t="t" r="r" b="b"/>
                <a:pathLst>
                  <a:path w="318" h="161">
                    <a:moveTo>
                      <a:pt x="0" y="22"/>
                    </a:moveTo>
                    <a:lnTo>
                      <a:pt x="24" y="50"/>
                    </a:lnTo>
                    <a:lnTo>
                      <a:pt x="92" y="74"/>
                    </a:lnTo>
                    <a:lnTo>
                      <a:pt x="138" y="108"/>
                    </a:lnTo>
                    <a:lnTo>
                      <a:pt x="119" y="127"/>
                    </a:lnTo>
                    <a:lnTo>
                      <a:pt x="175" y="161"/>
                    </a:lnTo>
                    <a:lnTo>
                      <a:pt x="237" y="145"/>
                    </a:lnTo>
                    <a:lnTo>
                      <a:pt x="281" y="117"/>
                    </a:lnTo>
                    <a:lnTo>
                      <a:pt x="228" y="108"/>
                    </a:lnTo>
                    <a:lnTo>
                      <a:pt x="318" y="59"/>
                    </a:lnTo>
                    <a:lnTo>
                      <a:pt x="310" y="44"/>
                    </a:lnTo>
                    <a:lnTo>
                      <a:pt x="222" y="97"/>
                    </a:lnTo>
                    <a:lnTo>
                      <a:pt x="175" y="103"/>
                    </a:lnTo>
                    <a:lnTo>
                      <a:pt x="119" y="81"/>
                    </a:lnTo>
                    <a:lnTo>
                      <a:pt x="99" y="53"/>
                    </a:lnTo>
                    <a:lnTo>
                      <a:pt x="156" y="32"/>
                    </a:lnTo>
                    <a:lnTo>
                      <a:pt x="99" y="39"/>
                    </a:lnTo>
                    <a:lnTo>
                      <a:pt x="77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4869000" y="5015880"/>
                <a:ext cx="27000" cy="8280"/>
              </a:xfrm>
              <a:custGeom>
                <a:avLst/>
                <a:gdLst/>
                <a:ahLst/>
                <a:rect l="l" t="t" r="r" b="b"/>
                <a:pathLst>
                  <a:path w="327" h="85">
                    <a:moveTo>
                      <a:pt x="0" y="85"/>
                    </a:moveTo>
                    <a:lnTo>
                      <a:pt x="211" y="0"/>
                    </a:lnTo>
                    <a:lnTo>
                      <a:pt x="269" y="12"/>
                    </a:lnTo>
                    <a:lnTo>
                      <a:pt x="327" y="35"/>
                    </a:lnTo>
                    <a:lnTo>
                      <a:pt x="253" y="28"/>
                    </a:lnTo>
                    <a:lnTo>
                      <a:pt x="200" y="28"/>
                    </a:lnTo>
                    <a:lnTo>
                      <a:pt x="130" y="48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4870800" y="5024520"/>
                <a:ext cx="21600" cy="10080"/>
              </a:xfrm>
              <a:custGeom>
                <a:avLst/>
                <a:gdLst/>
                <a:ahLst/>
                <a:rect l="l" t="t" r="r" b="b"/>
                <a:pathLst>
                  <a:path w="261" h="99">
                    <a:moveTo>
                      <a:pt x="0" y="53"/>
                    </a:moveTo>
                    <a:lnTo>
                      <a:pt x="70" y="2"/>
                    </a:lnTo>
                    <a:lnTo>
                      <a:pt x="166" y="0"/>
                    </a:lnTo>
                    <a:lnTo>
                      <a:pt x="261" y="11"/>
                    </a:lnTo>
                    <a:lnTo>
                      <a:pt x="224" y="57"/>
                    </a:lnTo>
                    <a:lnTo>
                      <a:pt x="166" y="85"/>
                    </a:lnTo>
                    <a:lnTo>
                      <a:pt x="116" y="99"/>
                    </a:lnTo>
                    <a:lnTo>
                      <a:pt x="42" y="88"/>
                    </a:lnTo>
                    <a:lnTo>
                      <a:pt x="116" y="88"/>
                    </a:lnTo>
                    <a:lnTo>
                      <a:pt x="193" y="57"/>
                    </a:lnTo>
                    <a:lnTo>
                      <a:pt x="240" y="15"/>
                    </a:lnTo>
                    <a:lnTo>
                      <a:pt x="153" y="11"/>
                    </a:lnTo>
                    <a:lnTo>
                      <a:pt x="83" y="15"/>
                    </a:lnTo>
                    <a:lnTo>
                      <a:pt x="3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4865400" y="5019480"/>
                <a:ext cx="20520" cy="29520"/>
              </a:xfrm>
              <a:custGeom>
                <a:avLst/>
                <a:gdLst/>
                <a:ahLst/>
                <a:rect l="l" t="t" r="r" b="b"/>
                <a:pathLst>
                  <a:path w="248" h="281">
                    <a:moveTo>
                      <a:pt x="173" y="11"/>
                    </a:moveTo>
                    <a:lnTo>
                      <a:pt x="248" y="25"/>
                    </a:lnTo>
                    <a:lnTo>
                      <a:pt x="158" y="25"/>
                    </a:lnTo>
                    <a:lnTo>
                      <a:pt x="122" y="63"/>
                    </a:lnTo>
                    <a:lnTo>
                      <a:pt x="74" y="94"/>
                    </a:lnTo>
                    <a:lnTo>
                      <a:pt x="55" y="133"/>
                    </a:lnTo>
                    <a:lnTo>
                      <a:pt x="55" y="186"/>
                    </a:lnTo>
                    <a:lnTo>
                      <a:pt x="74" y="281"/>
                    </a:lnTo>
                    <a:lnTo>
                      <a:pt x="43" y="191"/>
                    </a:lnTo>
                    <a:lnTo>
                      <a:pt x="37" y="142"/>
                    </a:lnTo>
                    <a:lnTo>
                      <a:pt x="34" y="105"/>
                    </a:lnTo>
                    <a:lnTo>
                      <a:pt x="0" y="63"/>
                    </a:lnTo>
                    <a:lnTo>
                      <a:pt x="140" y="21"/>
                    </a:lnTo>
                    <a:lnTo>
                      <a:pt x="204" y="0"/>
                    </a:lnTo>
                    <a:lnTo>
                      <a:pt x="17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4857840" y="5030280"/>
                <a:ext cx="3600" cy="24480"/>
              </a:xfrm>
              <a:custGeom>
                <a:avLst/>
                <a:gdLst/>
                <a:ahLst/>
                <a:rect l="l" t="t" r="r" b="b"/>
                <a:pathLst>
                  <a:path w="48" h="233">
                    <a:moveTo>
                      <a:pt x="0" y="10"/>
                    </a:moveTo>
                    <a:lnTo>
                      <a:pt x="22" y="90"/>
                    </a:lnTo>
                    <a:lnTo>
                      <a:pt x="27" y="153"/>
                    </a:lnTo>
                    <a:lnTo>
                      <a:pt x="39" y="233"/>
                    </a:lnTo>
                    <a:lnTo>
                      <a:pt x="48" y="149"/>
                    </a:lnTo>
                    <a:lnTo>
                      <a:pt x="41" y="85"/>
                    </a:lnTo>
                    <a:lnTo>
                      <a:pt x="35" y="32"/>
                    </a:lnTo>
                    <a:lnTo>
                      <a:pt x="27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4874400" y="5033880"/>
                <a:ext cx="14400" cy="5760"/>
              </a:xfrm>
              <a:custGeom>
                <a:avLst/>
                <a:gdLst/>
                <a:ahLst/>
                <a:rect l="l" t="t" r="r" b="b"/>
                <a:pathLst>
                  <a:path w="171" h="55">
                    <a:moveTo>
                      <a:pt x="32" y="11"/>
                    </a:moveTo>
                    <a:lnTo>
                      <a:pt x="0" y="44"/>
                    </a:lnTo>
                    <a:lnTo>
                      <a:pt x="65" y="55"/>
                    </a:lnTo>
                    <a:lnTo>
                      <a:pt x="106" y="44"/>
                    </a:lnTo>
                    <a:lnTo>
                      <a:pt x="171" y="11"/>
                    </a:lnTo>
                    <a:lnTo>
                      <a:pt x="124" y="11"/>
                    </a:lnTo>
                    <a:lnTo>
                      <a:pt x="81" y="0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4811760" y="5033160"/>
                <a:ext cx="13680" cy="17640"/>
              </a:xfrm>
              <a:custGeom>
                <a:avLst/>
                <a:gdLst/>
                <a:ahLst/>
                <a:rect l="l" t="t" r="r" b="b"/>
                <a:pathLst>
                  <a:path w="174" h="170">
                    <a:moveTo>
                      <a:pt x="157" y="30"/>
                    </a:moveTo>
                    <a:lnTo>
                      <a:pt x="88" y="6"/>
                    </a:lnTo>
                    <a:lnTo>
                      <a:pt x="0" y="0"/>
                    </a:lnTo>
                    <a:lnTo>
                      <a:pt x="33" y="20"/>
                    </a:lnTo>
                    <a:lnTo>
                      <a:pt x="51" y="90"/>
                    </a:lnTo>
                    <a:lnTo>
                      <a:pt x="77" y="129"/>
                    </a:lnTo>
                    <a:lnTo>
                      <a:pt x="60" y="78"/>
                    </a:lnTo>
                    <a:lnTo>
                      <a:pt x="70" y="37"/>
                    </a:lnTo>
                    <a:lnTo>
                      <a:pt x="104" y="44"/>
                    </a:lnTo>
                    <a:lnTo>
                      <a:pt x="97" y="78"/>
                    </a:lnTo>
                    <a:lnTo>
                      <a:pt x="108" y="123"/>
                    </a:lnTo>
                    <a:lnTo>
                      <a:pt x="136" y="136"/>
                    </a:lnTo>
                    <a:lnTo>
                      <a:pt x="174" y="170"/>
                    </a:lnTo>
                    <a:lnTo>
                      <a:pt x="157" y="123"/>
                    </a:lnTo>
                    <a:lnTo>
                      <a:pt x="167" y="83"/>
                    </a:lnTo>
                    <a:lnTo>
                      <a:pt x="160" y="59"/>
                    </a:lnTo>
                    <a:lnTo>
                      <a:pt x="15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4902120" y="5015160"/>
                <a:ext cx="10440" cy="30240"/>
              </a:xfrm>
              <a:custGeom>
                <a:avLst/>
                <a:gdLst/>
                <a:ahLst/>
                <a:rect l="l" t="t" r="r" b="b"/>
                <a:pathLst>
                  <a:path w="129" h="292">
                    <a:moveTo>
                      <a:pt x="0" y="116"/>
                    </a:moveTo>
                    <a:lnTo>
                      <a:pt x="23" y="109"/>
                    </a:lnTo>
                    <a:lnTo>
                      <a:pt x="63" y="55"/>
                    </a:lnTo>
                    <a:lnTo>
                      <a:pt x="116" y="0"/>
                    </a:lnTo>
                    <a:lnTo>
                      <a:pt x="104" y="46"/>
                    </a:lnTo>
                    <a:lnTo>
                      <a:pt x="129" y="90"/>
                    </a:lnTo>
                    <a:lnTo>
                      <a:pt x="129" y="147"/>
                    </a:lnTo>
                    <a:lnTo>
                      <a:pt x="104" y="199"/>
                    </a:lnTo>
                    <a:lnTo>
                      <a:pt x="116" y="136"/>
                    </a:lnTo>
                    <a:lnTo>
                      <a:pt x="113" y="105"/>
                    </a:lnTo>
                    <a:lnTo>
                      <a:pt x="83" y="76"/>
                    </a:lnTo>
                    <a:lnTo>
                      <a:pt x="69" y="109"/>
                    </a:lnTo>
                    <a:lnTo>
                      <a:pt x="92" y="147"/>
                    </a:lnTo>
                    <a:lnTo>
                      <a:pt x="83" y="184"/>
                    </a:lnTo>
                    <a:lnTo>
                      <a:pt x="54" y="199"/>
                    </a:lnTo>
                    <a:lnTo>
                      <a:pt x="37" y="228"/>
                    </a:lnTo>
                    <a:lnTo>
                      <a:pt x="19" y="292"/>
                    </a:lnTo>
                    <a:lnTo>
                      <a:pt x="17" y="237"/>
                    </a:lnTo>
                    <a:lnTo>
                      <a:pt x="30" y="184"/>
                    </a:lnTo>
                    <a:lnTo>
                      <a:pt x="19" y="164"/>
                    </a:lnTo>
                    <a:lnTo>
                      <a:pt x="0" y="143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4842360" y="503028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99" h="63">
                    <a:moveTo>
                      <a:pt x="0" y="14"/>
                    </a:moveTo>
                    <a:lnTo>
                      <a:pt x="16" y="46"/>
                    </a:lnTo>
                    <a:lnTo>
                      <a:pt x="42" y="63"/>
                    </a:lnTo>
                    <a:lnTo>
                      <a:pt x="81" y="50"/>
                    </a:lnTo>
                    <a:lnTo>
                      <a:pt x="99" y="32"/>
                    </a:lnTo>
                    <a:lnTo>
                      <a:pt x="99" y="0"/>
                    </a:lnTo>
                    <a:lnTo>
                      <a:pt x="64" y="4"/>
                    </a:lnTo>
                    <a:lnTo>
                      <a:pt x="69" y="21"/>
                    </a:lnTo>
                    <a:lnTo>
                      <a:pt x="53" y="35"/>
                    </a:lnTo>
                    <a:lnTo>
                      <a:pt x="42" y="26"/>
                    </a:lnTo>
                    <a:lnTo>
                      <a:pt x="37" y="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4877640" y="502452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92" h="61">
                    <a:moveTo>
                      <a:pt x="0" y="17"/>
                    </a:moveTo>
                    <a:lnTo>
                      <a:pt x="9" y="55"/>
                    </a:lnTo>
                    <a:lnTo>
                      <a:pt x="42" y="61"/>
                    </a:lnTo>
                    <a:lnTo>
                      <a:pt x="74" y="51"/>
                    </a:lnTo>
                    <a:lnTo>
                      <a:pt x="92" y="31"/>
                    </a:lnTo>
                    <a:lnTo>
                      <a:pt x="86" y="0"/>
                    </a:lnTo>
                    <a:lnTo>
                      <a:pt x="64" y="0"/>
                    </a:lnTo>
                    <a:lnTo>
                      <a:pt x="60" y="33"/>
                    </a:lnTo>
                    <a:lnTo>
                      <a:pt x="37" y="33"/>
                    </a:lnTo>
                    <a:lnTo>
                      <a:pt x="27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4851720" y="5053320"/>
                <a:ext cx="30960" cy="21240"/>
              </a:xfrm>
              <a:custGeom>
                <a:avLst/>
                <a:gdLst/>
                <a:ahLst/>
                <a:rect l="l" t="t" r="r" b="b"/>
                <a:pathLst>
                  <a:path w="374" h="198">
                    <a:moveTo>
                      <a:pt x="31" y="0"/>
                    </a:moveTo>
                    <a:lnTo>
                      <a:pt x="0" y="37"/>
                    </a:lnTo>
                    <a:lnTo>
                      <a:pt x="0" y="79"/>
                    </a:lnTo>
                    <a:lnTo>
                      <a:pt x="26" y="90"/>
                    </a:lnTo>
                    <a:lnTo>
                      <a:pt x="46" y="132"/>
                    </a:lnTo>
                    <a:lnTo>
                      <a:pt x="127" y="163"/>
                    </a:lnTo>
                    <a:lnTo>
                      <a:pt x="199" y="198"/>
                    </a:lnTo>
                    <a:lnTo>
                      <a:pt x="235" y="198"/>
                    </a:lnTo>
                    <a:lnTo>
                      <a:pt x="305" y="120"/>
                    </a:lnTo>
                    <a:lnTo>
                      <a:pt x="360" y="90"/>
                    </a:lnTo>
                    <a:lnTo>
                      <a:pt x="374" y="37"/>
                    </a:lnTo>
                    <a:lnTo>
                      <a:pt x="365" y="22"/>
                    </a:lnTo>
                    <a:lnTo>
                      <a:pt x="342" y="0"/>
                    </a:lnTo>
                    <a:lnTo>
                      <a:pt x="354" y="25"/>
                    </a:lnTo>
                    <a:lnTo>
                      <a:pt x="347" y="46"/>
                    </a:lnTo>
                    <a:lnTo>
                      <a:pt x="325" y="46"/>
                    </a:lnTo>
                    <a:lnTo>
                      <a:pt x="285" y="69"/>
                    </a:lnTo>
                    <a:lnTo>
                      <a:pt x="261" y="97"/>
                    </a:lnTo>
                    <a:lnTo>
                      <a:pt x="235" y="120"/>
                    </a:lnTo>
                    <a:lnTo>
                      <a:pt x="187" y="127"/>
                    </a:lnTo>
                    <a:lnTo>
                      <a:pt x="141" y="117"/>
                    </a:lnTo>
                    <a:lnTo>
                      <a:pt x="107" y="97"/>
                    </a:lnTo>
                    <a:lnTo>
                      <a:pt x="63" y="79"/>
                    </a:lnTo>
                    <a:lnTo>
                      <a:pt x="26" y="79"/>
                    </a:lnTo>
                    <a:lnTo>
                      <a:pt x="8" y="60"/>
                    </a:lnTo>
                    <a:lnTo>
                      <a:pt x="15" y="37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4848840" y="5073480"/>
                <a:ext cx="42840" cy="9360"/>
              </a:xfrm>
              <a:custGeom>
                <a:avLst/>
                <a:gdLst/>
                <a:ahLst/>
                <a:rect l="l" t="t" r="r" b="b"/>
                <a:pathLst>
                  <a:path w="520" h="90">
                    <a:moveTo>
                      <a:pt x="48" y="60"/>
                    </a:moveTo>
                    <a:lnTo>
                      <a:pt x="101" y="40"/>
                    </a:lnTo>
                    <a:lnTo>
                      <a:pt x="174" y="23"/>
                    </a:lnTo>
                    <a:lnTo>
                      <a:pt x="259" y="24"/>
                    </a:lnTo>
                    <a:lnTo>
                      <a:pt x="343" y="7"/>
                    </a:lnTo>
                    <a:lnTo>
                      <a:pt x="488" y="23"/>
                    </a:lnTo>
                    <a:lnTo>
                      <a:pt x="511" y="0"/>
                    </a:lnTo>
                    <a:lnTo>
                      <a:pt x="520" y="31"/>
                    </a:lnTo>
                    <a:lnTo>
                      <a:pt x="501" y="46"/>
                    </a:lnTo>
                    <a:lnTo>
                      <a:pt x="477" y="31"/>
                    </a:lnTo>
                    <a:lnTo>
                      <a:pt x="417" y="24"/>
                    </a:lnTo>
                    <a:lnTo>
                      <a:pt x="327" y="46"/>
                    </a:lnTo>
                    <a:lnTo>
                      <a:pt x="253" y="64"/>
                    </a:lnTo>
                    <a:lnTo>
                      <a:pt x="128" y="60"/>
                    </a:lnTo>
                    <a:lnTo>
                      <a:pt x="41" y="70"/>
                    </a:lnTo>
                    <a:lnTo>
                      <a:pt x="20" y="90"/>
                    </a:lnTo>
                    <a:lnTo>
                      <a:pt x="0" y="79"/>
                    </a:lnTo>
                    <a:lnTo>
                      <a:pt x="4" y="53"/>
                    </a:lnTo>
                    <a:lnTo>
                      <a:pt x="27" y="46"/>
                    </a:lnTo>
                    <a:lnTo>
                      <a:pt x="48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4858200" y="5085720"/>
                <a:ext cx="23760" cy="10080"/>
              </a:xfrm>
              <a:custGeom>
                <a:avLst/>
                <a:gdLst/>
                <a:ahLst/>
                <a:rect l="l" t="t" r="r" b="b"/>
                <a:pathLst>
                  <a:path w="286" h="94">
                    <a:moveTo>
                      <a:pt x="0" y="22"/>
                    </a:moveTo>
                    <a:lnTo>
                      <a:pt x="64" y="31"/>
                    </a:lnTo>
                    <a:lnTo>
                      <a:pt x="123" y="31"/>
                    </a:lnTo>
                    <a:lnTo>
                      <a:pt x="194" y="26"/>
                    </a:lnTo>
                    <a:lnTo>
                      <a:pt x="286" y="0"/>
                    </a:lnTo>
                    <a:lnTo>
                      <a:pt x="231" y="46"/>
                    </a:lnTo>
                    <a:lnTo>
                      <a:pt x="244" y="83"/>
                    </a:lnTo>
                    <a:lnTo>
                      <a:pt x="171" y="83"/>
                    </a:lnTo>
                    <a:lnTo>
                      <a:pt x="64" y="94"/>
                    </a:lnTo>
                    <a:lnTo>
                      <a:pt x="70" y="63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4828320" y="5051880"/>
                <a:ext cx="75600" cy="64080"/>
              </a:xfrm>
              <a:custGeom>
                <a:avLst/>
                <a:gdLst/>
                <a:ahLst/>
                <a:rect l="l" t="t" r="r" b="b"/>
                <a:pathLst>
                  <a:path w="911" h="609">
                    <a:moveTo>
                      <a:pt x="0" y="83"/>
                    </a:moveTo>
                    <a:lnTo>
                      <a:pt x="96" y="339"/>
                    </a:lnTo>
                    <a:lnTo>
                      <a:pt x="157" y="438"/>
                    </a:lnTo>
                    <a:lnTo>
                      <a:pt x="226" y="498"/>
                    </a:lnTo>
                    <a:lnTo>
                      <a:pt x="304" y="546"/>
                    </a:lnTo>
                    <a:lnTo>
                      <a:pt x="394" y="576"/>
                    </a:lnTo>
                    <a:lnTo>
                      <a:pt x="487" y="609"/>
                    </a:lnTo>
                    <a:lnTo>
                      <a:pt x="570" y="609"/>
                    </a:lnTo>
                    <a:lnTo>
                      <a:pt x="669" y="581"/>
                    </a:lnTo>
                    <a:lnTo>
                      <a:pt x="735" y="535"/>
                    </a:lnTo>
                    <a:lnTo>
                      <a:pt x="793" y="464"/>
                    </a:lnTo>
                    <a:lnTo>
                      <a:pt x="848" y="374"/>
                    </a:lnTo>
                    <a:lnTo>
                      <a:pt x="883" y="288"/>
                    </a:lnTo>
                    <a:lnTo>
                      <a:pt x="898" y="183"/>
                    </a:lnTo>
                    <a:lnTo>
                      <a:pt x="911" y="0"/>
                    </a:lnTo>
                    <a:lnTo>
                      <a:pt x="892" y="14"/>
                    </a:lnTo>
                    <a:lnTo>
                      <a:pt x="869" y="265"/>
                    </a:lnTo>
                    <a:lnTo>
                      <a:pt x="839" y="353"/>
                    </a:lnTo>
                    <a:lnTo>
                      <a:pt x="793" y="434"/>
                    </a:lnTo>
                    <a:lnTo>
                      <a:pt x="724" y="517"/>
                    </a:lnTo>
                    <a:lnTo>
                      <a:pt x="659" y="558"/>
                    </a:lnTo>
                    <a:lnTo>
                      <a:pt x="659" y="528"/>
                    </a:lnTo>
                    <a:lnTo>
                      <a:pt x="595" y="551"/>
                    </a:lnTo>
                    <a:lnTo>
                      <a:pt x="511" y="557"/>
                    </a:lnTo>
                    <a:lnTo>
                      <a:pt x="450" y="551"/>
                    </a:lnTo>
                    <a:lnTo>
                      <a:pt x="392" y="528"/>
                    </a:lnTo>
                    <a:lnTo>
                      <a:pt x="408" y="558"/>
                    </a:lnTo>
                    <a:lnTo>
                      <a:pt x="293" y="524"/>
                    </a:lnTo>
                    <a:lnTo>
                      <a:pt x="203" y="445"/>
                    </a:lnTo>
                    <a:lnTo>
                      <a:pt x="138" y="368"/>
                    </a:lnTo>
                    <a:lnTo>
                      <a:pt x="90" y="279"/>
                    </a:lnTo>
                    <a:lnTo>
                      <a:pt x="10" y="74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4835160" y="5060880"/>
                <a:ext cx="15120" cy="29520"/>
              </a:xfrm>
              <a:custGeom>
                <a:avLst/>
                <a:gdLst/>
                <a:ahLst/>
                <a:rect l="l" t="t" r="r" b="b"/>
                <a:pathLst>
                  <a:path w="187" h="278">
                    <a:moveTo>
                      <a:pt x="22" y="58"/>
                    </a:moveTo>
                    <a:lnTo>
                      <a:pt x="97" y="53"/>
                    </a:lnTo>
                    <a:lnTo>
                      <a:pt x="134" y="36"/>
                    </a:lnTo>
                    <a:lnTo>
                      <a:pt x="187" y="0"/>
                    </a:lnTo>
                    <a:lnTo>
                      <a:pt x="157" y="58"/>
                    </a:lnTo>
                    <a:lnTo>
                      <a:pt x="111" y="117"/>
                    </a:lnTo>
                    <a:lnTo>
                      <a:pt x="118" y="181"/>
                    </a:lnTo>
                    <a:lnTo>
                      <a:pt x="163" y="278"/>
                    </a:lnTo>
                    <a:lnTo>
                      <a:pt x="111" y="207"/>
                    </a:lnTo>
                    <a:lnTo>
                      <a:pt x="77" y="133"/>
                    </a:lnTo>
                    <a:lnTo>
                      <a:pt x="40" y="117"/>
                    </a:lnTo>
                    <a:lnTo>
                      <a:pt x="0" y="64"/>
                    </a:lnTo>
                    <a:lnTo>
                      <a:pt x="22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4884120" y="5056920"/>
                <a:ext cx="12960" cy="23760"/>
              </a:xfrm>
              <a:custGeom>
                <a:avLst/>
                <a:gdLst/>
                <a:ahLst/>
                <a:rect l="l" t="t" r="r" b="b"/>
                <a:pathLst>
                  <a:path w="156" h="222">
                    <a:moveTo>
                      <a:pt x="0" y="0"/>
                    </a:moveTo>
                    <a:lnTo>
                      <a:pt x="31" y="29"/>
                    </a:lnTo>
                    <a:lnTo>
                      <a:pt x="94" y="68"/>
                    </a:lnTo>
                    <a:lnTo>
                      <a:pt x="112" y="94"/>
                    </a:lnTo>
                    <a:lnTo>
                      <a:pt x="124" y="140"/>
                    </a:lnTo>
                    <a:lnTo>
                      <a:pt x="117" y="222"/>
                    </a:lnTo>
                    <a:lnTo>
                      <a:pt x="134" y="136"/>
                    </a:lnTo>
                    <a:lnTo>
                      <a:pt x="156" y="46"/>
                    </a:lnTo>
                    <a:lnTo>
                      <a:pt x="156" y="9"/>
                    </a:lnTo>
                    <a:lnTo>
                      <a:pt x="88" y="13"/>
                    </a:lnTo>
                    <a:lnTo>
                      <a:pt x="3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5064480" y="5186520"/>
                <a:ext cx="54360" cy="30240"/>
              </a:xfrm>
              <a:custGeom>
                <a:avLst/>
                <a:gdLst/>
                <a:ahLst/>
                <a:rect l="l" t="t" r="r" b="b"/>
                <a:pathLst>
                  <a:path w="652" h="291">
                    <a:moveTo>
                      <a:pt x="50" y="0"/>
                    </a:moveTo>
                    <a:lnTo>
                      <a:pt x="59" y="44"/>
                    </a:lnTo>
                    <a:lnTo>
                      <a:pt x="59" y="85"/>
                    </a:lnTo>
                    <a:lnTo>
                      <a:pt x="34" y="126"/>
                    </a:lnTo>
                    <a:lnTo>
                      <a:pt x="0" y="152"/>
                    </a:lnTo>
                    <a:lnTo>
                      <a:pt x="136" y="291"/>
                    </a:lnTo>
                    <a:lnTo>
                      <a:pt x="294" y="192"/>
                    </a:lnTo>
                    <a:lnTo>
                      <a:pt x="384" y="291"/>
                    </a:lnTo>
                    <a:lnTo>
                      <a:pt x="452" y="233"/>
                    </a:lnTo>
                    <a:lnTo>
                      <a:pt x="583" y="152"/>
                    </a:lnTo>
                    <a:lnTo>
                      <a:pt x="652" y="69"/>
                    </a:lnTo>
                    <a:lnTo>
                      <a:pt x="553" y="152"/>
                    </a:lnTo>
                    <a:lnTo>
                      <a:pt x="410" y="210"/>
                    </a:lnTo>
                    <a:lnTo>
                      <a:pt x="343" y="159"/>
                    </a:lnTo>
                    <a:lnTo>
                      <a:pt x="184" y="159"/>
                    </a:lnTo>
                    <a:lnTo>
                      <a:pt x="94" y="9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5086440" y="5062680"/>
                <a:ext cx="34920" cy="46440"/>
              </a:xfrm>
              <a:custGeom>
                <a:avLst/>
                <a:gdLst/>
                <a:ahLst/>
                <a:rect l="l" t="t" r="r" b="b"/>
                <a:pathLst>
                  <a:path w="419" h="442">
                    <a:moveTo>
                      <a:pt x="36" y="0"/>
                    </a:moveTo>
                    <a:lnTo>
                      <a:pt x="134" y="35"/>
                    </a:lnTo>
                    <a:lnTo>
                      <a:pt x="260" y="13"/>
                    </a:lnTo>
                    <a:lnTo>
                      <a:pt x="382" y="42"/>
                    </a:lnTo>
                    <a:lnTo>
                      <a:pt x="396" y="0"/>
                    </a:lnTo>
                    <a:lnTo>
                      <a:pt x="419" y="92"/>
                    </a:lnTo>
                    <a:lnTo>
                      <a:pt x="419" y="189"/>
                    </a:lnTo>
                    <a:lnTo>
                      <a:pt x="403" y="334"/>
                    </a:lnTo>
                    <a:lnTo>
                      <a:pt x="373" y="442"/>
                    </a:lnTo>
                    <a:lnTo>
                      <a:pt x="396" y="316"/>
                    </a:lnTo>
                    <a:lnTo>
                      <a:pt x="396" y="260"/>
                    </a:lnTo>
                    <a:lnTo>
                      <a:pt x="290" y="327"/>
                    </a:lnTo>
                    <a:lnTo>
                      <a:pt x="269" y="327"/>
                    </a:lnTo>
                    <a:lnTo>
                      <a:pt x="260" y="308"/>
                    </a:lnTo>
                    <a:lnTo>
                      <a:pt x="359" y="202"/>
                    </a:lnTo>
                    <a:lnTo>
                      <a:pt x="352" y="145"/>
                    </a:lnTo>
                    <a:lnTo>
                      <a:pt x="246" y="214"/>
                    </a:lnTo>
                    <a:lnTo>
                      <a:pt x="274" y="165"/>
                    </a:lnTo>
                    <a:lnTo>
                      <a:pt x="260" y="154"/>
                    </a:lnTo>
                    <a:lnTo>
                      <a:pt x="253" y="110"/>
                    </a:lnTo>
                    <a:lnTo>
                      <a:pt x="218" y="110"/>
                    </a:lnTo>
                    <a:lnTo>
                      <a:pt x="154" y="175"/>
                    </a:lnTo>
                    <a:lnTo>
                      <a:pt x="134" y="175"/>
                    </a:lnTo>
                    <a:lnTo>
                      <a:pt x="134" y="141"/>
                    </a:lnTo>
                    <a:lnTo>
                      <a:pt x="163" y="103"/>
                    </a:lnTo>
                    <a:lnTo>
                      <a:pt x="62" y="79"/>
                    </a:lnTo>
                    <a:lnTo>
                      <a:pt x="62" y="117"/>
                    </a:lnTo>
                    <a:lnTo>
                      <a:pt x="90" y="161"/>
                    </a:lnTo>
                    <a:lnTo>
                      <a:pt x="29" y="117"/>
                    </a:lnTo>
                    <a:lnTo>
                      <a:pt x="0" y="55"/>
                    </a:lnTo>
                    <a:lnTo>
                      <a:pt x="7" y="13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5095800" y="5083200"/>
                <a:ext cx="8280" cy="5760"/>
              </a:xfrm>
              <a:custGeom>
                <a:avLst/>
                <a:gdLst/>
                <a:ahLst/>
                <a:rect l="l" t="t" r="r" b="b"/>
                <a:pathLst>
                  <a:path w="96" h="60">
                    <a:moveTo>
                      <a:pt x="13" y="0"/>
                    </a:moveTo>
                    <a:lnTo>
                      <a:pt x="96" y="35"/>
                    </a:lnTo>
                    <a:lnTo>
                      <a:pt x="96" y="57"/>
                    </a:lnTo>
                    <a:lnTo>
                      <a:pt x="72" y="60"/>
                    </a:lnTo>
                    <a:lnTo>
                      <a:pt x="4" y="29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5122080" y="5035680"/>
                <a:ext cx="54360" cy="50400"/>
              </a:xfrm>
              <a:custGeom>
                <a:avLst/>
                <a:gdLst/>
                <a:ahLst/>
                <a:rect l="l" t="t" r="r" b="b"/>
                <a:pathLst>
                  <a:path w="655" h="483">
                    <a:moveTo>
                      <a:pt x="0" y="132"/>
                    </a:moveTo>
                    <a:lnTo>
                      <a:pt x="41" y="279"/>
                    </a:lnTo>
                    <a:lnTo>
                      <a:pt x="103" y="351"/>
                    </a:lnTo>
                    <a:lnTo>
                      <a:pt x="103" y="473"/>
                    </a:lnTo>
                    <a:lnTo>
                      <a:pt x="161" y="362"/>
                    </a:lnTo>
                    <a:lnTo>
                      <a:pt x="364" y="483"/>
                    </a:lnTo>
                    <a:lnTo>
                      <a:pt x="521" y="376"/>
                    </a:lnTo>
                    <a:lnTo>
                      <a:pt x="352" y="376"/>
                    </a:lnTo>
                    <a:lnTo>
                      <a:pt x="297" y="356"/>
                    </a:lnTo>
                    <a:lnTo>
                      <a:pt x="224" y="356"/>
                    </a:lnTo>
                    <a:lnTo>
                      <a:pt x="217" y="332"/>
                    </a:lnTo>
                    <a:lnTo>
                      <a:pt x="329" y="314"/>
                    </a:lnTo>
                    <a:lnTo>
                      <a:pt x="329" y="259"/>
                    </a:lnTo>
                    <a:lnTo>
                      <a:pt x="391" y="224"/>
                    </a:lnTo>
                    <a:lnTo>
                      <a:pt x="323" y="224"/>
                    </a:lnTo>
                    <a:lnTo>
                      <a:pt x="308" y="208"/>
                    </a:lnTo>
                    <a:lnTo>
                      <a:pt x="426" y="160"/>
                    </a:lnTo>
                    <a:lnTo>
                      <a:pt x="479" y="107"/>
                    </a:lnTo>
                    <a:lnTo>
                      <a:pt x="631" y="169"/>
                    </a:lnTo>
                    <a:lnTo>
                      <a:pt x="655" y="160"/>
                    </a:lnTo>
                    <a:lnTo>
                      <a:pt x="527" y="0"/>
                    </a:lnTo>
                    <a:lnTo>
                      <a:pt x="479" y="0"/>
                    </a:lnTo>
                    <a:lnTo>
                      <a:pt x="290" y="99"/>
                    </a:lnTo>
                    <a:lnTo>
                      <a:pt x="140" y="187"/>
                    </a:lnTo>
                    <a:lnTo>
                      <a:pt x="134" y="238"/>
                    </a:lnTo>
                    <a:lnTo>
                      <a:pt x="90" y="245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5152680" y="5059080"/>
                <a:ext cx="15840" cy="8280"/>
              </a:xfrm>
              <a:custGeom>
                <a:avLst/>
                <a:gdLst/>
                <a:ahLst/>
                <a:rect l="l" t="t" r="r" b="b"/>
                <a:pathLst>
                  <a:path w="191" h="81">
                    <a:moveTo>
                      <a:pt x="0" y="0"/>
                    </a:moveTo>
                    <a:lnTo>
                      <a:pt x="34" y="65"/>
                    </a:lnTo>
                    <a:lnTo>
                      <a:pt x="20" y="81"/>
                    </a:lnTo>
                    <a:lnTo>
                      <a:pt x="176" y="72"/>
                    </a:lnTo>
                    <a:lnTo>
                      <a:pt x="191" y="50"/>
                    </a:lnTo>
                    <a:lnTo>
                      <a:pt x="101" y="0"/>
                    </a:lnTo>
                    <a:lnTo>
                      <a:pt x="2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5117400" y="511020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396" h="226">
                    <a:moveTo>
                      <a:pt x="0" y="41"/>
                    </a:moveTo>
                    <a:lnTo>
                      <a:pt x="69" y="83"/>
                    </a:lnTo>
                    <a:lnTo>
                      <a:pt x="136" y="83"/>
                    </a:lnTo>
                    <a:lnTo>
                      <a:pt x="228" y="14"/>
                    </a:lnTo>
                    <a:lnTo>
                      <a:pt x="297" y="0"/>
                    </a:lnTo>
                    <a:lnTo>
                      <a:pt x="302" y="14"/>
                    </a:lnTo>
                    <a:lnTo>
                      <a:pt x="339" y="26"/>
                    </a:lnTo>
                    <a:lnTo>
                      <a:pt x="396" y="14"/>
                    </a:lnTo>
                    <a:lnTo>
                      <a:pt x="359" y="63"/>
                    </a:lnTo>
                    <a:lnTo>
                      <a:pt x="219" y="109"/>
                    </a:lnTo>
                    <a:lnTo>
                      <a:pt x="214" y="180"/>
                    </a:lnTo>
                    <a:lnTo>
                      <a:pt x="168" y="226"/>
                    </a:lnTo>
                    <a:lnTo>
                      <a:pt x="99" y="118"/>
                    </a:lnTo>
                    <a:lnTo>
                      <a:pt x="46" y="104"/>
                    </a:lnTo>
                    <a:lnTo>
                      <a:pt x="0" y="63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5135400" y="5097600"/>
                <a:ext cx="12600" cy="5760"/>
              </a:xfrm>
              <a:custGeom>
                <a:avLst/>
                <a:gdLst/>
                <a:ahLst/>
                <a:rect l="l" t="t" r="r" b="b"/>
                <a:pathLst>
                  <a:path w="155" h="58">
                    <a:moveTo>
                      <a:pt x="0" y="58"/>
                    </a:moveTo>
                    <a:lnTo>
                      <a:pt x="106" y="32"/>
                    </a:lnTo>
                    <a:lnTo>
                      <a:pt x="155" y="44"/>
                    </a:lnTo>
                    <a:lnTo>
                      <a:pt x="106" y="0"/>
                    </a:lnTo>
                    <a:lnTo>
                      <a:pt x="41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5150160" y="5105160"/>
                <a:ext cx="27000" cy="48240"/>
              </a:xfrm>
              <a:custGeom>
                <a:avLst/>
                <a:gdLst/>
                <a:ahLst/>
                <a:rect l="l" t="t" r="r" b="b"/>
                <a:pathLst>
                  <a:path w="323" h="453">
                    <a:moveTo>
                      <a:pt x="0" y="0"/>
                    </a:moveTo>
                    <a:lnTo>
                      <a:pt x="7" y="54"/>
                    </a:lnTo>
                    <a:lnTo>
                      <a:pt x="84" y="119"/>
                    </a:lnTo>
                    <a:lnTo>
                      <a:pt x="169" y="229"/>
                    </a:lnTo>
                    <a:lnTo>
                      <a:pt x="99" y="275"/>
                    </a:lnTo>
                    <a:lnTo>
                      <a:pt x="209" y="453"/>
                    </a:lnTo>
                    <a:lnTo>
                      <a:pt x="282" y="453"/>
                    </a:lnTo>
                    <a:lnTo>
                      <a:pt x="323" y="299"/>
                    </a:lnTo>
                    <a:lnTo>
                      <a:pt x="308" y="250"/>
                    </a:lnTo>
                    <a:lnTo>
                      <a:pt x="224" y="222"/>
                    </a:lnTo>
                    <a:lnTo>
                      <a:pt x="205" y="119"/>
                    </a:lnTo>
                    <a:lnTo>
                      <a:pt x="104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5092920" y="5087160"/>
                <a:ext cx="33480" cy="87840"/>
              </a:xfrm>
              <a:custGeom>
                <a:avLst/>
                <a:gdLst/>
                <a:ahLst/>
                <a:rect l="l" t="t" r="r" b="b"/>
                <a:pathLst>
                  <a:path w="411" h="827">
                    <a:moveTo>
                      <a:pt x="290" y="272"/>
                    </a:moveTo>
                    <a:lnTo>
                      <a:pt x="197" y="272"/>
                    </a:lnTo>
                    <a:lnTo>
                      <a:pt x="121" y="230"/>
                    </a:lnTo>
                    <a:lnTo>
                      <a:pt x="51" y="167"/>
                    </a:lnTo>
                    <a:lnTo>
                      <a:pt x="0" y="0"/>
                    </a:lnTo>
                    <a:lnTo>
                      <a:pt x="29" y="193"/>
                    </a:lnTo>
                    <a:lnTo>
                      <a:pt x="160" y="378"/>
                    </a:lnTo>
                    <a:lnTo>
                      <a:pt x="282" y="629"/>
                    </a:lnTo>
                    <a:lnTo>
                      <a:pt x="342" y="708"/>
                    </a:lnTo>
                    <a:lnTo>
                      <a:pt x="395" y="827"/>
                    </a:lnTo>
                    <a:lnTo>
                      <a:pt x="354" y="636"/>
                    </a:lnTo>
                    <a:lnTo>
                      <a:pt x="411" y="609"/>
                    </a:lnTo>
                    <a:lnTo>
                      <a:pt x="354" y="565"/>
                    </a:lnTo>
                    <a:lnTo>
                      <a:pt x="354" y="530"/>
                    </a:lnTo>
                    <a:lnTo>
                      <a:pt x="386" y="507"/>
                    </a:lnTo>
                    <a:lnTo>
                      <a:pt x="319" y="523"/>
                    </a:lnTo>
                    <a:lnTo>
                      <a:pt x="282" y="507"/>
                    </a:lnTo>
                    <a:lnTo>
                      <a:pt x="268" y="466"/>
                    </a:lnTo>
                    <a:lnTo>
                      <a:pt x="268" y="356"/>
                    </a:lnTo>
                    <a:lnTo>
                      <a:pt x="290" y="2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5128920" y="5132880"/>
                <a:ext cx="30960" cy="7560"/>
              </a:xfrm>
              <a:custGeom>
                <a:avLst/>
                <a:gdLst/>
                <a:ahLst/>
                <a:rect l="l" t="t" r="r" b="b"/>
                <a:pathLst>
                  <a:path w="381" h="76">
                    <a:moveTo>
                      <a:pt x="0" y="76"/>
                    </a:moveTo>
                    <a:lnTo>
                      <a:pt x="175" y="40"/>
                    </a:lnTo>
                    <a:lnTo>
                      <a:pt x="260" y="0"/>
                    </a:lnTo>
                    <a:lnTo>
                      <a:pt x="313" y="0"/>
                    </a:lnTo>
                    <a:lnTo>
                      <a:pt x="381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5131440" y="5143320"/>
                <a:ext cx="25560" cy="20160"/>
              </a:xfrm>
              <a:custGeom>
                <a:avLst/>
                <a:gdLst/>
                <a:ahLst/>
                <a:rect l="l" t="t" r="r" b="b"/>
                <a:pathLst>
                  <a:path w="316" h="191">
                    <a:moveTo>
                      <a:pt x="0" y="79"/>
                    </a:moveTo>
                    <a:lnTo>
                      <a:pt x="242" y="26"/>
                    </a:lnTo>
                    <a:lnTo>
                      <a:pt x="295" y="0"/>
                    </a:lnTo>
                    <a:lnTo>
                      <a:pt x="303" y="19"/>
                    </a:lnTo>
                    <a:lnTo>
                      <a:pt x="219" y="64"/>
                    </a:lnTo>
                    <a:lnTo>
                      <a:pt x="235" y="112"/>
                    </a:lnTo>
                    <a:lnTo>
                      <a:pt x="316" y="191"/>
                    </a:lnTo>
                    <a:lnTo>
                      <a:pt x="228" y="162"/>
                    </a:lnTo>
                    <a:lnTo>
                      <a:pt x="150" y="162"/>
                    </a:lnTo>
                    <a:lnTo>
                      <a:pt x="72" y="182"/>
                    </a:lnTo>
                    <a:lnTo>
                      <a:pt x="46" y="191"/>
                    </a:lnTo>
                    <a:lnTo>
                      <a:pt x="60" y="156"/>
                    </a:lnTo>
                    <a:lnTo>
                      <a:pt x="24" y="9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5065920" y="4955760"/>
                <a:ext cx="141840" cy="109080"/>
              </a:xfrm>
              <a:custGeom>
                <a:avLst/>
                <a:gdLst/>
                <a:ahLst/>
                <a:rect l="l" t="t" r="r" b="b"/>
                <a:pathLst>
                  <a:path w="1704" h="1028">
                    <a:moveTo>
                      <a:pt x="159" y="340"/>
                    </a:moveTo>
                    <a:lnTo>
                      <a:pt x="122" y="404"/>
                    </a:lnTo>
                    <a:lnTo>
                      <a:pt x="0" y="551"/>
                    </a:lnTo>
                    <a:lnTo>
                      <a:pt x="0" y="609"/>
                    </a:lnTo>
                    <a:lnTo>
                      <a:pt x="76" y="749"/>
                    </a:lnTo>
                    <a:lnTo>
                      <a:pt x="48" y="874"/>
                    </a:lnTo>
                    <a:lnTo>
                      <a:pt x="111" y="978"/>
                    </a:lnTo>
                    <a:lnTo>
                      <a:pt x="245" y="987"/>
                    </a:lnTo>
                    <a:lnTo>
                      <a:pt x="286" y="1028"/>
                    </a:lnTo>
                    <a:lnTo>
                      <a:pt x="252" y="692"/>
                    </a:lnTo>
                    <a:lnTo>
                      <a:pt x="252" y="588"/>
                    </a:lnTo>
                    <a:lnTo>
                      <a:pt x="265" y="507"/>
                    </a:lnTo>
                    <a:lnTo>
                      <a:pt x="286" y="457"/>
                    </a:lnTo>
                    <a:lnTo>
                      <a:pt x="408" y="507"/>
                    </a:lnTo>
                    <a:lnTo>
                      <a:pt x="555" y="529"/>
                    </a:lnTo>
                    <a:lnTo>
                      <a:pt x="738" y="529"/>
                    </a:lnTo>
                    <a:lnTo>
                      <a:pt x="966" y="507"/>
                    </a:lnTo>
                    <a:lnTo>
                      <a:pt x="851" y="503"/>
                    </a:lnTo>
                    <a:lnTo>
                      <a:pt x="708" y="434"/>
                    </a:lnTo>
                    <a:lnTo>
                      <a:pt x="865" y="441"/>
                    </a:lnTo>
                    <a:lnTo>
                      <a:pt x="992" y="434"/>
                    </a:lnTo>
                    <a:lnTo>
                      <a:pt x="1162" y="397"/>
                    </a:lnTo>
                    <a:lnTo>
                      <a:pt x="1280" y="349"/>
                    </a:lnTo>
                    <a:lnTo>
                      <a:pt x="1441" y="334"/>
                    </a:lnTo>
                    <a:lnTo>
                      <a:pt x="1513" y="362"/>
                    </a:lnTo>
                    <a:lnTo>
                      <a:pt x="1586" y="397"/>
                    </a:lnTo>
                    <a:lnTo>
                      <a:pt x="1644" y="397"/>
                    </a:lnTo>
                    <a:lnTo>
                      <a:pt x="1704" y="362"/>
                    </a:lnTo>
                    <a:lnTo>
                      <a:pt x="1634" y="272"/>
                    </a:lnTo>
                    <a:lnTo>
                      <a:pt x="1526" y="286"/>
                    </a:lnTo>
                    <a:lnTo>
                      <a:pt x="1441" y="259"/>
                    </a:lnTo>
                    <a:lnTo>
                      <a:pt x="1358" y="250"/>
                    </a:lnTo>
                    <a:lnTo>
                      <a:pt x="1280" y="279"/>
                    </a:lnTo>
                    <a:lnTo>
                      <a:pt x="1139" y="340"/>
                    </a:lnTo>
                    <a:lnTo>
                      <a:pt x="1014" y="371"/>
                    </a:lnTo>
                    <a:lnTo>
                      <a:pt x="878" y="378"/>
                    </a:lnTo>
                    <a:lnTo>
                      <a:pt x="766" y="384"/>
                    </a:lnTo>
                    <a:lnTo>
                      <a:pt x="590" y="362"/>
                    </a:lnTo>
                    <a:lnTo>
                      <a:pt x="696" y="334"/>
                    </a:lnTo>
                    <a:lnTo>
                      <a:pt x="570" y="318"/>
                    </a:lnTo>
                    <a:lnTo>
                      <a:pt x="443" y="291"/>
                    </a:lnTo>
                    <a:lnTo>
                      <a:pt x="379" y="265"/>
                    </a:lnTo>
                    <a:lnTo>
                      <a:pt x="482" y="226"/>
                    </a:lnTo>
                    <a:lnTo>
                      <a:pt x="300" y="201"/>
                    </a:lnTo>
                    <a:lnTo>
                      <a:pt x="265" y="173"/>
                    </a:lnTo>
                    <a:lnTo>
                      <a:pt x="258" y="145"/>
                    </a:lnTo>
                    <a:lnTo>
                      <a:pt x="265" y="102"/>
                    </a:lnTo>
                    <a:lnTo>
                      <a:pt x="295" y="54"/>
                    </a:lnTo>
                    <a:lnTo>
                      <a:pt x="373" y="0"/>
                    </a:lnTo>
                    <a:lnTo>
                      <a:pt x="217" y="67"/>
                    </a:lnTo>
                    <a:lnTo>
                      <a:pt x="60" y="164"/>
                    </a:lnTo>
                    <a:lnTo>
                      <a:pt x="69" y="189"/>
                    </a:lnTo>
                    <a:lnTo>
                      <a:pt x="118" y="286"/>
                    </a:lnTo>
                    <a:lnTo>
                      <a:pt x="159" y="3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5104440" y="4932360"/>
                <a:ext cx="137160" cy="278640"/>
              </a:xfrm>
              <a:custGeom>
                <a:avLst/>
                <a:gdLst/>
                <a:ahLst/>
                <a:rect l="l" t="t" r="r" b="b"/>
                <a:pathLst>
                  <a:path w="1658" h="2635">
                    <a:moveTo>
                      <a:pt x="7" y="196"/>
                    </a:moveTo>
                    <a:lnTo>
                      <a:pt x="0" y="216"/>
                    </a:lnTo>
                    <a:lnTo>
                      <a:pt x="14" y="231"/>
                    </a:lnTo>
                    <a:lnTo>
                      <a:pt x="58" y="251"/>
                    </a:lnTo>
                    <a:lnTo>
                      <a:pt x="106" y="260"/>
                    </a:lnTo>
                    <a:lnTo>
                      <a:pt x="185" y="260"/>
                    </a:lnTo>
                    <a:lnTo>
                      <a:pt x="291" y="244"/>
                    </a:lnTo>
                    <a:lnTo>
                      <a:pt x="208" y="279"/>
                    </a:lnTo>
                    <a:lnTo>
                      <a:pt x="114" y="292"/>
                    </a:lnTo>
                    <a:lnTo>
                      <a:pt x="35" y="292"/>
                    </a:lnTo>
                    <a:lnTo>
                      <a:pt x="35" y="315"/>
                    </a:lnTo>
                    <a:lnTo>
                      <a:pt x="58" y="341"/>
                    </a:lnTo>
                    <a:lnTo>
                      <a:pt x="114" y="366"/>
                    </a:lnTo>
                    <a:lnTo>
                      <a:pt x="185" y="354"/>
                    </a:lnTo>
                    <a:lnTo>
                      <a:pt x="231" y="385"/>
                    </a:lnTo>
                    <a:lnTo>
                      <a:pt x="226" y="398"/>
                    </a:lnTo>
                    <a:lnTo>
                      <a:pt x="185" y="420"/>
                    </a:lnTo>
                    <a:lnTo>
                      <a:pt x="141" y="426"/>
                    </a:lnTo>
                    <a:lnTo>
                      <a:pt x="220" y="435"/>
                    </a:lnTo>
                    <a:lnTo>
                      <a:pt x="354" y="435"/>
                    </a:lnTo>
                    <a:lnTo>
                      <a:pt x="510" y="414"/>
                    </a:lnTo>
                    <a:lnTo>
                      <a:pt x="611" y="385"/>
                    </a:lnTo>
                    <a:lnTo>
                      <a:pt x="487" y="426"/>
                    </a:lnTo>
                    <a:lnTo>
                      <a:pt x="345" y="456"/>
                    </a:lnTo>
                    <a:lnTo>
                      <a:pt x="244" y="475"/>
                    </a:lnTo>
                    <a:lnTo>
                      <a:pt x="305" y="504"/>
                    </a:lnTo>
                    <a:lnTo>
                      <a:pt x="437" y="523"/>
                    </a:lnTo>
                    <a:lnTo>
                      <a:pt x="543" y="532"/>
                    </a:lnTo>
                    <a:lnTo>
                      <a:pt x="662" y="532"/>
                    </a:lnTo>
                    <a:lnTo>
                      <a:pt x="741" y="511"/>
                    </a:lnTo>
                    <a:lnTo>
                      <a:pt x="625" y="475"/>
                    </a:lnTo>
                    <a:lnTo>
                      <a:pt x="824" y="398"/>
                    </a:lnTo>
                    <a:lnTo>
                      <a:pt x="763" y="370"/>
                    </a:lnTo>
                    <a:lnTo>
                      <a:pt x="875" y="378"/>
                    </a:lnTo>
                    <a:lnTo>
                      <a:pt x="945" y="414"/>
                    </a:lnTo>
                    <a:lnTo>
                      <a:pt x="1029" y="470"/>
                    </a:lnTo>
                    <a:lnTo>
                      <a:pt x="1095" y="511"/>
                    </a:lnTo>
                    <a:lnTo>
                      <a:pt x="1142" y="622"/>
                    </a:lnTo>
                    <a:lnTo>
                      <a:pt x="1204" y="622"/>
                    </a:lnTo>
                    <a:lnTo>
                      <a:pt x="1257" y="609"/>
                    </a:lnTo>
                    <a:lnTo>
                      <a:pt x="1296" y="580"/>
                    </a:lnTo>
                    <a:lnTo>
                      <a:pt x="1331" y="537"/>
                    </a:lnTo>
                    <a:lnTo>
                      <a:pt x="1354" y="511"/>
                    </a:lnTo>
                    <a:lnTo>
                      <a:pt x="1361" y="559"/>
                    </a:lnTo>
                    <a:lnTo>
                      <a:pt x="1347" y="609"/>
                    </a:lnTo>
                    <a:lnTo>
                      <a:pt x="1310" y="651"/>
                    </a:lnTo>
                    <a:lnTo>
                      <a:pt x="1382" y="651"/>
                    </a:lnTo>
                    <a:lnTo>
                      <a:pt x="1446" y="638"/>
                    </a:lnTo>
                    <a:lnTo>
                      <a:pt x="1485" y="651"/>
                    </a:lnTo>
                    <a:lnTo>
                      <a:pt x="1508" y="684"/>
                    </a:lnTo>
                    <a:lnTo>
                      <a:pt x="1523" y="765"/>
                    </a:lnTo>
                    <a:lnTo>
                      <a:pt x="1517" y="936"/>
                    </a:lnTo>
                    <a:lnTo>
                      <a:pt x="1543" y="996"/>
                    </a:lnTo>
                    <a:lnTo>
                      <a:pt x="1580" y="1030"/>
                    </a:lnTo>
                    <a:lnTo>
                      <a:pt x="1591" y="1073"/>
                    </a:lnTo>
                    <a:lnTo>
                      <a:pt x="1559" y="1073"/>
                    </a:lnTo>
                    <a:lnTo>
                      <a:pt x="1469" y="1014"/>
                    </a:lnTo>
                    <a:lnTo>
                      <a:pt x="1354" y="1009"/>
                    </a:lnTo>
                    <a:lnTo>
                      <a:pt x="1287" y="1095"/>
                    </a:lnTo>
                    <a:lnTo>
                      <a:pt x="1268" y="1226"/>
                    </a:lnTo>
                    <a:lnTo>
                      <a:pt x="1340" y="1284"/>
                    </a:lnTo>
                    <a:lnTo>
                      <a:pt x="1319" y="1457"/>
                    </a:lnTo>
                    <a:lnTo>
                      <a:pt x="1361" y="1374"/>
                    </a:lnTo>
                    <a:lnTo>
                      <a:pt x="1460" y="1330"/>
                    </a:lnTo>
                    <a:lnTo>
                      <a:pt x="1422" y="1240"/>
                    </a:lnTo>
                    <a:lnTo>
                      <a:pt x="1340" y="1219"/>
                    </a:lnTo>
                    <a:lnTo>
                      <a:pt x="1409" y="1143"/>
                    </a:lnTo>
                    <a:lnTo>
                      <a:pt x="1508" y="1212"/>
                    </a:lnTo>
                    <a:lnTo>
                      <a:pt x="1479" y="1106"/>
                    </a:lnTo>
                    <a:lnTo>
                      <a:pt x="1517" y="1095"/>
                    </a:lnTo>
                    <a:lnTo>
                      <a:pt x="1422" y="1099"/>
                    </a:lnTo>
                    <a:lnTo>
                      <a:pt x="1303" y="1189"/>
                    </a:lnTo>
                    <a:lnTo>
                      <a:pt x="1319" y="1099"/>
                    </a:lnTo>
                    <a:lnTo>
                      <a:pt x="1367" y="1035"/>
                    </a:lnTo>
                    <a:lnTo>
                      <a:pt x="1460" y="1035"/>
                    </a:lnTo>
                    <a:lnTo>
                      <a:pt x="1559" y="1095"/>
                    </a:lnTo>
                    <a:lnTo>
                      <a:pt x="1564" y="1198"/>
                    </a:lnTo>
                    <a:lnTo>
                      <a:pt x="1543" y="1316"/>
                    </a:lnTo>
                    <a:lnTo>
                      <a:pt x="1469" y="1435"/>
                    </a:lnTo>
                    <a:lnTo>
                      <a:pt x="1446" y="1519"/>
                    </a:lnTo>
                    <a:lnTo>
                      <a:pt x="1361" y="1560"/>
                    </a:lnTo>
                    <a:lnTo>
                      <a:pt x="1296" y="1493"/>
                    </a:lnTo>
                    <a:lnTo>
                      <a:pt x="1220" y="1968"/>
                    </a:lnTo>
                    <a:lnTo>
                      <a:pt x="1163" y="2261"/>
                    </a:lnTo>
                    <a:lnTo>
                      <a:pt x="939" y="2501"/>
                    </a:lnTo>
                    <a:lnTo>
                      <a:pt x="851" y="2635"/>
                    </a:lnTo>
                    <a:lnTo>
                      <a:pt x="958" y="2492"/>
                    </a:lnTo>
                    <a:lnTo>
                      <a:pt x="1257" y="2174"/>
                    </a:lnTo>
                    <a:lnTo>
                      <a:pt x="1446" y="1827"/>
                    </a:lnTo>
                    <a:lnTo>
                      <a:pt x="1430" y="1807"/>
                    </a:lnTo>
                    <a:lnTo>
                      <a:pt x="1382" y="1811"/>
                    </a:lnTo>
                    <a:lnTo>
                      <a:pt x="1384" y="1730"/>
                    </a:lnTo>
                    <a:lnTo>
                      <a:pt x="1494" y="1701"/>
                    </a:lnTo>
                    <a:lnTo>
                      <a:pt x="1494" y="1624"/>
                    </a:lnTo>
                    <a:lnTo>
                      <a:pt x="1591" y="1592"/>
                    </a:lnTo>
                    <a:lnTo>
                      <a:pt x="1619" y="1457"/>
                    </a:lnTo>
                    <a:lnTo>
                      <a:pt x="1658" y="1394"/>
                    </a:lnTo>
                    <a:lnTo>
                      <a:pt x="1580" y="1350"/>
                    </a:lnTo>
                    <a:lnTo>
                      <a:pt x="1573" y="1306"/>
                    </a:lnTo>
                    <a:lnTo>
                      <a:pt x="1591" y="1240"/>
                    </a:lnTo>
                    <a:lnTo>
                      <a:pt x="1591" y="1154"/>
                    </a:lnTo>
                    <a:lnTo>
                      <a:pt x="1580" y="1122"/>
                    </a:lnTo>
                    <a:lnTo>
                      <a:pt x="1642" y="1143"/>
                    </a:lnTo>
                    <a:lnTo>
                      <a:pt x="1619" y="1057"/>
                    </a:lnTo>
                    <a:lnTo>
                      <a:pt x="1564" y="967"/>
                    </a:lnTo>
                    <a:lnTo>
                      <a:pt x="1550" y="897"/>
                    </a:lnTo>
                    <a:lnTo>
                      <a:pt x="1550" y="813"/>
                    </a:lnTo>
                    <a:lnTo>
                      <a:pt x="1543" y="741"/>
                    </a:lnTo>
                    <a:lnTo>
                      <a:pt x="1550" y="700"/>
                    </a:lnTo>
                    <a:lnTo>
                      <a:pt x="1501" y="580"/>
                    </a:lnTo>
                    <a:lnTo>
                      <a:pt x="1418" y="462"/>
                    </a:lnTo>
                    <a:lnTo>
                      <a:pt x="1326" y="389"/>
                    </a:lnTo>
                    <a:lnTo>
                      <a:pt x="1257" y="341"/>
                    </a:lnTo>
                    <a:lnTo>
                      <a:pt x="1227" y="225"/>
                    </a:lnTo>
                    <a:lnTo>
                      <a:pt x="1137" y="147"/>
                    </a:lnTo>
                    <a:lnTo>
                      <a:pt x="1044" y="119"/>
                    </a:lnTo>
                    <a:lnTo>
                      <a:pt x="909" y="40"/>
                    </a:lnTo>
                    <a:lnTo>
                      <a:pt x="747" y="0"/>
                    </a:lnTo>
                    <a:lnTo>
                      <a:pt x="584" y="4"/>
                    </a:lnTo>
                    <a:lnTo>
                      <a:pt x="427" y="36"/>
                    </a:lnTo>
                    <a:lnTo>
                      <a:pt x="298" y="97"/>
                    </a:lnTo>
                    <a:lnTo>
                      <a:pt x="127" y="161"/>
                    </a:lnTo>
                    <a:lnTo>
                      <a:pt x="7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5168520" y="4988880"/>
                <a:ext cx="37080" cy="37080"/>
              </a:xfrm>
              <a:custGeom>
                <a:avLst/>
                <a:gdLst/>
                <a:ahLst/>
                <a:rect l="l" t="t" r="r" b="b"/>
                <a:pathLst>
                  <a:path w="445" h="358">
                    <a:moveTo>
                      <a:pt x="141" y="27"/>
                    </a:moveTo>
                    <a:lnTo>
                      <a:pt x="69" y="48"/>
                    </a:lnTo>
                    <a:lnTo>
                      <a:pt x="0" y="113"/>
                    </a:lnTo>
                    <a:lnTo>
                      <a:pt x="84" y="113"/>
                    </a:lnTo>
                    <a:lnTo>
                      <a:pt x="42" y="209"/>
                    </a:lnTo>
                    <a:lnTo>
                      <a:pt x="93" y="233"/>
                    </a:lnTo>
                    <a:lnTo>
                      <a:pt x="127" y="358"/>
                    </a:lnTo>
                    <a:lnTo>
                      <a:pt x="115" y="222"/>
                    </a:lnTo>
                    <a:lnTo>
                      <a:pt x="163" y="180"/>
                    </a:lnTo>
                    <a:lnTo>
                      <a:pt x="240" y="161"/>
                    </a:lnTo>
                    <a:lnTo>
                      <a:pt x="316" y="161"/>
                    </a:lnTo>
                    <a:lnTo>
                      <a:pt x="385" y="173"/>
                    </a:lnTo>
                    <a:lnTo>
                      <a:pt x="445" y="209"/>
                    </a:lnTo>
                    <a:lnTo>
                      <a:pt x="374" y="161"/>
                    </a:lnTo>
                    <a:lnTo>
                      <a:pt x="268" y="134"/>
                    </a:lnTo>
                    <a:lnTo>
                      <a:pt x="189" y="134"/>
                    </a:lnTo>
                    <a:lnTo>
                      <a:pt x="99" y="161"/>
                    </a:lnTo>
                    <a:lnTo>
                      <a:pt x="106" y="119"/>
                    </a:lnTo>
                    <a:lnTo>
                      <a:pt x="150" y="90"/>
                    </a:lnTo>
                    <a:lnTo>
                      <a:pt x="62" y="90"/>
                    </a:lnTo>
                    <a:lnTo>
                      <a:pt x="99" y="64"/>
                    </a:lnTo>
                    <a:lnTo>
                      <a:pt x="163" y="33"/>
                    </a:lnTo>
                    <a:lnTo>
                      <a:pt x="219" y="42"/>
                    </a:lnTo>
                    <a:lnTo>
                      <a:pt x="316" y="64"/>
                    </a:lnTo>
                    <a:lnTo>
                      <a:pt x="247" y="20"/>
                    </a:lnTo>
                    <a:lnTo>
                      <a:pt x="163" y="0"/>
                    </a:lnTo>
                    <a:lnTo>
                      <a:pt x="14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5180400" y="503208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387" h="303">
                    <a:moveTo>
                      <a:pt x="22" y="18"/>
                    </a:moveTo>
                    <a:lnTo>
                      <a:pt x="115" y="0"/>
                    </a:lnTo>
                    <a:lnTo>
                      <a:pt x="191" y="18"/>
                    </a:lnTo>
                    <a:lnTo>
                      <a:pt x="244" y="53"/>
                    </a:lnTo>
                    <a:lnTo>
                      <a:pt x="281" y="92"/>
                    </a:lnTo>
                    <a:lnTo>
                      <a:pt x="288" y="138"/>
                    </a:lnTo>
                    <a:lnTo>
                      <a:pt x="281" y="156"/>
                    </a:lnTo>
                    <a:lnTo>
                      <a:pt x="255" y="152"/>
                    </a:lnTo>
                    <a:lnTo>
                      <a:pt x="219" y="130"/>
                    </a:lnTo>
                    <a:lnTo>
                      <a:pt x="175" y="92"/>
                    </a:lnTo>
                    <a:lnTo>
                      <a:pt x="127" y="87"/>
                    </a:lnTo>
                    <a:lnTo>
                      <a:pt x="172" y="152"/>
                    </a:lnTo>
                    <a:lnTo>
                      <a:pt x="191" y="207"/>
                    </a:lnTo>
                    <a:lnTo>
                      <a:pt x="182" y="260"/>
                    </a:lnTo>
                    <a:lnTo>
                      <a:pt x="360" y="290"/>
                    </a:lnTo>
                    <a:lnTo>
                      <a:pt x="387" y="303"/>
                    </a:lnTo>
                    <a:lnTo>
                      <a:pt x="147" y="276"/>
                    </a:lnTo>
                    <a:lnTo>
                      <a:pt x="163" y="239"/>
                    </a:lnTo>
                    <a:lnTo>
                      <a:pt x="156" y="191"/>
                    </a:lnTo>
                    <a:lnTo>
                      <a:pt x="121" y="130"/>
                    </a:lnTo>
                    <a:lnTo>
                      <a:pt x="83" y="87"/>
                    </a:lnTo>
                    <a:lnTo>
                      <a:pt x="16" y="53"/>
                    </a:lnTo>
                    <a:lnTo>
                      <a:pt x="0" y="9"/>
                    </a:lnTo>
                    <a:lnTo>
                      <a:pt x="2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5187240" y="5060880"/>
                <a:ext cx="17640" cy="33480"/>
              </a:xfrm>
              <a:custGeom>
                <a:avLst/>
                <a:gdLst/>
                <a:ahLst/>
                <a:rect l="l" t="t" r="r" b="b"/>
                <a:pathLst>
                  <a:path w="214" h="313">
                    <a:moveTo>
                      <a:pt x="89" y="0"/>
                    </a:moveTo>
                    <a:lnTo>
                      <a:pt x="0" y="179"/>
                    </a:lnTo>
                    <a:lnTo>
                      <a:pt x="9" y="313"/>
                    </a:lnTo>
                    <a:lnTo>
                      <a:pt x="214" y="65"/>
                    </a:lnTo>
                    <a:lnTo>
                      <a:pt x="214" y="14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5127480" y="5146560"/>
                <a:ext cx="70920" cy="67680"/>
              </a:xfrm>
              <a:custGeom>
                <a:avLst/>
                <a:gdLst/>
                <a:ahLst/>
                <a:rect l="l" t="t" r="r" b="b"/>
                <a:pathLst>
                  <a:path w="857" h="640">
                    <a:moveTo>
                      <a:pt x="857" y="0"/>
                    </a:moveTo>
                    <a:lnTo>
                      <a:pt x="749" y="53"/>
                    </a:lnTo>
                    <a:lnTo>
                      <a:pt x="648" y="198"/>
                    </a:lnTo>
                    <a:lnTo>
                      <a:pt x="514" y="187"/>
                    </a:lnTo>
                    <a:lnTo>
                      <a:pt x="470" y="260"/>
                    </a:lnTo>
                    <a:lnTo>
                      <a:pt x="415" y="297"/>
                    </a:lnTo>
                    <a:lnTo>
                      <a:pt x="276" y="288"/>
                    </a:lnTo>
                    <a:lnTo>
                      <a:pt x="186" y="321"/>
                    </a:lnTo>
                    <a:lnTo>
                      <a:pt x="118" y="345"/>
                    </a:lnTo>
                    <a:lnTo>
                      <a:pt x="48" y="345"/>
                    </a:lnTo>
                    <a:lnTo>
                      <a:pt x="0" y="317"/>
                    </a:lnTo>
                    <a:lnTo>
                      <a:pt x="48" y="359"/>
                    </a:lnTo>
                    <a:lnTo>
                      <a:pt x="105" y="366"/>
                    </a:lnTo>
                    <a:lnTo>
                      <a:pt x="223" y="366"/>
                    </a:lnTo>
                    <a:lnTo>
                      <a:pt x="294" y="391"/>
                    </a:lnTo>
                    <a:lnTo>
                      <a:pt x="382" y="514"/>
                    </a:lnTo>
                    <a:lnTo>
                      <a:pt x="507" y="611"/>
                    </a:lnTo>
                    <a:lnTo>
                      <a:pt x="527" y="640"/>
                    </a:lnTo>
                    <a:lnTo>
                      <a:pt x="564" y="615"/>
                    </a:lnTo>
                    <a:lnTo>
                      <a:pt x="555" y="550"/>
                    </a:lnTo>
                    <a:lnTo>
                      <a:pt x="544" y="461"/>
                    </a:lnTo>
                    <a:lnTo>
                      <a:pt x="555" y="380"/>
                    </a:lnTo>
                    <a:lnTo>
                      <a:pt x="569" y="327"/>
                    </a:lnTo>
                    <a:lnTo>
                      <a:pt x="630" y="267"/>
                    </a:lnTo>
                    <a:lnTo>
                      <a:pt x="685" y="226"/>
                    </a:lnTo>
                    <a:lnTo>
                      <a:pt x="738" y="132"/>
                    </a:lnTo>
                    <a:lnTo>
                      <a:pt x="800" y="57"/>
                    </a:lnTo>
                    <a:lnTo>
                      <a:pt x="8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5182560" y="5105880"/>
                <a:ext cx="5760" cy="36000"/>
              </a:xfrm>
              <a:custGeom>
                <a:avLst/>
                <a:gdLst/>
                <a:ahLst/>
                <a:rect l="l" t="t" r="r" b="b"/>
                <a:pathLst>
                  <a:path w="72" h="339">
                    <a:moveTo>
                      <a:pt x="56" y="0"/>
                    </a:moveTo>
                    <a:lnTo>
                      <a:pt x="0" y="339"/>
                    </a:lnTo>
                    <a:lnTo>
                      <a:pt x="72" y="117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5109480" y="5023080"/>
                <a:ext cx="62280" cy="19080"/>
              </a:xfrm>
              <a:custGeom>
                <a:avLst/>
                <a:gdLst/>
                <a:ahLst/>
                <a:rect l="l" t="t" r="r" b="b"/>
                <a:pathLst>
                  <a:path w="747" h="189">
                    <a:moveTo>
                      <a:pt x="0" y="189"/>
                    </a:moveTo>
                    <a:lnTo>
                      <a:pt x="38" y="145"/>
                    </a:lnTo>
                    <a:lnTo>
                      <a:pt x="95" y="117"/>
                    </a:lnTo>
                    <a:lnTo>
                      <a:pt x="189" y="97"/>
                    </a:lnTo>
                    <a:lnTo>
                      <a:pt x="341" y="78"/>
                    </a:lnTo>
                    <a:lnTo>
                      <a:pt x="460" y="39"/>
                    </a:lnTo>
                    <a:lnTo>
                      <a:pt x="581" y="0"/>
                    </a:lnTo>
                    <a:lnTo>
                      <a:pt x="664" y="0"/>
                    </a:lnTo>
                    <a:lnTo>
                      <a:pt x="715" y="29"/>
                    </a:lnTo>
                    <a:lnTo>
                      <a:pt x="747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5123520" y="5015880"/>
                <a:ext cx="46440" cy="11880"/>
              </a:xfrm>
              <a:custGeom>
                <a:avLst/>
                <a:gdLst/>
                <a:ahLst/>
                <a:rect l="l" t="t" r="r" b="b"/>
                <a:pathLst>
                  <a:path w="563" h="118">
                    <a:moveTo>
                      <a:pt x="0" y="118"/>
                    </a:moveTo>
                    <a:lnTo>
                      <a:pt x="134" y="94"/>
                    </a:lnTo>
                    <a:lnTo>
                      <a:pt x="266" y="41"/>
                    </a:lnTo>
                    <a:lnTo>
                      <a:pt x="362" y="4"/>
                    </a:lnTo>
                    <a:lnTo>
                      <a:pt x="436" y="0"/>
                    </a:lnTo>
                    <a:lnTo>
                      <a:pt x="496" y="17"/>
                    </a:lnTo>
                    <a:lnTo>
                      <a:pt x="563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5140800" y="5010120"/>
                <a:ext cx="23040" cy="5760"/>
              </a:xfrm>
              <a:custGeom>
                <a:avLst/>
                <a:gdLst/>
                <a:ahLst/>
                <a:rect l="l" t="t" r="r" b="b"/>
                <a:pathLst>
                  <a:path w="279" h="62">
                    <a:moveTo>
                      <a:pt x="0" y="62"/>
                    </a:moveTo>
                    <a:lnTo>
                      <a:pt x="161" y="7"/>
                    </a:lnTo>
                    <a:lnTo>
                      <a:pt x="223" y="0"/>
                    </a:lnTo>
                    <a:lnTo>
                      <a:pt x="279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5167440" y="504756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105" h="128">
                    <a:moveTo>
                      <a:pt x="0" y="0"/>
                    </a:moveTo>
                    <a:lnTo>
                      <a:pt x="0" y="101"/>
                    </a:lnTo>
                    <a:lnTo>
                      <a:pt x="52" y="128"/>
                    </a:lnTo>
                    <a:lnTo>
                      <a:pt x="105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5252760" y="5218560"/>
                <a:ext cx="176040" cy="399960"/>
              </a:xfrm>
              <a:custGeom>
                <a:avLst/>
                <a:gdLst/>
                <a:ahLst/>
                <a:rect l="l" t="t" r="r" b="b"/>
                <a:pathLst>
                  <a:path w="2124" h="3774">
                    <a:moveTo>
                      <a:pt x="1483" y="509"/>
                    </a:moveTo>
                    <a:lnTo>
                      <a:pt x="1612" y="966"/>
                    </a:lnTo>
                    <a:lnTo>
                      <a:pt x="1929" y="1474"/>
                    </a:lnTo>
                    <a:lnTo>
                      <a:pt x="1810" y="2116"/>
                    </a:lnTo>
                    <a:lnTo>
                      <a:pt x="2124" y="3119"/>
                    </a:lnTo>
                    <a:lnTo>
                      <a:pt x="2124" y="3774"/>
                    </a:lnTo>
                    <a:lnTo>
                      <a:pt x="916" y="3766"/>
                    </a:lnTo>
                    <a:lnTo>
                      <a:pt x="0" y="3302"/>
                    </a:lnTo>
                    <a:lnTo>
                      <a:pt x="499" y="2990"/>
                    </a:lnTo>
                    <a:lnTo>
                      <a:pt x="510" y="2782"/>
                    </a:lnTo>
                    <a:lnTo>
                      <a:pt x="589" y="2443"/>
                    </a:lnTo>
                    <a:lnTo>
                      <a:pt x="589" y="2755"/>
                    </a:lnTo>
                    <a:lnTo>
                      <a:pt x="932" y="2375"/>
                    </a:lnTo>
                    <a:lnTo>
                      <a:pt x="995" y="2285"/>
                    </a:lnTo>
                    <a:lnTo>
                      <a:pt x="1024" y="2116"/>
                    </a:lnTo>
                    <a:lnTo>
                      <a:pt x="1063" y="1931"/>
                    </a:lnTo>
                    <a:lnTo>
                      <a:pt x="1301" y="1946"/>
                    </a:lnTo>
                    <a:lnTo>
                      <a:pt x="1377" y="1812"/>
                    </a:lnTo>
                    <a:lnTo>
                      <a:pt x="1206" y="1501"/>
                    </a:lnTo>
                    <a:lnTo>
                      <a:pt x="1377" y="1501"/>
                    </a:lnTo>
                    <a:lnTo>
                      <a:pt x="1377" y="1434"/>
                    </a:lnTo>
                    <a:lnTo>
                      <a:pt x="1232" y="1265"/>
                    </a:lnTo>
                    <a:lnTo>
                      <a:pt x="1246" y="1148"/>
                    </a:lnTo>
                    <a:lnTo>
                      <a:pt x="1457" y="966"/>
                    </a:lnTo>
                    <a:lnTo>
                      <a:pt x="1470" y="717"/>
                    </a:lnTo>
                    <a:lnTo>
                      <a:pt x="1351" y="496"/>
                    </a:lnTo>
                    <a:lnTo>
                      <a:pt x="1324" y="258"/>
                    </a:lnTo>
                    <a:lnTo>
                      <a:pt x="1206" y="0"/>
                    </a:lnTo>
                    <a:lnTo>
                      <a:pt x="1419" y="351"/>
                    </a:lnTo>
                    <a:lnTo>
                      <a:pt x="1483" y="5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5225760" y="5119560"/>
                <a:ext cx="60840" cy="92160"/>
              </a:xfrm>
              <a:custGeom>
                <a:avLst/>
                <a:gdLst/>
                <a:ahLst/>
                <a:rect l="l" t="t" r="r" b="b"/>
                <a:pathLst>
                  <a:path w="734" h="874">
                    <a:moveTo>
                      <a:pt x="38" y="65"/>
                    </a:moveTo>
                    <a:lnTo>
                      <a:pt x="156" y="301"/>
                    </a:lnTo>
                    <a:lnTo>
                      <a:pt x="0" y="874"/>
                    </a:lnTo>
                    <a:lnTo>
                      <a:pt x="220" y="222"/>
                    </a:lnTo>
                    <a:lnTo>
                      <a:pt x="220" y="158"/>
                    </a:lnTo>
                    <a:lnTo>
                      <a:pt x="195" y="106"/>
                    </a:lnTo>
                    <a:lnTo>
                      <a:pt x="328" y="158"/>
                    </a:lnTo>
                    <a:lnTo>
                      <a:pt x="420" y="250"/>
                    </a:lnTo>
                    <a:lnTo>
                      <a:pt x="446" y="367"/>
                    </a:lnTo>
                    <a:lnTo>
                      <a:pt x="378" y="547"/>
                    </a:lnTo>
                    <a:lnTo>
                      <a:pt x="486" y="404"/>
                    </a:lnTo>
                    <a:lnTo>
                      <a:pt x="576" y="433"/>
                    </a:lnTo>
                    <a:lnTo>
                      <a:pt x="290" y="874"/>
                    </a:lnTo>
                    <a:lnTo>
                      <a:pt x="734" y="378"/>
                    </a:lnTo>
                    <a:lnTo>
                      <a:pt x="681" y="325"/>
                    </a:lnTo>
                    <a:lnTo>
                      <a:pt x="617" y="367"/>
                    </a:lnTo>
                    <a:lnTo>
                      <a:pt x="499" y="339"/>
                    </a:lnTo>
                    <a:lnTo>
                      <a:pt x="472" y="235"/>
                    </a:lnTo>
                    <a:lnTo>
                      <a:pt x="393" y="158"/>
                    </a:lnTo>
                    <a:lnTo>
                      <a:pt x="248" y="79"/>
                    </a:lnTo>
                    <a:lnTo>
                      <a:pt x="156" y="79"/>
                    </a:lnTo>
                    <a:lnTo>
                      <a:pt x="0" y="0"/>
                    </a:lnTo>
                    <a:lnTo>
                      <a:pt x="38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5296680" y="5163480"/>
                <a:ext cx="52920" cy="52200"/>
              </a:xfrm>
              <a:custGeom>
                <a:avLst/>
                <a:gdLst/>
                <a:ahLst/>
                <a:rect l="l" t="t" r="r" b="b"/>
                <a:pathLst>
                  <a:path w="643" h="496">
                    <a:moveTo>
                      <a:pt x="0" y="0"/>
                    </a:moveTo>
                    <a:lnTo>
                      <a:pt x="198" y="94"/>
                    </a:lnTo>
                    <a:lnTo>
                      <a:pt x="420" y="168"/>
                    </a:lnTo>
                    <a:lnTo>
                      <a:pt x="643" y="496"/>
                    </a:lnTo>
                    <a:lnTo>
                      <a:pt x="500" y="442"/>
                    </a:lnTo>
                    <a:lnTo>
                      <a:pt x="408" y="2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5155200" y="5217840"/>
                <a:ext cx="54720" cy="258480"/>
              </a:xfrm>
              <a:custGeom>
                <a:avLst/>
                <a:gdLst/>
                <a:ahLst/>
                <a:rect l="l" t="t" r="r" b="b"/>
                <a:pathLst>
                  <a:path w="667" h="2442">
                    <a:moveTo>
                      <a:pt x="208" y="0"/>
                    </a:moveTo>
                    <a:lnTo>
                      <a:pt x="208" y="88"/>
                    </a:lnTo>
                    <a:lnTo>
                      <a:pt x="618" y="326"/>
                    </a:lnTo>
                    <a:lnTo>
                      <a:pt x="272" y="194"/>
                    </a:lnTo>
                    <a:lnTo>
                      <a:pt x="208" y="440"/>
                    </a:lnTo>
                    <a:lnTo>
                      <a:pt x="272" y="625"/>
                    </a:lnTo>
                    <a:lnTo>
                      <a:pt x="272" y="794"/>
                    </a:lnTo>
                    <a:lnTo>
                      <a:pt x="208" y="1190"/>
                    </a:lnTo>
                    <a:lnTo>
                      <a:pt x="153" y="1543"/>
                    </a:lnTo>
                    <a:lnTo>
                      <a:pt x="185" y="1734"/>
                    </a:lnTo>
                    <a:lnTo>
                      <a:pt x="314" y="1996"/>
                    </a:lnTo>
                    <a:lnTo>
                      <a:pt x="512" y="2218"/>
                    </a:lnTo>
                    <a:lnTo>
                      <a:pt x="667" y="2257"/>
                    </a:lnTo>
                    <a:lnTo>
                      <a:pt x="470" y="2242"/>
                    </a:lnTo>
                    <a:lnTo>
                      <a:pt x="404" y="2273"/>
                    </a:lnTo>
                    <a:lnTo>
                      <a:pt x="404" y="2442"/>
                    </a:lnTo>
                    <a:lnTo>
                      <a:pt x="272" y="2321"/>
                    </a:lnTo>
                    <a:lnTo>
                      <a:pt x="0" y="2400"/>
                    </a:lnTo>
                    <a:lnTo>
                      <a:pt x="245" y="2297"/>
                    </a:lnTo>
                    <a:lnTo>
                      <a:pt x="185" y="2089"/>
                    </a:lnTo>
                    <a:lnTo>
                      <a:pt x="129" y="1801"/>
                    </a:lnTo>
                    <a:lnTo>
                      <a:pt x="116" y="1501"/>
                    </a:lnTo>
                    <a:lnTo>
                      <a:pt x="143" y="1200"/>
                    </a:lnTo>
                    <a:lnTo>
                      <a:pt x="208" y="911"/>
                    </a:lnTo>
                    <a:lnTo>
                      <a:pt x="233" y="756"/>
                    </a:lnTo>
                    <a:lnTo>
                      <a:pt x="233" y="598"/>
                    </a:lnTo>
                    <a:lnTo>
                      <a:pt x="185" y="494"/>
                    </a:lnTo>
                    <a:lnTo>
                      <a:pt x="51" y="440"/>
                    </a:lnTo>
                    <a:lnTo>
                      <a:pt x="185" y="130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4" name=""/>
            <p:cNvSpPr/>
            <p:nvPr/>
          </p:nvSpPr>
          <p:spPr>
            <a:xfrm>
              <a:off x="5074560" y="5214240"/>
              <a:ext cx="90000" cy="258480"/>
            </a:xfrm>
            <a:custGeom>
              <a:avLst/>
              <a:gdLst/>
              <a:ahLst/>
              <a:rect l="l" t="t" r="r" b="b"/>
              <a:pathLst>
                <a:path w="1088" h="2442">
                  <a:moveTo>
                    <a:pt x="1035" y="0"/>
                  </a:moveTo>
                  <a:lnTo>
                    <a:pt x="958" y="116"/>
                  </a:lnTo>
                  <a:lnTo>
                    <a:pt x="943" y="238"/>
                  </a:lnTo>
                  <a:lnTo>
                    <a:pt x="943" y="455"/>
                  </a:lnTo>
                  <a:lnTo>
                    <a:pt x="931" y="784"/>
                  </a:lnTo>
                  <a:lnTo>
                    <a:pt x="866" y="1292"/>
                  </a:lnTo>
                  <a:lnTo>
                    <a:pt x="838" y="1672"/>
                  </a:lnTo>
                  <a:lnTo>
                    <a:pt x="853" y="1894"/>
                  </a:lnTo>
                  <a:lnTo>
                    <a:pt x="890" y="2074"/>
                  </a:lnTo>
                  <a:lnTo>
                    <a:pt x="943" y="2207"/>
                  </a:lnTo>
                  <a:lnTo>
                    <a:pt x="1023" y="2338"/>
                  </a:lnTo>
                  <a:lnTo>
                    <a:pt x="1088" y="2378"/>
                  </a:lnTo>
                  <a:lnTo>
                    <a:pt x="980" y="2442"/>
                  </a:lnTo>
                  <a:lnTo>
                    <a:pt x="866" y="2442"/>
                  </a:lnTo>
                  <a:lnTo>
                    <a:pt x="866" y="2232"/>
                  </a:lnTo>
                  <a:lnTo>
                    <a:pt x="798" y="2052"/>
                  </a:lnTo>
                  <a:lnTo>
                    <a:pt x="576" y="1424"/>
                  </a:lnTo>
                  <a:lnTo>
                    <a:pt x="156" y="1488"/>
                  </a:lnTo>
                  <a:lnTo>
                    <a:pt x="75" y="1474"/>
                  </a:lnTo>
                  <a:lnTo>
                    <a:pt x="391" y="1345"/>
                  </a:lnTo>
                  <a:lnTo>
                    <a:pt x="341" y="1228"/>
                  </a:lnTo>
                  <a:lnTo>
                    <a:pt x="0" y="1228"/>
                  </a:lnTo>
                  <a:lnTo>
                    <a:pt x="260" y="1110"/>
                  </a:lnTo>
                  <a:lnTo>
                    <a:pt x="456" y="1096"/>
                  </a:lnTo>
                  <a:lnTo>
                    <a:pt x="417" y="849"/>
                  </a:lnTo>
                  <a:lnTo>
                    <a:pt x="798" y="1905"/>
                  </a:lnTo>
                  <a:lnTo>
                    <a:pt x="798" y="1608"/>
                  </a:lnTo>
                  <a:lnTo>
                    <a:pt x="838" y="1257"/>
                  </a:lnTo>
                  <a:lnTo>
                    <a:pt x="890" y="863"/>
                  </a:lnTo>
                  <a:lnTo>
                    <a:pt x="919" y="575"/>
                  </a:lnTo>
                  <a:lnTo>
                    <a:pt x="919" y="169"/>
                  </a:lnTo>
                  <a:lnTo>
                    <a:pt x="972" y="53"/>
                  </a:lnTo>
                  <a:lnTo>
                    <a:pt x="10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5195160" y="5251680"/>
              <a:ext cx="119880" cy="222840"/>
            </a:xfrm>
            <a:custGeom>
              <a:avLst/>
              <a:gdLst/>
              <a:ahLst/>
              <a:rect l="l" t="t" r="r" b="b"/>
              <a:pathLst>
                <a:path w="1444" h="2100">
                  <a:moveTo>
                    <a:pt x="198" y="1931"/>
                  </a:moveTo>
                  <a:lnTo>
                    <a:pt x="407" y="1995"/>
                  </a:lnTo>
                  <a:lnTo>
                    <a:pt x="589" y="2100"/>
                  </a:lnTo>
                  <a:lnTo>
                    <a:pt x="446" y="1931"/>
                  </a:lnTo>
                  <a:lnTo>
                    <a:pt x="343" y="1841"/>
                  </a:lnTo>
                  <a:lnTo>
                    <a:pt x="248" y="1826"/>
                  </a:lnTo>
                  <a:lnTo>
                    <a:pt x="211" y="1812"/>
                  </a:lnTo>
                  <a:lnTo>
                    <a:pt x="211" y="1632"/>
                  </a:lnTo>
                  <a:lnTo>
                    <a:pt x="264" y="1593"/>
                  </a:lnTo>
                  <a:lnTo>
                    <a:pt x="499" y="1498"/>
                  </a:lnTo>
                  <a:lnTo>
                    <a:pt x="776" y="1318"/>
                  </a:lnTo>
                  <a:lnTo>
                    <a:pt x="1025" y="1070"/>
                  </a:lnTo>
                  <a:lnTo>
                    <a:pt x="1444" y="495"/>
                  </a:lnTo>
                  <a:lnTo>
                    <a:pt x="1444" y="403"/>
                  </a:lnTo>
                  <a:lnTo>
                    <a:pt x="1092" y="834"/>
                  </a:lnTo>
                  <a:lnTo>
                    <a:pt x="710" y="1217"/>
                  </a:lnTo>
                  <a:lnTo>
                    <a:pt x="369" y="1448"/>
                  </a:lnTo>
                  <a:lnTo>
                    <a:pt x="578" y="1081"/>
                  </a:lnTo>
                  <a:lnTo>
                    <a:pt x="684" y="732"/>
                  </a:lnTo>
                  <a:lnTo>
                    <a:pt x="710" y="495"/>
                  </a:lnTo>
                  <a:lnTo>
                    <a:pt x="879" y="140"/>
                  </a:lnTo>
                  <a:lnTo>
                    <a:pt x="1117" y="0"/>
                  </a:lnTo>
                  <a:lnTo>
                    <a:pt x="855" y="127"/>
                  </a:lnTo>
                  <a:lnTo>
                    <a:pt x="644" y="442"/>
                  </a:lnTo>
                  <a:lnTo>
                    <a:pt x="644" y="769"/>
                  </a:lnTo>
                  <a:lnTo>
                    <a:pt x="525" y="1081"/>
                  </a:lnTo>
                  <a:lnTo>
                    <a:pt x="356" y="1371"/>
                  </a:lnTo>
                  <a:lnTo>
                    <a:pt x="184" y="1604"/>
                  </a:lnTo>
                  <a:lnTo>
                    <a:pt x="184" y="1826"/>
                  </a:lnTo>
                  <a:lnTo>
                    <a:pt x="0" y="1905"/>
                  </a:lnTo>
                  <a:lnTo>
                    <a:pt x="198" y="19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5191920" y="5483160"/>
              <a:ext cx="67320" cy="81000"/>
            </a:xfrm>
            <a:custGeom>
              <a:avLst/>
              <a:gdLst/>
              <a:ahLst/>
              <a:rect l="l" t="t" r="r" b="b"/>
              <a:pathLst>
                <a:path w="818" h="773">
                  <a:moveTo>
                    <a:pt x="671" y="0"/>
                  </a:moveTo>
                  <a:lnTo>
                    <a:pt x="776" y="184"/>
                  </a:lnTo>
                  <a:lnTo>
                    <a:pt x="818" y="419"/>
                  </a:lnTo>
                  <a:lnTo>
                    <a:pt x="818" y="564"/>
                  </a:lnTo>
                  <a:lnTo>
                    <a:pt x="739" y="758"/>
                  </a:lnTo>
                  <a:lnTo>
                    <a:pt x="606" y="773"/>
                  </a:lnTo>
                  <a:lnTo>
                    <a:pt x="369" y="654"/>
                  </a:lnTo>
                  <a:lnTo>
                    <a:pt x="226" y="498"/>
                  </a:lnTo>
                  <a:lnTo>
                    <a:pt x="0" y="14"/>
                  </a:lnTo>
                  <a:lnTo>
                    <a:pt x="161" y="290"/>
                  </a:lnTo>
                  <a:lnTo>
                    <a:pt x="435" y="512"/>
                  </a:lnTo>
                  <a:lnTo>
                    <a:pt x="739" y="588"/>
                  </a:lnTo>
                  <a:lnTo>
                    <a:pt x="752" y="474"/>
                  </a:lnTo>
                  <a:lnTo>
                    <a:pt x="712" y="327"/>
                  </a:lnTo>
                  <a:lnTo>
                    <a:pt x="620" y="235"/>
                  </a:lnTo>
                  <a:lnTo>
                    <a:pt x="477" y="184"/>
                  </a:lnTo>
                  <a:lnTo>
                    <a:pt x="620" y="147"/>
                  </a:lnTo>
                  <a:lnTo>
                    <a:pt x="671" y="65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5052600" y="5502600"/>
              <a:ext cx="174960" cy="64080"/>
            </a:xfrm>
            <a:custGeom>
              <a:avLst/>
              <a:gdLst/>
              <a:ahLst/>
              <a:rect l="l" t="t" r="r" b="b"/>
              <a:pathLst>
                <a:path w="2111" h="613">
                  <a:moveTo>
                    <a:pt x="2111" y="613"/>
                  </a:moveTo>
                  <a:lnTo>
                    <a:pt x="1718" y="602"/>
                  </a:lnTo>
                  <a:lnTo>
                    <a:pt x="1194" y="549"/>
                  </a:lnTo>
                  <a:lnTo>
                    <a:pt x="593" y="380"/>
                  </a:lnTo>
                  <a:lnTo>
                    <a:pt x="103" y="301"/>
                  </a:lnTo>
                  <a:lnTo>
                    <a:pt x="26" y="235"/>
                  </a:lnTo>
                  <a:lnTo>
                    <a:pt x="0" y="90"/>
                  </a:lnTo>
                  <a:lnTo>
                    <a:pt x="353" y="143"/>
                  </a:lnTo>
                  <a:lnTo>
                    <a:pt x="364" y="0"/>
                  </a:lnTo>
                  <a:lnTo>
                    <a:pt x="406" y="143"/>
                  </a:lnTo>
                  <a:lnTo>
                    <a:pt x="643" y="143"/>
                  </a:lnTo>
                  <a:lnTo>
                    <a:pt x="419" y="249"/>
                  </a:lnTo>
                  <a:lnTo>
                    <a:pt x="445" y="328"/>
                  </a:lnTo>
                  <a:lnTo>
                    <a:pt x="929" y="290"/>
                  </a:lnTo>
                  <a:lnTo>
                    <a:pt x="1243" y="301"/>
                  </a:lnTo>
                  <a:lnTo>
                    <a:pt x="1586" y="362"/>
                  </a:lnTo>
                  <a:lnTo>
                    <a:pt x="1773" y="433"/>
                  </a:lnTo>
                  <a:lnTo>
                    <a:pt x="1625" y="249"/>
                  </a:lnTo>
                  <a:lnTo>
                    <a:pt x="1494" y="169"/>
                  </a:lnTo>
                  <a:lnTo>
                    <a:pt x="1221" y="106"/>
                  </a:lnTo>
                  <a:lnTo>
                    <a:pt x="1549" y="106"/>
                  </a:lnTo>
                  <a:lnTo>
                    <a:pt x="1747" y="235"/>
                  </a:lnTo>
                  <a:lnTo>
                    <a:pt x="1821" y="393"/>
                  </a:lnTo>
                  <a:lnTo>
                    <a:pt x="1929" y="496"/>
                  </a:lnTo>
                  <a:lnTo>
                    <a:pt x="2019" y="574"/>
                  </a:lnTo>
                  <a:lnTo>
                    <a:pt x="2111" y="6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5052600" y="5379840"/>
              <a:ext cx="75600" cy="77040"/>
            </a:xfrm>
            <a:custGeom>
              <a:avLst/>
              <a:gdLst/>
              <a:ahLst/>
              <a:rect l="l" t="t" r="r" b="b"/>
              <a:pathLst>
                <a:path w="905" h="731">
                  <a:moveTo>
                    <a:pt x="168" y="731"/>
                  </a:moveTo>
                  <a:lnTo>
                    <a:pt x="301" y="612"/>
                  </a:lnTo>
                  <a:lnTo>
                    <a:pt x="301" y="563"/>
                  </a:lnTo>
                  <a:lnTo>
                    <a:pt x="263" y="512"/>
                  </a:lnTo>
                  <a:lnTo>
                    <a:pt x="143" y="457"/>
                  </a:lnTo>
                  <a:lnTo>
                    <a:pt x="26" y="417"/>
                  </a:lnTo>
                  <a:lnTo>
                    <a:pt x="0" y="393"/>
                  </a:lnTo>
                  <a:lnTo>
                    <a:pt x="0" y="340"/>
                  </a:lnTo>
                  <a:lnTo>
                    <a:pt x="26" y="312"/>
                  </a:lnTo>
                  <a:lnTo>
                    <a:pt x="103" y="275"/>
                  </a:lnTo>
                  <a:lnTo>
                    <a:pt x="118" y="312"/>
                  </a:lnTo>
                  <a:lnTo>
                    <a:pt x="158" y="351"/>
                  </a:lnTo>
                  <a:lnTo>
                    <a:pt x="301" y="379"/>
                  </a:lnTo>
                  <a:lnTo>
                    <a:pt x="285" y="287"/>
                  </a:lnTo>
                  <a:lnTo>
                    <a:pt x="221" y="208"/>
                  </a:lnTo>
                  <a:lnTo>
                    <a:pt x="143" y="129"/>
                  </a:lnTo>
                  <a:lnTo>
                    <a:pt x="13" y="54"/>
                  </a:lnTo>
                  <a:lnTo>
                    <a:pt x="90" y="39"/>
                  </a:lnTo>
                  <a:lnTo>
                    <a:pt x="237" y="79"/>
                  </a:lnTo>
                  <a:lnTo>
                    <a:pt x="364" y="158"/>
                  </a:lnTo>
                  <a:lnTo>
                    <a:pt x="472" y="298"/>
                  </a:lnTo>
                  <a:lnTo>
                    <a:pt x="617" y="235"/>
                  </a:lnTo>
                  <a:lnTo>
                    <a:pt x="461" y="158"/>
                  </a:lnTo>
                  <a:lnTo>
                    <a:pt x="433" y="118"/>
                  </a:lnTo>
                  <a:lnTo>
                    <a:pt x="461" y="79"/>
                  </a:lnTo>
                  <a:lnTo>
                    <a:pt x="562" y="39"/>
                  </a:lnTo>
                  <a:lnTo>
                    <a:pt x="747" y="0"/>
                  </a:lnTo>
                  <a:lnTo>
                    <a:pt x="905" y="0"/>
                  </a:lnTo>
                  <a:lnTo>
                    <a:pt x="823" y="158"/>
                  </a:lnTo>
                  <a:lnTo>
                    <a:pt x="643" y="362"/>
                  </a:lnTo>
                  <a:lnTo>
                    <a:pt x="445" y="549"/>
                  </a:lnTo>
                  <a:lnTo>
                    <a:pt x="301" y="667"/>
                  </a:lnTo>
                  <a:lnTo>
                    <a:pt x="168" y="7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5091480" y="5214240"/>
              <a:ext cx="12960" cy="82080"/>
            </a:xfrm>
            <a:custGeom>
              <a:avLst/>
              <a:gdLst/>
              <a:ahLst/>
              <a:rect l="l" t="t" r="r" b="b"/>
              <a:pathLst>
                <a:path w="157" h="771">
                  <a:moveTo>
                    <a:pt x="65" y="116"/>
                  </a:moveTo>
                  <a:lnTo>
                    <a:pt x="90" y="378"/>
                  </a:lnTo>
                  <a:lnTo>
                    <a:pt x="132" y="626"/>
                  </a:lnTo>
                  <a:lnTo>
                    <a:pt x="157" y="771"/>
                  </a:lnTo>
                  <a:lnTo>
                    <a:pt x="24" y="354"/>
                  </a:lnTo>
                  <a:lnTo>
                    <a:pt x="0" y="222"/>
                  </a:lnTo>
                  <a:lnTo>
                    <a:pt x="51" y="0"/>
                  </a:lnTo>
                  <a:lnTo>
                    <a:pt x="65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0" name=""/>
          <p:cNvSpPr/>
          <p:nvPr/>
        </p:nvSpPr>
        <p:spPr>
          <a:xfrm>
            <a:off x="5548320" y="5419800"/>
            <a:ext cx="404640" cy="189000"/>
          </a:xfrm>
          <a:prstGeom prst="rightArrow">
            <a:avLst>
              <a:gd name="adj1" fmla="val 50000"/>
              <a:gd name="adj2" fmla="val 53524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5013360" y="2600280"/>
            <a:ext cx="72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>
            <a:off x="2652840" y="2752560"/>
            <a:ext cx="939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ate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"/>
          <p:cNvSpPr/>
          <p:nvPr/>
        </p:nvSpPr>
        <p:spPr>
          <a:xfrm>
            <a:off x="6961320" y="2852640"/>
            <a:ext cx="812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ate a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4" name=""/>
          <p:cNvGrpSpPr/>
          <p:nvPr/>
        </p:nvGrpSpPr>
        <p:grpSpPr>
          <a:xfrm>
            <a:off x="4200480" y="3892680"/>
            <a:ext cx="519120" cy="600120"/>
            <a:chOff x="4200480" y="3892680"/>
            <a:chExt cx="519120" cy="600120"/>
          </a:xfrm>
        </p:grpSpPr>
        <p:sp>
          <p:nvSpPr>
            <p:cNvPr id="3135" name=""/>
            <p:cNvSpPr/>
            <p:nvPr/>
          </p:nvSpPr>
          <p:spPr>
            <a:xfrm>
              <a:off x="4200480" y="3892680"/>
              <a:ext cx="519120" cy="600120"/>
            </a:xfrm>
            <a:prstGeom prst="foldedCorner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4257720" y="39920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4257720" y="404172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4257720" y="409140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4257720" y="414108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4257720" y="419112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4257720" y="424080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4257720" y="429048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4257720" y="434052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4257720" y="43898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5" name=""/>
          <p:cNvSpPr/>
          <p:nvPr/>
        </p:nvSpPr>
        <p:spPr>
          <a:xfrm>
            <a:off x="3762360" y="4097160"/>
            <a:ext cx="405000" cy="189000"/>
          </a:xfrm>
          <a:prstGeom prst="rightArrow">
            <a:avLst>
              <a:gd name="adj1" fmla="val 50000"/>
              <a:gd name="adj2" fmla="val 53571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"/>
          <p:cNvSpPr/>
          <p:nvPr/>
        </p:nvSpPr>
        <p:spPr>
          <a:xfrm>
            <a:off x="4753080" y="4097160"/>
            <a:ext cx="404640" cy="189000"/>
          </a:xfrm>
          <a:prstGeom prst="rightArrow">
            <a:avLst>
              <a:gd name="adj1" fmla="val 50000"/>
              <a:gd name="adj2" fmla="val 53524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7" name=""/>
          <p:cNvGrpSpPr/>
          <p:nvPr/>
        </p:nvGrpSpPr>
        <p:grpSpPr>
          <a:xfrm>
            <a:off x="276120" y="1228680"/>
            <a:ext cx="3576600" cy="1274760"/>
            <a:chOff x="276120" y="1228680"/>
            <a:chExt cx="3576600" cy="1274760"/>
          </a:xfrm>
        </p:grpSpPr>
        <p:sp>
          <p:nvSpPr>
            <p:cNvPr id="3148" name=""/>
            <p:cNvSpPr/>
            <p:nvPr/>
          </p:nvSpPr>
          <p:spPr>
            <a:xfrm>
              <a:off x="276120" y="1228680"/>
              <a:ext cx="3576600" cy="12747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49" name="" descr=""/>
            <p:cNvPicPr/>
            <p:nvPr/>
          </p:nvPicPr>
          <p:blipFill>
            <a:blip r:embed="rId2"/>
            <a:stretch/>
          </p:blipFill>
          <p:spPr>
            <a:xfrm>
              <a:off x="276120" y="1228680"/>
              <a:ext cx="3567960" cy="120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0" name=""/>
          <p:cNvSpPr/>
          <p:nvPr/>
        </p:nvSpPr>
        <p:spPr>
          <a:xfrm>
            <a:off x="637920" y="947880"/>
            <a:ext cx="2537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o de refer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1" name=""/>
          <p:cNvGrpSpPr/>
          <p:nvPr/>
        </p:nvGrpSpPr>
        <p:grpSpPr>
          <a:xfrm>
            <a:off x="176040" y="3395520"/>
            <a:ext cx="1544400" cy="1673280"/>
            <a:chOff x="176040" y="3395520"/>
            <a:chExt cx="1544400" cy="1673280"/>
          </a:xfrm>
        </p:grpSpPr>
        <p:sp>
          <p:nvSpPr>
            <p:cNvPr id="3152" name=""/>
            <p:cNvSpPr/>
            <p:nvPr/>
          </p:nvSpPr>
          <p:spPr>
            <a:xfrm>
              <a:off x="176040" y="3395520"/>
              <a:ext cx="1544400" cy="1673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3" name=""/>
            <p:cNvGrpSpPr/>
            <p:nvPr/>
          </p:nvGrpSpPr>
          <p:grpSpPr>
            <a:xfrm>
              <a:off x="301320" y="3503520"/>
              <a:ext cx="519120" cy="600120"/>
              <a:chOff x="301320" y="3503520"/>
              <a:chExt cx="519120" cy="600120"/>
            </a:xfrm>
          </p:grpSpPr>
          <p:sp>
            <p:nvSpPr>
              <p:cNvPr id="3154" name=""/>
              <p:cNvSpPr/>
              <p:nvPr/>
            </p:nvSpPr>
            <p:spPr>
              <a:xfrm>
                <a:off x="301320" y="3503520"/>
                <a:ext cx="519120" cy="600120"/>
              </a:xfrm>
              <a:prstGeom prst="foldedCorner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358560" y="36028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358560" y="36525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358560" y="37022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358560" y="37519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358560" y="38019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358560" y="38516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358560" y="39013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358560" y="39513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358560" y="40006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4" name=""/>
            <p:cNvGrpSpPr/>
            <p:nvPr/>
          </p:nvGrpSpPr>
          <p:grpSpPr>
            <a:xfrm>
              <a:off x="507600" y="3762360"/>
              <a:ext cx="519120" cy="600120"/>
              <a:chOff x="507600" y="3762360"/>
              <a:chExt cx="519120" cy="600120"/>
            </a:xfrm>
          </p:grpSpPr>
          <p:sp>
            <p:nvSpPr>
              <p:cNvPr id="3165" name=""/>
              <p:cNvSpPr/>
              <p:nvPr/>
            </p:nvSpPr>
            <p:spPr>
              <a:xfrm>
                <a:off x="507600" y="3762360"/>
                <a:ext cx="519120" cy="600120"/>
              </a:xfrm>
              <a:prstGeom prst="foldedCorner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564840" y="38617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564840" y="39114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564840" y="39610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564840" y="40107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564840" y="40608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564840" y="41104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564840" y="41601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564840" y="42102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564840" y="42595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5" name=""/>
            <p:cNvGrpSpPr/>
            <p:nvPr/>
          </p:nvGrpSpPr>
          <p:grpSpPr>
            <a:xfrm>
              <a:off x="714240" y="4021200"/>
              <a:ext cx="519120" cy="600120"/>
              <a:chOff x="714240" y="4021200"/>
              <a:chExt cx="519120" cy="600120"/>
            </a:xfrm>
          </p:grpSpPr>
          <p:sp>
            <p:nvSpPr>
              <p:cNvPr id="3176" name=""/>
              <p:cNvSpPr/>
              <p:nvPr/>
            </p:nvSpPr>
            <p:spPr>
              <a:xfrm>
                <a:off x="714240" y="4021200"/>
                <a:ext cx="519120" cy="600120"/>
              </a:xfrm>
              <a:prstGeom prst="foldedCorner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771480" y="41205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771480" y="41702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771480" y="42199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771480" y="42696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771480" y="43196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771480" y="43693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771480" y="44190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771480" y="44690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771480" y="45183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6" name=""/>
            <p:cNvGrpSpPr/>
            <p:nvPr/>
          </p:nvGrpSpPr>
          <p:grpSpPr>
            <a:xfrm>
              <a:off x="920520" y="4279680"/>
              <a:ext cx="519120" cy="600120"/>
              <a:chOff x="920520" y="4279680"/>
              <a:chExt cx="519120" cy="600120"/>
            </a:xfrm>
          </p:grpSpPr>
          <p:sp>
            <p:nvSpPr>
              <p:cNvPr id="3187" name=""/>
              <p:cNvSpPr/>
              <p:nvPr/>
            </p:nvSpPr>
            <p:spPr>
              <a:xfrm>
                <a:off x="920520" y="4279680"/>
                <a:ext cx="519120" cy="600120"/>
              </a:xfrm>
              <a:prstGeom prst="foldedCorner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977760" y="43790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977760" y="44287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977760" y="44784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977760" y="45280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977760" y="45781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977760" y="46278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977760" y="46774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977760" y="47275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977760" y="47768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97" name=""/>
          <p:cNvSpPr/>
          <p:nvPr/>
        </p:nvSpPr>
        <p:spPr>
          <a:xfrm rot="5400000">
            <a:off x="1698480" y="4078080"/>
            <a:ext cx="485640" cy="225360"/>
          </a:xfrm>
          <a:prstGeom prst="triangle">
            <a:avLst>
              <a:gd name="adj" fmla="val 50000"/>
            </a:avLst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"/>
          <p:cNvSpPr/>
          <p:nvPr/>
        </p:nvSpPr>
        <p:spPr>
          <a:xfrm rot="5400000">
            <a:off x="3852720" y="1663560"/>
            <a:ext cx="485640" cy="225360"/>
          </a:xfrm>
          <a:prstGeom prst="triangle">
            <a:avLst>
              <a:gd name="adj" fmla="val 50000"/>
            </a:avLst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"/>
          <p:cNvSpPr/>
          <p:nvPr/>
        </p:nvSpPr>
        <p:spPr>
          <a:xfrm flipH="1">
            <a:off x="213840" y="2071800"/>
            <a:ext cx="1187640" cy="1377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"/>
          <p:cNvSpPr/>
          <p:nvPr/>
        </p:nvSpPr>
        <p:spPr>
          <a:xfrm flipH="1">
            <a:off x="474840" y="2108160"/>
            <a:ext cx="1187280" cy="1376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 flipH="1">
            <a:off x="723960" y="2084400"/>
            <a:ext cx="1224000" cy="1376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 flipH="1">
            <a:off x="960120" y="2071800"/>
            <a:ext cx="1176120" cy="15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 flipH="1">
            <a:off x="1152360" y="2084400"/>
            <a:ext cx="1222560" cy="157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 flipH="1">
            <a:off x="1400040" y="2084400"/>
            <a:ext cx="1224000" cy="1612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>
            <a:off x="250920" y="5033880"/>
            <a:ext cx="20127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álogo” de crité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207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ualizar o Plano do Projeto Inform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ar e atualizar o escopo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lhar ciclo de vida do produto e definir seu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r os requisitos dos clientes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os requisitos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especificações-meta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ar a viabilidade econômico-financ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provar a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r as decisões tomadas e registrar lições apren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tividade genérica: aprovar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3209" name=""/>
          <p:cNvGrpSpPr/>
          <p:nvPr/>
        </p:nvGrpSpPr>
        <p:grpSpPr>
          <a:xfrm>
            <a:off x="268200" y="1492560"/>
            <a:ext cx="8615520" cy="5074560"/>
            <a:chOff x="268200" y="1492560"/>
            <a:chExt cx="8615520" cy="5074560"/>
          </a:xfrm>
        </p:grpSpPr>
        <p:sp>
          <p:nvSpPr>
            <p:cNvPr id="3210" name=""/>
            <p:cNvSpPr/>
            <p:nvPr/>
          </p:nvSpPr>
          <p:spPr>
            <a:xfrm>
              <a:off x="268200" y="1492560"/>
              <a:ext cx="2193840" cy="97380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valiar o relatório da auto-avaliação e discuti-lo com o time de desenvolvim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722680" y="1492560"/>
              <a:ext cx="2387520" cy="97380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alisar as evidências dos resultados e término das atividades planejad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5370480" y="1492560"/>
              <a:ext cx="1689120" cy="97380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alisar o portfólio de produtos e proje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7321680" y="1492560"/>
              <a:ext cx="1562040" cy="97380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alisar o estudo de viabilidade econôm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14" name=""/>
            <p:cNvCxnSpPr>
              <a:stCxn id="3210" idx="2"/>
              <a:endCxn id="3215" idx="1"/>
            </p:cNvCxnSpPr>
            <p:nvPr/>
          </p:nvCxnSpPr>
          <p:spPr>
            <a:xfrm flipH="1" rot="16200000">
              <a:off x="1801440" y="2059920"/>
              <a:ext cx="1304280" cy="2177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16" name=""/>
            <p:cNvCxnSpPr>
              <a:stCxn id="3213" idx="2"/>
              <a:endCxn id="3215" idx="3"/>
            </p:cNvCxnSpPr>
            <p:nvPr/>
          </p:nvCxnSpPr>
          <p:spPr>
            <a:xfrm rot="5400000">
              <a:off x="6257880" y="1956600"/>
              <a:ext cx="1304280" cy="2384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17" name=""/>
            <p:cNvCxnSpPr>
              <a:stCxn id="3212" idx="2"/>
              <a:endCxn id="3215" idx="0"/>
            </p:cNvCxnSpPr>
            <p:nvPr/>
          </p:nvCxnSpPr>
          <p:spPr>
            <a:xfrm flipH="1">
              <a:off x="4629960" y="2496600"/>
              <a:ext cx="1585080" cy="90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18" name=""/>
            <p:cNvCxnSpPr>
              <a:stCxn id="3211" idx="2"/>
              <a:endCxn id="3215" idx="0"/>
            </p:cNvCxnSpPr>
            <p:nvPr/>
          </p:nvCxnSpPr>
          <p:spPr>
            <a:xfrm>
              <a:off x="3916440" y="2496600"/>
              <a:ext cx="714960" cy="90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15" name=""/>
            <p:cNvSpPr/>
            <p:nvPr/>
          </p:nvSpPr>
          <p:spPr>
            <a:xfrm>
              <a:off x="3556080" y="3435120"/>
              <a:ext cx="2147760" cy="73044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plicar os critérios de avaliação e tomar a decis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6429240" y="4977000"/>
              <a:ext cx="1957680" cy="2437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eparar relatór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20" name=""/>
            <p:cNvCxnSpPr>
              <a:stCxn id="3215" idx="2"/>
              <a:endCxn id="3219" idx="0"/>
            </p:cNvCxnSpPr>
            <p:nvPr/>
          </p:nvCxnSpPr>
          <p:spPr>
            <a:xfrm>
              <a:off x="4630320" y="4195800"/>
              <a:ext cx="2778840" cy="753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21" name=""/>
            <p:cNvSpPr/>
            <p:nvPr/>
          </p:nvSpPr>
          <p:spPr>
            <a:xfrm>
              <a:off x="2766960" y="5581800"/>
              <a:ext cx="2503440" cy="2437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finir ações corretiv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22" name=""/>
            <p:cNvCxnSpPr>
              <a:stCxn id="3215" idx="2"/>
              <a:endCxn id="3221" idx="0"/>
            </p:cNvCxnSpPr>
            <p:nvPr/>
          </p:nvCxnSpPr>
          <p:spPr>
            <a:xfrm flipH="1">
              <a:off x="4019040" y="4195800"/>
              <a:ext cx="612000" cy="1357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23" name=""/>
            <p:cNvCxnSpPr>
              <a:stCxn id="3215" idx="2"/>
            </p:cNvCxnSpPr>
            <p:nvPr/>
          </p:nvCxnSpPr>
          <p:spPr>
            <a:xfrm flipH="1">
              <a:off x="1669680" y="4195440"/>
              <a:ext cx="2961360" cy="1532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24" name=""/>
            <p:cNvCxnSpPr>
              <a:stCxn id="3215" idx="2"/>
            </p:cNvCxnSpPr>
            <p:nvPr/>
          </p:nvCxnSpPr>
          <p:spPr>
            <a:xfrm flipH="1">
              <a:off x="299520" y="4195800"/>
              <a:ext cx="4331520" cy="1342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25" name=""/>
            <p:cNvSpPr/>
            <p:nvPr/>
          </p:nvSpPr>
          <p:spPr>
            <a:xfrm>
              <a:off x="1733760" y="4730760"/>
              <a:ext cx="1005840" cy="274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ance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1713240" y="5216400"/>
              <a:ext cx="1018080" cy="274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onge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3754080" y="4870440"/>
              <a:ext cx="1347120" cy="274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edirecion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5405400" y="4356000"/>
              <a:ext cx="917280" cy="274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prov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2766960" y="6289920"/>
              <a:ext cx="2503440" cy="2437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alisar ris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5985000" y="5635800"/>
              <a:ext cx="2847960" cy="2437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lhorar processo de g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5983200" y="6323400"/>
              <a:ext cx="2847960" cy="2437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justar critérios próxima f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32" name=""/>
            <p:cNvCxnSpPr>
              <a:stCxn id="3219" idx="2"/>
              <a:endCxn id="3230" idx="0"/>
            </p:cNvCxnSpPr>
            <p:nvPr/>
          </p:nvCxnSpPr>
          <p:spPr>
            <a:xfrm>
              <a:off x="7408440" y="5249880"/>
              <a:ext cx="108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33" name=""/>
            <p:cNvCxnSpPr>
              <a:stCxn id="3230" idx="2"/>
              <a:endCxn id="3231" idx="0"/>
            </p:cNvCxnSpPr>
            <p:nvPr/>
          </p:nvCxnSpPr>
          <p:spPr>
            <a:xfrm flipH="1">
              <a:off x="7407000" y="5908680"/>
              <a:ext cx="2160" cy="386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34" name=""/>
            <p:cNvCxnSpPr>
              <a:stCxn id="3221" idx="2"/>
              <a:endCxn id="3229" idx="0"/>
            </p:cNvCxnSpPr>
            <p:nvPr/>
          </p:nvCxnSpPr>
          <p:spPr>
            <a:xfrm>
              <a:off x="4019040" y="5854320"/>
              <a:ext cx="1080" cy="407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235" name=""/>
          <p:cNvSpPr/>
          <p:nvPr/>
        </p:nvSpPr>
        <p:spPr>
          <a:xfrm>
            <a:off x="1080" y="4437000"/>
            <a:ext cx="185472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nvolv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6" name=""/>
          <p:cNvGrpSpPr/>
          <p:nvPr/>
        </p:nvGrpSpPr>
        <p:grpSpPr>
          <a:xfrm>
            <a:off x="250920" y="3789360"/>
            <a:ext cx="1371240" cy="686880"/>
            <a:chOff x="250920" y="3789360"/>
            <a:chExt cx="1371240" cy="686880"/>
          </a:xfrm>
        </p:grpSpPr>
        <p:grpSp>
          <p:nvGrpSpPr>
            <p:cNvPr id="3237" name=""/>
            <p:cNvGrpSpPr/>
            <p:nvPr/>
          </p:nvGrpSpPr>
          <p:grpSpPr>
            <a:xfrm>
              <a:off x="250920" y="3789360"/>
              <a:ext cx="1371240" cy="686880"/>
              <a:chOff x="250920" y="3789360"/>
              <a:chExt cx="1371240" cy="686880"/>
            </a:xfrm>
          </p:grpSpPr>
          <p:sp>
            <p:nvSpPr>
              <p:cNvPr id="3238" name=""/>
              <p:cNvSpPr/>
              <p:nvPr/>
            </p:nvSpPr>
            <p:spPr>
              <a:xfrm>
                <a:off x="561600" y="3979800"/>
                <a:ext cx="293760" cy="291600"/>
              </a:xfrm>
              <a:custGeom>
                <a:avLst/>
                <a:gdLst/>
                <a:ahLst/>
                <a:rect l="l" t="t" r="r" b="b"/>
                <a:pathLst>
                  <a:path w="3542" h="2755">
                    <a:moveTo>
                      <a:pt x="3542" y="2755"/>
                    </a:moveTo>
                    <a:lnTo>
                      <a:pt x="3452" y="2648"/>
                    </a:lnTo>
                    <a:lnTo>
                      <a:pt x="3415" y="2476"/>
                    </a:lnTo>
                    <a:lnTo>
                      <a:pt x="3307" y="2404"/>
                    </a:lnTo>
                    <a:lnTo>
                      <a:pt x="3290" y="2296"/>
                    </a:lnTo>
                    <a:lnTo>
                      <a:pt x="3355" y="2222"/>
                    </a:lnTo>
                    <a:lnTo>
                      <a:pt x="3355" y="2141"/>
                    </a:lnTo>
                    <a:lnTo>
                      <a:pt x="3314" y="2052"/>
                    </a:lnTo>
                    <a:lnTo>
                      <a:pt x="3248" y="1954"/>
                    </a:lnTo>
                    <a:lnTo>
                      <a:pt x="3248" y="1791"/>
                    </a:lnTo>
                    <a:lnTo>
                      <a:pt x="3307" y="1724"/>
                    </a:lnTo>
                    <a:lnTo>
                      <a:pt x="3299" y="1652"/>
                    </a:lnTo>
                    <a:lnTo>
                      <a:pt x="3233" y="1604"/>
                    </a:lnTo>
                    <a:lnTo>
                      <a:pt x="3200" y="1503"/>
                    </a:lnTo>
                    <a:lnTo>
                      <a:pt x="3209" y="1417"/>
                    </a:lnTo>
                    <a:lnTo>
                      <a:pt x="3191" y="1286"/>
                    </a:lnTo>
                    <a:lnTo>
                      <a:pt x="3166" y="1114"/>
                    </a:lnTo>
                    <a:lnTo>
                      <a:pt x="3166" y="910"/>
                    </a:lnTo>
                    <a:lnTo>
                      <a:pt x="3166" y="754"/>
                    </a:lnTo>
                    <a:lnTo>
                      <a:pt x="3161" y="592"/>
                    </a:lnTo>
                    <a:lnTo>
                      <a:pt x="3125" y="451"/>
                    </a:lnTo>
                    <a:lnTo>
                      <a:pt x="3092" y="360"/>
                    </a:lnTo>
                    <a:lnTo>
                      <a:pt x="2712" y="171"/>
                    </a:lnTo>
                    <a:lnTo>
                      <a:pt x="2492" y="110"/>
                    </a:lnTo>
                    <a:lnTo>
                      <a:pt x="2279" y="68"/>
                    </a:lnTo>
                    <a:lnTo>
                      <a:pt x="2044" y="0"/>
                    </a:lnTo>
                    <a:lnTo>
                      <a:pt x="890" y="27"/>
                    </a:lnTo>
                    <a:lnTo>
                      <a:pt x="556" y="85"/>
                    </a:lnTo>
                    <a:lnTo>
                      <a:pt x="222" y="205"/>
                    </a:lnTo>
                    <a:lnTo>
                      <a:pt x="123" y="264"/>
                    </a:lnTo>
                    <a:lnTo>
                      <a:pt x="40" y="461"/>
                    </a:lnTo>
                    <a:lnTo>
                      <a:pt x="40" y="1145"/>
                    </a:lnTo>
                    <a:lnTo>
                      <a:pt x="0" y="1235"/>
                    </a:lnTo>
                    <a:lnTo>
                      <a:pt x="540" y="2755"/>
                    </a:lnTo>
                    <a:lnTo>
                      <a:pt x="3542" y="275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574920" y="3986640"/>
                <a:ext cx="133200" cy="144720"/>
              </a:xfrm>
              <a:custGeom>
                <a:avLst/>
                <a:gdLst/>
                <a:ahLst/>
                <a:rect l="l" t="t" r="r" b="b"/>
                <a:pathLst>
                  <a:path w="1609" h="1365">
                    <a:moveTo>
                      <a:pt x="1609" y="1365"/>
                    </a:moveTo>
                    <a:lnTo>
                      <a:pt x="1148" y="499"/>
                    </a:lnTo>
                    <a:lnTo>
                      <a:pt x="1019" y="323"/>
                    </a:lnTo>
                    <a:lnTo>
                      <a:pt x="763" y="187"/>
                    </a:lnTo>
                    <a:lnTo>
                      <a:pt x="493" y="121"/>
                    </a:lnTo>
                    <a:lnTo>
                      <a:pt x="279" y="130"/>
                    </a:lnTo>
                    <a:lnTo>
                      <a:pt x="0" y="169"/>
                    </a:lnTo>
                    <a:lnTo>
                      <a:pt x="67" y="121"/>
                    </a:lnTo>
                    <a:lnTo>
                      <a:pt x="353" y="31"/>
                    </a:lnTo>
                    <a:lnTo>
                      <a:pt x="650" y="0"/>
                    </a:lnTo>
                    <a:lnTo>
                      <a:pt x="862" y="31"/>
                    </a:lnTo>
                    <a:lnTo>
                      <a:pt x="1102" y="255"/>
                    </a:lnTo>
                    <a:lnTo>
                      <a:pt x="1264" y="547"/>
                    </a:lnTo>
                    <a:lnTo>
                      <a:pt x="1346" y="767"/>
                    </a:lnTo>
                    <a:lnTo>
                      <a:pt x="1609" y="1365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563760" y="4025520"/>
                <a:ext cx="68400" cy="140400"/>
              </a:xfrm>
              <a:custGeom>
                <a:avLst/>
                <a:gdLst/>
                <a:ahLst/>
                <a:rect l="l" t="t" r="r" b="b"/>
                <a:pathLst>
                  <a:path w="829" h="1330">
                    <a:moveTo>
                      <a:pt x="548" y="586"/>
                    </a:moveTo>
                    <a:lnTo>
                      <a:pt x="484" y="464"/>
                    </a:lnTo>
                    <a:lnTo>
                      <a:pt x="394" y="360"/>
                    </a:lnTo>
                    <a:lnTo>
                      <a:pt x="304" y="286"/>
                    </a:lnTo>
                    <a:lnTo>
                      <a:pt x="205" y="235"/>
                    </a:lnTo>
                    <a:lnTo>
                      <a:pt x="156" y="226"/>
                    </a:lnTo>
                    <a:lnTo>
                      <a:pt x="221" y="374"/>
                    </a:lnTo>
                    <a:lnTo>
                      <a:pt x="359" y="554"/>
                    </a:lnTo>
                    <a:lnTo>
                      <a:pt x="516" y="694"/>
                    </a:lnTo>
                    <a:lnTo>
                      <a:pt x="714" y="835"/>
                    </a:lnTo>
                    <a:lnTo>
                      <a:pt x="745" y="851"/>
                    </a:lnTo>
                    <a:lnTo>
                      <a:pt x="829" y="1100"/>
                    </a:lnTo>
                    <a:lnTo>
                      <a:pt x="756" y="1158"/>
                    </a:lnTo>
                    <a:lnTo>
                      <a:pt x="809" y="1330"/>
                    </a:lnTo>
                    <a:lnTo>
                      <a:pt x="631" y="1305"/>
                    </a:lnTo>
                    <a:lnTo>
                      <a:pt x="703" y="1275"/>
                    </a:lnTo>
                    <a:lnTo>
                      <a:pt x="590" y="1127"/>
                    </a:lnTo>
                    <a:lnTo>
                      <a:pt x="304" y="1013"/>
                    </a:lnTo>
                    <a:lnTo>
                      <a:pt x="128" y="888"/>
                    </a:lnTo>
                    <a:lnTo>
                      <a:pt x="82" y="851"/>
                    </a:lnTo>
                    <a:lnTo>
                      <a:pt x="106" y="923"/>
                    </a:lnTo>
                    <a:lnTo>
                      <a:pt x="179" y="1028"/>
                    </a:lnTo>
                    <a:lnTo>
                      <a:pt x="39" y="906"/>
                    </a:lnTo>
                    <a:lnTo>
                      <a:pt x="7" y="791"/>
                    </a:lnTo>
                    <a:lnTo>
                      <a:pt x="0" y="743"/>
                    </a:lnTo>
                    <a:lnTo>
                      <a:pt x="48" y="586"/>
                    </a:lnTo>
                    <a:lnTo>
                      <a:pt x="64" y="0"/>
                    </a:lnTo>
                    <a:lnTo>
                      <a:pt x="286" y="148"/>
                    </a:lnTo>
                    <a:lnTo>
                      <a:pt x="431" y="307"/>
                    </a:lnTo>
                    <a:lnTo>
                      <a:pt x="509" y="448"/>
                    </a:lnTo>
                    <a:lnTo>
                      <a:pt x="548" y="586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582120" y="4136760"/>
                <a:ext cx="48960" cy="75240"/>
              </a:xfrm>
              <a:custGeom>
                <a:avLst/>
                <a:gdLst/>
                <a:ahLst/>
                <a:rect l="l" t="t" r="r" b="b"/>
                <a:pathLst>
                  <a:path w="593" h="716">
                    <a:moveTo>
                      <a:pt x="19" y="0"/>
                    </a:moveTo>
                    <a:lnTo>
                      <a:pt x="132" y="54"/>
                    </a:lnTo>
                    <a:lnTo>
                      <a:pt x="190" y="187"/>
                    </a:lnTo>
                    <a:lnTo>
                      <a:pt x="331" y="268"/>
                    </a:lnTo>
                    <a:lnTo>
                      <a:pt x="222" y="259"/>
                    </a:lnTo>
                    <a:lnTo>
                      <a:pt x="289" y="310"/>
                    </a:lnTo>
                    <a:lnTo>
                      <a:pt x="455" y="358"/>
                    </a:lnTo>
                    <a:lnTo>
                      <a:pt x="534" y="448"/>
                    </a:lnTo>
                    <a:lnTo>
                      <a:pt x="492" y="538"/>
                    </a:lnTo>
                    <a:lnTo>
                      <a:pt x="388" y="473"/>
                    </a:lnTo>
                    <a:lnTo>
                      <a:pt x="354" y="529"/>
                    </a:lnTo>
                    <a:lnTo>
                      <a:pt x="503" y="587"/>
                    </a:lnTo>
                    <a:lnTo>
                      <a:pt x="593" y="554"/>
                    </a:lnTo>
                    <a:lnTo>
                      <a:pt x="518" y="716"/>
                    </a:lnTo>
                    <a:lnTo>
                      <a:pt x="275" y="554"/>
                    </a:lnTo>
                    <a:lnTo>
                      <a:pt x="0" y="2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636480" y="4204440"/>
                <a:ext cx="101880" cy="84600"/>
              </a:xfrm>
              <a:custGeom>
                <a:avLst/>
                <a:gdLst/>
                <a:ahLst/>
                <a:rect l="l" t="t" r="r" b="b"/>
                <a:pathLst>
                  <a:path w="1232" h="800">
                    <a:moveTo>
                      <a:pt x="141" y="141"/>
                    </a:moveTo>
                    <a:lnTo>
                      <a:pt x="188" y="171"/>
                    </a:lnTo>
                    <a:lnTo>
                      <a:pt x="215" y="0"/>
                    </a:lnTo>
                    <a:lnTo>
                      <a:pt x="282" y="254"/>
                    </a:lnTo>
                    <a:lnTo>
                      <a:pt x="248" y="325"/>
                    </a:lnTo>
                    <a:lnTo>
                      <a:pt x="575" y="435"/>
                    </a:lnTo>
                    <a:lnTo>
                      <a:pt x="764" y="595"/>
                    </a:lnTo>
                    <a:lnTo>
                      <a:pt x="1174" y="595"/>
                    </a:lnTo>
                    <a:lnTo>
                      <a:pt x="1232" y="717"/>
                    </a:lnTo>
                    <a:lnTo>
                      <a:pt x="764" y="800"/>
                    </a:lnTo>
                    <a:lnTo>
                      <a:pt x="0" y="341"/>
                    </a:lnTo>
                    <a:lnTo>
                      <a:pt x="141" y="14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644400" y="4023000"/>
                <a:ext cx="185400" cy="205560"/>
              </a:xfrm>
              <a:custGeom>
                <a:avLst/>
                <a:gdLst/>
                <a:ahLst/>
                <a:rect l="l" t="t" r="r" b="b"/>
                <a:pathLst>
                  <a:path w="2241" h="1943">
                    <a:moveTo>
                      <a:pt x="1241" y="0"/>
                    </a:moveTo>
                    <a:lnTo>
                      <a:pt x="1308" y="277"/>
                    </a:lnTo>
                    <a:lnTo>
                      <a:pt x="1314" y="623"/>
                    </a:lnTo>
                    <a:lnTo>
                      <a:pt x="1250" y="1053"/>
                    </a:lnTo>
                    <a:lnTo>
                      <a:pt x="1133" y="1404"/>
                    </a:lnTo>
                    <a:lnTo>
                      <a:pt x="1232" y="1496"/>
                    </a:lnTo>
                    <a:lnTo>
                      <a:pt x="1035" y="1559"/>
                    </a:lnTo>
                    <a:lnTo>
                      <a:pt x="674" y="1519"/>
                    </a:lnTo>
                    <a:lnTo>
                      <a:pt x="248" y="1528"/>
                    </a:lnTo>
                    <a:lnTo>
                      <a:pt x="0" y="1544"/>
                    </a:lnTo>
                    <a:lnTo>
                      <a:pt x="149" y="1722"/>
                    </a:lnTo>
                    <a:lnTo>
                      <a:pt x="1133" y="1803"/>
                    </a:lnTo>
                    <a:lnTo>
                      <a:pt x="1815" y="1943"/>
                    </a:lnTo>
                    <a:lnTo>
                      <a:pt x="1898" y="1886"/>
                    </a:lnTo>
                    <a:lnTo>
                      <a:pt x="1802" y="1812"/>
                    </a:lnTo>
                    <a:lnTo>
                      <a:pt x="1872" y="1748"/>
                    </a:lnTo>
                    <a:lnTo>
                      <a:pt x="2013" y="1722"/>
                    </a:lnTo>
                    <a:lnTo>
                      <a:pt x="2241" y="1739"/>
                    </a:lnTo>
                    <a:lnTo>
                      <a:pt x="2064" y="1634"/>
                    </a:lnTo>
                    <a:lnTo>
                      <a:pt x="1956" y="1501"/>
                    </a:lnTo>
                    <a:lnTo>
                      <a:pt x="1965" y="1404"/>
                    </a:lnTo>
                    <a:lnTo>
                      <a:pt x="2151" y="1307"/>
                    </a:lnTo>
                    <a:lnTo>
                      <a:pt x="2202" y="1168"/>
                    </a:lnTo>
                    <a:lnTo>
                      <a:pt x="2103" y="1215"/>
                    </a:lnTo>
                    <a:lnTo>
                      <a:pt x="1995" y="1210"/>
                    </a:lnTo>
                    <a:lnTo>
                      <a:pt x="1971" y="1168"/>
                    </a:lnTo>
                    <a:lnTo>
                      <a:pt x="2064" y="1075"/>
                    </a:lnTo>
                    <a:lnTo>
                      <a:pt x="1979" y="1071"/>
                    </a:lnTo>
                    <a:lnTo>
                      <a:pt x="1988" y="972"/>
                    </a:lnTo>
                    <a:lnTo>
                      <a:pt x="2028" y="832"/>
                    </a:lnTo>
                    <a:lnTo>
                      <a:pt x="2120" y="876"/>
                    </a:lnTo>
                    <a:lnTo>
                      <a:pt x="2151" y="963"/>
                    </a:lnTo>
                    <a:lnTo>
                      <a:pt x="2186" y="840"/>
                    </a:lnTo>
                    <a:lnTo>
                      <a:pt x="2145" y="537"/>
                    </a:lnTo>
                    <a:lnTo>
                      <a:pt x="2168" y="311"/>
                    </a:lnTo>
                    <a:lnTo>
                      <a:pt x="2094" y="645"/>
                    </a:lnTo>
                    <a:lnTo>
                      <a:pt x="1979" y="816"/>
                    </a:lnTo>
                    <a:lnTo>
                      <a:pt x="1760" y="1134"/>
                    </a:lnTo>
                    <a:lnTo>
                      <a:pt x="1608" y="1282"/>
                    </a:lnTo>
                    <a:lnTo>
                      <a:pt x="1398" y="1422"/>
                    </a:lnTo>
                    <a:lnTo>
                      <a:pt x="1331" y="1429"/>
                    </a:lnTo>
                    <a:lnTo>
                      <a:pt x="1398" y="1307"/>
                    </a:lnTo>
                    <a:lnTo>
                      <a:pt x="1430" y="1111"/>
                    </a:lnTo>
                    <a:lnTo>
                      <a:pt x="1446" y="800"/>
                    </a:lnTo>
                    <a:lnTo>
                      <a:pt x="1430" y="521"/>
                    </a:lnTo>
                    <a:lnTo>
                      <a:pt x="1398" y="269"/>
                    </a:lnTo>
                    <a:lnTo>
                      <a:pt x="1349" y="113"/>
                    </a:lnTo>
                    <a:lnTo>
                      <a:pt x="1241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799200" y="4234320"/>
                <a:ext cx="46800" cy="37080"/>
              </a:xfrm>
              <a:custGeom>
                <a:avLst/>
                <a:gdLst/>
                <a:ahLst/>
                <a:rect l="l" t="t" r="r" b="b"/>
                <a:pathLst>
                  <a:path w="567" h="351">
                    <a:moveTo>
                      <a:pt x="129" y="0"/>
                    </a:moveTo>
                    <a:lnTo>
                      <a:pt x="198" y="72"/>
                    </a:lnTo>
                    <a:lnTo>
                      <a:pt x="173" y="162"/>
                    </a:lnTo>
                    <a:lnTo>
                      <a:pt x="237" y="114"/>
                    </a:lnTo>
                    <a:lnTo>
                      <a:pt x="261" y="251"/>
                    </a:lnTo>
                    <a:lnTo>
                      <a:pt x="355" y="169"/>
                    </a:lnTo>
                    <a:lnTo>
                      <a:pt x="426" y="219"/>
                    </a:lnTo>
                    <a:lnTo>
                      <a:pt x="375" y="268"/>
                    </a:lnTo>
                    <a:lnTo>
                      <a:pt x="417" y="327"/>
                    </a:lnTo>
                    <a:lnTo>
                      <a:pt x="507" y="309"/>
                    </a:lnTo>
                    <a:lnTo>
                      <a:pt x="567" y="351"/>
                    </a:lnTo>
                    <a:lnTo>
                      <a:pt x="204" y="351"/>
                    </a:lnTo>
                    <a:lnTo>
                      <a:pt x="0" y="196"/>
                    </a:lnTo>
                    <a:lnTo>
                      <a:pt x="23" y="37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817560" y="4166280"/>
                <a:ext cx="12960" cy="20880"/>
              </a:xfrm>
              <a:custGeom>
                <a:avLst/>
                <a:gdLst/>
                <a:ahLst/>
                <a:rect l="l" t="t" r="r" b="b"/>
                <a:pathLst>
                  <a:path w="156" h="200">
                    <a:moveTo>
                      <a:pt x="0" y="79"/>
                    </a:moveTo>
                    <a:lnTo>
                      <a:pt x="81" y="79"/>
                    </a:lnTo>
                    <a:lnTo>
                      <a:pt x="74" y="137"/>
                    </a:lnTo>
                    <a:lnTo>
                      <a:pt x="18" y="128"/>
                    </a:lnTo>
                    <a:lnTo>
                      <a:pt x="127" y="200"/>
                    </a:lnTo>
                    <a:lnTo>
                      <a:pt x="156" y="0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720720" y="4221360"/>
                <a:ext cx="80280" cy="65880"/>
              </a:xfrm>
              <a:custGeom>
                <a:avLst/>
                <a:gdLst/>
                <a:ahLst/>
                <a:rect l="l" t="t" r="r" b="b"/>
                <a:pathLst>
                  <a:path w="966" h="621">
                    <a:moveTo>
                      <a:pt x="0" y="237"/>
                    </a:moveTo>
                    <a:lnTo>
                      <a:pt x="70" y="310"/>
                    </a:lnTo>
                    <a:lnTo>
                      <a:pt x="138" y="432"/>
                    </a:lnTo>
                    <a:lnTo>
                      <a:pt x="171" y="545"/>
                    </a:lnTo>
                    <a:lnTo>
                      <a:pt x="303" y="621"/>
                    </a:lnTo>
                    <a:lnTo>
                      <a:pt x="484" y="596"/>
                    </a:lnTo>
                    <a:lnTo>
                      <a:pt x="681" y="561"/>
                    </a:lnTo>
                    <a:lnTo>
                      <a:pt x="966" y="450"/>
                    </a:lnTo>
                    <a:lnTo>
                      <a:pt x="966" y="220"/>
                    </a:lnTo>
                    <a:lnTo>
                      <a:pt x="910" y="81"/>
                    </a:lnTo>
                    <a:lnTo>
                      <a:pt x="562" y="0"/>
                    </a:lnTo>
                    <a:lnTo>
                      <a:pt x="244" y="160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710280" y="4042440"/>
                <a:ext cx="10440" cy="11880"/>
              </a:xfrm>
              <a:custGeom>
                <a:avLst/>
                <a:gdLst/>
                <a:ahLst/>
                <a:rect l="l" t="t" r="r" b="b"/>
                <a:pathLst>
                  <a:path w="125" h="113">
                    <a:moveTo>
                      <a:pt x="90" y="0"/>
                    </a:moveTo>
                    <a:lnTo>
                      <a:pt x="33" y="14"/>
                    </a:lnTo>
                    <a:lnTo>
                      <a:pt x="0" y="69"/>
                    </a:lnTo>
                    <a:lnTo>
                      <a:pt x="42" y="113"/>
                    </a:lnTo>
                    <a:lnTo>
                      <a:pt x="99" y="113"/>
                    </a:lnTo>
                    <a:lnTo>
                      <a:pt x="125" y="78"/>
                    </a:lnTo>
                    <a:lnTo>
                      <a:pt x="125" y="3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719640" y="4116960"/>
                <a:ext cx="7200" cy="9360"/>
              </a:xfrm>
              <a:custGeom>
                <a:avLst/>
                <a:gdLst/>
                <a:ahLst/>
                <a:rect l="l" t="t" r="r" b="b"/>
                <a:pathLst>
                  <a:path w="88" h="94">
                    <a:moveTo>
                      <a:pt x="82" y="21"/>
                    </a:moveTo>
                    <a:lnTo>
                      <a:pt x="55" y="0"/>
                    </a:lnTo>
                    <a:lnTo>
                      <a:pt x="7" y="12"/>
                    </a:lnTo>
                    <a:lnTo>
                      <a:pt x="0" y="69"/>
                    </a:lnTo>
                    <a:lnTo>
                      <a:pt x="42" y="94"/>
                    </a:lnTo>
                    <a:lnTo>
                      <a:pt x="88" y="69"/>
                    </a:lnTo>
                    <a:lnTo>
                      <a:pt x="82" y="21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657720" y="3824640"/>
                <a:ext cx="95400" cy="212760"/>
              </a:xfrm>
              <a:custGeom>
                <a:avLst/>
                <a:gdLst/>
                <a:ahLst/>
                <a:rect l="l" t="t" r="r" b="b"/>
                <a:pathLst>
                  <a:path w="1157" h="2007">
                    <a:moveTo>
                      <a:pt x="35" y="1688"/>
                    </a:moveTo>
                    <a:lnTo>
                      <a:pt x="95" y="1780"/>
                    </a:lnTo>
                    <a:lnTo>
                      <a:pt x="251" y="1881"/>
                    </a:lnTo>
                    <a:lnTo>
                      <a:pt x="411" y="1937"/>
                    </a:lnTo>
                    <a:lnTo>
                      <a:pt x="596" y="1976"/>
                    </a:lnTo>
                    <a:lnTo>
                      <a:pt x="789" y="2007"/>
                    </a:lnTo>
                    <a:lnTo>
                      <a:pt x="895" y="1971"/>
                    </a:lnTo>
                    <a:lnTo>
                      <a:pt x="945" y="1911"/>
                    </a:lnTo>
                    <a:lnTo>
                      <a:pt x="956" y="1766"/>
                    </a:lnTo>
                    <a:lnTo>
                      <a:pt x="915" y="1577"/>
                    </a:lnTo>
                    <a:lnTo>
                      <a:pt x="875" y="1422"/>
                    </a:lnTo>
                    <a:lnTo>
                      <a:pt x="961" y="1317"/>
                    </a:lnTo>
                    <a:lnTo>
                      <a:pt x="1055" y="1143"/>
                    </a:lnTo>
                    <a:lnTo>
                      <a:pt x="1093" y="1009"/>
                    </a:lnTo>
                    <a:lnTo>
                      <a:pt x="1148" y="772"/>
                    </a:lnTo>
                    <a:lnTo>
                      <a:pt x="1157" y="648"/>
                    </a:lnTo>
                    <a:lnTo>
                      <a:pt x="1157" y="480"/>
                    </a:lnTo>
                    <a:lnTo>
                      <a:pt x="1125" y="231"/>
                    </a:lnTo>
                    <a:lnTo>
                      <a:pt x="994" y="14"/>
                    </a:lnTo>
                    <a:lnTo>
                      <a:pt x="411" y="0"/>
                    </a:lnTo>
                    <a:lnTo>
                      <a:pt x="129" y="378"/>
                    </a:lnTo>
                    <a:lnTo>
                      <a:pt x="0" y="576"/>
                    </a:lnTo>
                    <a:lnTo>
                      <a:pt x="5" y="733"/>
                    </a:lnTo>
                    <a:lnTo>
                      <a:pt x="69" y="1056"/>
                    </a:lnTo>
                    <a:lnTo>
                      <a:pt x="23" y="1568"/>
                    </a:lnTo>
                    <a:lnTo>
                      <a:pt x="35" y="1688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662400" y="3915360"/>
                <a:ext cx="10440" cy="24480"/>
              </a:xfrm>
              <a:custGeom>
                <a:avLst/>
                <a:gdLst/>
                <a:ahLst/>
                <a:rect l="l" t="t" r="r" b="b"/>
                <a:pathLst>
                  <a:path w="129" h="233">
                    <a:moveTo>
                      <a:pt x="33" y="12"/>
                    </a:moveTo>
                    <a:lnTo>
                      <a:pt x="67" y="0"/>
                    </a:lnTo>
                    <a:lnTo>
                      <a:pt x="101" y="25"/>
                    </a:lnTo>
                    <a:lnTo>
                      <a:pt x="129" y="79"/>
                    </a:lnTo>
                    <a:lnTo>
                      <a:pt x="123" y="194"/>
                    </a:lnTo>
                    <a:lnTo>
                      <a:pt x="81" y="233"/>
                    </a:lnTo>
                    <a:lnTo>
                      <a:pt x="0" y="194"/>
                    </a:lnTo>
                    <a:lnTo>
                      <a:pt x="0" y="95"/>
                    </a:lnTo>
                    <a:lnTo>
                      <a:pt x="33" y="12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748800" y="392220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4" h="123">
                    <a:moveTo>
                      <a:pt x="24" y="0"/>
                    </a:moveTo>
                    <a:lnTo>
                      <a:pt x="0" y="123"/>
                    </a:lnTo>
                    <a:lnTo>
                      <a:pt x="28" y="121"/>
                    </a:lnTo>
                    <a:lnTo>
                      <a:pt x="44" y="88"/>
                    </a:lnTo>
                    <a:lnTo>
                      <a:pt x="39" y="4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272520" y="4010400"/>
                <a:ext cx="433440" cy="410040"/>
              </a:xfrm>
              <a:custGeom>
                <a:avLst/>
                <a:gdLst/>
                <a:ahLst/>
                <a:rect l="l" t="t" r="r" b="b"/>
                <a:pathLst>
                  <a:path w="5233" h="3878">
                    <a:moveTo>
                      <a:pt x="4452" y="3024"/>
                    </a:moveTo>
                    <a:lnTo>
                      <a:pt x="4030" y="2787"/>
                    </a:lnTo>
                    <a:lnTo>
                      <a:pt x="3672" y="2893"/>
                    </a:lnTo>
                    <a:lnTo>
                      <a:pt x="3525" y="2812"/>
                    </a:lnTo>
                    <a:lnTo>
                      <a:pt x="3052" y="2393"/>
                    </a:lnTo>
                    <a:lnTo>
                      <a:pt x="2947" y="3010"/>
                    </a:lnTo>
                    <a:lnTo>
                      <a:pt x="3131" y="3089"/>
                    </a:lnTo>
                    <a:lnTo>
                      <a:pt x="3356" y="2999"/>
                    </a:lnTo>
                    <a:lnTo>
                      <a:pt x="3608" y="3076"/>
                    </a:lnTo>
                    <a:lnTo>
                      <a:pt x="3790" y="3063"/>
                    </a:lnTo>
                    <a:lnTo>
                      <a:pt x="4318" y="3052"/>
                    </a:lnTo>
                    <a:lnTo>
                      <a:pt x="4468" y="3234"/>
                    </a:lnTo>
                    <a:lnTo>
                      <a:pt x="4410" y="3612"/>
                    </a:lnTo>
                    <a:lnTo>
                      <a:pt x="4336" y="3681"/>
                    </a:lnTo>
                    <a:lnTo>
                      <a:pt x="3845" y="3681"/>
                    </a:lnTo>
                    <a:lnTo>
                      <a:pt x="1901" y="3878"/>
                    </a:lnTo>
                    <a:lnTo>
                      <a:pt x="11" y="3654"/>
                    </a:lnTo>
                    <a:lnTo>
                      <a:pt x="0" y="1987"/>
                    </a:lnTo>
                    <a:lnTo>
                      <a:pt x="103" y="1510"/>
                    </a:lnTo>
                    <a:lnTo>
                      <a:pt x="304" y="1037"/>
                    </a:lnTo>
                    <a:lnTo>
                      <a:pt x="408" y="892"/>
                    </a:lnTo>
                    <a:lnTo>
                      <a:pt x="685" y="590"/>
                    </a:lnTo>
                    <a:lnTo>
                      <a:pt x="975" y="394"/>
                    </a:lnTo>
                    <a:lnTo>
                      <a:pt x="1213" y="248"/>
                    </a:lnTo>
                    <a:lnTo>
                      <a:pt x="1466" y="145"/>
                    </a:lnTo>
                    <a:lnTo>
                      <a:pt x="1572" y="0"/>
                    </a:lnTo>
                    <a:lnTo>
                      <a:pt x="2604" y="343"/>
                    </a:lnTo>
                    <a:lnTo>
                      <a:pt x="2747" y="514"/>
                    </a:lnTo>
                    <a:lnTo>
                      <a:pt x="2947" y="643"/>
                    </a:lnTo>
                    <a:lnTo>
                      <a:pt x="3172" y="828"/>
                    </a:lnTo>
                    <a:lnTo>
                      <a:pt x="3474" y="1210"/>
                    </a:lnTo>
                    <a:lnTo>
                      <a:pt x="4307" y="1995"/>
                    </a:lnTo>
                    <a:lnTo>
                      <a:pt x="4491" y="2079"/>
                    </a:lnTo>
                    <a:lnTo>
                      <a:pt x="4544" y="2236"/>
                    </a:lnTo>
                    <a:lnTo>
                      <a:pt x="4956" y="2340"/>
                    </a:lnTo>
                    <a:lnTo>
                      <a:pt x="5140" y="2551"/>
                    </a:lnTo>
                    <a:lnTo>
                      <a:pt x="5233" y="2812"/>
                    </a:lnTo>
                    <a:lnTo>
                      <a:pt x="4452" y="3024"/>
                    </a:lnTo>
                    <a:close/>
                  </a:path>
                </a:pathLst>
              </a:custGeom>
              <a:solidFill>
                <a:srgbClr val="00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706320" y="4238280"/>
                <a:ext cx="66960" cy="134640"/>
              </a:xfrm>
              <a:custGeom>
                <a:avLst/>
                <a:gdLst/>
                <a:ahLst/>
                <a:rect l="l" t="t" r="r" b="b"/>
                <a:pathLst>
                  <a:path w="803" h="1268">
                    <a:moveTo>
                      <a:pt x="0" y="23"/>
                    </a:moveTo>
                    <a:lnTo>
                      <a:pt x="0" y="44"/>
                    </a:lnTo>
                    <a:lnTo>
                      <a:pt x="12" y="69"/>
                    </a:lnTo>
                    <a:lnTo>
                      <a:pt x="708" y="1183"/>
                    </a:lnTo>
                    <a:lnTo>
                      <a:pt x="803" y="1268"/>
                    </a:lnTo>
                    <a:lnTo>
                      <a:pt x="759" y="1139"/>
                    </a:lnTo>
                    <a:lnTo>
                      <a:pt x="61" y="5"/>
                    </a:lnTo>
                    <a:lnTo>
                      <a:pt x="19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655920" y="4296240"/>
                <a:ext cx="100080" cy="81000"/>
              </a:xfrm>
              <a:custGeom>
                <a:avLst/>
                <a:gdLst/>
                <a:ahLst/>
                <a:rect l="l" t="t" r="r" b="b"/>
                <a:pathLst>
                  <a:path w="1202" h="775">
                    <a:moveTo>
                      <a:pt x="0" y="289"/>
                    </a:moveTo>
                    <a:lnTo>
                      <a:pt x="63" y="132"/>
                    </a:lnTo>
                    <a:lnTo>
                      <a:pt x="182" y="66"/>
                    </a:lnTo>
                    <a:lnTo>
                      <a:pt x="287" y="81"/>
                    </a:lnTo>
                    <a:lnTo>
                      <a:pt x="487" y="118"/>
                    </a:lnTo>
                    <a:lnTo>
                      <a:pt x="607" y="28"/>
                    </a:lnTo>
                    <a:lnTo>
                      <a:pt x="709" y="0"/>
                    </a:lnTo>
                    <a:lnTo>
                      <a:pt x="1147" y="66"/>
                    </a:lnTo>
                    <a:lnTo>
                      <a:pt x="1188" y="171"/>
                    </a:lnTo>
                    <a:lnTo>
                      <a:pt x="1135" y="199"/>
                    </a:lnTo>
                    <a:lnTo>
                      <a:pt x="793" y="224"/>
                    </a:lnTo>
                    <a:lnTo>
                      <a:pt x="1162" y="382"/>
                    </a:lnTo>
                    <a:lnTo>
                      <a:pt x="1202" y="475"/>
                    </a:lnTo>
                    <a:lnTo>
                      <a:pt x="1174" y="552"/>
                    </a:lnTo>
                    <a:lnTo>
                      <a:pt x="1068" y="630"/>
                    </a:lnTo>
                    <a:lnTo>
                      <a:pt x="1029" y="738"/>
                    </a:lnTo>
                    <a:lnTo>
                      <a:pt x="709" y="775"/>
                    </a:lnTo>
                    <a:lnTo>
                      <a:pt x="130" y="710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397440" y="3897720"/>
                <a:ext cx="135720" cy="202320"/>
              </a:xfrm>
              <a:custGeom>
                <a:avLst/>
                <a:gdLst/>
                <a:ahLst/>
                <a:rect l="l" t="t" r="r" b="b"/>
                <a:pathLst>
                  <a:path w="1639" h="1907">
                    <a:moveTo>
                      <a:pt x="0" y="538"/>
                    </a:moveTo>
                    <a:lnTo>
                      <a:pt x="53" y="850"/>
                    </a:lnTo>
                    <a:lnTo>
                      <a:pt x="73" y="949"/>
                    </a:lnTo>
                    <a:lnTo>
                      <a:pt x="127" y="1008"/>
                    </a:lnTo>
                    <a:lnTo>
                      <a:pt x="99" y="1109"/>
                    </a:lnTo>
                    <a:lnTo>
                      <a:pt x="154" y="1217"/>
                    </a:lnTo>
                    <a:lnTo>
                      <a:pt x="207" y="1305"/>
                    </a:lnTo>
                    <a:lnTo>
                      <a:pt x="272" y="1409"/>
                    </a:lnTo>
                    <a:lnTo>
                      <a:pt x="495" y="1599"/>
                    </a:lnTo>
                    <a:lnTo>
                      <a:pt x="784" y="1907"/>
                    </a:lnTo>
                    <a:lnTo>
                      <a:pt x="822" y="1859"/>
                    </a:lnTo>
                    <a:lnTo>
                      <a:pt x="881" y="1736"/>
                    </a:lnTo>
                    <a:lnTo>
                      <a:pt x="905" y="1598"/>
                    </a:lnTo>
                    <a:lnTo>
                      <a:pt x="1030" y="1630"/>
                    </a:lnTo>
                    <a:lnTo>
                      <a:pt x="1155" y="1617"/>
                    </a:lnTo>
                    <a:lnTo>
                      <a:pt x="1213" y="1584"/>
                    </a:lnTo>
                    <a:lnTo>
                      <a:pt x="1270" y="1522"/>
                    </a:lnTo>
                    <a:lnTo>
                      <a:pt x="1429" y="1179"/>
                    </a:lnTo>
                    <a:lnTo>
                      <a:pt x="1510" y="1077"/>
                    </a:lnTo>
                    <a:lnTo>
                      <a:pt x="1572" y="905"/>
                    </a:lnTo>
                    <a:lnTo>
                      <a:pt x="1586" y="718"/>
                    </a:lnTo>
                    <a:lnTo>
                      <a:pt x="1618" y="632"/>
                    </a:lnTo>
                    <a:lnTo>
                      <a:pt x="1635" y="575"/>
                    </a:lnTo>
                    <a:lnTo>
                      <a:pt x="1639" y="261"/>
                    </a:lnTo>
                    <a:lnTo>
                      <a:pt x="1609" y="118"/>
                    </a:lnTo>
                    <a:lnTo>
                      <a:pt x="1540" y="0"/>
                    </a:lnTo>
                    <a:lnTo>
                      <a:pt x="207" y="155"/>
                    </a:lnTo>
                    <a:lnTo>
                      <a:pt x="0" y="538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455760" y="4108680"/>
                <a:ext cx="30240" cy="204120"/>
              </a:xfrm>
              <a:custGeom>
                <a:avLst/>
                <a:gdLst/>
                <a:ahLst/>
                <a:rect l="l" t="t" r="r" b="b"/>
                <a:pathLst>
                  <a:path w="369" h="1920">
                    <a:moveTo>
                      <a:pt x="92" y="0"/>
                    </a:moveTo>
                    <a:lnTo>
                      <a:pt x="40" y="52"/>
                    </a:lnTo>
                    <a:lnTo>
                      <a:pt x="0" y="142"/>
                    </a:lnTo>
                    <a:lnTo>
                      <a:pt x="27" y="313"/>
                    </a:lnTo>
                    <a:lnTo>
                      <a:pt x="14" y="973"/>
                    </a:lnTo>
                    <a:lnTo>
                      <a:pt x="40" y="1433"/>
                    </a:lnTo>
                    <a:lnTo>
                      <a:pt x="119" y="1920"/>
                    </a:lnTo>
                    <a:lnTo>
                      <a:pt x="200" y="1920"/>
                    </a:lnTo>
                    <a:lnTo>
                      <a:pt x="319" y="1920"/>
                    </a:lnTo>
                    <a:lnTo>
                      <a:pt x="369" y="1841"/>
                    </a:lnTo>
                    <a:lnTo>
                      <a:pt x="263" y="1498"/>
                    </a:lnTo>
                    <a:lnTo>
                      <a:pt x="212" y="1169"/>
                    </a:lnTo>
                    <a:lnTo>
                      <a:pt x="200" y="776"/>
                    </a:lnTo>
                    <a:lnTo>
                      <a:pt x="159" y="313"/>
                    </a:lnTo>
                    <a:lnTo>
                      <a:pt x="185" y="211"/>
                    </a:lnTo>
                    <a:lnTo>
                      <a:pt x="159" y="66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470880" y="3845880"/>
                <a:ext cx="75600" cy="99000"/>
              </a:xfrm>
              <a:custGeom>
                <a:avLst/>
                <a:gdLst/>
                <a:ahLst/>
                <a:rect l="l" t="t" r="r" b="b"/>
                <a:pathLst>
                  <a:path w="914" h="936">
                    <a:moveTo>
                      <a:pt x="635" y="499"/>
                    </a:moveTo>
                    <a:lnTo>
                      <a:pt x="714" y="607"/>
                    </a:lnTo>
                    <a:lnTo>
                      <a:pt x="844" y="936"/>
                    </a:lnTo>
                    <a:lnTo>
                      <a:pt x="899" y="855"/>
                    </a:lnTo>
                    <a:lnTo>
                      <a:pt x="914" y="581"/>
                    </a:lnTo>
                    <a:lnTo>
                      <a:pt x="914" y="510"/>
                    </a:lnTo>
                    <a:lnTo>
                      <a:pt x="859" y="462"/>
                    </a:lnTo>
                    <a:lnTo>
                      <a:pt x="767" y="381"/>
                    </a:lnTo>
                    <a:lnTo>
                      <a:pt x="686" y="224"/>
                    </a:lnTo>
                    <a:lnTo>
                      <a:pt x="541" y="79"/>
                    </a:lnTo>
                    <a:lnTo>
                      <a:pt x="356" y="40"/>
                    </a:lnTo>
                    <a:lnTo>
                      <a:pt x="145" y="0"/>
                    </a:lnTo>
                    <a:lnTo>
                      <a:pt x="0" y="51"/>
                    </a:lnTo>
                    <a:lnTo>
                      <a:pt x="15" y="593"/>
                    </a:lnTo>
                    <a:lnTo>
                      <a:pt x="635" y="499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462240" y="3952800"/>
                <a:ext cx="20160" cy="10080"/>
              </a:xfrm>
              <a:custGeom>
                <a:avLst/>
                <a:gdLst/>
                <a:ahLst/>
                <a:rect l="l" t="t" r="r" b="b"/>
                <a:pathLst>
                  <a:path w="251" h="93">
                    <a:moveTo>
                      <a:pt x="0" y="55"/>
                    </a:moveTo>
                    <a:lnTo>
                      <a:pt x="147" y="70"/>
                    </a:lnTo>
                    <a:lnTo>
                      <a:pt x="251" y="93"/>
                    </a:lnTo>
                    <a:lnTo>
                      <a:pt x="196" y="0"/>
                    </a:lnTo>
                    <a:lnTo>
                      <a:pt x="53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509400" y="3964680"/>
                <a:ext cx="15120" cy="11520"/>
              </a:xfrm>
              <a:custGeom>
                <a:avLst/>
                <a:gdLst/>
                <a:ahLst/>
                <a:rect l="l" t="t" r="r" b="b"/>
                <a:pathLst>
                  <a:path w="183" h="119">
                    <a:moveTo>
                      <a:pt x="0" y="66"/>
                    </a:moveTo>
                    <a:lnTo>
                      <a:pt x="106" y="119"/>
                    </a:lnTo>
                    <a:lnTo>
                      <a:pt x="183" y="105"/>
                    </a:lnTo>
                    <a:lnTo>
                      <a:pt x="172" y="77"/>
                    </a:lnTo>
                    <a:lnTo>
                      <a:pt x="37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687600" y="389160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18" h="86">
                    <a:moveTo>
                      <a:pt x="0" y="14"/>
                    </a:moveTo>
                    <a:lnTo>
                      <a:pt x="62" y="60"/>
                    </a:lnTo>
                    <a:lnTo>
                      <a:pt x="97" y="86"/>
                    </a:lnTo>
                    <a:lnTo>
                      <a:pt x="181" y="86"/>
                    </a:lnTo>
                    <a:lnTo>
                      <a:pt x="218" y="58"/>
                    </a:lnTo>
                    <a:lnTo>
                      <a:pt x="177" y="9"/>
                    </a:lnTo>
                    <a:lnTo>
                      <a:pt x="103" y="0"/>
                    </a:lnTo>
                    <a:lnTo>
                      <a:pt x="20" y="9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726840" y="3895200"/>
                <a:ext cx="17640" cy="8280"/>
              </a:xfrm>
              <a:custGeom>
                <a:avLst/>
                <a:gdLst/>
                <a:ahLst/>
                <a:rect l="l" t="t" r="r" b="b"/>
                <a:pathLst>
                  <a:path w="216" h="83">
                    <a:moveTo>
                      <a:pt x="0" y="48"/>
                    </a:moveTo>
                    <a:lnTo>
                      <a:pt x="50" y="7"/>
                    </a:lnTo>
                    <a:lnTo>
                      <a:pt x="130" y="0"/>
                    </a:lnTo>
                    <a:lnTo>
                      <a:pt x="216" y="35"/>
                    </a:lnTo>
                    <a:lnTo>
                      <a:pt x="163" y="66"/>
                    </a:lnTo>
                    <a:lnTo>
                      <a:pt x="121" y="81"/>
                    </a:lnTo>
                    <a:lnTo>
                      <a:pt x="75" y="83"/>
                    </a:lnTo>
                    <a:lnTo>
                      <a:pt x="18" y="62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700200" y="3946680"/>
                <a:ext cx="28080" cy="7560"/>
              </a:xfrm>
              <a:custGeom>
                <a:avLst/>
                <a:gdLst/>
                <a:ahLst/>
                <a:rect l="l" t="t" r="r" b="b"/>
                <a:pathLst>
                  <a:path w="350" h="67">
                    <a:moveTo>
                      <a:pt x="0" y="4"/>
                    </a:moveTo>
                    <a:lnTo>
                      <a:pt x="82" y="50"/>
                    </a:lnTo>
                    <a:lnTo>
                      <a:pt x="203" y="67"/>
                    </a:lnTo>
                    <a:lnTo>
                      <a:pt x="260" y="65"/>
                    </a:lnTo>
                    <a:lnTo>
                      <a:pt x="299" y="46"/>
                    </a:lnTo>
                    <a:lnTo>
                      <a:pt x="332" y="21"/>
                    </a:lnTo>
                    <a:lnTo>
                      <a:pt x="350" y="0"/>
                    </a:lnTo>
                    <a:lnTo>
                      <a:pt x="249" y="6"/>
                    </a:lnTo>
                    <a:lnTo>
                      <a:pt x="194" y="14"/>
                    </a:lnTo>
                    <a:lnTo>
                      <a:pt x="108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1180800" y="3977280"/>
                <a:ext cx="391680" cy="442440"/>
              </a:xfrm>
              <a:custGeom>
                <a:avLst/>
                <a:gdLst/>
                <a:ahLst/>
                <a:rect l="l" t="t" r="r" b="b"/>
                <a:pathLst>
                  <a:path w="4729" h="4178">
                    <a:moveTo>
                      <a:pt x="602" y="3182"/>
                    </a:moveTo>
                    <a:lnTo>
                      <a:pt x="1411" y="2760"/>
                    </a:lnTo>
                    <a:lnTo>
                      <a:pt x="1677" y="2463"/>
                    </a:lnTo>
                    <a:lnTo>
                      <a:pt x="1928" y="3087"/>
                    </a:lnTo>
                    <a:lnTo>
                      <a:pt x="1940" y="3300"/>
                    </a:lnTo>
                    <a:lnTo>
                      <a:pt x="1846" y="3325"/>
                    </a:lnTo>
                    <a:lnTo>
                      <a:pt x="1640" y="3288"/>
                    </a:lnTo>
                    <a:lnTo>
                      <a:pt x="1486" y="3279"/>
                    </a:lnTo>
                    <a:lnTo>
                      <a:pt x="1398" y="3241"/>
                    </a:lnTo>
                    <a:lnTo>
                      <a:pt x="1218" y="3265"/>
                    </a:lnTo>
                    <a:lnTo>
                      <a:pt x="1050" y="3230"/>
                    </a:lnTo>
                    <a:lnTo>
                      <a:pt x="844" y="3168"/>
                    </a:lnTo>
                    <a:lnTo>
                      <a:pt x="672" y="3254"/>
                    </a:lnTo>
                    <a:lnTo>
                      <a:pt x="541" y="3491"/>
                    </a:lnTo>
                    <a:lnTo>
                      <a:pt x="640" y="3841"/>
                    </a:lnTo>
                    <a:lnTo>
                      <a:pt x="1070" y="3903"/>
                    </a:lnTo>
                    <a:lnTo>
                      <a:pt x="1640" y="4032"/>
                    </a:lnTo>
                    <a:lnTo>
                      <a:pt x="2013" y="4139"/>
                    </a:lnTo>
                    <a:lnTo>
                      <a:pt x="2919" y="4178"/>
                    </a:lnTo>
                    <a:lnTo>
                      <a:pt x="3270" y="4153"/>
                    </a:lnTo>
                    <a:lnTo>
                      <a:pt x="3620" y="4056"/>
                    </a:lnTo>
                    <a:lnTo>
                      <a:pt x="4667" y="2951"/>
                    </a:lnTo>
                    <a:lnTo>
                      <a:pt x="4729" y="1824"/>
                    </a:lnTo>
                    <a:lnTo>
                      <a:pt x="4584" y="1298"/>
                    </a:lnTo>
                    <a:lnTo>
                      <a:pt x="4425" y="1019"/>
                    </a:lnTo>
                    <a:lnTo>
                      <a:pt x="4138" y="639"/>
                    </a:lnTo>
                    <a:lnTo>
                      <a:pt x="3595" y="384"/>
                    </a:lnTo>
                    <a:lnTo>
                      <a:pt x="3450" y="422"/>
                    </a:lnTo>
                    <a:lnTo>
                      <a:pt x="3342" y="362"/>
                    </a:lnTo>
                    <a:lnTo>
                      <a:pt x="3256" y="194"/>
                    </a:lnTo>
                    <a:lnTo>
                      <a:pt x="3053" y="121"/>
                    </a:lnTo>
                    <a:lnTo>
                      <a:pt x="2872" y="0"/>
                    </a:lnTo>
                    <a:lnTo>
                      <a:pt x="2666" y="12"/>
                    </a:lnTo>
                    <a:lnTo>
                      <a:pt x="1709" y="602"/>
                    </a:lnTo>
                    <a:lnTo>
                      <a:pt x="1558" y="720"/>
                    </a:lnTo>
                    <a:lnTo>
                      <a:pt x="1460" y="817"/>
                    </a:lnTo>
                    <a:lnTo>
                      <a:pt x="1281" y="911"/>
                    </a:lnTo>
                    <a:lnTo>
                      <a:pt x="1070" y="1503"/>
                    </a:lnTo>
                    <a:lnTo>
                      <a:pt x="1064" y="1702"/>
                    </a:lnTo>
                    <a:lnTo>
                      <a:pt x="989" y="1979"/>
                    </a:lnTo>
                    <a:lnTo>
                      <a:pt x="808" y="2039"/>
                    </a:lnTo>
                    <a:lnTo>
                      <a:pt x="723" y="2136"/>
                    </a:lnTo>
                    <a:lnTo>
                      <a:pt x="699" y="2259"/>
                    </a:lnTo>
                    <a:lnTo>
                      <a:pt x="578" y="2377"/>
                    </a:lnTo>
                    <a:lnTo>
                      <a:pt x="240" y="2606"/>
                    </a:lnTo>
                    <a:lnTo>
                      <a:pt x="0" y="2917"/>
                    </a:lnTo>
                    <a:lnTo>
                      <a:pt x="277" y="3145"/>
                    </a:lnTo>
                    <a:lnTo>
                      <a:pt x="602" y="31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1220760" y="4091040"/>
                <a:ext cx="115200" cy="230400"/>
              </a:xfrm>
              <a:custGeom>
                <a:avLst/>
                <a:gdLst/>
                <a:ahLst/>
                <a:rect l="l" t="t" r="r" b="b"/>
                <a:pathLst>
                  <a:path w="1387" h="2184">
                    <a:moveTo>
                      <a:pt x="691" y="312"/>
                    </a:moveTo>
                    <a:lnTo>
                      <a:pt x="679" y="433"/>
                    </a:lnTo>
                    <a:lnTo>
                      <a:pt x="712" y="479"/>
                    </a:lnTo>
                    <a:lnTo>
                      <a:pt x="807" y="528"/>
                    </a:lnTo>
                    <a:lnTo>
                      <a:pt x="859" y="578"/>
                    </a:lnTo>
                    <a:lnTo>
                      <a:pt x="859" y="683"/>
                    </a:lnTo>
                    <a:lnTo>
                      <a:pt x="664" y="731"/>
                    </a:lnTo>
                    <a:lnTo>
                      <a:pt x="605" y="731"/>
                    </a:lnTo>
                    <a:lnTo>
                      <a:pt x="555" y="671"/>
                    </a:lnTo>
                    <a:lnTo>
                      <a:pt x="508" y="899"/>
                    </a:lnTo>
                    <a:lnTo>
                      <a:pt x="290" y="1031"/>
                    </a:lnTo>
                    <a:lnTo>
                      <a:pt x="664" y="899"/>
                    </a:lnTo>
                    <a:lnTo>
                      <a:pt x="749" y="899"/>
                    </a:lnTo>
                    <a:lnTo>
                      <a:pt x="712" y="945"/>
                    </a:lnTo>
                    <a:lnTo>
                      <a:pt x="447" y="1103"/>
                    </a:lnTo>
                    <a:lnTo>
                      <a:pt x="726" y="1103"/>
                    </a:lnTo>
                    <a:lnTo>
                      <a:pt x="737" y="1213"/>
                    </a:lnTo>
                    <a:lnTo>
                      <a:pt x="133" y="1273"/>
                    </a:lnTo>
                    <a:lnTo>
                      <a:pt x="0" y="1369"/>
                    </a:lnTo>
                    <a:lnTo>
                      <a:pt x="170" y="1426"/>
                    </a:lnTo>
                    <a:lnTo>
                      <a:pt x="279" y="1525"/>
                    </a:lnTo>
                    <a:lnTo>
                      <a:pt x="290" y="1593"/>
                    </a:lnTo>
                    <a:lnTo>
                      <a:pt x="181" y="1690"/>
                    </a:lnTo>
                    <a:lnTo>
                      <a:pt x="181" y="1810"/>
                    </a:lnTo>
                    <a:lnTo>
                      <a:pt x="242" y="1932"/>
                    </a:lnTo>
                    <a:lnTo>
                      <a:pt x="84" y="2075"/>
                    </a:lnTo>
                    <a:lnTo>
                      <a:pt x="218" y="2184"/>
                    </a:lnTo>
                    <a:lnTo>
                      <a:pt x="373" y="2098"/>
                    </a:lnTo>
                    <a:lnTo>
                      <a:pt x="472" y="2123"/>
                    </a:lnTo>
                    <a:lnTo>
                      <a:pt x="679" y="1964"/>
                    </a:lnTo>
                    <a:lnTo>
                      <a:pt x="989" y="1630"/>
                    </a:lnTo>
                    <a:lnTo>
                      <a:pt x="1207" y="1379"/>
                    </a:lnTo>
                    <a:lnTo>
                      <a:pt x="1350" y="1752"/>
                    </a:lnTo>
                    <a:lnTo>
                      <a:pt x="1387" y="1358"/>
                    </a:lnTo>
                    <a:lnTo>
                      <a:pt x="1387" y="1199"/>
                    </a:lnTo>
                    <a:lnTo>
                      <a:pt x="1242" y="1093"/>
                    </a:lnTo>
                    <a:lnTo>
                      <a:pt x="1122" y="923"/>
                    </a:lnTo>
                    <a:lnTo>
                      <a:pt x="1014" y="740"/>
                    </a:lnTo>
                    <a:lnTo>
                      <a:pt x="930" y="528"/>
                    </a:lnTo>
                    <a:lnTo>
                      <a:pt x="834" y="228"/>
                    </a:lnTo>
                    <a:lnTo>
                      <a:pt x="800" y="0"/>
                    </a:lnTo>
                    <a:lnTo>
                      <a:pt x="700" y="215"/>
                    </a:lnTo>
                    <a:lnTo>
                      <a:pt x="691" y="3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1279080" y="4092480"/>
                <a:ext cx="236520" cy="331560"/>
              </a:xfrm>
              <a:custGeom>
                <a:avLst/>
                <a:gdLst/>
                <a:ahLst/>
                <a:rect l="l" t="t" r="r" b="b"/>
                <a:pathLst>
                  <a:path w="2861" h="3124">
                    <a:moveTo>
                      <a:pt x="988" y="1321"/>
                    </a:moveTo>
                    <a:lnTo>
                      <a:pt x="1377" y="1443"/>
                    </a:lnTo>
                    <a:lnTo>
                      <a:pt x="1691" y="1504"/>
                    </a:lnTo>
                    <a:lnTo>
                      <a:pt x="1909" y="1095"/>
                    </a:lnTo>
                    <a:lnTo>
                      <a:pt x="1895" y="698"/>
                    </a:lnTo>
                    <a:lnTo>
                      <a:pt x="2146" y="231"/>
                    </a:lnTo>
                    <a:lnTo>
                      <a:pt x="2642" y="0"/>
                    </a:lnTo>
                    <a:lnTo>
                      <a:pt x="2232" y="399"/>
                    </a:lnTo>
                    <a:lnTo>
                      <a:pt x="2111" y="770"/>
                    </a:lnTo>
                    <a:lnTo>
                      <a:pt x="2111" y="1168"/>
                    </a:lnTo>
                    <a:lnTo>
                      <a:pt x="2350" y="985"/>
                    </a:lnTo>
                    <a:lnTo>
                      <a:pt x="2665" y="627"/>
                    </a:lnTo>
                    <a:lnTo>
                      <a:pt x="2861" y="420"/>
                    </a:lnTo>
                    <a:lnTo>
                      <a:pt x="2861" y="590"/>
                    </a:lnTo>
                    <a:lnTo>
                      <a:pt x="2642" y="1010"/>
                    </a:lnTo>
                    <a:lnTo>
                      <a:pt x="2280" y="1478"/>
                    </a:lnTo>
                    <a:lnTo>
                      <a:pt x="1981" y="1741"/>
                    </a:lnTo>
                    <a:lnTo>
                      <a:pt x="1773" y="1838"/>
                    </a:lnTo>
                    <a:lnTo>
                      <a:pt x="1773" y="1959"/>
                    </a:lnTo>
                    <a:lnTo>
                      <a:pt x="1918" y="2188"/>
                    </a:lnTo>
                    <a:lnTo>
                      <a:pt x="2063" y="2545"/>
                    </a:lnTo>
                    <a:lnTo>
                      <a:pt x="1955" y="2451"/>
                    </a:lnTo>
                    <a:lnTo>
                      <a:pt x="1836" y="2333"/>
                    </a:lnTo>
                    <a:lnTo>
                      <a:pt x="1665" y="2257"/>
                    </a:lnTo>
                    <a:lnTo>
                      <a:pt x="1508" y="2222"/>
                    </a:lnTo>
                    <a:lnTo>
                      <a:pt x="1388" y="2197"/>
                    </a:lnTo>
                    <a:lnTo>
                      <a:pt x="1460" y="2429"/>
                    </a:lnTo>
                    <a:lnTo>
                      <a:pt x="1691" y="2621"/>
                    </a:lnTo>
                    <a:lnTo>
                      <a:pt x="1872" y="2725"/>
                    </a:lnTo>
                    <a:lnTo>
                      <a:pt x="1785" y="2534"/>
                    </a:lnTo>
                    <a:lnTo>
                      <a:pt x="1981" y="2582"/>
                    </a:lnTo>
                    <a:lnTo>
                      <a:pt x="2052" y="2750"/>
                    </a:lnTo>
                    <a:lnTo>
                      <a:pt x="2025" y="2978"/>
                    </a:lnTo>
                    <a:lnTo>
                      <a:pt x="1895" y="3110"/>
                    </a:lnTo>
                    <a:lnTo>
                      <a:pt x="1665" y="3124"/>
                    </a:lnTo>
                    <a:lnTo>
                      <a:pt x="1425" y="3001"/>
                    </a:lnTo>
                    <a:lnTo>
                      <a:pt x="1326" y="2796"/>
                    </a:lnTo>
                    <a:lnTo>
                      <a:pt x="1181" y="2400"/>
                    </a:lnTo>
                    <a:lnTo>
                      <a:pt x="988" y="2284"/>
                    </a:lnTo>
                    <a:lnTo>
                      <a:pt x="485" y="2391"/>
                    </a:lnTo>
                    <a:lnTo>
                      <a:pt x="171" y="2568"/>
                    </a:lnTo>
                    <a:lnTo>
                      <a:pt x="134" y="2499"/>
                    </a:lnTo>
                    <a:lnTo>
                      <a:pt x="217" y="2319"/>
                    </a:lnTo>
                    <a:lnTo>
                      <a:pt x="0" y="2400"/>
                    </a:lnTo>
                    <a:lnTo>
                      <a:pt x="87" y="2271"/>
                    </a:lnTo>
                    <a:lnTo>
                      <a:pt x="362" y="2197"/>
                    </a:lnTo>
                    <a:lnTo>
                      <a:pt x="558" y="2222"/>
                    </a:lnTo>
                    <a:lnTo>
                      <a:pt x="676" y="2234"/>
                    </a:lnTo>
                    <a:lnTo>
                      <a:pt x="950" y="2174"/>
                    </a:lnTo>
                    <a:lnTo>
                      <a:pt x="988" y="132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1356120" y="4091760"/>
                <a:ext cx="41760" cy="150840"/>
              </a:xfrm>
              <a:custGeom>
                <a:avLst/>
                <a:gdLst/>
                <a:ahLst/>
                <a:rect l="l" t="t" r="r" b="b"/>
                <a:pathLst>
                  <a:path w="507" h="1428">
                    <a:moveTo>
                      <a:pt x="143" y="1404"/>
                    </a:moveTo>
                    <a:lnTo>
                      <a:pt x="180" y="1130"/>
                    </a:lnTo>
                    <a:lnTo>
                      <a:pt x="242" y="780"/>
                    </a:lnTo>
                    <a:lnTo>
                      <a:pt x="242" y="613"/>
                    </a:lnTo>
                    <a:lnTo>
                      <a:pt x="194" y="446"/>
                    </a:lnTo>
                    <a:lnTo>
                      <a:pt x="206" y="312"/>
                    </a:lnTo>
                    <a:lnTo>
                      <a:pt x="266" y="134"/>
                    </a:lnTo>
                    <a:lnTo>
                      <a:pt x="507" y="158"/>
                    </a:lnTo>
                    <a:lnTo>
                      <a:pt x="143" y="0"/>
                    </a:lnTo>
                    <a:lnTo>
                      <a:pt x="0" y="325"/>
                    </a:lnTo>
                    <a:lnTo>
                      <a:pt x="21" y="1428"/>
                    </a:lnTo>
                    <a:lnTo>
                      <a:pt x="143" y="140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1407600" y="3975480"/>
                <a:ext cx="164880" cy="452520"/>
              </a:xfrm>
              <a:custGeom>
                <a:avLst/>
                <a:gdLst/>
                <a:ahLst/>
                <a:rect l="l" t="t" r="r" b="b"/>
                <a:pathLst>
                  <a:path w="1991" h="4272">
                    <a:moveTo>
                      <a:pt x="48" y="182"/>
                    </a:moveTo>
                    <a:lnTo>
                      <a:pt x="181" y="445"/>
                    </a:lnTo>
                    <a:lnTo>
                      <a:pt x="134" y="922"/>
                    </a:lnTo>
                    <a:lnTo>
                      <a:pt x="325" y="240"/>
                    </a:lnTo>
                    <a:lnTo>
                      <a:pt x="409" y="217"/>
                    </a:lnTo>
                    <a:lnTo>
                      <a:pt x="495" y="339"/>
                    </a:lnTo>
                    <a:lnTo>
                      <a:pt x="468" y="468"/>
                    </a:lnTo>
                    <a:lnTo>
                      <a:pt x="371" y="694"/>
                    </a:lnTo>
                    <a:lnTo>
                      <a:pt x="543" y="519"/>
                    </a:lnTo>
                    <a:lnTo>
                      <a:pt x="613" y="540"/>
                    </a:lnTo>
                    <a:lnTo>
                      <a:pt x="251" y="1092"/>
                    </a:lnTo>
                    <a:lnTo>
                      <a:pt x="903" y="481"/>
                    </a:lnTo>
                    <a:lnTo>
                      <a:pt x="1304" y="661"/>
                    </a:lnTo>
                    <a:lnTo>
                      <a:pt x="1387" y="936"/>
                    </a:lnTo>
                    <a:lnTo>
                      <a:pt x="1664" y="1189"/>
                    </a:lnTo>
                    <a:lnTo>
                      <a:pt x="1687" y="1452"/>
                    </a:lnTo>
                    <a:lnTo>
                      <a:pt x="1822" y="1659"/>
                    </a:lnTo>
                    <a:lnTo>
                      <a:pt x="1738" y="1909"/>
                    </a:lnTo>
                    <a:lnTo>
                      <a:pt x="1422" y="2038"/>
                    </a:lnTo>
                    <a:lnTo>
                      <a:pt x="1433" y="2138"/>
                    </a:lnTo>
                    <a:lnTo>
                      <a:pt x="1712" y="2366"/>
                    </a:lnTo>
                    <a:lnTo>
                      <a:pt x="1496" y="2388"/>
                    </a:lnTo>
                    <a:lnTo>
                      <a:pt x="1253" y="2280"/>
                    </a:lnTo>
                    <a:lnTo>
                      <a:pt x="1747" y="2748"/>
                    </a:lnTo>
                    <a:lnTo>
                      <a:pt x="1687" y="2806"/>
                    </a:lnTo>
                    <a:lnTo>
                      <a:pt x="1350" y="2748"/>
                    </a:lnTo>
                    <a:lnTo>
                      <a:pt x="1350" y="3061"/>
                    </a:lnTo>
                    <a:lnTo>
                      <a:pt x="1182" y="3252"/>
                    </a:lnTo>
                    <a:lnTo>
                      <a:pt x="1073" y="3156"/>
                    </a:lnTo>
                    <a:lnTo>
                      <a:pt x="806" y="3636"/>
                    </a:lnTo>
                    <a:lnTo>
                      <a:pt x="506" y="3898"/>
                    </a:lnTo>
                    <a:lnTo>
                      <a:pt x="387" y="4199"/>
                    </a:lnTo>
                    <a:lnTo>
                      <a:pt x="481" y="4272"/>
                    </a:lnTo>
                    <a:lnTo>
                      <a:pt x="1290" y="3995"/>
                    </a:lnTo>
                    <a:lnTo>
                      <a:pt x="1991" y="2833"/>
                    </a:lnTo>
                    <a:lnTo>
                      <a:pt x="1991" y="1821"/>
                    </a:lnTo>
                    <a:lnTo>
                      <a:pt x="1798" y="1199"/>
                    </a:lnTo>
                    <a:lnTo>
                      <a:pt x="1653" y="947"/>
                    </a:lnTo>
                    <a:lnTo>
                      <a:pt x="1521" y="828"/>
                    </a:lnTo>
                    <a:lnTo>
                      <a:pt x="1387" y="613"/>
                    </a:lnTo>
                    <a:lnTo>
                      <a:pt x="831" y="358"/>
                    </a:lnTo>
                    <a:lnTo>
                      <a:pt x="686" y="433"/>
                    </a:lnTo>
                    <a:lnTo>
                      <a:pt x="613" y="358"/>
                    </a:lnTo>
                    <a:lnTo>
                      <a:pt x="578" y="228"/>
                    </a:lnTo>
                    <a:lnTo>
                      <a:pt x="361" y="108"/>
                    </a:lnTo>
                    <a:lnTo>
                      <a:pt x="244" y="97"/>
                    </a:lnTo>
                    <a:lnTo>
                      <a:pt x="134" y="0"/>
                    </a:lnTo>
                    <a:lnTo>
                      <a:pt x="0" y="11"/>
                    </a:lnTo>
                    <a:lnTo>
                      <a:pt x="48" y="18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1336680" y="4066200"/>
                <a:ext cx="36360" cy="259920"/>
              </a:xfrm>
              <a:custGeom>
                <a:avLst/>
                <a:gdLst/>
                <a:ahLst/>
                <a:rect l="l" t="t" r="r" b="b"/>
                <a:pathLst>
                  <a:path w="434" h="2461">
                    <a:moveTo>
                      <a:pt x="276" y="0"/>
                    </a:moveTo>
                    <a:lnTo>
                      <a:pt x="166" y="72"/>
                    </a:lnTo>
                    <a:lnTo>
                      <a:pt x="106" y="204"/>
                    </a:lnTo>
                    <a:lnTo>
                      <a:pt x="96" y="326"/>
                    </a:lnTo>
                    <a:lnTo>
                      <a:pt x="106" y="688"/>
                    </a:lnTo>
                    <a:lnTo>
                      <a:pt x="72" y="962"/>
                    </a:lnTo>
                    <a:lnTo>
                      <a:pt x="37" y="1275"/>
                    </a:lnTo>
                    <a:lnTo>
                      <a:pt x="0" y="1504"/>
                    </a:lnTo>
                    <a:lnTo>
                      <a:pt x="0" y="1780"/>
                    </a:lnTo>
                    <a:lnTo>
                      <a:pt x="10" y="2029"/>
                    </a:lnTo>
                    <a:lnTo>
                      <a:pt x="145" y="2461"/>
                    </a:lnTo>
                    <a:lnTo>
                      <a:pt x="434" y="2391"/>
                    </a:lnTo>
                    <a:lnTo>
                      <a:pt x="311" y="1993"/>
                    </a:lnTo>
                    <a:lnTo>
                      <a:pt x="263" y="1684"/>
                    </a:lnTo>
                    <a:lnTo>
                      <a:pt x="287" y="1407"/>
                    </a:lnTo>
                    <a:lnTo>
                      <a:pt x="337" y="1130"/>
                    </a:lnTo>
                    <a:lnTo>
                      <a:pt x="397" y="879"/>
                    </a:lnTo>
                    <a:lnTo>
                      <a:pt x="397" y="734"/>
                    </a:lnTo>
                    <a:lnTo>
                      <a:pt x="360" y="602"/>
                    </a:lnTo>
                    <a:lnTo>
                      <a:pt x="311" y="519"/>
                    </a:lnTo>
                    <a:lnTo>
                      <a:pt x="325" y="194"/>
                    </a:lnTo>
                    <a:lnTo>
                      <a:pt x="337" y="12"/>
                    </a:lnTo>
                    <a:lnTo>
                      <a:pt x="276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1129680" y="4265640"/>
                <a:ext cx="109440" cy="114120"/>
              </a:xfrm>
              <a:custGeom>
                <a:avLst/>
                <a:gdLst/>
                <a:ahLst/>
                <a:rect l="l" t="t" r="r" b="b"/>
                <a:pathLst>
                  <a:path w="1314" h="1079">
                    <a:moveTo>
                      <a:pt x="374" y="0"/>
                    </a:moveTo>
                    <a:lnTo>
                      <a:pt x="300" y="35"/>
                    </a:lnTo>
                    <a:lnTo>
                      <a:pt x="300" y="97"/>
                    </a:lnTo>
                    <a:lnTo>
                      <a:pt x="194" y="143"/>
                    </a:lnTo>
                    <a:lnTo>
                      <a:pt x="167" y="192"/>
                    </a:lnTo>
                    <a:lnTo>
                      <a:pt x="129" y="335"/>
                    </a:lnTo>
                    <a:lnTo>
                      <a:pt x="24" y="395"/>
                    </a:lnTo>
                    <a:lnTo>
                      <a:pt x="0" y="613"/>
                    </a:lnTo>
                    <a:lnTo>
                      <a:pt x="59" y="830"/>
                    </a:lnTo>
                    <a:lnTo>
                      <a:pt x="290" y="934"/>
                    </a:lnTo>
                    <a:lnTo>
                      <a:pt x="662" y="1056"/>
                    </a:lnTo>
                    <a:lnTo>
                      <a:pt x="938" y="1068"/>
                    </a:lnTo>
                    <a:lnTo>
                      <a:pt x="1241" y="1079"/>
                    </a:lnTo>
                    <a:lnTo>
                      <a:pt x="1217" y="925"/>
                    </a:lnTo>
                    <a:lnTo>
                      <a:pt x="1217" y="817"/>
                    </a:lnTo>
                    <a:lnTo>
                      <a:pt x="1229" y="699"/>
                    </a:lnTo>
                    <a:lnTo>
                      <a:pt x="1314" y="529"/>
                    </a:lnTo>
                    <a:lnTo>
                      <a:pt x="1229" y="480"/>
                    </a:lnTo>
                    <a:lnTo>
                      <a:pt x="1156" y="408"/>
                    </a:lnTo>
                    <a:lnTo>
                      <a:pt x="1096" y="309"/>
                    </a:lnTo>
                    <a:lnTo>
                      <a:pt x="1024" y="226"/>
                    </a:lnTo>
                    <a:lnTo>
                      <a:pt x="950" y="167"/>
                    </a:lnTo>
                    <a:lnTo>
                      <a:pt x="879" y="143"/>
                    </a:lnTo>
                    <a:lnTo>
                      <a:pt x="769" y="167"/>
                    </a:lnTo>
                    <a:lnTo>
                      <a:pt x="637" y="204"/>
                    </a:lnTo>
                    <a:lnTo>
                      <a:pt x="588" y="180"/>
                    </a:lnTo>
                    <a:lnTo>
                      <a:pt x="528" y="59"/>
                    </a:lnTo>
                    <a:lnTo>
                      <a:pt x="470" y="26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1278360" y="3841560"/>
                <a:ext cx="149760" cy="227880"/>
              </a:xfrm>
              <a:custGeom>
                <a:avLst/>
                <a:gdLst/>
                <a:ahLst/>
                <a:rect l="l" t="t" r="r" b="b"/>
                <a:pathLst>
                  <a:path w="1808" h="2151">
                    <a:moveTo>
                      <a:pt x="1784" y="591"/>
                    </a:moveTo>
                    <a:lnTo>
                      <a:pt x="1808" y="681"/>
                    </a:lnTo>
                    <a:lnTo>
                      <a:pt x="1803" y="758"/>
                    </a:lnTo>
                    <a:lnTo>
                      <a:pt x="1773" y="877"/>
                    </a:lnTo>
                    <a:lnTo>
                      <a:pt x="1698" y="1052"/>
                    </a:lnTo>
                    <a:lnTo>
                      <a:pt x="1573" y="1178"/>
                    </a:lnTo>
                    <a:lnTo>
                      <a:pt x="1459" y="1701"/>
                    </a:lnTo>
                    <a:lnTo>
                      <a:pt x="1289" y="1884"/>
                    </a:lnTo>
                    <a:lnTo>
                      <a:pt x="1164" y="2022"/>
                    </a:lnTo>
                    <a:lnTo>
                      <a:pt x="1091" y="2133"/>
                    </a:lnTo>
                    <a:lnTo>
                      <a:pt x="1045" y="2151"/>
                    </a:lnTo>
                    <a:lnTo>
                      <a:pt x="835" y="1868"/>
                    </a:lnTo>
                    <a:lnTo>
                      <a:pt x="657" y="1890"/>
                    </a:lnTo>
                    <a:lnTo>
                      <a:pt x="569" y="1890"/>
                    </a:lnTo>
                    <a:lnTo>
                      <a:pt x="512" y="1852"/>
                    </a:lnTo>
                    <a:lnTo>
                      <a:pt x="477" y="1791"/>
                    </a:lnTo>
                    <a:lnTo>
                      <a:pt x="429" y="1628"/>
                    </a:lnTo>
                    <a:lnTo>
                      <a:pt x="289" y="1351"/>
                    </a:lnTo>
                    <a:lnTo>
                      <a:pt x="141" y="1169"/>
                    </a:lnTo>
                    <a:lnTo>
                      <a:pt x="107" y="1022"/>
                    </a:lnTo>
                    <a:lnTo>
                      <a:pt x="76" y="872"/>
                    </a:lnTo>
                    <a:lnTo>
                      <a:pt x="28" y="653"/>
                    </a:lnTo>
                    <a:lnTo>
                      <a:pt x="0" y="353"/>
                    </a:lnTo>
                    <a:lnTo>
                      <a:pt x="24" y="208"/>
                    </a:lnTo>
                    <a:lnTo>
                      <a:pt x="76" y="99"/>
                    </a:lnTo>
                    <a:lnTo>
                      <a:pt x="1324" y="0"/>
                    </a:lnTo>
                    <a:lnTo>
                      <a:pt x="1698" y="433"/>
                    </a:lnTo>
                    <a:lnTo>
                      <a:pt x="1784" y="59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1292400" y="3929760"/>
                <a:ext cx="12240" cy="11880"/>
              </a:xfrm>
              <a:custGeom>
                <a:avLst/>
                <a:gdLst/>
                <a:ahLst/>
                <a:rect l="l" t="t" r="r" b="b"/>
                <a:pathLst>
                  <a:path w="152" h="113">
                    <a:moveTo>
                      <a:pt x="0" y="83"/>
                    </a:moveTo>
                    <a:lnTo>
                      <a:pt x="49" y="113"/>
                    </a:lnTo>
                    <a:lnTo>
                      <a:pt x="152" y="79"/>
                    </a:lnTo>
                    <a:lnTo>
                      <a:pt x="152" y="0"/>
                    </a:lnTo>
                    <a:lnTo>
                      <a:pt x="33" y="16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1338840" y="3917880"/>
                <a:ext cx="18360" cy="8280"/>
              </a:xfrm>
              <a:custGeom>
                <a:avLst/>
                <a:gdLst/>
                <a:ahLst/>
                <a:rect l="l" t="t" r="r" b="b"/>
                <a:pathLst>
                  <a:path w="231" h="83">
                    <a:moveTo>
                      <a:pt x="27" y="83"/>
                    </a:moveTo>
                    <a:lnTo>
                      <a:pt x="130" y="74"/>
                    </a:lnTo>
                    <a:lnTo>
                      <a:pt x="231" y="47"/>
                    </a:lnTo>
                    <a:lnTo>
                      <a:pt x="104" y="0"/>
                    </a:lnTo>
                    <a:lnTo>
                      <a:pt x="0" y="0"/>
                    </a:lnTo>
                    <a:lnTo>
                      <a:pt x="27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1279080" y="3810960"/>
                <a:ext cx="119880" cy="47160"/>
              </a:xfrm>
              <a:custGeom>
                <a:avLst/>
                <a:gdLst/>
                <a:ahLst/>
                <a:rect l="l" t="t" r="r" b="b"/>
                <a:pathLst>
                  <a:path w="1451" h="452">
                    <a:moveTo>
                      <a:pt x="110" y="41"/>
                    </a:moveTo>
                    <a:lnTo>
                      <a:pt x="237" y="0"/>
                    </a:lnTo>
                    <a:lnTo>
                      <a:pt x="603" y="0"/>
                    </a:lnTo>
                    <a:lnTo>
                      <a:pt x="1255" y="165"/>
                    </a:lnTo>
                    <a:lnTo>
                      <a:pt x="1451" y="391"/>
                    </a:lnTo>
                    <a:lnTo>
                      <a:pt x="1134" y="318"/>
                    </a:lnTo>
                    <a:lnTo>
                      <a:pt x="981" y="360"/>
                    </a:lnTo>
                    <a:lnTo>
                      <a:pt x="846" y="424"/>
                    </a:lnTo>
                    <a:lnTo>
                      <a:pt x="647" y="452"/>
                    </a:lnTo>
                    <a:lnTo>
                      <a:pt x="426" y="444"/>
                    </a:lnTo>
                    <a:lnTo>
                      <a:pt x="218" y="391"/>
                    </a:lnTo>
                    <a:lnTo>
                      <a:pt x="68" y="318"/>
                    </a:lnTo>
                    <a:lnTo>
                      <a:pt x="16" y="251"/>
                    </a:lnTo>
                    <a:lnTo>
                      <a:pt x="0" y="186"/>
                    </a:lnTo>
                    <a:lnTo>
                      <a:pt x="4" y="129"/>
                    </a:lnTo>
                    <a:lnTo>
                      <a:pt x="110" y="4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1372680" y="3855240"/>
                <a:ext cx="58320" cy="65880"/>
              </a:xfrm>
              <a:custGeom>
                <a:avLst/>
                <a:gdLst/>
                <a:ahLst/>
                <a:rect l="l" t="t" r="r" b="b"/>
                <a:pathLst>
                  <a:path w="700" h="629">
                    <a:moveTo>
                      <a:pt x="666" y="482"/>
                    </a:moveTo>
                    <a:lnTo>
                      <a:pt x="548" y="411"/>
                    </a:lnTo>
                    <a:lnTo>
                      <a:pt x="449" y="405"/>
                    </a:lnTo>
                    <a:lnTo>
                      <a:pt x="392" y="482"/>
                    </a:lnTo>
                    <a:lnTo>
                      <a:pt x="378" y="629"/>
                    </a:lnTo>
                    <a:lnTo>
                      <a:pt x="173" y="604"/>
                    </a:lnTo>
                    <a:lnTo>
                      <a:pt x="182" y="528"/>
                    </a:lnTo>
                    <a:lnTo>
                      <a:pt x="139" y="433"/>
                    </a:lnTo>
                    <a:lnTo>
                      <a:pt x="76" y="374"/>
                    </a:lnTo>
                    <a:lnTo>
                      <a:pt x="36" y="350"/>
                    </a:lnTo>
                    <a:lnTo>
                      <a:pt x="0" y="141"/>
                    </a:lnTo>
                    <a:lnTo>
                      <a:pt x="286" y="0"/>
                    </a:lnTo>
                    <a:lnTo>
                      <a:pt x="588" y="110"/>
                    </a:lnTo>
                    <a:lnTo>
                      <a:pt x="632" y="360"/>
                    </a:lnTo>
                    <a:lnTo>
                      <a:pt x="700" y="447"/>
                    </a:lnTo>
                    <a:lnTo>
                      <a:pt x="666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1366560" y="3842640"/>
                <a:ext cx="64080" cy="67320"/>
              </a:xfrm>
              <a:custGeom>
                <a:avLst/>
                <a:gdLst/>
                <a:ahLst/>
                <a:rect l="l" t="t" r="r" b="b"/>
                <a:pathLst>
                  <a:path w="775" h="641">
                    <a:moveTo>
                      <a:pt x="747" y="575"/>
                    </a:moveTo>
                    <a:lnTo>
                      <a:pt x="701" y="518"/>
                    </a:lnTo>
                    <a:lnTo>
                      <a:pt x="643" y="461"/>
                    </a:lnTo>
                    <a:lnTo>
                      <a:pt x="608" y="397"/>
                    </a:lnTo>
                    <a:lnTo>
                      <a:pt x="617" y="309"/>
                    </a:lnTo>
                    <a:lnTo>
                      <a:pt x="586" y="261"/>
                    </a:lnTo>
                    <a:lnTo>
                      <a:pt x="530" y="230"/>
                    </a:lnTo>
                    <a:lnTo>
                      <a:pt x="496" y="226"/>
                    </a:lnTo>
                    <a:lnTo>
                      <a:pt x="440" y="230"/>
                    </a:lnTo>
                    <a:lnTo>
                      <a:pt x="488" y="316"/>
                    </a:lnTo>
                    <a:lnTo>
                      <a:pt x="571" y="397"/>
                    </a:lnTo>
                    <a:lnTo>
                      <a:pt x="440" y="316"/>
                    </a:lnTo>
                    <a:lnTo>
                      <a:pt x="343" y="274"/>
                    </a:lnTo>
                    <a:lnTo>
                      <a:pt x="242" y="283"/>
                    </a:lnTo>
                    <a:lnTo>
                      <a:pt x="161" y="288"/>
                    </a:lnTo>
                    <a:lnTo>
                      <a:pt x="118" y="300"/>
                    </a:lnTo>
                    <a:lnTo>
                      <a:pt x="152" y="371"/>
                    </a:lnTo>
                    <a:lnTo>
                      <a:pt x="320" y="378"/>
                    </a:lnTo>
                    <a:lnTo>
                      <a:pt x="454" y="447"/>
                    </a:lnTo>
                    <a:lnTo>
                      <a:pt x="336" y="447"/>
                    </a:lnTo>
                    <a:lnTo>
                      <a:pt x="384" y="518"/>
                    </a:lnTo>
                    <a:lnTo>
                      <a:pt x="413" y="602"/>
                    </a:lnTo>
                    <a:lnTo>
                      <a:pt x="378" y="641"/>
                    </a:lnTo>
                    <a:lnTo>
                      <a:pt x="274" y="586"/>
                    </a:lnTo>
                    <a:lnTo>
                      <a:pt x="182" y="542"/>
                    </a:lnTo>
                    <a:lnTo>
                      <a:pt x="161" y="503"/>
                    </a:lnTo>
                    <a:lnTo>
                      <a:pt x="90" y="480"/>
                    </a:lnTo>
                    <a:lnTo>
                      <a:pt x="57" y="378"/>
                    </a:lnTo>
                    <a:lnTo>
                      <a:pt x="48" y="239"/>
                    </a:lnTo>
                    <a:lnTo>
                      <a:pt x="23" y="191"/>
                    </a:lnTo>
                    <a:lnTo>
                      <a:pt x="39" y="136"/>
                    </a:lnTo>
                    <a:lnTo>
                      <a:pt x="0" y="127"/>
                    </a:lnTo>
                    <a:lnTo>
                      <a:pt x="48" y="78"/>
                    </a:lnTo>
                    <a:lnTo>
                      <a:pt x="175" y="63"/>
                    </a:lnTo>
                    <a:lnTo>
                      <a:pt x="343" y="85"/>
                    </a:lnTo>
                    <a:lnTo>
                      <a:pt x="518" y="0"/>
                    </a:lnTo>
                    <a:lnTo>
                      <a:pt x="622" y="94"/>
                    </a:lnTo>
                    <a:lnTo>
                      <a:pt x="678" y="182"/>
                    </a:lnTo>
                    <a:lnTo>
                      <a:pt x="692" y="274"/>
                    </a:lnTo>
                    <a:lnTo>
                      <a:pt x="701" y="406"/>
                    </a:lnTo>
                    <a:lnTo>
                      <a:pt x="705" y="489"/>
                    </a:lnTo>
                    <a:lnTo>
                      <a:pt x="775" y="595"/>
                    </a:lnTo>
                    <a:lnTo>
                      <a:pt x="747" y="57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931680" y="3930480"/>
                <a:ext cx="357840" cy="338760"/>
              </a:xfrm>
              <a:custGeom>
                <a:avLst/>
                <a:gdLst/>
                <a:ahLst/>
                <a:rect l="l" t="t" r="r" b="b"/>
                <a:pathLst>
                  <a:path w="4318" h="3200">
                    <a:moveTo>
                      <a:pt x="4072" y="2092"/>
                    </a:moveTo>
                    <a:lnTo>
                      <a:pt x="4095" y="1897"/>
                    </a:lnTo>
                    <a:lnTo>
                      <a:pt x="4208" y="1706"/>
                    </a:lnTo>
                    <a:lnTo>
                      <a:pt x="4318" y="1345"/>
                    </a:lnTo>
                    <a:lnTo>
                      <a:pt x="4249" y="1246"/>
                    </a:lnTo>
                    <a:lnTo>
                      <a:pt x="4090" y="1246"/>
                    </a:lnTo>
                    <a:lnTo>
                      <a:pt x="3986" y="1086"/>
                    </a:lnTo>
                    <a:lnTo>
                      <a:pt x="3929" y="1035"/>
                    </a:lnTo>
                    <a:lnTo>
                      <a:pt x="3909" y="1035"/>
                    </a:lnTo>
                    <a:lnTo>
                      <a:pt x="3808" y="1057"/>
                    </a:lnTo>
                    <a:lnTo>
                      <a:pt x="3498" y="561"/>
                    </a:lnTo>
                    <a:lnTo>
                      <a:pt x="3329" y="459"/>
                    </a:lnTo>
                    <a:lnTo>
                      <a:pt x="3087" y="139"/>
                    </a:lnTo>
                    <a:lnTo>
                      <a:pt x="2935" y="99"/>
                    </a:lnTo>
                    <a:lnTo>
                      <a:pt x="2834" y="132"/>
                    </a:lnTo>
                    <a:lnTo>
                      <a:pt x="2723" y="113"/>
                    </a:lnTo>
                    <a:lnTo>
                      <a:pt x="2615" y="148"/>
                    </a:lnTo>
                    <a:lnTo>
                      <a:pt x="2327" y="180"/>
                    </a:lnTo>
                    <a:lnTo>
                      <a:pt x="2237" y="148"/>
                    </a:lnTo>
                    <a:lnTo>
                      <a:pt x="2126" y="189"/>
                    </a:lnTo>
                    <a:lnTo>
                      <a:pt x="2057" y="113"/>
                    </a:lnTo>
                    <a:lnTo>
                      <a:pt x="1973" y="31"/>
                    </a:lnTo>
                    <a:lnTo>
                      <a:pt x="1914" y="0"/>
                    </a:lnTo>
                    <a:lnTo>
                      <a:pt x="1232" y="249"/>
                    </a:lnTo>
                    <a:lnTo>
                      <a:pt x="1171" y="420"/>
                    </a:lnTo>
                    <a:lnTo>
                      <a:pt x="853" y="589"/>
                    </a:lnTo>
                    <a:lnTo>
                      <a:pt x="632" y="627"/>
                    </a:lnTo>
                    <a:lnTo>
                      <a:pt x="441" y="807"/>
                    </a:lnTo>
                    <a:lnTo>
                      <a:pt x="413" y="910"/>
                    </a:lnTo>
                    <a:lnTo>
                      <a:pt x="371" y="1015"/>
                    </a:lnTo>
                    <a:lnTo>
                      <a:pt x="259" y="1356"/>
                    </a:lnTo>
                    <a:lnTo>
                      <a:pt x="210" y="1624"/>
                    </a:lnTo>
                    <a:lnTo>
                      <a:pt x="270" y="1854"/>
                    </a:lnTo>
                    <a:lnTo>
                      <a:pt x="180" y="2075"/>
                    </a:lnTo>
                    <a:lnTo>
                      <a:pt x="90" y="2103"/>
                    </a:lnTo>
                    <a:lnTo>
                      <a:pt x="0" y="2193"/>
                    </a:lnTo>
                    <a:lnTo>
                      <a:pt x="191" y="2792"/>
                    </a:lnTo>
                    <a:lnTo>
                      <a:pt x="399" y="2861"/>
                    </a:lnTo>
                    <a:lnTo>
                      <a:pt x="761" y="2613"/>
                    </a:lnTo>
                    <a:lnTo>
                      <a:pt x="1042" y="1945"/>
                    </a:lnTo>
                    <a:lnTo>
                      <a:pt x="1211" y="2262"/>
                    </a:lnTo>
                    <a:lnTo>
                      <a:pt x="1303" y="2771"/>
                    </a:lnTo>
                    <a:lnTo>
                      <a:pt x="1232" y="2903"/>
                    </a:lnTo>
                    <a:lnTo>
                      <a:pt x="1204" y="3129"/>
                    </a:lnTo>
                    <a:lnTo>
                      <a:pt x="1261" y="3200"/>
                    </a:lnTo>
                    <a:lnTo>
                      <a:pt x="3408" y="2892"/>
                    </a:lnTo>
                    <a:lnTo>
                      <a:pt x="3355" y="1517"/>
                    </a:lnTo>
                    <a:lnTo>
                      <a:pt x="3569" y="1695"/>
                    </a:lnTo>
                    <a:lnTo>
                      <a:pt x="3707" y="1714"/>
                    </a:lnTo>
                    <a:lnTo>
                      <a:pt x="3777" y="1846"/>
                    </a:lnTo>
                    <a:lnTo>
                      <a:pt x="3938" y="1854"/>
                    </a:lnTo>
                    <a:lnTo>
                      <a:pt x="4028" y="1994"/>
                    </a:lnTo>
                    <a:lnTo>
                      <a:pt x="4072" y="20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1115280" y="4228920"/>
                <a:ext cx="33120" cy="29520"/>
              </a:xfrm>
              <a:custGeom>
                <a:avLst/>
                <a:gdLst/>
                <a:ahLst/>
                <a:rect l="l" t="t" r="r" b="b"/>
                <a:pathLst>
                  <a:path w="400" h="279">
                    <a:moveTo>
                      <a:pt x="279" y="0"/>
                    </a:moveTo>
                    <a:lnTo>
                      <a:pt x="130" y="0"/>
                    </a:lnTo>
                    <a:lnTo>
                      <a:pt x="8" y="83"/>
                    </a:lnTo>
                    <a:lnTo>
                      <a:pt x="0" y="242"/>
                    </a:lnTo>
                    <a:lnTo>
                      <a:pt x="40" y="279"/>
                    </a:lnTo>
                    <a:lnTo>
                      <a:pt x="391" y="210"/>
                    </a:lnTo>
                    <a:lnTo>
                      <a:pt x="400" y="162"/>
                    </a:lnTo>
                    <a:lnTo>
                      <a:pt x="349" y="30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949680" y="4031640"/>
                <a:ext cx="18360" cy="104040"/>
              </a:xfrm>
              <a:custGeom>
                <a:avLst/>
                <a:gdLst/>
                <a:ahLst/>
                <a:rect l="l" t="t" r="r" b="b"/>
                <a:pathLst>
                  <a:path w="231" h="977">
                    <a:moveTo>
                      <a:pt x="183" y="0"/>
                    </a:moveTo>
                    <a:lnTo>
                      <a:pt x="183" y="283"/>
                    </a:lnTo>
                    <a:lnTo>
                      <a:pt x="231" y="659"/>
                    </a:lnTo>
                    <a:lnTo>
                      <a:pt x="90" y="648"/>
                    </a:lnTo>
                    <a:lnTo>
                      <a:pt x="210" y="856"/>
                    </a:lnTo>
                    <a:lnTo>
                      <a:pt x="148" y="977"/>
                    </a:lnTo>
                    <a:lnTo>
                      <a:pt x="0" y="687"/>
                    </a:lnTo>
                    <a:lnTo>
                      <a:pt x="0" y="560"/>
                    </a:lnTo>
                    <a:lnTo>
                      <a:pt x="130" y="129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936360" y="4073760"/>
                <a:ext cx="83160" cy="158400"/>
              </a:xfrm>
              <a:custGeom>
                <a:avLst/>
                <a:gdLst/>
                <a:ahLst/>
                <a:rect l="l" t="t" r="r" b="b"/>
                <a:pathLst>
                  <a:path w="1008" h="1494">
                    <a:moveTo>
                      <a:pt x="0" y="778"/>
                    </a:moveTo>
                    <a:lnTo>
                      <a:pt x="28" y="837"/>
                    </a:lnTo>
                    <a:lnTo>
                      <a:pt x="28" y="975"/>
                    </a:lnTo>
                    <a:lnTo>
                      <a:pt x="99" y="1156"/>
                    </a:lnTo>
                    <a:lnTo>
                      <a:pt x="159" y="1048"/>
                    </a:lnTo>
                    <a:lnTo>
                      <a:pt x="281" y="1305"/>
                    </a:lnTo>
                    <a:lnTo>
                      <a:pt x="120" y="1378"/>
                    </a:lnTo>
                    <a:lnTo>
                      <a:pt x="342" y="1494"/>
                    </a:lnTo>
                    <a:lnTo>
                      <a:pt x="648" y="1385"/>
                    </a:lnTo>
                    <a:lnTo>
                      <a:pt x="839" y="1057"/>
                    </a:lnTo>
                    <a:lnTo>
                      <a:pt x="883" y="820"/>
                    </a:lnTo>
                    <a:lnTo>
                      <a:pt x="911" y="589"/>
                    </a:lnTo>
                    <a:lnTo>
                      <a:pt x="1008" y="310"/>
                    </a:lnTo>
                    <a:lnTo>
                      <a:pt x="869" y="30"/>
                    </a:lnTo>
                    <a:lnTo>
                      <a:pt x="812" y="0"/>
                    </a:lnTo>
                    <a:lnTo>
                      <a:pt x="710" y="279"/>
                    </a:lnTo>
                    <a:lnTo>
                      <a:pt x="779" y="350"/>
                    </a:lnTo>
                    <a:lnTo>
                      <a:pt x="890" y="400"/>
                    </a:lnTo>
                    <a:lnTo>
                      <a:pt x="770" y="679"/>
                    </a:lnTo>
                    <a:lnTo>
                      <a:pt x="770" y="848"/>
                    </a:lnTo>
                    <a:lnTo>
                      <a:pt x="648" y="1026"/>
                    </a:lnTo>
                    <a:lnTo>
                      <a:pt x="438" y="1057"/>
                    </a:lnTo>
                    <a:lnTo>
                      <a:pt x="307" y="589"/>
                    </a:lnTo>
                    <a:lnTo>
                      <a:pt x="69" y="736"/>
                    </a:lnTo>
                    <a:lnTo>
                      <a:pt x="0" y="77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1013760" y="3980520"/>
                <a:ext cx="195120" cy="290520"/>
              </a:xfrm>
              <a:custGeom>
                <a:avLst/>
                <a:gdLst/>
                <a:ahLst/>
                <a:rect l="l" t="t" r="r" b="b"/>
                <a:pathLst>
                  <a:path w="2355" h="2742">
                    <a:moveTo>
                      <a:pt x="303" y="558"/>
                    </a:moveTo>
                    <a:lnTo>
                      <a:pt x="413" y="639"/>
                    </a:lnTo>
                    <a:lnTo>
                      <a:pt x="289" y="1119"/>
                    </a:lnTo>
                    <a:lnTo>
                      <a:pt x="289" y="1398"/>
                    </a:lnTo>
                    <a:lnTo>
                      <a:pt x="630" y="1476"/>
                    </a:lnTo>
                    <a:lnTo>
                      <a:pt x="604" y="411"/>
                    </a:lnTo>
                    <a:lnTo>
                      <a:pt x="630" y="208"/>
                    </a:lnTo>
                    <a:lnTo>
                      <a:pt x="503" y="150"/>
                    </a:lnTo>
                    <a:lnTo>
                      <a:pt x="382" y="231"/>
                    </a:lnTo>
                    <a:lnTo>
                      <a:pt x="360" y="208"/>
                    </a:lnTo>
                    <a:lnTo>
                      <a:pt x="450" y="143"/>
                    </a:lnTo>
                    <a:lnTo>
                      <a:pt x="503" y="72"/>
                    </a:lnTo>
                    <a:lnTo>
                      <a:pt x="833" y="0"/>
                    </a:lnTo>
                    <a:lnTo>
                      <a:pt x="991" y="84"/>
                    </a:lnTo>
                    <a:lnTo>
                      <a:pt x="943" y="121"/>
                    </a:lnTo>
                    <a:lnTo>
                      <a:pt x="833" y="112"/>
                    </a:lnTo>
                    <a:lnTo>
                      <a:pt x="782" y="252"/>
                    </a:lnTo>
                    <a:lnTo>
                      <a:pt x="1092" y="1558"/>
                    </a:lnTo>
                    <a:lnTo>
                      <a:pt x="1413" y="1747"/>
                    </a:lnTo>
                    <a:lnTo>
                      <a:pt x="1965" y="2035"/>
                    </a:lnTo>
                    <a:lnTo>
                      <a:pt x="1905" y="1875"/>
                    </a:lnTo>
                    <a:lnTo>
                      <a:pt x="2207" y="1993"/>
                    </a:lnTo>
                    <a:lnTo>
                      <a:pt x="2297" y="1773"/>
                    </a:lnTo>
                    <a:lnTo>
                      <a:pt x="2345" y="1785"/>
                    </a:lnTo>
                    <a:lnTo>
                      <a:pt x="2306" y="2145"/>
                    </a:lnTo>
                    <a:lnTo>
                      <a:pt x="2355" y="2343"/>
                    </a:lnTo>
                    <a:lnTo>
                      <a:pt x="2133" y="2393"/>
                    </a:lnTo>
                    <a:lnTo>
                      <a:pt x="1598" y="2356"/>
                    </a:lnTo>
                    <a:lnTo>
                      <a:pt x="1723" y="2272"/>
                    </a:lnTo>
                    <a:lnTo>
                      <a:pt x="1644" y="2126"/>
                    </a:lnTo>
                    <a:lnTo>
                      <a:pt x="1732" y="2085"/>
                    </a:lnTo>
                    <a:lnTo>
                      <a:pt x="1503" y="2015"/>
                    </a:lnTo>
                    <a:lnTo>
                      <a:pt x="1503" y="2165"/>
                    </a:lnTo>
                    <a:lnTo>
                      <a:pt x="1444" y="2334"/>
                    </a:lnTo>
                    <a:lnTo>
                      <a:pt x="1246" y="2405"/>
                    </a:lnTo>
                    <a:lnTo>
                      <a:pt x="1273" y="2384"/>
                    </a:lnTo>
                    <a:lnTo>
                      <a:pt x="1135" y="2043"/>
                    </a:lnTo>
                    <a:lnTo>
                      <a:pt x="863" y="1868"/>
                    </a:lnTo>
                    <a:lnTo>
                      <a:pt x="591" y="1826"/>
                    </a:lnTo>
                    <a:lnTo>
                      <a:pt x="663" y="1916"/>
                    </a:lnTo>
                    <a:lnTo>
                      <a:pt x="624" y="1936"/>
                    </a:lnTo>
                    <a:lnTo>
                      <a:pt x="773" y="1976"/>
                    </a:lnTo>
                    <a:lnTo>
                      <a:pt x="1054" y="2204"/>
                    </a:lnTo>
                    <a:lnTo>
                      <a:pt x="1171" y="2322"/>
                    </a:lnTo>
                    <a:lnTo>
                      <a:pt x="962" y="2315"/>
                    </a:lnTo>
                    <a:lnTo>
                      <a:pt x="734" y="2246"/>
                    </a:lnTo>
                    <a:lnTo>
                      <a:pt x="923" y="2405"/>
                    </a:lnTo>
                    <a:lnTo>
                      <a:pt x="743" y="2463"/>
                    </a:lnTo>
                    <a:lnTo>
                      <a:pt x="521" y="2601"/>
                    </a:lnTo>
                    <a:lnTo>
                      <a:pt x="851" y="2525"/>
                    </a:lnTo>
                    <a:lnTo>
                      <a:pt x="552" y="2742"/>
                    </a:lnTo>
                    <a:lnTo>
                      <a:pt x="250" y="2742"/>
                    </a:lnTo>
                    <a:lnTo>
                      <a:pt x="213" y="2652"/>
                    </a:lnTo>
                    <a:lnTo>
                      <a:pt x="303" y="2272"/>
                    </a:lnTo>
                    <a:lnTo>
                      <a:pt x="270" y="2114"/>
                    </a:lnTo>
                    <a:lnTo>
                      <a:pt x="0" y="1178"/>
                    </a:lnTo>
                    <a:lnTo>
                      <a:pt x="81" y="720"/>
                    </a:lnTo>
                    <a:lnTo>
                      <a:pt x="303" y="55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1105920" y="3940200"/>
                <a:ext cx="70560" cy="65160"/>
              </a:xfrm>
              <a:custGeom>
                <a:avLst/>
                <a:gdLst/>
                <a:ahLst/>
                <a:rect l="l" t="t" r="r" b="b"/>
                <a:pathLst>
                  <a:path w="851" h="616">
                    <a:moveTo>
                      <a:pt x="0" y="385"/>
                    </a:moveTo>
                    <a:lnTo>
                      <a:pt x="77" y="207"/>
                    </a:lnTo>
                    <a:lnTo>
                      <a:pt x="77" y="348"/>
                    </a:lnTo>
                    <a:lnTo>
                      <a:pt x="299" y="97"/>
                    </a:lnTo>
                    <a:lnTo>
                      <a:pt x="378" y="616"/>
                    </a:lnTo>
                    <a:lnTo>
                      <a:pt x="417" y="227"/>
                    </a:lnTo>
                    <a:lnTo>
                      <a:pt x="618" y="69"/>
                    </a:lnTo>
                    <a:lnTo>
                      <a:pt x="740" y="97"/>
                    </a:lnTo>
                    <a:lnTo>
                      <a:pt x="851" y="7"/>
                    </a:lnTo>
                    <a:lnTo>
                      <a:pt x="721" y="40"/>
                    </a:lnTo>
                    <a:lnTo>
                      <a:pt x="653" y="40"/>
                    </a:lnTo>
                    <a:lnTo>
                      <a:pt x="618" y="0"/>
                    </a:lnTo>
                    <a:lnTo>
                      <a:pt x="521" y="69"/>
                    </a:lnTo>
                    <a:lnTo>
                      <a:pt x="389" y="47"/>
                    </a:lnTo>
                    <a:lnTo>
                      <a:pt x="279" y="40"/>
                    </a:lnTo>
                    <a:lnTo>
                      <a:pt x="118" y="77"/>
                    </a:lnTo>
                    <a:lnTo>
                      <a:pt x="21" y="189"/>
                    </a:lnTo>
                    <a:lnTo>
                      <a:pt x="0" y="38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1182960" y="4000320"/>
                <a:ext cx="66600" cy="167760"/>
              </a:xfrm>
              <a:custGeom>
                <a:avLst/>
                <a:gdLst/>
                <a:ahLst/>
                <a:rect l="l" t="t" r="r" b="b"/>
                <a:pathLst>
                  <a:path w="811" h="1587">
                    <a:moveTo>
                      <a:pt x="481" y="171"/>
                    </a:moveTo>
                    <a:lnTo>
                      <a:pt x="481" y="429"/>
                    </a:lnTo>
                    <a:lnTo>
                      <a:pt x="380" y="600"/>
                    </a:lnTo>
                    <a:lnTo>
                      <a:pt x="239" y="429"/>
                    </a:lnTo>
                    <a:lnTo>
                      <a:pt x="128" y="259"/>
                    </a:lnTo>
                    <a:lnTo>
                      <a:pt x="239" y="860"/>
                    </a:lnTo>
                    <a:lnTo>
                      <a:pt x="207" y="1257"/>
                    </a:lnTo>
                    <a:lnTo>
                      <a:pt x="0" y="1556"/>
                    </a:lnTo>
                    <a:lnTo>
                      <a:pt x="170" y="1587"/>
                    </a:lnTo>
                    <a:lnTo>
                      <a:pt x="361" y="1483"/>
                    </a:lnTo>
                    <a:lnTo>
                      <a:pt x="318" y="840"/>
                    </a:lnTo>
                    <a:lnTo>
                      <a:pt x="509" y="1049"/>
                    </a:lnTo>
                    <a:lnTo>
                      <a:pt x="640" y="1049"/>
                    </a:lnTo>
                    <a:lnTo>
                      <a:pt x="541" y="939"/>
                    </a:lnTo>
                    <a:lnTo>
                      <a:pt x="521" y="770"/>
                    </a:lnTo>
                    <a:lnTo>
                      <a:pt x="582" y="600"/>
                    </a:lnTo>
                    <a:lnTo>
                      <a:pt x="659" y="489"/>
                    </a:lnTo>
                    <a:lnTo>
                      <a:pt x="721" y="392"/>
                    </a:lnTo>
                    <a:lnTo>
                      <a:pt x="762" y="528"/>
                    </a:lnTo>
                    <a:lnTo>
                      <a:pt x="811" y="400"/>
                    </a:lnTo>
                    <a:lnTo>
                      <a:pt x="780" y="293"/>
                    </a:lnTo>
                    <a:lnTo>
                      <a:pt x="721" y="150"/>
                    </a:lnTo>
                    <a:lnTo>
                      <a:pt x="548" y="0"/>
                    </a:lnTo>
                    <a:lnTo>
                      <a:pt x="481" y="17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1244520" y="4057920"/>
                <a:ext cx="45360" cy="64080"/>
              </a:xfrm>
              <a:custGeom>
                <a:avLst/>
                <a:gdLst/>
                <a:ahLst/>
                <a:rect l="l" t="t" r="r" b="b"/>
                <a:pathLst>
                  <a:path w="552" h="609">
                    <a:moveTo>
                      <a:pt x="152" y="0"/>
                    </a:moveTo>
                    <a:lnTo>
                      <a:pt x="31" y="152"/>
                    </a:lnTo>
                    <a:lnTo>
                      <a:pt x="132" y="293"/>
                    </a:lnTo>
                    <a:lnTo>
                      <a:pt x="373" y="133"/>
                    </a:lnTo>
                    <a:lnTo>
                      <a:pt x="453" y="293"/>
                    </a:lnTo>
                    <a:lnTo>
                      <a:pt x="0" y="609"/>
                    </a:lnTo>
                    <a:lnTo>
                      <a:pt x="420" y="541"/>
                    </a:lnTo>
                    <a:lnTo>
                      <a:pt x="552" y="133"/>
                    </a:lnTo>
                    <a:lnTo>
                      <a:pt x="453" y="42"/>
                    </a:lnTo>
                    <a:lnTo>
                      <a:pt x="299" y="62"/>
                    </a:lnTo>
                    <a:lnTo>
                      <a:pt x="193" y="23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1065600" y="3975480"/>
                <a:ext cx="68040" cy="259920"/>
              </a:xfrm>
              <a:custGeom>
                <a:avLst/>
                <a:gdLst/>
                <a:ahLst/>
                <a:rect l="l" t="t" r="r" b="b"/>
                <a:pathLst>
                  <a:path w="820" h="2453">
                    <a:moveTo>
                      <a:pt x="186" y="21"/>
                    </a:moveTo>
                    <a:lnTo>
                      <a:pt x="178" y="110"/>
                    </a:lnTo>
                    <a:lnTo>
                      <a:pt x="136" y="198"/>
                    </a:lnTo>
                    <a:lnTo>
                      <a:pt x="119" y="228"/>
                    </a:lnTo>
                    <a:lnTo>
                      <a:pt x="186" y="309"/>
                    </a:lnTo>
                    <a:lnTo>
                      <a:pt x="288" y="487"/>
                    </a:lnTo>
                    <a:lnTo>
                      <a:pt x="400" y="817"/>
                    </a:lnTo>
                    <a:lnTo>
                      <a:pt x="520" y="1245"/>
                    </a:lnTo>
                    <a:lnTo>
                      <a:pt x="693" y="1806"/>
                    </a:lnTo>
                    <a:lnTo>
                      <a:pt x="820" y="2125"/>
                    </a:lnTo>
                    <a:lnTo>
                      <a:pt x="672" y="2453"/>
                    </a:lnTo>
                    <a:lnTo>
                      <a:pt x="347" y="2204"/>
                    </a:lnTo>
                    <a:lnTo>
                      <a:pt x="68" y="708"/>
                    </a:lnTo>
                    <a:lnTo>
                      <a:pt x="46" y="440"/>
                    </a:lnTo>
                    <a:lnTo>
                      <a:pt x="68" y="270"/>
                    </a:lnTo>
                    <a:lnTo>
                      <a:pt x="68" y="228"/>
                    </a:lnTo>
                    <a:lnTo>
                      <a:pt x="0" y="141"/>
                    </a:lnTo>
                    <a:lnTo>
                      <a:pt x="6" y="0"/>
                    </a:lnTo>
                    <a:lnTo>
                      <a:pt x="149" y="11"/>
                    </a:lnTo>
                    <a:lnTo>
                      <a:pt x="186" y="2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1062360" y="3975480"/>
                <a:ext cx="71640" cy="262440"/>
              </a:xfrm>
              <a:custGeom>
                <a:avLst/>
                <a:gdLst/>
                <a:ahLst/>
                <a:rect l="l" t="t" r="r" b="b"/>
                <a:pathLst>
                  <a:path w="862" h="2474">
                    <a:moveTo>
                      <a:pt x="152" y="11"/>
                    </a:moveTo>
                    <a:lnTo>
                      <a:pt x="129" y="251"/>
                    </a:lnTo>
                    <a:lnTo>
                      <a:pt x="178" y="670"/>
                    </a:lnTo>
                    <a:lnTo>
                      <a:pt x="281" y="1141"/>
                    </a:lnTo>
                    <a:lnTo>
                      <a:pt x="461" y="1863"/>
                    </a:lnTo>
                    <a:lnTo>
                      <a:pt x="499" y="2174"/>
                    </a:lnTo>
                    <a:lnTo>
                      <a:pt x="691" y="2370"/>
                    </a:lnTo>
                    <a:lnTo>
                      <a:pt x="811" y="2112"/>
                    </a:lnTo>
                    <a:lnTo>
                      <a:pt x="629" y="1694"/>
                    </a:lnTo>
                    <a:lnTo>
                      <a:pt x="519" y="1257"/>
                    </a:lnTo>
                    <a:lnTo>
                      <a:pt x="422" y="876"/>
                    </a:lnTo>
                    <a:lnTo>
                      <a:pt x="288" y="468"/>
                    </a:lnTo>
                    <a:lnTo>
                      <a:pt x="211" y="309"/>
                    </a:lnTo>
                    <a:lnTo>
                      <a:pt x="170" y="228"/>
                    </a:lnTo>
                    <a:lnTo>
                      <a:pt x="288" y="389"/>
                    </a:lnTo>
                    <a:lnTo>
                      <a:pt x="409" y="738"/>
                    </a:lnTo>
                    <a:lnTo>
                      <a:pt x="562" y="1195"/>
                    </a:lnTo>
                    <a:lnTo>
                      <a:pt x="714" y="1705"/>
                    </a:lnTo>
                    <a:lnTo>
                      <a:pt x="783" y="1936"/>
                    </a:lnTo>
                    <a:lnTo>
                      <a:pt x="862" y="2112"/>
                    </a:lnTo>
                    <a:lnTo>
                      <a:pt x="721" y="2474"/>
                    </a:lnTo>
                    <a:lnTo>
                      <a:pt x="380" y="2193"/>
                    </a:lnTo>
                    <a:lnTo>
                      <a:pt x="251" y="1505"/>
                    </a:lnTo>
                    <a:lnTo>
                      <a:pt x="119" y="717"/>
                    </a:lnTo>
                    <a:lnTo>
                      <a:pt x="110" y="440"/>
                    </a:lnTo>
                    <a:lnTo>
                      <a:pt x="88" y="228"/>
                    </a:lnTo>
                    <a:lnTo>
                      <a:pt x="0" y="110"/>
                    </a:lnTo>
                    <a:lnTo>
                      <a:pt x="60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997200" y="3967200"/>
                <a:ext cx="47520" cy="108360"/>
              </a:xfrm>
              <a:custGeom>
                <a:avLst/>
                <a:gdLst/>
                <a:ahLst/>
                <a:rect l="l" t="t" r="r" b="b"/>
                <a:pathLst>
                  <a:path w="578" h="1028">
                    <a:moveTo>
                      <a:pt x="42" y="938"/>
                    </a:moveTo>
                    <a:lnTo>
                      <a:pt x="37" y="775"/>
                    </a:lnTo>
                    <a:lnTo>
                      <a:pt x="0" y="360"/>
                    </a:lnTo>
                    <a:lnTo>
                      <a:pt x="37" y="276"/>
                    </a:lnTo>
                    <a:lnTo>
                      <a:pt x="293" y="0"/>
                    </a:lnTo>
                    <a:lnTo>
                      <a:pt x="523" y="48"/>
                    </a:lnTo>
                    <a:lnTo>
                      <a:pt x="578" y="184"/>
                    </a:lnTo>
                    <a:lnTo>
                      <a:pt x="528" y="247"/>
                    </a:lnTo>
                    <a:lnTo>
                      <a:pt x="563" y="465"/>
                    </a:lnTo>
                    <a:lnTo>
                      <a:pt x="486" y="487"/>
                    </a:lnTo>
                    <a:lnTo>
                      <a:pt x="464" y="705"/>
                    </a:lnTo>
                    <a:lnTo>
                      <a:pt x="406" y="805"/>
                    </a:lnTo>
                    <a:lnTo>
                      <a:pt x="358" y="874"/>
                    </a:lnTo>
                    <a:lnTo>
                      <a:pt x="305" y="938"/>
                    </a:lnTo>
                    <a:lnTo>
                      <a:pt x="263" y="1028"/>
                    </a:lnTo>
                    <a:lnTo>
                      <a:pt x="92" y="1001"/>
                    </a:lnTo>
                    <a:lnTo>
                      <a:pt x="42" y="938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1001160" y="3798360"/>
                <a:ext cx="107280" cy="172800"/>
              </a:xfrm>
              <a:custGeom>
                <a:avLst/>
                <a:gdLst/>
                <a:ahLst/>
                <a:rect l="l" t="t" r="r" b="b"/>
                <a:pathLst>
                  <a:path w="1289" h="1630">
                    <a:moveTo>
                      <a:pt x="37" y="717"/>
                    </a:moveTo>
                    <a:lnTo>
                      <a:pt x="0" y="784"/>
                    </a:lnTo>
                    <a:lnTo>
                      <a:pt x="0" y="915"/>
                    </a:lnTo>
                    <a:lnTo>
                      <a:pt x="85" y="1036"/>
                    </a:lnTo>
                    <a:lnTo>
                      <a:pt x="200" y="1120"/>
                    </a:lnTo>
                    <a:lnTo>
                      <a:pt x="235" y="1120"/>
                    </a:lnTo>
                    <a:lnTo>
                      <a:pt x="298" y="1263"/>
                    </a:lnTo>
                    <a:lnTo>
                      <a:pt x="348" y="1395"/>
                    </a:lnTo>
                    <a:lnTo>
                      <a:pt x="447" y="1508"/>
                    </a:lnTo>
                    <a:lnTo>
                      <a:pt x="555" y="1572"/>
                    </a:lnTo>
                    <a:lnTo>
                      <a:pt x="705" y="1621"/>
                    </a:lnTo>
                    <a:lnTo>
                      <a:pt x="855" y="1630"/>
                    </a:lnTo>
                    <a:lnTo>
                      <a:pt x="947" y="1579"/>
                    </a:lnTo>
                    <a:lnTo>
                      <a:pt x="1019" y="1494"/>
                    </a:lnTo>
                    <a:lnTo>
                      <a:pt x="1090" y="1374"/>
                    </a:lnTo>
                    <a:lnTo>
                      <a:pt x="1118" y="1263"/>
                    </a:lnTo>
                    <a:lnTo>
                      <a:pt x="1140" y="1056"/>
                    </a:lnTo>
                    <a:lnTo>
                      <a:pt x="1203" y="1001"/>
                    </a:lnTo>
                    <a:lnTo>
                      <a:pt x="1284" y="889"/>
                    </a:lnTo>
                    <a:lnTo>
                      <a:pt x="1289" y="768"/>
                    </a:lnTo>
                    <a:lnTo>
                      <a:pt x="1274" y="662"/>
                    </a:lnTo>
                    <a:lnTo>
                      <a:pt x="1261" y="627"/>
                    </a:lnTo>
                    <a:lnTo>
                      <a:pt x="1203" y="595"/>
                    </a:lnTo>
                    <a:lnTo>
                      <a:pt x="1118" y="325"/>
                    </a:lnTo>
                    <a:lnTo>
                      <a:pt x="1012" y="94"/>
                    </a:lnTo>
                    <a:lnTo>
                      <a:pt x="692" y="0"/>
                    </a:lnTo>
                    <a:lnTo>
                      <a:pt x="270" y="85"/>
                    </a:lnTo>
                    <a:lnTo>
                      <a:pt x="85" y="247"/>
                    </a:lnTo>
                    <a:lnTo>
                      <a:pt x="41" y="429"/>
                    </a:lnTo>
                    <a:lnTo>
                      <a:pt x="41" y="657"/>
                    </a:lnTo>
                    <a:lnTo>
                      <a:pt x="37" y="717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1026360" y="3900960"/>
                <a:ext cx="18360" cy="13320"/>
              </a:xfrm>
              <a:custGeom>
                <a:avLst/>
                <a:gdLst/>
                <a:ahLst/>
                <a:rect l="l" t="t" r="r" b="b"/>
                <a:pathLst>
                  <a:path w="223" h="120">
                    <a:moveTo>
                      <a:pt x="223" y="6"/>
                    </a:moveTo>
                    <a:lnTo>
                      <a:pt x="223" y="41"/>
                    </a:lnTo>
                    <a:lnTo>
                      <a:pt x="140" y="108"/>
                    </a:lnTo>
                    <a:lnTo>
                      <a:pt x="57" y="120"/>
                    </a:lnTo>
                    <a:lnTo>
                      <a:pt x="0" y="78"/>
                    </a:lnTo>
                    <a:lnTo>
                      <a:pt x="16" y="0"/>
                    </a:lnTo>
                    <a:lnTo>
                      <a:pt x="92" y="28"/>
                    </a:lnTo>
                    <a:lnTo>
                      <a:pt x="140" y="35"/>
                    </a:lnTo>
                    <a:lnTo>
                      <a:pt x="223" y="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1069560" y="3890160"/>
                <a:ext cx="19800" cy="15120"/>
              </a:xfrm>
              <a:custGeom>
                <a:avLst/>
                <a:gdLst/>
                <a:ahLst/>
                <a:rect l="l" t="t" r="r" b="b"/>
                <a:pathLst>
                  <a:path w="245" h="141">
                    <a:moveTo>
                      <a:pt x="0" y="85"/>
                    </a:moveTo>
                    <a:lnTo>
                      <a:pt x="18" y="112"/>
                    </a:lnTo>
                    <a:lnTo>
                      <a:pt x="117" y="141"/>
                    </a:lnTo>
                    <a:lnTo>
                      <a:pt x="212" y="134"/>
                    </a:lnTo>
                    <a:lnTo>
                      <a:pt x="245" y="79"/>
                    </a:lnTo>
                    <a:lnTo>
                      <a:pt x="238" y="0"/>
                    </a:lnTo>
                    <a:lnTo>
                      <a:pt x="179" y="42"/>
                    </a:lnTo>
                    <a:lnTo>
                      <a:pt x="139" y="79"/>
                    </a:lnTo>
                    <a:lnTo>
                      <a:pt x="83" y="9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1054800" y="3895200"/>
                <a:ext cx="10440" cy="25200"/>
              </a:xfrm>
              <a:custGeom>
                <a:avLst/>
                <a:gdLst/>
                <a:ahLst/>
                <a:rect l="l" t="t" r="r" b="b"/>
                <a:pathLst>
                  <a:path w="120" h="235">
                    <a:moveTo>
                      <a:pt x="57" y="37"/>
                    </a:moveTo>
                    <a:lnTo>
                      <a:pt x="37" y="0"/>
                    </a:lnTo>
                    <a:lnTo>
                      <a:pt x="13" y="16"/>
                    </a:lnTo>
                    <a:lnTo>
                      <a:pt x="22" y="141"/>
                    </a:lnTo>
                    <a:lnTo>
                      <a:pt x="0" y="169"/>
                    </a:lnTo>
                    <a:lnTo>
                      <a:pt x="13" y="220"/>
                    </a:lnTo>
                    <a:lnTo>
                      <a:pt x="64" y="235"/>
                    </a:lnTo>
                    <a:lnTo>
                      <a:pt x="108" y="220"/>
                    </a:lnTo>
                    <a:lnTo>
                      <a:pt x="120" y="178"/>
                    </a:lnTo>
                    <a:lnTo>
                      <a:pt x="112" y="148"/>
                    </a:lnTo>
                    <a:lnTo>
                      <a:pt x="78" y="121"/>
                    </a:lnTo>
                    <a:lnTo>
                      <a:pt x="57" y="3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1046880" y="39103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51" h="42">
                    <a:moveTo>
                      <a:pt x="25" y="0"/>
                    </a:moveTo>
                    <a:lnTo>
                      <a:pt x="0" y="25"/>
                    </a:lnTo>
                    <a:lnTo>
                      <a:pt x="25" y="42"/>
                    </a:lnTo>
                    <a:lnTo>
                      <a:pt x="51" y="7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1066680" y="390780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6"/>
                    </a:moveTo>
                    <a:lnTo>
                      <a:pt x="21" y="36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1049760" y="3935880"/>
                <a:ext cx="27720" cy="7200"/>
              </a:xfrm>
              <a:custGeom>
                <a:avLst/>
                <a:gdLst/>
                <a:ahLst/>
                <a:rect l="l" t="t" r="r" b="b"/>
                <a:pathLst>
                  <a:path w="343" h="70">
                    <a:moveTo>
                      <a:pt x="0" y="44"/>
                    </a:moveTo>
                    <a:lnTo>
                      <a:pt x="128" y="70"/>
                    </a:lnTo>
                    <a:lnTo>
                      <a:pt x="235" y="55"/>
                    </a:lnTo>
                    <a:lnTo>
                      <a:pt x="322" y="21"/>
                    </a:lnTo>
                    <a:lnTo>
                      <a:pt x="343" y="7"/>
                    </a:lnTo>
                    <a:lnTo>
                      <a:pt x="297" y="0"/>
                    </a:lnTo>
                    <a:lnTo>
                      <a:pt x="214" y="21"/>
                    </a:lnTo>
                    <a:lnTo>
                      <a:pt x="135" y="26"/>
                    </a:lnTo>
                    <a:lnTo>
                      <a:pt x="20" y="21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1013760" y="3831480"/>
                <a:ext cx="29520" cy="44640"/>
              </a:xfrm>
              <a:custGeom>
                <a:avLst/>
                <a:gdLst/>
                <a:ahLst/>
                <a:rect l="l" t="t" r="r" b="b"/>
                <a:pathLst>
                  <a:path w="363" h="429">
                    <a:moveTo>
                      <a:pt x="226" y="35"/>
                    </a:moveTo>
                    <a:lnTo>
                      <a:pt x="158" y="99"/>
                    </a:lnTo>
                    <a:lnTo>
                      <a:pt x="127" y="182"/>
                    </a:lnTo>
                    <a:lnTo>
                      <a:pt x="127" y="266"/>
                    </a:lnTo>
                    <a:lnTo>
                      <a:pt x="149" y="337"/>
                    </a:lnTo>
                    <a:lnTo>
                      <a:pt x="363" y="394"/>
                    </a:lnTo>
                    <a:lnTo>
                      <a:pt x="185" y="389"/>
                    </a:lnTo>
                    <a:lnTo>
                      <a:pt x="63" y="429"/>
                    </a:lnTo>
                    <a:lnTo>
                      <a:pt x="79" y="380"/>
                    </a:lnTo>
                    <a:lnTo>
                      <a:pt x="33" y="323"/>
                    </a:lnTo>
                    <a:lnTo>
                      <a:pt x="6" y="231"/>
                    </a:lnTo>
                    <a:lnTo>
                      <a:pt x="0" y="134"/>
                    </a:lnTo>
                    <a:lnTo>
                      <a:pt x="19" y="62"/>
                    </a:lnTo>
                    <a:lnTo>
                      <a:pt x="68" y="14"/>
                    </a:lnTo>
                    <a:lnTo>
                      <a:pt x="136" y="0"/>
                    </a:lnTo>
                    <a:lnTo>
                      <a:pt x="192" y="7"/>
                    </a:lnTo>
                    <a:lnTo>
                      <a:pt x="226" y="3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1059480" y="385452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14" h="154">
                    <a:moveTo>
                      <a:pt x="70" y="115"/>
                    </a:moveTo>
                    <a:lnTo>
                      <a:pt x="226" y="34"/>
                    </a:lnTo>
                    <a:lnTo>
                      <a:pt x="314" y="30"/>
                    </a:lnTo>
                    <a:lnTo>
                      <a:pt x="249" y="0"/>
                    </a:lnTo>
                    <a:lnTo>
                      <a:pt x="176" y="30"/>
                    </a:lnTo>
                    <a:lnTo>
                      <a:pt x="0" y="154"/>
                    </a:lnTo>
                    <a:lnTo>
                      <a:pt x="70" y="11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1004760" y="3881520"/>
                <a:ext cx="8280" cy="6840"/>
              </a:xfrm>
              <a:custGeom>
                <a:avLst/>
                <a:gdLst/>
                <a:ahLst/>
                <a:rect l="l" t="t" r="r" b="b"/>
                <a:pathLst>
                  <a:path w="105" h="60">
                    <a:moveTo>
                      <a:pt x="0" y="44"/>
                    </a:moveTo>
                    <a:lnTo>
                      <a:pt x="96" y="60"/>
                    </a:lnTo>
                    <a:lnTo>
                      <a:pt x="105" y="31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1094760" y="3866400"/>
                <a:ext cx="8280" cy="11880"/>
              </a:xfrm>
              <a:custGeom>
                <a:avLst/>
                <a:gdLst/>
                <a:ahLst/>
                <a:rect l="l" t="t" r="r" b="b"/>
                <a:pathLst>
                  <a:path w="99" h="111">
                    <a:moveTo>
                      <a:pt x="0" y="111"/>
                    </a:moveTo>
                    <a:lnTo>
                      <a:pt x="19" y="111"/>
                    </a:lnTo>
                    <a:lnTo>
                      <a:pt x="99" y="35"/>
                    </a:lnTo>
                    <a:lnTo>
                      <a:pt x="90" y="0"/>
                    </a:lnTo>
                    <a:lnTo>
                      <a:pt x="55" y="0"/>
                    </a:lnTo>
                    <a:lnTo>
                      <a:pt x="7" y="39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1058400" y="395460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154" h="84">
                    <a:moveTo>
                      <a:pt x="27" y="7"/>
                    </a:moveTo>
                    <a:lnTo>
                      <a:pt x="0" y="49"/>
                    </a:lnTo>
                    <a:lnTo>
                      <a:pt x="32" y="84"/>
                    </a:lnTo>
                    <a:lnTo>
                      <a:pt x="140" y="69"/>
                    </a:lnTo>
                    <a:lnTo>
                      <a:pt x="154" y="27"/>
                    </a:lnTo>
                    <a:lnTo>
                      <a:pt x="127" y="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1003320" y="4017240"/>
                <a:ext cx="14400" cy="35280"/>
              </a:xfrm>
              <a:custGeom>
                <a:avLst/>
                <a:gdLst/>
                <a:ahLst/>
                <a:rect l="l" t="t" r="r" b="b"/>
                <a:pathLst>
                  <a:path w="172" h="336">
                    <a:moveTo>
                      <a:pt x="7" y="42"/>
                    </a:moveTo>
                    <a:lnTo>
                      <a:pt x="51" y="211"/>
                    </a:lnTo>
                    <a:lnTo>
                      <a:pt x="73" y="336"/>
                    </a:lnTo>
                    <a:lnTo>
                      <a:pt x="156" y="336"/>
                    </a:lnTo>
                    <a:lnTo>
                      <a:pt x="172" y="279"/>
                    </a:lnTo>
                    <a:lnTo>
                      <a:pt x="99" y="231"/>
                    </a:lnTo>
                    <a:lnTo>
                      <a:pt x="73" y="147"/>
                    </a:lnTo>
                    <a:lnTo>
                      <a:pt x="78" y="75"/>
                    </a:lnTo>
                    <a:lnTo>
                      <a:pt x="0" y="0"/>
                    </a:lnTo>
                    <a:lnTo>
                      <a:pt x="7" y="42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1003680" y="3993480"/>
                <a:ext cx="21600" cy="12600"/>
              </a:xfrm>
              <a:custGeom>
                <a:avLst/>
                <a:gdLst/>
                <a:ahLst/>
                <a:rect l="l" t="t" r="r" b="b"/>
                <a:pathLst>
                  <a:path w="264" h="122">
                    <a:moveTo>
                      <a:pt x="0" y="106"/>
                    </a:moveTo>
                    <a:lnTo>
                      <a:pt x="13" y="122"/>
                    </a:lnTo>
                    <a:lnTo>
                      <a:pt x="57" y="78"/>
                    </a:lnTo>
                    <a:lnTo>
                      <a:pt x="114" y="97"/>
                    </a:lnTo>
                    <a:lnTo>
                      <a:pt x="140" y="53"/>
                    </a:lnTo>
                    <a:lnTo>
                      <a:pt x="264" y="106"/>
                    </a:lnTo>
                    <a:lnTo>
                      <a:pt x="127" y="0"/>
                    </a:lnTo>
                    <a:lnTo>
                      <a:pt x="101" y="14"/>
                    </a:lnTo>
                    <a:lnTo>
                      <a:pt x="32" y="64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1021320" y="4034880"/>
                <a:ext cx="8280" cy="15840"/>
              </a:xfrm>
              <a:custGeom>
                <a:avLst/>
                <a:gdLst/>
                <a:ahLst/>
                <a:rect l="l" t="t" r="r" b="b"/>
                <a:pathLst>
                  <a:path w="106" h="147">
                    <a:moveTo>
                      <a:pt x="0" y="44"/>
                    </a:moveTo>
                    <a:lnTo>
                      <a:pt x="41" y="85"/>
                    </a:lnTo>
                    <a:lnTo>
                      <a:pt x="63" y="147"/>
                    </a:lnTo>
                    <a:lnTo>
                      <a:pt x="106" y="92"/>
                    </a:lnTo>
                    <a:lnTo>
                      <a:pt x="99" y="35"/>
                    </a:lnTo>
                    <a:lnTo>
                      <a:pt x="63" y="9"/>
                    </a:lnTo>
                    <a:lnTo>
                      <a:pt x="7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1029600" y="388584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44" h="94">
                    <a:moveTo>
                      <a:pt x="0" y="34"/>
                    </a:moveTo>
                    <a:lnTo>
                      <a:pt x="45" y="81"/>
                    </a:lnTo>
                    <a:lnTo>
                      <a:pt x="89" y="94"/>
                    </a:lnTo>
                    <a:lnTo>
                      <a:pt x="114" y="94"/>
                    </a:lnTo>
                    <a:lnTo>
                      <a:pt x="167" y="94"/>
                    </a:lnTo>
                    <a:lnTo>
                      <a:pt x="244" y="43"/>
                    </a:lnTo>
                    <a:lnTo>
                      <a:pt x="204" y="0"/>
                    </a:lnTo>
                    <a:lnTo>
                      <a:pt x="123" y="9"/>
                    </a:lnTo>
                    <a:lnTo>
                      <a:pt x="45" y="28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1066320" y="388152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221" h="85">
                    <a:moveTo>
                      <a:pt x="0" y="70"/>
                    </a:moveTo>
                    <a:lnTo>
                      <a:pt x="44" y="7"/>
                    </a:lnTo>
                    <a:lnTo>
                      <a:pt x="129" y="0"/>
                    </a:lnTo>
                    <a:lnTo>
                      <a:pt x="221" y="7"/>
                    </a:lnTo>
                    <a:lnTo>
                      <a:pt x="216" y="26"/>
                    </a:lnTo>
                    <a:lnTo>
                      <a:pt x="185" y="57"/>
                    </a:lnTo>
                    <a:lnTo>
                      <a:pt x="115" y="85"/>
                    </a:lnTo>
                    <a:lnTo>
                      <a:pt x="51" y="85"/>
                    </a:lnTo>
                    <a:lnTo>
                      <a:pt x="9" y="85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451080" y="3933000"/>
                <a:ext cx="45000" cy="37080"/>
              </a:xfrm>
              <a:custGeom>
                <a:avLst/>
                <a:gdLst/>
                <a:ahLst/>
                <a:rect l="l" t="t" r="r" b="b"/>
                <a:pathLst>
                  <a:path w="546" h="352">
                    <a:moveTo>
                      <a:pt x="53" y="229"/>
                    </a:moveTo>
                    <a:lnTo>
                      <a:pt x="126" y="174"/>
                    </a:lnTo>
                    <a:lnTo>
                      <a:pt x="163" y="161"/>
                    </a:lnTo>
                    <a:lnTo>
                      <a:pt x="313" y="161"/>
                    </a:lnTo>
                    <a:lnTo>
                      <a:pt x="387" y="167"/>
                    </a:lnTo>
                    <a:lnTo>
                      <a:pt x="194" y="94"/>
                    </a:lnTo>
                    <a:lnTo>
                      <a:pt x="60" y="94"/>
                    </a:lnTo>
                    <a:lnTo>
                      <a:pt x="9" y="82"/>
                    </a:lnTo>
                    <a:lnTo>
                      <a:pt x="0" y="75"/>
                    </a:lnTo>
                    <a:lnTo>
                      <a:pt x="145" y="0"/>
                    </a:lnTo>
                    <a:lnTo>
                      <a:pt x="224" y="13"/>
                    </a:lnTo>
                    <a:lnTo>
                      <a:pt x="313" y="64"/>
                    </a:lnTo>
                    <a:lnTo>
                      <a:pt x="415" y="108"/>
                    </a:lnTo>
                    <a:lnTo>
                      <a:pt x="498" y="130"/>
                    </a:lnTo>
                    <a:lnTo>
                      <a:pt x="546" y="198"/>
                    </a:lnTo>
                    <a:lnTo>
                      <a:pt x="521" y="255"/>
                    </a:lnTo>
                    <a:lnTo>
                      <a:pt x="484" y="255"/>
                    </a:lnTo>
                    <a:lnTo>
                      <a:pt x="431" y="322"/>
                    </a:lnTo>
                    <a:lnTo>
                      <a:pt x="376" y="329"/>
                    </a:lnTo>
                    <a:lnTo>
                      <a:pt x="286" y="352"/>
                    </a:lnTo>
                    <a:lnTo>
                      <a:pt x="365" y="280"/>
                    </a:lnTo>
                    <a:lnTo>
                      <a:pt x="401" y="235"/>
                    </a:lnTo>
                    <a:lnTo>
                      <a:pt x="401" y="218"/>
                    </a:lnTo>
                    <a:lnTo>
                      <a:pt x="365" y="209"/>
                    </a:lnTo>
                    <a:lnTo>
                      <a:pt x="304" y="191"/>
                    </a:lnTo>
                    <a:lnTo>
                      <a:pt x="286" y="235"/>
                    </a:lnTo>
                    <a:lnTo>
                      <a:pt x="282" y="205"/>
                    </a:lnTo>
                    <a:lnTo>
                      <a:pt x="256" y="205"/>
                    </a:lnTo>
                    <a:lnTo>
                      <a:pt x="253" y="225"/>
                    </a:lnTo>
                    <a:lnTo>
                      <a:pt x="277" y="244"/>
                    </a:lnTo>
                    <a:lnTo>
                      <a:pt x="268" y="266"/>
                    </a:lnTo>
                    <a:lnTo>
                      <a:pt x="84" y="244"/>
                    </a:lnTo>
                    <a:lnTo>
                      <a:pt x="53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459720" y="3962880"/>
                <a:ext cx="18360" cy="4680"/>
              </a:xfrm>
              <a:custGeom>
                <a:avLst/>
                <a:gdLst/>
                <a:ahLst/>
                <a:rect l="l" t="t" r="r" b="b"/>
                <a:pathLst>
                  <a:path w="224" h="49">
                    <a:moveTo>
                      <a:pt x="0" y="0"/>
                    </a:moveTo>
                    <a:lnTo>
                      <a:pt x="40" y="33"/>
                    </a:lnTo>
                    <a:lnTo>
                      <a:pt x="139" y="49"/>
                    </a:lnTo>
                    <a:lnTo>
                      <a:pt x="224" y="3"/>
                    </a:lnTo>
                    <a:lnTo>
                      <a:pt x="132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478080" y="3952800"/>
                <a:ext cx="5040" cy="10080"/>
              </a:xfrm>
              <a:custGeom>
                <a:avLst/>
                <a:gdLst/>
                <a:ahLst/>
                <a:rect l="l" t="t" r="r" b="b"/>
                <a:pathLst>
                  <a:path w="64" h="98">
                    <a:moveTo>
                      <a:pt x="0" y="0"/>
                    </a:moveTo>
                    <a:lnTo>
                      <a:pt x="53" y="98"/>
                    </a:lnTo>
                    <a:lnTo>
                      <a:pt x="64" y="81"/>
                    </a:lnTo>
                    <a:lnTo>
                      <a:pt x="3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500040" y="3951720"/>
                <a:ext cx="33480" cy="55080"/>
              </a:xfrm>
              <a:custGeom>
                <a:avLst/>
                <a:gdLst/>
                <a:ahLst/>
                <a:rect l="l" t="t" r="r" b="b"/>
                <a:pathLst>
                  <a:path w="406" h="514">
                    <a:moveTo>
                      <a:pt x="0" y="10"/>
                    </a:moveTo>
                    <a:lnTo>
                      <a:pt x="0" y="63"/>
                    </a:lnTo>
                    <a:lnTo>
                      <a:pt x="28" y="99"/>
                    </a:lnTo>
                    <a:lnTo>
                      <a:pt x="12" y="388"/>
                    </a:lnTo>
                    <a:lnTo>
                      <a:pt x="35" y="514"/>
                    </a:lnTo>
                    <a:lnTo>
                      <a:pt x="28" y="380"/>
                    </a:lnTo>
                    <a:lnTo>
                      <a:pt x="39" y="213"/>
                    </a:lnTo>
                    <a:lnTo>
                      <a:pt x="146" y="288"/>
                    </a:lnTo>
                    <a:lnTo>
                      <a:pt x="105" y="201"/>
                    </a:lnTo>
                    <a:lnTo>
                      <a:pt x="197" y="235"/>
                    </a:lnTo>
                    <a:lnTo>
                      <a:pt x="275" y="222"/>
                    </a:lnTo>
                    <a:lnTo>
                      <a:pt x="202" y="201"/>
                    </a:lnTo>
                    <a:lnTo>
                      <a:pt x="202" y="178"/>
                    </a:lnTo>
                    <a:lnTo>
                      <a:pt x="233" y="160"/>
                    </a:lnTo>
                    <a:lnTo>
                      <a:pt x="294" y="208"/>
                    </a:lnTo>
                    <a:lnTo>
                      <a:pt x="328" y="189"/>
                    </a:lnTo>
                    <a:lnTo>
                      <a:pt x="250" y="114"/>
                    </a:lnTo>
                    <a:lnTo>
                      <a:pt x="202" y="85"/>
                    </a:lnTo>
                    <a:lnTo>
                      <a:pt x="202" y="65"/>
                    </a:lnTo>
                    <a:lnTo>
                      <a:pt x="321" y="90"/>
                    </a:lnTo>
                    <a:lnTo>
                      <a:pt x="356" y="132"/>
                    </a:lnTo>
                    <a:lnTo>
                      <a:pt x="344" y="164"/>
                    </a:lnTo>
                    <a:lnTo>
                      <a:pt x="406" y="141"/>
                    </a:lnTo>
                    <a:lnTo>
                      <a:pt x="406" y="54"/>
                    </a:lnTo>
                    <a:lnTo>
                      <a:pt x="365" y="17"/>
                    </a:lnTo>
                    <a:lnTo>
                      <a:pt x="270" y="17"/>
                    </a:lnTo>
                    <a:lnTo>
                      <a:pt x="79" y="0"/>
                    </a:lnTo>
                    <a:lnTo>
                      <a:pt x="35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498600" y="401040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44" h="62">
                    <a:moveTo>
                      <a:pt x="0" y="46"/>
                    </a:moveTo>
                    <a:lnTo>
                      <a:pt x="28" y="62"/>
                    </a:lnTo>
                    <a:lnTo>
                      <a:pt x="44" y="49"/>
                    </a:lnTo>
                    <a:lnTo>
                      <a:pt x="35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454320" y="4003560"/>
                <a:ext cx="53640" cy="36360"/>
              </a:xfrm>
              <a:custGeom>
                <a:avLst/>
                <a:gdLst/>
                <a:ahLst/>
                <a:rect l="l" t="t" r="r" b="b"/>
                <a:pathLst>
                  <a:path w="647" h="347">
                    <a:moveTo>
                      <a:pt x="509" y="114"/>
                    </a:moveTo>
                    <a:lnTo>
                      <a:pt x="466" y="117"/>
                    </a:lnTo>
                    <a:lnTo>
                      <a:pt x="374" y="29"/>
                    </a:lnTo>
                    <a:lnTo>
                      <a:pt x="311" y="0"/>
                    </a:lnTo>
                    <a:lnTo>
                      <a:pt x="219" y="31"/>
                    </a:lnTo>
                    <a:lnTo>
                      <a:pt x="219" y="57"/>
                    </a:lnTo>
                    <a:lnTo>
                      <a:pt x="258" y="64"/>
                    </a:lnTo>
                    <a:lnTo>
                      <a:pt x="120" y="105"/>
                    </a:lnTo>
                    <a:lnTo>
                      <a:pt x="0" y="181"/>
                    </a:lnTo>
                    <a:lnTo>
                      <a:pt x="23" y="225"/>
                    </a:lnTo>
                    <a:lnTo>
                      <a:pt x="95" y="220"/>
                    </a:lnTo>
                    <a:lnTo>
                      <a:pt x="157" y="237"/>
                    </a:lnTo>
                    <a:lnTo>
                      <a:pt x="240" y="193"/>
                    </a:lnTo>
                    <a:lnTo>
                      <a:pt x="357" y="211"/>
                    </a:lnTo>
                    <a:lnTo>
                      <a:pt x="461" y="200"/>
                    </a:lnTo>
                    <a:lnTo>
                      <a:pt x="521" y="257"/>
                    </a:lnTo>
                    <a:lnTo>
                      <a:pt x="567" y="279"/>
                    </a:lnTo>
                    <a:lnTo>
                      <a:pt x="620" y="347"/>
                    </a:lnTo>
                    <a:lnTo>
                      <a:pt x="647" y="334"/>
                    </a:lnTo>
                    <a:lnTo>
                      <a:pt x="643" y="225"/>
                    </a:lnTo>
                    <a:lnTo>
                      <a:pt x="567" y="105"/>
                    </a:lnTo>
                    <a:lnTo>
                      <a:pt x="509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484200" y="3986640"/>
                <a:ext cx="5760" cy="9360"/>
              </a:xfrm>
              <a:custGeom>
                <a:avLst/>
                <a:gdLst/>
                <a:ahLst/>
                <a:rect l="l" t="t" r="r" b="b"/>
                <a:pathLst>
                  <a:path w="72" h="86">
                    <a:moveTo>
                      <a:pt x="0" y="55"/>
                    </a:moveTo>
                    <a:lnTo>
                      <a:pt x="37" y="86"/>
                    </a:lnTo>
                    <a:lnTo>
                      <a:pt x="72" y="24"/>
                    </a:lnTo>
                    <a:lnTo>
                      <a:pt x="60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472320" y="4032360"/>
                <a:ext cx="24840" cy="13320"/>
              </a:xfrm>
              <a:custGeom>
                <a:avLst/>
                <a:gdLst/>
                <a:ahLst/>
                <a:rect l="l" t="t" r="r" b="b"/>
                <a:pathLst>
                  <a:path w="302" h="129">
                    <a:moveTo>
                      <a:pt x="0" y="26"/>
                    </a:moveTo>
                    <a:lnTo>
                      <a:pt x="48" y="0"/>
                    </a:lnTo>
                    <a:lnTo>
                      <a:pt x="302" y="42"/>
                    </a:lnTo>
                    <a:lnTo>
                      <a:pt x="279" y="129"/>
                    </a:lnTo>
                    <a:lnTo>
                      <a:pt x="228" y="98"/>
                    </a:lnTo>
                    <a:lnTo>
                      <a:pt x="30" y="9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431640" y="3844080"/>
                <a:ext cx="105120" cy="72720"/>
              </a:xfrm>
              <a:custGeom>
                <a:avLst/>
                <a:gdLst/>
                <a:ahLst/>
                <a:rect l="l" t="t" r="r" b="b"/>
                <a:pathLst>
                  <a:path w="1275" h="682">
                    <a:moveTo>
                      <a:pt x="934" y="170"/>
                    </a:moveTo>
                    <a:lnTo>
                      <a:pt x="1037" y="159"/>
                    </a:lnTo>
                    <a:lnTo>
                      <a:pt x="1037" y="136"/>
                    </a:lnTo>
                    <a:lnTo>
                      <a:pt x="970" y="92"/>
                    </a:lnTo>
                    <a:lnTo>
                      <a:pt x="834" y="42"/>
                    </a:lnTo>
                    <a:lnTo>
                      <a:pt x="730" y="25"/>
                    </a:lnTo>
                    <a:lnTo>
                      <a:pt x="431" y="7"/>
                    </a:lnTo>
                    <a:lnTo>
                      <a:pt x="652" y="0"/>
                    </a:lnTo>
                    <a:lnTo>
                      <a:pt x="868" y="18"/>
                    </a:lnTo>
                    <a:lnTo>
                      <a:pt x="1037" y="73"/>
                    </a:lnTo>
                    <a:lnTo>
                      <a:pt x="1157" y="154"/>
                    </a:lnTo>
                    <a:lnTo>
                      <a:pt x="1249" y="251"/>
                    </a:lnTo>
                    <a:lnTo>
                      <a:pt x="1275" y="325"/>
                    </a:lnTo>
                    <a:lnTo>
                      <a:pt x="1275" y="387"/>
                    </a:lnTo>
                    <a:lnTo>
                      <a:pt x="1217" y="449"/>
                    </a:lnTo>
                    <a:lnTo>
                      <a:pt x="1104" y="530"/>
                    </a:lnTo>
                    <a:lnTo>
                      <a:pt x="943" y="578"/>
                    </a:lnTo>
                    <a:lnTo>
                      <a:pt x="730" y="631"/>
                    </a:lnTo>
                    <a:lnTo>
                      <a:pt x="315" y="664"/>
                    </a:lnTo>
                    <a:lnTo>
                      <a:pt x="0" y="682"/>
                    </a:lnTo>
                    <a:lnTo>
                      <a:pt x="703" y="504"/>
                    </a:lnTo>
                    <a:lnTo>
                      <a:pt x="864" y="449"/>
                    </a:lnTo>
                    <a:lnTo>
                      <a:pt x="952" y="407"/>
                    </a:lnTo>
                    <a:lnTo>
                      <a:pt x="975" y="387"/>
                    </a:lnTo>
                    <a:lnTo>
                      <a:pt x="970" y="374"/>
                    </a:lnTo>
                    <a:lnTo>
                      <a:pt x="917" y="367"/>
                    </a:lnTo>
                    <a:lnTo>
                      <a:pt x="1074" y="325"/>
                    </a:lnTo>
                    <a:lnTo>
                      <a:pt x="1086" y="304"/>
                    </a:lnTo>
                    <a:lnTo>
                      <a:pt x="1157" y="306"/>
                    </a:lnTo>
                    <a:lnTo>
                      <a:pt x="1161" y="284"/>
                    </a:lnTo>
                    <a:lnTo>
                      <a:pt x="1136" y="271"/>
                    </a:lnTo>
                    <a:lnTo>
                      <a:pt x="1018" y="242"/>
                    </a:lnTo>
                    <a:lnTo>
                      <a:pt x="1123" y="242"/>
                    </a:lnTo>
                    <a:lnTo>
                      <a:pt x="1123" y="216"/>
                    </a:lnTo>
                    <a:lnTo>
                      <a:pt x="1044" y="189"/>
                    </a:lnTo>
                    <a:lnTo>
                      <a:pt x="934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393840" y="3844080"/>
                <a:ext cx="115200" cy="144000"/>
              </a:xfrm>
              <a:custGeom>
                <a:avLst/>
                <a:gdLst/>
                <a:ahLst/>
                <a:rect l="l" t="t" r="r" b="b"/>
                <a:pathLst>
                  <a:path w="1400" h="1354">
                    <a:moveTo>
                      <a:pt x="585" y="668"/>
                    </a:moveTo>
                    <a:lnTo>
                      <a:pt x="486" y="811"/>
                    </a:lnTo>
                    <a:lnTo>
                      <a:pt x="468" y="885"/>
                    </a:lnTo>
                    <a:lnTo>
                      <a:pt x="413" y="947"/>
                    </a:lnTo>
                    <a:lnTo>
                      <a:pt x="352" y="1130"/>
                    </a:lnTo>
                    <a:lnTo>
                      <a:pt x="277" y="1118"/>
                    </a:lnTo>
                    <a:lnTo>
                      <a:pt x="233" y="1002"/>
                    </a:lnTo>
                    <a:lnTo>
                      <a:pt x="171" y="975"/>
                    </a:lnTo>
                    <a:lnTo>
                      <a:pt x="110" y="991"/>
                    </a:lnTo>
                    <a:lnTo>
                      <a:pt x="67" y="1064"/>
                    </a:lnTo>
                    <a:lnTo>
                      <a:pt x="97" y="1354"/>
                    </a:lnTo>
                    <a:lnTo>
                      <a:pt x="46" y="1263"/>
                    </a:lnTo>
                    <a:lnTo>
                      <a:pt x="0" y="730"/>
                    </a:lnTo>
                    <a:lnTo>
                      <a:pt x="40" y="627"/>
                    </a:lnTo>
                    <a:lnTo>
                      <a:pt x="110" y="438"/>
                    </a:lnTo>
                    <a:lnTo>
                      <a:pt x="270" y="242"/>
                    </a:lnTo>
                    <a:lnTo>
                      <a:pt x="486" y="71"/>
                    </a:lnTo>
                    <a:lnTo>
                      <a:pt x="754" y="11"/>
                    </a:lnTo>
                    <a:lnTo>
                      <a:pt x="976" y="0"/>
                    </a:lnTo>
                    <a:lnTo>
                      <a:pt x="1095" y="55"/>
                    </a:lnTo>
                    <a:lnTo>
                      <a:pt x="1160" y="124"/>
                    </a:lnTo>
                    <a:lnTo>
                      <a:pt x="1286" y="165"/>
                    </a:lnTo>
                    <a:lnTo>
                      <a:pt x="1240" y="165"/>
                    </a:lnTo>
                    <a:lnTo>
                      <a:pt x="1240" y="189"/>
                    </a:lnTo>
                    <a:lnTo>
                      <a:pt x="1342" y="223"/>
                    </a:lnTo>
                    <a:lnTo>
                      <a:pt x="1270" y="251"/>
                    </a:lnTo>
                    <a:lnTo>
                      <a:pt x="1277" y="271"/>
                    </a:lnTo>
                    <a:lnTo>
                      <a:pt x="1314" y="290"/>
                    </a:lnTo>
                    <a:lnTo>
                      <a:pt x="1229" y="318"/>
                    </a:lnTo>
                    <a:lnTo>
                      <a:pt x="1277" y="365"/>
                    </a:lnTo>
                    <a:lnTo>
                      <a:pt x="1125" y="403"/>
                    </a:lnTo>
                    <a:lnTo>
                      <a:pt x="1125" y="413"/>
                    </a:lnTo>
                    <a:lnTo>
                      <a:pt x="1266" y="424"/>
                    </a:lnTo>
                    <a:lnTo>
                      <a:pt x="1116" y="470"/>
                    </a:lnTo>
                    <a:lnTo>
                      <a:pt x="1400" y="438"/>
                    </a:lnTo>
                    <a:lnTo>
                      <a:pt x="1383" y="530"/>
                    </a:lnTo>
                    <a:lnTo>
                      <a:pt x="864" y="631"/>
                    </a:lnTo>
                    <a:lnTo>
                      <a:pt x="585" y="6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501840" y="3891600"/>
                <a:ext cx="46800" cy="167040"/>
              </a:xfrm>
              <a:custGeom>
                <a:avLst/>
                <a:gdLst/>
                <a:ahLst/>
                <a:rect l="l" t="t" r="r" b="b"/>
                <a:pathLst>
                  <a:path w="567" h="1578">
                    <a:moveTo>
                      <a:pt x="320" y="150"/>
                    </a:moveTo>
                    <a:lnTo>
                      <a:pt x="358" y="245"/>
                    </a:lnTo>
                    <a:lnTo>
                      <a:pt x="358" y="635"/>
                    </a:lnTo>
                    <a:lnTo>
                      <a:pt x="304" y="761"/>
                    </a:lnTo>
                    <a:lnTo>
                      <a:pt x="304" y="904"/>
                    </a:lnTo>
                    <a:lnTo>
                      <a:pt x="239" y="1119"/>
                    </a:lnTo>
                    <a:lnTo>
                      <a:pt x="147" y="1255"/>
                    </a:lnTo>
                    <a:lnTo>
                      <a:pt x="0" y="1578"/>
                    </a:lnTo>
                    <a:lnTo>
                      <a:pt x="90" y="1471"/>
                    </a:lnTo>
                    <a:lnTo>
                      <a:pt x="198" y="1211"/>
                    </a:lnTo>
                    <a:lnTo>
                      <a:pt x="270" y="1105"/>
                    </a:lnTo>
                    <a:lnTo>
                      <a:pt x="341" y="941"/>
                    </a:lnTo>
                    <a:lnTo>
                      <a:pt x="341" y="794"/>
                    </a:lnTo>
                    <a:lnTo>
                      <a:pt x="484" y="704"/>
                    </a:lnTo>
                    <a:lnTo>
                      <a:pt x="567" y="455"/>
                    </a:lnTo>
                    <a:lnTo>
                      <a:pt x="567" y="261"/>
                    </a:lnTo>
                    <a:lnTo>
                      <a:pt x="558" y="121"/>
                    </a:lnTo>
                    <a:lnTo>
                      <a:pt x="532" y="42"/>
                    </a:lnTo>
                    <a:lnTo>
                      <a:pt x="468" y="0"/>
                    </a:lnTo>
                    <a:lnTo>
                      <a:pt x="521" y="60"/>
                    </a:lnTo>
                    <a:lnTo>
                      <a:pt x="532" y="110"/>
                    </a:lnTo>
                    <a:lnTo>
                      <a:pt x="521" y="139"/>
                    </a:lnTo>
                    <a:lnTo>
                      <a:pt x="444" y="90"/>
                    </a:lnTo>
                    <a:lnTo>
                      <a:pt x="437" y="97"/>
                    </a:lnTo>
                    <a:lnTo>
                      <a:pt x="488" y="178"/>
                    </a:lnTo>
                    <a:lnTo>
                      <a:pt x="505" y="305"/>
                    </a:lnTo>
                    <a:lnTo>
                      <a:pt x="505" y="429"/>
                    </a:lnTo>
                    <a:lnTo>
                      <a:pt x="468" y="275"/>
                    </a:lnTo>
                    <a:lnTo>
                      <a:pt x="345" y="110"/>
                    </a:lnTo>
                    <a:lnTo>
                      <a:pt x="320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411120" y="3988440"/>
                <a:ext cx="87480" cy="110880"/>
              </a:xfrm>
              <a:custGeom>
                <a:avLst/>
                <a:gdLst/>
                <a:ahLst/>
                <a:rect l="l" t="t" r="r" b="b"/>
                <a:pathLst>
                  <a:path w="1057" h="1050">
                    <a:moveTo>
                      <a:pt x="90" y="0"/>
                    </a:moveTo>
                    <a:lnTo>
                      <a:pt x="68" y="195"/>
                    </a:lnTo>
                    <a:lnTo>
                      <a:pt x="72" y="281"/>
                    </a:lnTo>
                    <a:lnTo>
                      <a:pt x="105" y="356"/>
                    </a:lnTo>
                    <a:lnTo>
                      <a:pt x="158" y="424"/>
                    </a:lnTo>
                    <a:lnTo>
                      <a:pt x="259" y="506"/>
                    </a:lnTo>
                    <a:lnTo>
                      <a:pt x="558" y="651"/>
                    </a:lnTo>
                    <a:lnTo>
                      <a:pt x="842" y="758"/>
                    </a:lnTo>
                    <a:lnTo>
                      <a:pt x="925" y="762"/>
                    </a:lnTo>
                    <a:lnTo>
                      <a:pt x="995" y="758"/>
                    </a:lnTo>
                    <a:lnTo>
                      <a:pt x="1057" y="730"/>
                    </a:lnTo>
                    <a:lnTo>
                      <a:pt x="1006" y="767"/>
                    </a:lnTo>
                    <a:lnTo>
                      <a:pt x="944" y="783"/>
                    </a:lnTo>
                    <a:lnTo>
                      <a:pt x="863" y="785"/>
                    </a:lnTo>
                    <a:lnTo>
                      <a:pt x="753" y="767"/>
                    </a:lnTo>
                    <a:lnTo>
                      <a:pt x="753" y="817"/>
                    </a:lnTo>
                    <a:lnTo>
                      <a:pt x="738" y="882"/>
                    </a:lnTo>
                    <a:lnTo>
                      <a:pt x="661" y="1009"/>
                    </a:lnTo>
                    <a:lnTo>
                      <a:pt x="704" y="901"/>
                    </a:lnTo>
                    <a:lnTo>
                      <a:pt x="709" y="824"/>
                    </a:lnTo>
                    <a:lnTo>
                      <a:pt x="624" y="861"/>
                    </a:lnTo>
                    <a:lnTo>
                      <a:pt x="624" y="978"/>
                    </a:lnTo>
                    <a:lnTo>
                      <a:pt x="598" y="1013"/>
                    </a:lnTo>
                    <a:lnTo>
                      <a:pt x="624" y="1050"/>
                    </a:lnTo>
                    <a:lnTo>
                      <a:pt x="591" y="1050"/>
                    </a:lnTo>
                    <a:lnTo>
                      <a:pt x="506" y="1009"/>
                    </a:lnTo>
                    <a:lnTo>
                      <a:pt x="328" y="843"/>
                    </a:lnTo>
                    <a:lnTo>
                      <a:pt x="215" y="721"/>
                    </a:lnTo>
                    <a:lnTo>
                      <a:pt x="98" y="567"/>
                    </a:lnTo>
                    <a:lnTo>
                      <a:pt x="0" y="370"/>
                    </a:lnTo>
                    <a:lnTo>
                      <a:pt x="107" y="541"/>
                    </a:lnTo>
                    <a:lnTo>
                      <a:pt x="204" y="633"/>
                    </a:lnTo>
                    <a:lnTo>
                      <a:pt x="81" y="411"/>
                    </a:lnTo>
                    <a:lnTo>
                      <a:pt x="52" y="288"/>
                    </a:lnTo>
                    <a:lnTo>
                      <a:pt x="52" y="213"/>
                    </a:lnTo>
                    <a:lnTo>
                      <a:pt x="68" y="91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403200" y="3956400"/>
                <a:ext cx="14400" cy="32760"/>
              </a:xfrm>
              <a:custGeom>
                <a:avLst/>
                <a:gdLst/>
                <a:ahLst/>
                <a:rect l="l" t="t" r="r" b="b"/>
                <a:pathLst>
                  <a:path w="180" h="312">
                    <a:moveTo>
                      <a:pt x="37" y="0"/>
                    </a:moveTo>
                    <a:lnTo>
                      <a:pt x="88" y="7"/>
                    </a:lnTo>
                    <a:lnTo>
                      <a:pt x="175" y="62"/>
                    </a:lnTo>
                    <a:lnTo>
                      <a:pt x="180" y="164"/>
                    </a:lnTo>
                    <a:lnTo>
                      <a:pt x="146" y="147"/>
                    </a:lnTo>
                    <a:lnTo>
                      <a:pt x="136" y="134"/>
                    </a:lnTo>
                    <a:lnTo>
                      <a:pt x="94" y="171"/>
                    </a:lnTo>
                    <a:lnTo>
                      <a:pt x="94" y="185"/>
                    </a:lnTo>
                    <a:lnTo>
                      <a:pt x="125" y="204"/>
                    </a:lnTo>
                    <a:lnTo>
                      <a:pt x="155" y="301"/>
                    </a:lnTo>
                    <a:lnTo>
                      <a:pt x="132" y="312"/>
                    </a:lnTo>
                    <a:lnTo>
                      <a:pt x="100" y="257"/>
                    </a:lnTo>
                    <a:lnTo>
                      <a:pt x="19" y="233"/>
                    </a:lnTo>
                    <a:lnTo>
                      <a:pt x="0" y="111"/>
                    </a:lnTo>
                    <a:lnTo>
                      <a:pt x="19" y="95"/>
                    </a:lnTo>
                    <a:lnTo>
                      <a:pt x="105" y="53"/>
                    </a:lnTo>
                    <a:lnTo>
                      <a:pt x="81" y="26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404640" y="398772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69" h="17">
                    <a:moveTo>
                      <a:pt x="0" y="0"/>
                    </a:moveTo>
                    <a:lnTo>
                      <a:pt x="69" y="17"/>
                    </a:lnTo>
                    <a:lnTo>
                      <a:pt x="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403200" y="3996000"/>
                <a:ext cx="11880" cy="20160"/>
              </a:xfrm>
              <a:custGeom>
                <a:avLst/>
                <a:gdLst/>
                <a:ahLst/>
                <a:rect l="l" t="t" r="r" b="b"/>
                <a:pathLst>
                  <a:path w="143" h="195">
                    <a:moveTo>
                      <a:pt x="0" y="0"/>
                    </a:moveTo>
                    <a:lnTo>
                      <a:pt x="26" y="23"/>
                    </a:lnTo>
                    <a:lnTo>
                      <a:pt x="67" y="37"/>
                    </a:lnTo>
                    <a:lnTo>
                      <a:pt x="143" y="18"/>
                    </a:lnTo>
                    <a:lnTo>
                      <a:pt x="114" y="85"/>
                    </a:lnTo>
                    <a:lnTo>
                      <a:pt x="61" y="103"/>
                    </a:lnTo>
                    <a:lnTo>
                      <a:pt x="33" y="195"/>
                    </a:lnTo>
                    <a:lnTo>
                      <a:pt x="6" y="140"/>
                    </a:lnTo>
                    <a:lnTo>
                      <a:pt x="6" y="112"/>
                    </a:lnTo>
                    <a:lnTo>
                      <a:pt x="33" y="85"/>
                    </a:lnTo>
                    <a:lnTo>
                      <a:pt x="15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423360" y="3958560"/>
                <a:ext cx="576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424440" y="3953520"/>
                <a:ext cx="8640" cy="35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429840" y="3963600"/>
                <a:ext cx="7920" cy="27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435240" y="3974040"/>
                <a:ext cx="5760" cy="18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465480" y="3914640"/>
                <a:ext cx="60840" cy="17640"/>
              </a:xfrm>
              <a:custGeom>
                <a:avLst/>
                <a:gdLst/>
                <a:ahLst/>
                <a:rect l="l" t="t" r="r" b="b"/>
                <a:pathLst>
                  <a:path w="743" h="165">
                    <a:moveTo>
                      <a:pt x="0" y="0"/>
                    </a:moveTo>
                    <a:lnTo>
                      <a:pt x="116" y="18"/>
                    </a:lnTo>
                    <a:lnTo>
                      <a:pt x="351" y="101"/>
                    </a:lnTo>
                    <a:lnTo>
                      <a:pt x="519" y="138"/>
                    </a:lnTo>
                    <a:lnTo>
                      <a:pt x="743" y="16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478080" y="3912120"/>
                <a:ext cx="40320" cy="14400"/>
              </a:xfrm>
              <a:custGeom>
                <a:avLst/>
                <a:gdLst/>
                <a:ahLst/>
                <a:rect l="l" t="t" r="r" b="b"/>
                <a:pathLst>
                  <a:path w="491" h="134">
                    <a:moveTo>
                      <a:pt x="0" y="0"/>
                    </a:moveTo>
                    <a:lnTo>
                      <a:pt x="82" y="28"/>
                    </a:lnTo>
                    <a:lnTo>
                      <a:pt x="260" y="88"/>
                    </a:lnTo>
                    <a:lnTo>
                      <a:pt x="491" y="1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370080" y="4016520"/>
                <a:ext cx="29520" cy="61560"/>
              </a:xfrm>
              <a:custGeom>
                <a:avLst/>
                <a:gdLst/>
                <a:ahLst/>
                <a:rect l="l" t="t" r="r" b="b"/>
                <a:pathLst>
                  <a:path w="365" h="579">
                    <a:moveTo>
                      <a:pt x="365" y="0"/>
                    </a:moveTo>
                    <a:lnTo>
                      <a:pt x="277" y="129"/>
                    </a:lnTo>
                    <a:lnTo>
                      <a:pt x="277" y="265"/>
                    </a:lnTo>
                    <a:lnTo>
                      <a:pt x="350" y="579"/>
                    </a:lnTo>
                    <a:lnTo>
                      <a:pt x="224" y="290"/>
                    </a:lnTo>
                    <a:lnTo>
                      <a:pt x="224" y="199"/>
                    </a:lnTo>
                    <a:lnTo>
                      <a:pt x="0" y="199"/>
                    </a:lnTo>
                    <a:lnTo>
                      <a:pt x="187" y="76"/>
                    </a:lnTo>
                    <a:lnTo>
                      <a:pt x="277" y="76"/>
                    </a:lnTo>
                    <a:lnTo>
                      <a:pt x="3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250920" y="4056120"/>
                <a:ext cx="348480" cy="420120"/>
              </a:xfrm>
              <a:custGeom>
                <a:avLst/>
                <a:gdLst/>
                <a:ahLst/>
                <a:rect l="l" t="t" r="r" b="b"/>
                <a:pathLst>
                  <a:path w="4215" h="3969">
                    <a:moveTo>
                      <a:pt x="1158" y="0"/>
                    </a:moveTo>
                    <a:lnTo>
                      <a:pt x="897" y="255"/>
                    </a:lnTo>
                    <a:lnTo>
                      <a:pt x="743" y="466"/>
                    </a:lnTo>
                    <a:lnTo>
                      <a:pt x="743" y="706"/>
                    </a:lnTo>
                    <a:lnTo>
                      <a:pt x="920" y="591"/>
                    </a:lnTo>
                    <a:lnTo>
                      <a:pt x="920" y="756"/>
                    </a:lnTo>
                    <a:lnTo>
                      <a:pt x="1314" y="1684"/>
                    </a:lnTo>
                    <a:lnTo>
                      <a:pt x="1224" y="1582"/>
                    </a:lnTo>
                    <a:lnTo>
                      <a:pt x="1134" y="1582"/>
                    </a:lnTo>
                    <a:lnTo>
                      <a:pt x="1072" y="1610"/>
                    </a:lnTo>
                    <a:lnTo>
                      <a:pt x="1031" y="1644"/>
                    </a:lnTo>
                    <a:lnTo>
                      <a:pt x="1174" y="1960"/>
                    </a:lnTo>
                    <a:lnTo>
                      <a:pt x="1448" y="2451"/>
                    </a:lnTo>
                    <a:lnTo>
                      <a:pt x="1868" y="2890"/>
                    </a:lnTo>
                    <a:lnTo>
                      <a:pt x="2031" y="3026"/>
                    </a:lnTo>
                    <a:lnTo>
                      <a:pt x="2031" y="3116"/>
                    </a:lnTo>
                    <a:lnTo>
                      <a:pt x="1930" y="3239"/>
                    </a:lnTo>
                    <a:lnTo>
                      <a:pt x="1930" y="3380"/>
                    </a:lnTo>
                    <a:lnTo>
                      <a:pt x="2129" y="3343"/>
                    </a:lnTo>
                    <a:lnTo>
                      <a:pt x="2158" y="3295"/>
                    </a:lnTo>
                    <a:lnTo>
                      <a:pt x="2145" y="3228"/>
                    </a:lnTo>
                    <a:lnTo>
                      <a:pt x="2094" y="3191"/>
                    </a:lnTo>
                    <a:lnTo>
                      <a:pt x="2296" y="3239"/>
                    </a:lnTo>
                    <a:lnTo>
                      <a:pt x="2435" y="3228"/>
                    </a:lnTo>
                    <a:lnTo>
                      <a:pt x="2575" y="3178"/>
                    </a:lnTo>
                    <a:lnTo>
                      <a:pt x="2712" y="3065"/>
                    </a:lnTo>
                    <a:lnTo>
                      <a:pt x="2815" y="2967"/>
                    </a:lnTo>
                    <a:lnTo>
                      <a:pt x="2749" y="3076"/>
                    </a:lnTo>
                    <a:lnTo>
                      <a:pt x="2700" y="3166"/>
                    </a:lnTo>
                    <a:lnTo>
                      <a:pt x="2903" y="3191"/>
                    </a:lnTo>
                    <a:lnTo>
                      <a:pt x="3154" y="3203"/>
                    </a:lnTo>
                    <a:lnTo>
                      <a:pt x="3357" y="3154"/>
                    </a:lnTo>
                    <a:lnTo>
                      <a:pt x="3433" y="2855"/>
                    </a:lnTo>
                    <a:lnTo>
                      <a:pt x="3468" y="2855"/>
                    </a:lnTo>
                    <a:lnTo>
                      <a:pt x="3494" y="2890"/>
                    </a:lnTo>
                    <a:lnTo>
                      <a:pt x="3521" y="2991"/>
                    </a:lnTo>
                    <a:lnTo>
                      <a:pt x="3535" y="3076"/>
                    </a:lnTo>
                    <a:lnTo>
                      <a:pt x="4203" y="3039"/>
                    </a:lnTo>
                    <a:lnTo>
                      <a:pt x="4215" y="3116"/>
                    </a:lnTo>
                    <a:lnTo>
                      <a:pt x="4215" y="3178"/>
                    </a:lnTo>
                    <a:lnTo>
                      <a:pt x="4189" y="3254"/>
                    </a:lnTo>
                    <a:lnTo>
                      <a:pt x="4037" y="3265"/>
                    </a:lnTo>
                    <a:lnTo>
                      <a:pt x="3913" y="3343"/>
                    </a:lnTo>
                    <a:lnTo>
                      <a:pt x="3683" y="3390"/>
                    </a:lnTo>
                    <a:lnTo>
                      <a:pt x="3481" y="3380"/>
                    </a:lnTo>
                    <a:lnTo>
                      <a:pt x="3281" y="3441"/>
                    </a:lnTo>
                    <a:lnTo>
                      <a:pt x="3105" y="3481"/>
                    </a:lnTo>
                    <a:lnTo>
                      <a:pt x="2852" y="3492"/>
                    </a:lnTo>
                    <a:lnTo>
                      <a:pt x="2547" y="3457"/>
                    </a:lnTo>
                    <a:lnTo>
                      <a:pt x="2320" y="3481"/>
                    </a:lnTo>
                    <a:lnTo>
                      <a:pt x="2129" y="3542"/>
                    </a:lnTo>
                    <a:lnTo>
                      <a:pt x="1990" y="3620"/>
                    </a:lnTo>
                    <a:lnTo>
                      <a:pt x="1615" y="3516"/>
                    </a:lnTo>
                    <a:lnTo>
                      <a:pt x="681" y="3969"/>
                    </a:lnTo>
                    <a:lnTo>
                      <a:pt x="0" y="3969"/>
                    </a:lnTo>
                    <a:lnTo>
                      <a:pt x="176" y="1723"/>
                    </a:lnTo>
                    <a:lnTo>
                      <a:pt x="328" y="1244"/>
                    </a:lnTo>
                    <a:lnTo>
                      <a:pt x="266" y="1558"/>
                    </a:lnTo>
                    <a:lnTo>
                      <a:pt x="418" y="2059"/>
                    </a:lnTo>
                    <a:lnTo>
                      <a:pt x="418" y="2500"/>
                    </a:lnTo>
                    <a:lnTo>
                      <a:pt x="591" y="2977"/>
                    </a:lnTo>
                    <a:lnTo>
                      <a:pt x="681" y="2977"/>
                    </a:lnTo>
                    <a:lnTo>
                      <a:pt x="907" y="2488"/>
                    </a:lnTo>
                    <a:lnTo>
                      <a:pt x="602" y="1886"/>
                    </a:lnTo>
                    <a:lnTo>
                      <a:pt x="556" y="1697"/>
                    </a:lnTo>
                    <a:lnTo>
                      <a:pt x="528" y="1497"/>
                    </a:lnTo>
                    <a:lnTo>
                      <a:pt x="556" y="1281"/>
                    </a:lnTo>
                    <a:lnTo>
                      <a:pt x="681" y="780"/>
                    </a:lnTo>
                    <a:lnTo>
                      <a:pt x="618" y="729"/>
                    </a:lnTo>
                    <a:lnTo>
                      <a:pt x="577" y="665"/>
                    </a:lnTo>
                    <a:lnTo>
                      <a:pt x="567" y="618"/>
                    </a:lnTo>
                    <a:lnTo>
                      <a:pt x="441" y="905"/>
                    </a:lnTo>
                    <a:lnTo>
                      <a:pt x="540" y="591"/>
                    </a:lnTo>
                    <a:lnTo>
                      <a:pt x="591" y="517"/>
                    </a:lnTo>
                    <a:lnTo>
                      <a:pt x="769" y="317"/>
                    </a:lnTo>
                    <a:lnTo>
                      <a:pt x="943" y="139"/>
                    </a:lnTo>
                    <a:lnTo>
                      <a:pt x="11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363600" y="4108680"/>
                <a:ext cx="107640" cy="224640"/>
              </a:xfrm>
              <a:custGeom>
                <a:avLst/>
                <a:gdLst/>
                <a:ahLst/>
                <a:rect l="l" t="t" r="r" b="b"/>
                <a:pathLst>
                  <a:path w="1300" h="2125">
                    <a:moveTo>
                      <a:pt x="0" y="140"/>
                    </a:moveTo>
                    <a:lnTo>
                      <a:pt x="378" y="378"/>
                    </a:lnTo>
                    <a:lnTo>
                      <a:pt x="641" y="829"/>
                    </a:lnTo>
                    <a:lnTo>
                      <a:pt x="641" y="1020"/>
                    </a:lnTo>
                    <a:lnTo>
                      <a:pt x="984" y="1318"/>
                    </a:lnTo>
                    <a:lnTo>
                      <a:pt x="1111" y="1556"/>
                    </a:lnTo>
                    <a:lnTo>
                      <a:pt x="1083" y="967"/>
                    </a:lnTo>
                    <a:lnTo>
                      <a:pt x="1083" y="589"/>
                    </a:lnTo>
                    <a:lnTo>
                      <a:pt x="1111" y="327"/>
                    </a:lnTo>
                    <a:lnTo>
                      <a:pt x="1072" y="266"/>
                    </a:lnTo>
                    <a:lnTo>
                      <a:pt x="984" y="378"/>
                    </a:lnTo>
                    <a:lnTo>
                      <a:pt x="906" y="424"/>
                    </a:lnTo>
                    <a:lnTo>
                      <a:pt x="998" y="327"/>
                    </a:lnTo>
                    <a:lnTo>
                      <a:pt x="1072" y="165"/>
                    </a:lnTo>
                    <a:lnTo>
                      <a:pt x="1160" y="27"/>
                    </a:lnTo>
                    <a:lnTo>
                      <a:pt x="1212" y="0"/>
                    </a:lnTo>
                    <a:lnTo>
                      <a:pt x="1160" y="80"/>
                    </a:lnTo>
                    <a:lnTo>
                      <a:pt x="1224" y="304"/>
                    </a:lnTo>
                    <a:lnTo>
                      <a:pt x="1160" y="304"/>
                    </a:lnTo>
                    <a:lnTo>
                      <a:pt x="1146" y="516"/>
                    </a:lnTo>
                    <a:lnTo>
                      <a:pt x="1184" y="1120"/>
                    </a:lnTo>
                    <a:lnTo>
                      <a:pt x="1247" y="1723"/>
                    </a:lnTo>
                    <a:lnTo>
                      <a:pt x="1300" y="1910"/>
                    </a:lnTo>
                    <a:lnTo>
                      <a:pt x="1035" y="2059"/>
                    </a:lnTo>
                    <a:lnTo>
                      <a:pt x="1146" y="1961"/>
                    </a:lnTo>
                    <a:lnTo>
                      <a:pt x="1095" y="1881"/>
                    </a:lnTo>
                    <a:lnTo>
                      <a:pt x="971" y="1910"/>
                    </a:lnTo>
                    <a:lnTo>
                      <a:pt x="694" y="2099"/>
                    </a:lnTo>
                    <a:lnTo>
                      <a:pt x="606" y="2125"/>
                    </a:lnTo>
                    <a:lnTo>
                      <a:pt x="593" y="2086"/>
                    </a:lnTo>
                    <a:lnTo>
                      <a:pt x="756" y="1934"/>
                    </a:lnTo>
                    <a:lnTo>
                      <a:pt x="1095" y="1821"/>
                    </a:lnTo>
                    <a:lnTo>
                      <a:pt x="1045" y="1685"/>
                    </a:lnTo>
                    <a:lnTo>
                      <a:pt x="1045" y="1547"/>
                    </a:lnTo>
                    <a:lnTo>
                      <a:pt x="998" y="1470"/>
                    </a:lnTo>
                    <a:lnTo>
                      <a:pt x="606" y="1169"/>
                    </a:lnTo>
                    <a:lnTo>
                      <a:pt x="138" y="841"/>
                    </a:lnTo>
                    <a:lnTo>
                      <a:pt x="657" y="1154"/>
                    </a:lnTo>
                    <a:lnTo>
                      <a:pt x="390" y="463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429120" y="4331520"/>
                <a:ext cx="17280" cy="49680"/>
              </a:xfrm>
              <a:custGeom>
                <a:avLst/>
                <a:gdLst/>
                <a:ahLst/>
                <a:rect l="l" t="t" r="r" b="b"/>
                <a:pathLst>
                  <a:path w="203" h="466">
                    <a:moveTo>
                      <a:pt x="203" y="0"/>
                    </a:moveTo>
                    <a:lnTo>
                      <a:pt x="111" y="51"/>
                    </a:lnTo>
                    <a:lnTo>
                      <a:pt x="0" y="403"/>
                    </a:lnTo>
                    <a:lnTo>
                      <a:pt x="99" y="466"/>
                    </a:lnTo>
                    <a:lnTo>
                      <a:pt x="203" y="378"/>
                    </a:lnTo>
                    <a:lnTo>
                      <a:pt x="203" y="136"/>
                    </a:lnTo>
                    <a:lnTo>
                      <a:pt x="152" y="136"/>
                    </a:lnTo>
                    <a:lnTo>
                      <a:pt x="152" y="76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447120" y="4318920"/>
                <a:ext cx="41760" cy="63360"/>
              </a:xfrm>
              <a:custGeom>
                <a:avLst/>
                <a:gdLst/>
                <a:ahLst/>
                <a:rect l="l" t="t" r="r" b="b"/>
                <a:pathLst>
                  <a:path w="506" h="599">
                    <a:moveTo>
                      <a:pt x="138" y="162"/>
                    </a:moveTo>
                    <a:lnTo>
                      <a:pt x="317" y="0"/>
                    </a:lnTo>
                    <a:lnTo>
                      <a:pt x="506" y="72"/>
                    </a:lnTo>
                    <a:lnTo>
                      <a:pt x="506" y="173"/>
                    </a:lnTo>
                    <a:lnTo>
                      <a:pt x="391" y="325"/>
                    </a:lnTo>
                    <a:lnTo>
                      <a:pt x="0" y="599"/>
                    </a:lnTo>
                    <a:lnTo>
                      <a:pt x="279" y="364"/>
                    </a:lnTo>
                    <a:lnTo>
                      <a:pt x="317" y="274"/>
                    </a:lnTo>
                    <a:lnTo>
                      <a:pt x="329" y="198"/>
                    </a:lnTo>
                    <a:lnTo>
                      <a:pt x="317" y="138"/>
                    </a:lnTo>
                    <a:lnTo>
                      <a:pt x="279" y="112"/>
                    </a:lnTo>
                    <a:lnTo>
                      <a:pt x="230" y="112"/>
                    </a:lnTo>
                    <a:lnTo>
                      <a:pt x="138" y="1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496080" y="4296240"/>
                <a:ext cx="257760" cy="105120"/>
              </a:xfrm>
              <a:custGeom>
                <a:avLst/>
                <a:gdLst/>
                <a:ahLst/>
                <a:rect l="l" t="t" r="r" b="b"/>
                <a:pathLst>
                  <a:path w="3106" h="992">
                    <a:moveTo>
                      <a:pt x="0" y="215"/>
                    </a:moveTo>
                    <a:lnTo>
                      <a:pt x="430" y="377"/>
                    </a:lnTo>
                    <a:lnTo>
                      <a:pt x="540" y="268"/>
                    </a:lnTo>
                    <a:lnTo>
                      <a:pt x="770" y="268"/>
                    </a:lnTo>
                    <a:lnTo>
                      <a:pt x="896" y="364"/>
                    </a:lnTo>
                    <a:lnTo>
                      <a:pt x="1010" y="327"/>
                    </a:lnTo>
                    <a:lnTo>
                      <a:pt x="1603" y="314"/>
                    </a:lnTo>
                    <a:lnTo>
                      <a:pt x="2017" y="226"/>
                    </a:lnTo>
                    <a:lnTo>
                      <a:pt x="2589" y="0"/>
                    </a:lnTo>
                    <a:lnTo>
                      <a:pt x="2663" y="49"/>
                    </a:lnTo>
                    <a:lnTo>
                      <a:pt x="2676" y="100"/>
                    </a:lnTo>
                    <a:lnTo>
                      <a:pt x="2614" y="162"/>
                    </a:lnTo>
                    <a:lnTo>
                      <a:pt x="2689" y="238"/>
                    </a:lnTo>
                    <a:lnTo>
                      <a:pt x="2713" y="302"/>
                    </a:lnTo>
                    <a:lnTo>
                      <a:pt x="2689" y="377"/>
                    </a:lnTo>
                    <a:lnTo>
                      <a:pt x="3091" y="413"/>
                    </a:lnTo>
                    <a:lnTo>
                      <a:pt x="3106" y="439"/>
                    </a:lnTo>
                    <a:lnTo>
                      <a:pt x="2689" y="461"/>
                    </a:lnTo>
                    <a:lnTo>
                      <a:pt x="2689" y="500"/>
                    </a:lnTo>
                    <a:lnTo>
                      <a:pt x="2713" y="540"/>
                    </a:lnTo>
                    <a:lnTo>
                      <a:pt x="3078" y="553"/>
                    </a:lnTo>
                    <a:lnTo>
                      <a:pt x="3043" y="602"/>
                    </a:lnTo>
                    <a:lnTo>
                      <a:pt x="2737" y="665"/>
                    </a:lnTo>
                    <a:lnTo>
                      <a:pt x="2737" y="715"/>
                    </a:lnTo>
                    <a:lnTo>
                      <a:pt x="2953" y="715"/>
                    </a:lnTo>
                    <a:lnTo>
                      <a:pt x="2977" y="680"/>
                    </a:lnTo>
                    <a:lnTo>
                      <a:pt x="2965" y="740"/>
                    </a:lnTo>
                    <a:lnTo>
                      <a:pt x="2589" y="791"/>
                    </a:lnTo>
                    <a:lnTo>
                      <a:pt x="2160" y="814"/>
                    </a:lnTo>
                    <a:lnTo>
                      <a:pt x="1992" y="814"/>
                    </a:lnTo>
                    <a:lnTo>
                      <a:pt x="1753" y="854"/>
                    </a:lnTo>
                    <a:lnTo>
                      <a:pt x="1676" y="992"/>
                    </a:lnTo>
                    <a:lnTo>
                      <a:pt x="1314" y="992"/>
                    </a:lnTo>
                    <a:lnTo>
                      <a:pt x="1641" y="953"/>
                    </a:lnTo>
                    <a:lnTo>
                      <a:pt x="1692" y="867"/>
                    </a:lnTo>
                    <a:lnTo>
                      <a:pt x="1715" y="752"/>
                    </a:lnTo>
                    <a:lnTo>
                      <a:pt x="1715" y="641"/>
                    </a:lnTo>
                    <a:lnTo>
                      <a:pt x="1676" y="489"/>
                    </a:lnTo>
                    <a:lnTo>
                      <a:pt x="1630" y="364"/>
                    </a:lnTo>
                    <a:lnTo>
                      <a:pt x="1010" y="377"/>
                    </a:lnTo>
                    <a:lnTo>
                      <a:pt x="881" y="401"/>
                    </a:lnTo>
                    <a:lnTo>
                      <a:pt x="669" y="314"/>
                    </a:lnTo>
                    <a:lnTo>
                      <a:pt x="468" y="473"/>
                    </a:lnTo>
                    <a:lnTo>
                      <a:pt x="415" y="401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567720" y="4349520"/>
                <a:ext cx="29520" cy="15120"/>
              </a:xfrm>
              <a:custGeom>
                <a:avLst/>
                <a:gdLst/>
                <a:ahLst/>
                <a:rect l="l" t="t" r="r" b="b"/>
                <a:pathLst>
                  <a:path w="366" h="150">
                    <a:moveTo>
                      <a:pt x="366" y="114"/>
                    </a:moveTo>
                    <a:lnTo>
                      <a:pt x="200" y="0"/>
                    </a:lnTo>
                    <a:lnTo>
                      <a:pt x="0" y="40"/>
                    </a:lnTo>
                    <a:lnTo>
                      <a:pt x="38" y="93"/>
                    </a:lnTo>
                    <a:lnTo>
                      <a:pt x="302" y="150"/>
                    </a:lnTo>
                    <a:lnTo>
                      <a:pt x="366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466200" y="4085640"/>
                <a:ext cx="25560" cy="231120"/>
              </a:xfrm>
              <a:custGeom>
                <a:avLst/>
                <a:gdLst/>
                <a:ahLst/>
                <a:rect l="l" t="t" r="r" b="b"/>
                <a:pathLst>
                  <a:path w="315" h="2186">
                    <a:moveTo>
                      <a:pt x="175" y="2133"/>
                    </a:moveTo>
                    <a:lnTo>
                      <a:pt x="214" y="2085"/>
                    </a:lnTo>
                    <a:lnTo>
                      <a:pt x="214" y="1958"/>
                    </a:lnTo>
                    <a:lnTo>
                      <a:pt x="124" y="1633"/>
                    </a:lnTo>
                    <a:lnTo>
                      <a:pt x="62" y="1180"/>
                    </a:lnTo>
                    <a:lnTo>
                      <a:pt x="49" y="796"/>
                    </a:lnTo>
                    <a:lnTo>
                      <a:pt x="21" y="540"/>
                    </a:lnTo>
                    <a:lnTo>
                      <a:pt x="49" y="466"/>
                    </a:lnTo>
                    <a:lnTo>
                      <a:pt x="49" y="325"/>
                    </a:lnTo>
                    <a:lnTo>
                      <a:pt x="0" y="213"/>
                    </a:lnTo>
                    <a:lnTo>
                      <a:pt x="73" y="277"/>
                    </a:lnTo>
                    <a:lnTo>
                      <a:pt x="99" y="213"/>
                    </a:lnTo>
                    <a:lnTo>
                      <a:pt x="111" y="127"/>
                    </a:lnTo>
                    <a:lnTo>
                      <a:pt x="111" y="0"/>
                    </a:lnTo>
                    <a:lnTo>
                      <a:pt x="124" y="104"/>
                    </a:lnTo>
                    <a:lnTo>
                      <a:pt x="136" y="213"/>
                    </a:lnTo>
                    <a:lnTo>
                      <a:pt x="111" y="341"/>
                    </a:lnTo>
                    <a:lnTo>
                      <a:pt x="73" y="466"/>
                    </a:lnTo>
                    <a:lnTo>
                      <a:pt x="49" y="551"/>
                    </a:lnTo>
                    <a:lnTo>
                      <a:pt x="111" y="1292"/>
                    </a:lnTo>
                    <a:lnTo>
                      <a:pt x="185" y="1732"/>
                    </a:lnTo>
                    <a:lnTo>
                      <a:pt x="262" y="1958"/>
                    </a:lnTo>
                    <a:lnTo>
                      <a:pt x="315" y="2186"/>
                    </a:lnTo>
                    <a:lnTo>
                      <a:pt x="175" y="2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492840" y="4068720"/>
                <a:ext cx="143640" cy="259920"/>
              </a:xfrm>
              <a:custGeom>
                <a:avLst/>
                <a:gdLst/>
                <a:ahLst/>
                <a:rect l="l" t="t" r="r" b="b"/>
                <a:pathLst>
                  <a:path w="1731" h="2462">
                    <a:moveTo>
                      <a:pt x="152" y="0"/>
                    </a:moveTo>
                    <a:lnTo>
                      <a:pt x="379" y="203"/>
                    </a:lnTo>
                    <a:lnTo>
                      <a:pt x="440" y="376"/>
                    </a:lnTo>
                    <a:lnTo>
                      <a:pt x="480" y="541"/>
                    </a:lnTo>
                    <a:lnTo>
                      <a:pt x="480" y="800"/>
                    </a:lnTo>
                    <a:lnTo>
                      <a:pt x="368" y="1646"/>
                    </a:lnTo>
                    <a:lnTo>
                      <a:pt x="267" y="1747"/>
                    </a:lnTo>
                    <a:lnTo>
                      <a:pt x="0" y="1784"/>
                    </a:lnTo>
                    <a:lnTo>
                      <a:pt x="368" y="1772"/>
                    </a:lnTo>
                    <a:lnTo>
                      <a:pt x="254" y="2450"/>
                    </a:lnTo>
                    <a:lnTo>
                      <a:pt x="278" y="2462"/>
                    </a:lnTo>
                    <a:lnTo>
                      <a:pt x="406" y="1881"/>
                    </a:lnTo>
                    <a:lnTo>
                      <a:pt x="883" y="2273"/>
                    </a:lnTo>
                    <a:lnTo>
                      <a:pt x="996" y="2273"/>
                    </a:lnTo>
                    <a:lnTo>
                      <a:pt x="1174" y="2185"/>
                    </a:lnTo>
                    <a:lnTo>
                      <a:pt x="1363" y="2035"/>
                    </a:lnTo>
                    <a:lnTo>
                      <a:pt x="1500" y="1895"/>
                    </a:lnTo>
                    <a:lnTo>
                      <a:pt x="1603" y="1759"/>
                    </a:lnTo>
                    <a:lnTo>
                      <a:pt x="1462" y="1881"/>
                    </a:lnTo>
                    <a:lnTo>
                      <a:pt x="1363" y="1809"/>
                    </a:lnTo>
                    <a:lnTo>
                      <a:pt x="1480" y="1734"/>
                    </a:lnTo>
                    <a:lnTo>
                      <a:pt x="1238" y="1809"/>
                    </a:lnTo>
                    <a:lnTo>
                      <a:pt x="950" y="1846"/>
                    </a:lnTo>
                    <a:lnTo>
                      <a:pt x="669" y="1846"/>
                    </a:lnTo>
                    <a:lnTo>
                      <a:pt x="555" y="1846"/>
                    </a:lnTo>
                    <a:lnTo>
                      <a:pt x="469" y="1784"/>
                    </a:lnTo>
                    <a:lnTo>
                      <a:pt x="647" y="1708"/>
                    </a:lnTo>
                    <a:lnTo>
                      <a:pt x="1012" y="1708"/>
                    </a:lnTo>
                    <a:lnTo>
                      <a:pt x="1300" y="1545"/>
                    </a:lnTo>
                    <a:lnTo>
                      <a:pt x="1012" y="1631"/>
                    </a:lnTo>
                    <a:lnTo>
                      <a:pt x="647" y="1631"/>
                    </a:lnTo>
                    <a:lnTo>
                      <a:pt x="440" y="1685"/>
                    </a:lnTo>
                    <a:lnTo>
                      <a:pt x="440" y="1496"/>
                    </a:lnTo>
                    <a:lnTo>
                      <a:pt x="987" y="1409"/>
                    </a:lnTo>
                    <a:lnTo>
                      <a:pt x="781" y="892"/>
                    </a:lnTo>
                    <a:lnTo>
                      <a:pt x="555" y="592"/>
                    </a:lnTo>
                    <a:lnTo>
                      <a:pt x="555" y="415"/>
                    </a:lnTo>
                    <a:lnTo>
                      <a:pt x="1570" y="1444"/>
                    </a:lnTo>
                    <a:lnTo>
                      <a:pt x="1731" y="1519"/>
                    </a:lnTo>
                    <a:lnTo>
                      <a:pt x="1642" y="1332"/>
                    </a:lnTo>
                    <a:lnTo>
                      <a:pt x="733" y="477"/>
                    </a:lnTo>
                    <a:lnTo>
                      <a:pt x="620" y="267"/>
                    </a:lnTo>
                    <a:lnTo>
                      <a:pt x="304" y="51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578880" y="4268880"/>
                <a:ext cx="64800" cy="61560"/>
              </a:xfrm>
              <a:custGeom>
                <a:avLst/>
                <a:gdLst/>
                <a:ahLst/>
                <a:rect l="l" t="t" r="r" b="b"/>
                <a:pathLst>
                  <a:path w="783" h="580">
                    <a:moveTo>
                      <a:pt x="0" y="442"/>
                    </a:moveTo>
                    <a:lnTo>
                      <a:pt x="317" y="378"/>
                    </a:lnTo>
                    <a:lnTo>
                      <a:pt x="670" y="580"/>
                    </a:lnTo>
                    <a:lnTo>
                      <a:pt x="783" y="540"/>
                    </a:lnTo>
                    <a:lnTo>
                      <a:pt x="504" y="378"/>
                    </a:lnTo>
                    <a:lnTo>
                      <a:pt x="619" y="166"/>
                    </a:lnTo>
                    <a:lnTo>
                      <a:pt x="619" y="0"/>
                    </a:lnTo>
                    <a:lnTo>
                      <a:pt x="402" y="265"/>
                    </a:lnTo>
                    <a:lnTo>
                      <a:pt x="216" y="362"/>
                    </a:lnTo>
                    <a:lnTo>
                      <a:pt x="0" y="4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626040" y="4225680"/>
                <a:ext cx="81360" cy="74520"/>
              </a:xfrm>
              <a:custGeom>
                <a:avLst/>
                <a:gdLst/>
                <a:ahLst/>
                <a:rect l="l" t="t" r="r" b="b"/>
                <a:pathLst>
                  <a:path w="984" h="703">
                    <a:moveTo>
                      <a:pt x="189" y="314"/>
                    </a:moveTo>
                    <a:lnTo>
                      <a:pt x="367" y="212"/>
                    </a:lnTo>
                    <a:lnTo>
                      <a:pt x="744" y="364"/>
                    </a:lnTo>
                    <a:lnTo>
                      <a:pt x="744" y="500"/>
                    </a:lnTo>
                    <a:lnTo>
                      <a:pt x="442" y="579"/>
                    </a:lnTo>
                    <a:lnTo>
                      <a:pt x="809" y="567"/>
                    </a:lnTo>
                    <a:lnTo>
                      <a:pt x="984" y="703"/>
                    </a:lnTo>
                    <a:lnTo>
                      <a:pt x="870" y="450"/>
                    </a:lnTo>
                    <a:lnTo>
                      <a:pt x="707" y="265"/>
                    </a:lnTo>
                    <a:lnTo>
                      <a:pt x="343" y="164"/>
                    </a:lnTo>
                    <a:lnTo>
                      <a:pt x="202" y="0"/>
                    </a:lnTo>
                    <a:lnTo>
                      <a:pt x="0" y="164"/>
                    </a:lnTo>
                    <a:lnTo>
                      <a:pt x="178" y="63"/>
                    </a:lnTo>
                    <a:lnTo>
                      <a:pt x="239" y="149"/>
                    </a:lnTo>
                    <a:lnTo>
                      <a:pt x="189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712800" y="4294440"/>
                <a:ext cx="48240" cy="43920"/>
              </a:xfrm>
              <a:custGeom>
                <a:avLst/>
                <a:gdLst/>
                <a:ahLst/>
                <a:rect l="l" t="t" r="r" b="b"/>
                <a:pathLst>
                  <a:path w="581" h="415">
                    <a:moveTo>
                      <a:pt x="22" y="0"/>
                    </a:moveTo>
                    <a:lnTo>
                      <a:pt x="464" y="37"/>
                    </a:lnTo>
                    <a:lnTo>
                      <a:pt x="581" y="240"/>
                    </a:lnTo>
                    <a:lnTo>
                      <a:pt x="581" y="288"/>
                    </a:lnTo>
                    <a:lnTo>
                      <a:pt x="492" y="316"/>
                    </a:lnTo>
                    <a:lnTo>
                      <a:pt x="363" y="240"/>
                    </a:lnTo>
                    <a:lnTo>
                      <a:pt x="187" y="240"/>
                    </a:lnTo>
                    <a:lnTo>
                      <a:pt x="477" y="351"/>
                    </a:lnTo>
                    <a:lnTo>
                      <a:pt x="492" y="415"/>
                    </a:lnTo>
                    <a:lnTo>
                      <a:pt x="453" y="367"/>
                    </a:lnTo>
                    <a:lnTo>
                      <a:pt x="22" y="229"/>
                    </a:lnTo>
                    <a:lnTo>
                      <a:pt x="0" y="192"/>
                    </a:lnTo>
                    <a:lnTo>
                      <a:pt x="464" y="176"/>
                    </a:lnTo>
                    <a:lnTo>
                      <a:pt x="453" y="75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736560" y="4333320"/>
                <a:ext cx="19080" cy="37080"/>
              </a:xfrm>
              <a:custGeom>
                <a:avLst/>
                <a:gdLst/>
                <a:ahLst/>
                <a:rect l="l" t="t" r="r" b="b"/>
                <a:pathLst>
                  <a:path w="228" h="352">
                    <a:moveTo>
                      <a:pt x="186" y="99"/>
                    </a:moveTo>
                    <a:lnTo>
                      <a:pt x="186" y="163"/>
                    </a:lnTo>
                    <a:lnTo>
                      <a:pt x="96" y="210"/>
                    </a:lnTo>
                    <a:lnTo>
                      <a:pt x="0" y="275"/>
                    </a:lnTo>
                    <a:lnTo>
                      <a:pt x="72" y="352"/>
                    </a:lnTo>
                    <a:lnTo>
                      <a:pt x="125" y="249"/>
                    </a:lnTo>
                    <a:lnTo>
                      <a:pt x="228" y="187"/>
                    </a:lnTo>
                    <a:lnTo>
                      <a:pt x="228" y="74"/>
                    </a:lnTo>
                    <a:lnTo>
                      <a:pt x="186" y="0"/>
                    </a:lnTo>
                    <a:lnTo>
                      <a:pt x="186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742680" y="4317120"/>
                <a:ext cx="30240" cy="55080"/>
              </a:xfrm>
              <a:custGeom>
                <a:avLst/>
                <a:gdLst/>
                <a:ahLst/>
                <a:rect l="l" t="t" r="r" b="b"/>
                <a:pathLst>
                  <a:path w="369" h="514">
                    <a:moveTo>
                      <a:pt x="129" y="71"/>
                    </a:moveTo>
                    <a:lnTo>
                      <a:pt x="325" y="396"/>
                    </a:lnTo>
                    <a:lnTo>
                      <a:pt x="369" y="514"/>
                    </a:lnTo>
                    <a:lnTo>
                      <a:pt x="269" y="42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707040" y="4238280"/>
                <a:ext cx="33480" cy="60840"/>
              </a:xfrm>
              <a:custGeom>
                <a:avLst/>
                <a:gdLst/>
                <a:ahLst/>
                <a:rect l="l" t="t" r="r" b="b"/>
                <a:pathLst>
                  <a:path w="413" h="576">
                    <a:moveTo>
                      <a:pt x="319" y="558"/>
                    </a:moveTo>
                    <a:lnTo>
                      <a:pt x="0" y="46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22" y="0"/>
                    </a:lnTo>
                    <a:lnTo>
                      <a:pt x="37" y="0"/>
                    </a:lnTo>
                    <a:lnTo>
                      <a:pt x="59" y="5"/>
                    </a:lnTo>
                    <a:lnTo>
                      <a:pt x="413" y="57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654480" y="4300920"/>
                <a:ext cx="39600" cy="26280"/>
              </a:xfrm>
              <a:custGeom>
                <a:avLst/>
                <a:gdLst/>
                <a:ahLst/>
                <a:rect l="l" t="t" r="r" b="b"/>
                <a:pathLst>
                  <a:path w="477" h="244">
                    <a:moveTo>
                      <a:pt x="67" y="181"/>
                    </a:moveTo>
                    <a:lnTo>
                      <a:pt x="99" y="82"/>
                    </a:lnTo>
                    <a:lnTo>
                      <a:pt x="180" y="34"/>
                    </a:lnTo>
                    <a:lnTo>
                      <a:pt x="279" y="34"/>
                    </a:lnTo>
                    <a:lnTo>
                      <a:pt x="427" y="62"/>
                    </a:lnTo>
                    <a:lnTo>
                      <a:pt x="477" y="34"/>
                    </a:lnTo>
                    <a:lnTo>
                      <a:pt x="310" y="0"/>
                    </a:lnTo>
                    <a:lnTo>
                      <a:pt x="198" y="0"/>
                    </a:lnTo>
                    <a:lnTo>
                      <a:pt x="99" y="34"/>
                    </a:lnTo>
                    <a:lnTo>
                      <a:pt x="51" y="99"/>
                    </a:lnTo>
                    <a:lnTo>
                      <a:pt x="0" y="244"/>
                    </a:lnTo>
                    <a:lnTo>
                      <a:pt x="67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624240" y="3800160"/>
                <a:ext cx="133560" cy="209160"/>
              </a:xfrm>
              <a:custGeom>
                <a:avLst/>
                <a:gdLst/>
                <a:ahLst/>
                <a:rect l="l" t="t" r="r" b="b"/>
                <a:pathLst>
                  <a:path w="1617" h="1969">
                    <a:moveTo>
                      <a:pt x="1578" y="822"/>
                    </a:moveTo>
                    <a:lnTo>
                      <a:pt x="1615" y="694"/>
                    </a:lnTo>
                    <a:lnTo>
                      <a:pt x="1617" y="512"/>
                    </a:lnTo>
                    <a:lnTo>
                      <a:pt x="1573" y="350"/>
                    </a:lnTo>
                    <a:lnTo>
                      <a:pt x="1506" y="233"/>
                    </a:lnTo>
                    <a:lnTo>
                      <a:pt x="1413" y="123"/>
                    </a:lnTo>
                    <a:lnTo>
                      <a:pt x="1275" y="48"/>
                    </a:lnTo>
                    <a:lnTo>
                      <a:pt x="980" y="0"/>
                    </a:lnTo>
                    <a:lnTo>
                      <a:pt x="710" y="73"/>
                    </a:lnTo>
                    <a:lnTo>
                      <a:pt x="565" y="198"/>
                    </a:lnTo>
                    <a:lnTo>
                      <a:pt x="439" y="417"/>
                    </a:lnTo>
                    <a:lnTo>
                      <a:pt x="404" y="631"/>
                    </a:lnTo>
                    <a:lnTo>
                      <a:pt x="351" y="818"/>
                    </a:lnTo>
                    <a:lnTo>
                      <a:pt x="356" y="910"/>
                    </a:lnTo>
                    <a:lnTo>
                      <a:pt x="404" y="1026"/>
                    </a:lnTo>
                    <a:lnTo>
                      <a:pt x="393" y="1095"/>
                    </a:lnTo>
                    <a:lnTo>
                      <a:pt x="268" y="1185"/>
                    </a:lnTo>
                    <a:lnTo>
                      <a:pt x="171" y="1270"/>
                    </a:lnTo>
                    <a:lnTo>
                      <a:pt x="106" y="1411"/>
                    </a:lnTo>
                    <a:lnTo>
                      <a:pt x="106" y="1484"/>
                    </a:lnTo>
                    <a:lnTo>
                      <a:pt x="116" y="1554"/>
                    </a:lnTo>
                    <a:lnTo>
                      <a:pt x="130" y="1597"/>
                    </a:lnTo>
                    <a:lnTo>
                      <a:pt x="112" y="1653"/>
                    </a:lnTo>
                    <a:lnTo>
                      <a:pt x="0" y="1754"/>
                    </a:lnTo>
                    <a:lnTo>
                      <a:pt x="160" y="1712"/>
                    </a:lnTo>
                    <a:lnTo>
                      <a:pt x="347" y="1657"/>
                    </a:lnTo>
                    <a:lnTo>
                      <a:pt x="415" y="1861"/>
                    </a:lnTo>
                    <a:lnTo>
                      <a:pt x="479" y="1969"/>
                    </a:lnTo>
                    <a:lnTo>
                      <a:pt x="450" y="1872"/>
                    </a:lnTo>
                    <a:lnTo>
                      <a:pt x="450" y="1800"/>
                    </a:lnTo>
                    <a:lnTo>
                      <a:pt x="468" y="1758"/>
                    </a:lnTo>
                    <a:lnTo>
                      <a:pt x="505" y="1754"/>
                    </a:lnTo>
                    <a:lnTo>
                      <a:pt x="565" y="1769"/>
                    </a:lnTo>
                    <a:lnTo>
                      <a:pt x="628" y="1826"/>
                    </a:lnTo>
                    <a:lnTo>
                      <a:pt x="685" y="1904"/>
                    </a:lnTo>
                    <a:lnTo>
                      <a:pt x="639" y="1754"/>
                    </a:lnTo>
                    <a:lnTo>
                      <a:pt x="618" y="1641"/>
                    </a:lnTo>
                    <a:lnTo>
                      <a:pt x="604" y="1507"/>
                    </a:lnTo>
                    <a:lnTo>
                      <a:pt x="611" y="1411"/>
                    </a:lnTo>
                    <a:lnTo>
                      <a:pt x="674" y="1507"/>
                    </a:lnTo>
                    <a:lnTo>
                      <a:pt x="765" y="1593"/>
                    </a:lnTo>
                    <a:lnTo>
                      <a:pt x="870" y="1666"/>
                    </a:lnTo>
                    <a:lnTo>
                      <a:pt x="980" y="1703"/>
                    </a:lnTo>
                    <a:lnTo>
                      <a:pt x="888" y="1666"/>
                    </a:lnTo>
                    <a:lnTo>
                      <a:pt x="802" y="1613"/>
                    </a:lnTo>
                    <a:lnTo>
                      <a:pt x="717" y="1533"/>
                    </a:lnTo>
                    <a:lnTo>
                      <a:pt x="671" y="1466"/>
                    </a:lnTo>
                    <a:lnTo>
                      <a:pt x="632" y="1399"/>
                    </a:lnTo>
                    <a:lnTo>
                      <a:pt x="618" y="1339"/>
                    </a:lnTo>
                    <a:lnTo>
                      <a:pt x="611" y="1261"/>
                    </a:lnTo>
                    <a:lnTo>
                      <a:pt x="598" y="1180"/>
                    </a:lnTo>
                    <a:lnTo>
                      <a:pt x="591" y="1042"/>
                    </a:lnTo>
                    <a:lnTo>
                      <a:pt x="584" y="1237"/>
                    </a:lnTo>
                    <a:lnTo>
                      <a:pt x="569" y="1261"/>
                    </a:lnTo>
                    <a:lnTo>
                      <a:pt x="538" y="1277"/>
                    </a:lnTo>
                    <a:lnTo>
                      <a:pt x="499" y="1261"/>
                    </a:lnTo>
                    <a:lnTo>
                      <a:pt x="479" y="1217"/>
                    </a:lnTo>
                    <a:lnTo>
                      <a:pt x="479" y="1167"/>
                    </a:lnTo>
                    <a:lnTo>
                      <a:pt x="494" y="1114"/>
                    </a:lnTo>
                    <a:lnTo>
                      <a:pt x="523" y="1072"/>
                    </a:lnTo>
                    <a:lnTo>
                      <a:pt x="487" y="1092"/>
                    </a:lnTo>
                    <a:lnTo>
                      <a:pt x="429" y="963"/>
                    </a:lnTo>
                    <a:lnTo>
                      <a:pt x="411" y="910"/>
                    </a:lnTo>
                    <a:lnTo>
                      <a:pt x="404" y="853"/>
                    </a:lnTo>
                    <a:lnTo>
                      <a:pt x="411" y="804"/>
                    </a:lnTo>
                    <a:lnTo>
                      <a:pt x="436" y="776"/>
                    </a:lnTo>
                    <a:lnTo>
                      <a:pt x="461" y="751"/>
                    </a:lnTo>
                    <a:lnTo>
                      <a:pt x="487" y="751"/>
                    </a:lnTo>
                    <a:lnTo>
                      <a:pt x="514" y="767"/>
                    </a:lnTo>
                    <a:lnTo>
                      <a:pt x="538" y="804"/>
                    </a:lnTo>
                    <a:lnTo>
                      <a:pt x="565" y="890"/>
                    </a:lnTo>
                    <a:lnTo>
                      <a:pt x="574" y="782"/>
                    </a:lnTo>
                    <a:lnTo>
                      <a:pt x="622" y="687"/>
                    </a:lnTo>
                    <a:lnTo>
                      <a:pt x="697" y="549"/>
                    </a:lnTo>
                    <a:lnTo>
                      <a:pt x="741" y="435"/>
                    </a:lnTo>
                    <a:lnTo>
                      <a:pt x="798" y="354"/>
                    </a:lnTo>
                    <a:lnTo>
                      <a:pt x="888" y="304"/>
                    </a:lnTo>
                    <a:lnTo>
                      <a:pt x="1038" y="286"/>
                    </a:lnTo>
                    <a:lnTo>
                      <a:pt x="1195" y="304"/>
                    </a:lnTo>
                    <a:lnTo>
                      <a:pt x="1393" y="343"/>
                    </a:lnTo>
                    <a:lnTo>
                      <a:pt x="1470" y="406"/>
                    </a:lnTo>
                    <a:lnTo>
                      <a:pt x="1520" y="519"/>
                    </a:lnTo>
                    <a:lnTo>
                      <a:pt x="1549" y="641"/>
                    </a:lnTo>
                    <a:lnTo>
                      <a:pt x="1569" y="883"/>
                    </a:lnTo>
                    <a:lnTo>
                      <a:pt x="1578" y="8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686160" y="3904560"/>
                <a:ext cx="67320" cy="124560"/>
              </a:xfrm>
              <a:custGeom>
                <a:avLst/>
                <a:gdLst/>
                <a:ahLst/>
                <a:rect l="l" t="t" r="r" b="b"/>
                <a:pathLst>
                  <a:path w="817" h="1173">
                    <a:moveTo>
                      <a:pt x="817" y="0"/>
                    </a:moveTo>
                    <a:lnTo>
                      <a:pt x="786" y="103"/>
                    </a:lnTo>
                    <a:lnTo>
                      <a:pt x="718" y="359"/>
                    </a:lnTo>
                    <a:lnTo>
                      <a:pt x="634" y="514"/>
                    </a:lnTo>
                    <a:lnTo>
                      <a:pt x="569" y="608"/>
                    </a:lnTo>
                    <a:lnTo>
                      <a:pt x="481" y="703"/>
                    </a:lnTo>
                    <a:lnTo>
                      <a:pt x="417" y="723"/>
                    </a:lnTo>
                    <a:lnTo>
                      <a:pt x="305" y="732"/>
                    </a:lnTo>
                    <a:lnTo>
                      <a:pt x="187" y="707"/>
                    </a:lnTo>
                    <a:lnTo>
                      <a:pt x="94" y="661"/>
                    </a:lnTo>
                    <a:lnTo>
                      <a:pt x="0" y="596"/>
                    </a:lnTo>
                    <a:lnTo>
                      <a:pt x="57" y="692"/>
                    </a:lnTo>
                    <a:lnTo>
                      <a:pt x="136" y="758"/>
                    </a:lnTo>
                    <a:lnTo>
                      <a:pt x="206" y="800"/>
                    </a:lnTo>
                    <a:lnTo>
                      <a:pt x="300" y="825"/>
                    </a:lnTo>
                    <a:lnTo>
                      <a:pt x="380" y="825"/>
                    </a:lnTo>
                    <a:lnTo>
                      <a:pt x="329" y="1173"/>
                    </a:lnTo>
                    <a:lnTo>
                      <a:pt x="376" y="1064"/>
                    </a:lnTo>
                    <a:lnTo>
                      <a:pt x="443" y="795"/>
                    </a:lnTo>
                    <a:lnTo>
                      <a:pt x="477" y="747"/>
                    </a:lnTo>
                    <a:lnTo>
                      <a:pt x="527" y="820"/>
                    </a:lnTo>
                    <a:lnTo>
                      <a:pt x="574" y="940"/>
                    </a:lnTo>
                    <a:lnTo>
                      <a:pt x="551" y="800"/>
                    </a:lnTo>
                    <a:lnTo>
                      <a:pt x="503" y="707"/>
                    </a:lnTo>
                    <a:lnTo>
                      <a:pt x="579" y="617"/>
                    </a:lnTo>
                    <a:lnTo>
                      <a:pt x="668" y="493"/>
                    </a:lnTo>
                    <a:lnTo>
                      <a:pt x="720" y="373"/>
                    </a:lnTo>
                    <a:lnTo>
                      <a:pt x="754" y="286"/>
                    </a:lnTo>
                    <a:lnTo>
                      <a:pt x="793" y="115"/>
                    </a:lnTo>
                    <a:lnTo>
                      <a:pt x="8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660600" y="3886560"/>
                <a:ext cx="7920" cy="22680"/>
              </a:xfrm>
              <a:custGeom>
                <a:avLst/>
                <a:gdLst/>
                <a:ahLst/>
                <a:rect l="l" t="t" r="r" b="b"/>
                <a:pathLst>
                  <a:path w="99" h="215">
                    <a:moveTo>
                      <a:pt x="11" y="0"/>
                    </a:moveTo>
                    <a:lnTo>
                      <a:pt x="48" y="7"/>
                    </a:lnTo>
                    <a:lnTo>
                      <a:pt x="91" y="60"/>
                    </a:lnTo>
                    <a:lnTo>
                      <a:pt x="99" y="111"/>
                    </a:lnTo>
                    <a:lnTo>
                      <a:pt x="94" y="145"/>
                    </a:lnTo>
                    <a:lnTo>
                      <a:pt x="60" y="162"/>
                    </a:lnTo>
                    <a:lnTo>
                      <a:pt x="55" y="180"/>
                    </a:lnTo>
                    <a:lnTo>
                      <a:pt x="73" y="215"/>
                    </a:lnTo>
                    <a:lnTo>
                      <a:pt x="22" y="169"/>
                    </a:lnTo>
                    <a:lnTo>
                      <a:pt x="22" y="145"/>
                    </a:lnTo>
                    <a:lnTo>
                      <a:pt x="36" y="123"/>
                    </a:lnTo>
                    <a:lnTo>
                      <a:pt x="55" y="106"/>
                    </a:lnTo>
                    <a:lnTo>
                      <a:pt x="84" y="92"/>
                    </a:lnTo>
                    <a:lnTo>
                      <a:pt x="73" y="65"/>
                    </a:lnTo>
                    <a:lnTo>
                      <a:pt x="60" y="42"/>
                    </a:lnTo>
                    <a:lnTo>
                      <a:pt x="36" y="28"/>
                    </a:lnTo>
                    <a:lnTo>
                      <a:pt x="11" y="60"/>
                    </a:lnTo>
                    <a:lnTo>
                      <a:pt x="11" y="79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671040" y="3894480"/>
                <a:ext cx="3600" cy="25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673200" y="3898440"/>
                <a:ext cx="50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677880" y="3912840"/>
                <a:ext cx="32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663840" y="3916080"/>
                <a:ext cx="5760" cy="16560"/>
              </a:xfrm>
              <a:custGeom>
                <a:avLst/>
                <a:gdLst/>
                <a:ahLst/>
                <a:rect l="l" t="t" r="r" b="b"/>
                <a:pathLst>
                  <a:path w="77" h="162">
                    <a:moveTo>
                      <a:pt x="33" y="0"/>
                    </a:moveTo>
                    <a:lnTo>
                      <a:pt x="59" y="28"/>
                    </a:lnTo>
                    <a:lnTo>
                      <a:pt x="72" y="63"/>
                    </a:lnTo>
                    <a:lnTo>
                      <a:pt x="77" y="112"/>
                    </a:lnTo>
                    <a:lnTo>
                      <a:pt x="72" y="145"/>
                    </a:lnTo>
                    <a:lnTo>
                      <a:pt x="54" y="158"/>
                    </a:lnTo>
                    <a:lnTo>
                      <a:pt x="33" y="162"/>
                    </a:lnTo>
                    <a:lnTo>
                      <a:pt x="8" y="158"/>
                    </a:lnTo>
                    <a:lnTo>
                      <a:pt x="0" y="116"/>
                    </a:lnTo>
                    <a:lnTo>
                      <a:pt x="44" y="123"/>
                    </a:lnTo>
                    <a:lnTo>
                      <a:pt x="51" y="88"/>
                    </a:lnTo>
                    <a:lnTo>
                      <a:pt x="59" y="63"/>
                    </a:lnTo>
                    <a:lnTo>
                      <a:pt x="54" y="3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572400" y="3971520"/>
                <a:ext cx="235800" cy="159120"/>
              </a:xfrm>
              <a:custGeom>
                <a:avLst/>
                <a:gdLst/>
                <a:ahLst/>
                <a:rect l="l" t="t" r="r" b="b"/>
                <a:pathLst>
                  <a:path w="2847" h="1510">
                    <a:moveTo>
                      <a:pt x="1072" y="246"/>
                    </a:moveTo>
                    <a:lnTo>
                      <a:pt x="1129" y="369"/>
                    </a:lnTo>
                    <a:lnTo>
                      <a:pt x="1228" y="441"/>
                    </a:lnTo>
                    <a:lnTo>
                      <a:pt x="1369" y="516"/>
                    </a:lnTo>
                    <a:lnTo>
                      <a:pt x="1558" y="567"/>
                    </a:lnTo>
                    <a:lnTo>
                      <a:pt x="1798" y="606"/>
                    </a:lnTo>
                    <a:lnTo>
                      <a:pt x="1903" y="576"/>
                    </a:lnTo>
                    <a:lnTo>
                      <a:pt x="1945" y="507"/>
                    </a:lnTo>
                    <a:lnTo>
                      <a:pt x="1969" y="408"/>
                    </a:lnTo>
                    <a:lnTo>
                      <a:pt x="1969" y="345"/>
                    </a:lnTo>
                    <a:lnTo>
                      <a:pt x="1929" y="239"/>
                    </a:lnTo>
                    <a:lnTo>
                      <a:pt x="1890" y="171"/>
                    </a:lnTo>
                    <a:lnTo>
                      <a:pt x="1839" y="120"/>
                    </a:lnTo>
                    <a:lnTo>
                      <a:pt x="1903" y="32"/>
                    </a:lnTo>
                    <a:lnTo>
                      <a:pt x="1945" y="0"/>
                    </a:lnTo>
                    <a:lnTo>
                      <a:pt x="2160" y="113"/>
                    </a:lnTo>
                    <a:lnTo>
                      <a:pt x="2400" y="162"/>
                    </a:lnTo>
                    <a:lnTo>
                      <a:pt x="2630" y="252"/>
                    </a:lnTo>
                    <a:lnTo>
                      <a:pt x="2847" y="378"/>
                    </a:lnTo>
                    <a:lnTo>
                      <a:pt x="2556" y="252"/>
                    </a:lnTo>
                    <a:lnTo>
                      <a:pt x="2342" y="191"/>
                    </a:lnTo>
                    <a:lnTo>
                      <a:pt x="2202" y="171"/>
                    </a:lnTo>
                    <a:lnTo>
                      <a:pt x="2052" y="171"/>
                    </a:lnTo>
                    <a:lnTo>
                      <a:pt x="1987" y="215"/>
                    </a:lnTo>
                    <a:lnTo>
                      <a:pt x="2004" y="387"/>
                    </a:lnTo>
                    <a:lnTo>
                      <a:pt x="1987" y="484"/>
                    </a:lnTo>
                    <a:lnTo>
                      <a:pt x="1953" y="590"/>
                    </a:lnTo>
                    <a:lnTo>
                      <a:pt x="1903" y="655"/>
                    </a:lnTo>
                    <a:lnTo>
                      <a:pt x="1789" y="760"/>
                    </a:lnTo>
                    <a:lnTo>
                      <a:pt x="1789" y="707"/>
                    </a:lnTo>
                    <a:lnTo>
                      <a:pt x="1749" y="673"/>
                    </a:lnTo>
                    <a:lnTo>
                      <a:pt x="1708" y="687"/>
                    </a:lnTo>
                    <a:lnTo>
                      <a:pt x="1696" y="738"/>
                    </a:lnTo>
                    <a:lnTo>
                      <a:pt x="1720" y="770"/>
                    </a:lnTo>
                    <a:lnTo>
                      <a:pt x="1756" y="779"/>
                    </a:lnTo>
                    <a:lnTo>
                      <a:pt x="1731" y="813"/>
                    </a:lnTo>
                    <a:lnTo>
                      <a:pt x="1674" y="802"/>
                    </a:lnTo>
                    <a:lnTo>
                      <a:pt x="1648" y="760"/>
                    </a:lnTo>
                    <a:lnTo>
                      <a:pt x="1659" y="707"/>
                    </a:lnTo>
                    <a:lnTo>
                      <a:pt x="1681" y="666"/>
                    </a:lnTo>
                    <a:lnTo>
                      <a:pt x="1720" y="648"/>
                    </a:lnTo>
                    <a:lnTo>
                      <a:pt x="1780" y="624"/>
                    </a:lnTo>
                    <a:lnTo>
                      <a:pt x="1433" y="567"/>
                    </a:lnTo>
                    <a:lnTo>
                      <a:pt x="1235" y="500"/>
                    </a:lnTo>
                    <a:lnTo>
                      <a:pt x="1353" y="795"/>
                    </a:lnTo>
                    <a:lnTo>
                      <a:pt x="1549" y="1289"/>
                    </a:lnTo>
                    <a:lnTo>
                      <a:pt x="1648" y="1510"/>
                    </a:lnTo>
                    <a:lnTo>
                      <a:pt x="1358" y="903"/>
                    </a:lnTo>
                    <a:lnTo>
                      <a:pt x="1201" y="576"/>
                    </a:lnTo>
                    <a:lnTo>
                      <a:pt x="1046" y="378"/>
                    </a:lnTo>
                    <a:lnTo>
                      <a:pt x="896" y="239"/>
                    </a:lnTo>
                    <a:lnTo>
                      <a:pt x="774" y="156"/>
                    </a:lnTo>
                    <a:lnTo>
                      <a:pt x="668" y="147"/>
                    </a:lnTo>
                    <a:lnTo>
                      <a:pt x="525" y="162"/>
                    </a:lnTo>
                    <a:lnTo>
                      <a:pt x="106" y="270"/>
                    </a:lnTo>
                    <a:lnTo>
                      <a:pt x="0" y="345"/>
                    </a:lnTo>
                    <a:lnTo>
                      <a:pt x="106" y="239"/>
                    </a:lnTo>
                    <a:lnTo>
                      <a:pt x="493" y="94"/>
                    </a:lnTo>
                    <a:lnTo>
                      <a:pt x="749" y="90"/>
                    </a:lnTo>
                    <a:lnTo>
                      <a:pt x="995" y="15"/>
                    </a:lnTo>
                    <a:lnTo>
                      <a:pt x="1072" y="2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556920" y="4015440"/>
                <a:ext cx="93960" cy="181440"/>
              </a:xfrm>
              <a:custGeom>
                <a:avLst/>
                <a:gdLst/>
                <a:ahLst/>
                <a:rect l="l" t="t" r="r" b="b"/>
                <a:pathLst>
                  <a:path w="1134" h="1714">
                    <a:moveTo>
                      <a:pt x="159" y="0"/>
                    </a:moveTo>
                    <a:lnTo>
                      <a:pt x="264" y="31"/>
                    </a:lnTo>
                    <a:lnTo>
                      <a:pt x="365" y="113"/>
                    </a:lnTo>
                    <a:lnTo>
                      <a:pt x="447" y="229"/>
                    </a:lnTo>
                    <a:lnTo>
                      <a:pt x="521" y="367"/>
                    </a:lnTo>
                    <a:lnTo>
                      <a:pt x="570" y="484"/>
                    </a:lnTo>
                    <a:lnTo>
                      <a:pt x="611" y="591"/>
                    </a:lnTo>
                    <a:lnTo>
                      <a:pt x="491" y="409"/>
                    </a:lnTo>
                    <a:lnTo>
                      <a:pt x="387" y="288"/>
                    </a:lnTo>
                    <a:lnTo>
                      <a:pt x="264" y="205"/>
                    </a:lnTo>
                    <a:lnTo>
                      <a:pt x="167" y="157"/>
                    </a:lnTo>
                    <a:lnTo>
                      <a:pt x="167" y="319"/>
                    </a:lnTo>
                    <a:lnTo>
                      <a:pt x="222" y="499"/>
                    </a:lnTo>
                    <a:lnTo>
                      <a:pt x="312" y="646"/>
                    </a:lnTo>
                    <a:lnTo>
                      <a:pt x="413" y="754"/>
                    </a:lnTo>
                    <a:lnTo>
                      <a:pt x="598" y="886"/>
                    </a:lnTo>
                    <a:lnTo>
                      <a:pt x="768" y="998"/>
                    </a:lnTo>
                    <a:lnTo>
                      <a:pt x="860" y="1049"/>
                    </a:lnTo>
                    <a:lnTo>
                      <a:pt x="818" y="925"/>
                    </a:lnTo>
                    <a:lnTo>
                      <a:pt x="923" y="1132"/>
                    </a:lnTo>
                    <a:lnTo>
                      <a:pt x="976" y="1301"/>
                    </a:lnTo>
                    <a:lnTo>
                      <a:pt x="1007" y="1508"/>
                    </a:lnTo>
                    <a:lnTo>
                      <a:pt x="1081" y="1631"/>
                    </a:lnTo>
                    <a:lnTo>
                      <a:pt x="1134" y="1714"/>
                    </a:lnTo>
                    <a:lnTo>
                      <a:pt x="959" y="1559"/>
                    </a:lnTo>
                    <a:lnTo>
                      <a:pt x="959" y="1642"/>
                    </a:lnTo>
                    <a:lnTo>
                      <a:pt x="877" y="1665"/>
                    </a:lnTo>
                    <a:lnTo>
                      <a:pt x="918" y="1609"/>
                    </a:lnTo>
                    <a:lnTo>
                      <a:pt x="908" y="1534"/>
                    </a:lnTo>
                    <a:lnTo>
                      <a:pt x="703" y="1402"/>
                    </a:lnTo>
                    <a:lnTo>
                      <a:pt x="877" y="1411"/>
                    </a:lnTo>
                    <a:lnTo>
                      <a:pt x="736" y="1204"/>
                    </a:lnTo>
                    <a:lnTo>
                      <a:pt x="853" y="1195"/>
                    </a:lnTo>
                    <a:lnTo>
                      <a:pt x="869" y="1147"/>
                    </a:lnTo>
                    <a:lnTo>
                      <a:pt x="703" y="1141"/>
                    </a:lnTo>
                    <a:lnTo>
                      <a:pt x="494" y="1077"/>
                    </a:lnTo>
                    <a:lnTo>
                      <a:pt x="249" y="967"/>
                    </a:lnTo>
                    <a:lnTo>
                      <a:pt x="99" y="860"/>
                    </a:lnTo>
                    <a:lnTo>
                      <a:pt x="84" y="886"/>
                    </a:lnTo>
                    <a:lnTo>
                      <a:pt x="143" y="985"/>
                    </a:lnTo>
                    <a:lnTo>
                      <a:pt x="240" y="1077"/>
                    </a:lnTo>
                    <a:lnTo>
                      <a:pt x="339" y="1132"/>
                    </a:lnTo>
                    <a:lnTo>
                      <a:pt x="413" y="1338"/>
                    </a:lnTo>
                    <a:lnTo>
                      <a:pt x="644" y="1402"/>
                    </a:lnTo>
                    <a:lnTo>
                      <a:pt x="482" y="1386"/>
                    </a:lnTo>
                    <a:lnTo>
                      <a:pt x="556" y="1460"/>
                    </a:lnTo>
                    <a:lnTo>
                      <a:pt x="763" y="1508"/>
                    </a:lnTo>
                    <a:lnTo>
                      <a:pt x="853" y="1582"/>
                    </a:lnTo>
                    <a:lnTo>
                      <a:pt x="826" y="1631"/>
                    </a:lnTo>
                    <a:lnTo>
                      <a:pt x="694" y="1591"/>
                    </a:lnTo>
                    <a:lnTo>
                      <a:pt x="598" y="1600"/>
                    </a:lnTo>
                    <a:lnTo>
                      <a:pt x="51" y="1107"/>
                    </a:lnTo>
                    <a:lnTo>
                      <a:pt x="21" y="943"/>
                    </a:lnTo>
                    <a:lnTo>
                      <a:pt x="9" y="826"/>
                    </a:lnTo>
                    <a:lnTo>
                      <a:pt x="51" y="770"/>
                    </a:lnTo>
                    <a:lnTo>
                      <a:pt x="21" y="642"/>
                    </a:lnTo>
                    <a:lnTo>
                      <a:pt x="0" y="443"/>
                    </a:lnTo>
                    <a:lnTo>
                      <a:pt x="25" y="279"/>
                    </a:lnTo>
                    <a:lnTo>
                      <a:pt x="77" y="132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622800" y="4189320"/>
                <a:ext cx="26280" cy="42480"/>
              </a:xfrm>
              <a:custGeom>
                <a:avLst/>
                <a:gdLst/>
                <a:ahLst/>
                <a:rect l="l" t="t" r="r" b="b"/>
                <a:pathLst>
                  <a:path w="318" h="399">
                    <a:moveTo>
                      <a:pt x="0" y="138"/>
                    </a:moveTo>
                    <a:lnTo>
                      <a:pt x="87" y="23"/>
                    </a:lnTo>
                    <a:lnTo>
                      <a:pt x="168" y="0"/>
                    </a:lnTo>
                    <a:lnTo>
                      <a:pt x="221" y="72"/>
                    </a:lnTo>
                    <a:lnTo>
                      <a:pt x="221" y="336"/>
                    </a:lnTo>
                    <a:lnTo>
                      <a:pt x="285" y="106"/>
                    </a:lnTo>
                    <a:lnTo>
                      <a:pt x="318" y="196"/>
                    </a:lnTo>
                    <a:lnTo>
                      <a:pt x="318" y="295"/>
                    </a:lnTo>
                    <a:lnTo>
                      <a:pt x="246" y="399"/>
                    </a:lnTo>
                    <a:lnTo>
                      <a:pt x="186" y="399"/>
                    </a:lnTo>
                    <a:lnTo>
                      <a:pt x="39" y="261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645840" y="4026600"/>
                <a:ext cx="193320" cy="227880"/>
              </a:xfrm>
              <a:custGeom>
                <a:avLst/>
                <a:gdLst/>
                <a:ahLst/>
                <a:rect l="l" t="t" r="r" b="b"/>
                <a:pathLst>
                  <a:path w="2335" h="2151">
                    <a:moveTo>
                      <a:pt x="87" y="1633"/>
                    </a:moveTo>
                    <a:lnTo>
                      <a:pt x="112" y="1705"/>
                    </a:lnTo>
                    <a:lnTo>
                      <a:pt x="123" y="1896"/>
                    </a:lnTo>
                    <a:lnTo>
                      <a:pt x="0" y="1953"/>
                    </a:lnTo>
                    <a:lnTo>
                      <a:pt x="39" y="1978"/>
                    </a:lnTo>
                    <a:lnTo>
                      <a:pt x="182" y="1953"/>
                    </a:lnTo>
                    <a:lnTo>
                      <a:pt x="742" y="2068"/>
                    </a:lnTo>
                    <a:lnTo>
                      <a:pt x="732" y="2032"/>
                    </a:lnTo>
                    <a:lnTo>
                      <a:pt x="732" y="2011"/>
                    </a:lnTo>
                    <a:lnTo>
                      <a:pt x="758" y="1997"/>
                    </a:lnTo>
                    <a:lnTo>
                      <a:pt x="791" y="2002"/>
                    </a:lnTo>
                    <a:lnTo>
                      <a:pt x="806" y="2032"/>
                    </a:lnTo>
                    <a:lnTo>
                      <a:pt x="830" y="2061"/>
                    </a:lnTo>
                    <a:lnTo>
                      <a:pt x="883" y="2068"/>
                    </a:lnTo>
                    <a:lnTo>
                      <a:pt x="958" y="2127"/>
                    </a:lnTo>
                    <a:lnTo>
                      <a:pt x="938" y="2068"/>
                    </a:lnTo>
                    <a:lnTo>
                      <a:pt x="1180" y="2011"/>
                    </a:lnTo>
                    <a:lnTo>
                      <a:pt x="1477" y="1845"/>
                    </a:lnTo>
                    <a:lnTo>
                      <a:pt x="1807" y="1930"/>
                    </a:lnTo>
                    <a:lnTo>
                      <a:pt x="1872" y="2061"/>
                    </a:lnTo>
                    <a:lnTo>
                      <a:pt x="1872" y="2142"/>
                    </a:lnTo>
                    <a:lnTo>
                      <a:pt x="1883" y="2151"/>
                    </a:lnTo>
                    <a:lnTo>
                      <a:pt x="1897" y="2061"/>
                    </a:lnTo>
                    <a:lnTo>
                      <a:pt x="1823" y="1912"/>
                    </a:lnTo>
                    <a:lnTo>
                      <a:pt x="1666" y="1815"/>
                    </a:lnTo>
                    <a:lnTo>
                      <a:pt x="1731" y="1714"/>
                    </a:lnTo>
                    <a:lnTo>
                      <a:pt x="1855" y="1668"/>
                    </a:lnTo>
                    <a:lnTo>
                      <a:pt x="2003" y="1642"/>
                    </a:lnTo>
                    <a:lnTo>
                      <a:pt x="2189" y="1674"/>
                    </a:lnTo>
                    <a:lnTo>
                      <a:pt x="2226" y="1705"/>
                    </a:lnTo>
                    <a:lnTo>
                      <a:pt x="2235" y="1804"/>
                    </a:lnTo>
                    <a:lnTo>
                      <a:pt x="2285" y="1887"/>
                    </a:lnTo>
                    <a:lnTo>
                      <a:pt x="2335" y="1771"/>
                    </a:lnTo>
                    <a:lnTo>
                      <a:pt x="2309" y="1700"/>
                    </a:lnTo>
                    <a:lnTo>
                      <a:pt x="2219" y="1608"/>
                    </a:lnTo>
                    <a:lnTo>
                      <a:pt x="2102" y="1510"/>
                    </a:lnTo>
                    <a:lnTo>
                      <a:pt x="2010" y="1402"/>
                    </a:lnTo>
                    <a:lnTo>
                      <a:pt x="1929" y="1439"/>
                    </a:lnTo>
                    <a:lnTo>
                      <a:pt x="1883" y="1559"/>
                    </a:lnTo>
                    <a:lnTo>
                      <a:pt x="1839" y="1536"/>
                    </a:lnTo>
                    <a:lnTo>
                      <a:pt x="1883" y="1428"/>
                    </a:lnTo>
                    <a:lnTo>
                      <a:pt x="1929" y="1338"/>
                    </a:lnTo>
                    <a:lnTo>
                      <a:pt x="2138" y="1255"/>
                    </a:lnTo>
                    <a:lnTo>
                      <a:pt x="2235" y="1165"/>
                    </a:lnTo>
                    <a:lnTo>
                      <a:pt x="2189" y="1041"/>
                    </a:lnTo>
                    <a:lnTo>
                      <a:pt x="2169" y="1142"/>
                    </a:lnTo>
                    <a:lnTo>
                      <a:pt x="2063" y="1206"/>
                    </a:lnTo>
                    <a:lnTo>
                      <a:pt x="1962" y="1232"/>
                    </a:lnTo>
                    <a:lnTo>
                      <a:pt x="1883" y="1239"/>
                    </a:lnTo>
                    <a:lnTo>
                      <a:pt x="1855" y="1213"/>
                    </a:lnTo>
                    <a:lnTo>
                      <a:pt x="1872" y="1181"/>
                    </a:lnTo>
                    <a:lnTo>
                      <a:pt x="2039" y="1066"/>
                    </a:lnTo>
                    <a:lnTo>
                      <a:pt x="2169" y="943"/>
                    </a:lnTo>
                    <a:lnTo>
                      <a:pt x="2197" y="1001"/>
                    </a:lnTo>
                    <a:lnTo>
                      <a:pt x="2201" y="868"/>
                    </a:lnTo>
                    <a:lnTo>
                      <a:pt x="2180" y="720"/>
                    </a:lnTo>
                    <a:lnTo>
                      <a:pt x="2169" y="565"/>
                    </a:lnTo>
                    <a:lnTo>
                      <a:pt x="2180" y="337"/>
                    </a:lnTo>
                    <a:lnTo>
                      <a:pt x="2153" y="114"/>
                    </a:lnTo>
                    <a:lnTo>
                      <a:pt x="2111" y="0"/>
                    </a:lnTo>
                    <a:lnTo>
                      <a:pt x="2144" y="182"/>
                    </a:lnTo>
                    <a:lnTo>
                      <a:pt x="2144" y="400"/>
                    </a:lnTo>
                    <a:lnTo>
                      <a:pt x="2111" y="582"/>
                    </a:lnTo>
                    <a:lnTo>
                      <a:pt x="1982" y="868"/>
                    </a:lnTo>
                    <a:lnTo>
                      <a:pt x="2088" y="706"/>
                    </a:lnTo>
                    <a:lnTo>
                      <a:pt x="2127" y="771"/>
                    </a:lnTo>
                    <a:lnTo>
                      <a:pt x="2144" y="861"/>
                    </a:lnTo>
                    <a:lnTo>
                      <a:pt x="2120" y="936"/>
                    </a:lnTo>
                    <a:lnTo>
                      <a:pt x="2003" y="1041"/>
                    </a:lnTo>
                    <a:lnTo>
                      <a:pt x="1865" y="1125"/>
                    </a:lnTo>
                    <a:lnTo>
                      <a:pt x="1872" y="1050"/>
                    </a:lnTo>
                    <a:lnTo>
                      <a:pt x="1673" y="1273"/>
                    </a:lnTo>
                    <a:lnTo>
                      <a:pt x="1402" y="1476"/>
                    </a:lnTo>
                    <a:lnTo>
                      <a:pt x="1169" y="1584"/>
                    </a:lnTo>
                    <a:lnTo>
                      <a:pt x="965" y="1633"/>
                    </a:lnTo>
                    <a:lnTo>
                      <a:pt x="615" y="1600"/>
                    </a:lnTo>
                    <a:lnTo>
                      <a:pt x="410" y="1608"/>
                    </a:lnTo>
                    <a:lnTo>
                      <a:pt x="195" y="1626"/>
                    </a:lnTo>
                    <a:lnTo>
                      <a:pt x="87" y="16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747360" y="4017240"/>
                <a:ext cx="14400" cy="149040"/>
              </a:xfrm>
              <a:custGeom>
                <a:avLst/>
                <a:gdLst/>
                <a:ahLst/>
                <a:rect l="l" t="t" r="r" b="b"/>
                <a:pathLst>
                  <a:path w="180" h="1411">
                    <a:moveTo>
                      <a:pt x="0" y="33"/>
                    </a:moveTo>
                    <a:lnTo>
                      <a:pt x="99" y="263"/>
                    </a:lnTo>
                    <a:lnTo>
                      <a:pt x="129" y="483"/>
                    </a:lnTo>
                    <a:lnTo>
                      <a:pt x="124" y="802"/>
                    </a:lnTo>
                    <a:lnTo>
                      <a:pt x="81" y="1075"/>
                    </a:lnTo>
                    <a:lnTo>
                      <a:pt x="9" y="1411"/>
                    </a:lnTo>
                    <a:lnTo>
                      <a:pt x="90" y="1386"/>
                    </a:lnTo>
                    <a:lnTo>
                      <a:pt x="140" y="1303"/>
                    </a:lnTo>
                    <a:lnTo>
                      <a:pt x="171" y="1140"/>
                    </a:lnTo>
                    <a:lnTo>
                      <a:pt x="180" y="886"/>
                    </a:lnTo>
                    <a:lnTo>
                      <a:pt x="171" y="556"/>
                    </a:lnTo>
                    <a:lnTo>
                      <a:pt x="145" y="344"/>
                    </a:lnTo>
                    <a:lnTo>
                      <a:pt x="105" y="180"/>
                    </a:lnTo>
                    <a:lnTo>
                      <a:pt x="39" y="22"/>
                    </a:lnTo>
                    <a:lnTo>
                      <a:pt x="9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716400" y="4114800"/>
                <a:ext cx="11520" cy="15120"/>
              </a:xfrm>
              <a:custGeom>
                <a:avLst/>
                <a:gdLst/>
                <a:ahLst/>
                <a:rect l="l" t="t" r="r" b="b"/>
                <a:pathLst>
                  <a:path w="141" h="141">
                    <a:moveTo>
                      <a:pt x="101" y="7"/>
                    </a:moveTo>
                    <a:lnTo>
                      <a:pt x="66" y="7"/>
                    </a:lnTo>
                    <a:lnTo>
                      <a:pt x="42" y="31"/>
                    </a:lnTo>
                    <a:lnTo>
                      <a:pt x="51" y="62"/>
                    </a:lnTo>
                    <a:lnTo>
                      <a:pt x="77" y="88"/>
                    </a:lnTo>
                    <a:lnTo>
                      <a:pt x="110" y="72"/>
                    </a:lnTo>
                    <a:lnTo>
                      <a:pt x="123" y="49"/>
                    </a:lnTo>
                    <a:lnTo>
                      <a:pt x="123" y="31"/>
                    </a:lnTo>
                    <a:lnTo>
                      <a:pt x="141" y="62"/>
                    </a:lnTo>
                    <a:lnTo>
                      <a:pt x="123" y="113"/>
                    </a:lnTo>
                    <a:lnTo>
                      <a:pt x="77" y="141"/>
                    </a:lnTo>
                    <a:lnTo>
                      <a:pt x="18" y="106"/>
                    </a:lnTo>
                    <a:lnTo>
                      <a:pt x="0" y="49"/>
                    </a:lnTo>
                    <a:lnTo>
                      <a:pt x="42" y="7"/>
                    </a:lnTo>
                    <a:lnTo>
                      <a:pt x="66" y="0"/>
                    </a:lnTo>
                    <a:lnTo>
                      <a:pt x="10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817560" y="4153680"/>
                <a:ext cx="21600" cy="53280"/>
              </a:xfrm>
              <a:custGeom>
                <a:avLst/>
                <a:gdLst/>
                <a:ahLst/>
                <a:rect l="l" t="t" r="r" b="b"/>
                <a:pathLst>
                  <a:path w="265" h="505">
                    <a:moveTo>
                      <a:pt x="215" y="0"/>
                    </a:moveTo>
                    <a:lnTo>
                      <a:pt x="215" y="71"/>
                    </a:lnTo>
                    <a:lnTo>
                      <a:pt x="0" y="193"/>
                    </a:lnTo>
                    <a:lnTo>
                      <a:pt x="131" y="152"/>
                    </a:lnTo>
                    <a:lnTo>
                      <a:pt x="131" y="277"/>
                    </a:lnTo>
                    <a:lnTo>
                      <a:pt x="57" y="258"/>
                    </a:lnTo>
                    <a:lnTo>
                      <a:pt x="239" y="431"/>
                    </a:lnTo>
                    <a:lnTo>
                      <a:pt x="265" y="505"/>
                    </a:lnTo>
                    <a:lnTo>
                      <a:pt x="255" y="405"/>
                    </a:lnTo>
                    <a:lnTo>
                      <a:pt x="180" y="308"/>
                    </a:lnTo>
                    <a:lnTo>
                      <a:pt x="180" y="143"/>
                    </a:lnTo>
                    <a:lnTo>
                      <a:pt x="233" y="92"/>
                    </a:lnTo>
                    <a:lnTo>
                      <a:pt x="233" y="51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792360" y="4212000"/>
                <a:ext cx="75960" cy="56880"/>
              </a:xfrm>
              <a:custGeom>
                <a:avLst/>
                <a:gdLst/>
                <a:ahLst/>
                <a:rect l="l" t="t" r="r" b="b"/>
                <a:pathLst>
                  <a:path w="918" h="541">
                    <a:moveTo>
                      <a:pt x="529" y="181"/>
                    </a:moveTo>
                    <a:lnTo>
                      <a:pt x="520" y="211"/>
                    </a:lnTo>
                    <a:lnTo>
                      <a:pt x="470" y="211"/>
                    </a:lnTo>
                    <a:lnTo>
                      <a:pt x="379" y="55"/>
                    </a:lnTo>
                    <a:lnTo>
                      <a:pt x="217" y="0"/>
                    </a:lnTo>
                    <a:lnTo>
                      <a:pt x="35" y="55"/>
                    </a:lnTo>
                    <a:lnTo>
                      <a:pt x="0" y="123"/>
                    </a:lnTo>
                    <a:lnTo>
                      <a:pt x="65" y="186"/>
                    </a:lnTo>
                    <a:lnTo>
                      <a:pt x="123" y="294"/>
                    </a:lnTo>
                    <a:lnTo>
                      <a:pt x="245" y="172"/>
                    </a:lnTo>
                    <a:lnTo>
                      <a:pt x="373" y="195"/>
                    </a:lnTo>
                    <a:lnTo>
                      <a:pt x="553" y="283"/>
                    </a:lnTo>
                    <a:lnTo>
                      <a:pt x="613" y="319"/>
                    </a:lnTo>
                    <a:lnTo>
                      <a:pt x="619" y="411"/>
                    </a:lnTo>
                    <a:lnTo>
                      <a:pt x="529" y="474"/>
                    </a:lnTo>
                    <a:lnTo>
                      <a:pt x="619" y="541"/>
                    </a:lnTo>
                    <a:lnTo>
                      <a:pt x="918" y="541"/>
                    </a:lnTo>
                    <a:lnTo>
                      <a:pt x="793" y="424"/>
                    </a:lnTo>
                    <a:lnTo>
                      <a:pt x="727" y="424"/>
                    </a:lnTo>
                    <a:lnTo>
                      <a:pt x="660" y="253"/>
                    </a:lnTo>
                    <a:lnTo>
                      <a:pt x="577" y="204"/>
                    </a:lnTo>
                    <a:lnTo>
                      <a:pt x="529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730080" y="4238280"/>
                <a:ext cx="108000" cy="48960"/>
              </a:xfrm>
              <a:custGeom>
                <a:avLst/>
                <a:gdLst/>
                <a:ahLst/>
                <a:rect l="l" t="t" r="r" b="b"/>
                <a:pathLst>
                  <a:path w="1305" h="464">
                    <a:moveTo>
                      <a:pt x="1248" y="185"/>
                    </a:moveTo>
                    <a:lnTo>
                      <a:pt x="1184" y="130"/>
                    </a:lnTo>
                    <a:lnTo>
                      <a:pt x="1149" y="53"/>
                    </a:lnTo>
                    <a:lnTo>
                      <a:pt x="1066" y="71"/>
                    </a:lnTo>
                    <a:lnTo>
                      <a:pt x="1033" y="242"/>
                    </a:lnTo>
                    <a:lnTo>
                      <a:pt x="1089" y="293"/>
                    </a:lnTo>
                    <a:lnTo>
                      <a:pt x="944" y="293"/>
                    </a:lnTo>
                    <a:lnTo>
                      <a:pt x="826" y="341"/>
                    </a:lnTo>
                    <a:lnTo>
                      <a:pt x="497" y="433"/>
                    </a:lnTo>
                    <a:lnTo>
                      <a:pt x="308" y="464"/>
                    </a:lnTo>
                    <a:lnTo>
                      <a:pt x="149" y="464"/>
                    </a:lnTo>
                    <a:lnTo>
                      <a:pt x="50" y="433"/>
                    </a:lnTo>
                    <a:lnTo>
                      <a:pt x="0" y="350"/>
                    </a:lnTo>
                    <a:lnTo>
                      <a:pt x="50" y="350"/>
                    </a:lnTo>
                    <a:lnTo>
                      <a:pt x="200" y="415"/>
                    </a:lnTo>
                    <a:lnTo>
                      <a:pt x="349" y="424"/>
                    </a:lnTo>
                    <a:lnTo>
                      <a:pt x="547" y="392"/>
                    </a:lnTo>
                    <a:lnTo>
                      <a:pt x="769" y="311"/>
                    </a:lnTo>
                    <a:lnTo>
                      <a:pt x="826" y="286"/>
                    </a:lnTo>
                    <a:lnTo>
                      <a:pt x="769" y="176"/>
                    </a:lnTo>
                    <a:lnTo>
                      <a:pt x="695" y="110"/>
                    </a:lnTo>
                    <a:lnTo>
                      <a:pt x="605" y="14"/>
                    </a:lnTo>
                    <a:lnTo>
                      <a:pt x="769" y="46"/>
                    </a:lnTo>
                    <a:lnTo>
                      <a:pt x="810" y="110"/>
                    </a:lnTo>
                    <a:lnTo>
                      <a:pt x="870" y="64"/>
                    </a:lnTo>
                    <a:lnTo>
                      <a:pt x="870" y="130"/>
                    </a:lnTo>
                    <a:lnTo>
                      <a:pt x="1033" y="0"/>
                    </a:lnTo>
                    <a:lnTo>
                      <a:pt x="1257" y="46"/>
                    </a:lnTo>
                    <a:lnTo>
                      <a:pt x="1305" y="145"/>
                    </a:lnTo>
                    <a:lnTo>
                      <a:pt x="1248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803880" y="4270680"/>
                <a:ext cx="2484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748800" y="3921480"/>
                <a:ext cx="4320" cy="13320"/>
              </a:xfrm>
              <a:custGeom>
                <a:avLst/>
                <a:gdLst/>
                <a:ahLst/>
                <a:rect l="l" t="t" r="r" b="b"/>
                <a:pathLst>
                  <a:path w="50" h="123">
                    <a:moveTo>
                      <a:pt x="32" y="0"/>
                    </a:moveTo>
                    <a:lnTo>
                      <a:pt x="50" y="42"/>
                    </a:lnTo>
                    <a:lnTo>
                      <a:pt x="50" y="83"/>
                    </a:lnTo>
                    <a:lnTo>
                      <a:pt x="32" y="118"/>
                    </a:lnTo>
                    <a:lnTo>
                      <a:pt x="14" y="123"/>
                    </a:lnTo>
                    <a:lnTo>
                      <a:pt x="0" y="123"/>
                    </a:lnTo>
                    <a:lnTo>
                      <a:pt x="0" y="111"/>
                    </a:lnTo>
                    <a:lnTo>
                      <a:pt x="19" y="111"/>
                    </a:lnTo>
                    <a:lnTo>
                      <a:pt x="32" y="83"/>
                    </a:lnTo>
                    <a:lnTo>
                      <a:pt x="39" y="48"/>
                    </a:lnTo>
                    <a:lnTo>
                      <a:pt x="19" y="1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683640" y="3888360"/>
                <a:ext cx="25560" cy="15120"/>
              </a:xfrm>
              <a:custGeom>
                <a:avLst/>
                <a:gdLst/>
                <a:ahLst/>
                <a:rect l="l" t="t" r="r" b="b"/>
                <a:pathLst>
                  <a:path w="311" h="142">
                    <a:moveTo>
                      <a:pt x="0" y="49"/>
                    </a:moveTo>
                    <a:lnTo>
                      <a:pt x="48" y="39"/>
                    </a:lnTo>
                    <a:lnTo>
                      <a:pt x="14" y="26"/>
                    </a:lnTo>
                    <a:lnTo>
                      <a:pt x="55" y="0"/>
                    </a:lnTo>
                    <a:lnTo>
                      <a:pt x="117" y="1"/>
                    </a:lnTo>
                    <a:lnTo>
                      <a:pt x="179" y="1"/>
                    </a:lnTo>
                    <a:lnTo>
                      <a:pt x="255" y="37"/>
                    </a:lnTo>
                    <a:lnTo>
                      <a:pt x="218" y="37"/>
                    </a:lnTo>
                    <a:lnTo>
                      <a:pt x="267" y="83"/>
                    </a:lnTo>
                    <a:lnTo>
                      <a:pt x="278" y="54"/>
                    </a:lnTo>
                    <a:lnTo>
                      <a:pt x="311" y="107"/>
                    </a:lnTo>
                    <a:lnTo>
                      <a:pt x="273" y="142"/>
                    </a:lnTo>
                    <a:lnTo>
                      <a:pt x="276" y="109"/>
                    </a:lnTo>
                    <a:lnTo>
                      <a:pt x="223" y="122"/>
                    </a:lnTo>
                    <a:lnTo>
                      <a:pt x="188" y="120"/>
                    </a:lnTo>
                    <a:lnTo>
                      <a:pt x="240" y="109"/>
                    </a:lnTo>
                    <a:lnTo>
                      <a:pt x="253" y="92"/>
                    </a:lnTo>
                    <a:lnTo>
                      <a:pt x="235" y="61"/>
                    </a:lnTo>
                    <a:lnTo>
                      <a:pt x="191" y="39"/>
                    </a:lnTo>
                    <a:lnTo>
                      <a:pt x="156" y="37"/>
                    </a:lnTo>
                    <a:lnTo>
                      <a:pt x="101" y="41"/>
                    </a:lnTo>
                    <a:lnTo>
                      <a:pt x="60" y="46"/>
                    </a:lnTo>
                    <a:lnTo>
                      <a:pt x="95" y="81"/>
                    </a:lnTo>
                    <a:lnTo>
                      <a:pt x="140" y="109"/>
                    </a:lnTo>
                    <a:lnTo>
                      <a:pt x="122" y="122"/>
                    </a:lnTo>
                    <a:lnTo>
                      <a:pt x="106" y="104"/>
                    </a:lnTo>
                    <a:lnTo>
                      <a:pt x="71" y="109"/>
                    </a:lnTo>
                    <a:lnTo>
                      <a:pt x="66" y="81"/>
                    </a:lnTo>
                    <a:lnTo>
                      <a:pt x="36" y="79"/>
                    </a:lnTo>
                    <a:lnTo>
                      <a:pt x="43" y="61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726120" y="3891600"/>
                <a:ext cx="21600" cy="12600"/>
              </a:xfrm>
              <a:custGeom>
                <a:avLst/>
                <a:gdLst/>
                <a:ahLst/>
                <a:rect l="l" t="t" r="r" b="b"/>
                <a:pathLst>
                  <a:path w="263" h="121">
                    <a:moveTo>
                      <a:pt x="0" y="75"/>
                    </a:moveTo>
                    <a:lnTo>
                      <a:pt x="26" y="31"/>
                    </a:lnTo>
                    <a:lnTo>
                      <a:pt x="92" y="0"/>
                    </a:lnTo>
                    <a:lnTo>
                      <a:pt x="127" y="0"/>
                    </a:lnTo>
                    <a:lnTo>
                      <a:pt x="109" y="24"/>
                    </a:lnTo>
                    <a:lnTo>
                      <a:pt x="145" y="24"/>
                    </a:lnTo>
                    <a:lnTo>
                      <a:pt x="151" y="5"/>
                    </a:lnTo>
                    <a:lnTo>
                      <a:pt x="175" y="17"/>
                    </a:lnTo>
                    <a:lnTo>
                      <a:pt x="208" y="12"/>
                    </a:lnTo>
                    <a:lnTo>
                      <a:pt x="217" y="29"/>
                    </a:lnTo>
                    <a:lnTo>
                      <a:pt x="259" y="24"/>
                    </a:lnTo>
                    <a:lnTo>
                      <a:pt x="226" y="58"/>
                    </a:lnTo>
                    <a:lnTo>
                      <a:pt x="263" y="77"/>
                    </a:lnTo>
                    <a:lnTo>
                      <a:pt x="208" y="86"/>
                    </a:lnTo>
                    <a:lnTo>
                      <a:pt x="206" y="104"/>
                    </a:lnTo>
                    <a:lnTo>
                      <a:pt x="180" y="97"/>
                    </a:lnTo>
                    <a:lnTo>
                      <a:pt x="151" y="121"/>
                    </a:lnTo>
                    <a:lnTo>
                      <a:pt x="134" y="110"/>
                    </a:lnTo>
                    <a:lnTo>
                      <a:pt x="97" y="110"/>
                    </a:lnTo>
                    <a:lnTo>
                      <a:pt x="151" y="97"/>
                    </a:lnTo>
                    <a:lnTo>
                      <a:pt x="184" y="77"/>
                    </a:lnTo>
                    <a:lnTo>
                      <a:pt x="206" y="68"/>
                    </a:lnTo>
                    <a:lnTo>
                      <a:pt x="169" y="51"/>
                    </a:lnTo>
                    <a:lnTo>
                      <a:pt x="134" y="38"/>
                    </a:lnTo>
                    <a:lnTo>
                      <a:pt x="85" y="31"/>
                    </a:lnTo>
                    <a:lnTo>
                      <a:pt x="37" y="58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728280" y="39009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51" h="17">
                    <a:moveTo>
                      <a:pt x="14" y="0"/>
                    </a:moveTo>
                    <a:lnTo>
                      <a:pt x="51" y="17"/>
                    </a:lnTo>
                    <a:lnTo>
                      <a:pt x="0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685800" y="3876480"/>
                <a:ext cx="25560" cy="15120"/>
              </a:xfrm>
              <a:custGeom>
                <a:avLst/>
                <a:gdLst/>
                <a:ahLst/>
                <a:rect l="l" t="t" r="r" b="b"/>
                <a:pathLst>
                  <a:path w="310" h="140">
                    <a:moveTo>
                      <a:pt x="0" y="28"/>
                    </a:moveTo>
                    <a:lnTo>
                      <a:pt x="93" y="0"/>
                    </a:lnTo>
                    <a:lnTo>
                      <a:pt x="238" y="57"/>
                    </a:lnTo>
                    <a:lnTo>
                      <a:pt x="310" y="140"/>
                    </a:lnTo>
                    <a:lnTo>
                      <a:pt x="244" y="74"/>
                    </a:lnTo>
                    <a:lnTo>
                      <a:pt x="145" y="28"/>
                    </a:lnTo>
                    <a:lnTo>
                      <a:pt x="81" y="21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728280" y="3880800"/>
                <a:ext cx="19800" cy="6480"/>
              </a:xfrm>
              <a:custGeom>
                <a:avLst/>
                <a:gdLst/>
                <a:ahLst/>
                <a:rect l="l" t="t" r="r" b="b"/>
                <a:pathLst>
                  <a:path w="245" h="64">
                    <a:moveTo>
                      <a:pt x="0" y="64"/>
                    </a:moveTo>
                    <a:lnTo>
                      <a:pt x="86" y="31"/>
                    </a:lnTo>
                    <a:lnTo>
                      <a:pt x="157" y="18"/>
                    </a:lnTo>
                    <a:lnTo>
                      <a:pt x="218" y="18"/>
                    </a:lnTo>
                    <a:lnTo>
                      <a:pt x="245" y="35"/>
                    </a:lnTo>
                    <a:lnTo>
                      <a:pt x="229" y="0"/>
                    </a:lnTo>
                    <a:lnTo>
                      <a:pt x="168" y="0"/>
                    </a:lnTo>
                    <a:lnTo>
                      <a:pt x="69" y="18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705600" y="3928320"/>
                <a:ext cx="16200" cy="10800"/>
              </a:xfrm>
              <a:custGeom>
                <a:avLst/>
                <a:gdLst/>
                <a:ahLst/>
                <a:rect l="l" t="t" r="r" b="b"/>
                <a:pathLst>
                  <a:path w="207" h="103">
                    <a:moveTo>
                      <a:pt x="207" y="38"/>
                    </a:moveTo>
                    <a:lnTo>
                      <a:pt x="152" y="73"/>
                    </a:lnTo>
                    <a:lnTo>
                      <a:pt x="130" y="66"/>
                    </a:lnTo>
                    <a:lnTo>
                      <a:pt x="101" y="38"/>
                    </a:lnTo>
                    <a:lnTo>
                      <a:pt x="58" y="29"/>
                    </a:lnTo>
                    <a:lnTo>
                      <a:pt x="11" y="22"/>
                    </a:lnTo>
                    <a:lnTo>
                      <a:pt x="11" y="0"/>
                    </a:lnTo>
                    <a:lnTo>
                      <a:pt x="0" y="22"/>
                    </a:lnTo>
                    <a:lnTo>
                      <a:pt x="11" y="38"/>
                    </a:lnTo>
                    <a:lnTo>
                      <a:pt x="67" y="57"/>
                    </a:lnTo>
                    <a:lnTo>
                      <a:pt x="125" y="103"/>
                    </a:lnTo>
                    <a:lnTo>
                      <a:pt x="148" y="103"/>
                    </a:lnTo>
                    <a:lnTo>
                      <a:pt x="207" y="66"/>
                    </a:lnTo>
                    <a:lnTo>
                      <a:pt x="20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721440" y="3889080"/>
                <a:ext cx="4320" cy="18360"/>
              </a:xfrm>
              <a:custGeom>
                <a:avLst/>
                <a:gdLst/>
                <a:ahLst/>
                <a:rect l="l" t="t" r="r" b="b"/>
                <a:pathLst>
                  <a:path w="57" h="172">
                    <a:moveTo>
                      <a:pt x="57" y="0"/>
                    </a:moveTo>
                    <a:lnTo>
                      <a:pt x="15" y="51"/>
                    </a:lnTo>
                    <a:lnTo>
                      <a:pt x="0" y="106"/>
                    </a:lnTo>
                    <a:lnTo>
                      <a:pt x="4" y="141"/>
                    </a:lnTo>
                    <a:lnTo>
                      <a:pt x="33" y="172"/>
                    </a:lnTo>
                    <a:lnTo>
                      <a:pt x="15" y="134"/>
                    </a:lnTo>
                    <a:lnTo>
                      <a:pt x="15" y="95"/>
                    </a:lnTo>
                    <a:lnTo>
                      <a:pt x="28" y="49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693720" y="38916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1" h="74">
                    <a:moveTo>
                      <a:pt x="0" y="6"/>
                    </a:moveTo>
                    <a:lnTo>
                      <a:pt x="6" y="57"/>
                    </a:lnTo>
                    <a:lnTo>
                      <a:pt x="30" y="74"/>
                    </a:lnTo>
                    <a:lnTo>
                      <a:pt x="57" y="74"/>
                    </a:lnTo>
                    <a:lnTo>
                      <a:pt x="72" y="39"/>
                    </a:lnTo>
                    <a:lnTo>
                      <a:pt x="81" y="17"/>
                    </a:lnTo>
                    <a:lnTo>
                      <a:pt x="57" y="32"/>
                    </a:lnTo>
                    <a:lnTo>
                      <a:pt x="37" y="50"/>
                    </a:lnTo>
                    <a:lnTo>
                      <a:pt x="30" y="39"/>
                    </a:lnTo>
                    <a:lnTo>
                      <a:pt x="3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730800" y="3895200"/>
                <a:ext cx="7200" cy="6480"/>
              </a:xfrm>
              <a:custGeom>
                <a:avLst/>
                <a:gdLst/>
                <a:ahLst/>
                <a:rect l="l" t="t" r="r" b="b"/>
                <a:pathLst>
                  <a:path w="92" h="64">
                    <a:moveTo>
                      <a:pt x="0" y="12"/>
                    </a:moveTo>
                    <a:lnTo>
                      <a:pt x="5" y="64"/>
                    </a:lnTo>
                    <a:lnTo>
                      <a:pt x="64" y="64"/>
                    </a:lnTo>
                    <a:lnTo>
                      <a:pt x="89" y="35"/>
                    </a:lnTo>
                    <a:lnTo>
                      <a:pt x="92" y="0"/>
                    </a:lnTo>
                    <a:lnTo>
                      <a:pt x="55" y="0"/>
                    </a:lnTo>
                    <a:lnTo>
                      <a:pt x="64" y="31"/>
                    </a:lnTo>
                    <a:lnTo>
                      <a:pt x="41" y="42"/>
                    </a:lnTo>
                    <a:lnTo>
                      <a:pt x="27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699480" y="3945960"/>
                <a:ext cx="28440" cy="3240"/>
              </a:xfrm>
              <a:custGeom>
                <a:avLst/>
                <a:gdLst/>
                <a:ahLst/>
                <a:rect l="l" t="t" r="r" b="b"/>
                <a:pathLst>
                  <a:path w="350" h="31">
                    <a:moveTo>
                      <a:pt x="0" y="5"/>
                    </a:moveTo>
                    <a:lnTo>
                      <a:pt x="111" y="0"/>
                    </a:lnTo>
                    <a:lnTo>
                      <a:pt x="198" y="14"/>
                    </a:lnTo>
                    <a:lnTo>
                      <a:pt x="251" y="5"/>
                    </a:lnTo>
                    <a:lnTo>
                      <a:pt x="350" y="14"/>
                    </a:lnTo>
                    <a:lnTo>
                      <a:pt x="276" y="24"/>
                    </a:lnTo>
                    <a:lnTo>
                      <a:pt x="198" y="31"/>
                    </a:lnTo>
                    <a:lnTo>
                      <a:pt x="46" y="1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704880" y="3951720"/>
                <a:ext cx="19080" cy="4320"/>
              </a:xfrm>
              <a:custGeom>
                <a:avLst/>
                <a:gdLst/>
                <a:ahLst/>
                <a:rect l="l" t="t" r="r" b="b"/>
                <a:pathLst>
                  <a:path w="233" h="42">
                    <a:moveTo>
                      <a:pt x="0" y="0"/>
                    </a:moveTo>
                    <a:lnTo>
                      <a:pt x="60" y="35"/>
                    </a:lnTo>
                    <a:lnTo>
                      <a:pt x="159" y="42"/>
                    </a:lnTo>
                    <a:lnTo>
                      <a:pt x="233" y="7"/>
                    </a:lnTo>
                    <a:lnTo>
                      <a:pt x="164" y="24"/>
                    </a:lnTo>
                    <a:lnTo>
                      <a:pt x="7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997920" y="3965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595" h="512">
                    <a:moveTo>
                      <a:pt x="97" y="215"/>
                    </a:moveTo>
                    <a:lnTo>
                      <a:pt x="120" y="122"/>
                    </a:lnTo>
                    <a:lnTo>
                      <a:pt x="305" y="0"/>
                    </a:lnTo>
                    <a:lnTo>
                      <a:pt x="498" y="68"/>
                    </a:lnTo>
                    <a:lnTo>
                      <a:pt x="395" y="68"/>
                    </a:lnTo>
                    <a:lnTo>
                      <a:pt x="514" y="209"/>
                    </a:lnTo>
                    <a:lnTo>
                      <a:pt x="569" y="191"/>
                    </a:lnTo>
                    <a:lnTo>
                      <a:pt x="525" y="96"/>
                    </a:lnTo>
                    <a:lnTo>
                      <a:pt x="595" y="209"/>
                    </a:lnTo>
                    <a:lnTo>
                      <a:pt x="551" y="261"/>
                    </a:lnTo>
                    <a:lnTo>
                      <a:pt x="595" y="503"/>
                    </a:lnTo>
                    <a:lnTo>
                      <a:pt x="533" y="512"/>
                    </a:lnTo>
                    <a:lnTo>
                      <a:pt x="464" y="494"/>
                    </a:lnTo>
                    <a:lnTo>
                      <a:pt x="542" y="486"/>
                    </a:lnTo>
                    <a:lnTo>
                      <a:pt x="475" y="329"/>
                    </a:lnTo>
                    <a:lnTo>
                      <a:pt x="351" y="200"/>
                    </a:lnTo>
                    <a:lnTo>
                      <a:pt x="489" y="311"/>
                    </a:lnTo>
                    <a:lnTo>
                      <a:pt x="542" y="424"/>
                    </a:lnTo>
                    <a:lnTo>
                      <a:pt x="510" y="244"/>
                    </a:lnTo>
                    <a:lnTo>
                      <a:pt x="305" y="41"/>
                    </a:lnTo>
                    <a:lnTo>
                      <a:pt x="261" y="122"/>
                    </a:lnTo>
                    <a:lnTo>
                      <a:pt x="305" y="173"/>
                    </a:lnTo>
                    <a:lnTo>
                      <a:pt x="228" y="173"/>
                    </a:lnTo>
                    <a:lnTo>
                      <a:pt x="323" y="306"/>
                    </a:lnTo>
                    <a:lnTo>
                      <a:pt x="191" y="209"/>
                    </a:lnTo>
                    <a:lnTo>
                      <a:pt x="0" y="373"/>
                    </a:lnTo>
                    <a:lnTo>
                      <a:pt x="17" y="253"/>
                    </a:lnTo>
                    <a:lnTo>
                      <a:pt x="97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1005840" y="4001040"/>
                <a:ext cx="34920" cy="55800"/>
              </a:xfrm>
              <a:custGeom>
                <a:avLst/>
                <a:gdLst/>
                <a:ahLst/>
                <a:rect l="l" t="t" r="r" b="b"/>
                <a:pathLst>
                  <a:path w="417" h="531">
                    <a:moveTo>
                      <a:pt x="351" y="198"/>
                    </a:moveTo>
                    <a:lnTo>
                      <a:pt x="307" y="183"/>
                    </a:lnTo>
                    <a:lnTo>
                      <a:pt x="254" y="114"/>
                    </a:lnTo>
                    <a:lnTo>
                      <a:pt x="208" y="114"/>
                    </a:lnTo>
                    <a:lnTo>
                      <a:pt x="146" y="62"/>
                    </a:lnTo>
                    <a:lnTo>
                      <a:pt x="146" y="104"/>
                    </a:lnTo>
                    <a:lnTo>
                      <a:pt x="94" y="114"/>
                    </a:lnTo>
                    <a:lnTo>
                      <a:pt x="44" y="53"/>
                    </a:lnTo>
                    <a:lnTo>
                      <a:pt x="72" y="132"/>
                    </a:lnTo>
                    <a:lnTo>
                      <a:pt x="0" y="132"/>
                    </a:lnTo>
                    <a:lnTo>
                      <a:pt x="87" y="189"/>
                    </a:lnTo>
                    <a:lnTo>
                      <a:pt x="78" y="270"/>
                    </a:lnTo>
                    <a:lnTo>
                      <a:pt x="131" y="383"/>
                    </a:lnTo>
                    <a:lnTo>
                      <a:pt x="131" y="305"/>
                    </a:lnTo>
                    <a:lnTo>
                      <a:pt x="164" y="279"/>
                    </a:lnTo>
                    <a:lnTo>
                      <a:pt x="182" y="321"/>
                    </a:lnTo>
                    <a:lnTo>
                      <a:pt x="219" y="288"/>
                    </a:lnTo>
                    <a:lnTo>
                      <a:pt x="272" y="288"/>
                    </a:lnTo>
                    <a:lnTo>
                      <a:pt x="340" y="347"/>
                    </a:lnTo>
                    <a:lnTo>
                      <a:pt x="332" y="436"/>
                    </a:lnTo>
                    <a:lnTo>
                      <a:pt x="291" y="531"/>
                    </a:lnTo>
                    <a:lnTo>
                      <a:pt x="383" y="383"/>
                    </a:lnTo>
                    <a:lnTo>
                      <a:pt x="413" y="288"/>
                    </a:lnTo>
                    <a:lnTo>
                      <a:pt x="417" y="156"/>
                    </a:lnTo>
                    <a:lnTo>
                      <a:pt x="383" y="156"/>
                    </a:lnTo>
                    <a:lnTo>
                      <a:pt x="323" y="42"/>
                    </a:lnTo>
                    <a:lnTo>
                      <a:pt x="261" y="0"/>
                    </a:lnTo>
                    <a:lnTo>
                      <a:pt x="314" y="77"/>
                    </a:lnTo>
                    <a:lnTo>
                      <a:pt x="351" y="148"/>
                    </a:lnTo>
                    <a:lnTo>
                      <a:pt x="351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963360" y="4008600"/>
                <a:ext cx="141840" cy="259200"/>
              </a:xfrm>
              <a:custGeom>
                <a:avLst/>
                <a:gdLst/>
                <a:ahLst/>
                <a:rect l="l" t="t" r="r" b="b"/>
                <a:pathLst>
                  <a:path w="1712" h="2448">
                    <a:moveTo>
                      <a:pt x="420" y="0"/>
                    </a:moveTo>
                    <a:lnTo>
                      <a:pt x="499" y="424"/>
                    </a:lnTo>
                    <a:lnTo>
                      <a:pt x="522" y="451"/>
                    </a:lnTo>
                    <a:lnTo>
                      <a:pt x="561" y="468"/>
                    </a:lnTo>
                    <a:lnTo>
                      <a:pt x="534" y="495"/>
                    </a:lnTo>
                    <a:lnTo>
                      <a:pt x="483" y="486"/>
                    </a:lnTo>
                    <a:lnTo>
                      <a:pt x="475" y="550"/>
                    </a:lnTo>
                    <a:lnTo>
                      <a:pt x="499" y="599"/>
                    </a:lnTo>
                    <a:lnTo>
                      <a:pt x="540" y="615"/>
                    </a:lnTo>
                    <a:lnTo>
                      <a:pt x="589" y="606"/>
                    </a:lnTo>
                    <a:lnTo>
                      <a:pt x="611" y="479"/>
                    </a:lnTo>
                    <a:lnTo>
                      <a:pt x="663" y="479"/>
                    </a:lnTo>
                    <a:lnTo>
                      <a:pt x="711" y="451"/>
                    </a:lnTo>
                    <a:lnTo>
                      <a:pt x="743" y="398"/>
                    </a:lnTo>
                    <a:lnTo>
                      <a:pt x="743" y="461"/>
                    </a:lnTo>
                    <a:lnTo>
                      <a:pt x="771" y="451"/>
                    </a:lnTo>
                    <a:lnTo>
                      <a:pt x="824" y="424"/>
                    </a:lnTo>
                    <a:lnTo>
                      <a:pt x="798" y="461"/>
                    </a:lnTo>
                    <a:lnTo>
                      <a:pt x="743" y="530"/>
                    </a:lnTo>
                    <a:lnTo>
                      <a:pt x="699" y="650"/>
                    </a:lnTo>
                    <a:lnTo>
                      <a:pt x="909" y="415"/>
                    </a:lnTo>
                    <a:lnTo>
                      <a:pt x="945" y="444"/>
                    </a:lnTo>
                    <a:lnTo>
                      <a:pt x="815" y="798"/>
                    </a:lnTo>
                    <a:lnTo>
                      <a:pt x="824" y="1260"/>
                    </a:lnTo>
                    <a:lnTo>
                      <a:pt x="1172" y="1295"/>
                    </a:lnTo>
                    <a:lnTo>
                      <a:pt x="1331" y="1371"/>
                    </a:lnTo>
                    <a:lnTo>
                      <a:pt x="1417" y="1371"/>
                    </a:lnTo>
                    <a:lnTo>
                      <a:pt x="1460" y="1442"/>
                    </a:lnTo>
                    <a:lnTo>
                      <a:pt x="1172" y="1332"/>
                    </a:lnTo>
                    <a:lnTo>
                      <a:pt x="953" y="1314"/>
                    </a:lnTo>
                    <a:lnTo>
                      <a:pt x="1059" y="1380"/>
                    </a:lnTo>
                    <a:lnTo>
                      <a:pt x="953" y="1380"/>
                    </a:lnTo>
                    <a:lnTo>
                      <a:pt x="798" y="1362"/>
                    </a:lnTo>
                    <a:lnTo>
                      <a:pt x="909" y="1459"/>
                    </a:lnTo>
                    <a:lnTo>
                      <a:pt x="1296" y="1523"/>
                    </a:lnTo>
                    <a:lnTo>
                      <a:pt x="971" y="1493"/>
                    </a:lnTo>
                    <a:lnTo>
                      <a:pt x="1172" y="1611"/>
                    </a:lnTo>
                    <a:lnTo>
                      <a:pt x="1147" y="1636"/>
                    </a:lnTo>
                    <a:lnTo>
                      <a:pt x="875" y="1503"/>
                    </a:lnTo>
                    <a:lnTo>
                      <a:pt x="918" y="1636"/>
                    </a:lnTo>
                    <a:lnTo>
                      <a:pt x="1349" y="1747"/>
                    </a:lnTo>
                    <a:lnTo>
                      <a:pt x="1626" y="1921"/>
                    </a:lnTo>
                    <a:lnTo>
                      <a:pt x="1349" y="1867"/>
                    </a:lnTo>
                    <a:lnTo>
                      <a:pt x="1191" y="1765"/>
                    </a:lnTo>
                    <a:lnTo>
                      <a:pt x="953" y="1701"/>
                    </a:lnTo>
                    <a:lnTo>
                      <a:pt x="1068" y="1826"/>
                    </a:lnTo>
                    <a:lnTo>
                      <a:pt x="1712" y="2049"/>
                    </a:lnTo>
                    <a:lnTo>
                      <a:pt x="1068" y="1867"/>
                    </a:lnTo>
                    <a:lnTo>
                      <a:pt x="884" y="1736"/>
                    </a:lnTo>
                    <a:lnTo>
                      <a:pt x="895" y="1809"/>
                    </a:lnTo>
                    <a:lnTo>
                      <a:pt x="1068" y="1973"/>
                    </a:lnTo>
                    <a:lnTo>
                      <a:pt x="1321" y="2024"/>
                    </a:lnTo>
                    <a:lnTo>
                      <a:pt x="1460" y="2121"/>
                    </a:lnTo>
                    <a:lnTo>
                      <a:pt x="1259" y="2097"/>
                    </a:lnTo>
                    <a:lnTo>
                      <a:pt x="1008" y="1973"/>
                    </a:lnTo>
                    <a:lnTo>
                      <a:pt x="934" y="1982"/>
                    </a:lnTo>
                    <a:lnTo>
                      <a:pt x="971" y="2112"/>
                    </a:lnTo>
                    <a:lnTo>
                      <a:pt x="1033" y="2156"/>
                    </a:lnTo>
                    <a:lnTo>
                      <a:pt x="1349" y="2171"/>
                    </a:lnTo>
                    <a:lnTo>
                      <a:pt x="1024" y="2330"/>
                    </a:lnTo>
                    <a:lnTo>
                      <a:pt x="980" y="2314"/>
                    </a:lnTo>
                    <a:lnTo>
                      <a:pt x="909" y="2084"/>
                    </a:lnTo>
                    <a:lnTo>
                      <a:pt x="831" y="2339"/>
                    </a:lnTo>
                    <a:lnTo>
                      <a:pt x="849" y="2448"/>
                    </a:lnTo>
                    <a:lnTo>
                      <a:pt x="760" y="2354"/>
                    </a:lnTo>
                    <a:lnTo>
                      <a:pt x="895" y="2013"/>
                    </a:lnTo>
                    <a:lnTo>
                      <a:pt x="884" y="1921"/>
                    </a:lnTo>
                    <a:lnTo>
                      <a:pt x="824" y="1765"/>
                    </a:lnTo>
                    <a:lnTo>
                      <a:pt x="778" y="1563"/>
                    </a:lnTo>
                    <a:lnTo>
                      <a:pt x="674" y="1304"/>
                    </a:lnTo>
                    <a:lnTo>
                      <a:pt x="554" y="1523"/>
                    </a:lnTo>
                    <a:lnTo>
                      <a:pt x="554" y="1747"/>
                    </a:lnTo>
                    <a:lnTo>
                      <a:pt x="316" y="2033"/>
                    </a:lnTo>
                    <a:lnTo>
                      <a:pt x="0" y="2148"/>
                    </a:lnTo>
                    <a:lnTo>
                      <a:pt x="37" y="1973"/>
                    </a:lnTo>
                    <a:lnTo>
                      <a:pt x="217" y="1791"/>
                    </a:lnTo>
                    <a:lnTo>
                      <a:pt x="437" y="1685"/>
                    </a:lnTo>
                    <a:lnTo>
                      <a:pt x="534" y="1436"/>
                    </a:lnTo>
                    <a:lnTo>
                      <a:pt x="522" y="1314"/>
                    </a:lnTo>
                    <a:lnTo>
                      <a:pt x="611" y="1026"/>
                    </a:lnTo>
                    <a:lnTo>
                      <a:pt x="510" y="1000"/>
                    </a:lnTo>
                    <a:lnTo>
                      <a:pt x="420" y="938"/>
                    </a:lnTo>
                    <a:lnTo>
                      <a:pt x="522" y="650"/>
                    </a:lnTo>
                    <a:lnTo>
                      <a:pt x="475" y="627"/>
                    </a:lnTo>
                    <a:lnTo>
                      <a:pt x="448" y="541"/>
                    </a:lnTo>
                    <a:lnTo>
                      <a:pt x="448" y="433"/>
                    </a:lnTo>
                    <a:lnTo>
                      <a:pt x="420" y="53"/>
                    </a:lnTo>
                    <a:lnTo>
                      <a:pt x="4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932400" y="4030920"/>
                <a:ext cx="56880" cy="184680"/>
              </a:xfrm>
              <a:custGeom>
                <a:avLst/>
                <a:gdLst/>
                <a:ahLst/>
                <a:rect l="l" t="t" r="r" b="b"/>
                <a:pathLst>
                  <a:path w="691" h="1748">
                    <a:moveTo>
                      <a:pt x="691" y="312"/>
                    </a:moveTo>
                    <a:lnTo>
                      <a:pt x="586" y="572"/>
                    </a:lnTo>
                    <a:lnTo>
                      <a:pt x="516" y="729"/>
                    </a:lnTo>
                    <a:lnTo>
                      <a:pt x="392" y="982"/>
                    </a:lnTo>
                    <a:lnTo>
                      <a:pt x="334" y="1017"/>
                    </a:lnTo>
                    <a:lnTo>
                      <a:pt x="351" y="1243"/>
                    </a:lnTo>
                    <a:lnTo>
                      <a:pt x="412" y="1527"/>
                    </a:lnTo>
                    <a:lnTo>
                      <a:pt x="472" y="1748"/>
                    </a:lnTo>
                    <a:lnTo>
                      <a:pt x="388" y="1485"/>
                    </a:lnTo>
                    <a:lnTo>
                      <a:pt x="334" y="1233"/>
                    </a:lnTo>
                    <a:lnTo>
                      <a:pt x="243" y="1171"/>
                    </a:lnTo>
                    <a:lnTo>
                      <a:pt x="254" y="1330"/>
                    </a:lnTo>
                    <a:lnTo>
                      <a:pt x="351" y="1591"/>
                    </a:lnTo>
                    <a:lnTo>
                      <a:pt x="239" y="1345"/>
                    </a:lnTo>
                    <a:lnTo>
                      <a:pt x="193" y="1153"/>
                    </a:lnTo>
                    <a:lnTo>
                      <a:pt x="87" y="1153"/>
                    </a:lnTo>
                    <a:lnTo>
                      <a:pt x="0" y="1227"/>
                    </a:lnTo>
                    <a:lnTo>
                      <a:pt x="87" y="1139"/>
                    </a:lnTo>
                    <a:lnTo>
                      <a:pt x="157" y="1112"/>
                    </a:lnTo>
                    <a:lnTo>
                      <a:pt x="219" y="895"/>
                    </a:lnTo>
                    <a:lnTo>
                      <a:pt x="219" y="782"/>
                    </a:lnTo>
                    <a:lnTo>
                      <a:pt x="175" y="721"/>
                    </a:lnTo>
                    <a:lnTo>
                      <a:pt x="175" y="644"/>
                    </a:lnTo>
                    <a:lnTo>
                      <a:pt x="279" y="235"/>
                    </a:lnTo>
                    <a:lnTo>
                      <a:pt x="388" y="0"/>
                    </a:lnTo>
                    <a:lnTo>
                      <a:pt x="307" y="341"/>
                    </a:lnTo>
                    <a:lnTo>
                      <a:pt x="219" y="685"/>
                    </a:lnTo>
                    <a:lnTo>
                      <a:pt x="307" y="798"/>
                    </a:lnTo>
                    <a:lnTo>
                      <a:pt x="366" y="914"/>
                    </a:lnTo>
                    <a:lnTo>
                      <a:pt x="606" y="462"/>
                    </a:lnTo>
                    <a:lnTo>
                      <a:pt x="691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974520" y="4124160"/>
                <a:ext cx="6480" cy="45720"/>
              </a:xfrm>
              <a:custGeom>
                <a:avLst/>
                <a:gdLst/>
                <a:ahLst/>
                <a:rect l="l" t="t" r="r" b="b"/>
                <a:pathLst>
                  <a:path w="83" h="431">
                    <a:moveTo>
                      <a:pt x="0" y="0"/>
                    </a:moveTo>
                    <a:lnTo>
                      <a:pt x="51" y="106"/>
                    </a:lnTo>
                    <a:lnTo>
                      <a:pt x="51" y="297"/>
                    </a:lnTo>
                    <a:lnTo>
                      <a:pt x="83" y="385"/>
                    </a:lnTo>
                    <a:lnTo>
                      <a:pt x="42" y="431"/>
                    </a:lnTo>
                    <a:lnTo>
                      <a:pt x="24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932400" y="4163760"/>
                <a:ext cx="34920" cy="72000"/>
              </a:xfrm>
              <a:custGeom>
                <a:avLst/>
                <a:gdLst/>
                <a:ahLst/>
                <a:rect l="l" t="t" r="r" b="b"/>
                <a:pathLst>
                  <a:path w="427" h="680">
                    <a:moveTo>
                      <a:pt x="0" y="0"/>
                    </a:moveTo>
                    <a:lnTo>
                      <a:pt x="175" y="532"/>
                    </a:lnTo>
                    <a:lnTo>
                      <a:pt x="307" y="543"/>
                    </a:lnTo>
                    <a:lnTo>
                      <a:pt x="427" y="629"/>
                    </a:lnTo>
                    <a:lnTo>
                      <a:pt x="366" y="680"/>
                    </a:lnTo>
                    <a:lnTo>
                      <a:pt x="175" y="611"/>
                    </a:lnTo>
                    <a:lnTo>
                      <a:pt x="81" y="3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938160" y="4151160"/>
                <a:ext cx="10440" cy="34560"/>
              </a:xfrm>
              <a:custGeom>
                <a:avLst/>
                <a:gdLst/>
                <a:ahLst/>
                <a:rect l="l" t="t" r="r" b="b"/>
                <a:pathLst>
                  <a:path w="131" h="329">
                    <a:moveTo>
                      <a:pt x="131" y="14"/>
                    </a:moveTo>
                    <a:lnTo>
                      <a:pt x="43" y="329"/>
                    </a:lnTo>
                    <a:lnTo>
                      <a:pt x="0" y="226"/>
                    </a:lnTo>
                    <a:lnTo>
                      <a:pt x="112" y="0"/>
                    </a:lnTo>
                    <a:lnTo>
                      <a:pt x="13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954360" y="4059720"/>
                <a:ext cx="8280" cy="32760"/>
              </a:xfrm>
              <a:custGeom>
                <a:avLst/>
                <a:gdLst/>
                <a:ahLst/>
                <a:rect l="l" t="t" r="r" b="b"/>
                <a:pathLst>
                  <a:path w="103" h="319">
                    <a:moveTo>
                      <a:pt x="71" y="0"/>
                    </a:moveTo>
                    <a:lnTo>
                      <a:pt x="71" y="171"/>
                    </a:lnTo>
                    <a:lnTo>
                      <a:pt x="103" y="319"/>
                    </a:lnTo>
                    <a:lnTo>
                      <a:pt x="0" y="21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965520" y="3982320"/>
                <a:ext cx="44280" cy="75240"/>
              </a:xfrm>
              <a:custGeom>
                <a:avLst/>
                <a:gdLst/>
                <a:ahLst/>
                <a:rect l="l" t="t" r="r" b="b"/>
                <a:pathLst>
                  <a:path w="533" h="711">
                    <a:moveTo>
                      <a:pt x="0" y="393"/>
                    </a:moveTo>
                    <a:lnTo>
                      <a:pt x="60" y="393"/>
                    </a:lnTo>
                    <a:lnTo>
                      <a:pt x="174" y="520"/>
                    </a:lnTo>
                    <a:lnTo>
                      <a:pt x="254" y="711"/>
                    </a:lnTo>
                    <a:lnTo>
                      <a:pt x="189" y="503"/>
                    </a:lnTo>
                    <a:lnTo>
                      <a:pt x="93" y="329"/>
                    </a:lnTo>
                    <a:lnTo>
                      <a:pt x="51" y="305"/>
                    </a:lnTo>
                    <a:lnTo>
                      <a:pt x="227" y="164"/>
                    </a:lnTo>
                    <a:lnTo>
                      <a:pt x="427" y="141"/>
                    </a:lnTo>
                    <a:lnTo>
                      <a:pt x="533" y="0"/>
                    </a:lnTo>
                    <a:lnTo>
                      <a:pt x="306" y="35"/>
                    </a:lnTo>
                    <a:lnTo>
                      <a:pt x="189" y="153"/>
                    </a:lnTo>
                    <a:lnTo>
                      <a:pt x="21" y="305"/>
                    </a:lnTo>
                    <a:lnTo>
                      <a:pt x="0" y="3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1028520" y="395280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118" h="158">
                    <a:moveTo>
                      <a:pt x="63" y="0"/>
                    </a:moveTo>
                    <a:lnTo>
                      <a:pt x="0" y="158"/>
                    </a:lnTo>
                    <a:lnTo>
                      <a:pt x="26" y="158"/>
                    </a:lnTo>
                    <a:lnTo>
                      <a:pt x="118" y="38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1041120" y="3999240"/>
                <a:ext cx="81360" cy="64440"/>
              </a:xfrm>
              <a:custGeom>
                <a:avLst/>
                <a:gdLst/>
                <a:ahLst/>
                <a:rect l="l" t="t" r="r" b="b"/>
                <a:pathLst>
                  <a:path w="985" h="611">
                    <a:moveTo>
                      <a:pt x="55" y="194"/>
                    </a:moveTo>
                    <a:lnTo>
                      <a:pt x="107" y="264"/>
                    </a:lnTo>
                    <a:lnTo>
                      <a:pt x="182" y="334"/>
                    </a:lnTo>
                    <a:lnTo>
                      <a:pt x="199" y="354"/>
                    </a:lnTo>
                    <a:lnTo>
                      <a:pt x="257" y="334"/>
                    </a:lnTo>
                    <a:lnTo>
                      <a:pt x="254" y="387"/>
                    </a:lnTo>
                    <a:lnTo>
                      <a:pt x="301" y="424"/>
                    </a:lnTo>
                    <a:lnTo>
                      <a:pt x="413" y="470"/>
                    </a:lnTo>
                    <a:lnTo>
                      <a:pt x="479" y="502"/>
                    </a:lnTo>
                    <a:lnTo>
                      <a:pt x="538" y="543"/>
                    </a:lnTo>
                    <a:lnTo>
                      <a:pt x="580" y="585"/>
                    </a:lnTo>
                    <a:lnTo>
                      <a:pt x="901" y="20"/>
                    </a:lnTo>
                    <a:lnTo>
                      <a:pt x="938" y="0"/>
                    </a:lnTo>
                    <a:lnTo>
                      <a:pt x="976" y="0"/>
                    </a:lnTo>
                    <a:lnTo>
                      <a:pt x="985" y="20"/>
                    </a:lnTo>
                    <a:lnTo>
                      <a:pt x="967" y="29"/>
                    </a:lnTo>
                    <a:lnTo>
                      <a:pt x="936" y="29"/>
                    </a:lnTo>
                    <a:lnTo>
                      <a:pt x="899" y="48"/>
                    </a:lnTo>
                    <a:lnTo>
                      <a:pt x="865" y="90"/>
                    </a:lnTo>
                    <a:lnTo>
                      <a:pt x="580" y="611"/>
                    </a:lnTo>
                    <a:lnTo>
                      <a:pt x="459" y="565"/>
                    </a:lnTo>
                    <a:lnTo>
                      <a:pt x="538" y="578"/>
                    </a:lnTo>
                    <a:lnTo>
                      <a:pt x="485" y="532"/>
                    </a:lnTo>
                    <a:lnTo>
                      <a:pt x="404" y="486"/>
                    </a:lnTo>
                    <a:lnTo>
                      <a:pt x="325" y="458"/>
                    </a:lnTo>
                    <a:lnTo>
                      <a:pt x="296" y="453"/>
                    </a:lnTo>
                    <a:lnTo>
                      <a:pt x="362" y="519"/>
                    </a:lnTo>
                    <a:lnTo>
                      <a:pt x="301" y="475"/>
                    </a:lnTo>
                    <a:lnTo>
                      <a:pt x="257" y="440"/>
                    </a:lnTo>
                    <a:lnTo>
                      <a:pt x="204" y="383"/>
                    </a:lnTo>
                    <a:lnTo>
                      <a:pt x="136" y="315"/>
                    </a:lnTo>
                    <a:lnTo>
                      <a:pt x="74" y="269"/>
                    </a:lnTo>
                    <a:lnTo>
                      <a:pt x="24" y="224"/>
                    </a:lnTo>
                    <a:lnTo>
                      <a:pt x="0" y="185"/>
                    </a:lnTo>
                    <a:lnTo>
                      <a:pt x="55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1041120" y="3937680"/>
                <a:ext cx="23760" cy="37080"/>
              </a:xfrm>
              <a:custGeom>
                <a:avLst/>
                <a:gdLst/>
                <a:ahLst/>
                <a:rect l="l" t="t" r="r" b="b"/>
                <a:pathLst>
                  <a:path w="281" h="354">
                    <a:moveTo>
                      <a:pt x="0" y="338"/>
                    </a:moveTo>
                    <a:lnTo>
                      <a:pt x="199" y="42"/>
                    </a:lnTo>
                    <a:lnTo>
                      <a:pt x="228" y="17"/>
                    </a:lnTo>
                    <a:lnTo>
                      <a:pt x="254" y="0"/>
                    </a:lnTo>
                    <a:lnTo>
                      <a:pt x="281" y="6"/>
                    </a:lnTo>
                    <a:lnTo>
                      <a:pt x="241" y="22"/>
                    </a:lnTo>
                    <a:lnTo>
                      <a:pt x="206" y="54"/>
                    </a:lnTo>
                    <a:lnTo>
                      <a:pt x="4" y="354"/>
                    </a:lnTo>
                    <a:lnTo>
                      <a:pt x="0" y="3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1043640" y="3975480"/>
                <a:ext cx="57600" cy="25200"/>
              </a:xfrm>
              <a:custGeom>
                <a:avLst/>
                <a:gdLst/>
                <a:ahLst/>
                <a:rect l="l" t="t" r="r" b="b"/>
                <a:pathLst>
                  <a:path w="696" h="242">
                    <a:moveTo>
                      <a:pt x="0" y="242"/>
                    </a:moveTo>
                    <a:lnTo>
                      <a:pt x="39" y="215"/>
                    </a:lnTo>
                    <a:lnTo>
                      <a:pt x="81" y="180"/>
                    </a:lnTo>
                    <a:lnTo>
                      <a:pt x="131" y="111"/>
                    </a:lnTo>
                    <a:lnTo>
                      <a:pt x="156" y="69"/>
                    </a:lnTo>
                    <a:lnTo>
                      <a:pt x="180" y="49"/>
                    </a:lnTo>
                    <a:lnTo>
                      <a:pt x="208" y="31"/>
                    </a:lnTo>
                    <a:lnTo>
                      <a:pt x="248" y="21"/>
                    </a:lnTo>
                    <a:lnTo>
                      <a:pt x="369" y="0"/>
                    </a:lnTo>
                    <a:lnTo>
                      <a:pt x="439" y="3"/>
                    </a:lnTo>
                    <a:lnTo>
                      <a:pt x="527" y="40"/>
                    </a:lnTo>
                    <a:lnTo>
                      <a:pt x="592" y="88"/>
                    </a:lnTo>
                    <a:lnTo>
                      <a:pt x="696" y="137"/>
                    </a:lnTo>
                    <a:lnTo>
                      <a:pt x="617" y="125"/>
                    </a:lnTo>
                    <a:lnTo>
                      <a:pt x="564" y="106"/>
                    </a:lnTo>
                    <a:lnTo>
                      <a:pt x="527" y="86"/>
                    </a:lnTo>
                    <a:lnTo>
                      <a:pt x="483" y="75"/>
                    </a:lnTo>
                    <a:lnTo>
                      <a:pt x="459" y="79"/>
                    </a:lnTo>
                    <a:lnTo>
                      <a:pt x="435" y="150"/>
                    </a:lnTo>
                    <a:lnTo>
                      <a:pt x="384" y="211"/>
                    </a:lnTo>
                    <a:lnTo>
                      <a:pt x="421" y="152"/>
                    </a:lnTo>
                    <a:lnTo>
                      <a:pt x="447" y="69"/>
                    </a:lnTo>
                    <a:lnTo>
                      <a:pt x="447" y="49"/>
                    </a:lnTo>
                    <a:lnTo>
                      <a:pt x="430" y="28"/>
                    </a:lnTo>
                    <a:lnTo>
                      <a:pt x="384" y="16"/>
                    </a:lnTo>
                    <a:lnTo>
                      <a:pt x="329" y="21"/>
                    </a:lnTo>
                    <a:lnTo>
                      <a:pt x="313" y="44"/>
                    </a:lnTo>
                    <a:lnTo>
                      <a:pt x="343" y="222"/>
                    </a:lnTo>
                    <a:lnTo>
                      <a:pt x="325" y="222"/>
                    </a:lnTo>
                    <a:lnTo>
                      <a:pt x="256" y="198"/>
                    </a:lnTo>
                    <a:lnTo>
                      <a:pt x="195" y="174"/>
                    </a:lnTo>
                    <a:lnTo>
                      <a:pt x="164" y="150"/>
                    </a:lnTo>
                    <a:lnTo>
                      <a:pt x="145" y="137"/>
                    </a:lnTo>
                    <a:lnTo>
                      <a:pt x="108" y="174"/>
                    </a:lnTo>
                    <a:lnTo>
                      <a:pt x="67" y="210"/>
                    </a:lnTo>
                    <a:lnTo>
                      <a:pt x="25" y="231"/>
                    </a:lnTo>
                    <a:lnTo>
                      <a:pt x="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1098720" y="3936600"/>
                <a:ext cx="32400" cy="46440"/>
              </a:xfrm>
              <a:custGeom>
                <a:avLst/>
                <a:gdLst/>
                <a:ahLst/>
                <a:rect l="l" t="t" r="r" b="b"/>
                <a:pathLst>
                  <a:path w="385" h="439">
                    <a:moveTo>
                      <a:pt x="0" y="0"/>
                    </a:moveTo>
                    <a:lnTo>
                      <a:pt x="40" y="55"/>
                    </a:lnTo>
                    <a:lnTo>
                      <a:pt x="63" y="111"/>
                    </a:lnTo>
                    <a:lnTo>
                      <a:pt x="86" y="256"/>
                    </a:lnTo>
                    <a:lnTo>
                      <a:pt x="75" y="439"/>
                    </a:lnTo>
                    <a:lnTo>
                      <a:pt x="114" y="274"/>
                    </a:lnTo>
                    <a:lnTo>
                      <a:pt x="148" y="189"/>
                    </a:lnTo>
                    <a:lnTo>
                      <a:pt x="204" y="107"/>
                    </a:lnTo>
                    <a:lnTo>
                      <a:pt x="235" y="111"/>
                    </a:lnTo>
                    <a:lnTo>
                      <a:pt x="211" y="256"/>
                    </a:lnTo>
                    <a:lnTo>
                      <a:pt x="215" y="292"/>
                    </a:lnTo>
                    <a:lnTo>
                      <a:pt x="385" y="74"/>
                    </a:lnTo>
                    <a:lnTo>
                      <a:pt x="310" y="26"/>
                    </a:lnTo>
                    <a:lnTo>
                      <a:pt x="252" y="67"/>
                    </a:lnTo>
                    <a:lnTo>
                      <a:pt x="204" y="58"/>
                    </a:lnTo>
                    <a:lnTo>
                      <a:pt x="112" y="81"/>
                    </a:lnTo>
                    <a:lnTo>
                      <a:pt x="81" y="81"/>
                    </a:lnTo>
                    <a:lnTo>
                      <a:pt x="37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1067760" y="3996000"/>
                <a:ext cx="68040" cy="245520"/>
              </a:xfrm>
              <a:custGeom>
                <a:avLst/>
                <a:gdLst/>
                <a:ahLst/>
                <a:rect l="l" t="t" r="r" b="b"/>
                <a:pathLst>
                  <a:path w="819" h="2318">
                    <a:moveTo>
                      <a:pt x="102" y="23"/>
                    </a:moveTo>
                    <a:lnTo>
                      <a:pt x="196" y="140"/>
                    </a:lnTo>
                    <a:lnTo>
                      <a:pt x="275" y="327"/>
                    </a:lnTo>
                    <a:lnTo>
                      <a:pt x="424" y="714"/>
                    </a:lnTo>
                    <a:lnTo>
                      <a:pt x="579" y="1265"/>
                    </a:lnTo>
                    <a:lnTo>
                      <a:pt x="712" y="1680"/>
                    </a:lnTo>
                    <a:lnTo>
                      <a:pt x="819" y="1925"/>
                    </a:lnTo>
                    <a:lnTo>
                      <a:pt x="660" y="2318"/>
                    </a:lnTo>
                    <a:lnTo>
                      <a:pt x="526" y="2190"/>
                    </a:lnTo>
                    <a:lnTo>
                      <a:pt x="252" y="1992"/>
                    </a:lnTo>
                    <a:lnTo>
                      <a:pt x="35" y="546"/>
                    </a:lnTo>
                    <a:lnTo>
                      <a:pt x="0" y="274"/>
                    </a:lnTo>
                    <a:lnTo>
                      <a:pt x="17" y="103"/>
                    </a:lnTo>
                    <a:lnTo>
                      <a:pt x="35" y="41"/>
                    </a:lnTo>
                    <a:lnTo>
                      <a:pt x="35" y="0"/>
                    </a:lnTo>
                    <a:lnTo>
                      <a:pt x="60" y="41"/>
                    </a:lnTo>
                    <a:lnTo>
                      <a:pt x="53" y="134"/>
                    </a:lnTo>
                    <a:lnTo>
                      <a:pt x="60" y="292"/>
                    </a:lnTo>
                    <a:lnTo>
                      <a:pt x="77" y="465"/>
                    </a:lnTo>
                    <a:lnTo>
                      <a:pt x="116" y="707"/>
                    </a:lnTo>
                    <a:lnTo>
                      <a:pt x="284" y="1487"/>
                    </a:lnTo>
                    <a:lnTo>
                      <a:pt x="343" y="1953"/>
                    </a:lnTo>
                    <a:lnTo>
                      <a:pt x="360" y="2010"/>
                    </a:lnTo>
                    <a:lnTo>
                      <a:pt x="512" y="2142"/>
                    </a:lnTo>
                    <a:lnTo>
                      <a:pt x="642" y="2252"/>
                    </a:lnTo>
                    <a:lnTo>
                      <a:pt x="734" y="2019"/>
                    </a:lnTo>
                    <a:lnTo>
                      <a:pt x="778" y="1925"/>
                    </a:lnTo>
                    <a:lnTo>
                      <a:pt x="651" y="1604"/>
                    </a:lnTo>
                    <a:lnTo>
                      <a:pt x="561" y="1296"/>
                    </a:lnTo>
                    <a:lnTo>
                      <a:pt x="433" y="863"/>
                    </a:lnTo>
                    <a:lnTo>
                      <a:pt x="351" y="555"/>
                    </a:lnTo>
                    <a:lnTo>
                      <a:pt x="235" y="239"/>
                    </a:lnTo>
                    <a:lnTo>
                      <a:pt x="162" y="116"/>
                    </a:lnTo>
                    <a:lnTo>
                      <a:pt x="10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1048320" y="4073040"/>
                <a:ext cx="187560" cy="197280"/>
              </a:xfrm>
              <a:custGeom>
                <a:avLst/>
                <a:gdLst/>
                <a:ahLst/>
                <a:rect l="l" t="t" r="r" b="b"/>
                <a:pathLst>
                  <a:path w="2266" h="1862">
                    <a:moveTo>
                      <a:pt x="947" y="954"/>
                    </a:moveTo>
                    <a:lnTo>
                      <a:pt x="1211" y="1046"/>
                    </a:lnTo>
                    <a:lnTo>
                      <a:pt x="1455" y="1180"/>
                    </a:lnTo>
                    <a:lnTo>
                      <a:pt x="1630" y="1244"/>
                    </a:lnTo>
                    <a:lnTo>
                      <a:pt x="1747" y="1362"/>
                    </a:lnTo>
                    <a:lnTo>
                      <a:pt x="1925" y="1436"/>
                    </a:lnTo>
                    <a:lnTo>
                      <a:pt x="1914" y="1348"/>
                    </a:lnTo>
                    <a:lnTo>
                      <a:pt x="1764" y="1189"/>
                    </a:lnTo>
                    <a:lnTo>
                      <a:pt x="1582" y="1055"/>
                    </a:lnTo>
                    <a:lnTo>
                      <a:pt x="1854" y="1194"/>
                    </a:lnTo>
                    <a:lnTo>
                      <a:pt x="1905" y="908"/>
                    </a:lnTo>
                    <a:lnTo>
                      <a:pt x="1815" y="921"/>
                    </a:lnTo>
                    <a:lnTo>
                      <a:pt x="1747" y="908"/>
                    </a:lnTo>
                    <a:lnTo>
                      <a:pt x="1663" y="855"/>
                    </a:lnTo>
                    <a:lnTo>
                      <a:pt x="1738" y="839"/>
                    </a:lnTo>
                    <a:lnTo>
                      <a:pt x="1815" y="765"/>
                    </a:lnTo>
                    <a:lnTo>
                      <a:pt x="1863" y="682"/>
                    </a:lnTo>
                    <a:lnTo>
                      <a:pt x="1905" y="506"/>
                    </a:lnTo>
                    <a:lnTo>
                      <a:pt x="1914" y="273"/>
                    </a:lnTo>
                    <a:lnTo>
                      <a:pt x="1872" y="0"/>
                    </a:lnTo>
                    <a:lnTo>
                      <a:pt x="2048" y="168"/>
                    </a:lnTo>
                    <a:lnTo>
                      <a:pt x="2131" y="308"/>
                    </a:lnTo>
                    <a:lnTo>
                      <a:pt x="2110" y="325"/>
                    </a:lnTo>
                    <a:lnTo>
                      <a:pt x="1988" y="242"/>
                    </a:lnTo>
                    <a:lnTo>
                      <a:pt x="2013" y="541"/>
                    </a:lnTo>
                    <a:lnTo>
                      <a:pt x="2165" y="839"/>
                    </a:lnTo>
                    <a:lnTo>
                      <a:pt x="2206" y="1014"/>
                    </a:lnTo>
                    <a:lnTo>
                      <a:pt x="2149" y="1079"/>
                    </a:lnTo>
                    <a:lnTo>
                      <a:pt x="2156" y="1180"/>
                    </a:lnTo>
                    <a:lnTo>
                      <a:pt x="2266" y="1348"/>
                    </a:lnTo>
                    <a:lnTo>
                      <a:pt x="2266" y="1398"/>
                    </a:lnTo>
                    <a:lnTo>
                      <a:pt x="2215" y="1459"/>
                    </a:lnTo>
                    <a:lnTo>
                      <a:pt x="2013" y="1593"/>
                    </a:lnTo>
                    <a:lnTo>
                      <a:pt x="1896" y="1680"/>
                    </a:lnTo>
                    <a:lnTo>
                      <a:pt x="1738" y="1862"/>
                    </a:lnTo>
                    <a:lnTo>
                      <a:pt x="1496" y="1862"/>
                    </a:lnTo>
                    <a:lnTo>
                      <a:pt x="1444" y="1833"/>
                    </a:lnTo>
                    <a:lnTo>
                      <a:pt x="1356" y="1824"/>
                    </a:lnTo>
                    <a:lnTo>
                      <a:pt x="1305" y="1862"/>
                    </a:lnTo>
                    <a:lnTo>
                      <a:pt x="0" y="1862"/>
                    </a:lnTo>
                    <a:lnTo>
                      <a:pt x="169" y="1752"/>
                    </a:lnTo>
                    <a:lnTo>
                      <a:pt x="344" y="1662"/>
                    </a:lnTo>
                    <a:lnTo>
                      <a:pt x="542" y="1578"/>
                    </a:lnTo>
                    <a:lnTo>
                      <a:pt x="747" y="1512"/>
                    </a:lnTo>
                    <a:lnTo>
                      <a:pt x="830" y="1496"/>
                    </a:lnTo>
                    <a:lnTo>
                      <a:pt x="865" y="1545"/>
                    </a:lnTo>
                    <a:lnTo>
                      <a:pt x="837" y="1668"/>
                    </a:lnTo>
                    <a:lnTo>
                      <a:pt x="877" y="1721"/>
                    </a:lnTo>
                    <a:lnTo>
                      <a:pt x="1178" y="1680"/>
                    </a:lnTo>
                    <a:lnTo>
                      <a:pt x="1187" y="1653"/>
                    </a:lnTo>
                    <a:lnTo>
                      <a:pt x="1174" y="1629"/>
                    </a:lnTo>
                    <a:lnTo>
                      <a:pt x="947" y="1653"/>
                    </a:lnTo>
                    <a:lnTo>
                      <a:pt x="911" y="1635"/>
                    </a:lnTo>
                    <a:lnTo>
                      <a:pt x="906" y="1545"/>
                    </a:lnTo>
                    <a:lnTo>
                      <a:pt x="964" y="1503"/>
                    </a:lnTo>
                    <a:lnTo>
                      <a:pt x="994" y="1539"/>
                    </a:lnTo>
                    <a:lnTo>
                      <a:pt x="1037" y="1593"/>
                    </a:lnTo>
                    <a:lnTo>
                      <a:pt x="1103" y="1593"/>
                    </a:lnTo>
                    <a:lnTo>
                      <a:pt x="1139" y="1521"/>
                    </a:lnTo>
                    <a:lnTo>
                      <a:pt x="1019" y="1479"/>
                    </a:lnTo>
                    <a:lnTo>
                      <a:pt x="969" y="1470"/>
                    </a:lnTo>
                    <a:lnTo>
                      <a:pt x="1156" y="1459"/>
                    </a:lnTo>
                    <a:lnTo>
                      <a:pt x="1428" y="1452"/>
                    </a:lnTo>
                    <a:lnTo>
                      <a:pt x="1571" y="1459"/>
                    </a:lnTo>
                    <a:lnTo>
                      <a:pt x="1413" y="1398"/>
                    </a:lnTo>
                    <a:lnTo>
                      <a:pt x="1331" y="1319"/>
                    </a:lnTo>
                    <a:lnTo>
                      <a:pt x="1437" y="1353"/>
                    </a:lnTo>
                    <a:lnTo>
                      <a:pt x="1707" y="1459"/>
                    </a:lnTo>
                    <a:lnTo>
                      <a:pt x="1848" y="1479"/>
                    </a:lnTo>
                    <a:lnTo>
                      <a:pt x="1531" y="1256"/>
                    </a:lnTo>
                    <a:lnTo>
                      <a:pt x="1266" y="1106"/>
                    </a:lnTo>
                    <a:lnTo>
                      <a:pt x="1095" y="1064"/>
                    </a:lnTo>
                    <a:lnTo>
                      <a:pt x="1037" y="1002"/>
                    </a:lnTo>
                    <a:lnTo>
                      <a:pt x="947" y="9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1139040" y="393768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443" h="201">
                    <a:moveTo>
                      <a:pt x="0" y="69"/>
                    </a:moveTo>
                    <a:lnTo>
                      <a:pt x="0" y="201"/>
                    </a:lnTo>
                    <a:lnTo>
                      <a:pt x="236" y="46"/>
                    </a:lnTo>
                    <a:lnTo>
                      <a:pt x="261" y="69"/>
                    </a:lnTo>
                    <a:lnTo>
                      <a:pt x="351" y="78"/>
                    </a:lnTo>
                    <a:lnTo>
                      <a:pt x="443" y="19"/>
                    </a:lnTo>
                    <a:lnTo>
                      <a:pt x="342" y="51"/>
                    </a:lnTo>
                    <a:lnTo>
                      <a:pt x="287" y="46"/>
                    </a:lnTo>
                    <a:lnTo>
                      <a:pt x="236" y="0"/>
                    </a:lnTo>
                    <a:lnTo>
                      <a:pt x="134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1186920" y="3945240"/>
                <a:ext cx="57240" cy="114480"/>
              </a:xfrm>
              <a:custGeom>
                <a:avLst/>
                <a:gdLst/>
                <a:ahLst/>
                <a:rect l="l" t="t" r="r" b="b"/>
                <a:pathLst>
                  <a:path w="701" h="1079">
                    <a:moveTo>
                      <a:pt x="0" y="0"/>
                    </a:moveTo>
                    <a:lnTo>
                      <a:pt x="281" y="374"/>
                    </a:lnTo>
                    <a:lnTo>
                      <a:pt x="424" y="438"/>
                    </a:lnTo>
                    <a:lnTo>
                      <a:pt x="438" y="688"/>
                    </a:lnTo>
                    <a:lnTo>
                      <a:pt x="519" y="823"/>
                    </a:lnTo>
                    <a:lnTo>
                      <a:pt x="519" y="1079"/>
                    </a:lnTo>
                    <a:lnTo>
                      <a:pt x="551" y="1035"/>
                    </a:lnTo>
                    <a:lnTo>
                      <a:pt x="551" y="680"/>
                    </a:lnTo>
                    <a:lnTo>
                      <a:pt x="659" y="747"/>
                    </a:lnTo>
                    <a:lnTo>
                      <a:pt x="684" y="862"/>
                    </a:lnTo>
                    <a:lnTo>
                      <a:pt x="701" y="754"/>
                    </a:lnTo>
                    <a:lnTo>
                      <a:pt x="627" y="583"/>
                    </a:lnTo>
                    <a:lnTo>
                      <a:pt x="361" y="316"/>
                    </a:lnTo>
                    <a:lnTo>
                      <a:pt x="253" y="28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1157040" y="3992400"/>
                <a:ext cx="30960" cy="55800"/>
              </a:xfrm>
              <a:custGeom>
                <a:avLst/>
                <a:gdLst/>
                <a:ahLst/>
                <a:rect l="l" t="t" r="r" b="b"/>
                <a:pathLst>
                  <a:path w="378" h="533">
                    <a:moveTo>
                      <a:pt x="0" y="257"/>
                    </a:moveTo>
                    <a:lnTo>
                      <a:pt x="70" y="107"/>
                    </a:lnTo>
                    <a:lnTo>
                      <a:pt x="143" y="98"/>
                    </a:lnTo>
                    <a:lnTo>
                      <a:pt x="235" y="118"/>
                    </a:lnTo>
                    <a:lnTo>
                      <a:pt x="253" y="0"/>
                    </a:lnTo>
                    <a:lnTo>
                      <a:pt x="378" y="533"/>
                    </a:lnTo>
                    <a:lnTo>
                      <a:pt x="235" y="272"/>
                    </a:lnTo>
                    <a:lnTo>
                      <a:pt x="166" y="233"/>
                    </a:lnTo>
                    <a:lnTo>
                      <a:pt x="83" y="222"/>
                    </a:lnTo>
                    <a:lnTo>
                      <a:pt x="0" y="2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1227960" y="4032360"/>
                <a:ext cx="59400" cy="122760"/>
              </a:xfrm>
              <a:custGeom>
                <a:avLst/>
                <a:gdLst/>
                <a:ahLst/>
                <a:rect l="l" t="t" r="r" b="b"/>
                <a:pathLst>
                  <a:path w="717" h="1161">
                    <a:moveTo>
                      <a:pt x="261" y="0"/>
                    </a:moveTo>
                    <a:lnTo>
                      <a:pt x="252" y="99"/>
                    </a:lnTo>
                    <a:lnTo>
                      <a:pt x="177" y="240"/>
                    </a:lnTo>
                    <a:lnTo>
                      <a:pt x="76" y="390"/>
                    </a:lnTo>
                    <a:lnTo>
                      <a:pt x="34" y="509"/>
                    </a:lnTo>
                    <a:lnTo>
                      <a:pt x="34" y="572"/>
                    </a:lnTo>
                    <a:lnTo>
                      <a:pt x="67" y="656"/>
                    </a:lnTo>
                    <a:lnTo>
                      <a:pt x="94" y="724"/>
                    </a:lnTo>
                    <a:lnTo>
                      <a:pt x="0" y="724"/>
                    </a:lnTo>
                    <a:lnTo>
                      <a:pt x="127" y="763"/>
                    </a:lnTo>
                    <a:lnTo>
                      <a:pt x="177" y="889"/>
                    </a:lnTo>
                    <a:lnTo>
                      <a:pt x="325" y="889"/>
                    </a:lnTo>
                    <a:lnTo>
                      <a:pt x="496" y="1161"/>
                    </a:lnTo>
                    <a:lnTo>
                      <a:pt x="535" y="1091"/>
                    </a:lnTo>
                    <a:lnTo>
                      <a:pt x="535" y="970"/>
                    </a:lnTo>
                    <a:lnTo>
                      <a:pt x="643" y="774"/>
                    </a:lnTo>
                    <a:lnTo>
                      <a:pt x="717" y="473"/>
                    </a:lnTo>
                    <a:lnTo>
                      <a:pt x="616" y="756"/>
                    </a:lnTo>
                    <a:lnTo>
                      <a:pt x="560" y="733"/>
                    </a:lnTo>
                    <a:lnTo>
                      <a:pt x="595" y="673"/>
                    </a:lnTo>
                    <a:lnTo>
                      <a:pt x="217" y="839"/>
                    </a:lnTo>
                    <a:lnTo>
                      <a:pt x="210" y="763"/>
                    </a:lnTo>
                    <a:lnTo>
                      <a:pt x="127" y="708"/>
                    </a:lnTo>
                    <a:lnTo>
                      <a:pt x="337" y="524"/>
                    </a:lnTo>
                    <a:lnTo>
                      <a:pt x="184" y="608"/>
                    </a:lnTo>
                    <a:lnTo>
                      <a:pt x="153" y="524"/>
                    </a:lnTo>
                    <a:lnTo>
                      <a:pt x="159" y="422"/>
                    </a:lnTo>
                    <a:lnTo>
                      <a:pt x="201" y="341"/>
                    </a:lnTo>
                    <a:lnTo>
                      <a:pt x="344" y="168"/>
                    </a:lnTo>
                    <a:lnTo>
                      <a:pt x="360" y="99"/>
                    </a:lnTo>
                    <a:lnTo>
                      <a:pt x="344" y="58"/>
                    </a:lnTo>
                    <a:lnTo>
                      <a:pt x="293" y="58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1239480" y="4160520"/>
                <a:ext cx="64080" cy="53280"/>
              </a:xfrm>
              <a:custGeom>
                <a:avLst/>
                <a:gdLst/>
                <a:ahLst/>
                <a:rect l="l" t="t" r="r" b="b"/>
                <a:pathLst>
                  <a:path w="775" h="510">
                    <a:moveTo>
                      <a:pt x="0" y="510"/>
                    </a:moveTo>
                    <a:lnTo>
                      <a:pt x="92" y="353"/>
                    </a:lnTo>
                    <a:lnTo>
                      <a:pt x="472" y="182"/>
                    </a:lnTo>
                    <a:lnTo>
                      <a:pt x="672" y="182"/>
                    </a:lnTo>
                    <a:lnTo>
                      <a:pt x="775" y="118"/>
                    </a:lnTo>
                    <a:lnTo>
                      <a:pt x="540" y="118"/>
                    </a:lnTo>
                    <a:lnTo>
                      <a:pt x="393" y="171"/>
                    </a:lnTo>
                    <a:lnTo>
                      <a:pt x="327" y="143"/>
                    </a:lnTo>
                    <a:lnTo>
                      <a:pt x="342" y="0"/>
                    </a:lnTo>
                    <a:lnTo>
                      <a:pt x="261" y="14"/>
                    </a:lnTo>
                    <a:lnTo>
                      <a:pt x="261" y="171"/>
                    </a:lnTo>
                    <a:lnTo>
                      <a:pt x="197" y="251"/>
                    </a:lnTo>
                    <a:lnTo>
                      <a:pt x="105" y="261"/>
                    </a:lnTo>
                    <a:lnTo>
                      <a:pt x="12" y="393"/>
                    </a:lnTo>
                    <a:lnTo>
                      <a:pt x="0" y="5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1244520" y="4311360"/>
                <a:ext cx="98640" cy="47160"/>
              </a:xfrm>
              <a:custGeom>
                <a:avLst/>
                <a:gdLst/>
                <a:ahLst/>
                <a:rect l="l" t="t" r="r" b="b"/>
                <a:pathLst>
                  <a:path w="1191" h="446">
                    <a:moveTo>
                      <a:pt x="1191" y="174"/>
                    </a:moveTo>
                    <a:lnTo>
                      <a:pt x="841" y="283"/>
                    </a:lnTo>
                    <a:lnTo>
                      <a:pt x="622" y="446"/>
                    </a:lnTo>
                    <a:lnTo>
                      <a:pt x="609" y="374"/>
                    </a:lnTo>
                    <a:lnTo>
                      <a:pt x="912" y="176"/>
                    </a:lnTo>
                    <a:lnTo>
                      <a:pt x="877" y="137"/>
                    </a:lnTo>
                    <a:lnTo>
                      <a:pt x="708" y="149"/>
                    </a:lnTo>
                    <a:lnTo>
                      <a:pt x="490" y="213"/>
                    </a:lnTo>
                    <a:lnTo>
                      <a:pt x="512" y="108"/>
                    </a:lnTo>
                    <a:lnTo>
                      <a:pt x="313" y="96"/>
                    </a:lnTo>
                    <a:lnTo>
                      <a:pt x="205" y="55"/>
                    </a:lnTo>
                    <a:lnTo>
                      <a:pt x="69" y="2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246" y="47"/>
                    </a:lnTo>
                    <a:lnTo>
                      <a:pt x="409" y="77"/>
                    </a:lnTo>
                    <a:lnTo>
                      <a:pt x="537" y="73"/>
                    </a:lnTo>
                    <a:lnTo>
                      <a:pt x="652" y="55"/>
                    </a:lnTo>
                    <a:lnTo>
                      <a:pt x="749" y="112"/>
                    </a:lnTo>
                    <a:lnTo>
                      <a:pt x="1028" y="96"/>
                    </a:lnTo>
                    <a:lnTo>
                      <a:pt x="1164" y="154"/>
                    </a:lnTo>
                    <a:lnTo>
                      <a:pt x="1191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1127160" y="4264920"/>
                <a:ext cx="145080" cy="129240"/>
              </a:xfrm>
              <a:custGeom>
                <a:avLst/>
                <a:gdLst/>
                <a:ahLst/>
                <a:rect l="l" t="t" r="r" b="b"/>
                <a:pathLst>
                  <a:path w="1754" h="1222">
                    <a:moveTo>
                      <a:pt x="1289" y="666"/>
                    </a:moveTo>
                    <a:lnTo>
                      <a:pt x="1258" y="826"/>
                    </a:lnTo>
                    <a:lnTo>
                      <a:pt x="1258" y="945"/>
                    </a:lnTo>
                    <a:lnTo>
                      <a:pt x="1289" y="1042"/>
                    </a:lnTo>
                    <a:lnTo>
                      <a:pt x="1311" y="1098"/>
                    </a:lnTo>
                    <a:lnTo>
                      <a:pt x="1754" y="1222"/>
                    </a:lnTo>
                    <a:lnTo>
                      <a:pt x="1293" y="1160"/>
                    </a:lnTo>
                    <a:lnTo>
                      <a:pt x="1251" y="1098"/>
                    </a:lnTo>
                    <a:lnTo>
                      <a:pt x="876" y="1092"/>
                    </a:lnTo>
                    <a:lnTo>
                      <a:pt x="576" y="1035"/>
                    </a:lnTo>
                    <a:lnTo>
                      <a:pt x="311" y="955"/>
                    </a:lnTo>
                    <a:lnTo>
                      <a:pt x="93" y="860"/>
                    </a:lnTo>
                    <a:lnTo>
                      <a:pt x="69" y="826"/>
                    </a:lnTo>
                    <a:lnTo>
                      <a:pt x="51" y="749"/>
                    </a:lnTo>
                    <a:lnTo>
                      <a:pt x="0" y="652"/>
                    </a:lnTo>
                    <a:lnTo>
                      <a:pt x="12" y="615"/>
                    </a:lnTo>
                    <a:lnTo>
                      <a:pt x="32" y="588"/>
                    </a:lnTo>
                    <a:lnTo>
                      <a:pt x="32" y="452"/>
                    </a:lnTo>
                    <a:lnTo>
                      <a:pt x="51" y="406"/>
                    </a:lnTo>
                    <a:lnTo>
                      <a:pt x="80" y="382"/>
                    </a:lnTo>
                    <a:lnTo>
                      <a:pt x="58" y="433"/>
                    </a:lnTo>
                    <a:lnTo>
                      <a:pt x="51" y="547"/>
                    </a:lnTo>
                    <a:lnTo>
                      <a:pt x="58" y="613"/>
                    </a:lnTo>
                    <a:lnTo>
                      <a:pt x="230" y="756"/>
                    </a:lnTo>
                    <a:lnTo>
                      <a:pt x="258" y="749"/>
                    </a:lnTo>
                    <a:lnTo>
                      <a:pt x="278" y="670"/>
                    </a:lnTo>
                    <a:lnTo>
                      <a:pt x="170" y="494"/>
                    </a:lnTo>
                    <a:lnTo>
                      <a:pt x="140" y="344"/>
                    </a:lnTo>
                    <a:lnTo>
                      <a:pt x="201" y="202"/>
                    </a:lnTo>
                    <a:lnTo>
                      <a:pt x="201" y="426"/>
                    </a:lnTo>
                    <a:lnTo>
                      <a:pt x="361" y="786"/>
                    </a:lnTo>
                    <a:lnTo>
                      <a:pt x="438" y="802"/>
                    </a:lnTo>
                    <a:lnTo>
                      <a:pt x="489" y="770"/>
                    </a:lnTo>
                    <a:lnTo>
                      <a:pt x="480" y="685"/>
                    </a:lnTo>
                    <a:lnTo>
                      <a:pt x="320" y="286"/>
                    </a:lnTo>
                    <a:lnTo>
                      <a:pt x="320" y="166"/>
                    </a:lnTo>
                    <a:lnTo>
                      <a:pt x="320" y="72"/>
                    </a:lnTo>
                    <a:lnTo>
                      <a:pt x="361" y="0"/>
                    </a:lnTo>
                    <a:lnTo>
                      <a:pt x="343" y="136"/>
                    </a:lnTo>
                    <a:lnTo>
                      <a:pt x="350" y="272"/>
                    </a:lnTo>
                    <a:lnTo>
                      <a:pt x="451" y="540"/>
                    </a:lnTo>
                    <a:lnTo>
                      <a:pt x="493" y="560"/>
                    </a:lnTo>
                    <a:lnTo>
                      <a:pt x="535" y="516"/>
                    </a:lnTo>
                    <a:lnTo>
                      <a:pt x="553" y="468"/>
                    </a:lnTo>
                    <a:lnTo>
                      <a:pt x="546" y="362"/>
                    </a:lnTo>
                    <a:lnTo>
                      <a:pt x="528" y="219"/>
                    </a:lnTo>
                    <a:lnTo>
                      <a:pt x="553" y="215"/>
                    </a:lnTo>
                    <a:lnTo>
                      <a:pt x="581" y="459"/>
                    </a:lnTo>
                    <a:lnTo>
                      <a:pt x="570" y="523"/>
                    </a:lnTo>
                    <a:lnTo>
                      <a:pt x="541" y="569"/>
                    </a:lnTo>
                    <a:lnTo>
                      <a:pt x="498" y="613"/>
                    </a:lnTo>
                    <a:lnTo>
                      <a:pt x="511" y="740"/>
                    </a:lnTo>
                    <a:lnTo>
                      <a:pt x="504" y="826"/>
                    </a:lnTo>
                    <a:lnTo>
                      <a:pt x="456" y="844"/>
                    </a:lnTo>
                    <a:lnTo>
                      <a:pt x="392" y="839"/>
                    </a:lnTo>
                    <a:lnTo>
                      <a:pt x="311" y="795"/>
                    </a:lnTo>
                    <a:lnTo>
                      <a:pt x="265" y="802"/>
                    </a:lnTo>
                    <a:lnTo>
                      <a:pt x="93" y="724"/>
                    </a:lnTo>
                    <a:lnTo>
                      <a:pt x="87" y="806"/>
                    </a:lnTo>
                    <a:lnTo>
                      <a:pt x="152" y="867"/>
                    </a:lnTo>
                    <a:lnTo>
                      <a:pt x="504" y="986"/>
                    </a:lnTo>
                    <a:lnTo>
                      <a:pt x="792" y="1048"/>
                    </a:lnTo>
                    <a:lnTo>
                      <a:pt x="1042" y="1058"/>
                    </a:lnTo>
                    <a:lnTo>
                      <a:pt x="1238" y="1058"/>
                    </a:lnTo>
                    <a:lnTo>
                      <a:pt x="1229" y="955"/>
                    </a:lnTo>
                    <a:lnTo>
                      <a:pt x="1238" y="826"/>
                    </a:lnTo>
                    <a:lnTo>
                      <a:pt x="1263" y="722"/>
                    </a:lnTo>
                    <a:lnTo>
                      <a:pt x="1289" y="6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1170360" y="4264920"/>
                <a:ext cx="69480" cy="57600"/>
              </a:xfrm>
              <a:custGeom>
                <a:avLst/>
                <a:gdLst/>
                <a:ahLst/>
                <a:rect l="l" t="t" r="r" b="b"/>
                <a:pathLst>
                  <a:path w="846" h="547">
                    <a:moveTo>
                      <a:pt x="0" y="30"/>
                    </a:moveTo>
                    <a:lnTo>
                      <a:pt x="45" y="94"/>
                    </a:lnTo>
                    <a:lnTo>
                      <a:pt x="101" y="210"/>
                    </a:lnTo>
                    <a:lnTo>
                      <a:pt x="36" y="219"/>
                    </a:lnTo>
                    <a:lnTo>
                      <a:pt x="36" y="237"/>
                    </a:lnTo>
                    <a:lnTo>
                      <a:pt x="174" y="246"/>
                    </a:lnTo>
                    <a:lnTo>
                      <a:pt x="322" y="254"/>
                    </a:lnTo>
                    <a:lnTo>
                      <a:pt x="248" y="233"/>
                    </a:lnTo>
                    <a:lnTo>
                      <a:pt x="394" y="178"/>
                    </a:lnTo>
                    <a:lnTo>
                      <a:pt x="472" y="189"/>
                    </a:lnTo>
                    <a:lnTo>
                      <a:pt x="598" y="297"/>
                    </a:lnTo>
                    <a:lnTo>
                      <a:pt x="675" y="422"/>
                    </a:lnTo>
                    <a:lnTo>
                      <a:pt x="767" y="512"/>
                    </a:lnTo>
                    <a:lnTo>
                      <a:pt x="820" y="547"/>
                    </a:lnTo>
                    <a:lnTo>
                      <a:pt x="846" y="523"/>
                    </a:lnTo>
                    <a:lnTo>
                      <a:pt x="758" y="468"/>
                    </a:lnTo>
                    <a:lnTo>
                      <a:pt x="679" y="392"/>
                    </a:lnTo>
                    <a:lnTo>
                      <a:pt x="611" y="286"/>
                    </a:lnTo>
                    <a:lnTo>
                      <a:pt x="534" y="184"/>
                    </a:lnTo>
                    <a:lnTo>
                      <a:pt x="394" y="136"/>
                    </a:lnTo>
                    <a:lnTo>
                      <a:pt x="317" y="154"/>
                    </a:lnTo>
                    <a:lnTo>
                      <a:pt x="223" y="189"/>
                    </a:lnTo>
                    <a:lnTo>
                      <a:pt x="161" y="184"/>
                    </a:lnTo>
                    <a:lnTo>
                      <a:pt x="244" y="90"/>
                    </a:lnTo>
                    <a:lnTo>
                      <a:pt x="283" y="30"/>
                    </a:lnTo>
                    <a:lnTo>
                      <a:pt x="275" y="0"/>
                    </a:lnTo>
                    <a:lnTo>
                      <a:pt x="223" y="79"/>
                    </a:lnTo>
                    <a:lnTo>
                      <a:pt x="119" y="154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1000440" y="3790800"/>
                <a:ext cx="109440" cy="130320"/>
              </a:xfrm>
              <a:custGeom>
                <a:avLst/>
                <a:gdLst/>
                <a:ahLst/>
                <a:rect l="l" t="t" r="r" b="b"/>
                <a:pathLst>
                  <a:path w="1323" h="1233">
                    <a:moveTo>
                      <a:pt x="680" y="329"/>
                    </a:moveTo>
                    <a:lnTo>
                      <a:pt x="759" y="233"/>
                    </a:lnTo>
                    <a:lnTo>
                      <a:pt x="833" y="191"/>
                    </a:lnTo>
                    <a:lnTo>
                      <a:pt x="918" y="186"/>
                    </a:lnTo>
                    <a:lnTo>
                      <a:pt x="1026" y="239"/>
                    </a:lnTo>
                    <a:lnTo>
                      <a:pt x="1086" y="329"/>
                    </a:lnTo>
                    <a:lnTo>
                      <a:pt x="1116" y="433"/>
                    </a:lnTo>
                    <a:lnTo>
                      <a:pt x="1128" y="539"/>
                    </a:lnTo>
                    <a:lnTo>
                      <a:pt x="1123" y="648"/>
                    </a:lnTo>
                    <a:lnTo>
                      <a:pt x="1112" y="753"/>
                    </a:lnTo>
                    <a:lnTo>
                      <a:pt x="1141" y="857"/>
                    </a:lnTo>
                    <a:lnTo>
                      <a:pt x="1165" y="744"/>
                    </a:lnTo>
                    <a:lnTo>
                      <a:pt x="1242" y="689"/>
                    </a:lnTo>
                    <a:lnTo>
                      <a:pt x="1291" y="728"/>
                    </a:lnTo>
                    <a:lnTo>
                      <a:pt x="1305" y="857"/>
                    </a:lnTo>
                    <a:lnTo>
                      <a:pt x="1296" y="960"/>
                    </a:lnTo>
                    <a:lnTo>
                      <a:pt x="1238" y="1046"/>
                    </a:lnTo>
                    <a:lnTo>
                      <a:pt x="1209" y="1083"/>
                    </a:lnTo>
                    <a:lnTo>
                      <a:pt x="1152" y="1127"/>
                    </a:lnTo>
                    <a:lnTo>
                      <a:pt x="1222" y="1101"/>
                    </a:lnTo>
                    <a:lnTo>
                      <a:pt x="1310" y="966"/>
                    </a:lnTo>
                    <a:lnTo>
                      <a:pt x="1323" y="834"/>
                    </a:lnTo>
                    <a:lnTo>
                      <a:pt x="1296" y="696"/>
                    </a:lnTo>
                    <a:lnTo>
                      <a:pt x="1242" y="666"/>
                    </a:lnTo>
                    <a:lnTo>
                      <a:pt x="1242" y="585"/>
                    </a:lnTo>
                    <a:lnTo>
                      <a:pt x="1183" y="323"/>
                    </a:lnTo>
                    <a:lnTo>
                      <a:pt x="1086" y="175"/>
                    </a:lnTo>
                    <a:lnTo>
                      <a:pt x="971" y="74"/>
                    </a:lnTo>
                    <a:lnTo>
                      <a:pt x="840" y="32"/>
                    </a:lnTo>
                    <a:lnTo>
                      <a:pt x="629" y="0"/>
                    </a:lnTo>
                    <a:lnTo>
                      <a:pt x="392" y="32"/>
                    </a:lnTo>
                    <a:lnTo>
                      <a:pt x="213" y="131"/>
                    </a:lnTo>
                    <a:lnTo>
                      <a:pt x="97" y="255"/>
                    </a:lnTo>
                    <a:lnTo>
                      <a:pt x="26" y="404"/>
                    </a:lnTo>
                    <a:lnTo>
                      <a:pt x="12" y="562"/>
                    </a:lnTo>
                    <a:lnTo>
                      <a:pt x="26" y="786"/>
                    </a:lnTo>
                    <a:lnTo>
                      <a:pt x="0" y="857"/>
                    </a:lnTo>
                    <a:lnTo>
                      <a:pt x="23" y="995"/>
                    </a:lnTo>
                    <a:lnTo>
                      <a:pt x="97" y="1113"/>
                    </a:lnTo>
                    <a:lnTo>
                      <a:pt x="198" y="1196"/>
                    </a:lnTo>
                    <a:lnTo>
                      <a:pt x="249" y="1201"/>
                    </a:lnTo>
                    <a:lnTo>
                      <a:pt x="279" y="1233"/>
                    </a:lnTo>
                    <a:lnTo>
                      <a:pt x="264" y="1152"/>
                    </a:lnTo>
                    <a:lnTo>
                      <a:pt x="213" y="1187"/>
                    </a:lnTo>
                    <a:lnTo>
                      <a:pt x="104" y="1106"/>
                    </a:lnTo>
                    <a:lnTo>
                      <a:pt x="33" y="973"/>
                    </a:lnTo>
                    <a:lnTo>
                      <a:pt x="26" y="868"/>
                    </a:lnTo>
                    <a:lnTo>
                      <a:pt x="49" y="843"/>
                    </a:lnTo>
                    <a:lnTo>
                      <a:pt x="121" y="857"/>
                    </a:lnTo>
                    <a:lnTo>
                      <a:pt x="213" y="936"/>
                    </a:lnTo>
                    <a:lnTo>
                      <a:pt x="194" y="830"/>
                    </a:lnTo>
                    <a:lnTo>
                      <a:pt x="167" y="771"/>
                    </a:lnTo>
                    <a:lnTo>
                      <a:pt x="130" y="668"/>
                    </a:lnTo>
                    <a:lnTo>
                      <a:pt x="108" y="551"/>
                    </a:lnTo>
                    <a:lnTo>
                      <a:pt x="108" y="459"/>
                    </a:lnTo>
                    <a:lnTo>
                      <a:pt x="130" y="382"/>
                    </a:lnTo>
                    <a:lnTo>
                      <a:pt x="171" y="323"/>
                    </a:lnTo>
                    <a:lnTo>
                      <a:pt x="227" y="281"/>
                    </a:lnTo>
                    <a:lnTo>
                      <a:pt x="286" y="265"/>
                    </a:lnTo>
                    <a:lnTo>
                      <a:pt x="354" y="281"/>
                    </a:lnTo>
                    <a:lnTo>
                      <a:pt x="420" y="318"/>
                    </a:lnTo>
                    <a:lnTo>
                      <a:pt x="466" y="355"/>
                    </a:lnTo>
                    <a:lnTo>
                      <a:pt x="521" y="369"/>
                    </a:lnTo>
                    <a:lnTo>
                      <a:pt x="607" y="362"/>
                    </a:lnTo>
                    <a:lnTo>
                      <a:pt x="655" y="345"/>
                    </a:lnTo>
                    <a:lnTo>
                      <a:pt x="680" y="3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1024560" y="3883320"/>
                <a:ext cx="34920" cy="8280"/>
              </a:xfrm>
              <a:custGeom>
                <a:avLst/>
                <a:gdLst/>
                <a:ahLst/>
                <a:rect l="l" t="t" r="r" b="b"/>
                <a:pathLst>
                  <a:path w="424" h="83">
                    <a:moveTo>
                      <a:pt x="0" y="42"/>
                    </a:moveTo>
                    <a:lnTo>
                      <a:pt x="74" y="22"/>
                    </a:lnTo>
                    <a:lnTo>
                      <a:pt x="157" y="15"/>
                    </a:lnTo>
                    <a:lnTo>
                      <a:pt x="274" y="15"/>
                    </a:lnTo>
                    <a:lnTo>
                      <a:pt x="338" y="8"/>
                    </a:lnTo>
                    <a:lnTo>
                      <a:pt x="424" y="0"/>
                    </a:lnTo>
                    <a:lnTo>
                      <a:pt x="389" y="46"/>
                    </a:lnTo>
                    <a:lnTo>
                      <a:pt x="300" y="52"/>
                    </a:lnTo>
                    <a:lnTo>
                      <a:pt x="305" y="83"/>
                    </a:lnTo>
                    <a:lnTo>
                      <a:pt x="263" y="52"/>
                    </a:lnTo>
                    <a:lnTo>
                      <a:pt x="204" y="46"/>
                    </a:lnTo>
                    <a:lnTo>
                      <a:pt x="129" y="56"/>
                    </a:lnTo>
                    <a:lnTo>
                      <a:pt x="210" y="28"/>
                    </a:lnTo>
                    <a:lnTo>
                      <a:pt x="134" y="28"/>
                    </a:lnTo>
                    <a:lnTo>
                      <a:pt x="63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1023120" y="3884760"/>
                <a:ext cx="26280" cy="17640"/>
              </a:xfrm>
              <a:custGeom>
                <a:avLst/>
                <a:gdLst/>
                <a:ahLst/>
                <a:rect l="l" t="t" r="r" b="b"/>
                <a:pathLst>
                  <a:path w="318" h="161">
                    <a:moveTo>
                      <a:pt x="0" y="22"/>
                    </a:moveTo>
                    <a:lnTo>
                      <a:pt x="24" y="50"/>
                    </a:lnTo>
                    <a:lnTo>
                      <a:pt x="92" y="74"/>
                    </a:lnTo>
                    <a:lnTo>
                      <a:pt x="138" y="108"/>
                    </a:lnTo>
                    <a:lnTo>
                      <a:pt x="119" y="127"/>
                    </a:lnTo>
                    <a:lnTo>
                      <a:pt x="175" y="161"/>
                    </a:lnTo>
                    <a:lnTo>
                      <a:pt x="237" y="145"/>
                    </a:lnTo>
                    <a:lnTo>
                      <a:pt x="281" y="117"/>
                    </a:lnTo>
                    <a:lnTo>
                      <a:pt x="228" y="108"/>
                    </a:lnTo>
                    <a:lnTo>
                      <a:pt x="318" y="59"/>
                    </a:lnTo>
                    <a:lnTo>
                      <a:pt x="310" y="44"/>
                    </a:lnTo>
                    <a:lnTo>
                      <a:pt x="222" y="97"/>
                    </a:lnTo>
                    <a:lnTo>
                      <a:pt x="175" y="103"/>
                    </a:lnTo>
                    <a:lnTo>
                      <a:pt x="119" y="81"/>
                    </a:lnTo>
                    <a:lnTo>
                      <a:pt x="99" y="53"/>
                    </a:lnTo>
                    <a:lnTo>
                      <a:pt x="156" y="32"/>
                    </a:lnTo>
                    <a:lnTo>
                      <a:pt x="99" y="39"/>
                    </a:lnTo>
                    <a:lnTo>
                      <a:pt x="77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1062360" y="3872880"/>
                <a:ext cx="27000" cy="8280"/>
              </a:xfrm>
              <a:custGeom>
                <a:avLst/>
                <a:gdLst/>
                <a:ahLst/>
                <a:rect l="l" t="t" r="r" b="b"/>
                <a:pathLst>
                  <a:path w="327" h="85">
                    <a:moveTo>
                      <a:pt x="0" y="85"/>
                    </a:moveTo>
                    <a:lnTo>
                      <a:pt x="211" y="0"/>
                    </a:lnTo>
                    <a:lnTo>
                      <a:pt x="269" y="12"/>
                    </a:lnTo>
                    <a:lnTo>
                      <a:pt x="327" y="35"/>
                    </a:lnTo>
                    <a:lnTo>
                      <a:pt x="253" y="28"/>
                    </a:lnTo>
                    <a:lnTo>
                      <a:pt x="200" y="28"/>
                    </a:lnTo>
                    <a:lnTo>
                      <a:pt x="130" y="48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1064160" y="3881520"/>
                <a:ext cx="21600" cy="10080"/>
              </a:xfrm>
              <a:custGeom>
                <a:avLst/>
                <a:gdLst/>
                <a:ahLst/>
                <a:rect l="l" t="t" r="r" b="b"/>
                <a:pathLst>
                  <a:path w="261" h="99">
                    <a:moveTo>
                      <a:pt x="0" y="53"/>
                    </a:moveTo>
                    <a:lnTo>
                      <a:pt x="70" y="2"/>
                    </a:lnTo>
                    <a:lnTo>
                      <a:pt x="166" y="0"/>
                    </a:lnTo>
                    <a:lnTo>
                      <a:pt x="261" y="11"/>
                    </a:lnTo>
                    <a:lnTo>
                      <a:pt x="224" y="57"/>
                    </a:lnTo>
                    <a:lnTo>
                      <a:pt x="166" y="85"/>
                    </a:lnTo>
                    <a:lnTo>
                      <a:pt x="116" y="99"/>
                    </a:lnTo>
                    <a:lnTo>
                      <a:pt x="42" y="88"/>
                    </a:lnTo>
                    <a:lnTo>
                      <a:pt x="116" y="88"/>
                    </a:lnTo>
                    <a:lnTo>
                      <a:pt x="193" y="57"/>
                    </a:lnTo>
                    <a:lnTo>
                      <a:pt x="240" y="15"/>
                    </a:lnTo>
                    <a:lnTo>
                      <a:pt x="153" y="11"/>
                    </a:lnTo>
                    <a:lnTo>
                      <a:pt x="83" y="15"/>
                    </a:lnTo>
                    <a:lnTo>
                      <a:pt x="3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1058760" y="3876480"/>
                <a:ext cx="20520" cy="29520"/>
              </a:xfrm>
              <a:custGeom>
                <a:avLst/>
                <a:gdLst/>
                <a:ahLst/>
                <a:rect l="l" t="t" r="r" b="b"/>
                <a:pathLst>
                  <a:path w="248" h="281">
                    <a:moveTo>
                      <a:pt x="173" y="11"/>
                    </a:moveTo>
                    <a:lnTo>
                      <a:pt x="248" y="25"/>
                    </a:lnTo>
                    <a:lnTo>
                      <a:pt x="158" y="25"/>
                    </a:lnTo>
                    <a:lnTo>
                      <a:pt x="122" y="63"/>
                    </a:lnTo>
                    <a:lnTo>
                      <a:pt x="74" y="94"/>
                    </a:lnTo>
                    <a:lnTo>
                      <a:pt x="55" y="133"/>
                    </a:lnTo>
                    <a:lnTo>
                      <a:pt x="55" y="186"/>
                    </a:lnTo>
                    <a:lnTo>
                      <a:pt x="74" y="281"/>
                    </a:lnTo>
                    <a:lnTo>
                      <a:pt x="43" y="191"/>
                    </a:lnTo>
                    <a:lnTo>
                      <a:pt x="37" y="142"/>
                    </a:lnTo>
                    <a:lnTo>
                      <a:pt x="34" y="105"/>
                    </a:lnTo>
                    <a:lnTo>
                      <a:pt x="0" y="63"/>
                    </a:lnTo>
                    <a:lnTo>
                      <a:pt x="140" y="21"/>
                    </a:lnTo>
                    <a:lnTo>
                      <a:pt x="204" y="0"/>
                    </a:lnTo>
                    <a:lnTo>
                      <a:pt x="17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1051200" y="3887280"/>
                <a:ext cx="3600" cy="24480"/>
              </a:xfrm>
              <a:custGeom>
                <a:avLst/>
                <a:gdLst/>
                <a:ahLst/>
                <a:rect l="l" t="t" r="r" b="b"/>
                <a:pathLst>
                  <a:path w="48" h="233">
                    <a:moveTo>
                      <a:pt x="0" y="10"/>
                    </a:moveTo>
                    <a:lnTo>
                      <a:pt x="22" y="90"/>
                    </a:lnTo>
                    <a:lnTo>
                      <a:pt x="27" y="153"/>
                    </a:lnTo>
                    <a:lnTo>
                      <a:pt x="39" y="233"/>
                    </a:lnTo>
                    <a:lnTo>
                      <a:pt x="48" y="149"/>
                    </a:lnTo>
                    <a:lnTo>
                      <a:pt x="41" y="85"/>
                    </a:lnTo>
                    <a:lnTo>
                      <a:pt x="35" y="32"/>
                    </a:lnTo>
                    <a:lnTo>
                      <a:pt x="27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1067760" y="3890880"/>
                <a:ext cx="14400" cy="5760"/>
              </a:xfrm>
              <a:custGeom>
                <a:avLst/>
                <a:gdLst/>
                <a:ahLst/>
                <a:rect l="l" t="t" r="r" b="b"/>
                <a:pathLst>
                  <a:path w="171" h="55">
                    <a:moveTo>
                      <a:pt x="32" y="11"/>
                    </a:moveTo>
                    <a:lnTo>
                      <a:pt x="0" y="44"/>
                    </a:lnTo>
                    <a:lnTo>
                      <a:pt x="65" y="55"/>
                    </a:lnTo>
                    <a:lnTo>
                      <a:pt x="106" y="44"/>
                    </a:lnTo>
                    <a:lnTo>
                      <a:pt x="171" y="11"/>
                    </a:lnTo>
                    <a:lnTo>
                      <a:pt x="124" y="11"/>
                    </a:lnTo>
                    <a:lnTo>
                      <a:pt x="81" y="0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1005120" y="3890160"/>
                <a:ext cx="13680" cy="17640"/>
              </a:xfrm>
              <a:custGeom>
                <a:avLst/>
                <a:gdLst/>
                <a:ahLst/>
                <a:rect l="l" t="t" r="r" b="b"/>
                <a:pathLst>
                  <a:path w="174" h="170">
                    <a:moveTo>
                      <a:pt x="157" y="30"/>
                    </a:moveTo>
                    <a:lnTo>
                      <a:pt x="88" y="6"/>
                    </a:lnTo>
                    <a:lnTo>
                      <a:pt x="0" y="0"/>
                    </a:lnTo>
                    <a:lnTo>
                      <a:pt x="33" y="20"/>
                    </a:lnTo>
                    <a:lnTo>
                      <a:pt x="51" y="90"/>
                    </a:lnTo>
                    <a:lnTo>
                      <a:pt x="77" y="129"/>
                    </a:lnTo>
                    <a:lnTo>
                      <a:pt x="60" y="78"/>
                    </a:lnTo>
                    <a:lnTo>
                      <a:pt x="70" y="37"/>
                    </a:lnTo>
                    <a:lnTo>
                      <a:pt x="104" y="44"/>
                    </a:lnTo>
                    <a:lnTo>
                      <a:pt x="97" y="78"/>
                    </a:lnTo>
                    <a:lnTo>
                      <a:pt x="108" y="123"/>
                    </a:lnTo>
                    <a:lnTo>
                      <a:pt x="136" y="136"/>
                    </a:lnTo>
                    <a:lnTo>
                      <a:pt x="174" y="170"/>
                    </a:lnTo>
                    <a:lnTo>
                      <a:pt x="157" y="123"/>
                    </a:lnTo>
                    <a:lnTo>
                      <a:pt x="167" y="83"/>
                    </a:lnTo>
                    <a:lnTo>
                      <a:pt x="160" y="59"/>
                    </a:lnTo>
                    <a:lnTo>
                      <a:pt x="15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1095480" y="3872160"/>
                <a:ext cx="10440" cy="30240"/>
              </a:xfrm>
              <a:custGeom>
                <a:avLst/>
                <a:gdLst/>
                <a:ahLst/>
                <a:rect l="l" t="t" r="r" b="b"/>
                <a:pathLst>
                  <a:path w="129" h="292">
                    <a:moveTo>
                      <a:pt x="0" y="116"/>
                    </a:moveTo>
                    <a:lnTo>
                      <a:pt x="23" y="109"/>
                    </a:lnTo>
                    <a:lnTo>
                      <a:pt x="63" y="55"/>
                    </a:lnTo>
                    <a:lnTo>
                      <a:pt x="116" y="0"/>
                    </a:lnTo>
                    <a:lnTo>
                      <a:pt x="104" y="46"/>
                    </a:lnTo>
                    <a:lnTo>
                      <a:pt x="129" y="90"/>
                    </a:lnTo>
                    <a:lnTo>
                      <a:pt x="129" y="147"/>
                    </a:lnTo>
                    <a:lnTo>
                      <a:pt x="104" y="199"/>
                    </a:lnTo>
                    <a:lnTo>
                      <a:pt x="116" y="136"/>
                    </a:lnTo>
                    <a:lnTo>
                      <a:pt x="113" y="105"/>
                    </a:lnTo>
                    <a:lnTo>
                      <a:pt x="83" y="76"/>
                    </a:lnTo>
                    <a:lnTo>
                      <a:pt x="69" y="109"/>
                    </a:lnTo>
                    <a:lnTo>
                      <a:pt x="92" y="147"/>
                    </a:lnTo>
                    <a:lnTo>
                      <a:pt x="83" y="184"/>
                    </a:lnTo>
                    <a:lnTo>
                      <a:pt x="54" y="199"/>
                    </a:lnTo>
                    <a:lnTo>
                      <a:pt x="37" y="228"/>
                    </a:lnTo>
                    <a:lnTo>
                      <a:pt x="19" y="292"/>
                    </a:lnTo>
                    <a:lnTo>
                      <a:pt x="17" y="237"/>
                    </a:lnTo>
                    <a:lnTo>
                      <a:pt x="30" y="184"/>
                    </a:lnTo>
                    <a:lnTo>
                      <a:pt x="19" y="164"/>
                    </a:lnTo>
                    <a:lnTo>
                      <a:pt x="0" y="143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1035720" y="388728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99" h="63">
                    <a:moveTo>
                      <a:pt x="0" y="14"/>
                    </a:moveTo>
                    <a:lnTo>
                      <a:pt x="16" y="46"/>
                    </a:lnTo>
                    <a:lnTo>
                      <a:pt x="42" y="63"/>
                    </a:lnTo>
                    <a:lnTo>
                      <a:pt x="81" y="50"/>
                    </a:lnTo>
                    <a:lnTo>
                      <a:pt x="99" y="32"/>
                    </a:lnTo>
                    <a:lnTo>
                      <a:pt x="99" y="0"/>
                    </a:lnTo>
                    <a:lnTo>
                      <a:pt x="64" y="4"/>
                    </a:lnTo>
                    <a:lnTo>
                      <a:pt x="69" y="21"/>
                    </a:lnTo>
                    <a:lnTo>
                      <a:pt x="53" y="35"/>
                    </a:lnTo>
                    <a:lnTo>
                      <a:pt x="42" y="26"/>
                    </a:lnTo>
                    <a:lnTo>
                      <a:pt x="37" y="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1071000" y="388152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92" h="61">
                    <a:moveTo>
                      <a:pt x="0" y="17"/>
                    </a:moveTo>
                    <a:lnTo>
                      <a:pt x="9" y="55"/>
                    </a:lnTo>
                    <a:lnTo>
                      <a:pt x="42" y="61"/>
                    </a:lnTo>
                    <a:lnTo>
                      <a:pt x="74" y="51"/>
                    </a:lnTo>
                    <a:lnTo>
                      <a:pt x="92" y="31"/>
                    </a:lnTo>
                    <a:lnTo>
                      <a:pt x="86" y="0"/>
                    </a:lnTo>
                    <a:lnTo>
                      <a:pt x="64" y="0"/>
                    </a:lnTo>
                    <a:lnTo>
                      <a:pt x="60" y="33"/>
                    </a:lnTo>
                    <a:lnTo>
                      <a:pt x="37" y="33"/>
                    </a:lnTo>
                    <a:lnTo>
                      <a:pt x="27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1045080" y="3910320"/>
                <a:ext cx="30960" cy="21240"/>
              </a:xfrm>
              <a:custGeom>
                <a:avLst/>
                <a:gdLst/>
                <a:ahLst/>
                <a:rect l="l" t="t" r="r" b="b"/>
                <a:pathLst>
                  <a:path w="374" h="198">
                    <a:moveTo>
                      <a:pt x="31" y="0"/>
                    </a:moveTo>
                    <a:lnTo>
                      <a:pt x="0" y="37"/>
                    </a:lnTo>
                    <a:lnTo>
                      <a:pt x="0" y="79"/>
                    </a:lnTo>
                    <a:lnTo>
                      <a:pt x="26" y="90"/>
                    </a:lnTo>
                    <a:lnTo>
                      <a:pt x="46" y="132"/>
                    </a:lnTo>
                    <a:lnTo>
                      <a:pt x="127" y="163"/>
                    </a:lnTo>
                    <a:lnTo>
                      <a:pt x="199" y="198"/>
                    </a:lnTo>
                    <a:lnTo>
                      <a:pt x="235" y="198"/>
                    </a:lnTo>
                    <a:lnTo>
                      <a:pt x="305" y="120"/>
                    </a:lnTo>
                    <a:lnTo>
                      <a:pt x="360" y="90"/>
                    </a:lnTo>
                    <a:lnTo>
                      <a:pt x="374" y="37"/>
                    </a:lnTo>
                    <a:lnTo>
                      <a:pt x="365" y="22"/>
                    </a:lnTo>
                    <a:lnTo>
                      <a:pt x="342" y="0"/>
                    </a:lnTo>
                    <a:lnTo>
                      <a:pt x="354" y="25"/>
                    </a:lnTo>
                    <a:lnTo>
                      <a:pt x="347" y="46"/>
                    </a:lnTo>
                    <a:lnTo>
                      <a:pt x="325" y="46"/>
                    </a:lnTo>
                    <a:lnTo>
                      <a:pt x="285" y="69"/>
                    </a:lnTo>
                    <a:lnTo>
                      <a:pt x="261" y="97"/>
                    </a:lnTo>
                    <a:lnTo>
                      <a:pt x="235" y="120"/>
                    </a:lnTo>
                    <a:lnTo>
                      <a:pt x="187" y="127"/>
                    </a:lnTo>
                    <a:lnTo>
                      <a:pt x="141" y="117"/>
                    </a:lnTo>
                    <a:lnTo>
                      <a:pt x="107" y="97"/>
                    </a:lnTo>
                    <a:lnTo>
                      <a:pt x="63" y="79"/>
                    </a:lnTo>
                    <a:lnTo>
                      <a:pt x="26" y="79"/>
                    </a:lnTo>
                    <a:lnTo>
                      <a:pt x="8" y="60"/>
                    </a:lnTo>
                    <a:lnTo>
                      <a:pt x="15" y="37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1042200" y="3930480"/>
                <a:ext cx="42840" cy="9360"/>
              </a:xfrm>
              <a:custGeom>
                <a:avLst/>
                <a:gdLst/>
                <a:ahLst/>
                <a:rect l="l" t="t" r="r" b="b"/>
                <a:pathLst>
                  <a:path w="520" h="90">
                    <a:moveTo>
                      <a:pt x="48" y="60"/>
                    </a:moveTo>
                    <a:lnTo>
                      <a:pt x="101" y="40"/>
                    </a:lnTo>
                    <a:lnTo>
                      <a:pt x="174" y="23"/>
                    </a:lnTo>
                    <a:lnTo>
                      <a:pt x="259" y="24"/>
                    </a:lnTo>
                    <a:lnTo>
                      <a:pt x="343" y="7"/>
                    </a:lnTo>
                    <a:lnTo>
                      <a:pt x="488" y="23"/>
                    </a:lnTo>
                    <a:lnTo>
                      <a:pt x="511" y="0"/>
                    </a:lnTo>
                    <a:lnTo>
                      <a:pt x="520" y="31"/>
                    </a:lnTo>
                    <a:lnTo>
                      <a:pt x="501" y="46"/>
                    </a:lnTo>
                    <a:lnTo>
                      <a:pt x="477" y="31"/>
                    </a:lnTo>
                    <a:lnTo>
                      <a:pt x="417" y="24"/>
                    </a:lnTo>
                    <a:lnTo>
                      <a:pt x="327" y="46"/>
                    </a:lnTo>
                    <a:lnTo>
                      <a:pt x="253" y="64"/>
                    </a:lnTo>
                    <a:lnTo>
                      <a:pt x="128" y="60"/>
                    </a:lnTo>
                    <a:lnTo>
                      <a:pt x="41" y="70"/>
                    </a:lnTo>
                    <a:lnTo>
                      <a:pt x="20" y="90"/>
                    </a:lnTo>
                    <a:lnTo>
                      <a:pt x="0" y="79"/>
                    </a:lnTo>
                    <a:lnTo>
                      <a:pt x="4" y="53"/>
                    </a:lnTo>
                    <a:lnTo>
                      <a:pt x="27" y="46"/>
                    </a:lnTo>
                    <a:lnTo>
                      <a:pt x="48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1051560" y="3942720"/>
                <a:ext cx="23760" cy="10080"/>
              </a:xfrm>
              <a:custGeom>
                <a:avLst/>
                <a:gdLst/>
                <a:ahLst/>
                <a:rect l="l" t="t" r="r" b="b"/>
                <a:pathLst>
                  <a:path w="286" h="94">
                    <a:moveTo>
                      <a:pt x="0" y="22"/>
                    </a:moveTo>
                    <a:lnTo>
                      <a:pt x="64" y="31"/>
                    </a:lnTo>
                    <a:lnTo>
                      <a:pt x="123" y="31"/>
                    </a:lnTo>
                    <a:lnTo>
                      <a:pt x="194" y="26"/>
                    </a:lnTo>
                    <a:lnTo>
                      <a:pt x="286" y="0"/>
                    </a:lnTo>
                    <a:lnTo>
                      <a:pt x="231" y="46"/>
                    </a:lnTo>
                    <a:lnTo>
                      <a:pt x="244" y="83"/>
                    </a:lnTo>
                    <a:lnTo>
                      <a:pt x="171" y="83"/>
                    </a:lnTo>
                    <a:lnTo>
                      <a:pt x="64" y="94"/>
                    </a:lnTo>
                    <a:lnTo>
                      <a:pt x="70" y="63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1021680" y="3908880"/>
                <a:ext cx="75600" cy="64080"/>
              </a:xfrm>
              <a:custGeom>
                <a:avLst/>
                <a:gdLst/>
                <a:ahLst/>
                <a:rect l="l" t="t" r="r" b="b"/>
                <a:pathLst>
                  <a:path w="911" h="609">
                    <a:moveTo>
                      <a:pt x="0" y="83"/>
                    </a:moveTo>
                    <a:lnTo>
                      <a:pt x="96" y="339"/>
                    </a:lnTo>
                    <a:lnTo>
                      <a:pt x="157" y="438"/>
                    </a:lnTo>
                    <a:lnTo>
                      <a:pt x="226" y="498"/>
                    </a:lnTo>
                    <a:lnTo>
                      <a:pt x="304" y="546"/>
                    </a:lnTo>
                    <a:lnTo>
                      <a:pt x="394" y="576"/>
                    </a:lnTo>
                    <a:lnTo>
                      <a:pt x="487" y="609"/>
                    </a:lnTo>
                    <a:lnTo>
                      <a:pt x="570" y="609"/>
                    </a:lnTo>
                    <a:lnTo>
                      <a:pt x="669" y="581"/>
                    </a:lnTo>
                    <a:lnTo>
                      <a:pt x="735" y="535"/>
                    </a:lnTo>
                    <a:lnTo>
                      <a:pt x="793" y="464"/>
                    </a:lnTo>
                    <a:lnTo>
                      <a:pt x="848" y="374"/>
                    </a:lnTo>
                    <a:lnTo>
                      <a:pt x="883" y="288"/>
                    </a:lnTo>
                    <a:lnTo>
                      <a:pt x="898" y="183"/>
                    </a:lnTo>
                    <a:lnTo>
                      <a:pt x="911" y="0"/>
                    </a:lnTo>
                    <a:lnTo>
                      <a:pt x="892" y="14"/>
                    </a:lnTo>
                    <a:lnTo>
                      <a:pt x="869" y="265"/>
                    </a:lnTo>
                    <a:lnTo>
                      <a:pt x="839" y="353"/>
                    </a:lnTo>
                    <a:lnTo>
                      <a:pt x="793" y="434"/>
                    </a:lnTo>
                    <a:lnTo>
                      <a:pt x="724" y="517"/>
                    </a:lnTo>
                    <a:lnTo>
                      <a:pt x="659" y="558"/>
                    </a:lnTo>
                    <a:lnTo>
                      <a:pt x="659" y="528"/>
                    </a:lnTo>
                    <a:lnTo>
                      <a:pt x="595" y="551"/>
                    </a:lnTo>
                    <a:lnTo>
                      <a:pt x="511" y="557"/>
                    </a:lnTo>
                    <a:lnTo>
                      <a:pt x="450" y="551"/>
                    </a:lnTo>
                    <a:lnTo>
                      <a:pt x="392" y="528"/>
                    </a:lnTo>
                    <a:lnTo>
                      <a:pt x="408" y="558"/>
                    </a:lnTo>
                    <a:lnTo>
                      <a:pt x="293" y="524"/>
                    </a:lnTo>
                    <a:lnTo>
                      <a:pt x="203" y="445"/>
                    </a:lnTo>
                    <a:lnTo>
                      <a:pt x="138" y="368"/>
                    </a:lnTo>
                    <a:lnTo>
                      <a:pt x="90" y="279"/>
                    </a:lnTo>
                    <a:lnTo>
                      <a:pt x="10" y="74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1028520" y="3917880"/>
                <a:ext cx="15120" cy="29520"/>
              </a:xfrm>
              <a:custGeom>
                <a:avLst/>
                <a:gdLst/>
                <a:ahLst/>
                <a:rect l="l" t="t" r="r" b="b"/>
                <a:pathLst>
                  <a:path w="187" h="278">
                    <a:moveTo>
                      <a:pt x="22" y="58"/>
                    </a:moveTo>
                    <a:lnTo>
                      <a:pt x="97" y="53"/>
                    </a:lnTo>
                    <a:lnTo>
                      <a:pt x="134" y="36"/>
                    </a:lnTo>
                    <a:lnTo>
                      <a:pt x="187" y="0"/>
                    </a:lnTo>
                    <a:lnTo>
                      <a:pt x="157" y="58"/>
                    </a:lnTo>
                    <a:lnTo>
                      <a:pt x="111" y="117"/>
                    </a:lnTo>
                    <a:lnTo>
                      <a:pt x="118" y="181"/>
                    </a:lnTo>
                    <a:lnTo>
                      <a:pt x="163" y="278"/>
                    </a:lnTo>
                    <a:lnTo>
                      <a:pt x="111" y="207"/>
                    </a:lnTo>
                    <a:lnTo>
                      <a:pt x="77" y="133"/>
                    </a:lnTo>
                    <a:lnTo>
                      <a:pt x="40" y="117"/>
                    </a:lnTo>
                    <a:lnTo>
                      <a:pt x="0" y="64"/>
                    </a:lnTo>
                    <a:lnTo>
                      <a:pt x="22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1077480" y="3913920"/>
                <a:ext cx="12960" cy="23760"/>
              </a:xfrm>
              <a:custGeom>
                <a:avLst/>
                <a:gdLst/>
                <a:ahLst/>
                <a:rect l="l" t="t" r="r" b="b"/>
                <a:pathLst>
                  <a:path w="156" h="222">
                    <a:moveTo>
                      <a:pt x="0" y="0"/>
                    </a:moveTo>
                    <a:lnTo>
                      <a:pt x="31" y="29"/>
                    </a:lnTo>
                    <a:lnTo>
                      <a:pt x="94" y="68"/>
                    </a:lnTo>
                    <a:lnTo>
                      <a:pt x="112" y="94"/>
                    </a:lnTo>
                    <a:lnTo>
                      <a:pt x="124" y="140"/>
                    </a:lnTo>
                    <a:lnTo>
                      <a:pt x="117" y="222"/>
                    </a:lnTo>
                    <a:lnTo>
                      <a:pt x="134" y="136"/>
                    </a:lnTo>
                    <a:lnTo>
                      <a:pt x="156" y="46"/>
                    </a:lnTo>
                    <a:lnTo>
                      <a:pt x="156" y="9"/>
                    </a:lnTo>
                    <a:lnTo>
                      <a:pt x="88" y="13"/>
                    </a:lnTo>
                    <a:lnTo>
                      <a:pt x="3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1257840" y="4043520"/>
                <a:ext cx="54360" cy="30240"/>
              </a:xfrm>
              <a:custGeom>
                <a:avLst/>
                <a:gdLst/>
                <a:ahLst/>
                <a:rect l="l" t="t" r="r" b="b"/>
                <a:pathLst>
                  <a:path w="652" h="291">
                    <a:moveTo>
                      <a:pt x="50" y="0"/>
                    </a:moveTo>
                    <a:lnTo>
                      <a:pt x="59" y="44"/>
                    </a:lnTo>
                    <a:lnTo>
                      <a:pt x="59" y="85"/>
                    </a:lnTo>
                    <a:lnTo>
                      <a:pt x="34" y="126"/>
                    </a:lnTo>
                    <a:lnTo>
                      <a:pt x="0" y="152"/>
                    </a:lnTo>
                    <a:lnTo>
                      <a:pt x="136" y="291"/>
                    </a:lnTo>
                    <a:lnTo>
                      <a:pt x="294" y="192"/>
                    </a:lnTo>
                    <a:lnTo>
                      <a:pt x="384" y="291"/>
                    </a:lnTo>
                    <a:lnTo>
                      <a:pt x="452" y="233"/>
                    </a:lnTo>
                    <a:lnTo>
                      <a:pt x="583" y="152"/>
                    </a:lnTo>
                    <a:lnTo>
                      <a:pt x="652" y="69"/>
                    </a:lnTo>
                    <a:lnTo>
                      <a:pt x="553" y="152"/>
                    </a:lnTo>
                    <a:lnTo>
                      <a:pt x="410" y="210"/>
                    </a:lnTo>
                    <a:lnTo>
                      <a:pt x="343" y="159"/>
                    </a:lnTo>
                    <a:lnTo>
                      <a:pt x="184" y="159"/>
                    </a:lnTo>
                    <a:lnTo>
                      <a:pt x="94" y="9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1279800" y="3919680"/>
                <a:ext cx="34920" cy="46440"/>
              </a:xfrm>
              <a:custGeom>
                <a:avLst/>
                <a:gdLst/>
                <a:ahLst/>
                <a:rect l="l" t="t" r="r" b="b"/>
                <a:pathLst>
                  <a:path w="419" h="442">
                    <a:moveTo>
                      <a:pt x="36" y="0"/>
                    </a:moveTo>
                    <a:lnTo>
                      <a:pt x="134" y="35"/>
                    </a:lnTo>
                    <a:lnTo>
                      <a:pt x="260" y="13"/>
                    </a:lnTo>
                    <a:lnTo>
                      <a:pt x="382" y="42"/>
                    </a:lnTo>
                    <a:lnTo>
                      <a:pt x="396" y="0"/>
                    </a:lnTo>
                    <a:lnTo>
                      <a:pt x="419" y="92"/>
                    </a:lnTo>
                    <a:lnTo>
                      <a:pt x="419" y="189"/>
                    </a:lnTo>
                    <a:lnTo>
                      <a:pt x="403" y="334"/>
                    </a:lnTo>
                    <a:lnTo>
                      <a:pt x="373" y="442"/>
                    </a:lnTo>
                    <a:lnTo>
                      <a:pt x="396" y="316"/>
                    </a:lnTo>
                    <a:lnTo>
                      <a:pt x="396" y="260"/>
                    </a:lnTo>
                    <a:lnTo>
                      <a:pt x="290" y="327"/>
                    </a:lnTo>
                    <a:lnTo>
                      <a:pt x="269" y="327"/>
                    </a:lnTo>
                    <a:lnTo>
                      <a:pt x="260" y="308"/>
                    </a:lnTo>
                    <a:lnTo>
                      <a:pt x="359" y="202"/>
                    </a:lnTo>
                    <a:lnTo>
                      <a:pt x="352" y="145"/>
                    </a:lnTo>
                    <a:lnTo>
                      <a:pt x="246" y="214"/>
                    </a:lnTo>
                    <a:lnTo>
                      <a:pt x="274" y="165"/>
                    </a:lnTo>
                    <a:lnTo>
                      <a:pt x="260" y="154"/>
                    </a:lnTo>
                    <a:lnTo>
                      <a:pt x="253" y="110"/>
                    </a:lnTo>
                    <a:lnTo>
                      <a:pt x="218" y="110"/>
                    </a:lnTo>
                    <a:lnTo>
                      <a:pt x="154" y="175"/>
                    </a:lnTo>
                    <a:lnTo>
                      <a:pt x="134" y="175"/>
                    </a:lnTo>
                    <a:lnTo>
                      <a:pt x="134" y="141"/>
                    </a:lnTo>
                    <a:lnTo>
                      <a:pt x="163" y="103"/>
                    </a:lnTo>
                    <a:lnTo>
                      <a:pt x="62" y="79"/>
                    </a:lnTo>
                    <a:lnTo>
                      <a:pt x="62" y="117"/>
                    </a:lnTo>
                    <a:lnTo>
                      <a:pt x="90" y="161"/>
                    </a:lnTo>
                    <a:lnTo>
                      <a:pt x="29" y="117"/>
                    </a:lnTo>
                    <a:lnTo>
                      <a:pt x="0" y="55"/>
                    </a:lnTo>
                    <a:lnTo>
                      <a:pt x="7" y="13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1289160" y="3940200"/>
                <a:ext cx="8280" cy="5760"/>
              </a:xfrm>
              <a:custGeom>
                <a:avLst/>
                <a:gdLst/>
                <a:ahLst/>
                <a:rect l="l" t="t" r="r" b="b"/>
                <a:pathLst>
                  <a:path w="96" h="60">
                    <a:moveTo>
                      <a:pt x="13" y="0"/>
                    </a:moveTo>
                    <a:lnTo>
                      <a:pt x="96" y="35"/>
                    </a:lnTo>
                    <a:lnTo>
                      <a:pt x="96" y="57"/>
                    </a:lnTo>
                    <a:lnTo>
                      <a:pt x="72" y="60"/>
                    </a:lnTo>
                    <a:lnTo>
                      <a:pt x="4" y="29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1315440" y="3892680"/>
                <a:ext cx="54360" cy="50400"/>
              </a:xfrm>
              <a:custGeom>
                <a:avLst/>
                <a:gdLst/>
                <a:ahLst/>
                <a:rect l="l" t="t" r="r" b="b"/>
                <a:pathLst>
                  <a:path w="655" h="483">
                    <a:moveTo>
                      <a:pt x="0" y="132"/>
                    </a:moveTo>
                    <a:lnTo>
                      <a:pt x="41" y="279"/>
                    </a:lnTo>
                    <a:lnTo>
                      <a:pt x="103" y="351"/>
                    </a:lnTo>
                    <a:lnTo>
                      <a:pt x="103" y="473"/>
                    </a:lnTo>
                    <a:lnTo>
                      <a:pt x="161" y="362"/>
                    </a:lnTo>
                    <a:lnTo>
                      <a:pt x="364" y="483"/>
                    </a:lnTo>
                    <a:lnTo>
                      <a:pt x="521" y="376"/>
                    </a:lnTo>
                    <a:lnTo>
                      <a:pt x="352" y="376"/>
                    </a:lnTo>
                    <a:lnTo>
                      <a:pt x="297" y="356"/>
                    </a:lnTo>
                    <a:lnTo>
                      <a:pt x="224" y="356"/>
                    </a:lnTo>
                    <a:lnTo>
                      <a:pt x="217" y="332"/>
                    </a:lnTo>
                    <a:lnTo>
                      <a:pt x="329" y="314"/>
                    </a:lnTo>
                    <a:lnTo>
                      <a:pt x="329" y="259"/>
                    </a:lnTo>
                    <a:lnTo>
                      <a:pt x="391" y="224"/>
                    </a:lnTo>
                    <a:lnTo>
                      <a:pt x="323" y="224"/>
                    </a:lnTo>
                    <a:lnTo>
                      <a:pt x="308" y="208"/>
                    </a:lnTo>
                    <a:lnTo>
                      <a:pt x="426" y="160"/>
                    </a:lnTo>
                    <a:lnTo>
                      <a:pt x="479" y="107"/>
                    </a:lnTo>
                    <a:lnTo>
                      <a:pt x="631" y="169"/>
                    </a:lnTo>
                    <a:lnTo>
                      <a:pt x="655" y="160"/>
                    </a:lnTo>
                    <a:lnTo>
                      <a:pt x="527" y="0"/>
                    </a:lnTo>
                    <a:lnTo>
                      <a:pt x="479" y="0"/>
                    </a:lnTo>
                    <a:lnTo>
                      <a:pt x="290" y="99"/>
                    </a:lnTo>
                    <a:lnTo>
                      <a:pt x="140" y="187"/>
                    </a:lnTo>
                    <a:lnTo>
                      <a:pt x="134" y="238"/>
                    </a:lnTo>
                    <a:lnTo>
                      <a:pt x="90" y="245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1346040" y="3916080"/>
                <a:ext cx="15840" cy="8280"/>
              </a:xfrm>
              <a:custGeom>
                <a:avLst/>
                <a:gdLst/>
                <a:ahLst/>
                <a:rect l="l" t="t" r="r" b="b"/>
                <a:pathLst>
                  <a:path w="191" h="81">
                    <a:moveTo>
                      <a:pt x="0" y="0"/>
                    </a:moveTo>
                    <a:lnTo>
                      <a:pt x="34" y="65"/>
                    </a:lnTo>
                    <a:lnTo>
                      <a:pt x="20" y="81"/>
                    </a:lnTo>
                    <a:lnTo>
                      <a:pt x="176" y="72"/>
                    </a:lnTo>
                    <a:lnTo>
                      <a:pt x="191" y="50"/>
                    </a:lnTo>
                    <a:lnTo>
                      <a:pt x="101" y="0"/>
                    </a:lnTo>
                    <a:lnTo>
                      <a:pt x="2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1310760" y="396720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396" h="226">
                    <a:moveTo>
                      <a:pt x="0" y="41"/>
                    </a:moveTo>
                    <a:lnTo>
                      <a:pt x="69" y="83"/>
                    </a:lnTo>
                    <a:lnTo>
                      <a:pt x="136" y="83"/>
                    </a:lnTo>
                    <a:lnTo>
                      <a:pt x="228" y="14"/>
                    </a:lnTo>
                    <a:lnTo>
                      <a:pt x="297" y="0"/>
                    </a:lnTo>
                    <a:lnTo>
                      <a:pt x="302" y="14"/>
                    </a:lnTo>
                    <a:lnTo>
                      <a:pt x="339" y="26"/>
                    </a:lnTo>
                    <a:lnTo>
                      <a:pt x="396" y="14"/>
                    </a:lnTo>
                    <a:lnTo>
                      <a:pt x="359" y="63"/>
                    </a:lnTo>
                    <a:lnTo>
                      <a:pt x="219" y="109"/>
                    </a:lnTo>
                    <a:lnTo>
                      <a:pt x="214" y="180"/>
                    </a:lnTo>
                    <a:lnTo>
                      <a:pt x="168" y="226"/>
                    </a:lnTo>
                    <a:lnTo>
                      <a:pt x="99" y="118"/>
                    </a:lnTo>
                    <a:lnTo>
                      <a:pt x="46" y="104"/>
                    </a:lnTo>
                    <a:lnTo>
                      <a:pt x="0" y="63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1328760" y="3954600"/>
                <a:ext cx="12600" cy="5760"/>
              </a:xfrm>
              <a:custGeom>
                <a:avLst/>
                <a:gdLst/>
                <a:ahLst/>
                <a:rect l="l" t="t" r="r" b="b"/>
                <a:pathLst>
                  <a:path w="155" h="58">
                    <a:moveTo>
                      <a:pt x="0" y="58"/>
                    </a:moveTo>
                    <a:lnTo>
                      <a:pt x="106" y="32"/>
                    </a:lnTo>
                    <a:lnTo>
                      <a:pt x="155" y="44"/>
                    </a:lnTo>
                    <a:lnTo>
                      <a:pt x="106" y="0"/>
                    </a:lnTo>
                    <a:lnTo>
                      <a:pt x="41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1343520" y="3962160"/>
                <a:ext cx="27000" cy="48240"/>
              </a:xfrm>
              <a:custGeom>
                <a:avLst/>
                <a:gdLst/>
                <a:ahLst/>
                <a:rect l="l" t="t" r="r" b="b"/>
                <a:pathLst>
                  <a:path w="323" h="453">
                    <a:moveTo>
                      <a:pt x="0" y="0"/>
                    </a:moveTo>
                    <a:lnTo>
                      <a:pt x="7" y="54"/>
                    </a:lnTo>
                    <a:lnTo>
                      <a:pt x="84" y="119"/>
                    </a:lnTo>
                    <a:lnTo>
                      <a:pt x="169" y="229"/>
                    </a:lnTo>
                    <a:lnTo>
                      <a:pt x="99" y="275"/>
                    </a:lnTo>
                    <a:lnTo>
                      <a:pt x="209" y="453"/>
                    </a:lnTo>
                    <a:lnTo>
                      <a:pt x="282" y="453"/>
                    </a:lnTo>
                    <a:lnTo>
                      <a:pt x="323" y="299"/>
                    </a:lnTo>
                    <a:lnTo>
                      <a:pt x="308" y="250"/>
                    </a:lnTo>
                    <a:lnTo>
                      <a:pt x="224" y="222"/>
                    </a:lnTo>
                    <a:lnTo>
                      <a:pt x="205" y="119"/>
                    </a:lnTo>
                    <a:lnTo>
                      <a:pt x="104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1286280" y="3944160"/>
                <a:ext cx="33480" cy="87840"/>
              </a:xfrm>
              <a:custGeom>
                <a:avLst/>
                <a:gdLst/>
                <a:ahLst/>
                <a:rect l="l" t="t" r="r" b="b"/>
                <a:pathLst>
                  <a:path w="411" h="827">
                    <a:moveTo>
                      <a:pt x="290" y="272"/>
                    </a:moveTo>
                    <a:lnTo>
                      <a:pt x="197" y="272"/>
                    </a:lnTo>
                    <a:lnTo>
                      <a:pt x="121" y="230"/>
                    </a:lnTo>
                    <a:lnTo>
                      <a:pt x="51" y="167"/>
                    </a:lnTo>
                    <a:lnTo>
                      <a:pt x="0" y="0"/>
                    </a:lnTo>
                    <a:lnTo>
                      <a:pt x="29" y="193"/>
                    </a:lnTo>
                    <a:lnTo>
                      <a:pt x="160" y="378"/>
                    </a:lnTo>
                    <a:lnTo>
                      <a:pt x="282" y="629"/>
                    </a:lnTo>
                    <a:lnTo>
                      <a:pt x="342" y="708"/>
                    </a:lnTo>
                    <a:lnTo>
                      <a:pt x="395" y="827"/>
                    </a:lnTo>
                    <a:lnTo>
                      <a:pt x="354" y="636"/>
                    </a:lnTo>
                    <a:lnTo>
                      <a:pt x="411" y="609"/>
                    </a:lnTo>
                    <a:lnTo>
                      <a:pt x="354" y="565"/>
                    </a:lnTo>
                    <a:lnTo>
                      <a:pt x="354" y="530"/>
                    </a:lnTo>
                    <a:lnTo>
                      <a:pt x="386" y="507"/>
                    </a:lnTo>
                    <a:lnTo>
                      <a:pt x="319" y="523"/>
                    </a:lnTo>
                    <a:lnTo>
                      <a:pt x="282" y="507"/>
                    </a:lnTo>
                    <a:lnTo>
                      <a:pt x="268" y="466"/>
                    </a:lnTo>
                    <a:lnTo>
                      <a:pt x="268" y="356"/>
                    </a:lnTo>
                    <a:lnTo>
                      <a:pt x="290" y="2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1322280" y="3989880"/>
                <a:ext cx="30960" cy="7560"/>
              </a:xfrm>
              <a:custGeom>
                <a:avLst/>
                <a:gdLst/>
                <a:ahLst/>
                <a:rect l="l" t="t" r="r" b="b"/>
                <a:pathLst>
                  <a:path w="381" h="76">
                    <a:moveTo>
                      <a:pt x="0" y="76"/>
                    </a:moveTo>
                    <a:lnTo>
                      <a:pt x="175" y="40"/>
                    </a:lnTo>
                    <a:lnTo>
                      <a:pt x="260" y="0"/>
                    </a:lnTo>
                    <a:lnTo>
                      <a:pt x="313" y="0"/>
                    </a:lnTo>
                    <a:lnTo>
                      <a:pt x="381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1324800" y="4000320"/>
                <a:ext cx="25560" cy="20160"/>
              </a:xfrm>
              <a:custGeom>
                <a:avLst/>
                <a:gdLst/>
                <a:ahLst/>
                <a:rect l="l" t="t" r="r" b="b"/>
                <a:pathLst>
                  <a:path w="316" h="191">
                    <a:moveTo>
                      <a:pt x="0" y="79"/>
                    </a:moveTo>
                    <a:lnTo>
                      <a:pt x="242" y="26"/>
                    </a:lnTo>
                    <a:lnTo>
                      <a:pt x="295" y="0"/>
                    </a:lnTo>
                    <a:lnTo>
                      <a:pt x="303" y="19"/>
                    </a:lnTo>
                    <a:lnTo>
                      <a:pt x="219" y="64"/>
                    </a:lnTo>
                    <a:lnTo>
                      <a:pt x="235" y="112"/>
                    </a:lnTo>
                    <a:lnTo>
                      <a:pt x="316" y="191"/>
                    </a:lnTo>
                    <a:lnTo>
                      <a:pt x="228" y="162"/>
                    </a:lnTo>
                    <a:lnTo>
                      <a:pt x="150" y="162"/>
                    </a:lnTo>
                    <a:lnTo>
                      <a:pt x="72" y="182"/>
                    </a:lnTo>
                    <a:lnTo>
                      <a:pt x="46" y="191"/>
                    </a:lnTo>
                    <a:lnTo>
                      <a:pt x="60" y="156"/>
                    </a:lnTo>
                    <a:lnTo>
                      <a:pt x="24" y="9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1259280" y="3812760"/>
                <a:ext cx="141840" cy="109080"/>
              </a:xfrm>
              <a:custGeom>
                <a:avLst/>
                <a:gdLst/>
                <a:ahLst/>
                <a:rect l="l" t="t" r="r" b="b"/>
                <a:pathLst>
                  <a:path w="1704" h="1028">
                    <a:moveTo>
                      <a:pt x="159" y="340"/>
                    </a:moveTo>
                    <a:lnTo>
                      <a:pt x="122" y="404"/>
                    </a:lnTo>
                    <a:lnTo>
                      <a:pt x="0" y="551"/>
                    </a:lnTo>
                    <a:lnTo>
                      <a:pt x="0" y="609"/>
                    </a:lnTo>
                    <a:lnTo>
                      <a:pt x="76" y="749"/>
                    </a:lnTo>
                    <a:lnTo>
                      <a:pt x="48" y="874"/>
                    </a:lnTo>
                    <a:lnTo>
                      <a:pt x="111" y="978"/>
                    </a:lnTo>
                    <a:lnTo>
                      <a:pt x="245" y="987"/>
                    </a:lnTo>
                    <a:lnTo>
                      <a:pt x="286" y="1028"/>
                    </a:lnTo>
                    <a:lnTo>
                      <a:pt x="252" y="692"/>
                    </a:lnTo>
                    <a:lnTo>
                      <a:pt x="252" y="588"/>
                    </a:lnTo>
                    <a:lnTo>
                      <a:pt x="265" y="507"/>
                    </a:lnTo>
                    <a:lnTo>
                      <a:pt x="286" y="457"/>
                    </a:lnTo>
                    <a:lnTo>
                      <a:pt x="408" y="507"/>
                    </a:lnTo>
                    <a:lnTo>
                      <a:pt x="555" y="529"/>
                    </a:lnTo>
                    <a:lnTo>
                      <a:pt x="738" y="529"/>
                    </a:lnTo>
                    <a:lnTo>
                      <a:pt x="966" y="507"/>
                    </a:lnTo>
                    <a:lnTo>
                      <a:pt x="851" y="503"/>
                    </a:lnTo>
                    <a:lnTo>
                      <a:pt x="708" y="434"/>
                    </a:lnTo>
                    <a:lnTo>
                      <a:pt x="865" y="441"/>
                    </a:lnTo>
                    <a:lnTo>
                      <a:pt x="992" y="434"/>
                    </a:lnTo>
                    <a:lnTo>
                      <a:pt x="1162" y="397"/>
                    </a:lnTo>
                    <a:lnTo>
                      <a:pt x="1280" y="349"/>
                    </a:lnTo>
                    <a:lnTo>
                      <a:pt x="1441" y="334"/>
                    </a:lnTo>
                    <a:lnTo>
                      <a:pt x="1513" y="362"/>
                    </a:lnTo>
                    <a:lnTo>
                      <a:pt x="1586" y="397"/>
                    </a:lnTo>
                    <a:lnTo>
                      <a:pt x="1644" y="397"/>
                    </a:lnTo>
                    <a:lnTo>
                      <a:pt x="1704" y="362"/>
                    </a:lnTo>
                    <a:lnTo>
                      <a:pt x="1634" y="272"/>
                    </a:lnTo>
                    <a:lnTo>
                      <a:pt x="1526" y="286"/>
                    </a:lnTo>
                    <a:lnTo>
                      <a:pt x="1441" y="259"/>
                    </a:lnTo>
                    <a:lnTo>
                      <a:pt x="1358" y="250"/>
                    </a:lnTo>
                    <a:lnTo>
                      <a:pt x="1280" y="279"/>
                    </a:lnTo>
                    <a:lnTo>
                      <a:pt x="1139" y="340"/>
                    </a:lnTo>
                    <a:lnTo>
                      <a:pt x="1014" y="371"/>
                    </a:lnTo>
                    <a:lnTo>
                      <a:pt x="878" y="378"/>
                    </a:lnTo>
                    <a:lnTo>
                      <a:pt x="766" y="384"/>
                    </a:lnTo>
                    <a:lnTo>
                      <a:pt x="590" y="362"/>
                    </a:lnTo>
                    <a:lnTo>
                      <a:pt x="696" y="334"/>
                    </a:lnTo>
                    <a:lnTo>
                      <a:pt x="570" y="318"/>
                    </a:lnTo>
                    <a:lnTo>
                      <a:pt x="443" y="291"/>
                    </a:lnTo>
                    <a:lnTo>
                      <a:pt x="379" y="265"/>
                    </a:lnTo>
                    <a:lnTo>
                      <a:pt x="482" y="226"/>
                    </a:lnTo>
                    <a:lnTo>
                      <a:pt x="300" y="201"/>
                    </a:lnTo>
                    <a:lnTo>
                      <a:pt x="265" y="173"/>
                    </a:lnTo>
                    <a:lnTo>
                      <a:pt x="258" y="145"/>
                    </a:lnTo>
                    <a:lnTo>
                      <a:pt x="265" y="102"/>
                    </a:lnTo>
                    <a:lnTo>
                      <a:pt x="295" y="54"/>
                    </a:lnTo>
                    <a:lnTo>
                      <a:pt x="373" y="0"/>
                    </a:lnTo>
                    <a:lnTo>
                      <a:pt x="217" y="67"/>
                    </a:lnTo>
                    <a:lnTo>
                      <a:pt x="60" y="164"/>
                    </a:lnTo>
                    <a:lnTo>
                      <a:pt x="69" y="189"/>
                    </a:lnTo>
                    <a:lnTo>
                      <a:pt x="118" y="286"/>
                    </a:lnTo>
                    <a:lnTo>
                      <a:pt x="159" y="3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1297800" y="3789360"/>
                <a:ext cx="137160" cy="278640"/>
              </a:xfrm>
              <a:custGeom>
                <a:avLst/>
                <a:gdLst/>
                <a:ahLst/>
                <a:rect l="l" t="t" r="r" b="b"/>
                <a:pathLst>
                  <a:path w="1658" h="2635">
                    <a:moveTo>
                      <a:pt x="7" y="196"/>
                    </a:moveTo>
                    <a:lnTo>
                      <a:pt x="0" y="216"/>
                    </a:lnTo>
                    <a:lnTo>
                      <a:pt x="14" y="231"/>
                    </a:lnTo>
                    <a:lnTo>
                      <a:pt x="58" y="251"/>
                    </a:lnTo>
                    <a:lnTo>
                      <a:pt x="106" y="260"/>
                    </a:lnTo>
                    <a:lnTo>
                      <a:pt x="185" y="260"/>
                    </a:lnTo>
                    <a:lnTo>
                      <a:pt x="291" y="244"/>
                    </a:lnTo>
                    <a:lnTo>
                      <a:pt x="208" y="279"/>
                    </a:lnTo>
                    <a:lnTo>
                      <a:pt x="114" y="292"/>
                    </a:lnTo>
                    <a:lnTo>
                      <a:pt x="35" y="292"/>
                    </a:lnTo>
                    <a:lnTo>
                      <a:pt x="35" y="315"/>
                    </a:lnTo>
                    <a:lnTo>
                      <a:pt x="58" y="341"/>
                    </a:lnTo>
                    <a:lnTo>
                      <a:pt x="114" y="366"/>
                    </a:lnTo>
                    <a:lnTo>
                      <a:pt x="185" y="354"/>
                    </a:lnTo>
                    <a:lnTo>
                      <a:pt x="231" y="385"/>
                    </a:lnTo>
                    <a:lnTo>
                      <a:pt x="226" y="398"/>
                    </a:lnTo>
                    <a:lnTo>
                      <a:pt x="185" y="420"/>
                    </a:lnTo>
                    <a:lnTo>
                      <a:pt x="141" y="426"/>
                    </a:lnTo>
                    <a:lnTo>
                      <a:pt x="220" y="435"/>
                    </a:lnTo>
                    <a:lnTo>
                      <a:pt x="354" y="435"/>
                    </a:lnTo>
                    <a:lnTo>
                      <a:pt x="510" y="414"/>
                    </a:lnTo>
                    <a:lnTo>
                      <a:pt x="611" y="385"/>
                    </a:lnTo>
                    <a:lnTo>
                      <a:pt x="487" y="426"/>
                    </a:lnTo>
                    <a:lnTo>
                      <a:pt x="345" y="456"/>
                    </a:lnTo>
                    <a:lnTo>
                      <a:pt x="244" y="475"/>
                    </a:lnTo>
                    <a:lnTo>
                      <a:pt x="305" y="504"/>
                    </a:lnTo>
                    <a:lnTo>
                      <a:pt x="437" y="523"/>
                    </a:lnTo>
                    <a:lnTo>
                      <a:pt x="543" y="532"/>
                    </a:lnTo>
                    <a:lnTo>
                      <a:pt x="662" y="532"/>
                    </a:lnTo>
                    <a:lnTo>
                      <a:pt x="741" y="511"/>
                    </a:lnTo>
                    <a:lnTo>
                      <a:pt x="625" y="475"/>
                    </a:lnTo>
                    <a:lnTo>
                      <a:pt x="824" y="398"/>
                    </a:lnTo>
                    <a:lnTo>
                      <a:pt x="763" y="370"/>
                    </a:lnTo>
                    <a:lnTo>
                      <a:pt x="875" y="378"/>
                    </a:lnTo>
                    <a:lnTo>
                      <a:pt x="945" y="414"/>
                    </a:lnTo>
                    <a:lnTo>
                      <a:pt x="1029" y="470"/>
                    </a:lnTo>
                    <a:lnTo>
                      <a:pt x="1095" y="511"/>
                    </a:lnTo>
                    <a:lnTo>
                      <a:pt x="1142" y="622"/>
                    </a:lnTo>
                    <a:lnTo>
                      <a:pt x="1204" y="622"/>
                    </a:lnTo>
                    <a:lnTo>
                      <a:pt x="1257" y="609"/>
                    </a:lnTo>
                    <a:lnTo>
                      <a:pt x="1296" y="580"/>
                    </a:lnTo>
                    <a:lnTo>
                      <a:pt x="1331" y="537"/>
                    </a:lnTo>
                    <a:lnTo>
                      <a:pt x="1354" y="511"/>
                    </a:lnTo>
                    <a:lnTo>
                      <a:pt x="1361" y="559"/>
                    </a:lnTo>
                    <a:lnTo>
                      <a:pt x="1347" y="609"/>
                    </a:lnTo>
                    <a:lnTo>
                      <a:pt x="1310" y="651"/>
                    </a:lnTo>
                    <a:lnTo>
                      <a:pt x="1382" y="651"/>
                    </a:lnTo>
                    <a:lnTo>
                      <a:pt x="1446" y="638"/>
                    </a:lnTo>
                    <a:lnTo>
                      <a:pt x="1485" y="651"/>
                    </a:lnTo>
                    <a:lnTo>
                      <a:pt x="1508" y="684"/>
                    </a:lnTo>
                    <a:lnTo>
                      <a:pt x="1523" y="765"/>
                    </a:lnTo>
                    <a:lnTo>
                      <a:pt x="1517" y="936"/>
                    </a:lnTo>
                    <a:lnTo>
                      <a:pt x="1543" y="996"/>
                    </a:lnTo>
                    <a:lnTo>
                      <a:pt x="1580" y="1030"/>
                    </a:lnTo>
                    <a:lnTo>
                      <a:pt x="1591" y="1073"/>
                    </a:lnTo>
                    <a:lnTo>
                      <a:pt x="1559" y="1073"/>
                    </a:lnTo>
                    <a:lnTo>
                      <a:pt x="1469" y="1014"/>
                    </a:lnTo>
                    <a:lnTo>
                      <a:pt x="1354" y="1009"/>
                    </a:lnTo>
                    <a:lnTo>
                      <a:pt x="1287" y="1095"/>
                    </a:lnTo>
                    <a:lnTo>
                      <a:pt x="1268" y="1226"/>
                    </a:lnTo>
                    <a:lnTo>
                      <a:pt x="1340" y="1284"/>
                    </a:lnTo>
                    <a:lnTo>
                      <a:pt x="1319" y="1457"/>
                    </a:lnTo>
                    <a:lnTo>
                      <a:pt x="1361" y="1374"/>
                    </a:lnTo>
                    <a:lnTo>
                      <a:pt x="1460" y="1330"/>
                    </a:lnTo>
                    <a:lnTo>
                      <a:pt x="1422" y="1240"/>
                    </a:lnTo>
                    <a:lnTo>
                      <a:pt x="1340" y="1219"/>
                    </a:lnTo>
                    <a:lnTo>
                      <a:pt x="1409" y="1143"/>
                    </a:lnTo>
                    <a:lnTo>
                      <a:pt x="1508" y="1212"/>
                    </a:lnTo>
                    <a:lnTo>
                      <a:pt x="1479" y="1106"/>
                    </a:lnTo>
                    <a:lnTo>
                      <a:pt x="1517" y="1095"/>
                    </a:lnTo>
                    <a:lnTo>
                      <a:pt x="1422" y="1099"/>
                    </a:lnTo>
                    <a:lnTo>
                      <a:pt x="1303" y="1189"/>
                    </a:lnTo>
                    <a:lnTo>
                      <a:pt x="1319" y="1099"/>
                    </a:lnTo>
                    <a:lnTo>
                      <a:pt x="1367" y="1035"/>
                    </a:lnTo>
                    <a:lnTo>
                      <a:pt x="1460" y="1035"/>
                    </a:lnTo>
                    <a:lnTo>
                      <a:pt x="1559" y="1095"/>
                    </a:lnTo>
                    <a:lnTo>
                      <a:pt x="1564" y="1198"/>
                    </a:lnTo>
                    <a:lnTo>
                      <a:pt x="1543" y="1316"/>
                    </a:lnTo>
                    <a:lnTo>
                      <a:pt x="1469" y="1435"/>
                    </a:lnTo>
                    <a:lnTo>
                      <a:pt x="1446" y="1519"/>
                    </a:lnTo>
                    <a:lnTo>
                      <a:pt x="1361" y="1560"/>
                    </a:lnTo>
                    <a:lnTo>
                      <a:pt x="1296" y="1493"/>
                    </a:lnTo>
                    <a:lnTo>
                      <a:pt x="1220" y="1968"/>
                    </a:lnTo>
                    <a:lnTo>
                      <a:pt x="1163" y="2261"/>
                    </a:lnTo>
                    <a:lnTo>
                      <a:pt x="939" y="2501"/>
                    </a:lnTo>
                    <a:lnTo>
                      <a:pt x="851" y="2635"/>
                    </a:lnTo>
                    <a:lnTo>
                      <a:pt x="958" y="2492"/>
                    </a:lnTo>
                    <a:lnTo>
                      <a:pt x="1257" y="2174"/>
                    </a:lnTo>
                    <a:lnTo>
                      <a:pt x="1446" y="1827"/>
                    </a:lnTo>
                    <a:lnTo>
                      <a:pt x="1430" y="1807"/>
                    </a:lnTo>
                    <a:lnTo>
                      <a:pt x="1382" y="1811"/>
                    </a:lnTo>
                    <a:lnTo>
                      <a:pt x="1384" y="1730"/>
                    </a:lnTo>
                    <a:lnTo>
                      <a:pt x="1494" y="1701"/>
                    </a:lnTo>
                    <a:lnTo>
                      <a:pt x="1494" y="1624"/>
                    </a:lnTo>
                    <a:lnTo>
                      <a:pt x="1591" y="1592"/>
                    </a:lnTo>
                    <a:lnTo>
                      <a:pt x="1619" y="1457"/>
                    </a:lnTo>
                    <a:lnTo>
                      <a:pt x="1658" y="1394"/>
                    </a:lnTo>
                    <a:lnTo>
                      <a:pt x="1580" y="1350"/>
                    </a:lnTo>
                    <a:lnTo>
                      <a:pt x="1573" y="1306"/>
                    </a:lnTo>
                    <a:lnTo>
                      <a:pt x="1591" y="1240"/>
                    </a:lnTo>
                    <a:lnTo>
                      <a:pt x="1591" y="1154"/>
                    </a:lnTo>
                    <a:lnTo>
                      <a:pt x="1580" y="1122"/>
                    </a:lnTo>
                    <a:lnTo>
                      <a:pt x="1642" y="1143"/>
                    </a:lnTo>
                    <a:lnTo>
                      <a:pt x="1619" y="1057"/>
                    </a:lnTo>
                    <a:lnTo>
                      <a:pt x="1564" y="967"/>
                    </a:lnTo>
                    <a:lnTo>
                      <a:pt x="1550" y="897"/>
                    </a:lnTo>
                    <a:lnTo>
                      <a:pt x="1550" y="813"/>
                    </a:lnTo>
                    <a:lnTo>
                      <a:pt x="1543" y="741"/>
                    </a:lnTo>
                    <a:lnTo>
                      <a:pt x="1550" y="700"/>
                    </a:lnTo>
                    <a:lnTo>
                      <a:pt x="1501" y="580"/>
                    </a:lnTo>
                    <a:lnTo>
                      <a:pt x="1418" y="462"/>
                    </a:lnTo>
                    <a:lnTo>
                      <a:pt x="1326" y="389"/>
                    </a:lnTo>
                    <a:lnTo>
                      <a:pt x="1257" y="341"/>
                    </a:lnTo>
                    <a:lnTo>
                      <a:pt x="1227" y="225"/>
                    </a:lnTo>
                    <a:lnTo>
                      <a:pt x="1137" y="147"/>
                    </a:lnTo>
                    <a:lnTo>
                      <a:pt x="1044" y="119"/>
                    </a:lnTo>
                    <a:lnTo>
                      <a:pt x="909" y="40"/>
                    </a:lnTo>
                    <a:lnTo>
                      <a:pt x="747" y="0"/>
                    </a:lnTo>
                    <a:lnTo>
                      <a:pt x="584" y="4"/>
                    </a:lnTo>
                    <a:lnTo>
                      <a:pt x="427" y="36"/>
                    </a:lnTo>
                    <a:lnTo>
                      <a:pt x="298" y="97"/>
                    </a:lnTo>
                    <a:lnTo>
                      <a:pt x="127" y="161"/>
                    </a:lnTo>
                    <a:lnTo>
                      <a:pt x="7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1361880" y="3845880"/>
                <a:ext cx="37080" cy="37080"/>
              </a:xfrm>
              <a:custGeom>
                <a:avLst/>
                <a:gdLst/>
                <a:ahLst/>
                <a:rect l="l" t="t" r="r" b="b"/>
                <a:pathLst>
                  <a:path w="445" h="358">
                    <a:moveTo>
                      <a:pt x="141" y="27"/>
                    </a:moveTo>
                    <a:lnTo>
                      <a:pt x="69" y="48"/>
                    </a:lnTo>
                    <a:lnTo>
                      <a:pt x="0" y="113"/>
                    </a:lnTo>
                    <a:lnTo>
                      <a:pt x="84" y="113"/>
                    </a:lnTo>
                    <a:lnTo>
                      <a:pt x="42" y="209"/>
                    </a:lnTo>
                    <a:lnTo>
                      <a:pt x="93" y="233"/>
                    </a:lnTo>
                    <a:lnTo>
                      <a:pt x="127" y="358"/>
                    </a:lnTo>
                    <a:lnTo>
                      <a:pt x="115" y="222"/>
                    </a:lnTo>
                    <a:lnTo>
                      <a:pt x="163" y="180"/>
                    </a:lnTo>
                    <a:lnTo>
                      <a:pt x="240" y="161"/>
                    </a:lnTo>
                    <a:lnTo>
                      <a:pt x="316" y="161"/>
                    </a:lnTo>
                    <a:lnTo>
                      <a:pt x="385" y="173"/>
                    </a:lnTo>
                    <a:lnTo>
                      <a:pt x="445" y="209"/>
                    </a:lnTo>
                    <a:lnTo>
                      <a:pt x="374" y="161"/>
                    </a:lnTo>
                    <a:lnTo>
                      <a:pt x="268" y="134"/>
                    </a:lnTo>
                    <a:lnTo>
                      <a:pt x="189" y="134"/>
                    </a:lnTo>
                    <a:lnTo>
                      <a:pt x="99" y="161"/>
                    </a:lnTo>
                    <a:lnTo>
                      <a:pt x="106" y="119"/>
                    </a:lnTo>
                    <a:lnTo>
                      <a:pt x="150" y="90"/>
                    </a:lnTo>
                    <a:lnTo>
                      <a:pt x="62" y="90"/>
                    </a:lnTo>
                    <a:lnTo>
                      <a:pt x="99" y="64"/>
                    </a:lnTo>
                    <a:lnTo>
                      <a:pt x="163" y="33"/>
                    </a:lnTo>
                    <a:lnTo>
                      <a:pt x="219" y="42"/>
                    </a:lnTo>
                    <a:lnTo>
                      <a:pt x="316" y="64"/>
                    </a:lnTo>
                    <a:lnTo>
                      <a:pt x="247" y="20"/>
                    </a:lnTo>
                    <a:lnTo>
                      <a:pt x="163" y="0"/>
                    </a:lnTo>
                    <a:lnTo>
                      <a:pt x="14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1373760" y="388908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387" h="303">
                    <a:moveTo>
                      <a:pt x="22" y="18"/>
                    </a:moveTo>
                    <a:lnTo>
                      <a:pt x="115" y="0"/>
                    </a:lnTo>
                    <a:lnTo>
                      <a:pt x="191" y="18"/>
                    </a:lnTo>
                    <a:lnTo>
                      <a:pt x="244" y="53"/>
                    </a:lnTo>
                    <a:lnTo>
                      <a:pt x="281" y="92"/>
                    </a:lnTo>
                    <a:lnTo>
                      <a:pt x="288" y="138"/>
                    </a:lnTo>
                    <a:lnTo>
                      <a:pt x="281" y="156"/>
                    </a:lnTo>
                    <a:lnTo>
                      <a:pt x="255" y="152"/>
                    </a:lnTo>
                    <a:lnTo>
                      <a:pt x="219" y="130"/>
                    </a:lnTo>
                    <a:lnTo>
                      <a:pt x="175" y="92"/>
                    </a:lnTo>
                    <a:lnTo>
                      <a:pt x="127" y="87"/>
                    </a:lnTo>
                    <a:lnTo>
                      <a:pt x="172" y="152"/>
                    </a:lnTo>
                    <a:lnTo>
                      <a:pt x="191" y="207"/>
                    </a:lnTo>
                    <a:lnTo>
                      <a:pt x="182" y="260"/>
                    </a:lnTo>
                    <a:lnTo>
                      <a:pt x="360" y="290"/>
                    </a:lnTo>
                    <a:lnTo>
                      <a:pt x="387" y="303"/>
                    </a:lnTo>
                    <a:lnTo>
                      <a:pt x="147" y="276"/>
                    </a:lnTo>
                    <a:lnTo>
                      <a:pt x="163" y="239"/>
                    </a:lnTo>
                    <a:lnTo>
                      <a:pt x="156" y="191"/>
                    </a:lnTo>
                    <a:lnTo>
                      <a:pt x="121" y="130"/>
                    </a:lnTo>
                    <a:lnTo>
                      <a:pt x="83" y="87"/>
                    </a:lnTo>
                    <a:lnTo>
                      <a:pt x="16" y="53"/>
                    </a:lnTo>
                    <a:lnTo>
                      <a:pt x="0" y="9"/>
                    </a:lnTo>
                    <a:lnTo>
                      <a:pt x="2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1380600" y="3917880"/>
                <a:ext cx="17640" cy="33480"/>
              </a:xfrm>
              <a:custGeom>
                <a:avLst/>
                <a:gdLst/>
                <a:ahLst/>
                <a:rect l="l" t="t" r="r" b="b"/>
                <a:pathLst>
                  <a:path w="214" h="313">
                    <a:moveTo>
                      <a:pt x="89" y="0"/>
                    </a:moveTo>
                    <a:lnTo>
                      <a:pt x="0" y="179"/>
                    </a:lnTo>
                    <a:lnTo>
                      <a:pt x="9" y="313"/>
                    </a:lnTo>
                    <a:lnTo>
                      <a:pt x="214" y="65"/>
                    </a:lnTo>
                    <a:lnTo>
                      <a:pt x="214" y="14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1320840" y="4003560"/>
                <a:ext cx="70920" cy="67680"/>
              </a:xfrm>
              <a:custGeom>
                <a:avLst/>
                <a:gdLst/>
                <a:ahLst/>
                <a:rect l="l" t="t" r="r" b="b"/>
                <a:pathLst>
                  <a:path w="857" h="640">
                    <a:moveTo>
                      <a:pt x="857" y="0"/>
                    </a:moveTo>
                    <a:lnTo>
                      <a:pt x="749" y="53"/>
                    </a:lnTo>
                    <a:lnTo>
                      <a:pt x="648" y="198"/>
                    </a:lnTo>
                    <a:lnTo>
                      <a:pt x="514" y="187"/>
                    </a:lnTo>
                    <a:lnTo>
                      <a:pt x="470" y="260"/>
                    </a:lnTo>
                    <a:lnTo>
                      <a:pt x="415" y="297"/>
                    </a:lnTo>
                    <a:lnTo>
                      <a:pt x="276" y="288"/>
                    </a:lnTo>
                    <a:lnTo>
                      <a:pt x="186" y="321"/>
                    </a:lnTo>
                    <a:lnTo>
                      <a:pt x="118" y="345"/>
                    </a:lnTo>
                    <a:lnTo>
                      <a:pt x="48" y="345"/>
                    </a:lnTo>
                    <a:lnTo>
                      <a:pt x="0" y="317"/>
                    </a:lnTo>
                    <a:lnTo>
                      <a:pt x="48" y="359"/>
                    </a:lnTo>
                    <a:lnTo>
                      <a:pt x="105" y="366"/>
                    </a:lnTo>
                    <a:lnTo>
                      <a:pt x="223" y="366"/>
                    </a:lnTo>
                    <a:lnTo>
                      <a:pt x="294" y="391"/>
                    </a:lnTo>
                    <a:lnTo>
                      <a:pt x="382" y="514"/>
                    </a:lnTo>
                    <a:lnTo>
                      <a:pt x="507" y="611"/>
                    </a:lnTo>
                    <a:lnTo>
                      <a:pt x="527" y="640"/>
                    </a:lnTo>
                    <a:lnTo>
                      <a:pt x="564" y="615"/>
                    </a:lnTo>
                    <a:lnTo>
                      <a:pt x="555" y="550"/>
                    </a:lnTo>
                    <a:lnTo>
                      <a:pt x="544" y="461"/>
                    </a:lnTo>
                    <a:lnTo>
                      <a:pt x="555" y="380"/>
                    </a:lnTo>
                    <a:lnTo>
                      <a:pt x="569" y="327"/>
                    </a:lnTo>
                    <a:lnTo>
                      <a:pt x="630" y="267"/>
                    </a:lnTo>
                    <a:lnTo>
                      <a:pt x="685" y="226"/>
                    </a:lnTo>
                    <a:lnTo>
                      <a:pt x="738" y="132"/>
                    </a:lnTo>
                    <a:lnTo>
                      <a:pt x="800" y="57"/>
                    </a:lnTo>
                    <a:lnTo>
                      <a:pt x="8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1375920" y="3962880"/>
                <a:ext cx="5760" cy="36000"/>
              </a:xfrm>
              <a:custGeom>
                <a:avLst/>
                <a:gdLst/>
                <a:ahLst/>
                <a:rect l="l" t="t" r="r" b="b"/>
                <a:pathLst>
                  <a:path w="72" h="339">
                    <a:moveTo>
                      <a:pt x="56" y="0"/>
                    </a:moveTo>
                    <a:lnTo>
                      <a:pt x="0" y="339"/>
                    </a:lnTo>
                    <a:lnTo>
                      <a:pt x="72" y="117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1302840" y="3880080"/>
                <a:ext cx="62280" cy="19080"/>
              </a:xfrm>
              <a:custGeom>
                <a:avLst/>
                <a:gdLst/>
                <a:ahLst/>
                <a:rect l="l" t="t" r="r" b="b"/>
                <a:pathLst>
                  <a:path w="747" h="189">
                    <a:moveTo>
                      <a:pt x="0" y="189"/>
                    </a:moveTo>
                    <a:lnTo>
                      <a:pt x="38" y="145"/>
                    </a:lnTo>
                    <a:lnTo>
                      <a:pt x="95" y="117"/>
                    </a:lnTo>
                    <a:lnTo>
                      <a:pt x="189" y="97"/>
                    </a:lnTo>
                    <a:lnTo>
                      <a:pt x="341" y="78"/>
                    </a:lnTo>
                    <a:lnTo>
                      <a:pt x="460" y="39"/>
                    </a:lnTo>
                    <a:lnTo>
                      <a:pt x="581" y="0"/>
                    </a:lnTo>
                    <a:lnTo>
                      <a:pt x="664" y="0"/>
                    </a:lnTo>
                    <a:lnTo>
                      <a:pt x="715" y="29"/>
                    </a:lnTo>
                    <a:lnTo>
                      <a:pt x="747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1316880" y="3872880"/>
                <a:ext cx="46440" cy="11880"/>
              </a:xfrm>
              <a:custGeom>
                <a:avLst/>
                <a:gdLst/>
                <a:ahLst/>
                <a:rect l="l" t="t" r="r" b="b"/>
                <a:pathLst>
                  <a:path w="563" h="118">
                    <a:moveTo>
                      <a:pt x="0" y="118"/>
                    </a:moveTo>
                    <a:lnTo>
                      <a:pt x="134" y="94"/>
                    </a:lnTo>
                    <a:lnTo>
                      <a:pt x="266" y="41"/>
                    </a:lnTo>
                    <a:lnTo>
                      <a:pt x="362" y="4"/>
                    </a:lnTo>
                    <a:lnTo>
                      <a:pt x="436" y="0"/>
                    </a:lnTo>
                    <a:lnTo>
                      <a:pt x="496" y="17"/>
                    </a:lnTo>
                    <a:lnTo>
                      <a:pt x="563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1334160" y="3867120"/>
                <a:ext cx="23040" cy="5760"/>
              </a:xfrm>
              <a:custGeom>
                <a:avLst/>
                <a:gdLst/>
                <a:ahLst/>
                <a:rect l="l" t="t" r="r" b="b"/>
                <a:pathLst>
                  <a:path w="279" h="62">
                    <a:moveTo>
                      <a:pt x="0" y="62"/>
                    </a:moveTo>
                    <a:lnTo>
                      <a:pt x="161" y="7"/>
                    </a:lnTo>
                    <a:lnTo>
                      <a:pt x="223" y="0"/>
                    </a:lnTo>
                    <a:lnTo>
                      <a:pt x="279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1360800" y="390456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105" h="128">
                    <a:moveTo>
                      <a:pt x="0" y="0"/>
                    </a:moveTo>
                    <a:lnTo>
                      <a:pt x="0" y="101"/>
                    </a:lnTo>
                    <a:lnTo>
                      <a:pt x="52" y="128"/>
                    </a:lnTo>
                    <a:lnTo>
                      <a:pt x="105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1446120" y="4075560"/>
                <a:ext cx="176040" cy="399960"/>
              </a:xfrm>
              <a:custGeom>
                <a:avLst/>
                <a:gdLst/>
                <a:ahLst/>
                <a:rect l="l" t="t" r="r" b="b"/>
                <a:pathLst>
                  <a:path w="2124" h="3774">
                    <a:moveTo>
                      <a:pt x="1483" y="509"/>
                    </a:moveTo>
                    <a:lnTo>
                      <a:pt x="1612" y="966"/>
                    </a:lnTo>
                    <a:lnTo>
                      <a:pt x="1929" y="1474"/>
                    </a:lnTo>
                    <a:lnTo>
                      <a:pt x="1810" y="2116"/>
                    </a:lnTo>
                    <a:lnTo>
                      <a:pt x="2124" y="3119"/>
                    </a:lnTo>
                    <a:lnTo>
                      <a:pt x="2124" y="3774"/>
                    </a:lnTo>
                    <a:lnTo>
                      <a:pt x="916" y="3766"/>
                    </a:lnTo>
                    <a:lnTo>
                      <a:pt x="0" y="3302"/>
                    </a:lnTo>
                    <a:lnTo>
                      <a:pt x="499" y="2990"/>
                    </a:lnTo>
                    <a:lnTo>
                      <a:pt x="510" y="2782"/>
                    </a:lnTo>
                    <a:lnTo>
                      <a:pt x="589" y="2443"/>
                    </a:lnTo>
                    <a:lnTo>
                      <a:pt x="589" y="2755"/>
                    </a:lnTo>
                    <a:lnTo>
                      <a:pt x="932" y="2375"/>
                    </a:lnTo>
                    <a:lnTo>
                      <a:pt x="995" y="2285"/>
                    </a:lnTo>
                    <a:lnTo>
                      <a:pt x="1024" y="2116"/>
                    </a:lnTo>
                    <a:lnTo>
                      <a:pt x="1063" y="1931"/>
                    </a:lnTo>
                    <a:lnTo>
                      <a:pt x="1301" y="1946"/>
                    </a:lnTo>
                    <a:lnTo>
                      <a:pt x="1377" y="1812"/>
                    </a:lnTo>
                    <a:lnTo>
                      <a:pt x="1206" y="1501"/>
                    </a:lnTo>
                    <a:lnTo>
                      <a:pt x="1377" y="1501"/>
                    </a:lnTo>
                    <a:lnTo>
                      <a:pt x="1377" y="1434"/>
                    </a:lnTo>
                    <a:lnTo>
                      <a:pt x="1232" y="1265"/>
                    </a:lnTo>
                    <a:lnTo>
                      <a:pt x="1246" y="1148"/>
                    </a:lnTo>
                    <a:lnTo>
                      <a:pt x="1457" y="966"/>
                    </a:lnTo>
                    <a:lnTo>
                      <a:pt x="1470" y="717"/>
                    </a:lnTo>
                    <a:lnTo>
                      <a:pt x="1351" y="496"/>
                    </a:lnTo>
                    <a:lnTo>
                      <a:pt x="1324" y="258"/>
                    </a:lnTo>
                    <a:lnTo>
                      <a:pt x="1206" y="0"/>
                    </a:lnTo>
                    <a:lnTo>
                      <a:pt x="1419" y="351"/>
                    </a:lnTo>
                    <a:lnTo>
                      <a:pt x="1483" y="5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1419120" y="3976560"/>
                <a:ext cx="60840" cy="92160"/>
              </a:xfrm>
              <a:custGeom>
                <a:avLst/>
                <a:gdLst/>
                <a:ahLst/>
                <a:rect l="l" t="t" r="r" b="b"/>
                <a:pathLst>
                  <a:path w="734" h="874">
                    <a:moveTo>
                      <a:pt x="38" y="65"/>
                    </a:moveTo>
                    <a:lnTo>
                      <a:pt x="156" y="301"/>
                    </a:lnTo>
                    <a:lnTo>
                      <a:pt x="0" y="874"/>
                    </a:lnTo>
                    <a:lnTo>
                      <a:pt x="220" y="222"/>
                    </a:lnTo>
                    <a:lnTo>
                      <a:pt x="220" y="158"/>
                    </a:lnTo>
                    <a:lnTo>
                      <a:pt x="195" y="106"/>
                    </a:lnTo>
                    <a:lnTo>
                      <a:pt x="328" y="158"/>
                    </a:lnTo>
                    <a:lnTo>
                      <a:pt x="420" y="250"/>
                    </a:lnTo>
                    <a:lnTo>
                      <a:pt x="446" y="367"/>
                    </a:lnTo>
                    <a:lnTo>
                      <a:pt x="378" y="547"/>
                    </a:lnTo>
                    <a:lnTo>
                      <a:pt x="486" y="404"/>
                    </a:lnTo>
                    <a:lnTo>
                      <a:pt x="576" y="433"/>
                    </a:lnTo>
                    <a:lnTo>
                      <a:pt x="290" y="874"/>
                    </a:lnTo>
                    <a:lnTo>
                      <a:pt x="734" y="378"/>
                    </a:lnTo>
                    <a:lnTo>
                      <a:pt x="681" y="325"/>
                    </a:lnTo>
                    <a:lnTo>
                      <a:pt x="617" y="367"/>
                    </a:lnTo>
                    <a:lnTo>
                      <a:pt x="499" y="339"/>
                    </a:lnTo>
                    <a:lnTo>
                      <a:pt x="472" y="235"/>
                    </a:lnTo>
                    <a:lnTo>
                      <a:pt x="393" y="158"/>
                    </a:lnTo>
                    <a:lnTo>
                      <a:pt x="248" y="79"/>
                    </a:lnTo>
                    <a:lnTo>
                      <a:pt x="156" y="79"/>
                    </a:lnTo>
                    <a:lnTo>
                      <a:pt x="0" y="0"/>
                    </a:lnTo>
                    <a:lnTo>
                      <a:pt x="38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1490040" y="4020480"/>
                <a:ext cx="52920" cy="52200"/>
              </a:xfrm>
              <a:custGeom>
                <a:avLst/>
                <a:gdLst/>
                <a:ahLst/>
                <a:rect l="l" t="t" r="r" b="b"/>
                <a:pathLst>
                  <a:path w="643" h="496">
                    <a:moveTo>
                      <a:pt x="0" y="0"/>
                    </a:moveTo>
                    <a:lnTo>
                      <a:pt x="198" y="94"/>
                    </a:lnTo>
                    <a:lnTo>
                      <a:pt x="420" y="168"/>
                    </a:lnTo>
                    <a:lnTo>
                      <a:pt x="643" y="496"/>
                    </a:lnTo>
                    <a:lnTo>
                      <a:pt x="500" y="442"/>
                    </a:lnTo>
                    <a:lnTo>
                      <a:pt x="408" y="2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1348560" y="4074840"/>
                <a:ext cx="54720" cy="258480"/>
              </a:xfrm>
              <a:custGeom>
                <a:avLst/>
                <a:gdLst/>
                <a:ahLst/>
                <a:rect l="l" t="t" r="r" b="b"/>
                <a:pathLst>
                  <a:path w="667" h="2442">
                    <a:moveTo>
                      <a:pt x="208" y="0"/>
                    </a:moveTo>
                    <a:lnTo>
                      <a:pt x="208" y="88"/>
                    </a:lnTo>
                    <a:lnTo>
                      <a:pt x="618" y="326"/>
                    </a:lnTo>
                    <a:lnTo>
                      <a:pt x="272" y="194"/>
                    </a:lnTo>
                    <a:lnTo>
                      <a:pt x="208" y="440"/>
                    </a:lnTo>
                    <a:lnTo>
                      <a:pt x="272" y="625"/>
                    </a:lnTo>
                    <a:lnTo>
                      <a:pt x="272" y="794"/>
                    </a:lnTo>
                    <a:lnTo>
                      <a:pt x="208" y="1190"/>
                    </a:lnTo>
                    <a:lnTo>
                      <a:pt x="153" y="1543"/>
                    </a:lnTo>
                    <a:lnTo>
                      <a:pt x="185" y="1734"/>
                    </a:lnTo>
                    <a:lnTo>
                      <a:pt x="314" y="1996"/>
                    </a:lnTo>
                    <a:lnTo>
                      <a:pt x="512" y="2218"/>
                    </a:lnTo>
                    <a:lnTo>
                      <a:pt x="667" y="2257"/>
                    </a:lnTo>
                    <a:lnTo>
                      <a:pt x="470" y="2242"/>
                    </a:lnTo>
                    <a:lnTo>
                      <a:pt x="404" y="2273"/>
                    </a:lnTo>
                    <a:lnTo>
                      <a:pt x="404" y="2442"/>
                    </a:lnTo>
                    <a:lnTo>
                      <a:pt x="272" y="2321"/>
                    </a:lnTo>
                    <a:lnTo>
                      <a:pt x="0" y="2400"/>
                    </a:lnTo>
                    <a:lnTo>
                      <a:pt x="245" y="2297"/>
                    </a:lnTo>
                    <a:lnTo>
                      <a:pt x="185" y="2089"/>
                    </a:lnTo>
                    <a:lnTo>
                      <a:pt x="129" y="1801"/>
                    </a:lnTo>
                    <a:lnTo>
                      <a:pt x="116" y="1501"/>
                    </a:lnTo>
                    <a:lnTo>
                      <a:pt x="143" y="1200"/>
                    </a:lnTo>
                    <a:lnTo>
                      <a:pt x="208" y="911"/>
                    </a:lnTo>
                    <a:lnTo>
                      <a:pt x="233" y="756"/>
                    </a:lnTo>
                    <a:lnTo>
                      <a:pt x="233" y="598"/>
                    </a:lnTo>
                    <a:lnTo>
                      <a:pt x="185" y="494"/>
                    </a:lnTo>
                    <a:lnTo>
                      <a:pt x="51" y="440"/>
                    </a:lnTo>
                    <a:lnTo>
                      <a:pt x="185" y="130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8" name=""/>
            <p:cNvSpPr/>
            <p:nvPr/>
          </p:nvSpPr>
          <p:spPr>
            <a:xfrm>
              <a:off x="1267920" y="4071240"/>
              <a:ext cx="90000" cy="258480"/>
            </a:xfrm>
            <a:custGeom>
              <a:avLst/>
              <a:gdLst/>
              <a:ahLst/>
              <a:rect l="l" t="t" r="r" b="b"/>
              <a:pathLst>
                <a:path w="1088" h="2442">
                  <a:moveTo>
                    <a:pt x="1035" y="0"/>
                  </a:moveTo>
                  <a:lnTo>
                    <a:pt x="958" y="116"/>
                  </a:lnTo>
                  <a:lnTo>
                    <a:pt x="943" y="238"/>
                  </a:lnTo>
                  <a:lnTo>
                    <a:pt x="943" y="455"/>
                  </a:lnTo>
                  <a:lnTo>
                    <a:pt x="931" y="784"/>
                  </a:lnTo>
                  <a:lnTo>
                    <a:pt x="866" y="1292"/>
                  </a:lnTo>
                  <a:lnTo>
                    <a:pt x="838" y="1672"/>
                  </a:lnTo>
                  <a:lnTo>
                    <a:pt x="853" y="1894"/>
                  </a:lnTo>
                  <a:lnTo>
                    <a:pt x="890" y="2074"/>
                  </a:lnTo>
                  <a:lnTo>
                    <a:pt x="943" y="2207"/>
                  </a:lnTo>
                  <a:lnTo>
                    <a:pt x="1023" y="2338"/>
                  </a:lnTo>
                  <a:lnTo>
                    <a:pt x="1088" y="2378"/>
                  </a:lnTo>
                  <a:lnTo>
                    <a:pt x="980" y="2442"/>
                  </a:lnTo>
                  <a:lnTo>
                    <a:pt x="866" y="2442"/>
                  </a:lnTo>
                  <a:lnTo>
                    <a:pt x="866" y="2232"/>
                  </a:lnTo>
                  <a:lnTo>
                    <a:pt x="798" y="2052"/>
                  </a:lnTo>
                  <a:lnTo>
                    <a:pt x="576" y="1424"/>
                  </a:lnTo>
                  <a:lnTo>
                    <a:pt x="156" y="1488"/>
                  </a:lnTo>
                  <a:lnTo>
                    <a:pt x="75" y="1474"/>
                  </a:lnTo>
                  <a:lnTo>
                    <a:pt x="391" y="1345"/>
                  </a:lnTo>
                  <a:lnTo>
                    <a:pt x="341" y="1228"/>
                  </a:lnTo>
                  <a:lnTo>
                    <a:pt x="0" y="1228"/>
                  </a:lnTo>
                  <a:lnTo>
                    <a:pt x="260" y="1110"/>
                  </a:lnTo>
                  <a:lnTo>
                    <a:pt x="456" y="1096"/>
                  </a:lnTo>
                  <a:lnTo>
                    <a:pt x="417" y="849"/>
                  </a:lnTo>
                  <a:lnTo>
                    <a:pt x="798" y="1905"/>
                  </a:lnTo>
                  <a:lnTo>
                    <a:pt x="798" y="1608"/>
                  </a:lnTo>
                  <a:lnTo>
                    <a:pt x="838" y="1257"/>
                  </a:lnTo>
                  <a:lnTo>
                    <a:pt x="890" y="863"/>
                  </a:lnTo>
                  <a:lnTo>
                    <a:pt x="919" y="575"/>
                  </a:lnTo>
                  <a:lnTo>
                    <a:pt x="919" y="169"/>
                  </a:lnTo>
                  <a:lnTo>
                    <a:pt x="972" y="53"/>
                  </a:lnTo>
                  <a:lnTo>
                    <a:pt x="10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1388520" y="4108680"/>
              <a:ext cx="119880" cy="222840"/>
            </a:xfrm>
            <a:custGeom>
              <a:avLst/>
              <a:gdLst/>
              <a:ahLst/>
              <a:rect l="l" t="t" r="r" b="b"/>
              <a:pathLst>
                <a:path w="1444" h="2100">
                  <a:moveTo>
                    <a:pt x="198" y="1931"/>
                  </a:moveTo>
                  <a:lnTo>
                    <a:pt x="407" y="1995"/>
                  </a:lnTo>
                  <a:lnTo>
                    <a:pt x="589" y="2100"/>
                  </a:lnTo>
                  <a:lnTo>
                    <a:pt x="446" y="1931"/>
                  </a:lnTo>
                  <a:lnTo>
                    <a:pt x="343" y="1841"/>
                  </a:lnTo>
                  <a:lnTo>
                    <a:pt x="248" y="1826"/>
                  </a:lnTo>
                  <a:lnTo>
                    <a:pt x="211" y="1812"/>
                  </a:lnTo>
                  <a:lnTo>
                    <a:pt x="211" y="1632"/>
                  </a:lnTo>
                  <a:lnTo>
                    <a:pt x="264" y="1593"/>
                  </a:lnTo>
                  <a:lnTo>
                    <a:pt x="499" y="1498"/>
                  </a:lnTo>
                  <a:lnTo>
                    <a:pt x="776" y="1318"/>
                  </a:lnTo>
                  <a:lnTo>
                    <a:pt x="1025" y="1070"/>
                  </a:lnTo>
                  <a:lnTo>
                    <a:pt x="1444" y="495"/>
                  </a:lnTo>
                  <a:lnTo>
                    <a:pt x="1444" y="403"/>
                  </a:lnTo>
                  <a:lnTo>
                    <a:pt x="1092" y="834"/>
                  </a:lnTo>
                  <a:lnTo>
                    <a:pt x="710" y="1217"/>
                  </a:lnTo>
                  <a:lnTo>
                    <a:pt x="369" y="1448"/>
                  </a:lnTo>
                  <a:lnTo>
                    <a:pt x="578" y="1081"/>
                  </a:lnTo>
                  <a:lnTo>
                    <a:pt x="684" y="732"/>
                  </a:lnTo>
                  <a:lnTo>
                    <a:pt x="710" y="495"/>
                  </a:lnTo>
                  <a:lnTo>
                    <a:pt x="879" y="140"/>
                  </a:lnTo>
                  <a:lnTo>
                    <a:pt x="1117" y="0"/>
                  </a:lnTo>
                  <a:lnTo>
                    <a:pt x="855" y="127"/>
                  </a:lnTo>
                  <a:lnTo>
                    <a:pt x="644" y="442"/>
                  </a:lnTo>
                  <a:lnTo>
                    <a:pt x="644" y="769"/>
                  </a:lnTo>
                  <a:lnTo>
                    <a:pt x="525" y="1081"/>
                  </a:lnTo>
                  <a:lnTo>
                    <a:pt x="356" y="1371"/>
                  </a:lnTo>
                  <a:lnTo>
                    <a:pt x="184" y="1604"/>
                  </a:lnTo>
                  <a:lnTo>
                    <a:pt x="184" y="1826"/>
                  </a:lnTo>
                  <a:lnTo>
                    <a:pt x="0" y="1905"/>
                  </a:lnTo>
                  <a:lnTo>
                    <a:pt x="198" y="19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1385280" y="4340160"/>
              <a:ext cx="67320" cy="81000"/>
            </a:xfrm>
            <a:custGeom>
              <a:avLst/>
              <a:gdLst/>
              <a:ahLst/>
              <a:rect l="l" t="t" r="r" b="b"/>
              <a:pathLst>
                <a:path w="818" h="773">
                  <a:moveTo>
                    <a:pt x="671" y="0"/>
                  </a:moveTo>
                  <a:lnTo>
                    <a:pt x="776" y="184"/>
                  </a:lnTo>
                  <a:lnTo>
                    <a:pt x="818" y="419"/>
                  </a:lnTo>
                  <a:lnTo>
                    <a:pt x="818" y="564"/>
                  </a:lnTo>
                  <a:lnTo>
                    <a:pt x="739" y="758"/>
                  </a:lnTo>
                  <a:lnTo>
                    <a:pt x="606" y="773"/>
                  </a:lnTo>
                  <a:lnTo>
                    <a:pt x="369" y="654"/>
                  </a:lnTo>
                  <a:lnTo>
                    <a:pt x="226" y="498"/>
                  </a:lnTo>
                  <a:lnTo>
                    <a:pt x="0" y="14"/>
                  </a:lnTo>
                  <a:lnTo>
                    <a:pt x="161" y="290"/>
                  </a:lnTo>
                  <a:lnTo>
                    <a:pt x="435" y="512"/>
                  </a:lnTo>
                  <a:lnTo>
                    <a:pt x="739" y="588"/>
                  </a:lnTo>
                  <a:lnTo>
                    <a:pt x="752" y="474"/>
                  </a:lnTo>
                  <a:lnTo>
                    <a:pt x="712" y="327"/>
                  </a:lnTo>
                  <a:lnTo>
                    <a:pt x="620" y="235"/>
                  </a:lnTo>
                  <a:lnTo>
                    <a:pt x="477" y="184"/>
                  </a:lnTo>
                  <a:lnTo>
                    <a:pt x="620" y="147"/>
                  </a:lnTo>
                  <a:lnTo>
                    <a:pt x="671" y="65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1245960" y="4359600"/>
              <a:ext cx="174960" cy="64080"/>
            </a:xfrm>
            <a:custGeom>
              <a:avLst/>
              <a:gdLst/>
              <a:ahLst/>
              <a:rect l="l" t="t" r="r" b="b"/>
              <a:pathLst>
                <a:path w="2111" h="613">
                  <a:moveTo>
                    <a:pt x="2111" y="613"/>
                  </a:moveTo>
                  <a:lnTo>
                    <a:pt x="1718" y="602"/>
                  </a:lnTo>
                  <a:lnTo>
                    <a:pt x="1194" y="549"/>
                  </a:lnTo>
                  <a:lnTo>
                    <a:pt x="593" y="380"/>
                  </a:lnTo>
                  <a:lnTo>
                    <a:pt x="103" y="301"/>
                  </a:lnTo>
                  <a:lnTo>
                    <a:pt x="26" y="235"/>
                  </a:lnTo>
                  <a:lnTo>
                    <a:pt x="0" y="90"/>
                  </a:lnTo>
                  <a:lnTo>
                    <a:pt x="353" y="143"/>
                  </a:lnTo>
                  <a:lnTo>
                    <a:pt x="364" y="0"/>
                  </a:lnTo>
                  <a:lnTo>
                    <a:pt x="406" y="143"/>
                  </a:lnTo>
                  <a:lnTo>
                    <a:pt x="643" y="143"/>
                  </a:lnTo>
                  <a:lnTo>
                    <a:pt x="419" y="249"/>
                  </a:lnTo>
                  <a:lnTo>
                    <a:pt x="445" y="328"/>
                  </a:lnTo>
                  <a:lnTo>
                    <a:pt x="929" y="290"/>
                  </a:lnTo>
                  <a:lnTo>
                    <a:pt x="1243" y="301"/>
                  </a:lnTo>
                  <a:lnTo>
                    <a:pt x="1586" y="362"/>
                  </a:lnTo>
                  <a:lnTo>
                    <a:pt x="1773" y="433"/>
                  </a:lnTo>
                  <a:lnTo>
                    <a:pt x="1625" y="249"/>
                  </a:lnTo>
                  <a:lnTo>
                    <a:pt x="1494" y="169"/>
                  </a:lnTo>
                  <a:lnTo>
                    <a:pt x="1221" y="106"/>
                  </a:lnTo>
                  <a:lnTo>
                    <a:pt x="1549" y="106"/>
                  </a:lnTo>
                  <a:lnTo>
                    <a:pt x="1747" y="235"/>
                  </a:lnTo>
                  <a:lnTo>
                    <a:pt x="1821" y="393"/>
                  </a:lnTo>
                  <a:lnTo>
                    <a:pt x="1929" y="496"/>
                  </a:lnTo>
                  <a:lnTo>
                    <a:pt x="2019" y="574"/>
                  </a:lnTo>
                  <a:lnTo>
                    <a:pt x="2111" y="6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1245960" y="4236840"/>
              <a:ext cx="75600" cy="77040"/>
            </a:xfrm>
            <a:custGeom>
              <a:avLst/>
              <a:gdLst/>
              <a:ahLst/>
              <a:rect l="l" t="t" r="r" b="b"/>
              <a:pathLst>
                <a:path w="905" h="731">
                  <a:moveTo>
                    <a:pt x="168" y="731"/>
                  </a:moveTo>
                  <a:lnTo>
                    <a:pt x="301" y="612"/>
                  </a:lnTo>
                  <a:lnTo>
                    <a:pt x="301" y="563"/>
                  </a:lnTo>
                  <a:lnTo>
                    <a:pt x="263" y="512"/>
                  </a:lnTo>
                  <a:lnTo>
                    <a:pt x="143" y="457"/>
                  </a:lnTo>
                  <a:lnTo>
                    <a:pt x="26" y="417"/>
                  </a:lnTo>
                  <a:lnTo>
                    <a:pt x="0" y="393"/>
                  </a:lnTo>
                  <a:lnTo>
                    <a:pt x="0" y="340"/>
                  </a:lnTo>
                  <a:lnTo>
                    <a:pt x="26" y="312"/>
                  </a:lnTo>
                  <a:lnTo>
                    <a:pt x="103" y="275"/>
                  </a:lnTo>
                  <a:lnTo>
                    <a:pt x="118" y="312"/>
                  </a:lnTo>
                  <a:lnTo>
                    <a:pt x="158" y="351"/>
                  </a:lnTo>
                  <a:lnTo>
                    <a:pt x="301" y="379"/>
                  </a:lnTo>
                  <a:lnTo>
                    <a:pt x="285" y="287"/>
                  </a:lnTo>
                  <a:lnTo>
                    <a:pt x="221" y="208"/>
                  </a:lnTo>
                  <a:lnTo>
                    <a:pt x="143" y="129"/>
                  </a:lnTo>
                  <a:lnTo>
                    <a:pt x="13" y="54"/>
                  </a:lnTo>
                  <a:lnTo>
                    <a:pt x="90" y="39"/>
                  </a:lnTo>
                  <a:lnTo>
                    <a:pt x="237" y="79"/>
                  </a:lnTo>
                  <a:lnTo>
                    <a:pt x="364" y="158"/>
                  </a:lnTo>
                  <a:lnTo>
                    <a:pt x="472" y="298"/>
                  </a:lnTo>
                  <a:lnTo>
                    <a:pt x="617" y="235"/>
                  </a:lnTo>
                  <a:lnTo>
                    <a:pt x="461" y="158"/>
                  </a:lnTo>
                  <a:lnTo>
                    <a:pt x="433" y="118"/>
                  </a:lnTo>
                  <a:lnTo>
                    <a:pt x="461" y="79"/>
                  </a:lnTo>
                  <a:lnTo>
                    <a:pt x="562" y="39"/>
                  </a:lnTo>
                  <a:lnTo>
                    <a:pt x="747" y="0"/>
                  </a:lnTo>
                  <a:lnTo>
                    <a:pt x="905" y="0"/>
                  </a:lnTo>
                  <a:lnTo>
                    <a:pt x="823" y="158"/>
                  </a:lnTo>
                  <a:lnTo>
                    <a:pt x="643" y="362"/>
                  </a:lnTo>
                  <a:lnTo>
                    <a:pt x="445" y="549"/>
                  </a:lnTo>
                  <a:lnTo>
                    <a:pt x="301" y="667"/>
                  </a:lnTo>
                  <a:lnTo>
                    <a:pt x="168" y="7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1284840" y="4071240"/>
              <a:ext cx="12960" cy="82080"/>
            </a:xfrm>
            <a:custGeom>
              <a:avLst/>
              <a:gdLst/>
              <a:ahLst/>
              <a:rect l="l" t="t" r="r" b="b"/>
              <a:pathLst>
                <a:path w="157" h="771">
                  <a:moveTo>
                    <a:pt x="65" y="116"/>
                  </a:moveTo>
                  <a:lnTo>
                    <a:pt x="90" y="378"/>
                  </a:lnTo>
                  <a:lnTo>
                    <a:pt x="132" y="626"/>
                  </a:lnTo>
                  <a:lnTo>
                    <a:pt x="157" y="771"/>
                  </a:lnTo>
                  <a:lnTo>
                    <a:pt x="24" y="354"/>
                  </a:lnTo>
                  <a:lnTo>
                    <a:pt x="0" y="222"/>
                  </a:lnTo>
                  <a:lnTo>
                    <a:pt x="51" y="0"/>
                  </a:lnTo>
                  <a:lnTo>
                    <a:pt x="65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4" name=""/>
          <p:cNvGrpSpPr/>
          <p:nvPr/>
        </p:nvGrpSpPr>
        <p:grpSpPr>
          <a:xfrm>
            <a:off x="7380360" y="3716280"/>
            <a:ext cx="1274760" cy="720360"/>
            <a:chOff x="7380360" y="3716280"/>
            <a:chExt cx="1274760" cy="720360"/>
          </a:xfrm>
        </p:grpSpPr>
        <p:sp>
          <p:nvSpPr>
            <p:cNvPr id="3445" name=""/>
            <p:cNvSpPr/>
            <p:nvPr/>
          </p:nvSpPr>
          <p:spPr>
            <a:xfrm>
              <a:off x="7722000" y="4208400"/>
              <a:ext cx="567000" cy="133200"/>
            </a:xfrm>
            <a:custGeom>
              <a:avLst/>
              <a:gdLst/>
              <a:ahLst/>
              <a:rect l="l" t="t" r="r" b="b"/>
              <a:pathLst>
                <a:path w="7426" h="2003">
                  <a:moveTo>
                    <a:pt x="0" y="0"/>
                  </a:moveTo>
                  <a:lnTo>
                    <a:pt x="7426" y="0"/>
                  </a:lnTo>
                  <a:lnTo>
                    <a:pt x="6050" y="2003"/>
                  </a:lnTo>
                  <a:lnTo>
                    <a:pt x="0" y="20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7946280" y="4215240"/>
              <a:ext cx="345960" cy="41040"/>
            </a:xfrm>
            <a:custGeom>
              <a:avLst/>
              <a:gdLst/>
              <a:ahLst/>
              <a:rect l="l" t="t" r="r" b="b"/>
              <a:pathLst>
                <a:path w="4520" h="620">
                  <a:moveTo>
                    <a:pt x="541" y="620"/>
                  </a:moveTo>
                  <a:lnTo>
                    <a:pt x="0" y="0"/>
                  </a:lnTo>
                  <a:lnTo>
                    <a:pt x="3269" y="0"/>
                  </a:lnTo>
                  <a:lnTo>
                    <a:pt x="4520" y="362"/>
                  </a:lnTo>
                  <a:lnTo>
                    <a:pt x="4520" y="620"/>
                  </a:lnTo>
                  <a:lnTo>
                    <a:pt x="541" y="6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7381440" y="3919320"/>
              <a:ext cx="504720" cy="516240"/>
            </a:xfrm>
            <a:custGeom>
              <a:avLst/>
              <a:gdLst/>
              <a:ahLst/>
              <a:rect l="l" t="t" r="r" b="b"/>
              <a:pathLst>
                <a:path w="6609" h="7730">
                  <a:moveTo>
                    <a:pt x="0" y="1307"/>
                  </a:moveTo>
                  <a:lnTo>
                    <a:pt x="0" y="4054"/>
                  </a:lnTo>
                  <a:lnTo>
                    <a:pt x="524" y="4182"/>
                  </a:lnTo>
                  <a:lnTo>
                    <a:pt x="1012" y="4509"/>
                  </a:lnTo>
                  <a:lnTo>
                    <a:pt x="1421" y="4893"/>
                  </a:lnTo>
                  <a:lnTo>
                    <a:pt x="1881" y="5439"/>
                  </a:lnTo>
                  <a:lnTo>
                    <a:pt x="2204" y="6144"/>
                  </a:lnTo>
                  <a:lnTo>
                    <a:pt x="2513" y="7020"/>
                  </a:lnTo>
                  <a:lnTo>
                    <a:pt x="2737" y="7730"/>
                  </a:lnTo>
                  <a:lnTo>
                    <a:pt x="5123" y="7730"/>
                  </a:lnTo>
                  <a:lnTo>
                    <a:pt x="6609" y="6091"/>
                  </a:lnTo>
                  <a:lnTo>
                    <a:pt x="6609" y="5746"/>
                  </a:lnTo>
                  <a:lnTo>
                    <a:pt x="6480" y="5508"/>
                  </a:lnTo>
                  <a:lnTo>
                    <a:pt x="6185" y="5344"/>
                  </a:lnTo>
                  <a:lnTo>
                    <a:pt x="5416" y="5031"/>
                  </a:lnTo>
                  <a:lnTo>
                    <a:pt x="5365" y="4985"/>
                  </a:lnTo>
                  <a:lnTo>
                    <a:pt x="4911" y="4906"/>
                  </a:lnTo>
                  <a:lnTo>
                    <a:pt x="4746" y="4856"/>
                  </a:lnTo>
                  <a:lnTo>
                    <a:pt x="4581" y="3272"/>
                  </a:lnTo>
                  <a:lnTo>
                    <a:pt x="4468" y="2742"/>
                  </a:lnTo>
                  <a:lnTo>
                    <a:pt x="4434" y="2490"/>
                  </a:lnTo>
                  <a:lnTo>
                    <a:pt x="4212" y="2017"/>
                  </a:lnTo>
                  <a:lnTo>
                    <a:pt x="4117" y="1909"/>
                  </a:lnTo>
                  <a:lnTo>
                    <a:pt x="3959" y="1760"/>
                  </a:lnTo>
                  <a:lnTo>
                    <a:pt x="3610" y="1580"/>
                  </a:lnTo>
                  <a:lnTo>
                    <a:pt x="3115" y="1199"/>
                  </a:lnTo>
                  <a:lnTo>
                    <a:pt x="2333" y="417"/>
                  </a:lnTo>
                  <a:lnTo>
                    <a:pt x="1748" y="125"/>
                  </a:lnTo>
                  <a:lnTo>
                    <a:pt x="1222" y="0"/>
                  </a:lnTo>
                  <a:lnTo>
                    <a:pt x="894" y="399"/>
                  </a:lnTo>
                  <a:lnTo>
                    <a:pt x="599" y="582"/>
                  </a:lnTo>
                  <a:lnTo>
                    <a:pt x="146" y="1142"/>
                  </a:lnTo>
                  <a:lnTo>
                    <a:pt x="0" y="1307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7998840" y="3951720"/>
              <a:ext cx="649080" cy="482760"/>
            </a:xfrm>
            <a:custGeom>
              <a:avLst/>
              <a:gdLst/>
              <a:ahLst/>
              <a:rect l="l" t="t" r="r" b="b"/>
              <a:pathLst>
                <a:path w="8500" h="7234">
                  <a:moveTo>
                    <a:pt x="1999" y="4964"/>
                  </a:moveTo>
                  <a:lnTo>
                    <a:pt x="2075" y="4850"/>
                  </a:lnTo>
                  <a:lnTo>
                    <a:pt x="2430" y="4721"/>
                  </a:lnTo>
                  <a:lnTo>
                    <a:pt x="2665" y="4593"/>
                  </a:lnTo>
                  <a:lnTo>
                    <a:pt x="2915" y="4406"/>
                  </a:lnTo>
                  <a:lnTo>
                    <a:pt x="3339" y="4350"/>
                  </a:lnTo>
                  <a:lnTo>
                    <a:pt x="3412" y="3980"/>
                  </a:lnTo>
                  <a:lnTo>
                    <a:pt x="3507" y="3739"/>
                  </a:lnTo>
                  <a:lnTo>
                    <a:pt x="3658" y="2910"/>
                  </a:lnTo>
                  <a:lnTo>
                    <a:pt x="3788" y="2312"/>
                  </a:lnTo>
                  <a:lnTo>
                    <a:pt x="3954" y="1906"/>
                  </a:lnTo>
                  <a:lnTo>
                    <a:pt x="4137" y="1651"/>
                  </a:lnTo>
                  <a:lnTo>
                    <a:pt x="4454" y="1540"/>
                  </a:lnTo>
                  <a:lnTo>
                    <a:pt x="4641" y="1356"/>
                  </a:lnTo>
                  <a:lnTo>
                    <a:pt x="4710" y="1277"/>
                  </a:lnTo>
                  <a:lnTo>
                    <a:pt x="4710" y="1116"/>
                  </a:lnTo>
                  <a:lnTo>
                    <a:pt x="4803" y="876"/>
                  </a:lnTo>
                  <a:lnTo>
                    <a:pt x="5123" y="449"/>
                  </a:lnTo>
                  <a:lnTo>
                    <a:pt x="5717" y="76"/>
                  </a:lnTo>
                  <a:lnTo>
                    <a:pt x="6158" y="0"/>
                  </a:lnTo>
                  <a:lnTo>
                    <a:pt x="6737" y="466"/>
                  </a:lnTo>
                  <a:lnTo>
                    <a:pt x="6999" y="648"/>
                  </a:lnTo>
                  <a:lnTo>
                    <a:pt x="7329" y="1042"/>
                  </a:lnTo>
                  <a:lnTo>
                    <a:pt x="7679" y="1589"/>
                  </a:lnTo>
                  <a:lnTo>
                    <a:pt x="8016" y="2312"/>
                  </a:lnTo>
                  <a:lnTo>
                    <a:pt x="8389" y="3147"/>
                  </a:lnTo>
                  <a:lnTo>
                    <a:pt x="8500" y="3499"/>
                  </a:lnTo>
                  <a:lnTo>
                    <a:pt x="7772" y="3776"/>
                  </a:lnTo>
                  <a:lnTo>
                    <a:pt x="7128" y="4350"/>
                  </a:lnTo>
                  <a:lnTo>
                    <a:pt x="6807" y="4795"/>
                  </a:lnTo>
                  <a:lnTo>
                    <a:pt x="6495" y="5330"/>
                  </a:lnTo>
                  <a:lnTo>
                    <a:pt x="6289" y="5980"/>
                  </a:lnTo>
                  <a:lnTo>
                    <a:pt x="6091" y="7234"/>
                  </a:lnTo>
                  <a:lnTo>
                    <a:pt x="0" y="7234"/>
                  </a:lnTo>
                  <a:lnTo>
                    <a:pt x="1355" y="5533"/>
                  </a:lnTo>
                  <a:lnTo>
                    <a:pt x="1999" y="496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8182800" y="4242600"/>
              <a:ext cx="70560" cy="98640"/>
            </a:xfrm>
            <a:custGeom>
              <a:avLst/>
              <a:gdLst/>
              <a:ahLst/>
              <a:rect l="l" t="t" r="r" b="b"/>
              <a:pathLst>
                <a:path w="927" h="1480">
                  <a:moveTo>
                    <a:pt x="394" y="113"/>
                  </a:moveTo>
                  <a:lnTo>
                    <a:pt x="670" y="386"/>
                  </a:lnTo>
                  <a:lnTo>
                    <a:pt x="670" y="540"/>
                  </a:lnTo>
                  <a:lnTo>
                    <a:pt x="0" y="851"/>
                  </a:lnTo>
                  <a:lnTo>
                    <a:pt x="112" y="1480"/>
                  </a:lnTo>
                  <a:lnTo>
                    <a:pt x="670" y="1245"/>
                  </a:lnTo>
                  <a:lnTo>
                    <a:pt x="778" y="962"/>
                  </a:lnTo>
                  <a:lnTo>
                    <a:pt x="855" y="243"/>
                  </a:lnTo>
                  <a:lnTo>
                    <a:pt x="927" y="0"/>
                  </a:lnTo>
                  <a:lnTo>
                    <a:pt x="479" y="56"/>
                  </a:lnTo>
                  <a:lnTo>
                    <a:pt x="394" y="113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8154720" y="3993120"/>
              <a:ext cx="500400" cy="441720"/>
            </a:xfrm>
            <a:custGeom>
              <a:avLst/>
              <a:gdLst/>
              <a:ahLst/>
              <a:rect l="l" t="t" r="r" b="b"/>
              <a:pathLst>
                <a:path w="6551" h="6616">
                  <a:moveTo>
                    <a:pt x="6551" y="2921"/>
                  </a:moveTo>
                  <a:lnTo>
                    <a:pt x="6133" y="3048"/>
                  </a:lnTo>
                  <a:lnTo>
                    <a:pt x="5692" y="3252"/>
                  </a:lnTo>
                  <a:lnTo>
                    <a:pt x="5378" y="3432"/>
                  </a:lnTo>
                  <a:lnTo>
                    <a:pt x="5048" y="3801"/>
                  </a:lnTo>
                  <a:lnTo>
                    <a:pt x="4712" y="4252"/>
                  </a:lnTo>
                  <a:lnTo>
                    <a:pt x="4470" y="4694"/>
                  </a:lnTo>
                  <a:lnTo>
                    <a:pt x="3396" y="6547"/>
                  </a:lnTo>
                  <a:lnTo>
                    <a:pt x="2278" y="6616"/>
                  </a:lnTo>
                  <a:lnTo>
                    <a:pt x="0" y="6616"/>
                  </a:lnTo>
                  <a:lnTo>
                    <a:pt x="108" y="6197"/>
                  </a:lnTo>
                  <a:lnTo>
                    <a:pt x="367" y="6485"/>
                  </a:lnTo>
                  <a:lnTo>
                    <a:pt x="606" y="6524"/>
                  </a:lnTo>
                  <a:lnTo>
                    <a:pt x="457" y="6322"/>
                  </a:lnTo>
                  <a:lnTo>
                    <a:pt x="457" y="5971"/>
                  </a:lnTo>
                  <a:lnTo>
                    <a:pt x="870" y="5599"/>
                  </a:lnTo>
                  <a:lnTo>
                    <a:pt x="1145" y="6227"/>
                  </a:lnTo>
                  <a:lnTo>
                    <a:pt x="1332" y="6524"/>
                  </a:lnTo>
                  <a:lnTo>
                    <a:pt x="1909" y="6098"/>
                  </a:lnTo>
                  <a:lnTo>
                    <a:pt x="2466" y="5252"/>
                  </a:lnTo>
                  <a:lnTo>
                    <a:pt x="1481" y="5671"/>
                  </a:lnTo>
                  <a:lnTo>
                    <a:pt x="2134" y="4837"/>
                  </a:lnTo>
                  <a:lnTo>
                    <a:pt x="1462" y="4936"/>
                  </a:lnTo>
                  <a:lnTo>
                    <a:pt x="1446" y="4751"/>
                  </a:lnTo>
                  <a:lnTo>
                    <a:pt x="2206" y="4103"/>
                  </a:lnTo>
                  <a:lnTo>
                    <a:pt x="2241" y="4435"/>
                  </a:lnTo>
                  <a:lnTo>
                    <a:pt x="2448" y="4498"/>
                  </a:lnTo>
                  <a:lnTo>
                    <a:pt x="3188" y="3956"/>
                  </a:lnTo>
                  <a:lnTo>
                    <a:pt x="3465" y="3342"/>
                  </a:lnTo>
                  <a:lnTo>
                    <a:pt x="3558" y="2377"/>
                  </a:lnTo>
                  <a:lnTo>
                    <a:pt x="3211" y="1477"/>
                  </a:lnTo>
                  <a:lnTo>
                    <a:pt x="4212" y="2342"/>
                  </a:lnTo>
                  <a:lnTo>
                    <a:pt x="5378" y="2694"/>
                  </a:lnTo>
                  <a:lnTo>
                    <a:pt x="5766" y="2960"/>
                  </a:lnTo>
                  <a:lnTo>
                    <a:pt x="6254" y="2881"/>
                  </a:lnTo>
                  <a:lnTo>
                    <a:pt x="6087" y="2248"/>
                  </a:lnTo>
                  <a:lnTo>
                    <a:pt x="5582" y="971"/>
                  </a:lnTo>
                  <a:lnTo>
                    <a:pt x="5140" y="258"/>
                  </a:lnTo>
                  <a:lnTo>
                    <a:pt x="4894" y="0"/>
                  </a:lnTo>
                  <a:lnTo>
                    <a:pt x="5250" y="327"/>
                  </a:lnTo>
                  <a:lnTo>
                    <a:pt x="5634" y="940"/>
                  </a:lnTo>
                  <a:lnTo>
                    <a:pt x="6030" y="1810"/>
                  </a:lnTo>
                  <a:lnTo>
                    <a:pt x="6344" y="2513"/>
                  </a:lnTo>
                  <a:lnTo>
                    <a:pt x="6551" y="2921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8418600" y="3953520"/>
              <a:ext cx="60120" cy="57600"/>
            </a:xfrm>
            <a:custGeom>
              <a:avLst/>
              <a:gdLst/>
              <a:ahLst/>
              <a:rect l="l" t="t" r="r" b="b"/>
              <a:pathLst>
                <a:path w="791" h="867">
                  <a:moveTo>
                    <a:pt x="197" y="120"/>
                  </a:moveTo>
                  <a:lnTo>
                    <a:pt x="307" y="199"/>
                  </a:lnTo>
                  <a:lnTo>
                    <a:pt x="386" y="512"/>
                  </a:lnTo>
                  <a:lnTo>
                    <a:pt x="346" y="625"/>
                  </a:lnTo>
                  <a:lnTo>
                    <a:pt x="0" y="867"/>
                  </a:lnTo>
                  <a:lnTo>
                    <a:pt x="791" y="535"/>
                  </a:lnTo>
                  <a:lnTo>
                    <a:pt x="791" y="298"/>
                  </a:lnTo>
                  <a:lnTo>
                    <a:pt x="573" y="0"/>
                  </a:lnTo>
                  <a:lnTo>
                    <a:pt x="346" y="39"/>
                  </a:lnTo>
                  <a:lnTo>
                    <a:pt x="197" y="120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7745040" y="3876120"/>
              <a:ext cx="531720" cy="353160"/>
            </a:xfrm>
            <a:custGeom>
              <a:avLst/>
              <a:gdLst/>
              <a:ahLst/>
              <a:rect l="l" t="t" r="r" b="b"/>
              <a:pathLst>
                <a:path w="6960" h="5288">
                  <a:moveTo>
                    <a:pt x="2583" y="0"/>
                  </a:moveTo>
                  <a:lnTo>
                    <a:pt x="2425" y="32"/>
                  </a:lnTo>
                  <a:lnTo>
                    <a:pt x="2146" y="173"/>
                  </a:lnTo>
                  <a:lnTo>
                    <a:pt x="1372" y="233"/>
                  </a:lnTo>
                  <a:lnTo>
                    <a:pt x="592" y="498"/>
                  </a:lnTo>
                  <a:lnTo>
                    <a:pt x="229" y="706"/>
                  </a:lnTo>
                  <a:lnTo>
                    <a:pt x="141" y="876"/>
                  </a:lnTo>
                  <a:lnTo>
                    <a:pt x="93" y="1047"/>
                  </a:lnTo>
                  <a:lnTo>
                    <a:pt x="141" y="1374"/>
                  </a:lnTo>
                  <a:lnTo>
                    <a:pt x="229" y="1625"/>
                  </a:lnTo>
                  <a:lnTo>
                    <a:pt x="141" y="2183"/>
                  </a:lnTo>
                  <a:lnTo>
                    <a:pt x="102" y="2308"/>
                  </a:lnTo>
                  <a:lnTo>
                    <a:pt x="32" y="2356"/>
                  </a:lnTo>
                  <a:lnTo>
                    <a:pt x="0" y="2444"/>
                  </a:lnTo>
                  <a:lnTo>
                    <a:pt x="12" y="2620"/>
                  </a:lnTo>
                  <a:lnTo>
                    <a:pt x="155" y="3086"/>
                  </a:lnTo>
                  <a:lnTo>
                    <a:pt x="155" y="3277"/>
                  </a:lnTo>
                  <a:lnTo>
                    <a:pt x="141" y="3525"/>
                  </a:lnTo>
                  <a:lnTo>
                    <a:pt x="126" y="3655"/>
                  </a:lnTo>
                  <a:lnTo>
                    <a:pt x="32" y="3928"/>
                  </a:lnTo>
                  <a:lnTo>
                    <a:pt x="44" y="4198"/>
                  </a:lnTo>
                  <a:lnTo>
                    <a:pt x="556" y="4862"/>
                  </a:lnTo>
                  <a:lnTo>
                    <a:pt x="888" y="4980"/>
                  </a:lnTo>
                  <a:lnTo>
                    <a:pt x="1003" y="5053"/>
                  </a:lnTo>
                  <a:lnTo>
                    <a:pt x="1361" y="5022"/>
                  </a:lnTo>
                  <a:lnTo>
                    <a:pt x="1671" y="5148"/>
                  </a:lnTo>
                  <a:lnTo>
                    <a:pt x="2062" y="5288"/>
                  </a:lnTo>
                  <a:lnTo>
                    <a:pt x="2704" y="4862"/>
                  </a:lnTo>
                  <a:lnTo>
                    <a:pt x="6835" y="4837"/>
                  </a:lnTo>
                  <a:lnTo>
                    <a:pt x="6960" y="4152"/>
                  </a:lnTo>
                  <a:lnTo>
                    <a:pt x="6621" y="4119"/>
                  </a:lnTo>
                  <a:lnTo>
                    <a:pt x="6446" y="3917"/>
                  </a:lnTo>
                  <a:lnTo>
                    <a:pt x="6333" y="3853"/>
                  </a:lnTo>
                  <a:lnTo>
                    <a:pt x="6151" y="3536"/>
                  </a:lnTo>
                  <a:lnTo>
                    <a:pt x="6022" y="3011"/>
                  </a:lnTo>
                  <a:lnTo>
                    <a:pt x="5955" y="2780"/>
                  </a:lnTo>
                  <a:lnTo>
                    <a:pt x="5912" y="2483"/>
                  </a:lnTo>
                  <a:lnTo>
                    <a:pt x="5773" y="2420"/>
                  </a:lnTo>
                  <a:lnTo>
                    <a:pt x="5745" y="2229"/>
                  </a:lnTo>
                  <a:lnTo>
                    <a:pt x="5773" y="1812"/>
                  </a:lnTo>
                  <a:lnTo>
                    <a:pt x="5745" y="1515"/>
                  </a:lnTo>
                  <a:lnTo>
                    <a:pt x="5710" y="1314"/>
                  </a:lnTo>
                  <a:lnTo>
                    <a:pt x="5660" y="1097"/>
                  </a:lnTo>
                  <a:lnTo>
                    <a:pt x="5584" y="998"/>
                  </a:lnTo>
                  <a:lnTo>
                    <a:pt x="5521" y="966"/>
                  </a:lnTo>
                  <a:lnTo>
                    <a:pt x="5424" y="936"/>
                  </a:lnTo>
                  <a:lnTo>
                    <a:pt x="4848" y="717"/>
                  </a:lnTo>
                  <a:lnTo>
                    <a:pt x="4240" y="438"/>
                  </a:lnTo>
                  <a:lnTo>
                    <a:pt x="3850" y="267"/>
                  </a:lnTo>
                  <a:lnTo>
                    <a:pt x="2583" y="0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7897320" y="4165920"/>
              <a:ext cx="69120" cy="61920"/>
            </a:xfrm>
            <a:custGeom>
              <a:avLst/>
              <a:gdLst/>
              <a:ahLst/>
              <a:rect l="l" t="t" r="r" b="b"/>
              <a:pathLst>
                <a:path w="904" h="929">
                  <a:moveTo>
                    <a:pt x="626" y="0"/>
                  </a:moveTo>
                  <a:lnTo>
                    <a:pt x="904" y="74"/>
                  </a:lnTo>
                  <a:lnTo>
                    <a:pt x="720" y="221"/>
                  </a:lnTo>
                  <a:lnTo>
                    <a:pt x="477" y="584"/>
                  </a:lnTo>
                  <a:lnTo>
                    <a:pt x="293" y="929"/>
                  </a:lnTo>
                  <a:lnTo>
                    <a:pt x="0" y="843"/>
                  </a:lnTo>
                  <a:lnTo>
                    <a:pt x="26" y="558"/>
                  </a:lnTo>
                  <a:lnTo>
                    <a:pt x="132" y="378"/>
                  </a:lnTo>
                  <a:lnTo>
                    <a:pt x="277" y="228"/>
                  </a:lnTo>
                  <a:lnTo>
                    <a:pt x="487" y="74"/>
                  </a:lnTo>
                  <a:lnTo>
                    <a:pt x="6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7896600" y="4177440"/>
              <a:ext cx="39600" cy="50760"/>
            </a:xfrm>
            <a:custGeom>
              <a:avLst/>
              <a:gdLst/>
              <a:ahLst/>
              <a:rect l="l" t="t" r="r" b="b"/>
              <a:pathLst>
                <a:path w="521" h="763">
                  <a:moveTo>
                    <a:pt x="402" y="0"/>
                  </a:moveTo>
                  <a:lnTo>
                    <a:pt x="249" y="172"/>
                  </a:lnTo>
                  <a:lnTo>
                    <a:pt x="152" y="366"/>
                  </a:lnTo>
                  <a:lnTo>
                    <a:pt x="327" y="378"/>
                  </a:lnTo>
                  <a:lnTo>
                    <a:pt x="521" y="212"/>
                  </a:lnTo>
                  <a:lnTo>
                    <a:pt x="378" y="535"/>
                  </a:lnTo>
                  <a:lnTo>
                    <a:pt x="327" y="763"/>
                  </a:lnTo>
                  <a:lnTo>
                    <a:pt x="0" y="763"/>
                  </a:lnTo>
                  <a:lnTo>
                    <a:pt x="11" y="574"/>
                  </a:lnTo>
                  <a:lnTo>
                    <a:pt x="77" y="322"/>
                  </a:lnTo>
                  <a:lnTo>
                    <a:pt x="207" y="172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7930800" y="3878640"/>
              <a:ext cx="114840" cy="259560"/>
            </a:xfrm>
            <a:custGeom>
              <a:avLst/>
              <a:gdLst/>
              <a:ahLst/>
              <a:rect l="l" t="t" r="r" b="b"/>
              <a:pathLst>
                <a:path w="1500" h="3892">
                  <a:moveTo>
                    <a:pt x="143" y="0"/>
                  </a:moveTo>
                  <a:lnTo>
                    <a:pt x="1500" y="561"/>
                  </a:lnTo>
                  <a:lnTo>
                    <a:pt x="1500" y="1046"/>
                  </a:lnTo>
                  <a:lnTo>
                    <a:pt x="1426" y="1553"/>
                  </a:lnTo>
                  <a:lnTo>
                    <a:pt x="1336" y="2078"/>
                  </a:lnTo>
                  <a:lnTo>
                    <a:pt x="1193" y="2760"/>
                  </a:lnTo>
                  <a:lnTo>
                    <a:pt x="1053" y="3259"/>
                  </a:lnTo>
                  <a:lnTo>
                    <a:pt x="815" y="3892"/>
                  </a:lnTo>
                  <a:lnTo>
                    <a:pt x="774" y="3293"/>
                  </a:lnTo>
                  <a:lnTo>
                    <a:pt x="642" y="2523"/>
                  </a:lnTo>
                  <a:lnTo>
                    <a:pt x="560" y="2041"/>
                  </a:lnTo>
                  <a:lnTo>
                    <a:pt x="488" y="1659"/>
                  </a:lnTo>
                  <a:lnTo>
                    <a:pt x="338" y="1336"/>
                  </a:lnTo>
                  <a:lnTo>
                    <a:pt x="172" y="995"/>
                  </a:lnTo>
                  <a:lnTo>
                    <a:pt x="43" y="705"/>
                  </a:lnTo>
                  <a:lnTo>
                    <a:pt x="0" y="497"/>
                  </a:lnTo>
                  <a:lnTo>
                    <a:pt x="0" y="301"/>
                  </a:lnTo>
                  <a:lnTo>
                    <a:pt x="66" y="121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7971120" y="3947400"/>
              <a:ext cx="37080" cy="192240"/>
            </a:xfrm>
            <a:custGeom>
              <a:avLst/>
              <a:gdLst/>
              <a:ahLst/>
              <a:rect l="l" t="t" r="r" b="b"/>
              <a:pathLst>
                <a:path w="486" h="2874">
                  <a:moveTo>
                    <a:pt x="194" y="0"/>
                  </a:moveTo>
                  <a:lnTo>
                    <a:pt x="51" y="126"/>
                  </a:lnTo>
                  <a:lnTo>
                    <a:pt x="139" y="455"/>
                  </a:lnTo>
                  <a:lnTo>
                    <a:pt x="0" y="806"/>
                  </a:lnTo>
                  <a:lnTo>
                    <a:pt x="81" y="1235"/>
                  </a:lnTo>
                  <a:lnTo>
                    <a:pt x="178" y="1853"/>
                  </a:lnTo>
                  <a:lnTo>
                    <a:pt x="265" y="2463"/>
                  </a:lnTo>
                  <a:lnTo>
                    <a:pt x="328" y="2874"/>
                  </a:lnTo>
                  <a:lnTo>
                    <a:pt x="486" y="2371"/>
                  </a:lnTo>
                  <a:lnTo>
                    <a:pt x="459" y="1973"/>
                  </a:lnTo>
                  <a:lnTo>
                    <a:pt x="440" y="1265"/>
                  </a:lnTo>
                  <a:lnTo>
                    <a:pt x="436" y="857"/>
                  </a:lnTo>
                  <a:lnTo>
                    <a:pt x="401" y="622"/>
                  </a:lnTo>
                  <a:lnTo>
                    <a:pt x="365" y="477"/>
                  </a:lnTo>
                  <a:lnTo>
                    <a:pt x="440" y="248"/>
                  </a:lnTo>
                  <a:lnTo>
                    <a:pt x="355" y="24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7971120" y="3948840"/>
              <a:ext cx="35280" cy="157320"/>
            </a:xfrm>
            <a:custGeom>
              <a:avLst/>
              <a:gdLst/>
              <a:ahLst/>
              <a:rect l="l" t="t" r="r" b="b"/>
              <a:pathLst>
                <a:path w="459" h="2362">
                  <a:moveTo>
                    <a:pt x="365" y="94"/>
                  </a:moveTo>
                  <a:lnTo>
                    <a:pt x="288" y="79"/>
                  </a:lnTo>
                  <a:lnTo>
                    <a:pt x="207" y="169"/>
                  </a:lnTo>
                  <a:lnTo>
                    <a:pt x="247" y="433"/>
                  </a:lnTo>
                  <a:lnTo>
                    <a:pt x="288" y="433"/>
                  </a:lnTo>
                  <a:lnTo>
                    <a:pt x="385" y="272"/>
                  </a:lnTo>
                  <a:lnTo>
                    <a:pt x="355" y="523"/>
                  </a:lnTo>
                  <a:lnTo>
                    <a:pt x="440" y="875"/>
                  </a:lnTo>
                  <a:lnTo>
                    <a:pt x="436" y="1701"/>
                  </a:lnTo>
                  <a:lnTo>
                    <a:pt x="459" y="2362"/>
                  </a:lnTo>
                  <a:lnTo>
                    <a:pt x="401" y="2000"/>
                  </a:lnTo>
                  <a:lnTo>
                    <a:pt x="365" y="1542"/>
                  </a:lnTo>
                  <a:lnTo>
                    <a:pt x="355" y="1097"/>
                  </a:lnTo>
                  <a:lnTo>
                    <a:pt x="339" y="848"/>
                  </a:lnTo>
                  <a:lnTo>
                    <a:pt x="265" y="613"/>
                  </a:lnTo>
                  <a:lnTo>
                    <a:pt x="247" y="940"/>
                  </a:lnTo>
                  <a:lnTo>
                    <a:pt x="178" y="1009"/>
                  </a:lnTo>
                  <a:lnTo>
                    <a:pt x="139" y="940"/>
                  </a:lnTo>
                  <a:lnTo>
                    <a:pt x="207" y="606"/>
                  </a:lnTo>
                  <a:lnTo>
                    <a:pt x="104" y="769"/>
                  </a:lnTo>
                  <a:lnTo>
                    <a:pt x="51" y="1085"/>
                  </a:lnTo>
                  <a:lnTo>
                    <a:pt x="0" y="797"/>
                  </a:lnTo>
                  <a:lnTo>
                    <a:pt x="139" y="446"/>
                  </a:lnTo>
                  <a:lnTo>
                    <a:pt x="69" y="117"/>
                  </a:lnTo>
                  <a:lnTo>
                    <a:pt x="171" y="0"/>
                  </a:lnTo>
                  <a:lnTo>
                    <a:pt x="339" y="15"/>
                  </a:lnTo>
                  <a:lnTo>
                    <a:pt x="365" y="94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7999200" y="3918600"/>
              <a:ext cx="46800" cy="182520"/>
            </a:xfrm>
            <a:custGeom>
              <a:avLst/>
              <a:gdLst/>
              <a:ahLst/>
              <a:rect l="l" t="t" r="r" b="b"/>
              <a:pathLst>
                <a:path w="620" h="2734">
                  <a:moveTo>
                    <a:pt x="94" y="1255"/>
                  </a:moveTo>
                  <a:lnTo>
                    <a:pt x="266" y="953"/>
                  </a:lnTo>
                  <a:lnTo>
                    <a:pt x="394" y="758"/>
                  </a:lnTo>
                  <a:lnTo>
                    <a:pt x="354" y="1204"/>
                  </a:lnTo>
                  <a:lnTo>
                    <a:pt x="266" y="1709"/>
                  </a:lnTo>
                  <a:lnTo>
                    <a:pt x="106" y="2410"/>
                  </a:lnTo>
                  <a:lnTo>
                    <a:pt x="130" y="2734"/>
                  </a:lnTo>
                  <a:lnTo>
                    <a:pt x="369" y="1831"/>
                  </a:lnTo>
                  <a:lnTo>
                    <a:pt x="525" y="1125"/>
                  </a:lnTo>
                  <a:lnTo>
                    <a:pt x="589" y="703"/>
                  </a:lnTo>
                  <a:lnTo>
                    <a:pt x="620" y="224"/>
                  </a:lnTo>
                  <a:lnTo>
                    <a:pt x="608" y="0"/>
                  </a:lnTo>
                  <a:lnTo>
                    <a:pt x="477" y="105"/>
                  </a:lnTo>
                  <a:lnTo>
                    <a:pt x="477" y="277"/>
                  </a:lnTo>
                  <a:lnTo>
                    <a:pt x="428" y="540"/>
                  </a:lnTo>
                  <a:lnTo>
                    <a:pt x="233" y="899"/>
                  </a:lnTo>
                  <a:lnTo>
                    <a:pt x="75" y="639"/>
                  </a:lnTo>
                  <a:lnTo>
                    <a:pt x="0" y="945"/>
                  </a:lnTo>
                  <a:lnTo>
                    <a:pt x="71" y="1140"/>
                  </a:lnTo>
                  <a:lnTo>
                    <a:pt x="94" y="12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7961400" y="3956040"/>
              <a:ext cx="20520" cy="42120"/>
            </a:xfrm>
            <a:custGeom>
              <a:avLst/>
              <a:gdLst/>
              <a:ahLst/>
              <a:rect l="l" t="t" r="r" b="b"/>
              <a:pathLst>
                <a:path w="268" h="627">
                  <a:moveTo>
                    <a:pt x="108" y="627"/>
                  </a:moveTo>
                  <a:lnTo>
                    <a:pt x="0" y="249"/>
                  </a:lnTo>
                  <a:lnTo>
                    <a:pt x="159" y="0"/>
                  </a:lnTo>
                  <a:lnTo>
                    <a:pt x="268" y="329"/>
                  </a:lnTo>
                  <a:lnTo>
                    <a:pt x="198" y="512"/>
                  </a:lnTo>
                  <a:lnTo>
                    <a:pt x="108" y="627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7930800" y="3878640"/>
              <a:ext cx="16200" cy="59760"/>
            </a:xfrm>
            <a:custGeom>
              <a:avLst/>
              <a:gdLst/>
              <a:ahLst/>
              <a:rect l="l" t="t" r="r" b="b"/>
              <a:pathLst>
                <a:path w="211" h="900">
                  <a:moveTo>
                    <a:pt x="211" y="549"/>
                  </a:moveTo>
                  <a:lnTo>
                    <a:pt x="161" y="681"/>
                  </a:lnTo>
                  <a:lnTo>
                    <a:pt x="132" y="780"/>
                  </a:lnTo>
                  <a:lnTo>
                    <a:pt x="119" y="900"/>
                  </a:lnTo>
                  <a:lnTo>
                    <a:pt x="50" y="705"/>
                  </a:lnTo>
                  <a:lnTo>
                    <a:pt x="0" y="561"/>
                  </a:lnTo>
                  <a:lnTo>
                    <a:pt x="0" y="354"/>
                  </a:lnTo>
                  <a:lnTo>
                    <a:pt x="43" y="209"/>
                  </a:lnTo>
                  <a:lnTo>
                    <a:pt x="96" y="66"/>
                  </a:lnTo>
                  <a:lnTo>
                    <a:pt x="143" y="0"/>
                  </a:lnTo>
                  <a:lnTo>
                    <a:pt x="182" y="323"/>
                  </a:lnTo>
                  <a:lnTo>
                    <a:pt x="211" y="54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7925400" y="4284360"/>
              <a:ext cx="259560" cy="128160"/>
            </a:xfrm>
            <a:custGeom>
              <a:avLst/>
              <a:gdLst/>
              <a:ahLst/>
              <a:rect l="l" t="t" r="r" b="b"/>
              <a:pathLst>
                <a:path w="3405" h="1922">
                  <a:moveTo>
                    <a:pt x="2938" y="0"/>
                  </a:moveTo>
                  <a:lnTo>
                    <a:pt x="2852" y="59"/>
                  </a:lnTo>
                  <a:lnTo>
                    <a:pt x="2017" y="375"/>
                  </a:lnTo>
                  <a:lnTo>
                    <a:pt x="1040" y="587"/>
                  </a:lnTo>
                  <a:lnTo>
                    <a:pt x="581" y="949"/>
                  </a:lnTo>
                  <a:lnTo>
                    <a:pt x="565" y="1028"/>
                  </a:lnTo>
                  <a:lnTo>
                    <a:pt x="191" y="1074"/>
                  </a:lnTo>
                  <a:lnTo>
                    <a:pt x="0" y="1173"/>
                  </a:lnTo>
                  <a:lnTo>
                    <a:pt x="0" y="1274"/>
                  </a:lnTo>
                  <a:lnTo>
                    <a:pt x="1980" y="1922"/>
                  </a:lnTo>
                  <a:lnTo>
                    <a:pt x="2246" y="1371"/>
                  </a:lnTo>
                  <a:lnTo>
                    <a:pt x="3405" y="501"/>
                  </a:lnTo>
                  <a:lnTo>
                    <a:pt x="3331" y="241"/>
                  </a:lnTo>
                  <a:lnTo>
                    <a:pt x="3094" y="0"/>
                  </a:lnTo>
                  <a:lnTo>
                    <a:pt x="2938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7971120" y="4353840"/>
              <a:ext cx="23040" cy="11160"/>
            </a:xfrm>
            <a:custGeom>
              <a:avLst/>
              <a:gdLst/>
              <a:ahLst/>
              <a:rect l="l" t="t" r="r" b="b"/>
              <a:pathLst>
                <a:path w="308" h="163">
                  <a:moveTo>
                    <a:pt x="34" y="51"/>
                  </a:moveTo>
                  <a:lnTo>
                    <a:pt x="0" y="81"/>
                  </a:lnTo>
                  <a:lnTo>
                    <a:pt x="4" y="123"/>
                  </a:lnTo>
                  <a:lnTo>
                    <a:pt x="31" y="143"/>
                  </a:lnTo>
                  <a:lnTo>
                    <a:pt x="244" y="163"/>
                  </a:lnTo>
                  <a:lnTo>
                    <a:pt x="297" y="132"/>
                  </a:lnTo>
                  <a:lnTo>
                    <a:pt x="308" y="77"/>
                  </a:lnTo>
                  <a:lnTo>
                    <a:pt x="279" y="18"/>
                  </a:lnTo>
                  <a:lnTo>
                    <a:pt x="226" y="0"/>
                  </a:lnTo>
                  <a:lnTo>
                    <a:pt x="34" y="5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7926120" y="4360680"/>
              <a:ext cx="24120" cy="9360"/>
            </a:xfrm>
            <a:custGeom>
              <a:avLst/>
              <a:gdLst/>
              <a:ahLst/>
              <a:rect l="l" t="t" r="r" b="b"/>
              <a:pathLst>
                <a:path w="319" h="145">
                  <a:moveTo>
                    <a:pt x="0" y="111"/>
                  </a:moveTo>
                  <a:lnTo>
                    <a:pt x="13" y="40"/>
                  </a:lnTo>
                  <a:lnTo>
                    <a:pt x="109" y="0"/>
                  </a:lnTo>
                  <a:lnTo>
                    <a:pt x="209" y="0"/>
                  </a:lnTo>
                  <a:lnTo>
                    <a:pt x="294" y="33"/>
                  </a:lnTo>
                  <a:lnTo>
                    <a:pt x="319" y="99"/>
                  </a:lnTo>
                  <a:lnTo>
                    <a:pt x="308" y="134"/>
                  </a:lnTo>
                  <a:lnTo>
                    <a:pt x="282" y="145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7830000" y="4218120"/>
              <a:ext cx="135000" cy="79560"/>
            </a:xfrm>
            <a:custGeom>
              <a:avLst/>
              <a:gdLst/>
              <a:ahLst/>
              <a:rect l="l" t="t" r="r" b="b"/>
              <a:pathLst>
                <a:path w="1763" h="1187">
                  <a:moveTo>
                    <a:pt x="0" y="653"/>
                  </a:moveTo>
                  <a:lnTo>
                    <a:pt x="115" y="226"/>
                  </a:lnTo>
                  <a:lnTo>
                    <a:pt x="569" y="0"/>
                  </a:lnTo>
                  <a:lnTo>
                    <a:pt x="827" y="131"/>
                  </a:lnTo>
                  <a:lnTo>
                    <a:pt x="1193" y="157"/>
                  </a:lnTo>
                  <a:lnTo>
                    <a:pt x="1268" y="226"/>
                  </a:lnTo>
                  <a:lnTo>
                    <a:pt x="1290" y="291"/>
                  </a:lnTo>
                  <a:lnTo>
                    <a:pt x="1464" y="376"/>
                  </a:lnTo>
                  <a:lnTo>
                    <a:pt x="1572" y="458"/>
                  </a:lnTo>
                  <a:lnTo>
                    <a:pt x="1624" y="466"/>
                  </a:lnTo>
                  <a:lnTo>
                    <a:pt x="1763" y="553"/>
                  </a:lnTo>
                  <a:lnTo>
                    <a:pt x="1756" y="629"/>
                  </a:lnTo>
                  <a:lnTo>
                    <a:pt x="1585" y="783"/>
                  </a:lnTo>
                  <a:lnTo>
                    <a:pt x="1597" y="911"/>
                  </a:lnTo>
                  <a:lnTo>
                    <a:pt x="1657" y="917"/>
                  </a:lnTo>
                  <a:lnTo>
                    <a:pt x="1659" y="1035"/>
                  </a:lnTo>
                  <a:lnTo>
                    <a:pt x="1488" y="1176"/>
                  </a:lnTo>
                  <a:lnTo>
                    <a:pt x="1027" y="1187"/>
                  </a:lnTo>
                  <a:lnTo>
                    <a:pt x="0" y="65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7791480" y="4254840"/>
              <a:ext cx="103320" cy="65160"/>
            </a:xfrm>
            <a:custGeom>
              <a:avLst/>
              <a:gdLst/>
              <a:ahLst/>
              <a:rect l="l" t="t" r="r" b="b"/>
              <a:pathLst>
                <a:path w="1351" h="980">
                  <a:moveTo>
                    <a:pt x="0" y="393"/>
                  </a:moveTo>
                  <a:lnTo>
                    <a:pt x="4" y="296"/>
                  </a:lnTo>
                  <a:lnTo>
                    <a:pt x="16" y="176"/>
                  </a:lnTo>
                  <a:lnTo>
                    <a:pt x="66" y="17"/>
                  </a:lnTo>
                  <a:lnTo>
                    <a:pt x="389" y="5"/>
                  </a:lnTo>
                  <a:lnTo>
                    <a:pt x="514" y="0"/>
                  </a:lnTo>
                  <a:lnTo>
                    <a:pt x="837" y="31"/>
                  </a:lnTo>
                  <a:lnTo>
                    <a:pt x="998" y="81"/>
                  </a:lnTo>
                  <a:lnTo>
                    <a:pt x="1095" y="145"/>
                  </a:lnTo>
                  <a:lnTo>
                    <a:pt x="1249" y="259"/>
                  </a:lnTo>
                  <a:lnTo>
                    <a:pt x="1330" y="409"/>
                  </a:lnTo>
                  <a:lnTo>
                    <a:pt x="1351" y="563"/>
                  </a:lnTo>
                  <a:lnTo>
                    <a:pt x="1351" y="708"/>
                  </a:lnTo>
                  <a:lnTo>
                    <a:pt x="1330" y="846"/>
                  </a:lnTo>
                  <a:lnTo>
                    <a:pt x="1270" y="980"/>
                  </a:lnTo>
                  <a:lnTo>
                    <a:pt x="1240" y="773"/>
                  </a:lnTo>
                  <a:lnTo>
                    <a:pt x="1185" y="628"/>
                  </a:lnTo>
                  <a:lnTo>
                    <a:pt x="1072" y="487"/>
                  </a:lnTo>
                  <a:lnTo>
                    <a:pt x="945" y="369"/>
                  </a:lnTo>
                  <a:lnTo>
                    <a:pt x="756" y="316"/>
                  </a:lnTo>
                  <a:lnTo>
                    <a:pt x="589" y="294"/>
                  </a:lnTo>
                  <a:lnTo>
                    <a:pt x="362" y="296"/>
                  </a:lnTo>
                  <a:lnTo>
                    <a:pt x="0" y="3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8214120" y="3720960"/>
              <a:ext cx="298800" cy="215640"/>
            </a:xfrm>
            <a:custGeom>
              <a:avLst/>
              <a:gdLst/>
              <a:ahLst/>
              <a:rect l="l" t="t" r="r" b="b"/>
              <a:pathLst>
                <a:path w="3911" h="3232">
                  <a:moveTo>
                    <a:pt x="426" y="1795"/>
                  </a:moveTo>
                  <a:lnTo>
                    <a:pt x="180" y="1718"/>
                  </a:lnTo>
                  <a:lnTo>
                    <a:pt x="37" y="1609"/>
                  </a:lnTo>
                  <a:lnTo>
                    <a:pt x="0" y="1478"/>
                  </a:lnTo>
                  <a:lnTo>
                    <a:pt x="26" y="1333"/>
                  </a:lnTo>
                  <a:lnTo>
                    <a:pt x="37" y="1160"/>
                  </a:lnTo>
                  <a:lnTo>
                    <a:pt x="120" y="995"/>
                  </a:lnTo>
                  <a:lnTo>
                    <a:pt x="237" y="905"/>
                  </a:lnTo>
                  <a:lnTo>
                    <a:pt x="346" y="850"/>
                  </a:lnTo>
                  <a:lnTo>
                    <a:pt x="386" y="749"/>
                  </a:lnTo>
                  <a:lnTo>
                    <a:pt x="459" y="689"/>
                  </a:lnTo>
                  <a:lnTo>
                    <a:pt x="614" y="659"/>
                  </a:lnTo>
                  <a:lnTo>
                    <a:pt x="777" y="433"/>
                  </a:lnTo>
                  <a:lnTo>
                    <a:pt x="1035" y="292"/>
                  </a:lnTo>
                  <a:lnTo>
                    <a:pt x="1300" y="268"/>
                  </a:lnTo>
                  <a:lnTo>
                    <a:pt x="1515" y="90"/>
                  </a:lnTo>
                  <a:lnTo>
                    <a:pt x="1707" y="57"/>
                  </a:lnTo>
                  <a:lnTo>
                    <a:pt x="1914" y="65"/>
                  </a:lnTo>
                  <a:lnTo>
                    <a:pt x="2221" y="0"/>
                  </a:lnTo>
                  <a:lnTo>
                    <a:pt x="2474" y="39"/>
                  </a:lnTo>
                  <a:lnTo>
                    <a:pt x="2624" y="79"/>
                  </a:lnTo>
                  <a:lnTo>
                    <a:pt x="2795" y="90"/>
                  </a:lnTo>
                  <a:lnTo>
                    <a:pt x="2933" y="178"/>
                  </a:lnTo>
                  <a:lnTo>
                    <a:pt x="3048" y="281"/>
                  </a:lnTo>
                  <a:lnTo>
                    <a:pt x="3254" y="332"/>
                  </a:lnTo>
                  <a:lnTo>
                    <a:pt x="3440" y="468"/>
                  </a:lnTo>
                  <a:lnTo>
                    <a:pt x="3659" y="714"/>
                  </a:lnTo>
                  <a:lnTo>
                    <a:pt x="3788" y="943"/>
                  </a:lnTo>
                  <a:lnTo>
                    <a:pt x="3880" y="1259"/>
                  </a:lnTo>
                  <a:lnTo>
                    <a:pt x="3911" y="1609"/>
                  </a:lnTo>
                  <a:lnTo>
                    <a:pt x="3850" y="1936"/>
                  </a:lnTo>
                  <a:lnTo>
                    <a:pt x="3647" y="2254"/>
                  </a:lnTo>
                  <a:lnTo>
                    <a:pt x="3331" y="2704"/>
                  </a:lnTo>
                  <a:lnTo>
                    <a:pt x="2819" y="3232"/>
                  </a:lnTo>
                  <a:lnTo>
                    <a:pt x="1349" y="2428"/>
                  </a:lnTo>
                  <a:lnTo>
                    <a:pt x="426" y="1795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8231400" y="3828240"/>
              <a:ext cx="191880" cy="189720"/>
            </a:xfrm>
            <a:custGeom>
              <a:avLst/>
              <a:gdLst/>
              <a:ahLst/>
              <a:rect l="l" t="t" r="r" b="b"/>
              <a:pathLst>
                <a:path w="2514" h="2843">
                  <a:moveTo>
                    <a:pt x="1734" y="570"/>
                  </a:moveTo>
                  <a:lnTo>
                    <a:pt x="1644" y="621"/>
                  </a:lnTo>
                  <a:lnTo>
                    <a:pt x="1556" y="744"/>
                  </a:lnTo>
                  <a:lnTo>
                    <a:pt x="1262" y="645"/>
                  </a:lnTo>
                  <a:lnTo>
                    <a:pt x="840" y="232"/>
                  </a:lnTo>
                  <a:lnTo>
                    <a:pt x="524" y="146"/>
                  </a:lnTo>
                  <a:lnTo>
                    <a:pt x="409" y="0"/>
                  </a:lnTo>
                  <a:lnTo>
                    <a:pt x="330" y="41"/>
                  </a:lnTo>
                  <a:lnTo>
                    <a:pt x="242" y="159"/>
                  </a:lnTo>
                  <a:lnTo>
                    <a:pt x="156" y="645"/>
                  </a:lnTo>
                  <a:lnTo>
                    <a:pt x="178" y="744"/>
                  </a:lnTo>
                  <a:lnTo>
                    <a:pt x="242" y="854"/>
                  </a:lnTo>
                  <a:lnTo>
                    <a:pt x="264" y="984"/>
                  </a:lnTo>
                  <a:lnTo>
                    <a:pt x="264" y="1125"/>
                  </a:lnTo>
                  <a:lnTo>
                    <a:pt x="229" y="1252"/>
                  </a:lnTo>
                  <a:lnTo>
                    <a:pt x="0" y="1713"/>
                  </a:lnTo>
                  <a:lnTo>
                    <a:pt x="24" y="1790"/>
                  </a:lnTo>
                  <a:lnTo>
                    <a:pt x="303" y="1773"/>
                  </a:lnTo>
                  <a:lnTo>
                    <a:pt x="384" y="1979"/>
                  </a:lnTo>
                  <a:lnTo>
                    <a:pt x="460" y="2003"/>
                  </a:lnTo>
                  <a:lnTo>
                    <a:pt x="547" y="2170"/>
                  </a:lnTo>
                  <a:lnTo>
                    <a:pt x="483" y="2267"/>
                  </a:lnTo>
                  <a:lnTo>
                    <a:pt x="483" y="2298"/>
                  </a:lnTo>
                  <a:lnTo>
                    <a:pt x="596" y="2419"/>
                  </a:lnTo>
                  <a:lnTo>
                    <a:pt x="596" y="2504"/>
                  </a:lnTo>
                  <a:lnTo>
                    <a:pt x="561" y="2579"/>
                  </a:lnTo>
                  <a:lnTo>
                    <a:pt x="572" y="2698"/>
                  </a:lnTo>
                  <a:lnTo>
                    <a:pt x="622" y="2735"/>
                  </a:lnTo>
                  <a:lnTo>
                    <a:pt x="723" y="2764"/>
                  </a:lnTo>
                  <a:lnTo>
                    <a:pt x="1402" y="2698"/>
                  </a:lnTo>
                  <a:lnTo>
                    <a:pt x="1684" y="2843"/>
                  </a:lnTo>
                  <a:lnTo>
                    <a:pt x="1824" y="2612"/>
                  </a:lnTo>
                  <a:lnTo>
                    <a:pt x="1963" y="2483"/>
                  </a:lnTo>
                  <a:lnTo>
                    <a:pt x="2209" y="2232"/>
                  </a:lnTo>
                  <a:lnTo>
                    <a:pt x="2514" y="1979"/>
                  </a:lnTo>
                  <a:lnTo>
                    <a:pt x="2260" y="1162"/>
                  </a:lnTo>
                  <a:lnTo>
                    <a:pt x="2165" y="667"/>
                  </a:lnTo>
                  <a:lnTo>
                    <a:pt x="1951" y="524"/>
                  </a:lnTo>
                  <a:lnTo>
                    <a:pt x="1734" y="57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8346600" y="3921480"/>
              <a:ext cx="24840" cy="21600"/>
            </a:xfrm>
            <a:custGeom>
              <a:avLst/>
              <a:gdLst/>
              <a:ahLst/>
              <a:rect l="l" t="t" r="r" b="b"/>
              <a:pathLst>
                <a:path w="334" h="330">
                  <a:moveTo>
                    <a:pt x="230" y="0"/>
                  </a:moveTo>
                  <a:lnTo>
                    <a:pt x="155" y="20"/>
                  </a:lnTo>
                  <a:lnTo>
                    <a:pt x="65" y="47"/>
                  </a:lnTo>
                  <a:lnTo>
                    <a:pt x="0" y="130"/>
                  </a:lnTo>
                  <a:lnTo>
                    <a:pt x="0" y="231"/>
                  </a:lnTo>
                  <a:lnTo>
                    <a:pt x="52" y="321"/>
                  </a:lnTo>
                  <a:lnTo>
                    <a:pt x="155" y="330"/>
                  </a:lnTo>
                  <a:lnTo>
                    <a:pt x="281" y="291"/>
                  </a:lnTo>
                  <a:lnTo>
                    <a:pt x="334" y="215"/>
                  </a:lnTo>
                  <a:lnTo>
                    <a:pt x="334" y="104"/>
                  </a:lnTo>
                  <a:lnTo>
                    <a:pt x="291" y="47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8268120" y="3964680"/>
              <a:ext cx="13320" cy="14760"/>
            </a:xfrm>
            <a:custGeom>
              <a:avLst/>
              <a:gdLst/>
              <a:ahLst/>
              <a:rect l="l" t="t" r="r" b="b"/>
              <a:pathLst>
                <a:path w="179" h="227">
                  <a:moveTo>
                    <a:pt x="0" y="137"/>
                  </a:moveTo>
                  <a:lnTo>
                    <a:pt x="0" y="227"/>
                  </a:lnTo>
                  <a:lnTo>
                    <a:pt x="168" y="130"/>
                  </a:lnTo>
                  <a:lnTo>
                    <a:pt x="179" y="0"/>
                  </a:lnTo>
                  <a:lnTo>
                    <a:pt x="51" y="84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8265960" y="3959280"/>
              <a:ext cx="18360" cy="14400"/>
            </a:xfrm>
            <a:custGeom>
              <a:avLst/>
              <a:gdLst/>
              <a:ahLst/>
              <a:rect l="l" t="t" r="r" b="b"/>
              <a:pathLst>
                <a:path w="242" h="213">
                  <a:moveTo>
                    <a:pt x="0" y="51"/>
                  </a:moveTo>
                  <a:lnTo>
                    <a:pt x="64" y="213"/>
                  </a:lnTo>
                  <a:lnTo>
                    <a:pt x="203" y="152"/>
                  </a:lnTo>
                  <a:lnTo>
                    <a:pt x="242" y="39"/>
                  </a:lnTo>
                  <a:lnTo>
                    <a:pt x="124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8248680" y="3880080"/>
              <a:ext cx="20520" cy="15840"/>
            </a:xfrm>
            <a:custGeom>
              <a:avLst/>
              <a:gdLst/>
              <a:ahLst/>
              <a:rect l="l" t="t" r="r" b="b"/>
              <a:pathLst>
                <a:path w="270" h="242">
                  <a:moveTo>
                    <a:pt x="136" y="40"/>
                  </a:moveTo>
                  <a:lnTo>
                    <a:pt x="270" y="242"/>
                  </a:lnTo>
                  <a:lnTo>
                    <a:pt x="28" y="102"/>
                  </a:lnTo>
                  <a:lnTo>
                    <a:pt x="0" y="28"/>
                  </a:lnTo>
                  <a:lnTo>
                    <a:pt x="55" y="0"/>
                  </a:lnTo>
                  <a:lnTo>
                    <a:pt x="136" y="40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7492680" y="3746160"/>
              <a:ext cx="249840" cy="149400"/>
            </a:xfrm>
            <a:custGeom>
              <a:avLst/>
              <a:gdLst/>
              <a:ahLst/>
              <a:rect l="l" t="t" r="r" b="b"/>
              <a:pathLst>
                <a:path w="3274" h="2237">
                  <a:moveTo>
                    <a:pt x="19" y="2140"/>
                  </a:moveTo>
                  <a:lnTo>
                    <a:pt x="35" y="1930"/>
                  </a:lnTo>
                  <a:lnTo>
                    <a:pt x="0" y="1342"/>
                  </a:lnTo>
                  <a:lnTo>
                    <a:pt x="61" y="1035"/>
                  </a:lnTo>
                  <a:lnTo>
                    <a:pt x="229" y="760"/>
                  </a:lnTo>
                  <a:lnTo>
                    <a:pt x="397" y="468"/>
                  </a:lnTo>
                  <a:lnTo>
                    <a:pt x="740" y="226"/>
                  </a:lnTo>
                  <a:lnTo>
                    <a:pt x="1169" y="77"/>
                  </a:lnTo>
                  <a:lnTo>
                    <a:pt x="1511" y="7"/>
                  </a:lnTo>
                  <a:lnTo>
                    <a:pt x="1894" y="0"/>
                  </a:lnTo>
                  <a:lnTo>
                    <a:pt x="2338" y="127"/>
                  </a:lnTo>
                  <a:lnTo>
                    <a:pt x="2654" y="296"/>
                  </a:lnTo>
                  <a:lnTo>
                    <a:pt x="2922" y="487"/>
                  </a:lnTo>
                  <a:lnTo>
                    <a:pt x="3103" y="549"/>
                  </a:lnTo>
                  <a:lnTo>
                    <a:pt x="3252" y="694"/>
                  </a:lnTo>
                  <a:lnTo>
                    <a:pt x="3274" y="844"/>
                  </a:lnTo>
                  <a:lnTo>
                    <a:pt x="3223" y="945"/>
                  </a:lnTo>
                  <a:lnTo>
                    <a:pt x="3078" y="973"/>
                  </a:lnTo>
                  <a:lnTo>
                    <a:pt x="136" y="2237"/>
                  </a:lnTo>
                  <a:lnTo>
                    <a:pt x="19" y="2140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7484040" y="3795840"/>
              <a:ext cx="267480" cy="206640"/>
            </a:xfrm>
            <a:custGeom>
              <a:avLst/>
              <a:gdLst/>
              <a:ahLst/>
              <a:rect l="l" t="t" r="r" b="b"/>
              <a:pathLst>
                <a:path w="3504" h="3096">
                  <a:moveTo>
                    <a:pt x="0" y="1865"/>
                  </a:moveTo>
                  <a:lnTo>
                    <a:pt x="345" y="1955"/>
                  </a:lnTo>
                  <a:lnTo>
                    <a:pt x="710" y="2087"/>
                  </a:lnTo>
                  <a:lnTo>
                    <a:pt x="1097" y="2344"/>
                  </a:lnTo>
                  <a:lnTo>
                    <a:pt x="1365" y="2591"/>
                  </a:lnTo>
                  <a:lnTo>
                    <a:pt x="1696" y="2953"/>
                  </a:lnTo>
                  <a:lnTo>
                    <a:pt x="2865" y="3096"/>
                  </a:lnTo>
                  <a:lnTo>
                    <a:pt x="2921" y="3023"/>
                  </a:lnTo>
                  <a:lnTo>
                    <a:pt x="2921" y="2889"/>
                  </a:lnTo>
                  <a:lnTo>
                    <a:pt x="2949" y="2817"/>
                  </a:lnTo>
                  <a:lnTo>
                    <a:pt x="3024" y="2740"/>
                  </a:lnTo>
                  <a:lnTo>
                    <a:pt x="3017" y="2600"/>
                  </a:lnTo>
                  <a:lnTo>
                    <a:pt x="2826" y="2469"/>
                  </a:lnTo>
                  <a:lnTo>
                    <a:pt x="3032" y="2419"/>
                  </a:lnTo>
                  <a:lnTo>
                    <a:pt x="3098" y="2213"/>
                  </a:lnTo>
                  <a:lnTo>
                    <a:pt x="3173" y="2167"/>
                  </a:lnTo>
                  <a:lnTo>
                    <a:pt x="3362" y="2177"/>
                  </a:lnTo>
                  <a:lnTo>
                    <a:pt x="3472" y="2158"/>
                  </a:lnTo>
                  <a:lnTo>
                    <a:pt x="3504" y="2118"/>
                  </a:lnTo>
                  <a:lnTo>
                    <a:pt x="3494" y="2068"/>
                  </a:lnTo>
                  <a:lnTo>
                    <a:pt x="3223" y="1378"/>
                  </a:lnTo>
                  <a:lnTo>
                    <a:pt x="3248" y="1303"/>
                  </a:lnTo>
                  <a:lnTo>
                    <a:pt x="3310" y="1222"/>
                  </a:lnTo>
                  <a:lnTo>
                    <a:pt x="3278" y="826"/>
                  </a:lnTo>
                  <a:lnTo>
                    <a:pt x="3239" y="538"/>
                  </a:lnTo>
                  <a:lnTo>
                    <a:pt x="3149" y="242"/>
                  </a:lnTo>
                  <a:lnTo>
                    <a:pt x="2296" y="0"/>
                  </a:lnTo>
                  <a:lnTo>
                    <a:pt x="83" y="1630"/>
                  </a:lnTo>
                  <a:lnTo>
                    <a:pt x="0" y="1865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7712640" y="3895560"/>
              <a:ext cx="9360" cy="82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122" y="0"/>
                  </a:moveTo>
                  <a:lnTo>
                    <a:pt x="71" y="129"/>
                  </a:lnTo>
                  <a:lnTo>
                    <a:pt x="0" y="2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7997400" y="4149000"/>
              <a:ext cx="129960" cy="49680"/>
            </a:xfrm>
            <a:custGeom>
              <a:avLst/>
              <a:gdLst/>
              <a:ahLst/>
              <a:rect l="l" t="t" r="r" b="b"/>
              <a:pathLst>
                <a:path w="1699" h="744">
                  <a:moveTo>
                    <a:pt x="0" y="80"/>
                  </a:moveTo>
                  <a:lnTo>
                    <a:pt x="42" y="0"/>
                  </a:lnTo>
                  <a:lnTo>
                    <a:pt x="814" y="300"/>
                  </a:lnTo>
                  <a:lnTo>
                    <a:pt x="1517" y="616"/>
                  </a:lnTo>
                  <a:lnTo>
                    <a:pt x="1699" y="744"/>
                  </a:lnTo>
                  <a:lnTo>
                    <a:pt x="1460" y="708"/>
                  </a:lnTo>
                  <a:lnTo>
                    <a:pt x="206" y="15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7948800" y="4158000"/>
              <a:ext cx="152640" cy="82080"/>
            </a:xfrm>
            <a:custGeom>
              <a:avLst/>
              <a:gdLst/>
              <a:ahLst/>
              <a:rect l="l" t="t" r="r" b="b"/>
              <a:pathLst>
                <a:path w="2003" h="1230">
                  <a:moveTo>
                    <a:pt x="80" y="253"/>
                  </a:moveTo>
                  <a:lnTo>
                    <a:pt x="278" y="218"/>
                  </a:lnTo>
                  <a:lnTo>
                    <a:pt x="477" y="195"/>
                  </a:lnTo>
                  <a:lnTo>
                    <a:pt x="945" y="11"/>
                  </a:lnTo>
                  <a:lnTo>
                    <a:pt x="1262" y="11"/>
                  </a:lnTo>
                  <a:lnTo>
                    <a:pt x="1646" y="0"/>
                  </a:lnTo>
                  <a:lnTo>
                    <a:pt x="2003" y="345"/>
                  </a:lnTo>
                  <a:lnTo>
                    <a:pt x="1973" y="393"/>
                  </a:lnTo>
                  <a:lnTo>
                    <a:pt x="1941" y="380"/>
                  </a:lnTo>
                  <a:lnTo>
                    <a:pt x="1927" y="472"/>
                  </a:lnTo>
                  <a:lnTo>
                    <a:pt x="1869" y="534"/>
                  </a:lnTo>
                  <a:lnTo>
                    <a:pt x="1578" y="725"/>
                  </a:lnTo>
                  <a:lnTo>
                    <a:pt x="1491" y="861"/>
                  </a:lnTo>
                  <a:lnTo>
                    <a:pt x="1297" y="991"/>
                  </a:lnTo>
                  <a:lnTo>
                    <a:pt x="1229" y="1112"/>
                  </a:lnTo>
                  <a:lnTo>
                    <a:pt x="926" y="1221"/>
                  </a:lnTo>
                  <a:lnTo>
                    <a:pt x="848" y="1230"/>
                  </a:lnTo>
                  <a:lnTo>
                    <a:pt x="539" y="1158"/>
                  </a:lnTo>
                  <a:lnTo>
                    <a:pt x="34" y="855"/>
                  </a:lnTo>
                  <a:lnTo>
                    <a:pt x="0" y="419"/>
                  </a:lnTo>
                  <a:lnTo>
                    <a:pt x="80" y="25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7930800" y="3768480"/>
              <a:ext cx="173880" cy="180000"/>
            </a:xfrm>
            <a:custGeom>
              <a:avLst/>
              <a:gdLst/>
              <a:ahLst/>
              <a:rect l="l" t="t" r="r" b="b"/>
              <a:pathLst>
                <a:path w="2284" h="2689">
                  <a:moveTo>
                    <a:pt x="166" y="357"/>
                  </a:moveTo>
                  <a:lnTo>
                    <a:pt x="55" y="468"/>
                  </a:lnTo>
                  <a:lnTo>
                    <a:pt x="0" y="597"/>
                  </a:lnTo>
                  <a:lnTo>
                    <a:pt x="0" y="740"/>
                  </a:lnTo>
                  <a:lnTo>
                    <a:pt x="14" y="869"/>
                  </a:lnTo>
                  <a:lnTo>
                    <a:pt x="75" y="1095"/>
                  </a:lnTo>
                  <a:lnTo>
                    <a:pt x="187" y="1190"/>
                  </a:lnTo>
                  <a:lnTo>
                    <a:pt x="148" y="1552"/>
                  </a:lnTo>
                  <a:lnTo>
                    <a:pt x="172" y="1731"/>
                  </a:lnTo>
                  <a:lnTo>
                    <a:pt x="247" y="2225"/>
                  </a:lnTo>
                  <a:lnTo>
                    <a:pt x="326" y="2329"/>
                  </a:lnTo>
                  <a:lnTo>
                    <a:pt x="479" y="2513"/>
                  </a:lnTo>
                  <a:lnTo>
                    <a:pt x="715" y="2689"/>
                  </a:lnTo>
                  <a:lnTo>
                    <a:pt x="1117" y="2548"/>
                  </a:lnTo>
                  <a:lnTo>
                    <a:pt x="1238" y="2467"/>
                  </a:lnTo>
                  <a:lnTo>
                    <a:pt x="1399" y="2357"/>
                  </a:lnTo>
                  <a:lnTo>
                    <a:pt x="1473" y="2252"/>
                  </a:lnTo>
                  <a:lnTo>
                    <a:pt x="1567" y="2201"/>
                  </a:lnTo>
                  <a:lnTo>
                    <a:pt x="1858" y="1681"/>
                  </a:lnTo>
                  <a:lnTo>
                    <a:pt x="1971" y="1690"/>
                  </a:lnTo>
                  <a:lnTo>
                    <a:pt x="2040" y="1607"/>
                  </a:lnTo>
                  <a:lnTo>
                    <a:pt x="2157" y="1439"/>
                  </a:lnTo>
                  <a:lnTo>
                    <a:pt x="2199" y="1298"/>
                  </a:lnTo>
                  <a:lnTo>
                    <a:pt x="2199" y="1190"/>
                  </a:lnTo>
                  <a:lnTo>
                    <a:pt x="2284" y="423"/>
                  </a:lnTo>
                  <a:lnTo>
                    <a:pt x="987" y="0"/>
                  </a:lnTo>
                  <a:lnTo>
                    <a:pt x="341" y="263"/>
                  </a:lnTo>
                  <a:lnTo>
                    <a:pt x="166" y="357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7979040" y="3819240"/>
              <a:ext cx="39600" cy="39600"/>
            </a:xfrm>
            <a:custGeom>
              <a:avLst/>
              <a:gdLst/>
              <a:ahLst/>
              <a:rect l="l" t="t" r="r" b="b"/>
              <a:pathLst>
                <a:path w="516" h="592">
                  <a:moveTo>
                    <a:pt x="0" y="0"/>
                  </a:moveTo>
                  <a:lnTo>
                    <a:pt x="230" y="592"/>
                  </a:lnTo>
                  <a:lnTo>
                    <a:pt x="351" y="521"/>
                  </a:lnTo>
                  <a:lnTo>
                    <a:pt x="424" y="449"/>
                  </a:lnTo>
                  <a:lnTo>
                    <a:pt x="481" y="357"/>
                  </a:lnTo>
                  <a:lnTo>
                    <a:pt x="516" y="246"/>
                  </a:lnTo>
                  <a:lnTo>
                    <a:pt x="445" y="145"/>
                  </a:lnTo>
                  <a:lnTo>
                    <a:pt x="288" y="46"/>
                  </a:lnTo>
                  <a:lnTo>
                    <a:pt x="13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8048880" y="3841200"/>
              <a:ext cx="30240" cy="31320"/>
            </a:xfrm>
            <a:custGeom>
              <a:avLst/>
              <a:gdLst/>
              <a:ahLst/>
              <a:rect l="l" t="t" r="r" b="b"/>
              <a:pathLst>
                <a:path w="404" h="473">
                  <a:moveTo>
                    <a:pt x="0" y="0"/>
                  </a:moveTo>
                  <a:lnTo>
                    <a:pt x="231" y="473"/>
                  </a:lnTo>
                  <a:lnTo>
                    <a:pt x="303" y="376"/>
                  </a:lnTo>
                  <a:lnTo>
                    <a:pt x="393" y="242"/>
                  </a:lnTo>
                  <a:lnTo>
                    <a:pt x="404" y="146"/>
                  </a:lnTo>
                  <a:lnTo>
                    <a:pt x="171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7958880" y="3826800"/>
              <a:ext cx="15480" cy="29160"/>
            </a:xfrm>
            <a:custGeom>
              <a:avLst/>
              <a:gdLst/>
              <a:ahLst/>
              <a:rect l="l" t="t" r="r" b="b"/>
              <a:pathLst>
                <a:path w="210" h="443">
                  <a:moveTo>
                    <a:pt x="39" y="0"/>
                  </a:moveTo>
                  <a:lnTo>
                    <a:pt x="210" y="443"/>
                  </a:lnTo>
                  <a:lnTo>
                    <a:pt x="97" y="374"/>
                  </a:lnTo>
                  <a:lnTo>
                    <a:pt x="39" y="302"/>
                  </a:lnTo>
                  <a:lnTo>
                    <a:pt x="10" y="226"/>
                  </a:lnTo>
                  <a:lnTo>
                    <a:pt x="0" y="97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8029440" y="3843720"/>
              <a:ext cx="22320" cy="32040"/>
            </a:xfrm>
            <a:custGeom>
              <a:avLst/>
              <a:gdLst/>
              <a:ahLst/>
              <a:rect l="l" t="t" r="r" b="b"/>
              <a:pathLst>
                <a:path w="292" h="480">
                  <a:moveTo>
                    <a:pt x="32" y="0"/>
                  </a:moveTo>
                  <a:lnTo>
                    <a:pt x="292" y="480"/>
                  </a:lnTo>
                  <a:lnTo>
                    <a:pt x="131" y="432"/>
                  </a:lnTo>
                  <a:lnTo>
                    <a:pt x="32" y="386"/>
                  </a:lnTo>
                  <a:lnTo>
                    <a:pt x="0" y="224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7962120" y="3822480"/>
              <a:ext cx="16920" cy="34920"/>
            </a:xfrm>
            <a:custGeom>
              <a:avLst/>
              <a:gdLst/>
              <a:ahLst/>
              <a:rect l="l" t="t" r="r" b="b"/>
              <a:pathLst>
                <a:path w="222" h="523">
                  <a:moveTo>
                    <a:pt x="0" y="119"/>
                  </a:moveTo>
                  <a:lnTo>
                    <a:pt x="150" y="493"/>
                  </a:lnTo>
                  <a:lnTo>
                    <a:pt x="222" y="523"/>
                  </a:lnTo>
                  <a:lnTo>
                    <a:pt x="17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8031600" y="3843360"/>
              <a:ext cx="21960" cy="32760"/>
            </a:xfrm>
            <a:custGeom>
              <a:avLst/>
              <a:gdLst/>
              <a:ahLst/>
              <a:rect l="l" t="t" r="r" b="b"/>
              <a:pathLst>
                <a:path w="288" h="498">
                  <a:moveTo>
                    <a:pt x="0" y="35"/>
                  </a:moveTo>
                  <a:lnTo>
                    <a:pt x="224" y="498"/>
                  </a:lnTo>
                  <a:lnTo>
                    <a:pt x="288" y="477"/>
                  </a:lnTo>
                  <a:lnTo>
                    <a:pt x="36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7944840" y="3725640"/>
              <a:ext cx="186840" cy="123840"/>
            </a:xfrm>
            <a:custGeom>
              <a:avLst/>
              <a:gdLst/>
              <a:ahLst/>
              <a:rect l="l" t="t" r="r" b="b"/>
              <a:pathLst>
                <a:path w="2454" h="1848">
                  <a:moveTo>
                    <a:pt x="226" y="1063"/>
                  </a:moveTo>
                  <a:lnTo>
                    <a:pt x="323" y="1046"/>
                  </a:lnTo>
                  <a:lnTo>
                    <a:pt x="672" y="790"/>
                  </a:lnTo>
                  <a:lnTo>
                    <a:pt x="943" y="817"/>
                  </a:lnTo>
                  <a:lnTo>
                    <a:pt x="1804" y="960"/>
                  </a:lnTo>
                  <a:lnTo>
                    <a:pt x="2092" y="1063"/>
                  </a:lnTo>
                  <a:lnTo>
                    <a:pt x="1965" y="1735"/>
                  </a:lnTo>
                  <a:lnTo>
                    <a:pt x="2037" y="1848"/>
                  </a:lnTo>
                  <a:lnTo>
                    <a:pt x="2297" y="1666"/>
                  </a:lnTo>
                  <a:lnTo>
                    <a:pt x="2357" y="1544"/>
                  </a:lnTo>
                  <a:lnTo>
                    <a:pt x="2419" y="1364"/>
                  </a:lnTo>
                  <a:lnTo>
                    <a:pt x="2454" y="1248"/>
                  </a:lnTo>
                  <a:lnTo>
                    <a:pt x="2444" y="1122"/>
                  </a:lnTo>
                  <a:lnTo>
                    <a:pt x="2403" y="1059"/>
                  </a:lnTo>
                  <a:lnTo>
                    <a:pt x="2223" y="1009"/>
                  </a:lnTo>
                  <a:lnTo>
                    <a:pt x="2025" y="380"/>
                  </a:lnTo>
                  <a:lnTo>
                    <a:pt x="1848" y="173"/>
                  </a:lnTo>
                  <a:lnTo>
                    <a:pt x="1472" y="11"/>
                  </a:lnTo>
                  <a:lnTo>
                    <a:pt x="1264" y="0"/>
                  </a:lnTo>
                  <a:lnTo>
                    <a:pt x="1004" y="27"/>
                  </a:lnTo>
                  <a:lnTo>
                    <a:pt x="760" y="76"/>
                  </a:lnTo>
                  <a:lnTo>
                    <a:pt x="554" y="207"/>
                  </a:lnTo>
                  <a:lnTo>
                    <a:pt x="202" y="633"/>
                  </a:lnTo>
                  <a:lnTo>
                    <a:pt x="0" y="982"/>
                  </a:lnTo>
                  <a:lnTo>
                    <a:pt x="88" y="1035"/>
                  </a:lnTo>
                  <a:lnTo>
                    <a:pt x="127" y="1162"/>
                  </a:lnTo>
                  <a:lnTo>
                    <a:pt x="226" y="1063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8040960" y="3843720"/>
              <a:ext cx="13320" cy="8280"/>
            </a:xfrm>
            <a:custGeom>
              <a:avLst/>
              <a:gdLst/>
              <a:ahLst/>
              <a:rect l="l" t="t" r="r" b="b"/>
              <a:pathLst>
                <a:path w="171" h="132">
                  <a:moveTo>
                    <a:pt x="0" y="51"/>
                  </a:moveTo>
                  <a:lnTo>
                    <a:pt x="72" y="132"/>
                  </a:lnTo>
                  <a:lnTo>
                    <a:pt x="171" y="40"/>
                  </a:lnTo>
                  <a:lnTo>
                    <a:pt x="102" y="0"/>
                  </a:lnTo>
                  <a:lnTo>
                    <a:pt x="17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7982280" y="3827520"/>
              <a:ext cx="18720" cy="9720"/>
            </a:xfrm>
            <a:custGeom>
              <a:avLst/>
              <a:gdLst/>
              <a:ahLst/>
              <a:rect l="l" t="t" r="r" b="b"/>
              <a:pathLst>
                <a:path w="251" h="148">
                  <a:moveTo>
                    <a:pt x="0" y="46"/>
                  </a:moveTo>
                  <a:lnTo>
                    <a:pt x="83" y="127"/>
                  </a:lnTo>
                  <a:lnTo>
                    <a:pt x="182" y="148"/>
                  </a:lnTo>
                  <a:lnTo>
                    <a:pt x="251" y="35"/>
                  </a:lnTo>
                  <a:lnTo>
                    <a:pt x="140" y="0"/>
                  </a:lnTo>
                  <a:lnTo>
                    <a:pt x="24" y="1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8214480" y="3832560"/>
              <a:ext cx="44280" cy="62280"/>
            </a:xfrm>
            <a:custGeom>
              <a:avLst/>
              <a:gdLst/>
              <a:ahLst/>
              <a:rect l="l" t="t" r="r" b="b"/>
              <a:pathLst>
                <a:path w="585" h="936">
                  <a:moveTo>
                    <a:pt x="532" y="0"/>
                  </a:moveTo>
                  <a:lnTo>
                    <a:pt x="464" y="79"/>
                  </a:lnTo>
                  <a:lnTo>
                    <a:pt x="407" y="22"/>
                  </a:lnTo>
                  <a:lnTo>
                    <a:pt x="315" y="22"/>
                  </a:lnTo>
                  <a:lnTo>
                    <a:pt x="137" y="129"/>
                  </a:lnTo>
                  <a:lnTo>
                    <a:pt x="18" y="277"/>
                  </a:lnTo>
                  <a:lnTo>
                    <a:pt x="0" y="398"/>
                  </a:lnTo>
                  <a:lnTo>
                    <a:pt x="18" y="532"/>
                  </a:lnTo>
                  <a:lnTo>
                    <a:pt x="62" y="592"/>
                  </a:lnTo>
                  <a:lnTo>
                    <a:pt x="112" y="620"/>
                  </a:lnTo>
                  <a:lnTo>
                    <a:pt x="62" y="562"/>
                  </a:lnTo>
                  <a:lnTo>
                    <a:pt x="53" y="484"/>
                  </a:lnTo>
                  <a:lnTo>
                    <a:pt x="77" y="407"/>
                  </a:lnTo>
                  <a:lnTo>
                    <a:pt x="143" y="301"/>
                  </a:lnTo>
                  <a:lnTo>
                    <a:pt x="222" y="262"/>
                  </a:lnTo>
                  <a:lnTo>
                    <a:pt x="264" y="235"/>
                  </a:lnTo>
                  <a:lnTo>
                    <a:pt x="222" y="301"/>
                  </a:lnTo>
                  <a:lnTo>
                    <a:pt x="200" y="407"/>
                  </a:lnTo>
                  <a:lnTo>
                    <a:pt x="213" y="484"/>
                  </a:lnTo>
                  <a:lnTo>
                    <a:pt x="235" y="558"/>
                  </a:lnTo>
                  <a:lnTo>
                    <a:pt x="283" y="613"/>
                  </a:lnTo>
                  <a:lnTo>
                    <a:pt x="350" y="659"/>
                  </a:lnTo>
                  <a:lnTo>
                    <a:pt x="350" y="688"/>
                  </a:lnTo>
                  <a:lnTo>
                    <a:pt x="378" y="735"/>
                  </a:lnTo>
                  <a:lnTo>
                    <a:pt x="435" y="776"/>
                  </a:lnTo>
                  <a:lnTo>
                    <a:pt x="486" y="936"/>
                  </a:lnTo>
                  <a:lnTo>
                    <a:pt x="479" y="754"/>
                  </a:lnTo>
                  <a:lnTo>
                    <a:pt x="506" y="730"/>
                  </a:lnTo>
                  <a:lnTo>
                    <a:pt x="585" y="747"/>
                  </a:lnTo>
                  <a:lnTo>
                    <a:pt x="474" y="688"/>
                  </a:lnTo>
                  <a:lnTo>
                    <a:pt x="382" y="652"/>
                  </a:lnTo>
                  <a:lnTo>
                    <a:pt x="389" y="507"/>
                  </a:lnTo>
                  <a:lnTo>
                    <a:pt x="455" y="228"/>
                  </a:lnTo>
                  <a:lnTo>
                    <a:pt x="5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8246880" y="3883320"/>
              <a:ext cx="23760" cy="27720"/>
            </a:xfrm>
            <a:custGeom>
              <a:avLst/>
              <a:gdLst/>
              <a:ahLst/>
              <a:rect l="l" t="t" r="r" b="b"/>
              <a:pathLst>
                <a:path w="310" h="417">
                  <a:moveTo>
                    <a:pt x="0" y="0"/>
                  </a:moveTo>
                  <a:lnTo>
                    <a:pt x="126" y="96"/>
                  </a:lnTo>
                  <a:lnTo>
                    <a:pt x="310" y="202"/>
                  </a:lnTo>
                  <a:lnTo>
                    <a:pt x="297" y="237"/>
                  </a:lnTo>
                  <a:lnTo>
                    <a:pt x="310" y="248"/>
                  </a:lnTo>
                  <a:lnTo>
                    <a:pt x="126" y="417"/>
                  </a:lnTo>
                  <a:lnTo>
                    <a:pt x="115" y="387"/>
                  </a:lnTo>
                  <a:lnTo>
                    <a:pt x="163" y="302"/>
                  </a:lnTo>
                  <a:lnTo>
                    <a:pt x="143" y="242"/>
                  </a:lnTo>
                  <a:lnTo>
                    <a:pt x="27" y="248"/>
                  </a:lnTo>
                  <a:lnTo>
                    <a:pt x="80" y="202"/>
                  </a:lnTo>
                  <a:lnTo>
                    <a:pt x="108" y="173"/>
                  </a:lnTo>
                  <a:lnTo>
                    <a:pt x="55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8231400" y="3902040"/>
              <a:ext cx="30960" cy="56520"/>
            </a:xfrm>
            <a:custGeom>
              <a:avLst/>
              <a:gdLst/>
              <a:ahLst/>
              <a:rect l="l" t="t" r="r" b="b"/>
              <a:pathLst>
                <a:path w="409" h="848">
                  <a:moveTo>
                    <a:pt x="264" y="0"/>
                  </a:moveTo>
                  <a:lnTo>
                    <a:pt x="252" y="55"/>
                  </a:lnTo>
                  <a:lnTo>
                    <a:pt x="202" y="200"/>
                  </a:lnTo>
                  <a:lnTo>
                    <a:pt x="97" y="401"/>
                  </a:lnTo>
                  <a:lnTo>
                    <a:pt x="0" y="606"/>
                  </a:lnTo>
                  <a:lnTo>
                    <a:pt x="0" y="661"/>
                  </a:lnTo>
                  <a:lnTo>
                    <a:pt x="61" y="696"/>
                  </a:lnTo>
                  <a:lnTo>
                    <a:pt x="220" y="719"/>
                  </a:lnTo>
                  <a:lnTo>
                    <a:pt x="317" y="740"/>
                  </a:lnTo>
                  <a:lnTo>
                    <a:pt x="338" y="753"/>
                  </a:lnTo>
                  <a:lnTo>
                    <a:pt x="354" y="809"/>
                  </a:lnTo>
                  <a:lnTo>
                    <a:pt x="365" y="848"/>
                  </a:lnTo>
                  <a:lnTo>
                    <a:pt x="354" y="740"/>
                  </a:lnTo>
                  <a:lnTo>
                    <a:pt x="328" y="696"/>
                  </a:lnTo>
                  <a:lnTo>
                    <a:pt x="354" y="666"/>
                  </a:lnTo>
                  <a:lnTo>
                    <a:pt x="409" y="633"/>
                  </a:lnTo>
                  <a:lnTo>
                    <a:pt x="391" y="615"/>
                  </a:lnTo>
                  <a:lnTo>
                    <a:pt x="338" y="615"/>
                  </a:lnTo>
                  <a:lnTo>
                    <a:pt x="202" y="641"/>
                  </a:lnTo>
                  <a:lnTo>
                    <a:pt x="97" y="666"/>
                  </a:lnTo>
                  <a:lnTo>
                    <a:pt x="35" y="661"/>
                  </a:lnTo>
                  <a:lnTo>
                    <a:pt x="13" y="626"/>
                  </a:lnTo>
                  <a:lnTo>
                    <a:pt x="13" y="590"/>
                  </a:lnTo>
                  <a:lnTo>
                    <a:pt x="218" y="200"/>
                  </a:lnTo>
                  <a:lnTo>
                    <a:pt x="233" y="120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8259120" y="3929760"/>
              <a:ext cx="34560" cy="45360"/>
            </a:xfrm>
            <a:custGeom>
              <a:avLst/>
              <a:gdLst/>
              <a:ahLst/>
              <a:rect l="l" t="t" r="r" b="b"/>
              <a:pathLst>
                <a:path w="452" h="679">
                  <a:moveTo>
                    <a:pt x="0" y="0"/>
                  </a:moveTo>
                  <a:lnTo>
                    <a:pt x="28" y="101"/>
                  </a:lnTo>
                  <a:lnTo>
                    <a:pt x="72" y="180"/>
                  </a:lnTo>
                  <a:lnTo>
                    <a:pt x="154" y="277"/>
                  </a:lnTo>
                  <a:lnTo>
                    <a:pt x="283" y="338"/>
                  </a:lnTo>
                  <a:lnTo>
                    <a:pt x="404" y="433"/>
                  </a:lnTo>
                  <a:lnTo>
                    <a:pt x="424" y="484"/>
                  </a:lnTo>
                  <a:lnTo>
                    <a:pt x="452" y="679"/>
                  </a:lnTo>
                  <a:lnTo>
                    <a:pt x="404" y="574"/>
                  </a:lnTo>
                  <a:lnTo>
                    <a:pt x="283" y="463"/>
                  </a:lnTo>
                  <a:lnTo>
                    <a:pt x="184" y="457"/>
                  </a:lnTo>
                  <a:lnTo>
                    <a:pt x="53" y="495"/>
                  </a:lnTo>
                  <a:lnTo>
                    <a:pt x="0" y="457"/>
                  </a:lnTo>
                  <a:lnTo>
                    <a:pt x="72" y="413"/>
                  </a:lnTo>
                  <a:lnTo>
                    <a:pt x="166" y="403"/>
                  </a:lnTo>
                  <a:lnTo>
                    <a:pt x="256" y="394"/>
                  </a:lnTo>
                  <a:lnTo>
                    <a:pt x="120" y="281"/>
                  </a:lnTo>
                  <a:lnTo>
                    <a:pt x="53" y="1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8269560" y="3963960"/>
              <a:ext cx="13680" cy="11160"/>
            </a:xfrm>
            <a:custGeom>
              <a:avLst/>
              <a:gdLst/>
              <a:ahLst/>
              <a:rect l="l" t="t" r="r" b="b"/>
              <a:pathLst>
                <a:path w="182" h="170">
                  <a:moveTo>
                    <a:pt x="182" y="0"/>
                  </a:moveTo>
                  <a:lnTo>
                    <a:pt x="123" y="85"/>
                  </a:lnTo>
                  <a:lnTo>
                    <a:pt x="62" y="111"/>
                  </a:lnTo>
                  <a:lnTo>
                    <a:pt x="0" y="146"/>
                  </a:lnTo>
                  <a:lnTo>
                    <a:pt x="0" y="170"/>
                  </a:lnTo>
                  <a:lnTo>
                    <a:pt x="92" y="115"/>
                  </a:lnTo>
                  <a:lnTo>
                    <a:pt x="147" y="99"/>
                  </a:lnTo>
                  <a:lnTo>
                    <a:pt x="173" y="30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8269560" y="3950640"/>
              <a:ext cx="102960" cy="77400"/>
            </a:xfrm>
            <a:custGeom>
              <a:avLst/>
              <a:gdLst/>
              <a:ahLst/>
              <a:rect l="l" t="t" r="r" b="b"/>
              <a:pathLst>
                <a:path w="1349" h="1162">
                  <a:moveTo>
                    <a:pt x="0" y="465"/>
                  </a:moveTo>
                  <a:lnTo>
                    <a:pt x="97" y="579"/>
                  </a:lnTo>
                  <a:lnTo>
                    <a:pt x="117" y="634"/>
                  </a:lnTo>
                  <a:lnTo>
                    <a:pt x="117" y="664"/>
                  </a:lnTo>
                  <a:lnTo>
                    <a:pt x="92" y="724"/>
                  </a:lnTo>
                  <a:lnTo>
                    <a:pt x="81" y="770"/>
                  </a:lnTo>
                  <a:lnTo>
                    <a:pt x="81" y="827"/>
                  </a:lnTo>
                  <a:lnTo>
                    <a:pt x="97" y="880"/>
                  </a:lnTo>
                  <a:lnTo>
                    <a:pt x="120" y="899"/>
                  </a:lnTo>
                  <a:lnTo>
                    <a:pt x="198" y="860"/>
                  </a:lnTo>
                  <a:lnTo>
                    <a:pt x="268" y="814"/>
                  </a:lnTo>
                  <a:lnTo>
                    <a:pt x="327" y="728"/>
                  </a:lnTo>
                  <a:lnTo>
                    <a:pt x="345" y="634"/>
                  </a:lnTo>
                  <a:lnTo>
                    <a:pt x="345" y="564"/>
                  </a:lnTo>
                  <a:lnTo>
                    <a:pt x="394" y="814"/>
                  </a:lnTo>
                  <a:lnTo>
                    <a:pt x="505" y="786"/>
                  </a:lnTo>
                  <a:lnTo>
                    <a:pt x="646" y="724"/>
                  </a:lnTo>
                  <a:lnTo>
                    <a:pt x="730" y="643"/>
                  </a:lnTo>
                  <a:lnTo>
                    <a:pt x="802" y="568"/>
                  </a:lnTo>
                  <a:lnTo>
                    <a:pt x="897" y="454"/>
                  </a:lnTo>
                  <a:lnTo>
                    <a:pt x="958" y="408"/>
                  </a:lnTo>
                  <a:lnTo>
                    <a:pt x="1051" y="368"/>
                  </a:lnTo>
                  <a:lnTo>
                    <a:pt x="1125" y="309"/>
                  </a:lnTo>
                  <a:lnTo>
                    <a:pt x="1176" y="238"/>
                  </a:lnTo>
                  <a:lnTo>
                    <a:pt x="1224" y="152"/>
                  </a:lnTo>
                  <a:lnTo>
                    <a:pt x="1257" y="0"/>
                  </a:lnTo>
                  <a:lnTo>
                    <a:pt x="1242" y="223"/>
                  </a:lnTo>
                  <a:lnTo>
                    <a:pt x="1219" y="376"/>
                  </a:lnTo>
                  <a:lnTo>
                    <a:pt x="1164" y="482"/>
                  </a:lnTo>
                  <a:lnTo>
                    <a:pt x="1120" y="568"/>
                  </a:lnTo>
                  <a:lnTo>
                    <a:pt x="1120" y="634"/>
                  </a:lnTo>
                  <a:lnTo>
                    <a:pt x="1153" y="705"/>
                  </a:lnTo>
                  <a:lnTo>
                    <a:pt x="1196" y="790"/>
                  </a:lnTo>
                  <a:lnTo>
                    <a:pt x="1219" y="851"/>
                  </a:lnTo>
                  <a:lnTo>
                    <a:pt x="1226" y="920"/>
                  </a:lnTo>
                  <a:lnTo>
                    <a:pt x="1349" y="746"/>
                  </a:lnTo>
                  <a:lnTo>
                    <a:pt x="1219" y="992"/>
                  </a:lnTo>
                  <a:lnTo>
                    <a:pt x="1160" y="1132"/>
                  </a:lnTo>
                  <a:lnTo>
                    <a:pt x="1160" y="1162"/>
                  </a:lnTo>
                  <a:lnTo>
                    <a:pt x="1090" y="1091"/>
                  </a:lnTo>
                  <a:lnTo>
                    <a:pt x="1000" y="987"/>
                  </a:lnTo>
                  <a:lnTo>
                    <a:pt x="922" y="959"/>
                  </a:lnTo>
                  <a:lnTo>
                    <a:pt x="844" y="926"/>
                  </a:lnTo>
                  <a:lnTo>
                    <a:pt x="712" y="926"/>
                  </a:lnTo>
                  <a:lnTo>
                    <a:pt x="277" y="1021"/>
                  </a:lnTo>
                  <a:lnTo>
                    <a:pt x="173" y="1012"/>
                  </a:lnTo>
                  <a:lnTo>
                    <a:pt x="112" y="986"/>
                  </a:lnTo>
                  <a:lnTo>
                    <a:pt x="48" y="920"/>
                  </a:lnTo>
                  <a:lnTo>
                    <a:pt x="30" y="851"/>
                  </a:lnTo>
                  <a:lnTo>
                    <a:pt x="35" y="786"/>
                  </a:lnTo>
                  <a:lnTo>
                    <a:pt x="62" y="724"/>
                  </a:lnTo>
                  <a:lnTo>
                    <a:pt x="81" y="664"/>
                  </a:lnTo>
                  <a:lnTo>
                    <a:pt x="81" y="610"/>
                  </a:lnTo>
                  <a:lnTo>
                    <a:pt x="48" y="548"/>
                  </a:lnTo>
                  <a:lnTo>
                    <a:pt x="0" y="4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8260920" y="3740040"/>
              <a:ext cx="254880" cy="276120"/>
            </a:xfrm>
            <a:custGeom>
              <a:avLst/>
              <a:gdLst/>
              <a:ahLst/>
              <a:rect l="l" t="t" r="r" b="b"/>
              <a:pathLst>
                <a:path w="3329" h="4141">
                  <a:moveTo>
                    <a:pt x="64" y="1229"/>
                  </a:moveTo>
                  <a:lnTo>
                    <a:pt x="103" y="1344"/>
                  </a:lnTo>
                  <a:lnTo>
                    <a:pt x="174" y="1418"/>
                  </a:lnTo>
                  <a:lnTo>
                    <a:pt x="271" y="1457"/>
                  </a:lnTo>
                  <a:lnTo>
                    <a:pt x="462" y="1480"/>
                  </a:lnTo>
                  <a:lnTo>
                    <a:pt x="618" y="1457"/>
                  </a:lnTo>
                  <a:lnTo>
                    <a:pt x="774" y="1395"/>
                  </a:lnTo>
                  <a:lnTo>
                    <a:pt x="521" y="1406"/>
                  </a:lnTo>
                  <a:lnTo>
                    <a:pt x="361" y="1367"/>
                  </a:lnTo>
                  <a:lnTo>
                    <a:pt x="271" y="1291"/>
                  </a:lnTo>
                  <a:lnTo>
                    <a:pt x="214" y="1199"/>
                  </a:lnTo>
                  <a:lnTo>
                    <a:pt x="361" y="1261"/>
                  </a:lnTo>
                  <a:lnTo>
                    <a:pt x="488" y="1280"/>
                  </a:lnTo>
                  <a:lnTo>
                    <a:pt x="679" y="1261"/>
                  </a:lnTo>
                  <a:lnTo>
                    <a:pt x="850" y="1206"/>
                  </a:lnTo>
                  <a:lnTo>
                    <a:pt x="1030" y="1081"/>
                  </a:lnTo>
                  <a:lnTo>
                    <a:pt x="926" y="1241"/>
                  </a:lnTo>
                  <a:lnTo>
                    <a:pt x="1104" y="1137"/>
                  </a:lnTo>
                  <a:lnTo>
                    <a:pt x="1263" y="1081"/>
                  </a:lnTo>
                  <a:lnTo>
                    <a:pt x="1413" y="1081"/>
                  </a:lnTo>
                  <a:lnTo>
                    <a:pt x="1572" y="1137"/>
                  </a:lnTo>
                  <a:lnTo>
                    <a:pt x="1401" y="1137"/>
                  </a:lnTo>
                  <a:lnTo>
                    <a:pt x="1275" y="1160"/>
                  </a:lnTo>
                  <a:lnTo>
                    <a:pt x="1168" y="1229"/>
                  </a:lnTo>
                  <a:lnTo>
                    <a:pt x="1327" y="1241"/>
                  </a:lnTo>
                  <a:lnTo>
                    <a:pt x="1539" y="1199"/>
                  </a:lnTo>
                  <a:lnTo>
                    <a:pt x="1685" y="1137"/>
                  </a:lnTo>
                  <a:lnTo>
                    <a:pt x="1611" y="1229"/>
                  </a:lnTo>
                  <a:lnTo>
                    <a:pt x="1389" y="1375"/>
                  </a:lnTo>
                  <a:lnTo>
                    <a:pt x="1203" y="1430"/>
                  </a:lnTo>
                  <a:lnTo>
                    <a:pt x="1039" y="1443"/>
                  </a:lnTo>
                  <a:lnTo>
                    <a:pt x="1113" y="1344"/>
                  </a:lnTo>
                  <a:lnTo>
                    <a:pt x="926" y="1367"/>
                  </a:lnTo>
                  <a:lnTo>
                    <a:pt x="745" y="1480"/>
                  </a:lnTo>
                  <a:lnTo>
                    <a:pt x="850" y="1517"/>
                  </a:lnTo>
                  <a:lnTo>
                    <a:pt x="754" y="1591"/>
                  </a:lnTo>
                  <a:lnTo>
                    <a:pt x="906" y="1591"/>
                  </a:lnTo>
                  <a:lnTo>
                    <a:pt x="1141" y="1526"/>
                  </a:lnTo>
                  <a:lnTo>
                    <a:pt x="1275" y="1465"/>
                  </a:lnTo>
                  <a:lnTo>
                    <a:pt x="1141" y="1639"/>
                  </a:lnTo>
                  <a:lnTo>
                    <a:pt x="1214" y="1702"/>
                  </a:lnTo>
                  <a:lnTo>
                    <a:pt x="1401" y="1711"/>
                  </a:lnTo>
                  <a:lnTo>
                    <a:pt x="1636" y="1687"/>
                  </a:lnTo>
                  <a:lnTo>
                    <a:pt x="1807" y="1711"/>
                  </a:lnTo>
                  <a:lnTo>
                    <a:pt x="1947" y="1784"/>
                  </a:lnTo>
                  <a:lnTo>
                    <a:pt x="2066" y="1905"/>
                  </a:lnTo>
                  <a:lnTo>
                    <a:pt x="2145" y="2019"/>
                  </a:lnTo>
                  <a:lnTo>
                    <a:pt x="1967" y="1905"/>
                  </a:lnTo>
                  <a:lnTo>
                    <a:pt x="2095" y="2045"/>
                  </a:lnTo>
                  <a:lnTo>
                    <a:pt x="2153" y="2215"/>
                  </a:lnTo>
                  <a:lnTo>
                    <a:pt x="2153" y="2379"/>
                  </a:lnTo>
                  <a:lnTo>
                    <a:pt x="2125" y="2511"/>
                  </a:lnTo>
                  <a:lnTo>
                    <a:pt x="2084" y="2340"/>
                  </a:lnTo>
                  <a:lnTo>
                    <a:pt x="2066" y="2599"/>
                  </a:lnTo>
                  <a:lnTo>
                    <a:pt x="2003" y="2817"/>
                  </a:lnTo>
                  <a:lnTo>
                    <a:pt x="2145" y="2573"/>
                  </a:lnTo>
                  <a:lnTo>
                    <a:pt x="2153" y="2698"/>
                  </a:lnTo>
                  <a:lnTo>
                    <a:pt x="2215" y="2502"/>
                  </a:lnTo>
                  <a:lnTo>
                    <a:pt x="2247" y="2315"/>
                  </a:lnTo>
                  <a:lnTo>
                    <a:pt x="2330" y="2416"/>
                  </a:lnTo>
                  <a:lnTo>
                    <a:pt x="2365" y="2259"/>
                  </a:lnTo>
                  <a:lnTo>
                    <a:pt x="2365" y="2085"/>
                  </a:lnTo>
                  <a:lnTo>
                    <a:pt x="2316" y="1978"/>
                  </a:lnTo>
                  <a:lnTo>
                    <a:pt x="2215" y="1824"/>
                  </a:lnTo>
                  <a:lnTo>
                    <a:pt x="2406" y="1942"/>
                  </a:lnTo>
                  <a:lnTo>
                    <a:pt x="2391" y="1817"/>
                  </a:lnTo>
                  <a:lnTo>
                    <a:pt x="2567" y="1944"/>
                  </a:lnTo>
                  <a:lnTo>
                    <a:pt x="2624" y="2109"/>
                  </a:lnTo>
                  <a:lnTo>
                    <a:pt x="2674" y="1920"/>
                  </a:lnTo>
                  <a:lnTo>
                    <a:pt x="2635" y="1711"/>
                  </a:lnTo>
                  <a:lnTo>
                    <a:pt x="2778" y="1839"/>
                  </a:lnTo>
                  <a:lnTo>
                    <a:pt x="2881" y="1874"/>
                  </a:lnTo>
                  <a:lnTo>
                    <a:pt x="2960" y="1748"/>
                  </a:lnTo>
                  <a:lnTo>
                    <a:pt x="3006" y="1540"/>
                  </a:lnTo>
                  <a:lnTo>
                    <a:pt x="3035" y="1663"/>
                  </a:lnTo>
                  <a:lnTo>
                    <a:pt x="3142" y="1526"/>
                  </a:lnTo>
                  <a:lnTo>
                    <a:pt x="3178" y="1344"/>
                  </a:lnTo>
                  <a:lnTo>
                    <a:pt x="3237" y="1206"/>
                  </a:lnTo>
                  <a:lnTo>
                    <a:pt x="3237" y="1045"/>
                  </a:lnTo>
                  <a:lnTo>
                    <a:pt x="3204" y="839"/>
                  </a:lnTo>
                  <a:lnTo>
                    <a:pt x="3112" y="581"/>
                  </a:lnTo>
                  <a:lnTo>
                    <a:pt x="2925" y="305"/>
                  </a:lnTo>
                  <a:lnTo>
                    <a:pt x="2669" y="72"/>
                  </a:lnTo>
                  <a:lnTo>
                    <a:pt x="2503" y="0"/>
                  </a:lnTo>
                  <a:lnTo>
                    <a:pt x="2778" y="109"/>
                  </a:lnTo>
                  <a:lnTo>
                    <a:pt x="3112" y="491"/>
                  </a:lnTo>
                  <a:lnTo>
                    <a:pt x="3266" y="867"/>
                  </a:lnTo>
                  <a:lnTo>
                    <a:pt x="3319" y="1241"/>
                  </a:lnTo>
                  <a:lnTo>
                    <a:pt x="3319" y="1591"/>
                  </a:lnTo>
                  <a:lnTo>
                    <a:pt x="3266" y="1893"/>
                  </a:lnTo>
                  <a:lnTo>
                    <a:pt x="3197" y="2121"/>
                  </a:lnTo>
                  <a:lnTo>
                    <a:pt x="3096" y="2315"/>
                  </a:lnTo>
                  <a:lnTo>
                    <a:pt x="2971" y="2502"/>
                  </a:lnTo>
                  <a:lnTo>
                    <a:pt x="2863" y="2599"/>
                  </a:lnTo>
                  <a:lnTo>
                    <a:pt x="2807" y="2713"/>
                  </a:lnTo>
                  <a:lnTo>
                    <a:pt x="2784" y="2817"/>
                  </a:lnTo>
                  <a:lnTo>
                    <a:pt x="2784" y="2928"/>
                  </a:lnTo>
                  <a:lnTo>
                    <a:pt x="2807" y="3050"/>
                  </a:lnTo>
                  <a:lnTo>
                    <a:pt x="2846" y="3120"/>
                  </a:lnTo>
                  <a:lnTo>
                    <a:pt x="3006" y="3124"/>
                  </a:lnTo>
                  <a:lnTo>
                    <a:pt x="3112" y="3256"/>
                  </a:lnTo>
                  <a:lnTo>
                    <a:pt x="3142" y="3428"/>
                  </a:lnTo>
                  <a:lnTo>
                    <a:pt x="3290" y="3562"/>
                  </a:lnTo>
                  <a:lnTo>
                    <a:pt x="3329" y="3663"/>
                  </a:lnTo>
                  <a:lnTo>
                    <a:pt x="3096" y="3670"/>
                  </a:lnTo>
                  <a:lnTo>
                    <a:pt x="2710" y="3812"/>
                  </a:lnTo>
                  <a:lnTo>
                    <a:pt x="2255" y="3981"/>
                  </a:lnTo>
                  <a:lnTo>
                    <a:pt x="1912" y="4141"/>
                  </a:lnTo>
                  <a:lnTo>
                    <a:pt x="2381" y="3894"/>
                  </a:lnTo>
                  <a:lnTo>
                    <a:pt x="2710" y="3733"/>
                  </a:lnTo>
                  <a:lnTo>
                    <a:pt x="2778" y="3663"/>
                  </a:lnTo>
                  <a:lnTo>
                    <a:pt x="2750" y="3491"/>
                  </a:lnTo>
                  <a:lnTo>
                    <a:pt x="2653" y="3327"/>
                  </a:lnTo>
                  <a:lnTo>
                    <a:pt x="2549" y="3256"/>
                  </a:lnTo>
                  <a:lnTo>
                    <a:pt x="2187" y="3352"/>
                  </a:lnTo>
                  <a:lnTo>
                    <a:pt x="1848" y="3537"/>
                  </a:lnTo>
                  <a:lnTo>
                    <a:pt x="1560" y="3830"/>
                  </a:lnTo>
                  <a:lnTo>
                    <a:pt x="1795" y="3537"/>
                  </a:lnTo>
                  <a:lnTo>
                    <a:pt x="2084" y="3289"/>
                  </a:lnTo>
                  <a:lnTo>
                    <a:pt x="1980" y="3111"/>
                  </a:lnTo>
                  <a:lnTo>
                    <a:pt x="1894" y="2949"/>
                  </a:lnTo>
                  <a:lnTo>
                    <a:pt x="1857" y="2778"/>
                  </a:lnTo>
                  <a:lnTo>
                    <a:pt x="1830" y="2573"/>
                  </a:lnTo>
                  <a:lnTo>
                    <a:pt x="1772" y="2722"/>
                  </a:lnTo>
                  <a:lnTo>
                    <a:pt x="1685" y="2873"/>
                  </a:lnTo>
                  <a:lnTo>
                    <a:pt x="1646" y="2979"/>
                  </a:lnTo>
                  <a:lnTo>
                    <a:pt x="1624" y="3094"/>
                  </a:lnTo>
                  <a:lnTo>
                    <a:pt x="1545" y="3168"/>
                  </a:lnTo>
                  <a:lnTo>
                    <a:pt x="1503" y="3181"/>
                  </a:lnTo>
                  <a:lnTo>
                    <a:pt x="1389" y="3181"/>
                  </a:lnTo>
                  <a:lnTo>
                    <a:pt x="1350" y="3181"/>
                  </a:lnTo>
                  <a:lnTo>
                    <a:pt x="1309" y="3054"/>
                  </a:lnTo>
                  <a:lnTo>
                    <a:pt x="1203" y="3050"/>
                  </a:lnTo>
                  <a:lnTo>
                    <a:pt x="1350" y="3034"/>
                  </a:lnTo>
                  <a:lnTo>
                    <a:pt x="1429" y="2972"/>
                  </a:lnTo>
                  <a:lnTo>
                    <a:pt x="1452" y="2893"/>
                  </a:lnTo>
                  <a:lnTo>
                    <a:pt x="1452" y="2817"/>
                  </a:lnTo>
                  <a:lnTo>
                    <a:pt x="1401" y="2748"/>
                  </a:lnTo>
                  <a:lnTo>
                    <a:pt x="1309" y="2722"/>
                  </a:lnTo>
                  <a:lnTo>
                    <a:pt x="1429" y="2733"/>
                  </a:lnTo>
                  <a:lnTo>
                    <a:pt x="1475" y="2760"/>
                  </a:lnTo>
                  <a:lnTo>
                    <a:pt x="1585" y="2698"/>
                  </a:lnTo>
                  <a:lnTo>
                    <a:pt x="1659" y="2573"/>
                  </a:lnTo>
                  <a:lnTo>
                    <a:pt x="1723" y="2416"/>
                  </a:lnTo>
                  <a:lnTo>
                    <a:pt x="1747" y="2259"/>
                  </a:lnTo>
                  <a:lnTo>
                    <a:pt x="1747" y="2133"/>
                  </a:lnTo>
                  <a:lnTo>
                    <a:pt x="1723" y="2019"/>
                  </a:lnTo>
                  <a:lnTo>
                    <a:pt x="1646" y="1920"/>
                  </a:lnTo>
                  <a:lnTo>
                    <a:pt x="1560" y="1874"/>
                  </a:lnTo>
                  <a:lnTo>
                    <a:pt x="1475" y="1874"/>
                  </a:lnTo>
                  <a:lnTo>
                    <a:pt x="1334" y="1891"/>
                  </a:lnTo>
                  <a:lnTo>
                    <a:pt x="1214" y="1858"/>
                  </a:lnTo>
                  <a:lnTo>
                    <a:pt x="1066" y="1784"/>
                  </a:lnTo>
                  <a:lnTo>
                    <a:pt x="976" y="1711"/>
                  </a:lnTo>
                  <a:lnTo>
                    <a:pt x="1090" y="1920"/>
                  </a:lnTo>
                  <a:lnTo>
                    <a:pt x="1182" y="2006"/>
                  </a:lnTo>
                  <a:lnTo>
                    <a:pt x="1327" y="2059"/>
                  </a:lnTo>
                  <a:lnTo>
                    <a:pt x="1182" y="2094"/>
                  </a:lnTo>
                  <a:lnTo>
                    <a:pt x="1077" y="2085"/>
                  </a:lnTo>
                  <a:lnTo>
                    <a:pt x="1113" y="2195"/>
                  </a:lnTo>
                  <a:lnTo>
                    <a:pt x="1168" y="2269"/>
                  </a:lnTo>
                  <a:lnTo>
                    <a:pt x="1228" y="2305"/>
                  </a:lnTo>
                  <a:lnTo>
                    <a:pt x="1113" y="2305"/>
                  </a:lnTo>
                  <a:lnTo>
                    <a:pt x="945" y="2305"/>
                  </a:lnTo>
                  <a:lnTo>
                    <a:pt x="844" y="2241"/>
                  </a:lnTo>
                  <a:lnTo>
                    <a:pt x="776" y="2144"/>
                  </a:lnTo>
                  <a:lnTo>
                    <a:pt x="774" y="2094"/>
                  </a:lnTo>
                  <a:lnTo>
                    <a:pt x="645" y="2038"/>
                  </a:lnTo>
                  <a:lnTo>
                    <a:pt x="548" y="1944"/>
                  </a:lnTo>
                  <a:lnTo>
                    <a:pt x="502" y="1824"/>
                  </a:lnTo>
                  <a:lnTo>
                    <a:pt x="470" y="1711"/>
                  </a:lnTo>
                  <a:lnTo>
                    <a:pt x="350" y="1678"/>
                  </a:lnTo>
                  <a:lnTo>
                    <a:pt x="299" y="1628"/>
                  </a:lnTo>
                  <a:lnTo>
                    <a:pt x="231" y="1566"/>
                  </a:lnTo>
                  <a:lnTo>
                    <a:pt x="121" y="1526"/>
                  </a:lnTo>
                  <a:lnTo>
                    <a:pt x="36" y="1443"/>
                  </a:lnTo>
                  <a:lnTo>
                    <a:pt x="0" y="1344"/>
                  </a:lnTo>
                  <a:lnTo>
                    <a:pt x="0" y="1261"/>
                  </a:lnTo>
                  <a:lnTo>
                    <a:pt x="64" y="1160"/>
                  </a:lnTo>
                  <a:lnTo>
                    <a:pt x="64" y="1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8361000" y="3816720"/>
              <a:ext cx="80640" cy="33120"/>
            </a:xfrm>
            <a:custGeom>
              <a:avLst/>
              <a:gdLst/>
              <a:ahLst/>
              <a:rect l="l" t="t" r="r" b="b"/>
              <a:pathLst>
                <a:path w="1056" h="495">
                  <a:moveTo>
                    <a:pt x="41" y="274"/>
                  </a:moveTo>
                  <a:lnTo>
                    <a:pt x="166" y="286"/>
                  </a:lnTo>
                  <a:lnTo>
                    <a:pt x="327" y="251"/>
                  </a:lnTo>
                  <a:lnTo>
                    <a:pt x="438" y="177"/>
                  </a:lnTo>
                  <a:lnTo>
                    <a:pt x="560" y="80"/>
                  </a:lnTo>
                  <a:lnTo>
                    <a:pt x="650" y="0"/>
                  </a:lnTo>
                  <a:lnTo>
                    <a:pt x="585" y="136"/>
                  </a:lnTo>
                  <a:lnTo>
                    <a:pt x="477" y="262"/>
                  </a:lnTo>
                  <a:lnTo>
                    <a:pt x="658" y="200"/>
                  </a:lnTo>
                  <a:lnTo>
                    <a:pt x="800" y="200"/>
                  </a:lnTo>
                  <a:lnTo>
                    <a:pt x="922" y="231"/>
                  </a:lnTo>
                  <a:lnTo>
                    <a:pt x="996" y="313"/>
                  </a:lnTo>
                  <a:lnTo>
                    <a:pt x="1056" y="409"/>
                  </a:lnTo>
                  <a:lnTo>
                    <a:pt x="970" y="348"/>
                  </a:lnTo>
                  <a:lnTo>
                    <a:pt x="878" y="321"/>
                  </a:lnTo>
                  <a:lnTo>
                    <a:pt x="775" y="321"/>
                  </a:lnTo>
                  <a:lnTo>
                    <a:pt x="671" y="348"/>
                  </a:lnTo>
                  <a:lnTo>
                    <a:pt x="800" y="409"/>
                  </a:lnTo>
                  <a:lnTo>
                    <a:pt x="618" y="396"/>
                  </a:lnTo>
                  <a:lnTo>
                    <a:pt x="486" y="447"/>
                  </a:lnTo>
                  <a:lnTo>
                    <a:pt x="350" y="484"/>
                  </a:lnTo>
                  <a:lnTo>
                    <a:pt x="201" y="495"/>
                  </a:lnTo>
                  <a:lnTo>
                    <a:pt x="65" y="458"/>
                  </a:lnTo>
                  <a:lnTo>
                    <a:pt x="0" y="396"/>
                  </a:lnTo>
                  <a:lnTo>
                    <a:pt x="150" y="396"/>
                  </a:lnTo>
                  <a:lnTo>
                    <a:pt x="315" y="336"/>
                  </a:lnTo>
                  <a:lnTo>
                    <a:pt x="166" y="336"/>
                  </a:lnTo>
                  <a:lnTo>
                    <a:pt x="65" y="299"/>
                  </a:lnTo>
                  <a:lnTo>
                    <a:pt x="41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8355600" y="3873600"/>
              <a:ext cx="29880" cy="40320"/>
            </a:xfrm>
            <a:custGeom>
              <a:avLst/>
              <a:gdLst/>
              <a:ahLst/>
              <a:rect l="l" t="t" r="r" b="b"/>
              <a:pathLst>
                <a:path w="387" h="613">
                  <a:moveTo>
                    <a:pt x="67" y="60"/>
                  </a:moveTo>
                  <a:lnTo>
                    <a:pt x="152" y="0"/>
                  </a:lnTo>
                  <a:lnTo>
                    <a:pt x="266" y="0"/>
                  </a:lnTo>
                  <a:lnTo>
                    <a:pt x="348" y="46"/>
                  </a:lnTo>
                  <a:lnTo>
                    <a:pt x="387" y="152"/>
                  </a:lnTo>
                  <a:lnTo>
                    <a:pt x="335" y="86"/>
                  </a:lnTo>
                  <a:lnTo>
                    <a:pt x="266" y="60"/>
                  </a:lnTo>
                  <a:lnTo>
                    <a:pt x="164" y="152"/>
                  </a:lnTo>
                  <a:lnTo>
                    <a:pt x="266" y="270"/>
                  </a:lnTo>
                  <a:lnTo>
                    <a:pt x="266" y="429"/>
                  </a:lnTo>
                  <a:lnTo>
                    <a:pt x="90" y="528"/>
                  </a:lnTo>
                  <a:lnTo>
                    <a:pt x="38" y="613"/>
                  </a:lnTo>
                  <a:lnTo>
                    <a:pt x="0" y="613"/>
                  </a:lnTo>
                  <a:lnTo>
                    <a:pt x="14" y="440"/>
                  </a:lnTo>
                  <a:lnTo>
                    <a:pt x="113" y="367"/>
                  </a:lnTo>
                  <a:lnTo>
                    <a:pt x="113" y="306"/>
                  </a:lnTo>
                  <a:lnTo>
                    <a:pt x="38" y="260"/>
                  </a:lnTo>
                  <a:lnTo>
                    <a:pt x="72" y="152"/>
                  </a:lnTo>
                  <a:lnTo>
                    <a:pt x="0" y="71"/>
                  </a:lnTo>
                  <a:lnTo>
                    <a:pt x="67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8372880" y="3887640"/>
              <a:ext cx="12600" cy="28080"/>
            </a:xfrm>
            <a:custGeom>
              <a:avLst/>
              <a:gdLst/>
              <a:ahLst/>
              <a:rect l="l" t="t" r="r" b="b"/>
              <a:pathLst>
                <a:path w="165" h="424">
                  <a:moveTo>
                    <a:pt x="152" y="0"/>
                  </a:moveTo>
                  <a:lnTo>
                    <a:pt x="152" y="120"/>
                  </a:lnTo>
                  <a:lnTo>
                    <a:pt x="101" y="240"/>
                  </a:lnTo>
                  <a:lnTo>
                    <a:pt x="0" y="362"/>
                  </a:lnTo>
                  <a:lnTo>
                    <a:pt x="0" y="424"/>
                  </a:lnTo>
                  <a:lnTo>
                    <a:pt x="66" y="401"/>
                  </a:lnTo>
                  <a:lnTo>
                    <a:pt x="165" y="129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8244000" y="3740760"/>
              <a:ext cx="174600" cy="82080"/>
            </a:xfrm>
            <a:custGeom>
              <a:avLst/>
              <a:gdLst/>
              <a:ahLst/>
              <a:rect l="l" t="t" r="r" b="b"/>
              <a:pathLst>
                <a:path w="2291" h="1231">
                  <a:moveTo>
                    <a:pt x="231" y="1231"/>
                  </a:moveTo>
                  <a:lnTo>
                    <a:pt x="124" y="1231"/>
                  </a:lnTo>
                  <a:lnTo>
                    <a:pt x="46" y="1170"/>
                  </a:lnTo>
                  <a:lnTo>
                    <a:pt x="0" y="1071"/>
                  </a:lnTo>
                  <a:lnTo>
                    <a:pt x="0" y="984"/>
                  </a:lnTo>
                  <a:lnTo>
                    <a:pt x="23" y="880"/>
                  </a:lnTo>
                  <a:lnTo>
                    <a:pt x="69" y="829"/>
                  </a:lnTo>
                  <a:lnTo>
                    <a:pt x="132" y="728"/>
                  </a:lnTo>
                  <a:lnTo>
                    <a:pt x="205" y="580"/>
                  </a:lnTo>
                  <a:lnTo>
                    <a:pt x="185" y="682"/>
                  </a:lnTo>
                  <a:lnTo>
                    <a:pt x="124" y="804"/>
                  </a:lnTo>
                  <a:lnTo>
                    <a:pt x="124" y="892"/>
                  </a:lnTo>
                  <a:lnTo>
                    <a:pt x="157" y="974"/>
                  </a:lnTo>
                  <a:lnTo>
                    <a:pt x="221" y="1035"/>
                  </a:lnTo>
                  <a:lnTo>
                    <a:pt x="221" y="912"/>
                  </a:lnTo>
                  <a:lnTo>
                    <a:pt x="304" y="937"/>
                  </a:lnTo>
                  <a:lnTo>
                    <a:pt x="284" y="840"/>
                  </a:lnTo>
                  <a:lnTo>
                    <a:pt x="295" y="728"/>
                  </a:lnTo>
                  <a:lnTo>
                    <a:pt x="352" y="668"/>
                  </a:lnTo>
                  <a:lnTo>
                    <a:pt x="405" y="596"/>
                  </a:lnTo>
                  <a:lnTo>
                    <a:pt x="462" y="513"/>
                  </a:lnTo>
                  <a:lnTo>
                    <a:pt x="521" y="456"/>
                  </a:lnTo>
                  <a:lnTo>
                    <a:pt x="631" y="414"/>
                  </a:lnTo>
                  <a:lnTo>
                    <a:pt x="779" y="380"/>
                  </a:lnTo>
                  <a:lnTo>
                    <a:pt x="950" y="286"/>
                  </a:lnTo>
                  <a:lnTo>
                    <a:pt x="1007" y="179"/>
                  </a:lnTo>
                  <a:lnTo>
                    <a:pt x="985" y="310"/>
                  </a:lnTo>
                  <a:lnTo>
                    <a:pt x="943" y="361"/>
                  </a:lnTo>
                  <a:lnTo>
                    <a:pt x="825" y="481"/>
                  </a:lnTo>
                  <a:lnTo>
                    <a:pt x="1005" y="396"/>
                  </a:lnTo>
                  <a:lnTo>
                    <a:pt x="1097" y="373"/>
                  </a:lnTo>
                  <a:lnTo>
                    <a:pt x="1176" y="276"/>
                  </a:lnTo>
                  <a:lnTo>
                    <a:pt x="1236" y="135"/>
                  </a:lnTo>
                  <a:lnTo>
                    <a:pt x="1236" y="225"/>
                  </a:lnTo>
                  <a:lnTo>
                    <a:pt x="1201" y="373"/>
                  </a:lnTo>
                  <a:lnTo>
                    <a:pt x="1372" y="246"/>
                  </a:lnTo>
                  <a:lnTo>
                    <a:pt x="1468" y="218"/>
                  </a:lnTo>
                  <a:lnTo>
                    <a:pt x="1581" y="232"/>
                  </a:lnTo>
                  <a:lnTo>
                    <a:pt x="1683" y="225"/>
                  </a:lnTo>
                  <a:lnTo>
                    <a:pt x="1776" y="179"/>
                  </a:lnTo>
                  <a:lnTo>
                    <a:pt x="1890" y="80"/>
                  </a:lnTo>
                  <a:lnTo>
                    <a:pt x="1978" y="51"/>
                  </a:lnTo>
                  <a:lnTo>
                    <a:pt x="2088" y="0"/>
                  </a:lnTo>
                  <a:lnTo>
                    <a:pt x="1941" y="87"/>
                  </a:lnTo>
                  <a:lnTo>
                    <a:pt x="2061" y="99"/>
                  </a:lnTo>
                  <a:lnTo>
                    <a:pt x="2291" y="51"/>
                  </a:lnTo>
                  <a:lnTo>
                    <a:pt x="2150" y="150"/>
                  </a:lnTo>
                  <a:lnTo>
                    <a:pt x="1994" y="200"/>
                  </a:lnTo>
                  <a:lnTo>
                    <a:pt x="1855" y="186"/>
                  </a:lnTo>
                  <a:lnTo>
                    <a:pt x="1776" y="225"/>
                  </a:lnTo>
                  <a:lnTo>
                    <a:pt x="1713" y="286"/>
                  </a:lnTo>
                  <a:lnTo>
                    <a:pt x="1683" y="361"/>
                  </a:lnTo>
                  <a:lnTo>
                    <a:pt x="1581" y="421"/>
                  </a:lnTo>
                  <a:lnTo>
                    <a:pt x="1434" y="451"/>
                  </a:lnTo>
                  <a:lnTo>
                    <a:pt x="1321" y="481"/>
                  </a:lnTo>
                  <a:lnTo>
                    <a:pt x="1247" y="571"/>
                  </a:lnTo>
                  <a:lnTo>
                    <a:pt x="1201" y="657"/>
                  </a:lnTo>
                  <a:lnTo>
                    <a:pt x="1183" y="717"/>
                  </a:lnTo>
                  <a:lnTo>
                    <a:pt x="1183" y="557"/>
                  </a:lnTo>
                  <a:lnTo>
                    <a:pt x="1207" y="475"/>
                  </a:lnTo>
                  <a:lnTo>
                    <a:pt x="1069" y="481"/>
                  </a:lnTo>
                  <a:lnTo>
                    <a:pt x="910" y="557"/>
                  </a:lnTo>
                  <a:lnTo>
                    <a:pt x="849" y="633"/>
                  </a:lnTo>
                  <a:lnTo>
                    <a:pt x="809" y="754"/>
                  </a:lnTo>
                  <a:lnTo>
                    <a:pt x="752" y="633"/>
                  </a:lnTo>
                  <a:lnTo>
                    <a:pt x="680" y="717"/>
                  </a:lnTo>
                  <a:lnTo>
                    <a:pt x="631" y="880"/>
                  </a:lnTo>
                  <a:lnTo>
                    <a:pt x="592" y="790"/>
                  </a:lnTo>
                  <a:lnTo>
                    <a:pt x="616" y="682"/>
                  </a:lnTo>
                  <a:lnTo>
                    <a:pt x="680" y="633"/>
                  </a:lnTo>
                  <a:lnTo>
                    <a:pt x="701" y="557"/>
                  </a:lnTo>
                  <a:lnTo>
                    <a:pt x="655" y="528"/>
                  </a:lnTo>
                  <a:lnTo>
                    <a:pt x="548" y="580"/>
                  </a:lnTo>
                  <a:lnTo>
                    <a:pt x="502" y="645"/>
                  </a:lnTo>
                  <a:lnTo>
                    <a:pt x="521" y="717"/>
                  </a:lnTo>
                  <a:lnTo>
                    <a:pt x="491" y="880"/>
                  </a:lnTo>
                  <a:lnTo>
                    <a:pt x="456" y="954"/>
                  </a:lnTo>
                  <a:lnTo>
                    <a:pt x="456" y="1025"/>
                  </a:lnTo>
                  <a:lnTo>
                    <a:pt x="456" y="1048"/>
                  </a:lnTo>
                  <a:lnTo>
                    <a:pt x="385" y="1000"/>
                  </a:lnTo>
                  <a:lnTo>
                    <a:pt x="387" y="1127"/>
                  </a:lnTo>
                  <a:lnTo>
                    <a:pt x="284" y="1048"/>
                  </a:lnTo>
                  <a:lnTo>
                    <a:pt x="284" y="1196"/>
                  </a:lnTo>
                  <a:lnTo>
                    <a:pt x="231" y="1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8206560" y="3831480"/>
              <a:ext cx="16200" cy="18360"/>
            </a:xfrm>
            <a:custGeom>
              <a:avLst/>
              <a:gdLst/>
              <a:ahLst/>
              <a:rect l="l" t="t" r="r" b="b"/>
              <a:pathLst>
                <a:path w="217" h="276">
                  <a:moveTo>
                    <a:pt x="0" y="0"/>
                  </a:moveTo>
                  <a:lnTo>
                    <a:pt x="51" y="117"/>
                  </a:lnTo>
                  <a:lnTo>
                    <a:pt x="125" y="165"/>
                  </a:lnTo>
                  <a:lnTo>
                    <a:pt x="217" y="191"/>
                  </a:lnTo>
                  <a:lnTo>
                    <a:pt x="153" y="276"/>
                  </a:lnTo>
                  <a:lnTo>
                    <a:pt x="72" y="239"/>
                  </a:lnTo>
                  <a:lnTo>
                    <a:pt x="8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8207280" y="3716280"/>
              <a:ext cx="235800" cy="127440"/>
            </a:xfrm>
            <a:custGeom>
              <a:avLst/>
              <a:gdLst/>
              <a:ahLst/>
              <a:rect l="l" t="t" r="r" b="b"/>
              <a:pathLst>
                <a:path w="3089" h="1908">
                  <a:moveTo>
                    <a:pt x="267" y="1860"/>
                  </a:moveTo>
                  <a:lnTo>
                    <a:pt x="145" y="1812"/>
                  </a:lnTo>
                  <a:lnTo>
                    <a:pt x="55" y="1722"/>
                  </a:lnTo>
                  <a:lnTo>
                    <a:pt x="16" y="1584"/>
                  </a:lnTo>
                  <a:lnTo>
                    <a:pt x="0" y="1492"/>
                  </a:lnTo>
                  <a:lnTo>
                    <a:pt x="27" y="1429"/>
                  </a:lnTo>
                  <a:lnTo>
                    <a:pt x="78" y="1374"/>
                  </a:lnTo>
                  <a:lnTo>
                    <a:pt x="64" y="1302"/>
                  </a:lnTo>
                  <a:lnTo>
                    <a:pt x="87" y="1155"/>
                  </a:lnTo>
                  <a:lnTo>
                    <a:pt x="152" y="1058"/>
                  </a:lnTo>
                  <a:lnTo>
                    <a:pt x="249" y="985"/>
                  </a:lnTo>
                  <a:lnTo>
                    <a:pt x="359" y="936"/>
                  </a:lnTo>
                  <a:lnTo>
                    <a:pt x="420" y="846"/>
                  </a:lnTo>
                  <a:lnTo>
                    <a:pt x="523" y="745"/>
                  </a:lnTo>
                  <a:lnTo>
                    <a:pt x="609" y="738"/>
                  </a:lnTo>
                  <a:lnTo>
                    <a:pt x="514" y="800"/>
                  </a:lnTo>
                  <a:lnTo>
                    <a:pt x="460" y="860"/>
                  </a:lnTo>
                  <a:lnTo>
                    <a:pt x="460" y="886"/>
                  </a:lnTo>
                  <a:lnTo>
                    <a:pt x="560" y="860"/>
                  </a:lnTo>
                  <a:lnTo>
                    <a:pt x="671" y="745"/>
                  </a:lnTo>
                  <a:lnTo>
                    <a:pt x="733" y="641"/>
                  </a:lnTo>
                  <a:lnTo>
                    <a:pt x="816" y="489"/>
                  </a:lnTo>
                  <a:lnTo>
                    <a:pt x="922" y="416"/>
                  </a:lnTo>
                  <a:lnTo>
                    <a:pt x="1040" y="339"/>
                  </a:lnTo>
                  <a:lnTo>
                    <a:pt x="1196" y="319"/>
                  </a:lnTo>
                  <a:lnTo>
                    <a:pt x="1326" y="302"/>
                  </a:lnTo>
                  <a:lnTo>
                    <a:pt x="1387" y="293"/>
                  </a:lnTo>
                  <a:lnTo>
                    <a:pt x="1453" y="183"/>
                  </a:lnTo>
                  <a:lnTo>
                    <a:pt x="1546" y="106"/>
                  </a:lnTo>
                  <a:lnTo>
                    <a:pt x="1724" y="42"/>
                  </a:lnTo>
                  <a:lnTo>
                    <a:pt x="1862" y="62"/>
                  </a:lnTo>
                  <a:lnTo>
                    <a:pt x="1945" y="81"/>
                  </a:lnTo>
                  <a:lnTo>
                    <a:pt x="2058" y="0"/>
                  </a:lnTo>
                  <a:lnTo>
                    <a:pt x="2344" y="0"/>
                  </a:lnTo>
                  <a:lnTo>
                    <a:pt x="2526" y="27"/>
                  </a:lnTo>
                  <a:lnTo>
                    <a:pt x="2655" y="67"/>
                  </a:lnTo>
                  <a:lnTo>
                    <a:pt x="2734" y="132"/>
                  </a:lnTo>
                  <a:lnTo>
                    <a:pt x="2873" y="132"/>
                  </a:lnTo>
                  <a:lnTo>
                    <a:pt x="3013" y="196"/>
                  </a:lnTo>
                  <a:lnTo>
                    <a:pt x="3089" y="293"/>
                  </a:lnTo>
                  <a:lnTo>
                    <a:pt x="3013" y="231"/>
                  </a:lnTo>
                  <a:lnTo>
                    <a:pt x="2895" y="173"/>
                  </a:lnTo>
                  <a:lnTo>
                    <a:pt x="2774" y="183"/>
                  </a:lnTo>
                  <a:lnTo>
                    <a:pt x="2577" y="132"/>
                  </a:lnTo>
                  <a:lnTo>
                    <a:pt x="2367" y="132"/>
                  </a:lnTo>
                  <a:lnTo>
                    <a:pt x="2190" y="173"/>
                  </a:lnTo>
                  <a:lnTo>
                    <a:pt x="2017" y="245"/>
                  </a:lnTo>
                  <a:lnTo>
                    <a:pt x="1922" y="319"/>
                  </a:lnTo>
                  <a:lnTo>
                    <a:pt x="1862" y="330"/>
                  </a:lnTo>
                  <a:lnTo>
                    <a:pt x="1890" y="157"/>
                  </a:lnTo>
                  <a:lnTo>
                    <a:pt x="1763" y="132"/>
                  </a:lnTo>
                  <a:lnTo>
                    <a:pt x="1653" y="207"/>
                  </a:lnTo>
                  <a:lnTo>
                    <a:pt x="1592" y="330"/>
                  </a:lnTo>
                  <a:lnTo>
                    <a:pt x="1339" y="339"/>
                  </a:lnTo>
                  <a:lnTo>
                    <a:pt x="1093" y="416"/>
                  </a:lnTo>
                  <a:lnTo>
                    <a:pt x="882" y="583"/>
                  </a:lnTo>
                  <a:lnTo>
                    <a:pt x="772" y="779"/>
                  </a:lnTo>
                  <a:lnTo>
                    <a:pt x="647" y="860"/>
                  </a:lnTo>
                  <a:lnTo>
                    <a:pt x="477" y="936"/>
                  </a:lnTo>
                  <a:lnTo>
                    <a:pt x="317" y="985"/>
                  </a:lnTo>
                  <a:lnTo>
                    <a:pt x="227" y="1082"/>
                  </a:lnTo>
                  <a:lnTo>
                    <a:pt x="209" y="1245"/>
                  </a:lnTo>
                  <a:lnTo>
                    <a:pt x="267" y="1390"/>
                  </a:lnTo>
                  <a:lnTo>
                    <a:pt x="359" y="1471"/>
                  </a:lnTo>
                  <a:lnTo>
                    <a:pt x="460" y="1535"/>
                  </a:lnTo>
                  <a:lnTo>
                    <a:pt x="278" y="1499"/>
                  </a:lnTo>
                  <a:lnTo>
                    <a:pt x="145" y="1429"/>
                  </a:lnTo>
                  <a:lnTo>
                    <a:pt x="124" y="1554"/>
                  </a:lnTo>
                  <a:lnTo>
                    <a:pt x="209" y="1676"/>
                  </a:lnTo>
                  <a:lnTo>
                    <a:pt x="359" y="1730"/>
                  </a:lnTo>
                  <a:lnTo>
                    <a:pt x="477" y="1730"/>
                  </a:lnTo>
                  <a:lnTo>
                    <a:pt x="647" y="1710"/>
                  </a:lnTo>
                  <a:lnTo>
                    <a:pt x="574" y="1835"/>
                  </a:lnTo>
                  <a:lnTo>
                    <a:pt x="449" y="1908"/>
                  </a:lnTo>
                  <a:lnTo>
                    <a:pt x="267" y="18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8388720" y="3921840"/>
              <a:ext cx="23760" cy="65160"/>
            </a:xfrm>
            <a:custGeom>
              <a:avLst/>
              <a:gdLst/>
              <a:ahLst/>
              <a:rect l="l" t="t" r="r" b="b"/>
              <a:pathLst>
                <a:path w="309" h="976">
                  <a:moveTo>
                    <a:pt x="186" y="0"/>
                  </a:moveTo>
                  <a:lnTo>
                    <a:pt x="186" y="187"/>
                  </a:lnTo>
                  <a:lnTo>
                    <a:pt x="147" y="459"/>
                  </a:lnTo>
                  <a:lnTo>
                    <a:pt x="101" y="666"/>
                  </a:lnTo>
                  <a:lnTo>
                    <a:pt x="0" y="976"/>
                  </a:lnTo>
                  <a:lnTo>
                    <a:pt x="136" y="831"/>
                  </a:lnTo>
                  <a:lnTo>
                    <a:pt x="241" y="605"/>
                  </a:lnTo>
                  <a:lnTo>
                    <a:pt x="288" y="446"/>
                  </a:lnTo>
                  <a:lnTo>
                    <a:pt x="309" y="296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8289000" y="4096800"/>
              <a:ext cx="341640" cy="338760"/>
            </a:xfrm>
            <a:custGeom>
              <a:avLst/>
              <a:gdLst/>
              <a:ahLst/>
              <a:rect l="l" t="t" r="r" b="b"/>
              <a:pathLst>
                <a:path w="4469" h="5071">
                  <a:moveTo>
                    <a:pt x="4469" y="1452"/>
                  </a:moveTo>
                  <a:lnTo>
                    <a:pt x="3878" y="1759"/>
                  </a:lnTo>
                  <a:lnTo>
                    <a:pt x="3544" y="2040"/>
                  </a:lnTo>
                  <a:lnTo>
                    <a:pt x="3228" y="2346"/>
                  </a:lnTo>
                  <a:lnTo>
                    <a:pt x="2956" y="2784"/>
                  </a:lnTo>
                  <a:lnTo>
                    <a:pt x="2733" y="3276"/>
                  </a:lnTo>
                  <a:lnTo>
                    <a:pt x="2578" y="3865"/>
                  </a:lnTo>
                  <a:lnTo>
                    <a:pt x="2483" y="4482"/>
                  </a:lnTo>
                  <a:lnTo>
                    <a:pt x="2421" y="5071"/>
                  </a:lnTo>
                  <a:lnTo>
                    <a:pt x="0" y="5071"/>
                  </a:lnTo>
                  <a:lnTo>
                    <a:pt x="282" y="4821"/>
                  </a:lnTo>
                  <a:lnTo>
                    <a:pt x="499" y="4544"/>
                  </a:lnTo>
                  <a:lnTo>
                    <a:pt x="657" y="4297"/>
                  </a:lnTo>
                  <a:lnTo>
                    <a:pt x="900" y="4080"/>
                  </a:lnTo>
                  <a:lnTo>
                    <a:pt x="1182" y="3924"/>
                  </a:lnTo>
                  <a:lnTo>
                    <a:pt x="1525" y="3087"/>
                  </a:lnTo>
                  <a:lnTo>
                    <a:pt x="1089" y="3243"/>
                  </a:lnTo>
                  <a:lnTo>
                    <a:pt x="99" y="3801"/>
                  </a:lnTo>
                  <a:lnTo>
                    <a:pt x="900" y="3214"/>
                  </a:lnTo>
                  <a:lnTo>
                    <a:pt x="1525" y="2784"/>
                  </a:lnTo>
                  <a:lnTo>
                    <a:pt x="1835" y="2443"/>
                  </a:lnTo>
                  <a:lnTo>
                    <a:pt x="2055" y="2100"/>
                  </a:lnTo>
                  <a:lnTo>
                    <a:pt x="2209" y="1698"/>
                  </a:lnTo>
                  <a:lnTo>
                    <a:pt x="2306" y="1362"/>
                  </a:lnTo>
                  <a:lnTo>
                    <a:pt x="2145" y="894"/>
                  </a:lnTo>
                  <a:lnTo>
                    <a:pt x="1771" y="307"/>
                  </a:lnTo>
                  <a:lnTo>
                    <a:pt x="1459" y="0"/>
                  </a:lnTo>
                  <a:lnTo>
                    <a:pt x="1894" y="341"/>
                  </a:lnTo>
                  <a:lnTo>
                    <a:pt x="2306" y="894"/>
                  </a:lnTo>
                  <a:lnTo>
                    <a:pt x="2456" y="1298"/>
                  </a:lnTo>
                  <a:lnTo>
                    <a:pt x="2610" y="1698"/>
                  </a:lnTo>
                  <a:lnTo>
                    <a:pt x="2707" y="2135"/>
                  </a:lnTo>
                  <a:lnTo>
                    <a:pt x="3076" y="1913"/>
                  </a:lnTo>
                  <a:lnTo>
                    <a:pt x="2578" y="2346"/>
                  </a:lnTo>
                  <a:lnTo>
                    <a:pt x="2209" y="2784"/>
                  </a:lnTo>
                  <a:lnTo>
                    <a:pt x="2020" y="3119"/>
                  </a:lnTo>
                  <a:lnTo>
                    <a:pt x="1894" y="3463"/>
                  </a:lnTo>
                  <a:lnTo>
                    <a:pt x="1802" y="3801"/>
                  </a:lnTo>
                  <a:lnTo>
                    <a:pt x="1617" y="4177"/>
                  </a:lnTo>
                  <a:lnTo>
                    <a:pt x="1459" y="4423"/>
                  </a:lnTo>
                  <a:lnTo>
                    <a:pt x="1432" y="4669"/>
                  </a:lnTo>
                  <a:lnTo>
                    <a:pt x="1432" y="4857"/>
                  </a:lnTo>
                  <a:lnTo>
                    <a:pt x="1556" y="4509"/>
                  </a:lnTo>
                  <a:lnTo>
                    <a:pt x="1736" y="4177"/>
                  </a:lnTo>
                  <a:lnTo>
                    <a:pt x="1958" y="3865"/>
                  </a:lnTo>
                  <a:lnTo>
                    <a:pt x="2055" y="3619"/>
                  </a:lnTo>
                  <a:lnTo>
                    <a:pt x="2270" y="3340"/>
                  </a:lnTo>
                  <a:lnTo>
                    <a:pt x="2639" y="3054"/>
                  </a:lnTo>
                  <a:lnTo>
                    <a:pt x="2920" y="2658"/>
                  </a:lnTo>
                  <a:lnTo>
                    <a:pt x="3228" y="2226"/>
                  </a:lnTo>
                  <a:lnTo>
                    <a:pt x="3602" y="1883"/>
                  </a:lnTo>
                  <a:lnTo>
                    <a:pt x="3943" y="1637"/>
                  </a:lnTo>
                  <a:lnTo>
                    <a:pt x="4469" y="1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8265960" y="4168800"/>
              <a:ext cx="134280" cy="142560"/>
            </a:xfrm>
            <a:custGeom>
              <a:avLst/>
              <a:gdLst/>
              <a:ahLst/>
              <a:rect l="l" t="t" r="r" b="b"/>
              <a:pathLst>
                <a:path w="1765" h="2135">
                  <a:moveTo>
                    <a:pt x="1710" y="0"/>
                  </a:moveTo>
                  <a:lnTo>
                    <a:pt x="1765" y="61"/>
                  </a:lnTo>
                  <a:lnTo>
                    <a:pt x="1425" y="744"/>
                  </a:lnTo>
                  <a:lnTo>
                    <a:pt x="994" y="1147"/>
                  </a:lnTo>
                  <a:lnTo>
                    <a:pt x="743" y="1579"/>
                  </a:lnTo>
                  <a:lnTo>
                    <a:pt x="0" y="2135"/>
                  </a:lnTo>
                  <a:lnTo>
                    <a:pt x="306" y="1482"/>
                  </a:lnTo>
                  <a:lnTo>
                    <a:pt x="1020" y="645"/>
                  </a:lnTo>
                  <a:lnTo>
                    <a:pt x="1579" y="248"/>
                  </a:lnTo>
                  <a:lnTo>
                    <a:pt x="17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8526240" y="3989160"/>
              <a:ext cx="109080" cy="162720"/>
            </a:xfrm>
            <a:custGeom>
              <a:avLst/>
              <a:gdLst/>
              <a:ahLst/>
              <a:rect l="l" t="t" r="r" b="b"/>
              <a:pathLst>
                <a:path w="1430" h="2441">
                  <a:moveTo>
                    <a:pt x="0" y="0"/>
                  </a:moveTo>
                  <a:lnTo>
                    <a:pt x="374" y="373"/>
                  </a:lnTo>
                  <a:lnTo>
                    <a:pt x="745" y="929"/>
                  </a:lnTo>
                  <a:lnTo>
                    <a:pt x="1430" y="2441"/>
                  </a:lnTo>
                  <a:lnTo>
                    <a:pt x="718" y="961"/>
                  </a:lnTo>
                  <a:lnTo>
                    <a:pt x="347" y="4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8223120" y="4018680"/>
              <a:ext cx="174600" cy="322560"/>
            </a:xfrm>
            <a:custGeom>
              <a:avLst/>
              <a:gdLst/>
              <a:ahLst/>
              <a:rect l="l" t="t" r="r" b="b"/>
              <a:pathLst>
                <a:path w="2285" h="4830">
                  <a:moveTo>
                    <a:pt x="2285" y="0"/>
                  </a:moveTo>
                  <a:lnTo>
                    <a:pt x="1736" y="296"/>
                  </a:lnTo>
                  <a:lnTo>
                    <a:pt x="1471" y="507"/>
                  </a:lnTo>
                  <a:lnTo>
                    <a:pt x="1198" y="646"/>
                  </a:lnTo>
                  <a:lnTo>
                    <a:pt x="862" y="1140"/>
                  </a:lnTo>
                  <a:lnTo>
                    <a:pt x="688" y="1755"/>
                  </a:lnTo>
                  <a:lnTo>
                    <a:pt x="620" y="2283"/>
                  </a:lnTo>
                  <a:lnTo>
                    <a:pt x="559" y="2690"/>
                  </a:lnTo>
                  <a:lnTo>
                    <a:pt x="446" y="3017"/>
                  </a:lnTo>
                  <a:lnTo>
                    <a:pt x="365" y="3412"/>
                  </a:lnTo>
                  <a:lnTo>
                    <a:pt x="286" y="3753"/>
                  </a:lnTo>
                  <a:lnTo>
                    <a:pt x="270" y="4021"/>
                  </a:lnTo>
                  <a:lnTo>
                    <a:pt x="224" y="4254"/>
                  </a:lnTo>
                  <a:lnTo>
                    <a:pt x="207" y="4383"/>
                  </a:lnTo>
                  <a:lnTo>
                    <a:pt x="132" y="4577"/>
                  </a:lnTo>
                  <a:lnTo>
                    <a:pt x="0" y="4830"/>
                  </a:lnTo>
                  <a:lnTo>
                    <a:pt x="240" y="4421"/>
                  </a:lnTo>
                  <a:lnTo>
                    <a:pt x="381" y="4104"/>
                  </a:lnTo>
                  <a:lnTo>
                    <a:pt x="574" y="3689"/>
                  </a:lnTo>
                  <a:lnTo>
                    <a:pt x="688" y="3368"/>
                  </a:lnTo>
                  <a:lnTo>
                    <a:pt x="780" y="2986"/>
                  </a:lnTo>
                  <a:lnTo>
                    <a:pt x="826" y="2430"/>
                  </a:lnTo>
                  <a:lnTo>
                    <a:pt x="766" y="3006"/>
                  </a:lnTo>
                  <a:lnTo>
                    <a:pt x="574" y="3592"/>
                  </a:lnTo>
                  <a:lnTo>
                    <a:pt x="305" y="4083"/>
                  </a:lnTo>
                  <a:lnTo>
                    <a:pt x="365" y="3592"/>
                  </a:lnTo>
                  <a:lnTo>
                    <a:pt x="497" y="3006"/>
                  </a:lnTo>
                  <a:lnTo>
                    <a:pt x="607" y="2718"/>
                  </a:lnTo>
                  <a:lnTo>
                    <a:pt x="730" y="1920"/>
                  </a:lnTo>
                  <a:lnTo>
                    <a:pt x="862" y="1377"/>
                  </a:lnTo>
                  <a:lnTo>
                    <a:pt x="1022" y="973"/>
                  </a:lnTo>
                  <a:lnTo>
                    <a:pt x="1229" y="692"/>
                  </a:lnTo>
                  <a:lnTo>
                    <a:pt x="1532" y="523"/>
                  </a:lnTo>
                  <a:lnTo>
                    <a:pt x="1833" y="268"/>
                  </a:lnTo>
                  <a:lnTo>
                    <a:pt x="22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7979040" y="4241880"/>
              <a:ext cx="279000" cy="194760"/>
            </a:xfrm>
            <a:custGeom>
              <a:avLst/>
              <a:gdLst/>
              <a:ahLst/>
              <a:rect l="l" t="t" r="r" b="b"/>
              <a:pathLst>
                <a:path w="3654" h="2924">
                  <a:moveTo>
                    <a:pt x="3236" y="1418"/>
                  </a:moveTo>
                  <a:lnTo>
                    <a:pt x="3179" y="1729"/>
                  </a:lnTo>
                  <a:lnTo>
                    <a:pt x="3291" y="2195"/>
                  </a:lnTo>
                  <a:lnTo>
                    <a:pt x="3543" y="2562"/>
                  </a:lnTo>
                  <a:lnTo>
                    <a:pt x="3654" y="2845"/>
                  </a:lnTo>
                  <a:lnTo>
                    <a:pt x="3432" y="2654"/>
                  </a:lnTo>
                  <a:lnTo>
                    <a:pt x="3261" y="2237"/>
                  </a:lnTo>
                  <a:lnTo>
                    <a:pt x="3192" y="1925"/>
                  </a:lnTo>
                  <a:lnTo>
                    <a:pt x="2796" y="2272"/>
                  </a:lnTo>
                  <a:lnTo>
                    <a:pt x="2796" y="2592"/>
                  </a:lnTo>
                  <a:lnTo>
                    <a:pt x="3015" y="2924"/>
                  </a:lnTo>
                  <a:lnTo>
                    <a:pt x="2777" y="2668"/>
                  </a:lnTo>
                  <a:lnTo>
                    <a:pt x="2715" y="2527"/>
                  </a:lnTo>
                  <a:lnTo>
                    <a:pt x="2683" y="2356"/>
                  </a:lnTo>
                  <a:lnTo>
                    <a:pt x="2683" y="2237"/>
                  </a:lnTo>
                  <a:lnTo>
                    <a:pt x="2733" y="2114"/>
                  </a:lnTo>
                  <a:lnTo>
                    <a:pt x="2937" y="1815"/>
                  </a:lnTo>
                  <a:lnTo>
                    <a:pt x="2983" y="1775"/>
                  </a:lnTo>
                  <a:lnTo>
                    <a:pt x="3131" y="1753"/>
                  </a:lnTo>
                  <a:lnTo>
                    <a:pt x="3131" y="1683"/>
                  </a:lnTo>
                  <a:lnTo>
                    <a:pt x="2904" y="1608"/>
                  </a:lnTo>
                  <a:lnTo>
                    <a:pt x="2808" y="1619"/>
                  </a:lnTo>
                  <a:lnTo>
                    <a:pt x="2427" y="2068"/>
                  </a:lnTo>
                  <a:lnTo>
                    <a:pt x="2505" y="1826"/>
                  </a:lnTo>
                  <a:lnTo>
                    <a:pt x="2268" y="1826"/>
                  </a:lnTo>
                  <a:lnTo>
                    <a:pt x="1579" y="2045"/>
                  </a:lnTo>
                  <a:lnTo>
                    <a:pt x="1401" y="2356"/>
                  </a:lnTo>
                  <a:lnTo>
                    <a:pt x="1309" y="2578"/>
                  </a:lnTo>
                  <a:lnTo>
                    <a:pt x="1296" y="2832"/>
                  </a:lnTo>
                  <a:lnTo>
                    <a:pt x="1265" y="2608"/>
                  </a:lnTo>
                  <a:lnTo>
                    <a:pt x="1276" y="2452"/>
                  </a:lnTo>
                  <a:lnTo>
                    <a:pt x="1447" y="2015"/>
                  </a:lnTo>
                  <a:lnTo>
                    <a:pt x="1039" y="1889"/>
                  </a:lnTo>
                  <a:lnTo>
                    <a:pt x="797" y="1859"/>
                  </a:lnTo>
                  <a:lnTo>
                    <a:pt x="493" y="1909"/>
                  </a:lnTo>
                  <a:lnTo>
                    <a:pt x="219" y="1925"/>
                  </a:lnTo>
                  <a:lnTo>
                    <a:pt x="0" y="1874"/>
                  </a:lnTo>
                  <a:lnTo>
                    <a:pt x="255" y="1889"/>
                  </a:lnTo>
                  <a:lnTo>
                    <a:pt x="529" y="1859"/>
                  </a:lnTo>
                  <a:lnTo>
                    <a:pt x="828" y="1799"/>
                  </a:lnTo>
                  <a:lnTo>
                    <a:pt x="973" y="1775"/>
                  </a:lnTo>
                  <a:lnTo>
                    <a:pt x="1199" y="1826"/>
                  </a:lnTo>
                  <a:lnTo>
                    <a:pt x="1436" y="1826"/>
                  </a:lnTo>
                  <a:lnTo>
                    <a:pt x="1639" y="1753"/>
                  </a:lnTo>
                  <a:lnTo>
                    <a:pt x="1821" y="1619"/>
                  </a:lnTo>
                  <a:lnTo>
                    <a:pt x="1982" y="1481"/>
                  </a:lnTo>
                  <a:lnTo>
                    <a:pt x="2091" y="1367"/>
                  </a:lnTo>
                  <a:lnTo>
                    <a:pt x="2224" y="1176"/>
                  </a:lnTo>
                  <a:lnTo>
                    <a:pt x="2224" y="1257"/>
                  </a:lnTo>
                  <a:lnTo>
                    <a:pt x="2634" y="1107"/>
                  </a:lnTo>
                  <a:lnTo>
                    <a:pt x="2591" y="955"/>
                  </a:lnTo>
                  <a:lnTo>
                    <a:pt x="2476" y="777"/>
                  </a:lnTo>
                  <a:lnTo>
                    <a:pt x="2314" y="648"/>
                  </a:lnTo>
                  <a:lnTo>
                    <a:pt x="2188" y="648"/>
                  </a:lnTo>
                  <a:lnTo>
                    <a:pt x="2268" y="527"/>
                  </a:lnTo>
                  <a:lnTo>
                    <a:pt x="2556" y="393"/>
                  </a:lnTo>
                  <a:lnTo>
                    <a:pt x="2746" y="316"/>
                  </a:lnTo>
                  <a:lnTo>
                    <a:pt x="2983" y="141"/>
                  </a:lnTo>
                  <a:lnTo>
                    <a:pt x="3131" y="30"/>
                  </a:lnTo>
                  <a:lnTo>
                    <a:pt x="3592" y="0"/>
                  </a:lnTo>
                  <a:lnTo>
                    <a:pt x="3573" y="30"/>
                  </a:lnTo>
                  <a:lnTo>
                    <a:pt x="3140" y="74"/>
                  </a:lnTo>
                  <a:lnTo>
                    <a:pt x="2886" y="316"/>
                  </a:lnTo>
                  <a:lnTo>
                    <a:pt x="2591" y="461"/>
                  </a:lnTo>
                  <a:lnTo>
                    <a:pt x="2492" y="478"/>
                  </a:lnTo>
                  <a:lnTo>
                    <a:pt x="2314" y="558"/>
                  </a:lnTo>
                  <a:lnTo>
                    <a:pt x="2476" y="635"/>
                  </a:lnTo>
                  <a:lnTo>
                    <a:pt x="2634" y="777"/>
                  </a:lnTo>
                  <a:lnTo>
                    <a:pt x="2733" y="916"/>
                  </a:lnTo>
                  <a:lnTo>
                    <a:pt x="2796" y="1107"/>
                  </a:lnTo>
                  <a:lnTo>
                    <a:pt x="2832" y="1386"/>
                  </a:lnTo>
                  <a:lnTo>
                    <a:pt x="3370" y="1176"/>
                  </a:lnTo>
                  <a:lnTo>
                    <a:pt x="3236" y="1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7699680" y="3811680"/>
              <a:ext cx="46800" cy="76680"/>
            </a:xfrm>
            <a:custGeom>
              <a:avLst/>
              <a:gdLst/>
              <a:ahLst/>
              <a:rect l="l" t="t" r="r" b="b"/>
              <a:pathLst>
                <a:path w="620" h="1156">
                  <a:moveTo>
                    <a:pt x="519" y="950"/>
                  </a:moveTo>
                  <a:lnTo>
                    <a:pt x="620" y="971"/>
                  </a:lnTo>
                  <a:lnTo>
                    <a:pt x="620" y="1059"/>
                  </a:lnTo>
                  <a:lnTo>
                    <a:pt x="547" y="1088"/>
                  </a:lnTo>
                  <a:lnTo>
                    <a:pt x="341" y="1098"/>
                  </a:lnTo>
                  <a:lnTo>
                    <a:pt x="242" y="1059"/>
                  </a:lnTo>
                  <a:lnTo>
                    <a:pt x="169" y="1075"/>
                  </a:lnTo>
                  <a:lnTo>
                    <a:pt x="0" y="1156"/>
                  </a:lnTo>
                  <a:lnTo>
                    <a:pt x="116" y="1015"/>
                  </a:lnTo>
                  <a:lnTo>
                    <a:pt x="305" y="909"/>
                  </a:lnTo>
                  <a:lnTo>
                    <a:pt x="429" y="978"/>
                  </a:lnTo>
                  <a:lnTo>
                    <a:pt x="464" y="964"/>
                  </a:lnTo>
                  <a:lnTo>
                    <a:pt x="452" y="782"/>
                  </a:lnTo>
                  <a:lnTo>
                    <a:pt x="429" y="540"/>
                  </a:lnTo>
                  <a:lnTo>
                    <a:pt x="393" y="293"/>
                  </a:lnTo>
                  <a:lnTo>
                    <a:pt x="305" y="24"/>
                  </a:lnTo>
                  <a:lnTo>
                    <a:pt x="351" y="0"/>
                  </a:lnTo>
                  <a:lnTo>
                    <a:pt x="413" y="202"/>
                  </a:lnTo>
                  <a:lnTo>
                    <a:pt x="464" y="540"/>
                  </a:lnTo>
                  <a:lnTo>
                    <a:pt x="489" y="941"/>
                  </a:lnTo>
                  <a:lnTo>
                    <a:pt x="519" y="9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7707240" y="3884400"/>
              <a:ext cx="23040" cy="34920"/>
            </a:xfrm>
            <a:custGeom>
              <a:avLst/>
              <a:gdLst/>
              <a:ahLst/>
              <a:rect l="l" t="t" r="r" b="b"/>
              <a:pathLst>
                <a:path w="298" h="529">
                  <a:moveTo>
                    <a:pt x="298" y="0"/>
                  </a:moveTo>
                  <a:lnTo>
                    <a:pt x="263" y="99"/>
                  </a:lnTo>
                  <a:lnTo>
                    <a:pt x="37" y="169"/>
                  </a:lnTo>
                  <a:lnTo>
                    <a:pt x="77" y="266"/>
                  </a:lnTo>
                  <a:lnTo>
                    <a:pt x="167" y="344"/>
                  </a:lnTo>
                  <a:lnTo>
                    <a:pt x="0" y="494"/>
                  </a:lnTo>
                  <a:lnTo>
                    <a:pt x="7" y="529"/>
                  </a:lnTo>
                  <a:lnTo>
                    <a:pt x="107" y="501"/>
                  </a:lnTo>
                  <a:lnTo>
                    <a:pt x="206" y="400"/>
                  </a:lnTo>
                  <a:lnTo>
                    <a:pt x="206" y="330"/>
                  </a:lnTo>
                  <a:lnTo>
                    <a:pt x="99" y="213"/>
                  </a:lnTo>
                  <a:lnTo>
                    <a:pt x="198" y="160"/>
                  </a:lnTo>
                  <a:lnTo>
                    <a:pt x="173" y="213"/>
                  </a:lnTo>
                  <a:lnTo>
                    <a:pt x="263" y="160"/>
                  </a:lnTo>
                  <a:lnTo>
                    <a:pt x="294" y="83"/>
                  </a:lnTo>
                  <a:lnTo>
                    <a:pt x="2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7699320" y="3885120"/>
              <a:ext cx="54720" cy="77760"/>
            </a:xfrm>
            <a:custGeom>
              <a:avLst/>
              <a:gdLst/>
              <a:ahLst/>
              <a:rect l="l" t="t" r="r" b="b"/>
              <a:pathLst>
                <a:path w="721" h="1164">
                  <a:moveTo>
                    <a:pt x="433" y="0"/>
                  </a:moveTo>
                  <a:lnTo>
                    <a:pt x="440" y="73"/>
                  </a:lnTo>
                  <a:lnTo>
                    <a:pt x="721" y="779"/>
                  </a:lnTo>
                  <a:lnTo>
                    <a:pt x="679" y="846"/>
                  </a:lnTo>
                  <a:lnTo>
                    <a:pt x="599" y="878"/>
                  </a:lnTo>
                  <a:lnTo>
                    <a:pt x="373" y="864"/>
                  </a:lnTo>
                  <a:lnTo>
                    <a:pt x="295" y="899"/>
                  </a:lnTo>
                  <a:lnTo>
                    <a:pt x="242" y="1095"/>
                  </a:lnTo>
                  <a:lnTo>
                    <a:pt x="0" y="1164"/>
                  </a:lnTo>
                  <a:lnTo>
                    <a:pt x="11" y="1084"/>
                  </a:lnTo>
                  <a:lnTo>
                    <a:pt x="76" y="1095"/>
                  </a:lnTo>
                  <a:lnTo>
                    <a:pt x="217" y="1065"/>
                  </a:lnTo>
                  <a:lnTo>
                    <a:pt x="265" y="882"/>
                  </a:lnTo>
                  <a:lnTo>
                    <a:pt x="202" y="832"/>
                  </a:lnTo>
                  <a:lnTo>
                    <a:pt x="217" y="814"/>
                  </a:lnTo>
                  <a:lnTo>
                    <a:pt x="362" y="779"/>
                  </a:lnTo>
                  <a:lnTo>
                    <a:pt x="518" y="814"/>
                  </a:lnTo>
                  <a:lnTo>
                    <a:pt x="606" y="802"/>
                  </a:lnTo>
                  <a:lnTo>
                    <a:pt x="679" y="756"/>
                  </a:lnTo>
                  <a:lnTo>
                    <a:pt x="449" y="194"/>
                  </a:lnTo>
                  <a:lnTo>
                    <a:pt x="373" y="97"/>
                  </a:lnTo>
                  <a:lnTo>
                    <a:pt x="4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7692480" y="3924000"/>
              <a:ext cx="25560" cy="52200"/>
            </a:xfrm>
            <a:custGeom>
              <a:avLst/>
              <a:gdLst/>
              <a:ahLst/>
              <a:rect l="l" t="t" r="r" b="b"/>
              <a:pathLst>
                <a:path w="339" h="788">
                  <a:moveTo>
                    <a:pt x="339" y="0"/>
                  </a:moveTo>
                  <a:lnTo>
                    <a:pt x="319" y="120"/>
                  </a:lnTo>
                  <a:lnTo>
                    <a:pt x="288" y="209"/>
                  </a:lnTo>
                  <a:lnTo>
                    <a:pt x="233" y="283"/>
                  </a:lnTo>
                  <a:lnTo>
                    <a:pt x="152" y="382"/>
                  </a:lnTo>
                  <a:lnTo>
                    <a:pt x="97" y="428"/>
                  </a:lnTo>
                  <a:lnTo>
                    <a:pt x="72" y="391"/>
                  </a:lnTo>
                  <a:lnTo>
                    <a:pt x="42" y="583"/>
                  </a:lnTo>
                  <a:lnTo>
                    <a:pt x="0" y="788"/>
                  </a:lnTo>
                  <a:lnTo>
                    <a:pt x="97" y="599"/>
                  </a:lnTo>
                  <a:lnTo>
                    <a:pt x="127" y="463"/>
                  </a:lnTo>
                  <a:lnTo>
                    <a:pt x="266" y="329"/>
                  </a:lnTo>
                  <a:lnTo>
                    <a:pt x="319" y="221"/>
                  </a:lnTo>
                  <a:lnTo>
                    <a:pt x="339" y="101"/>
                  </a:lnTo>
                  <a:lnTo>
                    <a:pt x="3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7697880" y="3960360"/>
              <a:ext cx="16200" cy="9000"/>
            </a:xfrm>
            <a:custGeom>
              <a:avLst/>
              <a:gdLst/>
              <a:ahLst/>
              <a:rect l="l" t="t" r="r" b="b"/>
              <a:pathLst>
                <a:path w="216" h="137">
                  <a:moveTo>
                    <a:pt x="49" y="0"/>
                  </a:moveTo>
                  <a:lnTo>
                    <a:pt x="216" y="117"/>
                  </a:lnTo>
                  <a:lnTo>
                    <a:pt x="216" y="137"/>
                  </a:lnTo>
                  <a:lnTo>
                    <a:pt x="0" y="61"/>
                  </a:lnTo>
                  <a:lnTo>
                    <a:pt x="0" y="6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7702920" y="3978000"/>
              <a:ext cx="11880" cy="9000"/>
            </a:xfrm>
            <a:custGeom>
              <a:avLst/>
              <a:gdLst/>
              <a:ahLst/>
              <a:rect l="l" t="t" r="r" b="b"/>
              <a:pathLst>
                <a:path w="159" h="136">
                  <a:moveTo>
                    <a:pt x="152" y="0"/>
                  </a:moveTo>
                  <a:lnTo>
                    <a:pt x="0" y="31"/>
                  </a:lnTo>
                  <a:lnTo>
                    <a:pt x="0" y="97"/>
                  </a:lnTo>
                  <a:lnTo>
                    <a:pt x="67" y="136"/>
                  </a:lnTo>
                  <a:lnTo>
                    <a:pt x="159" y="31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7457760" y="3899880"/>
              <a:ext cx="249120" cy="125640"/>
            </a:xfrm>
            <a:custGeom>
              <a:avLst/>
              <a:gdLst/>
              <a:ahLst/>
              <a:rect l="l" t="t" r="r" b="b"/>
              <a:pathLst>
                <a:path w="3264" h="1881">
                  <a:moveTo>
                    <a:pt x="3264" y="1419"/>
                  </a:moveTo>
                  <a:lnTo>
                    <a:pt x="3264" y="1489"/>
                  </a:lnTo>
                  <a:lnTo>
                    <a:pt x="3204" y="1586"/>
                  </a:lnTo>
                  <a:lnTo>
                    <a:pt x="3082" y="1626"/>
                  </a:lnTo>
                  <a:lnTo>
                    <a:pt x="2943" y="1617"/>
                  </a:lnTo>
                  <a:lnTo>
                    <a:pt x="2679" y="1593"/>
                  </a:lnTo>
                  <a:lnTo>
                    <a:pt x="2515" y="1617"/>
                  </a:lnTo>
                  <a:lnTo>
                    <a:pt x="2400" y="1687"/>
                  </a:lnTo>
                  <a:lnTo>
                    <a:pt x="2646" y="1881"/>
                  </a:lnTo>
                  <a:lnTo>
                    <a:pt x="2086" y="1531"/>
                  </a:lnTo>
                  <a:lnTo>
                    <a:pt x="1563" y="1226"/>
                  </a:lnTo>
                  <a:lnTo>
                    <a:pt x="1058" y="920"/>
                  </a:lnTo>
                  <a:lnTo>
                    <a:pt x="602" y="775"/>
                  </a:lnTo>
                  <a:lnTo>
                    <a:pt x="390" y="718"/>
                  </a:lnTo>
                  <a:lnTo>
                    <a:pt x="752" y="800"/>
                  </a:lnTo>
                  <a:lnTo>
                    <a:pt x="1183" y="920"/>
                  </a:lnTo>
                  <a:lnTo>
                    <a:pt x="1533" y="1139"/>
                  </a:lnTo>
                  <a:lnTo>
                    <a:pt x="1381" y="839"/>
                  </a:lnTo>
                  <a:lnTo>
                    <a:pt x="1067" y="593"/>
                  </a:lnTo>
                  <a:lnTo>
                    <a:pt x="655" y="410"/>
                  </a:lnTo>
                  <a:lnTo>
                    <a:pt x="231" y="316"/>
                  </a:lnTo>
                  <a:lnTo>
                    <a:pt x="0" y="551"/>
                  </a:lnTo>
                  <a:lnTo>
                    <a:pt x="196" y="270"/>
                  </a:lnTo>
                  <a:lnTo>
                    <a:pt x="602" y="351"/>
                  </a:lnTo>
                  <a:lnTo>
                    <a:pt x="1026" y="496"/>
                  </a:lnTo>
                  <a:lnTo>
                    <a:pt x="1446" y="751"/>
                  </a:lnTo>
                  <a:lnTo>
                    <a:pt x="1734" y="1012"/>
                  </a:lnTo>
                  <a:lnTo>
                    <a:pt x="1957" y="1270"/>
                  </a:lnTo>
                  <a:lnTo>
                    <a:pt x="1673" y="775"/>
                  </a:lnTo>
                  <a:lnTo>
                    <a:pt x="1914" y="1067"/>
                  </a:lnTo>
                  <a:lnTo>
                    <a:pt x="1914" y="839"/>
                  </a:lnTo>
                  <a:lnTo>
                    <a:pt x="1807" y="661"/>
                  </a:lnTo>
                  <a:lnTo>
                    <a:pt x="1807" y="551"/>
                  </a:lnTo>
                  <a:lnTo>
                    <a:pt x="1673" y="399"/>
                  </a:lnTo>
                  <a:lnTo>
                    <a:pt x="1600" y="242"/>
                  </a:lnTo>
                  <a:lnTo>
                    <a:pt x="1543" y="53"/>
                  </a:lnTo>
                  <a:lnTo>
                    <a:pt x="1591" y="0"/>
                  </a:lnTo>
                  <a:lnTo>
                    <a:pt x="1607" y="138"/>
                  </a:lnTo>
                  <a:lnTo>
                    <a:pt x="1683" y="316"/>
                  </a:lnTo>
                  <a:lnTo>
                    <a:pt x="1778" y="424"/>
                  </a:lnTo>
                  <a:lnTo>
                    <a:pt x="1866" y="535"/>
                  </a:lnTo>
                  <a:lnTo>
                    <a:pt x="1914" y="558"/>
                  </a:lnTo>
                  <a:lnTo>
                    <a:pt x="1987" y="551"/>
                  </a:lnTo>
                  <a:lnTo>
                    <a:pt x="2066" y="480"/>
                  </a:lnTo>
                  <a:lnTo>
                    <a:pt x="2086" y="602"/>
                  </a:lnTo>
                  <a:lnTo>
                    <a:pt x="2061" y="718"/>
                  </a:lnTo>
                  <a:lnTo>
                    <a:pt x="2013" y="782"/>
                  </a:lnTo>
                  <a:lnTo>
                    <a:pt x="1965" y="800"/>
                  </a:lnTo>
                  <a:lnTo>
                    <a:pt x="2031" y="984"/>
                  </a:lnTo>
                  <a:lnTo>
                    <a:pt x="2086" y="1160"/>
                  </a:lnTo>
                  <a:lnTo>
                    <a:pt x="2255" y="1067"/>
                  </a:lnTo>
                  <a:lnTo>
                    <a:pt x="2156" y="839"/>
                  </a:lnTo>
                  <a:lnTo>
                    <a:pt x="2280" y="1035"/>
                  </a:lnTo>
                  <a:lnTo>
                    <a:pt x="2365" y="1052"/>
                  </a:lnTo>
                  <a:lnTo>
                    <a:pt x="2495" y="1052"/>
                  </a:lnTo>
                  <a:lnTo>
                    <a:pt x="2635" y="1234"/>
                  </a:lnTo>
                  <a:lnTo>
                    <a:pt x="2741" y="1300"/>
                  </a:lnTo>
                  <a:lnTo>
                    <a:pt x="2852" y="1277"/>
                  </a:lnTo>
                  <a:lnTo>
                    <a:pt x="3068" y="1173"/>
                  </a:lnTo>
                  <a:lnTo>
                    <a:pt x="3082" y="1347"/>
                  </a:lnTo>
                  <a:lnTo>
                    <a:pt x="3140" y="1507"/>
                  </a:lnTo>
                  <a:lnTo>
                    <a:pt x="3204" y="1507"/>
                  </a:lnTo>
                  <a:lnTo>
                    <a:pt x="3248" y="1467"/>
                  </a:lnTo>
                  <a:lnTo>
                    <a:pt x="3264" y="14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7483320" y="3744000"/>
              <a:ext cx="261000" cy="176040"/>
            </a:xfrm>
            <a:custGeom>
              <a:avLst/>
              <a:gdLst/>
              <a:ahLst/>
              <a:rect l="l" t="t" r="r" b="b"/>
              <a:pathLst>
                <a:path w="3415" h="2637">
                  <a:moveTo>
                    <a:pt x="3195" y="1078"/>
                  </a:moveTo>
                  <a:lnTo>
                    <a:pt x="3340" y="1037"/>
                  </a:lnTo>
                  <a:lnTo>
                    <a:pt x="3415" y="882"/>
                  </a:lnTo>
                  <a:lnTo>
                    <a:pt x="3380" y="721"/>
                  </a:lnTo>
                  <a:lnTo>
                    <a:pt x="3198" y="547"/>
                  </a:lnTo>
                  <a:lnTo>
                    <a:pt x="3009" y="477"/>
                  </a:lnTo>
                  <a:lnTo>
                    <a:pt x="2778" y="299"/>
                  </a:lnTo>
                  <a:lnTo>
                    <a:pt x="2418" y="119"/>
                  </a:lnTo>
                  <a:lnTo>
                    <a:pt x="1996" y="0"/>
                  </a:lnTo>
                  <a:lnTo>
                    <a:pt x="1457" y="46"/>
                  </a:lnTo>
                  <a:lnTo>
                    <a:pt x="1033" y="167"/>
                  </a:lnTo>
                  <a:lnTo>
                    <a:pt x="798" y="279"/>
                  </a:lnTo>
                  <a:lnTo>
                    <a:pt x="514" y="444"/>
                  </a:lnTo>
                  <a:lnTo>
                    <a:pt x="145" y="1078"/>
                  </a:lnTo>
                  <a:lnTo>
                    <a:pt x="81" y="1490"/>
                  </a:lnTo>
                  <a:lnTo>
                    <a:pt x="145" y="1963"/>
                  </a:lnTo>
                  <a:lnTo>
                    <a:pt x="90" y="2228"/>
                  </a:lnTo>
                  <a:lnTo>
                    <a:pt x="0" y="2637"/>
                  </a:lnTo>
                  <a:lnTo>
                    <a:pt x="97" y="2439"/>
                  </a:lnTo>
                  <a:lnTo>
                    <a:pt x="288" y="2415"/>
                  </a:lnTo>
                  <a:lnTo>
                    <a:pt x="479" y="1756"/>
                  </a:lnTo>
                  <a:lnTo>
                    <a:pt x="212" y="2101"/>
                  </a:lnTo>
                  <a:lnTo>
                    <a:pt x="127" y="1426"/>
                  </a:lnTo>
                  <a:lnTo>
                    <a:pt x="196" y="1068"/>
                  </a:lnTo>
                  <a:lnTo>
                    <a:pt x="535" y="497"/>
                  </a:lnTo>
                  <a:lnTo>
                    <a:pt x="873" y="255"/>
                  </a:lnTo>
                  <a:lnTo>
                    <a:pt x="1395" y="75"/>
                  </a:lnTo>
                  <a:lnTo>
                    <a:pt x="1923" y="52"/>
                  </a:lnTo>
                  <a:lnTo>
                    <a:pt x="2503" y="218"/>
                  </a:lnTo>
                  <a:lnTo>
                    <a:pt x="2863" y="419"/>
                  </a:lnTo>
                  <a:lnTo>
                    <a:pt x="3024" y="547"/>
                  </a:lnTo>
                  <a:lnTo>
                    <a:pt x="3226" y="617"/>
                  </a:lnTo>
                  <a:lnTo>
                    <a:pt x="3352" y="753"/>
                  </a:lnTo>
                  <a:lnTo>
                    <a:pt x="3358" y="882"/>
                  </a:lnTo>
                  <a:lnTo>
                    <a:pt x="3306" y="949"/>
                  </a:lnTo>
                  <a:lnTo>
                    <a:pt x="3151" y="1037"/>
                  </a:lnTo>
                  <a:lnTo>
                    <a:pt x="3195" y="10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7494480" y="3755880"/>
              <a:ext cx="242640" cy="178200"/>
            </a:xfrm>
            <a:custGeom>
              <a:avLst/>
              <a:gdLst/>
              <a:ahLst/>
              <a:rect l="l" t="t" r="r" b="b"/>
              <a:pathLst>
                <a:path w="3177" h="2674">
                  <a:moveTo>
                    <a:pt x="3039" y="881"/>
                  </a:moveTo>
                  <a:lnTo>
                    <a:pt x="3177" y="784"/>
                  </a:lnTo>
                  <a:lnTo>
                    <a:pt x="3172" y="664"/>
                  </a:lnTo>
                  <a:lnTo>
                    <a:pt x="3039" y="494"/>
                  </a:lnTo>
                  <a:lnTo>
                    <a:pt x="3011" y="565"/>
                  </a:lnTo>
                  <a:lnTo>
                    <a:pt x="2886" y="472"/>
                  </a:lnTo>
                  <a:lnTo>
                    <a:pt x="2421" y="420"/>
                  </a:lnTo>
                  <a:lnTo>
                    <a:pt x="2220" y="420"/>
                  </a:lnTo>
                  <a:lnTo>
                    <a:pt x="2567" y="355"/>
                  </a:lnTo>
                  <a:lnTo>
                    <a:pt x="2580" y="296"/>
                  </a:lnTo>
                  <a:lnTo>
                    <a:pt x="2255" y="136"/>
                  </a:lnTo>
                  <a:lnTo>
                    <a:pt x="1840" y="0"/>
                  </a:lnTo>
                  <a:lnTo>
                    <a:pt x="1312" y="7"/>
                  </a:lnTo>
                  <a:lnTo>
                    <a:pt x="826" y="166"/>
                  </a:lnTo>
                  <a:lnTo>
                    <a:pt x="510" y="408"/>
                  </a:lnTo>
                  <a:lnTo>
                    <a:pt x="309" y="733"/>
                  </a:lnTo>
                  <a:lnTo>
                    <a:pt x="233" y="975"/>
                  </a:lnTo>
                  <a:lnTo>
                    <a:pt x="233" y="1230"/>
                  </a:lnTo>
                  <a:lnTo>
                    <a:pt x="279" y="1464"/>
                  </a:lnTo>
                  <a:lnTo>
                    <a:pt x="279" y="1658"/>
                  </a:lnTo>
                  <a:lnTo>
                    <a:pt x="0" y="2257"/>
                  </a:lnTo>
                  <a:lnTo>
                    <a:pt x="275" y="2271"/>
                  </a:lnTo>
                  <a:lnTo>
                    <a:pt x="528" y="2456"/>
                  </a:lnTo>
                  <a:lnTo>
                    <a:pt x="756" y="2674"/>
                  </a:lnTo>
                  <a:lnTo>
                    <a:pt x="877" y="2557"/>
                  </a:lnTo>
                  <a:lnTo>
                    <a:pt x="952" y="2364"/>
                  </a:lnTo>
                  <a:lnTo>
                    <a:pt x="1123" y="2225"/>
                  </a:lnTo>
                  <a:lnTo>
                    <a:pt x="1114" y="1980"/>
                  </a:lnTo>
                  <a:lnTo>
                    <a:pt x="1183" y="1769"/>
                  </a:lnTo>
                  <a:lnTo>
                    <a:pt x="1319" y="1694"/>
                  </a:lnTo>
                  <a:lnTo>
                    <a:pt x="1437" y="1709"/>
                  </a:lnTo>
                  <a:lnTo>
                    <a:pt x="1497" y="1780"/>
                  </a:lnTo>
                  <a:lnTo>
                    <a:pt x="1554" y="1914"/>
                  </a:lnTo>
                  <a:lnTo>
                    <a:pt x="1875" y="2034"/>
                  </a:lnTo>
                  <a:lnTo>
                    <a:pt x="2009" y="1780"/>
                  </a:lnTo>
                  <a:lnTo>
                    <a:pt x="2525" y="1549"/>
                  </a:lnTo>
                  <a:lnTo>
                    <a:pt x="2516" y="1367"/>
                  </a:lnTo>
                  <a:lnTo>
                    <a:pt x="2421" y="1230"/>
                  </a:lnTo>
                  <a:lnTo>
                    <a:pt x="2490" y="1167"/>
                  </a:lnTo>
                  <a:lnTo>
                    <a:pt x="2455" y="832"/>
                  </a:lnTo>
                  <a:lnTo>
                    <a:pt x="2615" y="814"/>
                  </a:lnTo>
                  <a:lnTo>
                    <a:pt x="2824" y="832"/>
                  </a:lnTo>
                  <a:lnTo>
                    <a:pt x="3006" y="870"/>
                  </a:lnTo>
                  <a:lnTo>
                    <a:pt x="3039" y="8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7689600" y="3845880"/>
              <a:ext cx="8280" cy="40320"/>
            </a:xfrm>
            <a:custGeom>
              <a:avLst/>
              <a:gdLst/>
              <a:ahLst/>
              <a:rect l="l" t="t" r="r" b="b"/>
              <a:pathLst>
                <a:path w="111" h="609">
                  <a:moveTo>
                    <a:pt x="53" y="609"/>
                  </a:moveTo>
                  <a:lnTo>
                    <a:pt x="0" y="459"/>
                  </a:lnTo>
                  <a:lnTo>
                    <a:pt x="39" y="307"/>
                  </a:lnTo>
                  <a:lnTo>
                    <a:pt x="0" y="0"/>
                  </a:lnTo>
                  <a:lnTo>
                    <a:pt x="111" y="466"/>
                  </a:lnTo>
                  <a:lnTo>
                    <a:pt x="105" y="563"/>
                  </a:lnTo>
                  <a:lnTo>
                    <a:pt x="53" y="6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7588080" y="3879720"/>
              <a:ext cx="26280" cy="43560"/>
            </a:xfrm>
            <a:custGeom>
              <a:avLst/>
              <a:gdLst/>
              <a:ahLst/>
              <a:rect l="l" t="t" r="r" b="b"/>
              <a:pathLst>
                <a:path w="343" h="655">
                  <a:moveTo>
                    <a:pt x="266" y="172"/>
                  </a:moveTo>
                  <a:lnTo>
                    <a:pt x="343" y="60"/>
                  </a:lnTo>
                  <a:lnTo>
                    <a:pt x="275" y="0"/>
                  </a:lnTo>
                  <a:lnTo>
                    <a:pt x="132" y="0"/>
                  </a:lnTo>
                  <a:lnTo>
                    <a:pt x="28" y="113"/>
                  </a:lnTo>
                  <a:lnTo>
                    <a:pt x="0" y="327"/>
                  </a:lnTo>
                  <a:lnTo>
                    <a:pt x="79" y="106"/>
                  </a:lnTo>
                  <a:lnTo>
                    <a:pt x="196" y="83"/>
                  </a:lnTo>
                  <a:lnTo>
                    <a:pt x="108" y="277"/>
                  </a:lnTo>
                  <a:lnTo>
                    <a:pt x="108" y="429"/>
                  </a:lnTo>
                  <a:lnTo>
                    <a:pt x="60" y="417"/>
                  </a:lnTo>
                  <a:lnTo>
                    <a:pt x="23" y="387"/>
                  </a:lnTo>
                  <a:lnTo>
                    <a:pt x="60" y="523"/>
                  </a:lnTo>
                  <a:lnTo>
                    <a:pt x="132" y="655"/>
                  </a:lnTo>
                  <a:lnTo>
                    <a:pt x="119" y="539"/>
                  </a:lnTo>
                  <a:lnTo>
                    <a:pt x="189" y="484"/>
                  </a:lnTo>
                  <a:lnTo>
                    <a:pt x="297" y="558"/>
                  </a:lnTo>
                  <a:lnTo>
                    <a:pt x="316" y="523"/>
                  </a:lnTo>
                  <a:lnTo>
                    <a:pt x="297" y="473"/>
                  </a:lnTo>
                  <a:lnTo>
                    <a:pt x="332" y="387"/>
                  </a:lnTo>
                  <a:lnTo>
                    <a:pt x="314" y="304"/>
                  </a:lnTo>
                  <a:lnTo>
                    <a:pt x="240" y="297"/>
                  </a:lnTo>
                  <a:lnTo>
                    <a:pt x="224" y="207"/>
                  </a:lnTo>
                  <a:lnTo>
                    <a:pt x="266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7599600" y="3917520"/>
              <a:ext cx="10800" cy="11520"/>
            </a:xfrm>
            <a:custGeom>
              <a:avLst/>
              <a:gdLst/>
              <a:ahLst/>
              <a:rect l="l" t="t" r="r" b="b"/>
              <a:pathLst>
                <a:path w="143" h="175">
                  <a:moveTo>
                    <a:pt x="0" y="90"/>
                  </a:moveTo>
                  <a:lnTo>
                    <a:pt x="86" y="0"/>
                  </a:lnTo>
                  <a:lnTo>
                    <a:pt x="143" y="20"/>
                  </a:lnTo>
                  <a:lnTo>
                    <a:pt x="104" y="175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7717680" y="3915360"/>
              <a:ext cx="15480" cy="11520"/>
            </a:xfrm>
            <a:custGeom>
              <a:avLst/>
              <a:gdLst/>
              <a:ahLst/>
              <a:rect l="l" t="t" r="r" b="b"/>
              <a:pathLst>
                <a:path w="207" h="175">
                  <a:moveTo>
                    <a:pt x="11" y="132"/>
                  </a:moveTo>
                  <a:lnTo>
                    <a:pt x="207" y="175"/>
                  </a:lnTo>
                  <a:lnTo>
                    <a:pt x="0" y="0"/>
                  </a:lnTo>
                  <a:lnTo>
                    <a:pt x="11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7380360" y="3943800"/>
              <a:ext cx="72360" cy="73080"/>
            </a:xfrm>
            <a:custGeom>
              <a:avLst/>
              <a:gdLst/>
              <a:ahLst/>
              <a:rect l="l" t="t" r="r" b="b"/>
              <a:pathLst>
                <a:path w="947" h="1096">
                  <a:moveTo>
                    <a:pt x="947" y="0"/>
                  </a:moveTo>
                  <a:lnTo>
                    <a:pt x="628" y="164"/>
                  </a:lnTo>
                  <a:lnTo>
                    <a:pt x="167" y="643"/>
                  </a:lnTo>
                  <a:lnTo>
                    <a:pt x="0" y="883"/>
                  </a:lnTo>
                  <a:lnTo>
                    <a:pt x="0" y="1096"/>
                  </a:lnTo>
                  <a:lnTo>
                    <a:pt x="270" y="672"/>
                  </a:lnTo>
                  <a:lnTo>
                    <a:pt x="628" y="235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7380360" y="4036320"/>
              <a:ext cx="769320" cy="399600"/>
            </a:xfrm>
            <a:custGeom>
              <a:avLst/>
              <a:gdLst/>
              <a:ahLst/>
              <a:rect l="l" t="t" r="r" b="b"/>
              <a:pathLst>
                <a:path w="10071" h="5987">
                  <a:moveTo>
                    <a:pt x="3078" y="337"/>
                  </a:moveTo>
                  <a:lnTo>
                    <a:pt x="2554" y="961"/>
                  </a:lnTo>
                  <a:lnTo>
                    <a:pt x="2043" y="1895"/>
                  </a:lnTo>
                  <a:lnTo>
                    <a:pt x="989" y="2609"/>
                  </a:lnTo>
                  <a:lnTo>
                    <a:pt x="508" y="2393"/>
                  </a:lnTo>
                  <a:lnTo>
                    <a:pt x="0" y="2301"/>
                  </a:lnTo>
                  <a:lnTo>
                    <a:pt x="413" y="2423"/>
                  </a:lnTo>
                  <a:lnTo>
                    <a:pt x="796" y="2635"/>
                  </a:lnTo>
                  <a:lnTo>
                    <a:pt x="1109" y="2900"/>
                  </a:lnTo>
                  <a:lnTo>
                    <a:pt x="1446" y="3279"/>
                  </a:lnTo>
                  <a:lnTo>
                    <a:pt x="1758" y="3760"/>
                  </a:lnTo>
                  <a:lnTo>
                    <a:pt x="2119" y="4719"/>
                  </a:lnTo>
                  <a:lnTo>
                    <a:pt x="2336" y="5343"/>
                  </a:lnTo>
                  <a:lnTo>
                    <a:pt x="2457" y="5987"/>
                  </a:lnTo>
                  <a:lnTo>
                    <a:pt x="3945" y="5987"/>
                  </a:lnTo>
                  <a:lnTo>
                    <a:pt x="2982" y="4482"/>
                  </a:lnTo>
                  <a:lnTo>
                    <a:pt x="2527" y="3187"/>
                  </a:lnTo>
                  <a:lnTo>
                    <a:pt x="2578" y="2444"/>
                  </a:lnTo>
                  <a:lnTo>
                    <a:pt x="2624" y="3158"/>
                  </a:lnTo>
                  <a:lnTo>
                    <a:pt x="3052" y="4288"/>
                  </a:lnTo>
                  <a:lnTo>
                    <a:pt x="3991" y="5701"/>
                  </a:lnTo>
                  <a:lnTo>
                    <a:pt x="4281" y="5750"/>
                  </a:lnTo>
                  <a:lnTo>
                    <a:pt x="4378" y="5987"/>
                  </a:lnTo>
                  <a:lnTo>
                    <a:pt x="8152" y="5987"/>
                  </a:lnTo>
                  <a:lnTo>
                    <a:pt x="8322" y="5892"/>
                  </a:lnTo>
                  <a:lnTo>
                    <a:pt x="8722" y="5701"/>
                  </a:lnTo>
                  <a:lnTo>
                    <a:pt x="9113" y="5674"/>
                  </a:lnTo>
                  <a:lnTo>
                    <a:pt x="9135" y="5604"/>
                  </a:lnTo>
                  <a:lnTo>
                    <a:pt x="8843" y="5534"/>
                  </a:lnTo>
                  <a:lnTo>
                    <a:pt x="8530" y="5358"/>
                  </a:lnTo>
                  <a:lnTo>
                    <a:pt x="8242" y="5173"/>
                  </a:lnTo>
                  <a:lnTo>
                    <a:pt x="7839" y="5097"/>
                  </a:lnTo>
                  <a:lnTo>
                    <a:pt x="7546" y="5002"/>
                  </a:lnTo>
                  <a:lnTo>
                    <a:pt x="7168" y="4956"/>
                  </a:lnTo>
                  <a:lnTo>
                    <a:pt x="7168" y="4885"/>
                  </a:lnTo>
                  <a:lnTo>
                    <a:pt x="7452" y="4811"/>
                  </a:lnTo>
                  <a:lnTo>
                    <a:pt x="7767" y="4811"/>
                  </a:lnTo>
                  <a:lnTo>
                    <a:pt x="8080" y="4719"/>
                  </a:lnTo>
                  <a:lnTo>
                    <a:pt x="8652" y="4624"/>
                  </a:lnTo>
                  <a:lnTo>
                    <a:pt x="8992" y="4530"/>
                  </a:lnTo>
                  <a:lnTo>
                    <a:pt x="8821" y="4530"/>
                  </a:lnTo>
                  <a:lnTo>
                    <a:pt x="8627" y="4602"/>
                  </a:lnTo>
                  <a:lnTo>
                    <a:pt x="8339" y="4644"/>
                  </a:lnTo>
                  <a:lnTo>
                    <a:pt x="8030" y="4666"/>
                  </a:lnTo>
                  <a:lnTo>
                    <a:pt x="7818" y="4736"/>
                  </a:lnTo>
                  <a:lnTo>
                    <a:pt x="7818" y="4644"/>
                  </a:lnTo>
                  <a:lnTo>
                    <a:pt x="7931" y="4530"/>
                  </a:lnTo>
                  <a:lnTo>
                    <a:pt x="8201" y="4339"/>
                  </a:lnTo>
                  <a:lnTo>
                    <a:pt x="9234" y="4069"/>
                  </a:lnTo>
                  <a:lnTo>
                    <a:pt x="10071" y="3735"/>
                  </a:lnTo>
                  <a:lnTo>
                    <a:pt x="9159" y="4069"/>
                  </a:lnTo>
                  <a:lnTo>
                    <a:pt x="8516" y="4165"/>
                  </a:lnTo>
                  <a:lnTo>
                    <a:pt x="8272" y="4218"/>
                  </a:lnTo>
                  <a:lnTo>
                    <a:pt x="6778" y="4218"/>
                  </a:lnTo>
                  <a:lnTo>
                    <a:pt x="7117" y="4023"/>
                  </a:lnTo>
                  <a:lnTo>
                    <a:pt x="7382" y="3976"/>
                  </a:lnTo>
                  <a:lnTo>
                    <a:pt x="7594" y="3877"/>
                  </a:lnTo>
                  <a:lnTo>
                    <a:pt x="7670" y="3827"/>
                  </a:lnTo>
                  <a:lnTo>
                    <a:pt x="7670" y="3710"/>
                  </a:lnTo>
                  <a:lnTo>
                    <a:pt x="7643" y="3664"/>
                  </a:lnTo>
                  <a:lnTo>
                    <a:pt x="7522" y="3640"/>
                  </a:lnTo>
                  <a:lnTo>
                    <a:pt x="7474" y="3735"/>
                  </a:lnTo>
                  <a:lnTo>
                    <a:pt x="7353" y="3785"/>
                  </a:lnTo>
                  <a:lnTo>
                    <a:pt x="6832" y="3735"/>
                  </a:lnTo>
                  <a:lnTo>
                    <a:pt x="6685" y="3594"/>
                  </a:lnTo>
                  <a:lnTo>
                    <a:pt x="6731" y="3804"/>
                  </a:lnTo>
                  <a:lnTo>
                    <a:pt x="6731" y="3976"/>
                  </a:lnTo>
                  <a:lnTo>
                    <a:pt x="6661" y="4218"/>
                  </a:lnTo>
                  <a:lnTo>
                    <a:pt x="6661" y="3976"/>
                  </a:lnTo>
                  <a:lnTo>
                    <a:pt x="6441" y="3710"/>
                  </a:lnTo>
                  <a:lnTo>
                    <a:pt x="6589" y="4023"/>
                  </a:lnTo>
                  <a:lnTo>
                    <a:pt x="6589" y="4311"/>
                  </a:lnTo>
                  <a:lnTo>
                    <a:pt x="5434" y="5026"/>
                  </a:lnTo>
                  <a:lnTo>
                    <a:pt x="5265" y="4574"/>
                  </a:lnTo>
                  <a:lnTo>
                    <a:pt x="5265" y="3877"/>
                  </a:lnTo>
                  <a:lnTo>
                    <a:pt x="5602" y="3710"/>
                  </a:lnTo>
                  <a:lnTo>
                    <a:pt x="6107" y="3594"/>
                  </a:lnTo>
                  <a:lnTo>
                    <a:pt x="5773" y="3521"/>
                  </a:lnTo>
                  <a:lnTo>
                    <a:pt x="6056" y="3279"/>
                  </a:lnTo>
                  <a:lnTo>
                    <a:pt x="5173" y="3760"/>
                  </a:lnTo>
                  <a:lnTo>
                    <a:pt x="4810" y="3187"/>
                  </a:lnTo>
                  <a:lnTo>
                    <a:pt x="4666" y="1754"/>
                  </a:lnTo>
                  <a:lnTo>
                    <a:pt x="4500" y="790"/>
                  </a:lnTo>
                  <a:lnTo>
                    <a:pt x="4256" y="242"/>
                  </a:lnTo>
                  <a:lnTo>
                    <a:pt x="3964" y="0"/>
                  </a:lnTo>
                  <a:lnTo>
                    <a:pt x="4187" y="242"/>
                  </a:lnTo>
                  <a:lnTo>
                    <a:pt x="4424" y="693"/>
                  </a:lnTo>
                  <a:lnTo>
                    <a:pt x="4544" y="1271"/>
                  </a:lnTo>
                  <a:lnTo>
                    <a:pt x="4620" y="2181"/>
                  </a:lnTo>
                  <a:lnTo>
                    <a:pt x="4712" y="3140"/>
                  </a:lnTo>
                  <a:lnTo>
                    <a:pt x="3611" y="1531"/>
                  </a:lnTo>
                  <a:lnTo>
                    <a:pt x="4019" y="2469"/>
                  </a:lnTo>
                  <a:lnTo>
                    <a:pt x="4782" y="3543"/>
                  </a:lnTo>
                  <a:lnTo>
                    <a:pt x="4782" y="3947"/>
                  </a:lnTo>
                  <a:lnTo>
                    <a:pt x="4544" y="4549"/>
                  </a:lnTo>
                  <a:lnTo>
                    <a:pt x="5047" y="3947"/>
                  </a:lnTo>
                  <a:lnTo>
                    <a:pt x="5148" y="4288"/>
                  </a:lnTo>
                  <a:lnTo>
                    <a:pt x="5148" y="4574"/>
                  </a:lnTo>
                  <a:lnTo>
                    <a:pt x="4666" y="5125"/>
                  </a:lnTo>
                  <a:lnTo>
                    <a:pt x="4208" y="4736"/>
                  </a:lnTo>
                  <a:lnTo>
                    <a:pt x="3964" y="4908"/>
                  </a:lnTo>
                  <a:lnTo>
                    <a:pt x="3899" y="4811"/>
                  </a:lnTo>
                  <a:lnTo>
                    <a:pt x="4019" y="4359"/>
                  </a:lnTo>
                  <a:lnTo>
                    <a:pt x="3991" y="4189"/>
                  </a:lnTo>
                  <a:lnTo>
                    <a:pt x="2744" y="2589"/>
                  </a:lnTo>
                  <a:lnTo>
                    <a:pt x="2716" y="2324"/>
                  </a:lnTo>
                  <a:lnTo>
                    <a:pt x="2716" y="1824"/>
                  </a:lnTo>
                  <a:lnTo>
                    <a:pt x="2767" y="1339"/>
                  </a:lnTo>
                  <a:lnTo>
                    <a:pt x="2883" y="840"/>
                  </a:lnTo>
                  <a:lnTo>
                    <a:pt x="3078" y="482"/>
                  </a:lnTo>
                  <a:lnTo>
                    <a:pt x="3345" y="173"/>
                  </a:lnTo>
                  <a:lnTo>
                    <a:pt x="3078" y="3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7744320" y="4238640"/>
              <a:ext cx="77400" cy="44280"/>
            </a:xfrm>
            <a:custGeom>
              <a:avLst/>
              <a:gdLst/>
              <a:ahLst/>
              <a:rect l="l" t="t" r="r" b="b"/>
              <a:pathLst>
                <a:path w="1016" h="665">
                  <a:moveTo>
                    <a:pt x="6" y="0"/>
                  </a:moveTo>
                  <a:lnTo>
                    <a:pt x="218" y="118"/>
                  </a:lnTo>
                  <a:lnTo>
                    <a:pt x="705" y="173"/>
                  </a:lnTo>
                  <a:lnTo>
                    <a:pt x="705" y="228"/>
                  </a:lnTo>
                  <a:lnTo>
                    <a:pt x="1016" y="240"/>
                  </a:lnTo>
                  <a:lnTo>
                    <a:pt x="697" y="275"/>
                  </a:lnTo>
                  <a:lnTo>
                    <a:pt x="653" y="446"/>
                  </a:lnTo>
                  <a:lnTo>
                    <a:pt x="626" y="662"/>
                  </a:lnTo>
                  <a:lnTo>
                    <a:pt x="596" y="665"/>
                  </a:lnTo>
                  <a:lnTo>
                    <a:pt x="615" y="406"/>
                  </a:lnTo>
                  <a:lnTo>
                    <a:pt x="653" y="235"/>
                  </a:lnTo>
                  <a:lnTo>
                    <a:pt x="218" y="178"/>
                  </a:lnTo>
                  <a:lnTo>
                    <a:pt x="0" y="9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7826760" y="4216320"/>
              <a:ext cx="139320" cy="70920"/>
            </a:xfrm>
            <a:custGeom>
              <a:avLst/>
              <a:gdLst/>
              <a:ahLst/>
              <a:rect l="l" t="t" r="r" b="b"/>
              <a:pathLst>
                <a:path w="1821" h="1066">
                  <a:moveTo>
                    <a:pt x="0" y="706"/>
                  </a:moveTo>
                  <a:lnTo>
                    <a:pt x="137" y="242"/>
                  </a:lnTo>
                  <a:lnTo>
                    <a:pt x="597" y="0"/>
                  </a:lnTo>
                  <a:lnTo>
                    <a:pt x="906" y="137"/>
                  </a:lnTo>
                  <a:lnTo>
                    <a:pt x="1268" y="176"/>
                  </a:lnTo>
                  <a:lnTo>
                    <a:pt x="1330" y="227"/>
                  </a:lnTo>
                  <a:lnTo>
                    <a:pt x="1341" y="317"/>
                  </a:lnTo>
                  <a:lnTo>
                    <a:pt x="1504" y="360"/>
                  </a:lnTo>
                  <a:lnTo>
                    <a:pt x="1634" y="459"/>
                  </a:lnTo>
                  <a:lnTo>
                    <a:pt x="1708" y="488"/>
                  </a:lnTo>
                  <a:lnTo>
                    <a:pt x="1819" y="579"/>
                  </a:lnTo>
                  <a:lnTo>
                    <a:pt x="1821" y="655"/>
                  </a:lnTo>
                  <a:lnTo>
                    <a:pt x="1763" y="706"/>
                  </a:lnTo>
                  <a:lnTo>
                    <a:pt x="1634" y="822"/>
                  </a:lnTo>
                  <a:lnTo>
                    <a:pt x="1637" y="910"/>
                  </a:lnTo>
                  <a:lnTo>
                    <a:pt x="1612" y="800"/>
                  </a:lnTo>
                  <a:lnTo>
                    <a:pt x="1785" y="640"/>
                  </a:lnTo>
                  <a:lnTo>
                    <a:pt x="1785" y="584"/>
                  </a:lnTo>
                  <a:lnTo>
                    <a:pt x="1637" y="499"/>
                  </a:lnTo>
                  <a:lnTo>
                    <a:pt x="1577" y="512"/>
                  </a:lnTo>
                  <a:lnTo>
                    <a:pt x="1504" y="503"/>
                  </a:lnTo>
                  <a:lnTo>
                    <a:pt x="1370" y="579"/>
                  </a:lnTo>
                  <a:lnTo>
                    <a:pt x="1543" y="448"/>
                  </a:lnTo>
                  <a:lnTo>
                    <a:pt x="1471" y="383"/>
                  </a:lnTo>
                  <a:lnTo>
                    <a:pt x="1341" y="356"/>
                  </a:lnTo>
                  <a:lnTo>
                    <a:pt x="1341" y="409"/>
                  </a:lnTo>
                  <a:lnTo>
                    <a:pt x="1394" y="503"/>
                  </a:lnTo>
                  <a:lnTo>
                    <a:pt x="1319" y="413"/>
                  </a:lnTo>
                  <a:lnTo>
                    <a:pt x="1268" y="247"/>
                  </a:lnTo>
                  <a:lnTo>
                    <a:pt x="1205" y="192"/>
                  </a:lnTo>
                  <a:lnTo>
                    <a:pt x="885" y="176"/>
                  </a:lnTo>
                  <a:lnTo>
                    <a:pt x="641" y="47"/>
                  </a:lnTo>
                  <a:lnTo>
                    <a:pt x="161" y="264"/>
                  </a:lnTo>
                  <a:lnTo>
                    <a:pt x="90" y="552"/>
                  </a:lnTo>
                  <a:lnTo>
                    <a:pt x="321" y="574"/>
                  </a:lnTo>
                  <a:lnTo>
                    <a:pt x="590" y="655"/>
                  </a:lnTo>
                  <a:lnTo>
                    <a:pt x="791" y="822"/>
                  </a:lnTo>
                  <a:lnTo>
                    <a:pt x="1053" y="719"/>
                  </a:lnTo>
                  <a:lnTo>
                    <a:pt x="873" y="930"/>
                  </a:lnTo>
                  <a:lnTo>
                    <a:pt x="873" y="1066"/>
                  </a:lnTo>
                  <a:lnTo>
                    <a:pt x="786" y="851"/>
                  </a:lnTo>
                  <a:lnTo>
                    <a:pt x="597" y="699"/>
                  </a:lnTo>
                  <a:lnTo>
                    <a:pt x="403" y="633"/>
                  </a:lnTo>
                  <a:lnTo>
                    <a:pt x="173" y="614"/>
                  </a:lnTo>
                  <a:lnTo>
                    <a:pt x="0" y="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7819200" y="4271040"/>
              <a:ext cx="68400" cy="30600"/>
            </a:xfrm>
            <a:custGeom>
              <a:avLst/>
              <a:gdLst/>
              <a:ahLst/>
              <a:rect l="l" t="t" r="r" b="b"/>
              <a:pathLst>
                <a:path w="895" h="462">
                  <a:moveTo>
                    <a:pt x="0" y="69"/>
                  </a:moveTo>
                  <a:lnTo>
                    <a:pt x="363" y="91"/>
                  </a:lnTo>
                  <a:lnTo>
                    <a:pt x="593" y="177"/>
                  </a:lnTo>
                  <a:lnTo>
                    <a:pt x="764" y="313"/>
                  </a:lnTo>
                  <a:lnTo>
                    <a:pt x="844" y="462"/>
                  </a:lnTo>
                  <a:lnTo>
                    <a:pt x="895" y="421"/>
                  </a:lnTo>
                  <a:lnTo>
                    <a:pt x="791" y="262"/>
                  </a:lnTo>
                  <a:lnTo>
                    <a:pt x="642" y="126"/>
                  </a:lnTo>
                  <a:lnTo>
                    <a:pt x="427" y="20"/>
                  </a:lnTo>
                  <a:lnTo>
                    <a:pt x="180" y="0"/>
                  </a:lnTo>
                  <a:lnTo>
                    <a:pt x="13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7936560" y="4358880"/>
              <a:ext cx="15480" cy="12240"/>
            </a:xfrm>
            <a:custGeom>
              <a:avLst/>
              <a:gdLst/>
              <a:ahLst/>
              <a:rect l="l" t="t" r="r" b="b"/>
              <a:pathLst>
                <a:path w="203" h="182">
                  <a:moveTo>
                    <a:pt x="0" y="20"/>
                  </a:moveTo>
                  <a:lnTo>
                    <a:pt x="95" y="22"/>
                  </a:lnTo>
                  <a:lnTo>
                    <a:pt x="146" y="62"/>
                  </a:lnTo>
                  <a:lnTo>
                    <a:pt x="169" y="97"/>
                  </a:lnTo>
                  <a:lnTo>
                    <a:pt x="169" y="133"/>
                  </a:lnTo>
                  <a:lnTo>
                    <a:pt x="146" y="182"/>
                  </a:lnTo>
                  <a:lnTo>
                    <a:pt x="181" y="167"/>
                  </a:lnTo>
                  <a:lnTo>
                    <a:pt x="203" y="121"/>
                  </a:lnTo>
                  <a:lnTo>
                    <a:pt x="194" y="86"/>
                  </a:lnTo>
                  <a:lnTo>
                    <a:pt x="165" y="38"/>
                  </a:lnTo>
                  <a:lnTo>
                    <a:pt x="130" y="20"/>
                  </a:lnTo>
                  <a:lnTo>
                    <a:pt x="4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7970040" y="4352040"/>
              <a:ext cx="27360" cy="13320"/>
            </a:xfrm>
            <a:custGeom>
              <a:avLst/>
              <a:gdLst/>
              <a:ahLst/>
              <a:rect l="l" t="t" r="r" b="b"/>
              <a:pathLst>
                <a:path w="360" h="197">
                  <a:moveTo>
                    <a:pt x="245" y="26"/>
                  </a:moveTo>
                  <a:lnTo>
                    <a:pt x="286" y="51"/>
                  </a:lnTo>
                  <a:lnTo>
                    <a:pt x="309" y="100"/>
                  </a:lnTo>
                  <a:lnTo>
                    <a:pt x="296" y="138"/>
                  </a:lnTo>
                  <a:lnTo>
                    <a:pt x="261" y="177"/>
                  </a:lnTo>
                  <a:lnTo>
                    <a:pt x="63" y="166"/>
                  </a:lnTo>
                  <a:lnTo>
                    <a:pt x="28" y="150"/>
                  </a:lnTo>
                  <a:lnTo>
                    <a:pt x="24" y="104"/>
                  </a:lnTo>
                  <a:lnTo>
                    <a:pt x="28" y="100"/>
                  </a:lnTo>
                  <a:lnTo>
                    <a:pt x="0" y="104"/>
                  </a:lnTo>
                  <a:lnTo>
                    <a:pt x="0" y="138"/>
                  </a:lnTo>
                  <a:lnTo>
                    <a:pt x="39" y="186"/>
                  </a:lnTo>
                  <a:lnTo>
                    <a:pt x="296" y="197"/>
                  </a:lnTo>
                  <a:lnTo>
                    <a:pt x="349" y="150"/>
                  </a:lnTo>
                  <a:lnTo>
                    <a:pt x="360" y="87"/>
                  </a:lnTo>
                  <a:lnTo>
                    <a:pt x="325" y="26"/>
                  </a:lnTo>
                  <a:lnTo>
                    <a:pt x="274" y="0"/>
                  </a:lnTo>
                  <a:lnTo>
                    <a:pt x="24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8265960" y="3963240"/>
              <a:ext cx="468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8329320" y="3887640"/>
              <a:ext cx="216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8325000" y="3888360"/>
              <a:ext cx="36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8320680" y="3894120"/>
              <a:ext cx="108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"/>
            <p:cNvSpPr/>
            <p:nvPr/>
          </p:nvSpPr>
          <p:spPr>
            <a:xfrm flipH="1">
              <a:off x="8315640" y="3903840"/>
              <a:ext cx="36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"/>
            <p:cNvSpPr/>
            <p:nvPr/>
          </p:nvSpPr>
          <p:spPr>
            <a:xfrm flipH="1">
              <a:off x="8308080" y="3911760"/>
              <a:ext cx="216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"/>
            <p:cNvSpPr/>
            <p:nvPr/>
          </p:nvSpPr>
          <p:spPr>
            <a:xfrm flipH="1">
              <a:off x="8300880" y="392472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8345880" y="3921480"/>
              <a:ext cx="16920" cy="22320"/>
            </a:xfrm>
            <a:custGeom>
              <a:avLst/>
              <a:gdLst/>
              <a:ahLst/>
              <a:rect l="l" t="t" r="r" b="b"/>
              <a:pathLst>
                <a:path w="226" h="341">
                  <a:moveTo>
                    <a:pt x="191" y="0"/>
                  </a:moveTo>
                  <a:lnTo>
                    <a:pt x="155" y="0"/>
                  </a:lnTo>
                  <a:lnTo>
                    <a:pt x="125" y="5"/>
                  </a:lnTo>
                  <a:lnTo>
                    <a:pt x="104" y="14"/>
                  </a:lnTo>
                  <a:lnTo>
                    <a:pt x="70" y="31"/>
                  </a:lnTo>
                  <a:lnTo>
                    <a:pt x="46" y="47"/>
                  </a:lnTo>
                  <a:lnTo>
                    <a:pt x="28" y="70"/>
                  </a:lnTo>
                  <a:lnTo>
                    <a:pt x="12" y="104"/>
                  </a:lnTo>
                  <a:lnTo>
                    <a:pt x="0" y="130"/>
                  </a:lnTo>
                  <a:lnTo>
                    <a:pt x="0" y="160"/>
                  </a:lnTo>
                  <a:lnTo>
                    <a:pt x="0" y="192"/>
                  </a:lnTo>
                  <a:lnTo>
                    <a:pt x="0" y="215"/>
                  </a:lnTo>
                  <a:lnTo>
                    <a:pt x="12" y="249"/>
                  </a:lnTo>
                  <a:lnTo>
                    <a:pt x="33" y="273"/>
                  </a:lnTo>
                  <a:lnTo>
                    <a:pt x="51" y="301"/>
                  </a:lnTo>
                  <a:lnTo>
                    <a:pt x="74" y="321"/>
                  </a:lnTo>
                  <a:lnTo>
                    <a:pt x="104" y="337"/>
                  </a:lnTo>
                  <a:lnTo>
                    <a:pt x="129" y="341"/>
                  </a:lnTo>
                  <a:lnTo>
                    <a:pt x="164" y="341"/>
                  </a:lnTo>
                  <a:lnTo>
                    <a:pt x="196" y="341"/>
                  </a:lnTo>
                  <a:lnTo>
                    <a:pt x="226" y="3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"/>
            <p:cNvSpPr/>
            <p:nvPr/>
          </p:nvSpPr>
          <p:spPr>
            <a:xfrm flipV="1">
              <a:off x="7719480" y="3893760"/>
              <a:ext cx="288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7625160" y="3881880"/>
              <a:ext cx="126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7633800" y="3886920"/>
              <a:ext cx="13680" cy="3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7643160" y="3893400"/>
              <a:ext cx="1332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7654680" y="3901680"/>
              <a:ext cx="9360" cy="2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7993800" y="3725280"/>
              <a:ext cx="137880" cy="144720"/>
            </a:xfrm>
            <a:custGeom>
              <a:avLst/>
              <a:gdLst/>
              <a:ahLst/>
              <a:rect l="l" t="t" r="r" b="b"/>
              <a:pathLst>
                <a:path w="1810" h="2171">
                  <a:moveTo>
                    <a:pt x="1367" y="1125"/>
                  </a:moveTo>
                  <a:lnTo>
                    <a:pt x="1215" y="1136"/>
                  </a:lnTo>
                  <a:lnTo>
                    <a:pt x="1090" y="1113"/>
                  </a:lnTo>
                  <a:lnTo>
                    <a:pt x="1033" y="1060"/>
                  </a:lnTo>
                  <a:lnTo>
                    <a:pt x="1120" y="1095"/>
                  </a:lnTo>
                  <a:lnTo>
                    <a:pt x="1206" y="1073"/>
                  </a:lnTo>
                  <a:lnTo>
                    <a:pt x="1265" y="1062"/>
                  </a:lnTo>
                  <a:lnTo>
                    <a:pt x="1145" y="1037"/>
                  </a:lnTo>
                  <a:lnTo>
                    <a:pt x="1044" y="998"/>
                  </a:lnTo>
                  <a:lnTo>
                    <a:pt x="973" y="998"/>
                  </a:lnTo>
                  <a:lnTo>
                    <a:pt x="890" y="1020"/>
                  </a:lnTo>
                  <a:lnTo>
                    <a:pt x="813" y="1023"/>
                  </a:lnTo>
                  <a:lnTo>
                    <a:pt x="740" y="1035"/>
                  </a:lnTo>
                  <a:lnTo>
                    <a:pt x="606" y="998"/>
                  </a:lnTo>
                  <a:lnTo>
                    <a:pt x="556" y="981"/>
                  </a:lnTo>
                  <a:lnTo>
                    <a:pt x="424" y="910"/>
                  </a:lnTo>
                  <a:lnTo>
                    <a:pt x="338" y="878"/>
                  </a:lnTo>
                  <a:lnTo>
                    <a:pt x="263" y="853"/>
                  </a:lnTo>
                  <a:lnTo>
                    <a:pt x="122" y="840"/>
                  </a:lnTo>
                  <a:lnTo>
                    <a:pt x="0" y="829"/>
                  </a:lnTo>
                  <a:lnTo>
                    <a:pt x="178" y="813"/>
                  </a:lnTo>
                  <a:lnTo>
                    <a:pt x="345" y="820"/>
                  </a:lnTo>
                  <a:lnTo>
                    <a:pt x="470" y="840"/>
                  </a:lnTo>
                  <a:lnTo>
                    <a:pt x="574" y="866"/>
                  </a:lnTo>
                  <a:lnTo>
                    <a:pt x="648" y="840"/>
                  </a:lnTo>
                  <a:lnTo>
                    <a:pt x="848" y="820"/>
                  </a:lnTo>
                  <a:lnTo>
                    <a:pt x="986" y="829"/>
                  </a:lnTo>
                  <a:lnTo>
                    <a:pt x="878" y="779"/>
                  </a:lnTo>
                  <a:lnTo>
                    <a:pt x="756" y="746"/>
                  </a:lnTo>
                  <a:lnTo>
                    <a:pt x="648" y="746"/>
                  </a:lnTo>
                  <a:lnTo>
                    <a:pt x="534" y="721"/>
                  </a:lnTo>
                  <a:lnTo>
                    <a:pt x="435" y="689"/>
                  </a:lnTo>
                  <a:lnTo>
                    <a:pt x="597" y="721"/>
                  </a:lnTo>
                  <a:lnTo>
                    <a:pt x="705" y="708"/>
                  </a:lnTo>
                  <a:lnTo>
                    <a:pt x="813" y="703"/>
                  </a:lnTo>
                  <a:lnTo>
                    <a:pt x="908" y="703"/>
                  </a:lnTo>
                  <a:lnTo>
                    <a:pt x="779" y="629"/>
                  </a:lnTo>
                  <a:lnTo>
                    <a:pt x="648" y="587"/>
                  </a:lnTo>
                  <a:lnTo>
                    <a:pt x="779" y="606"/>
                  </a:lnTo>
                  <a:lnTo>
                    <a:pt x="890" y="613"/>
                  </a:lnTo>
                  <a:lnTo>
                    <a:pt x="1019" y="647"/>
                  </a:lnTo>
                  <a:lnTo>
                    <a:pt x="883" y="548"/>
                  </a:lnTo>
                  <a:lnTo>
                    <a:pt x="756" y="479"/>
                  </a:lnTo>
                  <a:lnTo>
                    <a:pt x="899" y="509"/>
                  </a:lnTo>
                  <a:lnTo>
                    <a:pt x="1061" y="548"/>
                  </a:lnTo>
                  <a:lnTo>
                    <a:pt x="986" y="465"/>
                  </a:lnTo>
                  <a:lnTo>
                    <a:pt x="864" y="394"/>
                  </a:lnTo>
                  <a:lnTo>
                    <a:pt x="1039" y="444"/>
                  </a:lnTo>
                  <a:lnTo>
                    <a:pt x="1129" y="479"/>
                  </a:lnTo>
                  <a:lnTo>
                    <a:pt x="1083" y="387"/>
                  </a:lnTo>
                  <a:lnTo>
                    <a:pt x="962" y="281"/>
                  </a:lnTo>
                  <a:lnTo>
                    <a:pt x="1090" y="317"/>
                  </a:lnTo>
                  <a:lnTo>
                    <a:pt x="1235" y="419"/>
                  </a:lnTo>
                  <a:lnTo>
                    <a:pt x="1206" y="320"/>
                  </a:lnTo>
                  <a:lnTo>
                    <a:pt x="1129" y="262"/>
                  </a:lnTo>
                  <a:lnTo>
                    <a:pt x="1256" y="330"/>
                  </a:lnTo>
                  <a:lnTo>
                    <a:pt x="1109" y="191"/>
                  </a:lnTo>
                  <a:lnTo>
                    <a:pt x="899" y="101"/>
                  </a:lnTo>
                  <a:lnTo>
                    <a:pt x="727" y="27"/>
                  </a:lnTo>
                  <a:lnTo>
                    <a:pt x="516" y="0"/>
                  </a:lnTo>
                  <a:lnTo>
                    <a:pt x="793" y="0"/>
                  </a:lnTo>
                  <a:lnTo>
                    <a:pt x="1085" y="75"/>
                  </a:lnTo>
                  <a:lnTo>
                    <a:pt x="1332" y="216"/>
                  </a:lnTo>
                  <a:lnTo>
                    <a:pt x="1519" y="444"/>
                  </a:lnTo>
                  <a:lnTo>
                    <a:pt x="1609" y="613"/>
                  </a:lnTo>
                  <a:lnTo>
                    <a:pt x="1639" y="779"/>
                  </a:lnTo>
                  <a:lnTo>
                    <a:pt x="1623" y="981"/>
                  </a:lnTo>
                  <a:lnTo>
                    <a:pt x="1613" y="1011"/>
                  </a:lnTo>
                  <a:lnTo>
                    <a:pt x="1725" y="1011"/>
                  </a:lnTo>
                  <a:lnTo>
                    <a:pt x="1810" y="1113"/>
                  </a:lnTo>
                  <a:lnTo>
                    <a:pt x="1810" y="1290"/>
                  </a:lnTo>
                  <a:lnTo>
                    <a:pt x="1784" y="1130"/>
                  </a:lnTo>
                  <a:lnTo>
                    <a:pt x="1740" y="1095"/>
                  </a:lnTo>
                  <a:lnTo>
                    <a:pt x="1669" y="1095"/>
                  </a:lnTo>
                  <a:lnTo>
                    <a:pt x="1716" y="1194"/>
                  </a:lnTo>
                  <a:lnTo>
                    <a:pt x="1694" y="1314"/>
                  </a:lnTo>
                  <a:lnTo>
                    <a:pt x="1630" y="1422"/>
                  </a:lnTo>
                  <a:lnTo>
                    <a:pt x="1609" y="1266"/>
                  </a:lnTo>
                  <a:lnTo>
                    <a:pt x="1542" y="1152"/>
                  </a:lnTo>
                  <a:lnTo>
                    <a:pt x="1542" y="1360"/>
                  </a:lnTo>
                  <a:lnTo>
                    <a:pt x="1519" y="1497"/>
                  </a:lnTo>
                  <a:lnTo>
                    <a:pt x="1473" y="1304"/>
                  </a:lnTo>
                  <a:lnTo>
                    <a:pt x="1448" y="1447"/>
                  </a:lnTo>
                  <a:lnTo>
                    <a:pt x="1388" y="1629"/>
                  </a:lnTo>
                  <a:lnTo>
                    <a:pt x="1448" y="1609"/>
                  </a:lnTo>
                  <a:lnTo>
                    <a:pt x="1428" y="1776"/>
                  </a:lnTo>
                  <a:lnTo>
                    <a:pt x="1519" y="1567"/>
                  </a:lnTo>
                  <a:lnTo>
                    <a:pt x="1510" y="1730"/>
                  </a:lnTo>
                  <a:lnTo>
                    <a:pt x="1613" y="1510"/>
                  </a:lnTo>
                  <a:lnTo>
                    <a:pt x="1573" y="1710"/>
                  </a:lnTo>
                  <a:lnTo>
                    <a:pt x="1669" y="1625"/>
                  </a:lnTo>
                  <a:lnTo>
                    <a:pt x="1795" y="1371"/>
                  </a:lnTo>
                  <a:lnTo>
                    <a:pt x="1694" y="1653"/>
                  </a:lnTo>
                  <a:lnTo>
                    <a:pt x="1600" y="1752"/>
                  </a:lnTo>
                  <a:lnTo>
                    <a:pt x="1422" y="1883"/>
                  </a:lnTo>
                  <a:lnTo>
                    <a:pt x="1316" y="1922"/>
                  </a:lnTo>
                  <a:lnTo>
                    <a:pt x="1204" y="2068"/>
                  </a:lnTo>
                  <a:lnTo>
                    <a:pt x="1109" y="2171"/>
                  </a:lnTo>
                  <a:lnTo>
                    <a:pt x="1226" y="1922"/>
                  </a:lnTo>
                  <a:lnTo>
                    <a:pt x="1235" y="1653"/>
                  </a:lnTo>
                  <a:lnTo>
                    <a:pt x="1250" y="1482"/>
                  </a:lnTo>
                  <a:lnTo>
                    <a:pt x="1307" y="1302"/>
                  </a:lnTo>
                  <a:lnTo>
                    <a:pt x="1402" y="1136"/>
                  </a:lnTo>
                  <a:lnTo>
                    <a:pt x="1367" y="1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7939440" y="3725280"/>
              <a:ext cx="117720" cy="106200"/>
            </a:xfrm>
            <a:custGeom>
              <a:avLst/>
              <a:gdLst/>
              <a:ahLst/>
              <a:rect l="l" t="t" r="r" b="b"/>
              <a:pathLst>
                <a:path w="1547" h="1598">
                  <a:moveTo>
                    <a:pt x="1038" y="25"/>
                  </a:moveTo>
                  <a:lnTo>
                    <a:pt x="877" y="75"/>
                  </a:lnTo>
                  <a:lnTo>
                    <a:pt x="669" y="163"/>
                  </a:lnTo>
                  <a:lnTo>
                    <a:pt x="491" y="284"/>
                  </a:lnTo>
                  <a:lnTo>
                    <a:pt x="369" y="422"/>
                  </a:lnTo>
                  <a:lnTo>
                    <a:pt x="268" y="606"/>
                  </a:lnTo>
                  <a:lnTo>
                    <a:pt x="183" y="746"/>
                  </a:lnTo>
                  <a:lnTo>
                    <a:pt x="106" y="884"/>
                  </a:lnTo>
                  <a:lnTo>
                    <a:pt x="0" y="1060"/>
                  </a:lnTo>
                  <a:lnTo>
                    <a:pt x="77" y="1023"/>
                  </a:lnTo>
                  <a:lnTo>
                    <a:pt x="157" y="1062"/>
                  </a:lnTo>
                  <a:lnTo>
                    <a:pt x="146" y="1176"/>
                  </a:lnTo>
                  <a:lnTo>
                    <a:pt x="159" y="1262"/>
                  </a:lnTo>
                  <a:lnTo>
                    <a:pt x="159" y="1360"/>
                  </a:lnTo>
                  <a:lnTo>
                    <a:pt x="97" y="1389"/>
                  </a:lnTo>
                  <a:lnTo>
                    <a:pt x="49" y="1348"/>
                  </a:lnTo>
                  <a:lnTo>
                    <a:pt x="25" y="1389"/>
                  </a:lnTo>
                  <a:lnTo>
                    <a:pt x="27" y="1583"/>
                  </a:lnTo>
                  <a:lnTo>
                    <a:pt x="62" y="1598"/>
                  </a:lnTo>
                  <a:lnTo>
                    <a:pt x="111" y="1429"/>
                  </a:lnTo>
                  <a:lnTo>
                    <a:pt x="168" y="1436"/>
                  </a:lnTo>
                  <a:lnTo>
                    <a:pt x="168" y="1567"/>
                  </a:lnTo>
                  <a:lnTo>
                    <a:pt x="304" y="1145"/>
                  </a:lnTo>
                  <a:lnTo>
                    <a:pt x="319" y="1020"/>
                  </a:lnTo>
                  <a:lnTo>
                    <a:pt x="194" y="1130"/>
                  </a:lnTo>
                  <a:lnTo>
                    <a:pt x="176" y="1035"/>
                  </a:lnTo>
                  <a:lnTo>
                    <a:pt x="106" y="991"/>
                  </a:lnTo>
                  <a:lnTo>
                    <a:pt x="198" y="878"/>
                  </a:lnTo>
                  <a:lnTo>
                    <a:pt x="231" y="840"/>
                  </a:lnTo>
                  <a:lnTo>
                    <a:pt x="662" y="829"/>
                  </a:lnTo>
                  <a:lnTo>
                    <a:pt x="231" y="941"/>
                  </a:lnTo>
                  <a:lnTo>
                    <a:pt x="207" y="1011"/>
                  </a:lnTo>
                  <a:lnTo>
                    <a:pt x="434" y="977"/>
                  </a:lnTo>
                  <a:lnTo>
                    <a:pt x="355" y="1062"/>
                  </a:lnTo>
                  <a:lnTo>
                    <a:pt x="515" y="991"/>
                  </a:lnTo>
                  <a:lnTo>
                    <a:pt x="743" y="829"/>
                  </a:lnTo>
                  <a:lnTo>
                    <a:pt x="963" y="820"/>
                  </a:lnTo>
                  <a:lnTo>
                    <a:pt x="917" y="746"/>
                  </a:lnTo>
                  <a:lnTo>
                    <a:pt x="921" y="719"/>
                  </a:lnTo>
                  <a:lnTo>
                    <a:pt x="1053" y="680"/>
                  </a:lnTo>
                  <a:lnTo>
                    <a:pt x="978" y="636"/>
                  </a:lnTo>
                  <a:lnTo>
                    <a:pt x="985" y="574"/>
                  </a:lnTo>
                  <a:lnTo>
                    <a:pt x="1082" y="519"/>
                  </a:lnTo>
                  <a:lnTo>
                    <a:pt x="1038" y="465"/>
                  </a:lnTo>
                  <a:lnTo>
                    <a:pt x="1053" y="394"/>
                  </a:lnTo>
                  <a:lnTo>
                    <a:pt x="978" y="336"/>
                  </a:lnTo>
                  <a:lnTo>
                    <a:pt x="886" y="330"/>
                  </a:lnTo>
                  <a:lnTo>
                    <a:pt x="1014" y="284"/>
                  </a:lnTo>
                  <a:lnTo>
                    <a:pt x="1167" y="281"/>
                  </a:lnTo>
                  <a:lnTo>
                    <a:pt x="1093" y="233"/>
                  </a:lnTo>
                  <a:lnTo>
                    <a:pt x="1167" y="198"/>
                  </a:lnTo>
                  <a:lnTo>
                    <a:pt x="985" y="161"/>
                  </a:lnTo>
                  <a:lnTo>
                    <a:pt x="814" y="161"/>
                  </a:lnTo>
                  <a:lnTo>
                    <a:pt x="662" y="191"/>
                  </a:lnTo>
                  <a:lnTo>
                    <a:pt x="886" y="101"/>
                  </a:lnTo>
                  <a:lnTo>
                    <a:pt x="1110" y="41"/>
                  </a:lnTo>
                  <a:lnTo>
                    <a:pt x="1289" y="25"/>
                  </a:lnTo>
                  <a:lnTo>
                    <a:pt x="1547" y="25"/>
                  </a:lnTo>
                  <a:lnTo>
                    <a:pt x="1466" y="0"/>
                  </a:lnTo>
                  <a:lnTo>
                    <a:pt x="1185" y="0"/>
                  </a:lnTo>
                  <a:lnTo>
                    <a:pt x="103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7934040" y="3800520"/>
              <a:ext cx="9360" cy="22320"/>
            </a:xfrm>
            <a:custGeom>
              <a:avLst/>
              <a:gdLst/>
              <a:ahLst/>
              <a:rect l="l" t="t" r="r" b="b"/>
              <a:pathLst>
                <a:path w="134" h="334">
                  <a:moveTo>
                    <a:pt x="132" y="6"/>
                  </a:moveTo>
                  <a:lnTo>
                    <a:pt x="134" y="68"/>
                  </a:lnTo>
                  <a:lnTo>
                    <a:pt x="86" y="112"/>
                  </a:lnTo>
                  <a:lnTo>
                    <a:pt x="49" y="195"/>
                  </a:lnTo>
                  <a:lnTo>
                    <a:pt x="37" y="273"/>
                  </a:lnTo>
                  <a:lnTo>
                    <a:pt x="17" y="334"/>
                  </a:lnTo>
                  <a:lnTo>
                    <a:pt x="0" y="329"/>
                  </a:lnTo>
                  <a:lnTo>
                    <a:pt x="3" y="218"/>
                  </a:lnTo>
                  <a:lnTo>
                    <a:pt x="28" y="128"/>
                  </a:lnTo>
                  <a:lnTo>
                    <a:pt x="63" y="36"/>
                  </a:lnTo>
                  <a:lnTo>
                    <a:pt x="99" y="0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7929000" y="3799440"/>
              <a:ext cx="44280" cy="135000"/>
            </a:xfrm>
            <a:custGeom>
              <a:avLst/>
              <a:gdLst/>
              <a:ahLst/>
              <a:rect l="l" t="t" r="r" b="b"/>
              <a:pathLst>
                <a:path w="583" h="2024">
                  <a:moveTo>
                    <a:pt x="90" y="0"/>
                  </a:moveTo>
                  <a:lnTo>
                    <a:pt x="40" y="85"/>
                  </a:lnTo>
                  <a:lnTo>
                    <a:pt x="18" y="191"/>
                  </a:lnTo>
                  <a:lnTo>
                    <a:pt x="18" y="281"/>
                  </a:lnTo>
                  <a:lnTo>
                    <a:pt x="49" y="397"/>
                  </a:lnTo>
                  <a:lnTo>
                    <a:pt x="79" y="485"/>
                  </a:lnTo>
                  <a:lnTo>
                    <a:pt x="111" y="606"/>
                  </a:lnTo>
                  <a:lnTo>
                    <a:pt x="139" y="663"/>
                  </a:lnTo>
                  <a:lnTo>
                    <a:pt x="205" y="692"/>
                  </a:lnTo>
                  <a:lnTo>
                    <a:pt x="245" y="676"/>
                  </a:lnTo>
                  <a:lnTo>
                    <a:pt x="317" y="316"/>
                  </a:lnTo>
                  <a:lnTo>
                    <a:pt x="356" y="258"/>
                  </a:lnTo>
                  <a:lnTo>
                    <a:pt x="302" y="546"/>
                  </a:lnTo>
                  <a:lnTo>
                    <a:pt x="211" y="1001"/>
                  </a:lnTo>
                  <a:lnTo>
                    <a:pt x="211" y="1093"/>
                  </a:lnTo>
                  <a:lnTo>
                    <a:pt x="356" y="1549"/>
                  </a:lnTo>
                  <a:lnTo>
                    <a:pt x="583" y="1823"/>
                  </a:lnTo>
                  <a:lnTo>
                    <a:pt x="489" y="1793"/>
                  </a:lnTo>
                  <a:lnTo>
                    <a:pt x="317" y="1570"/>
                  </a:lnTo>
                  <a:lnTo>
                    <a:pt x="220" y="1390"/>
                  </a:lnTo>
                  <a:lnTo>
                    <a:pt x="293" y="1803"/>
                  </a:lnTo>
                  <a:lnTo>
                    <a:pt x="471" y="2024"/>
                  </a:lnTo>
                  <a:lnTo>
                    <a:pt x="245" y="1768"/>
                  </a:lnTo>
                  <a:lnTo>
                    <a:pt x="194" y="1616"/>
                  </a:lnTo>
                  <a:lnTo>
                    <a:pt x="172" y="1441"/>
                  </a:lnTo>
                  <a:lnTo>
                    <a:pt x="183" y="1282"/>
                  </a:lnTo>
                  <a:lnTo>
                    <a:pt x="159" y="1231"/>
                  </a:lnTo>
                  <a:lnTo>
                    <a:pt x="139" y="1129"/>
                  </a:lnTo>
                  <a:lnTo>
                    <a:pt x="161" y="1015"/>
                  </a:lnTo>
                  <a:lnTo>
                    <a:pt x="205" y="738"/>
                  </a:lnTo>
                  <a:lnTo>
                    <a:pt x="134" y="692"/>
                  </a:lnTo>
                  <a:lnTo>
                    <a:pt x="79" y="627"/>
                  </a:lnTo>
                  <a:lnTo>
                    <a:pt x="62" y="477"/>
                  </a:lnTo>
                  <a:lnTo>
                    <a:pt x="0" y="300"/>
                  </a:lnTo>
                  <a:lnTo>
                    <a:pt x="0" y="201"/>
                  </a:lnTo>
                  <a:lnTo>
                    <a:pt x="38" y="85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7961400" y="3852360"/>
              <a:ext cx="126360" cy="99360"/>
            </a:xfrm>
            <a:custGeom>
              <a:avLst/>
              <a:gdLst/>
              <a:ahLst/>
              <a:rect l="l" t="t" r="r" b="b"/>
              <a:pathLst>
                <a:path w="1657" h="1485">
                  <a:moveTo>
                    <a:pt x="272" y="727"/>
                  </a:moveTo>
                  <a:lnTo>
                    <a:pt x="244" y="745"/>
                  </a:lnTo>
                  <a:lnTo>
                    <a:pt x="351" y="844"/>
                  </a:lnTo>
                  <a:lnTo>
                    <a:pt x="300" y="929"/>
                  </a:lnTo>
                  <a:lnTo>
                    <a:pt x="198" y="1000"/>
                  </a:lnTo>
                  <a:lnTo>
                    <a:pt x="62" y="1000"/>
                  </a:lnTo>
                  <a:lnTo>
                    <a:pt x="129" y="1077"/>
                  </a:lnTo>
                  <a:lnTo>
                    <a:pt x="292" y="1192"/>
                  </a:lnTo>
                  <a:lnTo>
                    <a:pt x="156" y="1226"/>
                  </a:lnTo>
                  <a:lnTo>
                    <a:pt x="0" y="1171"/>
                  </a:lnTo>
                  <a:lnTo>
                    <a:pt x="132" y="1321"/>
                  </a:lnTo>
                  <a:lnTo>
                    <a:pt x="277" y="1485"/>
                  </a:lnTo>
                  <a:lnTo>
                    <a:pt x="438" y="1485"/>
                  </a:lnTo>
                  <a:lnTo>
                    <a:pt x="634" y="1402"/>
                  </a:lnTo>
                  <a:lnTo>
                    <a:pt x="767" y="1272"/>
                  </a:lnTo>
                  <a:lnTo>
                    <a:pt x="670" y="1303"/>
                  </a:lnTo>
                  <a:lnTo>
                    <a:pt x="560" y="1206"/>
                  </a:lnTo>
                  <a:lnTo>
                    <a:pt x="731" y="1182"/>
                  </a:lnTo>
                  <a:lnTo>
                    <a:pt x="892" y="1125"/>
                  </a:lnTo>
                  <a:lnTo>
                    <a:pt x="835" y="1226"/>
                  </a:lnTo>
                  <a:lnTo>
                    <a:pt x="996" y="1116"/>
                  </a:lnTo>
                  <a:lnTo>
                    <a:pt x="1028" y="1070"/>
                  </a:lnTo>
                  <a:lnTo>
                    <a:pt x="1162" y="975"/>
                  </a:lnTo>
                  <a:lnTo>
                    <a:pt x="1215" y="874"/>
                  </a:lnTo>
                  <a:lnTo>
                    <a:pt x="1637" y="134"/>
                  </a:lnTo>
                  <a:lnTo>
                    <a:pt x="1657" y="0"/>
                  </a:lnTo>
                  <a:lnTo>
                    <a:pt x="1162" y="922"/>
                  </a:lnTo>
                  <a:lnTo>
                    <a:pt x="1070" y="984"/>
                  </a:lnTo>
                  <a:lnTo>
                    <a:pt x="920" y="1019"/>
                  </a:lnTo>
                  <a:lnTo>
                    <a:pt x="846" y="1109"/>
                  </a:lnTo>
                  <a:lnTo>
                    <a:pt x="721" y="1141"/>
                  </a:lnTo>
                  <a:lnTo>
                    <a:pt x="634" y="1125"/>
                  </a:lnTo>
                  <a:lnTo>
                    <a:pt x="593" y="1077"/>
                  </a:lnTo>
                  <a:lnTo>
                    <a:pt x="560" y="975"/>
                  </a:lnTo>
                  <a:lnTo>
                    <a:pt x="549" y="890"/>
                  </a:lnTo>
                  <a:lnTo>
                    <a:pt x="650" y="855"/>
                  </a:lnTo>
                  <a:lnTo>
                    <a:pt x="634" y="835"/>
                  </a:lnTo>
                  <a:lnTo>
                    <a:pt x="525" y="844"/>
                  </a:lnTo>
                  <a:lnTo>
                    <a:pt x="394" y="800"/>
                  </a:lnTo>
                  <a:lnTo>
                    <a:pt x="303" y="745"/>
                  </a:lnTo>
                  <a:lnTo>
                    <a:pt x="272" y="7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7962120" y="3883320"/>
              <a:ext cx="71280" cy="28800"/>
            </a:xfrm>
            <a:custGeom>
              <a:avLst/>
              <a:gdLst/>
              <a:ahLst/>
              <a:rect l="l" t="t" r="r" b="b"/>
              <a:pathLst>
                <a:path w="934" h="431">
                  <a:moveTo>
                    <a:pt x="152" y="83"/>
                  </a:moveTo>
                  <a:lnTo>
                    <a:pt x="152" y="0"/>
                  </a:lnTo>
                  <a:lnTo>
                    <a:pt x="77" y="0"/>
                  </a:lnTo>
                  <a:lnTo>
                    <a:pt x="0" y="64"/>
                  </a:lnTo>
                  <a:lnTo>
                    <a:pt x="33" y="219"/>
                  </a:lnTo>
                  <a:lnTo>
                    <a:pt x="152" y="114"/>
                  </a:lnTo>
                  <a:lnTo>
                    <a:pt x="418" y="205"/>
                  </a:lnTo>
                  <a:lnTo>
                    <a:pt x="485" y="259"/>
                  </a:lnTo>
                  <a:lnTo>
                    <a:pt x="611" y="259"/>
                  </a:lnTo>
                  <a:lnTo>
                    <a:pt x="844" y="316"/>
                  </a:lnTo>
                  <a:lnTo>
                    <a:pt x="842" y="387"/>
                  </a:lnTo>
                  <a:lnTo>
                    <a:pt x="888" y="431"/>
                  </a:lnTo>
                  <a:lnTo>
                    <a:pt x="934" y="367"/>
                  </a:lnTo>
                  <a:lnTo>
                    <a:pt x="881" y="254"/>
                  </a:lnTo>
                  <a:lnTo>
                    <a:pt x="844" y="265"/>
                  </a:lnTo>
                  <a:lnTo>
                    <a:pt x="620" y="219"/>
                  </a:lnTo>
                  <a:lnTo>
                    <a:pt x="521" y="228"/>
                  </a:lnTo>
                  <a:lnTo>
                    <a:pt x="482" y="171"/>
                  </a:lnTo>
                  <a:lnTo>
                    <a:pt x="194" y="99"/>
                  </a:lnTo>
                  <a:lnTo>
                    <a:pt x="15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7990200" y="3864600"/>
              <a:ext cx="36000" cy="31320"/>
            </a:xfrm>
            <a:custGeom>
              <a:avLst/>
              <a:gdLst/>
              <a:ahLst/>
              <a:rect l="l" t="t" r="r" b="b"/>
              <a:pathLst>
                <a:path w="472" h="465">
                  <a:moveTo>
                    <a:pt x="28" y="113"/>
                  </a:moveTo>
                  <a:lnTo>
                    <a:pt x="64" y="96"/>
                  </a:lnTo>
                  <a:lnTo>
                    <a:pt x="154" y="195"/>
                  </a:lnTo>
                  <a:lnTo>
                    <a:pt x="248" y="206"/>
                  </a:lnTo>
                  <a:lnTo>
                    <a:pt x="302" y="159"/>
                  </a:lnTo>
                  <a:lnTo>
                    <a:pt x="309" y="0"/>
                  </a:lnTo>
                  <a:lnTo>
                    <a:pt x="345" y="168"/>
                  </a:lnTo>
                  <a:lnTo>
                    <a:pt x="391" y="242"/>
                  </a:lnTo>
                  <a:lnTo>
                    <a:pt x="472" y="242"/>
                  </a:lnTo>
                  <a:lnTo>
                    <a:pt x="470" y="263"/>
                  </a:lnTo>
                  <a:lnTo>
                    <a:pt x="345" y="270"/>
                  </a:lnTo>
                  <a:lnTo>
                    <a:pt x="224" y="292"/>
                  </a:lnTo>
                  <a:lnTo>
                    <a:pt x="217" y="410"/>
                  </a:lnTo>
                  <a:lnTo>
                    <a:pt x="154" y="401"/>
                  </a:lnTo>
                  <a:lnTo>
                    <a:pt x="149" y="465"/>
                  </a:lnTo>
                  <a:lnTo>
                    <a:pt x="110" y="391"/>
                  </a:lnTo>
                  <a:lnTo>
                    <a:pt x="173" y="270"/>
                  </a:lnTo>
                  <a:lnTo>
                    <a:pt x="92" y="175"/>
                  </a:lnTo>
                  <a:lnTo>
                    <a:pt x="11" y="175"/>
                  </a:lnTo>
                  <a:lnTo>
                    <a:pt x="0" y="145"/>
                  </a:lnTo>
                  <a:lnTo>
                    <a:pt x="28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8013960" y="3835440"/>
              <a:ext cx="70200" cy="42480"/>
            </a:xfrm>
            <a:custGeom>
              <a:avLst/>
              <a:gdLst/>
              <a:ahLst/>
              <a:rect l="l" t="t" r="r" b="b"/>
              <a:pathLst>
                <a:path w="924" h="640">
                  <a:moveTo>
                    <a:pt x="36" y="71"/>
                  </a:moveTo>
                  <a:lnTo>
                    <a:pt x="92" y="92"/>
                  </a:lnTo>
                  <a:lnTo>
                    <a:pt x="75" y="177"/>
                  </a:lnTo>
                  <a:lnTo>
                    <a:pt x="29" y="334"/>
                  </a:lnTo>
                  <a:lnTo>
                    <a:pt x="0" y="517"/>
                  </a:lnTo>
                  <a:lnTo>
                    <a:pt x="25" y="613"/>
                  </a:lnTo>
                  <a:lnTo>
                    <a:pt x="42" y="431"/>
                  </a:lnTo>
                  <a:lnTo>
                    <a:pt x="92" y="304"/>
                  </a:lnTo>
                  <a:lnTo>
                    <a:pt x="132" y="517"/>
                  </a:lnTo>
                  <a:lnTo>
                    <a:pt x="128" y="594"/>
                  </a:lnTo>
                  <a:lnTo>
                    <a:pt x="178" y="535"/>
                  </a:lnTo>
                  <a:lnTo>
                    <a:pt x="477" y="640"/>
                  </a:lnTo>
                  <a:lnTo>
                    <a:pt x="601" y="620"/>
                  </a:lnTo>
                  <a:lnTo>
                    <a:pt x="694" y="565"/>
                  </a:lnTo>
                  <a:lnTo>
                    <a:pt x="756" y="480"/>
                  </a:lnTo>
                  <a:lnTo>
                    <a:pt x="811" y="408"/>
                  </a:lnTo>
                  <a:lnTo>
                    <a:pt x="680" y="565"/>
                  </a:lnTo>
                  <a:lnTo>
                    <a:pt x="601" y="594"/>
                  </a:lnTo>
                  <a:lnTo>
                    <a:pt x="500" y="604"/>
                  </a:lnTo>
                  <a:lnTo>
                    <a:pt x="424" y="594"/>
                  </a:lnTo>
                  <a:lnTo>
                    <a:pt x="334" y="558"/>
                  </a:lnTo>
                  <a:lnTo>
                    <a:pt x="246" y="466"/>
                  </a:lnTo>
                  <a:lnTo>
                    <a:pt x="253" y="359"/>
                  </a:lnTo>
                  <a:lnTo>
                    <a:pt x="394" y="480"/>
                  </a:lnTo>
                  <a:lnTo>
                    <a:pt x="420" y="414"/>
                  </a:lnTo>
                  <a:lnTo>
                    <a:pt x="299" y="238"/>
                  </a:lnTo>
                  <a:lnTo>
                    <a:pt x="299" y="141"/>
                  </a:lnTo>
                  <a:lnTo>
                    <a:pt x="429" y="133"/>
                  </a:lnTo>
                  <a:lnTo>
                    <a:pt x="477" y="157"/>
                  </a:lnTo>
                  <a:lnTo>
                    <a:pt x="429" y="258"/>
                  </a:lnTo>
                  <a:lnTo>
                    <a:pt x="530" y="293"/>
                  </a:lnTo>
                  <a:lnTo>
                    <a:pt x="659" y="293"/>
                  </a:lnTo>
                  <a:lnTo>
                    <a:pt x="671" y="271"/>
                  </a:lnTo>
                  <a:lnTo>
                    <a:pt x="552" y="141"/>
                  </a:lnTo>
                  <a:lnTo>
                    <a:pt x="694" y="166"/>
                  </a:lnTo>
                  <a:lnTo>
                    <a:pt x="842" y="238"/>
                  </a:lnTo>
                  <a:lnTo>
                    <a:pt x="827" y="348"/>
                  </a:lnTo>
                  <a:lnTo>
                    <a:pt x="866" y="286"/>
                  </a:lnTo>
                  <a:lnTo>
                    <a:pt x="912" y="274"/>
                  </a:lnTo>
                  <a:lnTo>
                    <a:pt x="924" y="223"/>
                  </a:lnTo>
                  <a:lnTo>
                    <a:pt x="650" y="104"/>
                  </a:lnTo>
                  <a:lnTo>
                    <a:pt x="585" y="36"/>
                  </a:lnTo>
                  <a:lnTo>
                    <a:pt x="369" y="0"/>
                  </a:lnTo>
                  <a:lnTo>
                    <a:pt x="223" y="5"/>
                  </a:lnTo>
                  <a:lnTo>
                    <a:pt x="189" y="58"/>
                  </a:lnTo>
                  <a:lnTo>
                    <a:pt x="46" y="11"/>
                  </a:lnTo>
                  <a:lnTo>
                    <a:pt x="36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8039880" y="3843720"/>
              <a:ext cx="4680" cy="6120"/>
            </a:xfrm>
            <a:custGeom>
              <a:avLst/>
              <a:gdLst/>
              <a:ahLst/>
              <a:rect l="l" t="t" r="r" b="b"/>
              <a:pathLst>
                <a:path w="64" h="90">
                  <a:moveTo>
                    <a:pt x="0" y="0"/>
                  </a:moveTo>
                  <a:lnTo>
                    <a:pt x="18" y="90"/>
                  </a:lnTo>
                  <a:lnTo>
                    <a:pt x="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7960680" y="3813480"/>
              <a:ext cx="58320" cy="21600"/>
            </a:xfrm>
            <a:custGeom>
              <a:avLst/>
              <a:gdLst/>
              <a:ahLst/>
              <a:rect l="l" t="t" r="r" b="b"/>
              <a:pathLst>
                <a:path w="774" h="328">
                  <a:moveTo>
                    <a:pt x="759" y="328"/>
                  </a:moveTo>
                  <a:lnTo>
                    <a:pt x="774" y="293"/>
                  </a:lnTo>
                  <a:lnTo>
                    <a:pt x="678" y="185"/>
                  </a:lnTo>
                  <a:lnTo>
                    <a:pt x="443" y="46"/>
                  </a:lnTo>
                  <a:lnTo>
                    <a:pt x="270" y="64"/>
                  </a:lnTo>
                  <a:lnTo>
                    <a:pt x="173" y="2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51" y="64"/>
                  </a:lnTo>
                  <a:lnTo>
                    <a:pt x="245" y="104"/>
                  </a:lnTo>
                  <a:lnTo>
                    <a:pt x="337" y="127"/>
                  </a:lnTo>
                  <a:lnTo>
                    <a:pt x="452" y="134"/>
                  </a:lnTo>
                  <a:lnTo>
                    <a:pt x="607" y="219"/>
                  </a:lnTo>
                  <a:lnTo>
                    <a:pt x="706" y="300"/>
                  </a:lnTo>
                  <a:lnTo>
                    <a:pt x="735" y="328"/>
                  </a:lnTo>
                  <a:lnTo>
                    <a:pt x="759" y="3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7957800" y="3816720"/>
              <a:ext cx="61560" cy="43560"/>
            </a:xfrm>
            <a:custGeom>
              <a:avLst/>
              <a:gdLst/>
              <a:ahLst/>
              <a:rect l="l" t="t" r="r" b="b"/>
              <a:pathLst>
                <a:path w="807" h="655">
                  <a:moveTo>
                    <a:pt x="132" y="32"/>
                  </a:moveTo>
                  <a:lnTo>
                    <a:pt x="88" y="93"/>
                  </a:lnTo>
                  <a:lnTo>
                    <a:pt x="51" y="227"/>
                  </a:lnTo>
                  <a:lnTo>
                    <a:pt x="37" y="359"/>
                  </a:lnTo>
                  <a:lnTo>
                    <a:pt x="77" y="466"/>
                  </a:lnTo>
                  <a:lnTo>
                    <a:pt x="132" y="535"/>
                  </a:lnTo>
                  <a:lnTo>
                    <a:pt x="249" y="595"/>
                  </a:lnTo>
                  <a:lnTo>
                    <a:pt x="383" y="634"/>
                  </a:lnTo>
                  <a:lnTo>
                    <a:pt x="501" y="625"/>
                  </a:lnTo>
                  <a:lnTo>
                    <a:pt x="581" y="595"/>
                  </a:lnTo>
                  <a:lnTo>
                    <a:pt x="651" y="551"/>
                  </a:lnTo>
                  <a:lnTo>
                    <a:pt x="708" y="480"/>
                  </a:lnTo>
                  <a:lnTo>
                    <a:pt x="761" y="392"/>
                  </a:lnTo>
                  <a:lnTo>
                    <a:pt x="409" y="480"/>
                  </a:lnTo>
                  <a:lnTo>
                    <a:pt x="480" y="381"/>
                  </a:lnTo>
                  <a:lnTo>
                    <a:pt x="576" y="359"/>
                  </a:lnTo>
                  <a:lnTo>
                    <a:pt x="736" y="359"/>
                  </a:lnTo>
                  <a:lnTo>
                    <a:pt x="807" y="288"/>
                  </a:lnTo>
                  <a:lnTo>
                    <a:pt x="807" y="359"/>
                  </a:lnTo>
                  <a:lnTo>
                    <a:pt x="708" y="530"/>
                  </a:lnTo>
                  <a:lnTo>
                    <a:pt x="611" y="611"/>
                  </a:lnTo>
                  <a:lnTo>
                    <a:pt x="491" y="636"/>
                  </a:lnTo>
                  <a:lnTo>
                    <a:pt x="383" y="655"/>
                  </a:lnTo>
                  <a:lnTo>
                    <a:pt x="222" y="611"/>
                  </a:lnTo>
                  <a:lnTo>
                    <a:pt x="88" y="530"/>
                  </a:lnTo>
                  <a:lnTo>
                    <a:pt x="26" y="434"/>
                  </a:lnTo>
                  <a:lnTo>
                    <a:pt x="0" y="282"/>
                  </a:lnTo>
                  <a:lnTo>
                    <a:pt x="26" y="117"/>
                  </a:lnTo>
                  <a:lnTo>
                    <a:pt x="95" y="0"/>
                  </a:lnTo>
                  <a:lnTo>
                    <a:pt x="132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7978680" y="3825000"/>
              <a:ext cx="31680" cy="12600"/>
            </a:xfrm>
            <a:custGeom>
              <a:avLst/>
              <a:gdLst/>
              <a:ahLst/>
              <a:rect l="l" t="t" r="r" b="b"/>
              <a:pathLst>
                <a:path w="412" h="189">
                  <a:moveTo>
                    <a:pt x="15" y="110"/>
                  </a:moveTo>
                  <a:lnTo>
                    <a:pt x="0" y="50"/>
                  </a:lnTo>
                  <a:lnTo>
                    <a:pt x="34" y="0"/>
                  </a:lnTo>
                  <a:lnTo>
                    <a:pt x="207" y="0"/>
                  </a:lnTo>
                  <a:lnTo>
                    <a:pt x="393" y="99"/>
                  </a:lnTo>
                  <a:lnTo>
                    <a:pt x="412" y="160"/>
                  </a:lnTo>
                  <a:lnTo>
                    <a:pt x="378" y="189"/>
                  </a:lnTo>
                  <a:lnTo>
                    <a:pt x="165" y="185"/>
                  </a:lnTo>
                  <a:lnTo>
                    <a:pt x="200" y="154"/>
                  </a:lnTo>
                  <a:lnTo>
                    <a:pt x="154" y="119"/>
                  </a:lnTo>
                  <a:lnTo>
                    <a:pt x="165" y="84"/>
                  </a:lnTo>
                  <a:lnTo>
                    <a:pt x="200" y="84"/>
                  </a:lnTo>
                  <a:lnTo>
                    <a:pt x="165" y="50"/>
                  </a:lnTo>
                  <a:lnTo>
                    <a:pt x="55" y="68"/>
                  </a:lnTo>
                  <a:lnTo>
                    <a:pt x="1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8071560" y="3850200"/>
              <a:ext cx="28440" cy="33840"/>
            </a:xfrm>
            <a:custGeom>
              <a:avLst/>
              <a:gdLst/>
              <a:ahLst/>
              <a:rect l="l" t="t" r="r" b="b"/>
              <a:pathLst>
                <a:path w="374" h="514">
                  <a:moveTo>
                    <a:pt x="0" y="492"/>
                  </a:moveTo>
                  <a:lnTo>
                    <a:pt x="64" y="514"/>
                  </a:lnTo>
                  <a:lnTo>
                    <a:pt x="136" y="485"/>
                  </a:lnTo>
                  <a:lnTo>
                    <a:pt x="231" y="371"/>
                  </a:lnTo>
                  <a:lnTo>
                    <a:pt x="297" y="243"/>
                  </a:lnTo>
                  <a:lnTo>
                    <a:pt x="369" y="95"/>
                  </a:lnTo>
                  <a:lnTo>
                    <a:pt x="374" y="12"/>
                  </a:lnTo>
                  <a:lnTo>
                    <a:pt x="359" y="0"/>
                  </a:lnTo>
                  <a:lnTo>
                    <a:pt x="334" y="100"/>
                  </a:lnTo>
                  <a:lnTo>
                    <a:pt x="255" y="277"/>
                  </a:lnTo>
                  <a:lnTo>
                    <a:pt x="168" y="426"/>
                  </a:lnTo>
                  <a:lnTo>
                    <a:pt x="110" y="452"/>
                  </a:lnTo>
                  <a:lnTo>
                    <a:pt x="64" y="381"/>
                  </a:lnTo>
                  <a:lnTo>
                    <a:pt x="0" y="452"/>
                  </a:lnTo>
                  <a:lnTo>
                    <a:pt x="0" y="4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8084880" y="3854520"/>
              <a:ext cx="6480" cy="15480"/>
            </a:xfrm>
            <a:custGeom>
              <a:avLst/>
              <a:gdLst/>
              <a:ahLst/>
              <a:rect l="l" t="t" r="r" b="b"/>
              <a:pathLst>
                <a:path w="85" h="233">
                  <a:moveTo>
                    <a:pt x="0" y="134"/>
                  </a:moveTo>
                  <a:lnTo>
                    <a:pt x="14" y="233"/>
                  </a:lnTo>
                  <a:lnTo>
                    <a:pt x="85" y="122"/>
                  </a:lnTo>
                  <a:lnTo>
                    <a:pt x="82" y="0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7956000" y="3807360"/>
              <a:ext cx="7200" cy="20520"/>
            </a:xfrm>
            <a:custGeom>
              <a:avLst/>
              <a:gdLst/>
              <a:ahLst/>
              <a:rect l="l" t="t" r="r" b="b"/>
              <a:pathLst>
                <a:path w="103" h="311">
                  <a:moveTo>
                    <a:pt x="103" y="180"/>
                  </a:moveTo>
                  <a:lnTo>
                    <a:pt x="33" y="0"/>
                  </a:lnTo>
                  <a:lnTo>
                    <a:pt x="0" y="57"/>
                  </a:lnTo>
                  <a:lnTo>
                    <a:pt x="52" y="311"/>
                  </a:lnTo>
                  <a:lnTo>
                    <a:pt x="103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8076960" y="3850200"/>
              <a:ext cx="17640" cy="9360"/>
            </a:xfrm>
            <a:custGeom>
              <a:avLst/>
              <a:gdLst/>
              <a:ahLst/>
              <a:rect l="l" t="t" r="r" b="b"/>
              <a:pathLst>
                <a:path w="231" h="149">
                  <a:moveTo>
                    <a:pt x="51" y="51"/>
                  </a:moveTo>
                  <a:lnTo>
                    <a:pt x="231" y="0"/>
                  </a:lnTo>
                  <a:lnTo>
                    <a:pt x="222" y="35"/>
                  </a:lnTo>
                  <a:lnTo>
                    <a:pt x="0" y="149"/>
                  </a:lnTo>
                  <a:lnTo>
                    <a:pt x="5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8025480" y="3876480"/>
              <a:ext cx="12240" cy="25920"/>
            </a:xfrm>
            <a:custGeom>
              <a:avLst/>
              <a:gdLst/>
              <a:ahLst/>
              <a:rect l="l" t="t" r="r" b="b"/>
              <a:pathLst>
                <a:path w="161" h="392">
                  <a:moveTo>
                    <a:pt x="0" y="76"/>
                  </a:moveTo>
                  <a:lnTo>
                    <a:pt x="13" y="0"/>
                  </a:lnTo>
                  <a:lnTo>
                    <a:pt x="161" y="216"/>
                  </a:lnTo>
                  <a:lnTo>
                    <a:pt x="117" y="392"/>
                  </a:lnTo>
                  <a:lnTo>
                    <a:pt x="57" y="277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7962480" y="3866400"/>
              <a:ext cx="28440" cy="16920"/>
            </a:xfrm>
            <a:custGeom>
              <a:avLst/>
              <a:gdLst/>
              <a:ahLst/>
              <a:rect l="l" t="t" r="r" b="b"/>
              <a:pathLst>
                <a:path w="376" h="258">
                  <a:moveTo>
                    <a:pt x="376" y="0"/>
                  </a:moveTo>
                  <a:lnTo>
                    <a:pt x="257" y="159"/>
                  </a:lnTo>
                  <a:lnTo>
                    <a:pt x="83" y="207"/>
                  </a:lnTo>
                  <a:lnTo>
                    <a:pt x="0" y="258"/>
                  </a:lnTo>
                  <a:lnTo>
                    <a:pt x="145" y="85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7758000" y="3876480"/>
              <a:ext cx="177120" cy="106200"/>
            </a:xfrm>
            <a:custGeom>
              <a:avLst/>
              <a:gdLst/>
              <a:ahLst/>
              <a:rect l="l" t="t" r="r" b="b"/>
              <a:pathLst>
                <a:path w="2322" h="1591">
                  <a:moveTo>
                    <a:pt x="337" y="1464"/>
                  </a:moveTo>
                  <a:lnTo>
                    <a:pt x="92" y="1187"/>
                  </a:lnTo>
                  <a:lnTo>
                    <a:pt x="16" y="929"/>
                  </a:lnTo>
                  <a:lnTo>
                    <a:pt x="0" y="784"/>
                  </a:lnTo>
                  <a:lnTo>
                    <a:pt x="142" y="613"/>
                  </a:lnTo>
                  <a:lnTo>
                    <a:pt x="491" y="447"/>
                  </a:lnTo>
                  <a:lnTo>
                    <a:pt x="1063" y="251"/>
                  </a:lnTo>
                  <a:lnTo>
                    <a:pt x="1584" y="157"/>
                  </a:lnTo>
                  <a:lnTo>
                    <a:pt x="2021" y="117"/>
                  </a:lnTo>
                  <a:lnTo>
                    <a:pt x="2322" y="0"/>
                  </a:lnTo>
                  <a:lnTo>
                    <a:pt x="2166" y="117"/>
                  </a:lnTo>
                  <a:lnTo>
                    <a:pt x="2036" y="297"/>
                  </a:lnTo>
                  <a:lnTo>
                    <a:pt x="1975" y="583"/>
                  </a:lnTo>
                  <a:lnTo>
                    <a:pt x="1959" y="807"/>
                  </a:lnTo>
                  <a:lnTo>
                    <a:pt x="1959" y="1099"/>
                  </a:lnTo>
                  <a:lnTo>
                    <a:pt x="1944" y="1307"/>
                  </a:lnTo>
                  <a:lnTo>
                    <a:pt x="1849" y="1591"/>
                  </a:lnTo>
                  <a:lnTo>
                    <a:pt x="1819" y="1561"/>
                  </a:lnTo>
                  <a:lnTo>
                    <a:pt x="1898" y="1337"/>
                  </a:lnTo>
                  <a:lnTo>
                    <a:pt x="1929" y="1136"/>
                  </a:lnTo>
                  <a:lnTo>
                    <a:pt x="1929" y="807"/>
                  </a:lnTo>
                  <a:lnTo>
                    <a:pt x="1944" y="508"/>
                  </a:lnTo>
                  <a:lnTo>
                    <a:pt x="1863" y="383"/>
                  </a:lnTo>
                  <a:lnTo>
                    <a:pt x="1692" y="297"/>
                  </a:lnTo>
                  <a:lnTo>
                    <a:pt x="1439" y="251"/>
                  </a:lnTo>
                  <a:lnTo>
                    <a:pt x="1263" y="238"/>
                  </a:lnTo>
                  <a:lnTo>
                    <a:pt x="1074" y="266"/>
                  </a:lnTo>
                  <a:lnTo>
                    <a:pt x="474" y="457"/>
                  </a:lnTo>
                  <a:lnTo>
                    <a:pt x="127" y="688"/>
                  </a:lnTo>
                  <a:lnTo>
                    <a:pt x="81" y="869"/>
                  </a:lnTo>
                  <a:lnTo>
                    <a:pt x="81" y="1040"/>
                  </a:lnTo>
                  <a:lnTo>
                    <a:pt x="142" y="1211"/>
                  </a:lnTo>
                  <a:lnTo>
                    <a:pt x="337" y="14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7747920" y="3945240"/>
              <a:ext cx="214920" cy="275400"/>
            </a:xfrm>
            <a:custGeom>
              <a:avLst/>
              <a:gdLst/>
              <a:ahLst/>
              <a:rect l="l" t="t" r="r" b="b"/>
              <a:pathLst>
                <a:path w="2817" h="4129">
                  <a:moveTo>
                    <a:pt x="61" y="0"/>
                  </a:moveTo>
                  <a:lnTo>
                    <a:pt x="79" y="122"/>
                  </a:lnTo>
                  <a:lnTo>
                    <a:pt x="156" y="299"/>
                  </a:lnTo>
                  <a:lnTo>
                    <a:pt x="285" y="470"/>
                  </a:lnTo>
                  <a:lnTo>
                    <a:pt x="470" y="662"/>
                  </a:lnTo>
                  <a:lnTo>
                    <a:pt x="802" y="910"/>
                  </a:lnTo>
                  <a:lnTo>
                    <a:pt x="1350" y="1369"/>
                  </a:lnTo>
                  <a:lnTo>
                    <a:pt x="1138" y="829"/>
                  </a:lnTo>
                  <a:lnTo>
                    <a:pt x="1454" y="1305"/>
                  </a:lnTo>
                  <a:lnTo>
                    <a:pt x="1677" y="1664"/>
                  </a:lnTo>
                  <a:lnTo>
                    <a:pt x="1868" y="1950"/>
                  </a:lnTo>
                  <a:lnTo>
                    <a:pt x="2037" y="2215"/>
                  </a:lnTo>
                  <a:lnTo>
                    <a:pt x="2180" y="2361"/>
                  </a:lnTo>
                  <a:lnTo>
                    <a:pt x="2475" y="2672"/>
                  </a:lnTo>
                  <a:lnTo>
                    <a:pt x="2242" y="2056"/>
                  </a:lnTo>
                  <a:lnTo>
                    <a:pt x="2009" y="1492"/>
                  </a:lnTo>
                  <a:lnTo>
                    <a:pt x="1772" y="959"/>
                  </a:lnTo>
                  <a:lnTo>
                    <a:pt x="1624" y="583"/>
                  </a:lnTo>
                  <a:lnTo>
                    <a:pt x="1595" y="470"/>
                  </a:lnTo>
                  <a:lnTo>
                    <a:pt x="1646" y="427"/>
                  </a:lnTo>
                  <a:lnTo>
                    <a:pt x="1989" y="535"/>
                  </a:lnTo>
                  <a:lnTo>
                    <a:pt x="2307" y="726"/>
                  </a:lnTo>
                  <a:lnTo>
                    <a:pt x="2463" y="851"/>
                  </a:lnTo>
                  <a:lnTo>
                    <a:pt x="2162" y="669"/>
                  </a:lnTo>
                  <a:lnTo>
                    <a:pt x="1835" y="548"/>
                  </a:lnTo>
                  <a:lnTo>
                    <a:pt x="1657" y="486"/>
                  </a:lnTo>
                  <a:lnTo>
                    <a:pt x="2009" y="1291"/>
                  </a:lnTo>
                  <a:lnTo>
                    <a:pt x="2364" y="2150"/>
                  </a:lnTo>
                  <a:lnTo>
                    <a:pt x="2635" y="2879"/>
                  </a:lnTo>
                  <a:lnTo>
                    <a:pt x="2817" y="3350"/>
                  </a:lnTo>
                  <a:lnTo>
                    <a:pt x="2560" y="3350"/>
                  </a:lnTo>
                  <a:lnTo>
                    <a:pt x="2261" y="3534"/>
                  </a:lnTo>
                  <a:lnTo>
                    <a:pt x="2055" y="3758"/>
                  </a:lnTo>
                  <a:lnTo>
                    <a:pt x="1989" y="3930"/>
                  </a:lnTo>
                  <a:lnTo>
                    <a:pt x="1945" y="4129"/>
                  </a:lnTo>
                  <a:lnTo>
                    <a:pt x="1945" y="3899"/>
                  </a:lnTo>
                  <a:lnTo>
                    <a:pt x="2009" y="3695"/>
                  </a:lnTo>
                  <a:lnTo>
                    <a:pt x="2147" y="3559"/>
                  </a:lnTo>
                  <a:lnTo>
                    <a:pt x="2429" y="3332"/>
                  </a:lnTo>
                  <a:lnTo>
                    <a:pt x="2136" y="3255"/>
                  </a:lnTo>
                  <a:lnTo>
                    <a:pt x="2085" y="3317"/>
                  </a:lnTo>
                  <a:lnTo>
                    <a:pt x="2009" y="3271"/>
                  </a:lnTo>
                  <a:lnTo>
                    <a:pt x="1989" y="3064"/>
                  </a:lnTo>
                  <a:lnTo>
                    <a:pt x="1835" y="3015"/>
                  </a:lnTo>
                  <a:lnTo>
                    <a:pt x="1200" y="3368"/>
                  </a:lnTo>
                  <a:lnTo>
                    <a:pt x="1138" y="3633"/>
                  </a:lnTo>
                  <a:lnTo>
                    <a:pt x="1565" y="3396"/>
                  </a:lnTo>
                  <a:lnTo>
                    <a:pt x="1090" y="3695"/>
                  </a:lnTo>
                  <a:lnTo>
                    <a:pt x="912" y="3899"/>
                  </a:lnTo>
                  <a:lnTo>
                    <a:pt x="1009" y="3984"/>
                  </a:lnTo>
                  <a:lnTo>
                    <a:pt x="1406" y="3608"/>
                  </a:lnTo>
                  <a:lnTo>
                    <a:pt x="1360" y="3804"/>
                  </a:lnTo>
                  <a:lnTo>
                    <a:pt x="1565" y="4071"/>
                  </a:lnTo>
                  <a:lnTo>
                    <a:pt x="936" y="4044"/>
                  </a:lnTo>
                  <a:lnTo>
                    <a:pt x="741" y="3949"/>
                  </a:lnTo>
                  <a:lnTo>
                    <a:pt x="600" y="3984"/>
                  </a:lnTo>
                  <a:lnTo>
                    <a:pt x="218" y="3758"/>
                  </a:lnTo>
                  <a:lnTo>
                    <a:pt x="33" y="3462"/>
                  </a:lnTo>
                  <a:lnTo>
                    <a:pt x="0" y="3130"/>
                  </a:lnTo>
                  <a:lnTo>
                    <a:pt x="79" y="3176"/>
                  </a:lnTo>
                  <a:lnTo>
                    <a:pt x="268" y="2965"/>
                  </a:lnTo>
                  <a:lnTo>
                    <a:pt x="448" y="2923"/>
                  </a:lnTo>
                  <a:lnTo>
                    <a:pt x="378" y="3086"/>
                  </a:lnTo>
                  <a:lnTo>
                    <a:pt x="378" y="3281"/>
                  </a:lnTo>
                  <a:lnTo>
                    <a:pt x="901" y="3050"/>
                  </a:lnTo>
                  <a:lnTo>
                    <a:pt x="1026" y="3064"/>
                  </a:lnTo>
                  <a:lnTo>
                    <a:pt x="681" y="3306"/>
                  </a:lnTo>
                  <a:lnTo>
                    <a:pt x="681" y="3462"/>
                  </a:lnTo>
                  <a:lnTo>
                    <a:pt x="1189" y="3189"/>
                  </a:lnTo>
                  <a:lnTo>
                    <a:pt x="1360" y="3189"/>
                  </a:lnTo>
                  <a:lnTo>
                    <a:pt x="1578" y="3064"/>
                  </a:lnTo>
                  <a:lnTo>
                    <a:pt x="1486" y="2907"/>
                  </a:lnTo>
                  <a:lnTo>
                    <a:pt x="1263" y="2767"/>
                  </a:lnTo>
                  <a:lnTo>
                    <a:pt x="1026" y="2688"/>
                  </a:lnTo>
                  <a:lnTo>
                    <a:pt x="802" y="2672"/>
                  </a:lnTo>
                  <a:lnTo>
                    <a:pt x="912" y="2612"/>
                  </a:lnTo>
                  <a:lnTo>
                    <a:pt x="741" y="2563"/>
                  </a:lnTo>
                  <a:lnTo>
                    <a:pt x="518" y="2612"/>
                  </a:lnTo>
                  <a:lnTo>
                    <a:pt x="331" y="2688"/>
                  </a:lnTo>
                  <a:lnTo>
                    <a:pt x="79" y="2855"/>
                  </a:lnTo>
                  <a:lnTo>
                    <a:pt x="393" y="2626"/>
                  </a:lnTo>
                  <a:lnTo>
                    <a:pt x="710" y="2517"/>
                  </a:lnTo>
                  <a:lnTo>
                    <a:pt x="947" y="2481"/>
                  </a:lnTo>
                  <a:lnTo>
                    <a:pt x="1122" y="2481"/>
                  </a:lnTo>
                  <a:lnTo>
                    <a:pt x="1360" y="2330"/>
                  </a:lnTo>
                  <a:lnTo>
                    <a:pt x="1350" y="2215"/>
                  </a:lnTo>
                  <a:lnTo>
                    <a:pt x="539" y="2422"/>
                  </a:lnTo>
                  <a:lnTo>
                    <a:pt x="993" y="2169"/>
                  </a:lnTo>
                  <a:lnTo>
                    <a:pt x="1215" y="2169"/>
                  </a:lnTo>
                  <a:lnTo>
                    <a:pt x="1251" y="2119"/>
                  </a:lnTo>
                  <a:lnTo>
                    <a:pt x="1286" y="1980"/>
                  </a:lnTo>
                  <a:lnTo>
                    <a:pt x="1251" y="1747"/>
                  </a:lnTo>
                  <a:lnTo>
                    <a:pt x="1138" y="1556"/>
                  </a:lnTo>
                  <a:lnTo>
                    <a:pt x="963" y="1337"/>
                  </a:lnTo>
                  <a:lnTo>
                    <a:pt x="730" y="1088"/>
                  </a:lnTo>
                  <a:lnTo>
                    <a:pt x="507" y="882"/>
                  </a:lnTo>
                  <a:lnTo>
                    <a:pt x="378" y="741"/>
                  </a:lnTo>
                  <a:lnTo>
                    <a:pt x="378" y="882"/>
                  </a:lnTo>
                  <a:lnTo>
                    <a:pt x="463" y="1042"/>
                  </a:lnTo>
                  <a:lnTo>
                    <a:pt x="741" y="1358"/>
                  </a:lnTo>
                  <a:lnTo>
                    <a:pt x="463" y="1165"/>
                  </a:lnTo>
                  <a:lnTo>
                    <a:pt x="207" y="1042"/>
                  </a:lnTo>
                  <a:lnTo>
                    <a:pt x="156" y="1007"/>
                  </a:lnTo>
                  <a:lnTo>
                    <a:pt x="79" y="1270"/>
                  </a:lnTo>
                  <a:lnTo>
                    <a:pt x="94" y="814"/>
                  </a:lnTo>
                  <a:lnTo>
                    <a:pt x="110" y="438"/>
                  </a:lnTo>
                  <a:lnTo>
                    <a:pt x="50" y="12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7743600" y="4031280"/>
              <a:ext cx="67680" cy="105480"/>
            </a:xfrm>
            <a:custGeom>
              <a:avLst/>
              <a:gdLst/>
              <a:ahLst/>
              <a:rect l="l" t="t" r="r" b="b"/>
              <a:pathLst>
                <a:path w="884" h="1588">
                  <a:moveTo>
                    <a:pt x="42" y="0"/>
                  </a:moveTo>
                  <a:lnTo>
                    <a:pt x="10" y="105"/>
                  </a:lnTo>
                  <a:lnTo>
                    <a:pt x="10" y="215"/>
                  </a:lnTo>
                  <a:lnTo>
                    <a:pt x="107" y="360"/>
                  </a:lnTo>
                  <a:lnTo>
                    <a:pt x="342" y="498"/>
                  </a:lnTo>
                  <a:lnTo>
                    <a:pt x="884" y="671"/>
                  </a:lnTo>
                  <a:lnTo>
                    <a:pt x="642" y="828"/>
                  </a:lnTo>
                  <a:lnTo>
                    <a:pt x="423" y="1019"/>
                  </a:lnTo>
                  <a:lnTo>
                    <a:pt x="167" y="1272"/>
                  </a:lnTo>
                  <a:lnTo>
                    <a:pt x="42" y="1588"/>
                  </a:lnTo>
                  <a:lnTo>
                    <a:pt x="136" y="1247"/>
                  </a:lnTo>
                  <a:lnTo>
                    <a:pt x="167" y="945"/>
                  </a:lnTo>
                  <a:lnTo>
                    <a:pt x="183" y="1190"/>
                  </a:lnTo>
                  <a:lnTo>
                    <a:pt x="423" y="909"/>
                  </a:lnTo>
                  <a:lnTo>
                    <a:pt x="520" y="814"/>
                  </a:lnTo>
                  <a:lnTo>
                    <a:pt x="199" y="659"/>
                  </a:lnTo>
                  <a:lnTo>
                    <a:pt x="167" y="828"/>
                  </a:lnTo>
                  <a:lnTo>
                    <a:pt x="118" y="671"/>
                  </a:lnTo>
                  <a:lnTo>
                    <a:pt x="22" y="426"/>
                  </a:lnTo>
                  <a:lnTo>
                    <a:pt x="0" y="235"/>
                  </a:lnTo>
                  <a:lnTo>
                    <a:pt x="0" y="78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7755480" y="4032360"/>
              <a:ext cx="93240" cy="52200"/>
            </a:xfrm>
            <a:custGeom>
              <a:avLst/>
              <a:gdLst/>
              <a:ahLst/>
              <a:rect l="l" t="t" r="r" b="b"/>
              <a:pathLst>
                <a:path w="1220" h="786">
                  <a:moveTo>
                    <a:pt x="62" y="18"/>
                  </a:moveTo>
                  <a:lnTo>
                    <a:pt x="223" y="0"/>
                  </a:lnTo>
                  <a:lnTo>
                    <a:pt x="491" y="91"/>
                  </a:lnTo>
                  <a:lnTo>
                    <a:pt x="733" y="251"/>
                  </a:lnTo>
                  <a:lnTo>
                    <a:pt x="1028" y="502"/>
                  </a:lnTo>
                  <a:lnTo>
                    <a:pt x="1220" y="739"/>
                  </a:lnTo>
                  <a:lnTo>
                    <a:pt x="1169" y="786"/>
                  </a:lnTo>
                  <a:lnTo>
                    <a:pt x="996" y="629"/>
                  </a:lnTo>
                  <a:lnTo>
                    <a:pt x="793" y="484"/>
                  </a:lnTo>
                  <a:lnTo>
                    <a:pt x="572" y="376"/>
                  </a:lnTo>
                  <a:lnTo>
                    <a:pt x="376" y="262"/>
                  </a:lnTo>
                  <a:lnTo>
                    <a:pt x="0" y="18"/>
                  </a:lnTo>
                  <a:lnTo>
                    <a:pt x="6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7929000" y="3876480"/>
              <a:ext cx="119520" cy="296640"/>
            </a:xfrm>
            <a:custGeom>
              <a:avLst/>
              <a:gdLst/>
              <a:ahLst/>
              <a:rect l="l" t="t" r="r" b="b"/>
              <a:pathLst>
                <a:path w="1568" h="4437">
                  <a:moveTo>
                    <a:pt x="161" y="83"/>
                  </a:moveTo>
                  <a:lnTo>
                    <a:pt x="99" y="205"/>
                  </a:lnTo>
                  <a:lnTo>
                    <a:pt x="49" y="383"/>
                  </a:lnTo>
                  <a:lnTo>
                    <a:pt x="49" y="583"/>
                  </a:lnTo>
                  <a:lnTo>
                    <a:pt x="99" y="774"/>
                  </a:lnTo>
                  <a:lnTo>
                    <a:pt x="257" y="1090"/>
                  </a:lnTo>
                  <a:lnTo>
                    <a:pt x="431" y="1400"/>
                  </a:lnTo>
                  <a:lnTo>
                    <a:pt x="543" y="1767"/>
                  </a:lnTo>
                  <a:lnTo>
                    <a:pt x="637" y="2172"/>
                  </a:lnTo>
                  <a:lnTo>
                    <a:pt x="719" y="2690"/>
                  </a:lnTo>
                  <a:lnTo>
                    <a:pt x="826" y="3398"/>
                  </a:lnTo>
                  <a:lnTo>
                    <a:pt x="877" y="3846"/>
                  </a:lnTo>
                  <a:lnTo>
                    <a:pt x="1057" y="3270"/>
                  </a:lnTo>
                  <a:lnTo>
                    <a:pt x="1192" y="2743"/>
                  </a:lnTo>
                  <a:lnTo>
                    <a:pt x="1347" y="2033"/>
                  </a:lnTo>
                  <a:lnTo>
                    <a:pt x="1444" y="1496"/>
                  </a:lnTo>
                  <a:lnTo>
                    <a:pt x="1471" y="1148"/>
                  </a:lnTo>
                  <a:lnTo>
                    <a:pt x="1490" y="830"/>
                  </a:lnTo>
                  <a:lnTo>
                    <a:pt x="1506" y="664"/>
                  </a:lnTo>
                  <a:lnTo>
                    <a:pt x="1568" y="567"/>
                  </a:lnTo>
                  <a:lnTo>
                    <a:pt x="1554" y="1169"/>
                  </a:lnTo>
                  <a:lnTo>
                    <a:pt x="1444" y="1908"/>
                  </a:lnTo>
                  <a:lnTo>
                    <a:pt x="1301" y="2582"/>
                  </a:lnTo>
                  <a:lnTo>
                    <a:pt x="1154" y="3195"/>
                  </a:lnTo>
                  <a:lnTo>
                    <a:pt x="971" y="3778"/>
                  </a:lnTo>
                  <a:lnTo>
                    <a:pt x="730" y="4394"/>
                  </a:lnTo>
                  <a:lnTo>
                    <a:pt x="637" y="4437"/>
                  </a:lnTo>
                  <a:lnTo>
                    <a:pt x="826" y="3917"/>
                  </a:lnTo>
                  <a:lnTo>
                    <a:pt x="683" y="2848"/>
                  </a:lnTo>
                  <a:lnTo>
                    <a:pt x="559" y="2015"/>
                  </a:lnTo>
                  <a:lnTo>
                    <a:pt x="402" y="1512"/>
                  </a:lnTo>
                  <a:lnTo>
                    <a:pt x="183" y="1090"/>
                  </a:lnTo>
                  <a:lnTo>
                    <a:pt x="49" y="784"/>
                  </a:lnTo>
                  <a:lnTo>
                    <a:pt x="0" y="602"/>
                  </a:lnTo>
                  <a:lnTo>
                    <a:pt x="0" y="394"/>
                  </a:lnTo>
                  <a:lnTo>
                    <a:pt x="49" y="189"/>
                  </a:lnTo>
                  <a:lnTo>
                    <a:pt x="161" y="0"/>
                  </a:lnTo>
                  <a:lnTo>
                    <a:pt x="161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7921800" y="4174200"/>
              <a:ext cx="120960" cy="67320"/>
            </a:xfrm>
            <a:custGeom>
              <a:avLst/>
              <a:gdLst/>
              <a:ahLst/>
              <a:rect l="l" t="t" r="r" b="b"/>
              <a:pathLst>
                <a:path w="1582" h="1002">
                  <a:moveTo>
                    <a:pt x="457" y="0"/>
                  </a:moveTo>
                  <a:lnTo>
                    <a:pt x="321" y="103"/>
                  </a:lnTo>
                  <a:lnTo>
                    <a:pt x="191" y="235"/>
                  </a:lnTo>
                  <a:lnTo>
                    <a:pt x="81" y="363"/>
                  </a:lnTo>
                  <a:lnTo>
                    <a:pt x="20" y="529"/>
                  </a:lnTo>
                  <a:lnTo>
                    <a:pt x="0" y="765"/>
                  </a:lnTo>
                  <a:lnTo>
                    <a:pt x="68" y="718"/>
                  </a:lnTo>
                  <a:lnTo>
                    <a:pt x="1174" y="1002"/>
                  </a:lnTo>
                  <a:lnTo>
                    <a:pt x="1296" y="988"/>
                  </a:lnTo>
                  <a:lnTo>
                    <a:pt x="1582" y="857"/>
                  </a:lnTo>
                  <a:lnTo>
                    <a:pt x="1246" y="975"/>
                  </a:lnTo>
                  <a:lnTo>
                    <a:pt x="1187" y="940"/>
                  </a:lnTo>
                  <a:lnTo>
                    <a:pt x="969" y="889"/>
                  </a:lnTo>
                  <a:lnTo>
                    <a:pt x="855" y="698"/>
                  </a:lnTo>
                  <a:lnTo>
                    <a:pt x="775" y="640"/>
                  </a:lnTo>
                  <a:lnTo>
                    <a:pt x="523" y="564"/>
                  </a:lnTo>
                  <a:lnTo>
                    <a:pt x="429" y="468"/>
                  </a:lnTo>
                  <a:lnTo>
                    <a:pt x="397" y="373"/>
                  </a:lnTo>
                  <a:lnTo>
                    <a:pt x="383" y="248"/>
                  </a:lnTo>
                  <a:lnTo>
                    <a:pt x="383" y="128"/>
                  </a:lnTo>
                  <a:lnTo>
                    <a:pt x="4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7956000" y="4154400"/>
              <a:ext cx="139680" cy="26640"/>
            </a:xfrm>
            <a:custGeom>
              <a:avLst/>
              <a:gdLst/>
              <a:ahLst/>
              <a:rect l="l" t="t" r="r" b="b"/>
              <a:pathLst>
                <a:path w="1828" h="404">
                  <a:moveTo>
                    <a:pt x="57" y="281"/>
                  </a:moveTo>
                  <a:lnTo>
                    <a:pt x="281" y="250"/>
                  </a:lnTo>
                  <a:lnTo>
                    <a:pt x="862" y="31"/>
                  </a:lnTo>
                  <a:lnTo>
                    <a:pt x="1115" y="46"/>
                  </a:lnTo>
                  <a:lnTo>
                    <a:pt x="1528" y="0"/>
                  </a:lnTo>
                  <a:lnTo>
                    <a:pt x="1587" y="31"/>
                  </a:lnTo>
                  <a:lnTo>
                    <a:pt x="1767" y="301"/>
                  </a:lnTo>
                  <a:lnTo>
                    <a:pt x="1560" y="88"/>
                  </a:lnTo>
                  <a:lnTo>
                    <a:pt x="1479" y="88"/>
                  </a:lnTo>
                  <a:lnTo>
                    <a:pt x="1053" y="88"/>
                  </a:lnTo>
                  <a:lnTo>
                    <a:pt x="1198" y="151"/>
                  </a:lnTo>
                  <a:lnTo>
                    <a:pt x="1440" y="202"/>
                  </a:lnTo>
                  <a:lnTo>
                    <a:pt x="1828" y="404"/>
                  </a:lnTo>
                  <a:lnTo>
                    <a:pt x="1355" y="238"/>
                  </a:lnTo>
                  <a:lnTo>
                    <a:pt x="892" y="112"/>
                  </a:lnTo>
                  <a:lnTo>
                    <a:pt x="798" y="112"/>
                  </a:lnTo>
                  <a:lnTo>
                    <a:pt x="339" y="281"/>
                  </a:lnTo>
                  <a:lnTo>
                    <a:pt x="0" y="332"/>
                  </a:lnTo>
                  <a:lnTo>
                    <a:pt x="57" y="2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7959600" y="3948840"/>
              <a:ext cx="50040" cy="161280"/>
            </a:xfrm>
            <a:custGeom>
              <a:avLst/>
              <a:gdLst/>
              <a:ahLst/>
              <a:rect l="l" t="t" r="r" b="b"/>
              <a:pathLst>
                <a:path w="655" h="2417">
                  <a:moveTo>
                    <a:pt x="0" y="325"/>
                  </a:moveTo>
                  <a:lnTo>
                    <a:pt x="60" y="218"/>
                  </a:lnTo>
                  <a:lnTo>
                    <a:pt x="157" y="112"/>
                  </a:lnTo>
                  <a:lnTo>
                    <a:pt x="281" y="0"/>
                  </a:lnTo>
                  <a:lnTo>
                    <a:pt x="378" y="24"/>
                  </a:lnTo>
                  <a:lnTo>
                    <a:pt x="235" y="121"/>
                  </a:lnTo>
                  <a:lnTo>
                    <a:pt x="328" y="437"/>
                  </a:lnTo>
                  <a:lnTo>
                    <a:pt x="500" y="468"/>
                  </a:lnTo>
                  <a:lnTo>
                    <a:pt x="539" y="250"/>
                  </a:lnTo>
                  <a:lnTo>
                    <a:pt x="539" y="136"/>
                  </a:lnTo>
                  <a:lnTo>
                    <a:pt x="500" y="24"/>
                  </a:lnTo>
                  <a:lnTo>
                    <a:pt x="585" y="136"/>
                  </a:lnTo>
                  <a:lnTo>
                    <a:pt x="585" y="312"/>
                  </a:lnTo>
                  <a:lnTo>
                    <a:pt x="550" y="486"/>
                  </a:lnTo>
                  <a:lnTo>
                    <a:pt x="618" y="749"/>
                  </a:lnTo>
                  <a:lnTo>
                    <a:pt x="645" y="1242"/>
                  </a:lnTo>
                  <a:lnTo>
                    <a:pt x="629" y="1823"/>
                  </a:lnTo>
                  <a:lnTo>
                    <a:pt x="655" y="2342"/>
                  </a:lnTo>
                  <a:lnTo>
                    <a:pt x="629" y="2417"/>
                  </a:lnTo>
                  <a:lnTo>
                    <a:pt x="569" y="1885"/>
                  </a:lnTo>
                  <a:lnTo>
                    <a:pt x="569" y="1332"/>
                  </a:lnTo>
                  <a:lnTo>
                    <a:pt x="569" y="894"/>
                  </a:lnTo>
                  <a:lnTo>
                    <a:pt x="519" y="620"/>
                  </a:lnTo>
                  <a:lnTo>
                    <a:pt x="458" y="534"/>
                  </a:lnTo>
                  <a:lnTo>
                    <a:pt x="328" y="468"/>
                  </a:lnTo>
                  <a:lnTo>
                    <a:pt x="157" y="802"/>
                  </a:lnTo>
                  <a:lnTo>
                    <a:pt x="126" y="703"/>
                  </a:lnTo>
                  <a:lnTo>
                    <a:pt x="262" y="453"/>
                  </a:lnTo>
                  <a:lnTo>
                    <a:pt x="187" y="182"/>
                  </a:lnTo>
                  <a:lnTo>
                    <a:pt x="106" y="281"/>
                  </a:lnTo>
                  <a:lnTo>
                    <a:pt x="29" y="43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7999200" y="3933000"/>
              <a:ext cx="44280" cy="61200"/>
            </a:xfrm>
            <a:custGeom>
              <a:avLst/>
              <a:gdLst/>
              <a:ahLst/>
              <a:rect l="l" t="t" r="r" b="b"/>
              <a:pathLst>
                <a:path w="585" h="919">
                  <a:moveTo>
                    <a:pt x="0" y="251"/>
                  </a:moveTo>
                  <a:lnTo>
                    <a:pt x="191" y="396"/>
                  </a:lnTo>
                  <a:lnTo>
                    <a:pt x="233" y="664"/>
                  </a:lnTo>
                  <a:lnTo>
                    <a:pt x="426" y="300"/>
                  </a:lnTo>
                  <a:lnTo>
                    <a:pt x="585" y="0"/>
                  </a:lnTo>
                  <a:lnTo>
                    <a:pt x="534" y="242"/>
                  </a:lnTo>
                  <a:lnTo>
                    <a:pt x="174" y="919"/>
                  </a:lnTo>
                  <a:lnTo>
                    <a:pt x="198" y="761"/>
                  </a:lnTo>
                  <a:lnTo>
                    <a:pt x="50" y="508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7997400" y="4149000"/>
              <a:ext cx="31680" cy="10440"/>
            </a:xfrm>
            <a:custGeom>
              <a:avLst/>
              <a:gdLst/>
              <a:ahLst/>
              <a:rect l="l" t="t" r="r" b="b"/>
              <a:pathLst>
                <a:path w="416" h="166">
                  <a:moveTo>
                    <a:pt x="218" y="166"/>
                  </a:moveTo>
                  <a:lnTo>
                    <a:pt x="0" y="80"/>
                  </a:lnTo>
                  <a:lnTo>
                    <a:pt x="42" y="0"/>
                  </a:lnTo>
                  <a:lnTo>
                    <a:pt x="416" y="1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8008920" y="4029840"/>
              <a:ext cx="266760" cy="203040"/>
            </a:xfrm>
            <a:custGeom>
              <a:avLst/>
              <a:gdLst/>
              <a:ahLst/>
              <a:rect l="l" t="t" r="r" b="b"/>
              <a:pathLst>
                <a:path w="3494" h="3036">
                  <a:moveTo>
                    <a:pt x="1119" y="2271"/>
                  </a:moveTo>
                  <a:lnTo>
                    <a:pt x="1130" y="2336"/>
                  </a:lnTo>
                  <a:lnTo>
                    <a:pt x="1101" y="2414"/>
                  </a:lnTo>
                  <a:lnTo>
                    <a:pt x="1054" y="2433"/>
                  </a:lnTo>
                  <a:lnTo>
                    <a:pt x="284" y="2338"/>
                  </a:lnTo>
                  <a:lnTo>
                    <a:pt x="292" y="2407"/>
                  </a:lnTo>
                  <a:lnTo>
                    <a:pt x="404" y="2387"/>
                  </a:lnTo>
                  <a:lnTo>
                    <a:pt x="852" y="2442"/>
                  </a:lnTo>
                  <a:lnTo>
                    <a:pt x="771" y="2609"/>
                  </a:lnTo>
                  <a:lnTo>
                    <a:pt x="428" y="2668"/>
                  </a:lnTo>
                  <a:lnTo>
                    <a:pt x="158" y="2552"/>
                  </a:lnTo>
                  <a:lnTo>
                    <a:pt x="68" y="2568"/>
                  </a:lnTo>
                  <a:lnTo>
                    <a:pt x="151" y="2638"/>
                  </a:lnTo>
                  <a:lnTo>
                    <a:pt x="446" y="2679"/>
                  </a:lnTo>
                  <a:lnTo>
                    <a:pt x="752" y="2656"/>
                  </a:lnTo>
                  <a:lnTo>
                    <a:pt x="670" y="2780"/>
                  </a:lnTo>
                  <a:lnTo>
                    <a:pt x="481" y="2895"/>
                  </a:lnTo>
                  <a:lnTo>
                    <a:pt x="158" y="2910"/>
                  </a:lnTo>
                  <a:lnTo>
                    <a:pt x="0" y="2895"/>
                  </a:lnTo>
                  <a:lnTo>
                    <a:pt x="268" y="2954"/>
                  </a:lnTo>
                  <a:lnTo>
                    <a:pt x="455" y="2932"/>
                  </a:lnTo>
                  <a:lnTo>
                    <a:pt x="418" y="3036"/>
                  </a:lnTo>
                  <a:lnTo>
                    <a:pt x="455" y="3025"/>
                  </a:lnTo>
                  <a:lnTo>
                    <a:pt x="525" y="2910"/>
                  </a:lnTo>
                  <a:lnTo>
                    <a:pt x="697" y="2789"/>
                  </a:lnTo>
                  <a:lnTo>
                    <a:pt x="784" y="2668"/>
                  </a:lnTo>
                  <a:lnTo>
                    <a:pt x="3327" y="2668"/>
                  </a:lnTo>
                  <a:lnTo>
                    <a:pt x="3390" y="2495"/>
                  </a:lnTo>
                  <a:lnTo>
                    <a:pt x="3424" y="2200"/>
                  </a:lnTo>
                  <a:lnTo>
                    <a:pt x="3454" y="1985"/>
                  </a:lnTo>
                  <a:lnTo>
                    <a:pt x="2977" y="1849"/>
                  </a:lnTo>
                  <a:lnTo>
                    <a:pt x="3041" y="1780"/>
                  </a:lnTo>
                  <a:lnTo>
                    <a:pt x="3109" y="1833"/>
                  </a:lnTo>
                  <a:lnTo>
                    <a:pt x="3494" y="1886"/>
                  </a:lnTo>
                  <a:lnTo>
                    <a:pt x="3494" y="1844"/>
                  </a:lnTo>
                  <a:lnTo>
                    <a:pt x="3159" y="1785"/>
                  </a:lnTo>
                  <a:lnTo>
                    <a:pt x="2995" y="1598"/>
                  </a:lnTo>
                  <a:lnTo>
                    <a:pt x="2813" y="1805"/>
                  </a:lnTo>
                  <a:lnTo>
                    <a:pt x="2479" y="2336"/>
                  </a:lnTo>
                  <a:lnTo>
                    <a:pt x="2345" y="2236"/>
                  </a:lnTo>
                  <a:lnTo>
                    <a:pt x="2472" y="1955"/>
                  </a:lnTo>
                  <a:lnTo>
                    <a:pt x="2714" y="1671"/>
                  </a:lnTo>
                  <a:lnTo>
                    <a:pt x="2868" y="1559"/>
                  </a:lnTo>
                  <a:lnTo>
                    <a:pt x="2742" y="1303"/>
                  </a:lnTo>
                  <a:lnTo>
                    <a:pt x="2582" y="745"/>
                  </a:lnTo>
                  <a:lnTo>
                    <a:pt x="2707" y="1328"/>
                  </a:lnTo>
                  <a:lnTo>
                    <a:pt x="2771" y="1535"/>
                  </a:lnTo>
                  <a:lnTo>
                    <a:pt x="2544" y="1550"/>
                  </a:lnTo>
                  <a:lnTo>
                    <a:pt x="2272" y="692"/>
                  </a:lnTo>
                  <a:lnTo>
                    <a:pt x="2424" y="552"/>
                  </a:lnTo>
                  <a:lnTo>
                    <a:pt x="1962" y="803"/>
                  </a:lnTo>
                  <a:lnTo>
                    <a:pt x="1962" y="735"/>
                  </a:lnTo>
                  <a:lnTo>
                    <a:pt x="2037" y="602"/>
                  </a:lnTo>
                  <a:lnTo>
                    <a:pt x="2345" y="369"/>
                  </a:lnTo>
                  <a:lnTo>
                    <a:pt x="2439" y="210"/>
                  </a:lnTo>
                  <a:lnTo>
                    <a:pt x="2540" y="614"/>
                  </a:lnTo>
                  <a:lnTo>
                    <a:pt x="2525" y="180"/>
                  </a:lnTo>
                  <a:lnTo>
                    <a:pt x="2403" y="90"/>
                  </a:lnTo>
                  <a:lnTo>
                    <a:pt x="2318" y="88"/>
                  </a:lnTo>
                  <a:lnTo>
                    <a:pt x="2311" y="0"/>
                  </a:lnTo>
                  <a:lnTo>
                    <a:pt x="2311" y="157"/>
                  </a:lnTo>
                  <a:lnTo>
                    <a:pt x="2340" y="297"/>
                  </a:lnTo>
                  <a:lnTo>
                    <a:pt x="2177" y="480"/>
                  </a:lnTo>
                  <a:lnTo>
                    <a:pt x="1905" y="563"/>
                  </a:lnTo>
                  <a:lnTo>
                    <a:pt x="1852" y="231"/>
                  </a:lnTo>
                  <a:lnTo>
                    <a:pt x="1742" y="552"/>
                  </a:lnTo>
                  <a:lnTo>
                    <a:pt x="1485" y="745"/>
                  </a:lnTo>
                  <a:lnTo>
                    <a:pt x="1220" y="818"/>
                  </a:lnTo>
                  <a:lnTo>
                    <a:pt x="944" y="871"/>
                  </a:lnTo>
                  <a:lnTo>
                    <a:pt x="1352" y="835"/>
                  </a:lnTo>
                  <a:lnTo>
                    <a:pt x="1589" y="783"/>
                  </a:lnTo>
                  <a:lnTo>
                    <a:pt x="1371" y="976"/>
                  </a:lnTo>
                  <a:lnTo>
                    <a:pt x="1169" y="1240"/>
                  </a:lnTo>
                  <a:lnTo>
                    <a:pt x="953" y="1621"/>
                  </a:lnTo>
                  <a:lnTo>
                    <a:pt x="842" y="1895"/>
                  </a:lnTo>
                  <a:lnTo>
                    <a:pt x="1087" y="2165"/>
                  </a:lnTo>
                  <a:lnTo>
                    <a:pt x="1191" y="2271"/>
                  </a:lnTo>
                  <a:lnTo>
                    <a:pt x="1172" y="2312"/>
                  </a:lnTo>
                  <a:lnTo>
                    <a:pt x="1331" y="2374"/>
                  </a:lnTo>
                  <a:lnTo>
                    <a:pt x="1415" y="1937"/>
                  </a:lnTo>
                  <a:lnTo>
                    <a:pt x="1589" y="1211"/>
                  </a:lnTo>
                  <a:lnTo>
                    <a:pt x="1698" y="930"/>
                  </a:lnTo>
                  <a:lnTo>
                    <a:pt x="1707" y="1134"/>
                  </a:lnTo>
                  <a:lnTo>
                    <a:pt x="1608" y="1510"/>
                  </a:lnTo>
                  <a:lnTo>
                    <a:pt x="1485" y="2137"/>
                  </a:lnTo>
                  <a:lnTo>
                    <a:pt x="1446" y="2433"/>
                  </a:lnTo>
                  <a:lnTo>
                    <a:pt x="1365" y="2396"/>
                  </a:lnTo>
                  <a:lnTo>
                    <a:pt x="1523" y="2517"/>
                  </a:lnTo>
                  <a:lnTo>
                    <a:pt x="1317" y="2483"/>
                  </a:lnTo>
                  <a:lnTo>
                    <a:pt x="1147" y="2407"/>
                  </a:lnTo>
                  <a:lnTo>
                    <a:pt x="1147" y="2324"/>
                  </a:lnTo>
                  <a:lnTo>
                    <a:pt x="1119" y="22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8066520" y="3904920"/>
              <a:ext cx="121320" cy="163440"/>
            </a:xfrm>
            <a:custGeom>
              <a:avLst/>
              <a:gdLst/>
              <a:ahLst/>
              <a:rect l="l" t="t" r="r" b="b"/>
              <a:pathLst>
                <a:path w="1593" h="2446">
                  <a:moveTo>
                    <a:pt x="0" y="0"/>
                  </a:moveTo>
                  <a:lnTo>
                    <a:pt x="406" y="122"/>
                  </a:lnTo>
                  <a:lnTo>
                    <a:pt x="969" y="385"/>
                  </a:lnTo>
                  <a:lnTo>
                    <a:pt x="1273" y="442"/>
                  </a:lnTo>
                  <a:lnTo>
                    <a:pt x="1294" y="537"/>
                  </a:lnTo>
                  <a:lnTo>
                    <a:pt x="1360" y="512"/>
                  </a:lnTo>
                  <a:lnTo>
                    <a:pt x="1457" y="673"/>
                  </a:lnTo>
                  <a:lnTo>
                    <a:pt x="1554" y="965"/>
                  </a:lnTo>
                  <a:lnTo>
                    <a:pt x="1593" y="1323"/>
                  </a:lnTo>
                  <a:lnTo>
                    <a:pt x="1593" y="1552"/>
                  </a:lnTo>
                  <a:lnTo>
                    <a:pt x="1538" y="1879"/>
                  </a:lnTo>
                  <a:lnTo>
                    <a:pt x="1432" y="2137"/>
                  </a:lnTo>
                  <a:lnTo>
                    <a:pt x="1273" y="2285"/>
                  </a:lnTo>
                  <a:lnTo>
                    <a:pt x="1100" y="2446"/>
                  </a:lnTo>
                  <a:lnTo>
                    <a:pt x="1266" y="2191"/>
                  </a:lnTo>
                  <a:lnTo>
                    <a:pt x="1432" y="1863"/>
                  </a:lnTo>
                  <a:lnTo>
                    <a:pt x="1513" y="1552"/>
                  </a:lnTo>
                  <a:lnTo>
                    <a:pt x="1531" y="1180"/>
                  </a:lnTo>
                  <a:lnTo>
                    <a:pt x="1503" y="910"/>
                  </a:lnTo>
                  <a:lnTo>
                    <a:pt x="1425" y="644"/>
                  </a:lnTo>
                  <a:lnTo>
                    <a:pt x="1335" y="567"/>
                  </a:lnTo>
                  <a:lnTo>
                    <a:pt x="1259" y="1238"/>
                  </a:lnTo>
                  <a:lnTo>
                    <a:pt x="1133" y="1904"/>
                  </a:lnTo>
                  <a:lnTo>
                    <a:pt x="1243" y="1226"/>
                  </a:lnTo>
                  <a:lnTo>
                    <a:pt x="1266" y="537"/>
                  </a:lnTo>
                  <a:lnTo>
                    <a:pt x="918" y="408"/>
                  </a:lnTo>
                  <a:lnTo>
                    <a:pt x="182" y="1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8039160" y="3922200"/>
              <a:ext cx="77040" cy="237600"/>
            </a:xfrm>
            <a:custGeom>
              <a:avLst/>
              <a:gdLst/>
              <a:ahLst/>
              <a:rect l="l" t="t" r="r" b="b"/>
              <a:pathLst>
                <a:path w="1005" h="3558">
                  <a:moveTo>
                    <a:pt x="479" y="0"/>
                  </a:moveTo>
                  <a:lnTo>
                    <a:pt x="611" y="380"/>
                  </a:lnTo>
                  <a:lnTo>
                    <a:pt x="717" y="888"/>
                  </a:lnTo>
                  <a:lnTo>
                    <a:pt x="965" y="791"/>
                  </a:lnTo>
                  <a:lnTo>
                    <a:pt x="1005" y="842"/>
                  </a:lnTo>
                  <a:lnTo>
                    <a:pt x="954" y="1274"/>
                  </a:lnTo>
                  <a:lnTo>
                    <a:pt x="837" y="1712"/>
                  </a:lnTo>
                  <a:lnTo>
                    <a:pt x="645" y="2285"/>
                  </a:lnTo>
                  <a:lnTo>
                    <a:pt x="456" y="2747"/>
                  </a:lnTo>
                  <a:lnTo>
                    <a:pt x="231" y="3288"/>
                  </a:lnTo>
                  <a:lnTo>
                    <a:pt x="71" y="3533"/>
                  </a:lnTo>
                  <a:lnTo>
                    <a:pt x="0" y="3558"/>
                  </a:lnTo>
                  <a:lnTo>
                    <a:pt x="184" y="3263"/>
                  </a:lnTo>
                  <a:lnTo>
                    <a:pt x="385" y="2782"/>
                  </a:lnTo>
                  <a:lnTo>
                    <a:pt x="550" y="2320"/>
                  </a:lnTo>
                  <a:lnTo>
                    <a:pt x="694" y="1916"/>
                  </a:lnTo>
                  <a:lnTo>
                    <a:pt x="827" y="1514"/>
                  </a:lnTo>
                  <a:lnTo>
                    <a:pt x="879" y="1193"/>
                  </a:lnTo>
                  <a:lnTo>
                    <a:pt x="924" y="896"/>
                  </a:lnTo>
                  <a:lnTo>
                    <a:pt x="420" y="1108"/>
                  </a:lnTo>
                  <a:lnTo>
                    <a:pt x="670" y="905"/>
                  </a:lnTo>
                  <a:lnTo>
                    <a:pt x="670" y="870"/>
                  </a:lnTo>
                  <a:lnTo>
                    <a:pt x="597" y="439"/>
                  </a:lnTo>
                  <a:lnTo>
                    <a:pt x="4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 flipH="1">
              <a:off x="7740000" y="4208400"/>
              <a:ext cx="5112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7961400" y="4229640"/>
              <a:ext cx="243720" cy="26640"/>
            </a:xfrm>
            <a:custGeom>
              <a:avLst/>
              <a:gdLst/>
              <a:ahLst/>
              <a:rect l="l" t="t" r="r" b="b"/>
              <a:pathLst>
                <a:path w="3188" h="401">
                  <a:moveTo>
                    <a:pt x="0" y="0"/>
                  </a:moveTo>
                  <a:lnTo>
                    <a:pt x="343" y="401"/>
                  </a:lnTo>
                  <a:lnTo>
                    <a:pt x="3188" y="4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8063640" y="4214160"/>
              <a:ext cx="192960" cy="15480"/>
            </a:xfrm>
            <a:custGeom>
              <a:avLst/>
              <a:gdLst/>
              <a:ahLst/>
              <a:rect l="l" t="t" r="r" b="b"/>
              <a:pathLst>
                <a:path w="2533" h="230">
                  <a:moveTo>
                    <a:pt x="0" y="0"/>
                  </a:moveTo>
                  <a:lnTo>
                    <a:pt x="1752" y="0"/>
                  </a:lnTo>
                  <a:lnTo>
                    <a:pt x="2533" y="2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7962480" y="4289040"/>
              <a:ext cx="17640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4" name=""/>
          <p:cNvSpPr/>
          <p:nvPr/>
        </p:nvSpPr>
        <p:spPr>
          <a:xfrm>
            <a:off x="7021080" y="4486320"/>
            <a:ext cx="191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de avali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Processo da sistemática de gates: avaliar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576" name=""/>
          <p:cNvSpPr/>
          <p:nvPr/>
        </p:nvSpPr>
        <p:spPr>
          <a:xfrm>
            <a:off x="3610080" y="2013120"/>
            <a:ext cx="3360600" cy="569880"/>
          </a:xfrm>
          <a:custGeom>
            <a:avLst/>
            <a:gdLst/>
            <a:ahLst/>
            <a:rect l="l" t="t" r="r" b="b"/>
            <a:pathLst>
              <a:path w="2117" h="359">
                <a:moveTo>
                  <a:pt x="1047" y="15"/>
                </a:moveTo>
                <a:lnTo>
                  <a:pt x="0" y="359"/>
                </a:lnTo>
                <a:lnTo>
                  <a:pt x="2117" y="359"/>
                </a:lnTo>
                <a:lnTo>
                  <a:pt x="1496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"/>
          <p:cNvSpPr/>
          <p:nvPr/>
        </p:nvSpPr>
        <p:spPr>
          <a:xfrm>
            <a:off x="1722600" y="3425760"/>
            <a:ext cx="1946160" cy="439920"/>
          </a:xfrm>
          <a:custGeom>
            <a:avLst/>
            <a:gdLst/>
            <a:ahLst/>
            <a:rect l="l" t="t" r="r" b="b"/>
            <a:pathLst>
              <a:path w="1226" h="277">
                <a:moveTo>
                  <a:pt x="1174" y="0"/>
                </a:moveTo>
                <a:lnTo>
                  <a:pt x="1226" y="277"/>
                </a:lnTo>
                <a:lnTo>
                  <a:pt x="0" y="277"/>
                </a:lnTo>
                <a:lnTo>
                  <a:pt x="1174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"/>
          <p:cNvSpPr/>
          <p:nvPr/>
        </p:nvSpPr>
        <p:spPr>
          <a:xfrm>
            <a:off x="5261040" y="3436920"/>
            <a:ext cx="3360600" cy="428760"/>
          </a:xfrm>
          <a:custGeom>
            <a:avLst/>
            <a:gdLst/>
            <a:ahLst/>
            <a:rect l="l" t="t" r="r" b="b"/>
            <a:pathLst>
              <a:path w="2117" h="270">
                <a:moveTo>
                  <a:pt x="1055" y="0"/>
                </a:moveTo>
                <a:lnTo>
                  <a:pt x="0" y="255"/>
                </a:lnTo>
                <a:lnTo>
                  <a:pt x="2117" y="270"/>
                </a:lnTo>
                <a:lnTo>
                  <a:pt x="1055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"/>
          <p:cNvSpPr/>
          <p:nvPr/>
        </p:nvSpPr>
        <p:spPr>
          <a:xfrm>
            <a:off x="6246720" y="4506840"/>
            <a:ext cx="2801880" cy="2173320"/>
          </a:xfrm>
          <a:custGeom>
            <a:avLst/>
            <a:gdLst/>
            <a:ahLst/>
            <a:rect l="l" t="t" r="r" b="b"/>
            <a:pathLst>
              <a:path w="1765" h="1369">
                <a:moveTo>
                  <a:pt x="0" y="30"/>
                </a:moveTo>
                <a:lnTo>
                  <a:pt x="0" y="1369"/>
                </a:lnTo>
                <a:lnTo>
                  <a:pt x="1765" y="1369"/>
                </a:lnTo>
                <a:lnTo>
                  <a:pt x="1765" y="224"/>
                </a:lnTo>
                <a:lnTo>
                  <a:pt x="1488" y="0"/>
                </a:lnTo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"/>
          <p:cNvSpPr/>
          <p:nvPr/>
        </p:nvSpPr>
        <p:spPr>
          <a:xfrm>
            <a:off x="3456000" y="4530600"/>
            <a:ext cx="2790720" cy="2149560"/>
          </a:xfrm>
          <a:custGeom>
            <a:avLst/>
            <a:gdLst/>
            <a:ahLst/>
            <a:rect l="l" t="t" r="r" b="b"/>
            <a:pathLst>
              <a:path w="1758" h="1354">
                <a:moveTo>
                  <a:pt x="1758" y="15"/>
                </a:moveTo>
                <a:lnTo>
                  <a:pt x="1758" y="1354"/>
                </a:lnTo>
                <a:lnTo>
                  <a:pt x="0" y="1354"/>
                </a:lnTo>
                <a:lnTo>
                  <a:pt x="0" y="456"/>
                </a:lnTo>
                <a:lnTo>
                  <a:pt x="1152" y="0"/>
                </a:lnTo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1" name=""/>
          <p:cNvGrpSpPr/>
          <p:nvPr/>
        </p:nvGrpSpPr>
        <p:grpSpPr>
          <a:xfrm>
            <a:off x="4292640" y="1430280"/>
            <a:ext cx="2916360" cy="627120"/>
            <a:chOff x="4292640" y="1430280"/>
            <a:chExt cx="2916360" cy="627120"/>
          </a:xfrm>
        </p:grpSpPr>
        <p:sp>
          <p:nvSpPr>
            <p:cNvPr id="3582" name=""/>
            <p:cNvSpPr/>
            <p:nvPr/>
          </p:nvSpPr>
          <p:spPr>
            <a:xfrm>
              <a:off x="6042240" y="1430280"/>
              <a:ext cx="1166760" cy="6271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5167440" y="1430280"/>
              <a:ext cx="1166760" cy="6271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4292640" y="1430280"/>
              <a:ext cx="1166760" cy="6271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5" name=""/>
          <p:cNvSpPr/>
          <p:nvPr/>
        </p:nvSpPr>
        <p:spPr>
          <a:xfrm>
            <a:off x="4309560" y="1120680"/>
            <a:ext cx="2831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to do produto 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6" name=""/>
          <p:cNvGrpSpPr/>
          <p:nvPr/>
        </p:nvGrpSpPr>
        <p:grpSpPr>
          <a:xfrm>
            <a:off x="3449160" y="2562120"/>
            <a:ext cx="3722760" cy="1239480"/>
            <a:chOff x="3449160" y="2562120"/>
            <a:chExt cx="3722760" cy="1239480"/>
          </a:xfrm>
        </p:grpSpPr>
        <p:grpSp>
          <p:nvGrpSpPr>
            <p:cNvPr id="3587" name=""/>
            <p:cNvGrpSpPr/>
            <p:nvPr/>
          </p:nvGrpSpPr>
          <p:grpSpPr>
            <a:xfrm>
              <a:off x="6816960" y="2949120"/>
              <a:ext cx="245160" cy="852480"/>
              <a:chOff x="6816960" y="2949120"/>
              <a:chExt cx="245160" cy="852480"/>
            </a:xfrm>
          </p:grpSpPr>
          <p:sp>
            <p:nvSpPr>
              <p:cNvPr id="3588" name=""/>
              <p:cNvSpPr/>
              <p:nvPr/>
            </p:nvSpPr>
            <p:spPr>
              <a:xfrm>
                <a:off x="6939000" y="2949120"/>
                <a:ext cx="0" cy="85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 rot="2700000">
                <a:off x="6843960" y="3245760"/>
                <a:ext cx="190800" cy="1558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0" name=""/>
            <p:cNvSpPr/>
            <p:nvPr/>
          </p:nvSpPr>
          <p:spPr>
            <a:xfrm>
              <a:off x="3569040" y="2562120"/>
              <a:ext cx="3602880" cy="387000"/>
            </a:xfrm>
            <a:custGeom>
              <a:avLst/>
              <a:gdLst>
                <a:gd name="textAreaLeft" fmla="*/ 0 w 3602880"/>
                <a:gd name="textAreaRight" fmla="*/ 3603240 w 3602880"/>
                <a:gd name="textAreaTop" fmla="*/ 0 h 387000"/>
                <a:gd name="textAreaBottom" fmla="*/ 387360 h 38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582" y="0"/>
                  </a:lnTo>
                  <a:lnTo>
                    <a:pt x="21600" y="10800"/>
                  </a:lnTo>
                  <a:lnTo>
                    <a:pt x="20582" y="21600"/>
                  </a:lnTo>
                  <a:lnTo>
                    <a:pt x="0" y="21600"/>
                  </a:lnTo>
                  <a:lnTo>
                    <a:pt x="1018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1" name=""/>
            <p:cNvGrpSpPr/>
            <p:nvPr/>
          </p:nvGrpSpPr>
          <p:grpSpPr>
            <a:xfrm>
              <a:off x="3449160" y="2943720"/>
              <a:ext cx="245160" cy="852480"/>
              <a:chOff x="3449160" y="2943720"/>
              <a:chExt cx="245160" cy="852480"/>
            </a:xfrm>
          </p:grpSpPr>
          <p:sp>
            <p:nvSpPr>
              <p:cNvPr id="3592" name=""/>
              <p:cNvSpPr/>
              <p:nvPr/>
            </p:nvSpPr>
            <p:spPr>
              <a:xfrm>
                <a:off x="3571200" y="2943720"/>
                <a:ext cx="0" cy="85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 rot="2700000">
                <a:off x="3476160" y="3240360"/>
                <a:ext cx="190800" cy="1558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4" name=""/>
          <p:cNvSpPr/>
          <p:nvPr/>
        </p:nvSpPr>
        <p:spPr>
          <a:xfrm>
            <a:off x="2152800" y="3817800"/>
            <a:ext cx="1533240" cy="73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finição de critérios para próximo 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"/>
          <p:cNvSpPr/>
          <p:nvPr/>
        </p:nvSpPr>
        <p:spPr>
          <a:xfrm>
            <a:off x="7155000" y="3817800"/>
            <a:ext cx="1533240" cy="730440"/>
          </a:xfrm>
          <a:prstGeom prst="rect">
            <a:avLst/>
          </a:prstGeom>
          <a:solidFill>
            <a:srgbClr val="ffccff"/>
          </a:solidFill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finição de critérios para próximo 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"/>
          <p:cNvSpPr/>
          <p:nvPr/>
        </p:nvSpPr>
        <p:spPr>
          <a:xfrm>
            <a:off x="6248520" y="3814920"/>
            <a:ext cx="904680" cy="736560"/>
          </a:xfrm>
          <a:prstGeom prst="rect">
            <a:avLst/>
          </a:prstGeom>
          <a:solidFill>
            <a:srgbClr val="ff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prov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"/>
          <p:cNvSpPr/>
          <p:nvPr/>
        </p:nvSpPr>
        <p:spPr>
          <a:xfrm>
            <a:off x="5213520" y="3814920"/>
            <a:ext cx="1035000" cy="73656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-avaliaçã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"/>
          <p:cNvSpPr/>
          <p:nvPr/>
        </p:nvSpPr>
        <p:spPr>
          <a:xfrm>
            <a:off x="3962520" y="3622680"/>
            <a:ext cx="94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é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9" name=""/>
          <p:cNvGrpSpPr/>
          <p:nvPr/>
        </p:nvGrpSpPr>
        <p:grpSpPr>
          <a:xfrm>
            <a:off x="7039080" y="4660920"/>
            <a:ext cx="1371240" cy="686880"/>
            <a:chOff x="7039080" y="4660920"/>
            <a:chExt cx="1371240" cy="686880"/>
          </a:xfrm>
        </p:grpSpPr>
        <p:grpSp>
          <p:nvGrpSpPr>
            <p:cNvPr id="3600" name=""/>
            <p:cNvGrpSpPr/>
            <p:nvPr/>
          </p:nvGrpSpPr>
          <p:grpSpPr>
            <a:xfrm>
              <a:off x="7039080" y="4660920"/>
              <a:ext cx="1371240" cy="686880"/>
              <a:chOff x="7039080" y="4660920"/>
              <a:chExt cx="1371240" cy="686880"/>
            </a:xfrm>
          </p:grpSpPr>
          <p:sp>
            <p:nvSpPr>
              <p:cNvPr id="3601" name=""/>
              <p:cNvSpPr/>
              <p:nvPr/>
            </p:nvSpPr>
            <p:spPr>
              <a:xfrm>
                <a:off x="7349760" y="4851360"/>
                <a:ext cx="293760" cy="291600"/>
              </a:xfrm>
              <a:custGeom>
                <a:avLst/>
                <a:gdLst/>
                <a:ahLst/>
                <a:rect l="l" t="t" r="r" b="b"/>
                <a:pathLst>
                  <a:path w="3542" h="2755">
                    <a:moveTo>
                      <a:pt x="3542" y="2755"/>
                    </a:moveTo>
                    <a:lnTo>
                      <a:pt x="3452" y="2648"/>
                    </a:lnTo>
                    <a:lnTo>
                      <a:pt x="3415" y="2476"/>
                    </a:lnTo>
                    <a:lnTo>
                      <a:pt x="3307" y="2404"/>
                    </a:lnTo>
                    <a:lnTo>
                      <a:pt x="3290" y="2296"/>
                    </a:lnTo>
                    <a:lnTo>
                      <a:pt x="3355" y="2222"/>
                    </a:lnTo>
                    <a:lnTo>
                      <a:pt x="3355" y="2141"/>
                    </a:lnTo>
                    <a:lnTo>
                      <a:pt x="3314" y="2052"/>
                    </a:lnTo>
                    <a:lnTo>
                      <a:pt x="3248" y="1954"/>
                    </a:lnTo>
                    <a:lnTo>
                      <a:pt x="3248" y="1791"/>
                    </a:lnTo>
                    <a:lnTo>
                      <a:pt x="3307" y="1724"/>
                    </a:lnTo>
                    <a:lnTo>
                      <a:pt x="3299" y="1652"/>
                    </a:lnTo>
                    <a:lnTo>
                      <a:pt x="3233" y="1604"/>
                    </a:lnTo>
                    <a:lnTo>
                      <a:pt x="3200" y="1503"/>
                    </a:lnTo>
                    <a:lnTo>
                      <a:pt x="3209" y="1417"/>
                    </a:lnTo>
                    <a:lnTo>
                      <a:pt x="3191" y="1286"/>
                    </a:lnTo>
                    <a:lnTo>
                      <a:pt x="3166" y="1114"/>
                    </a:lnTo>
                    <a:lnTo>
                      <a:pt x="3166" y="910"/>
                    </a:lnTo>
                    <a:lnTo>
                      <a:pt x="3166" y="754"/>
                    </a:lnTo>
                    <a:lnTo>
                      <a:pt x="3161" y="592"/>
                    </a:lnTo>
                    <a:lnTo>
                      <a:pt x="3125" y="451"/>
                    </a:lnTo>
                    <a:lnTo>
                      <a:pt x="3092" y="360"/>
                    </a:lnTo>
                    <a:lnTo>
                      <a:pt x="2712" y="171"/>
                    </a:lnTo>
                    <a:lnTo>
                      <a:pt x="2492" y="110"/>
                    </a:lnTo>
                    <a:lnTo>
                      <a:pt x="2279" y="68"/>
                    </a:lnTo>
                    <a:lnTo>
                      <a:pt x="2044" y="0"/>
                    </a:lnTo>
                    <a:lnTo>
                      <a:pt x="890" y="27"/>
                    </a:lnTo>
                    <a:lnTo>
                      <a:pt x="556" y="85"/>
                    </a:lnTo>
                    <a:lnTo>
                      <a:pt x="222" y="205"/>
                    </a:lnTo>
                    <a:lnTo>
                      <a:pt x="123" y="264"/>
                    </a:lnTo>
                    <a:lnTo>
                      <a:pt x="40" y="461"/>
                    </a:lnTo>
                    <a:lnTo>
                      <a:pt x="40" y="1145"/>
                    </a:lnTo>
                    <a:lnTo>
                      <a:pt x="0" y="1235"/>
                    </a:lnTo>
                    <a:lnTo>
                      <a:pt x="540" y="2755"/>
                    </a:lnTo>
                    <a:lnTo>
                      <a:pt x="3542" y="275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7363080" y="4858200"/>
                <a:ext cx="133200" cy="144720"/>
              </a:xfrm>
              <a:custGeom>
                <a:avLst/>
                <a:gdLst/>
                <a:ahLst/>
                <a:rect l="l" t="t" r="r" b="b"/>
                <a:pathLst>
                  <a:path w="1609" h="1365">
                    <a:moveTo>
                      <a:pt x="1609" y="1365"/>
                    </a:moveTo>
                    <a:lnTo>
                      <a:pt x="1148" y="499"/>
                    </a:lnTo>
                    <a:lnTo>
                      <a:pt x="1019" y="323"/>
                    </a:lnTo>
                    <a:lnTo>
                      <a:pt x="763" y="187"/>
                    </a:lnTo>
                    <a:lnTo>
                      <a:pt x="493" y="121"/>
                    </a:lnTo>
                    <a:lnTo>
                      <a:pt x="279" y="130"/>
                    </a:lnTo>
                    <a:lnTo>
                      <a:pt x="0" y="169"/>
                    </a:lnTo>
                    <a:lnTo>
                      <a:pt x="67" y="121"/>
                    </a:lnTo>
                    <a:lnTo>
                      <a:pt x="353" y="31"/>
                    </a:lnTo>
                    <a:lnTo>
                      <a:pt x="650" y="0"/>
                    </a:lnTo>
                    <a:lnTo>
                      <a:pt x="862" y="31"/>
                    </a:lnTo>
                    <a:lnTo>
                      <a:pt x="1102" y="255"/>
                    </a:lnTo>
                    <a:lnTo>
                      <a:pt x="1264" y="547"/>
                    </a:lnTo>
                    <a:lnTo>
                      <a:pt x="1346" y="767"/>
                    </a:lnTo>
                    <a:lnTo>
                      <a:pt x="1609" y="1365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7351920" y="4897080"/>
                <a:ext cx="68400" cy="140400"/>
              </a:xfrm>
              <a:custGeom>
                <a:avLst/>
                <a:gdLst/>
                <a:ahLst/>
                <a:rect l="l" t="t" r="r" b="b"/>
                <a:pathLst>
                  <a:path w="829" h="1330">
                    <a:moveTo>
                      <a:pt x="548" y="586"/>
                    </a:moveTo>
                    <a:lnTo>
                      <a:pt x="484" y="464"/>
                    </a:lnTo>
                    <a:lnTo>
                      <a:pt x="394" y="360"/>
                    </a:lnTo>
                    <a:lnTo>
                      <a:pt x="304" y="286"/>
                    </a:lnTo>
                    <a:lnTo>
                      <a:pt x="205" y="235"/>
                    </a:lnTo>
                    <a:lnTo>
                      <a:pt x="156" y="226"/>
                    </a:lnTo>
                    <a:lnTo>
                      <a:pt x="221" y="374"/>
                    </a:lnTo>
                    <a:lnTo>
                      <a:pt x="359" y="554"/>
                    </a:lnTo>
                    <a:lnTo>
                      <a:pt x="516" y="694"/>
                    </a:lnTo>
                    <a:lnTo>
                      <a:pt x="714" y="835"/>
                    </a:lnTo>
                    <a:lnTo>
                      <a:pt x="745" y="851"/>
                    </a:lnTo>
                    <a:lnTo>
                      <a:pt x="829" y="1100"/>
                    </a:lnTo>
                    <a:lnTo>
                      <a:pt x="756" y="1158"/>
                    </a:lnTo>
                    <a:lnTo>
                      <a:pt x="809" y="1330"/>
                    </a:lnTo>
                    <a:lnTo>
                      <a:pt x="631" y="1305"/>
                    </a:lnTo>
                    <a:lnTo>
                      <a:pt x="703" y="1275"/>
                    </a:lnTo>
                    <a:lnTo>
                      <a:pt x="590" y="1127"/>
                    </a:lnTo>
                    <a:lnTo>
                      <a:pt x="304" y="1013"/>
                    </a:lnTo>
                    <a:lnTo>
                      <a:pt x="128" y="888"/>
                    </a:lnTo>
                    <a:lnTo>
                      <a:pt x="82" y="851"/>
                    </a:lnTo>
                    <a:lnTo>
                      <a:pt x="106" y="923"/>
                    </a:lnTo>
                    <a:lnTo>
                      <a:pt x="179" y="1028"/>
                    </a:lnTo>
                    <a:lnTo>
                      <a:pt x="39" y="906"/>
                    </a:lnTo>
                    <a:lnTo>
                      <a:pt x="7" y="791"/>
                    </a:lnTo>
                    <a:lnTo>
                      <a:pt x="0" y="743"/>
                    </a:lnTo>
                    <a:lnTo>
                      <a:pt x="48" y="586"/>
                    </a:lnTo>
                    <a:lnTo>
                      <a:pt x="64" y="0"/>
                    </a:lnTo>
                    <a:lnTo>
                      <a:pt x="286" y="148"/>
                    </a:lnTo>
                    <a:lnTo>
                      <a:pt x="431" y="307"/>
                    </a:lnTo>
                    <a:lnTo>
                      <a:pt x="509" y="448"/>
                    </a:lnTo>
                    <a:lnTo>
                      <a:pt x="548" y="586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7370280" y="5008320"/>
                <a:ext cx="48960" cy="75240"/>
              </a:xfrm>
              <a:custGeom>
                <a:avLst/>
                <a:gdLst/>
                <a:ahLst/>
                <a:rect l="l" t="t" r="r" b="b"/>
                <a:pathLst>
                  <a:path w="593" h="716">
                    <a:moveTo>
                      <a:pt x="19" y="0"/>
                    </a:moveTo>
                    <a:lnTo>
                      <a:pt x="132" y="54"/>
                    </a:lnTo>
                    <a:lnTo>
                      <a:pt x="190" y="187"/>
                    </a:lnTo>
                    <a:lnTo>
                      <a:pt x="331" y="268"/>
                    </a:lnTo>
                    <a:lnTo>
                      <a:pt x="222" y="259"/>
                    </a:lnTo>
                    <a:lnTo>
                      <a:pt x="289" y="310"/>
                    </a:lnTo>
                    <a:lnTo>
                      <a:pt x="455" y="358"/>
                    </a:lnTo>
                    <a:lnTo>
                      <a:pt x="534" y="448"/>
                    </a:lnTo>
                    <a:lnTo>
                      <a:pt x="492" y="538"/>
                    </a:lnTo>
                    <a:lnTo>
                      <a:pt x="388" y="473"/>
                    </a:lnTo>
                    <a:lnTo>
                      <a:pt x="354" y="529"/>
                    </a:lnTo>
                    <a:lnTo>
                      <a:pt x="503" y="587"/>
                    </a:lnTo>
                    <a:lnTo>
                      <a:pt x="593" y="554"/>
                    </a:lnTo>
                    <a:lnTo>
                      <a:pt x="518" y="716"/>
                    </a:lnTo>
                    <a:lnTo>
                      <a:pt x="275" y="554"/>
                    </a:lnTo>
                    <a:lnTo>
                      <a:pt x="0" y="2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7424640" y="5076000"/>
                <a:ext cx="101880" cy="84600"/>
              </a:xfrm>
              <a:custGeom>
                <a:avLst/>
                <a:gdLst/>
                <a:ahLst/>
                <a:rect l="l" t="t" r="r" b="b"/>
                <a:pathLst>
                  <a:path w="1232" h="800">
                    <a:moveTo>
                      <a:pt x="141" y="141"/>
                    </a:moveTo>
                    <a:lnTo>
                      <a:pt x="188" y="171"/>
                    </a:lnTo>
                    <a:lnTo>
                      <a:pt x="215" y="0"/>
                    </a:lnTo>
                    <a:lnTo>
                      <a:pt x="282" y="254"/>
                    </a:lnTo>
                    <a:lnTo>
                      <a:pt x="248" y="325"/>
                    </a:lnTo>
                    <a:lnTo>
                      <a:pt x="575" y="435"/>
                    </a:lnTo>
                    <a:lnTo>
                      <a:pt x="764" y="595"/>
                    </a:lnTo>
                    <a:lnTo>
                      <a:pt x="1174" y="595"/>
                    </a:lnTo>
                    <a:lnTo>
                      <a:pt x="1232" y="717"/>
                    </a:lnTo>
                    <a:lnTo>
                      <a:pt x="764" y="800"/>
                    </a:lnTo>
                    <a:lnTo>
                      <a:pt x="0" y="341"/>
                    </a:lnTo>
                    <a:lnTo>
                      <a:pt x="141" y="14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7432560" y="4894560"/>
                <a:ext cx="185400" cy="205560"/>
              </a:xfrm>
              <a:custGeom>
                <a:avLst/>
                <a:gdLst/>
                <a:ahLst/>
                <a:rect l="l" t="t" r="r" b="b"/>
                <a:pathLst>
                  <a:path w="2241" h="1943">
                    <a:moveTo>
                      <a:pt x="1241" y="0"/>
                    </a:moveTo>
                    <a:lnTo>
                      <a:pt x="1308" y="277"/>
                    </a:lnTo>
                    <a:lnTo>
                      <a:pt x="1314" y="623"/>
                    </a:lnTo>
                    <a:lnTo>
                      <a:pt x="1250" y="1053"/>
                    </a:lnTo>
                    <a:lnTo>
                      <a:pt x="1133" y="1404"/>
                    </a:lnTo>
                    <a:lnTo>
                      <a:pt x="1232" y="1496"/>
                    </a:lnTo>
                    <a:lnTo>
                      <a:pt x="1035" y="1559"/>
                    </a:lnTo>
                    <a:lnTo>
                      <a:pt x="674" y="1519"/>
                    </a:lnTo>
                    <a:lnTo>
                      <a:pt x="248" y="1528"/>
                    </a:lnTo>
                    <a:lnTo>
                      <a:pt x="0" y="1544"/>
                    </a:lnTo>
                    <a:lnTo>
                      <a:pt x="149" y="1722"/>
                    </a:lnTo>
                    <a:lnTo>
                      <a:pt x="1133" y="1803"/>
                    </a:lnTo>
                    <a:lnTo>
                      <a:pt x="1815" y="1943"/>
                    </a:lnTo>
                    <a:lnTo>
                      <a:pt x="1898" y="1886"/>
                    </a:lnTo>
                    <a:lnTo>
                      <a:pt x="1802" y="1812"/>
                    </a:lnTo>
                    <a:lnTo>
                      <a:pt x="1872" y="1748"/>
                    </a:lnTo>
                    <a:lnTo>
                      <a:pt x="2013" y="1722"/>
                    </a:lnTo>
                    <a:lnTo>
                      <a:pt x="2241" y="1739"/>
                    </a:lnTo>
                    <a:lnTo>
                      <a:pt x="2064" y="1634"/>
                    </a:lnTo>
                    <a:lnTo>
                      <a:pt x="1956" y="1501"/>
                    </a:lnTo>
                    <a:lnTo>
                      <a:pt x="1965" y="1404"/>
                    </a:lnTo>
                    <a:lnTo>
                      <a:pt x="2151" y="1307"/>
                    </a:lnTo>
                    <a:lnTo>
                      <a:pt x="2202" y="1168"/>
                    </a:lnTo>
                    <a:lnTo>
                      <a:pt x="2103" y="1215"/>
                    </a:lnTo>
                    <a:lnTo>
                      <a:pt x="1995" y="1210"/>
                    </a:lnTo>
                    <a:lnTo>
                      <a:pt x="1971" y="1168"/>
                    </a:lnTo>
                    <a:lnTo>
                      <a:pt x="2064" y="1075"/>
                    </a:lnTo>
                    <a:lnTo>
                      <a:pt x="1979" y="1071"/>
                    </a:lnTo>
                    <a:lnTo>
                      <a:pt x="1988" y="972"/>
                    </a:lnTo>
                    <a:lnTo>
                      <a:pt x="2028" y="832"/>
                    </a:lnTo>
                    <a:lnTo>
                      <a:pt x="2120" y="876"/>
                    </a:lnTo>
                    <a:lnTo>
                      <a:pt x="2151" y="963"/>
                    </a:lnTo>
                    <a:lnTo>
                      <a:pt x="2186" y="840"/>
                    </a:lnTo>
                    <a:lnTo>
                      <a:pt x="2145" y="537"/>
                    </a:lnTo>
                    <a:lnTo>
                      <a:pt x="2168" y="311"/>
                    </a:lnTo>
                    <a:lnTo>
                      <a:pt x="2094" y="645"/>
                    </a:lnTo>
                    <a:lnTo>
                      <a:pt x="1979" y="816"/>
                    </a:lnTo>
                    <a:lnTo>
                      <a:pt x="1760" y="1134"/>
                    </a:lnTo>
                    <a:lnTo>
                      <a:pt x="1608" y="1282"/>
                    </a:lnTo>
                    <a:lnTo>
                      <a:pt x="1398" y="1422"/>
                    </a:lnTo>
                    <a:lnTo>
                      <a:pt x="1331" y="1429"/>
                    </a:lnTo>
                    <a:lnTo>
                      <a:pt x="1398" y="1307"/>
                    </a:lnTo>
                    <a:lnTo>
                      <a:pt x="1430" y="1111"/>
                    </a:lnTo>
                    <a:lnTo>
                      <a:pt x="1446" y="800"/>
                    </a:lnTo>
                    <a:lnTo>
                      <a:pt x="1430" y="521"/>
                    </a:lnTo>
                    <a:lnTo>
                      <a:pt x="1398" y="269"/>
                    </a:lnTo>
                    <a:lnTo>
                      <a:pt x="1349" y="113"/>
                    </a:lnTo>
                    <a:lnTo>
                      <a:pt x="1241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7587360" y="5105880"/>
                <a:ext cx="46800" cy="37080"/>
              </a:xfrm>
              <a:custGeom>
                <a:avLst/>
                <a:gdLst/>
                <a:ahLst/>
                <a:rect l="l" t="t" r="r" b="b"/>
                <a:pathLst>
                  <a:path w="567" h="351">
                    <a:moveTo>
                      <a:pt x="129" y="0"/>
                    </a:moveTo>
                    <a:lnTo>
                      <a:pt x="198" y="72"/>
                    </a:lnTo>
                    <a:lnTo>
                      <a:pt x="173" y="162"/>
                    </a:lnTo>
                    <a:lnTo>
                      <a:pt x="237" y="114"/>
                    </a:lnTo>
                    <a:lnTo>
                      <a:pt x="261" y="251"/>
                    </a:lnTo>
                    <a:lnTo>
                      <a:pt x="355" y="169"/>
                    </a:lnTo>
                    <a:lnTo>
                      <a:pt x="426" y="219"/>
                    </a:lnTo>
                    <a:lnTo>
                      <a:pt x="375" y="268"/>
                    </a:lnTo>
                    <a:lnTo>
                      <a:pt x="417" y="327"/>
                    </a:lnTo>
                    <a:lnTo>
                      <a:pt x="507" y="309"/>
                    </a:lnTo>
                    <a:lnTo>
                      <a:pt x="567" y="351"/>
                    </a:lnTo>
                    <a:lnTo>
                      <a:pt x="204" y="351"/>
                    </a:lnTo>
                    <a:lnTo>
                      <a:pt x="0" y="196"/>
                    </a:lnTo>
                    <a:lnTo>
                      <a:pt x="23" y="37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7605720" y="5037840"/>
                <a:ext cx="12960" cy="20880"/>
              </a:xfrm>
              <a:custGeom>
                <a:avLst/>
                <a:gdLst/>
                <a:ahLst/>
                <a:rect l="l" t="t" r="r" b="b"/>
                <a:pathLst>
                  <a:path w="156" h="200">
                    <a:moveTo>
                      <a:pt x="0" y="79"/>
                    </a:moveTo>
                    <a:lnTo>
                      <a:pt x="81" y="79"/>
                    </a:lnTo>
                    <a:lnTo>
                      <a:pt x="74" y="137"/>
                    </a:lnTo>
                    <a:lnTo>
                      <a:pt x="18" y="128"/>
                    </a:lnTo>
                    <a:lnTo>
                      <a:pt x="127" y="200"/>
                    </a:lnTo>
                    <a:lnTo>
                      <a:pt x="156" y="0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7508880" y="5092920"/>
                <a:ext cx="80280" cy="65880"/>
              </a:xfrm>
              <a:custGeom>
                <a:avLst/>
                <a:gdLst/>
                <a:ahLst/>
                <a:rect l="l" t="t" r="r" b="b"/>
                <a:pathLst>
                  <a:path w="966" h="621">
                    <a:moveTo>
                      <a:pt x="0" y="237"/>
                    </a:moveTo>
                    <a:lnTo>
                      <a:pt x="70" y="310"/>
                    </a:lnTo>
                    <a:lnTo>
                      <a:pt x="138" y="432"/>
                    </a:lnTo>
                    <a:lnTo>
                      <a:pt x="171" y="545"/>
                    </a:lnTo>
                    <a:lnTo>
                      <a:pt x="303" y="621"/>
                    </a:lnTo>
                    <a:lnTo>
                      <a:pt x="484" y="596"/>
                    </a:lnTo>
                    <a:lnTo>
                      <a:pt x="681" y="561"/>
                    </a:lnTo>
                    <a:lnTo>
                      <a:pt x="966" y="450"/>
                    </a:lnTo>
                    <a:lnTo>
                      <a:pt x="966" y="220"/>
                    </a:lnTo>
                    <a:lnTo>
                      <a:pt x="910" y="81"/>
                    </a:lnTo>
                    <a:lnTo>
                      <a:pt x="562" y="0"/>
                    </a:lnTo>
                    <a:lnTo>
                      <a:pt x="244" y="160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7498440" y="4914000"/>
                <a:ext cx="10440" cy="11880"/>
              </a:xfrm>
              <a:custGeom>
                <a:avLst/>
                <a:gdLst/>
                <a:ahLst/>
                <a:rect l="l" t="t" r="r" b="b"/>
                <a:pathLst>
                  <a:path w="125" h="113">
                    <a:moveTo>
                      <a:pt x="90" y="0"/>
                    </a:moveTo>
                    <a:lnTo>
                      <a:pt x="33" y="14"/>
                    </a:lnTo>
                    <a:lnTo>
                      <a:pt x="0" y="69"/>
                    </a:lnTo>
                    <a:lnTo>
                      <a:pt x="42" y="113"/>
                    </a:lnTo>
                    <a:lnTo>
                      <a:pt x="99" y="113"/>
                    </a:lnTo>
                    <a:lnTo>
                      <a:pt x="125" y="78"/>
                    </a:lnTo>
                    <a:lnTo>
                      <a:pt x="125" y="3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7507800" y="4988520"/>
                <a:ext cx="7200" cy="9360"/>
              </a:xfrm>
              <a:custGeom>
                <a:avLst/>
                <a:gdLst/>
                <a:ahLst/>
                <a:rect l="l" t="t" r="r" b="b"/>
                <a:pathLst>
                  <a:path w="88" h="94">
                    <a:moveTo>
                      <a:pt x="82" y="21"/>
                    </a:moveTo>
                    <a:lnTo>
                      <a:pt x="55" y="0"/>
                    </a:lnTo>
                    <a:lnTo>
                      <a:pt x="7" y="12"/>
                    </a:lnTo>
                    <a:lnTo>
                      <a:pt x="0" y="69"/>
                    </a:lnTo>
                    <a:lnTo>
                      <a:pt x="42" y="94"/>
                    </a:lnTo>
                    <a:lnTo>
                      <a:pt x="88" y="69"/>
                    </a:lnTo>
                    <a:lnTo>
                      <a:pt x="82" y="21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7445880" y="4696200"/>
                <a:ext cx="95400" cy="212760"/>
              </a:xfrm>
              <a:custGeom>
                <a:avLst/>
                <a:gdLst/>
                <a:ahLst/>
                <a:rect l="l" t="t" r="r" b="b"/>
                <a:pathLst>
                  <a:path w="1157" h="2007">
                    <a:moveTo>
                      <a:pt x="35" y="1688"/>
                    </a:moveTo>
                    <a:lnTo>
                      <a:pt x="95" y="1780"/>
                    </a:lnTo>
                    <a:lnTo>
                      <a:pt x="251" y="1881"/>
                    </a:lnTo>
                    <a:lnTo>
                      <a:pt x="411" y="1937"/>
                    </a:lnTo>
                    <a:lnTo>
                      <a:pt x="596" y="1976"/>
                    </a:lnTo>
                    <a:lnTo>
                      <a:pt x="789" y="2007"/>
                    </a:lnTo>
                    <a:lnTo>
                      <a:pt x="895" y="1971"/>
                    </a:lnTo>
                    <a:lnTo>
                      <a:pt x="945" y="1911"/>
                    </a:lnTo>
                    <a:lnTo>
                      <a:pt x="956" y="1766"/>
                    </a:lnTo>
                    <a:lnTo>
                      <a:pt x="915" y="1577"/>
                    </a:lnTo>
                    <a:lnTo>
                      <a:pt x="875" y="1422"/>
                    </a:lnTo>
                    <a:lnTo>
                      <a:pt x="961" y="1317"/>
                    </a:lnTo>
                    <a:lnTo>
                      <a:pt x="1055" y="1143"/>
                    </a:lnTo>
                    <a:lnTo>
                      <a:pt x="1093" y="1009"/>
                    </a:lnTo>
                    <a:lnTo>
                      <a:pt x="1148" y="772"/>
                    </a:lnTo>
                    <a:lnTo>
                      <a:pt x="1157" y="648"/>
                    </a:lnTo>
                    <a:lnTo>
                      <a:pt x="1157" y="480"/>
                    </a:lnTo>
                    <a:lnTo>
                      <a:pt x="1125" y="231"/>
                    </a:lnTo>
                    <a:lnTo>
                      <a:pt x="994" y="14"/>
                    </a:lnTo>
                    <a:lnTo>
                      <a:pt x="411" y="0"/>
                    </a:lnTo>
                    <a:lnTo>
                      <a:pt x="129" y="378"/>
                    </a:lnTo>
                    <a:lnTo>
                      <a:pt x="0" y="576"/>
                    </a:lnTo>
                    <a:lnTo>
                      <a:pt x="5" y="733"/>
                    </a:lnTo>
                    <a:lnTo>
                      <a:pt x="69" y="1056"/>
                    </a:lnTo>
                    <a:lnTo>
                      <a:pt x="23" y="1568"/>
                    </a:lnTo>
                    <a:lnTo>
                      <a:pt x="35" y="1688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7450560" y="4786920"/>
                <a:ext cx="10440" cy="24480"/>
              </a:xfrm>
              <a:custGeom>
                <a:avLst/>
                <a:gdLst/>
                <a:ahLst/>
                <a:rect l="l" t="t" r="r" b="b"/>
                <a:pathLst>
                  <a:path w="129" h="233">
                    <a:moveTo>
                      <a:pt x="33" y="12"/>
                    </a:moveTo>
                    <a:lnTo>
                      <a:pt x="67" y="0"/>
                    </a:lnTo>
                    <a:lnTo>
                      <a:pt x="101" y="25"/>
                    </a:lnTo>
                    <a:lnTo>
                      <a:pt x="129" y="79"/>
                    </a:lnTo>
                    <a:lnTo>
                      <a:pt x="123" y="194"/>
                    </a:lnTo>
                    <a:lnTo>
                      <a:pt x="81" y="233"/>
                    </a:lnTo>
                    <a:lnTo>
                      <a:pt x="0" y="194"/>
                    </a:lnTo>
                    <a:lnTo>
                      <a:pt x="0" y="95"/>
                    </a:lnTo>
                    <a:lnTo>
                      <a:pt x="33" y="12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7536960" y="479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4" h="123">
                    <a:moveTo>
                      <a:pt x="24" y="0"/>
                    </a:moveTo>
                    <a:lnTo>
                      <a:pt x="0" y="123"/>
                    </a:lnTo>
                    <a:lnTo>
                      <a:pt x="28" y="121"/>
                    </a:lnTo>
                    <a:lnTo>
                      <a:pt x="44" y="88"/>
                    </a:lnTo>
                    <a:lnTo>
                      <a:pt x="39" y="4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7060680" y="4881960"/>
                <a:ext cx="433440" cy="410040"/>
              </a:xfrm>
              <a:custGeom>
                <a:avLst/>
                <a:gdLst/>
                <a:ahLst/>
                <a:rect l="l" t="t" r="r" b="b"/>
                <a:pathLst>
                  <a:path w="5233" h="3878">
                    <a:moveTo>
                      <a:pt x="4452" y="3024"/>
                    </a:moveTo>
                    <a:lnTo>
                      <a:pt x="4030" y="2787"/>
                    </a:lnTo>
                    <a:lnTo>
                      <a:pt x="3672" y="2893"/>
                    </a:lnTo>
                    <a:lnTo>
                      <a:pt x="3525" y="2812"/>
                    </a:lnTo>
                    <a:lnTo>
                      <a:pt x="3052" y="2393"/>
                    </a:lnTo>
                    <a:lnTo>
                      <a:pt x="2947" y="3010"/>
                    </a:lnTo>
                    <a:lnTo>
                      <a:pt x="3131" y="3089"/>
                    </a:lnTo>
                    <a:lnTo>
                      <a:pt x="3356" y="2999"/>
                    </a:lnTo>
                    <a:lnTo>
                      <a:pt x="3608" y="3076"/>
                    </a:lnTo>
                    <a:lnTo>
                      <a:pt x="3790" y="3063"/>
                    </a:lnTo>
                    <a:lnTo>
                      <a:pt x="4318" y="3052"/>
                    </a:lnTo>
                    <a:lnTo>
                      <a:pt x="4468" y="3234"/>
                    </a:lnTo>
                    <a:lnTo>
                      <a:pt x="4410" y="3612"/>
                    </a:lnTo>
                    <a:lnTo>
                      <a:pt x="4336" y="3681"/>
                    </a:lnTo>
                    <a:lnTo>
                      <a:pt x="3845" y="3681"/>
                    </a:lnTo>
                    <a:lnTo>
                      <a:pt x="1901" y="3878"/>
                    </a:lnTo>
                    <a:lnTo>
                      <a:pt x="11" y="3654"/>
                    </a:lnTo>
                    <a:lnTo>
                      <a:pt x="0" y="1987"/>
                    </a:lnTo>
                    <a:lnTo>
                      <a:pt x="103" y="1510"/>
                    </a:lnTo>
                    <a:lnTo>
                      <a:pt x="304" y="1037"/>
                    </a:lnTo>
                    <a:lnTo>
                      <a:pt x="408" y="892"/>
                    </a:lnTo>
                    <a:lnTo>
                      <a:pt x="685" y="590"/>
                    </a:lnTo>
                    <a:lnTo>
                      <a:pt x="975" y="394"/>
                    </a:lnTo>
                    <a:lnTo>
                      <a:pt x="1213" y="248"/>
                    </a:lnTo>
                    <a:lnTo>
                      <a:pt x="1466" y="145"/>
                    </a:lnTo>
                    <a:lnTo>
                      <a:pt x="1572" y="0"/>
                    </a:lnTo>
                    <a:lnTo>
                      <a:pt x="2604" y="343"/>
                    </a:lnTo>
                    <a:lnTo>
                      <a:pt x="2747" y="514"/>
                    </a:lnTo>
                    <a:lnTo>
                      <a:pt x="2947" y="643"/>
                    </a:lnTo>
                    <a:lnTo>
                      <a:pt x="3172" y="828"/>
                    </a:lnTo>
                    <a:lnTo>
                      <a:pt x="3474" y="1210"/>
                    </a:lnTo>
                    <a:lnTo>
                      <a:pt x="4307" y="1995"/>
                    </a:lnTo>
                    <a:lnTo>
                      <a:pt x="4491" y="2079"/>
                    </a:lnTo>
                    <a:lnTo>
                      <a:pt x="4544" y="2236"/>
                    </a:lnTo>
                    <a:lnTo>
                      <a:pt x="4956" y="2340"/>
                    </a:lnTo>
                    <a:lnTo>
                      <a:pt x="5140" y="2551"/>
                    </a:lnTo>
                    <a:lnTo>
                      <a:pt x="5233" y="2812"/>
                    </a:lnTo>
                    <a:lnTo>
                      <a:pt x="4452" y="3024"/>
                    </a:lnTo>
                    <a:close/>
                  </a:path>
                </a:pathLst>
              </a:custGeom>
              <a:solidFill>
                <a:srgbClr val="00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7494480" y="5109840"/>
                <a:ext cx="66960" cy="134640"/>
              </a:xfrm>
              <a:custGeom>
                <a:avLst/>
                <a:gdLst/>
                <a:ahLst/>
                <a:rect l="l" t="t" r="r" b="b"/>
                <a:pathLst>
                  <a:path w="803" h="1268">
                    <a:moveTo>
                      <a:pt x="0" y="23"/>
                    </a:moveTo>
                    <a:lnTo>
                      <a:pt x="0" y="44"/>
                    </a:lnTo>
                    <a:lnTo>
                      <a:pt x="12" y="69"/>
                    </a:lnTo>
                    <a:lnTo>
                      <a:pt x="708" y="1183"/>
                    </a:lnTo>
                    <a:lnTo>
                      <a:pt x="803" y="1268"/>
                    </a:lnTo>
                    <a:lnTo>
                      <a:pt x="759" y="1139"/>
                    </a:lnTo>
                    <a:lnTo>
                      <a:pt x="61" y="5"/>
                    </a:lnTo>
                    <a:lnTo>
                      <a:pt x="19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7444080" y="5167800"/>
                <a:ext cx="100080" cy="81000"/>
              </a:xfrm>
              <a:custGeom>
                <a:avLst/>
                <a:gdLst/>
                <a:ahLst/>
                <a:rect l="l" t="t" r="r" b="b"/>
                <a:pathLst>
                  <a:path w="1202" h="775">
                    <a:moveTo>
                      <a:pt x="0" y="289"/>
                    </a:moveTo>
                    <a:lnTo>
                      <a:pt x="63" y="132"/>
                    </a:lnTo>
                    <a:lnTo>
                      <a:pt x="182" y="66"/>
                    </a:lnTo>
                    <a:lnTo>
                      <a:pt x="287" y="81"/>
                    </a:lnTo>
                    <a:lnTo>
                      <a:pt x="487" y="118"/>
                    </a:lnTo>
                    <a:lnTo>
                      <a:pt x="607" y="28"/>
                    </a:lnTo>
                    <a:lnTo>
                      <a:pt x="709" y="0"/>
                    </a:lnTo>
                    <a:lnTo>
                      <a:pt x="1147" y="66"/>
                    </a:lnTo>
                    <a:lnTo>
                      <a:pt x="1188" y="171"/>
                    </a:lnTo>
                    <a:lnTo>
                      <a:pt x="1135" y="199"/>
                    </a:lnTo>
                    <a:lnTo>
                      <a:pt x="793" y="224"/>
                    </a:lnTo>
                    <a:lnTo>
                      <a:pt x="1162" y="382"/>
                    </a:lnTo>
                    <a:lnTo>
                      <a:pt x="1202" y="475"/>
                    </a:lnTo>
                    <a:lnTo>
                      <a:pt x="1174" y="552"/>
                    </a:lnTo>
                    <a:lnTo>
                      <a:pt x="1068" y="630"/>
                    </a:lnTo>
                    <a:lnTo>
                      <a:pt x="1029" y="738"/>
                    </a:lnTo>
                    <a:lnTo>
                      <a:pt x="709" y="775"/>
                    </a:lnTo>
                    <a:lnTo>
                      <a:pt x="130" y="710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7185600" y="4769280"/>
                <a:ext cx="135720" cy="202320"/>
              </a:xfrm>
              <a:custGeom>
                <a:avLst/>
                <a:gdLst/>
                <a:ahLst/>
                <a:rect l="l" t="t" r="r" b="b"/>
                <a:pathLst>
                  <a:path w="1639" h="1907">
                    <a:moveTo>
                      <a:pt x="0" y="538"/>
                    </a:moveTo>
                    <a:lnTo>
                      <a:pt x="53" y="850"/>
                    </a:lnTo>
                    <a:lnTo>
                      <a:pt x="73" y="949"/>
                    </a:lnTo>
                    <a:lnTo>
                      <a:pt x="127" y="1008"/>
                    </a:lnTo>
                    <a:lnTo>
                      <a:pt x="99" y="1109"/>
                    </a:lnTo>
                    <a:lnTo>
                      <a:pt x="154" y="1217"/>
                    </a:lnTo>
                    <a:lnTo>
                      <a:pt x="207" y="1305"/>
                    </a:lnTo>
                    <a:lnTo>
                      <a:pt x="272" y="1409"/>
                    </a:lnTo>
                    <a:lnTo>
                      <a:pt x="495" y="1599"/>
                    </a:lnTo>
                    <a:lnTo>
                      <a:pt x="784" y="1907"/>
                    </a:lnTo>
                    <a:lnTo>
                      <a:pt x="822" y="1859"/>
                    </a:lnTo>
                    <a:lnTo>
                      <a:pt x="881" y="1736"/>
                    </a:lnTo>
                    <a:lnTo>
                      <a:pt x="905" y="1598"/>
                    </a:lnTo>
                    <a:lnTo>
                      <a:pt x="1030" y="1630"/>
                    </a:lnTo>
                    <a:lnTo>
                      <a:pt x="1155" y="1617"/>
                    </a:lnTo>
                    <a:lnTo>
                      <a:pt x="1213" y="1584"/>
                    </a:lnTo>
                    <a:lnTo>
                      <a:pt x="1270" y="1522"/>
                    </a:lnTo>
                    <a:lnTo>
                      <a:pt x="1429" y="1179"/>
                    </a:lnTo>
                    <a:lnTo>
                      <a:pt x="1510" y="1077"/>
                    </a:lnTo>
                    <a:lnTo>
                      <a:pt x="1572" y="905"/>
                    </a:lnTo>
                    <a:lnTo>
                      <a:pt x="1586" y="718"/>
                    </a:lnTo>
                    <a:lnTo>
                      <a:pt x="1618" y="632"/>
                    </a:lnTo>
                    <a:lnTo>
                      <a:pt x="1635" y="575"/>
                    </a:lnTo>
                    <a:lnTo>
                      <a:pt x="1639" y="261"/>
                    </a:lnTo>
                    <a:lnTo>
                      <a:pt x="1609" y="118"/>
                    </a:lnTo>
                    <a:lnTo>
                      <a:pt x="1540" y="0"/>
                    </a:lnTo>
                    <a:lnTo>
                      <a:pt x="207" y="155"/>
                    </a:lnTo>
                    <a:lnTo>
                      <a:pt x="0" y="538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7243920" y="4980240"/>
                <a:ext cx="30240" cy="204120"/>
              </a:xfrm>
              <a:custGeom>
                <a:avLst/>
                <a:gdLst/>
                <a:ahLst/>
                <a:rect l="l" t="t" r="r" b="b"/>
                <a:pathLst>
                  <a:path w="369" h="1920">
                    <a:moveTo>
                      <a:pt x="92" y="0"/>
                    </a:moveTo>
                    <a:lnTo>
                      <a:pt x="40" y="52"/>
                    </a:lnTo>
                    <a:lnTo>
                      <a:pt x="0" y="142"/>
                    </a:lnTo>
                    <a:lnTo>
                      <a:pt x="27" y="313"/>
                    </a:lnTo>
                    <a:lnTo>
                      <a:pt x="14" y="973"/>
                    </a:lnTo>
                    <a:lnTo>
                      <a:pt x="40" y="1433"/>
                    </a:lnTo>
                    <a:lnTo>
                      <a:pt x="119" y="1920"/>
                    </a:lnTo>
                    <a:lnTo>
                      <a:pt x="200" y="1920"/>
                    </a:lnTo>
                    <a:lnTo>
                      <a:pt x="319" y="1920"/>
                    </a:lnTo>
                    <a:lnTo>
                      <a:pt x="369" y="1841"/>
                    </a:lnTo>
                    <a:lnTo>
                      <a:pt x="263" y="1498"/>
                    </a:lnTo>
                    <a:lnTo>
                      <a:pt x="212" y="1169"/>
                    </a:lnTo>
                    <a:lnTo>
                      <a:pt x="200" y="776"/>
                    </a:lnTo>
                    <a:lnTo>
                      <a:pt x="159" y="313"/>
                    </a:lnTo>
                    <a:lnTo>
                      <a:pt x="185" y="211"/>
                    </a:lnTo>
                    <a:lnTo>
                      <a:pt x="159" y="66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7259040" y="4717440"/>
                <a:ext cx="75600" cy="99000"/>
              </a:xfrm>
              <a:custGeom>
                <a:avLst/>
                <a:gdLst/>
                <a:ahLst/>
                <a:rect l="l" t="t" r="r" b="b"/>
                <a:pathLst>
                  <a:path w="914" h="936">
                    <a:moveTo>
                      <a:pt x="635" y="499"/>
                    </a:moveTo>
                    <a:lnTo>
                      <a:pt x="714" y="607"/>
                    </a:lnTo>
                    <a:lnTo>
                      <a:pt x="844" y="936"/>
                    </a:lnTo>
                    <a:lnTo>
                      <a:pt x="899" y="855"/>
                    </a:lnTo>
                    <a:lnTo>
                      <a:pt x="914" y="581"/>
                    </a:lnTo>
                    <a:lnTo>
                      <a:pt x="914" y="510"/>
                    </a:lnTo>
                    <a:lnTo>
                      <a:pt x="859" y="462"/>
                    </a:lnTo>
                    <a:lnTo>
                      <a:pt x="767" y="381"/>
                    </a:lnTo>
                    <a:lnTo>
                      <a:pt x="686" y="224"/>
                    </a:lnTo>
                    <a:lnTo>
                      <a:pt x="541" y="79"/>
                    </a:lnTo>
                    <a:lnTo>
                      <a:pt x="356" y="40"/>
                    </a:lnTo>
                    <a:lnTo>
                      <a:pt x="145" y="0"/>
                    </a:lnTo>
                    <a:lnTo>
                      <a:pt x="0" y="51"/>
                    </a:lnTo>
                    <a:lnTo>
                      <a:pt x="15" y="593"/>
                    </a:lnTo>
                    <a:lnTo>
                      <a:pt x="635" y="499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7250400" y="4824360"/>
                <a:ext cx="20160" cy="10080"/>
              </a:xfrm>
              <a:custGeom>
                <a:avLst/>
                <a:gdLst/>
                <a:ahLst/>
                <a:rect l="l" t="t" r="r" b="b"/>
                <a:pathLst>
                  <a:path w="251" h="93">
                    <a:moveTo>
                      <a:pt x="0" y="55"/>
                    </a:moveTo>
                    <a:lnTo>
                      <a:pt x="147" y="70"/>
                    </a:lnTo>
                    <a:lnTo>
                      <a:pt x="251" y="93"/>
                    </a:lnTo>
                    <a:lnTo>
                      <a:pt x="196" y="0"/>
                    </a:lnTo>
                    <a:lnTo>
                      <a:pt x="53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7297560" y="4836240"/>
                <a:ext cx="15120" cy="11520"/>
              </a:xfrm>
              <a:custGeom>
                <a:avLst/>
                <a:gdLst/>
                <a:ahLst/>
                <a:rect l="l" t="t" r="r" b="b"/>
                <a:pathLst>
                  <a:path w="183" h="119">
                    <a:moveTo>
                      <a:pt x="0" y="66"/>
                    </a:moveTo>
                    <a:lnTo>
                      <a:pt x="106" y="119"/>
                    </a:lnTo>
                    <a:lnTo>
                      <a:pt x="183" y="105"/>
                    </a:lnTo>
                    <a:lnTo>
                      <a:pt x="172" y="77"/>
                    </a:lnTo>
                    <a:lnTo>
                      <a:pt x="37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7475760" y="476316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18" h="86">
                    <a:moveTo>
                      <a:pt x="0" y="14"/>
                    </a:moveTo>
                    <a:lnTo>
                      <a:pt x="62" y="60"/>
                    </a:lnTo>
                    <a:lnTo>
                      <a:pt x="97" y="86"/>
                    </a:lnTo>
                    <a:lnTo>
                      <a:pt x="181" y="86"/>
                    </a:lnTo>
                    <a:lnTo>
                      <a:pt x="218" y="58"/>
                    </a:lnTo>
                    <a:lnTo>
                      <a:pt x="177" y="9"/>
                    </a:lnTo>
                    <a:lnTo>
                      <a:pt x="103" y="0"/>
                    </a:lnTo>
                    <a:lnTo>
                      <a:pt x="20" y="9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7515000" y="4766760"/>
                <a:ext cx="17640" cy="8280"/>
              </a:xfrm>
              <a:custGeom>
                <a:avLst/>
                <a:gdLst/>
                <a:ahLst/>
                <a:rect l="l" t="t" r="r" b="b"/>
                <a:pathLst>
                  <a:path w="216" h="83">
                    <a:moveTo>
                      <a:pt x="0" y="48"/>
                    </a:moveTo>
                    <a:lnTo>
                      <a:pt x="50" y="7"/>
                    </a:lnTo>
                    <a:lnTo>
                      <a:pt x="130" y="0"/>
                    </a:lnTo>
                    <a:lnTo>
                      <a:pt x="216" y="35"/>
                    </a:lnTo>
                    <a:lnTo>
                      <a:pt x="163" y="66"/>
                    </a:lnTo>
                    <a:lnTo>
                      <a:pt x="121" y="81"/>
                    </a:lnTo>
                    <a:lnTo>
                      <a:pt x="75" y="83"/>
                    </a:lnTo>
                    <a:lnTo>
                      <a:pt x="18" y="62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7488360" y="4818240"/>
                <a:ext cx="28080" cy="7560"/>
              </a:xfrm>
              <a:custGeom>
                <a:avLst/>
                <a:gdLst/>
                <a:ahLst/>
                <a:rect l="l" t="t" r="r" b="b"/>
                <a:pathLst>
                  <a:path w="350" h="67">
                    <a:moveTo>
                      <a:pt x="0" y="4"/>
                    </a:moveTo>
                    <a:lnTo>
                      <a:pt x="82" y="50"/>
                    </a:lnTo>
                    <a:lnTo>
                      <a:pt x="203" y="67"/>
                    </a:lnTo>
                    <a:lnTo>
                      <a:pt x="260" y="65"/>
                    </a:lnTo>
                    <a:lnTo>
                      <a:pt x="299" y="46"/>
                    </a:lnTo>
                    <a:lnTo>
                      <a:pt x="332" y="21"/>
                    </a:lnTo>
                    <a:lnTo>
                      <a:pt x="350" y="0"/>
                    </a:lnTo>
                    <a:lnTo>
                      <a:pt x="249" y="6"/>
                    </a:lnTo>
                    <a:lnTo>
                      <a:pt x="194" y="14"/>
                    </a:lnTo>
                    <a:lnTo>
                      <a:pt x="108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7968960" y="4848840"/>
                <a:ext cx="391680" cy="442440"/>
              </a:xfrm>
              <a:custGeom>
                <a:avLst/>
                <a:gdLst/>
                <a:ahLst/>
                <a:rect l="l" t="t" r="r" b="b"/>
                <a:pathLst>
                  <a:path w="4729" h="4178">
                    <a:moveTo>
                      <a:pt x="602" y="3182"/>
                    </a:moveTo>
                    <a:lnTo>
                      <a:pt x="1411" y="2760"/>
                    </a:lnTo>
                    <a:lnTo>
                      <a:pt x="1677" y="2463"/>
                    </a:lnTo>
                    <a:lnTo>
                      <a:pt x="1928" y="3087"/>
                    </a:lnTo>
                    <a:lnTo>
                      <a:pt x="1940" y="3300"/>
                    </a:lnTo>
                    <a:lnTo>
                      <a:pt x="1846" y="3325"/>
                    </a:lnTo>
                    <a:lnTo>
                      <a:pt x="1640" y="3288"/>
                    </a:lnTo>
                    <a:lnTo>
                      <a:pt x="1486" y="3279"/>
                    </a:lnTo>
                    <a:lnTo>
                      <a:pt x="1398" y="3241"/>
                    </a:lnTo>
                    <a:lnTo>
                      <a:pt x="1218" y="3265"/>
                    </a:lnTo>
                    <a:lnTo>
                      <a:pt x="1050" y="3230"/>
                    </a:lnTo>
                    <a:lnTo>
                      <a:pt x="844" y="3168"/>
                    </a:lnTo>
                    <a:lnTo>
                      <a:pt x="672" y="3254"/>
                    </a:lnTo>
                    <a:lnTo>
                      <a:pt x="541" y="3491"/>
                    </a:lnTo>
                    <a:lnTo>
                      <a:pt x="640" y="3841"/>
                    </a:lnTo>
                    <a:lnTo>
                      <a:pt x="1070" y="3903"/>
                    </a:lnTo>
                    <a:lnTo>
                      <a:pt x="1640" y="4032"/>
                    </a:lnTo>
                    <a:lnTo>
                      <a:pt x="2013" y="4139"/>
                    </a:lnTo>
                    <a:lnTo>
                      <a:pt x="2919" y="4178"/>
                    </a:lnTo>
                    <a:lnTo>
                      <a:pt x="3270" y="4153"/>
                    </a:lnTo>
                    <a:lnTo>
                      <a:pt x="3620" y="4056"/>
                    </a:lnTo>
                    <a:lnTo>
                      <a:pt x="4667" y="2951"/>
                    </a:lnTo>
                    <a:lnTo>
                      <a:pt x="4729" y="1824"/>
                    </a:lnTo>
                    <a:lnTo>
                      <a:pt x="4584" y="1298"/>
                    </a:lnTo>
                    <a:lnTo>
                      <a:pt x="4425" y="1019"/>
                    </a:lnTo>
                    <a:lnTo>
                      <a:pt x="4138" y="639"/>
                    </a:lnTo>
                    <a:lnTo>
                      <a:pt x="3595" y="384"/>
                    </a:lnTo>
                    <a:lnTo>
                      <a:pt x="3450" y="422"/>
                    </a:lnTo>
                    <a:lnTo>
                      <a:pt x="3342" y="362"/>
                    </a:lnTo>
                    <a:lnTo>
                      <a:pt x="3256" y="194"/>
                    </a:lnTo>
                    <a:lnTo>
                      <a:pt x="3053" y="121"/>
                    </a:lnTo>
                    <a:lnTo>
                      <a:pt x="2872" y="0"/>
                    </a:lnTo>
                    <a:lnTo>
                      <a:pt x="2666" y="12"/>
                    </a:lnTo>
                    <a:lnTo>
                      <a:pt x="1709" y="602"/>
                    </a:lnTo>
                    <a:lnTo>
                      <a:pt x="1558" y="720"/>
                    </a:lnTo>
                    <a:lnTo>
                      <a:pt x="1460" y="817"/>
                    </a:lnTo>
                    <a:lnTo>
                      <a:pt x="1281" y="911"/>
                    </a:lnTo>
                    <a:lnTo>
                      <a:pt x="1070" y="1503"/>
                    </a:lnTo>
                    <a:lnTo>
                      <a:pt x="1064" y="1702"/>
                    </a:lnTo>
                    <a:lnTo>
                      <a:pt x="989" y="1979"/>
                    </a:lnTo>
                    <a:lnTo>
                      <a:pt x="808" y="2039"/>
                    </a:lnTo>
                    <a:lnTo>
                      <a:pt x="723" y="2136"/>
                    </a:lnTo>
                    <a:lnTo>
                      <a:pt x="699" y="2259"/>
                    </a:lnTo>
                    <a:lnTo>
                      <a:pt x="578" y="2377"/>
                    </a:lnTo>
                    <a:lnTo>
                      <a:pt x="240" y="2606"/>
                    </a:lnTo>
                    <a:lnTo>
                      <a:pt x="0" y="2917"/>
                    </a:lnTo>
                    <a:lnTo>
                      <a:pt x="277" y="3145"/>
                    </a:lnTo>
                    <a:lnTo>
                      <a:pt x="602" y="31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8008920" y="4962600"/>
                <a:ext cx="115200" cy="230400"/>
              </a:xfrm>
              <a:custGeom>
                <a:avLst/>
                <a:gdLst/>
                <a:ahLst/>
                <a:rect l="l" t="t" r="r" b="b"/>
                <a:pathLst>
                  <a:path w="1387" h="2184">
                    <a:moveTo>
                      <a:pt x="691" y="312"/>
                    </a:moveTo>
                    <a:lnTo>
                      <a:pt x="679" y="433"/>
                    </a:lnTo>
                    <a:lnTo>
                      <a:pt x="712" y="479"/>
                    </a:lnTo>
                    <a:lnTo>
                      <a:pt x="807" y="528"/>
                    </a:lnTo>
                    <a:lnTo>
                      <a:pt x="859" y="578"/>
                    </a:lnTo>
                    <a:lnTo>
                      <a:pt x="859" y="683"/>
                    </a:lnTo>
                    <a:lnTo>
                      <a:pt x="664" y="731"/>
                    </a:lnTo>
                    <a:lnTo>
                      <a:pt x="605" y="731"/>
                    </a:lnTo>
                    <a:lnTo>
                      <a:pt x="555" y="671"/>
                    </a:lnTo>
                    <a:lnTo>
                      <a:pt x="508" y="899"/>
                    </a:lnTo>
                    <a:lnTo>
                      <a:pt x="290" y="1031"/>
                    </a:lnTo>
                    <a:lnTo>
                      <a:pt x="664" y="899"/>
                    </a:lnTo>
                    <a:lnTo>
                      <a:pt x="749" y="899"/>
                    </a:lnTo>
                    <a:lnTo>
                      <a:pt x="712" y="945"/>
                    </a:lnTo>
                    <a:lnTo>
                      <a:pt x="447" y="1103"/>
                    </a:lnTo>
                    <a:lnTo>
                      <a:pt x="726" y="1103"/>
                    </a:lnTo>
                    <a:lnTo>
                      <a:pt x="737" y="1213"/>
                    </a:lnTo>
                    <a:lnTo>
                      <a:pt x="133" y="1273"/>
                    </a:lnTo>
                    <a:lnTo>
                      <a:pt x="0" y="1369"/>
                    </a:lnTo>
                    <a:lnTo>
                      <a:pt x="170" y="1426"/>
                    </a:lnTo>
                    <a:lnTo>
                      <a:pt x="279" y="1525"/>
                    </a:lnTo>
                    <a:lnTo>
                      <a:pt x="290" y="1593"/>
                    </a:lnTo>
                    <a:lnTo>
                      <a:pt x="181" y="1690"/>
                    </a:lnTo>
                    <a:lnTo>
                      <a:pt x="181" y="1810"/>
                    </a:lnTo>
                    <a:lnTo>
                      <a:pt x="242" y="1932"/>
                    </a:lnTo>
                    <a:lnTo>
                      <a:pt x="84" y="2075"/>
                    </a:lnTo>
                    <a:lnTo>
                      <a:pt x="218" y="2184"/>
                    </a:lnTo>
                    <a:lnTo>
                      <a:pt x="373" y="2098"/>
                    </a:lnTo>
                    <a:lnTo>
                      <a:pt x="472" y="2123"/>
                    </a:lnTo>
                    <a:lnTo>
                      <a:pt x="679" y="1964"/>
                    </a:lnTo>
                    <a:lnTo>
                      <a:pt x="989" y="1630"/>
                    </a:lnTo>
                    <a:lnTo>
                      <a:pt x="1207" y="1379"/>
                    </a:lnTo>
                    <a:lnTo>
                      <a:pt x="1350" y="1752"/>
                    </a:lnTo>
                    <a:lnTo>
                      <a:pt x="1387" y="1358"/>
                    </a:lnTo>
                    <a:lnTo>
                      <a:pt x="1387" y="1199"/>
                    </a:lnTo>
                    <a:lnTo>
                      <a:pt x="1242" y="1093"/>
                    </a:lnTo>
                    <a:lnTo>
                      <a:pt x="1122" y="923"/>
                    </a:lnTo>
                    <a:lnTo>
                      <a:pt x="1014" y="740"/>
                    </a:lnTo>
                    <a:lnTo>
                      <a:pt x="930" y="528"/>
                    </a:lnTo>
                    <a:lnTo>
                      <a:pt x="834" y="228"/>
                    </a:lnTo>
                    <a:lnTo>
                      <a:pt x="800" y="0"/>
                    </a:lnTo>
                    <a:lnTo>
                      <a:pt x="700" y="215"/>
                    </a:lnTo>
                    <a:lnTo>
                      <a:pt x="691" y="3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8067240" y="4964040"/>
                <a:ext cx="236520" cy="331560"/>
              </a:xfrm>
              <a:custGeom>
                <a:avLst/>
                <a:gdLst/>
                <a:ahLst/>
                <a:rect l="l" t="t" r="r" b="b"/>
                <a:pathLst>
                  <a:path w="2861" h="3124">
                    <a:moveTo>
                      <a:pt x="988" y="1321"/>
                    </a:moveTo>
                    <a:lnTo>
                      <a:pt x="1377" y="1443"/>
                    </a:lnTo>
                    <a:lnTo>
                      <a:pt x="1691" y="1504"/>
                    </a:lnTo>
                    <a:lnTo>
                      <a:pt x="1909" y="1095"/>
                    </a:lnTo>
                    <a:lnTo>
                      <a:pt x="1895" y="698"/>
                    </a:lnTo>
                    <a:lnTo>
                      <a:pt x="2146" y="231"/>
                    </a:lnTo>
                    <a:lnTo>
                      <a:pt x="2642" y="0"/>
                    </a:lnTo>
                    <a:lnTo>
                      <a:pt x="2232" y="399"/>
                    </a:lnTo>
                    <a:lnTo>
                      <a:pt x="2111" y="770"/>
                    </a:lnTo>
                    <a:lnTo>
                      <a:pt x="2111" y="1168"/>
                    </a:lnTo>
                    <a:lnTo>
                      <a:pt x="2350" y="985"/>
                    </a:lnTo>
                    <a:lnTo>
                      <a:pt x="2665" y="627"/>
                    </a:lnTo>
                    <a:lnTo>
                      <a:pt x="2861" y="420"/>
                    </a:lnTo>
                    <a:lnTo>
                      <a:pt x="2861" y="590"/>
                    </a:lnTo>
                    <a:lnTo>
                      <a:pt x="2642" y="1010"/>
                    </a:lnTo>
                    <a:lnTo>
                      <a:pt x="2280" y="1478"/>
                    </a:lnTo>
                    <a:lnTo>
                      <a:pt x="1981" y="1741"/>
                    </a:lnTo>
                    <a:lnTo>
                      <a:pt x="1773" y="1838"/>
                    </a:lnTo>
                    <a:lnTo>
                      <a:pt x="1773" y="1959"/>
                    </a:lnTo>
                    <a:lnTo>
                      <a:pt x="1918" y="2188"/>
                    </a:lnTo>
                    <a:lnTo>
                      <a:pt x="2063" y="2545"/>
                    </a:lnTo>
                    <a:lnTo>
                      <a:pt x="1955" y="2451"/>
                    </a:lnTo>
                    <a:lnTo>
                      <a:pt x="1836" y="2333"/>
                    </a:lnTo>
                    <a:lnTo>
                      <a:pt x="1665" y="2257"/>
                    </a:lnTo>
                    <a:lnTo>
                      <a:pt x="1508" y="2222"/>
                    </a:lnTo>
                    <a:lnTo>
                      <a:pt x="1388" y="2197"/>
                    </a:lnTo>
                    <a:lnTo>
                      <a:pt x="1460" y="2429"/>
                    </a:lnTo>
                    <a:lnTo>
                      <a:pt x="1691" y="2621"/>
                    </a:lnTo>
                    <a:lnTo>
                      <a:pt x="1872" y="2725"/>
                    </a:lnTo>
                    <a:lnTo>
                      <a:pt x="1785" y="2534"/>
                    </a:lnTo>
                    <a:lnTo>
                      <a:pt x="1981" y="2582"/>
                    </a:lnTo>
                    <a:lnTo>
                      <a:pt x="2052" y="2750"/>
                    </a:lnTo>
                    <a:lnTo>
                      <a:pt x="2025" y="2978"/>
                    </a:lnTo>
                    <a:lnTo>
                      <a:pt x="1895" y="3110"/>
                    </a:lnTo>
                    <a:lnTo>
                      <a:pt x="1665" y="3124"/>
                    </a:lnTo>
                    <a:lnTo>
                      <a:pt x="1425" y="3001"/>
                    </a:lnTo>
                    <a:lnTo>
                      <a:pt x="1326" y="2796"/>
                    </a:lnTo>
                    <a:lnTo>
                      <a:pt x="1181" y="2400"/>
                    </a:lnTo>
                    <a:lnTo>
                      <a:pt x="988" y="2284"/>
                    </a:lnTo>
                    <a:lnTo>
                      <a:pt x="485" y="2391"/>
                    </a:lnTo>
                    <a:lnTo>
                      <a:pt x="171" y="2568"/>
                    </a:lnTo>
                    <a:lnTo>
                      <a:pt x="134" y="2499"/>
                    </a:lnTo>
                    <a:lnTo>
                      <a:pt x="217" y="2319"/>
                    </a:lnTo>
                    <a:lnTo>
                      <a:pt x="0" y="2400"/>
                    </a:lnTo>
                    <a:lnTo>
                      <a:pt x="87" y="2271"/>
                    </a:lnTo>
                    <a:lnTo>
                      <a:pt x="362" y="2197"/>
                    </a:lnTo>
                    <a:lnTo>
                      <a:pt x="558" y="2222"/>
                    </a:lnTo>
                    <a:lnTo>
                      <a:pt x="676" y="2234"/>
                    </a:lnTo>
                    <a:lnTo>
                      <a:pt x="950" y="2174"/>
                    </a:lnTo>
                    <a:lnTo>
                      <a:pt x="988" y="132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8144280" y="4963320"/>
                <a:ext cx="41760" cy="150840"/>
              </a:xfrm>
              <a:custGeom>
                <a:avLst/>
                <a:gdLst/>
                <a:ahLst/>
                <a:rect l="l" t="t" r="r" b="b"/>
                <a:pathLst>
                  <a:path w="507" h="1428">
                    <a:moveTo>
                      <a:pt x="143" y="1404"/>
                    </a:moveTo>
                    <a:lnTo>
                      <a:pt x="180" y="1130"/>
                    </a:lnTo>
                    <a:lnTo>
                      <a:pt x="242" y="780"/>
                    </a:lnTo>
                    <a:lnTo>
                      <a:pt x="242" y="613"/>
                    </a:lnTo>
                    <a:lnTo>
                      <a:pt x="194" y="446"/>
                    </a:lnTo>
                    <a:lnTo>
                      <a:pt x="206" y="312"/>
                    </a:lnTo>
                    <a:lnTo>
                      <a:pt x="266" y="134"/>
                    </a:lnTo>
                    <a:lnTo>
                      <a:pt x="507" y="158"/>
                    </a:lnTo>
                    <a:lnTo>
                      <a:pt x="143" y="0"/>
                    </a:lnTo>
                    <a:lnTo>
                      <a:pt x="0" y="325"/>
                    </a:lnTo>
                    <a:lnTo>
                      <a:pt x="21" y="1428"/>
                    </a:lnTo>
                    <a:lnTo>
                      <a:pt x="143" y="140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8195760" y="4847040"/>
                <a:ext cx="164880" cy="452520"/>
              </a:xfrm>
              <a:custGeom>
                <a:avLst/>
                <a:gdLst/>
                <a:ahLst/>
                <a:rect l="l" t="t" r="r" b="b"/>
                <a:pathLst>
                  <a:path w="1991" h="4272">
                    <a:moveTo>
                      <a:pt x="48" y="182"/>
                    </a:moveTo>
                    <a:lnTo>
                      <a:pt x="181" y="445"/>
                    </a:lnTo>
                    <a:lnTo>
                      <a:pt x="134" y="922"/>
                    </a:lnTo>
                    <a:lnTo>
                      <a:pt x="325" y="240"/>
                    </a:lnTo>
                    <a:lnTo>
                      <a:pt x="409" y="217"/>
                    </a:lnTo>
                    <a:lnTo>
                      <a:pt x="495" y="339"/>
                    </a:lnTo>
                    <a:lnTo>
                      <a:pt x="468" y="468"/>
                    </a:lnTo>
                    <a:lnTo>
                      <a:pt x="371" y="694"/>
                    </a:lnTo>
                    <a:lnTo>
                      <a:pt x="543" y="519"/>
                    </a:lnTo>
                    <a:lnTo>
                      <a:pt x="613" y="540"/>
                    </a:lnTo>
                    <a:lnTo>
                      <a:pt x="251" y="1092"/>
                    </a:lnTo>
                    <a:lnTo>
                      <a:pt x="903" y="481"/>
                    </a:lnTo>
                    <a:lnTo>
                      <a:pt x="1304" y="661"/>
                    </a:lnTo>
                    <a:lnTo>
                      <a:pt x="1387" y="936"/>
                    </a:lnTo>
                    <a:lnTo>
                      <a:pt x="1664" y="1189"/>
                    </a:lnTo>
                    <a:lnTo>
                      <a:pt x="1687" y="1452"/>
                    </a:lnTo>
                    <a:lnTo>
                      <a:pt x="1822" y="1659"/>
                    </a:lnTo>
                    <a:lnTo>
                      <a:pt x="1738" y="1909"/>
                    </a:lnTo>
                    <a:lnTo>
                      <a:pt x="1422" y="2038"/>
                    </a:lnTo>
                    <a:lnTo>
                      <a:pt x="1433" y="2138"/>
                    </a:lnTo>
                    <a:lnTo>
                      <a:pt x="1712" y="2366"/>
                    </a:lnTo>
                    <a:lnTo>
                      <a:pt x="1496" y="2388"/>
                    </a:lnTo>
                    <a:lnTo>
                      <a:pt x="1253" y="2280"/>
                    </a:lnTo>
                    <a:lnTo>
                      <a:pt x="1747" y="2748"/>
                    </a:lnTo>
                    <a:lnTo>
                      <a:pt x="1687" y="2806"/>
                    </a:lnTo>
                    <a:lnTo>
                      <a:pt x="1350" y="2748"/>
                    </a:lnTo>
                    <a:lnTo>
                      <a:pt x="1350" y="3061"/>
                    </a:lnTo>
                    <a:lnTo>
                      <a:pt x="1182" y="3252"/>
                    </a:lnTo>
                    <a:lnTo>
                      <a:pt x="1073" y="3156"/>
                    </a:lnTo>
                    <a:lnTo>
                      <a:pt x="806" y="3636"/>
                    </a:lnTo>
                    <a:lnTo>
                      <a:pt x="506" y="3898"/>
                    </a:lnTo>
                    <a:lnTo>
                      <a:pt x="387" y="4199"/>
                    </a:lnTo>
                    <a:lnTo>
                      <a:pt x="481" y="4272"/>
                    </a:lnTo>
                    <a:lnTo>
                      <a:pt x="1290" y="3995"/>
                    </a:lnTo>
                    <a:lnTo>
                      <a:pt x="1991" y="2833"/>
                    </a:lnTo>
                    <a:lnTo>
                      <a:pt x="1991" y="1821"/>
                    </a:lnTo>
                    <a:lnTo>
                      <a:pt x="1798" y="1199"/>
                    </a:lnTo>
                    <a:lnTo>
                      <a:pt x="1653" y="947"/>
                    </a:lnTo>
                    <a:lnTo>
                      <a:pt x="1521" y="828"/>
                    </a:lnTo>
                    <a:lnTo>
                      <a:pt x="1387" y="613"/>
                    </a:lnTo>
                    <a:lnTo>
                      <a:pt x="831" y="358"/>
                    </a:lnTo>
                    <a:lnTo>
                      <a:pt x="686" y="433"/>
                    </a:lnTo>
                    <a:lnTo>
                      <a:pt x="613" y="358"/>
                    </a:lnTo>
                    <a:lnTo>
                      <a:pt x="578" y="228"/>
                    </a:lnTo>
                    <a:lnTo>
                      <a:pt x="361" y="108"/>
                    </a:lnTo>
                    <a:lnTo>
                      <a:pt x="244" y="97"/>
                    </a:lnTo>
                    <a:lnTo>
                      <a:pt x="134" y="0"/>
                    </a:lnTo>
                    <a:lnTo>
                      <a:pt x="0" y="11"/>
                    </a:lnTo>
                    <a:lnTo>
                      <a:pt x="48" y="18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8124840" y="4937760"/>
                <a:ext cx="36360" cy="259920"/>
              </a:xfrm>
              <a:custGeom>
                <a:avLst/>
                <a:gdLst/>
                <a:ahLst/>
                <a:rect l="l" t="t" r="r" b="b"/>
                <a:pathLst>
                  <a:path w="434" h="2461">
                    <a:moveTo>
                      <a:pt x="276" y="0"/>
                    </a:moveTo>
                    <a:lnTo>
                      <a:pt x="166" y="72"/>
                    </a:lnTo>
                    <a:lnTo>
                      <a:pt x="106" y="204"/>
                    </a:lnTo>
                    <a:lnTo>
                      <a:pt x="96" y="326"/>
                    </a:lnTo>
                    <a:lnTo>
                      <a:pt x="106" y="688"/>
                    </a:lnTo>
                    <a:lnTo>
                      <a:pt x="72" y="962"/>
                    </a:lnTo>
                    <a:lnTo>
                      <a:pt x="37" y="1275"/>
                    </a:lnTo>
                    <a:lnTo>
                      <a:pt x="0" y="1504"/>
                    </a:lnTo>
                    <a:lnTo>
                      <a:pt x="0" y="1780"/>
                    </a:lnTo>
                    <a:lnTo>
                      <a:pt x="10" y="2029"/>
                    </a:lnTo>
                    <a:lnTo>
                      <a:pt x="145" y="2461"/>
                    </a:lnTo>
                    <a:lnTo>
                      <a:pt x="434" y="2391"/>
                    </a:lnTo>
                    <a:lnTo>
                      <a:pt x="311" y="1993"/>
                    </a:lnTo>
                    <a:lnTo>
                      <a:pt x="263" y="1684"/>
                    </a:lnTo>
                    <a:lnTo>
                      <a:pt x="287" y="1407"/>
                    </a:lnTo>
                    <a:lnTo>
                      <a:pt x="337" y="1130"/>
                    </a:lnTo>
                    <a:lnTo>
                      <a:pt x="397" y="879"/>
                    </a:lnTo>
                    <a:lnTo>
                      <a:pt x="397" y="734"/>
                    </a:lnTo>
                    <a:lnTo>
                      <a:pt x="360" y="602"/>
                    </a:lnTo>
                    <a:lnTo>
                      <a:pt x="311" y="519"/>
                    </a:lnTo>
                    <a:lnTo>
                      <a:pt x="325" y="194"/>
                    </a:lnTo>
                    <a:lnTo>
                      <a:pt x="337" y="12"/>
                    </a:lnTo>
                    <a:lnTo>
                      <a:pt x="276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7917840" y="5137200"/>
                <a:ext cx="109440" cy="114120"/>
              </a:xfrm>
              <a:custGeom>
                <a:avLst/>
                <a:gdLst/>
                <a:ahLst/>
                <a:rect l="l" t="t" r="r" b="b"/>
                <a:pathLst>
                  <a:path w="1314" h="1079">
                    <a:moveTo>
                      <a:pt x="374" y="0"/>
                    </a:moveTo>
                    <a:lnTo>
                      <a:pt x="300" y="35"/>
                    </a:lnTo>
                    <a:lnTo>
                      <a:pt x="300" y="97"/>
                    </a:lnTo>
                    <a:lnTo>
                      <a:pt x="194" y="143"/>
                    </a:lnTo>
                    <a:lnTo>
                      <a:pt x="167" y="192"/>
                    </a:lnTo>
                    <a:lnTo>
                      <a:pt x="129" y="335"/>
                    </a:lnTo>
                    <a:lnTo>
                      <a:pt x="24" y="395"/>
                    </a:lnTo>
                    <a:lnTo>
                      <a:pt x="0" y="613"/>
                    </a:lnTo>
                    <a:lnTo>
                      <a:pt x="59" y="830"/>
                    </a:lnTo>
                    <a:lnTo>
                      <a:pt x="290" y="934"/>
                    </a:lnTo>
                    <a:lnTo>
                      <a:pt x="662" y="1056"/>
                    </a:lnTo>
                    <a:lnTo>
                      <a:pt x="938" y="1068"/>
                    </a:lnTo>
                    <a:lnTo>
                      <a:pt x="1241" y="1079"/>
                    </a:lnTo>
                    <a:lnTo>
                      <a:pt x="1217" y="925"/>
                    </a:lnTo>
                    <a:lnTo>
                      <a:pt x="1217" y="817"/>
                    </a:lnTo>
                    <a:lnTo>
                      <a:pt x="1229" y="699"/>
                    </a:lnTo>
                    <a:lnTo>
                      <a:pt x="1314" y="529"/>
                    </a:lnTo>
                    <a:lnTo>
                      <a:pt x="1229" y="480"/>
                    </a:lnTo>
                    <a:lnTo>
                      <a:pt x="1156" y="408"/>
                    </a:lnTo>
                    <a:lnTo>
                      <a:pt x="1096" y="309"/>
                    </a:lnTo>
                    <a:lnTo>
                      <a:pt x="1024" y="226"/>
                    </a:lnTo>
                    <a:lnTo>
                      <a:pt x="950" y="167"/>
                    </a:lnTo>
                    <a:lnTo>
                      <a:pt x="879" y="143"/>
                    </a:lnTo>
                    <a:lnTo>
                      <a:pt x="769" y="167"/>
                    </a:lnTo>
                    <a:lnTo>
                      <a:pt x="637" y="204"/>
                    </a:lnTo>
                    <a:lnTo>
                      <a:pt x="588" y="180"/>
                    </a:lnTo>
                    <a:lnTo>
                      <a:pt x="528" y="59"/>
                    </a:lnTo>
                    <a:lnTo>
                      <a:pt x="470" y="26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8066520" y="4713120"/>
                <a:ext cx="149760" cy="227880"/>
              </a:xfrm>
              <a:custGeom>
                <a:avLst/>
                <a:gdLst/>
                <a:ahLst/>
                <a:rect l="l" t="t" r="r" b="b"/>
                <a:pathLst>
                  <a:path w="1808" h="2151">
                    <a:moveTo>
                      <a:pt x="1784" y="591"/>
                    </a:moveTo>
                    <a:lnTo>
                      <a:pt x="1808" y="681"/>
                    </a:lnTo>
                    <a:lnTo>
                      <a:pt x="1803" y="758"/>
                    </a:lnTo>
                    <a:lnTo>
                      <a:pt x="1773" y="877"/>
                    </a:lnTo>
                    <a:lnTo>
                      <a:pt x="1698" y="1052"/>
                    </a:lnTo>
                    <a:lnTo>
                      <a:pt x="1573" y="1178"/>
                    </a:lnTo>
                    <a:lnTo>
                      <a:pt x="1459" y="1701"/>
                    </a:lnTo>
                    <a:lnTo>
                      <a:pt x="1289" y="1884"/>
                    </a:lnTo>
                    <a:lnTo>
                      <a:pt x="1164" y="2022"/>
                    </a:lnTo>
                    <a:lnTo>
                      <a:pt x="1091" y="2133"/>
                    </a:lnTo>
                    <a:lnTo>
                      <a:pt x="1045" y="2151"/>
                    </a:lnTo>
                    <a:lnTo>
                      <a:pt x="835" y="1868"/>
                    </a:lnTo>
                    <a:lnTo>
                      <a:pt x="657" y="1890"/>
                    </a:lnTo>
                    <a:lnTo>
                      <a:pt x="569" y="1890"/>
                    </a:lnTo>
                    <a:lnTo>
                      <a:pt x="512" y="1852"/>
                    </a:lnTo>
                    <a:lnTo>
                      <a:pt x="477" y="1791"/>
                    </a:lnTo>
                    <a:lnTo>
                      <a:pt x="429" y="1628"/>
                    </a:lnTo>
                    <a:lnTo>
                      <a:pt x="289" y="1351"/>
                    </a:lnTo>
                    <a:lnTo>
                      <a:pt x="141" y="1169"/>
                    </a:lnTo>
                    <a:lnTo>
                      <a:pt x="107" y="1022"/>
                    </a:lnTo>
                    <a:lnTo>
                      <a:pt x="76" y="872"/>
                    </a:lnTo>
                    <a:lnTo>
                      <a:pt x="28" y="653"/>
                    </a:lnTo>
                    <a:lnTo>
                      <a:pt x="0" y="353"/>
                    </a:lnTo>
                    <a:lnTo>
                      <a:pt x="24" y="208"/>
                    </a:lnTo>
                    <a:lnTo>
                      <a:pt x="76" y="99"/>
                    </a:lnTo>
                    <a:lnTo>
                      <a:pt x="1324" y="0"/>
                    </a:lnTo>
                    <a:lnTo>
                      <a:pt x="1698" y="433"/>
                    </a:lnTo>
                    <a:lnTo>
                      <a:pt x="1784" y="59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8080560" y="4801320"/>
                <a:ext cx="12240" cy="11880"/>
              </a:xfrm>
              <a:custGeom>
                <a:avLst/>
                <a:gdLst/>
                <a:ahLst/>
                <a:rect l="l" t="t" r="r" b="b"/>
                <a:pathLst>
                  <a:path w="152" h="113">
                    <a:moveTo>
                      <a:pt x="0" y="83"/>
                    </a:moveTo>
                    <a:lnTo>
                      <a:pt x="49" y="113"/>
                    </a:lnTo>
                    <a:lnTo>
                      <a:pt x="152" y="79"/>
                    </a:lnTo>
                    <a:lnTo>
                      <a:pt x="152" y="0"/>
                    </a:lnTo>
                    <a:lnTo>
                      <a:pt x="33" y="16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8127000" y="4789440"/>
                <a:ext cx="18360" cy="8280"/>
              </a:xfrm>
              <a:custGeom>
                <a:avLst/>
                <a:gdLst/>
                <a:ahLst/>
                <a:rect l="l" t="t" r="r" b="b"/>
                <a:pathLst>
                  <a:path w="231" h="83">
                    <a:moveTo>
                      <a:pt x="27" y="83"/>
                    </a:moveTo>
                    <a:lnTo>
                      <a:pt x="130" y="74"/>
                    </a:lnTo>
                    <a:lnTo>
                      <a:pt x="231" y="47"/>
                    </a:lnTo>
                    <a:lnTo>
                      <a:pt x="104" y="0"/>
                    </a:lnTo>
                    <a:lnTo>
                      <a:pt x="0" y="0"/>
                    </a:lnTo>
                    <a:lnTo>
                      <a:pt x="27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8067240" y="4682520"/>
                <a:ext cx="119880" cy="47160"/>
              </a:xfrm>
              <a:custGeom>
                <a:avLst/>
                <a:gdLst/>
                <a:ahLst/>
                <a:rect l="l" t="t" r="r" b="b"/>
                <a:pathLst>
                  <a:path w="1451" h="452">
                    <a:moveTo>
                      <a:pt x="110" y="41"/>
                    </a:moveTo>
                    <a:lnTo>
                      <a:pt x="237" y="0"/>
                    </a:lnTo>
                    <a:lnTo>
                      <a:pt x="603" y="0"/>
                    </a:lnTo>
                    <a:lnTo>
                      <a:pt x="1255" y="165"/>
                    </a:lnTo>
                    <a:lnTo>
                      <a:pt x="1451" y="391"/>
                    </a:lnTo>
                    <a:lnTo>
                      <a:pt x="1134" y="318"/>
                    </a:lnTo>
                    <a:lnTo>
                      <a:pt x="981" y="360"/>
                    </a:lnTo>
                    <a:lnTo>
                      <a:pt x="846" y="424"/>
                    </a:lnTo>
                    <a:lnTo>
                      <a:pt x="647" y="452"/>
                    </a:lnTo>
                    <a:lnTo>
                      <a:pt x="426" y="444"/>
                    </a:lnTo>
                    <a:lnTo>
                      <a:pt x="218" y="391"/>
                    </a:lnTo>
                    <a:lnTo>
                      <a:pt x="68" y="318"/>
                    </a:lnTo>
                    <a:lnTo>
                      <a:pt x="16" y="251"/>
                    </a:lnTo>
                    <a:lnTo>
                      <a:pt x="0" y="186"/>
                    </a:lnTo>
                    <a:lnTo>
                      <a:pt x="4" y="129"/>
                    </a:lnTo>
                    <a:lnTo>
                      <a:pt x="110" y="4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8160840" y="4726800"/>
                <a:ext cx="58320" cy="65880"/>
              </a:xfrm>
              <a:custGeom>
                <a:avLst/>
                <a:gdLst/>
                <a:ahLst/>
                <a:rect l="l" t="t" r="r" b="b"/>
                <a:pathLst>
                  <a:path w="700" h="629">
                    <a:moveTo>
                      <a:pt x="666" y="482"/>
                    </a:moveTo>
                    <a:lnTo>
                      <a:pt x="548" y="411"/>
                    </a:lnTo>
                    <a:lnTo>
                      <a:pt x="449" y="405"/>
                    </a:lnTo>
                    <a:lnTo>
                      <a:pt x="392" y="482"/>
                    </a:lnTo>
                    <a:lnTo>
                      <a:pt x="378" y="629"/>
                    </a:lnTo>
                    <a:lnTo>
                      <a:pt x="173" y="604"/>
                    </a:lnTo>
                    <a:lnTo>
                      <a:pt x="182" y="528"/>
                    </a:lnTo>
                    <a:lnTo>
                      <a:pt x="139" y="433"/>
                    </a:lnTo>
                    <a:lnTo>
                      <a:pt x="76" y="374"/>
                    </a:lnTo>
                    <a:lnTo>
                      <a:pt x="36" y="350"/>
                    </a:lnTo>
                    <a:lnTo>
                      <a:pt x="0" y="141"/>
                    </a:lnTo>
                    <a:lnTo>
                      <a:pt x="286" y="0"/>
                    </a:lnTo>
                    <a:lnTo>
                      <a:pt x="588" y="110"/>
                    </a:lnTo>
                    <a:lnTo>
                      <a:pt x="632" y="360"/>
                    </a:lnTo>
                    <a:lnTo>
                      <a:pt x="700" y="447"/>
                    </a:lnTo>
                    <a:lnTo>
                      <a:pt x="666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8154720" y="4714200"/>
                <a:ext cx="64080" cy="67320"/>
              </a:xfrm>
              <a:custGeom>
                <a:avLst/>
                <a:gdLst/>
                <a:ahLst/>
                <a:rect l="l" t="t" r="r" b="b"/>
                <a:pathLst>
                  <a:path w="775" h="641">
                    <a:moveTo>
                      <a:pt x="747" y="575"/>
                    </a:moveTo>
                    <a:lnTo>
                      <a:pt x="701" y="518"/>
                    </a:lnTo>
                    <a:lnTo>
                      <a:pt x="643" y="461"/>
                    </a:lnTo>
                    <a:lnTo>
                      <a:pt x="608" y="397"/>
                    </a:lnTo>
                    <a:lnTo>
                      <a:pt x="617" y="309"/>
                    </a:lnTo>
                    <a:lnTo>
                      <a:pt x="586" y="261"/>
                    </a:lnTo>
                    <a:lnTo>
                      <a:pt x="530" y="230"/>
                    </a:lnTo>
                    <a:lnTo>
                      <a:pt x="496" y="226"/>
                    </a:lnTo>
                    <a:lnTo>
                      <a:pt x="440" y="230"/>
                    </a:lnTo>
                    <a:lnTo>
                      <a:pt x="488" y="316"/>
                    </a:lnTo>
                    <a:lnTo>
                      <a:pt x="571" y="397"/>
                    </a:lnTo>
                    <a:lnTo>
                      <a:pt x="440" y="316"/>
                    </a:lnTo>
                    <a:lnTo>
                      <a:pt x="343" y="274"/>
                    </a:lnTo>
                    <a:lnTo>
                      <a:pt x="242" y="283"/>
                    </a:lnTo>
                    <a:lnTo>
                      <a:pt x="161" y="288"/>
                    </a:lnTo>
                    <a:lnTo>
                      <a:pt x="118" y="300"/>
                    </a:lnTo>
                    <a:lnTo>
                      <a:pt x="152" y="371"/>
                    </a:lnTo>
                    <a:lnTo>
                      <a:pt x="320" y="378"/>
                    </a:lnTo>
                    <a:lnTo>
                      <a:pt x="454" y="447"/>
                    </a:lnTo>
                    <a:lnTo>
                      <a:pt x="336" y="447"/>
                    </a:lnTo>
                    <a:lnTo>
                      <a:pt x="384" y="518"/>
                    </a:lnTo>
                    <a:lnTo>
                      <a:pt x="413" y="602"/>
                    </a:lnTo>
                    <a:lnTo>
                      <a:pt x="378" y="641"/>
                    </a:lnTo>
                    <a:lnTo>
                      <a:pt x="274" y="586"/>
                    </a:lnTo>
                    <a:lnTo>
                      <a:pt x="182" y="542"/>
                    </a:lnTo>
                    <a:lnTo>
                      <a:pt x="161" y="503"/>
                    </a:lnTo>
                    <a:lnTo>
                      <a:pt x="90" y="480"/>
                    </a:lnTo>
                    <a:lnTo>
                      <a:pt x="57" y="378"/>
                    </a:lnTo>
                    <a:lnTo>
                      <a:pt x="48" y="239"/>
                    </a:lnTo>
                    <a:lnTo>
                      <a:pt x="23" y="191"/>
                    </a:lnTo>
                    <a:lnTo>
                      <a:pt x="39" y="136"/>
                    </a:lnTo>
                    <a:lnTo>
                      <a:pt x="0" y="127"/>
                    </a:lnTo>
                    <a:lnTo>
                      <a:pt x="48" y="78"/>
                    </a:lnTo>
                    <a:lnTo>
                      <a:pt x="175" y="63"/>
                    </a:lnTo>
                    <a:lnTo>
                      <a:pt x="343" y="85"/>
                    </a:lnTo>
                    <a:lnTo>
                      <a:pt x="518" y="0"/>
                    </a:lnTo>
                    <a:lnTo>
                      <a:pt x="622" y="94"/>
                    </a:lnTo>
                    <a:lnTo>
                      <a:pt x="678" y="182"/>
                    </a:lnTo>
                    <a:lnTo>
                      <a:pt x="692" y="274"/>
                    </a:lnTo>
                    <a:lnTo>
                      <a:pt x="701" y="406"/>
                    </a:lnTo>
                    <a:lnTo>
                      <a:pt x="705" y="489"/>
                    </a:lnTo>
                    <a:lnTo>
                      <a:pt x="775" y="595"/>
                    </a:lnTo>
                    <a:lnTo>
                      <a:pt x="747" y="57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7719840" y="4802040"/>
                <a:ext cx="357840" cy="338760"/>
              </a:xfrm>
              <a:custGeom>
                <a:avLst/>
                <a:gdLst/>
                <a:ahLst/>
                <a:rect l="l" t="t" r="r" b="b"/>
                <a:pathLst>
                  <a:path w="4318" h="3200">
                    <a:moveTo>
                      <a:pt x="4072" y="2092"/>
                    </a:moveTo>
                    <a:lnTo>
                      <a:pt x="4095" y="1897"/>
                    </a:lnTo>
                    <a:lnTo>
                      <a:pt x="4208" y="1706"/>
                    </a:lnTo>
                    <a:lnTo>
                      <a:pt x="4318" y="1345"/>
                    </a:lnTo>
                    <a:lnTo>
                      <a:pt x="4249" y="1246"/>
                    </a:lnTo>
                    <a:lnTo>
                      <a:pt x="4090" y="1246"/>
                    </a:lnTo>
                    <a:lnTo>
                      <a:pt x="3986" y="1086"/>
                    </a:lnTo>
                    <a:lnTo>
                      <a:pt x="3929" y="1035"/>
                    </a:lnTo>
                    <a:lnTo>
                      <a:pt x="3909" y="1035"/>
                    </a:lnTo>
                    <a:lnTo>
                      <a:pt x="3808" y="1057"/>
                    </a:lnTo>
                    <a:lnTo>
                      <a:pt x="3498" y="561"/>
                    </a:lnTo>
                    <a:lnTo>
                      <a:pt x="3329" y="459"/>
                    </a:lnTo>
                    <a:lnTo>
                      <a:pt x="3087" y="139"/>
                    </a:lnTo>
                    <a:lnTo>
                      <a:pt x="2935" y="99"/>
                    </a:lnTo>
                    <a:lnTo>
                      <a:pt x="2834" y="132"/>
                    </a:lnTo>
                    <a:lnTo>
                      <a:pt x="2723" y="113"/>
                    </a:lnTo>
                    <a:lnTo>
                      <a:pt x="2615" y="148"/>
                    </a:lnTo>
                    <a:lnTo>
                      <a:pt x="2327" y="180"/>
                    </a:lnTo>
                    <a:lnTo>
                      <a:pt x="2237" y="148"/>
                    </a:lnTo>
                    <a:lnTo>
                      <a:pt x="2126" y="189"/>
                    </a:lnTo>
                    <a:lnTo>
                      <a:pt x="2057" y="113"/>
                    </a:lnTo>
                    <a:lnTo>
                      <a:pt x="1973" y="31"/>
                    </a:lnTo>
                    <a:lnTo>
                      <a:pt x="1914" y="0"/>
                    </a:lnTo>
                    <a:lnTo>
                      <a:pt x="1232" y="249"/>
                    </a:lnTo>
                    <a:lnTo>
                      <a:pt x="1171" y="420"/>
                    </a:lnTo>
                    <a:lnTo>
                      <a:pt x="853" y="589"/>
                    </a:lnTo>
                    <a:lnTo>
                      <a:pt x="632" y="627"/>
                    </a:lnTo>
                    <a:lnTo>
                      <a:pt x="441" y="807"/>
                    </a:lnTo>
                    <a:lnTo>
                      <a:pt x="413" y="910"/>
                    </a:lnTo>
                    <a:lnTo>
                      <a:pt x="371" y="1015"/>
                    </a:lnTo>
                    <a:lnTo>
                      <a:pt x="259" y="1356"/>
                    </a:lnTo>
                    <a:lnTo>
                      <a:pt x="210" y="1624"/>
                    </a:lnTo>
                    <a:lnTo>
                      <a:pt x="270" y="1854"/>
                    </a:lnTo>
                    <a:lnTo>
                      <a:pt x="180" y="2075"/>
                    </a:lnTo>
                    <a:lnTo>
                      <a:pt x="90" y="2103"/>
                    </a:lnTo>
                    <a:lnTo>
                      <a:pt x="0" y="2193"/>
                    </a:lnTo>
                    <a:lnTo>
                      <a:pt x="191" y="2792"/>
                    </a:lnTo>
                    <a:lnTo>
                      <a:pt x="399" y="2861"/>
                    </a:lnTo>
                    <a:lnTo>
                      <a:pt x="761" y="2613"/>
                    </a:lnTo>
                    <a:lnTo>
                      <a:pt x="1042" y="1945"/>
                    </a:lnTo>
                    <a:lnTo>
                      <a:pt x="1211" y="2262"/>
                    </a:lnTo>
                    <a:lnTo>
                      <a:pt x="1303" y="2771"/>
                    </a:lnTo>
                    <a:lnTo>
                      <a:pt x="1232" y="2903"/>
                    </a:lnTo>
                    <a:lnTo>
                      <a:pt x="1204" y="3129"/>
                    </a:lnTo>
                    <a:lnTo>
                      <a:pt x="1261" y="3200"/>
                    </a:lnTo>
                    <a:lnTo>
                      <a:pt x="3408" y="2892"/>
                    </a:lnTo>
                    <a:lnTo>
                      <a:pt x="3355" y="1517"/>
                    </a:lnTo>
                    <a:lnTo>
                      <a:pt x="3569" y="1695"/>
                    </a:lnTo>
                    <a:lnTo>
                      <a:pt x="3707" y="1714"/>
                    </a:lnTo>
                    <a:lnTo>
                      <a:pt x="3777" y="1846"/>
                    </a:lnTo>
                    <a:lnTo>
                      <a:pt x="3938" y="1854"/>
                    </a:lnTo>
                    <a:lnTo>
                      <a:pt x="4028" y="1994"/>
                    </a:lnTo>
                    <a:lnTo>
                      <a:pt x="4072" y="20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7903440" y="5100480"/>
                <a:ext cx="33120" cy="29520"/>
              </a:xfrm>
              <a:custGeom>
                <a:avLst/>
                <a:gdLst/>
                <a:ahLst/>
                <a:rect l="l" t="t" r="r" b="b"/>
                <a:pathLst>
                  <a:path w="400" h="279">
                    <a:moveTo>
                      <a:pt x="279" y="0"/>
                    </a:moveTo>
                    <a:lnTo>
                      <a:pt x="130" y="0"/>
                    </a:lnTo>
                    <a:lnTo>
                      <a:pt x="8" y="83"/>
                    </a:lnTo>
                    <a:lnTo>
                      <a:pt x="0" y="242"/>
                    </a:lnTo>
                    <a:lnTo>
                      <a:pt x="40" y="279"/>
                    </a:lnTo>
                    <a:lnTo>
                      <a:pt x="391" y="210"/>
                    </a:lnTo>
                    <a:lnTo>
                      <a:pt x="400" y="162"/>
                    </a:lnTo>
                    <a:lnTo>
                      <a:pt x="349" y="30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7737840" y="4903200"/>
                <a:ext cx="18360" cy="104040"/>
              </a:xfrm>
              <a:custGeom>
                <a:avLst/>
                <a:gdLst/>
                <a:ahLst/>
                <a:rect l="l" t="t" r="r" b="b"/>
                <a:pathLst>
                  <a:path w="231" h="977">
                    <a:moveTo>
                      <a:pt x="183" y="0"/>
                    </a:moveTo>
                    <a:lnTo>
                      <a:pt x="183" y="283"/>
                    </a:lnTo>
                    <a:lnTo>
                      <a:pt x="231" y="659"/>
                    </a:lnTo>
                    <a:lnTo>
                      <a:pt x="90" y="648"/>
                    </a:lnTo>
                    <a:lnTo>
                      <a:pt x="210" y="856"/>
                    </a:lnTo>
                    <a:lnTo>
                      <a:pt x="148" y="977"/>
                    </a:lnTo>
                    <a:lnTo>
                      <a:pt x="0" y="687"/>
                    </a:lnTo>
                    <a:lnTo>
                      <a:pt x="0" y="560"/>
                    </a:lnTo>
                    <a:lnTo>
                      <a:pt x="130" y="129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7724520" y="4945320"/>
                <a:ext cx="83160" cy="158400"/>
              </a:xfrm>
              <a:custGeom>
                <a:avLst/>
                <a:gdLst/>
                <a:ahLst/>
                <a:rect l="l" t="t" r="r" b="b"/>
                <a:pathLst>
                  <a:path w="1008" h="1494">
                    <a:moveTo>
                      <a:pt x="0" y="778"/>
                    </a:moveTo>
                    <a:lnTo>
                      <a:pt x="28" y="837"/>
                    </a:lnTo>
                    <a:lnTo>
                      <a:pt x="28" y="975"/>
                    </a:lnTo>
                    <a:lnTo>
                      <a:pt x="99" y="1156"/>
                    </a:lnTo>
                    <a:lnTo>
                      <a:pt x="159" y="1048"/>
                    </a:lnTo>
                    <a:lnTo>
                      <a:pt x="281" y="1305"/>
                    </a:lnTo>
                    <a:lnTo>
                      <a:pt x="120" y="1378"/>
                    </a:lnTo>
                    <a:lnTo>
                      <a:pt x="342" y="1494"/>
                    </a:lnTo>
                    <a:lnTo>
                      <a:pt x="648" y="1385"/>
                    </a:lnTo>
                    <a:lnTo>
                      <a:pt x="839" y="1057"/>
                    </a:lnTo>
                    <a:lnTo>
                      <a:pt x="883" y="820"/>
                    </a:lnTo>
                    <a:lnTo>
                      <a:pt x="911" y="589"/>
                    </a:lnTo>
                    <a:lnTo>
                      <a:pt x="1008" y="310"/>
                    </a:lnTo>
                    <a:lnTo>
                      <a:pt x="869" y="30"/>
                    </a:lnTo>
                    <a:lnTo>
                      <a:pt x="812" y="0"/>
                    </a:lnTo>
                    <a:lnTo>
                      <a:pt x="710" y="279"/>
                    </a:lnTo>
                    <a:lnTo>
                      <a:pt x="779" y="350"/>
                    </a:lnTo>
                    <a:lnTo>
                      <a:pt x="890" y="400"/>
                    </a:lnTo>
                    <a:lnTo>
                      <a:pt x="770" y="679"/>
                    </a:lnTo>
                    <a:lnTo>
                      <a:pt x="770" y="848"/>
                    </a:lnTo>
                    <a:lnTo>
                      <a:pt x="648" y="1026"/>
                    </a:lnTo>
                    <a:lnTo>
                      <a:pt x="438" y="1057"/>
                    </a:lnTo>
                    <a:lnTo>
                      <a:pt x="307" y="589"/>
                    </a:lnTo>
                    <a:lnTo>
                      <a:pt x="69" y="736"/>
                    </a:lnTo>
                    <a:lnTo>
                      <a:pt x="0" y="77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7801920" y="4852080"/>
                <a:ext cx="195120" cy="290520"/>
              </a:xfrm>
              <a:custGeom>
                <a:avLst/>
                <a:gdLst/>
                <a:ahLst/>
                <a:rect l="l" t="t" r="r" b="b"/>
                <a:pathLst>
                  <a:path w="2355" h="2742">
                    <a:moveTo>
                      <a:pt x="303" y="558"/>
                    </a:moveTo>
                    <a:lnTo>
                      <a:pt x="413" y="639"/>
                    </a:lnTo>
                    <a:lnTo>
                      <a:pt x="289" y="1119"/>
                    </a:lnTo>
                    <a:lnTo>
                      <a:pt x="289" y="1398"/>
                    </a:lnTo>
                    <a:lnTo>
                      <a:pt x="630" y="1476"/>
                    </a:lnTo>
                    <a:lnTo>
                      <a:pt x="604" y="411"/>
                    </a:lnTo>
                    <a:lnTo>
                      <a:pt x="630" y="208"/>
                    </a:lnTo>
                    <a:lnTo>
                      <a:pt x="503" y="150"/>
                    </a:lnTo>
                    <a:lnTo>
                      <a:pt x="382" y="231"/>
                    </a:lnTo>
                    <a:lnTo>
                      <a:pt x="360" y="208"/>
                    </a:lnTo>
                    <a:lnTo>
                      <a:pt x="450" y="143"/>
                    </a:lnTo>
                    <a:lnTo>
                      <a:pt x="503" y="72"/>
                    </a:lnTo>
                    <a:lnTo>
                      <a:pt x="833" y="0"/>
                    </a:lnTo>
                    <a:lnTo>
                      <a:pt x="991" y="84"/>
                    </a:lnTo>
                    <a:lnTo>
                      <a:pt x="943" y="121"/>
                    </a:lnTo>
                    <a:lnTo>
                      <a:pt x="833" y="112"/>
                    </a:lnTo>
                    <a:lnTo>
                      <a:pt x="782" y="252"/>
                    </a:lnTo>
                    <a:lnTo>
                      <a:pt x="1092" y="1558"/>
                    </a:lnTo>
                    <a:lnTo>
                      <a:pt x="1413" y="1747"/>
                    </a:lnTo>
                    <a:lnTo>
                      <a:pt x="1965" y="2035"/>
                    </a:lnTo>
                    <a:lnTo>
                      <a:pt x="1905" y="1875"/>
                    </a:lnTo>
                    <a:lnTo>
                      <a:pt x="2207" y="1993"/>
                    </a:lnTo>
                    <a:lnTo>
                      <a:pt x="2297" y="1773"/>
                    </a:lnTo>
                    <a:lnTo>
                      <a:pt x="2345" y="1785"/>
                    </a:lnTo>
                    <a:lnTo>
                      <a:pt x="2306" y="2145"/>
                    </a:lnTo>
                    <a:lnTo>
                      <a:pt x="2355" y="2343"/>
                    </a:lnTo>
                    <a:lnTo>
                      <a:pt x="2133" y="2393"/>
                    </a:lnTo>
                    <a:lnTo>
                      <a:pt x="1598" y="2356"/>
                    </a:lnTo>
                    <a:lnTo>
                      <a:pt x="1723" y="2272"/>
                    </a:lnTo>
                    <a:lnTo>
                      <a:pt x="1644" y="2126"/>
                    </a:lnTo>
                    <a:lnTo>
                      <a:pt x="1732" y="2085"/>
                    </a:lnTo>
                    <a:lnTo>
                      <a:pt x="1503" y="2015"/>
                    </a:lnTo>
                    <a:lnTo>
                      <a:pt x="1503" y="2165"/>
                    </a:lnTo>
                    <a:lnTo>
                      <a:pt x="1444" y="2334"/>
                    </a:lnTo>
                    <a:lnTo>
                      <a:pt x="1246" y="2405"/>
                    </a:lnTo>
                    <a:lnTo>
                      <a:pt x="1273" y="2384"/>
                    </a:lnTo>
                    <a:lnTo>
                      <a:pt x="1135" y="2043"/>
                    </a:lnTo>
                    <a:lnTo>
                      <a:pt x="863" y="1868"/>
                    </a:lnTo>
                    <a:lnTo>
                      <a:pt x="591" y="1826"/>
                    </a:lnTo>
                    <a:lnTo>
                      <a:pt x="663" y="1916"/>
                    </a:lnTo>
                    <a:lnTo>
                      <a:pt x="624" y="1936"/>
                    </a:lnTo>
                    <a:lnTo>
                      <a:pt x="773" y="1976"/>
                    </a:lnTo>
                    <a:lnTo>
                      <a:pt x="1054" y="2204"/>
                    </a:lnTo>
                    <a:lnTo>
                      <a:pt x="1171" y="2322"/>
                    </a:lnTo>
                    <a:lnTo>
                      <a:pt x="962" y="2315"/>
                    </a:lnTo>
                    <a:lnTo>
                      <a:pt x="734" y="2246"/>
                    </a:lnTo>
                    <a:lnTo>
                      <a:pt x="923" y="2405"/>
                    </a:lnTo>
                    <a:lnTo>
                      <a:pt x="743" y="2463"/>
                    </a:lnTo>
                    <a:lnTo>
                      <a:pt x="521" y="2601"/>
                    </a:lnTo>
                    <a:lnTo>
                      <a:pt x="851" y="2525"/>
                    </a:lnTo>
                    <a:lnTo>
                      <a:pt x="552" y="2742"/>
                    </a:lnTo>
                    <a:lnTo>
                      <a:pt x="250" y="2742"/>
                    </a:lnTo>
                    <a:lnTo>
                      <a:pt x="213" y="2652"/>
                    </a:lnTo>
                    <a:lnTo>
                      <a:pt x="303" y="2272"/>
                    </a:lnTo>
                    <a:lnTo>
                      <a:pt x="270" y="2114"/>
                    </a:lnTo>
                    <a:lnTo>
                      <a:pt x="0" y="1178"/>
                    </a:lnTo>
                    <a:lnTo>
                      <a:pt x="81" y="720"/>
                    </a:lnTo>
                    <a:lnTo>
                      <a:pt x="303" y="55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7894080" y="4811760"/>
                <a:ext cx="70560" cy="65160"/>
              </a:xfrm>
              <a:custGeom>
                <a:avLst/>
                <a:gdLst/>
                <a:ahLst/>
                <a:rect l="l" t="t" r="r" b="b"/>
                <a:pathLst>
                  <a:path w="851" h="616">
                    <a:moveTo>
                      <a:pt x="0" y="385"/>
                    </a:moveTo>
                    <a:lnTo>
                      <a:pt x="77" y="207"/>
                    </a:lnTo>
                    <a:lnTo>
                      <a:pt x="77" y="348"/>
                    </a:lnTo>
                    <a:lnTo>
                      <a:pt x="299" y="97"/>
                    </a:lnTo>
                    <a:lnTo>
                      <a:pt x="378" y="616"/>
                    </a:lnTo>
                    <a:lnTo>
                      <a:pt x="417" y="227"/>
                    </a:lnTo>
                    <a:lnTo>
                      <a:pt x="618" y="69"/>
                    </a:lnTo>
                    <a:lnTo>
                      <a:pt x="740" y="97"/>
                    </a:lnTo>
                    <a:lnTo>
                      <a:pt x="851" y="7"/>
                    </a:lnTo>
                    <a:lnTo>
                      <a:pt x="721" y="40"/>
                    </a:lnTo>
                    <a:lnTo>
                      <a:pt x="653" y="40"/>
                    </a:lnTo>
                    <a:lnTo>
                      <a:pt x="618" y="0"/>
                    </a:lnTo>
                    <a:lnTo>
                      <a:pt x="521" y="69"/>
                    </a:lnTo>
                    <a:lnTo>
                      <a:pt x="389" y="47"/>
                    </a:lnTo>
                    <a:lnTo>
                      <a:pt x="279" y="40"/>
                    </a:lnTo>
                    <a:lnTo>
                      <a:pt x="118" y="77"/>
                    </a:lnTo>
                    <a:lnTo>
                      <a:pt x="21" y="189"/>
                    </a:lnTo>
                    <a:lnTo>
                      <a:pt x="0" y="38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7971120" y="4871880"/>
                <a:ext cx="66600" cy="167760"/>
              </a:xfrm>
              <a:custGeom>
                <a:avLst/>
                <a:gdLst/>
                <a:ahLst/>
                <a:rect l="l" t="t" r="r" b="b"/>
                <a:pathLst>
                  <a:path w="811" h="1587">
                    <a:moveTo>
                      <a:pt x="481" y="171"/>
                    </a:moveTo>
                    <a:lnTo>
                      <a:pt x="481" y="429"/>
                    </a:lnTo>
                    <a:lnTo>
                      <a:pt x="380" y="600"/>
                    </a:lnTo>
                    <a:lnTo>
                      <a:pt x="239" y="429"/>
                    </a:lnTo>
                    <a:lnTo>
                      <a:pt x="128" y="259"/>
                    </a:lnTo>
                    <a:lnTo>
                      <a:pt x="239" y="860"/>
                    </a:lnTo>
                    <a:lnTo>
                      <a:pt x="207" y="1257"/>
                    </a:lnTo>
                    <a:lnTo>
                      <a:pt x="0" y="1556"/>
                    </a:lnTo>
                    <a:lnTo>
                      <a:pt x="170" y="1587"/>
                    </a:lnTo>
                    <a:lnTo>
                      <a:pt x="361" y="1483"/>
                    </a:lnTo>
                    <a:lnTo>
                      <a:pt x="318" y="840"/>
                    </a:lnTo>
                    <a:lnTo>
                      <a:pt x="509" y="1049"/>
                    </a:lnTo>
                    <a:lnTo>
                      <a:pt x="640" y="1049"/>
                    </a:lnTo>
                    <a:lnTo>
                      <a:pt x="541" y="939"/>
                    </a:lnTo>
                    <a:lnTo>
                      <a:pt x="521" y="770"/>
                    </a:lnTo>
                    <a:lnTo>
                      <a:pt x="582" y="600"/>
                    </a:lnTo>
                    <a:lnTo>
                      <a:pt x="659" y="489"/>
                    </a:lnTo>
                    <a:lnTo>
                      <a:pt x="721" y="392"/>
                    </a:lnTo>
                    <a:lnTo>
                      <a:pt x="762" y="528"/>
                    </a:lnTo>
                    <a:lnTo>
                      <a:pt x="811" y="400"/>
                    </a:lnTo>
                    <a:lnTo>
                      <a:pt x="780" y="293"/>
                    </a:lnTo>
                    <a:lnTo>
                      <a:pt x="721" y="150"/>
                    </a:lnTo>
                    <a:lnTo>
                      <a:pt x="548" y="0"/>
                    </a:lnTo>
                    <a:lnTo>
                      <a:pt x="481" y="17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8032680" y="4929480"/>
                <a:ext cx="45360" cy="64080"/>
              </a:xfrm>
              <a:custGeom>
                <a:avLst/>
                <a:gdLst/>
                <a:ahLst/>
                <a:rect l="l" t="t" r="r" b="b"/>
                <a:pathLst>
                  <a:path w="552" h="609">
                    <a:moveTo>
                      <a:pt x="152" y="0"/>
                    </a:moveTo>
                    <a:lnTo>
                      <a:pt x="31" y="152"/>
                    </a:lnTo>
                    <a:lnTo>
                      <a:pt x="132" y="293"/>
                    </a:lnTo>
                    <a:lnTo>
                      <a:pt x="373" y="133"/>
                    </a:lnTo>
                    <a:lnTo>
                      <a:pt x="453" y="293"/>
                    </a:lnTo>
                    <a:lnTo>
                      <a:pt x="0" y="609"/>
                    </a:lnTo>
                    <a:lnTo>
                      <a:pt x="420" y="541"/>
                    </a:lnTo>
                    <a:lnTo>
                      <a:pt x="552" y="133"/>
                    </a:lnTo>
                    <a:lnTo>
                      <a:pt x="453" y="42"/>
                    </a:lnTo>
                    <a:lnTo>
                      <a:pt x="299" y="62"/>
                    </a:lnTo>
                    <a:lnTo>
                      <a:pt x="193" y="23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7853760" y="4847040"/>
                <a:ext cx="68040" cy="259920"/>
              </a:xfrm>
              <a:custGeom>
                <a:avLst/>
                <a:gdLst/>
                <a:ahLst/>
                <a:rect l="l" t="t" r="r" b="b"/>
                <a:pathLst>
                  <a:path w="820" h="2453">
                    <a:moveTo>
                      <a:pt x="186" y="21"/>
                    </a:moveTo>
                    <a:lnTo>
                      <a:pt x="178" y="110"/>
                    </a:lnTo>
                    <a:lnTo>
                      <a:pt x="136" y="198"/>
                    </a:lnTo>
                    <a:lnTo>
                      <a:pt x="119" y="228"/>
                    </a:lnTo>
                    <a:lnTo>
                      <a:pt x="186" y="309"/>
                    </a:lnTo>
                    <a:lnTo>
                      <a:pt x="288" y="487"/>
                    </a:lnTo>
                    <a:lnTo>
                      <a:pt x="400" y="817"/>
                    </a:lnTo>
                    <a:lnTo>
                      <a:pt x="520" y="1245"/>
                    </a:lnTo>
                    <a:lnTo>
                      <a:pt x="693" y="1806"/>
                    </a:lnTo>
                    <a:lnTo>
                      <a:pt x="820" y="2125"/>
                    </a:lnTo>
                    <a:lnTo>
                      <a:pt x="672" y="2453"/>
                    </a:lnTo>
                    <a:lnTo>
                      <a:pt x="347" y="2204"/>
                    </a:lnTo>
                    <a:lnTo>
                      <a:pt x="68" y="708"/>
                    </a:lnTo>
                    <a:lnTo>
                      <a:pt x="46" y="440"/>
                    </a:lnTo>
                    <a:lnTo>
                      <a:pt x="68" y="270"/>
                    </a:lnTo>
                    <a:lnTo>
                      <a:pt x="68" y="228"/>
                    </a:lnTo>
                    <a:lnTo>
                      <a:pt x="0" y="141"/>
                    </a:lnTo>
                    <a:lnTo>
                      <a:pt x="6" y="0"/>
                    </a:lnTo>
                    <a:lnTo>
                      <a:pt x="149" y="11"/>
                    </a:lnTo>
                    <a:lnTo>
                      <a:pt x="186" y="2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7850520" y="4847040"/>
                <a:ext cx="71640" cy="262440"/>
              </a:xfrm>
              <a:custGeom>
                <a:avLst/>
                <a:gdLst/>
                <a:ahLst/>
                <a:rect l="l" t="t" r="r" b="b"/>
                <a:pathLst>
                  <a:path w="862" h="2474">
                    <a:moveTo>
                      <a:pt x="152" y="11"/>
                    </a:moveTo>
                    <a:lnTo>
                      <a:pt x="129" y="251"/>
                    </a:lnTo>
                    <a:lnTo>
                      <a:pt x="178" y="670"/>
                    </a:lnTo>
                    <a:lnTo>
                      <a:pt x="281" y="1141"/>
                    </a:lnTo>
                    <a:lnTo>
                      <a:pt x="461" y="1863"/>
                    </a:lnTo>
                    <a:lnTo>
                      <a:pt x="499" y="2174"/>
                    </a:lnTo>
                    <a:lnTo>
                      <a:pt x="691" y="2370"/>
                    </a:lnTo>
                    <a:lnTo>
                      <a:pt x="811" y="2112"/>
                    </a:lnTo>
                    <a:lnTo>
                      <a:pt x="629" y="1694"/>
                    </a:lnTo>
                    <a:lnTo>
                      <a:pt x="519" y="1257"/>
                    </a:lnTo>
                    <a:lnTo>
                      <a:pt x="422" y="876"/>
                    </a:lnTo>
                    <a:lnTo>
                      <a:pt x="288" y="468"/>
                    </a:lnTo>
                    <a:lnTo>
                      <a:pt x="211" y="309"/>
                    </a:lnTo>
                    <a:lnTo>
                      <a:pt x="170" y="228"/>
                    </a:lnTo>
                    <a:lnTo>
                      <a:pt x="288" y="389"/>
                    </a:lnTo>
                    <a:lnTo>
                      <a:pt x="409" y="738"/>
                    </a:lnTo>
                    <a:lnTo>
                      <a:pt x="562" y="1195"/>
                    </a:lnTo>
                    <a:lnTo>
                      <a:pt x="714" y="1705"/>
                    </a:lnTo>
                    <a:lnTo>
                      <a:pt x="783" y="1936"/>
                    </a:lnTo>
                    <a:lnTo>
                      <a:pt x="862" y="2112"/>
                    </a:lnTo>
                    <a:lnTo>
                      <a:pt x="721" y="2474"/>
                    </a:lnTo>
                    <a:lnTo>
                      <a:pt x="380" y="2193"/>
                    </a:lnTo>
                    <a:lnTo>
                      <a:pt x="251" y="1505"/>
                    </a:lnTo>
                    <a:lnTo>
                      <a:pt x="119" y="717"/>
                    </a:lnTo>
                    <a:lnTo>
                      <a:pt x="110" y="440"/>
                    </a:lnTo>
                    <a:lnTo>
                      <a:pt x="88" y="228"/>
                    </a:lnTo>
                    <a:lnTo>
                      <a:pt x="0" y="110"/>
                    </a:lnTo>
                    <a:lnTo>
                      <a:pt x="60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7785360" y="4838760"/>
                <a:ext cx="47520" cy="108360"/>
              </a:xfrm>
              <a:custGeom>
                <a:avLst/>
                <a:gdLst/>
                <a:ahLst/>
                <a:rect l="l" t="t" r="r" b="b"/>
                <a:pathLst>
                  <a:path w="578" h="1028">
                    <a:moveTo>
                      <a:pt x="42" y="938"/>
                    </a:moveTo>
                    <a:lnTo>
                      <a:pt x="37" y="775"/>
                    </a:lnTo>
                    <a:lnTo>
                      <a:pt x="0" y="360"/>
                    </a:lnTo>
                    <a:lnTo>
                      <a:pt x="37" y="276"/>
                    </a:lnTo>
                    <a:lnTo>
                      <a:pt x="293" y="0"/>
                    </a:lnTo>
                    <a:lnTo>
                      <a:pt x="523" y="48"/>
                    </a:lnTo>
                    <a:lnTo>
                      <a:pt x="578" y="184"/>
                    </a:lnTo>
                    <a:lnTo>
                      <a:pt x="528" y="247"/>
                    </a:lnTo>
                    <a:lnTo>
                      <a:pt x="563" y="465"/>
                    </a:lnTo>
                    <a:lnTo>
                      <a:pt x="486" y="487"/>
                    </a:lnTo>
                    <a:lnTo>
                      <a:pt x="464" y="705"/>
                    </a:lnTo>
                    <a:lnTo>
                      <a:pt x="406" y="805"/>
                    </a:lnTo>
                    <a:lnTo>
                      <a:pt x="358" y="874"/>
                    </a:lnTo>
                    <a:lnTo>
                      <a:pt x="305" y="938"/>
                    </a:lnTo>
                    <a:lnTo>
                      <a:pt x="263" y="1028"/>
                    </a:lnTo>
                    <a:lnTo>
                      <a:pt x="92" y="1001"/>
                    </a:lnTo>
                    <a:lnTo>
                      <a:pt x="42" y="938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7789320" y="4669920"/>
                <a:ext cx="107280" cy="172800"/>
              </a:xfrm>
              <a:custGeom>
                <a:avLst/>
                <a:gdLst/>
                <a:ahLst/>
                <a:rect l="l" t="t" r="r" b="b"/>
                <a:pathLst>
                  <a:path w="1289" h="1630">
                    <a:moveTo>
                      <a:pt x="37" y="717"/>
                    </a:moveTo>
                    <a:lnTo>
                      <a:pt x="0" y="784"/>
                    </a:lnTo>
                    <a:lnTo>
                      <a:pt x="0" y="915"/>
                    </a:lnTo>
                    <a:lnTo>
                      <a:pt x="85" y="1036"/>
                    </a:lnTo>
                    <a:lnTo>
                      <a:pt x="200" y="1120"/>
                    </a:lnTo>
                    <a:lnTo>
                      <a:pt x="235" y="1120"/>
                    </a:lnTo>
                    <a:lnTo>
                      <a:pt x="298" y="1263"/>
                    </a:lnTo>
                    <a:lnTo>
                      <a:pt x="348" y="1395"/>
                    </a:lnTo>
                    <a:lnTo>
                      <a:pt x="447" y="1508"/>
                    </a:lnTo>
                    <a:lnTo>
                      <a:pt x="555" y="1572"/>
                    </a:lnTo>
                    <a:lnTo>
                      <a:pt x="705" y="1621"/>
                    </a:lnTo>
                    <a:lnTo>
                      <a:pt x="855" y="1630"/>
                    </a:lnTo>
                    <a:lnTo>
                      <a:pt x="947" y="1579"/>
                    </a:lnTo>
                    <a:lnTo>
                      <a:pt x="1019" y="1494"/>
                    </a:lnTo>
                    <a:lnTo>
                      <a:pt x="1090" y="1374"/>
                    </a:lnTo>
                    <a:lnTo>
                      <a:pt x="1118" y="1263"/>
                    </a:lnTo>
                    <a:lnTo>
                      <a:pt x="1140" y="1056"/>
                    </a:lnTo>
                    <a:lnTo>
                      <a:pt x="1203" y="1001"/>
                    </a:lnTo>
                    <a:lnTo>
                      <a:pt x="1284" y="889"/>
                    </a:lnTo>
                    <a:lnTo>
                      <a:pt x="1289" y="768"/>
                    </a:lnTo>
                    <a:lnTo>
                      <a:pt x="1274" y="662"/>
                    </a:lnTo>
                    <a:lnTo>
                      <a:pt x="1261" y="627"/>
                    </a:lnTo>
                    <a:lnTo>
                      <a:pt x="1203" y="595"/>
                    </a:lnTo>
                    <a:lnTo>
                      <a:pt x="1118" y="325"/>
                    </a:lnTo>
                    <a:lnTo>
                      <a:pt x="1012" y="94"/>
                    </a:lnTo>
                    <a:lnTo>
                      <a:pt x="692" y="0"/>
                    </a:lnTo>
                    <a:lnTo>
                      <a:pt x="270" y="85"/>
                    </a:lnTo>
                    <a:lnTo>
                      <a:pt x="85" y="247"/>
                    </a:lnTo>
                    <a:lnTo>
                      <a:pt x="41" y="429"/>
                    </a:lnTo>
                    <a:lnTo>
                      <a:pt x="41" y="657"/>
                    </a:lnTo>
                    <a:lnTo>
                      <a:pt x="37" y="717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7814520" y="4772520"/>
                <a:ext cx="18360" cy="13320"/>
              </a:xfrm>
              <a:custGeom>
                <a:avLst/>
                <a:gdLst/>
                <a:ahLst/>
                <a:rect l="l" t="t" r="r" b="b"/>
                <a:pathLst>
                  <a:path w="223" h="120">
                    <a:moveTo>
                      <a:pt x="223" y="6"/>
                    </a:moveTo>
                    <a:lnTo>
                      <a:pt x="223" y="41"/>
                    </a:lnTo>
                    <a:lnTo>
                      <a:pt x="140" y="108"/>
                    </a:lnTo>
                    <a:lnTo>
                      <a:pt x="57" y="120"/>
                    </a:lnTo>
                    <a:lnTo>
                      <a:pt x="0" y="78"/>
                    </a:lnTo>
                    <a:lnTo>
                      <a:pt x="16" y="0"/>
                    </a:lnTo>
                    <a:lnTo>
                      <a:pt x="92" y="28"/>
                    </a:lnTo>
                    <a:lnTo>
                      <a:pt x="140" y="35"/>
                    </a:lnTo>
                    <a:lnTo>
                      <a:pt x="223" y="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7857720" y="4761720"/>
                <a:ext cx="19800" cy="15120"/>
              </a:xfrm>
              <a:custGeom>
                <a:avLst/>
                <a:gdLst/>
                <a:ahLst/>
                <a:rect l="l" t="t" r="r" b="b"/>
                <a:pathLst>
                  <a:path w="245" h="141">
                    <a:moveTo>
                      <a:pt x="0" y="85"/>
                    </a:moveTo>
                    <a:lnTo>
                      <a:pt x="18" y="112"/>
                    </a:lnTo>
                    <a:lnTo>
                      <a:pt x="117" y="141"/>
                    </a:lnTo>
                    <a:lnTo>
                      <a:pt x="212" y="134"/>
                    </a:lnTo>
                    <a:lnTo>
                      <a:pt x="245" y="79"/>
                    </a:lnTo>
                    <a:lnTo>
                      <a:pt x="238" y="0"/>
                    </a:lnTo>
                    <a:lnTo>
                      <a:pt x="179" y="42"/>
                    </a:lnTo>
                    <a:lnTo>
                      <a:pt x="139" y="79"/>
                    </a:lnTo>
                    <a:lnTo>
                      <a:pt x="83" y="9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7842960" y="4766760"/>
                <a:ext cx="10440" cy="25200"/>
              </a:xfrm>
              <a:custGeom>
                <a:avLst/>
                <a:gdLst/>
                <a:ahLst/>
                <a:rect l="l" t="t" r="r" b="b"/>
                <a:pathLst>
                  <a:path w="120" h="235">
                    <a:moveTo>
                      <a:pt x="57" y="37"/>
                    </a:moveTo>
                    <a:lnTo>
                      <a:pt x="37" y="0"/>
                    </a:lnTo>
                    <a:lnTo>
                      <a:pt x="13" y="16"/>
                    </a:lnTo>
                    <a:lnTo>
                      <a:pt x="22" y="141"/>
                    </a:lnTo>
                    <a:lnTo>
                      <a:pt x="0" y="169"/>
                    </a:lnTo>
                    <a:lnTo>
                      <a:pt x="13" y="220"/>
                    </a:lnTo>
                    <a:lnTo>
                      <a:pt x="64" y="235"/>
                    </a:lnTo>
                    <a:lnTo>
                      <a:pt x="108" y="220"/>
                    </a:lnTo>
                    <a:lnTo>
                      <a:pt x="120" y="178"/>
                    </a:lnTo>
                    <a:lnTo>
                      <a:pt x="112" y="148"/>
                    </a:lnTo>
                    <a:lnTo>
                      <a:pt x="78" y="121"/>
                    </a:lnTo>
                    <a:lnTo>
                      <a:pt x="57" y="3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7835040" y="478188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51" h="42">
                    <a:moveTo>
                      <a:pt x="25" y="0"/>
                    </a:moveTo>
                    <a:lnTo>
                      <a:pt x="0" y="25"/>
                    </a:lnTo>
                    <a:lnTo>
                      <a:pt x="25" y="42"/>
                    </a:lnTo>
                    <a:lnTo>
                      <a:pt x="51" y="7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7854840" y="477936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6"/>
                    </a:moveTo>
                    <a:lnTo>
                      <a:pt x="21" y="36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7837920" y="4807440"/>
                <a:ext cx="27720" cy="7200"/>
              </a:xfrm>
              <a:custGeom>
                <a:avLst/>
                <a:gdLst/>
                <a:ahLst/>
                <a:rect l="l" t="t" r="r" b="b"/>
                <a:pathLst>
                  <a:path w="343" h="70">
                    <a:moveTo>
                      <a:pt x="0" y="44"/>
                    </a:moveTo>
                    <a:lnTo>
                      <a:pt x="128" y="70"/>
                    </a:lnTo>
                    <a:lnTo>
                      <a:pt x="235" y="55"/>
                    </a:lnTo>
                    <a:lnTo>
                      <a:pt x="322" y="21"/>
                    </a:lnTo>
                    <a:lnTo>
                      <a:pt x="343" y="7"/>
                    </a:lnTo>
                    <a:lnTo>
                      <a:pt x="297" y="0"/>
                    </a:lnTo>
                    <a:lnTo>
                      <a:pt x="214" y="21"/>
                    </a:lnTo>
                    <a:lnTo>
                      <a:pt x="135" y="26"/>
                    </a:lnTo>
                    <a:lnTo>
                      <a:pt x="20" y="21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7801920" y="4703040"/>
                <a:ext cx="29520" cy="44640"/>
              </a:xfrm>
              <a:custGeom>
                <a:avLst/>
                <a:gdLst/>
                <a:ahLst/>
                <a:rect l="l" t="t" r="r" b="b"/>
                <a:pathLst>
                  <a:path w="363" h="429">
                    <a:moveTo>
                      <a:pt x="226" y="35"/>
                    </a:moveTo>
                    <a:lnTo>
                      <a:pt x="158" y="99"/>
                    </a:lnTo>
                    <a:lnTo>
                      <a:pt x="127" y="182"/>
                    </a:lnTo>
                    <a:lnTo>
                      <a:pt x="127" y="266"/>
                    </a:lnTo>
                    <a:lnTo>
                      <a:pt x="149" y="337"/>
                    </a:lnTo>
                    <a:lnTo>
                      <a:pt x="363" y="394"/>
                    </a:lnTo>
                    <a:lnTo>
                      <a:pt x="185" y="389"/>
                    </a:lnTo>
                    <a:lnTo>
                      <a:pt x="63" y="429"/>
                    </a:lnTo>
                    <a:lnTo>
                      <a:pt x="79" y="380"/>
                    </a:lnTo>
                    <a:lnTo>
                      <a:pt x="33" y="323"/>
                    </a:lnTo>
                    <a:lnTo>
                      <a:pt x="6" y="231"/>
                    </a:lnTo>
                    <a:lnTo>
                      <a:pt x="0" y="134"/>
                    </a:lnTo>
                    <a:lnTo>
                      <a:pt x="19" y="62"/>
                    </a:lnTo>
                    <a:lnTo>
                      <a:pt x="68" y="14"/>
                    </a:lnTo>
                    <a:lnTo>
                      <a:pt x="136" y="0"/>
                    </a:lnTo>
                    <a:lnTo>
                      <a:pt x="192" y="7"/>
                    </a:lnTo>
                    <a:lnTo>
                      <a:pt x="226" y="3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7847640" y="472608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14" h="154">
                    <a:moveTo>
                      <a:pt x="70" y="115"/>
                    </a:moveTo>
                    <a:lnTo>
                      <a:pt x="226" y="34"/>
                    </a:lnTo>
                    <a:lnTo>
                      <a:pt x="314" y="30"/>
                    </a:lnTo>
                    <a:lnTo>
                      <a:pt x="249" y="0"/>
                    </a:lnTo>
                    <a:lnTo>
                      <a:pt x="176" y="30"/>
                    </a:lnTo>
                    <a:lnTo>
                      <a:pt x="0" y="154"/>
                    </a:lnTo>
                    <a:lnTo>
                      <a:pt x="70" y="11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7792920" y="4753080"/>
                <a:ext cx="8280" cy="6840"/>
              </a:xfrm>
              <a:custGeom>
                <a:avLst/>
                <a:gdLst/>
                <a:ahLst/>
                <a:rect l="l" t="t" r="r" b="b"/>
                <a:pathLst>
                  <a:path w="105" h="60">
                    <a:moveTo>
                      <a:pt x="0" y="44"/>
                    </a:moveTo>
                    <a:lnTo>
                      <a:pt x="96" y="60"/>
                    </a:lnTo>
                    <a:lnTo>
                      <a:pt x="105" y="31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7882920" y="4737960"/>
                <a:ext cx="8280" cy="11880"/>
              </a:xfrm>
              <a:custGeom>
                <a:avLst/>
                <a:gdLst/>
                <a:ahLst/>
                <a:rect l="l" t="t" r="r" b="b"/>
                <a:pathLst>
                  <a:path w="99" h="111">
                    <a:moveTo>
                      <a:pt x="0" y="111"/>
                    </a:moveTo>
                    <a:lnTo>
                      <a:pt x="19" y="111"/>
                    </a:lnTo>
                    <a:lnTo>
                      <a:pt x="99" y="35"/>
                    </a:lnTo>
                    <a:lnTo>
                      <a:pt x="90" y="0"/>
                    </a:lnTo>
                    <a:lnTo>
                      <a:pt x="55" y="0"/>
                    </a:lnTo>
                    <a:lnTo>
                      <a:pt x="7" y="39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7846560" y="482616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154" h="84">
                    <a:moveTo>
                      <a:pt x="27" y="7"/>
                    </a:moveTo>
                    <a:lnTo>
                      <a:pt x="0" y="49"/>
                    </a:lnTo>
                    <a:lnTo>
                      <a:pt x="32" y="84"/>
                    </a:lnTo>
                    <a:lnTo>
                      <a:pt x="140" y="69"/>
                    </a:lnTo>
                    <a:lnTo>
                      <a:pt x="154" y="27"/>
                    </a:lnTo>
                    <a:lnTo>
                      <a:pt x="127" y="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7791480" y="4888800"/>
                <a:ext cx="14400" cy="35280"/>
              </a:xfrm>
              <a:custGeom>
                <a:avLst/>
                <a:gdLst/>
                <a:ahLst/>
                <a:rect l="l" t="t" r="r" b="b"/>
                <a:pathLst>
                  <a:path w="172" h="336">
                    <a:moveTo>
                      <a:pt x="7" y="42"/>
                    </a:moveTo>
                    <a:lnTo>
                      <a:pt x="51" y="211"/>
                    </a:lnTo>
                    <a:lnTo>
                      <a:pt x="73" y="336"/>
                    </a:lnTo>
                    <a:lnTo>
                      <a:pt x="156" y="336"/>
                    </a:lnTo>
                    <a:lnTo>
                      <a:pt x="172" y="279"/>
                    </a:lnTo>
                    <a:lnTo>
                      <a:pt x="99" y="231"/>
                    </a:lnTo>
                    <a:lnTo>
                      <a:pt x="73" y="147"/>
                    </a:lnTo>
                    <a:lnTo>
                      <a:pt x="78" y="75"/>
                    </a:lnTo>
                    <a:lnTo>
                      <a:pt x="0" y="0"/>
                    </a:lnTo>
                    <a:lnTo>
                      <a:pt x="7" y="42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7791840" y="4865040"/>
                <a:ext cx="21600" cy="12600"/>
              </a:xfrm>
              <a:custGeom>
                <a:avLst/>
                <a:gdLst/>
                <a:ahLst/>
                <a:rect l="l" t="t" r="r" b="b"/>
                <a:pathLst>
                  <a:path w="264" h="122">
                    <a:moveTo>
                      <a:pt x="0" y="106"/>
                    </a:moveTo>
                    <a:lnTo>
                      <a:pt x="13" y="122"/>
                    </a:lnTo>
                    <a:lnTo>
                      <a:pt x="57" y="78"/>
                    </a:lnTo>
                    <a:lnTo>
                      <a:pt x="114" y="97"/>
                    </a:lnTo>
                    <a:lnTo>
                      <a:pt x="140" y="53"/>
                    </a:lnTo>
                    <a:lnTo>
                      <a:pt x="264" y="106"/>
                    </a:lnTo>
                    <a:lnTo>
                      <a:pt x="127" y="0"/>
                    </a:lnTo>
                    <a:lnTo>
                      <a:pt x="101" y="14"/>
                    </a:lnTo>
                    <a:lnTo>
                      <a:pt x="32" y="64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7809480" y="4906440"/>
                <a:ext cx="8280" cy="15840"/>
              </a:xfrm>
              <a:custGeom>
                <a:avLst/>
                <a:gdLst/>
                <a:ahLst/>
                <a:rect l="l" t="t" r="r" b="b"/>
                <a:pathLst>
                  <a:path w="106" h="147">
                    <a:moveTo>
                      <a:pt x="0" y="44"/>
                    </a:moveTo>
                    <a:lnTo>
                      <a:pt x="41" y="85"/>
                    </a:lnTo>
                    <a:lnTo>
                      <a:pt x="63" y="147"/>
                    </a:lnTo>
                    <a:lnTo>
                      <a:pt x="106" y="92"/>
                    </a:lnTo>
                    <a:lnTo>
                      <a:pt x="99" y="35"/>
                    </a:lnTo>
                    <a:lnTo>
                      <a:pt x="63" y="9"/>
                    </a:lnTo>
                    <a:lnTo>
                      <a:pt x="7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7817760" y="475740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44" h="94">
                    <a:moveTo>
                      <a:pt x="0" y="34"/>
                    </a:moveTo>
                    <a:lnTo>
                      <a:pt x="45" y="81"/>
                    </a:lnTo>
                    <a:lnTo>
                      <a:pt x="89" y="94"/>
                    </a:lnTo>
                    <a:lnTo>
                      <a:pt x="114" y="94"/>
                    </a:lnTo>
                    <a:lnTo>
                      <a:pt x="167" y="94"/>
                    </a:lnTo>
                    <a:lnTo>
                      <a:pt x="244" y="43"/>
                    </a:lnTo>
                    <a:lnTo>
                      <a:pt x="204" y="0"/>
                    </a:lnTo>
                    <a:lnTo>
                      <a:pt x="123" y="9"/>
                    </a:lnTo>
                    <a:lnTo>
                      <a:pt x="45" y="28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7854480" y="475308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221" h="85">
                    <a:moveTo>
                      <a:pt x="0" y="70"/>
                    </a:moveTo>
                    <a:lnTo>
                      <a:pt x="44" y="7"/>
                    </a:lnTo>
                    <a:lnTo>
                      <a:pt x="129" y="0"/>
                    </a:lnTo>
                    <a:lnTo>
                      <a:pt x="221" y="7"/>
                    </a:lnTo>
                    <a:lnTo>
                      <a:pt x="216" y="26"/>
                    </a:lnTo>
                    <a:lnTo>
                      <a:pt x="185" y="57"/>
                    </a:lnTo>
                    <a:lnTo>
                      <a:pt x="115" y="85"/>
                    </a:lnTo>
                    <a:lnTo>
                      <a:pt x="51" y="85"/>
                    </a:lnTo>
                    <a:lnTo>
                      <a:pt x="9" y="85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7239240" y="4804560"/>
                <a:ext cx="45000" cy="37080"/>
              </a:xfrm>
              <a:custGeom>
                <a:avLst/>
                <a:gdLst/>
                <a:ahLst/>
                <a:rect l="l" t="t" r="r" b="b"/>
                <a:pathLst>
                  <a:path w="546" h="352">
                    <a:moveTo>
                      <a:pt x="53" y="229"/>
                    </a:moveTo>
                    <a:lnTo>
                      <a:pt x="126" y="174"/>
                    </a:lnTo>
                    <a:lnTo>
                      <a:pt x="163" y="161"/>
                    </a:lnTo>
                    <a:lnTo>
                      <a:pt x="313" y="161"/>
                    </a:lnTo>
                    <a:lnTo>
                      <a:pt x="387" y="167"/>
                    </a:lnTo>
                    <a:lnTo>
                      <a:pt x="194" y="94"/>
                    </a:lnTo>
                    <a:lnTo>
                      <a:pt x="60" y="94"/>
                    </a:lnTo>
                    <a:lnTo>
                      <a:pt x="9" y="82"/>
                    </a:lnTo>
                    <a:lnTo>
                      <a:pt x="0" y="75"/>
                    </a:lnTo>
                    <a:lnTo>
                      <a:pt x="145" y="0"/>
                    </a:lnTo>
                    <a:lnTo>
                      <a:pt x="224" y="13"/>
                    </a:lnTo>
                    <a:lnTo>
                      <a:pt x="313" y="64"/>
                    </a:lnTo>
                    <a:lnTo>
                      <a:pt x="415" y="108"/>
                    </a:lnTo>
                    <a:lnTo>
                      <a:pt x="498" y="130"/>
                    </a:lnTo>
                    <a:lnTo>
                      <a:pt x="546" y="198"/>
                    </a:lnTo>
                    <a:lnTo>
                      <a:pt x="521" y="255"/>
                    </a:lnTo>
                    <a:lnTo>
                      <a:pt x="484" y="255"/>
                    </a:lnTo>
                    <a:lnTo>
                      <a:pt x="431" y="322"/>
                    </a:lnTo>
                    <a:lnTo>
                      <a:pt x="376" y="329"/>
                    </a:lnTo>
                    <a:lnTo>
                      <a:pt x="286" y="352"/>
                    </a:lnTo>
                    <a:lnTo>
                      <a:pt x="365" y="280"/>
                    </a:lnTo>
                    <a:lnTo>
                      <a:pt x="401" y="235"/>
                    </a:lnTo>
                    <a:lnTo>
                      <a:pt x="401" y="218"/>
                    </a:lnTo>
                    <a:lnTo>
                      <a:pt x="365" y="209"/>
                    </a:lnTo>
                    <a:lnTo>
                      <a:pt x="304" y="191"/>
                    </a:lnTo>
                    <a:lnTo>
                      <a:pt x="286" y="235"/>
                    </a:lnTo>
                    <a:lnTo>
                      <a:pt x="282" y="205"/>
                    </a:lnTo>
                    <a:lnTo>
                      <a:pt x="256" y="205"/>
                    </a:lnTo>
                    <a:lnTo>
                      <a:pt x="253" y="225"/>
                    </a:lnTo>
                    <a:lnTo>
                      <a:pt x="277" y="244"/>
                    </a:lnTo>
                    <a:lnTo>
                      <a:pt x="268" y="266"/>
                    </a:lnTo>
                    <a:lnTo>
                      <a:pt x="84" y="244"/>
                    </a:lnTo>
                    <a:lnTo>
                      <a:pt x="53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7247880" y="4834440"/>
                <a:ext cx="18360" cy="4680"/>
              </a:xfrm>
              <a:custGeom>
                <a:avLst/>
                <a:gdLst/>
                <a:ahLst/>
                <a:rect l="l" t="t" r="r" b="b"/>
                <a:pathLst>
                  <a:path w="224" h="49">
                    <a:moveTo>
                      <a:pt x="0" y="0"/>
                    </a:moveTo>
                    <a:lnTo>
                      <a:pt x="40" y="33"/>
                    </a:lnTo>
                    <a:lnTo>
                      <a:pt x="139" y="49"/>
                    </a:lnTo>
                    <a:lnTo>
                      <a:pt x="224" y="3"/>
                    </a:lnTo>
                    <a:lnTo>
                      <a:pt x="132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7266240" y="4824360"/>
                <a:ext cx="5040" cy="10080"/>
              </a:xfrm>
              <a:custGeom>
                <a:avLst/>
                <a:gdLst/>
                <a:ahLst/>
                <a:rect l="l" t="t" r="r" b="b"/>
                <a:pathLst>
                  <a:path w="64" h="98">
                    <a:moveTo>
                      <a:pt x="0" y="0"/>
                    </a:moveTo>
                    <a:lnTo>
                      <a:pt x="53" y="98"/>
                    </a:lnTo>
                    <a:lnTo>
                      <a:pt x="64" y="81"/>
                    </a:lnTo>
                    <a:lnTo>
                      <a:pt x="3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7288200" y="4823280"/>
                <a:ext cx="33480" cy="55080"/>
              </a:xfrm>
              <a:custGeom>
                <a:avLst/>
                <a:gdLst/>
                <a:ahLst/>
                <a:rect l="l" t="t" r="r" b="b"/>
                <a:pathLst>
                  <a:path w="406" h="514">
                    <a:moveTo>
                      <a:pt x="0" y="10"/>
                    </a:moveTo>
                    <a:lnTo>
                      <a:pt x="0" y="63"/>
                    </a:lnTo>
                    <a:lnTo>
                      <a:pt x="28" y="99"/>
                    </a:lnTo>
                    <a:lnTo>
                      <a:pt x="12" y="388"/>
                    </a:lnTo>
                    <a:lnTo>
                      <a:pt x="35" y="514"/>
                    </a:lnTo>
                    <a:lnTo>
                      <a:pt x="28" y="380"/>
                    </a:lnTo>
                    <a:lnTo>
                      <a:pt x="39" y="213"/>
                    </a:lnTo>
                    <a:lnTo>
                      <a:pt x="146" y="288"/>
                    </a:lnTo>
                    <a:lnTo>
                      <a:pt x="105" y="201"/>
                    </a:lnTo>
                    <a:lnTo>
                      <a:pt x="197" y="235"/>
                    </a:lnTo>
                    <a:lnTo>
                      <a:pt x="275" y="222"/>
                    </a:lnTo>
                    <a:lnTo>
                      <a:pt x="202" y="201"/>
                    </a:lnTo>
                    <a:lnTo>
                      <a:pt x="202" y="178"/>
                    </a:lnTo>
                    <a:lnTo>
                      <a:pt x="233" y="160"/>
                    </a:lnTo>
                    <a:lnTo>
                      <a:pt x="294" y="208"/>
                    </a:lnTo>
                    <a:lnTo>
                      <a:pt x="328" y="189"/>
                    </a:lnTo>
                    <a:lnTo>
                      <a:pt x="250" y="114"/>
                    </a:lnTo>
                    <a:lnTo>
                      <a:pt x="202" y="85"/>
                    </a:lnTo>
                    <a:lnTo>
                      <a:pt x="202" y="65"/>
                    </a:lnTo>
                    <a:lnTo>
                      <a:pt x="321" y="90"/>
                    </a:lnTo>
                    <a:lnTo>
                      <a:pt x="356" y="132"/>
                    </a:lnTo>
                    <a:lnTo>
                      <a:pt x="344" y="164"/>
                    </a:lnTo>
                    <a:lnTo>
                      <a:pt x="406" y="141"/>
                    </a:lnTo>
                    <a:lnTo>
                      <a:pt x="406" y="54"/>
                    </a:lnTo>
                    <a:lnTo>
                      <a:pt x="365" y="17"/>
                    </a:lnTo>
                    <a:lnTo>
                      <a:pt x="270" y="17"/>
                    </a:lnTo>
                    <a:lnTo>
                      <a:pt x="79" y="0"/>
                    </a:lnTo>
                    <a:lnTo>
                      <a:pt x="35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7286760" y="488196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44" h="62">
                    <a:moveTo>
                      <a:pt x="0" y="46"/>
                    </a:moveTo>
                    <a:lnTo>
                      <a:pt x="28" y="62"/>
                    </a:lnTo>
                    <a:lnTo>
                      <a:pt x="44" y="49"/>
                    </a:lnTo>
                    <a:lnTo>
                      <a:pt x="35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7242480" y="4875120"/>
                <a:ext cx="53640" cy="36360"/>
              </a:xfrm>
              <a:custGeom>
                <a:avLst/>
                <a:gdLst/>
                <a:ahLst/>
                <a:rect l="l" t="t" r="r" b="b"/>
                <a:pathLst>
                  <a:path w="647" h="347">
                    <a:moveTo>
                      <a:pt x="509" y="114"/>
                    </a:moveTo>
                    <a:lnTo>
                      <a:pt x="466" y="117"/>
                    </a:lnTo>
                    <a:lnTo>
                      <a:pt x="374" y="29"/>
                    </a:lnTo>
                    <a:lnTo>
                      <a:pt x="311" y="0"/>
                    </a:lnTo>
                    <a:lnTo>
                      <a:pt x="219" y="31"/>
                    </a:lnTo>
                    <a:lnTo>
                      <a:pt x="219" y="57"/>
                    </a:lnTo>
                    <a:lnTo>
                      <a:pt x="258" y="64"/>
                    </a:lnTo>
                    <a:lnTo>
                      <a:pt x="120" y="105"/>
                    </a:lnTo>
                    <a:lnTo>
                      <a:pt x="0" y="181"/>
                    </a:lnTo>
                    <a:lnTo>
                      <a:pt x="23" y="225"/>
                    </a:lnTo>
                    <a:lnTo>
                      <a:pt x="95" y="220"/>
                    </a:lnTo>
                    <a:lnTo>
                      <a:pt x="157" y="237"/>
                    </a:lnTo>
                    <a:lnTo>
                      <a:pt x="240" y="193"/>
                    </a:lnTo>
                    <a:lnTo>
                      <a:pt x="357" y="211"/>
                    </a:lnTo>
                    <a:lnTo>
                      <a:pt x="461" y="200"/>
                    </a:lnTo>
                    <a:lnTo>
                      <a:pt x="521" y="257"/>
                    </a:lnTo>
                    <a:lnTo>
                      <a:pt x="567" y="279"/>
                    </a:lnTo>
                    <a:lnTo>
                      <a:pt x="620" y="347"/>
                    </a:lnTo>
                    <a:lnTo>
                      <a:pt x="647" y="334"/>
                    </a:lnTo>
                    <a:lnTo>
                      <a:pt x="643" y="225"/>
                    </a:lnTo>
                    <a:lnTo>
                      <a:pt x="567" y="105"/>
                    </a:lnTo>
                    <a:lnTo>
                      <a:pt x="509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7272360" y="4858200"/>
                <a:ext cx="5760" cy="9360"/>
              </a:xfrm>
              <a:custGeom>
                <a:avLst/>
                <a:gdLst/>
                <a:ahLst/>
                <a:rect l="l" t="t" r="r" b="b"/>
                <a:pathLst>
                  <a:path w="72" h="86">
                    <a:moveTo>
                      <a:pt x="0" y="55"/>
                    </a:moveTo>
                    <a:lnTo>
                      <a:pt x="37" y="86"/>
                    </a:lnTo>
                    <a:lnTo>
                      <a:pt x="72" y="24"/>
                    </a:lnTo>
                    <a:lnTo>
                      <a:pt x="60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7260480" y="4903920"/>
                <a:ext cx="24840" cy="13320"/>
              </a:xfrm>
              <a:custGeom>
                <a:avLst/>
                <a:gdLst/>
                <a:ahLst/>
                <a:rect l="l" t="t" r="r" b="b"/>
                <a:pathLst>
                  <a:path w="302" h="129">
                    <a:moveTo>
                      <a:pt x="0" y="26"/>
                    </a:moveTo>
                    <a:lnTo>
                      <a:pt x="48" y="0"/>
                    </a:lnTo>
                    <a:lnTo>
                      <a:pt x="302" y="42"/>
                    </a:lnTo>
                    <a:lnTo>
                      <a:pt x="279" y="129"/>
                    </a:lnTo>
                    <a:lnTo>
                      <a:pt x="228" y="98"/>
                    </a:lnTo>
                    <a:lnTo>
                      <a:pt x="30" y="9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7219800" y="4715640"/>
                <a:ext cx="105120" cy="72720"/>
              </a:xfrm>
              <a:custGeom>
                <a:avLst/>
                <a:gdLst/>
                <a:ahLst/>
                <a:rect l="l" t="t" r="r" b="b"/>
                <a:pathLst>
                  <a:path w="1275" h="682">
                    <a:moveTo>
                      <a:pt x="934" y="170"/>
                    </a:moveTo>
                    <a:lnTo>
                      <a:pt x="1037" y="159"/>
                    </a:lnTo>
                    <a:lnTo>
                      <a:pt x="1037" y="136"/>
                    </a:lnTo>
                    <a:lnTo>
                      <a:pt x="970" y="92"/>
                    </a:lnTo>
                    <a:lnTo>
                      <a:pt x="834" y="42"/>
                    </a:lnTo>
                    <a:lnTo>
                      <a:pt x="730" y="25"/>
                    </a:lnTo>
                    <a:lnTo>
                      <a:pt x="431" y="7"/>
                    </a:lnTo>
                    <a:lnTo>
                      <a:pt x="652" y="0"/>
                    </a:lnTo>
                    <a:lnTo>
                      <a:pt x="868" y="18"/>
                    </a:lnTo>
                    <a:lnTo>
                      <a:pt x="1037" y="73"/>
                    </a:lnTo>
                    <a:lnTo>
                      <a:pt x="1157" y="154"/>
                    </a:lnTo>
                    <a:lnTo>
                      <a:pt x="1249" y="251"/>
                    </a:lnTo>
                    <a:lnTo>
                      <a:pt x="1275" y="325"/>
                    </a:lnTo>
                    <a:lnTo>
                      <a:pt x="1275" y="387"/>
                    </a:lnTo>
                    <a:lnTo>
                      <a:pt x="1217" y="449"/>
                    </a:lnTo>
                    <a:lnTo>
                      <a:pt x="1104" y="530"/>
                    </a:lnTo>
                    <a:lnTo>
                      <a:pt x="943" y="578"/>
                    </a:lnTo>
                    <a:lnTo>
                      <a:pt x="730" y="631"/>
                    </a:lnTo>
                    <a:lnTo>
                      <a:pt x="315" y="664"/>
                    </a:lnTo>
                    <a:lnTo>
                      <a:pt x="0" y="682"/>
                    </a:lnTo>
                    <a:lnTo>
                      <a:pt x="703" y="504"/>
                    </a:lnTo>
                    <a:lnTo>
                      <a:pt x="864" y="449"/>
                    </a:lnTo>
                    <a:lnTo>
                      <a:pt x="952" y="407"/>
                    </a:lnTo>
                    <a:lnTo>
                      <a:pt x="975" y="387"/>
                    </a:lnTo>
                    <a:lnTo>
                      <a:pt x="970" y="374"/>
                    </a:lnTo>
                    <a:lnTo>
                      <a:pt x="917" y="367"/>
                    </a:lnTo>
                    <a:lnTo>
                      <a:pt x="1074" y="325"/>
                    </a:lnTo>
                    <a:lnTo>
                      <a:pt x="1086" y="304"/>
                    </a:lnTo>
                    <a:lnTo>
                      <a:pt x="1157" y="306"/>
                    </a:lnTo>
                    <a:lnTo>
                      <a:pt x="1161" y="284"/>
                    </a:lnTo>
                    <a:lnTo>
                      <a:pt x="1136" y="271"/>
                    </a:lnTo>
                    <a:lnTo>
                      <a:pt x="1018" y="242"/>
                    </a:lnTo>
                    <a:lnTo>
                      <a:pt x="1123" y="242"/>
                    </a:lnTo>
                    <a:lnTo>
                      <a:pt x="1123" y="216"/>
                    </a:lnTo>
                    <a:lnTo>
                      <a:pt x="1044" y="189"/>
                    </a:lnTo>
                    <a:lnTo>
                      <a:pt x="934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7182000" y="4715640"/>
                <a:ext cx="115200" cy="144000"/>
              </a:xfrm>
              <a:custGeom>
                <a:avLst/>
                <a:gdLst/>
                <a:ahLst/>
                <a:rect l="l" t="t" r="r" b="b"/>
                <a:pathLst>
                  <a:path w="1400" h="1354">
                    <a:moveTo>
                      <a:pt x="585" y="668"/>
                    </a:moveTo>
                    <a:lnTo>
                      <a:pt x="486" y="811"/>
                    </a:lnTo>
                    <a:lnTo>
                      <a:pt x="468" y="885"/>
                    </a:lnTo>
                    <a:lnTo>
                      <a:pt x="413" y="947"/>
                    </a:lnTo>
                    <a:lnTo>
                      <a:pt x="352" y="1130"/>
                    </a:lnTo>
                    <a:lnTo>
                      <a:pt x="277" y="1118"/>
                    </a:lnTo>
                    <a:lnTo>
                      <a:pt x="233" y="1002"/>
                    </a:lnTo>
                    <a:lnTo>
                      <a:pt x="171" y="975"/>
                    </a:lnTo>
                    <a:lnTo>
                      <a:pt x="110" y="991"/>
                    </a:lnTo>
                    <a:lnTo>
                      <a:pt x="67" y="1064"/>
                    </a:lnTo>
                    <a:lnTo>
                      <a:pt x="97" y="1354"/>
                    </a:lnTo>
                    <a:lnTo>
                      <a:pt x="46" y="1263"/>
                    </a:lnTo>
                    <a:lnTo>
                      <a:pt x="0" y="730"/>
                    </a:lnTo>
                    <a:lnTo>
                      <a:pt x="40" y="627"/>
                    </a:lnTo>
                    <a:lnTo>
                      <a:pt x="110" y="438"/>
                    </a:lnTo>
                    <a:lnTo>
                      <a:pt x="270" y="242"/>
                    </a:lnTo>
                    <a:lnTo>
                      <a:pt x="486" y="71"/>
                    </a:lnTo>
                    <a:lnTo>
                      <a:pt x="754" y="11"/>
                    </a:lnTo>
                    <a:lnTo>
                      <a:pt x="976" y="0"/>
                    </a:lnTo>
                    <a:lnTo>
                      <a:pt x="1095" y="55"/>
                    </a:lnTo>
                    <a:lnTo>
                      <a:pt x="1160" y="124"/>
                    </a:lnTo>
                    <a:lnTo>
                      <a:pt x="1286" y="165"/>
                    </a:lnTo>
                    <a:lnTo>
                      <a:pt x="1240" y="165"/>
                    </a:lnTo>
                    <a:lnTo>
                      <a:pt x="1240" y="189"/>
                    </a:lnTo>
                    <a:lnTo>
                      <a:pt x="1342" y="223"/>
                    </a:lnTo>
                    <a:lnTo>
                      <a:pt x="1270" y="251"/>
                    </a:lnTo>
                    <a:lnTo>
                      <a:pt x="1277" y="271"/>
                    </a:lnTo>
                    <a:lnTo>
                      <a:pt x="1314" y="290"/>
                    </a:lnTo>
                    <a:lnTo>
                      <a:pt x="1229" y="318"/>
                    </a:lnTo>
                    <a:lnTo>
                      <a:pt x="1277" y="365"/>
                    </a:lnTo>
                    <a:lnTo>
                      <a:pt x="1125" y="403"/>
                    </a:lnTo>
                    <a:lnTo>
                      <a:pt x="1125" y="413"/>
                    </a:lnTo>
                    <a:lnTo>
                      <a:pt x="1266" y="424"/>
                    </a:lnTo>
                    <a:lnTo>
                      <a:pt x="1116" y="470"/>
                    </a:lnTo>
                    <a:lnTo>
                      <a:pt x="1400" y="438"/>
                    </a:lnTo>
                    <a:lnTo>
                      <a:pt x="1383" y="530"/>
                    </a:lnTo>
                    <a:lnTo>
                      <a:pt x="864" y="631"/>
                    </a:lnTo>
                    <a:lnTo>
                      <a:pt x="585" y="6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7290000" y="4763160"/>
                <a:ext cx="46800" cy="167040"/>
              </a:xfrm>
              <a:custGeom>
                <a:avLst/>
                <a:gdLst/>
                <a:ahLst/>
                <a:rect l="l" t="t" r="r" b="b"/>
                <a:pathLst>
                  <a:path w="567" h="1578">
                    <a:moveTo>
                      <a:pt x="320" y="150"/>
                    </a:moveTo>
                    <a:lnTo>
                      <a:pt x="358" y="245"/>
                    </a:lnTo>
                    <a:lnTo>
                      <a:pt x="358" y="635"/>
                    </a:lnTo>
                    <a:lnTo>
                      <a:pt x="304" y="761"/>
                    </a:lnTo>
                    <a:lnTo>
                      <a:pt x="304" y="904"/>
                    </a:lnTo>
                    <a:lnTo>
                      <a:pt x="239" y="1119"/>
                    </a:lnTo>
                    <a:lnTo>
                      <a:pt x="147" y="1255"/>
                    </a:lnTo>
                    <a:lnTo>
                      <a:pt x="0" y="1578"/>
                    </a:lnTo>
                    <a:lnTo>
                      <a:pt x="90" y="1471"/>
                    </a:lnTo>
                    <a:lnTo>
                      <a:pt x="198" y="1211"/>
                    </a:lnTo>
                    <a:lnTo>
                      <a:pt x="270" y="1105"/>
                    </a:lnTo>
                    <a:lnTo>
                      <a:pt x="341" y="941"/>
                    </a:lnTo>
                    <a:lnTo>
                      <a:pt x="341" y="794"/>
                    </a:lnTo>
                    <a:lnTo>
                      <a:pt x="484" y="704"/>
                    </a:lnTo>
                    <a:lnTo>
                      <a:pt x="567" y="455"/>
                    </a:lnTo>
                    <a:lnTo>
                      <a:pt x="567" y="261"/>
                    </a:lnTo>
                    <a:lnTo>
                      <a:pt x="558" y="121"/>
                    </a:lnTo>
                    <a:lnTo>
                      <a:pt x="532" y="42"/>
                    </a:lnTo>
                    <a:lnTo>
                      <a:pt x="468" y="0"/>
                    </a:lnTo>
                    <a:lnTo>
                      <a:pt x="521" y="60"/>
                    </a:lnTo>
                    <a:lnTo>
                      <a:pt x="532" y="110"/>
                    </a:lnTo>
                    <a:lnTo>
                      <a:pt x="521" y="139"/>
                    </a:lnTo>
                    <a:lnTo>
                      <a:pt x="444" y="90"/>
                    </a:lnTo>
                    <a:lnTo>
                      <a:pt x="437" y="97"/>
                    </a:lnTo>
                    <a:lnTo>
                      <a:pt x="488" y="178"/>
                    </a:lnTo>
                    <a:lnTo>
                      <a:pt x="505" y="305"/>
                    </a:lnTo>
                    <a:lnTo>
                      <a:pt x="505" y="429"/>
                    </a:lnTo>
                    <a:lnTo>
                      <a:pt x="468" y="275"/>
                    </a:lnTo>
                    <a:lnTo>
                      <a:pt x="345" y="110"/>
                    </a:lnTo>
                    <a:lnTo>
                      <a:pt x="320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7199280" y="4860000"/>
                <a:ext cx="87480" cy="110880"/>
              </a:xfrm>
              <a:custGeom>
                <a:avLst/>
                <a:gdLst/>
                <a:ahLst/>
                <a:rect l="l" t="t" r="r" b="b"/>
                <a:pathLst>
                  <a:path w="1057" h="1050">
                    <a:moveTo>
                      <a:pt x="90" y="0"/>
                    </a:moveTo>
                    <a:lnTo>
                      <a:pt x="68" y="195"/>
                    </a:lnTo>
                    <a:lnTo>
                      <a:pt x="72" y="281"/>
                    </a:lnTo>
                    <a:lnTo>
                      <a:pt x="105" y="356"/>
                    </a:lnTo>
                    <a:lnTo>
                      <a:pt x="158" y="424"/>
                    </a:lnTo>
                    <a:lnTo>
                      <a:pt x="259" y="506"/>
                    </a:lnTo>
                    <a:lnTo>
                      <a:pt x="558" y="651"/>
                    </a:lnTo>
                    <a:lnTo>
                      <a:pt x="842" y="758"/>
                    </a:lnTo>
                    <a:lnTo>
                      <a:pt x="925" y="762"/>
                    </a:lnTo>
                    <a:lnTo>
                      <a:pt x="995" y="758"/>
                    </a:lnTo>
                    <a:lnTo>
                      <a:pt x="1057" y="730"/>
                    </a:lnTo>
                    <a:lnTo>
                      <a:pt x="1006" y="767"/>
                    </a:lnTo>
                    <a:lnTo>
                      <a:pt x="944" y="783"/>
                    </a:lnTo>
                    <a:lnTo>
                      <a:pt x="863" y="785"/>
                    </a:lnTo>
                    <a:lnTo>
                      <a:pt x="753" y="767"/>
                    </a:lnTo>
                    <a:lnTo>
                      <a:pt x="753" y="817"/>
                    </a:lnTo>
                    <a:lnTo>
                      <a:pt x="738" y="882"/>
                    </a:lnTo>
                    <a:lnTo>
                      <a:pt x="661" y="1009"/>
                    </a:lnTo>
                    <a:lnTo>
                      <a:pt x="704" y="901"/>
                    </a:lnTo>
                    <a:lnTo>
                      <a:pt x="709" y="824"/>
                    </a:lnTo>
                    <a:lnTo>
                      <a:pt x="624" y="861"/>
                    </a:lnTo>
                    <a:lnTo>
                      <a:pt x="624" y="978"/>
                    </a:lnTo>
                    <a:lnTo>
                      <a:pt x="598" y="1013"/>
                    </a:lnTo>
                    <a:lnTo>
                      <a:pt x="624" y="1050"/>
                    </a:lnTo>
                    <a:lnTo>
                      <a:pt x="591" y="1050"/>
                    </a:lnTo>
                    <a:lnTo>
                      <a:pt x="506" y="1009"/>
                    </a:lnTo>
                    <a:lnTo>
                      <a:pt x="328" y="843"/>
                    </a:lnTo>
                    <a:lnTo>
                      <a:pt x="215" y="721"/>
                    </a:lnTo>
                    <a:lnTo>
                      <a:pt x="98" y="567"/>
                    </a:lnTo>
                    <a:lnTo>
                      <a:pt x="0" y="370"/>
                    </a:lnTo>
                    <a:lnTo>
                      <a:pt x="107" y="541"/>
                    </a:lnTo>
                    <a:lnTo>
                      <a:pt x="204" y="633"/>
                    </a:lnTo>
                    <a:lnTo>
                      <a:pt x="81" y="411"/>
                    </a:lnTo>
                    <a:lnTo>
                      <a:pt x="52" y="288"/>
                    </a:lnTo>
                    <a:lnTo>
                      <a:pt x="52" y="213"/>
                    </a:lnTo>
                    <a:lnTo>
                      <a:pt x="68" y="91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7191360" y="4827960"/>
                <a:ext cx="14400" cy="32760"/>
              </a:xfrm>
              <a:custGeom>
                <a:avLst/>
                <a:gdLst/>
                <a:ahLst/>
                <a:rect l="l" t="t" r="r" b="b"/>
                <a:pathLst>
                  <a:path w="180" h="312">
                    <a:moveTo>
                      <a:pt x="37" y="0"/>
                    </a:moveTo>
                    <a:lnTo>
                      <a:pt x="88" y="7"/>
                    </a:lnTo>
                    <a:lnTo>
                      <a:pt x="175" y="62"/>
                    </a:lnTo>
                    <a:lnTo>
                      <a:pt x="180" y="164"/>
                    </a:lnTo>
                    <a:lnTo>
                      <a:pt x="146" y="147"/>
                    </a:lnTo>
                    <a:lnTo>
                      <a:pt x="136" y="134"/>
                    </a:lnTo>
                    <a:lnTo>
                      <a:pt x="94" y="171"/>
                    </a:lnTo>
                    <a:lnTo>
                      <a:pt x="94" y="185"/>
                    </a:lnTo>
                    <a:lnTo>
                      <a:pt x="125" y="204"/>
                    </a:lnTo>
                    <a:lnTo>
                      <a:pt x="155" y="301"/>
                    </a:lnTo>
                    <a:lnTo>
                      <a:pt x="132" y="312"/>
                    </a:lnTo>
                    <a:lnTo>
                      <a:pt x="100" y="257"/>
                    </a:lnTo>
                    <a:lnTo>
                      <a:pt x="19" y="233"/>
                    </a:lnTo>
                    <a:lnTo>
                      <a:pt x="0" y="111"/>
                    </a:lnTo>
                    <a:lnTo>
                      <a:pt x="19" y="95"/>
                    </a:lnTo>
                    <a:lnTo>
                      <a:pt x="105" y="53"/>
                    </a:lnTo>
                    <a:lnTo>
                      <a:pt x="81" y="26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7192800" y="485928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69" h="17">
                    <a:moveTo>
                      <a:pt x="0" y="0"/>
                    </a:moveTo>
                    <a:lnTo>
                      <a:pt x="69" y="17"/>
                    </a:lnTo>
                    <a:lnTo>
                      <a:pt x="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7191360" y="4867560"/>
                <a:ext cx="11880" cy="20160"/>
              </a:xfrm>
              <a:custGeom>
                <a:avLst/>
                <a:gdLst/>
                <a:ahLst/>
                <a:rect l="l" t="t" r="r" b="b"/>
                <a:pathLst>
                  <a:path w="143" h="195">
                    <a:moveTo>
                      <a:pt x="0" y="0"/>
                    </a:moveTo>
                    <a:lnTo>
                      <a:pt x="26" y="23"/>
                    </a:lnTo>
                    <a:lnTo>
                      <a:pt x="67" y="37"/>
                    </a:lnTo>
                    <a:lnTo>
                      <a:pt x="143" y="18"/>
                    </a:lnTo>
                    <a:lnTo>
                      <a:pt x="114" y="85"/>
                    </a:lnTo>
                    <a:lnTo>
                      <a:pt x="61" y="103"/>
                    </a:lnTo>
                    <a:lnTo>
                      <a:pt x="33" y="195"/>
                    </a:lnTo>
                    <a:lnTo>
                      <a:pt x="6" y="140"/>
                    </a:lnTo>
                    <a:lnTo>
                      <a:pt x="6" y="112"/>
                    </a:lnTo>
                    <a:lnTo>
                      <a:pt x="33" y="85"/>
                    </a:lnTo>
                    <a:lnTo>
                      <a:pt x="15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7211520" y="4830120"/>
                <a:ext cx="576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7212600" y="4825080"/>
                <a:ext cx="8640" cy="35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7218000" y="4835160"/>
                <a:ext cx="7920" cy="27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7223400" y="4845600"/>
                <a:ext cx="5760" cy="18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7253640" y="4786200"/>
                <a:ext cx="60840" cy="17640"/>
              </a:xfrm>
              <a:custGeom>
                <a:avLst/>
                <a:gdLst/>
                <a:ahLst/>
                <a:rect l="l" t="t" r="r" b="b"/>
                <a:pathLst>
                  <a:path w="743" h="165">
                    <a:moveTo>
                      <a:pt x="0" y="0"/>
                    </a:moveTo>
                    <a:lnTo>
                      <a:pt x="116" y="18"/>
                    </a:lnTo>
                    <a:lnTo>
                      <a:pt x="351" y="101"/>
                    </a:lnTo>
                    <a:lnTo>
                      <a:pt x="519" y="138"/>
                    </a:lnTo>
                    <a:lnTo>
                      <a:pt x="743" y="16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7266240" y="4783680"/>
                <a:ext cx="40320" cy="14400"/>
              </a:xfrm>
              <a:custGeom>
                <a:avLst/>
                <a:gdLst/>
                <a:ahLst/>
                <a:rect l="l" t="t" r="r" b="b"/>
                <a:pathLst>
                  <a:path w="491" h="134">
                    <a:moveTo>
                      <a:pt x="0" y="0"/>
                    </a:moveTo>
                    <a:lnTo>
                      <a:pt x="82" y="28"/>
                    </a:lnTo>
                    <a:lnTo>
                      <a:pt x="260" y="88"/>
                    </a:lnTo>
                    <a:lnTo>
                      <a:pt x="491" y="1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7158240" y="4888080"/>
                <a:ext cx="29520" cy="61560"/>
              </a:xfrm>
              <a:custGeom>
                <a:avLst/>
                <a:gdLst/>
                <a:ahLst/>
                <a:rect l="l" t="t" r="r" b="b"/>
                <a:pathLst>
                  <a:path w="365" h="579">
                    <a:moveTo>
                      <a:pt x="365" y="0"/>
                    </a:moveTo>
                    <a:lnTo>
                      <a:pt x="277" y="129"/>
                    </a:lnTo>
                    <a:lnTo>
                      <a:pt x="277" y="265"/>
                    </a:lnTo>
                    <a:lnTo>
                      <a:pt x="350" y="579"/>
                    </a:lnTo>
                    <a:lnTo>
                      <a:pt x="224" y="290"/>
                    </a:lnTo>
                    <a:lnTo>
                      <a:pt x="224" y="199"/>
                    </a:lnTo>
                    <a:lnTo>
                      <a:pt x="0" y="199"/>
                    </a:lnTo>
                    <a:lnTo>
                      <a:pt x="187" y="76"/>
                    </a:lnTo>
                    <a:lnTo>
                      <a:pt x="277" y="76"/>
                    </a:lnTo>
                    <a:lnTo>
                      <a:pt x="3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7039080" y="4927680"/>
                <a:ext cx="348480" cy="420120"/>
              </a:xfrm>
              <a:custGeom>
                <a:avLst/>
                <a:gdLst/>
                <a:ahLst/>
                <a:rect l="l" t="t" r="r" b="b"/>
                <a:pathLst>
                  <a:path w="4215" h="3969">
                    <a:moveTo>
                      <a:pt x="1158" y="0"/>
                    </a:moveTo>
                    <a:lnTo>
                      <a:pt x="897" y="255"/>
                    </a:lnTo>
                    <a:lnTo>
                      <a:pt x="743" y="466"/>
                    </a:lnTo>
                    <a:lnTo>
                      <a:pt x="743" y="706"/>
                    </a:lnTo>
                    <a:lnTo>
                      <a:pt x="920" y="591"/>
                    </a:lnTo>
                    <a:lnTo>
                      <a:pt x="920" y="756"/>
                    </a:lnTo>
                    <a:lnTo>
                      <a:pt x="1314" y="1684"/>
                    </a:lnTo>
                    <a:lnTo>
                      <a:pt x="1224" y="1582"/>
                    </a:lnTo>
                    <a:lnTo>
                      <a:pt x="1134" y="1582"/>
                    </a:lnTo>
                    <a:lnTo>
                      <a:pt x="1072" y="1610"/>
                    </a:lnTo>
                    <a:lnTo>
                      <a:pt x="1031" y="1644"/>
                    </a:lnTo>
                    <a:lnTo>
                      <a:pt x="1174" y="1960"/>
                    </a:lnTo>
                    <a:lnTo>
                      <a:pt x="1448" y="2451"/>
                    </a:lnTo>
                    <a:lnTo>
                      <a:pt x="1868" y="2890"/>
                    </a:lnTo>
                    <a:lnTo>
                      <a:pt x="2031" y="3026"/>
                    </a:lnTo>
                    <a:lnTo>
                      <a:pt x="2031" y="3116"/>
                    </a:lnTo>
                    <a:lnTo>
                      <a:pt x="1930" y="3239"/>
                    </a:lnTo>
                    <a:lnTo>
                      <a:pt x="1930" y="3380"/>
                    </a:lnTo>
                    <a:lnTo>
                      <a:pt x="2129" y="3343"/>
                    </a:lnTo>
                    <a:lnTo>
                      <a:pt x="2158" y="3295"/>
                    </a:lnTo>
                    <a:lnTo>
                      <a:pt x="2145" y="3228"/>
                    </a:lnTo>
                    <a:lnTo>
                      <a:pt x="2094" y="3191"/>
                    </a:lnTo>
                    <a:lnTo>
                      <a:pt x="2296" y="3239"/>
                    </a:lnTo>
                    <a:lnTo>
                      <a:pt x="2435" y="3228"/>
                    </a:lnTo>
                    <a:lnTo>
                      <a:pt x="2575" y="3178"/>
                    </a:lnTo>
                    <a:lnTo>
                      <a:pt x="2712" y="3065"/>
                    </a:lnTo>
                    <a:lnTo>
                      <a:pt x="2815" y="2967"/>
                    </a:lnTo>
                    <a:lnTo>
                      <a:pt x="2749" y="3076"/>
                    </a:lnTo>
                    <a:lnTo>
                      <a:pt x="2700" y="3166"/>
                    </a:lnTo>
                    <a:lnTo>
                      <a:pt x="2903" y="3191"/>
                    </a:lnTo>
                    <a:lnTo>
                      <a:pt x="3154" y="3203"/>
                    </a:lnTo>
                    <a:lnTo>
                      <a:pt x="3357" y="3154"/>
                    </a:lnTo>
                    <a:lnTo>
                      <a:pt x="3433" y="2855"/>
                    </a:lnTo>
                    <a:lnTo>
                      <a:pt x="3468" y="2855"/>
                    </a:lnTo>
                    <a:lnTo>
                      <a:pt x="3494" y="2890"/>
                    </a:lnTo>
                    <a:lnTo>
                      <a:pt x="3521" y="2991"/>
                    </a:lnTo>
                    <a:lnTo>
                      <a:pt x="3535" y="3076"/>
                    </a:lnTo>
                    <a:lnTo>
                      <a:pt x="4203" y="3039"/>
                    </a:lnTo>
                    <a:lnTo>
                      <a:pt x="4215" y="3116"/>
                    </a:lnTo>
                    <a:lnTo>
                      <a:pt x="4215" y="3178"/>
                    </a:lnTo>
                    <a:lnTo>
                      <a:pt x="4189" y="3254"/>
                    </a:lnTo>
                    <a:lnTo>
                      <a:pt x="4037" y="3265"/>
                    </a:lnTo>
                    <a:lnTo>
                      <a:pt x="3913" y="3343"/>
                    </a:lnTo>
                    <a:lnTo>
                      <a:pt x="3683" y="3390"/>
                    </a:lnTo>
                    <a:lnTo>
                      <a:pt x="3481" y="3380"/>
                    </a:lnTo>
                    <a:lnTo>
                      <a:pt x="3281" y="3441"/>
                    </a:lnTo>
                    <a:lnTo>
                      <a:pt x="3105" y="3481"/>
                    </a:lnTo>
                    <a:lnTo>
                      <a:pt x="2852" y="3492"/>
                    </a:lnTo>
                    <a:lnTo>
                      <a:pt x="2547" y="3457"/>
                    </a:lnTo>
                    <a:lnTo>
                      <a:pt x="2320" y="3481"/>
                    </a:lnTo>
                    <a:lnTo>
                      <a:pt x="2129" y="3542"/>
                    </a:lnTo>
                    <a:lnTo>
                      <a:pt x="1990" y="3620"/>
                    </a:lnTo>
                    <a:lnTo>
                      <a:pt x="1615" y="3516"/>
                    </a:lnTo>
                    <a:lnTo>
                      <a:pt x="681" y="3969"/>
                    </a:lnTo>
                    <a:lnTo>
                      <a:pt x="0" y="3969"/>
                    </a:lnTo>
                    <a:lnTo>
                      <a:pt x="176" y="1723"/>
                    </a:lnTo>
                    <a:lnTo>
                      <a:pt x="328" y="1244"/>
                    </a:lnTo>
                    <a:lnTo>
                      <a:pt x="266" y="1558"/>
                    </a:lnTo>
                    <a:lnTo>
                      <a:pt x="418" y="2059"/>
                    </a:lnTo>
                    <a:lnTo>
                      <a:pt x="418" y="2500"/>
                    </a:lnTo>
                    <a:lnTo>
                      <a:pt x="591" y="2977"/>
                    </a:lnTo>
                    <a:lnTo>
                      <a:pt x="681" y="2977"/>
                    </a:lnTo>
                    <a:lnTo>
                      <a:pt x="907" y="2488"/>
                    </a:lnTo>
                    <a:lnTo>
                      <a:pt x="602" y="1886"/>
                    </a:lnTo>
                    <a:lnTo>
                      <a:pt x="556" y="1697"/>
                    </a:lnTo>
                    <a:lnTo>
                      <a:pt x="528" y="1497"/>
                    </a:lnTo>
                    <a:lnTo>
                      <a:pt x="556" y="1281"/>
                    </a:lnTo>
                    <a:lnTo>
                      <a:pt x="681" y="780"/>
                    </a:lnTo>
                    <a:lnTo>
                      <a:pt x="618" y="729"/>
                    </a:lnTo>
                    <a:lnTo>
                      <a:pt x="577" y="665"/>
                    </a:lnTo>
                    <a:lnTo>
                      <a:pt x="567" y="618"/>
                    </a:lnTo>
                    <a:lnTo>
                      <a:pt x="441" y="905"/>
                    </a:lnTo>
                    <a:lnTo>
                      <a:pt x="540" y="591"/>
                    </a:lnTo>
                    <a:lnTo>
                      <a:pt x="591" y="517"/>
                    </a:lnTo>
                    <a:lnTo>
                      <a:pt x="769" y="317"/>
                    </a:lnTo>
                    <a:lnTo>
                      <a:pt x="943" y="139"/>
                    </a:lnTo>
                    <a:lnTo>
                      <a:pt x="11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7151760" y="4980240"/>
                <a:ext cx="107640" cy="224640"/>
              </a:xfrm>
              <a:custGeom>
                <a:avLst/>
                <a:gdLst/>
                <a:ahLst/>
                <a:rect l="l" t="t" r="r" b="b"/>
                <a:pathLst>
                  <a:path w="1300" h="2125">
                    <a:moveTo>
                      <a:pt x="0" y="140"/>
                    </a:moveTo>
                    <a:lnTo>
                      <a:pt x="378" y="378"/>
                    </a:lnTo>
                    <a:lnTo>
                      <a:pt x="641" y="829"/>
                    </a:lnTo>
                    <a:lnTo>
                      <a:pt x="641" y="1020"/>
                    </a:lnTo>
                    <a:lnTo>
                      <a:pt x="984" y="1318"/>
                    </a:lnTo>
                    <a:lnTo>
                      <a:pt x="1111" y="1556"/>
                    </a:lnTo>
                    <a:lnTo>
                      <a:pt x="1083" y="967"/>
                    </a:lnTo>
                    <a:lnTo>
                      <a:pt x="1083" y="589"/>
                    </a:lnTo>
                    <a:lnTo>
                      <a:pt x="1111" y="327"/>
                    </a:lnTo>
                    <a:lnTo>
                      <a:pt x="1072" y="266"/>
                    </a:lnTo>
                    <a:lnTo>
                      <a:pt x="984" y="378"/>
                    </a:lnTo>
                    <a:lnTo>
                      <a:pt x="906" y="424"/>
                    </a:lnTo>
                    <a:lnTo>
                      <a:pt x="998" y="327"/>
                    </a:lnTo>
                    <a:lnTo>
                      <a:pt x="1072" y="165"/>
                    </a:lnTo>
                    <a:lnTo>
                      <a:pt x="1160" y="27"/>
                    </a:lnTo>
                    <a:lnTo>
                      <a:pt x="1212" y="0"/>
                    </a:lnTo>
                    <a:lnTo>
                      <a:pt x="1160" y="80"/>
                    </a:lnTo>
                    <a:lnTo>
                      <a:pt x="1224" y="304"/>
                    </a:lnTo>
                    <a:lnTo>
                      <a:pt x="1160" y="304"/>
                    </a:lnTo>
                    <a:lnTo>
                      <a:pt x="1146" y="516"/>
                    </a:lnTo>
                    <a:lnTo>
                      <a:pt x="1184" y="1120"/>
                    </a:lnTo>
                    <a:lnTo>
                      <a:pt x="1247" y="1723"/>
                    </a:lnTo>
                    <a:lnTo>
                      <a:pt x="1300" y="1910"/>
                    </a:lnTo>
                    <a:lnTo>
                      <a:pt x="1035" y="2059"/>
                    </a:lnTo>
                    <a:lnTo>
                      <a:pt x="1146" y="1961"/>
                    </a:lnTo>
                    <a:lnTo>
                      <a:pt x="1095" y="1881"/>
                    </a:lnTo>
                    <a:lnTo>
                      <a:pt x="971" y="1910"/>
                    </a:lnTo>
                    <a:lnTo>
                      <a:pt x="694" y="2099"/>
                    </a:lnTo>
                    <a:lnTo>
                      <a:pt x="606" y="2125"/>
                    </a:lnTo>
                    <a:lnTo>
                      <a:pt x="593" y="2086"/>
                    </a:lnTo>
                    <a:lnTo>
                      <a:pt x="756" y="1934"/>
                    </a:lnTo>
                    <a:lnTo>
                      <a:pt x="1095" y="1821"/>
                    </a:lnTo>
                    <a:lnTo>
                      <a:pt x="1045" y="1685"/>
                    </a:lnTo>
                    <a:lnTo>
                      <a:pt x="1045" y="1547"/>
                    </a:lnTo>
                    <a:lnTo>
                      <a:pt x="998" y="1470"/>
                    </a:lnTo>
                    <a:lnTo>
                      <a:pt x="606" y="1169"/>
                    </a:lnTo>
                    <a:lnTo>
                      <a:pt x="138" y="841"/>
                    </a:lnTo>
                    <a:lnTo>
                      <a:pt x="657" y="1154"/>
                    </a:lnTo>
                    <a:lnTo>
                      <a:pt x="390" y="463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7217280" y="5203080"/>
                <a:ext cx="17280" cy="49680"/>
              </a:xfrm>
              <a:custGeom>
                <a:avLst/>
                <a:gdLst/>
                <a:ahLst/>
                <a:rect l="l" t="t" r="r" b="b"/>
                <a:pathLst>
                  <a:path w="203" h="466">
                    <a:moveTo>
                      <a:pt x="203" y="0"/>
                    </a:moveTo>
                    <a:lnTo>
                      <a:pt x="111" y="51"/>
                    </a:lnTo>
                    <a:lnTo>
                      <a:pt x="0" y="403"/>
                    </a:lnTo>
                    <a:lnTo>
                      <a:pt x="99" y="466"/>
                    </a:lnTo>
                    <a:lnTo>
                      <a:pt x="203" y="378"/>
                    </a:lnTo>
                    <a:lnTo>
                      <a:pt x="203" y="136"/>
                    </a:lnTo>
                    <a:lnTo>
                      <a:pt x="152" y="136"/>
                    </a:lnTo>
                    <a:lnTo>
                      <a:pt x="152" y="76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7235280" y="5190480"/>
                <a:ext cx="41760" cy="63360"/>
              </a:xfrm>
              <a:custGeom>
                <a:avLst/>
                <a:gdLst/>
                <a:ahLst/>
                <a:rect l="l" t="t" r="r" b="b"/>
                <a:pathLst>
                  <a:path w="506" h="599">
                    <a:moveTo>
                      <a:pt x="138" y="162"/>
                    </a:moveTo>
                    <a:lnTo>
                      <a:pt x="317" y="0"/>
                    </a:lnTo>
                    <a:lnTo>
                      <a:pt x="506" y="72"/>
                    </a:lnTo>
                    <a:lnTo>
                      <a:pt x="506" y="173"/>
                    </a:lnTo>
                    <a:lnTo>
                      <a:pt x="391" y="325"/>
                    </a:lnTo>
                    <a:lnTo>
                      <a:pt x="0" y="599"/>
                    </a:lnTo>
                    <a:lnTo>
                      <a:pt x="279" y="364"/>
                    </a:lnTo>
                    <a:lnTo>
                      <a:pt x="317" y="274"/>
                    </a:lnTo>
                    <a:lnTo>
                      <a:pt x="329" y="198"/>
                    </a:lnTo>
                    <a:lnTo>
                      <a:pt x="317" y="138"/>
                    </a:lnTo>
                    <a:lnTo>
                      <a:pt x="279" y="112"/>
                    </a:lnTo>
                    <a:lnTo>
                      <a:pt x="230" y="112"/>
                    </a:lnTo>
                    <a:lnTo>
                      <a:pt x="138" y="1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7284240" y="5167800"/>
                <a:ext cx="257760" cy="105120"/>
              </a:xfrm>
              <a:custGeom>
                <a:avLst/>
                <a:gdLst/>
                <a:ahLst/>
                <a:rect l="l" t="t" r="r" b="b"/>
                <a:pathLst>
                  <a:path w="3106" h="992">
                    <a:moveTo>
                      <a:pt x="0" y="215"/>
                    </a:moveTo>
                    <a:lnTo>
                      <a:pt x="430" y="377"/>
                    </a:lnTo>
                    <a:lnTo>
                      <a:pt x="540" y="268"/>
                    </a:lnTo>
                    <a:lnTo>
                      <a:pt x="770" y="268"/>
                    </a:lnTo>
                    <a:lnTo>
                      <a:pt x="896" y="364"/>
                    </a:lnTo>
                    <a:lnTo>
                      <a:pt x="1010" y="327"/>
                    </a:lnTo>
                    <a:lnTo>
                      <a:pt x="1603" y="314"/>
                    </a:lnTo>
                    <a:lnTo>
                      <a:pt x="2017" y="226"/>
                    </a:lnTo>
                    <a:lnTo>
                      <a:pt x="2589" y="0"/>
                    </a:lnTo>
                    <a:lnTo>
                      <a:pt x="2663" y="49"/>
                    </a:lnTo>
                    <a:lnTo>
                      <a:pt x="2676" y="100"/>
                    </a:lnTo>
                    <a:lnTo>
                      <a:pt x="2614" y="162"/>
                    </a:lnTo>
                    <a:lnTo>
                      <a:pt x="2689" y="238"/>
                    </a:lnTo>
                    <a:lnTo>
                      <a:pt x="2713" y="302"/>
                    </a:lnTo>
                    <a:lnTo>
                      <a:pt x="2689" y="377"/>
                    </a:lnTo>
                    <a:lnTo>
                      <a:pt x="3091" y="413"/>
                    </a:lnTo>
                    <a:lnTo>
                      <a:pt x="3106" y="439"/>
                    </a:lnTo>
                    <a:lnTo>
                      <a:pt x="2689" y="461"/>
                    </a:lnTo>
                    <a:lnTo>
                      <a:pt x="2689" y="500"/>
                    </a:lnTo>
                    <a:lnTo>
                      <a:pt x="2713" y="540"/>
                    </a:lnTo>
                    <a:lnTo>
                      <a:pt x="3078" y="553"/>
                    </a:lnTo>
                    <a:lnTo>
                      <a:pt x="3043" y="602"/>
                    </a:lnTo>
                    <a:lnTo>
                      <a:pt x="2737" y="665"/>
                    </a:lnTo>
                    <a:lnTo>
                      <a:pt x="2737" y="715"/>
                    </a:lnTo>
                    <a:lnTo>
                      <a:pt x="2953" y="715"/>
                    </a:lnTo>
                    <a:lnTo>
                      <a:pt x="2977" y="680"/>
                    </a:lnTo>
                    <a:lnTo>
                      <a:pt x="2965" y="740"/>
                    </a:lnTo>
                    <a:lnTo>
                      <a:pt x="2589" y="791"/>
                    </a:lnTo>
                    <a:lnTo>
                      <a:pt x="2160" y="814"/>
                    </a:lnTo>
                    <a:lnTo>
                      <a:pt x="1992" y="814"/>
                    </a:lnTo>
                    <a:lnTo>
                      <a:pt x="1753" y="854"/>
                    </a:lnTo>
                    <a:lnTo>
                      <a:pt x="1676" y="992"/>
                    </a:lnTo>
                    <a:lnTo>
                      <a:pt x="1314" y="992"/>
                    </a:lnTo>
                    <a:lnTo>
                      <a:pt x="1641" y="953"/>
                    </a:lnTo>
                    <a:lnTo>
                      <a:pt x="1692" y="867"/>
                    </a:lnTo>
                    <a:lnTo>
                      <a:pt x="1715" y="752"/>
                    </a:lnTo>
                    <a:lnTo>
                      <a:pt x="1715" y="641"/>
                    </a:lnTo>
                    <a:lnTo>
                      <a:pt x="1676" y="489"/>
                    </a:lnTo>
                    <a:lnTo>
                      <a:pt x="1630" y="364"/>
                    </a:lnTo>
                    <a:lnTo>
                      <a:pt x="1010" y="377"/>
                    </a:lnTo>
                    <a:lnTo>
                      <a:pt x="881" y="401"/>
                    </a:lnTo>
                    <a:lnTo>
                      <a:pt x="669" y="314"/>
                    </a:lnTo>
                    <a:lnTo>
                      <a:pt x="468" y="473"/>
                    </a:lnTo>
                    <a:lnTo>
                      <a:pt x="415" y="401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7355880" y="5221080"/>
                <a:ext cx="29520" cy="15120"/>
              </a:xfrm>
              <a:custGeom>
                <a:avLst/>
                <a:gdLst/>
                <a:ahLst/>
                <a:rect l="l" t="t" r="r" b="b"/>
                <a:pathLst>
                  <a:path w="366" h="150">
                    <a:moveTo>
                      <a:pt x="366" y="114"/>
                    </a:moveTo>
                    <a:lnTo>
                      <a:pt x="200" y="0"/>
                    </a:lnTo>
                    <a:lnTo>
                      <a:pt x="0" y="40"/>
                    </a:lnTo>
                    <a:lnTo>
                      <a:pt x="38" y="93"/>
                    </a:lnTo>
                    <a:lnTo>
                      <a:pt x="302" y="150"/>
                    </a:lnTo>
                    <a:lnTo>
                      <a:pt x="366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7254360" y="4957200"/>
                <a:ext cx="25560" cy="231120"/>
              </a:xfrm>
              <a:custGeom>
                <a:avLst/>
                <a:gdLst/>
                <a:ahLst/>
                <a:rect l="l" t="t" r="r" b="b"/>
                <a:pathLst>
                  <a:path w="315" h="2186">
                    <a:moveTo>
                      <a:pt x="175" y="2133"/>
                    </a:moveTo>
                    <a:lnTo>
                      <a:pt x="214" y="2085"/>
                    </a:lnTo>
                    <a:lnTo>
                      <a:pt x="214" y="1958"/>
                    </a:lnTo>
                    <a:lnTo>
                      <a:pt x="124" y="1633"/>
                    </a:lnTo>
                    <a:lnTo>
                      <a:pt x="62" y="1180"/>
                    </a:lnTo>
                    <a:lnTo>
                      <a:pt x="49" y="796"/>
                    </a:lnTo>
                    <a:lnTo>
                      <a:pt x="21" y="540"/>
                    </a:lnTo>
                    <a:lnTo>
                      <a:pt x="49" y="466"/>
                    </a:lnTo>
                    <a:lnTo>
                      <a:pt x="49" y="325"/>
                    </a:lnTo>
                    <a:lnTo>
                      <a:pt x="0" y="213"/>
                    </a:lnTo>
                    <a:lnTo>
                      <a:pt x="73" y="277"/>
                    </a:lnTo>
                    <a:lnTo>
                      <a:pt x="99" y="213"/>
                    </a:lnTo>
                    <a:lnTo>
                      <a:pt x="111" y="127"/>
                    </a:lnTo>
                    <a:lnTo>
                      <a:pt x="111" y="0"/>
                    </a:lnTo>
                    <a:lnTo>
                      <a:pt x="124" y="104"/>
                    </a:lnTo>
                    <a:lnTo>
                      <a:pt x="136" y="213"/>
                    </a:lnTo>
                    <a:lnTo>
                      <a:pt x="111" y="341"/>
                    </a:lnTo>
                    <a:lnTo>
                      <a:pt x="73" y="466"/>
                    </a:lnTo>
                    <a:lnTo>
                      <a:pt x="49" y="551"/>
                    </a:lnTo>
                    <a:lnTo>
                      <a:pt x="111" y="1292"/>
                    </a:lnTo>
                    <a:lnTo>
                      <a:pt x="185" y="1732"/>
                    </a:lnTo>
                    <a:lnTo>
                      <a:pt x="262" y="1958"/>
                    </a:lnTo>
                    <a:lnTo>
                      <a:pt x="315" y="2186"/>
                    </a:lnTo>
                    <a:lnTo>
                      <a:pt x="175" y="2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7281000" y="4940280"/>
                <a:ext cx="143640" cy="259920"/>
              </a:xfrm>
              <a:custGeom>
                <a:avLst/>
                <a:gdLst/>
                <a:ahLst/>
                <a:rect l="l" t="t" r="r" b="b"/>
                <a:pathLst>
                  <a:path w="1731" h="2462">
                    <a:moveTo>
                      <a:pt x="152" y="0"/>
                    </a:moveTo>
                    <a:lnTo>
                      <a:pt x="379" y="203"/>
                    </a:lnTo>
                    <a:lnTo>
                      <a:pt x="440" y="376"/>
                    </a:lnTo>
                    <a:lnTo>
                      <a:pt x="480" y="541"/>
                    </a:lnTo>
                    <a:lnTo>
                      <a:pt x="480" y="800"/>
                    </a:lnTo>
                    <a:lnTo>
                      <a:pt x="368" y="1646"/>
                    </a:lnTo>
                    <a:lnTo>
                      <a:pt x="267" y="1747"/>
                    </a:lnTo>
                    <a:lnTo>
                      <a:pt x="0" y="1784"/>
                    </a:lnTo>
                    <a:lnTo>
                      <a:pt x="368" y="1772"/>
                    </a:lnTo>
                    <a:lnTo>
                      <a:pt x="254" y="2450"/>
                    </a:lnTo>
                    <a:lnTo>
                      <a:pt x="278" y="2462"/>
                    </a:lnTo>
                    <a:lnTo>
                      <a:pt x="406" y="1881"/>
                    </a:lnTo>
                    <a:lnTo>
                      <a:pt x="883" y="2273"/>
                    </a:lnTo>
                    <a:lnTo>
                      <a:pt x="996" y="2273"/>
                    </a:lnTo>
                    <a:lnTo>
                      <a:pt x="1174" y="2185"/>
                    </a:lnTo>
                    <a:lnTo>
                      <a:pt x="1363" y="2035"/>
                    </a:lnTo>
                    <a:lnTo>
                      <a:pt x="1500" y="1895"/>
                    </a:lnTo>
                    <a:lnTo>
                      <a:pt x="1603" y="1759"/>
                    </a:lnTo>
                    <a:lnTo>
                      <a:pt x="1462" y="1881"/>
                    </a:lnTo>
                    <a:lnTo>
                      <a:pt x="1363" y="1809"/>
                    </a:lnTo>
                    <a:lnTo>
                      <a:pt x="1480" y="1734"/>
                    </a:lnTo>
                    <a:lnTo>
                      <a:pt x="1238" y="1809"/>
                    </a:lnTo>
                    <a:lnTo>
                      <a:pt x="950" y="1846"/>
                    </a:lnTo>
                    <a:lnTo>
                      <a:pt x="669" y="1846"/>
                    </a:lnTo>
                    <a:lnTo>
                      <a:pt x="555" y="1846"/>
                    </a:lnTo>
                    <a:lnTo>
                      <a:pt x="469" y="1784"/>
                    </a:lnTo>
                    <a:lnTo>
                      <a:pt x="647" y="1708"/>
                    </a:lnTo>
                    <a:lnTo>
                      <a:pt x="1012" y="1708"/>
                    </a:lnTo>
                    <a:lnTo>
                      <a:pt x="1300" y="1545"/>
                    </a:lnTo>
                    <a:lnTo>
                      <a:pt x="1012" y="1631"/>
                    </a:lnTo>
                    <a:lnTo>
                      <a:pt x="647" y="1631"/>
                    </a:lnTo>
                    <a:lnTo>
                      <a:pt x="440" y="1685"/>
                    </a:lnTo>
                    <a:lnTo>
                      <a:pt x="440" y="1496"/>
                    </a:lnTo>
                    <a:lnTo>
                      <a:pt x="987" y="1409"/>
                    </a:lnTo>
                    <a:lnTo>
                      <a:pt x="781" y="892"/>
                    </a:lnTo>
                    <a:lnTo>
                      <a:pt x="555" y="592"/>
                    </a:lnTo>
                    <a:lnTo>
                      <a:pt x="555" y="415"/>
                    </a:lnTo>
                    <a:lnTo>
                      <a:pt x="1570" y="1444"/>
                    </a:lnTo>
                    <a:lnTo>
                      <a:pt x="1731" y="1519"/>
                    </a:lnTo>
                    <a:lnTo>
                      <a:pt x="1642" y="1332"/>
                    </a:lnTo>
                    <a:lnTo>
                      <a:pt x="733" y="477"/>
                    </a:lnTo>
                    <a:lnTo>
                      <a:pt x="620" y="267"/>
                    </a:lnTo>
                    <a:lnTo>
                      <a:pt x="304" y="51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7367040" y="5140440"/>
                <a:ext cx="64800" cy="61560"/>
              </a:xfrm>
              <a:custGeom>
                <a:avLst/>
                <a:gdLst/>
                <a:ahLst/>
                <a:rect l="l" t="t" r="r" b="b"/>
                <a:pathLst>
                  <a:path w="783" h="580">
                    <a:moveTo>
                      <a:pt x="0" y="442"/>
                    </a:moveTo>
                    <a:lnTo>
                      <a:pt x="317" y="378"/>
                    </a:lnTo>
                    <a:lnTo>
                      <a:pt x="670" y="580"/>
                    </a:lnTo>
                    <a:lnTo>
                      <a:pt x="783" y="540"/>
                    </a:lnTo>
                    <a:lnTo>
                      <a:pt x="504" y="378"/>
                    </a:lnTo>
                    <a:lnTo>
                      <a:pt x="619" y="166"/>
                    </a:lnTo>
                    <a:lnTo>
                      <a:pt x="619" y="0"/>
                    </a:lnTo>
                    <a:lnTo>
                      <a:pt x="402" y="265"/>
                    </a:lnTo>
                    <a:lnTo>
                      <a:pt x="216" y="362"/>
                    </a:lnTo>
                    <a:lnTo>
                      <a:pt x="0" y="4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7414200" y="5097240"/>
                <a:ext cx="81360" cy="74520"/>
              </a:xfrm>
              <a:custGeom>
                <a:avLst/>
                <a:gdLst/>
                <a:ahLst/>
                <a:rect l="l" t="t" r="r" b="b"/>
                <a:pathLst>
                  <a:path w="984" h="703">
                    <a:moveTo>
                      <a:pt x="189" y="314"/>
                    </a:moveTo>
                    <a:lnTo>
                      <a:pt x="367" y="212"/>
                    </a:lnTo>
                    <a:lnTo>
                      <a:pt x="744" y="364"/>
                    </a:lnTo>
                    <a:lnTo>
                      <a:pt x="744" y="500"/>
                    </a:lnTo>
                    <a:lnTo>
                      <a:pt x="442" y="579"/>
                    </a:lnTo>
                    <a:lnTo>
                      <a:pt x="809" y="567"/>
                    </a:lnTo>
                    <a:lnTo>
                      <a:pt x="984" y="703"/>
                    </a:lnTo>
                    <a:lnTo>
                      <a:pt x="870" y="450"/>
                    </a:lnTo>
                    <a:lnTo>
                      <a:pt x="707" y="265"/>
                    </a:lnTo>
                    <a:lnTo>
                      <a:pt x="343" y="164"/>
                    </a:lnTo>
                    <a:lnTo>
                      <a:pt x="202" y="0"/>
                    </a:lnTo>
                    <a:lnTo>
                      <a:pt x="0" y="164"/>
                    </a:lnTo>
                    <a:lnTo>
                      <a:pt x="178" y="63"/>
                    </a:lnTo>
                    <a:lnTo>
                      <a:pt x="239" y="149"/>
                    </a:lnTo>
                    <a:lnTo>
                      <a:pt x="189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7500960" y="5166000"/>
                <a:ext cx="48240" cy="43920"/>
              </a:xfrm>
              <a:custGeom>
                <a:avLst/>
                <a:gdLst/>
                <a:ahLst/>
                <a:rect l="l" t="t" r="r" b="b"/>
                <a:pathLst>
                  <a:path w="581" h="415">
                    <a:moveTo>
                      <a:pt x="22" y="0"/>
                    </a:moveTo>
                    <a:lnTo>
                      <a:pt x="464" y="37"/>
                    </a:lnTo>
                    <a:lnTo>
                      <a:pt x="581" y="240"/>
                    </a:lnTo>
                    <a:lnTo>
                      <a:pt x="581" y="288"/>
                    </a:lnTo>
                    <a:lnTo>
                      <a:pt x="492" y="316"/>
                    </a:lnTo>
                    <a:lnTo>
                      <a:pt x="363" y="240"/>
                    </a:lnTo>
                    <a:lnTo>
                      <a:pt x="187" y="240"/>
                    </a:lnTo>
                    <a:lnTo>
                      <a:pt x="477" y="351"/>
                    </a:lnTo>
                    <a:lnTo>
                      <a:pt x="492" y="415"/>
                    </a:lnTo>
                    <a:lnTo>
                      <a:pt x="453" y="367"/>
                    </a:lnTo>
                    <a:lnTo>
                      <a:pt x="22" y="229"/>
                    </a:lnTo>
                    <a:lnTo>
                      <a:pt x="0" y="192"/>
                    </a:lnTo>
                    <a:lnTo>
                      <a:pt x="464" y="176"/>
                    </a:lnTo>
                    <a:lnTo>
                      <a:pt x="453" y="75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7524720" y="5204880"/>
                <a:ext cx="19080" cy="37080"/>
              </a:xfrm>
              <a:custGeom>
                <a:avLst/>
                <a:gdLst/>
                <a:ahLst/>
                <a:rect l="l" t="t" r="r" b="b"/>
                <a:pathLst>
                  <a:path w="228" h="352">
                    <a:moveTo>
                      <a:pt x="186" y="99"/>
                    </a:moveTo>
                    <a:lnTo>
                      <a:pt x="186" y="163"/>
                    </a:lnTo>
                    <a:lnTo>
                      <a:pt x="96" y="210"/>
                    </a:lnTo>
                    <a:lnTo>
                      <a:pt x="0" y="275"/>
                    </a:lnTo>
                    <a:lnTo>
                      <a:pt x="72" y="352"/>
                    </a:lnTo>
                    <a:lnTo>
                      <a:pt x="125" y="249"/>
                    </a:lnTo>
                    <a:lnTo>
                      <a:pt x="228" y="187"/>
                    </a:lnTo>
                    <a:lnTo>
                      <a:pt x="228" y="74"/>
                    </a:lnTo>
                    <a:lnTo>
                      <a:pt x="186" y="0"/>
                    </a:lnTo>
                    <a:lnTo>
                      <a:pt x="186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7530840" y="5188680"/>
                <a:ext cx="30240" cy="55080"/>
              </a:xfrm>
              <a:custGeom>
                <a:avLst/>
                <a:gdLst/>
                <a:ahLst/>
                <a:rect l="l" t="t" r="r" b="b"/>
                <a:pathLst>
                  <a:path w="369" h="514">
                    <a:moveTo>
                      <a:pt x="129" y="71"/>
                    </a:moveTo>
                    <a:lnTo>
                      <a:pt x="325" y="396"/>
                    </a:lnTo>
                    <a:lnTo>
                      <a:pt x="369" y="514"/>
                    </a:lnTo>
                    <a:lnTo>
                      <a:pt x="269" y="42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7495200" y="5109840"/>
                <a:ext cx="33480" cy="60840"/>
              </a:xfrm>
              <a:custGeom>
                <a:avLst/>
                <a:gdLst/>
                <a:ahLst/>
                <a:rect l="l" t="t" r="r" b="b"/>
                <a:pathLst>
                  <a:path w="413" h="576">
                    <a:moveTo>
                      <a:pt x="319" y="558"/>
                    </a:moveTo>
                    <a:lnTo>
                      <a:pt x="0" y="46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22" y="0"/>
                    </a:lnTo>
                    <a:lnTo>
                      <a:pt x="37" y="0"/>
                    </a:lnTo>
                    <a:lnTo>
                      <a:pt x="59" y="5"/>
                    </a:lnTo>
                    <a:lnTo>
                      <a:pt x="413" y="57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7442640" y="5172480"/>
                <a:ext cx="39600" cy="26280"/>
              </a:xfrm>
              <a:custGeom>
                <a:avLst/>
                <a:gdLst/>
                <a:ahLst/>
                <a:rect l="l" t="t" r="r" b="b"/>
                <a:pathLst>
                  <a:path w="477" h="244">
                    <a:moveTo>
                      <a:pt x="67" y="181"/>
                    </a:moveTo>
                    <a:lnTo>
                      <a:pt x="99" y="82"/>
                    </a:lnTo>
                    <a:lnTo>
                      <a:pt x="180" y="34"/>
                    </a:lnTo>
                    <a:lnTo>
                      <a:pt x="279" y="34"/>
                    </a:lnTo>
                    <a:lnTo>
                      <a:pt x="427" y="62"/>
                    </a:lnTo>
                    <a:lnTo>
                      <a:pt x="477" y="34"/>
                    </a:lnTo>
                    <a:lnTo>
                      <a:pt x="310" y="0"/>
                    </a:lnTo>
                    <a:lnTo>
                      <a:pt x="198" y="0"/>
                    </a:lnTo>
                    <a:lnTo>
                      <a:pt x="99" y="34"/>
                    </a:lnTo>
                    <a:lnTo>
                      <a:pt x="51" y="99"/>
                    </a:lnTo>
                    <a:lnTo>
                      <a:pt x="0" y="244"/>
                    </a:lnTo>
                    <a:lnTo>
                      <a:pt x="67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7412400" y="4671720"/>
                <a:ext cx="133560" cy="209160"/>
              </a:xfrm>
              <a:custGeom>
                <a:avLst/>
                <a:gdLst/>
                <a:ahLst/>
                <a:rect l="l" t="t" r="r" b="b"/>
                <a:pathLst>
                  <a:path w="1617" h="1969">
                    <a:moveTo>
                      <a:pt x="1578" y="822"/>
                    </a:moveTo>
                    <a:lnTo>
                      <a:pt x="1615" y="694"/>
                    </a:lnTo>
                    <a:lnTo>
                      <a:pt x="1617" y="512"/>
                    </a:lnTo>
                    <a:lnTo>
                      <a:pt x="1573" y="350"/>
                    </a:lnTo>
                    <a:lnTo>
                      <a:pt x="1506" y="233"/>
                    </a:lnTo>
                    <a:lnTo>
                      <a:pt x="1413" y="123"/>
                    </a:lnTo>
                    <a:lnTo>
                      <a:pt x="1275" y="48"/>
                    </a:lnTo>
                    <a:lnTo>
                      <a:pt x="980" y="0"/>
                    </a:lnTo>
                    <a:lnTo>
                      <a:pt x="710" y="73"/>
                    </a:lnTo>
                    <a:lnTo>
                      <a:pt x="565" y="198"/>
                    </a:lnTo>
                    <a:lnTo>
                      <a:pt x="439" y="417"/>
                    </a:lnTo>
                    <a:lnTo>
                      <a:pt x="404" y="631"/>
                    </a:lnTo>
                    <a:lnTo>
                      <a:pt x="351" y="818"/>
                    </a:lnTo>
                    <a:lnTo>
                      <a:pt x="356" y="910"/>
                    </a:lnTo>
                    <a:lnTo>
                      <a:pt x="404" y="1026"/>
                    </a:lnTo>
                    <a:lnTo>
                      <a:pt x="393" y="1095"/>
                    </a:lnTo>
                    <a:lnTo>
                      <a:pt x="268" y="1185"/>
                    </a:lnTo>
                    <a:lnTo>
                      <a:pt x="171" y="1270"/>
                    </a:lnTo>
                    <a:lnTo>
                      <a:pt x="106" y="1411"/>
                    </a:lnTo>
                    <a:lnTo>
                      <a:pt x="106" y="1484"/>
                    </a:lnTo>
                    <a:lnTo>
                      <a:pt x="116" y="1554"/>
                    </a:lnTo>
                    <a:lnTo>
                      <a:pt x="130" y="1597"/>
                    </a:lnTo>
                    <a:lnTo>
                      <a:pt x="112" y="1653"/>
                    </a:lnTo>
                    <a:lnTo>
                      <a:pt x="0" y="1754"/>
                    </a:lnTo>
                    <a:lnTo>
                      <a:pt x="160" y="1712"/>
                    </a:lnTo>
                    <a:lnTo>
                      <a:pt x="347" y="1657"/>
                    </a:lnTo>
                    <a:lnTo>
                      <a:pt x="415" y="1861"/>
                    </a:lnTo>
                    <a:lnTo>
                      <a:pt x="479" y="1969"/>
                    </a:lnTo>
                    <a:lnTo>
                      <a:pt x="450" y="1872"/>
                    </a:lnTo>
                    <a:lnTo>
                      <a:pt x="450" y="1800"/>
                    </a:lnTo>
                    <a:lnTo>
                      <a:pt x="468" y="1758"/>
                    </a:lnTo>
                    <a:lnTo>
                      <a:pt x="505" y="1754"/>
                    </a:lnTo>
                    <a:lnTo>
                      <a:pt x="565" y="1769"/>
                    </a:lnTo>
                    <a:lnTo>
                      <a:pt x="628" y="1826"/>
                    </a:lnTo>
                    <a:lnTo>
                      <a:pt x="685" y="1904"/>
                    </a:lnTo>
                    <a:lnTo>
                      <a:pt x="639" y="1754"/>
                    </a:lnTo>
                    <a:lnTo>
                      <a:pt x="618" y="1641"/>
                    </a:lnTo>
                    <a:lnTo>
                      <a:pt x="604" y="1507"/>
                    </a:lnTo>
                    <a:lnTo>
                      <a:pt x="611" y="1411"/>
                    </a:lnTo>
                    <a:lnTo>
                      <a:pt x="674" y="1507"/>
                    </a:lnTo>
                    <a:lnTo>
                      <a:pt x="765" y="1593"/>
                    </a:lnTo>
                    <a:lnTo>
                      <a:pt x="870" y="1666"/>
                    </a:lnTo>
                    <a:lnTo>
                      <a:pt x="980" y="1703"/>
                    </a:lnTo>
                    <a:lnTo>
                      <a:pt x="888" y="1666"/>
                    </a:lnTo>
                    <a:lnTo>
                      <a:pt x="802" y="1613"/>
                    </a:lnTo>
                    <a:lnTo>
                      <a:pt x="717" y="1533"/>
                    </a:lnTo>
                    <a:lnTo>
                      <a:pt x="671" y="1466"/>
                    </a:lnTo>
                    <a:lnTo>
                      <a:pt x="632" y="1399"/>
                    </a:lnTo>
                    <a:lnTo>
                      <a:pt x="618" y="1339"/>
                    </a:lnTo>
                    <a:lnTo>
                      <a:pt x="611" y="1261"/>
                    </a:lnTo>
                    <a:lnTo>
                      <a:pt x="598" y="1180"/>
                    </a:lnTo>
                    <a:lnTo>
                      <a:pt x="591" y="1042"/>
                    </a:lnTo>
                    <a:lnTo>
                      <a:pt x="584" y="1237"/>
                    </a:lnTo>
                    <a:lnTo>
                      <a:pt x="569" y="1261"/>
                    </a:lnTo>
                    <a:lnTo>
                      <a:pt x="538" y="1277"/>
                    </a:lnTo>
                    <a:lnTo>
                      <a:pt x="499" y="1261"/>
                    </a:lnTo>
                    <a:lnTo>
                      <a:pt x="479" y="1217"/>
                    </a:lnTo>
                    <a:lnTo>
                      <a:pt x="479" y="1167"/>
                    </a:lnTo>
                    <a:lnTo>
                      <a:pt x="494" y="1114"/>
                    </a:lnTo>
                    <a:lnTo>
                      <a:pt x="523" y="1072"/>
                    </a:lnTo>
                    <a:lnTo>
                      <a:pt x="487" y="1092"/>
                    </a:lnTo>
                    <a:lnTo>
                      <a:pt x="429" y="963"/>
                    </a:lnTo>
                    <a:lnTo>
                      <a:pt x="411" y="910"/>
                    </a:lnTo>
                    <a:lnTo>
                      <a:pt x="404" y="853"/>
                    </a:lnTo>
                    <a:lnTo>
                      <a:pt x="411" y="804"/>
                    </a:lnTo>
                    <a:lnTo>
                      <a:pt x="436" y="776"/>
                    </a:lnTo>
                    <a:lnTo>
                      <a:pt x="461" y="751"/>
                    </a:lnTo>
                    <a:lnTo>
                      <a:pt x="487" y="751"/>
                    </a:lnTo>
                    <a:lnTo>
                      <a:pt x="514" y="767"/>
                    </a:lnTo>
                    <a:lnTo>
                      <a:pt x="538" y="804"/>
                    </a:lnTo>
                    <a:lnTo>
                      <a:pt x="565" y="890"/>
                    </a:lnTo>
                    <a:lnTo>
                      <a:pt x="574" y="782"/>
                    </a:lnTo>
                    <a:lnTo>
                      <a:pt x="622" y="687"/>
                    </a:lnTo>
                    <a:lnTo>
                      <a:pt x="697" y="549"/>
                    </a:lnTo>
                    <a:lnTo>
                      <a:pt x="741" y="435"/>
                    </a:lnTo>
                    <a:lnTo>
                      <a:pt x="798" y="354"/>
                    </a:lnTo>
                    <a:lnTo>
                      <a:pt x="888" y="304"/>
                    </a:lnTo>
                    <a:lnTo>
                      <a:pt x="1038" y="286"/>
                    </a:lnTo>
                    <a:lnTo>
                      <a:pt x="1195" y="304"/>
                    </a:lnTo>
                    <a:lnTo>
                      <a:pt x="1393" y="343"/>
                    </a:lnTo>
                    <a:lnTo>
                      <a:pt x="1470" y="406"/>
                    </a:lnTo>
                    <a:lnTo>
                      <a:pt x="1520" y="519"/>
                    </a:lnTo>
                    <a:lnTo>
                      <a:pt x="1549" y="641"/>
                    </a:lnTo>
                    <a:lnTo>
                      <a:pt x="1569" y="883"/>
                    </a:lnTo>
                    <a:lnTo>
                      <a:pt x="1578" y="8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7474320" y="4776120"/>
                <a:ext cx="67320" cy="124560"/>
              </a:xfrm>
              <a:custGeom>
                <a:avLst/>
                <a:gdLst/>
                <a:ahLst/>
                <a:rect l="l" t="t" r="r" b="b"/>
                <a:pathLst>
                  <a:path w="817" h="1173">
                    <a:moveTo>
                      <a:pt x="817" y="0"/>
                    </a:moveTo>
                    <a:lnTo>
                      <a:pt x="786" y="103"/>
                    </a:lnTo>
                    <a:lnTo>
                      <a:pt x="718" y="359"/>
                    </a:lnTo>
                    <a:lnTo>
                      <a:pt x="634" y="514"/>
                    </a:lnTo>
                    <a:lnTo>
                      <a:pt x="569" y="608"/>
                    </a:lnTo>
                    <a:lnTo>
                      <a:pt x="481" y="703"/>
                    </a:lnTo>
                    <a:lnTo>
                      <a:pt x="417" y="723"/>
                    </a:lnTo>
                    <a:lnTo>
                      <a:pt x="305" y="732"/>
                    </a:lnTo>
                    <a:lnTo>
                      <a:pt x="187" y="707"/>
                    </a:lnTo>
                    <a:lnTo>
                      <a:pt x="94" y="661"/>
                    </a:lnTo>
                    <a:lnTo>
                      <a:pt x="0" y="596"/>
                    </a:lnTo>
                    <a:lnTo>
                      <a:pt x="57" y="692"/>
                    </a:lnTo>
                    <a:lnTo>
                      <a:pt x="136" y="758"/>
                    </a:lnTo>
                    <a:lnTo>
                      <a:pt x="206" y="800"/>
                    </a:lnTo>
                    <a:lnTo>
                      <a:pt x="300" y="825"/>
                    </a:lnTo>
                    <a:lnTo>
                      <a:pt x="380" y="825"/>
                    </a:lnTo>
                    <a:lnTo>
                      <a:pt x="329" y="1173"/>
                    </a:lnTo>
                    <a:lnTo>
                      <a:pt x="376" y="1064"/>
                    </a:lnTo>
                    <a:lnTo>
                      <a:pt x="443" y="795"/>
                    </a:lnTo>
                    <a:lnTo>
                      <a:pt x="477" y="747"/>
                    </a:lnTo>
                    <a:lnTo>
                      <a:pt x="527" y="820"/>
                    </a:lnTo>
                    <a:lnTo>
                      <a:pt x="574" y="940"/>
                    </a:lnTo>
                    <a:lnTo>
                      <a:pt x="551" y="800"/>
                    </a:lnTo>
                    <a:lnTo>
                      <a:pt x="503" y="707"/>
                    </a:lnTo>
                    <a:lnTo>
                      <a:pt x="579" y="617"/>
                    </a:lnTo>
                    <a:lnTo>
                      <a:pt x="668" y="493"/>
                    </a:lnTo>
                    <a:lnTo>
                      <a:pt x="720" y="373"/>
                    </a:lnTo>
                    <a:lnTo>
                      <a:pt x="754" y="286"/>
                    </a:lnTo>
                    <a:lnTo>
                      <a:pt x="793" y="115"/>
                    </a:lnTo>
                    <a:lnTo>
                      <a:pt x="8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7448760" y="4758120"/>
                <a:ext cx="7920" cy="22680"/>
              </a:xfrm>
              <a:custGeom>
                <a:avLst/>
                <a:gdLst/>
                <a:ahLst/>
                <a:rect l="l" t="t" r="r" b="b"/>
                <a:pathLst>
                  <a:path w="99" h="215">
                    <a:moveTo>
                      <a:pt x="11" y="0"/>
                    </a:moveTo>
                    <a:lnTo>
                      <a:pt x="48" y="7"/>
                    </a:lnTo>
                    <a:lnTo>
                      <a:pt x="91" y="60"/>
                    </a:lnTo>
                    <a:lnTo>
                      <a:pt x="99" y="111"/>
                    </a:lnTo>
                    <a:lnTo>
                      <a:pt x="94" y="145"/>
                    </a:lnTo>
                    <a:lnTo>
                      <a:pt x="60" y="162"/>
                    </a:lnTo>
                    <a:lnTo>
                      <a:pt x="55" y="180"/>
                    </a:lnTo>
                    <a:lnTo>
                      <a:pt x="73" y="215"/>
                    </a:lnTo>
                    <a:lnTo>
                      <a:pt x="22" y="169"/>
                    </a:lnTo>
                    <a:lnTo>
                      <a:pt x="22" y="145"/>
                    </a:lnTo>
                    <a:lnTo>
                      <a:pt x="36" y="123"/>
                    </a:lnTo>
                    <a:lnTo>
                      <a:pt x="55" y="106"/>
                    </a:lnTo>
                    <a:lnTo>
                      <a:pt x="84" y="92"/>
                    </a:lnTo>
                    <a:lnTo>
                      <a:pt x="73" y="65"/>
                    </a:lnTo>
                    <a:lnTo>
                      <a:pt x="60" y="42"/>
                    </a:lnTo>
                    <a:lnTo>
                      <a:pt x="36" y="28"/>
                    </a:lnTo>
                    <a:lnTo>
                      <a:pt x="11" y="60"/>
                    </a:lnTo>
                    <a:lnTo>
                      <a:pt x="11" y="79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7459200" y="4766040"/>
                <a:ext cx="3600" cy="25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7461360" y="4770000"/>
                <a:ext cx="50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7466040" y="4784400"/>
                <a:ext cx="32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7452000" y="4787640"/>
                <a:ext cx="5760" cy="16560"/>
              </a:xfrm>
              <a:custGeom>
                <a:avLst/>
                <a:gdLst/>
                <a:ahLst/>
                <a:rect l="l" t="t" r="r" b="b"/>
                <a:pathLst>
                  <a:path w="77" h="162">
                    <a:moveTo>
                      <a:pt x="33" y="0"/>
                    </a:moveTo>
                    <a:lnTo>
                      <a:pt x="59" y="28"/>
                    </a:lnTo>
                    <a:lnTo>
                      <a:pt x="72" y="63"/>
                    </a:lnTo>
                    <a:lnTo>
                      <a:pt x="77" y="112"/>
                    </a:lnTo>
                    <a:lnTo>
                      <a:pt x="72" y="145"/>
                    </a:lnTo>
                    <a:lnTo>
                      <a:pt x="54" y="158"/>
                    </a:lnTo>
                    <a:lnTo>
                      <a:pt x="33" y="162"/>
                    </a:lnTo>
                    <a:lnTo>
                      <a:pt x="8" y="158"/>
                    </a:lnTo>
                    <a:lnTo>
                      <a:pt x="0" y="116"/>
                    </a:lnTo>
                    <a:lnTo>
                      <a:pt x="44" y="123"/>
                    </a:lnTo>
                    <a:lnTo>
                      <a:pt x="51" y="88"/>
                    </a:lnTo>
                    <a:lnTo>
                      <a:pt x="59" y="63"/>
                    </a:lnTo>
                    <a:lnTo>
                      <a:pt x="54" y="3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7360560" y="4843080"/>
                <a:ext cx="235800" cy="159120"/>
              </a:xfrm>
              <a:custGeom>
                <a:avLst/>
                <a:gdLst/>
                <a:ahLst/>
                <a:rect l="l" t="t" r="r" b="b"/>
                <a:pathLst>
                  <a:path w="2847" h="1510">
                    <a:moveTo>
                      <a:pt x="1072" y="246"/>
                    </a:moveTo>
                    <a:lnTo>
                      <a:pt x="1129" y="369"/>
                    </a:lnTo>
                    <a:lnTo>
                      <a:pt x="1228" y="441"/>
                    </a:lnTo>
                    <a:lnTo>
                      <a:pt x="1369" y="516"/>
                    </a:lnTo>
                    <a:lnTo>
                      <a:pt x="1558" y="567"/>
                    </a:lnTo>
                    <a:lnTo>
                      <a:pt x="1798" y="606"/>
                    </a:lnTo>
                    <a:lnTo>
                      <a:pt x="1903" y="576"/>
                    </a:lnTo>
                    <a:lnTo>
                      <a:pt x="1945" y="507"/>
                    </a:lnTo>
                    <a:lnTo>
                      <a:pt x="1969" y="408"/>
                    </a:lnTo>
                    <a:lnTo>
                      <a:pt x="1969" y="345"/>
                    </a:lnTo>
                    <a:lnTo>
                      <a:pt x="1929" y="239"/>
                    </a:lnTo>
                    <a:lnTo>
                      <a:pt x="1890" y="171"/>
                    </a:lnTo>
                    <a:lnTo>
                      <a:pt x="1839" y="120"/>
                    </a:lnTo>
                    <a:lnTo>
                      <a:pt x="1903" y="32"/>
                    </a:lnTo>
                    <a:lnTo>
                      <a:pt x="1945" y="0"/>
                    </a:lnTo>
                    <a:lnTo>
                      <a:pt x="2160" y="113"/>
                    </a:lnTo>
                    <a:lnTo>
                      <a:pt x="2400" y="162"/>
                    </a:lnTo>
                    <a:lnTo>
                      <a:pt x="2630" y="252"/>
                    </a:lnTo>
                    <a:lnTo>
                      <a:pt x="2847" y="378"/>
                    </a:lnTo>
                    <a:lnTo>
                      <a:pt x="2556" y="252"/>
                    </a:lnTo>
                    <a:lnTo>
                      <a:pt x="2342" y="191"/>
                    </a:lnTo>
                    <a:lnTo>
                      <a:pt x="2202" y="171"/>
                    </a:lnTo>
                    <a:lnTo>
                      <a:pt x="2052" y="171"/>
                    </a:lnTo>
                    <a:lnTo>
                      <a:pt x="1987" y="215"/>
                    </a:lnTo>
                    <a:lnTo>
                      <a:pt x="2004" y="387"/>
                    </a:lnTo>
                    <a:lnTo>
                      <a:pt x="1987" y="484"/>
                    </a:lnTo>
                    <a:lnTo>
                      <a:pt x="1953" y="590"/>
                    </a:lnTo>
                    <a:lnTo>
                      <a:pt x="1903" y="655"/>
                    </a:lnTo>
                    <a:lnTo>
                      <a:pt x="1789" y="760"/>
                    </a:lnTo>
                    <a:lnTo>
                      <a:pt x="1789" y="707"/>
                    </a:lnTo>
                    <a:lnTo>
                      <a:pt x="1749" y="673"/>
                    </a:lnTo>
                    <a:lnTo>
                      <a:pt x="1708" y="687"/>
                    </a:lnTo>
                    <a:lnTo>
                      <a:pt x="1696" y="738"/>
                    </a:lnTo>
                    <a:lnTo>
                      <a:pt x="1720" y="770"/>
                    </a:lnTo>
                    <a:lnTo>
                      <a:pt x="1756" y="779"/>
                    </a:lnTo>
                    <a:lnTo>
                      <a:pt x="1731" y="813"/>
                    </a:lnTo>
                    <a:lnTo>
                      <a:pt x="1674" y="802"/>
                    </a:lnTo>
                    <a:lnTo>
                      <a:pt x="1648" y="760"/>
                    </a:lnTo>
                    <a:lnTo>
                      <a:pt x="1659" y="707"/>
                    </a:lnTo>
                    <a:lnTo>
                      <a:pt x="1681" y="666"/>
                    </a:lnTo>
                    <a:lnTo>
                      <a:pt x="1720" y="648"/>
                    </a:lnTo>
                    <a:lnTo>
                      <a:pt x="1780" y="624"/>
                    </a:lnTo>
                    <a:lnTo>
                      <a:pt x="1433" y="567"/>
                    </a:lnTo>
                    <a:lnTo>
                      <a:pt x="1235" y="500"/>
                    </a:lnTo>
                    <a:lnTo>
                      <a:pt x="1353" y="795"/>
                    </a:lnTo>
                    <a:lnTo>
                      <a:pt x="1549" y="1289"/>
                    </a:lnTo>
                    <a:lnTo>
                      <a:pt x="1648" y="1510"/>
                    </a:lnTo>
                    <a:lnTo>
                      <a:pt x="1358" y="903"/>
                    </a:lnTo>
                    <a:lnTo>
                      <a:pt x="1201" y="576"/>
                    </a:lnTo>
                    <a:lnTo>
                      <a:pt x="1046" y="378"/>
                    </a:lnTo>
                    <a:lnTo>
                      <a:pt x="896" y="239"/>
                    </a:lnTo>
                    <a:lnTo>
                      <a:pt x="774" y="156"/>
                    </a:lnTo>
                    <a:lnTo>
                      <a:pt x="668" y="147"/>
                    </a:lnTo>
                    <a:lnTo>
                      <a:pt x="525" y="162"/>
                    </a:lnTo>
                    <a:lnTo>
                      <a:pt x="106" y="270"/>
                    </a:lnTo>
                    <a:lnTo>
                      <a:pt x="0" y="345"/>
                    </a:lnTo>
                    <a:lnTo>
                      <a:pt x="106" y="239"/>
                    </a:lnTo>
                    <a:lnTo>
                      <a:pt x="493" y="94"/>
                    </a:lnTo>
                    <a:lnTo>
                      <a:pt x="749" y="90"/>
                    </a:lnTo>
                    <a:lnTo>
                      <a:pt x="995" y="15"/>
                    </a:lnTo>
                    <a:lnTo>
                      <a:pt x="1072" y="2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7345080" y="4887000"/>
                <a:ext cx="93960" cy="181440"/>
              </a:xfrm>
              <a:custGeom>
                <a:avLst/>
                <a:gdLst/>
                <a:ahLst/>
                <a:rect l="l" t="t" r="r" b="b"/>
                <a:pathLst>
                  <a:path w="1134" h="1714">
                    <a:moveTo>
                      <a:pt x="159" y="0"/>
                    </a:moveTo>
                    <a:lnTo>
                      <a:pt x="264" y="31"/>
                    </a:lnTo>
                    <a:lnTo>
                      <a:pt x="365" y="113"/>
                    </a:lnTo>
                    <a:lnTo>
                      <a:pt x="447" y="229"/>
                    </a:lnTo>
                    <a:lnTo>
                      <a:pt x="521" y="367"/>
                    </a:lnTo>
                    <a:lnTo>
                      <a:pt x="570" y="484"/>
                    </a:lnTo>
                    <a:lnTo>
                      <a:pt x="611" y="591"/>
                    </a:lnTo>
                    <a:lnTo>
                      <a:pt x="491" y="409"/>
                    </a:lnTo>
                    <a:lnTo>
                      <a:pt x="387" y="288"/>
                    </a:lnTo>
                    <a:lnTo>
                      <a:pt x="264" y="205"/>
                    </a:lnTo>
                    <a:lnTo>
                      <a:pt x="167" y="157"/>
                    </a:lnTo>
                    <a:lnTo>
                      <a:pt x="167" y="319"/>
                    </a:lnTo>
                    <a:lnTo>
                      <a:pt x="222" y="499"/>
                    </a:lnTo>
                    <a:lnTo>
                      <a:pt x="312" y="646"/>
                    </a:lnTo>
                    <a:lnTo>
                      <a:pt x="413" y="754"/>
                    </a:lnTo>
                    <a:lnTo>
                      <a:pt x="598" y="886"/>
                    </a:lnTo>
                    <a:lnTo>
                      <a:pt x="768" y="998"/>
                    </a:lnTo>
                    <a:lnTo>
                      <a:pt x="860" y="1049"/>
                    </a:lnTo>
                    <a:lnTo>
                      <a:pt x="818" y="925"/>
                    </a:lnTo>
                    <a:lnTo>
                      <a:pt x="923" y="1132"/>
                    </a:lnTo>
                    <a:lnTo>
                      <a:pt x="976" y="1301"/>
                    </a:lnTo>
                    <a:lnTo>
                      <a:pt x="1007" y="1508"/>
                    </a:lnTo>
                    <a:lnTo>
                      <a:pt x="1081" y="1631"/>
                    </a:lnTo>
                    <a:lnTo>
                      <a:pt x="1134" y="1714"/>
                    </a:lnTo>
                    <a:lnTo>
                      <a:pt x="959" y="1559"/>
                    </a:lnTo>
                    <a:lnTo>
                      <a:pt x="959" y="1642"/>
                    </a:lnTo>
                    <a:lnTo>
                      <a:pt x="877" y="1665"/>
                    </a:lnTo>
                    <a:lnTo>
                      <a:pt x="918" y="1609"/>
                    </a:lnTo>
                    <a:lnTo>
                      <a:pt x="908" y="1534"/>
                    </a:lnTo>
                    <a:lnTo>
                      <a:pt x="703" y="1402"/>
                    </a:lnTo>
                    <a:lnTo>
                      <a:pt x="877" y="1411"/>
                    </a:lnTo>
                    <a:lnTo>
                      <a:pt x="736" y="1204"/>
                    </a:lnTo>
                    <a:lnTo>
                      <a:pt x="853" y="1195"/>
                    </a:lnTo>
                    <a:lnTo>
                      <a:pt x="869" y="1147"/>
                    </a:lnTo>
                    <a:lnTo>
                      <a:pt x="703" y="1141"/>
                    </a:lnTo>
                    <a:lnTo>
                      <a:pt x="494" y="1077"/>
                    </a:lnTo>
                    <a:lnTo>
                      <a:pt x="249" y="967"/>
                    </a:lnTo>
                    <a:lnTo>
                      <a:pt x="99" y="860"/>
                    </a:lnTo>
                    <a:lnTo>
                      <a:pt x="84" y="886"/>
                    </a:lnTo>
                    <a:lnTo>
                      <a:pt x="143" y="985"/>
                    </a:lnTo>
                    <a:lnTo>
                      <a:pt x="240" y="1077"/>
                    </a:lnTo>
                    <a:lnTo>
                      <a:pt x="339" y="1132"/>
                    </a:lnTo>
                    <a:lnTo>
                      <a:pt x="413" y="1338"/>
                    </a:lnTo>
                    <a:lnTo>
                      <a:pt x="644" y="1402"/>
                    </a:lnTo>
                    <a:lnTo>
                      <a:pt x="482" y="1386"/>
                    </a:lnTo>
                    <a:lnTo>
                      <a:pt x="556" y="1460"/>
                    </a:lnTo>
                    <a:lnTo>
                      <a:pt x="763" y="1508"/>
                    </a:lnTo>
                    <a:lnTo>
                      <a:pt x="853" y="1582"/>
                    </a:lnTo>
                    <a:lnTo>
                      <a:pt x="826" y="1631"/>
                    </a:lnTo>
                    <a:lnTo>
                      <a:pt x="694" y="1591"/>
                    </a:lnTo>
                    <a:lnTo>
                      <a:pt x="598" y="1600"/>
                    </a:lnTo>
                    <a:lnTo>
                      <a:pt x="51" y="1107"/>
                    </a:lnTo>
                    <a:lnTo>
                      <a:pt x="21" y="943"/>
                    </a:lnTo>
                    <a:lnTo>
                      <a:pt x="9" y="826"/>
                    </a:lnTo>
                    <a:lnTo>
                      <a:pt x="51" y="770"/>
                    </a:lnTo>
                    <a:lnTo>
                      <a:pt x="21" y="642"/>
                    </a:lnTo>
                    <a:lnTo>
                      <a:pt x="0" y="443"/>
                    </a:lnTo>
                    <a:lnTo>
                      <a:pt x="25" y="279"/>
                    </a:lnTo>
                    <a:lnTo>
                      <a:pt x="77" y="132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7410960" y="5060880"/>
                <a:ext cx="26280" cy="42480"/>
              </a:xfrm>
              <a:custGeom>
                <a:avLst/>
                <a:gdLst/>
                <a:ahLst/>
                <a:rect l="l" t="t" r="r" b="b"/>
                <a:pathLst>
                  <a:path w="318" h="399">
                    <a:moveTo>
                      <a:pt x="0" y="138"/>
                    </a:moveTo>
                    <a:lnTo>
                      <a:pt x="87" y="23"/>
                    </a:lnTo>
                    <a:lnTo>
                      <a:pt x="168" y="0"/>
                    </a:lnTo>
                    <a:lnTo>
                      <a:pt x="221" y="72"/>
                    </a:lnTo>
                    <a:lnTo>
                      <a:pt x="221" y="336"/>
                    </a:lnTo>
                    <a:lnTo>
                      <a:pt x="285" y="106"/>
                    </a:lnTo>
                    <a:lnTo>
                      <a:pt x="318" y="196"/>
                    </a:lnTo>
                    <a:lnTo>
                      <a:pt x="318" y="295"/>
                    </a:lnTo>
                    <a:lnTo>
                      <a:pt x="246" y="399"/>
                    </a:lnTo>
                    <a:lnTo>
                      <a:pt x="186" y="399"/>
                    </a:lnTo>
                    <a:lnTo>
                      <a:pt x="39" y="261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7434000" y="4898160"/>
                <a:ext cx="193320" cy="227880"/>
              </a:xfrm>
              <a:custGeom>
                <a:avLst/>
                <a:gdLst/>
                <a:ahLst/>
                <a:rect l="l" t="t" r="r" b="b"/>
                <a:pathLst>
                  <a:path w="2335" h="2151">
                    <a:moveTo>
                      <a:pt x="87" y="1633"/>
                    </a:moveTo>
                    <a:lnTo>
                      <a:pt x="112" y="1705"/>
                    </a:lnTo>
                    <a:lnTo>
                      <a:pt x="123" y="1896"/>
                    </a:lnTo>
                    <a:lnTo>
                      <a:pt x="0" y="1953"/>
                    </a:lnTo>
                    <a:lnTo>
                      <a:pt x="39" y="1978"/>
                    </a:lnTo>
                    <a:lnTo>
                      <a:pt x="182" y="1953"/>
                    </a:lnTo>
                    <a:lnTo>
                      <a:pt x="742" y="2068"/>
                    </a:lnTo>
                    <a:lnTo>
                      <a:pt x="732" y="2032"/>
                    </a:lnTo>
                    <a:lnTo>
                      <a:pt x="732" y="2011"/>
                    </a:lnTo>
                    <a:lnTo>
                      <a:pt x="758" y="1997"/>
                    </a:lnTo>
                    <a:lnTo>
                      <a:pt x="791" y="2002"/>
                    </a:lnTo>
                    <a:lnTo>
                      <a:pt x="806" y="2032"/>
                    </a:lnTo>
                    <a:lnTo>
                      <a:pt x="830" y="2061"/>
                    </a:lnTo>
                    <a:lnTo>
                      <a:pt x="883" y="2068"/>
                    </a:lnTo>
                    <a:lnTo>
                      <a:pt x="958" y="2127"/>
                    </a:lnTo>
                    <a:lnTo>
                      <a:pt x="938" y="2068"/>
                    </a:lnTo>
                    <a:lnTo>
                      <a:pt x="1180" y="2011"/>
                    </a:lnTo>
                    <a:lnTo>
                      <a:pt x="1477" y="1845"/>
                    </a:lnTo>
                    <a:lnTo>
                      <a:pt x="1807" y="1930"/>
                    </a:lnTo>
                    <a:lnTo>
                      <a:pt x="1872" y="2061"/>
                    </a:lnTo>
                    <a:lnTo>
                      <a:pt x="1872" y="2142"/>
                    </a:lnTo>
                    <a:lnTo>
                      <a:pt x="1883" y="2151"/>
                    </a:lnTo>
                    <a:lnTo>
                      <a:pt x="1897" y="2061"/>
                    </a:lnTo>
                    <a:lnTo>
                      <a:pt x="1823" y="1912"/>
                    </a:lnTo>
                    <a:lnTo>
                      <a:pt x="1666" y="1815"/>
                    </a:lnTo>
                    <a:lnTo>
                      <a:pt x="1731" y="1714"/>
                    </a:lnTo>
                    <a:lnTo>
                      <a:pt x="1855" y="1668"/>
                    </a:lnTo>
                    <a:lnTo>
                      <a:pt x="2003" y="1642"/>
                    </a:lnTo>
                    <a:lnTo>
                      <a:pt x="2189" y="1674"/>
                    </a:lnTo>
                    <a:lnTo>
                      <a:pt x="2226" y="1705"/>
                    </a:lnTo>
                    <a:lnTo>
                      <a:pt x="2235" y="1804"/>
                    </a:lnTo>
                    <a:lnTo>
                      <a:pt x="2285" y="1887"/>
                    </a:lnTo>
                    <a:lnTo>
                      <a:pt x="2335" y="1771"/>
                    </a:lnTo>
                    <a:lnTo>
                      <a:pt x="2309" y="1700"/>
                    </a:lnTo>
                    <a:lnTo>
                      <a:pt x="2219" y="1608"/>
                    </a:lnTo>
                    <a:lnTo>
                      <a:pt x="2102" y="1510"/>
                    </a:lnTo>
                    <a:lnTo>
                      <a:pt x="2010" y="1402"/>
                    </a:lnTo>
                    <a:lnTo>
                      <a:pt x="1929" y="1439"/>
                    </a:lnTo>
                    <a:lnTo>
                      <a:pt x="1883" y="1559"/>
                    </a:lnTo>
                    <a:lnTo>
                      <a:pt x="1839" y="1536"/>
                    </a:lnTo>
                    <a:lnTo>
                      <a:pt x="1883" y="1428"/>
                    </a:lnTo>
                    <a:lnTo>
                      <a:pt x="1929" y="1338"/>
                    </a:lnTo>
                    <a:lnTo>
                      <a:pt x="2138" y="1255"/>
                    </a:lnTo>
                    <a:lnTo>
                      <a:pt x="2235" y="1165"/>
                    </a:lnTo>
                    <a:lnTo>
                      <a:pt x="2189" y="1041"/>
                    </a:lnTo>
                    <a:lnTo>
                      <a:pt x="2169" y="1142"/>
                    </a:lnTo>
                    <a:lnTo>
                      <a:pt x="2063" y="1206"/>
                    </a:lnTo>
                    <a:lnTo>
                      <a:pt x="1962" y="1232"/>
                    </a:lnTo>
                    <a:lnTo>
                      <a:pt x="1883" y="1239"/>
                    </a:lnTo>
                    <a:lnTo>
                      <a:pt x="1855" y="1213"/>
                    </a:lnTo>
                    <a:lnTo>
                      <a:pt x="1872" y="1181"/>
                    </a:lnTo>
                    <a:lnTo>
                      <a:pt x="2039" y="1066"/>
                    </a:lnTo>
                    <a:lnTo>
                      <a:pt x="2169" y="943"/>
                    </a:lnTo>
                    <a:lnTo>
                      <a:pt x="2197" y="1001"/>
                    </a:lnTo>
                    <a:lnTo>
                      <a:pt x="2201" y="868"/>
                    </a:lnTo>
                    <a:lnTo>
                      <a:pt x="2180" y="720"/>
                    </a:lnTo>
                    <a:lnTo>
                      <a:pt x="2169" y="565"/>
                    </a:lnTo>
                    <a:lnTo>
                      <a:pt x="2180" y="337"/>
                    </a:lnTo>
                    <a:lnTo>
                      <a:pt x="2153" y="114"/>
                    </a:lnTo>
                    <a:lnTo>
                      <a:pt x="2111" y="0"/>
                    </a:lnTo>
                    <a:lnTo>
                      <a:pt x="2144" y="182"/>
                    </a:lnTo>
                    <a:lnTo>
                      <a:pt x="2144" y="400"/>
                    </a:lnTo>
                    <a:lnTo>
                      <a:pt x="2111" y="582"/>
                    </a:lnTo>
                    <a:lnTo>
                      <a:pt x="1982" y="868"/>
                    </a:lnTo>
                    <a:lnTo>
                      <a:pt x="2088" y="706"/>
                    </a:lnTo>
                    <a:lnTo>
                      <a:pt x="2127" y="771"/>
                    </a:lnTo>
                    <a:lnTo>
                      <a:pt x="2144" y="861"/>
                    </a:lnTo>
                    <a:lnTo>
                      <a:pt x="2120" y="936"/>
                    </a:lnTo>
                    <a:lnTo>
                      <a:pt x="2003" y="1041"/>
                    </a:lnTo>
                    <a:lnTo>
                      <a:pt x="1865" y="1125"/>
                    </a:lnTo>
                    <a:lnTo>
                      <a:pt x="1872" y="1050"/>
                    </a:lnTo>
                    <a:lnTo>
                      <a:pt x="1673" y="1273"/>
                    </a:lnTo>
                    <a:lnTo>
                      <a:pt x="1402" y="1476"/>
                    </a:lnTo>
                    <a:lnTo>
                      <a:pt x="1169" y="1584"/>
                    </a:lnTo>
                    <a:lnTo>
                      <a:pt x="965" y="1633"/>
                    </a:lnTo>
                    <a:lnTo>
                      <a:pt x="615" y="1600"/>
                    </a:lnTo>
                    <a:lnTo>
                      <a:pt x="410" y="1608"/>
                    </a:lnTo>
                    <a:lnTo>
                      <a:pt x="195" y="1626"/>
                    </a:lnTo>
                    <a:lnTo>
                      <a:pt x="87" y="16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7535520" y="4888800"/>
                <a:ext cx="14400" cy="149040"/>
              </a:xfrm>
              <a:custGeom>
                <a:avLst/>
                <a:gdLst/>
                <a:ahLst/>
                <a:rect l="l" t="t" r="r" b="b"/>
                <a:pathLst>
                  <a:path w="180" h="1411">
                    <a:moveTo>
                      <a:pt x="0" y="33"/>
                    </a:moveTo>
                    <a:lnTo>
                      <a:pt x="99" y="263"/>
                    </a:lnTo>
                    <a:lnTo>
                      <a:pt x="129" y="483"/>
                    </a:lnTo>
                    <a:lnTo>
                      <a:pt x="124" y="802"/>
                    </a:lnTo>
                    <a:lnTo>
                      <a:pt x="81" y="1075"/>
                    </a:lnTo>
                    <a:lnTo>
                      <a:pt x="9" y="1411"/>
                    </a:lnTo>
                    <a:lnTo>
                      <a:pt x="90" y="1386"/>
                    </a:lnTo>
                    <a:lnTo>
                      <a:pt x="140" y="1303"/>
                    </a:lnTo>
                    <a:lnTo>
                      <a:pt x="171" y="1140"/>
                    </a:lnTo>
                    <a:lnTo>
                      <a:pt x="180" y="886"/>
                    </a:lnTo>
                    <a:lnTo>
                      <a:pt x="171" y="556"/>
                    </a:lnTo>
                    <a:lnTo>
                      <a:pt x="145" y="344"/>
                    </a:lnTo>
                    <a:lnTo>
                      <a:pt x="105" y="180"/>
                    </a:lnTo>
                    <a:lnTo>
                      <a:pt x="39" y="22"/>
                    </a:lnTo>
                    <a:lnTo>
                      <a:pt x="9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7504560" y="4986360"/>
                <a:ext cx="11520" cy="15120"/>
              </a:xfrm>
              <a:custGeom>
                <a:avLst/>
                <a:gdLst/>
                <a:ahLst/>
                <a:rect l="l" t="t" r="r" b="b"/>
                <a:pathLst>
                  <a:path w="141" h="141">
                    <a:moveTo>
                      <a:pt x="101" y="7"/>
                    </a:moveTo>
                    <a:lnTo>
                      <a:pt x="66" y="7"/>
                    </a:lnTo>
                    <a:lnTo>
                      <a:pt x="42" y="31"/>
                    </a:lnTo>
                    <a:lnTo>
                      <a:pt x="51" y="62"/>
                    </a:lnTo>
                    <a:lnTo>
                      <a:pt x="77" y="88"/>
                    </a:lnTo>
                    <a:lnTo>
                      <a:pt x="110" y="72"/>
                    </a:lnTo>
                    <a:lnTo>
                      <a:pt x="123" y="49"/>
                    </a:lnTo>
                    <a:lnTo>
                      <a:pt x="123" y="31"/>
                    </a:lnTo>
                    <a:lnTo>
                      <a:pt x="141" y="62"/>
                    </a:lnTo>
                    <a:lnTo>
                      <a:pt x="123" y="113"/>
                    </a:lnTo>
                    <a:lnTo>
                      <a:pt x="77" y="141"/>
                    </a:lnTo>
                    <a:lnTo>
                      <a:pt x="18" y="106"/>
                    </a:lnTo>
                    <a:lnTo>
                      <a:pt x="0" y="49"/>
                    </a:lnTo>
                    <a:lnTo>
                      <a:pt x="42" y="7"/>
                    </a:lnTo>
                    <a:lnTo>
                      <a:pt x="66" y="0"/>
                    </a:lnTo>
                    <a:lnTo>
                      <a:pt x="10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7605720" y="5025240"/>
                <a:ext cx="21600" cy="53280"/>
              </a:xfrm>
              <a:custGeom>
                <a:avLst/>
                <a:gdLst/>
                <a:ahLst/>
                <a:rect l="l" t="t" r="r" b="b"/>
                <a:pathLst>
                  <a:path w="265" h="505">
                    <a:moveTo>
                      <a:pt x="215" y="0"/>
                    </a:moveTo>
                    <a:lnTo>
                      <a:pt x="215" y="71"/>
                    </a:lnTo>
                    <a:lnTo>
                      <a:pt x="0" y="193"/>
                    </a:lnTo>
                    <a:lnTo>
                      <a:pt x="131" y="152"/>
                    </a:lnTo>
                    <a:lnTo>
                      <a:pt x="131" y="277"/>
                    </a:lnTo>
                    <a:lnTo>
                      <a:pt x="57" y="258"/>
                    </a:lnTo>
                    <a:lnTo>
                      <a:pt x="239" y="431"/>
                    </a:lnTo>
                    <a:lnTo>
                      <a:pt x="265" y="505"/>
                    </a:lnTo>
                    <a:lnTo>
                      <a:pt x="255" y="405"/>
                    </a:lnTo>
                    <a:lnTo>
                      <a:pt x="180" y="308"/>
                    </a:lnTo>
                    <a:lnTo>
                      <a:pt x="180" y="143"/>
                    </a:lnTo>
                    <a:lnTo>
                      <a:pt x="233" y="92"/>
                    </a:lnTo>
                    <a:lnTo>
                      <a:pt x="233" y="51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7580520" y="5083560"/>
                <a:ext cx="75960" cy="56880"/>
              </a:xfrm>
              <a:custGeom>
                <a:avLst/>
                <a:gdLst/>
                <a:ahLst/>
                <a:rect l="l" t="t" r="r" b="b"/>
                <a:pathLst>
                  <a:path w="918" h="541">
                    <a:moveTo>
                      <a:pt x="529" y="181"/>
                    </a:moveTo>
                    <a:lnTo>
                      <a:pt x="520" y="211"/>
                    </a:lnTo>
                    <a:lnTo>
                      <a:pt x="470" y="211"/>
                    </a:lnTo>
                    <a:lnTo>
                      <a:pt x="379" y="55"/>
                    </a:lnTo>
                    <a:lnTo>
                      <a:pt x="217" y="0"/>
                    </a:lnTo>
                    <a:lnTo>
                      <a:pt x="35" y="55"/>
                    </a:lnTo>
                    <a:lnTo>
                      <a:pt x="0" y="123"/>
                    </a:lnTo>
                    <a:lnTo>
                      <a:pt x="65" y="186"/>
                    </a:lnTo>
                    <a:lnTo>
                      <a:pt x="123" y="294"/>
                    </a:lnTo>
                    <a:lnTo>
                      <a:pt x="245" y="172"/>
                    </a:lnTo>
                    <a:lnTo>
                      <a:pt x="373" y="195"/>
                    </a:lnTo>
                    <a:lnTo>
                      <a:pt x="553" y="283"/>
                    </a:lnTo>
                    <a:lnTo>
                      <a:pt x="613" y="319"/>
                    </a:lnTo>
                    <a:lnTo>
                      <a:pt x="619" y="411"/>
                    </a:lnTo>
                    <a:lnTo>
                      <a:pt x="529" y="474"/>
                    </a:lnTo>
                    <a:lnTo>
                      <a:pt x="619" y="541"/>
                    </a:lnTo>
                    <a:lnTo>
                      <a:pt x="918" y="541"/>
                    </a:lnTo>
                    <a:lnTo>
                      <a:pt x="793" y="424"/>
                    </a:lnTo>
                    <a:lnTo>
                      <a:pt x="727" y="424"/>
                    </a:lnTo>
                    <a:lnTo>
                      <a:pt x="660" y="253"/>
                    </a:lnTo>
                    <a:lnTo>
                      <a:pt x="577" y="204"/>
                    </a:lnTo>
                    <a:lnTo>
                      <a:pt x="529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7518240" y="5109840"/>
                <a:ext cx="108000" cy="48960"/>
              </a:xfrm>
              <a:custGeom>
                <a:avLst/>
                <a:gdLst/>
                <a:ahLst/>
                <a:rect l="l" t="t" r="r" b="b"/>
                <a:pathLst>
                  <a:path w="1305" h="464">
                    <a:moveTo>
                      <a:pt x="1248" y="185"/>
                    </a:moveTo>
                    <a:lnTo>
                      <a:pt x="1184" y="130"/>
                    </a:lnTo>
                    <a:lnTo>
                      <a:pt x="1149" y="53"/>
                    </a:lnTo>
                    <a:lnTo>
                      <a:pt x="1066" y="71"/>
                    </a:lnTo>
                    <a:lnTo>
                      <a:pt x="1033" y="242"/>
                    </a:lnTo>
                    <a:lnTo>
                      <a:pt x="1089" y="293"/>
                    </a:lnTo>
                    <a:lnTo>
                      <a:pt x="944" y="293"/>
                    </a:lnTo>
                    <a:lnTo>
                      <a:pt x="826" y="341"/>
                    </a:lnTo>
                    <a:lnTo>
                      <a:pt x="497" y="433"/>
                    </a:lnTo>
                    <a:lnTo>
                      <a:pt x="308" y="464"/>
                    </a:lnTo>
                    <a:lnTo>
                      <a:pt x="149" y="464"/>
                    </a:lnTo>
                    <a:lnTo>
                      <a:pt x="50" y="433"/>
                    </a:lnTo>
                    <a:lnTo>
                      <a:pt x="0" y="350"/>
                    </a:lnTo>
                    <a:lnTo>
                      <a:pt x="50" y="350"/>
                    </a:lnTo>
                    <a:lnTo>
                      <a:pt x="200" y="415"/>
                    </a:lnTo>
                    <a:lnTo>
                      <a:pt x="349" y="424"/>
                    </a:lnTo>
                    <a:lnTo>
                      <a:pt x="547" y="392"/>
                    </a:lnTo>
                    <a:lnTo>
                      <a:pt x="769" y="311"/>
                    </a:lnTo>
                    <a:lnTo>
                      <a:pt x="826" y="286"/>
                    </a:lnTo>
                    <a:lnTo>
                      <a:pt x="769" y="176"/>
                    </a:lnTo>
                    <a:lnTo>
                      <a:pt x="695" y="110"/>
                    </a:lnTo>
                    <a:lnTo>
                      <a:pt x="605" y="14"/>
                    </a:lnTo>
                    <a:lnTo>
                      <a:pt x="769" y="46"/>
                    </a:lnTo>
                    <a:lnTo>
                      <a:pt x="810" y="110"/>
                    </a:lnTo>
                    <a:lnTo>
                      <a:pt x="870" y="64"/>
                    </a:lnTo>
                    <a:lnTo>
                      <a:pt x="870" y="130"/>
                    </a:lnTo>
                    <a:lnTo>
                      <a:pt x="1033" y="0"/>
                    </a:lnTo>
                    <a:lnTo>
                      <a:pt x="1257" y="46"/>
                    </a:lnTo>
                    <a:lnTo>
                      <a:pt x="1305" y="145"/>
                    </a:lnTo>
                    <a:lnTo>
                      <a:pt x="1248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7592040" y="5142240"/>
                <a:ext cx="2484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7536960" y="4793040"/>
                <a:ext cx="4320" cy="13320"/>
              </a:xfrm>
              <a:custGeom>
                <a:avLst/>
                <a:gdLst/>
                <a:ahLst/>
                <a:rect l="l" t="t" r="r" b="b"/>
                <a:pathLst>
                  <a:path w="50" h="123">
                    <a:moveTo>
                      <a:pt x="32" y="0"/>
                    </a:moveTo>
                    <a:lnTo>
                      <a:pt x="50" y="42"/>
                    </a:lnTo>
                    <a:lnTo>
                      <a:pt x="50" y="83"/>
                    </a:lnTo>
                    <a:lnTo>
                      <a:pt x="32" y="118"/>
                    </a:lnTo>
                    <a:lnTo>
                      <a:pt x="14" y="123"/>
                    </a:lnTo>
                    <a:lnTo>
                      <a:pt x="0" y="123"/>
                    </a:lnTo>
                    <a:lnTo>
                      <a:pt x="0" y="111"/>
                    </a:lnTo>
                    <a:lnTo>
                      <a:pt x="19" y="111"/>
                    </a:lnTo>
                    <a:lnTo>
                      <a:pt x="32" y="83"/>
                    </a:lnTo>
                    <a:lnTo>
                      <a:pt x="39" y="48"/>
                    </a:lnTo>
                    <a:lnTo>
                      <a:pt x="19" y="1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7471800" y="4759920"/>
                <a:ext cx="25560" cy="15120"/>
              </a:xfrm>
              <a:custGeom>
                <a:avLst/>
                <a:gdLst/>
                <a:ahLst/>
                <a:rect l="l" t="t" r="r" b="b"/>
                <a:pathLst>
                  <a:path w="311" h="142">
                    <a:moveTo>
                      <a:pt x="0" y="49"/>
                    </a:moveTo>
                    <a:lnTo>
                      <a:pt x="48" y="39"/>
                    </a:lnTo>
                    <a:lnTo>
                      <a:pt x="14" y="26"/>
                    </a:lnTo>
                    <a:lnTo>
                      <a:pt x="55" y="0"/>
                    </a:lnTo>
                    <a:lnTo>
                      <a:pt x="117" y="1"/>
                    </a:lnTo>
                    <a:lnTo>
                      <a:pt x="179" y="1"/>
                    </a:lnTo>
                    <a:lnTo>
                      <a:pt x="255" y="37"/>
                    </a:lnTo>
                    <a:lnTo>
                      <a:pt x="218" y="37"/>
                    </a:lnTo>
                    <a:lnTo>
                      <a:pt x="267" y="83"/>
                    </a:lnTo>
                    <a:lnTo>
                      <a:pt x="278" y="54"/>
                    </a:lnTo>
                    <a:lnTo>
                      <a:pt x="311" y="107"/>
                    </a:lnTo>
                    <a:lnTo>
                      <a:pt x="273" y="142"/>
                    </a:lnTo>
                    <a:lnTo>
                      <a:pt x="276" y="109"/>
                    </a:lnTo>
                    <a:lnTo>
                      <a:pt x="223" y="122"/>
                    </a:lnTo>
                    <a:lnTo>
                      <a:pt x="188" y="120"/>
                    </a:lnTo>
                    <a:lnTo>
                      <a:pt x="240" y="109"/>
                    </a:lnTo>
                    <a:lnTo>
                      <a:pt x="253" y="92"/>
                    </a:lnTo>
                    <a:lnTo>
                      <a:pt x="235" y="61"/>
                    </a:lnTo>
                    <a:lnTo>
                      <a:pt x="191" y="39"/>
                    </a:lnTo>
                    <a:lnTo>
                      <a:pt x="156" y="37"/>
                    </a:lnTo>
                    <a:lnTo>
                      <a:pt x="101" y="41"/>
                    </a:lnTo>
                    <a:lnTo>
                      <a:pt x="60" y="46"/>
                    </a:lnTo>
                    <a:lnTo>
                      <a:pt x="95" y="81"/>
                    </a:lnTo>
                    <a:lnTo>
                      <a:pt x="140" y="109"/>
                    </a:lnTo>
                    <a:lnTo>
                      <a:pt x="122" y="122"/>
                    </a:lnTo>
                    <a:lnTo>
                      <a:pt x="106" y="104"/>
                    </a:lnTo>
                    <a:lnTo>
                      <a:pt x="71" y="109"/>
                    </a:lnTo>
                    <a:lnTo>
                      <a:pt x="66" y="81"/>
                    </a:lnTo>
                    <a:lnTo>
                      <a:pt x="36" y="79"/>
                    </a:lnTo>
                    <a:lnTo>
                      <a:pt x="43" y="61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7514280" y="4763160"/>
                <a:ext cx="21600" cy="12600"/>
              </a:xfrm>
              <a:custGeom>
                <a:avLst/>
                <a:gdLst/>
                <a:ahLst/>
                <a:rect l="l" t="t" r="r" b="b"/>
                <a:pathLst>
                  <a:path w="263" h="121">
                    <a:moveTo>
                      <a:pt x="0" y="75"/>
                    </a:moveTo>
                    <a:lnTo>
                      <a:pt x="26" y="31"/>
                    </a:lnTo>
                    <a:lnTo>
                      <a:pt x="92" y="0"/>
                    </a:lnTo>
                    <a:lnTo>
                      <a:pt x="127" y="0"/>
                    </a:lnTo>
                    <a:lnTo>
                      <a:pt x="109" y="24"/>
                    </a:lnTo>
                    <a:lnTo>
                      <a:pt x="145" y="24"/>
                    </a:lnTo>
                    <a:lnTo>
                      <a:pt x="151" y="5"/>
                    </a:lnTo>
                    <a:lnTo>
                      <a:pt x="175" y="17"/>
                    </a:lnTo>
                    <a:lnTo>
                      <a:pt x="208" y="12"/>
                    </a:lnTo>
                    <a:lnTo>
                      <a:pt x="217" y="29"/>
                    </a:lnTo>
                    <a:lnTo>
                      <a:pt x="259" y="24"/>
                    </a:lnTo>
                    <a:lnTo>
                      <a:pt x="226" y="58"/>
                    </a:lnTo>
                    <a:lnTo>
                      <a:pt x="263" y="77"/>
                    </a:lnTo>
                    <a:lnTo>
                      <a:pt x="208" y="86"/>
                    </a:lnTo>
                    <a:lnTo>
                      <a:pt x="206" y="104"/>
                    </a:lnTo>
                    <a:lnTo>
                      <a:pt x="180" y="97"/>
                    </a:lnTo>
                    <a:lnTo>
                      <a:pt x="151" y="121"/>
                    </a:lnTo>
                    <a:lnTo>
                      <a:pt x="134" y="110"/>
                    </a:lnTo>
                    <a:lnTo>
                      <a:pt x="97" y="110"/>
                    </a:lnTo>
                    <a:lnTo>
                      <a:pt x="151" y="97"/>
                    </a:lnTo>
                    <a:lnTo>
                      <a:pt x="184" y="77"/>
                    </a:lnTo>
                    <a:lnTo>
                      <a:pt x="206" y="68"/>
                    </a:lnTo>
                    <a:lnTo>
                      <a:pt x="169" y="51"/>
                    </a:lnTo>
                    <a:lnTo>
                      <a:pt x="134" y="38"/>
                    </a:lnTo>
                    <a:lnTo>
                      <a:pt x="85" y="31"/>
                    </a:lnTo>
                    <a:lnTo>
                      <a:pt x="37" y="58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7516440" y="47725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51" h="17">
                    <a:moveTo>
                      <a:pt x="14" y="0"/>
                    </a:moveTo>
                    <a:lnTo>
                      <a:pt x="51" y="17"/>
                    </a:lnTo>
                    <a:lnTo>
                      <a:pt x="0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7473960" y="4748040"/>
                <a:ext cx="25560" cy="15120"/>
              </a:xfrm>
              <a:custGeom>
                <a:avLst/>
                <a:gdLst/>
                <a:ahLst/>
                <a:rect l="l" t="t" r="r" b="b"/>
                <a:pathLst>
                  <a:path w="310" h="140">
                    <a:moveTo>
                      <a:pt x="0" y="28"/>
                    </a:moveTo>
                    <a:lnTo>
                      <a:pt x="93" y="0"/>
                    </a:lnTo>
                    <a:lnTo>
                      <a:pt x="238" y="57"/>
                    </a:lnTo>
                    <a:lnTo>
                      <a:pt x="310" y="140"/>
                    </a:lnTo>
                    <a:lnTo>
                      <a:pt x="244" y="74"/>
                    </a:lnTo>
                    <a:lnTo>
                      <a:pt x="145" y="28"/>
                    </a:lnTo>
                    <a:lnTo>
                      <a:pt x="81" y="21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7516440" y="4752360"/>
                <a:ext cx="19800" cy="6480"/>
              </a:xfrm>
              <a:custGeom>
                <a:avLst/>
                <a:gdLst/>
                <a:ahLst/>
                <a:rect l="l" t="t" r="r" b="b"/>
                <a:pathLst>
                  <a:path w="245" h="64">
                    <a:moveTo>
                      <a:pt x="0" y="64"/>
                    </a:moveTo>
                    <a:lnTo>
                      <a:pt x="86" y="31"/>
                    </a:lnTo>
                    <a:lnTo>
                      <a:pt x="157" y="18"/>
                    </a:lnTo>
                    <a:lnTo>
                      <a:pt x="218" y="18"/>
                    </a:lnTo>
                    <a:lnTo>
                      <a:pt x="245" y="35"/>
                    </a:lnTo>
                    <a:lnTo>
                      <a:pt x="229" y="0"/>
                    </a:lnTo>
                    <a:lnTo>
                      <a:pt x="168" y="0"/>
                    </a:lnTo>
                    <a:lnTo>
                      <a:pt x="69" y="18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7493760" y="4799880"/>
                <a:ext cx="16200" cy="10800"/>
              </a:xfrm>
              <a:custGeom>
                <a:avLst/>
                <a:gdLst/>
                <a:ahLst/>
                <a:rect l="l" t="t" r="r" b="b"/>
                <a:pathLst>
                  <a:path w="207" h="103">
                    <a:moveTo>
                      <a:pt x="207" y="38"/>
                    </a:moveTo>
                    <a:lnTo>
                      <a:pt x="152" y="73"/>
                    </a:lnTo>
                    <a:lnTo>
                      <a:pt x="130" y="66"/>
                    </a:lnTo>
                    <a:lnTo>
                      <a:pt x="101" y="38"/>
                    </a:lnTo>
                    <a:lnTo>
                      <a:pt x="58" y="29"/>
                    </a:lnTo>
                    <a:lnTo>
                      <a:pt x="11" y="22"/>
                    </a:lnTo>
                    <a:lnTo>
                      <a:pt x="11" y="0"/>
                    </a:lnTo>
                    <a:lnTo>
                      <a:pt x="0" y="22"/>
                    </a:lnTo>
                    <a:lnTo>
                      <a:pt x="11" y="38"/>
                    </a:lnTo>
                    <a:lnTo>
                      <a:pt x="67" y="57"/>
                    </a:lnTo>
                    <a:lnTo>
                      <a:pt x="125" y="103"/>
                    </a:lnTo>
                    <a:lnTo>
                      <a:pt x="148" y="103"/>
                    </a:lnTo>
                    <a:lnTo>
                      <a:pt x="207" y="66"/>
                    </a:lnTo>
                    <a:lnTo>
                      <a:pt x="20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7509600" y="4760640"/>
                <a:ext cx="4320" cy="18360"/>
              </a:xfrm>
              <a:custGeom>
                <a:avLst/>
                <a:gdLst/>
                <a:ahLst/>
                <a:rect l="l" t="t" r="r" b="b"/>
                <a:pathLst>
                  <a:path w="57" h="172">
                    <a:moveTo>
                      <a:pt x="57" y="0"/>
                    </a:moveTo>
                    <a:lnTo>
                      <a:pt x="15" y="51"/>
                    </a:lnTo>
                    <a:lnTo>
                      <a:pt x="0" y="106"/>
                    </a:lnTo>
                    <a:lnTo>
                      <a:pt x="4" y="141"/>
                    </a:lnTo>
                    <a:lnTo>
                      <a:pt x="33" y="172"/>
                    </a:lnTo>
                    <a:lnTo>
                      <a:pt x="15" y="134"/>
                    </a:lnTo>
                    <a:lnTo>
                      <a:pt x="15" y="95"/>
                    </a:lnTo>
                    <a:lnTo>
                      <a:pt x="28" y="49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7481880" y="47631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1" h="74">
                    <a:moveTo>
                      <a:pt x="0" y="6"/>
                    </a:moveTo>
                    <a:lnTo>
                      <a:pt x="6" y="57"/>
                    </a:lnTo>
                    <a:lnTo>
                      <a:pt x="30" y="74"/>
                    </a:lnTo>
                    <a:lnTo>
                      <a:pt x="57" y="74"/>
                    </a:lnTo>
                    <a:lnTo>
                      <a:pt x="72" y="39"/>
                    </a:lnTo>
                    <a:lnTo>
                      <a:pt x="81" y="17"/>
                    </a:lnTo>
                    <a:lnTo>
                      <a:pt x="57" y="32"/>
                    </a:lnTo>
                    <a:lnTo>
                      <a:pt x="37" y="50"/>
                    </a:lnTo>
                    <a:lnTo>
                      <a:pt x="30" y="39"/>
                    </a:lnTo>
                    <a:lnTo>
                      <a:pt x="3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7518960" y="4766760"/>
                <a:ext cx="7200" cy="6480"/>
              </a:xfrm>
              <a:custGeom>
                <a:avLst/>
                <a:gdLst/>
                <a:ahLst/>
                <a:rect l="l" t="t" r="r" b="b"/>
                <a:pathLst>
                  <a:path w="92" h="64">
                    <a:moveTo>
                      <a:pt x="0" y="12"/>
                    </a:moveTo>
                    <a:lnTo>
                      <a:pt x="5" y="64"/>
                    </a:lnTo>
                    <a:lnTo>
                      <a:pt x="64" y="64"/>
                    </a:lnTo>
                    <a:lnTo>
                      <a:pt x="89" y="35"/>
                    </a:lnTo>
                    <a:lnTo>
                      <a:pt x="92" y="0"/>
                    </a:lnTo>
                    <a:lnTo>
                      <a:pt x="55" y="0"/>
                    </a:lnTo>
                    <a:lnTo>
                      <a:pt x="64" y="31"/>
                    </a:lnTo>
                    <a:lnTo>
                      <a:pt x="41" y="42"/>
                    </a:lnTo>
                    <a:lnTo>
                      <a:pt x="27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7487640" y="4817520"/>
                <a:ext cx="28440" cy="3240"/>
              </a:xfrm>
              <a:custGeom>
                <a:avLst/>
                <a:gdLst/>
                <a:ahLst/>
                <a:rect l="l" t="t" r="r" b="b"/>
                <a:pathLst>
                  <a:path w="350" h="31">
                    <a:moveTo>
                      <a:pt x="0" y="5"/>
                    </a:moveTo>
                    <a:lnTo>
                      <a:pt x="111" y="0"/>
                    </a:lnTo>
                    <a:lnTo>
                      <a:pt x="198" y="14"/>
                    </a:lnTo>
                    <a:lnTo>
                      <a:pt x="251" y="5"/>
                    </a:lnTo>
                    <a:lnTo>
                      <a:pt x="350" y="14"/>
                    </a:lnTo>
                    <a:lnTo>
                      <a:pt x="276" y="24"/>
                    </a:lnTo>
                    <a:lnTo>
                      <a:pt x="198" y="31"/>
                    </a:lnTo>
                    <a:lnTo>
                      <a:pt x="46" y="1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7493040" y="4823280"/>
                <a:ext cx="19080" cy="4320"/>
              </a:xfrm>
              <a:custGeom>
                <a:avLst/>
                <a:gdLst/>
                <a:ahLst/>
                <a:rect l="l" t="t" r="r" b="b"/>
                <a:pathLst>
                  <a:path w="233" h="42">
                    <a:moveTo>
                      <a:pt x="0" y="0"/>
                    </a:moveTo>
                    <a:lnTo>
                      <a:pt x="60" y="35"/>
                    </a:lnTo>
                    <a:lnTo>
                      <a:pt x="159" y="42"/>
                    </a:lnTo>
                    <a:lnTo>
                      <a:pt x="233" y="7"/>
                    </a:lnTo>
                    <a:lnTo>
                      <a:pt x="164" y="24"/>
                    </a:lnTo>
                    <a:lnTo>
                      <a:pt x="7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7786080" y="48369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595" h="512">
                    <a:moveTo>
                      <a:pt x="97" y="215"/>
                    </a:moveTo>
                    <a:lnTo>
                      <a:pt x="120" y="122"/>
                    </a:lnTo>
                    <a:lnTo>
                      <a:pt x="305" y="0"/>
                    </a:lnTo>
                    <a:lnTo>
                      <a:pt x="498" y="68"/>
                    </a:lnTo>
                    <a:lnTo>
                      <a:pt x="395" y="68"/>
                    </a:lnTo>
                    <a:lnTo>
                      <a:pt x="514" y="209"/>
                    </a:lnTo>
                    <a:lnTo>
                      <a:pt x="569" y="191"/>
                    </a:lnTo>
                    <a:lnTo>
                      <a:pt x="525" y="96"/>
                    </a:lnTo>
                    <a:lnTo>
                      <a:pt x="595" y="209"/>
                    </a:lnTo>
                    <a:lnTo>
                      <a:pt x="551" y="261"/>
                    </a:lnTo>
                    <a:lnTo>
                      <a:pt x="595" y="503"/>
                    </a:lnTo>
                    <a:lnTo>
                      <a:pt x="533" y="512"/>
                    </a:lnTo>
                    <a:lnTo>
                      <a:pt x="464" y="494"/>
                    </a:lnTo>
                    <a:lnTo>
                      <a:pt x="542" y="486"/>
                    </a:lnTo>
                    <a:lnTo>
                      <a:pt x="475" y="329"/>
                    </a:lnTo>
                    <a:lnTo>
                      <a:pt x="351" y="200"/>
                    </a:lnTo>
                    <a:lnTo>
                      <a:pt x="489" y="311"/>
                    </a:lnTo>
                    <a:lnTo>
                      <a:pt x="542" y="424"/>
                    </a:lnTo>
                    <a:lnTo>
                      <a:pt x="510" y="244"/>
                    </a:lnTo>
                    <a:lnTo>
                      <a:pt x="305" y="41"/>
                    </a:lnTo>
                    <a:lnTo>
                      <a:pt x="261" y="122"/>
                    </a:lnTo>
                    <a:lnTo>
                      <a:pt x="305" y="173"/>
                    </a:lnTo>
                    <a:lnTo>
                      <a:pt x="228" y="173"/>
                    </a:lnTo>
                    <a:lnTo>
                      <a:pt x="323" y="306"/>
                    </a:lnTo>
                    <a:lnTo>
                      <a:pt x="191" y="209"/>
                    </a:lnTo>
                    <a:lnTo>
                      <a:pt x="0" y="373"/>
                    </a:lnTo>
                    <a:lnTo>
                      <a:pt x="17" y="253"/>
                    </a:lnTo>
                    <a:lnTo>
                      <a:pt x="97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7794000" y="4872600"/>
                <a:ext cx="34920" cy="55800"/>
              </a:xfrm>
              <a:custGeom>
                <a:avLst/>
                <a:gdLst/>
                <a:ahLst/>
                <a:rect l="l" t="t" r="r" b="b"/>
                <a:pathLst>
                  <a:path w="417" h="531">
                    <a:moveTo>
                      <a:pt x="351" y="198"/>
                    </a:moveTo>
                    <a:lnTo>
                      <a:pt x="307" y="183"/>
                    </a:lnTo>
                    <a:lnTo>
                      <a:pt x="254" y="114"/>
                    </a:lnTo>
                    <a:lnTo>
                      <a:pt x="208" y="114"/>
                    </a:lnTo>
                    <a:lnTo>
                      <a:pt x="146" y="62"/>
                    </a:lnTo>
                    <a:lnTo>
                      <a:pt x="146" y="104"/>
                    </a:lnTo>
                    <a:lnTo>
                      <a:pt x="94" y="114"/>
                    </a:lnTo>
                    <a:lnTo>
                      <a:pt x="44" y="53"/>
                    </a:lnTo>
                    <a:lnTo>
                      <a:pt x="72" y="132"/>
                    </a:lnTo>
                    <a:lnTo>
                      <a:pt x="0" y="132"/>
                    </a:lnTo>
                    <a:lnTo>
                      <a:pt x="87" y="189"/>
                    </a:lnTo>
                    <a:lnTo>
                      <a:pt x="78" y="270"/>
                    </a:lnTo>
                    <a:lnTo>
                      <a:pt x="131" y="383"/>
                    </a:lnTo>
                    <a:lnTo>
                      <a:pt x="131" y="305"/>
                    </a:lnTo>
                    <a:lnTo>
                      <a:pt x="164" y="279"/>
                    </a:lnTo>
                    <a:lnTo>
                      <a:pt x="182" y="321"/>
                    </a:lnTo>
                    <a:lnTo>
                      <a:pt x="219" y="288"/>
                    </a:lnTo>
                    <a:lnTo>
                      <a:pt x="272" y="288"/>
                    </a:lnTo>
                    <a:lnTo>
                      <a:pt x="340" y="347"/>
                    </a:lnTo>
                    <a:lnTo>
                      <a:pt x="332" y="436"/>
                    </a:lnTo>
                    <a:lnTo>
                      <a:pt x="291" y="531"/>
                    </a:lnTo>
                    <a:lnTo>
                      <a:pt x="383" y="383"/>
                    </a:lnTo>
                    <a:lnTo>
                      <a:pt x="413" y="288"/>
                    </a:lnTo>
                    <a:lnTo>
                      <a:pt x="417" y="156"/>
                    </a:lnTo>
                    <a:lnTo>
                      <a:pt x="383" y="156"/>
                    </a:lnTo>
                    <a:lnTo>
                      <a:pt x="323" y="42"/>
                    </a:lnTo>
                    <a:lnTo>
                      <a:pt x="261" y="0"/>
                    </a:lnTo>
                    <a:lnTo>
                      <a:pt x="314" y="77"/>
                    </a:lnTo>
                    <a:lnTo>
                      <a:pt x="351" y="148"/>
                    </a:lnTo>
                    <a:lnTo>
                      <a:pt x="351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7751520" y="4880160"/>
                <a:ext cx="141840" cy="259200"/>
              </a:xfrm>
              <a:custGeom>
                <a:avLst/>
                <a:gdLst/>
                <a:ahLst/>
                <a:rect l="l" t="t" r="r" b="b"/>
                <a:pathLst>
                  <a:path w="1712" h="2448">
                    <a:moveTo>
                      <a:pt x="420" y="0"/>
                    </a:moveTo>
                    <a:lnTo>
                      <a:pt x="499" y="424"/>
                    </a:lnTo>
                    <a:lnTo>
                      <a:pt x="522" y="451"/>
                    </a:lnTo>
                    <a:lnTo>
                      <a:pt x="561" y="468"/>
                    </a:lnTo>
                    <a:lnTo>
                      <a:pt x="534" y="495"/>
                    </a:lnTo>
                    <a:lnTo>
                      <a:pt x="483" y="486"/>
                    </a:lnTo>
                    <a:lnTo>
                      <a:pt x="475" y="550"/>
                    </a:lnTo>
                    <a:lnTo>
                      <a:pt x="499" y="599"/>
                    </a:lnTo>
                    <a:lnTo>
                      <a:pt x="540" y="615"/>
                    </a:lnTo>
                    <a:lnTo>
                      <a:pt x="589" y="606"/>
                    </a:lnTo>
                    <a:lnTo>
                      <a:pt x="611" y="479"/>
                    </a:lnTo>
                    <a:lnTo>
                      <a:pt x="663" y="479"/>
                    </a:lnTo>
                    <a:lnTo>
                      <a:pt x="711" y="451"/>
                    </a:lnTo>
                    <a:lnTo>
                      <a:pt x="743" y="398"/>
                    </a:lnTo>
                    <a:lnTo>
                      <a:pt x="743" y="461"/>
                    </a:lnTo>
                    <a:lnTo>
                      <a:pt x="771" y="451"/>
                    </a:lnTo>
                    <a:lnTo>
                      <a:pt x="824" y="424"/>
                    </a:lnTo>
                    <a:lnTo>
                      <a:pt x="798" y="461"/>
                    </a:lnTo>
                    <a:lnTo>
                      <a:pt x="743" y="530"/>
                    </a:lnTo>
                    <a:lnTo>
                      <a:pt x="699" y="650"/>
                    </a:lnTo>
                    <a:lnTo>
                      <a:pt x="909" y="415"/>
                    </a:lnTo>
                    <a:lnTo>
                      <a:pt x="945" y="444"/>
                    </a:lnTo>
                    <a:lnTo>
                      <a:pt x="815" y="798"/>
                    </a:lnTo>
                    <a:lnTo>
                      <a:pt x="824" y="1260"/>
                    </a:lnTo>
                    <a:lnTo>
                      <a:pt x="1172" y="1295"/>
                    </a:lnTo>
                    <a:lnTo>
                      <a:pt x="1331" y="1371"/>
                    </a:lnTo>
                    <a:lnTo>
                      <a:pt x="1417" y="1371"/>
                    </a:lnTo>
                    <a:lnTo>
                      <a:pt x="1460" y="1442"/>
                    </a:lnTo>
                    <a:lnTo>
                      <a:pt x="1172" y="1332"/>
                    </a:lnTo>
                    <a:lnTo>
                      <a:pt x="953" y="1314"/>
                    </a:lnTo>
                    <a:lnTo>
                      <a:pt x="1059" y="1380"/>
                    </a:lnTo>
                    <a:lnTo>
                      <a:pt x="953" y="1380"/>
                    </a:lnTo>
                    <a:lnTo>
                      <a:pt x="798" y="1362"/>
                    </a:lnTo>
                    <a:lnTo>
                      <a:pt x="909" y="1459"/>
                    </a:lnTo>
                    <a:lnTo>
                      <a:pt x="1296" y="1523"/>
                    </a:lnTo>
                    <a:lnTo>
                      <a:pt x="971" y="1493"/>
                    </a:lnTo>
                    <a:lnTo>
                      <a:pt x="1172" y="1611"/>
                    </a:lnTo>
                    <a:lnTo>
                      <a:pt x="1147" y="1636"/>
                    </a:lnTo>
                    <a:lnTo>
                      <a:pt x="875" y="1503"/>
                    </a:lnTo>
                    <a:lnTo>
                      <a:pt x="918" y="1636"/>
                    </a:lnTo>
                    <a:lnTo>
                      <a:pt x="1349" y="1747"/>
                    </a:lnTo>
                    <a:lnTo>
                      <a:pt x="1626" y="1921"/>
                    </a:lnTo>
                    <a:lnTo>
                      <a:pt x="1349" y="1867"/>
                    </a:lnTo>
                    <a:lnTo>
                      <a:pt x="1191" y="1765"/>
                    </a:lnTo>
                    <a:lnTo>
                      <a:pt x="953" y="1701"/>
                    </a:lnTo>
                    <a:lnTo>
                      <a:pt x="1068" y="1826"/>
                    </a:lnTo>
                    <a:lnTo>
                      <a:pt x="1712" y="2049"/>
                    </a:lnTo>
                    <a:lnTo>
                      <a:pt x="1068" y="1867"/>
                    </a:lnTo>
                    <a:lnTo>
                      <a:pt x="884" y="1736"/>
                    </a:lnTo>
                    <a:lnTo>
                      <a:pt x="895" y="1809"/>
                    </a:lnTo>
                    <a:lnTo>
                      <a:pt x="1068" y="1973"/>
                    </a:lnTo>
                    <a:lnTo>
                      <a:pt x="1321" y="2024"/>
                    </a:lnTo>
                    <a:lnTo>
                      <a:pt x="1460" y="2121"/>
                    </a:lnTo>
                    <a:lnTo>
                      <a:pt x="1259" y="2097"/>
                    </a:lnTo>
                    <a:lnTo>
                      <a:pt x="1008" y="1973"/>
                    </a:lnTo>
                    <a:lnTo>
                      <a:pt x="934" y="1982"/>
                    </a:lnTo>
                    <a:lnTo>
                      <a:pt x="971" y="2112"/>
                    </a:lnTo>
                    <a:lnTo>
                      <a:pt x="1033" y="2156"/>
                    </a:lnTo>
                    <a:lnTo>
                      <a:pt x="1349" y="2171"/>
                    </a:lnTo>
                    <a:lnTo>
                      <a:pt x="1024" y="2330"/>
                    </a:lnTo>
                    <a:lnTo>
                      <a:pt x="980" y="2314"/>
                    </a:lnTo>
                    <a:lnTo>
                      <a:pt x="909" y="2084"/>
                    </a:lnTo>
                    <a:lnTo>
                      <a:pt x="831" y="2339"/>
                    </a:lnTo>
                    <a:lnTo>
                      <a:pt x="849" y="2448"/>
                    </a:lnTo>
                    <a:lnTo>
                      <a:pt x="760" y="2354"/>
                    </a:lnTo>
                    <a:lnTo>
                      <a:pt x="895" y="2013"/>
                    </a:lnTo>
                    <a:lnTo>
                      <a:pt x="884" y="1921"/>
                    </a:lnTo>
                    <a:lnTo>
                      <a:pt x="824" y="1765"/>
                    </a:lnTo>
                    <a:lnTo>
                      <a:pt x="778" y="1563"/>
                    </a:lnTo>
                    <a:lnTo>
                      <a:pt x="674" y="1304"/>
                    </a:lnTo>
                    <a:lnTo>
                      <a:pt x="554" y="1523"/>
                    </a:lnTo>
                    <a:lnTo>
                      <a:pt x="554" y="1747"/>
                    </a:lnTo>
                    <a:lnTo>
                      <a:pt x="316" y="2033"/>
                    </a:lnTo>
                    <a:lnTo>
                      <a:pt x="0" y="2148"/>
                    </a:lnTo>
                    <a:lnTo>
                      <a:pt x="37" y="1973"/>
                    </a:lnTo>
                    <a:lnTo>
                      <a:pt x="217" y="1791"/>
                    </a:lnTo>
                    <a:lnTo>
                      <a:pt x="437" y="1685"/>
                    </a:lnTo>
                    <a:lnTo>
                      <a:pt x="534" y="1436"/>
                    </a:lnTo>
                    <a:lnTo>
                      <a:pt x="522" y="1314"/>
                    </a:lnTo>
                    <a:lnTo>
                      <a:pt x="611" y="1026"/>
                    </a:lnTo>
                    <a:lnTo>
                      <a:pt x="510" y="1000"/>
                    </a:lnTo>
                    <a:lnTo>
                      <a:pt x="420" y="938"/>
                    </a:lnTo>
                    <a:lnTo>
                      <a:pt x="522" y="650"/>
                    </a:lnTo>
                    <a:lnTo>
                      <a:pt x="475" y="627"/>
                    </a:lnTo>
                    <a:lnTo>
                      <a:pt x="448" y="541"/>
                    </a:lnTo>
                    <a:lnTo>
                      <a:pt x="448" y="433"/>
                    </a:lnTo>
                    <a:lnTo>
                      <a:pt x="420" y="53"/>
                    </a:lnTo>
                    <a:lnTo>
                      <a:pt x="4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7720560" y="4902480"/>
                <a:ext cx="56880" cy="184680"/>
              </a:xfrm>
              <a:custGeom>
                <a:avLst/>
                <a:gdLst/>
                <a:ahLst/>
                <a:rect l="l" t="t" r="r" b="b"/>
                <a:pathLst>
                  <a:path w="691" h="1748">
                    <a:moveTo>
                      <a:pt x="691" y="312"/>
                    </a:moveTo>
                    <a:lnTo>
                      <a:pt x="586" y="572"/>
                    </a:lnTo>
                    <a:lnTo>
                      <a:pt x="516" y="729"/>
                    </a:lnTo>
                    <a:lnTo>
                      <a:pt x="392" y="982"/>
                    </a:lnTo>
                    <a:lnTo>
                      <a:pt x="334" y="1017"/>
                    </a:lnTo>
                    <a:lnTo>
                      <a:pt x="351" y="1243"/>
                    </a:lnTo>
                    <a:lnTo>
                      <a:pt x="412" y="1527"/>
                    </a:lnTo>
                    <a:lnTo>
                      <a:pt x="472" y="1748"/>
                    </a:lnTo>
                    <a:lnTo>
                      <a:pt x="388" y="1485"/>
                    </a:lnTo>
                    <a:lnTo>
                      <a:pt x="334" y="1233"/>
                    </a:lnTo>
                    <a:lnTo>
                      <a:pt x="243" y="1171"/>
                    </a:lnTo>
                    <a:lnTo>
                      <a:pt x="254" y="1330"/>
                    </a:lnTo>
                    <a:lnTo>
                      <a:pt x="351" y="1591"/>
                    </a:lnTo>
                    <a:lnTo>
                      <a:pt x="239" y="1345"/>
                    </a:lnTo>
                    <a:lnTo>
                      <a:pt x="193" y="1153"/>
                    </a:lnTo>
                    <a:lnTo>
                      <a:pt x="87" y="1153"/>
                    </a:lnTo>
                    <a:lnTo>
                      <a:pt x="0" y="1227"/>
                    </a:lnTo>
                    <a:lnTo>
                      <a:pt x="87" y="1139"/>
                    </a:lnTo>
                    <a:lnTo>
                      <a:pt x="157" y="1112"/>
                    </a:lnTo>
                    <a:lnTo>
                      <a:pt x="219" y="895"/>
                    </a:lnTo>
                    <a:lnTo>
                      <a:pt x="219" y="782"/>
                    </a:lnTo>
                    <a:lnTo>
                      <a:pt x="175" y="721"/>
                    </a:lnTo>
                    <a:lnTo>
                      <a:pt x="175" y="644"/>
                    </a:lnTo>
                    <a:lnTo>
                      <a:pt x="279" y="235"/>
                    </a:lnTo>
                    <a:lnTo>
                      <a:pt x="388" y="0"/>
                    </a:lnTo>
                    <a:lnTo>
                      <a:pt x="307" y="341"/>
                    </a:lnTo>
                    <a:lnTo>
                      <a:pt x="219" y="685"/>
                    </a:lnTo>
                    <a:lnTo>
                      <a:pt x="307" y="798"/>
                    </a:lnTo>
                    <a:lnTo>
                      <a:pt x="366" y="914"/>
                    </a:lnTo>
                    <a:lnTo>
                      <a:pt x="606" y="462"/>
                    </a:lnTo>
                    <a:lnTo>
                      <a:pt x="691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7762680" y="4995720"/>
                <a:ext cx="6480" cy="45720"/>
              </a:xfrm>
              <a:custGeom>
                <a:avLst/>
                <a:gdLst/>
                <a:ahLst/>
                <a:rect l="l" t="t" r="r" b="b"/>
                <a:pathLst>
                  <a:path w="83" h="431">
                    <a:moveTo>
                      <a:pt x="0" y="0"/>
                    </a:moveTo>
                    <a:lnTo>
                      <a:pt x="51" y="106"/>
                    </a:lnTo>
                    <a:lnTo>
                      <a:pt x="51" y="297"/>
                    </a:lnTo>
                    <a:lnTo>
                      <a:pt x="83" y="385"/>
                    </a:lnTo>
                    <a:lnTo>
                      <a:pt x="42" y="431"/>
                    </a:lnTo>
                    <a:lnTo>
                      <a:pt x="24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7720560" y="5035320"/>
                <a:ext cx="34920" cy="72000"/>
              </a:xfrm>
              <a:custGeom>
                <a:avLst/>
                <a:gdLst/>
                <a:ahLst/>
                <a:rect l="l" t="t" r="r" b="b"/>
                <a:pathLst>
                  <a:path w="427" h="680">
                    <a:moveTo>
                      <a:pt x="0" y="0"/>
                    </a:moveTo>
                    <a:lnTo>
                      <a:pt x="175" y="532"/>
                    </a:lnTo>
                    <a:lnTo>
                      <a:pt x="307" y="543"/>
                    </a:lnTo>
                    <a:lnTo>
                      <a:pt x="427" y="629"/>
                    </a:lnTo>
                    <a:lnTo>
                      <a:pt x="366" y="680"/>
                    </a:lnTo>
                    <a:lnTo>
                      <a:pt x="175" y="611"/>
                    </a:lnTo>
                    <a:lnTo>
                      <a:pt x="81" y="3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7726320" y="5022720"/>
                <a:ext cx="10440" cy="34560"/>
              </a:xfrm>
              <a:custGeom>
                <a:avLst/>
                <a:gdLst/>
                <a:ahLst/>
                <a:rect l="l" t="t" r="r" b="b"/>
                <a:pathLst>
                  <a:path w="131" h="329">
                    <a:moveTo>
                      <a:pt x="131" y="14"/>
                    </a:moveTo>
                    <a:lnTo>
                      <a:pt x="43" y="329"/>
                    </a:lnTo>
                    <a:lnTo>
                      <a:pt x="0" y="226"/>
                    </a:lnTo>
                    <a:lnTo>
                      <a:pt x="112" y="0"/>
                    </a:lnTo>
                    <a:lnTo>
                      <a:pt x="13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7742520" y="4931280"/>
                <a:ext cx="8280" cy="32760"/>
              </a:xfrm>
              <a:custGeom>
                <a:avLst/>
                <a:gdLst/>
                <a:ahLst/>
                <a:rect l="l" t="t" r="r" b="b"/>
                <a:pathLst>
                  <a:path w="103" h="319">
                    <a:moveTo>
                      <a:pt x="71" y="0"/>
                    </a:moveTo>
                    <a:lnTo>
                      <a:pt x="71" y="171"/>
                    </a:lnTo>
                    <a:lnTo>
                      <a:pt x="103" y="319"/>
                    </a:lnTo>
                    <a:lnTo>
                      <a:pt x="0" y="21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7753680" y="4853880"/>
                <a:ext cx="44280" cy="75240"/>
              </a:xfrm>
              <a:custGeom>
                <a:avLst/>
                <a:gdLst/>
                <a:ahLst/>
                <a:rect l="l" t="t" r="r" b="b"/>
                <a:pathLst>
                  <a:path w="533" h="711">
                    <a:moveTo>
                      <a:pt x="0" y="393"/>
                    </a:moveTo>
                    <a:lnTo>
                      <a:pt x="60" y="393"/>
                    </a:lnTo>
                    <a:lnTo>
                      <a:pt x="174" y="520"/>
                    </a:lnTo>
                    <a:lnTo>
                      <a:pt x="254" y="711"/>
                    </a:lnTo>
                    <a:lnTo>
                      <a:pt x="189" y="503"/>
                    </a:lnTo>
                    <a:lnTo>
                      <a:pt x="93" y="329"/>
                    </a:lnTo>
                    <a:lnTo>
                      <a:pt x="51" y="305"/>
                    </a:lnTo>
                    <a:lnTo>
                      <a:pt x="227" y="164"/>
                    </a:lnTo>
                    <a:lnTo>
                      <a:pt x="427" y="141"/>
                    </a:lnTo>
                    <a:lnTo>
                      <a:pt x="533" y="0"/>
                    </a:lnTo>
                    <a:lnTo>
                      <a:pt x="306" y="35"/>
                    </a:lnTo>
                    <a:lnTo>
                      <a:pt x="189" y="153"/>
                    </a:lnTo>
                    <a:lnTo>
                      <a:pt x="21" y="305"/>
                    </a:lnTo>
                    <a:lnTo>
                      <a:pt x="0" y="3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7816680" y="482436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118" h="158">
                    <a:moveTo>
                      <a:pt x="63" y="0"/>
                    </a:moveTo>
                    <a:lnTo>
                      <a:pt x="0" y="158"/>
                    </a:lnTo>
                    <a:lnTo>
                      <a:pt x="26" y="158"/>
                    </a:lnTo>
                    <a:lnTo>
                      <a:pt x="118" y="38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7829280" y="4870800"/>
                <a:ext cx="81360" cy="64440"/>
              </a:xfrm>
              <a:custGeom>
                <a:avLst/>
                <a:gdLst/>
                <a:ahLst/>
                <a:rect l="l" t="t" r="r" b="b"/>
                <a:pathLst>
                  <a:path w="985" h="611">
                    <a:moveTo>
                      <a:pt x="55" y="194"/>
                    </a:moveTo>
                    <a:lnTo>
                      <a:pt x="107" y="264"/>
                    </a:lnTo>
                    <a:lnTo>
                      <a:pt x="182" y="334"/>
                    </a:lnTo>
                    <a:lnTo>
                      <a:pt x="199" y="354"/>
                    </a:lnTo>
                    <a:lnTo>
                      <a:pt x="257" y="334"/>
                    </a:lnTo>
                    <a:lnTo>
                      <a:pt x="254" y="387"/>
                    </a:lnTo>
                    <a:lnTo>
                      <a:pt x="301" y="424"/>
                    </a:lnTo>
                    <a:lnTo>
                      <a:pt x="413" y="470"/>
                    </a:lnTo>
                    <a:lnTo>
                      <a:pt x="479" y="502"/>
                    </a:lnTo>
                    <a:lnTo>
                      <a:pt x="538" y="543"/>
                    </a:lnTo>
                    <a:lnTo>
                      <a:pt x="580" y="585"/>
                    </a:lnTo>
                    <a:lnTo>
                      <a:pt x="901" y="20"/>
                    </a:lnTo>
                    <a:lnTo>
                      <a:pt x="938" y="0"/>
                    </a:lnTo>
                    <a:lnTo>
                      <a:pt x="976" y="0"/>
                    </a:lnTo>
                    <a:lnTo>
                      <a:pt x="985" y="20"/>
                    </a:lnTo>
                    <a:lnTo>
                      <a:pt x="967" y="29"/>
                    </a:lnTo>
                    <a:lnTo>
                      <a:pt x="936" y="29"/>
                    </a:lnTo>
                    <a:lnTo>
                      <a:pt x="899" y="48"/>
                    </a:lnTo>
                    <a:lnTo>
                      <a:pt x="865" y="90"/>
                    </a:lnTo>
                    <a:lnTo>
                      <a:pt x="580" y="611"/>
                    </a:lnTo>
                    <a:lnTo>
                      <a:pt x="459" y="565"/>
                    </a:lnTo>
                    <a:lnTo>
                      <a:pt x="538" y="578"/>
                    </a:lnTo>
                    <a:lnTo>
                      <a:pt x="485" y="532"/>
                    </a:lnTo>
                    <a:lnTo>
                      <a:pt x="404" y="486"/>
                    </a:lnTo>
                    <a:lnTo>
                      <a:pt x="325" y="458"/>
                    </a:lnTo>
                    <a:lnTo>
                      <a:pt x="296" y="453"/>
                    </a:lnTo>
                    <a:lnTo>
                      <a:pt x="362" y="519"/>
                    </a:lnTo>
                    <a:lnTo>
                      <a:pt x="301" y="475"/>
                    </a:lnTo>
                    <a:lnTo>
                      <a:pt x="257" y="440"/>
                    </a:lnTo>
                    <a:lnTo>
                      <a:pt x="204" y="383"/>
                    </a:lnTo>
                    <a:lnTo>
                      <a:pt x="136" y="315"/>
                    </a:lnTo>
                    <a:lnTo>
                      <a:pt x="74" y="269"/>
                    </a:lnTo>
                    <a:lnTo>
                      <a:pt x="24" y="224"/>
                    </a:lnTo>
                    <a:lnTo>
                      <a:pt x="0" y="185"/>
                    </a:lnTo>
                    <a:lnTo>
                      <a:pt x="55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7829280" y="4809240"/>
                <a:ext cx="23760" cy="37080"/>
              </a:xfrm>
              <a:custGeom>
                <a:avLst/>
                <a:gdLst/>
                <a:ahLst/>
                <a:rect l="l" t="t" r="r" b="b"/>
                <a:pathLst>
                  <a:path w="281" h="354">
                    <a:moveTo>
                      <a:pt x="0" y="338"/>
                    </a:moveTo>
                    <a:lnTo>
                      <a:pt x="199" y="42"/>
                    </a:lnTo>
                    <a:lnTo>
                      <a:pt x="228" y="17"/>
                    </a:lnTo>
                    <a:lnTo>
                      <a:pt x="254" y="0"/>
                    </a:lnTo>
                    <a:lnTo>
                      <a:pt x="281" y="6"/>
                    </a:lnTo>
                    <a:lnTo>
                      <a:pt x="241" y="22"/>
                    </a:lnTo>
                    <a:lnTo>
                      <a:pt x="206" y="54"/>
                    </a:lnTo>
                    <a:lnTo>
                      <a:pt x="4" y="354"/>
                    </a:lnTo>
                    <a:lnTo>
                      <a:pt x="0" y="3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7831800" y="4847040"/>
                <a:ext cx="57600" cy="25200"/>
              </a:xfrm>
              <a:custGeom>
                <a:avLst/>
                <a:gdLst/>
                <a:ahLst/>
                <a:rect l="l" t="t" r="r" b="b"/>
                <a:pathLst>
                  <a:path w="696" h="242">
                    <a:moveTo>
                      <a:pt x="0" y="242"/>
                    </a:moveTo>
                    <a:lnTo>
                      <a:pt x="39" y="215"/>
                    </a:lnTo>
                    <a:lnTo>
                      <a:pt x="81" y="180"/>
                    </a:lnTo>
                    <a:lnTo>
                      <a:pt x="131" y="111"/>
                    </a:lnTo>
                    <a:lnTo>
                      <a:pt x="156" y="69"/>
                    </a:lnTo>
                    <a:lnTo>
                      <a:pt x="180" y="49"/>
                    </a:lnTo>
                    <a:lnTo>
                      <a:pt x="208" y="31"/>
                    </a:lnTo>
                    <a:lnTo>
                      <a:pt x="248" y="21"/>
                    </a:lnTo>
                    <a:lnTo>
                      <a:pt x="369" y="0"/>
                    </a:lnTo>
                    <a:lnTo>
                      <a:pt x="439" y="3"/>
                    </a:lnTo>
                    <a:lnTo>
                      <a:pt x="527" y="40"/>
                    </a:lnTo>
                    <a:lnTo>
                      <a:pt x="592" y="88"/>
                    </a:lnTo>
                    <a:lnTo>
                      <a:pt x="696" y="137"/>
                    </a:lnTo>
                    <a:lnTo>
                      <a:pt x="617" y="125"/>
                    </a:lnTo>
                    <a:lnTo>
                      <a:pt x="564" y="106"/>
                    </a:lnTo>
                    <a:lnTo>
                      <a:pt x="527" y="86"/>
                    </a:lnTo>
                    <a:lnTo>
                      <a:pt x="483" y="75"/>
                    </a:lnTo>
                    <a:lnTo>
                      <a:pt x="459" y="79"/>
                    </a:lnTo>
                    <a:lnTo>
                      <a:pt x="435" y="150"/>
                    </a:lnTo>
                    <a:lnTo>
                      <a:pt x="384" y="211"/>
                    </a:lnTo>
                    <a:lnTo>
                      <a:pt x="421" y="152"/>
                    </a:lnTo>
                    <a:lnTo>
                      <a:pt x="447" y="69"/>
                    </a:lnTo>
                    <a:lnTo>
                      <a:pt x="447" y="49"/>
                    </a:lnTo>
                    <a:lnTo>
                      <a:pt x="430" y="28"/>
                    </a:lnTo>
                    <a:lnTo>
                      <a:pt x="384" y="16"/>
                    </a:lnTo>
                    <a:lnTo>
                      <a:pt x="329" y="21"/>
                    </a:lnTo>
                    <a:lnTo>
                      <a:pt x="313" y="44"/>
                    </a:lnTo>
                    <a:lnTo>
                      <a:pt x="343" y="222"/>
                    </a:lnTo>
                    <a:lnTo>
                      <a:pt x="325" y="222"/>
                    </a:lnTo>
                    <a:lnTo>
                      <a:pt x="256" y="198"/>
                    </a:lnTo>
                    <a:lnTo>
                      <a:pt x="195" y="174"/>
                    </a:lnTo>
                    <a:lnTo>
                      <a:pt x="164" y="150"/>
                    </a:lnTo>
                    <a:lnTo>
                      <a:pt x="145" y="137"/>
                    </a:lnTo>
                    <a:lnTo>
                      <a:pt x="108" y="174"/>
                    </a:lnTo>
                    <a:lnTo>
                      <a:pt x="67" y="210"/>
                    </a:lnTo>
                    <a:lnTo>
                      <a:pt x="25" y="231"/>
                    </a:lnTo>
                    <a:lnTo>
                      <a:pt x="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7886880" y="4808160"/>
                <a:ext cx="32400" cy="46440"/>
              </a:xfrm>
              <a:custGeom>
                <a:avLst/>
                <a:gdLst/>
                <a:ahLst/>
                <a:rect l="l" t="t" r="r" b="b"/>
                <a:pathLst>
                  <a:path w="385" h="439">
                    <a:moveTo>
                      <a:pt x="0" y="0"/>
                    </a:moveTo>
                    <a:lnTo>
                      <a:pt x="40" y="55"/>
                    </a:lnTo>
                    <a:lnTo>
                      <a:pt x="63" y="111"/>
                    </a:lnTo>
                    <a:lnTo>
                      <a:pt x="86" y="256"/>
                    </a:lnTo>
                    <a:lnTo>
                      <a:pt x="75" y="439"/>
                    </a:lnTo>
                    <a:lnTo>
                      <a:pt x="114" y="274"/>
                    </a:lnTo>
                    <a:lnTo>
                      <a:pt x="148" y="189"/>
                    </a:lnTo>
                    <a:lnTo>
                      <a:pt x="204" y="107"/>
                    </a:lnTo>
                    <a:lnTo>
                      <a:pt x="235" y="111"/>
                    </a:lnTo>
                    <a:lnTo>
                      <a:pt x="211" y="256"/>
                    </a:lnTo>
                    <a:lnTo>
                      <a:pt x="215" y="292"/>
                    </a:lnTo>
                    <a:lnTo>
                      <a:pt x="385" y="74"/>
                    </a:lnTo>
                    <a:lnTo>
                      <a:pt x="310" y="26"/>
                    </a:lnTo>
                    <a:lnTo>
                      <a:pt x="252" y="67"/>
                    </a:lnTo>
                    <a:lnTo>
                      <a:pt x="204" y="58"/>
                    </a:lnTo>
                    <a:lnTo>
                      <a:pt x="112" y="81"/>
                    </a:lnTo>
                    <a:lnTo>
                      <a:pt x="81" y="81"/>
                    </a:lnTo>
                    <a:lnTo>
                      <a:pt x="37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7855920" y="4867560"/>
                <a:ext cx="68040" cy="245520"/>
              </a:xfrm>
              <a:custGeom>
                <a:avLst/>
                <a:gdLst/>
                <a:ahLst/>
                <a:rect l="l" t="t" r="r" b="b"/>
                <a:pathLst>
                  <a:path w="819" h="2318">
                    <a:moveTo>
                      <a:pt x="102" y="23"/>
                    </a:moveTo>
                    <a:lnTo>
                      <a:pt x="196" y="140"/>
                    </a:lnTo>
                    <a:lnTo>
                      <a:pt x="275" y="327"/>
                    </a:lnTo>
                    <a:lnTo>
                      <a:pt x="424" y="714"/>
                    </a:lnTo>
                    <a:lnTo>
                      <a:pt x="579" y="1265"/>
                    </a:lnTo>
                    <a:lnTo>
                      <a:pt x="712" y="1680"/>
                    </a:lnTo>
                    <a:lnTo>
                      <a:pt x="819" y="1925"/>
                    </a:lnTo>
                    <a:lnTo>
                      <a:pt x="660" y="2318"/>
                    </a:lnTo>
                    <a:lnTo>
                      <a:pt x="526" y="2190"/>
                    </a:lnTo>
                    <a:lnTo>
                      <a:pt x="252" y="1992"/>
                    </a:lnTo>
                    <a:lnTo>
                      <a:pt x="35" y="546"/>
                    </a:lnTo>
                    <a:lnTo>
                      <a:pt x="0" y="274"/>
                    </a:lnTo>
                    <a:lnTo>
                      <a:pt x="17" y="103"/>
                    </a:lnTo>
                    <a:lnTo>
                      <a:pt x="35" y="41"/>
                    </a:lnTo>
                    <a:lnTo>
                      <a:pt x="35" y="0"/>
                    </a:lnTo>
                    <a:lnTo>
                      <a:pt x="60" y="41"/>
                    </a:lnTo>
                    <a:lnTo>
                      <a:pt x="53" y="134"/>
                    </a:lnTo>
                    <a:lnTo>
                      <a:pt x="60" y="292"/>
                    </a:lnTo>
                    <a:lnTo>
                      <a:pt x="77" y="465"/>
                    </a:lnTo>
                    <a:lnTo>
                      <a:pt x="116" y="707"/>
                    </a:lnTo>
                    <a:lnTo>
                      <a:pt x="284" y="1487"/>
                    </a:lnTo>
                    <a:lnTo>
                      <a:pt x="343" y="1953"/>
                    </a:lnTo>
                    <a:lnTo>
                      <a:pt x="360" y="2010"/>
                    </a:lnTo>
                    <a:lnTo>
                      <a:pt x="512" y="2142"/>
                    </a:lnTo>
                    <a:lnTo>
                      <a:pt x="642" y="2252"/>
                    </a:lnTo>
                    <a:lnTo>
                      <a:pt x="734" y="2019"/>
                    </a:lnTo>
                    <a:lnTo>
                      <a:pt x="778" y="1925"/>
                    </a:lnTo>
                    <a:lnTo>
                      <a:pt x="651" y="1604"/>
                    </a:lnTo>
                    <a:lnTo>
                      <a:pt x="561" y="1296"/>
                    </a:lnTo>
                    <a:lnTo>
                      <a:pt x="433" y="863"/>
                    </a:lnTo>
                    <a:lnTo>
                      <a:pt x="351" y="555"/>
                    </a:lnTo>
                    <a:lnTo>
                      <a:pt x="235" y="239"/>
                    </a:lnTo>
                    <a:lnTo>
                      <a:pt x="162" y="116"/>
                    </a:lnTo>
                    <a:lnTo>
                      <a:pt x="10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7836480" y="4944600"/>
                <a:ext cx="187560" cy="197280"/>
              </a:xfrm>
              <a:custGeom>
                <a:avLst/>
                <a:gdLst/>
                <a:ahLst/>
                <a:rect l="l" t="t" r="r" b="b"/>
                <a:pathLst>
                  <a:path w="2266" h="1862">
                    <a:moveTo>
                      <a:pt x="947" y="954"/>
                    </a:moveTo>
                    <a:lnTo>
                      <a:pt x="1211" y="1046"/>
                    </a:lnTo>
                    <a:lnTo>
                      <a:pt x="1455" y="1180"/>
                    </a:lnTo>
                    <a:lnTo>
                      <a:pt x="1630" y="1244"/>
                    </a:lnTo>
                    <a:lnTo>
                      <a:pt x="1747" y="1362"/>
                    </a:lnTo>
                    <a:lnTo>
                      <a:pt x="1925" y="1436"/>
                    </a:lnTo>
                    <a:lnTo>
                      <a:pt x="1914" y="1348"/>
                    </a:lnTo>
                    <a:lnTo>
                      <a:pt x="1764" y="1189"/>
                    </a:lnTo>
                    <a:lnTo>
                      <a:pt x="1582" y="1055"/>
                    </a:lnTo>
                    <a:lnTo>
                      <a:pt x="1854" y="1194"/>
                    </a:lnTo>
                    <a:lnTo>
                      <a:pt x="1905" y="908"/>
                    </a:lnTo>
                    <a:lnTo>
                      <a:pt x="1815" y="921"/>
                    </a:lnTo>
                    <a:lnTo>
                      <a:pt x="1747" y="908"/>
                    </a:lnTo>
                    <a:lnTo>
                      <a:pt x="1663" y="855"/>
                    </a:lnTo>
                    <a:lnTo>
                      <a:pt x="1738" y="839"/>
                    </a:lnTo>
                    <a:lnTo>
                      <a:pt x="1815" y="765"/>
                    </a:lnTo>
                    <a:lnTo>
                      <a:pt x="1863" y="682"/>
                    </a:lnTo>
                    <a:lnTo>
                      <a:pt x="1905" y="506"/>
                    </a:lnTo>
                    <a:lnTo>
                      <a:pt x="1914" y="273"/>
                    </a:lnTo>
                    <a:lnTo>
                      <a:pt x="1872" y="0"/>
                    </a:lnTo>
                    <a:lnTo>
                      <a:pt x="2048" y="168"/>
                    </a:lnTo>
                    <a:lnTo>
                      <a:pt x="2131" y="308"/>
                    </a:lnTo>
                    <a:lnTo>
                      <a:pt x="2110" y="325"/>
                    </a:lnTo>
                    <a:lnTo>
                      <a:pt x="1988" y="242"/>
                    </a:lnTo>
                    <a:lnTo>
                      <a:pt x="2013" y="541"/>
                    </a:lnTo>
                    <a:lnTo>
                      <a:pt x="2165" y="839"/>
                    </a:lnTo>
                    <a:lnTo>
                      <a:pt x="2206" y="1014"/>
                    </a:lnTo>
                    <a:lnTo>
                      <a:pt x="2149" y="1079"/>
                    </a:lnTo>
                    <a:lnTo>
                      <a:pt x="2156" y="1180"/>
                    </a:lnTo>
                    <a:lnTo>
                      <a:pt x="2266" y="1348"/>
                    </a:lnTo>
                    <a:lnTo>
                      <a:pt x="2266" y="1398"/>
                    </a:lnTo>
                    <a:lnTo>
                      <a:pt x="2215" y="1459"/>
                    </a:lnTo>
                    <a:lnTo>
                      <a:pt x="2013" y="1593"/>
                    </a:lnTo>
                    <a:lnTo>
                      <a:pt x="1896" y="1680"/>
                    </a:lnTo>
                    <a:lnTo>
                      <a:pt x="1738" y="1862"/>
                    </a:lnTo>
                    <a:lnTo>
                      <a:pt x="1496" y="1862"/>
                    </a:lnTo>
                    <a:lnTo>
                      <a:pt x="1444" y="1833"/>
                    </a:lnTo>
                    <a:lnTo>
                      <a:pt x="1356" y="1824"/>
                    </a:lnTo>
                    <a:lnTo>
                      <a:pt x="1305" y="1862"/>
                    </a:lnTo>
                    <a:lnTo>
                      <a:pt x="0" y="1862"/>
                    </a:lnTo>
                    <a:lnTo>
                      <a:pt x="169" y="1752"/>
                    </a:lnTo>
                    <a:lnTo>
                      <a:pt x="344" y="1662"/>
                    </a:lnTo>
                    <a:lnTo>
                      <a:pt x="542" y="1578"/>
                    </a:lnTo>
                    <a:lnTo>
                      <a:pt x="747" y="1512"/>
                    </a:lnTo>
                    <a:lnTo>
                      <a:pt x="830" y="1496"/>
                    </a:lnTo>
                    <a:lnTo>
                      <a:pt x="865" y="1545"/>
                    </a:lnTo>
                    <a:lnTo>
                      <a:pt x="837" y="1668"/>
                    </a:lnTo>
                    <a:lnTo>
                      <a:pt x="877" y="1721"/>
                    </a:lnTo>
                    <a:lnTo>
                      <a:pt x="1178" y="1680"/>
                    </a:lnTo>
                    <a:lnTo>
                      <a:pt x="1187" y="1653"/>
                    </a:lnTo>
                    <a:lnTo>
                      <a:pt x="1174" y="1629"/>
                    </a:lnTo>
                    <a:lnTo>
                      <a:pt x="947" y="1653"/>
                    </a:lnTo>
                    <a:lnTo>
                      <a:pt x="911" y="1635"/>
                    </a:lnTo>
                    <a:lnTo>
                      <a:pt x="906" y="1545"/>
                    </a:lnTo>
                    <a:lnTo>
                      <a:pt x="964" y="1503"/>
                    </a:lnTo>
                    <a:lnTo>
                      <a:pt x="994" y="1539"/>
                    </a:lnTo>
                    <a:lnTo>
                      <a:pt x="1037" y="1593"/>
                    </a:lnTo>
                    <a:lnTo>
                      <a:pt x="1103" y="1593"/>
                    </a:lnTo>
                    <a:lnTo>
                      <a:pt x="1139" y="1521"/>
                    </a:lnTo>
                    <a:lnTo>
                      <a:pt x="1019" y="1479"/>
                    </a:lnTo>
                    <a:lnTo>
                      <a:pt x="969" y="1470"/>
                    </a:lnTo>
                    <a:lnTo>
                      <a:pt x="1156" y="1459"/>
                    </a:lnTo>
                    <a:lnTo>
                      <a:pt x="1428" y="1452"/>
                    </a:lnTo>
                    <a:lnTo>
                      <a:pt x="1571" y="1459"/>
                    </a:lnTo>
                    <a:lnTo>
                      <a:pt x="1413" y="1398"/>
                    </a:lnTo>
                    <a:lnTo>
                      <a:pt x="1331" y="1319"/>
                    </a:lnTo>
                    <a:lnTo>
                      <a:pt x="1437" y="1353"/>
                    </a:lnTo>
                    <a:lnTo>
                      <a:pt x="1707" y="1459"/>
                    </a:lnTo>
                    <a:lnTo>
                      <a:pt x="1848" y="1479"/>
                    </a:lnTo>
                    <a:lnTo>
                      <a:pt x="1531" y="1256"/>
                    </a:lnTo>
                    <a:lnTo>
                      <a:pt x="1266" y="1106"/>
                    </a:lnTo>
                    <a:lnTo>
                      <a:pt x="1095" y="1064"/>
                    </a:lnTo>
                    <a:lnTo>
                      <a:pt x="1037" y="1002"/>
                    </a:lnTo>
                    <a:lnTo>
                      <a:pt x="947" y="9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7927200" y="480924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443" h="201">
                    <a:moveTo>
                      <a:pt x="0" y="69"/>
                    </a:moveTo>
                    <a:lnTo>
                      <a:pt x="0" y="201"/>
                    </a:lnTo>
                    <a:lnTo>
                      <a:pt x="236" y="46"/>
                    </a:lnTo>
                    <a:lnTo>
                      <a:pt x="261" y="69"/>
                    </a:lnTo>
                    <a:lnTo>
                      <a:pt x="351" y="78"/>
                    </a:lnTo>
                    <a:lnTo>
                      <a:pt x="443" y="19"/>
                    </a:lnTo>
                    <a:lnTo>
                      <a:pt x="342" y="51"/>
                    </a:lnTo>
                    <a:lnTo>
                      <a:pt x="287" y="46"/>
                    </a:lnTo>
                    <a:lnTo>
                      <a:pt x="236" y="0"/>
                    </a:lnTo>
                    <a:lnTo>
                      <a:pt x="134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7975080" y="4816800"/>
                <a:ext cx="57240" cy="114480"/>
              </a:xfrm>
              <a:custGeom>
                <a:avLst/>
                <a:gdLst/>
                <a:ahLst/>
                <a:rect l="l" t="t" r="r" b="b"/>
                <a:pathLst>
                  <a:path w="701" h="1079">
                    <a:moveTo>
                      <a:pt x="0" y="0"/>
                    </a:moveTo>
                    <a:lnTo>
                      <a:pt x="281" y="374"/>
                    </a:lnTo>
                    <a:lnTo>
                      <a:pt x="424" y="438"/>
                    </a:lnTo>
                    <a:lnTo>
                      <a:pt x="438" y="688"/>
                    </a:lnTo>
                    <a:lnTo>
                      <a:pt x="519" y="823"/>
                    </a:lnTo>
                    <a:lnTo>
                      <a:pt x="519" y="1079"/>
                    </a:lnTo>
                    <a:lnTo>
                      <a:pt x="551" y="1035"/>
                    </a:lnTo>
                    <a:lnTo>
                      <a:pt x="551" y="680"/>
                    </a:lnTo>
                    <a:lnTo>
                      <a:pt x="659" y="747"/>
                    </a:lnTo>
                    <a:lnTo>
                      <a:pt x="684" y="862"/>
                    </a:lnTo>
                    <a:lnTo>
                      <a:pt x="701" y="754"/>
                    </a:lnTo>
                    <a:lnTo>
                      <a:pt x="627" y="583"/>
                    </a:lnTo>
                    <a:lnTo>
                      <a:pt x="361" y="316"/>
                    </a:lnTo>
                    <a:lnTo>
                      <a:pt x="253" y="28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7945200" y="4863960"/>
                <a:ext cx="30960" cy="55800"/>
              </a:xfrm>
              <a:custGeom>
                <a:avLst/>
                <a:gdLst/>
                <a:ahLst/>
                <a:rect l="l" t="t" r="r" b="b"/>
                <a:pathLst>
                  <a:path w="378" h="533">
                    <a:moveTo>
                      <a:pt x="0" y="257"/>
                    </a:moveTo>
                    <a:lnTo>
                      <a:pt x="70" y="107"/>
                    </a:lnTo>
                    <a:lnTo>
                      <a:pt x="143" y="98"/>
                    </a:lnTo>
                    <a:lnTo>
                      <a:pt x="235" y="118"/>
                    </a:lnTo>
                    <a:lnTo>
                      <a:pt x="253" y="0"/>
                    </a:lnTo>
                    <a:lnTo>
                      <a:pt x="378" y="533"/>
                    </a:lnTo>
                    <a:lnTo>
                      <a:pt x="235" y="272"/>
                    </a:lnTo>
                    <a:lnTo>
                      <a:pt x="166" y="233"/>
                    </a:lnTo>
                    <a:lnTo>
                      <a:pt x="83" y="222"/>
                    </a:lnTo>
                    <a:lnTo>
                      <a:pt x="0" y="2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8016120" y="4903920"/>
                <a:ext cx="59400" cy="122760"/>
              </a:xfrm>
              <a:custGeom>
                <a:avLst/>
                <a:gdLst/>
                <a:ahLst/>
                <a:rect l="l" t="t" r="r" b="b"/>
                <a:pathLst>
                  <a:path w="717" h="1161">
                    <a:moveTo>
                      <a:pt x="261" y="0"/>
                    </a:moveTo>
                    <a:lnTo>
                      <a:pt x="252" y="99"/>
                    </a:lnTo>
                    <a:lnTo>
                      <a:pt x="177" y="240"/>
                    </a:lnTo>
                    <a:lnTo>
                      <a:pt x="76" y="390"/>
                    </a:lnTo>
                    <a:lnTo>
                      <a:pt x="34" y="509"/>
                    </a:lnTo>
                    <a:lnTo>
                      <a:pt x="34" y="572"/>
                    </a:lnTo>
                    <a:lnTo>
                      <a:pt x="67" y="656"/>
                    </a:lnTo>
                    <a:lnTo>
                      <a:pt x="94" y="724"/>
                    </a:lnTo>
                    <a:lnTo>
                      <a:pt x="0" y="724"/>
                    </a:lnTo>
                    <a:lnTo>
                      <a:pt x="127" y="763"/>
                    </a:lnTo>
                    <a:lnTo>
                      <a:pt x="177" y="889"/>
                    </a:lnTo>
                    <a:lnTo>
                      <a:pt x="325" y="889"/>
                    </a:lnTo>
                    <a:lnTo>
                      <a:pt x="496" y="1161"/>
                    </a:lnTo>
                    <a:lnTo>
                      <a:pt x="535" y="1091"/>
                    </a:lnTo>
                    <a:lnTo>
                      <a:pt x="535" y="970"/>
                    </a:lnTo>
                    <a:lnTo>
                      <a:pt x="643" y="774"/>
                    </a:lnTo>
                    <a:lnTo>
                      <a:pt x="717" y="473"/>
                    </a:lnTo>
                    <a:lnTo>
                      <a:pt x="616" y="756"/>
                    </a:lnTo>
                    <a:lnTo>
                      <a:pt x="560" y="733"/>
                    </a:lnTo>
                    <a:lnTo>
                      <a:pt x="595" y="673"/>
                    </a:lnTo>
                    <a:lnTo>
                      <a:pt x="217" y="839"/>
                    </a:lnTo>
                    <a:lnTo>
                      <a:pt x="210" y="763"/>
                    </a:lnTo>
                    <a:lnTo>
                      <a:pt x="127" y="708"/>
                    </a:lnTo>
                    <a:lnTo>
                      <a:pt x="337" y="524"/>
                    </a:lnTo>
                    <a:lnTo>
                      <a:pt x="184" y="608"/>
                    </a:lnTo>
                    <a:lnTo>
                      <a:pt x="153" y="524"/>
                    </a:lnTo>
                    <a:lnTo>
                      <a:pt x="159" y="422"/>
                    </a:lnTo>
                    <a:lnTo>
                      <a:pt x="201" y="341"/>
                    </a:lnTo>
                    <a:lnTo>
                      <a:pt x="344" y="168"/>
                    </a:lnTo>
                    <a:lnTo>
                      <a:pt x="360" y="99"/>
                    </a:lnTo>
                    <a:lnTo>
                      <a:pt x="344" y="58"/>
                    </a:lnTo>
                    <a:lnTo>
                      <a:pt x="293" y="58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8027640" y="5032080"/>
                <a:ext cx="64080" cy="53280"/>
              </a:xfrm>
              <a:custGeom>
                <a:avLst/>
                <a:gdLst/>
                <a:ahLst/>
                <a:rect l="l" t="t" r="r" b="b"/>
                <a:pathLst>
                  <a:path w="775" h="510">
                    <a:moveTo>
                      <a:pt x="0" y="510"/>
                    </a:moveTo>
                    <a:lnTo>
                      <a:pt x="92" y="353"/>
                    </a:lnTo>
                    <a:lnTo>
                      <a:pt x="472" y="182"/>
                    </a:lnTo>
                    <a:lnTo>
                      <a:pt x="672" y="182"/>
                    </a:lnTo>
                    <a:lnTo>
                      <a:pt x="775" y="118"/>
                    </a:lnTo>
                    <a:lnTo>
                      <a:pt x="540" y="118"/>
                    </a:lnTo>
                    <a:lnTo>
                      <a:pt x="393" y="171"/>
                    </a:lnTo>
                    <a:lnTo>
                      <a:pt x="327" y="143"/>
                    </a:lnTo>
                    <a:lnTo>
                      <a:pt x="342" y="0"/>
                    </a:lnTo>
                    <a:lnTo>
                      <a:pt x="261" y="14"/>
                    </a:lnTo>
                    <a:lnTo>
                      <a:pt x="261" y="171"/>
                    </a:lnTo>
                    <a:lnTo>
                      <a:pt x="197" y="251"/>
                    </a:lnTo>
                    <a:lnTo>
                      <a:pt x="105" y="261"/>
                    </a:lnTo>
                    <a:lnTo>
                      <a:pt x="12" y="393"/>
                    </a:lnTo>
                    <a:lnTo>
                      <a:pt x="0" y="5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8032680" y="5182920"/>
                <a:ext cx="98640" cy="47160"/>
              </a:xfrm>
              <a:custGeom>
                <a:avLst/>
                <a:gdLst/>
                <a:ahLst/>
                <a:rect l="l" t="t" r="r" b="b"/>
                <a:pathLst>
                  <a:path w="1191" h="446">
                    <a:moveTo>
                      <a:pt x="1191" y="174"/>
                    </a:moveTo>
                    <a:lnTo>
                      <a:pt x="841" y="283"/>
                    </a:lnTo>
                    <a:lnTo>
                      <a:pt x="622" y="446"/>
                    </a:lnTo>
                    <a:lnTo>
                      <a:pt x="609" y="374"/>
                    </a:lnTo>
                    <a:lnTo>
                      <a:pt x="912" y="176"/>
                    </a:lnTo>
                    <a:lnTo>
                      <a:pt x="877" y="137"/>
                    </a:lnTo>
                    <a:lnTo>
                      <a:pt x="708" y="149"/>
                    </a:lnTo>
                    <a:lnTo>
                      <a:pt x="490" y="213"/>
                    </a:lnTo>
                    <a:lnTo>
                      <a:pt x="512" y="108"/>
                    </a:lnTo>
                    <a:lnTo>
                      <a:pt x="313" y="96"/>
                    </a:lnTo>
                    <a:lnTo>
                      <a:pt x="205" y="55"/>
                    </a:lnTo>
                    <a:lnTo>
                      <a:pt x="69" y="2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246" y="47"/>
                    </a:lnTo>
                    <a:lnTo>
                      <a:pt x="409" y="77"/>
                    </a:lnTo>
                    <a:lnTo>
                      <a:pt x="537" y="73"/>
                    </a:lnTo>
                    <a:lnTo>
                      <a:pt x="652" y="55"/>
                    </a:lnTo>
                    <a:lnTo>
                      <a:pt x="749" y="112"/>
                    </a:lnTo>
                    <a:lnTo>
                      <a:pt x="1028" y="96"/>
                    </a:lnTo>
                    <a:lnTo>
                      <a:pt x="1164" y="154"/>
                    </a:lnTo>
                    <a:lnTo>
                      <a:pt x="1191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7915320" y="5136480"/>
                <a:ext cx="145080" cy="129240"/>
              </a:xfrm>
              <a:custGeom>
                <a:avLst/>
                <a:gdLst/>
                <a:ahLst/>
                <a:rect l="l" t="t" r="r" b="b"/>
                <a:pathLst>
                  <a:path w="1754" h="1222">
                    <a:moveTo>
                      <a:pt x="1289" y="666"/>
                    </a:moveTo>
                    <a:lnTo>
                      <a:pt x="1258" y="826"/>
                    </a:lnTo>
                    <a:lnTo>
                      <a:pt x="1258" y="945"/>
                    </a:lnTo>
                    <a:lnTo>
                      <a:pt x="1289" y="1042"/>
                    </a:lnTo>
                    <a:lnTo>
                      <a:pt x="1311" y="1098"/>
                    </a:lnTo>
                    <a:lnTo>
                      <a:pt x="1754" y="1222"/>
                    </a:lnTo>
                    <a:lnTo>
                      <a:pt x="1293" y="1160"/>
                    </a:lnTo>
                    <a:lnTo>
                      <a:pt x="1251" y="1098"/>
                    </a:lnTo>
                    <a:lnTo>
                      <a:pt x="876" y="1092"/>
                    </a:lnTo>
                    <a:lnTo>
                      <a:pt x="576" y="1035"/>
                    </a:lnTo>
                    <a:lnTo>
                      <a:pt x="311" y="955"/>
                    </a:lnTo>
                    <a:lnTo>
                      <a:pt x="93" y="860"/>
                    </a:lnTo>
                    <a:lnTo>
                      <a:pt x="69" y="826"/>
                    </a:lnTo>
                    <a:lnTo>
                      <a:pt x="51" y="749"/>
                    </a:lnTo>
                    <a:lnTo>
                      <a:pt x="0" y="652"/>
                    </a:lnTo>
                    <a:lnTo>
                      <a:pt x="12" y="615"/>
                    </a:lnTo>
                    <a:lnTo>
                      <a:pt x="32" y="588"/>
                    </a:lnTo>
                    <a:lnTo>
                      <a:pt x="32" y="452"/>
                    </a:lnTo>
                    <a:lnTo>
                      <a:pt x="51" y="406"/>
                    </a:lnTo>
                    <a:lnTo>
                      <a:pt x="80" y="382"/>
                    </a:lnTo>
                    <a:lnTo>
                      <a:pt x="58" y="433"/>
                    </a:lnTo>
                    <a:lnTo>
                      <a:pt x="51" y="547"/>
                    </a:lnTo>
                    <a:lnTo>
                      <a:pt x="58" y="613"/>
                    </a:lnTo>
                    <a:lnTo>
                      <a:pt x="230" y="756"/>
                    </a:lnTo>
                    <a:lnTo>
                      <a:pt x="258" y="749"/>
                    </a:lnTo>
                    <a:lnTo>
                      <a:pt x="278" y="670"/>
                    </a:lnTo>
                    <a:lnTo>
                      <a:pt x="170" y="494"/>
                    </a:lnTo>
                    <a:lnTo>
                      <a:pt x="140" y="344"/>
                    </a:lnTo>
                    <a:lnTo>
                      <a:pt x="201" y="202"/>
                    </a:lnTo>
                    <a:lnTo>
                      <a:pt x="201" y="426"/>
                    </a:lnTo>
                    <a:lnTo>
                      <a:pt x="361" y="786"/>
                    </a:lnTo>
                    <a:lnTo>
                      <a:pt x="438" y="802"/>
                    </a:lnTo>
                    <a:lnTo>
                      <a:pt x="489" y="770"/>
                    </a:lnTo>
                    <a:lnTo>
                      <a:pt x="480" y="685"/>
                    </a:lnTo>
                    <a:lnTo>
                      <a:pt x="320" y="286"/>
                    </a:lnTo>
                    <a:lnTo>
                      <a:pt x="320" y="166"/>
                    </a:lnTo>
                    <a:lnTo>
                      <a:pt x="320" y="72"/>
                    </a:lnTo>
                    <a:lnTo>
                      <a:pt x="361" y="0"/>
                    </a:lnTo>
                    <a:lnTo>
                      <a:pt x="343" y="136"/>
                    </a:lnTo>
                    <a:lnTo>
                      <a:pt x="350" y="272"/>
                    </a:lnTo>
                    <a:lnTo>
                      <a:pt x="451" y="540"/>
                    </a:lnTo>
                    <a:lnTo>
                      <a:pt x="493" y="560"/>
                    </a:lnTo>
                    <a:lnTo>
                      <a:pt x="535" y="516"/>
                    </a:lnTo>
                    <a:lnTo>
                      <a:pt x="553" y="468"/>
                    </a:lnTo>
                    <a:lnTo>
                      <a:pt x="546" y="362"/>
                    </a:lnTo>
                    <a:lnTo>
                      <a:pt x="528" y="219"/>
                    </a:lnTo>
                    <a:lnTo>
                      <a:pt x="553" y="215"/>
                    </a:lnTo>
                    <a:lnTo>
                      <a:pt x="581" y="459"/>
                    </a:lnTo>
                    <a:lnTo>
                      <a:pt x="570" y="523"/>
                    </a:lnTo>
                    <a:lnTo>
                      <a:pt x="541" y="569"/>
                    </a:lnTo>
                    <a:lnTo>
                      <a:pt x="498" y="613"/>
                    </a:lnTo>
                    <a:lnTo>
                      <a:pt x="511" y="740"/>
                    </a:lnTo>
                    <a:lnTo>
                      <a:pt x="504" y="826"/>
                    </a:lnTo>
                    <a:lnTo>
                      <a:pt x="456" y="844"/>
                    </a:lnTo>
                    <a:lnTo>
                      <a:pt x="392" y="839"/>
                    </a:lnTo>
                    <a:lnTo>
                      <a:pt x="311" y="795"/>
                    </a:lnTo>
                    <a:lnTo>
                      <a:pt x="265" y="802"/>
                    </a:lnTo>
                    <a:lnTo>
                      <a:pt x="93" y="724"/>
                    </a:lnTo>
                    <a:lnTo>
                      <a:pt x="87" y="806"/>
                    </a:lnTo>
                    <a:lnTo>
                      <a:pt x="152" y="867"/>
                    </a:lnTo>
                    <a:lnTo>
                      <a:pt x="504" y="986"/>
                    </a:lnTo>
                    <a:lnTo>
                      <a:pt x="792" y="1048"/>
                    </a:lnTo>
                    <a:lnTo>
                      <a:pt x="1042" y="1058"/>
                    </a:lnTo>
                    <a:lnTo>
                      <a:pt x="1238" y="1058"/>
                    </a:lnTo>
                    <a:lnTo>
                      <a:pt x="1229" y="955"/>
                    </a:lnTo>
                    <a:lnTo>
                      <a:pt x="1238" y="826"/>
                    </a:lnTo>
                    <a:lnTo>
                      <a:pt x="1263" y="722"/>
                    </a:lnTo>
                    <a:lnTo>
                      <a:pt x="1289" y="6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7958520" y="5136480"/>
                <a:ext cx="69480" cy="57600"/>
              </a:xfrm>
              <a:custGeom>
                <a:avLst/>
                <a:gdLst/>
                <a:ahLst/>
                <a:rect l="l" t="t" r="r" b="b"/>
                <a:pathLst>
                  <a:path w="846" h="547">
                    <a:moveTo>
                      <a:pt x="0" y="30"/>
                    </a:moveTo>
                    <a:lnTo>
                      <a:pt x="45" y="94"/>
                    </a:lnTo>
                    <a:lnTo>
                      <a:pt x="101" y="210"/>
                    </a:lnTo>
                    <a:lnTo>
                      <a:pt x="36" y="219"/>
                    </a:lnTo>
                    <a:lnTo>
                      <a:pt x="36" y="237"/>
                    </a:lnTo>
                    <a:lnTo>
                      <a:pt x="174" y="246"/>
                    </a:lnTo>
                    <a:lnTo>
                      <a:pt x="322" y="254"/>
                    </a:lnTo>
                    <a:lnTo>
                      <a:pt x="248" y="233"/>
                    </a:lnTo>
                    <a:lnTo>
                      <a:pt x="394" y="178"/>
                    </a:lnTo>
                    <a:lnTo>
                      <a:pt x="472" y="189"/>
                    </a:lnTo>
                    <a:lnTo>
                      <a:pt x="598" y="297"/>
                    </a:lnTo>
                    <a:lnTo>
                      <a:pt x="675" y="422"/>
                    </a:lnTo>
                    <a:lnTo>
                      <a:pt x="767" y="512"/>
                    </a:lnTo>
                    <a:lnTo>
                      <a:pt x="820" y="547"/>
                    </a:lnTo>
                    <a:lnTo>
                      <a:pt x="846" y="523"/>
                    </a:lnTo>
                    <a:lnTo>
                      <a:pt x="758" y="468"/>
                    </a:lnTo>
                    <a:lnTo>
                      <a:pt x="679" y="392"/>
                    </a:lnTo>
                    <a:lnTo>
                      <a:pt x="611" y="286"/>
                    </a:lnTo>
                    <a:lnTo>
                      <a:pt x="534" y="184"/>
                    </a:lnTo>
                    <a:lnTo>
                      <a:pt x="394" y="136"/>
                    </a:lnTo>
                    <a:lnTo>
                      <a:pt x="317" y="154"/>
                    </a:lnTo>
                    <a:lnTo>
                      <a:pt x="223" y="189"/>
                    </a:lnTo>
                    <a:lnTo>
                      <a:pt x="161" y="184"/>
                    </a:lnTo>
                    <a:lnTo>
                      <a:pt x="244" y="90"/>
                    </a:lnTo>
                    <a:lnTo>
                      <a:pt x="283" y="30"/>
                    </a:lnTo>
                    <a:lnTo>
                      <a:pt x="275" y="0"/>
                    </a:lnTo>
                    <a:lnTo>
                      <a:pt x="223" y="79"/>
                    </a:lnTo>
                    <a:lnTo>
                      <a:pt x="119" y="154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7788600" y="4662360"/>
                <a:ext cx="109440" cy="130320"/>
              </a:xfrm>
              <a:custGeom>
                <a:avLst/>
                <a:gdLst/>
                <a:ahLst/>
                <a:rect l="l" t="t" r="r" b="b"/>
                <a:pathLst>
                  <a:path w="1323" h="1233">
                    <a:moveTo>
                      <a:pt x="680" y="329"/>
                    </a:moveTo>
                    <a:lnTo>
                      <a:pt x="759" y="233"/>
                    </a:lnTo>
                    <a:lnTo>
                      <a:pt x="833" y="191"/>
                    </a:lnTo>
                    <a:lnTo>
                      <a:pt x="918" y="186"/>
                    </a:lnTo>
                    <a:lnTo>
                      <a:pt x="1026" y="239"/>
                    </a:lnTo>
                    <a:lnTo>
                      <a:pt x="1086" y="329"/>
                    </a:lnTo>
                    <a:lnTo>
                      <a:pt x="1116" y="433"/>
                    </a:lnTo>
                    <a:lnTo>
                      <a:pt x="1128" y="539"/>
                    </a:lnTo>
                    <a:lnTo>
                      <a:pt x="1123" y="648"/>
                    </a:lnTo>
                    <a:lnTo>
                      <a:pt x="1112" y="753"/>
                    </a:lnTo>
                    <a:lnTo>
                      <a:pt x="1141" y="857"/>
                    </a:lnTo>
                    <a:lnTo>
                      <a:pt x="1165" y="744"/>
                    </a:lnTo>
                    <a:lnTo>
                      <a:pt x="1242" y="689"/>
                    </a:lnTo>
                    <a:lnTo>
                      <a:pt x="1291" y="728"/>
                    </a:lnTo>
                    <a:lnTo>
                      <a:pt x="1305" y="857"/>
                    </a:lnTo>
                    <a:lnTo>
                      <a:pt x="1296" y="960"/>
                    </a:lnTo>
                    <a:lnTo>
                      <a:pt x="1238" y="1046"/>
                    </a:lnTo>
                    <a:lnTo>
                      <a:pt x="1209" y="1083"/>
                    </a:lnTo>
                    <a:lnTo>
                      <a:pt x="1152" y="1127"/>
                    </a:lnTo>
                    <a:lnTo>
                      <a:pt x="1222" y="1101"/>
                    </a:lnTo>
                    <a:lnTo>
                      <a:pt x="1310" y="966"/>
                    </a:lnTo>
                    <a:lnTo>
                      <a:pt x="1323" y="834"/>
                    </a:lnTo>
                    <a:lnTo>
                      <a:pt x="1296" y="696"/>
                    </a:lnTo>
                    <a:lnTo>
                      <a:pt x="1242" y="666"/>
                    </a:lnTo>
                    <a:lnTo>
                      <a:pt x="1242" y="585"/>
                    </a:lnTo>
                    <a:lnTo>
                      <a:pt x="1183" y="323"/>
                    </a:lnTo>
                    <a:lnTo>
                      <a:pt x="1086" y="175"/>
                    </a:lnTo>
                    <a:lnTo>
                      <a:pt x="971" y="74"/>
                    </a:lnTo>
                    <a:lnTo>
                      <a:pt x="840" y="32"/>
                    </a:lnTo>
                    <a:lnTo>
                      <a:pt x="629" y="0"/>
                    </a:lnTo>
                    <a:lnTo>
                      <a:pt x="392" y="32"/>
                    </a:lnTo>
                    <a:lnTo>
                      <a:pt x="213" y="131"/>
                    </a:lnTo>
                    <a:lnTo>
                      <a:pt x="97" y="255"/>
                    </a:lnTo>
                    <a:lnTo>
                      <a:pt x="26" y="404"/>
                    </a:lnTo>
                    <a:lnTo>
                      <a:pt x="12" y="562"/>
                    </a:lnTo>
                    <a:lnTo>
                      <a:pt x="26" y="786"/>
                    </a:lnTo>
                    <a:lnTo>
                      <a:pt x="0" y="857"/>
                    </a:lnTo>
                    <a:lnTo>
                      <a:pt x="23" y="995"/>
                    </a:lnTo>
                    <a:lnTo>
                      <a:pt x="97" y="1113"/>
                    </a:lnTo>
                    <a:lnTo>
                      <a:pt x="198" y="1196"/>
                    </a:lnTo>
                    <a:lnTo>
                      <a:pt x="249" y="1201"/>
                    </a:lnTo>
                    <a:lnTo>
                      <a:pt x="279" y="1233"/>
                    </a:lnTo>
                    <a:lnTo>
                      <a:pt x="264" y="1152"/>
                    </a:lnTo>
                    <a:lnTo>
                      <a:pt x="213" y="1187"/>
                    </a:lnTo>
                    <a:lnTo>
                      <a:pt x="104" y="1106"/>
                    </a:lnTo>
                    <a:lnTo>
                      <a:pt x="33" y="973"/>
                    </a:lnTo>
                    <a:lnTo>
                      <a:pt x="26" y="868"/>
                    </a:lnTo>
                    <a:lnTo>
                      <a:pt x="49" y="843"/>
                    </a:lnTo>
                    <a:lnTo>
                      <a:pt x="121" y="857"/>
                    </a:lnTo>
                    <a:lnTo>
                      <a:pt x="213" y="936"/>
                    </a:lnTo>
                    <a:lnTo>
                      <a:pt x="194" y="830"/>
                    </a:lnTo>
                    <a:lnTo>
                      <a:pt x="167" y="771"/>
                    </a:lnTo>
                    <a:lnTo>
                      <a:pt x="130" y="668"/>
                    </a:lnTo>
                    <a:lnTo>
                      <a:pt x="108" y="551"/>
                    </a:lnTo>
                    <a:lnTo>
                      <a:pt x="108" y="459"/>
                    </a:lnTo>
                    <a:lnTo>
                      <a:pt x="130" y="382"/>
                    </a:lnTo>
                    <a:lnTo>
                      <a:pt x="171" y="323"/>
                    </a:lnTo>
                    <a:lnTo>
                      <a:pt x="227" y="281"/>
                    </a:lnTo>
                    <a:lnTo>
                      <a:pt x="286" y="265"/>
                    </a:lnTo>
                    <a:lnTo>
                      <a:pt x="354" y="281"/>
                    </a:lnTo>
                    <a:lnTo>
                      <a:pt x="420" y="318"/>
                    </a:lnTo>
                    <a:lnTo>
                      <a:pt x="466" y="355"/>
                    </a:lnTo>
                    <a:lnTo>
                      <a:pt x="521" y="369"/>
                    </a:lnTo>
                    <a:lnTo>
                      <a:pt x="607" y="362"/>
                    </a:lnTo>
                    <a:lnTo>
                      <a:pt x="655" y="345"/>
                    </a:lnTo>
                    <a:lnTo>
                      <a:pt x="680" y="3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7812720" y="4754880"/>
                <a:ext cx="34920" cy="8280"/>
              </a:xfrm>
              <a:custGeom>
                <a:avLst/>
                <a:gdLst/>
                <a:ahLst/>
                <a:rect l="l" t="t" r="r" b="b"/>
                <a:pathLst>
                  <a:path w="424" h="83">
                    <a:moveTo>
                      <a:pt x="0" y="42"/>
                    </a:moveTo>
                    <a:lnTo>
                      <a:pt x="74" y="22"/>
                    </a:lnTo>
                    <a:lnTo>
                      <a:pt x="157" y="15"/>
                    </a:lnTo>
                    <a:lnTo>
                      <a:pt x="274" y="15"/>
                    </a:lnTo>
                    <a:lnTo>
                      <a:pt x="338" y="8"/>
                    </a:lnTo>
                    <a:lnTo>
                      <a:pt x="424" y="0"/>
                    </a:lnTo>
                    <a:lnTo>
                      <a:pt x="389" y="46"/>
                    </a:lnTo>
                    <a:lnTo>
                      <a:pt x="300" y="52"/>
                    </a:lnTo>
                    <a:lnTo>
                      <a:pt x="305" y="83"/>
                    </a:lnTo>
                    <a:lnTo>
                      <a:pt x="263" y="52"/>
                    </a:lnTo>
                    <a:lnTo>
                      <a:pt x="204" y="46"/>
                    </a:lnTo>
                    <a:lnTo>
                      <a:pt x="129" y="56"/>
                    </a:lnTo>
                    <a:lnTo>
                      <a:pt x="210" y="28"/>
                    </a:lnTo>
                    <a:lnTo>
                      <a:pt x="134" y="28"/>
                    </a:lnTo>
                    <a:lnTo>
                      <a:pt x="63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7811280" y="4756320"/>
                <a:ext cx="26280" cy="17640"/>
              </a:xfrm>
              <a:custGeom>
                <a:avLst/>
                <a:gdLst/>
                <a:ahLst/>
                <a:rect l="l" t="t" r="r" b="b"/>
                <a:pathLst>
                  <a:path w="318" h="161">
                    <a:moveTo>
                      <a:pt x="0" y="22"/>
                    </a:moveTo>
                    <a:lnTo>
                      <a:pt x="24" y="50"/>
                    </a:lnTo>
                    <a:lnTo>
                      <a:pt x="92" y="74"/>
                    </a:lnTo>
                    <a:lnTo>
                      <a:pt x="138" y="108"/>
                    </a:lnTo>
                    <a:lnTo>
                      <a:pt x="119" y="127"/>
                    </a:lnTo>
                    <a:lnTo>
                      <a:pt x="175" y="161"/>
                    </a:lnTo>
                    <a:lnTo>
                      <a:pt x="237" y="145"/>
                    </a:lnTo>
                    <a:lnTo>
                      <a:pt x="281" y="117"/>
                    </a:lnTo>
                    <a:lnTo>
                      <a:pt x="228" y="108"/>
                    </a:lnTo>
                    <a:lnTo>
                      <a:pt x="318" y="59"/>
                    </a:lnTo>
                    <a:lnTo>
                      <a:pt x="310" y="44"/>
                    </a:lnTo>
                    <a:lnTo>
                      <a:pt x="222" y="97"/>
                    </a:lnTo>
                    <a:lnTo>
                      <a:pt x="175" y="103"/>
                    </a:lnTo>
                    <a:lnTo>
                      <a:pt x="119" y="81"/>
                    </a:lnTo>
                    <a:lnTo>
                      <a:pt x="99" y="53"/>
                    </a:lnTo>
                    <a:lnTo>
                      <a:pt x="156" y="32"/>
                    </a:lnTo>
                    <a:lnTo>
                      <a:pt x="99" y="39"/>
                    </a:lnTo>
                    <a:lnTo>
                      <a:pt x="77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7850520" y="4744440"/>
                <a:ext cx="27000" cy="8280"/>
              </a:xfrm>
              <a:custGeom>
                <a:avLst/>
                <a:gdLst/>
                <a:ahLst/>
                <a:rect l="l" t="t" r="r" b="b"/>
                <a:pathLst>
                  <a:path w="327" h="85">
                    <a:moveTo>
                      <a:pt x="0" y="85"/>
                    </a:moveTo>
                    <a:lnTo>
                      <a:pt x="211" y="0"/>
                    </a:lnTo>
                    <a:lnTo>
                      <a:pt x="269" y="12"/>
                    </a:lnTo>
                    <a:lnTo>
                      <a:pt x="327" y="35"/>
                    </a:lnTo>
                    <a:lnTo>
                      <a:pt x="253" y="28"/>
                    </a:lnTo>
                    <a:lnTo>
                      <a:pt x="200" y="28"/>
                    </a:lnTo>
                    <a:lnTo>
                      <a:pt x="130" y="48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7852320" y="4753080"/>
                <a:ext cx="21600" cy="10080"/>
              </a:xfrm>
              <a:custGeom>
                <a:avLst/>
                <a:gdLst/>
                <a:ahLst/>
                <a:rect l="l" t="t" r="r" b="b"/>
                <a:pathLst>
                  <a:path w="261" h="99">
                    <a:moveTo>
                      <a:pt x="0" y="53"/>
                    </a:moveTo>
                    <a:lnTo>
                      <a:pt x="70" y="2"/>
                    </a:lnTo>
                    <a:lnTo>
                      <a:pt x="166" y="0"/>
                    </a:lnTo>
                    <a:lnTo>
                      <a:pt x="261" y="11"/>
                    </a:lnTo>
                    <a:lnTo>
                      <a:pt x="224" y="57"/>
                    </a:lnTo>
                    <a:lnTo>
                      <a:pt x="166" y="85"/>
                    </a:lnTo>
                    <a:lnTo>
                      <a:pt x="116" y="99"/>
                    </a:lnTo>
                    <a:lnTo>
                      <a:pt x="42" y="88"/>
                    </a:lnTo>
                    <a:lnTo>
                      <a:pt x="116" y="88"/>
                    </a:lnTo>
                    <a:lnTo>
                      <a:pt x="193" y="57"/>
                    </a:lnTo>
                    <a:lnTo>
                      <a:pt x="240" y="15"/>
                    </a:lnTo>
                    <a:lnTo>
                      <a:pt x="153" y="11"/>
                    </a:lnTo>
                    <a:lnTo>
                      <a:pt x="83" y="15"/>
                    </a:lnTo>
                    <a:lnTo>
                      <a:pt x="3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7846920" y="4748040"/>
                <a:ext cx="20520" cy="29520"/>
              </a:xfrm>
              <a:custGeom>
                <a:avLst/>
                <a:gdLst/>
                <a:ahLst/>
                <a:rect l="l" t="t" r="r" b="b"/>
                <a:pathLst>
                  <a:path w="248" h="281">
                    <a:moveTo>
                      <a:pt x="173" y="11"/>
                    </a:moveTo>
                    <a:lnTo>
                      <a:pt x="248" y="25"/>
                    </a:lnTo>
                    <a:lnTo>
                      <a:pt x="158" y="25"/>
                    </a:lnTo>
                    <a:lnTo>
                      <a:pt x="122" y="63"/>
                    </a:lnTo>
                    <a:lnTo>
                      <a:pt x="74" y="94"/>
                    </a:lnTo>
                    <a:lnTo>
                      <a:pt x="55" y="133"/>
                    </a:lnTo>
                    <a:lnTo>
                      <a:pt x="55" y="186"/>
                    </a:lnTo>
                    <a:lnTo>
                      <a:pt x="74" y="281"/>
                    </a:lnTo>
                    <a:lnTo>
                      <a:pt x="43" y="191"/>
                    </a:lnTo>
                    <a:lnTo>
                      <a:pt x="37" y="142"/>
                    </a:lnTo>
                    <a:lnTo>
                      <a:pt x="34" y="105"/>
                    </a:lnTo>
                    <a:lnTo>
                      <a:pt x="0" y="63"/>
                    </a:lnTo>
                    <a:lnTo>
                      <a:pt x="140" y="21"/>
                    </a:lnTo>
                    <a:lnTo>
                      <a:pt x="204" y="0"/>
                    </a:lnTo>
                    <a:lnTo>
                      <a:pt x="17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7839360" y="4758840"/>
                <a:ext cx="3600" cy="24480"/>
              </a:xfrm>
              <a:custGeom>
                <a:avLst/>
                <a:gdLst/>
                <a:ahLst/>
                <a:rect l="l" t="t" r="r" b="b"/>
                <a:pathLst>
                  <a:path w="48" h="233">
                    <a:moveTo>
                      <a:pt x="0" y="10"/>
                    </a:moveTo>
                    <a:lnTo>
                      <a:pt x="22" y="90"/>
                    </a:lnTo>
                    <a:lnTo>
                      <a:pt x="27" y="153"/>
                    </a:lnTo>
                    <a:lnTo>
                      <a:pt x="39" y="233"/>
                    </a:lnTo>
                    <a:lnTo>
                      <a:pt x="48" y="149"/>
                    </a:lnTo>
                    <a:lnTo>
                      <a:pt x="41" y="85"/>
                    </a:lnTo>
                    <a:lnTo>
                      <a:pt x="35" y="32"/>
                    </a:lnTo>
                    <a:lnTo>
                      <a:pt x="27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7855920" y="4762440"/>
                <a:ext cx="14400" cy="5760"/>
              </a:xfrm>
              <a:custGeom>
                <a:avLst/>
                <a:gdLst/>
                <a:ahLst/>
                <a:rect l="l" t="t" r="r" b="b"/>
                <a:pathLst>
                  <a:path w="171" h="55">
                    <a:moveTo>
                      <a:pt x="32" y="11"/>
                    </a:moveTo>
                    <a:lnTo>
                      <a:pt x="0" y="44"/>
                    </a:lnTo>
                    <a:lnTo>
                      <a:pt x="65" y="55"/>
                    </a:lnTo>
                    <a:lnTo>
                      <a:pt x="106" y="44"/>
                    </a:lnTo>
                    <a:lnTo>
                      <a:pt x="171" y="11"/>
                    </a:lnTo>
                    <a:lnTo>
                      <a:pt x="124" y="11"/>
                    </a:lnTo>
                    <a:lnTo>
                      <a:pt x="81" y="0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7793280" y="4761720"/>
                <a:ext cx="13680" cy="17640"/>
              </a:xfrm>
              <a:custGeom>
                <a:avLst/>
                <a:gdLst/>
                <a:ahLst/>
                <a:rect l="l" t="t" r="r" b="b"/>
                <a:pathLst>
                  <a:path w="174" h="170">
                    <a:moveTo>
                      <a:pt x="157" y="30"/>
                    </a:moveTo>
                    <a:lnTo>
                      <a:pt x="88" y="6"/>
                    </a:lnTo>
                    <a:lnTo>
                      <a:pt x="0" y="0"/>
                    </a:lnTo>
                    <a:lnTo>
                      <a:pt x="33" y="20"/>
                    </a:lnTo>
                    <a:lnTo>
                      <a:pt x="51" y="90"/>
                    </a:lnTo>
                    <a:lnTo>
                      <a:pt x="77" y="129"/>
                    </a:lnTo>
                    <a:lnTo>
                      <a:pt x="60" y="78"/>
                    </a:lnTo>
                    <a:lnTo>
                      <a:pt x="70" y="37"/>
                    </a:lnTo>
                    <a:lnTo>
                      <a:pt x="104" y="44"/>
                    </a:lnTo>
                    <a:lnTo>
                      <a:pt x="97" y="78"/>
                    </a:lnTo>
                    <a:lnTo>
                      <a:pt x="108" y="123"/>
                    </a:lnTo>
                    <a:lnTo>
                      <a:pt x="136" y="136"/>
                    </a:lnTo>
                    <a:lnTo>
                      <a:pt x="174" y="170"/>
                    </a:lnTo>
                    <a:lnTo>
                      <a:pt x="157" y="123"/>
                    </a:lnTo>
                    <a:lnTo>
                      <a:pt x="167" y="83"/>
                    </a:lnTo>
                    <a:lnTo>
                      <a:pt x="160" y="59"/>
                    </a:lnTo>
                    <a:lnTo>
                      <a:pt x="15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7883640" y="4743720"/>
                <a:ext cx="10440" cy="30240"/>
              </a:xfrm>
              <a:custGeom>
                <a:avLst/>
                <a:gdLst/>
                <a:ahLst/>
                <a:rect l="l" t="t" r="r" b="b"/>
                <a:pathLst>
                  <a:path w="129" h="292">
                    <a:moveTo>
                      <a:pt x="0" y="116"/>
                    </a:moveTo>
                    <a:lnTo>
                      <a:pt x="23" y="109"/>
                    </a:lnTo>
                    <a:lnTo>
                      <a:pt x="63" y="55"/>
                    </a:lnTo>
                    <a:lnTo>
                      <a:pt x="116" y="0"/>
                    </a:lnTo>
                    <a:lnTo>
                      <a:pt x="104" y="46"/>
                    </a:lnTo>
                    <a:lnTo>
                      <a:pt x="129" y="90"/>
                    </a:lnTo>
                    <a:lnTo>
                      <a:pt x="129" y="147"/>
                    </a:lnTo>
                    <a:lnTo>
                      <a:pt x="104" y="199"/>
                    </a:lnTo>
                    <a:lnTo>
                      <a:pt x="116" y="136"/>
                    </a:lnTo>
                    <a:lnTo>
                      <a:pt x="113" y="105"/>
                    </a:lnTo>
                    <a:lnTo>
                      <a:pt x="83" y="76"/>
                    </a:lnTo>
                    <a:lnTo>
                      <a:pt x="69" y="109"/>
                    </a:lnTo>
                    <a:lnTo>
                      <a:pt x="92" y="147"/>
                    </a:lnTo>
                    <a:lnTo>
                      <a:pt x="83" y="184"/>
                    </a:lnTo>
                    <a:lnTo>
                      <a:pt x="54" y="199"/>
                    </a:lnTo>
                    <a:lnTo>
                      <a:pt x="37" y="228"/>
                    </a:lnTo>
                    <a:lnTo>
                      <a:pt x="19" y="292"/>
                    </a:lnTo>
                    <a:lnTo>
                      <a:pt x="17" y="237"/>
                    </a:lnTo>
                    <a:lnTo>
                      <a:pt x="30" y="184"/>
                    </a:lnTo>
                    <a:lnTo>
                      <a:pt x="19" y="164"/>
                    </a:lnTo>
                    <a:lnTo>
                      <a:pt x="0" y="143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7823880" y="475884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99" h="63">
                    <a:moveTo>
                      <a:pt x="0" y="14"/>
                    </a:moveTo>
                    <a:lnTo>
                      <a:pt x="16" y="46"/>
                    </a:lnTo>
                    <a:lnTo>
                      <a:pt x="42" y="63"/>
                    </a:lnTo>
                    <a:lnTo>
                      <a:pt x="81" y="50"/>
                    </a:lnTo>
                    <a:lnTo>
                      <a:pt x="99" y="32"/>
                    </a:lnTo>
                    <a:lnTo>
                      <a:pt x="99" y="0"/>
                    </a:lnTo>
                    <a:lnTo>
                      <a:pt x="64" y="4"/>
                    </a:lnTo>
                    <a:lnTo>
                      <a:pt x="69" y="21"/>
                    </a:lnTo>
                    <a:lnTo>
                      <a:pt x="53" y="35"/>
                    </a:lnTo>
                    <a:lnTo>
                      <a:pt x="42" y="26"/>
                    </a:lnTo>
                    <a:lnTo>
                      <a:pt x="37" y="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7859160" y="475308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92" h="61">
                    <a:moveTo>
                      <a:pt x="0" y="17"/>
                    </a:moveTo>
                    <a:lnTo>
                      <a:pt x="9" y="55"/>
                    </a:lnTo>
                    <a:lnTo>
                      <a:pt x="42" y="61"/>
                    </a:lnTo>
                    <a:lnTo>
                      <a:pt x="74" y="51"/>
                    </a:lnTo>
                    <a:lnTo>
                      <a:pt x="92" y="31"/>
                    </a:lnTo>
                    <a:lnTo>
                      <a:pt x="86" y="0"/>
                    </a:lnTo>
                    <a:lnTo>
                      <a:pt x="64" y="0"/>
                    </a:lnTo>
                    <a:lnTo>
                      <a:pt x="60" y="33"/>
                    </a:lnTo>
                    <a:lnTo>
                      <a:pt x="37" y="33"/>
                    </a:lnTo>
                    <a:lnTo>
                      <a:pt x="27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7833240" y="4781880"/>
                <a:ext cx="30960" cy="21240"/>
              </a:xfrm>
              <a:custGeom>
                <a:avLst/>
                <a:gdLst/>
                <a:ahLst/>
                <a:rect l="l" t="t" r="r" b="b"/>
                <a:pathLst>
                  <a:path w="374" h="198">
                    <a:moveTo>
                      <a:pt x="31" y="0"/>
                    </a:moveTo>
                    <a:lnTo>
                      <a:pt x="0" y="37"/>
                    </a:lnTo>
                    <a:lnTo>
                      <a:pt x="0" y="79"/>
                    </a:lnTo>
                    <a:lnTo>
                      <a:pt x="26" y="90"/>
                    </a:lnTo>
                    <a:lnTo>
                      <a:pt x="46" y="132"/>
                    </a:lnTo>
                    <a:lnTo>
                      <a:pt x="127" y="163"/>
                    </a:lnTo>
                    <a:lnTo>
                      <a:pt x="199" y="198"/>
                    </a:lnTo>
                    <a:lnTo>
                      <a:pt x="235" y="198"/>
                    </a:lnTo>
                    <a:lnTo>
                      <a:pt x="305" y="120"/>
                    </a:lnTo>
                    <a:lnTo>
                      <a:pt x="360" y="90"/>
                    </a:lnTo>
                    <a:lnTo>
                      <a:pt x="374" y="37"/>
                    </a:lnTo>
                    <a:lnTo>
                      <a:pt x="365" y="22"/>
                    </a:lnTo>
                    <a:lnTo>
                      <a:pt x="342" y="0"/>
                    </a:lnTo>
                    <a:lnTo>
                      <a:pt x="354" y="25"/>
                    </a:lnTo>
                    <a:lnTo>
                      <a:pt x="347" y="46"/>
                    </a:lnTo>
                    <a:lnTo>
                      <a:pt x="325" y="46"/>
                    </a:lnTo>
                    <a:lnTo>
                      <a:pt x="285" y="69"/>
                    </a:lnTo>
                    <a:lnTo>
                      <a:pt x="261" y="97"/>
                    </a:lnTo>
                    <a:lnTo>
                      <a:pt x="235" y="120"/>
                    </a:lnTo>
                    <a:lnTo>
                      <a:pt x="187" y="127"/>
                    </a:lnTo>
                    <a:lnTo>
                      <a:pt x="141" y="117"/>
                    </a:lnTo>
                    <a:lnTo>
                      <a:pt x="107" y="97"/>
                    </a:lnTo>
                    <a:lnTo>
                      <a:pt x="63" y="79"/>
                    </a:lnTo>
                    <a:lnTo>
                      <a:pt x="26" y="79"/>
                    </a:lnTo>
                    <a:lnTo>
                      <a:pt x="8" y="60"/>
                    </a:lnTo>
                    <a:lnTo>
                      <a:pt x="15" y="37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7830360" y="4802040"/>
                <a:ext cx="42840" cy="9360"/>
              </a:xfrm>
              <a:custGeom>
                <a:avLst/>
                <a:gdLst/>
                <a:ahLst/>
                <a:rect l="l" t="t" r="r" b="b"/>
                <a:pathLst>
                  <a:path w="520" h="90">
                    <a:moveTo>
                      <a:pt x="48" y="60"/>
                    </a:moveTo>
                    <a:lnTo>
                      <a:pt x="101" y="40"/>
                    </a:lnTo>
                    <a:lnTo>
                      <a:pt x="174" y="23"/>
                    </a:lnTo>
                    <a:lnTo>
                      <a:pt x="259" y="24"/>
                    </a:lnTo>
                    <a:lnTo>
                      <a:pt x="343" y="7"/>
                    </a:lnTo>
                    <a:lnTo>
                      <a:pt x="488" y="23"/>
                    </a:lnTo>
                    <a:lnTo>
                      <a:pt x="511" y="0"/>
                    </a:lnTo>
                    <a:lnTo>
                      <a:pt x="520" y="31"/>
                    </a:lnTo>
                    <a:lnTo>
                      <a:pt x="501" y="46"/>
                    </a:lnTo>
                    <a:lnTo>
                      <a:pt x="477" y="31"/>
                    </a:lnTo>
                    <a:lnTo>
                      <a:pt x="417" y="24"/>
                    </a:lnTo>
                    <a:lnTo>
                      <a:pt x="327" y="46"/>
                    </a:lnTo>
                    <a:lnTo>
                      <a:pt x="253" y="64"/>
                    </a:lnTo>
                    <a:lnTo>
                      <a:pt x="128" y="60"/>
                    </a:lnTo>
                    <a:lnTo>
                      <a:pt x="41" y="70"/>
                    </a:lnTo>
                    <a:lnTo>
                      <a:pt x="20" y="90"/>
                    </a:lnTo>
                    <a:lnTo>
                      <a:pt x="0" y="79"/>
                    </a:lnTo>
                    <a:lnTo>
                      <a:pt x="4" y="53"/>
                    </a:lnTo>
                    <a:lnTo>
                      <a:pt x="27" y="46"/>
                    </a:lnTo>
                    <a:lnTo>
                      <a:pt x="48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7839720" y="4814280"/>
                <a:ext cx="23760" cy="10080"/>
              </a:xfrm>
              <a:custGeom>
                <a:avLst/>
                <a:gdLst/>
                <a:ahLst/>
                <a:rect l="l" t="t" r="r" b="b"/>
                <a:pathLst>
                  <a:path w="286" h="94">
                    <a:moveTo>
                      <a:pt x="0" y="22"/>
                    </a:moveTo>
                    <a:lnTo>
                      <a:pt x="64" y="31"/>
                    </a:lnTo>
                    <a:lnTo>
                      <a:pt x="123" y="31"/>
                    </a:lnTo>
                    <a:lnTo>
                      <a:pt x="194" y="26"/>
                    </a:lnTo>
                    <a:lnTo>
                      <a:pt x="286" y="0"/>
                    </a:lnTo>
                    <a:lnTo>
                      <a:pt x="231" y="46"/>
                    </a:lnTo>
                    <a:lnTo>
                      <a:pt x="244" y="83"/>
                    </a:lnTo>
                    <a:lnTo>
                      <a:pt x="171" y="83"/>
                    </a:lnTo>
                    <a:lnTo>
                      <a:pt x="64" y="94"/>
                    </a:lnTo>
                    <a:lnTo>
                      <a:pt x="70" y="63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7809840" y="4780440"/>
                <a:ext cx="75600" cy="64080"/>
              </a:xfrm>
              <a:custGeom>
                <a:avLst/>
                <a:gdLst/>
                <a:ahLst/>
                <a:rect l="l" t="t" r="r" b="b"/>
                <a:pathLst>
                  <a:path w="911" h="609">
                    <a:moveTo>
                      <a:pt x="0" y="83"/>
                    </a:moveTo>
                    <a:lnTo>
                      <a:pt x="96" y="339"/>
                    </a:lnTo>
                    <a:lnTo>
                      <a:pt x="157" y="438"/>
                    </a:lnTo>
                    <a:lnTo>
                      <a:pt x="226" y="498"/>
                    </a:lnTo>
                    <a:lnTo>
                      <a:pt x="304" y="546"/>
                    </a:lnTo>
                    <a:lnTo>
                      <a:pt x="394" y="576"/>
                    </a:lnTo>
                    <a:lnTo>
                      <a:pt x="487" y="609"/>
                    </a:lnTo>
                    <a:lnTo>
                      <a:pt x="570" y="609"/>
                    </a:lnTo>
                    <a:lnTo>
                      <a:pt x="669" y="581"/>
                    </a:lnTo>
                    <a:lnTo>
                      <a:pt x="735" y="535"/>
                    </a:lnTo>
                    <a:lnTo>
                      <a:pt x="793" y="464"/>
                    </a:lnTo>
                    <a:lnTo>
                      <a:pt x="848" y="374"/>
                    </a:lnTo>
                    <a:lnTo>
                      <a:pt x="883" y="288"/>
                    </a:lnTo>
                    <a:lnTo>
                      <a:pt x="898" y="183"/>
                    </a:lnTo>
                    <a:lnTo>
                      <a:pt x="911" y="0"/>
                    </a:lnTo>
                    <a:lnTo>
                      <a:pt x="892" y="14"/>
                    </a:lnTo>
                    <a:lnTo>
                      <a:pt x="869" y="265"/>
                    </a:lnTo>
                    <a:lnTo>
                      <a:pt x="839" y="353"/>
                    </a:lnTo>
                    <a:lnTo>
                      <a:pt x="793" y="434"/>
                    </a:lnTo>
                    <a:lnTo>
                      <a:pt x="724" y="517"/>
                    </a:lnTo>
                    <a:lnTo>
                      <a:pt x="659" y="558"/>
                    </a:lnTo>
                    <a:lnTo>
                      <a:pt x="659" y="528"/>
                    </a:lnTo>
                    <a:lnTo>
                      <a:pt x="595" y="551"/>
                    </a:lnTo>
                    <a:lnTo>
                      <a:pt x="511" y="557"/>
                    </a:lnTo>
                    <a:lnTo>
                      <a:pt x="450" y="551"/>
                    </a:lnTo>
                    <a:lnTo>
                      <a:pt x="392" y="528"/>
                    </a:lnTo>
                    <a:lnTo>
                      <a:pt x="408" y="558"/>
                    </a:lnTo>
                    <a:lnTo>
                      <a:pt x="293" y="524"/>
                    </a:lnTo>
                    <a:lnTo>
                      <a:pt x="203" y="445"/>
                    </a:lnTo>
                    <a:lnTo>
                      <a:pt x="138" y="368"/>
                    </a:lnTo>
                    <a:lnTo>
                      <a:pt x="90" y="279"/>
                    </a:lnTo>
                    <a:lnTo>
                      <a:pt x="10" y="74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7816680" y="4789440"/>
                <a:ext cx="15120" cy="29520"/>
              </a:xfrm>
              <a:custGeom>
                <a:avLst/>
                <a:gdLst/>
                <a:ahLst/>
                <a:rect l="l" t="t" r="r" b="b"/>
                <a:pathLst>
                  <a:path w="187" h="278">
                    <a:moveTo>
                      <a:pt x="22" y="58"/>
                    </a:moveTo>
                    <a:lnTo>
                      <a:pt x="97" y="53"/>
                    </a:lnTo>
                    <a:lnTo>
                      <a:pt x="134" y="36"/>
                    </a:lnTo>
                    <a:lnTo>
                      <a:pt x="187" y="0"/>
                    </a:lnTo>
                    <a:lnTo>
                      <a:pt x="157" y="58"/>
                    </a:lnTo>
                    <a:lnTo>
                      <a:pt x="111" y="117"/>
                    </a:lnTo>
                    <a:lnTo>
                      <a:pt x="118" y="181"/>
                    </a:lnTo>
                    <a:lnTo>
                      <a:pt x="163" y="278"/>
                    </a:lnTo>
                    <a:lnTo>
                      <a:pt x="111" y="207"/>
                    </a:lnTo>
                    <a:lnTo>
                      <a:pt x="77" y="133"/>
                    </a:lnTo>
                    <a:lnTo>
                      <a:pt x="40" y="117"/>
                    </a:lnTo>
                    <a:lnTo>
                      <a:pt x="0" y="64"/>
                    </a:lnTo>
                    <a:lnTo>
                      <a:pt x="22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7865640" y="4785480"/>
                <a:ext cx="12960" cy="23760"/>
              </a:xfrm>
              <a:custGeom>
                <a:avLst/>
                <a:gdLst/>
                <a:ahLst/>
                <a:rect l="l" t="t" r="r" b="b"/>
                <a:pathLst>
                  <a:path w="156" h="222">
                    <a:moveTo>
                      <a:pt x="0" y="0"/>
                    </a:moveTo>
                    <a:lnTo>
                      <a:pt x="31" y="29"/>
                    </a:lnTo>
                    <a:lnTo>
                      <a:pt x="94" y="68"/>
                    </a:lnTo>
                    <a:lnTo>
                      <a:pt x="112" y="94"/>
                    </a:lnTo>
                    <a:lnTo>
                      <a:pt x="124" y="140"/>
                    </a:lnTo>
                    <a:lnTo>
                      <a:pt x="117" y="222"/>
                    </a:lnTo>
                    <a:lnTo>
                      <a:pt x="134" y="136"/>
                    </a:lnTo>
                    <a:lnTo>
                      <a:pt x="156" y="46"/>
                    </a:lnTo>
                    <a:lnTo>
                      <a:pt x="156" y="9"/>
                    </a:lnTo>
                    <a:lnTo>
                      <a:pt x="88" y="13"/>
                    </a:lnTo>
                    <a:lnTo>
                      <a:pt x="3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8046000" y="4915080"/>
                <a:ext cx="54360" cy="30240"/>
              </a:xfrm>
              <a:custGeom>
                <a:avLst/>
                <a:gdLst/>
                <a:ahLst/>
                <a:rect l="l" t="t" r="r" b="b"/>
                <a:pathLst>
                  <a:path w="652" h="291">
                    <a:moveTo>
                      <a:pt x="50" y="0"/>
                    </a:moveTo>
                    <a:lnTo>
                      <a:pt x="59" y="44"/>
                    </a:lnTo>
                    <a:lnTo>
                      <a:pt x="59" y="85"/>
                    </a:lnTo>
                    <a:lnTo>
                      <a:pt x="34" y="126"/>
                    </a:lnTo>
                    <a:lnTo>
                      <a:pt x="0" y="152"/>
                    </a:lnTo>
                    <a:lnTo>
                      <a:pt x="136" y="291"/>
                    </a:lnTo>
                    <a:lnTo>
                      <a:pt x="294" y="192"/>
                    </a:lnTo>
                    <a:lnTo>
                      <a:pt x="384" y="291"/>
                    </a:lnTo>
                    <a:lnTo>
                      <a:pt x="452" y="233"/>
                    </a:lnTo>
                    <a:lnTo>
                      <a:pt x="583" y="152"/>
                    </a:lnTo>
                    <a:lnTo>
                      <a:pt x="652" y="69"/>
                    </a:lnTo>
                    <a:lnTo>
                      <a:pt x="553" y="152"/>
                    </a:lnTo>
                    <a:lnTo>
                      <a:pt x="410" y="210"/>
                    </a:lnTo>
                    <a:lnTo>
                      <a:pt x="343" y="159"/>
                    </a:lnTo>
                    <a:lnTo>
                      <a:pt x="184" y="159"/>
                    </a:lnTo>
                    <a:lnTo>
                      <a:pt x="94" y="9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8067960" y="4791240"/>
                <a:ext cx="34920" cy="46440"/>
              </a:xfrm>
              <a:custGeom>
                <a:avLst/>
                <a:gdLst/>
                <a:ahLst/>
                <a:rect l="l" t="t" r="r" b="b"/>
                <a:pathLst>
                  <a:path w="419" h="442">
                    <a:moveTo>
                      <a:pt x="36" y="0"/>
                    </a:moveTo>
                    <a:lnTo>
                      <a:pt x="134" y="35"/>
                    </a:lnTo>
                    <a:lnTo>
                      <a:pt x="260" y="13"/>
                    </a:lnTo>
                    <a:lnTo>
                      <a:pt x="382" y="42"/>
                    </a:lnTo>
                    <a:lnTo>
                      <a:pt x="396" y="0"/>
                    </a:lnTo>
                    <a:lnTo>
                      <a:pt x="419" y="92"/>
                    </a:lnTo>
                    <a:lnTo>
                      <a:pt x="419" y="189"/>
                    </a:lnTo>
                    <a:lnTo>
                      <a:pt x="403" y="334"/>
                    </a:lnTo>
                    <a:lnTo>
                      <a:pt x="373" y="442"/>
                    </a:lnTo>
                    <a:lnTo>
                      <a:pt x="396" y="316"/>
                    </a:lnTo>
                    <a:lnTo>
                      <a:pt x="396" y="260"/>
                    </a:lnTo>
                    <a:lnTo>
                      <a:pt x="290" y="327"/>
                    </a:lnTo>
                    <a:lnTo>
                      <a:pt x="269" y="327"/>
                    </a:lnTo>
                    <a:lnTo>
                      <a:pt x="260" y="308"/>
                    </a:lnTo>
                    <a:lnTo>
                      <a:pt x="359" y="202"/>
                    </a:lnTo>
                    <a:lnTo>
                      <a:pt x="352" y="145"/>
                    </a:lnTo>
                    <a:lnTo>
                      <a:pt x="246" y="214"/>
                    </a:lnTo>
                    <a:lnTo>
                      <a:pt x="274" y="165"/>
                    </a:lnTo>
                    <a:lnTo>
                      <a:pt x="260" y="154"/>
                    </a:lnTo>
                    <a:lnTo>
                      <a:pt x="253" y="110"/>
                    </a:lnTo>
                    <a:lnTo>
                      <a:pt x="218" y="110"/>
                    </a:lnTo>
                    <a:lnTo>
                      <a:pt x="154" y="175"/>
                    </a:lnTo>
                    <a:lnTo>
                      <a:pt x="134" y="175"/>
                    </a:lnTo>
                    <a:lnTo>
                      <a:pt x="134" y="141"/>
                    </a:lnTo>
                    <a:lnTo>
                      <a:pt x="163" y="103"/>
                    </a:lnTo>
                    <a:lnTo>
                      <a:pt x="62" y="79"/>
                    </a:lnTo>
                    <a:lnTo>
                      <a:pt x="62" y="117"/>
                    </a:lnTo>
                    <a:lnTo>
                      <a:pt x="90" y="161"/>
                    </a:lnTo>
                    <a:lnTo>
                      <a:pt x="29" y="117"/>
                    </a:lnTo>
                    <a:lnTo>
                      <a:pt x="0" y="55"/>
                    </a:lnTo>
                    <a:lnTo>
                      <a:pt x="7" y="13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8077320" y="4811760"/>
                <a:ext cx="8280" cy="5760"/>
              </a:xfrm>
              <a:custGeom>
                <a:avLst/>
                <a:gdLst/>
                <a:ahLst/>
                <a:rect l="l" t="t" r="r" b="b"/>
                <a:pathLst>
                  <a:path w="96" h="60">
                    <a:moveTo>
                      <a:pt x="13" y="0"/>
                    </a:moveTo>
                    <a:lnTo>
                      <a:pt x="96" y="35"/>
                    </a:lnTo>
                    <a:lnTo>
                      <a:pt x="96" y="57"/>
                    </a:lnTo>
                    <a:lnTo>
                      <a:pt x="72" y="60"/>
                    </a:lnTo>
                    <a:lnTo>
                      <a:pt x="4" y="29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8103600" y="4764240"/>
                <a:ext cx="54360" cy="50400"/>
              </a:xfrm>
              <a:custGeom>
                <a:avLst/>
                <a:gdLst/>
                <a:ahLst/>
                <a:rect l="l" t="t" r="r" b="b"/>
                <a:pathLst>
                  <a:path w="655" h="483">
                    <a:moveTo>
                      <a:pt x="0" y="132"/>
                    </a:moveTo>
                    <a:lnTo>
                      <a:pt x="41" y="279"/>
                    </a:lnTo>
                    <a:lnTo>
                      <a:pt x="103" y="351"/>
                    </a:lnTo>
                    <a:lnTo>
                      <a:pt x="103" y="473"/>
                    </a:lnTo>
                    <a:lnTo>
                      <a:pt x="161" y="362"/>
                    </a:lnTo>
                    <a:lnTo>
                      <a:pt x="364" y="483"/>
                    </a:lnTo>
                    <a:lnTo>
                      <a:pt x="521" y="376"/>
                    </a:lnTo>
                    <a:lnTo>
                      <a:pt x="352" y="376"/>
                    </a:lnTo>
                    <a:lnTo>
                      <a:pt x="297" y="356"/>
                    </a:lnTo>
                    <a:lnTo>
                      <a:pt x="224" y="356"/>
                    </a:lnTo>
                    <a:lnTo>
                      <a:pt x="217" y="332"/>
                    </a:lnTo>
                    <a:lnTo>
                      <a:pt x="329" y="314"/>
                    </a:lnTo>
                    <a:lnTo>
                      <a:pt x="329" y="259"/>
                    </a:lnTo>
                    <a:lnTo>
                      <a:pt x="391" y="224"/>
                    </a:lnTo>
                    <a:lnTo>
                      <a:pt x="323" y="224"/>
                    </a:lnTo>
                    <a:lnTo>
                      <a:pt x="308" y="208"/>
                    </a:lnTo>
                    <a:lnTo>
                      <a:pt x="426" y="160"/>
                    </a:lnTo>
                    <a:lnTo>
                      <a:pt x="479" y="107"/>
                    </a:lnTo>
                    <a:lnTo>
                      <a:pt x="631" y="169"/>
                    </a:lnTo>
                    <a:lnTo>
                      <a:pt x="655" y="160"/>
                    </a:lnTo>
                    <a:lnTo>
                      <a:pt x="527" y="0"/>
                    </a:lnTo>
                    <a:lnTo>
                      <a:pt x="479" y="0"/>
                    </a:lnTo>
                    <a:lnTo>
                      <a:pt x="290" y="99"/>
                    </a:lnTo>
                    <a:lnTo>
                      <a:pt x="140" y="187"/>
                    </a:lnTo>
                    <a:lnTo>
                      <a:pt x="134" y="238"/>
                    </a:lnTo>
                    <a:lnTo>
                      <a:pt x="90" y="245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8134200" y="4787640"/>
                <a:ext cx="15840" cy="8280"/>
              </a:xfrm>
              <a:custGeom>
                <a:avLst/>
                <a:gdLst/>
                <a:ahLst/>
                <a:rect l="l" t="t" r="r" b="b"/>
                <a:pathLst>
                  <a:path w="191" h="81">
                    <a:moveTo>
                      <a:pt x="0" y="0"/>
                    </a:moveTo>
                    <a:lnTo>
                      <a:pt x="34" y="65"/>
                    </a:lnTo>
                    <a:lnTo>
                      <a:pt x="20" y="81"/>
                    </a:lnTo>
                    <a:lnTo>
                      <a:pt x="176" y="72"/>
                    </a:lnTo>
                    <a:lnTo>
                      <a:pt x="191" y="50"/>
                    </a:lnTo>
                    <a:lnTo>
                      <a:pt x="101" y="0"/>
                    </a:lnTo>
                    <a:lnTo>
                      <a:pt x="2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8098920" y="483876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396" h="226">
                    <a:moveTo>
                      <a:pt x="0" y="41"/>
                    </a:moveTo>
                    <a:lnTo>
                      <a:pt x="69" y="83"/>
                    </a:lnTo>
                    <a:lnTo>
                      <a:pt x="136" y="83"/>
                    </a:lnTo>
                    <a:lnTo>
                      <a:pt x="228" y="14"/>
                    </a:lnTo>
                    <a:lnTo>
                      <a:pt x="297" y="0"/>
                    </a:lnTo>
                    <a:lnTo>
                      <a:pt x="302" y="14"/>
                    </a:lnTo>
                    <a:lnTo>
                      <a:pt x="339" y="26"/>
                    </a:lnTo>
                    <a:lnTo>
                      <a:pt x="396" y="14"/>
                    </a:lnTo>
                    <a:lnTo>
                      <a:pt x="359" y="63"/>
                    </a:lnTo>
                    <a:lnTo>
                      <a:pt x="219" y="109"/>
                    </a:lnTo>
                    <a:lnTo>
                      <a:pt x="214" y="180"/>
                    </a:lnTo>
                    <a:lnTo>
                      <a:pt x="168" y="226"/>
                    </a:lnTo>
                    <a:lnTo>
                      <a:pt x="99" y="118"/>
                    </a:lnTo>
                    <a:lnTo>
                      <a:pt x="46" y="104"/>
                    </a:lnTo>
                    <a:lnTo>
                      <a:pt x="0" y="63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8116920" y="4826160"/>
                <a:ext cx="12600" cy="5760"/>
              </a:xfrm>
              <a:custGeom>
                <a:avLst/>
                <a:gdLst/>
                <a:ahLst/>
                <a:rect l="l" t="t" r="r" b="b"/>
                <a:pathLst>
                  <a:path w="155" h="58">
                    <a:moveTo>
                      <a:pt x="0" y="58"/>
                    </a:moveTo>
                    <a:lnTo>
                      <a:pt x="106" y="32"/>
                    </a:lnTo>
                    <a:lnTo>
                      <a:pt x="155" y="44"/>
                    </a:lnTo>
                    <a:lnTo>
                      <a:pt x="106" y="0"/>
                    </a:lnTo>
                    <a:lnTo>
                      <a:pt x="41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8131680" y="4833720"/>
                <a:ext cx="27000" cy="48240"/>
              </a:xfrm>
              <a:custGeom>
                <a:avLst/>
                <a:gdLst/>
                <a:ahLst/>
                <a:rect l="l" t="t" r="r" b="b"/>
                <a:pathLst>
                  <a:path w="323" h="453">
                    <a:moveTo>
                      <a:pt x="0" y="0"/>
                    </a:moveTo>
                    <a:lnTo>
                      <a:pt x="7" y="54"/>
                    </a:lnTo>
                    <a:lnTo>
                      <a:pt x="84" y="119"/>
                    </a:lnTo>
                    <a:lnTo>
                      <a:pt x="169" y="229"/>
                    </a:lnTo>
                    <a:lnTo>
                      <a:pt x="99" y="275"/>
                    </a:lnTo>
                    <a:lnTo>
                      <a:pt x="209" y="453"/>
                    </a:lnTo>
                    <a:lnTo>
                      <a:pt x="282" y="453"/>
                    </a:lnTo>
                    <a:lnTo>
                      <a:pt x="323" y="299"/>
                    </a:lnTo>
                    <a:lnTo>
                      <a:pt x="308" y="250"/>
                    </a:lnTo>
                    <a:lnTo>
                      <a:pt x="224" y="222"/>
                    </a:lnTo>
                    <a:lnTo>
                      <a:pt x="205" y="119"/>
                    </a:lnTo>
                    <a:lnTo>
                      <a:pt x="104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8074440" y="4815720"/>
                <a:ext cx="33480" cy="87840"/>
              </a:xfrm>
              <a:custGeom>
                <a:avLst/>
                <a:gdLst/>
                <a:ahLst/>
                <a:rect l="l" t="t" r="r" b="b"/>
                <a:pathLst>
                  <a:path w="411" h="827">
                    <a:moveTo>
                      <a:pt x="290" y="272"/>
                    </a:moveTo>
                    <a:lnTo>
                      <a:pt x="197" y="272"/>
                    </a:lnTo>
                    <a:lnTo>
                      <a:pt x="121" y="230"/>
                    </a:lnTo>
                    <a:lnTo>
                      <a:pt x="51" y="167"/>
                    </a:lnTo>
                    <a:lnTo>
                      <a:pt x="0" y="0"/>
                    </a:lnTo>
                    <a:lnTo>
                      <a:pt x="29" y="193"/>
                    </a:lnTo>
                    <a:lnTo>
                      <a:pt x="160" y="378"/>
                    </a:lnTo>
                    <a:lnTo>
                      <a:pt x="282" y="629"/>
                    </a:lnTo>
                    <a:lnTo>
                      <a:pt x="342" y="708"/>
                    </a:lnTo>
                    <a:lnTo>
                      <a:pt x="395" y="827"/>
                    </a:lnTo>
                    <a:lnTo>
                      <a:pt x="354" y="636"/>
                    </a:lnTo>
                    <a:lnTo>
                      <a:pt x="411" y="609"/>
                    </a:lnTo>
                    <a:lnTo>
                      <a:pt x="354" y="565"/>
                    </a:lnTo>
                    <a:lnTo>
                      <a:pt x="354" y="530"/>
                    </a:lnTo>
                    <a:lnTo>
                      <a:pt x="386" y="507"/>
                    </a:lnTo>
                    <a:lnTo>
                      <a:pt x="319" y="523"/>
                    </a:lnTo>
                    <a:lnTo>
                      <a:pt x="282" y="507"/>
                    </a:lnTo>
                    <a:lnTo>
                      <a:pt x="268" y="466"/>
                    </a:lnTo>
                    <a:lnTo>
                      <a:pt x="268" y="356"/>
                    </a:lnTo>
                    <a:lnTo>
                      <a:pt x="290" y="2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8110440" y="4861440"/>
                <a:ext cx="30960" cy="7560"/>
              </a:xfrm>
              <a:custGeom>
                <a:avLst/>
                <a:gdLst/>
                <a:ahLst/>
                <a:rect l="l" t="t" r="r" b="b"/>
                <a:pathLst>
                  <a:path w="381" h="76">
                    <a:moveTo>
                      <a:pt x="0" y="76"/>
                    </a:moveTo>
                    <a:lnTo>
                      <a:pt x="175" y="40"/>
                    </a:lnTo>
                    <a:lnTo>
                      <a:pt x="260" y="0"/>
                    </a:lnTo>
                    <a:lnTo>
                      <a:pt x="313" y="0"/>
                    </a:lnTo>
                    <a:lnTo>
                      <a:pt x="381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8112960" y="4871880"/>
                <a:ext cx="25560" cy="20160"/>
              </a:xfrm>
              <a:custGeom>
                <a:avLst/>
                <a:gdLst/>
                <a:ahLst/>
                <a:rect l="l" t="t" r="r" b="b"/>
                <a:pathLst>
                  <a:path w="316" h="191">
                    <a:moveTo>
                      <a:pt x="0" y="79"/>
                    </a:moveTo>
                    <a:lnTo>
                      <a:pt x="242" y="26"/>
                    </a:lnTo>
                    <a:lnTo>
                      <a:pt x="295" y="0"/>
                    </a:lnTo>
                    <a:lnTo>
                      <a:pt x="303" y="19"/>
                    </a:lnTo>
                    <a:lnTo>
                      <a:pt x="219" y="64"/>
                    </a:lnTo>
                    <a:lnTo>
                      <a:pt x="235" y="112"/>
                    </a:lnTo>
                    <a:lnTo>
                      <a:pt x="316" y="191"/>
                    </a:lnTo>
                    <a:lnTo>
                      <a:pt x="228" y="162"/>
                    </a:lnTo>
                    <a:lnTo>
                      <a:pt x="150" y="162"/>
                    </a:lnTo>
                    <a:lnTo>
                      <a:pt x="72" y="182"/>
                    </a:lnTo>
                    <a:lnTo>
                      <a:pt x="46" y="191"/>
                    </a:lnTo>
                    <a:lnTo>
                      <a:pt x="60" y="156"/>
                    </a:lnTo>
                    <a:lnTo>
                      <a:pt x="24" y="9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8047440" y="4684320"/>
                <a:ext cx="141840" cy="109080"/>
              </a:xfrm>
              <a:custGeom>
                <a:avLst/>
                <a:gdLst/>
                <a:ahLst/>
                <a:rect l="l" t="t" r="r" b="b"/>
                <a:pathLst>
                  <a:path w="1704" h="1028">
                    <a:moveTo>
                      <a:pt x="159" y="340"/>
                    </a:moveTo>
                    <a:lnTo>
                      <a:pt x="122" y="404"/>
                    </a:lnTo>
                    <a:lnTo>
                      <a:pt x="0" y="551"/>
                    </a:lnTo>
                    <a:lnTo>
                      <a:pt x="0" y="609"/>
                    </a:lnTo>
                    <a:lnTo>
                      <a:pt x="76" y="749"/>
                    </a:lnTo>
                    <a:lnTo>
                      <a:pt x="48" y="874"/>
                    </a:lnTo>
                    <a:lnTo>
                      <a:pt x="111" y="978"/>
                    </a:lnTo>
                    <a:lnTo>
                      <a:pt x="245" y="987"/>
                    </a:lnTo>
                    <a:lnTo>
                      <a:pt x="286" y="1028"/>
                    </a:lnTo>
                    <a:lnTo>
                      <a:pt x="252" y="692"/>
                    </a:lnTo>
                    <a:lnTo>
                      <a:pt x="252" y="588"/>
                    </a:lnTo>
                    <a:lnTo>
                      <a:pt x="265" y="507"/>
                    </a:lnTo>
                    <a:lnTo>
                      <a:pt x="286" y="457"/>
                    </a:lnTo>
                    <a:lnTo>
                      <a:pt x="408" y="507"/>
                    </a:lnTo>
                    <a:lnTo>
                      <a:pt x="555" y="529"/>
                    </a:lnTo>
                    <a:lnTo>
                      <a:pt x="738" y="529"/>
                    </a:lnTo>
                    <a:lnTo>
                      <a:pt x="966" y="507"/>
                    </a:lnTo>
                    <a:lnTo>
                      <a:pt x="851" y="503"/>
                    </a:lnTo>
                    <a:lnTo>
                      <a:pt x="708" y="434"/>
                    </a:lnTo>
                    <a:lnTo>
                      <a:pt x="865" y="441"/>
                    </a:lnTo>
                    <a:lnTo>
                      <a:pt x="992" y="434"/>
                    </a:lnTo>
                    <a:lnTo>
                      <a:pt x="1162" y="397"/>
                    </a:lnTo>
                    <a:lnTo>
                      <a:pt x="1280" y="349"/>
                    </a:lnTo>
                    <a:lnTo>
                      <a:pt x="1441" y="334"/>
                    </a:lnTo>
                    <a:lnTo>
                      <a:pt x="1513" y="362"/>
                    </a:lnTo>
                    <a:lnTo>
                      <a:pt x="1586" y="397"/>
                    </a:lnTo>
                    <a:lnTo>
                      <a:pt x="1644" y="397"/>
                    </a:lnTo>
                    <a:lnTo>
                      <a:pt x="1704" y="362"/>
                    </a:lnTo>
                    <a:lnTo>
                      <a:pt x="1634" y="272"/>
                    </a:lnTo>
                    <a:lnTo>
                      <a:pt x="1526" y="286"/>
                    </a:lnTo>
                    <a:lnTo>
                      <a:pt x="1441" y="259"/>
                    </a:lnTo>
                    <a:lnTo>
                      <a:pt x="1358" y="250"/>
                    </a:lnTo>
                    <a:lnTo>
                      <a:pt x="1280" y="279"/>
                    </a:lnTo>
                    <a:lnTo>
                      <a:pt x="1139" y="340"/>
                    </a:lnTo>
                    <a:lnTo>
                      <a:pt x="1014" y="371"/>
                    </a:lnTo>
                    <a:lnTo>
                      <a:pt x="878" y="378"/>
                    </a:lnTo>
                    <a:lnTo>
                      <a:pt x="766" y="384"/>
                    </a:lnTo>
                    <a:lnTo>
                      <a:pt x="590" y="362"/>
                    </a:lnTo>
                    <a:lnTo>
                      <a:pt x="696" y="334"/>
                    </a:lnTo>
                    <a:lnTo>
                      <a:pt x="570" y="318"/>
                    </a:lnTo>
                    <a:lnTo>
                      <a:pt x="443" y="291"/>
                    </a:lnTo>
                    <a:lnTo>
                      <a:pt x="379" y="265"/>
                    </a:lnTo>
                    <a:lnTo>
                      <a:pt x="482" y="226"/>
                    </a:lnTo>
                    <a:lnTo>
                      <a:pt x="300" y="201"/>
                    </a:lnTo>
                    <a:lnTo>
                      <a:pt x="265" y="173"/>
                    </a:lnTo>
                    <a:lnTo>
                      <a:pt x="258" y="145"/>
                    </a:lnTo>
                    <a:lnTo>
                      <a:pt x="265" y="102"/>
                    </a:lnTo>
                    <a:lnTo>
                      <a:pt x="295" y="54"/>
                    </a:lnTo>
                    <a:lnTo>
                      <a:pt x="373" y="0"/>
                    </a:lnTo>
                    <a:lnTo>
                      <a:pt x="217" y="67"/>
                    </a:lnTo>
                    <a:lnTo>
                      <a:pt x="60" y="164"/>
                    </a:lnTo>
                    <a:lnTo>
                      <a:pt x="69" y="189"/>
                    </a:lnTo>
                    <a:lnTo>
                      <a:pt x="118" y="286"/>
                    </a:lnTo>
                    <a:lnTo>
                      <a:pt x="159" y="3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8085960" y="4660920"/>
                <a:ext cx="137160" cy="278640"/>
              </a:xfrm>
              <a:custGeom>
                <a:avLst/>
                <a:gdLst/>
                <a:ahLst/>
                <a:rect l="l" t="t" r="r" b="b"/>
                <a:pathLst>
                  <a:path w="1658" h="2635">
                    <a:moveTo>
                      <a:pt x="7" y="196"/>
                    </a:moveTo>
                    <a:lnTo>
                      <a:pt x="0" y="216"/>
                    </a:lnTo>
                    <a:lnTo>
                      <a:pt x="14" y="231"/>
                    </a:lnTo>
                    <a:lnTo>
                      <a:pt x="58" y="251"/>
                    </a:lnTo>
                    <a:lnTo>
                      <a:pt x="106" y="260"/>
                    </a:lnTo>
                    <a:lnTo>
                      <a:pt x="185" y="260"/>
                    </a:lnTo>
                    <a:lnTo>
                      <a:pt x="291" y="244"/>
                    </a:lnTo>
                    <a:lnTo>
                      <a:pt x="208" y="279"/>
                    </a:lnTo>
                    <a:lnTo>
                      <a:pt x="114" y="292"/>
                    </a:lnTo>
                    <a:lnTo>
                      <a:pt x="35" y="292"/>
                    </a:lnTo>
                    <a:lnTo>
                      <a:pt x="35" y="315"/>
                    </a:lnTo>
                    <a:lnTo>
                      <a:pt x="58" y="341"/>
                    </a:lnTo>
                    <a:lnTo>
                      <a:pt x="114" y="366"/>
                    </a:lnTo>
                    <a:lnTo>
                      <a:pt x="185" y="354"/>
                    </a:lnTo>
                    <a:lnTo>
                      <a:pt x="231" y="385"/>
                    </a:lnTo>
                    <a:lnTo>
                      <a:pt x="226" y="398"/>
                    </a:lnTo>
                    <a:lnTo>
                      <a:pt x="185" y="420"/>
                    </a:lnTo>
                    <a:lnTo>
                      <a:pt x="141" y="426"/>
                    </a:lnTo>
                    <a:lnTo>
                      <a:pt x="220" y="435"/>
                    </a:lnTo>
                    <a:lnTo>
                      <a:pt x="354" y="435"/>
                    </a:lnTo>
                    <a:lnTo>
                      <a:pt x="510" y="414"/>
                    </a:lnTo>
                    <a:lnTo>
                      <a:pt x="611" y="385"/>
                    </a:lnTo>
                    <a:lnTo>
                      <a:pt x="487" y="426"/>
                    </a:lnTo>
                    <a:lnTo>
                      <a:pt x="345" y="456"/>
                    </a:lnTo>
                    <a:lnTo>
                      <a:pt x="244" y="475"/>
                    </a:lnTo>
                    <a:lnTo>
                      <a:pt x="305" y="504"/>
                    </a:lnTo>
                    <a:lnTo>
                      <a:pt x="437" y="523"/>
                    </a:lnTo>
                    <a:lnTo>
                      <a:pt x="543" y="532"/>
                    </a:lnTo>
                    <a:lnTo>
                      <a:pt x="662" y="532"/>
                    </a:lnTo>
                    <a:lnTo>
                      <a:pt x="741" y="511"/>
                    </a:lnTo>
                    <a:lnTo>
                      <a:pt x="625" y="475"/>
                    </a:lnTo>
                    <a:lnTo>
                      <a:pt x="824" y="398"/>
                    </a:lnTo>
                    <a:lnTo>
                      <a:pt x="763" y="370"/>
                    </a:lnTo>
                    <a:lnTo>
                      <a:pt x="875" y="378"/>
                    </a:lnTo>
                    <a:lnTo>
                      <a:pt x="945" y="414"/>
                    </a:lnTo>
                    <a:lnTo>
                      <a:pt x="1029" y="470"/>
                    </a:lnTo>
                    <a:lnTo>
                      <a:pt x="1095" y="511"/>
                    </a:lnTo>
                    <a:lnTo>
                      <a:pt x="1142" y="622"/>
                    </a:lnTo>
                    <a:lnTo>
                      <a:pt x="1204" y="622"/>
                    </a:lnTo>
                    <a:lnTo>
                      <a:pt x="1257" y="609"/>
                    </a:lnTo>
                    <a:lnTo>
                      <a:pt x="1296" y="580"/>
                    </a:lnTo>
                    <a:lnTo>
                      <a:pt x="1331" y="537"/>
                    </a:lnTo>
                    <a:lnTo>
                      <a:pt x="1354" y="511"/>
                    </a:lnTo>
                    <a:lnTo>
                      <a:pt x="1361" y="559"/>
                    </a:lnTo>
                    <a:lnTo>
                      <a:pt x="1347" y="609"/>
                    </a:lnTo>
                    <a:lnTo>
                      <a:pt x="1310" y="651"/>
                    </a:lnTo>
                    <a:lnTo>
                      <a:pt x="1382" y="651"/>
                    </a:lnTo>
                    <a:lnTo>
                      <a:pt x="1446" y="638"/>
                    </a:lnTo>
                    <a:lnTo>
                      <a:pt x="1485" y="651"/>
                    </a:lnTo>
                    <a:lnTo>
                      <a:pt x="1508" y="684"/>
                    </a:lnTo>
                    <a:lnTo>
                      <a:pt x="1523" y="765"/>
                    </a:lnTo>
                    <a:lnTo>
                      <a:pt x="1517" y="936"/>
                    </a:lnTo>
                    <a:lnTo>
                      <a:pt x="1543" y="996"/>
                    </a:lnTo>
                    <a:lnTo>
                      <a:pt x="1580" y="1030"/>
                    </a:lnTo>
                    <a:lnTo>
                      <a:pt x="1591" y="1073"/>
                    </a:lnTo>
                    <a:lnTo>
                      <a:pt x="1559" y="1073"/>
                    </a:lnTo>
                    <a:lnTo>
                      <a:pt x="1469" y="1014"/>
                    </a:lnTo>
                    <a:lnTo>
                      <a:pt x="1354" y="1009"/>
                    </a:lnTo>
                    <a:lnTo>
                      <a:pt x="1287" y="1095"/>
                    </a:lnTo>
                    <a:lnTo>
                      <a:pt x="1268" y="1226"/>
                    </a:lnTo>
                    <a:lnTo>
                      <a:pt x="1340" y="1284"/>
                    </a:lnTo>
                    <a:lnTo>
                      <a:pt x="1319" y="1457"/>
                    </a:lnTo>
                    <a:lnTo>
                      <a:pt x="1361" y="1374"/>
                    </a:lnTo>
                    <a:lnTo>
                      <a:pt x="1460" y="1330"/>
                    </a:lnTo>
                    <a:lnTo>
                      <a:pt x="1422" y="1240"/>
                    </a:lnTo>
                    <a:lnTo>
                      <a:pt x="1340" y="1219"/>
                    </a:lnTo>
                    <a:lnTo>
                      <a:pt x="1409" y="1143"/>
                    </a:lnTo>
                    <a:lnTo>
                      <a:pt x="1508" y="1212"/>
                    </a:lnTo>
                    <a:lnTo>
                      <a:pt x="1479" y="1106"/>
                    </a:lnTo>
                    <a:lnTo>
                      <a:pt x="1517" y="1095"/>
                    </a:lnTo>
                    <a:lnTo>
                      <a:pt x="1422" y="1099"/>
                    </a:lnTo>
                    <a:lnTo>
                      <a:pt x="1303" y="1189"/>
                    </a:lnTo>
                    <a:lnTo>
                      <a:pt x="1319" y="1099"/>
                    </a:lnTo>
                    <a:lnTo>
                      <a:pt x="1367" y="1035"/>
                    </a:lnTo>
                    <a:lnTo>
                      <a:pt x="1460" y="1035"/>
                    </a:lnTo>
                    <a:lnTo>
                      <a:pt x="1559" y="1095"/>
                    </a:lnTo>
                    <a:lnTo>
                      <a:pt x="1564" y="1198"/>
                    </a:lnTo>
                    <a:lnTo>
                      <a:pt x="1543" y="1316"/>
                    </a:lnTo>
                    <a:lnTo>
                      <a:pt x="1469" y="1435"/>
                    </a:lnTo>
                    <a:lnTo>
                      <a:pt x="1446" y="1519"/>
                    </a:lnTo>
                    <a:lnTo>
                      <a:pt x="1361" y="1560"/>
                    </a:lnTo>
                    <a:lnTo>
                      <a:pt x="1296" y="1493"/>
                    </a:lnTo>
                    <a:lnTo>
                      <a:pt x="1220" y="1968"/>
                    </a:lnTo>
                    <a:lnTo>
                      <a:pt x="1163" y="2261"/>
                    </a:lnTo>
                    <a:lnTo>
                      <a:pt x="939" y="2501"/>
                    </a:lnTo>
                    <a:lnTo>
                      <a:pt x="851" y="2635"/>
                    </a:lnTo>
                    <a:lnTo>
                      <a:pt x="958" y="2492"/>
                    </a:lnTo>
                    <a:lnTo>
                      <a:pt x="1257" y="2174"/>
                    </a:lnTo>
                    <a:lnTo>
                      <a:pt x="1446" y="1827"/>
                    </a:lnTo>
                    <a:lnTo>
                      <a:pt x="1430" y="1807"/>
                    </a:lnTo>
                    <a:lnTo>
                      <a:pt x="1382" y="1811"/>
                    </a:lnTo>
                    <a:lnTo>
                      <a:pt x="1384" y="1730"/>
                    </a:lnTo>
                    <a:lnTo>
                      <a:pt x="1494" y="1701"/>
                    </a:lnTo>
                    <a:lnTo>
                      <a:pt x="1494" y="1624"/>
                    </a:lnTo>
                    <a:lnTo>
                      <a:pt x="1591" y="1592"/>
                    </a:lnTo>
                    <a:lnTo>
                      <a:pt x="1619" y="1457"/>
                    </a:lnTo>
                    <a:lnTo>
                      <a:pt x="1658" y="1394"/>
                    </a:lnTo>
                    <a:lnTo>
                      <a:pt x="1580" y="1350"/>
                    </a:lnTo>
                    <a:lnTo>
                      <a:pt x="1573" y="1306"/>
                    </a:lnTo>
                    <a:lnTo>
                      <a:pt x="1591" y="1240"/>
                    </a:lnTo>
                    <a:lnTo>
                      <a:pt x="1591" y="1154"/>
                    </a:lnTo>
                    <a:lnTo>
                      <a:pt x="1580" y="1122"/>
                    </a:lnTo>
                    <a:lnTo>
                      <a:pt x="1642" y="1143"/>
                    </a:lnTo>
                    <a:lnTo>
                      <a:pt x="1619" y="1057"/>
                    </a:lnTo>
                    <a:lnTo>
                      <a:pt x="1564" y="967"/>
                    </a:lnTo>
                    <a:lnTo>
                      <a:pt x="1550" y="897"/>
                    </a:lnTo>
                    <a:lnTo>
                      <a:pt x="1550" y="813"/>
                    </a:lnTo>
                    <a:lnTo>
                      <a:pt x="1543" y="741"/>
                    </a:lnTo>
                    <a:lnTo>
                      <a:pt x="1550" y="700"/>
                    </a:lnTo>
                    <a:lnTo>
                      <a:pt x="1501" y="580"/>
                    </a:lnTo>
                    <a:lnTo>
                      <a:pt x="1418" y="462"/>
                    </a:lnTo>
                    <a:lnTo>
                      <a:pt x="1326" y="389"/>
                    </a:lnTo>
                    <a:lnTo>
                      <a:pt x="1257" y="341"/>
                    </a:lnTo>
                    <a:lnTo>
                      <a:pt x="1227" y="225"/>
                    </a:lnTo>
                    <a:lnTo>
                      <a:pt x="1137" y="147"/>
                    </a:lnTo>
                    <a:lnTo>
                      <a:pt x="1044" y="119"/>
                    </a:lnTo>
                    <a:lnTo>
                      <a:pt x="909" y="40"/>
                    </a:lnTo>
                    <a:lnTo>
                      <a:pt x="747" y="0"/>
                    </a:lnTo>
                    <a:lnTo>
                      <a:pt x="584" y="4"/>
                    </a:lnTo>
                    <a:lnTo>
                      <a:pt x="427" y="36"/>
                    </a:lnTo>
                    <a:lnTo>
                      <a:pt x="298" y="97"/>
                    </a:lnTo>
                    <a:lnTo>
                      <a:pt x="127" y="161"/>
                    </a:lnTo>
                    <a:lnTo>
                      <a:pt x="7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8150040" y="4717440"/>
                <a:ext cx="37080" cy="37080"/>
              </a:xfrm>
              <a:custGeom>
                <a:avLst/>
                <a:gdLst/>
                <a:ahLst/>
                <a:rect l="l" t="t" r="r" b="b"/>
                <a:pathLst>
                  <a:path w="445" h="358">
                    <a:moveTo>
                      <a:pt x="141" y="27"/>
                    </a:moveTo>
                    <a:lnTo>
                      <a:pt x="69" y="48"/>
                    </a:lnTo>
                    <a:lnTo>
                      <a:pt x="0" y="113"/>
                    </a:lnTo>
                    <a:lnTo>
                      <a:pt x="84" y="113"/>
                    </a:lnTo>
                    <a:lnTo>
                      <a:pt x="42" y="209"/>
                    </a:lnTo>
                    <a:lnTo>
                      <a:pt x="93" y="233"/>
                    </a:lnTo>
                    <a:lnTo>
                      <a:pt x="127" y="358"/>
                    </a:lnTo>
                    <a:lnTo>
                      <a:pt x="115" y="222"/>
                    </a:lnTo>
                    <a:lnTo>
                      <a:pt x="163" y="180"/>
                    </a:lnTo>
                    <a:lnTo>
                      <a:pt x="240" y="161"/>
                    </a:lnTo>
                    <a:lnTo>
                      <a:pt x="316" y="161"/>
                    </a:lnTo>
                    <a:lnTo>
                      <a:pt x="385" y="173"/>
                    </a:lnTo>
                    <a:lnTo>
                      <a:pt x="445" y="209"/>
                    </a:lnTo>
                    <a:lnTo>
                      <a:pt x="374" y="161"/>
                    </a:lnTo>
                    <a:lnTo>
                      <a:pt x="268" y="134"/>
                    </a:lnTo>
                    <a:lnTo>
                      <a:pt x="189" y="134"/>
                    </a:lnTo>
                    <a:lnTo>
                      <a:pt x="99" y="161"/>
                    </a:lnTo>
                    <a:lnTo>
                      <a:pt x="106" y="119"/>
                    </a:lnTo>
                    <a:lnTo>
                      <a:pt x="150" y="90"/>
                    </a:lnTo>
                    <a:lnTo>
                      <a:pt x="62" y="90"/>
                    </a:lnTo>
                    <a:lnTo>
                      <a:pt x="99" y="64"/>
                    </a:lnTo>
                    <a:lnTo>
                      <a:pt x="163" y="33"/>
                    </a:lnTo>
                    <a:lnTo>
                      <a:pt x="219" y="42"/>
                    </a:lnTo>
                    <a:lnTo>
                      <a:pt x="316" y="64"/>
                    </a:lnTo>
                    <a:lnTo>
                      <a:pt x="247" y="20"/>
                    </a:lnTo>
                    <a:lnTo>
                      <a:pt x="163" y="0"/>
                    </a:lnTo>
                    <a:lnTo>
                      <a:pt x="14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8161920" y="476064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387" h="303">
                    <a:moveTo>
                      <a:pt x="22" y="18"/>
                    </a:moveTo>
                    <a:lnTo>
                      <a:pt x="115" y="0"/>
                    </a:lnTo>
                    <a:lnTo>
                      <a:pt x="191" y="18"/>
                    </a:lnTo>
                    <a:lnTo>
                      <a:pt x="244" y="53"/>
                    </a:lnTo>
                    <a:lnTo>
                      <a:pt x="281" y="92"/>
                    </a:lnTo>
                    <a:lnTo>
                      <a:pt x="288" y="138"/>
                    </a:lnTo>
                    <a:lnTo>
                      <a:pt x="281" y="156"/>
                    </a:lnTo>
                    <a:lnTo>
                      <a:pt x="255" y="152"/>
                    </a:lnTo>
                    <a:lnTo>
                      <a:pt x="219" y="130"/>
                    </a:lnTo>
                    <a:lnTo>
                      <a:pt x="175" y="92"/>
                    </a:lnTo>
                    <a:lnTo>
                      <a:pt x="127" y="87"/>
                    </a:lnTo>
                    <a:lnTo>
                      <a:pt x="172" y="152"/>
                    </a:lnTo>
                    <a:lnTo>
                      <a:pt x="191" y="207"/>
                    </a:lnTo>
                    <a:lnTo>
                      <a:pt x="182" y="260"/>
                    </a:lnTo>
                    <a:lnTo>
                      <a:pt x="360" y="290"/>
                    </a:lnTo>
                    <a:lnTo>
                      <a:pt x="387" y="303"/>
                    </a:lnTo>
                    <a:lnTo>
                      <a:pt x="147" y="276"/>
                    </a:lnTo>
                    <a:lnTo>
                      <a:pt x="163" y="239"/>
                    </a:lnTo>
                    <a:lnTo>
                      <a:pt x="156" y="191"/>
                    </a:lnTo>
                    <a:lnTo>
                      <a:pt x="121" y="130"/>
                    </a:lnTo>
                    <a:lnTo>
                      <a:pt x="83" y="87"/>
                    </a:lnTo>
                    <a:lnTo>
                      <a:pt x="16" y="53"/>
                    </a:lnTo>
                    <a:lnTo>
                      <a:pt x="0" y="9"/>
                    </a:lnTo>
                    <a:lnTo>
                      <a:pt x="2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8168760" y="4789440"/>
                <a:ext cx="17640" cy="33480"/>
              </a:xfrm>
              <a:custGeom>
                <a:avLst/>
                <a:gdLst/>
                <a:ahLst/>
                <a:rect l="l" t="t" r="r" b="b"/>
                <a:pathLst>
                  <a:path w="214" h="313">
                    <a:moveTo>
                      <a:pt x="89" y="0"/>
                    </a:moveTo>
                    <a:lnTo>
                      <a:pt x="0" y="179"/>
                    </a:lnTo>
                    <a:lnTo>
                      <a:pt x="9" y="313"/>
                    </a:lnTo>
                    <a:lnTo>
                      <a:pt x="214" y="65"/>
                    </a:lnTo>
                    <a:lnTo>
                      <a:pt x="214" y="14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8109000" y="4875120"/>
                <a:ext cx="70920" cy="67680"/>
              </a:xfrm>
              <a:custGeom>
                <a:avLst/>
                <a:gdLst/>
                <a:ahLst/>
                <a:rect l="l" t="t" r="r" b="b"/>
                <a:pathLst>
                  <a:path w="857" h="640">
                    <a:moveTo>
                      <a:pt x="857" y="0"/>
                    </a:moveTo>
                    <a:lnTo>
                      <a:pt x="749" y="53"/>
                    </a:lnTo>
                    <a:lnTo>
                      <a:pt x="648" y="198"/>
                    </a:lnTo>
                    <a:lnTo>
                      <a:pt x="514" y="187"/>
                    </a:lnTo>
                    <a:lnTo>
                      <a:pt x="470" y="260"/>
                    </a:lnTo>
                    <a:lnTo>
                      <a:pt x="415" y="297"/>
                    </a:lnTo>
                    <a:lnTo>
                      <a:pt x="276" y="288"/>
                    </a:lnTo>
                    <a:lnTo>
                      <a:pt x="186" y="321"/>
                    </a:lnTo>
                    <a:lnTo>
                      <a:pt x="118" y="345"/>
                    </a:lnTo>
                    <a:lnTo>
                      <a:pt x="48" y="345"/>
                    </a:lnTo>
                    <a:lnTo>
                      <a:pt x="0" y="317"/>
                    </a:lnTo>
                    <a:lnTo>
                      <a:pt x="48" y="359"/>
                    </a:lnTo>
                    <a:lnTo>
                      <a:pt x="105" y="366"/>
                    </a:lnTo>
                    <a:lnTo>
                      <a:pt x="223" y="366"/>
                    </a:lnTo>
                    <a:lnTo>
                      <a:pt x="294" y="391"/>
                    </a:lnTo>
                    <a:lnTo>
                      <a:pt x="382" y="514"/>
                    </a:lnTo>
                    <a:lnTo>
                      <a:pt x="507" y="611"/>
                    </a:lnTo>
                    <a:lnTo>
                      <a:pt x="527" y="640"/>
                    </a:lnTo>
                    <a:lnTo>
                      <a:pt x="564" y="615"/>
                    </a:lnTo>
                    <a:lnTo>
                      <a:pt x="555" y="550"/>
                    </a:lnTo>
                    <a:lnTo>
                      <a:pt x="544" y="461"/>
                    </a:lnTo>
                    <a:lnTo>
                      <a:pt x="555" y="380"/>
                    </a:lnTo>
                    <a:lnTo>
                      <a:pt x="569" y="327"/>
                    </a:lnTo>
                    <a:lnTo>
                      <a:pt x="630" y="267"/>
                    </a:lnTo>
                    <a:lnTo>
                      <a:pt x="685" y="226"/>
                    </a:lnTo>
                    <a:lnTo>
                      <a:pt x="738" y="132"/>
                    </a:lnTo>
                    <a:lnTo>
                      <a:pt x="800" y="57"/>
                    </a:lnTo>
                    <a:lnTo>
                      <a:pt x="8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8164080" y="4834440"/>
                <a:ext cx="5760" cy="36000"/>
              </a:xfrm>
              <a:custGeom>
                <a:avLst/>
                <a:gdLst/>
                <a:ahLst/>
                <a:rect l="l" t="t" r="r" b="b"/>
                <a:pathLst>
                  <a:path w="72" h="339">
                    <a:moveTo>
                      <a:pt x="56" y="0"/>
                    </a:moveTo>
                    <a:lnTo>
                      <a:pt x="0" y="339"/>
                    </a:lnTo>
                    <a:lnTo>
                      <a:pt x="72" y="117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8091000" y="4751640"/>
                <a:ext cx="62280" cy="19080"/>
              </a:xfrm>
              <a:custGeom>
                <a:avLst/>
                <a:gdLst/>
                <a:ahLst/>
                <a:rect l="l" t="t" r="r" b="b"/>
                <a:pathLst>
                  <a:path w="747" h="189">
                    <a:moveTo>
                      <a:pt x="0" y="189"/>
                    </a:moveTo>
                    <a:lnTo>
                      <a:pt x="38" y="145"/>
                    </a:lnTo>
                    <a:lnTo>
                      <a:pt x="95" y="117"/>
                    </a:lnTo>
                    <a:lnTo>
                      <a:pt x="189" y="97"/>
                    </a:lnTo>
                    <a:lnTo>
                      <a:pt x="341" y="78"/>
                    </a:lnTo>
                    <a:lnTo>
                      <a:pt x="460" y="39"/>
                    </a:lnTo>
                    <a:lnTo>
                      <a:pt x="581" y="0"/>
                    </a:lnTo>
                    <a:lnTo>
                      <a:pt x="664" y="0"/>
                    </a:lnTo>
                    <a:lnTo>
                      <a:pt x="715" y="29"/>
                    </a:lnTo>
                    <a:lnTo>
                      <a:pt x="747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8105040" y="4744440"/>
                <a:ext cx="46440" cy="11880"/>
              </a:xfrm>
              <a:custGeom>
                <a:avLst/>
                <a:gdLst/>
                <a:ahLst/>
                <a:rect l="l" t="t" r="r" b="b"/>
                <a:pathLst>
                  <a:path w="563" h="118">
                    <a:moveTo>
                      <a:pt x="0" y="118"/>
                    </a:moveTo>
                    <a:lnTo>
                      <a:pt x="134" y="94"/>
                    </a:lnTo>
                    <a:lnTo>
                      <a:pt x="266" y="41"/>
                    </a:lnTo>
                    <a:lnTo>
                      <a:pt x="362" y="4"/>
                    </a:lnTo>
                    <a:lnTo>
                      <a:pt x="436" y="0"/>
                    </a:lnTo>
                    <a:lnTo>
                      <a:pt x="496" y="17"/>
                    </a:lnTo>
                    <a:lnTo>
                      <a:pt x="563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8122320" y="4738680"/>
                <a:ext cx="23040" cy="5760"/>
              </a:xfrm>
              <a:custGeom>
                <a:avLst/>
                <a:gdLst/>
                <a:ahLst/>
                <a:rect l="l" t="t" r="r" b="b"/>
                <a:pathLst>
                  <a:path w="279" h="62">
                    <a:moveTo>
                      <a:pt x="0" y="62"/>
                    </a:moveTo>
                    <a:lnTo>
                      <a:pt x="161" y="7"/>
                    </a:lnTo>
                    <a:lnTo>
                      <a:pt x="223" y="0"/>
                    </a:lnTo>
                    <a:lnTo>
                      <a:pt x="279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8148960" y="477612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105" h="128">
                    <a:moveTo>
                      <a:pt x="0" y="0"/>
                    </a:moveTo>
                    <a:lnTo>
                      <a:pt x="0" y="101"/>
                    </a:lnTo>
                    <a:lnTo>
                      <a:pt x="52" y="128"/>
                    </a:lnTo>
                    <a:lnTo>
                      <a:pt x="105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8234280" y="4947120"/>
                <a:ext cx="176040" cy="399960"/>
              </a:xfrm>
              <a:custGeom>
                <a:avLst/>
                <a:gdLst/>
                <a:ahLst/>
                <a:rect l="l" t="t" r="r" b="b"/>
                <a:pathLst>
                  <a:path w="2124" h="3774">
                    <a:moveTo>
                      <a:pt x="1483" y="509"/>
                    </a:moveTo>
                    <a:lnTo>
                      <a:pt x="1612" y="966"/>
                    </a:lnTo>
                    <a:lnTo>
                      <a:pt x="1929" y="1474"/>
                    </a:lnTo>
                    <a:lnTo>
                      <a:pt x="1810" y="2116"/>
                    </a:lnTo>
                    <a:lnTo>
                      <a:pt x="2124" y="3119"/>
                    </a:lnTo>
                    <a:lnTo>
                      <a:pt x="2124" y="3774"/>
                    </a:lnTo>
                    <a:lnTo>
                      <a:pt x="916" y="3766"/>
                    </a:lnTo>
                    <a:lnTo>
                      <a:pt x="0" y="3302"/>
                    </a:lnTo>
                    <a:lnTo>
                      <a:pt x="499" y="2990"/>
                    </a:lnTo>
                    <a:lnTo>
                      <a:pt x="510" y="2782"/>
                    </a:lnTo>
                    <a:lnTo>
                      <a:pt x="589" y="2443"/>
                    </a:lnTo>
                    <a:lnTo>
                      <a:pt x="589" y="2755"/>
                    </a:lnTo>
                    <a:lnTo>
                      <a:pt x="932" y="2375"/>
                    </a:lnTo>
                    <a:lnTo>
                      <a:pt x="995" y="2285"/>
                    </a:lnTo>
                    <a:lnTo>
                      <a:pt x="1024" y="2116"/>
                    </a:lnTo>
                    <a:lnTo>
                      <a:pt x="1063" y="1931"/>
                    </a:lnTo>
                    <a:lnTo>
                      <a:pt x="1301" y="1946"/>
                    </a:lnTo>
                    <a:lnTo>
                      <a:pt x="1377" y="1812"/>
                    </a:lnTo>
                    <a:lnTo>
                      <a:pt x="1206" y="1501"/>
                    </a:lnTo>
                    <a:lnTo>
                      <a:pt x="1377" y="1501"/>
                    </a:lnTo>
                    <a:lnTo>
                      <a:pt x="1377" y="1434"/>
                    </a:lnTo>
                    <a:lnTo>
                      <a:pt x="1232" y="1265"/>
                    </a:lnTo>
                    <a:lnTo>
                      <a:pt x="1246" y="1148"/>
                    </a:lnTo>
                    <a:lnTo>
                      <a:pt x="1457" y="966"/>
                    </a:lnTo>
                    <a:lnTo>
                      <a:pt x="1470" y="717"/>
                    </a:lnTo>
                    <a:lnTo>
                      <a:pt x="1351" y="496"/>
                    </a:lnTo>
                    <a:lnTo>
                      <a:pt x="1324" y="258"/>
                    </a:lnTo>
                    <a:lnTo>
                      <a:pt x="1206" y="0"/>
                    </a:lnTo>
                    <a:lnTo>
                      <a:pt x="1419" y="351"/>
                    </a:lnTo>
                    <a:lnTo>
                      <a:pt x="1483" y="5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8207280" y="4848120"/>
                <a:ext cx="60840" cy="92160"/>
              </a:xfrm>
              <a:custGeom>
                <a:avLst/>
                <a:gdLst/>
                <a:ahLst/>
                <a:rect l="l" t="t" r="r" b="b"/>
                <a:pathLst>
                  <a:path w="734" h="874">
                    <a:moveTo>
                      <a:pt x="38" y="65"/>
                    </a:moveTo>
                    <a:lnTo>
                      <a:pt x="156" y="301"/>
                    </a:lnTo>
                    <a:lnTo>
                      <a:pt x="0" y="874"/>
                    </a:lnTo>
                    <a:lnTo>
                      <a:pt x="220" y="222"/>
                    </a:lnTo>
                    <a:lnTo>
                      <a:pt x="220" y="158"/>
                    </a:lnTo>
                    <a:lnTo>
                      <a:pt x="195" y="106"/>
                    </a:lnTo>
                    <a:lnTo>
                      <a:pt x="328" y="158"/>
                    </a:lnTo>
                    <a:lnTo>
                      <a:pt x="420" y="250"/>
                    </a:lnTo>
                    <a:lnTo>
                      <a:pt x="446" y="367"/>
                    </a:lnTo>
                    <a:lnTo>
                      <a:pt x="378" y="547"/>
                    </a:lnTo>
                    <a:lnTo>
                      <a:pt x="486" y="404"/>
                    </a:lnTo>
                    <a:lnTo>
                      <a:pt x="576" y="433"/>
                    </a:lnTo>
                    <a:lnTo>
                      <a:pt x="290" y="874"/>
                    </a:lnTo>
                    <a:lnTo>
                      <a:pt x="734" y="378"/>
                    </a:lnTo>
                    <a:lnTo>
                      <a:pt x="681" y="325"/>
                    </a:lnTo>
                    <a:lnTo>
                      <a:pt x="617" y="367"/>
                    </a:lnTo>
                    <a:lnTo>
                      <a:pt x="499" y="339"/>
                    </a:lnTo>
                    <a:lnTo>
                      <a:pt x="472" y="235"/>
                    </a:lnTo>
                    <a:lnTo>
                      <a:pt x="393" y="158"/>
                    </a:lnTo>
                    <a:lnTo>
                      <a:pt x="248" y="79"/>
                    </a:lnTo>
                    <a:lnTo>
                      <a:pt x="156" y="79"/>
                    </a:lnTo>
                    <a:lnTo>
                      <a:pt x="0" y="0"/>
                    </a:lnTo>
                    <a:lnTo>
                      <a:pt x="38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8278200" y="4892040"/>
                <a:ext cx="52920" cy="52200"/>
              </a:xfrm>
              <a:custGeom>
                <a:avLst/>
                <a:gdLst/>
                <a:ahLst/>
                <a:rect l="l" t="t" r="r" b="b"/>
                <a:pathLst>
                  <a:path w="643" h="496">
                    <a:moveTo>
                      <a:pt x="0" y="0"/>
                    </a:moveTo>
                    <a:lnTo>
                      <a:pt x="198" y="94"/>
                    </a:lnTo>
                    <a:lnTo>
                      <a:pt x="420" y="168"/>
                    </a:lnTo>
                    <a:lnTo>
                      <a:pt x="643" y="496"/>
                    </a:lnTo>
                    <a:lnTo>
                      <a:pt x="500" y="442"/>
                    </a:lnTo>
                    <a:lnTo>
                      <a:pt x="408" y="2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8136720" y="4946400"/>
                <a:ext cx="54720" cy="258480"/>
              </a:xfrm>
              <a:custGeom>
                <a:avLst/>
                <a:gdLst/>
                <a:ahLst/>
                <a:rect l="l" t="t" r="r" b="b"/>
                <a:pathLst>
                  <a:path w="667" h="2442">
                    <a:moveTo>
                      <a:pt x="208" y="0"/>
                    </a:moveTo>
                    <a:lnTo>
                      <a:pt x="208" y="88"/>
                    </a:lnTo>
                    <a:lnTo>
                      <a:pt x="618" y="326"/>
                    </a:lnTo>
                    <a:lnTo>
                      <a:pt x="272" y="194"/>
                    </a:lnTo>
                    <a:lnTo>
                      <a:pt x="208" y="440"/>
                    </a:lnTo>
                    <a:lnTo>
                      <a:pt x="272" y="625"/>
                    </a:lnTo>
                    <a:lnTo>
                      <a:pt x="272" y="794"/>
                    </a:lnTo>
                    <a:lnTo>
                      <a:pt x="208" y="1190"/>
                    </a:lnTo>
                    <a:lnTo>
                      <a:pt x="153" y="1543"/>
                    </a:lnTo>
                    <a:lnTo>
                      <a:pt x="185" y="1734"/>
                    </a:lnTo>
                    <a:lnTo>
                      <a:pt x="314" y="1996"/>
                    </a:lnTo>
                    <a:lnTo>
                      <a:pt x="512" y="2218"/>
                    </a:lnTo>
                    <a:lnTo>
                      <a:pt x="667" y="2257"/>
                    </a:lnTo>
                    <a:lnTo>
                      <a:pt x="470" y="2242"/>
                    </a:lnTo>
                    <a:lnTo>
                      <a:pt x="404" y="2273"/>
                    </a:lnTo>
                    <a:lnTo>
                      <a:pt x="404" y="2442"/>
                    </a:lnTo>
                    <a:lnTo>
                      <a:pt x="272" y="2321"/>
                    </a:lnTo>
                    <a:lnTo>
                      <a:pt x="0" y="2400"/>
                    </a:lnTo>
                    <a:lnTo>
                      <a:pt x="245" y="2297"/>
                    </a:lnTo>
                    <a:lnTo>
                      <a:pt x="185" y="2089"/>
                    </a:lnTo>
                    <a:lnTo>
                      <a:pt x="129" y="1801"/>
                    </a:lnTo>
                    <a:lnTo>
                      <a:pt x="116" y="1501"/>
                    </a:lnTo>
                    <a:lnTo>
                      <a:pt x="143" y="1200"/>
                    </a:lnTo>
                    <a:lnTo>
                      <a:pt x="208" y="911"/>
                    </a:lnTo>
                    <a:lnTo>
                      <a:pt x="233" y="756"/>
                    </a:lnTo>
                    <a:lnTo>
                      <a:pt x="233" y="598"/>
                    </a:lnTo>
                    <a:lnTo>
                      <a:pt x="185" y="494"/>
                    </a:lnTo>
                    <a:lnTo>
                      <a:pt x="51" y="440"/>
                    </a:lnTo>
                    <a:lnTo>
                      <a:pt x="185" y="130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1" name=""/>
            <p:cNvSpPr/>
            <p:nvPr/>
          </p:nvSpPr>
          <p:spPr>
            <a:xfrm>
              <a:off x="8056080" y="4942800"/>
              <a:ext cx="90000" cy="258480"/>
            </a:xfrm>
            <a:custGeom>
              <a:avLst/>
              <a:gdLst/>
              <a:ahLst/>
              <a:rect l="l" t="t" r="r" b="b"/>
              <a:pathLst>
                <a:path w="1088" h="2442">
                  <a:moveTo>
                    <a:pt x="1035" y="0"/>
                  </a:moveTo>
                  <a:lnTo>
                    <a:pt x="958" y="116"/>
                  </a:lnTo>
                  <a:lnTo>
                    <a:pt x="943" y="238"/>
                  </a:lnTo>
                  <a:lnTo>
                    <a:pt x="943" y="455"/>
                  </a:lnTo>
                  <a:lnTo>
                    <a:pt x="931" y="784"/>
                  </a:lnTo>
                  <a:lnTo>
                    <a:pt x="866" y="1292"/>
                  </a:lnTo>
                  <a:lnTo>
                    <a:pt x="838" y="1672"/>
                  </a:lnTo>
                  <a:lnTo>
                    <a:pt x="853" y="1894"/>
                  </a:lnTo>
                  <a:lnTo>
                    <a:pt x="890" y="2074"/>
                  </a:lnTo>
                  <a:lnTo>
                    <a:pt x="943" y="2207"/>
                  </a:lnTo>
                  <a:lnTo>
                    <a:pt x="1023" y="2338"/>
                  </a:lnTo>
                  <a:lnTo>
                    <a:pt x="1088" y="2378"/>
                  </a:lnTo>
                  <a:lnTo>
                    <a:pt x="980" y="2442"/>
                  </a:lnTo>
                  <a:lnTo>
                    <a:pt x="866" y="2442"/>
                  </a:lnTo>
                  <a:lnTo>
                    <a:pt x="866" y="2232"/>
                  </a:lnTo>
                  <a:lnTo>
                    <a:pt x="798" y="2052"/>
                  </a:lnTo>
                  <a:lnTo>
                    <a:pt x="576" y="1424"/>
                  </a:lnTo>
                  <a:lnTo>
                    <a:pt x="156" y="1488"/>
                  </a:lnTo>
                  <a:lnTo>
                    <a:pt x="75" y="1474"/>
                  </a:lnTo>
                  <a:lnTo>
                    <a:pt x="391" y="1345"/>
                  </a:lnTo>
                  <a:lnTo>
                    <a:pt x="341" y="1228"/>
                  </a:lnTo>
                  <a:lnTo>
                    <a:pt x="0" y="1228"/>
                  </a:lnTo>
                  <a:lnTo>
                    <a:pt x="260" y="1110"/>
                  </a:lnTo>
                  <a:lnTo>
                    <a:pt x="456" y="1096"/>
                  </a:lnTo>
                  <a:lnTo>
                    <a:pt x="417" y="849"/>
                  </a:lnTo>
                  <a:lnTo>
                    <a:pt x="798" y="1905"/>
                  </a:lnTo>
                  <a:lnTo>
                    <a:pt x="798" y="1608"/>
                  </a:lnTo>
                  <a:lnTo>
                    <a:pt x="838" y="1257"/>
                  </a:lnTo>
                  <a:lnTo>
                    <a:pt x="890" y="863"/>
                  </a:lnTo>
                  <a:lnTo>
                    <a:pt x="919" y="575"/>
                  </a:lnTo>
                  <a:lnTo>
                    <a:pt x="919" y="169"/>
                  </a:lnTo>
                  <a:lnTo>
                    <a:pt x="972" y="53"/>
                  </a:lnTo>
                  <a:lnTo>
                    <a:pt x="10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8176680" y="4980240"/>
              <a:ext cx="119880" cy="222840"/>
            </a:xfrm>
            <a:custGeom>
              <a:avLst/>
              <a:gdLst/>
              <a:ahLst/>
              <a:rect l="l" t="t" r="r" b="b"/>
              <a:pathLst>
                <a:path w="1444" h="2100">
                  <a:moveTo>
                    <a:pt x="198" y="1931"/>
                  </a:moveTo>
                  <a:lnTo>
                    <a:pt x="407" y="1995"/>
                  </a:lnTo>
                  <a:lnTo>
                    <a:pt x="589" y="2100"/>
                  </a:lnTo>
                  <a:lnTo>
                    <a:pt x="446" y="1931"/>
                  </a:lnTo>
                  <a:lnTo>
                    <a:pt x="343" y="1841"/>
                  </a:lnTo>
                  <a:lnTo>
                    <a:pt x="248" y="1826"/>
                  </a:lnTo>
                  <a:lnTo>
                    <a:pt x="211" y="1812"/>
                  </a:lnTo>
                  <a:lnTo>
                    <a:pt x="211" y="1632"/>
                  </a:lnTo>
                  <a:lnTo>
                    <a:pt x="264" y="1593"/>
                  </a:lnTo>
                  <a:lnTo>
                    <a:pt x="499" y="1498"/>
                  </a:lnTo>
                  <a:lnTo>
                    <a:pt x="776" y="1318"/>
                  </a:lnTo>
                  <a:lnTo>
                    <a:pt x="1025" y="1070"/>
                  </a:lnTo>
                  <a:lnTo>
                    <a:pt x="1444" y="495"/>
                  </a:lnTo>
                  <a:lnTo>
                    <a:pt x="1444" y="403"/>
                  </a:lnTo>
                  <a:lnTo>
                    <a:pt x="1092" y="834"/>
                  </a:lnTo>
                  <a:lnTo>
                    <a:pt x="710" y="1217"/>
                  </a:lnTo>
                  <a:lnTo>
                    <a:pt x="369" y="1448"/>
                  </a:lnTo>
                  <a:lnTo>
                    <a:pt x="578" y="1081"/>
                  </a:lnTo>
                  <a:lnTo>
                    <a:pt x="684" y="732"/>
                  </a:lnTo>
                  <a:lnTo>
                    <a:pt x="710" y="495"/>
                  </a:lnTo>
                  <a:lnTo>
                    <a:pt x="879" y="140"/>
                  </a:lnTo>
                  <a:lnTo>
                    <a:pt x="1117" y="0"/>
                  </a:lnTo>
                  <a:lnTo>
                    <a:pt x="855" y="127"/>
                  </a:lnTo>
                  <a:lnTo>
                    <a:pt x="644" y="442"/>
                  </a:lnTo>
                  <a:lnTo>
                    <a:pt x="644" y="769"/>
                  </a:lnTo>
                  <a:lnTo>
                    <a:pt x="525" y="1081"/>
                  </a:lnTo>
                  <a:lnTo>
                    <a:pt x="356" y="1371"/>
                  </a:lnTo>
                  <a:lnTo>
                    <a:pt x="184" y="1604"/>
                  </a:lnTo>
                  <a:lnTo>
                    <a:pt x="184" y="1826"/>
                  </a:lnTo>
                  <a:lnTo>
                    <a:pt x="0" y="1905"/>
                  </a:lnTo>
                  <a:lnTo>
                    <a:pt x="198" y="19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8173440" y="5211720"/>
              <a:ext cx="67320" cy="81000"/>
            </a:xfrm>
            <a:custGeom>
              <a:avLst/>
              <a:gdLst/>
              <a:ahLst/>
              <a:rect l="l" t="t" r="r" b="b"/>
              <a:pathLst>
                <a:path w="818" h="773">
                  <a:moveTo>
                    <a:pt x="671" y="0"/>
                  </a:moveTo>
                  <a:lnTo>
                    <a:pt x="776" y="184"/>
                  </a:lnTo>
                  <a:lnTo>
                    <a:pt x="818" y="419"/>
                  </a:lnTo>
                  <a:lnTo>
                    <a:pt x="818" y="564"/>
                  </a:lnTo>
                  <a:lnTo>
                    <a:pt x="739" y="758"/>
                  </a:lnTo>
                  <a:lnTo>
                    <a:pt x="606" y="773"/>
                  </a:lnTo>
                  <a:lnTo>
                    <a:pt x="369" y="654"/>
                  </a:lnTo>
                  <a:lnTo>
                    <a:pt x="226" y="498"/>
                  </a:lnTo>
                  <a:lnTo>
                    <a:pt x="0" y="14"/>
                  </a:lnTo>
                  <a:lnTo>
                    <a:pt x="161" y="290"/>
                  </a:lnTo>
                  <a:lnTo>
                    <a:pt x="435" y="512"/>
                  </a:lnTo>
                  <a:lnTo>
                    <a:pt x="739" y="588"/>
                  </a:lnTo>
                  <a:lnTo>
                    <a:pt x="752" y="474"/>
                  </a:lnTo>
                  <a:lnTo>
                    <a:pt x="712" y="327"/>
                  </a:lnTo>
                  <a:lnTo>
                    <a:pt x="620" y="235"/>
                  </a:lnTo>
                  <a:lnTo>
                    <a:pt x="477" y="184"/>
                  </a:lnTo>
                  <a:lnTo>
                    <a:pt x="620" y="147"/>
                  </a:lnTo>
                  <a:lnTo>
                    <a:pt x="671" y="65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8034120" y="5231160"/>
              <a:ext cx="174960" cy="64080"/>
            </a:xfrm>
            <a:custGeom>
              <a:avLst/>
              <a:gdLst/>
              <a:ahLst/>
              <a:rect l="l" t="t" r="r" b="b"/>
              <a:pathLst>
                <a:path w="2111" h="613">
                  <a:moveTo>
                    <a:pt x="2111" y="613"/>
                  </a:moveTo>
                  <a:lnTo>
                    <a:pt x="1718" y="602"/>
                  </a:lnTo>
                  <a:lnTo>
                    <a:pt x="1194" y="549"/>
                  </a:lnTo>
                  <a:lnTo>
                    <a:pt x="593" y="380"/>
                  </a:lnTo>
                  <a:lnTo>
                    <a:pt x="103" y="301"/>
                  </a:lnTo>
                  <a:lnTo>
                    <a:pt x="26" y="235"/>
                  </a:lnTo>
                  <a:lnTo>
                    <a:pt x="0" y="90"/>
                  </a:lnTo>
                  <a:lnTo>
                    <a:pt x="353" y="143"/>
                  </a:lnTo>
                  <a:lnTo>
                    <a:pt x="364" y="0"/>
                  </a:lnTo>
                  <a:lnTo>
                    <a:pt x="406" y="143"/>
                  </a:lnTo>
                  <a:lnTo>
                    <a:pt x="643" y="143"/>
                  </a:lnTo>
                  <a:lnTo>
                    <a:pt x="419" y="249"/>
                  </a:lnTo>
                  <a:lnTo>
                    <a:pt x="445" y="328"/>
                  </a:lnTo>
                  <a:lnTo>
                    <a:pt x="929" y="290"/>
                  </a:lnTo>
                  <a:lnTo>
                    <a:pt x="1243" y="301"/>
                  </a:lnTo>
                  <a:lnTo>
                    <a:pt x="1586" y="362"/>
                  </a:lnTo>
                  <a:lnTo>
                    <a:pt x="1773" y="433"/>
                  </a:lnTo>
                  <a:lnTo>
                    <a:pt x="1625" y="249"/>
                  </a:lnTo>
                  <a:lnTo>
                    <a:pt x="1494" y="169"/>
                  </a:lnTo>
                  <a:lnTo>
                    <a:pt x="1221" y="106"/>
                  </a:lnTo>
                  <a:lnTo>
                    <a:pt x="1549" y="106"/>
                  </a:lnTo>
                  <a:lnTo>
                    <a:pt x="1747" y="235"/>
                  </a:lnTo>
                  <a:lnTo>
                    <a:pt x="1821" y="393"/>
                  </a:lnTo>
                  <a:lnTo>
                    <a:pt x="1929" y="496"/>
                  </a:lnTo>
                  <a:lnTo>
                    <a:pt x="2019" y="574"/>
                  </a:lnTo>
                  <a:lnTo>
                    <a:pt x="2111" y="6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8034120" y="5108400"/>
              <a:ext cx="75600" cy="77040"/>
            </a:xfrm>
            <a:custGeom>
              <a:avLst/>
              <a:gdLst/>
              <a:ahLst/>
              <a:rect l="l" t="t" r="r" b="b"/>
              <a:pathLst>
                <a:path w="905" h="731">
                  <a:moveTo>
                    <a:pt x="168" y="731"/>
                  </a:moveTo>
                  <a:lnTo>
                    <a:pt x="301" y="612"/>
                  </a:lnTo>
                  <a:lnTo>
                    <a:pt x="301" y="563"/>
                  </a:lnTo>
                  <a:lnTo>
                    <a:pt x="263" y="512"/>
                  </a:lnTo>
                  <a:lnTo>
                    <a:pt x="143" y="457"/>
                  </a:lnTo>
                  <a:lnTo>
                    <a:pt x="26" y="417"/>
                  </a:lnTo>
                  <a:lnTo>
                    <a:pt x="0" y="393"/>
                  </a:lnTo>
                  <a:lnTo>
                    <a:pt x="0" y="340"/>
                  </a:lnTo>
                  <a:lnTo>
                    <a:pt x="26" y="312"/>
                  </a:lnTo>
                  <a:lnTo>
                    <a:pt x="103" y="275"/>
                  </a:lnTo>
                  <a:lnTo>
                    <a:pt x="118" y="312"/>
                  </a:lnTo>
                  <a:lnTo>
                    <a:pt x="158" y="351"/>
                  </a:lnTo>
                  <a:lnTo>
                    <a:pt x="301" y="379"/>
                  </a:lnTo>
                  <a:lnTo>
                    <a:pt x="285" y="287"/>
                  </a:lnTo>
                  <a:lnTo>
                    <a:pt x="221" y="208"/>
                  </a:lnTo>
                  <a:lnTo>
                    <a:pt x="143" y="129"/>
                  </a:lnTo>
                  <a:lnTo>
                    <a:pt x="13" y="54"/>
                  </a:lnTo>
                  <a:lnTo>
                    <a:pt x="90" y="39"/>
                  </a:lnTo>
                  <a:lnTo>
                    <a:pt x="237" y="79"/>
                  </a:lnTo>
                  <a:lnTo>
                    <a:pt x="364" y="158"/>
                  </a:lnTo>
                  <a:lnTo>
                    <a:pt x="472" y="298"/>
                  </a:lnTo>
                  <a:lnTo>
                    <a:pt x="617" y="235"/>
                  </a:lnTo>
                  <a:lnTo>
                    <a:pt x="461" y="158"/>
                  </a:lnTo>
                  <a:lnTo>
                    <a:pt x="433" y="118"/>
                  </a:lnTo>
                  <a:lnTo>
                    <a:pt x="461" y="79"/>
                  </a:lnTo>
                  <a:lnTo>
                    <a:pt x="562" y="39"/>
                  </a:lnTo>
                  <a:lnTo>
                    <a:pt x="747" y="0"/>
                  </a:lnTo>
                  <a:lnTo>
                    <a:pt x="905" y="0"/>
                  </a:lnTo>
                  <a:lnTo>
                    <a:pt x="823" y="158"/>
                  </a:lnTo>
                  <a:lnTo>
                    <a:pt x="643" y="362"/>
                  </a:lnTo>
                  <a:lnTo>
                    <a:pt x="445" y="549"/>
                  </a:lnTo>
                  <a:lnTo>
                    <a:pt x="301" y="667"/>
                  </a:lnTo>
                  <a:lnTo>
                    <a:pt x="168" y="7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8073000" y="4942800"/>
              <a:ext cx="12960" cy="82080"/>
            </a:xfrm>
            <a:custGeom>
              <a:avLst/>
              <a:gdLst/>
              <a:ahLst/>
              <a:rect l="l" t="t" r="r" b="b"/>
              <a:pathLst>
                <a:path w="157" h="771">
                  <a:moveTo>
                    <a:pt x="65" y="116"/>
                  </a:moveTo>
                  <a:lnTo>
                    <a:pt x="90" y="378"/>
                  </a:lnTo>
                  <a:lnTo>
                    <a:pt x="132" y="626"/>
                  </a:lnTo>
                  <a:lnTo>
                    <a:pt x="157" y="771"/>
                  </a:lnTo>
                  <a:lnTo>
                    <a:pt x="24" y="354"/>
                  </a:lnTo>
                  <a:lnTo>
                    <a:pt x="0" y="222"/>
                  </a:lnTo>
                  <a:lnTo>
                    <a:pt x="51" y="0"/>
                  </a:lnTo>
                  <a:lnTo>
                    <a:pt x="65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7" name=""/>
          <p:cNvSpPr/>
          <p:nvPr/>
        </p:nvSpPr>
        <p:spPr>
          <a:xfrm>
            <a:off x="3682800" y="5719680"/>
            <a:ext cx="1854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nvolv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"/>
          <p:cNvSpPr/>
          <p:nvPr/>
        </p:nvSpPr>
        <p:spPr>
          <a:xfrm>
            <a:off x="6245280" y="4541760"/>
            <a:ext cx="0" cy="1887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9" name="" descr=""/>
          <p:cNvPicPr/>
          <p:nvPr/>
        </p:nvPicPr>
        <p:blipFill>
          <a:blip r:embed="rId1"/>
          <a:stretch/>
        </p:blipFill>
        <p:spPr>
          <a:xfrm>
            <a:off x="5931000" y="5168880"/>
            <a:ext cx="658800" cy="723960"/>
          </a:xfrm>
          <a:prstGeom prst="rect">
            <a:avLst/>
          </a:prstGeom>
          <a:ln w="0">
            <a:noFill/>
          </a:ln>
        </p:spPr>
      </p:pic>
      <p:sp>
        <p:nvSpPr>
          <p:cNvPr id="3810" name=""/>
          <p:cNvSpPr/>
          <p:nvPr/>
        </p:nvSpPr>
        <p:spPr>
          <a:xfrm>
            <a:off x="5764680" y="4851360"/>
            <a:ext cx="9676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ó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1" name=""/>
          <p:cNvGrpSpPr/>
          <p:nvPr/>
        </p:nvGrpSpPr>
        <p:grpSpPr>
          <a:xfrm>
            <a:off x="7102440" y="5640480"/>
            <a:ext cx="1274760" cy="720360"/>
            <a:chOff x="7102440" y="5640480"/>
            <a:chExt cx="1274760" cy="720360"/>
          </a:xfrm>
        </p:grpSpPr>
        <p:sp>
          <p:nvSpPr>
            <p:cNvPr id="3812" name=""/>
            <p:cNvSpPr/>
            <p:nvPr/>
          </p:nvSpPr>
          <p:spPr>
            <a:xfrm>
              <a:off x="7444080" y="6132600"/>
              <a:ext cx="567000" cy="133200"/>
            </a:xfrm>
            <a:custGeom>
              <a:avLst/>
              <a:gdLst/>
              <a:ahLst/>
              <a:rect l="l" t="t" r="r" b="b"/>
              <a:pathLst>
                <a:path w="7426" h="2003">
                  <a:moveTo>
                    <a:pt x="0" y="0"/>
                  </a:moveTo>
                  <a:lnTo>
                    <a:pt x="7426" y="0"/>
                  </a:lnTo>
                  <a:lnTo>
                    <a:pt x="6050" y="2003"/>
                  </a:lnTo>
                  <a:lnTo>
                    <a:pt x="0" y="20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7668360" y="6139440"/>
              <a:ext cx="345960" cy="41040"/>
            </a:xfrm>
            <a:custGeom>
              <a:avLst/>
              <a:gdLst/>
              <a:ahLst/>
              <a:rect l="l" t="t" r="r" b="b"/>
              <a:pathLst>
                <a:path w="4520" h="620">
                  <a:moveTo>
                    <a:pt x="541" y="620"/>
                  </a:moveTo>
                  <a:lnTo>
                    <a:pt x="0" y="0"/>
                  </a:lnTo>
                  <a:lnTo>
                    <a:pt x="3269" y="0"/>
                  </a:lnTo>
                  <a:lnTo>
                    <a:pt x="4520" y="362"/>
                  </a:lnTo>
                  <a:lnTo>
                    <a:pt x="4520" y="620"/>
                  </a:lnTo>
                  <a:lnTo>
                    <a:pt x="541" y="6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7103520" y="5843520"/>
              <a:ext cx="504720" cy="516240"/>
            </a:xfrm>
            <a:custGeom>
              <a:avLst/>
              <a:gdLst/>
              <a:ahLst/>
              <a:rect l="l" t="t" r="r" b="b"/>
              <a:pathLst>
                <a:path w="6609" h="7730">
                  <a:moveTo>
                    <a:pt x="0" y="1307"/>
                  </a:moveTo>
                  <a:lnTo>
                    <a:pt x="0" y="4054"/>
                  </a:lnTo>
                  <a:lnTo>
                    <a:pt x="524" y="4182"/>
                  </a:lnTo>
                  <a:lnTo>
                    <a:pt x="1012" y="4509"/>
                  </a:lnTo>
                  <a:lnTo>
                    <a:pt x="1421" y="4893"/>
                  </a:lnTo>
                  <a:lnTo>
                    <a:pt x="1881" y="5439"/>
                  </a:lnTo>
                  <a:lnTo>
                    <a:pt x="2204" y="6144"/>
                  </a:lnTo>
                  <a:lnTo>
                    <a:pt x="2513" y="7020"/>
                  </a:lnTo>
                  <a:lnTo>
                    <a:pt x="2737" y="7730"/>
                  </a:lnTo>
                  <a:lnTo>
                    <a:pt x="5123" y="7730"/>
                  </a:lnTo>
                  <a:lnTo>
                    <a:pt x="6609" y="6091"/>
                  </a:lnTo>
                  <a:lnTo>
                    <a:pt x="6609" y="5746"/>
                  </a:lnTo>
                  <a:lnTo>
                    <a:pt x="6480" y="5508"/>
                  </a:lnTo>
                  <a:lnTo>
                    <a:pt x="6185" y="5344"/>
                  </a:lnTo>
                  <a:lnTo>
                    <a:pt x="5416" y="5031"/>
                  </a:lnTo>
                  <a:lnTo>
                    <a:pt x="5365" y="4985"/>
                  </a:lnTo>
                  <a:lnTo>
                    <a:pt x="4911" y="4906"/>
                  </a:lnTo>
                  <a:lnTo>
                    <a:pt x="4746" y="4856"/>
                  </a:lnTo>
                  <a:lnTo>
                    <a:pt x="4581" y="3272"/>
                  </a:lnTo>
                  <a:lnTo>
                    <a:pt x="4468" y="2742"/>
                  </a:lnTo>
                  <a:lnTo>
                    <a:pt x="4434" y="2490"/>
                  </a:lnTo>
                  <a:lnTo>
                    <a:pt x="4212" y="2017"/>
                  </a:lnTo>
                  <a:lnTo>
                    <a:pt x="4117" y="1909"/>
                  </a:lnTo>
                  <a:lnTo>
                    <a:pt x="3959" y="1760"/>
                  </a:lnTo>
                  <a:lnTo>
                    <a:pt x="3610" y="1580"/>
                  </a:lnTo>
                  <a:lnTo>
                    <a:pt x="3115" y="1199"/>
                  </a:lnTo>
                  <a:lnTo>
                    <a:pt x="2333" y="417"/>
                  </a:lnTo>
                  <a:lnTo>
                    <a:pt x="1748" y="125"/>
                  </a:lnTo>
                  <a:lnTo>
                    <a:pt x="1222" y="0"/>
                  </a:lnTo>
                  <a:lnTo>
                    <a:pt x="894" y="399"/>
                  </a:lnTo>
                  <a:lnTo>
                    <a:pt x="599" y="582"/>
                  </a:lnTo>
                  <a:lnTo>
                    <a:pt x="146" y="1142"/>
                  </a:lnTo>
                  <a:lnTo>
                    <a:pt x="0" y="1307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7720920" y="5875920"/>
              <a:ext cx="649080" cy="482760"/>
            </a:xfrm>
            <a:custGeom>
              <a:avLst/>
              <a:gdLst/>
              <a:ahLst/>
              <a:rect l="l" t="t" r="r" b="b"/>
              <a:pathLst>
                <a:path w="8500" h="7234">
                  <a:moveTo>
                    <a:pt x="1999" y="4964"/>
                  </a:moveTo>
                  <a:lnTo>
                    <a:pt x="2075" y="4850"/>
                  </a:lnTo>
                  <a:lnTo>
                    <a:pt x="2430" y="4721"/>
                  </a:lnTo>
                  <a:lnTo>
                    <a:pt x="2665" y="4593"/>
                  </a:lnTo>
                  <a:lnTo>
                    <a:pt x="2915" y="4406"/>
                  </a:lnTo>
                  <a:lnTo>
                    <a:pt x="3339" y="4350"/>
                  </a:lnTo>
                  <a:lnTo>
                    <a:pt x="3412" y="3980"/>
                  </a:lnTo>
                  <a:lnTo>
                    <a:pt x="3507" y="3739"/>
                  </a:lnTo>
                  <a:lnTo>
                    <a:pt x="3658" y="2910"/>
                  </a:lnTo>
                  <a:lnTo>
                    <a:pt x="3788" y="2312"/>
                  </a:lnTo>
                  <a:lnTo>
                    <a:pt x="3954" y="1906"/>
                  </a:lnTo>
                  <a:lnTo>
                    <a:pt x="4137" y="1651"/>
                  </a:lnTo>
                  <a:lnTo>
                    <a:pt x="4454" y="1540"/>
                  </a:lnTo>
                  <a:lnTo>
                    <a:pt x="4641" y="1356"/>
                  </a:lnTo>
                  <a:lnTo>
                    <a:pt x="4710" y="1277"/>
                  </a:lnTo>
                  <a:lnTo>
                    <a:pt x="4710" y="1116"/>
                  </a:lnTo>
                  <a:lnTo>
                    <a:pt x="4803" y="876"/>
                  </a:lnTo>
                  <a:lnTo>
                    <a:pt x="5123" y="449"/>
                  </a:lnTo>
                  <a:lnTo>
                    <a:pt x="5717" y="76"/>
                  </a:lnTo>
                  <a:lnTo>
                    <a:pt x="6158" y="0"/>
                  </a:lnTo>
                  <a:lnTo>
                    <a:pt x="6737" y="466"/>
                  </a:lnTo>
                  <a:lnTo>
                    <a:pt x="6999" y="648"/>
                  </a:lnTo>
                  <a:lnTo>
                    <a:pt x="7329" y="1042"/>
                  </a:lnTo>
                  <a:lnTo>
                    <a:pt x="7679" y="1589"/>
                  </a:lnTo>
                  <a:lnTo>
                    <a:pt x="8016" y="2312"/>
                  </a:lnTo>
                  <a:lnTo>
                    <a:pt x="8389" y="3147"/>
                  </a:lnTo>
                  <a:lnTo>
                    <a:pt x="8500" y="3499"/>
                  </a:lnTo>
                  <a:lnTo>
                    <a:pt x="7772" y="3776"/>
                  </a:lnTo>
                  <a:lnTo>
                    <a:pt x="7128" y="4350"/>
                  </a:lnTo>
                  <a:lnTo>
                    <a:pt x="6807" y="4795"/>
                  </a:lnTo>
                  <a:lnTo>
                    <a:pt x="6495" y="5330"/>
                  </a:lnTo>
                  <a:lnTo>
                    <a:pt x="6289" y="5980"/>
                  </a:lnTo>
                  <a:lnTo>
                    <a:pt x="6091" y="7234"/>
                  </a:lnTo>
                  <a:lnTo>
                    <a:pt x="0" y="7234"/>
                  </a:lnTo>
                  <a:lnTo>
                    <a:pt x="1355" y="5533"/>
                  </a:lnTo>
                  <a:lnTo>
                    <a:pt x="1999" y="496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7904880" y="6166800"/>
              <a:ext cx="70560" cy="98640"/>
            </a:xfrm>
            <a:custGeom>
              <a:avLst/>
              <a:gdLst/>
              <a:ahLst/>
              <a:rect l="l" t="t" r="r" b="b"/>
              <a:pathLst>
                <a:path w="927" h="1480">
                  <a:moveTo>
                    <a:pt x="394" y="113"/>
                  </a:moveTo>
                  <a:lnTo>
                    <a:pt x="670" y="386"/>
                  </a:lnTo>
                  <a:lnTo>
                    <a:pt x="670" y="540"/>
                  </a:lnTo>
                  <a:lnTo>
                    <a:pt x="0" y="851"/>
                  </a:lnTo>
                  <a:lnTo>
                    <a:pt x="112" y="1480"/>
                  </a:lnTo>
                  <a:lnTo>
                    <a:pt x="670" y="1245"/>
                  </a:lnTo>
                  <a:lnTo>
                    <a:pt x="778" y="962"/>
                  </a:lnTo>
                  <a:lnTo>
                    <a:pt x="855" y="243"/>
                  </a:lnTo>
                  <a:lnTo>
                    <a:pt x="927" y="0"/>
                  </a:lnTo>
                  <a:lnTo>
                    <a:pt x="479" y="56"/>
                  </a:lnTo>
                  <a:lnTo>
                    <a:pt x="394" y="113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7876800" y="5917320"/>
              <a:ext cx="500400" cy="441720"/>
            </a:xfrm>
            <a:custGeom>
              <a:avLst/>
              <a:gdLst/>
              <a:ahLst/>
              <a:rect l="l" t="t" r="r" b="b"/>
              <a:pathLst>
                <a:path w="6551" h="6616">
                  <a:moveTo>
                    <a:pt x="6551" y="2921"/>
                  </a:moveTo>
                  <a:lnTo>
                    <a:pt x="6133" y="3048"/>
                  </a:lnTo>
                  <a:lnTo>
                    <a:pt x="5692" y="3252"/>
                  </a:lnTo>
                  <a:lnTo>
                    <a:pt x="5378" y="3432"/>
                  </a:lnTo>
                  <a:lnTo>
                    <a:pt x="5048" y="3801"/>
                  </a:lnTo>
                  <a:lnTo>
                    <a:pt x="4712" y="4252"/>
                  </a:lnTo>
                  <a:lnTo>
                    <a:pt x="4470" y="4694"/>
                  </a:lnTo>
                  <a:lnTo>
                    <a:pt x="3396" y="6547"/>
                  </a:lnTo>
                  <a:lnTo>
                    <a:pt x="2278" y="6616"/>
                  </a:lnTo>
                  <a:lnTo>
                    <a:pt x="0" y="6616"/>
                  </a:lnTo>
                  <a:lnTo>
                    <a:pt x="108" y="6197"/>
                  </a:lnTo>
                  <a:lnTo>
                    <a:pt x="367" y="6485"/>
                  </a:lnTo>
                  <a:lnTo>
                    <a:pt x="606" y="6524"/>
                  </a:lnTo>
                  <a:lnTo>
                    <a:pt x="457" y="6322"/>
                  </a:lnTo>
                  <a:lnTo>
                    <a:pt x="457" y="5971"/>
                  </a:lnTo>
                  <a:lnTo>
                    <a:pt x="870" y="5599"/>
                  </a:lnTo>
                  <a:lnTo>
                    <a:pt x="1145" y="6227"/>
                  </a:lnTo>
                  <a:lnTo>
                    <a:pt x="1332" y="6524"/>
                  </a:lnTo>
                  <a:lnTo>
                    <a:pt x="1909" y="6098"/>
                  </a:lnTo>
                  <a:lnTo>
                    <a:pt x="2466" y="5252"/>
                  </a:lnTo>
                  <a:lnTo>
                    <a:pt x="1481" y="5671"/>
                  </a:lnTo>
                  <a:lnTo>
                    <a:pt x="2134" y="4837"/>
                  </a:lnTo>
                  <a:lnTo>
                    <a:pt x="1462" y="4936"/>
                  </a:lnTo>
                  <a:lnTo>
                    <a:pt x="1446" y="4751"/>
                  </a:lnTo>
                  <a:lnTo>
                    <a:pt x="2206" y="4103"/>
                  </a:lnTo>
                  <a:lnTo>
                    <a:pt x="2241" y="4435"/>
                  </a:lnTo>
                  <a:lnTo>
                    <a:pt x="2448" y="4498"/>
                  </a:lnTo>
                  <a:lnTo>
                    <a:pt x="3188" y="3956"/>
                  </a:lnTo>
                  <a:lnTo>
                    <a:pt x="3465" y="3342"/>
                  </a:lnTo>
                  <a:lnTo>
                    <a:pt x="3558" y="2377"/>
                  </a:lnTo>
                  <a:lnTo>
                    <a:pt x="3211" y="1477"/>
                  </a:lnTo>
                  <a:lnTo>
                    <a:pt x="4212" y="2342"/>
                  </a:lnTo>
                  <a:lnTo>
                    <a:pt x="5378" y="2694"/>
                  </a:lnTo>
                  <a:lnTo>
                    <a:pt x="5766" y="2960"/>
                  </a:lnTo>
                  <a:lnTo>
                    <a:pt x="6254" y="2881"/>
                  </a:lnTo>
                  <a:lnTo>
                    <a:pt x="6087" y="2248"/>
                  </a:lnTo>
                  <a:lnTo>
                    <a:pt x="5582" y="971"/>
                  </a:lnTo>
                  <a:lnTo>
                    <a:pt x="5140" y="258"/>
                  </a:lnTo>
                  <a:lnTo>
                    <a:pt x="4894" y="0"/>
                  </a:lnTo>
                  <a:lnTo>
                    <a:pt x="5250" y="327"/>
                  </a:lnTo>
                  <a:lnTo>
                    <a:pt x="5634" y="940"/>
                  </a:lnTo>
                  <a:lnTo>
                    <a:pt x="6030" y="1810"/>
                  </a:lnTo>
                  <a:lnTo>
                    <a:pt x="6344" y="2513"/>
                  </a:lnTo>
                  <a:lnTo>
                    <a:pt x="6551" y="2921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8140680" y="5877720"/>
              <a:ext cx="60120" cy="57600"/>
            </a:xfrm>
            <a:custGeom>
              <a:avLst/>
              <a:gdLst/>
              <a:ahLst/>
              <a:rect l="l" t="t" r="r" b="b"/>
              <a:pathLst>
                <a:path w="791" h="867">
                  <a:moveTo>
                    <a:pt x="197" y="120"/>
                  </a:moveTo>
                  <a:lnTo>
                    <a:pt x="307" y="199"/>
                  </a:lnTo>
                  <a:lnTo>
                    <a:pt x="386" y="512"/>
                  </a:lnTo>
                  <a:lnTo>
                    <a:pt x="346" y="625"/>
                  </a:lnTo>
                  <a:lnTo>
                    <a:pt x="0" y="867"/>
                  </a:lnTo>
                  <a:lnTo>
                    <a:pt x="791" y="535"/>
                  </a:lnTo>
                  <a:lnTo>
                    <a:pt x="791" y="298"/>
                  </a:lnTo>
                  <a:lnTo>
                    <a:pt x="573" y="0"/>
                  </a:lnTo>
                  <a:lnTo>
                    <a:pt x="346" y="39"/>
                  </a:lnTo>
                  <a:lnTo>
                    <a:pt x="197" y="120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7467120" y="5800320"/>
              <a:ext cx="531720" cy="353160"/>
            </a:xfrm>
            <a:custGeom>
              <a:avLst/>
              <a:gdLst/>
              <a:ahLst/>
              <a:rect l="l" t="t" r="r" b="b"/>
              <a:pathLst>
                <a:path w="6960" h="5288">
                  <a:moveTo>
                    <a:pt x="2583" y="0"/>
                  </a:moveTo>
                  <a:lnTo>
                    <a:pt x="2425" y="32"/>
                  </a:lnTo>
                  <a:lnTo>
                    <a:pt x="2146" y="173"/>
                  </a:lnTo>
                  <a:lnTo>
                    <a:pt x="1372" y="233"/>
                  </a:lnTo>
                  <a:lnTo>
                    <a:pt x="592" y="498"/>
                  </a:lnTo>
                  <a:lnTo>
                    <a:pt x="229" y="706"/>
                  </a:lnTo>
                  <a:lnTo>
                    <a:pt x="141" y="876"/>
                  </a:lnTo>
                  <a:lnTo>
                    <a:pt x="93" y="1047"/>
                  </a:lnTo>
                  <a:lnTo>
                    <a:pt x="141" y="1374"/>
                  </a:lnTo>
                  <a:lnTo>
                    <a:pt x="229" y="1625"/>
                  </a:lnTo>
                  <a:lnTo>
                    <a:pt x="141" y="2183"/>
                  </a:lnTo>
                  <a:lnTo>
                    <a:pt x="102" y="2308"/>
                  </a:lnTo>
                  <a:lnTo>
                    <a:pt x="32" y="2356"/>
                  </a:lnTo>
                  <a:lnTo>
                    <a:pt x="0" y="2444"/>
                  </a:lnTo>
                  <a:lnTo>
                    <a:pt x="12" y="2620"/>
                  </a:lnTo>
                  <a:lnTo>
                    <a:pt x="155" y="3086"/>
                  </a:lnTo>
                  <a:lnTo>
                    <a:pt x="155" y="3277"/>
                  </a:lnTo>
                  <a:lnTo>
                    <a:pt x="141" y="3525"/>
                  </a:lnTo>
                  <a:lnTo>
                    <a:pt x="126" y="3655"/>
                  </a:lnTo>
                  <a:lnTo>
                    <a:pt x="32" y="3928"/>
                  </a:lnTo>
                  <a:lnTo>
                    <a:pt x="44" y="4198"/>
                  </a:lnTo>
                  <a:lnTo>
                    <a:pt x="556" y="4862"/>
                  </a:lnTo>
                  <a:lnTo>
                    <a:pt x="888" y="4980"/>
                  </a:lnTo>
                  <a:lnTo>
                    <a:pt x="1003" y="5053"/>
                  </a:lnTo>
                  <a:lnTo>
                    <a:pt x="1361" y="5022"/>
                  </a:lnTo>
                  <a:lnTo>
                    <a:pt x="1671" y="5148"/>
                  </a:lnTo>
                  <a:lnTo>
                    <a:pt x="2062" y="5288"/>
                  </a:lnTo>
                  <a:lnTo>
                    <a:pt x="2704" y="4862"/>
                  </a:lnTo>
                  <a:lnTo>
                    <a:pt x="6835" y="4837"/>
                  </a:lnTo>
                  <a:lnTo>
                    <a:pt x="6960" y="4152"/>
                  </a:lnTo>
                  <a:lnTo>
                    <a:pt x="6621" y="4119"/>
                  </a:lnTo>
                  <a:lnTo>
                    <a:pt x="6446" y="3917"/>
                  </a:lnTo>
                  <a:lnTo>
                    <a:pt x="6333" y="3853"/>
                  </a:lnTo>
                  <a:lnTo>
                    <a:pt x="6151" y="3536"/>
                  </a:lnTo>
                  <a:lnTo>
                    <a:pt x="6022" y="3011"/>
                  </a:lnTo>
                  <a:lnTo>
                    <a:pt x="5955" y="2780"/>
                  </a:lnTo>
                  <a:lnTo>
                    <a:pt x="5912" y="2483"/>
                  </a:lnTo>
                  <a:lnTo>
                    <a:pt x="5773" y="2420"/>
                  </a:lnTo>
                  <a:lnTo>
                    <a:pt x="5745" y="2229"/>
                  </a:lnTo>
                  <a:lnTo>
                    <a:pt x="5773" y="1812"/>
                  </a:lnTo>
                  <a:lnTo>
                    <a:pt x="5745" y="1515"/>
                  </a:lnTo>
                  <a:lnTo>
                    <a:pt x="5710" y="1314"/>
                  </a:lnTo>
                  <a:lnTo>
                    <a:pt x="5660" y="1097"/>
                  </a:lnTo>
                  <a:lnTo>
                    <a:pt x="5584" y="998"/>
                  </a:lnTo>
                  <a:lnTo>
                    <a:pt x="5521" y="966"/>
                  </a:lnTo>
                  <a:lnTo>
                    <a:pt x="5424" y="936"/>
                  </a:lnTo>
                  <a:lnTo>
                    <a:pt x="4848" y="717"/>
                  </a:lnTo>
                  <a:lnTo>
                    <a:pt x="4240" y="438"/>
                  </a:lnTo>
                  <a:lnTo>
                    <a:pt x="3850" y="267"/>
                  </a:lnTo>
                  <a:lnTo>
                    <a:pt x="2583" y="0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7619400" y="6090120"/>
              <a:ext cx="69120" cy="61920"/>
            </a:xfrm>
            <a:custGeom>
              <a:avLst/>
              <a:gdLst/>
              <a:ahLst/>
              <a:rect l="l" t="t" r="r" b="b"/>
              <a:pathLst>
                <a:path w="904" h="929">
                  <a:moveTo>
                    <a:pt x="626" y="0"/>
                  </a:moveTo>
                  <a:lnTo>
                    <a:pt x="904" y="74"/>
                  </a:lnTo>
                  <a:lnTo>
                    <a:pt x="720" y="221"/>
                  </a:lnTo>
                  <a:lnTo>
                    <a:pt x="477" y="584"/>
                  </a:lnTo>
                  <a:lnTo>
                    <a:pt x="293" y="929"/>
                  </a:lnTo>
                  <a:lnTo>
                    <a:pt x="0" y="843"/>
                  </a:lnTo>
                  <a:lnTo>
                    <a:pt x="26" y="558"/>
                  </a:lnTo>
                  <a:lnTo>
                    <a:pt x="132" y="378"/>
                  </a:lnTo>
                  <a:lnTo>
                    <a:pt x="277" y="228"/>
                  </a:lnTo>
                  <a:lnTo>
                    <a:pt x="487" y="74"/>
                  </a:lnTo>
                  <a:lnTo>
                    <a:pt x="6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7618680" y="6101640"/>
              <a:ext cx="39600" cy="50760"/>
            </a:xfrm>
            <a:custGeom>
              <a:avLst/>
              <a:gdLst/>
              <a:ahLst/>
              <a:rect l="l" t="t" r="r" b="b"/>
              <a:pathLst>
                <a:path w="521" h="763">
                  <a:moveTo>
                    <a:pt x="402" y="0"/>
                  </a:moveTo>
                  <a:lnTo>
                    <a:pt x="249" y="172"/>
                  </a:lnTo>
                  <a:lnTo>
                    <a:pt x="152" y="366"/>
                  </a:lnTo>
                  <a:lnTo>
                    <a:pt x="327" y="378"/>
                  </a:lnTo>
                  <a:lnTo>
                    <a:pt x="521" y="212"/>
                  </a:lnTo>
                  <a:lnTo>
                    <a:pt x="378" y="535"/>
                  </a:lnTo>
                  <a:lnTo>
                    <a:pt x="327" y="763"/>
                  </a:lnTo>
                  <a:lnTo>
                    <a:pt x="0" y="763"/>
                  </a:lnTo>
                  <a:lnTo>
                    <a:pt x="11" y="574"/>
                  </a:lnTo>
                  <a:lnTo>
                    <a:pt x="77" y="322"/>
                  </a:lnTo>
                  <a:lnTo>
                    <a:pt x="207" y="172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7652880" y="5802840"/>
              <a:ext cx="114840" cy="259560"/>
            </a:xfrm>
            <a:custGeom>
              <a:avLst/>
              <a:gdLst/>
              <a:ahLst/>
              <a:rect l="l" t="t" r="r" b="b"/>
              <a:pathLst>
                <a:path w="1500" h="3892">
                  <a:moveTo>
                    <a:pt x="143" y="0"/>
                  </a:moveTo>
                  <a:lnTo>
                    <a:pt x="1500" y="561"/>
                  </a:lnTo>
                  <a:lnTo>
                    <a:pt x="1500" y="1046"/>
                  </a:lnTo>
                  <a:lnTo>
                    <a:pt x="1426" y="1553"/>
                  </a:lnTo>
                  <a:lnTo>
                    <a:pt x="1336" y="2078"/>
                  </a:lnTo>
                  <a:lnTo>
                    <a:pt x="1193" y="2760"/>
                  </a:lnTo>
                  <a:lnTo>
                    <a:pt x="1053" y="3259"/>
                  </a:lnTo>
                  <a:lnTo>
                    <a:pt x="815" y="3892"/>
                  </a:lnTo>
                  <a:lnTo>
                    <a:pt x="774" y="3293"/>
                  </a:lnTo>
                  <a:lnTo>
                    <a:pt x="642" y="2523"/>
                  </a:lnTo>
                  <a:lnTo>
                    <a:pt x="560" y="2041"/>
                  </a:lnTo>
                  <a:lnTo>
                    <a:pt x="488" y="1659"/>
                  </a:lnTo>
                  <a:lnTo>
                    <a:pt x="338" y="1336"/>
                  </a:lnTo>
                  <a:lnTo>
                    <a:pt x="172" y="995"/>
                  </a:lnTo>
                  <a:lnTo>
                    <a:pt x="43" y="705"/>
                  </a:lnTo>
                  <a:lnTo>
                    <a:pt x="0" y="497"/>
                  </a:lnTo>
                  <a:lnTo>
                    <a:pt x="0" y="301"/>
                  </a:lnTo>
                  <a:lnTo>
                    <a:pt x="66" y="121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7693200" y="5871600"/>
              <a:ext cx="37080" cy="192240"/>
            </a:xfrm>
            <a:custGeom>
              <a:avLst/>
              <a:gdLst/>
              <a:ahLst/>
              <a:rect l="l" t="t" r="r" b="b"/>
              <a:pathLst>
                <a:path w="486" h="2874">
                  <a:moveTo>
                    <a:pt x="194" y="0"/>
                  </a:moveTo>
                  <a:lnTo>
                    <a:pt x="51" y="126"/>
                  </a:lnTo>
                  <a:lnTo>
                    <a:pt x="139" y="455"/>
                  </a:lnTo>
                  <a:lnTo>
                    <a:pt x="0" y="806"/>
                  </a:lnTo>
                  <a:lnTo>
                    <a:pt x="81" y="1235"/>
                  </a:lnTo>
                  <a:lnTo>
                    <a:pt x="178" y="1853"/>
                  </a:lnTo>
                  <a:lnTo>
                    <a:pt x="265" y="2463"/>
                  </a:lnTo>
                  <a:lnTo>
                    <a:pt x="328" y="2874"/>
                  </a:lnTo>
                  <a:lnTo>
                    <a:pt x="486" y="2371"/>
                  </a:lnTo>
                  <a:lnTo>
                    <a:pt x="459" y="1973"/>
                  </a:lnTo>
                  <a:lnTo>
                    <a:pt x="440" y="1265"/>
                  </a:lnTo>
                  <a:lnTo>
                    <a:pt x="436" y="857"/>
                  </a:lnTo>
                  <a:lnTo>
                    <a:pt x="401" y="622"/>
                  </a:lnTo>
                  <a:lnTo>
                    <a:pt x="365" y="477"/>
                  </a:lnTo>
                  <a:lnTo>
                    <a:pt x="440" y="248"/>
                  </a:lnTo>
                  <a:lnTo>
                    <a:pt x="355" y="24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7693200" y="5873040"/>
              <a:ext cx="35280" cy="157320"/>
            </a:xfrm>
            <a:custGeom>
              <a:avLst/>
              <a:gdLst/>
              <a:ahLst/>
              <a:rect l="l" t="t" r="r" b="b"/>
              <a:pathLst>
                <a:path w="459" h="2362">
                  <a:moveTo>
                    <a:pt x="365" y="94"/>
                  </a:moveTo>
                  <a:lnTo>
                    <a:pt x="288" y="79"/>
                  </a:lnTo>
                  <a:lnTo>
                    <a:pt x="207" y="169"/>
                  </a:lnTo>
                  <a:lnTo>
                    <a:pt x="247" y="433"/>
                  </a:lnTo>
                  <a:lnTo>
                    <a:pt x="288" y="433"/>
                  </a:lnTo>
                  <a:lnTo>
                    <a:pt x="385" y="272"/>
                  </a:lnTo>
                  <a:lnTo>
                    <a:pt x="355" y="523"/>
                  </a:lnTo>
                  <a:lnTo>
                    <a:pt x="440" y="875"/>
                  </a:lnTo>
                  <a:lnTo>
                    <a:pt x="436" y="1701"/>
                  </a:lnTo>
                  <a:lnTo>
                    <a:pt x="459" y="2362"/>
                  </a:lnTo>
                  <a:lnTo>
                    <a:pt x="401" y="2000"/>
                  </a:lnTo>
                  <a:lnTo>
                    <a:pt x="365" y="1542"/>
                  </a:lnTo>
                  <a:lnTo>
                    <a:pt x="355" y="1097"/>
                  </a:lnTo>
                  <a:lnTo>
                    <a:pt x="339" y="848"/>
                  </a:lnTo>
                  <a:lnTo>
                    <a:pt x="265" y="613"/>
                  </a:lnTo>
                  <a:lnTo>
                    <a:pt x="247" y="940"/>
                  </a:lnTo>
                  <a:lnTo>
                    <a:pt x="178" y="1009"/>
                  </a:lnTo>
                  <a:lnTo>
                    <a:pt x="139" y="940"/>
                  </a:lnTo>
                  <a:lnTo>
                    <a:pt x="207" y="606"/>
                  </a:lnTo>
                  <a:lnTo>
                    <a:pt x="104" y="769"/>
                  </a:lnTo>
                  <a:lnTo>
                    <a:pt x="51" y="1085"/>
                  </a:lnTo>
                  <a:lnTo>
                    <a:pt x="0" y="797"/>
                  </a:lnTo>
                  <a:lnTo>
                    <a:pt x="139" y="446"/>
                  </a:lnTo>
                  <a:lnTo>
                    <a:pt x="69" y="117"/>
                  </a:lnTo>
                  <a:lnTo>
                    <a:pt x="171" y="0"/>
                  </a:lnTo>
                  <a:lnTo>
                    <a:pt x="339" y="15"/>
                  </a:lnTo>
                  <a:lnTo>
                    <a:pt x="365" y="94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7721280" y="5842800"/>
              <a:ext cx="46800" cy="182520"/>
            </a:xfrm>
            <a:custGeom>
              <a:avLst/>
              <a:gdLst/>
              <a:ahLst/>
              <a:rect l="l" t="t" r="r" b="b"/>
              <a:pathLst>
                <a:path w="620" h="2734">
                  <a:moveTo>
                    <a:pt x="94" y="1255"/>
                  </a:moveTo>
                  <a:lnTo>
                    <a:pt x="266" y="953"/>
                  </a:lnTo>
                  <a:lnTo>
                    <a:pt x="394" y="758"/>
                  </a:lnTo>
                  <a:lnTo>
                    <a:pt x="354" y="1204"/>
                  </a:lnTo>
                  <a:lnTo>
                    <a:pt x="266" y="1709"/>
                  </a:lnTo>
                  <a:lnTo>
                    <a:pt x="106" y="2410"/>
                  </a:lnTo>
                  <a:lnTo>
                    <a:pt x="130" y="2734"/>
                  </a:lnTo>
                  <a:lnTo>
                    <a:pt x="369" y="1831"/>
                  </a:lnTo>
                  <a:lnTo>
                    <a:pt x="525" y="1125"/>
                  </a:lnTo>
                  <a:lnTo>
                    <a:pt x="589" y="703"/>
                  </a:lnTo>
                  <a:lnTo>
                    <a:pt x="620" y="224"/>
                  </a:lnTo>
                  <a:lnTo>
                    <a:pt x="608" y="0"/>
                  </a:lnTo>
                  <a:lnTo>
                    <a:pt x="477" y="105"/>
                  </a:lnTo>
                  <a:lnTo>
                    <a:pt x="477" y="277"/>
                  </a:lnTo>
                  <a:lnTo>
                    <a:pt x="428" y="540"/>
                  </a:lnTo>
                  <a:lnTo>
                    <a:pt x="233" y="899"/>
                  </a:lnTo>
                  <a:lnTo>
                    <a:pt x="75" y="639"/>
                  </a:lnTo>
                  <a:lnTo>
                    <a:pt x="0" y="945"/>
                  </a:lnTo>
                  <a:lnTo>
                    <a:pt x="71" y="1140"/>
                  </a:lnTo>
                  <a:lnTo>
                    <a:pt x="94" y="12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7683480" y="5880240"/>
              <a:ext cx="20520" cy="42120"/>
            </a:xfrm>
            <a:custGeom>
              <a:avLst/>
              <a:gdLst/>
              <a:ahLst/>
              <a:rect l="l" t="t" r="r" b="b"/>
              <a:pathLst>
                <a:path w="268" h="627">
                  <a:moveTo>
                    <a:pt x="108" y="627"/>
                  </a:moveTo>
                  <a:lnTo>
                    <a:pt x="0" y="249"/>
                  </a:lnTo>
                  <a:lnTo>
                    <a:pt x="159" y="0"/>
                  </a:lnTo>
                  <a:lnTo>
                    <a:pt x="268" y="329"/>
                  </a:lnTo>
                  <a:lnTo>
                    <a:pt x="198" y="512"/>
                  </a:lnTo>
                  <a:lnTo>
                    <a:pt x="108" y="627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7652880" y="5802840"/>
              <a:ext cx="16200" cy="59760"/>
            </a:xfrm>
            <a:custGeom>
              <a:avLst/>
              <a:gdLst/>
              <a:ahLst/>
              <a:rect l="l" t="t" r="r" b="b"/>
              <a:pathLst>
                <a:path w="211" h="900">
                  <a:moveTo>
                    <a:pt x="211" y="549"/>
                  </a:moveTo>
                  <a:lnTo>
                    <a:pt x="161" y="681"/>
                  </a:lnTo>
                  <a:lnTo>
                    <a:pt x="132" y="780"/>
                  </a:lnTo>
                  <a:lnTo>
                    <a:pt x="119" y="900"/>
                  </a:lnTo>
                  <a:lnTo>
                    <a:pt x="50" y="705"/>
                  </a:lnTo>
                  <a:lnTo>
                    <a:pt x="0" y="561"/>
                  </a:lnTo>
                  <a:lnTo>
                    <a:pt x="0" y="354"/>
                  </a:lnTo>
                  <a:lnTo>
                    <a:pt x="43" y="209"/>
                  </a:lnTo>
                  <a:lnTo>
                    <a:pt x="96" y="66"/>
                  </a:lnTo>
                  <a:lnTo>
                    <a:pt x="143" y="0"/>
                  </a:lnTo>
                  <a:lnTo>
                    <a:pt x="182" y="323"/>
                  </a:lnTo>
                  <a:lnTo>
                    <a:pt x="211" y="54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7647480" y="6208560"/>
              <a:ext cx="259560" cy="128160"/>
            </a:xfrm>
            <a:custGeom>
              <a:avLst/>
              <a:gdLst/>
              <a:ahLst/>
              <a:rect l="l" t="t" r="r" b="b"/>
              <a:pathLst>
                <a:path w="3405" h="1922">
                  <a:moveTo>
                    <a:pt x="2938" y="0"/>
                  </a:moveTo>
                  <a:lnTo>
                    <a:pt x="2852" y="59"/>
                  </a:lnTo>
                  <a:lnTo>
                    <a:pt x="2017" y="375"/>
                  </a:lnTo>
                  <a:lnTo>
                    <a:pt x="1040" y="587"/>
                  </a:lnTo>
                  <a:lnTo>
                    <a:pt x="581" y="949"/>
                  </a:lnTo>
                  <a:lnTo>
                    <a:pt x="565" y="1028"/>
                  </a:lnTo>
                  <a:lnTo>
                    <a:pt x="191" y="1074"/>
                  </a:lnTo>
                  <a:lnTo>
                    <a:pt x="0" y="1173"/>
                  </a:lnTo>
                  <a:lnTo>
                    <a:pt x="0" y="1274"/>
                  </a:lnTo>
                  <a:lnTo>
                    <a:pt x="1980" y="1922"/>
                  </a:lnTo>
                  <a:lnTo>
                    <a:pt x="2246" y="1371"/>
                  </a:lnTo>
                  <a:lnTo>
                    <a:pt x="3405" y="501"/>
                  </a:lnTo>
                  <a:lnTo>
                    <a:pt x="3331" y="241"/>
                  </a:lnTo>
                  <a:lnTo>
                    <a:pt x="3094" y="0"/>
                  </a:lnTo>
                  <a:lnTo>
                    <a:pt x="2938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7693200" y="6278040"/>
              <a:ext cx="23040" cy="11160"/>
            </a:xfrm>
            <a:custGeom>
              <a:avLst/>
              <a:gdLst/>
              <a:ahLst/>
              <a:rect l="l" t="t" r="r" b="b"/>
              <a:pathLst>
                <a:path w="308" h="163">
                  <a:moveTo>
                    <a:pt x="34" y="51"/>
                  </a:moveTo>
                  <a:lnTo>
                    <a:pt x="0" y="81"/>
                  </a:lnTo>
                  <a:lnTo>
                    <a:pt x="4" y="123"/>
                  </a:lnTo>
                  <a:lnTo>
                    <a:pt x="31" y="143"/>
                  </a:lnTo>
                  <a:lnTo>
                    <a:pt x="244" y="163"/>
                  </a:lnTo>
                  <a:lnTo>
                    <a:pt x="297" y="132"/>
                  </a:lnTo>
                  <a:lnTo>
                    <a:pt x="308" y="77"/>
                  </a:lnTo>
                  <a:lnTo>
                    <a:pt x="279" y="18"/>
                  </a:lnTo>
                  <a:lnTo>
                    <a:pt x="226" y="0"/>
                  </a:lnTo>
                  <a:lnTo>
                    <a:pt x="34" y="5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7648200" y="6284880"/>
              <a:ext cx="24120" cy="9360"/>
            </a:xfrm>
            <a:custGeom>
              <a:avLst/>
              <a:gdLst/>
              <a:ahLst/>
              <a:rect l="l" t="t" r="r" b="b"/>
              <a:pathLst>
                <a:path w="319" h="145">
                  <a:moveTo>
                    <a:pt x="0" y="111"/>
                  </a:moveTo>
                  <a:lnTo>
                    <a:pt x="13" y="40"/>
                  </a:lnTo>
                  <a:lnTo>
                    <a:pt x="109" y="0"/>
                  </a:lnTo>
                  <a:lnTo>
                    <a:pt x="209" y="0"/>
                  </a:lnTo>
                  <a:lnTo>
                    <a:pt x="294" y="33"/>
                  </a:lnTo>
                  <a:lnTo>
                    <a:pt x="319" y="99"/>
                  </a:lnTo>
                  <a:lnTo>
                    <a:pt x="308" y="134"/>
                  </a:lnTo>
                  <a:lnTo>
                    <a:pt x="282" y="145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7552080" y="6142320"/>
              <a:ext cx="135000" cy="79560"/>
            </a:xfrm>
            <a:custGeom>
              <a:avLst/>
              <a:gdLst/>
              <a:ahLst/>
              <a:rect l="l" t="t" r="r" b="b"/>
              <a:pathLst>
                <a:path w="1763" h="1187">
                  <a:moveTo>
                    <a:pt x="0" y="653"/>
                  </a:moveTo>
                  <a:lnTo>
                    <a:pt x="115" y="226"/>
                  </a:lnTo>
                  <a:lnTo>
                    <a:pt x="569" y="0"/>
                  </a:lnTo>
                  <a:lnTo>
                    <a:pt x="827" y="131"/>
                  </a:lnTo>
                  <a:lnTo>
                    <a:pt x="1193" y="157"/>
                  </a:lnTo>
                  <a:lnTo>
                    <a:pt x="1268" y="226"/>
                  </a:lnTo>
                  <a:lnTo>
                    <a:pt x="1290" y="291"/>
                  </a:lnTo>
                  <a:lnTo>
                    <a:pt x="1464" y="376"/>
                  </a:lnTo>
                  <a:lnTo>
                    <a:pt x="1572" y="458"/>
                  </a:lnTo>
                  <a:lnTo>
                    <a:pt x="1624" y="466"/>
                  </a:lnTo>
                  <a:lnTo>
                    <a:pt x="1763" y="553"/>
                  </a:lnTo>
                  <a:lnTo>
                    <a:pt x="1756" y="629"/>
                  </a:lnTo>
                  <a:lnTo>
                    <a:pt x="1585" y="783"/>
                  </a:lnTo>
                  <a:lnTo>
                    <a:pt x="1597" y="911"/>
                  </a:lnTo>
                  <a:lnTo>
                    <a:pt x="1657" y="917"/>
                  </a:lnTo>
                  <a:lnTo>
                    <a:pt x="1659" y="1035"/>
                  </a:lnTo>
                  <a:lnTo>
                    <a:pt x="1488" y="1176"/>
                  </a:lnTo>
                  <a:lnTo>
                    <a:pt x="1027" y="1187"/>
                  </a:lnTo>
                  <a:lnTo>
                    <a:pt x="0" y="65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7513560" y="6179040"/>
              <a:ext cx="103320" cy="65160"/>
            </a:xfrm>
            <a:custGeom>
              <a:avLst/>
              <a:gdLst/>
              <a:ahLst/>
              <a:rect l="l" t="t" r="r" b="b"/>
              <a:pathLst>
                <a:path w="1351" h="980">
                  <a:moveTo>
                    <a:pt x="0" y="393"/>
                  </a:moveTo>
                  <a:lnTo>
                    <a:pt x="4" y="296"/>
                  </a:lnTo>
                  <a:lnTo>
                    <a:pt x="16" y="176"/>
                  </a:lnTo>
                  <a:lnTo>
                    <a:pt x="66" y="17"/>
                  </a:lnTo>
                  <a:lnTo>
                    <a:pt x="389" y="5"/>
                  </a:lnTo>
                  <a:lnTo>
                    <a:pt x="514" y="0"/>
                  </a:lnTo>
                  <a:lnTo>
                    <a:pt x="837" y="31"/>
                  </a:lnTo>
                  <a:lnTo>
                    <a:pt x="998" y="81"/>
                  </a:lnTo>
                  <a:lnTo>
                    <a:pt x="1095" y="145"/>
                  </a:lnTo>
                  <a:lnTo>
                    <a:pt x="1249" y="259"/>
                  </a:lnTo>
                  <a:lnTo>
                    <a:pt x="1330" y="409"/>
                  </a:lnTo>
                  <a:lnTo>
                    <a:pt x="1351" y="563"/>
                  </a:lnTo>
                  <a:lnTo>
                    <a:pt x="1351" y="708"/>
                  </a:lnTo>
                  <a:lnTo>
                    <a:pt x="1330" y="846"/>
                  </a:lnTo>
                  <a:lnTo>
                    <a:pt x="1270" y="980"/>
                  </a:lnTo>
                  <a:lnTo>
                    <a:pt x="1240" y="773"/>
                  </a:lnTo>
                  <a:lnTo>
                    <a:pt x="1185" y="628"/>
                  </a:lnTo>
                  <a:lnTo>
                    <a:pt x="1072" y="487"/>
                  </a:lnTo>
                  <a:lnTo>
                    <a:pt x="945" y="369"/>
                  </a:lnTo>
                  <a:lnTo>
                    <a:pt x="756" y="316"/>
                  </a:lnTo>
                  <a:lnTo>
                    <a:pt x="589" y="294"/>
                  </a:lnTo>
                  <a:lnTo>
                    <a:pt x="362" y="296"/>
                  </a:lnTo>
                  <a:lnTo>
                    <a:pt x="0" y="3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7936200" y="5645160"/>
              <a:ext cx="298800" cy="215640"/>
            </a:xfrm>
            <a:custGeom>
              <a:avLst/>
              <a:gdLst/>
              <a:ahLst/>
              <a:rect l="l" t="t" r="r" b="b"/>
              <a:pathLst>
                <a:path w="3911" h="3232">
                  <a:moveTo>
                    <a:pt x="426" y="1795"/>
                  </a:moveTo>
                  <a:lnTo>
                    <a:pt x="180" y="1718"/>
                  </a:lnTo>
                  <a:lnTo>
                    <a:pt x="37" y="1609"/>
                  </a:lnTo>
                  <a:lnTo>
                    <a:pt x="0" y="1478"/>
                  </a:lnTo>
                  <a:lnTo>
                    <a:pt x="26" y="1333"/>
                  </a:lnTo>
                  <a:lnTo>
                    <a:pt x="37" y="1160"/>
                  </a:lnTo>
                  <a:lnTo>
                    <a:pt x="120" y="995"/>
                  </a:lnTo>
                  <a:lnTo>
                    <a:pt x="237" y="905"/>
                  </a:lnTo>
                  <a:lnTo>
                    <a:pt x="346" y="850"/>
                  </a:lnTo>
                  <a:lnTo>
                    <a:pt x="386" y="749"/>
                  </a:lnTo>
                  <a:lnTo>
                    <a:pt x="459" y="689"/>
                  </a:lnTo>
                  <a:lnTo>
                    <a:pt x="614" y="659"/>
                  </a:lnTo>
                  <a:lnTo>
                    <a:pt x="777" y="433"/>
                  </a:lnTo>
                  <a:lnTo>
                    <a:pt x="1035" y="292"/>
                  </a:lnTo>
                  <a:lnTo>
                    <a:pt x="1300" y="268"/>
                  </a:lnTo>
                  <a:lnTo>
                    <a:pt x="1515" y="90"/>
                  </a:lnTo>
                  <a:lnTo>
                    <a:pt x="1707" y="57"/>
                  </a:lnTo>
                  <a:lnTo>
                    <a:pt x="1914" y="65"/>
                  </a:lnTo>
                  <a:lnTo>
                    <a:pt x="2221" y="0"/>
                  </a:lnTo>
                  <a:lnTo>
                    <a:pt x="2474" y="39"/>
                  </a:lnTo>
                  <a:lnTo>
                    <a:pt x="2624" y="79"/>
                  </a:lnTo>
                  <a:lnTo>
                    <a:pt x="2795" y="90"/>
                  </a:lnTo>
                  <a:lnTo>
                    <a:pt x="2933" y="178"/>
                  </a:lnTo>
                  <a:lnTo>
                    <a:pt x="3048" y="281"/>
                  </a:lnTo>
                  <a:lnTo>
                    <a:pt x="3254" y="332"/>
                  </a:lnTo>
                  <a:lnTo>
                    <a:pt x="3440" y="468"/>
                  </a:lnTo>
                  <a:lnTo>
                    <a:pt x="3659" y="714"/>
                  </a:lnTo>
                  <a:lnTo>
                    <a:pt x="3788" y="943"/>
                  </a:lnTo>
                  <a:lnTo>
                    <a:pt x="3880" y="1259"/>
                  </a:lnTo>
                  <a:lnTo>
                    <a:pt x="3911" y="1609"/>
                  </a:lnTo>
                  <a:lnTo>
                    <a:pt x="3850" y="1936"/>
                  </a:lnTo>
                  <a:lnTo>
                    <a:pt x="3647" y="2254"/>
                  </a:lnTo>
                  <a:lnTo>
                    <a:pt x="3331" y="2704"/>
                  </a:lnTo>
                  <a:lnTo>
                    <a:pt x="2819" y="3232"/>
                  </a:lnTo>
                  <a:lnTo>
                    <a:pt x="1349" y="2428"/>
                  </a:lnTo>
                  <a:lnTo>
                    <a:pt x="426" y="1795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7953480" y="5752440"/>
              <a:ext cx="191880" cy="189720"/>
            </a:xfrm>
            <a:custGeom>
              <a:avLst/>
              <a:gdLst/>
              <a:ahLst/>
              <a:rect l="l" t="t" r="r" b="b"/>
              <a:pathLst>
                <a:path w="2514" h="2843">
                  <a:moveTo>
                    <a:pt x="1734" y="570"/>
                  </a:moveTo>
                  <a:lnTo>
                    <a:pt x="1644" y="621"/>
                  </a:lnTo>
                  <a:lnTo>
                    <a:pt x="1556" y="744"/>
                  </a:lnTo>
                  <a:lnTo>
                    <a:pt x="1262" y="645"/>
                  </a:lnTo>
                  <a:lnTo>
                    <a:pt x="840" y="232"/>
                  </a:lnTo>
                  <a:lnTo>
                    <a:pt x="524" y="146"/>
                  </a:lnTo>
                  <a:lnTo>
                    <a:pt x="409" y="0"/>
                  </a:lnTo>
                  <a:lnTo>
                    <a:pt x="330" y="41"/>
                  </a:lnTo>
                  <a:lnTo>
                    <a:pt x="242" y="159"/>
                  </a:lnTo>
                  <a:lnTo>
                    <a:pt x="156" y="645"/>
                  </a:lnTo>
                  <a:lnTo>
                    <a:pt x="178" y="744"/>
                  </a:lnTo>
                  <a:lnTo>
                    <a:pt x="242" y="854"/>
                  </a:lnTo>
                  <a:lnTo>
                    <a:pt x="264" y="984"/>
                  </a:lnTo>
                  <a:lnTo>
                    <a:pt x="264" y="1125"/>
                  </a:lnTo>
                  <a:lnTo>
                    <a:pt x="229" y="1252"/>
                  </a:lnTo>
                  <a:lnTo>
                    <a:pt x="0" y="1713"/>
                  </a:lnTo>
                  <a:lnTo>
                    <a:pt x="24" y="1790"/>
                  </a:lnTo>
                  <a:lnTo>
                    <a:pt x="303" y="1773"/>
                  </a:lnTo>
                  <a:lnTo>
                    <a:pt x="384" y="1979"/>
                  </a:lnTo>
                  <a:lnTo>
                    <a:pt x="460" y="2003"/>
                  </a:lnTo>
                  <a:lnTo>
                    <a:pt x="547" y="2170"/>
                  </a:lnTo>
                  <a:lnTo>
                    <a:pt x="483" y="2267"/>
                  </a:lnTo>
                  <a:lnTo>
                    <a:pt x="483" y="2298"/>
                  </a:lnTo>
                  <a:lnTo>
                    <a:pt x="596" y="2419"/>
                  </a:lnTo>
                  <a:lnTo>
                    <a:pt x="596" y="2504"/>
                  </a:lnTo>
                  <a:lnTo>
                    <a:pt x="561" y="2579"/>
                  </a:lnTo>
                  <a:lnTo>
                    <a:pt x="572" y="2698"/>
                  </a:lnTo>
                  <a:lnTo>
                    <a:pt x="622" y="2735"/>
                  </a:lnTo>
                  <a:lnTo>
                    <a:pt x="723" y="2764"/>
                  </a:lnTo>
                  <a:lnTo>
                    <a:pt x="1402" y="2698"/>
                  </a:lnTo>
                  <a:lnTo>
                    <a:pt x="1684" y="2843"/>
                  </a:lnTo>
                  <a:lnTo>
                    <a:pt x="1824" y="2612"/>
                  </a:lnTo>
                  <a:lnTo>
                    <a:pt x="1963" y="2483"/>
                  </a:lnTo>
                  <a:lnTo>
                    <a:pt x="2209" y="2232"/>
                  </a:lnTo>
                  <a:lnTo>
                    <a:pt x="2514" y="1979"/>
                  </a:lnTo>
                  <a:lnTo>
                    <a:pt x="2260" y="1162"/>
                  </a:lnTo>
                  <a:lnTo>
                    <a:pt x="2165" y="667"/>
                  </a:lnTo>
                  <a:lnTo>
                    <a:pt x="1951" y="524"/>
                  </a:lnTo>
                  <a:lnTo>
                    <a:pt x="1734" y="57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8068680" y="5845680"/>
              <a:ext cx="24840" cy="21600"/>
            </a:xfrm>
            <a:custGeom>
              <a:avLst/>
              <a:gdLst/>
              <a:ahLst/>
              <a:rect l="l" t="t" r="r" b="b"/>
              <a:pathLst>
                <a:path w="334" h="330">
                  <a:moveTo>
                    <a:pt x="230" y="0"/>
                  </a:moveTo>
                  <a:lnTo>
                    <a:pt x="155" y="20"/>
                  </a:lnTo>
                  <a:lnTo>
                    <a:pt x="65" y="47"/>
                  </a:lnTo>
                  <a:lnTo>
                    <a:pt x="0" y="130"/>
                  </a:lnTo>
                  <a:lnTo>
                    <a:pt x="0" y="231"/>
                  </a:lnTo>
                  <a:lnTo>
                    <a:pt x="52" y="321"/>
                  </a:lnTo>
                  <a:lnTo>
                    <a:pt x="155" y="330"/>
                  </a:lnTo>
                  <a:lnTo>
                    <a:pt x="281" y="291"/>
                  </a:lnTo>
                  <a:lnTo>
                    <a:pt x="334" y="215"/>
                  </a:lnTo>
                  <a:lnTo>
                    <a:pt x="334" y="104"/>
                  </a:lnTo>
                  <a:lnTo>
                    <a:pt x="291" y="47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7990200" y="5888880"/>
              <a:ext cx="13320" cy="14760"/>
            </a:xfrm>
            <a:custGeom>
              <a:avLst/>
              <a:gdLst/>
              <a:ahLst/>
              <a:rect l="l" t="t" r="r" b="b"/>
              <a:pathLst>
                <a:path w="179" h="227">
                  <a:moveTo>
                    <a:pt x="0" y="137"/>
                  </a:moveTo>
                  <a:lnTo>
                    <a:pt x="0" y="227"/>
                  </a:lnTo>
                  <a:lnTo>
                    <a:pt x="168" y="130"/>
                  </a:lnTo>
                  <a:lnTo>
                    <a:pt x="179" y="0"/>
                  </a:lnTo>
                  <a:lnTo>
                    <a:pt x="51" y="84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7988040" y="5883480"/>
              <a:ext cx="18360" cy="14400"/>
            </a:xfrm>
            <a:custGeom>
              <a:avLst/>
              <a:gdLst/>
              <a:ahLst/>
              <a:rect l="l" t="t" r="r" b="b"/>
              <a:pathLst>
                <a:path w="242" h="213">
                  <a:moveTo>
                    <a:pt x="0" y="51"/>
                  </a:moveTo>
                  <a:lnTo>
                    <a:pt x="64" y="213"/>
                  </a:lnTo>
                  <a:lnTo>
                    <a:pt x="203" y="152"/>
                  </a:lnTo>
                  <a:lnTo>
                    <a:pt x="242" y="39"/>
                  </a:lnTo>
                  <a:lnTo>
                    <a:pt x="124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7970760" y="5804280"/>
              <a:ext cx="20520" cy="15840"/>
            </a:xfrm>
            <a:custGeom>
              <a:avLst/>
              <a:gdLst/>
              <a:ahLst/>
              <a:rect l="l" t="t" r="r" b="b"/>
              <a:pathLst>
                <a:path w="270" h="242">
                  <a:moveTo>
                    <a:pt x="136" y="40"/>
                  </a:moveTo>
                  <a:lnTo>
                    <a:pt x="270" y="242"/>
                  </a:lnTo>
                  <a:lnTo>
                    <a:pt x="28" y="102"/>
                  </a:lnTo>
                  <a:lnTo>
                    <a:pt x="0" y="28"/>
                  </a:lnTo>
                  <a:lnTo>
                    <a:pt x="55" y="0"/>
                  </a:lnTo>
                  <a:lnTo>
                    <a:pt x="136" y="40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7214760" y="5670360"/>
              <a:ext cx="249840" cy="149400"/>
            </a:xfrm>
            <a:custGeom>
              <a:avLst/>
              <a:gdLst/>
              <a:ahLst/>
              <a:rect l="l" t="t" r="r" b="b"/>
              <a:pathLst>
                <a:path w="3274" h="2237">
                  <a:moveTo>
                    <a:pt x="19" y="2140"/>
                  </a:moveTo>
                  <a:lnTo>
                    <a:pt x="35" y="1930"/>
                  </a:lnTo>
                  <a:lnTo>
                    <a:pt x="0" y="1342"/>
                  </a:lnTo>
                  <a:lnTo>
                    <a:pt x="61" y="1035"/>
                  </a:lnTo>
                  <a:lnTo>
                    <a:pt x="229" y="760"/>
                  </a:lnTo>
                  <a:lnTo>
                    <a:pt x="397" y="468"/>
                  </a:lnTo>
                  <a:lnTo>
                    <a:pt x="740" y="226"/>
                  </a:lnTo>
                  <a:lnTo>
                    <a:pt x="1169" y="77"/>
                  </a:lnTo>
                  <a:lnTo>
                    <a:pt x="1511" y="7"/>
                  </a:lnTo>
                  <a:lnTo>
                    <a:pt x="1894" y="0"/>
                  </a:lnTo>
                  <a:lnTo>
                    <a:pt x="2338" y="127"/>
                  </a:lnTo>
                  <a:lnTo>
                    <a:pt x="2654" y="296"/>
                  </a:lnTo>
                  <a:lnTo>
                    <a:pt x="2922" y="487"/>
                  </a:lnTo>
                  <a:lnTo>
                    <a:pt x="3103" y="549"/>
                  </a:lnTo>
                  <a:lnTo>
                    <a:pt x="3252" y="694"/>
                  </a:lnTo>
                  <a:lnTo>
                    <a:pt x="3274" y="844"/>
                  </a:lnTo>
                  <a:lnTo>
                    <a:pt x="3223" y="945"/>
                  </a:lnTo>
                  <a:lnTo>
                    <a:pt x="3078" y="973"/>
                  </a:lnTo>
                  <a:lnTo>
                    <a:pt x="136" y="2237"/>
                  </a:lnTo>
                  <a:lnTo>
                    <a:pt x="19" y="2140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7206120" y="5720040"/>
              <a:ext cx="267480" cy="206640"/>
            </a:xfrm>
            <a:custGeom>
              <a:avLst/>
              <a:gdLst/>
              <a:ahLst/>
              <a:rect l="l" t="t" r="r" b="b"/>
              <a:pathLst>
                <a:path w="3504" h="3096">
                  <a:moveTo>
                    <a:pt x="0" y="1865"/>
                  </a:moveTo>
                  <a:lnTo>
                    <a:pt x="345" y="1955"/>
                  </a:lnTo>
                  <a:lnTo>
                    <a:pt x="710" y="2087"/>
                  </a:lnTo>
                  <a:lnTo>
                    <a:pt x="1097" y="2344"/>
                  </a:lnTo>
                  <a:lnTo>
                    <a:pt x="1365" y="2591"/>
                  </a:lnTo>
                  <a:lnTo>
                    <a:pt x="1696" y="2953"/>
                  </a:lnTo>
                  <a:lnTo>
                    <a:pt x="2865" y="3096"/>
                  </a:lnTo>
                  <a:lnTo>
                    <a:pt x="2921" y="3023"/>
                  </a:lnTo>
                  <a:lnTo>
                    <a:pt x="2921" y="2889"/>
                  </a:lnTo>
                  <a:lnTo>
                    <a:pt x="2949" y="2817"/>
                  </a:lnTo>
                  <a:lnTo>
                    <a:pt x="3024" y="2740"/>
                  </a:lnTo>
                  <a:lnTo>
                    <a:pt x="3017" y="2600"/>
                  </a:lnTo>
                  <a:lnTo>
                    <a:pt x="2826" y="2469"/>
                  </a:lnTo>
                  <a:lnTo>
                    <a:pt x="3032" y="2419"/>
                  </a:lnTo>
                  <a:lnTo>
                    <a:pt x="3098" y="2213"/>
                  </a:lnTo>
                  <a:lnTo>
                    <a:pt x="3173" y="2167"/>
                  </a:lnTo>
                  <a:lnTo>
                    <a:pt x="3362" y="2177"/>
                  </a:lnTo>
                  <a:lnTo>
                    <a:pt x="3472" y="2158"/>
                  </a:lnTo>
                  <a:lnTo>
                    <a:pt x="3504" y="2118"/>
                  </a:lnTo>
                  <a:lnTo>
                    <a:pt x="3494" y="2068"/>
                  </a:lnTo>
                  <a:lnTo>
                    <a:pt x="3223" y="1378"/>
                  </a:lnTo>
                  <a:lnTo>
                    <a:pt x="3248" y="1303"/>
                  </a:lnTo>
                  <a:lnTo>
                    <a:pt x="3310" y="1222"/>
                  </a:lnTo>
                  <a:lnTo>
                    <a:pt x="3278" y="826"/>
                  </a:lnTo>
                  <a:lnTo>
                    <a:pt x="3239" y="538"/>
                  </a:lnTo>
                  <a:lnTo>
                    <a:pt x="3149" y="242"/>
                  </a:lnTo>
                  <a:lnTo>
                    <a:pt x="2296" y="0"/>
                  </a:lnTo>
                  <a:lnTo>
                    <a:pt x="83" y="1630"/>
                  </a:lnTo>
                  <a:lnTo>
                    <a:pt x="0" y="1865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7434720" y="5819760"/>
              <a:ext cx="9360" cy="82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122" y="0"/>
                  </a:moveTo>
                  <a:lnTo>
                    <a:pt x="71" y="129"/>
                  </a:lnTo>
                  <a:lnTo>
                    <a:pt x="0" y="2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7719480" y="6073200"/>
              <a:ext cx="129960" cy="49680"/>
            </a:xfrm>
            <a:custGeom>
              <a:avLst/>
              <a:gdLst/>
              <a:ahLst/>
              <a:rect l="l" t="t" r="r" b="b"/>
              <a:pathLst>
                <a:path w="1699" h="744">
                  <a:moveTo>
                    <a:pt x="0" y="80"/>
                  </a:moveTo>
                  <a:lnTo>
                    <a:pt x="42" y="0"/>
                  </a:lnTo>
                  <a:lnTo>
                    <a:pt x="814" y="300"/>
                  </a:lnTo>
                  <a:lnTo>
                    <a:pt x="1517" y="616"/>
                  </a:lnTo>
                  <a:lnTo>
                    <a:pt x="1699" y="744"/>
                  </a:lnTo>
                  <a:lnTo>
                    <a:pt x="1460" y="708"/>
                  </a:lnTo>
                  <a:lnTo>
                    <a:pt x="206" y="15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7670880" y="6082200"/>
              <a:ext cx="152640" cy="82080"/>
            </a:xfrm>
            <a:custGeom>
              <a:avLst/>
              <a:gdLst/>
              <a:ahLst/>
              <a:rect l="l" t="t" r="r" b="b"/>
              <a:pathLst>
                <a:path w="2003" h="1230">
                  <a:moveTo>
                    <a:pt x="80" y="253"/>
                  </a:moveTo>
                  <a:lnTo>
                    <a:pt x="278" y="218"/>
                  </a:lnTo>
                  <a:lnTo>
                    <a:pt x="477" y="195"/>
                  </a:lnTo>
                  <a:lnTo>
                    <a:pt x="945" y="11"/>
                  </a:lnTo>
                  <a:lnTo>
                    <a:pt x="1262" y="11"/>
                  </a:lnTo>
                  <a:lnTo>
                    <a:pt x="1646" y="0"/>
                  </a:lnTo>
                  <a:lnTo>
                    <a:pt x="2003" y="345"/>
                  </a:lnTo>
                  <a:lnTo>
                    <a:pt x="1973" y="393"/>
                  </a:lnTo>
                  <a:lnTo>
                    <a:pt x="1941" y="380"/>
                  </a:lnTo>
                  <a:lnTo>
                    <a:pt x="1927" y="472"/>
                  </a:lnTo>
                  <a:lnTo>
                    <a:pt x="1869" y="534"/>
                  </a:lnTo>
                  <a:lnTo>
                    <a:pt x="1578" y="725"/>
                  </a:lnTo>
                  <a:lnTo>
                    <a:pt x="1491" y="861"/>
                  </a:lnTo>
                  <a:lnTo>
                    <a:pt x="1297" y="991"/>
                  </a:lnTo>
                  <a:lnTo>
                    <a:pt x="1229" y="1112"/>
                  </a:lnTo>
                  <a:lnTo>
                    <a:pt x="926" y="1221"/>
                  </a:lnTo>
                  <a:lnTo>
                    <a:pt x="848" y="1230"/>
                  </a:lnTo>
                  <a:lnTo>
                    <a:pt x="539" y="1158"/>
                  </a:lnTo>
                  <a:lnTo>
                    <a:pt x="34" y="855"/>
                  </a:lnTo>
                  <a:lnTo>
                    <a:pt x="0" y="419"/>
                  </a:lnTo>
                  <a:lnTo>
                    <a:pt x="80" y="25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7652880" y="5692680"/>
              <a:ext cx="173880" cy="180000"/>
            </a:xfrm>
            <a:custGeom>
              <a:avLst/>
              <a:gdLst/>
              <a:ahLst/>
              <a:rect l="l" t="t" r="r" b="b"/>
              <a:pathLst>
                <a:path w="2284" h="2689">
                  <a:moveTo>
                    <a:pt x="166" y="357"/>
                  </a:moveTo>
                  <a:lnTo>
                    <a:pt x="55" y="468"/>
                  </a:lnTo>
                  <a:lnTo>
                    <a:pt x="0" y="597"/>
                  </a:lnTo>
                  <a:lnTo>
                    <a:pt x="0" y="740"/>
                  </a:lnTo>
                  <a:lnTo>
                    <a:pt x="14" y="869"/>
                  </a:lnTo>
                  <a:lnTo>
                    <a:pt x="75" y="1095"/>
                  </a:lnTo>
                  <a:lnTo>
                    <a:pt x="187" y="1190"/>
                  </a:lnTo>
                  <a:lnTo>
                    <a:pt x="148" y="1552"/>
                  </a:lnTo>
                  <a:lnTo>
                    <a:pt x="172" y="1731"/>
                  </a:lnTo>
                  <a:lnTo>
                    <a:pt x="247" y="2225"/>
                  </a:lnTo>
                  <a:lnTo>
                    <a:pt x="326" y="2329"/>
                  </a:lnTo>
                  <a:lnTo>
                    <a:pt x="479" y="2513"/>
                  </a:lnTo>
                  <a:lnTo>
                    <a:pt x="715" y="2689"/>
                  </a:lnTo>
                  <a:lnTo>
                    <a:pt x="1117" y="2548"/>
                  </a:lnTo>
                  <a:lnTo>
                    <a:pt x="1238" y="2467"/>
                  </a:lnTo>
                  <a:lnTo>
                    <a:pt x="1399" y="2357"/>
                  </a:lnTo>
                  <a:lnTo>
                    <a:pt x="1473" y="2252"/>
                  </a:lnTo>
                  <a:lnTo>
                    <a:pt x="1567" y="2201"/>
                  </a:lnTo>
                  <a:lnTo>
                    <a:pt x="1858" y="1681"/>
                  </a:lnTo>
                  <a:lnTo>
                    <a:pt x="1971" y="1690"/>
                  </a:lnTo>
                  <a:lnTo>
                    <a:pt x="2040" y="1607"/>
                  </a:lnTo>
                  <a:lnTo>
                    <a:pt x="2157" y="1439"/>
                  </a:lnTo>
                  <a:lnTo>
                    <a:pt x="2199" y="1298"/>
                  </a:lnTo>
                  <a:lnTo>
                    <a:pt x="2199" y="1190"/>
                  </a:lnTo>
                  <a:lnTo>
                    <a:pt x="2284" y="423"/>
                  </a:lnTo>
                  <a:lnTo>
                    <a:pt x="987" y="0"/>
                  </a:lnTo>
                  <a:lnTo>
                    <a:pt x="341" y="263"/>
                  </a:lnTo>
                  <a:lnTo>
                    <a:pt x="166" y="357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7701120" y="5743440"/>
              <a:ext cx="39600" cy="39600"/>
            </a:xfrm>
            <a:custGeom>
              <a:avLst/>
              <a:gdLst/>
              <a:ahLst/>
              <a:rect l="l" t="t" r="r" b="b"/>
              <a:pathLst>
                <a:path w="516" h="592">
                  <a:moveTo>
                    <a:pt x="0" y="0"/>
                  </a:moveTo>
                  <a:lnTo>
                    <a:pt x="230" y="592"/>
                  </a:lnTo>
                  <a:lnTo>
                    <a:pt x="351" y="521"/>
                  </a:lnTo>
                  <a:lnTo>
                    <a:pt x="424" y="449"/>
                  </a:lnTo>
                  <a:lnTo>
                    <a:pt x="481" y="357"/>
                  </a:lnTo>
                  <a:lnTo>
                    <a:pt x="516" y="246"/>
                  </a:lnTo>
                  <a:lnTo>
                    <a:pt x="445" y="145"/>
                  </a:lnTo>
                  <a:lnTo>
                    <a:pt x="288" y="46"/>
                  </a:lnTo>
                  <a:lnTo>
                    <a:pt x="13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7770960" y="5765400"/>
              <a:ext cx="30240" cy="31320"/>
            </a:xfrm>
            <a:custGeom>
              <a:avLst/>
              <a:gdLst/>
              <a:ahLst/>
              <a:rect l="l" t="t" r="r" b="b"/>
              <a:pathLst>
                <a:path w="404" h="473">
                  <a:moveTo>
                    <a:pt x="0" y="0"/>
                  </a:moveTo>
                  <a:lnTo>
                    <a:pt x="231" y="473"/>
                  </a:lnTo>
                  <a:lnTo>
                    <a:pt x="303" y="376"/>
                  </a:lnTo>
                  <a:lnTo>
                    <a:pt x="393" y="242"/>
                  </a:lnTo>
                  <a:lnTo>
                    <a:pt x="404" y="146"/>
                  </a:lnTo>
                  <a:lnTo>
                    <a:pt x="171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7680960" y="5751000"/>
              <a:ext cx="15480" cy="29160"/>
            </a:xfrm>
            <a:custGeom>
              <a:avLst/>
              <a:gdLst/>
              <a:ahLst/>
              <a:rect l="l" t="t" r="r" b="b"/>
              <a:pathLst>
                <a:path w="210" h="443">
                  <a:moveTo>
                    <a:pt x="39" y="0"/>
                  </a:moveTo>
                  <a:lnTo>
                    <a:pt x="210" y="443"/>
                  </a:lnTo>
                  <a:lnTo>
                    <a:pt x="97" y="374"/>
                  </a:lnTo>
                  <a:lnTo>
                    <a:pt x="39" y="302"/>
                  </a:lnTo>
                  <a:lnTo>
                    <a:pt x="10" y="226"/>
                  </a:lnTo>
                  <a:lnTo>
                    <a:pt x="0" y="97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7751520" y="5767920"/>
              <a:ext cx="22320" cy="32040"/>
            </a:xfrm>
            <a:custGeom>
              <a:avLst/>
              <a:gdLst/>
              <a:ahLst/>
              <a:rect l="l" t="t" r="r" b="b"/>
              <a:pathLst>
                <a:path w="292" h="480">
                  <a:moveTo>
                    <a:pt x="32" y="0"/>
                  </a:moveTo>
                  <a:lnTo>
                    <a:pt x="292" y="480"/>
                  </a:lnTo>
                  <a:lnTo>
                    <a:pt x="131" y="432"/>
                  </a:lnTo>
                  <a:lnTo>
                    <a:pt x="32" y="386"/>
                  </a:lnTo>
                  <a:lnTo>
                    <a:pt x="0" y="224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7684200" y="5746680"/>
              <a:ext cx="16920" cy="34920"/>
            </a:xfrm>
            <a:custGeom>
              <a:avLst/>
              <a:gdLst/>
              <a:ahLst/>
              <a:rect l="l" t="t" r="r" b="b"/>
              <a:pathLst>
                <a:path w="222" h="523">
                  <a:moveTo>
                    <a:pt x="0" y="119"/>
                  </a:moveTo>
                  <a:lnTo>
                    <a:pt x="150" y="493"/>
                  </a:lnTo>
                  <a:lnTo>
                    <a:pt x="222" y="523"/>
                  </a:lnTo>
                  <a:lnTo>
                    <a:pt x="17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7753680" y="5767560"/>
              <a:ext cx="21960" cy="32760"/>
            </a:xfrm>
            <a:custGeom>
              <a:avLst/>
              <a:gdLst/>
              <a:ahLst/>
              <a:rect l="l" t="t" r="r" b="b"/>
              <a:pathLst>
                <a:path w="288" h="498">
                  <a:moveTo>
                    <a:pt x="0" y="35"/>
                  </a:moveTo>
                  <a:lnTo>
                    <a:pt x="224" y="498"/>
                  </a:lnTo>
                  <a:lnTo>
                    <a:pt x="288" y="477"/>
                  </a:lnTo>
                  <a:lnTo>
                    <a:pt x="36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7666920" y="5649840"/>
              <a:ext cx="186840" cy="123840"/>
            </a:xfrm>
            <a:custGeom>
              <a:avLst/>
              <a:gdLst/>
              <a:ahLst/>
              <a:rect l="l" t="t" r="r" b="b"/>
              <a:pathLst>
                <a:path w="2454" h="1848">
                  <a:moveTo>
                    <a:pt x="226" y="1063"/>
                  </a:moveTo>
                  <a:lnTo>
                    <a:pt x="323" y="1046"/>
                  </a:lnTo>
                  <a:lnTo>
                    <a:pt x="672" y="790"/>
                  </a:lnTo>
                  <a:lnTo>
                    <a:pt x="943" y="817"/>
                  </a:lnTo>
                  <a:lnTo>
                    <a:pt x="1804" y="960"/>
                  </a:lnTo>
                  <a:lnTo>
                    <a:pt x="2092" y="1063"/>
                  </a:lnTo>
                  <a:lnTo>
                    <a:pt x="1965" y="1735"/>
                  </a:lnTo>
                  <a:lnTo>
                    <a:pt x="2037" y="1848"/>
                  </a:lnTo>
                  <a:lnTo>
                    <a:pt x="2297" y="1666"/>
                  </a:lnTo>
                  <a:lnTo>
                    <a:pt x="2357" y="1544"/>
                  </a:lnTo>
                  <a:lnTo>
                    <a:pt x="2419" y="1364"/>
                  </a:lnTo>
                  <a:lnTo>
                    <a:pt x="2454" y="1248"/>
                  </a:lnTo>
                  <a:lnTo>
                    <a:pt x="2444" y="1122"/>
                  </a:lnTo>
                  <a:lnTo>
                    <a:pt x="2403" y="1059"/>
                  </a:lnTo>
                  <a:lnTo>
                    <a:pt x="2223" y="1009"/>
                  </a:lnTo>
                  <a:lnTo>
                    <a:pt x="2025" y="380"/>
                  </a:lnTo>
                  <a:lnTo>
                    <a:pt x="1848" y="173"/>
                  </a:lnTo>
                  <a:lnTo>
                    <a:pt x="1472" y="11"/>
                  </a:lnTo>
                  <a:lnTo>
                    <a:pt x="1264" y="0"/>
                  </a:lnTo>
                  <a:lnTo>
                    <a:pt x="1004" y="27"/>
                  </a:lnTo>
                  <a:lnTo>
                    <a:pt x="760" y="76"/>
                  </a:lnTo>
                  <a:lnTo>
                    <a:pt x="554" y="207"/>
                  </a:lnTo>
                  <a:lnTo>
                    <a:pt x="202" y="633"/>
                  </a:lnTo>
                  <a:lnTo>
                    <a:pt x="0" y="982"/>
                  </a:lnTo>
                  <a:lnTo>
                    <a:pt x="88" y="1035"/>
                  </a:lnTo>
                  <a:lnTo>
                    <a:pt x="127" y="1162"/>
                  </a:lnTo>
                  <a:lnTo>
                    <a:pt x="226" y="1063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7763040" y="5767920"/>
              <a:ext cx="13320" cy="8280"/>
            </a:xfrm>
            <a:custGeom>
              <a:avLst/>
              <a:gdLst/>
              <a:ahLst/>
              <a:rect l="l" t="t" r="r" b="b"/>
              <a:pathLst>
                <a:path w="171" h="132">
                  <a:moveTo>
                    <a:pt x="0" y="51"/>
                  </a:moveTo>
                  <a:lnTo>
                    <a:pt x="72" y="132"/>
                  </a:lnTo>
                  <a:lnTo>
                    <a:pt x="171" y="40"/>
                  </a:lnTo>
                  <a:lnTo>
                    <a:pt x="102" y="0"/>
                  </a:lnTo>
                  <a:lnTo>
                    <a:pt x="17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7704360" y="5751720"/>
              <a:ext cx="18720" cy="9720"/>
            </a:xfrm>
            <a:custGeom>
              <a:avLst/>
              <a:gdLst/>
              <a:ahLst/>
              <a:rect l="l" t="t" r="r" b="b"/>
              <a:pathLst>
                <a:path w="251" h="148">
                  <a:moveTo>
                    <a:pt x="0" y="46"/>
                  </a:moveTo>
                  <a:lnTo>
                    <a:pt x="83" y="127"/>
                  </a:lnTo>
                  <a:lnTo>
                    <a:pt x="182" y="148"/>
                  </a:lnTo>
                  <a:lnTo>
                    <a:pt x="251" y="35"/>
                  </a:lnTo>
                  <a:lnTo>
                    <a:pt x="140" y="0"/>
                  </a:lnTo>
                  <a:lnTo>
                    <a:pt x="24" y="1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7936560" y="5756760"/>
              <a:ext cx="44280" cy="62280"/>
            </a:xfrm>
            <a:custGeom>
              <a:avLst/>
              <a:gdLst/>
              <a:ahLst/>
              <a:rect l="l" t="t" r="r" b="b"/>
              <a:pathLst>
                <a:path w="585" h="936">
                  <a:moveTo>
                    <a:pt x="532" y="0"/>
                  </a:moveTo>
                  <a:lnTo>
                    <a:pt x="464" y="79"/>
                  </a:lnTo>
                  <a:lnTo>
                    <a:pt x="407" y="22"/>
                  </a:lnTo>
                  <a:lnTo>
                    <a:pt x="315" y="22"/>
                  </a:lnTo>
                  <a:lnTo>
                    <a:pt x="137" y="129"/>
                  </a:lnTo>
                  <a:lnTo>
                    <a:pt x="18" y="277"/>
                  </a:lnTo>
                  <a:lnTo>
                    <a:pt x="0" y="398"/>
                  </a:lnTo>
                  <a:lnTo>
                    <a:pt x="18" y="532"/>
                  </a:lnTo>
                  <a:lnTo>
                    <a:pt x="62" y="592"/>
                  </a:lnTo>
                  <a:lnTo>
                    <a:pt x="112" y="620"/>
                  </a:lnTo>
                  <a:lnTo>
                    <a:pt x="62" y="562"/>
                  </a:lnTo>
                  <a:lnTo>
                    <a:pt x="53" y="484"/>
                  </a:lnTo>
                  <a:lnTo>
                    <a:pt x="77" y="407"/>
                  </a:lnTo>
                  <a:lnTo>
                    <a:pt x="143" y="301"/>
                  </a:lnTo>
                  <a:lnTo>
                    <a:pt x="222" y="262"/>
                  </a:lnTo>
                  <a:lnTo>
                    <a:pt x="264" y="235"/>
                  </a:lnTo>
                  <a:lnTo>
                    <a:pt x="222" y="301"/>
                  </a:lnTo>
                  <a:lnTo>
                    <a:pt x="200" y="407"/>
                  </a:lnTo>
                  <a:lnTo>
                    <a:pt x="213" y="484"/>
                  </a:lnTo>
                  <a:lnTo>
                    <a:pt x="235" y="558"/>
                  </a:lnTo>
                  <a:lnTo>
                    <a:pt x="283" y="613"/>
                  </a:lnTo>
                  <a:lnTo>
                    <a:pt x="350" y="659"/>
                  </a:lnTo>
                  <a:lnTo>
                    <a:pt x="350" y="688"/>
                  </a:lnTo>
                  <a:lnTo>
                    <a:pt x="378" y="735"/>
                  </a:lnTo>
                  <a:lnTo>
                    <a:pt x="435" y="776"/>
                  </a:lnTo>
                  <a:lnTo>
                    <a:pt x="486" y="936"/>
                  </a:lnTo>
                  <a:lnTo>
                    <a:pt x="479" y="754"/>
                  </a:lnTo>
                  <a:lnTo>
                    <a:pt x="506" y="730"/>
                  </a:lnTo>
                  <a:lnTo>
                    <a:pt x="585" y="747"/>
                  </a:lnTo>
                  <a:lnTo>
                    <a:pt x="474" y="688"/>
                  </a:lnTo>
                  <a:lnTo>
                    <a:pt x="382" y="652"/>
                  </a:lnTo>
                  <a:lnTo>
                    <a:pt x="389" y="507"/>
                  </a:lnTo>
                  <a:lnTo>
                    <a:pt x="455" y="228"/>
                  </a:lnTo>
                  <a:lnTo>
                    <a:pt x="5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7968960" y="5807520"/>
              <a:ext cx="23760" cy="27720"/>
            </a:xfrm>
            <a:custGeom>
              <a:avLst/>
              <a:gdLst/>
              <a:ahLst/>
              <a:rect l="l" t="t" r="r" b="b"/>
              <a:pathLst>
                <a:path w="310" h="417">
                  <a:moveTo>
                    <a:pt x="0" y="0"/>
                  </a:moveTo>
                  <a:lnTo>
                    <a:pt x="126" y="96"/>
                  </a:lnTo>
                  <a:lnTo>
                    <a:pt x="310" y="202"/>
                  </a:lnTo>
                  <a:lnTo>
                    <a:pt x="297" y="237"/>
                  </a:lnTo>
                  <a:lnTo>
                    <a:pt x="310" y="248"/>
                  </a:lnTo>
                  <a:lnTo>
                    <a:pt x="126" y="417"/>
                  </a:lnTo>
                  <a:lnTo>
                    <a:pt x="115" y="387"/>
                  </a:lnTo>
                  <a:lnTo>
                    <a:pt x="163" y="302"/>
                  </a:lnTo>
                  <a:lnTo>
                    <a:pt x="143" y="242"/>
                  </a:lnTo>
                  <a:lnTo>
                    <a:pt x="27" y="248"/>
                  </a:lnTo>
                  <a:lnTo>
                    <a:pt x="80" y="202"/>
                  </a:lnTo>
                  <a:lnTo>
                    <a:pt x="108" y="173"/>
                  </a:lnTo>
                  <a:lnTo>
                    <a:pt x="55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7953480" y="5826240"/>
              <a:ext cx="30960" cy="56520"/>
            </a:xfrm>
            <a:custGeom>
              <a:avLst/>
              <a:gdLst/>
              <a:ahLst/>
              <a:rect l="l" t="t" r="r" b="b"/>
              <a:pathLst>
                <a:path w="409" h="848">
                  <a:moveTo>
                    <a:pt x="264" y="0"/>
                  </a:moveTo>
                  <a:lnTo>
                    <a:pt x="252" y="55"/>
                  </a:lnTo>
                  <a:lnTo>
                    <a:pt x="202" y="200"/>
                  </a:lnTo>
                  <a:lnTo>
                    <a:pt x="97" y="401"/>
                  </a:lnTo>
                  <a:lnTo>
                    <a:pt x="0" y="606"/>
                  </a:lnTo>
                  <a:lnTo>
                    <a:pt x="0" y="661"/>
                  </a:lnTo>
                  <a:lnTo>
                    <a:pt x="61" y="696"/>
                  </a:lnTo>
                  <a:lnTo>
                    <a:pt x="220" y="719"/>
                  </a:lnTo>
                  <a:lnTo>
                    <a:pt x="317" y="740"/>
                  </a:lnTo>
                  <a:lnTo>
                    <a:pt x="338" y="753"/>
                  </a:lnTo>
                  <a:lnTo>
                    <a:pt x="354" y="809"/>
                  </a:lnTo>
                  <a:lnTo>
                    <a:pt x="365" y="848"/>
                  </a:lnTo>
                  <a:lnTo>
                    <a:pt x="354" y="740"/>
                  </a:lnTo>
                  <a:lnTo>
                    <a:pt x="328" y="696"/>
                  </a:lnTo>
                  <a:lnTo>
                    <a:pt x="354" y="666"/>
                  </a:lnTo>
                  <a:lnTo>
                    <a:pt x="409" y="633"/>
                  </a:lnTo>
                  <a:lnTo>
                    <a:pt x="391" y="615"/>
                  </a:lnTo>
                  <a:lnTo>
                    <a:pt x="338" y="615"/>
                  </a:lnTo>
                  <a:lnTo>
                    <a:pt x="202" y="641"/>
                  </a:lnTo>
                  <a:lnTo>
                    <a:pt x="97" y="666"/>
                  </a:lnTo>
                  <a:lnTo>
                    <a:pt x="35" y="661"/>
                  </a:lnTo>
                  <a:lnTo>
                    <a:pt x="13" y="626"/>
                  </a:lnTo>
                  <a:lnTo>
                    <a:pt x="13" y="590"/>
                  </a:lnTo>
                  <a:lnTo>
                    <a:pt x="218" y="200"/>
                  </a:lnTo>
                  <a:lnTo>
                    <a:pt x="233" y="120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7981200" y="5853960"/>
              <a:ext cx="34560" cy="45360"/>
            </a:xfrm>
            <a:custGeom>
              <a:avLst/>
              <a:gdLst/>
              <a:ahLst/>
              <a:rect l="l" t="t" r="r" b="b"/>
              <a:pathLst>
                <a:path w="452" h="679">
                  <a:moveTo>
                    <a:pt x="0" y="0"/>
                  </a:moveTo>
                  <a:lnTo>
                    <a:pt x="28" y="101"/>
                  </a:lnTo>
                  <a:lnTo>
                    <a:pt x="72" y="180"/>
                  </a:lnTo>
                  <a:lnTo>
                    <a:pt x="154" y="277"/>
                  </a:lnTo>
                  <a:lnTo>
                    <a:pt x="283" y="338"/>
                  </a:lnTo>
                  <a:lnTo>
                    <a:pt x="404" y="433"/>
                  </a:lnTo>
                  <a:lnTo>
                    <a:pt x="424" y="484"/>
                  </a:lnTo>
                  <a:lnTo>
                    <a:pt x="452" y="679"/>
                  </a:lnTo>
                  <a:lnTo>
                    <a:pt x="404" y="574"/>
                  </a:lnTo>
                  <a:lnTo>
                    <a:pt x="283" y="463"/>
                  </a:lnTo>
                  <a:lnTo>
                    <a:pt x="184" y="457"/>
                  </a:lnTo>
                  <a:lnTo>
                    <a:pt x="53" y="495"/>
                  </a:lnTo>
                  <a:lnTo>
                    <a:pt x="0" y="457"/>
                  </a:lnTo>
                  <a:lnTo>
                    <a:pt x="72" y="413"/>
                  </a:lnTo>
                  <a:lnTo>
                    <a:pt x="166" y="403"/>
                  </a:lnTo>
                  <a:lnTo>
                    <a:pt x="256" y="394"/>
                  </a:lnTo>
                  <a:lnTo>
                    <a:pt x="120" y="281"/>
                  </a:lnTo>
                  <a:lnTo>
                    <a:pt x="53" y="1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7991640" y="5888160"/>
              <a:ext cx="13680" cy="11160"/>
            </a:xfrm>
            <a:custGeom>
              <a:avLst/>
              <a:gdLst/>
              <a:ahLst/>
              <a:rect l="l" t="t" r="r" b="b"/>
              <a:pathLst>
                <a:path w="182" h="170">
                  <a:moveTo>
                    <a:pt x="182" y="0"/>
                  </a:moveTo>
                  <a:lnTo>
                    <a:pt x="123" y="85"/>
                  </a:lnTo>
                  <a:lnTo>
                    <a:pt x="62" y="111"/>
                  </a:lnTo>
                  <a:lnTo>
                    <a:pt x="0" y="146"/>
                  </a:lnTo>
                  <a:lnTo>
                    <a:pt x="0" y="170"/>
                  </a:lnTo>
                  <a:lnTo>
                    <a:pt x="92" y="115"/>
                  </a:lnTo>
                  <a:lnTo>
                    <a:pt x="147" y="99"/>
                  </a:lnTo>
                  <a:lnTo>
                    <a:pt x="173" y="30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7991640" y="5874840"/>
              <a:ext cx="102960" cy="77400"/>
            </a:xfrm>
            <a:custGeom>
              <a:avLst/>
              <a:gdLst/>
              <a:ahLst/>
              <a:rect l="l" t="t" r="r" b="b"/>
              <a:pathLst>
                <a:path w="1349" h="1162">
                  <a:moveTo>
                    <a:pt x="0" y="465"/>
                  </a:moveTo>
                  <a:lnTo>
                    <a:pt x="97" y="579"/>
                  </a:lnTo>
                  <a:lnTo>
                    <a:pt x="117" y="634"/>
                  </a:lnTo>
                  <a:lnTo>
                    <a:pt x="117" y="664"/>
                  </a:lnTo>
                  <a:lnTo>
                    <a:pt x="92" y="724"/>
                  </a:lnTo>
                  <a:lnTo>
                    <a:pt x="81" y="770"/>
                  </a:lnTo>
                  <a:lnTo>
                    <a:pt x="81" y="827"/>
                  </a:lnTo>
                  <a:lnTo>
                    <a:pt x="97" y="880"/>
                  </a:lnTo>
                  <a:lnTo>
                    <a:pt x="120" y="899"/>
                  </a:lnTo>
                  <a:lnTo>
                    <a:pt x="198" y="860"/>
                  </a:lnTo>
                  <a:lnTo>
                    <a:pt x="268" y="814"/>
                  </a:lnTo>
                  <a:lnTo>
                    <a:pt x="327" y="728"/>
                  </a:lnTo>
                  <a:lnTo>
                    <a:pt x="345" y="634"/>
                  </a:lnTo>
                  <a:lnTo>
                    <a:pt x="345" y="564"/>
                  </a:lnTo>
                  <a:lnTo>
                    <a:pt x="394" y="814"/>
                  </a:lnTo>
                  <a:lnTo>
                    <a:pt x="505" y="786"/>
                  </a:lnTo>
                  <a:lnTo>
                    <a:pt x="646" y="724"/>
                  </a:lnTo>
                  <a:lnTo>
                    <a:pt x="730" y="643"/>
                  </a:lnTo>
                  <a:lnTo>
                    <a:pt x="802" y="568"/>
                  </a:lnTo>
                  <a:lnTo>
                    <a:pt x="897" y="454"/>
                  </a:lnTo>
                  <a:lnTo>
                    <a:pt x="958" y="408"/>
                  </a:lnTo>
                  <a:lnTo>
                    <a:pt x="1051" y="368"/>
                  </a:lnTo>
                  <a:lnTo>
                    <a:pt x="1125" y="309"/>
                  </a:lnTo>
                  <a:lnTo>
                    <a:pt x="1176" y="238"/>
                  </a:lnTo>
                  <a:lnTo>
                    <a:pt x="1224" y="152"/>
                  </a:lnTo>
                  <a:lnTo>
                    <a:pt x="1257" y="0"/>
                  </a:lnTo>
                  <a:lnTo>
                    <a:pt x="1242" y="223"/>
                  </a:lnTo>
                  <a:lnTo>
                    <a:pt x="1219" y="376"/>
                  </a:lnTo>
                  <a:lnTo>
                    <a:pt x="1164" y="482"/>
                  </a:lnTo>
                  <a:lnTo>
                    <a:pt x="1120" y="568"/>
                  </a:lnTo>
                  <a:lnTo>
                    <a:pt x="1120" y="634"/>
                  </a:lnTo>
                  <a:lnTo>
                    <a:pt x="1153" y="705"/>
                  </a:lnTo>
                  <a:lnTo>
                    <a:pt x="1196" y="790"/>
                  </a:lnTo>
                  <a:lnTo>
                    <a:pt x="1219" y="851"/>
                  </a:lnTo>
                  <a:lnTo>
                    <a:pt x="1226" y="920"/>
                  </a:lnTo>
                  <a:lnTo>
                    <a:pt x="1349" y="746"/>
                  </a:lnTo>
                  <a:lnTo>
                    <a:pt x="1219" y="992"/>
                  </a:lnTo>
                  <a:lnTo>
                    <a:pt x="1160" y="1132"/>
                  </a:lnTo>
                  <a:lnTo>
                    <a:pt x="1160" y="1162"/>
                  </a:lnTo>
                  <a:lnTo>
                    <a:pt x="1090" y="1091"/>
                  </a:lnTo>
                  <a:lnTo>
                    <a:pt x="1000" y="987"/>
                  </a:lnTo>
                  <a:lnTo>
                    <a:pt x="922" y="959"/>
                  </a:lnTo>
                  <a:lnTo>
                    <a:pt x="844" y="926"/>
                  </a:lnTo>
                  <a:lnTo>
                    <a:pt x="712" y="926"/>
                  </a:lnTo>
                  <a:lnTo>
                    <a:pt x="277" y="1021"/>
                  </a:lnTo>
                  <a:lnTo>
                    <a:pt x="173" y="1012"/>
                  </a:lnTo>
                  <a:lnTo>
                    <a:pt x="112" y="986"/>
                  </a:lnTo>
                  <a:lnTo>
                    <a:pt x="48" y="920"/>
                  </a:lnTo>
                  <a:lnTo>
                    <a:pt x="30" y="851"/>
                  </a:lnTo>
                  <a:lnTo>
                    <a:pt x="35" y="786"/>
                  </a:lnTo>
                  <a:lnTo>
                    <a:pt x="62" y="724"/>
                  </a:lnTo>
                  <a:lnTo>
                    <a:pt x="81" y="664"/>
                  </a:lnTo>
                  <a:lnTo>
                    <a:pt x="81" y="610"/>
                  </a:lnTo>
                  <a:lnTo>
                    <a:pt x="48" y="548"/>
                  </a:lnTo>
                  <a:lnTo>
                    <a:pt x="0" y="4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7983000" y="5664240"/>
              <a:ext cx="254880" cy="276120"/>
            </a:xfrm>
            <a:custGeom>
              <a:avLst/>
              <a:gdLst/>
              <a:ahLst/>
              <a:rect l="l" t="t" r="r" b="b"/>
              <a:pathLst>
                <a:path w="3329" h="4141">
                  <a:moveTo>
                    <a:pt x="64" y="1229"/>
                  </a:moveTo>
                  <a:lnTo>
                    <a:pt x="103" y="1344"/>
                  </a:lnTo>
                  <a:lnTo>
                    <a:pt x="174" y="1418"/>
                  </a:lnTo>
                  <a:lnTo>
                    <a:pt x="271" y="1457"/>
                  </a:lnTo>
                  <a:lnTo>
                    <a:pt x="462" y="1480"/>
                  </a:lnTo>
                  <a:lnTo>
                    <a:pt x="618" y="1457"/>
                  </a:lnTo>
                  <a:lnTo>
                    <a:pt x="774" y="1395"/>
                  </a:lnTo>
                  <a:lnTo>
                    <a:pt x="521" y="1406"/>
                  </a:lnTo>
                  <a:lnTo>
                    <a:pt x="361" y="1367"/>
                  </a:lnTo>
                  <a:lnTo>
                    <a:pt x="271" y="1291"/>
                  </a:lnTo>
                  <a:lnTo>
                    <a:pt x="214" y="1199"/>
                  </a:lnTo>
                  <a:lnTo>
                    <a:pt x="361" y="1261"/>
                  </a:lnTo>
                  <a:lnTo>
                    <a:pt x="488" y="1280"/>
                  </a:lnTo>
                  <a:lnTo>
                    <a:pt x="679" y="1261"/>
                  </a:lnTo>
                  <a:lnTo>
                    <a:pt x="850" y="1206"/>
                  </a:lnTo>
                  <a:lnTo>
                    <a:pt x="1030" y="1081"/>
                  </a:lnTo>
                  <a:lnTo>
                    <a:pt x="926" y="1241"/>
                  </a:lnTo>
                  <a:lnTo>
                    <a:pt x="1104" y="1137"/>
                  </a:lnTo>
                  <a:lnTo>
                    <a:pt x="1263" y="1081"/>
                  </a:lnTo>
                  <a:lnTo>
                    <a:pt x="1413" y="1081"/>
                  </a:lnTo>
                  <a:lnTo>
                    <a:pt x="1572" y="1137"/>
                  </a:lnTo>
                  <a:lnTo>
                    <a:pt x="1401" y="1137"/>
                  </a:lnTo>
                  <a:lnTo>
                    <a:pt x="1275" y="1160"/>
                  </a:lnTo>
                  <a:lnTo>
                    <a:pt x="1168" y="1229"/>
                  </a:lnTo>
                  <a:lnTo>
                    <a:pt x="1327" y="1241"/>
                  </a:lnTo>
                  <a:lnTo>
                    <a:pt x="1539" y="1199"/>
                  </a:lnTo>
                  <a:lnTo>
                    <a:pt x="1685" y="1137"/>
                  </a:lnTo>
                  <a:lnTo>
                    <a:pt x="1611" y="1229"/>
                  </a:lnTo>
                  <a:lnTo>
                    <a:pt x="1389" y="1375"/>
                  </a:lnTo>
                  <a:lnTo>
                    <a:pt x="1203" y="1430"/>
                  </a:lnTo>
                  <a:lnTo>
                    <a:pt x="1039" y="1443"/>
                  </a:lnTo>
                  <a:lnTo>
                    <a:pt x="1113" y="1344"/>
                  </a:lnTo>
                  <a:lnTo>
                    <a:pt x="926" y="1367"/>
                  </a:lnTo>
                  <a:lnTo>
                    <a:pt x="745" y="1480"/>
                  </a:lnTo>
                  <a:lnTo>
                    <a:pt x="850" y="1517"/>
                  </a:lnTo>
                  <a:lnTo>
                    <a:pt x="754" y="1591"/>
                  </a:lnTo>
                  <a:lnTo>
                    <a:pt x="906" y="1591"/>
                  </a:lnTo>
                  <a:lnTo>
                    <a:pt x="1141" y="1526"/>
                  </a:lnTo>
                  <a:lnTo>
                    <a:pt x="1275" y="1465"/>
                  </a:lnTo>
                  <a:lnTo>
                    <a:pt x="1141" y="1639"/>
                  </a:lnTo>
                  <a:lnTo>
                    <a:pt x="1214" y="1702"/>
                  </a:lnTo>
                  <a:lnTo>
                    <a:pt x="1401" y="1711"/>
                  </a:lnTo>
                  <a:lnTo>
                    <a:pt x="1636" y="1687"/>
                  </a:lnTo>
                  <a:lnTo>
                    <a:pt x="1807" y="1711"/>
                  </a:lnTo>
                  <a:lnTo>
                    <a:pt x="1947" y="1784"/>
                  </a:lnTo>
                  <a:lnTo>
                    <a:pt x="2066" y="1905"/>
                  </a:lnTo>
                  <a:lnTo>
                    <a:pt x="2145" y="2019"/>
                  </a:lnTo>
                  <a:lnTo>
                    <a:pt x="1967" y="1905"/>
                  </a:lnTo>
                  <a:lnTo>
                    <a:pt x="2095" y="2045"/>
                  </a:lnTo>
                  <a:lnTo>
                    <a:pt x="2153" y="2215"/>
                  </a:lnTo>
                  <a:lnTo>
                    <a:pt x="2153" y="2379"/>
                  </a:lnTo>
                  <a:lnTo>
                    <a:pt x="2125" y="2511"/>
                  </a:lnTo>
                  <a:lnTo>
                    <a:pt x="2084" y="2340"/>
                  </a:lnTo>
                  <a:lnTo>
                    <a:pt x="2066" y="2599"/>
                  </a:lnTo>
                  <a:lnTo>
                    <a:pt x="2003" y="2817"/>
                  </a:lnTo>
                  <a:lnTo>
                    <a:pt x="2145" y="2573"/>
                  </a:lnTo>
                  <a:lnTo>
                    <a:pt x="2153" y="2698"/>
                  </a:lnTo>
                  <a:lnTo>
                    <a:pt x="2215" y="2502"/>
                  </a:lnTo>
                  <a:lnTo>
                    <a:pt x="2247" y="2315"/>
                  </a:lnTo>
                  <a:lnTo>
                    <a:pt x="2330" y="2416"/>
                  </a:lnTo>
                  <a:lnTo>
                    <a:pt x="2365" y="2259"/>
                  </a:lnTo>
                  <a:lnTo>
                    <a:pt x="2365" y="2085"/>
                  </a:lnTo>
                  <a:lnTo>
                    <a:pt x="2316" y="1978"/>
                  </a:lnTo>
                  <a:lnTo>
                    <a:pt x="2215" y="1824"/>
                  </a:lnTo>
                  <a:lnTo>
                    <a:pt x="2406" y="1942"/>
                  </a:lnTo>
                  <a:lnTo>
                    <a:pt x="2391" y="1817"/>
                  </a:lnTo>
                  <a:lnTo>
                    <a:pt x="2567" y="1944"/>
                  </a:lnTo>
                  <a:lnTo>
                    <a:pt x="2624" y="2109"/>
                  </a:lnTo>
                  <a:lnTo>
                    <a:pt x="2674" y="1920"/>
                  </a:lnTo>
                  <a:lnTo>
                    <a:pt x="2635" y="1711"/>
                  </a:lnTo>
                  <a:lnTo>
                    <a:pt x="2778" y="1839"/>
                  </a:lnTo>
                  <a:lnTo>
                    <a:pt x="2881" y="1874"/>
                  </a:lnTo>
                  <a:lnTo>
                    <a:pt x="2960" y="1748"/>
                  </a:lnTo>
                  <a:lnTo>
                    <a:pt x="3006" y="1540"/>
                  </a:lnTo>
                  <a:lnTo>
                    <a:pt x="3035" y="1663"/>
                  </a:lnTo>
                  <a:lnTo>
                    <a:pt x="3142" y="1526"/>
                  </a:lnTo>
                  <a:lnTo>
                    <a:pt x="3178" y="1344"/>
                  </a:lnTo>
                  <a:lnTo>
                    <a:pt x="3237" y="1206"/>
                  </a:lnTo>
                  <a:lnTo>
                    <a:pt x="3237" y="1045"/>
                  </a:lnTo>
                  <a:lnTo>
                    <a:pt x="3204" y="839"/>
                  </a:lnTo>
                  <a:lnTo>
                    <a:pt x="3112" y="581"/>
                  </a:lnTo>
                  <a:lnTo>
                    <a:pt x="2925" y="305"/>
                  </a:lnTo>
                  <a:lnTo>
                    <a:pt x="2669" y="72"/>
                  </a:lnTo>
                  <a:lnTo>
                    <a:pt x="2503" y="0"/>
                  </a:lnTo>
                  <a:lnTo>
                    <a:pt x="2778" y="109"/>
                  </a:lnTo>
                  <a:lnTo>
                    <a:pt x="3112" y="491"/>
                  </a:lnTo>
                  <a:lnTo>
                    <a:pt x="3266" y="867"/>
                  </a:lnTo>
                  <a:lnTo>
                    <a:pt x="3319" y="1241"/>
                  </a:lnTo>
                  <a:lnTo>
                    <a:pt x="3319" y="1591"/>
                  </a:lnTo>
                  <a:lnTo>
                    <a:pt x="3266" y="1893"/>
                  </a:lnTo>
                  <a:lnTo>
                    <a:pt x="3197" y="2121"/>
                  </a:lnTo>
                  <a:lnTo>
                    <a:pt x="3096" y="2315"/>
                  </a:lnTo>
                  <a:lnTo>
                    <a:pt x="2971" y="2502"/>
                  </a:lnTo>
                  <a:lnTo>
                    <a:pt x="2863" y="2599"/>
                  </a:lnTo>
                  <a:lnTo>
                    <a:pt x="2807" y="2713"/>
                  </a:lnTo>
                  <a:lnTo>
                    <a:pt x="2784" y="2817"/>
                  </a:lnTo>
                  <a:lnTo>
                    <a:pt x="2784" y="2928"/>
                  </a:lnTo>
                  <a:lnTo>
                    <a:pt x="2807" y="3050"/>
                  </a:lnTo>
                  <a:lnTo>
                    <a:pt x="2846" y="3120"/>
                  </a:lnTo>
                  <a:lnTo>
                    <a:pt x="3006" y="3124"/>
                  </a:lnTo>
                  <a:lnTo>
                    <a:pt x="3112" y="3256"/>
                  </a:lnTo>
                  <a:lnTo>
                    <a:pt x="3142" y="3428"/>
                  </a:lnTo>
                  <a:lnTo>
                    <a:pt x="3290" y="3562"/>
                  </a:lnTo>
                  <a:lnTo>
                    <a:pt x="3329" y="3663"/>
                  </a:lnTo>
                  <a:lnTo>
                    <a:pt x="3096" y="3670"/>
                  </a:lnTo>
                  <a:lnTo>
                    <a:pt x="2710" y="3812"/>
                  </a:lnTo>
                  <a:lnTo>
                    <a:pt x="2255" y="3981"/>
                  </a:lnTo>
                  <a:lnTo>
                    <a:pt x="1912" y="4141"/>
                  </a:lnTo>
                  <a:lnTo>
                    <a:pt x="2381" y="3894"/>
                  </a:lnTo>
                  <a:lnTo>
                    <a:pt x="2710" y="3733"/>
                  </a:lnTo>
                  <a:lnTo>
                    <a:pt x="2778" y="3663"/>
                  </a:lnTo>
                  <a:lnTo>
                    <a:pt x="2750" y="3491"/>
                  </a:lnTo>
                  <a:lnTo>
                    <a:pt x="2653" y="3327"/>
                  </a:lnTo>
                  <a:lnTo>
                    <a:pt x="2549" y="3256"/>
                  </a:lnTo>
                  <a:lnTo>
                    <a:pt x="2187" y="3352"/>
                  </a:lnTo>
                  <a:lnTo>
                    <a:pt x="1848" y="3537"/>
                  </a:lnTo>
                  <a:lnTo>
                    <a:pt x="1560" y="3830"/>
                  </a:lnTo>
                  <a:lnTo>
                    <a:pt x="1795" y="3537"/>
                  </a:lnTo>
                  <a:lnTo>
                    <a:pt x="2084" y="3289"/>
                  </a:lnTo>
                  <a:lnTo>
                    <a:pt x="1980" y="3111"/>
                  </a:lnTo>
                  <a:lnTo>
                    <a:pt x="1894" y="2949"/>
                  </a:lnTo>
                  <a:lnTo>
                    <a:pt x="1857" y="2778"/>
                  </a:lnTo>
                  <a:lnTo>
                    <a:pt x="1830" y="2573"/>
                  </a:lnTo>
                  <a:lnTo>
                    <a:pt x="1772" y="2722"/>
                  </a:lnTo>
                  <a:lnTo>
                    <a:pt x="1685" y="2873"/>
                  </a:lnTo>
                  <a:lnTo>
                    <a:pt x="1646" y="2979"/>
                  </a:lnTo>
                  <a:lnTo>
                    <a:pt x="1624" y="3094"/>
                  </a:lnTo>
                  <a:lnTo>
                    <a:pt x="1545" y="3168"/>
                  </a:lnTo>
                  <a:lnTo>
                    <a:pt x="1503" y="3181"/>
                  </a:lnTo>
                  <a:lnTo>
                    <a:pt x="1389" y="3181"/>
                  </a:lnTo>
                  <a:lnTo>
                    <a:pt x="1350" y="3181"/>
                  </a:lnTo>
                  <a:lnTo>
                    <a:pt x="1309" y="3054"/>
                  </a:lnTo>
                  <a:lnTo>
                    <a:pt x="1203" y="3050"/>
                  </a:lnTo>
                  <a:lnTo>
                    <a:pt x="1350" y="3034"/>
                  </a:lnTo>
                  <a:lnTo>
                    <a:pt x="1429" y="2972"/>
                  </a:lnTo>
                  <a:lnTo>
                    <a:pt x="1452" y="2893"/>
                  </a:lnTo>
                  <a:lnTo>
                    <a:pt x="1452" y="2817"/>
                  </a:lnTo>
                  <a:lnTo>
                    <a:pt x="1401" y="2748"/>
                  </a:lnTo>
                  <a:lnTo>
                    <a:pt x="1309" y="2722"/>
                  </a:lnTo>
                  <a:lnTo>
                    <a:pt x="1429" y="2733"/>
                  </a:lnTo>
                  <a:lnTo>
                    <a:pt x="1475" y="2760"/>
                  </a:lnTo>
                  <a:lnTo>
                    <a:pt x="1585" y="2698"/>
                  </a:lnTo>
                  <a:lnTo>
                    <a:pt x="1659" y="2573"/>
                  </a:lnTo>
                  <a:lnTo>
                    <a:pt x="1723" y="2416"/>
                  </a:lnTo>
                  <a:lnTo>
                    <a:pt x="1747" y="2259"/>
                  </a:lnTo>
                  <a:lnTo>
                    <a:pt x="1747" y="2133"/>
                  </a:lnTo>
                  <a:lnTo>
                    <a:pt x="1723" y="2019"/>
                  </a:lnTo>
                  <a:lnTo>
                    <a:pt x="1646" y="1920"/>
                  </a:lnTo>
                  <a:lnTo>
                    <a:pt x="1560" y="1874"/>
                  </a:lnTo>
                  <a:lnTo>
                    <a:pt x="1475" y="1874"/>
                  </a:lnTo>
                  <a:lnTo>
                    <a:pt x="1334" y="1891"/>
                  </a:lnTo>
                  <a:lnTo>
                    <a:pt x="1214" y="1858"/>
                  </a:lnTo>
                  <a:lnTo>
                    <a:pt x="1066" y="1784"/>
                  </a:lnTo>
                  <a:lnTo>
                    <a:pt x="976" y="1711"/>
                  </a:lnTo>
                  <a:lnTo>
                    <a:pt x="1090" y="1920"/>
                  </a:lnTo>
                  <a:lnTo>
                    <a:pt x="1182" y="2006"/>
                  </a:lnTo>
                  <a:lnTo>
                    <a:pt x="1327" y="2059"/>
                  </a:lnTo>
                  <a:lnTo>
                    <a:pt x="1182" y="2094"/>
                  </a:lnTo>
                  <a:lnTo>
                    <a:pt x="1077" y="2085"/>
                  </a:lnTo>
                  <a:lnTo>
                    <a:pt x="1113" y="2195"/>
                  </a:lnTo>
                  <a:lnTo>
                    <a:pt x="1168" y="2269"/>
                  </a:lnTo>
                  <a:lnTo>
                    <a:pt x="1228" y="2305"/>
                  </a:lnTo>
                  <a:lnTo>
                    <a:pt x="1113" y="2305"/>
                  </a:lnTo>
                  <a:lnTo>
                    <a:pt x="945" y="2305"/>
                  </a:lnTo>
                  <a:lnTo>
                    <a:pt x="844" y="2241"/>
                  </a:lnTo>
                  <a:lnTo>
                    <a:pt x="776" y="2144"/>
                  </a:lnTo>
                  <a:lnTo>
                    <a:pt x="774" y="2094"/>
                  </a:lnTo>
                  <a:lnTo>
                    <a:pt x="645" y="2038"/>
                  </a:lnTo>
                  <a:lnTo>
                    <a:pt x="548" y="1944"/>
                  </a:lnTo>
                  <a:lnTo>
                    <a:pt x="502" y="1824"/>
                  </a:lnTo>
                  <a:lnTo>
                    <a:pt x="470" y="1711"/>
                  </a:lnTo>
                  <a:lnTo>
                    <a:pt x="350" y="1678"/>
                  </a:lnTo>
                  <a:lnTo>
                    <a:pt x="299" y="1628"/>
                  </a:lnTo>
                  <a:lnTo>
                    <a:pt x="231" y="1566"/>
                  </a:lnTo>
                  <a:lnTo>
                    <a:pt x="121" y="1526"/>
                  </a:lnTo>
                  <a:lnTo>
                    <a:pt x="36" y="1443"/>
                  </a:lnTo>
                  <a:lnTo>
                    <a:pt x="0" y="1344"/>
                  </a:lnTo>
                  <a:lnTo>
                    <a:pt x="0" y="1261"/>
                  </a:lnTo>
                  <a:lnTo>
                    <a:pt x="64" y="1160"/>
                  </a:lnTo>
                  <a:lnTo>
                    <a:pt x="64" y="1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8083080" y="5740920"/>
              <a:ext cx="80640" cy="33120"/>
            </a:xfrm>
            <a:custGeom>
              <a:avLst/>
              <a:gdLst/>
              <a:ahLst/>
              <a:rect l="l" t="t" r="r" b="b"/>
              <a:pathLst>
                <a:path w="1056" h="495">
                  <a:moveTo>
                    <a:pt x="41" y="274"/>
                  </a:moveTo>
                  <a:lnTo>
                    <a:pt x="166" y="286"/>
                  </a:lnTo>
                  <a:lnTo>
                    <a:pt x="327" y="251"/>
                  </a:lnTo>
                  <a:lnTo>
                    <a:pt x="438" y="177"/>
                  </a:lnTo>
                  <a:lnTo>
                    <a:pt x="560" y="80"/>
                  </a:lnTo>
                  <a:lnTo>
                    <a:pt x="650" y="0"/>
                  </a:lnTo>
                  <a:lnTo>
                    <a:pt x="585" y="136"/>
                  </a:lnTo>
                  <a:lnTo>
                    <a:pt x="477" y="262"/>
                  </a:lnTo>
                  <a:lnTo>
                    <a:pt x="658" y="200"/>
                  </a:lnTo>
                  <a:lnTo>
                    <a:pt x="800" y="200"/>
                  </a:lnTo>
                  <a:lnTo>
                    <a:pt x="922" y="231"/>
                  </a:lnTo>
                  <a:lnTo>
                    <a:pt x="996" y="313"/>
                  </a:lnTo>
                  <a:lnTo>
                    <a:pt x="1056" y="409"/>
                  </a:lnTo>
                  <a:lnTo>
                    <a:pt x="970" y="348"/>
                  </a:lnTo>
                  <a:lnTo>
                    <a:pt x="878" y="321"/>
                  </a:lnTo>
                  <a:lnTo>
                    <a:pt x="775" y="321"/>
                  </a:lnTo>
                  <a:lnTo>
                    <a:pt x="671" y="348"/>
                  </a:lnTo>
                  <a:lnTo>
                    <a:pt x="800" y="409"/>
                  </a:lnTo>
                  <a:lnTo>
                    <a:pt x="618" y="396"/>
                  </a:lnTo>
                  <a:lnTo>
                    <a:pt x="486" y="447"/>
                  </a:lnTo>
                  <a:lnTo>
                    <a:pt x="350" y="484"/>
                  </a:lnTo>
                  <a:lnTo>
                    <a:pt x="201" y="495"/>
                  </a:lnTo>
                  <a:lnTo>
                    <a:pt x="65" y="458"/>
                  </a:lnTo>
                  <a:lnTo>
                    <a:pt x="0" y="396"/>
                  </a:lnTo>
                  <a:lnTo>
                    <a:pt x="150" y="396"/>
                  </a:lnTo>
                  <a:lnTo>
                    <a:pt x="315" y="336"/>
                  </a:lnTo>
                  <a:lnTo>
                    <a:pt x="166" y="336"/>
                  </a:lnTo>
                  <a:lnTo>
                    <a:pt x="65" y="299"/>
                  </a:lnTo>
                  <a:lnTo>
                    <a:pt x="41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8077680" y="5797800"/>
              <a:ext cx="29880" cy="40320"/>
            </a:xfrm>
            <a:custGeom>
              <a:avLst/>
              <a:gdLst/>
              <a:ahLst/>
              <a:rect l="l" t="t" r="r" b="b"/>
              <a:pathLst>
                <a:path w="387" h="613">
                  <a:moveTo>
                    <a:pt x="67" y="60"/>
                  </a:moveTo>
                  <a:lnTo>
                    <a:pt x="152" y="0"/>
                  </a:lnTo>
                  <a:lnTo>
                    <a:pt x="266" y="0"/>
                  </a:lnTo>
                  <a:lnTo>
                    <a:pt x="348" y="46"/>
                  </a:lnTo>
                  <a:lnTo>
                    <a:pt x="387" y="152"/>
                  </a:lnTo>
                  <a:lnTo>
                    <a:pt x="335" y="86"/>
                  </a:lnTo>
                  <a:lnTo>
                    <a:pt x="266" y="60"/>
                  </a:lnTo>
                  <a:lnTo>
                    <a:pt x="164" y="152"/>
                  </a:lnTo>
                  <a:lnTo>
                    <a:pt x="266" y="270"/>
                  </a:lnTo>
                  <a:lnTo>
                    <a:pt x="266" y="429"/>
                  </a:lnTo>
                  <a:lnTo>
                    <a:pt x="90" y="528"/>
                  </a:lnTo>
                  <a:lnTo>
                    <a:pt x="38" y="613"/>
                  </a:lnTo>
                  <a:lnTo>
                    <a:pt x="0" y="613"/>
                  </a:lnTo>
                  <a:lnTo>
                    <a:pt x="14" y="440"/>
                  </a:lnTo>
                  <a:lnTo>
                    <a:pt x="113" y="367"/>
                  </a:lnTo>
                  <a:lnTo>
                    <a:pt x="113" y="306"/>
                  </a:lnTo>
                  <a:lnTo>
                    <a:pt x="38" y="260"/>
                  </a:lnTo>
                  <a:lnTo>
                    <a:pt x="72" y="152"/>
                  </a:lnTo>
                  <a:lnTo>
                    <a:pt x="0" y="71"/>
                  </a:lnTo>
                  <a:lnTo>
                    <a:pt x="67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8094960" y="5811840"/>
              <a:ext cx="12600" cy="28080"/>
            </a:xfrm>
            <a:custGeom>
              <a:avLst/>
              <a:gdLst/>
              <a:ahLst/>
              <a:rect l="l" t="t" r="r" b="b"/>
              <a:pathLst>
                <a:path w="165" h="424">
                  <a:moveTo>
                    <a:pt x="152" y="0"/>
                  </a:moveTo>
                  <a:lnTo>
                    <a:pt x="152" y="120"/>
                  </a:lnTo>
                  <a:lnTo>
                    <a:pt x="101" y="240"/>
                  </a:lnTo>
                  <a:lnTo>
                    <a:pt x="0" y="362"/>
                  </a:lnTo>
                  <a:lnTo>
                    <a:pt x="0" y="424"/>
                  </a:lnTo>
                  <a:lnTo>
                    <a:pt x="66" y="401"/>
                  </a:lnTo>
                  <a:lnTo>
                    <a:pt x="165" y="129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7966080" y="5664960"/>
              <a:ext cx="174600" cy="82080"/>
            </a:xfrm>
            <a:custGeom>
              <a:avLst/>
              <a:gdLst/>
              <a:ahLst/>
              <a:rect l="l" t="t" r="r" b="b"/>
              <a:pathLst>
                <a:path w="2291" h="1231">
                  <a:moveTo>
                    <a:pt x="231" y="1231"/>
                  </a:moveTo>
                  <a:lnTo>
                    <a:pt x="124" y="1231"/>
                  </a:lnTo>
                  <a:lnTo>
                    <a:pt x="46" y="1170"/>
                  </a:lnTo>
                  <a:lnTo>
                    <a:pt x="0" y="1071"/>
                  </a:lnTo>
                  <a:lnTo>
                    <a:pt x="0" y="984"/>
                  </a:lnTo>
                  <a:lnTo>
                    <a:pt x="23" y="880"/>
                  </a:lnTo>
                  <a:lnTo>
                    <a:pt x="69" y="829"/>
                  </a:lnTo>
                  <a:lnTo>
                    <a:pt x="132" y="728"/>
                  </a:lnTo>
                  <a:lnTo>
                    <a:pt x="205" y="580"/>
                  </a:lnTo>
                  <a:lnTo>
                    <a:pt x="185" y="682"/>
                  </a:lnTo>
                  <a:lnTo>
                    <a:pt x="124" y="804"/>
                  </a:lnTo>
                  <a:lnTo>
                    <a:pt x="124" y="892"/>
                  </a:lnTo>
                  <a:lnTo>
                    <a:pt x="157" y="974"/>
                  </a:lnTo>
                  <a:lnTo>
                    <a:pt x="221" y="1035"/>
                  </a:lnTo>
                  <a:lnTo>
                    <a:pt x="221" y="912"/>
                  </a:lnTo>
                  <a:lnTo>
                    <a:pt x="304" y="937"/>
                  </a:lnTo>
                  <a:lnTo>
                    <a:pt x="284" y="840"/>
                  </a:lnTo>
                  <a:lnTo>
                    <a:pt x="295" y="728"/>
                  </a:lnTo>
                  <a:lnTo>
                    <a:pt x="352" y="668"/>
                  </a:lnTo>
                  <a:lnTo>
                    <a:pt x="405" y="596"/>
                  </a:lnTo>
                  <a:lnTo>
                    <a:pt x="462" y="513"/>
                  </a:lnTo>
                  <a:lnTo>
                    <a:pt x="521" y="456"/>
                  </a:lnTo>
                  <a:lnTo>
                    <a:pt x="631" y="414"/>
                  </a:lnTo>
                  <a:lnTo>
                    <a:pt x="779" y="380"/>
                  </a:lnTo>
                  <a:lnTo>
                    <a:pt x="950" y="286"/>
                  </a:lnTo>
                  <a:lnTo>
                    <a:pt x="1007" y="179"/>
                  </a:lnTo>
                  <a:lnTo>
                    <a:pt x="985" y="310"/>
                  </a:lnTo>
                  <a:lnTo>
                    <a:pt x="943" y="361"/>
                  </a:lnTo>
                  <a:lnTo>
                    <a:pt x="825" y="481"/>
                  </a:lnTo>
                  <a:lnTo>
                    <a:pt x="1005" y="396"/>
                  </a:lnTo>
                  <a:lnTo>
                    <a:pt x="1097" y="373"/>
                  </a:lnTo>
                  <a:lnTo>
                    <a:pt x="1176" y="276"/>
                  </a:lnTo>
                  <a:lnTo>
                    <a:pt x="1236" y="135"/>
                  </a:lnTo>
                  <a:lnTo>
                    <a:pt x="1236" y="225"/>
                  </a:lnTo>
                  <a:lnTo>
                    <a:pt x="1201" y="373"/>
                  </a:lnTo>
                  <a:lnTo>
                    <a:pt x="1372" y="246"/>
                  </a:lnTo>
                  <a:lnTo>
                    <a:pt x="1468" y="218"/>
                  </a:lnTo>
                  <a:lnTo>
                    <a:pt x="1581" y="232"/>
                  </a:lnTo>
                  <a:lnTo>
                    <a:pt x="1683" y="225"/>
                  </a:lnTo>
                  <a:lnTo>
                    <a:pt x="1776" y="179"/>
                  </a:lnTo>
                  <a:lnTo>
                    <a:pt x="1890" y="80"/>
                  </a:lnTo>
                  <a:lnTo>
                    <a:pt x="1978" y="51"/>
                  </a:lnTo>
                  <a:lnTo>
                    <a:pt x="2088" y="0"/>
                  </a:lnTo>
                  <a:lnTo>
                    <a:pt x="1941" y="87"/>
                  </a:lnTo>
                  <a:lnTo>
                    <a:pt x="2061" y="99"/>
                  </a:lnTo>
                  <a:lnTo>
                    <a:pt x="2291" y="51"/>
                  </a:lnTo>
                  <a:lnTo>
                    <a:pt x="2150" y="150"/>
                  </a:lnTo>
                  <a:lnTo>
                    <a:pt x="1994" y="200"/>
                  </a:lnTo>
                  <a:lnTo>
                    <a:pt x="1855" y="186"/>
                  </a:lnTo>
                  <a:lnTo>
                    <a:pt x="1776" y="225"/>
                  </a:lnTo>
                  <a:lnTo>
                    <a:pt x="1713" y="286"/>
                  </a:lnTo>
                  <a:lnTo>
                    <a:pt x="1683" y="361"/>
                  </a:lnTo>
                  <a:lnTo>
                    <a:pt x="1581" y="421"/>
                  </a:lnTo>
                  <a:lnTo>
                    <a:pt x="1434" y="451"/>
                  </a:lnTo>
                  <a:lnTo>
                    <a:pt x="1321" y="481"/>
                  </a:lnTo>
                  <a:lnTo>
                    <a:pt x="1247" y="571"/>
                  </a:lnTo>
                  <a:lnTo>
                    <a:pt x="1201" y="657"/>
                  </a:lnTo>
                  <a:lnTo>
                    <a:pt x="1183" y="717"/>
                  </a:lnTo>
                  <a:lnTo>
                    <a:pt x="1183" y="557"/>
                  </a:lnTo>
                  <a:lnTo>
                    <a:pt x="1207" y="475"/>
                  </a:lnTo>
                  <a:lnTo>
                    <a:pt x="1069" y="481"/>
                  </a:lnTo>
                  <a:lnTo>
                    <a:pt x="910" y="557"/>
                  </a:lnTo>
                  <a:lnTo>
                    <a:pt x="849" y="633"/>
                  </a:lnTo>
                  <a:lnTo>
                    <a:pt x="809" y="754"/>
                  </a:lnTo>
                  <a:lnTo>
                    <a:pt x="752" y="633"/>
                  </a:lnTo>
                  <a:lnTo>
                    <a:pt x="680" y="717"/>
                  </a:lnTo>
                  <a:lnTo>
                    <a:pt x="631" y="880"/>
                  </a:lnTo>
                  <a:lnTo>
                    <a:pt x="592" y="790"/>
                  </a:lnTo>
                  <a:lnTo>
                    <a:pt x="616" y="682"/>
                  </a:lnTo>
                  <a:lnTo>
                    <a:pt x="680" y="633"/>
                  </a:lnTo>
                  <a:lnTo>
                    <a:pt x="701" y="557"/>
                  </a:lnTo>
                  <a:lnTo>
                    <a:pt x="655" y="528"/>
                  </a:lnTo>
                  <a:lnTo>
                    <a:pt x="548" y="580"/>
                  </a:lnTo>
                  <a:lnTo>
                    <a:pt x="502" y="645"/>
                  </a:lnTo>
                  <a:lnTo>
                    <a:pt x="521" y="717"/>
                  </a:lnTo>
                  <a:lnTo>
                    <a:pt x="491" y="880"/>
                  </a:lnTo>
                  <a:lnTo>
                    <a:pt x="456" y="954"/>
                  </a:lnTo>
                  <a:lnTo>
                    <a:pt x="456" y="1025"/>
                  </a:lnTo>
                  <a:lnTo>
                    <a:pt x="456" y="1048"/>
                  </a:lnTo>
                  <a:lnTo>
                    <a:pt x="385" y="1000"/>
                  </a:lnTo>
                  <a:lnTo>
                    <a:pt x="387" y="1127"/>
                  </a:lnTo>
                  <a:lnTo>
                    <a:pt x="284" y="1048"/>
                  </a:lnTo>
                  <a:lnTo>
                    <a:pt x="284" y="1196"/>
                  </a:lnTo>
                  <a:lnTo>
                    <a:pt x="231" y="1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7928640" y="5755680"/>
              <a:ext cx="16200" cy="18360"/>
            </a:xfrm>
            <a:custGeom>
              <a:avLst/>
              <a:gdLst/>
              <a:ahLst/>
              <a:rect l="l" t="t" r="r" b="b"/>
              <a:pathLst>
                <a:path w="217" h="276">
                  <a:moveTo>
                    <a:pt x="0" y="0"/>
                  </a:moveTo>
                  <a:lnTo>
                    <a:pt x="51" y="117"/>
                  </a:lnTo>
                  <a:lnTo>
                    <a:pt x="125" y="165"/>
                  </a:lnTo>
                  <a:lnTo>
                    <a:pt x="217" y="191"/>
                  </a:lnTo>
                  <a:lnTo>
                    <a:pt x="153" y="276"/>
                  </a:lnTo>
                  <a:lnTo>
                    <a:pt x="72" y="239"/>
                  </a:lnTo>
                  <a:lnTo>
                    <a:pt x="8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7929360" y="5640480"/>
              <a:ext cx="235800" cy="127440"/>
            </a:xfrm>
            <a:custGeom>
              <a:avLst/>
              <a:gdLst/>
              <a:ahLst/>
              <a:rect l="l" t="t" r="r" b="b"/>
              <a:pathLst>
                <a:path w="3089" h="1908">
                  <a:moveTo>
                    <a:pt x="267" y="1860"/>
                  </a:moveTo>
                  <a:lnTo>
                    <a:pt x="145" y="1812"/>
                  </a:lnTo>
                  <a:lnTo>
                    <a:pt x="55" y="1722"/>
                  </a:lnTo>
                  <a:lnTo>
                    <a:pt x="16" y="1584"/>
                  </a:lnTo>
                  <a:lnTo>
                    <a:pt x="0" y="1492"/>
                  </a:lnTo>
                  <a:lnTo>
                    <a:pt x="27" y="1429"/>
                  </a:lnTo>
                  <a:lnTo>
                    <a:pt x="78" y="1374"/>
                  </a:lnTo>
                  <a:lnTo>
                    <a:pt x="64" y="1302"/>
                  </a:lnTo>
                  <a:lnTo>
                    <a:pt x="87" y="1155"/>
                  </a:lnTo>
                  <a:lnTo>
                    <a:pt x="152" y="1058"/>
                  </a:lnTo>
                  <a:lnTo>
                    <a:pt x="249" y="985"/>
                  </a:lnTo>
                  <a:lnTo>
                    <a:pt x="359" y="936"/>
                  </a:lnTo>
                  <a:lnTo>
                    <a:pt x="420" y="846"/>
                  </a:lnTo>
                  <a:lnTo>
                    <a:pt x="523" y="745"/>
                  </a:lnTo>
                  <a:lnTo>
                    <a:pt x="609" y="738"/>
                  </a:lnTo>
                  <a:lnTo>
                    <a:pt x="514" y="800"/>
                  </a:lnTo>
                  <a:lnTo>
                    <a:pt x="460" y="860"/>
                  </a:lnTo>
                  <a:lnTo>
                    <a:pt x="460" y="886"/>
                  </a:lnTo>
                  <a:lnTo>
                    <a:pt x="560" y="860"/>
                  </a:lnTo>
                  <a:lnTo>
                    <a:pt x="671" y="745"/>
                  </a:lnTo>
                  <a:lnTo>
                    <a:pt x="733" y="641"/>
                  </a:lnTo>
                  <a:lnTo>
                    <a:pt x="816" y="489"/>
                  </a:lnTo>
                  <a:lnTo>
                    <a:pt x="922" y="416"/>
                  </a:lnTo>
                  <a:lnTo>
                    <a:pt x="1040" y="339"/>
                  </a:lnTo>
                  <a:lnTo>
                    <a:pt x="1196" y="319"/>
                  </a:lnTo>
                  <a:lnTo>
                    <a:pt x="1326" y="302"/>
                  </a:lnTo>
                  <a:lnTo>
                    <a:pt x="1387" y="293"/>
                  </a:lnTo>
                  <a:lnTo>
                    <a:pt x="1453" y="183"/>
                  </a:lnTo>
                  <a:lnTo>
                    <a:pt x="1546" y="106"/>
                  </a:lnTo>
                  <a:lnTo>
                    <a:pt x="1724" y="42"/>
                  </a:lnTo>
                  <a:lnTo>
                    <a:pt x="1862" y="62"/>
                  </a:lnTo>
                  <a:lnTo>
                    <a:pt x="1945" y="81"/>
                  </a:lnTo>
                  <a:lnTo>
                    <a:pt x="2058" y="0"/>
                  </a:lnTo>
                  <a:lnTo>
                    <a:pt x="2344" y="0"/>
                  </a:lnTo>
                  <a:lnTo>
                    <a:pt x="2526" y="27"/>
                  </a:lnTo>
                  <a:lnTo>
                    <a:pt x="2655" y="67"/>
                  </a:lnTo>
                  <a:lnTo>
                    <a:pt x="2734" y="132"/>
                  </a:lnTo>
                  <a:lnTo>
                    <a:pt x="2873" y="132"/>
                  </a:lnTo>
                  <a:lnTo>
                    <a:pt x="3013" y="196"/>
                  </a:lnTo>
                  <a:lnTo>
                    <a:pt x="3089" y="293"/>
                  </a:lnTo>
                  <a:lnTo>
                    <a:pt x="3013" y="231"/>
                  </a:lnTo>
                  <a:lnTo>
                    <a:pt x="2895" y="173"/>
                  </a:lnTo>
                  <a:lnTo>
                    <a:pt x="2774" y="183"/>
                  </a:lnTo>
                  <a:lnTo>
                    <a:pt x="2577" y="132"/>
                  </a:lnTo>
                  <a:lnTo>
                    <a:pt x="2367" y="132"/>
                  </a:lnTo>
                  <a:lnTo>
                    <a:pt x="2190" y="173"/>
                  </a:lnTo>
                  <a:lnTo>
                    <a:pt x="2017" y="245"/>
                  </a:lnTo>
                  <a:lnTo>
                    <a:pt x="1922" y="319"/>
                  </a:lnTo>
                  <a:lnTo>
                    <a:pt x="1862" y="330"/>
                  </a:lnTo>
                  <a:lnTo>
                    <a:pt x="1890" y="157"/>
                  </a:lnTo>
                  <a:lnTo>
                    <a:pt x="1763" y="132"/>
                  </a:lnTo>
                  <a:lnTo>
                    <a:pt x="1653" y="207"/>
                  </a:lnTo>
                  <a:lnTo>
                    <a:pt x="1592" y="330"/>
                  </a:lnTo>
                  <a:lnTo>
                    <a:pt x="1339" y="339"/>
                  </a:lnTo>
                  <a:lnTo>
                    <a:pt x="1093" y="416"/>
                  </a:lnTo>
                  <a:lnTo>
                    <a:pt x="882" y="583"/>
                  </a:lnTo>
                  <a:lnTo>
                    <a:pt x="772" y="779"/>
                  </a:lnTo>
                  <a:lnTo>
                    <a:pt x="647" y="860"/>
                  </a:lnTo>
                  <a:lnTo>
                    <a:pt x="477" y="936"/>
                  </a:lnTo>
                  <a:lnTo>
                    <a:pt x="317" y="985"/>
                  </a:lnTo>
                  <a:lnTo>
                    <a:pt x="227" y="1082"/>
                  </a:lnTo>
                  <a:lnTo>
                    <a:pt x="209" y="1245"/>
                  </a:lnTo>
                  <a:lnTo>
                    <a:pt x="267" y="1390"/>
                  </a:lnTo>
                  <a:lnTo>
                    <a:pt x="359" y="1471"/>
                  </a:lnTo>
                  <a:lnTo>
                    <a:pt x="460" y="1535"/>
                  </a:lnTo>
                  <a:lnTo>
                    <a:pt x="278" y="1499"/>
                  </a:lnTo>
                  <a:lnTo>
                    <a:pt x="145" y="1429"/>
                  </a:lnTo>
                  <a:lnTo>
                    <a:pt x="124" y="1554"/>
                  </a:lnTo>
                  <a:lnTo>
                    <a:pt x="209" y="1676"/>
                  </a:lnTo>
                  <a:lnTo>
                    <a:pt x="359" y="1730"/>
                  </a:lnTo>
                  <a:lnTo>
                    <a:pt x="477" y="1730"/>
                  </a:lnTo>
                  <a:lnTo>
                    <a:pt x="647" y="1710"/>
                  </a:lnTo>
                  <a:lnTo>
                    <a:pt x="574" y="1835"/>
                  </a:lnTo>
                  <a:lnTo>
                    <a:pt x="449" y="1908"/>
                  </a:lnTo>
                  <a:lnTo>
                    <a:pt x="267" y="18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8110800" y="5846040"/>
              <a:ext cx="23760" cy="65160"/>
            </a:xfrm>
            <a:custGeom>
              <a:avLst/>
              <a:gdLst/>
              <a:ahLst/>
              <a:rect l="l" t="t" r="r" b="b"/>
              <a:pathLst>
                <a:path w="309" h="976">
                  <a:moveTo>
                    <a:pt x="186" y="0"/>
                  </a:moveTo>
                  <a:lnTo>
                    <a:pt x="186" y="187"/>
                  </a:lnTo>
                  <a:lnTo>
                    <a:pt x="147" y="459"/>
                  </a:lnTo>
                  <a:lnTo>
                    <a:pt x="101" y="666"/>
                  </a:lnTo>
                  <a:lnTo>
                    <a:pt x="0" y="976"/>
                  </a:lnTo>
                  <a:lnTo>
                    <a:pt x="136" y="831"/>
                  </a:lnTo>
                  <a:lnTo>
                    <a:pt x="241" y="605"/>
                  </a:lnTo>
                  <a:lnTo>
                    <a:pt x="288" y="446"/>
                  </a:lnTo>
                  <a:lnTo>
                    <a:pt x="309" y="296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8011080" y="6021000"/>
              <a:ext cx="341640" cy="338760"/>
            </a:xfrm>
            <a:custGeom>
              <a:avLst/>
              <a:gdLst/>
              <a:ahLst/>
              <a:rect l="l" t="t" r="r" b="b"/>
              <a:pathLst>
                <a:path w="4469" h="5071">
                  <a:moveTo>
                    <a:pt x="4469" y="1452"/>
                  </a:moveTo>
                  <a:lnTo>
                    <a:pt x="3878" y="1759"/>
                  </a:lnTo>
                  <a:lnTo>
                    <a:pt x="3544" y="2040"/>
                  </a:lnTo>
                  <a:lnTo>
                    <a:pt x="3228" y="2346"/>
                  </a:lnTo>
                  <a:lnTo>
                    <a:pt x="2956" y="2784"/>
                  </a:lnTo>
                  <a:lnTo>
                    <a:pt x="2733" y="3276"/>
                  </a:lnTo>
                  <a:lnTo>
                    <a:pt x="2578" y="3865"/>
                  </a:lnTo>
                  <a:lnTo>
                    <a:pt x="2483" y="4482"/>
                  </a:lnTo>
                  <a:lnTo>
                    <a:pt x="2421" y="5071"/>
                  </a:lnTo>
                  <a:lnTo>
                    <a:pt x="0" y="5071"/>
                  </a:lnTo>
                  <a:lnTo>
                    <a:pt x="282" y="4821"/>
                  </a:lnTo>
                  <a:lnTo>
                    <a:pt x="499" y="4544"/>
                  </a:lnTo>
                  <a:lnTo>
                    <a:pt x="657" y="4297"/>
                  </a:lnTo>
                  <a:lnTo>
                    <a:pt x="900" y="4080"/>
                  </a:lnTo>
                  <a:lnTo>
                    <a:pt x="1182" y="3924"/>
                  </a:lnTo>
                  <a:lnTo>
                    <a:pt x="1525" y="3087"/>
                  </a:lnTo>
                  <a:lnTo>
                    <a:pt x="1089" y="3243"/>
                  </a:lnTo>
                  <a:lnTo>
                    <a:pt x="99" y="3801"/>
                  </a:lnTo>
                  <a:lnTo>
                    <a:pt x="900" y="3214"/>
                  </a:lnTo>
                  <a:lnTo>
                    <a:pt x="1525" y="2784"/>
                  </a:lnTo>
                  <a:lnTo>
                    <a:pt x="1835" y="2443"/>
                  </a:lnTo>
                  <a:lnTo>
                    <a:pt x="2055" y="2100"/>
                  </a:lnTo>
                  <a:lnTo>
                    <a:pt x="2209" y="1698"/>
                  </a:lnTo>
                  <a:lnTo>
                    <a:pt x="2306" y="1362"/>
                  </a:lnTo>
                  <a:lnTo>
                    <a:pt x="2145" y="894"/>
                  </a:lnTo>
                  <a:lnTo>
                    <a:pt x="1771" y="307"/>
                  </a:lnTo>
                  <a:lnTo>
                    <a:pt x="1459" y="0"/>
                  </a:lnTo>
                  <a:lnTo>
                    <a:pt x="1894" y="341"/>
                  </a:lnTo>
                  <a:lnTo>
                    <a:pt x="2306" y="894"/>
                  </a:lnTo>
                  <a:lnTo>
                    <a:pt x="2456" y="1298"/>
                  </a:lnTo>
                  <a:lnTo>
                    <a:pt x="2610" y="1698"/>
                  </a:lnTo>
                  <a:lnTo>
                    <a:pt x="2707" y="2135"/>
                  </a:lnTo>
                  <a:lnTo>
                    <a:pt x="3076" y="1913"/>
                  </a:lnTo>
                  <a:lnTo>
                    <a:pt x="2578" y="2346"/>
                  </a:lnTo>
                  <a:lnTo>
                    <a:pt x="2209" y="2784"/>
                  </a:lnTo>
                  <a:lnTo>
                    <a:pt x="2020" y="3119"/>
                  </a:lnTo>
                  <a:lnTo>
                    <a:pt x="1894" y="3463"/>
                  </a:lnTo>
                  <a:lnTo>
                    <a:pt x="1802" y="3801"/>
                  </a:lnTo>
                  <a:lnTo>
                    <a:pt x="1617" y="4177"/>
                  </a:lnTo>
                  <a:lnTo>
                    <a:pt x="1459" y="4423"/>
                  </a:lnTo>
                  <a:lnTo>
                    <a:pt x="1432" y="4669"/>
                  </a:lnTo>
                  <a:lnTo>
                    <a:pt x="1432" y="4857"/>
                  </a:lnTo>
                  <a:lnTo>
                    <a:pt x="1556" y="4509"/>
                  </a:lnTo>
                  <a:lnTo>
                    <a:pt x="1736" y="4177"/>
                  </a:lnTo>
                  <a:lnTo>
                    <a:pt x="1958" y="3865"/>
                  </a:lnTo>
                  <a:lnTo>
                    <a:pt x="2055" y="3619"/>
                  </a:lnTo>
                  <a:lnTo>
                    <a:pt x="2270" y="3340"/>
                  </a:lnTo>
                  <a:lnTo>
                    <a:pt x="2639" y="3054"/>
                  </a:lnTo>
                  <a:lnTo>
                    <a:pt x="2920" y="2658"/>
                  </a:lnTo>
                  <a:lnTo>
                    <a:pt x="3228" y="2226"/>
                  </a:lnTo>
                  <a:lnTo>
                    <a:pt x="3602" y="1883"/>
                  </a:lnTo>
                  <a:lnTo>
                    <a:pt x="3943" y="1637"/>
                  </a:lnTo>
                  <a:lnTo>
                    <a:pt x="4469" y="1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7988040" y="6093000"/>
              <a:ext cx="134280" cy="142560"/>
            </a:xfrm>
            <a:custGeom>
              <a:avLst/>
              <a:gdLst/>
              <a:ahLst/>
              <a:rect l="l" t="t" r="r" b="b"/>
              <a:pathLst>
                <a:path w="1765" h="2135">
                  <a:moveTo>
                    <a:pt x="1710" y="0"/>
                  </a:moveTo>
                  <a:lnTo>
                    <a:pt x="1765" y="61"/>
                  </a:lnTo>
                  <a:lnTo>
                    <a:pt x="1425" y="744"/>
                  </a:lnTo>
                  <a:lnTo>
                    <a:pt x="994" y="1147"/>
                  </a:lnTo>
                  <a:lnTo>
                    <a:pt x="743" y="1579"/>
                  </a:lnTo>
                  <a:lnTo>
                    <a:pt x="0" y="2135"/>
                  </a:lnTo>
                  <a:lnTo>
                    <a:pt x="306" y="1482"/>
                  </a:lnTo>
                  <a:lnTo>
                    <a:pt x="1020" y="645"/>
                  </a:lnTo>
                  <a:lnTo>
                    <a:pt x="1579" y="248"/>
                  </a:lnTo>
                  <a:lnTo>
                    <a:pt x="17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8248320" y="5913360"/>
              <a:ext cx="109080" cy="162720"/>
            </a:xfrm>
            <a:custGeom>
              <a:avLst/>
              <a:gdLst/>
              <a:ahLst/>
              <a:rect l="l" t="t" r="r" b="b"/>
              <a:pathLst>
                <a:path w="1430" h="2441">
                  <a:moveTo>
                    <a:pt x="0" y="0"/>
                  </a:moveTo>
                  <a:lnTo>
                    <a:pt x="374" y="373"/>
                  </a:lnTo>
                  <a:lnTo>
                    <a:pt x="745" y="929"/>
                  </a:lnTo>
                  <a:lnTo>
                    <a:pt x="1430" y="2441"/>
                  </a:lnTo>
                  <a:lnTo>
                    <a:pt x="718" y="961"/>
                  </a:lnTo>
                  <a:lnTo>
                    <a:pt x="347" y="4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7945200" y="5942880"/>
              <a:ext cx="174600" cy="322560"/>
            </a:xfrm>
            <a:custGeom>
              <a:avLst/>
              <a:gdLst/>
              <a:ahLst/>
              <a:rect l="l" t="t" r="r" b="b"/>
              <a:pathLst>
                <a:path w="2285" h="4830">
                  <a:moveTo>
                    <a:pt x="2285" y="0"/>
                  </a:moveTo>
                  <a:lnTo>
                    <a:pt x="1736" y="296"/>
                  </a:lnTo>
                  <a:lnTo>
                    <a:pt x="1471" y="507"/>
                  </a:lnTo>
                  <a:lnTo>
                    <a:pt x="1198" y="646"/>
                  </a:lnTo>
                  <a:lnTo>
                    <a:pt x="862" y="1140"/>
                  </a:lnTo>
                  <a:lnTo>
                    <a:pt x="688" y="1755"/>
                  </a:lnTo>
                  <a:lnTo>
                    <a:pt x="620" y="2283"/>
                  </a:lnTo>
                  <a:lnTo>
                    <a:pt x="559" y="2690"/>
                  </a:lnTo>
                  <a:lnTo>
                    <a:pt x="446" y="3017"/>
                  </a:lnTo>
                  <a:lnTo>
                    <a:pt x="365" y="3412"/>
                  </a:lnTo>
                  <a:lnTo>
                    <a:pt x="286" y="3753"/>
                  </a:lnTo>
                  <a:lnTo>
                    <a:pt x="270" y="4021"/>
                  </a:lnTo>
                  <a:lnTo>
                    <a:pt x="224" y="4254"/>
                  </a:lnTo>
                  <a:lnTo>
                    <a:pt x="207" y="4383"/>
                  </a:lnTo>
                  <a:lnTo>
                    <a:pt x="132" y="4577"/>
                  </a:lnTo>
                  <a:lnTo>
                    <a:pt x="0" y="4830"/>
                  </a:lnTo>
                  <a:lnTo>
                    <a:pt x="240" y="4421"/>
                  </a:lnTo>
                  <a:lnTo>
                    <a:pt x="381" y="4104"/>
                  </a:lnTo>
                  <a:lnTo>
                    <a:pt x="574" y="3689"/>
                  </a:lnTo>
                  <a:lnTo>
                    <a:pt x="688" y="3368"/>
                  </a:lnTo>
                  <a:lnTo>
                    <a:pt x="780" y="2986"/>
                  </a:lnTo>
                  <a:lnTo>
                    <a:pt x="826" y="2430"/>
                  </a:lnTo>
                  <a:lnTo>
                    <a:pt x="766" y="3006"/>
                  </a:lnTo>
                  <a:lnTo>
                    <a:pt x="574" y="3592"/>
                  </a:lnTo>
                  <a:lnTo>
                    <a:pt x="305" y="4083"/>
                  </a:lnTo>
                  <a:lnTo>
                    <a:pt x="365" y="3592"/>
                  </a:lnTo>
                  <a:lnTo>
                    <a:pt x="497" y="3006"/>
                  </a:lnTo>
                  <a:lnTo>
                    <a:pt x="607" y="2718"/>
                  </a:lnTo>
                  <a:lnTo>
                    <a:pt x="730" y="1920"/>
                  </a:lnTo>
                  <a:lnTo>
                    <a:pt x="862" y="1377"/>
                  </a:lnTo>
                  <a:lnTo>
                    <a:pt x="1022" y="973"/>
                  </a:lnTo>
                  <a:lnTo>
                    <a:pt x="1229" y="692"/>
                  </a:lnTo>
                  <a:lnTo>
                    <a:pt x="1532" y="523"/>
                  </a:lnTo>
                  <a:lnTo>
                    <a:pt x="1833" y="268"/>
                  </a:lnTo>
                  <a:lnTo>
                    <a:pt x="22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7701120" y="6166080"/>
              <a:ext cx="279000" cy="194760"/>
            </a:xfrm>
            <a:custGeom>
              <a:avLst/>
              <a:gdLst/>
              <a:ahLst/>
              <a:rect l="l" t="t" r="r" b="b"/>
              <a:pathLst>
                <a:path w="3654" h="2924">
                  <a:moveTo>
                    <a:pt x="3236" y="1418"/>
                  </a:moveTo>
                  <a:lnTo>
                    <a:pt x="3179" y="1729"/>
                  </a:lnTo>
                  <a:lnTo>
                    <a:pt x="3291" y="2195"/>
                  </a:lnTo>
                  <a:lnTo>
                    <a:pt x="3543" y="2562"/>
                  </a:lnTo>
                  <a:lnTo>
                    <a:pt x="3654" y="2845"/>
                  </a:lnTo>
                  <a:lnTo>
                    <a:pt x="3432" y="2654"/>
                  </a:lnTo>
                  <a:lnTo>
                    <a:pt x="3261" y="2237"/>
                  </a:lnTo>
                  <a:lnTo>
                    <a:pt x="3192" y="1925"/>
                  </a:lnTo>
                  <a:lnTo>
                    <a:pt x="2796" y="2272"/>
                  </a:lnTo>
                  <a:lnTo>
                    <a:pt x="2796" y="2592"/>
                  </a:lnTo>
                  <a:lnTo>
                    <a:pt x="3015" y="2924"/>
                  </a:lnTo>
                  <a:lnTo>
                    <a:pt x="2777" y="2668"/>
                  </a:lnTo>
                  <a:lnTo>
                    <a:pt x="2715" y="2527"/>
                  </a:lnTo>
                  <a:lnTo>
                    <a:pt x="2683" y="2356"/>
                  </a:lnTo>
                  <a:lnTo>
                    <a:pt x="2683" y="2237"/>
                  </a:lnTo>
                  <a:lnTo>
                    <a:pt x="2733" y="2114"/>
                  </a:lnTo>
                  <a:lnTo>
                    <a:pt x="2937" y="1815"/>
                  </a:lnTo>
                  <a:lnTo>
                    <a:pt x="2983" y="1775"/>
                  </a:lnTo>
                  <a:lnTo>
                    <a:pt x="3131" y="1753"/>
                  </a:lnTo>
                  <a:lnTo>
                    <a:pt x="3131" y="1683"/>
                  </a:lnTo>
                  <a:lnTo>
                    <a:pt x="2904" y="1608"/>
                  </a:lnTo>
                  <a:lnTo>
                    <a:pt x="2808" y="1619"/>
                  </a:lnTo>
                  <a:lnTo>
                    <a:pt x="2427" y="2068"/>
                  </a:lnTo>
                  <a:lnTo>
                    <a:pt x="2505" y="1826"/>
                  </a:lnTo>
                  <a:lnTo>
                    <a:pt x="2268" y="1826"/>
                  </a:lnTo>
                  <a:lnTo>
                    <a:pt x="1579" y="2045"/>
                  </a:lnTo>
                  <a:lnTo>
                    <a:pt x="1401" y="2356"/>
                  </a:lnTo>
                  <a:lnTo>
                    <a:pt x="1309" y="2578"/>
                  </a:lnTo>
                  <a:lnTo>
                    <a:pt x="1296" y="2832"/>
                  </a:lnTo>
                  <a:lnTo>
                    <a:pt x="1265" y="2608"/>
                  </a:lnTo>
                  <a:lnTo>
                    <a:pt x="1276" y="2452"/>
                  </a:lnTo>
                  <a:lnTo>
                    <a:pt x="1447" y="2015"/>
                  </a:lnTo>
                  <a:lnTo>
                    <a:pt x="1039" y="1889"/>
                  </a:lnTo>
                  <a:lnTo>
                    <a:pt x="797" y="1859"/>
                  </a:lnTo>
                  <a:lnTo>
                    <a:pt x="493" y="1909"/>
                  </a:lnTo>
                  <a:lnTo>
                    <a:pt x="219" y="1925"/>
                  </a:lnTo>
                  <a:lnTo>
                    <a:pt x="0" y="1874"/>
                  </a:lnTo>
                  <a:lnTo>
                    <a:pt x="255" y="1889"/>
                  </a:lnTo>
                  <a:lnTo>
                    <a:pt x="529" y="1859"/>
                  </a:lnTo>
                  <a:lnTo>
                    <a:pt x="828" y="1799"/>
                  </a:lnTo>
                  <a:lnTo>
                    <a:pt x="973" y="1775"/>
                  </a:lnTo>
                  <a:lnTo>
                    <a:pt x="1199" y="1826"/>
                  </a:lnTo>
                  <a:lnTo>
                    <a:pt x="1436" y="1826"/>
                  </a:lnTo>
                  <a:lnTo>
                    <a:pt x="1639" y="1753"/>
                  </a:lnTo>
                  <a:lnTo>
                    <a:pt x="1821" y="1619"/>
                  </a:lnTo>
                  <a:lnTo>
                    <a:pt x="1982" y="1481"/>
                  </a:lnTo>
                  <a:lnTo>
                    <a:pt x="2091" y="1367"/>
                  </a:lnTo>
                  <a:lnTo>
                    <a:pt x="2224" y="1176"/>
                  </a:lnTo>
                  <a:lnTo>
                    <a:pt x="2224" y="1257"/>
                  </a:lnTo>
                  <a:lnTo>
                    <a:pt x="2634" y="1107"/>
                  </a:lnTo>
                  <a:lnTo>
                    <a:pt x="2591" y="955"/>
                  </a:lnTo>
                  <a:lnTo>
                    <a:pt x="2476" y="777"/>
                  </a:lnTo>
                  <a:lnTo>
                    <a:pt x="2314" y="648"/>
                  </a:lnTo>
                  <a:lnTo>
                    <a:pt x="2188" y="648"/>
                  </a:lnTo>
                  <a:lnTo>
                    <a:pt x="2268" y="527"/>
                  </a:lnTo>
                  <a:lnTo>
                    <a:pt x="2556" y="393"/>
                  </a:lnTo>
                  <a:lnTo>
                    <a:pt x="2746" y="316"/>
                  </a:lnTo>
                  <a:lnTo>
                    <a:pt x="2983" y="141"/>
                  </a:lnTo>
                  <a:lnTo>
                    <a:pt x="3131" y="30"/>
                  </a:lnTo>
                  <a:lnTo>
                    <a:pt x="3592" y="0"/>
                  </a:lnTo>
                  <a:lnTo>
                    <a:pt x="3573" y="30"/>
                  </a:lnTo>
                  <a:lnTo>
                    <a:pt x="3140" y="74"/>
                  </a:lnTo>
                  <a:lnTo>
                    <a:pt x="2886" y="316"/>
                  </a:lnTo>
                  <a:lnTo>
                    <a:pt x="2591" y="461"/>
                  </a:lnTo>
                  <a:lnTo>
                    <a:pt x="2492" y="478"/>
                  </a:lnTo>
                  <a:lnTo>
                    <a:pt x="2314" y="558"/>
                  </a:lnTo>
                  <a:lnTo>
                    <a:pt x="2476" y="635"/>
                  </a:lnTo>
                  <a:lnTo>
                    <a:pt x="2634" y="777"/>
                  </a:lnTo>
                  <a:lnTo>
                    <a:pt x="2733" y="916"/>
                  </a:lnTo>
                  <a:lnTo>
                    <a:pt x="2796" y="1107"/>
                  </a:lnTo>
                  <a:lnTo>
                    <a:pt x="2832" y="1386"/>
                  </a:lnTo>
                  <a:lnTo>
                    <a:pt x="3370" y="1176"/>
                  </a:lnTo>
                  <a:lnTo>
                    <a:pt x="3236" y="1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7421760" y="5735880"/>
              <a:ext cx="46800" cy="76680"/>
            </a:xfrm>
            <a:custGeom>
              <a:avLst/>
              <a:gdLst/>
              <a:ahLst/>
              <a:rect l="l" t="t" r="r" b="b"/>
              <a:pathLst>
                <a:path w="620" h="1156">
                  <a:moveTo>
                    <a:pt x="519" y="950"/>
                  </a:moveTo>
                  <a:lnTo>
                    <a:pt x="620" y="971"/>
                  </a:lnTo>
                  <a:lnTo>
                    <a:pt x="620" y="1059"/>
                  </a:lnTo>
                  <a:lnTo>
                    <a:pt x="547" y="1088"/>
                  </a:lnTo>
                  <a:lnTo>
                    <a:pt x="341" y="1098"/>
                  </a:lnTo>
                  <a:lnTo>
                    <a:pt x="242" y="1059"/>
                  </a:lnTo>
                  <a:lnTo>
                    <a:pt x="169" y="1075"/>
                  </a:lnTo>
                  <a:lnTo>
                    <a:pt x="0" y="1156"/>
                  </a:lnTo>
                  <a:lnTo>
                    <a:pt x="116" y="1015"/>
                  </a:lnTo>
                  <a:lnTo>
                    <a:pt x="305" y="909"/>
                  </a:lnTo>
                  <a:lnTo>
                    <a:pt x="429" y="978"/>
                  </a:lnTo>
                  <a:lnTo>
                    <a:pt x="464" y="964"/>
                  </a:lnTo>
                  <a:lnTo>
                    <a:pt x="452" y="782"/>
                  </a:lnTo>
                  <a:lnTo>
                    <a:pt x="429" y="540"/>
                  </a:lnTo>
                  <a:lnTo>
                    <a:pt x="393" y="293"/>
                  </a:lnTo>
                  <a:lnTo>
                    <a:pt x="305" y="24"/>
                  </a:lnTo>
                  <a:lnTo>
                    <a:pt x="351" y="0"/>
                  </a:lnTo>
                  <a:lnTo>
                    <a:pt x="413" y="202"/>
                  </a:lnTo>
                  <a:lnTo>
                    <a:pt x="464" y="540"/>
                  </a:lnTo>
                  <a:lnTo>
                    <a:pt x="489" y="941"/>
                  </a:lnTo>
                  <a:lnTo>
                    <a:pt x="519" y="9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7429320" y="5808600"/>
              <a:ext cx="23040" cy="34920"/>
            </a:xfrm>
            <a:custGeom>
              <a:avLst/>
              <a:gdLst/>
              <a:ahLst/>
              <a:rect l="l" t="t" r="r" b="b"/>
              <a:pathLst>
                <a:path w="298" h="529">
                  <a:moveTo>
                    <a:pt x="298" y="0"/>
                  </a:moveTo>
                  <a:lnTo>
                    <a:pt x="263" y="99"/>
                  </a:lnTo>
                  <a:lnTo>
                    <a:pt x="37" y="169"/>
                  </a:lnTo>
                  <a:lnTo>
                    <a:pt x="77" y="266"/>
                  </a:lnTo>
                  <a:lnTo>
                    <a:pt x="167" y="344"/>
                  </a:lnTo>
                  <a:lnTo>
                    <a:pt x="0" y="494"/>
                  </a:lnTo>
                  <a:lnTo>
                    <a:pt x="7" y="529"/>
                  </a:lnTo>
                  <a:lnTo>
                    <a:pt x="107" y="501"/>
                  </a:lnTo>
                  <a:lnTo>
                    <a:pt x="206" y="400"/>
                  </a:lnTo>
                  <a:lnTo>
                    <a:pt x="206" y="330"/>
                  </a:lnTo>
                  <a:lnTo>
                    <a:pt x="99" y="213"/>
                  </a:lnTo>
                  <a:lnTo>
                    <a:pt x="198" y="160"/>
                  </a:lnTo>
                  <a:lnTo>
                    <a:pt x="173" y="213"/>
                  </a:lnTo>
                  <a:lnTo>
                    <a:pt x="263" y="160"/>
                  </a:lnTo>
                  <a:lnTo>
                    <a:pt x="294" y="83"/>
                  </a:lnTo>
                  <a:lnTo>
                    <a:pt x="2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7421400" y="5809320"/>
              <a:ext cx="54720" cy="77760"/>
            </a:xfrm>
            <a:custGeom>
              <a:avLst/>
              <a:gdLst/>
              <a:ahLst/>
              <a:rect l="l" t="t" r="r" b="b"/>
              <a:pathLst>
                <a:path w="721" h="1164">
                  <a:moveTo>
                    <a:pt x="433" y="0"/>
                  </a:moveTo>
                  <a:lnTo>
                    <a:pt x="440" y="73"/>
                  </a:lnTo>
                  <a:lnTo>
                    <a:pt x="721" y="779"/>
                  </a:lnTo>
                  <a:lnTo>
                    <a:pt x="679" y="846"/>
                  </a:lnTo>
                  <a:lnTo>
                    <a:pt x="599" y="878"/>
                  </a:lnTo>
                  <a:lnTo>
                    <a:pt x="373" y="864"/>
                  </a:lnTo>
                  <a:lnTo>
                    <a:pt x="295" y="899"/>
                  </a:lnTo>
                  <a:lnTo>
                    <a:pt x="242" y="1095"/>
                  </a:lnTo>
                  <a:lnTo>
                    <a:pt x="0" y="1164"/>
                  </a:lnTo>
                  <a:lnTo>
                    <a:pt x="11" y="1084"/>
                  </a:lnTo>
                  <a:lnTo>
                    <a:pt x="76" y="1095"/>
                  </a:lnTo>
                  <a:lnTo>
                    <a:pt x="217" y="1065"/>
                  </a:lnTo>
                  <a:lnTo>
                    <a:pt x="265" y="882"/>
                  </a:lnTo>
                  <a:lnTo>
                    <a:pt x="202" y="832"/>
                  </a:lnTo>
                  <a:lnTo>
                    <a:pt x="217" y="814"/>
                  </a:lnTo>
                  <a:lnTo>
                    <a:pt x="362" y="779"/>
                  </a:lnTo>
                  <a:lnTo>
                    <a:pt x="518" y="814"/>
                  </a:lnTo>
                  <a:lnTo>
                    <a:pt x="606" y="802"/>
                  </a:lnTo>
                  <a:lnTo>
                    <a:pt x="679" y="756"/>
                  </a:lnTo>
                  <a:lnTo>
                    <a:pt x="449" y="194"/>
                  </a:lnTo>
                  <a:lnTo>
                    <a:pt x="373" y="97"/>
                  </a:lnTo>
                  <a:lnTo>
                    <a:pt x="4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7414560" y="5848200"/>
              <a:ext cx="25560" cy="52200"/>
            </a:xfrm>
            <a:custGeom>
              <a:avLst/>
              <a:gdLst/>
              <a:ahLst/>
              <a:rect l="l" t="t" r="r" b="b"/>
              <a:pathLst>
                <a:path w="339" h="788">
                  <a:moveTo>
                    <a:pt x="339" y="0"/>
                  </a:moveTo>
                  <a:lnTo>
                    <a:pt x="319" y="120"/>
                  </a:lnTo>
                  <a:lnTo>
                    <a:pt x="288" y="209"/>
                  </a:lnTo>
                  <a:lnTo>
                    <a:pt x="233" y="283"/>
                  </a:lnTo>
                  <a:lnTo>
                    <a:pt x="152" y="382"/>
                  </a:lnTo>
                  <a:lnTo>
                    <a:pt x="97" y="428"/>
                  </a:lnTo>
                  <a:lnTo>
                    <a:pt x="72" y="391"/>
                  </a:lnTo>
                  <a:lnTo>
                    <a:pt x="42" y="583"/>
                  </a:lnTo>
                  <a:lnTo>
                    <a:pt x="0" y="788"/>
                  </a:lnTo>
                  <a:lnTo>
                    <a:pt x="97" y="599"/>
                  </a:lnTo>
                  <a:lnTo>
                    <a:pt x="127" y="463"/>
                  </a:lnTo>
                  <a:lnTo>
                    <a:pt x="266" y="329"/>
                  </a:lnTo>
                  <a:lnTo>
                    <a:pt x="319" y="221"/>
                  </a:lnTo>
                  <a:lnTo>
                    <a:pt x="339" y="101"/>
                  </a:lnTo>
                  <a:lnTo>
                    <a:pt x="3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7419960" y="5884560"/>
              <a:ext cx="16200" cy="9000"/>
            </a:xfrm>
            <a:custGeom>
              <a:avLst/>
              <a:gdLst/>
              <a:ahLst/>
              <a:rect l="l" t="t" r="r" b="b"/>
              <a:pathLst>
                <a:path w="216" h="137">
                  <a:moveTo>
                    <a:pt x="49" y="0"/>
                  </a:moveTo>
                  <a:lnTo>
                    <a:pt x="216" y="117"/>
                  </a:lnTo>
                  <a:lnTo>
                    <a:pt x="216" y="137"/>
                  </a:lnTo>
                  <a:lnTo>
                    <a:pt x="0" y="61"/>
                  </a:lnTo>
                  <a:lnTo>
                    <a:pt x="0" y="6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7425000" y="5902200"/>
              <a:ext cx="11880" cy="9000"/>
            </a:xfrm>
            <a:custGeom>
              <a:avLst/>
              <a:gdLst/>
              <a:ahLst/>
              <a:rect l="l" t="t" r="r" b="b"/>
              <a:pathLst>
                <a:path w="159" h="136">
                  <a:moveTo>
                    <a:pt x="152" y="0"/>
                  </a:moveTo>
                  <a:lnTo>
                    <a:pt x="0" y="31"/>
                  </a:lnTo>
                  <a:lnTo>
                    <a:pt x="0" y="97"/>
                  </a:lnTo>
                  <a:lnTo>
                    <a:pt x="67" y="136"/>
                  </a:lnTo>
                  <a:lnTo>
                    <a:pt x="159" y="31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7179840" y="5824080"/>
              <a:ext cx="249120" cy="125640"/>
            </a:xfrm>
            <a:custGeom>
              <a:avLst/>
              <a:gdLst/>
              <a:ahLst/>
              <a:rect l="l" t="t" r="r" b="b"/>
              <a:pathLst>
                <a:path w="3264" h="1881">
                  <a:moveTo>
                    <a:pt x="3264" y="1419"/>
                  </a:moveTo>
                  <a:lnTo>
                    <a:pt x="3264" y="1489"/>
                  </a:lnTo>
                  <a:lnTo>
                    <a:pt x="3204" y="1586"/>
                  </a:lnTo>
                  <a:lnTo>
                    <a:pt x="3082" y="1626"/>
                  </a:lnTo>
                  <a:lnTo>
                    <a:pt x="2943" y="1617"/>
                  </a:lnTo>
                  <a:lnTo>
                    <a:pt x="2679" y="1593"/>
                  </a:lnTo>
                  <a:lnTo>
                    <a:pt x="2515" y="1617"/>
                  </a:lnTo>
                  <a:lnTo>
                    <a:pt x="2400" y="1687"/>
                  </a:lnTo>
                  <a:lnTo>
                    <a:pt x="2646" y="1881"/>
                  </a:lnTo>
                  <a:lnTo>
                    <a:pt x="2086" y="1531"/>
                  </a:lnTo>
                  <a:lnTo>
                    <a:pt x="1563" y="1226"/>
                  </a:lnTo>
                  <a:lnTo>
                    <a:pt x="1058" y="920"/>
                  </a:lnTo>
                  <a:lnTo>
                    <a:pt x="602" y="775"/>
                  </a:lnTo>
                  <a:lnTo>
                    <a:pt x="390" y="718"/>
                  </a:lnTo>
                  <a:lnTo>
                    <a:pt x="752" y="800"/>
                  </a:lnTo>
                  <a:lnTo>
                    <a:pt x="1183" y="920"/>
                  </a:lnTo>
                  <a:lnTo>
                    <a:pt x="1533" y="1139"/>
                  </a:lnTo>
                  <a:lnTo>
                    <a:pt x="1381" y="839"/>
                  </a:lnTo>
                  <a:lnTo>
                    <a:pt x="1067" y="593"/>
                  </a:lnTo>
                  <a:lnTo>
                    <a:pt x="655" y="410"/>
                  </a:lnTo>
                  <a:lnTo>
                    <a:pt x="231" y="316"/>
                  </a:lnTo>
                  <a:lnTo>
                    <a:pt x="0" y="551"/>
                  </a:lnTo>
                  <a:lnTo>
                    <a:pt x="196" y="270"/>
                  </a:lnTo>
                  <a:lnTo>
                    <a:pt x="602" y="351"/>
                  </a:lnTo>
                  <a:lnTo>
                    <a:pt x="1026" y="496"/>
                  </a:lnTo>
                  <a:lnTo>
                    <a:pt x="1446" y="751"/>
                  </a:lnTo>
                  <a:lnTo>
                    <a:pt x="1734" y="1012"/>
                  </a:lnTo>
                  <a:lnTo>
                    <a:pt x="1957" y="1270"/>
                  </a:lnTo>
                  <a:lnTo>
                    <a:pt x="1673" y="775"/>
                  </a:lnTo>
                  <a:lnTo>
                    <a:pt x="1914" y="1067"/>
                  </a:lnTo>
                  <a:lnTo>
                    <a:pt x="1914" y="839"/>
                  </a:lnTo>
                  <a:lnTo>
                    <a:pt x="1807" y="661"/>
                  </a:lnTo>
                  <a:lnTo>
                    <a:pt x="1807" y="551"/>
                  </a:lnTo>
                  <a:lnTo>
                    <a:pt x="1673" y="399"/>
                  </a:lnTo>
                  <a:lnTo>
                    <a:pt x="1600" y="242"/>
                  </a:lnTo>
                  <a:lnTo>
                    <a:pt x="1543" y="53"/>
                  </a:lnTo>
                  <a:lnTo>
                    <a:pt x="1591" y="0"/>
                  </a:lnTo>
                  <a:lnTo>
                    <a:pt x="1607" y="138"/>
                  </a:lnTo>
                  <a:lnTo>
                    <a:pt x="1683" y="316"/>
                  </a:lnTo>
                  <a:lnTo>
                    <a:pt x="1778" y="424"/>
                  </a:lnTo>
                  <a:lnTo>
                    <a:pt x="1866" y="535"/>
                  </a:lnTo>
                  <a:lnTo>
                    <a:pt x="1914" y="558"/>
                  </a:lnTo>
                  <a:lnTo>
                    <a:pt x="1987" y="551"/>
                  </a:lnTo>
                  <a:lnTo>
                    <a:pt x="2066" y="480"/>
                  </a:lnTo>
                  <a:lnTo>
                    <a:pt x="2086" y="602"/>
                  </a:lnTo>
                  <a:lnTo>
                    <a:pt x="2061" y="718"/>
                  </a:lnTo>
                  <a:lnTo>
                    <a:pt x="2013" y="782"/>
                  </a:lnTo>
                  <a:lnTo>
                    <a:pt x="1965" y="800"/>
                  </a:lnTo>
                  <a:lnTo>
                    <a:pt x="2031" y="984"/>
                  </a:lnTo>
                  <a:lnTo>
                    <a:pt x="2086" y="1160"/>
                  </a:lnTo>
                  <a:lnTo>
                    <a:pt x="2255" y="1067"/>
                  </a:lnTo>
                  <a:lnTo>
                    <a:pt x="2156" y="839"/>
                  </a:lnTo>
                  <a:lnTo>
                    <a:pt x="2280" y="1035"/>
                  </a:lnTo>
                  <a:lnTo>
                    <a:pt x="2365" y="1052"/>
                  </a:lnTo>
                  <a:lnTo>
                    <a:pt x="2495" y="1052"/>
                  </a:lnTo>
                  <a:lnTo>
                    <a:pt x="2635" y="1234"/>
                  </a:lnTo>
                  <a:lnTo>
                    <a:pt x="2741" y="1300"/>
                  </a:lnTo>
                  <a:lnTo>
                    <a:pt x="2852" y="1277"/>
                  </a:lnTo>
                  <a:lnTo>
                    <a:pt x="3068" y="1173"/>
                  </a:lnTo>
                  <a:lnTo>
                    <a:pt x="3082" y="1347"/>
                  </a:lnTo>
                  <a:lnTo>
                    <a:pt x="3140" y="1507"/>
                  </a:lnTo>
                  <a:lnTo>
                    <a:pt x="3204" y="1507"/>
                  </a:lnTo>
                  <a:lnTo>
                    <a:pt x="3248" y="1467"/>
                  </a:lnTo>
                  <a:lnTo>
                    <a:pt x="3264" y="14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7205400" y="5668200"/>
              <a:ext cx="261000" cy="176040"/>
            </a:xfrm>
            <a:custGeom>
              <a:avLst/>
              <a:gdLst/>
              <a:ahLst/>
              <a:rect l="l" t="t" r="r" b="b"/>
              <a:pathLst>
                <a:path w="3415" h="2637">
                  <a:moveTo>
                    <a:pt x="3195" y="1078"/>
                  </a:moveTo>
                  <a:lnTo>
                    <a:pt x="3340" y="1037"/>
                  </a:lnTo>
                  <a:lnTo>
                    <a:pt x="3415" y="882"/>
                  </a:lnTo>
                  <a:lnTo>
                    <a:pt x="3380" y="721"/>
                  </a:lnTo>
                  <a:lnTo>
                    <a:pt x="3198" y="547"/>
                  </a:lnTo>
                  <a:lnTo>
                    <a:pt x="3009" y="477"/>
                  </a:lnTo>
                  <a:lnTo>
                    <a:pt x="2778" y="299"/>
                  </a:lnTo>
                  <a:lnTo>
                    <a:pt x="2418" y="119"/>
                  </a:lnTo>
                  <a:lnTo>
                    <a:pt x="1996" y="0"/>
                  </a:lnTo>
                  <a:lnTo>
                    <a:pt x="1457" y="46"/>
                  </a:lnTo>
                  <a:lnTo>
                    <a:pt x="1033" y="167"/>
                  </a:lnTo>
                  <a:lnTo>
                    <a:pt x="798" y="279"/>
                  </a:lnTo>
                  <a:lnTo>
                    <a:pt x="514" y="444"/>
                  </a:lnTo>
                  <a:lnTo>
                    <a:pt x="145" y="1078"/>
                  </a:lnTo>
                  <a:lnTo>
                    <a:pt x="81" y="1490"/>
                  </a:lnTo>
                  <a:lnTo>
                    <a:pt x="145" y="1963"/>
                  </a:lnTo>
                  <a:lnTo>
                    <a:pt x="90" y="2228"/>
                  </a:lnTo>
                  <a:lnTo>
                    <a:pt x="0" y="2637"/>
                  </a:lnTo>
                  <a:lnTo>
                    <a:pt x="97" y="2439"/>
                  </a:lnTo>
                  <a:lnTo>
                    <a:pt x="288" y="2415"/>
                  </a:lnTo>
                  <a:lnTo>
                    <a:pt x="479" y="1756"/>
                  </a:lnTo>
                  <a:lnTo>
                    <a:pt x="212" y="2101"/>
                  </a:lnTo>
                  <a:lnTo>
                    <a:pt x="127" y="1426"/>
                  </a:lnTo>
                  <a:lnTo>
                    <a:pt x="196" y="1068"/>
                  </a:lnTo>
                  <a:lnTo>
                    <a:pt x="535" y="497"/>
                  </a:lnTo>
                  <a:lnTo>
                    <a:pt x="873" y="255"/>
                  </a:lnTo>
                  <a:lnTo>
                    <a:pt x="1395" y="75"/>
                  </a:lnTo>
                  <a:lnTo>
                    <a:pt x="1923" y="52"/>
                  </a:lnTo>
                  <a:lnTo>
                    <a:pt x="2503" y="218"/>
                  </a:lnTo>
                  <a:lnTo>
                    <a:pt x="2863" y="419"/>
                  </a:lnTo>
                  <a:lnTo>
                    <a:pt x="3024" y="547"/>
                  </a:lnTo>
                  <a:lnTo>
                    <a:pt x="3226" y="617"/>
                  </a:lnTo>
                  <a:lnTo>
                    <a:pt x="3352" y="753"/>
                  </a:lnTo>
                  <a:lnTo>
                    <a:pt x="3358" y="882"/>
                  </a:lnTo>
                  <a:lnTo>
                    <a:pt x="3306" y="949"/>
                  </a:lnTo>
                  <a:lnTo>
                    <a:pt x="3151" y="1037"/>
                  </a:lnTo>
                  <a:lnTo>
                    <a:pt x="3195" y="10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7216560" y="5680080"/>
              <a:ext cx="242640" cy="178200"/>
            </a:xfrm>
            <a:custGeom>
              <a:avLst/>
              <a:gdLst/>
              <a:ahLst/>
              <a:rect l="l" t="t" r="r" b="b"/>
              <a:pathLst>
                <a:path w="3177" h="2674">
                  <a:moveTo>
                    <a:pt x="3039" y="881"/>
                  </a:moveTo>
                  <a:lnTo>
                    <a:pt x="3177" y="784"/>
                  </a:lnTo>
                  <a:lnTo>
                    <a:pt x="3172" y="664"/>
                  </a:lnTo>
                  <a:lnTo>
                    <a:pt x="3039" y="494"/>
                  </a:lnTo>
                  <a:lnTo>
                    <a:pt x="3011" y="565"/>
                  </a:lnTo>
                  <a:lnTo>
                    <a:pt x="2886" y="472"/>
                  </a:lnTo>
                  <a:lnTo>
                    <a:pt x="2421" y="420"/>
                  </a:lnTo>
                  <a:lnTo>
                    <a:pt x="2220" y="420"/>
                  </a:lnTo>
                  <a:lnTo>
                    <a:pt x="2567" y="355"/>
                  </a:lnTo>
                  <a:lnTo>
                    <a:pt x="2580" y="296"/>
                  </a:lnTo>
                  <a:lnTo>
                    <a:pt x="2255" y="136"/>
                  </a:lnTo>
                  <a:lnTo>
                    <a:pt x="1840" y="0"/>
                  </a:lnTo>
                  <a:lnTo>
                    <a:pt x="1312" y="7"/>
                  </a:lnTo>
                  <a:lnTo>
                    <a:pt x="826" y="166"/>
                  </a:lnTo>
                  <a:lnTo>
                    <a:pt x="510" y="408"/>
                  </a:lnTo>
                  <a:lnTo>
                    <a:pt x="309" y="733"/>
                  </a:lnTo>
                  <a:lnTo>
                    <a:pt x="233" y="975"/>
                  </a:lnTo>
                  <a:lnTo>
                    <a:pt x="233" y="1230"/>
                  </a:lnTo>
                  <a:lnTo>
                    <a:pt x="279" y="1464"/>
                  </a:lnTo>
                  <a:lnTo>
                    <a:pt x="279" y="1658"/>
                  </a:lnTo>
                  <a:lnTo>
                    <a:pt x="0" y="2257"/>
                  </a:lnTo>
                  <a:lnTo>
                    <a:pt x="275" y="2271"/>
                  </a:lnTo>
                  <a:lnTo>
                    <a:pt x="528" y="2456"/>
                  </a:lnTo>
                  <a:lnTo>
                    <a:pt x="756" y="2674"/>
                  </a:lnTo>
                  <a:lnTo>
                    <a:pt x="877" y="2557"/>
                  </a:lnTo>
                  <a:lnTo>
                    <a:pt x="952" y="2364"/>
                  </a:lnTo>
                  <a:lnTo>
                    <a:pt x="1123" y="2225"/>
                  </a:lnTo>
                  <a:lnTo>
                    <a:pt x="1114" y="1980"/>
                  </a:lnTo>
                  <a:lnTo>
                    <a:pt x="1183" y="1769"/>
                  </a:lnTo>
                  <a:lnTo>
                    <a:pt x="1319" y="1694"/>
                  </a:lnTo>
                  <a:lnTo>
                    <a:pt x="1437" y="1709"/>
                  </a:lnTo>
                  <a:lnTo>
                    <a:pt x="1497" y="1780"/>
                  </a:lnTo>
                  <a:lnTo>
                    <a:pt x="1554" y="1914"/>
                  </a:lnTo>
                  <a:lnTo>
                    <a:pt x="1875" y="2034"/>
                  </a:lnTo>
                  <a:lnTo>
                    <a:pt x="2009" y="1780"/>
                  </a:lnTo>
                  <a:lnTo>
                    <a:pt x="2525" y="1549"/>
                  </a:lnTo>
                  <a:lnTo>
                    <a:pt x="2516" y="1367"/>
                  </a:lnTo>
                  <a:lnTo>
                    <a:pt x="2421" y="1230"/>
                  </a:lnTo>
                  <a:lnTo>
                    <a:pt x="2490" y="1167"/>
                  </a:lnTo>
                  <a:lnTo>
                    <a:pt x="2455" y="832"/>
                  </a:lnTo>
                  <a:lnTo>
                    <a:pt x="2615" y="814"/>
                  </a:lnTo>
                  <a:lnTo>
                    <a:pt x="2824" y="832"/>
                  </a:lnTo>
                  <a:lnTo>
                    <a:pt x="3006" y="870"/>
                  </a:lnTo>
                  <a:lnTo>
                    <a:pt x="3039" y="8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7411680" y="5770080"/>
              <a:ext cx="8280" cy="40320"/>
            </a:xfrm>
            <a:custGeom>
              <a:avLst/>
              <a:gdLst/>
              <a:ahLst/>
              <a:rect l="l" t="t" r="r" b="b"/>
              <a:pathLst>
                <a:path w="111" h="609">
                  <a:moveTo>
                    <a:pt x="53" y="609"/>
                  </a:moveTo>
                  <a:lnTo>
                    <a:pt x="0" y="459"/>
                  </a:lnTo>
                  <a:lnTo>
                    <a:pt x="39" y="307"/>
                  </a:lnTo>
                  <a:lnTo>
                    <a:pt x="0" y="0"/>
                  </a:lnTo>
                  <a:lnTo>
                    <a:pt x="111" y="466"/>
                  </a:lnTo>
                  <a:lnTo>
                    <a:pt x="105" y="563"/>
                  </a:lnTo>
                  <a:lnTo>
                    <a:pt x="53" y="6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7310160" y="5803920"/>
              <a:ext cx="26280" cy="43560"/>
            </a:xfrm>
            <a:custGeom>
              <a:avLst/>
              <a:gdLst/>
              <a:ahLst/>
              <a:rect l="l" t="t" r="r" b="b"/>
              <a:pathLst>
                <a:path w="343" h="655">
                  <a:moveTo>
                    <a:pt x="266" y="172"/>
                  </a:moveTo>
                  <a:lnTo>
                    <a:pt x="343" y="60"/>
                  </a:lnTo>
                  <a:lnTo>
                    <a:pt x="275" y="0"/>
                  </a:lnTo>
                  <a:lnTo>
                    <a:pt x="132" y="0"/>
                  </a:lnTo>
                  <a:lnTo>
                    <a:pt x="28" y="113"/>
                  </a:lnTo>
                  <a:lnTo>
                    <a:pt x="0" y="327"/>
                  </a:lnTo>
                  <a:lnTo>
                    <a:pt x="79" y="106"/>
                  </a:lnTo>
                  <a:lnTo>
                    <a:pt x="196" y="83"/>
                  </a:lnTo>
                  <a:lnTo>
                    <a:pt x="108" y="277"/>
                  </a:lnTo>
                  <a:lnTo>
                    <a:pt x="108" y="429"/>
                  </a:lnTo>
                  <a:lnTo>
                    <a:pt x="60" y="417"/>
                  </a:lnTo>
                  <a:lnTo>
                    <a:pt x="23" y="387"/>
                  </a:lnTo>
                  <a:lnTo>
                    <a:pt x="60" y="523"/>
                  </a:lnTo>
                  <a:lnTo>
                    <a:pt x="132" y="655"/>
                  </a:lnTo>
                  <a:lnTo>
                    <a:pt x="119" y="539"/>
                  </a:lnTo>
                  <a:lnTo>
                    <a:pt x="189" y="484"/>
                  </a:lnTo>
                  <a:lnTo>
                    <a:pt x="297" y="558"/>
                  </a:lnTo>
                  <a:lnTo>
                    <a:pt x="316" y="523"/>
                  </a:lnTo>
                  <a:lnTo>
                    <a:pt x="297" y="473"/>
                  </a:lnTo>
                  <a:lnTo>
                    <a:pt x="332" y="387"/>
                  </a:lnTo>
                  <a:lnTo>
                    <a:pt x="314" y="304"/>
                  </a:lnTo>
                  <a:lnTo>
                    <a:pt x="240" y="297"/>
                  </a:lnTo>
                  <a:lnTo>
                    <a:pt x="224" y="207"/>
                  </a:lnTo>
                  <a:lnTo>
                    <a:pt x="266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7321680" y="5841720"/>
              <a:ext cx="10800" cy="11520"/>
            </a:xfrm>
            <a:custGeom>
              <a:avLst/>
              <a:gdLst/>
              <a:ahLst/>
              <a:rect l="l" t="t" r="r" b="b"/>
              <a:pathLst>
                <a:path w="143" h="175">
                  <a:moveTo>
                    <a:pt x="0" y="90"/>
                  </a:moveTo>
                  <a:lnTo>
                    <a:pt x="86" y="0"/>
                  </a:lnTo>
                  <a:lnTo>
                    <a:pt x="143" y="20"/>
                  </a:lnTo>
                  <a:lnTo>
                    <a:pt x="104" y="175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7439760" y="5839560"/>
              <a:ext cx="15480" cy="11520"/>
            </a:xfrm>
            <a:custGeom>
              <a:avLst/>
              <a:gdLst/>
              <a:ahLst/>
              <a:rect l="l" t="t" r="r" b="b"/>
              <a:pathLst>
                <a:path w="207" h="175">
                  <a:moveTo>
                    <a:pt x="11" y="132"/>
                  </a:moveTo>
                  <a:lnTo>
                    <a:pt x="207" y="175"/>
                  </a:lnTo>
                  <a:lnTo>
                    <a:pt x="0" y="0"/>
                  </a:lnTo>
                  <a:lnTo>
                    <a:pt x="11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7102440" y="5868000"/>
              <a:ext cx="72360" cy="73080"/>
            </a:xfrm>
            <a:custGeom>
              <a:avLst/>
              <a:gdLst/>
              <a:ahLst/>
              <a:rect l="l" t="t" r="r" b="b"/>
              <a:pathLst>
                <a:path w="947" h="1096">
                  <a:moveTo>
                    <a:pt x="947" y="0"/>
                  </a:moveTo>
                  <a:lnTo>
                    <a:pt x="628" y="164"/>
                  </a:lnTo>
                  <a:lnTo>
                    <a:pt x="167" y="643"/>
                  </a:lnTo>
                  <a:lnTo>
                    <a:pt x="0" y="883"/>
                  </a:lnTo>
                  <a:lnTo>
                    <a:pt x="0" y="1096"/>
                  </a:lnTo>
                  <a:lnTo>
                    <a:pt x="270" y="672"/>
                  </a:lnTo>
                  <a:lnTo>
                    <a:pt x="628" y="235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7102440" y="5960520"/>
              <a:ext cx="769320" cy="399600"/>
            </a:xfrm>
            <a:custGeom>
              <a:avLst/>
              <a:gdLst/>
              <a:ahLst/>
              <a:rect l="l" t="t" r="r" b="b"/>
              <a:pathLst>
                <a:path w="10071" h="5987">
                  <a:moveTo>
                    <a:pt x="3078" y="337"/>
                  </a:moveTo>
                  <a:lnTo>
                    <a:pt x="2554" y="961"/>
                  </a:lnTo>
                  <a:lnTo>
                    <a:pt x="2043" y="1895"/>
                  </a:lnTo>
                  <a:lnTo>
                    <a:pt x="989" y="2609"/>
                  </a:lnTo>
                  <a:lnTo>
                    <a:pt x="508" y="2393"/>
                  </a:lnTo>
                  <a:lnTo>
                    <a:pt x="0" y="2301"/>
                  </a:lnTo>
                  <a:lnTo>
                    <a:pt x="413" y="2423"/>
                  </a:lnTo>
                  <a:lnTo>
                    <a:pt x="796" y="2635"/>
                  </a:lnTo>
                  <a:lnTo>
                    <a:pt x="1109" y="2900"/>
                  </a:lnTo>
                  <a:lnTo>
                    <a:pt x="1446" y="3279"/>
                  </a:lnTo>
                  <a:lnTo>
                    <a:pt x="1758" y="3760"/>
                  </a:lnTo>
                  <a:lnTo>
                    <a:pt x="2119" y="4719"/>
                  </a:lnTo>
                  <a:lnTo>
                    <a:pt x="2336" y="5343"/>
                  </a:lnTo>
                  <a:lnTo>
                    <a:pt x="2457" y="5987"/>
                  </a:lnTo>
                  <a:lnTo>
                    <a:pt x="3945" y="5987"/>
                  </a:lnTo>
                  <a:lnTo>
                    <a:pt x="2982" y="4482"/>
                  </a:lnTo>
                  <a:lnTo>
                    <a:pt x="2527" y="3187"/>
                  </a:lnTo>
                  <a:lnTo>
                    <a:pt x="2578" y="2444"/>
                  </a:lnTo>
                  <a:lnTo>
                    <a:pt x="2624" y="3158"/>
                  </a:lnTo>
                  <a:lnTo>
                    <a:pt x="3052" y="4288"/>
                  </a:lnTo>
                  <a:lnTo>
                    <a:pt x="3991" y="5701"/>
                  </a:lnTo>
                  <a:lnTo>
                    <a:pt x="4281" y="5750"/>
                  </a:lnTo>
                  <a:lnTo>
                    <a:pt x="4378" y="5987"/>
                  </a:lnTo>
                  <a:lnTo>
                    <a:pt x="8152" y="5987"/>
                  </a:lnTo>
                  <a:lnTo>
                    <a:pt x="8322" y="5892"/>
                  </a:lnTo>
                  <a:lnTo>
                    <a:pt x="8722" y="5701"/>
                  </a:lnTo>
                  <a:lnTo>
                    <a:pt x="9113" y="5674"/>
                  </a:lnTo>
                  <a:lnTo>
                    <a:pt x="9135" y="5604"/>
                  </a:lnTo>
                  <a:lnTo>
                    <a:pt x="8843" y="5534"/>
                  </a:lnTo>
                  <a:lnTo>
                    <a:pt x="8530" y="5358"/>
                  </a:lnTo>
                  <a:lnTo>
                    <a:pt x="8242" y="5173"/>
                  </a:lnTo>
                  <a:lnTo>
                    <a:pt x="7839" y="5097"/>
                  </a:lnTo>
                  <a:lnTo>
                    <a:pt x="7546" y="5002"/>
                  </a:lnTo>
                  <a:lnTo>
                    <a:pt x="7168" y="4956"/>
                  </a:lnTo>
                  <a:lnTo>
                    <a:pt x="7168" y="4885"/>
                  </a:lnTo>
                  <a:lnTo>
                    <a:pt x="7452" y="4811"/>
                  </a:lnTo>
                  <a:lnTo>
                    <a:pt x="7767" y="4811"/>
                  </a:lnTo>
                  <a:lnTo>
                    <a:pt x="8080" y="4719"/>
                  </a:lnTo>
                  <a:lnTo>
                    <a:pt x="8652" y="4624"/>
                  </a:lnTo>
                  <a:lnTo>
                    <a:pt x="8992" y="4530"/>
                  </a:lnTo>
                  <a:lnTo>
                    <a:pt x="8821" y="4530"/>
                  </a:lnTo>
                  <a:lnTo>
                    <a:pt x="8627" y="4602"/>
                  </a:lnTo>
                  <a:lnTo>
                    <a:pt x="8339" y="4644"/>
                  </a:lnTo>
                  <a:lnTo>
                    <a:pt x="8030" y="4666"/>
                  </a:lnTo>
                  <a:lnTo>
                    <a:pt x="7818" y="4736"/>
                  </a:lnTo>
                  <a:lnTo>
                    <a:pt x="7818" y="4644"/>
                  </a:lnTo>
                  <a:lnTo>
                    <a:pt x="7931" y="4530"/>
                  </a:lnTo>
                  <a:lnTo>
                    <a:pt x="8201" y="4339"/>
                  </a:lnTo>
                  <a:lnTo>
                    <a:pt x="9234" y="4069"/>
                  </a:lnTo>
                  <a:lnTo>
                    <a:pt x="10071" y="3735"/>
                  </a:lnTo>
                  <a:lnTo>
                    <a:pt x="9159" y="4069"/>
                  </a:lnTo>
                  <a:lnTo>
                    <a:pt x="8516" y="4165"/>
                  </a:lnTo>
                  <a:lnTo>
                    <a:pt x="8272" y="4218"/>
                  </a:lnTo>
                  <a:lnTo>
                    <a:pt x="6778" y="4218"/>
                  </a:lnTo>
                  <a:lnTo>
                    <a:pt x="7117" y="4023"/>
                  </a:lnTo>
                  <a:lnTo>
                    <a:pt x="7382" y="3976"/>
                  </a:lnTo>
                  <a:lnTo>
                    <a:pt x="7594" y="3877"/>
                  </a:lnTo>
                  <a:lnTo>
                    <a:pt x="7670" y="3827"/>
                  </a:lnTo>
                  <a:lnTo>
                    <a:pt x="7670" y="3710"/>
                  </a:lnTo>
                  <a:lnTo>
                    <a:pt x="7643" y="3664"/>
                  </a:lnTo>
                  <a:lnTo>
                    <a:pt x="7522" y="3640"/>
                  </a:lnTo>
                  <a:lnTo>
                    <a:pt x="7474" y="3735"/>
                  </a:lnTo>
                  <a:lnTo>
                    <a:pt x="7353" y="3785"/>
                  </a:lnTo>
                  <a:lnTo>
                    <a:pt x="6832" y="3735"/>
                  </a:lnTo>
                  <a:lnTo>
                    <a:pt x="6685" y="3594"/>
                  </a:lnTo>
                  <a:lnTo>
                    <a:pt x="6731" y="3804"/>
                  </a:lnTo>
                  <a:lnTo>
                    <a:pt x="6731" y="3976"/>
                  </a:lnTo>
                  <a:lnTo>
                    <a:pt x="6661" y="4218"/>
                  </a:lnTo>
                  <a:lnTo>
                    <a:pt x="6661" y="3976"/>
                  </a:lnTo>
                  <a:lnTo>
                    <a:pt x="6441" y="3710"/>
                  </a:lnTo>
                  <a:lnTo>
                    <a:pt x="6589" y="4023"/>
                  </a:lnTo>
                  <a:lnTo>
                    <a:pt x="6589" y="4311"/>
                  </a:lnTo>
                  <a:lnTo>
                    <a:pt x="5434" y="5026"/>
                  </a:lnTo>
                  <a:lnTo>
                    <a:pt x="5265" y="4574"/>
                  </a:lnTo>
                  <a:lnTo>
                    <a:pt x="5265" y="3877"/>
                  </a:lnTo>
                  <a:lnTo>
                    <a:pt x="5602" y="3710"/>
                  </a:lnTo>
                  <a:lnTo>
                    <a:pt x="6107" y="3594"/>
                  </a:lnTo>
                  <a:lnTo>
                    <a:pt x="5773" y="3521"/>
                  </a:lnTo>
                  <a:lnTo>
                    <a:pt x="6056" y="3279"/>
                  </a:lnTo>
                  <a:lnTo>
                    <a:pt x="5173" y="3760"/>
                  </a:lnTo>
                  <a:lnTo>
                    <a:pt x="4810" y="3187"/>
                  </a:lnTo>
                  <a:lnTo>
                    <a:pt x="4666" y="1754"/>
                  </a:lnTo>
                  <a:lnTo>
                    <a:pt x="4500" y="790"/>
                  </a:lnTo>
                  <a:lnTo>
                    <a:pt x="4256" y="242"/>
                  </a:lnTo>
                  <a:lnTo>
                    <a:pt x="3964" y="0"/>
                  </a:lnTo>
                  <a:lnTo>
                    <a:pt x="4187" y="242"/>
                  </a:lnTo>
                  <a:lnTo>
                    <a:pt x="4424" y="693"/>
                  </a:lnTo>
                  <a:lnTo>
                    <a:pt x="4544" y="1271"/>
                  </a:lnTo>
                  <a:lnTo>
                    <a:pt x="4620" y="2181"/>
                  </a:lnTo>
                  <a:lnTo>
                    <a:pt x="4712" y="3140"/>
                  </a:lnTo>
                  <a:lnTo>
                    <a:pt x="3611" y="1531"/>
                  </a:lnTo>
                  <a:lnTo>
                    <a:pt x="4019" y="2469"/>
                  </a:lnTo>
                  <a:lnTo>
                    <a:pt x="4782" y="3543"/>
                  </a:lnTo>
                  <a:lnTo>
                    <a:pt x="4782" y="3947"/>
                  </a:lnTo>
                  <a:lnTo>
                    <a:pt x="4544" y="4549"/>
                  </a:lnTo>
                  <a:lnTo>
                    <a:pt x="5047" y="3947"/>
                  </a:lnTo>
                  <a:lnTo>
                    <a:pt x="5148" y="4288"/>
                  </a:lnTo>
                  <a:lnTo>
                    <a:pt x="5148" y="4574"/>
                  </a:lnTo>
                  <a:lnTo>
                    <a:pt x="4666" y="5125"/>
                  </a:lnTo>
                  <a:lnTo>
                    <a:pt x="4208" y="4736"/>
                  </a:lnTo>
                  <a:lnTo>
                    <a:pt x="3964" y="4908"/>
                  </a:lnTo>
                  <a:lnTo>
                    <a:pt x="3899" y="4811"/>
                  </a:lnTo>
                  <a:lnTo>
                    <a:pt x="4019" y="4359"/>
                  </a:lnTo>
                  <a:lnTo>
                    <a:pt x="3991" y="4189"/>
                  </a:lnTo>
                  <a:lnTo>
                    <a:pt x="2744" y="2589"/>
                  </a:lnTo>
                  <a:lnTo>
                    <a:pt x="2716" y="2324"/>
                  </a:lnTo>
                  <a:lnTo>
                    <a:pt x="2716" y="1824"/>
                  </a:lnTo>
                  <a:lnTo>
                    <a:pt x="2767" y="1339"/>
                  </a:lnTo>
                  <a:lnTo>
                    <a:pt x="2883" y="840"/>
                  </a:lnTo>
                  <a:lnTo>
                    <a:pt x="3078" y="482"/>
                  </a:lnTo>
                  <a:lnTo>
                    <a:pt x="3345" y="173"/>
                  </a:lnTo>
                  <a:lnTo>
                    <a:pt x="3078" y="3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7466400" y="6162840"/>
              <a:ext cx="77400" cy="44280"/>
            </a:xfrm>
            <a:custGeom>
              <a:avLst/>
              <a:gdLst/>
              <a:ahLst/>
              <a:rect l="l" t="t" r="r" b="b"/>
              <a:pathLst>
                <a:path w="1016" h="665">
                  <a:moveTo>
                    <a:pt x="6" y="0"/>
                  </a:moveTo>
                  <a:lnTo>
                    <a:pt x="218" y="118"/>
                  </a:lnTo>
                  <a:lnTo>
                    <a:pt x="705" y="173"/>
                  </a:lnTo>
                  <a:lnTo>
                    <a:pt x="705" y="228"/>
                  </a:lnTo>
                  <a:lnTo>
                    <a:pt x="1016" y="240"/>
                  </a:lnTo>
                  <a:lnTo>
                    <a:pt x="697" y="275"/>
                  </a:lnTo>
                  <a:lnTo>
                    <a:pt x="653" y="446"/>
                  </a:lnTo>
                  <a:lnTo>
                    <a:pt x="626" y="662"/>
                  </a:lnTo>
                  <a:lnTo>
                    <a:pt x="596" y="665"/>
                  </a:lnTo>
                  <a:lnTo>
                    <a:pt x="615" y="406"/>
                  </a:lnTo>
                  <a:lnTo>
                    <a:pt x="653" y="235"/>
                  </a:lnTo>
                  <a:lnTo>
                    <a:pt x="218" y="178"/>
                  </a:lnTo>
                  <a:lnTo>
                    <a:pt x="0" y="9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7548840" y="6140520"/>
              <a:ext cx="139320" cy="70920"/>
            </a:xfrm>
            <a:custGeom>
              <a:avLst/>
              <a:gdLst/>
              <a:ahLst/>
              <a:rect l="l" t="t" r="r" b="b"/>
              <a:pathLst>
                <a:path w="1821" h="1066">
                  <a:moveTo>
                    <a:pt x="0" y="706"/>
                  </a:moveTo>
                  <a:lnTo>
                    <a:pt x="137" y="242"/>
                  </a:lnTo>
                  <a:lnTo>
                    <a:pt x="597" y="0"/>
                  </a:lnTo>
                  <a:lnTo>
                    <a:pt x="906" y="137"/>
                  </a:lnTo>
                  <a:lnTo>
                    <a:pt x="1268" y="176"/>
                  </a:lnTo>
                  <a:lnTo>
                    <a:pt x="1330" y="227"/>
                  </a:lnTo>
                  <a:lnTo>
                    <a:pt x="1341" y="317"/>
                  </a:lnTo>
                  <a:lnTo>
                    <a:pt x="1504" y="360"/>
                  </a:lnTo>
                  <a:lnTo>
                    <a:pt x="1634" y="459"/>
                  </a:lnTo>
                  <a:lnTo>
                    <a:pt x="1708" y="488"/>
                  </a:lnTo>
                  <a:lnTo>
                    <a:pt x="1819" y="579"/>
                  </a:lnTo>
                  <a:lnTo>
                    <a:pt x="1821" y="655"/>
                  </a:lnTo>
                  <a:lnTo>
                    <a:pt x="1763" y="706"/>
                  </a:lnTo>
                  <a:lnTo>
                    <a:pt x="1634" y="822"/>
                  </a:lnTo>
                  <a:lnTo>
                    <a:pt x="1637" y="910"/>
                  </a:lnTo>
                  <a:lnTo>
                    <a:pt x="1612" y="800"/>
                  </a:lnTo>
                  <a:lnTo>
                    <a:pt x="1785" y="640"/>
                  </a:lnTo>
                  <a:lnTo>
                    <a:pt x="1785" y="584"/>
                  </a:lnTo>
                  <a:lnTo>
                    <a:pt x="1637" y="499"/>
                  </a:lnTo>
                  <a:lnTo>
                    <a:pt x="1577" y="512"/>
                  </a:lnTo>
                  <a:lnTo>
                    <a:pt x="1504" y="503"/>
                  </a:lnTo>
                  <a:lnTo>
                    <a:pt x="1370" y="579"/>
                  </a:lnTo>
                  <a:lnTo>
                    <a:pt x="1543" y="448"/>
                  </a:lnTo>
                  <a:lnTo>
                    <a:pt x="1471" y="383"/>
                  </a:lnTo>
                  <a:lnTo>
                    <a:pt x="1341" y="356"/>
                  </a:lnTo>
                  <a:lnTo>
                    <a:pt x="1341" y="409"/>
                  </a:lnTo>
                  <a:lnTo>
                    <a:pt x="1394" y="503"/>
                  </a:lnTo>
                  <a:lnTo>
                    <a:pt x="1319" y="413"/>
                  </a:lnTo>
                  <a:lnTo>
                    <a:pt x="1268" y="247"/>
                  </a:lnTo>
                  <a:lnTo>
                    <a:pt x="1205" y="192"/>
                  </a:lnTo>
                  <a:lnTo>
                    <a:pt x="885" y="176"/>
                  </a:lnTo>
                  <a:lnTo>
                    <a:pt x="641" y="47"/>
                  </a:lnTo>
                  <a:lnTo>
                    <a:pt x="161" y="264"/>
                  </a:lnTo>
                  <a:lnTo>
                    <a:pt x="90" y="552"/>
                  </a:lnTo>
                  <a:lnTo>
                    <a:pt x="321" y="574"/>
                  </a:lnTo>
                  <a:lnTo>
                    <a:pt x="590" y="655"/>
                  </a:lnTo>
                  <a:lnTo>
                    <a:pt x="791" y="822"/>
                  </a:lnTo>
                  <a:lnTo>
                    <a:pt x="1053" y="719"/>
                  </a:lnTo>
                  <a:lnTo>
                    <a:pt x="873" y="930"/>
                  </a:lnTo>
                  <a:lnTo>
                    <a:pt x="873" y="1066"/>
                  </a:lnTo>
                  <a:lnTo>
                    <a:pt x="786" y="851"/>
                  </a:lnTo>
                  <a:lnTo>
                    <a:pt x="597" y="699"/>
                  </a:lnTo>
                  <a:lnTo>
                    <a:pt x="403" y="633"/>
                  </a:lnTo>
                  <a:lnTo>
                    <a:pt x="173" y="614"/>
                  </a:lnTo>
                  <a:lnTo>
                    <a:pt x="0" y="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7541280" y="6195240"/>
              <a:ext cx="68400" cy="30600"/>
            </a:xfrm>
            <a:custGeom>
              <a:avLst/>
              <a:gdLst/>
              <a:ahLst/>
              <a:rect l="l" t="t" r="r" b="b"/>
              <a:pathLst>
                <a:path w="895" h="462">
                  <a:moveTo>
                    <a:pt x="0" y="69"/>
                  </a:moveTo>
                  <a:lnTo>
                    <a:pt x="363" y="91"/>
                  </a:lnTo>
                  <a:lnTo>
                    <a:pt x="593" y="177"/>
                  </a:lnTo>
                  <a:lnTo>
                    <a:pt x="764" y="313"/>
                  </a:lnTo>
                  <a:lnTo>
                    <a:pt x="844" y="462"/>
                  </a:lnTo>
                  <a:lnTo>
                    <a:pt x="895" y="421"/>
                  </a:lnTo>
                  <a:lnTo>
                    <a:pt x="791" y="262"/>
                  </a:lnTo>
                  <a:lnTo>
                    <a:pt x="642" y="126"/>
                  </a:lnTo>
                  <a:lnTo>
                    <a:pt x="427" y="20"/>
                  </a:lnTo>
                  <a:lnTo>
                    <a:pt x="180" y="0"/>
                  </a:lnTo>
                  <a:lnTo>
                    <a:pt x="13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7658640" y="6283080"/>
              <a:ext cx="15480" cy="12240"/>
            </a:xfrm>
            <a:custGeom>
              <a:avLst/>
              <a:gdLst/>
              <a:ahLst/>
              <a:rect l="l" t="t" r="r" b="b"/>
              <a:pathLst>
                <a:path w="203" h="182">
                  <a:moveTo>
                    <a:pt x="0" y="20"/>
                  </a:moveTo>
                  <a:lnTo>
                    <a:pt x="95" y="22"/>
                  </a:lnTo>
                  <a:lnTo>
                    <a:pt x="146" y="62"/>
                  </a:lnTo>
                  <a:lnTo>
                    <a:pt x="169" y="97"/>
                  </a:lnTo>
                  <a:lnTo>
                    <a:pt x="169" y="133"/>
                  </a:lnTo>
                  <a:lnTo>
                    <a:pt x="146" y="182"/>
                  </a:lnTo>
                  <a:lnTo>
                    <a:pt x="181" y="167"/>
                  </a:lnTo>
                  <a:lnTo>
                    <a:pt x="203" y="121"/>
                  </a:lnTo>
                  <a:lnTo>
                    <a:pt x="194" y="86"/>
                  </a:lnTo>
                  <a:lnTo>
                    <a:pt x="165" y="38"/>
                  </a:lnTo>
                  <a:lnTo>
                    <a:pt x="130" y="20"/>
                  </a:lnTo>
                  <a:lnTo>
                    <a:pt x="4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7692120" y="6276240"/>
              <a:ext cx="27360" cy="13320"/>
            </a:xfrm>
            <a:custGeom>
              <a:avLst/>
              <a:gdLst/>
              <a:ahLst/>
              <a:rect l="l" t="t" r="r" b="b"/>
              <a:pathLst>
                <a:path w="360" h="197">
                  <a:moveTo>
                    <a:pt x="245" y="26"/>
                  </a:moveTo>
                  <a:lnTo>
                    <a:pt x="286" y="51"/>
                  </a:lnTo>
                  <a:lnTo>
                    <a:pt x="309" y="100"/>
                  </a:lnTo>
                  <a:lnTo>
                    <a:pt x="296" y="138"/>
                  </a:lnTo>
                  <a:lnTo>
                    <a:pt x="261" y="177"/>
                  </a:lnTo>
                  <a:lnTo>
                    <a:pt x="63" y="166"/>
                  </a:lnTo>
                  <a:lnTo>
                    <a:pt x="28" y="150"/>
                  </a:lnTo>
                  <a:lnTo>
                    <a:pt x="24" y="104"/>
                  </a:lnTo>
                  <a:lnTo>
                    <a:pt x="28" y="100"/>
                  </a:lnTo>
                  <a:lnTo>
                    <a:pt x="0" y="104"/>
                  </a:lnTo>
                  <a:lnTo>
                    <a:pt x="0" y="138"/>
                  </a:lnTo>
                  <a:lnTo>
                    <a:pt x="39" y="186"/>
                  </a:lnTo>
                  <a:lnTo>
                    <a:pt x="296" y="197"/>
                  </a:lnTo>
                  <a:lnTo>
                    <a:pt x="349" y="150"/>
                  </a:lnTo>
                  <a:lnTo>
                    <a:pt x="360" y="87"/>
                  </a:lnTo>
                  <a:lnTo>
                    <a:pt x="325" y="26"/>
                  </a:lnTo>
                  <a:lnTo>
                    <a:pt x="274" y="0"/>
                  </a:lnTo>
                  <a:lnTo>
                    <a:pt x="24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7988040" y="5887440"/>
              <a:ext cx="468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8051400" y="5811840"/>
              <a:ext cx="216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8047080" y="5812560"/>
              <a:ext cx="36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8042760" y="5818320"/>
              <a:ext cx="108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"/>
            <p:cNvSpPr/>
            <p:nvPr/>
          </p:nvSpPr>
          <p:spPr>
            <a:xfrm flipH="1">
              <a:off x="8037720" y="5828040"/>
              <a:ext cx="36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"/>
            <p:cNvSpPr/>
            <p:nvPr/>
          </p:nvSpPr>
          <p:spPr>
            <a:xfrm flipH="1">
              <a:off x="8030160" y="5835960"/>
              <a:ext cx="216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"/>
            <p:cNvSpPr/>
            <p:nvPr/>
          </p:nvSpPr>
          <p:spPr>
            <a:xfrm flipH="1">
              <a:off x="8022960" y="584892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8067960" y="5845680"/>
              <a:ext cx="16920" cy="22320"/>
            </a:xfrm>
            <a:custGeom>
              <a:avLst/>
              <a:gdLst/>
              <a:ahLst/>
              <a:rect l="l" t="t" r="r" b="b"/>
              <a:pathLst>
                <a:path w="226" h="341">
                  <a:moveTo>
                    <a:pt x="191" y="0"/>
                  </a:moveTo>
                  <a:lnTo>
                    <a:pt x="155" y="0"/>
                  </a:lnTo>
                  <a:lnTo>
                    <a:pt x="125" y="5"/>
                  </a:lnTo>
                  <a:lnTo>
                    <a:pt x="104" y="14"/>
                  </a:lnTo>
                  <a:lnTo>
                    <a:pt x="70" y="31"/>
                  </a:lnTo>
                  <a:lnTo>
                    <a:pt x="46" y="47"/>
                  </a:lnTo>
                  <a:lnTo>
                    <a:pt x="28" y="70"/>
                  </a:lnTo>
                  <a:lnTo>
                    <a:pt x="12" y="104"/>
                  </a:lnTo>
                  <a:lnTo>
                    <a:pt x="0" y="130"/>
                  </a:lnTo>
                  <a:lnTo>
                    <a:pt x="0" y="160"/>
                  </a:lnTo>
                  <a:lnTo>
                    <a:pt x="0" y="192"/>
                  </a:lnTo>
                  <a:lnTo>
                    <a:pt x="0" y="215"/>
                  </a:lnTo>
                  <a:lnTo>
                    <a:pt x="12" y="249"/>
                  </a:lnTo>
                  <a:lnTo>
                    <a:pt x="33" y="273"/>
                  </a:lnTo>
                  <a:lnTo>
                    <a:pt x="51" y="301"/>
                  </a:lnTo>
                  <a:lnTo>
                    <a:pt x="74" y="321"/>
                  </a:lnTo>
                  <a:lnTo>
                    <a:pt x="104" y="337"/>
                  </a:lnTo>
                  <a:lnTo>
                    <a:pt x="129" y="341"/>
                  </a:lnTo>
                  <a:lnTo>
                    <a:pt x="164" y="341"/>
                  </a:lnTo>
                  <a:lnTo>
                    <a:pt x="196" y="341"/>
                  </a:lnTo>
                  <a:lnTo>
                    <a:pt x="226" y="3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"/>
            <p:cNvSpPr/>
            <p:nvPr/>
          </p:nvSpPr>
          <p:spPr>
            <a:xfrm flipV="1">
              <a:off x="7441560" y="5817960"/>
              <a:ext cx="288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7347240" y="5806080"/>
              <a:ext cx="126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7355880" y="5811120"/>
              <a:ext cx="13680" cy="3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7365240" y="5817600"/>
              <a:ext cx="1332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7376760" y="5825880"/>
              <a:ext cx="9360" cy="2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7715880" y="5649480"/>
              <a:ext cx="137880" cy="144720"/>
            </a:xfrm>
            <a:custGeom>
              <a:avLst/>
              <a:gdLst/>
              <a:ahLst/>
              <a:rect l="l" t="t" r="r" b="b"/>
              <a:pathLst>
                <a:path w="1810" h="2171">
                  <a:moveTo>
                    <a:pt x="1367" y="1125"/>
                  </a:moveTo>
                  <a:lnTo>
                    <a:pt x="1215" y="1136"/>
                  </a:lnTo>
                  <a:lnTo>
                    <a:pt x="1090" y="1113"/>
                  </a:lnTo>
                  <a:lnTo>
                    <a:pt x="1033" y="1060"/>
                  </a:lnTo>
                  <a:lnTo>
                    <a:pt x="1120" y="1095"/>
                  </a:lnTo>
                  <a:lnTo>
                    <a:pt x="1206" y="1073"/>
                  </a:lnTo>
                  <a:lnTo>
                    <a:pt x="1265" y="1062"/>
                  </a:lnTo>
                  <a:lnTo>
                    <a:pt x="1145" y="1037"/>
                  </a:lnTo>
                  <a:lnTo>
                    <a:pt x="1044" y="998"/>
                  </a:lnTo>
                  <a:lnTo>
                    <a:pt x="973" y="998"/>
                  </a:lnTo>
                  <a:lnTo>
                    <a:pt x="890" y="1020"/>
                  </a:lnTo>
                  <a:lnTo>
                    <a:pt x="813" y="1023"/>
                  </a:lnTo>
                  <a:lnTo>
                    <a:pt x="740" y="1035"/>
                  </a:lnTo>
                  <a:lnTo>
                    <a:pt x="606" y="998"/>
                  </a:lnTo>
                  <a:lnTo>
                    <a:pt x="556" y="981"/>
                  </a:lnTo>
                  <a:lnTo>
                    <a:pt x="424" y="910"/>
                  </a:lnTo>
                  <a:lnTo>
                    <a:pt x="338" y="878"/>
                  </a:lnTo>
                  <a:lnTo>
                    <a:pt x="263" y="853"/>
                  </a:lnTo>
                  <a:lnTo>
                    <a:pt x="122" y="840"/>
                  </a:lnTo>
                  <a:lnTo>
                    <a:pt x="0" y="829"/>
                  </a:lnTo>
                  <a:lnTo>
                    <a:pt x="178" y="813"/>
                  </a:lnTo>
                  <a:lnTo>
                    <a:pt x="345" y="820"/>
                  </a:lnTo>
                  <a:lnTo>
                    <a:pt x="470" y="840"/>
                  </a:lnTo>
                  <a:lnTo>
                    <a:pt x="574" y="866"/>
                  </a:lnTo>
                  <a:lnTo>
                    <a:pt x="648" y="840"/>
                  </a:lnTo>
                  <a:lnTo>
                    <a:pt x="848" y="820"/>
                  </a:lnTo>
                  <a:lnTo>
                    <a:pt x="986" y="829"/>
                  </a:lnTo>
                  <a:lnTo>
                    <a:pt x="878" y="779"/>
                  </a:lnTo>
                  <a:lnTo>
                    <a:pt x="756" y="746"/>
                  </a:lnTo>
                  <a:lnTo>
                    <a:pt x="648" y="746"/>
                  </a:lnTo>
                  <a:lnTo>
                    <a:pt x="534" y="721"/>
                  </a:lnTo>
                  <a:lnTo>
                    <a:pt x="435" y="689"/>
                  </a:lnTo>
                  <a:lnTo>
                    <a:pt x="597" y="721"/>
                  </a:lnTo>
                  <a:lnTo>
                    <a:pt x="705" y="708"/>
                  </a:lnTo>
                  <a:lnTo>
                    <a:pt x="813" y="703"/>
                  </a:lnTo>
                  <a:lnTo>
                    <a:pt x="908" y="703"/>
                  </a:lnTo>
                  <a:lnTo>
                    <a:pt x="779" y="629"/>
                  </a:lnTo>
                  <a:lnTo>
                    <a:pt x="648" y="587"/>
                  </a:lnTo>
                  <a:lnTo>
                    <a:pt x="779" y="606"/>
                  </a:lnTo>
                  <a:lnTo>
                    <a:pt x="890" y="613"/>
                  </a:lnTo>
                  <a:lnTo>
                    <a:pt x="1019" y="647"/>
                  </a:lnTo>
                  <a:lnTo>
                    <a:pt x="883" y="548"/>
                  </a:lnTo>
                  <a:lnTo>
                    <a:pt x="756" y="479"/>
                  </a:lnTo>
                  <a:lnTo>
                    <a:pt x="899" y="509"/>
                  </a:lnTo>
                  <a:lnTo>
                    <a:pt x="1061" y="548"/>
                  </a:lnTo>
                  <a:lnTo>
                    <a:pt x="986" y="465"/>
                  </a:lnTo>
                  <a:lnTo>
                    <a:pt x="864" y="394"/>
                  </a:lnTo>
                  <a:lnTo>
                    <a:pt x="1039" y="444"/>
                  </a:lnTo>
                  <a:lnTo>
                    <a:pt x="1129" y="479"/>
                  </a:lnTo>
                  <a:lnTo>
                    <a:pt x="1083" y="387"/>
                  </a:lnTo>
                  <a:lnTo>
                    <a:pt x="962" y="281"/>
                  </a:lnTo>
                  <a:lnTo>
                    <a:pt x="1090" y="317"/>
                  </a:lnTo>
                  <a:lnTo>
                    <a:pt x="1235" y="419"/>
                  </a:lnTo>
                  <a:lnTo>
                    <a:pt x="1206" y="320"/>
                  </a:lnTo>
                  <a:lnTo>
                    <a:pt x="1129" y="262"/>
                  </a:lnTo>
                  <a:lnTo>
                    <a:pt x="1256" y="330"/>
                  </a:lnTo>
                  <a:lnTo>
                    <a:pt x="1109" y="191"/>
                  </a:lnTo>
                  <a:lnTo>
                    <a:pt x="899" y="101"/>
                  </a:lnTo>
                  <a:lnTo>
                    <a:pt x="727" y="27"/>
                  </a:lnTo>
                  <a:lnTo>
                    <a:pt x="516" y="0"/>
                  </a:lnTo>
                  <a:lnTo>
                    <a:pt x="793" y="0"/>
                  </a:lnTo>
                  <a:lnTo>
                    <a:pt x="1085" y="75"/>
                  </a:lnTo>
                  <a:lnTo>
                    <a:pt x="1332" y="216"/>
                  </a:lnTo>
                  <a:lnTo>
                    <a:pt x="1519" y="444"/>
                  </a:lnTo>
                  <a:lnTo>
                    <a:pt x="1609" y="613"/>
                  </a:lnTo>
                  <a:lnTo>
                    <a:pt x="1639" y="779"/>
                  </a:lnTo>
                  <a:lnTo>
                    <a:pt x="1623" y="981"/>
                  </a:lnTo>
                  <a:lnTo>
                    <a:pt x="1613" y="1011"/>
                  </a:lnTo>
                  <a:lnTo>
                    <a:pt x="1725" y="1011"/>
                  </a:lnTo>
                  <a:lnTo>
                    <a:pt x="1810" y="1113"/>
                  </a:lnTo>
                  <a:lnTo>
                    <a:pt x="1810" y="1290"/>
                  </a:lnTo>
                  <a:lnTo>
                    <a:pt x="1784" y="1130"/>
                  </a:lnTo>
                  <a:lnTo>
                    <a:pt x="1740" y="1095"/>
                  </a:lnTo>
                  <a:lnTo>
                    <a:pt x="1669" y="1095"/>
                  </a:lnTo>
                  <a:lnTo>
                    <a:pt x="1716" y="1194"/>
                  </a:lnTo>
                  <a:lnTo>
                    <a:pt x="1694" y="1314"/>
                  </a:lnTo>
                  <a:lnTo>
                    <a:pt x="1630" y="1422"/>
                  </a:lnTo>
                  <a:lnTo>
                    <a:pt x="1609" y="1266"/>
                  </a:lnTo>
                  <a:lnTo>
                    <a:pt x="1542" y="1152"/>
                  </a:lnTo>
                  <a:lnTo>
                    <a:pt x="1542" y="1360"/>
                  </a:lnTo>
                  <a:lnTo>
                    <a:pt x="1519" y="1497"/>
                  </a:lnTo>
                  <a:lnTo>
                    <a:pt x="1473" y="1304"/>
                  </a:lnTo>
                  <a:lnTo>
                    <a:pt x="1448" y="1447"/>
                  </a:lnTo>
                  <a:lnTo>
                    <a:pt x="1388" y="1629"/>
                  </a:lnTo>
                  <a:lnTo>
                    <a:pt x="1448" y="1609"/>
                  </a:lnTo>
                  <a:lnTo>
                    <a:pt x="1428" y="1776"/>
                  </a:lnTo>
                  <a:lnTo>
                    <a:pt x="1519" y="1567"/>
                  </a:lnTo>
                  <a:lnTo>
                    <a:pt x="1510" y="1730"/>
                  </a:lnTo>
                  <a:lnTo>
                    <a:pt x="1613" y="1510"/>
                  </a:lnTo>
                  <a:lnTo>
                    <a:pt x="1573" y="1710"/>
                  </a:lnTo>
                  <a:lnTo>
                    <a:pt x="1669" y="1625"/>
                  </a:lnTo>
                  <a:lnTo>
                    <a:pt x="1795" y="1371"/>
                  </a:lnTo>
                  <a:lnTo>
                    <a:pt x="1694" y="1653"/>
                  </a:lnTo>
                  <a:lnTo>
                    <a:pt x="1600" y="1752"/>
                  </a:lnTo>
                  <a:lnTo>
                    <a:pt x="1422" y="1883"/>
                  </a:lnTo>
                  <a:lnTo>
                    <a:pt x="1316" y="1922"/>
                  </a:lnTo>
                  <a:lnTo>
                    <a:pt x="1204" y="2068"/>
                  </a:lnTo>
                  <a:lnTo>
                    <a:pt x="1109" y="2171"/>
                  </a:lnTo>
                  <a:lnTo>
                    <a:pt x="1226" y="1922"/>
                  </a:lnTo>
                  <a:lnTo>
                    <a:pt x="1235" y="1653"/>
                  </a:lnTo>
                  <a:lnTo>
                    <a:pt x="1250" y="1482"/>
                  </a:lnTo>
                  <a:lnTo>
                    <a:pt x="1307" y="1302"/>
                  </a:lnTo>
                  <a:lnTo>
                    <a:pt x="1402" y="1136"/>
                  </a:lnTo>
                  <a:lnTo>
                    <a:pt x="1367" y="1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7661520" y="5649480"/>
              <a:ext cx="117720" cy="106200"/>
            </a:xfrm>
            <a:custGeom>
              <a:avLst/>
              <a:gdLst/>
              <a:ahLst/>
              <a:rect l="l" t="t" r="r" b="b"/>
              <a:pathLst>
                <a:path w="1547" h="1598">
                  <a:moveTo>
                    <a:pt x="1038" y="25"/>
                  </a:moveTo>
                  <a:lnTo>
                    <a:pt x="877" y="75"/>
                  </a:lnTo>
                  <a:lnTo>
                    <a:pt x="669" y="163"/>
                  </a:lnTo>
                  <a:lnTo>
                    <a:pt x="491" y="284"/>
                  </a:lnTo>
                  <a:lnTo>
                    <a:pt x="369" y="422"/>
                  </a:lnTo>
                  <a:lnTo>
                    <a:pt x="268" y="606"/>
                  </a:lnTo>
                  <a:lnTo>
                    <a:pt x="183" y="746"/>
                  </a:lnTo>
                  <a:lnTo>
                    <a:pt x="106" y="884"/>
                  </a:lnTo>
                  <a:lnTo>
                    <a:pt x="0" y="1060"/>
                  </a:lnTo>
                  <a:lnTo>
                    <a:pt x="77" y="1023"/>
                  </a:lnTo>
                  <a:lnTo>
                    <a:pt x="157" y="1062"/>
                  </a:lnTo>
                  <a:lnTo>
                    <a:pt x="146" y="1176"/>
                  </a:lnTo>
                  <a:lnTo>
                    <a:pt x="159" y="1262"/>
                  </a:lnTo>
                  <a:lnTo>
                    <a:pt x="159" y="1360"/>
                  </a:lnTo>
                  <a:lnTo>
                    <a:pt x="97" y="1389"/>
                  </a:lnTo>
                  <a:lnTo>
                    <a:pt x="49" y="1348"/>
                  </a:lnTo>
                  <a:lnTo>
                    <a:pt x="25" y="1389"/>
                  </a:lnTo>
                  <a:lnTo>
                    <a:pt x="27" y="1583"/>
                  </a:lnTo>
                  <a:lnTo>
                    <a:pt x="62" y="1598"/>
                  </a:lnTo>
                  <a:lnTo>
                    <a:pt x="111" y="1429"/>
                  </a:lnTo>
                  <a:lnTo>
                    <a:pt x="168" y="1436"/>
                  </a:lnTo>
                  <a:lnTo>
                    <a:pt x="168" y="1567"/>
                  </a:lnTo>
                  <a:lnTo>
                    <a:pt x="304" y="1145"/>
                  </a:lnTo>
                  <a:lnTo>
                    <a:pt x="319" y="1020"/>
                  </a:lnTo>
                  <a:lnTo>
                    <a:pt x="194" y="1130"/>
                  </a:lnTo>
                  <a:lnTo>
                    <a:pt x="176" y="1035"/>
                  </a:lnTo>
                  <a:lnTo>
                    <a:pt x="106" y="991"/>
                  </a:lnTo>
                  <a:lnTo>
                    <a:pt x="198" y="878"/>
                  </a:lnTo>
                  <a:lnTo>
                    <a:pt x="231" y="840"/>
                  </a:lnTo>
                  <a:lnTo>
                    <a:pt x="662" y="829"/>
                  </a:lnTo>
                  <a:lnTo>
                    <a:pt x="231" y="941"/>
                  </a:lnTo>
                  <a:lnTo>
                    <a:pt x="207" y="1011"/>
                  </a:lnTo>
                  <a:lnTo>
                    <a:pt x="434" y="977"/>
                  </a:lnTo>
                  <a:lnTo>
                    <a:pt x="355" y="1062"/>
                  </a:lnTo>
                  <a:lnTo>
                    <a:pt x="515" y="991"/>
                  </a:lnTo>
                  <a:lnTo>
                    <a:pt x="743" y="829"/>
                  </a:lnTo>
                  <a:lnTo>
                    <a:pt x="963" y="820"/>
                  </a:lnTo>
                  <a:lnTo>
                    <a:pt x="917" y="746"/>
                  </a:lnTo>
                  <a:lnTo>
                    <a:pt x="921" y="719"/>
                  </a:lnTo>
                  <a:lnTo>
                    <a:pt x="1053" y="680"/>
                  </a:lnTo>
                  <a:lnTo>
                    <a:pt x="978" y="636"/>
                  </a:lnTo>
                  <a:lnTo>
                    <a:pt x="985" y="574"/>
                  </a:lnTo>
                  <a:lnTo>
                    <a:pt x="1082" y="519"/>
                  </a:lnTo>
                  <a:lnTo>
                    <a:pt x="1038" y="465"/>
                  </a:lnTo>
                  <a:lnTo>
                    <a:pt x="1053" y="394"/>
                  </a:lnTo>
                  <a:lnTo>
                    <a:pt x="978" y="336"/>
                  </a:lnTo>
                  <a:lnTo>
                    <a:pt x="886" y="330"/>
                  </a:lnTo>
                  <a:lnTo>
                    <a:pt x="1014" y="284"/>
                  </a:lnTo>
                  <a:lnTo>
                    <a:pt x="1167" y="281"/>
                  </a:lnTo>
                  <a:lnTo>
                    <a:pt x="1093" y="233"/>
                  </a:lnTo>
                  <a:lnTo>
                    <a:pt x="1167" y="198"/>
                  </a:lnTo>
                  <a:lnTo>
                    <a:pt x="985" y="161"/>
                  </a:lnTo>
                  <a:lnTo>
                    <a:pt x="814" y="161"/>
                  </a:lnTo>
                  <a:lnTo>
                    <a:pt x="662" y="191"/>
                  </a:lnTo>
                  <a:lnTo>
                    <a:pt x="886" y="101"/>
                  </a:lnTo>
                  <a:lnTo>
                    <a:pt x="1110" y="41"/>
                  </a:lnTo>
                  <a:lnTo>
                    <a:pt x="1289" y="25"/>
                  </a:lnTo>
                  <a:lnTo>
                    <a:pt x="1547" y="25"/>
                  </a:lnTo>
                  <a:lnTo>
                    <a:pt x="1466" y="0"/>
                  </a:lnTo>
                  <a:lnTo>
                    <a:pt x="1185" y="0"/>
                  </a:lnTo>
                  <a:lnTo>
                    <a:pt x="103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7656120" y="5724720"/>
              <a:ext cx="9360" cy="22320"/>
            </a:xfrm>
            <a:custGeom>
              <a:avLst/>
              <a:gdLst/>
              <a:ahLst/>
              <a:rect l="l" t="t" r="r" b="b"/>
              <a:pathLst>
                <a:path w="134" h="334">
                  <a:moveTo>
                    <a:pt x="132" y="6"/>
                  </a:moveTo>
                  <a:lnTo>
                    <a:pt x="134" y="68"/>
                  </a:lnTo>
                  <a:lnTo>
                    <a:pt x="86" y="112"/>
                  </a:lnTo>
                  <a:lnTo>
                    <a:pt x="49" y="195"/>
                  </a:lnTo>
                  <a:lnTo>
                    <a:pt x="37" y="273"/>
                  </a:lnTo>
                  <a:lnTo>
                    <a:pt x="17" y="334"/>
                  </a:lnTo>
                  <a:lnTo>
                    <a:pt x="0" y="329"/>
                  </a:lnTo>
                  <a:lnTo>
                    <a:pt x="3" y="218"/>
                  </a:lnTo>
                  <a:lnTo>
                    <a:pt x="28" y="128"/>
                  </a:lnTo>
                  <a:lnTo>
                    <a:pt x="63" y="36"/>
                  </a:lnTo>
                  <a:lnTo>
                    <a:pt x="99" y="0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7651080" y="5723640"/>
              <a:ext cx="44280" cy="135000"/>
            </a:xfrm>
            <a:custGeom>
              <a:avLst/>
              <a:gdLst/>
              <a:ahLst/>
              <a:rect l="l" t="t" r="r" b="b"/>
              <a:pathLst>
                <a:path w="583" h="2024">
                  <a:moveTo>
                    <a:pt x="90" y="0"/>
                  </a:moveTo>
                  <a:lnTo>
                    <a:pt x="40" y="85"/>
                  </a:lnTo>
                  <a:lnTo>
                    <a:pt x="18" y="191"/>
                  </a:lnTo>
                  <a:lnTo>
                    <a:pt x="18" y="281"/>
                  </a:lnTo>
                  <a:lnTo>
                    <a:pt x="49" y="397"/>
                  </a:lnTo>
                  <a:lnTo>
                    <a:pt x="79" y="485"/>
                  </a:lnTo>
                  <a:lnTo>
                    <a:pt x="111" y="606"/>
                  </a:lnTo>
                  <a:lnTo>
                    <a:pt x="139" y="663"/>
                  </a:lnTo>
                  <a:lnTo>
                    <a:pt x="205" y="692"/>
                  </a:lnTo>
                  <a:lnTo>
                    <a:pt x="245" y="676"/>
                  </a:lnTo>
                  <a:lnTo>
                    <a:pt x="317" y="316"/>
                  </a:lnTo>
                  <a:lnTo>
                    <a:pt x="356" y="258"/>
                  </a:lnTo>
                  <a:lnTo>
                    <a:pt x="302" y="546"/>
                  </a:lnTo>
                  <a:lnTo>
                    <a:pt x="211" y="1001"/>
                  </a:lnTo>
                  <a:lnTo>
                    <a:pt x="211" y="1093"/>
                  </a:lnTo>
                  <a:lnTo>
                    <a:pt x="356" y="1549"/>
                  </a:lnTo>
                  <a:lnTo>
                    <a:pt x="583" y="1823"/>
                  </a:lnTo>
                  <a:lnTo>
                    <a:pt x="489" y="1793"/>
                  </a:lnTo>
                  <a:lnTo>
                    <a:pt x="317" y="1570"/>
                  </a:lnTo>
                  <a:lnTo>
                    <a:pt x="220" y="1390"/>
                  </a:lnTo>
                  <a:lnTo>
                    <a:pt x="293" y="1803"/>
                  </a:lnTo>
                  <a:lnTo>
                    <a:pt x="471" y="2024"/>
                  </a:lnTo>
                  <a:lnTo>
                    <a:pt x="245" y="1768"/>
                  </a:lnTo>
                  <a:lnTo>
                    <a:pt x="194" y="1616"/>
                  </a:lnTo>
                  <a:lnTo>
                    <a:pt x="172" y="1441"/>
                  </a:lnTo>
                  <a:lnTo>
                    <a:pt x="183" y="1282"/>
                  </a:lnTo>
                  <a:lnTo>
                    <a:pt x="159" y="1231"/>
                  </a:lnTo>
                  <a:lnTo>
                    <a:pt x="139" y="1129"/>
                  </a:lnTo>
                  <a:lnTo>
                    <a:pt x="161" y="1015"/>
                  </a:lnTo>
                  <a:lnTo>
                    <a:pt x="205" y="738"/>
                  </a:lnTo>
                  <a:lnTo>
                    <a:pt x="134" y="692"/>
                  </a:lnTo>
                  <a:lnTo>
                    <a:pt x="79" y="627"/>
                  </a:lnTo>
                  <a:lnTo>
                    <a:pt x="62" y="477"/>
                  </a:lnTo>
                  <a:lnTo>
                    <a:pt x="0" y="300"/>
                  </a:lnTo>
                  <a:lnTo>
                    <a:pt x="0" y="201"/>
                  </a:lnTo>
                  <a:lnTo>
                    <a:pt x="38" y="85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7683480" y="5776560"/>
              <a:ext cx="126360" cy="99360"/>
            </a:xfrm>
            <a:custGeom>
              <a:avLst/>
              <a:gdLst/>
              <a:ahLst/>
              <a:rect l="l" t="t" r="r" b="b"/>
              <a:pathLst>
                <a:path w="1657" h="1485">
                  <a:moveTo>
                    <a:pt x="272" y="727"/>
                  </a:moveTo>
                  <a:lnTo>
                    <a:pt x="244" y="745"/>
                  </a:lnTo>
                  <a:lnTo>
                    <a:pt x="351" y="844"/>
                  </a:lnTo>
                  <a:lnTo>
                    <a:pt x="300" y="929"/>
                  </a:lnTo>
                  <a:lnTo>
                    <a:pt x="198" y="1000"/>
                  </a:lnTo>
                  <a:lnTo>
                    <a:pt x="62" y="1000"/>
                  </a:lnTo>
                  <a:lnTo>
                    <a:pt x="129" y="1077"/>
                  </a:lnTo>
                  <a:lnTo>
                    <a:pt x="292" y="1192"/>
                  </a:lnTo>
                  <a:lnTo>
                    <a:pt x="156" y="1226"/>
                  </a:lnTo>
                  <a:lnTo>
                    <a:pt x="0" y="1171"/>
                  </a:lnTo>
                  <a:lnTo>
                    <a:pt x="132" y="1321"/>
                  </a:lnTo>
                  <a:lnTo>
                    <a:pt x="277" y="1485"/>
                  </a:lnTo>
                  <a:lnTo>
                    <a:pt x="438" y="1485"/>
                  </a:lnTo>
                  <a:lnTo>
                    <a:pt x="634" y="1402"/>
                  </a:lnTo>
                  <a:lnTo>
                    <a:pt x="767" y="1272"/>
                  </a:lnTo>
                  <a:lnTo>
                    <a:pt x="670" y="1303"/>
                  </a:lnTo>
                  <a:lnTo>
                    <a:pt x="560" y="1206"/>
                  </a:lnTo>
                  <a:lnTo>
                    <a:pt x="731" y="1182"/>
                  </a:lnTo>
                  <a:lnTo>
                    <a:pt x="892" y="1125"/>
                  </a:lnTo>
                  <a:lnTo>
                    <a:pt x="835" y="1226"/>
                  </a:lnTo>
                  <a:lnTo>
                    <a:pt x="996" y="1116"/>
                  </a:lnTo>
                  <a:lnTo>
                    <a:pt x="1028" y="1070"/>
                  </a:lnTo>
                  <a:lnTo>
                    <a:pt x="1162" y="975"/>
                  </a:lnTo>
                  <a:lnTo>
                    <a:pt x="1215" y="874"/>
                  </a:lnTo>
                  <a:lnTo>
                    <a:pt x="1637" y="134"/>
                  </a:lnTo>
                  <a:lnTo>
                    <a:pt x="1657" y="0"/>
                  </a:lnTo>
                  <a:lnTo>
                    <a:pt x="1162" y="922"/>
                  </a:lnTo>
                  <a:lnTo>
                    <a:pt x="1070" y="984"/>
                  </a:lnTo>
                  <a:lnTo>
                    <a:pt x="920" y="1019"/>
                  </a:lnTo>
                  <a:lnTo>
                    <a:pt x="846" y="1109"/>
                  </a:lnTo>
                  <a:lnTo>
                    <a:pt x="721" y="1141"/>
                  </a:lnTo>
                  <a:lnTo>
                    <a:pt x="634" y="1125"/>
                  </a:lnTo>
                  <a:lnTo>
                    <a:pt x="593" y="1077"/>
                  </a:lnTo>
                  <a:lnTo>
                    <a:pt x="560" y="975"/>
                  </a:lnTo>
                  <a:lnTo>
                    <a:pt x="549" y="890"/>
                  </a:lnTo>
                  <a:lnTo>
                    <a:pt x="650" y="855"/>
                  </a:lnTo>
                  <a:lnTo>
                    <a:pt x="634" y="835"/>
                  </a:lnTo>
                  <a:lnTo>
                    <a:pt x="525" y="844"/>
                  </a:lnTo>
                  <a:lnTo>
                    <a:pt x="394" y="800"/>
                  </a:lnTo>
                  <a:lnTo>
                    <a:pt x="303" y="745"/>
                  </a:lnTo>
                  <a:lnTo>
                    <a:pt x="272" y="7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7684200" y="5807520"/>
              <a:ext cx="71280" cy="28800"/>
            </a:xfrm>
            <a:custGeom>
              <a:avLst/>
              <a:gdLst/>
              <a:ahLst/>
              <a:rect l="l" t="t" r="r" b="b"/>
              <a:pathLst>
                <a:path w="934" h="431">
                  <a:moveTo>
                    <a:pt x="152" y="83"/>
                  </a:moveTo>
                  <a:lnTo>
                    <a:pt x="152" y="0"/>
                  </a:lnTo>
                  <a:lnTo>
                    <a:pt x="77" y="0"/>
                  </a:lnTo>
                  <a:lnTo>
                    <a:pt x="0" y="64"/>
                  </a:lnTo>
                  <a:lnTo>
                    <a:pt x="33" y="219"/>
                  </a:lnTo>
                  <a:lnTo>
                    <a:pt x="152" y="114"/>
                  </a:lnTo>
                  <a:lnTo>
                    <a:pt x="418" y="205"/>
                  </a:lnTo>
                  <a:lnTo>
                    <a:pt x="485" y="259"/>
                  </a:lnTo>
                  <a:lnTo>
                    <a:pt x="611" y="259"/>
                  </a:lnTo>
                  <a:lnTo>
                    <a:pt x="844" y="316"/>
                  </a:lnTo>
                  <a:lnTo>
                    <a:pt x="842" y="387"/>
                  </a:lnTo>
                  <a:lnTo>
                    <a:pt x="888" y="431"/>
                  </a:lnTo>
                  <a:lnTo>
                    <a:pt x="934" y="367"/>
                  </a:lnTo>
                  <a:lnTo>
                    <a:pt x="881" y="254"/>
                  </a:lnTo>
                  <a:lnTo>
                    <a:pt x="844" y="265"/>
                  </a:lnTo>
                  <a:lnTo>
                    <a:pt x="620" y="219"/>
                  </a:lnTo>
                  <a:lnTo>
                    <a:pt x="521" y="228"/>
                  </a:lnTo>
                  <a:lnTo>
                    <a:pt x="482" y="171"/>
                  </a:lnTo>
                  <a:lnTo>
                    <a:pt x="194" y="99"/>
                  </a:lnTo>
                  <a:lnTo>
                    <a:pt x="15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7712280" y="5788800"/>
              <a:ext cx="36000" cy="31320"/>
            </a:xfrm>
            <a:custGeom>
              <a:avLst/>
              <a:gdLst/>
              <a:ahLst/>
              <a:rect l="l" t="t" r="r" b="b"/>
              <a:pathLst>
                <a:path w="472" h="465">
                  <a:moveTo>
                    <a:pt x="28" y="113"/>
                  </a:moveTo>
                  <a:lnTo>
                    <a:pt x="64" y="96"/>
                  </a:lnTo>
                  <a:lnTo>
                    <a:pt x="154" y="195"/>
                  </a:lnTo>
                  <a:lnTo>
                    <a:pt x="248" y="206"/>
                  </a:lnTo>
                  <a:lnTo>
                    <a:pt x="302" y="159"/>
                  </a:lnTo>
                  <a:lnTo>
                    <a:pt x="309" y="0"/>
                  </a:lnTo>
                  <a:lnTo>
                    <a:pt x="345" y="168"/>
                  </a:lnTo>
                  <a:lnTo>
                    <a:pt x="391" y="242"/>
                  </a:lnTo>
                  <a:lnTo>
                    <a:pt x="472" y="242"/>
                  </a:lnTo>
                  <a:lnTo>
                    <a:pt x="470" y="263"/>
                  </a:lnTo>
                  <a:lnTo>
                    <a:pt x="345" y="270"/>
                  </a:lnTo>
                  <a:lnTo>
                    <a:pt x="224" y="292"/>
                  </a:lnTo>
                  <a:lnTo>
                    <a:pt x="217" y="410"/>
                  </a:lnTo>
                  <a:lnTo>
                    <a:pt x="154" y="401"/>
                  </a:lnTo>
                  <a:lnTo>
                    <a:pt x="149" y="465"/>
                  </a:lnTo>
                  <a:lnTo>
                    <a:pt x="110" y="391"/>
                  </a:lnTo>
                  <a:lnTo>
                    <a:pt x="173" y="270"/>
                  </a:lnTo>
                  <a:lnTo>
                    <a:pt x="92" y="175"/>
                  </a:lnTo>
                  <a:lnTo>
                    <a:pt x="11" y="175"/>
                  </a:lnTo>
                  <a:lnTo>
                    <a:pt x="0" y="145"/>
                  </a:lnTo>
                  <a:lnTo>
                    <a:pt x="28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7736040" y="5759640"/>
              <a:ext cx="70200" cy="42480"/>
            </a:xfrm>
            <a:custGeom>
              <a:avLst/>
              <a:gdLst/>
              <a:ahLst/>
              <a:rect l="l" t="t" r="r" b="b"/>
              <a:pathLst>
                <a:path w="924" h="640">
                  <a:moveTo>
                    <a:pt x="36" y="71"/>
                  </a:moveTo>
                  <a:lnTo>
                    <a:pt x="92" y="92"/>
                  </a:lnTo>
                  <a:lnTo>
                    <a:pt x="75" y="177"/>
                  </a:lnTo>
                  <a:lnTo>
                    <a:pt x="29" y="334"/>
                  </a:lnTo>
                  <a:lnTo>
                    <a:pt x="0" y="517"/>
                  </a:lnTo>
                  <a:lnTo>
                    <a:pt x="25" y="613"/>
                  </a:lnTo>
                  <a:lnTo>
                    <a:pt x="42" y="431"/>
                  </a:lnTo>
                  <a:lnTo>
                    <a:pt x="92" y="304"/>
                  </a:lnTo>
                  <a:lnTo>
                    <a:pt x="132" y="517"/>
                  </a:lnTo>
                  <a:lnTo>
                    <a:pt x="128" y="594"/>
                  </a:lnTo>
                  <a:lnTo>
                    <a:pt x="178" y="535"/>
                  </a:lnTo>
                  <a:lnTo>
                    <a:pt x="477" y="640"/>
                  </a:lnTo>
                  <a:lnTo>
                    <a:pt x="601" y="620"/>
                  </a:lnTo>
                  <a:lnTo>
                    <a:pt x="694" y="565"/>
                  </a:lnTo>
                  <a:lnTo>
                    <a:pt x="756" y="480"/>
                  </a:lnTo>
                  <a:lnTo>
                    <a:pt x="811" y="408"/>
                  </a:lnTo>
                  <a:lnTo>
                    <a:pt x="680" y="565"/>
                  </a:lnTo>
                  <a:lnTo>
                    <a:pt x="601" y="594"/>
                  </a:lnTo>
                  <a:lnTo>
                    <a:pt x="500" y="604"/>
                  </a:lnTo>
                  <a:lnTo>
                    <a:pt x="424" y="594"/>
                  </a:lnTo>
                  <a:lnTo>
                    <a:pt x="334" y="558"/>
                  </a:lnTo>
                  <a:lnTo>
                    <a:pt x="246" y="466"/>
                  </a:lnTo>
                  <a:lnTo>
                    <a:pt x="253" y="359"/>
                  </a:lnTo>
                  <a:lnTo>
                    <a:pt x="394" y="480"/>
                  </a:lnTo>
                  <a:lnTo>
                    <a:pt x="420" y="414"/>
                  </a:lnTo>
                  <a:lnTo>
                    <a:pt x="299" y="238"/>
                  </a:lnTo>
                  <a:lnTo>
                    <a:pt x="299" y="141"/>
                  </a:lnTo>
                  <a:lnTo>
                    <a:pt x="429" y="133"/>
                  </a:lnTo>
                  <a:lnTo>
                    <a:pt x="477" y="157"/>
                  </a:lnTo>
                  <a:lnTo>
                    <a:pt x="429" y="258"/>
                  </a:lnTo>
                  <a:lnTo>
                    <a:pt x="530" y="293"/>
                  </a:lnTo>
                  <a:lnTo>
                    <a:pt x="659" y="293"/>
                  </a:lnTo>
                  <a:lnTo>
                    <a:pt x="671" y="271"/>
                  </a:lnTo>
                  <a:lnTo>
                    <a:pt x="552" y="141"/>
                  </a:lnTo>
                  <a:lnTo>
                    <a:pt x="694" y="166"/>
                  </a:lnTo>
                  <a:lnTo>
                    <a:pt x="842" y="238"/>
                  </a:lnTo>
                  <a:lnTo>
                    <a:pt x="827" y="348"/>
                  </a:lnTo>
                  <a:lnTo>
                    <a:pt x="866" y="286"/>
                  </a:lnTo>
                  <a:lnTo>
                    <a:pt x="912" y="274"/>
                  </a:lnTo>
                  <a:lnTo>
                    <a:pt x="924" y="223"/>
                  </a:lnTo>
                  <a:lnTo>
                    <a:pt x="650" y="104"/>
                  </a:lnTo>
                  <a:lnTo>
                    <a:pt x="585" y="36"/>
                  </a:lnTo>
                  <a:lnTo>
                    <a:pt x="369" y="0"/>
                  </a:lnTo>
                  <a:lnTo>
                    <a:pt x="223" y="5"/>
                  </a:lnTo>
                  <a:lnTo>
                    <a:pt x="189" y="58"/>
                  </a:lnTo>
                  <a:lnTo>
                    <a:pt x="46" y="11"/>
                  </a:lnTo>
                  <a:lnTo>
                    <a:pt x="36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7761960" y="5767920"/>
              <a:ext cx="4680" cy="6120"/>
            </a:xfrm>
            <a:custGeom>
              <a:avLst/>
              <a:gdLst/>
              <a:ahLst/>
              <a:rect l="l" t="t" r="r" b="b"/>
              <a:pathLst>
                <a:path w="64" h="90">
                  <a:moveTo>
                    <a:pt x="0" y="0"/>
                  </a:moveTo>
                  <a:lnTo>
                    <a:pt x="18" y="90"/>
                  </a:lnTo>
                  <a:lnTo>
                    <a:pt x="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7682760" y="5737680"/>
              <a:ext cx="58320" cy="21600"/>
            </a:xfrm>
            <a:custGeom>
              <a:avLst/>
              <a:gdLst/>
              <a:ahLst/>
              <a:rect l="l" t="t" r="r" b="b"/>
              <a:pathLst>
                <a:path w="774" h="328">
                  <a:moveTo>
                    <a:pt x="759" y="328"/>
                  </a:moveTo>
                  <a:lnTo>
                    <a:pt x="774" y="293"/>
                  </a:lnTo>
                  <a:lnTo>
                    <a:pt x="678" y="185"/>
                  </a:lnTo>
                  <a:lnTo>
                    <a:pt x="443" y="46"/>
                  </a:lnTo>
                  <a:lnTo>
                    <a:pt x="270" y="64"/>
                  </a:lnTo>
                  <a:lnTo>
                    <a:pt x="173" y="2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51" y="64"/>
                  </a:lnTo>
                  <a:lnTo>
                    <a:pt x="245" y="104"/>
                  </a:lnTo>
                  <a:lnTo>
                    <a:pt x="337" y="127"/>
                  </a:lnTo>
                  <a:lnTo>
                    <a:pt x="452" y="134"/>
                  </a:lnTo>
                  <a:lnTo>
                    <a:pt x="607" y="219"/>
                  </a:lnTo>
                  <a:lnTo>
                    <a:pt x="706" y="300"/>
                  </a:lnTo>
                  <a:lnTo>
                    <a:pt x="735" y="328"/>
                  </a:lnTo>
                  <a:lnTo>
                    <a:pt x="759" y="3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7679880" y="5740920"/>
              <a:ext cx="61560" cy="43560"/>
            </a:xfrm>
            <a:custGeom>
              <a:avLst/>
              <a:gdLst/>
              <a:ahLst/>
              <a:rect l="l" t="t" r="r" b="b"/>
              <a:pathLst>
                <a:path w="807" h="655">
                  <a:moveTo>
                    <a:pt x="132" y="32"/>
                  </a:moveTo>
                  <a:lnTo>
                    <a:pt x="88" y="93"/>
                  </a:lnTo>
                  <a:lnTo>
                    <a:pt x="51" y="227"/>
                  </a:lnTo>
                  <a:lnTo>
                    <a:pt x="37" y="359"/>
                  </a:lnTo>
                  <a:lnTo>
                    <a:pt x="77" y="466"/>
                  </a:lnTo>
                  <a:lnTo>
                    <a:pt x="132" y="535"/>
                  </a:lnTo>
                  <a:lnTo>
                    <a:pt x="249" y="595"/>
                  </a:lnTo>
                  <a:lnTo>
                    <a:pt x="383" y="634"/>
                  </a:lnTo>
                  <a:lnTo>
                    <a:pt x="501" y="625"/>
                  </a:lnTo>
                  <a:lnTo>
                    <a:pt x="581" y="595"/>
                  </a:lnTo>
                  <a:lnTo>
                    <a:pt x="651" y="551"/>
                  </a:lnTo>
                  <a:lnTo>
                    <a:pt x="708" y="480"/>
                  </a:lnTo>
                  <a:lnTo>
                    <a:pt x="761" y="392"/>
                  </a:lnTo>
                  <a:lnTo>
                    <a:pt x="409" y="480"/>
                  </a:lnTo>
                  <a:lnTo>
                    <a:pt x="480" y="381"/>
                  </a:lnTo>
                  <a:lnTo>
                    <a:pt x="576" y="359"/>
                  </a:lnTo>
                  <a:lnTo>
                    <a:pt x="736" y="359"/>
                  </a:lnTo>
                  <a:lnTo>
                    <a:pt x="807" y="288"/>
                  </a:lnTo>
                  <a:lnTo>
                    <a:pt x="807" y="359"/>
                  </a:lnTo>
                  <a:lnTo>
                    <a:pt x="708" y="530"/>
                  </a:lnTo>
                  <a:lnTo>
                    <a:pt x="611" y="611"/>
                  </a:lnTo>
                  <a:lnTo>
                    <a:pt x="491" y="636"/>
                  </a:lnTo>
                  <a:lnTo>
                    <a:pt x="383" y="655"/>
                  </a:lnTo>
                  <a:lnTo>
                    <a:pt x="222" y="611"/>
                  </a:lnTo>
                  <a:lnTo>
                    <a:pt x="88" y="530"/>
                  </a:lnTo>
                  <a:lnTo>
                    <a:pt x="26" y="434"/>
                  </a:lnTo>
                  <a:lnTo>
                    <a:pt x="0" y="282"/>
                  </a:lnTo>
                  <a:lnTo>
                    <a:pt x="26" y="117"/>
                  </a:lnTo>
                  <a:lnTo>
                    <a:pt x="95" y="0"/>
                  </a:lnTo>
                  <a:lnTo>
                    <a:pt x="132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7700760" y="5749200"/>
              <a:ext cx="31680" cy="12600"/>
            </a:xfrm>
            <a:custGeom>
              <a:avLst/>
              <a:gdLst/>
              <a:ahLst/>
              <a:rect l="l" t="t" r="r" b="b"/>
              <a:pathLst>
                <a:path w="412" h="189">
                  <a:moveTo>
                    <a:pt x="15" y="110"/>
                  </a:moveTo>
                  <a:lnTo>
                    <a:pt x="0" y="50"/>
                  </a:lnTo>
                  <a:lnTo>
                    <a:pt x="34" y="0"/>
                  </a:lnTo>
                  <a:lnTo>
                    <a:pt x="207" y="0"/>
                  </a:lnTo>
                  <a:lnTo>
                    <a:pt x="393" y="99"/>
                  </a:lnTo>
                  <a:lnTo>
                    <a:pt x="412" y="160"/>
                  </a:lnTo>
                  <a:lnTo>
                    <a:pt x="378" y="189"/>
                  </a:lnTo>
                  <a:lnTo>
                    <a:pt x="165" y="185"/>
                  </a:lnTo>
                  <a:lnTo>
                    <a:pt x="200" y="154"/>
                  </a:lnTo>
                  <a:lnTo>
                    <a:pt x="154" y="119"/>
                  </a:lnTo>
                  <a:lnTo>
                    <a:pt x="165" y="84"/>
                  </a:lnTo>
                  <a:lnTo>
                    <a:pt x="200" y="84"/>
                  </a:lnTo>
                  <a:lnTo>
                    <a:pt x="165" y="50"/>
                  </a:lnTo>
                  <a:lnTo>
                    <a:pt x="55" y="68"/>
                  </a:lnTo>
                  <a:lnTo>
                    <a:pt x="1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7793640" y="5774400"/>
              <a:ext cx="28440" cy="33840"/>
            </a:xfrm>
            <a:custGeom>
              <a:avLst/>
              <a:gdLst/>
              <a:ahLst/>
              <a:rect l="l" t="t" r="r" b="b"/>
              <a:pathLst>
                <a:path w="374" h="514">
                  <a:moveTo>
                    <a:pt x="0" y="492"/>
                  </a:moveTo>
                  <a:lnTo>
                    <a:pt x="64" y="514"/>
                  </a:lnTo>
                  <a:lnTo>
                    <a:pt x="136" y="485"/>
                  </a:lnTo>
                  <a:lnTo>
                    <a:pt x="231" y="371"/>
                  </a:lnTo>
                  <a:lnTo>
                    <a:pt x="297" y="243"/>
                  </a:lnTo>
                  <a:lnTo>
                    <a:pt x="369" y="95"/>
                  </a:lnTo>
                  <a:lnTo>
                    <a:pt x="374" y="12"/>
                  </a:lnTo>
                  <a:lnTo>
                    <a:pt x="359" y="0"/>
                  </a:lnTo>
                  <a:lnTo>
                    <a:pt x="334" y="100"/>
                  </a:lnTo>
                  <a:lnTo>
                    <a:pt x="255" y="277"/>
                  </a:lnTo>
                  <a:lnTo>
                    <a:pt x="168" y="426"/>
                  </a:lnTo>
                  <a:lnTo>
                    <a:pt x="110" y="452"/>
                  </a:lnTo>
                  <a:lnTo>
                    <a:pt x="64" y="381"/>
                  </a:lnTo>
                  <a:lnTo>
                    <a:pt x="0" y="452"/>
                  </a:lnTo>
                  <a:lnTo>
                    <a:pt x="0" y="4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7806960" y="5778720"/>
              <a:ext cx="6480" cy="15480"/>
            </a:xfrm>
            <a:custGeom>
              <a:avLst/>
              <a:gdLst/>
              <a:ahLst/>
              <a:rect l="l" t="t" r="r" b="b"/>
              <a:pathLst>
                <a:path w="85" h="233">
                  <a:moveTo>
                    <a:pt x="0" y="134"/>
                  </a:moveTo>
                  <a:lnTo>
                    <a:pt x="14" y="233"/>
                  </a:lnTo>
                  <a:lnTo>
                    <a:pt x="85" y="122"/>
                  </a:lnTo>
                  <a:lnTo>
                    <a:pt x="82" y="0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7678080" y="5731560"/>
              <a:ext cx="7200" cy="20520"/>
            </a:xfrm>
            <a:custGeom>
              <a:avLst/>
              <a:gdLst/>
              <a:ahLst/>
              <a:rect l="l" t="t" r="r" b="b"/>
              <a:pathLst>
                <a:path w="103" h="311">
                  <a:moveTo>
                    <a:pt x="103" y="180"/>
                  </a:moveTo>
                  <a:lnTo>
                    <a:pt x="33" y="0"/>
                  </a:lnTo>
                  <a:lnTo>
                    <a:pt x="0" y="57"/>
                  </a:lnTo>
                  <a:lnTo>
                    <a:pt x="52" y="311"/>
                  </a:lnTo>
                  <a:lnTo>
                    <a:pt x="103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7799040" y="5774400"/>
              <a:ext cx="17640" cy="9360"/>
            </a:xfrm>
            <a:custGeom>
              <a:avLst/>
              <a:gdLst/>
              <a:ahLst/>
              <a:rect l="l" t="t" r="r" b="b"/>
              <a:pathLst>
                <a:path w="231" h="149">
                  <a:moveTo>
                    <a:pt x="51" y="51"/>
                  </a:moveTo>
                  <a:lnTo>
                    <a:pt x="231" y="0"/>
                  </a:lnTo>
                  <a:lnTo>
                    <a:pt x="222" y="35"/>
                  </a:lnTo>
                  <a:lnTo>
                    <a:pt x="0" y="149"/>
                  </a:lnTo>
                  <a:lnTo>
                    <a:pt x="5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7747560" y="5800680"/>
              <a:ext cx="12240" cy="25920"/>
            </a:xfrm>
            <a:custGeom>
              <a:avLst/>
              <a:gdLst/>
              <a:ahLst/>
              <a:rect l="l" t="t" r="r" b="b"/>
              <a:pathLst>
                <a:path w="161" h="392">
                  <a:moveTo>
                    <a:pt x="0" y="76"/>
                  </a:moveTo>
                  <a:lnTo>
                    <a:pt x="13" y="0"/>
                  </a:lnTo>
                  <a:lnTo>
                    <a:pt x="161" y="216"/>
                  </a:lnTo>
                  <a:lnTo>
                    <a:pt x="117" y="392"/>
                  </a:lnTo>
                  <a:lnTo>
                    <a:pt x="57" y="277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7684560" y="5790600"/>
              <a:ext cx="28440" cy="16920"/>
            </a:xfrm>
            <a:custGeom>
              <a:avLst/>
              <a:gdLst/>
              <a:ahLst/>
              <a:rect l="l" t="t" r="r" b="b"/>
              <a:pathLst>
                <a:path w="376" h="258">
                  <a:moveTo>
                    <a:pt x="376" y="0"/>
                  </a:moveTo>
                  <a:lnTo>
                    <a:pt x="257" y="159"/>
                  </a:lnTo>
                  <a:lnTo>
                    <a:pt x="83" y="207"/>
                  </a:lnTo>
                  <a:lnTo>
                    <a:pt x="0" y="258"/>
                  </a:lnTo>
                  <a:lnTo>
                    <a:pt x="145" y="85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7480080" y="5800680"/>
              <a:ext cx="177120" cy="106200"/>
            </a:xfrm>
            <a:custGeom>
              <a:avLst/>
              <a:gdLst/>
              <a:ahLst/>
              <a:rect l="l" t="t" r="r" b="b"/>
              <a:pathLst>
                <a:path w="2322" h="1591">
                  <a:moveTo>
                    <a:pt x="337" y="1464"/>
                  </a:moveTo>
                  <a:lnTo>
                    <a:pt x="92" y="1187"/>
                  </a:lnTo>
                  <a:lnTo>
                    <a:pt x="16" y="929"/>
                  </a:lnTo>
                  <a:lnTo>
                    <a:pt x="0" y="784"/>
                  </a:lnTo>
                  <a:lnTo>
                    <a:pt x="142" y="613"/>
                  </a:lnTo>
                  <a:lnTo>
                    <a:pt x="491" y="447"/>
                  </a:lnTo>
                  <a:lnTo>
                    <a:pt x="1063" y="251"/>
                  </a:lnTo>
                  <a:lnTo>
                    <a:pt x="1584" y="157"/>
                  </a:lnTo>
                  <a:lnTo>
                    <a:pt x="2021" y="117"/>
                  </a:lnTo>
                  <a:lnTo>
                    <a:pt x="2322" y="0"/>
                  </a:lnTo>
                  <a:lnTo>
                    <a:pt x="2166" y="117"/>
                  </a:lnTo>
                  <a:lnTo>
                    <a:pt x="2036" y="297"/>
                  </a:lnTo>
                  <a:lnTo>
                    <a:pt x="1975" y="583"/>
                  </a:lnTo>
                  <a:lnTo>
                    <a:pt x="1959" y="807"/>
                  </a:lnTo>
                  <a:lnTo>
                    <a:pt x="1959" y="1099"/>
                  </a:lnTo>
                  <a:lnTo>
                    <a:pt x="1944" y="1307"/>
                  </a:lnTo>
                  <a:lnTo>
                    <a:pt x="1849" y="1591"/>
                  </a:lnTo>
                  <a:lnTo>
                    <a:pt x="1819" y="1561"/>
                  </a:lnTo>
                  <a:lnTo>
                    <a:pt x="1898" y="1337"/>
                  </a:lnTo>
                  <a:lnTo>
                    <a:pt x="1929" y="1136"/>
                  </a:lnTo>
                  <a:lnTo>
                    <a:pt x="1929" y="807"/>
                  </a:lnTo>
                  <a:lnTo>
                    <a:pt x="1944" y="508"/>
                  </a:lnTo>
                  <a:lnTo>
                    <a:pt x="1863" y="383"/>
                  </a:lnTo>
                  <a:lnTo>
                    <a:pt x="1692" y="297"/>
                  </a:lnTo>
                  <a:lnTo>
                    <a:pt x="1439" y="251"/>
                  </a:lnTo>
                  <a:lnTo>
                    <a:pt x="1263" y="238"/>
                  </a:lnTo>
                  <a:lnTo>
                    <a:pt x="1074" y="266"/>
                  </a:lnTo>
                  <a:lnTo>
                    <a:pt x="474" y="457"/>
                  </a:lnTo>
                  <a:lnTo>
                    <a:pt x="127" y="688"/>
                  </a:lnTo>
                  <a:lnTo>
                    <a:pt x="81" y="869"/>
                  </a:lnTo>
                  <a:lnTo>
                    <a:pt x="81" y="1040"/>
                  </a:lnTo>
                  <a:lnTo>
                    <a:pt x="142" y="1211"/>
                  </a:lnTo>
                  <a:lnTo>
                    <a:pt x="337" y="14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7470000" y="5869440"/>
              <a:ext cx="214920" cy="275400"/>
            </a:xfrm>
            <a:custGeom>
              <a:avLst/>
              <a:gdLst/>
              <a:ahLst/>
              <a:rect l="l" t="t" r="r" b="b"/>
              <a:pathLst>
                <a:path w="2817" h="4129">
                  <a:moveTo>
                    <a:pt x="61" y="0"/>
                  </a:moveTo>
                  <a:lnTo>
                    <a:pt x="79" y="122"/>
                  </a:lnTo>
                  <a:lnTo>
                    <a:pt x="156" y="299"/>
                  </a:lnTo>
                  <a:lnTo>
                    <a:pt x="285" y="470"/>
                  </a:lnTo>
                  <a:lnTo>
                    <a:pt x="470" y="662"/>
                  </a:lnTo>
                  <a:lnTo>
                    <a:pt x="802" y="910"/>
                  </a:lnTo>
                  <a:lnTo>
                    <a:pt x="1350" y="1369"/>
                  </a:lnTo>
                  <a:lnTo>
                    <a:pt x="1138" y="829"/>
                  </a:lnTo>
                  <a:lnTo>
                    <a:pt x="1454" y="1305"/>
                  </a:lnTo>
                  <a:lnTo>
                    <a:pt x="1677" y="1664"/>
                  </a:lnTo>
                  <a:lnTo>
                    <a:pt x="1868" y="1950"/>
                  </a:lnTo>
                  <a:lnTo>
                    <a:pt x="2037" y="2215"/>
                  </a:lnTo>
                  <a:lnTo>
                    <a:pt x="2180" y="2361"/>
                  </a:lnTo>
                  <a:lnTo>
                    <a:pt x="2475" y="2672"/>
                  </a:lnTo>
                  <a:lnTo>
                    <a:pt x="2242" y="2056"/>
                  </a:lnTo>
                  <a:lnTo>
                    <a:pt x="2009" y="1492"/>
                  </a:lnTo>
                  <a:lnTo>
                    <a:pt x="1772" y="959"/>
                  </a:lnTo>
                  <a:lnTo>
                    <a:pt x="1624" y="583"/>
                  </a:lnTo>
                  <a:lnTo>
                    <a:pt x="1595" y="470"/>
                  </a:lnTo>
                  <a:lnTo>
                    <a:pt x="1646" y="427"/>
                  </a:lnTo>
                  <a:lnTo>
                    <a:pt x="1989" y="535"/>
                  </a:lnTo>
                  <a:lnTo>
                    <a:pt x="2307" y="726"/>
                  </a:lnTo>
                  <a:lnTo>
                    <a:pt x="2463" y="851"/>
                  </a:lnTo>
                  <a:lnTo>
                    <a:pt x="2162" y="669"/>
                  </a:lnTo>
                  <a:lnTo>
                    <a:pt x="1835" y="548"/>
                  </a:lnTo>
                  <a:lnTo>
                    <a:pt x="1657" y="486"/>
                  </a:lnTo>
                  <a:lnTo>
                    <a:pt x="2009" y="1291"/>
                  </a:lnTo>
                  <a:lnTo>
                    <a:pt x="2364" y="2150"/>
                  </a:lnTo>
                  <a:lnTo>
                    <a:pt x="2635" y="2879"/>
                  </a:lnTo>
                  <a:lnTo>
                    <a:pt x="2817" y="3350"/>
                  </a:lnTo>
                  <a:lnTo>
                    <a:pt x="2560" y="3350"/>
                  </a:lnTo>
                  <a:lnTo>
                    <a:pt x="2261" y="3534"/>
                  </a:lnTo>
                  <a:lnTo>
                    <a:pt x="2055" y="3758"/>
                  </a:lnTo>
                  <a:lnTo>
                    <a:pt x="1989" y="3930"/>
                  </a:lnTo>
                  <a:lnTo>
                    <a:pt x="1945" y="4129"/>
                  </a:lnTo>
                  <a:lnTo>
                    <a:pt x="1945" y="3899"/>
                  </a:lnTo>
                  <a:lnTo>
                    <a:pt x="2009" y="3695"/>
                  </a:lnTo>
                  <a:lnTo>
                    <a:pt x="2147" y="3559"/>
                  </a:lnTo>
                  <a:lnTo>
                    <a:pt x="2429" y="3332"/>
                  </a:lnTo>
                  <a:lnTo>
                    <a:pt x="2136" y="3255"/>
                  </a:lnTo>
                  <a:lnTo>
                    <a:pt x="2085" y="3317"/>
                  </a:lnTo>
                  <a:lnTo>
                    <a:pt x="2009" y="3271"/>
                  </a:lnTo>
                  <a:lnTo>
                    <a:pt x="1989" y="3064"/>
                  </a:lnTo>
                  <a:lnTo>
                    <a:pt x="1835" y="3015"/>
                  </a:lnTo>
                  <a:lnTo>
                    <a:pt x="1200" y="3368"/>
                  </a:lnTo>
                  <a:lnTo>
                    <a:pt x="1138" y="3633"/>
                  </a:lnTo>
                  <a:lnTo>
                    <a:pt x="1565" y="3396"/>
                  </a:lnTo>
                  <a:lnTo>
                    <a:pt x="1090" y="3695"/>
                  </a:lnTo>
                  <a:lnTo>
                    <a:pt x="912" y="3899"/>
                  </a:lnTo>
                  <a:lnTo>
                    <a:pt x="1009" y="3984"/>
                  </a:lnTo>
                  <a:lnTo>
                    <a:pt x="1406" y="3608"/>
                  </a:lnTo>
                  <a:lnTo>
                    <a:pt x="1360" y="3804"/>
                  </a:lnTo>
                  <a:lnTo>
                    <a:pt x="1565" y="4071"/>
                  </a:lnTo>
                  <a:lnTo>
                    <a:pt x="936" y="4044"/>
                  </a:lnTo>
                  <a:lnTo>
                    <a:pt x="741" y="3949"/>
                  </a:lnTo>
                  <a:lnTo>
                    <a:pt x="600" y="3984"/>
                  </a:lnTo>
                  <a:lnTo>
                    <a:pt x="218" y="3758"/>
                  </a:lnTo>
                  <a:lnTo>
                    <a:pt x="33" y="3462"/>
                  </a:lnTo>
                  <a:lnTo>
                    <a:pt x="0" y="3130"/>
                  </a:lnTo>
                  <a:lnTo>
                    <a:pt x="79" y="3176"/>
                  </a:lnTo>
                  <a:lnTo>
                    <a:pt x="268" y="2965"/>
                  </a:lnTo>
                  <a:lnTo>
                    <a:pt x="448" y="2923"/>
                  </a:lnTo>
                  <a:lnTo>
                    <a:pt x="378" y="3086"/>
                  </a:lnTo>
                  <a:lnTo>
                    <a:pt x="378" y="3281"/>
                  </a:lnTo>
                  <a:lnTo>
                    <a:pt x="901" y="3050"/>
                  </a:lnTo>
                  <a:lnTo>
                    <a:pt x="1026" y="3064"/>
                  </a:lnTo>
                  <a:lnTo>
                    <a:pt x="681" y="3306"/>
                  </a:lnTo>
                  <a:lnTo>
                    <a:pt x="681" y="3462"/>
                  </a:lnTo>
                  <a:lnTo>
                    <a:pt x="1189" y="3189"/>
                  </a:lnTo>
                  <a:lnTo>
                    <a:pt x="1360" y="3189"/>
                  </a:lnTo>
                  <a:lnTo>
                    <a:pt x="1578" y="3064"/>
                  </a:lnTo>
                  <a:lnTo>
                    <a:pt x="1486" y="2907"/>
                  </a:lnTo>
                  <a:lnTo>
                    <a:pt x="1263" y="2767"/>
                  </a:lnTo>
                  <a:lnTo>
                    <a:pt x="1026" y="2688"/>
                  </a:lnTo>
                  <a:lnTo>
                    <a:pt x="802" y="2672"/>
                  </a:lnTo>
                  <a:lnTo>
                    <a:pt x="912" y="2612"/>
                  </a:lnTo>
                  <a:lnTo>
                    <a:pt x="741" y="2563"/>
                  </a:lnTo>
                  <a:lnTo>
                    <a:pt x="518" y="2612"/>
                  </a:lnTo>
                  <a:lnTo>
                    <a:pt x="331" y="2688"/>
                  </a:lnTo>
                  <a:lnTo>
                    <a:pt x="79" y="2855"/>
                  </a:lnTo>
                  <a:lnTo>
                    <a:pt x="393" y="2626"/>
                  </a:lnTo>
                  <a:lnTo>
                    <a:pt x="710" y="2517"/>
                  </a:lnTo>
                  <a:lnTo>
                    <a:pt x="947" y="2481"/>
                  </a:lnTo>
                  <a:lnTo>
                    <a:pt x="1122" y="2481"/>
                  </a:lnTo>
                  <a:lnTo>
                    <a:pt x="1360" y="2330"/>
                  </a:lnTo>
                  <a:lnTo>
                    <a:pt x="1350" y="2215"/>
                  </a:lnTo>
                  <a:lnTo>
                    <a:pt x="539" y="2422"/>
                  </a:lnTo>
                  <a:lnTo>
                    <a:pt x="993" y="2169"/>
                  </a:lnTo>
                  <a:lnTo>
                    <a:pt x="1215" y="2169"/>
                  </a:lnTo>
                  <a:lnTo>
                    <a:pt x="1251" y="2119"/>
                  </a:lnTo>
                  <a:lnTo>
                    <a:pt x="1286" y="1980"/>
                  </a:lnTo>
                  <a:lnTo>
                    <a:pt x="1251" y="1747"/>
                  </a:lnTo>
                  <a:lnTo>
                    <a:pt x="1138" y="1556"/>
                  </a:lnTo>
                  <a:lnTo>
                    <a:pt x="963" y="1337"/>
                  </a:lnTo>
                  <a:lnTo>
                    <a:pt x="730" y="1088"/>
                  </a:lnTo>
                  <a:lnTo>
                    <a:pt x="507" y="882"/>
                  </a:lnTo>
                  <a:lnTo>
                    <a:pt x="378" y="741"/>
                  </a:lnTo>
                  <a:lnTo>
                    <a:pt x="378" y="882"/>
                  </a:lnTo>
                  <a:lnTo>
                    <a:pt x="463" y="1042"/>
                  </a:lnTo>
                  <a:lnTo>
                    <a:pt x="741" y="1358"/>
                  </a:lnTo>
                  <a:lnTo>
                    <a:pt x="463" y="1165"/>
                  </a:lnTo>
                  <a:lnTo>
                    <a:pt x="207" y="1042"/>
                  </a:lnTo>
                  <a:lnTo>
                    <a:pt x="156" y="1007"/>
                  </a:lnTo>
                  <a:lnTo>
                    <a:pt x="79" y="1270"/>
                  </a:lnTo>
                  <a:lnTo>
                    <a:pt x="94" y="814"/>
                  </a:lnTo>
                  <a:lnTo>
                    <a:pt x="110" y="438"/>
                  </a:lnTo>
                  <a:lnTo>
                    <a:pt x="50" y="12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7465680" y="5955480"/>
              <a:ext cx="67680" cy="105480"/>
            </a:xfrm>
            <a:custGeom>
              <a:avLst/>
              <a:gdLst/>
              <a:ahLst/>
              <a:rect l="l" t="t" r="r" b="b"/>
              <a:pathLst>
                <a:path w="884" h="1588">
                  <a:moveTo>
                    <a:pt x="42" y="0"/>
                  </a:moveTo>
                  <a:lnTo>
                    <a:pt x="10" y="105"/>
                  </a:lnTo>
                  <a:lnTo>
                    <a:pt x="10" y="215"/>
                  </a:lnTo>
                  <a:lnTo>
                    <a:pt x="107" y="360"/>
                  </a:lnTo>
                  <a:lnTo>
                    <a:pt x="342" y="498"/>
                  </a:lnTo>
                  <a:lnTo>
                    <a:pt x="884" y="671"/>
                  </a:lnTo>
                  <a:lnTo>
                    <a:pt x="642" y="828"/>
                  </a:lnTo>
                  <a:lnTo>
                    <a:pt x="423" y="1019"/>
                  </a:lnTo>
                  <a:lnTo>
                    <a:pt x="167" y="1272"/>
                  </a:lnTo>
                  <a:lnTo>
                    <a:pt x="42" y="1588"/>
                  </a:lnTo>
                  <a:lnTo>
                    <a:pt x="136" y="1247"/>
                  </a:lnTo>
                  <a:lnTo>
                    <a:pt x="167" y="945"/>
                  </a:lnTo>
                  <a:lnTo>
                    <a:pt x="183" y="1190"/>
                  </a:lnTo>
                  <a:lnTo>
                    <a:pt x="423" y="909"/>
                  </a:lnTo>
                  <a:lnTo>
                    <a:pt x="520" y="814"/>
                  </a:lnTo>
                  <a:lnTo>
                    <a:pt x="199" y="659"/>
                  </a:lnTo>
                  <a:lnTo>
                    <a:pt x="167" y="828"/>
                  </a:lnTo>
                  <a:lnTo>
                    <a:pt x="118" y="671"/>
                  </a:lnTo>
                  <a:lnTo>
                    <a:pt x="22" y="426"/>
                  </a:lnTo>
                  <a:lnTo>
                    <a:pt x="0" y="235"/>
                  </a:lnTo>
                  <a:lnTo>
                    <a:pt x="0" y="78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7477560" y="5956560"/>
              <a:ext cx="93240" cy="52200"/>
            </a:xfrm>
            <a:custGeom>
              <a:avLst/>
              <a:gdLst/>
              <a:ahLst/>
              <a:rect l="l" t="t" r="r" b="b"/>
              <a:pathLst>
                <a:path w="1220" h="786">
                  <a:moveTo>
                    <a:pt x="62" y="18"/>
                  </a:moveTo>
                  <a:lnTo>
                    <a:pt x="223" y="0"/>
                  </a:lnTo>
                  <a:lnTo>
                    <a:pt x="491" y="91"/>
                  </a:lnTo>
                  <a:lnTo>
                    <a:pt x="733" y="251"/>
                  </a:lnTo>
                  <a:lnTo>
                    <a:pt x="1028" y="502"/>
                  </a:lnTo>
                  <a:lnTo>
                    <a:pt x="1220" y="739"/>
                  </a:lnTo>
                  <a:lnTo>
                    <a:pt x="1169" y="786"/>
                  </a:lnTo>
                  <a:lnTo>
                    <a:pt x="996" y="629"/>
                  </a:lnTo>
                  <a:lnTo>
                    <a:pt x="793" y="484"/>
                  </a:lnTo>
                  <a:lnTo>
                    <a:pt x="572" y="376"/>
                  </a:lnTo>
                  <a:lnTo>
                    <a:pt x="376" y="262"/>
                  </a:lnTo>
                  <a:lnTo>
                    <a:pt x="0" y="18"/>
                  </a:lnTo>
                  <a:lnTo>
                    <a:pt x="6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7651080" y="5800680"/>
              <a:ext cx="119520" cy="296640"/>
            </a:xfrm>
            <a:custGeom>
              <a:avLst/>
              <a:gdLst/>
              <a:ahLst/>
              <a:rect l="l" t="t" r="r" b="b"/>
              <a:pathLst>
                <a:path w="1568" h="4437">
                  <a:moveTo>
                    <a:pt x="161" y="83"/>
                  </a:moveTo>
                  <a:lnTo>
                    <a:pt x="99" y="205"/>
                  </a:lnTo>
                  <a:lnTo>
                    <a:pt x="49" y="383"/>
                  </a:lnTo>
                  <a:lnTo>
                    <a:pt x="49" y="583"/>
                  </a:lnTo>
                  <a:lnTo>
                    <a:pt x="99" y="774"/>
                  </a:lnTo>
                  <a:lnTo>
                    <a:pt x="257" y="1090"/>
                  </a:lnTo>
                  <a:lnTo>
                    <a:pt x="431" y="1400"/>
                  </a:lnTo>
                  <a:lnTo>
                    <a:pt x="543" y="1767"/>
                  </a:lnTo>
                  <a:lnTo>
                    <a:pt x="637" y="2172"/>
                  </a:lnTo>
                  <a:lnTo>
                    <a:pt x="719" y="2690"/>
                  </a:lnTo>
                  <a:lnTo>
                    <a:pt x="826" y="3398"/>
                  </a:lnTo>
                  <a:lnTo>
                    <a:pt x="877" y="3846"/>
                  </a:lnTo>
                  <a:lnTo>
                    <a:pt x="1057" y="3270"/>
                  </a:lnTo>
                  <a:lnTo>
                    <a:pt x="1192" y="2743"/>
                  </a:lnTo>
                  <a:lnTo>
                    <a:pt x="1347" y="2033"/>
                  </a:lnTo>
                  <a:lnTo>
                    <a:pt x="1444" y="1496"/>
                  </a:lnTo>
                  <a:lnTo>
                    <a:pt x="1471" y="1148"/>
                  </a:lnTo>
                  <a:lnTo>
                    <a:pt x="1490" y="830"/>
                  </a:lnTo>
                  <a:lnTo>
                    <a:pt x="1506" y="664"/>
                  </a:lnTo>
                  <a:lnTo>
                    <a:pt x="1568" y="567"/>
                  </a:lnTo>
                  <a:lnTo>
                    <a:pt x="1554" y="1169"/>
                  </a:lnTo>
                  <a:lnTo>
                    <a:pt x="1444" y="1908"/>
                  </a:lnTo>
                  <a:lnTo>
                    <a:pt x="1301" y="2582"/>
                  </a:lnTo>
                  <a:lnTo>
                    <a:pt x="1154" y="3195"/>
                  </a:lnTo>
                  <a:lnTo>
                    <a:pt x="971" y="3778"/>
                  </a:lnTo>
                  <a:lnTo>
                    <a:pt x="730" y="4394"/>
                  </a:lnTo>
                  <a:lnTo>
                    <a:pt x="637" y="4437"/>
                  </a:lnTo>
                  <a:lnTo>
                    <a:pt x="826" y="3917"/>
                  </a:lnTo>
                  <a:lnTo>
                    <a:pt x="683" y="2848"/>
                  </a:lnTo>
                  <a:lnTo>
                    <a:pt x="559" y="2015"/>
                  </a:lnTo>
                  <a:lnTo>
                    <a:pt x="402" y="1512"/>
                  </a:lnTo>
                  <a:lnTo>
                    <a:pt x="183" y="1090"/>
                  </a:lnTo>
                  <a:lnTo>
                    <a:pt x="49" y="784"/>
                  </a:lnTo>
                  <a:lnTo>
                    <a:pt x="0" y="602"/>
                  </a:lnTo>
                  <a:lnTo>
                    <a:pt x="0" y="394"/>
                  </a:lnTo>
                  <a:lnTo>
                    <a:pt x="49" y="189"/>
                  </a:lnTo>
                  <a:lnTo>
                    <a:pt x="161" y="0"/>
                  </a:lnTo>
                  <a:lnTo>
                    <a:pt x="161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7643880" y="6098400"/>
              <a:ext cx="120960" cy="67320"/>
            </a:xfrm>
            <a:custGeom>
              <a:avLst/>
              <a:gdLst/>
              <a:ahLst/>
              <a:rect l="l" t="t" r="r" b="b"/>
              <a:pathLst>
                <a:path w="1582" h="1002">
                  <a:moveTo>
                    <a:pt x="457" y="0"/>
                  </a:moveTo>
                  <a:lnTo>
                    <a:pt x="321" y="103"/>
                  </a:lnTo>
                  <a:lnTo>
                    <a:pt x="191" y="235"/>
                  </a:lnTo>
                  <a:lnTo>
                    <a:pt x="81" y="363"/>
                  </a:lnTo>
                  <a:lnTo>
                    <a:pt x="20" y="529"/>
                  </a:lnTo>
                  <a:lnTo>
                    <a:pt x="0" y="765"/>
                  </a:lnTo>
                  <a:lnTo>
                    <a:pt x="68" y="718"/>
                  </a:lnTo>
                  <a:lnTo>
                    <a:pt x="1174" y="1002"/>
                  </a:lnTo>
                  <a:lnTo>
                    <a:pt x="1296" y="988"/>
                  </a:lnTo>
                  <a:lnTo>
                    <a:pt x="1582" y="857"/>
                  </a:lnTo>
                  <a:lnTo>
                    <a:pt x="1246" y="975"/>
                  </a:lnTo>
                  <a:lnTo>
                    <a:pt x="1187" y="940"/>
                  </a:lnTo>
                  <a:lnTo>
                    <a:pt x="969" y="889"/>
                  </a:lnTo>
                  <a:lnTo>
                    <a:pt x="855" y="698"/>
                  </a:lnTo>
                  <a:lnTo>
                    <a:pt x="775" y="640"/>
                  </a:lnTo>
                  <a:lnTo>
                    <a:pt x="523" y="564"/>
                  </a:lnTo>
                  <a:lnTo>
                    <a:pt x="429" y="468"/>
                  </a:lnTo>
                  <a:lnTo>
                    <a:pt x="397" y="373"/>
                  </a:lnTo>
                  <a:lnTo>
                    <a:pt x="383" y="248"/>
                  </a:lnTo>
                  <a:lnTo>
                    <a:pt x="383" y="128"/>
                  </a:lnTo>
                  <a:lnTo>
                    <a:pt x="4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7678080" y="6078600"/>
              <a:ext cx="139680" cy="26640"/>
            </a:xfrm>
            <a:custGeom>
              <a:avLst/>
              <a:gdLst/>
              <a:ahLst/>
              <a:rect l="l" t="t" r="r" b="b"/>
              <a:pathLst>
                <a:path w="1828" h="404">
                  <a:moveTo>
                    <a:pt x="57" y="281"/>
                  </a:moveTo>
                  <a:lnTo>
                    <a:pt x="281" y="250"/>
                  </a:lnTo>
                  <a:lnTo>
                    <a:pt x="862" y="31"/>
                  </a:lnTo>
                  <a:lnTo>
                    <a:pt x="1115" y="46"/>
                  </a:lnTo>
                  <a:lnTo>
                    <a:pt x="1528" y="0"/>
                  </a:lnTo>
                  <a:lnTo>
                    <a:pt x="1587" y="31"/>
                  </a:lnTo>
                  <a:lnTo>
                    <a:pt x="1767" y="301"/>
                  </a:lnTo>
                  <a:lnTo>
                    <a:pt x="1560" y="88"/>
                  </a:lnTo>
                  <a:lnTo>
                    <a:pt x="1479" y="88"/>
                  </a:lnTo>
                  <a:lnTo>
                    <a:pt x="1053" y="88"/>
                  </a:lnTo>
                  <a:lnTo>
                    <a:pt x="1198" y="151"/>
                  </a:lnTo>
                  <a:lnTo>
                    <a:pt x="1440" y="202"/>
                  </a:lnTo>
                  <a:lnTo>
                    <a:pt x="1828" y="404"/>
                  </a:lnTo>
                  <a:lnTo>
                    <a:pt x="1355" y="238"/>
                  </a:lnTo>
                  <a:lnTo>
                    <a:pt x="892" y="112"/>
                  </a:lnTo>
                  <a:lnTo>
                    <a:pt x="798" y="112"/>
                  </a:lnTo>
                  <a:lnTo>
                    <a:pt x="339" y="281"/>
                  </a:lnTo>
                  <a:lnTo>
                    <a:pt x="0" y="332"/>
                  </a:lnTo>
                  <a:lnTo>
                    <a:pt x="57" y="2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7681680" y="5873040"/>
              <a:ext cx="50040" cy="161280"/>
            </a:xfrm>
            <a:custGeom>
              <a:avLst/>
              <a:gdLst/>
              <a:ahLst/>
              <a:rect l="l" t="t" r="r" b="b"/>
              <a:pathLst>
                <a:path w="655" h="2417">
                  <a:moveTo>
                    <a:pt x="0" y="325"/>
                  </a:moveTo>
                  <a:lnTo>
                    <a:pt x="60" y="218"/>
                  </a:lnTo>
                  <a:lnTo>
                    <a:pt x="157" y="112"/>
                  </a:lnTo>
                  <a:lnTo>
                    <a:pt x="281" y="0"/>
                  </a:lnTo>
                  <a:lnTo>
                    <a:pt x="378" y="24"/>
                  </a:lnTo>
                  <a:lnTo>
                    <a:pt x="235" y="121"/>
                  </a:lnTo>
                  <a:lnTo>
                    <a:pt x="328" y="437"/>
                  </a:lnTo>
                  <a:lnTo>
                    <a:pt x="500" y="468"/>
                  </a:lnTo>
                  <a:lnTo>
                    <a:pt x="539" y="250"/>
                  </a:lnTo>
                  <a:lnTo>
                    <a:pt x="539" y="136"/>
                  </a:lnTo>
                  <a:lnTo>
                    <a:pt x="500" y="24"/>
                  </a:lnTo>
                  <a:lnTo>
                    <a:pt x="585" y="136"/>
                  </a:lnTo>
                  <a:lnTo>
                    <a:pt x="585" y="312"/>
                  </a:lnTo>
                  <a:lnTo>
                    <a:pt x="550" y="486"/>
                  </a:lnTo>
                  <a:lnTo>
                    <a:pt x="618" y="749"/>
                  </a:lnTo>
                  <a:lnTo>
                    <a:pt x="645" y="1242"/>
                  </a:lnTo>
                  <a:lnTo>
                    <a:pt x="629" y="1823"/>
                  </a:lnTo>
                  <a:lnTo>
                    <a:pt x="655" y="2342"/>
                  </a:lnTo>
                  <a:lnTo>
                    <a:pt x="629" y="2417"/>
                  </a:lnTo>
                  <a:lnTo>
                    <a:pt x="569" y="1885"/>
                  </a:lnTo>
                  <a:lnTo>
                    <a:pt x="569" y="1332"/>
                  </a:lnTo>
                  <a:lnTo>
                    <a:pt x="569" y="894"/>
                  </a:lnTo>
                  <a:lnTo>
                    <a:pt x="519" y="620"/>
                  </a:lnTo>
                  <a:lnTo>
                    <a:pt x="458" y="534"/>
                  </a:lnTo>
                  <a:lnTo>
                    <a:pt x="328" y="468"/>
                  </a:lnTo>
                  <a:lnTo>
                    <a:pt x="157" y="802"/>
                  </a:lnTo>
                  <a:lnTo>
                    <a:pt x="126" y="703"/>
                  </a:lnTo>
                  <a:lnTo>
                    <a:pt x="262" y="453"/>
                  </a:lnTo>
                  <a:lnTo>
                    <a:pt x="187" y="182"/>
                  </a:lnTo>
                  <a:lnTo>
                    <a:pt x="106" y="281"/>
                  </a:lnTo>
                  <a:lnTo>
                    <a:pt x="29" y="43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7721280" y="5857200"/>
              <a:ext cx="44280" cy="61200"/>
            </a:xfrm>
            <a:custGeom>
              <a:avLst/>
              <a:gdLst/>
              <a:ahLst/>
              <a:rect l="l" t="t" r="r" b="b"/>
              <a:pathLst>
                <a:path w="585" h="919">
                  <a:moveTo>
                    <a:pt x="0" y="251"/>
                  </a:moveTo>
                  <a:lnTo>
                    <a:pt x="191" y="396"/>
                  </a:lnTo>
                  <a:lnTo>
                    <a:pt x="233" y="664"/>
                  </a:lnTo>
                  <a:lnTo>
                    <a:pt x="426" y="300"/>
                  </a:lnTo>
                  <a:lnTo>
                    <a:pt x="585" y="0"/>
                  </a:lnTo>
                  <a:lnTo>
                    <a:pt x="534" y="242"/>
                  </a:lnTo>
                  <a:lnTo>
                    <a:pt x="174" y="919"/>
                  </a:lnTo>
                  <a:lnTo>
                    <a:pt x="198" y="761"/>
                  </a:lnTo>
                  <a:lnTo>
                    <a:pt x="50" y="508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7719480" y="6073200"/>
              <a:ext cx="31680" cy="10440"/>
            </a:xfrm>
            <a:custGeom>
              <a:avLst/>
              <a:gdLst/>
              <a:ahLst/>
              <a:rect l="l" t="t" r="r" b="b"/>
              <a:pathLst>
                <a:path w="416" h="166">
                  <a:moveTo>
                    <a:pt x="218" y="166"/>
                  </a:moveTo>
                  <a:lnTo>
                    <a:pt x="0" y="80"/>
                  </a:lnTo>
                  <a:lnTo>
                    <a:pt x="42" y="0"/>
                  </a:lnTo>
                  <a:lnTo>
                    <a:pt x="416" y="1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7731000" y="5954040"/>
              <a:ext cx="266760" cy="203040"/>
            </a:xfrm>
            <a:custGeom>
              <a:avLst/>
              <a:gdLst/>
              <a:ahLst/>
              <a:rect l="l" t="t" r="r" b="b"/>
              <a:pathLst>
                <a:path w="3494" h="3036">
                  <a:moveTo>
                    <a:pt x="1119" y="2271"/>
                  </a:moveTo>
                  <a:lnTo>
                    <a:pt x="1130" y="2336"/>
                  </a:lnTo>
                  <a:lnTo>
                    <a:pt x="1101" y="2414"/>
                  </a:lnTo>
                  <a:lnTo>
                    <a:pt x="1054" y="2433"/>
                  </a:lnTo>
                  <a:lnTo>
                    <a:pt x="284" y="2338"/>
                  </a:lnTo>
                  <a:lnTo>
                    <a:pt x="292" y="2407"/>
                  </a:lnTo>
                  <a:lnTo>
                    <a:pt x="404" y="2387"/>
                  </a:lnTo>
                  <a:lnTo>
                    <a:pt x="852" y="2442"/>
                  </a:lnTo>
                  <a:lnTo>
                    <a:pt x="771" y="2609"/>
                  </a:lnTo>
                  <a:lnTo>
                    <a:pt x="428" y="2668"/>
                  </a:lnTo>
                  <a:lnTo>
                    <a:pt x="158" y="2552"/>
                  </a:lnTo>
                  <a:lnTo>
                    <a:pt x="68" y="2568"/>
                  </a:lnTo>
                  <a:lnTo>
                    <a:pt x="151" y="2638"/>
                  </a:lnTo>
                  <a:lnTo>
                    <a:pt x="446" y="2679"/>
                  </a:lnTo>
                  <a:lnTo>
                    <a:pt x="752" y="2656"/>
                  </a:lnTo>
                  <a:lnTo>
                    <a:pt x="670" y="2780"/>
                  </a:lnTo>
                  <a:lnTo>
                    <a:pt x="481" y="2895"/>
                  </a:lnTo>
                  <a:lnTo>
                    <a:pt x="158" y="2910"/>
                  </a:lnTo>
                  <a:lnTo>
                    <a:pt x="0" y="2895"/>
                  </a:lnTo>
                  <a:lnTo>
                    <a:pt x="268" y="2954"/>
                  </a:lnTo>
                  <a:lnTo>
                    <a:pt x="455" y="2932"/>
                  </a:lnTo>
                  <a:lnTo>
                    <a:pt x="418" y="3036"/>
                  </a:lnTo>
                  <a:lnTo>
                    <a:pt x="455" y="3025"/>
                  </a:lnTo>
                  <a:lnTo>
                    <a:pt x="525" y="2910"/>
                  </a:lnTo>
                  <a:lnTo>
                    <a:pt x="697" y="2789"/>
                  </a:lnTo>
                  <a:lnTo>
                    <a:pt x="784" y="2668"/>
                  </a:lnTo>
                  <a:lnTo>
                    <a:pt x="3327" y="2668"/>
                  </a:lnTo>
                  <a:lnTo>
                    <a:pt x="3390" y="2495"/>
                  </a:lnTo>
                  <a:lnTo>
                    <a:pt x="3424" y="2200"/>
                  </a:lnTo>
                  <a:lnTo>
                    <a:pt x="3454" y="1985"/>
                  </a:lnTo>
                  <a:lnTo>
                    <a:pt x="2977" y="1849"/>
                  </a:lnTo>
                  <a:lnTo>
                    <a:pt x="3041" y="1780"/>
                  </a:lnTo>
                  <a:lnTo>
                    <a:pt x="3109" y="1833"/>
                  </a:lnTo>
                  <a:lnTo>
                    <a:pt x="3494" y="1886"/>
                  </a:lnTo>
                  <a:lnTo>
                    <a:pt x="3494" y="1844"/>
                  </a:lnTo>
                  <a:lnTo>
                    <a:pt x="3159" y="1785"/>
                  </a:lnTo>
                  <a:lnTo>
                    <a:pt x="2995" y="1598"/>
                  </a:lnTo>
                  <a:lnTo>
                    <a:pt x="2813" y="1805"/>
                  </a:lnTo>
                  <a:lnTo>
                    <a:pt x="2479" y="2336"/>
                  </a:lnTo>
                  <a:lnTo>
                    <a:pt x="2345" y="2236"/>
                  </a:lnTo>
                  <a:lnTo>
                    <a:pt x="2472" y="1955"/>
                  </a:lnTo>
                  <a:lnTo>
                    <a:pt x="2714" y="1671"/>
                  </a:lnTo>
                  <a:lnTo>
                    <a:pt x="2868" y="1559"/>
                  </a:lnTo>
                  <a:lnTo>
                    <a:pt x="2742" y="1303"/>
                  </a:lnTo>
                  <a:lnTo>
                    <a:pt x="2582" y="745"/>
                  </a:lnTo>
                  <a:lnTo>
                    <a:pt x="2707" y="1328"/>
                  </a:lnTo>
                  <a:lnTo>
                    <a:pt x="2771" y="1535"/>
                  </a:lnTo>
                  <a:lnTo>
                    <a:pt x="2544" y="1550"/>
                  </a:lnTo>
                  <a:lnTo>
                    <a:pt x="2272" y="692"/>
                  </a:lnTo>
                  <a:lnTo>
                    <a:pt x="2424" y="552"/>
                  </a:lnTo>
                  <a:lnTo>
                    <a:pt x="1962" y="803"/>
                  </a:lnTo>
                  <a:lnTo>
                    <a:pt x="1962" y="735"/>
                  </a:lnTo>
                  <a:lnTo>
                    <a:pt x="2037" y="602"/>
                  </a:lnTo>
                  <a:lnTo>
                    <a:pt x="2345" y="369"/>
                  </a:lnTo>
                  <a:lnTo>
                    <a:pt x="2439" y="210"/>
                  </a:lnTo>
                  <a:lnTo>
                    <a:pt x="2540" y="614"/>
                  </a:lnTo>
                  <a:lnTo>
                    <a:pt x="2525" y="180"/>
                  </a:lnTo>
                  <a:lnTo>
                    <a:pt x="2403" y="90"/>
                  </a:lnTo>
                  <a:lnTo>
                    <a:pt x="2318" y="88"/>
                  </a:lnTo>
                  <a:lnTo>
                    <a:pt x="2311" y="0"/>
                  </a:lnTo>
                  <a:lnTo>
                    <a:pt x="2311" y="157"/>
                  </a:lnTo>
                  <a:lnTo>
                    <a:pt x="2340" y="297"/>
                  </a:lnTo>
                  <a:lnTo>
                    <a:pt x="2177" y="480"/>
                  </a:lnTo>
                  <a:lnTo>
                    <a:pt x="1905" y="563"/>
                  </a:lnTo>
                  <a:lnTo>
                    <a:pt x="1852" y="231"/>
                  </a:lnTo>
                  <a:lnTo>
                    <a:pt x="1742" y="552"/>
                  </a:lnTo>
                  <a:lnTo>
                    <a:pt x="1485" y="745"/>
                  </a:lnTo>
                  <a:lnTo>
                    <a:pt x="1220" y="818"/>
                  </a:lnTo>
                  <a:lnTo>
                    <a:pt x="944" y="871"/>
                  </a:lnTo>
                  <a:lnTo>
                    <a:pt x="1352" y="835"/>
                  </a:lnTo>
                  <a:lnTo>
                    <a:pt x="1589" y="783"/>
                  </a:lnTo>
                  <a:lnTo>
                    <a:pt x="1371" y="976"/>
                  </a:lnTo>
                  <a:lnTo>
                    <a:pt x="1169" y="1240"/>
                  </a:lnTo>
                  <a:lnTo>
                    <a:pt x="953" y="1621"/>
                  </a:lnTo>
                  <a:lnTo>
                    <a:pt x="842" y="1895"/>
                  </a:lnTo>
                  <a:lnTo>
                    <a:pt x="1087" y="2165"/>
                  </a:lnTo>
                  <a:lnTo>
                    <a:pt x="1191" y="2271"/>
                  </a:lnTo>
                  <a:lnTo>
                    <a:pt x="1172" y="2312"/>
                  </a:lnTo>
                  <a:lnTo>
                    <a:pt x="1331" y="2374"/>
                  </a:lnTo>
                  <a:lnTo>
                    <a:pt x="1415" y="1937"/>
                  </a:lnTo>
                  <a:lnTo>
                    <a:pt x="1589" y="1211"/>
                  </a:lnTo>
                  <a:lnTo>
                    <a:pt x="1698" y="930"/>
                  </a:lnTo>
                  <a:lnTo>
                    <a:pt x="1707" y="1134"/>
                  </a:lnTo>
                  <a:lnTo>
                    <a:pt x="1608" y="1510"/>
                  </a:lnTo>
                  <a:lnTo>
                    <a:pt x="1485" y="2137"/>
                  </a:lnTo>
                  <a:lnTo>
                    <a:pt x="1446" y="2433"/>
                  </a:lnTo>
                  <a:lnTo>
                    <a:pt x="1365" y="2396"/>
                  </a:lnTo>
                  <a:lnTo>
                    <a:pt x="1523" y="2517"/>
                  </a:lnTo>
                  <a:lnTo>
                    <a:pt x="1317" y="2483"/>
                  </a:lnTo>
                  <a:lnTo>
                    <a:pt x="1147" y="2407"/>
                  </a:lnTo>
                  <a:lnTo>
                    <a:pt x="1147" y="2324"/>
                  </a:lnTo>
                  <a:lnTo>
                    <a:pt x="1119" y="22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7788600" y="5829120"/>
              <a:ext cx="121320" cy="163440"/>
            </a:xfrm>
            <a:custGeom>
              <a:avLst/>
              <a:gdLst/>
              <a:ahLst/>
              <a:rect l="l" t="t" r="r" b="b"/>
              <a:pathLst>
                <a:path w="1593" h="2446">
                  <a:moveTo>
                    <a:pt x="0" y="0"/>
                  </a:moveTo>
                  <a:lnTo>
                    <a:pt x="406" y="122"/>
                  </a:lnTo>
                  <a:lnTo>
                    <a:pt x="969" y="385"/>
                  </a:lnTo>
                  <a:lnTo>
                    <a:pt x="1273" y="442"/>
                  </a:lnTo>
                  <a:lnTo>
                    <a:pt x="1294" y="537"/>
                  </a:lnTo>
                  <a:lnTo>
                    <a:pt x="1360" y="512"/>
                  </a:lnTo>
                  <a:lnTo>
                    <a:pt x="1457" y="673"/>
                  </a:lnTo>
                  <a:lnTo>
                    <a:pt x="1554" y="965"/>
                  </a:lnTo>
                  <a:lnTo>
                    <a:pt x="1593" y="1323"/>
                  </a:lnTo>
                  <a:lnTo>
                    <a:pt x="1593" y="1552"/>
                  </a:lnTo>
                  <a:lnTo>
                    <a:pt x="1538" y="1879"/>
                  </a:lnTo>
                  <a:lnTo>
                    <a:pt x="1432" y="2137"/>
                  </a:lnTo>
                  <a:lnTo>
                    <a:pt x="1273" y="2285"/>
                  </a:lnTo>
                  <a:lnTo>
                    <a:pt x="1100" y="2446"/>
                  </a:lnTo>
                  <a:lnTo>
                    <a:pt x="1266" y="2191"/>
                  </a:lnTo>
                  <a:lnTo>
                    <a:pt x="1432" y="1863"/>
                  </a:lnTo>
                  <a:lnTo>
                    <a:pt x="1513" y="1552"/>
                  </a:lnTo>
                  <a:lnTo>
                    <a:pt x="1531" y="1180"/>
                  </a:lnTo>
                  <a:lnTo>
                    <a:pt x="1503" y="910"/>
                  </a:lnTo>
                  <a:lnTo>
                    <a:pt x="1425" y="644"/>
                  </a:lnTo>
                  <a:lnTo>
                    <a:pt x="1335" y="567"/>
                  </a:lnTo>
                  <a:lnTo>
                    <a:pt x="1259" y="1238"/>
                  </a:lnTo>
                  <a:lnTo>
                    <a:pt x="1133" y="1904"/>
                  </a:lnTo>
                  <a:lnTo>
                    <a:pt x="1243" y="1226"/>
                  </a:lnTo>
                  <a:lnTo>
                    <a:pt x="1266" y="537"/>
                  </a:lnTo>
                  <a:lnTo>
                    <a:pt x="918" y="408"/>
                  </a:lnTo>
                  <a:lnTo>
                    <a:pt x="182" y="1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7761240" y="5846400"/>
              <a:ext cx="77040" cy="237600"/>
            </a:xfrm>
            <a:custGeom>
              <a:avLst/>
              <a:gdLst/>
              <a:ahLst/>
              <a:rect l="l" t="t" r="r" b="b"/>
              <a:pathLst>
                <a:path w="1005" h="3558">
                  <a:moveTo>
                    <a:pt x="479" y="0"/>
                  </a:moveTo>
                  <a:lnTo>
                    <a:pt x="611" y="380"/>
                  </a:lnTo>
                  <a:lnTo>
                    <a:pt x="717" y="888"/>
                  </a:lnTo>
                  <a:lnTo>
                    <a:pt x="965" y="791"/>
                  </a:lnTo>
                  <a:lnTo>
                    <a:pt x="1005" y="842"/>
                  </a:lnTo>
                  <a:lnTo>
                    <a:pt x="954" y="1274"/>
                  </a:lnTo>
                  <a:lnTo>
                    <a:pt x="837" y="1712"/>
                  </a:lnTo>
                  <a:lnTo>
                    <a:pt x="645" y="2285"/>
                  </a:lnTo>
                  <a:lnTo>
                    <a:pt x="456" y="2747"/>
                  </a:lnTo>
                  <a:lnTo>
                    <a:pt x="231" y="3288"/>
                  </a:lnTo>
                  <a:lnTo>
                    <a:pt x="71" y="3533"/>
                  </a:lnTo>
                  <a:lnTo>
                    <a:pt x="0" y="3558"/>
                  </a:lnTo>
                  <a:lnTo>
                    <a:pt x="184" y="3263"/>
                  </a:lnTo>
                  <a:lnTo>
                    <a:pt x="385" y="2782"/>
                  </a:lnTo>
                  <a:lnTo>
                    <a:pt x="550" y="2320"/>
                  </a:lnTo>
                  <a:lnTo>
                    <a:pt x="694" y="1916"/>
                  </a:lnTo>
                  <a:lnTo>
                    <a:pt x="827" y="1514"/>
                  </a:lnTo>
                  <a:lnTo>
                    <a:pt x="879" y="1193"/>
                  </a:lnTo>
                  <a:lnTo>
                    <a:pt x="924" y="896"/>
                  </a:lnTo>
                  <a:lnTo>
                    <a:pt x="420" y="1108"/>
                  </a:lnTo>
                  <a:lnTo>
                    <a:pt x="670" y="905"/>
                  </a:lnTo>
                  <a:lnTo>
                    <a:pt x="670" y="870"/>
                  </a:lnTo>
                  <a:lnTo>
                    <a:pt x="597" y="439"/>
                  </a:lnTo>
                  <a:lnTo>
                    <a:pt x="4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"/>
            <p:cNvSpPr/>
            <p:nvPr/>
          </p:nvSpPr>
          <p:spPr>
            <a:xfrm flipH="1">
              <a:off x="7462080" y="6132600"/>
              <a:ext cx="5112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7683480" y="6153840"/>
              <a:ext cx="243720" cy="26640"/>
            </a:xfrm>
            <a:custGeom>
              <a:avLst/>
              <a:gdLst/>
              <a:ahLst/>
              <a:rect l="l" t="t" r="r" b="b"/>
              <a:pathLst>
                <a:path w="3188" h="401">
                  <a:moveTo>
                    <a:pt x="0" y="0"/>
                  </a:moveTo>
                  <a:lnTo>
                    <a:pt x="343" y="401"/>
                  </a:lnTo>
                  <a:lnTo>
                    <a:pt x="3188" y="4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7785720" y="6138360"/>
              <a:ext cx="192960" cy="15480"/>
            </a:xfrm>
            <a:custGeom>
              <a:avLst/>
              <a:gdLst/>
              <a:ahLst/>
              <a:rect l="l" t="t" r="r" b="b"/>
              <a:pathLst>
                <a:path w="2533" h="230">
                  <a:moveTo>
                    <a:pt x="0" y="0"/>
                  </a:moveTo>
                  <a:lnTo>
                    <a:pt x="1752" y="0"/>
                  </a:lnTo>
                  <a:lnTo>
                    <a:pt x="2533" y="2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7684560" y="6213240"/>
              <a:ext cx="17640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1" name=""/>
          <p:cNvSpPr/>
          <p:nvPr/>
        </p:nvSpPr>
        <p:spPr>
          <a:xfrm>
            <a:off x="7539840" y="5059440"/>
            <a:ext cx="4935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2" name=""/>
          <p:cNvGrpSpPr/>
          <p:nvPr/>
        </p:nvGrpSpPr>
        <p:grpSpPr>
          <a:xfrm>
            <a:off x="4057560" y="4932360"/>
            <a:ext cx="1371240" cy="686880"/>
            <a:chOff x="4057560" y="4932360"/>
            <a:chExt cx="1371240" cy="686880"/>
          </a:xfrm>
        </p:grpSpPr>
        <p:grpSp>
          <p:nvGrpSpPr>
            <p:cNvPr id="3943" name=""/>
            <p:cNvGrpSpPr/>
            <p:nvPr/>
          </p:nvGrpSpPr>
          <p:grpSpPr>
            <a:xfrm>
              <a:off x="4057560" y="4932360"/>
              <a:ext cx="1371240" cy="686880"/>
              <a:chOff x="4057560" y="4932360"/>
              <a:chExt cx="1371240" cy="686880"/>
            </a:xfrm>
          </p:grpSpPr>
          <p:sp>
            <p:nvSpPr>
              <p:cNvPr id="3944" name=""/>
              <p:cNvSpPr/>
              <p:nvPr/>
            </p:nvSpPr>
            <p:spPr>
              <a:xfrm>
                <a:off x="4368240" y="5122800"/>
                <a:ext cx="293760" cy="291600"/>
              </a:xfrm>
              <a:custGeom>
                <a:avLst/>
                <a:gdLst/>
                <a:ahLst/>
                <a:rect l="l" t="t" r="r" b="b"/>
                <a:pathLst>
                  <a:path w="3542" h="2755">
                    <a:moveTo>
                      <a:pt x="3542" y="2755"/>
                    </a:moveTo>
                    <a:lnTo>
                      <a:pt x="3452" y="2648"/>
                    </a:lnTo>
                    <a:lnTo>
                      <a:pt x="3415" y="2476"/>
                    </a:lnTo>
                    <a:lnTo>
                      <a:pt x="3307" y="2404"/>
                    </a:lnTo>
                    <a:lnTo>
                      <a:pt x="3290" y="2296"/>
                    </a:lnTo>
                    <a:lnTo>
                      <a:pt x="3355" y="2222"/>
                    </a:lnTo>
                    <a:lnTo>
                      <a:pt x="3355" y="2141"/>
                    </a:lnTo>
                    <a:lnTo>
                      <a:pt x="3314" y="2052"/>
                    </a:lnTo>
                    <a:lnTo>
                      <a:pt x="3248" y="1954"/>
                    </a:lnTo>
                    <a:lnTo>
                      <a:pt x="3248" y="1791"/>
                    </a:lnTo>
                    <a:lnTo>
                      <a:pt x="3307" y="1724"/>
                    </a:lnTo>
                    <a:lnTo>
                      <a:pt x="3299" y="1652"/>
                    </a:lnTo>
                    <a:lnTo>
                      <a:pt x="3233" y="1604"/>
                    </a:lnTo>
                    <a:lnTo>
                      <a:pt x="3200" y="1503"/>
                    </a:lnTo>
                    <a:lnTo>
                      <a:pt x="3209" y="1417"/>
                    </a:lnTo>
                    <a:lnTo>
                      <a:pt x="3191" y="1286"/>
                    </a:lnTo>
                    <a:lnTo>
                      <a:pt x="3166" y="1114"/>
                    </a:lnTo>
                    <a:lnTo>
                      <a:pt x="3166" y="910"/>
                    </a:lnTo>
                    <a:lnTo>
                      <a:pt x="3166" y="754"/>
                    </a:lnTo>
                    <a:lnTo>
                      <a:pt x="3161" y="592"/>
                    </a:lnTo>
                    <a:lnTo>
                      <a:pt x="3125" y="451"/>
                    </a:lnTo>
                    <a:lnTo>
                      <a:pt x="3092" y="360"/>
                    </a:lnTo>
                    <a:lnTo>
                      <a:pt x="2712" y="171"/>
                    </a:lnTo>
                    <a:lnTo>
                      <a:pt x="2492" y="110"/>
                    </a:lnTo>
                    <a:lnTo>
                      <a:pt x="2279" y="68"/>
                    </a:lnTo>
                    <a:lnTo>
                      <a:pt x="2044" y="0"/>
                    </a:lnTo>
                    <a:lnTo>
                      <a:pt x="890" y="27"/>
                    </a:lnTo>
                    <a:lnTo>
                      <a:pt x="556" y="85"/>
                    </a:lnTo>
                    <a:lnTo>
                      <a:pt x="222" y="205"/>
                    </a:lnTo>
                    <a:lnTo>
                      <a:pt x="123" y="264"/>
                    </a:lnTo>
                    <a:lnTo>
                      <a:pt x="40" y="461"/>
                    </a:lnTo>
                    <a:lnTo>
                      <a:pt x="40" y="1145"/>
                    </a:lnTo>
                    <a:lnTo>
                      <a:pt x="0" y="1235"/>
                    </a:lnTo>
                    <a:lnTo>
                      <a:pt x="540" y="2755"/>
                    </a:lnTo>
                    <a:lnTo>
                      <a:pt x="3542" y="275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4381560" y="5129640"/>
                <a:ext cx="133200" cy="144720"/>
              </a:xfrm>
              <a:custGeom>
                <a:avLst/>
                <a:gdLst/>
                <a:ahLst/>
                <a:rect l="l" t="t" r="r" b="b"/>
                <a:pathLst>
                  <a:path w="1609" h="1365">
                    <a:moveTo>
                      <a:pt x="1609" y="1365"/>
                    </a:moveTo>
                    <a:lnTo>
                      <a:pt x="1148" y="499"/>
                    </a:lnTo>
                    <a:lnTo>
                      <a:pt x="1019" y="323"/>
                    </a:lnTo>
                    <a:lnTo>
                      <a:pt x="763" y="187"/>
                    </a:lnTo>
                    <a:lnTo>
                      <a:pt x="493" y="121"/>
                    </a:lnTo>
                    <a:lnTo>
                      <a:pt x="279" y="130"/>
                    </a:lnTo>
                    <a:lnTo>
                      <a:pt x="0" y="169"/>
                    </a:lnTo>
                    <a:lnTo>
                      <a:pt x="67" y="121"/>
                    </a:lnTo>
                    <a:lnTo>
                      <a:pt x="353" y="31"/>
                    </a:lnTo>
                    <a:lnTo>
                      <a:pt x="650" y="0"/>
                    </a:lnTo>
                    <a:lnTo>
                      <a:pt x="862" y="31"/>
                    </a:lnTo>
                    <a:lnTo>
                      <a:pt x="1102" y="255"/>
                    </a:lnTo>
                    <a:lnTo>
                      <a:pt x="1264" y="547"/>
                    </a:lnTo>
                    <a:lnTo>
                      <a:pt x="1346" y="767"/>
                    </a:lnTo>
                    <a:lnTo>
                      <a:pt x="1609" y="1365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4370400" y="5168520"/>
                <a:ext cx="68400" cy="140400"/>
              </a:xfrm>
              <a:custGeom>
                <a:avLst/>
                <a:gdLst/>
                <a:ahLst/>
                <a:rect l="l" t="t" r="r" b="b"/>
                <a:pathLst>
                  <a:path w="829" h="1330">
                    <a:moveTo>
                      <a:pt x="548" y="586"/>
                    </a:moveTo>
                    <a:lnTo>
                      <a:pt x="484" y="464"/>
                    </a:lnTo>
                    <a:lnTo>
                      <a:pt x="394" y="360"/>
                    </a:lnTo>
                    <a:lnTo>
                      <a:pt x="304" y="286"/>
                    </a:lnTo>
                    <a:lnTo>
                      <a:pt x="205" y="235"/>
                    </a:lnTo>
                    <a:lnTo>
                      <a:pt x="156" y="226"/>
                    </a:lnTo>
                    <a:lnTo>
                      <a:pt x="221" y="374"/>
                    </a:lnTo>
                    <a:lnTo>
                      <a:pt x="359" y="554"/>
                    </a:lnTo>
                    <a:lnTo>
                      <a:pt x="516" y="694"/>
                    </a:lnTo>
                    <a:lnTo>
                      <a:pt x="714" y="835"/>
                    </a:lnTo>
                    <a:lnTo>
                      <a:pt x="745" y="851"/>
                    </a:lnTo>
                    <a:lnTo>
                      <a:pt x="829" y="1100"/>
                    </a:lnTo>
                    <a:lnTo>
                      <a:pt x="756" y="1158"/>
                    </a:lnTo>
                    <a:lnTo>
                      <a:pt x="809" y="1330"/>
                    </a:lnTo>
                    <a:lnTo>
                      <a:pt x="631" y="1305"/>
                    </a:lnTo>
                    <a:lnTo>
                      <a:pt x="703" y="1275"/>
                    </a:lnTo>
                    <a:lnTo>
                      <a:pt x="590" y="1127"/>
                    </a:lnTo>
                    <a:lnTo>
                      <a:pt x="304" y="1013"/>
                    </a:lnTo>
                    <a:lnTo>
                      <a:pt x="128" y="888"/>
                    </a:lnTo>
                    <a:lnTo>
                      <a:pt x="82" y="851"/>
                    </a:lnTo>
                    <a:lnTo>
                      <a:pt x="106" y="923"/>
                    </a:lnTo>
                    <a:lnTo>
                      <a:pt x="179" y="1028"/>
                    </a:lnTo>
                    <a:lnTo>
                      <a:pt x="39" y="906"/>
                    </a:lnTo>
                    <a:lnTo>
                      <a:pt x="7" y="791"/>
                    </a:lnTo>
                    <a:lnTo>
                      <a:pt x="0" y="743"/>
                    </a:lnTo>
                    <a:lnTo>
                      <a:pt x="48" y="586"/>
                    </a:lnTo>
                    <a:lnTo>
                      <a:pt x="64" y="0"/>
                    </a:lnTo>
                    <a:lnTo>
                      <a:pt x="286" y="148"/>
                    </a:lnTo>
                    <a:lnTo>
                      <a:pt x="431" y="307"/>
                    </a:lnTo>
                    <a:lnTo>
                      <a:pt x="509" y="448"/>
                    </a:lnTo>
                    <a:lnTo>
                      <a:pt x="548" y="586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4388760" y="5279760"/>
                <a:ext cx="48960" cy="75240"/>
              </a:xfrm>
              <a:custGeom>
                <a:avLst/>
                <a:gdLst/>
                <a:ahLst/>
                <a:rect l="l" t="t" r="r" b="b"/>
                <a:pathLst>
                  <a:path w="593" h="716">
                    <a:moveTo>
                      <a:pt x="19" y="0"/>
                    </a:moveTo>
                    <a:lnTo>
                      <a:pt x="132" y="54"/>
                    </a:lnTo>
                    <a:lnTo>
                      <a:pt x="190" y="187"/>
                    </a:lnTo>
                    <a:lnTo>
                      <a:pt x="331" y="268"/>
                    </a:lnTo>
                    <a:lnTo>
                      <a:pt x="222" y="259"/>
                    </a:lnTo>
                    <a:lnTo>
                      <a:pt x="289" y="310"/>
                    </a:lnTo>
                    <a:lnTo>
                      <a:pt x="455" y="358"/>
                    </a:lnTo>
                    <a:lnTo>
                      <a:pt x="534" y="448"/>
                    </a:lnTo>
                    <a:lnTo>
                      <a:pt x="492" y="538"/>
                    </a:lnTo>
                    <a:lnTo>
                      <a:pt x="388" y="473"/>
                    </a:lnTo>
                    <a:lnTo>
                      <a:pt x="354" y="529"/>
                    </a:lnTo>
                    <a:lnTo>
                      <a:pt x="503" y="587"/>
                    </a:lnTo>
                    <a:lnTo>
                      <a:pt x="593" y="554"/>
                    </a:lnTo>
                    <a:lnTo>
                      <a:pt x="518" y="716"/>
                    </a:lnTo>
                    <a:lnTo>
                      <a:pt x="275" y="554"/>
                    </a:lnTo>
                    <a:lnTo>
                      <a:pt x="0" y="2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4443120" y="5347440"/>
                <a:ext cx="101880" cy="84600"/>
              </a:xfrm>
              <a:custGeom>
                <a:avLst/>
                <a:gdLst/>
                <a:ahLst/>
                <a:rect l="l" t="t" r="r" b="b"/>
                <a:pathLst>
                  <a:path w="1232" h="800">
                    <a:moveTo>
                      <a:pt x="141" y="141"/>
                    </a:moveTo>
                    <a:lnTo>
                      <a:pt x="188" y="171"/>
                    </a:lnTo>
                    <a:lnTo>
                      <a:pt x="215" y="0"/>
                    </a:lnTo>
                    <a:lnTo>
                      <a:pt x="282" y="254"/>
                    </a:lnTo>
                    <a:lnTo>
                      <a:pt x="248" y="325"/>
                    </a:lnTo>
                    <a:lnTo>
                      <a:pt x="575" y="435"/>
                    </a:lnTo>
                    <a:lnTo>
                      <a:pt x="764" y="595"/>
                    </a:lnTo>
                    <a:lnTo>
                      <a:pt x="1174" y="595"/>
                    </a:lnTo>
                    <a:lnTo>
                      <a:pt x="1232" y="717"/>
                    </a:lnTo>
                    <a:lnTo>
                      <a:pt x="764" y="800"/>
                    </a:lnTo>
                    <a:lnTo>
                      <a:pt x="0" y="341"/>
                    </a:lnTo>
                    <a:lnTo>
                      <a:pt x="141" y="14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4451040" y="5166000"/>
                <a:ext cx="185400" cy="205560"/>
              </a:xfrm>
              <a:custGeom>
                <a:avLst/>
                <a:gdLst/>
                <a:ahLst/>
                <a:rect l="l" t="t" r="r" b="b"/>
                <a:pathLst>
                  <a:path w="2241" h="1943">
                    <a:moveTo>
                      <a:pt x="1241" y="0"/>
                    </a:moveTo>
                    <a:lnTo>
                      <a:pt x="1308" y="277"/>
                    </a:lnTo>
                    <a:lnTo>
                      <a:pt x="1314" y="623"/>
                    </a:lnTo>
                    <a:lnTo>
                      <a:pt x="1250" y="1053"/>
                    </a:lnTo>
                    <a:lnTo>
                      <a:pt x="1133" y="1404"/>
                    </a:lnTo>
                    <a:lnTo>
                      <a:pt x="1232" y="1496"/>
                    </a:lnTo>
                    <a:lnTo>
                      <a:pt x="1035" y="1559"/>
                    </a:lnTo>
                    <a:lnTo>
                      <a:pt x="674" y="1519"/>
                    </a:lnTo>
                    <a:lnTo>
                      <a:pt x="248" y="1528"/>
                    </a:lnTo>
                    <a:lnTo>
                      <a:pt x="0" y="1544"/>
                    </a:lnTo>
                    <a:lnTo>
                      <a:pt x="149" y="1722"/>
                    </a:lnTo>
                    <a:lnTo>
                      <a:pt x="1133" y="1803"/>
                    </a:lnTo>
                    <a:lnTo>
                      <a:pt x="1815" y="1943"/>
                    </a:lnTo>
                    <a:lnTo>
                      <a:pt x="1898" y="1886"/>
                    </a:lnTo>
                    <a:lnTo>
                      <a:pt x="1802" y="1812"/>
                    </a:lnTo>
                    <a:lnTo>
                      <a:pt x="1872" y="1748"/>
                    </a:lnTo>
                    <a:lnTo>
                      <a:pt x="2013" y="1722"/>
                    </a:lnTo>
                    <a:lnTo>
                      <a:pt x="2241" y="1739"/>
                    </a:lnTo>
                    <a:lnTo>
                      <a:pt x="2064" y="1634"/>
                    </a:lnTo>
                    <a:lnTo>
                      <a:pt x="1956" y="1501"/>
                    </a:lnTo>
                    <a:lnTo>
                      <a:pt x="1965" y="1404"/>
                    </a:lnTo>
                    <a:lnTo>
                      <a:pt x="2151" y="1307"/>
                    </a:lnTo>
                    <a:lnTo>
                      <a:pt x="2202" y="1168"/>
                    </a:lnTo>
                    <a:lnTo>
                      <a:pt x="2103" y="1215"/>
                    </a:lnTo>
                    <a:lnTo>
                      <a:pt x="1995" y="1210"/>
                    </a:lnTo>
                    <a:lnTo>
                      <a:pt x="1971" y="1168"/>
                    </a:lnTo>
                    <a:lnTo>
                      <a:pt x="2064" y="1075"/>
                    </a:lnTo>
                    <a:lnTo>
                      <a:pt x="1979" y="1071"/>
                    </a:lnTo>
                    <a:lnTo>
                      <a:pt x="1988" y="972"/>
                    </a:lnTo>
                    <a:lnTo>
                      <a:pt x="2028" y="832"/>
                    </a:lnTo>
                    <a:lnTo>
                      <a:pt x="2120" y="876"/>
                    </a:lnTo>
                    <a:lnTo>
                      <a:pt x="2151" y="963"/>
                    </a:lnTo>
                    <a:lnTo>
                      <a:pt x="2186" y="840"/>
                    </a:lnTo>
                    <a:lnTo>
                      <a:pt x="2145" y="537"/>
                    </a:lnTo>
                    <a:lnTo>
                      <a:pt x="2168" y="311"/>
                    </a:lnTo>
                    <a:lnTo>
                      <a:pt x="2094" y="645"/>
                    </a:lnTo>
                    <a:lnTo>
                      <a:pt x="1979" y="816"/>
                    </a:lnTo>
                    <a:lnTo>
                      <a:pt x="1760" y="1134"/>
                    </a:lnTo>
                    <a:lnTo>
                      <a:pt x="1608" y="1282"/>
                    </a:lnTo>
                    <a:lnTo>
                      <a:pt x="1398" y="1422"/>
                    </a:lnTo>
                    <a:lnTo>
                      <a:pt x="1331" y="1429"/>
                    </a:lnTo>
                    <a:lnTo>
                      <a:pt x="1398" y="1307"/>
                    </a:lnTo>
                    <a:lnTo>
                      <a:pt x="1430" y="1111"/>
                    </a:lnTo>
                    <a:lnTo>
                      <a:pt x="1446" y="800"/>
                    </a:lnTo>
                    <a:lnTo>
                      <a:pt x="1430" y="521"/>
                    </a:lnTo>
                    <a:lnTo>
                      <a:pt x="1398" y="269"/>
                    </a:lnTo>
                    <a:lnTo>
                      <a:pt x="1349" y="113"/>
                    </a:lnTo>
                    <a:lnTo>
                      <a:pt x="1241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4605840" y="5377320"/>
                <a:ext cx="46800" cy="37080"/>
              </a:xfrm>
              <a:custGeom>
                <a:avLst/>
                <a:gdLst/>
                <a:ahLst/>
                <a:rect l="l" t="t" r="r" b="b"/>
                <a:pathLst>
                  <a:path w="567" h="351">
                    <a:moveTo>
                      <a:pt x="129" y="0"/>
                    </a:moveTo>
                    <a:lnTo>
                      <a:pt x="198" y="72"/>
                    </a:lnTo>
                    <a:lnTo>
                      <a:pt x="173" y="162"/>
                    </a:lnTo>
                    <a:lnTo>
                      <a:pt x="237" y="114"/>
                    </a:lnTo>
                    <a:lnTo>
                      <a:pt x="261" y="251"/>
                    </a:lnTo>
                    <a:lnTo>
                      <a:pt x="355" y="169"/>
                    </a:lnTo>
                    <a:lnTo>
                      <a:pt x="426" y="219"/>
                    </a:lnTo>
                    <a:lnTo>
                      <a:pt x="375" y="268"/>
                    </a:lnTo>
                    <a:lnTo>
                      <a:pt x="417" y="327"/>
                    </a:lnTo>
                    <a:lnTo>
                      <a:pt x="507" y="309"/>
                    </a:lnTo>
                    <a:lnTo>
                      <a:pt x="567" y="351"/>
                    </a:lnTo>
                    <a:lnTo>
                      <a:pt x="204" y="351"/>
                    </a:lnTo>
                    <a:lnTo>
                      <a:pt x="0" y="196"/>
                    </a:lnTo>
                    <a:lnTo>
                      <a:pt x="23" y="37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4624200" y="5309280"/>
                <a:ext cx="12960" cy="20880"/>
              </a:xfrm>
              <a:custGeom>
                <a:avLst/>
                <a:gdLst/>
                <a:ahLst/>
                <a:rect l="l" t="t" r="r" b="b"/>
                <a:pathLst>
                  <a:path w="156" h="200">
                    <a:moveTo>
                      <a:pt x="0" y="79"/>
                    </a:moveTo>
                    <a:lnTo>
                      <a:pt x="81" y="79"/>
                    </a:lnTo>
                    <a:lnTo>
                      <a:pt x="74" y="137"/>
                    </a:lnTo>
                    <a:lnTo>
                      <a:pt x="18" y="128"/>
                    </a:lnTo>
                    <a:lnTo>
                      <a:pt x="127" y="200"/>
                    </a:lnTo>
                    <a:lnTo>
                      <a:pt x="156" y="0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4527360" y="5364360"/>
                <a:ext cx="80280" cy="65880"/>
              </a:xfrm>
              <a:custGeom>
                <a:avLst/>
                <a:gdLst/>
                <a:ahLst/>
                <a:rect l="l" t="t" r="r" b="b"/>
                <a:pathLst>
                  <a:path w="966" h="621">
                    <a:moveTo>
                      <a:pt x="0" y="237"/>
                    </a:moveTo>
                    <a:lnTo>
                      <a:pt x="70" y="310"/>
                    </a:lnTo>
                    <a:lnTo>
                      <a:pt x="138" y="432"/>
                    </a:lnTo>
                    <a:lnTo>
                      <a:pt x="171" y="545"/>
                    </a:lnTo>
                    <a:lnTo>
                      <a:pt x="303" y="621"/>
                    </a:lnTo>
                    <a:lnTo>
                      <a:pt x="484" y="596"/>
                    </a:lnTo>
                    <a:lnTo>
                      <a:pt x="681" y="561"/>
                    </a:lnTo>
                    <a:lnTo>
                      <a:pt x="966" y="450"/>
                    </a:lnTo>
                    <a:lnTo>
                      <a:pt x="966" y="220"/>
                    </a:lnTo>
                    <a:lnTo>
                      <a:pt x="910" y="81"/>
                    </a:lnTo>
                    <a:lnTo>
                      <a:pt x="562" y="0"/>
                    </a:lnTo>
                    <a:lnTo>
                      <a:pt x="244" y="160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4516920" y="5185440"/>
                <a:ext cx="10440" cy="11880"/>
              </a:xfrm>
              <a:custGeom>
                <a:avLst/>
                <a:gdLst/>
                <a:ahLst/>
                <a:rect l="l" t="t" r="r" b="b"/>
                <a:pathLst>
                  <a:path w="125" h="113">
                    <a:moveTo>
                      <a:pt x="90" y="0"/>
                    </a:moveTo>
                    <a:lnTo>
                      <a:pt x="33" y="14"/>
                    </a:lnTo>
                    <a:lnTo>
                      <a:pt x="0" y="69"/>
                    </a:lnTo>
                    <a:lnTo>
                      <a:pt x="42" y="113"/>
                    </a:lnTo>
                    <a:lnTo>
                      <a:pt x="99" y="113"/>
                    </a:lnTo>
                    <a:lnTo>
                      <a:pt x="125" y="78"/>
                    </a:lnTo>
                    <a:lnTo>
                      <a:pt x="125" y="3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4526280" y="5259960"/>
                <a:ext cx="7200" cy="9360"/>
              </a:xfrm>
              <a:custGeom>
                <a:avLst/>
                <a:gdLst/>
                <a:ahLst/>
                <a:rect l="l" t="t" r="r" b="b"/>
                <a:pathLst>
                  <a:path w="88" h="94">
                    <a:moveTo>
                      <a:pt x="82" y="21"/>
                    </a:moveTo>
                    <a:lnTo>
                      <a:pt x="55" y="0"/>
                    </a:lnTo>
                    <a:lnTo>
                      <a:pt x="7" y="12"/>
                    </a:lnTo>
                    <a:lnTo>
                      <a:pt x="0" y="69"/>
                    </a:lnTo>
                    <a:lnTo>
                      <a:pt x="42" y="94"/>
                    </a:lnTo>
                    <a:lnTo>
                      <a:pt x="88" y="69"/>
                    </a:lnTo>
                    <a:lnTo>
                      <a:pt x="82" y="21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4464360" y="4967640"/>
                <a:ext cx="95400" cy="212760"/>
              </a:xfrm>
              <a:custGeom>
                <a:avLst/>
                <a:gdLst/>
                <a:ahLst/>
                <a:rect l="l" t="t" r="r" b="b"/>
                <a:pathLst>
                  <a:path w="1157" h="2007">
                    <a:moveTo>
                      <a:pt x="35" y="1688"/>
                    </a:moveTo>
                    <a:lnTo>
                      <a:pt x="95" y="1780"/>
                    </a:lnTo>
                    <a:lnTo>
                      <a:pt x="251" y="1881"/>
                    </a:lnTo>
                    <a:lnTo>
                      <a:pt x="411" y="1937"/>
                    </a:lnTo>
                    <a:lnTo>
                      <a:pt x="596" y="1976"/>
                    </a:lnTo>
                    <a:lnTo>
                      <a:pt x="789" y="2007"/>
                    </a:lnTo>
                    <a:lnTo>
                      <a:pt x="895" y="1971"/>
                    </a:lnTo>
                    <a:lnTo>
                      <a:pt x="945" y="1911"/>
                    </a:lnTo>
                    <a:lnTo>
                      <a:pt x="956" y="1766"/>
                    </a:lnTo>
                    <a:lnTo>
                      <a:pt x="915" y="1577"/>
                    </a:lnTo>
                    <a:lnTo>
                      <a:pt x="875" y="1422"/>
                    </a:lnTo>
                    <a:lnTo>
                      <a:pt x="961" y="1317"/>
                    </a:lnTo>
                    <a:lnTo>
                      <a:pt x="1055" y="1143"/>
                    </a:lnTo>
                    <a:lnTo>
                      <a:pt x="1093" y="1009"/>
                    </a:lnTo>
                    <a:lnTo>
                      <a:pt x="1148" y="772"/>
                    </a:lnTo>
                    <a:lnTo>
                      <a:pt x="1157" y="648"/>
                    </a:lnTo>
                    <a:lnTo>
                      <a:pt x="1157" y="480"/>
                    </a:lnTo>
                    <a:lnTo>
                      <a:pt x="1125" y="231"/>
                    </a:lnTo>
                    <a:lnTo>
                      <a:pt x="994" y="14"/>
                    </a:lnTo>
                    <a:lnTo>
                      <a:pt x="411" y="0"/>
                    </a:lnTo>
                    <a:lnTo>
                      <a:pt x="129" y="378"/>
                    </a:lnTo>
                    <a:lnTo>
                      <a:pt x="0" y="576"/>
                    </a:lnTo>
                    <a:lnTo>
                      <a:pt x="5" y="733"/>
                    </a:lnTo>
                    <a:lnTo>
                      <a:pt x="69" y="1056"/>
                    </a:lnTo>
                    <a:lnTo>
                      <a:pt x="23" y="1568"/>
                    </a:lnTo>
                    <a:lnTo>
                      <a:pt x="35" y="1688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4469040" y="5058360"/>
                <a:ext cx="10440" cy="24480"/>
              </a:xfrm>
              <a:custGeom>
                <a:avLst/>
                <a:gdLst/>
                <a:ahLst/>
                <a:rect l="l" t="t" r="r" b="b"/>
                <a:pathLst>
                  <a:path w="129" h="233">
                    <a:moveTo>
                      <a:pt x="33" y="12"/>
                    </a:moveTo>
                    <a:lnTo>
                      <a:pt x="67" y="0"/>
                    </a:lnTo>
                    <a:lnTo>
                      <a:pt x="101" y="25"/>
                    </a:lnTo>
                    <a:lnTo>
                      <a:pt x="129" y="79"/>
                    </a:lnTo>
                    <a:lnTo>
                      <a:pt x="123" y="194"/>
                    </a:lnTo>
                    <a:lnTo>
                      <a:pt x="81" y="233"/>
                    </a:lnTo>
                    <a:lnTo>
                      <a:pt x="0" y="194"/>
                    </a:lnTo>
                    <a:lnTo>
                      <a:pt x="0" y="95"/>
                    </a:lnTo>
                    <a:lnTo>
                      <a:pt x="33" y="12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4555440" y="506520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4" h="123">
                    <a:moveTo>
                      <a:pt x="24" y="0"/>
                    </a:moveTo>
                    <a:lnTo>
                      <a:pt x="0" y="123"/>
                    </a:lnTo>
                    <a:lnTo>
                      <a:pt x="28" y="121"/>
                    </a:lnTo>
                    <a:lnTo>
                      <a:pt x="44" y="88"/>
                    </a:lnTo>
                    <a:lnTo>
                      <a:pt x="39" y="4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4079160" y="5153400"/>
                <a:ext cx="433440" cy="410040"/>
              </a:xfrm>
              <a:custGeom>
                <a:avLst/>
                <a:gdLst/>
                <a:ahLst/>
                <a:rect l="l" t="t" r="r" b="b"/>
                <a:pathLst>
                  <a:path w="5233" h="3878">
                    <a:moveTo>
                      <a:pt x="4452" y="3024"/>
                    </a:moveTo>
                    <a:lnTo>
                      <a:pt x="4030" y="2787"/>
                    </a:lnTo>
                    <a:lnTo>
                      <a:pt x="3672" y="2893"/>
                    </a:lnTo>
                    <a:lnTo>
                      <a:pt x="3525" y="2812"/>
                    </a:lnTo>
                    <a:lnTo>
                      <a:pt x="3052" y="2393"/>
                    </a:lnTo>
                    <a:lnTo>
                      <a:pt x="2947" y="3010"/>
                    </a:lnTo>
                    <a:lnTo>
                      <a:pt x="3131" y="3089"/>
                    </a:lnTo>
                    <a:lnTo>
                      <a:pt x="3356" y="2999"/>
                    </a:lnTo>
                    <a:lnTo>
                      <a:pt x="3608" y="3076"/>
                    </a:lnTo>
                    <a:lnTo>
                      <a:pt x="3790" y="3063"/>
                    </a:lnTo>
                    <a:lnTo>
                      <a:pt x="4318" y="3052"/>
                    </a:lnTo>
                    <a:lnTo>
                      <a:pt x="4468" y="3234"/>
                    </a:lnTo>
                    <a:lnTo>
                      <a:pt x="4410" y="3612"/>
                    </a:lnTo>
                    <a:lnTo>
                      <a:pt x="4336" y="3681"/>
                    </a:lnTo>
                    <a:lnTo>
                      <a:pt x="3845" y="3681"/>
                    </a:lnTo>
                    <a:lnTo>
                      <a:pt x="1901" y="3878"/>
                    </a:lnTo>
                    <a:lnTo>
                      <a:pt x="11" y="3654"/>
                    </a:lnTo>
                    <a:lnTo>
                      <a:pt x="0" y="1987"/>
                    </a:lnTo>
                    <a:lnTo>
                      <a:pt x="103" y="1510"/>
                    </a:lnTo>
                    <a:lnTo>
                      <a:pt x="304" y="1037"/>
                    </a:lnTo>
                    <a:lnTo>
                      <a:pt x="408" y="892"/>
                    </a:lnTo>
                    <a:lnTo>
                      <a:pt x="685" y="590"/>
                    </a:lnTo>
                    <a:lnTo>
                      <a:pt x="975" y="394"/>
                    </a:lnTo>
                    <a:lnTo>
                      <a:pt x="1213" y="248"/>
                    </a:lnTo>
                    <a:lnTo>
                      <a:pt x="1466" y="145"/>
                    </a:lnTo>
                    <a:lnTo>
                      <a:pt x="1572" y="0"/>
                    </a:lnTo>
                    <a:lnTo>
                      <a:pt x="2604" y="343"/>
                    </a:lnTo>
                    <a:lnTo>
                      <a:pt x="2747" y="514"/>
                    </a:lnTo>
                    <a:lnTo>
                      <a:pt x="2947" y="643"/>
                    </a:lnTo>
                    <a:lnTo>
                      <a:pt x="3172" y="828"/>
                    </a:lnTo>
                    <a:lnTo>
                      <a:pt x="3474" y="1210"/>
                    </a:lnTo>
                    <a:lnTo>
                      <a:pt x="4307" y="1995"/>
                    </a:lnTo>
                    <a:lnTo>
                      <a:pt x="4491" y="2079"/>
                    </a:lnTo>
                    <a:lnTo>
                      <a:pt x="4544" y="2236"/>
                    </a:lnTo>
                    <a:lnTo>
                      <a:pt x="4956" y="2340"/>
                    </a:lnTo>
                    <a:lnTo>
                      <a:pt x="5140" y="2551"/>
                    </a:lnTo>
                    <a:lnTo>
                      <a:pt x="5233" y="2812"/>
                    </a:lnTo>
                    <a:lnTo>
                      <a:pt x="4452" y="3024"/>
                    </a:lnTo>
                    <a:close/>
                  </a:path>
                </a:pathLst>
              </a:custGeom>
              <a:solidFill>
                <a:srgbClr val="00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4512960" y="5381280"/>
                <a:ext cx="66960" cy="134640"/>
              </a:xfrm>
              <a:custGeom>
                <a:avLst/>
                <a:gdLst/>
                <a:ahLst/>
                <a:rect l="l" t="t" r="r" b="b"/>
                <a:pathLst>
                  <a:path w="803" h="1268">
                    <a:moveTo>
                      <a:pt x="0" y="23"/>
                    </a:moveTo>
                    <a:lnTo>
                      <a:pt x="0" y="44"/>
                    </a:lnTo>
                    <a:lnTo>
                      <a:pt x="12" y="69"/>
                    </a:lnTo>
                    <a:lnTo>
                      <a:pt x="708" y="1183"/>
                    </a:lnTo>
                    <a:lnTo>
                      <a:pt x="803" y="1268"/>
                    </a:lnTo>
                    <a:lnTo>
                      <a:pt x="759" y="1139"/>
                    </a:lnTo>
                    <a:lnTo>
                      <a:pt x="61" y="5"/>
                    </a:lnTo>
                    <a:lnTo>
                      <a:pt x="19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4462560" y="5439240"/>
                <a:ext cx="100080" cy="81000"/>
              </a:xfrm>
              <a:custGeom>
                <a:avLst/>
                <a:gdLst/>
                <a:ahLst/>
                <a:rect l="l" t="t" r="r" b="b"/>
                <a:pathLst>
                  <a:path w="1202" h="775">
                    <a:moveTo>
                      <a:pt x="0" y="289"/>
                    </a:moveTo>
                    <a:lnTo>
                      <a:pt x="63" y="132"/>
                    </a:lnTo>
                    <a:lnTo>
                      <a:pt x="182" y="66"/>
                    </a:lnTo>
                    <a:lnTo>
                      <a:pt x="287" y="81"/>
                    </a:lnTo>
                    <a:lnTo>
                      <a:pt x="487" y="118"/>
                    </a:lnTo>
                    <a:lnTo>
                      <a:pt x="607" y="28"/>
                    </a:lnTo>
                    <a:lnTo>
                      <a:pt x="709" y="0"/>
                    </a:lnTo>
                    <a:lnTo>
                      <a:pt x="1147" y="66"/>
                    </a:lnTo>
                    <a:lnTo>
                      <a:pt x="1188" y="171"/>
                    </a:lnTo>
                    <a:lnTo>
                      <a:pt x="1135" y="199"/>
                    </a:lnTo>
                    <a:lnTo>
                      <a:pt x="793" y="224"/>
                    </a:lnTo>
                    <a:lnTo>
                      <a:pt x="1162" y="382"/>
                    </a:lnTo>
                    <a:lnTo>
                      <a:pt x="1202" y="475"/>
                    </a:lnTo>
                    <a:lnTo>
                      <a:pt x="1174" y="552"/>
                    </a:lnTo>
                    <a:lnTo>
                      <a:pt x="1068" y="630"/>
                    </a:lnTo>
                    <a:lnTo>
                      <a:pt x="1029" y="738"/>
                    </a:lnTo>
                    <a:lnTo>
                      <a:pt x="709" y="775"/>
                    </a:lnTo>
                    <a:lnTo>
                      <a:pt x="130" y="710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4204080" y="5040720"/>
                <a:ext cx="135720" cy="202320"/>
              </a:xfrm>
              <a:custGeom>
                <a:avLst/>
                <a:gdLst/>
                <a:ahLst/>
                <a:rect l="l" t="t" r="r" b="b"/>
                <a:pathLst>
                  <a:path w="1639" h="1907">
                    <a:moveTo>
                      <a:pt x="0" y="538"/>
                    </a:moveTo>
                    <a:lnTo>
                      <a:pt x="53" y="850"/>
                    </a:lnTo>
                    <a:lnTo>
                      <a:pt x="73" y="949"/>
                    </a:lnTo>
                    <a:lnTo>
                      <a:pt x="127" y="1008"/>
                    </a:lnTo>
                    <a:lnTo>
                      <a:pt x="99" y="1109"/>
                    </a:lnTo>
                    <a:lnTo>
                      <a:pt x="154" y="1217"/>
                    </a:lnTo>
                    <a:lnTo>
                      <a:pt x="207" y="1305"/>
                    </a:lnTo>
                    <a:lnTo>
                      <a:pt x="272" y="1409"/>
                    </a:lnTo>
                    <a:lnTo>
                      <a:pt x="495" y="1599"/>
                    </a:lnTo>
                    <a:lnTo>
                      <a:pt x="784" y="1907"/>
                    </a:lnTo>
                    <a:lnTo>
                      <a:pt x="822" y="1859"/>
                    </a:lnTo>
                    <a:lnTo>
                      <a:pt x="881" y="1736"/>
                    </a:lnTo>
                    <a:lnTo>
                      <a:pt x="905" y="1598"/>
                    </a:lnTo>
                    <a:lnTo>
                      <a:pt x="1030" y="1630"/>
                    </a:lnTo>
                    <a:lnTo>
                      <a:pt x="1155" y="1617"/>
                    </a:lnTo>
                    <a:lnTo>
                      <a:pt x="1213" y="1584"/>
                    </a:lnTo>
                    <a:lnTo>
                      <a:pt x="1270" y="1522"/>
                    </a:lnTo>
                    <a:lnTo>
                      <a:pt x="1429" y="1179"/>
                    </a:lnTo>
                    <a:lnTo>
                      <a:pt x="1510" y="1077"/>
                    </a:lnTo>
                    <a:lnTo>
                      <a:pt x="1572" y="905"/>
                    </a:lnTo>
                    <a:lnTo>
                      <a:pt x="1586" y="718"/>
                    </a:lnTo>
                    <a:lnTo>
                      <a:pt x="1618" y="632"/>
                    </a:lnTo>
                    <a:lnTo>
                      <a:pt x="1635" y="575"/>
                    </a:lnTo>
                    <a:lnTo>
                      <a:pt x="1639" y="261"/>
                    </a:lnTo>
                    <a:lnTo>
                      <a:pt x="1609" y="118"/>
                    </a:lnTo>
                    <a:lnTo>
                      <a:pt x="1540" y="0"/>
                    </a:lnTo>
                    <a:lnTo>
                      <a:pt x="207" y="155"/>
                    </a:lnTo>
                    <a:lnTo>
                      <a:pt x="0" y="538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4262400" y="5251680"/>
                <a:ext cx="30240" cy="204120"/>
              </a:xfrm>
              <a:custGeom>
                <a:avLst/>
                <a:gdLst/>
                <a:ahLst/>
                <a:rect l="l" t="t" r="r" b="b"/>
                <a:pathLst>
                  <a:path w="369" h="1920">
                    <a:moveTo>
                      <a:pt x="92" y="0"/>
                    </a:moveTo>
                    <a:lnTo>
                      <a:pt x="40" y="52"/>
                    </a:lnTo>
                    <a:lnTo>
                      <a:pt x="0" y="142"/>
                    </a:lnTo>
                    <a:lnTo>
                      <a:pt x="27" y="313"/>
                    </a:lnTo>
                    <a:lnTo>
                      <a:pt x="14" y="973"/>
                    </a:lnTo>
                    <a:lnTo>
                      <a:pt x="40" y="1433"/>
                    </a:lnTo>
                    <a:lnTo>
                      <a:pt x="119" y="1920"/>
                    </a:lnTo>
                    <a:lnTo>
                      <a:pt x="200" y="1920"/>
                    </a:lnTo>
                    <a:lnTo>
                      <a:pt x="319" y="1920"/>
                    </a:lnTo>
                    <a:lnTo>
                      <a:pt x="369" y="1841"/>
                    </a:lnTo>
                    <a:lnTo>
                      <a:pt x="263" y="1498"/>
                    </a:lnTo>
                    <a:lnTo>
                      <a:pt x="212" y="1169"/>
                    </a:lnTo>
                    <a:lnTo>
                      <a:pt x="200" y="776"/>
                    </a:lnTo>
                    <a:lnTo>
                      <a:pt x="159" y="313"/>
                    </a:lnTo>
                    <a:lnTo>
                      <a:pt x="185" y="211"/>
                    </a:lnTo>
                    <a:lnTo>
                      <a:pt x="159" y="66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4277520" y="4988880"/>
                <a:ext cx="75600" cy="99000"/>
              </a:xfrm>
              <a:custGeom>
                <a:avLst/>
                <a:gdLst/>
                <a:ahLst/>
                <a:rect l="l" t="t" r="r" b="b"/>
                <a:pathLst>
                  <a:path w="914" h="936">
                    <a:moveTo>
                      <a:pt x="635" y="499"/>
                    </a:moveTo>
                    <a:lnTo>
                      <a:pt x="714" y="607"/>
                    </a:lnTo>
                    <a:lnTo>
                      <a:pt x="844" y="936"/>
                    </a:lnTo>
                    <a:lnTo>
                      <a:pt x="899" y="855"/>
                    </a:lnTo>
                    <a:lnTo>
                      <a:pt x="914" y="581"/>
                    </a:lnTo>
                    <a:lnTo>
                      <a:pt x="914" y="510"/>
                    </a:lnTo>
                    <a:lnTo>
                      <a:pt x="859" y="462"/>
                    </a:lnTo>
                    <a:lnTo>
                      <a:pt x="767" y="381"/>
                    </a:lnTo>
                    <a:lnTo>
                      <a:pt x="686" y="224"/>
                    </a:lnTo>
                    <a:lnTo>
                      <a:pt x="541" y="79"/>
                    </a:lnTo>
                    <a:lnTo>
                      <a:pt x="356" y="40"/>
                    </a:lnTo>
                    <a:lnTo>
                      <a:pt x="145" y="0"/>
                    </a:lnTo>
                    <a:lnTo>
                      <a:pt x="0" y="51"/>
                    </a:lnTo>
                    <a:lnTo>
                      <a:pt x="15" y="593"/>
                    </a:lnTo>
                    <a:lnTo>
                      <a:pt x="635" y="499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4268880" y="5095800"/>
                <a:ext cx="20160" cy="10080"/>
              </a:xfrm>
              <a:custGeom>
                <a:avLst/>
                <a:gdLst/>
                <a:ahLst/>
                <a:rect l="l" t="t" r="r" b="b"/>
                <a:pathLst>
                  <a:path w="251" h="93">
                    <a:moveTo>
                      <a:pt x="0" y="55"/>
                    </a:moveTo>
                    <a:lnTo>
                      <a:pt x="147" y="70"/>
                    </a:lnTo>
                    <a:lnTo>
                      <a:pt x="251" y="93"/>
                    </a:lnTo>
                    <a:lnTo>
                      <a:pt x="196" y="0"/>
                    </a:lnTo>
                    <a:lnTo>
                      <a:pt x="53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4316040" y="5107680"/>
                <a:ext cx="15120" cy="11520"/>
              </a:xfrm>
              <a:custGeom>
                <a:avLst/>
                <a:gdLst/>
                <a:ahLst/>
                <a:rect l="l" t="t" r="r" b="b"/>
                <a:pathLst>
                  <a:path w="183" h="119">
                    <a:moveTo>
                      <a:pt x="0" y="66"/>
                    </a:moveTo>
                    <a:lnTo>
                      <a:pt x="106" y="119"/>
                    </a:lnTo>
                    <a:lnTo>
                      <a:pt x="183" y="105"/>
                    </a:lnTo>
                    <a:lnTo>
                      <a:pt x="172" y="77"/>
                    </a:lnTo>
                    <a:lnTo>
                      <a:pt x="37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4494240" y="503460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18" h="86">
                    <a:moveTo>
                      <a:pt x="0" y="14"/>
                    </a:moveTo>
                    <a:lnTo>
                      <a:pt x="62" y="60"/>
                    </a:lnTo>
                    <a:lnTo>
                      <a:pt x="97" y="86"/>
                    </a:lnTo>
                    <a:lnTo>
                      <a:pt x="181" y="86"/>
                    </a:lnTo>
                    <a:lnTo>
                      <a:pt x="218" y="58"/>
                    </a:lnTo>
                    <a:lnTo>
                      <a:pt x="177" y="9"/>
                    </a:lnTo>
                    <a:lnTo>
                      <a:pt x="103" y="0"/>
                    </a:lnTo>
                    <a:lnTo>
                      <a:pt x="20" y="9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4533480" y="5038200"/>
                <a:ext cx="17640" cy="8280"/>
              </a:xfrm>
              <a:custGeom>
                <a:avLst/>
                <a:gdLst/>
                <a:ahLst/>
                <a:rect l="l" t="t" r="r" b="b"/>
                <a:pathLst>
                  <a:path w="216" h="83">
                    <a:moveTo>
                      <a:pt x="0" y="48"/>
                    </a:moveTo>
                    <a:lnTo>
                      <a:pt x="50" y="7"/>
                    </a:lnTo>
                    <a:lnTo>
                      <a:pt x="130" y="0"/>
                    </a:lnTo>
                    <a:lnTo>
                      <a:pt x="216" y="35"/>
                    </a:lnTo>
                    <a:lnTo>
                      <a:pt x="163" y="66"/>
                    </a:lnTo>
                    <a:lnTo>
                      <a:pt x="121" y="81"/>
                    </a:lnTo>
                    <a:lnTo>
                      <a:pt x="75" y="83"/>
                    </a:lnTo>
                    <a:lnTo>
                      <a:pt x="18" y="62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4506840" y="5089680"/>
                <a:ext cx="28080" cy="7560"/>
              </a:xfrm>
              <a:custGeom>
                <a:avLst/>
                <a:gdLst/>
                <a:ahLst/>
                <a:rect l="l" t="t" r="r" b="b"/>
                <a:pathLst>
                  <a:path w="350" h="67">
                    <a:moveTo>
                      <a:pt x="0" y="4"/>
                    </a:moveTo>
                    <a:lnTo>
                      <a:pt x="82" y="50"/>
                    </a:lnTo>
                    <a:lnTo>
                      <a:pt x="203" y="67"/>
                    </a:lnTo>
                    <a:lnTo>
                      <a:pt x="260" y="65"/>
                    </a:lnTo>
                    <a:lnTo>
                      <a:pt x="299" y="46"/>
                    </a:lnTo>
                    <a:lnTo>
                      <a:pt x="332" y="21"/>
                    </a:lnTo>
                    <a:lnTo>
                      <a:pt x="350" y="0"/>
                    </a:lnTo>
                    <a:lnTo>
                      <a:pt x="249" y="6"/>
                    </a:lnTo>
                    <a:lnTo>
                      <a:pt x="194" y="14"/>
                    </a:lnTo>
                    <a:lnTo>
                      <a:pt x="108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4987440" y="5120280"/>
                <a:ext cx="391680" cy="442440"/>
              </a:xfrm>
              <a:custGeom>
                <a:avLst/>
                <a:gdLst/>
                <a:ahLst/>
                <a:rect l="l" t="t" r="r" b="b"/>
                <a:pathLst>
                  <a:path w="4729" h="4178">
                    <a:moveTo>
                      <a:pt x="602" y="3182"/>
                    </a:moveTo>
                    <a:lnTo>
                      <a:pt x="1411" y="2760"/>
                    </a:lnTo>
                    <a:lnTo>
                      <a:pt x="1677" y="2463"/>
                    </a:lnTo>
                    <a:lnTo>
                      <a:pt x="1928" y="3087"/>
                    </a:lnTo>
                    <a:lnTo>
                      <a:pt x="1940" y="3300"/>
                    </a:lnTo>
                    <a:lnTo>
                      <a:pt x="1846" y="3325"/>
                    </a:lnTo>
                    <a:lnTo>
                      <a:pt x="1640" y="3288"/>
                    </a:lnTo>
                    <a:lnTo>
                      <a:pt x="1486" y="3279"/>
                    </a:lnTo>
                    <a:lnTo>
                      <a:pt x="1398" y="3241"/>
                    </a:lnTo>
                    <a:lnTo>
                      <a:pt x="1218" y="3265"/>
                    </a:lnTo>
                    <a:lnTo>
                      <a:pt x="1050" y="3230"/>
                    </a:lnTo>
                    <a:lnTo>
                      <a:pt x="844" y="3168"/>
                    </a:lnTo>
                    <a:lnTo>
                      <a:pt x="672" y="3254"/>
                    </a:lnTo>
                    <a:lnTo>
                      <a:pt x="541" y="3491"/>
                    </a:lnTo>
                    <a:lnTo>
                      <a:pt x="640" y="3841"/>
                    </a:lnTo>
                    <a:lnTo>
                      <a:pt x="1070" y="3903"/>
                    </a:lnTo>
                    <a:lnTo>
                      <a:pt x="1640" y="4032"/>
                    </a:lnTo>
                    <a:lnTo>
                      <a:pt x="2013" y="4139"/>
                    </a:lnTo>
                    <a:lnTo>
                      <a:pt x="2919" y="4178"/>
                    </a:lnTo>
                    <a:lnTo>
                      <a:pt x="3270" y="4153"/>
                    </a:lnTo>
                    <a:lnTo>
                      <a:pt x="3620" y="4056"/>
                    </a:lnTo>
                    <a:lnTo>
                      <a:pt x="4667" y="2951"/>
                    </a:lnTo>
                    <a:lnTo>
                      <a:pt x="4729" y="1824"/>
                    </a:lnTo>
                    <a:lnTo>
                      <a:pt x="4584" y="1298"/>
                    </a:lnTo>
                    <a:lnTo>
                      <a:pt x="4425" y="1019"/>
                    </a:lnTo>
                    <a:lnTo>
                      <a:pt x="4138" y="639"/>
                    </a:lnTo>
                    <a:lnTo>
                      <a:pt x="3595" y="384"/>
                    </a:lnTo>
                    <a:lnTo>
                      <a:pt x="3450" y="422"/>
                    </a:lnTo>
                    <a:lnTo>
                      <a:pt x="3342" y="362"/>
                    </a:lnTo>
                    <a:lnTo>
                      <a:pt x="3256" y="194"/>
                    </a:lnTo>
                    <a:lnTo>
                      <a:pt x="3053" y="121"/>
                    </a:lnTo>
                    <a:lnTo>
                      <a:pt x="2872" y="0"/>
                    </a:lnTo>
                    <a:lnTo>
                      <a:pt x="2666" y="12"/>
                    </a:lnTo>
                    <a:lnTo>
                      <a:pt x="1709" y="602"/>
                    </a:lnTo>
                    <a:lnTo>
                      <a:pt x="1558" y="720"/>
                    </a:lnTo>
                    <a:lnTo>
                      <a:pt x="1460" y="817"/>
                    </a:lnTo>
                    <a:lnTo>
                      <a:pt x="1281" y="911"/>
                    </a:lnTo>
                    <a:lnTo>
                      <a:pt x="1070" y="1503"/>
                    </a:lnTo>
                    <a:lnTo>
                      <a:pt x="1064" y="1702"/>
                    </a:lnTo>
                    <a:lnTo>
                      <a:pt x="989" y="1979"/>
                    </a:lnTo>
                    <a:lnTo>
                      <a:pt x="808" y="2039"/>
                    </a:lnTo>
                    <a:lnTo>
                      <a:pt x="723" y="2136"/>
                    </a:lnTo>
                    <a:lnTo>
                      <a:pt x="699" y="2259"/>
                    </a:lnTo>
                    <a:lnTo>
                      <a:pt x="578" y="2377"/>
                    </a:lnTo>
                    <a:lnTo>
                      <a:pt x="240" y="2606"/>
                    </a:lnTo>
                    <a:lnTo>
                      <a:pt x="0" y="2917"/>
                    </a:lnTo>
                    <a:lnTo>
                      <a:pt x="277" y="3145"/>
                    </a:lnTo>
                    <a:lnTo>
                      <a:pt x="602" y="31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5027400" y="5234040"/>
                <a:ext cx="115200" cy="230400"/>
              </a:xfrm>
              <a:custGeom>
                <a:avLst/>
                <a:gdLst/>
                <a:ahLst/>
                <a:rect l="l" t="t" r="r" b="b"/>
                <a:pathLst>
                  <a:path w="1387" h="2184">
                    <a:moveTo>
                      <a:pt x="691" y="312"/>
                    </a:moveTo>
                    <a:lnTo>
                      <a:pt x="679" y="433"/>
                    </a:lnTo>
                    <a:lnTo>
                      <a:pt x="712" y="479"/>
                    </a:lnTo>
                    <a:lnTo>
                      <a:pt x="807" y="528"/>
                    </a:lnTo>
                    <a:lnTo>
                      <a:pt x="859" y="578"/>
                    </a:lnTo>
                    <a:lnTo>
                      <a:pt x="859" y="683"/>
                    </a:lnTo>
                    <a:lnTo>
                      <a:pt x="664" y="731"/>
                    </a:lnTo>
                    <a:lnTo>
                      <a:pt x="605" y="731"/>
                    </a:lnTo>
                    <a:lnTo>
                      <a:pt x="555" y="671"/>
                    </a:lnTo>
                    <a:lnTo>
                      <a:pt x="508" y="899"/>
                    </a:lnTo>
                    <a:lnTo>
                      <a:pt x="290" y="1031"/>
                    </a:lnTo>
                    <a:lnTo>
                      <a:pt x="664" y="899"/>
                    </a:lnTo>
                    <a:lnTo>
                      <a:pt x="749" y="899"/>
                    </a:lnTo>
                    <a:lnTo>
                      <a:pt x="712" y="945"/>
                    </a:lnTo>
                    <a:lnTo>
                      <a:pt x="447" y="1103"/>
                    </a:lnTo>
                    <a:lnTo>
                      <a:pt x="726" y="1103"/>
                    </a:lnTo>
                    <a:lnTo>
                      <a:pt x="737" y="1213"/>
                    </a:lnTo>
                    <a:lnTo>
                      <a:pt x="133" y="1273"/>
                    </a:lnTo>
                    <a:lnTo>
                      <a:pt x="0" y="1369"/>
                    </a:lnTo>
                    <a:lnTo>
                      <a:pt x="170" y="1426"/>
                    </a:lnTo>
                    <a:lnTo>
                      <a:pt x="279" y="1525"/>
                    </a:lnTo>
                    <a:lnTo>
                      <a:pt x="290" y="1593"/>
                    </a:lnTo>
                    <a:lnTo>
                      <a:pt x="181" y="1690"/>
                    </a:lnTo>
                    <a:lnTo>
                      <a:pt x="181" y="1810"/>
                    </a:lnTo>
                    <a:lnTo>
                      <a:pt x="242" y="1932"/>
                    </a:lnTo>
                    <a:lnTo>
                      <a:pt x="84" y="2075"/>
                    </a:lnTo>
                    <a:lnTo>
                      <a:pt x="218" y="2184"/>
                    </a:lnTo>
                    <a:lnTo>
                      <a:pt x="373" y="2098"/>
                    </a:lnTo>
                    <a:lnTo>
                      <a:pt x="472" y="2123"/>
                    </a:lnTo>
                    <a:lnTo>
                      <a:pt x="679" y="1964"/>
                    </a:lnTo>
                    <a:lnTo>
                      <a:pt x="989" y="1630"/>
                    </a:lnTo>
                    <a:lnTo>
                      <a:pt x="1207" y="1379"/>
                    </a:lnTo>
                    <a:lnTo>
                      <a:pt x="1350" y="1752"/>
                    </a:lnTo>
                    <a:lnTo>
                      <a:pt x="1387" y="1358"/>
                    </a:lnTo>
                    <a:lnTo>
                      <a:pt x="1387" y="1199"/>
                    </a:lnTo>
                    <a:lnTo>
                      <a:pt x="1242" y="1093"/>
                    </a:lnTo>
                    <a:lnTo>
                      <a:pt x="1122" y="923"/>
                    </a:lnTo>
                    <a:lnTo>
                      <a:pt x="1014" y="740"/>
                    </a:lnTo>
                    <a:lnTo>
                      <a:pt x="930" y="528"/>
                    </a:lnTo>
                    <a:lnTo>
                      <a:pt x="834" y="228"/>
                    </a:lnTo>
                    <a:lnTo>
                      <a:pt x="800" y="0"/>
                    </a:lnTo>
                    <a:lnTo>
                      <a:pt x="700" y="215"/>
                    </a:lnTo>
                    <a:lnTo>
                      <a:pt x="691" y="3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5085720" y="5235480"/>
                <a:ext cx="236520" cy="331560"/>
              </a:xfrm>
              <a:custGeom>
                <a:avLst/>
                <a:gdLst/>
                <a:ahLst/>
                <a:rect l="l" t="t" r="r" b="b"/>
                <a:pathLst>
                  <a:path w="2861" h="3124">
                    <a:moveTo>
                      <a:pt x="988" y="1321"/>
                    </a:moveTo>
                    <a:lnTo>
                      <a:pt x="1377" y="1443"/>
                    </a:lnTo>
                    <a:lnTo>
                      <a:pt x="1691" y="1504"/>
                    </a:lnTo>
                    <a:lnTo>
                      <a:pt x="1909" y="1095"/>
                    </a:lnTo>
                    <a:lnTo>
                      <a:pt x="1895" y="698"/>
                    </a:lnTo>
                    <a:lnTo>
                      <a:pt x="2146" y="231"/>
                    </a:lnTo>
                    <a:lnTo>
                      <a:pt x="2642" y="0"/>
                    </a:lnTo>
                    <a:lnTo>
                      <a:pt x="2232" y="399"/>
                    </a:lnTo>
                    <a:lnTo>
                      <a:pt x="2111" y="770"/>
                    </a:lnTo>
                    <a:lnTo>
                      <a:pt x="2111" y="1168"/>
                    </a:lnTo>
                    <a:lnTo>
                      <a:pt x="2350" y="985"/>
                    </a:lnTo>
                    <a:lnTo>
                      <a:pt x="2665" y="627"/>
                    </a:lnTo>
                    <a:lnTo>
                      <a:pt x="2861" y="420"/>
                    </a:lnTo>
                    <a:lnTo>
                      <a:pt x="2861" y="590"/>
                    </a:lnTo>
                    <a:lnTo>
                      <a:pt x="2642" y="1010"/>
                    </a:lnTo>
                    <a:lnTo>
                      <a:pt x="2280" y="1478"/>
                    </a:lnTo>
                    <a:lnTo>
                      <a:pt x="1981" y="1741"/>
                    </a:lnTo>
                    <a:lnTo>
                      <a:pt x="1773" y="1838"/>
                    </a:lnTo>
                    <a:lnTo>
                      <a:pt x="1773" y="1959"/>
                    </a:lnTo>
                    <a:lnTo>
                      <a:pt x="1918" y="2188"/>
                    </a:lnTo>
                    <a:lnTo>
                      <a:pt x="2063" y="2545"/>
                    </a:lnTo>
                    <a:lnTo>
                      <a:pt x="1955" y="2451"/>
                    </a:lnTo>
                    <a:lnTo>
                      <a:pt x="1836" y="2333"/>
                    </a:lnTo>
                    <a:lnTo>
                      <a:pt x="1665" y="2257"/>
                    </a:lnTo>
                    <a:lnTo>
                      <a:pt x="1508" y="2222"/>
                    </a:lnTo>
                    <a:lnTo>
                      <a:pt x="1388" y="2197"/>
                    </a:lnTo>
                    <a:lnTo>
                      <a:pt x="1460" y="2429"/>
                    </a:lnTo>
                    <a:lnTo>
                      <a:pt x="1691" y="2621"/>
                    </a:lnTo>
                    <a:lnTo>
                      <a:pt x="1872" y="2725"/>
                    </a:lnTo>
                    <a:lnTo>
                      <a:pt x="1785" y="2534"/>
                    </a:lnTo>
                    <a:lnTo>
                      <a:pt x="1981" y="2582"/>
                    </a:lnTo>
                    <a:lnTo>
                      <a:pt x="2052" y="2750"/>
                    </a:lnTo>
                    <a:lnTo>
                      <a:pt x="2025" y="2978"/>
                    </a:lnTo>
                    <a:lnTo>
                      <a:pt x="1895" y="3110"/>
                    </a:lnTo>
                    <a:lnTo>
                      <a:pt x="1665" y="3124"/>
                    </a:lnTo>
                    <a:lnTo>
                      <a:pt x="1425" y="3001"/>
                    </a:lnTo>
                    <a:lnTo>
                      <a:pt x="1326" y="2796"/>
                    </a:lnTo>
                    <a:lnTo>
                      <a:pt x="1181" y="2400"/>
                    </a:lnTo>
                    <a:lnTo>
                      <a:pt x="988" y="2284"/>
                    </a:lnTo>
                    <a:lnTo>
                      <a:pt x="485" y="2391"/>
                    </a:lnTo>
                    <a:lnTo>
                      <a:pt x="171" y="2568"/>
                    </a:lnTo>
                    <a:lnTo>
                      <a:pt x="134" y="2499"/>
                    </a:lnTo>
                    <a:lnTo>
                      <a:pt x="217" y="2319"/>
                    </a:lnTo>
                    <a:lnTo>
                      <a:pt x="0" y="2400"/>
                    </a:lnTo>
                    <a:lnTo>
                      <a:pt x="87" y="2271"/>
                    </a:lnTo>
                    <a:lnTo>
                      <a:pt x="362" y="2197"/>
                    </a:lnTo>
                    <a:lnTo>
                      <a:pt x="558" y="2222"/>
                    </a:lnTo>
                    <a:lnTo>
                      <a:pt x="676" y="2234"/>
                    </a:lnTo>
                    <a:lnTo>
                      <a:pt x="950" y="2174"/>
                    </a:lnTo>
                    <a:lnTo>
                      <a:pt x="988" y="132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5162760" y="5234760"/>
                <a:ext cx="41760" cy="150840"/>
              </a:xfrm>
              <a:custGeom>
                <a:avLst/>
                <a:gdLst/>
                <a:ahLst/>
                <a:rect l="l" t="t" r="r" b="b"/>
                <a:pathLst>
                  <a:path w="507" h="1428">
                    <a:moveTo>
                      <a:pt x="143" y="1404"/>
                    </a:moveTo>
                    <a:lnTo>
                      <a:pt x="180" y="1130"/>
                    </a:lnTo>
                    <a:lnTo>
                      <a:pt x="242" y="780"/>
                    </a:lnTo>
                    <a:lnTo>
                      <a:pt x="242" y="613"/>
                    </a:lnTo>
                    <a:lnTo>
                      <a:pt x="194" y="446"/>
                    </a:lnTo>
                    <a:lnTo>
                      <a:pt x="206" y="312"/>
                    </a:lnTo>
                    <a:lnTo>
                      <a:pt x="266" y="134"/>
                    </a:lnTo>
                    <a:lnTo>
                      <a:pt x="507" y="158"/>
                    </a:lnTo>
                    <a:lnTo>
                      <a:pt x="143" y="0"/>
                    </a:lnTo>
                    <a:lnTo>
                      <a:pt x="0" y="325"/>
                    </a:lnTo>
                    <a:lnTo>
                      <a:pt x="21" y="1428"/>
                    </a:lnTo>
                    <a:lnTo>
                      <a:pt x="143" y="140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5214240" y="5118480"/>
                <a:ext cx="164880" cy="452520"/>
              </a:xfrm>
              <a:custGeom>
                <a:avLst/>
                <a:gdLst/>
                <a:ahLst/>
                <a:rect l="l" t="t" r="r" b="b"/>
                <a:pathLst>
                  <a:path w="1991" h="4272">
                    <a:moveTo>
                      <a:pt x="48" y="182"/>
                    </a:moveTo>
                    <a:lnTo>
                      <a:pt x="181" y="445"/>
                    </a:lnTo>
                    <a:lnTo>
                      <a:pt x="134" y="922"/>
                    </a:lnTo>
                    <a:lnTo>
                      <a:pt x="325" y="240"/>
                    </a:lnTo>
                    <a:lnTo>
                      <a:pt x="409" y="217"/>
                    </a:lnTo>
                    <a:lnTo>
                      <a:pt x="495" y="339"/>
                    </a:lnTo>
                    <a:lnTo>
                      <a:pt x="468" y="468"/>
                    </a:lnTo>
                    <a:lnTo>
                      <a:pt x="371" y="694"/>
                    </a:lnTo>
                    <a:lnTo>
                      <a:pt x="543" y="519"/>
                    </a:lnTo>
                    <a:lnTo>
                      <a:pt x="613" y="540"/>
                    </a:lnTo>
                    <a:lnTo>
                      <a:pt x="251" y="1092"/>
                    </a:lnTo>
                    <a:lnTo>
                      <a:pt x="903" y="481"/>
                    </a:lnTo>
                    <a:lnTo>
                      <a:pt x="1304" y="661"/>
                    </a:lnTo>
                    <a:lnTo>
                      <a:pt x="1387" y="936"/>
                    </a:lnTo>
                    <a:lnTo>
                      <a:pt x="1664" y="1189"/>
                    </a:lnTo>
                    <a:lnTo>
                      <a:pt x="1687" y="1452"/>
                    </a:lnTo>
                    <a:lnTo>
                      <a:pt x="1822" y="1659"/>
                    </a:lnTo>
                    <a:lnTo>
                      <a:pt x="1738" y="1909"/>
                    </a:lnTo>
                    <a:lnTo>
                      <a:pt x="1422" y="2038"/>
                    </a:lnTo>
                    <a:lnTo>
                      <a:pt x="1433" y="2138"/>
                    </a:lnTo>
                    <a:lnTo>
                      <a:pt x="1712" y="2366"/>
                    </a:lnTo>
                    <a:lnTo>
                      <a:pt x="1496" y="2388"/>
                    </a:lnTo>
                    <a:lnTo>
                      <a:pt x="1253" y="2280"/>
                    </a:lnTo>
                    <a:lnTo>
                      <a:pt x="1747" y="2748"/>
                    </a:lnTo>
                    <a:lnTo>
                      <a:pt x="1687" y="2806"/>
                    </a:lnTo>
                    <a:lnTo>
                      <a:pt x="1350" y="2748"/>
                    </a:lnTo>
                    <a:lnTo>
                      <a:pt x="1350" y="3061"/>
                    </a:lnTo>
                    <a:lnTo>
                      <a:pt x="1182" y="3252"/>
                    </a:lnTo>
                    <a:lnTo>
                      <a:pt x="1073" y="3156"/>
                    </a:lnTo>
                    <a:lnTo>
                      <a:pt x="806" y="3636"/>
                    </a:lnTo>
                    <a:lnTo>
                      <a:pt x="506" y="3898"/>
                    </a:lnTo>
                    <a:lnTo>
                      <a:pt x="387" y="4199"/>
                    </a:lnTo>
                    <a:lnTo>
                      <a:pt x="481" y="4272"/>
                    </a:lnTo>
                    <a:lnTo>
                      <a:pt x="1290" y="3995"/>
                    </a:lnTo>
                    <a:lnTo>
                      <a:pt x="1991" y="2833"/>
                    </a:lnTo>
                    <a:lnTo>
                      <a:pt x="1991" y="1821"/>
                    </a:lnTo>
                    <a:lnTo>
                      <a:pt x="1798" y="1199"/>
                    </a:lnTo>
                    <a:lnTo>
                      <a:pt x="1653" y="947"/>
                    </a:lnTo>
                    <a:lnTo>
                      <a:pt x="1521" y="828"/>
                    </a:lnTo>
                    <a:lnTo>
                      <a:pt x="1387" y="613"/>
                    </a:lnTo>
                    <a:lnTo>
                      <a:pt x="831" y="358"/>
                    </a:lnTo>
                    <a:lnTo>
                      <a:pt x="686" y="433"/>
                    </a:lnTo>
                    <a:lnTo>
                      <a:pt x="613" y="358"/>
                    </a:lnTo>
                    <a:lnTo>
                      <a:pt x="578" y="228"/>
                    </a:lnTo>
                    <a:lnTo>
                      <a:pt x="361" y="108"/>
                    </a:lnTo>
                    <a:lnTo>
                      <a:pt x="244" y="97"/>
                    </a:lnTo>
                    <a:lnTo>
                      <a:pt x="134" y="0"/>
                    </a:lnTo>
                    <a:lnTo>
                      <a:pt x="0" y="11"/>
                    </a:lnTo>
                    <a:lnTo>
                      <a:pt x="48" y="18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5143320" y="5209200"/>
                <a:ext cx="36360" cy="259920"/>
              </a:xfrm>
              <a:custGeom>
                <a:avLst/>
                <a:gdLst/>
                <a:ahLst/>
                <a:rect l="l" t="t" r="r" b="b"/>
                <a:pathLst>
                  <a:path w="434" h="2461">
                    <a:moveTo>
                      <a:pt x="276" y="0"/>
                    </a:moveTo>
                    <a:lnTo>
                      <a:pt x="166" y="72"/>
                    </a:lnTo>
                    <a:lnTo>
                      <a:pt x="106" y="204"/>
                    </a:lnTo>
                    <a:lnTo>
                      <a:pt x="96" y="326"/>
                    </a:lnTo>
                    <a:lnTo>
                      <a:pt x="106" y="688"/>
                    </a:lnTo>
                    <a:lnTo>
                      <a:pt x="72" y="962"/>
                    </a:lnTo>
                    <a:lnTo>
                      <a:pt x="37" y="1275"/>
                    </a:lnTo>
                    <a:lnTo>
                      <a:pt x="0" y="1504"/>
                    </a:lnTo>
                    <a:lnTo>
                      <a:pt x="0" y="1780"/>
                    </a:lnTo>
                    <a:lnTo>
                      <a:pt x="10" y="2029"/>
                    </a:lnTo>
                    <a:lnTo>
                      <a:pt x="145" y="2461"/>
                    </a:lnTo>
                    <a:lnTo>
                      <a:pt x="434" y="2391"/>
                    </a:lnTo>
                    <a:lnTo>
                      <a:pt x="311" y="1993"/>
                    </a:lnTo>
                    <a:lnTo>
                      <a:pt x="263" y="1684"/>
                    </a:lnTo>
                    <a:lnTo>
                      <a:pt x="287" y="1407"/>
                    </a:lnTo>
                    <a:lnTo>
                      <a:pt x="337" y="1130"/>
                    </a:lnTo>
                    <a:lnTo>
                      <a:pt x="397" y="879"/>
                    </a:lnTo>
                    <a:lnTo>
                      <a:pt x="397" y="734"/>
                    </a:lnTo>
                    <a:lnTo>
                      <a:pt x="360" y="602"/>
                    </a:lnTo>
                    <a:lnTo>
                      <a:pt x="311" y="519"/>
                    </a:lnTo>
                    <a:lnTo>
                      <a:pt x="325" y="194"/>
                    </a:lnTo>
                    <a:lnTo>
                      <a:pt x="337" y="12"/>
                    </a:lnTo>
                    <a:lnTo>
                      <a:pt x="276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4936320" y="5408640"/>
                <a:ext cx="109440" cy="114120"/>
              </a:xfrm>
              <a:custGeom>
                <a:avLst/>
                <a:gdLst/>
                <a:ahLst/>
                <a:rect l="l" t="t" r="r" b="b"/>
                <a:pathLst>
                  <a:path w="1314" h="1079">
                    <a:moveTo>
                      <a:pt x="374" y="0"/>
                    </a:moveTo>
                    <a:lnTo>
                      <a:pt x="300" y="35"/>
                    </a:lnTo>
                    <a:lnTo>
                      <a:pt x="300" y="97"/>
                    </a:lnTo>
                    <a:lnTo>
                      <a:pt x="194" y="143"/>
                    </a:lnTo>
                    <a:lnTo>
                      <a:pt x="167" y="192"/>
                    </a:lnTo>
                    <a:lnTo>
                      <a:pt x="129" y="335"/>
                    </a:lnTo>
                    <a:lnTo>
                      <a:pt x="24" y="395"/>
                    </a:lnTo>
                    <a:lnTo>
                      <a:pt x="0" y="613"/>
                    </a:lnTo>
                    <a:lnTo>
                      <a:pt x="59" y="830"/>
                    </a:lnTo>
                    <a:lnTo>
                      <a:pt x="290" y="934"/>
                    </a:lnTo>
                    <a:lnTo>
                      <a:pt x="662" y="1056"/>
                    </a:lnTo>
                    <a:lnTo>
                      <a:pt x="938" y="1068"/>
                    </a:lnTo>
                    <a:lnTo>
                      <a:pt x="1241" y="1079"/>
                    </a:lnTo>
                    <a:lnTo>
                      <a:pt x="1217" y="925"/>
                    </a:lnTo>
                    <a:lnTo>
                      <a:pt x="1217" y="817"/>
                    </a:lnTo>
                    <a:lnTo>
                      <a:pt x="1229" y="699"/>
                    </a:lnTo>
                    <a:lnTo>
                      <a:pt x="1314" y="529"/>
                    </a:lnTo>
                    <a:lnTo>
                      <a:pt x="1229" y="480"/>
                    </a:lnTo>
                    <a:lnTo>
                      <a:pt x="1156" y="408"/>
                    </a:lnTo>
                    <a:lnTo>
                      <a:pt x="1096" y="309"/>
                    </a:lnTo>
                    <a:lnTo>
                      <a:pt x="1024" y="226"/>
                    </a:lnTo>
                    <a:lnTo>
                      <a:pt x="950" y="167"/>
                    </a:lnTo>
                    <a:lnTo>
                      <a:pt x="879" y="143"/>
                    </a:lnTo>
                    <a:lnTo>
                      <a:pt x="769" y="167"/>
                    </a:lnTo>
                    <a:lnTo>
                      <a:pt x="637" y="204"/>
                    </a:lnTo>
                    <a:lnTo>
                      <a:pt x="588" y="180"/>
                    </a:lnTo>
                    <a:lnTo>
                      <a:pt x="528" y="59"/>
                    </a:lnTo>
                    <a:lnTo>
                      <a:pt x="470" y="26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5085000" y="4984560"/>
                <a:ext cx="149760" cy="227880"/>
              </a:xfrm>
              <a:custGeom>
                <a:avLst/>
                <a:gdLst/>
                <a:ahLst/>
                <a:rect l="l" t="t" r="r" b="b"/>
                <a:pathLst>
                  <a:path w="1808" h="2151">
                    <a:moveTo>
                      <a:pt x="1784" y="591"/>
                    </a:moveTo>
                    <a:lnTo>
                      <a:pt x="1808" y="681"/>
                    </a:lnTo>
                    <a:lnTo>
                      <a:pt x="1803" y="758"/>
                    </a:lnTo>
                    <a:lnTo>
                      <a:pt x="1773" y="877"/>
                    </a:lnTo>
                    <a:lnTo>
                      <a:pt x="1698" y="1052"/>
                    </a:lnTo>
                    <a:lnTo>
                      <a:pt x="1573" y="1178"/>
                    </a:lnTo>
                    <a:lnTo>
                      <a:pt x="1459" y="1701"/>
                    </a:lnTo>
                    <a:lnTo>
                      <a:pt x="1289" y="1884"/>
                    </a:lnTo>
                    <a:lnTo>
                      <a:pt x="1164" y="2022"/>
                    </a:lnTo>
                    <a:lnTo>
                      <a:pt x="1091" y="2133"/>
                    </a:lnTo>
                    <a:lnTo>
                      <a:pt x="1045" y="2151"/>
                    </a:lnTo>
                    <a:lnTo>
                      <a:pt x="835" y="1868"/>
                    </a:lnTo>
                    <a:lnTo>
                      <a:pt x="657" y="1890"/>
                    </a:lnTo>
                    <a:lnTo>
                      <a:pt x="569" y="1890"/>
                    </a:lnTo>
                    <a:lnTo>
                      <a:pt x="512" y="1852"/>
                    </a:lnTo>
                    <a:lnTo>
                      <a:pt x="477" y="1791"/>
                    </a:lnTo>
                    <a:lnTo>
                      <a:pt x="429" y="1628"/>
                    </a:lnTo>
                    <a:lnTo>
                      <a:pt x="289" y="1351"/>
                    </a:lnTo>
                    <a:lnTo>
                      <a:pt x="141" y="1169"/>
                    </a:lnTo>
                    <a:lnTo>
                      <a:pt x="107" y="1022"/>
                    </a:lnTo>
                    <a:lnTo>
                      <a:pt x="76" y="872"/>
                    </a:lnTo>
                    <a:lnTo>
                      <a:pt x="28" y="653"/>
                    </a:lnTo>
                    <a:lnTo>
                      <a:pt x="0" y="353"/>
                    </a:lnTo>
                    <a:lnTo>
                      <a:pt x="24" y="208"/>
                    </a:lnTo>
                    <a:lnTo>
                      <a:pt x="76" y="99"/>
                    </a:lnTo>
                    <a:lnTo>
                      <a:pt x="1324" y="0"/>
                    </a:lnTo>
                    <a:lnTo>
                      <a:pt x="1698" y="433"/>
                    </a:lnTo>
                    <a:lnTo>
                      <a:pt x="1784" y="59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5099040" y="5072760"/>
                <a:ext cx="12240" cy="11880"/>
              </a:xfrm>
              <a:custGeom>
                <a:avLst/>
                <a:gdLst/>
                <a:ahLst/>
                <a:rect l="l" t="t" r="r" b="b"/>
                <a:pathLst>
                  <a:path w="152" h="113">
                    <a:moveTo>
                      <a:pt x="0" y="83"/>
                    </a:moveTo>
                    <a:lnTo>
                      <a:pt x="49" y="113"/>
                    </a:lnTo>
                    <a:lnTo>
                      <a:pt x="152" y="79"/>
                    </a:lnTo>
                    <a:lnTo>
                      <a:pt x="152" y="0"/>
                    </a:lnTo>
                    <a:lnTo>
                      <a:pt x="33" y="16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5145480" y="5060880"/>
                <a:ext cx="18360" cy="8280"/>
              </a:xfrm>
              <a:custGeom>
                <a:avLst/>
                <a:gdLst/>
                <a:ahLst/>
                <a:rect l="l" t="t" r="r" b="b"/>
                <a:pathLst>
                  <a:path w="231" h="83">
                    <a:moveTo>
                      <a:pt x="27" y="83"/>
                    </a:moveTo>
                    <a:lnTo>
                      <a:pt x="130" y="74"/>
                    </a:lnTo>
                    <a:lnTo>
                      <a:pt x="231" y="47"/>
                    </a:lnTo>
                    <a:lnTo>
                      <a:pt x="104" y="0"/>
                    </a:lnTo>
                    <a:lnTo>
                      <a:pt x="0" y="0"/>
                    </a:lnTo>
                    <a:lnTo>
                      <a:pt x="27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5085720" y="4953960"/>
                <a:ext cx="119880" cy="47160"/>
              </a:xfrm>
              <a:custGeom>
                <a:avLst/>
                <a:gdLst/>
                <a:ahLst/>
                <a:rect l="l" t="t" r="r" b="b"/>
                <a:pathLst>
                  <a:path w="1451" h="452">
                    <a:moveTo>
                      <a:pt x="110" y="41"/>
                    </a:moveTo>
                    <a:lnTo>
                      <a:pt x="237" y="0"/>
                    </a:lnTo>
                    <a:lnTo>
                      <a:pt x="603" y="0"/>
                    </a:lnTo>
                    <a:lnTo>
                      <a:pt x="1255" y="165"/>
                    </a:lnTo>
                    <a:lnTo>
                      <a:pt x="1451" y="391"/>
                    </a:lnTo>
                    <a:lnTo>
                      <a:pt x="1134" y="318"/>
                    </a:lnTo>
                    <a:lnTo>
                      <a:pt x="981" y="360"/>
                    </a:lnTo>
                    <a:lnTo>
                      <a:pt x="846" y="424"/>
                    </a:lnTo>
                    <a:lnTo>
                      <a:pt x="647" y="452"/>
                    </a:lnTo>
                    <a:lnTo>
                      <a:pt x="426" y="444"/>
                    </a:lnTo>
                    <a:lnTo>
                      <a:pt x="218" y="391"/>
                    </a:lnTo>
                    <a:lnTo>
                      <a:pt x="68" y="318"/>
                    </a:lnTo>
                    <a:lnTo>
                      <a:pt x="16" y="251"/>
                    </a:lnTo>
                    <a:lnTo>
                      <a:pt x="0" y="186"/>
                    </a:lnTo>
                    <a:lnTo>
                      <a:pt x="4" y="129"/>
                    </a:lnTo>
                    <a:lnTo>
                      <a:pt x="110" y="4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5179320" y="4998240"/>
                <a:ext cx="58320" cy="65880"/>
              </a:xfrm>
              <a:custGeom>
                <a:avLst/>
                <a:gdLst/>
                <a:ahLst/>
                <a:rect l="l" t="t" r="r" b="b"/>
                <a:pathLst>
                  <a:path w="700" h="629">
                    <a:moveTo>
                      <a:pt x="666" y="482"/>
                    </a:moveTo>
                    <a:lnTo>
                      <a:pt x="548" y="411"/>
                    </a:lnTo>
                    <a:lnTo>
                      <a:pt x="449" y="405"/>
                    </a:lnTo>
                    <a:lnTo>
                      <a:pt x="392" y="482"/>
                    </a:lnTo>
                    <a:lnTo>
                      <a:pt x="378" y="629"/>
                    </a:lnTo>
                    <a:lnTo>
                      <a:pt x="173" y="604"/>
                    </a:lnTo>
                    <a:lnTo>
                      <a:pt x="182" y="528"/>
                    </a:lnTo>
                    <a:lnTo>
                      <a:pt x="139" y="433"/>
                    </a:lnTo>
                    <a:lnTo>
                      <a:pt x="76" y="374"/>
                    </a:lnTo>
                    <a:lnTo>
                      <a:pt x="36" y="350"/>
                    </a:lnTo>
                    <a:lnTo>
                      <a:pt x="0" y="141"/>
                    </a:lnTo>
                    <a:lnTo>
                      <a:pt x="286" y="0"/>
                    </a:lnTo>
                    <a:lnTo>
                      <a:pt x="588" y="110"/>
                    </a:lnTo>
                    <a:lnTo>
                      <a:pt x="632" y="360"/>
                    </a:lnTo>
                    <a:lnTo>
                      <a:pt x="700" y="447"/>
                    </a:lnTo>
                    <a:lnTo>
                      <a:pt x="666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5173200" y="4985640"/>
                <a:ext cx="64080" cy="67320"/>
              </a:xfrm>
              <a:custGeom>
                <a:avLst/>
                <a:gdLst/>
                <a:ahLst/>
                <a:rect l="l" t="t" r="r" b="b"/>
                <a:pathLst>
                  <a:path w="775" h="641">
                    <a:moveTo>
                      <a:pt x="747" y="575"/>
                    </a:moveTo>
                    <a:lnTo>
                      <a:pt x="701" y="518"/>
                    </a:lnTo>
                    <a:lnTo>
                      <a:pt x="643" y="461"/>
                    </a:lnTo>
                    <a:lnTo>
                      <a:pt x="608" y="397"/>
                    </a:lnTo>
                    <a:lnTo>
                      <a:pt x="617" y="309"/>
                    </a:lnTo>
                    <a:lnTo>
                      <a:pt x="586" y="261"/>
                    </a:lnTo>
                    <a:lnTo>
                      <a:pt x="530" y="230"/>
                    </a:lnTo>
                    <a:lnTo>
                      <a:pt x="496" y="226"/>
                    </a:lnTo>
                    <a:lnTo>
                      <a:pt x="440" y="230"/>
                    </a:lnTo>
                    <a:lnTo>
                      <a:pt x="488" y="316"/>
                    </a:lnTo>
                    <a:lnTo>
                      <a:pt x="571" y="397"/>
                    </a:lnTo>
                    <a:lnTo>
                      <a:pt x="440" y="316"/>
                    </a:lnTo>
                    <a:lnTo>
                      <a:pt x="343" y="274"/>
                    </a:lnTo>
                    <a:lnTo>
                      <a:pt x="242" y="283"/>
                    </a:lnTo>
                    <a:lnTo>
                      <a:pt x="161" y="288"/>
                    </a:lnTo>
                    <a:lnTo>
                      <a:pt x="118" y="300"/>
                    </a:lnTo>
                    <a:lnTo>
                      <a:pt x="152" y="371"/>
                    </a:lnTo>
                    <a:lnTo>
                      <a:pt x="320" y="378"/>
                    </a:lnTo>
                    <a:lnTo>
                      <a:pt x="454" y="447"/>
                    </a:lnTo>
                    <a:lnTo>
                      <a:pt x="336" y="447"/>
                    </a:lnTo>
                    <a:lnTo>
                      <a:pt x="384" y="518"/>
                    </a:lnTo>
                    <a:lnTo>
                      <a:pt x="413" y="602"/>
                    </a:lnTo>
                    <a:lnTo>
                      <a:pt x="378" y="641"/>
                    </a:lnTo>
                    <a:lnTo>
                      <a:pt x="274" y="586"/>
                    </a:lnTo>
                    <a:lnTo>
                      <a:pt x="182" y="542"/>
                    </a:lnTo>
                    <a:lnTo>
                      <a:pt x="161" y="503"/>
                    </a:lnTo>
                    <a:lnTo>
                      <a:pt x="90" y="480"/>
                    </a:lnTo>
                    <a:lnTo>
                      <a:pt x="57" y="378"/>
                    </a:lnTo>
                    <a:lnTo>
                      <a:pt x="48" y="239"/>
                    </a:lnTo>
                    <a:lnTo>
                      <a:pt x="23" y="191"/>
                    </a:lnTo>
                    <a:lnTo>
                      <a:pt x="39" y="136"/>
                    </a:lnTo>
                    <a:lnTo>
                      <a:pt x="0" y="127"/>
                    </a:lnTo>
                    <a:lnTo>
                      <a:pt x="48" y="78"/>
                    </a:lnTo>
                    <a:lnTo>
                      <a:pt x="175" y="63"/>
                    </a:lnTo>
                    <a:lnTo>
                      <a:pt x="343" y="85"/>
                    </a:lnTo>
                    <a:lnTo>
                      <a:pt x="518" y="0"/>
                    </a:lnTo>
                    <a:lnTo>
                      <a:pt x="622" y="94"/>
                    </a:lnTo>
                    <a:lnTo>
                      <a:pt x="678" y="182"/>
                    </a:lnTo>
                    <a:lnTo>
                      <a:pt x="692" y="274"/>
                    </a:lnTo>
                    <a:lnTo>
                      <a:pt x="701" y="406"/>
                    </a:lnTo>
                    <a:lnTo>
                      <a:pt x="705" y="489"/>
                    </a:lnTo>
                    <a:lnTo>
                      <a:pt x="775" y="595"/>
                    </a:lnTo>
                    <a:lnTo>
                      <a:pt x="747" y="57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4738320" y="5073480"/>
                <a:ext cx="357840" cy="338760"/>
              </a:xfrm>
              <a:custGeom>
                <a:avLst/>
                <a:gdLst/>
                <a:ahLst/>
                <a:rect l="l" t="t" r="r" b="b"/>
                <a:pathLst>
                  <a:path w="4318" h="3200">
                    <a:moveTo>
                      <a:pt x="4072" y="2092"/>
                    </a:moveTo>
                    <a:lnTo>
                      <a:pt x="4095" y="1897"/>
                    </a:lnTo>
                    <a:lnTo>
                      <a:pt x="4208" y="1706"/>
                    </a:lnTo>
                    <a:lnTo>
                      <a:pt x="4318" y="1345"/>
                    </a:lnTo>
                    <a:lnTo>
                      <a:pt x="4249" y="1246"/>
                    </a:lnTo>
                    <a:lnTo>
                      <a:pt x="4090" y="1246"/>
                    </a:lnTo>
                    <a:lnTo>
                      <a:pt x="3986" y="1086"/>
                    </a:lnTo>
                    <a:lnTo>
                      <a:pt x="3929" y="1035"/>
                    </a:lnTo>
                    <a:lnTo>
                      <a:pt x="3909" y="1035"/>
                    </a:lnTo>
                    <a:lnTo>
                      <a:pt x="3808" y="1057"/>
                    </a:lnTo>
                    <a:lnTo>
                      <a:pt x="3498" y="561"/>
                    </a:lnTo>
                    <a:lnTo>
                      <a:pt x="3329" y="459"/>
                    </a:lnTo>
                    <a:lnTo>
                      <a:pt x="3087" y="139"/>
                    </a:lnTo>
                    <a:lnTo>
                      <a:pt x="2935" y="99"/>
                    </a:lnTo>
                    <a:lnTo>
                      <a:pt x="2834" y="132"/>
                    </a:lnTo>
                    <a:lnTo>
                      <a:pt x="2723" y="113"/>
                    </a:lnTo>
                    <a:lnTo>
                      <a:pt x="2615" y="148"/>
                    </a:lnTo>
                    <a:lnTo>
                      <a:pt x="2327" y="180"/>
                    </a:lnTo>
                    <a:lnTo>
                      <a:pt x="2237" y="148"/>
                    </a:lnTo>
                    <a:lnTo>
                      <a:pt x="2126" y="189"/>
                    </a:lnTo>
                    <a:lnTo>
                      <a:pt x="2057" y="113"/>
                    </a:lnTo>
                    <a:lnTo>
                      <a:pt x="1973" y="31"/>
                    </a:lnTo>
                    <a:lnTo>
                      <a:pt x="1914" y="0"/>
                    </a:lnTo>
                    <a:lnTo>
                      <a:pt x="1232" y="249"/>
                    </a:lnTo>
                    <a:lnTo>
                      <a:pt x="1171" y="420"/>
                    </a:lnTo>
                    <a:lnTo>
                      <a:pt x="853" y="589"/>
                    </a:lnTo>
                    <a:lnTo>
                      <a:pt x="632" y="627"/>
                    </a:lnTo>
                    <a:lnTo>
                      <a:pt x="441" y="807"/>
                    </a:lnTo>
                    <a:lnTo>
                      <a:pt x="413" y="910"/>
                    </a:lnTo>
                    <a:lnTo>
                      <a:pt x="371" y="1015"/>
                    </a:lnTo>
                    <a:lnTo>
                      <a:pt x="259" y="1356"/>
                    </a:lnTo>
                    <a:lnTo>
                      <a:pt x="210" y="1624"/>
                    </a:lnTo>
                    <a:lnTo>
                      <a:pt x="270" y="1854"/>
                    </a:lnTo>
                    <a:lnTo>
                      <a:pt x="180" y="2075"/>
                    </a:lnTo>
                    <a:lnTo>
                      <a:pt x="90" y="2103"/>
                    </a:lnTo>
                    <a:lnTo>
                      <a:pt x="0" y="2193"/>
                    </a:lnTo>
                    <a:lnTo>
                      <a:pt x="191" y="2792"/>
                    </a:lnTo>
                    <a:lnTo>
                      <a:pt x="399" y="2861"/>
                    </a:lnTo>
                    <a:lnTo>
                      <a:pt x="761" y="2613"/>
                    </a:lnTo>
                    <a:lnTo>
                      <a:pt x="1042" y="1945"/>
                    </a:lnTo>
                    <a:lnTo>
                      <a:pt x="1211" y="2262"/>
                    </a:lnTo>
                    <a:lnTo>
                      <a:pt x="1303" y="2771"/>
                    </a:lnTo>
                    <a:lnTo>
                      <a:pt x="1232" y="2903"/>
                    </a:lnTo>
                    <a:lnTo>
                      <a:pt x="1204" y="3129"/>
                    </a:lnTo>
                    <a:lnTo>
                      <a:pt x="1261" y="3200"/>
                    </a:lnTo>
                    <a:lnTo>
                      <a:pt x="3408" y="2892"/>
                    </a:lnTo>
                    <a:lnTo>
                      <a:pt x="3355" y="1517"/>
                    </a:lnTo>
                    <a:lnTo>
                      <a:pt x="3569" y="1695"/>
                    </a:lnTo>
                    <a:lnTo>
                      <a:pt x="3707" y="1714"/>
                    </a:lnTo>
                    <a:lnTo>
                      <a:pt x="3777" y="1846"/>
                    </a:lnTo>
                    <a:lnTo>
                      <a:pt x="3938" y="1854"/>
                    </a:lnTo>
                    <a:lnTo>
                      <a:pt x="4028" y="1994"/>
                    </a:lnTo>
                    <a:lnTo>
                      <a:pt x="4072" y="20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4921920" y="5371920"/>
                <a:ext cx="33120" cy="29520"/>
              </a:xfrm>
              <a:custGeom>
                <a:avLst/>
                <a:gdLst/>
                <a:ahLst/>
                <a:rect l="l" t="t" r="r" b="b"/>
                <a:pathLst>
                  <a:path w="400" h="279">
                    <a:moveTo>
                      <a:pt x="279" y="0"/>
                    </a:moveTo>
                    <a:lnTo>
                      <a:pt x="130" y="0"/>
                    </a:lnTo>
                    <a:lnTo>
                      <a:pt x="8" y="83"/>
                    </a:lnTo>
                    <a:lnTo>
                      <a:pt x="0" y="242"/>
                    </a:lnTo>
                    <a:lnTo>
                      <a:pt x="40" y="279"/>
                    </a:lnTo>
                    <a:lnTo>
                      <a:pt x="391" y="210"/>
                    </a:lnTo>
                    <a:lnTo>
                      <a:pt x="400" y="162"/>
                    </a:lnTo>
                    <a:lnTo>
                      <a:pt x="349" y="30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4756320" y="5174640"/>
                <a:ext cx="18360" cy="104040"/>
              </a:xfrm>
              <a:custGeom>
                <a:avLst/>
                <a:gdLst/>
                <a:ahLst/>
                <a:rect l="l" t="t" r="r" b="b"/>
                <a:pathLst>
                  <a:path w="231" h="977">
                    <a:moveTo>
                      <a:pt x="183" y="0"/>
                    </a:moveTo>
                    <a:lnTo>
                      <a:pt x="183" y="283"/>
                    </a:lnTo>
                    <a:lnTo>
                      <a:pt x="231" y="659"/>
                    </a:lnTo>
                    <a:lnTo>
                      <a:pt x="90" y="648"/>
                    </a:lnTo>
                    <a:lnTo>
                      <a:pt x="210" y="856"/>
                    </a:lnTo>
                    <a:lnTo>
                      <a:pt x="148" y="977"/>
                    </a:lnTo>
                    <a:lnTo>
                      <a:pt x="0" y="687"/>
                    </a:lnTo>
                    <a:lnTo>
                      <a:pt x="0" y="560"/>
                    </a:lnTo>
                    <a:lnTo>
                      <a:pt x="130" y="129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4743000" y="5216760"/>
                <a:ext cx="83160" cy="158400"/>
              </a:xfrm>
              <a:custGeom>
                <a:avLst/>
                <a:gdLst/>
                <a:ahLst/>
                <a:rect l="l" t="t" r="r" b="b"/>
                <a:pathLst>
                  <a:path w="1008" h="1494">
                    <a:moveTo>
                      <a:pt x="0" y="778"/>
                    </a:moveTo>
                    <a:lnTo>
                      <a:pt x="28" y="837"/>
                    </a:lnTo>
                    <a:lnTo>
                      <a:pt x="28" y="975"/>
                    </a:lnTo>
                    <a:lnTo>
                      <a:pt x="99" y="1156"/>
                    </a:lnTo>
                    <a:lnTo>
                      <a:pt x="159" y="1048"/>
                    </a:lnTo>
                    <a:lnTo>
                      <a:pt x="281" y="1305"/>
                    </a:lnTo>
                    <a:lnTo>
                      <a:pt x="120" y="1378"/>
                    </a:lnTo>
                    <a:lnTo>
                      <a:pt x="342" y="1494"/>
                    </a:lnTo>
                    <a:lnTo>
                      <a:pt x="648" y="1385"/>
                    </a:lnTo>
                    <a:lnTo>
                      <a:pt x="839" y="1057"/>
                    </a:lnTo>
                    <a:lnTo>
                      <a:pt x="883" y="820"/>
                    </a:lnTo>
                    <a:lnTo>
                      <a:pt x="911" y="589"/>
                    </a:lnTo>
                    <a:lnTo>
                      <a:pt x="1008" y="310"/>
                    </a:lnTo>
                    <a:lnTo>
                      <a:pt x="869" y="30"/>
                    </a:lnTo>
                    <a:lnTo>
                      <a:pt x="812" y="0"/>
                    </a:lnTo>
                    <a:lnTo>
                      <a:pt x="710" y="279"/>
                    </a:lnTo>
                    <a:lnTo>
                      <a:pt x="779" y="350"/>
                    </a:lnTo>
                    <a:lnTo>
                      <a:pt x="890" y="400"/>
                    </a:lnTo>
                    <a:lnTo>
                      <a:pt x="770" y="679"/>
                    </a:lnTo>
                    <a:lnTo>
                      <a:pt x="770" y="848"/>
                    </a:lnTo>
                    <a:lnTo>
                      <a:pt x="648" y="1026"/>
                    </a:lnTo>
                    <a:lnTo>
                      <a:pt x="438" y="1057"/>
                    </a:lnTo>
                    <a:lnTo>
                      <a:pt x="307" y="589"/>
                    </a:lnTo>
                    <a:lnTo>
                      <a:pt x="69" y="736"/>
                    </a:lnTo>
                    <a:lnTo>
                      <a:pt x="0" y="77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4820400" y="5123520"/>
                <a:ext cx="195120" cy="290520"/>
              </a:xfrm>
              <a:custGeom>
                <a:avLst/>
                <a:gdLst/>
                <a:ahLst/>
                <a:rect l="l" t="t" r="r" b="b"/>
                <a:pathLst>
                  <a:path w="2355" h="2742">
                    <a:moveTo>
                      <a:pt x="303" y="558"/>
                    </a:moveTo>
                    <a:lnTo>
                      <a:pt x="413" y="639"/>
                    </a:lnTo>
                    <a:lnTo>
                      <a:pt x="289" y="1119"/>
                    </a:lnTo>
                    <a:lnTo>
                      <a:pt x="289" y="1398"/>
                    </a:lnTo>
                    <a:lnTo>
                      <a:pt x="630" y="1476"/>
                    </a:lnTo>
                    <a:lnTo>
                      <a:pt x="604" y="411"/>
                    </a:lnTo>
                    <a:lnTo>
                      <a:pt x="630" y="208"/>
                    </a:lnTo>
                    <a:lnTo>
                      <a:pt x="503" y="150"/>
                    </a:lnTo>
                    <a:lnTo>
                      <a:pt x="382" y="231"/>
                    </a:lnTo>
                    <a:lnTo>
                      <a:pt x="360" y="208"/>
                    </a:lnTo>
                    <a:lnTo>
                      <a:pt x="450" y="143"/>
                    </a:lnTo>
                    <a:lnTo>
                      <a:pt x="503" y="72"/>
                    </a:lnTo>
                    <a:lnTo>
                      <a:pt x="833" y="0"/>
                    </a:lnTo>
                    <a:lnTo>
                      <a:pt x="991" y="84"/>
                    </a:lnTo>
                    <a:lnTo>
                      <a:pt x="943" y="121"/>
                    </a:lnTo>
                    <a:lnTo>
                      <a:pt x="833" y="112"/>
                    </a:lnTo>
                    <a:lnTo>
                      <a:pt x="782" y="252"/>
                    </a:lnTo>
                    <a:lnTo>
                      <a:pt x="1092" y="1558"/>
                    </a:lnTo>
                    <a:lnTo>
                      <a:pt x="1413" y="1747"/>
                    </a:lnTo>
                    <a:lnTo>
                      <a:pt x="1965" y="2035"/>
                    </a:lnTo>
                    <a:lnTo>
                      <a:pt x="1905" y="1875"/>
                    </a:lnTo>
                    <a:lnTo>
                      <a:pt x="2207" y="1993"/>
                    </a:lnTo>
                    <a:lnTo>
                      <a:pt x="2297" y="1773"/>
                    </a:lnTo>
                    <a:lnTo>
                      <a:pt x="2345" y="1785"/>
                    </a:lnTo>
                    <a:lnTo>
                      <a:pt x="2306" y="2145"/>
                    </a:lnTo>
                    <a:lnTo>
                      <a:pt x="2355" y="2343"/>
                    </a:lnTo>
                    <a:lnTo>
                      <a:pt x="2133" y="2393"/>
                    </a:lnTo>
                    <a:lnTo>
                      <a:pt x="1598" y="2356"/>
                    </a:lnTo>
                    <a:lnTo>
                      <a:pt x="1723" y="2272"/>
                    </a:lnTo>
                    <a:lnTo>
                      <a:pt x="1644" y="2126"/>
                    </a:lnTo>
                    <a:lnTo>
                      <a:pt x="1732" y="2085"/>
                    </a:lnTo>
                    <a:lnTo>
                      <a:pt x="1503" y="2015"/>
                    </a:lnTo>
                    <a:lnTo>
                      <a:pt x="1503" y="2165"/>
                    </a:lnTo>
                    <a:lnTo>
                      <a:pt x="1444" y="2334"/>
                    </a:lnTo>
                    <a:lnTo>
                      <a:pt x="1246" y="2405"/>
                    </a:lnTo>
                    <a:lnTo>
                      <a:pt x="1273" y="2384"/>
                    </a:lnTo>
                    <a:lnTo>
                      <a:pt x="1135" y="2043"/>
                    </a:lnTo>
                    <a:lnTo>
                      <a:pt x="863" y="1868"/>
                    </a:lnTo>
                    <a:lnTo>
                      <a:pt x="591" y="1826"/>
                    </a:lnTo>
                    <a:lnTo>
                      <a:pt x="663" y="1916"/>
                    </a:lnTo>
                    <a:lnTo>
                      <a:pt x="624" y="1936"/>
                    </a:lnTo>
                    <a:lnTo>
                      <a:pt x="773" y="1976"/>
                    </a:lnTo>
                    <a:lnTo>
                      <a:pt x="1054" y="2204"/>
                    </a:lnTo>
                    <a:lnTo>
                      <a:pt x="1171" y="2322"/>
                    </a:lnTo>
                    <a:lnTo>
                      <a:pt x="962" y="2315"/>
                    </a:lnTo>
                    <a:lnTo>
                      <a:pt x="734" y="2246"/>
                    </a:lnTo>
                    <a:lnTo>
                      <a:pt x="923" y="2405"/>
                    </a:lnTo>
                    <a:lnTo>
                      <a:pt x="743" y="2463"/>
                    </a:lnTo>
                    <a:lnTo>
                      <a:pt x="521" y="2601"/>
                    </a:lnTo>
                    <a:lnTo>
                      <a:pt x="851" y="2525"/>
                    </a:lnTo>
                    <a:lnTo>
                      <a:pt x="552" y="2742"/>
                    </a:lnTo>
                    <a:lnTo>
                      <a:pt x="250" y="2742"/>
                    </a:lnTo>
                    <a:lnTo>
                      <a:pt x="213" y="2652"/>
                    </a:lnTo>
                    <a:lnTo>
                      <a:pt x="303" y="2272"/>
                    </a:lnTo>
                    <a:lnTo>
                      <a:pt x="270" y="2114"/>
                    </a:lnTo>
                    <a:lnTo>
                      <a:pt x="0" y="1178"/>
                    </a:lnTo>
                    <a:lnTo>
                      <a:pt x="81" y="720"/>
                    </a:lnTo>
                    <a:lnTo>
                      <a:pt x="303" y="55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4912560" y="5083200"/>
                <a:ext cx="70560" cy="65160"/>
              </a:xfrm>
              <a:custGeom>
                <a:avLst/>
                <a:gdLst/>
                <a:ahLst/>
                <a:rect l="l" t="t" r="r" b="b"/>
                <a:pathLst>
                  <a:path w="851" h="616">
                    <a:moveTo>
                      <a:pt x="0" y="385"/>
                    </a:moveTo>
                    <a:lnTo>
                      <a:pt x="77" y="207"/>
                    </a:lnTo>
                    <a:lnTo>
                      <a:pt x="77" y="348"/>
                    </a:lnTo>
                    <a:lnTo>
                      <a:pt x="299" y="97"/>
                    </a:lnTo>
                    <a:lnTo>
                      <a:pt x="378" y="616"/>
                    </a:lnTo>
                    <a:lnTo>
                      <a:pt x="417" y="227"/>
                    </a:lnTo>
                    <a:lnTo>
                      <a:pt x="618" y="69"/>
                    </a:lnTo>
                    <a:lnTo>
                      <a:pt x="740" y="97"/>
                    </a:lnTo>
                    <a:lnTo>
                      <a:pt x="851" y="7"/>
                    </a:lnTo>
                    <a:lnTo>
                      <a:pt x="721" y="40"/>
                    </a:lnTo>
                    <a:lnTo>
                      <a:pt x="653" y="40"/>
                    </a:lnTo>
                    <a:lnTo>
                      <a:pt x="618" y="0"/>
                    </a:lnTo>
                    <a:lnTo>
                      <a:pt x="521" y="69"/>
                    </a:lnTo>
                    <a:lnTo>
                      <a:pt x="389" y="47"/>
                    </a:lnTo>
                    <a:lnTo>
                      <a:pt x="279" y="40"/>
                    </a:lnTo>
                    <a:lnTo>
                      <a:pt x="118" y="77"/>
                    </a:lnTo>
                    <a:lnTo>
                      <a:pt x="21" y="189"/>
                    </a:lnTo>
                    <a:lnTo>
                      <a:pt x="0" y="38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4989600" y="5143320"/>
                <a:ext cx="66600" cy="167760"/>
              </a:xfrm>
              <a:custGeom>
                <a:avLst/>
                <a:gdLst/>
                <a:ahLst/>
                <a:rect l="l" t="t" r="r" b="b"/>
                <a:pathLst>
                  <a:path w="811" h="1587">
                    <a:moveTo>
                      <a:pt x="481" y="171"/>
                    </a:moveTo>
                    <a:lnTo>
                      <a:pt x="481" y="429"/>
                    </a:lnTo>
                    <a:lnTo>
                      <a:pt x="380" y="600"/>
                    </a:lnTo>
                    <a:lnTo>
                      <a:pt x="239" y="429"/>
                    </a:lnTo>
                    <a:lnTo>
                      <a:pt x="128" y="259"/>
                    </a:lnTo>
                    <a:lnTo>
                      <a:pt x="239" y="860"/>
                    </a:lnTo>
                    <a:lnTo>
                      <a:pt x="207" y="1257"/>
                    </a:lnTo>
                    <a:lnTo>
                      <a:pt x="0" y="1556"/>
                    </a:lnTo>
                    <a:lnTo>
                      <a:pt x="170" y="1587"/>
                    </a:lnTo>
                    <a:lnTo>
                      <a:pt x="361" y="1483"/>
                    </a:lnTo>
                    <a:lnTo>
                      <a:pt x="318" y="840"/>
                    </a:lnTo>
                    <a:lnTo>
                      <a:pt x="509" y="1049"/>
                    </a:lnTo>
                    <a:lnTo>
                      <a:pt x="640" y="1049"/>
                    </a:lnTo>
                    <a:lnTo>
                      <a:pt x="541" y="939"/>
                    </a:lnTo>
                    <a:lnTo>
                      <a:pt x="521" y="770"/>
                    </a:lnTo>
                    <a:lnTo>
                      <a:pt x="582" y="600"/>
                    </a:lnTo>
                    <a:lnTo>
                      <a:pt x="659" y="489"/>
                    </a:lnTo>
                    <a:lnTo>
                      <a:pt x="721" y="392"/>
                    </a:lnTo>
                    <a:lnTo>
                      <a:pt x="762" y="528"/>
                    </a:lnTo>
                    <a:lnTo>
                      <a:pt x="811" y="400"/>
                    </a:lnTo>
                    <a:lnTo>
                      <a:pt x="780" y="293"/>
                    </a:lnTo>
                    <a:lnTo>
                      <a:pt x="721" y="150"/>
                    </a:lnTo>
                    <a:lnTo>
                      <a:pt x="548" y="0"/>
                    </a:lnTo>
                    <a:lnTo>
                      <a:pt x="481" y="17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5051160" y="5200920"/>
                <a:ext cx="45360" cy="64080"/>
              </a:xfrm>
              <a:custGeom>
                <a:avLst/>
                <a:gdLst/>
                <a:ahLst/>
                <a:rect l="l" t="t" r="r" b="b"/>
                <a:pathLst>
                  <a:path w="552" h="609">
                    <a:moveTo>
                      <a:pt x="152" y="0"/>
                    </a:moveTo>
                    <a:lnTo>
                      <a:pt x="31" y="152"/>
                    </a:lnTo>
                    <a:lnTo>
                      <a:pt x="132" y="293"/>
                    </a:lnTo>
                    <a:lnTo>
                      <a:pt x="373" y="133"/>
                    </a:lnTo>
                    <a:lnTo>
                      <a:pt x="453" y="293"/>
                    </a:lnTo>
                    <a:lnTo>
                      <a:pt x="0" y="609"/>
                    </a:lnTo>
                    <a:lnTo>
                      <a:pt x="420" y="541"/>
                    </a:lnTo>
                    <a:lnTo>
                      <a:pt x="552" y="133"/>
                    </a:lnTo>
                    <a:lnTo>
                      <a:pt x="453" y="42"/>
                    </a:lnTo>
                    <a:lnTo>
                      <a:pt x="299" y="62"/>
                    </a:lnTo>
                    <a:lnTo>
                      <a:pt x="193" y="23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4872240" y="5118480"/>
                <a:ext cx="68040" cy="259920"/>
              </a:xfrm>
              <a:custGeom>
                <a:avLst/>
                <a:gdLst/>
                <a:ahLst/>
                <a:rect l="l" t="t" r="r" b="b"/>
                <a:pathLst>
                  <a:path w="820" h="2453">
                    <a:moveTo>
                      <a:pt x="186" y="21"/>
                    </a:moveTo>
                    <a:lnTo>
                      <a:pt x="178" y="110"/>
                    </a:lnTo>
                    <a:lnTo>
                      <a:pt x="136" y="198"/>
                    </a:lnTo>
                    <a:lnTo>
                      <a:pt x="119" y="228"/>
                    </a:lnTo>
                    <a:lnTo>
                      <a:pt x="186" y="309"/>
                    </a:lnTo>
                    <a:lnTo>
                      <a:pt x="288" y="487"/>
                    </a:lnTo>
                    <a:lnTo>
                      <a:pt x="400" y="817"/>
                    </a:lnTo>
                    <a:lnTo>
                      <a:pt x="520" y="1245"/>
                    </a:lnTo>
                    <a:lnTo>
                      <a:pt x="693" y="1806"/>
                    </a:lnTo>
                    <a:lnTo>
                      <a:pt x="820" y="2125"/>
                    </a:lnTo>
                    <a:lnTo>
                      <a:pt x="672" y="2453"/>
                    </a:lnTo>
                    <a:lnTo>
                      <a:pt x="347" y="2204"/>
                    </a:lnTo>
                    <a:lnTo>
                      <a:pt x="68" y="708"/>
                    </a:lnTo>
                    <a:lnTo>
                      <a:pt x="46" y="440"/>
                    </a:lnTo>
                    <a:lnTo>
                      <a:pt x="68" y="270"/>
                    </a:lnTo>
                    <a:lnTo>
                      <a:pt x="68" y="228"/>
                    </a:lnTo>
                    <a:lnTo>
                      <a:pt x="0" y="141"/>
                    </a:lnTo>
                    <a:lnTo>
                      <a:pt x="6" y="0"/>
                    </a:lnTo>
                    <a:lnTo>
                      <a:pt x="149" y="11"/>
                    </a:lnTo>
                    <a:lnTo>
                      <a:pt x="186" y="2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4869000" y="5118480"/>
                <a:ext cx="71640" cy="262440"/>
              </a:xfrm>
              <a:custGeom>
                <a:avLst/>
                <a:gdLst/>
                <a:ahLst/>
                <a:rect l="l" t="t" r="r" b="b"/>
                <a:pathLst>
                  <a:path w="862" h="2474">
                    <a:moveTo>
                      <a:pt x="152" y="11"/>
                    </a:moveTo>
                    <a:lnTo>
                      <a:pt x="129" y="251"/>
                    </a:lnTo>
                    <a:lnTo>
                      <a:pt x="178" y="670"/>
                    </a:lnTo>
                    <a:lnTo>
                      <a:pt x="281" y="1141"/>
                    </a:lnTo>
                    <a:lnTo>
                      <a:pt x="461" y="1863"/>
                    </a:lnTo>
                    <a:lnTo>
                      <a:pt x="499" y="2174"/>
                    </a:lnTo>
                    <a:lnTo>
                      <a:pt x="691" y="2370"/>
                    </a:lnTo>
                    <a:lnTo>
                      <a:pt x="811" y="2112"/>
                    </a:lnTo>
                    <a:lnTo>
                      <a:pt x="629" y="1694"/>
                    </a:lnTo>
                    <a:lnTo>
                      <a:pt x="519" y="1257"/>
                    </a:lnTo>
                    <a:lnTo>
                      <a:pt x="422" y="876"/>
                    </a:lnTo>
                    <a:lnTo>
                      <a:pt x="288" y="468"/>
                    </a:lnTo>
                    <a:lnTo>
                      <a:pt x="211" y="309"/>
                    </a:lnTo>
                    <a:lnTo>
                      <a:pt x="170" y="228"/>
                    </a:lnTo>
                    <a:lnTo>
                      <a:pt x="288" y="389"/>
                    </a:lnTo>
                    <a:lnTo>
                      <a:pt x="409" y="738"/>
                    </a:lnTo>
                    <a:lnTo>
                      <a:pt x="562" y="1195"/>
                    </a:lnTo>
                    <a:lnTo>
                      <a:pt x="714" y="1705"/>
                    </a:lnTo>
                    <a:lnTo>
                      <a:pt x="783" y="1936"/>
                    </a:lnTo>
                    <a:lnTo>
                      <a:pt x="862" y="2112"/>
                    </a:lnTo>
                    <a:lnTo>
                      <a:pt x="721" y="2474"/>
                    </a:lnTo>
                    <a:lnTo>
                      <a:pt x="380" y="2193"/>
                    </a:lnTo>
                    <a:lnTo>
                      <a:pt x="251" y="1505"/>
                    </a:lnTo>
                    <a:lnTo>
                      <a:pt x="119" y="717"/>
                    </a:lnTo>
                    <a:lnTo>
                      <a:pt x="110" y="440"/>
                    </a:lnTo>
                    <a:lnTo>
                      <a:pt x="88" y="228"/>
                    </a:lnTo>
                    <a:lnTo>
                      <a:pt x="0" y="110"/>
                    </a:lnTo>
                    <a:lnTo>
                      <a:pt x="60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4803840" y="5110200"/>
                <a:ext cx="47520" cy="108360"/>
              </a:xfrm>
              <a:custGeom>
                <a:avLst/>
                <a:gdLst/>
                <a:ahLst/>
                <a:rect l="l" t="t" r="r" b="b"/>
                <a:pathLst>
                  <a:path w="578" h="1028">
                    <a:moveTo>
                      <a:pt x="42" y="938"/>
                    </a:moveTo>
                    <a:lnTo>
                      <a:pt x="37" y="775"/>
                    </a:lnTo>
                    <a:lnTo>
                      <a:pt x="0" y="360"/>
                    </a:lnTo>
                    <a:lnTo>
                      <a:pt x="37" y="276"/>
                    </a:lnTo>
                    <a:lnTo>
                      <a:pt x="293" y="0"/>
                    </a:lnTo>
                    <a:lnTo>
                      <a:pt x="523" y="48"/>
                    </a:lnTo>
                    <a:lnTo>
                      <a:pt x="578" y="184"/>
                    </a:lnTo>
                    <a:lnTo>
                      <a:pt x="528" y="247"/>
                    </a:lnTo>
                    <a:lnTo>
                      <a:pt x="563" y="465"/>
                    </a:lnTo>
                    <a:lnTo>
                      <a:pt x="486" y="487"/>
                    </a:lnTo>
                    <a:lnTo>
                      <a:pt x="464" y="705"/>
                    </a:lnTo>
                    <a:lnTo>
                      <a:pt x="406" y="805"/>
                    </a:lnTo>
                    <a:lnTo>
                      <a:pt x="358" y="874"/>
                    </a:lnTo>
                    <a:lnTo>
                      <a:pt x="305" y="938"/>
                    </a:lnTo>
                    <a:lnTo>
                      <a:pt x="263" y="1028"/>
                    </a:lnTo>
                    <a:lnTo>
                      <a:pt x="92" y="1001"/>
                    </a:lnTo>
                    <a:lnTo>
                      <a:pt x="42" y="938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4807800" y="4941360"/>
                <a:ext cx="107280" cy="172800"/>
              </a:xfrm>
              <a:custGeom>
                <a:avLst/>
                <a:gdLst/>
                <a:ahLst/>
                <a:rect l="l" t="t" r="r" b="b"/>
                <a:pathLst>
                  <a:path w="1289" h="1630">
                    <a:moveTo>
                      <a:pt x="37" y="717"/>
                    </a:moveTo>
                    <a:lnTo>
                      <a:pt x="0" y="784"/>
                    </a:lnTo>
                    <a:lnTo>
                      <a:pt x="0" y="915"/>
                    </a:lnTo>
                    <a:lnTo>
                      <a:pt x="85" y="1036"/>
                    </a:lnTo>
                    <a:lnTo>
                      <a:pt x="200" y="1120"/>
                    </a:lnTo>
                    <a:lnTo>
                      <a:pt x="235" y="1120"/>
                    </a:lnTo>
                    <a:lnTo>
                      <a:pt x="298" y="1263"/>
                    </a:lnTo>
                    <a:lnTo>
                      <a:pt x="348" y="1395"/>
                    </a:lnTo>
                    <a:lnTo>
                      <a:pt x="447" y="1508"/>
                    </a:lnTo>
                    <a:lnTo>
                      <a:pt x="555" y="1572"/>
                    </a:lnTo>
                    <a:lnTo>
                      <a:pt x="705" y="1621"/>
                    </a:lnTo>
                    <a:lnTo>
                      <a:pt x="855" y="1630"/>
                    </a:lnTo>
                    <a:lnTo>
                      <a:pt x="947" y="1579"/>
                    </a:lnTo>
                    <a:lnTo>
                      <a:pt x="1019" y="1494"/>
                    </a:lnTo>
                    <a:lnTo>
                      <a:pt x="1090" y="1374"/>
                    </a:lnTo>
                    <a:lnTo>
                      <a:pt x="1118" y="1263"/>
                    </a:lnTo>
                    <a:lnTo>
                      <a:pt x="1140" y="1056"/>
                    </a:lnTo>
                    <a:lnTo>
                      <a:pt x="1203" y="1001"/>
                    </a:lnTo>
                    <a:lnTo>
                      <a:pt x="1284" y="889"/>
                    </a:lnTo>
                    <a:lnTo>
                      <a:pt x="1289" y="768"/>
                    </a:lnTo>
                    <a:lnTo>
                      <a:pt x="1274" y="662"/>
                    </a:lnTo>
                    <a:lnTo>
                      <a:pt x="1261" y="627"/>
                    </a:lnTo>
                    <a:lnTo>
                      <a:pt x="1203" y="595"/>
                    </a:lnTo>
                    <a:lnTo>
                      <a:pt x="1118" y="325"/>
                    </a:lnTo>
                    <a:lnTo>
                      <a:pt x="1012" y="94"/>
                    </a:lnTo>
                    <a:lnTo>
                      <a:pt x="692" y="0"/>
                    </a:lnTo>
                    <a:lnTo>
                      <a:pt x="270" y="85"/>
                    </a:lnTo>
                    <a:lnTo>
                      <a:pt x="85" y="247"/>
                    </a:lnTo>
                    <a:lnTo>
                      <a:pt x="41" y="429"/>
                    </a:lnTo>
                    <a:lnTo>
                      <a:pt x="41" y="657"/>
                    </a:lnTo>
                    <a:lnTo>
                      <a:pt x="37" y="717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4833000" y="5043960"/>
                <a:ext cx="18360" cy="13320"/>
              </a:xfrm>
              <a:custGeom>
                <a:avLst/>
                <a:gdLst/>
                <a:ahLst/>
                <a:rect l="l" t="t" r="r" b="b"/>
                <a:pathLst>
                  <a:path w="223" h="120">
                    <a:moveTo>
                      <a:pt x="223" y="6"/>
                    </a:moveTo>
                    <a:lnTo>
                      <a:pt x="223" y="41"/>
                    </a:lnTo>
                    <a:lnTo>
                      <a:pt x="140" y="108"/>
                    </a:lnTo>
                    <a:lnTo>
                      <a:pt x="57" y="120"/>
                    </a:lnTo>
                    <a:lnTo>
                      <a:pt x="0" y="78"/>
                    </a:lnTo>
                    <a:lnTo>
                      <a:pt x="16" y="0"/>
                    </a:lnTo>
                    <a:lnTo>
                      <a:pt x="92" y="28"/>
                    </a:lnTo>
                    <a:lnTo>
                      <a:pt x="140" y="35"/>
                    </a:lnTo>
                    <a:lnTo>
                      <a:pt x="223" y="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4876200" y="5033160"/>
                <a:ext cx="19800" cy="15120"/>
              </a:xfrm>
              <a:custGeom>
                <a:avLst/>
                <a:gdLst/>
                <a:ahLst/>
                <a:rect l="l" t="t" r="r" b="b"/>
                <a:pathLst>
                  <a:path w="245" h="141">
                    <a:moveTo>
                      <a:pt x="0" y="85"/>
                    </a:moveTo>
                    <a:lnTo>
                      <a:pt x="18" y="112"/>
                    </a:lnTo>
                    <a:lnTo>
                      <a:pt x="117" y="141"/>
                    </a:lnTo>
                    <a:lnTo>
                      <a:pt x="212" y="134"/>
                    </a:lnTo>
                    <a:lnTo>
                      <a:pt x="245" y="79"/>
                    </a:lnTo>
                    <a:lnTo>
                      <a:pt x="238" y="0"/>
                    </a:lnTo>
                    <a:lnTo>
                      <a:pt x="179" y="42"/>
                    </a:lnTo>
                    <a:lnTo>
                      <a:pt x="139" y="79"/>
                    </a:lnTo>
                    <a:lnTo>
                      <a:pt x="83" y="9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4861440" y="5038200"/>
                <a:ext cx="10440" cy="25200"/>
              </a:xfrm>
              <a:custGeom>
                <a:avLst/>
                <a:gdLst/>
                <a:ahLst/>
                <a:rect l="l" t="t" r="r" b="b"/>
                <a:pathLst>
                  <a:path w="120" h="235">
                    <a:moveTo>
                      <a:pt x="57" y="37"/>
                    </a:moveTo>
                    <a:lnTo>
                      <a:pt x="37" y="0"/>
                    </a:lnTo>
                    <a:lnTo>
                      <a:pt x="13" y="16"/>
                    </a:lnTo>
                    <a:lnTo>
                      <a:pt x="22" y="141"/>
                    </a:lnTo>
                    <a:lnTo>
                      <a:pt x="0" y="169"/>
                    </a:lnTo>
                    <a:lnTo>
                      <a:pt x="13" y="220"/>
                    </a:lnTo>
                    <a:lnTo>
                      <a:pt x="64" y="235"/>
                    </a:lnTo>
                    <a:lnTo>
                      <a:pt x="108" y="220"/>
                    </a:lnTo>
                    <a:lnTo>
                      <a:pt x="120" y="178"/>
                    </a:lnTo>
                    <a:lnTo>
                      <a:pt x="112" y="148"/>
                    </a:lnTo>
                    <a:lnTo>
                      <a:pt x="78" y="121"/>
                    </a:lnTo>
                    <a:lnTo>
                      <a:pt x="57" y="3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4853520" y="50533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51" h="42">
                    <a:moveTo>
                      <a:pt x="25" y="0"/>
                    </a:moveTo>
                    <a:lnTo>
                      <a:pt x="0" y="25"/>
                    </a:lnTo>
                    <a:lnTo>
                      <a:pt x="25" y="42"/>
                    </a:lnTo>
                    <a:lnTo>
                      <a:pt x="51" y="7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4873320" y="505080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6"/>
                    </a:moveTo>
                    <a:lnTo>
                      <a:pt x="21" y="36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4856400" y="5078880"/>
                <a:ext cx="27720" cy="7200"/>
              </a:xfrm>
              <a:custGeom>
                <a:avLst/>
                <a:gdLst/>
                <a:ahLst/>
                <a:rect l="l" t="t" r="r" b="b"/>
                <a:pathLst>
                  <a:path w="343" h="70">
                    <a:moveTo>
                      <a:pt x="0" y="44"/>
                    </a:moveTo>
                    <a:lnTo>
                      <a:pt x="128" y="70"/>
                    </a:lnTo>
                    <a:lnTo>
                      <a:pt x="235" y="55"/>
                    </a:lnTo>
                    <a:lnTo>
                      <a:pt x="322" y="21"/>
                    </a:lnTo>
                    <a:lnTo>
                      <a:pt x="343" y="7"/>
                    </a:lnTo>
                    <a:lnTo>
                      <a:pt x="297" y="0"/>
                    </a:lnTo>
                    <a:lnTo>
                      <a:pt x="214" y="21"/>
                    </a:lnTo>
                    <a:lnTo>
                      <a:pt x="135" y="26"/>
                    </a:lnTo>
                    <a:lnTo>
                      <a:pt x="20" y="21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4820400" y="4974480"/>
                <a:ext cx="29520" cy="44640"/>
              </a:xfrm>
              <a:custGeom>
                <a:avLst/>
                <a:gdLst/>
                <a:ahLst/>
                <a:rect l="l" t="t" r="r" b="b"/>
                <a:pathLst>
                  <a:path w="363" h="429">
                    <a:moveTo>
                      <a:pt x="226" y="35"/>
                    </a:moveTo>
                    <a:lnTo>
                      <a:pt x="158" y="99"/>
                    </a:lnTo>
                    <a:lnTo>
                      <a:pt x="127" y="182"/>
                    </a:lnTo>
                    <a:lnTo>
                      <a:pt x="127" y="266"/>
                    </a:lnTo>
                    <a:lnTo>
                      <a:pt x="149" y="337"/>
                    </a:lnTo>
                    <a:lnTo>
                      <a:pt x="363" y="394"/>
                    </a:lnTo>
                    <a:lnTo>
                      <a:pt x="185" y="389"/>
                    </a:lnTo>
                    <a:lnTo>
                      <a:pt x="63" y="429"/>
                    </a:lnTo>
                    <a:lnTo>
                      <a:pt x="79" y="380"/>
                    </a:lnTo>
                    <a:lnTo>
                      <a:pt x="33" y="323"/>
                    </a:lnTo>
                    <a:lnTo>
                      <a:pt x="6" y="231"/>
                    </a:lnTo>
                    <a:lnTo>
                      <a:pt x="0" y="134"/>
                    </a:lnTo>
                    <a:lnTo>
                      <a:pt x="19" y="62"/>
                    </a:lnTo>
                    <a:lnTo>
                      <a:pt x="68" y="14"/>
                    </a:lnTo>
                    <a:lnTo>
                      <a:pt x="136" y="0"/>
                    </a:lnTo>
                    <a:lnTo>
                      <a:pt x="192" y="7"/>
                    </a:lnTo>
                    <a:lnTo>
                      <a:pt x="226" y="3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4866120" y="499752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14" h="154">
                    <a:moveTo>
                      <a:pt x="70" y="115"/>
                    </a:moveTo>
                    <a:lnTo>
                      <a:pt x="226" y="34"/>
                    </a:lnTo>
                    <a:lnTo>
                      <a:pt x="314" y="30"/>
                    </a:lnTo>
                    <a:lnTo>
                      <a:pt x="249" y="0"/>
                    </a:lnTo>
                    <a:lnTo>
                      <a:pt x="176" y="30"/>
                    </a:lnTo>
                    <a:lnTo>
                      <a:pt x="0" y="154"/>
                    </a:lnTo>
                    <a:lnTo>
                      <a:pt x="70" y="11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4811400" y="5024520"/>
                <a:ext cx="8280" cy="6840"/>
              </a:xfrm>
              <a:custGeom>
                <a:avLst/>
                <a:gdLst/>
                <a:ahLst/>
                <a:rect l="l" t="t" r="r" b="b"/>
                <a:pathLst>
                  <a:path w="105" h="60">
                    <a:moveTo>
                      <a:pt x="0" y="44"/>
                    </a:moveTo>
                    <a:lnTo>
                      <a:pt x="96" y="60"/>
                    </a:lnTo>
                    <a:lnTo>
                      <a:pt x="105" y="31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4901400" y="5009400"/>
                <a:ext cx="8280" cy="11880"/>
              </a:xfrm>
              <a:custGeom>
                <a:avLst/>
                <a:gdLst/>
                <a:ahLst/>
                <a:rect l="l" t="t" r="r" b="b"/>
                <a:pathLst>
                  <a:path w="99" h="111">
                    <a:moveTo>
                      <a:pt x="0" y="111"/>
                    </a:moveTo>
                    <a:lnTo>
                      <a:pt x="19" y="111"/>
                    </a:lnTo>
                    <a:lnTo>
                      <a:pt x="99" y="35"/>
                    </a:lnTo>
                    <a:lnTo>
                      <a:pt x="90" y="0"/>
                    </a:lnTo>
                    <a:lnTo>
                      <a:pt x="55" y="0"/>
                    </a:lnTo>
                    <a:lnTo>
                      <a:pt x="7" y="39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4865040" y="509760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154" h="84">
                    <a:moveTo>
                      <a:pt x="27" y="7"/>
                    </a:moveTo>
                    <a:lnTo>
                      <a:pt x="0" y="49"/>
                    </a:lnTo>
                    <a:lnTo>
                      <a:pt x="32" y="84"/>
                    </a:lnTo>
                    <a:lnTo>
                      <a:pt x="140" y="69"/>
                    </a:lnTo>
                    <a:lnTo>
                      <a:pt x="154" y="27"/>
                    </a:lnTo>
                    <a:lnTo>
                      <a:pt x="127" y="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4809960" y="5160240"/>
                <a:ext cx="14400" cy="35280"/>
              </a:xfrm>
              <a:custGeom>
                <a:avLst/>
                <a:gdLst/>
                <a:ahLst/>
                <a:rect l="l" t="t" r="r" b="b"/>
                <a:pathLst>
                  <a:path w="172" h="336">
                    <a:moveTo>
                      <a:pt x="7" y="42"/>
                    </a:moveTo>
                    <a:lnTo>
                      <a:pt x="51" y="211"/>
                    </a:lnTo>
                    <a:lnTo>
                      <a:pt x="73" y="336"/>
                    </a:lnTo>
                    <a:lnTo>
                      <a:pt x="156" y="336"/>
                    </a:lnTo>
                    <a:lnTo>
                      <a:pt x="172" y="279"/>
                    </a:lnTo>
                    <a:lnTo>
                      <a:pt x="99" y="231"/>
                    </a:lnTo>
                    <a:lnTo>
                      <a:pt x="73" y="147"/>
                    </a:lnTo>
                    <a:lnTo>
                      <a:pt x="78" y="75"/>
                    </a:lnTo>
                    <a:lnTo>
                      <a:pt x="0" y="0"/>
                    </a:lnTo>
                    <a:lnTo>
                      <a:pt x="7" y="42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4810320" y="5136480"/>
                <a:ext cx="21600" cy="12600"/>
              </a:xfrm>
              <a:custGeom>
                <a:avLst/>
                <a:gdLst/>
                <a:ahLst/>
                <a:rect l="l" t="t" r="r" b="b"/>
                <a:pathLst>
                  <a:path w="264" h="122">
                    <a:moveTo>
                      <a:pt x="0" y="106"/>
                    </a:moveTo>
                    <a:lnTo>
                      <a:pt x="13" y="122"/>
                    </a:lnTo>
                    <a:lnTo>
                      <a:pt x="57" y="78"/>
                    </a:lnTo>
                    <a:lnTo>
                      <a:pt x="114" y="97"/>
                    </a:lnTo>
                    <a:lnTo>
                      <a:pt x="140" y="53"/>
                    </a:lnTo>
                    <a:lnTo>
                      <a:pt x="264" y="106"/>
                    </a:lnTo>
                    <a:lnTo>
                      <a:pt x="127" y="0"/>
                    </a:lnTo>
                    <a:lnTo>
                      <a:pt x="101" y="14"/>
                    </a:lnTo>
                    <a:lnTo>
                      <a:pt x="32" y="64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4827960" y="5177880"/>
                <a:ext cx="8280" cy="15840"/>
              </a:xfrm>
              <a:custGeom>
                <a:avLst/>
                <a:gdLst/>
                <a:ahLst/>
                <a:rect l="l" t="t" r="r" b="b"/>
                <a:pathLst>
                  <a:path w="106" h="147">
                    <a:moveTo>
                      <a:pt x="0" y="44"/>
                    </a:moveTo>
                    <a:lnTo>
                      <a:pt x="41" y="85"/>
                    </a:lnTo>
                    <a:lnTo>
                      <a:pt x="63" y="147"/>
                    </a:lnTo>
                    <a:lnTo>
                      <a:pt x="106" y="92"/>
                    </a:lnTo>
                    <a:lnTo>
                      <a:pt x="99" y="35"/>
                    </a:lnTo>
                    <a:lnTo>
                      <a:pt x="63" y="9"/>
                    </a:lnTo>
                    <a:lnTo>
                      <a:pt x="7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4836240" y="502884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44" h="94">
                    <a:moveTo>
                      <a:pt x="0" y="34"/>
                    </a:moveTo>
                    <a:lnTo>
                      <a:pt x="45" y="81"/>
                    </a:lnTo>
                    <a:lnTo>
                      <a:pt x="89" y="94"/>
                    </a:lnTo>
                    <a:lnTo>
                      <a:pt x="114" y="94"/>
                    </a:lnTo>
                    <a:lnTo>
                      <a:pt x="167" y="94"/>
                    </a:lnTo>
                    <a:lnTo>
                      <a:pt x="244" y="43"/>
                    </a:lnTo>
                    <a:lnTo>
                      <a:pt x="204" y="0"/>
                    </a:lnTo>
                    <a:lnTo>
                      <a:pt x="123" y="9"/>
                    </a:lnTo>
                    <a:lnTo>
                      <a:pt x="45" y="28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4872960" y="502452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221" h="85">
                    <a:moveTo>
                      <a:pt x="0" y="70"/>
                    </a:moveTo>
                    <a:lnTo>
                      <a:pt x="44" y="7"/>
                    </a:lnTo>
                    <a:lnTo>
                      <a:pt x="129" y="0"/>
                    </a:lnTo>
                    <a:lnTo>
                      <a:pt x="221" y="7"/>
                    </a:lnTo>
                    <a:lnTo>
                      <a:pt x="216" y="26"/>
                    </a:lnTo>
                    <a:lnTo>
                      <a:pt x="185" y="57"/>
                    </a:lnTo>
                    <a:lnTo>
                      <a:pt x="115" y="85"/>
                    </a:lnTo>
                    <a:lnTo>
                      <a:pt x="51" y="85"/>
                    </a:lnTo>
                    <a:lnTo>
                      <a:pt x="9" y="85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4257720" y="5076000"/>
                <a:ext cx="45000" cy="37080"/>
              </a:xfrm>
              <a:custGeom>
                <a:avLst/>
                <a:gdLst/>
                <a:ahLst/>
                <a:rect l="l" t="t" r="r" b="b"/>
                <a:pathLst>
                  <a:path w="546" h="352">
                    <a:moveTo>
                      <a:pt x="53" y="229"/>
                    </a:moveTo>
                    <a:lnTo>
                      <a:pt x="126" y="174"/>
                    </a:lnTo>
                    <a:lnTo>
                      <a:pt x="163" y="161"/>
                    </a:lnTo>
                    <a:lnTo>
                      <a:pt x="313" y="161"/>
                    </a:lnTo>
                    <a:lnTo>
                      <a:pt x="387" y="167"/>
                    </a:lnTo>
                    <a:lnTo>
                      <a:pt x="194" y="94"/>
                    </a:lnTo>
                    <a:lnTo>
                      <a:pt x="60" y="94"/>
                    </a:lnTo>
                    <a:lnTo>
                      <a:pt x="9" y="82"/>
                    </a:lnTo>
                    <a:lnTo>
                      <a:pt x="0" y="75"/>
                    </a:lnTo>
                    <a:lnTo>
                      <a:pt x="145" y="0"/>
                    </a:lnTo>
                    <a:lnTo>
                      <a:pt x="224" y="13"/>
                    </a:lnTo>
                    <a:lnTo>
                      <a:pt x="313" y="64"/>
                    </a:lnTo>
                    <a:lnTo>
                      <a:pt x="415" y="108"/>
                    </a:lnTo>
                    <a:lnTo>
                      <a:pt x="498" y="130"/>
                    </a:lnTo>
                    <a:lnTo>
                      <a:pt x="546" y="198"/>
                    </a:lnTo>
                    <a:lnTo>
                      <a:pt x="521" y="255"/>
                    </a:lnTo>
                    <a:lnTo>
                      <a:pt x="484" y="255"/>
                    </a:lnTo>
                    <a:lnTo>
                      <a:pt x="431" y="322"/>
                    </a:lnTo>
                    <a:lnTo>
                      <a:pt x="376" y="329"/>
                    </a:lnTo>
                    <a:lnTo>
                      <a:pt x="286" y="352"/>
                    </a:lnTo>
                    <a:lnTo>
                      <a:pt x="365" y="280"/>
                    </a:lnTo>
                    <a:lnTo>
                      <a:pt x="401" y="235"/>
                    </a:lnTo>
                    <a:lnTo>
                      <a:pt x="401" y="218"/>
                    </a:lnTo>
                    <a:lnTo>
                      <a:pt x="365" y="209"/>
                    </a:lnTo>
                    <a:lnTo>
                      <a:pt x="304" y="191"/>
                    </a:lnTo>
                    <a:lnTo>
                      <a:pt x="286" y="235"/>
                    </a:lnTo>
                    <a:lnTo>
                      <a:pt x="282" y="205"/>
                    </a:lnTo>
                    <a:lnTo>
                      <a:pt x="256" y="205"/>
                    </a:lnTo>
                    <a:lnTo>
                      <a:pt x="253" y="225"/>
                    </a:lnTo>
                    <a:lnTo>
                      <a:pt x="277" y="244"/>
                    </a:lnTo>
                    <a:lnTo>
                      <a:pt x="268" y="266"/>
                    </a:lnTo>
                    <a:lnTo>
                      <a:pt x="84" y="244"/>
                    </a:lnTo>
                    <a:lnTo>
                      <a:pt x="53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4266360" y="5105880"/>
                <a:ext cx="18360" cy="4680"/>
              </a:xfrm>
              <a:custGeom>
                <a:avLst/>
                <a:gdLst/>
                <a:ahLst/>
                <a:rect l="l" t="t" r="r" b="b"/>
                <a:pathLst>
                  <a:path w="224" h="49">
                    <a:moveTo>
                      <a:pt x="0" y="0"/>
                    </a:moveTo>
                    <a:lnTo>
                      <a:pt x="40" y="33"/>
                    </a:lnTo>
                    <a:lnTo>
                      <a:pt x="139" y="49"/>
                    </a:lnTo>
                    <a:lnTo>
                      <a:pt x="224" y="3"/>
                    </a:lnTo>
                    <a:lnTo>
                      <a:pt x="132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4284720" y="5095800"/>
                <a:ext cx="5040" cy="10080"/>
              </a:xfrm>
              <a:custGeom>
                <a:avLst/>
                <a:gdLst/>
                <a:ahLst/>
                <a:rect l="l" t="t" r="r" b="b"/>
                <a:pathLst>
                  <a:path w="64" h="98">
                    <a:moveTo>
                      <a:pt x="0" y="0"/>
                    </a:moveTo>
                    <a:lnTo>
                      <a:pt x="53" y="98"/>
                    </a:lnTo>
                    <a:lnTo>
                      <a:pt x="64" y="81"/>
                    </a:lnTo>
                    <a:lnTo>
                      <a:pt x="3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4306680" y="5094720"/>
                <a:ext cx="33480" cy="55080"/>
              </a:xfrm>
              <a:custGeom>
                <a:avLst/>
                <a:gdLst/>
                <a:ahLst/>
                <a:rect l="l" t="t" r="r" b="b"/>
                <a:pathLst>
                  <a:path w="406" h="514">
                    <a:moveTo>
                      <a:pt x="0" y="10"/>
                    </a:moveTo>
                    <a:lnTo>
                      <a:pt x="0" y="63"/>
                    </a:lnTo>
                    <a:lnTo>
                      <a:pt x="28" y="99"/>
                    </a:lnTo>
                    <a:lnTo>
                      <a:pt x="12" y="388"/>
                    </a:lnTo>
                    <a:lnTo>
                      <a:pt x="35" y="514"/>
                    </a:lnTo>
                    <a:lnTo>
                      <a:pt x="28" y="380"/>
                    </a:lnTo>
                    <a:lnTo>
                      <a:pt x="39" y="213"/>
                    </a:lnTo>
                    <a:lnTo>
                      <a:pt x="146" y="288"/>
                    </a:lnTo>
                    <a:lnTo>
                      <a:pt x="105" y="201"/>
                    </a:lnTo>
                    <a:lnTo>
                      <a:pt x="197" y="235"/>
                    </a:lnTo>
                    <a:lnTo>
                      <a:pt x="275" y="222"/>
                    </a:lnTo>
                    <a:lnTo>
                      <a:pt x="202" y="201"/>
                    </a:lnTo>
                    <a:lnTo>
                      <a:pt x="202" y="178"/>
                    </a:lnTo>
                    <a:lnTo>
                      <a:pt x="233" y="160"/>
                    </a:lnTo>
                    <a:lnTo>
                      <a:pt x="294" y="208"/>
                    </a:lnTo>
                    <a:lnTo>
                      <a:pt x="328" y="189"/>
                    </a:lnTo>
                    <a:lnTo>
                      <a:pt x="250" y="114"/>
                    </a:lnTo>
                    <a:lnTo>
                      <a:pt x="202" y="85"/>
                    </a:lnTo>
                    <a:lnTo>
                      <a:pt x="202" y="65"/>
                    </a:lnTo>
                    <a:lnTo>
                      <a:pt x="321" y="90"/>
                    </a:lnTo>
                    <a:lnTo>
                      <a:pt x="356" y="132"/>
                    </a:lnTo>
                    <a:lnTo>
                      <a:pt x="344" y="164"/>
                    </a:lnTo>
                    <a:lnTo>
                      <a:pt x="406" y="141"/>
                    </a:lnTo>
                    <a:lnTo>
                      <a:pt x="406" y="54"/>
                    </a:lnTo>
                    <a:lnTo>
                      <a:pt x="365" y="17"/>
                    </a:lnTo>
                    <a:lnTo>
                      <a:pt x="270" y="17"/>
                    </a:lnTo>
                    <a:lnTo>
                      <a:pt x="79" y="0"/>
                    </a:lnTo>
                    <a:lnTo>
                      <a:pt x="35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4305240" y="515340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44" h="62">
                    <a:moveTo>
                      <a:pt x="0" y="46"/>
                    </a:moveTo>
                    <a:lnTo>
                      <a:pt x="28" y="62"/>
                    </a:lnTo>
                    <a:lnTo>
                      <a:pt x="44" y="49"/>
                    </a:lnTo>
                    <a:lnTo>
                      <a:pt x="35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4260960" y="5146560"/>
                <a:ext cx="53640" cy="36360"/>
              </a:xfrm>
              <a:custGeom>
                <a:avLst/>
                <a:gdLst/>
                <a:ahLst/>
                <a:rect l="l" t="t" r="r" b="b"/>
                <a:pathLst>
                  <a:path w="647" h="347">
                    <a:moveTo>
                      <a:pt x="509" y="114"/>
                    </a:moveTo>
                    <a:lnTo>
                      <a:pt x="466" y="117"/>
                    </a:lnTo>
                    <a:lnTo>
                      <a:pt x="374" y="29"/>
                    </a:lnTo>
                    <a:lnTo>
                      <a:pt x="311" y="0"/>
                    </a:lnTo>
                    <a:lnTo>
                      <a:pt x="219" y="31"/>
                    </a:lnTo>
                    <a:lnTo>
                      <a:pt x="219" y="57"/>
                    </a:lnTo>
                    <a:lnTo>
                      <a:pt x="258" y="64"/>
                    </a:lnTo>
                    <a:lnTo>
                      <a:pt x="120" y="105"/>
                    </a:lnTo>
                    <a:lnTo>
                      <a:pt x="0" y="181"/>
                    </a:lnTo>
                    <a:lnTo>
                      <a:pt x="23" y="225"/>
                    </a:lnTo>
                    <a:lnTo>
                      <a:pt x="95" y="220"/>
                    </a:lnTo>
                    <a:lnTo>
                      <a:pt x="157" y="237"/>
                    </a:lnTo>
                    <a:lnTo>
                      <a:pt x="240" y="193"/>
                    </a:lnTo>
                    <a:lnTo>
                      <a:pt x="357" y="211"/>
                    </a:lnTo>
                    <a:lnTo>
                      <a:pt x="461" y="200"/>
                    </a:lnTo>
                    <a:lnTo>
                      <a:pt x="521" y="257"/>
                    </a:lnTo>
                    <a:lnTo>
                      <a:pt x="567" y="279"/>
                    </a:lnTo>
                    <a:lnTo>
                      <a:pt x="620" y="347"/>
                    </a:lnTo>
                    <a:lnTo>
                      <a:pt x="647" y="334"/>
                    </a:lnTo>
                    <a:lnTo>
                      <a:pt x="643" y="225"/>
                    </a:lnTo>
                    <a:lnTo>
                      <a:pt x="567" y="105"/>
                    </a:lnTo>
                    <a:lnTo>
                      <a:pt x="509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4290840" y="5129640"/>
                <a:ext cx="5760" cy="9360"/>
              </a:xfrm>
              <a:custGeom>
                <a:avLst/>
                <a:gdLst/>
                <a:ahLst/>
                <a:rect l="l" t="t" r="r" b="b"/>
                <a:pathLst>
                  <a:path w="72" h="86">
                    <a:moveTo>
                      <a:pt x="0" y="55"/>
                    </a:moveTo>
                    <a:lnTo>
                      <a:pt x="37" y="86"/>
                    </a:lnTo>
                    <a:lnTo>
                      <a:pt x="72" y="24"/>
                    </a:lnTo>
                    <a:lnTo>
                      <a:pt x="60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4278960" y="5175360"/>
                <a:ext cx="24840" cy="13320"/>
              </a:xfrm>
              <a:custGeom>
                <a:avLst/>
                <a:gdLst/>
                <a:ahLst/>
                <a:rect l="l" t="t" r="r" b="b"/>
                <a:pathLst>
                  <a:path w="302" h="129">
                    <a:moveTo>
                      <a:pt x="0" y="26"/>
                    </a:moveTo>
                    <a:lnTo>
                      <a:pt x="48" y="0"/>
                    </a:lnTo>
                    <a:lnTo>
                      <a:pt x="302" y="42"/>
                    </a:lnTo>
                    <a:lnTo>
                      <a:pt x="279" y="129"/>
                    </a:lnTo>
                    <a:lnTo>
                      <a:pt x="228" y="98"/>
                    </a:lnTo>
                    <a:lnTo>
                      <a:pt x="30" y="9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4238280" y="4987080"/>
                <a:ext cx="105120" cy="72720"/>
              </a:xfrm>
              <a:custGeom>
                <a:avLst/>
                <a:gdLst/>
                <a:ahLst/>
                <a:rect l="l" t="t" r="r" b="b"/>
                <a:pathLst>
                  <a:path w="1275" h="682">
                    <a:moveTo>
                      <a:pt x="934" y="170"/>
                    </a:moveTo>
                    <a:lnTo>
                      <a:pt x="1037" y="159"/>
                    </a:lnTo>
                    <a:lnTo>
                      <a:pt x="1037" y="136"/>
                    </a:lnTo>
                    <a:lnTo>
                      <a:pt x="970" y="92"/>
                    </a:lnTo>
                    <a:lnTo>
                      <a:pt x="834" y="42"/>
                    </a:lnTo>
                    <a:lnTo>
                      <a:pt x="730" y="25"/>
                    </a:lnTo>
                    <a:lnTo>
                      <a:pt x="431" y="7"/>
                    </a:lnTo>
                    <a:lnTo>
                      <a:pt x="652" y="0"/>
                    </a:lnTo>
                    <a:lnTo>
                      <a:pt x="868" y="18"/>
                    </a:lnTo>
                    <a:lnTo>
                      <a:pt x="1037" y="73"/>
                    </a:lnTo>
                    <a:lnTo>
                      <a:pt x="1157" y="154"/>
                    </a:lnTo>
                    <a:lnTo>
                      <a:pt x="1249" y="251"/>
                    </a:lnTo>
                    <a:lnTo>
                      <a:pt x="1275" y="325"/>
                    </a:lnTo>
                    <a:lnTo>
                      <a:pt x="1275" y="387"/>
                    </a:lnTo>
                    <a:lnTo>
                      <a:pt x="1217" y="449"/>
                    </a:lnTo>
                    <a:lnTo>
                      <a:pt x="1104" y="530"/>
                    </a:lnTo>
                    <a:lnTo>
                      <a:pt x="943" y="578"/>
                    </a:lnTo>
                    <a:lnTo>
                      <a:pt x="730" y="631"/>
                    </a:lnTo>
                    <a:lnTo>
                      <a:pt x="315" y="664"/>
                    </a:lnTo>
                    <a:lnTo>
                      <a:pt x="0" y="682"/>
                    </a:lnTo>
                    <a:lnTo>
                      <a:pt x="703" y="504"/>
                    </a:lnTo>
                    <a:lnTo>
                      <a:pt x="864" y="449"/>
                    </a:lnTo>
                    <a:lnTo>
                      <a:pt x="952" y="407"/>
                    </a:lnTo>
                    <a:lnTo>
                      <a:pt x="975" y="387"/>
                    </a:lnTo>
                    <a:lnTo>
                      <a:pt x="970" y="374"/>
                    </a:lnTo>
                    <a:lnTo>
                      <a:pt x="917" y="367"/>
                    </a:lnTo>
                    <a:lnTo>
                      <a:pt x="1074" y="325"/>
                    </a:lnTo>
                    <a:lnTo>
                      <a:pt x="1086" y="304"/>
                    </a:lnTo>
                    <a:lnTo>
                      <a:pt x="1157" y="306"/>
                    </a:lnTo>
                    <a:lnTo>
                      <a:pt x="1161" y="284"/>
                    </a:lnTo>
                    <a:lnTo>
                      <a:pt x="1136" y="271"/>
                    </a:lnTo>
                    <a:lnTo>
                      <a:pt x="1018" y="242"/>
                    </a:lnTo>
                    <a:lnTo>
                      <a:pt x="1123" y="242"/>
                    </a:lnTo>
                    <a:lnTo>
                      <a:pt x="1123" y="216"/>
                    </a:lnTo>
                    <a:lnTo>
                      <a:pt x="1044" y="189"/>
                    </a:lnTo>
                    <a:lnTo>
                      <a:pt x="934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4200480" y="4987080"/>
                <a:ext cx="115200" cy="144000"/>
              </a:xfrm>
              <a:custGeom>
                <a:avLst/>
                <a:gdLst/>
                <a:ahLst/>
                <a:rect l="l" t="t" r="r" b="b"/>
                <a:pathLst>
                  <a:path w="1400" h="1354">
                    <a:moveTo>
                      <a:pt x="585" y="668"/>
                    </a:moveTo>
                    <a:lnTo>
                      <a:pt x="486" y="811"/>
                    </a:lnTo>
                    <a:lnTo>
                      <a:pt x="468" y="885"/>
                    </a:lnTo>
                    <a:lnTo>
                      <a:pt x="413" y="947"/>
                    </a:lnTo>
                    <a:lnTo>
                      <a:pt x="352" y="1130"/>
                    </a:lnTo>
                    <a:lnTo>
                      <a:pt x="277" y="1118"/>
                    </a:lnTo>
                    <a:lnTo>
                      <a:pt x="233" y="1002"/>
                    </a:lnTo>
                    <a:lnTo>
                      <a:pt x="171" y="975"/>
                    </a:lnTo>
                    <a:lnTo>
                      <a:pt x="110" y="991"/>
                    </a:lnTo>
                    <a:lnTo>
                      <a:pt x="67" y="1064"/>
                    </a:lnTo>
                    <a:lnTo>
                      <a:pt x="97" y="1354"/>
                    </a:lnTo>
                    <a:lnTo>
                      <a:pt x="46" y="1263"/>
                    </a:lnTo>
                    <a:lnTo>
                      <a:pt x="0" y="730"/>
                    </a:lnTo>
                    <a:lnTo>
                      <a:pt x="40" y="627"/>
                    </a:lnTo>
                    <a:lnTo>
                      <a:pt x="110" y="438"/>
                    </a:lnTo>
                    <a:lnTo>
                      <a:pt x="270" y="242"/>
                    </a:lnTo>
                    <a:lnTo>
                      <a:pt x="486" y="71"/>
                    </a:lnTo>
                    <a:lnTo>
                      <a:pt x="754" y="11"/>
                    </a:lnTo>
                    <a:lnTo>
                      <a:pt x="976" y="0"/>
                    </a:lnTo>
                    <a:lnTo>
                      <a:pt x="1095" y="55"/>
                    </a:lnTo>
                    <a:lnTo>
                      <a:pt x="1160" y="124"/>
                    </a:lnTo>
                    <a:lnTo>
                      <a:pt x="1286" y="165"/>
                    </a:lnTo>
                    <a:lnTo>
                      <a:pt x="1240" y="165"/>
                    </a:lnTo>
                    <a:lnTo>
                      <a:pt x="1240" y="189"/>
                    </a:lnTo>
                    <a:lnTo>
                      <a:pt x="1342" y="223"/>
                    </a:lnTo>
                    <a:lnTo>
                      <a:pt x="1270" y="251"/>
                    </a:lnTo>
                    <a:lnTo>
                      <a:pt x="1277" y="271"/>
                    </a:lnTo>
                    <a:lnTo>
                      <a:pt x="1314" y="290"/>
                    </a:lnTo>
                    <a:lnTo>
                      <a:pt x="1229" y="318"/>
                    </a:lnTo>
                    <a:lnTo>
                      <a:pt x="1277" y="365"/>
                    </a:lnTo>
                    <a:lnTo>
                      <a:pt x="1125" y="403"/>
                    </a:lnTo>
                    <a:lnTo>
                      <a:pt x="1125" y="413"/>
                    </a:lnTo>
                    <a:lnTo>
                      <a:pt x="1266" y="424"/>
                    </a:lnTo>
                    <a:lnTo>
                      <a:pt x="1116" y="470"/>
                    </a:lnTo>
                    <a:lnTo>
                      <a:pt x="1400" y="438"/>
                    </a:lnTo>
                    <a:lnTo>
                      <a:pt x="1383" y="530"/>
                    </a:lnTo>
                    <a:lnTo>
                      <a:pt x="864" y="631"/>
                    </a:lnTo>
                    <a:lnTo>
                      <a:pt x="585" y="6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4308480" y="5034600"/>
                <a:ext cx="46800" cy="167040"/>
              </a:xfrm>
              <a:custGeom>
                <a:avLst/>
                <a:gdLst/>
                <a:ahLst/>
                <a:rect l="l" t="t" r="r" b="b"/>
                <a:pathLst>
                  <a:path w="567" h="1578">
                    <a:moveTo>
                      <a:pt x="320" y="150"/>
                    </a:moveTo>
                    <a:lnTo>
                      <a:pt x="358" y="245"/>
                    </a:lnTo>
                    <a:lnTo>
                      <a:pt x="358" y="635"/>
                    </a:lnTo>
                    <a:lnTo>
                      <a:pt x="304" y="761"/>
                    </a:lnTo>
                    <a:lnTo>
                      <a:pt x="304" y="904"/>
                    </a:lnTo>
                    <a:lnTo>
                      <a:pt x="239" y="1119"/>
                    </a:lnTo>
                    <a:lnTo>
                      <a:pt x="147" y="1255"/>
                    </a:lnTo>
                    <a:lnTo>
                      <a:pt x="0" y="1578"/>
                    </a:lnTo>
                    <a:lnTo>
                      <a:pt x="90" y="1471"/>
                    </a:lnTo>
                    <a:lnTo>
                      <a:pt x="198" y="1211"/>
                    </a:lnTo>
                    <a:lnTo>
                      <a:pt x="270" y="1105"/>
                    </a:lnTo>
                    <a:lnTo>
                      <a:pt x="341" y="941"/>
                    </a:lnTo>
                    <a:lnTo>
                      <a:pt x="341" y="794"/>
                    </a:lnTo>
                    <a:lnTo>
                      <a:pt x="484" y="704"/>
                    </a:lnTo>
                    <a:lnTo>
                      <a:pt x="567" y="455"/>
                    </a:lnTo>
                    <a:lnTo>
                      <a:pt x="567" y="261"/>
                    </a:lnTo>
                    <a:lnTo>
                      <a:pt x="558" y="121"/>
                    </a:lnTo>
                    <a:lnTo>
                      <a:pt x="532" y="42"/>
                    </a:lnTo>
                    <a:lnTo>
                      <a:pt x="468" y="0"/>
                    </a:lnTo>
                    <a:lnTo>
                      <a:pt x="521" y="60"/>
                    </a:lnTo>
                    <a:lnTo>
                      <a:pt x="532" y="110"/>
                    </a:lnTo>
                    <a:lnTo>
                      <a:pt x="521" y="139"/>
                    </a:lnTo>
                    <a:lnTo>
                      <a:pt x="444" y="90"/>
                    </a:lnTo>
                    <a:lnTo>
                      <a:pt x="437" y="97"/>
                    </a:lnTo>
                    <a:lnTo>
                      <a:pt x="488" y="178"/>
                    </a:lnTo>
                    <a:lnTo>
                      <a:pt x="505" y="305"/>
                    </a:lnTo>
                    <a:lnTo>
                      <a:pt x="505" y="429"/>
                    </a:lnTo>
                    <a:lnTo>
                      <a:pt x="468" y="275"/>
                    </a:lnTo>
                    <a:lnTo>
                      <a:pt x="345" y="110"/>
                    </a:lnTo>
                    <a:lnTo>
                      <a:pt x="320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4217760" y="5131440"/>
                <a:ext cx="87480" cy="110880"/>
              </a:xfrm>
              <a:custGeom>
                <a:avLst/>
                <a:gdLst/>
                <a:ahLst/>
                <a:rect l="l" t="t" r="r" b="b"/>
                <a:pathLst>
                  <a:path w="1057" h="1050">
                    <a:moveTo>
                      <a:pt x="90" y="0"/>
                    </a:moveTo>
                    <a:lnTo>
                      <a:pt x="68" y="195"/>
                    </a:lnTo>
                    <a:lnTo>
                      <a:pt x="72" y="281"/>
                    </a:lnTo>
                    <a:lnTo>
                      <a:pt x="105" y="356"/>
                    </a:lnTo>
                    <a:lnTo>
                      <a:pt x="158" y="424"/>
                    </a:lnTo>
                    <a:lnTo>
                      <a:pt x="259" y="506"/>
                    </a:lnTo>
                    <a:lnTo>
                      <a:pt x="558" y="651"/>
                    </a:lnTo>
                    <a:lnTo>
                      <a:pt x="842" y="758"/>
                    </a:lnTo>
                    <a:lnTo>
                      <a:pt x="925" y="762"/>
                    </a:lnTo>
                    <a:lnTo>
                      <a:pt x="995" y="758"/>
                    </a:lnTo>
                    <a:lnTo>
                      <a:pt x="1057" y="730"/>
                    </a:lnTo>
                    <a:lnTo>
                      <a:pt x="1006" y="767"/>
                    </a:lnTo>
                    <a:lnTo>
                      <a:pt x="944" y="783"/>
                    </a:lnTo>
                    <a:lnTo>
                      <a:pt x="863" y="785"/>
                    </a:lnTo>
                    <a:lnTo>
                      <a:pt x="753" y="767"/>
                    </a:lnTo>
                    <a:lnTo>
                      <a:pt x="753" y="817"/>
                    </a:lnTo>
                    <a:lnTo>
                      <a:pt x="738" y="882"/>
                    </a:lnTo>
                    <a:lnTo>
                      <a:pt x="661" y="1009"/>
                    </a:lnTo>
                    <a:lnTo>
                      <a:pt x="704" y="901"/>
                    </a:lnTo>
                    <a:lnTo>
                      <a:pt x="709" y="824"/>
                    </a:lnTo>
                    <a:lnTo>
                      <a:pt x="624" y="861"/>
                    </a:lnTo>
                    <a:lnTo>
                      <a:pt x="624" y="978"/>
                    </a:lnTo>
                    <a:lnTo>
                      <a:pt x="598" y="1013"/>
                    </a:lnTo>
                    <a:lnTo>
                      <a:pt x="624" y="1050"/>
                    </a:lnTo>
                    <a:lnTo>
                      <a:pt x="591" y="1050"/>
                    </a:lnTo>
                    <a:lnTo>
                      <a:pt x="506" y="1009"/>
                    </a:lnTo>
                    <a:lnTo>
                      <a:pt x="328" y="843"/>
                    </a:lnTo>
                    <a:lnTo>
                      <a:pt x="215" y="721"/>
                    </a:lnTo>
                    <a:lnTo>
                      <a:pt x="98" y="567"/>
                    </a:lnTo>
                    <a:lnTo>
                      <a:pt x="0" y="370"/>
                    </a:lnTo>
                    <a:lnTo>
                      <a:pt x="107" y="541"/>
                    </a:lnTo>
                    <a:lnTo>
                      <a:pt x="204" y="633"/>
                    </a:lnTo>
                    <a:lnTo>
                      <a:pt x="81" y="411"/>
                    </a:lnTo>
                    <a:lnTo>
                      <a:pt x="52" y="288"/>
                    </a:lnTo>
                    <a:lnTo>
                      <a:pt x="52" y="213"/>
                    </a:lnTo>
                    <a:lnTo>
                      <a:pt x="68" y="91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4209840" y="5099400"/>
                <a:ext cx="14400" cy="32760"/>
              </a:xfrm>
              <a:custGeom>
                <a:avLst/>
                <a:gdLst/>
                <a:ahLst/>
                <a:rect l="l" t="t" r="r" b="b"/>
                <a:pathLst>
                  <a:path w="180" h="312">
                    <a:moveTo>
                      <a:pt x="37" y="0"/>
                    </a:moveTo>
                    <a:lnTo>
                      <a:pt x="88" y="7"/>
                    </a:lnTo>
                    <a:lnTo>
                      <a:pt x="175" y="62"/>
                    </a:lnTo>
                    <a:lnTo>
                      <a:pt x="180" y="164"/>
                    </a:lnTo>
                    <a:lnTo>
                      <a:pt x="146" y="147"/>
                    </a:lnTo>
                    <a:lnTo>
                      <a:pt x="136" y="134"/>
                    </a:lnTo>
                    <a:lnTo>
                      <a:pt x="94" y="171"/>
                    </a:lnTo>
                    <a:lnTo>
                      <a:pt x="94" y="185"/>
                    </a:lnTo>
                    <a:lnTo>
                      <a:pt x="125" y="204"/>
                    </a:lnTo>
                    <a:lnTo>
                      <a:pt x="155" y="301"/>
                    </a:lnTo>
                    <a:lnTo>
                      <a:pt x="132" y="312"/>
                    </a:lnTo>
                    <a:lnTo>
                      <a:pt x="100" y="257"/>
                    </a:lnTo>
                    <a:lnTo>
                      <a:pt x="19" y="233"/>
                    </a:lnTo>
                    <a:lnTo>
                      <a:pt x="0" y="111"/>
                    </a:lnTo>
                    <a:lnTo>
                      <a:pt x="19" y="95"/>
                    </a:lnTo>
                    <a:lnTo>
                      <a:pt x="105" y="53"/>
                    </a:lnTo>
                    <a:lnTo>
                      <a:pt x="81" y="26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4211280" y="513072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69" h="17">
                    <a:moveTo>
                      <a:pt x="0" y="0"/>
                    </a:moveTo>
                    <a:lnTo>
                      <a:pt x="69" y="17"/>
                    </a:lnTo>
                    <a:lnTo>
                      <a:pt x="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4209840" y="5139000"/>
                <a:ext cx="11880" cy="20160"/>
              </a:xfrm>
              <a:custGeom>
                <a:avLst/>
                <a:gdLst/>
                <a:ahLst/>
                <a:rect l="l" t="t" r="r" b="b"/>
                <a:pathLst>
                  <a:path w="143" h="195">
                    <a:moveTo>
                      <a:pt x="0" y="0"/>
                    </a:moveTo>
                    <a:lnTo>
                      <a:pt x="26" y="23"/>
                    </a:lnTo>
                    <a:lnTo>
                      <a:pt x="67" y="37"/>
                    </a:lnTo>
                    <a:lnTo>
                      <a:pt x="143" y="18"/>
                    </a:lnTo>
                    <a:lnTo>
                      <a:pt x="114" y="85"/>
                    </a:lnTo>
                    <a:lnTo>
                      <a:pt x="61" y="103"/>
                    </a:lnTo>
                    <a:lnTo>
                      <a:pt x="33" y="195"/>
                    </a:lnTo>
                    <a:lnTo>
                      <a:pt x="6" y="140"/>
                    </a:lnTo>
                    <a:lnTo>
                      <a:pt x="6" y="112"/>
                    </a:lnTo>
                    <a:lnTo>
                      <a:pt x="33" y="85"/>
                    </a:lnTo>
                    <a:lnTo>
                      <a:pt x="15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4230000" y="5101560"/>
                <a:ext cx="576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4231080" y="5096520"/>
                <a:ext cx="8640" cy="35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4236480" y="5106600"/>
                <a:ext cx="7920" cy="27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4241880" y="5117040"/>
                <a:ext cx="5760" cy="18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4272120" y="5057640"/>
                <a:ext cx="60840" cy="17640"/>
              </a:xfrm>
              <a:custGeom>
                <a:avLst/>
                <a:gdLst/>
                <a:ahLst/>
                <a:rect l="l" t="t" r="r" b="b"/>
                <a:pathLst>
                  <a:path w="743" h="165">
                    <a:moveTo>
                      <a:pt x="0" y="0"/>
                    </a:moveTo>
                    <a:lnTo>
                      <a:pt x="116" y="18"/>
                    </a:lnTo>
                    <a:lnTo>
                      <a:pt x="351" y="101"/>
                    </a:lnTo>
                    <a:lnTo>
                      <a:pt x="519" y="138"/>
                    </a:lnTo>
                    <a:lnTo>
                      <a:pt x="743" y="16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4284720" y="5055120"/>
                <a:ext cx="40320" cy="14400"/>
              </a:xfrm>
              <a:custGeom>
                <a:avLst/>
                <a:gdLst/>
                <a:ahLst/>
                <a:rect l="l" t="t" r="r" b="b"/>
                <a:pathLst>
                  <a:path w="491" h="134">
                    <a:moveTo>
                      <a:pt x="0" y="0"/>
                    </a:moveTo>
                    <a:lnTo>
                      <a:pt x="82" y="28"/>
                    </a:lnTo>
                    <a:lnTo>
                      <a:pt x="260" y="88"/>
                    </a:lnTo>
                    <a:lnTo>
                      <a:pt x="491" y="1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4176720" y="5159520"/>
                <a:ext cx="29520" cy="61560"/>
              </a:xfrm>
              <a:custGeom>
                <a:avLst/>
                <a:gdLst/>
                <a:ahLst/>
                <a:rect l="l" t="t" r="r" b="b"/>
                <a:pathLst>
                  <a:path w="365" h="579">
                    <a:moveTo>
                      <a:pt x="365" y="0"/>
                    </a:moveTo>
                    <a:lnTo>
                      <a:pt x="277" y="129"/>
                    </a:lnTo>
                    <a:lnTo>
                      <a:pt x="277" y="265"/>
                    </a:lnTo>
                    <a:lnTo>
                      <a:pt x="350" y="579"/>
                    </a:lnTo>
                    <a:lnTo>
                      <a:pt x="224" y="290"/>
                    </a:lnTo>
                    <a:lnTo>
                      <a:pt x="224" y="199"/>
                    </a:lnTo>
                    <a:lnTo>
                      <a:pt x="0" y="199"/>
                    </a:lnTo>
                    <a:lnTo>
                      <a:pt x="187" y="76"/>
                    </a:lnTo>
                    <a:lnTo>
                      <a:pt x="277" y="76"/>
                    </a:lnTo>
                    <a:lnTo>
                      <a:pt x="3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4057560" y="5199120"/>
                <a:ext cx="348480" cy="420120"/>
              </a:xfrm>
              <a:custGeom>
                <a:avLst/>
                <a:gdLst/>
                <a:ahLst/>
                <a:rect l="l" t="t" r="r" b="b"/>
                <a:pathLst>
                  <a:path w="4215" h="3969">
                    <a:moveTo>
                      <a:pt x="1158" y="0"/>
                    </a:moveTo>
                    <a:lnTo>
                      <a:pt x="897" y="255"/>
                    </a:lnTo>
                    <a:lnTo>
                      <a:pt x="743" y="466"/>
                    </a:lnTo>
                    <a:lnTo>
                      <a:pt x="743" y="706"/>
                    </a:lnTo>
                    <a:lnTo>
                      <a:pt x="920" y="591"/>
                    </a:lnTo>
                    <a:lnTo>
                      <a:pt x="920" y="756"/>
                    </a:lnTo>
                    <a:lnTo>
                      <a:pt x="1314" y="1684"/>
                    </a:lnTo>
                    <a:lnTo>
                      <a:pt x="1224" y="1582"/>
                    </a:lnTo>
                    <a:lnTo>
                      <a:pt x="1134" y="1582"/>
                    </a:lnTo>
                    <a:lnTo>
                      <a:pt x="1072" y="1610"/>
                    </a:lnTo>
                    <a:lnTo>
                      <a:pt x="1031" y="1644"/>
                    </a:lnTo>
                    <a:lnTo>
                      <a:pt x="1174" y="1960"/>
                    </a:lnTo>
                    <a:lnTo>
                      <a:pt x="1448" y="2451"/>
                    </a:lnTo>
                    <a:lnTo>
                      <a:pt x="1868" y="2890"/>
                    </a:lnTo>
                    <a:lnTo>
                      <a:pt x="2031" y="3026"/>
                    </a:lnTo>
                    <a:lnTo>
                      <a:pt x="2031" y="3116"/>
                    </a:lnTo>
                    <a:lnTo>
                      <a:pt x="1930" y="3239"/>
                    </a:lnTo>
                    <a:lnTo>
                      <a:pt x="1930" y="3380"/>
                    </a:lnTo>
                    <a:lnTo>
                      <a:pt x="2129" y="3343"/>
                    </a:lnTo>
                    <a:lnTo>
                      <a:pt x="2158" y="3295"/>
                    </a:lnTo>
                    <a:lnTo>
                      <a:pt x="2145" y="3228"/>
                    </a:lnTo>
                    <a:lnTo>
                      <a:pt x="2094" y="3191"/>
                    </a:lnTo>
                    <a:lnTo>
                      <a:pt x="2296" y="3239"/>
                    </a:lnTo>
                    <a:lnTo>
                      <a:pt x="2435" y="3228"/>
                    </a:lnTo>
                    <a:lnTo>
                      <a:pt x="2575" y="3178"/>
                    </a:lnTo>
                    <a:lnTo>
                      <a:pt x="2712" y="3065"/>
                    </a:lnTo>
                    <a:lnTo>
                      <a:pt x="2815" y="2967"/>
                    </a:lnTo>
                    <a:lnTo>
                      <a:pt x="2749" y="3076"/>
                    </a:lnTo>
                    <a:lnTo>
                      <a:pt x="2700" y="3166"/>
                    </a:lnTo>
                    <a:lnTo>
                      <a:pt x="2903" y="3191"/>
                    </a:lnTo>
                    <a:lnTo>
                      <a:pt x="3154" y="3203"/>
                    </a:lnTo>
                    <a:lnTo>
                      <a:pt x="3357" y="3154"/>
                    </a:lnTo>
                    <a:lnTo>
                      <a:pt x="3433" y="2855"/>
                    </a:lnTo>
                    <a:lnTo>
                      <a:pt x="3468" y="2855"/>
                    </a:lnTo>
                    <a:lnTo>
                      <a:pt x="3494" y="2890"/>
                    </a:lnTo>
                    <a:lnTo>
                      <a:pt x="3521" y="2991"/>
                    </a:lnTo>
                    <a:lnTo>
                      <a:pt x="3535" y="3076"/>
                    </a:lnTo>
                    <a:lnTo>
                      <a:pt x="4203" y="3039"/>
                    </a:lnTo>
                    <a:lnTo>
                      <a:pt x="4215" y="3116"/>
                    </a:lnTo>
                    <a:lnTo>
                      <a:pt x="4215" y="3178"/>
                    </a:lnTo>
                    <a:lnTo>
                      <a:pt x="4189" y="3254"/>
                    </a:lnTo>
                    <a:lnTo>
                      <a:pt x="4037" y="3265"/>
                    </a:lnTo>
                    <a:lnTo>
                      <a:pt x="3913" y="3343"/>
                    </a:lnTo>
                    <a:lnTo>
                      <a:pt x="3683" y="3390"/>
                    </a:lnTo>
                    <a:lnTo>
                      <a:pt x="3481" y="3380"/>
                    </a:lnTo>
                    <a:lnTo>
                      <a:pt x="3281" y="3441"/>
                    </a:lnTo>
                    <a:lnTo>
                      <a:pt x="3105" y="3481"/>
                    </a:lnTo>
                    <a:lnTo>
                      <a:pt x="2852" y="3492"/>
                    </a:lnTo>
                    <a:lnTo>
                      <a:pt x="2547" y="3457"/>
                    </a:lnTo>
                    <a:lnTo>
                      <a:pt x="2320" y="3481"/>
                    </a:lnTo>
                    <a:lnTo>
                      <a:pt x="2129" y="3542"/>
                    </a:lnTo>
                    <a:lnTo>
                      <a:pt x="1990" y="3620"/>
                    </a:lnTo>
                    <a:lnTo>
                      <a:pt x="1615" y="3516"/>
                    </a:lnTo>
                    <a:lnTo>
                      <a:pt x="681" y="3969"/>
                    </a:lnTo>
                    <a:lnTo>
                      <a:pt x="0" y="3969"/>
                    </a:lnTo>
                    <a:lnTo>
                      <a:pt x="176" y="1723"/>
                    </a:lnTo>
                    <a:lnTo>
                      <a:pt x="328" y="1244"/>
                    </a:lnTo>
                    <a:lnTo>
                      <a:pt x="266" y="1558"/>
                    </a:lnTo>
                    <a:lnTo>
                      <a:pt x="418" y="2059"/>
                    </a:lnTo>
                    <a:lnTo>
                      <a:pt x="418" y="2500"/>
                    </a:lnTo>
                    <a:lnTo>
                      <a:pt x="591" y="2977"/>
                    </a:lnTo>
                    <a:lnTo>
                      <a:pt x="681" y="2977"/>
                    </a:lnTo>
                    <a:lnTo>
                      <a:pt x="907" y="2488"/>
                    </a:lnTo>
                    <a:lnTo>
                      <a:pt x="602" y="1886"/>
                    </a:lnTo>
                    <a:lnTo>
                      <a:pt x="556" y="1697"/>
                    </a:lnTo>
                    <a:lnTo>
                      <a:pt x="528" y="1497"/>
                    </a:lnTo>
                    <a:lnTo>
                      <a:pt x="556" y="1281"/>
                    </a:lnTo>
                    <a:lnTo>
                      <a:pt x="681" y="780"/>
                    </a:lnTo>
                    <a:lnTo>
                      <a:pt x="618" y="729"/>
                    </a:lnTo>
                    <a:lnTo>
                      <a:pt x="577" y="665"/>
                    </a:lnTo>
                    <a:lnTo>
                      <a:pt x="567" y="618"/>
                    </a:lnTo>
                    <a:lnTo>
                      <a:pt x="441" y="905"/>
                    </a:lnTo>
                    <a:lnTo>
                      <a:pt x="540" y="591"/>
                    </a:lnTo>
                    <a:lnTo>
                      <a:pt x="591" y="517"/>
                    </a:lnTo>
                    <a:lnTo>
                      <a:pt x="769" y="317"/>
                    </a:lnTo>
                    <a:lnTo>
                      <a:pt x="943" y="139"/>
                    </a:lnTo>
                    <a:lnTo>
                      <a:pt x="11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4170240" y="5251680"/>
                <a:ext cx="107640" cy="224640"/>
              </a:xfrm>
              <a:custGeom>
                <a:avLst/>
                <a:gdLst/>
                <a:ahLst/>
                <a:rect l="l" t="t" r="r" b="b"/>
                <a:pathLst>
                  <a:path w="1300" h="2125">
                    <a:moveTo>
                      <a:pt x="0" y="140"/>
                    </a:moveTo>
                    <a:lnTo>
                      <a:pt x="378" y="378"/>
                    </a:lnTo>
                    <a:lnTo>
                      <a:pt x="641" y="829"/>
                    </a:lnTo>
                    <a:lnTo>
                      <a:pt x="641" y="1020"/>
                    </a:lnTo>
                    <a:lnTo>
                      <a:pt x="984" y="1318"/>
                    </a:lnTo>
                    <a:lnTo>
                      <a:pt x="1111" y="1556"/>
                    </a:lnTo>
                    <a:lnTo>
                      <a:pt x="1083" y="967"/>
                    </a:lnTo>
                    <a:lnTo>
                      <a:pt x="1083" y="589"/>
                    </a:lnTo>
                    <a:lnTo>
                      <a:pt x="1111" y="327"/>
                    </a:lnTo>
                    <a:lnTo>
                      <a:pt x="1072" y="266"/>
                    </a:lnTo>
                    <a:lnTo>
                      <a:pt x="984" y="378"/>
                    </a:lnTo>
                    <a:lnTo>
                      <a:pt x="906" y="424"/>
                    </a:lnTo>
                    <a:lnTo>
                      <a:pt x="998" y="327"/>
                    </a:lnTo>
                    <a:lnTo>
                      <a:pt x="1072" y="165"/>
                    </a:lnTo>
                    <a:lnTo>
                      <a:pt x="1160" y="27"/>
                    </a:lnTo>
                    <a:lnTo>
                      <a:pt x="1212" y="0"/>
                    </a:lnTo>
                    <a:lnTo>
                      <a:pt x="1160" y="80"/>
                    </a:lnTo>
                    <a:lnTo>
                      <a:pt x="1224" y="304"/>
                    </a:lnTo>
                    <a:lnTo>
                      <a:pt x="1160" y="304"/>
                    </a:lnTo>
                    <a:lnTo>
                      <a:pt x="1146" y="516"/>
                    </a:lnTo>
                    <a:lnTo>
                      <a:pt x="1184" y="1120"/>
                    </a:lnTo>
                    <a:lnTo>
                      <a:pt x="1247" y="1723"/>
                    </a:lnTo>
                    <a:lnTo>
                      <a:pt x="1300" y="1910"/>
                    </a:lnTo>
                    <a:lnTo>
                      <a:pt x="1035" y="2059"/>
                    </a:lnTo>
                    <a:lnTo>
                      <a:pt x="1146" y="1961"/>
                    </a:lnTo>
                    <a:lnTo>
                      <a:pt x="1095" y="1881"/>
                    </a:lnTo>
                    <a:lnTo>
                      <a:pt x="971" y="1910"/>
                    </a:lnTo>
                    <a:lnTo>
                      <a:pt x="694" y="2099"/>
                    </a:lnTo>
                    <a:lnTo>
                      <a:pt x="606" y="2125"/>
                    </a:lnTo>
                    <a:lnTo>
                      <a:pt x="593" y="2086"/>
                    </a:lnTo>
                    <a:lnTo>
                      <a:pt x="756" y="1934"/>
                    </a:lnTo>
                    <a:lnTo>
                      <a:pt x="1095" y="1821"/>
                    </a:lnTo>
                    <a:lnTo>
                      <a:pt x="1045" y="1685"/>
                    </a:lnTo>
                    <a:lnTo>
                      <a:pt x="1045" y="1547"/>
                    </a:lnTo>
                    <a:lnTo>
                      <a:pt x="998" y="1470"/>
                    </a:lnTo>
                    <a:lnTo>
                      <a:pt x="606" y="1169"/>
                    </a:lnTo>
                    <a:lnTo>
                      <a:pt x="138" y="841"/>
                    </a:lnTo>
                    <a:lnTo>
                      <a:pt x="657" y="1154"/>
                    </a:lnTo>
                    <a:lnTo>
                      <a:pt x="390" y="463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4235760" y="5474520"/>
                <a:ext cx="17280" cy="49680"/>
              </a:xfrm>
              <a:custGeom>
                <a:avLst/>
                <a:gdLst/>
                <a:ahLst/>
                <a:rect l="l" t="t" r="r" b="b"/>
                <a:pathLst>
                  <a:path w="203" h="466">
                    <a:moveTo>
                      <a:pt x="203" y="0"/>
                    </a:moveTo>
                    <a:lnTo>
                      <a:pt x="111" y="51"/>
                    </a:lnTo>
                    <a:lnTo>
                      <a:pt x="0" y="403"/>
                    </a:lnTo>
                    <a:lnTo>
                      <a:pt x="99" y="466"/>
                    </a:lnTo>
                    <a:lnTo>
                      <a:pt x="203" y="378"/>
                    </a:lnTo>
                    <a:lnTo>
                      <a:pt x="203" y="136"/>
                    </a:lnTo>
                    <a:lnTo>
                      <a:pt x="152" y="136"/>
                    </a:lnTo>
                    <a:lnTo>
                      <a:pt x="152" y="76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4253760" y="5461920"/>
                <a:ext cx="41760" cy="63360"/>
              </a:xfrm>
              <a:custGeom>
                <a:avLst/>
                <a:gdLst/>
                <a:ahLst/>
                <a:rect l="l" t="t" r="r" b="b"/>
                <a:pathLst>
                  <a:path w="506" h="599">
                    <a:moveTo>
                      <a:pt x="138" y="162"/>
                    </a:moveTo>
                    <a:lnTo>
                      <a:pt x="317" y="0"/>
                    </a:lnTo>
                    <a:lnTo>
                      <a:pt x="506" y="72"/>
                    </a:lnTo>
                    <a:lnTo>
                      <a:pt x="506" y="173"/>
                    </a:lnTo>
                    <a:lnTo>
                      <a:pt x="391" y="325"/>
                    </a:lnTo>
                    <a:lnTo>
                      <a:pt x="0" y="599"/>
                    </a:lnTo>
                    <a:lnTo>
                      <a:pt x="279" y="364"/>
                    </a:lnTo>
                    <a:lnTo>
                      <a:pt x="317" y="274"/>
                    </a:lnTo>
                    <a:lnTo>
                      <a:pt x="329" y="198"/>
                    </a:lnTo>
                    <a:lnTo>
                      <a:pt x="317" y="138"/>
                    </a:lnTo>
                    <a:lnTo>
                      <a:pt x="279" y="112"/>
                    </a:lnTo>
                    <a:lnTo>
                      <a:pt x="230" y="112"/>
                    </a:lnTo>
                    <a:lnTo>
                      <a:pt x="138" y="1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4302720" y="5439240"/>
                <a:ext cx="257760" cy="105120"/>
              </a:xfrm>
              <a:custGeom>
                <a:avLst/>
                <a:gdLst/>
                <a:ahLst/>
                <a:rect l="l" t="t" r="r" b="b"/>
                <a:pathLst>
                  <a:path w="3106" h="992">
                    <a:moveTo>
                      <a:pt x="0" y="215"/>
                    </a:moveTo>
                    <a:lnTo>
                      <a:pt x="430" y="377"/>
                    </a:lnTo>
                    <a:lnTo>
                      <a:pt x="540" y="268"/>
                    </a:lnTo>
                    <a:lnTo>
                      <a:pt x="770" y="268"/>
                    </a:lnTo>
                    <a:lnTo>
                      <a:pt x="896" y="364"/>
                    </a:lnTo>
                    <a:lnTo>
                      <a:pt x="1010" y="327"/>
                    </a:lnTo>
                    <a:lnTo>
                      <a:pt x="1603" y="314"/>
                    </a:lnTo>
                    <a:lnTo>
                      <a:pt x="2017" y="226"/>
                    </a:lnTo>
                    <a:lnTo>
                      <a:pt x="2589" y="0"/>
                    </a:lnTo>
                    <a:lnTo>
                      <a:pt x="2663" y="49"/>
                    </a:lnTo>
                    <a:lnTo>
                      <a:pt x="2676" y="100"/>
                    </a:lnTo>
                    <a:lnTo>
                      <a:pt x="2614" y="162"/>
                    </a:lnTo>
                    <a:lnTo>
                      <a:pt x="2689" y="238"/>
                    </a:lnTo>
                    <a:lnTo>
                      <a:pt x="2713" y="302"/>
                    </a:lnTo>
                    <a:lnTo>
                      <a:pt x="2689" y="377"/>
                    </a:lnTo>
                    <a:lnTo>
                      <a:pt x="3091" y="413"/>
                    </a:lnTo>
                    <a:lnTo>
                      <a:pt x="3106" y="439"/>
                    </a:lnTo>
                    <a:lnTo>
                      <a:pt x="2689" y="461"/>
                    </a:lnTo>
                    <a:lnTo>
                      <a:pt x="2689" y="500"/>
                    </a:lnTo>
                    <a:lnTo>
                      <a:pt x="2713" y="540"/>
                    </a:lnTo>
                    <a:lnTo>
                      <a:pt x="3078" y="553"/>
                    </a:lnTo>
                    <a:lnTo>
                      <a:pt x="3043" y="602"/>
                    </a:lnTo>
                    <a:lnTo>
                      <a:pt x="2737" y="665"/>
                    </a:lnTo>
                    <a:lnTo>
                      <a:pt x="2737" y="715"/>
                    </a:lnTo>
                    <a:lnTo>
                      <a:pt x="2953" y="715"/>
                    </a:lnTo>
                    <a:lnTo>
                      <a:pt x="2977" y="680"/>
                    </a:lnTo>
                    <a:lnTo>
                      <a:pt x="2965" y="740"/>
                    </a:lnTo>
                    <a:lnTo>
                      <a:pt x="2589" y="791"/>
                    </a:lnTo>
                    <a:lnTo>
                      <a:pt x="2160" y="814"/>
                    </a:lnTo>
                    <a:lnTo>
                      <a:pt x="1992" y="814"/>
                    </a:lnTo>
                    <a:lnTo>
                      <a:pt x="1753" y="854"/>
                    </a:lnTo>
                    <a:lnTo>
                      <a:pt x="1676" y="992"/>
                    </a:lnTo>
                    <a:lnTo>
                      <a:pt x="1314" y="992"/>
                    </a:lnTo>
                    <a:lnTo>
                      <a:pt x="1641" y="953"/>
                    </a:lnTo>
                    <a:lnTo>
                      <a:pt x="1692" y="867"/>
                    </a:lnTo>
                    <a:lnTo>
                      <a:pt x="1715" y="752"/>
                    </a:lnTo>
                    <a:lnTo>
                      <a:pt x="1715" y="641"/>
                    </a:lnTo>
                    <a:lnTo>
                      <a:pt x="1676" y="489"/>
                    </a:lnTo>
                    <a:lnTo>
                      <a:pt x="1630" y="364"/>
                    </a:lnTo>
                    <a:lnTo>
                      <a:pt x="1010" y="377"/>
                    </a:lnTo>
                    <a:lnTo>
                      <a:pt x="881" y="401"/>
                    </a:lnTo>
                    <a:lnTo>
                      <a:pt x="669" y="314"/>
                    </a:lnTo>
                    <a:lnTo>
                      <a:pt x="468" y="473"/>
                    </a:lnTo>
                    <a:lnTo>
                      <a:pt x="415" y="401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4374360" y="5492520"/>
                <a:ext cx="29520" cy="15120"/>
              </a:xfrm>
              <a:custGeom>
                <a:avLst/>
                <a:gdLst/>
                <a:ahLst/>
                <a:rect l="l" t="t" r="r" b="b"/>
                <a:pathLst>
                  <a:path w="366" h="150">
                    <a:moveTo>
                      <a:pt x="366" y="114"/>
                    </a:moveTo>
                    <a:lnTo>
                      <a:pt x="200" y="0"/>
                    </a:lnTo>
                    <a:lnTo>
                      <a:pt x="0" y="40"/>
                    </a:lnTo>
                    <a:lnTo>
                      <a:pt x="38" y="93"/>
                    </a:lnTo>
                    <a:lnTo>
                      <a:pt x="302" y="150"/>
                    </a:lnTo>
                    <a:lnTo>
                      <a:pt x="366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4272840" y="5228640"/>
                <a:ext cx="25560" cy="231120"/>
              </a:xfrm>
              <a:custGeom>
                <a:avLst/>
                <a:gdLst/>
                <a:ahLst/>
                <a:rect l="l" t="t" r="r" b="b"/>
                <a:pathLst>
                  <a:path w="315" h="2186">
                    <a:moveTo>
                      <a:pt x="175" y="2133"/>
                    </a:moveTo>
                    <a:lnTo>
                      <a:pt x="214" y="2085"/>
                    </a:lnTo>
                    <a:lnTo>
                      <a:pt x="214" y="1958"/>
                    </a:lnTo>
                    <a:lnTo>
                      <a:pt x="124" y="1633"/>
                    </a:lnTo>
                    <a:lnTo>
                      <a:pt x="62" y="1180"/>
                    </a:lnTo>
                    <a:lnTo>
                      <a:pt x="49" y="796"/>
                    </a:lnTo>
                    <a:lnTo>
                      <a:pt x="21" y="540"/>
                    </a:lnTo>
                    <a:lnTo>
                      <a:pt x="49" y="466"/>
                    </a:lnTo>
                    <a:lnTo>
                      <a:pt x="49" y="325"/>
                    </a:lnTo>
                    <a:lnTo>
                      <a:pt x="0" y="213"/>
                    </a:lnTo>
                    <a:lnTo>
                      <a:pt x="73" y="277"/>
                    </a:lnTo>
                    <a:lnTo>
                      <a:pt x="99" y="213"/>
                    </a:lnTo>
                    <a:lnTo>
                      <a:pt x="111" y="127"/>
                    </a:lnTo>
                    <a:lnTo>
                      <a:pt x="111" y="0"/>
                    </a:lnTo>
                    <a:lnTo>
                      <a:pt x="124" y="104"/>
                    </a:lnTo>
                    <a:lnTo>
                      <a:pt x="136" y="213"/>
                    </a:lnTo>
                    <a:lnTo>
                      <a:pt x="111" y="341"/>
                    </a:lnTo>
                    <a:lnTo>
                      <a:pt x="73" y="466"/>
                    </a:lnTo>
                    <a:lnTo>
                      <a:pt x="49" y="551"/>
                    </a:lnTo>
                    <a:lnTo>
                      <a:pt x="111" y="1292"/>
                    </a:lnTo>
                    <a:lnTo>
                      <a:pt x="185" y="1732"/>
                    </a:lnTo>
                    <a:lnTo>
                      <a:pt x="262" y="1958"/>
                    </a:lnTo>
                    <a:lnTo>
                      <a:pt x="315" y="2186"/>
                    </a:lnTo>
                    <a:lnTo>
                      <a:pt x="175" y="2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4299480" y="5211720"/>
                <a:ext cx="143640" cy="259920"/>
              </a:xfrm>
              <a:custGeom>
                <a:avLst/>
                <a:gdLst/>
                <a:ahLst/>
                <a:rect l="l" t="t" r="r" b="b"/>
                <a:pathLst>
                  <a:path w="1731" h="2462">
                    <a:moveTo>
                      <a:pt x="152" y="0"/>
                    </a:moveTo>
                    <a:lnTo>
                      <a:pt x="379" y="203"/>
                    </a:lnTo>
                    <a:lnTo>
                      <a:pt x="440" y="376"/>
                    </a:lnTo>
                    <a:lnTo>
                      <a:pt x="480" y="541"/>
                    </a:lnTo>
                    <a:lnTo>
                      <a:pt x="480" y="800"/>
                    </a:lnTo>
                    <a:lnTo>
                      <a:pt x="368" y="1646"/>
                    </a:lnTo>
                    <a:lnTo>
                      <a:pt x="267" y="1747"/>
                    </a:lnTo>
                    <a:lnTo>
                      <a:pt x="0" y="1784"/>
                    </a:lnTo>
                    <a:lnTo>
                      <a:pt x="368" y="1772"/>
                    </a:lnTo>
                    <a:lnTo>
                      <a:pt x="254" y="2450"/>
                    </a:lnTo>
                    <a:lnTo>
                      <a:pt x="278" y="2462"/>
                    </a:lnTo>
                    <a:lnTo>
                      <a:pt x="406" y="1881"/>
                    </a:lnTo>
                    <a:lnTo>
                      <a:pt x="883" y="2273"/>
                    </a:lnTo>
                    <a:lnTo>
                      <a:pt x="996" y="2273"/>
                    </a:lnTo>
                    <a:lnTo>
                      <a:pt x="1174" y="2185"/>
                    </a:lnTo>
                    <a:lnTo>
                      <a:pt x="1363" y="2035"/>
                    </a:lnTo>
                    <a:lnTo>
                      <a:pt x="1500" y="1895"/>
                    </a:lnTo>
                    <a:lnTo>
                      <a:pt x="1603" y="1759"/>
                    </a:lnTo>
                    <a:lnTo>
                      <a:pt x="1462" y="1881"/>
                    </a:lnTo>
                    <a:lnTo>
                      <a:pt x="1363" y="1809"/>
                    </a:lnTo>
                    <a:lnTo>
                      <a:pt x="1480" y="1734"/>
                    </a:lnTo>
                    <a:lnTo>
                      <a:pt x="1238" y="1809"/>
                    </a:lnTo>
                    <a:lnTo>
                      <a:pt x="950" y="1846"/>
                    </a:lnTo>
                    <a:lnTo>
                      <a:pt x="669" y="1846"/>
                    </a:lnTo>
                    <a:lnTo>
                      <a:pt x="555" y="1846"/>
                    </a:lnTo>
                    <a:lnTo>
                      <a:pt x="469" y="1784"/>
                    </a:lnTo>
                    <a:lnTo>
                      <a:pt x="647" y="1708"/>
                    </a:lnTo>
                    <a:lnTo>
                      <a:pt x="1012" y="1708"/>
                    </a:lnTo>
                    <a:lnTo>
                      <a:pt x="1300" y="1545"/>
                    </a:lnTo>
                    <a:lnTo>
                      <a:pt x="1012" y="1631"/>
                    </a:lnTo>
                    <a:lnTo>
                      <a:pt x="647" y="1631"/>
                    </a:lnTo>
                    <a:lnTo>
                      <a:pt x="440" y="1685"/>
                    </a:lnTo>
                    <a:lnTo>
                      <a:pt x="440" y="1496"/>
                    </a:lnTo>
                    <a:lnTo>
                      <a:pt x="987" y="1409"/>
                    </a:lnTo>
                    <a:lnTo>
                      <a:pt x="781" y="892"/>
                    </a:lnTo>
                    <a:lnTo>
                      <a:pt x="555" y="592"/>
                    </a:lnTo>
                    <a:lnTo>
                      <a:pt x="555" y="415"/>
                    </a:lnTo>
                    <a:lnTo>
                      <a:pt x="1570" y="1444"/>
                    </a:lnTo>
                    <a:lnTo>
                      <a:pt x="1731" y="1519"/>
                    </a:lnTo>
                    <a:lnTo>
                      <a:pt x="1642" y="1332"/>
                    </a:lnTo>
                    <a:lnTo>
                      <a:pt x="733" y="477"/>
                    </a:lnTo>
                    <a:lnTo>
                      <a:pt x="620" y="267"/>
                    </a:lnTo>
                    <a:lnTo>
                      <a:pt x="304" y="51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4385520" y="5411880"/>
                <a:ext cx="64800" cy="61560"/>
              </a:xfrm>
              <a:custGeom>
                <a:avLst/>
                <a:gdLst/>
                <a:ahLst/>
                <a:rect l="l" t="t" r="r" b="b"/>
                <a:pathLst>
                  <a:path w="783" h="580">
                    <a:moveTo>
                      <a:pt x="0" y="442"/>
                    </a:moveTo>
                    <a:lnTo>
                      <a:pt x="317" y="378"/>
                    </a:lnTo>
                    <a:lnTo>
                      <a:pt x="670" y="580"/>
                    </a:lnTo>
                    <a:lnTo>
                      <a:pt x="783" y="540"/>
                    </a:lnTo>
                    <a:lnTo>
                      <a:pt x="504" y="378"/>
                    </a:lnTo>
                    <a:lnTo>
                      <a:pt x="619" y="166"/>
                    </a:lnTo>
                    <a:lnTo>
                      <a:pt x="619" y="0"/>
                    </a:lnTo>
                    <a:lnTo>
                      <a:pt x="402" y="265"/>
                    </a:lnTo>
                    <a:lnTo>
                      <a:pt x="216" y="362"/>
                    </a:lnTo>
                    <a:lnTo>
                      <a:pt x="0" y="4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4432680" y="5368680"/>
                <a:ext cx="81360" cy="74520"/>
              </a:xfrm>
              <a:custGeom>
                <a:avLst/>
                <a:gdLst/>
                <a:ahLst/>
                <a:rect l="l" t="t" r="r" b="b"/>
                <a:pathLst>
                  <a:path w="984" h="703">
                    <a:moveTo>
                      <a:pt x="189" y="314"/>
                    </a:moveTo>
                    <a:lnTo>
                      <a:pt x="367" y="212"/>
                    </a:lnTo>
                    <a:lnTo>
                      <a:pt x="744" y="364"/>
                    </a:lnTo>
                    <a:lnTo>
                      <a:pt x="744" y="500"/>
                    </a:lnTo>
                    <a:lnTo>
                      <a:pt x="442" y="579"/>
                    </a:lnTo>
                    <a:lnTo>
                      <a:pt x="809" y="567"/>
                    </a:lnTo>
                    <a:lnTo>
                      <a:pt x="984" y="703"/>
                    </a:lnTo>
                    <a:lnTo>
                      <a:pt x="870" y="450"/>
                    </a:lnTo>
                    <a:lnTo>
                      <a:pt x="707" y="265"/>
                    </a:lnTo>
                    <a:lnTo>
                      <a:pt x="343" y="164"/>
                    </a:lnTo>
                    <a:lnTo>
                      <a:pt x="202" y="0"/>
                    </a:lnTo>
                    <a:lnTo>
                      <a:pt x="0" y="164"/>
                    </a:lnTo>
                    <a:lnTo>
                      <a:pt x="178" y="63"/>
                    </a:lnTo>
                    <a:lnTo>
                      <a:pt x="239" y="149"/>
                    </a:lnTo>
                    <a:lnTo>
                      <a:pt x="189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4519440" y="5437440"/>
                <a:ext cx="48240" cy="43920"/>
              </a:xfrm>
              <a:custGeom>
                <a:avLst/>
                <a:gdLst/>
                <a:ahLst/>
                <a:rect l="l" t="t" r="r" b="b"/>
                <a:pathLst>
                  <a:path w="581" h="415">
                    <a:moveTo>
                      <a:pt x="22" y="0"/>
                    </a:moveTo>
                    <a:lnTo>
                      <a:pt x="464" y="37"/>
                    </a:lnTo>
                    <a:lnTo>
                      <a:pt x="581" y="240"/>
                    </a:lnTo>
                    <a:lnTo>
                      <a:pt x="581" y="288"/>
                    </a:lnTo>
                    <a:lnTo>
                      <a:pt x="492" y="316"/>
                    </a:lnTo>
                    <a:lnTo>
                      <a:pt x="363" y="240"/>
                    </a:lnTo>
                    <a:lnTo>
                      <a:pt x="187" y="240"/>
                    </a:lnTo>
                    <a:lnTo>
                      <a:pt x="477" y="351"/>
                    </a:lnTo>
                    <a:lnTo>
                      <a:pt x="492" y="415"/>
                    </a:lnTo>
                    <a:lnTo>
                      <a:pt x="453" y="367"/>
                    </a:lnTo>
                    <a:lnTo>
                      <a:pt x="22" y="229"/>
                    </a:lnTo>
                    <a:lnTo>
                      <a:pt x="0" y="192"/>
                    </a:lnTo>
                    <a:lnTo>
                      <a:pt x="464" y="176"/>
                    </a:lnTo>
                    <a:lnTo>
                      <a:pt x="453" y="75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4543200" y="5476320"/>
                <a:ext cx="19080" cy="37080"/>
              </a:xfrm>
              <a:custGeom>
                <a:avLst/>
                <a:gdLst/>
                <a:ahLst/>
                <a:rect l="l" t="t" r="r" b="b"/>
                <a:pathLst>
                  <a:path w="228" h="352">
                    <a:moveTo>
                      <a:pt x="186" y="99"/>
                    </a:moveTo>
                    <a:lnTo>
                      <a:pt x="186" y="163"/>
                    </a:lnTo>
                    <a:lnTo>
                      <a:pt x="96" y="210"/>
                    </a:lnTo>
                    <a:lnTo>
                      <a:pt x="0" y="275"/>
                    </a:lnTo>
                    <a:lnTo>
                      <a:pt x="72" y="352"/>
                    </a:lnTo>
                    <a:lnTo>
                      <a:pt x="125" y="249"/>
                    </a:lnTo>
                    <a:lnTo>
                      <a:pt x="228" y="187"/>
                    </a:lnTo>
                    <a:lnTo>
                      <a:pt x="228" y="74"/>
                    </a:lnTo>
                    <a:lnTo>
                      <a:pt x="186" y="0"/>
                    </a:lnTo>
                    <a:lnTo>
                      <a:pt x="186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4549320" y="5460120"/>
                <a:ext cx="30240" cy="55080"/>
              </a:xfrm>
              <a:custGeom>
                <a:avLst/>
                <a:gdLst/>
                <a:ahLst/>
                <a:rect l="l" t="t" r="r" b="b"/>
                <a:pathLst>
                  <a:path w="369" h="514">
                    <a:moveTo>
                      <a:pt x="129" y="71"/>
                    </a:moveTo>
                    <a:lnTo>
                      <a:pt x="325" y="396"/>
                    </a:lnTo>
                    <a:lnTo>
                      <a:pt x="369" y="514"/>
                    </a:lnTo>
                    <a:lnTo>
                      <a:pt x="269" y="42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4513680" y="5381280"/>
                <a:ext cx="33480" cy="60840"/>
              </a:xfrm>
              <a:custGeom>
                <a:avLst/>
                <a:gdLst/>
                <a:ahLst/>
                <a:rect l="l" t="t" r="r" b="b"/>
                <a:pathLst>
                  <a:path w="413" h="576">
                    <a:moveTo>
                      <a:pt x="319" y="558"/>
                    </a:moveTo>
                    <a:lnTo>
                      <a:pt x="0" y="46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22" y="0"/>
                    </a:lnTo>
                    <a:lnTo>
                      <a:pt x="37" y="0"/>
                    </a:lnTo>
                    <a:lnTo>
                      <a:pt x="59" y="5"/>
                    </a:lnTo>
                    <a:lnTo>
                      <a:pt x="413" y="57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4461120" y="5443920"/>
                <a:ext cx="39600" cy="26280"/>
              </a:xfrm>
              <a:custGeom>
                <a:avLst/>
                <a:gdLst/>
                <a:ahLst/>
                <a:rect l="l" t="t" r="r" b="b"/>
                <a:pathLst>
                  <a:path w="477" h="244">
                    <a:moveTo>
                      <a:pt x="67" y="181"/>
                    </a:moveTo>
                    <a:lnTo>
                      <a:pt x="99" y="82"/>
                    </a:lnTo>
                    <a:lnTo>
                      <a:pt x="180" y="34"/>
                    </a:lnTo>
                    <a:lnTo>
                      <a:pt x="279" y="34"/>
                    </a:lnTo>
                    <a:lnTo>
                      <a:pt x="427" y="62"/>
                    </a:lnTo>
                    <a:lnTo>
                      <a:pt x="477" y="34"/>
                    </a:lnTo>
                    <a:lnTo>
                      <a:pt x="310" y="0"/>
                    </a:lnTo>
                    <a:lnTo>
                      <a:pt x="198" y="0"/>
                    </a:lnTo>
                    <a:lnTo>
                      <a:pt x="99" y="34"/>
                    </a:lnTo>
                    <a:lnTo>
                      <a:pt x="51" y="99"/>
                    </a:lnTo>
                    <a:lnTo>
                      <a:pt x="0" y="244"/>
                    </a:lnTo>
                    <a:lnTo>
                      <a:pt x="67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4430880" y="4943160"/>
                <a:ext cx="133560" cy="209160"/>
              </a:xfrm>
              <a:custGeom>
                <a:avLst/>
                <a:gdLst/>
                <a:ahLst/>
                <a:rect l="l" t="t" r="r" b="b"/>
                <a:pathLst>
                  <a:path w="1617" h="1969">
                    <a:moveTo>
                      <a:pt x="1578" y="822"/>
                    </a:moveTo>
                    <a:lnTo>
                      <a:pt x="1615" y="694"/>
                    </a:lnTo>
                    <a:lnTo>
                      <a:pt x="1617" y="512"/>
                    </a:lnTo>
                    <a:lnTo>
                      <a:pt x="1573" y="350"/>
                    </a:lnTo>
                    <a:lnTo>
                      <a:pt x="1506" y="233"/>
                    </a:lnTo>
                    <a:lnTo>
                      <a:pt x="1413" y="123"/>
                    </a:lnTo>
                    <a:lnTo>
                      <a:pt x="1275" y="48"/>
                    </a:lnTo>
                    <a:lnTo>
                      <a:pt x="980" y="0"/>
                    </a:lnTo>
                    <a:lnTo>
                      <a:pt x="710" y="73"/>
                    </a:lnTo>
                    <a:lnTo>
                      <a:pt x="565" y="198"/>
                    </a:lnTo>
                    <a:lnTo>
                      <a:pt x="439" y="417"/>
                    </a:lnTo>
                    <a:lnTo>
                      <a:pt x="404" y="631"/>
                    </a:lnTo>
                    <a:lnTo>
                      <a:pt x="351" y="818"/>
                    </a:lnTo>
                    <a:lnTo>
                      <a:pt x="356" y="910"/>
                    </a:lnTo>
                    <a:lnTo>
                      <a:pt x="404" y="1026"/>
                    </a:lnTo>
                    <a:lnTo>
                      <a:pt x="393" y="1095"/>
                    </a:lnTo>
                    <a:lnTo>
                      <a:pt x="268" y="1185"/>
                    </a:lnTo>
                    <a:lnTo>
                      <a:pt x="171" y="1270"/>
                    </a:lnTo>
                    <a:lnTo>
                      <a:pt x="106" y="1411"/>
                    </a:lnTo>
                    <a:lnTo>
                      <a:pt x="106" y="1484"/>
                    </a:lnTo>
                    <a:lnTo>
                      <a:pt x="116" y="1554"/>
                    </a:lnTo>
                    <a:lnTo>
                      <a:pt x="130" y="1597"/>
                    </a:lnTo>
                    <a:lnTo>
                      <a:pt x="112" y="1653"/>
                    </a:lnTo>
                    <a:lnTo>
                      <a:pt x="0" y="1754"/>
                    </a:lnTo>
                    <a:lnTo>
                      <a:pt x="160" y="1712"/>
                    </a:lnTo>
                    <a:lnTo>
                      <a:pt x="347" y="1657"/>
                    </a:lnTo>
                    <a:lnTo>
                      <a:pt x="415" y="1861"/>
                    </a:lnTo>
                    <a:lnTo>
                      <a:pt x="479" y="1969"/>
                    </a:lnTo>
                    <a:lnTo>
                      <a:pt x="450" y="1872"/>
                    </a:lnTo>
                    <a:lnTo>
                      <a:pt x="450" y="1800"/>
                    </a:lnTo>
                    <a:lnTo>
                      <a:pt x="468" y="1758"/>
                    </a:lnTo>
                    <a:lnTo>
                      <a:pt x="505" y="1754"/>
                    </a:lnTo>
                    <a:lnTo>
                      <a:pt x="565" y="1769"/>
                    </a:lnTo>
                    <a:lnTo>
                      <a:pt x="628" y="1826"/>
                    </a:lnTo>
                    <a:lnTo>
                      <a:pt x="685" y="1904"/>
                    </a:lnTo>
                    <a:lnTo>
                      <a:pt x="639" y="1754"/>
                    </a:lnTo>
                    <a:lnTo>
                      <a:pt x="618" y="1641"/>
                    </a:lnTo>
                    <a:lnTo>
                      <a:pt x="604" y="1507"/>
                    </a:lnTo>
                    <a:lnTo>
                      <a:pt x="611" y="1411"/>
                    </a:lnTo>
                    <a:lnTo>
                      <a:pt x="674" y="1507"/>
                    </a:lnTo>
                    <a:lnTo>
                      <a:pt x="765" y="1593"/>
                    </a:lnTo>
                    <a:lnTo>
                      <a:pt x="870" y="1666"/>
                    </a:lnTo>
                    <a:lnTo>
                      <a:pt x="980" y="1703"/>
                    </a:lnTo>
                    <a:lnTo>
                      <a:pt x="888" y="1666"/>
                    </a:lnTo>
                    <a:lnTo>
                      <a:pt x="802" y="1613"/>
                    </a:lnTo>
                    <a:lnTo>
                      <a:pt x="717" y="1533"/>
                    </a:lnTo>
                    <a:lnTo>
                      <a:pt x="671" y="1466"/>
                    </a:lnTo>
                    <a:lnTo>
                      <a:pt x="632" y="1399"/>
                    </a:lnTo>
                    <a:lnTo>
                      <a:pt x="618" y="1339"/>
                    </a:lnTo>
                    <a:lnTo>
                      <a:pt x="611" y="1261"/>
                    </a:lnTo>
                    <a:lnTo>
                      <a:pt x="598" y="1180"/>
                    </a:lnTo>
                    <a:lnTo>
                      <a:pt x="591" y="1042"/>
                    </a:lnTo>
                    <a:lnTo>
                      <a:pt x="584" y="1237"/>
                    </a:lnTo>
                    <a:lnTo>
                      <a:pt x="569" y="1261"/>
                    </a:lnTo>
                    <a:lnTo>
                      <a:pt x="538" y="1277"/>
                    </a:lnTo>
                    <a:lnTo>
                      <a:pt x="499" y="1261"/>
                    </a:lnTo>
                    <a:lnTo>
                      <a:pt x="479" y="1217"/>
                    </a:lnTo>
                    <a:lnTo>
                      <a:pt x="479" y="1167"/>
                    </a:lnTo>
                    <a:lnTo>
                      <a:pt x="494" y="1114"/>
                    </a:lnTo>
                    <a:lnTo>
                      <a:pt x="523" y="1072"/>
                    </a:lnTo>
                    <a:lnTo>
                      <a:pt x="487" y="1092"/>
                    </a:lnTo>
                    <a:lnTo>
                      <a:pt x="429" y="963"/>
                    </a:lnTo>
                    <a:lnTo>
                      <a:pt x="411" y="910"/>
                    </a:lnTo>
                    <a:lnTo>
                      <a:pt x="404" y="853"/>
                    </a:lnTo>
                    <a:lnTo>
                      <a:pt x="411" y="804"/>
                    </a:lnTo>
                    <a:lnTo>
                      <a:pt x="436" y="776"/>
                    </a:lnTo>
                    <a:lnTo>
                      <a:pt x="461" y="751"/>
                    </a:lnTo>
                    <a:lnTo>
                      <a:pt x="487" y="751"/>
                    </a:lnTo>
                    <a:lnTo>
                      <a:pt x="514" y="767"/>
                    </a:lnTo>
                    <a:lnTo>
                      <a:pt x="538" y="804"/>
                    </a:lnTo>
                    <a:lnTo>
                      <a:pt x="565" y="890"/>
                    </a:lnTo>
                    <a:lnTo>
                      <a:pt x="574" y="782"/>
                    </a:lnTo>
                    <a:lnTo>
                      <a:pt x="622" y="687"/>
                    </a:lnTo>
                    <a:lnTo>
                      <a:pt x="697" y="549"/>
                    </a:lnTo>
                    <a:lnTo>
                      <a:pt x="741" y="435"/>
                    </a:lnTo>
                    <a:lnTo>
                      <a:pt x="798" y="354"/>
                    </a:lnTo>
                    <a:lnTo>
                      <a:pt x="888" y="304"/>
                    </a:lnTo>
                    <a:lnTo>
                      <a:pt x="1038" y="286"/>
                    </a:lnTo>
                    <a:lnTo>
                      <a:pt x="1195" y="304"/>
                    </a:lnTo>
                    <a:lnTo>
                      <a:pt x="1393" y="343"/>
                    </a:lnTo>
                    <a:lnTo>
                      <a:pt x="1470" y="406"/>
                    </a:lnTo>
                    <a:lnTo>
                      <a:pt x="1520" y="519"/>
                    </a:lnTo>
                    <a:lnTo>
                      <a:pt x="1549" y="641"/>
                    </a:lnTo>
                    <a:lnTo>
                      <a:pt x="1569" y="883"/>
                    </a:lnTo>
                    <a:lnTo>
                      <a:pt x="1578" y="8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4492800" y="5047560"/>
                <a:ext cx="67320" cy="124560"/>
              </a:xfrm>
              <a:custGeom>
                <a:avLst/>
                <a:gdLst/>
                <a:ahLst/>
                <a:rect l="l" t="t" r="r" b="b"/>
                <a:pathLst>
                  <a:path w="817" h="1173">
                    <a:moveTo>
                      <a:pt x="817" y="0"/>
                    </a:moveTo>
                    <a:lnTo>
                      <a:pt x="786" y="103"/>
                    </a:lnTo>
                    <a:lnTo>
                      <a:pt x="718" y="359"/>
                    </a:lnTo>
                    <a:lnTo>
                      <a:pt x="634" y="514"/>
                    </a:lnTo>
                    <a:lnTo>
                      <a:pt x="569" y="608"/>
                    </a:lnTo>
                    <a:lnTo>
                      <a:pt x="481" y="703"/>
                    </a:lnTo>
                    <a:lnTo>
                      <a:pt x="417" y="723"/>
                    </a:lnTo>
                    <a:lnTo>
                      <a:pt x="305" y="732"/>
                    </a:lnTo>
                    <a:lnTo>
                      <a:pt x="187" y="707"/>
                    </a:lnTo>
                    <a:lnTo>
                      <a:pt x="94" y="661"/>
                    </a:lnTo>
                    <a:lnTo>
                      <a:pt x="0" y="596"/>
                    </a:lnTo>
                    <a:lnTo>
                      <a:pt x="57" y="692"/>
                    </a:lnTo>
                    <a:lnTo>
                      <a:pt x="136" y="758"/>
                    </a:lnTo>
                    <a:lnTo>
                      <a:pt x="206" y="800"/>
                    </a:lnTo>
                    <a:lnTo>
                      <a:pt x="300" y="825"/>
                    </a:lnTo>
                    <a:lnTo>
                      <a:pt x="380" y="825"/>
                    </a:lnTo>
                    <a:lnTo>
                      <a:pt x="329" y="1173"/>
                    </a:lnTo>
                    <a:lnTo>
                      <a:pt x="376" y="1064"/>
                    </a:lnTo>
                    <a:lnTo>
                      <a:pt x="443" y="795"/>
                    </a:lnTo>
                    <a:lnTo>
                      <a:pt x="477" y="747"/>
                    </a:lnTo>
                    <a:lnTo>
                      <a:pt x="527" y="820"/>
                    </a:lnTo>
                    <a:lnTo>
                      <a:pt x="574" y="940"/>
                    </a:lnTo>
                    <a:lnTo>
                      <a:pt x="551" y="800"/>
                    </a:lnTo>
                    <a:lnTo>
                      <a:pt x="503" y="707"/>
                    </a:lnTo>
                    <a:lnTo>
                      <a:pt x="579" y="617"/>
                    </a:lnTo>
                    <a:lnTo>
                      <a:pt x="668" y="493"/>
                    </a:lnTo>
                    <a:lnTo>
                      <a:pt x="720" y="373"/>
                    </a:lnTo>
                    <a:lnTo>
                      <a:pt x="754" y="286"/>
                    </a:lnTo>
                    <a:lnTo>
                      <a:pt x="793" y="115"/>
                    </a:lnTo>
                    <a:lnTo>
                      <a:pt x="8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4467240" y="5029560"/>
                <a:ext cx="7920" cy="22680"/>
              </a:xfrm>
              <a:custGeom>
                <a:avLst/>
                <a:gdLst/>
                <a:ahLst/>
                <a:rect l="l" t="t" r="r" b="b"/>
                <a:pathLst>
                  <a:path w="99" h="215">
                    <a:moveTo>
                      <a:pt x="11" y="0"/>
                    </a:moveTo>
                    <a:lnTo>
                      <a:pt x="48" y="7"/>
                    </a:lnTo>
                    <a:lnTo>
                      <a:pt x="91" y="60"/>
                    </a:lnTo>
                    <a:lnTo>
                      <a:pt x="99" y="111"/>
                    </a:lnTo>
                    <a:lnTo>
                      <a:pt x="94" y="145"/>
                    </a:lnTo>
                    <a:lnTo>
                      <a:pt x="60" y="162"/>
                    </a:lnTo>
                    <a:lnTo>
                      <a:pt x="55" y="180"/>
                    </a:lnTo>
                    <a:lnTo>
                      <a:pt x="73" y="215"/>
                    </a:lnTo>
                    <a:lnTo>
                      <a:pt x="22" y="169"/>
                    </a:lnTo>
                    <a:lnTo>
                      <a:pt x="22" y="145"/>
                    </a:lnTo>
                    <a:lnTo>
                      <a:pt x="36" y="123"/>
                    </a:lnTo>
                    <a:lnTo>
                      <a:pt x="55" y="106"/>
                    </a:lnTo>
                    <a:lnTo>
                      <a:pt x="84" y="92"/>
                    </a:lnTo>
                    <a:lnTo>
                      <a:pt x="73" y="65"/>
                    </a:lnTo>
                    <a:lnTo>
                      <a:pt x="60" y="42"/>
                    </a:lnTo>
                    <a:lnTo>
                      <a:pt x="36" y="28"/>
                    </a:lnTo>
                    <a:lnTo>
                      <a:pt x="11" y="60"/>
                    </a:lnTo>
                    <a:lnTo>
                      <a:pt x="11" y="79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4477680" y="5037480"/>
                <a:ext cx="3600" cy="25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4479840" y="5041440"/>
                <a:ext cx="50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4484520" y="5055840"/>
                <a:ext cx="32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4470480" y="5059080"/>
                <a:ext cx="5760" cy="16560"/>
              </a:xfrm>
              <a:custGeom>
                <a:avLst/>
                <a:gdLst/>
                <a:ahLst/>
                <a:rect l="l" t="t" r="r" b="b"/>
                <a:pathLst>
                  <a:path w="77" h="162">
                    <a:moveTo>
                      <a:pt x="33" y="0"/>
                    </a:moveTo>
                    <a:lnTo>
                      <a:pt x="59" y="28"/>
                    </a:lnTo>
                    <a:lnTo>
                      <a:pt x="72" y="63"/>
                    </a:lnTo>
                    <a:lnTo>
                      <a:pt x="77" y="112"/>
                    </a:lnTo>
                    <a:lnTo>
                      <a:pt x="72" y="145"/>
                    </a:lnTo>
                    <a:lnTo>
                      <a:pt x="54" y="158"/>
                    </a:lnTo>
                    <a:lnTo>
                      <a:pt x="33" y="162"/>
                    </a:lnTo>
                    <a:lnTo>
                      <a:pt x="8" y="158"/>
                    </a:lnTo>
                    <a:lnTo>
                      <a:pt x="0" y="116"/>
                    </a:lnTo>
                    <a:lnTo>
                      <a:pt x="44" y="123"/>
                    </a:lnTo>
                    <a:lnTo>
                      <a:pt x="51" y="88"/>
                    </a:lnTo>
                    <a:lnTo>
                      <a:pt x="59" y="63"/>
                    </a:lnTo>
                    <a:lnTo>
                      <a:pt x="54" y="3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4379040" y="5114520"/>
                <a:ext cx="235800" cy="159120"/>
              </a:xfrm>
              <a:custGeom>
                <a:avLst/>
                <a:gdLst/>
                <a:ahLst/>
                <a:rect l="l" t="t" r="r" b="b"/>
                <a:pathLst>
                  <a:path w="2847" h="1510">
                    <a:moveTo>
                      <a:pt x="1072" y="246"/>
                    </a:moveTo>
                    <a:lnTo>
                      <a:pt x="1129" y="369"/>
                    </a:lnTo>
                    <a:lnTo>
                      <a:pt x="1228" y="441"/>
                    </a:lnTo>
                    <a:lnTo>
                      <a:pt x="1369" y="516"/>
                    </a:lnTo>
                    <a:lnTo>
                      <a:pt x="1558" y="567"/>
                    </a:lnTo>
                    <a:lnTo>
                      <a:pt x="1798" y="606"/>
                    </a:lnTo>
                    <a:lnTo>
                      <a:pt x="1903" y="576"/>
                    </a:lnTo>
                    <a:lnTo>
                      <a:pt x="1945" y="507"/>
                    </a:lnTo>
                    <a:lnTo>
                      <a:pt x="1969" y="408"/>
                    </a:lnTo>
                    <a:lnTo>
                      <a:pt x="1969" y="345"/>
                    </a:lnTo>
                    <a:lnTo>
                      <a:pt x="1929" y="239"/>
                    </a:lnTo>
                    <a:lnTo>
                      <a:pt x="1890" y="171"/>
                    </a:lnTo>
                    <a:lnTo>
                      <a:pt x="1839" y="120"/>
                    </a:lnTo>
                    <a:lnTo>
                      <a:pt x="1903" y="32"/>
                    </a:lnTo>
                    <a:lnTo>
                      <a:pt x="1945" y="0"/>
                    </a:lnTo>
                    <a:lnTo>
                      <a:pt x="2160" y="113"/>
                    </a:lnTo>
                    <a:lnTo>
                      <a:pt x="2400" y="162"/>
                    </a:lnTo>
                    <a:lnTo>
                      <a:pt x="2630" y="252"/>
                    </a:lnTo>
                    <a:lnTo>
                      <a:pt x="2847" y="378"/>
                    </a:lnTo>
                    <a:lnTo>
                      <a:pt x="2556" y="252"/>
                    </a:lnTo>
                    <a:lnTo>
                      <a:pt x="2342" y="191"/>
                    </a:lnTo>
                    <a:lnTo>
                      <a:pt x="2202" y="171"/>
                    </a:lnTo>
                    <a:lnTo>
                      <a:pt x="2052" y="171"/>
                    </a:lnTo>
                    <a:lnTo>
                      <a:pt x="1987" y="215"/>
                    </a:lnTo>
                    <a:lnTo>
                      <a:pt x="2004" y="387"/>
                    </a:lnTo>
                    <a:lnTo>
                      <a:pt x="1987" y="484"/>
                    </a:lnTo>
                    <a:lnTo>
                      <a:pt x="1953" y="590"/>
                    </a:lnTo>
                    <a:lnTo>
                      <a:pt x="1903" y="655"/>
                    </a:lnTo>
                    <a:lnTo>
                      <a:pt x="1789" y="760"/>
                    </a:lnTo>
                    <a:lnTo>
                      <a:pt x="1789" y="707"/>
                    </a:lnTo>
                    <a:lnTo>
                      <a:pt x="1749" y="673"/>
                    </a:lnTo>
                    <a:lnTo>
                      <a:pt x="1708" y="687"/>
                    </a:lnTo>
                    <a:lnTo>
                      <a:pt x="1696" y="738"/>
                    </a:lnTo>
                    <a:lnTo>
                      <a:pt x="1720" y="770"/>
                    </a:lnTo>
                    <a:lnTo>
                      <a:pt x="1756" y="779"/>
                    </a:lnTo>
                    <a:lnTo>
                      <a:pt x="1731" y="813"/>
                    </a:lnTo>
                    <a:lnTo>
                      <a:pt x="1674" y="802"/>
                    </a:lnTo>
                    <a:lnTo>
                      <a:pt x="1648" y="760"/>
                    </a:lnTo>
                    <a:lnTo>
                      <a:pt x="1659" y="707"/>
                    </a:lnTo>
                    <a:lnTo>
                      <a:pt x="1681" y="666"/>
                    </a:lnTo>
                    <a:lnTo>
                      <a:pt x="1720" y="648"/>
                    </a:lnTo>
                    <a:lnTo>
                      <a:pt x="1780" y="624"/>
                    </a:lnTo>
                    <a:lnTo>
                      <a:pt x="1433" y="567"/>
                    </a:lnTo>
                    <a:lnTo>
                      <a:pt x="1235" y="500"/>
                    </a:lnTo>
                    <a:lnTo>
                      <a:pt x="1353" y="795"/>
                    </a:lnTo>
                    <a:lnTo>
                      <a:pt x="1549" y="1289"/>
                    </a:lnTo>
                    <a:lnTo>
                      <a:pt x="1648" y="1510"/>
                    </a:lnTo>
                    <a:lnTo>
                      <a:pt x="1358" y="903"/>
                    </a:lnTo>
                    <a:lnTo>
                      <a:pt x="1201" y="576"/>
                    </a:lnTo>
                    <a:lnTo>
                      <a:pt x="1046" y="378"/>
                    </a:lnTo>
                    <a:lnTo>
                      <a:pt x="896" y="239"/>
                    </a:lnTo>
                    <a:lnTo>
                      <a:pt x="774" y="156"/>
                    </a:lnTo>
                    <a:lnTo>
                      <a:pt x="668" y="147"/>
                    </a:lnTo>
                    <a:lnTo>
                      <a:pt x="525" y="162"/>
                    </a:lnTo>
                    <a:lnTo>
                      <a:pt x="106" y="270"/>
                    </a:lnTo>
                    <a:lnTo>
                      <a:pt x="0" y="345"/>
                    </a:lnTo>
                    <a:lnTo>
                      <a:pt x="106" y="239"/>
                    </a:lnTo>
                    <a:lnTo>
                      <a:pt x="493" y="94"/>
                    </a:lnTo>
                    <a:lnTo>
                      <a:pt x="749" y="90"/>
                    </a:lnTo>
                    <a:lnTo>
                      <a:pt x="995" y="15"/>
                    </a:lnTo>
                    <a:lnTo>
                      <a:pt x="1072" y="2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4363560" y="5158440"/>
                <a:ext cx="93960" cy="181440"/>
              </a:xfrm>
              <a:custGeom>
                <a:avLst/>
                <a:gdLst/>
                <a:ahLst/>
                <a:rect l="l" t="t" r="r" b="b"/>
                <a:pathLst>
                  <a:path w="1134" h="1714">
                    <a:moveTo>
                      <a:pt x="159" y="0"/>
                    </a:moveTo>
                    <a:lnTo>
                      <a:pt x="264" y="31"/>
                    </a:lnTo>
                    <a:lnTo>
                      <a:pt x="365" y="113"/>
                    </a:lnTo>
                    <a:lnTo>
                      <a:pt x="447" y="229"/>
                    </a:lnTo>
                    <a:lnTo>
                      <a:pt x="521" y="367"/>
                    </a:lnTo>
                    <a:lnTo>
                      <a:pt x="570" y="484"/>
                    </a:lnTo>
                    <a:lnTo>
                      <a:pt x="611" y="591"/>
                    </a:lnTo>
                    <a:lnTo>
                      <a:pt x="491" y="409"/>
                    </a:lnTo>
                    <a:lnTo>
                      <a:pt x="387" y="288"/>
                    </a:lnTo>
                    <a:lnTo>
                      <a:pt x="264" y="205"/>
                    </a:lnTo>
                    <a:lnTo>
                      <a:pt x="167" y="157"/>
                    </a:lnTo>
                    <a:lnTo>
                      <a:pt x="167" y="319"/>
                    </a:lnTo>
                    <a:lnTo>
                      <a:pt x="222" y="499"/>
                    </a:lnTo>
                    <a:lnTo>
                      <a:pt x="312" y="646"/>
                    </a:lnTo>
                    <a:lnTo>
                      <a:pt x="413" y="754"/>
                    </a:lnTo>
                    <a:lnTo>
                      <a:pt x="598" y="886"/>
                    </a:lnTo>
                    <a:lnTo>
                      <a:pt x="768" y="998"/>
                    </a:lnTo>
                    <a:lnTo>
                      <a:pt x="860" y="1049"/>
                    </a:lnTo>
                    <a:lnTo>
                      <a:pt x="818" y="925"/>
                    </a:lnTo>
                    <a:lnTo>
                      <a:pt x="923" y="1132"/>
                    </a:lnTo>
                    <a:lnTo>
                      <a:pt x="976" y="1301"/>
                    </a:lnTo>
                    <a:lnTo>
                      <a:pt x="1007" y="1508"/>
                    </a:lnTo>
                    <a:lnTo>
                      <a:pt x="1081" y="1631"/>
                    </a:lnTo>
                    <a:lnTo>
                      <a:pt x="1134" y="1714"/>
                    </a:lnTo>
                    <a:lnTo>
                      <a:pt x="959" y="1559"/>
                    </a:lnTo>
                    <a:lnTo>
                      <a:pt x="959" y="1642"/>
                    </a:lnTo>
                    <a:lnTo>
                      <a:pt x="877" y="1665"/>
                    </a:lnTo>
                    <a:lnTo>
                      <a:pt x="918" y="1609"/>
                    </a:lnTo>
                    <a:lnTo>
                      <a:pt x="908" y="1534"/>
                    </a:lnTo>
                    <a:lnTo>
                      <a:pt x="703" y="1402"/>
                    </a:lnTo>
                    <a:lnTo>
                      <a:pt x="877" y="1411"/>
                    </a:lnTo>
                    <a:lnTo>
                      <a:pt x="736" y="1204"/>
                    </a:lnTo>
                    <a:lnTo>
                      <a:pt x="853" y="1195"/>
                    </a:lnTo>
                    <a:lnTo>
                      <a:pt x="869" y="1147"/>
                    </a:lnTo>
                    <a:lnTo>
                      <a:pt x="703" y="1141"/>
                    </a:lnTo>
                    <a:lnTo>
                      <a:pt x="494" y="1077"/>
                    </a:lnTo>
                    <a:lnTo>
                      <a:pt x="249" y="967"/>
                    </a:lnTo>
                    <a:lnTo>
                      <a:pt x="99" y="860"/>
                    </a:lnTo>
                    <a:lnTo>
                      <a:pt x="84" y="886"/>
                    </a:lnTo>
                    <a:lnTo>
                      <a:pt x="143" y="985"/>
                    </a:lnTo>
                    <a:lnTo>
                      <a:pt x="240" y="1077"/>
                    </a:lnTo>
                    <a:lnTo>
                      <a:pt x="339" y="1132"/>
                    </a:lnTo>
                    <a:lnTo>
                      <a:pt x="413" y="1338"/>
                    </a:lnTo>
                    <a:lnTo>
                      <a:pt x="644" y="1402"/>
                    </a:lnTo>
                    <a:lnTo>
                      <a:pt x="482" y="1386"/>
                    </a:lnTo>
                    <a:lnTo>
                      <a:pt x="556" y="1460"/>
                    </a:lnTo>
                    <a:lnTo>
                      <a:pt x="763" y="1508"/>
                    </a:lnTo>
                    <a:lnTo>
                      <a:pt x="853" y="1582"/>
                    </a:lnTo>
                    <a:lnTo>
                      <a:pt x="826" y="1631"/>
                    </a:lnTo>
                    <a:lnTo>
                      <a:pt x="694" y="1591"/>
                    </a:lnTo>
                    <a:lnTo>
                      <a:pt x="598" y="1600"/>
                    </a:lnTo>
                    <a:lnTo>
                      <a:pt x="51" y="1107"/>
                    </a:lnTo>
                    <a:lnTo>
                      <a:pt x="21" y="943"/>
                    </a:lnTo>
                    <a:lnTo>
                      <a:pt x="9" y="826"/>
                    </a:lnTo>
                    <a:lnTo>
                      <a:pt x="51" y="770"/>
                    </a:lnTo>
                    <a:lnTo>
                      <a:pt x="21" y="642"/>
                    </a:lnTo>
                    <a:lnTo>
                      <a:pt x="0" y="443"/>
                    </a:lnTo>
                    <a:lnTo>
                      <a:pt x="25" y="279"/>
                    </a:lnTo>
                    <a:lnTo>
                      <a:pt x="77" y="132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4429440" y="5332320"/>
                <a:ext cx="26280" cy="42480"/>
              </a:xfrm>
              <a:custGeom>
                <a:avLst/>
                <a:gdLst/>
                <a:ahLst/>
                <a:rect l="l" t="t" r="r" b="b"/>
                <a:pathLst>
                  <a:path w="318" h="399">
                    <a:moveTo>
                      <a:pt x="0" y="138"/>
                    </a:moveTo>
                    <a:lnTo>
                      <a:pt x="87" y="23"/>
                    </a:lnTo>
                    <a:lnTo>
                      <a:pt x="168" y="0"/>
                    </a:lnTo>
                    <a:lnTo>
                      <a:pt x="221" y="72"/>
                    </a:lnTo>
                    <a:lnTo>
                      <a:pt x="221" y="336"/>
                    </a:lnTo>
                    <a:lnTo>
                      <a:pt x="285" y="106"/>
                    </a:lnTo>
                    <a:lnTo>
                      <a:pt x="318" y="196"/>
                    </a:lnTo>
                    <a:lnTo>
                      <a:pt x="318" y="295"/>
                    </a:lnTo>
                    <a:lnTo>
                      <a:pt x="246" y="399"/>
                    </a:lnTo>
                    <a:lnTo>
                      <a:pt x="186" y="399"/>
                    </a:lnTo>
                    <a:lnTo>
                      <a:pt x="39" y="261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4452480" y="5169600"/>
                <a:ext cx="193320" cy="227880"/>
              </a:xfrm>
              <a:custGeom>
                <a:avLst/>
                <a:gdLst/>
                <a:ahLst/>
                <a:rect l="l" t="t" r="r" b="b"/>
                <a:pathLst>
                  <a:path w="2335" h="2151">
                    <a:moveTo>
                      <a:pt x="87" y="1633"/>
                    </a:moveTo>
                    <a:lnTo>
                      <a:pt x="112" y="1705"/>
                    </a:lnTo>
                    <a:lnTo>
                      <a:pt x="123" y="1896"/>
                    </a:lnTo>
                    <a:lnTo>
                      <a:pt x="0" y="1953"/>
                    </a:lnTo>
                    <a:lnTo>
                      <a:pt x="39" y="1978"/>
                    </a:lnTo>
                    <a:lnTo>
                      <a:pt x="182" y="1953"/>
                    </a:lnTo>
                    <a:lnTo>
                      <a:pt x="742" y="2068"/>
                    </a:lnTo>
                    <a:lnTo>
                      <a:pt x="732" y="2032"/>
                    </a:lnTo>
                    <a:lnTo>
                      <a:pt x="732" y="2011"/>
                    </a:lnTo>
                    <a:lnTo>
                      <a:pt x="758" y="1997"/>
                    </a:lnTo>
                    <a:lnTo>
                      <a:pt x="791" y="2002"/>
                    </a:lnTo>
                    <a:lnTo>
                      <a:pt x="806" y="2032"/>
                    </a:lnTo>
                    <a:lnTo>
                      <a:pt x="830" y="2061"/>
                    </a:lnTo>
                    <a:lnTo>
                      <a:pt x="883" y="2068"/>
                    </a:lnTo>
                    <a:lnTo>
                      <a:pt x="958" y="2127"/>
                    </a:lnTo>
                    <a:lnTo>
                      <a:pt x="938" y="2068"/>
                    </a:lnTo>
                    <a:lnTo>
                      <a:pt x="1180" y="2011"/>
                    </a:lnTo>
                    <a:lnTo>
                      <a:pt x="1477" y="1845"/>
                    </a:lnTo>
                    <a:lnTo>
                      <a:pt x="1807" y="1930"/>
                    </a:lnTo>
                    <a:lnTo>
                      <a:pt x="1872" y="2061"/>
                    </a:lnTo>
                    <a:lnTo>
                      <a:pt x="1872" y="2142"/>
                    </a:lnTo>
                    <a:lnTo>
                      <a:pt x="1883" y="2151"/>
                    </a:lnTo>
                    <a:lnTo>
                      <a:pt x="1897" y="2061"/>
                    </a:lnTo>
                    <a:lnTo>
                      <a:pt x="1823" y="1912"/>
                    </a:lnTo>
                    <a:lnTo>
                      <a:pt x="1666" y="1815"/>
                    </a:lnTo>
                    <a:lnTo>
                      <a:pt x="1731" y="1714"/>
                    </a:lnTo>
                    <a:lnTo>
                      <a:pt x="1855" y="1668"/>
                    </a:lnTo>
                    <a:lnTo>
                      <a:pt x="2003" y="1642"/>
                    </a:lnTo>
                    <a:lnTo>
                      <a:pt x="2189" y="1674"/>
                    </a:lnTo>
                    <a:lnTo>
                      <a:pt x="2226" y="1705"/>
                    </a:lnTo>
                    <a:lnTo>
                      <a:pt x="2235" y="1804"/>
                    </a:lnTo>
                    <a:lnTo>
                      <a:pt x="2285" y="1887"/>
                    </a:lnTo>
                    <a:lnTo>
                      <a:pt x="2335" y="1771"/>
                    </a:lnTo>
                    <a:lnTo>
                      <a:pt x="2309" y="1700"/>
                    </a:lnTo>
                    <a:lnTo>
                      <a:pt x="2219" y="1608"/>
                    </a:lnTo>
                    <a:lnTo>
                      <a:pt x="2102" y="1510"/>
                    </a:lnTo>
                    <a:lnTo>
                      <a:pt x="2010" y="1402"/>
                    </a:lnTo>
                    <a:lnTo>
                      <a:pt x="1929" y="1439"/>
                    </a:lnTo>
                    <a:lnTo>
                      <a:pt x="1883" y="1559"/>
                    </a:lnTo>
                    <a:lnTo>
                      <a:pt x="1839" y="1536"/>
                    </a:lnTo>
                    <a:lnTo>
                      <a:pt x="1883" y="1428"/>
                    </a:lnTo>
                    <a:lnTo>
                      <a:pt x="1929" y="1338"/>
                    </a:lnTo>
                    <a:lnTo>
                      <a:pt x="2138" y="1255"/>
                    </a:lnTo>
                    <a:lnTo>
                      <a:pt x="2235" y="1165"/>
                    </a:lnTo>
                    <a:lnTo>
                      <a:pt x="2189" y="1041"/>
                    </a:lnTo>
                    <a:lnTo>
                      <a:pt x="2169" y="1142"/>
                    </a:lnTo>
                    <a:lnTo>
                      <a:pt x="2063" y="1206"/>
                    </a:lnTo>
                    <a:lnTo>
                      <a:pt x="1962" y="1232"/>
                    </a:lnTo>
                    <a:lnTo>
                      <a:pt x="1883" y="1239"/>
                    </a:lnTo>
                    <a:lnTo>
                      <a:pt x="1855" y="1213"/>
                    </a:lnTo>
                    <a:lnTo>
                      <a:pt x="1872" y="1181"/>
                    </a:lnTo>
                    <a:lnTo>
                      <a:pt x="2039" y="1066"/>
                    </a:lnTo>
                    <a:lnTo>
                      <a:pt x="2169" y="943"/>
                    </a:lnTo>
                    <a:lnTo>
                      <a:pt x="2197" y="1001"/>
                    </a:lnTo>
                    <a:lnTo>
                      <a:pt x="2201" y="868"/>
                    </a:lnTo>
                    <a:lnTo>
                      <a:pt x="2180" y="720"/>
                    </a:lnTo>
                    <a:lnTo>
                      <a:pt x="2169" y="565"/>
                    </a:lnTo>
                    <a:lnTo>
                      <a:pt x="2180" y="337"/>
                    </a:lnTo>
                    <a:lnTo>
                      <a:pt x="2153" y="114"/>
                    </a:lnTo>
                    <a:lnTo>
                      <a:pt x="2111" y="0"/>
                    </a:lnTo>
                    <a:lnTo>
                      <a:pt x="2144" y="182"/>
                    </a:lnTo>
                    <a:lnTo>
                      <a:pt x="2144" y="400"/>
                    </a:lnTo>
                    <a:lnTo>
                      <a:pt x="2111" y="582"/>
                    </a:lnTo>
                    <a:lnTo>
                      <a:pt x="1982" y="868"/>
                    </a:lnTo>
                    <a:lnTo>
                      <a:pt x="2088" y="706"/>
                    </a:lnTo>
                    <a:lnTo>
                      <a:pt x="2127" y="771"/>
                    </a:lnTo>
                    <a:lnTo>
                      <a:pt x="2144" y="861"/>
                    </a:lnTo>
                    <a:lnTo>
                      <a:pt x="2120" y="936"/>
                    </a:lnTo>
                    <a:lnTo>
                      <a:pt x="2003" y="1041"/>
                    </a:lnTo>
                    <a:lnTo>
                      <a:pt x="1865" y="1125"/>
                    </a:lnTo>
                    <a:lnTo>
                      <a:pt x="1872" y="1050"/>
                    </a:lnTo>
                    <a:lnTo>
                      <a:pt x="1673" y="1273"/>
                    </a:lnTo>
                    <a:lnTo>
                      <a:pt x="1402" y="1476"/>
                    </a:lnTo>
                    <a:lnTo>
                      <a:pt x="1169" y="1584"/>
                    </a:lnTo>
                    <a:lnTo>
                      <a:pt x="965" y="1633"/>
                    </a:lnTo>
                    <a:lnTo>
                      <a:pt x="615" y="1600"/>
                    </a:lnTo>
                    <a:lnTo>
                      <a:pt x="410" y="1608"/>
                    </a:lnTo>
                    <a:lnTo>
                      <a:pt x="195" y="1626"/>
                    </a:lnTo>
                    <a:lnTo>
                      <a:pt x="87" y="16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4554000" y="5160240"/>
                <a:ext cx="14400" cy="149040"/>
              </a:xfrm>
              <a:custGeom>
                <a:avLst/>
                <a:gdLst/>
                <a:ahLst/>
                <a:rect l="l" t="t" r="r" b="b"/>
                <a:pathLst>
                  <a:path w="180" h="1411">
                    <a:moveTo>
                      <a:pt x="0" y="33"/>
                    </a:moveTo>
                    <a:lnTo>
                      <a:pt x="99" y="263"/>
                    </a:lnTo>
                    <a:lnTo>
                      <a:pt x="129" y="483"/>
                    </a:lnTo>
                    <a:lnTo>
                      <a:pt x="124" y="802"/>
                    </a:lnTo>
                    <a:lnTo>
                      <a:pt x="81" y="1075"/>
                    </a:lnTo>
                    <a:lnTo>
                      <a:pt x="9" y="1411"/>
                    </a:lnTo>
                    <a:lnTo>
                      <a:pt x="90" y="1386"/>
                    </a:lnTo>
                    <a:lnTo>
                      <a:pt x="140" y="1303"/>
                    </a:lnTo>
                    <a:lnTo>
                      <a:pt x="171" y="1140"/>
                    </a:lnTo>
                    <a:lnTo>
                      <a:pt x="180" y="886"/>
                    </a:lnTo>
                    <a:lnTo>
                      <a:pt x="171" y="556"/>
                    </a:lnTo>
                    <a:lnTo>
                      <a:pt x="145" y="344"/>
                    </a:lnTo>
                    <a:lnTo>
                      <a:pt x="105" y="180"/>
                    </a:lnTo>
                    <a:lnTo>
                      <a:pt x="39" y="22"/>
                    </a:lnTo>
                    <a:lnTo>
                      <a:pt x="9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4523040" y="5257800"/>
                <a:ext cx="11520" cy="15120"/>
              </a:xfrm>
              <a:custGeom>
                <a:avLst/>
                <a:gdLst/>
                <a:ahLst/>
                <a:rect l="l" t="t" r="r" b="b"/>
                <a:pathLst>
                  <a:path w="141" h="141">
                    <a:moveTo>
                      <a:pt x="101" y="7"/>
                    </a:moveTo>
                    <a:lnTo>
                      <a:pt x="66" y="7"/>
                    </a:lnTo>
                    <a:lnTo>
                      <a:pt x="42" y="31"/>
                    </a:lnTo>
                    <a:lnTo>
                      <a:pt x="51" y="62"/>
                    </a:lnTo>
                    <a:lnTo>
                      <a:pt x="77" y="88"/>
                    </a:lnTo>
                    <a:lnTo>
                      <a:pt x="110" y="72"/>
                    </a:lnTo>
                    <a:lnTo>
                      <a:pt x="123" y="49"/>
                    </a:lnTo>
                    <a:lnTo>
                      <a:pt x="123" y="31"/>
                    </a:lnTo>
                    <a:lnTo>
                      <a:pt x="141" y="62"/>
                    </a:lnTo>
                    <a:lnTo>
                      <a:pt x="123" y="113"/>
                    </a:lnTo>
                    <a:lnTo>
                      <a:pt x="77" y="141"/>
                    </a:lnTo>
                    <a:lnTo>
                      <a:pt x="18" y="106"/>
                    </a:lnTo>
                    <a:lnTo>
                      <a:pt x="0" y="49"/>
                    </a:lnTo>
                    <a:lnTo>
                      <a:pt x="42" y="7"/>
                    </a:lnTo>
                    <a:lnTo>
                      <a:pt x="66" y="0"/>
                    </a:lnTo>
                    <a:lnTo>
                      <a:pt x="10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4624200" y="5296680"/>
                <a:ext cx="21600" cy="53280"/>
              </a:xfrm>
              <a:custGeom>
                <a:avLst/>
                <a:gdLst/>
                <a:ahLst/>
                <a:rect l="l" t="t" r="r" b="b"/>
                <a:pathLst>
                  <a:path w="265" h="505">
                    <a:moveTo>
                      <a:pt x="215" y="0"/>
                    </a:moveTo>
                    <a:lnTo>
                      <a:pt x="215" y="71"/>
                    </a:lnTo>
                    <a:lnTo>
                      <a:pt x="0" y="193"/>
                    </a:lnTo>
                    <a:lnTo>
                      <a:pt x="131" y="152"/>
                    </a:lnTo>
                    <a:lnTo>
                      <a:pt x="131" y="277"/>
                    </a:lnTo>
                    <a:lnTo>
                      <a:pt x="57" y="258"/>
                    </a:lnTo>
                    <a:lnTo>
                      <a:pt x="239" y="431"/>
                    </a:lnTo>
                    <a:lnTo>
                      <a:pt x="265" y="505"/>
                    </a:lnTo>
                    <a:lnTo>
                      <a:pt x="255" y="405"/>
                    </a:lnTo>
                    <a:lnTo>
                      <a:pt x="180" y="308"/>
                    </a:lnTo>
                    <a:lnTo>
                      <a:pt x="180" y="143"/>
                    </a:lnTo>
                    <a:lnTo>
                      <a:pt x="233" y="92"/>
                    </a:lnTo>
                    <a:lnTo>
                      <a:pt x="233" y="51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4599000" y="5355000"/>
                <a:ext cx="75960" cy="56880"/>
              </a:xfrm>
              <a:custGeom>
                <a:avLst/>
                <a:gdLst/>
                <a:ahLst/>
                <a:rect l="l" t="t" r="r" b="b"/>
                <a:pathLst>
                  <a:path w="918" h="541">
                    <a:moveTo>
                      <a:pt x="529" y="181"/>
                    </a:moveTo>
                    <a:lnTo>
                      <a:pt x="520" y="211"/>
                    </a:lnTo>
                    <a:lnTo>
                      <a:pt x="470" y="211"/>
                    </a:lnTo>
                    <a:lnTo>
                      <a:pt x="379" y="55"/>
                    </a:lnTo>
                    <a:lnTo>
                      <a:pt x="217" y="0"/>
                    </a:lnTo>
                    <a:lnTo>
                      <a:pt x="35" y="55"/>
                    </a:lnTo>
                    <a:lnTo>
                      <a:pt x="0" y="123"/>
                    </a:lnTo>
                    <a:lnTo>
                      <a:pt x="65" y="186"/>
                    </a:lnTo>
                    <a:lnTo>
                      <a:pt x="123" y="294"/>
                    </a:lnTo>
                    <a:lnTo>
                      <a:pt x="245" y="172"/>
                    </a:lnTo>
                    <a:lnTo>
                      <a:pt x="373" y="195"/>
                    </a:lnTo>
                    <a:lnTo>
                      <a:pt x="553" y="283"/>
                    </a:lnTo>
                    <a:lnTo>
                      <a:pt x="613" y="319"/>
                    </a:lnTo>
                    <a:lnTo>
                      <a:pt x="619" y="411"/>
                    </a:lnTo>
                    <a:lnTo>
                      <a:pt x="529" y="474"/>
                    </a:lnTo>
                    <a:lnTo>
                      <a:pt x="619" y="541"/>
                    </a:lnTo>
                    <a:lnTo>
                      <a:pt x="918" y="541"/>
                    </a:lnTo>
                    <a:lnTo>
                      <a:pt x="793" y="424"/>
                    </a:lnTo>
                    <a:lnTo>
                      <a:pt x="727" y="424"/>
                    </a:lnTo>
                    <a:lnTo>
                      <a:pt x="660" y="253"/>
                    </a:lnTo>
                    <a:lnTo>
                      <a:pt x="577" y="204"/>
                    </a:lnTo>
                    <a:lnTo>
                      <a:pt x="529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4536720" y="5381280"/>
                <a:ext cx="108000" cy="48960"/>
              </a:xfrm>
              <a:custGeom>
                <a:avLst/>
                <a:gdLst/>
                <a:ahLst/>
                <a:rect l="l" t="t" r="r" b="b"/>
                <a:pathLst>
                  <a:path w="1305" h="464">
                    <a:moveTo>
                      <a:pt x="1248" y="185"/>
                    </a:moveTo>
                    <a:lnTo>
                      <a:pt x="1184" y="130"/>
                    </a:lnTo>
                    <a:lnTo>
                      <a:pt x="1149" y="53"/>
                    </a:lnTo>
                    <a:lnTo>
                      <a:pt x="1066" y="71"/>
                    </a:lnTo>
                    <a:lnTo>
                      <a:pt x="1033" y="242"/>
                    </a:lnTo>
                    <a:lnTo>
                      <a:pt x="1089" y="293"/>
                    </a:lnTo>
                    <a:lnTo>
                      <a:pt x="944" y="293"/>
                    </a:lnTo>
                    <a:lnTo>
                      <a:pt x="826" y="341"/>
                    </a:lnTo>
                    <a:lnTo>
                      <a:pt x="497" y="433"/>
                    </a:lnTo>
                    <a:lnTo>
                      <a:pt x="308" y="464"/>
                    </a:lnTo>
                    <a:lnTo>
                      <a:pt x="149" y="464"/>
                    </a:lnTo>
                    <a:lnTo>
                      <a:pt x="50" y="433"/>
                    </a:lnTo>
                    <a:lnTo>
                      <a:pt x="0" y="350"/>
                    </a:lnTo>
                    <a:lnTo>
                      <a:pt x="50" y="350"/>
                    </a:lnTo>
                    <a:lnTo>
                      <a:pt x="200" y="415"/>
                    </a:lnTo>
                    <a:lnTo>
                      <a:pt x="349" y="424"/>
                    </a:lnTo>
                    <a:lnTo>
                      <a:pt x="547" y="392"/>
                    </a:lnTo>
                    <a:lnTo>
                      <a:pt x="769" y="311"/>
                    </a:lnTo>
                    <a:lnTo>
                      <a:pt x="826" y="286"/>
                    </a:lnTo>
                    <a:lnTo>
                      <a:pt x="769" y="176"/>
                    </a:lnTo>
                    <a:lnTo>
                      <a:pt x="695" y="110"/>
                    </a:lnTo>
                    <a:lnTo>
                      <a:pt x="605" y="14"/>
                    </a:lnTo>
                    <a:lnTo>
                      <a:pt x="769" y="46"/>
                    </a:lnTo>
                    <a:lnTo>
                      <a:pt x="810" y="110"/>
                    </a:lnTo>
                    <a:lnTo>
                      <a:pt x="870" y="64"/>
                    </a:lnTo>
                    <a:lnTo>
                      <a:pt x="870" y="130"/>
                    </a:lnTo>
                    <a:lnTo>
                      <a:pt x="1033" y="0"/>
                    </a:lnTo>
                    <a:lnTo>
                      <a:pt x="1257" y="46"/>
                    </a:lnTo>
                    <a:lnTo>
                      <a:pt x="1305" y="145"/>
                    </a:lnTo>
                    <a:lnTo>
                      <a:pt x="1248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4610520" y="5413680"/>
                <a:ext cx="2484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4555440" y="5064480"/>
                <a:ext cx="4320" cy="13320"/>
              </a:xfrm>
              <a:custGeom>
                <a:avLst/>
                <a:gdLst/>
                <a:ahLst/>
                <a:rect l="l" t="t" r="r" b="b"/>
                <a:pathLst>
                  <a:path w="50" h="123">
                    <a:moveTo>
                      <a:pt x="32" y="0"/>
                    </a:moveTo>
                    <a:lnTo>
                      <a:pt x="50" y="42"/>
                    </a:lnTo>
                    <a:lnTo>
                      <a:pt x="50" y="83"/>
                    </a:lnTo>
                    <a:lnTo>
                      <a:pt x="32" y="118"/>
                    </a:lnTo>
                    <a:lnTo>
                      <a:pt x="14" y="123"/>
                    </a:lnTo>
                    <a:lnTo>
                      <a:pt x="0" y="123"/>
                    </a:lnTo>
                    <a:lnTo>
                      <a:pt x="0" y="111"/>
                    </a:lnTo>
                    <a:lnTo>
                      <a:pt x="19" y="111"/>
                    </a:lnTo>
                    <a:lnTo>
                      <a:pt x="32" y="83"/>
                    </a:lnTo>
                    <a:lnTo>
                      <a:pt x="39" y="48"/>
                    </a:lnTo>
                    <a:lnTo>
                      <a:pt x="19" y="1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4490280" y="5031360"/>
                <a:ext cx="25560" cy="15120"/>
              </a:xfrm>
              <a:custGeom>
                <a:avLst/>
                <a:gdLst/>
                <a:ahLst/>
                <a:rect l="l" t="t" r="r" b="b"/>
                <a:pathLst>
                  <a:path w="311" h="142">
                    <a:moveTo>
                      <a:pt x="0" y="49"/>
                    </a:moveTo>
                    <a:lnTo>
                      <a:pt x="48" y="39"/>
                    </a:lnTo>
                    <a:lnTo>
                      <a:pt x="14" y="26"/>
                    </a:lnTo>
                    <a:lnTo>
                      <a:pt x="55" y="0"/>
                    </a:lnTo>
                    <a:lnTo>
                      <a:pt x="117" y="1"/>
                    </a:lnTo>
                    <a:lnTo>
                      <a:pt x="179" y="1"/>
                    </a:lnTo>
                    <a:lnTo>
                      <a:pt x="255" y="37"/>
                    </a:lnTo>
                    <a:lnTo>
                      <a:pt x="218" y="37"/>
                    </a:lnTo>
                    <a:lnTo>
                      <a:pt x="267" y="83"/>
                    </a:lnTo>
                    <a:lnTo>
                      <a:pt x="278" y="54"/>
                    </a:lnTo>
                    <a:lnTo>
                      <a:pt x="311" y="107"/>
                    </a:lnTo>
                    <a:lnTo>
                      <a:pt x="273" y="142"/>
                    </a:lnTo>
                    <a:lnTo>
                      <a:pt x="276" y="109"/>
                    </a:lnTo>
                    <a:lnTo>
                      <a:pt x="223" y="122"/>
                    </a:lnTo>
                    <a:lnTo>
                      <a:pt x="188" y="120"/>
                    </a:lnTo>
                    <a:lnTo>
                      <a:pt x="240" y="109"/>
                    </a:lnTo>
                    <a:lnTo>
                      <a:pt x="253" y="92"/>
                    </a:lnTo>
                    <a:lnTo>
                      <a:pt x="235" y="61"/>
                    </a:lnTo>
                    <a:lnTo>
                      <a:pt x="191" y="39"/>
                    </a:lnTo>
                    <a:lnTo>
                      <a:pt x="156" y="37"/>
                    </a:lnTo>
                    <a:lnTo>
                      <a:pt x="101" y="41"/>
                    </a:lnTo>
                    <a:lnTo>
                      <a:pt x="60" y="46"/>
                    </a:lnTo>
                    <a:lnTo>
                      <a:pt x="95" y="81"/>
                    </a:lnTo>
                    <a:lnTo>
                      <a:pt x="140" y="109"/>
                    </a:lnTo>
                    <a:lnTo>
                      <a:pt x="122" y="122"/>
                    </a:lnTo>
                    <a:lnTo>
                      <a:pt x="106" y="104"/>
                    </a:lnTo>
                    <a:lnTo>
                      <a:pt x="71" y="109"/>
                    </a:lnTo>
                    <a:lnTo>
                      <a:pt x="66" y="81"/>
                    </a:lnTo>
                    <a:lnTo>
                      <a:pt x="36" y="79"/>
                    </a:lnTo>
                    <a:lnTo>
                      <a:pt x="43" y="61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4532760" y="5034600"/>
                <a:ext cx="21600" cy="12600"/>
              </a:xfrm>
              <a:custGeom>
                <a:avLst/>
                <a:gdLst/>
                <a:ahLst/>
                <a:rect l="l" t="t" r="r" b="b"/>
                <a:pathLst>
                  <a:path w="263" h="121">
                    <a:moveTo>
                      <a:pt x="0" y="75"/>
                    </a:moveTo>
                    <a:lnTo>
                      <a:pt x="26" y="31"/>
                    </a:lnTo>
                    <a:lnTo>
                      <a:pt x="92" y="0"/>
                    </a:lnTo>
                    <a:lnTo>
                      <a:pt x="127" y="0"/>
                    </a:lnTo>
                    <a:lnTo>
                      <a:pt x="109" y="24"/>
                    </a:lnTo>
                    <a:lnTo>
                      <a:pt x="145" y="24"/>
                    </a:lnTo>
                    <a:lnTo>
                      <a:pt x="151" y="5"/>
                    </a:lnTo>
                    <a:lnTo>
                      <a:pt x="175" y="17"/>
                    </a:lnTo>
                    <a:lnTo>
                      <a:pt x="208" y="12"/>
                    </a:lnTo>
                    <a:lnTo>
                      <a:pt x="217" y="29"/>
                    </a:lnTo>
                    <a:lnTo>
                      <a:pt x="259" y="24"/>
                    </a:lnTo>
                    <a:lnTo>
                      <a:pt x="226" y="58"/>
                    </a:lnTo>
                    <a:lnTo>
                      <a:pt x="263" y="77"/>
                    </a:lnTo>
                    <a:lnTo>
                      <a:pt x="208" y="86"/>
                    </a:lnTo>
                    <a:lnTo>
                      <a:pt x="206" y="104"/>
                    </a:lnTo>
                    <a:lnTo>
                      <a:pt x="180" y="97"/>
                    </a:lnTo>
                    <a:lnTo>
                      <a:pt x="151" y="121"/>
                    </a:lnTo>
                    <a:lnTo>
                      <a:pt x="134" y="110"/>
                    </a:lnTo>
                    <a:lnTo>
                      <a:pt x="97" y="110"/>
                    </a:lnTo>
                    <a:lnTo>
                      <a:pt x="151" y="97"/>
                    </a:lnTo>
                    <a:lnTo>
                      <a:pt x="184" y="77"/>
                    </a:lnTo>
                    <a:lnTo>
                      <a:pt x="206" y="68"/>
                    </a:lnTo>
                    <a:lnTo>
                      <a:pt x="169" y="51"/>
                    </a:lnTo>
                    <a:lnTo>
                      <a:pt x="134" y="38"/>
                    </a:lnTo>
                    <a:lnTo>
                      <a:pt x="85" y="31"/>
                    </a:lnTo>
                    <a:lnTo>
                      <a:pt x="37" y="58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4534920" y="50439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51" h="17">
                    <a:moveTo>
                      <a:pt x="14" y="0"/>
                    </a:moveTo>
                    <a:lnTo>
                      <a:pt x="51" y="17"/>
                    </a:lnTo>
                    <a:lnTo>
                      <a:pt x="0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4492440" y="5019480"/>
                <a:ext cx="25560" cy="15120"/>
              </a:xfrm>
              <a:custGeom>
                <a:avLst/>
                <a:gdLst/>
                <a:ahLst/>
                <a:rect l="l" t="t" r="r" b="b"/>
                <a:pathLst>
                  <a:path w="310" h="140">
                    <a:moveTo>
                      <a:pt x="0" y="28"/>
                    </a:moveTo>
                    <a:lnTo>
                      <a:pt x="93" y="0"/>
                    </a:lnTo>
                    <a:lnTo>
                      <a:pt x="238" y="57"/>
                    </a:lnTo>
                    <a:lnTo>
                      <a:pt x="310" y="140"/>
                    </a:lnTo>
                    <a:lnTo>
                      <a:pt x="244" y="74"/>
                    </a:lnTo>
                    <a:lnTo>
                      <a:pt x="145" y="28"/>
                    </a:lnTo>
                    <a:lnTo>
                      <a:pt x="81" y="21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4534920" y="5023800"/>
                <a:ext cx="19800" cy="6480"/>
              </a:xfrm>
              <a:custGeom>
                <a:avLst/>
                <a:gdLst/>
                <a:ahLst/>
                <a:rect l="l" t="t" r="r" b="b"/>
                <a:pathLst>
                  <a:path w="245" h="64">
                    <a:moveTo>
                      <a:pt x="0" y="64"/>
                    </a:moveTo>
                    <a:lnTo>
                      <a:pt x="86" y="31"/>
                    </a:lnTo>
                    <a:lnTo>
                      <a:pt x="157" y="18"/>
                    </a:lnTo>
                    <a:lnTo>
                      <a:pt x="218" y="18"/>
                    </a:lnTo>
                    <a:lnTo>
                      <a:pt x="245" y="35"/>
                    </a:lnTo>
                    <a:lnTo>
                      <a:pt x="229" y="0"/>
                    </a:lnTo>
                    <a:lnTo>
                      <a:pt x="168" y="0"/>
                    </a:lnTo>
                    <a:lnTo>
                      <a:pt x="69" y="18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4512240" y="5071320"/>
                <a:ext cx="16200" cy="10800"/>
              </a:xfrm>
              <a:custGeom>
                <a:avLst/>
                <a:gdLst/>
                <a:ahLst/>
                <a:rect l="l" t="t" r="r" b="b"/>
                <a:pathLst>
                  <a:path w="207" h="103">
                    <a:moveTo>
                      <a:pt x="207" y="38"/>
                    </a:moveTo>
                    <a:lnTo>
                      <a:pt x="152" y="73"/>
                    </a:lnTo>
                    <a:lnTo>
                      <a:pt x="130" y="66"/>
                    </a:lnTo>
                    <a:lnTo>
                      <a:pt x="101" y="38"/>
                    </a:lnTo>
                    <a:lnTo>
                      <a:pt x="58" y="29"/>
                    </a:lnTo>
                    <a:lnTo>
                      <a:pt x="11" y="22"/>
                    </a:lnTo>
                    <a:lnTo>
                      <a:pt x="11" y="0"/>
                    </a:lnTo>
                    <a:lnTo>
                      <a:pt x="0" y="22"/>
                    </a:lnTo>
                    <a:lnTo>
                      <a:pt x="11" y="38"/>
                    </a:lnTo>
                    <a:lnTo>
                      <a:pt x="67" y="57"/>
                    </a:lnTo>
                    <a:lnTo>
                      <a:pt x="125" y="103"/>
                    </a:lnTo>
                    <a:lnTo>
                      <a:pt x="148" y="103"/>
                    </a:lnTo>
                    <a:lnTo>
                      <a:pt x="207" y="66"/>
                    </a:lnTo>
                    <a:lnTo>
                      <a:pt x="20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4528080" y="5032080"/>
                <a:ext cx="4320" cy="18360"/>
              </a:xfrm>
              <a:custGeom>
                <a:avLst/>
                <a:gdLst/>
                <a:ahLst/>
                <a:rect l="l" t="t" r="r" b="b"/>
                <a:pathLst>
                  <a:path w="57" h="172">
                    <a:moveTo>
                      <a:pt x="57" y="0"/>
                    </a:moveTo>
                    <a:lnTo>
                      <a:pt x="15" y="51"/>
                    </a:lnTo>
                    <a:lnTo>
                      <a:pt x="0" y="106"/>
                    </a:lnTo>
                    <a:lnTo>
                      <a:pt x="4" y="141"/>
                    </a:lnTo>
                    <a:lnTo>
                      <a:pt x="33" y="172"/>
                    </a:lnTo>
                    <a:lnTo>
                      <a:pt x="15" y="134"/>
                    </a:lnTo>
                    <a:lnTo>
                      <a:pt x="15" y="95"/>
                    </a:lnTo>
                    <a:lnTo>
                      <a:pt x="28" y="49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4500360" y="50346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1" h="74">
                    <a:moveTo>
                      <a:pt x="0" y="6"/>
                    </a:moveTo>
                    <a:lnTo>
                      <a:pt x="6" y="57"/>
                    </a:lnTo>
                    <a:lnTo>
                      <a:pt x="30" y="74"/>
                    </a:lnTo>
                    <a:lnTo>
                      <a:pt x="57" y="74"/>
                    </a:lnTo>
                    <a:lnTo>
                      <a:pt x="72" y="39"/>
                    </a:lnTo>
                    <a:lnTo>
                      <a:pt x="81" y="17"/>
                    </a:lnTo>
                    <a:lnTo>
                      <a:pt x="57" y="32"/>
                    </a:lnTo>
                    <a:lnTo>
                      <a:pt x="37" y="50"/>
                    </a:lnTo>
                    <a:lnTo>
                      <a:pt x="30" y="39"/>
                    </a:lnTo>
                    <a:lnTo>
                      <a:pt x="3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4537440" y="5038200"/>
                <a:ext cx="7200" cy="6480"/>
              </a:xfrm>
              <a:custGeom>
                <a:avLst/>
                <a:gdLst/>
                <a:ahLst/>
                <a:rect l="l" t="t" r="r" b="b"/>
                <a:pathLst>
                  <a:path w="92" h="64">
                    <a:moveTo>
                      <a:pt x="0" y="12"/>
                    </a:moveTo>
                    <a:lnTo>
                      <a:pt x="5" y="64"/>
                    </a:lnTo>
                    <a:lnTo>
                      <a:pt x="64" y="64"/>
                    </a:lnTo>
                    <a:lnTo>
                      <a:pt x="89" y="35"/>
                    </a:lnTo>
                    <a:lnTo>
                      <a:pt x="92" y="0"/>
                    </a:lnTo>
                    <a:lnTo>
                      <a:pt x="55" y="0"/>
                    </a:lnTo>
                    <a:lnTo>
                      <a:pt x="64" y="31"/>
                    </a:lnTo>
                    <a:lnTo>
                      <a:pt x="41" y="42"/>
                    </a:lnTo>
                    <a:lnTo>
                      <a:pt x="27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4506120" y="5088960"/>
                <a:ext cx="28440" cy="3240"/>
              </a:xfrm>
              <a:custGeom>
                <a:avLst/>
                <a:gdLst/>
                <a:ahLst/>
                <a:rect l="l" t="t" r="r" b="b"/>
                <a:pathLst>
                  <a:path w="350" h="31">
                    <a:moveTo>
                      <a:pt x="0" y="5"/>
                    </a:moveTo>
                    <a:lnTo>
                      <a:pt x="111" y="0"/>
                    </a:lnTo>
                    <a:lnTo>
                      <a:pt x="198" y="14"/>
                    </a:lnTo>
                    <a:lnTo>
                      <a:pt x="251" y="5"/>
                    </a:lnTo>
                    <a:lnTo>
                      <a:pt x="350" y="14"/>
                    </a:lnTo>
                    <a:lnTo>
                      <a:pt x="276" y="24"/>
                    </a:lnTo>
                    <a:lnTo>
                      <a:pt x="198" y="31"/>
                    </a:lnTo>
                    <a:lnTo>
                      <a:pt x="46" y="1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4511520" y="5094720"/>
                <a:ext cx="19080" cy="4320"/>
              </a:xfrm>
              <a:custGeom>
                <a:avLst/>
                <a:gdLst/>
                <a:ahLst/>
                <a:rect l="l" t="t" r="r" b="b"/>
                <a:pathLst>
                  <a:path w="233" h="42">
                    <a:moveTo>
                      <a:pt x="0" y="0"/>
                    </a:moveTo>
                    <a:lnTo>
                      <a:pt x="60" y="35"/>
                    </a:lnTo>
                    <a:lnTo>
                      <a:pt x="159" y="42"/>
                    </a:lnTo>
                    <a:lnTo>
                      <a:pt x="233" y="7"/>
                    </a:lnTo>
                    <a:lnTo>
                      <a:pt x="164" y="24"/>
                    </a:lnTo>
                    <a:lnTo>
                      <a:pt x="7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4804560" y="5108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595" h="512">
                    <a:moveTo>
                      <a:pt x="97" y="215"/>
                    </a:moveTo>
                    <a:lnTo>
                      <a:pt x="120" y="122"/>
                    </a:lnTo>
                    <a:lnTo>
                      <a:pt x="305" y="0"/>
                    </a:lnTo>
                    <a:lnTo>
                      <a:pt x="498" y="68"/>
                    </a:lnTo>
                    <a:lnTo>
                      <a:pt x="395" y="68"/>
                    </a:lnTo>
                    <a:lnTo>
                      <a:pt x="514" y="209"/>
                    </a:lnTo>
                    <a:lnTo>
                      <a:pt x="569" y="191"/>
                    </a:lnTo>
                    <a:lnTo>
                      <a:pt x="525" y="96"/>
                    </a:lnTo>
                    <a:lnTo>
                      <a:pt x="595" y="209"/>
                    </a:lnTo>
                    <a:lnTo>
                      <a:pt x="551" y="261"/>
                    </a:lnTo>
                    <a:lnTo>
                      <a:pt x="595" y="503"/>
                    </a:lnTo>
                    <a:lnTo>
                      <a:pt x="533" y="512"/>
                    </a:lnTo>
                    <a:lnTo>
                      <a:pt x="464" y="494"/>
                    </a:lnTo>
                    <a:lnTo>
                      <a:pt x="542" y="486"/>
                    </a:lnTo>
                    <a:lnTo>
                      <a:pt x="475" y="329"/>
                    </a:lnTo>
                    <a:lnTo>
                      <a:pt x="351" y="200"/>
                    </a:lnTo>
                    <a:lnTo>
                      <a:pt x="489" y="311"/>
                    </a:lnTo>
                    <a:lnTo>
                      <a:pt x="542" y="424"/>
                    </a:lnTo>
                    <a:lnTo>
                      <a:pt x="510" y="244"/>
                    </a:lnTo>
                    <a:lnTo>
                      <a:pt x="305" y="41"/>
                    </a:lnTo>
                    <a:lnTo>
                      <a:pt x="261" y="122"/>
                    </a:lnTo>
                    <a:lnTo>
                      <a:pt x="305" y="173"/>
                    </a:lnTo>
                    <a:lnTo>
                      <a:pt x="228" y="173"/>
                    </a:lnTo>
                    <a:lnTo>
                      <a:pt x="323" y="306"/>
                    </a:lnTo>
                    <a:lnTo>
                      <a:pt x="191" y="209"/>
                    </a:lnTo>
                    <a:lnTo>
                      <a:pt x="0" y="373"/>
                    </a:lnTo>
                    <a:lnTo>
                      <a:pt x="17" y="253"/>
                    </a:lnTo>
                    <a:lnTo>
                      <a:pt x="97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4812480" y="5144040"/>
                <a:ext cx="34920" cy="55800"/>
              </a:xfrm>
              <a:custGeom>
                <a:avLst/>
                <a:gdLst/>
                <a:ahLst/>
                <a:rect l="l" t="t" r="r" b="b"/>
                <a:pathLst>
                  <a:path w="417" h="531">
                    <a:moveTo>
                      <a:pt x="351" y="198"/>
                    </a:moveTo>
                    <a:lnTo>
                      <a:pt x="307" y="183"/>
                    </a:lnTo>
                    <a:lnTo>
                      <a:pt x="254" y="114"/>
                    </a:lnTo>
                    <a:lnTo>
                      <a:pt x="208" y="114"/>
                    </a:lnTo>
                    <a:lnTo>
                      <a:pt x="146" y="62"/>
                    </a:lnTo>
                    <a:lnTo>
                      <a:pt x="146" y="104"/>
                    </a:lnTo>
                    <a:lnTo>
                      <a:pt x="94" y="114"/>
                    </a:lnTo>
                    <a:lnTo>
                      <a:pt x="44" y="53"/>
                    </a:lnTo>
                    <a:lnTo>
                      <a:pt x="72" y="132"/>
                    </a:lnTo>
                    <a:lnTo>
                      <a:pt x="0" y="132"/>
                    </a:lnTo>
                    <a:lnTo>
                      <a:pt x="87" y="189"/>
                    </a:lnTo>
                    <a:lnTo>
                      <a:pt x="78" y="270"/>
                    </a:lnTo>
                    <a:lnTo>
                      <a:pt x="131" y="383"/>
                    </a:lnTo>
                    <a:lnTo>
                      <a:pt x="131" y="305"/>
                    </a:lnTo>
                    <a:lnTo>
                      <a:pt x="164" y="279"/>
                    </a:lnTo>
                    <a:lnTo>
                      <a:pt x="182" y="321"/>
                    </a:lnTo>
                    <a:lnTo>
                      <a:pt x="219" y="288"/>
                    </a:lnTo>
                    <a:lnTo>
                      <a:pt x="272" y="288"/>
                    </a:lnTo>
                    <a:lnTo>
                      <a:pt x="340" y="347"/>
                    </a:lnTo>
                    <a:lnTo>
                      <a:pt x="332" y="436"/>
                    </a:lnTo>
                    <a:lnTo>
                      <a:pt x="291" y="531"/>
                    </a:lnTo>
                    <a:lnTo>
                      <a:pt x="383" y="383"/>
                    </a:lnTo>
                    <a:lnTo>
                      <a:pt x="413" y="288"/>
                    </a:lnTo>
                    <a:lnTo>
                      <a:pt x="417" y="156"/>
                    </a:lnTo>
                    <a:lnTo>
                      <a:pt x="383" y="156"/>
                    </a:lnTo>
                    <a:lnTo>
                      <a:pt x="323" y="42"/>
                    </a:lnTo>
                    <a:lnTo>
                      <a:pt x="261" y="0"/>
                    </a:lnTo>
                    <a:lnTo>
                      <a:pt x="314" y="77"/>
                    </a:lnTo>
                    <a:lnTo>
                      <a:pt x="351" y="148"/>
                    </a:lnTo>
                    <a:lnTo>
                      <a:pt x="351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4770000" y="5151600"/>
                <a:ext cx="141840" cy="259200"/>
              </a:xfrm>
              <a:custGeom>
                <a:avLst/>
                <a:gdLst/>
                <a:ahLst/>
                <a:rect l="l" t="t" r="r" b="b"/>
                <a:pathLst>
                  <a:path w="1712" h="2448">
                    <a:moveTo>
                      <a:pt x="420" y="0"/>
                    </a:moveTo>
                    <a:lnTo>
                      <a:pt x="499" y="424"/>
                    </a:lnTo>
                    <a:lnTo>
                      <a:pt x="522" y="451"/>
                    </a:lnTo>
                    <a:lnTo>
                      <a:pt x="561" y="468"/>
                    </a:lnTo>
                    <a:lnTo>
                      <a:pt x="534" y="495"/>
                    </a:lnTo>
                    <a:lnTo>
                      <a:pt x="483" y="486"/>
                    </a:lnTo>
                    <a:lnTo>
                      <a:pt x="475" y="550"/>
                    </a:lnTo>
                    <a:lnTo>
                      <a:pt x="499" y="599"/>
                    </a:lnTo>
                    <a:lnTo>
                      <a:pt x="540" y="615"/>
                    </a:lnTo>
                    <a:lnTo>
                      <a:pt x="589" y="606"/>
                    </a:lnTo>
                    <a:lnTo>
                      <a:pt x="611" y="479"/>
                    </a:lnTo>
                    <a:lnTo>
                      <a:pt x="663" y="479"/>
                    </a:lnTo>
                    <a:lnTo>
                      <a:pt x="711" y="451"/>
                    </a:lnTo>
                    <a:lnTo>
                      <a:pt x="743" y="398"/>
                    </a:lnTo>
                    <a:lnTo>
                      <a:pt x="743" y="461"/>
                    </a:lnTo>
                    <a:lnTo>
                      <a:pt x="771" y="451"/>
                    </a:lnTo>
                    <a:lnTo>
                      <a:pt x="824" y="424"/>
                    </a:lnTo>
                    <a:lnTo>
                      <a:pt x="798" y="461"/>
                    </a:lnTo>
                    <a:lnTo>
                      <a:pt x="743" y="530"/>
                    </a:lnTo>
                    <a:lnTo>
                      <a:pt x="699" y="650"/>
                    </a:lnTo>
                    <a:lnTo>
                      <a:pt x="909" y="415"/>
                    </a:lnTo>
                    <a:lnTo>
                      <a:pt x="945" y="444"/>
                    </a:lnTo>
                    <a:lnTo>
                      <a:pt x="815" y="798"/>
                    </a:lnTo>
                    <a:lnTo>
                      <a:pt x="824" y="1260"/>
                    </a:lnTo>
                    <a:lnTo>
                      <a:pt x="1172" y="1295"/>
                    </a:lnTo>
                    <a:lnTo>
                      <a:pt x="1331" y="1371"/>
                    </a:lnTo>
                    <a:lnTo>
                      <a:pt x="1417" y="1371"/>
                    </a:lnTo>
                    <a:lnTo>
                      <a:pt x="1460" y="1442"/>
                    </a:lnTo>
                    <a:lnTo>
                      <a:pt x="1172" y="1332"/>
                    </a:lnTo>
                    <a:lnTo>
                      <a:pt x="953" y="1314"/>
                    </a:lnTo>
                    <a:lnTo>
                      <a:pt x="1059" y="1380"/>
                    </a:lnTo>
                    <a:lnTo>
                      <a:pt x="953" y="1380"/>
                    </a:lnTo>
                    <a:lnTo>
                      <a:pt x="798" y="1362"/>
                    </a:lnTo>
                    <a:lnTo>
                      <a:pt x="909" y="1459"/>
                    </a:lnTo>
                    <a:lnTo>
                      <a:pt x="1296" y="1523"/>
                    </a:lnTo>
                    <a:lnTo>
                      <a:pt x="971" y="1493"/>
                    </a:lnTo>
                    <a:lnTo>
                      <a:pt x="1172" y="1611"/>
                    </a:lnTo>
                    <a:lnTo>
                      <a:pt x="1147" y="1636"/>
                    </a:lnTo>
                    <a:lnTo>
                      <a:pt x="875" y="1503"/>
                    </a:lnTo>
                    <a:lnTo>
                      <a:pt x="918" y="1636"/>
                    </a:lnTo>
                    <a:lnTo>
                      <a:pt x="1349" y="1747"/>
                    </a:lnTo>
                    <a:lnTo>
                      <a:pt x="1626" y="1921"/>
                    </a:lnTo>
                    <a:lnTo>
                      <a:pt x="1349" y="1867"/>
                    </a:lnTo>
                    <a:lnTo>
                      <a:pt x="1191" y="1765"/>
                    </a:lnTo>
                    <a:lnTo>
                      <a:pt x="953" y="1701"/>
                    </a:lnTo>
                    <a:lnTo>
                      <a:pt x="1068" y="1826"/>
                    </a:lnTo>
                    <a:lnTo>
                      <a:pt x="1712" y="2049"/>
                    </a:lnTo>
                    <a:lnTo>
                      <a:pt x="1068" y="1867"/>
                    </a:lnTo>
                    <a:lnTo>
                      <a:pt x="884" y="1736"/>
                    </a:lnTo>
                    <a:lnTo>
                      <a:pt x="895" y="1809"/>
                    </a:lnTo>
                    <a:lnTo>
                      <a:pt x="1068" y="1973"/>
                    </a:lnTo>
                    <a:lnTo>
                      <a:pt x="1321" y="2024"/>
                    </a:lnTo>
                    <a:lnTo>
                      <a:pt x="1460" y="2121"/>
                    </a:lnTo>
                    <a:lnTo>
                      <a:pt x="1259" y="2097"/>
                    </a:lnTo>
                    <a:lnTo>
                      <a:pt x="1008" y="1973"/>
                    </a:lnTo>
                    <a:lnTo>
                      <a:pt x="934" y="1982"/>
                    </a:lnTo>
                    <a:lnTo>
                      <a:pt x="971" y="2112"/>
                    </a:lnTo>
                    <a:lnTo>
                      <a:pt x="1033" y="2156"/>
                    </a:lnTo>
                    <a:lnTo>
                      <a:pt x="1349" y="2171"/>
                    </a:lnTo>
                    <a:lnTo>
                      <a:pt x="1024" y="2330"/>
                    </a:lnTo>
                    <a:lnTo>
                      <a:pt x="980" y="2314"/>
                    </a:lnTo>
                    <a:lnTo>
                      <a:pt x="909" y="2084"/>
                    </a:lnTo>
                    <a:lnTo>
                      <a:pt x="831" y="2339"/>
                    </a:lnTo>
                    <a:lnTo>
                      <a:pt x="849" y="2448"/>
                    </a:lnTo>
                    <a:lnTo>
                      <a:pt x="760" y="2354"/>
                    </a:lnTo>
                    <a:lnTo>
                      <a:pt x="895" y="2013"/>
                    </a:lnTo>
                    <a:lnTo>
                      <a:pt x="884" y="1921"/>
                    </a:lnTo>
                    <a:lnTo>
                      <a:pt x="824" y="1765"/>
                    </a:lnTo>
                    <a:lnTo>
                      <a:pt x="778" y="1563"/>
                    </a:lnTo>
                    <a:lnTo>
                      <a:pt x="674" y="1304"/>
                    </a:lnTo>
                    <a:lnTo>
                      <a:pt x="554" y="1523"/>
                    </a:lnTo>
                    <a:lnTo>
                      <a:pt x="554" y="1747"/>
                    </a:lnTo>
                    <a:lnTo>
                      <a:pt x="316" y="2033"/>
                    </a:lnTo>
                    <a:lnTo>
                      <a:pt x="0" y="2148"/>
                    </a:lnTo>
                    <a:lnTo>
                      <a:pt x="37" y="1973"/>
                    </a:lnTo>
                    <a:lnTo>
                      <a:pt x="217" y="1791"/>
                    </a:lnTo>
                    <a:lnTo>
                      <a:pt x="437" y="1685"/>
                    </a:lnTo>
                    <a:lnTo>
                      <a:pt x="534" y="1436"/>
                    </a:lnTo>
                    <a:lnTo>
                      <a:pt x="522" y="1314"/>
                    </a:lnTo>
                    <a:lnTo>
                      <a:pt x="611" y="1026"/>
                    </a:lnTo>
                    <a:lnTo>
                      <a:pt x="510" y="1000"/>
                    </a:lnTo>
                    <a:lnTo>
                      <a:pt x="420" y="938"/>
                    </a:lnTo>
                    <a:lnTo>
                      <a:pt x="522" y="650"/>
                    </a:lnTo>
                    <a:lnTo>
                      <a:pt x="475" y="627"/>
                    </a:lnTo>
                    <a:lnTo>
                      <a:pt x="448" y="541"/>
                    </a:lnTo>
                    <a:lnTo>
                      <a:pt x="448" y="433"/>
                    </a:lnTo>
                    <a:lnTo>
                      <a:pt x="420" y="53"/>
                    </a:lnTo>
                    <a:lnTo>
                      <a:pt x="4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4739040" y="5173920"/>
                <a:ext cx="56880" cy="184680"/>
              </a:xfrm>
              <a:custGeom>
                <a:avLst/>
                <a:gdLst/>
                <a:ahLst/>
                <a:rect l="l" t="t" r="r" b="b"/>
                <a:pathLst>
                  <a:path w="691" h="1748">
                    <a:moveTo>
                      <a:pt x="691" y="312"/>
                    </a:moveTo>
                    <a:lnTo>
                      <a:pt x="586" y="572"/>
                    </a:lnTo>
                    <a:lnTo>
                      <a:pt x="516" y="729"/>
                    </a:lnTo>
                    <a:lnTo>
                      <a:pt x="392" y="982"/>
                    </a:lnTo>
                    <a:lnTo>
                      <a:pt x="334" y="1017"/>
                    </a:lnTo>
                    <a:lnTo>
                      <a:pt x="351" y="1243"/>
                    </a:lnTo>
                    <a:lnTo>
                      <a:pt x="412" y="1527"/>
                    </a:lnTo>
                    <a:lnTo>
                      <a:pt x="472" y="1748"/>
                    </a:lnTo>
                    <a:lnTo>
                      <a:pt x="388" y="1485"/>
                    </a:lnTo>
                    <a:lnTo>
                      <a:pt x="334" y="1233"/>
                    </a:lnTo>
                    <a:lnTo>
                      <a:pt x="243" y="1171"/>
                    </a:lnTo>
                    <a:lnTo>
                      <a:pt x="254" y="1330"/>
                    </a:lnTo>
                    <a:lnTo>
                      <a:pt x="351" y="1591"/>
                    </a:lnTo>
                    <a:lnTo>
                      <a:pt x="239" y="1345"/>
                    </a:lnTo>
                    <a:lnTo>
                      <a:pt x="193" y="1153"/>
                    </a:lnTo>
                    <a:lnTo>
                      <a:pt x="87" y="1153"/>
                    </a:lnTo>
                    <a:lnTo>
                      <a:pt x="0" y="1227"/>
                    </a:lnTo>
                    <a:lnTo>
                      <a:pt x="87" y="1139"/>
                    </a:lnTo>
                    <a:lnTo>
                      <a:pt x="157" y="1112"/>
                    </a:lnTo>
                    <a:lnTo>
                      <a:pt x="219" y="895"/>
                    </a:lnTo>
                    <a:lnTo>
                      <a:pt x="219" y="782"/>
                    </a:lnTo>
                    <a:lnTo>
                      <a:pt x="175" y="721"/>
                    </a:lnTo>
                    <a:lnTo>
                      <a:pt x="175" y="644"/>
                    </a:lnTo>
                    <a:lnTo>
                      <a:pt x="279" y="235"/>
                    </a:lnTo>
                    <a:lnTo>
                      <a:pt x="388" y="0"/>
                    </a:lnTo>
                    <a:lnTo>
                      <a:pt x="307" y="341"/>
                    </a:lnTo>
                    <a:lnTo>
                      <a:pt x="219" y="685"/>
                    </a:lnTo>
                    <a:lnTo>
                      <a:pt x="307" y="798"/>
                    </a:lnTo>
                    <a:lnTo>
                      <a:pt x="366" y="914"/>
                    </a:lnTo>
                    <a:lnTo>
                      <a:pt x="606" y="462"/>
                    </a:lnTo>
                    <a:lnTo>
                      <a:pt x="691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4781160" y="5267160"/>
                <a:ext cx="6480" cy="45720"/>
              </a:xfrm>
              <a:custGeom>
                <a:avLst/>
                <a:gdLst/>
                <a:ahLst/>
                <a:rect l="l" t="t" r="r" b="b"/>
                <a:pathLst>
                  <a:path w="83" h="431">
                    <a:moveTo>
                      <a:pt x="0" y="0"/>
                    </a:moveTo>
                    <a:lnTo>
                      <a:pt x="51" y="106"/>
                    </a:lnTo>
                    <a:lnTo>
                      <a:pt x="51" y="297"/>
                    </a:lnTo>
                    <a:lnTo>
                      <a:pt x="83" y="385"/>
                    </a:lnTo>
                    <a:lnTo>
                      <a:pt x="42" y="431"/>
                    </a:lnTo>
                    <a:lnTo>
                      <a:pt x="24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4739040" y="5306760"/>
                <a:ext cx="34920" cy="72000"/>
              </a:xfrm>
              <a:custGeom>
                <a:avLst/>
                <a:gdLst/>
                <a:ahLst/>
                <a:rect l="l" t="t" r="r" b="b"/>
                <a:pathLst>
                  <a:path w="427" h="680">
                    <a:moveTo>
                      <a:pt x="0" y="0"/>
                    </a:moveTo>
                    <a:lnTo>
                      <a:pt x="175" y="532"/>
                    </a:lnTo>
                    <a:lnTo>
                      <a:pt x="307" y="543"/>
                    </a:lnTo>
                    <a:lnTo>
                      <a:pt x="427" y="629"/>
                    </a:lnTo>
                    <a:lnTo>
                      <a:pt x="366" y="680"/>
                    </a:lnTo>
                    <a:lnTo>
                      <a:pt x="175" y="611"/>
                    </a:lnTo>
                    <a:lnTo>
                      <a:pt x="81" y="3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4744800" y="5294160"/>
                <a:ext cx="10440" cy="34560"/>
              </a:xfrm>
              <a:custGeom>
                <a:avLst/>
                <a:gdLst/>
                <a:ahLst/>
                <a:rect l="l" t="t" r="r" b="b"/>
                <a:pathLst>
                  <a:path w="131" h="329">
                    <a:moveTo>
                      <a:pt x="131" y="14"/>
                    </a:moveTo>
                    <a:lnTo>
                      <a:pt x="43" y="329"/>
                    </a:lnTo>
                    <a:lnTo>
                      <a:pt x="0" y="226"/>
                    </a:lnTo>
                    <a:lnTo>
                      <a:pt x="112" y="0"/>
                    </a:lnTo>
                    <a:lnTo>
                      <a:pt x="13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4761000" y="5202720"/>
                <a:ext cx="8280" cy="32760"/>
              </a:xfrm>
              <a:custGeom>
                <a:avLst/>
                <a:gdLst/>
                <a:ahLst/>
                <a:rect l="l" t="t" r="r" b="b"/>
                <a:pathLst>
                  <a:path w="103" h="319">
                    <a:moveTo>
                      <a:pt x="71" y="0"/>
                    </a:moveTo>
                    <a:lnTo>
                      <a:pt x="71" y="171"/>
                    </a:lnTo>
                    <a:lnTo>
                      <a:pt x="103" y="319"/>
                    </a:lnTo>
                    <a:lnTo>
                      <a:pt x="0" y="21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4772160" y="5125320"/>
                <a:ext cx="44280" cy="75240"/>
              </a:xfrm>
              <a:custGeom>
                <a:avLst/>
                <a:gdLst/>
                <a:ahLst/>
                <a:rect l="l" t="t" r="r" b="b"/>
                <a:pathLst>
                  <a:path w="533" h="711">
                    <a:moveTo>
                      <a:pt x="0" y="393"/>
                    </a:moveTo>
                    <a:lnTo>
                      <a:pt x="60" y="393"/>
                    </a:lnTo>
                    <a:lnTo>
                      <a:pt x="174" y="520"/>
                    </a:lnTo>
                    <a:lnTo>
                      <a:pt x="254" y="711"/>
                    </a:lnTo>
                    <a:lnTo>
                      <a:pt x="189" y="503"/>
                    </a:lnTo>
                    <a:lnTo>
                      <a:pt x="93" y="329"/>
                    </a:lnTo>
                    <a:lnTo>
                      <a:pt x="51" y="305"/>
                    </a:lnTo>
                    <a:lnTo>
                      <a:pt x="227" y="164"/>
                    </a:lnTo>
                    <a:lnTo>
                      <a:pt x="427" y="141"/>
                    </a:lnTo>
                    <a:lnTo>
                      <a:pt x="533" y="0"/>
                    </a:lnTo>
                    <a:lnTo>
                      <a:pt x="306" y="35"/>
                    </a:lnTo>
                    <a:lnTo>
                      <a:pt x="189" y="153"/>
                    </a:lnTo>
                    <a:lnTo>
                      <a:pt x="21" y="305"/>
                    </a:lnTo>
                    <a:lnTo>
                      <a:pt x="0" y="3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4835160" y="509580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118" h="158">
                    <a:moveTo>
                      <a:pt x="63" y="0"/>
                    </a:moveTo>
                    <a:lnTo>
                      <a:pt x="0" y="158"/>
                    </a:lnTo>
                    <a:lnTo>
                      <a:pt x="26" y="158"/>
                    </a:lnTo>
                    <a:lnTo>
                      <a:pt x="118" y="38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4847760" y="5142240"/>
                <a:ext cx="81360" cy="64440"/>
              </a:xfrm>
              <a:custGeom>
                <a:avLst/>
                <a:gdLst/>
                <a:ahLst/>
                <a:rect l="l" t="t" r="r" b="b"/>
                <a:pathLst>
                  <a:path w="985" h="611">
                    <a:moveTo>
                      <a:pt x="55" y="194"/>
                    </a:moveTo>
                    <a:lnTo>
                      <a:pt x="107" y="264"/>
                    </a:lnTo>
                    <a:lnTo>
                      <a:pt x="182" y="334"/>
                    </a:lnTo>
                    <a:lnTo>
                      <a:pt x="199" y="354"/>
                    </a:lnTo>
                    <a:lnTo>
                      <a:pt x="257" y="334"/>
                    </a:lnTo>
                    <a:lnTo>
                      <a:pt x="254" y="387"/>
                    </a:lnTo>
                    <a:lnTo>
                      <a:pt x="301" y="424"/>
                    </a:lnTo>
                    <a:lnTo>
                      <a:pt x="413" y="470"/>
                    </a:lnTo>
                    <a:lnTo>
                      <a:pt x="479" y="502"/>
                    </a:lnTo>
                    <a:lnTo>
                      <a:pt x="538" y="543"/>
                    </a:lnTo>
                    <a:lnTo>
                      <a:pt x="580" y="585"/>
                    </a:lnTo>
                    <a:lnTo>
                      <a:pt x="901" y="20"/>
                    </a:lnTo>
                    <a:lnTo>
                      <a:pt x="938" y="0"/>
                    </a:lnTo>
                    <a:lnTo>
                      <a:pt x="976" y="0"/>
                    </a:lnTo>
                    <a:lnTo>
                      <a:pt x="985" y="20"/>
                    </a:lnTo>
                    <a:lnTo>
                      <a:pt x="967" y="29"/>
                    </a:lnTo>
                    <a:lnTo>
                      <a:pt x="936" y="29"/>
                    </a:lnTo>
                    <a:lnTo>
                      <a:pt x="899" y="48"/>
                    </a:lnTo>
                    <a:lnTo>
                      <a:pt x="865" y="90"/>
                    </a:lnTo>
                    <a:lnTo>
                      <a:pt x="580" y="611"/>
                    </a:lnTo>
                    <a:lnTo>
                      <a:pt x="459" y="565"/>
                    </a:lnTo>
                    <a:lnTo>
                      <a:pt x="538" y="578"/>
                    </a:lnTo>
                    <a:lnTo>
                      <a:pt x="485" y="532"/>
                    </a:lnTo>
                    <a:lnTo>
                      <a:pt x="404" y="486"/>
                    </a:lnTo>
                    <a:lnTo>
                      <a:pt x="325" y="458"/>
                    </a:lnTo>
                    <a:lnTo>
                      <a:pt x="296" y="453"/>
                    </a:lnTo>
                    <a:lnTo>
                      <a:pt x="362" y="519"/>
                    </a:lnTo>
                    <a:lnTo>
                      <a:pt x="301" y="475"/>
                    </a:lnTo>
                    <a:lnTo>
                      <a:pt x="257" y="440"/>
                    </a:lnTo>
                    <a:lnTo>
                      <a:pt x="204" y="383"/>
                    </a:lnTo>
                    <a:lnTo>
                      <a:pt x="136" y="315"/>
                    </a:lnTo>
                    <a:lnTo>
                      <a:pt x="74" y="269"/>
                    </a:lnTo>
                    <a:lnTo>
                      <a:pt x="24" y="224"/>
                    </a:lnTo>
                    <a:lnTo>
                      <a:pt x="0" y="185"/>
                    </a:lnTo>
                    <a:lnTo>
                      <a:pt x="55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4847760" y="5080680"/>
                <a:ext cx="23760" cy="37080"/>
              </a:xfrm>
              <a:custGeom>
                <a:avLst/>
                <a:gdLst/>
                <a:ahLst/>
                <a:rect l="l" t="t" r="r" b="b"/>
                <a:pathLst>
                  <a:path w="281" h="354">
                    <a:moveTo>
                      <a:pt x="0" y="338"/>
                    </a:moveTo>
                    <a:lnTo>
                      <a:pt x="199" y="42"/>
                    </a:lnTo>
                    <a:lnTo>
                      <a:pt x="228" y="17"/>
                    </a:lnTo>
                    <a:lnTo>
                      <a:pt x="254" y="0"/>
                    </a:lnTo>
                    <a:lnTo>
                      <a:pt x="281" y="6"/>
                    </a:lnTo>
                    <a:lnTo>
                      <a:pt x="241" y="22"/>
                    </a:lnTo>
                    <a:lnTo>
                      <a:pt x="206" y="54"/>
                    </a:lnTo>
                    <a:lnTo>
                      <a:pt x="4" y="354"/>
                    </a:lnTo>
                    <a:lnTo>
                      <a:pt x="0" y="3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4850280" y="5118480"/>
                <a:ext cx="57600" cy="25200"/>
              </a:xfrm>
              <a:custGeom>
                <a:avLst/>
                <a:gdLst/>
                <a:ahLst/>
                <a:rect l="l" t="t" r="r" b="b"/>
                <a:pathLst>
                  <a:path w="696" h="242">
                    <a:moveTo>
                      <a:pt x="0" y="242"/>
                    </a:moveTo>
                    <a:lnTo>
                      <a:pt x="39" y="215"/>
                    </a:lnTo>
                    <a:lnTo>
                      <a:pt x="81" y="180"/>
                    </a:lnTo>
                    <a:lnTo>
                      <a:pt x="131" y="111"/>
                    </a:lnTo>
                    <a:lnTo>
                      <a:pt x="156" y="69"/>
                    </a:lnTo>
                    <a:lnTo>
                      <a:pt x="180" y="49"/>
                    </a:lnTo>
                    <a:lnTo>
                      <a:pt x="208" y="31"/>
                    </a:lnTo>
                    <a:lnTo>
                      <a:pt x="248" y="21"/>
                    </a:lnTo>
                    <a:lnTo>
                      <a:pt x="369" y="0"/>
                    </a:lnTo>
                    <a:lnTo>
                      <a:pt x="439" y="3"/>
                    </a:lnTo>
                    <a:lnTo>
                      <a:pt x="527" y="40"/>
                    </a:lnTo>
                    <a:lnTo>
                      <a:pt x="592" y="88"/>
                    </a:lnTo>
                    <a:lnTo>
                      <a:pt x="696" y="137"/>
                    </a:lnTo>
                    <a:lnTo>
                      <a:pt x="617" y="125"/>
                    </a:lnTo>
                    <a:lnTo>
                      <a:pt x="564" y="106"/>
                    </a:lnTo>
                    <a:lnTo>
                      <a:pt x="527" y="86"/>
                    </a:lnTo>
                    <a:lnTo>
                      <a:pt x="483" y="75"/>
                    </a:lnTo>
                    <a:lnTo>
                      <a:pt x="459" y="79"/>
                    </a:lnTo>
                    <a:lnTo>
                      <a:pt x="435" y="150"/>
                    </a:lnTo>
                    <a:lnTo>
                      <a:pt x="384" y="211"/>
                    </a:lnTo>
                    <a:lnTo>
                      <a:pt x="421" y="152"/>
                    </a:lnTo>
                    <a:lnTo>
                      <a:pt x="447" y="69"/>
                    </a:lnTo>
                    <a:lnTo>
                      <a:pt x="447" y="49"/>
                    </a:lnTo>
                    <a:lnTo>
                      <a:pt x="430" y="28"/>
                    </a:lnTo>
                    <a:lnTo>
                      <a:pt x="384" y="16"/>
                    </a:lnTo>
                    <a:lnTo>
                      <a:pt x="329" y="21"/>
                    </a:lnTo>
                    <a:lnTo>
                      <a:pt x="313" y="44"/>
                    </a:lnTo>
                    <a:lnTo>
                      <a:pt x="343" y="222"/>
                    </a:lnTo>
                    <a:lnTo>
                      <a:pt x="325" y="222"/>
                    </a:lnTo>
                    <a:lnTo>
                      <a:pt x="256" y="198"/>
                    </a:lnTo>
                    <a:lnTo>
                      <a:pt x="195" y="174"/>
                    </a:lnTo>
                    <a:lnTo>
                      <a:pt x="164" y="150"/>
                    </a:lnTo>
                    <a:lnTo>
                      <a:pt x="145" y="137"/>
                    </a:lnTo>
                    <a:lnTo>
                      <a:pt x="108" y="174"/>
                    </a:lnTo>
                    <a:lnTo>
                      <a:pt x="67" y="210"/>
                    </a:lnTo>
                    <a:lnTo>
                      <a:pt x="25" y="231"/>
                    </a:lnTo>
                    <a:lnTo>
                      <a:pt x="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4905360" y="5079600"/>
                <a:ext cx="32400" cy="46440"/>
              </a:xfrm>
              <a:custGeom>
                <a:avLst/>
                <a:gdLst/>
                <a:ahLst/>
                <a:rect l="l" t="t" r="r" b="b"/>
                <a:pathLst>
                  <a:path w="385" h="439">
                    <a:moveTo>
                      <a:pt x="0" y="0"/>
                    </a:moveTo>
                    <a:lnTo>
                      <a:pt x="40" y="55"/>
                    </a:lnTo>
                    <a:lnTo>
                      <a:pt x="63" y="111"/>
                    </a:lnTo>
                    <a:lnTo>
                      <a:pt x="86" y="256"/>
                    </a:lnTo>
                    <a:lnTo>
                      <a:pt x="75" y="439"/>
                    </a:lnTo>
                    <a:lnTo>
                      <a:pt x="114" y="274"/>
                    </a:lnTo>
                    <a:lnTo>
                      <a:pt x="148" y="189"/>
                    </a:lnTo>
                    <a:lnTo>
                      <a:pt x="204" y="107"/>
                    </a:lnTo>
                    <a:lnTo>
                      <a:pt x="235" y="111"/>
                    </a:lnTo>
                    <a:lnTo>
                      <a:pt x="211" y="256"/>
                    </a:lnTo>
                    <a:lnTo>
                      <a:pt x="215" y="292"/>
                    </a:lnTo>
                    <a:lnTo>
                      <a:pt x="385" y="74"/>
                    </a:lnTo>
                    <a:lnTo>
                      <a:pt x="310" y="26"/>
                    </a:lnTo>
                    <a:lnTo>
                      <a:pt x="252" y="67"/>
                    </a:lnTo>
                    <a:lnTo>
                      <a:pt x="204" y="58"/>
                    </a:lnTo>
                    <a:lnTo>
                      <a:pt x="112" y="81"/>
                    </a:lnTo>
                    <a:lnTo>
                      <a:pt x="81" y="81"/>
                    </a:lnTo>
                    <a:lnTo>
                      <a:pt x="37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4874400" y="5139000"/>
                <a:ext cx="68040" cy="245520"/>
              </a:xfrm>
              <a:custGeom>
                <a:avLst/>
                <a:gdLst/>
                <a:ahLst/>
                <a:rect l="l" t="t" r="r" b="b"/>
                <a:pathLst>
                  <a:path w="819" h="2318">
                    <a:moveTo>
                      <a:pt x="102" y="23"/>
                    </a:moveTo>
                    <a:lnTo>
                      <a:pt x="196" y="140"/>
                    </a:lnTo>
                    <a:lnTo>
                      <a:pt x="275" y="327"/>
                    </a:lnTo>
                    <a:lnTo>
                      <a:pt x="424" y="714"/>
                    </a:lnTo>
                    <a:lnTo>
                      <a:pt x="579" y="1265"/>
                    </a:lnTo>
                    <a:lnTo>
                      <a:pt x="712" y="1680"/>
                    </a:lnTo>
                    <a:lnTo>
                      <a:pt x="819" y="1925"/>
                    </a:lnTo>
                    <a:lnTo>
                      <a:pt x="660" y="2318"/>
                    </a:lnTo>
                    <a:lnTo>
                      <a:pt x="526" y="2190"/>
                    </a:lnTo>
                    <a:lnTo>
                      <a:pt x="252" y="1992"/>
                    </a:lnTo>
                    <a:lnTo>
                      <a:pt x="35" y="546"/>
                    </a:lnTo>
                    <a:lnTo>
                      <a:pt x="0" y="274"/>
                    </a:lnTo>
                    <a:lnTo>
                      <a:pt x="17" y="103"/>
                    </a:lnTo>
                    <a:lnTo>
                      <a:pt x="35" y="41"/>
                    </a:lnTo>
                    <a:lnTo>
                      <a:pt x="35" y="0"/>
                    </a:lnTo>
                    <a:lnTo>
                      <a:pt x="60" y="41"/>
                    </a:lnTo>
                    <a:lnTo>
                      <a:pt x="53" y="134"/>
                    </a:lnTo>
                    <a:lnTo>
                      <a:pt x="60" y="292"/>
                    </a:lnTo>
                    <a:lnTo>
                      <a:pt x="77" y="465"/>
                    </a:lnTo>
                    <a:lnTo>
                      <a:pt x="116" y="707"/>
                    </a:lnTo>
                    <a:lnTo>
                      <a:pt x="284" y="1487"/>
                    </a:lnTo>
                    <a:lnTo>
                      <a:pt x="343" y="1953"/>
                    </a:lnTo>
                    <a:lnTo>
                      <a:pt x="360" y="2010"/>
                    </a:lnTo>
                    <a:lnTo>
                      <a:pt x="512" y="2142"/>
                    </a:lnTo>
                    <a:lnTo>
                      <a:pt x="642" y="2252"/>
                    </a:lnTo>
                    <a:lnTo>
                      <a:pt x="734" y="2019"/>
                    </a:lnTo>
                    <a:lnTo>
                      <a:pt x="778" y="1925"/>
                    </a:lnTo>
                    <a:lnTo>
                      <a:pt x="651" y="1604"/>
                    </a:lnTo>
                    <a:lnTo>
                      <a:pt x="561" y="1296"/>
                    </a:lnTo>
                    <a:lnTo>
                      <a:pt x="433" y="863"/>
                    </a:lnTo>
                    <a:lnTo>
                      <a:pt x="351" y="555"/>
                    </a:lnTo>
                    <a:lnTo>
                      <a:pt x="235" y="239"/>
                    </a:lnTo>
                    <a:lnTo>
                      <a:pt x="162" y="116"/>
                    </a:lnTo>
                    <a:lnTo>
                      <a:pt x="10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4854960" y="5216040"/>
                <a:ext cx="187560" cy="197280"/>
              </a:xfrm>
              <a:custGeom>
                <a:avLst/>
                <a:gdLst/>
                <a:ahLst/>
                <a:rect l="l" t="t" r="r" b="b"/>
                <a:pathLst>
                  <a:path w="2266" h="1862">
                    <a:moveTo>
                      <a:pt x="947" y="954"/>
                    </a:moveTo>
                    <a:lnTo>
                      <a:pt x="1211" y="1046"/>
                    </a:lnTo>
                    <a:lnTo>
                      <a:pt x="1455" y="1180"/>
                    </a:lnTo>
                    <a:lnTo>
                      <a:pt x="1630" y="1244"/>
                    </a:lnTo>
                    <a:lnTo>
                      <a:pt x="1747" y="1362"/>
                    </a:lnTo>
                    <a:lnTo>
                      <a:pt x="1925" y="1436"/>
                    </a:lnTo>
                    <a:lnTo>
                      <a:pt x="1914" y="1348"/>
                    </a:lnTo>
                    <a:lnTo>
                      <a:pt x="1764" y="1189"/>
                    </a:lnTo>
                    <a:lnTo>
                      <a:pt x="1582" y="1055"/>
                    </a:lnTo>
                    <a:lnTo>
                      <a:pt x="1854" y="1194"/>
                    </a:lnTo>
                    <a:lnTo>
                      <a:pt x="1905" y="908"/>
                    </a:lnTo>
                    <a:lnTo>
                      <a:pt x="1815" y="921"/>
                    </a:lnTo>
                    <a:lnTo>
                      <a:pt x="1747" y="908"/>
                    </a:lnTo>
                    <a:lnTo>
                      <a:pt x="1663" y="855"/>
                    </a:lnTo>
                    <a:lnTo>
                      <a:pt x="1738" y="839"/>
                    </a:lnTo>
                    <a:lnTo>
                      <a:pt x="1815" y="765"/>
                    </a:lnTo>
                    <a:lnTo>
                      <a:pt x="1863" y="682"/>
                    </a:lnTo>
                    <a:lnTo>
                      <a:pt x="1905" y="506"/>
                    </a:lnTo>
                    <a:lnTo>
                      <a:pt x="1914" y="273"/>
                    </a:lnTo>
                    <a:lnTo>
                      <a:pt x="1872" y="0"/>
                    </a:lnTo>
                    <a:lnTo>
                      <a:pt x="2048" y="168"/>
                    </a:lnTo>
                    <a:lnTo>
                      <a:pt x="2131" y="308"/>
                    </a:lnTo>
                    <a:lnTo>
                      <a:pt x="2110" y="325"/>
                    </a:lnTo>
                    <a:lnTo>
                      <a:pt x="1988" y="242"/>
                    </a:lnTo>
                    <a:lnTo>
                      <a:pt x="2013" y="541"/>
                    </a:lnTo>
                    <a:lnTo>
                      <a:pt x="2165" y="839"/>
                    </a:lnTo>
                    <a:lnTo>
                      <a:pt x="2206" y="1014"/>
                    </a:lnTo>
                    <a:lnTo>
                      <a:pt x="2149" y="1079"/>
                    </a:lnTo>
                    <a:lnTo>
                      <a:pt x="2156" y="1180"/>
                    </a:lnTo>
                    <a:lnTo>
                      <a:pt x="2266" y="1348"/>
                    </a:lnTo>
                    <a:lnTo>
                      <a:pt x="2266" y="1398"/>
                    </a:lnTo>
                    <a:lnTo>
                      <a:pt x="2215" y="1459"/>
                    </a:lnTo>
                    <a:lnTo>
                      <a:pt x="2013" y="1593"/>
                    </a:lnTo>
                    <a:lnTo>
                      <a:pt x="1896" y="1680"/>
                    </a:lnTo>
                    <a:lnTo>
                      <a:pt x="1738" y="1862"/>
                    </a:lnTo>
                    <a:lnTo>
                      <a:pt x="1496" y="1862"/>
                    </a:lnTo>
                    <a:lnTo>
                      <a:pt x="1444" y="1833"/>
                    </a:lnTo>
                    <a:lnTo>
                      <a:pt x="1356" y="1824"/>
                    </a:lnTo>
                    <a:lnTo>
                      <a:pt x="1305" y="1862"/>
                    </a:lnTo>
                    <a:lnTo>
                      <a:pt x="0" y="1862"/>
                    </a:lnTo>
                    <a:lnTo>
                      <a:pt x="169" y="1752"/>
                    </a:lnTo>
                    <a:lnTo>
                      <a:pt x="344" y="1662"/>
                    </a:lnTo>
                    <a:lnTo>
                      <a:pt x="542" y="1578"/>
                    </a:lnTo>
                    <a:lnTo>
                      <a:pt x="747" y="1512"/>
                    </a:lnTo>
                    <a:lnTo>
                      <a:pt x="830" y="1496"/>
                    </a:lnTo>
                    <a:lnTo>
                      <a:pt x="865" y="1545"/>
                    </a:lnTo>
                    <a:lnTo>
                      <a:pt x="837" y="1668"/>
                    </a:lnTo>
                    <a:lnTo>
                      <a:pt x="877" y="1721"/>
                    </a:lnTo>
                    <a:lnTo>
                      <a:pt x="1178" y="1680"/>
                    </a:lnTo>
                    <a:lnTo>
                      <a:pt x="1187" y="1653"/>
                    </a:lnTo>
                    <a:lnTo>
                      <a:pt x="1174" y="1629"/>
                    </a:lnTo>
                    <a:lnTo>
                      <a:pt x="947" y="1653"/>
                    </a:lnTo>
                    <a:lnTo>
                      <a:pt x="911" y="1635"/>
                    </a:lnTo>
                    <a:lnTo>
                      <a:pt x="906" y="1545"/>
                    </a:lnTo>
                    <a:lnTo>
                      <a:pt x="964" y="1503"/>
                    </a:lnTo>
                    <a:lnTo>
                      <a:pt x="994" y="1539"/>
                    </a:lnTo>
                    <a:lnTo>
                      <a:pt x="1037" y="1593"/>
                    </a:lnTo>
                    <a:lnTo>
                      <a:pt x="1103" y="1593"/>
                    </a:lnTo>
                    <a:lnTo>
                      <a:pt x="1139" y="1521"/>
                    </a:lnTo>
                    <a:lnTo>
                      <a:pt x="1019" y="1479"/>
                    </a:lnTo>
                    <a:lnTo>
                      <a:pt x="969" y="1470"/>
                    </a:lnTo>
                    <a:lnTo>
                      <a:pt x="1156" y="1459"/>
                    </a:lnTo>
                    <a:lnTo>
                      <a:pt x="1428" y="1452"/>
                    </a:lnTo>
                    <a:lnTo>
                      <a:pt x="1571" y="1459"/>
                    </a:lnTo>
                    <a:lnTo>
                      <a:pt x="1413" y="1398"/>
                    </a:lnTo>
                    <a:lnTo>
                      <a:pt x="1331" y="1319"/>
                    </a:lnTo>
                    <a:lnTo>
                      <a:pt x="1437" y="1353"/>
                    </a:lnTo>
                    <a:lnTo>
                      <a:pt x="1707" y="1459"/>
                    </a:lnTo>
                    <a:lnTo>
                      <a:pt x="1848" y="1479"/>
                    </a:lnTo>
                    <a:lnTo>
                      <a:pt x="1531" y="1256"/>
                    </a:lnTo>
                    <a:lnTo>
                      <a:pt x="1266" y="1106"/>
                    </a:lnTo>
                    <a:lnTo>
                      <a:pt x="1095" y="1064"/>
                    </a:lnTo>
                    <a:lnTo>
                      <a:pt x="1037" y="1002"/>
                    </a:lnTo>
                    <a:lnTo>
                      <a:pt x="947" y="9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4945680" y="508068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443" h="201">
                    <a:moveTo>
                      <a:pt x="0" y="69"/>
                    </a:moveTo>
                    <a:lnTo>
                      <a:pt x="0" y="201"/>
                    </a:lnTo>
                    <a:lnTo>
                      <a:pt x="236" y="46"/>
                    </a:lnTo>
                    <a:lnTo>
                      <a:pt x="261" y="69"/>
                    </a:lnTo>
                    <a:lnTo>
                      <a:pt x="351" y="78"/>
                    </a:lnTo>
                    <a:lnTo>
                      <a:pt x="443" y="19"/>
                    </a:lnTo>
                    <a:lnTo>
                      <a:pt x="342" y="51"/>
                    </a:lnTo>
                    <a:lnTo>
                      <a:pt x="287" y="46"/>
                    </a:lnTo>
                    <a:lnTo>
                      <a:pt x="236" y="0"/>
                    </a:lnTo>
                    <a:lnTo>
                      <a:pt x="134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4993560" y="5088240"/>
                <a:ext cx="57240" cy="114480"/>
              </a:xfrm>
              <a:custGeom>
                <a:avLst/>
                <a:gdLst/>
                <a:ahLst/>
                <a:rect l="l" t="t" r="r" b="b"/>
                <a:pathLst>
                  <a:path w="701" h="1079">
                    <a:moveTo>
                      <a:pt x="0" y="0"/>
                    </a:moveTo>
                    <a:lnTo>
                      <a:pt x="281" y="374"/>
                    </a:lnTo>
                    <a:lnTo>
                      <a:pt x="424" y="438"/>
                    </a:lnTo>
                    <a:lnTo>
                      <a:pt x="438" y="688"/>
                    </a:lnTo>
                    <a:lnTo>
                      <a:pt x="519" y="823"/>
                    </a:lnTo>
                    <a:lnTo>
                      <a:pt x="519" y="1079"/>
                    </a:lnTo>
                    <a:lnTo>
                      <a:pt x="551" y="1035"/>
                    </a:lnTo>
                    <a:lnTo>
                      <a:pt x="551" y="680"/>
                    </a:lnTo>
                    <a:lnTo>
                      <a:pt x="659" y="747"/>
                    </a:lnTo>
                    <a:lnTo>
                      <a:pt x="684" y="862"/>
                    </a:lnTo>
                    <a:lnTo>
                      <a:pt x="701" y="754"/>
                    </a:lnTo>
                    <a:lnTo>
                      <a:pt x="627" y="583"/>
                    </a:lnTo>
                    <a:lnTo>
                      <a:pt x="361" y="316"/>
                    </a:lnTo>
                    <a:lnTo>
                      <a:pt x="253" y="28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4963680" y="5135400"/>
                <a:ext cx="30960" cy="55800"/>
              </a:xfrm>
              <a:custGeom>
                <a:avLst/>
                <a:gdLst/>
                <a:ahLst/>
                <a:rect l="l" t="t" r="r" b="b"/>
                <a:pathLst>
                  <a:path w="378" h="533">
                    <a:moveTo>
                      <a:pt x="0" y="257"/>
                    </a:moveTo>
                    <a:lnTo>
                      <a:pt x="70" y="107"/>
                    </a:lnTo>
                    <a:lnTo>
                      <a:pt x="143" y="98"/>
                    </a:lnTo>
                    <a:lnTo>
                      <a:pt x="235" y="118"/>
                    </a:lnTo>
                    <a:lnTo>
                      <a:pt x="253" y="0"/>
                    </a:lnTo>
                    <a:lnTo>
                      <a:pt x="378" y="533"/>
                    </a:lnTo>
                    <a:lnTo>
                      <a:pt x="235" y="272"/>
                    </a:lnTo>
                    <a:lnTo>
                      <a:pt x="166" y="233"/>
                    </a:lnTo>
                    <a:lnTo>
                      <a:pt x="83" y="222"/>
                    </a:lnTo>
                    <a:lnTo>
                      <a:pt x="0" y="2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5034600" y="5175360"/>
                <a:ext cx="59400" cy="122760"/>
              </a:xfrm>
              <a:custGeom>
                <a:avLst/>
                <a:gdLst/>
                <a:ahLst/>
                <a:rect l="l" t="t" r="r" b="b"/>
                <a:pathLst>
                  <a:path w="717" h="1161">
                    <a:moveTo>
                      <a:pt x="261" y="0"/>
                    </a:moveTo>
                    <a:lnTo>
                      <a:pt x="252" y="99"/>
                    </a:lnTo>
                    <a:lnTo>
                      <a:pt x="177" y="240"/>
                    </a:lnTo>
                    <a:lnTo>
                      <a:pt x="76" y="390"/>
                    </a:lnTo>
                    <a:lnTo>
                      <a:pt x="34" y="509"/>
                    </a:lnTo>
                    <a:lnTo>
                      <a:pt x="34" y="572"/>
                    </a:lnTo>
                    <a:lnTo>
                      <a:pt x="67" y="656"/>
                    </a:lnTo>
                    <a:lnTo>
                      <a:pt x="94" y="724"/>
                    </a:lnTo>
                    <a:lnTo>
                      <a:pt x="0" y="724"/>
                    </a:lnTo>
                    <a:lnTo>
                      <a:pt x="127" y="763"/>
                    </a:lnTo>
                    <a:lnTo>
                      <a:pt x="177" y="889"/>
                    </a:lnTo>
                    <a:lnTo>
                      <a:pt x="325" y="889"/>
                    </a:lnTo>
                    <a:lnTo>
                      <a:pt x="496" y="1161"/>
                    </a:lnTo>
                    <a:lnTo>
                      <a:pt x="535" y="1091"/>
                    </a:lnTo>
                    <a:lnTo>
                      <a:pt x="535" y="970"/>
                    </a:lnTo>
                    <a:lnTo>
                      <a:pt x="643" y="774"/>
                    </a:lnTo>
                    <a:lnTo>
                      <a:pt x="717" y="473"/>
                    </a:lnTo>
                    <a:lnTo>
                      <a:pt x="616" y="756"/>
                    </a:lnTo>
                    <a:lnTo>
                      <a:pt x="560" y="733"/>
                    </a:lnTo>
                    <a:lnTo>
                      <a:pt x="595" y="673"/>
                    </a:lnTo>
                    <a:lnTo>
                      <a:pt x="217" y="839"/>
                    </a:lnTo>
                    <a:lnTo>
                      <a:pt x="210" y="763"/>
                    </a:lnTo>
                    <a:lnTo>
                      <a:pt x="127" y="708"/>
                    </a:lnTo>
                    <a:lnTo>
                      <a:pt x="337" y="524"/>
                    </a:lnTo>
                    <a:lnTo>
                      <a:pt x="184" y="608"/>
                    </a:lnTo>
                    <a:lnTo>
                      <a:pt x="153" y="524"/>
                    </a:lnTo>
                    <a:lnTo>
                      <a:pt x="159" y="422"/>
                    </a:lnTo>
                    <a:lnTo>
                      <a:pt x="201" y="341"/>
                    </a:lnTo>
                    <a:lnTo>
                      <a:pt x="344" y="168"/>
                    </a:lnTo>
                    <a:lnTo>
                      <a:pt x="360" y="99"/>
                    </a:lnTo>
                    <a:lnTo>
                      <a:pt x="344" y="58"/>
                    </a:lnTo>
                    <a:lnTo>
                      <a:pt x="293" y="58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5046120" y="5303520"/>
                <a:ext cx="64080" cy="53280"/>
              </a:xfrm>
              <a:custGeom>
                <a:avLst/>
                <a:gdLst/>
                <a:ahLst/>
                <a:rect l="l" t="t" r="r" b="b"/>
                <a:pathLst>
                  <a:path w="775" h="510">
                    <a:moveTo>
                      <a:pt x="0" y="510"/>
                    </a:moveTo>
                    <a:lnTo>
                      <a:pt x="92" y="353"/>
                    </a:lnTo>
                    <a:lnTo>
                      <a:pt x="472" y="182"/>
                    </a:lnTo>
                    <a:lnTo>
                      <a:pt x="672" y="182"/>
                    </a:lnTo>
                    <a:lnTo>
                      <a:pt x="775" y="118"/>
                    </a:lnTo>
                    <a:lnTo>
                      <a:pt x="540" y="118"/>
                    </a:lnTo>
                    <a:lnTo>
                      <a:pt x="393" y="171"/>
                    </a:lnTo>
                    <a:lnTo>
                      <a:pt x="327" y="143"/>
                    </a:lnTo>
                    <a:lnTo>
                      <a:pt x="342" y="0"/>
                    </a:lnTo>
                    <a:lnTo>
                      <a:pt x="261" y="14"/>
                    </a:lnTo>
                    <a:lnTo>
                      <a:pt x="261" y="171"/>
                    </a:lnTo>
                    <a:lnTo>
                      <a:pt x="197" y="251"/>
                    </a:lnTo>
                    <a:lnTo>
                      <a:pt x="105" y="261"/>
                    </a:lnTo>
                    <a:lnTo>
                      <a:pt x="12" y="393"/>
                    </a:lnTo>
                    <a:lnTo>
                      <a:pt x="0" y="5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5051160" y="5454360"/>
                <a:ext cx="98640" cy="47160"/>
              </a:xfrm>
              <a:custGeom>
                <a:avLst/>
                <a:gdLst/>
                <a:ahLst/>
                <a:rect l="l" t="t" r="r" b="b"/>
                <a:pathLst>
                  <a:path w="1191" h="446">
                    <a:moveTo>
                      <a:pt x="1191" y="174"/>
                    </a:moveTo>
                    <a:lnTo>
                      <a:pt x="841" y="283"/>
                    </a:lnTo>
                    <a:lnTo>
                      <a:pt x="622" y="446"/>
                    </a:lnTo>
                    <a:lnTo>
                      <a:pt x="609" y="374"/>
                    </a:lnTo>
                    <a:lnTo>
                      <a:pt x="912" y="176"/>
                    </a:lnTo>
                    <a:lnTo>
                      <a:pt x="877" y="137"/>
                    </a:lnTo>
                    <a:lnTo>
                      <a:pt x="708" y="149"/>
                    </a:lnTo>
                    <a:lnTo>
                      <a:pt x="490" y="213"/>
                    </a:lnTo>
                    <a:lnTo>
                      <a:pt x="512" y="108"/>
                    </a:lnTo>
                    <a:lnTo>
                      <a:pt x="313" y="96"/>
                    </a:lnTo>
                    <a:lnTo>
                      <a:pt x="205" y="55"/>
                    </a:lnTo>
                    <a:lnTo>
                      <a:pt x="69" y="2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246" y="47"/>
                    </a:lnTo>
                    <a:lnTo>
                      <a:pt x="409" y="77"/>
                    </a:lnTo>
                    <a:lnTo>
                      <a:pt x="537" y="73"/>
                    </a:lnTo>
                    <a:lnTo>
                      <a:pt x="652" y="55"/>
                    </a:lnTo>
                    <a:lnTo>
                      <a:pt x="749" y="112"/>
                    </a:lnTo>
                    <a:lnTo>
                      <a:pt x="1028" y="96"/>
                    </a:lnTo>
                    <a:lnTo>
                      <a:pt x="1164" y="154"/>
                    </a:lnTo>
                    <a:lnTo>
                      <a:pt x="1191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4933800" y="5407920"/>
                <a:ext cx="145080" cy="129240"/>
              </a:xfrm>
              <a:custGeom>
                <a:avLst/>
                <a:gdLst/>
                <a:ahLst/>
                <a:rect l="l" t="t" r="r" b="b"/>
                <a:pathLst>
                  <a:path w="1754" h="1222">
                    <a:moveTo>
                      <a:pt x="1289" y="666"/>
                    </a:moveTo>
                    <a:lnTo>
                      <a:pt x="1258" y="826"/>
                    </a:lnTo>
                    <a:lnTo>
                      <a:pt x="1258" y="945"/>
                    </a:lnTo>
                    <a:lnTo>
                      <a:pt x="1289" y="1042"/>
                    </a:lnTo>
                    <a:lnTo>
                      <a:pt x="1311" y="1098"/>
                    </a:lnTo>
                    <a:lnTo>
                      <a:pt x="1754" y="1222"/>
                    </a:lnTo>
                    <a:lnTo>
                      <a:pt x="1293" y="1160"/>
                    </a:lnTo>
                    <a:lnTo>
                      <a:pt x="1251" y="1098"/>
                    </a:lnTo>
                    <a:lnTo>
                      <a:pt x="876" y="1092"/>
                    </a:lnTo>
                    <a:lnTo>
                      <a:pt x="576" y="1035"/>
                    </a:lnTo>
                    <a:lnTo>
                      <a:pt x="311" y="955"/>
                    </a:lnTo>
                    <a:lnTo>
                      <a:pt x="93" y="860"/>
                    </a:lnTo>
                    <a:lnTo>
                      <a:pt x="69" y="826"/>
                    </a:lnTo>
                    <a:lnTo>
                      <a:pt x="51" y="749"/>
                    </a:lnTo>
                    <a:lnTo>
                      <a:pt x="0" y="652"/>
                    </a:lnTo>
                    <a:lnTo>
                      <a:pt x="12" y="615"/>
                    </a:lnTo>
                    <a:lnTo>
                      <a:pt x="32" y="588"/>
                    </a:lnTo>
                    <a:lnTo>
                      <a:pt x="32" y="452"/>
                    </a:lnTo>
                    <a:lnTo>
                      <a:pt x="51" y="406"/>
                    </a:lnTo>
                    <a:lnTo>
                      <a:pt x="80" y="382"/>
                    </a:lnTo>
                    <a:lnTo>
                      <a:pt x="58" y="433"/>
                    </a:lnTo>
                    <a:lnTo>
                      <a:pt x="51" y="547"/>
                    </a:lnTo>
                    <a:lnTo>
                      <a:pt x="58" y="613"/>
                    </a:lnTo>
                    <a:lnTo>
                      <a:pt x="230" y="756"/>
                    </a:lnTo>
                    <a:lnTo>
                      <a:pt x="258" y="749"/>
                    </a:lnTo>
                    <a:lnTo>
                      <a:pt x="278" y="670"/>
                    </a:lnTo>
                    <a:lnTo>
                      <a:pt x="170" y="494"/>
                    </a:lnTo>
                    <a:lnTo>
                      <a:pt x="140" y="344"/>
                    </a:lnTo>
                    <a:lnTo>
                      <a:pt x="201" y="202"/>
                    </a:lnTo>
                    <a:lnTo>
                      <a:pt x="201" y="426"/>
                    </a:lnTo>
                    <a:lnTo>
                      <a:pt x="361" y="786"/>
                    </a:lnTo>
                    <a:lnTo>
                      <a:pt x="438" y="802"/>
                    </a:lnTo>
                    <a:lnTo>
                      <a:pt x="489" y="770"/>
                    </a:lnTo>
                    <a:lnTo>
                      <a:pt x="480" y="685"/>
                    </a:lnTo>
                    <a:lnTo>
                      <a:pt x="320" y="286"/>
                    </a:lnTo>
                    <a:lnTo>
                      <a:pt x="320" y="166"/>
                    </a:lnTo>
                    <a:lnTo>
                      <a:pt x="320" y="72"/>
                    </a:lnTo>
                    <a:lnTo>
                      <a:pt x="361" y="0"/>
                    </a:lnTo>
                    <a:lnTo>
                      <a:pt x="343" y="136"/>
                    </a:lnTo>
                    <a:lnTo>
                      <a:pt x="350" y="272"/>
                    </a:lnTo>
                    <a:lnTo>
                      <a:pt x="451" y="540"/>
                    </a:lnTo>
                    <a:lnTo>
                      <a:pt x="493" y="560"/>
                    </a:lnTo>
                    <a:lnTo>
                      <a:pt x="535" y="516"/>
                    </a:lnTo>
                    <a:lnTo>
                      <a:pt x="553" y="468"/>
                    </a:lnTo>
                    <a:lnTo>
                      <a:pt x="546" y="362"/>
                    </a:lnTo>
                    <a:lnTo>
                      <a:pt x="528" y="219"/>
                    </a:lnTo>
                    <a:lnTo>
                      <a:pt x="553" y="215"/>
                    </a:lnTo>
                    <a:lnTo>
                      <a:pt x="581" y="459"/>
                    </a:lnTo>
                    <a:lnTo>
                      <a:pt x="570" y="523"/>
                    </a:lnTo>
                    <a:lnTo>
                      <a:pt x="541" y="569"/>
                    </a:lnTo>
                    <a:lnTo>
                      <a:pt x="498" y="613"/>
                    </a:lnTo>
                    <a:lnTo>
                      <a:pt x="511" y="740"/>
                    </a:lnTo>
                    <a:lnTo>
                      <a:pt x="504" y="826"/>
                    </a:lnTo>
                    <a:lnTo>
                      <a:pt x="456" y="844"/>
                    </a:lnTo>
                    <a:lnTo>
                      <a:pt x="392" y="839"/>
                    </a:lnTo>
                    <a:lnTo>
                      <a:pt x="311" y="795"/>
                    </a:lnTo>
                    <a:lnTo>
                      <a:pt x="265" y="802"/>
                    </a:lnTo>
                    <a:lnTo>
                      <a:pt x="93" y="724"/>
                    </a:lnTo>
                    <a:lnTo>
                      <a:pt x="87" y="806"/>
                    </a:lnTo>
                    <a:lnTo>
                      <a:pt x="152" y="867"/>
                    </a:lnTo>
                    <a:lnTo>
                      <a:pt x="504" y="986"/>
                    </a:lnTo>
                    <a:lnTo>
                      <a:pt x="792" y="1048"/>
                    </a:lnTo>
                    <a:lnTo>
                      <a:pt x="1042" y="1058"/>
                    </a:lnTo>
                    <a:lnTo>
                      <a:pt x="1238" y="1058"/>
                    </a:lnTo>
                    <a:lnTo>
                      <a:pt x="1229" y="955"/>
                    </a:lnTo>
                    <a:lnTo>
                      <a:pt x="1238" y="826"/>
                    </a:lnTo>
                    <a:lnTo>
                      <a:pt x="1263" y="722"/>
                    </a:lnTo>
                    <a:lnTo>
                      <a:pt x="1289" y="6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4977000" y="5407920"/>
                <a:ext cx="69480" cy="57600"/>
              </a:xfrm>
              <a:custGeom>
                <a:avLst/>
                <a:gdLst/>
                <a:ahLst/>
                <a:rect l="l" t="t" r="r" b="b"/>
                <a:pathLst>
                  <a:path w="846" h="547">
                    <a:moveTo>
                      <a:pt x="0" y="30"/>
                    </a:moveTo>
                    <a:lnTo>
                      <a:pt x="45" y="94"/>
                    </a:lnTo>
                    <a:lnTo>
                      <a:pt x="101" y="210"/>
                    </a:lnTo>
                    <a:lnTo>
                      <a:pt x="36" y="219"/>
                    </a:lnTo>
                    <a:lnTo>
                      <a:pt x="36" y="237"/>
                    </a:lnTo>
                    <a:lnTo>
                      <a:pt x="174" y="246"/>
                    </a:lnTo>
                    <a:lnTo>
                      <a:pt x="322" y="254"/>
                    </a:lnTo>
                    <a:lnTo>
                      <a:pt x="248" y="233"/>
                    </a:lnTo>
                    <a:lnTo>
                      <a:pt x="394" y="178"/>
                    </a:lnTo>
                    <a:lnTo>
                      <a:pt x="472" y="189"/>
                    </a:lnTo>
                    <a:lnTo>
                      <a:pt x="598" y="297"/>
                    </a:lnTo>
                    <a:lnTo>
                      <a:pt x="675" y="422"/>
                    </a:lnTo>
                    <a:lnTo>
                      <a:pt x="767" y="512"/>
                    </a:lnTo>
                    <a:lnTo>
                      <a:pt x="820" y="547"/>
                    </a:lnTo>
                    <a:lnTo>
                      <a:pt x="846" y="523"/>
                    </a:lnTo>
                    <a:lnTo>
                      <a:pt x="758" y="468"/>
                    </a:lnTo>
                    <a:lnTo>
                      <a:pt x="679" y="392"/>
                    </a:lnTo>
                    <a:lnTo>
                      <a:pt x="611" y="286"/>
                    </a:lnTo>
                    <a:lnTo>
                      <a:pt x="534" y="184"/>
                    </a:lnTo>
                    <a:lnTo>
                      <a:pt x="394" y="136"/>
                    </a:lnTo>
                    <a:lnTo>
                      <a:pt x="317" y="154"/>
                    </a:lnTo>
                    <a:lnTo>
                      <a:pt x="223" y="189"/>
                    </a:lnTo>
                    <a:lnTo>
                      <a:pt x="161" y="184"/>
                    </a:lnTo>
                    <a:lnTo>
                      <a:pt x="244" y="90"/>
                    </a:lnTo>
                    <a:lnTo>
                      <a:pt x="283" y="30"/>
                    </a:lnTo>
                    <a:lnTo>
                      <a:pt x="275" y="0"/>
                    </a:lnTo>
                    <a:lnTo>
                      <a:pt x="223" y="79"/>
                    </a:lnTo>
                    <a:lnTo>
                      <a:pt x="119" y="154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4807080" y="4933800"/>
                <a:ext cx="109440" cy="130320"/>
              </a:xfrm>
              <a:custGeom>
                <a:avLst/>
                <a:gdLst/>
                <a:ahLst/>
                <a:rect l="l" t="t" r="r" b="b"/>
                <a:pathLst>
                  <a:path w="1323" h="1233">
                    <a:moveTo>
                      <a:pt x="680" y="329"/>
                    </a:moveTo>
                    <a:lnTo>
                      <a:pt x="759" y="233"/>
                    </a:lnTo>
                    <a:lnTo>
                      <a:pt x="833" y="191"/>
                    </a:lnTo>
                    <a:lnTo>
                      <a:pt x="918" y="186"/>
                    </a:lnTo>
                    <a:lnTo>
                      <a:pt x="1026" y="239"/>
                    </a:lnTo>
                    <a:lnTo>
                      <a:pt x="1086" y="329"/>
                    </a:lnTo>
                    <a:lnTo>
                      <a:pt x="1116" y="433"/>
                    </a:lnTo>
                    <a:lnTo>
                      <a:pt x="1128" y="539"/>
                    </a:lnTo>
                    <a:lnTo>
                      <a:pt x="1123" y="648"/>
                    </a:lnTo>
                    <a:lnTo>
                      <a:pt x="1112" y="753"/>
                    </a:lnTo>
                    <a:lnTo>
                      <a:pt x="1141" y="857"/>
                    </a:lnTo>
                    <a:lnTo>
                      <a:pt x="1165" y="744"/>
                    </a:lnTo>
                    <a:lnTo>
                      <a:pt x="1242" y="689"/>
                    </a:lnTo>
                    <a:lnTo>
                      <a:pt x="1291" y="728"/>
                    </a:lnTo>
                    <a:lnTo>
                      <a:pt x="1305" y="857"/>
                    </a:lnTo>
                    <a:lnTo>
                      <a:pt x="1296" y="960"/>
                    </a:lnTo>
                    <a:lnTo>
                      <a:pt x="1238" y="1046"/>
                    </a:lnTo>
                    <a:lnTo>
                      <a:pt x="1209" y="1083"/>
                    </a:lnTo>
                    <a:lnTo>
                      <a:pt x="1152" y="1127"/>
                    </a:lnTo>
                    <a:lnTo>
                      <a:pt x="1222" y="1101"/>
                    </a:lnTo>
                    <a:lnTo>
                      <a:pt x="1310" y="966"/>
                    </a:lnTo>
                    <a:lnTo>
                      <a:pt x="1323" y="834"/>
                    </a:lnTo>
                    <a:lnTo>
                      <a:pt x="1296" y="696"/>
                    </a:lnTo>
                    <a:lnTo>
                      <a:pt x="1242" y="666"/>
                    </a:lnTo>
                    <a:lnTo>
                      <a:pt x="1242" y="585"/>
                    </a:lnTo>
                    <a:lnTo>
                      <a:pt x="1183" y="323"/>
                    </a:lnTo>
                    <a:lnTo>
                      <a:pt x="1086" y="175"/>
                    </a:lnTo>
                    <a:lnTo>
                      <a:pt x="971" y="74"/>
                    </a:lnTo>
                    <a:lnTo>
                      <a:pt x="840" y="32"/>
                    </a:lnTo>
                    <a:lnTo>
                      <a:pt x="629" y="0"/>
                    </a:lnTo>
                    <a:lnTo>
                      <a:pt x="392" y="32"/>
                    </a:lnTo>
                    <a:lnTo>
                      <a:pt x="213" y="131"/>
                    </a:lnTo>
                    <a:lnTo>
                      <a:pt x="97" y="255"/>
                    </a:lnTo>
                    <a:lnTo>
                      <a:pt x="26" y="404"/>
                    </a:lnTo>
                    <a:lnTo>
                      <a:pt x="12" y="562"/>
                    </a:lnTo>
                    <a:lnTo>
                      <a:pt x="26" y="786"/>
                    </a:lnTo>
                    <a:lnTo>
                      <a:pt x="0" y="857"/>
                    </a:lnTo>
                    <a:lnTo>
                      <a:pt x="23" y="995"/>
                    </a:lnTo>
                    <a:lnTo>
                      <a:pt x="97" y="1113"/>
                    </a:lnTo>
                    <a:lnTo>
                      <a:pt x="198" y="1196"/>
                    </a:lnTo>
                    <a:lnTo>
                      <a:pt x="249" y="1201"/>
                    </a:lnTo>
                    <a:lnTo>
                      <a:pt x="279" y="1233"/>
                    </a:lnTo>
                    <a:lnTo>
                      <a:pt x="264" y="1152"/>
                    </a:lnTo>
                    <a:lnTo>
                      <a:pt x="213" y="1187"/>
                    </a:lnTo>
                    <a:lnTo>
                      <a:pt x="104" y="1106"/>
                    </a:lnTo>
                    <a:lnTo>
                      <a:pt x="33" y="973"/>
                    </a:lnTo>
                    <a:lnTo>
                      <a:pt x="26" y="868"/>
                    </a:lnTo>
                    <a:lnTo>
                      <a:pt x="49" y="843"/>
                    </a:lnTo>
                    <a:lnTo>
                      <a:pt x="121" y="857"/>
                    </a:lnTo>
                    <a:lnTo>
                      <a:pt x="213" y="936"/>
                    </a:lnTo>
                    <a:lnTo>
                      <a:pt x="194" y="830"/>
                    </a:lnTo>
                    <a:lnTo>
                      <a:pt x="167" y="771"/>
                    </a:lnTo>
                    <a:lnTo>
                      <a:pt x="130" y="668"/>
                    </a:lnTo>
                    <a:lnTo>
                      <a:pt x="108" y="551"/>
                    </a:lnTo>
                    <a:lnTo>
                      <a:pt x="108" y="459"/>
                    </a:lnTo>
                    <a:lnTo>
                      <a:pt x="130" y="382"/>
                    </a:lnTo>
                    <a:lnTo>
                      <a:pt x="171" y="323"/>
                    </a:lnTo>
                    <a:lnTo>
                      <a:pt x="227" y="281"/>
                    </a:lnTo>
                    <a:lnTo>
                      <a:pt x="286" y="265"/>
                    </a:lnTo>
                    <a:lnTo>
                      <a:pt x="354" y="281"/>
                    </a:lnTo>
                    <a:lnTo>
                      <a:pt x="420" y="318"/>
                    </a:lnTo>
                    <a:lnTo>
                      <a:pt x="466" y="355"/>
                    </a:lnTo>
                    <a:lnTo>
                      <a:pt x="521" y="369"/>
                    </a:lnTo>
                    <a:lnTo>
                      <a:pt x="607" y="362"/>
                    </a:lnTo>
                    <a:lnTo>
                      <a:pt x="655" y="345"/>
                    </a:lnTo>
                    <a:lnTo>
                      <a:pt x="680" y="3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4831200" y="5026320"/>
                <a:ext cx="34920" cy="8280"/>
              </a:xfrm>
              <a:custGeom>
                <a:avLst/>
                <a:gdLst/>
                <a:ahLst/>
                <a:rect l="l" t="t" r="r" b="b"/>
                <a:pathLst>
                  <a:path w="424" h="83">
                    <a:moveTo>
                      <a:pt x="0" y="42"/>
                    </a:moveTo>
                    <a:lnTo>
                      <a:pt x="74" y="22"/>
                    </a:lnTo>
                    <a:lnTo>
                      <a:pt x="157" y="15"/>
                    </a:lnTo>
                    <a:lnTo>
                      <a:pt x="274" y="15"/>
                    </a:lnTo>
                    <a:lnTo>
                      <a:pt x="338" y="8"/>
                    </a:lnTo>
                    <a:lnTo>
                      <a:pt x="424" y="0"/>
                    </a:lnTo>
                    <a:lnTo>
                      <a:pt x="389" y="46"/>
                    </a:lnTo>
                    <a:lnTo>
                      <a:pt x="300" y="52"/>
                    </a:lnTo>
                    <a:lnTo>
                      <a:pt x="305" y="83"/>
                    </a:lnTo>
                    <a:lnTo>
                      <a:pt x="263" y="52"/>
                    </a:lnTo>
                    <a:lnTo>
                      <a:pt x="204" y="46"/>
                    </a:lnTo>
                    <a:lnTo>
                      <a:pt x="129" y="56"/>
                    </a:lnTo>
                    <a:lnTo>
                      <a:pt x="210" y="28"/>
                    </a:lnTo>
                    <a:lnTo>
                      <a:pt x="134" y="28"/>
                    </a:lnTo>
                    <a:lnTo>
                      <a:pt x="63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4829760" y="5027760"/>
                <a:ext cx="26280" cy="17640"/>
              </a:xfrm>
              <a:custGeom>
                <a:avLst/>
                <a:gdLst/>
                <a:ahLst/>
                <a:rect l="l" t="t" r="r" b="b"/>
                <a:pathLst>
                  <a:path w="318" h="161">
                    <a:moveTo>
                      <a:pt x="0" y="22"/>
                    </a:moveTo>
                    <a:lnTo>
                      <a:pt x="24" y="50"/>
                    </a:lnTo>
                    <a:lnTo>
                      <a:pt x="92" y="74"/>
                    </a:lnTo>
                    <a:lnTo>
                      <a:pt x="138" y="108"/>
                    </a:lnTo>
                    <a:lnTo>
                      <a:pt x="119" y="127"/>
                    </a:lnTo>
                    <a:lnTo>
                      <a:pt x="175" y="161"/>
                    </a:lnTo>
                    <a:lnTo>
                      <a:pt x="237" y="145"/>
                    </a:lnTo>
                    <a:lnTo>
                      <a:pt x="281" y="117"/>
                    </a:lnTo>
                    <a:lnTo>
                      <a:pt x="228" y="108"/>
                    </a:lnTo>
                    <a:lnTo>
                      <a:pt x="318" y="59"/>
                    </a:lnTo>
                    <a:lnTo>
                      <a:pt x="310" y="44"/>
                    </a:lnTo>
                    <a:lnTo>
                      <a:pt x="222" y="97"/>
                    </a:lnTo>
                    <a:lnTo>
                      <a:pt x="175" y="103"/>
                    </a:lnTo>
                    <a:lnTo>
                      <a:pt x="119" y="81"/>
                    </a:lnTo>
                    <a:lnTo>
                      <a:pt x="99" y="53"/>
                    </a:lnTo>
                    <a:lnTo>
                      <a:pt x="156" y="32"/>
                    </a:lnTo>
                    <a:lnTo>
                      <a:pt x="99" y="39"/>
                    </a:lnTo>
                    <a:lnTo>
                      <a:pt x="77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4869000" y="5015880"/>
                <a:ext cx="27000" cy="8280"/>
              </a:xfrm>
              <a:custGeom>
                <a:avLst/>
                <a:gdLst/>
                <a:ahLst/>
                <a:rect l="l" t="t" r="r" b="b"/>
                <a:pathLst>
                  <a:path w="327" h="85">
                    <a:moveTo>
                      <a:pt x="0" y="85"/>
                    </a:moveTo>
                    <a:lnTo>
                      <a:pt x="211" y="0"/>
                    </a:lnTo>
                    <a:lnTo>
                      <a:pt x="269" y="12"/>
                    </a:lnTo>
                    <a:lnTo>
                      <a:pt x="327" y="35"/>
                    </a:lnTo>
                    <a:lnTo>
                      <a:pt x="253" y="28"/>
                    </a:lnTo>
                    <a:lnTo>
                      <a:pt x="200" y="28"/>
                    </a:lnTo>
                    <a:lnTo>
                      <a:pt x="130" y="48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4870800" y="5024520"/>
                <a:ext cx="21600" cy="10080"/>
              </a:xfrm>
              <a:custGeom>
                <a:avLst/>
                <a:gdLst/>
                <a:ahLst/>
                <a:rect l="l" t="t" r="r" b="b"/>
                <a:pathLst>
                  <a:path w="261" h="99">
                    <a:moveTo>
                      <a:pt x="0" y="53"/>
                    </a:moveTo>
                    <a:lnTo>
                      <a:pt x="70" y="2"/>
                    </a:lnTo>
                    <a:lnTo>
                      <a:pt x="166" y="0"/>
                    </a:lnTo>
                    <a:lnTo>
                      <a:pt x="261" y="11"/>
                    </a:lnTo>
                    <a:lnTo>
                      <a:pt x="224" y="57"/>
                    </a:lnTo>
                    <a:lnTo>
                      <a:pt x="166" y="85"/>
                    </a:lnTo>
                    <a:lnTo>
                      <a:pt x="116" y="99"/>
                    </a:lnTo>
                    <a:lnTo>
                      <a:pt x="42" y="88"/>
                    </a:lnTo>
                    <a:lnTo>
                      <a:pt x="116" y="88"/>
                    </a:lnTo>
                    <a:lnTo>
                      <a:pt x="193" y="57"/>
                    </a:lnTo>
                    <a:lnTo>
                      <a:pt x="240" y="15"/>
                    </a:lnTo>
                    <a:lnTo>
                      <a:pt x="153" y="11"/>
                    </a:lnTo>
                    <a:lnTo>
                      <a:pt x="83" y="15"/>
                    </a:lnTo>
                    <a:lnTo>
                      <a:pt x="3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4865400" y="5019480"/>
                <a:ext cx="20520" cy="29520"/>
              </a:xfrm>
              <a:custGeom>
                <a:avLst/>
                <a:gdLst/>
                <a:ahLst/>
                <a:rect l="l" t="t" r="r" b="b"/>
                <a:pathLst>
                  <a:path w="248" h="281">
                    <a:moveTo>
                      <a:pt x="173" y="11"/>
                    </a:moveTo>
                    <a:lnTo>
                      <a:pt x="248" y="25"/>
                    </a:lnTo>
                    <a:lnTo>
                      <a:pt x="158" y="25"/>
                    </a:lnTo>
                    <a:lnTo>
                      <a:pt x="122" y="63"/>
                    </a:lnTo>
                    <a:lnTo>
                      <a:pt x="74" y="94"/>
                    </a:lnTo>
                    <a:lnTo>
                      <a:pt x="55" y="133"/>
                    </a:lnTo>
                    <a:lnTo>
                      <a:pt x="55" y="186"/>
                    </a:lnTo>
                    <a:lnTo>
                      <a:pt x="74" y="281"/>
                    </a:lnTo>
                    <a:lnTo>
                      <a:pt x="43" y="191"/>
                    </a:lnTo>
                    <a:lnTo>
                      <a:pt x="37" y="142"/>
                    </a:lnTo>
                    <a:lnTo>
                      <a:pt x="34" y="105"/>
                    </a:lnTo>
                    <a:lnTo>
                      <a:pt x="0" y="63"/>
                    </a:lnTo>
                    <a:lnTo>
                      <a:pt x="140" y="21"/>
                    </a:lnTo>
                    <a:lnTo>
                      <a:pt x="204" y="0"/>
                    </a:lnTo>
                    <a:lnTo>
                      <a:pt x="17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4857840" y="5030280"/>
                <a:ext cx="3600" cy="24480"/>
              </a:xfrm>
              <a:custGeom>
                <a:avLst/>
                <a:gdLst/>
                <a:ahLst/>
                <a:rect l="l" t="t" r="r" b="b"/>
                <a:pathLst>
                  <a:path w="48" h="233">
                    <a:moveTo>
                      <a:pt x="0" y="10"/>
                    </a:moveTo>
                    <a:lnTo>
                      <a:pt x="22" y="90"/>
                    </a:lnTo>
                    <a:lnTo>
                      <a:pt x="27" y="153"/>
                    </a:lnTo>
                    <a:lnTo>
                      <a:pt x="39" y="233"/>
                    </a:lnTo>
                    <a:lnTo>
                      <a:pt x="48" y="149"/>
                    </a:lnTo>
                    <a:lnTo>
                      <a:pt x="41" y="85"/>
                    </a:lnTo>
                    <a:lnTo>
                      <a:pt x="35" y="32"/>
                    </a:lnTo>
                    <a:lnTo>
                      <a:pt x="27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4874400" y="5033880"/>
                <a:ext cx="14400" cy="5760"/>
              </a:xfrm>
              <a:custGeom>
                <a:avLst/>
                <a:gdLst/>
                <a:ahLst/>
                <a:rect l="l" t="t" r="r" b="b"/>
                <a:pathLst>
                  <a:path w="171" h="55">
                    <a:moveTo>
                      <a:pt x="32" y="11"/>
                    </a:moveTo>
                    <a:lnTo>
                      <a:pt x="0" y="44"/>
                    </a:lnTo>
                    <a:lnTo>
                      <a:pt x="65" y="55"/>
                    </a:lnTo>
                    <a:lnTo>
                      <a:pt x="106" y="44"/>
                    </a:lnTo>
                    <a:lnTo>
                      <a:pt x="171" y="11"/>
                    </a:lnTo>
                    <a:lnTo>
                      <a:pt x="124" y="11"/>
                    </a:lnTo>
                    <a:lnTo>
                      <a:pt x="81" y="0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4811760" y="5033160"/>
                <a:ext cx="13680" cy="17640"/>
              </a:xfrm>
              <a:custGeom>
                <a:avLst/>
                <a:gdLst/>
                <a:ahLst/>
                <a:rect l="l" t="t" r="r" b="b"/>
                <a:pathLst>
                  <a:path w="174" h="170">
                    <a:moveTo>
                      <a:pt x="157" y="30"/>
                    </a:moveTo>
                    <a:lnTo>
                      <a:pt x="88" y="6"/>
                    </a:lnTo>
                    <a:lnTo>
                      <a:pt x="0" y="0"/>
                    </a:lnTo>
                    <a:lnTo>
                      <a:pt x="33" y="20"/>
                    </a:lnTo>
                    <a:lnTo>
                      <a:pt x="51" y="90"/>
                    </a:lnTo>
                    <a:lnTo>
                      <a:pt x="77" y="129"/>
                    </a:lnTo>
                    <a:lnTo>
                      <a:pt x="60" y="78"/>
                    </a:lnTo>
                    <a:lnTo>
                      <a:pt x="70" y="37"/>
                    </a:lnTo>
                    <a:lnTo>
                      <a:pt x="104" y="44"/>
                    </a:lnTo>
                    <a:lnTo>
                      <a:pt x="97" y="78"/>
                    </a:lnTo>
                    <a:lnTo>
                      <a:pt x="108" y="123"/>
                    </a:lnTo>
                    <a:lnTo>
                      <a:pt x="136" y="136"/>
                    </a:lnTo>
                    <a:lnTo>
                      <a:pt x="174" y="170"/>
                    </a:lnTo>
                    <a:lnTo>
                      <a:pt x="157" y="123"/>
                    </a:lnTo>
                    <a:lnTo>
                      <a:pt x="167" y="83"/>
                    </a:lnTo>
                    <a:lnTo>
                      <a:pt x="160" y="59"/>
                    </a:lnTo>
                    <a:lnTo>
                      <a:pt x="15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4902120" y="5015160"/>
                <a:ext cx="10440" cy="30240"/>
              </a:xfrm>
              <a:custGeom>
                <a:avLst/>
                <a:gdLst/>
                <a:ahLst/>
                <a:rect l="l" t="t" r="r" b="b"/>
                <a:pathLst>
                  <a:path w="129" h="292">
                    <a:moveTo>
                      <a:pt x="0" y="116"/>
                    </a:moveTo>
                    <a:lnTo>
                      <a:pt x="23" y="109"/>
                    </a:lnTo>
                    <a:lnTo>
                      <a:pt x="63" y="55"/>
                    </a:lnTo>
                    <a:lnTo>
                      <a:pt x="116" y="0"/>
                    </a:lnTo>
                    <a:lnTo>
                      <a:pt x="104" y="46"/>
                    </a:lnTo>
                    <a:lnTo>
                      <a:pt x="129" y="90"/>
                    </a:lnTo>
                    <a:lnTo>
                      <a:pt x="129" y="147"/>
                    </a:lnTo>
                    <a:lnTo>
                      <a:pt x="104" y="199"/>
                    </a:lnTo>
                    <a:lnTo>
                      <a:pt x="116" y="136"/>
                    </a:lnTo>
                    <a:lnTo>
                      <a:pt x="113" y="105"/>
                    </a:lnTo>
                    <a:lnTo>
                      <a:pt x="83" y="76"/>
                    </a:lnTo>
                    <a:lnTo>
                      <a:pt x="69" y="109"/>
                    </a:lnTo>
                    <a:lnTo>
                      <a:pt x="92" y="147"/>
                    </a:lnTo>
                    <a:lnTo>
                      <a:pt x="83" y="184"/>
                    </a:lnTo>
                    <a:lnTo>
                      <a:pt x="54" y="199"/>
                    </a:lnTo>
                    <a:lnTo>
                      <a:pt x="37" y="228"/>
                    </a:lnTo>
                    <a:lnTo>
                      <a:pt x="19" y="292"/>
                    </a:lnTo>
                    <a:lnTo>
                      <a:pt x="17" y="237"/>
                    </a:lnTo>
                    <a:lnTo>
                      <a:pt x="30" y="184"/>
                    </a:lnTo>
                    <a:lnTo>
                      <a:pt x="19" y="164"/>
                    </a:lnTo>
                    <a:lnTo>
                      <a:pt x="0" y="143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4842360" y="503028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99" h="63">
                    <a:moveTo>
                      <a:pt x="0" y="14"/>
                    </a:moveTo>
                    <a:lnTo>
                      <a:pt x="16" y="46"/>
                    </a:lnTo>
                    <a:lnTo>
                      <a:pt x="42" y="63"/>
                    </a:lnTo>
                    <a:lnTo>
                      <a:pt x="81" y="50"/>
                    </a:lnTo>
                    <a:lnTo>
                      <a:pt x="99" y="32"/>
                    </a:lnTo>
                    <a:lnTo>
                      <a:pt x="99" y="0"/>
                    </a:lnTo>
                    <a:lnTo>
                      <a:pt x="64" y="4"/>
                    </a:lnTo>
                    <a:lnTo>
                      <a:pt x="69" y="21"/>
                    </a:lnTo>
                    <a:lnTo>
                      <a:pt x="53" y="35"/>
                    </a:lnTo>
                    <a:lnTo>
                      <a:pt x="42" y="26"/>
                    </a:lnTo>
                    <a:lnTo>
                      <a:pt x="37" y="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4877640" y="502452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92" h="61">
                    <a:moveTo>
                      <a:pt x="0" y="17"/>
                    </a:moveTo>
                    <a:lnTo>
                      <a:pt x="9" y="55"/>
                    </a:lnTo>
                    <a:lnTo>
                      <a:pt x="42" y="61"/>
                    </a:lnTo>
                    <a:lnTo>
                      <a:pt x="74" y="51"/>
                    </a:lnTo>
                    <a:lnTo>
                      <a:pt x="92" y="31"/>
                    </a:lnTo>
                    <a:lnTo>
                      <a:pt x="86" y="0"/>
                    </a:lnTo>
                    <a:lnTo>
                      <a:pt x="64" y="0"/>
                    </a:lnTo>
                    <a:lnTo>
                      <a:pt x="60" y="33"/>
                    </a:lnTo>
                    <a:lnTo>
                      <a:pt x="37" y="33"/>
                    </a:lnTo>
                    <a:lnTo>
                      <a:pt x="27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4851720" y="5053320"/>
                <a:ext cx="30960" cy="21240"/>
              </a:xfrm>
              <a:custGeom>
                <a:avLst/>
                <a:gdLst/>
                <a:ahLst/>
                <a:rect l="l" t="t" r="r" b="b"/>
                <a:pathLst>
                  <a:path w="374" h="198">
                    <a:moveTo>
                      <a:pt x="31" y="0"/>
                    </a:moveTo>
                    <a:lnTo>
                      <a:pt x="0" y="37"/>
                    </a:lnTo>
                    <a:lnTo>
                      <a:pt x="0" y="79"/>
                    </a:lnTo>
                    <a:lnTo>
                      <a:pt x="26" y="90"/>
                    </a:lnTo>
                    <a:lnTo>
                      <a:pt x="46" y="132"/>
                    </a:lnTo>
                    <a:lnTo>
                      <a:pt x="127" y="163"/>
                    </a:lnTo>
                    <a:lnTo>
                      <a:pt x="199" y="198"/>
                    </a:lnTo>
                    <a:lnTo>
                      <a:pt x="235" y="198"/>
                    </a:lnTo>
                    <a:lnTo>
                      <a:pt x="305" y="120"/>
                    </a:lnTo>
                    <a:lnTo>
                      <a:pt x="360" y="90"/>
                    </a:lnTo>
                    <a:lnTo>
                      <a:pt x="374" y="37"/>
                    </a:lnTo>
                    <a:lnTo>
                      <a:pt x="365" y="22"/>
                    </a:lnTo>
                    <a:lnTo>
                      <a:pt x="342" y="0"/>
                    </a:lnTo>
                    <a:lnTo>
                      <a:pt x="354" y="25"/>
                    </a:lnTo>
                    <a:lnTo>
                      <a:pt x="347" y="46"/>
                    </a:lnTo>
                    <a:lnTo>
                      <a:pt x="325" y="46"/>
                    </a:lnTo>
                    <a:lnTo>
                      <a:pt x="285" y="69"/>
                    </a:lnTo>
                    <a:lnTo>
                      <a:pt x="261" y="97"/>
                    </a:lnTo>
                    <a:lnTo>
                      <a:pt x="235" y="120"/>
                    </a:lnTo>
                    <a:lnTo>
                      <a:pt x="187" y="127"/>
                    </a:lnTo>
                    <a:lnTo>
                      <a:pt x="141" y="117"/>
                    </a:lnTo>
                    <a:lnTo>
                      <a:pt x="107" y="97"/>
                    </a:lnTo>
                    <a:lnTo>
                      <a:pt x="63" y="79"/>
                    </a:lnTo>
                    <a:lnTo>
                      <a:pt x="26" y="79"/>
                    </a:lnTo>
                    <a:lnTo>
                      <a:pt x="8" y="60"/>
                    </a:lnTo>
                    <a:lnTo>
                      <a:pt x="15" y="37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4848840" y="5073480"/>
                <a:ext cx="42840" cy="9360"/>
              </a:xfrm>
              <a:custGeom>
                <a:avLst/>
                <a:gdLst/>
                <a:ahLst/>
                <a:rect l="l" t="t" r="r" b="b"/>
                <a:pathLst>
                  <a:path w="520" h="90">
                    <a:moveTo>
                      <a:pt x="48" y="60"/>
                    </a:moveTo>
                    <a:lnTo>
                      <a:pt x="101" y="40"/>
                    </a:lnTo>
                    <a:lnTo>
                      <a:pt x="174" y="23"/>
                    </a:lnTo>
                    <a:lnTo>
                      <a:pt x="259" y="24"/>
                    </a:lnTo>
                    <a:lnTo>
                      <a:pt x="343" y="7"/>
                    </a:lnTo>
                    <a:lnTo>
                      <a:pt x="488" y="23"/>
                    </a:lnTo>
                    <a:lnTo>
                      <a:pt x="511" y="0"/>
                    </a:lnTo>
                    <a:lnTo>
                      <a:pt x="520" y="31"/>
                    </a:lnTo>
                    <a:lnTo>
                      <a:pt x="501" y="46"/>
                    </a:lnTo>
                    <a:lnTo>
                      <a:pt x="477" y="31"/>
                    </a:lnTo>
                    <a:lnTo>
                      <a:pt x="417" y="24"/>
                    </a:lnTo>
                    <a:lnTo>
                      <a:pt x="327" y="46"/>
                    </a:lnTo>
                    <a:lnTo>
                      <a:pt x="253" y="64"/>
                    </a:lnTo>
                    <a:lnTo>
                      <a:pt x="128" y="60"/>
                    </a:lnTo>
                    <a:lnTo>
                      <a:pt x="41" y="70"/>
                    </a:lnTo>
                    <a:lnTo>
                      <a:pt x="20" y="90"/>
                    </a:lnTo>
                    <a:lnTo>
                      <a:pt x="0" y="79"/>
                    </a:lnTo>
                    <a:lnTo>
                      <a:pt x="4" y="53"/>
                    </a:lnTo>
                    <a:lnTo>
                      <a:pt x="27" y="46"/>
                    </a:lnTo>
                    <a:lnTo>
                      <a:pt x="48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4858200" y="5085720"/>
                <a:ext cx="23760" cy="10080"/>
              </a:xfrm>
              <a:custGeom>
                <a:avLst/>
                <a:gdLst/>
                <a:ahLst/>
                <a:rect l="l" t="t" r="r" b="b"/>
                <a:pathLst>
                  <a:path w="286" h="94">
                    <a:moveTo>
                      <a:pt x="0" y="22"/>
                    </a:moveTo>
                    <a:lnTo>
                      <a:pt x="64" y="31"/>
                    </a:lnTo>
                    <a:lnTo>
                      <a:pt x="123" y="31"/>
                    </a:lnTo>
                    <a:lnTo>
                      <a:pt x="194" y="26"/>
                    </a:lnTo>
                    <a:lnTo>
                      <a:pt x="286" y="0"/>
                    </a:lnTo>
                    <a:lnTo>
                      <a:pt x="231" y="46"/>
                    </a:lnTo>
                    <a:lnTo>
                      <a:pt x="244" y="83"/>
                    </a:lnTo>
                    <a:lnTo>
                      <a:pt x="171" y="83"/>
                    </a:lnTo>
                    <a:lnTo>
                      <a:pt x="64" y="94"/>
                    </a:lnTo>
                    <a:lnTo>
                      <a:pt x="70" y="63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4828320" y="5051880"/>
                <a:ext cx="75600" cy="64080"/>
              </a:xfrm>
              <a:custGeom>
                <a:avLst/>
                <a:gdLst/>
                <a:ahLst/>
                <a:rect l="l" t="t" r="r" b="b"/>
                <a:pathLst>
                  <a:path w="911" h="609">
                    <a:moveTo>
                      <a:pt x="0" y="83"/>
                    </a:moveTo>
                    <a:lnTo>
                      <a:pt x="96" y="339"/>
                    </a:lnTo>
                    <a:lnTo>
                      <a:pt x="157" y="438"/>
                    </a:lnTo>
                    <a:lnTo>
                      <a:pt x="226" y="498"/>
                    </a:lnTo>
                    <a:lnTo>
                      <a:pt x="304" y="546"/>
                    </a:lnTo>
                    <a:lnTo>
                      <a:pt x="394" y="576"/>
                    </a:lnTo>
                    <a:lnTo>
                      <a:pt x="487" y="609"/>
                    </a:lnTo>
                    <a:lnTo>
                      <a:pt x="570" y="609"/>
                    </a:lnTo>
                    <a:lnTo>
                      <a:pt x="669" y="581"/>
                    </a:lnTo>
                    <a:lnTo>
                      <a:pt x="735" y="535"/>
                    </a:lnTo>
                    <a:lnTo>
                      <a:pt x="793" y="464"/>
                    </a:lnTo>
                    <a:lnTo>
                      <a:pt x="848" y="374"/>
                    </a:lnTo>
                    <a:lnTo>
                      <a:pt x="883" y="288"/>
                    </a:lnTo>
                    <a:lnTo>
                      <a:pt x="898" y="183"/>
                    </a:lnTo>
                    <a:lnTo>
                      <a:pt x="911" y="0"/>
                    </a:lnTo>
                    <a:lnTo>
                      <a:pt x="892" y="14"/>
                    </a:lnTo>
                    <a:lnTo>
                      <a:pt x="869" y="265"/>
                    </a:lnTo>
                    <a:lnTo>
                      <a:pt x="839" y="353"/>
                    </a:lnTo>
                    <a:lnTo>
                      <a:pt x="793" y="434"/>
                    </a:lnTo>
                    <a:lnTo>
                      <a:pt x="724" y="517"/>
                    </a:lnTo>
                    <a:lnTo>
                      <a:pt x="659" y="558"/>
                    </a:lnTo>
                    <a:lnTo>
                      <a:pt x="659" y="528"/>
                    </a:lnTo>
                    <a:lnTo>
                      <a:pt x="595" y="551"/>
                    </a:lnTo>
                    <a:lnTo>
                      <a:pt x="511" y="557"/>
                    </a:lnTo>
                    <a:lnTo>
                      <a:pt x="450" y="551"/>
                    </a:lnTo>
                    <a:lnTo>
                      <a:pt x="392" y="528"/>
                    </a:lnTo>
                    <a:lnTo>
                      <a:pt x="408" y="558"/>
                    </a:lnTo>
                    <a:lnTo>
                      <a:pt x="293" y="524"/>
                    </a:lnTo>
                    <a:lnTo>
                      <a:pt x="203" y="445"/>
                    </a:lnTo>
                    <a:lnTo>
                      <a:pt x="138" y="368"/>
                    </a:lnTo>
                    <a:lnTo>
                      <a:pt x="90" y="279"/>
                    </a:lnTo>
                    <a:lnTo>
                      <a:pt x="10" y="74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4835160" y="5060880"/>
                <a:ext cx="15120" cy="29520"/>
              </a:xfrm>
              <a:custGeom>
                <a:avLst/>
                <a:gdLst/>
                <a:ahLst/>
                <a:rect l="l" t="t" r="r" b="b"/>
                <a:pathLst>
                  <a:path w="187" h="278">
                    <a:moveTo>
                      <a:pt x="22" y="58"/>
                    </a:moveTo>
                    <a:lnTo>
                      <a:pt x="97" y="53"/>
                    </a:lnTo>
                    <a:lnTo>
                      <a:pt x="134" y="36"/>
                    </a:lnTo>
                    <a:lnTo>
                      <a:pt x="187" y="0"/>
                    </a:lnTo>
                    <a:lnTo>
                      <a:pt x="157" y="58"/>
                    </a:lnTo>
                    <a:lnTo>
                      <a:pt x="111" y="117"/>
                    </a:lnTo>
                    <a:lnTo>
                      <a:pt x="118" y="181"/>
                    </a:lnTo>
                    <a:lnTo>
                      <a:pt x="163" y="278"/>
                    </a:lnTo>
                    <a:lnTo>
                      <a:pt x="111" y="207"/>
                    </a:lnTo>
                    <a:lnTo>
                      <a:pt x="77" y="133"/>
                    </a:lnTo>
                    <a:lnTo>
                      <a:pt x="40" y="117"/>
                    </a:lnTo>
                    <a:lnTo>
                      <a:pt x="0" y="64"/>
                    </a:lnTo>
                    <a:lnTo>
                      <a:pt x="22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4884120" y="5056920"/>
                <a:ext cx="12960" cy="23760"/>
              </a:xfrm>
              <a:custGeom>
                <a:avLst/>
                <a:gdLst/>
                <a:ahLst/>
                <a:rect l="l" t="t" r="r" b="b"/>
                <a:pathLst>
                  <a:path w="156" h="222">
                    <a:moveTo>
                      <a:pt x="0" y="0"/>
                    </a:moveTo>
                    <a:lnTo>
                      <a:pt x="31" y="29"/>
                    </a:lnTo>
                    <a:lnTo>
                      <a:pt x="94" y="68"/>
                    </a:lnTo>
                    <a:lnTo>
                      <a:pt x="112" y="94"/>
                    </a:lnTo>
                    <a:lnTo>
                      <a:pt x="124" y="140"/>
                    </a:lnTo>
                    <a:lnTo>
                      <a:pt x="117" y="222"/>
                    </a:lnTo>
                    <a:lnTo>
                      <a:pt x="134" y="136"/>
                    </a:lnTo>
                    <a:lnTo>
                      <a:pt x="156" y="46"/>
                    </a:lnTo>
                    <a:lnTo>
                      <a:pt x="156" y="9"/>
                    </a:lnTo>
                    <a:lnTo>
                      <a:pt x="88" y="13"/>
                    </a:lnTo>
                    <a:lnTo>
                      <a:pt x="3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5064480" y="5186520"/>
                <a:ext cx="54360" cy="30240"/>
              </a:xfrm>
              <a:custGeom>
                <a:avLst/>
                <a:gdLst/>
                <a:ahLst/>
                <a:rect l="l" t="t" r="r" b="b"/>
                <a:pathLst>
                  <a:path w="652" h="291">
                    <a:moveTo>
                      <a:pt x="50" y="0"/>
                    </a:moveTo>
                    <a:lnTo>
                      <a:pt x="59" y="44"/>
                    </a:lnTo>
                    <a:lnTo>
                      <a:pt x="59" y="85"/>
                    </a:lnTo>
                    <a:lnTo>
                      <a:pt x="34" y="126"/>
                    </a:lnTo>
                    <a:lnTo>
                      <a:pt x="0" y="152"/>
                    </a:lnTo>
                    <a:lnTo>
                      <a:pt x="136" y="291"/>
                    </a:lnTo>
                    <a:lnTo>
                      <a:pt x="294" y="192"/>
                    </a:lnTo>
                    <a:lnTo>
                      <a:pt x="384" y="291"/>
                    </a:lnTo>
                    <a:lnTo>
                      <a:pt x="452" y="233"/>
                    </a:lnTo>
                    <a:lnTo>
                      <a:pt x="583" y="152"/>
                    </a:lnTo>
                    <a:lnTo>
                      <a:pt x="652" y="69"/>
                    </a:lnTo>
                    <a:lnTo>
                      <a:pt x="553" y="152"/>
                    </a:lnTo>
                    <a:lnTo>
                      <a:pt x="410" y="210"/>
                    </a:lnTo>
                    <a:lnTo>
                      <a:pt x="343" y="159"/>
                    </a:lnTo>
                    <a:lnTo>
                      <a:pt x="184" y="159"/>
                    </a:lnTo>
                    <a:lnTo>
                      <a:pt x="94" y="9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5086440" y="5062680"/>
                <a:ext cx="34920" cy="46440"/>
              </a:xfrm>
              <a:custGeom>
                <a:avLst/>
                <a:gdLst/>
                <a:ahLst/>
                <a:rect l="l" t="t" r="r" b="b"/>
                <a:pathLst>
                  <a:path w="419" h="442">
                    <a:moveTo>
                      <a:pt x="36" y="0"/>
                    </a:moveTo>
                    <a:lnTo>
                      <a:pt x="134" y="35"/>
                    </a:lnTo>
                    <a:lnTo>
                      <a:pt x="260" y="13"/>
                    </a:lnTo>
                    <a:lnTo>
                      <a:pt x="382" y="42"/>
                    </a:lnTo>
                    <a:lnTo>
                      <a:pt x="396" y="0"/>
                    </a:lnTo>
                    <a:lnTo>
                      <a:pt x="419" y="92"/>
                    </a:lnTo>
                    <a:lnTo>
                      <a:pt x="419" y="189"/>
                    </a:lnTo>
                    <a:lnTo>
                      <a:pt x="403" y="334"/>
                    </a:lnTo>
                    <a:lnTo>
                      <a:pt x="373" y="442"/>
                    </a:lnTo>
                    <a:lnTo>
                      <a:pt x="396" y="316"/>
                    </a:lnTo>
                    <a:lnTo>
                      <a:pt x="396" y="260"/>
                    </a:lnTo>
                    <a:lnTo>
                      <a:pt x="290" y="327"/>
                    </a:lnTo>
                    <a:lnTo>
                      <a:pt x="269" y="327"/>
                    </a:lnTo>
                    <a:lnTo>
                      <a:pt x="260" y="308"/>
                    </a:lnTo>
                    <a:lnTo>
                      <a:pt x="359" y="202"/>
                    </a:lnTo>
                    <a:lnTo>
                      <a:pt x="352" y="145"/>
                    </a:lnTo>
                    <a:lnTo>
                      <a:pt x="246" y="214"/>
                    </a:lnTo>
                    <a:lnTo>
                      <a:pt x="274" y="165"/>
                    </a:lnTo>
                    <a:lnTo>
                      <a:pt x="260" y="154"/>
                    </a:lnTo>
                    <a:lnTo>
                      <a:pt x="253" y="110"/>
                    </a:lnTo>
                    <a:lnTo>
                      <a:pt x="218" y="110"/>
                    </a:lnTo>
                    <a:lnTo>
                      <a:pt x="154" y="175"/>
                    </a:lnTo>
                    <a:lnTo>
                      <a:pt x="134" y="175"/>
                    </a:lnTo>
                    <a:lnTo>
                      <a:pt x="134" y="141"/>
                    </a:lnTo>
                    <a:lnTo>
                      <a:pt x="163" y="103"/>
                    </a:lnTo>
                    <a:lnTo>
                      <a:pt x="62" y="79"/>
                    </a:lnTo>
                    <a:lnTo>
                      <a:pt x="62" y="117"/>
                    </a:lnTo>
                    <a:lnTo>
                      <a:pt x="90" y="161"/>
                    </a:lnTo>
                    <a:lnTo>
                      <a:pt x="29" y="117"/>
                    </a:lnTo>
                    <a:lnTo>
                      <a:pt x="0" y="55"/>
                    </a:lnTo>
                    <a:lnTo>
                      <a:pt x="7" y="13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5095800" y="5083200"/>
                <a:ext cx="8280" cy="5760"/>
              </a:xfrm>
              <a:custGeom>
                <a:avLst/>
                <a:gdLst/>
                <a:ahLst/>
                <a:rect l="l" t="t" r="r" b="b"/>
                <a:pathLst>
                  <a:path w="96" h="60">
                    <a:moveTo>
                      <a:pt x="13" y="0"/>
                    </a:moveTo>
                    <a:lnTo>
                      <a:pt x="96" y="35"/>
                    </a:lnTo>
                    <a:lnTo>
                      <a:pt x="96" y="57"/>
                    </a:lnTo>
                    <a:lnTo>
                      <a:pt x="72" y="60"/>
                    </a:lnTo>
                    <a:lnTo>
                      <a:pt x="4" y="29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5122080" y="5035680"/>
                <a:ext cx="54360" cy="50400"/>
              </a:xfrm>
              <a:custGeom>
                <a:avLst/>
                <a:gdLst/>
                <a:ahLst/>
                <a:rect l="l" t="t" r="r" b="b"/>
                <a:pathLst>
                  <a:path w="655" h="483">
                    <a:moveTo>
                      <a:pt x="0" y="132"/>
                    </a:moveTo>
                    <a:lnTo>
                      <a:pt x="41" y="279"/>
                    </a:lnTo>
                    <a:lnTo>
                      <a:pt x="103" y="351"/>
                    </a:lnTo>
                    <a:lnTo>
                      <a:pt x="103" y="473"/>
                    </a:lnTo>
                    <a:lnTo>
                      <a:pt x="161" y="362"/>
                    </a:lnTo>
                    <a:lnTo>
                      <a:pt x="364" y="483"/>
                    </a:lnTo>
                    <a:lnTo>
                      <a:pt x="521" y="376"/>
                    </a:lnTo>
                    <a:lnTo>
                      <a:pt x="352" y="376"/>
                    </a:lnTo>
                    <a:lnTo>
                      <a:pt x="297" y="356"/>
                    </a:lnTo>
                    <a:lnTo>
                      <a:pt x="224" y="356"/>
                    </a:lnTo>
                    <a:lnTo>
                      <a:pt x="217" y="332"/>
                    </a:lnTo>
                    <a:lnTo>
                      <a:pt x="329" y="314"/>
                    </a:lnTo>
                    <a:lnTo>
                      <a:pt x="329" y="259"/>
                    </a:lnTo>
                    <a:lnTo>
                      <a:pt x="391" y="224"/>
                    </a:lnTo>
                    <a:lnTo>
                      <a:pt x="323" y="224"/>
                    </a:lnTo>
                    <a:lnTo>
                      <a:pt x="308" y="208"/>
                    </a:lnTo>
                    <a:lnTo>
                      <a:pt x="426" y="160"/>
                    </a:lnTo>
                    <a:lnTo>
                      <a:pt x="479" y="107"/>
                    </a:lnTo>
                    <a:lnTo>
                      <a:pt x="631" y="169"/>
                    </a:lnTo>
                    <a:lnTo>
                      <a:pt x="655" y="160"/>
                    </a:lnTo>
                    <a:lnTo>
                      <a:pt x="527" y="0"/>
                    </a:lnTo>
                    <a:lnTo>
                      <a:pt x="479" y="0"/>
                    </a:lnTo>
                    <a:lnTo>
                      <a:pt x="290" y="99"/>
                    </a:lnTo>
                    <a:lnTo>
                      <a:pt x="140" y="187"/>
                    </a:lnTo>
                    <a:lnTo>
                      <a:pt x="134" y="238"/>
                    </a:lnTo>
                    <a:lnTo>
                      <a:pt x="90" y="245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5152680" y="5059080"/>
                <a:ext cx="15840" cy="8280"/>
              </a:xfrm>
              <a:custGeom>
                <a:avLst/>
                <a:gdLst/>
                <a:ahLst/>
                <a:rect l="l" t="t" r="r" b="b"/>
                <a:pathLst>
                  <a:path w="191" h="81">
                    <a:moveTo>
                      <a:pt x="0" y="0"/>
                    </a:moveTo>
                    <a:lnTo>
                      <a:pt x="34" y="65"/>
                    </a:lnTo>
                    <a:lnTo>
                      <a:pt x="20" y="81"/>
                    </a:lnTo>
                    <a:lnTo>
                      <a:pt x="176" y="72"/>
                    </a:lnTo>
                    <a:lnTo>
                      <a:pt x="191" y="50"/>
                    </a:lnTo>
                    <a:lnTo>
                      <a:pt x="101" y="0"/>
                    </a:lnTo>
                    <a:lnTo>
                      <a:pt x="2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5117400" y="511020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396" h="226">
                    <a:moveTo>
                      <a:pt x="0" y="41"/>
                    </a:moveTo>
                    <a:lnTo>
                      <a:pt x="69" y="83"/>
                    </a:lnTo>
                    <a:lnTo>
                      <a:pt x="136" y="83"/>
                    </a:lnTo>
                    <a:lnTo>
                      <a:pt x="228" y="14"/>
                    </a:lnTo>
                    <a:lnTo>
                      <a:pt x="297" y="0"/>
                    </a:lnTo>
                    <a:lnTo>
                      <a:pt x="302" y="14"/>
                    </a:lnTo>
                    <a:lnTo>
                      <a:pt x="339" y="26"/>
                    </a:lnTo>
                    <a:lnTo>
                      <a:pt x="396" y="14"/>
                    </a:lnTo>
                    <a:lnTo>
                      <a:pt x="359" y="63"/>
                    </a:lnTo>
                    <a:lnTo>
                      <a:pt x="219" y="109"/>
                    </a:lnTo>
                    <a:lnTo>
                      <a:pt x="214" y="180"/>
                    </a:lnTo>
                    <a:lnTo>
                      <a:pt x="168" y="226"/>
                    </a:lnTo>
                    <a:lnTo>
                      <a:pt x="99" y="118"/>
                    </a:lnTo>
                    <a:lnTo>
                      <a:pt x="46" y="104"/>
                    </a:lnTo>
                    <a:lnTo>
                      <a:pt x="0" y="63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5135400" y="5097600"/>
                <a:ext cx="12600" cy="5760"/>
              </a:xfrm>
              <a:custGeom>
                <a:avLst/>
                <a:gdLst/>
                <a:ahLst/>
                <a:rect l="l" t="t" r="r" b="b"/>
                <a:pathLst>
                  <a:path w="155" h="58">
                    <a:moveTo>
                      <a:pt x="0" y="58"/>
                    </a:moveTo>
                    <a:lnTo>
                      <a:pt x="106" y="32"/>
                    </a:lnTo>
                    <a:lnTo>
                      <a:pt x="155" y="44"/>
                    </a:lnTo>
                    <a:lnTo>
                      <a:pt x="106" y="0"/>
                    </a:lnTo>
                    <a:lnTo>
                      <a:pt x="41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5150160" y="5105160"/>
                <a:ext cx="27000" cy="48240"/>
              </a:xfrm>
              <a:custGeom>
                <a:avLst/>
                <a:gdLst/>
                <a:ahLst/>
                <a:rect l="l" t="t" r="r" b="b"/>
                <a:pathLst>
                  <a:path w="323" h="453">
                    <a:moveTo>
                      <a:pt x="0" y="0"/>
                    </a:moveTo>
                    <a:lnTo>
                      <a:pt x="7" y="54"/>
                    </a:lnTo>
                    <a:lnTo>
                      <a:pt x="84" y="119"/>
                    </a:lnTo>
                    <a:lnTo>
                      <a:pt x="169" y="229"/>
                    </a:lnTo>
                    <a:lnTo>
                      <a:pt x="99" y="275"/>
                    </a:lnTo>
                    <a:lnTo>
                      <a:pt x="209" y="453"/>
                    </a:lnTo>
                    <a:lnTo>
                      <a:pt x="282" y="453"/>
                    </a:lnTo>
                    <a:lnTo>
                      <a:pt x="323" y="299"/>
                    </a:lnTo>
                    <a:lnTo>
                      <a:pt x="308" y="250"/>
                    </a:lnTo>
                    <a:lnTo>
                      <a:pt x="224" y="222"/>
                    </a:lnTo>
                    <a:lnTo>
                      <a:pt x="205" y="119"/>
                    </a:lnTo>
                    <a:lnTo>
                      <a:pt x="104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5092920" y="5087160"/>
                <a:ext cx="33480" cy="87840"/>
              </a:xfrm>
              <a:custGeom>
                <a:avLst/>
                <a:gdLst/>
                <a:ahLst/>
                <a:rect l="l" t="t" r="r" b="b"/>
                <a:pathLst>
                  <a:path w="411" h="827">
                    <a:moveTo>
                      <a:pt x="290" y="272"/>
                    </a:moveTo>
                    <a:lnTo>
                      <a:pt x="197" y="272"/>
                    </a:lnTo>
                    <a:lnTo>
                      <a:pt x="121" y="230"/>
                    </a:lnTo>
                    <a:lnTo>
                      <a:pt x="51" y="167"/>
                    </a:lnTo>
                    <a:lnTo>
                      <a:pt x="0" y="0"/>
                    </a:lnTo>
                    <a:lnTo>
                      <a:pt x="29" y="193"/>
                    </a:lnTo>
                    <a:lnTo>
                      <a:pt x="160" y="378"/>
                    </a:lnTo>
                    <a:lnTo>
                      <a:pt x="282" y="629"/>
                    </a:lnTo>
                    <a:lnTo>
                      <a:pt x="342" y="708"/>
                    </a:lnTo>
                    <a:lnTo>
                      <a:pt x="395" y="827"/>
                    </a:lnTo>
                    <a:lnTo>
                      <a:pt x="354" y="636"/>
                    </a:lnTo>
                    <a:lnTo>
                      <a:pt x="411" y="609"/>
                    </a:lnTo>
                    <a:lnTo>
                      <a:pt x="354" y="565"/>
                    </a:lnTo>
                    <a:lnTo>
                      <a:pt x="354" y="530"/>
                    </a:lnTo>
                    <a:lnTo>
                      <a:pt x="386" y="507"/>
                    </a:lnTo>
                    <a:lnTo>
                      <a:pt x="319" y="523"/>
                    </a:lnTo>
                    <a:lnTo>
                      <a:pt x="282" y="507"/>
                    </a:lnTo>
                    <a:lnTo>
                      <a:pt x="268" y="466"/>
                    </a:lnTo>
                    <a:lnTo>
                      <a:pt x="268" y="356"/>
                    </a:lnTo>
                    <a:lnTo>
                      <a:pt x="290" y="2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5128920" y="5132880"/>
                <a:ext cx="30960" cy="7560"/>
              </a:xfrm>
              <a:custGeom>
                <a:avLst/>
                <a:gdLst/>
                <a:ahLst/>
                <a:rect l="l" t="t" r="r" b="b"/>
                <a:pathLst>
                  <a:path w="381" h="76">
                    <a:moveTo>
                      <a:pt x="0" y="76"/>
                    </a:moveTo>
                    <a:lnTo>
                      <a:pt x="175" y="40"/>
                    </a:lnTo>
                    <a:lnTo>
                      <a:pt x="260" y="0"/>
                    </a:lnTo>
                    <a:lnTo>
                      <a:pt x="313" y="0"/>
                    </a:lnTo>
                    <a:lnTo>
                      <a:pt x="381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5131440" y="5143320"/>
                <a:ext cx="25560" cy="20160"/>
              </a:xfrm>
              <a:custGeom>
                <a:avLst/>
                <a:gdLst/>
                <a:ahLst/>
                <a:rect l="l" t="t" r="r" b="b"/>
                <a:pathLst>
                  <a:path w="316" h="191">
                    <a:moveTo>
                      <a:pt x="0" y="79"/>
                    </a:moveTo>
                    <a:lnTo>
                      <a:pt x="242" y="26"/>
                    </a:lnTo>
                    <a:lnTo>
                      <a:pt x="295" y="0"/>
                    </a:lnTo>
                    <a:lnTo>
                      <a:pt x="303" y="19"/>
                    </a:lnTo>
                    <a:lnTo>
                      <a:pt x="219" y="64"/>
                    </a:lnTo>
                    <a:lnTo>
                      <a:pt x="235" y="112"/>
                    </a:lnTo>
                    <a:lnTo>
                      <a:pt x="316" y="191"/>
                    </a:lnTo>
                    <a:lnTo>
                      <a:pt x="228" y="162"/>
                    </a:lnTo>
                    <a:lnTo>
                      <a:pt x="150" y="162"/>
                    </a:lnTo>
                    <a:lnTo>
                      <a:pt x="72" y="182"/>
                    </a:lnTo>
                    <a:lnTo>
                      <a:pt x="46" y="191"/>
                    </a:lnTo>
                    <a:lnTo>
                      <a:pt x="60" y="156"/>
                    </a:lnTo>
                    <a:lnTo>
                      <a:pt x="24" y="9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5065920" y="4955760"/>
                <a:ext cx="141840" cy="109080"/>
              </a:xfrm>
              <a:custGeom>
                <a:avLst/>
                <a:gdLst/>
                <a:ahLst/>
                <a:rect l="l" t="t" r="r" b="b"/>
                <a:pathLst>
                  <a:path w="1704" h="1028">
                    <a:moveTo>
                      <a:pt x="159" y="340"/>
                    </a:moveTo>
                    <a:lnTo>
                      <a:pt x="122" y="404"/>
                    </a:lnTo>
                    <a:lnTo>
                      <a:pt x="0" y="551"/>
                    </a:lnTo>
                    <a:lnTo>
                      <a:pt x="0" y="609"/>
                    </a:lnTo>
                    <a:lnTo>
                      <a:pt x="76" y="749"/>
                    </a:lnTo>
                    <a:lnTo>
                      <a:pt x="48" y="874"/>
                    </a:lnTo>
                    <a:lnTo>
                      <a:pt x="111" y="978"/>
                    </a:lnTo>
                    <a:lnTo>
                      <a:pt x="245" y="987"/>
                    </a:lnTo>
                    <a:lnTo>
                      <a:pt x="286" y="1028"/>
                    </a:lnTo>
                    <a:lnTo>
                      <a:pt x="252" y="692"/>
                    </a:lnTo>
                    <a:lnTo>
                      <a:pt x="252" y="588"/>
                    </a:lnTo>
                    <a:lnTo>
                      <a:pt x="265" y="507"/>
                    </a:lnTo>
                    <a:lnTo>
                      <a:pt x="286" y="457"/>
                    </a:lnTo>
                    <a:lnTo>
                      <a:pt x="408" y="507"/>
                    </a:lnTo>
                    <a:lnTo>
                      <a:pt x="555" y="529"/>
                    </a:lnTo>
                    <a:lnTo>
                      <a:pt x="738" y="529"/>
                    </a:lnTo>
                    <a:lnTo>
                      <a:pt x="966" y="507"/>
                    </a:lnTo>
                    <a:lnTo>
                      <a:pt x="851" y="503"/>
                    </a:lnTo>
                    <a:lnTo>
                      <a:pt x="708" y="434"/>
                    </a:lnTo>
                    <a:lnTo>
                      <a:pt x="865" y="441"/>
                    </a:lnTo>
                    <a:lnTo>
                      <a:pt x="992" y="434"/>
                    </a:lnTo>
                    <a:lnTo>
                      <a:pt x="1162" y="397"/>
                    </a:lnTo>
                    <a:lnTo>
                      <a:pt x="1280" y="349"/>
                    </a:lnTo>
                    <a:lnTo>
                      <a:pt x="1441" y="334"/>
                    </a:lnTo>
                    <a:lnTo>
                      <a:pt x="1513" y="362"/>
                    </a:lnTo>
                    <a:lnTo>
                      <a:pt x="1586" y="397"/>
                    </a:lnTo>
                    <a:lnTo>
                      <a:pt x="1644" y="397"/>
                    </a:lnTo>
                    <a:lnTo>
                      <a:pt x="1704" y="362"/>
                    </a:lnTo>
                    <a:lnTo>
                      <a:pt x="1634" y="272"/>
                    </a:lnTo>
                    <a:lnTo>
                      <a:pt x="1526" y="286"/>
                    </a:lnTo>
                    <a:lnTo>
                      <a:pt x="1441" y="259"/>
                    </a:lnTo>
                    <a:lnTo>
                      <a:pt x="1358" y="250"/>
                    </a:lnTo>
                    <a:lnTo>
                      <a:pt x="1280" y="279"/>
                    </a:lnTo>
                    <a:lnTo>
                      <a:pt x="1139" y="340"/>
                    </a:lnTo>
                    <a:lnTo>
                      <a:pt x="1014" y="371"/>
                    </a:lnTo>
                    <a:lnTo>
                      <a:pt x="878" y="378"/>
                    </a:lnTo>
                    <a:lnTo>
                      <a:pt x="766" y="384"/>
                    </a:lnTo>
                    <a:lnTo>
                      <a:pt x="590" y="362"/>
                    </a:lnTo>
                    <a:lnTo>
                      <a:pt x="696" y="334"/>
                    </a:lnTo>
                    <a:lnTo>
                      <a:pt x="570" y="318"/>
                    </a:lnTo>
                    <a:lnTo>
                      <a:pt x="443" y="291"/>
                    </a:lnTo>
                    <a:lnTo>
                      <a:pt x="379" y="265"/>
                    </a:lnTo>
                    <a:lnTo>
                      <a:pt x="482" y="226"/>
                    </a:lnTo>
                    <a:lnTo>
                      <a:pt x="300" y="201"/>
                    </a:lnTo>
                    <a:lnTo>
                      <a:pt x="265" y="173"/>
                    </a:lnTo>
                    <a:lnTo>
                      <a:pt x="258" y="145"/>
                    </a:lnTo>
                    <a:lnTo>
                      <a:pt x="265" y="102"/>
                    </a:lnTo>
                    <a:lnTo>
                      <a:pt x="295" y="54"/>
                    </a:lnTo>
                    <a:lnTo>
                      <a:pt x="373" y="0"/>
                    </a:lnTo>
                    <a:lnTo>
                      <a:pt x="217" y="67"/>
                    </a:lnTo>
                    <a:lnTo>
                      <a:pt x="60" y="164"/>
                    </a:lnTo>
                    <a:lnTo>
                      <a:pt x="69" y="189"/>
                    </a:lnTo>
                    <a:lnTo>
                      <a:pt x="118" y="286"/>
                    </a:lnTo>
                    <a:lnTo>
                      <a:pt x="159" y="3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5104440" y="4932360"/>
                <a:ext cx="137160" cy="278640"/>
              </a:xfrm>
              <a:custGeom>
                <a:avLst/>
                <a:gdLst/>
                <a:ahLst/>
                <a:rect l="l" t="t" r="r" b="b"/>
                <a:pathLst>
                  <a:path w="1658" h="2635">
                    <a:moveTo>
                      <a:pt x="7" y="196"/>
                    </a:moveTo>
                    <a:lnTo>
                      <a:pt x="0" y="216"/>
                    </a:lnTo>
                    <a:lnTo>
                      <a:pt x="14" y="231"/>
                    </a:lnTo>
                    <a:lnTo>
                      <a:pt x="58" y="251"/>
                    </a:lnTo>
                    <a:lnTo>
                      <a:pt x="106" y="260"/>
                    </a:lnTo>
                    <a:lnTo>
                      <a:pt x="185" y="260"/>
                    </a:lnTo>
                    <a:lnTo>
                      <a:pt x="291" y="244"/>
                    </a:lnTo>
                    <a:lnTo>
                      <a:pt x="208" y="279"/>
                    </a:lnTo>
                    <a:lnTo>
                      <a:pt x="114" y="292"/>
                    </a:lnTo>
                    <a:lnTo>
                      <a:pt x="35" y="292"/>
                    </a:lnTo>
                    <a:lnTo>
                      <a:pt x="35" y="315"/>
                    </a:lnTo>
                    <a:lnTo>
                      <a:pt x="58" y="341"/>
                    </a:lnTo>
                    <a:lnTo>
                      <a:pt x="114" y="366"/>
                    </a:lnTo>
                    <a:lnTo>
                      <a:pt x="185" y="354"/>
                    </a:lnTo>
                    <a:lnTo>
                      <a:pt x="231" y="385"/>
                    </a:lnTo>
                    <a:lnTo>
                      <a:pt x="226" y="398"/>
                    </a:lnTo>
                    <a:lnTo>
                      <a:pt x="185" y="420"/>
                    </a:lnTo>
                    <a:lnTo>
                      <a:pt x="141" y="426"/>
                    </a:lnTo>
                    <a:lnTo>
                      <a:pt x="220" y="435"/>
                    </a:lnTo>
                    <a:lnTo>
                      <a:pt x="354" y="435"/>
                    </a:lnTo>
                    <a:lnTo>
                      <a:pt x="510" y="414"/>
                    </a:lnTo>
                    <a:lnTo>
                      <a:pt x="611" y="385"/>
                    </a:lnTo>
                    <a:lnTo>
                      <a:pt x="487" y="426"/>
                    </a:lnTo>
                    <a:lnTo>
                      <a:pt x="345" y="456"/>
                    </a:lnTo>
                    <a:lnTo>
                      <a:pt x="244" y="475"/>
                    </a:lnTo>
                    <a:lnTo>
                      <a:pt x="305" y="504"/>
                    </a:lnTo>
                    <a:lnTo>
                      <a:pt x="437" y="523"/>
                    </a:lnTo>
                    <a:lnTo>
                      <a:pt x="543" y="532"/>
                    </a:lnTo>
                    <a:lnTo>
                      <a:pt x="662" y="532"/>
                    </a:lnTo>
                    <a:lnTo>
                      <a:pt x="741" y="511"/>
                    </a:lnTo>
                    <a:lnTo>
                      <a:pt x="625" y="475"/>
                    </a:lnTo>
                    <a:lnTo>
                      <a:pt x="824" y="398"/>
                    </a:lnTo>
                    <a:lnTo>
                      <a:pt x="763" y="370"/>
                    </a:lnTo>
                    <a:lnTo>
                      <a:pt x="875" y="378"/>
                    </a:lnTo>
                    <a:lnTo>
                      <a:pt x="945" y="414"/>
                    </a:lnTo>
                    <a:lnTo>
                      <a:pt x="1029" y="470"/>
                    </a:lnTo>
                    <a:lnTo>
                      <a:pt x="1095" y="511"/>
                    </a:lnTo>
                    <a:lnTo>
                      <a:pt x="1142" y="622"/>
                    </a:lnTo>
                    <a:lnTo>
                      <a:pt x="1204" y="622"/>
                    </a:lnTo>
                    <a:lnTo>
                      <a:pt x="1257" y="609"/>
                    </a:lnTo>
                    <a:lnTo>
                      <a:pt x="1296" y="580"/>
                    </a:lnTo>
                    <a:lnTo>
                      <a:pt x="1331" y="537"/>
                    </a:lnTo>
                    <a:lnTo>
                      <a:pt x="1354" y="511"/>
                    </a:lnTo>
                    <a:lnTo>
                      <a:pt x="1361" y="559"/>
                    </a:lnTo>
                    <a:lnTo>
                      <a:pt x="1347" y="609"/>
                    </a:lnTo>
                    <a:lnTo>
                      <a:pt x="1310" y="651"/>
                    </a:lnTo>
                    <a:lnTo>
                      <a:pt x="1382" y="651"/>
                    </a:lnTo>
                    <a:lnTo>
                      <a:pt x="1446" y="638"/>
                    </a:lnTo>
                    <a:lnTo>
                      <a:pt x="1485" y="651"/>
                    </a:lnTo>
                    <a:lnTo>
                      <a:pt x="1508" y="684"/>
                    </a:lnTo>
                    <a:lnTo>
                      <a:pt x="1523" y="765"/>
                    </a:lnTo>
                    <a:lnTo>
                      <a:pt x="1517" y="936"/>
                    </a:lnTo>
                    <a:lnTo>
                      <a:pt x="1543" y="996"/>
                    </a:lnTo>
                    <a:lnTo>
                      <a:pt x="1580" y="1030"/>
                    </a:lnTo>
                    <a:lnTo>
                      <a:pt x="1591" y="1073"/>
                    </a:lnTo>
                    <a:lnTo>
                      <a:pt x="1559" y="1073"/>
                    </a:lnTo>
                    <a:lnTo>
                      <a:pt x="1469" y="1014"/>
                    </a:lnTo>
                    <a:lnTo>
                      <a:pt x="1354" y="1009"/>
                    </a:lnTo>
                    <a:lnTo>
                      <a:pt x="1287" y="1095"/>
                    </a:lnTo>
                    <a:lnTo>
                      <a:pt x="1268" y="1226"/>
                    </a:lnTo>
                    <a:lnTo>
                      <a:pt x="1340" y="1284"/>
                    </a:lnTo>
                    <a:lnTo>
                      <a:pt x="1319" y="1457"/>
                    </a:lnTo>
                    <a:lnTo>
                      <a:pt x="1361" y="1374"/>
                    </a:lnTo>
                    <a:lnTo>
                      <a:pt x="1460" y="1330"/>
                    </a:lnTo>
                    <a:lnTo>
                      <a:pt x="1422" y="1240"/>
                    </a:lnTo>
                    <a:lnTo>
                      <a:pt x="1340" y="1219"/>
                    </a:lnTo>
                    <a:lnTo>
                      <a:pt x="1409" y="1143"/>
                    </a:lnTo>
                    <a:lnTo>
                      <a:pt x="1508" y="1212"/>
                    </a:lnTo>
                    <a:lnTo>
                      <a:pt x="1479" y="1106"/>
                    </a:lnTo>
                    <a:lnTo>
                      <a:pt x="1517" y="1095"/>
                    </a:lnTo>
                    <a:lnTo>
                      <a:pt x="1422" y="1099"/>
                    </a:lnTo>
                    <a:lnTo>
                      <a:pt x="1303" y="1189"/>
                    </a:lnTo>
                    <a:lnTo>
                      <a:pt x="1319" y="1099"/>
                    </a:lnTo>
                    <a:lnTo>
                      <a:pt x="1367" y="1035"/>
                    </a:lnTo>
                    <a:lnTo>
                      <a:pt x="1460" y="1035"/>
                    </a:lnTo>
                    <a:lnTo>
                      <a:pt x="1559" y="1095"/>
                    </a:lnTo>
                    <a:lnTo>
                      <a:pt x="1564" y="1198"/>
                    </a:lnTo>
                    <a:lnTo>
                      <a:pt x="1543" y="1316"/>
                    </a:lnTo>
                    <a:lnTo>
                      <a:pt x="1469" y="1435"/>
                    </a:lnTo>
                    <a:lnTo>
                      <a:pt x="1446" y="1519"/>
                    </a:lnTo>
                    <a:lnTo>
                      <a:pt x="1361" y="1560"/>
                    </a:lnTo>
                    <a:lnTo>
                      <a:pt x="1296" y="1493"/>
                    </a:lnTo>
                    <a:lnTo>
                      <a:pt x="1220" y="1968"/>
                    </a:lnTo>
                    <a:lnTo>
                      <a:pt x="1163" y="2261"/>
                    </a:lnTo>
                    <a:lnTo>
                      <a:pt x="939" y="2501"/>
                    </a:lnTo>
                    <a:lnTo>
                      <a:pt x="851" y="2635"/>
                    </a:lnTo>
                    <a:lnTo>
                      <a:pt x="958" y="2492"/>
                    </a:lnTo>
                    <a:lnTo>
                      <a:pt x="1257" y="2174"/>
                    </a:lnTo>
                    <a:lnTo>
                      <a:pt x="1446" y="1827"/>
                    </a:lnTo>
                    <a:lnTo>
                      <a:pt x="1430" y="1807"/>
                    </a:lnTo>
                    <a:lnTo>
                      <a:pt x="1382" y="1811"/>
                    </a:lnTo>
                    <a:lnTo>
                      <a:pt x="1384" y="1730"/>
                    </a:lnTo>
                    <a:lnTo>
                      <a:pt x="1494" y="1701"/>
                    </a:lnTo>
                    <a:lnTo>
                      <a:pt x="1494" y="1624"/>
                    </a:lnTo>
                    <a:lnTo>
                      <a:pt x="1591" y="1592"/>
                    </a:lnTo>
                    <a:lnTo>
                      <a:pt x="1619" y="1457"/>
                    </a:lnTo>
                    <a:lnTo>
                      <a:pt x="1658" y="1394"/>
                    </a:lnTo>
                    <a:lnTo>
                      <a:pt x="1580" y="1350"/>
                    </a:lnTo>
                    <a:lnTo>
                      <a:pt x="1573" y="1306"/>
                    </a:lnTo>
                    <a:lnTo>
                      <a:pt x="1591" y="1240"/>
                    </a:lnTo>
                    <a:lnTo>
                      <a:pt x="1591" y="1154"/>
                    </a:lnTo>
                    <a:lnTo>
                      <a:pt x="1580" y="1122"/>
                    </a:lnTo>
                    <a:lnTo>
                      <a:pt x="1642" y="1143"/>
                    </a:lnTo>
                    <a:lnTo>
                      <a:pt x="1619" y="1057"/>
                    </a:lnTo>
                    <a:lnTo>
                      <a:pt x="1564" y="967"/>
                    </a:lnTo>
                    <a:lnTo>
                      <a:pt x="1550" y="897"/>
                    </a:lnTo>
                    <a:lnTo>
                      <a:pt x="1550" y="813"/>
                    </a:lnTo>
                    <a:lnTo>
                      <a:pt x="1543" y="741"/>
                    </a:lnTo>
                    <a:lnTo>
                      <a:pt x="1550" y="700"/>
                    </a:lnTo>
                    <a:lnTo>
                      <a:pt x="1501" y="580"/>
                    </a:lnTo>
                    <a:lnTo>
                      <a:pt x="1418" y="462"/>
                    </a:lnTo>
                    <a:lnTo>
                      <a:pt x="1326" y="389"/>
                    </a:lnTo>
                    <a:lnTo>
                      <a:pt x="1257" y="341"/>
                    </a:lnTo>
                    <a:lnTo>
                      <a:pt x="1227" y="225"/>
                    </a:lnTo>
                    <a:lnTo>
                      <a:pt x="1137" y="147"/>
                    </a:lnTo>
                    <a:lnTo>
                      <a:pt x="1044" y="119"/>
                    </a:lnTo>
                    <a:lnTo>
                      <a:pt x="909" y="40"/>
                    </a:lnTo>
                    <a:lnTo>
                      <a:pt x="747" y="0"/>
                    </a:lnTo>
                    <a:lnTo>
                      <a:pt x="584" y="4"/>
                    </a:lnTo>
                    <a:lnTo>
                      <a:pt x="427" y="36"/>
                    </a:lnTo>
                    <a:lnTo>
                      <a:pt x="298" y="97"/>
                    </a:lnTo>
                    <a:lnTo>
                      <a:pt x="127" y="161"/>
                    </a:lnTo>
                    <a:lnTo>
                      <a:pt x="7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5168520" y="4988880"/>
                <a:ext cx="37080" cy="37080"/>
              </a:xfrm>
              <a:custGeom>
                <a:avLst/>
                <a:gdLst/>
                <a:ahLst/>
                <a:rect l="l" t="t" r="r" b="b"/>
                <a:pathLst>
                  <a:path w="445" h="358">
                    <a:moveTo>
                      <a:pt x="141" y="27"/>
                    </a:moveTo>
                    <a:lnTo>
                      <a:pt x="69" y="48"/>
                    </a:lnTo>
                    <a:lnTo>
                      <a:pt x="0" y="113"/>
                    </a:lnTo>
                    <a:lnTo>
                      <a:pt x="84" y="113"/>
                    </a:lnTo>
                    <a:lnTo>
                      <a:pt x="42" y="209"/>
                    </a:lnTo>
                    <a:lnTo>
                      <a:pt x="93" y="233"/>
                    </a:lnTo>
                    <a:lnTo>
                      <a:pt x="127" y="358"/>
                    </a:lnTo>
                    <a:lnTo>
                      <a:pt x="115" y="222"/>
                    </a:lnTo>
                    <a:lnTo>
                      <a:pt x="163" y="180"/>
                    </a:lnTo>
                    <a:lnTo>
                      <a:pt x="240" y="161"/>
                    </a:lnTo>
                    <a:lnTo>
                      <a:pt x="316" y="161"/>
                    </a:lnTo>
                    <a:lnTo>
                      <a:pt x="385" y="173"/>
                    </a:lnTo>
                    <a:lnTo>
                      <a:pt x="445" y="209"/>
                    </a:lnTo>
                    <a:lnTo>
                      <a:pt x="374" y="161"/>
                    </a:lnTo>
                    <a:lnTo>
                      <a:pt x="268" y="134"/>
                    </a:lnTo>
                    <a:lnTo>
                      <a:pt x="189" y="134"/>
                    </a:lnTo>
                    <a:lnTo>
                      <a:pt x="99" y="161"/>
                    </a:lnTo>
                    <a:lnTo>
                      <a:pt x="106" y="119"/>
                    </a:lnTo>
                    <a:lnTo>
                      <a:pt x="150" y="90"/>
                    </a:lnTo>
                    <a:lnTo>
                      <a:pt x="62" y="90"/>
                    </a:lnTo>
                    <a:lnTo>
                      <a:pt x="99" y="64"/>
                    </a:lnTo>
                    <a:lnTo>
                      <a:pt x="163" y="33"/>
                    </a:lnTo>
                    <a:lnTo>
                      <a:pt x="219" y="42"/>
                    </a:lnTo>
                    <a:lnTo>
                      <a:pt x="316" y="64"/>
                    </a:lnTo>
                    <a:lnTo>
                      <a:pt x="247" y="20"/>
                    </a:lnTo>
                    <a:lnTo>
                      <a:pt x="163" y="0"/>
                    </a:lnTo>
                    <a:lnTo>
                      <a:pt x="14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5180400" y="503208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387" h="303">
                    <a:moveTo>
                      <a:pt x="22" y="18"/>
                    </a:moveTo>
                    <a:lnTo>
                      <a:pt x="115" y="0"/>
                    </a:lnTo>
                    <a:lnTo>
                      <a:pt x="191" y="18"/>
                    </a:lnTo>
                    <a:lnTo>
                      <a:pt x="244" y="53"/>
                    </a:lnTo>
                    <a:lnTo>
                      <a:pt x="281" y="92"/>
                    </a:lnTo>
                    <a:lnTo>
                      <a:pt x="288" y="138"/>
                    </a:lnTo>
                    <a:lnTo>
                      <a:pt x="281" y="156"/>
                    </a:lnTo>
                    <a:lnTo>
                      <a:pt x="255" y="152"/>
                    </a:lnTo>
                    <a:lnTo>
                      <a:pt x="219" y="130"/>
                    </a:lnTo>
                    <a:lnTo>
                      <a:pt x="175" y="92"/>
                    </a:lnTo>
                    <a:lnTo>
                      <a:pt x="127" y="87"/>
                    </a:lnTo>
                    <a:lnTo>
                      <a:pt x="172" y="152"/>
                    </a:lnTo>
                    <a:lnTo>
                      <a:pt x="191" y="207"/>
                    </a:lnTo>
                    <a:lnTo>
                      <a:pt x="182" y="260"/>
                    </a:lnTo>
                    <a:lnTo>
                      <a:pt x="360" y="290"/>
                    </a:lnTo>
                    <a:lnTo>
                      <a:pt x="387" y="303"/>
                    </a:lnTo>
                    <a:lnTo>
                      <a:pt x="147" y="276"/>
                    </a:lnTo>
                    <a:lnTo>
                      <a:pt x="163" y="239"/>
                    </a:lnTo>
                    <a:lnTo>
                      <a:pt x="156" y="191"/>
                    </a:lnTo>
                    <a:lnTo>
                      <a:pt x="121" y="130"/>
                    </a:lnTo>
                    <a:lnTo>
                      <a:pt x="83" y="87"/>
                    </a:lnTo>
                    <a:lnTo>
                      <a:pt x="16" y="53"/>
                    </a:lnTo>
                    <a:lnTo>
                      <a:pt x="0" y="9"/>
                    </a:lnTo>
                    <a:lnTo>
                      <a:pt x="2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5187240" y="5060880"/>
                <a:ext cx="17640" cy="33480"/>
              </a:xfrm>
              <a:custGeom>
                <a:avLst/>
                <a:gdLst/>
                <a:ahLst/>
                <a:rect l="l" t="t" r="r" b="b"/>
                <a:pathLst>
                  <a:path w="214" h="313">
                    <a:moveTo>
                      <a:pt x="89" y="0"/>
                    </a:moveTo>
                    <a:lnTo>
                      <a:pt x="0" y="179"/>
                    </a:lnTo>
                    <a:lnTo>
                      <a:pt x="9" y="313"/>
                    </a:lnTo>
                    <a:lnTo>
                      <a:pt x="214" y="65"/>
                    </a:lnTo>
                    <a:lnTo>
                      <a:pt x="214" y="14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5127480" y="5146560"/>
                <a:ext cx="70920" cy="67680"/>
              </a:xfrm>
              <a:custGeom>
                <a:avLst/>
                <a:gdLst/>
                <a:ahLst/>
                <a:rect l="l" t="t" r="r" b="b"/>
                <a:pathLst>
                  <a:path w="857" h="640">
                    <a:moveTo>
                      <a:pt x="857" y="0"/>
                    </a:moveTo>
                    <a:lnTo>
                      <a:pt x="749" y="53"/>
                    </a:lnTo>
                    <a:lnTo>
                      <a:pt x="648" y="198"/>
                    </a:lnTo>
                    <a:lnTo>
                      <a:pt x="514" y="187"/>
                    </a:lnTo>
                    <a:lnTo>
                      <a:pt x="470" y="260"/>
                    </a:lnTo>
                    <a:lnTo>
                      <a:pt x="415" y="297"/>
                    </a:lnTo>
                    <a:lnTo>
                      <a:pt x="276" y="288"/>
                    </a:lnTo>
                    <a:lnTo>
                      <a:pt x="186" y="321"/>
                    </a:lnTo>
                    <a:lnTo>
                      <a:pt x="118" y="345"/>
                    </a:lnTo>
                    <a:lnTo>
                      <a:pt x="48" y="345"/>
                    </a:lnTo>
                    <a:lnTo>
                      <a:pt x="0" y="317"/>
                    </a:lnTo>
                    <a:lnTo>
                      <a:pt x="48" y="359"/>
                    </a:lnTo>
                    <a:lnTo>
                      <a:pt x="105" y="366"/>
                    </a:lnTo>
                    <a:lnTo>
                      <a:pt x="223" y="366"/>
                    </a:lnTo>
                    <a:lnTo>
                      <a:pt x="294" y="391"/>
                    </a:lnTo>
                    <a:lnTo>
                      <a:pt x="382" y="514"/>
                    </a:lnTo>
                    <a:lnTo>
                      <a:pt x="507" y="611"/>
                    </a:lnTo>
                    <a:lnTo>
                      <a:pt x="527" y="640"/>
                    </a:lnTo>
                    <a:lnTo>
                      <a:pt x="564" y="615"/>
                    </a:lnTo>
                    <a:lnTo>
                      <a:pt x="555" y="550"/>
                    </a:lnTo>
                    <a:lnTo>
                      <a:pt x="544" y="461"/>
                    </a:lnTo>
                    <a:lnTo>
                      <a:pt x="555" y="380"/>
                    </a:lnTo>
                    <a:lnTo>
                      <a:pt x="569" y="327"/>
                    </a:lnTo>
                    <a:lnTo>
                      <a:pt x="630" y="267"/>
                    </a:lnTo>
                    <a:lnTo>
                      <a:pt x="685" y="226"/>
                    </a:lnTo>
                    <a:lnTo>
                      <a:pt x="738" y="132"/>
                    </a:lnTo>
                    <a:lnTo>
                      <a:pt x="800" y="57"/>
                    </a:lnTo>
                    <a:lnTo>
                      <a:pt x="8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5182560" y="5105880"/>
                <a:ext cx="5760" cy="36000"/>
              </a:xfrm>
              <a:custGeom>
                <a:avLst/>
                <a:gdLst/>
                <a:ahLst/>
                <a:rect l="l" t="t" r="r" b="b"/>
                <a:pathLst>
                  <a:path w="72" h="339">
                    <a:moveTo>
                      <a:pt x="56" y="0"/>
                    </a:moveTo>
                    <a:lnTo>
                      <a:pt x="0" y="339"/>
                    </a:lnTo>
                    <a:lnTo>
                      <a:pt x="72" y="117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5109480" y="5023080"/>
                <a:ext cx="62280" cy="19080"/>
              </a:xfrm>
              <a:custGeom>
                <a:avLst/>
                <a:gdLst/>
                <a:ahLst/>
                <a:rect l="l" t="t" r="r" b="b"/>
                <a:pathLst>
                  <a:path w="747" h="189">
                    <a:moveTo>
                      <a:pt x="0" y="189"/>
                    </a:moveTo>
                    <a:lnTo>
                      <a:pt x="38" y="145"/>
                    </a:lnTo>
                    <a:lnTo>
                      <a:pt x="95" y="117"/>
                    </a:lnTo>
                    <a:lnTo>
                      <a:pt x="189" y="97"/>
                    </a:lnTo>
                    <a:lnTo>
                      <a:pt x="341" y="78"/>
                    </a:lnTo>
                    <a:lnTo>
                      <a:pt x="460" y="39"/>
                    </a:lnTo>
                    <a:lnTo>
                      <a:pt x="581" y="0"/>
                    </a:lnTo>
                    <a:lnTo>
                      <a:pt x="664" y="0"/>
                    </a:lnTo>
                    <a:lnTo>
                      <a:pt x="715" y="29"/>
                    </a:lnTo>
                    <a:lnTo>
                      <a:pt x="747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5123520" y="5015880"/>
                <a:ext cx="46440" cy="11880"/>
              </a:xfrm>
              <a:custGeom>
                <a:avLst/>
                <a:gdLst/>
                <a:ahLst/>
                <a:rect l="l" t="t" r="r" b="b"/>
                <a:pathLst>
                  <a:path w="563" h="118">
                    <a:moveTo>
                      <a:pt x="0" y="118"/>
                    </a:moveTo>
                    <a:lnTo>
                      <a:pt x="134" y="94"/>
                    </a:lnTo>
                    <a:lnTo>
                      <a:pt x="266" y="41"/>
                    </a:lnTo>
                    <a:lnTo>
                      <a:pt x="362" y="4"/>
                    </a:lnTo>
                    <a:lnTo>
                      <a:pt x="436" y="0"/>
                    </a:lnTo>
                    <a:lnTo>
                      <a:pt x="496" y="17"/>
                    </a:lnTo>
                    <a:lnTo>
                      <a:pt x="563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5140800" y="5010120"/>
                <a:ext cx="23040" cy="5760"/>
              </a:xfrm>
              <a:custGeom>
                <a:avLst/>
                <a:gdLst/>
                <a:ahLst/>
                <a:rect l="l" t="t" r="r" b="b"/>
                <a:pathLst>
                  <a:path w="279" h="62">
                    <a:moveTo>
                      <a:pt x="0" y="62"/>
                    </a:moveTo>
                    <a:lnTo>
                      <a:pt x="161" y="7"/>
                    </a:lnTo>
                    <a:lnTo>
                      <a:pt x="223" y="0"/>
                    </a:lnTo>
                    <a:lnTo>
                      <a:pt x="279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5167440" y="504756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105" h="128">
                    <a:moveTo>
                      <a:pt x="0" y="0"/>
                    </a:moveTo>
                    <a:lnTo>
                      <a:pt x="0" y="101"/>
                    </a:lnTo>
                    <a:lnTo>
                      <a:pt x="52" y="128"/>
                    </a:lnTo>
                    <a:lnTo>
                      <a:pt x="105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5252760" y="5218560"/>
                <a:ext cx="176040" cy="399960"/>
              </a:xfrm>
              <a:custGeom>
                <a:avLst/>
                <a:gdLst/>
                <a:ahLst/>
                <a:rect l="l" t="t" r="r" b="b"/>
                <a:pathLst>
                  <a:path w="2124" h="3774">
                    <a:moveTo>
                      <a:pt x="1483" y="509"/>
                    </a:moveTo>
                    <a:lnTo>
                      <a:pt x="1612" y="966"/>
                    </a:lnTo>
                    <a:lnTo>
                      <a:pt x="1929" y="1474"/>
                    </a:lnTo>
                    <a:lnTo>
                      <a:pt x="1810" y="2116"/>
                    </a:lnTo>
                    <a:lnTo>
                      <a:pt x="2124" y="3119"/>
                    </a:lnTo>
                    <a:lnTo>
                      <a:pt x="2124" y="3774"/>
                    </a:lnTo>
                    <a:lnTo>
                      <a:pt x="916" y="3766"/>
                    </a:lnTo>
                    <a:lnTo>
                      <a:pt x="0" y="3302"/>
                    </a:lnTo>
                    <a:lnTo>
                      <a:pt x="499" y="2990"/>
                    </a:lnTo>
                    <a:lnTo>
                      <a:pt x="510" y="2782"/>
                    </a:lnTo>
                    <a:lnTo>
                      <a:pt x="589" y="2443"/>
                    </a:lnTo>
                    <a:lnTo>
                      <a:pt x="589" y="2755"/>
                    </a:lnTo>
                    <a:lnTo>
                      <a:pt x="932" y="2375"/>
                    </a:lnTo>
                    <a:lnTo>
                      <a:pt x="995" y="2285"/>
                    </a:lnTo>
                    <a:lnTo>
                      <a:pt x="1024" y="2116"/>
                    </a:lnTo>
                    <a:lnTo>
                      <a:pt x="1063" y="1931"/>
                    </a:lnTo>
                    <a:lnTo>
                      <a:pt x="1301" y="1946"/>
                    </a:lnTo>
                    <a:lnTo>
                      <a:pt x="1377" y="1812"/>
                    </a:lnTo>
                    <a:lnTo>
                      <a:pt x="1206" y="1501"/>
                    </a:lnTo>
                    <a:lnTo>
                      <a:pt x="1377" y="1501"/>
                    </a:lnTo>
                    <a:lnTo>
                      <a:pt x="1377" y="1434"/>
                    </a:lnTo>
                    <a:lnTo>
                      <a:pt x="1232" y="1265"/>
                    </a:lnTo>
                    <a:lnTo>
                      <a:pt x="1246" y="1148"/>
                    </a:lnTo>
                    <a:lnTo>
                      <a:pt x="1457" y="966"/>
                    </a:lnTo>
                    <a:lnTo>
                      <a:pt x="1470" y="717"/>
                    </a:lnTo>
                    <a:lnTo>
                      <a:pt x="1351" y="496"/>
                    </a:lnTo>
                    <a:lnTo>
                      <a:pt x="1324" y="258"/>
                    </a:lnTo>
                    <a:lnTo>
                      <a:pt x="1206" y="0"/>
                    </a:lnTo>
                    <a:lnTo>
                      <a:pt x="1419" y="351"/>
                    </a:lnTo>
                    <a:lnTo>
                      <a:pt x="1483" y="5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5225760" y="5119560"/>
                <a:ext cx="60840" cy="92160"/>
              </a:xfrm>
              <a:custGeom>
                <a:avLst/>
                <a:gdLst/>
                <a:ahLst/>
                <a:rect l="l" t="t" r="r" b="b"/>
                <a:pathLst>
                  <a:path w="734" h="874">
                    <a:moveTo>
                      <a:pt x="38" y="65"/>
                    </a:moveTo>
                    <a:lnTo>
                      <a:pt x="156" y="301"/>
                    </a:lnTo>
                    <a:lnTo>
                      <a:pt x="0" y="874"/>
                    </a:lnTo>
                    <a:lnTo>
                      <a:pt x="220" y="222"/>
                    </a:lnTo>
                    <a:lnTo>
                      <a:pt x="220" y="158"/>
                    </a:lnTo>
                    <a:lnTo>
                      <a:pt x="195" y="106"/>
                    </a:lnTo>
                    <a:lnTo>
                      <a:pt x="328" y="158"/>
                    </a:lnTo>
                    <a:lnTo>
                      <a:pt x="420" y="250"/>
                    </a:lnTo>
                    <a:lnTo>
                      <a:pt x="446" y="367"/>
                    </a:lnTo>
                    <a:lnTo>
                      <a:pt x="378" y="547"/>
                    </a:lnTo>
                    <a:lnTo>
                      <a:pt x="486" y="404"/>
                    </a:lnTo>
                    <a:lnTo>
                      <a:pt x="576" y="433"/>
                    </a:lnTo>
                    <a:lnTo>
                      <a:pt x="290" y="874"/>
                    </a:lnTo>
                    <a:lnTo>
                      <a:pt x="734" y="378"/>
                    </a:lnTo>
                    <a:lnTo>
                      <a:pt x="681" y="325"/>
                    </a:lnTo>
                    <a:lnTo>
                      <a:pt x="617" y="367"/>
                    </a:lnTo>
                    <a:lnTo>
                      <a:pt x="499" y="339"/>
                    </a:lnTo>
                    <a:lnTo>
                      <a:pt x="472" y="235"/>
                    </a:lnTo>
                    <a:lnTo>
                      <a:pt x="393" y="158"/>
                    </a:lnTo>
                    <a:lnTo>
                      <a:pt x="248" y="79"/>
                    </a:lnTo>
                    <a:lnTo>
                      <a:pt x="156" y="79"/>
                    </a:lnTo>
                    <a:lnTo>
                      <a:pt x="0" y="0"/>
                    </a:lnTo>
                    <a:lnTo>
                      <a:pt x="38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5296680" y="5163480"/>
                <a:ext cx="52920" cy="52200"/>
              </a:xfrm>
              <a:custGeom>
                <a:avLst/>
                <a:gdLst/>
                <a:ahLst/>
                <a:rect l="l" t="t" r="r" b="b"/>
                <a:pathLst>
                  <a:path w="643" h="496">
                    <a:moveTo>
                      <a:pt x="0" y="0"/>
                    </a:moveTo>
                    <a:lnTo>
                      <a:pt x="198" y="94"/>
                    </a:lnTo>
                    <a:lnTo>
                      <a:pt x="420" y="168"/>
                    </a:lnTo>
                    <a:lnTo>
                      <a:pt x="643" y="496"/>
                    </a:lnTo>
                    <a:lnTo>
                      <a:pt x="500" y="442"/>
                    </a:lnTo>
                    <a:lnTo>
                      <a:pt x="408" y="2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5155200" y="5217840"/>
                <a:ext cx="54720" cy="258480"/>
              </a:xfrm>
              <a:custGeom>
                <a:avLst/>
                <a:gdLst/>
                <a:ahLst/>
                <a:rect l="l" t="t" r="r" b="b"/>
                <a:pathLst>
                  <a:path w="667" h="2442">
                    <a:moveTo>
                      <a:pt x="208" y="0"/>
                    </a:moveTo>
                    <a:lnTo>
                      <a:pt x="208" y="88"/>
                    </a:lnTo>
                    <a:lnTo>
                      <a:pt x="618" y="326"/>
                    </a:lnTo>
                    <a:lnTo>
                      <a:pt x="272" y="194"/>
                    </a:lnTo>
                    <a:lnTo>
                      <a:pt x="208" y="440"/>
                    </a:lnTo>
                    <a:lnTo>
                      <a:pt x="272" y="625"/>
                    </a:lnTo>
                    <a:lnTo>
                      <a:pt x="272" y="794"/>
                    </a:lnTo>
                    <a:lnTo>
                      <a:pt x="208" y="1190"/>
                    </a:lnTo>
                    <a:lnTo>
                      <a:pt x="153" y="1543"/>
                    </a:lnTo>
                    <a:lnTo>
                      <a:pt x="185" y="1734"/>
                    </a:lnTo>
                    <a:lnTo>
                      <a:pt x="314" y="1996"/>
                    </a:lnTo>
                    <a:lnTo>
                      <a:pt x="512" y="2218"/>
                    </a:lnTo>
                    <a:lnTo>
                      <a:pt x="667" y="2257"/>
                    </a:lnTo>
                    <a:lnTo>
                      <a:pt x="470" y="2242"/>
                    </a:lnTo>
                    <a:lnTo>
                      <a:pt x="404" y="2273"/>
                    </a:lnTo>
                    <a:lnTo>
                      <a:pt x="404" y="2442"/>
                    </a:lnTo>
                    <a:lnTo>
                      <a:pt x="272" y="2321"/>
                    </a:lnTo>
                    <a:lnTo>
                      <a:pt x="0" y="2400"/>
                    </a:lnTo>
                    <a:lnTo>
                      <a:pt x="245" y="2297"/>
                    </a:lnTo>
                    <a:lnTo>
                      <a:pt x="185" y="2089"/>
                    </a:lnTo>
                    <a:lnTo>
                      <a:pt x="129" y="1801"/>
                    </a:lnTo>
                    <a:lnTo>
                      <a:pt x="116" y="1501"/>
                    </a:lnTo>
                    <a:lnTo>
                      <a:pt x="143" y="1200"/>
                    </a:lnTo>
                    <a:lnTo>
                      <a:pt x="208" y="911"/>
                    </a:lnTo>
                    <a:lnTo>
                      <a:pt x="233" y="756"/>
                    </a:lnTo>
                    <a:lnTo>
                      <a:pt x="233" y="598"/>
                    </a:lnTo>
                    <a:lnTo>
                      <a:pt x="185" y="494"/>
                    </a:lnTo>
                    <a:lnTo>
                      <a:pt x="51" y="440"/>
                    </a:lnTo>
                    <a:lnTo>
                      <a:pt x="185" y="130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4" name=""/>
            <p:cNvSpPr/>
            <p:nvPr/>
          </p:nvSpPr>
          <p:spPr>
            <a:xfrm>
              <a:off x="5074560" y="5214240"/>
              <a:ext cx="90000" cy="258480"/>
            </a:xfrm>
            <a:custGeom>
              <a:avLst/>
              <a:gdLst/>
              <a:ahLst/>
              <a:rect l="l" t="t" r="r" b="b"/>
              <a:pathLst>
                <a:path w="1088" h="2442">
                  <a:moveTo>
                    <a:pt x="1035" y="0"/>
                  </a:moveTo>
                  <a:lnTo>
                    <a:pt x="958" y="116"/>
                  </a:lnTo>
                  <a:lnTo>
                    <a:pt x="943" y="238"/>
                  </a:lnTo>
                  <a:lnTo>
                    <a:pt x="943" y="455"/>
                  </a:lnTo>
                  <a:lnTo>
                    <a:pt x="931" y="784"/>
                  </a:lnTo>
                  <a:lnTo>
                    <a:pt x="866" y="1292"/>
                  </a:lnTo>
                  <a:lnTo>
                    <a:pt x="838" y="1672"/>
                  </a:lnTo>
                  <a:lnTo>
                    <a:pt x="853" y="1894"/>
                  </a:lnTo>
                  <a:lnTo>
                    <a:pt x="890" y="2074"/>
                  </a:lnTo>
                  <a:lnTo>
                    <a:pt x="943" y="2207"/>
                  </a:lnTo>
                  <a:lnTo>
                    <a:pt x="1023" y="2338"/>
                  </a:lnTo>
                  <a:lnTo>
                    <a:pt x="1088" y="2378"/>
                  </a:lnTo>
                  <a:lnTo>
                    <a:pt x="980" y="2442"/>
                  </a:lnTo>
                  <a:lnTo>
                    <a:pt x="866" y="2442"/>
                  </a:lnTo>
                  <a:lnTo>
                    <a:pt x="866" y="2232"/>
                  </a:lnTo>
                  <a:lnTo>
                    <a:pt x="798" y="2052"/>
                  </a:lnTo>
                  <a:lnTo>
                    <a:pt x="576" y="1424"/>
                  </a:lnTo>
                  <a:lnTo>
                    <a:pt x="156" y="1488"/>
                  </a:lnTo>
                  <a:lnTo>
                    <a:pt x="75" y="1474"/>
                  </a:lnTo>
                  <a:lnTo>
                    <a:pt x="391" y="1345"/>
                  </a:lnTo>
                  <a:lnTo>
                    <a:pt x="341" y="1228"/>
                  </a:lnTo>
                  <a:lnTo>
                    <a:pt x="0" y="1228"/>
                  </a:lnTo>
                  <a:lnTo>
                    <a:pt x="260" y="1110"/>
                  </a:lnTo>
                  <a:lnTo>
                    <a:pt x="456" y="1096"/>
                  </a:lnTo>
                  <a:lnTo>
                    <a:pt x="417" y="849"/>
                  </a:lnTo>
                  <a:lnTo>
                    <a:pt x="798" y="1905"/>
                  </a:lnTo>
                  <a:lnTo>
                    <a:pt x="798" y="1608"/>
                  </a:lnTo>
                  <a:lnTo>
                    <a:pt x="838" y="1257"/>
                  </a:lnTo>
                  <a:lnTo>
                    <a:pt x="890" y="863"/>
                  </a:lnTo>
                  <a:lnTo>
                    <a:pt x="919" y="575"/>
                  </a:lnTo>
                  <a:lnTo>
                    <a:pt x="919" y="169"/>
                  </a:lnTo>
                  <a:lnTo>
                    <a:pt x="972" y="53"/>
                  </a:lnTo>
                  <a:lnTo>
                    <a:pt x="10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5195160" y="5251680"/>
              <a:ext cx="119880" cy="222840"/>
            </a:xfrm>
            <a:custGeom>
              <a:avLst/>
              <a:gdLst/>
              <a:ahLst/>
              <a:rect l="l" t="t" r="r" b="b"/>
              <a:pathLst>
                <a:path w="1444" h="2100">
                  <a:moveTo>
                    <a:pt x="198" y="1931"/>
                  </a:moveTo>
                  <a:lnTo>
                    <a:pt x="407" y="1995"/>
                  </a:lnTo>
                  <a:lnTo>
                    <a:pt x="589" y="2100"/>
                  </a:lnTo>
                  <a:lnTo>
                    <a:pt x="446" y="1931"/>
                  </a:lnTo>
                  <a:lnTo>
                    <a:pt x="343" y="1841"/>
                  </a:lnTo>
                  <a:lnTo>
                    <a:pt x="248" y="1826"/>
                  </a:lnTo>
                  <a:lnTo>
                    <a:pt x="211" y="1812"/>
                  </a:lnTo>
                  <a:lnTo>
                    <a:pt x="211" y="1632"/>
                  </a:lnTo>
                  <a:lnTo>
                    <a:pt x="264" y="1593"/>
                  </a:lnTo>
                  <a:lnTo>
                    <a:pt x="499" y="1498"/>
                  </a:lnTo>
                  <a:lnTo>
                    <a:pt x="776" y="1318"/>
                  </a:lnTo>
                  <a:lnTo>
                    <a:pt x="1025" y="1070"/>
                  </a:lnTo>
                  <a:lnTo>
                    <a:pt x="1444" y="495"/>
                  </a:lnTo>
                  <a:lnTo>
                    <a:pt x="1444" y="403"/>
                  </a:lnTo>
                  <a:lnTo>
                    <a:pt x="1092" y="834"/>
                  </a:lnTo>
                  <a:lnTo>
                    <a:pt x="710" y="1217"/>
                  </a:lnTo>
                  <a:lnTo>
                    <a:pt x="369" y="1448"/>
                  </a:lnTo>
                  <a:lnTo>
                    <a:pt x="578" y="1081"/>
                  </a:lnTo>
                  <a:lnTo>
                    <a:pt x="684" y="732"/>
                  </a:lnTo>
                  <a:lnTo>
                    <a:pt x="710" y="495"/>
                  </a:lnTo>
                  <a:lnTo>
                    <a:pt x="879" y="140"/>
                  </a:lnTo>
                  <a:lnTo>
                    <a:pt x="1117" y="0"/>
                  </a:lnTo>
                  <a:lnTo>
                    <a:pt x="855" y="127"/>
                  </a:lnTo>
                  <a:lnTo>
                    <a:pt x="644" y="442"/>
                  </a:lnTo>
                  <a:lnTo>
                    <a:pt x="644" y="769"/>
                  </a:lnTo>
                  <a:lnTo>
                    <a:pt x="525" y="1081"/>
                  </a:lnTo>
                  <a:lnTo>
                    <a:pt x="356" y="1371"/>
                  </a:lnTo>
                  <a:lnTo>
                    <a:pt x="184" y="1604"/>
                  </a:lnTo>
                  <a:lnTo>
                    <a:pt x="184" y="1826"/>
                  </a:lnTo>
                  <a:lnTo>
                    <a:pt x="0" y="1905"/>
                  </a:lnTo>
                  <a:lnTo>
                    <a:pt x="198" y="19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5191920" y="5483160"/>
              <a:ext cx="67320" cy="81000"/>
            </a:xfrm>
            <a:custGeom>
              <a:avLst/>
              <a:gdLst/>
              <a:ahLst/>
              <a:rect l="l" t="t" r="r" b="b"/>
              <a:pathLst>
                <a:path w="818" h="773">
                  <a:moveTo>
                    <a:pt x="671" y="0"/>
                  </a:moveTo>
                  <a:lnTo>
                    <a:pt x="776" y="184"/>
                  </a:lnTo>
                  <a:lnTo>
                    <a:pt x="818" y="419"/>
                  </a:lnTo>
                  <a:lnTo>
                    <a:pt x="818" y="564"/>
                  </a:lnTo>
                  <a:lnTo>
                    <a:pt x="739" y="758"/>
                  </a:lnTo>
                  <a:lnTo>
                    <a:pt x="606" y="773"/>
                  </a:lnTo>
                  <a:lnTo>
                    <a:pt x="369" y="654"/>
                  </a:lnTo>
                  <a:lnTo>
                    <a:pt x="226" y="498"/>
                  </a:lnTo>
                  <a:lnTo>
                    <a:pt x="0" y="14"/>
                  </a:lnTo>
                  <a:lnTo>
                    <a:pt x="161" y="290"/>
                  </a:lnTo>
                  <a:lnTo>
                    <a:pt x="435" y="512"/>
                  </a:lnTo>
                  <a:lnTo>
                    <a:pt x="739" y="588"/>
                  </a:lnTo>
                  <a:lnTo>
                    <a:pt x="752" y="474"/>
                  </a:lnTo>
                  <a:lnTo>
                    <a:pt x="712" y="327"/>
                  </a:lnTo>
                  <a:lnTo>
                    <a:pt x="620" y="235"/>
                  </a:lnTo>
                  <a:lnTo>
                    <a:pt x="477" y="184"/>
                  </a:lnTo>
                  <a:lnTo>
                    <a:pt x="620" y="147"/>
                  </a:lnTo>
                  <a:lnTo>
                    <a:pt x="671" y="65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5052600" y="5502600"/>
              <a:ext cx="174960" cy="64080"/>
            </a:xfrm>
            <a:custGeom>
              <a:avLst/>
              <a:gdLst/>
              <a:ahLst/>
              <a:rect l="l" t="t" r="r" b="b"/>
              <a:pathLst>
                <a:path w="2111" h="613">
                  <a:moveTo>
                    <a:pt x="2111" y="613"/>
                  </a:moveTo>
                  <a:lnTo>
                    <a:pt x="1718" y="602"/>
                  </a:lnTo>
                  <a:lnTo>
                    <a:pt x="1194" y="549"/>
                  </a:lnTo>
                  <a:lnTo>
                    <a:pt x="593" y="380"/>
                  </a:lnTo>
                  <a:lnTo>
                    <a:pt x="103" y="301"/>
                  </a:lnTo>
                  <a:lnTo>
                    <a:pt x="26" y="235"/>
                  </a:lnTo>
                  <a:lnTo>
                    <a:pt x="0" y="90"/>
                  </a:lnTo>
                  <a:lnTo>
                    <a:pt x="353" y="143"/>
                  </a:lnTo>
                  <a:lnTo>
                    <a:pt x="364" y="0"/>
                  </a:lnTo>
                  <a:lnTo>
                    <a:pt x="406" y="143"/>
                  </a:lnTo>
                  <a:lnTo>
                    <a:pt x="643" y="143"/>
                  </a:lnTo>
                  <a:lnTo>
                    <a:pt x="419" y="249"/>
                  </a:lnTo>
                  <a:lnTo>
                    <a:pt x="445" y="328"/>
                  </a:lnTo>
                  <a:lnTo>
                    <a:pt x="929" y="290"/>
                  </a:lnTo>
                  <a:lnTo>
                    <a:pt x="1243" y="301"/>
                  </a:lnTo>
                  <a:lnTo>
                    <a:pt x="1586" y="362"/>
                  </a:lnTo>
                  <a:lnTo>
                    <a:pt x="1773" y="433"/>
                  </a:lnTo>
                  <a:lnTo>
                    <a:pt x="1625" y="249"/>
                  </a:lnTo>
                  <a:lnTo>
                    <a:pt x="1494" y="169"/>
                  </a:lnTo>
                  <a:lnTo>
                    <a:pt x="1221" y="106"/>
                  </a:lnTo>
                  <a:lnTo>
                    <a:pt x="1549" y="106"/>
                  </a:lnTo>
                  <a:lnTo>
                    <a:pt x="1747" y="235"/>
                  </a:lnTo>
                  <a:lnTo>
                    <a:pt x="1821" y="393"/>
                  </a:lnTo>
                  <a:lnTo>
                    <a:pt x="1929" y="496"/>
                  </a:lnTo>
                  <a:lnTo>
                    <a:pt x="2019" y="574"/>
                  </a:lnTo>
                  <a:lnTo>
                    <a:pt x="2111" y="6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5052600" y="5379840"/>
              <a:ext cx="75600" cy="77040"/>
            </a:xfrm>
            <a:custGeom>
              <a:avLst/>
              <a:gdLst/>
              <a:ahLst/>
              <a:rect l="l" t="t" r="r" b="b"/>
              <a:pathLst>
                <a:path w="905" h="731">
                  <a:moveTo>
                    <a:pt x="168" y="731"/>
                  </a:moveTo>
                  <a:lnTo>
                    <a:pt x="301" y="612"/>
                  </a:lnTo>
                  <a:lnTo>
                    <a:pt x="301" y="563"/>
                  </a:lnTo>
                  <a:lnTo>
                    <a:pt x="263" y="512"/>
                  </a:lnTo>
                  <a:lnTo>
                    <a:pt x="143" y="457"/>
                  </a:lnTo>
                  <a:lnTo>
                    <a:pt x="26" y="417"/>
                  </a:lnTo>
                  <a:lnTo>
                    <a:pt x="0" y="393"/>
                  </a:lnTo>
                  <a:lnTo>
                    <a:pt x="0" y="340"/>
                  </a:lnTo>
                  <a:lnTo>
                    <a:pt x="26" y="312"/>
                  </a:lnTo>
                  <a:lnTo>
                    <a:pt x="103" y="275"/>
                  </a:lnTo>
                  <a:lnTo>
                    <a:pt x="118" y="312"/>
                  </a:lnTo>
                  <a:lnTo>
                    <a:pt x="158" y="351"/>
                  </a:lnTo>
                  <a:lnTo>
                    <a:pt x="301" y="379"/>
                  </a:lnTo>
                  <a:lnTo>
                    <a:pt x="285" y="287"/>
                  </a:lnTo>
                  <a:lnTo>
                    <a:pt x="221" y="208"/>
                  </a:lnTo>
                  <a:lnTo>
                    <a:pt x="143" y="129"/>
                  </a:lnTo>
                  <a:lnTo>
                    <a:pt x="13" y="54"/>
                  </a:lnTo>
                  <a:lnTo>
                    <a:pt x="90" y="39"/>
                  </a:lnTo>
                  <a:lnTo>
                    <a:pt x="237" y="79"/>
                  </a:lnTo>
                  <a:lnTo>
                    <a:pt x="364" y="158"/>
                  </a:lnTo>
                  <a:lnTo>
                    <a:pt x="472" y="298"/>
                  </a:lnTo>
                  <a:lnTo>
                    <a:pt x="617" y="235"/>
                  </a:lnTo>
                  <a:lnTo>
                    <a:pt x="461" y="158"/>
                  </a:lnTo>
                  <a:lnTo>
                    <a:pt x="433" y="118"/>
                  </a:lnTo>
                  <a:lnTo>
                    <a:pt x="461" y="79"/>
                  </a:lnTo>
                  <a:lnTo>
                    <a:pt x="562" y="39"/>
                  </a:lnTo>
                  <a:lnTo>
                    <a:pt x="747" y="0"/>
                  </a:lnTo>
                  <a:lnTo>
                    <a:pt x="905" y="0"/>
                  </a:lnTo>
                  <a:lnTo>
                    <a:pt x="823" y="158"/>
                  </a:lnTo>
                  <a:lnTo>
                    <a:pt x="643" y="362"/>
                  </a:lnTo>
                  <a:lnTo>
                    <a:pt x="445" y="549"/>
                  </a:lnTo>
                  <a:lnTo>
                    <a:pt x="301" y="667"/>
                  </a:lnTo>
                  <a:lnTo>
                    <a:pt x="168" y="7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5091480" y="5214240"/>
              <a:ext cx="12960" cy="82080"/>
            </a:xfrm>
            <a:custGeom>
              <a:avLst/>
              <a:gdLst/>
              <a:ahLst/>
              <a:rect l="l" t="t" r="r" b="b"/>
              <a:pathLst>
                <a:path w="157" h="771">
                  <a:moveTo>
                    <a:pt x="65" y="116"/>
                  </a:moveTo>
                  <a:lnTo>
                    <a:pt x="90" y="378"/>
                  </a:lnTo>
                  <a:lnTo>
                    <a:pt x="132" y="626"/>
                  </a:lnTo>
                  <a:lnTo>
                    <a:pt x="157" y="771"/>
                  </a:lnTo>
                  <a:lnTo>
                    <a:pt x="24" y="354"/>
                  </a:lnTo>
                  <a:lnTo>
                    <a:pt x="0" y="222"/>
                  </a:lnTo>
                  <a:lnTo>
                    <a:pt x="51" y="0"/>
                  </a:lnTo>
                  <a:lnTo>
                    <a:pt x="65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0" name=""/>
          <p:cNvSpPr/>
          <p:nvPr/>
        </p:nvSpPr>
        <p:spPr>
          <a:xfrm>
            <a:off x="6743160" y="6410160"/>
            <a:ext cx="191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de avali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1" name=""/>
          <p:cNvSpPr/>
          <p:nvPr/>
        </p:nvSpPr>
        <p:spPr>
          <a:xfrm>
            <a:off x="5548320" y="5419800"/>
            <a:ext cx="404640" cy="189000"/>
          </a:xfrm>
          <a:prstGeom prst="rightArrow">
            <a:avLst>
              <a:gd name="adj1" fmla="val 50000"/>
              <a:gd name="adj2" fmla="val 53524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2" name=""/>
          <p:cNvSpPr/>
          <p:nvPr/>
        </p:nvSpPr>
        <p:spPr>
          <a:xfrm>
            <a:off x="6539040" y="5419800"/>
            <a:ext cx="404640" cy="189000"/>
          </a:xfrm>
          <a:prstGeom prst="rightArrow">
            <a:avLst>
              <a:gd name="adj1" fmla="val 50000"/>
              <a:gd name="adj2" fmla="val 53524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3" name=""/>
          <p:cNvSpPr/>
          <p:nvPr/>
        </p:nvSpPr>
        <p:spPr>
          <a:xfrm>
            <a:off x="5013360" y="2600280"/>
            <a:ext cx="72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4" name=""/>
          <p:cNvSpPr/>
          <p:nvPr/>
        </p:nvSpPr>
        <p:spPr>
          <a:xfrm>
            <a:off x="2652840" y="2752560"/>
            <a:ext cx="939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ate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5" name=""/>
          <p:cNvSpPr/>
          <p:nvPr/>
        </p:nvSpPr>
        <p:spPr>
          <a:xfrm>
            <a:off x="6961320" y="2852640"/>
            <a:ext cx="812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ate a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6" name=""/>
          <p:cNvGrpSpPr/>
          <p:nvPr/>
        </p:nvGrpSpPr>
        <p:grpSpPr>
          <a:xfrm>
            <a:off x="4200480" y="3892680"/>
            <a:ext cx="519120" cy="600120"/>
            <a:chOff x="4200480" y="3892680"/>
            <a:chExt cx="519120" cy="600120"/>
          </a:xfrm>
        </p:grpSpPr>
        <p:sp>
          <p:nvSpPr>
            <p:cNvPr id="4157" name=""/>
            <p:cNvSpPr/>
            <p:nvPr/>
          </p:nvSpPr>
          <p:spPr>
            <a:xfrm>
              <a:off x="4200480" y="3892680"/>
              <a:ext cx="519120" cy="600120"/>
            </a:xfrm>
            <a:prstGeom prst="foldedCorner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4257720" y="39920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4257720" y="404172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4257720" y="409140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4257720" y="414108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4257720" y="419112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4257720" y="424080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4257720" y="429048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4257720" y="434052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4257720" y="43898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7" name=""/>
          <p:cNvSpPr/>
          <p:nvPr/>
        </p:nvSpPr>
        <p:spPr>
          <a:xfrm>
            <a:off x="3762360" y="4097160"/>
            <a:ext cx="405000" cy="189000"/>
          </a:xfrm>
          <a:prstGeom prst="rightArrow">
            <a:avLst>
              <a:gd name="adj1" fmla="val 50000"/>
              <a:gd name="adj2" fmla="val 53571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"/>
          <p:cNvSpPr/>
          <p:nvPr/>
        </p:nvSpPr>
        <p:spPr>
          <a:xfrm>
            <a:off x="4753080" y="4097160"/>
            <a:ext cx="404640" cy="189000"/>
          </a:xfrm>
          <a:prstGeom prst="rightArrow">
            <a:avLst>
              <a:gd name="adj1" fmla="val 50000"/>
              <a:gd name="adj2" fmla="val 53524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9" name=""/>
          <p:cNvGrpSpPr/>
          <p:nvPr/>
        </p:nvGrpSpPr>
        <p:grpSpPr>
          <a:xfrm>
            <a:off x="8483760" y="5078520"/>
            <a:ext cx="470880" cy="852120"/>
            <a:chOff x="8483760" y="5078520"/>
            <a:chExt cx="470880" cy="852120"/>
          </a:xfrm>
        </p:grpSpPr>
        <p:sp>
          <p:nvSpPr>
            <p:cNvPr id="4170" name=""/>
            <p:cNvSpPr/>
            <p:nvPr/>
          </p:nvSpPr>
          <p:spPr>
            <a:xfrm>
              <a:off x="8505000" y="5244480"/>
              <a:ext cx="124920" cy="1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solidFill>
              <a:srgbClr val="ff404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8483760" y="5235480"/>
              <a:ext cx="88200" cy="197640"/>
            </a:xfrm>
            <a:custGeom>
              <a:avLst/>
              <a:gdLst/>
              <a:ahLst/>
              <a:rect l="l" t="t" r="r" b="b"/>
              <a:pathLst>
                <a:path w="243" h="556">
                  <a:moveTo>
                    <a:pt x="240" y="0"/>
                  </a:moveTo>
                  <a:lnTo>
                    <a:pt x="0" y="0"/>
                  </a:lnTo>
                  <a:lnTo>
                    <a:pt x="28" y="7"/>
                  </a:lnTo>
                  <a:lnTo>
                    <a:pt x="42" y="14"/>
                  </a:lnTo>
                  <a:lnTo>
                    <a:pt x="54" y="22"/>
                  </a:lnTo>
                  <a:lnTo>
                    <a:pt x="69" y="31"/>
                  </a:lnTo>
                  <a:lnTo>
                    <a:pt x="81" y="42"/>
                  </a:lnTo>
                  <a:lnTo>
                    <a:pt x="90" y="53"/>
                  </a:lnTo>
                  <a:lnTo>
                    <a:pt x="101" y="65"/>
                  </a:lnTo>
                  <a:lnTo>
                    <a:pt x="107" y="76"/>
                  </a:lnTo>
                  <a:lnTo>
                    <a:pt x="114" y="90"/>
                  </a:lnTo>
                  <a:lnTo>
                    <a:pt x="121" y="105"/>
                  </a:lnTo>
                  <a:lnTo>
                    <a:pt x="129" y="121"/>
                  </a:lnTo>
                  <a:lnTo>
                    <a:pt x="133" y="136"/>
                  </a:lnTo>
                  <a:lnTo>
                    <a:pt x="139" y="150"/>
                  </a:lnTo>
                  <a:lnTo>
                    <a:pt x="179" y="333"/>
                  </a:lnTo>
                  <a:lnTo>
                    <a:pt x="194" y="409"/>
                  </a:lnTo>
                  <a:lnTo>
                    <a:pt x="203" y="459"/>
                  </a:lnTo>
                  <a:lnTo>
                    <a:pt x="215" y="510"/>
                  </a:lnTo>
                  <a:lnTo>
                    <a:pt x="233" y="556"/>
                  </a:lnTo>
                  <a:lnTo>
                    <a:pt x="243" y="556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ff8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8808120" y="5246280"/>
              <a:ext cx="128160" cy="1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solidFill>
              <a:srgbClr val="ff404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8868600" y="5237280"/>
              <a:ext cx="86040" cy="197640"/>
            </a:xfrm>
            <a:custGeom>
              <a:avLst/>
              <a:gdLst/>
              <a:ahLst/>
              <a:rect l="l" t="t" r="r" b="b"/>
              <a:pathLst>
                <a:path w="243" h="556">
                  <a:moveTo>
                    <a:pt x="3" y="0"/>
                  </a:moveTo>
                  <a:lnTo>
                    <a:pt x="243" y="0"/>
                  </a:lnTo>
                  <a:lnTo>
                    <a:pt x="216" y="7"/>
                  </a:lnTo>
                  <a:lnTo>
                    <a:pt x="201" y="14"/>
                  </a:lnTo>
                  <a:lnTo>
                    <a:pt x="189" y="21"/>
                  </a:lnTo>
                  <a:lnTo>
                    <a:pt x="175" y="31"/>
                  </a:lnTo>
                  <a:lnTo>
                    <a:pt x="163" y="42"/>
                  </a:lnTo>
                  <a:lnTo>
                    <a:pt x="153" y="53"/>
                  </a:lnTo>
                  <a:lnTo>
                    <a:pt x="142" y="65"/>
                  </a:lnTo>
                  <a:lnTo>
                    <a:pt x="136" y="75"/>
                  </a:lnTo>
                  <a:lnTo>
                    <a:pt x="129" y="90"/>
                  </a:lnTo>
                  <a:lnTo>
                    <a:pt x="122" y="104"/>
                  </a:lnTo>
                  <a:lnTo>
                    <a:pt x="115" y="121"/>
                  </a:lnTo>
                  <a:lnTo>
                    <a:pt x="110" y="135"/>
                  </a:lnTo>
                  <a:lnTo>
                    <a:pt x="104" y="150"/>
                  </a:lnTo>
                  <a:lnTo>
                    <a:pt x="64" y="333"/>
                  </a:lnTo>
                  <a:lnTo>
                    <a:pt x="50" y="408"/>
                  </a:lnTo>
                  <a:lnTo>
                    <a:pt x="40" y="459"/>
                  </a:lnTo>
                  <a:lnTo>
                    <a:pt x="28" y="509"/>
                  </a:lnTo>
                  <a:lnTo>
                    <a:pt x="10" y="556"/>
                  </a:lnTo>
                  <a:lnTo>
                    <a:pt x="0" y="55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8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8505000" y="5709960"/>
              <a:ext cx="124920" cy="1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solidFill>
              <a:srgbClr val="66ff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8483760" y="5700960"/>
              <a:ext cx="88200" cy="197640"/>
            </a:xfrm>
            <a:custGeom>
              <a:avLst/>
              <a:gdLst/>
              <a:ahLst/>
              <a:rect l="l" t="t" r="r" b="b"/>
              <a:pathLst>
                <a:path w="243" h="555">
                  <a:moveTo>
                    <a:pt x="240" y="0"/>
                  </a:moveTo>
                  <a:lnTo>
                    <a:pt x="0" y="0"/>
                  </a:lnTo>
                  <a:lnTo>
                    <a:pt x="28" y="7"/>
                  </a:lnTo>
                  <a:lnTo>
                    <a:pt x="42" y="15"/>
                  </a:lnTo>
                  <a:lnTo>
                    <a:pt x="54" y="22"/>
                  </a:lnTo>
                  <a:lnTo>
                    <a:pt x="69" y="31"/>
                  </a:lnTo>
                  <a:lnTo>
                    <a:pt x="81" y="42"/>
                  </a:lnTo>
                  <a:lnTo>
                    <a:pt x="90" y="53"/>
                  </a:lnTo>
                  <a:lnTo>
                    <a:pt x="101" y="64"/>
                  </a:lnTo>
                  <a:lnTo>
                    <a:pt x="107" y="75"/>
                  </a:lnTo>
                  <a:lnTo>
                    <a:pt x="114" y="89"/>
                  </a:lnTo>
                  <a:lnTo>
                    <a:pt x="121" y="104"/>
                  </a:lnTo>
                  <a:lnTo>
                    <a:pt x="129" y="120"/>
                  </a:lnTo>
                  <a:lnTo>
                    <a:pt x="133" y="135"/>
                  </a:lnTo>
                  <a:lnTo>
                    <a:pt x="139" y="149"/>
                  </a:lnTo>
                  <a:lnTo>
                    <a:pt x="179" y="333"/>
                  </a:lnTo>
                  <a:lnTo>
                    <a:pt x="194" y="409"/>
                  </a:lnTo>
                  <a:lnTo>
                    <a:pt x="203" y="458"/>
                  </a:lnTo>
                  <a:lnTo>
                    <a:pt x="215" y="509"/>
                  </a:lnTo>
                  <a:lnTo>
                    <a:pt x="233" y="555"/>
                  </a:lnTo>
                  <a:lnTo>
                    <a:pt x="243" y="555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ff8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8808120" y="5711400"/>
              <a:ext cx="128160" cy="17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solidFill>
              <a:srgbClr val="66ff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8868600" y="5702760"/>
              <a:ext cx="86040" cy="198000"/>
            </a:xfrm>
            <a:custGeom>
              <a:avLst/>
              <a:gdLst/>
              <a:ahLst/>
              <a:rect l="l" t="t" r="r" b="b"/>
              <a:pathLst>
                <a:path w="243" h="555">
                  <a:moveTo>
                    <a:pt x="3" y="0"/>
                  </a:moveTo>
                  <a:lnTo>
                    <a:pt x="243" y="0"/>
                  </a:lnTo>
                  <a:lnTo>
                    <a:pt x="216" y="7"/>
                  </a:lnTo>
                  <a:lnTo>
                    <a:pt x="201" y="14"/>
                  </a:lnTo>
                  <a:lnTo>
                    <a:pt x="189" y="21"/>
                  </a:lnTo>
                  <a:lnTo>
                    <a:pt x="175" y="31"/>
                  </a:lnTo>
                  <a:lnTo>
                    <a:pt x="163" y="42"/>
                  </a:lnTo>
                  <a:lnTo>
                    <a:pt x="153" y="53"/>
                  </a:lnTo>
                  <a:lnTo>
                    <a:pt x="142" y="64"/>
                  </a:lnTo>
                  <a:lnTo>
                    <a:pt x="136" y="74"/>
                  </a:lnTo>
                  <a:lnTo>
                    <a:pt x="129" y="89"/>
                  </a:lnTo>
                  <a:lnTo>
                    <a:pt x="122" y="103"/>
                  </a:lnTo>
                  <a:lnTo>
                    <a:pt x="115" y="120"/>
                  </a:lnTo>
                  <a:lnTo>
                    <a:pt x="110" y="134"/>
                  </a:lnTo>
                  <a:lnTo>
                    <a:pt x="104" y="149"/>
                  </a:lnTo>
                  <a:lnTo>
                    <a:pt x="64" y="333"/>
                  </a:lnTo>
                  <a:lnTo>
                    <a:pt x="50" y="408"/>
                  </a:lnTo>
                  <a:lnTo>
                    <a:pt x="40" y="458"/>
                  </a:lnTo>
                  <a:lnTo>
                    <a:pt x="28" y="508"/>
                  </a:lnTo>
                  <a:lnTo>
                    <a:pt x="10" y="555"/>
                  </a:lnTo>
                  <a:lnTo>
                    <a:pt x="0" y="55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8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8505000" y="5476320"/>
              <a:ext cx="124920" cy="1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8483760" y="5467320"/>
              <a:ext cx="88200" cy="199440"/>
            </a:xfrm>
            <a:custGeom>
              <a:avLst/>
              <a:gdLst/>
              <a:ahLst/>
              <a:rect l="l" t="t" r="r" b="b"/>
              <a:pathLst>
                <a:path w="243" h="557">
                  <a:moveTo>
                    <a:pt x="240" y="0"/>
                  </a:moveTo>
                  <a:lnTo>
                    <a:pt x="0" y="0"/>
                  </a:lnTo>
                  <a:lnTo>
                    <a:pt x="28" y="7"/>
                  </a:lnTo>
                  <a:lnTo>
                    <a:pt x="42" y="15"/>
                  </a:lnTo>
                  <a:lnTo>
                    <a:pt x="54" y="22"/>
                  </a:lnTo>
                  <a:lnTo>
                    <a:pt x="69" y="31"/>
                  </a:lnTo>
                  <a:lnTo>
                    <a:pt x="81" y="42"/>
                  </a:lnTo>
                  <a:lnTo>
                    <a:pt x="90" y="53"/>
                  </a:lnTo>
                  <a:lnTo>
                    <a:pt x="101" y="65"/>
                  </a:lnTo>
                  <a:lnTo>
                    <a:pt x="107" y="76"/>
                  </a:lnTo>
                  <a:lnTo>
                    <a:pt x="114" y="90"/>
                  </a:lnTo>
                  <a:lnTo>
                    <a:pt x="121" y="105"/>
                  </a:lnTo>
                  <a:lnTo>
                    <a:pt x="129" y="122"/>
                  </a:lnTo>
                  <a:lnTo>
                    <a:pt x="133" y="136"/>
                  </a:lnTo>
                  <a:lnTo>
                    <a:pt x="139" y="150"/>
                  </a:lnTo>
                  <a:lnTo>
                    <a:pt x="179" y="333"/>
                  </a:lnTo>
                  <a:lnTo>
                    <a:pt x="194" y="409"/>
                  </a:lnTo>
                  <a:lnTo>
                    <a:pt x="203" y="459"/>
                  </a:lnTo>
                  <a:lnTo>
                    <a:pt x="215" y="510"/>
                  </a:lnTo>
                  <a:lnTo>
                    <a:pt x="233" y="557"/>
                  </a:lnTo>
                  <a:lnTo>
                    <a:pt x="243" y="557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ff8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8808120" y="5478120"/>
              <a:ext cx="128160" cy="1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8868600" y="5469120"/>
              <a:ext cx="86040" cy="197640"/>
            </a:xfrm>
            <a:custGeom>
              <a:avLst/>
              <a:gdLst/>
              <a:ahLst/>
              <a:rect l="l" t="t" r="r" b="b"/>
              <a:pathLst>
                <a:path w="243" h="556">
                  <a:moveTo>
                    <a:pt x="3" y="0"/>
                  </a:moveTo>
                  <a:lnTo>
                    <a:pt x="243" y="0"/>
                  </a:lnTo>
                  <a:lnTo>
                    <a:pt x="216" y="7"/>
                  </a:lnTo>
                  <a:lnTo>
                    <a:pt x="201" y="14"/>
                  </a:lnTo>
                  <a:lnTo>
                    <a:pt x="189" y="21"/>
                  </a:lnTo>
                  <a:lnTo>
                    <a:pt x="175" y="31"/>
                  </a:lnTo>
                  <a:lnTo>
                    <a:pt x="163" y="42"/>
                  </a:lnTo>
                  <a:lnTo>
                    <a:pt x="153" y="53"/>
                  </a:lnTo>
                  <a:lnTo>
                    <a:pt x="142" y="65"/>
                  </a:lnTo>
                  <a:lnTo>
                    <a:pt x="136" y="76"/>
                  </a:lnTo>
                  <a:lnTo>
                    <a:pt x="129" y="90"/>
                  </a:lnTo>
                  <a:lnTo>
                    <a:pt x="122" y="104"/>
                  </a:lnTo>
                  <a:lnTo>
                    <a:pt x="115" y="121"/>
                  </a:lnTo>
                  <a:lnTo>
                    <a:pt x="110" y="136"/>
                  </a:lnTo>
                  <a:lnTo>
                    <a:pt x="104" y="150"/>
                  </a:lnTo>
                  <a:lnTo>
                    <a:pt x="64" y="333"/>
                  </a:lnTo>
                  <a:lnTo>
                    <a:pt x="50" y="408"/>
                  </a:lnTo>
                  <a:lnTo>
                    <a:pt x="40" y="459"/>
                  </a:lnTo>
                  <a:lnTo>
                    <a:pt x="28" y="509"/>
                  </a:lnTo>
                  <a:lnTo>
                    <a:pt x="10" y="556"/>
                  </a:lnTo>
                  <a:lnTo>
                    <a:pt x="0" y="55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8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8628840" y="5078520"/>
              <a:ext cx="180360" cy="135720"/>
            </a:xfrm>
            <a:custGeom>
              <a:avLst/>
              <a:gdLst/>
              <a:ahLst/>
              <a:rect l="l" t="t" r="r" b="b"/>
              <a:pathLst>
                <a:path w="500" h="377">
                  <a:moveTo>
                    <a:pt x="160" y="375"/>
                  </a:moveTo>
                  <a:lnTo>
                    <a:pt x="160" y="292"/>
                  </a:lnTo>
                  <a:lnTo>
                    <a:pt x="61" y="292"/>
                  </a:lnTo>
                  <a:lnTo>
                    <a:pt x="50" y="289"/>
                  </a:lnTo>
                  <a:lnTo>
                    <a:pt x="41" y="286"/>
                  </a:lnTo>
                  <a:lnTo>
                    <a:pt x="31" y="280"/>
                  </a:lnTo>
                  <a:lnTo>
                    <a:pt x="21" y="273"/>
                  </a:lnTo>
                  <a:lnTo>
                    <a:pt x="13" y="265"/>
                  </a:lnTo>
                  <a:lnTo>
                    <a:pt x="7" y="255"/>
                  </a:lnTo>
                  <a:lnTo>
                    <a:pt x="3" y="248"/>
                  </a:lnTo>
                  <a:lnTo>
                    <a:pt x="0" y="237"/>
                  </a:lnTo>
                  <a:lnTo>
                    <a:pt x="0" y="226"/>
                  </a:lnTo>
                  <a:lnTo>
                    <a:pt x="0" y="216"/>
                  </a:lnTo>
                  <a:lnTo>
                    <a:pt x="3" y="204"/>
                  </a:lnTo>
                  <a:lnTo>
                    <a:pt x="10" y="191"/>
                  </a:lnTo>
                  <a:lnTo>
                    <a:pt x="19" y="181"/>
                  </a:lnTo>
                  <a:lnTo>
                    <a:pt x="29" y="171"/>
                  </a:lnTo>
                  <a:lnTo>
                    <a:pt x="41" y="163"/>
                  </a:lnTo>
                  <a:lnTo>
                    <a:pt x="49" y="157"/>
                  </a:lnTo>
                  <a:lnTo>
                    <a:pt x="60" y="153"/>
                  </a:lnTo>
                  <a:lnTo>
                    <a:pt x="162" y="153"/>
                  </a:lnTo>
                  <a:lnTo>
                    <a:pt x="162" y="80"/>
                  </a:lnTo>
                  <a:lnTo>
                    <a:pt x="166" y="70"/>
                  </a:lnTo>
                  <a:lnTo>
                    <a:pt x="172" y="58"/>
                  </a:lnTo>
                  <a:lnTo>
                    <a:pt x="178" y="47"/>
                  </a:lnTo>
                  <a:lnTo>
                    <a:pt x="187" y="35"/>
                  </a:lnTo>
                  <a:lnTo>
                    <a:pt x="198" y="24"/>
                  </a:lnTo>
                  <a:lnTo>
                    <a:pt x="209" y="16"/>
                  </a:lnTo>
                  <a:lnTo>
                    <a:pt x="218" y="10"/>
                  </a:lnTo>
                  <a:lnTo>
                    <a:pt x="232" y="4"/>
                  </a:lnTo>
                  <a:lnTo>
                    <a:pt x="246" y="0"/>
                  </a:lnTo>
                  <a:lnTo>
                    <a:pt x="261" y="0"/>
                  </a:lnTo>
                  <a:lnTo>
                    <a:pt x="276" y="3"/>
                  </a:lnTo>
                  <a:lnTo>
                    <a:pt x="289" y="9"/>
                  </a:lnTo>
                  <a:lnTo>
                    <a:pt x="300" y="15"/>
                  </a:lnTo>
                  <a:lnTo>
                    <a:pt x="312" y="24"/>
                  </a:lnTo>
                  <a:lnTo>
                    <a:pt x="325" y="36"/>
                  </a:lnTo>
                  <a:lnTo>
                    <a:pt x="335" y="47"/>
                  </a:lnTo>
                  <a:lnTo>
                    <a:pt x="340" y="58"/>
                  </a:lnTo>
                  <a:lnTo>
                    <a:pt x="345" y="70"/>
                  </a:lnTo>
                  <a:lnTo>
                    <a:pt x="347" y="85"/>
                  </a:lnTo>
                  <a:lnTo>
                    <a:pt x="347" y="152"/>
                  </a:lnTo>
                  <a:lnTo>
                    <a:pt x="443" y="152"/>
                  </a:lnTo>
                  <a:lnTo>
                    <a:pt x="454" y="157"/>
                  </a:lnTo>
                  <a:lnTo>
                    <a:pt x="464" y="163"/>
                  </a:lnTo>
                  <a:lnTo>
                    <a:pt x="473" y="170"/>
                  </a:lnTo>
                  <a:lnTo>
                    <a:pt x="483" y="179"/>
                  </a:lnTo>
                  <a:lnTo>
                    <a:pt x="490" y="189"/>
                  </a:lnTo>
                  <a:lnTo>
                    <a:pt x="496" y="200"/>
                  </a:lnTo>
                  <a:lnTo>
                    <a:pt x="498" y="212"/>
                  </a:lnTo>
                  <a:lnTo>
                    <a:pt x="500" y="223"/>
                  </a:lnTo>
                  <a:lnTo>
                    <a:pt x="500" y="236"/>
                  </a:lnTo>
                  <a:lnTo>
                    <a:pt x="496" y="247"/>
                  </a:lnTo>
                  <a:lnTo>
                    <a:pt x="490" y="259"/>
                  </a:lnTo>
                  <a:lnTo>
                    <a:pt x="483" y="268"/>
                  </a:lnTo>
                  <a:lnTo>
                    <a:pt x="474" y="278"/>
                  </a:lnTo>
                  <a:lnTo>
                    <a:pt x="464" y="284"/>
                  </a:lnTo>
                  <a:lnTo>
                    <a:pt x="442" y="292"/>
                  </a:lnTo>
                  <a:lnTo>
                    <a:pt x="347" y="292"/>
                  </a:lnTo>
                  <a:lnTo>
                    <a:pt x="347" y="377"/>
                  </a:lnTo>
                  <a:lnTo>
                    <a:pt x="160" y="375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8695800" y="5135400"/>
              <a:ext cx="49680" cy="50400"/>
            </a:xfrm>
            <a:prstGeom prst="ellipse">
              <a:avLst/>
            </a:prstGeom>
            <a:solidFill>
              <a:srgbClr val="ffa04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8565840" y="5203440"/>
              <a:ext cx="308160" cy="727200"/>
            </a:xfrm>
            <a:prstGeom prst="rect">
              <a:avLst/>
            </a:prstGeom>
            <a:solidFill>
              <a:srgbClr val="ff8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8613000" y="5223240"/>
              <a:ext cx="213840" cy="190800"/>
            </a:xfrm>
            <a:custGeom>
              <a:avLst/>
              <a:gdLst/>
              <a:ahLst/>
              <a:rect l="l" t="t" r="r" b="b"/>
              <a:pathLst>
                <a:path w="595" h="538">
                  <a:moveTo>
                    <a:pt x="0" y="185"/>
                  </a:moveTo>
                  <a:lnTo>
                    <a:pt x="1" y="168"/>
                  </a:lnTo>
                  <a:lnTo>
                    <a:pt x="6" y="150"/>
                  </a:lnTo>
                  <a:lnTo>
                    <a:pt x="13" y="134"/>
                  </a:lnTo>
                  <a:lnTo>
                    <a:pt x="23" y="119"/>
                  </a:lnTo>
                  <a:lnTo>
                    <a:pt x="31" y="107"/>
                  </a:lnTo>
                  <a:lnTo>
                    <a:pt x="41" y="95"/>
                  </a:lnTo>
                  <a:lnTo>
                    <a:pt x="53" y="81"/>
                  </a:lnTo>
                  <a:lnTo>
                    <a:pt x="68" y="68"/>
                  </a:lnTo>
                  <a:lnTo>
                    <a:pt x="88" y="56"/>
                  </a:lnTo>
                  <a:lnTo>
                    <a:pt x="112" y="43"/>
                  </a:lnTo>
                  <a:lnTo>
                    <a:pt x="134" y="32"/>
                  </a:lnTo>
                  <a:lnTo>
                    <a:pt x="162" y="22"/>
                  </a:lnTo>
                  <a:lnTo>
                    <a:pt x="187" y="14"/>
                  </a:lnTo>
                  <a:lnTo>
                    <a:pt x="217" y="8"/>
                  </a:lnTo>
                  <a:lnTo>
                    <a:pt x="244" y="3"/>
                  </a:lnTo>
                  <a:lnTo>
                    <a:pt x="265" y="2"/>
                  </a:lnTo>
                  <a:lnTo>
                    <a:pt x="291" y="0"/>
                  </a:lnTo>
                  <a:lnTo>
                    <a:pt x="317" y="0"/>
                  </a:lnTo>
                  <a:lnTo>
                    <a:pt x="338" y="2"/>
                  </a:lnTo>
                  <a:lnTo>
                    <a:pt x="359" y="4"/>
                  </a:lnTo>
                  <a:lnTo>
                    <a:pt x="383" y="9"/>
                  </a:lnTo>
                  <a:lnTo>
                    <a:pt x="405" y="14"/>
                  </a:lnTo>
                  <a:lnTo>
                    <a:pt x="428" y="21"/>
                  </a:lnTo>
                  <a:lnTo>
                    <a:pt x="448" y="28"/>
                  </a:lnTo>
                  <a:lnTo>
                    <a:pt x="470" y="38"/>
                  </a:lnTo>
                  <a:lnTo>
                    <a:pt x="485" y="45"/>
                  </a:lnTo>
                  <a:lnTo>
                    <a:pt x="499" y="54"/>
                  </a:lnTo>
                  <a:lnTo>
                    <a:pt x="512" y="62"/>
                  </a:lnTo>
                  <a:lnTo>
                    <a:pt x="526" y="72"/>
                  </a:lnTo>
                  <a:lnTo>
                    <a:pt x="539" y="83"/>
                  </a:lnTo>
                  <a:lnTo>
                    <a:pt x="553" y="97"/>
                  </a:lnTo>
                  <a:lnTo>
                    <a:pt x="564" y="110"/>
                  </a:lnTo>
                  <a:lnTo>
                    <a:pt x="572" y="122"/>
                  </a:lnTo>
                  <a:lnTo>
                    <a:pt x="579" y="133"/>
                  </a:lnTo>
                  <a:lnTo>
                    <a:pt x="585" y="145"/>
                  </a:lnTo>
                  <a:lnTo>
                    <a:pt x="590" y="157"/>
                  </a:lnTo>
                  <a:lnTo>
                    <a:pt x="595" y="173"/>
                  </a:lnTo>
                  <a:lnTo>
                    <a:pt x="595" y="538"/>
                  </a:lnTo>
                  <a:lnTo>
                    <a:pt x="1" y="536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8613000" y="5231880"/>
              <a:ext cx="213840" cy="192600"/>
            </a:xfrm>
            <a:custGeom>
              <a:avLst/>
              <a:gdLst/>
              <a:ahLst/>
              <a:rect l="l" t="t" r="r" b="b"/>
              <a:pathLst>
                <a:path w="595" h="539">
                  <a:moveTo>
                    <a:pt x="0" y="184"/>
                  </a:moveTo>
                  <a:lnTo>
                    <a:pt x="1" y="169"/>
                  </a:lnTo>
                  <a:lnTo>
                    <a:pt x="6" y="151"/>
                  </a:lnTo>
                  <a:lnTo>
                    <a:pt x="13" y="135"/>
                  </a:lnTo>
                  <a:lnTo>
                    <a:pt x="23" y="119"/>
                  </a:lnTo>
                  <a:lnTo>
                    <a:pt x="31" y="107"/>
                  </a:lnTo>
                  <a:lnTo>
                    <a:pt x="41" y="95"/>
                  </a:lnTo>
                  <a:lnTo>
                    <a:pt x="53" y="82"/>
                  </a:lnTo>
                  <a:lnTo>
                    <a:pt x="68" y="69"/>
                  </a:lnTo>
                  <a:lnTo>
                    <a:pt x="88" y="57"/>
                  </a:lnTo>
                  <a:lnTo>
                    <a:pt x="112" y="44"/>
                  </a:lnTo>
                  <a:lnTo>
                    <a:pt x="134" y="33"/>
                  </a:lnTo>
                  <a:lnTo>
                    <a:pt x="162" y="23"/>
                  </a:lnTo>
                  <a:lnTo>
                    <a:pt x="187" y="15"/>
                  </a:lnTo>
                  <a:lnTo>
                    <a:pt x="217" y="9"/>
                  </a:lnTo>
                  <a:lnTo>
                    <a:pt x="244" y="4"/>
                  </a:lnTo>
                  <a:lnTo>
                    <a:pt x="265" y="3"/>
                  </a:lnTo>
                  <a:lnTo>
                    <a:pt x="291" y="0"/>
                  </a:lnTo>
                  <a:lnTo>
                    <a:pt x="317" y="0"/>
                  </a:lnTo>
                  <a:lnTo>
                    <a:pt x="338" y="3"/>
                  </a:lnTo>
                  <a:lnTo>
                    <a:pt x="359" y="5"/>
                  </a:lnTo>
                  <a:lnTo>
                    <a:pt x="383" y="10"/>
                  </a:lnTo>
                  <a:lnTo>
                    <a:pt x="405" y="15"/>
                  </a:lnTo>
                  <a:lnTo>
                    <a:pt x="428" y="22"/>
                  </a:lnTo>
                  <a:lnTo>
                    <a:pt x="448" y="29"/>
                  </a:lnTo>
                  <a:lnTo>
                    <a:pt x="470" y="39"/>
                  </a:lnTo>
                  <a:lnTo>
                    <a:pt x="485" y="46"/>
                  </a:lnTo>
                  <a:lnTo>
                    <a:pt x="499" y="55"/>
                  </a:lnTo>
                  <a:lnTo>
                    <a:pt x="512" y="63"/>
                  </a:lnTo>
                  <a:lnTo>
                    <a:pt x="526" y="73"/>
                  </a:lnTo>
                  <a:lnTo>
                    <a:pt x="539" y="83"/>
                  </a:lnTo>
                  <a:lnTo>
                    <a:pt x="553" y="98"/>
                  </a:lnTo>
                  <a:lnTo>
                    <a:pt x="564" y="111"/>
                  </a:lnTo>
                  <a:lnTo>
                    <a:pt x="572" y="123"/>
                  </a:lnTo>
                  <a:lnTo>
                    <a:pt x="579" y="134"/>
                  </a:lnTo>
                  <a:lnTo>
                    <a:pt x="585" y="146"/>
                  </a:lnTo>
                  <a:lnTo>
                    <a:pt x="590" y="158"/>
                  </a:lnTo>
                  <a:lnTo>
                    <a:pt x="595" y="172"/>
                  </a:lnTo>
                  <a:lnTo>
                    <a:pt x="595" y="539"/>
                  </a:lnTo>
                  <a:lnTo>
                    <a:pt x="1" y="536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8627760" y="5240880"/>
              <a:ext cx="181440" cy="180000"/>
            </a:xfrm>
            <a:prstGeom prst="ellipse">
              <a:avLst/>
            </a:prstGeom>
            <a:solidFill>
              <a:srgbClr val="ff404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8" name=""/>
            <p:cNvGrpSpPr/>
            <p:nvPr/>
          </p:nvGrpSpPr>
          <p:grpSpPr>
            <a:xfrm>
              <a:off x="8730000" y="5258880"/>
              <a:ext cx="31680" cy="27720"/>
              <a:chOff x="8730000" y="5258880"/>
              <a:chExt cx="31680" cy="27720"/>
            </a:xfrm>
          </p:grpSpPr>
          <p:sp>
            <p:nvSpPr>
              <p:cNvPr id="4189" name=""/>
              <p:cNvSpPr/>
              <p:nvPr/>
            </p:nvSpPr>
            <p:spPr>
              <a:xfrm>
                <a:off x="8730000" y="5258880"/>
                <a:ext cx="19440" cy="19080"/>
              </a:xfrm>
              <a:prstGeom prst="ellipse">
                <a:avLst/>
              </a:pr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8746200" y="5271120"/>
                <a:ext cx="15480" cy="15480"/>
              </a:xfrm>
              <a:prstGeom prst="ellipse">
                <a:avLst/>
              </a:pr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1" name=""/>
            <p:cNvSpPr/>
            <p:nvPr/>
          </p:nvSpPr>
          <p:spPr>
            <a:xfrm>
              <a:off x="8606160" y="5465520"/>
              <a:ext cx="214200" cy="190800"/>
            </a:xfrm>
            <a:custGeom>
              <a:avLst/>
              <a:gdLst/>
              <a:ahLst/>
              <a:rect l="l" t="t" r="r" b="b"/>
              <a:pathLst>
                <a:path w="595" h="538">
                  <a:moveTo>
                    <a:pt x="0" y="185"/>
                  </a:moveTo>
                  <a:lnTo>
                    <a:pt x="1" y="168"/>
                  </a:lnTo>
                  <a:lnTo>
                    <a:pt x="6" y="150"/>
                  </a:lnTo>
                  <a:lnTo>
                    <a:pt x="13" y="135"/>
                  </a:lnTo>
                  <a:lnTo>
                    <a:pt x="23" y="119"/>
                  </a:lnTo>
                  <a:lnTo>
                    <a:pt x="31" y="107"/>
                  </a:lnTo>
                  <a:lnTo>
                    <a:pt x="41" y="95"/>
                  </a:lnTo>
                  <a:lnTo>
                    <a:pt x="53" y="82"/>
                  </a:lnTo>
                  <a:lnTo>
                    <a:pt x="69" y="69"/>
                  </a:lnTo>
                  <a:lnTo>
                    <a:pt x="88" y="57"/>
                  </a:lnTo>
                  <a:lnTo>
                    <a:pt x="112" y="43"/>
                  </a:lnTo>
                  <a:lnTo>
                    <a:pt x="135" y="32"/>
                  </a:lnTo>
                  <a:lnTo>
                    <a:pt x="162" y="23"/>
                  </a:lnTo>
                  <a:lnTo>
                    <a:pt x="189" y="14"/>
                  </a:lnTo>
                  <a:lnTo>
                    <a:pt x="218" y="8"/>
                  </a:lnTo>
                  <a:lnTo>
                    <a:pt x="244" y="4"/>
                  </a:lnTo>
                  <a:lnTo>
                    <a:pt x="266" y="2"/>
                  </a:lnTo>
                  <a:lnTo>
                    <a:pt x="291" y="0"/>
                  </a:lnTo>
                  <a:lnTo>
                    <a:pt x="317" y="0"/>
                  </a:lnTo>
                  <a:lnTo>
                    <a:pt x="338" y="2"/>
                  </a:lnTo>
                  <a:lnTo>
                    <a:pt x="360" y="5"/>
                  </a:lnTo>
                  <a:lnTo>
                    <a:pt x="384" y="10"/>
                  </a:lnTo>
                  <a:lnTo>
                    <a:pt x="405" y="14"/>
                  </a:lnTo>
                  <a:lnTo>
                    <a:pt x="428" y="22"/>
                  </a:lnTo>
                  <a:lnTo>
                    <a:pt x="449" y="29"/>
                  </a:lnTo>
                  <a:lnTo>
                    <a:pt x="470" y="38"/>
                  </a:lnTo>
                  <a:lnTo>
                    <a:pt x="486" y="46"/>
                  </a:lnTo>
                  <a:lnTo>
                    <a:pt x="499" y="54"/>
                  </a:lnTo>
                  <a:lnTo>
                    <a:pt x="512" y="63"/>
                  </a:lnTo>
                  <a:lnTo>
                    <a:pt x="527" y="72"/>
                  </a:lnTo>
                  <a:lnTo>
                    <a:pt x="540" y="83"/>
                  </a:lnTo>
                  <a:lnTo>
                    <a:pt x="553" y="97"/>
                  </a:lnTo>
                  <a:lnTo>
                    <a:pt x="564" y="111"/>
                  </a:lnTo>
                  <a:lnTo>
                    <a:pt x="572" y="123"/>
                  </a:lnTo>
                  <a:lnTo>
                    <a:pt x="580" y="133"/>
                  </a:lnTo>
                  <a:lnTo>
                    <a:pt x="586" y="145"/>
                  </a:lnTo>
                  <a:lnTo>
                    <a:pt x="590" y="157"/>
                  </a:lnTo>
                  <a:lnTo>
                    <a:pt x="595" y="173"/>
                  </a:lnTo>
                  <a:lnTo>
                    <a:pt x="595" y="538"/>
                  </a:lnTo>
                  <a:lnTo>
                    <a:pt x="1" y="536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8607240" y="5472720"/>
              <a:ext cx="213840" cy="192600"/>
            </a:xfrm>
            <a:custGeom>
              <a:avLst/>
              <a:gdLst/>
              <a:ahLst/>
              <a:rect l="l" t="t" r="r" b="b"/>
              <a:pathLst>
                <a:path w="595" h="538">
                  <a:moveTo>
                    <a:pt x="0" y="185"/>
                  </a:moveTo>
                  <a:lnTo>
                    <a:pt x="2" y="168"/>
                  </a:lnTo>
                  <a:lnTo>
                    <a:pt x="6" y="150"/>
                  </a:lnTo>
                  <a:lnTo>
                    <a:pt x="14" y="134"/>
                  </a:lnTo>
                  <a:lnTo>
                    <a:pt x="23" y="119"/>
                  </a:lnTo>
                  <a:lnTo>
                    <a:pt x="32" y="107"/>
                  </a:lnTo>
                  <a:lnTo>
                    <a:pt x="41" y="95"/>
                  </a:lnTo>
                  <a:lnTo>
                    <a:pt x="53" y="82"/>
                  </a:lnTo>
                  <a:lnTo>
                    <a:pt x="69" y="68"/>
                  </a:lnTo>
                  <a:lnTo>
                    <a:pt x="88" y="56"/>
                  </a:lnTo>
                  <a:lnTo>
                    <a:pt x="112" y="43"/>
                  </a:lnTo>
                  <a:lnTo>
                    <a:pt x="135" y="32"/>
                  </a:lnTo>
                  <a:lnTo>
                    <a:pt x="163" y="23"/>
                  </a:lnTo>
                  <a:lnTo>
                    <a:pt x="189" y="14"/>
                  </a:lnTo>
                  <a:lnTo>
                    <a:pt x="218" y="8"/>
                  </a:lnTo>
                  <a:lnTo>
                    <a:pt x="244" y="3"/>
                  </a:lnTo>
                  <a:lnTo>
                    <a:pt x="266" y="2"/>
                  </a:lnTo>
                  <a:lnTo>
                    <a:pt x="291" y="0"/>
                  </a:lnTo>
                  <a:lnTo>
                    <a:pt x="318" y="0"/>
                  </a:lnTo>
                  <a:lnTo>
                    <a:pt x="338" y="2"/>
                  </a:lnTo>
                  <a:lnTo>
                    <a:pt x="360" y="5"/>
                  </a:lnTo>
                  <a:lnTo>
                    <a:pt x="384" y="9"/>
                  </a:lnTo>
                  <a:lnTo>
                    <a:pt x="405" y="14"/>
                  </a:lnTo>
                  <a:lnTo>
                    <a:pt x="428" y="21"/>
                  </a:lnTo>
                  <a:lnTo>
                    <a:pt x="449" y="29"/>
                  </a:lnTo>
                  <a:lnTo>
                    <a:pt x="470" y="38"/>
                  </a:lnTo>
                  <a:lnTo>
                    <a:pt x="486" y="46"/>
                  </a:lnTo>
                  <a:lnTo>
                    <a:pt x="499" y="54"/>
                  </a:lnTo>
                  <a:lnTo>
                    <a:pt x="512" y="62"/>
                  </a:lnTo>
                  <a:lnTo>
                    <a:pt x="527" y="72"/>
                  </a:lnTo>
                  <a:lnTo>
                    <a:pt x="540" y="83"/>
                  </a:lnTo>
                  <a:lnTo>
                    <a:pt x="553" y="97"/>
                  </a:lnTo>
                  <a:lnTo>
                    <a:pt x="564" y="110"/>
                  </a:lnTo>
                  <a:lnTo>
                    <a:pt x="573" y="122"/>
                  </a:lnTo>
                  <a:lnTo>
                    <a:pt x="580" y="133"/>
                  </a:lnTo>
                  <a:lnTo>
                    <a:pt x="586" y="145"/>
                  </a:lnTo>
                  <a:lnTo>
                    <a:pt x="591" y="157"/>
                  </a:lnTo>
                  <a:lnTo>
                    <a:pt x="595" y="173"/>
                  </a:lnTo>
                  <a:lnTo>
                    <a:pt x="595" y="538"/>
                  </a:lnTo>
                  <a:lnTo>
                    <a:pt x="2" y="536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8622000" y="5481360"/>
              <a:ext cx="181440" cy="181800"/>
            </a:xfrm>
            <a:prstGeom prst="ellips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4" name=""/>
            <p:cNvGrpSpPr/>
            <p:nvPr/>
          </p:nvGrpSpPr>
          <p:grpSpPr>
            <a:xfrm>
              <a:off x="8723880" y="5499360"/>
              <a:ext cx="32040" cy="27720"/>
              <a:chOff x="8723880" y="5499360"/>
              <a:chExt cx="32040" cy="27720"/>
            </a:xfrm>
          </p:grpSpPr>
          <p:sp>
            <p:nvSpPr>
              <p:cNvPr id="4195" name=""/>
              <p:cNvSpPr/>
              <p:nvPr/>
            </p:nvSpPr>
            <p:spPr>
              <a:xfrm>
                <a:off x="8723880" y="5499360"/>
                <a:ext cx="21600" cy="20880"/>
              </a:xfrm>
              <a:prstGeom prst="ellipse">
                <a:avLst/>
              </a:prstGeom>
              <a:solidFill>
                <a:srgbClr val="ffff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8739720" y="5511600"/>
                <a:ext cx="16200" cy="15480"/>
              </a:xfrm>
              <a:prstGeom prst="ellipse">
                <a:avLst/>
              </a:prstGeom>
              <a:solidFill>
                <a:srgbClr val="ffff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7" name=""/>
            <p:cNvSpPr/>
            <p:nvPr/>
          </p:nvSpPr>
          <p:spPr>
            <a:xfrm>
              <a:off x="8611200" y="5695560"/>
              <a:ext cx="214200" cy="190800"/>
            </a:xfrm>
            <a:custGeom>
              <a:avLst/>
              <a:gdLst/>
              <a:ahLst/>
              <a:rect l="l" t="t" r="r" b="b"/>
              <a:pathLst>
                <a:path w="595" h="537">
                  <a:moveTo>
                    <a:pt x="0" y="184"/>
                  </a:moveTo>
                  <a:lnTo>
                    <a:pt x="1" y="167"/>
                  </a:lnTo>
                  <a:lnTo>
                    <a:pt x="6" y="149"/>
                  </a:lnTo>
                  <a:lnTo>
                    <a:pt x="13" y="134"/>
                  </a:lnTo>
                  <a:lnTo>
                    <a:pt x="22" y="118"/>
                  </a:lnTo>
                  <a:lnTo>
                    <a:pt x="31" y="106"/>
                  </a:lnTo>
                  <a:lnTo>
                    <a:pt x="40" y="94"/>
                  </a:lnTo>
                  <a:lnTo>
                    <a:pt x="52" y="81"/>
                  </a:lnTo>
                  <a:lnTo>
                    <a:pt x="68" y="69"/>
                  </a:lnTo>
                  <a:lnTo>
                    <a:pt x="87" y="57"/>
                  </a:lnTo>
                  <a:lnTo>
                    <a:pt x="111" y="43"/>
                  </a:lnTo>
                  <a:lnTo>
                    <a:pt x="134" y="33"/>
                  </a:lnTo>
                  <a:lnTo>
                    <a:pt x="162" y="23"/>
                  </a:lnTo>
                  <a:lnTo>
                    <a:pt x="188" y="15"/>
                  </a:lnTo>
                  <a:lnTo>
                    <a:pt x="217" y="9"/>
                  </a:lnTo>
                  <a:lnTo>
                    <a:pt x="244" y="4"/>
                  </a:lnTo>
                  <a:lnTo>
                    <a:pt x="265" y="3"/>
                  </a:lnTo>
                  <a:lnTo>
                    <a:pt x="290" y="0"/>
                  </a:lnTo>
                  <a:lnTo>
                    <a:pt x="317" y="0"/>
                  </a:lnTo>
                  <a:lnTo>
                    <a:pt x="337" y="3"/>
                  </a:lnTo>
                  <a:lnTo>
                    <a:pt x="359" y="5"/>
                  </a:lnTo>
                  <a:lnTo>
                    <a:pt x="383" y="10"/>
                  </a:lnTo>
                  <a:lnTo>
                    <a:pt x="405" y="15"/>
                  </a:lnTo>
                  <a:lnTo>
                    <a:pt x="427" y="22"/>
                  </a:lnTo>
                  <a:lnTo>
                    <a:pt x="448" y="29"/>
                  </a:lnTo>
                  <a:lnTo>
                    <a:pt x="470" y="39"/>
                  </a:lnTo>
                  <a:lnTo>
                    <a:pt x="485" y="46"/>
                  </a:lnTo>
                  <a:lnTo>
                    <a:pt x="498" y="54"/>
                  </a:lnTo>
                  <a:lnTo>
                    <a:pt x="512" y="63"/>
                  </a:lnTo>
                  <a:lnTo>
                    <a:pt x="526" y="72"/>
                  </a:lnTo>
                  <a:lnTo>
                    <a:pt x="539" y="82"/>
                  </a:lnTo>
                  <a:lnTo>
                    <a:pt x="553" y="96"/>
                  </a:lnTo>
                  <a:lnTo>
                    <a:pt x="563" y="110"/>
                  </a:lnTo>
                  <a:lnTo>
                    <a:pt x="572" y="122"/>
                  </a:lnTo>
                  <a:lnTo>
                    <a:pt x="579" y="132"/>
                  </a:lnTo>
                  <a:lnTo>
                    <a:pt x="585" y="144"/>
                  </a:lnTo>
                  <a:lnTo>
                    <a:pt x="590" y="156"/>
                  </a:lnTo>
                  <a:lnTo>
                    <a:pt x="595" y="172"/>
                  </a:lnTo>
                  <a:lnTo>
                    <a:pt x="595" y="537"/>
                  </a:lnTo>
                  <a:lnTo>
                    <a:pt x="1" y="535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8613000" y="5700960"/>
              <a:ext cx="213840" cy="192240"/>
            </a:xfrm>
            <a:custGeom>
              <a:avLst/>
              <a:gdLst/>
              <a:ahLst/>
              <a:rect l="l" t="t" r="r" b="b"/>
              <a:pathLst>
                <a:path w="595" h="538">
                  <a:moveTo>
                    <a:pt x="0" y="184"/>
                  </a:moveTo>
                  <a:lnTo>
                    <a:pt x="1" y="167"/>
                  </a:lnTo>
                  <a:lnTo>
                    <a:pt x="6" y="149"/>
                  </a:lnTo>
                  <a:lnTo>
                    <a:pt x="13" y="134"/>
                  </a:lnTo>
                  <a:lnTo>
                    <a:pt x="23" y="118"/>
                  </a:lnTo>
                  <a:lnTo>
                    <a:pt x="31" y="106"/>
                  </a:lnTo>
                  <a:lnTo>
                    <a:pt x="41" y="94"/>
                  </a:lnTo>
                  <a:lnTo>
                    <a:pt x="53" y="81"/>
                  </a:lnTo>
                  <a:lnTo>
                    <a:pt x="68" y="68"/>
                  </a:lnTo>
                  <a:lnTo>
                    <a:pt x="88" y="56"/>
                  </a:lnTo>
                  <a:lnTo>
                    <a:pt x="112" y="44"/>
                  </a:lnTo>
                  <a:lnTo>
                    <a:pt x="134" y="33"/>
                  </a:lnTo>
                  <a:lnTo>
                    <a:pt x="162" y="23"/>
                  </a:lnTo>
                  <a:lnTo>
                    <a:pt x="187" y="15"/>
                  </a:lnTo>
                  <a:lnTo>
                    <a:pt x="217" y="9"/>
                  </a:lnTo>
                  <a:lnTo>
                    <a:pt x="244" y="4"/>
                  </a:lnTo>
                  <a:lnTo>
                    <a:pt x="265" y="3"/>
                  </a:lnTo>
                  <a:lnTo>
                    <a:pt x="291" y="0"/>
                  </a:lnTo>
                  <a:lnTo>
                    <a:pt x="317" y="0"/>
                  </a:lnTo>
                  <a:lnTo>
                    <a:pt x="338" y="3"/>
                  </a:lnTo>
                  <a:lnTo>
                    <a:pt x="359" y="5"/>
                  </a:lnTo>
                  <a:lnTo>
                    <a:pt x="383" y="10"/>
                  </a:lnTo>
                  <a:lnTo>
                    <a:pt x="405" y="15"/>
                  </a:lnTo>
                  <a:lnTo>
                    <a:pt x="428" y="22"/>
                  </a:lnTo>
                  <a:lnTo>
                    <a:pt x="448" y="29"/>
                  </a:lnTo>
                  <a:lnTo>
                    <a:pt x="470" y="39"/>
                  </a:lnTo>
                  <a:lnTo>
                    <a:pt x="485" y="46"/>
                  </a:lnTo>
                  <a:lnTo>
                    <a:pt x="499" y="55"/>
                  </a:lnTo>
                  <a:lnTo>
                    <a:pt x="512" y="62"/>
                  </a:lnTo>
                  <a:lnTo>
                    <a:pt x="526" y="71"/>
                  </a:lnTo>
                  <a:lnTo>
                    <a:pt x="539" y="82"/>
                  </a:lnTo>
                  <a:lnTo>
                    <a:pt x="553" y="97"/>
                  </a:lnTo>
                  <a:lnTo>
                    <a:pt x="564" y="110"/>
                  </a:lnTo>
                  <a:lnTo>
                    <a:pt x="572" y="122"/>
                  </a:lnTo>
                  <a:lnTo>
                    <a:pt x="579" y="133"/>
                  </a:lnTo>
                  <a:lnTo>
                    <a:pt x="585" y="145"/>
                  </a:lnTo>
                  <a:lnTo>
                    <a:pt x="590" y="157"/>
                  </a:lnTo>
                  <a:lnTo>
                    <a:pt x="595" y="172"/>
                  </a:lnTo>
                  <a:lnTo>
                    <a:pt x="595" y="538"/>
                  </a:lnTo>
                  <a:lnTo>
                    <a:pt x="1" y="535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8627760" y="5709960"/>
              <a:ext cx="181440" cy="180000"/>
            </a:xfrm>
            <a:prstGeom prst="ellipse">
              <a:avLst/>
            </a:prstGeom>
            <a:solidFill>
              <a:srgbClr val="66ff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0" name=""/>
            <p:cNvGrpSpPr/>
            <p:nvPr/>
          </p:nvGrpSpPr>
          <p:grpSpPr>
            <a:xfrm>
              <a:off x="8730000" y="5727600"/>
              <a:ext cx="31680" cy="27720"/>
              <a:chOff x="8730000" y="5727600"/>
              <a:chExt cx="31680" cy="27720"/>
            </a:xfrm>
          </p:grpSpPr>
          <p:sp>
            <p:nvSpPr>
              <p:cNvPr id="4201" name=""/>
              <p:cNvSpPr/>
              <p:nvPr/>
            </p:nvSpPr>
            <p:spPr>
              <a:xfrm>
                <a:off x="8730000" y="5727600"/>
                <a:ext cx="19440" cy="19080"/>
              </a:xfrm>
              <a:prstGeom prst="ellipse">
                <a:avLst/>
              </a:prstGeom>
              <a:solidFill>
                <a:srgbClr val="80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8746200" y="5739840"/>
                <a:ext cx="15480" cy="15480"/>
              </a:xfrm>
              <a:prstGeom prst="ellipse">
                <a:avLst/>
              </a:prstGeom>
              <a:solidFill>
                <a:srgbClr val="80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03" name=""/>
          <p:cNvGrpSpPr/>
          <p:nvPr/>
        </p:nvGrpSpPr>
        <p:grpSpPr>
          <a:xfrm>
            <a:off x="276120" y="1228680"/>
            <a:ext cx="3576600" cy="1274760"/>
            <a:chOff x="276120" y="1228680"/>
            <a:chExt cx="3576600" cy="1274760"/>
          </a:xfrm>
        </p:grpSpPr>
        <p:sp>
          <p:nvSpPr>
            <p:cNvPr id="4204" name=""/>
            <p:cNvSpPr/>
            <p:nvPr/>
          </p:nvSpPr>
          <p:spPr>
            <a:xfrm>
              <a:off x="276120" y="1228680"/>
              <a:ext cx="3576600" cy="12747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05" name="" descr=""/>
            <p:cNvPicPr/>
            <p:nvPr/>
          </p:nvPicPr>
          <p:blipFill>
            <a:blip r:embed="rId2"/>
            <a:stretch/>
          </p:blipFill>
          <p:spPr>
            <a:xfrm>
              <a:off x="276120" y="1228680"/>
              <a:ext cx="3567960" cy="120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06" name=""/>
          <p:cNvSpPr/>
          <p:nvPr/>
        </p:nvSpPr>
        <p:spPr>
          <a:xfrm>
            <a:off x="637920" y="947880"/>
            <a:ext cx="2537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o de refer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7" name=""/>
          <p:cNvGrpSpPr/>
          <p:nvPr/>
        </p:nvGrpSpPr>
        <p:grpSpPr>
          <a:xfrm>
            <a:off x="176040" y="3395520"/>
            <a:ext cx="1544400" cy="1673280"/>
            <a:chOff x="176040" y="3395520"/>
            <a:chExt cx="1544400" cy="1673280"/>
          </a:xfrm>
        </p:grpSpPr>
        <p:sp>
          <p:nvSpPr>
            <p:cNvPr id="4208" name=""/>
            <p:cNvSpPr/>
            <p:nvPr/>
          </p:nvSpPr>
          <p:spPr>
            <a:xfrm>
              <a:off x="176040" y="3395520"/>
              <a:ext cx="1544400" cy="1673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9" name=""/>
            <p:cNvGrpSpPr/>
            <p:nvPr/>
          </p:nvGrpSpPr>
          <p:grpSpPr>
            <a:xfrm>
              <a:off x="301320" y="3503520"/>
              <a:ext cx="519120" cy="600120"/>
              <a:chOff x="301320" y="3503520"/>
              <a:chExt cx="519120" cy="600120"/>
            </a:xfrm>
          </p:grpSpPr>
          <p:sp>
            <p:nvSpPr>
              <p:cNvPr id="4210" name=""/>
              <p:cNvSpPr/>
              <p:nvPr/>
            </p:nvSpPr>
            <p:spPr>
              <a:xfrm>
                <a:off x="301320" y="3503520"/>
                <a:ext cx="519120" cy="600120"/>
              </a:xfrm>
              <a:prstGeom prst="foldedCorner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358560" y="36028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358560" y="36525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358560" y="37022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358560" y="37519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358560" y="38019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358560" y="38516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358560" y="39013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358560" y="39513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358560" y="40006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0" name=""/>
            <p:cNvGrpSpPr/>
            <p:nvPr/>
          </p:nvGrpSpPr>
          <p:grpSpPr>
            <a:xfrm>
              <a:off x="507600" y="3762360"/>
              <a:ext cx="519120" cy="600120"/>
              <a:chOff x="507600" y="3762360"/>
              <a:chExt cx="519120" cy="600120"/>
            </a:xfrm>
          </p:grpSpPr>
          <p:sp>
            <p:nvSpPr>
              <p:cNvPr id="4221" name=""/>
              <p:cNvSpPr/>
              <p:nvPr/>
            </p:nvSpPr>
            <p:spPr>
              <a:xfrm>
                <a:off x="507600" y="3762360"/>
                <a:ext cx="519120" cy="600120"/>
              </a:xfrm>
              <a:prstGeom prst="foldedCorner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564840" y="38617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564840" y="39114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564840" y="39610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564840" y="40107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564840" y="40608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564840" y="41104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564840" y="41601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564840" y="42102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564840" y="42595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1" name=""/>
            <p:cNvGrpSpPr/>
            <p:nvPr/>
          </p:nvGrpSpPr>
          <p:grpSpPr>
            <a:xfrm>
              <a:off x="714240" y="4021200"/>
              <a:ext cx="519120" cy="600120"/>
              <a:chOff x="714240" y="4021200"/>
              <a:chExt cx="519120" cy="600120"/>
            </a:xfrm>
          </p:grpSpPr>
          <p:sp>
            <p:nvSpPr>
              <p:cNvPr id="4232" name=""/>
              <p:cNvSpPr/>
              <p:nvPr/>
            </p:nvSpPr>
            <p:spPr>
              <a:xfrm>
                <a:off x="714240" y="4021200"/>
                <a:ext cx="519120" cy="600120"/>
              </a:xfrm>
              <a:prstGeom prst="foldedCorner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771480" y="41205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771480" y="41702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771480" y="42199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771480" y="42696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771480" y="43196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771480" y="43693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771480" y="44190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771480" y="44690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771480" y="45183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2" name=""/>
            <p:cNvGrpSpPr/>
            <p:nvPr/>
          </p:nvGrpSpPr>
          <p:grpSpPr>
            <a:xfrm>
              <a:off x="920520" y="4279680"/>
              <a:ext cx="519120" cy="600120"/>
              <a:chOff x="920520" y="4279680"/>
              <a:chExt cx="519120" cy="600120"/>
            </a:xfrm>
          </p:grpSpPr>
          <p:sp>
            <p:nvSpPr>
              <p:cNvPr id="4243" name=""/>
              <p:cNvSpPr/>
              <p:nvPr/>
            </p:nvSpPr>
            <p:spPr>
              <a:xfrm>
                <a:off x="920520" y="4279680"/>
                <a:ext cx="519120" cy="600120"/>
              </a:xfrm>
              <a:prstGeom prst="foldedCorner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977760" y="43790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977760" y="44287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977760" y="44784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977760" y="45280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977760" y="45781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977760" y="46278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977760" y="46774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977760" y="47275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977760" y="47768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53" name=""/>
          <p:cNvSpPr/>
          <p:nvPr/>
        </p:nvSpPr>
        <p:spPr>
          <a:xfrm rot="5400000">
            <a:off x="1698480" y="4078080"/>
            <a:ext cx="485640" cy="225360"/>
          </a:xfrm>
          <a:prstGeom prst="triangle">
            <a:avLst>
              <a:gd name="adj" fmla="val 50000"/>
            </a:avLst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"/>
          <p:cNvSpPr/>
          <p:nvPr/>
        </p:nvSpPr>
        <p:spPr>
          <a:xfrm rot="5400000">
            <a:off x="3852720" y="1663560"/>
            <a:ext cx="485640" cy="225360"/>
          </a:xfrm>
          <a:prstGeom prst="triangle">
            <a:avLst>
              <a:gd name="adj" fmla="val 50000"/>
            </a:avLst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"/>
          <p:cNvSpPr/>
          <p:nvPr/>
        </p:nvSpPr>
        <p:spPr>
          <a:xfrm flipH="1">
            <a:off x="213840" y="2071800"/>
            <a:ext cx="1187640" cy="1377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"/>
          <p:cNvSpPr/>
          <p:nvPr/>
        </p:nvSpPr>
        <p:spPr>
          <a:xfrm flipH="1">
            <a:off x="474840" y="2108160"/>
            <a:ext cx="1187280" cy="1376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"/>
          <p:cNvSpPr/>
          <p:nvPr/>
        </p:nvSpPr>
        <p:spPr>
          <a:xfrm flipH="1">
            <a:off x="723960" y="2084400"/>
            <a:ext cx="1224000" cy="1376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"/>
          <p:cNvSpPr/>
          <p:nvPr/>
        </p:nvSpPr>
        <p:spPr>
          <a:xfrm flipH="1">
            <a:off x="960120" y="2071800"/>
            <a:ext cx="1176120" cy="15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9" name=""/>
          <p:cNvSpPr/>
          <p:nvPr/>
        </p:nvSpPr>
        <p:spPr>
          <a:xfrm flipH="1">
            <a:off x="1152360" y="2084400"/>
            <a:ext cx="1222560" cy="157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0" name=""/>
          <p:cNvSpPr/>
          <p:nvPr/>
        </p:nvSpPr>
        <p:spPr>
          <a:xfrm flipH="1">
            <a:off x="1400040" y="2084400"/>
            <a:ext cx="1224000" cy="1612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1" name=""/>
          <p:cNvSpPr/>
          <p:nvPr/>
        </p:nvSpPr>
        <p:spPr>
          <a:xfrm>
            <a:off x="250920" y="5033880"/>
            <a:ext cx="20127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álogo” de crité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4263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ualizar o Plano do Projeto Inform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ar e atualizar o escopo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lhar ciclo de vida do produto e definir seu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r os requisitos dos clientes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os requisitos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especificações-meta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ar a viabilidade econômico-financ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ovar a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ocumentar as decisões tomadas e registrar lições apren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Documentar as decisões tomadas e registrar lições aprendida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4265" name="PlaceHolder 2"/>
          <p:cNvSpPr>
            <a:spLocks noGrp="1"/>
          </p:cNvSpPr>
          <p:nvPr>
            <p:ph/>
          </p:nvPr>
        </p:nvSpPr>
        <p:spPr>
          <a:xfrm>
            <a:off x="112320" y="887040"/>
            <a:ext cx="8574120" cy="59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ontes de melho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 não formalizar, estruturar e sistematizar, pode-se perder a memória e repetir erros do pass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mples de registrar, difícil de analisar e apr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gistrar a todo o mo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mento formal para garantir documentação, logo após 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existe um conjunto de tarefas especí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oje existem sistemas que analisam, classificam e ajudam a recuperar informações não estrutur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ortante (essencial) praticar a gestão do conhecimento, pois só sistemas não garan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íntese do que foi vis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4267" name="PlaceHolder 2"/>
          <p:cNvSpPr>
            <a:spLocks noGrp="1"/>
          </p:cNvSpPr>
          <p:nvPr>
            <p:ph/>
          </p:nvPr>
        </p:nvSpPr>
        <p:spPr>
          <a:xfrm>
            <a:off x="158760" y="909720"/>
            <a:ext cx="609120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ividades e Inform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itos e ferram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ais resul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"/>
          <p:cNvSpPr/>
          <p:nvPr/>
        </p:nvSpPr>
        <p:spPr>
          <a:xfrm>
            <a:off x="0" y="5587920"/>
            <a:ext cx="73882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Próxima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9" name=""/>
          <p:cNvSpPr/>
          <p:nvPr/>
        </p:nvSpPr>
        <p:spPr>
          <a:xfrm>
            <a:off x="0" y="3417840"/>
            <a:ext cx="7388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presentações complement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"/>
          <p:cNvSpPr/>
          <p:nvPr/>
        </p:nvSpPr>
        <p:spPr>
          <a:xfrm>
            <a:off x="258840" y="4102200"/>
            <a:ext cx="609120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FD (quality function deploy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1" name=""/>
          <p:cNvGrpSpPr/>
          <p:nvPr/>
        </p:nvGrpSpPr>
        <p:grpSpPr>
          <a:xfrm>
            <a:off x="0" y="714240"/>
            <a:ext cx="8884800" cy="6019920"/>
            <a:chOff x="0" y="714240"/>
            <a:chExt cx="8884800" cy="6019920"/>
          </a:xfrm>
        </p:grpSpPr>
        <p:sp>
          <p:nvSpPr>
            <p:cNvPr id="4272" name=""/>
            <p:cNvSpPr/>
            <p:nvPr/>
          </p:nvSpPr>
          <p:spPr>
            <a:xfrm>
              <a:off x="2139840" y="714240"/>
              <a:ext cx="6744960" cy="6019920"/>
            </a:xfrm>
            <a:custGeom>
              <a:avLst/>
              <a:gdLst/>
              <a:ahLst/>
              <a:rect l="l" t="t" r="r" b="b"/>
              <a:pathLst>
                <a:path w="4249" h="3792">
                  <a:moveTo>
                    <a:pt x="15" y="733"/>
                  </a:moveTo>
                  <a:lnTo>
                    <a:pt x="741" y="0"/>
                  </a:lnTo>
                  <a:lnTo>
                    <a:pt x="4249" y="0"/>
                  </a:lnTo>
                  <a:lnTo>
                    <a:pt x="4249" y="3792"/>
                  </a:lnTo>
                  <a:lnTo>
                    <a:pt x="786" y="3792"/>
                  </a:lnTo>
                  <a:lnTo>
                    <a:pt x="0" y="1017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3" name=""/>
            <p:cNvGrpSpPr/>
            <p:nvPr/>
          </p:nvGrpSpPr>
          <p:grpSpPr>
            <a:xfrm>
              <a:off x="3493800" y="792000"/>
              <a:ext cx="5100120" cy="5834160"/>
              <a:chOff x="3493800" y="792000"/>
              <a:chExt cx="5100120" cy="5834160"/>
            </a:xfrm>
          </p:grpSpPr>
          <p:sp>
            <p:nvSpPr>
              <p:cNvPr id="4274" name=""/>
              <p:cNvSpPr/>
              <p:nvPr/>
            </p:nvSpPr>
            <p:spPr>
              <a:xfrm>
                <a:off x="7189200" y="5476680"/>
                <a:ext cx="1404720" cy="10659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ocumentar as decisões tomadas e registrar lições aprendid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5" name=""/>
              <p:cNvGrpSpPr/>
              <p:nvPr/>
            </p:nvGrpSpPr>
            <p:grpSpPr>
              <a:xfrm>
                <a:off x="3820680" y="5986440"/>
                <a:ext cx="1431000" cy="639720"/>
                <a:chOff x="3820680" y="5986440"/>
                <a:chExt cx="1431000" cy="639720"/>
              </a:xfrm>
            </p:grpSpPr>
            <p:sp>
              <p:nvSpPr>
                <p:cNvPr id="4276" name=""/>
                <p:cNvSpPr/>
                <p:nvPr/>
              </p:nvSpPr>
              <p:spPr>
                <a:xfrm>
                  <a:off x="3820680" y="5986440"/>
                  <a:ext cx="1431000" cy="639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onitorar viabilidade econôm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7" name=""/>
                <p:cNvSpPr/>
                <p:nvPr/>
              </p:nvSpPr>
              <p:spPr>
                <a:xfrm>
                  <a:off x="5031360" y="5994000"/>
                  <a:ext cx="203040" cy="7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78" name=""/>
              <p:cNvSpPr/>
              <p:nvPr/>
            </p:nvSpPr>
            <p:spPr>
              <a:xfrm>
                <a:off x="3493800" y="792000"/>
                <a:ext cx="2034720" cy="426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tualizar o Plano do Projeto Informacion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3828600" y="1609560"/>
                <a:ext cx="1414080" cy="8528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visar e atualizar o escopo do produ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5582520" y="2428920"/>
                <a:ext cx="2409480" cy="639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talhar ciclo de vida do produto e definir seus clientes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3582360" y="3190680"/>
                <a:ext cx="1908000" cy="639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dentificar os requisitos dos clientes do produ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3891960" y="4182840"/>
                <a:ext cx="1290240" cy="639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finir requisitos do produ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3834720" y="5089320"/>
                <a:ext cx="1402920" cy="639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finir especificações me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284" name=""/>
              <p:cNvCxnSpPr>
                <a:stCxn id="4279" idx="3"/>
                <a:endCxn id="4280" idx="0"/>
              </p:cNvCxnSpPr>
              <p:nvPr/>
            </p:nvCxnSpPr>
            <p:spPr>
              <a:xfrm>
                <a:off x="5257080" y="2049480"/>
                <a:ext cx="1530720" cy="36576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85" name=""/>
              <p:cNvCxnSpPr>
                <a:stCxn id="4280" idx="2"/>
                <a:endCxn id="4281" idx="3"/>
              </p:cNvCxnSpPr>
              <p:nvPr/>
            </p:nvCxnSpPr>
            <p:spPr>
              <a:xfrm rot="5400000">
                <a:off x="5938200" y="2675520"/>
                <a:ext cx="415080" cy="128304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86" name=""/>
              <p:cNvCxnSpPr>
                <a:stCxn id="4279" idx="2"/>
                <a:endCxn id="4281" idx="0"/>
              </p:cNvCxnSpPr>
              <p:nvPr/>
            </p:nvCxnSpPr>
            <p:spPr>
              <a:xfrm flipV="1" rot="10800000">
                <a:off x="4535640" y="2503080"/>
                <a:ext cx="1080" cy="67392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87" name=""/>
              <p:cNvCxnSpPr>
                <a:stCxn id="4281" idx="2"/>
                <a:endCxn id="4282" idx="0"/>
              </p:cNvCxnSpPr>
              <p:nvPr/>
            </p:nvCxnSpPr>
            <p:spPr>
              <a:xfrm>
                <a:off x="4536360" y="3871440"/>
                <a:ext cx="2160" cy="2977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88" name=""/>
              <p:cNvCxnSpPr>
                <a:stCxn id="4282" idx="2"/>
                <a:endCxn id="4283" idx="0"/>
              </p:cNvCxnSpPr>
              <p:nvPr/>
            </p:nvCxnSpPr>
            <p:spPr>
              <a:xfrm flipH="1">
                <a:off x="4536000" y="4863600"/>
                <a:ext cx="2160" cy="2120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89" name=""/>
              <p:cNvCxnSpPr>
                <a:stCxn id="4283" idx="1"/>
                <a:endCxn id="4276" idx="1"/>
              </p:cNvCxnSpPr>
              <p:nvPr/>
            </p:nvCxnSpPr>
            <p:spPr>
              <a:xfrm flipV="1" rot="10800000">
                <a:off x="3810240" y="5421600"/>
                <a:ext cx="10080" cy="893160"/>
              </a:xfrm>
              <a:prstGeom prst="bentConnector3">
                <a:avLst>
                  <a:gd name="adj1" fmla="val 24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4290" name=""/>
              <p:cNvGrpSpPr/>
              <p:nvPr/>
            </p:nvGrpSpPr>
            <p:grpSpPr>
              <a:xfrm>
                <a:off x="5763600" y="5392800"/>
                <a:ext cx="839520" cy="1233000"/>
                <a:chOff x="5763600" y="5392800"/>
                <a:chExt cx="839520" cy="1233000"/>
              </a:xfrm>
            </p:grpSpPr>
            <p:sp>
              <p:nvSpPr>
                <p:cNvPr id="4291" name=""/>
                <p:cNvSpPr/>
                <p:nvPr/>
              </p:nvSpPr>
              <p:spPr>
                <a:xfrm>
                  <a:off x="5763600" y="5392800"/>
                  <a:ext cx="839520" cy="42660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valiar Fas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2" name=""/>
                <p:cNvSpPr/>
                <p:nvPr/>
              </p:nvSpPr>
              <p:spPr>
                <a:xfrm>
                  <a:off x="5790240" y="6199200"/>
                  <a:ext cx="786960" cy="42660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provar Fas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4293" name=""/>
                <p:cNvCxnSpPr>
                  <a:stCxn id="4291" idx="2"/>
                  <a:endCxn id="4292" idx="0"/>
                </p:cNvCxnSpPr>
                <p:nvPr/>
              </p:nvCxnSpPr>
              <p:spPr>
                <a:xfrm>
                  <a:off x="6183720" y="5846760"/>
                  <a:ext cx="1080" cy="34344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cxnSp>
            <p:nvCxnSpPr>
              <p:cNvPr id="4294" name=""/>
              <p:cNvCxnSpPr>
                <a:stCxn id="4292" idx="3"/>
                <a:endCxn id="4274" idx="1"/>
              </p:cNvCxnSpPr>
              <p:nvPr/>
            </p:nvCxnSpPr>
            <p:spPr>
              <a:xfrm flipV="1">
                <a:off x="6587640" y="6017760"/>
                <a:ext cx="592560" cy="403920"/>
              </a:xfrm>
              <a:prstGeom prst="bentConnector3">
                <a:avLst>
                  <a:gd name="adj1" fmla="val 49848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95" name=""/>
              <p:cNvCxnSpPr>
                <a:stCxn id="4276" idx="3"/>
                <a:endCxn id="4291" idx="1"/>
              </p:cNvCxnSpPr>
              <p:nvPr/>
            </p:nvCxnSpPr>
            <p:spPr>
              <a:xfrm flipV="1">
                <a:off x="5262120" y="5614200"/>
                <a:ext cx="492120" cy="70092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4296" name=""/>
            <p:cNvSpPr/>
            <p:nvPr/>
          </p:nvSpPr>
          <p:spPr>
            <a:xfrm>
              <a:off x="583920" y="1823040"/>
              <a:ext cx="1626840" cy="608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to Inform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"/>
            <p:cNvSpPr/>
            <p:nvPr/>
          </p:nvSpPr>
          <p:spPr>
            <a:xfrm rot="10800000">
              <a:off x="1064520" y="2603160"/>
              <a:ext cx="664920" cy="1537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"/>
            <p:cNvSpPr/>
            <p:nvPr/>
          </p:nvSpPr>
          <p:spPr>
            <a:xfrm rot="10800000">
              <a:off x="1064520" y="1555560"/>
              <a:ext cx="664920" cy="1540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582480" y="1146240"/>
              <a:ext cx="1610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éia do produ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48960" y="2881080"/>
              <a:ext cx="2917440" cy="10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specificações-Me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quisitos com valores me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formações adicionais qualitativ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0" y="4294080"/>
              <a:ext cx="26539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Especificações para desenvolvimento –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elo textual do produt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02" name="" descr=""/>
          <p:cNvPicPr/>
          <p:nvPr/>
        </p:nvPicPr>
        <p:blipFill>
          <a:blip r:embed="rId1"/>
          <a:stretch/>
        </p:blipFill>
        <p:spPr>
          <a:xfrm>
            <a:off x="8066160" y="0"/>
            <a:ext cx="1077840" cy="1560600"/>
          </a:xfrm>
          <a:prstGeom prst="rect">
            <a:avLst/>
          </a:prstGeom>
          <a:ln w="0">
            <a:noFill/>
          </a:ln>
        </p:spPr>
      </p:pic>
      <p:sp>
        <p:nvSpPr>
          <p:cNvPr id="43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Informações principais e dependências entre as atividades da fase de Projeto Informacional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conceitos e ferramentas (quadros)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4305" name="PlaceHolder 2"/>
          <p:cNvSpPr>
            <a:spLocks noGrp="1"/>
          </p:cNvSpPr>
          <p:nvPr>
            <p:ph/>
          </p:nvPr>
        </p:nvSpPr>
        <p:spPr>
          <a:xfrm>
            <a:off x="193680" y="1622520"/>
            <a:ext cx="8842320" cy="34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ientes e Ciclo de Vida (quadro 6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isão dos custos do ciclo de vida (quadro 6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hecklist para obtenção de requisitos de produto (quadro 6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FD (Quality Function Deployment) (quadro 6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5076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tualizar o Plano da fase de Projeto Informacional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2320" y="887040"/>
            <a:ext cx="8574120" cy="59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ue a atividade genérica descrita no capítulo 3, na qual todas atividades da fase de planejamento (capítulo 5) são revisada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idado para não exagerar no nível de detalhamento do planejamento: não se deve definir uma atividade para cada documento a ser gerad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 em mente que o Plano visa auxiliar a distribuição das tarefas, sua previsão e control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o prever a duração das atividades da fase de projeto informacional? Dados históric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ude quadro 5.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6" name="PlaceHolder 1"/>
          <p:cNvSpPr>
            <a:spLocks noGrp="1"/>
          </p:cNvSpPr>
          <p:nvPr>
            <p:ph type="title"/>
          </p:nvPr>
        </p:nvSpPr>
        <p:spPr>
          <a:xfrm>
            <a:off x="-360" y="33480"/>
            <a:ext cx="73882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Principais resultados das fases 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4307" name=""/>
          <p:cNvSpPr/>
          <p:nvPr/>
        </p:nvSpPr>
        <p:spPr>
          <a:xfrm>
            <a:off x="0" y="2811600"/>
            <a:ext cx="2279520" cy="1593720"/>
          </a:xfrm>
          <a:custGeom>
            <a:avLst/>
            <a:gdLst/>
            <a:ahLst/>
            <a:rect l="l" t="t" r="r" b="b"/>
            <a:pathLst>
              <a:path w="1436" h="1004">
                <a:moveTo>
                  <a:pt x="943" y="7"/>
                </a:moveTo>
                <a:lnTo>
                  <a:pt x="1436" y="0"/>
                </a:lnTo>
                <a:lnTo>
                  <a:pt x="1010" y="1004"/>
                </a:lnTo>
                <a:lnTo>
                  <a:pt x="0" y="1004"/>
                </a:lnTo>
                <a:lnTo>
                  <a:pt x="943" y="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"/>
          <p:cNvSpPr/>
          <p:nvPr/>
        </p:nvSpPr>
        <p:spPr>
          <a:xfrm>
            <a:off x="1770120" y="5364000"/>
            <a:ext cx="1982880" cy="586080"/>
          </a:xfrm>
          <a:custGeom>
            <a:avLst/>
            <a:gdLst/>
            <a:ahLst/>
            <a:rect l="l" t="t" r="r" b="b"/>
            <a:pathLst>
              <a:path w="1249" h="369">
                <a:moveTo>
                  <a:pt x="572" y="0"/>
                </a:moveTo>
                <a:lnTo>
                  <a:pt x="1107" y="81"/>
                </a:lnTo>
                <a:lnTo>
                  <a:pt x="1249" y="369"/>
                </a:lnTo>
                <a:lnTo>
                  <a:pt x="0" y="369"/>
                </a:lnTo>
                <a:lnTo>
                  <a:pt x="321" y="103"/>
                </a:lnTo>
                <a:lnTo>
                  <a:pt x="572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"/>
          <p:cNvSpPr/>
          <p:nvPr/>
        </p:nvSpPr>
        <p:spPr>
          <a:xfrm>
            <a:off x="1957320" y="588960"/>
            <a:ext cx="5708880" cy="298440"/>
          </a:xfrm>
          <a:custGeom>
            <a:avLst/>
            <a:gdLst>
              <a:gd name="textAreaLeft" fmla="*/ 0 w 5708880"/>
              <a:gd name="textAreaRight" fmla="*/ 5709240 w 570888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lnTo>
                  <a:pt x="379" y="10800"/>
                </a:lnTo>
                <a:close/>
              </a:path>
            </a:pathLst>
          </a:cu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envolv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"/>
          <p:cNvSpPr/>
          <p:nvPr/>
        </p:nvSpPr>
        <p:spPr>
          <a:xfrm>
            <a:off x="4380480" y="942480"/>
            <a:ext cx="1043640" cy="520200"/>
          </a:xfrm>
          <a:custGeom>
            <a:avLst/>
            <a:gdLst>
              <a:gd name="textAreaLeft" fmla="*/ 0 w 1043640"/>
              <a:gd name="textAreaRight" fmla="*/ 1044000 w 1043640"/>
              <a:gd name="textAreaTop" fmla="*/ 0 h 520200"/>
              <a:gd name="textAreaBottom" fmla="*/ 520560 h 52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44" y="0"/>
                </a:lnTo>
                <a:lnTo>
                  <a:pt x="21600" y="10800"/>
                </a:lnTo>
                <a:lnTo>
                  <a:pt x="19544" y="21600"/>
                </a:lnTo>
                <a:lnTo>
                  <a:pt x="0" y="21600"/>
                </a:lnTo>
                <a:lnTo>
                  <a:pt x="2056" y="10800"/>
                </a:lnTo>
                <a:close/>
              </a:path>
            </a:pathLst>
          </a:cu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alha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"/>
          <p:cNvSpPr/>
          <p:nvPr/>
        </p:nvSpPr>
        <p:spPr>
          <a:xfrm>
            <a:off x="3283200" y="942480"/>
            <a:ext cx="1074240" cy="520200"/>
          </a:xfrm>
          <a:custGeom>
            <a:avLst/>
            <a:gdLst>
              <a:gd name="textAreaLeft" fmla="*/ 0 w 1074240"/>
              <a:gd name="textAreaRight" fmla="*/ 1074600 w 1074240"/>
              <a:gd name="textAreaTop" fmla="*/ 0 h 520200"/>
              <a:gd name="textAreaBottom" fmla="*/ 520560 h 52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72" y="0"/>
                </a:lnTo>
                <a:lnTo>
                  <a:pt x="21600" y="10800"/>
                </a:lnTo>
                <a:lnTo>
                  <a:pt x="19672" y="21600"/>
                </a:lnTo>
                <a:lnTo>
                  <a:pt x="0" y="21600"/>
                </a:lnTo>
                <a:lnTo>
                  <a:pt x="1928" y="10800"/>
                </a:lnTo>
                <a:close/>
              </a:path>
            </a:pathLst>
          </a:cu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itu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"/>
          <p:cNvSpPr/>
          <p:nvPr/>
        </p:nvSpPr>
        <p:spPr>
          <a:xfrm>
            <a:off x="1955160" y="942480"/>
            <a:ext cx="1302840" cy="520200"/>
          </a:xfrm>
          <a:custGeom>
            <a:avLst/>
            <a:gdLst>
              <a:gd name="textAreaLeft" fmla="*/ 0 w 1302840"/>
              <a:gd name="textAreaRight" fmla="*/ 1303200 w 1302840"/>
              <a:gd name="textAreaTop" fmla="*/ 0 h 520200"/>
              <a:gd name="textAreaBottom" fmla="*/ 520560 h 52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6" y="0"/>
                </a:lnTo>
                <a:lnTo>
                  <a:pt x="21600" y="10800"/>
                </a:lnTo>
                <a:lnTo>
                  <a:pt x="19746" y="21600"/>
                </a:lnTo>
                <a:lnTo>
                  <a:pt x="0" y="21600"/>
                </a:lnTo>
                <a:lnTo>
                  <a:pt x="1854" y="10800"/>
                </a:lnTo>
                <a:close/>
              </a:path>
            </a:pathLst>
          </a:cu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c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"/>
          <p:cNvSpPr/>
          <p:nvPr/>
        </p:nvSpPr>
        <p:spPr>
          <a:xfrm>
            <a:off x="6566400" y="942480"/>
            <a:ext cx="1162080" cy="520200"/>
          </a:xfrm>
          <a:custGeom>
            <a:avLst/>
            <a:gdLst>
              <a:gd name="textAreaLeft" fmla="*/ 0 w 1162080"/>
              <a:gd name="textAreaRight" fmla="*/ 1162080 w 1162080"/>
              <a:gd name="textAreaTop" fmla="*/ 0 h 520200"/>
              <a:gd name="textAreaBottom" fmla="*/ 520560 h 52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0" y="0"/>
                </a:lnTo>
                <a:lnTo>
                  <a:pt x="21600" y="10800"/>
                </a:lnTo>
                <a:lnTo>
                  <a:pt x="19740" y="21600"/>
                </a:lnTo>
                <a:lnTo>
                  <a:pt x="0" y="21600"/>
                </a:lnTo>
                <a:lnTo>
                  <a:pt x="1860" y="10800"/>
                </a:lnTo>
                <a:close/>
              </a:path>
            </a:pathLst>
          </a:cu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nç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Produ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"/>
          <p:cNvSpPr/>
          <p:nvPr/>
        </p:nvSpPr>
        <p:spPr>
          <a:xfrm>
            <a:off x="5443560" y="942480"/>
            <a:ext cx="1102680" cy="520200"/>
          </a:xfrm>
          <a:custGeom>
            <a:avLst/>
            <a:gdLst>
              <a:gd name="textAreaLeft" fmla="*/ 0 w 1102680"/>
              <a:gd name="textAreaRight" fmla="*/ 1102680 w 1102680"/>
              <a:gd name="textAreaTop" fmla="*/ 0 h 520200"/>
              <a:gd name="textAreaBottom" fmla="*/ 520560 h 52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87" y="0"/>
                </a:lnTo>
                <a:lnTo>
                  <a:pt x="21600" y="10800"/>
                </a:lnTo>
                <a:lnTo>
                  <a:pt x="19987" y="21600"/>
                </a:lnTo>
                <a:lnTo>
                  <a:pt x="0" y="21600"/>
                </a:lnTo>
                <a:lnTo>
                  <a:pt x="1613" y="10800"/>
                </a:lnTo>
                <a:close/>
              </a:path>
            </a:pathLst>
          </a:cu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pa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"/>
          <p:cNvSpPr/>
          <p:nvPr/>
        </p:nvSpPr>
        <p:spPr>
          <a:xfrm>
            <a:off x="3193920" y="1490760"/>
            <a:ext cx="0" cy="3638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"/>
          <p:cNvSpPr/>
          <p:nvPr/>
        </p:nvSpPr>
        <p:spPr>
          <a:xfrm>
            <a:off x="638640" y="963000"/>
            <a:ext cx="1270800" cy="520200"/>
          </a:xfrm>
          <a:custGeom>
            <a:avLst/>
            <a:gdLst>
              <a:gd name="textAreaLeft" fmla="*/ 0 w 1270800"/>
              <a:gd name="textAreaRight" fmla="*/ 1271160 w 1270800"/>
              <a:gd name="textAreaTop" fmla="*/ 0 h 520200"/>
              <a:gd name="textAreaBottom" fmla="*/ 520560 h 52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2" y="0"/>
                </a:lnTo>
                <a:lnTo>
                  <a:pt x="21600" y="10800"/>
                </a:lnTo>
                <a:lnTo>
                  <a:pt x="19522" y="21600"/>
                </a:lnTo>
                <a:lnTo>
                  <a:pt x="0" y="21600"/>
                </a:lnTo>
                <a:lnTo>
                  <a:pt x="2078" y="10800"/>
                </a:lnTo>
                <a:close/>
              </a:path>
            </a:pathLst>
          </a:cu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j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"/>
          <p:cNvSpPr/>
          <p:nvPr/>
        </p:nvSpPr>
        <p:spPr>
          <a:xfrm>
            <a:off x="1862280" y="1488960"/>
            <a:ext cx="0" cy="112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"/>
          <p:cNvSpPr/>
          <p:nvPr/>
        </p:nvSpPr>
        <p:spPr>
          <a:xfrm flipV="1">
            <a:off x="606600" y="1488600"/>
            <a:ext cx="0" cy="47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"/>
          <p:cNvSpPr/>
          <p:nvPr/>
        </p:nvSpPr>
        <p:spPr>
          <a:xfrm>
            <a:off x="66600" y="1762200"/>
            <a:ext cx="1616040" cy="604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ção do Produto no Portfól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"/>
          <p:cNvSpPr/>
          <p:nvPr/>
        </p:nvSpPr>
        <p:spPr>
          <a:xfrm>
            <a:off x="2226600" y="5049000"/>
            <a:ext cx="1338120" cy="426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pecificaç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1" name=""/>
          <p:cNvSpPr/>
          <p:nvPr/>
        </p:nvSpPr>
        <p:spPr>
          <a:xfrm>
            <a:off x="1784520" y="5937840"/>
            <a:ext cx="2014200" cy="852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sitos com valores m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ções adicionais qualita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2" name=""/>
          <p:cNvSpPr/>
          <p:nvPr/>
        </p:nvSpPr>
        <p:spPr>
          <a:xfrm>
            <a:off x="1436760" y="2421720"/>
            <a:ext cx="848880" cy="426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o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"/>
          <p:cNvSpPr/>
          <p:nvPr/>
        </p:nvSpPr>
        <p:spPr>
          <a:xfrm>
            <a:off x="43560" y="4407840"/>
            <a:ext cx="1592280" cy="2344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opo do 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opo do Produ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cei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iv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sso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az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çament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d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Próxima fase: projeto conceitual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4325" name=""/>
          <p:cNvGrpSpPr/>
          <p:nvPr/>
        </p:nvGrpSpPr>
        <p:grpSpPr>
          <a:xfrm>
            <a:off x="4680" y="1455840"/>
            <a:ext cx="9063000" cy="4572000"/>
            <a:chOff x="4680" y="1455840"/>
            <a:chExt cx="9063000" cy="4572000"/>
          </a:xfrm>
        </p:grpSpPr>
        <p:sp>
          <p:nvSpPr>
            <p:cNvPr id="4326" name=""/>
            <p:cNvSpPr/>
            <p:nvPr/>
          </p:nvSpPr>
          <p:spPr>
            <a:xfrm>
              <a:off x="790560" y="5753160"/>
              <a:ext cx="7886880" cy="274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lhoria do processo de desenvolvimento de produ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2340000" y="5389560"/>
              <a:ext cx="6092640" cy="274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Gerenciamento de mudanças de engenh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4680" y="5335560"/>
              <a:ext cx="1209960" cy="54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roces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de apo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13255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3314880" y="5097600"/>
              <a:ext cx="111096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53053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72961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3" name=""/>
            <p:cNvGrpSpPr/>
            <p:nvPr/>
          </p:nvGrpSpPr>
          <p:grpSpPr>
            <a:xfrm>
              <a:off x="76320" y="1455840"/>
              <a:ext cx="8991360" cy="3591000"/>
              <a:chOff x="76320" y="1455840"/>
              <a:chExt cx="8991360" cy="3591000"/>
            </a:xfrm>
          </p:grpSpPr>
          <p:grpSp>
            <p:nvGrpSpPr>
              <p:cNvPr id="4334" name=""/>
              <p:cNvGrpSpPr/>
              <p:nvPr/>
            </p:nvGrpSpPr>
            <p:grpSpPr>
              <a:xfrm>
                <a:off x="76320" y="1614600"/>
                <a:ext cx="8991360" cy="3432240"/>
                <a:chOff x="76320" y="1614600"/>
                <a:chExt cx="8991360" cy="3432240"/>
              </a:xfrm>
            </p:grpSpPr>
            <p:sp>
              <p:nvSpPr>
                <p:cNvPr id="4335" name=""/>
                <p:cNvSpPr/>
                <p:nvPr/>
              </p:nvSpPr>
              <p:spPr>
                <a:xfrm>
                  <a:off x="76320" y="1614600"/>
                  <a:ext cx="8991360" cy="34322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6" name=""/>
                <p:cNvSpPr/>
                <p:nvPr/>
              </p:nvSpPr>
              <p:spPr>
                <a:xfrm>
                  <a:off x="795240" y="2863800"/>
                  <a:ext cx="7291440" cy="1660680"/>
                </a:xfrm>
                <a:custGeom>
                  <a:avLst/>
                  <a:gdLst/>
                  <a:ahLst/>
                  <a:rect l="l" t="t" r="r" b="b"/>
                  <a:pathLst>
                    <a:path w="4593" h="1046">
                      <a:moveTo>
                        <a:pt x="771" y="20"/>
                      </a:moveTo>
                      <a:lnTo>
                        <a:pt x="0" y="1046"/>
                      </a:lnTo>
                      <a:lnTo>
                        <a:pt x="4593" y="1016"/>
                      </a:lnTo>
                      <a:lnTo>
                        <a:pt x="330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cc99"/>
                    </a:gs>
                    <a:gs pos="100000">
                      <a:srgbClr val="99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37" name=""/>
                <p:cNvGrpSpPr/>
                <p:nvPr/>
              </p:nvGrpSpPr>
              <p:grpSpPr>
                <a:xfrm>
                  <a:off x="2239920" y="2225520"/>
                  <a:ext cx="4146480" cy="298800"/>
                  <a:chOff x="2239920" y="2225520"/>
                  <a:chExt cx="4146480" cy="298800"/>
                </a:xfrm>
              </p:grpSpPr>
              <p:sp>
                <p:nvSpPr>
                  <p:cNvPr id="4338" name=""/>
                  <p:cNvSpPr/>
                  <p:nvPr/>
                </p:nvSpPr>
                <p:spPr>
                  <a:xfrm>
                    <a:off x="2239920" y="2225520"/>
                    <a:ext cx="4146480" cy="298800"/>
                  </a:xfrm>
                  <a:custGeom>
                    <a:avLst/>
                    <a:gdLst>
                      <a:gd name="textAreaLeft" fmla="*/ 0 w 4146480"/>
                      <a:gd name="textAreaRight" fmla="*/ 4146840 w 4146480"/>
                      <a:gd name="textAreaTop" fmla="*/ 0 h 298800"/>
                      <a:gd name="textAreaBottom" fmla="*/ 299160 h 298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921" y="0"/>
                        </a:lnTo>
                        <a:lnTo>
                          <a:pt x="21600" y="10800"/>
                        </a:lnTo>
                        <a:lnTo>
                          <a:pt x="20921" y="21600"/>
                        </a:lnTo>
                        <a:lnTo>
                          <a:pt x="0" y="21600"/>
                        </a:lnTo>
                        <a:lnTo>
                          <a:pt x="67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9" name=""/>
                  <p:cNvSpPr/>
                  <p:nvPr/>
                </p:nvSpPr>
                <p:spPr>
                  <a:xfrm>
                    <a:off x="3293640" y="2238480"/>
                    <a:ext cx="1885320" cy="27468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Desenvolvimento</a:t>
                    </a:r>
                    <a:r>
                      <a:rPr b="0" i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0" name=""/>
                <p:cNvGrpSpPr/>
                <p:nvPr/>
              </p:nvGrpSpPr>
              <p:grpSpPr>
                <a:xfrm>
                  <a:off x="962280" y="4336560"/>
                  <a:ext cx="6981840" cy="534600"/>
                  <a:chOff x="962280" y="4336560"/>
                  <a:chExt cx="6981840" cy="534600"/>
                </a:xfrm>
              </p:grpSpPr>
              <p:grpSp>
                <p:nvGrpSpPr>
                  <p:cNvPr id="4341" name=""/>
                  <p:cNvGrpSpPr/>
                  <p:nvPr/>
                </p:nvGrpSpPr>
                <p:grpSpPr>
                  <a:xfrm>
                    <a:off x="2259720" y="4350600"/>
                    <a:ext cx="5684400" cy="520560"/>
                    <a:chOff x="2259720" y="4350600"/>
                    <a:chExt cx="5684400" cy="520560"/>
                  </a:xfrm>
                </p:grpSpPr>
                <p:sp>
                  <p:nvSpPr>
                    <p:cNvPr id="4342" name=""/>
                    <p:cNvSpPr/>
                    <p:nvPr/>
                  </p:nvSpPr>
                  <p:spPr>
                    <a:xfrm>
                      <a:off x="4633920" y="4350600"/>
                      <a:ext cx="1043640" cy="520560"/>
                    </a:xfrm>
                    <a:custGeom>
                      <a:avLst/>
                      <a:gdLst>
                        <a:gd name="textAreaLeft" fmla="*/ 0 w 1043640"/>
                        <a:gd name="textAreaRight" fmla="*/ 1044000 w 10436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544" y="0"/>
                          </a:lnTo>
                          <a:lnTo>
                            <a:pt x="21600" y="10800"/>
                          </a:lnTo>
                          <a:lnTo>
                            <a:pt x="19544" y="21600"/>
                          </a:lnTo>
                          <a:lnTo>
                            <a:pt x="0" y="21600"/>
                          </a:lnTo>
                          <a:lnTo>
                            <a:pt x="2056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lhad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3" name=""/>
                    <p:cNvSpPr/>
                    <p:nvPr/>
                  </p:nvSpPr>
                  <p:spPr>
                    <a:xfrm>
                      <a:off x="3557520" y="4350600"/>
                      <a:ext cx="1074240" cy="520560"/>
                    </a:xfrm>
                    <a:custGeom>
                      <a:avLst/>
                      <a:gdLst>
                        <a:gd name="textAreaLeft" fmla="*/ 0 w 1074240"/>
                        <a:gd name="textAreaRight" fmla="*/ 1074600 w 10742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672" y="0"/>
                          </a:lnTo>
                          <a:lnTo>
                            <a:pt x="21600" y="10800"/>
                          </a:lnTo>
                          <a:lnTo>
                            <a:pt x="19672" y="21600"/>
                          </a:lnTo>
                          <a:lnTo>
                            <a:pt x="0" y="21600"/>
                          </a:lnTo>
                          <a:lnTo>
                            <a:pt x="1928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itu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4" name=""/>
                    <p:cNvSpPr/>
                    <p:nvPr/>
                  </p:nvSpPr>
                  <p:spPr>
                    <a:xfrm>
                      <a:off x="2259720" y="4350600"/>
                      <a:ext cx="1302840" cy="520560"/>
                    </a:xfrm>
                    <a:custGeom>
                      <a:avLst/>
                      <a:gdLst>
                        <a:gd name="textAreaLeft" fmla="*/ 0 w 1302840"/>
                        <a:gd name="textAreaRight" fmla="*/ 1303200 w 13028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6" y="0"/>
                          </a:lnTo>
                          <a:lnTo>
                            <a:pt x="21600" y="10800"/>
                          </a:lnTo>
                          <a:lnTo>
                            <a:pt x="19746" y="21600"/>
                          </a:lnTo>
                          <a:lnTo>
                            <a:pt x="0" y="21600"/>
                          </a:lnTo>
                          <a:lnTo>
                            <a:pt x="1854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on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5" name=""/>
                    <p:cNvSpPr/>
                    <p:nvPr/>
                  </p:nvSpPr>
                  <p:spPr>
                    <a:xfrm>
                      <a:off x="6782040" y="4350600"/>
                      <a:ext cx="1162080" cy="520560"/>
                    </a:xfrm>
                    <a:custGeom>
                      <a:avLst/>
                      <a:gdLst>
                        <a:gd name="textAreaLeft" fmla="*/ 0 w 1162080"/>
                        <a:gd name="textAreaRight" fmla="*/ 1162080 w 11620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0" y="0"/>
                          </a:lnTo>
                          <a:lnTo>
                            <a:pt x="21600" y="10800"/>
                          </a:lnTo>
                          <a:lnTo>
                            <a:pt x="19740" y="21600"/>
                          </a:lnTo>
                          <a:lnTo>
                            <a:pt x="0" y="21600"/>
                          </a:lnTo>
                          <a:lnTo>
                            <a:pt x="1860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ç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Produ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6" name=""/>
                    <p:cNvSpPr/>
                    <p:nvPr/>
                  </p:nvSpPr>
                  <p:spPr>
                    <a:xfrm>
                      <a:off x="5676840" y="4350600"/>
                      <a:ext cx="1102680" cy="520560"/>
                    </a:xfrm>
                    <a:custGeom>
                      <a:avLst/>
                      <a:gdLst>
                        <a:gd name="textAreaLeft" fmla="*/ 0 w 1102680"/>
                        <a:gd name="textAreaRight" fmla="*/ 1102680 w 11026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987" y="0"/>
                          </a:lnTo>
                          <a:lnTo>
                            <a:pt x="21600" y="10800"/>
                          </a:lnTo>
                          <a:lnTo>
                            <a:pt x="19987" y="21600"/>
                          </a:lnTo>
                          <a:lnTo>
                            <a:pt x="0" y="21600"/>
                          </a:lnTo>
                          <a:lnTo>
                            <a:pt x="1613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47" name=""/>
                  <p:cNvSpPr/>
                  <p:nvPr/>
                </p:nvSpPr>
                <p:spPr>
                  <a:xfrm>
                    <a:off x="962280" y="4336560"/>
                    <a:ext cx="1270800" cy="520200"/>
                  </a:xfrm>
                  <a:custGeom>
                    <a:avLst/>
                    <a:gdLst>
                      <a:gd name="textAreaLeft" fmla="*/ 0 w 1270800"/>
                      <a:gd name="textAreaRight" fmla="*/ 1271160 w 1270800"/>
                      <a:gd name="textAreaTop" fmla="*/ 0 h 520200"/>
                      <a:gd name="textAreaBottom" fmla="*/ 520560 h 520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lanejamen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je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8" name=""/>
                <p:cNvGrpSpPr/>
                <p:nvPr/>
              </p:nvGrpSpPr>
              <p:grpSpPr>
                <a:xfrm>
                  <a:off x="6364440" y="2227320"/>
                  <a:ext cx="2652480" cy="298440"/>
                  <a:chOff x="6364440" y="2227320"/>
                  <a:chExt cx="2652480" cy="298440"/>
                </a:xfrm>
              </p:grpSpPr>
              <p:sp>
                <p:nvSpPr>
                  <p:cNvPr id="4349" name=""/>
                  <p:cNvSpPr/>
                  <p:nvPr/>
                </p:nvSpPr>
                <p:spPr>
                  <a:xfrm>
                    <a:off x="6364440" y="2227320"/>
                    <a:ext cx="2652480" cy="298440"/>
                  </a:xfrm>
                  <a:custGeom>
                    <a:avLst/>
                    <a:gdLst>
                      <a:gd name="textAreaLeft" fmla="*/ 0 w 2652480"/>
                      <a:gd name="textAreaRight" fmla="*/ 2652840 w 2652480"/>
                      <a:gd name="textAreaTop" fmla="*/ 0 h 298440"/>
                      <a:gd name="textAreaBottom" fmla="*/ 298800 h 298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642" y="0"/>
                        </a:lnTo>
                        <a:lnTo>
                          <a:pt x="21600" y="10800"/>
                        </a:lnTo>
                        <a:lnTo>
                          <a:pt x="20642" y="21600"/>
                        </a:lnTo>
                        <a:lnTo>
                          <a:pt x="0" y="21600"/>
                        </a:lnTo>
                        <a:lnTo>
                          <a:pt x="95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0" name=""/>
                  <p:cNvSpPr/>
                  <p:nvPr/>
                </p:nvSpPr>
                <p:spPr>
                  <a:xfrm>
                    <a:off x="7431480" y="2263680"/>
                    <a:ext cx="51660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ó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51" name=""/>
                <p:cNvSpPr/>
                <p:nvPr/>
              </p:nvSpPr>
              <p:spPr>
                <a:xfrm>
                  <a:off x="8223120" y="2311560"/>
                  <a:ext cx="26064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4352" name=""/>
                <p:cNvCxnSpPr>
                  <a:stCxn id="4349" idx="0"/>
                  <a:endCxn id="4353" idx="0"/>
                </p:cNvCxnSpPr>
                <p:nvPr/>
              </p:nvCxnSpPr>
              <p:spPr>
                <a:xfrm rot="5400000">
                  <a:off x="4402440" y="-999360"/>
                  <a:ext cx="2160" cy="6455520"/>
                </a:xfrm>
                <a:prstGeom prst="bentConnector3">
                  <a:avLst>
                    <a:gd name="adj1" fmla="val -14400000"/>
                  </a:avLst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4354" name=""/>
                <p:cNvGrpSpPr/>
                <p:nvPr/>
              </p:nvGrpSpPr>
              <p:grpSpPr>
                <a:xfrm>
                  <a:off x="171360" y="2227320"/>
                  <a:ext cx="2124000" cy="297000"/>
                  <a:chOff x="171360" y="2227320"/>
                  <a:chExt cx="2124000" cy="297000"/>
                </a:xfrm>
              </p:grpSpPr>
              <p:sp>
                <p:nvSpPr>
                  <p:cNvPr id="4353" name=""/>
                  <p:cNvSpPr/>
                  <p:nvPr/>
                </p:nvSpPr>
                <p:spPr>
                  <a:xfrm>
                    <a:off x="171360" y="2227320"/>
                    <a:ext cx="2124000" cy="297000"/>
                  </a:xfrm>
                  <a:custGeom>
                    <a:avLst/>
                    <a:gdLst>
                      <a:gd name="textAreaLeft" fmla="*/ 0 w 2124000"/>
                      <a:gd name="textAreaRight" fmla="*/ 2124360 w 2124000"/>
                      <a:gd name="textAreaTop" fmla="*/ 0 h 297000"/>
                      <a:gd name="textAreaBottom" fmla="*/ 297360 h 297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447" y="0"/>
                        </a:lnTo>
                        <a:lnTo>
                          <a:pt x="21600" y="10800"/>
                        </a:lnTo>
                        <a:lnTo>
                          <a:pt x="20447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5" name=""/>
                  <p:cNvSpPr/>
                  <p:nvPr/>
                </p:nvSpPr>
                <p:spPr>
                  <a:xfrm>
                    <a:off x="999000" y="2263680"/>
                    <a:ext cx="4723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ré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56" name=""/>
                <p:cNvSpPr/>
                <p:nvPr/>
              </p:nvSpPr>
              <p:spPr>
                <a:xfrm>
                  <a:off x="185760" y="2597040"/>
                  <a:ext cx="1335240" cy="787680"/>
                </a:xfrm>
                <a:custGeom>
                  <a:avLst/>
                  <a:gdLst>
                    <a:gd name="textAreaLeft" fmla="*/ 0 w 1335240"/>
                    <a:gd name="textAreaRight" fmla="*/ 1335600 w 1335240"/>
                    <a:gd name="textAreaTop" fmla="*/ 0 h 787680"/>
                    <a:gd name="textAreaBottom" fmla="*/ 788040 h 787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548" y="0"/>
                      </a:lnTo>
                      <a:lnTo>
                        <a:pt x="21600" y="10800"/>
                      </a:lnTo>
                      <a:lnTo>
                        <a:pt x="19548" y="21600"/>
                      </a:lnTo>
                      <a:lnTo>
                        <a:pt x="0" y="21600"/>
                      </a:lnTo>
                      <a:lnTo>
                        <a:pt x="2052" y="1080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lanejament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stratégico dos Produto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57" name=""/>
                <p:cNvGrpSpPr/>
                <p:nvPr/>
              </p:nvGrpSpPr>
              <p:grpSpPr>
                <a:xfrm>
                  <a:off x="6164280" y="2577960"/>
                  <a:ext cx="2871720" cy="933480"/>
                  <a:chOff x="6164280" y="2577960"/>
                  <a:chExt cx="2871720" cy="933480"/>
                </a:xfrm>
              </p:grpSpPr>
              <p:sp>
                <p:nvSpPr>
                  <p:cNvPr id="4358" name=""/>
                  <p:cNvSpPr/>
                  <p:nvPr/>
                </p:nvSpPr>
                <p:spPr>
                  <a:xfrm>
                    <a:off x="6164280" y="2577960"/>
                    <a:ext cx="1257120" cy="830520"/>
                  </a:xfrm>
                  <a:custGeom>
                    <a:avLst/>
                    <a:gdLst>
                      <a:gd name="textAreaLeft" fmla="*/ 0 w 1257120"/>
                      <a:gd name="textAreaRight" fmla="*/ 1257480 w 125712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9" name=""/>
                  <p:cNvSpPr/>
                  <p:nvPr/>
                </p:nvSpPr>
                <p:spPr>
                  <a:xfrm>
                    <a:off x="7421400" y="2577960"/>
                    <a:ext cx="1270080" cy="83052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0" name=""/>
                  <p:cNvSpPr/>
                  <p:nvPr/>
                </p:nvSpPr>
                <p:spPr>
                  <a:xfrm>
                    <a:off x="6249960" y="2641680"/>
                    <a:ext cx="1268280" cy="830160"/>
                  </a:xfrm>
                  <a:custGeom>
                    <a:avLst/>
                    <a:gdLst>
                      <a:gd name="textAreaLeft" fmla="*/ 0 w 1268280"/>
                      <a:gd name="textAreaRight" fmla="*/ 1268640 w 12682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1" name=""/>
                  <p:cNvSpPr/>
                  <p:nvPr/>
                </p:nvSpPr>
                <p:spPr>
                  <a:xfrm>
                    <a:off x="7535880" y="2641680"/>
                    <a:ext cx="1270080" cy="83016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2" name=""/>
                  <p:cNvSpPr/>
                  <p:nvPr/>
                </p:nvSpPr>
                <p:spPr>
                  <a:xfrm>
                    <a:off x="7694640" y="2681280"/>
                    <a:ext cx="1341360" cy="830160"/>
                  </a:xfrm>
                  <a:custGeom>
                    <a:avLst/>
                    <a:gdLst>
                      <a:gd name="textAreaLeft" fmla="*/ 0 w 1341360"/>
                      <a:gd name="textAreaRight" fmla="*/ 1341720 w 134136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602" y="0"/>
                        </a:lnTo>
                        <a:lnTo>
                          <a:pt x="21600" y="10800"/>
                        </a:lnTo>
                        <a:lnTo>
                          <a:pt x="19602" y="21600"/>
                        </a:lnTo>
                        <a:lnTo>
                          <a:pt x="0" y="21600"/>
                        </a:lnTo>
                        <a:lnTo>
                          <a:pt x="199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44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escontinu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3" name=""/>
                  <p:cNvSpPr/>
                  <p:nvPr/>
                </p:nvSpPr>
                <p:spPr>
                  <a:xfrm>
                    <a:off x="6348240" y="2681280"/>
                    <a:ext cx="1400400" cy="830160"/>
                  </a:xfrm>
                  <a:custGeom>
                    <a:avLst/>
                    <a:gdLst>
                      <a:gd name="textAreaLeft" fmla="*/ 0 w 1400400"/>
                      <a:gd name="textAreaRight" fmla="*/ 1400400 w 140040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739" y="0"/>
                        </a:lnTo>
                        <a:lnTo>
                          <a:pt x="21600" y="10800"/>
                        </a:lnTo>
                        <a:lnTo>
                          <a:pt x="19739" y="21600"/>
                        </a:lnTo>
                        <a:lnTo>
                          <a:pt x="0" y="21600"/>
                        </a:lnTo>
                        <a:lnTo>
                          <a:pt x="1861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Acompanh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/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cess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4" name=""/>
                <p:cNvGrpSpPr/>
                <p:nvPr/>
              </p:nvGrpSpPr>
              <p:grpSpPr>
                <a:xfrm>
                  <a:off x="2413080" y="2565000"/>
                  <a:ext cx="3600360" cy="407880"/>
                  <a:chOff x="2413080" y="2565000"/>
                  <a:chExt cx="3600360" cy="407880"/>
                </a:xfrm>
              </p:grpSpPr>
              <p:sp>
                <p:nvSpPr>
                  <p:cNvPr id="4365" name=""/>
                  <p:cNvSpPr/>
                  <p:nvPr/>
                </p:nvSpPr>
                <p:spPr>
                  <a:xfrm flipV="1">
                    <a:off x="241308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6" name=""/>
                  <p:cNvSpPr/>
                  <p:nvPr/>
                </p:nvSpPr>
                <p:spPr>
                  <a:xfrm flipV="1">
                    <a:off x="313380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7" name=""/>
                  <p:cNvSpPr/>
                  <p:nvPr/>
                </p:nvSpPr>
                <p:spPr>
                  <a:xfrm flipV="1">
                    <a:off x="3855960" y="25646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8" name=""/>
                  <p:cNvSpPr/>
                  <p:nvPr/>
                </p:nvSpPr>
                <p:spPr>
                  <a:xfrm flipV="1">
                    <a:off x="4576680" y="25646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9" name=""/>
                  <p:cNvSpPr/>
                  <p:nvPr/>
                </p:nvSpPr>
                <p:spPr>
                  <a:xfrm flipV="1">
                    <a:off x="529920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0" name=""/>
                <p:cNvGrpSpPr/>
                <p:nvPr/>
              </p:nvGrpSpPr>
              <p:grpSpPr>
                <a:xfrm>
                  <a:off x="2565360" y="2717640"/>
                  <a:ext cx="3600360" cy="407880"/>
                  <a:chOff x="2565360" y="2717640"/>
                  <a:chExt cx="3600360" cy="407880"/>
                </a:xfrm>
              </p:grpSpPr>
              <p:sp>
                <p:nvSpPr>
                  <p:cNvPr id="4371" name=""/>
                  <p:cNvSpPr/>
                  <p:nvPr/>
                </p:nvSpPr>
                <p:spPr>
                  <a:xfrm flipV="1">
                    <a:off x="256536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2" name=""/>
                  <p:cNvSpPr/>
                  <p:nvPr/>
                </p:nvSpPr>
                <p:spPr>
                  <a:xfrm flipV="1">
                    <a:off x="3286080" y="271728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3" name=""/>
                  <p:cNvSpPr/>
                  <p:nvPr/>
                </p:nvSpPr>
                <p:spPr>
                  <a:xfrm flipV="1">
                    <a:off x="400860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4" name=""/>
                  <p:cNvSpPr/>
                  <p:nvPr/>
                </p:nvSpPr>
                <p:spPr>
                  <a:xfrm flipV="1">
                    <a:off x="472932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5" name=""/>
                  <p:cNvSpPr/>
                  <p:nvPr/>
                </p:nvSpPr>
                <p:spPr>
                  <a:xfrm flipV="1">
                    <a:off x="545148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6" name=""/>
                <p:cNvGrpSpPr/>
                <p:nvPr/>
              </p:nvGrpSpPr>
              <p:grpSpPr>
                <a:xfrm>
                  <a:off x="2717640" y="2869920"/>
                  <a:ext cx="3600720" cy="407880"/>
                  <a:chOff x="2717640" y="2869920"/>
                  <a:chExt cx="3600720" cy="407880"/>
                </a:xfrm>
              </p:grpSpPr>
              <p:sp>
                <p:nvSpPr>
                  <p:cNvPr id="4377" name=""/>
                  <p:cNvSpPr/>
                  <p:nvPr/>
                </p:nvSpPr>
                <p:spPr>
                  <a:xfrm flipV="1">
                    <a:off x="271764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8" name=""/>
                  <p:cNvSpPr/>
                  <p:nvPr/>
                </p:nvSpPr>
                <p:spPr>
                  <a:xfrm flipV="1">
                    <a:off x="343836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9" name=""/>
                  <p:cNvSpPr/>
                  <p:nvPr/>
                </p:nvSpPr>
                <p:spPr>
                  <a:xfrm flipV="1">
                    <a:off x="4160880" y="28695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0" name=""/>
                  <p:cNvSpPr/>
                  <p:nvPr/>
                </p:nvSpPr>
                <p:spPr>
                  <a:xfrm flipV="1">
                    <a:off x="4881600" y="28695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1" name=""/>
                  <p:cNvSpPr/>
                  <p:nvPr/>
                </p:nvSpPr>
                <p:spPr>
                  <a:xfrm flipV="1">
                    <a:off x="560376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82" name=""/>
                <p:cNvGrpSpPr/>
                <p:nvPr/>
              </p:nvGrpSpPr>
              <p:grpSpPr>
                <a:xfrm>
                  <a:off x="1565280" y="2606760"/>
                  <a:ext cx="950760" cy="671400"/>
                  <a:chOff x="1565280" y="2606760"/>
                  <a:chExt cx="950760" cy="671400"/>
                </a:xfrm>
              </p:grpSpPr>
              <p:sp>
                <p:nvSpPr>
                  <p:cNvPr id="4383" name=""/>
                  <p:cNvSpPr/>
                  <p:nvPr/>
                </p:nvSpPr>
                <p:spPr>
                  <a:xfrm>
                    <a:off x="1565280" y="2606760"/>
                    <a:ext cx="646200" cy="36648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480"/>
                      <a:gd name="textAreaBottom" fmla="*/ 366840 h 366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4" name=""/>
                  <p:cNvSpPr/>
                  <p:nvPr/>
                </p:nvSpPr>
                <p:spPr>
                  <a:xfrm>
                    <a:off x="1717560" y="2759040"/>
                    <a:ext cx="646200" cy="36684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5" name=""/>
                  <p:cNvSpPr/>
                  <p:nvPr/>
                </p:nvSpPr>
                <p:spPr>
                  <a:xfrm>
                    <a:off x="1870200" y="2911320"/>
                    <a:ext cx="645840" cy="366840"/>
                  </a:xfrm>
                  <a:custGeom>
                    <a:avLst/>
                    <a:gdLst>
                      <a:gd name="textAreaLeft" fmla="*/ 0 w 645840"/>
                      <a:gd name="textAreaRight" fmla="*/ 646200 w 64584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86" name=""/>
                <p:cNvGrpSpPr/>
                <p:nvPr/>
              </p:nvGrpSpPr>
              <p:grpSpPr>
                <a:xfrm>
                  <a:off x="279720" y="3220920"/>
                  <a:ext cx="6232320" cy="776520"/>
                  <a:chOff x="279720" y="3220920"/>
                  <a:chExt cx="6232320" cy="776520"/>
                </a:xfrm>
              </p:grpSpPr>
              <p:sp>
                <p:nvSpPr>
                  <p:cNvPr id="4387" name=""/>
                  <p:cNvSpPr/>
                  <p:nvPr/>
                </p:nvSpPr>
                <p:spPr>
                  <a:xfrm>
                    <a:off x="279720" y="3670200"/>
                    <a:ext cx="9799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rPr>
                      <a:t>Gates &gt;&gt;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88" name=""/>
                  <p:cNvGrpSpPr/>
                  <p:nvPr/>
                </p:nvGrpSpPr>
                <p:grpSpPr>
                  <a:xfrm>
                    <a:off x="3319560" y="3220920"/>
                    <a:ext cx="185760" cy="617400"/>
                    <a:chOff x="3319560" y="3220920"/>
                    <a:chExt cx="185760" cy="617400"/>
                  </a:xfrm>
                </p:grpSpPr>
                <p:sp>
                  <p:nvSpPr>
                    <p:cNvPr id="4389" name=""/>
                    <p:cNvSpPr/>
                    <p:nvPr/>
                  </p:nvSpPr>
                  <p:spPr>
                    <a:xfrm>
                      <a:off x="331956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0" name=""/>
                    <p:cNvSpPr/>
                    <p:nvPr/>
                  </p:nvSpPr>
                  <p:spPr>
                    <a:xfrm flipV="1">
                      <a:off x="341172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91" name=""/>
                  <p:cNvSpPr/>
                  <p:nvPr/>
                </p:nvSpPr>
                <p:spPr>
                  <a:xfrm>
                    <a:off x="1208160" y="3497400"/>
                    <a:ext cx="5303880" cy="500040"/>
                  </a:xfrm>
                  <a:prstGeom prst="roundRect">
                    <a:avLst>
                      <a:gd name="adj" fmla="val 50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92" name=""/>
                  <p:cNvGrpSpPr/>
                  <p:nvPr/>
                </p:nvGrpSpPr>
                <p:grpSpPr>
                  <a:xfrm>
                    <a:off x="6219720" y="3395160"/>
                    <a:ext cx="185400" cy="474840"/>
                    <a:chOff x="6219720" y="3395160"/>
                    <a:chExt cx="185400" cy="474840"/>
                  </a:xfrm>
                </p:grpSpPr>
                <p:sp>
                  <p:nvSpPr>
                    <p:cNvPr id="4393" name=""/>
                    <p:cNvSpPr/>
                    <p:nvPr/>
                  </p:nvSpPr>
                  <p:spPr>
                    <a:xfrm>
                      <a:off x="6219720" y="359856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4" name=""/>
                    <p:cNvSpPr/>
                    <p:nvPr/>
                  </p:nvSpPr>
                  <p:spPr>
                    <a:xfrm flipV="1">
                      <a:off x="6311520" y="3395160"/>
                      <a:ext cx="0" cy="206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5" name=""/>
                  <p:cNvGrpSpPr/>
                  <p:nvPr/>
                </p:nvGrpSpPr>
                <p:grpSpPr>
                  <a:xfrm>
                    <a:off x="4748040" y="3220920"/>
                    <a:ext cx="185760" cy="617400"/>
                    <a:chOff x="4748040" y="3220920"/>
                    <a:chExt cx="185760" cy="617400"/>
                  </a:xfrm>
                </p:grpSpPr>
                <p:sp>
                  <p:nvSpPr>
                    <p:cNvPr id="4396" name=""/>
                    <p:cNvSpPr/>
                    <p:nvPr/>
                  </p:nvSpPr>
                  <p:spPr>
                    <a:xfrm>
                      <a:off x="474804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7" name=""/>
                    <p:cNvSpPr/>
                    <p:nvPr/>
                  </p:nvSpPr>
                  <p:spPr>
                    <a:xfrm flipV="1">
                      <a:off x="484020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8" name=""/>
                  <p:cNvGrpSpPr/>
                  <p:nvPr/>
                </p:nvGrpSpPr>
                <p:grpSpPr>
                  <a:xfrm>
                    <a:off x="5464080" y="3220920"/>
                    <a:ext cx="185760" cy="617400"/>
                    <a:chOff x="5464080" y="3220920"/>
                    <a:chExt cx="185760" cy="617400"/>
                  </a:xfrm>
                </p:grpSpPr>
                <p:sp>
                  <p:nvSpPr>
                    <p:cNvPr id="4399" name=""/>
                    <p:cNvSpPr/>
                    <p:nvPr/>
                  </p:nvSpPr>
                  <p:spPr>
                    <a:xfrm>
                      <a:off x="546408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0" name=""/>
                    <p:cNvSpPr/>
                    <p:nvPr/>
                  </p:nvSpPr>
                  <p:spPr>
                    <a:xfrm flipV="1">
                      <a:off x="555624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01" name=""/>
                  <p:cNvGrpSpPr/>
                  <p:nvPr/>
                </p:nvGrpSpPr>
                <p:grpSpPr>
                  <a:xfrm>
                    <a:off x="2422440" y="3252960"/>
                    <a:ext cx="185760" cy="585720"/>
                    <a:chOff x="2422440" y="3252960"/>
                    <a:chExt cx="185760" cy="585720"/>
                  </a:xfrm>
                </p:grpSpPr>
                <p:sp>
                  <p:nvSpPr>
                    <p:cNvPr id="4402" name=""/>
                    <p:cNvSpPr/>
                    <p:nvPr/>
                  </p:nvSpPr>
                  <p:spPr>
                    <a:xfrm flipV="1">
                      <a:off x="2514600" y="325296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3" name=""/>
                    <p:cNvSpPr/>
                    <p:nvPr/>
                  </p:nvSpPr>
                  <p:spPr>
                    <a:xfrm>
                      <a:off x="2422440" y="356724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04" name=""/>
                  <p:cNvGrpSpPr/>
                  <p:nvPr/>
                </p:nvGrpSpPr>
                <p:grpSpPr>
                  <a:xfrm>
                    <a:off x="4035600" y="3252960"/>
                    <a:ext cx="185400" cy="585720"/>
                    <a:chOff x="4035600" y="3252960"/>
                    <a:chExt cx="185400" cy="585720"/>
                  </a:xfrm>
                </p:grpSpPr>
                <p:sp>
                  <p:nvSpPr>
                    <p:cNvPr id="4405" name=""/>
                    <p:cNvSpPr/>
                    <p:nvPr/>
                  </p:nvSpPr>
                  <p:spPr>
                    <a:xfrm flipV="1">
                      <a:off x="4127400" y="325296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6" name=""/>
                    <p:cNvSpPr/>
                    <p:nvPr/>
                  </p:nvSpPr>
                  <p:spPr>
                    <a:xfrm>
                      <a:off x="4035600" y="356724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07" name=""/>
                  <p:cNvGrpSpPr/>
                  <p:nvPr/>
                </p:nvGrpSpPr>
                <p:grpSpPr>
                  <a:xfrm>
                    <a:off x="3597120" y="3277800"/>
                    <a:ext cx="141480" cy="473400"/>
                    <a:chOff x="3597120" y="3277800"/>
                    <a:chExt cx="141480" cy="473400"/>
                  </a:xfrm>
                </p:grpSpPr>
                <p:sp>
                  <p:nvSpPr>
                    <p:cNvPr id="4408" name=""/>
                    <p:cNvSpPr/>
                    <p:nvPr/>
                  </p:nvSpPr>
                  <p:spPr>
                    <a:xfrm flipV="1">
                      <a:off x="36687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9" name=""/>
                    <p:cNvSpPr/>
                    <p:nvPr/>
                  </p:nvSpPr>
                  <p:spPr>
                    <a:xfrm>
                      <a:off x="359712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10" name=""/>
                  <p:cNvGrpSpPr/>
                  <p:nvPr/>
                </p:nvGrpSpPr>
                <p:grpSpPr>
                  <a:xfrm>
                    <a:off x="3784680" y="3277800"/>
                    <a:ext cx="141120" cy="473400"/>
                    <a:chOff x="3784680" y="3277800"/>
                    <a:chExt cx="141120" cy="473400"/>
                  </a:xfrm>
                </p:grpSpPr>
                <p:sp>
                  <p:nvSpPr>
                    <p:cNvPr id="4411" name=""/>
                    <p:cNvSpPr/>
                    <p:nvPr/>
                  </p:nvSpPr>
                  <p:spPr>
                    <a:xfrm flipV="1">
                      <a:off x="38559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2" name=""/>
                    <p:cNvSpPr/>
                    <p:nvPr/>
                  </p:nvSpPr>
                  <p:spPr>
                    <a:xfrm>
                      <a:off x="378468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13" name=""/>
                  <p:cNvGrpSpPr/>
                  <p:nvPr/>
                </p:nvGrpSpPr>
                <p:grpSpPr>
                  <a:xfrm>
                    <a:off x="4284720" y="3277800"/>
                    <a:ext cx="141120" cy="473400"/>
                    <a:chOff x="4284720" y="3277800"/>
                    <a:chExt cx="141120" cy="473400"/>
                  </a:xfrm>
                </p:grpSpPr>
                <p:sp>
                  <p:nvSpPr>
                    <p:cNvPr id="4414" name=""/>
                    <p:cNvSpPr/>
                    <p:nvPr/>
                  </p:nvSpPr>
                  <p:spPr>
                    <a:xfrm flipV="1">
                      <a:off x="435600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5" name=""/>
                    <p:cNvSpPr/>
                    <p:nvPr/>
                  </p:nvSpPr>
                  <p:spPr>
                    <a:xfrm>
                      <a:off x="428472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16" name=""/>
                  <p:cNvGrpSpPr/>
                  <p:nvPr/>
                </p:nvGrpSpPr>
                <p:grpSpPr>
                  <a:xfrm>
                    <a:off x="4498920" y="3277800"/>
                    <a:ext cx="141480" cy="473400"/>
                    <a:chOff x="4498920" y="3277800"/>
                    <a:chExt cx="141480" cy="473400"/>
                  </a:xfrm>
                </p:grpSpPr>
                <p:sp>
                  <p:nvSpPr>
                    <p:cNvPr id="4417" name=""/>
                    <p:cNvSpPr/>
                    <p:nvPr/>
                  </p:nvSpPr>
                  <p:spPr>
                    <a:xfrm flipV="1">
                      <a:off x="45705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8" name=""/>
                    <p:cNvSpPr/>
                    <p:nvPr/>
                  </p:nvSpPr>
                  <p:spPr>
                    <a:xfrm>
                      <a:off x="449892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19" name=""/>
                  <p:cNvGrpSpPr/>
                  <p:nvPr/>
                </p:nvGrpSpPr>
                <p:grpSpPr>
                  <a:xfrm>
                    <a:off x="3051000" y="3277800"/>
                    <a:ext cx="141480" cy="473400"/>
                    <a:chOff x="3051000" y="3277800"/>
                    <a:chExt cx="141480" cy="473400"/>
                  </a:xfrm>
                </p:grpSpPr>
                <p:sp>
                  <p:nvSpPr>
                    <p:cNvPr id="4420" name=""/>
                    <p:cNvSpPr/>
                    <p:nvPr/>
                  </p:nvSpPr>
                  <p:spPr>
                    <a:xfrm flipV="1">
                      <a:off x="312264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1" name=""/>
                    <p:cNvSpPr/>
                    <p:nvPr/>
                  </p:nvSpPr>
                  <p:spPr>
                    <a:xfrm>
                      <a:off x="305100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2" name=""/>
                  <p:cNvGrpSpPr/>
                  <p:nvPr/>
                </p:nvGrpSpPr>
                <p:grpSpPr>
                  <a:xfrm>
                    <a:off x="5164200" y="3277800"/>
                    <a:ext cx="141120" cy="473400"/>
                    <a:chOff x="5164200" y="3277800"/>
                    <a:chExt cx="141120" cy="473400"/>
                  </a:xfrm>
                </p:grpSpPr>
                <p:sp>
                  <p:nvSpPr>
                    <p:cNvPr id="4423" name=""/>
                    <p:cNvSpPr/>
                    <p:nvPr/>
                  </p:nvSpPr>
                  <p:spPr>
                    <a:xfrm flipV="1">
                      <a:off x="523548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4" name=""/>
                    <p:cNvSpPr/>
                    <p:nvPr/>
                  </p:nvSpPr>
                  <p:spPr>
                    <a:xfrm>
                      <a:off x="516420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4425" name=""/>
              <p:cNvSpPr/>
              <p:nvPr/>
            </p:nvSpPr>
            <p:spPr>
              <a:xfrm>
                <a:off x="1500120" y="1455840"/>
                <a:ext cx="6210360" cy="3207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Processo de Desenvolvimento de Produ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26" name=""/>
          <p:cNvGrpSpPr/>
          <p:nvPr/>
        </p:nvGrpSpPr>
        <p:grpSpPr>
          <a:xfrm>
            <a:off x="3232800" y="3394440"/>
            <a:ext cx="2808000" cy="2010240"/>
            <a:chOff x="3232800" y="3394440"/>
            <a:chExt cx="2808000" cy="2010240"/>
          </a:xfrm>
        </p:grpSpPr>
        <p:grpSp>
          <p:nvGrpSpPr>
            <p:cNvPr id="4427" name=""/>
            <p:cNvGrpSpPr/>
            <p:nvPr/>
          </p:nvGrpSpPr>
          <p:grpSpPr>
            <a:xfrm>
              <a:off x="3232800" y="3816000"/>
              <a:ext cx="1917360" cy="1588680"/>
              <a:chOff x="3232800" y="3816000"/>
              <a:chExt cx="1917360" cy="1588680"/>
            </a:xfrm>
          </p:grpSpPr>
          <p:grpSp>
            <p:nvGrpSpPr>
              <p:cNvPr id="4428" name=""/>
              <p:cNvGrpSpPr/>
              <p:nvPr/>
            </p:nvGrpSpPr>
            <p:grpSpPr>
              <a:xfrm>
                <a:off x="3276000" y="3816000"/>
                <a:ext cx="1863360" cy="1562040"/>
                <a:chOff x="3276000" y="3816000"/>
                <a:chExt cx="1863360" cy="1562040"/>
              </a:xfrm>
            </p:grpSpPr>
            <p:grpSp>
              <p:nvGrpSpPr>
                <p:cNvPr id="4429" name=""/>
                <p:cNvGrpSpPr/>
                <p:nvPr/>
              </p:nvGrpSpPr>
              <p:grpSpPr>
                <a:xfrm>
                  <a:off x="3276000" y="3816000"/>
                  <a:ext cx="1863360" cy="1562040"/>
                  <a:chOff x="3276000" y="3816000"/>
                  <a:chExt cx="1863360" cy="1562040"/>
                </a:xfrm>
              </p:grpSpPr>
              <p:sp>
                <p:nvSpPr>
                  <p:cNvPr id="4430" name=""/>
                  <p:cNvSpPr/>
                  <p:nvPr/>
                </p:nvSpPr>
                <p:spPr>
                  <a:xfrm rot="15622800">
                    <a:off x="3310200" y="4254480"/>
                    <a:ext cx="1098360" cy="9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685">
                        <a:moveTo>
                          <a:pt x="21" y="685"/>
                        </a:moveTo>
                        <a:lnTo>
                          <a:pt x="6" y="604"/>
                        </a:lnTo>
                        <a:lnTo>
                          <a:pt x="0" y="526"/>
                        </a:lnTo>
                        <a:lnTo>
                          <a:pt x="3" y="472"/>
                        </a:lnTo>
                        <a:lnTo>
                          <a:pt x="12" y="423"/>
                        </a:lnTo>
                        <a:lnTo>
                          <a:pt x="27" y="369"/>
                        </a:lnTo>
                        <a:lnTo>
                          <a:pt x="51" y="315"/>
                        </a:lnTo>
                        <a:lnTo>
                          <a:pt x="81" y="258"/>
                        </a:lnTo>
                        <a:lnTo>
                          <a:pt x="111" y="213"/>
                        </a:lnTo>
                        <a:lnTo>
                          <a:pt x="147" y="168"/>
                        </a:lnTo>
                        <a:lnTo>
                          <a:pt x="189" y="129"/>
                        </a:lnTo>
                        <a:lnTo>
                          <a:pt x="231" y="96"/>
                        </a:lnTo>
                        <a:lnTo>
                          <a:pt x="276" y="69"/>
                        </a:lnTo>
                        <a:lnTo>
                          <a:pt x="331" y="45"/>
                        </a:lnTo>
                        <a:lnTo>
                          <a:pt x="394" y="24"/>
                        </a:lnTo>
                        <a:lnTo>
                          <a:pt x="448" y="9"/>
                        </a:lnTo>
                        <a:lnTo>
                          <a:pt x="514" y="0"/>
                        </a:lnTo>
                        <a:lnTo>
                          <a:pt x="598" y="0"/>
                        </a:lnTo>
                        <a:lnTo>
                          <a:pt x="661" y="12"/>
                        </a:lnTo>
                        <a:lnTo>
                          <a:pt x="736" y="30"/>
                        </a:lnTo>
                        <a:lnTo>
                          <a:pt x="811" y="63"/>
                        </a:lnTo>
                        <a:lnTo>
                          <a:pt x="877" y="102"/>
                        </a:lnTo>
                        <a:lnTo>
                          <a:pt x="922" y="141"/>
                        </a:lnTo>
                        <a:lnTo>
                          <a:pt x="967" y="186"/>
                        </a:lnTo>
                        <a:lnTo>
                          <a:pt x="1003" y="231"/>
                        </a:lnTo>
                        <a:lnTo>
                          <a:pt x="907" y="159"/>
                        </a:lnTo>
                        <a:lnTo>
                          <a:pt x="856" y="129"/>
                        </a:lnTo>
                        <a:lnTo>
                          <a:pt x="802" y="108"/>
                        </a:lnTo>
                        <a:lnTo>
                          <a:pt x="733" y="87"/>
                        </a:lnTo>
                        <a:lnTo>
                          <a:pt x="667" y="78"/>
                        </a:lnTo>
                        <a:lnTo>
                          <a:pt x="595" y="75"/>
                        </a:lnTo>
                        <a:lnTo>
                          <a:pt x="541" y="78"/>
                        </a:lnTo>
                        <a:lnTo>
                          <a:pt x="484" y="87"/>
                        </a:lnTo>
                        <a:lnTo>
                          <a:pt x="427" y="102"/>
                        </a:lnTo>
                        <a:lnTo>
                          <a:pt x="373" y="120"/>
                        </a:lnTo>
                        <a:lnTo>
                          <a:pt x="313" y="150"/>
                        </a:lnTo>
                        <a:lnTo>
                          <a:pt x="267" y="177"/>
                        </a:lnTo>
                        <a:lnTo>
                          <a:pt x="228" y="210"/>
                        </a:lnTo>
                        <a:lnTo>
                          <a:pt x="183" y="246"/>
                        </a:lnTo>
                        <a:lnTo>
                          <a:pt x="147" y="285"/>
                        </a:lnTo>
                        <a:lnTo>
                          <a:pt x="111" y="339"/>
                        </a:lnTo>
                        <a:lnTo>
                          <a:pt x="78" y="396"/>
                        </a:lnTo>
                        <a:lnTo>
                          <a:pt x="57" y="450"/>
                        </a:lnTo>
                        <a:lnTo>
                          <a:pt x="39" y="514"/>
                        </a:lnTo>
                        <a:lnTo>
                          <a:pt x="27" y="592"/>
                        </a:lnTo>
                        <a:lnTo>
                          <a:pt x="21" y="68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1" name=""/>
                  <p:cNvSpPr/>
                  <p:nvPr/>
                </p:nvSpPr>
                <p:spPr>
                  <a:xfrm rot="15622800">
                    <a:off x="3828600" y="3903120"/>
                    <a:ext cx="1211400" cy="122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6" h="841">
                        <a:moveTo>
                          <a:pt x="0" y="511"/>
                        </a:moveTo>
                        <a:lnTo>
                          <a:pt x="63" y="583"/>
                        </a:lnTo>
                        <a:lnTo>
                          <a:pt x="132" y="646"/>
                        </a:lnTo>
                        <a:lnTo>
                          <a:pt x="195" y="682"/>
                        </a:lnTo>
                        <a:lnTo>
                          <a:pt x="286" y="721"/>
                        </a:lnTo>
                        <a:lnTo>
                          <a:pt x="358" y="742"/>
                        </a:lnTo>
                        <a:lnTo>
                          <a:pt x="424" y="751"/>
                        </a:lnTo>
                        <a:lnTo>
                          <a:pt x="502" y="751"/>
                        </a:lnTo>
                        <a:lnTo>
                          <a:pt x="559" y="745"/>
                        </a:lnTo>
                        <a:lnTo>
                          <a:pt x="628" y="733"/>
                        </a:lnTo>
                        <a:lnTo>
                          <a:pt x="697" y="712"/>
                        </a:lnTo>
                        <a:lnTo>
                          <a:pt x="754" y="682"/>
                        </a:lnTo>
                        <a:lnTo>
                          <a:pt x="808" y="649"/>
                        </a:lnTo>
                        <a:lnTo>
                          <a:pt x="856" y="616"/>
                        </a:lnTo>
                        <a:lnTo>
                          <a:pt x="904" y="568"/>
                        </a:lnTo>
                        <a:lnTo>
                          <a:pt x="952" y="514"/>
                        </a:lnTo>
                        <a:lnTo>
                          <a:pt x="989" y="463"/>
                        </a:lnTo>
                        <a:lnTo>
                          <a:pt x="1010" y="412"/>
                        </a:lnTo>
                        <a:lnTo>
                          <a:pt x="1037" y="331"/>
                        </a:lnTo>
                        <a:lnTo>
                          <a:pt x="1055" y="247"/>
                        </a:lnTo>
                        <a:lnTo>
                          <a:pt x="1058" y="172"/>
                        </a:lnTo>
                        <a:lnTo>
                          <a:pt x="1046" y="90"/>
                        </a:lnTo>
                        <a:lnTo>
                          <a:pt x="1019" y="0"/>
                        </a:lnTo>
                        <a:lnTo>
                          <a:pt x="1046" y="48"/>
                        </a:lnTo>
                        <a:lnTo>
                          <a:pt x="1076" y="117"/>
                        </a:lnTo>
                        <a:lnTo>
                          <a:pt x="1091" y="181"/>
                        </a:lnTo>
                        <a:lnTo>
                          <a:pt x="1106" y="241"/>
                        </a:lnTo>
                        <a:lnTo>
                          <a:pt x="1103" y="292"/>
                        </a:lnTo>
                        <a:lnTo>
                          <a:pt x="1100" y="361"/>
                        </a:lnTo>
                        <a:lnTo>
                          <a:pt x="1064" y="493"/>
                        </a:lnTo>
                        <a:lnTo>
                          <a:pt x="1028" y="565"/>
                        </a:lnTo>
                        <a:lnTo>
                          <a:pt x="983" y="628"/>
                        </a:lnTo>
                        <a:lnTo>
                          <a:pt x="934" y="682"/>
                        </a:lnTo>
                        <a:lnTo>
                          <a:pt x="886" y="721"/>
                        </a:lnTo>
                        <a:lnTo>
                          <a:pt x="820" y="766"/>
                        </a:lnTo>
                        <a:lnTo>
                          <a:pt x="754" y="796"/>
                        </a:lnTo>
                        <a:lnTo>
                          <a:pt x="691" y="817"/>
                        </a:lnTo>
                        <a:lnTo>
                          <a:pt x="610" y="838"/>
                        </a:lnTo>
                        <a:lnTo>
                          <a:pt x="550" y="841"/>
                        </a:lnTo>
                        <a:lnTo>
                          <a:pt x="484" y="841"/>
                        </a:lnTo>
                        <a:lnTo>
                          <a:pt x="418" y="829"/>
                        </a:lnTo>
                        <a:lnTo>
                          <a:pt x="346" y="814"/>
                        </a:lnTo>
                        <a:lnTo>
                          <a:pt x="298" y="796"/>
                        </a:lnTo>
                        <a:lnTo>
                          <a:pt x="234" y="763"/>
                        </a:lnTo>
                        <a:lnTo>
                          <a:pt x="180" y="733"/>
                        </a:lnTo>
                        <a:lnTo>
                          <a:pt x="129" y="691"/>
                        </a:lnTo>
                        <a:lnTo>
                          <a:pt x="75" y="634"/>
                        </a:lnTo>
                        <a:lnTo>
                          <a:pt x="24" y="562"/>
                        </a:lnTo>
                        <a:lnTo>
                          <a:pt x="0" y="51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2" name=""/>
                <p:cNvGrpSpPr/>
                <p:nvPr/>
              </p:nvGrpSpPr>
              <p:grpSpPr>
                <a:xfrm>
                  <a:off x="3309840" y="3891960"/>
                  <a:ext cx="1756080" cy="1418400"/>
                  <a:chOff x="3309840" y="3891960"/>
                  <a:chExt cx="1756080" cy="1418400"/>
                </a:xfrm>
              </p:grpSpPr>
              <p:sp>
                <p:nvSpPr>
                  <p:cNvPr id="4433" name=""/>
                  <p:cNvSpPr/>
                  <p:nvPr/>
                </p:nvSpPr>
                <p:spPr>
                  <a:xfrm rot="15622800">
                    <a:off x="4683240" y="4701600"/>
                    <a:ext cx="3139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278">
                        <a:moveTo>
                          <a:pt x="0" y="0"/>
                        </a:moveTo>
                        <a:lnTo>
                          <a:pt x="30" y="56"/>
                        </a:lnTo>
                        <a:lnTo>
                          <a:pt x="59" y="99"/>
                        </a:lnTo>
                        <a:lnTo>
                          <a:pt x="90" y="138"/>
                        </a:lnTo>
                        <a:lnTo>
                          <a:pt x="138" y="185"/>
                        </a:lnTo>
                        <a:lnTo>
                          <a:pt x="174" y="215"/>
                        </a:lnTo>
                        <a:lnTo>
                          <a:pt x="220" y="244"/>
                        </a:lnTo>
                        <a:lnTo>
                          <a:pt x="287" y="278"/>
                        </a:lnTo>
                        <a:lnTo>
                          <a:pt x="212" y="176"/>
                        </a:lnTo>
                        <a:lnTo>
                          <a:pt x="170" y="152"/>
                        </a:lnTo>
                        <a:lnTo>
                          <a:pt x="140" y="131"/>
                        </a:lnTo>
                        <a:lnTo>
                          <a:pt x="96" y="101"/>
                        </a:lnTo>
                        <a:lnTo>
                          <a:pt x="62" y="69"/>
                        </a:lnTo>
                        <a:lnTo>
                          <a:pt x="35" y="4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4" name=""/>
                  <p:cNvSpPr/>
                  <p:nvPr/>
                </p:nvSpPr>
                <p:spPr>
                  <a:xfrm rot="15622800">
                    <a:off x="4066200" y="3616200"/>
                    <a:ext cx="112680" cy="79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546">
                        <a:moveTo>
                          <a:pt x="19" y="0"/>
                        </a:moveTo>
                        <a:lnTo>
                          <a:pt x="39" y="37"/>
                        </a:lnTo>
                        <a:lnTo>
                          <a:pt x="52" y="69"/>
                        </a:lnTo>
                        <a:lnTo>
                          <a:pt x="66" y="102"/>
                        </a:lnTo>
                        <a:lnTo>
                          <a:pt x="76" y="134"/>
                        </a:lnTo>
                        <a:lnTo>
                          <a:pt x="84" y="164"/>
                        </a:lnTo>
                        <a:lnTo>
                          <a:pt x="99" y="217"/>
                        </a:lnTo>
                        <a:lnTo>
                          <a:pt x="103" y="269"/>
                        </a:lnTo>
                        <a:lnTo>
                          <a:pt x="100" y="349"/>
                        </a:lnTo>
                        <a:lnTo>
                          <a:pt x="93" y="403"/>
                        </a:lnTo>
                        <a:lnTo>
                          <a:pt x="82" y="447"/>
                        </a:lnTo>
                        <a:lnTo>
                          <a:pt x="65" y="493"/>
                        </a:lnTo>
                        <a:lnTo>
                          <a:pt x="42" y="546"/>
                        </a:lnTo>
                        <a:lnTo>
                          <a:pt x="0" y="443"/>
                        </a:lnTo>
                        <a:lnTo>
                          <a:pt x="19" y="398"/>
                        </a:lnTo>
                        <a:lnTo>
                          <a:pt x="28" y="374"/>
                        </a:lnTo>
                        <a:lnTo>
                          <a:pt x="39" y="343"/>
                        </a:lnTo>
                        <a:lnTo>
                          <a:pt x="46" y="311"/>
                        </a:lnTo>
                        <a:lnTo>
                          <a:pt x="52" y="262"/>
                        </a:lnTo>
                        <a:lnTo>
                          <a:pt x="55" y="221"/>
                        </a:lnTo>
                        <a:lnTo>
                          <a:pt x="55" y="160"/>
                        </a:lnTo>
                        <a:lnTo>
                          <a:pt x="46" y="105"/>
                        </a:lnTo>
                        <a:lnTo>
                          <a:pt x="36" y="60"/>
                        </a:lnTo>
                        <a:lnTo>
                          <a:pt x="30" y="36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5" name=""/>
                  <p:cNvSpPr/>
                  <p:nvPr/>
                </p:nvSpPr>
                <p:spPr>
                  <a:xfrm rot="15622800">
                    <a:off x="3241800" y="4433040"/>
                    <a:ext cx="44676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65">
                        <a:moveTo>
                          <a:pt x="0" y="0"/>
                        </a:moveTo>
                        <a:lnTo>
                          <a:pt x="31" y="60"/>
                        </a:lnTo>
                        <a:lnTo>
                          <a:pt x="79" y="57"/>
                        </a:lnTo>
                        <a:lnTo>
                          <a:pt x="123" y="60"/>
                        </a:lnTo>
                        <a:lnTo>
                          <a:pt x="164" y="66"/>
                        </a:lnTo>
                        <a:lnTo>
                          <a:pt x="202" y="73"/>
                        </a:lnTo>
                        <a:lnTo>
                          <a:pt x="240" y="83"/>
                        </a:lnTo>
                        <a:lnTo>
                          <a:pt x="266" y="91"/>
                        </a:lnTo>
                        <a:lnTo>
                          <a:pt x="300" y="105"/>
                        </a:lnTo>
                        <a:lnTo>
                          <a:pt x="339" y="124"/>
                        </a:lnTo>
                        <a:lnTo>
                          <a:pt x="408" y="165"/>
                        </a:lnTo>
                        <a:lnTo>
                          <a:pt x="368" y="123"/>
                        </a:lnTo>
                        <a:lnTo>
                          <a:pt x="340" y="102"/>
                        </a:lnTo>
                        <a:lnTo>
                          <a:pt x="303" y="78"/>
                        </a:lnTo>
                        <a:lnTo>
                          <a:pt x="280" y="64"/>
                        </a:lnTo>
                        <a:lnTo>
                          <a:pt x="229" y="40"/>
                        </a:lnTo>
                        <a:lnTo>
                          <a:pt x="196" y="28"/>
                        </a:lnTo>
                        <a:lnTo>
                          <a:pt x="169" y="19"/>
                        </a:lnTo>
                        <a:lnTo>
                          <a:pt x="144" y="13"/>
                        </a:lnTo>
                        <a:lnTo>
                          <a:pt x="105" y="6"/>
                        </a:lnTo>
                        <a:lnTo>
                          <a:pt x="64" y="1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6" name=""/>
                  <p:cNvSpPr/>
                  <p:nvPr/>
                </p:nvSpPr>
                <p:spPr>
                  <a:xfrm rot="15622800">
                    <a:off x="4008240" y="4911120"/>
                    <a:ext cx="142560" cy="56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87">
                        <a:moveTo>
                          <a:pt x="0" y="297"/>
                        </a:moveTo>
                        <a:lnTo>
                          <a:pt x="3" y="267"/>
                        </a:lnTo>
                        <a:lnTo>
                          <a:pt x="5" y="234"/>
                        </a:lnTo>
                        <a:lnTo>
                          <a:pt x="14" y="181"/>
                        </a:lnTo>
                        <a:lnTo>
                          <a:pt x="24" y="139"/>
                        </a:lnTo>
                        <a:lnTo>
                          <a:pt x="38" y="101"/>
                        </a:lnTo>
                        <a:lnTo>
                          <a:pt x="56" y="62"/>
                        </a:lnTo>
                        <a:lnTo>
                          <a:pt x="72" y="32"/>
                        </a:lnTo>
                        <a:lnTo>
                          <a:pt x="92" y="0"/>
                        </a:lnTo>
                        <a:lnTo>
                          <a:pt x="130" y="50"/>
                        </a:lnTo>
                        <a:lnTo>
                          <a:pt x="108" y="80"/>
                        </a:lnTo>
                        <a:lnTo>
                          <a:pt x="92" y="107"/>
                        </a:lnTo>
                        <a:lnTo>
                          <a:pt x="79" y="132"/>
                        </a:lnTo>
                        <a:lnTo>
                          <a:pt x="60" y="167"/>
                        </a:lnTo>
                        <a:lnTo>
                          <a:pt x="48" y="198"/>
                        </a:lnTo>
                        <a:lnTo>
                          <a:pt x="41" y="228"/>
                        </a:lnTo>
                        <a:lnTo>
                          <a:pt x="32" y="258"/>
                        </a:lnTo>
                        <a:lnTo>
                          <a:pt x="26" y="291"/>
                        </a:lnTo>
                        <a:lnTo>
                          <a:pt x="21" y="331"/>
                        </a:lnTo>
                        <a:lnTo>
                          <a:pt x="17" y="371"/>
                        </a:lnTo>
                        <a:lnTo>
                          <a:pt x="10" y="387"/>
                        </a:lnTo>
                        <a:lnTo>
                          <a:pt x="0" y="297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37" name=""/>
              <p:cNvSpPr/>
              <p:nvPr/>
            </p:nvSpPr>
            <p:spPr>
              <a:xfrm rot="15622800">
                <a:off x="3619440" y="3769200"/>
                <a:ext cx="1263960" cy="1608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38" name=""/>
              <p:cNvGrpSpPr/>
              <p:nvPr/>
            </p:nvGrpSpPr>
            <p:grpSpPr>
              <a:xfrm>
                <a:off x="3232800" y="3890160"/>
                <a:ext cx="1797120" cy="1514520"/>
                <a:chOff x="3232800" y="3890160"/>
                <a:chExt cx="1797120" cy="1514520"/>
              </a:xfrm>
            </p:grpSpPr>
            <p:sp>
              <p:nvSpPr>
                <p:cNvPr id="4439" name=""/>
                <p:cNvSpPr/>
                <p:nvPr/>
              </p:nvSpPr>
              <p:spPr>
                <a:xfrm rot="15622800">
                  <a:off x="3516120" y="3862800"/>
                  <a:ext cx="1234080" cy="1569240"/>
                </a:xfrm>
                <a:prstGeom prst="ellipse">
                  <a:avLst/>
                </a:prstGeom>
                <a:noFill/>
                <a:ln w="63360">
                  <a:solidFill>
                    <a:srgbClr val="9f9f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0" name=""/>
                <p:cNvSpPr/>
                <p:nvPr/>
              </p:nvSpPr>
              <p:spPr>
                <a:xfrm rot="15622800">
                  <a:off x="3499560" y="3843000"/>
                  <a:ext cx="1263600" cy="160848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1" name=""/>
                <p:cNvSpPr/>
                <p:nvPr/>
              </p:nvSpPr>
              <p:spPr>
                <a:xfrm rot="15622800">
                  <a:off x="3535200" y="3885840"/>
                  <a:ext cx="1193400" cy="15228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42" name=""/>
            <p:cNvGrpSpPr/>
            <p:nvPr/>
          </p:nvGrpSpPr>
          <p:grpSpPr>
            <a:xfrm>
              <a:off x="4751280" y="3394440"/>
              <a:ext cx="1289520" cy="863280"/>
              <a:chOff x="4751280" y="3394440"/>
              <a:chExt cx="1289520" cy="863280"/>
            </a:xfrm>
          </p:grpSpPr>
          <p:sp>
            <p:nvSpPr>
              <p:cNvPr id="4443" name=""/>
              <p:cNvSpPr/>
              <p:nvPr/>
            </p:nvSpPr>
            <p:spPr>
              <a:xfrm rot="15622800">
                <a:off x="5073840" y="3250800"/>
                <a:ext cx="617760" cy="1176120"/>
              </a:xfrm>
              <a:custGeom>
                <a:avLst/>
                <a:gdLst/>
                <a:ahLst/>
                <a:rect l="l" t="t" r="r" b="b"/>
                <a:pathLst>
                  <a:path w="564" h="808">
                    <a:moveTo>
                      <a:pt x="0" y="60"/>
                    </a:moveTo>
                    <a:lnTo>
                      <a:pt x="400" y="808"/>
                    </a:lnTo>
                    <a:lnTo>
                      <a:pt x="564" y="725"/>
                    </a:lnTo>
                    <a:lnTo>
                      <a:pt x="162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 rot="15622800">
                <a:off x="4794120" y="4023720"/>
                <a:ext cx="190080" cy="23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9" y="13846"/>
                    </a:moveTo>
                    <a:arcTo wR="10800" hR="10800" stAng="9816983" swAng="107075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9" y="13846"/>
                    </a:moveTo>
                    <a:arcTo wR="10800" hR="10800" stAng="9816983" swAng="10707533"/>
                  </a:path>
                </a:pathLst>
              </a:custGeom>
              <a:solidFill>
                <a:srgbClr val="5f3f1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 rot="15622800">
                <a:off x="4818960" y="4002120"/>
                <a:ext cx="192600" cy="26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9" y="12020"/>
                    </a:moveTo>
                    <a:arcTo wR="10800" hR="10800" stAng="10410941" swAng="100696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9" y="12020"/>
                    </a:moveTo>
                    <a:arcTo wR="10800" hR="10800" stAng="10410941" swAng="10069629"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 rot="15622800">
                <a:off x="4885200" y="4021920"/>
                <a:ext cx="117000" cy="300960"/>
              </a:xfrm>
              <a:custGeom>
                <a:avLst/>
                <a:gdLst/>
                <a:ahLst/>
                <a:rect l="l" t="t" r="r" b="b"/>
                <a:pathLst>
                  <a:path w="107" h="207">
                    <a:moveTo>
                      <a:pt x="3" y="96"/>
                    </a:moveTo>
                    <a:lnTo>
                      <a:pt x="0" y="82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6" y="42"/>
                    </a:lnTo>
                    <a:lnTo>
                      <a:pt x="12" y="29"/>
                    </a:lnTo>
                    <a:lnTo>
                      <a:pt x="21" y="17"/>
                    </a:lnTo>
                    <a:lnTo>
                      <a:pt x="31" y="7"/>
                    </a:lnTo>
                    <a:lnTo>
                      <a:pt x="41" y="0"/>
                    </a:lnTo>
                    <a:lnTo>
                      <a:pt x="107" y="112"/>
                    </a:lnTo>
                    <a:lnTo>
                      <a:pt x="95" y="119"/>
                    </a:lnTo>
                    <a:lnTo>
                      <a:pt x="87" y="127"/>
                    </a:lnTo>
                    <a:lnTo>
                      <a:pt x="79" y="135"/>
                    </a:lnTo>
                    <a:lnTo>
                      <a:pt x="73" y="145"/>
                    </a:lnTo>
                    <a:lnTo>
                      <a:pt x="66" y="163"/>
                    </a:lnTo>
                    <a:lnTo>
                      <a:pt x="62" y="187"/>
                    </a:lnTo>
                    <a:lnTo>
                      <a:pt x="62" y="207"/>
                    </a:lnTo>
                    <a:lnTo>
                      <a:pt x="3" y="96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 rot="15622800">
                <a:off x="4793040" y="4025160"/>
                <a:ext cx="189720" cy="23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03" y="13724"/>
                    </a:moveTo>
                    <a:arcTo wR="10800" hR="10800" stAng="9857570" swAng="51179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03" y="13724"/>
                    </a:moveTo>
                    <a:arcTo wR="10800" hR="10800" stAng="9857570" swAng="5117964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 rot="15622800">
                <a:off x="4944240" y="3929040"/>
                <a:ext cx="190800" cy="23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65" y="13584"/>
                    </a:moveTo>
                    <a:arcTo wR="10800" hR="10800" stAng="9903788" swAng="106964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65" y="13584"/>
                    </a:moveTo>
                    <a:arcTo wR="10800" hR="10800" stAng="9903788" swAng="10696462"/>
                  </a:path>
                </a:pathLst>
              </a:custGeom>
              <a:solidFill>
                <a:srgbClr val="7f3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49" name=""/>
              <p:cNvGrpSpPr/>
              <p:nvPr/>
            </p:nvGrpSpPr>
            <p:grpSpPr>
              <a:xfrm>
                <a:off x="4928040" y="3908520"/>
                <a:ext cx="289800" cy="243000"/>
                <a:chOff x="4928040" y="3908520"/>
                <a:chExt cx="289800" cy="243000"/>
              </a:xfrm>
            </p:grpSpPr>
            <p:grpSp>
              <p:nvGrpSpPr>
                <p:cNvPr id="4450" name=""/>
                <p:cNvGrpSpPr/>
                <p:nvPr/>
              </p:nvGrpSpPr>
              <p:grpSpPr>
                <a:xfrm>
                  <a:off x="4928040" y="3922560"/>
                  <a:ext cx="266400" cy="228960"/>
                  <a:chOff x="4928040" y="3922560"/>
                  <a:chExt cx="266400" cy="228960"/>
                </a:xfrm>
              </p:grpSpPr>
              <p:sp>
                <p:nvSpPr>
                  <p:cNvPr id="4451" name=""/>
                  <p:cNvSpPr/>
                  <p:nvPr/>
                </p:nvSpPr>
                <p:spPr>
                  <a:xfrm rot="15622800">
                    <a:off x="4965840" y="3918960"/>
                    <a:ext cx="19044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2" name=""/>
                  <p:cNvSpPr/>
                  <p:nvPr/>
                </p:nvSpPr>
                <p:spPr>
                  <a:xfrm rot="15622800">
                    <a:off x="4965120" y="3918240"/>
                    <a:ext cx="191880" cy="237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442384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4423841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3" name=""/>
                  <p:cNvSpPr/>
                  <p:nvPr/>
                </p:nvSpPr>
                <p:spPr>
                  <a:xfrm rot="15622800">
                    <a:off x="4965840" y="3917880"/>
                    <a:ext cx="19044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01" y="13334"/>
                        </a:moveTo>
                        <a:arcTo wR="10800" hR="10800" stAng="9985831" swAng="1070765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01" y="13334"/>
                        </a:moveTo>
                        <a:arcTo wR="10800" hR="10800" stAng="9985831" swAng="10707652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54" name=""/>
                <p:cNvSpPr/>
                <p:nvPr/>
              </p:nvSpPr>
              <p:spPr>
                <a:xfrm rot="15622800">
                  <a:off x="4989600" y="3903840"/>
                  <a:ext cx="190800" cy="236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55" name=""/>
              <p:cNvGrpSpPr/>
              <p:nvPr/>
            </p:nvGrpSpPr>
            <p:grpSpPr>
              <a:xfrm>
                <a:off x="4974120" y="3882600"/>
                <a:ext cx="290160" cy="242640"/>
                <a:chOff x="4974120" y="3882600"/>
                <a:chExt cx="290160" cy="242640"/>
              </a:xfrm>
            </p:grpSpPr>
            <p:grpSp>
              <p:nvGrpSpPr>
                <p:cNvPr id="4456" name=""/>
                <p:cNvGrpSpPr/>
                <p:nvPr/>
              </p:nvGrpSpPr>
              <p:grpSpPr>
                <a:xfrm>
                  <a:off x="4974120" y="3896280"/>
                  <a:ext cx="266040" cy="228960"/>
                  <a:chOff x="4974120" y="3896280"/>
                  <a:chExt cx="266040" cy="228960"/>
                </a:xfrm>
              </p:grpSpPr>
              <p:sp>
                <p:nvSpPr>
                  <p:cNvPr id="4457" name=""/>
                  <p:cNvSpPr/>
                  <p:nvPr/>
                </p:nvSpPr>
                <p:spPr>
                  <a:xfrm rot="15622800">
                    <a:off x="5011200" y="3892320"/>
                    <a:ext cx="19116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1069921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10699212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8" name=""/>
                  <p:cNvSpPr/>
                  <p:nvPr/>
                </p:nvSpPr>
                <p:spPr>
                  <a:xfrm rot="15622800">
                    <a:off x="5010840" y="3891960"/>
                    <a:ext cx="1918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43826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4382672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9" name=""/>
                  <p:cNvSpPr/>
                  <p:nvPr/>
                </p:nvSpPr>
                <p:spPr>
                  <a:xfrm rot="15622800">
                    <a:off x="5011560" y="3891960"/>
                    <a:ext cx="1900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60" name=""/>
                <p:cNvSpPr/>
                <p:nvPr/>
              </p:nvSpPr>
              <p:spPr>
                <a:xfrm rot="15622800">
                  <a:off x="5036040" y="3877560"/>
                  <a:ext cx="19044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6" y="13180"/>
                      </a:moveTo>
                      <a:arcTo wR="10800" hR="10800" stAng="10036009" swAng="1069879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6" y="13180"/>
                      </a:moveTo>
                      <a:arcTo wR="10800" hR="10800" stAng="10036009" swAng="10698799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1" name=""/>
              <p:cNvGrpSpPr/>
              <p:nvPr/>
            </p:nvGrpSpPr>
            <p:grpSpPr>
              <a:xfrm>
                <a:off x="5016600" y="3868200"/>
                <a:ext cx="266760" cy="229680"/>
                <a:chOff x="5016600" y="3868200"/>
                <a:chExt cx="266760" cy="229680"/>
              </a:xfrm>
            </p:grpSpPr>
            <p:sp>
              <p:nvSpPr>
                <p:cNvPr id="4462" name=""/>
                <p:cNvSpPr/>
                <p:nvPr/>
              </p:nvSpPr>
              <p:spPr>
                <a:xfrm rot="15622800">
                  <a:off x="5054400" y="3864960"/>
                  <a:ext cx="191160" cy="237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3" name=""/>
                <p:cNvSpPr/>
                <p:nvPr/>
              </p:nvSpPr>
              <p:spPr>
                <a:xfrm rot="15622800">
                  <a:off x="5053320" y="3863880"/>
                  <a:ext cx="192600" cy="237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43412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4341291"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4" name=""/>
              <p:cNvGrpSpPr/>
              <p:nvPr/>
            </p:nvGrpSpPr>
            <p:grpSpPr>
              <a:xfrm>
                <a:off x="5016600" y="3854520"/>
                <a:ext cx="290160" cy="242280"/>
                <a:chOff x="5016600" y="3854520"/>
                <a:chExt cx="290160" cy="242280"/>
              </a:xfrm>
            </p:grpSpPr>
            <p:sp>
              <p:nvSpPr>
                <p:cNvPr id="4465" name=""/>
                <p:cNvSpPr/>
                <p:nvPr/>
              </p:nvSpPr>
              <p:spPr>
                <a:xfrm rot="15622800">
                  <a:off x="5053680" y="3863880"/>
                  <a:ext cx="19152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6" name=""/>
                <p:cNvSpPr/>
                <p:nvPr/>
              </p:nvSpPr>
              <p:spPr>
                <a:xfrm rot="15622800">
                  <a:off x="5077800" y="3849840"/>
                  <a:ext cx="19116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7" name=""/>
              <p:cNvGrpSpPr/>
              <p:nvPr/>
            </p:nvGrpSpPr>
            <p:grpSpPr>
              <a:xfrm>
                <a:off x="4828680" y="3455280"/>
                <a:ext cx="1119960" cy="770760"/>
                <a:chOff x="4828680" y="3455280"/>
                <a:chExt cx="1119960" cy="770760"/>
              </a:xfrm>
            </p:grpSpPr>
            <p:sp>
              <p:nvSpPr>
                <p:cNvPr id="4468" name=""/>
                <p:cNvSpPr/>
                <p:nvPr/>
              </p:nvSpPr>
              <p:spPr>
                <a:xfrm flipV="1">
                  <a:off x="4828680" y="3455280"/>
                  <a:ext cx="961200" cy="60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9" name=""/>
                <p:cNvSpPr/>
                <p:nvPr/>
              </p:nvSpPr>
              <p:spPr>
                <a:xfrm flipV="1">
                  <a:off x="4941720" y="3608640"/>
                  <a:ext cx="1006920" cy="617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70" name=""/>
              <p:cNvGrpSpPr/>
              <p:nvPr/>
            </p:nvGrpSpPr>
            <p:grpSpPr>
              <a:xfrm>
                <a:off x="5059080" y="3829320"/>
                <a:ext cx="285480" cy="241200"/>
                <a:chOff x="5059080" y="3829320"/>
                <a:chExt cx="285480" cy="241200"/>
              </a:xfrm>
            </p:grpSpPr>
            <p:grpSp>
              <p:nvGrpSpPr>
                <p:cNvPr id="4471" name=""/>
                <p:cNvGrpSpPr/>
                <p:nvPr/>
              </p:nvGrpSpPr>
              <p:grpSpPr>
                <a:xfrm>
                  <a:off x="5059080" y="3841560"/>
                  <a:ext cx="266040" cy="228960"/>
                  <a:chOff x="5059080" y="3841560"/>
                  <a:chExt cx="266040" cy="228960"/>
                </a:xfrm>
              </p:grpSpPr>
              <p:sp>
                <p:nvSpPr>
                  <p:cNvPr id="4472" name=""/>
                  <p:cNvSpPr/>
                  <p:nvPr/>
                </p:nvSpPr>
                <p:spPr>
                  <a:xfrm rot="15622800">
                    <a:off x="5096880" y="3837960"/>
                    <a:ext cx="19080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107086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10708688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3" name=""/>
                  <p:cNvSpPr/>
                  <p:nvPr/>
                </p:nvSpPr>
                <p:spPr>
                  <a:xfrm rot="15622800">
                    <a:off x="5095800" y="3837240"/>
                    <a:ext cx="1918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429970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4299709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74" name=""/>
                <p:cNvSpPr/>
                <p:nvPr/>
              </p:nvSpPr>
              <p:spPr>
                <a:xfrm rot="15622800">
                  <a:off x="5096160" y="3836880"/>
                  <a:ext cx="19116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5" name=""/>
                <p:cNvSpPr/>
                <p:nvPr/>
              </p:nvSpPr>
              <p:spPr>
                <a:xfrm rot="15622800">
                  <a:off x="5116320" y="3824640"/>
                  <a:ext cx="190800" cy="236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76" name=""/>
              <p:cNvSpPr/>
              <p:nvPr/>
            </p:nvSpPr>
            <p:spPr>
              <a:xfrm rot="15622800">
                <a:off x="5323680" y="3365280"/>
                <a:ext cx="380880" cy="869040"/>
              </a:xfrm>
              <a:custGeom>
                <a:avLst/>
                <a:gdLst/>
                <a:ahLst/>
                <a:rect l="l" t="t" r="r" b="b"/>
                <a:pathLst>
                  <a:path w="348" h="597">
                    <a:moveTo>
                      <a:pt x="44" y="0"/>
                    </a:moveTo>
                    <a:lnTo>
                      <a:pt x="31" y="8"/>
                    </a:lnTo>
                    <a:lnTo>
                      <a:pt x="21" y="16"/>
                    </a:lnTo>
                    <a:lnTo>
                      <a:pt x="12" y="26"/>
                    </a:lnTo>
                    <a:lnTo>
                      <a:pt x="8" y="36"/>
                    </a:lnTo>
                    <a:lnTo>
                      <a:pt x="4" y="47"/>
                    </a:lnTo>
                    <a:lnTo>
                      <a:pt x="1" y="58"/>
                    </a:lnTo>
                    <a:lnTo>
                      <a:pt x="0" y="71"/>
                    </a:lnTo>
                    <a:lnTo>
                      <a:pt x="0" y="86"/>
                    </a:lnTo>
                    <a:lnTo>
                      <a:pt x="270" y="597"/>
                    </a:lnTo>
                    <a:lnTo>
                      <a:pt x="348" y="54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 rot="15622800">
                <a:off x="5787720" y="3386160"/>
                <a:ext cx="208080" cy="266400"/>
              </a:xfrm>
              <a:prstGeom prst="ellipse">
                <a:avLst/>
              </a:prstGeom>
              <a:solidFill>
                <a:srgbClr val="7f5f3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78" name=""/>
          <p:cNvSpPr/>
          <p:nvPr/>
        </p:nvSpPr>
        <p:spPr>
          <a:xfrm>
            <a:off x="898560" y="6035760"/>
            <a:ext cx="705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umas atividades de fases subseqüentes podem ocorrer em paral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0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4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4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4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4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4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23:18:54Z</dcterms:created>
  <dc:creator>Forcellini</dc:creator>
  <dc:description/>
  <dc:language>en-US</dc:language>
  <cp:lastModifiedBy>Fernando Forcellini</cp:lastModifiedBy>
  <dcterms:modified xsi:type="dcterms:W3CDTF">2005-11-30T11:10:10Z</dcterms:modified>
  <cp:revision>183</cp:revision>
  <dc:subject/>
  <dc:title>Slide 1</dc:title>
</cp:coreProperties>
</file>