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F88A-B595-4F67-A00A-5634D01AF8D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4AAA-5E0D-40E4-A924-B7FDAF08F6E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6B4E-71DA-48C8-A101-D13ACD79C14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FE42-6AFE-46EF-90BC-2227E2CF20B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icar cada um dos tipos de fontes, conforme quadro 4.1, página 1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FFD9-8DD4-412C-9D6F-52E5932AD55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icar que é preciso estabelecer um sistema de vigilância tecnológica, de preferência por meio de parcerias com instituições de pesquisa, universidades, usuários e clientes finais e os fornecedores e demais parceiros da cadeia de valor. O objetivo central é criar um ciclo de monitoramento, desenvolvimento e proteção das novas tecnolog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icar o quadro 4.6, página 13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5BF9-0503-4A11-A803-5E53E845098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icar com detalhes a ligação do pré-desenvolvimento com o planejamento estratégico. Veja o quadro 4.2 da página 58 e as páginas 115 e 116 do liv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D2E9-23D5-4867-BD9A-87A4AA834A0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icar com detalhes a ligação do pré-desenvolvimento com o planejamento estratégico. Veja o quadro 4.2 da página 58 e as páginas 115 e 116 do liv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488E-6264-403E-9625-A5631F45F1C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E28-8178-4C40-A260-97D0476E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2320" y="362376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F19D-6AFE-41F0-A970-C360D696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0576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273-7AD4-495A-88CD-BCD50A48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104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012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232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104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012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C3B-F80D-43C9-B30E-8D7AB6DF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521-C387-431D-9E3D-C4C703FD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C9B-DDC2-430D-8E0D-FEB56F4C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B40A-5FD1-41FB-8AEA-F1D0AF26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F5E8-2176-4C8B-9A48-CE35D90C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3882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8BA-DF8E-4028-84D7-714D52FE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198-7110-468B-9FD1-484B7A44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0576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39A-146B-4FD4-B280-FDC8F179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497-4E93-42EA-8DC5-995549B4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840E-0E0D-4F42-93EE-8CDF33222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5280" y="808200"/>
            <a:ext cx="7861320" cy="47520"/>
          </a:xfrm>
          <a:prstGeom prst="rect">
            <a:avLst/>
          </a:prstGeom>
          <a:gradFill rotWithShape="0">
            <a:gsLst>
              <a:gs pos="0">
                <a:srgbClr val="000096"/>
              </a:gs>
              <a:gs pos="100000">
                <a:srgbClr val="6363b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43840" y="0"/>
            <a:ext cx="11001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slideLayout" Target="../slideLayouts/slideLayout5.xml"/><Relationship Id="rId2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360" y="257040"/>
            <a:ext cx="4386240" cy="635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03960" y="263520"/>
            <a:ext cx="320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lanejamento Estratégico dos Produ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Capítulo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4040" y="4183200"/>
            <a:ext cx="329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Henrique Rozenf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Fernando Antônio Forcell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Daniel Capaldo Ama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José Carlos Tol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Sergio Luis da Si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Dário Henrique Alliprand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Régis Kovacs Sca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795920" y="2373480"/>
            <a:ext cx="4217760" cy="1542600"/>
            <a:chOff x="4795920" y="2373480"/>
            <a:chExt cx="4217760" cy="1542600"/>
          </a:xfrm>
        </p:grpSpPr>
        <p:sp>
          <p:nvSpPr>
            <p:cNvPr id="54" name=""/>
            <p:cNvSpPr/>
            <p:nvPr/>
          </p:nvSpPr>
          <p:spPr>
            <a:xfrm>
              <a:off x="5313960" y="3632400"/>
              <a:ext cx="3647160" cy="2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32160" y="3464640"/>
              <a:ext cx="2815560" cy="283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3080" y="3411000"/>
              <a:ext cx="512640" cy="8568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81800" y="3411000"/>
              <a:ext cx="514080" cy="8568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01960" y="3411000"/>
              <a:ext cx="514080" cy="8568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22120" y="3411000"/>
              <a:ext cx="514080" cy="8568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23640" y="2373480"/>
              <a:ext cx="4157280" cy="101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24080" y="2441160"/>
              <a:ext cx="1917720" cy="135360"/>
            </a:xfrm>
            <a:custGeom>
              <a:avLst/>
              <a:gdLst>
                <a:gd name="textAreaLeft" fmla="*/ 0 w 1917720"/>
                <a:gd name="textAreaRight" fmla="*/ 1918080 w 19177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921" y="0"/>
                  </a:lnTo>
                  <a:lnTo>
                    <a:pt x="21600" y="10800"/>
                  </a:lnTo>
                  <a:lnTo>
                    <a:pt x="20921" y="21600"/>
                  </a:lnTo>
                  <a:lnTo>
                    <a:pt x="0" y="21600"/>
                  </a:lnTo>
                  <a:lnTo>
                    <a:pt x="67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30640" y="2441160"/>
              <a:ext cx="1226520" cy="135360"/>
            </a:xfrm>
            <a:custGeom>
              <a:avLst/>
              <a:gdLst>
                <a:gd name="textAreaLeft" fmla="*/ 0 w 1226520"/>
                <a:gd name="textAreaRight" fmla="*/ 1226520 w 12265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42" y="0"/>
                  </a:lnTo>
                  <a:lnTo>
                    <a:pt x="21600" y="10800"/>
                  </a:lnTo>
                  <a:lnTo>
                    <a:pt x="20642" y="21600"/>
                  </a:lnTo>
                  <a:lnTo>
                    <a:pt x="0" y="21600"/>
                  </a:lnTo>
                  <a:lnTo>
                    <a:pt x="958" y="10800"/>
                  </a:lnTo>
                  <a:close/>
                </a:path>
              </a:pathLst>
            </a:custGeom>
            <a:solidFill>
              <a:srgbClr val="ff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271720" y="2457720"/>
              <a:ext cx="142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590680" y="2479680"/>
              <a:ext cx="12060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67560" y="2441160"/>
              <a:ext cx="981720" cy="135360"/>
            </a:xfrm>
            <a:custGeom>
              <a:avLst/>
              <a:gdLst>
                <a:gd name="textAreaLeft" fmla="*/ 0 w 981720"/>
                <a:gd name="textAreaRight" fmla="*/ 982080 w 9817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447" y="0"/>
                  </a:lnTo>
                  <a:lnTo>
                    <a:pt x="21600" y="10800"/>
                  </a:lnTo>
                  <a:lnTo>
                    <a:pt x="2044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86240" y="2457720"/>
              <a:ext cx="14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38120" y="2601720"/>
              <a:ext cx="581400" cy="378000"/>
            </a:xfrm>
            <a:custGeom>
              <a:avLst/>
              <a:gdLst>
                <a:gd name="textAreaLeft" fmla="*/ 0 w 581400"/>
                <a:gd name="textAreaRight" fmla="*/ 581760 w 58140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19520" y="2601720"/>
              <a:ext cx="588600" cy="378000"/>
            </a:xfrm>
            <a:custGeom>
              <a:avLst/>
              <a:gdLst>
                <a:gd name="textAreaLeft" fmla="*/ 0 w 588600"/>
                <a:gd name="textAreaRight" fmla="*/ 588960 w 58860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77360" y="2630880"/>
              <a:ext cx="587520" cy="37800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73160" y="2630880"/>
              <a:ext cx="587160" cy="37800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5880" y="2648880"/>
              <a:ext cx="620640" cy="378000"/>
            </a:xfrm>
            <a:custGeom>
              <a:avLst/>
              <a:gdLst>
                <a:gd name="textAreaLeft" fmla="*/ 0 w 620640"/>
                <a:gd name="textAreaRight" fmla="*/ 620640 w 62064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602" y="0"/>
                  </a:lnTo>
                  <a:lnTo>
                    <a:pt x="21600" y="10800"/>
                  </a:lnTo>
                  <a:lnTo>
                    <a:pt x="19602" y="21600"/>
                  </a:lnTo>
                  <a:lnTo>
                    <a:pt x="0" y="21600"/>
                  </a:lnTo>
                  <a:lnTo>
                    <a:pt x="1998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23800" y="2648880"/>
              <a:ext cx="647640" cy="37800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9" y="0"/>
                  </a:lnTo>
                  <a:lnTo>
                    <a:pt x="21600" y="10800"/>
                  </a:lnTo>
                  <a:lnTo>
                    <a:pt x="19739" y="21600"/>
                  </a:lnTo>
                  <a:lnTo>
                    <a:pt x="0" y="21600"/>
                  </a:lnTo>
                  <a:lnTo>
                    <a:pt x="1861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904360" y="2594160"/>
              <a:ext cx="330120" cy="1868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-360 h 186840"/>
                <a:gd name="textAreaBottom" fmla="*/ 186840 h 18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6237000" y="2594160"/>
              <a:ext cx="330120" cy="1868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-360 h 186840"/>
                <a:gd name="textAreaBottom" fmla="*/ 186840 h 18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571800" y="2594160"/>
              <a:ext cx="329760" cy="18684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-360 h 186840"/>
                <a:gd name="textAreaBottom" fmla="*/ 186840 h 18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904800" y="2594160"/>
              <a:ext cx="329760" cy="18684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-360 h 186840"/>
                <a:gd name="textAreaBottom" fmla="*/ 186840 h 18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238880" y="2594160"/>
              <a:ext cx="330120" cy="1868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-360 h 186840"/>
                <a:gd name="textAreaBottom" fmla="*/ 186840 h 18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974560" y="2664720"/>
              <a:ext cx="329760" cy="18540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-360 h 185400"/>
                <a:gd name="textAreaBottom" fmla="*/ 185400 h 18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6307560" y="2664720"/>
              <a:ext cx="329760" cy="18540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-360 h 185400"/>
                <a:gd name="textAreaBottom" fmla="*/ 185400 h 18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641640" y="2664720"/>
              <a:ext cx="330120" cy="1854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-360 h 185400"/>
                <a:gd name="textAreaBottom" fmla="*/ 185400 h 18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974640" y="2664720"/>
              <a:ext cx="330120" cy="1854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-360 h 185400"/>
                <a:gd name="textAreaBottom" fmla="*/ 185400 h 18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7309440" y="2664720"/>
              <a:ext cx="329760" cy="18540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-360 h 185400"/>
                <a:gd name="textAreaBottom" fmla="*/ 185400 h 18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044760" y="2734920"/>
              <a:ext cx="330120" cy="1850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360 h 185040"/>
                <a:gd name="textAreaBottom" fmla="*/ 185760 h 18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377760" y="2734920"/>
              <a:ext cx="330120" cy="1850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360 h 185040"/>
                <a:gd name="textAreaBottom" fmla="*/ 185760 h 18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712200" y="2734920"/>
              <a:ext cx="329760" cy="18504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360 h 185040"/>
                <a:gd name="textAreaBottom" fmla="*/ 185760 h 18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045200" y="2734920"/>
              <a:ext cx="329760" cy="18504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360 h 185040"/>
                <a:gd name="textAreaBottom" fmla="*/ 185760 h 18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7379280" y="2734920"/>
              <a:ext cx="330120" cy="1850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360 h 185040"/>
                <a:gd name="textAreaBottom" fmla="*/ 185760 h 18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12320" y="2614320"/>
              <a:ext cx="299160" cy="16740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2520" y="2683440"/>
              <a:ext cx="299160" cy="16740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52720" y="2752920"/>
              <a:ext cx="299160" cy="16740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99200" y="3178080"/>
              <a:ext cx="101412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91" idx="0"/>
            </p:cNvCxnSpPr>
            <p:nvPr/>
          </p:nvCxnSpPr>
          <p:spPr>
            <a:xfrm flipH="1" flipV="1">
              <a:off x="6247800" y="2934720"/>
              <a:ext cx="458640" cy="243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3" name=""/>
            <p:cNvCxnSpPr>
              <a:stCxn id="91" idx="0"/>
            </p:cNvCxnSpPr>
            <p:nvPr/>
          </p:nvCxnSpPr>
          <p:spPr>
            <a:xfrm flipH="1" flipV="1">
              <a:off x="6643080" y="2934720"/>
              <a:ext cx="63360" cy="243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stCxn id="91" idx="0"/>
            </p:cNvCxnSpPr>
            <p:nvPr/>
          </p:nvCxnSpPr>
          <p:spPr>
            <a:xfrm flipV="1">
              <a:off x="6706080" y="2934720"/>
              <a:ext cx="287280" cy="243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5" name=""/>
            <p:cNvCxnSpPr>
              <a:stCxn id="91" idx="0"/>
            </p:cNvCxnSpPr>
            <p:nvPr/>
          </p:nvCxnSpPr>
          <p:spPr>
            <a:xfrm flipV="1">
              <a:off x="6706080" y="2934720"/>
              <a:ext cx="645480" cy="243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6" name=""/>
            <p:cNvCxnSpPr>
              <a:stCxn id="91" idx="0"/>
            </p:cNvCxnSpPr>
            <p:nvPr/>
          </p:nvCxnSpPr>
          <p:spPr>
            <a:xfrm flipV="1">
              <a:off x="6706080" y="2934720"/>
              <a:ext cx="1017720" cy="243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7" name=""/>
            <p:cNvCxnSpPr>
              <a:stCxn id="91" idx="0"/>
            </p:cNvCxnSpPr>
            <p:nvPr/>
          </p:nvCxnSpPr>
          <p:spPr>
            <a:xfrm flipH="1" flipV="1">
              <a:off x="5811120" y="2928240"/>
              <a:ext cx="895320" cy="25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8" name=""/>
            <p:cNvSpPr/>
            <p:nvPr/>
          </p:nvSpPr>
          <p:spPr>
            <a:xfrm>
              <a:off x="4795920" y="2373480"/>
              <a:ext cx="4217760" cy="1523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74400" y="2610000"/>
              <a:ext cx="616680" cy="358560"/>
            </a:xfrm>
            <a:custGeom>
              <a:avLst/>
              <a:gdLst>
                <a:gd name="textAreaLeft" fmla="*/ 0 w 616680"/>
                <a:gd name="textAreaRight" fmla="*/ 617040 w 61668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8" y="0"/>
                  </a:lnTo>
                  <a:lnTo>
                    <a:pt x="21600" y="10800"/>
                  </a:lnTo>
                  <a:lnTo>
                    <a:pt x="19548" y="21600"/>
                  </a:lnTo>
                  <a:lnTo>
                    <a:pt x="0" y="21600"/>
                  </a:lnTo>
                  <a:lnTo>
                    <a:pt x="2052" y="10800"/>
                  </a:lnTo>
                  <a:close/>
                </a:path>
              </a:pathLst>
            </a:custGeom>
            <a:solidFill>
              <a:srgbClr val="ff33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Importância desta atividade: horizonte de planejamen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83680" y="3429000"/>
            <a:ext cx="85741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.Em geral, um plano estratégico é revisto periodicamente, anual ou semestralmente, e contém um horizonte de médio a longo prazos, entre 2 a 10 anos. Pode ser que de um ano para outro não haja mudanças significativas... Em outros casos há alterações profunda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1359000" y="1582560"/>
            <a:ext cx="6057720" cy="11912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objetivo desta atividade é planejar até que nível de detalhe será necessário na análise do 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calização das fases do pré-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escopo da revisão d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Planejar atividades para a revisão d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r informações sobre tecnologia 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o portfólio de produtos d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 mudanças no portfóli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r a viabilidade do portfóli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idir o início do planejamento de um dos produtos do portfó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2382840" y="1052640"/>
            <a:ext cx="6608880" cy="5729040"/>
          </a:xfrm>
          <a:custGeom>
            <a:avLst/>
            <a:gdLst/>
            <a:ahLst/>
            <a:rect l="l" t="t" r="r" b="b"/>
            <a:pathLst>
              <a:path w="4163" h="3609">
                <a:moveTo>
                  <a:pt x="7" y="1565"/>
                </a:moveTo>
                <a:lnTo>
                  <a:pt x="1080" y="0"/>
                </a:lnTo>
                <a:lnTo>
                  <a:pt x="4163" y="0"/>
                </a:lnTo>
                <a:lnTo>
                  <a:pt x="4163" y="3609"/>
                </a:lnTo>
                <a:lnTo>
                  <a:pt x="1222" y="3609"/>
                </a:lnTo>
                <a:lnTo>
                  <a:pt x="0" y="2103"/>
                </a:lnTo>
                <a:lnTo>
                  <a:pt x="7" y="156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357800" y="5689440"/>
            <a:ext cx="1731960" cy="96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dir início do planejamento de um produto do portfó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183280" y="1222200"/>
            <a:ext cx="2514600" cy="89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r escopo da revisão do Plano Estratégico de Negócios (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7236000" y="2441520"/>
            <a:ext cx="1589040" cy="81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jar atividades para a revisão do 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116240" y="2441520"/>
            <a:ext cx="158760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visar o Plano Estratégic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Negócios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116240" y="4498920"/>
            <a:ext cx="1592280" cy="89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alisar o Portfólio de Produto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 em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164360" y="5661000"/>
            <a:ext cx="168444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r a viabilidade do Portfólio de Prod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2" name=""/>
          <p:cNvCxnSpPr>
            <a:stCxn id="1209" idx="3"/>
            <a:endCxn id="1208" idx="1"/>
          </p:cNvCxnSpPr>
          <p:nvPr/>
        </p:nvCxnSpPr>
        <p:spPr>
          <a:xfrm>
            <a:off x="5703840" y="2850840"/>
            <a:ext cx="153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13" name=""/>
          <p:cNvCxnSpPr>
            <a:stCxn id="1209" idx="1"/>
            <a:endCxn id="1210" idx="1"/>
          </p:cNvCxnSpPr>
          <p:nvPr/>
        </p:nvCxnSpPr>
        <p:spPr>
          <a:xfrm flipH="1" flipV="1" rot="10800000">
            <a:off x="4115160" y="2849760"/>
            <a:ext cx="2520" cy="20973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4" name=""/>
          <p:cNvCxnSpPr>
            <a:stCxn id="1210" idx="3"/>
            <a:endCxn id="1215" idx="1"/>
          </p:cNvCxnSpPr>
          <p:nvPr/>
        </p:nvCxnSpPr>
        <p:spPr>
          <a:xfrm flipV="1">
            <a:off x="5708160" y="4946400"/>
            <a:ext cx="175320" cy="2160"/>
          </a:xfrm>
          <a:prstGeom prst="bentConnector3">
            <a:avLst>
              <a:gd name="adj1" fmla="val 48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6" name=""/>
          <p:cNvCxnSpPr>
            <a:stCxn id="1211" idx="1"/>
            <a:endCxn id="1206" idx="3"/>
          </p:cNvCxnSpPr>
          <p:nvPr/>
        </p:nvCxnSpPr>
        <p:spPr>
          <a:xfrm flipH="1">
            <a:off x="6089040" y="6168600"/>
            <a:ext cx="1075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7" name=""/>
          <p:cNvCxnSpPr>
            <a:stCxn id="1218" idx="1"/>
            <a:endCxn id="1209" idx="2"/>
          </p:cNvCxnSpPr>
          <p:nvPr/>
        </p:nvCxnSpPr>
        <p:spPr>
          <a:xfrm rot="10800000">
            <a:off x="4909320" y="3258360"/>
            <a:ext cx="2331360" cy="338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9" name=""/>
          <p:cNvCxnSpPr>
            <a:stCxn id="1220" idx="1"/>
            <a:endCxn id="1210" idx="0"/>
          </p:cNvCxnSpPr>
          <p:nvPr/>
        </p:nvCxnSpPr>
        <p:spPr>
          <a:xfrm flipV="1" rot="10800000">
            <a:off x="4912560" y="4132080"/>
            <a:ext cx="2328120" cy="36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1" name=""/>
          <p:cNvSpPr/>
          <p:nvPr/>
        </p:nvSpPr>
        <p:spPr>
          <a:xfrm>
            <a:off x="7645320" y="3986280"/>
            <a:ext cx="14472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8367840" y="3986280"/>
            <a:ext cx="144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3" name=""/>
          <p:cNvCxnSpPr>
            <a:stCxn id="1208" idx="2"/>
            <a:endCxn id="1224" idx="0"/>
          </p:cNvCxnSpPr>
          <p:nvPr/>
        </p:nvCxnSpPr>
        <p:spPr>
          <a:xfrm flipH="1">
            <a:off x="8028720" y="3259080"/>
            <a:ext cx="252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5" name=""/>
          <p:cNvSpPr/>
          <p:nvPr/>
        </p:nvSpPr>
        <p:spPr>
          <a:xfrm>
            <a:off x="179280" y="3429000"/>
            <a:ext cx="2362320" cy="1066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mento Estratégic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0" y="1052640"/>
            <a:ext cx="4114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jamento Estratégico de Negócios (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jamento da Corpo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jamento Estratégico da Unidade de Negó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52400" y="2902680"/>
            <a:ext cx="1371600" cy="38124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679320" y="4653000"/>
            <a:ext cx="1371600" cy="38088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0" y="4869000"/>
            <a:ext cx="3505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ofólio de Produtos (Aprov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ta de Projeto (Aprov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0" name=""/>
          <p:cNvCxnSpPr>
            <a:stCxn id="1207" idx="3"/>
            <a:endCxn id="1208" idx="0"/>
          </p:cNvCxnSpPr>
          <p:nvPr/>
        </p:nvCxnSpPr>
        <p:spPr>
          <a:xfrm>
            <a:off x="7697880" y="1669680"/>
            <a:ext cx="334080" cy="772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31" name=""/>
          <p:cNvGrpSpPr/>
          <p:nvPr/>
        </p:nvGrpSpPr>
        <p:grpSpPr>
          <a:xfrm>
            <a:off x="5883120" y="4498920"/>
            <a:ext cx="1590840" cy="895320"/>
            <a:chOff x="5883120" y="4498920"/>
            <a:chExt cx="1590840" cy="895320"/>
          </a:xfrm>
        </p:grpSpPr>
        <p:sp>
          <p:nvSpPr>
            <p:cNvPr id="1215" name=""/>
            <p:cNvSpPr/>
            <p:nvPr/>
          </p:nvSpPr>
          <p:spPr>
            <a:xfrm>
              <a:off x="5883120" y="4498920"/>
              <a:ext cx="1590840" cy="89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por mudanças no portfólio de produ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607080" y="4498920"/>
              <a:ext cx="144360" cy="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607080" y="4498920"/>
              <a:ext cx="144360" cy="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392960" y="4506840"/>
              <a:ext cx="75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392960" y="4876560"/>
              <a:ext cx="75960" cy="1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392960" y="5245920"/>
              <a:ext cx="75960" cy="1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7234200" y="3432240"/>
            <a:ext cx="1592280" cy="838080"/>
            <a:chOff x="7234200" y="3432240"/>
            <a:chExt cx="1592280" cy="838080"/>
          </a:xfrm>
        </p:grpSpPr>
        <p:grpSp>
          <p:nvGrpSpPr>
            <p:cNvPr id="1238" name=""/>
            <p:cNvGrpSpPr/>
            <p:nvPr/>
          </p:nvGrpSpPr>
          <p:grpSpPr>
            <a:xfrm>
              <a:off x="7234200" y="3432240"/>
              <a:ext cx="1592280" cy="837720"/>
              <a:chOff x="7234200" y="3432240"/>
              <a:chExt cx="1592280" cy="837720"/>
            </a:xfrm>
          </p:grpSpPr>
          <p:sp>
            <p:nvSpPr>
              <p:cNvPr id="1224" name=""/>
              <p:cNvSpPr/>
              <p:nvPr/>
            </p:nvSpPr>
            <p:spPr>
              <a:xfrm>
                <a:off x="7234200" y="3437640"/>
                <a:ext cx="1591200" cy="83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onsolidar Informaç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ões sobre tecnologia e 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241040" y="3457080"/>
                <a:ext cx="144360" cy="27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241040" y="3992760"/>
                <a:ext cx="144360" cy="27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672040" y="3432240"/>
                <a:ext cx="144360" cy="27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682120" y="3992760"/>
                <a:ext cx="144360" cy="27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7773840" y="4194000"/>
              <a:ext cx="571680" cy="76320"/>
              <a:chOff x="7773840" y="4194000"/>
              <a:chExt cx="571680" cy="76320"/>
            </a:xfrm>
          </p:grpSpPr>
          <p:sp>
            <p:nvSpPr>
              <p:cNvPr id="1242" name=""/>
              <p:cNvSpPr/>
              <p:nvPr/>
            </p:nvSpPr>
            <p:spPr>
              <a:xfrm rot="5400000">
                <a:off x="8231040" y="4155840"/>
                <a:ext cx="76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5400000">
                <a:off x="7811640" y="4155840"/>
                <a:ext cx="763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244" name=""/>
          <p:cNvCxnSpPr>
            <a:stCxn id="1243" idx="3"/>
            <a:endCxn id="1234" idx="3"/>
          </p:cNvCxnSpPr>
          <p:nvPr/>
        </p:nvCxnSpPr>
        <p:spPr>
          <a:xfrm rot="5400000">
            <a:off x="7506720" y="4232160"/>
            <a:ext cx="3056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5" name=""/>
          <p:cNvCxnSpPr>
            <a:stCxn id="1235" idx="3"/>
            <a:endCxn id="1242" idx="3"/>
          </p:cNvCxnSpPr>
          <p:nvPr/>
        </p:nvCxnSpPr>
        <p:spPr>
          <a:xfrm flipV="1">
            <a:off x="7469280" y="4269960"/>
            <a:ext cx="800640" cy="675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6" name=""/>
          <p:cNvCxnSpPr>
            <a:stCxn id="1236" idx="3"/>
            <a:endCxn id="1211" idx="0"/>
          </p:cNvCxnSpPr>
          <p:nvPr/>
        </p:nvCxnSpPr>
        <p:spPr>
          <a:xfrm>
            <a:off x="7468920" y="5313240"/>
            <a:ext cx="538920" cy="34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7" name=""/>
          <p:cNvSpPr/>
          <p:nvPr/>
        </p:nvSpPr>
        <p:spPr>
          <a:xfrm>
            <a:off x="7240680" y="3432240"/>
            <a:ext cx="1581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2407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Informações e dependências da fase de Planejamento Estratégico de Produt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76320" y="1670400"/>
            <a:ext cx="1814400" cy="91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jamento Estratégico de 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 rot="10800000">
            <a:off x="2174400" y="3701880"/>
            <a:ext cx="830520" cy="1843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rot="10800000">
            <a:off x="2174400" y="1981080"/>
            <a:ext cx="830520" cy="1843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52280" y="152280"/>
            <a:ext cx="4876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lnSpc>
                <a:spcPct val="6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Estratégico de Negócios (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Estratéfico da Corpo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Estratégico da Unidade de Negó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236760" y="914400"/>
            <a:ext cx="5518440" cy="3641760"/>
          </a:xfrm>
          <a:custGeom>
            <a:avLst/>
            <a:gdLst/>
            <a:ahLst/>
            <a:rect l="l" t="t" r="r" b="b"/>
            <a:pathLst>
              <a:path w="2785" h="2424">
                <a:moveTo>
                  <a:pt x="0" y="1010"/>
                </a:moveTo>
                <a:lnTo>
                  <a:pt x="718" y="0"/>
                </a:lnTo>
                <a:lnTo>
                  <a:pt x="2783" y="0"/>
                </a:lnTo>
                <a:lnTo>
                  <a:pt x="2785" y="2416"/>
                </a:lnTo>
                <a:lnTo>
                  <a:pt x="740" y="2424"/>
                </a:lnTo>
                <a:lnTo>
                  <a:pt x="10" y="1339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029200" y="1905120"/>
            <a:ext cx="3279600" cy="192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Atividades. Definir agendas de decisões e discussões. Planejar os recursos físicos necessários em cada reunião, preparar plano de comunicação e de r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1687680" y="2336760"/>
            <a:ext cx="1806480" cy="109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atividades para a revisão do 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09480" y="4038480"/>
            <a:ext cx="398484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de Revisão do P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Cronograma de A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genda de discussões e deci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sta de Recursos Necessá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de Comun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de Ris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4689360" y="4692600"/>
            <a:ext cx="4222440" cy="2150640"/>
            <a:chOff x="4689360" y="4692600"/>
            <a:chExt cx="4222440" cy="2150640"/>
          </a:xfrm>
        </p:grpSpPr>
        <p:sp>
          <p:nvSpPr>
            <p:cNvPr id="1258" name=""/>
            <p:cNvSpPr/>
            <p:nvPr/>
          </p:nvSpPr>
          <p:spPr>
            <a:xfrm>
              <a:off x="4689360" y="5150880"/>
              <a:ext cx="4222440" cy="169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92960" y="5586480"/>
              <a:ext cx="4215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écnicas de Gerenciamento de Proje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885560" y="4692600"/>
              <a:ext cx="3723120" cy="54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étodos, ferramentas, documentos 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396720" y="5867280"/>
            <a:ext cx="42246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85800" y="5715000"/>
            <a:ext cx="3724200" cy="274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ção com outras 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9480" y="6324480"/>
            <a:ext cx="3603600" cy="21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atividades de revisão do 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990720" y="1143000"/>
            <a:ext cx="3200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claração de Escopo da Revisão do 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105520" y="6019920"/>
            <a:ext cx="3498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hecimentos básicos de preparação de reuni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997520" y="0"/>
            <a:ext cx="4146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Resumo: Planejar atividades para a revisão do PEN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or que planejar a revisão do Plano Estratégico de Negócios ?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25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 atividades de planejamento estratégico deve-se envolver os melhores profissionais e alta gerência. O investimento em tempo destes profissionais é grande, além da natural dificuldade de agenda. Portanto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303200" y="3986280"/>
            <a:ext cx="6058080" cy="155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e a pena realizar um planejamento detalhado destas atividades, com agenda de reuniões, temas e metas a serem ating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calização das fases do pré-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escopo da revisão d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atividades para a revisão d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onsolidar informações sobre tecnologia 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o portfólio de produtos d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 mudanças no portfóli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r a viabilidade do portfóli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idir o início do planejamento de um dos produtos do portfó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2382840" y="1052640"/>
            <a:ext cx="6608880" cy="5729040"/>
          </a:xfrm>
          <a:custGeom>
            <a:avLst/>
            <a:gdLst/>
            <a:ahLst/>
            <a:rect l="l" t="t" r="r" b="b"/>
            <a:pathLst>
              <a:path w="4163" h="3609">
                <a:moveTo>
                  <a:pt x="7" y="1565"/>
                </a:moveTo>
                <a:lnTo>
                  <a:pt x="1080" y="0"/>
                </a:lnTo>
                <a:lnTo>
                  <a:pt x="4163" y="0"/>
                </a:lnTo>
                <a:lnTo>
                  <a:pt x="4163" y="3609"/>
                </a:lnTo>
                <a:lnTo>
                  <a:pt x="1222" y="3609"/>
                </a:lnTo>
                <a:lnTo>
                  <a:pt x="0" y="2103"/>
                </a:lnTo>
                <a:lnTo>
                  <a:pt x="7" y="156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357800" y="5689440"/>
            <a:ext cx="1731960" cy="96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dir início do planejamento de um produto do portfó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183280" y="1222200"/>
            <a:ext cx="2514600" cy="89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r escopo da revisão do Plano Estratégico de Negócios (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236000" y="2441520"/>
            <a:ext cx="15890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jar atividades para a revisão do 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116240" y="2441520"/>
            <a:ext cx="158760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visar o Plano Estratégic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Negócios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116240" y="4498920"/>
            <a:ext cx="1592280" cy="89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alisar o Portfólio de Produto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 em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164360" y="5661000"/>
            <a:ext cx="168444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r a viabilidade do Portfólio de Prod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"/>
          <p:cNvCxnSpPr>
            <a:stCxn id="1276" idx="3"/>
            <a:endCxn id="1275" idx="1"/>
          </p:cNvCxnSpPr>
          <p:nvPr/>
        </p:nvCxnSpPr>
        <p:spPr>
          <a:xfrm>
            <a:off x="5703840" y="2850840"/>
            <a:ext cx="153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80" name=""/>
          <p:cNvCxnSpPr>
            <a:stCxn id="1276" idx="1"/>
            <a:endCxn id="1277" idx="1"/>
          </p:cNvCxnSpPr>
          <p:nvPr/>
        </p:nvCxnSpPr>
        <p:spPr>
          <a:xfrm flipH="1" flipV="1" rot="10800000">
            <a:off x="4115160" y="2849760"/>
            <a:ext cx="2520" cy="20973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1" name=""/>
          <p:cNvCxnSpPr>
            <a:stCxn id="1277" idx="3"/>
            <a:endCxn id="1282" idx="1"/>
          </p:cNvCxnSpPr>
          <p:nvPr/>
        </p:nvCxnSpPr>
        <p:spPr>
          <a:xfrm flipV="1">
            <a:off x="5708160" y="4946400"/>
            <a:ext cx="175320" cy="2160"/>
          </a:xfrm>
          <a:prstGeom prst="bentConnector3">
            <a:avLst>
              <a:gd name="adj1" fmla="val 48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3" name=""/>
          <p:cNvCxnSpPr>
            <a:stCxn id="1278" idx="1"/>
            <a:endCxn id="1273" idx="3"/>
          </p:cNvCxnSpPr>
          <p:nvPr/>
        </p:nvCxnSpPr>
        <p:spPr>
          <a:xfrm flipH="1">
            <a:off x="6089040" y="6168600"/>
            <a:ext cx="1075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4" name=""/>
          <p:cNvCxnSpPr>
            <a:stCxn id="1285" idx="1"/>
            <a:endCxn id="1276" idx="2"/>
          </p:cNvCxnSpPr>
          <p:nvPr/>
        </p:nvCxnSpPr>
        <p:spPr>
          <a:xfrm rot="10800000">
            <a:off x="4909320" y="3258360"/>
            <a:ext cx="2331360" cy="338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6" name=""/>
          <p:cNvCxnSpPr>
            <a:stCxn id="1287" idx="1"/>
            <a:endCxn id="1277" idx="0"/>
          </p:cNvCxnSpPr>
          <p:nvPr/>
        </p:nvCxnSpPr>
        <p:spPr>
          <a:xfrm flipV="1" rot="10800000">
            <a:off x="4912560" y="4132080"/>
            <a:ext cx="2328120" cy="36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8" name=""/>
          <p:cNvSpPr/>
          <p:nvPr/>
        </p:nvSpPr>
        <p:spPr>
          <a:xfrm>
            <a:off x="7645320" y="3986280"/>
            <a:ext cx="14472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8367840" y="3986280"/>
            <a:ext cx="144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0" name=""/>
          <p:cNvCxnSpPr>
            <a:stCxn id="1275" idx="2"/>
            <a:endCxn id="1291" idx="0"/>
          </p:cNvCxnSpPr>
          <p:nvPr/>
        </p:nvCxnSpPr>
        <p:spPr>
          <a:xfrm flipH="1">
            <a:off x="8028720" y="3259080"/>
            <a:ext cx="252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2" name=""/>
          <p:cNvSpPr/>
          <p:nvPr/>
        </p:nvSpPr>
        <p:spPr>
          <a:xfrm>
            <a:off x="179280" y="3429000"/>
            <a:ext cx="2362320" cy="1066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mento Estratégic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0" y="1052640"/>
            <a:ext cx="4114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jamento Estratégico de Negócios (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jamento da Corpo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jamento Estratégico da Unidade de Negó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752400" y="2902680"/>
            <a:ext cx="1371600" cy="38124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679320" y="4653000"/>
            <a:ext cx="1371600" cy="38088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0" y="4869000"/>
            <a:ext cx="3505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ofólio de Produtos (Aprov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ta de Projeto (Aprov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7" name=""/>
          <p:cNvCxnSpPr>
            <a:stCxn id="1274" idx="3"/>
            <a:endCxn id="1275" idx="0"/>
          </p:cNvCxnSpPr>
          <p:nvPr/>
        </p:nvCxnSpPr>
        <p:spPr>
          <a:xfrm>
            <a:off x="7697880" y="1669680"/>
            <a:ext cx="334080" cy="772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98" name=""/>
          <p:cNvGrpSpPr/>
          <p:nvPr/>
        </p:nvGrpSpPr>
        <p:grpSpPr>
          <a:xfrm>
            <a:off x="5883120" y="4498920"/>
            <a:ext cx="1590840" cy="895320"/>
            <a:chOff x="5883120" y="4498920"/>
            <a:chExt cx="1590840" cy="895320"/>
          </a:xfrm>
        </p:grpSpPr>
        <p:sp>
          <p:nvSpPr>
            <p:cNvPr id="1282" name=""/>
            <p:cNvSpPr/>
            <p:nvPr/>
          </p:nvSpPr>
          <p:spPr>
            <a:xfrm>
              <a:off x="5883120" y="4498920"/>
              <a:ext cx="1590840" cy="89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por mudanças no portfólio de produ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607080" y="4498920"/>
              <a:ext cx="144360" cy="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607080" y="4498920"/>
              <a:ext cx="144360" cy="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392960" y="4506840"/>
              <a:ext cx="75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392960" y="4876560"/>
              <a:ext cx="75960" cy="1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392960" y="5245920"/>
              <a:ext cx="75960" cy="1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7234200" y="3432240"/>
            <a:ext cx="1592280" cy="838080"/>
            <a:chOff x="7234200" y="3432240"/>
            <a:chExt cx="1592280" cy="838080"/>
          </a:xfrm>
        </p:grpSpPr>
        <p:grpSp>
          <p:nvGrpSpPr>
            <p:cNvPr id="1305" name=""/>
            <p:cNvGrpSpPr/>
            <p:nvPr/>
          </p:nvGrpSpPr>
          <p:grpSpPr>
            <a:xfrm>
              <a:off x="7234200" y="3432240"/>
              <a:ext cx="1592280" cy="837720"/>
              <a:chOff x="7234200" y="3432240"/>
              <a:chExt cx="1592280" cy="837720"/>
            </a:xfrm>
          </p:grpSpPr>
          <p:sp>
            <p:nvSpPr>
              <p:cNvPr id="1291" name=""/>
              <p:cNvSpPr/>
              <p:nvPr/>
            </p:nvSpPr>
            <p:spPr>
              <a:xfrm>
                <a:off x="7234200" y="3437640"/>
                <a:ext cx="1591200" cy="83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onsolidar Informaç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ões sobre tecnologia e 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241040" y="3457080"/>
                <a:ext cx="144360" cy="27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241040" y="3992760"/>
                <a:ext cx="144360" cy="27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8672040" y="3432240"/>
                <a:ext cx="144360" cy="27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8682120" y="3992760"/>
                <a:ext cx="144360" cy="27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7773840" y="4194000"/>
              <a:ext cx="571680" cy="76320"/>
              <a:chOff x="7773840" y="4194000"/>
              <a:chExt cx="571680" cy="76320"/>
            </a:xfrm>
          </p:grpSpPr>
          <p:sp>
            <p:nvSpPr>
              <p:cNvPr id="1309" name=""/>
              <p:cNvSpPr/>
              <p:nvPr/>
            </p:nvSpPr>
            <p:spPr>
              <a:xfrm rot="5400000">
                <a:off x="8231040" y="4155840"/>
                <a:ext cx="76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rot="5400000">
                <a:off x="7811640" y="4155840"/>
                <a:ext cx="763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311" name=""/>
          <p:cNvCxnSpPr>
            <a:stCxn id="1310" idx="3"/>
            <a:endCxn id="1301" idx="3"/>
          </p:cNvCxnSpPr>
          <p:nvPr/>
        </p:nvCxnSpPr>
        <p:spPr>
          <a:xfrm rot="5400000">
            <a:off x="7506720" y="4232160"/>
            <a:ext cx="3056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2" name=""/>
          <p:cNvCxnSpPr>
            <a:stCxn id="1302" idx="3"/>
            <a:endCxn id="1309" idx="3"/>
          </p:cNvCxnSpPr>
          <p:nvPr/>
        </p:nvCxnSpPr>
        <p:spPr>
          <a:xfrm flipV="1">
            <a:off x="7469280" y="4269960"/>
            <a:ext cx="800640" cy="675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3" name=""/>
          <p:cNvCxnSpPr>
            <a:stCxn id="1303" idx="3"/>
            <a:endCxn id="1278" idx="0"/>
          </p:cNvCxnSpPr>
          <p:nvPr/>
        </p:nvCxnSpPr>
        <p:spPr>
          <a:xfrm>
            <a:off x="7468920" y="5313240"/>
            <a:ext cx="538920" cy="34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4" name=""/>
          <p:cNvSpPr/>
          <p:nvPr/>
        </p:nvSpPr>
        <p:spPr>
          <a:xfrm>
            <a:off x="7240680" y="3432240"/>
            <a:ext cx="1581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2407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Informações e dependências da fase de Planejamento Estratégico de Produt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7243920" y="3432240"/>
            <a:ext cx="1592280" cy="838080"/>
            <a:chOff x="7243920" y="3432240"/>
            <a:chExt cx="1592280" cy="838080"/>
          </a:xfrm>
        </p:grpSpPr>
        <p:grpSp>
          <p:nvGrpSpPr>
            <p:cNvPr id="1317" name=""/>
            <p:cNvGrpSpPr/>
            <p:nvPr/>
          </p:nvGrpSpPr>
          <p:grpSpPr>
            <a:xfrm>
              <a:off x="7243920" y="3432240"/>
              <a:ext cx="1592280" cy="837720"/>
              <a:chOff x="7243920" y="3432240"/>
              <a:chExt cx="1592280" cy="837720"/>
            </a:xfrm>
          </p:grpSpPr>
          <p:sp>
            <p:nvSpPr>
              <p:cNvPr id="1318" name=""/>
              <p:cNvSpPr/>
              <p:nvPr/>
            </p:nvSpPr>
            <p:spPr>
              <a:xfrm>
                <a:off x="7243920" y="3437640"/>
                <a:ext cx="1591200" cy="83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onsolidar Informaç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ões sobre tecnologia e 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250760" y="3457080"/>
                <a:ext cx="144360" cy="27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250760" y="3992760"/>
                <a:ext cx="144360" cy="27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681760" y="3432240"/>
                <a:ext cx="144360" cy="27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8691840" y="3992760"/>
                <a:ext cx="144360" cy="27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7783560" y="4194000"/>
              <a:ext cx="571680" cy="76320"/>
              <a:chOff x="7783560" y="4194000"/>
              <a:chExt cx="571680" cy="76320"/>
            </a:xfrm>
          </p:grpSpPr>
          <p:sp>
            <p:nvSpPr>
              <p:cNvPr id="1324" name=""/>
              <p:cNvSpPr/>
              <p:nvPr/>
            </p:nvSpPr>
            <p:spPr>
              <a:xfrm rot="5400000">
                <a:off x="8240760" y="4155840"/>
                <a:ext cx="76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rot="5400000">
                <a:off x="7821360" y="4155840"/>
                <a:ext cx="763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6" name=""/>
          <p:cNvSpPr/>
          <p:nvPr/>
        </p:nvSpPr>
        <p:spPr>
          <a:xfrm>
            <a:off x="7232760" y="3454560"/>
            <a:ext cx="144360" cy="27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232760" y="3989520"/>
            <a:ext cx="144360" cy="27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8664480" y="3429000"/>
            <a:ext cx="14472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8674200" y="3989520"/>
            <a:ext cx="144360" cy="27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7765920" y="4191120"/>
            <a:ext cx="571680" cy="75960"/>
            <a:chOff x="7765920" y="4191120"/>
            <a:chExt cx="571680" cy="75960"/>
          </a:xfrm>
        </p:grpSpPr>
        <p:sp>
          <p:nvSpPr>
            <p:cNvPr id="1331" name=""/>
            <p:cNvSpPr/>
            <p:nvPr/>
          </p:nvSpPr>
          <p:spPr>
            <a:xfrm rot="5400000">
              <a:off x="8223120" y="415260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rot="5400000">
              <a:off x="7804080" y="415296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7226280" y="3435480"/>
            <a:ext cx="1590840" cy="83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nsolidar Informa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ões sobre tecnologia e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76320" y="1670400"/>
            <a:ext cx="1814400" cy="91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jamento Estratégico de 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 rot="10800000">
            <a:off x="2174400" y="3870000"/>
            <a:ext cx="830520" cy="1839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rot="10800000">
            <a:off x="2174400" y="1981080"/>
            <a:ext cx="830520" cy="1843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152280" y="152280"/>
            <a:ext cx="4876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lnSpc>
                <a:spcPct val="6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Estratégico de Negócios (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Estratéfico da Corpo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Estratégico da Unidade de Negó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236760" y="914400"/>
            <a:ext cx="5518440" cy="3641760"/>
          </a:xfrm>
          <a:custGeom>
            <a:avLst/>
            <a:gdLst/>
            <a:ahLst/>
            <a:rect l="l" t="t" r="r" b="b"/>
            <a:pathLst>
              <a:path w="2785" h="2424">
                <a:moveTo>
                  <a:pt x="0" y="1010"/>
                </a:moveTo>
                <a:lnTo>
                  <a:pt x="718" y="0"/>
                </a:lnTo>
                <a:lnTo>
                  <a:pt x="2783" y="0"/>
                </a:lnTo>
                <a:lnTo>
                  <a:pt x="2785" y="2416"/>
                </a:lnTo>
                <a:lnTo>
                  <a:pt x="740" y="2424"/>
                </a:lnTo>
                <a:lnTo>
                  <a:pt x="10" y="1339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952880" y="1600200"/>
            <a:ext cx="3279960" cy="252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r informações de fontes de dados secundá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necessidade de dados prim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coleta de dados prim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r inform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1687680" y="2336760"/>
            <a:ext cx="1806480" cy="137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r informações sobre  tecnologia 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9480" y="4175280"/>
            <a:ext cx="398484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de fontes secundárias de tecnologia 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de fontes primárias tencologia 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4689360" y="4692600"/>
            <a:ext cx="4222440" cy="2150640"/>
            <a:chOff x="4689360" y="4692600"/>
            <a:chExt cx="4222440" cy="2150640"/>
          </a:xfrm>
        </p:grpSpPr>
        <p:sp>
          <p:nvSpPr>
            <p:cNvPr id="1343" name=""/>
            <p:cNvSpPr/>
            <p:nvPr/>
          </p:nvSpPr>
          <p:spPr>
            <a:xfrm>
              <a:off x="4689360" y="5150880"/>
              <a:ext cx="4222440" cy="169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518080" y="5586480"/>
              <a:ext cx="25650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quisa de Mer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ligência Compet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885560" y="4692600"/>
              <a:ext cx="3723120" cy="54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étodos, ferramentas, documentos 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"/>
          <p:cNvSpPr/>
          <p:nvPr/>
        </p:nvSpPr>
        <p:spPr>
          <a:xfrm>
            <a:off x="396720" y="5867280"/>
            <a:ext cx="42246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5715000"/>
            <a:ext cx="3724200" cy="274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ção com outras 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627120" y="6103800"/>
            <a:ext cx="3603600" cy="21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atividades de revisão do 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52280" y="1027080"/>
            <a:ext cx="48769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claração de Escopo da Revisão do 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de Revisão do 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6600" y="0"/>
            <a:ext cx="411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Resumo: Consolidar informações sobre o produto e o mercado</a:t>
            </a:r>
            <a:endParaRPr b="0" lang="en-US" sz="20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80880" y="125280"/>
            <a:ext cx="73152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Elementos da Estratégia de Produto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609480" y="2360520"/>
            <a:ext cx="685800" cy="2667240"/>
            <a:chOff x="609480" y="2360520"/>
            <a:chExt cx="685800" cy="2667240"/>
          </a:xfrm>
        </p:grpSpPr>
        <p:sp>
          <p:nvSpPr>
            <p:cNvPr id="1353" name=""/>
            <p:cNvSpPr/>
            <p:nvPr/>
          </p:nvSpPr>
          <p:spPr>
            <a:xfrm>
              <a:off x="838080" y="23605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38080" y="29527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066680" y="3579840"/>
              <a:ext cx="228600" cy="228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66680" y="4189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9480" y="3732120"/>
              <a:ext cx="228600" cy="228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38080" y="4799160"/>
              <a:ext cx="228600" cy="2286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1523880" y="2970360"/>
            <a:ext cx="762120" cy="1828800"/>
            <a:chOff x="1523880" y="2970360"/>
            <a:chExt cx="762120" cy="1828800"/>
          </a:xfrm>
        </p:grpSpPr>
        <p:sp>
          <p:nvSpPr>
            <p:cNvPr id="1360" name=""/>
            <p:cNvSpPr/>
            <p:nvPr/>
          </p:nvSpPr>
          <p:spPr>
            <a:xfrm>
              <a:off x="1523880" y="2970360"/>
              <a:ext cx="228600" cy="22860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057400" y="3198960"/>
              <a:ext cx="228600" cy="2286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523880" y="3427560"/>
              <a:ext cx="228600" cy="228600"/>
            </a:xfrm>
            <a:prstGeom prst="ellipse">
              <a:avLst/>
            </a:prstGeom>
            <a:solidFill>
              <a:srgbClr val="e0f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057400" y="3808440"/>
              <a:ext cx="228600" cy="22860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23880" y="3960720"/>
              <a:ext cx="228600" cy="2286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523880" y="4570560"/>
              <a:ext cx="228600" cy="228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057400" y="4341960"/>
              <a:ext cx="228600" cy="228600"/>
            </a:xfrm>
            <a:prstGeom prst="ellipse">
              <a:avLst/>
            </a:prstGeom>
            <a:solidFill>
              <a:srgbClr val="ffb1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2575080" y="3351240"/>
            <a:ext cx="1082520" cy="990720"/>
            <a:chOff x="2575080" y="3351240"/>
            <a:chExt cx="1082520" cy="990720"/>
          </a:xfrm>
        </p:grpSpPr>
        <p:sp>
          <p:nvSpPr>
            <p:cNvPr id="1368" name=""/>
            <p:cNvSpPr/>
            <p:nvPr/>
          </p:nvSpPr>
          <p:spPr>
            <a:xfrm>
              <a:off x="3076560" y="3351240"/>
              <a:ext cx="228600" cy="228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575080" y="3579840"/>
              <a:ext cx="228600" cy="228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429000" y="39607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44920" y="4113360"/>
              <a:ext cx="228600" cy="228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429000" y="3960720"/>
              <a:ext cx="228600" cy="2286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5105520" y="3579840"/>
            <a:ext cx="1371600" cy="506520"/>
            <a:chOff x="5105520" y="3579840"/>
            <a:chExt cx="1371600" cy="506520"/>
          </a:xfrm>
        </p:grpSpPr>
        <p:sp>
          <p:nvSpPr>
            <p:cNvPr id="1374" name=""/>
            <p:cNvSpPr/>
            <p:nvPr/>
          </p:nvSpPr>
          <p:spPr>
            <a:xfrm>
              <a:off x="5105520" y="3579840"/>
              <a:ext cx="228600" cy="228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248520" y="3579840"/>
              <a:ext cx="228600" cy="2286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961240" y="3857760"/>
              <a:ext cx="228600" cy="22860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62720" y="3579840"/>
              <a:ext cx="228600" cy="2286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8" name=""/>
          <p:cNvGrpSpPr/>
          <p:nvPr/>
        </p:nvGrpSpPr>
        <p:grpSpPr>
          <a:xfrm>
            <a:off x="3886200" y="3427560"/>
            <a:ext cx="990720" cy="609480"/>
            <a:chOff x="3886200" y="3427560"/>
            <a:chExt cx="990720" cy="609480"/>
          </a:xfrm>
        </p:grpSpPr>
        <p:sp>
          <p:nvSpPr>
            <p:cNvPr id="1379" name=""/>
            <p:cNvSpPr/>
            <p:nvPr/>
          </p:nvSpPr>
          <p:spPr>
            <a:xfrm>
              <a:off x="4267080" y="3579840"/>
              <a:ext cx="228600" cy="22860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48320" y="3808440"/>
              <a:ext cx="228600" cy="228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886200" y="3427560"/>
              <a:ext cx="228600" cy="2286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990720" y="1674720"/>
            <a:ext cx="8008560" cy="4038840"/>
            <a:chOff x="990720" y="1674720"/>
            <a:chExt cx="8008560" cy="4038840"/>
          </a:xfrm>
        </p:grpSpPr>
        <p:sp>
          <p:nvSpPr>
            <p:cNvPr id="1383" name=""/>
            <p:cNvSpPr/>
            <p:nvPr/>
          </p:nvSpPr>
          <p:spPr>
            <a:xfrm>
              <a:off x="990720" y="1674720"/>
              <a:ext cx="5867280" cy="1524240"/>
            </a:xfrm>
            <a:custGeom>
              <a:avLst/>
              <a:gdLst/>
              <a:ahLst/>
              <a:rect l="l" t="t" r="r" b="b"/>
              <a:pathLst>
                <a:path w="4560" h="1056">
                  <a:moveTo>
                    <a:pt x="0" y="0"/>
                  </a:moveTo>
                  <a:cubicBezTo>
                    <a:pt x="72" y="184"/>
                    <a:pt x="144" y="368"/>
                    <a:pt x="480" y="528"/>
                  </a:cubicBezTo>
                  <a:cubicBezTo>
                    <a:pt x="816" y="688"/>
                    <a:pt x="1336" y="872"/>
                    <a:pt x="2016" y="960"/>
                  </a:cubicBezTo>
                  <a:cubicBezTo>
                    <a:pt x="2696" y="1048"/>
                    <a:pt x="4120" y="1040"/>
                    <a:pt x="4560" y="1056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990720" y="4341600"/>
              <a:ext cx="5867280" cy="1371600"/>
            </a:xfrm>
            <a:custGeom>
              <a:avLst/>
              <a:gdLst/>
              <a:ahLst/>
              <a:rect l="l" t="t" r="r" b="b"/>
              <a:pathLst>
                <a:path w="4560" h="1056">
                  <a:moveTo>
                    <a:pt x="0" y="0"/>
                  </a:moveTo>
                  <a:cubicBezTo>
                    <a:pt x="72" y="184"/>
                    <a:pt x="144" y="368"/>
                    <a:pt x="480" y="528"/>
                  </a:cubicBezTo>
                  <a:cubicBezTo>
                    <a:pt x="816" y="688"/>
                    <a:pt x="1336" y="872"/>
                    <a:pt x="2016" y="960"/>
                  </a:cubicBezTo>
                  <a:cubicBezTo>
                    <a:pt x="2696" y="1048"/>
                    <a:pt x="4120" y="1040"/>
                    <a:pt x="4560" y="1056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5" name=""/>
            <p:cNvGrpSpPr/>
            <p:nvPr/>
          </p:nvGrpSpPr>
          <p:grpSpPr>
            <a:xfrm>
              <a:off x="6891480" y="3164040"/>
              <a:ext cx="2107800" cy="1636560"/>
              <a:chOff x="6891480" y="3164040"/>
              <a:chExt cx="2107800" cy="1636560"/>
            </a:xfrm>
          </p:grpSpPr>
          <p:grpSp>
            <p:nvGrpSpPr>
              <p:cNvPr id="1386" name=""/>
              <p:cNvGrpSpPr/>
              <p:nvPr/>
            </p:nvGrpSpPr>
            <p:grpSpPr>
              <a:xfrm>
                <a:off x="6891480" y="3164040"/>
                <a:ext cx="2107800" cy="1177560"/>
                <a:chOff x="6891480" y="3164040"/>
                <a:chExt cx="2107800" cy="117756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6969960" y="3429000"/>
                  <a:ext cx="72720" cy="109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114ff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6962760" y="3643200"/>
                  <a:ext cx="74160" cy="109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6962760" y="3897360"/>
                  <a:ext cx="74160" cy="109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505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6955920" y="4119480"/>
                  <a:ext cx="75600" cy="109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cc00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1" name=""/>
                <p:cNvGrpSpPr/>
                <p:nvPr/>
              </p:nvGrpSpPr>
              <p:grpSpPr>
                <a:xfrm>
                  <a:off x="6891480" y="3164040"/>
                  <a:ext cx="2107800" cy="1177560"/>
                  <a:chOff x="6891480" y="3164040"/>
                  <a:chExt cx="2107800" cy="1177560"/>
                </a:xfrm>
              </p:grpSpPr>
              <p:sp>
                <p:nvSpPr>
                  <p:cNvPr id="1392" name=""/>
                  <p:cNvSpPr/>
                  <p:nvPr/>
                </p:nvSpPr>
                <p:spPr>
                  <a:xfrm>
                    <a:off x="7462080" y="3181320"/>
                    <a:ext cx="12384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284">
                        <a:moveTo>
                          <a:pt x="0" y="0"/>
                        </a:moveTo>
                        <a:lnTo>
                          <a:pt x="80" y="67"/>
                        </a:lnTo>
                        <a:lnTo>
                          <a:pt x="155" y="143"/>
                        </a:lnTo>
                        <a:lnTo>
                          <a:pt x="266" y="284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7494840" y="3193560"/>
                    <a:ext cx="12744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265">
                        <a:moveTo>
                          <a:pt x="0" y="0"/>
                        </a:moveTo>
                        <a:lnTo>
                          <a:pt x="79" y="57"/>
                        </a:lnTo>
                        <a:lnTo>
                          <a:pt x="150" y="124"/>
                        </a:lnTo>
                        <a:lnTo>
                          <a:pt x="279" y="265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7557840" y="3221280"/>
                    <a:ext cx="1047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1" h="207">
                        <a:moveTo>
                          <a:pt x="0" y="0"/>
                        </a:moveTo>
                        <a:lnTo>
                          <a:pt x="79" y="56"/>
                        </a:lnTo>
                        <a:lnTo>
                          <a:pt x="150" y="123"/>
                        </a:lnTo>
                        <a:lnTo>
                          <a:pt x="231" y="207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8552880" y="3236760"/>
                    <a:ext cx="19836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289">
                        <a:moveTo>
                          <a:pt x="0" y="0"/>
                        </a:moveTo>
                        <a:lnTo>
                          <a:pt x="143" y="81"/>
                        </a:lnTo>
                        <a:lnTo>
                          <a:pt x="290" y="180"/>
                        </a:lnTo>
                        <a:lnTo>
                          <a:pt x="436" y="289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7852680" y="3325680"/>
                    <a:ext cx="87984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7852680" y="3381120"/>
                    <a:ext cx="94788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7809120" y="3452400"/>
                    <a:ext cx="1005120" cy="144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7622280" y="3679560"/>
                    <a:ext cx="99720" cy="66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1198">
                        <a:moveTo>
                          <a:pt x="213" y="0"/>
                        </a:moveTo>
                        <a:lnTo>
                          <a:pt x="213" y="117"/>
                        </a:lnTo>
                        <a:lnTo>
                          <a:pt x="204" y="249"/>
                        </a:lnTo>
                        <a:lnTo>
                          <a:pt x="182" y="379"/>
                        </a:lnTo>
                        <a:lnTo>
                          <a:pt x="160" y="528"/>
                        </a:lnTo>
                        <a:lnTo>
                          <a:pt x="138" y="652"/>
                        </a:lnTo>
                        <a:lnTo>
                          <a:pt x="115" y="794"/>
                        </a:lnTo>
                        <a:lnTo>
                          <a:pt x="93" y="913"/>
                        </a:lnTo>
                        <a:lnTo>
                          <a:pt x="61" y="1020"/>
                        </a:lnTo>
                        <a:lnTo>
                          <a:pt x="35" y="1102"/>
                        </a:lnTo>
                        <a:lnTo>
                          <a:pt x="0" y="1198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7770960" y="3527280"/>
                    <a:ext cx="1116720" cy="396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7744680" y="3602520"/>
                    <a:ext cx="1204200" cy="144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6891480" y="3817800"/>
                    <a:ext cx="2102760" cy="216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7009560" y="3181320"/>
                    <a:ext cx="272160" cy="11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2082">
                        <a:moveTo>
                          <a:pt x="599" y="0"/>
                        </a:moveTo>
                        <a:lnTo>
                          <a:pt x="541" y="33"/>
                        </a:lnTo>
                        <a:lnTo>
                          <a:pt x="426" y="128"/>
                        </a:lnTo>
                        <a:lnTo>
                          <a:pt x="319" y="245"/>
                        </a:lnTo>
                        <a:lnTo>
                          <a:pt x="244" y="363"/>
                        </a:lnTo>
                        <a:lnTo>
                          <a:pt x="172" y="501"/>
                        </a:lnTo>
                        <a:lnTo>
                          <a:pt x="101" y="639"/>
                        </a:lnTo>
                        <a:lnTo>
                          <a:pt x="53" y="765"/>
                        </a:lnTo>
                        <a:lnTo>
                          <a:pt x="8" y="908"/>
                        </a:lnTo>
                        <a:lnTo>
                          <a:pt x="0" y="1025"/>
                        </a:lnTo>
                        <a:lnTo>
                          <a:pt x="0" y="1157"/>
                        </a:lnTo>
                        <a:lnTo>
                          <a:pt x="0" y="1285"/>
                        </a:lnTo>
                        <a:lnTo>
                          <a:pt x="4" y="1430"/>
                        </a:lnTo>
                        <a:lnTo>
                          <a:pt x="0" y="1567"/>
                        </a:lnTo>
                        <a:lnTo>
                          <a:pt x="0" y="1708"/>
                        </a:lnTo>
                        <a:lnTo>
                          <a:pt x="4" y="2008"/>
                        </a:lnTo>
                        <a:lnTo>
                          <a:pt x="8" y="2082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7016760" y="3177720"/>
                    <a:ext cx="277200" cy="1161360"/>
                  </a:xfrm>
                  <a:custGeom>
                    <a:avLst/>
                    <a:gdLst/>
                    <a:ahLst/>
                    <a:rect l="l" t="t" r="r" b="b"/>
                    <a:pathLst>
                      <a:path w="609" h="2105">
                        <a:moveTo>
                          <a:pt x="609" y="0"/>
                        </a:moveTo>
                        <a:lnTo>
                          <a:pt x="546" y="48"/>
                        </a:lnTo>
                        <a:lnTo>
                          <a:pt x="476" y="132"/>
                        </a:lnTo>
                        <a:lnTo>
                          <a:pt x="391" y="245"/>
                        </a:lnTo>
                        <a:lnTo>
                          <a:pt x="320" y="367"/>
                        </a:lnTo>
                        <a:lnTo>
                          <a:pt x="262" y="490"/>
                        </a:lnTo>
                        <a:lnTo>
                          <a:pt x="199" y="624"/>
                        </a:lnTo>
                        <a:lnTo>
                          <a:pt x="151" y="769"/>
                        </a:lnTo>
                        <a:lnTo>
                          <a:pt x="120" y="897"/>
                        </a:lnTo>
                        <a:lnTo>
                          <a:pt x="112" y="1029"/>
                        </a:lnTo>
                        <a:lnTo>
                          <a:pt x="102" y="1151"/>
                        </a:lnTo>
                        <a:lnTo>
                          <a:pt x="94" y="1283"/>
                        </a:lnTo>
                        <a:lnTo>
                          <a:pt x="94" y="1415"/>
                        </a:lnTo>
                        <a:lnTo>
                          <a:pt x="84" y="1552"/>
                        </a:lnTo>
                        <a:lnTo>
                          <a:pt x="66" y="1712"/>
                        </a:lnTo>
                        <a:lnTo>
                          <a:pt x="58" y="1819"/>
                        </a:lnTo>
                        <a:lnTo>
                          <a:pt x="44" y="1934"/>
                        </a:lnTo>
                        <a:lnTo>
                          <a:pt x="0" y="2105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7027200" y="3173760"/>
                    <a:ext cx="291600" cy="1159560"/>
                  </a:xfrm>
                  <a:custGeom>
                    <a:avLst/>
                    <a:gdLst/>
                    <a:ahLst/>
                    <a:rect l="l" t="t" r="r" b="b"/>
                    <a:pathLst>
                      <a:path w="637" h="2101">
                        <a:moveTo>
                          <a:pt x="637" y="0"/>
                        </a:moveTo>
                        <a:lnTo>
                          <a:pt x="583" y="51"/>
                        </a:lnTo>
                        <a:lnTo>
                          <a:pt x="534" y="122"/>
                        </a:lnTo>
                        <a:lnTo>
                          <a:pt x="458" y="240"/>
                        </a:lnTo>
                        <a:lnTo>
                          <a:pt x="378" y="382"/>
                        </a:lnTo>
                        <a:lnTo>
                          <a:pt x="338" y="504"/>
                        </a:lnTo>
                        <a:lnTo>
                          <a:pt x="294" y="642"/>
                        </a:lnTo>
                        <a:lnTo>
                          <a:pt x="258" y="759"/>
                        </a:lnTo>
                        <a:lnTo>
                          <a:pt x="236" y="910"/>
                        </a:lnTo>
                        <a:lnTo>
                          <a:pt x="227" y="1038"/>
                        </a:lnTo>
                        <a:lnTo>
                          <a:pt x="213" y="1170"/>
                        </a:lnTo>
                        <a:lnTo>
                          <a:pt x="195" y="1302"/>
                        </a:lnTo>
                        <a:lnTo>
                          <a:pt x="173" y="1448"/>
                        </a:lnTo>
                        <a:lnTo>
                          <a:pt x="155" y="1575"/>
                        </a:lnTo>
                        <a:lnTo>
                          <a:pt x="133" y="1711"/>
                        </a:lnTo>
                        <a:lnTo>
                          <a:pt x="111" y="1834"/>
                        </a:lnTo>
                        <a:lnTo>
                          <a:pt x="90" y="1934"/>
                        </a:lnTo>
                        <a:lnTo>
                          <a:pt x="48" y="2026"/>
                        </a:lnTo>
                        <a:lnTo>
                          <a:pt x="0" y="210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7030800" y="3173760"/>
                    <a:ext cx="303840" cy="116388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2110">
                        <a:moveTo>
                          <a:pt x="662" y="0"/>
                        </a:moveTo>
                        <a:lnTo>
                          <a:pt x="614" y="70"/>
                        </a:lnTo>
                        <a:lnTo>
                          <a:pt x="569" y="145"/>
                        </a:lnTo>
                        <a:lnTo>
                          <a:pt x="511" y="250"/>
                        </a:lnTo>
                        <a:lnTo>
                          <a:pt x="458" y="376"/>
                        </a:lnTo>
                        <a:lnTo>
                          <a:pt x="432" y="499"/>
                        </a:lnTo>
                        <a:lnTo>
                          <a:pt x="396" y="642"/>
                        </a:lnTo>
                        <a:lnTo>
                          <a:pt x="360" y="778"/>
                        </a:lnTo>
                        <a:lnTo>
                          <a:pt x="347" y="921"/>
                        </a:lnTo>
                        <a:lnTo>
                          <a:pt x="342" y="1034"/>
                        </a:lnTo>
                        <a:lnTo>
                          <a:pt x="329" y="1166"/>
                        </a:lnTo>
                        <a:lnTo>
                          <a:pt x="316" y="1302"/>
                        </a:lnTo>
                        <a:lnTo>
                          <a:pt x="289" y="1435"/>
                        </a:lnTo>
                        <a:lnTo>
                          <a:pt x="249" y="1575"/>
                        </a:lnTo>
                        <a:lnTo>
                          <a:pt x="222" y="1706"/>
                        </a:lnTo>
                        <a:lnTo>
                          <a:pt x="178" y="1828"/>
                        </a:lnTo>
                        <a:lnTo>
                          <a:pt x="134" y="1934"/>
                        </a:lnTo>
                        <a:lnTo>
                          <a:pt x="71" y="2030"/>
                        </a:lnTo>
                        <a:lnTo>
                          <a:pt x="0" y="2110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7046640" y="3169800"/>
                    <a:ext cx="301680" cy="116388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2111">
                        <a:moveTo>
                          <a:pt x="662" y="0"/>
                        </a:moveTo>
                        <a:lnTo>
                          <a:pt x="622" y="66"/>
                        </a:lnTo>
                        <a:lnTo>
                          <a:pt x="583" y="161"/>
                        </a:lnTo>
                        <a:lnTo>
                          <a:pt x="547" y="268"/>
                        </a:lnTo>
                        <a:lnTo>
                          <a:pt x="525" y="381"/>
                        </a:lnTo>
                        <a:lnTo>
                          <a:pt x="498" y="501"/>
                        </a:lnTo>
                        <a:lnTo>
                          <a:pt x="480" y="647"/>
                        </a:lnTo>
                        <a:lnTo>
                          <a:pt x="454" y="784"/>
                        </a:lnTo>
                        <a:lnTo>
                          <a:pt x="448" y="916"/>
                        </a:lnTo>
                        <a:lnTo>
                          <a:pt x="440" y="1044"/>
                        </a:lnTo>
                        <a:lnTo>
                          <a:pt x="422" y="1166"/>
                        </a:lnTo>
                        <a:lnTo>
                          <a:pt x="391" y="1304"/>
                        </a:lnTo>
                        <a:lnTo>
                          <a:pt x="365" y="1426"/>
                        </a:lnTo>
                        <a:lnTo>
                          <a:pt x="319" y="1581"/>
                        </a:lnTo>
                        <a:lnTo>
                          <a:pt x="275" y="1720"/>
                        </a:lnTo>
                        <a:lnTo>
                          <a:pt x="214" y="1839"/>
                        </a:lnTo>
                        <a:lnTo>
                          <a:pt x="160" y="1935"/>
                        </a:lnTo>
                        <a:lnTo>
                          <a:pt x="75" y="2035"/>
                        </a:lnTo>
                        <a:lnTo>
                          <a:pt x="0" y="211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7071120" y="3173760"/>
                    <a:ext cx="287640" cy="1159560"/>
                  </a:xfrm>
                  <a:custGeom>
                    <a:avLst/>
                    <a:gdLst/>
                    <a:ahLst/>
                    <a:rect l="l" t="t" r="r" b="b"/>
                    <a:pathLst>
                      <a:path w="626" h="2101">
                        <a:moveTo>
                          <a:pt x="626" y="0"/>
                        </a:moveTo>
                        <a:lnTo>
                          <a:pt x="614" y="61"/>
                        </a:lnTo>
                        <a:lnTo>
                          <a:pt x="596" y="155"/>
                        </a:lnTo>
                        <a:lnTo>
                          <a:pt x="569" y="273"/>
                        </a:lnTo>
                        <a:lnTo>
                          <a:pt x="551" y="376"/>
                        </a:lnTo>
                        <a:lnTo>
                          <a:pt x="533" y="481"/>
                        </a:lnTo>
                        <a:lnTo>
                          <a:pt x="525" y="646"/>
                        </a:lnTo>
                        <a:lnTo>
                          <a:pt x="515" y="774"/>
                        </a:lnTo>
                        <a:lnTo>
                          <a:pt x="511" y="902"/>
                        </a:lnTo>
                        <a:lnTo>
                          <a:pt x="498" y="1038"/>
                        </a:lnTo>
                        <a:lnTo>
                          <a:pt x="480" y="1160"/>
                        </a:lnTo>
                        <a:lnTo>
                          <a:pt x="462" y="1302"/>
                        </a:lnTo>
                        <a:lnTo>
                          <a:pt x="418" y="1448"/>
                        </a:lnTo>
                        <a:lnTo>
                          <a:pt x="365" y="1586"/>
                        </a:lnTo>
                        <a:lnTo>
                          <a:pt x="297" y="1729"/>
                        </a:lnTo>
                        <a:lnTo>
                          <a:pt x="236" y="1838"/>
                        </a:lnTo>
                        <a:lnTo>
                          <a:pt x="156" y="1934"/>
                        </a:lnTo>
                        <a:lnTo>
                          <a:pt x="93" y="2007"/>
                        </a:lnTo>
                        <a:lnTo>
                          <a:pt x="0" y="210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 flipV="1">
                    <a:off x="7367400" y="3173760"/>
                    <a:ext cx="1800" cy="64800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6896520" y="3675600"/>
                    <a:ext cx="208908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6891480" y="3746880"/>
                    <a:ext cx="210780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6901560" y="3893040"/>
                    <a:ext cx="45684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7379640" y="3893040"/>
                    <a:ext cx="44496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7039440" y="3381120"/>
                    <a:ext cx="57060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6995880" y="3452400"/>
                    <a:ext cx="654480" cy="144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6948720" y="3527280"/>
                    <a:ext cx="725760" cy="396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6917400" y="3602520"/>
                    <a:ext cx="786600" cy="144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6906600" y="3966120"/>
                    <a:ext cx="425880" cy="396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6913800" y="4047120"/>
                    <a:ext cx="38736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6922440" y="4122000"/>
                    <a:ext cx="34704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7390440" y="3966120"/>
                    <a:ext cx="422280" cy="396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7407720" y="4047120"/>
                    <a:ext cx="37656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7428960" y="4122000"/>
                    <a:ext cx="33480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7160040" y="3254760"/>
                    <a:ext cx="45180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7092000" y="3325680"/>
                    <a:ext cx="58104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7220880" y="3205080"/>
                    <a:ext cx="31752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8640000" y="3272400"/>
                    <a:ext cx="164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226">
                        <a:moveTo>
                          <a:pt x="0" y="0"/>
                        </a:moveTo>
                        <a:lnTo>
                          <a:pt x="164" y="98"/>
                        </a:lnTo>
                        <a:lnTo>
                          <a:pt x="360" y="226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7907040" y="3254760"/>
                    <a:ext cx="68940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7878960" y="3193560"/>
                    <a:ext cx="11484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264">
                        <a:moveTo>
                          <a:pt x="253" y="0"/>
                        </a:moveTo>
                        <a:lnTo>
                          <a:pt x="142" y="100"/>
                        </a:lnTo>
                        <a:lnTo>
                          <a:pt x="62" y="189"/>
                        </a:lnTo>
                        <a:lnTo>
                          <a:pt x="0" y="264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8414640" y="3193560"/>
                    <a:ext cx="404640" cy="11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890" h="2059">
                        <a:moveTo>
                          <a:pt x="0" y="0"/>
                        </a:moveTo>
                        <a:lnTo>
                          <a:pt x="142" y="90"/>
                        </a:lnTo>
                        <a:lnTo>
                          <a:pt x="232" y="162"/>
                        </a:lnTo>
                        <a:lnTo>
                          <a:pt x="303" y="227"/>
                        </a:lnTo>
                        <a:lnTo>
                          <a:pt x="410" y="317"/>
                        </a:lnTo>
                        <a:lnTo>
                          <a:pt x="566" y="468"/>
                        </a:lnTo>
                        <a:lnTo>
                          <a:pt x="707" y="610"/>
                        </a:lnTo>
                        <a:lnTo>
                          <a:pt x="814" y="747"/>
                        </a:lnTo>
                        <a:lnTo>
                          <a:pt x="877" y="875"/>
                        </a:lnTo>
                        <a:lnTo>
                          <a:pt x="886" y="988"/>
                        </a:lnTo>
                        <a:lnTo>
                          <a:pt x="890" y="1129"/>
                        </a:lnTo>
                        <a:lnTo>
                          <a:pt x="890" y="1261"/>
                        </a:lnTo>
                        <a:lnTo>
                          <a:pt x="882" y="1407"/>
                        </a:lnTo>
                        <a:lnTo>
                          <a:pt x="868" y="1540"/>
                        </a:lnTo>
                        <a:lnTo>
                          <a:pt x="860" y="1683"/>
                        </a:lnTo>
                        <a:lnTo>
                          <a:pt x="846" y="1789"/>
                        </a:lnTo>
                        <a:lnTo>
                          <a:pt x="832" y="1940"/>
                        </a:lnTo>
                        <a:lnTo>
                          <a:pt x="801" y="2059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8455320" y="3203280"/>
                    <a:ext cx="425880" cy="1120320"/>
                  </a:xfrm>
                  <a:custGeom>
                    <a:avLst/>
                    <a:gdLst/>
                    <a:ahLst/>
                    <a:rect l="l" t="t" r="r" b="b"/>
                    <a:pathLst>
                      <a:path w="930" h="2036">
                        <a:moveTo>
                          <a:pt x="0" y="0"/>
                        </a:moveTo>
                        <a:lnTo>
                          <a:pt x="135" y="82"/>
                        </a:lnTo>
                        <a:lnTo>
                          <a:pt x="224" y="157"/>
                        </a:lnTo>
                        <a:lnTo>
                          <a:pt x="303" y="222"/>
                        </a:lnTo>
                        <a:lnTo>
                          <a:pt x="414" y="317"/>
                        </a:lnTo>
                        <a:lnTo>
                          <a:pt x="565" y="445"/>
                        </a:lnTo>
                        <a:lnTo>
                          <a:pt x="718" y="583"/>
                        </a:lnTo>
                        <a:lnTo>
                          <a:pt x="846" y="723"/>
                        </a:lnTo>
                        <a:lnTo>
                          <a:pt x="912" y="866"/>
                        </a:lnTo>
                        <a:lnTo>
                          <a:pt x="926" y="996"/>
                        </a:lnTo>
                        <a:lnTo>
                          <a:pt x="930" y="1120"/>
                        </a:lnTo>
                        <a:lnTo>
                          <a:pt x="926" y="1256"/>
                        </a:lnTo>
                        <a:lnTo>
                          <a:pt x="900" y="1388"/>
                        </a:lnTo>
                        <a:lnTo>
                          <a:pt x="882" y="1516"/>
                        </a:lnTo>
                        <a:lnTo>
                          <a:pt x="855" y="1656"/>
                        </a:lnTo>
                        <a:lnTo>
                          <a:pt x="833" y="1785"/>
                        </a:lnTo>
                        <a:lnTo>
                          <a:pt x="801" y="1888"/>
                        </a:lnTo>
                        <a:lnTo>
                          <a:pt x="744" y="2036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8507520" y="3219120"/>
                    <a:ext cx="434520" cy="1094760"/>
                  </a:xfrm>
                  <a:custGeom>
                    <a:avLst/>
                    <a:gdLst/>
                    <a:ahLst/>
                    <a:rect l="l" t="t" r="r" b="b"/>
                    <a:pathLst>
                      <a:path w="952" h="1986">
                        <a:moveTo>
                          <a:pt x="0" y="0"/>
                        </a:moveTo>
                        <a:lnTo>
                          <a:pt x="120" y="80"/>
                        </a:lnTo>
                        <a:lnTo>
                          <a:pt x="262" y="183"/>
                        </a:lnTo>
                        <a:lnTo>
                          <a:pt x="391" y="283"/>
                        </a:lnTo>
                        <a:lnTo>
                          <a:pt x="556" y="419"/>
                        </a:lnTo>
                        <a:lnTo>
                          <a:pt x="716" y="562"/>
                        </a:lnTo>
                        <a:lnTo>
                          <a:pt x="845" y="690"/>
                        </a:lnTo>
                        <a:lnTo>
                          <a:pt x="929" y="830"/>
                        </a:lnTo>
                        <a:lnTo>
                          <a:pt x="938" y="954"/>
                        </a:lnTo>
                        <a:lnTo>
                          <a:pt x="952" y="1090"/>
                        </a:lnTo>
                        <a:lnTo>
                          <a:pt x="934" y="1218"/>
                        </a:lnTo>
                        <a:lnTo>
                          <a:pt x="899" y="1355"/>
                        </a:lnTo>
                        <a:lnTo>
                          <a:pt x="867" y="1495"/>
                        </a:lnTo>
                        <a:lnTo>
                          <a:pt x="831" y="1633"/>
                        </a:lnTo>
                        <a:lnTo>
                          <a:pt x="796" y="1763"/>
                        </a:lnTo>
                        <a:lnTo>
                          <a:pt x="742" y="1869"/>
                        </a:lnTo>
                        <a:lnTo>
                          <a:pt x="676" y="1986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8078040" y="3173760"/>
                    <a:ext cx="48960" cy="11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101">
                        <a:moveTo>
                          <a:pt x="90" y="0"/>
                        </a:moveTo>
                        <a:lnTo>
                          <a:pt x="95" y="62"/>
                        </a:lnTo>
                        <a:lnTo>
                          <a:pt x="99" y="161"/>
                        </a:lnTo>
                        <a:lnTo>
                          <a:pt x="99" y="279"/>
                        </a:lnTo>
                        <a:lnTo>
                          <a:pt x="103" y="392"/>
                        </a:lnTo>
                        <a:lnTo>
                          <a:pt x="107" y="510"/>
                        </a:lnTo>
                        <a:lnTo>
                          <a:pt x="107" y="635"/>
                        </a:lnTo>
                        <a:lnTo>
                          <a:pt x="107" y="784"/>
                        </a:lnTo>
                        <a:lnTo>
                          <a:pt x="107" y="931"/>
                        </a:lnTo>
                        <a:lnTo>
                          <a:pt x="103" y="1035"/>
                        </a:lnTo>
                        <a:lnTo>
                          <a:pt x="99" y="1172"/>
                        </a:lnTo>
                        <a:lnTo>
                          <a:pt x="81" y="1298"/>
                        </a:lnTo>
                        <a:lnTo>
                          <a:pt x="77" y="1441"/>
                        </a:lnTo>
                        <a:lnTo>
                          <a:pt x="64" y="1586"/>
                        </a:lnTo>
                        <a:lnTo>
                          <a:pt x="50" y="1716"/>
                        </a:lnTo>
                        <a:lnTo>
                          <a:pt x="46" y="1841"/>
                        </a:lnTo>
                        <a:lnTo>
                          <a:pt x="28" y="1982"/>
                        </a:lnTo>
                        <a:lnTo>
                          <a:pt x="0" y="210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8097480" y="3168000"/>
                    <a:ext cx="93960" cy="116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106">
                        <a:moveTo>
                          <a:pt x="71" y="0"/>
                        </a:moveTo>
                        <a:lnTo>
                          <a:pt x="89" y="57"/>
                        </a:lnTo>
                        <a:lnTo>
                          <a:pt x="111" y="156"/>
                        </a:lnTo>
                        <a:lnTo>
                          <a:pt x="137" y="273"/>
                        </a:lnTo>
                        <a:lnTo>
                          <a:pt x="150" y="378"/>
                        </a:lnTo>
                        <a:lnTo>
                          <a:pt x="168" y="504"/>
                        </a:lnTo>
                        <a:lnTo>
                          <a:pt x="186" y="638"/>
                        </a:lnTo>
                        <a:lnTo>
                          <a:pt x="200" y="789"/>
                        </a:lnTo>
                        <a:lnTo>
                          <a:pt x="204" y="921"/>
                        </a:lnTo>
                        <a:lnTo>
                          <a:pt x="200" y="1057"/>
                        </a:lnTo>
                        <a:lnTo>
                          <a:pt x="182" y="1190"/>
                        </a:lnTo>
                        <a:lnTo>
                          <a:pt x="168" y="1322"/>
                        </a:lnTo>
                        <a:lnTo>
                          <a:pt x="150" y="1454"/>
                        </a:lnTo>
                        <a:lnTo>
                          <a:pt x="123" y="1595"/>
                        </a:lnTo>
                        <a:lnTo>
                          <a:pt x="97" y="1730"/>
                        </a:lnTo>
                        <a:lnTo>
                          <a:pt x="71" y="1855"/>
                        </a:lnTo>
                        <a:lnTo>
                          <a:pt x="39" y="1987"/>
                        </a:lnTo>
                        <a:lnTo>
                          <a:pt x="0" y="2106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8109720" y="3165480"/>
                    <a:ext cx="128880" cy="116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2110">
                        <a:moveTo>
                          <a:pt x="71" y="0"/>
                        </a:moveTo>
                        <a:lnTo>
                          <a:pt x="103" y="72"/>
                        </a:lnTo>
                        <a:lnTo>
                          <a:pt x="142" y="156"/>
                        </a:lnTo>
                        <a:lnTo>
                          <a:pt x="186" y="273"/>
                        </a:lnTo>
                        <a:lnTo>
                          <a:pt x="222" y="397"/>
                        </a:lnTo>
                        <a:lnTo>
                          <a:pt x="244" y="519"/>
                        </a:lnTo>
                        <a:lnTo>
                          <a:pt x="262" y="642"/>
                        </a:lnTo>
                        <a:lnTo>
                          <a:pt x="279" y="799"/>
                        </a:lnTo>
                        <a:lnTo>
                          <a:pt x="285" y="930"/>
                        </a:lnTo>
                        <a:lnTo>
                          <a:pt x="285" y="1068"/>
                        </a:lnTo>
                        <a:lnTo>
                          <a:pt x="275" y="1190"/>
                        </a:lnTo>
                        <a:lnTo>
                          <a:pt x="257" y="1317"/>
                        </a:lnTo>
                        <a:lnTo>
                          <a:pt x="231" y="1450"/>
                        </a:lnTo>
                        <a:lnTo>
                          <a:pt x="196" y="1595"/>
                        </a:lnTo>
                        <a:lnTo>
                          <a:pt x="156" y="1736"/>
                        </a:lnTo>
                        <a:lnTo>
                          <a:pt x="120" y="1855"/>
                        </a:lnTo>
                        <a:lnTo>
                          <a:pt x="71" y="1983"/>
                        </a:lnTo>
                        <a:lnTo>
                          <a:pt x="0" y="2110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8137440" y="3164040"/>
                    <a:ext cx="164160" cy="11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091">
                        <a:moveTo>
                          <a:pt x="26" y="0"/>
                        </a:moveTo>
                        <a:lnTo>
                          <a:pt x="79" y="69"/>
                        </a:lnTo>
                        <a:lnTo>
                          <a:pt x="141" y="174"/>
                        </a:lnTo>
                        <a:lnTo>
                          <a:pt x="186" y="254"/>
                        </a:lnTo>
                        <a:lnTo>
                          <a:pt x="230" y="357"/>
                        </a:lnTo>
                        <a:lnTo>
                          <a:pt x="279" y="489"/>
                        </a:lnTo>
                        <a:lnTo>
                          <a:pt x="311" y="641"/>
                        </a:lnTo>
                        <a:lnTo>
                          <a:pt x="337" y="807"/>
                        </a:lnTo>
                        <a:lnTo>
                          <a:pt x="351" y="933"/>
                        </a:lnTo>
                        <a:lnTo>
                          <a:pt x="355" y="1061"/>
                        </a:lnTo>
                        <a:lnTo>
                          <a:pt x="333" y="1202"/>
                        </a:lnTo>
                        <a:lnTo>
                          <a:pt x="315" y="1325"/>
                        </a:lnTo>
                        <a:lnTo>
                          <a:pt x="279" y="1462"/>
                        </a:lnTo>
                        <a:lnTo>
                          <a:pt x="230" y="1594"/>
                        </a:lnTo>
                        <a:lnTo>
                          <a:pt x="181" y="1738"/>
                        </a:lnTo>
                        <a:lnTo>
                          <a:pt x="129" y="1858"/>
                        </a:lnTo>
                        <a:lnTo>
                          <a:pt x="66" y="1972"/>
                        </a:lnTo>
                        <a:lnTo>
                          <a:pt x="0" y="209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8158320" y="3164040"/>
                    <a:ext cx="196920" cy="11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2072">
                        <a:moveTo>
                          <a:pt x="8" y="0"/>
                        </a:moveTo>
                        <a:lnTo>
                          <a:pt x="71" y="70"/>
                        </a:lnTo>
                        <a:lnTo>
                          <a:pt x="142" y="164"/>
                        </a:lnTo>
                        <a:lnTo>
                          <a:pt x="200" y="269"/>
                        </a:lnTo>
                        <a:lnTo>
                          <a:pt x="253" y="363"/>
                        </a:lnTo>
                        <a:lnTo>
                          <a:pt x="315" y="495"/>
                        </a:lnTo>
                        <a:lnTo>
                          <a:pt x="364" y="638"/>
                        </a:lnTo>
                        <a:lnTo>
                          <a:pt x="414" y="807"/>
                        </a:lnTo>
                        <a:lnTo>
                          <a:pt x="426" y="934"/>
                        </a:lnTo>
                        <a:lnTo>
                          <a:pt x="432" y="1057"/>
                        </a:lnTo>
                        <a:lnTo>
                          <a:pt x="414" y="1189"/>
                        </a:lnTo>
                        <a:lnTo>
                          <a:pt x="382" y="1321"/>
                        </a:lnTo>
                        <a:lnTo>
                          <a:pt x="333" y="1473"/>
                        </a:lnTo>
                        <a:lnTo>
                          <a:pt x="267" y="1615"/>
                        </a:lnTo>
                        <a:lnTo>
                          <a:pt x="208" y="1744"/>
                        </a:lnTo>
                        <a:lnTo>
                          <a:pt x="137" y="1873"/>
                        </a:lnTo>
                        <a:lnTo>
                          <a:pt x="67" y="1987"/>
                        </a:lnTo>
                        <a:lnTo>
                          <a:pt x="0" y="2072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8175600" y="3164040"/>
                    <a:ext cx="23544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516" h="1261">
                        <a:moveTo>
                          <a:pt x="0" y="0"/>
                        </a:moveTo>
                        <a:lnTo>
                          <a:pt x="98" y="94"/>
                        </a:lnTo>
                        <a:lnTo>
                          <a:pt x="179" y="187"/>
                        </a:lnTo>
                        <a:lnTo>
                          <a:pt x="258" y="277"/>
                        </a:lnTo>
                        <a:lnTo>
                          <a:pt x="339" y="386"/>
                        </a:lnTo>
                        <a:lnTo>
                          <a:pt x="401" y="508"/>
                        </a:lnTo>
                        <a:lnTo>
                          <a:pt x="454" y="638"/>
                        </a:lnTo>
                        <a:lnTo>
                          <a:pt x="498" y="807"/>
                        </a:lnTo>
                        <a:lnTo>
                          <a:pt x="516" y="940"/>
                        </a:lnTo>
                        <a:lnTo>
                          <a:pt x="512" y="1066"/>
                        </a:lnTo>
                        <a:lnTo>
                          <a:pt x="490" y="126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8196840" y="3164040"/>
                    <a:ext cx="486720" cy="11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4" h="2091">
                        <a:moveTo>
                          <a:pt x="0" y="0"/>
                        </a:moveTo>
                        <a:lnTo>
                          <a:pt x="97" y="69"/>
                        </a:lnTo>
                        <a:lnTo>
                          <a:pt x="182" y="145"/>
                        </a:lnTo>
                        <a:lnTo>
                          <a:pt x="301" y="277"/>
                        </a:lnTo>
                        <a:lnTo>
                          <a:pt x="386" y="394"/>
                        </a:lnTo>
                        <a:lnTo>
                          <a:pt x="466" y="522"/>
                        </a:lnTo>
                        <a:lnTo>
                          <a:pt x="523" y="660"/>
                        </a:lnTo>
                        <a:lnTo>
                          <a:pt x="569" y="797"/>
                        </a:lnTo>
                        <a:lnTo>
                          <a:pt x="595" y="935"/>
                        </a:lnTo>
                        <a:lnTo>
                          <a:pt x="599" y="1052"/>
                        </a:lnTo>
                        <a:lnTo>
                          <a:pt x="610" y="1184"/>
                        </a:lnTo>
                        <a:lnTo>
                          <a:pt x="636" y="1317"/>
                        </a:lnTo>
                        <a:lnTo>
                          <a:pt x="681" y="1457"/>
                        </a:lnTo>
                        <a:lnTo>
                          <a:pt x="747" y="1598"/>
                        </a:lnTo>
                        <a:lnTo>
                          <a:pt x="806" y="1729"/>
                        </a:lnTo>
                        <a:lnTo>
                          <a:pt x="876" y="1844"/>
                        </a:lnTo>
                        <a:lnTo>
                          <a:pt x="965" y="1976"/>
                        </a:lnTo>
                        <a:lnTo>
                          <a:pt x="1064" y="209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8227800" y="3165480"/>
                    <a:ext cx="484920" cy="115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4" h="2097">
                        <a:moveTo>
                          <a:pt x="0" y="0"/>
                        </a:moveTo>
                        <a:lnTo>
                          <a:pt x="139" y="90"/>
                        </a:lnTo>
                        <a:lnTo>
                          <a:pt x="240" y="183"/>
                        </a:lnTo>
                        <a:lnTo>
                          <a:pt x="361" y="311"/>
                        </a:lnTo>
                        <a:lnTo>
                          <a:pt x="444" y="420"/>
                        </a:lnTo>
                        <a:lnTo>
                          <a:pt x="529" y="554"/>
                        </a:lnTo>
                        <a:lnTo>
                          <a:pt x="588" y="686"/>
                        </a:lnTo>
                        <a:lnTo>
                          <a:pt x="634" y="822"/>
                        </a:lnTo>
                        <a:lnTo>
                          <a:pt x="660" y="959"/>
                        </a:lnTo>
                        <a:lnTo>
                          <a:pt x="664" y="1076"/>
                        </a:lnTo>
                        <a:lnTo>
                          <a:pt x="673" y="1209"/>
                        </a:lnTo>
                        <a:lnTo>
                          <a:pt x="699" y="1341"/>
                        </a:lnTo>
                        <a:lnTo>
                          <a:pt x="745" y="1482"/>
                        </a:lnTo>
                        <a:lnTo>
                          <a:pt x="784" y="1601"/>
                        </a:lnTo>
                        <a:lnTo>
                          <a:pt x="838" y="1730"/>
                        </a:lnTo>
                        <a:lnTo>
                          <a:pt x="886" y="1850"/>
                        </a:lnTo>
                        <a:lnTo>
                          <a:pt x="953" y="1958"/>
                        </a:lnTo>
                        <a:lnTo>
                          <a:pt x="1064" y="2097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7634520" y="3183480"/>
                    <a:ext cx="382320" cy="11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2087">
                        <a:moveTo>
                          <a:pt x="836" y="0"/>
                        </a:moveTo>
                        <a:lnTo>
                          <a:pt x="743" y="103"/>
                        </a:lnTo>
                        <a:lnTo>
                          <a:pt x="640" y="239"/>
                        </a:lnTo>
                        <a:lnTo>
                          <a:pt x="565" y="357"/>
                        </a:lnTo>
                        <a:lnTo>
                          <a:pt x="489" y="495"/>
                        </a:lnTo>
                        <a:lnTo>
                          <a:pt x="432" y="618"/>
                        </a:lnTo>
                        <a:lnTo>
                          <a:pt x="364" y="759"/>
                        </a:lnTo>
                        <a:lnTo>
                          <a:pt x="325" y="896"/>
                        </a:lnTo>
                        <a:lnTo>
                          <a:pt x="311" y="1015"/>
                        </a:lnTo>
                        <a:lnTo>
                          <a:pt x="289" y="1151"/>
                        </a:lnTo>
                        <a:lnTo>
                          <a:pt x="271" y="1288"/>
                        </a:lnTo>
                        <a:lnTo>
                          <a:pt x="235" y="1429"/>
                        </a:lnTo>
                        <a:lnTo>
                          <a:pt x="205" y="1561"/>
                        </a:lnTo>
                        <a:lnTo>
                          <a:pt x="170" y="1699"/>
                        </a:lnTo>
                        <a:lnTo>
                          <a:pt x="138" y="1819"/>
                        </a:lnTo>
                        <a:lnTo>
                          <a:pt x="94" y="1915"/>
                        </a:lnTo>
                        <a:lnTo>
                          <a:pt x="49" y="1995"/>
                        </a:lnTo>
                        <a:lnTo>
                          <a:pt x="0" y="2087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7833600" y="3169800"/>
                    <a:ext cx="219600" cy="6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0" h="1214">
                        <a:moveTo>
                          <a:pt x="480" y="0"/>
                        </a:moveTo>
                        <a:lnTo>
                          <a:pt x="356" y="156"/>
                        </a:lnTo>
                        <a:lnTo>
                          <a:pt x="276" y="273"/>
                        </a:lnTo>
                        <a:lnTo>
                          <a:pt x="222" y="382"/>
                        </a:lnTo>
                        <a:lnTo>
                          <a:pt x="156" y="514"/>
                        </a:lnTo>
                        <a:lnTo>
                          <a:pt x="97" y="657"/>
                        </a:lnTo>
                        <a:lnTo>
                          <a:pt x="49" y="789"/>
                        </a:lnTo>
                        <a:lnTo>
                          <a:pt x="14" y="927"/>
                        </a:lnTo>
                        <a:lnTo>
                          <a:pt x="4" y="1030"/>
                        </a:lnTo>
                        <a:lnTo>
                          <a:pt x="0" y="1214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7894800" y="3168000"/>
                    <a:ext cx="177840" cy="115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102">
                        <a:moveTo>
                          <a:pt x="392" y="0"/>
                        </a:moveTo>
                        <a:lnTo>
                          <a:pt x="351" y="57"/>
                        </a:lnTo>
                        <a:lnTo>
                          <a:pt x="285" y="156"/>
                        </a:lnTo>
                        <a:lnTo>
                          <a:pt x="218" y="269"/>
                        </a:lnTo>
                        <a:lnTo>
                          <a:pt x="160" y="391"/>
                        </a:lnTo>
                        <a:lnTo>
                          <a:pt x="111" y="525"/>
                        </a:lnTo>
                        <a:lnTo>
                          <a:pt x="67" y="662"/>
                        </a:lnTo>
                        <a:lnTo>
                          <a:pt x="27" y="789"/>
                        </a:lnTo>
                        <a:lnTo>
                          <a:pt x="9" y="912"/>
                        </a:lnTo>
                        <a:lnTo>
                          <a:pt x="0" y="1049"/>
                        </a:lnTo>
                        <a:lnTo>
                          <a:pt x="5" y="1181"/>
                        </a:lnTo>
                        <a:lnTo>
                          <a:pt x="17" y="1307"/>
                        </a:lnTo>
                        <a:lnTo>
                          <a:pt x="49" y="1458"/>
                        </a:lnTo>
                        <a:lnTo>
                          <a:pt x="80" y="1590"/>
                        </a:lnTo>
                        <a:lnTo>
                          <a:pt x="111" y="1740"/>
                        </a:lnTo>
                        <a:lnTo>
                          <a:pt x="160" y="1859"/>
                        </a:lnTo>
                        <a:lnTo>
                          <a:pt x="196" y="1953"/>
                        </a:lnTo>
                        <a:lnTo>
                          <a:pt x="267" y="2102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7950600" y="3168000"/>
                    <a:ext cx="143280" cy="115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2102">
                        <a:moveTo>
                          <a:pt x="311" y="0"/>
                        </a:moveTo>
                        <a:lnTo>
                          <a:pt x="275" y="57"/>
                        </a:lnTo>
                        <a:lnTo>
                          <a:pt x="222" y="156"/>
                        </a:lnTo>
                        <a:lnTo>
                          <a:pt x="156" y="283"/>
                        </a:lnTo>
                        <a:lnTo>
                          <a:pt x="120" y="397"/>
                        </a:lnTo>
                        <a:lnTo>
                          <a:pt x="85" y="530"/>
                        </a:lnTo>
                        <a:lnTo>
                          <a:pt x="49" y="648"/>
                        </a:lnTo>
                        <a:lnTo>
                          <a:pt x="27" y="776"/>
                        </a:lnTo>
                        <a:lnTo>
                          <a:pt x="9" y="906"/>
                        </a:lnTo>
                        <a:lnTo>
                          <a:pt x="0" y="1049"/>
                        </a:lnTo>
                        <a:lnTo>
                          <a:pt x="0" y="1171"/>
                        </a:lnTo>
                        <a:lnTo>
                          <a:pt x="13" y="1313"/>
                        </a:lnTo>
                        <a:lnTo>
                          <a:pt x="35" y="1458"/>
                        </a:lnTo>
                        <a:lnTo>
                          <a:pt x="57" y="1590"/>
                        </a:lnTo>
                        <a:lnTo>
                          <a:pt x="71" y="1730"/>
                        </a:lnTo>
                        <a:lnTo>
                          <a:pt x="103" y="1846"/>
                        </a:lnTo>
                        <a:lnTo>
                          <a:pt x="133" y="1953"/>
                        </a:lnTo>
                        <a:lnTo>
                          <a:pt x="174" y="2102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8010000" y="3169800"/>
                    <a:ext cx="92520" cy="11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097">
                        <a:moveTo>
                          <a:pt x="204" y="0"/>
                        </a:moveTo>
                        <a:lnTo>
                          <a:pt x="174" y="57"/>
                        </a:lnTo>
                        <a:lnTo>
                          <a:pt x="138" y="161"/>
                        </a:lnTo>
                        <a:lnTo>
                          <a:pt x="102" y="275"/>
                        </a:lnTo>
                        <a:lnTo>
                          <a:pt x="81" y="382"/>
                        </a:lnTo>
                        <a:lnTo>
                          <a:pt x="57" y="526"/>
                        </a:lnTo>
                        <a:lnTo>
                          <a:pt x="39" y="667"/>
                        </a:lnTo>
                        <a:lnTo>
                          <a:pt x="27" y="771"/>
                        </a:lnTo>
                        <a:lnTo>
                          <a:pt x="13" y="903"/>
                        </a:lnTo>
                        <a:lnTo>
                          <a:pt x="0" y="1044"/>
                        </a:lnTo>
                        <a:lnTo>
                          <a:pt x="0" y="1181"/>
                        </a:lnTo>
                        <a:lnTo>
                          <a:pt x="0" y="1304"/>
                        </a:lnTo>
                        <a:lnTo>
                          <a:pt x="9" y="1435"/>
                        </a:lnTo>
                        <a:lnTo>
                          <a:pt x="17" y="1581"/>
                        </a:lnTo>
                        <a:lnTo>
                          <a:pt x="31" y="1712"/>
                        </a:lnTo>
                        <a:lnTo>
                          <a:pt x="53" y="1850"/>
                        </a:lnTo>
                        <a:lnTo>
                          <a:pt x="63" y="1949"/>
                        </a:lnTo>
                        <a:lnTo>
                          <a:pt x="75" y="2097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8058960" y="3169800"/>
                    <a:ext cx="55800" cy="116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2111">
                        <a:moveTo>
                          <a:pt x="120" y="0"/>
                        </a:moveTo>
                        <a:lnTo>
                          <a:pt x="98" y="66"/>
                        </a:lnTo>
                        <a:lnTo>
                          <a:pt x="71" y="165"/>
                        </a:lnTo>
                        <a:lnTo>
                          <a:pt x="53" y="278"/>
                        </a:lnTo>
                        <a:lnTo>
                          <a:pt x="45" y="382"/>
                        </a:lnTo>
                        <a:lnTo>
                          <a:pt x="45" y="509"/>
                        </a:lnTo>
                        <a:lnTo>
                          <a:pt x="35" y="639"/>
                        </a:lnTo>
                        <a:lnTo>
                          <a:pt x="35" y="771"/>
                        </a:lnTo>
                        <a:lnTo>
                          <a:pt x="31" y="893"/>
                        </a:lnTo>
                        <a:lnTo>
                          <a:pt x="27" y="1029"/>
                        </a:lnTo>
                        <a:lnTo>
                          <a:pt x="23" y="1176"/>
                        </a:lnTo>
                        <a:lnTo>
                          <a:pt x="13" y="1308"/>
                        </a:lnTo>
                        <a:lnTo>
                          <a:pt x="13" y="1445"/>
                        </a:lnTo>
                        <a:lnTo>
                          <a:pt x="13" y="1585"/>
                        </a:lnTo>
                        <a:lnTo>
                          <a:pt x="9" y="1720"/>
                        </a:lnTo>
                        <a:lnTo>
                          <a:pt x="13" y="1841"/>
                        </a:lnTo>
                        <a:lnTo>
                          <a:pt x="9" y="1959"/>
                        </a:lnTo>
                        <a:lnTo>
                          <a:pt x="0" y="211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7374600" y="3169800"/>
                    <a:ext cx="174240" cy="11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2088">
                        <a:moveTo>
                          <a:pt x="0" y="0"/>
                        </a:moveTo>
                        <a:lnTo>
                          <a:pt x="14" y="52"/>
                        </a:lnTo>
                        <a:lnTo>
                          <a:pt x="32" y="161"/>
                        </a:lnTo>
                        <a:lnTo>
                          <a:pt x="45" y="274"/>
                        </a:lnTo>
                        <a:lnTo>
                          <a:pt x="71" y="425"/>
                        </a:lnTo>
                        <a:lnTo>
                          <a:pt x="85" y="643"/>
                        </a:lnTo>
                        <a:lnTo>
                          <a:pt x="95" y="775"/>
                        </a:lnTo>
                        <a:lnTo>
                          <a:pt x="100" y="903"/>
                        </a:lnTo>
                        <a:lnTo>
                          <a:pt x="104" y="1029"/>
                        </a:lnTo>
                        <a:lnTo>
                          <a:pt x="113" y="1166"/>
                        </a:lnTo>
                        <a:lnTo>
                          <a:pt x="128" y="1299"/>
                        </a:lnTo>
                        <a:lnTo>
                          <a:pt x="150" y="1437"/>
                        </a:lnTo>
                        <a:lnTo>
                          <a:pt x="185" y="1582"/>
                        </a:lnTo>
                        <a:lnTo>
                          <a:pt x="217" y="1726"/>
                        </a:lnTo>
                        <a:lnTo>
                          <a:pt x="252" y="1839"/>
                        </a:lnTo>
                        <a:lnTo>
                          <a:pt x="303" y="1947"/>
                        </a:lnTo>
                        <a:lnTo>
                          <a:pt x="383" y="2088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7381800" y="3173760"/>
                    <a:ext cx="193320" cy="116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2111">
                        <a:moveTo>
                          <a:pt x="0" y="0"/>
                        </a:moveTo>
                        <a:lnTo>
                          <a:pt x="45" y="76"/>
                        </a:lnTo>
                        <a:lnTo>
                          <a:pt x="82" y="147"/>
                        </a:lnTo>
                        <a:lnTo>
                          <a:pt x="117" y="260"/>
                        </a:lnTo>
                        <a:lnTo>
                          <a:pt x="175" y="510"/>
                        </a:lnTo>
                        <a:lnTo>
                          <a:pt x="187" y="635"/>
                        </a:lnTo>
                        <a:lnTo>
                          <a:pt x="201" y="771"/>
                        </a:lnTo>
                        <a:lnTo>
                          <a:pt x="215" y="912"/>
                        </a:lnTo>
                        <a:lnTo>
                          <a:pt x="223" y="1044"/>
                        </a:lnTo>
                        <a:lnTo>
                          <a:pt x="223" y="1162"/>
                        </a:lnTo>
                        <a:lnTo>
                          <a:pt x="237" y="1301"/>
                        </a:lnTo>
                        <a:lnTo>
                          <a:pt x="251" y="1446"/>
                        </a:lnTo>
                        <a:lnTo>
                          <a:pt x="272" y="1583"/>
                        </a:lnTo>
                        <a:lnTo>
                          <a:pt x="290" y="1708"/>
                        </a:lnTo>
                        <a:lnTo>
                          <a:pt x="316" y="1844"/>
                        </a:lnTo>
                        <a:lnTo>
                          <a:pt x="352" y="1943"/>
                        </a:lnTo>
                        <a:lnTo>
                          <a:pt x="423" y="211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7399080" y="3175560"/>
                    <a:ext cx="191880" cy="11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9" h="2101">
                        <a:moveTo>
                          <a:pt x="0" y="0"/>
                        </a:moveTo>
                        <a:lnTo>
                          <a:pt x="55" y="84"/>
                        </a:lnTo>
                        <a:lnTo>
                          <a:pt x="108" y="174"/>
                        </a:lnTo>
                        <a:lnTo>
                          <a:pt x="153" y="277"/>
                        </a:lnTo>
                        <a:lnTo>
                          <a:pt x="193" y="372"/>
                        </a:lnTo>
                        <a:lnTo>
                          <a:pt x="225" y="489"/>
                        </a:lnTo>
                        <a:lnTo>
                          <a:pt x="260" y="656"/>
                        </a:lnTo>
                        <a:lnTo>
                          <a:pt x="282" y="788"/>
                        </a:lnTo>
                        <a:lnTo>
                          <a:pt x="300" y="887"/>
                        </a:lnTo>
                        <a:lnTo>
                          <a:pt x="318" y="1038"/>
                        </a:lnTo>
                        <a:lnTo>
                          <a:pt x="318" y="1162"/>
                        </a:lnTo>
                        <a:lnTo>
                          <a:pt x="312" y="1313"/>
                        </a:lnTo>
                        <a:lnTo>
                          <a:pt x="322" y="1440"/>
                        </a:lnTo>
                        <a:lnTo>
                          <a:pt x="322" y="1572"/>
                        </a:lnTo>
                        <a:lnTo>
                          <a:pt x="330" y="1706"/>
                        </a:lnTo>
                        <a:lnTo>
                          <a:pt x="344" y="1828"/>
                        </a:lnTo>
                        <a:lnTo>
                          <a:pt x="366" y="1937"/>
                        </a:lnTo>
                        <a:lnTo>
                          <a:pt x="389" y="2024"/>
                        </a:lnTo>
                        <a:lnTo>
                          <a:pt x="419" y="210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7414560" y="3177720"/>
                    <a:ext cx="188640" cy="11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2101">
                        <a:moveTo>
                          <a:pt x="0" y="0"/>
                        </a:moveTo>
                        <a:lnTo>
                          <a:pt x="63" y="65"/>
                        </a:lnTo>
                        <a:lnTo>
                          <a:pt x="116" y="136"/>
                        </a:lnTo>
                        <a:lnTo>
                          <a:pt x="186" y="250"/>
                        </a:lnTo>
                        <a:lnTo>
                          <a:pt x="235" y="367"/>
                        </a:lnTo>
                        <a:lnTo>
                          <a:pt x="289" y="499"/>
                        </a:lnTo>
                        <a:lnTo>
                          <a:pt x="333" y="633"/>
                        </a:lnTo>
                        <a:lnTo>
                          <a:pt x="364" y="774"/>
                        </a:lnTo>
                        <a:lnTo>
                          <a:pt x="386" y="902"/>
                        </a:lnTo>
                        <a:lnTo>
                          <a:pt x="396" y="1029"/>
                        </a:lnTo>
                        <a:lnTo>
                          <a:pt x="396" y="1151"/>
                        </a:lnTo>
                        <a:lnTo>
                          <a:pt x="396" y="1304"/>
                        </a:lnTo>
                        <a:lnTo>
                          <a:pt x="396" y="1432"/>
                        </a:lnTo>
                        <a:lnTo>
                          <a:pt x="392" y="1572"/>
                        </a:lnTo>
                        <a:lnTo>
                          <a:pt x="386" y="1710"/>
                        </a:lnTo>
                        <a:lnTo>
                          <a:pt x="392" y="1819"/>
                        </a:lnTo>
                        <a:lnTo>
                          <a:pt x="392" y="1928"/>
                        </a:lnTo>
                        <a:lnTo>
                          <a:pt x="396" y="2014"/>
                        </a:lnTo>
                        <a:lnTo>
                          <a:pt x="410" y="210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7439040" y="3181320"/>
                    <a:ext cx="217800" cy="11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5" h="2101">
                        <a:moveTo>
                          <a:pt x="0" y="0"/>
                        </a:moveTo>
                        <a:lnTo>
                          <a:pt x="66" y="61"/>
                        </a:lnTo>
                        <a:lnTo>
                          <a:pt x="114" y="123"/>
                        </a:lnTo>
                        <a:lnTo>
                          <a:pt x="211" y="259"/>
                        </a:lnTo>
                        <a:lnTo>
                          <a:pt x="269" y="354"/>
                        </a:lnTo>
                        <a:lnTo>
                          <a:pt x="333" y="490"/>
                        </a:lnTo>
                        <a:lnTo>
                          <a:pt x="391" y="633"/>
                        </a:lnTo>
                        <a:lnTo>
                          <a:pt x="440" y="775"/>
                        </a:lnTo>
                        <a:lnTo>
                          <a:pt x="468" y="907"/>
                        </a:lnTo>
                        <a:lnTo>
                          <a:pt x="475" y="1020"/>
                        </a:lnTo>
                        <a:lnTo>
                          <a:pt x="475" y="1153"/>
                        </a:lnTo>
                        <a:lnTo>
                          <a:pt x="472" y="1276"/>
                        </a:lnTo>
                        <a:lnTo>
                          <a:pt x="454" y="1427"/>
                        </a:lnTo>
                        <a:lnTo>
                          <a:pt x="440" y="1549"/>
                        </a:lnTo>
                        <a:lnTo>
                          <a:pt x="427" y="1697"/>
                        </a:lnTo>
                        <a:lnTo>
                          <a:pt x="414" y="1825"/>
                        </a:lnTo>
                        <a:lnTo>
                          <a:pt x="405" y="1924"/>
                        </a:lnTo>
                        <a:lnTo>
                          <a:pt x="391" y="2019"/>
                        </a:lnTo>
                        <a:lnTo>
                          <a:pt x="379" y="210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6891480" y="3164040"/>
                    <a:ext cx="2107800" cy="11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613" h="2136">
                        <a:moveTo>
                          <a:pt x="1744" y="315"/>
                        </a:moveTo>
                        <a:lnTo>
                          <a:pt x="1659" y="226"/>
                        </a:lnTo>
                        <a:lnTo>
                          <a:pt x="1570" y="155"/>
                        </a:lnTo>
                        <a:lnTo>
                          <a:pt x="1455" y="94"/>
                        </a:lnTo>
                        <a:lnTo>
                          <a:pt x="1330" y="50"/>
                        </a:lnTo>
                        <a:lnTo>
                          <a:pt x="1215" y="27"/>
                        </a:lnTo>
                        <a:lnTo>
                          <a:pt x="1089" y="13"/>
                        </a:lnTo>
                        <a:lnTo>
                          <a:pt x="982" y="13"/>
                        </a:lnTo>
                        <a:lnTo>
                          <a:pt x="866" y="23"/>
                        </a:lnTo>
                        <a:lnTo>
                          <a:pt x="728" y="65"/>
                        </a:lnTo>
                        <a:lnTo>
                          <a:pt x="617" y="136"/>
                        </a:lnTo>
                        <a:lnTo>
                          <a:pt x="520" y="212"/>
                        </a:lnTo>
                        <a:lnTo>
                          <a:pt x="435" y="287"/>
                        </a:lnTo>
                        <a:lnTo>
                          <a:pt x="345" y="376"/>
                        </a:lnTo>
                        <a:lnTo>
                          <a:pt x="262" y="476"/>
                        </a:lnTo>
                        <a:lnTo>
                          <a:pt x="193" y="572"/>
                        </a:lnTo>
                        <a:lnTo>
                          <a:pt x="130" y="662"/>
                        </a:lnTo>
                        <a:lnTo>
                          <a:pt x="78" y="747"/>
                        </a:lnTo>
                        <a:lnTo>
                          <a:pt x="40" y="826"/>
                        </a:lnTo>
                        <a:lnTo>
                          <a:pt x="12" y="910"/>
                        </a:lnTo>
                        <a:lnTo>
                          <a:pt x="0" y="1023"/>
                        </a:lnTo>
                        <a:lnTo>
                          <a:pt x="0" y="1139"/>
                        </a:lnTo>
                        <a:lnTo>
                          <a:pt x="7" y="1251"/>
                        </a:lnTo>
                        <a:lnTo>
                          <a:pt x="20" y="1354"/>
                        </a:lnTo>
                        <a:lnTo>
                          <a:pt x="34" y="1471"/>
                        </a:lnTo>
                        <a:lnTo>
                          <a:pt x="52" y="1610"/>
                        </a:lnTo>
                        <a:lnTo>
                          <a:pt x="77" y="1748"/>
                        </a:lnTo>
                        <a:lnTo>
                          <a:pt x="105" y="1871"/>
                        </a:lnTo>
                        <a:lnTo>
                          <a:pt x="137" y="1958"/>
                        </a:lnTo>
                        <a:lnTo>
                          <a:pt x="175" y="2025"/>
                        </a:lnTo>
                        <a:lnTo>
                          <a:pt x="221" y="2086"/>
                        </a:lnTo>
                        <a:lnTo>
                          <a:pt x="270" y="2125"/>
                        </a:lnTo>
                        <a:lnTo>
                          <a:pt x="314" y="2128"/>
                        </a:lnTo>
                        <a:lnTo>
                          <a:pt x="399" y="2114"/>
                        </a:lnTo>
                        <a:lnTo>
                          <a:pt x="491" y="2080"/>
                        </a:lnTo>
                        <a:lnTo>
                          <a:pt x="576" y="2038"/>
                        </a:lnTo>
                        <a:lnTo>
                          <a:pt x="637" y="1987"/>
                        </a:lnTo>
                        <a:lnTo>
                          <a:pt x="714" y="1910"/>
                        </a:lnTo>
                        <a:lnTo>
                          <a:pt x="783" y="1818"/>
                        </a:lnTo>
                        <a:lnTo>
                          <a:pt x="849" y="1693"/>
                        </a:lnTo>
                        <a:lnTo>
                          <a:pt x="916" y="1561"/>
                        </a:lnTo>
                        <a:lnTo>
                          <a:pt x="971" y="1441"/>
                        </a:lnTo>
                        <a:lnTo>
                          <a:pt x="1009" y="1338"/>
                        </a:lnTo>
                        <a:lnTo>
                          <a:pt x="1034" y="1256"/>
                        </a:lnTo>
                        <a:lnTo>
                          <a:pt x="1045" y="1184"/>
                        </a:lnTo>
                        <a:lnTo>
                          <a:pt x="1067" y="1366"/>
                        </a:lnTo>
                        <a:lnTo>
                          <a:pt x="1124" y="1571"/>
                        </a:lnTo>
                        <a:lnTo>
                          <a:pt x="1197" y="1799"/>
                        </a:lnTo>
                        <a:lnTo>
                          <a:pt x="1250" y="1905"/>
                        </a:lnTo>
                        <a:lnTo>
                          <a:pt x="1308" y="1996"/>
                        </a:lnTo>
                        <a:lnTo>
                          <a:pt x="1397" y="2082"/>
                        </a:lnTo>
                        <a:lnTo>
                          <a:pt x="1499" y="2128"/>
                        </a:lnTo>
                        <a:lnTo>
                          <a:pt x="1584" y="2136"/>
                        </a:lnTo>
                        <a:lnTo>
                          <a:pt x="1669" y="2120"/>
                        </a:lnTo>
                        <a:lnTo>
                          <a:pt x="1735" y="2072"/>
                        </a:lnTo>
                        <a:lnTo>
                          <a:pt x="1810" y="1977"/>
                        </a:lnTo>
                        <a:lnTo>
                          <a:pt x="1873" y="1845"/>
                        </a:lnTo>
                        <a:lnTo>
                          <a:pt x="1953" y="1633"/>
                        </a:lnTo>
                        <a:lnTo>
                          <a:pt x="2024" y="1424"/>
                        </a:lnTo>
                        <a:lnTo>
                          <a:pt x="2064" y="1216"/>
                        </a:lnTo>
                        <a:lnTo>
                          <a:pt x="2086" y="1408"/>
                        </a:lnTo>
                        <a:lnTo>
                          <a:pt x="2139" y="1594"/>
                        </a:lnTo>
                        <a:lnTo>
                          <a:pt x="2188" y="1738"/>
                        </a:lnTo>
                        <a:lnTo>
                          <a:pt x="2242" y="1863"/>
                        </a:lnTo>
                        <a:lnTo>
                          <a:pt x="2309" y="1969"/>
                        </a:lnTo>
                        <a:lnTo>
                          <a:pt x="2367" y="2051"/>
                        </a:lnTo>
                        <a:lnTo>
                          <a:pt x="2450" y="2105"/>
                        </a:lnTo>
                        <a:lnTo>
                          <a:pt x="2561" y="2124"/>
                        </a:lnTo>
                        <a:lnTo>
                          <a:pt x="2674" y="2114"/>
                        </a:lnTo>
                        <a:lnTo>
                          <a:pt x="2771" y="2080"/>
                        </a:lnTo>
                        <a:lnTo>
                          <a:pt x="2855" y="2025"/>
                        </a:lnTo>
                        <a:lnTo>
                          <a:pt x="2940" y="1944"/>
                        </a:lnTo>
                        <a:lnTo>
                          <a:pt x="3025" y="1829"/>
                        </a:lnTo>
                        <a:lnTo>
                          <a:pt x="3104" y="1709"/>
                        </a:lnTo>
                        <a:lnTo>
                          <a:pt x="3172" y="1592"/>
                        </a:lnTo>
                        <a:lnTo>
                          <a:pt x="3229" y="1485"/>
                        </a:lnTo>
                        <a:lnTo>
                          <a:pt x="3269" y="1382"/>
                        </a:lnTo>
                        <a:lnTo>
                          <a:pt x="3305" y="1250"/>
                        </a:lnTo>
                        <a:lnTo>
                          <a:pt x="3362" y="1386"/>
                        </a:lnTo>
                        <a:lnTo>
                          <a:pt x="3420" y="1527"/>
                        </a:lnTo>
                        <a:lnTo>
                          <a:pt x="3493" y="1662"/>
                        </a:lnTo>
                        <a:lnTo>
                          <a:pt x="3546" y="1764"/>
                        </a:lnTo>
                        <a:lnTo>
                          <a:pt x="3627" y="1874"/>
                        </a:lnTo>
                        <a:lnTo>
                          <a:pt x="3724" y="1976"/>
                        </a:lnTo>
                        <a:lnTo>
                          <a:pt x="3831" y="2057"/>
                        </a:lnTo>
                        <a:lnTo>
                          <a:pt x="3956" y="2104"/>
                        </a:lnTo>
                        <a:lnTo>
                          <a:pt x="4093" y="2128"/>
                        </a:lnTo>
                        <a:lnTo>
                          <a:pt x="4196" y="2095"/>
                        </a:lnTo>
                        <a:lnTo>
                          <a:pt x="4280" y="2034"/>
                        </a:lnTo>
                        <a:lnTo>
                          <a:pt x="4362" y="1915"/>
                        </a:lnTo>
                        <a:lnTo>
                          <a:pt x="4436" y="1789"/>
                        </a:lnTo>
                        <a:lnTo>
                          <a:pt x="4489" y="1648"/>
                        </a:lnTo>
                        <a:lnTo>
                          <a:pt x="4543" y="1481"/>
                        </a:lnTo>
                        <a:lnTo>
                          <a:pt x="4584" y="1333"/>
                        </a:lnTo>
                        <a:lnTo>
                          <a:pt x="4605" y="1203"/>
                        </a:lnTo>
                        <a:lnTo>
                          <a:pt x="4613" y="1052"/>
                        </a:lnTo>
                        <a:lnTo>
                          <a:pt x="4595" y="939"/>
                        </a:lnTo>
                        <a:lnTo>
                          <a:pt x="4502" y="792"/>
                        </a:lnTo>
                        <a:lnTo>
                          <a:pt x="4369" y="656"/>
                        </a:lnTo>
                        <a:lnTo>
                          <a:pt x="4196" y="518"/>
                        </a:lnTo>
                        <a:lnTo>
                          <a:pt x="4071" y="428"/>
                        </a:lnTo>
                        <a:lnTo>
                          <a:pt x="4204" y="428"/>
                        </a:lnTo>
                        <a:lnTo>
                          <a:pt x="4121" y="344"/>
                        </a:lnTo>
                        <a:lnTo>
                          <a:pt x="3986" y="262"/>
                        </a:lnTo>
                        <a:lnTo>
                          <a:pt x="3815" y="188"/>
                        </a:lnTo>
                        <a:lnTo>
                          <a:pt x="3639" y="126"/>
                        </a:lnTo>
                        <a:lnTo>
                          <a:pt x="3472" y="79"/>
                        </a:lnTo>
                        <a:lnTo>
                          <a:pt x="3296" y="42"/>
                        </a:lnTo>
                        <a:lnTo>
                          <a:pt x="3124" y="13"/>
                        </a:lnTo>
                        <a:lnTo>
                          <a:pt x="2908" y="0"/>
                        </a:lnTo>
                        <a:lnTo>
                          <a:pt x="2718" y="0"/>
                        </a:lnTo>
                        <a:lnTo>
                          <a:pt x="2544" y="8"/>
                        </a:lnTo>
                        <a:lnTo>
                          <a:pt x="2424" y="42"/>
                        </a:lnTo>
                        <a:lnTo>
                          <a:pt x="2317" y="94"/>
                        </a:lnTo>
                        <a:lnTo>
                          <a:pt x="2224" y="164"/>
                        </a:lnTo>
                        <a:lnTo>
                          <a:pt x="2131" y="249"/>
                        </a:lnTo>
                        <a:lnTo>
                          <a:pt x="2077" y="325"/>
                        </a:lnTo>
                        <a:lnTo>
                          <a:pt x="2157" y="325"/>
                        </a:lnTo>
                        <a:lnTo>
                          <a:pt x="2099" y="386"/>
                        </a:lnTo>
                        <a:lnTo>
                          <a:pt x="2042" y="466"/>
                        </a:lnTo>
                        <a:lnTo>
                          <a:pt x="1980" y="561"/>
                        </a:lnTo>
                        <a:lnTo>
                          <a:pt x="1917" y="665"/>
                        </a:lnTo>
                        <a:lnTo>
                          <a:pt x="1863" y="788"/>
                        </a:lnTo>
                        <a:lnTo>
                          <a:pt x="1820" y="948"/>
                        </a:lnTo>
                        <a:lnTo>
                          <a:pt x="1774" y="784"/>
                        </a:lnTo>
                        <a:lnTo>
                          <a:pt x="1726" y="665"/>
                        </a:lnTo>
                        <a:lnTo>
                          <a:pt x="1663" y="534"/>
                        </a:lnTo>
                        <a:lnTo>
                          <a:pt x="1602" y="424"/>
                        </a:lnTo>
                        <a:lnTo>
                          <a:pt x="1516" y="315"/>
                        </a:lnTo>
                        <a:lnTo>
                          <a:pt x="1744" y="315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6980040" y="4294080"/>
                    <a:ext cx="165600" cy="144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54" name=""/>
                  <p:cNvGrpSpPr/>
                  <p:nvPr/>
                </p:nvGrpSpPr>
                <p:grpSpPr>
                  <a:xfrm>
                    <a:off x="6936480" y="4187520"/>
                    <a:ext cx="809640" cy="56880"/>
                    <a:chOff x="6936480" y="4187520"/>
                    <a:chExt cx="809640" cy="56880"/>
                  </a:xfrm>
                </p:grpSpPr>
                <p:sp>
                  <p:nvSpPr>
                    <p:cNvPr id="1455" name=""/>
                    <p:cNvSpPr/>
                    <p:nvPr/>
                  </p:nvSpPr>
                  <p:spPr>
                    <a:xfrm>
                      <a:off x="6936480" y="4187520"/>
                      <a:ext cx="302760" cy="720"/>
                    </a:xfrm>
                    <a:prstGeom prst="line">
                      <a:avLst/>
                    </a:prstGeom>
                    <a:ln w="792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"/>
                    <p:cNvSpPr/>
                    <p:nvPr/>
                  </p:nvSpPr>
                  <p:spPr>
                    <a:xfrm>
                      <a:off x="6953760" y="4243680"/>
                      <a:ext cx="242280" cy="720"/>
                    </a:xfrm>
                    <a:prstGeom prst="line">
                      <a:avLst/>
                    </a:prstGeom>
                    <a:ln w="792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"/>
                    <p:cNvSpPr/>
                    <p:nvPr/>
                  </p:nvSpPr>
                  <p:spPr>
                    <a:xfrm>
                      <a:off x="7451640" y="4187520"/>
                      <a:ext cx="294480" cy="720"/>
                    </a:xfrm>
                    <a:prstGeom prst="line">
                      <a:avLst/>
                    </a:prstGeom>
                    <a:ln w="792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"/>
                    <p:cNvSpPr/>
                    <p:nvPr/>
                  </p:nvSpPr>
                  <p:spPr>
                    <a:xfrm>
                      <a:off x="7481880" y="4243680"/>
                      <a:ext cx="244080" cy="720"/>
                    </a:xfrm>
                    <a:prstGeom prst="line">
                      <a:avLst/>
                    </a:prstGeom>
                    <a:ln w="792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9" name=""/>
                  <p:cNvSpPr/>
                  <p:nvPr/>
                </p:nvSpPr>
                <p:spPr>
                  <a:xfrm>
                    <a:off x="7844040" y="3893040"/>
                    <a:ext cx="54612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7851240" y="3966120"/>
                    <a:ext cx="516240" cy="396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7873560" y="4051440"/>
                    <a:ext cx="46620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7898400" y="4122000"/>
                    <a:ext cx="406440" cy="216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3" name=""/>
                  <p:cNvGrpSpPr/>
                  <p:nvPr/>
                </p:nvGrpSpPr>
                <p:grpSpPr>
                  <a:xfrm>
                    <a:off x="6952320" y="3165480"/>
                    <a:ext cx="2036160" cy="1173600"/>
                    <a:chOff x="6952320" y="3165480"/>
                    <a:chExt cx="2036160" cy="1173600"/>
                  </a:xfrm>
                </p:grpSpPr>
                <p:sp>
                  <p:nvSpPr>
                    <p:cNvPr id="1464" name=""/>
                    <p:cNvSpPr/>
                    <p:nvPr/>
                  </p:nvSpPr>
                  <p:spPr>
                    <a:xfrm>
                      <a:off x="6952320" y="3177720"/>
                      <a:ext cx="325080" cy="114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2" h="2072">
                          <a:moveTo>
                            <a:pt x="712" y="0"/>
                          </a:moveTo>
                          <a:lnTo>
                            <a:pt x="622" y="52"/>
                          </a:lnTo>
                          <a:lnTo>
                            <a:pt x="494" y="141"/>
                          </a:lnTo>
                          <a:lnTo>
                            <a:pt x="387" y="241"/>
                          </a:lnTo>
                          <a:lnTo>
                            <a:pt x="297" y="355"/>
                          </a:lnTo>
                          <a:lnTo>
                            <a:pt x="212" y="485"/>
                          </a:lnTo>
                          <a:lnTo>
                            <a:pt x="125" y="629"/>
                          </a:lnTo>
                          <a:lnTo>
                            <a:pt x="66" y="757"/>
                          </a:lnTo>
                          <a:lnTo>
                            <a:pt x="14" y="893"/>
                          </a:lnTo>
                          <a:lnTo>
                            <a:pt x="0" y="1015"/>
                          </a:lnTo>
                          <a:lnTo>
                            <a:pt x="0" y="1152"/>
                          </a:lnTo>
                          <a:lnTo>
                            <a:pt x="4" y="1280"/>
                          </a:lnTo>
                          <a:lnTo>
                            <a:pt x="14" y="1426"/>
                          </a:lnTo>
                          <a:lnTo>
                            <a:pt x="26" y="1576"/>
                          </a:lnTo>
                          <a:lnTo>
                            <a:pt x="40" y="1711"/>
                          </a:lnTo>
                          <a:lnTo>
                            <a:pt x="48" y="1827"/>
                          </a:lnTo>
                          <a:lnTo>
                            <a:pt x="66" y="1926"/>
                          </a:lnTo>
                          <a:lnTo>
                            <a:pt x="111" y="2072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99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5" name=""/>
                    <p:cNvSpPr/>
                    <p:nvPr/>
                  </p:nvSpPr>
                  <p:spPr>
                    <a:xfrm>
                      <a:off x="8327160" y="3173040"/>
                      <a:ext cx="439920" cy="116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3" h="2101">
                          <a:moveTo>
                            <a:pt x="0" y="0"/>
                          </a:moveTo>
                          <a:lnTo>
                            <a:pt x="156" y="89"/>
                          </a:lnTo>
                          <a:lnTo>
                            <a:pt x="263" y="174"/>
                          </a:lnTo>
                          <a:lnTo>
                            <a:pt x="362" y="258"/>
                          </a:lnTo>
                          <a:lnTo>
                            <a:pt x="447" y="367"/>
                          </a:lnTo>
                          <a:lnTo>
                            <a:pt x="553" y="489"/>
                          </a:lnTo>
                          <a:lnTo>
                            <a:pt x="673" y="642"/>
                          </a:lnTo>
                          <a:lnTo>
                            <a:pt x="766" y="784"/>
                          </a:lnTo>
                          <a:lnTo>
                            <a:pt x="816" y="910"/>
                          </a:lnTo>
                          <a:lnTo>
                            <a:pt x="828" y="1034"/>
                          </a:lnTo>
                          <a:lnTo>
                            <a:pt x="824" y="1166"/>
                          </a:lnTo>
                          <a:lnTo>
                            <a:pt x="834" y="1311"/>
                          </a:lnTo>
                          <a:lnTo>
                            <a:pt x="846" y="1448"/>
                          </a:lnTo>
                          <a:lnTo>
                            <a:pt x="856" y="1571"/>
                          </a:lnTo>
                          <a:lnTo>
                            <a:pt x="873" y="1721"/>
                          </a:lnTo>
                          <a:lnTo>
                            <a:pt x="887" y="1848"/>
                          </a:lnTo>
                          <a:lnTo>
                            <a:pt x="917" y="1985"/>
                          </a:lnTo>
                          <a:lnTo>
                            <a:pt x="963" y="2101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99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"/>
                    <p:cNvSpPr/>
                    <p:nvPr/>
                  </p:nvSpPr>
                  <p:spPr>
                    <a:xfrm>
                      <a:off x="7966440" y="3204000"/>
                      <a:ext cx="457560" cy="1080"/>
                    </a:xfrm>
                    <a:prstGeom prst="line">
                      <a:avLst/>
                    </a:prstGeom>
                    <a:ln w="792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67" name=""/>
                    <p:cNvGrpSpPr/>
                    <p:nvPr/>
                  </p:nvGrpSpPr>
                  <p:grpSpPr>
                    <a:xfrm>
                      <a:off x="8259840" y="3165480"/>
                      <a:ext cx="728640" cy="1173600"/>
                      <a:chOff x="8259840" y="3165480"/>
                      <a:chExt cx="728640" cy="1173600"/>
                    </a:xfrm>
                  </p:grpSpPr>
                  <p:sp>
                    <p:nvSpPr>
                      <p:cNvPr id="1468" name=""/>
                      <p:cNvSpPr/>
                      <p:nvPr/>
                    </p:nvSpPr>
                    <p:spPr>
                      <a:xfrm>
                        <a:off x="8259840" y="3165480"/>
                        <a:ext cx="492120" cy="117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8" h="2124">
                            <a:moveTo>
                              <a:pt x="0" y="0"/>
                            </a:moveTo>
                            <a:lnTo>
                              <a:pt x="133" y="90"/>
                            </a:lnTo>
                            <a:lnTo>
                              <a:pt x="253" y="189"/>
                            </a:lnTo>
                            <a:lnTo>
                              <a:pt x="347" y="273"/>
                            </a:lnTo>
                            <a:lnTo>
                              <a:pt x="444" y="390"/>
                            </a:lnTo>
                            <a:lnTo>
                              <a:pt x="535" y="518"/>
                            </a:lnTo>
                            <a:lnTo>
                              <a:pt x="615" y="648"/>
                            </a:lnTo>
                            <a:lnTo>
                              <a:pt x="673" y="788"/>
                            </a:lnTo>
                            <a:lnTo>
                              <a:pt x="709" y="921"/>
                            </a:lnTo>
                            <a:lnTo>
                              <a:pt x="721" y="1044"/>
                            </a:lnTo>
                            <a:lnTo>
                              <a:pt x="727" y="1180"/>
                            </a:lnTo>
                            <a:lnTo>
                              <a:pt x="749" y="1317"/>
                            </a:lnTo>
                            <a:lnTo>
                              <a:pt x="770" y="1449"/>
                            </a:lnTo>
                            <a:lnTo>
                              <a:pt x="802" y="1581"/>
                            </a:lnTo>
                            <a:lnTo>
                              <a:pt x="842" y="1735"/>
                            </a:lnTo>
                            <a:lnTo>
                              <a:pt x="891" y="1850"/>
                            </a:lnTo>
                            <a:lnTo>
                              <a:pt x="971" y="1982"/>
                            </a:lnTo>
                            <a:lnTo>
                              <a:pt x="1078" y="2124"/>
                            </a:lnTo>
                          </a:path>
                        </a:pathLst>
                      </a:custGeom>
                      <a:noFill/>
                      <a:ln w="792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69" name=""/>
                      <p:cNvSpPr/>
                      <p:nvPr/>
                    </p:nvSpPr>
                    <p:spPr>
                      <a:xfrm>
                        <a:off x="8294400" y="3173040"/>
                        <a:ext cx="469440" cy="116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9" h="2110">
                            <a:moveTo>
                              <a:pt x="0" y="0"/>
                            </a:moveTo>
                            <a:lnTo>
                              <a:pt x="157" y="99"/>
                            </a:lnTo>
                            <a:lnTo>
                              <a:pt x="276" y="187"/>
                            </a:lnTo>
                            <a:lnTo>
                              <a:pt x="365" y="273"/>
                            </a:lnTo>
                            <a:lnTo>
                              <a:pt x="447" y="372"/>
                            </a:lnTo>
                            <a:lnTo>
                              <a:pt x="535" y="489"/>
                            </a:lnTo>
                            <a:lnTo>
                              <a:pt x="642" y="642"/>
                            </a:lnTo>
                            <a:lnTo>
                              <a:pt x="717" y="778"/>
                            </a:lnTo>
                            <a:lnTo>
                              <a:pt x="767" y="921"/>
                            </a:lnTo>
                            <a:lnTo>
                              <a:pt x="771" y="1047"/>
                            </a:lnTo>
                            <a:lnTo>
                              <a:pt x="776" y="1166"/>
                            </a:lnTo>
                            <a:lnTo>
                              <a:pt x="789" y="1284"/>
                            </a:lnTo>
                            <a:lnTo>
                              <a:pt x="802" y="1420"/>
                            </a:lnTo>
                            <a:lnTo>
                              <a:pt x="828" y="1575"/>
                            </a:lnTo>
                            <a:lnTo>
                              <a:pt x="856" y="1711"/>
                            </a:lnTo>
                            <a:lnTo>
                              <a:pt x="882" y="1825"/>
                            </a:lnTo>
                            <a:lnTo>
                              <a:pt x="927" y="1943"/>
                            </a:lnTo>
                            <a:lnTo>
                              <a:pt x="1029" y="2110"/>
                            </a:lnTo>
                          </a:path>
                        </a:pathLst>
                      </a:custGeom>
                      <a:noFill/>
                      <a:ln w="792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0" name=""/>
                      <p:cNvSpPr/>
                      <p:nvPr/>
                    </p:nvSpPr>
                    <p:spPr>
                      <a:xfrm>
                        <a:off x="8367480" y="3179520"/>
                        <a:ext cx="404640" cy="115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6" h="2092">
                            <a:moveTo>
                              <a:pt x="0" y="0"/>
                            </a:moveTo>
                            <a:lnTo>
                              <a:pt x="125" y="71"/>
                            </a:lnTo>
                            <a:lnTo>
                              <a:pt x="218" y="136"/>
                            </a:lnTo>
                            <a:lnTo>
                              <a:pt x="317" y="226"/>
                            </a:lnTo>
                            <a:lnTo>
                              <a:pt x="432" y="339"/>
                            </a:lnTo>
                            <a:lnTo>
                              <a:pt x="567" y="486"/>
                            </a:lnTo>
                            <a:lnTo>
                              <a:pt x="696" y="624"/>
                            </a:lnTo>
                            <a:lnTo>
                              <a:pt x="793" y="760"/>
                            </a:lnTo>
                            <a:lnTo>
                              <a:pt x="856" y="901"/>
                            </a:lnTo>
                            <a:lnTo>
                              <a:pt x="864" y="1025"/>
                            </a:lnTo>
                            <a:lnTo>
                              <a:pt x="874" y="1157"/>
                            </a:lnTo>
                            <a:lnTo>
                              <a:pt x="874" y="1283"/>
                            </a:lnTo>
                            <a:lnTo>
                              <a:pt x="874" y="1430"/>
                            </a:lnTo>
                            <a:lnTo>
                              <a:pt x="874" y="1566"/>
                            </a:lnTo>
                            <a:lnTo>
                              <a:pt x="868" y="1706"/>
                            </a:lnTo>
                            <a:lnTo>
                              <a:pt x="868" y="1826"/>
                            </a:lnTo>
                            <a:lnTo>
                              <a:pt x="882" y="1972"/>
                            </a:lnTo>
                            <a:lnTo>
                              <a:pt x="886" y="2092"/>
                            </a:lnTo>
                          </a:path>
                        </a:pathLst>
                      </a:custGeom>
                      <a:noFill/>
                      <a:ln w="792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1" name=""/>
                      <p:cNvSpPr/>
                      <p:nvPr/>
                    </p:nvSpPr>
                    <p:spPr>
                      <a:xfrm>
                        <a:off x="8419320" y="3891960"/>
                        <a:ext cx="569160" cy="720"/>
                      </a:xfrm>
                      <a:prstGeom prst="line">
                        <a:avLst/>
                      </a:prstGeom>
                      <a:ln w="792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2" name=""/>
                      <p:cNvSpPr/>
                      <p:nvPr/>
                    </p:nvSpPr>
                    <p:spPr>
                      <a:xfrm>
                        <a:off x="8440560" y="3966840"/>
                        <a:ext cx="528840" cy="720"/>
                      </a:xfrm>
                      <a:prstGeom prst="line">
                        <a:avLst/>
                      </a:prstGeom>
                      <a:ln w="792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3" name=""/>
                      <p:cNvSpPr/>
                      <p:nvPr/>
                    </p:nvSpPr>
                    <p:spPr>
                      <a:xfrm>
                        <a:off x="8473320" y="4047480"/>
                        <a:ext cx="471240" cy="1080"/>
                      </a:xfrm>
                      <a:prstGeom prst="line">
                        <a:avLst/>
                      </a:prstGeom>
                      <a:ln w="792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4" name=""/>
                      <p:cNvSpPr/>
                      <p:nvPr/>
                    </p:nvSpPr>
                    <p:spPr>
                      <a:xfrm>
                        <a:off x="8505360" y="4120560"/>
                        <a:ext cx="419040" cy="720"/>
                      </a:xfrm>
                      <a:prstGeom prst="line">
                        <a:avLst/>
                      </a:prstGeom>
                      <a:ln w="792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5" name=""/>
                      <p:cNvSpPr/>
                      <p:nvPr/>
                    </p:nvSpPr>
                    <p:spPr>
                      <a:xfrm>
                        <a:off x="8545680" y="4189680"/>
                        <a:ext cx="353160" cy="1080"/>
                      </a:xfrm>
                      <a:prstGeom prst="line">
                        <a:avLst/>
                      </a:prstGeom>
                      <a:ln w="792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6" name=""/>
                      <p:cNvSpPr/>
                      <p:nvPr/>
                    </p:nvSpPr>
                    <p:spPr>
                      <a:xfrm>
                        <a:off x="8587800" y="4247280"/>
                        <a:ext cx="281880" cy="720"/>
                      </a:xfrm>
                      <a:prstGeom prst="line">
                        <a:avLst/>
                      </a:prstGeom>
                      <a:ln w="792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7" name=""/>
                      <p:cNvSpPr/>
                      <p:nvPr/>
                    </p:nvSpPr>
                    <p:spPr>
                      <a:xfrm>
                        <a:off x="8640360" y="4296960"/>
                        <a:ext cx="195480" cy="1080"/>
                      </a:xfrm>
                      <a:prstGeom prst="line">
                        <a:avLst/>
                      </a:prstGeom>
                      <a:ln w="792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478" name=""/>
                  <p:cNvGrpSpPr/>
                  <p:nvPr/>
                </p:nvGrpSpPr>
                <p:grpSpPr>
                  <a:xfrm>
                    <a:off x="6992280" y="3201120"/>
                    <a:ext cx="1942920" cy="1140120"/>
                    <a:chOff x="6992280" y="3201120"/>
                    <a:chExt cx="1942920" cy="1140120"/>
                  </a:xfrm>
                </p:grpSpPr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8043480" y="3470400"/>
                      <a:ext cx="900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1">
                          <a:moveTo>
                            <a:pt x="20" y="1"/>
                          </a:moveTo>
                          <a:lnTo>
                            <a:pt x="20" y="20"/>
                          </a:lnTo>
                          <a:lnTo>
                            <a:pt x="13" y="21"/>
                          </a:lnTo>
                          <a:lnTo>
                            <a:pt x="0" y="4"/>
                          </a:lnTo>
                          <a:lnTo>
                            <a:pt x="8" y="0"/>
                          </a:lnTo>
                          <a:lnTo>
                            <a:pt x="20" y="1"/>
                          </a:lnTo>
                          <a:close/>
                        </a:path>
                      </a:pathLst>
                    </a:custGeom>
                    <a:solidFill>
                      <a:srgbClr val="ccffcc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8026200" y="3449520"/>
                      <a:ext cx="828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2">
                          <a:moveTo>
                            <a:pt x="18" y="0"/>
                          </a:moveTo>
                          <a:lnTo>
                            <a:pt x="0" y="6"/>
                          </a:lnTo>
                          <a:lnTo>
                            <a:pt x="3" y="32"/>
                          </a:lnTo>
                          <a:lnTo>
                            <a:pt x="15" y="29"/>
                          </a:lnTo>
                          <a:lnTo>
                            <a:pt x="18" y="0"/>
                          </a:lnTo>
                          <a:close/>
                        </a:path>
                      </a:pathLst>
                    </a:custGeom>
                    <a:solidFill>
                      <a:srgbClr val="ccffcc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81" name=""/>
                    <p:cNvGrpSpPr/>
                    <p:nvPr/>
                  </p:nvGrpSpPr>
                  <p:grpSpPr>
                    <a:xfrm>
                      <a:off x="6992280" y="3201120"/>
                      <a:ext cx="1942920" cy="1140120"/>
                      <a:chOff x="6992280" y="3201120"/>
                      <a:chExt cx="1942920" cy="1140120"/>
                    </a:xfrm>
                  </p:grpSpPr>
                  <p:grpSp>
                    <p:nvGrpSpPr>
                      <p:cNvPr id="1482" name=""/>
                      <p:cNvGrpSpPr/>
                      <p:nvPr/>
                    </p:nvGrpSpPr>
                    <p:grpSpPr>
                      <a:xfrm>
                        <a:off x="7855920" y="3203280"/>
                        <a:ext cx="1079280" cy="1133280"/>
                        <a:chOff x="7855920" y="3203280"/>
                        <a:chExt cx="1079280" cy="1133280"/>
                      </a:xfrm>
                    </p:grpSpPr>
                    <p:grpSp>
                      <p:nvGrpSpPr>
                        <p:cNvPr id="1483" name=""/>
                        <p:cNvGrpSpPr/>
                        <p:nvPr/>
                      </p:nvGrpSpPr>
                      <p:grpSpPr>
                        <a:xfrm>
                          <a:off x="8598960" y="3768480"/>
                          <a:ext cx="336240" cy="568080"/>
                          <a:chOff x="8598960" y="3768480"/>
                          <a:chExt cx="336240" cy="568080"/>
                        </a:xfrm>
                      </p:grpSpPr>
                      <p:sp>
                        <p:nvSpPr>
                          <p:cNvPr id="1484" name=""/>
                          <p:cNvSpPr/>
                          <p:nvPr/>
                        </p:nvSpPr>
                        <p:spPr>
                          <a:xfrm>
                            <a:off x="8598960" y="4229640"/>
                            <a:ext cx="240120" cy="106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25" h="194">
                                <a:moveTo>
                                  <a:pt x="49" y="7"/>
                                </a:moveTo>
                                <a:lnTo>
                                  <a:pt x="103" y="7"/>
                                </a:lnTo>
                                <a:lnTo>
                                  <a:pt x="121" y="9"/>
                                </a:lnTo>
                                <a:lnTo>
                                  <a:pt x="141" y="11"/>
                                </a:lnTo>
                                <a:lnTo>
                                  <a:pt x="149" y="16"/>
                                </a:lnTo>
                                <a:lnTo>
                                  <a:pt x="158" y="10"/>
                                </a:lnTo>
                                <a:lnTo>
                                  <a:pt x="169" y="6"/>
                                </a:lnTo>
                                <a:lnTo>
                                  <a:pt x="177" y="3"/>
                                </a:lnTo>
                                <a:lnTo>
                                  <a:pt x="189" y="1"/>
                                </a:lnTo>
                                <a:lnTo>
                                  <a:pt x="196" y="1"/>
                                </a:lnTo>
                                <a:lnTo>
                                  <a:pt x="202" y="1"/>
                                </a:lnTo>
                                <a:lnTo>
                                  <a:pt x="208" y="0"/>
                                </a:lnTo>
                                <a:lnTo>
                                  <a:pt x="221" y="10"/>
                                </a:lnTo>
                                <a:lnTo>
                                  <a:pt x="225" y="10"/>
                                </a:lnTo>
                                <a:lnTo>
                                  <a:pt x="229" y="16"/>
                                </a:lnTo>
                                <a:lnTo>
                                  <a:pt x="232" y="17"/>
                                </a:lnTo>
                                <a:lnTo>
                                  <a:pt x="243" y="16"/>
                                </a:lnTo>
                                <a:lnTo>
                                  <a:pt x="251" y="16"/>
                                </a:lnTo>
                                <a:lnTo>
                                  <a:pt x="261" y="16"/>
                                </a:lnTo>
                                <a:lnTo>
                                  <a:pt x="266" y="16"/>
                                </a:lnTo>
                                <a:lnTo>
                                  <a:pt x="274" y="16"/>
                                </a:lnTo>
                                <a:lnTo>
                                  <a:pt x="280" y="10"/>
                                </a:lnTo>
                                <a:lnTo>
                                  <a:pt x="285" y="7"/>
                                </a:lnTo>
                                <a:lnTo>
                                  <a:pt x="293" y="6"/>
                                </a:lnTo>
                                <a:lnTo>
                                  <a:pt x="296" y="6"/>
                                </a:lnTo>
                                <a:lnTo>
                                  <a:pt x="303" y="4"/>
                                </a:lnTo>
                                <a:lnTo>
                                  <a:pt x="314" y="7"/>
                                </a:lnTo>
                                <a:lnTo>
                                  <a:pt x="324" y="9"/>
                                </a:lnTo>
                                <a:lnTo>
                                  <a:pt x="335" y="10"/>
                                </a:lnTo>
                                <a:lnTo>
                                  <a:pt x="354" y="13"/>
                                </a:lnTo>
                                <a:lnTo>
                                  <a:pt x="377" y="20"/>
                                </a:lnTo>
                                <a:lnTo>
                                  <a:pt x="385" y="22"/>
                                </a:lnTo>
                                <a:lnTo>
                                  <a:pt x="396" y="25"/>
                                </a:lnTo>
                                <a:lnTo>
                                  <a:pt x="407" y="26"/>
                                </a:lnTo>
                                <a:lnTo>
                                  <a:pt x="416" y="30"/>
                                </a:lnTo>
                                <a:lnTo>
                                  <a:pt x="421" y="32"/>
                                </a:lnTo>
                                <a:lnTo>
                                  <a:pt x="433" y="29"/>
                                </a:lnTo>
                                <a:lnTo>
                                  <a:pt x="439" y="25"/>
                                </a:lnTo>
                                <a:lnTo>
                                  <a:pt x="448" y="25"/>
                                </a:lnTo>
                                <a:lnTo>
                                  <a:pt x="459" y="29"/>
                                </a:lnTo>
                                <a:lnTo>
                                  <a:pt x="464" y="30"/>
                                </a:lnTo>
                                <a:lnTo>
                                  <a:pt x="474" y="32"/>
                                </a:lnTo>
                                <a:lnTo>
                                  <a:pt x="479" y="35"/>
                                </a:lnTo>
                                <a:lnTo>
                                  <a:pt x="485" y="38"/>
                                </a:lnTo>
                                <a:lnTo>
                                  <a:pt x="495" y="43"/>
                                </a:lnTo>
                                <a:lnTo>
                                  <a:pt x="502" y="45"/>
                                </a:lnTo>
                                <a:lnTo>
                                  <a:pt x="507" y="49"/>
                                </a:lnTo>
                                <a:lnTo>
                                  <a:pt x="514" y="54"/>
                                </a:lnTo>
                                <a:lnTo>
                                  <a:pt x="518" y="56"/>
                                </a:lnTo>
                                <a:lnTo>
                                  <a:pt x="522" y="62"/>
                                </a:lnTo>
                                <a:lnTo>
                                  <a:pt x="522" y="67"/>
                                </a:lnTo>
                                <a:lnTo>
                                  <a:pt x="525" y="71"/>
                                </a:lnTo>
                                <a:lnTo>
                                  <a:pt x="518" y="77"/>
                                </a:lnTo>
                                <a:lnTo>
                                  <a:pt x="509" y="80"/>
                                </a:lnTo>
                                <a:lnTo>
                                  <a:pt x="499" y="88"/>
                                </a:lnTo>
                                <a:lnTo>
                                  <a:pt x="487" y="90"/>
                                </a:lnTo>
                                <a:lnTo>
                                  <a:pt x="479" y="97"/>
                                </a:lnTo>
                                <a:lnTo>
                                  <a:pt x="474" y="103"/>
                                </a:lnTo>
                                <a:lnTo>
                                  <a:pt x="470" y="107"/>
                                </a:lnTo>
                                <a:lnTo>
                                  <a:pt x="479" y="112"/>
                                </a:lnTo>
                                <a:lnTo>
                                  <a:pt x="479" y="116"/>
                                </a:lnTo>
                                <a:lnTo>
                                  <a:pt x="469" y="122"/>
                                </a:lnTo>
                                <a:lnTo>
                                  <a:pt x="462" y="128"/>
                                </a:lnTo>
                                <a:lnTo>
                                  <a:pt x="457" y="133"/>
                                </a:lnTo>
                                <a:lnTo>
                                  <a:pt x="451" y="135"/>
                                </a:lnTo>
                                <a:lnTo>
                                  <a:pt x="447" y="135"/>
                                </a:lnTo>
                                <a:lnTo>
                                  <a:pt x="436" y="138"/>
                                </a:lnTo>
                                <a:lnTo>
                                  <a:pt x="432" y="146"/>
                                </a:lnTo>
                                <a:lnTo>
                                  <a:pt x="425" y="152"/>
                                </a:lnTo>
                                <a:lnTo>
                                  <a:pt x="461" y="158"/>
                                </a:lnTo>
                                <a:lnTo>
                                  <a:pt x="457" y="164"/>
                                </a:lnTo>
                                <a:lnTo>
                                  <a:pt x="440" y="168"/>
                                </a:lnTo>
                                <a:lnTo>
                                  <a:pt x="417" y="165"/>
                                </a:lnTo>
                                <a:lnTo>
                                  <a:pt x="398" y="168"/>
                                </a:lnTo>
                                <a:lnTo>
                                  <a:pt x="380" y="174"/>
                                </a:lnTo>
                                <a:lnTo>
                                  <a:pt x="372" y="181"/>
                                </a:lnTo>
                                <a:lnTo>
                                  <a:pt x="369" y="193"/>
                                </a:lnTo>
                                <a:lnTo>
                                  <a:pt x="351" y="194"/>
                                </a:lnTo>
                                <a:lnTo>
                                  <a:pt x="333" y="192"/>
                                </a:lnTo>
                                <a:lnTo>
                                  <a:pt x="306" y="189"/>
                                </a:lnTo>
                                <a:lnTo>
                                  <a:pt x="293" y="184"/>
                                </a:lnTo>
                                <a:lnTo>
                                  <a:pt x="273" y="180"/>
                                </a:lnTo>
                                <a:lnTo>
                                  <a:pt x="258" y="177"/>
                                </a:lnTo>
                                <a:lnTo>
                                  <a:pt x="241" y="174"/>
                                </a:lnTo>
                                <a:lnTo>
                                  <a:pt x="221" y="171"/>
                                </a:lnTo>
                                <a:lnTo>
                                  <a:pt x="207" y="164"/>
                                </a:lnTo>
                                <a:lnTo>
                                  <a:pt x="195" y="161"/>
                                </a:lnTo>
                                <a:lnTo>
                                  <a:pt x="191" y="160"/>
                                </a:lnTo>
                                <a:lnTo>
                                  <a:pt x="169" y="154"/>
                                </a:lnTo>
                                <a:lnTo>
                                  <a:pt x="147" y="144"/>
                                </a:lnTo>
                                <a:lnTo>
                                  <a:pt x="128" y="136"/>
                                </a:lnTo>
                                <a:lnTo>
                                  <a:pt x="118" y="131"/>
                                </a:lnTo>
                                <a:lnTo>
                                  <a:pt x="104" y="125"/>
                                </a:lnTo>
                                <a:lnTo>
                                  <a:pt x="93" y="119"/>
                                </a:lnTo>
                                <a:lnTo>
                                  <a:pt x="81" y="113"/>
                                </a:lnTo>
                                <a:lnTo>
                                  <a:pt x="70" y="106"/>
                                </a:lnTo>
                                <a:lnTo>
                                  <a:pt x="60" y="97"/>
                                </a:lnTo>
                                <a:lnTo>
                                  <a:pt x="49" y="88"/>
                                </a:lnTo>
                                <a:lnTo>
                                  <a:pt x="38" y="81"/>
                                </a:lnTo>
                                <a:lnTo>
                                  <a:pt x="25" y="70"/>
                                </a:lnTo>
                                <a:lnTo>
                                  <a:pt x="14" y="62"/>
                                </a:lnTo>
                                <a:lnTo>
                                  <a:pt x="4" y="55"/>
                                </a:lnTo>
                                <a:lnTo>
                                  <a:pt x="0" y="48"/>
                                </a:lnTo>
                                <a:lnTo>
                                  <a:pt x="15" y="43"/>
                                </a:lnTo>
                                <a:lnTo>
                                  <a:pt x="7" y="27"/>
                                </a:lnTo>
                                <a:lnTo>
                                  <a:pt x="27" y="22"/>
                                </a:lnTo>
                                <a:lnTo>
                                  <a:pt x="19" y="16"/>
                                </a:lnTo>
                                <a:lnTo>
                                  <a:pt x="41" y="13"/>
                                </a:lnTo>
                                <a:lnTo>
                                  <a:pt x="49" y="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485" name=""/>
                          <p:cNvGrpSpPr/>
                          <p:nvPr/>
                        </p:nvGrpSpPr>
                        <p:grpSpPr>
                          <a:xfrm>
                            <a:off x="8776800" y="3996720"/>
                            <a:ext cx="158400" cy="95400"/>
                            <a:chOff x="8776800" y="3996720"/>
                            <a:chExt cx="158400" cy="95400"/>
                          </a:xfrm>
                        </p:grpSpPr>
                        <p:sp>
                          <p:nvSpPr>
                            <p:cNvPr id="1486" name=""/>
                            <p:cNvSpPr/>
                            <p:nvPr/>
                          </p:nvSpPr>
                          <p:spPr>
                            <a:xfrm>
                              <a:off x="8910000" y="3996720"/>
                              <a:ext cx="25200" cy="58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5" h="108">
                                  <a:moveTo>
                                    <a:pt x="18" y="2"/>
                                  </a:moveTo>
                                  <a:lnTo>
                                    <a:pt x="23" y="0"/>
                                  </a:lnTo>
                                  <a:lnTo>
                                    <a:pt x="33" y="12"/>
                                  </a:lnTo>
                                  <a:lnTo>
                                    <a:pt x="31" y="45"/>
                                  </a:lnTo>
                                  <a:lnTo>
                                    <a:pt x="38" y="45"/>
                                  </a:lnTo>
                                  <a:lnTo>
                                    <a:pt x="40" y="50"/>
                                  </a:lnTo>
                                  <a:lnTo>
                                    <a:pt x="42" y="57"/>
                                  </a:lnTo>
                                  <a:lnTo>
                                    <a:pt x="44" y="61"/>
                                  </a:lnTo>
                                  <a:lnTo>
                                    <a:pt x="49" y="60"/>
                                  </a:lnTo>
                                  <a:lnTo>
                                    <a:pt x="53" y="53"/>
                                  </a:lnTo>
                                  <a:lnTo>
                                    <a:pt x="55" y="57"/>
                                  </a:lnTo>
                                  <a:lnTo>
                                    <a:pt x="52" y="63"/>
                                  </a:lnTo>
                                  <a:lnTo>
                                    <a:pt x="49" y="67"/>
                                  </a:lnTo>
                                  <a:lnTo>
                                    <a:pt x="48" y="76"/>
                                  </a:lnTo>
                                  <a:lnTo>
                                    <a:pt x="41" y="80"/>
                                  </a:lnTo>
                                  <a:lnTo>
                                    <a:pt x="37" y="82"/>
                                  </a:lnTo>
                                  <a:lnTo>
                                    <a:pt x="31" y="86"/>
                                  </a:lnTo>
                                  <a:lnTo>
                                    <a:pt x="30" y="90"/>
                                  </a:lnTo>
                                  <a:lnTo>
                                    <a:pt x="31" y="95"/>
                                  </a:lnTo>
                                  <a:lnTo>
                                    <a:pt x="33" y="102"/>
                                  </a:lnTo>
                                  <a:lnTo>
                                    <a:pt x="26" y="105"/>
                                  </a:lnTo>
                                  <a:lnTo>
                                    <a:pt x="22" y="106"/>
                                  </a:lnTo>
                                  <a:lnTo>
                                    <a:pt x="18" y="108"/>
                                  </a:lnTo>
                                  <a:lnTo>
                                    <a:pt x="15" y="106"/>
                                  </a:lnTo>
                                  <a:lnTo>
                                    <a:pt x="8" y="105"/>
                                  </a:lnTo>
                                  <a:lnTo>
                                    <a:pt x="5" y="102"/>
                                  </a:lnTo>
                                  <a:lnTo>
                                    <a:pt x="8" y="96"/>
                                  </a:lnTo>
                                  <a:lnTo>
                                    <a:pt x="14" y="95"/>
                                  </a:lnTo>
                                  <a:lnTo>
                                    <a:pt x="18" y="87"/>
                                  </a:lnTo>
                                  <a:lnTo>
                                    <a:pt x="18" y="84"/>
                                  </a:lnTo>
                                  <a:lnTo>
                                    <a:pt x="14" y="82"/>
                                  </a:lnTo>
                                  <a:lnTo>
                                    <a:pt x="8" y="77"/>
                                  </a:lnTo>
                                  <a:lnTo>
                                    <a:pt x="4" y="77"/>
                                  </a:lnTo>
                                  <a:lnTo>
                                    <a:pt x="1" y="76"/>
                                  </a:lnTo>
                                  <a:lnTo>
                                    <a:pt x="0" y="71"/>
                                  </a:lnTo>
                                  <a:lnTo>
                                    <a:pt x="1" y="69"/>
                                  </a:lnTo>
                                  <a:lnTo>
                                    <a:pt x="4" y="69"/>
                                  </a:lnTo>
                                  <a:lnTo>
                                    <a:pt x="8" y="67"/>
                                  </a:lnTo>
                                  <a:lnTo>
                                    <a:pt x="14" y="63"/>
                                  </a:lnTo>
                                  <a:lnTo>
                                    <a:pt x="16" y="61"/>
                                  </a:lnTo>
                                  <a:lnTo>
                                    <a:pt x="19" y="45"/>
                                  </a:lnTo>
                                  <a:lnTo>
                                    <a:pt x="16" y="41"/>
                                  </a:lnTo>
                                  <a:lnTo>
                                    <a:pt x="12" y="38"/>
                                  </a:lnTo>
                                  <a:lnTo>
                                    <a:pt x="11" y="29"/>
                                  </a:lnTo>
                                  <a:lnTo>
                                    <a:pt x="12" y="21"/>
                                  </a:lnTo>
                                  <a:lnTo>
                                    <a:pt x="14" y="15"/>
                                  </a:lnTo>
                                  <a:lnTo>
                                    <a:pt x="18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792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520" bIns="115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87" name=""/>
                            <p:cNvSpPr/>
                            <p:nvPr/>
                          </p:nvSpPr>
                          <p:spPr>
                            <a:xfrm>
                              <a:off x="8862480" y="4042800"/>
                              <a:ext cx="45720" cy="49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2" h="92">
                                  <a:moveTo>
                                    <a:pt x="72" y="0"/>
                                  </a:moveTo>
                                  <a:lnTo>
                                    <a:pt x="84" y="0"/>
                                  </a:lnTo>
                                  <a:lnTo>
                                    <a:pt x="102" y="27"/>
                                  </a:lnTo>
                                  <a:lnTo>
                                    <a:pt x="83" y="47"/>
                                  </a:lnTo>
                                  <a:lnTo>
                                    <a:pt x="83" y="56"/>
                                  </a:lnTo>
                                  <a:lnTo>
                                    <a:pt x="79" y="59"/>
                                  </a:lnTo>
                                  <a:lnTo>
                                    <a:pt x="68" y="59"/>
                                  </a:lnTo>
                                  <a:lnTo>
                                    <a:pt x="54" y="70"/>
                                  </a:lnTo>
                                  <a:lnTo>
                                    <a:pt x="41" y="82"/>
                                  </a:lnTo>
                                  <a:lnTo>
                                    <a:pt x="33" y="92"/>
                                  </a:lnTo>
                                  <a:lnTo>
                                    <a:pt x="33" y="83"/>
                                  </a:lnTo>
                                  <a:lnTo>
                                    <a:pt x="18" y="85"/>
                                  </a:lnTo>
                                  <a:lnTo>
                                    <a:pt x="11" y="85"/>
                                  </a:lnTo>
                                  <a:lnTo>
                                    <a:pt x="0" y="85"/>
                                  </a:lnTo>
                                  <a:lnTo>
                                    <a:pt x="15" y="70"/>
                                  </a:lnTo>
                                  <a:lnTo>
                                    <a:pt x="21" y="63"/>
                                  </a:lnTo>
                                  <a:lnTo>
                                    <a:pt x="26" y="63"/>
                                  </a:lnTo>
                                  <a:lnTo>
                                    <a:pt x="37" y="51"/>
                                  </a:lnTo>
                                  <a:lnTo>
                                    <a:pt x="41" y="51"/>
                                  </a:lnTo>
                                  <a:lnTo>
                                    <a:pt x="41" y="50"/>
                                  </a:lnTo>
                                  <a:lnTo>
                                    <a:pt x="47" y="46"/>
                                  </a:lnTo>
                                  <a:lnTo>
                                    <a:pt x="54" y="46"/>
                                  </a:lnTo>
                                  <a:lnTo>
                                    <a:pt x="51" y="32"/>
                                  </a:lnTo>
                                  <a:lnTo>
                                    <a:pt x="52" y="32"/>
                                  </a:lnTo>
                                  <a:lnTo>
                                    <a:pt x="59" y="25"/>
                                  </a:lnTo>
                                  <a:lnTo>
                                    <a:pt x="62" y="31"/>
                                  </a:lnTo>
                                  <a:lnTo>
                                    <a:pt x="73" y="21"/>
                                  </a:lnTo>
                                  <a:lnTo>
                                    <a:pt x="7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792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20" bIns="25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88" name=""/>
                            <p:cNvSpPr/>
                            <p:nvPr/>
                          </p:nvSpPr>
                          <p:spPr>
                            <a:xfrm>
                              <a:off x="8776800" y="4046040"/>
                              <a:ext cx="18000" cy="26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8" h="50">
                                  <a:moveTo>
                                    <a:pt x="0" y="0"/>
                                  </a:moveTo>
                                  <a:lnTo>
                                    <a:pt x="8" y="0"/>
                                  </a:lnTo>
                                  <a:lnTo>
                                    <a:pt x="18" y="6"/>
                                  </a:lnTo>
                                  <a:lnTo>
                                    <a:pt x="38" y="6"/>
                                  </a:lnTo>
                                  <a:lnTo>
                                    <a:pt x="35" y="16"/>
                                  </a:lnTo>
                                  <a:lnTo>
                                    <a:pt x="38" y="25"/>
                                  </a:lnTo>
                                  <a:lnTo>
                                    <a:pt x="31" y="25"/>
                                  </a:lnTo>
                                  <a:lnTo>
                                    <a:pt x="30" y="26"/>
                                  </a:lnTo>
                                  <a:lnTo>
                                    <a:pt x="26" y="28"/>
                                  </a:lnTo>
                                  <a:lnTo>
                                    <a:pt x="30" y="50"/>
                                  </a:lnTo>
                                  <a:lnTo>
                                    <a:pt x="18" y="48"/>
                                  </a:lnTo>
                                  <a:lnTo>
                                    <a:pt x="7" y="41"/>
                                  </a:lnTo>
                                  <a:lnTo>
                                    <a:pt x="7" y="26"/>
                                  </a:lnTo>
                                  <a:lnTo>
                                    <a:pt x="7" y="21"/>
                                  </a:lnTo>
                                  <a:lnTo>
                                    <a:pt x="0" y="16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792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520" bIns="-205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489" name=""/>
                          <p:cNvSpPr/>
                          <p:nvPr/>
                        </p:nvSpPr>
                        <p:spPr>
                          <a:xfrm>
                            <a:off x="8808840" y="3768480"/>
                            <a:ext cx="29160" cy="28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1">
                                <a:moveTo>
                                  <a:pt x="11" y="19"/>
                                </a:moveTo>
                                <a:lnTo>
                                  <a:pt x="0" y="41"/>
                                </a:lnTo>
                                <a:lnTo>
                                  <a:pt x="4" y="49"/>
                                </a:lnTo>
                                <a:lnTo>
                                  <a:pt x="22" y="51"/>
                                </a:lnTo>
                                <a:lnTo>
                                  <a:pt x="37" y="51"/>
                                </a:lnTo>
                                <a:lnTo>
                                  <a:pt x="42" y="42"/>
                                </a:lnTo>
                                <a:lnTo>
                                  <a:pt x="46" y="33"/>
                                </a:lnTo>
                                <a:lnTo>
                                  <a:pt x="63" y="33"/>
                                </a:lnTo>
                                <a:lnTo>
                                  <a:pt x="60" y="20"/>
                                </a:lnTo>
                                <a:lnTo>
                                  <a:pt x="60" y="7"/>
                                </a:lnTo>
                                <a:lnTo>
                                  <a:pt x="44" y="0"/>
                                </a:lnTo>
                                <a:lnTo>
                                  <a:pt x="41" y="14"/>
                                </a:lnTo>
                                <a:lnTo>
                                  <a:pt x="52" y="23"/>
                                </a:lnTo>
                                <a:lnTo>
                                  <a:pt x="35" y="23"/>
                                </a:lnTo>
                                <a:lnTo>
                                  <a:pt x="30" y="29"/>
                                </a:lnTo>
                                <a:lnTo>
                                  <a:pt x="11" y="1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360" bIns="-18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90" name=""/>
                        <p:cNvGrpSpPr/>
                        <p:nvPr/>
                      </p:nvGrpSpPr>
                      <p:grpSpPr>
                        <a:xfrm>
                          <a:off x="8495640" y="3343320"/>
                          <a:ext cx="334800" cy="690840"/>
                          <a:chOff x="8495640" y="3343320"/>
                          <a:chExt cx="334800" cy="690840"/>
                        </a:xfrm>
                      </p:grpSpPr>
                      <p:grpSp>
                        <p:nvGrpSpPr>
                          <p:cNvPr id="1491" name=""/>
                          <p:cNvGrpSpPr/>
                          <p:nvPr/>
                        </p:nvGrpSpPr>
                        <p:grpSpPr>
                          <a:xfrm>
                            <a:off x="8549280" y="3413880"/>
                            <a:ext cx="73800" cy="207000"/>
                            <a:chOff x="8549280" y="3413880"/>
                            <a:chExt cx="73800" cy="207000"/>
                          </a:xfrm>
                        </p:grpSpPr>
                        <p:sp>
                          <p:nvSpPr>
                            <p:cNvPr id="1492" name=""/>
                            <p:cNvSpPr/>
                            <p:nvPr/>
                          </p:nvSpPr>
                          <p:spPr>
                            <a:xfrm>
                              <a:off x="8549280" y="3600360"/>
                              <a:ext cx="17280" cy="20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8" h="38">
                                  <a:moveTo>
                                    <a:pt x="0" y="29"/>
                                  </a:moveTo>
                                  <a:lnTo>
                                    <a:pt x="7" y="36"/>
                                  </a:lnTo>
                                  <a:lnTo>
                                    <a:pt x="15" y="35"/>
                                  </a:lnTo>
                                  <a:lnTo>
                                    <a:pt x="27" y="38"/>
                                  </a:lnTo>
                                  <a:lnTo>
                                    <a:pt x="37" y="38"/>
                                  </a:lnTo>
                                  <a:lnTo>
                                    <a:pt x="38" y="25"/>
                                  </a:lnTo>
                                  <a:lnTo>
                                    <a:pt x="35" y="16"/>
                                  </a:lnTo>
                                  <a:lnTo>
                                    <a:pt x="28" y="6"/>
                                  </a:lnTo>
                                  <a:lnTo>
                                    <a:pt x="22" y="6"/>
                                  </a:lnTo>
                                  <a:lnTo>
                                    <a:pt x="19" y="0"/>
                                  </a:lnTo>
                                  <a:lnTo>
                                    <a:pt x="9" y="0"/>
                                  </a:lnTo>
                                  <a:lnTo>
                                    <a:pt x="9" y="12"/>
                                  </a:lnTo>
                                  <a:lnTo>
                                    <a:pt x="0" y="2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792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280" bIns="-26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93" name=""/>
                            <p:cNvSpPr/>
                            <p:nvPr/>
                          </p:nvSpPr>
                          <p:spPr>
                            <a:xfrm>
                              <a:off x="8596440" y="3564000"/>
                              <a:ext cx="16560" cy="26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7" h="48">
                                  <a:moveTo>
                                    <a:pt x="8" y="0"/>
                                  </a:moveTo>
                                  <a:lnTo>
                                    <a:pt x="25" y="2"/>
                                  </a:lnTo>
                                  <a:lnTo>
                                    <a:pt x="30" y="15"/>
                                  </a:lnTo>
                                  <a:lnTo>
                                    <a:pt x="37" y="22"/>
                                  </a:lnTo>
                                  <a:lnTo>
                                    <a:pt x="31" y="28"/>
                                  </a:lnTo>
                                  <a:lnTo>
                                    <a:pt x="37" y="35"/>
                                  </a:lnTo>
                                  <a:lnTo>
                                    <a:pt x="34" y="44"/>
                                  </a:lnTo>
                                  <a:lnTo>
                                    <a:pt x="29" y="48"/>
                                  </a:lnTo>
                                  <a:lnTo>
                                    <a:pt x="18" y="47"/>
                                  </a:lnTo>
                                  <a:lnTo>
                                    <a:pt x="11" y="47"/>
                                  </a:lnTo>
                                  <a:lnTo>
                                    <a:pt x="7" y="41"/>
                                  </a:lnTo>
                                  <a:lnTo>
                                    <a:pt x="3" y="34"/>
                                  </a:lnTo>
                                  <a:lnTo>
                                    <a:pt x="3" y="26"/>
                                  </a:lnTo>
                                  <a:lnTo>
                                    <a:pt x="0" y="16"/>
                                  </a:lnTo>
                                  <a:lnTo>
                                    <a:pt x="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792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520" bIns="-205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94" name=""/>
                            <p:cNvSpPr/>
                            <p:nvPr/>
                          </p:nvSpPr>
                          <p:spPr>
                            <a:xfrm>
                              <a:off x="8593920" y="3413880"/>
                              <a:ext cx="29160" cy="24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6" h="45">
                                  <a:moveTo>
                                    <a:pt x="10" y="0"/>
                                  </a:moveTo>
                                  <a:lnTo>
                                    <a:pt x="18" y="7"/>
                                  </a:lnTo>
                                  <a:lnTo>
                                    <a:pt x="26" y="5"/>
                                  </a:lnTo>
                                  <a:lnTo>
                                    <a:pt x="38" y="7"/>
                                  </a:lnTo>
                                  <a:lnTo>
                                    <a:pt x="49" y="7"/>
                                  </a:lnTo>
                                  <a:lnTo>
                                    <a:pt x="55" y="11"/>
                                  </a:lnTo>
                                  <a:lnTo>
                                    <a:pt x="62" y="21"/>
                                  </a:lnTo>
                                  <a:lnTo>
                                    <a:pt x="66" y="26"/>
                                  </a:lnTo>
                                  <a:lnTo>
                                    <a:pt x="51" y="29"/>
                                  </a:lnTo>
                                  <a:lnTo>
                                    <a:pt x="47" y="32"/>
                                  </a:lnTo>
                                  <a:lnTo>
                                    <a:pt x="51" y="37"/>
                                  </a:lnTo>
                                  <a:lnTo>
                                    <a:pt x="51" y="43"/>
                                  </a:lnTo>
                                  <a:lnTo>
                                    <a:pt x="36" y="37"/>
                                  </a:lnTo>
                                  <a:lnTo>
                                    <a:pt x="23" y="33"/>
                                  </a:lnTo>
                                  <a:lnTo>
                                    <a:pt x="18" y="34"/>
                                  </a:lnTo>
                                  <a:lnTo>
                                    <a:pt x="18" y="43"/>
                                  </a:lnTo>
                                  <a:lnTo>
                                    <a:pt x="10" y="45"/>
                                  </a:lnTo>
                                  <a:lnTo>
                                    <a:pt x="6" y="37"/>
                                  </a:lnTo>
                                  <a:lnTo>
                                    <a:pt x="4" y="29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" y="18"/>
                                  </a:lnTo>
                                  <a:lnTo>
                                    <a:pt x="11" y="16"/>
                                  </a:lnTo>
                                  <a:lnTo>
                                    <a:pt x="1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792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680" bIns="-226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495" name=""/>
                          <p:cNvSpPr/>
                          <p:nvPr/>
                        </p:nvSpPr>
                        <p:spPr>
                          <a:xfrm>
                            <a:off x="8619480" y="3833280"/>
                            <a:ext cx="210960" cy="200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62" h="364">
                                <a:moveTo>
                                  <a:pt x="332" y="0"/>
                                </a:moveTo>
                                <a:lnTo>
                                  <a:pt x="357" y="0"/>
                                </a:lnTo>
                                <a:lnTo>
                                  <a:pt x="357" y="30"/>
                                </a:lnTo>
                                <a:lnTo>
                                  <a:pt x="366" y="38"/>
                                </a:lnTo>
                                <a:lnTo>
                                  <a:pt x="369" y="43"/>
                                </a:lnTo>
                                <a:lnTo>
                                  <a:pt x="375" y="43"/>
                                </a:lnTo>
                                <a:lnTo>
                                  <a:pt x="377" y="48"/>
                                </a:lnTo>
                                <a:lnTo>
                                  <a:pt x="380" y="77"/>
                                </a:lnTo>
                                <a:lnTo>
                                  <a:pt x="394" y="96"/>
                                </a:lnTo>
                                <a:lnTo>
                                  <a:pt x="414" y="124"/>
                                </a:lnTo>
                                <a:lnTo>
                                  <a:pt x="414" y="128"/>
                                </a:lnTo>
                                <a:lnTo>
                                  <a:pt x="436" y="152"/>
                                </a:lnTo>
                                <a:lnTo>
                                  <a:pt x="436" y="156"/>
                                </a:lnTo>
                                <a:lnTo>
                                  <a:pt x="458" y="175"/>
                                </a:lnTo>
                                <a:lnTo>
                                  <a:pt x="462" y="208"/>
                                </a:lnTo>
                                <a:lnTo>
                                  <a:pt x="458" y="239"/>
                                </a:lnTo>
                                <a:lnTo>
                                  <a:pt x="451" y="253"/>
                                </a:lnTo>
                                <a:lnTo>
                                  <a:pt x="443" y="260"/>
                                </a:lnTo>
                                <a:lnTo>
                                  <a:pt x="440" y="275"/>
                                </a:lnTo>
                                <a:lnTo>
                                  <a:pt x="432" y="288"/>
                                </a:lnTo>
                                <a:lnTo>
                                  <a:pt x="425" y="294"/>
                                </a:lnTo>
                                <a:lnTo>
                                  <a:pt x="427" y="298"/>
                                </a:lnTo>
                                <a:lnTo>
                                  <a:pt x="419" y="307"/>
                                </a:lnTo>
                                <a:lnTo>
                                  <a:pt x="414" y="326"/>
                                </a:lnTo>
                                <a:lnTo>
                                  <a:pt x="413" y="336"/>
                                </a:lnTo>
                                <a:lnTo>
                                  <a:pt x="405" y="340"/>
                                </a:lnTo>
                                <a:lnTo>
                                  <a:pt x="403" y="345"/>
                                </a:lnTo>
                                <a:lnTo>
                                  <a:pt x="398" y="353"/>
                                </a:lnTo>
                                <a:lnTo>
                                  <a:pt x="388" y="355"/>
                                </a:lnTo>
                                <a:lnTo>
                                  <a:pt x="381" y="358"/>
                                </a:lnTo>
                                <a:lnTo>
                                  <a:pt x="372" y="364"/>
                                </a:lnTo>
                                <a:lnTo>
                                  <a:pt x="360" y="352"/>
                                </a:lnTo>
                                <a:lnTo>
                                  <a:pt x="346" y="353"/>
                                </a:lnTo>
                                <a:lnTo>
                                  <a:pt x="342" y="353"/>
                                </a:lnTo>
                                <a:lnTo>
                                  <a:pt x="323" y="356"/>
                                </a:lnTo>
                                <a:lnTo>
                                  <a:pt x="310" y="345"/>
                                </a:lnTo>
                                <a:lnTo>
                                  <a:pt x="302" y="333"/>
                                </a:lnTo>
                                <a:lnTo>
                                  <a:pt x="296" y="334"/>
                                </a:lnTo>
                                <a:lnTo>
                                  <a:pt x="291" y="324"/>
                                </a:lnTo>
                                <a:lnTo>
                                  <a:pt x="288" y="316"/>
                                </a:lnTo>
                                <a:lnTo>
                                  <a:pt x="286" y="313"/>
                                </a:lnTo>
                                <a:lnTo>
                                  <a:pt x="286" y="298"/>
                                </a:lnTo>
                                <a:lnTo>
                                  <a:pt x="287" y="289"/>
                                </a:lnTo>
                                <a:lnTo>
                                  <a:pt x="284" y="284"/>
                                </a:lnTo>
                                <a:lnTo>
                                  <a:pt x="273" y="287"/>
                                </a:lnTo>
                                <a:lnTo>
                                  <a:pt x="268" y="288"/>
                                </a:lnTo>
                                <a:lnTo>
                                  <a:pt x="258" y="288"/>
                                </a:lnTo>
                                <a:lnTo>
                                  <a:pt x="254" y="288"/>
                                </a:lnTo>
                                <a:lnTo>
                                  <a:pt x="250" y="288"/>
                                </a:lnTo>
                                <a:lnTo>
                                  <a:pt x="243" y="279"/>
                                </a:lnTo>
                                <a:lnTo>
                                  <a:pt x="236" y="268"/>
                                </a:lnTo>
                                <a:lnTo>
                                  <a:pt x="235" y="269"/>
                                </a:lnTo>
                                <a:lnTo>
                                  <a:pt x="222" y="269"/>
                                </a:lnTo>
                                <a:lnTo>
                                  <a:pt x="221" y="265"/>
                                </a:lnTo>
                                <a:lnTo>
                                  <a:pt x="214" y="269"/>
                                </a:lnTo>
                                <a:lnTo>
                                  <a:pt x="207" y="268"/>
                                </a:lnTo>
                                <a:lnTo>
                                  <a:pt x="196" y="268"/>
                                </a:lnTo>
                                <a:lnTo>
                                  <a:pt x="190" y="265"/>
                                </a:lnTo>
                                <a:lnTo>
                                  <a:pt x="187" y="269"/>
                                </a:lnTo>
                                <a:lnTo>
                                  <a:pt x="176" y="271"/>
                                </a:lnTo>
                                <a:lnTo>
                                  <a:pt x="173" y="268"/>
                                </a:lnTo>
                                <a:lnTo>
                                  <a:pt x="166" y="275"/>
                                </a:lnTo>
                                <a:lnTo>
                                  <a:pt x="158" y="282"/>
                                </a:lnTo>
                                <a:lnTo>
                                  <a:pt x="152" y="282"/>
                                </a:lnTo>
                                <a:lnTo>
                                  <a:pt x="144" y="291"/>
                                </a:lnTo>
                                <a:lnTo>
                                  <a:pt x="132" y="291"/>
                                </a:lnTo>
                                <a:lnTo>
                                  <a:pt x="122" y="294"/>
                                </a:lnTo>
                                <a:lnTo>
                                  <a:pt x="111" y="298"/>
                                </a:lnTo>
                                <a:lnTo>
                                  <a:pt x="106" y="304"/>
                                </a:lnTo>
                                <a:lnTo>
                                  <a:pt x="102" y="303"/>
                                </a:lnTo>
                                <a:lnTo>
                                  <a:pt x="98" y="308"/>
                                </a:lnTo>
                                <a:lnTo>
                                  <a:pt x="92" y="310"/>
                                </a:lnTo>
                                <a:lnTo>
                                  <a:pt x="85" y="317"/>
                                </a:lnTo>
                                <a:lnTo>
                                  <a:pt x="63" y="317"/>
                                </a:lnTo>
                                <a:lnTo>
                                  <a:pt x="54" y="307"/>
                                </a:lnTo>
                                <a:lnTo>
                                  <a:pt x="52" y="303"/>
                                </a:lnTo>
                                <a:lnTo>
                                  <a:pt x="50" y="307"/>
                                </a:lnTo>
                                <a:lnTo>
                                  <a:pt x="46" y="300"/>
                                </a:lnTo>
                                <a:lnTo>
                                  <a:pt x="47" y="281"/>
                                </a:lnTo>
                                <a:lnTo>
                                  <a:pt x="50" y="269"/>
                                </a:lnTo>
                                <a:lnTo>
                                  <a:pt x="46" y="260"/>
                                </a:lnTo>
                                <a:lnTo>
                                  <a:pt x="41" y="252"/>
                                </a:lnTo>
                                <a:lnTo>
                                  <a:pt x="40" y="242"/>
                                </a:lnTo>
                                <a:lnTo>
                                  <a:pt x="33" y="237"/>
                                </a:lnTo>
                                <a:lnTo>
                                  <a:pt x="32" y="236"/>
                                </a:lnTo>
                                <a:lnTo>
                                  <a:pt x="30" y="231"/>
                                </a:lnTo>
                                <a:lnTo>
                                  <a:pt x="21" y="218"/>
                                </a:lnTo>
                                <a:lnTo>
                                  <a:pt x="9" y="186"/>
                                </a:lnTo>
                                <a:lnTo>
                                  <a:pt x="4" y="165"/>
                                </a:lnTo>
                                <a:lnTo>
                                  <a:pt x="4" y="152"/>
                                </a:lnTo>
                                <a:lnTo>
                                  <a:pt x="0" y="147"/>
                                </a:lnTo>
                                <a:lnTo>
                                  <a:pt x="2" y="136"/>
                                </a:lnTo>
                                <a:lnTo>
                                  <a:pt x="6" y="130"/>
                                </a:lnTo>
                                <a:lnTo>
                                  <a:pt x="21" y="114"/>
                                </a:lnTo>
                                <a:lnTo>
                                  <a:pt x="36" y="115"/>
                                </a:lnTo>
                                <a:lnTo>
                                  <a:pt x="39" y="118"/>
                                </a:lnTo>
                                <a:lnTo>
                                  <a:pt x="58" y="118"/>
                                </a:lnTo>
                                <a:lnTo>
                                  <a:pt x="59" y="114"/>
                                </a:lnTo>
                                <a:lnTo>
                                  <a:pt x="63" y="115"/>
                                </a:lnTo>
                                <a:lnTo>
                                  <a:pt x="69" y="111"/>
                                </a:lnTo>
                                <a:lnTo>
                                  <a:pt x="73" y="112"/>
                                </a:lnTo>
                                <a:lnTo>
                                  <a:pt x="77" y="109"/>
                                </a:lnTo>
                                <a:lnTo>
                                  <a:pt x="76" y="105"/>
                                </a:lnTo>
                                <a:lnTo>
                                  <a:pt x="80" y="95"/>
                                </a:lnTo>
                                <a:lnTo>
                                  <a:pt x="85" y="91"/>
                                </a:lnTo>
                                <a:lnTo>
                                  <a:pt x="83" y="88"/>
                                </a:lnTo>
                                <a:lnTo>
                                  <a:pt x="85" y="85"/>
                                </a:lnTo>
                                <a:lnTo>
                                  <a:pt x="83" y="80"/>
                                </a:lnTo>
                                <a:lnTo>
                                  <a:pt x="91" y="73"/>
                                </a:lnTo>
                                <a:lnTo>
                                  <a:pt x="103" y="72"/>
                                </a:lnTo>
                                <a:lnTo>
                                  <a:pt x="115" y="54"/>
                                </a:lnTo>
                                <a:lnTo>
                                  <a:pt x="131" y="40"/>
                                </a:lnTo>
                                <a:lnTo>
                                  <a:pt x="137" y="38"/>
                                </a:lnTo>
                                <a:lnTo>
                                  <a:pt x="142" y="34"/>
                                </a:lnTo>
                                <a:lnTo>
                                  <a:pt x="148" y="34"/>
                                </a:lnTo>
                                <a:lnTo>
                                  <a:pt x="161" y="47"/>
                                </a:lnTo>
                                <a:lnTo>
                                  <a:pt x="165" y="48"/>
                                </a:lnTo>
                                <a:lnTo>
                                  <a:pt x="169" y="43"/>
                                </a:lnTo>
                                <a:lnTo>
                                  <a:pt x="177" y="34"/>
                                </a:lnTo>
                                <a:lnTo>
                                  <a:pt x="183" y="32"/>
                                </a:lnTo>
                                <a:lnTo>
                                  <a:pt x="188" y="21"/>
                                </a:lnTo>
                                <a:lnTo>
                                  <a:pt x="194" y="19"/>
                                </a:lnTo>
                                <a:lnTo>
                                  <a:pt x="200" y="15"/>
                                </a:lnTo>
                                <a:lnTo>
                                  <a:pt x="207" y="11"/>
                                </a:lnTo>
                                <a:lnTo>
                                  <a:pt x="214" y="11"/>
                                </a:lnTo>
                                <a:lnTo>
                                  <a:pt x="220" y="5"/>
                                </a:lnTo>
                                <a:lnTo>
                                  <a:pt x="228" y="5"/>
                                </a:lnTo>
                                <a:lnTo>
                                  <a:pt x="238" y="5"/>
                                </a:lnTo>
                                <a:lnTo>
                                  <a:pt x="250" y="8"/>
                                </a:lnTo>
                                <a:lnTo>
                                  <a:pt x="258" y="14"/>
                                </a:lnTo>
                                <a:lnTo>
                                  <a:pt x="259" y="18"/>
                                </a:lnTo>
                                <a:lnTo>
                                  <a:pt x="261" y="21"/>
                                </a:lnTo>
                                <a:lnTo>
                                  <a:pt x="262" y="28"/>
                                </a:lnTo>
                                <a:lnTo>
                                  <a:pt x="261" y="31"/>
                                </a:lnTo>
                                <a:lnTo>
                                  <a:pt x="261" y="38"/>
                                </a:lnTo>
                                <a:lnTo>
                                  <a:pt x="259" y="43"/>
                                </a:lnTo>
                                <a:lnTo>
                                  <a:pt x="280" y="59"/>
                                </a:lnTo>
                                <a:lnTo>
                                  <a:pt x="287" y="67"/>
                                </a:lnTo>
                                <a:lnTo>
                                  <a:pt x="295" y="70"/>
                                </a:lnTo>
                                <a:lnTo>
                                  <a:pt x="303" y="75"/>
                                </a:lnTo>
                                <a:lnTo>
                                  <a:pt x="309" y="76"/>
                                </a:lnTo>
                                <a:lnTo>
                                  <a:pt x="317" y="72"/>
                                </a:lnTo>
                                <a:lnTo>
                                  <a:pt x="324" y="59"/>
                                </a:lnTo>
                                <a:lnTo>
                                  <a:pt x="327" y="48"/>
                                </a:lnTo>
                                <a:lnTo>
                                  <a:pt x="329" y="28"/>
                                </a:lnTo>
                                <a:lnTo>
                                  <a:pt x="332" y="19"/>
                                </a:lnTo>
                                <a:lnTo>
                                  <a:pt x="33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6" name=""/>
                          <p:cNvSpPr/>
                          <p:nvPr/>
                        </p:nvSpPr>
                        <p:spPr>
                          <a:xfrm>
                            <a:off x="8569440" y="3791160"/>
                            <a:ext cx="116640" cy="26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5" h="49">
                                <a:moveTo>
                                  <a:pt x="0" y="0"/>
                                </a:moveTo>
                                <a:lnTo>
                                  <a:pt x="19" y="7"/>
                                </a:lnTo>
                                <a:lnTo>
                                  <a:pt x="36" y="7"/>
                                </a:lnTo>
                                <a:lnTo>
                                  <a:pt x="51" y="7"/>
                                </a:lnTo>
                                <a:lnTo>
                                  <a:pt x="62" y="7"/>
                                </a:lnTo>
                                <a:lnTo>
                                  <a:pt x="70" y="8"/>
                                </a:lnTo>
                                <a:lnTo>
                                  <a:pt x="81" y="13"/>
                                </a:lnTo>
                                <a:lnTo>
                                  <a:pt x="86" y="23"/>
                                </a:lnTo>
                                <a:lnTo>
                                  <a:pt x="92" y="27"/>
                                </a:lnTo>
                                <a:lnTo>
                                  <a:pt x="101" y="26"/>
                                </a:lnTo>
                                <a:lnTo>
                                  <a:pt x="112" y="26"/>
                                </a:lnTo>
                                <a:lnTo>
                                  <a:pt x="125" y="31"/>
                                </a:lnTo>
                                <a:lnTo>
                                  <a:pt x="133" y="34"/>
                                </a:lnTo>
                                <a:lnTo>
                                  <a:pt x="138" y="34"/>
                                </a:lnTo>
                                <a:lnTo>
                                  <a:pt x="140" y="27"/>
                                </a:lnTo>
                                <a:lnTo>
                                  <a:pt x="144" y="23"/>
                                </a:lnTo>
                                <a:lnTo>
                                  <a:pt x="160" y="26"/>
                                </a:lnTo>
                                <a:lnTo>
                                  <a:pt x="174" y="26"/>
                                </a:lnTo>
                                <a:lnTo>
                                  <a:pt x="186" y="26"/>
                                </a:lnTo>
                                <a:lnTo>
                                  <a:pt x="196" y="30"/>
                                </a:lnTo>
                                <a:lnTo>
                                  <a:pt x="202" y="33"/>
                                </a:lnTo>
                                <a:lnTo>
                                  <a:pt x="211" y="31"/>
                                </a:lnTo>
                                <a:lnTo>
                                  <a:pt x="218" y="29"/>
                                </a:lnTo>
                                <a:lnTo>
                                  <a:pt x="222" y="26"/>
                                </a:lnTo>
                                <a:lnTo>
                                  <a:pt x="233" y="26"/>
                                </a:lnTo>
                                <a:lnTo>
                                  <a:pt x="240" y="23"/>
                                </a:lnTo>
                                <a:lnTo>
                                  <a:pt x="250" y="20"/>
                                </a:lnTo>
                                <a:lnTo>
                                  <a:pt x="255" y="20"/>
                                </a:lnTo>
                                <a:lnTo>
                                  <a:pt x="254" y="30"/>
                                </a:lnTo>
                                <a:lnTo>
                                  <a:pt x="251" y="34"/>
                                </a:lnTo>
                                <a:lnTo>
                                  <a:pt x="245" y="39"/>
                                </a:lnTo>
                                <a:lnTo>
                                  <a:pt x="240" y="39"/>
                                </a:lnTo>
                                <a:lnTo>
                                  <a:pt x="239" y="39"/>
                                </a:lnTo>
                                <a:lnTo>
                                  <a:pt x="232" y="40"/>
                                </a:lnTo>
                                <a:lnTo>
                                  <a:pt x="226" y="46"/>
                                </a:lnTo>
                                <a:lnTo>
                                  <a:pt x="221" y="45"/>
                                </a:lnTo>
                                <a:lnTo>
                                  <a:pt x="215" y="42"/>
                                </a:lnTo>
                                <a:lnTo>
                                  <a:pt x="210" y="45"/>
                                </a:lnTo>
                                <a:lnTo>
                                  <a:pt x="204" y="46"/>
                                </a:lnTo>
                                <a:lnTo>
                                  <a:pt x="200" y="46"/>
                                </a:lnTo>
                                <a:lnTo>
                                  <a:pt x="196" y="49"/>
                                </a:lnTo>
                                <a:lnTo>
                                  <a:pt x="185" y="49"/>
                                </a:lnTo>
                                <a:lnTo>
                                  <a:pt x="181" y="45"/>
                                </a:lnTo>
                                <a:lnTo>
                                  <a:pt x="175" y="39"/>
                                </a:lnTo>
                                <a:lnTo>
                                  <a:pt x="169" y="45"/>
                                </a:lnTo>
                                <a:lnTo>
                                  <a:pt x="164" y="49"/>
                                </a:lnTo>
                                <a:lnTo>
                                  <a:pt x="159" y="49"/>
                                </a:lnTo>
                                <a:lnTo>
                                  <a:pt x="149" y="39"/>
                                </a:lnTo>
                                <a:lnTo>
                                  <a:pt x="147" y="40"/>
                                </a:lnTo>
                                <a:lnTo>
                                  <a:pt x="141" y="40"/>
                                </a:lnTo>
                                <a:lnTo>
                                  <a:pt x="137" y="46"/>
                                </a:lnTo>
                                <a:lnTo>
                                  <a:pt x="129" y="45"/>
                                </a:lnTo>
                                <a:lnTo>
                                  <a:pt x="121" y="45"/>
                                </a:lnTo>
                                <a:lnTo>
                                  <a:pt x="117" y="42"/>
                                </a:lnTo>
                                <a:lnTo>
                                  <a:pt x="111" y="39"/>
                                </a:lnTo>
                                <a:lnTo>
                                  <a:pt x="103" y="40"/>
                                </a:lnTo>
                                <a:lnTo>
                                  <a:pt x="95" y="46"/>
                                </a:lnTo>
                                <a:lnTo>
                                  <a:pt x="89" y="45"/>
                                </a:lnTo>
                                <a:lnTo>
                                  <a:pt x="81" y="42"/>
                                </a:lnTo>
                                <a:lnTo>
                                  <a:pt x="71" y="37"/>
                                </a:lnTo>
                                <a:lnTo>
                                  <a:pt x="63" y="37"/>
                                </a:lnTo>
                                <a:lnTo>
                                  <a:pt x="47" y="33"/>
                                </a:lnTo>
                                <a:lnTo>
                                  <a:pt x="36" y="30"/>
                                </a:lnTo>
                                <a:lnTo>
                                  <a:pt x="29" y="29"/>
                                </a:lnTo>
                                <a:lnTo>
                                  <a:pt x="18" y="27"/>
                                </a:lnTo>
                                <a:lnTo>
                                  <a:pt x="11" y="21"/>
                                </a:lnTo>
                                <a:lnTo>
                                  <a:pt x="4" y="20"/>
                                </a:lnTo>
                                <a:lnTo>
                                  <a:pt x="1" y="18"/>
                                </a:lnTo>
                                <a:lnTo>
                                  <a:pt x="0" y="15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0520" bIns="-20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7" name=""/>
                          <p:cNvSpPr/>
                          <p:nvPr/>
                        </p:nvSpPr>
                        <p:spPr>
                          <a:xfrm>
                            <a:off x="8633520" y="3737160"/>
                            <a:ext cx="52560" cy="51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5" h="95">
                                <a:moveTo>
                                  <a:pt x="29" y="0"/>
                                </a:moveTo>
                                <a:lnTo>
                                  <a:pt x="56" y="2"/>
                                </a:lnTo>
                                <a:lnTo>
                                  <a:pt x="82" y="2"/>
                                </a:lnTo>
                                <a:lnTo>
                                  <a:pt x="96" y="0"/>
                                </a:lnTo>
                                <a:lnTo>
                                  <a:pt x="115" y="9"/>
                                </a:lnTo>
                                <a:lnTo>
                                  <a:pt x="103" y="12"/>
                                </a:lnTo>
                                <a:lnTo>
                                  <a:pt x="96" y="16"/>
                                </a:lnTo>
                                <a:lnTo>
                                  <a:pt x="92" y="19"/>
                                </a:lnTo>
                                <a:lnTo>
                                  <a:pt x="89" y="22"/>
                                </a:lnTo>
                                <a:lnTo>
                                  <a:pt x="89" y="25"/>
                                </a:lnTo>
                                <a:lnTo>
                                  <a:pt x="89" y="29"/>
                                </a:lnTo>
                                <a:lnTo>
                                  <a:pt x="81" y="32"/>
                                </a:lnTo>
                                <a:lnTo>
                                  <a:pt x="74" y="32"/>
                                </a:lnTo>
                                <a:lnTo>
                                  <a:pt x="71" y="34"/>
                                </a:lnTo>
                                <a:lnTo>
                                  <a:pt x="64" y="34"/>
                                </a:lnTo>
                                <a:lnTo>
                                  <a:pt x="62" y="29"/>
                                </a:lnTo>
                                <a:lnTo>
                                  <a:pt x="56" y="23"/>
                                </a:lnTo>
                                <a:lnTo>
                                  <a:pt x="51" y="19"/>
                                </a:lnTo>
                                <a:lnTo>
                                  <a:pt x="40" y="19"/>
                                </a:lnTo>
                                <a:lnTo>
                                  <a:pt x="37" y="19"/>
                                </a:lnTo>
                                <a:lnTo>
                                  <a:pt x="34" y="26"/>
                                </a:lnTo>
                                <a:lnTo>
                                  <a:pt x="35" y="34"/>
                                </a:lnTo>
                                <a:lnTo>
                                  <a:pt x="35" y="38"/>
                                </a:lnTo>
                                <a:lnTo>
                                  <a:pt x="37" y="42"/>
                                </a:lnTo>
                                <a:lnTo>
                                  <a:pt x="42" y="41"/>
                                </a:lnTo>
                                <a:lnTo>
                                  <a:pt x="51" y="37"/>
                                </a:lnTo>
                                <a:lnTo>
                                  <a:pt x="56" y="37"/>
                                </a:lnTo>
                                <a:lnTo>
                                  <a:pt x="60" y="39"/>
                                </a:lnTo>
                                <a:lnTo>
                                  <a:pt x="60" y="42"/>
                                </a:lnTo>
                                <a:lnTo>
                                  <a:pt x="57" y="48"/>
                                </a:lnTo>
                                <a:lnTo>
                                  <a:pt x="56" y="51"/>
                                </a:lnTo>
                                <a:lnTo>
                                  <a:pt x="56" y="54"/>
                                </a:lnTo>
                                <a:lnTo>
                                  <a:pt x="55" y="58"/>
                                </a:lnTo>
                                <a:lnTo>
                                  <a:pt x="57" y="63"/>
                                </a:lnTo>
                                <a:lnTo>
                                  <a:pt x="63" y="68"/>
                                </a:lnTo>
                                <a:lnTo>
                                  <a:pt x="64" y="67"/>
                                </a:lnTo>
                                <a:lnTo>
                                  <a:pt x="64" y="73"/>
                                </a:lnTo>
                                <a:lnTo>
                                  <a:pt x="62" y="77"/>
                                </a:lnTo>
                                <a:lnTo>
                                  <a:pt x="59" y="82"/>
                                </a:lnTo>
                                <a:lnTo>
                                  <a:pt x="57" y="89"/>
                                </a:lnTo>
                                <a:lnTo>
                                  <a:pt x="52" y="92"/>
                                </a:lnTo>
                                <a:lnTo>
                                  <a:pt x="48" y="92"/>
                                </a:lnTo>
                                <a:lnTo>
                                  <a:pt x="44" y="92"/>
                                </a:lnTo>
                                <a:lnTo>
                                  <a:pt x="44" y="86"/>
                                </a:lnTo>
                                <a:lnTo>
                                  <a:pt x="42" y="76"/>
                                </a:lnTo>
                                <a:lnTo>
                                  <a:pt x="38" y="73"/>
                                </a:lnTo>
                                <a:lnTo>
                                  <a:pt x="37" y="68"/>
                                </a:lnTo>
                                <a:lnTo>
                                  <a:pt x="38" y="60"/>
                                </a:lnTo>
                                <a:lnTo>
                                  <a:pt x="34" y="57"/>
                                </a:lnTo>
                                <a:lnTo>
                                  <a:pt x="24" y="60"/>
                                </a:lnTo>
                                <a:lnTo>
                                  <a:pt x="20" y="57"/>
                                </a:lnTo>
                                <a:lnTo>
                                  <a:pt x="16" y="61"/>
                                </a:lnTo>
                                <a:lnTo>
                                  <a:pt x="20" y="64"/>
                                </a:lnTo>
                                <a:lnTo>
                                  <a:pt x="27" y="67"/>
                                </a:lnTo>
                                <a:lnTo>
                                  <a:pt x="29" y="70"/>
                                </a:lnTo>
                                <a:lnTo>
                                  <a:pt x="33" y="76"/>
                                </a:lnTo>
                                <a:lnTo>
                                  <a:pt x="33" y="80"/>
                                </a:lnTo>
                                <a:lnTo>
                                  <a:pt x="29" y="87"/>
                                </a:lnTo>
                                <a:lnTo>
                                  <a:pt x="23" y="93"/>
                                </a:lnTo>
                                <a:lnTo>
                                  <a:pt x="20" y="95"/>
                                </a:lnTo>
                                <a:lnTo>
                                  <a:pt x="20" y="90"/>
                                </a:lnTo>
                                <a:lnTo>
                                  <a:pt x="20" y="86"/>
                                </a:lnTo>
                                <a:lnTo>
                                  <a:pt x="22" y="80"/>
                                </a:lnTo>
                                <a:lnTo>
                                  <a:pt x="15" y="76"/>
                                </a:lnTo>
                                <a:lnTo>
                                  <a:pt x="8" y="71"/>
                                </a:lnTo>
                                <a:lnTo>
                                  <a:pt x="7" y="67"/>
                                </a:lnTo>
                                <a:lnTo>
                                  <a:pt x="0" y="64"/>
                                </a:lnTo>
                                <a:lnTo>
                                  <a:pt x="1" y="57"/>
                                </a:lnTo>
                                <a:lnTo>
                                  <a:pt x="7" y="53"/>
                                </a:lnTo>
                                <a:lnTo>
                                  <a:pt x="11" y="45"/>
                                </a:lnTo>
                                <a:lnTo>
                                  <a:pt x="15" y="38"/>
                                </a:lnTo>
                                <a:lnTo>
                                  <a:pt x="16" y="31"/>
                                </a:lnTo>
                                <a:lnTo>
                                  <a:pt x="15" y="23"/>
                                </a:lnTo>
                                <a:lnTo>
                                  <a:pt x="18" y="21"/>
                                </a:lnTo>
                                <a:lnTo>
                                  <a:pt x="20" y="18"/>
                                </a:lnTo>
                                <a:lnTo>
                                  <a:pt x="16" y="12"/>
                                </a:lnTo>
                                <a:lnTo>
                                  <a:pt x="2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5040" bIns="5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8" name=""/>
                          <p:cNvSpPr/>
                          <p:nvPr/>
                        </p:nvSpPr>
                        <p:spPr>
                          <a:xfrm>
                            <a:off x="8577720" y="3714120"/>
                            <a:ext cx="58320" cy="71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27" h="131">
                                <a:moveTo>
                                  <a:pt x="0" y="44"/>
                                </a:moveTo>
                                <a:lnTo>
                                  <a:pt x="26" y="23"/>
                                </a:lnTo>
                                <a:lnTo>
                                  <a:pt x="40" y="15"/>
                                </a:lnTo>
                                <a:lnTo>
                                  <a:pt x="46" y="7"/>
                                </a:lnTo>
                                <a:lnTo>
                                  <a:pt x="67" y="0"/>
                                </a:lnTo>
                                <a:lnTo>
                                  <a:pt x="78" y="16"/>
                                </a:lnTo>
                                <a:lnTo>
                                  <a:pt x="89" y="9"/>
                                </a:lnTo>
                                <a:lnTo>
                                  <a:pt x="93" y="4"/>
                                </a:lnTo>
                                <a:lnTo>
                                  <a:pt x="103" y="0"/>
                                </a:lnTo>
                                <a:lnTo>
                                  <a:pt x="108" y="0"/>
                                </a:lnTo>
                                <a:lnTo>
                                  <a:pt x="109" y="6"/>
                                </a:lnTo>
                                <a:lnTo>
                                  <a:pt x="109" y="10"/>
                                </a:lnTo>
                                <a:lnTo>
                                  <a:pt x="104" y="18"/>
                                </a:lnTo>
                                <a:lnTo>
                                  <a:pt x="104" y="22"/>
                                </a:lnTo>
                                <a:lnTo>
                                  <a:pt x="119" y="41"/>
                                </a:lnTo>
                                <a:lnTo>
                                  <a:pt x="122" y="52"/>
                                </a:lnTo>
                                <a:lnTo>
                                  <a:pt x="126" y="52"/>
                                </a:lnTo>
                                <a:lnTo>
                                  <a:pt x="127" y="58"/>
                                </a:lnTo>
                                <a:lnTo>
                                  <a:pt x="122" y="64"/>
                                </a:lnTo>
                                <a:lnTo>
                                  <a:pt x="118" y="61"/>
                                </a:lnTo>
                                <a:lnTo>
                                  <a:pt x="108" y="65"/>
                                </a:lnTo>
                                <a:lnTo>
                                  <a:pt x="109" y="77"/>
                                </a:lnTo>
                                <a:lnTo>
                                  <a:pt x="99" y="84"/>
                                </a:lnTo>
                                <a:lnTo>
                                  <a:pt x="99" y="103"/>
                                </a:lnTo>
                                <a:lnTo>
                                  <a:pt x="99" y="116"/>
                                </a:lnTo>
                                <a:lnTo>
                                  <a:pt x="93" y="122"/>
                                </a:lnTo>
                                <a:lnTo>
                                  <a:pt x="89" y="131"/>
                                </a:lnTo>
                                <a:lnTo>
                                  <a:pt x="83" y="129"/>
                                </a:lnTo>
                                <a:lnTo>
                                  <a:pt x="75" y="125"/>
                                </a:lnTo>
                                <a:lnTo>
                                  <a:pt x="68" y="121"/>
                                </a:lnTo>
                                <a:lnTo>
                                  <a:pt x="63" y="113"/>
                                </a:lnTo>
                                <a:lnTo>
                                  <a:pt x="44" y="115"/>
                                </a:lnTo>
                                <a:lnTo>
                                  <a:pt x="27" y="110"/>
                                </a:lnTo>
                                <a:lnTo>
                                  <a:pt x="16" y="99"/>
                                </a:lnTo>
                                <a:lnTo>
                                  <a:pt x="9" y="90"/>
                                </a:lnTo>
                                <a:lnTo>
                                  <a:pt x="4" y="83"/>
                                </a:lnTo>
                                <a:lnTo>
                                  <a:pt x="4" y="68"/>
                                </a:lnTo>
                                <a:lnTo>
                                  <a:pt x="0" y="4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4480" bIns="24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9" name=""/>
                          <p:cNvSpPr/>
                          <p:nvPr/>
                        </p:nvSpPr>
                        <p:spPr>
                          <a:xfrm>
                            <a:off x="8701920" y="3755160"/>
                            <a:ext cx="111240" cy="67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4" h="122">
                                <a:moveTo>
                                  <a:pt x="0" y="0"/>
                                </a:moveTo>
                                <a:lnTo>
                                  <a:pt x="22" y="2"/>
                                </a:lnTo>
                                <a:lnTo>
                                  <a:pt x="40" y="3"/>
                                </a:lnTo>
                                <a:lnTo>
                                  <a:pt x="48" y="21"/>
                                </a:lnTo>
                                <a:lnTo>
                                  <a:pt x="50" y="26"/>
                                </a:lnTo>
                                <a:lnTo>
                                  <a:pt x="52" y="29"/>
                                </a:lnTo>
                                <a:lnTo>
                                  <a:pt x="58" y="25"/>
                                </a:lnTo>
                                <a:lnTo>
                                  <a:pt x="67" y="25"/>
                                </a:lnTo>
                                <a:lnTo>
                                  <a:pt x="73" y="29"/>
                                </a:lnTo>
                                <a:lnTo>
                                  <a:pt x="76" y="28"/>
                                </a:lnTo>
                                <a:lnTo>
                                  <a:pt x="84" y="21"/>
                                </a:lnTo>
                                <a:lnTo>
                                  <a:pt x="85" y="21"/>
                                </a:lnTo>
                                <a:lnTo>
                                  <a:pt x="92" y="16"/>
                                </a:lnTo>
                                <a:lnTo>
                                  <a:pt x="99" y="16"/>
                                </a:lnTo>
                                <a:lnTo>
                                  <a:pt x="121" y="25"/>
                                </a:lnTo>
                                <a:lnTo>
                                  <a:pt x="131" y="25"/>
                                </a:lnTo>
                                <a:lnTo>
                                  <a:pt x="140" y="32"/>
                                </a:lnTo>
                                <a:lnTo>
                                  <a:pt x="150" y="35"/>
                                </a:lnTo>
                                <a:lnTo>
                                  <a:pt x="158" y="41"/>
                                </a:lnTo>
                                <a:lnTo>
                                  <a:pt x="165" y="42"/>
                                </a:lnTo>
                                <a:lnTo>
                                  <a:pt x="183" y="48"/>
                                </a:lnTo>
                                <a:lnTo>
                                  <a:pt x="191" y="58"/>
                                </a:lnTo>
                                <a:lnTo>
                                  <a:pt x="195" y="64"/>
                                </a:lnTo>
                                <a:lnTo>
                                  <a:pt x="194" y="67"/>
                                </a:lnTo>
                                <a:lnTo>
                                  <a:pt x="200" y="73"/>
                                </a:lnTo>
                                <a:lnTo>
                                  <a:pt x="206" y="74"/>
                                </a:lnTo>
                                <a:lnTo>
                                  <a:pt x="209" y="76"/>
                                </a:lnTo>
                                <a:lnTo>
                                  <a:pt x="216" y="77"/>
                                </a:lnTo>
                                <a:lnTo>
                                  <a:pt x="227" y="86"/>
                                </a:lnTo>
                                <a:lnTo>
                                  <a:pt x="227" y="92"/>
                                </a:lnTo>
                                <a:lnTo>
                                  <a:pt x="233" y="97"/>
                                </a:lnTo>
                                <a:lnTo>
                                  <a:pt x="235" y="100"/>
                                </a:lnTo>
                                <a:lnTo>
                                  <a:pt x="244" y="112"/>
                                </a:lnTo>
                                <a:lnTo>
                                  <a:pt x="236" y="122"/>
                                </a:lnTo>
                                <a:lnTo>
                                  <a:pt x="233" y="122"/>
                                </a:lnTo>
                                <a:lnTo>
                                  <a:pt x="225" y="122"/>
                                </a:lnTo>
                                <a:lnTo>
                                  <a:pt x="222" y="118"/>
                                </a:lnTo>
                                <a:lnTo>
                                  <a:pt x="218" y="118"/>
                                </a:lnTo>
                                <a:lnTo>
                                  <a:pt x="214" y="119"/>
                                </a:lnTo>
                                <a:lnTo>
                                  <a:pt x="194" y="96"/>
                                </a:lnTo>
                                <a:lnTo>
                                  <a:pt x="181" y="97"/>
                                </a:lnTo>
                                <a:lnTo>
                                  <a:pt x="169" y="96"/>
                                </a:lnTo>
                                <a:lnTo>
                                  <a:pt x="165" y="99"/>
                                </a:lnTo>
                                <a:lnTo>
                                  <a:pt x="161" y="103"/>
                                </a:lnTo>
                                <a:lnTo>
                                  <a:pt x="159" y="100"/>
                                </a:lnTo>
                                <a:lnTo>
                                  <a:pt x="154" y="108"/>
                                </a:lnTo>
                                <a:lnTo>
                                  <a:pt x="146" y="118"/>
                                </a:lnTo>
                                <a:lnTo>
                                  <a:pt x="139" y="113"/>
                                </a:lnTo>
                                <a:lnTo>
                                  <a:pt x="131" y="111"/>
                                </a:lnTo>
                                <a:lnTo>
                                  <a:pt x="125" y="111"/>
                                </a:lnTo>
                                <a:lnTo>
                                  <a:pt x="117" y="108"/>
                                </a:lnTo>
                                <a:lnTo>
                                  <a:pt x="113" y="111"/>
                                </a:lnTo>
                                <a:lnTo>
                                  <a:pt x="107" y="96"/>
                                </a:lnTo>
                                <a:lnTo>
                                  <a:pt x="98" y="83"/>
                                </a:lnTo>
                                <a:lnTo>
                                  <a:pt x="88" y="67"/>
                                </a:lnTo>
                                <a:lnTo>
                                  <a:pt x="80" y="58"/>
                                </a:lnTo>
                                <a:lnTo>
                                  <a:pt x="73" y="50"/>
                                </a:lnTo>
                                <a:lnTo>
                                  <a:pt x="58" y="50"/>
                                </a:lnTo>
                                <a:lnTo>
                                  <a:pt x="44" y="54"/>
                                </a:lnTo>
                                <a:lnTo>
                                  <a:pt x="37" y="48"/>
                                </a:lnTo>
                                <a:lnTo>
                                  <a:pt x="24" y="44"/>
                                </a:lnTo>
                                <a:lnTo>
                                  <a:pt x="17" y="39"/>
                                </a:lnTo>
                                <a:lnTo>
                                  <a:pt x="17" y="22"/>
                                </a:lnTo>
                                <a:lnTo>
                                  <a:pt x="18" y="13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520" bIns="20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0" name=""/>
                          <p:cNvSpPr/>
                          <p:nvPr/>
                        </p:nvSpPr>
                        <p:spPr>
                          <a:xfrm>
                            <a:off x="8495640" y="3707280"/>
                            <a:ext cx="67320" cy="88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8" h="161">
                                <a:moveTo>
                                  <a:pt x="0" y="4"/>
                                </a:moveTo>
                                <a:lnTo>
                                  <a:pt x="15" y="0"/>
                                </a:lnTo>
                                <a:lnTo>
                                  <a:pt x="33" y="7"/>
                                </a:lnTo>
                                <a:lnTo>
                                  <a:pt x="35" y="15"/>
                                </a:lnTo>
                                <a:lnTo>
                                  <a:pt x="35" y="17"/>
                                </a:lnTo>
                                <a:lnTo>
                                  <a:pt x="40" y="19"/>
                                </a:lnTo>
                                <a:lnTo>
                                  <a:pt x="40" y="22"/>
                                </a:lnTo>
                                <a:lnTo>
                                  <a:pt x="45" y="23"/>
                                </a:lnTo>
                                <a:lnTo>
                                  <a:pt x="45" y="29"/>
                                </a:lnTo>
                                <a:lnTo>
                                  <a:pt x="63" y="47"/>
                                </a:lnTo>
                                <a:lnTo>
                                  <a:pt x="66" y="47"/>
                                </a:lnTo>
                                <a:lnTo>
                                  <a:pt x="68" y="51"/>
                                </a:lnTo>
                                <a:lnTo>
                                  <a:pt x="71" y="55"/>
                                </a:lnTo>
                                <a:lnTo>
                                  <a:pt x="74" y="55"/>
                                </a:lnTo>
                                <a:lnTo>
                                  <a:pt x="86" y="61"/>
                                </a:lnTo>
                                <a:lnTo>
                                  <a:pt x="109" y="64"/>
                                </a:lnTo>
                                <a:lnTo>
                                  <a:pt x="111" y="84"/>
                                </a:lnTo>
                                <a:lnTo>
                                  <a:pt x="116" y="87"/>
                                </a:lnTo>
                                <a:lnTo>
                                  <a:pt x="115" y="94"/>
                                </a:lnTo>
                                <a:lnTo>
                                  <a:pt x="129" y="105"/>
                                </a:lnTo>
                                <a:lnTo>
                                  <a:pt x="141" y="109"/>
                                </a:lnTo>
                                <a:lnTo>
                                  <a:pt x="141" y="142"/>
                                </a:lnTo>
                                <a:lnTo>
                                  <a:pt x="148" y="155"/>
                                </a:lnTo>
                                <a:lnTo>
                                  <a:pt x="144" y="160"/>
                                </a:lnTo>
                                <a:lnTo>
                                  <a:pt x="136" y="161"/>
                                </a:lnTo>
                                <a:lnTo>
                                  <a:pt x="134" y="150"/>
                                </a:lnTo>
                                <a:lnTo>
                                  <a:pt x="120" y="161"/>
                                </a:lnTo>
                                <a:lnTo>
                                  <a:pt x="111" y="144"/>
                                </a:lnTo>
                                <a:lnTo>
                                  <a:pt x="105" y="132"/>
                                </a:lnTo>
                                <a:lnTo>
                                  <a:pt x="89" y="116"/>
                                </a:lnTo>
                                <a:lnTo>
                                  <a:pt x="85" y="116"/>
                                </a:lnTo>
                                <a:lnTo>
                                  <a:pt x="70" y="108"/>
                                </a:lnTo>
                                <a:lnTo>
                                  <a:pt x="67" y="99"/>
                                </a:lnTo>
                                <a:lnTo>
                                  <a:pt x="67" y="93"/>
                                </a:lnTo>
                                <a:lnTo>
                                  <a:pt x="55" y="70"/>
                                </a:lnTo>
                                <a:lnTo>
                                  <a:pt x="49" y="55"/>
                                </a:lnTo>
                                <a:lnTo>
                                  <a:pt x="34" y="42"/>
                                </a:lnTo>
                                <a:lnTo>
                                  <a:pt x="13" y="22"/>
                                </a:lnTo>
                                <a:lnTo>
                                  <a:pt x="0" y="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1400" bIns="414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1" name=""/>
                          <p:cNvSpPr/>
                          <p:nvPr/>
                        </p:nvSpPr>
                        <p:spPr>
                          <a:xfrm>
                            <a:off x="8616240" y="3610440"/>
                            <a:ext cx="64800" cy="99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3" h="178">
                                <a:moveTo>
                                  <a:pt x="10" y="0"/>
                                </a:moveTo>
                                <a:lnTo>
                                  <a:pt x="22" y="0"/>
                                </a:lnTo>
                                <a:lnTo>
                                  <a:pt x="36" y="19"/>
                                </a:lnTo>
                                <a:lnTo>
                                  <a:pt x="33" y="36"/>
                                </a:lnTo>
                                <a:lnTo>
                                  <a:pt x="41" y="42"/>
                                </a:lnTo>
                                <a:lnTo>
                                  <a:pt x="45" y="54"/>
                                </a:lnTo>
                                <a:lnTo>
                                  <a:pt x="55" y="59"/>
                                </a:lnTo>
                                <a:lnTo>
                                  <a:pt x="66" y="61"/>
                                </a:lnTo>
                                <a:lnTo>
                                  <a:pt x="82" y="69"/>
                                </a:lnTo>
                                <a:lnTo>
                                  <a:pt x="93" y="81"/>
                                </a:lnTo>
                                <a:lnTo>
                                  <a:pt x="96" y="81"/>
                                </a:lnTo>
                                <a:lnTo>
                                  <a:pt x="110" y="90"/>
                                </a:lnTo>
                                <a:lnTo>
                                  <a:pt x="110" y="112"/>
                                </a:lnTo>
                                <a:lnTo>
                                  <a:pt x="114" y="122"/>
                                </a:lnTo>
                                <a:lnTo>
                                  <a:pt x="118" y="128"/>
                                </a:lnTo>
                                <a:lnTo>
                                  <a:pt x="123" y="133"/>
                                </a:lnTo>
                                <a:lnTo>
                                  <a:pt x="129" y="141"/>
                                </a:lnTo>
                                <a:lnTo>
                                  <a:pt x="132" y="149"/>
                                </a:lnTo>
                                <a:lnTo>
                                  <a:pt x="143" y="157"/>
                                </a:lnTo>
                                <a:lnTo>
                                  <a:pt x="141" y="165"/>
                                </a:lnTo>
                                <a:lnTo>
                                  <a:pt x="130" y="167"/>
                                </a:lnTo>
                                <a:lnTo>
                                  <a:pt x="126" y="160"/>
                                </a:lnTo>
                                <a:lnTo>
                                  <a:pt x="118" y="160"/>
                                </a:lnTo>
                                <a:lnTo>
                                  <a:pt x="118" y="178"/>
                                </a:lnTo>
                                <a:lnTo>
                                  <a:pt x="111" y="178"/>
                                </a:lnTo>
                                <a:lnTo>
                                  <a:pt x="103" y="170"/>
                                </a:lnTo>
                                <a:lnTo>
                                  <a:pt x="97" y="165"/>
                                </a:lnTo>
                                <a:lnTo>
                                  <a:pt x="97" y="155"/>
                                </a:lnTo>
                                <a:lnTo>
                                  <a:pt x="85" y="155"/>
                                </a:lnTo>
                                <a:lnTo>
                                  <a:pt x="81" y="165"/>
                                </a:lnTo>
                                <a:lnTo>
                                  <a:pt x="77" y="155"/>
                                </a:lnTo>
                                <a:lnTo>
                                  <a:pt x="75" y="145"/>
                                </a:lnTo>
                                <a:lnTo>
                                  <a:pt x="91" y="141"/>
                                </a:lnTo>
                                <a:lnTo>
                                  <a:pt x="99" y="144"/>
                                </a:lnTo>
                                <a:lnTo>
                                  <a:pt x="100" y="126"/>
                                </a:lnTo>
                                <a:lnTo>
                                  <a:pt x="92" y="120"/>
                                </a:lnTo>
                                <a:lnTo>
                                  <a:pt x="86" y="106"/>
                                </a:lnTo>
                                <a:lnTo>
                                  <a:pt x="82" y="88"/>
                                </a:lnTo>
                                <a:lnTo>
                                  <a:pt x="67" y="83"/>
                                </a:lnTo>
                                <a:lnTo>
                                  <a:pt x="60" y="74"/>
                                </a:lnTo>
                                <a:lnTo>
                                  <a:pt x="48" y="69"/>
                                </a:lnTo>
                                <a:lnTo>
                                  <a:pt x="55" y="87"/>
                                </a:lnTo>
                                <a:lnTo>
                                  <a:pt x="41" y="94"/>
                                </a:lnTo>
                                <a:lnTo>
                                  <a:pt x="33" y="75"/>
                                </a:lnTo>
                                <a:lnTo>
                                  <a:pt x="26" y="71"/>
                                </a:lnTo>
                                <a:lnTo>
                                  <a:pt x="26" y="61"/>
                                </a:lnTo>
                                <a:lnTo>
                                  <a:pt x="17" y="49"/>
                                </a:lnTo>
                                <a:lnTo>
                                  <a:pt x="6" y="42"/>
                                </a:lnTo>
                                <a:lnTo>
                                  <a:pt x="0" y="35"/>
                                </a:lnTo>
                                <a:lnTo>
                                  <a:pt x="3" y="29"/>
                                </a:lnTo>
                                <a:lnTo>
                                  <a:pt x="11" y="32"/>
                                </a:lnTo>
                                <a:lnTo>
                                  <a:pt x="14" y="24"/>
                                </a:lnTo>
                                <a:lnTo>
                                  <a:pt x="11" y="14"/>
                                </a:lnTo>
                                <a:lnTo>
                                  <a:pt x="1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2" name=""/>
                          <p:cNvSpPr/>
                          <p:nvPr/>
                        </p:nvSpPr>
                        <p:spPr>
                          <a:xfrm>
                            <a:off x="8600400" y="3443400"/>
                            <a:ext cx="48240" cy="83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6" h="153">
                                <a:moveTo>
                                  <a:pt x="22" y="0"/>
                                </a:moveTo>
                                <a:lnTo>
                                  <a:pt x="43" y="10"/>
                                </a:lnTo>
                                <a:lnTo>
                                  <a:pt x="55" y="22"/>
                                </a:lnTo>
                                <a:lnTo>
                                  <a:pt x="63" y="35"/>
                                </a:lnTo>
                                <a:lnTo>
                                  <a:pt x="70" y="35"/>
                                </a:lnTo>
                                <a:lnTo>
                                  <a:pt x="69" y="44"/>
                                </a:lnTo>
                                <a:lnTo>
                                  <a:pt x="77" y="50"/>
                                </a:lnTo>
                                <a:lnTo>
                                  <a:pt x="82" y="58"/>
                                </a:lnTo>
                                <a:lnTo>
                                  <a:pt x="96" y="76"/>
                                </a:lnTo>
                                <a:lnTo>
                                  <a:pt x="106" y="96"/>
                                </a:lnTo>
                                <a:lnTo>
                                  <a:pt x="88" y="95"/>
                                </a:lnTo>
                                <a:lnTo>
                                  <a:pt x="74" y="92"/>
                                </a:lnTo>
                                <a:lnTo>
                                  <a:pt x="84" y="106"/>
                                </a:lnTo>
                                <a:lnTo>
                                  <a:pt x="84" y="115"/>
                                </a:lnTo>
                                <a:lnTo>
                                  <a:pt x="84" y="124"/>
                                </a:lnTo>
                                <a:lnTo>
                                  <a:pt x="78" y="119"/>
                                </a:lnTo>
                                <a:lnTo>
                                  <a:pt x="71" y="112"/>
                                </a:lnTo>
                                <a:lnTo>
                                  <a:pt x="59" y="103"/>
                                </a:lnTo>
                                <a:lnTo>
                                  <a:pt x="52" y="99"/>
                                </a:lnTo>
                                <a:lnTo>
                                  <a:pt x="41" y="103"/>
                                </a:lnTo>
                                <a:lnTo>
                                  <a:pt x="34" y="106"/>
                                </a:lnTo>
                                <a:lnTo>
                                  <a:pt x="39" y="114"/>
                                </a:lnTo>
                                <a:lnTo>
                                  <a:pt x="50" y="119"/>
                                </a:lnTo>
                                <a:lnTo>
                                  <a:pt x="60" y="125"/>
                                </a:lnTo>
                                <a:lnTo>
                                  <a:pt x="65" y="135"/>
                                </a:lnTo>
                                <a:lnTo>
                                  <a:pt x="63" y="148"/>
                                </a:lnTo>
                                <a:lnTo>
                                  <a:pt x="63" y="153"/>
                                </a:lnTo>
                                <a:lnTo>
                                  <a:pt x="59" y="153"/>
                                </a:lnTo>
                                <a:lnTo>
                                  <a:pt x="52" y="148"/>
                                </a:lnTo>
                                <a:lnTo>
                                  <a:pt x="50" y="147"/>
                                </a:lnTo>
                                <a:lnTo>
                                  <a:pt x="45" y="144"/>
                                </a:lnTo>
                                <a:lnTo>
                                  <a:pt x="41" y="151"/>
                                </a:lnTo>
                                <a:lnTo>
                                  <a:pt x="34" y="153"/>
                                </a:lnTo>
                                <a:lnTo>
                                  <a:pt x="29" y="147"/>
                                </a:lnTo>
                                <a:lnTo>
                                  <a:pt x="29" y="134"/>
                                </a:lnTo>
                                <a:lnTo>
                                  <a:pt x="28" y="127"/>
                                </a:lnTo>
                                <a:lnTo>
                                  <a:pt x="21" y="122"/>
                                </a:lnTo>
                                <a:lnTo>
                                  <a:pt x="14" y="130"/>
                                </a:lnTo>
                                <a:lnTo>
                                  <a:pt x="3" y="130"/>
                                </a:lnTo>
                                <a:lnTo>
                                  <a:pt x="0" y="124"/>
                                </a:lnTo>
                                <a:lnTo>
                                  <a:pt x="3" y="109"/>
                                </a:lnTo>
                                <a:lnTo>
                                  <a:pt x="11" y="101"/>
                                </a:lnTo>
                                <a:lnTo>
                                  <a:pt x="10" y="77"/>
                                </a:lnTo>
                                <a:lnTo>
                                  <a:pt x="10" y="71"/>
                                </a:lnTo>
                                <a:lnTo>
                                  <a:pt x="18" y="70"/>
                                </a:lnTo>
                                <a:lnTo>
                                  <a:pt x="25" y="76"/>
                                </a:lnTo>
                                <a:lnTo>
                                  <a:pt x="37" y="79"/>
                                </a:lnTo>
                                <a:lnTo>
                                  <a:pt x="37" y="69"/>
                                </a:lnTo>
                                <a:lnTo>
                                  <a:pt x="32" y="63"/>
                                </a:lnTo>
                                <a:lnTo>
                                  <a:pt x="29" y="58"/>
                                </a:lnTo>
                                <a:lnTo>
                                  <a:pt x="33" y="58"/>
                                </a:lnTo>
                                <a:lnTo>
                                  <a:pt x="36" y="58"/>
                                </a:lnTo>
                                <a:lnTo>
                                  <a:pt x="39" y="58"/>
                                </a:lnTo>
                                <a:lnTo>
                                  <a:pt x="41" y="58"/>
                                </a:lnTo>
                                <a:lnTo>
                                  <a:pt x="45" y="54"/>
                                </a:lnTo>
                                <a:lnTo>
                                  <a:pt x="44" y="50"/>
                                </a:lnTo>
                                <a:lnTo>
                                  <a:pt x="40" y="40"/>
                                </a:lnTo>
                                <a:lnTo>
                                  <a:pt x="32" y="29"/>
                                </a:lnTo>
                                <a:lnTo>
                                  <a:pt x="21" y="24"/>
                                </a:lnTo>
                                <a:lnTo>
                                  <a:pt x="17" y="15"/>
                                </a:lnTo>
                                <a:lnTo>
                                  <a:pt x="2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7080" bIns="37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3" name=""/>
                          <p:cNvSpPr/>
                          <p:nvPr/>
                        </p:nvSpPr>
                        <p:spPr>
                          <a:xfrm>
                            <a:off x="8545680" y="3343320"/>
                            <a:ext cx="52200" cy="68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6" h="123">
                                <a:moveTo>
                                  <a:pt x="0" y="0"/>
                                </a:moveTo>
                                <a:lnTo>
                                  <a:pt x="11" y="0"/>
                                </a:lnTo>
                                <a:lnTo>
                                  <a:pt x="16" y="9"/>
                                </a:lnTo>
                                <a:lnTo>
                                  <a:pt x="31" y="22"/>
                                </a:lnTo>
                                <a:lnTo>
                                  <a:pt x="37" y="36"/>
                                </a:lnTo>
                                <a:lnTo>
                                  <a:pt x="48" y="38"/>
                                </a:lnTo>
                                <a:lnTo>
                                  <a:pt x="57" y="40"/>
                                </a:lnTo>
                                <a:lnTo>
                                  <a:pt x="64" y="46"/>
                                </a:lnTo>
                                <a:lnTo>
                                  <a:pt x="72" y="46"/>
                                </a:lnTo>
                                <a:lnTo>
                                  <a:pt x="81" y="55"/>
                                </a:lnTo>
                                <a:lnTo>
                                  <a:pt x="90" y="62"/>
                                </a:lnTo>
                                <a:lnTo>
                                  <a:pt x="99" y="67"/>
                                </a:lnTo>
                                <a:lnTo>
                                  <a:pt x="98" y="71"/>
                                </a:lnTo>
                                <a:lnTo>
                                  <a:pt x="92" y="74"/>
                                </a:lnTo>
                                <a:lnTo>
                                  <a:pt x="87" y="74"/>
                                </a:lnTo>
                                <a:lnTo>
                                  <a:pt x="84" y="78"/>
                                </a:lnTo>
                                <a:lnTo>
                                  <a:pt x="95" y="87"/>
                                </a:lnTo>
                                <a:lnTo>
                                  <a:pt x="103" y="96"/>
                                </a:lnTo>
                                <a:lnTo>
                                  <a:pt x="116" y="104"/>
                                </a:lnTo>
                                <a:lnTo>
                                  <a:pt x="107" y="115"/>
                                </a:lnTo>
                                <a:lnTo>
                                  <a:pt x="101" y="117"/>
                                </a:lnTo>
                                <a:lnTo>
                                  <a:pt x="102" y="123"/>
                                </a:lnTo>
                                <a:lnTo>
                                  <a:pt x="90" y="123"/>
                                </a:lnTo>
                                <a:lnTo>
                                  <a:pt x="85" y="119"/>
                                </a:lnTo>
                                <a:lnTo>
                                  <a:pt x="76" y="107"/>
                                </a:lnTo>
                                <a:lnTo>
                                  <a:pt x="69" y="97"/>
                                </a:lnTo>
                                <a:lnTo>
                                  <a:pt x="58" y="80"/>
                                </a:lnTo>
                                <a:lnTo>
                                  <a:pt x="46" y="67"/>
                                </a:lnTo>
                                <a:lnTo>
                                  <a:pt x="32" y="48"/>
                                </a:lnTo>
                                <a:lnTo>
                                  <a:pt x="24" y="42"/>
                                </a:lnTo>
                                <a:lnTo>
                                  <a:pt x="17" y="38"/>
                                </a:lnTo>
                                <a:lnTo>
                                  <a:pt x="14" y="27"/>
                                </a:lnTo>
                                <a:lnTo>
                                  <a:pt x="2" y="19"/>
                                </a:lnTo>
                                <a:lnTo>
                                  <a:pt x="2" y="13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240" bIns="21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04" name=""/>
                        <p:cNvGrpSpPr/>
                        <p:nvPr/>
                      </p:nvGrpSpPr>
                      <p:grpSpPr>
                        <a:xfrm>
                          <a:off x="7855920" y="3203280"/>
                          <a:ext cx="770040" cy="1130400"/>
                          <a:chOff x="7855920" y="3203280"/>
                          <a:chExt cx="770040" cy="1130400"/>
                        </a:xfrm>
                      </p:grpSpPr>
                      <p:sp>
                        <p:nvSpPr>
                          <p:cNvPr id="1505" name=""/>
                          <p:cNvSpPr/>
                          <p:nvPr/>
                        </p:nvSpPr>
                        <p:spPr>
                          <a:xfrm>
                            <a:off x="7855920" y="3483720"/>
                            <a:ext cx="383040" cy="517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38" h="938">
                                <a:moveTo>
                                  <a:pt x="626" y="112"/>
                                </a:moveTo>
                                <a:lnTo>
                                  <a:pt x="640" y="151"/>
                                </a:lnTo>
                                <a:lnTo>
                                  <a:pt x="666" y="210"/>
                                </a:lnTo>
                                <a:lnTo>
                                  <a:pt x="718" y="306"/>
                                </a:lnTo>
                                <a:lnTo>
                                  <a:pt x="737" y="319"/>
                                </a:lnTo>
                                <a:lnTo>
                                  <a:pt x="750" y="347"/>
                                </a:lnTo>
                                <a:lnTo>
                                  <a:pt x="791" y="346"/>
                                </a:lnTo>
                                <a:lnTo>
                                  <a:pt x="818" y="337"/>
                                </a:lnTo>
                                <a:lnTo>
                                  <a:pt x="838" y="337"/>
                                </a:lnTo>
                                <a:lnTo>
                                  <a:pt x="836" y="375"/>
                                </a:lnTo>
                                <a:lnTo>
                                  <a:pt x="829" y="395"/>
                                </a:lnTo>
                                <a:lnTo>
                                  <a:pt x="754" y="479"/>
                                </a:lnTo>
                                <a:lnTo>
                                  <a:pt x="685" y="566"/>
                                </a:lnTo>
                                <a:lnTo>
                                  <a:pt x="687" y="600"/>
                                </a:lnTo>
                                <a:lnTo>
                                  <a:pt x="706" y="624"/>
                                </a:lnTo>
                                <a:lnTo>
                                  <a:pt x="696" y="643"/>
                                </a:lnTo>
                                <a:lnTo>
                                  <a:pt x="702" y="669"/>
                                </a:lnTo>
                                <a:lnTo>
                                  <a:pt x="696" y="688"/>
                                </a:lnTo>
                                <a:lnTo>
                                  <a:pt x="680" y="704"/>
                                </a:lnTo>
                                <a:lnTo>
                                  <a:pt x="666" y="704"/>
                                </a:lnTo>
                                <a:lnTo>
                                  <a:pt x="643" y="732"/>
                                </a:lnTo>
                                <a:lnTo>
                                  <a:pt x="622" y="764"/>
                                </a:lnTo>
                                <a:lnTo>
                                  <a:pt x="626" y="799"/>
                                </a:lnTo>
                                <a:lnTo>
                                  <a:pt x="606" y="815"/>
                                </a:lnTo>
                                <a:lnTo>
                                  <a:pt x="587" y="851"/>
                                </a:lnTo>
                                <a:lnTo>
                                  <a:pt x="563" y="884"/>
                                </a:lnTo>
                                <a:lnTo>
                                  <a:pt x="551" y="897"/>
                                </a:lnTo>
                                <a:lnTo>
                                  <a:pt x="540" y="900"/>
                                </a:lnTo>
                                <a:lnTo>
                                  <a:pt x="521" y="922"/>
                                </a:lnTo>
                                <a:lnTo>
                                  <a:pt x="489" y="935"/>
                                </a:lnTo>
                                <a:lnTo>
                                  <a:pt x="449" y="938"/>
                                </a:lnTo>
                                <a:lnTo>
                                  <a:pt x="427" y="923"/>
                                </a:lnTo>
                                <a:lnTo>
                                  <a:pt x="425" y="909"/>
                                </a:lnTo>
                                <a:lnTo>
                                  <a:pt x="421" y="890"/>
                                </a:lnTo>
                                <a:lnTo>
                                  <a:pt x="406" y="880"/>
                                </a:lnTo>
                                <a:lnTo>
                                  <a:pt x="393" y="844"/>
                                </a:lnTo>
                                <a:lnTo>
                                  <a:pt x="389" y="826"/>
                                </a:lnTo>
                                <a:lnTo>
                                  <a:pt x="388" y="804"/>
                                </a:lnTo>
                                <a:lnTo>
                                  <a:pt x="381" y="788"/>
                                </a:lnTo>
                                <a:lnTo>
                                  <a:pt x="379" y="778"/>
                                </a:lnTo>
                                <a:lnTo>
                                  <a:pt x="367" y="762"/>
                                </a:lnTo>
                                <a:lnTo>
                                  <a:pt x="353" y="749"/>
                                </a:lnTo>
                                <a:lnTo>
                                  <a:pt x="344" y="727"/>
                                </a:lnTo>
                                <a:lnTo>
                                  <a:pt x="337" y="711"/>
                                </a:lnTo>
                                <a:lnTo>
                                  <a:pt x="340" y="685"/>
                                </a:lnTo>
                                <a:lnTo>
                                  <a:pt x="360" y="646"/>
                                </a:lnTo>
                                <a:lnTo>
                                  <a:pt x="364" y="604"/>
                                </a:lnTo>
                                <a:lnTo>
                                  <a:pt x="349" y="556"/>
                                </a:lnTo>
                                <a:lnTo>
                                  <a:pt x="327" y="537"/>
                                </a:lnTo>
                                <a:lnTo>
                                  <a:pt x="312" y="511"/>
                                </a:lnTo>
                                <a:lnTo>
                                  <a:pt x="318" y="470"/>
                                </a:lnTo>
                                <a:lnTo>
                                  <a:pt x="307" y="440"/>
                                </a:lnTo>
                                <a:lnTo>
                                  <a:pt x="281" y="437"/>
                                </a:lnTo>
                                <a:lnTo>
                                  <a:pt x="253" y="414"/>
                                </a:lnTo>
                                <a:lnTo>
                                  <a:pt x="219" y="401"/>
                                </a:lnTo>
                                <a:lnTo>
                                  <a:pt x="183" y="421"/>
                                </a:lnTo>
                                <a:lnTo>
                                  <a:pt x="90" y="415"/>
                                </a:lnTo>
                                <a:lnTo>
                                  <a:pt x="39" y="364"/>
                                </a:lnTo>
                                <a:lnTo>
                                  <a:pt x="0" y="295"/>
                                </a:lnTo>
                                <a:lnTo>
                                  <a:pt x="7" y="271"/>
                                </a:lnTo>
                                <a:lnTo>
                                  <a:pt x="24" y="254"/>
                                </a:lnTo>
                                <a:lnTo>
                                  <a:pt x="33" y="206"/>
                                </a:lnTo>
                                <a:lnTo>
                                  <a:pt x="45" y="171"/>
                                </a:lnTo>
                                <a:lnTo>
                                  <a:pt x="81" y="135"/>
                                </a:lnTo>
                                <a:lnTo>
                                  <a:pt x="118" y="119"/>
                                </a:lnTo>
                                <a:lnTo>
                                  <a:pt x="152" y="81"/>
                                </a:lnTo>
                                <a:lnTo>
                                  <a:pt x="160" y="65"/>
                                </a:lnTo>
                                <a:lnTo>
                                  <a:pt x="205" y="25"/>
                                </a:lnTo>
                                <a:lnTo>
                                  <a:pt x="234" y="41"/>
                                </a:lnTo>
                                <a:lnTo>
                                  <a:pt x="255" y="39"/>
                                </a:lnTo>
                                <a:lnTo>
                                  <a:pt x="279" y="17"/>
                                </a:lnTo>
                                <a:lnTo>
                                  <a:pt x="308" y="14"/>
                                </a:lnTo>
                                <a:lnTo>
                                  <a:pt x="327" y="20"/>
                                </a:lnTo>
                                <a:lnTo>
                                  <a:pt x="345" y="3"/>
                                </a:lnTo>
                                <a:lnTo>
                                  <a:pt x="369" y="0"/>
                                </a:lnTo>
                                <a:lnTo>
                                  <a:pt x="374" y="32"/>
                                </a:lnTo>
                                <a:lnTo>
                                  <a:pt x="389" y="55"/>
                                </a:lnTo>
                                <a:lnTo>
                                  <a:pt x="432" y="78"/>
                                </a:lnTo>
                                <a:lnTo>
                                  <a:pt x="467" y="83"/>
                                </a:lnTo>
                                <a:lnTo>
                                  <a:pt x="471" y="57"/>
                                </a:lnTo>
                                <a:lnTo>
                                  <a:pt x="499" y="57"/>
                                </a:lnTo>
                                <a:lnTo>
                                  <a:pt x="532" y="73"/>
                                </a:lnTo>
                                <a:lnTo>
                                  <a:pt x="567" y="81"/>
                                </a:lnTo>
                                <a:lnTo>
                                  <a:pt x="599" y="71"/>
                                </a:lnTo>
                                <a:lnTo>
                                  <a:pt x="626" y="11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506" name=""/>
                          <p:cNvGrpSpPr/>
                          <p:nvPr/>
                        </p:nvGrpSpPr>
                        <p:grpSpPr>
                          <a:xfrm>
                            <a:off x="7881120" y="3203280"/>
                            <a:ext cx="168840" cy="177480"/>
                            <a:chOff x="7881120" y="3203280"/>
                            <a:chExt cx="168840" cy="177480"/>
                          </a:xfrm>
                        </p:grpSpPr>
                        <p:grpSp>
                          <p:nvGrpSpPr>
                            <p:cNvPr id="1507" name=""/>
                            <p:cNvGrpSpPr/>
                            <p:nvPr/>
                          </p:nvGrpSpPr>
                          <p:grpSpPr>
                            <a:xfrm>
                              <a:off x="7948800" y="3314520"/>
                              <a:ext cx="51840" cy="66240"/>
                              <a:chOff x="7948800" y="3314520"/>
                              <a:chExt cx="51840" cy="66240"/>
                            </a:xfrm>
                          </p:grpSpPr>
                          <p:sp>
                            <p:nvSpPr>
                              <p:cNvPr id="1508" name=""/>
                              <p:cNvSpPr/>
                              <p:nvPr/>
                            </p:nvSpPr>
                            <p:spPr>
                              <a:xfrm>
                                <a:off x="7948800" y="3338640"/>
                                <a:ext cx="24480" cy="37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3" h="66">
                                    <a:moveTo>
                                      <a:pt x="12" y="20"/>
                                    </a:moveTo>
                                    <a:lnTo>
                                      <a:pt x="16" y="13"/>
                                    </a:lnTo>
                                    <a:lnTo>
                                      <a:pt x="26" y="13"/>
                                    </a:lnTo>
                                    <a:lnTo>
                                      <a:pt x="40" y="0"/>
                                    </a:lnTo>
                                    <a:lnTo>
                                      <a:pt x="44" y="8"/>
                                    </a:lnTo>
                                    <a:lnTo>
                                      <a:pt x="51" y="8"/>
                                    </a:lnTo>
                                    <a:lnTo>
                                      <a:pt x="53" y="13"/>
                                    </a:lnTo>
                                    <a:lnTo>
                                      <a:pt x="49" y="20"/>
                                    </a:lnTo>
                                    <a:lnTo>
                                      <a:pt x="44" y="23"/>
                                    </a:lnTo>
                                    <a:lnTo>
                                      <a:pt x="44" y="29"/>
                                    </a:lnTo>
                                    <a:lnTo>
                                      <a:pt x="42" y="31"/>
                                    </a:lnTo>
                                    <a:lnTo>
                                      <a:pt x="41" y="36"/>
                                    </a:lnTo>
                                    <a:lnTo>
                                      <a:pt x="44" y="42"/>
                                    </a:lnTo>
                                    <a:lnTo>
                                      <a:pt x="40" y="47"/>
                                    </a:lnTo>
                                    <a:lnTo>
                                      <a:pt x="36" y="50"/>
                                    </a:lnTo>
                                    <a:lnTo>
                                      <a:pt x="32" y="50"/>
                                    </a:lnTo>
                                    <a:lnTo>
                                      <a:pt x="30" y="52"/>
                                    </a:lnTo>
                                    <a:lnTo>
                                      <a:pt x="29" y="56"/>
                                    </a:lnTo>
                                    <a:lnTo>
                                      <a:pt x="22" y="58"/>
                                    </a:lnTo>
                                    <a:lnTo>
                                      <a:pt x="21" y="56"/>
                                    </a:lnTo>
                                    <a:lnTo>
                                      <a:pt x="15" y="61"/>
                                    </a:lnTo>
                                    <a:lnTo>
                                      <a:pt x="14" y="62"/>
                                    </a:lnTo>
                                    <a:lnTo>
                                      <a:pt x="7" y="66"/>
                                    </a:lnTo>
                                    <a:lnTo>
                                      <a:pt x="4" y="66"/>
                                    </a:lnTo>
                                    <a:lnTo>
                                      <a:pt x="3" y="63"/>
                                    </a:lnTo>
                                    <a:lnTo>
                                      <a:pt x="1" y="56"/>
                                    </a:lnTo>
                                    <a:lnTo>
                                      <a:pt x="0" y="55"/>
                                    </a:lnTo>
                                    <a:lnTo>
                                      <a:pt x="0" y="49"/>
                                    </a:lnTo>
                                    <a:lnTo>
                                      <a:pt x="4" y="46"/>
                                    </a:lnTo>
                                    <a:lnTo>
                                      <a:pt x="8" y="43"/>
                                    </a:lnTo>
                                    <a:lnTo>
                                      <a:pt x="11" y="37"/>
                                    </a:lnTo>
                                    <a:lnTo>
                                      <a:pt x="15" y="37"/>
                                    </a:lnTo>
                                    <a:lnTo>
                                      <a:pt x="18" y="39"/>
                                    </a:lnTo>
                                    <a:lnTo>
                                      <a:pt x="22" y="37"/>
                                    </a:lnTo>
                                    <a:lnTo>
                                      <a:pt x="18" y="36"/>
                                    </a:lnTo>
                                    <a:lnTo>
                                      <a:pt x="12" y="2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792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360" bIns="-93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09" name=""/>
                              <p:cNvSpPr/>
                              <p:nvPr/>
                            </p:nvSpPr>
                            <p:spPr>
                              <a:xfrm>
                                <a:off x="7971480" y="3314520"/>
                                <a:ext cx="29160" cy="66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5" h="120">
                                    <a:moveTo>
                                      <a:pt x="21" y="17"/>
                                    </a:moveTo>
                                    <a:lnTo>
                                      <a:pt x="25" y="13"/>
                                    </a:lnTo>
                                    <a:lnTo>
                                      <a:pt x="37" y="14"/>
                                    </a:lnTo>
                                    <a:lnTo>
                                      <a:pt x="40" y="11"/>
                                    </a:lnTo>
                                    <a:lnTo>
                                      <a:pt x="43" y="7"/>
                                    </a:lnTo>
                                    <a:lnTo>
                                      <a:pt x="46" y="7"/>
                                    </a:lnTo>
                                    <a:lnTo>
                                      <a:pt x="48" y="5"/>
                                    </a:lnTo>
                                    <a:lnTo>
                                      <a:pt x="52" y="2"/>
                                    </a:lnTo>
                                    <a:lnTo>
                                      <a:pt x="58" y="0"/>
                                    </a:lnTo>
                                    <a:lnTo>
                                      <a:pt x="65" y="1"/>
                                    </a:lnTo>
                                    <a:lnTo>
                                      <a:pt x="63" y="7"/>
                                    </a:lnTo>
                                    <a:lnTo>
                                      <a:pt x="61" y="11"/>
                                    </a:lnTo>
                                    <a:lnTo>
                                      <a:pt x="58" y="13"/>
                                    </a:lnTo>
                                    <a:lnTo>
                                      <a:pt x="55" y="14"/>
                                    </a:lnTo>
                                    <a:lnTo>
                                      <a:pt x="47" y="17"/>
                                    </a:lnTo>
                                    <a:lnTo>
                                      <a:pt x="47" y="23"/>
                                    </a:lnTo>
                                    <a:lnTo>
                                      <a:pt x="48" y="26"/>
                                    </a:lnTo>
                                    <a:lnTo>
                                      <a:pt x="57" y="23"/>
                                    </a:lnTo>
                                    <a:lnTo>
                                      <a:pt x="63" y="20"/>
                                    </a:lnTo>
                                    <a:lnTo>
                                      <a:pt x="65" y="23"/>
                                    </a:lnTo>
                                    <a:lnTo>
                                      <a:pt x="65" y="31"/>
                                    </a:lnTo>
                                    <a:lnTo>
                                      <a:pt x="59" y="33"/>
                                    </a:lnTo>
                                    <a:lnTo>
                                      <a:pt x="54" y="33"/>
                                    </a:lnTo>
                                    <a:lnTo>
                                      <a:pt x="50" y="37"/>
                                    </a:lnTo>
                                    <a:lnTo>
                                      <a:pt x="48" y="40"/>
                                    </a:lnTo>
                                    <a:lnTo>
                                      <a:pt x="48" y="45"/>
                                    </a:lnTo>
                                    <a:lnTo>
                                      <a:pt x="52" y="50"/>
                                    </a:lnTo>
                                    <a:lnTo>
                                      <a:pt x="57" y="55"/>
                                    </a:lnTo>
                                    <a:lnTo>
                                      <a:pt x="59" y="59"/>
                                    </a:lnTo>
                                    <a:lnTo>
                                      <a:pt x="61" y="65"/>
                                    </a:lnTo>
                                    <a:lnTo>
                                      <a:pt x="62" y="71"/>
                                    </a:lnTo>
                                    <a:lnTo>
                                      <a:pt x="65" y="78"/>
                                    </a:lnTo>
                                    <a:lnTo>
                                      <a:pt x="65" y="88"/>
                                    </a:lnTo>
                                    <a:lnTo>
                                      <a:pt x="62" y="94"/>
                                    </a:lnTo>
                                    <a:lnTo>
                                      <a:pt x="57" y="98"/>
                                    </a:lnTo>
                                    <a:lnTo>
                                      <a:pt x="55" y="101"/>
                                    </a:lnTo>
                                    <a:lnTo>
                                      <a:pt x="58" y="107"/>
                                    </a:lnTo>
                                    <a:lnTo>
                                      <a:pt x="61" y="113"/>
                                    </a:lnTo>
                                    <a:lnTo>
                                      <a:pt x="52" y="113"/>
                                    </a:lnTo>
                                    <a:lnTo>
                                      <a:pt x="46" y="113"/>
                                    </a:lnTo>
                                    <a:lnTo>
                                      <a:pt x="43" y="111"/>
                                    </a:lnTo>
                                    <a:lnTo>
                                      <a:pt x="37" y="111"/>
                                    </a:lnTo>
                                    <a:lnTo>
                                      <a:pt x="31" y="113"/>
                                    </a:lnTo>
                                    <a:lnTo>
                                      <a:pt x="25" y="116"/>
                                    </a:lnTo>
                                    <a:lnTo>
                                      <a:pt x="21" y="116"/>
                                    </a:lnTo>
                                    <a:lnTo>
                                      <a:pt x="18" y="117"/>
                                    </a:lnTo>
                                    <a:lnTo>
                                      <a:pt x="11" y="120"/>
                                    </a:lnTo>
                                    <a:lnTo>
                                      <a:pt x="10" y="119"/>
                                    </a:lnTo>
                                    <a:lnTo>
                                      <a:pt x="7" y="116"/>
                                    </a:lnTo>
                                    <a:lnTo>
                                      <a:pt x="3" y="114"/>
                                    </a:lnTo>
                                    <a:lnTo>
                                      <a:pt x="0" y="113"/>
                                    </a:lnTo>
                                    <a:lnTo>
                                      <a:pt x="0" y="107"/>
                                    </a:lnTo>
                                    <a:lnTo>
                                      <a:pt x="3" y="100"/>
                                    </a:lnTo>
                                    <a:lnTo>
                                      <a:pt x="7" y="100"/>
                                    </a:lnTo>
                                    <a:lnTo>
                                      <a:pt x="11" y="98"/>
                                    </a:lnTo>
                                    <a:lnTo>
                                      <a:pt x="17" y="98"/>
                                    </a:lnTo>
                                    <a:lnTo>
                                      <a:pt x="17" y="97"/>
                                    </a:lnTo>
                                    <a:lnTo>
                                      <a:pt x="11" y="94"/>
                                    </a:lnTo>
                                    <a:lnTo>
                                      <a:pt x="11" y="90"/>
                                    </a:lnTo>
                                    <a:lnTo>
                                      <a:pt x="11" y="87"/>
                                    </a:lnTo>
                                    <a:lnTo>
                                      <a:pt x="17" y="84"/>
                                    </a:lnTo>
                                    <a:lnTo>
                                      <a:pt x="20" y="82"/>
                                    </a:lnTo>
                                    <a:lnTo>
                                      <a:pt x="22" y="81"/>
                                    </a:lnTo>
                                    <a:lnTo>
                                      <a:pt x="26" y="81"/>
                                    </a:lnTo>
                                    <a:lnTo>
                                      <a:pt x="29" y="79"/>
                                    </a:lnTo>
                                    <a:lnTo>
                                      <a:pt x="31" y="68"/>
                                    </a:lnTo>
                                    <a:lnTo>
                                      <a:pt x="35" y="59"/>
                                    </a:lnTo>
                                    <a:lnTo>
                                      <a:pt x="35" y="55"/>
                                    </a:lnTo>
                                    <a:lnTo>
                                      <a:pt x="25" y="53"/>
                                    </a:lnTo>
                                    <a:lnTo>
                                      <a:pt x="28" y="46"/>
                                    </a:lnTo>
                                    <a:lnTo>
                                      <a:pt x="21" y="42"/>
                                    </a:lnTo>
                                    <a:lnTo>
                                      <a:pt x="14" y="43"/>
                                    </a:lnTo>
                                    <a:lnTo>
                                      <a:pt x="22" y="33"/>
                                    </a:lnTo>
                                    <a:lnTo>
                                      <a:pt x="21" y="1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792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9440" bIns="19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510" name=""/>
                            <p:cNvSpPr/>
                            <p:nvPr/>
                          </p:nvSpPr>
                          <p:spPr>
                            <a:xfrm>
                              <a:off x="7881120" y="3203280"/>
                              <a:ext cx="168840" cy="111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70" h="203">
                                  <a:moveTo>
                                    <a:pt x="0" y="203"/>
                                  </a:moveTo>
                                  <a:lnTo>
                                    <a:pt x="23" y="199"/>
                                  </a:lnTo>
                                  <a:lnTo>
                                    <a:pt x="31" y="190"/>
                                  </a:lnTo>
                                  <a:lnTo>
                                    <a:pt x="37" y="184"/>
                                  </a:lnTo>
                                  <a:lnTo>
                                    <a:pt x="40" y="180"/>
                                  </a:lnTo>
                                  <a:lnTo>
                                    <a:pt x="45" y="180"/>
                                  </a:lnTo>
                                  <a:lnTo>
                                    <a:pt x="51" y="175"/>
                                  </a:lnTo>
                                  <a:lnTo>
                                    <a:pt x="57" y="175"/>
                                  </a:lnTo>
                                  <a:lnTo>
                                    <a:pt x="62" y="175"/>
                                  </a:lnTo>
                                  <a:lnTo>
                                    <a:pt x="67" y="175"/>
                                  </a:lnTo>
                                  <a:lnTo>
                                    <a:pt x="70" y="175"/>
                                  </a:lnTo>
                                  <a:lnTo>
                                    <a:pt x="75" y="170"/>
                                  </a:lnTo>
                                  <a:lnTo>
                                    <a:pt x="78" y="165"/>
                                  </a:lnTo>
                                  <a:lnTo>
                                    <a:pt x="85" y="161"/>
                                  </a:lnTo>
                                  <a:lnTo>
                                    <a:pt x="90" y="159"/>
                                  </a:lnTo>
                                  <a:lnTo>
                                    <a:pt x="94" y="157"/>
                                  </a:lnTo>
                                  <a:lnTo>
                                    <a:pt x="100" y="155"/>
                                  </a:lnTo>
                                  <a:lnTo>
                                    <a:pt x="104" y="152"/>
                                  </a:lnTo>
                                  <a:lnTo>
                                    <a:pt x="110" y="149"/>
                                  </a:lnTo>
                                  <a:lnTo>
                                    <a:pt x="115" y="146"/>
                                  </a:lnTo>
                                  <a:lnTo>
                                    <a:pt x="122" y="142"/>
                                  </a:lnTo>
                                  <a:lnTo>
                                    <a:pt x="129" y="143"/>
                                  </a:lnTo>
                                  <a:lnTo>
                                    <a:pt x="140" y="146"/>
                                  </a:lnTo>
                                  <a:lnTo>
                                    <a:pt x="151" y="146"/>
                                  </a:lnTo>
                                  <a:lnTo>
                                    <a:pt x="163" y="142"/>
                                  </a:lnTo>
                                  <a:lnTo>
                                    <a:pt x="169" y="141"/>
                                  </a:lnTo>
                                  <a:lnTo>
                                    <a:pt x="173" y="132"/>
                                  </a:lnTo>
                                  <a:lnTo>
                                    <a:pt x="178" y="126"/>
                                  </a:lnTo>
                                  <a:lnTo>
                                    <a:pt x="188" y="119"/>
                                  </a:lnTo>
                                  <a:lnTo>
                                    <a:pt x="190" y="114"/>
                                  </a:lnTo>
                                  <a:lnTo>
                                    <a:pt x="190" y="109"/>
                                  </a:lnTo>
                                  <a:lnTo>
                                    <a:pt x="199" y="104"/>
                                  </a:lnTo>
                                  <a:lnTo>
                                    <a:pt x="203" y="100"/>
                                  </a:lnTo>
                                  <a:lnTo>
                                    <a:pt x="206" y="96"/>
                                  </a:lnTo>
                                  <a:lnTo>
                                    <a:pt x="208" y="94"/>
                                  </a:lnTo>
                                  <a:lnTo>
                                    <a:pt x="222" y="85"/>
                                  </a:lnTo>
                                  <a:lnTo>
                                    <a:pt x="222" y="94"/>
                                  </a:lnTo>
                                  <a:lnTo>
                                    <a:pt x="219" y="98"/>
                                  </a:lnTo>
                                  <a:lnTo>
                                    <a:pt x="222" y="103"/>
                                  </a:lnTo>
                                  <a:lnTo>
                                    <a:pt x="232" y="104"/>
                                  </a:lnTo>
                                  <a:lnTo>
                                    <a:pt x="237" y="104"/>
                                  </a:lnTo>
                                  <a:lnTo>
                                    <a:pt x="243" y="100"/>
                                  </a:lnTo>
                                  <a:lnTo>
                                    <a:pt x="247" y="94"/>
                                  </a:lnTo>
                                  <a:lnTo>
                                    <a:pt x="247" y="90"/>
                                  </a:lnTo>
                                  <a:lnTo>
                                    <a:pt x="251" y="85"/>
                                  </a:lnTo>
                                  <a:lnTo>
                                    <a:pt x="251" y="81"/>
                                  </a:lnTo>
                                  <a:lnTo>
                                    <a:pt x="255" y="75"/>
                                  </a:lnTo>
                                  <a:lnTo>
                                    <a:pt x="258" y="72"/>
                                  </a:lnTo>
                                  <a:lnTo>
                                    <a:pt x="265" y="72"/>
                                  </a:lnTo>
                                  <a:lnTo>
                                    <a:pt x="278" y="72"/>
                                  </a:lnTo>
                                  <a:lnTo>
                                    <a:pt x="289" y="66"/>
                                  </a:lnTo>
                                  <a:lnTo>
                                    <a:pt x="299" y="58"/>
                                  </a:lnTo>
                                  <a:lnTo>
                                    <a:pt x="310" y="55"/>
                                  </a:lnTo>
                                  <a:lnTo>
                                    <a:pt x="319" y="48"/>
                                  </a:lnTo>
                                  <a:lnTo>
                                    <a:pt x="326" y="36"/>
                                  </a:lnTo>
                                  <a:lnTo>
                                    <a:pt x="341" y="23"/>
                                  </a:lnTo>
                                  <a:lnTo>
                                    <a:pt x="351" y="17"/>
                                  </a:lnTo>
                                  <a:lnTo>
                                    <a:pt x="361" y="11"/>
                                  </a:lnTo>
                                  <a:lnTo>
                                    <a:pt x="370" y="4"/>
                                  </a:lnTo>
                                  <a:lnTo>
                                    <a:pt x="354" y="0"/>
                                  </a:lnTo>
                                  <a:lnTo>
                                    <a:pt x="337" y="0"/>
                                  </a:lnTo>
                                  <a:lnTo>
                                    <a:pt x="321" y="7"/>
                                  </a:lnTo>
                                  <a:lnTo>
                                    <a:pt x="313" y="11"/>
                                  </a:lnTo>
                                  <a:lnTo>
                                    <a:pt x="299" y="14"/>
                                  </a:lnTo>
                                  <a:lnTo>
                                    <a:pt x="284" y="16"/>
                                  </a:lnTo>
                                  <a:lnTo>
                                    <a:pt x="276" y="19"/>
                                  </a:lnTo>
                                  <a:lnTo>
                                    <a:pt x="258" y="26"/>
                                  </a:lnTo>
                                  <a:lnTo>
                                    <a:pt x="247" y="30"/>
                                  </a:lnTo>
                                  <a:lnTo>
                                    <a:pt x="236" y="35"/>
                                  </a:lnTo>
                                  <a:lnTo>
                                    <a:pt x="222" y="37"/>
                                  </a:lnTo>
                                  <a:lnTo>
                                    <a:pt x="208" y="42"/>
                                  </a:lnTo>
                                  <a:lnTo>
                                    <a:pt x="196" y="48"/>
                                  </a:lnTo>
                                  <a:lnTo>
                                    <a:pt x="186" y="55"/>
                                  </a:lnTo>
                                  <a:lnTo>
                                    <a:pt x="178" y="62"/>
                                  </a:lnTo>
                                  <a:lnTo>
                                    <a:pt x="170" y="68"/>
                                  </a:lnTo>
                                  <a:lnTo>
                                    <a:pt x="163" y="72"/>
                                  </a:lnTo>
                                  <a:lnTo>
                                    <a:pt x="148" y="81"/>
                                  </a:lnTo>
                                  <a:lnTo>
                                    <a:pt x="133" y="90"/>
                                  </a:lnTo>
                                  <a:lnTo>
                                    <a:pt x="115" y="100"/>
                                  </a:lnTo>
                                  <a:lnTo>
                                    <a:pt x="103" y="113"/>
                                  </a:lnTo>
                                  <a:lnTo>
                                    <a:pt x="89" y="123"/>
                                  </a:lnTo>
                                  <a:lnTo>
                                    <a:pt x="77" y="129"/>
                                  </a:lnTo>
                                  <a:lnTo>
                                    <a:pt x="64" y="142"/>
                                  </a:lnTo>
                                  <a:lnTo>
                                    <a:pt x="56" y="151"/>
                                  </a:lnTo>
                                  <a:lnTo>
                                    <a:pt x="45" y="159"/>
                                  </a:lnTo>
                                  <a:lnTo>
                                    <a:pt x="34" y="165"/>
                                  </a:lnTo>
                                  <a:lnTo>
                                    <a:pt x="23" y="171"/>
                                  </a:lnTo>
                                  <a:lnTo>
                                    <a:pt x="0" y="20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792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511" name=""/>
                          <p:cNvSpPr/>
                          <p:nvPr/>
                        </p:nvSpPr>
                        <p:spPr>
                          <a:xfrm>
                            <a:off x="7959960" y="4228920"/>
                            <a:ext cx="250920" cy="104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52" h="189">
                                <a:moveTo>
                                  <a:pt x="0" y="83"/>
                                </a:moveTo>
                                <a:lnTo>
                                  <a:pt x="54" y="58"/>
                                </a:lnTo>
                                <a:lnTo>
                                  <a:pt x="67" y="57"/>
                                </a:lnTo>
                                <a:lnTo>
                                  <a:pt x="76" y="53"/>
                                </a:lnTo>
                                <a:lnTo>
                                  <a:pt x="136" y="56"/>
                                </a:lnTo>
                                <a:lnTo>
                                  <a:pt x="140" y="50"/>
                                </a:lnTo>
                                <a:lnTo>
                                  <a:pt x="147" y="47"/>
                                </a:lnTo>
                                <a:lnTo>
                                  <a:pt x="159" y="42"/>
                                </a:lnTo>
                                <a:lnTo>
                                  <a:pt x="168" y="37"/>
                                </a:lnTo>
                                <a:lnTo>
                                  <a:pt x="176" y="37"/>
                                </a:lnTo>
                                <a:lnTo>
                                  <a:pt x="179" y="37"/>
                                </a:lnTo>
                                <a:lnTo>
                                  <a:pt x="181" y="37"/>
                                </a:lnTo>
                                <a:lnTo>
                                  <a:pt x="192" y="38"/>
                                </a:lnTo>
                                <a:lnTo>
                                  <a:pt x="203" y="42"/>
                                </a:lnTo>
                                <a:lnTo>
                                  <a:pt x="210" y="51"/>
                                </a:lnTo>
                                <a:lnTo>
                                  <a:pt x="214" y="50"/>
                                </a:lnTo>
                                <a:lnTo>
                                  <a:pt x="217" y="57"/>
                                </a:lnTo>
                                <a:lnTo>
                                  <a:pt x="232" y="56"/>
                                </a:lnTo>
                                <a:lnTo>
                                  <a:pt x="246" y="51"/>
                                </a:lnTo>
                                <a:lnTo>
                                  <a:pt x="254" y="50"/>
                                </a:lnTo>
                                <a:lnTo>
                                  <a:pt x="264" y="45"/>
                                </a:lnTo>
                                <a:lnTo>
                                  <a:pt x="275" y="41"/>
                                </a:lnTo>
                                <a:lnTo>
                                  <a:pt x="284" y="41"/>
                                </a:lnTo>
                                <a:lnTo>
                                  <a:pt x="291" y="38"/>
                                </a:lnTo>
                                <a:lnTo>
                                  <a:pt x="299" y="34"/>
                                </a:lnTo>
                                <a:lnTo>
                                  <a:pt x="305" y="38"/>
                                </a:lnTo>
                                <a:lnTo>
                                  <a:pt x="321" y="42"/>
                                </a:lnTo>
                                <a:lnTo>
                                  <a:pt x="338" y="45"/>
                                </a:lnTo>
                                <a:lnTo>
                                  <a:pt x="354" y="45"/>
                                </a:lnTo>
                                <a:lnTo>
                                  <a:pt x="361" y="38"/>
                                </a:lnTo>
                                <a:lnTo>
                                  <a:pt x="365" y="38"/>
                                </a:lnTo>
                                <a:lnTo>
                                  <a:pt x="369" y="34"/>
                                </a:lnTo>
                                <a:lnTo>
                                  <a:pt x="382" y="27"/>
                                </a:lnTo>
                                <a:lnTo>
                                  <a:pt x="397" y="24"/>
                                </a:lnTo>
                                <a:lnTo>
                                  <a:pt x="405" y="24"/>
                                </a:lnTo>
                                <a:lnTo>
                                  <a:pt x="417" y="19"/>
                                </a:lnTo>
                                <a:lnTo>
                                  <a:pt x="423" y="19"/>
                                </a:lnTo>
                                <a:lnTo>
                                  <a:pt x="436" y="9"/>
                                </a:lnTo>
                                <a:lnTo>
                                  <a:pt x="440" y="11"/>
                                </a:lnTo>
                                <a:lnTo>
                                  <a:pt x="445" y="5"/>
                                </a:lnTo>
                                <a:lnTo>
                                  <a:pt x="449" y="3"/>
                                </a:lnTo>
                                <a:lnTo>
                                  <a:pt x="454" y="0"/>
                                </a:lnTo>
                                <a:lnTo>
                                  <a:pt x="454" y="8"/>
                                </a:lnTo>
                                <a:lnTo>
                                  <a:pt x="460" y="13"/>
                                </a:lnTo>
                                <a:lnTo>
                                  <a:pt x="464" y="21"/>
                                </a:lnTo>
                                <a:lnTo>
                                  <a:pt x="468" y="25"/>
                                </a:lnTo>
                                <a:lnTo>
                                  <a:pt x="472" y="25"/>
                                </a:lnTo>
                                <a:lnTo>
                                  <a:pt x="476" y="28"/>
                                </a:lnTo>
                                <a:lnTo>
                                  <a:pt x="482" y="28"/>
                                </a:lnTo>
                                <a:lnTo>
                                  <a:pt x="482" y="31"/>
                                </a:lnTo>
                                <a:lnTo>
                                  <a:pt x="509" y="31"/>
                                </a:lnTo>
                                <a:lnTo>
                                  <a:pt x="520" y="40"/>
                                </a:lnTo>
                                <a:lnTo>
                                  <a:pt x="523" y="40"/>
                                </a:lnTo>
                                <a:lnTo>
                                  <a:pt x="525" y="45"/>
                                </a:lnTo>
                                <a:lnTo>
                                  <a:pt x="532" y="42"/>
                                </a:lnTo>
                                <a:lnTo>
                                  <a:pt x="550" y="47"/>
                                </a:lnTo>
                                <a:lnTo>
                                  <a:pt x="546" y="56"/>
                                </a:lnTo>
                                <a:lnTo>
                                  <a:pt x="552" y="63"/>
                                </a:lnTo>
                                <a:lnTo>
                                  <a:pt x="531" y="79"/>
                                </a:lnTo>
                                <a:lnTo>
                                  <a:pt x="515" y="92"/>
                                </a:lnTo>
                                <a:lnTo>
                                  <a:pt x="494" y="111"/>
                                </a:lnTo>
                                <a:lnTo>
                                  <a:pt x="458" y="135"/>
                                </a:lnTo>
                                <a:lnTo>
                                  <a:pt x="424" y="151"/>
                                </a:lnTo>
                                <a:lnTo>
                                  <a:pt x="397" y="166"/>
                                </a:lnTo>
                                <a:lnTo>
                                  <a:pt x="379" y="170"/>
                                </a:lnTo>
                                <a:lnTo>
                                  <a:pt x="357" y="176"/>
                                </a:lnTo>
                                <a:lnTo>
                                  <a:pt x="339" y="180"/>
                                </a:lnTo>
                                <a:lnTo>
                                  <a:pt x="328" y="180"/>
                                </a:lnTo>
                                <a:lnTo>
                                  <a:pt x="310" y="185"/>
                                </a:lnTo>
                                <a:lnTo>
                                  <a:pt x="301" y="183"/>
                                </a:lnTo>
                                <a:lnTo>
                                  <a:pt x="284" y="186"/>
                                </a:lnTo>
                                <a:lnTo>
                                  <a:pt x="266" y="185"/>
                                </a:lnTo>
                                <a:lnTo>
                                  <a:pt x="244" y="186"/>
                                </a:lnTo>
                                <a:lnTo>
                                  <a:pt x="232" y="189"/>
                                </a:lnTo>
                                <a:lnTo>
                                  <a:pt x="218" y="185"/>
                                </a:lnTo>
                                <a:lnTo>
                                  <a:pt x="202" y="182"/>
                                </a:lnTo>
                                <a:lnTo>
                                  <a:pt x="185" y="183"/>
                                </a:lnTo>
                                <a:lnTo>
                                  <a:pt x="168" y="182"/>
                                </a:lnTo>
                                <a:lnTo>
                                  <a:pt x="152" y="179"/>
                                </a:lnTo>
                                <a:lnTo>
                                  <a:pt x="139" y="178"/>
                                </a:lnTo>
                                <a:lnTo>
                                  <a:pt x="128" y="178"/>
                                </a:lnTo>
                                <a:lnTo>
                                  <a:pt x="115" y="170"/>
                                </a:lnTo>
                                <a:lnTo>
                                  <a:pt x="98" y="163"/>
                                </a:lnTo>
                                <a:lnTo>
                                  <a:pt x="83" y="153"/>
                                </a:lnTo>
                                <a:lnTo>
                                  <a:pt x="67" y="144"/>
                                </a:lnTo>
                                <a:lnTo>
                                  <a:pt x="50" y="133"/>
                                </a:lnTo>
                                <a:lnTo>
                                  <a:pt x="35" y="121"/>
                                </a:lnTo>
                                <a:lnTo>
                                  <a:pt x="24" y="109"/>
                                </a:lnTo>
                                <a:lnTo>
                                  <a:pt x="13" y="99"/>
                                </a:lnTo>
                                <a:lnTo>
                                  <a:pt x="0" y="8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2" name=""/>
                          <p:cNvSpPr/>
                          <p:nvPr/>
                        </p:nvSpPr>
                        <p:spPr>
                          <a:xfrm>
                            <a:off x="8182080" y="3838320"/>
                            <a:ext cx="50040" cy="109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0" h="197">
                                <a:moveTo>
                                  <a:pt x="21" y="62"/>
                                </a:moveTo>
                                <a:lnTo>
                                  <a:pt x="18" y="101"/>
                                </a:lnTo>
                                <a:lnTo>
                                  <a:pt x="8" y="126"/>
                                </a:lnTo>
                                <a:lnTo>
                                  <a:pt x="0" y="149"/>
                                </a:lnTo>
                                <a:lnTo>
                                  <a:pt x="0" y="167"/>
                                </a:lnTo>
                                <a:lnTo>
                                  <a:pt x="3" y="181"/>
                                </a:lnTo>
                                <a:lnTo>
                                  <a:pt x="12" y="194"/>
                                </a:lnTo>
                                <a:lnTo>
                                  <a:pt x="21" y="196"/>
                                </a:lnTo>
                                <a:lnTo>
                                  <a:pt x="28" y="196"/>
                                </a:lnTo>
                                <a:lnTo>
                                  <a:pt x="36" y="197"/>
                                </a:lnTo>
                                <a:lnTo>
                                  <a:pt x="40" y="187"/>
                                </a:lnTo>
                                <a:lnTo>
                                  <a:pt x="44" y="161"/>
                                </a:lnTo>
                                <a:lnTo>
                                  <a:pt x="56" y="144"/>
                                </a:lnTo>
                                <a:lnTo>
                                  <a:pt x="59" y="117"/>
                                </a:lnTo>
                                <a:lnTo>
                                  <a:pt x="65" y="107"/>
                                </a:lnTo>
                                <a:lnTo>
                                  <a:pt x="70" y="100"/>
                                </a:lnTo>
                                <a:lnTo>
                                  <a:pt x="74" y="81"/>
                                </a:lnTo>
                                <a:lnTo>
                                  <a:pt x="82" y="69"/>
                                </a:lnTo>
                                <a:lnTo>
                                  <a:pt x="88" y="61"/>
                                </a:lnTo>
                                <a:lnTo>
                                  <a:pt x="93" y="53"/>
                                </a:lnTo>
                                <a:lnTo>
                                  <a:pt x="93" y="49"/>
                                </a:lnTo>
                                <a:lnTo>
                                  <a:pt x="106" y="39"/>
                                </a:lnTo>
                                <a:lnTo>
                                  <a:pt x="107" y="22"/>
                                </a:lnTo>
                                <a:lnTo>
                                  <a:pt x="110" y="11"/>
                                </a:lnTo>
                                <a:lnTo>
                                  <a:pt x="99" y="7"/>
                                </a:lnTo>
                                <a:lnTo>
                                  <a:pt x="92" y="0"/>
                                </a:lnTo>
                                <a:lnTo>
                                  <a:pt x="82" y="7"/>
                                </a:lnTo>
                                <a:lnTo>
                                  <a:pt x="74" y="24"/>
                                </a:lnTo>
                                <a:lnTo>
                                  <a:pt x="65" y="38"/>
                                </a:lnTo>
                                <a:lnTo>
                                  <a:pt x="56" y="48"/>
                                </a:lnTo>
                                <a:lnTo>
                                  <a:pt x="52" y="48"/>
                                </a:lnTo>
                                <a:lnTo>
                                  <a:pt x="44" y="53"/>
                                </a:lnTo>
                                <a:lnTo>
                                  <a:pt x="40" y="59"/>
                                </a:lnTo>
                                <a:lnTo>
                                  <a:pt x="21" y="6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3" name=""/>
                          <p:cNvSpPr/>
                          <p:nvPr/>
                        </p:nvSpPr>
                        <p:spPr>
                          <a:xfrm>
                            <a:off x="7939800" y="3213000"/>
                            <a:ext cx="686160" cy="517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03" h="936">
                                <a:moveTo>
                                  <a:pt x="0" y="419"/>
                                </a:moveTo>
                                <a:lnTo>
                                  <a:pt x="14" y="406"/>
                                </a:lnTo>
                                <a:lnTo>
                                  <a:pt x="22" y="396"/>
                                </a:lnTo>
                                <a:lnTo>
                                  <a:pt x="40" y="396"/>
                                </a:lnTo>
                                <a:lnTo>
                                  <a:pt x="59" y="399"/>
                                </a:lnTo>
                                <a:lnTo>
                                  <a:pt x="73" y="393"/>
                                </a:lnTo>
                                <a:lnTo>
                                  <a:pt x="88" y="392"/>
                                </a:lnTo>
                                <a:lnTo>
                                  <a:pt x="90" y="374"/>
                                </a:lnTo>
                                <a:lnTo>
                                  <a:pt x="98" y="363"/>
                                </a:lnTo>
                                <a:lnTo>
                                  <a:pt x="77" y="350"/>
                                </a:lnTo>
                                <a:lnTo>
                                  <a:pt x="74" y="339"/>
                                </a:lnTo>
                                <a:lnTo>
                                  <a:pt x="76" y="325"/>
                                </a:lnTo>
                                <a:lnTo>
                                  <a:pt x="91" y="325"/>
                                </a:lnTo>
                                <a:lnTo>
                                  <a:pt x="101" y="323"/>
                                </a:lnTo>
                                <a:lnTo>
                                  <a:pt x="102" y="325"/>
                                </a:lnTo>
                                <a:lnTo>
                                  <a:pt x="113" y="316"/>
                                </a:lnTo>
                                <a:lnTo>
                                  <a:pt x="124" y="312"/>
                                </a:lnTo>
                                <a:lnTo>
                                  <a:pt x="128" y="312"/>
                                </a:lnTo>
                                <a:lnTo>
                                  <a:pt x="135" y="303"/>
                                </a:lnTo>
                                <a:lnTo>
                                  <a:pt x="143" y="300"/>
                                </a:lnTo>
                                <a:lnTo>
                                  <a:pt x="151" y="284"/>
                                </a:lnTo>
                                <a:lnTo>
                                  <a:pt x="157" y="289"/>
                                </a:lnTo>
                                <a:lnTo>
                                  <a:pt x="168" y="278"/>
                                </a:lnTo>
                                <a:lnTo>
                                  <a:pt x="169" y="278"/>
                                </a:lnTo>
                                <a:lnTo>
                                  <a:pt x="183" y="267"/>
                                </a:lnTo>
                                <a:lnTo>
                                  <a:pt x="191" y="265"/>
                                </a:lnTo>
                                <a:lnTo>
                                  <a:pt x="202" y="265"/>
                                </a:lnTo>
                                <a:lnTo>
                                  <a:pt x="209" y="265"/>
                                </a:lnTo>
                                <a:lnTo>
                                  <a:pt x="203" y="251"/>
                                </a:lnTo>
                                <a:lnTo>
                                  <a:pt x="201" y="239"/>
                                </a:lnTo>
                                <a:lnTo>
                                  <a:pt x="198" y="214"/>
                                </a:lnTo>
                                <a:lnTo>
                                  <a:pt x="214" y="213"/>
                                </a:lnTo>
                                <a:lnTo>
                                  <a:pt x="223" y="209"/>
                                </a:lnTo>
                                <a:lnTo>
                                  <a:pt x="218" y="219"/>
                                </a:lnTo>
                                <a:lnTo>
                                  <a:pt x="225" y="226"/>
                                </a:lnTo>
                                <a:lnTo>
                                  <a:pt x="232" y="235"/>
                                </a:lnTo>
                                <a:lnTo>
                                  <a:pt x="236" y="241"/>
                                </a:lnTo>
                                <a:lnTo>
                                  <a:pt x="255" y="239"/>
                                </a:lnTo>
                                <a:lnTo>
                                  <a:pt x="272" y="217"/>
                                </a:lnTo>
                                <a:lnTo>
                                  <a:pt x="284" y="207"/>
                                </a:lnTo>
                                <a:lnTo>
                                  <a:pt x="291" y="200"/>
                                </a:lnTo>
                                <a:lnTo>
                                  <a:pt x="299" y="191"/>
                                </a:lnTo>
                                <a:lnTo>
                                  <a:pt x="308" y="180"/>
                                </a:lnTo>
                                <a:lnTo>
                                  <a:pt x="314" y="184"/>
                                </a:lnTo>
                                <a:lnTo>
                                  <a:pt x="314" y="177"/>
                                </a:lnTo>
                                <a:lnTo>
                                  <a:pt x="319" y="172"/>
                                </a:lnTo>
                                <a:lnTo>
                                  <a:pt x="331" y="175"/>
                                </a:lnTo>
                                <a:lnTo>
                                  <a:pt x="351" y="194"/>
                                </a:lnTo>
                                <a:lnTo>
                                  <a:pt x="347" y="142"/>
                                </a:lnTo>
                                <a:lnTo>
                                  <a:pt x="330" y="165"/>
                                </a:lnTo>
                                <a:lnTo>
                                  <a:pt x="316" y="164"/>
                                </a:lnTo>
                                <a:lnTo>
                                  <a:pt x="312" y="149"/>
                                </a:lnTo>
                                <a:lnTo>
                                  <a:pt x="312" y="142"/>
                                </a:lnTo>
                                <a:lnTo>
                                  <a:pt x="308" y="138"/>
                                </a:lnTo>
                                <a:lnTo>
                                  <a:pt x="319" y="126"/>
                                </a:lnTo>
                                <a:lnTo>
                                  <a:pt x="325" y="117"/>
                                </a:lnTo>
                                <a:lnTo>
                                  <a:pt x="332" y="114"/>
                                </a:lnTo>
                                <a:lnTo>
                                  <a:pt x="338" y="113"/>
                                </a:lnTo>
                                <a:lnTo>
                                  <a:pt x="342" y="106"/>
                                </a:lnTo>
                                <a:lnTo>
                                  <a:pt x="347" y="104"/>
                                </a:lnTo>
                                <a:lnTo>
                                  <a:pt x="354" y="104"/>
                                </a:lnTo>
                                <a:lnTo>
                                  <a:pt x="342" y="91"/>
                                </a:lnTo>
                                <a:lnTo>
                                  <a:pt x="330" y="94"/>
                                </a:lnTo>
                                <a:lnTo>
                                  <a:pt x="321" y="94"/>
                                </a:lnTo>
                                <a:lnTo>
                                  <a:pt x="314" y="90"/>
                                </a:lnTo>
                                <a:lnTo>
                                  <a:pt x="314" y="98"/>
                                </a:lnTo>
                                <a:lnTo>
                                  <a:pt x="308" y="107"/>
                                </a:lnTo>
                                <a:lnTo>
                                  <a:pt x="298" y="122"/>
                                </a:lnTo>
                                <a:lnTo>
                                  <a:pt x="288" y="127"/>
                                </a:lnTo>
                                <a:lnTo>
                                  <a:pt x="282" y="127"/>
                                </a:lnTo>
                                <a:lnTo>
                                  <a:pt x="279" y="138"/>
                                </a:lnTo>
                                <a:lnTo>
                                  <a:pt x="279" y="142"/>
                                </a:lnTo>
                                <a:lnTo>
                                  <a:pt x="273" y="146"/>
                                </a:lnTo>
                                <a:lnTo>
                                  <a:pt x="280" y="164"/>
                                </a:lnTo>
                                <a:lnTo>
                                  <a:pt x="284" y="172"/>
                                </a:lnTo>
                                <a:lnTo>
                                  <a:pt x="276" y="185"/>
                                </a:lnTo>
                                <a:lnTo>
                                  <a:pt x="266" y="194"/>
                                </a:lnTo>
                                <a:lnTo>
                                  <a:pt x="264" y="207"/>
                                </a:lnTo>
                                <a:lnTo>
                                  <a:pt x="258" y="217"/>
                                </a:lnTo>
                                <a:lnTo>
                                  <a:pt x="253" y="217"/>
                                </a:lnTo>
                                <a:lnTo>
                                  <a:pt x="244" y="219"/>
                                </a:lnTo>
                                <a:lnTo>
                                  <a:pt x="236" y="223"/>
                                </a:lnTo>
                                <a:lnTo>
                                  <a:pt x="234" y="222"/>
                                </a:lnTo>
                                <a:lnTo>
                                  <a:pt x="234" y="214"/>
                                </a:lnTo>
                                <a:lnTo>
                                  <a:pt x="232" y="203"/>
                                </a:lnTo>
                                <a:lnTo>
                                  <a:pt x="225" y="203"/>
                                </a:lnTo>
                                <a:lnTo>
                                  <a:pt x="221" y="196"/>
                                </a:lnTo>
                                <a:lnTo>
                                  <a:pt x="223" y="185"/>
                                </a:lnTo>
                                <a:lnTo>
                                  <a:pt x="224" y="180"/>
                                </a:lnTo>
                                <a:lnTo>
                                  <a:pt x="223" y="177"/>
                                </a:lnTo>
                                <a:lnTo>
                                  <a:pt x="217" y="180"/>
                                </a:lnTo>
                                <a:lnTo>
                                  <a:pt x="214" y="180"/>
                                </a:lnTo>
                                <a:lnTo>
                                  <a:pt x="210" y="178"/>
                                </a:lnTo>
                                <a:lnTo>
                                  <a:pt x="207" y="177"/>
                                </a:lnTo>
                                <a:lnTo>
                                  <a:pt x="201" y="183"/>
                                </a:lnTo>
                                <a:lnTo>
                                  <a:pt x="194" y="190"/>
                                </a:lnTo>
                                <a:lnTo>
                                  <a:pt x="187" y="197"/>
                                </a:lnTo>
                                <a:lnTo>
                                  <a:pt x="172" y="196"/>
                                </a:lnTo>
                                <a:lnTo>
                                  <a:pt x="162" y="194"/>
                                </a:lnTo>
                                <a:lnTo>
                                  <a:pt x="155" y="187"/>
                                </a:lnTo>
                                <a:lnTo>
                                  <a:pt x="155" y="183"/>
                                </a:lnTo>
                                <a:lnTo>
                                  <a:pt x="159" y="177"/>
                                </a:lnTo>
                                <a:lnTo>
                                  <a:pt x="165" y="172"/>
                                </a:lnTo>
                                <a:lnTo>
                                  <a:pt x="169" y="167"/>
                                </a:lnTo>
                                <a:lnTo>
                                  <a:pt x="159" y="169"/>
                                </a:lnTo>
                                <a:lnTo>
                                  <a:pt x="155" y="162"/>
                                </a:lnTo>
                                <a:lnTo>
                                  <a:pt x="155" y="158"/>
                                </a:lnTo>
                                <a:lnTo>
                                  <a:pt x="169" y="156"/>
                                </a:lnTo>
                                <a:lnTo>
                                  <a:pt x="181" y="155"/>
                                </a:lnTo>
                                <a:lnTo>
                                  <a:pt x="173" y="151"/>
                                </a:lnTo>
                                <a:lnTo>
                                  <a:pt x="161" y="152"/>
                                </a:lnTo>
                                <a:lnTo>
                                  <a:pt x="161" y="143"/>
                                </a:lnTo>
                                <a:lnTo>
                                  <a:pt x="166" y="138"/>
                                </a:lnTo>
                                <a:lnTo>
                                  <a:pt x="179" y="132"/>
                                </a:lnTo>
                                <a:lnTo>
                                  <a:pt x="183" y="126"/>
                                </a:lnTo>
                                <a:lnTo>
                                  <a:pt x="187" y="123"/>
                                </a:lnTo>
                                <a:lnTo>
                                  <a:pt x="196" y="122"/>
                                </a:lnTo>
                                <a:lnTo>
                                  <a:pt x="205" y="123"/>
                                </a:lnTo>
                                <a:lnTo>
                                  <a:pt x="209" y="126"/>
                                </a:lnTo>
                                <a:lnTo>
                                  <a:pt x="216" y="122"/>
                                </a:lnTo>
                                <a:lnTo>
                                  <a:pt x="209" y="120"/>
                                </a:lnTo>
                                <a:lnTo>
                                  <a:pt x="209" y="108"/>
                                </a:lnTo>
                                <a:lnTo>
                                  <a:pt x="227" y="95"/>
                                </a:lnTo>
                                <a:lnTo>
                                  <a:pt x="236" y="87"/>
                                </a:lnTo>
                                <a:lnTo>
                                  <a:pt x="242" y="85"/>
                                </a:lnTo>
                                <a:lnTo>
                                  <a:pt x="240" y="81"/>
                                </a:lnTo>
                                <a:lnTo>
                                  <a:pt x="249" y="71"/>
                                </a:lnTo>
                                <a:lnTo>
                                  <a:pt x="258" y="58"/>
                                </a:lnTo>
                                <a:lnTo>
                                  <a:pt x="269" y="52"/>
                                </a:lnTo>
                                <a:lnTo>
                                  <a:pt x="261" y="46"/>
                                </a:lnTo>
                                <a:lnTo>
                                  <a:pt x="283" y="33"/>
                                </a:lnTo>
                                <a:lnTo>
                                  <a:pt x="292" y="34"/>
                                </a:lnTo>
                                <a:lnTo>
                                  <a:pt x="291" y="27"/>
                                </a:lnTo>
                                <a:lnTo>
                                  <a:pt x="310" y="26"/>
                                </a:lnTo>
                                <a:lnTo>
                                  <a:pt x="346" y="2"/>
                                </a:lnTo>
                                <a:lnTo>
                                  <a:pt x="351" y="0"/>
                                </a:lnTo>
                                <a:lnTo>
                                  <a:pt x="345" y="17"/>
                                </a:lnTo>
                                <a:lnTo>
                                  <a:pt x="353" y="8"/>
                                </a:lnTo>
                                <a:lnTo>
                                  <a:pt x="362" y="5"/>
                                </a:lnTo>
                                <a:lnTo>
                                  <a:pt x="361" y="13"/>
                                </a:lnTo>
                                <a:lnTo>
                                  <a:pt x="388" y="4"/>
                                </a:lnTo>
                                <a:lnTo>
                                  <a:pt x="402" y="11"/>
                                </a:lnTo>
                                <a:lnTo>
                                  <a:pt x="383" y="18"/>
                                </a:lnTo>
                                <a:lnTo>
                                  <a:pt x="390" y="27"/>
                                </a:lnTo>
                                <a:lnTo>
                                  <a:pt x="417" y="26"/>
                                </a:lnTo>
                                <a:lnTo>
                                  <a:pt x="457" y="39"/>
                                </a:lnTo>
                                <a:lnTo>
                                  <a:pt x="454" y="53"/>
                                </a:lnTo>
                                <a:lnTo>
                                  <a:pt x="438" y="66"/>
                                </a:lnTo>
                                <a:lnTo>
                                  <a:pt x="413" y="74"/>
                                </a:lnTo>
                                <a:lnTo>
                                  <a:pt x="409" y="90"/>
                                </a:lnTo>
                                <a:lnTo>
                                  <a:pt x="410" y="104"/>
                                </a:lnTo>
                                <a:lnTo>
                                  <a:pt x="417" y="107"/>
                                </a:lnTo>
                                <a:lnTo>
                                  <a:pt x="419" y="114"/>
                                </a:lnTo>
                                <a:lnTo>
                                  <a:pt x="421" y="117"/>
                                </a:lnTo>
                                <a:lnTo>
                                  <a:pt x="427" y="120"/>
                                </a:lnTo>
                                <a:lnTo>
                                  <a:pt x="428" y="129"/>
                                </a:lnTo>
                                <a:lnTo>
                                  <a:pt x="436" y="139"/>
                                </a:lnTo>
                                <a:lnTo>
                                  <a:pt x="436" y="143"/>
                                </a:lnTo>
                                <a:lnTo>
                                  <a:pt x="445" y="143"/>
                                </a:lnTo>
                                <a:lnTo>
                                  <a:pt x="447" y="146"/>
                                </a:lnTo>
                                <a:lnTo>
                                  <a:pt x="454" y="149"/>
                                </a:lnTo>
                                <a:lnTo>
                                  <a:pt x="458" y="145"/>
                                </a:lnTo>
                                <a:lnTo>
                                  <a:pt x="463" y="138"/>
                                </a:lnTo>
                                <a:lnTo>
                                  <a:pt x="465" y="133"/>
                                </a:lnTo>
                                <a:lnTo>
                                  <a:pt x="472" y="136"/>
                                </a:lnTo>
                                <a:lnTo>
                                  <a:pt x="480" y="126"/>
                                </a:lnTo>
                                <a:lnTo>
                                  <a:pt x="480" y="119"/>
                                </a:lnTo>
                                <a:lnTo>
                                  <a:pt x="483" y="113"/>
                                </a:lnTo>
                                <a:lnTo>
                                  <a:pt x="484" y="108"/>
                                </a:lnTo>
                                <a:lnTo>
                                  <a:pt x="501" y="104"/>
                                </a:lnTo>
                                <a:lnTo>
                                  <a:pt x="515" y="100"/>
                                </a:lnTo>
                                <a:lnTo>
                                  <a:pt x="532" y="94"/>
                                </a:lnTo>
                                <a:lnTo>
                                  <a:pt x="553" y="98"/>
                                </a:lnTo>
                                <a:lnTo>
                                  <a:pt x="574" y="98"/>
                                </a:lnTo>
                                <a:lnTo>
                                  <a:pt x="608" y="98"/>
                                </a:lnTo>
                                <a:lnTo>
                                  <a:pt x="613" y="62"/>
                                </a:lnTo>
                                <a:lnTo>
                                  <a:pt x="633" y="63"/>
                                </a:lnTo>
                                <a:lnTo>
                                  <a:pt x="646" y="91"/>
                                </a:lnTo>
                                <a:lnTo>
                                  <a:pt x="649" y="68"/>
                                </a:lnTo>
                                <a:lnTo>
                                  <a:pt x="712" y="4"/>
                                </a:lnTo>
                                <a:lnTo>
                                  <a:pt x="737" y="4"/>
                                </a:lnTo>
                                <a:lnTo>
                                  <a:pt x="759" y="17"/>
                                </a:lnTo>
                                <a:lnTo>
                                  <a:pt x="788" y="16"/>
                                </a:lnTo>
                                <a:lnTo>
                                  <a:pt x="826" y="39"/>
                                </a:lnTo>
                                <a:lnTo>
                                  <a:pt x="870" y="52"/>
                                </a:lnTo>
                                <a:lnTo>
                                  <a:pt x="901" y="49"/>
                                </a:lnTo>
                                <a:lnTo>
                                  <a:pt x="942" y="63"/>
                                </a:lnTo>
                                <a:lnTo>
                                  <a:pt x="977" y="63"/>
                                </a:lnTo>
                                <a:lnTo>
                                  <a:pt x="993" y="53"/>
                                </a:lnTo>
                                <a:lnTo>
                                  <a:pt x="1032" y="53"/>
                                </a:lnTo>
                                <a:lnTo>
                                  <a:pt x="1052" y="65"/>
                                </a:lnTo>
                                <a:lnTo>
                                  <a:pt x="1104" y="65"/>
                                </a:lnTo>
                                <a:lnTo>
                                  <a:pt x="1148" y="85"/>
                                </a:lnTo>
                                <a:lnTo>
                                  <a:pt x="1229" y="82"/>
                                </a:lnTo>
                                <a:lnTo>
                                  <a:pt x="1357" y="91"/>
                                </a:lnTo>
                                <a:lnTo>
                                  <a:pt x="1418" y="119"/>
                                </a:lnTo>
                                <a:lnTo>
                                  <a:pt x="1470" y="136"/>
                                </a:lnTo>
                                <a:lnTo>
                                  <a:pt x="1503" y="151"/>
                                </a:lnTo>
                                <a:lnTo>
                                  <a:pt x="1494" y="155"/>
                                </a:lnTo>
                                <a:lnTo>
                                  <a:pt x="1470" y="143"/>
                                </a:lnTo>
                                <a:lnTo>
                                  <a:pt x="1417" y="139"/>
                                </a:lnTo>
                                <a:lnTo>
                                  <a:pt x="1432" y="151"/>
                                </a:lnTo>
                                <a:lnTo>
                                  <a:pt x="1455" y="156"/>
                                </a:lnTo>
                                <a:lnTo>
                                  <a:pt x="1449" y="175"/>
                                </a:lnTo>
                                <a:lnTo>
                                  <a:pt x="1424" y="187"/>
                                </a:lnTo>
                                <a:lnTo>
                                  <a:pt x="1416" y="206"/>
                                </a:lnTo>
                                <a:lnTo>
                                  <a:pt x="1449" y="223"/>
                                </a:lnTo>
                                <a:lnTo>
                                  <a:pt x="1472" y="246"/>
                                </a:lnTo>
                                <a:lnTo>
                                  <a:pt x="1484" y="280"/>
                                </a:lnTo>
                                <a:lnTo>
                                  <a:pt x="1469" y="283"/>
                                </a:lnTo>
                                <a:lnTo>
                                  <a:pt x="1436" y="273"/>
                                </a:lnTo>
                                <a:lnTo>
                                  <a:pt x="1402" y="248"/>
                                </a:lnTo>
                                <a:lnTo>
                                  <a:pt x="1388" y="235"/>
                                </a:lnTo>
                                <a:lnTo>
                                  <a:pt x="1380" y="217"/>
                                </a:lnTo>
                                <a:lnTo>
                                  <a:pt x="1372" y="191"/>
                                </a:lnTo>
                                <a:lnTo>
                                  <a:pt x="1358" y="183"/>
                                </a:lnTo>
                                <a:lnTo>
                                  <a:pt x="1346" y="181"/>
                                </a:lnTo>
                                <a:lnTo>
                                  <a:pt x="1335" y="184"/>
                                </a:lnTo>
                                <a:lnTo>
                                  <a:pt x="1347" y="204"/>
                                </a:lnTo>
                                <a:lnTo>
                                  <a:pt x="1314" y="207"/>
                                </a:lnTo>
                                <a:lnTo>
                                  <a:pt x="1299" y="197"/>
                                </a:lnTo>
                                <a:lnTo>
                                  <a:pt x="1270" y="203"/>
                                </a:lnTo>
                                <a:lnTo>
                                  <a:pt x="1248" y="219"/>
                                </a:lnTo>
                                <a:lnTo>
                                  <a:pt x="1248" y="228"/>
                                </a:lnTo>
                                <a:lnTo>
                                  <a:pt x="1257" y="242"/>
                                </a:lnTo>
                                <a:lnTo>
                                  <a:pt x="1291" y="246"/>
                                </a:lnTo>
                                <a:lnTo>
                                  <a:pt x="1318" y="264"/>
                                </a:lnTo>
                                <a:lnTo>
                                  <a:pt x="1365" y="312"/>
                                </a:lnTo>
                                <a:lnTo>
                                  <a:pt x="1384" y="344"/>
                                </a:lnTo>
                                <a:lnTo>
                                  <a:pt x="1387" y="377"/>
                                </a:lnTo>
                                <a:lnTo>
                                  <a:pt x="1383" y="405"/>
                                </a:lnTo>
                                <a:lnTo>
                                  <a:pt x="1372" y="405"/>
                                </a:lnTo>
                                <a:lnTo>
                                  <a:pt x="1359" y="395"/>
                                </a:lnTo>
                                <a:lnTo>
                                  <a:pt x="1342" y="408"/>
                                </a:lnTo>
                                <a:lnTo>
                                  <a:pt x="1324" y="419"/>
                                </a:lnTo>
                                <a:lnTo>
                                  <a:pt x="1321" y="441"/>
                                </a:lnTo>
                                <a:lnTo>
                                  <a:pt x="1340" y="464"/>
                                </a:lnTo>
                                <a:lnTo>
                                  <a:pt x="1328" y="483"/>
                                </a:lnTo>
                                <a:lnTo>
                                  <a:pt x="1324" y="515"/>
                                </a:lnTo>
                                <a:lnTo>
                                  <a:pt x="1347" y="535"/>
                                </a:lnTo>
                                <a:lnTo>
                                  <a:pt x="1373" y="541"/>
                                </a:lnTo>
                                <a:lnTo>
                                  <a:pt x="1401" y="563"/>
                                </a:lnTo>
                                <a:lnTo>
                                  <a:pt x="1424" y="592"/>
                                </a:lnTo>
                                <a:lnTo>
                                  <a:pt x="1425" y="636"/>
                                </a:lnTo>
                                <a:lnTo>
                                  <a:pt x="1417" y="656"/>
                                </a:lnTo>
                                <a:lnTo>
                                  <a:pt x="1392" y="673"/>
                                </a:lnTo>
                                <a:lnTo>
                                  <a:pt x="1362" y="682"/>
                                </a:lnTo>
                                <a:lnTo>
                                  <a:pt x="1343" y="695"/>
                                </a:lnTo>
                                <a:lnTo>
                                  <a:pt x="1332" y="688"/>
                                </a:lnTo>
                                <a:lnTo>
                                  <a:pt x="1322" y="695"/>
                                </a:lnTo>
                                <a:lnTo>
                                  <a:pt x="1320" y="727"/>
                                </a:lnTo>
                                <a:lnTo>
                                  <a:pt x="1326" y="746"/>
                                </a:lnTo>
                                <a:lnTo>
                                  <a:pt x="1357" y="768"/>
                                </a:lnTo>
                                <a:lnTo>
                                  <a:pt x="1369" y="789"/>
                                </a:lnTo>
                                <a:lnTo>
                                  <a:pt x="1379" y="803"/>
                                </a:lnTo>
                                <a:lnTo>
                                  <a:pt x="1376" y="826"/>
                                </a:lnTo>
                                <a:lnTo>
                                  <a:pt x="1357" y="845"/>
                                </a:lnTo>
                                <a:lnTo>
                                  <a:pt x="1336" y="845"/>
                                </a:lnTo>
                                <a:lnTo>
                                  <a:pt x="1303" y="817"/>
                                </a:lnTo>
                                <a:lnTo>
                                  <a:pt x="1280" y="807"/>
                                </a:lnTo>
                                <a:lnTo>
                                  <a:pt x="1270" y="801"/>
                                </a:lnTo>
                                <a:lnTo>
                                  <a:pt x="1261" y="816"/>
                                </a:lnTo>
                                <a:lnTo>
                                  <a:pt x="1263" y="836"/>
                                </a:lnTo>
                                <a:lnTo>
                                  <a:pt x="1272" y="852"/>
                                </a:lnTo>
                                <a:lnTo>
                                  <a:pt x="1277" y="877"/>
                                </a:lnTo>
                                <a:lnTo>
                                  <a:pt x="1298" y="885"/>
                                </a:lnTo>
                                <a:lnTo>
                                  <a:pt x="1291" y="898"/>
                                </a:lnTo>
                                <a:lnTo>
                                  <a:pt x="1292" y="917"/>
                                </a:lnTo>
                                <a:lnTo>
                                  <a:pt x="1299" y="936"/>
                                </a:lnTo>
                                <a:lnTo>
                                  <a:pt x="1285" y="935"/>
                                </a:lnTo>
                                <a:lnTo>
                                  <a:pt x="1270" y="913"/>
                                </a:lnTo>
                                <a:lnTo>
                                  <a:pt x="1272" y="890"/>
                                </a:lnTo>
                                <a:lnTo>
                                  <a:pt x="1266" y="882"/>
                                </a:lnTo>
                                <a:lnTo>
                                  <a:pt x="1261" y="856"/>
                                </a:lnTo>
                                <a:lnTo>
                                  <a:pt x="1254" y="849"/>
                                </a:lnTo>
                                <a:lnTo>
                                  <a:pt x="1251" y="813"/>
                                </a:lnTo>
                                <a:lnTo>
                                  <a:pt x="1241" y="789"/>
                                </a:lnTo>
                                <a:lnTo>
                                  <a:pt x="1225" y="769"/>
                                </a:lnTo>
                                <a:lnTo>
                                  <a:pt x="1195" y="758"/>
                                </a:lnTo>
                                <a:lnTo>
                                  <a:pt x="1173" y="739"/>
                                </a:lnTo>
                                <a:lnTo>
                                  <a:pt x="1163" y="724"/>
                                </a:lnTo>
                                <a:lnTo>
                                  <a:pt x="1148" y="708"/>
                                </a:lnTo>
                                <a:lnTo>
                                  <a:pt x="1125" y="672"/>
                                </a:lnTo>
                                <a:lnTo>
                                  <a:pt x="1104" y="675"/>
                                </a:lnTo>
                                <a:lnTo>
                                  <a:pt x="1077" y="692"/>
                                </a:lnTo>
                                <a:lnTo>
                                  <a:pt x="1065" y="707"/>
                                </a:lnTo>
                                <a:lnTo>
                                  <a:pt x="1040" y="734"/>
                                </a:lnTo>
                                <a:lnTo>
                                  <a:pt x="1022" y="763"/>
                                </a:lnTo>
                                <a:lnTo>
                                  <a:pt x="1015" y="774"/>
                                </a:lnTo>
                                <a:lnTo>
                                  <a:pt x="1022" y="808"/>
                                </a:lnTo>
                                <a:lnTo>
                                  <a:pt x="1021" y="842"/>
                                </a:lnTo>
                                <a:lnTo>
                                  <a:pt x="999" y="865"/>
                                </a:lnTo>
                                <a:lnTo>
                                  <a:pt x="986" y="866"/>
                                </a:lnTo>
                                <a:lnTo>
                                  <a:pt x="960" y="819"/>
                                </a:lnTo>
                                <a:lnTo>
                                  <a:pt x="940" y="784"/>
                                </a:lnTo>
                                <a:lnTo>
                                  <a:pt x="899" y="720"/>
                                </a:lnTo>
                                <a:lnTo>
                                  <a:pt x="897" y="695"/>
                                </a:lnTo>
                                <a:lnTo>
                                  <a:pt x="888" y="683"/>
                                </a:lnTo>
                                <a:lnTo>
                                  <a:pt x="881" y="699"/>
                                </a:lnTo>
                                <a:lnTo>
                                  <a:pt x="845" y="663"/>
                                </a:lnTo>
                                <a:lnTo>
                                  <a:pt x="797" y="636"/>
                                </a:lnTo>
                                <a:lnTo>
                                  <a:pt x="767" y="641"/>
                                </a:lnTo>
                                <a:lnTo>
                                  <a:pt x="723" y="638"/>
                                </a:lnTo>
                                <a:lnTo>
                                  <a:pt x="703" y="618"/>
                                </a:lnTo>
                                <a:lnTo>
                                  <a:pt x="679" y="621"/>
                                </a:lnTo>
                                <a:lnTo>
                                  <a:pt x="646" y="612"/>
                                </a:lnTo>
                                <a:lnTo>
                                  <a:pt x="578" y="544"/>
                                </a:lnTo>
                                <a:lnTo>
                                  <a:pt x="582" y="572"/>
                                </a:lnTo>
                                <a:lnTo>
                                  <a:pt x="602" y="611"/>
                                </a:lnTo>
                                <a:lnTo>
                                  <a:pt x="626" y="638"/>
                                </a:lnTo>
                                <a:lnTo>
                                  <a:pt x="650" y="653"/>
                                </a:lnTo>
                                <a:lnTo>
                                  <a:pt x="678" y="641"/>
                                </a:lnTo>
                                <a:lnTo>
                                  <a:pt x="700" y="641"/>
                                </a:lnTo>
                                <a:lnTo>
                                  <a:pt x="729" y="666"/>
                                </a:lnTo>
                                <a:lnTo>
                                  <a:pt x="745" y="685"/>
                                </a:lnTo>
                                <a:lnTo>
                                  <a:pt x="742" y="697"/>
                                </a:lnTo>
                                <a:lnTo>
                                  <a:pt x="693" y="750"/>
                                </a:lnTo>
                                <a:lnTo>
                                  <a:pt x="660" y="771"/>
                                </a:lnTo>
                                <a:lnTo>
                                  <a:pt x="591" y="798"/>
                                </a:lnTo>
                                <a:lnTo>
                                  <a:pt x="571" y="807"/>
                                </a:lnTo>
                                <a:lnTo>
                                  <a:pt x="559" y="798"/>
                                </a:lnTo>
                                <a:lnTo>
                                  <a:pt x="554" y="787"/>
                                </a:lnTo>
                                <a:lnTo>
                                  <a:pt x="553" y="771"/>
                                </a:lnTo>
                                <a:lnTo>
                                  <a:pt x="548" y="755"/>
                                </a:lnTo>
                                <a:lnTo>
                                  <a:pt x="538" y="742"/>
                                </a:lnTo>
                                <a:lnTo>
                                  <a:pt x="530" y="730"/>
                                </a:lnTo>
                                <a:lnTo>
                                  <a:pt x="517" y="714"/>
                                </a:lnTo>
                                <a:lnTo>
                                  <a:pt x="511" y="704"/>
                                </a:lnTo>
                                <a:lnTo>
                                  <a:pt x="505" y="691"/>
                                </a:lnTo>
                                <a:lnTo>
                                  <a:pt x="495" y="679"/>
                                </a:lnTo>
                                <a:lnTo>
                                  <a:pt x="480" y="650"/>
                                </a:lnTo>
                                <a:lnTo>
                                  <a:pt x="472" y="638"/>
                                </a:lnTo>
                                <a:lnTo>
                                  <a:pt x="461" y="623"/>
                                </a:lnTo>
                                <a:lnTo>
                                  <a:pt x="443" y="601"/>
                                </a:lnTo>
                                <a:lnTo>
                                  <a:pt x="434" y="588"/>
                                </a:lnTo>
                                <a:lnTo>
                                  <a:pt x="426" y="579"/>
                                </a:lnTo>
                                <a:lnTo>
                                  <a:pt x="416" y="560"/>
                                </a:lnTo>
                                <a:lnTo>
                                  <a:pt x="445" y="543"/>
                                </a:lnTo>
                                <a:lnTo>
                                  <a:pt x="457" y="505"/>
                                </a:lnTo>
                                <a:lnTo>
                                  <a:pt x="430" y="495"/>
                                </a:lnTo>
                                <a:lnTo>
                                  <a:pt x="391" y="501"/>
                                </a:lnTo>
                                <a:lnTo>
                                  <a:pt x="383" y="496"/>
                                </a:lnTo>
                                <a:lnTo>
                                  <a:pt x="379" y="496"/>
                                </a:lnTo>
                                <a:lnTo>
                                  <a:pt x="373" y="496"/>
                                </a:lnTo>
                                <a:lnTo>
                                  <a:pt x="369" y="496"/>
                                </a:lnTo>
                                <a:lnTo>
                                  <a:pt x="368" y="489"/>
                                </a:lnTo>
                                <a:lnTo>
                                  <a:pt x="365" y="483"/>
                                </a:lnTo>
                                <a:lnTo>
                                  <a:pt x="365" y="471"/>
                                </a:lnTo>
                                <a:lnTo>
                                  <a:pt x="358" y="466"/>
                                </a:lnTo>
                                <a:lnTo>
                                  <a:pt x="357" y="458"/>
                                </a:lnTo>
                                <a:lnTo>
                                  <a:pt x="353" y="457"/>
                                </a:lnTo>
                                <a:lnTo>
                                  <a:pt x="349" y="451"/>
                                </a:lnTo>
                                <a:lnTo>
                                  <a:pt x="347" y="445"/>
                                </a:lnTo>
                                <a:lnTo>
                                  <a:pt x="345" y="440"/>
                                </a:lnTo>
                                <a:lnTo>
                                  <a:pt x="342" y="434"/>
                                </a:lnTo>
                                <a:lnTo>
                                  <a:pt x="334" y="434"/>
                                </a:lnTo>
                                <a:lnTo>
                                  <a:pt x="328" y="434"/>
                                </a:lnTo>
                                <a:lnTo>
                                  <a:pt x="325" y="434"/>
                                </a:lnTo>
                                <a:lnTo>
                                  <a:pt x="324" y="444"/>
                                </a:lnTo>
                                <a:lnTo>
                                  <a:pt x="324" y="451"/>
                                </a:lnTo>
                                <a:lnTo>
                                  <a:pt x="324" y="460"/>
                                </a:lnTo>
                                <a:lnTo>
                                  <a:pt x="324" y="469"/>
                                </a:lnTo>
                                <a:lnTo>
                                  <a:pt x="324" y="474"/>
                                </a:lnTo>
                                <a:lnTo>
                                  <a:pt x="317" y="477"/>
                                </a:lnTo>
                                <a:lnTo>
                                  <a:pt x="312" y="483"/>
                                </a:lnTo>
                                <a:lnTo>
                                  <a:pt x="303" y="474"/>
                                </a:lnTo>
                                <a:lnTo>
                                  <a:pt x="298" y="463"/>
                                </a:lnTo>
                                <a:lnTo>
                                  <a:pt x="299" y="450"/>
                                </a:lnTo>
                                <a:lnTo>
                                  <a:pt x="291" y="429"/>
                                </a:lnTo>
                                <a:lnTo>
                                  <a:pt x="287" y="418"/>
                                </a:lnTo>
                                <a:lnTo>
                                  <a:pt x="277" y="410"/>
                                </a:lnTo>
                                <a:lnTo>
                                  <a:pt x="266" y="403"/>
                                </a:lnTo>
                                <a:lnTo>
                                  <a:pt x="261" y="393"/>
                                </a:lnTo>
                                <a:lnTo>
                                  <a:pt x="257" y="386"/>
                                </a:lnTo>
                                <a:lnTo>
                                  <a:pt x="247" y="384"/>
                                </a:lnTo>
                                <a:lnTo>
                                  <a:pt x="244" y="380"/>
                                </a:lnTo>
                                <a:lnTo>
                                  <a:pt x="238" y="380"/>
                                </a:lnTo>
                                <a:lnTo>
                                  <a:pt x="232" y="387"/>
                                </a:lnTo>
                                <a:lnTo>
                                  <a:pt x="227" y="393"/>
                                </a:lnTo>
                                <a:lnTo>
                                  <a:pt x="239" y="400"/>
                                </a:lnTo>
                                <a:lnTo>
                                  <a:pt x="246" y="410"/>
                                </a:lnTo>
                                <a:lnTo>
                                  <a:pt x="258" y="424"/>
                                </a:lnTo>
                                <a:lnTo>
                                  <a:pt x="264" y="429"/>
                                </a:lnTo>
                                <a:lnTo>
                                  <a:pt x="273" y="434"/>
                                </a:lnTo>
                                <a:lnTo>
                                  <a:pt x="280" y="445"/>
                                </a:lnTo>
                                <a:lnTo>
                                  <a:pt x="272" y="456"/>
                                </a:lnTo>
                                <a:lnTo>
                                  <a:pt x="271" y="451"/>
                                </a:lnTo>
                                <a:lnTo>
                                  <a:pt x="271" y="445"/>
                                </a:lnTo>
                                <a:lnTo>
                                  <a:pt x="266" y="458"/>
                                </a:lnTo>
                                <a:lnTo>
                                  <a:pt x="265" y="470"/>
                                </a:lnTo>
                                <a:lnTo>
                                  <a:pt x="257" y="473"/>
                                </a:lnTo>
                                <a:lnTo>
                                  <a:pt x="260" y="458"/>
                                </a:lnTo>
                                <a:lnTo>
                                  <a:pt x="258" y="451"/>
                                </a:lnTo>
                                <a:lnTo>
                                  <a:pt x="249" y="447"/>
                                </a:lnTo>
                                <a:lnTo>
                                  <a:pt x="244" y="444"/>
                                </a:lnTo>
                                <a:lnTo>
                                  <a:pt x="240" y="438"/>
                                </a:lnTo>
                                <a:lnTo>
                                  <a:pt x="232" y="432"/>
                                </a:lnTo>
                                <a:lnTo>
                                  <a:pt x="227" y="428"/>
                                </a:lnTo>
                                <a:lnTo>
                                  <a:pt x="221" y="419"/>
                                </a:lnTo>
                                <a:lnTo>
                                  <a:pt x="214" y="415"/>
                                </a:lnTo>
                                <a:lnTo>
                                  <a:pt x="210" y="406"/>
                                </a:lnTo>
                                <a:lnTo>
                                  <a:pt x="209" y="399"/>
                                </a:lnTo>
                                <a:lnTo>
                                  <a:pt x="203" y="396"/>
                                </a:lnTo>
                                <a:lnTo>
                                  <a:pt x="198" y="392"/>
                                </a:lnTo>
                                <a:lnTo>
                                  <a:pt x="187" y="392"/>
                                </a:lnTo>
                                <a:lnTo>
                                  <a:pt x="177" y="393"/>
                                </a:lnTo>
                                <a:lnTo>
                                  <a:pt x="166" y="392"/>
                                </a:lnTo>
                                <a:lnTo>
                                  <a:pt x="147" y="393"/>
                                </a:lnTo>
                                <a:lnTo>
                                  <a:pt x="133" y="395"/>
                                </a:lnTo>
                                <a:lnTo>
                                  <a:pt x="129" y="397"/>
                                </a:lnTo>
                                <a:lnTo>
                                  <a:pt x="128" y="406"/>
                                </a:lnTo>
                                <a:lnTo>
                                  <a:pt x="128" y="416"/>
                                </a:lnTo>
                                <a:lnTo>
                                  <a:pt x="120" y="426"/>
                                </a:lnTo>
                                <a:lnTo>
                                  <a:pt x="114" y="431"/>
                                </a:lnTo>
                                <a:lnTo>
                                  <a:pt x="111" y="434"/>
                                </a:lnTo>
                                <a:lnTo>
                                  <a:pt x="107" y="444"/>
                                </a:lnTo>
                                <a:lnTo>
                                  <a:pt x="105" y="450"/>
                                </a:lnTo>
                                <a:lnTo>
                                  <a:pt x="109" y="454"/>
                                </a:lnTo>
                                <a:lnTo>
                                  <a:pt x="109" y="463"/>
                                </a:lnTo>
                                <a:lnTo>
                                  <a:pt x="107" y="467"/>
                                </a:lnTo>
                                <a:lnTo>
                                  <a:pt x="105" y="473"/>
                                </a:lnTo>
                                <a:lnTo>
                                  <a:pt x="98" y="483"/>
                                </a:lnTo>
                                <a:lnTo>
                                  <a:pt x="94" y="479"/>
                                </a:lnTo>
                                <a:lnTo>
                                  <a:pt x="90" y="482"/>
                                </a:lnTo>
                                <a:lnTo>
                                  <a:pt x="84" y="486"/>
                                </a:lnTo>
                                <a:lnTo>
                                  <a:pt x="76" y="487"/>
                                </a:lnTo>
                                <a:lnTo>
                                  <a:pt x="68" y="495"/>
                                </a:lnTo>
                                <a:lnTo>
                                  <a:pt x="59" y="496"/>
                                </a:lnTo>
                                <a:lnTo>
                                  <a:pt x="51" y="496"/>
                                </a:lnTo>
                                <a:lnTo>
                                  <a:pt x="43" y="496"/>
                                </a:lnTo>
                                <a:lnTo>
                                  <a:pt x="25" y="501"/>
                                </a:lnTo>
                                <a:lnTo>
                                  <a:pt x="17" y="501"/>
                                </a:lnTo>
                                <a:lnTo>
                                  <a:pt x="13" y="490"/>
                                </a:lnTo>
                                <a:lnTo>
                                  <a:pt x="9" y="477"/>
                                </a:lnTo>
                                <a:lnTo>
                                  <a:pt x="6" y="466"/>
                                </a:lnTo>
                                <a:lnTo>
                                  <a:pt x="5" y="454"/>
                                </a:lnTo>
                                <a:lnTo>
                                  <a:pt x="5" y="440"/>
                                </a:lnTo>
                                <a:lnTo>
                                  <a:pt x="0" y="41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514" name=""/>
                      <p:cNvGrpSpPr/>
                      <p:nvPr/>
                    </p:nvGrpSpPr>
                    <p:grpSpPr>
                      <a:xfrm>
                        <a:off x="6992280" y="3201120"/>
                        <a:ext cx="746280" cy="1140120"/>
                        <a:chOff x="6992280" y="3201120"/>
                        <a:chExt cx="746280" cy="1140120"/>
                      </a:xfrm>
                    </p:grpSpPr>
                    <p:sp>
                      <p:nvSpPr>
                        <p:cNvPr id="1515" name=""/>
                        <p:cNvSpPr/>
                        <p:nvPr/>
                      </p:nvSpPr>
                      <p:spPr>
                        <a:xfrm>
                          <a:off x="6992280" y="4261320"/>
                          <a:ext cx="187200" cy="74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0" h="137">
                              <a:moveTo>
                                <a:pt x="86" y="65"/>
                              </a:moveTo>
                              <a:lnTo>
                                <a:pt x="85" y="51"/>
                              </a:lnTo>
                              <a:lnTo>
                                <a:pt x="93" y="48"/>
                              </a:lnTo>
                              <a:lnTo>
                                <a:pt x="106" y="52"/>
                              </a:lnTo>
                              <a:lnTo>
                                <a:pt x="121" y="57"/>
                              </a:lnTo>
                              <a:lnTo>
                                <a:pt x="133" y="44"/>
                              </a:lnTo>
                              <a:lnTo>
                                <a:pt x="132" y="35"/>
                              </a:lnTo>
                              <a:lnTo>
                                <a:pt x="151" y="41"/>
                              </a:lnTo>
                              <a:lnTo>
                                <a:pt x="159" y="41"/>
                              </a:lnTo>
                              <a:lnTo>
                                <a:pt x="167" y="42"/>
                              </a:lnTo>
                              <a:lnTo>
                                <a:pt x="182" y="31"/>
                              </a:lnTo>
                              <a:lnTo>
                                <a:pt x="200" y="26"/>
                              </a:lnTo>
                              <a:lnTo>
                                <a:pt x="218" y="26"/>
                              </a:lnTo>
                              <a:lnTo>
                                <a:pt x="229" y="22"/>
                              </a:lnTo>
                              <a:lnTo>
                                <a:pt x="247" y="23"/>
                              </a:lnTo>
                              <a:lnTo>
                                <a:pt x="262" y="23"/>
                              </a:lnTo>
                              <a:lnTo>
                                <a:pt x="276" y="22"/>
                              </a:lnTo>
                              <a:lnTo>
                                <a:pt x="298" y="23"/>
                              </a:lnTo>
                              <a:lnTo>
                                <a:pt x="307" y="22"/>
                              </a:lnTo>
                              <a:lnTo>
                                <a:pt x="328" y="32"/>
                              </a:lnTo>
                              <a:lnTo>
                                <a:pt x="347" y="29"/>
                              </a:lnTo>
                              <a:lnTo>
                                <a:pt x="359" y="16"/>
                              </a:lnTo>
                              <a:lnTo>
                                <a:pt x="370" y="13"/>
                              </a:lnTo>
                              <a:lnTo>
                                <a:pt x="387" y="1"/>
                              </a:lnTo>
                              <a:lnTo>
                                <a:pt x="410" y="0"/>
                              </a:lnTo>
                              <a:lnTo>
                                <a:pt x="402" y="10"/>
                              </a:lnTo>
                              <a:lnTo>
                                <a:pt x="394" y="16"/>
                              </a:lnTo>
                              <a:lnTo>
                                <a:pt x="385" y="25"/>
                              </a:lnTo>
                              <a:lnTo>
                                <a:pt x="373" y="33"/>
                              </a:lnTo>
                              <a:lnTo>
                                <a:pt x="366" y="42"/>
                              </a:lnTo>
                              <a:lnTo>
                                <a:pt x="355" y="48"/>
                              </a:lnTo>
                              <a:lnTo>
                                <a:pt x="347" y="54"/>
                              </a:lnTo>
                              <a:lnTo>
                                <a:pt x="339" y="58"/>
                              </a:lnTo>
                              <a:lnTo>
                                <a:pt x="332" y="64"/>
                              </a:lnTo>
                              <a:lnTo>
                                <a:pt x="321" y="65"/>
                              </a:lnTo>
                              <a:lnTo>
                                <a:pt x="313" y="70"/>
                              </a:lnTo>
                              <a:lnTo>
                                <a:pt x="304" y="76"/>
                              </a:lnTo>
                              <a:lnTo>
                                <a:pt x="288" y="84"/>
                              </a:lnTo>
                              <a:lnTo>
                                <a:pt x="276" y="87"/>
                              </a:lnTo>
                              <a:lnTo>
                                <a:pt x="262" y="94"/>
                              </a:lnTo>
                              <a:lnTo>
                                <a:pt x="248" y="99"/>
                              </a:lnTo>
                              <a:lnTo>
                                <a:pt x="236" y="105"/>
                              </a:lnTo>
                              <a:lnTo>
                                <a:pt x="222" y="109"/>
                              </a:lnTo>
                              <a:lnTo>
                                <a:pt x="208" y="115"/>
                              </a:lnTo>
                              <a:lnTo>
                                <a:pt x="196" y="118"/>
                              </a:lnTo>
                              <a:lnTo>
                                <a:pt x="184" y="121"/>
                              </a:lnTo>
                              <a:lnTo>
                                <a:pt x="171" y="125"/>
                              </a:lnTo>
                              <a:lnTo>
                                <a:pt x="155" y="128"/>
                              </a:lnTo>
                              <a:lnTo>
                                <a:pt x="140" y="129"/>
                              </a:lnTo>
                              <a:lnTo>
                                <a:pt x="126" y="134"/>
                              </a:lnTo>
                              <a:lnTo>
                                <a:pt x="110" y="137"/>
                              </a:lnTo>
                              <a:lnTo>
                                <a:pt x="95" y="137"/>
                              </a:lnTo>
                              <a:lnTo>
                                <a:pt x="80" y="135"/>
                              </a:lnTo>
                              <a:lnTo>
                                <a:pt x="64" y="137"/>
                              </a:lnTo>
                              <a:lnTo>
                                <a:pt x="51" y="129"/>
                              </a:lnTo>
                              <a:lnTo>
                                <a:pt x="38" y="123"/>
                              </a:lnTo>
                              <a:lnTo>
                                <a:pt x="26" y="116"/>
                              </a:lnTo>
                              <a:lnTo>
                                <a:pt x="12" y="105"/>
                              </a:lnTo>
                              <a:lnTo>
                                <a:pt x="0" y="96"/>
                              </a:lnTo>
                              <a:lnTo>
                                <a:pt x="36" y="91"/>
                              </a:lnTo>
                              <a:lnTo>
                                <a:pt x="41" y="91"/>
                              </a:lnTo>
                              <a:lnTo>
                                <a:pt x="44" y="89"/>
                              </a:lnTo>
                              <a:lnTo>
                                <a:pt x="55" y="87"/>
                              </a:lnTo>
                              <a:lnTo>
                                <a:pt x="66" y="91"/>
                              </a:lnTo>
                              <a:lnTo>
                                <a:pt x="74" y="99"/>
                              </a:lnTo>
                              <a:lnTo>
                                <a:pt x="78" y="99"/>
                              </a:lnTo>
                              <a:lnTo>
                                <a:pt x="84" y="103"/>
                              </a:lnTo>
                              <a:lnTo>
                                <a:pt x="92" y="99"/>
                              </a:lnTo>
                              <a:lnTo>
                                <a:pt x="95" y="87"/>
                              </a:lnTo>
                              <a:lnTo>
                                <a:pt x="97" y="77"/>
                              </a:lnTo>
                              <a:lnTo>
                                <a:pt x="86" y="6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6" name=""/>
                        <p:cNvSpPr/>
                        <p:nvPr/>
                      </p:nvSpPr>
                      <p:spPr>
                        <a:xfrm>
                          <a:off x="7509600" y="4208040"/>
                          <a:ext cx="190800" cy="13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9" h="241">
                              <a:moveTo>
                                <a:pt x="229" y="18"/>
                              </a:moveTo>
                              <a:lnTo>
                                <a:pt x="205" y="32"/>
                              </a:lnTo>
                              <a:lnTo>
                                <a:pt x="201" y="40"/>
                              </a:lnTo>
                              <a:lnTo>
                                <a:pt x="191" y="46"/>
                              </a:lnTo>
                              <a:lnTo>
                                <a:pt x="187" y="48"/>
                              </a:lnTo>
                              <a:lnTo>
                                <a:pt x="179" y="52"/>
                              </a:lnTo>
                              <a:lnTo>
                                <a:pt x="188" y="65"/>
                              </a:lnTo>
                              <a:lnTo>
                                <a:pt x="192" y="71"/>
                              </a:lnTo>
                              <a:lnTo>
                                <a:pt x="192" y="81"/>
                              </a:lnTo>
                              <a:lnTo>
                                <a:pt x="211" y="107"/>
                              </a:lnTo>
                              <a:lnTo>
                                <a:pt x="211" y="123"/>
                              </a:lnTo>
                              <a:lnTo>
                                <a:pt x="209" y="138"/>
                              </a:lnTo>
                              <a:lnTo>
                                <a:pt x="184" y="161"/>
                              </a:lnTo>
                              <a:lnTo>
                                <a:pt x="176" y="170"/>
                              </a:lnTo>
                              <a:lnTo>
                                <a:pt x="165" y="174"/>
                              </a:lnTo>
                              <a:lnTo>
                                <a:pt x="147" y="171"/>
                              </a:lnTo>
                              <a:lnTo>
                                <a:pt x="143" y="167"/>
                              </a:lnTo>
                              <a:lnTo>
                                <a:pt x="128" y="170"/>
                              </a:lnTo>
                              <a:lnTo>
                                <a:pt x="133" y="174"/>
                              </a:lnTo>
                              <a:lnTo>
                                <a:pt x="133" y="183"/>
                              </a:lnTo>
                              <a:lnTo>
                                <a:pt x="142" y="191"/>
                              </a:lnTo>
                              <a:lnTo>
                                <a:pt x="147" y="190"/>
                              </a:lnTo>
                              <a:lnTo>
                                <a:pt x="165" y="196"/>
                              </a:lnTo>
                              <a:lnTo>
                                <a:pt x="201" y="196"/>
                              </a:lnTo>
                              <a:lnTo>
                                <a:pt x="206" y="200"/>
                              </a:lnTo>
                              <a:lnTo>
                                <a:pt x="265" y="196"/>
                              </a:lnTo>
                              <a:lnTo>
                                <a:pt x="292" y="185"/>
                              </a:lnTo>
                              <a:lnTo>
                                <a:pt x="307" y="180"/>
                              </a:lnTo>
                              <a:lnTo>
                                <a:pt x="324" y="171"/>
                              </a:lnTo>
                              <a:lnTo>
                                <a:pt x="329" y="165"/>
                              </a:lnTo>
                              <a:lnTo>
                                <a:pt x="335" y="161"/>
                              </a:lnTo>
                              <a:lnTo>
                                <a:pt x="347" y="155"/>
                              </a:lnTo>
                              <a:lnTo>
                                <a:pt x="360" y="146"/>
                              </a:lnTo>
                              <a:lnTo>
                                <a:pt x="377" y="142"/>
                              </a:lnTo>
                              <a:lnTo>
                                <a:pt x="419" y="119"/>
                              </a:lnTo>
                              <a:lnTo>
                                <a:pt x="414" y="138"/>
                              </a:lnTo>
                              <a:lnTo>
                                <a:pt x="406" y="151"/>
                              </a:lnTo>
                              <a:lnTo>
                                <a:pt x="398" y="162"/>
                              </a:lnTo>
                              <a:lnTo>
                                <a:pt x="390" y="172"/>
                              </a:lnTo>
                              <a:lnTo>
                                <a:pt x="376" y="183"/>
                              </a:lnTo>
                              <a:lnTo>
                                <a:pt x="365" y="191"/>
                              </a:lnTo>
                              <a:lnTo>
                                <a:pt x="354" y="200"/>
                              </a:lnTo>
                              <a:lnTo>
                                <a:pt x="339" y="210"/>
                              </a:lnTo>
                              <a:lnTo>
                                <a:pt x="320" y="222"/>
                              </a:lnTo>
                              <a:lnTo>
                                <a:pt x="303" y="229"/>
                              </a:lnTo>
                              <a:lnTo>
                                <a:pt x="287" y="233"/>
                              </a:lnTo>
                              <a:lnTo>
                                <a:pt x="262" y="238"/>
                              </a:lnTo>
                              <a:lnTo>
                                <a:pt x="235" y="241"/>
                              </a:lnTo>
                              <a:lnTo>
                                <a:pt x="210" y="241"/>
                              </a:lnTo>
                              <a:lnTo>
                                <a:pt x="181" y="239"/>
                              </a:lnTo>
                              <a:lnTo>
                                <a:pt x="163" y="236"/>
                              </a:lnTo>
                              <a:lnTo>
                                <a:pt x="139" y="232"/>
                              </a:lnTo>
                              <a:lnTo>
                                <a:pt x="124" y="226"/>
                              </a:lnTo>
                              <a:lnTo>
                                <a:pt x="107" y="216"/>
                              </a:lnTo>
                              <a:lnTo>
                                <a:pt x="91" y="210"/>
                              </a:lnTo>
                              <a:lnTo>
                                <a:pt x="80" y="204"/>
                              </a:lnTo>
                              <a:lnTo>
                                <a:pt x="69" y="199"/>
                              </a:lnTo>
                              <a:lnTo>
                                <a:pt x="61" y="196"/>
                              </a:lnTo>
                              <a:lnTo>
                                <a:pt x="47" y="188"/>
                              </a:lnTo>
                              <a:lnTo>
                                <a:pt x="37" y="181"/>
                              </a:lnTo>
                              <a:lnTo>
                                <a:pt x="29" y="175"/>
                              </a:lnTo>
                              <a:lnTo>
                                <a:pt x="22" y="167"/>
                              </a:lnTo>
                              <a:lnTo>
                                <a:pt x="14" y="159"/>
                              </a:lnTo>
                              <a:lnTo>
                                <a:pt x="7" y="154"/>
                              </a:lnTo>
                              <a:lnTo>
                                <a:pt x="0" y="148"/>
                              </a:lnTo>
                              <a:lnTo>
                                <a:pt x="14" y="135"/>
                              </a:lnTo>
                              <a:lnTo>
                                <a:pt x="22" y="133"/>
                              </a:lnTo>
                              <a:lnTo>
                                <a:pt x="28" y="133"/>
                              </a:lnTo>
                              <a:lnTo>
                                <a:pt x="36" y="132"/>
                              </a:lnTo>
                              <a:lnTo>
                                <a:pt x="47" y="127"/>
                              </a:lnTo>
                              <a:lnTo>
                                <a:pt x="55" y="129"/>
                              </a:lnTo>
                              <a:lnTo>
                                <a:pt x="66" y="126"/>
                              </a:lnTo>
                              <a:lnTo>
                                <a:pt x="80" y="125"/>
                              </a:lnTo>
                              <a:lnTo>
                                <a:pt x="89" y="126"/>
                              </a:lnTo>
                              <a:lnTo>
                                <a:pt x="98" y="127"/>
                              </a:lnTo>
                              <a:lnTo>
                                <a:pt x="105" y="127"/>
                              </a:lnTo>
                              <a:lnTo>
                                <a:pt x="109" y="129"/>
                              </a:lnTo>
                              <a:lnTo>
                                <a:pt x="117" y="129"/>
                              </a:lnTo>
                              <a:lnTo>
                                <a:pt x="121" y="127"/>
                              </a:lnTo>
                              <a:lnTo>
                                <a:pt x="139" y="125"/>
                              </a:lnTo>
                              <a:lnTo>
                                <a:pt x="153" y="123"/>
                              </a:lnTo>
                              <a:lnTo>
                                <a:pt x="161" y="125"/>
                              </a:lnTo>
                              <a:lnTo>
                                <a:pt x="162" y="120"/>
                              </a:lnTo>
                              <a:lnTo>
                                <a:pt x="159" y="114"/>
                              </a:lnTo>
                              <a:lnTo>
                                <a:pt x="157" y="107"/>
                              </a:lnTo>
                              <a:lnTo>
                                <a:pt x="155" y="103"/>
                              </a:lnTo>
                              <a:lnTo>
                                <a:pt x="153" y="97"/>
                              </a:lnTo>
                              <a:lnTo>
                                <a:pt x="159" y="90"/>
                              </a:lnTo>
                              <a:lnTo>
                                <a:pt x="165" y="82"/>
                              </a:lnTo>
                              <a:lnTo>
                                <a:pt x="172" y="71"/>
                              </a:lnTo>
                              <a:lnTo>
                                <a:pt x="165" y="66"/>
                              </a:lnTo>
                              <a:lnTo>
                                <a:pt x="163" y="62"/>
                              </a:lnTo>
                              <a:lnTo>
                                <a:pt x="159" y="58"/>
                              </a:lnTo>
                              <a:lnTo>
                                <a:pt x="165" y="48"/>
                              </a:lnTo>
                              <a:lnTo>
                                <a:pt x="170" y="39"/>
                              </a:lnTo>
                              <a:lnTo>
                                <a:pt x="174" y="29"/>
                              </a:lnTo>
                              <a:lnTo>
                                <a:pt x="180" y="21"/>
                              </a:lnTo>
                              <a:lnTo>
                                <a:pt x="184" y="20"/>
                              </a:lnTo>
                              <a:lnTo>
                                <a:pt x="191" y="10"/>
                              </a:lnTo>
                              <a:lnTo>
                                <a:pt x="196" y="7"/>
                              </a:lnTo>
                              <a:lnTo>
                                <a:pt x="201" y="7"/>
                              </a:lnTo>
                              <a:lnTo>
                                <a:pt x="210" y="1"/>
                              </a:lnTo>
                              <a:lnTo>
                                <a:pt x="216" y="0"/>
                              </a:lnTo>
                              <a:lnTo>
                                <a:pt x="224" y="1"/>
                              </a:lnTo>
                              <a:lnTo>
                                <a:pt x="229" y="1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7" name=""/>
                        <p:cNvSpPr/>
                        <p:nvPr/>
                      </p:nvSpPr>
                      <p:spPr>
                        <a:xfrm>
                          <a:off x="7136280" y="3243960"/>
                          <a:ext cx="408600" cy="448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92" h="813">
                              <a:moveTo>
                                <a:pt x="0" y="209"/>
                              </a:moveTo>
                              <a:lnTo>
                                <a:pt x="42" y="181"/>
                              </a:lnTo>
                              <a:lnTo>
                                <a:pt x="67" y="170"/>
                              </a:lnTo>
                              <a:lnTo>
                                <a:pt x="71" y="152"/>
                              </a:lnTo>
                              <a:lnTo>
                                <a:pt x="52" y="142"/>
                              </a:lnTo>
                              <a:lnTo>
                                <a:pt x="50" y="122"/>
                              </a:lnTo>
                              <a:lnTo>
                                <a:pt x="59" y="116"/>
                              </a:lnTo>
                              <a:lnTo>
                                <a:pt x="57" y="107"/>
                              </a:lnTo>
                              <a:lnTo>
                                <a:pt x="90" y="104"/>
                              </a:lnTo>
                              <a:lnTo>
                                <a:pt x="98" y="88"/>
                              </a:lnTo>
                              <a:lnTo>
                                <a:pt x="100" y="74"/>
                              </a:lnTo>
                              <a:lnTo>
                                <a:pt x="127" y="69"/>
                              </a:lnTo>
                              <a:lnTo>
                                <a:pt x="130" y="55"/>
                              </a:lnTo>
                              <a:lnTo>
                                <a:pt x="104" y="51"/>
                              </a:lnTo>
                              <a:lnTo>
                                <a:pt x="116" y="40"/>
                              </a:lnTo>
                              <a:lnTo>
                                <a:pt x="159" y="40"/>
                              </a:lnTo>
                              <a:lnTo>
                                <a:pt x="171" y="29"/>
                              </a:lnTo>
                              <a:lnTo>
                                <a:pt x="189" y="27"/>
                              </a:lnTo>
                              <a:lnTo>
                                <a:pt x="200" y="17"/>
                              </a:lnTo>
                              <a:lnTo>
                                <a:pt x="214" y="35"/>
                              </a:lnTo>
                              <a:lnTo>
                                <a:pt x="267" y="32"/>
                              </a:lnTo>
                              <a:lnTo>
                                <a:pt x="292" y="49"/>
                              </a:lnTo>
                              <a:lnTo>
                                <a:pt x="371" y="45"/>
                              </a:lnTo>
                              <a:lnTo>
                                <a:pt x="384" y="36"/>
                              </a:lnTo>
                              <a:lnTo>
                                <a:pt x="414" y="51"/>
                              </a:lnTo>
                              <a:lnTo>
                                <a:pt x="445" y="64"/>
                              </a:lnTo>
                              <a:lnTo>
                                <a:pt x="461" y="58"/>
                              </a:lnTo>
                              <a:lnTo>
                                <a:pt x="470" y="51"/>
                              </a:lnTo>
                              <a:lnTo>
                                <a:pt x="496" y="55"/>
                              </a:lnTo>
                              <a:lnTo>
                                <a:pt x="478" y="45"/>
                              </a:lnTo>
                              <a:lnTo>
                                <a:pt x="462" y="46"/>
                              </a:lnTo>
                              <a:lnTo>
                                <a:pt x="437" y="49"/>
                              </a:lnTo>
                              <a:lnTo>
                                <a:pt x="425" y="35"/>
                              </a:lnTo>
                              <a:lnTo>
                                <a:pt x="411" y="27"/>
                              </a:lnTo>
                              <a:lnTo>
                                <a:pt x="411" y="14"/>
                              </a:lnTo>
                              <a:lnTo>
                                <a:pt x="415" y="1"/>
                              </a:lnTo>
                              <a:lnTo>
                                <a:pt x="426" y="0"/>
                              </a:lnTo>
                              <a:lnTo>
                                <a:pt x="441" y="11"/>
                              </a:lnTo>
                              <a:lnTo>
                                <a:pt x="445" y="6"/>
                              </a:lnTo>
                              <a:lnTo>
                                <a:pt x="458" y="0"/>
                              </a:lnTo>
                              <a:lnTo>
                                <a:pt x="473" y="8"/>
                              </a:lnTo>
                              <a:lnTo>
                                <a:pt x="481" y="1"/>
                              </a:lnTo>
                              <a:lnTo>
                                <a:pt x="489" y="13"/>
                              </a:lnTo>
                              <a:lnTo>
                                <a:pt x="491" y="22"/>
                              </a:lnTo>
                              <a:lnTo>
                                <a:pt x="513" y="32"/>
                              </a:lnTo>
                              <a:lnTo>
                                <a:pt x="504" y="40"/>
                              </a:lnTo>
                              <a:lnTo>
                                <a:pt x="504" y="52"/>
                              </a:lnTo>
                              <a:lnTo>
                                <a:pt x="541" y="55"/>
                              </a:lnTo>
                              <a:lnTo>
                                <a:pt x="551" y="40"/>
                              </a:lnTo>
                              <a:lnTo>
                                <a:pt x="544" y="33"/>
                              </a:lnTo>
                              <a:lnTo>
                                <a:pt x="528" y="35"/>
                              </a:lnTo>
                              <a:lnTo>
                                <a:pt x="532" y="17"/>
                              </a:lnTo>
                              <a:lnTo>
                                <a:pt x="565" y="27"/>
                              </a:lnTo>
                              <a:lnTo>
                                <a:pt x="572" y="39"/>
                              </a:lnTo>
                              <a:lnTo>
                                <a:pt x="599" y="39"/>
                              </a:lnTo>
                              <a:lnTo>
                                <a:pt x="626" y="53"/>
                              </a:lnTo>
                              <a:lnTo>
                                <a:pt x="640" y="51"/>
                              </a:lnTo>
                              <a:lnTo>
                                <a:pt x="655" y="64"/>
                              </a:lnTo>
                              <a:lnTo>
                                <a:pt x="640" y="81"/>
                              </a:lnTo>
                              <a:lnTo>
                                <a:pt x="628" y="68"/>
                              </a:lnTo>
                              <a:lnTo>
                                <a:pt x="620" y="72"/>
                              </a:lnTo>
                              <a:lnTo>
                                <a:pt x="607" y="83"/>
                              </a:lnTo>
                              <a:lnTo>
                                <a:pt x="588" y="91"/>
                              </a:lnTo>
                              <a:lnTo>
                                <a:pt x="598" y="104"/>
                              </a:lnTo>
                              <a:lnTo>
                                <a:pt x="581" y="106"/>
                              </a:lnTo>
                              <a:lnTo>
                                <a:pt x="567" y="123"/>
                              </a:lnTo>
                              <a:lnTo>
                                <a:pt x="554" y="145"/>
                              </a:lnTo>
                              <a:lnTo>
                                <a:pt x="574" y="164"/>
                              </a:lnTo>
                              <a:lnTo>
                                <a:pt x="591" y="186"/>
                              </a:lnTo>
                              <a:lnTo>
                                <a:pt x="622" y="189"/>
                              </a:lnTo>
                              <a:lnTo>
                                <a:pt x="650" y="186"/>
                              </a:lnTo>
                              <a:lnTo>
                                <a:pt x="662" y="197"/>
                              </a:lnTo>
                              <a:lnTo>
                                <a:pt x="657" y="203"/>
                              </a:lnTo>
                              <a:lnTo>
                                <a:pt x="648" y="215"/>
                              </a:lnTo>
                              <a:lnTo>
                                <a:pt x="661" y="235"/>
                              </a:lnTo>
                              <a:lnTo>
                                <a:pt x="665" y="249"/>
                              </a:lnTo>
                              <a:lnTo>
                                <a:pt x="680" y="257"/>
                              </a:lnTo>
                              <a:lnTo>
                                <a:pt x="700" y="244"/>
                              </a:lnTo>
                              <a:lnTo>
                                <a:pt x="695" y="225"/>
                              </a:lnTo>
                              <a:lnTo>
                                <a:pt x="677" y="209"/>
                              </a:lnTo>
                              <a:lnTo>
                                <a:pt x="698" y="190"/>
                              </a:lnTo>
                              <a:lnTo>
                                <a:pt x="680" y="158"/>
                              </a:lnTo>
                              <a:lnTo>
                                <a:pt x="663" y="145"/>
                              </a:lnTo>
                              <a:lnTo>
                                <a:pt x="677" y="133"/>
                              </a:lnTo>
                              <a:lnTo>
                                <a:pt x="674" y="116"/>
                              </a:lnTo>
                              <a:lnTo>
                                <a:pt x="684" y="106"/>
                              </a:lnTo>
                              <a:lnTo>
                                <a:pt x="700" y="116"/>
                              </a:lnTo>
                              <a:lnTo>
                                <a:pt x="739" y="154"/>
                              </a:lnTo>
                              <a:lnTo>
                                <a:pt x="762" y="159"/>
                              </a:lnTo>
                              <a:lnTo>
                                <a:pt x="769" y="149"/>
                              </a:lnTo>
                              <a:lnTo>
                                <a:pt x="764" y="129"/>
                              </a:lnTo>
                              <a:lnTo>
                                <a:pt x="777" y="132"/>
                              </a:lnTo>
                              <a:lnTo>
                                <a:pt x="801" y="155"/>
                              </a:lnTo>
                              <a:lnTo>
                                <a:pt x="805" y="168"/>
                              </a:lnTo>
                              <a:lnTo>
                                <a:pt x="818" y="177"/>
                              </a:lnTo>
                              <a:lnTo>
                                <a:pt x="846" y="187"/>
                              </a:lnTo>
                              <a:lnTo>
                                <a:pt x="860" y="206"/>
                              </a:lnTo>
                              <a:lnTo>
                                <a:pt x="880" y="219"/>
                              </a:lnTo>
                              <a:lnTo>
                                <a:pt x="891" y="223"/>
                              </a:lnTo>
                              <a:lnTo>
                                <a:pt x="892" y="235"/>
                              </a:lnTo>
                              <a:lnTo>
                                <a:pt x="876" y="242"/>
                              </a:lnTo>
                              <a:lnTo>
                                <a:pt x="866" y="234"/>
                              </a:lnTo>
                              <a:lnTo>
                                <a:pt x="858" y="235"/>
                              </a:lnTo>
                              <a:lnTo>
                                <a:pt x="855" y="254"/>
                              </a:lnTo>
                              <a:lnTo>
                                <a:pt x="842" y="258"/>
                              </a:lnTo>
                              <a:lnTo>
                                <a:pt x="827" y="248"/>
                              </a:lnTo>
                              <a:lnTo>
                                <a:pt x="795" y="248"/>
                              </a:lnTo>
                              <a:lnTo>
                                <a:pt x="791" y="270"/>
                              </a:lnTo>
                              <a:lnTo>
                                <a:pt x="799" y="283"/>
                              </a:lnTo>
                              <a:lnTo>
                                <a:pt x="812" y="276"/>
                              </a:lnTo>
                              <a:lnTo>
                                <a:pt x="824" y="273"/>
                              </a:lnTo>
                              <a:lnTo>
                                <a:pt x="836" y="280"/>
                              </a:lnTo>
                              <a:lnTo>
                                <a:pt x="820" y="296"/>
                              </a:lnTo>
                              <a:lnTo>
                                <a:pt x="836" y="310"/>
                              </a:lnTo>
                              <a:lnTo>
                                <a:pt x="858" y="315"/>
                              </a:lnTo>
                              <a:lnTo>
                                <a:pt x="855" y="324"/>
                              </a:lnTo>
                              <a:lnTo>
                                <a:pt x="847" y="325"/>
                              </a:lnTo>
                              <a:lnTo>
                                <a:pt x="827" y="374"/>
                              </a:lnTo>
                              <a:lnTo>
                                <a:pt x="828" y="342"/>
                              </a:lnTo>
                              <a:lnTo>
                                <a:pt x="838" y="326"/>
                              </a:lnTo>
                              <a:lnTo>
                                <a:pt x="827" y="319"/>
                              </a:lnTo>
                              <a:lnTo>
                                <a:pt x="814" y="329"/>
                              </a:lnTo>
                              <a:lnTo>
                                <a:pt x="821" y="338"/>
                              </a:lnTo>
                              <a:lnTo>
                                <a:pt x="812" y="344"/>
                              </a:lnTo>
                              <a:lnTo>
                                <a:pt x="802" y="351"/>
                              </a:lnTo>
                              <a:lnTo>
                                <a:pt x="803" y="373"/>
                              </a:lnTo>
                              <a:lnTo>
                                <a:pt x="790" y="382"/>
                              </a:lnTo>
                              <a:lnTo>
                                <a:pt x="770" y="385"/>
                              </a:lnTo>
                              <a:lnTo>
                                <a:pt x="777" y="396"/>
                              </a:lnTo>
                              <a:lnTo>
                                <a:pt x="770" y="409"/>
                              </a:lnTo>
                              <a:lnTo>
                                <a:pt x="777" y="419"/>
                              </a:lnTo>
                              <a:lnTo>
                                <a:pt x="766" y="441"/>
                              </a:lnTo>
                              <a:lnTo>
                                <a:pt x="762" y="462"/>
                              </a:lnTo>
                              <a:lnTo>
                                <a:pt x="746" y="473"/>
                              </a:lnTo>
                              <a:lnTo>
                                <a:pt x="725" y="505"/>
                              </a:lnTo>
                              <a:lnTo>
                                <a:pt x="722" y="527"/>
                              </a:lnTo>
                              <a:lnTo>
                                <a:pt x="729" y="544"/>
                              </a:lnTo>
                              <a:lnTo>
                                <a:pt x="739" y="566"/>
                              </a:lnTo>
                              <a:lnTo>
                                <a:pt x="744" y="589"/>
                              </a:lnTo>
                              <a:lnTo>
                                <a:pt x="735" y="599"/>
                              </a:lnTo>
                              <a:lnTo>
                                <a:pt x="722" y="592"/>
                              </a:lnTo>
                              <a:lnTo>
                                <a:pt x="725" y="581"/>
                              </a:lnTo>
                              <a:lnTo>
                                <a:pt x="718" y="554"/>
                              </a:lnTo>
                              <a:lnTo>
                                <a:pt x="710" y="550"/>
                              </a:lnTo>
                              <a:lnTo>
                                <a:pt x="705" y="534"/>
                              </a:lnTo>
                              <a:lnTo>
                                <a:pt x="694" y="534"/>
                              </a:lnTo>
                              <a:lnTo>
                                <a:pt x="681" y="525"/>
                              </a:lnTo>
                              <a:lnTo>
                                <a:pt x="668" y="528"/>
                              </a:lnTo>
                              <a:lnTo>
                                <a:pt x="655" y="522"/>
                              </a:lnTo>
                              <a:lnTo>
                                <a:pt x="640" y="530"/>
                              </a:lnTo>
                              <a:lnTo>
                                <a:pt x="613" y="524"/>
                              </a:lnTo>
                              <a:lnTo>
                                <a:pt x="631" y="543"/>
                              </a:lnTo>
                              <a:lnTo>
                                <a:pt x="607" y="541"/>
                              </a:lnTo>
                              <a:lnTo>
                                <a:pt x="591" y="527"/>
                              </a:lnTo>
                              <a:lnTo>
                                <a:pt x="563" y="527"/>
                              </a:lnTo>
                              <a:lnTo>
                                <a:pt x="567" y="550"/>
                              </a:lnTo>
                              <a:lnTo>
                                <a:pt x="547" y="543"/>
                              </a:lnTo>
                              <a:lnTo>
                                <a:pt x="536" y="566"/>
                              </a:lnTo>
                              <a:lnTo>
                                <a:pt x="544" y="576"/>
                              </a:lnTo>
                              <a:lnTo>
                                <a:pt x="536" y="604"/>
                              </a:lnTo>
                              <a:lnTo>
                                <a:pt x="546" y="636"/>
                              </a:lnTo>
                              <a:lnTo>
                                <a:pt x="557" y="658"/>
                              </a:lnTo>
                              <a:lnTo>
                                <a:pt x="569" y="678"/>
                              </a:lnTo>
                              <a:lnTo>
                                <a:pt x="607" y="676"/>
                              </a:lnTo>
                              <a:lnTo>
                                <a:pt x="624" y="672"/>
                              </a:lnTo>
                              <a:lnTo>
                                <a:pt x="626" y="658"/>
                              </a:lnTo>
                              <a:lnTo>
                                <a:pt x="618" y="646"/>
                              </a:lnTo>
                              <a:lnTo>
                                <a:pt x="620" y="636"/>
                              </a:lnTo>
                              <a:lnTo>
                                <a:pt x="643" y="639"/>
                              </a:lnTo>
                              <a:lnTo>
                                <a:pt x="666" y="633"/>
                              </a:lnTo>
                              <a:lnTo>
                                <a:pt x="666" y="646"/>
                              </a:lnTo>
                              <a:lnTo>
                                <a:pt x="659" y="665"/>
                              </a:lnTo>
                              <a:lnTo>
                                <a:pt x="648" y="679"/>
                              </a:lnTo>
                              <a:lnTo>
                                <a:pt x="646" y="700"/>
                              </a:lnTo>
                              <a:lnTo>
                                <a:pt x="661" y="708"/>
                              </a:lnTo>
                              <a:lnTo>
                                <a:pt x="681" y="705"/>
                              </a:lnTo>
                              <a:lnTo>
                                <a:pt x="694" y="713"/>
                              </a:lnTo>
                              <a:lnTo>
                                <a:pt x="705" y="710"/>
                              </a:lnTo>
                              <a:lnTo>
                                <a:pt x="709" y="723"/>
                              </a:lnTo>
                              <a:lnTo>
                                <a:pt x="699" y="743"/>
                              </a:lnTo>
                              <a:lnTo>
                                <a:pt x="707" y="755"/>
                              </a:lnTo>
                              <a:lnTo>
                                <a:pt x="709" y="778"/>
                              </a:lnTo>
                              <a:lnTo>
                                <a:pt x="722" y="794"/>
                              </a:lnTo>
                              <a:lnTo>
                                <a:pt x="740" y="798"/>
                              </a:lnTo>
                              <a:lnTo>
                                <a:pt x="753" y="794"/>
                              </a:lnTo>
                              <a:lnTo>
                                <a:pt x="758" y="795"/>
                              </a:lnTo>
                              <a:lnTo>
                                <a:pt x="781" y="795"/>
                              </a:lnTo>
                              <a:lnTo>
                                <a:pt x="802" y="797"/>
                              </a:lnTo>
                              <a:lnTo>
                                <a:pt x="807" y="787"/>
                              </a:lnTo>
                              <a:lnTo>
                                <a:pt x="790" y="804"/>
                              </a:lnTo>
                              <a:lnTo>
                                <a:pt x="777" y="803"/>
                              </a:lnTo>
                              <a:lnTo>
                                <a:pt x="765" y="804"/>
                              </a:lnTo>
                              <a:lnTo>
                                <a:pt x="740" y="813"/>
                              </a:lnTo>
                              <a:lnTo>
                                <a:pt x="720" y="801"/>
                              </a:lnTo>
                              <a:lnTo>
                                <a:pt x="700" y="794"/>
                              </a:lnTo>
                              <a:lnTo>
                                <a:pt x="692" y="795"/>
                              </a:lnTo>
                              <a:lnTo>
                                <a:pt x="694" y="785"/>
                              </a:lnTo>
                              <a:lnTo>
                                <a:pt x="692" y="769"/>
                              </a:lnTo>
                              <a:lnTo>
                                <a:pt x="676" y="755"/>
                              </a:lnTo>
                              <a:lnTo>
                                <a:pt x="642" y="746"/>
                              </a:lnTo>
                              <a:lnTo>
                                <a:pt x="636" y="739"/>
                              </a:lnTo>
                              <a:lnTo>
                                <a:pt x="626" y="740"/>
                              </a:lnTo>
                              <a:lnTo>
                                <a:pt x="617" y="733"/>
                              </a:lnTo>
                              <a:lnTo>
                                <a:pt x="602" y="726"/>
                              </a:lnTo>
                              <a:lnTo>
                                <a:pt x="585" y="705"/>
                              </a:lnTo>
                              <a:lnTo>
                                <a:pt x="566" y="700"/>
                              </a:lnTo>
                              <a:lnTo>
                                <a:pt x="555" y="713"/>
                              </a:lnTo>
                              <a:lnTo>
                                <a:pt x="543" y="703"/>
                              </a:lnTo>
                              <a:lnTo>
                                <a:pt x="528" y="703"/>
                              </a:lnTo>
                              <a:lnTo>
                                <a:pt x="498" y="695"/>
                              </a:lnTo>
                              <a:lnTo>
                                <a:pt x="443" y="660"/>
                              </a:lnTo>
                              <a:lnTo>
                                <a:pt x="439" y="624"/>
                              </a:lnTo>
                              <a:lnTo>
                                <a:pt x="433" y="610"/>
                              </a:lnTo>
                              <a:lnTo>
                                <a:pt x="423" y="599"/>
                              </a:lnTo>
                              <a:lnTo>
                                <a:pt x="411" y="579"/>
                              </a:lnTo>
                              <a:lnTo>
                                <a:pt x="354" y="509"/>
                              </a:lnTo>
                              <a:lnTo>
                                <a:pt x="354" y="536"/>
                              </a:lnTo>
                              <a:lnTo>
                                <a:pt x="389" y="582"/>
                              </a:lnTo>
                              <a:lnTo>
                                <a:pt x="404" y="621"/>
                              </a:lnTo>
                              <a:lnTo>
                                <a:pt x="382" y="613"/>
                              </a:lnTo>
                              <a:lnTo>
                                <a:pt x="378" y="589"/>
                              </a:lnTo>
                              <a:lnTo>
                                <a:pt x="349" y="575"/>
                              </a:lnTo>
                              <a:lnTo>
                                <a:pt x="366" y="566"/>
                              </a:lnTo>
                              <a:lnTo>
                                <a:pt x="327" y="541"/>
                              </a:lnTo>
                              <a:lnTo>
                                <a:pt x="343" y="527"/>
                              </a:lnTo>
                              <a:lnTo>
                                <a:pt x="329" y="498"/>
                              </a:lnTo>
                              <a:lnTo>
                                <a:pt x="282" y="437"/>
                              </a:lnTo>
                              <a:lnTo>
                                <a:pt x="277" y="402"/>
                              </a:lnTo>
                              <a:lnTo>
                                <a:pt x="279" y="373"/>
                              </a:lnTo>
                              <a:lnTo>
                                <a:pt x="292" y="344"/>
                              </a:lnTo>
                              <a:lnTo>
                                <a:pt x="292" y="315"/>
                              </a:lnTo>
                              <a:lnTo>
                                <a:pt x="282" y="297"/>
                              </a:lnTo>
                              <a:lnTo>
                                <a:pt x="308" y="292"/>
                              </a:lnTo>
                              <a:lnTo>
                                <a:pt x="277" y="257"/>
                              </a:lnTo>
                              <a:lnTo>
                                <a:pt x="278" y="241"/>
                              </a:lnTo>
                              <a:lnTo>
                                <a:pt x="264" y="219"/>
                              </a:lnTo>
                              <a:lnTo>
                                <a:pt x="270" y="206"/>
                              </a:lnTo>
                              <a:lnTo>
                                <a:pt x="260" y="199"/>
                              </a:lnTo>
                              <a:lnTo>
                                <a:pt x="259" y="184"/>
                              </a:lnTo>
                              <a:lnTo>
                                <a:pt x="249" y="173"/>
                              </a:lnTo>
                              <a:lnTo>
                                <a:pt x="260" y="162"/>
                              </a:lnTo>
                              <a:lnTo>
                                <a:pt x="245" y="155"/>
                              </a:lnTo>
                              <a:lnTo>
                                <a:pt x="233" y="165"/>
                              </a:lnTo>
                              <a:lnTo>
                                <a:pt x="215" y="145"/>
                              </a:lnTo>
                              <a:lnTo>
                                <a:pt x="196" y="139"/>
                              </a:lnTo>
                              <a:lnTo>
                                <a:pt x="168" y="139"/>
                              </a:lnTo>
                              <a:lnTo>
                                <a:pt x="151" y="158"/>
                              </a:lnTo>
                              <a:lnTo>
                                <a:pt x="142" y="152"/>
                              </a:lnTo>
                              <a:lnTo>
                                <a:pt x="157" y="128"/>
                              </a:lnTo>
                              <a:lnTo>
                                <a:pt x="144" y="132"/>
                              </a:lnTo>
                              <a:lnTo>
                                <a:pt x="116" y="158"/>
                              </a:lnTo>
                              <a:lnTo>
                                <a:pt x="88" y="181"/>
                              </a:lnTo>
                              <a:lnTo>
                                <a:pt x="61" y="187"/>
                              </a:lnTo>
                              <a:lnTo>
                                <a:pt x="18" y="210"/>
                              </a:lnTo>
                              <a:lnTo>
                                <a:pt x="0" y="20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8" name=""/>
                        <p:cNvSpPr/>
                        <p:nvPr/>
                      </p:nvSpPr>
                      <p:spPr>
                        <a:xfrm>
                          <a:off x="7429320" y="3201120"/>
                          <a:ext cx="137520" cy="118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3" h="213">
                              <a:moveTo>
                                <a:pt x="0" y="43"/>
                              </a:moveTo>
                              <a:lnTo>
                                <a:pt x="7" y="27"/>
                              </a:lnTo>
                              <a:lnTo>
                                <a:pt x="7" y="16"/>
                              </a:lnTo>
                              <a:lnTo>
                                <a:pt x="18" y="0"/>
                              </a:lnTo>
                              <a:lnTo>
                                <a:pt x="72" y="10"/>
                              </a:lnTo>
                              <a:lnTo>
                                <a:pt x="167" y="29"/>
                              </a:lnTo>
                              <a:lnTo>
                                <a:pt x="204" y="45"/>
                              </a:lnTo>
                              <a:lnTo>
                                <a:pt x="253" y="59"/>
                              </a:lnTo>
                              <a:lnTo>
                                <a:pt x="278" y="87"/>
                              </a:lnTo>
                              <a:lnTo>
                                <a:pt x="303" y="101"/>
                              </a:lnTo>
                              <a:lnTo>
                                <a:pt x="293" y="112"/>
                              </a:lnTo>
                              <a:lnTo>
                                <a:pt x="293" y="125"/>
                              </a:lnTo>
                              <a:lnTo>
                                <a:pt x="284" y="128"/>
                              </a:lnTo>
                              <a:lnTo>
                                <a:pt x="275" y="139"/>
                              </a:lnTo>
                              <a:lnTo>
                                <a:pt x="284" y="151"/>
                              </a:lnTo>
                              <a:lnTo>
                                <a:pt x="282" y="160"/>
                              </a:lnTo>
                              <a:lnTo>
                                <a:pt x="273" y="171"/>
                              </a:lnTo>
                              <a:lnTo>
                                <a:pt x="274" y="183"/>
                              </a:lnTo>
                              <a:lnTo>
                                <a:pt x="291" y="194"/>
                              </a:lnTo>
                              <a:lnTo>
                                <a:pt x="292" y="206"/>
                              </a:lnTo>
                              <a:lnTo>
                                <a:pt x="288" y="212"/>
                              </a:lnTo>
                              <a:lnTo>
                                <a:pt x="271" y="213"/>
                              </a:lnTo>
                              <a:lnTo>
                                <a:pt x="259" y="207"/>
                              </a:lnTo>
                              <a:lnTo>
                                <a:pt x="245" y="193"/>
                              </a:lnTo>
                              <a:lnTo>
                                <a:pt x="240" y="193"/>
                              </a:lnTo>
                              <a:lnTo>
                                <a:pt x="233" y="187"/>
                              </a:lnTo>
                              <a:lnTo>
                                <a:pt x="226" y="170"/>
                              </a:lnTo>
                              <a:lnTo>
                                <a:pt x="218" y="164"/>
                              </a:lnTo>
                              <a:lnTo>
                                <a:pt x="200" y="155"/>
                              </a:lnTo>
                              <a:lnTo>
                                <a:pt x="185" y="149"/>
                              </a:lnTo>
                              <a:lnTo>
                                <a:pt x="163" y="133"/>
                              </a:lnTo>
                              <a:lnTo>
                                <a:pt x="153" y="122"/>
                              </a:lnTo>
                              <a:lnTo>
                                <a:pt x="155" y="113"/>
                              </a:lnTo>
                              <a:lnTo>
                                <a:pt x="164" y="106"/>
                              </a:lnTo>
                              <a:lnTo>
                                <a:pt x="156" y="96"/>
                              </a:lnTo>
                              <a:lnTo>
                                <a:pt x="148" y="101"/>
                              </a:lnTo>
                              <a:lnTo>
                                <a:pt x="134" y="87"/>
                              </a:lnTo>
                              <a:lnTo>
                                <a:pt x="131" y="94"/>
                              </a:lnTo>
                              <a:lnTo>
                                <a:pt x="119" y="94"/>
                              </a:lnTo>
                              <a:lnTo>
                                <a:pt x="116" y="88"/>
                              </a:lnTo>
                              <a:lnTo>
                                <a:pt x="116" y="78"/>
                              </a:lnTo>
                              <a:lnTo>
                                <a:pt x="111" y="72"/>
                              </a:lnTo>
                              <a:lnTo>
                                <a:pt x="103" y="74"/>
                              </a:lnTo>
                              <a:lnTo>
                                <a:pt x="92" y="58"/>
                              </a:lnTo>
                              <a:lnTo>
                                <a:pt x="83" y="56"/>
                              </a:lnTo>
                              <a:lnTo>
                                <a:pt x="71" y="49"/>
                              </a:lnTo>
                              <a:lnTo>
                                <a:pt x="45" y="51"/>
                              </a:lnTo>
                              <a:lnTo>
                                <a:pt x="19" y="49"/>
                              </a:lnTo>
                              <a:lnTo>
                                <a:pt x="0" y="4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9" name=""/>
                        <p:cNvSpPr/>
                        <p:nvPr/>
                      </p:nvSpPr>
                      <p:spPr>
                        <a:xfrm>
                          <a:off x="7399800" y="3242880"/>
                          <a:ext cx="89640" cy="60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8" h="111">
                              <a:moveTo>
                                <a:pt x="7" y="0"/>
                              </a:moveTo>
                              <a:lnTo>
                                <a:pt x="0" y="9"/>
                              </a:lnTo>
                              <a:lnTo>
                                <a:pt x="0" y="19"/>
                              </a:lnTo>
                              <a:lnTo>
                                <a:pt x="14" y="31"/>
                              </a:lnTo>
                              <a:lnTo>
                                <a:pt x="22" y="28"/>
                              </a:lnTo>
                              <a:lnTo>
                                <a:pt x="25" y="32"/>
                              </a:lnTo>
                              <a:lnTo>
                                <a:pt x="36" y="34"/>
                              </a:lnTo>
                              <a:lnTo>
                                <a:pt x="41" y="26"/>
                              </a:lnTo>
                              <a:lnTo>
                                <a:pt x="61" y="28"/>
                              </a:lnTo>
                              <a:lnTo>
                                <a:pt x="63" y="35"/>
                              </a:lnTo>
                              <a:lnTo>
                                <a:pt x="70" y="38"/>
                              </a:lnTo>
                              <a:lnTo>
                                <a:pt x="87" y="37"/>
                              </a:lnTo>
                              <a:lnTo>
                                <a:pt x="92" y="41"/>
                              </a:lnTo>
                              <a:lnTo>
                                <a:pt x="100" y="45"/>
                              </a:lnTo>
                              <a:lnTo>
                                <a:pt x="107" y="54"/>
                              </a:lnTo>
                              <a:lnTo>
                                <a:pt x="107" y="66"/>
                              </a:lnTo>
                              <a:lnTo>
                                <a:pt x="102" y="69"/>
                              </a:lnTo>
                              <a:lnTo>
                                <a:pt x="105" y="73"/>
                              </a:lnTo>
                              <a:lnTo>
                                <a:pt x="96" y="80"/>
                              </a:lnTo>
                              <a:lnTo>
                                <a:pt x="96" y="90"/>
                              </a:lnTo>
                              <a:lnTo>
                                <a:pt x="109" y="92"/>
                              </a:lnTo>
                              <a:lnTo>
                                <a:pt x="116" y="89"/>
                              </a:lnTo>
                              <a:lnTo>
                                <a:pt x="118" y="85"/>
                              </a:lnTo>
                              <a:lnTo>
                                <a:pt x="122" y="89"/>
                              </a:lnTo>
                              <a:lnTo>
                                <a:pt x="129" y="86"/>
                              </a:lnTo>
                              <a:lnTo>
                                <a:pt x="144" y="92"/>
                              </a:lnTo>
                              <a:lnTo>
                                <a:pt x="154" y="102"/>
                              </a:lnTo>
                              <a:lnTo>
                                <a:pt x="157" y="102"/>
                              </a:lnTo>
                              <a:lnTo>
                                <a:pt x="158" y="108"/>
                              </a:lnTo>
                              <a:lnTo>
                                <a:pt x="168" y="111"/>
                              </a:lnTo>
                              <a:lnTo>
                                <a:pt x="179" y="111"/>
                              </a:lnTo>
                              <a:lnTo>
                                <a:pt x="172" y="105"/>
                              </a:lnTo>
                              <a:lnTo>
                                <a:pt x="174" y="99"/>
                              </a:lnTo>
                              <a:lnTo>
                                <a:pt x="183" y="105"/>
                              </a:lnTo>
                              <a:lnTo>
                                <a:pt x="192" y="106"/>
                              </a:lnTo>
                              <a:lnTo>
                                <a:pt x="194" y="98"/>
                              </a:lnTo>
                              <a:lnTo>
                                <a:pt x="184" y="90"/>
                              </a:lnTo>
                              <a:lnTo>
                                <a:pt x="177" y="90"/>
                              </a:lnTo>
                              <a:lnTo>
                                <a:pt x="168" y="83"/>
                              </a:lnTo>
                              <a:lnTo>
                                <a:pt x="177" y="83"/>
                              </a:lnTo>
                              <a:lnTo>
                                <a:pt x="184" y="87"/>
                              </a:lnTo>
                              <a:lnTo>
                                <a:pt x="198" y="87"/>
                              </a:lnTo>
                              <a:lnTo>
                                <a:pt x="195" y="79"/>
                              </a:lnTo>
                              <a:lnTo>
                                <a:pt x="183" y="70"/>
                              </a:lnTo>
                              <a:lnTo>
                                <a:pt x="174" y="69"/>
                              </a:lnTo>
                              <a:lnTo>
                                <a:pt x="162" y="58"/>
                              </a:lnTo>
                              <a:lnTo>
                                <a:pt x="147" y="55"/>
                              </a:lnTo>
                              <a:lnTo>
                                <a:pt x="135" y="51"/>
                              </a:lnTo>
                              <a:lnTo>
                                <a:pt x="125" y="38"/>
                              </a:lnTo>
                              <a:lnTo>
                                <a:pt x="118" y="21"/>
                              </a:lnTo>
                              <a:lnTo>
                                <a:pt x="109" y="21"/>
                              </a:lnTo>
                              <a:lnTo>
                                <a:pt x="106" y="16"/>
                              </a:lnTo>
                              <a:lnTo>
                                <a:pt x="100" y="18"/>
                              </a:lnTo>
                              <a:lnTo>
                                <a:pt x="91" y="10"/>
                              </a:lnTo>
                              <a:lnTo>
                                <a:pt x="74" y="8"/>
                              </a:lnTo>
                              <a:lnTo>
                                <a:pt x="68" y="12"/>
                              </a:lnTo>
                              <a:lnTo>
                                <a:pt x="52" y="8"/>
                              </a:lnTo>
                              <a:lnTo>
                                <a:pt x="43" y="8"/>
                              </a:lnTo>
                              <a:lnTo>
                                <a:pt x="39" y="2"/>
                              </a:lnTo>
                              <a:lnTo>
                                <a:pt x="33" y="0"/>
                              </a:lnTo>
                              <a:lnTo>
                                <a:pt x="25" y="2"/>
                              </a:lnTo>
                              <a:lnTo>
                                <a:pt x="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0" name=""/>
                        <p:cNvSpPr/>
                        <p:nvPr/>
                      </p:nvSpPr>
                      <p:spPr>
                        <a:xfrm>
                          <a:off x="7450920" y="3582000"/>
                          <a:ext cx="63000" cy="26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8" h="49">
                              <a:moveTo>
                                <a:pt x="0" y="25"/>
                              </a:moveTo>
                              <a:lnTo>
                                <a:pt x="12" y="10"/>
                              </a:lnTo>
                              <a:lnTo>
                                <a:pt x="18" y="10"/>
                              </a:lnTo>
                              <a:lnTo>
                                <a:pt x="27" y="3"/>
                              </a:lnTo>
                              <a:lnTo>
                                <a:pt x="38" y="3"/>
                              </a:lnTo>
                              <a:lnTo>
                                <a:pt x="41" y="2"/>
                              </a:lnTo>
                              <a:lnTo>
                                <a:pt x="45" y="0"/>
                              </a:lnTo>
                              <a:lnTo>
                                <a:pt x="59" y="9"/>
                              </a:lnTo>
                              <a:lnTo>
                                <a:pt x="63" y="15"/>
                              </a:lnTo>
                              <a:lnTo>
                                <a:pt x="66" y="12"/>
                              </a:lnTo>
                              <a:lnTo>
                                <a:pt x="77" y="17"/>
                              </a:lnTo>
                              <a:lnTo>
                                <a:pt x="83" y="17"/>
                              </a:lnTo>
                              <a:lnTo>
                                <a:pt x="89" y="22"/>
                              </a:lnTo>
                              <a:lnTo>
                                <a:pt x="99" y="25"/>
                              </a:lnTo>
                              <a:lnTo>
                                <a:pt x="99" y="32"/>
                              </a:lnTo>
                              <a:lnTo>
                                <a:pt x="116" y="32"/>
                              </a:lnTo>
                              <a:lnTo>
                                <a:pt x="120" y="39"/>
                              </a:lnTo>
                              <a:lnTo>
                                <a:pt x="131" y="39"/>
                              </a:lnTo>
                              <a:lnTo>
                                <a:pt x="138" y="48"/>
                              </a:lnTo>
                              <a:lnTo>
                                <a:pt x="134" y="49"/>
                              </a:lnTo>
                              <a:lnTo>
                                <a:pt x="131" y="47"/>
                              </a:lnTo>
                              <a:lnTo>
                                <a:pt x="130" y="45"/>
                              </a:lnTo>
                              <a:lnTo>
                                <a:pt x="120" y="47"/>
                              </a:lnTo>
                              <a:lnTo>
                                <a:pt x="118" y="48"/>
                              </a:lnTo>
                              <a:lnTo>
                                <a:pt x="109" y="49"/>
                              </a:lnTo>
                              <a:lnTo>
                                <a:pt x="97" y="49"/>
                              </a:lnTo>
                              <a:lnTo>
                                <a:pt x="89" y="49"/>
                              </a:lnTo>
                              <a:lnTo>
                                <a:pt x="89" y="45"/>
                              </a:lnTo>
                              <a:lnTo>
                                <a:pt x="77" y="33"/>
                              </a:lnTo>
                              <a:lnTo>
                                <a:pt x="77" y="26"/>
                              </a:lnTo>
                              <a:lnTo>
                                <a:pt x="63" y="26"/>
                              </a:lnTo>
                              <a:lnTo>
                                <a:pt x="57" y="22"/>
                              </a:lnTo>
                              <a:lnTo>
                                <a:pt x="53" y="26"/>
                              </a:lnTo>
                              <a:lnTo>
                                <a:pt x="49" y="20"/>
                              </a:lnTo>
                              <a:lnTo>
                                <a:pt x="45" y="20"/>
                              </a:lnTo>
                              <a:lnTo>
                                <a:pt x="45" y="13"/>
                              </a:lnTo>
                              <a:lnTo>
                                <a:pt x="41" y="10"/>
                              </a:lnTo>
                              <a:lnTo>
                                <a:pt x="29" y="12"/>
                              </a:lnTo>
                              <a:lnTo>
                                <a:pt x="20" y="20"/>
                              </a:lnTo>
                              <a:lnTo>
                                <a:pt x="11" y="22"/>
                              </a:lnTo>
                              <a:lnTo>
                                <a:pt x="0" y="2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520" bIns="-20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1" name=""/>
                        <p:cNvSpPr/>
                        <p:nvPr/>
                      </p:nvSpPr>
                      <p:spPr>
                        <a:xfrm>
                          <a:off x="7506720" y="3601800"/>
                          <a:ext cx="39960" cy="2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42">
                              <a:moveTo>
                                <a:pt x="0" y="32"/>
                              </a:moveTo>
                              <a:lnTo>
                                <a:pt x="8" y="34"/>
                              </a:lnTo>
                              <a:lnTo>
                                <a:pt x="27" y="32"/>
                              </a:lnTo>
                              <a:lnTo>
                                <a:pt x="35" y="41"/>
                              </a:lnTo>
                              <a:lnTo>
                                <a:pt x="46" y="42"/>
                              </a:lnTo>
                              <a:lnTo>
                                <a:pt x="52" y="32"/>
                              </a:lnTo>
                              <a:lnTo>
                                <a:pt x="49" y="29"/>
                              </a:lnTo>
                              <a:lnTo>
                                <a:pt x="55" y="25"/>
                              </a:lnTo>
                              <a:lnTo>
                                <a:pt x="66" y="32"/>
                              </a:lnTo>
                              <a:lnTo>
                                <a:pt x="74" y="32"/>
                              </a:lnTo>
                              <a:lnTo>
                                <a:pt x="74" y="28"/>
                              </a:lnTo>
                              <a:lnTo>
                                <a:pt x="79" y="28"/>
                              </a:lnTo>
                              <a:lnTo>
                                <a:pt x="88" y="21"/>
                              </a:lnTo>
                              <a:lnTo>
                                <a:pt x="82" y="19"/>
                              </a:lnTo>
                              <a:lnTo>
                                <a:pt x="82" y="12"/>
                              </a:lnTo>
                              <a:lnTo>
                                <a:pt x="82" y="6"/>
                              </a:lnTo>
                              <a:lnTo>
                                <a:pt x="70" y="5"/>
                              </a:lnTo>
                              <a:lnTo>
                                <a:pt x="60" y="6"/>
                              </a:lnTo>
                              <a:lnTo>
                                <a:pt x="52" y="6"/>
                              </a:lnTo>
                              <a:lnTo>
                                <a:pt x="40" y="5"/>
                              </a:lnTo>
                              <a:lnTo>
                                <a:pt x="30" y="0"/>
                              </a:lnTo>
                              <a:lnTo>
                                <a:pt x="27" y="5"/>
                              </a:lnTo>
                              <a:lnTo>
                                <a:pt x="26" y="13"/>
                              </a:lnTo>
                              <a:lnTo>
                                <a:pt x="16" y="13"/>
                              </a:lnTo>
                              <a:lnTo>
                                <a:pt x="14" y="21"/>
                              </a:lnTo>
                              <a:lnTo>
                                <a:pt x="8" y="24"/>
                              </a:lnTo>
                              <a:lnTo>
                                <a:pt x="0" y="3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760" bIns="-23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2" name=""/>
                        <p:cNvSpPr/>
                        <p:nvPr/>
                      </p:nvSpPr>
                      <p:spPr>
                        <a:xfrm>
                          <a:off x="7481160" y="3669120"/>
                          <a:ext cx="257400" cy="489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3" h="887">
                              <a:moveTo>
                                <a:pt x="43" y="39"/>
                              </a:moveTo>
                              <a:lnTo>
                                <a:pt x="50" y="29"/>
                              </a:lnTo>
                              <a:lnTo>
                                <a:pt x="64" y="14"/>
                              </a:lnTo>
                              <a:lnTo>
                                <a:pt x="85" y="6"/>
                              </a:lnTo>
                              <a:lnTo>
                                <a:pt x="96" y="0"/>
                              </a:lnTo>
                              <a:lnTo>
                                <a:pt x="107" y="1"/>
                              </a:lnTo>
                              <a:lnTo>
                                <a:pt x="104" y="9"/>
                              </a:lnTo>
                              <a:lnTo>
                                <a:pt x="91" y="16"/>
                              </a:lnTo>
                              <a:lnTo>
                                <a:pt x="89" y="30"/>
                              </a:lnTo>
                              <a:lnTo>
                                <a:pt x="91" y="42"/>
                              </a:lnTo>
                              <a:lnTo>
                                <a:pt x="102" y="42"/>
                              </a:lnTo>
                              <a:lnTo>
                                <a:pt x="107" y="29"/>
                              </a:lnTo>
                              <a:lnTo>
                                <a:pt x="109" y="16"/>
                              </a:lnTo>
                              <a:lnTo>
                                <a:pt x="116" y="20"/>
                              </a:lnTo>
                              <a:lnTo>
                                <a:pt x="124" y="27"/>
                              </a:lnTo>
                              <a:lnTo>
                                <a:pt x="138" y="24"/>
                              </a:lnTo>
                              <a:lnTo>
                                <a:pt x="146" y="30"/>
                              </a:lnTo>
                              <a:lnTo>
                                <a:pt x="149" y="38"/>
                              </a:lnTo>
                              <a:lnTo>
                                <a:pt x="170" y="35"/>
                              </a:lnTo>
                              <a:lnTo>
                                <a:pt x="211" y="30"/>
                              </a:lnTo>
                              <a:lnTo>
                                <a:pt x="226" y="54"/>
                              </a:lnTo>
                              <a:lnTo>
                                <a:pt x="252" y="65"/>
                              </a:lnTo>
                              <a:lnTo>
                                <a:pt x="251" y="75"/>
                              </a:lnTo>
                              <a:lnTo>
                                <a:pt x="262" y="70"/>
                              </a:lnTo>
                              <a:lnTo>
                                <a:pt x="274" y="70"/>
                              </a:lnTo>
                              <a:lnTo>
                                <a:pt x="289" y="80"/>
                              </a:lnTo>
                              <a:lnTo>
                                <a:pt x="307" y="78"/>
                              </a:lnTo>
                              <a:lnTo>
                                <a:pt x="322" y="80"/>
                              </a:lnTo>
                              <a:lnTo>
                                <a:pt x="347" y="99"/>
                              </a:lnTo>
                              <a:lnTo>
                                <a:pt x="373" y="122"/>
                              </a:lnTo>
                              <a:lnTo>
                                <a:pt x="384" y="148"/>
                              </a:lnTo>
                              <a:lnTo>
                                <a:pt x="377" y="168"/>
                              </a:lnTo>
                              <a:lnTo>
                                <a:pt x="408" y="176"/>
                              </a:lnTo>
                              <a:lnTo>
                                <a:pt x="460" y="186"/>
                              </a:lnTo>
                              <a:lnTo>
                                <a:pt x="514" y="197"/>
                              </a:lnTo>
                              <a:lnTo>
                                <a:pt x="548" y="221"/>
                              </a:lnTo>
                              <a:lnTo>
                                <a:pt x="563" y="242"/>
                              </a:lnTo>
                              <a:lnTo>
                                <a:pt x="563" y="270"/>
                              </a:lnTo>
                              <a:lnTo>
                                <a:pt x="549" y="295"/>
                              </a:lnTo>
                              <a:lnTo>
                                <a:pt x="534" y="308"/>
                              </a:lnTo>
                              <a:lnTo>
                                <a:pt x="525" y="316"/>
                              </a:lnTo>
                              <a:lnTo>
                                <a:pt x="514" y="335"/>
                              </a:lnTo>
                              <a:lnTo>
                                <a:pt x="512" y="351"/>
                              </a:lnTo>
                              <a:lnTo>
                                <a:pt x="514" y="372"/>
                              </a:lnTo>
                              <a:lnTo>
                                <a:pt x="508" y="392"/>
                              </a:lnTo>
                              <a:lnTo>
                                <a:pt x="500" y="396"/>
                              </a:lnTo>
                              <a:lnTo>
                                <a:pt x="497" y="408"/>
                              </a:lnTo>
                              <a:lnTo>
                                <a:pt x="488" y="417"/>
                              </a:lnTo>
                              <a:lnTo>
                                <a:pt x="486" y="427"/>
                              </a:lnTo>
                              <a:lnTo>
                                <a:pt x="474" y="438"/>
                              </a:lnTo>
                              <a:lnTo>
                                <a:pt x="455" y="459"/>
                              </a:lnTo>
                              <a:lnTo>
                                <a:pt x="438" y="464"/>
                              </a:lnTo>
                              <a:lnTo>
                                <a:pt x="427" y="463"/>
                              </a:lnTo>
                              <a:lnTo>
                                <a:pt x="407" y="473"/>
                              </a:lnTo>
                              <a:lnTo>
                                <a:pt x="386" y="496"/>
                              </a:lnTo>
                              <a:lnTo>
                                <a:pt x="382" y="505"/>
                              </a:lnTo>
                              <a:lnTo>
                                <a:pt x="382" y="517"/>
                              </a:lnTo>
                              <a:lnTo>
                                <a:pt x="386" y="530"/>
                              </a:lnTo>
                              <a:lnTo>
                                <a:pt x="377" y="543"/>
                              </a:lnTo>
                              <a:lnTo>
                                <a:pt x="377" y="553"/>
                              </a:lnTo>
                              <a:lnTo>
                                <a:pt x="360" y="565"/>
                              </a:lnTo>
                              <a:lnTo>
                                <a:pt x="348" y="573"/>
                              </a:lnTo>
                              <a:lnTo>
                                <a:pt x="338" y="586"/>
                              </a:lnTo>
                              <a:lnTo>
                                <a:pt x="334" y="600"/>
                              </a:lnTo>
                              <a:lnTo>
                                <a:pt x="320" y="615"/>
                              </a:lnTo>
                              <a:lnTo>
                                <a:pt x="315" y="613"/>
                              </a:lnTo>
                              <a:lnTo>
                                <a:pt x="304" y="613"/>
                              </a:lnTo>
                              <a:lnTo>
                                <a:pt x="290" y="618"/>
                              </a:lnTo>
                              <a:lnTo>
                                <a:pt x="300" y="626"/>
                              </a:lnTo>
                              <a:lnTo>
                                <a:pt x="300" y="640"/>
                              </a:lnTo>
                              <a:lnTo>
                                <a:pt x="299" y="652"/>
                              </a:lnTo>
                              <a:lnTo>
                                <a:pt x="292" y="661"/>
                              </a:lnTo>
                              <a:lnTo>
                                <a:pt x="274" y="662"/>
                              </a:lnTo>
                              <a:lnTo>
                                <a:pt x="260" y="666"/>
                              </a:lnTo>
                              <a:lnTo>
                                <a:pt x="253" y="675"/>
                              </a:lnTo>
                              <a:lnTo>
                                <a:pt x="253" y="690"/>
                              </a:lnTo>
                              <a:lnTo>
                                <a:pt x="237" y="694"/>
                              </a:lnTo>
                              <a:lnTo>
                                <a:pt x="223" y="690"/>
                              </a:lnTo>
                              <a:lnTo>
                                <a:pt x="219" y="698"/>
                              </a:lnTo>
                              <a:lnTo>
                                <a:pt x="226" y="704"/>
                              </a:lnTo>
                              <a:lnTo>
                                <a:pt x="222" y="726"/>
                              </a:lnTo>
                              <a:lnTo>
                                <a:pt x="216" y="745"/>
                              </a:lnTo>
                              <a:lnTo>
                                <a:pt x="198" y="745"/>
                              </a:lnTo>
                              <a:lnTo>
                                <a:pt x="193" y="752"/>
                              </a:lnTo>
                              <a:lnTo>
                                <a:pt x="194" y="767"/>
                              </a:lnTo>
                              <a:lnTo>
                                <a:pt x="204" y="767"/>
                              </a:lnTo>
                              <a:lnTo>
                                <a:pt x="211" y="775"/>
                              </a:lnTo>
                              <a:lnTo>
                                <a:pt x="207" y="790"/>
                              </a:lnTo>
                              <a:lnTo>
                                <a:pt x="197" y="791"/>
                              </a:lnTo>
                              <a:lnTo>
                                <a:pt x="182" y="797"/>
                              </a:lnTo>
                              <a:lnTo>
                                <a:pt x="178" y="809"/>
                              </a:lnTo>
                              <a:lnTo>
                                <a:pt x="177" y="826"/>
                              </a:lnTo>
                              <a:lnTo>
                                <a:pt x="167" y="835"/>
                              </a:lnTo>
                              <a:lnTo>
                                <a:pt x="201" y="864"/>
                              </a:lnTo>
                              <a:lnTo>
                                <a:pt x="211" y="878"/>
                              </a:lnTo>
                              <a:lnTo>
                                <a:pt x="205" y="887"/>
                              </a:lnTo>
                              <a:lnTo>
                                <a:pt x="190" y="881"/>
                              </a:lnTo>
                              <a:lnTo>
                                <a:pt x="178" y="870"/>
                              </a:lnTo>
                              <a:lnTo>
                                <a:pt x="160" y="861"/>
                              </a:lnTo>
                              <a:lnTo>
                                <a:pt x="144" y="846"/>
                              </a:lnTo>
                              <a:lnTo>
                                <a:pt x="133" y="829"/>
                              </a:lnTo>
                              <a:lnTo>
                                <a:pt x="131" y="814"/>
                              </a:lnTo>
                              <a:lnTo>
                                <a:pt x="134" y="803"/>
                              </a:lnTo>
                              <a:lnTo>
                                <a:pt x="133" y="708"/>
                              </a:lnTo>
                              <a:lnTo>
                                <a:pt x="129" y="690"/>
                              </a:lnTo>
                              <a:lnTo>
                                <a:pt x="116" y="672"/>
                              </a:lnTo>
                              <a:lnTo>
                                <a:pt x="116" y="656"/>
                              </a:lnTo>
                              <a:lnTo>
                                <a:pt x="124" y="637"/>
                              </a:lnTo>
                              <a:lnTo>
                                <a:pt x="131" y="614"/>
                              </a:lnTo>
                              <a:lnTo>
                                <a:pt x="129" y="591"/>
                              </a:lnTo>
                              <a:lnTo>
                                <a:pt x="127" y="581"/>
                              </a:lnTo>
                              <a:lnTo>
                                <a:pt x="126" y="568"/>
                              </a:lnTo>
                              <a:lnTo>
                                <a:pt x="130" y="562"/>
                              </a:lnTo>
                              <a:lnTo>
                                <a:pt x="133" y="536"/>
                              </a:lnTo>
                              <a:lnTo>
                                <a:pt x="130" y="523"/>
                              </a:lnTo>
                              <a:lnTo>
                                <a:pt x="135" y="491"/>
                              </a:lnTo>
                              <a:lnTo>
                                <a:pt x="130" y="463"/>
                              </a:lnTo>
                              <a:lnTo>
                                <a:pt x="134" y="449"/>
                              </a:lnTo>
                              <a:lnTo>
                                <a:pt x="141" y="421"/>
                              </a:lnTo>
                              <a:lnTo>
                                <a:pt x="134" y="403"/>
                              </a:lnTo>
                              <a:lnTo>
                                <a:pt x="120" y="390"/>
                              </a:lnTo>
                              <a:lnTo>
                                <a:pt x="116" y="376"/>
                              </a:lnTo>
                              <a:lnTo>
                                <a:pt x="101" y="363"/>
                              </a:lnTo>
                              <a:lnTo>
                                <a:pt x="85" y="354"/>
                              </a:lnTo>
                              <a:lnTo>
                                <a:pt x="61" y="350"/>
                              </a:lnTo>
                              <a:lnTo>
                                <a:pt x="50" y="329"/>
                              </a:lnTo>
                              <a:lnTo>
                                <a:pt x="35" y="311"/>
                              </a:lnTo>
                              <a:lnTo>
                                <a:pt x="34" y="295"/>
                              </a:lnTo>
                              <a:lnTo>
                                <a:pt x="33" y="280"/>
                              </a:lnTo>
                              <a:lnTo>
                                <a:pt x="28" y="270"/>
                              </a:lnTo>
                              <a:lnTo>
                                <a:pt x="20" y="258"/>
                              </a:lnTo>
                              <a:lnTo>
                                <a:pt x="9" y="252"/>
                              </a:lnTo>
                              <a:lnTo>
                                <a:pt x="1" y="241"/>
                              </a:lnTo>
                              <a:lnTo>
                                <a:pt x="11" y="231"/>
                              </a:lnTo>
                              <a:lnTo>
                                <a:pt x="11" y="206"/>
                              </a:lnTo>
                              <a:lnTo>
                                <a:pt x="5" y="193"/>
                              </a:lnTo>
                              <a:lnTo>
                                <a:pt x="0" y="180"/>
                              </a:lnTo>
                              <a:lnTo>
                                <a:pt x="5" y="161"/>
                              </a:lnTo>
                              <a:lnTo>
                                <a:pt x="27" y="115"/>
                              </a:lnTo>
                              <a:lnTo>
                                <a:pt x="28" y="94"/>
                              </a:lnTo>
                              <a:lnTo>
                                <a:pt x="41" y="72"/>
                              </a:lnTo>
                              <a:lnTo>
                                <a:pt x="41" y="61"/>
                              </a:lnTo>
                              <a:lnTo>
                                <a:pt x="43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523" name=""/>
                  <p:cNvSpPr/>
                  <p:nvPr/>
                </p:nvSpPr>
                <p:spPr>
                  <a:xfrm>
                    <a:off x="7341480" y="3351600"/>
                    <a:ext cx="46800" cy="687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114f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7397280" y="3373200"/>
                    <a:ext cx="45360" cy="687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8149680" y="3256560"/>
                    <a:ext cx="48600" cy="687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114f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8149680" y="3396960"/>
                    <a:ext cx="4860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114f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8025840" y="3335400"/>
                    <a:ext cx="45000" cy="669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114f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7538760" y="3837600"/>
                    <a:ext cx="4680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7620840" y="3740760"/>
                    <a:ext cx="4500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8708040" y="3837600"/>
                    <a:ext cx="4680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8529840" y="3481920"/>
                    <a:ext cx="43200" cy="687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8088480" y="3236760"/>
                    <a:ext cx="46800" cy="648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8088480" y="3343680"/>
                    <a:ext cx="4680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7332480" y="3492000"/>
                    <a:ext cx="46800" cy="669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7302960" y="3418920"/>
                    <a:ext cx="48960" cy="666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7646760" y="3760560"/>
                    <a:ext cx="46800" cy="669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7566480" y="3867480"/>
                    <a:ext cx="46800" cy="669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8142480" y="3309840"/>
                    <a:ext cx="48960" cy="687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8088480" y="3492000"/>
                    <a:ext cx="46800" cy="669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8508960" y="3426480"/>
                    <a:ext cx="46800" cy="691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8674920" y="3867480"/>
                    <a:ext cx="41760" cy="669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8231400" y="3236760"/>
                    <a:ext cx="46800" cy="648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7447680" y="3361680"/>
                    <a:ext cx="46800" cy="648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7278480" y="3351600"/>
                    <a:ext cx="47160" cy="687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7442640" y="3426480"/>
                    <a:ext cx="45360" cy="691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>
                    <a:off x="7538760" y="3900960"/>
                    <a:ext cx="46800" cy="648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8025840" y="3236760"/>
                    <a:ext cx="45000" cy="648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7971480" y="3343680"/>
                    <a:ext cx="4680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8193240" y="3309840"/>
                    <a:ext cx="50400" cy="687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>
                    <a:off x="8043120" y="3525480"/>
                    <a:ext cx="46800" cy="648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8598240" y="3450240"/>
                    <a:ext cx="5040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8744760" y="3847320"/>
                    <a:ext cx="4680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8292960" y="3705120"/>
                    <a:ext cx="46800" cy="669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7606800" y="3875040"/>
                    <a:ext cx="4680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333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7967880" y="3604320"/>
                    <a:ext cx="4536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333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7379640" y="3426480"/>
                    <a:ext cx="46800" cy="691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57" name=""/>
              <p:cNvSpPr/>
              <p:nvPr/>
            </p:nvSpPr>
            <p:spPr>
              <a:xfrm>
                <a:off x="7265160" y="4340880"/>
                <a:ext cx="136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ercad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8" name=""/>
          <p:cNvGrpSpPr/>
          <p:nvPr/>
        </p:nvGrpSpPr>
        <p:grpSpPr>
          <a:xfrm>
            <a:off x="1828800" y="4566240"/>
            <a:ext cx="6146640" cy="1841040"/>
            <a:chOff x="1828800" y="4566240"/>
            <a:chExt cx="6146640" cy="1841040"/>
          </a:xfrm>
        </p:grpSpPr>
        <p:sp>
          <p:nvSpPr>
            <p:cNvPr id="1559" name=""/>
            <p:cNvSpPr/>
            <p:nvPr/>
          </p:nvSpPr>
          <p:spPr>
            <a:xfrm rot="16200000">
              <a:off x="4464360" y="2896200"/>
              <a:ext cx="1182960" cy="5838840"/>
            </a:xfrm>
            <a:prstGeom prst="ellipse">
              <a:avLst/>
            </a:prstGeom>
            <a:noFill/>
            <a:ln w="12600">
              <a:solidFill>
                <a:srgbClr val="7a7a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stratégia Tecnológ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 rot="14563800">
              <a:off x="1796040" y="5191560"/>
              <a:ext cx="653760" cy="325440"/>
            </a:xfrm>
            <a:prstGeom prst="rightArrow">
              <a:avLst>
                <a:gd name="adj1" fmla="val 50000"/>
                <a:gd name="adj2" fmla="val 50221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15076200">
              <a:off x="2383560" y="4918320"/>
              <a:ext cx="654120" cy="325440"/>
            </a:xfrm>
            <a:prstGeom prst="rightArrow">
              <a:avLst>
                <a:gd name="adj1" fmla="val 50000"/>
                <a:gd name="adj2" fmla="val 5024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5556800">
              <a:off x="2959560" y="4767480"/>
              <a:ext cx="654120" cy="325440"/>
            </a:xfrm>
            <a:prstGeom prst="rightArrow">
              <a:avLst>
                <a:gd name="adj1" fmla="val 50000"/>
                <a:gd name="adj2" fmla="val 5024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 rot="16174800">
              <a:off x="3625200" y="4734360"/>
              <a:ext cx="653760" cy="325440"/>
            </a:xfrm>
            <a:prstGeom prst="rightArrow">
              <a:avLst>
                <a:gd name="adj1" fmla="val 50000"/>
                <a:gd name="adj2" fmla="val 50221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16294800">
              <a:off x="4331160" y="4734360"/>
              <a:ext cx="653760" cy="325440"/>
            </a:xfrm>
            <a:prstGeom prst="rightArrow">
              <a:avLst>
                <a:gd name="adj1" fmla="val 50000"/>
                <a:gd name="adj2" fmla="val 50221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 rot="16249800">
              <a:off x="4941360" y="4734360"/>
              <a:ext cx="653760" cy="325440"/>
            </a:xfrm>
            <a:prstGeom prst="rightArrow">
              <a:avLst>
                <a:gd name="adj1" fmla="val 50000"/>
                <a:gd name="adj2" fmla="val 50221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 rot="16249800">
              <a:off x="5627160" y="4734360"/>
              <a:ext cx="653760" cy="325440"/>
            </a:xfrm>
            <a:prstGeom prst="rightArrow">
              <a:avLst>
                <a:gd name="adj1" fmla="val 50000"/>
                <a:gd name="adj2" fmla="val 50221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7" name=""/>
          <p:cNvGrpSpPr/>
          <p:nvPr/>
        </p:nvGrpSpPr>
        <p:grpSpPr>
          <a:xfrm>
            <a:off x="1752120" y="1090440"/>
            <a:ext cx="6056640" cy="1918440"/>
            <a:chOff x="1752120" y="1090440"/>
            <a:chExt cx="6056640" cy="1918440"/>
          </a:xfrm>
        </p:grpSpPr>
        <p:sp>
          <p:nvSpPr>
            <p:cNvPr id="1568" name=""/>
            <p:cNvSpPr/>
            <p:nvPr/>
          </p:nvSpPr>
          <p:spPr>
            <a:xfrm rot="5400000">
              <a:off x="4289040" y="-1203120"/>
              <a:ext cx="1225800" cy="5813280"/>
            </a:xfrm>
            <a:prstGeom prst="ellipse">
              <a:avLst/>
            </a:prstGeom>
            <a:noFill/>
            <a:ln w="12600">
              <a:solidFill>
                <a:srgbClr val="7a7a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stratégia de Produto / 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 rot="7036200">
              <a:off x="1719360" y="1871280"/>
              <a:ext cx="654120" cy="325440"/>
            </a:xfrm>
            <a:prstGeom prst="rightArrow">
              <a:avLst>
                <a:gd name="adj1" fmla="val 50000"/>
                <a:gd name="adj2" fmla="val 5024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V="1" rot="6523800">
              <a:off x="2155320" y="2098080"/>
              <a:ext cx="654120" cy="325440"/>
            </a:xfrm>
            <a:prstGeom prst="rightArrow">
              <a:avLst>
                <a:gd name="adj1" fmla="val 50000"/>
                <a:gd name="adj2" fmla="val 5024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 rot="6043200">
              <a:off x="2815200" y="2317320"/>
              <a:ext cx="654120" cy="325440"/>
            </a:xfrm>
            <a:prstGeom prst="rightArrow">
              <a:avLst>
                <a:gd name="adj1" fmla="val 50000"/>
                <a:gd name="adj2" fmla="val 5024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 rot="5425200">
              <a:off x="3624840" y="2461680"/>
              <a:ext cx="654120" cy="325440"/>
            </a:xfrm>
            <a:prstGeom prst="rightArrow">
              <a:avLst>
                <a:gd name="adj1" fmla="val 50000"/>
                <a:gd name="adj2" fmla="val 5024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V="1" rot="5305200">
              <a:off x="4331160" y="2514240"/>
              <a:ext cx="654120" cy="325440"/>
            </a:xfrm>
            <a:prstGeom prst="rightArrow">
              <a:avLst>
                <a:gd name="adj1" fmla="val 50000"/>
                <a:gd name="adj2" fmla="val 5024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 rot="5350200">
              <a:off x="4941000" y="2514960"/>
              <a:ext cx="654120" cy="325440"/>
            </a:xfrm>
            <a:prstGeom prst="rightArrow">
              <a:avLst>
                <a:gd name="adj1" fmla="val 50000"/>
                <a:gd name="adj2" fmla="val 5024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 rot="5350200">
              <a:off x="5626800" y="2514960"/>
              <a:ext cx="654120" cy="325440"/>
            </a:xfrm>
            <a:prstGeom prst="rightArrow">
              <a:avLst>
                <a:gd name="adj1" fmla="val 50000"/>
                <a:gd name="adj2" fmla="val 5024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380880" y="3260880"/>
            <a:ext cx="6351840" cy="1006200"/>
          </a:xfrm>
          <a:prstGeom prst="rightArrow">
            <a:avLst>
              <a:gd name="adj1" fmla="val 73500"/>
              <a:gd name="adj2" fmla="val 93872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 pip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4052880" y="-139680"/>
            <a:ext cx="5087520" cy="3729960"/>
            <a:chOff x="4052880" y="-139680"/>
            <a:chExt cx="5087520" cy="3729960"/>
          </a:xfrm>
        </p:grpSpPr>
        <p:grpSp>
          <p:nvGrpSpPr>
            <p:cNvPr id="1578" name=""/>
            <p:cNvGrpSpPr/>
            <p:nvPr/>
          </p:nvGrpSpPr>
          <p:grpSpPr>
            <a:xfrm>
              <a:off x="4052880" y="-139680"/>
              <a:ext cx="3677400" cy="3551760"/>
              <a:chOff x="4052880" y="-139680"/>
              <a:chExt cx="3677400" cy="3551760"/>
            </a:xfrm>
          </p:grpSpPr>
          <p:grpSp>
            <p:nvGrpSpPr>
              <p:cNvPr id="1579" name=""/>
              <p:cNvGrpSpPr/>
              <p:nvPr/>
            </p:nvGrpSpPr>
            <p:grpSpPr>
              <a:xfrm>
                <a:off x="4109040" y="55800"/>
                <a:ext cx="3620880" cy="3288960"/>
                <a:chOff x="4109040" y="55800"/>
                <a:chExt cx="3620880" cy="3288960"/>
              </a:xfrm>
            </p:grpSpPr>
            <p:grpSp>
              <p:nvGrpSpPr>
                <p:cNvPr id="1580" name=""/>
                <p:cNvGrpSpPr/>
                <p:nvPr/>
              </p:nvGrpSpPr>
              <p:grpSpPr>
                <a:xfrm>
                  <a:off x="4109040" y="55800"/>
                  <a:ext cx="3620880" cy="3288960"/>
                  <a:chOff x="4109040" y="55800"/>
                  <a:chExt cx="3620880" cy="3288960"/>
                </a:xfrm>
              </p:grpSpPr>
              <p:sp>
                <p:nvSpPr>
                  <p:cNvPr id="1581" name=""/>
                  <p:cNvSpPr/>
                  <p:nvPr/>
                </p:nvSpPr>
                <p:spPr>
                  <a:xfrm rot="19338000">
                    <a:off x="4341600" y="565920"/>
                    <a:ext cx="2182680" cy="15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 rot="19338000">
                    <a:off x="5007960" y="951480"/>
                    <a:ext cx="2407320" cy="18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3" name=""/>
                <p:cNvGrpSpPr/>
                <p:nvPr/>
              </p:nvGrpSpPr>
              <p:grpSpPr>
                <a:xfrm>
                  <a:off x="4454280" y="159840"/>
                  <a:ext cx="2867040" cy="3098160"/>
                  <a:chOff x="4454280" y="159840"/>
                  <a:chExt cx="2867040" cy="3098160"/>
                </a:xfrm>
              </p:grpSpPr>
              <p:sp>
                <p:nvSpPr>
                  <p:cNvPr id="1584" name=""/>
                  <p:cNvSpPr/>
                  <p:nvPr/>
                </p:nvSpPr>
                <p:spPr>
                  <a:xfrm rot="19338000">
                    <a:off x="5500800" y="2519640"/>
                    <a:ext cx="624240" cy="61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 rot="19338000">
                    <a:off x="6752880" y="344520"/>
                    <a:ext cx="224280" cy="120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 rot="19338000">
                    <a:off x="5074560" y="393120"/>
                    <a:ext cx="887760" cy="36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 rot="19338000">
                    <a:off x="4685040" y="1637640"/>
                    <a:ext cx="282960" cy="85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88" name=""/>
              <p:cNvSpPr/>
              <p:nvPr/>
            </p:nvSpPr>
            <p:spPr>
              <a:xfrm rot="19338000">
                <a:off x="4737240" y="466920"/>
                <a:ext cx="2512080" cy="2430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9" name=""/>
              <p:cNvGrpSpPr/>
              <p:nvPr/>
            </p:nvGrpSpPr>
            <p:grpSpPr>
              <a:xfrm>
                <a:off x="4052880" y="-139680"/>
                <a:ext cx="3473280" cy="3458880"/>
                <a:chOff x="4052880" y="-139680"/>
                <a:chExt cx="3473280" cy="3458880"/>
              </a:xfrm>
            </p:grpSpPr>
            <p:sp>
              <p:nvSpPr>
                <p:cNvPr id="1590" name=""/>
                <p:cNvSpPr/>
                <p:nvPr/>
              </p:nvSpPr>
              <p:spPr>
                <a:xfrm rot="19338000">
                  <a:off x="4564080" y="406800"/>
                  <a:ext cx="2453040" cy="237168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rot="19338000">
                  <a:off x="4533480" y="374400"/>
                  <a:ext cx="2511360" cy="24303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rot="19338000">
                  <a:off x="4603680" y="439920"/>
                  <a:ext cx="2372040" cy="23011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3" name=""/>
            <p:cNvGrpSpPr/>
            <p:nvPr/>
          </p:nvGrpSpPr>
          <p:grpSpPr>
            <a:xfrm>
              <a:off x="6878520" y="1433520"/>
              <a:ext cx="2261880" cy="2156760"/>
              <a:chOff x="6878520" y="1433520"/>
              <a:chExt cx="2261880" cy="2156760"/>
            </a:xfrm>
          </p:grpSpPr>
          <p:sp>
            <p:nvSpPr>
              <p:cNvPr id="1594" name=""/>
              <p:cNvSpPr/>
              <p:nvPr/>
            </p:nvSpPr>
            <p:spPr>
              <a:xfrm rot="19338000">
                <a:off x="7365240" y="1622880"/>
                <a:ext cx="1227600" cy="177732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rot="19338000">
                <a:off x="6952320" y="1953360"/>
                <a:ext cx="378720" cy="359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rot="19338000">
                <a:off x="6984360" y="1961280"/>
                <a:ext cx="383760" cy="39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rot="19338000">
                <a:off x="7009200" y="2011320"/>
                <a:ext cx="232920" cy="45468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rot="19338000">
                <a:off x="6949080" y="1952280"/>
                <a:ext cx="378360" cy="36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rot="19338000">
                <a:off x="7210800" y="2067120"/>
                <a:ext cx="37944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0" name=""/>
              <p:cNvGrpSpPr/>
              <p:nvPr/>
            </p:nvGrpSpPr>
            <p:grpSpPr>
              <a:xfrm>
                <a:off x="7172280" y="2007000"/>
                <a:ext cx="561240" cy="534960"/>
                <a:chOff x="7172280" y="2007000"/>
                <a:chExt cx="561240" cy="534960"/>
              </a:xfrm>
            </p:grpSpPr>
            <p:grpSp>
              <p:nvGrpSpPr>
                <p:cNvPr id="1601" name=""/>
                <p:cNvGrpSpPr/>
                <p:nvPr/>
              </p:nvGrpSpPr>
              <p:grpSpPr>
                <a:xfrm>
                  <a:off x="7172280" y="2007000"/>
                  <a:ext cx="521280" cy="517680"/>
                  <a:chOff x="7172280" y="2007000"/>
                  <a:chExt cx="521280" cy="517680"/>
                </a:xfrm>
              </p:grpSpPr>
              <p:sp>
                <p:nvSpPr>
                  <p:cNvPr id="1602" name=""/>
                  <p:cNvSpPr/>
                  <p:nvPr/>
                </p:nvSpPr>
                <p:spPr>
                  <a:xfrm rot="19338000">
                    <a:off x="7242120" y="2086560"/>
                    <a:ext cx="379080" cy="358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 rot="19338000">
                    <a:off x="7242120" y="2086200"/>
                    <a:ext cx="38124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 rot="19338000">
                    <a:off x="7243920" y="2085840"/>
                    <a:ext cx="379080" cy="358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5" name=""/>
                <p:cNvSpPr/>
                <p:nvPr/>
              </p:nvSpPr>
              <p:spPr>
                <a:xfrm rot="19338000">
                  <a:off x="7283520" y="2104920"/>
                  <a:ext cx="380160" cy="35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6" name=""/>
              <p:cNvGrpSpPr/>
              <p:nvPr/>
            </p:nvGrpSpPr>
            <p:grpSpPr>
              <a:xfrm>
                <a:off x="7247160" y="2043360"/>
                <a:ext cx="561240" cy="535320"/>
                <a:chOff x="7247160" y="2043360"/>
                <a:chExt cx="561240" cy="535320"/>
              </a:xfrm>
            </p:grpSpPr>
            <p:grpSp>
              <p:nvGrpSpPr>
                <p:cNvPr id="1607" name=""/>
                <p:cNvGrpSpPr/>
                <p:nvPr/>
              </p:nvGrpSpPr>
              <p:grpSpPr>
                <a:xfrm>
                  <a:off x="7247160" y="2043360"/>
                  <a:ext cx="520560" cy="516960"/>
                  <a:chOff x="7247160" y="2043360"/>
                  <a:chExt cx="520560" cy="516960"/>
                </a:xfrm>
              </p:grpSpPr>
              <p:sp>
                <p:nvSpPr>
                  <p:cNvPr id="1608" name=""/>
                  <p:cNvSpPr/>
                  <p:nvPr/>
                </p:nvSpPr>
                <p:spPr>
                  <a:xfrm rot="19338000">
                    <a:off x="7317000" y="2122560"/>
                    <a:ext cx="380520" cy="358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 rot="19338000">
                    <a:off x="7316640" y="2122560"/>
                    <a:ext cx="381240" cy="35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 rot="19338000">
                    <a:off x="7318800" y="2121840"/>
                    <a:ext cx="378360" cy="35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1" name=""/>
                <p:cNvSpPr/>
                <p:nvPr/>
              </p:nvSpPr>
              <p:spPr>
                <a:xfrm rot="19338000">
                  <a:off x="7358400" y="2140920"/>
                  <a:ext cx="379440" cy="358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2" name=""/>
              <p:cNvGrpSpPr/>
              <p:nvPr/>
            </p:nvGrpSpPr>
            <p:grpSpPr>
              <a:xfrm>
                <a:off x="7320960" y="2073960"/>
                <a:ext cx="523440" cy="518760"/>
                <a:chOff x="7320960" y="2073960"/>
                <a:chExt cx="523440" cy="518760"/>
              </a:xfrm>
            </p:grpSpPr>
            <p:sp>
              <p:nvSpPr>
                <p:cNvPr id="1613" name=""/>
                <p:cNvSpPr/>
                <p:nvPr/>
              </p:nvSpPr>
              <p:spPr>
                <a:xfrm rot="19338000">
                  <a:off x="7391160" y="2154960"/>
                  <a:ext cx="380520" cy="35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rot="19338000">
                  <a:off x="7390800" y="2153520"/>
                  <a:ext cx="383400" cy="359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5" name=""/>
              <p:cNvGrpSpPr/>
              <p:nvPr/>
            </p:nvGrpSpPr>
            <p:grpSpPr>
              <a:xfrm>
                <a:off x="7323480" y="2074320"/>
                <a:ext cx="559440" cy="536040"/>
                <a:chOff x="7323480" y="2074320"/>
                <a:chExt cx="559440" cy="536040"/>
              </a:xfrm>
            </p:grpSpPr>
            <p:sp>
              <p:nvSpPr>
                <p:cNvPr id="1616" name=""/>
                <p:cNvSpPr/>
                <p:nvPr/>
              </p:nvSpPr>
              <p:spPr>
                <a:xfrm rot="19338000">
                  <a:off x="7392960" y="2153520"/>
                  <a:ext cx="381240" cy="35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rot="19338000">
                  <a:off x="7432560" y="2172600"/>
                  <a:ext cx="380520" cy="35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8" name=""/>
              <p:cNvGrpSpPr/>
              <p:nvPr/>
            </p:nvGrpSpPr>
            <p:grpSpPr>
              <a:xfrm>
                <a:off x="7034040" y="1969560"/>
                <a:ext cx="1864080" cy="1094040"/>
                <a:chOff x="7034040" y="1969560"/>
                <a:chExt cx="1864080" cy="1094040"/>
              </a:xfrm>
            </p:grpSpPr>
            <p:sp>
              <p:nvSpPr>
                <p:cNvPr id="1619" name=""/>
                <p:cNvSpPr/>
                <p:nvPr/>
              </p:nvSpPr>
              <p:spPr>
                <a:xfrm>
                  <a:off x="7238160" y="1969560"/>
                  <a:ext cx="1659960" cy="72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7034040" y="2288520"/>
                  <a:ext cx="1704600" cy="77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1" name=""/>
              <p:cNvGrpSpPr/>
              <p:nvPr/>
            </p:nvGrpSpPr>
            <p:grpSpPr>
              <a:xfrm>
                <a:off x="7395480" y="2106360"/>
                <a:ext cx="555480" cy="532080"/>
                <a:chOff x="7395480" y="2106360"/>
                <a:chExt cx="555480" cy="532080"/>
              </a:xfrm>
            </p:grpSpPr>
            <p:grpSp>
              <p:nvGrpSpPr>
                <p:cNvPr id="1622" name=""/>
                <p:cNvGrpSpPr/>
                <p:nvPr/>
              </p:nvGrpSpPr>
              <p:grpSpPr>
                <a:xfrm>
                  <a:off x="7395480" y="2106360"/>
                  <a:ext cx="521640" cy="517680"/>
                  <a:chOff x="7395480" y="2106360"/>
                  <a:chExt cx="521640" cy="517680"/>
                </a:xfrm>
              </p:grpSpPr>
              <p:sp>
                <p:nvSpPr>
                  <p:cNvPr id="1623" name=""/>
                  <p:cNvSpPr/>
                  <p:nvPr/>
                </p:nvSpPr>
                <p:spPr>
                  <a:xfrm rot="19338000">
                    <a:off x="7465320" y="2187000"/>
                    <a:ext cx="379440" cy="357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 rot="19338000">
                    <a:off x="7465320" y="2185560"/>
                    <a:ext cx="381960" cy="358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5" name=""/>
                <p:cNvSpPr/>
                <p:nvPr/>
              </p:nvSpPr>
              <p:spPr>
                <a:xfrm rot="19338000">
                  <a:off x="7467120" y="2185560"/>
                  <a:ext cx="380520" cy="359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rot="19338000">
                  <a:off x="7500960" y="2201040"/>
                  <a:ext cx="379800" cy="35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7" name=""/>
              <p:cNvSpPr/>
              <p:nvPr/>
            </p:nvSpPr>
            <p:spPr>
              <a:xfrm rot="19338000">
                <a:off x="7751880" y="1998000"/>
                <a:ext cx="757080" cy="131328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rot="19338000">
                <a:off x="8647200" y="2695320"/>
                <a:ext cx="413280" cy="40248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2133720" y="2438280"/>
            <a:ext cx="4876560" cy="1828800"/>
          </a:xfrm>
          <a:prstGeom prst="can">
            <a:avLst>
              <a:gd name="adj" fmla="val 17708"/>
            </a:avLst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cessidades dos Consumidores e Posicionamento da Concor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304920" y="74520"/>
            <a:ext cx="8534160" cy="21528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311040" y="4572000"/>
            <a:ext cx="8534520" cy="2209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ntes Primá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914400" y="3898080"/>
            <a:ext cx="2514600" cy="1204920"/>
          </a:xfrm>
          <a:custGeom>
            <a:avLst/>
            <a:gdLst/>
            <a:ahLst/>
            <a:rect l="l" t="t" r="r" b="b"/>
            <a:pathLst>
              <a:path w="1224" h="2400">
                <a:moveTo>
                  <a:pt x="152" y="32"/>
                </a:moveTo>
                <a:cubicBezTo>
                  <a:pt x="304" y="16"/>
                  <a:pt x="824" y="0"/>
                  <a:pt x="968" y="32"/>
                </a:cubicBezTo>
                <a:cubicBezTo>
                  <a:pt x="1112" y="64"/>
                  <a:pt x="992" y="176"/>
                  <a:pt x="1016" y="224"/>
                </a:cubicBezTo>
                <a:cubicBezTo>
                  <a:pt x="1040" y="272"/>
                  <a:pt x="1080" y="216"/>
                  <a:pt x="1112" y="320"/>
                </a:cubicBezTo>
                <a:cubicBezTo>
                  <a:pt x="1144" y="424"/>
                  <a:pt x="1192" y="512"/>
                  <a:pt x="1208" y="848"/>
                </a:cubicBezTo>
                <a:cubicBezTo>
                  <a:pt x="1224" y="1184"/>
                  <a:pt x="1224" y="2272"/>
                  <a:pt x="1208" y="2336"/>
                </a:cubicBezTo>
                <a:cubicBezTo>
                  <a:pt x="1192" y="2400"/>
                  <a:pt x="1176" y="1488"/>
                  <a:pt x="1112" y="1232"/>
                </a:cubicBezTo>
                <a:cubicBezTo>
                  <a:pt x="1048" y="976"/>
                  <a:pt x="968" y="928"/>
                  <a:pt x="824" y="800"/>
                </a:cubicBezTo>
                <a:cubicBezTo>
                  <a:pt x="680" y="672"/>
                  <a:pt x="376" y="576"/>
                  <a:pt x="248" y="464"/>
                </a:cubicBezTo>
                <a:cubicBezTo>
                  <a:pt x="120" y="352"/>
                  <a:pt x="72" y="200"/>
                  <a:pt x="56" y="128"/>
                </a:cubicBezTo>
                <a:cubicBezTo>
                  <a:pt x="40" y="56"/>
                  <a:pt x="0" y="48"/>
                  <a:pt x="152" y="32"/>
                </a:cubicBez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 flipH="1" flipV="1">
            <a:off x="5866560" y="3898080"/>
            <a:ext cx="2514600" cy="1204920"/>
          </a:xfrm>
          <a:custGeom>
            <a:avLst/>
            <a:gdLst/>
            <a:ahLst/>
            <a:rect l="l" t="t" r="r" b="b"/>
            <a:pathLst>
              <a:path w="1224" h="2400">
                <a:moveTo>
                  <a:pt x="152" y="32"/>
                </a:moveTo>
                <a:cubicBezTo>
                  <a:pt x="304" y="16"/>
                  <a:pt x="824" y="0"/>
                  <a:pt x="968" y="32"/>
                </a:cubicBezTo>
                <a:cubicBezTo>
                  <a:pt x="1112" y="64"/>
                  <a:pt x="992" y="176"/>
                  <a:pt x="1016" y="224"/>
                </a:cubicBezTo>
                <a:cubicBezTo>
                  <a:pt x="1040" y="272"/>
                  <a:pt x="1080" y="216"/>
                  <a:pt x="1112" y="320"/>
                </a:cubicBezTo>
                <a:cubicBezTo>
                  <a:pt x="1144" y="424"/>
                  <a:pt x="1192" y="512"/>
                  <a:pt x="1208" y="848"/>
                </a:cubicBezTo>
                <a:cubicBezTo>
                  <a:pt x="1224" y="1184"/>
                  <a:pt x="1224" y="2272"/>
                  <a:pt x="1208" y="2336"/>
                </a:cubicBezTo>
                <a:cubicBezTo>
                  <a:pt x="1192" y="2400"/>
                  <a:pt x="1176" y="1488"/>
                  <a:pt x="1112" y="1232"/>
                </a:cubicBezTo>
                <a:cubicBezTo>
                  <a:pt x="1048" y="976"/>
                  <a:pt x="968" y="928"/>
                  <a:pt x="824" y="800"/>
                </a:cubicBezTo>
                <a:cubicBezTo>
                  <a:pt x="680" y="672"/>
                  <a:pt x="376" y="576"/>
                  <a:pt x="248" y="464"/>
                </a:cubicBezTo>
                <a:cubicBezTo>
                  <a:pt x="120" y="352"/>
                  <a:pt x="72" y="200"/>
                  <a:pt x="56" y="128"/>
                </a:cubicBezTo>
                <a:cubicBezTo>
                  <a:pt x="40" y="56"/>
                  <a:pt x="0" y="48"/>
                  <a:pt x="152" y="32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9966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962520" y="3898800"/>
            <a:ext cx="1295280" cy="12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6633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914400" y="1614600"/>
            <a:ext cx="2514600" cy="1204920"/>
          </a:xfrm>
          <a:custGeom>
            <a:avLst/>
            <a:gdLst/>
            <a:ahLst/>
            <a:rect l="l" t="t" r="r" b="b"/>
            <a:pathLst>
              <a:path w="1224" h="2400">
                <a:moveTo>
                  <a:pt x="152" y="32"/>
                </a:moveTo>
                <a:cubicBezTo>
                  <a:pt x="304" y="16"/>
                  <a:pt x="824" y="0"/>
                  <a:pt x="968" y="32"/>
                </a:cubicBezTo>
                <a:cubicBezTo>
                  <a:pt x="1112" y="64"/>
                  <a:pt x="992" y="176"/>
                  <a:pt x="1016" y="224"/>
                </a:cubicBezTo>
                <a:cubicBezTo>
                  <a:pt x="1040" y="272"/>
                  <a:pt x="1080" y="216"/>
                  <a:pt x="1112" y="320"/>
                </a:cubicBezTo>
                <a:cubicBezTo>
                  <a:pt x="1144" y="424"/>
                  <a:pt x="1192" y="512"/>
                  <a:pt x="1208" y="848"/>
                </a:cubicBezTo>
                <a:cubicBezTo>
                  <a:pt x="1224" y="1184"/>
                  <a:pt x="1224" y="2272"/>
                  <a:pt x="1208" y="2336"/>
                </a:cubicBezTo>
                <a:cubicBezTo>
                  <a:pt x="1192" y="2400"/>
                  <a:pt x="1176" y="1488"/>
                  <a:pt x="1112" y="1232"/>
                </a:cubicBezTo>
                <a:cubicBezTo>
                  <a:pt x="1048" y="976"/>
                  <a:pt x="968" y="928"/>
                  <a:pt x="824" y="800"/>
                </a:cubicBezTo>
                <a:cubicBezTo>
                  <a:pt x="680" y="672"/>
                  <a:pt x="376" y="576"/>
                  <a:pt x="248" y="464"/>
                </a:cubicBezTo>
                <a:cubicBezTo>
                  <a:pt x="120" y="352"/>
                  <a:pt x="72" y="200"/>
                  <a:pt x="56" y="128"/>
                </a:cubicBezTo>
                <a:cubicBezTo>
                  <a:pt x="40" y="56"/>
                  <a:pt x="0" y="48"/>
                  <a:pt x="152" y="32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5942880" y="1441440"/>
            <a:ext cx="2514600" cy="1206360"/>
          </a:xfrm>
          <a:custGeom>
            <a:avLst/>
            <a:gdLst/>
            <a:ahLst/>
            <a:rect l="l" t="t" r="r" b="b"/>
            <a:pathLst>
              <a:path w="1224" h="2400">
                <a:moveTo>
                  <a:pt x="152" y="32"/>
                </a:moveTo>
                <a:cubicBezTo>
                  <a:pt x="304" y="16"/>
                  <a:pt x="824" y="0"/>
                  <a:pt x="968" y="32"/>
                </a:cubicBezTo>
                <a:cubicBezTo>
                  <a:pt x="1112" y="64"/>
                  <a:pt x="992" y="176"/>
                  <a:pt x="1016" y="224"/>
                </a:cubicBezTo>
                <a:cubicBezTo>
                  <a:pt x="1040" y="272"/>
                  <a:pt x="1080" y="216"/>
                  <a:pt x="1112" y="320"/>
                </a:cubicBezTo>
                <a:cubicBezTo>
                  <a:pt x="1144" y="424"/>
                  <a:pt x="1192" y="512"/>
                  <a:pt x="1208" y="848"/>
                </a:cubicBezTo>
                <a:cubicBezTo>
                  <a:pt x="1224" y="1184"/>
                  <a:pt x="1224" y="2272"/>
                  <a:pt x="1208" y="2336"/>
                </a:cubicBezTo>
                <a:cubicBezTo>
                  <a:pt x="1192" y="2400"/>
                  <a:pt x="1176" y="1488"/>
                  <a:pt x="1112" y="1232"/>
                </a:cubicBezTo>
                <a:cubicBezTo>
                  <a:pt x="1048" y="976"/>
                  <a:pt x="968" y="928"/>
                  <a:pt x="824" y="800"/>
                </a:cubicBezTo>
                <a:cubicBezTo>
                  <a:pt x="680" y="672"/>
                  <a:pt x="376" y="576"/>
                  <a:pt x="248" y="464"/>
                </a:cubicBezTo>
                <a:cubicBezTo>
                  <a:pt x="120" y="352"/>
                  <a:pt x="72" y="200"/>
                  <a:pt x="56" y="128"/>
                </a:cubicBezTo>
                <a:cubicBezTo>
                  <a:pt x="40" y="56"/>
                  <a:pt x="0" y="48"/>
                  <a:pt x="152" y="32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3962520" y="1700280"/>
            <a:ext cx="1295280" cy="947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99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3276720" y="5016600"/>
            <a:ext cx="2590560" cy="1079280"/>
          </a:xfrm>
          <a:prstGeom prst="flowChartProcess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squisa Quantit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058080" y="5016600"/>
            <a:ext cx="2590560" cy="1079280"/>
          </a:xfrm>
          <a:prstGeom prst="flowChartProcess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352440" y="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ntes Secundá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95360" y="5016600"/>
            <a:ext cx="2590920" cy="1079280"/>
          </a:xfrm>
          <a:prstGeom prst="flowChartProcess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squisa Qualit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57200" y="622440"/>
            <a:ext cx="2590920" cy="1079280"/>
          </a:xfrm>
          <a:prstGeom prst="flowChartProcess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ros Int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019920" y="622440"/>
            <a:ext cx="2590560" cy="1079280"/>
          </a:xfrm>
          <a:prstGeom prst="flowChartProcess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dos Padronizados d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3238560" y="622440"/>
            <a:ext cx="2590920" cy="1079280"/>
          </a:xfrm>
          <a:prstGeom prst="flowChartProcess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dos Publicados de Uso Co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4125240" y="6491160"/>
            <a:ext cx="50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baseado em Aaker, Kumar &amp; Day (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Localização do planejamento estratégico dos produtos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680" y="1455840"/>
            <a:ext cx="9063000" cy="4572000"/>
            <a:chOff x="4680" y="1455840"/>
            <a:chExt cx="9063000" cy="4572000"/>
          </a:xfrm>
        </p:grpSpPr>
        <p:sp>
          <p:nvSpPr>
            <p:cNvPr id="102" name=""/>
            <p:cNvSpPr/>
            <p:nvPr/>
          </p:nvSpPr>
          <p:spPr>
            <a:xfrm>
              <a:off x="790560" y="575316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40000" y="5389560"/>
              <a:ext cx="609264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80" y="533556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255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14880" y="5097600"/>
              <a:ext cx="111096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053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961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76320" y="1455840"/>
              <a:ext cx="8991360" cy="3591000"/>
              <a:chOff x="76320" y="1455840"/>
              <a:chExt cx="8991360" cy="359100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76320" y="1614600"/>
                <a:ext cx="8991360" cy="3432240"/>
                <a:chOff x="76320" y="1614600"/>
                <a:chExt cx="8991360" cy="34322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76320" y="1614600"/>
                  <a:ext cx="8991360" cy="34322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95240" y="2863800"/>
                  <a:ext cx="7291440" cy="166068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2239920" y="2225520"/>
                  <a:ext cx="4146480" cy="298800"/>
                  <a:chOff x="2239920" y="2225520"/>
                  <a:chExt cx="4146480" cy="2988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2239920" y="2225520"/>
                    <a:ext cx="4146480" cy="29880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800"/>
                      <a:gd name="textAreaBottom" fmla="*/ 299160 h 298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293640" y="223848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962280" y="4336560"/>
                  <a:ext cx="6981840" cy="534600"/>
                  <a:chOff x="962280" y="4336560"/>
                  <a:chExt cx="6981840" cy="534600"/>
                </a:xfrm>
              </p:grpSpPr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2259720" y="4350600"/>
                    <a:ext cx="5684400" cy="520560"/>
                    <a:chOff x="2259720" y="4350600"/>
                    <a:chExt cx="5684400" cy="52056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4633920" y="4350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557520" y="4350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2259720" y="4350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782040" y="4350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5676840" y="4350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" name=""/>
                  <p:cNvSpPr/>
                  <p:nvPr/>
                </p:nvSpPr>
                <p:spPr>
                  <a:xfrm>
                    <a:off x="962280" y="4336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6364440" y="2227320"/>
                  <a:ext cx="2652480" cy="298440"/>
                  <a:chOff x="6364440" y="2227320"/>
                  <a:chExt cx="2652480" cy="29844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6364440" y="222732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431480" y="226368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" name=""/>
                <p:cNvSpPr/>
                <p:nvPr/>
              </p:nvSpPr>
              <p:spPr>
                <a:xfrm>
                  <a:off x="8223120" y="231156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28" name=""/>
                <p:cNvCxnSpPr>
                  <a:stCxn id="125" idx="0"/>
                  <a:endCxn id="129" idx="0"/>
                </p:cNvCxnSpPr>
                <p:nvPr/>
              </p:nvCxnSpPr>
              <p:spPr>
                <a:xfrm rot="5400000">
                  <a:off x="4402440" y="-99936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30" name=""/>
                <p:cNvGrpSpPr/>
                <p:nvPr/>
              </p:nvGrpSpPr>
              <p:grpSpPr>
                <a:xfrm>
                  <a:off x="171360" y="2227320"/>
                  <a:ext cx="2124000" cy="297000"/>
                  <a:chOff x="171360" y="2227320"/>
                  <a:chExt cx="2124000" cy="2970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171360" y="2227320"/>
                    <a:ext cx="2124000" cy="29700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999000" y="226368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185760" y="259704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6164280" y="2577960"/>
                  <a:ext cx="2871720" cy="933480"/>
                  <a:chOff x="6164280" y="2577960"/>
                  <a:chExt cx="2871720" cy="933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6164280" y="257796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421400" y="257796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249960" y="264168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535880" y="264168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7694640" y="268128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6348240" y="268128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2413080" y="2565000"/>
                  <a:ext cx="3600360" cy="407880"/>
                  <a:chOff x="2413080" y="2565000"/>
                  <a:chExt cx="3600360" cy="4078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flipV="1">
                    <a:off x="241308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V="1">
                    <a:off x="31338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385596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457668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52992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565360" y="2717640"/>
                  <a:ext cx="3600360" cy="407880"/>
                  <a:chOff x="2565360" y="2717640"/>
                  <a:chExt cx="3600360" cy="4078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flipV="1">
                    <a:off x="256536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V="1">
                    <a:off x="3286080" y="271728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>
                    <a:off x="400860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472932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545148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2717640" y="2869920"/>
                  <a:ext cx="3600720" cy="407880"/>
                  <a:chOff x="2717640" y="2869920"/>
                  <a:chExt cx="3600720" cy="40788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flipV="1">
                    <a:off x="271764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V="1">
                    <a:off x="34383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V="1">
                    <a:off x="416088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V="1">
                    <a:off x="488160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V="1">
                    <a:off x="56037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1565280" y="2606760"/>
                  <a:ext cx="950760" cy="671400"/>
                  <a:chOff x="1565280" y="2606760"/>
                  <a:chExt cx="950760" cy="6714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1565280" y="260676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717560" y="275904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870200" y="291132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279720" y="3220920"/>
                  <a:ext cx="6232320" cy="776520"/>
                  <a:chOff x="279720" y="3220920"/>
                  <a:chExt cx="6232320" cy="7765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279720" y="367020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3319560" y="3220920"/>
                    <a:ext cx="185760" cy="617400"/>
                    <a:chOff x="3319560" y="3220920"/>
                    <a:chExt cx="185760" cy="61740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331956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 flipV="1">
                      <a:off x="341172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7" name=""/>
                  <p:cNvSpPr/>
                  <p:nvPr/>
                </p:nvSpPr>
                <p:spPr>
                  <a:xfrm>
                    <a:off x="1208160" y="349740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6219720" y="3395160"/>
                    <a:ext cx="185400" cy="474840"/>
                    <a:chOff x="6219720" y="3395160"/>
                    <a:chExt cx="185400" cy="474840"/>
                  </a:xfrm>
                </p:grpSpPr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6219720" y="359856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 flipV="1">
                      <a:off x="6311520" y="339516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4748040" y="3220920"/>
                    <a:ext cx="185760" cy="617400"/>
                    <a:chOff x="4748040" y="3220920"/>
                    <a:chExt cx="185760" cy="61740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474804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flipV="1">
                      <a:off x="484020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5464080" y="3220920"/>
                    <a:ext cx="185760" cy="617400"/>
                    <a:chOff x="5464080" y="3220920"/>
                    <a:chExt cx="185760" cy="61740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546408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 flipV="1">
                      <a:off x="555624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2422440" y="3252960"/>
                    <a:ext cx="185760" cy="585720"/>
                    <a:chOff x="2422440" y="3252960"/>
                    <a:chExt cx="185760" cy="58572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 flipV="1">
                      <a:off x="25146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422440" y="356724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4035600" y="3252960"/>
                    <a:ext cx="185400" cy="585720"/>
                    <a:chOff x="4035600" y="3252960"/>
                    <a:chExt cx="185400" cy="585720"/>
                  </a:xfrm>
                </p:grpSpPr>
                <p:sp>
                  <p:nvSpPr>
                    <p:cNvPr id="181" name=""/>
                    <p:cNvSpPr/>
                    <p:nvPr/>
                  </p:nvSpPr>
                  <p:spPr>
                    <a:xfrm flipV="1">
                      <a:off x="41274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4035600" y="35672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3597120" y="3277800"/>
                    <a:ext cx="141480" cy="473400"/>
                    <a:chOff x="3597120" y="3277800"/>
                    <a:chExt cx="141480" cy="47340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 flipV="1">
                      <a:off x="36687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35971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3784680" y="3277800"/>
                    <a:ext cx="141120" cy="473400"/>
                    <a:chOff x="3784680" y="3277800"/>
                    <a:chExt cx="141120" cy="47340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flipV="1">
                      <a:off x="38559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378468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4284720" y="3277800"/>
                    <a:ext cx="141120" cy="473400"/>
                    <a:chOff x="4284720" y="3277800"/>
                    <a:chExt cx="141120" cy="47340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flipV="1">
                      <a:off x="435600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428472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4498920" y="3277800"/>
                    <a:ext cx="141480" cy="473400"/>
                    <a:chOff x="4498920" y="3277800"/>
                    <a:chExt cx="141480" cy="4734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flipV="1">
                      <a:off x="45705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4989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3051000" y="3277800"/>
                    <a:ext cx="141480" cy="473400"/>
                    <a:chOff x="3051000" y="3277800"/>
                    <a:chExt cx="141480" cy="47340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flipV="1">
                      <a:off x="312264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305100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164200" y="3277800"/>
                    <a:ext cx="141120" cy="473400"/>
                    <a:chOff x="5164200" y="3277800"/>
                    <a:chExt cx="141120" cy="47340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flipV="1">
                      <a:off x="523548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16420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1" name=""/>
              <p:cNvSpPr/>
              <p:nvPr/>
            </p:nvSpPr>
            <p:spPr>
              <a:xfrm>
                <a:off x="1500120" y="145584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-61200" y="1722960"/>
            <a:ext cx="2808000" cy="2010240"/>
            <a:chOff x="-61200" y="1722960"/>
            <a:chExt cx="2808000" cy="2010240"/>
          </a:xfrm>
        </p:grpSpPr>
        <p:grpSp>
          <p:nvGrpSpPr>
            <p:cNvPr id="203" name=""/>
            <p:cNvGrpSpPr/>
            <p:nvPr/>
          </p:nvGrpSpPr>
          <p:grpSpPr>
            <a:xfrm>
              <a:off x="-61200" y="2144520"/>
              <a:ext cx="1917360" cy="1588680"/>
              <a:chOff x="-61200" y="2144520"/>
              <a:chExt cx="1917360" cy="158868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-18000" y="2144520"/>
                <a:ext cx="1863360" cy="1562040"/>
                <a:chOff x="-18000" y="2144520"/>
                <a:chExt cx="1863360" cy="1562040"/>
              </a:xfrm>
            </p:grpSpPr>
            <p:grpSp>
              <p:nvGrpSpPr>
                <p:cNvPr id="205" name=""/>
                <p:cNvGrpSpPr/>
                <p:nvPr/>
              </p:nvGrpSpPr>
              <p:grpSpPr>
                <a:xfrm>
                  <a:off x="-18000" y="2144520"/>
                  <a:ext cx="1863360" cy="1562040"/>
                  <a:chOff x="-18000" y="2144520"/>
                  <a:chExt cx="1863360" cy="15620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rot="15622800">
                    <a:off x="16200" y="2583000"/>
                    <a:ext cx="109836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5622800">
                    <a:off x="534600" y="2231640"/>
                    <a:ext cx="121140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15840" y="2220480"/>
                  <a:ext cx="1756080" cy="1418400"/>
                  <a:chOff x="15840" y="2220480"/>
                  <a:chExt cx="1756080" cy="141840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rot="15622800">
                    <a:off x="1389240" y="3030120"/>
                    <a:ext cx="3139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15622800">
                    <a:off x="772200" y="1944720"/>
                    <a:ext cx="112680" cy="79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5622800">
                    <a:off x="-51840" y="2761560"/>
                    <a:ext cx="44676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5622800">
                    <a:off x="714240" y="3239640"/>
                    <a:ext cx="142560" cy="56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3" name=""/>
              <p:cNvSpPr/>
              <p:nvPr/>
            </p:nvSpPr>
            <p:spPr>
              <a:xfrm rot="15622800">
                <a:off x="325440" y="2097720"/>
                <a:ext cx="1263960" cy="1608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-61200" y="2218680"/>
                <a:ext cx="1797120" cy="1514520"/>
                <a:chOff x="-61200" y="2218680"/>
                <a:chExt cx="1797120" cy="1514520"/>
              </a:xfrm>
            </p:grpSpPr>
            <p:sp>
              <p:nvSpPr>
                <p:cNvPr id="215" name=""/>
                <p:cNvSpPr/>
                <p:nvPr/>
              </p:nvSpPr>
              <p:spPr>
                <a:xfrm rot="15622800">
                  <a:off x="222120" y="2191320"/>
                  <a:ext cx="1234080" cy="156924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15622800">
                  <a:off x="205560" y="2171520"/>
                  <a:ext cx="1263600" cy="16084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15622800">
                  <a:off x="241200" y="2214360"/>
                  <a:ext cx="1193400" cy="15228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"/>
            <p:cNvGrpSpPr/>
            <p:nvPr/>
          </p:nvGrpSpPr>
          <p:grpSpPr>
            <a:xfrm>
              <a:off x="1457280" y="1722960"/>
              <a:ext cx="1289520" cy="863280"/>
              <a:chOff x="1457280" y="1722960"/>
              <a:chExt cx="1289520" cy="863280"/>
            </a:xfrm>
          </p:grpSpPr>
          <p:sp>
            <p:nvSpPr>
              <p:cNvPr id="219" name=""/>
              <p:cNvSpPr/>
              <p:nvPr/>
            </p:nvSpPr>
            <p:spPr>
              <a:xfrm rot="15622800">
                <a:off x="1779840" y="1579320"/>
                <a:ext cx="617760" cy="117612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5622800">
                <a:off x="1500120" y="2352240"/>
                <a:ext cx="19008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5622800">
                <a:off x="1524960" y="2330640"/>
                <a:ext cx="192600" cy="26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5622800">
                <a:off x="1591200" y="2350440"/>
                <a:ext cx="117000" cy="30096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5622800">
                <a:off x="1499040" y="2353680"/>
                <a:ext cx="189720" cy="23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5622800">
                <a:off x="1650240" y="2257560"/>
                <a:ext cx="19080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1634040" y="2237040"/>
                <a:ext cx="289800" cy="243000"/>
                <a:chOff x="1634040" y="2237040"/>
                <a:chExt cx="289800" cy="24300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1634040" y="2251080"/>
                  <a:ext cx="266400" cy="228960"/>
                  <a:chOff x="1634040" y="2251080"/>
                  <a:chExt cx="266400" cy="2289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622800">
                    <a:off x="1671840" y="224748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622800">
                    <a:off x="1671120" y="2246760"/>
                    <a:ext cx="191880" cy="237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15622800">
                    <a:off x="1671840" y="224640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0" name=""/>
                <p:cNvSpPr/>
                <p:nvPr/>
              </p:nvSpPr>
              <p:spPr>
                <a:xfrm rot="15622800">
                  <a:off x="1695600" y="223236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1680120" y="2211120"/>
                <a:ext cx="290160" cy="242640"/>
                <a:chOff x="1680120" y="2211120"/>
                <a:chExt cx="290160" cy="2426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1680120" y="2224800"/>
                  <a:ext cx="266040" cy="228960"/>
                  <a:chOff x="1680120" y="2224800"/>
                  <a:chExt cx="266040" cy="2289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15622800">
                    <a:off x="1717200" y="2220840"/>
                    <a:ext cx="19116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15622800">
                    <a:off x="1716840" y="222048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15622800">
                    <a:off x="1717560" y="2220480"/>
                    <a:ext cx="1900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 rot="15622800">
                  <a:off x="1742040" y="2206080"/>
                  <a:ext cx="19044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1722600" y="2196720"/>
                <a:ext cx="266760" cy="229680"/>
                <a:chOff x="1722600" y="2196720"/>
                <a:chExt cx="266760" cy="229680"/>
              </a:xfrm>
            </p:grpSpPr>
            <p:sp>
              <p:nvSpPr>
                <p:cNvPr id="238" name=""/>
                <p:cNvSpPr/>
                <p:nvPr/>
              </p:nvSpPr>
              <p:spPr>
                <a:xfrm rot="15622800">
                  <a:off x="1760400" y="2193480"/>
                  <a:ext cx="191160" cy="23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15622800">
                  <a:off x="1759320" y="2192400"/>
                  <a:ext cx="192600" cy="23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722600" y="2183040"/>
                <a:ext cx="290160" cy="242280"/>
                <a:chOff x="1722600" y="2183040"/>
                <a:chExt cx="290160" cy="242280"/>
              </a:xfrm>
            </p:grpSpPr>
            <p:sp>
              <p:nvSpPr>
                <p:cNvPr id="241" name=""/>
                <p:cNvSpPr/>
                <p:nvPr/>
              </p:nvSpPr>
              <p:spPr>
                <a:xfrm rot="15622800">
                  <a:off x="1759680" y="2192400"/>
                  <a:ext cx="19152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15622800">
                  <a:off x="1783800" y="217836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534680" y="1783800"/>
                <a:ext cx="1119960" cy="770760"/>
                <a:chOff x="1534680" y="1783800"/>
                <a:chExt cx="1119960" cy="770760"/>
              </a:xfrm>
            </p:grpSpPr>
            <p:sp>
              <p:nvSpPr>
                <p:cNvPr id="244" name=""/>
                <p:cNvSpPr/>
                <p:nvPr/>
              </p:nvSpPr>
              <p:spPr>
                <a:xfrm flipV="1">
                  <a:off x="1534680" y="1783800"/>
                  <a:ext cx="961200" cy="60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V="1">
                  <a:off x="1647720" y="1937160"/>
                  <a:ext cx="1006920" cy="617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1765080" y="2157840"/>
                <a:ext cx="285480" cy="241200"/>
                <a:chOff x="1765080" y="2157840"/>
                <a:chExt cx="285480" cy="24120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1765080" y="2170080"/>
                  <a:ext cx="266040" cy="228960"/>
                  <a:chOff x="1765080" y="2170080"/>
                  <a:chExt cx="266040" cy="22896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15622800">
                    <a:off x="1802880" y="2166480"/>
                    <a:ext cx="19080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15622800">
                    <a:off x="1801800" y="216576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0" name=""/>
                <p:cNvSpPr/>
                <p:nvPr/>
              </p:nvSpPr>
              <p:spPr>
                <a:xfrm rot="15622800">
                  <a:off x="1802160" y="216540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15622800">
                  <a:off x="1822320" y="215316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rot="15622800">
                <a:off x="2029680" y="1693800"/>
                <a:ext cx="380880" cy="86904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5622800">
                <a:off x="2493720" y="1714680"/>
                <a:ext cx="208080" cy="26640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380880" y="125280"/>
            <a:ext cx="73152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Elementos da Estratégia de Produto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609480" y="2360520"/>
            <a:ext cx="685800" cy="2667240"/>
            <a:chOff x="609480" y="2360520"/>
            <a:chExt cx="685800" cy="2667240"/>
          </a:xfrm>
        </p:grpSpPr>
        <p:sp>
          <p:nvSpPr>
            <p:cNvPr id="1648" name=""/>
            <p:cNvSpPr/>
            <p:nvPr/>
          </p:nvSpPr>
          <p:spPr>
            <a:xfrm>
              <a:off x="838080" y="23605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38080" y="29527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066680" y="3579840"/>
              <a:ext cx="228600" cy="228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066680" y="4189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09480" y="3732120"/>
              <a:ext cx="228600" cy="228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38080" y="4799160"/>
              <a:ext cx="228600" cy="2286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523880" y="2970360"/>
            <a:ext cx="762120" cy="1828800"/>
            <a:chOff x="1523880" y="2970360"/>
            <a:chExt cx="762120" cy="1828800"/>
          </a:xfrm>
        </p:grpSpPr>
        <p:sp>
          <p:nvSpPr>
            <p:cNvPr id="1655" name=""/>
            <p:cNvSpPr/>
            <p:nvPr/>
          </p:nvSpPr>
          <p:spPr>
            <a:xfrm>
              <a:off x="1523880" y="2970360"/>
              <a:ext cx="228600" cy="22860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57400" y="3198960"/>
              <a:ext cx="228600" cy="2286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23880" y="3427560"/>
              <a:ext cx="228600" cy="228600"/>
            </a:xfrm>
            <a:prstGeom prst="ellipse">
              <a:avLst/>
            </a:prstGeom>
            <a:solidFill>
              <a:srgbClr val="e0f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057400" y="3808440"/>
              <a:ext cx="228600" cy="22860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523880" y="3960720"/>
              <a:ext cx="228600" cy="2286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523880" y="4570560"/>
              <a:ext cx="228600" cy="228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057400" y="4341960"/>
              <a:ext cx="228600" cy="228600"/>
            </a:xfrm>
            <a:prstGeom prst="ellipse">
              <a:avLst/>
            </a:prstGeom>
            <a:solidFill>
              <a:srgbClr val="ffb1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2575080" y="3351240"/>
            <a:ext cx="1082520" cy="990720"/>
            <a:chOff x="2575080" y="3351240"/>
            <a:chExt cx="1082520" cy="990720"/>
          </a:xfrm>
        </p:grpSpPr>
        <p:sp>
          <p:nvSpPr>
            <p:cNvPr id="1663" name=""/>
            <p:cNvSpPr/>
            <p:nvPr/>
          </p:nvSpPr>
          <p:spPr>
            <a:xfrm>
              <a:off x="3076560" y="3351240"/>
              <a:ext cx="228600" cy="228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575080" y="3579840"/>
              <a:ext cx="228600" cy="228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429000" y="39607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644920" y="4113360"/>
              <a:ext cx="228600" cy="228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429000" y="3960720"/>
              <a:ext cx="228600" cy="2286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5105520" y="3579840"/>
            <a:ext cx="1371600" cy="506520"/>
            <a:chOff x="5105520" y="3579840"/>
            <a:chExt cx="1371600" cy="506520"/>
          </a:xfrm>
        </p:grpSpPr>
        <p:sp>
          <p:nvSpPr>
            <p:cNvPr id="1669" name=""/>
            <p:cNvSpPr/>
            <p:nvPr/>
          </p:nvSpPr>
          <p:spPr>
            <a:xfrm>
              <a:off x="5105520" y="3579840"/>
              <a:ext cx="228600" cy="228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248520" y="3579840"/>
              <a:ext cx="228600" cy="2286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961240" y="3857760"/>
              <a:ext cx="228600" cy="22860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562720" y="3579840"/>
              <a:ext cx="228600" cy="2286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3886200" y="3427560"/>
            <a:ext cx="990720" cy="609480"/>
            <a:chOff x="3886200" y="3427560"/>
            <a:chExt cx="990720" cy="609480"/>
          </a:xfrm>
        </p:grpSpPr>
        <p:sp>
          <p:nvSpPr>
            <p:cNvPr id="1674" name=""/>
            <p:cNvSpPr/>
            <p:nvPr/>
          </p:nvSpPr>
          <p:spPr>
            <a:xfrm>
              <a:off x="4267080" y="3579840"/>
              <a:ext cx="228600" cy="22860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648320" y="3808440"/>
              <a:ext cx="228600" cy="228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886200" y="3427560"/>
              <a:ext cx="228600" cy="2286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"/>
          <p:cNvGrpSpPr/>
          <p:nvPr/>
        </p:nvGrpSpPr>
        <p:grpSpPr>
          <a:xfrm>
            <a:off x="990720" y="1674720"/>
            <a:ext cx="8008560" cy="4038840"/>
            <a:chOff x="990720" y="1674720"/>
            <a:chExt cx="8008560" cy="4038840"/>
          </a:xfrm>
        </p:grpSpPr>
        <p:sp>
          <p:nvSpPr>
            <p:cNvPr id="1678" name=""/>
            <p:cNvSpPr/>
            <p:nvPr/>
          </p:nvSpPr>
          <p:spPr>
            <a:xfrm>
              <a:off x="990720" y="1674720"/>
              <a:ext cx="5867280" cy="1524240"/>
            </a:xfrm>
            <a:custGeom>
              <a:avLst/>
              <a:gdLst/>
              <a:ahLst/>
              <a:rect l="l" t="t" r="r" b="b"/>
              <a:pathLst>
                <a:path w="4560" h="1056">
                  <a:moveTo>
                    <a:pt x="0" y="0"/>
                  </a:moveTo>
                  <a:cubicBezTo>
                    <a:pt x="72" y="184"/>
                    <a:pt x="144" y="368"/>
                    <a:pt x="480" y="528"/>
                  </a:cubicBezTo>
                  <a:cubicBezTo>
                    <a:pt x="816" y="688"/>
                    <a:pt x="1336" y="872"/>
                    <a:pt x="2016" y="960"/>
                  </a:cubicBezTo>
                  <a:cubicBezTo>
                    <a:pt x="2696" y="1048"/>
                    <a:pt x="4120" y="1040"/>
                    <a:pt x="4560" y="1056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V="1">
              <a:off x="990720" y="4341600"/>
              <a:ext cx="5867280" cy="1371600"/>
            </a:xfrm>
            <a:custGeom>
              <a:avLst/>
              <a:gdLst/>
              <a:ahLst/>
              <a:rect l="l" t="t" r="r" b="b"/>
              <a:pathLst>
                <a:path w="4560" h="1056">
                  <a:moveTo>
                    <a:pt x="0" y="0"/>
                  </a:moveTo>
                  <a:cubicBezTo>
                    <a:pt x="72" y="184"/>
                    <a:pt x="144" y="368"/>
                    <a:pt x="480" y="528"/>
                  </a:cubicBezTo>
                  <a:cubicBezTo>
                    <a:pt x="816" y="688"/>
                    <a:pt x="1336" y="872"/>
                    <a:pt x="2016" y="960"/>
                  </a:cubicBezTo>
                  <a:cubicBezTo>
                    <a:pt x="2696" y="1048"/>
                    <a:pt x="4120" y="1040"/>
                    <a:pt x="4560" y="1056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0" name=""/>
            <p:cNvGrpSpPr/>
            <p:nvPr/>
          </p:nvGrpSpPr>
          <p:grpSpPr>
            <a:xfrm>
              <a:off x="6891480" y="3164040"/>
              <a:ext cx="2107800" cy="1636560"/>
              <a:chOff x="6891480" y="3164040"/>
              <a:chExt cx="2107800" cy="1636560"/>
            </a:xfrm>
          </p:grpSpPr>
          <p:grpSp>
            <p:nvGrpSpPr>
              <p:cNvPr id="1681" name=""/>
              <p:cNvGrpSpPr/>
              <p:nvPr/>
            </p:nvGrpSpPr>
            <p:grpSpPr>
              <a:xfrm>
                <a:off x="6891480" y="3164040"/>
                <a:ext cx="2107800" cy="1177560"/>
                <a:chOff x="6891480" y="3164040"/>
                <a:chExt cx="2107800" cy="1177560"/>
              </a:xfrm>
            </p:grpSpPr>
            <p:sp>
              <p:nvSpPr>
                <p:cNvPr id="1682" name=""/>
                <p:cNvSpPr/>
                <p:nvPr/>
              </p:nvSpPr>
              <p:spPr>
                <a:xfrm>
                  <a:off x="6969960" y="3429000"/>
                  <a:ext cx="72720" cy="109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114ff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6962760" y="3643200"/>
                  <a:ext cx="74160" cy="109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6962760" y="3897360"/>
                  <a:ext cx="74160" cy="109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505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6955920" y="4119480"/>
                  <a:ext cx="75600" cy="109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cc00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6" name=""/>
                <p:cNvGrpSpPr/>
                <p:nvPr/>
              </p:nvGrpSpPr>
              <p:grpSpPr>
                <a:xfrm>
                  <a:off x="6891480" y="3164040"/>
                  <a:ext cx="2107800" cy="1177560"/>
                  <a:chOff x="6891480" y="3164040"/>
                  <a:chExt cx="2107800" cy="1177560"/>
                </a:xfrm>
              </p:grpSpPr>
              <p:sp>
                <p:nvSpPr>
                  <p:cNvPr id="1687" name=""/>
                  <p:cNvSpPr/>
                  <p:nvPr/>
                </p:nvSpPr>
                <p:spPr>
                  <a:xfrm>
                    <a:off x="7462080" y="3181320"/>
                    <a:ext cx="12384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284">
                        <a:moveTo>
                          <a:pt x="0" y="0"/>
                        </a:moveTo>
                        <a:lnTo>
                          <a:pt x="80" y="67"/>
                        </a:lnTo>
                        <a:lnTo>
                          <a:pt x="155" y="143"/>
                        </a:lnTo>
                        <a:lnTo>
                          <a:pt x="266" y="284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7494840" y="3193560"/>
                    <a:ext cx="12744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265">
                        <a:moveTo>
                          <a:pt x="0" y="0"/>
                        </a:moveTo>
                        <a:lnTo>
                          <a:pt x="79" y="57"/>
                        </a:lnTo>
                        <a:lnTo>
                          <a:pt x="150" y="124"/>
                        </a:lnTo>
                        <a:lnTo>
                          <a:pt x="279" y="265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7557840" y="3221280"/>
                    <a:ext cx="1047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1" h="207">
                        <a:moveTo>
                          <a:pt x="0" y="0"/>
                        </a:moveTo>
                        <a:lnTo>
                          <a:pt x="79" y="56"/>
                        </a:lnTo>
                        <a:lnTo>
                          <a:pt x="150" y="123"/>
                        </a:lnTo>
                        <a:lnTo>
                          <a:pt x="231" y="207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8552880" y="3236760"/>
                    <a:ext cx="19836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289">
                        <a:moveTo>
                          <a:pt x="0" y="0"/>
                        </a:moveTo>
                        <a:lnTo>
                          <a:pt x="143" y="81"/>
                        </a:lnTo>
                        <a:lnTo>
                          <a:pt x="290" y="180"/>
                        </a:lnTo>
                        <a:lnTo>
                          <a:pt x="436" y="289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7852680" y="3325680"/>
                    <a:ext cx="87984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>
                    <a:off x="7852680" y="3381120"/>
                    <a:ext cx="94788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7809120" y="3452400"/>
                    <a:ext cx="1005120" cy="144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>
                    <a:off x="7622280" y="3679560"/>
                    <a:ext cx="99720" cy="66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1198">
                        <a:moveTo>
                          <a:pt x="213" y="0"/>
                        </a:moveTo>
                        <a:lnTo>
                          <a:pt x="213" y="117"/>
                        </a:lnTo>
                        <a:lnTo>
                          <a:pt x="204" y="249"/>
                        </a:lnTo>
                        <a:lnTo>
                          <a:pt x="182" y="379"/>
                        </a:lnTo>
                        <a:lnTo>
                          <a:pt x="160" y="528"/>
                        </a:lnTo>
                        <a:lnTo>
                          <a:pt x="138" y="652"/>
                        </a:lnTo>
                        <a:lnTo>
                          <a:pt x="115" y="794"/>
                        </a:lnTo>
                        <a:lnTo>
                          <a:pt x="93" y="913"/>
                        </a:lnTo>
                        <a:lnTo>
                          <a:pt x="61" y="1020"/>
                        </a:lnTo>
                        <a:lnTo>
                          <a:pt x="35" y="1102"/>
                        </a:lnTo>
                        <a:lnTo>
                          <a:pt x="0" y="1198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7770960" y="3527280"/>
                    <a:ext cx="1116720" cy="396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7744680" y="3602520"/>
                    <a:ext cx="1204200" cy="144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6891480" y="3817800"/>
                    <a:ext cx="2102760" cy="216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7009560" y="3181320"/>
                    <a:ext cx="272160" cy="11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2082">
                        <a:moveTo>
                          <a:pt x="599" y="0"/>
                        </a:moveTo>
                        <a:lnTo>
                          <a:pt x="541" y="33"/>
                        </a:lnTo>
                        <a:lnTo>
                          <a:pt x="426" y="128"/>
                        </a:lnTo>
                        <a:lnTo>
                          <a:pt x="319" y="245"/>
                        </a:lnTo>
                        <a:lnTo>
                          <a:pt x="244" y="363"/>
                        </a:lnTo>
                        <a:lnTo>
                          <a:pt x="172" y="501"/>
                        </a:lnTo>
                        <a:lnTo>
                          <a:pt x="101" y="639"/>
                        </a:lnTo>
                        <a:lnTo>
                          <a:pt x="53" y="765"/>
                        </a:lnTo>
                        <a:lnTo>
                          <a:pt x="8" y="908"/>
                        </a:lnTo>
                        <a:lnTo>
                          <a:pt x="0" y="1025"/>
                        </a:lnTo>
                        <a:lnTo>
                          <a:pt x="0" y="1157"/>
                        </a:lnTo>
                        <a:lnTo>
                          <a:pt x="0" y="1285"/>
                        </a:lnTo>
                        <a:lnTo>
                          <a:pt x="4" y="1430"/>
                        </a:lnTo>
                        <a:lnTo>
                          <a:pt x="0" y="1567"/>
                        </a:lnTo>
                        <a:lnTo>
                          <a:pt x="0" y="1708"/>
                        </a:lnTo>
                        <a:lnTo>
                          <a:pt x="4" y="2008"/>
                        </a:lnTo>
                        <a:lnTo>
                          <a:pt x="8" y="2082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7016760" y="3177720"/>
                    <a:ext cx="277200" cy="1161360"/>
                  </a:xfrm>
                  <a:custGeom>
                    <a:avLst/>
                    <a:gdLst/>
                    <a:ahLst/>
                    <a:rect l="l" t="t" r="r" b="b"/>
                    <a:pathLst>
                      <a:path w="609" h="2105">
                        <a:moveTo>
                          <a:pt x="609" y="0"/>
                        </a:moveTo>
                        <a:lnTo>
                          <a:pt x="546" y="48"/>
                        </a:lnTo>
                        <a:lnTo>
                          <a:pt x="476" y="132"/>
                        </a:lnTo>
                        <a:lnTo>
                          <a:pt x="391" y="245"/>
                        </a:lnTo>
                        <a:lnTo>
                          <a:pt x="320" y="367"/>
                        </a:lnTo>
                        <a:lnTo>
                          <a:pt x="262" y="490"/>
                        </a:lnTo>
                        <a:lnTo>
                          <a:pt x="199" y="624"/>
                        </a:lnTo>
                        <a:lnTo>
                          <a:pt x="151" y="769"/>
                        </a:lnTo>
                        <a:lnTo>
                          <a:pt x="120" y="897"/>
                        </a:lnTo>
                        <a:lnTo>
                          <a:pt x="112" y="1029"/>
                        </a:lnTo>
                        <a:lnTo>
                          <a:pt x="102" y="1151"/>
                        </a:lnTo>
                        <a:lnTo>
                          <a:pt x="94" y="1283"/>
                        </a:lnTo>
                        <a:lnTo>
                          <a:pt x="94" y="1415"/>
                        </a:lnTo>
                        <a:lnTo>
                          <a:pt x="84" y="1552"/>
                        </a:lnTo>
                        <a:lnTo>
                          <a:pt x="66" y="1712"/>
                        </a:lnTo>
                        <a:lnTo>
                          <a:pt x="58" y="1819"/>
                        </a:lnTo>
                        <a:lnTo>
                          <a:pt x="44" y="1934"/>
                        </a:lnTo>
                        <a:lnTo>
                          <a:pt x="0" y="2105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7027200" y="3173760"/>
                    <a:ext cx="291600" cy="1159560"/>
                  </a:xfrm>
                  <a:custGeom>
                    <a:avLst/>
                    <a:gdLst/>
                    <a:ahLst/>
                    <a:rect l="l" t="t" r="r" b="b"/>
                    <a:pathLst>
                      <a:path w="637" h="2101">
                        <a:moveTo>
                          <a:pt x="637" y="0"/>
                        </a:moveTo>
                        <a:lnTo>
                          <a:pt x="583" y="51"/>
                        </a:lnTo>
                        <a:lnTo>
                          <a:pt x="534" y="122"/>
                        </a:lnTo>
                        <a:lnTo>
                          <a:pt x="458" y="240"/>
                        </a:lnTo>
                        <a:lnTo>
                          <a:pt x="378" y="382"/>
                        </a:lnTo>
                        <a:lnTo>
                          <a:pt x="338" y="504"/>
                        </a:lnTo>
                        <a:lnTo>
                          <a:pt x="294" y="642"/>
                        </a:lnTo>
                        <a:lnTo>
                          <a:pt x="258" y="759"/>
                        </a:lnTo>
                        <a:lnTo>
                          <a:pt x="236" y="910"/>
                        </a:lnTo>
                        <a:lnTo>
                          <a:pt x="227" y="1038"/>
                        </a:lnTo>
                        <a:lnTo>
                          <a:pt x="213" y="1170"/>
                        </a:lnTo>
                        <a:lnTo>
                          <a:pt x="195" y="1302"/>
                        </a:lnTo>
                        <a:lnTo>
                          <a:pt x="173" y="1448"/>
                        </a:lnTo>
                        <a:lnTo>
                          <a:pt x="155" y="1575"/>
                        </a:lnTo>
                        <a:lnTo>
                          <a:pt x="133" y="1711"/>
                        </a:lnTo>
                        <a:lnTo>
                          <a:pt x="111" y="1834"/>
                        </a:lnTo>
                        <a:lnTo>
                          <a:pt x="90" y="1934"/>
                        </a:lnTo>
                        <a:lnTo>
                          <a:pt x="48" y="2026"/>
                        </a:lnTo>
                        <a:lnTo>
                          <a:pt x="0" y="210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>
                    <a:off x="7030800" y="3173760"/>
                    <a:ext cx="303840" cy="116388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2110">
                        <a:moveTo>
                          <a:pt x="662" y="0"/>
                        </a:moveTo>
                        <a:lnTo>
                          <a:pt x="614" y="70"/>
                        </a:lnTo>
                        <a:lnTo>
                          <a:pt x="569" y="145"/>
                        </a:lnTo>
                        <a:lnTo>
                          <a:pt x="511" y="250"/>
                        </a:lnTo>
                        <a:lnTo>
                          <a:pt x="458" y="376"/>
                        </a:lnTo>
                        <a:lnTo>
                          <a:pt x="432" y="499"/>
                        </a:lnTo>
                        <a:lnTo>
                          <a:pt x="396" y="642"/>
                        </a:lnTo>
                        <a:lnTo>
                          <a:pt x="360" y="778"/>
                        </a:lnTo>
                        <a:lnTo>
                          <a:pt x="347" y="921"/>
                        </a:lnTo>
                        <a:lnTo>
                          <a:pt x="342" y="1034"/>
                        </a:lnTo>
                        <a:lnTo>
                          <a:pt x="329" y="1166"/>
                        </a:lnTo>
                        <a:lnTo>
                          <a:pt x="316" y="1302"/>
                        </a:lnTo>
                        <a:lnTo>
                          <a:pt x="289" y="1435"/>
                        </a:lnTo>
                        <a:lnTo>
                          <a:pt x="249" y="1575"/>
                        </a:lnTo>
                        <a:lnTo>
                          <a:pt x="222" y="1706"/>
                        </a:lnTo>
                        <a:lnTo>
                          <a:pt x="178" y="1828"/>
                        </a:lnTo>
                        <a:lnTo>
                          <a:pt x="134" y="1934"/>
                        </a:lnTo>
                        <a:lnTo>
                          <a:pt x="71" y="2030"/>
                        </a:lnTo>
                        <a:lnTo>
                          <a:pt x="0" y="2110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7046640" y="3169800"/>
                    <a:ext cx="301680" cy="116388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2111">
                        <a:moveTo>
                          <a:pt x="662" y="0"/>
                        </a:moveTo>
                        <a:lnTo>
                          <a:pt x="622" y="66"/>
                        </a:lnTo>
                        <a:lnTo>
                          <a:pt x="583" y="161"/>
                        </a:lnTo>
                        <a:lnTo>
                          <a:pt x="547" y="268"/>
                        </a:lnTo>
                        <a:lnTo>
                          <a:pt x="525" y="381"/>
                        </a:lnTo>
                        <a:lnTo>
                          <a:pt x="498" y="501"/>
                        </a:lnTo>
                        <a:lnTo>
                          <a:pt x="480" y="647"/>
                        </a:lnTo>
                        <a:lnTo>
                          <a:pt x="454" y="784"/>
                        </a:lnTo>
                        <a:lnTo>
                          <a:pt x="448" y="916"/>
                        </a:lnTo>
                        <a:lnTo>
                          <a:pt x="440" y="1044"/>
                        </a:lnTo>
                        <a:lnTo>
                          <a:pt x="422" y="1166"/>
                        </a:lnTo>
                        <a:lnTo>
                          <a:pt x="391" y="1304"/>
                        </a:lnTo>
                        <a:lnTo>
                          <a:pt x="365" y="1426"/>
                        </a:lnTo>
                        <a:lnTo>
                          <a:pt x="319" y="1581"/>
                        </a:lnTo>
                        <a:lnTo>
                          <a:pt x="275" y="1720"/>
                        </a:lnTo>
                        <a:lnTo>
                          <a:pt x="214" y="1839"/>
                        </a:lnTo>
                        <a:lnTo>
                          <a:pt x="160" y="1935"/>
                        </a:lnTo>
                        <a:lnTo>
                          <a:pt x="75" y="2035"/>
                        </a:lnTo>
                        <a:lnTo>
                          <a:pt x="0" y="211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>
                    <a:off x="7071120" y="3173760"/>
                    <a:ext cx="287640" cy="1159560"/>
                  </a:xfrm>
                  <a:custGeom>
                    <a:avLst/>
                    <a:gdLst/>
                    <a:ahLst/>
                    <a:rect l="l" t="t" r="r" b="b"/>
                    <a:pathLst>
                      <a:path w="626" h="2101">
                        <a:moveTo>
                          <a:pt x="626" y="0"/>
                        </a:moveTo>
                        <a:lnTo>
                          <a:pt x="614" y="61"/>
                        </a:lnTo>
                        <a:lnTo>
                          <a:pt x="596" y="155"/>
                        </a:lnTo>
                        <a:lnTo>
                          <a:pt x="569" y="273"/>
                        </a:lnTo>
                        <a:lnTo>
                          <a:pt x="551" y="376"/>
                        </a:lnTo>
                        <a:lnTo>
                          <a:pt x="533" y="481"/>
                        </a:lnTo>
                        <a:lnTo>
                          <a:pt x="525" y="646"/>
                        </a:lnTo>
                        <a:lnTo>
                          <a:pt x="515" y="774"/>
                        </a:lnTo>
                        <a:lnTo>
                          <a:pt x="511" y="902"/>
                        </a:lnTo>
                        <a:lnTo>
                          <a:pt x="498" y="1038"/>
                        </a:lnTo>
                        <a:lnTo>
                          <a:pt x="480" y="1160"/>
                        </a:lnTo>
                        <a:lnTo>
                          <a:pt x="462" y="1302"/>
                        </a:lnTo>
                        <a:lnTo>
                          <a:pt x="418" y="1448"/>
                        </a:lnTo>
                        <a:lnTo>
                          <a:pt x="365" y="1586"/>
                        </a:lnTo>
                        <a:lnTo>
                          <a:pt x="297" y="1729"/>
                        </a:lnTo>
                        <a:lnTo>
                          <a:pt x="236" y="1838"/>
                        </a:lnTo>
                        <a:lnTo>
                          <a:pt x="156" y="1934"/>
                        </a:lnTo>
                        <a:lnTo>
                          <a:pt x="93" y="2007"/>
                        </a:lnTo>
                        <a:lnTo>
                          <a:pt x="0" y="210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 flipV="1">
                    <a:off x="7367400" y="3173760"/>
                    <a:ext cx="1800" cy="64800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6896520" y="3675600"/>
                    <a:ext cx="208908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6891480" y="3746880"/>
                    <a:ext cx="210780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6901560" y="3893040"/>
                    <a:ext cx="45684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7379640" y="3893040"/>
                    <a:ext cx="44496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7039440" y="3381120"/>
                    <a:ext cx="57060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6995880" y="3452400"/>
                    <a:ext cx="654480" cy="144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6948720" y="3527280"/>
                    <a:ext cx="725760" cy="396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6917400" y="3602520"/>
                    <a:ext cx="786600" cy="144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6906600" y="3966120"/>
                    <a:ext cx="425880" cy="396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6913800" y="4047120"/>
                    <a:ext cx="38736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6922440" y="4122000"/>
                    <a:ext cx="34704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7390440" y="3966120"/>
                    <a:ext cx="422280" cy="396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7407720" y="4047120"/>
                    <a:ext cx="37656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7428960" y="4122000"/>
                    <a:ext cx="33480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7160040" y="3254760"/>
                    <a:ext cx="45180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7092000" y="3325680"/>
                    <a:ext cx="58104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7220880" y="3205080"/>
                    <a:ext cx="31752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>
                    <a:off x="8640000" y="3272400"/>
                    <a:ext cx="164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226">
                        <a:moveTo>
                          <a:pt x="0" y="0"/>
                        </a:moveTo>
                        <a:lnTo>
                          <a:pt x="164" y="98"/>
                        </a:lnTo>
                        <a:lnTo>
                          <a:pt x="360" y="226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>
                    <a:off x="7907040" y="3254760"/>
                    <a:ext cx="68940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7878960" y="3193560"/>
                    <a:ext cx="11484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264">
                        <a:moveTo>
                          <a:pt x="253" y="0"/>
                        </a:moveTo>
                        <a:lnTo>
                          <a:pt x="142" y="100"/>
                        </a:lnTo>
                        <a:lnTo>
                          <a:pt x="62" y="189"/>
                        </a:lnTo>
                        <a:lnTo>
                          <a:pt x="0" y="264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8414640" y="3193560"/>
                    <a:ext cx="404640" cy="11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890" h="2059">
                        <a:moveTo>
                          <a:pt x="0" y="0"/>
                        </a:moveTo>
                        <a:lnTo>
                          <a:pt x="142" y="90"/>
                        </a:lnTo>
                        <a:lnTo>
                          <a:pt x="232" y="162"/>
                        </a:lnTo>
                        <a:lnTo>
                          <a:pt x="303" y="227"/>
                        </a:lnTo>
                        <a:lnTo>
                          <a:pt x="410" y="317"/>
                        </a:lnTo>
                        <a:lnTo>
                          <a:pt x="566" y="468"/>
                        </a:lnTo>
                        <a:lnTo>
                          <a:pt x="707" y="610"/>
                        </a:lnTo>
                        <a:lnTo>
                          <a:pt x="814" y="747"/>
                        </a:lnTo>
                        <a:lnTo>
                          <a:pt x="877" y="875"/>
                        </a:lnTo>
                        <a:lnTo>
                          <a:pt x="886" y="988"/>
                        </a:lnTo>
                        <a:lnTo>
                          <a:pt x="890" y="1129"/>
                        </a:lnTo>
                        <a:lnTo>
                          <a:pt x="890" y="1261"/>
                        </a:lnTo>
                        <a:lnTo>
                          <a:pt x="882" y="1407"/>
                        </a:lnTo>
                        <a:lnTo>
                          <a:pt x="868" y="1540"/>
                        </a:lnTo>
                        <a:lnTo>
                          <a:pt x="860" y="1683"/>
                        </a:lnTo>
                        <a:lnTo>
                          <a:pt x="846" y="1789"/>
                        </a:lnTo>
                        <a:lnTo>
                          <a:pt x="832" y="1940"/>
                        </a:lnTo>
                        <a:lnTo>
                          <a:pt x="801" y="2059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8455320" y="3203280"/>
                    <a:ext cx="425880" cy="1120320"/>
                  </a:xfrm>
                  <a:custGeom>
                    <a:avLst/>
                    <a:gdLst/>
                    <a:ahLst/>
                    <a:rect l="l" t="t" r="r" b="b"/>
                    <a:pathLst>
                      <a:path w="930" h="2036">
                        <a:moveTo>
                          <a:pt x="0" y="0"/>
                        </a:moveTo>
                        <a:lnTo>
                          <a:pt x="135" y="82"/>
                        </a:lnTo>
                        <a:lnTo>
                          <a:pt x="224" y="157"/>
                        </a:lnTo>
                        <a:lnTo>
                          <a:pt x="303" y="222"/>
                        </a:lnTo>
                        <a:lnTo>
                          <a:pt x="414" y="317"/>
                        </a:lnTo>
                        <a:lnTo>
                          <a:pt x="565" y="445"/>
                        </a:lnTo>
                        <a:lnTo>
                          <a:pt x="718" y="583"/>
                        </a:lnTo>
                        <a:lnTo>
                          <a:pt x="846" y="723"/>
                        </a:lnTo>
                        <a:lnTo>
                          <a:pt x="912" y="866"/>
                        </a:lnTo>
                        <a:lnTo>
                          <a:pt x="926" y="996"/>
                        </a:lnTo>
                        <a:lnTo>
                          <a:pt x="930" y="1120"/>
                        </a:lnTo>
                        <a:lnTo>
                          <a:pt x="926" y="1256"/>
                        </a:lnTo>
                        <a:lnTo>
                          <a:pt x="900" y="1388"/>
                        </a:lnTo>
                        <a:lnTo>
                          <a:pt x="882" y="1516"/>
                        </a:lnTo>
                        <a:lnTo>
                          <a:pt x="855" y="1656"/>
                        </a:lnTo>
                        <a:lnTo>
                          <a:pt x="833" y="1785"/>
                        </a:lnTo>
                        <a:lnTo>
                          <a:pt x="801" y="1888"/>
                        </a:lnTo>
                        <a:lnTo>
                          <a:pt x="744" y="2036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8507520" y="3219120"/>
                    <a:ext cx="434520" cy="1094760"/>
                  </a:xfrm>
                  <a:custGeom>
                    <a:avLst/>
                    <a:gdLst/>
                    <a:ahLst/>
                    <a:rect l="l" t="t" r="r" b="b"/>
                    <a:pathLst>
                      <a:path w="952" h="1986">
                        <a:moveTo>
                          <a:pt x="0" y="0"/>
                        </a:moveTo>
                        <a:lnTo>
                          <a:pt x="120" y="80"/>
                        </a:lnTo>
                        <a:lnTo>
                          <a:pt x="262" y="183"/>
                        </a:lnTo>
                        <a:lnTo>
                          <a:pt x="391" y="283"/>
                        </a:lnTo>
                        <a:lnTo>
                          <a:pt x="556" y="419"/>
                        </a:lnTo>
                        <a:lnTo>
                          <a:pt x="716" y="562"/>
                        </a:lnTo>
                        <a:lnTo>
                          <a:pt x="845" y="690"/>
                        </a:lnTo>
                        <a:lnTo>
                          <a:pt x="929" y="830"/>
                        </a:lnTo>
                        <a:lnTo>
                          <a:pt x="938" y="954"/>
                        </a:lnTo>
                        <a:lnTo>
                          <a:pt x="952" y="1090"/>
                        </a:lnTo>
                        <a:lnTo>
                          <a:pt x="934" y="1218"/>
                        </a:lnTo>
                        <a:lnTo>
                          <a:pt x="899" y="1355"/>
                        </a:lnTo>
                        <a:lnTo>
                          <a:pt x="867" y="1495"/>
                        </a:lnTo>
                        <a:lnTo>
                          <a:pt x="831" y="1633"/>
                        </a:lnTo>
                        <a:lnTo>
                          <a:pt x="796" y="1763"/>
                        </a:lnTo>
                        <a:lnTo>
                          <a:pt x="742" y="1869"/>
                        </a:lnTo>
                        <a:lnTo>
                          <a:pt x="676" y="1986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8078040" y="3173760"/>
                    <a:ext cx="48960" cy="11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101">
                        <a:moveTo>
                          <a:pt x="90" y="0"/>
                        </a:moveTo>
                        <a:lnTo>
                          <a:pt x="95" y="62"/>
                        </a:lnTo>
                        <a:lnTo>
                          <a:pt x="99" y="161"/>
                        </a:lnTo>
                        <a:lnTo>
                          <a:pt x="99" y="279"/>
                        </a:lnTo>
                        <a:lnTo>
                          <a:pt x="103" y="392"/>
                        </a:lnTo>
                        <a:lnTo>
                          <a:pt x="107" y="510"/>
                        </a:lnTo>
                        <a:lnTo>
                          <a:pt x="107" y="635"/>
                        </a:lnTo>
                        <a:lnTo>
                          <a:pt x="107" y="784"/>
                        </a:lnTo>
                        <a:lnTo>
                          <a:pt x="107" y="931"/>
                        </a:lnTo>
                        <a:lnTo>
                          <a:pt x="103" y="1035"/>
                        </a:lnTo>
                        <a:lnTo>
                          <a:pt x="99" y="1172"/>
                        </a:lnTo>
                        <a:lnTo>
                          <a:pt x="81" y="1298"/>
                        </a:lnTo>
                        <a:lnTo>
                          <a:pt x="77" y="1441"/>
                        </a:lnTo>
                        <a:lnTo>
                          <a:pt x="64" y="1586"/>
                        </a:lnTo>
                        <a:lnTo>
                          <a:pt x="50" y="1716"/>
                        </a:lnTo>
                        <a:lnTo>
                          <a:pt x="46" y="1841"/>
                        </a:lnTo>
                        <a:lnTo>
                          <a:pt x="28" y="1982"/>
                        </a:lnTo>
                        <a:lnTo>
                          <a:pt x="0" y="210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8097480" y="3168000"/>
                    <a:ext cx="93960" cy="116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106">
                        <a:moveTo>
                          <a:pt x="71" y="0"/>
                        </a:moveTo>
                        <a:lnTo>
                          <a:pt x="89" y="57"/>
                        </a:lnTo>
                        <a:lnTo>
                          <a:pt x="111" y="156"/>
                        </a:lnTo>
                        <a:lnTo>
                          <a:pt x="137" y="273"/>
                        </a:lnTo>
                        <a:lnTo>
                          <a:pt x="150" y="378"/>
                        </a:lnTo>
                        <a:lnTo>
                          <a:pt x="168" y="504"/>
                        </a:lnTo>
                        <a:lnTo>
                          <a:pt x="186" y="638"/>
                        </a:lnTo>
                        <a:lnTo>
                          <a:pt x="200" y="789"/>
                        </a:lnTo>
                        <a:lnTo>
                          <a:pt x="204" y="921"/>
                        </a:lnTo>
                        <a:lnTo>
                          <a:pt x="200" y="1057"/>
                        </a:lnTo>
                        <a:lnTo>
                          <a:pt x="182" y="1190"/>
                        </a:lnTo>
                        <a:lnTo>
                          <a:pt x="168" y="1322"/>
                        </a:lnTo>
                        <a:lnTo>
                          <a:pt x="150" y="1454"/>
                        </a:lnTo>
                        <a:lnTo>
                          <a:pt x="123" y="1595"/>
                        </a:lnTo>
                        <a:lnTo>
                          <a:pt x="97" y="1730"/>
                        </a:lnTo>
                        <a:lnTo>
                          <a:pt x="71" y="1855"/>
                        </a:lnTo>
                        <a:lnTo>
                          <a:pt x="39" y="1987"/>
                        </a:lnTo>
                        <a:lnTo>
                          <a:pt x="0" y="2106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8109720" y="3165480"/>
                    <a:ext cx="128880" cy="116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2110">
                        <a:moveTo>
                          <a:pt x="71" y="0"/>
                        </a:moveTo>
                        <a:lnTo>
                          <a:pt x="103" y="72"/>
                        </a:lnTo>
                        <a:lnTo>
                          <a:pt x="142" y="156"/>
                        </a:lnTo>
                        <a:lnTo>
                          <a:pt x="186" y="273"/>
                        </a:lnTo>
                        <a:lnTo>
                          <a:pt x="222" y="397"/>
                        </a:lnTo>
                        <a:lnTo>
                          <a:pt x="244" y="519"/>
                        </a:lnTo>
                        <a:lnTo>
                          <a:pt x="262" y="642"/>
                        </a:lnTo>
                        <a:lnTo>
                          <a:pt x="279" y="799"/>
                        </a:lnTo>
                        <a:lnTo>
                          <a:pt x="285" y="930"/>
                        </a:lnTo>
                        <a:lnTo>
                          <a:pt x="285" y="1068"/>
                        </a:lnTo>
                        <a:lnTo>
                          <a:pt x="275" y="1190"/>
                        </a:lnTo>
                        <a:lnTo>
                          <a:pt x="257" y="1317"/>
                        </a:lnTo>
                        <a:lnTo>
                          <a:pt x="231" y="1450"/>
                        </a:lnTo>
                        <a:lnTo>
                          <a:pt x="196" y="1595"/>
                        </a:lnTo>
                        <a:lnTo>
                          <a:pt x="156" y="1736"/>
                        </a:lnTo>
                        <a:lnTo>
                          <a:pt x="120" y="1855"/>
                        </a:lnTo>
                        <a:lnTo>
                          <a:pt x="71" y="1983"/>
                        </a:lnTo>
                        <a:lnTo>
                          <a:pt x="0" y="2110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8137440" y="3164040"/>
                    <a:ext cx="164160" cy="11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091">
                        <a:moveTo>
                          <a:pt x="26" y="0"/>
                        </a:moveTo>
                        <a:lnTo>
                          <a:pt x="79" y="69"/>
                        </a:lnTo>
                        <a:lnTo>
                          <a:pt x="141" y="174"/>
                        </a:lnTo>
                        <a:lnTo>
                          <a:pt x="186" y="254"/>
                        </a:lnTo>
                        <a:lnTo>
                          <a:pt x="230" y="357"/>
                        </a:lnTo>
                        <a:lnTo>
                          <a:pt x="279" y="489"/>
                        </a:lnTo>
                        <a:lnTo>
                          <a:pt x="311" y="641"/>
                        </a:lnTo>
                        <a:lnTo>
                          <a:pt x="337" y="807"/>
                        </a:lnTo>
                        <a:lnTo>
                          <a:pt x="351" y="933"/>
                        </a:lnTo>
                        <a:lnTo>
                          <a:pt x="355" y="1061"/>
                        </a:lnTo>
                        <a:lnTo>
                          <a:pt x="333" y="1202"/>
                        </a:lnTo>
                        <a:lnTo>
                          <a:pt x="315" y="1325"/>
                        </a:lnTo>
                        <a:lnTo>
                          <a:pt x="279" y="1462"/>
                        </a:lnTo>
                        <a:lnTo>
                          <a:pt x="230" y="1594"/>
                        </a:lnTo>
                        <a:lnTo>
                          <a:pt x="181" y="1738"/>
                        </a:lnTo>
                        <a:lnTo>
                          <a:pt x="129" y="1858"/>
                        </a:lnTo>
                        <a:lnTo>
                          <a:pt x="66" y="1972"/>
                        </a:lnTo>
                        <a:lnTo>
                          <a:pt x="0" y="209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8158320" y="3164040"/>
                    <a:ext cx="196920" cy="11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2072">
                        <a:moveTo>
                          <a:pt x="8" y="0"/>
                        </a:moveTo>
                        <a:lnTo>
                          <a:pt x="71" y="70"/>
                        </a:lnTo>
                        <a:lnTo>
                          <a:pt x="142" y="164"/>
                        </a:lnTo>
                        <a:lnTo>
                          <a:pt x="200" y="269"/>
                        </a:lnTo>
                        <a:lnTo>
                          <a:pt x="253" y="363"/>
                        </a:lnTo>
                        <a:lnTo>
                          <a:pt x="315" y="495"/>
                        </a:lnTo>
                        <a:lnTo>
                          <a:pt x="364" y="638"/>
                        </a:lnTo>
                        <a:lnTo>
                          <a:pt x="414" y="807"/>
                        </a:lnTo>
                        <a:lnTo>
                          <a:pt x="426" y="934"/>
                        </a:lnTo>
                        <a:lnTo>
                          <a:pt x="432" y="1057"/>
                        </a:lnTo>
                        <a:lnTo>
                          <a:pt x="414" y="1189"/>
                        </a:lnTo>
                        <a:lnTo>
                          <a:pt x="382" y="1321"/>
                        </a:lnTo>
                        <a:lnTo>
                          <a:pt x="333" y="1473"/>
                        </a:lnTo>
                        <a:lnTo>
                          <a:pt x="267" y="1615"/>
                        </a:lnTo>
                        <a:lnTo>
                          <a:pt x="208" y="1744"/>
                        </a:lnTo>
                        <a:lnTo>
                          <a:pt x="137" y="1873"/>
                        </a:lnTo>
                        <a:lnTo>
                          <a:pt x="67" y="1987"/>
                        </a:lnTo>
                        <a:lnTo>
                          <a:pt x="0" y="2072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8175600" y="3164040"/>
                    <a:ext cx="23544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516" h="1261">
                        <a:moveTo>
                          <a:pt x="0" y="0"/>
                        </a:moveTo>
                        <a:lnTo>
                          <a:pt x="98" y="94"/>
                        </a:lnTo>
                        <a:lnTo>
                          <a:pt x="179" y="187"/>
                        </a:lnTo>
                        <a:lnTo>
                          <a:pt x="258" y="277"/>
                        </a:lnTo>
                        <a:lnTo>
                          <a:pt x="339" y="386"/>
                        </a:lnTo>
                        <a:lnTo>
                          <a:pt x="401" y="508"/>
                        </a:lnTo>
                        <a:lnTo>
                          <a:pt x="454" y="638"/>
                        </a:lnTo>
                        <a:lnTo>
                          <a:pt x="498" y="807"/>
                        </a:lnTo>
                        <a:lnTo>
                          <a:pt x="516" y="940"/>
                        </a:lnTo>
                        <a:lnTo>
                          <a:pt x="512" y="1066"/>
                        </a:lnTo>
                        <a:lnTo>
                          <a:pt x="490" y="126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8196840" y="3164040"/>
                    <a:ext cx="486720" cy="11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4" h="2091">
                        <a:moveTo>
                          <a:pt x="0" y="0"/>
                        </a:moveTo>
                        <a:lnTo>
                          <a:pt x="97" y="69"/>
                        </a:lnTo>
                        <a:lnTo>
                          <a:pt x="182" y="145"/>
                        </a:lnTo>
                        <a:lnTo>
                          <a:pt x="301" y="277"/>
                        </a:lnTo>
                        <a:lnTo>
                          <a:pt x="386" y="394"/>
                        </a:lnTo>
                        <a:lnTo>
                          <a:pt x="466" y="522"/>
                        </a:lnTo>
                        <a:lnTo>
                          <a:pt x="523" y="660"/>
                        </a:lnTo>
                        <a:lnTo>
                          <a:pt x="569" y="797"/>
                        </a:lnTo>
                        <a:lnTo>
                          <a:pt x="595" y="935"/>
                        </a:lnTo>
                        <a:lnTo>
                          <a:pt x="599" y="1052"/>
                        </a:lnTo>
                        <a:lnTo>
                          <a:pt x="610" y="1184"/>
                        </a:lnTo>
                        <a:lnTo>
                          <a:pt x="636" y="1317"/>
                        </a:lnTo>
                        <a:lnTo>
                          <a:pt x="681" y="1457"/>
                        </a:lnTo>
                        <a:lnTo>
                          <a:pt x="747" y="1598"/>
                        </a:lnTo>
                        <a:lnTo>
                          <a:pt x="806" y="1729"/>
                        </a:lnTo>
                        <a:lnTo>
                          <a:pt x="876" y="1844"/>
                        </a:lnTo>
                        <a:lnTo>
                          <a:pt x="965" y="1976"/>
                        </a:lnTo>
                        <a:lnTo>
                          <a:pt x="1064" y="209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8227800" y="3165480"/>
                    <a:ext cx="484920" cy="115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4" h="2097">
                        <a:moveTo>
                          <a:pt x="0" y="0"/>
                        </a:moveTo>
                        <a:lnTo>
                          <a:pt x="139" y="90"/>
                        </a:lnTo>
                        <a:lnTo>
                          <a:pt x="240" y="183"/>
                        </a:lnTo>
                        <a:lnTo>
                          <a:pt x="361" y="311"/>
                        </a:lnTo>
                        <a:lnTo>
                          <a:pt x="444" y="420"/>
                        </a:lnTo>
                        <a:lnTo>
                          <a:pt x="529" y="554"/>
                        </a:lnTo>
                        <a:lnTo>
                          <a:pt x="588" y="686"/>
                        </a:lnTo>
                        <a:lnTo>
                          <a:pt x="634" y="822"/>
                        </a:lnTo>
                        <a:lnTo>
                          <a:pt x="660" y="959"/>
                        </a:lnTo>
                        <a:lnTo>
                          <a:pt x="664" y="1076"/>
                        </a:lnTo>
                        <a:lnTo>
                          <a:pt x="673" y="1209"/>
                        </a:lnTo>
                        <a:lnTo>
                          <a:pt x="699" y="1341"/>
                        </a:lnTo>
                        <a:lnTo>
                          <a:pt x="745" y="1482"/>
                        </a:lnTo>
                        <a:lnTo>
                          <a:pt x="784" y="1601"/>
                        </a:lnTo>
                        <a:lnTo>
                          <a:pt x="838" y="1730"/>
                        </a:lnTo>
                        <a:lnTo>
                          <a:pt x="886" y="1850"/>
                        </a:lnTo>
                        <a:lnTo>
                          <a:pt x="953" y="1958"/>
                        </a:lnTo>
                        <a:lnTo>
                          <a:pt x="1064" y="2097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7634520" y="3183480"/>
                    <a:ext cx="382320" cy="11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2087">
                        <a:moveTo>
                          <a:pt x="836" y="0"/>
                        </a:moveTo>
                        <a:lnTo>
                          <a:pt x="743" y="103"/>
                        </a:lnTo>
                        <a:lnTo>
                          <a:pt x="640" y="239"/>
                        </a:lnTo>
                        <a:lnTo>
                          <a:pt x="565" y="357"/>
                        </a:lnTo>
                        <a:lnTo>
                          <a:pt x="489" y="495"/>
                        </a:lnTo>
                        <a:lnTo>
                          <a:pt x="432" y="618"/>
                        </a:lnTo>
                        <a:lnTo>
                          <a:pt x="364" y="759"/>
                        </a:lnTo>
                        <a:lnTo>
                          <a:pt x="325" y="896"/>
                        </a:lnTo>
                        <a:lnTo>
                          <a:pt x="311" y="1015"/>
                        </a:lnTo>
                        <a:lnTo>
                          <a:pt x="289" y="1151"/>
                        </a:lnTo>
                        <a:lnTo>
                          <a:pt x="271" y="1288"/>
                        </a:lnTo>
                        <a:lnTo>
                          <a:pt x="235" y="1429"/>
                        </a:lnTo>
                        <a:lnTo>
                          <a:pt x="205" y="1561"/>
                        </a:lnTo>
                        <a:lnTo>
                          <a:pt x="170" y="1699"/>
                        </a:lnTo>
                        <a:lnTo>
                          <a:pt x="138" y="1819"/>
                        </a:lnTo>
                        <a:lnTo>
                          <a:pt x="94" y="1915"/>
                        </a:lnTo>
                        <a:lnTo>
                          <a:pt x="49" y="1995"/>
                        </a:lnTo>
                        <a:lnTo>
                          <a:pt x="0" y="2087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7833600" y="3169800"/>
                    <a:ext cx="219600" cy="6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0" h="1214">
                        <a:moveTo>
                          <a:pt x="480" y="0"/>
                        </a:moveTo>
                        <a:lnTo>
                          <a:pt x="356" y="156"/>
                        </a:lnTo>
                        <a:lnTo>
                          <a:pt x="276" y="273"/>
                        </a:lnTo>
                        <a:lnTo>
                          <a:pt x="222" y="382"/>
                        </a:lnTo>
                        <a:lnTo>
                          <a:pt x="156" y="514"/>
                        </a:lnTo>
                        <a:lnTo>
                          <a:pt x="97" y="657"/>
                        </a:lnTo>
                        <a:lnTo>
                          <a:pt x="49" y="789"/>
                        </a:lnTo>
                        <a:lnTo>
                          <a:pt x="14" y="927"/>
                        </a:lnTo>
                        <a:lnTo>
                          <a:pt x="4" y="1030"/>
                        </a:lnTo>
                        <a:lnTo>
                          <a:pt x="0" y="1214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7894800" y="3168000"/>
                    <a:ext cx="177840" cy="115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102">
                        <a:moveTo>
                          <a:pt x="392" y="0"/>
                        </a:moveTo>
                        <a:lnTo>
                          <a:pt x="351" y="57"/>
                        </a:lnTo>
                        <a:lnTo>
                          <a:pt x="285" y="156"/>
                        </a:lnTo>
                        <a:lnTo>
                          <a:pt x="218" y="269"/>
                        </a:lnTo>
                        <a:lnTo>
                          <a:pt x="160" y="391"/>
                        </a:lnTo>
                        <a:lnTo>
                          <a:pt x="111" y="525"/>
                        </a:lnTo>
                        <a:lnTo>
                          <a:pt x="67" y="662"/>
                        </a:lnTo>
                        <a:lnTo>
                          <a:pt x="27" y="789"/>
                        </a:lnTo>
                        <a:lnTo>
                          <a:pt x="9" y="912"/>
                        </a:lnTo>
                        <a:lnTo>
                          <a:pt x="0" y="1049"/>
                        </a:lnTo>
                        <a:lnTo>
                          <a:pt x="5" y="1181"/>
                        </a:lnTo>
                        <a:lnTo>
                          <a:pt x="17" y="1307"/>
                        </a:lnTo>
                        <a:lnTo>
                          <a:pt x="49" y="1458"/>
                        </a:lnTo>
                        <a:lnTo>
                          <a:pt x="80" y="1590"/>
                        </a:lnTo>
                        <a:lnTo>
                          <a:pt x="111" y="1740"/>
                        </a:lnTo>
                        <a:lnTo>
                          <a:pt x="160" y="1859"/>
                        </a:lnTo>
                        <a:lnTo>
                          <a:pt x="196" y="1953"/>
                        </a:lnTo>
                        <a:lnTo>
                          <a:pt x="267" y="2102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7950600" y="3168000"/>
                    <a:ext cx="143280" cy="115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2102">
                        <a:moveTo>
                          <a:pt x="311" y="0"/>
                        </a:moveTo>
                        <a:lnTo>
                          <a:pt x="275" y="57"/>
                        </a:lnTo>
                        <a:lnTo>
                          <a:pt x="222" y="156"/>
                        </a:lnTo>
                        <a:lnTo>
                          <a:pt x="156" y="283"/>
                        </a:lnTo>
                        <a:lnTo>
                          <a:pt x="120" y="397"/>
                        </a:lnTo>
                        <a:lnTo>
                          <a:pt x="85" y="530"/>
                        </a:lnTo>
                        <a:lnTo>
                          <a:pt x="49" y="648"/>
                        </a:lnTo>
                        <a:lnTo>
                          <a:pt x="27" y="776"/>
                        </a:lnTo>
                        <a:lnTo>
                          <a:pt x="9" y="906"/>
                        </a:lnTo>
                        <a:lnTo>
                          <a:pt x="0" y="1049"/>
                        </a:lnTo>
                        <a:lnTo>
                          <a:pt x="0" y="1171"/>
                        </a:lnTo>
                        <a:lnTo>
                          <a:pt x="13" y="1313"/>
                        </a:lnTo>
                        <a:lnTo>
                          <a:pt x="35" y="1458"/>
                        </a:lnTo>
                        <a:lnTo>
                          <a:pt x="57" y="1590"/>
                        </a:lnTo>
                        <a:lnTo>
                          <a:pt x="71" y="1730"/>
                        </a:lnTo>
                        <a:lnTo>
                          <a:pt x="103" y="1846"/>
                        </a:lnTo>
                        <a:lnTo>
                          <a:pt x="133" y="1953"/>
                        </a:lnTo>
                        <a:lnTo>
                          <a:pt x="174" y="2102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8010000" y="3169800"/>
                    <a:ext cx="92520" cy="11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097">
                        <a:moveTo>
                          <a:pt x="204" y="0"/>
                        </a:moveTo>
                        <a:lnTo>
                          <a:pt x="174" y="57"/>
                        </a:lnTo>
                        <a:lnTo>
                          <a:pt x="138" y="161"/>
                        </a:lnTo>
                        <a:lnTo>
                          <a:pt x="102" y="275"/>
                        </a:lnTo>
                        <a:lnTo>
                          <a:pt x="81" y="382"/>
                        </a:lnTo>
                        <a:lnTo>
                          <a:pt x="57" y="526"/>
                        </a:lnTo>
                        <a:lnTo>
                          <a:pt x="39" y="667"/>
                        </a:lnTo>
                        <a:lnTo>
                          <a:pt x="27" y="771"/>
                        </a:lnTo>
                        <a:lnTo>
                          <a:pt x="13" y="903"/>
                        </a:lnTo>
                        <a:lnTo>
                          <a:pt x="0" y="1044"/>
                        </a:lnTo>
                        <a:lnTo>
                          <a:pt x="0" y="1181"/>
                        </a:lnTo>
                        <a:lnTo>
                          <a:pt x="0" y="1304"/>
                        </a:lnTo>
                        <a:lnTo>
                          <a:pt x="9" y="1435"/>
                        </a:lnTo>
                        <a:lnTo>
                          <a:pt x="17" y="1581"/>
                        </a:lnTo>
                        <a:lnTo>
                          <a:pt x="31" y="1712"/>
                        </a:lnTo>
                        <a:lnTo>
                          <a:pt x="53" y="1850"/>
                        </a:lnTo>
                        <a:lnTo>
                          <a:pt x="63" y="1949"/>
                        </a:lnTo>
                        <a:lnTo>
                          <a:pt x="75" y="2097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8058960" y="3169800"/>
                    <a:ext cx="55800" cy="116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2111">
                        <a:moveTo>
                          <a:pt x="120" y="0"/>
                        </a:moveTo>
                        <a:lnTo>
                          <a:pt x="98" y="66"/>
                        </a:lnTo>
                        <a:lnTo>
                          <a:pt x="71" y="165"/>
                        </a:lnTo>
                        <a:lnTo>
                          <a:pt x="53" y="278"/>
                        </a:lnTo>
                        <a:lnTo>
                          <a:pt x="45" y="382"/>
                        </a:lnTo>
                        <a:lnTo>
                          <a:pt x="45" y="509"/>
                        </a:lnTo>
                        <a:lnTo>
                          <a:pt x="35" y="639"/>
                        </a:lnTo>
                        <a:lnTo>
                          <a:pt x="35" y="771"/>
                        </a:lnTo>
                        <a:lnTo>
                          <a:pt x="31" y="893"/>
                        </a:lnTo>
                        <a:lnTo>
                          <a:pt x="27" y="1029"/>
                        </a:lnTo>
                        <a:lnTo>
                          <a:pt x="23" y="1176"/>
                        </a:lnTo>
                        <a:lnTo>
                          <a:pt x="13" y="1308"/>
                        </a:lnTo>
                        <a:lnTo>
                          <a:pt x="13" y="1445"/>
                        </a:lnTo>
                        <a:lnTo>
                          <a:pt x="13" y="1585"/>
                        </a:lnTo>
                        <a:lnTo>
                          <a:pt x="9" y="1720"/>
                        </a:lnTo>
                        <a:lnTo>
                          <a:pt x="13" y="1841"/>
                        </a:lnTo>
                        <a:lnTo>
                          <a:pt x="9" y="1959"/>
                        </a:lnTo>
                        <a:lnTo>
                          <a:pt x="0" y="211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7374600" y="3169800"/>
                    <a:ext cx="174240" cy="11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2088">
                        <a:moveTo>
                          <a:pt x="0" y="0"/>
                        </a:moveTo>
                        <a:lnTo>
                          <a:pt x="14" y="52"/>
                        </a:lnTo>
                        <a:lnTo>
                          <a:pt x="32" y="161"/>
                        </a:lnTo>
                        <a:lnTo>
                          <a:pt x="45" y="274"/>
                        </a:lnTo>
                        <a:lnTo>
                          <a:pt x="71" y="425"/>
                        </a:lnTo>
                        <a:lnTo>
                          <a:pt x="85" y="643"/>
                        </a:lnTo>
                        <a:lnTo>
                          <a:pt x="95" y="775"/>
                        </a:lnTo>
                        <a:lnTo>
                          <a:pt x="100" y="903"/>
                        </a:lnTo>
                        <a:lnTo>
                          <a:pt x="104" y="1029"/>
                        </a:lnTo>
                        <a:lnTo>
                          <a:pt x="113" y="1166"/>
                        </a:lnTo>
                        <a:lnTo>
                          <a:pt x="128" y="1299"/>
                        </a:lnTo>
                        <a:lnTo>
                          <a:pt x="150" y="1437"/>
                        </a:lnTo>
                        <a:lnTo>
                          <a:pt x="185" y="1582"/>
                        </a:lnTo>
                        <a:lnTo>
                          <a:pt x="217" y="1726"/>
                        </a:lnTo>
                        <a:lnTo>
                          <a:pt x="252" y="1839"/>
                        </a:lnTo>
                        <a:lnTo>
                          <a:pt x="303" y="1947"/>
                        </a:lnTo>
                        <a:lnTo>
                          <a:pt x="383" y="2088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7381800" y="3173760"/>
                    <a:ext cx="193320" cy="116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2111">
                        <a:moveTo>
                          <a:pt x="0" y="0"/>
                        </a:moveTo>
                        <a:lnTo>
                          <a:pt x="45" y="76"/>
                        </a:lnTo>
                        <a:lnTo>
                          <a:pt x="82" y="147"/>
                        </a:lnTo>
                        <a:lnTo>
                          <a:pt x="117" y="260"/>
                        </a:lnTo>
                        <a:lnTo>
                          <a:pt x="175" y="510"/>
                        </a:lnTo>
                        <a:lnTo>
                          <a:pt x="187" y="635"/>
                        </a:lnTo>
                        <a:lnTo>
                          <a:pt x="201" y="771"/>
                        </a:lnTo>
                        <a:lnTo>
                          <a:pt x="215" y="912"/>
                        </a:lnTo>
                        <a:lnTo>
                          <a:pt x="223" y="1044"/>
                        </a:lnTo>
                        <a:lnTo>
                          <a:pt x="223" y="1162"/>
                        </a:lnTo>
                        <a:lnTo>
                          <a:pt x="237" y="1301"/>
                        </a:lnTo>
                        <a:lnTo>
                          <a:pt x="251" y="1446"/>
                        </a:lnTo>
                        <a:lnTo>
                          <a:pt x="272" y="1583"/>
                        </a:lnTo>
                        <a:lnTo>
                          <a:pt x="290" y="1708"/>
                        </a:lnTo>
                        <a:lnTo>
                          <a:pt x="316" y="1844"/>
                        </a:lnTo>
                        <a:lnTo>
                          <a:pt x="352" y="1943"/>
                        </a:lnTo>
                        <a:lnTo>
                          <a:pt x="423" y="211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7399080" y="3175560"/>
                    <a:ext cx="191880" cy="11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9" h="2101">
                        <a:moveTo>
                          <a:pt x="0" y="0"/>
                        </a:moveTo>
                        <a:lnTo>
                          <a:pt x="55" y="84"/>
                        </a:lnTo>
                        <a:lnTo>
                          <a:pt x="108" y="174"/>
                        </a:lnTo>
                        <a:lnTo>
                          <a:pt x="153" y="277"/>
                        </a:lnTo>
                        <a:lnTo>
                          <a:pt x="193" y="372"/>
                        </a:lnTo>
                        <a:lnTo>
                          <a:pt x="225" y="489"/>
                        </a:lnTo>
                        <a:lnTo>
                          <a:pt x="260" y="656"/>
                        </a:lnTo>
                        <a:lnTo>
                          <a:pt x="282" y="788"/>
                        </a:lnTo>
                        <a:lnTo>
                          <a:pt x="300" y="887"/>
                        </a:lnTo>
                        <a:lnTo>
                          <a:pt x="318" y="1038"/>
                        </a:lnTo>
                        <a:lnTo>
                          <a:pt x="318" y="1162"/>
                        </a:lnTo>
                        <a:lnTo>
                          <a:pt x="312" y="1313"/>
                        </a:lnTo>
                        <a:lnTo>
                          <a:pt x="322" y="1440"/>
                        </a:lnTo>
                        <a:lnTo>
                          <a:pt x="322" y="1572"/>
                        </a:lnTo>
                        <a:lnTo>
                          <a:pt x="330" y="1706"/>
                        </a:lnTo>
                        <a:lnTo>
                          <a:pt x="344" y="1828"/>
                        </a:lnTo>
                        <a:lnTo>
                          <a:pt x="366" y="1937"/>
                        </a:lnTo>
                        <a:lnTo>
                          <a:pt x="389" y="2024"/>
                        </a:lnTo>
                        <a:lnTo>
                          <a:pt x="419" y="210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7414560" y="3177720"/>
                    <a:ext cx="188640" cy="11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2101">
                        <a:moveTo>
                          <a:pt x="0" y="0"/>
                        </a:moveTo>
                        <a:lnTo>
                          <a:pt x="63" y="65"/>
                        </a:lnTo>
                        <a:lnTo>
                          <a:pt x="116" y="136"/>
                        </a:lnTo>
                        <a:lnTo>
                          <a:pt x="186" y="250"/>
                        </a:lnTo>
                        <a:lnTo>
                          <a:pt x="235" y="367"/>
                        </a:lnTo>
                        <a:lnTo>
                          <a:pt x="289" y="499"/>
                        </a:lnTo>
                        <a:lnTo>
                          <a:pt x="333" y="633"/>
                        </a:lnTo>
                        <a:lnTo>
                          <a:pt x="364" y="774"/>
                        </a:lnTo>
                        <a:lnTo>
                          <a:pt x="386" y="902"/>
                        </a:lnTo>
                        <a:lnTo>
                          <a:pt x="396" y="1029"/>
                        </a:lnTo>
                        <a:lnTo>
                          <a:pt x="396" y="1151"/>
                        </a:lnTo>
                        <a:lnTo>
                          <a:pt x="396" y="1304"/>
                        </a:lnTo>
                        <a:lnTo>
                          <a:pt x="396" y="1432"/>
                        </a:lnTo>
                        <a:lnTo>
                          <a:pt x="392" y="1572"/>
                        </a:lnTo>
                        <a:lnTo>
                          <a:pt x="386" y="1710"/>
                        </a:lnTo>
                        <a:lnTo>
                          <a:pt x="392" y="1819"/>
                        </a:lnTo>
                        <a:lnTo>
                          <a:pt x="392" y="1928"/>
                        </a:lnTo>
                        <a:lnTo>
                          <a:pt x="396" y="2014"/>
                        </a:lnTo>
                        <a:lnTo>
                          <a:pt x="410" y="210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7439040" y="3181320"/>
                    <a:ext cx="217800" cy="11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5" h="2101">
                        <a:moveTo>
                          <a:pt x="0" y="0"/>
                        </a:moveTo>
                        <a:lnTo>
                          <a:pt x="66" y="61"/>
                        </a:lnTo>
                        <a:lnTo>
                          <a:pt x="114" y="123"/>
                        </a:lnTo>
                        <a:lnTo>
                          <a:pt x="211" y="259"/>
                        </a:lnTo>
                        <a:lnTo>
                          <a:pt x="269" y="354"/>
                        </a:lnTo>
                        <a:lnTo>
                          <a:pt x="333" y="490"/>
                        </a:lnTo>
                        <a:lnTo>
                          <a:pt x="391" y="633"/>
                        </a:lnTo>
                        <a:lnTo>
                          <a:pt x="440" y="775"/>
                        </a:lnTo>
                        <a:lnTo>
                          <a:pt x="468" y="907"/>
                        </a:lnTo>
                        <a:lnTo>
                          <a:pt x="475" y="1020"/>
                        </a:lnTo>
                        <a:lnTo>
                          <a:pt x="475" y="1153"/>
                        </a:lnTo>
                        <a:lnTo>
                          <a:pt x="472" y="1276"/>
                        </a:lnTo>
                        <a:lnTo>
                          <a:pt x="454" y="1427"/>
                        </a:lnTo>
                        <a:lnTo>
                          <a:pt x="440" y="1549"/>
                        </a:lnTo>
                        <a:lnTo>
                          <a:pt x="427" y="1697"/>
                        </a:lnTo>
                        <a:lnTo>
                          <a:pt x="414" y="1825"/>
                        </a:lnTo>
                        <a:lnTo>
                          <a:pt x="405" y="1924"/>
                        </a:lnTo>
                        <a:lnTo>
                          <a:pt x="391" y="2019"/>
                        </a:lnTo>
                        <a:lnTo>
                          <a:pt x="379" y="210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6891480" y="3164040"/>
                    <a:ext cx="2107800" cy="11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613" h="2136">
                        <a:moveTo>
                          <a:pt x="1744" y="315"/>
                        </a:moveTo>
                        <a:lnTo>
                          <a:pt x="1659" y="226"/>
                        </a:lnTo>
                        <a:lnTo>
                          <a:pt x="1570" y="155"/>
                        </a:lnTo>
                        <a:lnTo>
                          <a:pt x="1455" y="94"/>
                        </a:lnTo>
                        <a:lnTo>
                          <a:pt x="1330" y="50"/>
                        </a:lnTo>
                        <a:lnTo>
                          <a:pt x="1215" y="27"/>
                        </a:lnTo>
                        <a:lnTo>
                          <a:pt x="1089" y="13"/>
                        </a:lnTo>
                        <a:lnTo>
                          <a:pt x="982" y="13"/>
                        </a:lnTo>
                        <a:lnTo>
                          <a:pt x="866" y="23"/>
                        </a:lnTo>
                        <a:lnTo>
                          <a:pt x="728" y="65"/>
                        </a:lnTo>
                        <a:lnTo>
                          <a:pt x="617" y="136"/>
                        </a:lnTo>
                        <a:lnTo>
                          <a:pt x="520" y="212"/>
                        </a:lnTo>
                        <a:lnTo>
                          <a:pt x="435" y="287"/>
                        </a:lnTo>
                        <a:lnTo>
                          <a:pt x="345" y="376"/>
                        </a:lnTo>
                        <a:lnTo>
                          <a:pt x="262" y="476"/>
                        </a:lnTo>
                        <a:lnTo>
                          <a:pt x="193" y="572"/>
                        </a:lnTo>
                        <a:lnTo>
                          <a:pt x="130" y="662"/>
                        </a:lnTo>
                        <a:lnTo>
                          <a:pt x="78" y="747"/>
                        </a:lnTo>
                        <a:lnTo>
                          <a:pt x="40" y="826"/>
                        </a:lnTo>
                        <a:lnTo>
                          <a:pt x="12" y="910"/>
                        </a:lnTo>
                        <a:lnTo>
                          <a:pt x="0" y="1023"/>
                        </a:lnTo>
                        <a:lnTo>
                          <a:pt x="0" y="1139"/>
                        </a:lnTo>
                        <a:lnTo>
                          <a:pt x="7" y="1251"/>
                        </a:lnTo>
                        <a:lnTo>
                          <a:pt x="20" y="1354"/>
                        </a:lnTo>
                        <a:lnTo>
                          <a:pt x="34" y="1471"/>
                        </a:lnTo>
                        <a:lnTo>
                          <a:pt x="52" y="1610"/>
                        </a:lnTo>
                        <a:lnTo>
                          <a:pt x="77" y="1748"/>
                        </a:lnTo>
                        <a:lnTo>
                          <a:pt x="105" y="1871"/>
                        </a:lnTo>
                        <a:lnTo>
                          <a:pt x="137" y="1958"/>
                        </a:lnTo>
                        <a:lnTo>
                          <a:pt x="175" y="2025"/>
                        </a:lnTo>
                        <a:lnTo>
                          <a:pt x="221" y="2086"/>
                        </a:lnTo>
                        <a:lnTo>
                          <a:pt x="270" y="2125"/>
                        </a:lnTo>
                        <a:lnTo>
                          <a:pt x="314" y="2128"/>
                        </a:lnTo>
                        <a:lnTo>
                          <a:pt x="399" y="2114"/>
                        </a:lnTo>
                        <a:lnTo>
                          <a:pt x="491" y="2080"/>
                        </a:lnTo>
                        <a:lnTo>
                          <a:pt x="576" y="2038"/>
                        </a:lnTo>
                        <a:lnTo>
                          <a:pt x="637" y="1987"/>
                        </a:lnTo>
                        <a:lnTo>
                          <a:pt x="714" y="1910"/>
                        </a:lnTo>
                        <a:lnTo>
                          <a:pt x="783" y="1818"/>
                        </a:lnTo>
                        <a:lnTo>
                          <a:pt x="849" y="1693"/>
                        </a:lnTo>
                        <a:lnTo>
                          <a:pt x="916" y="1561"/>
                        </a:lnTo>
                        <a:lnTo>
                          <a:pt x="971" y="1441"/>
                        </a:lnTo>
                        <a:lnTo>
                          <a:pt x="1009" y="1338"/>
                        </a:lnTo>
                        <a:lnTo>
                          <a:pt x="1034" y="1256"/>
                        </a:lnTo>
                        <a:lnTo>
                          <a:pt x="1045" y="1184"/>
                        </a:lnTo>
                        <a:lnTo>
                          <a:pt x="1067" y="1366"/>
                        </a:lnTo>
                        <a:lnTo>
                          <a:pt x="1124" y="1571"/>
                        </a:lnTo>
                        <a:lnTo>
                          <a:pt x="1197" y="1799"/>
                        </a:lnTo>
                        <a:lnTo>
                          <a:pt x="1250" y="1905"/>
                        </a:lnTo>
                        <a:lnTo>
                          <a:pt x="1308" y="1996"/>
                        </a:lnTo>
                        <a:lnTo>
                          <a:pt x="1397" y="2082"/>
                        </a:lnTo>
                        <a:lnTo>
                          <a:pt x="1499" y="2128"/>
                        </a:lnTo>
                        <a:lnTo>
                          <a:pt x="1584" y="2136"/>
                        </a:lnTo>
                        <a:lnTo>
                          <a:pt x="1669" y="2120"/>
                        </a:lnTo>
                        <a:lnTo>
                          <a:pt x="1735" y="2072"/>
                        </a:lnTo>
                        <a:lnTo>
                          <a:pt x="1810" y="1977"/>
                        </a:lnTo>
                        <a:lnTo>
                          <a:pt x="1873" y="1845"/>
                        </a:lnTo>
                        <a:lnTo>
                          <a:pt x="1953" y="1633"/>
                        </a:lnTo>
                        <a:lnTo>
                          <a:pt x="2024" y="1424"/>
                        </a:lnTo>
                        <a:lnTo>
                          <a:pt x="2064" y="1216"/>
                        </a:lnTo>
                        <a:lnTo>
                          <a:pt x="2086" y="1408"/>
                        </a:lnTo>
                        <a:lnTo>
                          <a:pt x="2139" y="1594"/>
                        </a:lnTo>
                        <a:lnTo>
                          <a:pt x="2188" y="1738"/>
                        </a:lnTo>
                        <a:lnTo>
                          <a:pt x="2242" y="1863"/>
                        </a:lnTo>
                        <a:lnTo>
                          <a:pt x="2309" y="1969"/>
                        </a:lnTo>
                        <a:lnTo>
                          <a:pt x="2367" y="2051"/>
                        </a:lnTo>
                        <a:lnTo>
                          <a:pt x="2450" y="2105"/>
                        </a:lnTo>
                        <a:lnTo>
                          <a:pt x="2561" y="2124"/>
                        </a:lnTo>
                        <a:lnTo>
                          <a:pt x="2674" y="2114"/>
                        </a:lnTo>
                        <a:lnTo>
                          <a:pt x="2771" y="2080"/>
                        </a:lnTo>
                        <a:lnTo>
                          <a:pt x="2855" y="2025"/>
                        </a:lnTo>
                        <a:lnTo>
                          <a:pt x="2940" y="1944"/>
                        </a:lnTo>
                        <a:lnTo>
                          <a:pt x="3025" y="1829"/>
                        </a:lnTo>
                        <a:lnTo>
                          <a:pt x="3104" y="1709"/>
                        </a:lnTo>
                        <a:lnTo>
                          <a:pt x="3172" y="1592"/>
                        </a:lnTo>
                        <a:lnTo>
                          <a:pt x="3229" y="1485"/>
                        </a:lnTo>
                        <a:lnTo>
                          <a:pt x="3269" y="1382"/>
                        </a:lnTo>
                        <a:lnTo>
                          <a:pt x="3305" y="1250"/>
                        </a:lnTo>
                        <a:lnTo>
                          <a:pt x="3362" y="1386"/>
                        </a:lnTo>
                        <a:lnTo>
                          <a:pt x="3420" y="1527"/>
                        </a:lnTo>
                        <a:lnTo>
                          <a:pt x="3493" y="1662"/>
                        </a:lnTo>
                        <a:lnTo>
                          <a:pt x="3546" y="1764"/>
                        </a:lnTo>
                        <a:lnTo>
                          <a:pt x="3627" y="1874"/>
                        </a:lnTo>
                        <a:lnTo>
                          <a:pt x="3724" y="1976"/>
                        </a:lnTo>
                        <a:lnTo>
                          <a:pt x="3831" y="2057"/>
                        </a:lnTo>
                        <a:lnTo>
                          <a:pt x="3956" y="2104"/>
                        </a:lnTo>
                        <a:lnTo>
                          <a:pt x="4093" y="2128"/>
                        </a:lnTo>
                        <a:lnTo>
                          <a:pt x="4196" y="2095"/>
                        </a:lnTo>
                        <a:lnTo>
                          <a:pt x="4280" y="2034"/>
                        </a:lnTo>
                        <a:lnTo>
                          <a:pt x="4362" y="1915"/>
                        </a:lnTo>
                        <a:lnTo>
                          <a:pt x="4436" y="1789"/>
                        </a:lnTo>
                        <a:lnTo>
                          <a:pt x="4489" y="1648"/>
                        </a:lnTo>
                        <a:lnTo>
                          <a:pt x="4543" y="1481"/>
                        </a:lnTo>
                        <a:lnTo>
                          <a:pt x="4584" y="1333"/>
                        </a:lnTo>
                        <a:lnTo>
                          <a:pt x="4605" y="1203"/>
                        </a:lnTo>
                        <a:lnTo>
                          <a:pt x="4613" y="1052"/>
                        </a:lnTo>
                        <a:lnTo>
                          <a:pt x="4595" y="939"/>
                        </a:lnTo>
                        <a:lnTo>
                          <a:pt x="4502" y="792"/>
                        </a:lnTo>
                        <a:lnTo>
                          <a:pt x="4369" y="656"/>
                        </a:lnTo>
                        <a:lnTo>
                          <a:pt x="4196" y="518"/>
                        </a:lnTo>
                        <a:lnTo>
                          <a:pt x="4071" y="428"/>
                        </a:lnTo>
                        <a:lnTo>
                          <a:pt x="4204" y="428"/>
                        </a:lnTo>
                        <a:lnTo>
                          <a:pt x="4121" y="344"/>
                        </a:lnTo>
                        <a:lnTo>
                          <a:pt x="3986" y="262"/>
                        </a:lnTo>
                        <a:lnTo>
                          <a:pt x="3815" y="188"/>
                        </a:lnTo>
                        <a:lnTo>
                          <a:pt x="3639" y="126"/>
                        </a:lnTo>
                        <a:lnTo>
                          <a:pt x="3472" y="79"/>
                        </a:lnTo>
                        <a:lnTo>
                          <a:pt x="3296" y="42"/>
                        </a:lnTo>
                        <a:lnTo>
                          <a:pt x="3124" y="13"/>
                        </a:lnTo>
                        <a:lnTo>
                          <a:pt x="2908" y="0"/>
                        </a:lnTo>
                        <a:lnTo>
                          <a:pt x="2718" y="0"/>
                        </a:lnTo>
                        <a:lnTo>
                          <a:pt x="2544" y="8"/>
                        </a:lnTo>
                        <a:lnTo>
                          <a:pt x="2424" y="42"/>
                        </a:lnTo>
                        <a:lnTo>
                          <a:pt x="2317" y="94"/>
                        </a:lnTo>
                        <a:lnTo>
                          <a:pt x="2224" y="164"/>
                        </a:lnTo>
                        <a:lnTo>
                          <a:pt x="2131" y="249"/>
                        </a:lnTo>
                        <a:lnTo>
                          <a:pt x="2077" y="325"/>
                        </a:lnTo>
                        <a:lnTo>
                          <a:pt x="2157" y="325"/>
                        </a:lnTo>
                        <a:lnTo>
                          <a:pt x="2099" y="386"/>
                        </a:lnTo>
                        <a:lnTo>
                          <a:pt x="2042" y="466"/>
                        </a:lnTo>
                        <a:lnTo>
                          <a:pt x="1980" y="561"/>
                        </a:lnTo>
                        <a:lnTo>
                          <a:pt x="1917" y="665"/>
                        </a:lnTo>
                        <a:lnTo>
                          <a:pt x="1863" y="788"/>
                        </a:lnTo>
                        <a:lnTo>
                          <a:pt x="1820" y="948"/>
                        </a:lnTo>
                        <a:lnTo>
                          <a:pt x="1774" y="784"/>
                        </a:lnTo>
                        <a:lnTo>
                          <a:pt x="1726" y="665"/>
                        </a:lnTo>
                        <a:lnTo>
                          <a:pt x="1663" y="534"/>
                        </a:lnTo>
                        <a:lnTo>
                          <a:pt x="1602" y="424"/>
                        </a:lnTo>
                        <a:lnTo>
                          <a:pt x="1516" y="315"/>
                        </a:lnTo>
                        <a:lnTo>
                          <a:pt x="1744" y="315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6980040" y="4294080"/>
                    <a:ext cx="165600" cy="144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49" name=""/>
                  <p:cNvGrpSpPr/>
                  <p:nvPr/>
                </p:nvGrpSpPr>
                <p:grpSpPr>
                  <a:xfrm>
                    <a:off x="6936480" y="4187520"/>
                    <a:ext cx="809640" cy="56880"/>
                    <a:chOff x="6936480" y="4187520"/>
                    <a:chExt cx="809640" cy="56880"/>
                  </a:xfrm>
                </p:grpSpPr>
                <p:sp>
                  <p:nvSpPr>
                    <p:cNvPr id="1750" name=""/>
                    <p:cNvSpPr/>
                    <p:nvPr/>
                  </p:nvSpPr>
                  <p:spPr>
                    <a:xfrm>
                      <a:off x="6936480" y="4187520"/>
                      <a:ext cx="302760" cy="720"/>
                    </a:xfrm>
                    <a:prstGeom prst="line">
                      <a:avLst/>
                    </a:prstGeom>
                    <a:ln w="792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1" name=""/>
                    <p:cNvSpPr/>
                    <p:nvPr/>
                  </p:nvSpPr>
                  <p:spPr>
                    <a:xfrm>
                      <a:off x="6953760" y="4243680"/>
                      <a:ext cx="242280" cy="720"/>
                    </a:xfrm>
                    <a:prstGeom prst="line">
                      <a:avLst/>
                    </a:prstGeom>
                    <a:ln w="792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2" name=""/>
                    <p:cNvSpPr/>
                    <p:nvPr/>
                  </p:nvSpPr>
                  <p:spPr>
                    <a:xfrm>
                      <a:off x="7451640" y="4187520"/>
                      <a:ext cx="294480" cy="720"/>
                    </a:xfrm>
                    <a:prstGeom prst="line">
                      <a:avLst/>
                    </a:prstGeom>
                    <a:ln w="792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3" name=""/>
                    <p:cNvSpPr/>
                    <p:nvPr/>
                  </p:nvSpPr>
                  <p:spPr>
                    <a:xfrm>
                      <a:off x="7481880" y="4243680"/>
                      <a:ext cx="244080" cy="720"/>
                    </a:xfrm>
                    <a:prstGeom prst="line">
                      <a:avLst/>
                    </a:prstGeom>
                    <a:ln w="792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54" name=""/>
                  <p:cNvSpPr/>
                  <p:nvPr/>
                </p:nvSpPr>
                <p:spPr>
                  <a:xfrm>
                    <a:off x="7844040" y="3893040"/>
                    <a:ext cx="54612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7851240" y="3966120"/>
                    <a:ext cx="516240" cy="396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7873560" y="4051440"/>
                    <a:ext cx="466200" cy="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7898400" y="4122000"/>
                    <a:ext cx="406440" cy="216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58" name=""/>
                  <p:cNvGrpSpPr/>
                  <p:nvPr/>
                </p:nvGrpSpPr>
                <p:grpSpPr>
                  <a:xfrm>
                    <a:off x="6952320" y="3165480"/>
                    <a:ext cx="2036160" cy="1173600"/>
                    <a:chOff x="6952320" y="3165480"/>
                    <a:chExt cx="2036160" cy="1173600"/>
                  </a:xfrm>
                </p:grpSpPr>
                <p:sp>
                  <p:nvSpPr>
                    <p:cNvPr id="1759" name=""/>
                    <p:cNvSpPr/>
                    <p:nvPr/>
                  </p:nvSpPr>
                  <p:spPr>
                    <a:xfrm>
                      <a:off x="6952320" y="3177720"/>
                      <a:ext cx="325080" cy="114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2" h="2072">
                          <a:moveTo>
                            <a:pt x="712" y="0"/>
                          </a:moveTo>
                          <a:lnTo>
                            <a:pt x="622" y="52"/>
                          </a:lnTo>
                          <a:lnTo>
                            <a:pt x="494" y="141"/>
                          </a:lnTo>
                          <a:lnTo>
                            <a:pt x="387" y="241"/>
                          </a:lnTo>
                          <a:lnTo>
                            <a:pt x="297" y="355"/>
                          </a:lnTo>
                          <a:lnTo>
                            <a:pt x="212" y="485"/>
                          </a:lnTo>
                          <a:lnTo>
                            <a:pt x="125" y="629"/>
                          </a:lnTo>
                          <a:lnTo>
                            <a:pt x="66" y="757"/>
                          </a:lnTo>
                          <a:lnTo>
                            <a:pt x="14" y="893"/>
                          </a:lnTo>
                          <a:lnTo>
                            <a:pt x="0" y="1015"/>
                          </a:lnTo>
                          <a:lnTo>
                            <a:pt x="0" y="1152"/>
                          </a:lnTo>
                          <a:lnTo>
                            <a:pt x="4" y="1280"/>
                          </a:lnTo>
                          <a:lnTo>
                            <a:pt x="14" y="1426"/>
                          </a:lnTo>
                          <a:lnTo>
                            <a:pt x="26" y="1576"/>
                          </a:lnTo>
                          <a:lnTo>
                            <a:pt x="40" y="1711"/>
                          </a:lnTo>
                          <a:lnTo>
                            <a:pt x="48" y="1827"/>
                          </a:lnTo>
                          <a:lnTo>
                            <a:pt x="66" y="1926"/>
                          </a:lnTo>
                          <a:lnTo>
                            <a:pt x="111" y="2072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99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0" name=""/>
                    <p:cNvSpPr/>
                    <p:nvPr/>
                  </p:nvSpPr>
                  <p:spPr>
                    <a:xfrm>
                      <a:off x="8327160" y="3173040"/>
                      <a:ext cx="439920" cy="116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3" h="2101">
                          <a:moveTo>
                            <a:pt x="0" y="0"/>
                          </a:moveTo>
                          <a:lnTo>
                            <a:pt x="156" y="89"/>
                          </a:lnTo>
                          <a:lnTo>
                            <a:pt x="263" y="174"/>
                          </a:lnTo>
                          <a:lnTo>
                            <a:pt x="362" y="258"/>
                          </a:lnTo>
                          <a:lnTo>
                            <a:pt x="447" y="367"/>
                          </a:lnTo>
                          <a:lnTo>
                            <a:pt x="553" y="489"/>
                          </a:lnTo>
                          <a:lnTo>
                            <a:pt x="673" y="642"/>
                          </a:lnTo>
                          <a:lnTo>
                            <a:pt x="766" y="784"/>
                          </a:lnTo>
                          <a:lnTo>
                            <a:pt x="816" y="910"/>
                          </a:lnTo>
                          <a:lnTo>
                            <a:pt x="828" y="1034"/>
                          </a:lnTo>
                          <a:lnTo>
                            <a:pt x="824" y="1166"/>
                          </a:lnTo>
                          <a:lnTo>
                            <a:pt x="834" y="1311"/>
                          </a:lnTo>
                          <a:lnTo>
                            <a:pt x="846" y="1448"/>
                          </a:lnTo>
                          <a:lnTo>
                            <a:pt x="856" y="1571"/>
                          </a:lnTo>
                          <a:lnTo>
                            <a:pt x="873" y="1721"/>
                          </a:lnTo>
                          <a:lnTo>
                            <a:pt x="887" y="1848"/>
                          </a:lnTo>
                          <a:lnTo>
                            <a:pt x="917" y="1985"/>
                          </a:lnTo>
                          <a:lnTo>
                            <a:pt x="963" y="2101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99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1" name=""/>
                    <p:cNvSpPr/>
                    <p:nvPr/>
                  </p:nvSpPr>
                  <p:spPr>
                    <a:xfrm>
                      <a:off x="7966440" y="3204000"/>
                      <a:ext cx="457560" cy="1080"/>
                    </a:xfrm>
                    <a:prstGeom prst="line">
                      <a:avLst/>
                    </a:prstGeom>
                    <a:ln w="792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62" name=""/>
                    <p:cNvGrpSpPr/>
                    <p:nvPr/>
                  </p:nvGrpSpPr>
                  <p:grpSpPr>
                    <a:xfrm>
                      <a:off x="8259840" y="3165480"/>
                      <a:ext cx="728640" cy="1173600"/>
                      <a:chOff x="8259840" y="3165480"/>
                      <a:chExt cx="728640" cy="1173600"/>
                    </a:xfrm>
                  </p:grpSpPr>
                  <p:sp>
                    <p:nvSpPr>
                      <p:cNvPr id="1763" name=""/>
                      <p:cNvSpPr/>
                      <p:nvPr/>
                    </p:nvSpPr>
                    <p:spPr>
                      <a:xfrm>
                        <a:off x="8259840" y="3165480"/>
                        <a:ext cx="492120" cy="117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8" h="2124">
                            <a:moveTo>
                              <a:pt x="0" y="0"/>
                            </a:moveTo>
                            <a:lnTo>
                              <a:pt x="133" y="90"/>
                            </a:lnTo>
                            <a:lnTo>
                              <a:pt x="253" y="189"/>
                            </a:lnTo>
                            <a:lnTo>
                              <a:pt x="347" y="273"/>
                            </a:lnTo>
                            <a:lnTo>
                              <a:pt x="444" y="390"/>
                            </a:lnTo>
                            <a:lnTo>
                              <a:pt x="535" y="518"/>
                            </a:lnTo>
                            <a:lnTo>
                              <a:pt x="615" y="648"/>
                            </a:lnTo>
                            <a:lnTo>
                              <a:pt x="673" y="788"/>
                            </a:lnTo>
                            <a:lnTo>
                              <a:pt x="709" y="921"/>
                            </a:lnTo>
                            <a:lnTo>
                              <a:pt x="721" y="1044"/>
                            </a:lnTo>
                            <a:lnTo>
                              <a:pt x="727" y="1180"/>
                            </a:lnTo>
                            <a:lnTo>
                              <a:pt x="749" y="1317"/>
                            </a:lnTo>
                            <a:lnTo>
                              <a:pt x="770" y="1449"/>
                            </a:lnTo>
                            <a:lnTo>
                              <a:pt x="802" y="1581"/>
                            </a:lnTo>
                            <a:lnTo>
                              <a:pt x="842" y="1735"/>
                            </a:lnTo>
                            <a:lnTo>
                              <a:pt x="891" y="1850"/>
                            </a:lnTo>
                            <a:lnTo>
                              <a:pt x="971" y="1982"/>
                            </a:lnTo>
                            <a:lnTo>
                              <a:pt x="1078" y="2124"/>
                            </a:lnTo>
                          </a:path>
                        </a:pathLst>
                      </a:custGeom>
                      <a:noFill/>
                      <a:ln w="792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4" name=""/>
                      <p:cNvSpPr/>
                      <p:nvPr/>
                    </p:nvSpPr>
                    <p:spPr>
                      <a:xfrm>
                        <a:off x="8294400" y="3173040"/>
                        <a:ext cx="469440" cy="116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9" h="2110">
                            <a:moveTo>
                              <a:pt x="0" y="0"/>
                            </a:moveTo>
                            <a:lnTo>
                              <a:pt x="157" y="99"/>
                            </a:lnTo>
                            <a:lnTo>
                              <a:pt x="276" y="187"/>
                            </a:lnTo>
                            <a:lnTo>
                              <a:pt x="365" y="273"/>
                            </a:lnTo>
                            <a:lnTo>
                              <a:pt x="447" y="372"/>
                            </a:lnTo>
                            <a:lnTo>
                              <a:pt x="535" y="489"/>
                            </a:lnTo>
                            <a:lnTo>
                              <a:pt x="642" y="642"/>
                            </a:lnTo>
                            <a:lnTo>
                              <a:pt x="717" y="778"/>
                            </a:lnTo>
                            <a:lnTo>
                              <a:pt x="767" y="921"/>
                            </a:lnTo>
                            <a:lnTo>
                              <a:pt x="771" y="1047"/>
                            </a:lnTo>
                            <a:lnTo>
                              <a:pt x="776" y="1166"/>
                            </a:lnTo>
                            <a:lnTo>
                              <a:pt x="789" y="1284"/>
                            </a:lnTo>
                            <a:lnTo>
                              <a:pt x="802" y="1420"/>
                            </a:lnTo>
                            <a:lnTo>
                              <a:pt x="828" y="1575"/>
                            </a:lnTo>
                            <a:lnTo>
                              <a:pt x="856" y="1711"/>
                            </a:lnTo>
                            <a:lnTo>
                              <a:pt x="882" y="1825"/>
                            </a:lnTo>
                            <a:lnTo>
                              <a:pt x="927" y="1943"/>
                            </a:lnTo>
                            <a:lnTo>
                              <a:pt x="1029" y="2110"/>
                            </a:lnTo>
                          </a:path>
                        </a:pathLst>
                      </a:custGeom>
                      <a:noFill/>
                      <a:ln w="792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5" name=""/>
                      <p:cNvSpPr/>
                      <p:nvPr/>
                    </p:nvSpPr>
                    <p:spPr>
                      <a:xfrm>
                        <a:off x="8367480" y="3179520"/>
                        <a:ext cx="404640" cy="115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6" h="2092">
                            <a:moveTo>
                              <a:pt x="0" y="0"/>
                            </a:moveTo>
                            <a:lnTo>
                              <a:pt x="125" y="71"/>
                            </a:lnTo>
                            <a:lnTo>
                              <a:pt x="218" y="136"/>
                            </a:lnTo>
                            <a:lnTo>
                              <a:pt x="317" y="226"/>
                            </a:lnTo>
                            <a:lnTo>
                              <a:pt x="432" y="339"/>
                            </a:lnTo>
                            <a:lnTo>
                              <a:pt x="567" y="486"/>
                            </a:lnTo>
                            <a:lnTo>
                              <a:pt x="696" y="624"/>
                            </a:lnTo>
                            <a:lnTo>
                              <a:pt x="793" y="760"/>
                            </a:lnTo>
                            <a:lnTo>
                              <a:pt x="856" y="901"/>
                            </a:lnTo>
                            <a:lnTo>
                              <a:pt x="864" y="1025"/>
                            </a:lnTo>
                            <a:lnTo>
                              <a:pt x="874" y="1157"/>
                            </a:lnTo>
                            <a:lnTo>
                              <a:pt x="874" y="1283"/>
                            </a:lnTo>
                            <a:lnTo>
                              <a:pt x="874" y="1430"/>
                            </a:lnTo>
                            <a:lnTo>
                              <a:pt x="874" y="1566"/>
                            </a:lnTo>
                            <a:lnTo>
                              <a:pt x="868" y="1706"/>
                            </a:lnTo>
                            <a:lnTo>
                              <a:pt x="868" y="1826"/>
                            </a:lnTo>
                            <a:lnTo>
                              <a:pt x="882" y="1972"/>
                            </a:lnTo>
                            <a:lnTo>
                              <a:pt x="886" y="2092"/>
                            </a:lnTo>
                          </a:path>
                        </a:pathLst>
                      </a:custGeom>
                      <a:noFill/>
                      <a:ln w="792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6" name=""/>
                      <p:cNvSpPr/>
                      <p:nvPr/>
                    </p:nvSpPr>
                    <p:spPr>
                      <a:xfrm>
                        <a:off x="8419320" y="3891960"/>
                        <a:ext cx="569160" cy="720"/>
                      </a:xfrm>
                      <a:prstGeom prst="line">
                        <a:avLst/>
                      </a:prstGeom>
                      <a:ln w="792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7" name=""/>
                      <p:cNvSpPr/>
                      <p:nvPr/>
                    </p:nvSpPr>
                    <p:spPr>
                      <a:xfrm>
                        <a:off x="8440560" y="3966840"/>
                        <a:ext cx="528840" cy="720"/>
                      </a:xfrm>
                      <a:prstGeom prst="line">
                        <a:avLst/>
                      </a:prstGeom>
                      <a:ln w="792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8" name=""/>
                      <p:cNvSpPr/>
                      <p:nvPr/>
                    </p:nvSpPr>
                    <p:spPr>
                      <a:xfrm>
                        <a:off x="8473320" y="4047480"/>
                        <a:ext cx="471240" cy="1080"/>
                      </a:xfrm>
                      <a:prstGeom prst="line">
                        <a:avLst/>
                      </a:prstGeom>
                      <a:ln w="792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9" name=""/>
                      <p:cNvSpPr/>
                      <p:nvPr/>
                    </p:nvSpPr>
                    <p:spPr>
                      <a:xfrm>
                        <a:off x="8505360" y="4120560"/>
                        <a:ext cx="419040" cy="720"/>
                      </a:xfrm>
                      <a:prstGeom prst="line">
                        <a:avLst/>
                      </a:prstGeom>
                      <a:ln w="792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0" name=""/>
                      <p:cNvSpPr/>
                      <p:nvPr/>
                    </p:nvSpPr>
                    <p:spPr>
                      <a:xfrm>
                        <a:off x="8545680" y="4189680"/>
                        <a:ext cx="353160" cy="1080"/>
                      </a:xfrm>
                      <a:prstGeom prst="line">
                        <a:avLst/>
                      </a:prstGeom>
                      <a:ln w="792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1" name=""/>
                      <p:cNvSpPr/>
                      <p:nvPr/>
                    </p:nvSpPr>
                    <p:spPr>
                      <a:xfrm>
                        <a:off x="8587800" y="4247280"/>
                        <a:ext cx="281880" cy="720"/>
                      </a:xfrm>
                      <a:prstGeom prst="line">
                        <a:avLst/>
                      </a:prstGeom>
                      <a:ln w="792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2" name=""/>
                      <p:cNvSpPr/>
                      <p:nvPr/>
                    </p:nvSpPr>
                    <p:spPr>
                      <a:xfrm>
                        <a:off x="8640360" y="4296960"/>
                        <a:ext cx="195480" cy="1080"/>
                      </a:xfrm>
                      <a:prstGeom prst="line">
                        <a:avLst/>
                      </a:prstGeom>
                      <a:ln w="792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773" name=""/>
                  <p:cNvGrpSpPr/>
                  <p:nvPr/>
                </p:nvGrpSpPr>
                <p:grpSpPr>
                  <a:xfrm>
                    <a:off x="6992280" y="3201120"/>
                    <a:ext cx="1942920" cy="1140120"/>
                    <a:chOff x="6992280" y="3201120"/>
                    <a:chExt cx="1942920" cy="1140120"/>
                  </a:xfrm>
                </p:grpSpPr>
                <p:sp>
                  <p:nvSpPr>
                    <p:cNvPr id="1774" name=""/>
                    <p:cNvSpPr/>
                    <p:nvPr/>
                  </p:nvSpPr>
                  <p:spPr>
                    <a:xfrm>
                      <a:off x="8043480" y="3470400"/>
                      <a:ext cx="900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1">
                          <a:moveTo>
                            <a:pt x="20" y="1"/>
                          </a:moveTo>
                          <a:lnTo>
                            <a:pt x="20" y="20"/>
                          </a:lnTo>
                          <a:lnTo>
                            <a:pt x="13" y="21"/>
                          </a:lnTo>
                          <a:lnTo>
                            <a:pt x="0" y="4"/>
                          </a:lnTo>
                          <a:lnTo>
                            <a:pt x="8" y="0"/>
                          </a:lnTo>
                          <a:lnTo>
                            <a:pt x="20" y="1"/>
                          </a:lnTo>
                          <a:close/>
                        </a:path>
                      </a:pathLst>
                    </a:custGeom>
                    <a:solidFill>
                      <a:srgbClr val="ccffcc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5" name=""/>
                    <p:cNvSpPr/>
                    <p:nvPr/>
                  </p:nvSpPr>
                  <p:spPr>
                    <a:xfrm>
                      <a:off x="8026200" y="3449520"/>
                      <a:ext cx="828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2">
                          <a:moveTo>
                            <a:pt x="18" y="0"/>
                          </a:moveTo>
                          <a:lnTo>
                            <a:pt x="0" y="6"/>
                          </a:lnTo>
                          <a:lnTo>
                            <a:pt x="3" y="32"/>
                          </a:lnTo>
                          <a:lnTo>
                            <a:pt x="15" y="29"/>
                          </a:lnTo>
                          <a:lnTo>
                            <a:pt x="18" y="0"/>
                          </a:lnTo>
                          <a:close/>
                        </a:path>
                      </a:pathLst>
                    </a:custGeom>
                    <a:solidFill>
                      <a:srgbClr val="ccffcc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76" name=""/>
                    <p:cNvGrpSpPr/>
                    <p:nvPr/>
                  </p:nvGrpSpPr>
                  <p:grpSpPr>
                    <a:xfrm>
                      <a:off x="6992280" y="3201120"/>
                      <a:ext cx="1942920" cy="1140120"/>
                      <a:chOff x="6992280" y="3201120"/>
                      <a:chExt cx="1942920" cy="1140120"/>
                    </a:xfrm>
                  </p:grpSpPr>
                  <p:grpSp>
                    <p:nvGrpSpPr>
                      <p:cNvPr id="1777" name=""/>
                      <p:cNvGrpSpPr/>
                      <p:nvPr/>
                    </p:nvGrpSpPr>
                    <p:grpSpPr>
                      <a:xfrm>
                        <a:off x="7855920" y="3203280"/>
                        <a:ext cx="1079280" cy="1133280"/>
                        <a:chOff x="7855920" y="3203280"/>
                        <a:chExt cx="1079280" cy="1133280"/>
                      </a:xfrm>
                    </p:grpSpPr>
                    <p:grpSp>
                      <p:nvGrpSpPr>
                        <p:cNvPr id="1778" name=""/>
                        <p:cNvGrpSpPr/>
                        <p:nvPr/>
                      </p:nvGrpSpPr>
                      <p:grpSpPr>
                        <a:xfrm>
                          <a:off x="8598960" y="3768480"/>
                          <a:ext cx="336240" cy="568080"/>
                          <a:chOff x="8598960" y="3768480"/>
                          <a:chExt cx="336240" cy="568080"/>
                        </a:xfrm>
                      </p:grpSpPr>
                      <p:sp>
                        <p:nvSpPr>
                          <p:cNvPr id="1779" name=""/>
                          <p:cNvSpPr/>
                          <p:nvPr/>
                        </p:nvSpPr>
                        <p:spPr>
                          <a:xfrm>
                            <a:off x="8598960" y="4229640"/>
                            <a:ext cx="240120" cy="106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25" h="194">
                                <a:moveTo>
                                  <a:pt x="49" y="7"/>
                                </a:moveTo>
                                <a:lnTo>
                                  <a:pt x="103" y="7"/>
                                </a:lnTo>
                                <a:lnTo>
                                  <a:pt x="121" y="9"/>
                                </a:lnTo>
                                <a:lnTo>
                                  <a:pt x="141" y="11"/>
                                </a:lnTo>
                                <a:lnTo>
                                  <a:pt x="149" y="16"/>
                                </a:lnTo>
                                <a:lnTo>
                                  <a:pt x="158" y="10"/>
                                </a:lnTo>
                                <a:lnTo>
                                  <a:pt x="169" y="6"/>
                                </a:lnTo>
                                <a:lnTo>
                                  <a:pt x="177" y="3"/>
                                </a:lnTo>
                                <a:lnTo>
                                  <a:pt x="189" y="1"/>
                                </a:lnTo>
                                <a:lnTo>
                                  <a:pt x="196" y="1"/>
                                </a:lnTo>
                                <a:lnTo>
                                  <a:pt x="202" y="1"/>
                                </a:lnTo>
                                <a:lnTo>
                                  <a:pt x="208" y="0"/>
                                </a:lnTo>
                                <a:lnTo>
                                  <a:pt x="221" y="10"/>
                                </a:lnTo>
                                <a:lnTo>
                                  <a:pt x="225" y="10"/>
                                </a:lnTo>
                                <a:lnTo>
                                  <a:pt x="229" y="16"/>
                                </a:lnTo>
                                <a:lnTo>
                                  <a:pt x="232" y="17"/>
                                </a:lnTo>
                                <a:lnTo>
                                  <a:pt x="243" y="16"/>
                                </a:lnTo>
                                <a:lnTo>
                                  <a:pt x="251" y="16"/>
                                </a:lnTo>
                                <a:lnTo>
                                  <a:pt x="261" y="16"/>
                                </a:lnTo>
                                <a:lnTo>
                                  <a:pt x="266" y="16"/>
                                </a:lnTo>
                                <a:lnTo>
                                  <a:pt x="274" y="16"/>
                                </a:lnTo>
                                <a:lnTo>
                                  <a:pt x="280" y="10"/>
                                </a:lnTo>
                                <a:lnTo>
                                  <a:pt x="285" y="7"/>
                                </a:lnTo>
                                <a:lnTo>
                                  <a:pt x="293" y="6"/>
                                </a:lnTo>
                                <a:lnTo>
                                  <a:pt x="296" y="6"/>
                                </a:lnTo>
                                <a:lnTo>
                                  <a:pt x="303" y="4"/>
                                </a:lnTo>
                                <a:lnTo>
                                  <a:pt x="314" y="7"/>
                                </a:lnTo>
                                <a:lnTo>
                                  <a:pt x="324" y="9"/>
                                </a:lnTo>
                                <a:lnTo>
                                  <a:pt x="335" y="10"/>
                                </a:lnTo>
                                <a:lnTo>
                                  <a:pt x="354" y="13"/>
                                </a:lnTo>
                                <a:lnTo>
                                  <a:pt x="377" y="20"/>
                                </a:lnTo>
                                <a:lnTo>
                                  <a:pt x="385" y="22"/>
                                </a:lnTo>
                                <a:lnTo>
                                  <a:pt x="396" y="25"/>
                                </a:lnTo>
                                <a:lnTo>
                                  <a:pt x="407" y="26"/>
                                </a:lnTo>
                                <a:lnTo>
                                  <a:pt x="416" y="30"/>
                                </a:lnTo>
                                <a:lnTo>
                                  <a:pt x="421" y="32"/>
                                </a:lnTo>
                                <a:lnTo>
                                  <a:pt x="433" y="29"/>
                                </a:lnTo>
                                <a:lnTo>
                                  <a:pt x="439" y="25"/>
                                </a:lnTo>
                                <a:lnTo>
                                  <a:pt x="448" y="25"/>
                                </a:lnTo>
                                <a:lnTo>
                                  <a:pt x="459" y="29"/>
                                </a:lnTo>
                                <a:lnTo>
                                  <a:pt x="464" y="30"/>
                                </a:lnTo>
                                <a:lnTo>
                                  <a:pt x="474" y="32"/>
                                </a:lnTo>
                                <a:lnTo>
                                  <a:pt x="479" y="35"/>
                                </a:lnTo>
                                <a:lnTo>
                                  <a:pt x="485" y="38"/>
                                </a:lnTo>
                                <a:lnTo>
                                  <a:pt x="495" y="43"/>
                                </a:lnTo>
                                <a:lnTo>
                                  <a:pt x="502" y="45"/>
                                </a:lnTo>
                                <a:lnTo>
                                  <a:pt x="507" y="49"/>
                                </a:lnTo>
                                <a:lnTo>
                                  <a:pt x="514" y="54"/>
                                </a:lnTo>
                                <a:lnTo>
                                  <a:pt x="518" y="56"/>
                                </a:lnTo>
                                <a:lnTo>
                                  <a:pt x="522" y="62"/>
                                </a:lnTo>
                                <a:lnTo>
                                  <a:pt x="522" y="67"/>
                                </a:lnTo>
                                <a:lnTo>
                                  <a:pt x="525" y="71"/>
                                </a:lnTo>
                                <a:lnTo>
                                  <a:pt x="518" y="77"/>
                                </a:lnTo>
                                <a:lnTo>
                                  <a:pt x="509" y="80"/>
                                </a:lnTo>
                                <a:lnTo>
                                  <a:pt x="499" y="88"/>
                                </a:lnTo>
                                <a:lnTo>
                                  <a:pt x="487" y="90"/>
                                </a:lnTo>
                                <a:lnTo>
                                  <a:pt x="479" y="97"/>
                                </a:lnTo>
                                <a:lnTo>
                                  <a:pt x="474" y="103"/>
                                </a:lnTo>
                                <a:lnTo>
                                  <a:pt x="470" y="107"/>
                                </a:lnTo>
                                <a:lnTo>
                                  <a:pt x="479" y="112"/>
                                </a:lnTo>
                                <a:lnTo>
                                  <a:pt x="479" y="116"/>
                                </a:lnTo>
                                <a:lnTo>
                                  <a:pt x="469" y="122"/>
                                </a:lnTo>
                                <a:lnTo>
                                  <a:pt x="462" y="128"/>
                                </a:lnTo>
                                <a:lnTo>
                                  <a:pt x="457" y="133"/>
                                </a:lnTo>
                                <a:lnTo>
                                  <a:pt x="451" y="135"/>
                                </a:lnTo>
                                <a:lnTo>
                                  <a:pt x="447" y="135"/>
                                </a:lnTo>
                                <a:lnTo>
                                  <a:pt x="436" y="138"/>
                                </a:lnTo>
                                <a:lnTo>
                                  <a:pt x="432" y="146"/>
                                </a:lnTo>
                                <a:lnTo>
                                  <a:pt x="425" y="152"/>
                                </a:lnTo>
                                <a:lnTo>
                                  <a:pt x="461" y="158"/>
                                </a:lnTo>
                                <a:lnTo>
                                  <a:pt x="457" y="164"/>
                                </a:lnTo>
                                <a:lnTo>
                                  <a:pt x="440" y="168"/>
                                </a:lnTo>
                                <a:lnTo>
                                  <a:pt x="417" y="165"/>
                                </a:lnTo>
                                <a:lnTo>
                                  <a:pt x="398" y="168"/>
                                </a:lnTo>
                                <a:lnTo>
                                  <a:pt x="380" y="174"/>
                                </a:lnTo>
                                <a:lnTo>
                                  <a:pt x="372" y="181"/>
                                </a:lnTo>
                                <a:lnTo>
                                  <a:pt x="369" y="193"/>
                                </a:lnTo>
                                <a:lnTo>
                                  <a:pt x="351" y="194"/>
                                </a:lnTo>
                                <a:lnTo>
                                  <a:pt x="333" y="192"/>
                                </a:lnTo>
                                <a:lnTo>
                                  <a:pt x="306" y="189"/>
                                </a:lnTo>
                                <a:lnTo>
                                  <a:pt x="293" y="184"/>
                                </a:lnTo>
                                <a:lnTo>
                                  <a:pt x="273" y="180"/>
                                </a:lnTo>
                                <a:lnTo>
                                  <a:pt x="258" y="177"/>
                                </a:lnTo>
                                <a:lnTo>
                                  <a:pt x="241" y="174"/>
                                </a:lnTo>
                                <a:lnTo>
                                  <a:pt x="221" y="171"/>
                                </a:lnTo>
                                <a:lnTo>
                                  <a:pt x="207" y="164"/>
                                </a:lnTo>
                                <a:lnTo>
                                  <a:pt x="195" y="161"/>
                                </a:lnTo>
                                <a:lnTo>
                                  <a:pt x="191" y="160"/>
                                </a:lnTo>
                                <a:lnTo>
                                  <a:pt x="169" y="154"/>
                                </a:lnTo>
                                <a:lnTo>
                                  <a:pt x="147" y="144"/>
                                </a:lnTo>
                                <a:lnTo>
                                  <a:pt x="128" y="136"/>
                                </a:lnTo>
                                <a:lnTo>
                                  <a:pt x="118" y="131"/>
                                </a:lnTo>
                                <a:lnTo>
                                  <a:pt x="104" y="125"/>
                                </a:lnTo>
                                <a:lnTo>
                                  <a:pt x="93" y="119"/>
                                </a:lnTo>
                                <a:lnTo>
                                  <a:pt x="81" y="113"/>
                                </a:lnTo>
                                <a:lnTo>
                                  <a:pt x="70" y="106"/>
                                </a:lnTo>
                                <a:lnTo>
                                  <a:pt x="60" y="97"/>
                                </a:lnTo>
                                <a:lnTo>
                                  <a:pt x="49" y="88"/>
                                </a:lnTo>
                                <a:lnTo>
                                  <a:pt x="38" y="81"/>
                                </a:lnTo>
                                <a:lnTo>
                                  <a:pt x="25" y="70"/>
                                </a:lnTo>
                                <a:lnTo>
                                  <a:pt x="14" y="62"/>
                                </a:lnTo>
                                <a:lnTo>
                                  <a:pt x="4" y="55"/>
                                </a:lnTo>
                                <a:lnTo>
                                  <a:pt x="0" y="48"/>
                                </a:lnTo>
                                <a:lnTo>
                                  <a:pt x="15" y="43"/>
                                </a:lnTo>
                                <a:lnTo>
                                  <a:pt x="7" y="27"/>
                                </a:lnTo>
                                <a:lnTo>
                                  <a:pt x="27" y="22"/>
                                </a:lnTo>
                                <a:lnTo>
                                  <a:pt x="19" y="16"/>
                                </a:lnTo>
                                <a:lnTo>
                                  <a:pt x="41" y="13"/>
                                </a:lnTo>
                                <a:lnTo>
                                  <a:pt x="49" y="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780" name=""/>
                          <p:cNvGrpSpPr/>
                          <p:nvPr/>
                        </p:nvGrpSpPr>
                        <p:grpSpPr>
                          <a:xfrm>
                            <a:off x="8776800" y="3996720"/>
                            <a:ext cx="158400" cy="95400"/>
                            <a:chOff x="8776800" y="3996720"/>
                            <a:chExt cx="158400" cy="95400"/>
                          </a:xfrm>
                        </p:grpSpPr>
                        <p:sp>
                          <p:nvSpPr>
                            <p:cNvPr id="1781" name=""/>
                            <p:cNvSpPr/>
                            <p:nvPr/>
                          </p:nvSpPr>
                          <p:spPr>
                            <a:xfrm>
                              <a:off x="8910000" y="3996720"/>
                              <a:ext cx="25200" cy="58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5" h="108">
                                  <a:moveTo>
                                    <a:pt x="18" y="2"/>
                                  </a:moveTo>
                                  <a:lnTo>
                                    <a:pt x="23" y="0"/>
                                  </a:lnTo>
                                  <a:lnTo>
                                    <a:pt x="33" y="12"/>
                                  </a:lnTo>
                                  <a:lnTo>
                                    <a:pt x="31" y="45"/>
                                  </a:lnTo>
                                  <a:lnTo>
                                    <a:pt x="38" y="45"/>
                                  </a:lnTo>
                                  <a:lnTo>
                                    <a:pt x="40" y="50"/>
                                  </a:lnTo>
                                  <a:lnTo>
                                    <a:pt x="42" y="57"/>
                                  </a:lnTo>
                                  <a:lnTo>
                                    <a:pt x="44" y="61"/>
                                  </a:lnTo>
                                  <a:lnTo>
                                    <a:pt x="49" y="60"/>
                                  </a:lnTo>
                                  <a:lnTo>
                                    <a:pt x="53" y="53"/>
                                  </a:lnTo>
                                  <a:lnTo>
                                    <a:pt x="55" y="57"/>
                                  </a:lnTo>
                                  <a:lnTo>
                                    <a:pt x="52" y="63"/>
                                  </a:lnTo>
                                  <a:lnTo>
                                    <a:pt x="49" y="67"/>
                                  </a:lnTo>
                                  <a:lnTo>
                                    <a:pt x="48" y="76"/>
                                  </a:lnTo>
                                  <a:lnTo>
                                    <a:pt x="41" y="80"/>
                                  </a:lnTo>
                                  <a:lnTo>
                                    <a:pt x="37" y="82"/>
                                  </a:lnTo>
                                  <a:lnTo>
                                    <a:pt x="31" y="86"/>
                                  </a:lnTo>
                                  <a:lnTo>
                                    <a:pt x="30" y="90"/>
                                  </a:lnTo>
                                  <a:lnTo>
                                    <a:pt x="31" y="95"/>
                                  </a:lnTo>
                                  <a:lnTo>
                                    <a:pt x="33" y="102"/>
                                  </a:lnTo>
                                  <a:lnTo>
                                    <a:pt x="26" y="105"/>
                                  </a:lnTo>
                                  <a:lnTo>
                                    <a:pt x="22" y="106"/>
                                  </a:lnTo>
                                  <a:lnTo>
                                    <a:pt x="18" y="108"/>
                                  </a:lnTo>
                                  <a:lnTo>
                                    <a:pt x="15" y="106"/>
                                  </a:lnTo>
                                  <a:lnTo>
                                    <a:pt x="8" y="105"/>
                                  </a:lnTo>
                                  <a:lnTo>
                                    <a:pt x="5" y="102"/>
                                  </a:lnTo>
                                  <a:lnTo>
                                    <a:pt x="8" y="96"/>
                                  </a:lnTo>
                                  <a:lnTo>
                                    <a:pt x="14" y="95"/>
                                  </a:lnTo>
                                  <a:lnTo>
                                    <a:pt x="18" y="87"/>
                                  </a:lnTo>
                                  <a:lnTo>
                                    <a:pt x="18" y="84"/>
                                  </a:lnTo>
                                  <a:lnTo>
                                    <a:pt x="14" y="82"/>
                                  </a:lnTo>
                                  <a:lnTo>
                                    <a:pt x="8" y="77"/>
                                  </a:lnTo>
                                  <a:lnTo>
                                    <a:pt x="4" y="77"/>
                                  </a:lnTo>
                                  <a:lnTo>
                                    <a:pt x="1" y="76"/>
                                  </a:lnTo>
                                  <a:lnTo>
                                    <a:pt x="0" y="71"/>
                                  </a:lnTo>
                                  <a:lnTo>
                                    <a:pt x="1" y="69"/>
                                  </a:lnTo>
                                  <a:lnTo>
                                    <a:pt x="4" y="69"/>
                                  </a:lnTo>
                                  <a:lnTo>
                                    <a:pt x="8" y="67"/>
                                  </a:lnTo>
                                  <a:lnTo>
                                    <a:pt x="14" y="63"/>
                                  </a:lnTo>
                                  <a:lnTo>
                                    <a:pt x="16" y="61"/>
                                  </a:lnTo>
                                  <a:lnTo>
                                    <a:pt x="19" y="45"/>
                                  </a:lnTo>
                                  <a:lnTo>
                                    <a:pt x="16" y="41"/>
                                  </a:lnTo>
                                  <a:lnTo>
                                    <a:pt x="12" y="38"/>
                                  </a:lnTo>
                                  <a:lnTo>
                                    <a:pt x="11" y="29"/>
                                  </a:lnTo>
                                  <a:lnTo>
                                    <a:pt x="12" y="21"/>
                                  </a:lnTo>
                                  <a:lnTo>
                                    <a:pt x="14" y="15"/>
                                  </a:lnTo>
                                  <a:lnTo>
                                    <a:pt x="18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792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520" bIns="115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82" name=""/>
                            <p:cNvSpPr/>
                            <p:nvPr/>
                          </p:nvSpPr>
                          <p:spPr>
                            <a:xfrm>
                              <a:off x="8862480" y="4042800"/>
                              <a:ext cx="45720" cy="49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2" h="92">
                                  <a:moveTo>
                                    <a:pt x="72" y="0"/>
                                  </a:moveTo>
                                  <a:lnTo>
                                    <a:pt x="84" y="0"/>
                                  </a:lnTo>
                                  <a:lnTo>
                                    <a:pt x="102" y="27"/>
                                  </a:lnTo>
                                  <a:lnTo>
                                    <a:pt x="83" y="47"/>
                                  </a:lnTo>
                                  <a:lnTo>
                                    <a:pt x="83" y="56"/>
                                  </a:lnTo>
                                  <a:lnTo>
                                    <a:pt x="79" y="59"/>
                                  </a:lnTo>
                                  <a:lnTo>
                                    <a:pt x="68" y="59"/>
                                  </a:lnTo>
                                  <a:lnTo>
                                    <a:pt x="54" y="70"/>
                                  </a:lnTo>
                                  <a:lnTo>
                                    <a:pt x="41" y="82"/>
                                  </a:lnTo>
                                  <a:lnTo>
                                    <a:pt x="33" y="92"/>
                                  </a:lnTo>
                                  <a:lnTo>
                                    <a:pt x="33" y="83"/>
                                  </a:lnTo>
                                  <a:lnTo>
                                    <a:pt x="18" y="85"/>
                                  </a:lnTo>
                                  <a:lnTo>
                                    <a:pt x="11" y="85"/>
                                  </a:lnTo>
                                  <a:lnTo>
                                    <a:pt x="0" y="85"/>
                                  </a:lnTo>
                                  <a:lnTo>
                                    <a:pt x="15" y="70"/>
                                  </a:lnTo>
                                  <a:lnTo>
                                    <a:pt x="21" y="63"/>
                                  </a:lnTo>
                                  <a:lnTo>
                                    <a:pt x="26" y="63"/>
                                  </a:lnTo>
                                  <a:lnTo>
                                    <a:pt x="37" y="51"/>
                                  </a:lnTo>
                                  <a:lnTo>
                                    <a:pt x="41" y="51"/>
                                  </a:lnTo>
                                  <a:lnTo>
                                    <a:pt x="41" y="50"/>
                                  </a:lnTo>
                                  <a:lnTo>
                                    <a:pt x="47" y="46"/>
                                  </a:lnTo>
                                  <a:lnTo>
                                    <a:pt x="54" y="46"/>
                                  </a:lnTo>
                                  <a:lnTo>
                                    <a:pt x="51" y="32"/>
                                  </a:lnTo>
                                  <a:lnTo>
                                    <a:pt x="52" y="32"/>
                                  </a:lnTo>
                                  <a:lnTo>
                                    <a:pt x="59" y="25"/>
                                  </a:lnTo>
                                  <a:lnTo>
                                    <a:pt x="62" y="31"/>
                                  </a:lnTo>
                                  <a:lnTo>
                                    <a:pt x="73" y="21"/>
                                  </a:lnTo>
                                  <a:lnTo>
                                    <a:pt x="7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792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20" bIns="25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83" name=""/>
                            <p:cNvSpPr/>
                            <p:nvPr/>
                          </p:nvSpPr>
                          <p:spPr>
                            <a:xfrm>
                              <a:off x="8776800" y="4046040"/>
                              <a:ext cx="18000" cy="26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8" h="50">
                                  <a:moveTo>
                                    <a:pt x="0" y="0"/>
                                  </a:moveTo>
                                  <a:lnTo>
                                    <a:pt x="8" y="0"/>
                                  </a:lnTo>
                                  <a:lnTo>
                                    <a:pt x="18" y="6"/>
                                  </a:lnTo>
                                  <a:lnTo>
                                    <a:pt x="38" y="6"/>
                                  </a:lnTo>
                                  <a:lnTo>
                                    <a:pt x="35" y="16"/>
                                  </a:lnTo>
                                  <a:lnTo>
                                    <a:pt x="38" y="25"/>
                                  </a:lnTo>
                                  <a:lnTo>
                                    <a:pt x="31" y="25"/>
                                  </a:lnTo>
                                  <a:lnTo>
                                    <a:pt x="30" y="26"/>
                                  </a:lnTo>
                                  <a:lnTo>
                                    <a:pt x="26" y="28"/>
                                  </a:lnTo>
                                  <a:lnTo>
                                    <a:pt x="30" y="50"/>
                                  </a:lnTo>
                                  <a:lnTo>
                                    <a:pt x="18" y="48"/>
                                  </a:lnTo>
                                  <a:lnTo>
                                    <a:pt x="7" y="41"/>
                                  </a:lnTo>
                                  <a:lnTo>
                                    <a:pt x="7" y="26"/>
                                  </a:lnTo>
                                  <a:lnTo>
                                    <a:pt x="7" y="21"/>
                                  </a:lnTo>
                                  <a:lnTo>
                                    <a:pt x="0" y="16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792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520" bIns="-205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784" name=""/>
                          <p:cNvSpPr/>
                          <p:nvPr/>
                        </p:nvSpPr>
                        <p:spPr>
                          <a:xfrm>
                            <a:off x="8808840" y="3768480"/>
                            <a:ext cx="29160" cy="28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1">
                                <a:moveTo>
                                  <a:pt x="11" y="19"/>
                                </a:moveTo>
                                <a:lnTo>
                                  <a:pt x="0" y="41"/>
                                </a:lnTo>
                                <a:lnTo>
                                  <a:pt x="4" y="49"/>
                                </a:lnTo>
                                <a:lnTo>
                                  <a:pt x="22" y="51"/>
                                </a:lnTo>
                                <a:lnTo>
                                  <a:pt x="37" y="51"/>
                                </a:lnTo>
                                <a:lnTo>
                                  <a:pt x="42" y="42"/>
                                </a:lnTo>
                                <a:lnTo>
                                  <a:pt x="46" y="33"/>
                                </a:lnTo>
                                <a:lnTo>
                                  <a:pt x="63" y="33"/>
                                </a:lnTo>
                                <a:lnTo>
                                  <a:pt x="60" y="20"/>
                                </a:lnTo>
                                <a:lnTo>
                                  <a:pt x="60" y="7"/>
                                </a:lnTo>
                                <a:lnTo>
                                  <a:pt x="44" y="0"/>
                                </a:lnTo>
                                <a:lnTo>
                                  <a:pt x="41" y="14"/>
                                </a:lnTo>
                                <a:lnTo>
                                  <a:pt x="52" y="23"/>
                                </a:lnTo>
                                <a:lnTo>
                                  <a:pt x="35" y="23"/>
                                </a:lnTo>
                                <a:lnTo>
                                  <a:pt x="30" y="29"/>
                                </a:lnTo>
                                <a:lnTo>
                                  <a:pt x="11" y="1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360" bIns="-18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85" name=""/>
                        <p:cNvGrpSpPr/>
                        <p:nvPr/>
                      </p:nvGrpSpPr>
                      <p:grpSpPr>
                        <a:xfrm>
                          <a:off x="8495640" y="3343320"/>
                          <a:ext cx="334800" cy="690840"/>
                          <a:chOff x="8495640" y="3343320"/>
                          <a:chExt cx="334800" cy="690840"/>
                        </a:xfrm>
                      </p:grpSpPr>
                      <p:grpSp>
                        <p:nvGrpSpPr>
                          <p:cNvPr id="1786" name=""/>
                          <p:cNvGrpSpPr/>
                          <p:nvPr/>
                        </p:nvGrpSpPr>
                        <p:grpSpPr>
                          <a:xfrm>
                            <a:off x="8549280" y="3413880"/>
                            <a:ext cx="73800" cy="207000"/>
                            <a:chOff x="8549280" y="3413880"/>
                            <a:chExt cx="73800" cy="207000"/>
                          </a:xfrm>
                        </p:grpSpPr>
                        <p:sp>
                          <p:nvSpPr>
                            <p:cNvPr id="1787" name=""/>
                            <p:cNvSpPr/>
                            <p:nvPr/>
                          </p:nvSpPr>
                          <p:spPr>
                            <a:xfrm>
                              <a:off x="8549280" y="3600360"/>
                              <a:ext cx="17280" cy="20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8" h="38">
                                  <a:moveTo>
                                    <a:pt x="0" y="29"/>
                                  </a:moveTo>
                                  <a:lnTo>
                                    <a:pt x="7" y="36"/>
                                  </a:lnTo>
                                  <a:lnTo>
                                    <a:pt x="15" y="35"/>
                                  </a:lnTo>
                                  <a:lnTo>
                                    <a:pt x="27" y="38"/>
                                  </a:lnTo>
                                  <a:lnTo>
                                    <a:pt x="37" y="38"/>
                                  </a:lnTo>
                                  <a:lnTo>
                                    <a:pt x="38" y="25"/>
                                  </a:lnTo>
                                  <a:lnTo>
                                    <a:pt x="35" y="16"/>
                                  </a:lnTo>
                                  <a:lnTo>
                                    <a:pt x="28" y="6"/>
                                  </a:lnTo>
                                  <a:lnTo>
                                    <a:pt x="22" y="6"/>
                                  </a:lnTo>
                                  <a:lnTo>
                                    <a:pt x="19" y="0"/>
                                  </a:lnTo>
                                  <a:lnTo>
                                    <a:pt x="9" y="0"/>
                                  </a:lnTo>
                                  <a:lnTo>
                                    <a:pt x="9" y="12"/>
                                  </a:lnTo>
                                  <a:lnTo>
                                    <a:pt x="0" y="2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792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280" bIns="-26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88" name=""/>
                            <p:cNvSpPr/>
                            <p:nvPr/>
                          </p:nvSpPr>
                          <p:spPr>
                            <a:xfrm>
                              <a:off x="8596440" y="3564000"/>
                              <a:ext cx="16560" cy="26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7" h="48">
                                  <a:moveTo>
                                    <a:pt x="8" y="0"/>
                                  </a:moveTo>
                                  <a:lnTo>
                                    <a:pt x="25" y="2"/>
                                  </a:lnTo>
                                  <a:lnTo>
                                    <a:pt x="30" y="15"/>
                                  </a:lnTo>
                                  <a:lnTo>
                                    <a:pt x="37" y="22"/>
                                  </a:lnTo>
                                  <a:lnTo>
                                    <a:pt x="31" y="28"/>
                                  </a:lnTo>
                                  <a:lnTo>
                                    <a:pt x="37" y="35"/>
                                  </a:lnTo>
                                  <a:lnTo>
                                    <a:pt x="34" y="44"/>
                                  </a:lnTo>
                                  <a:lnTo>
                                    <a:pt x="29" y="48"/>
                                  </a:lnTo>
                                  <a:lnTo>
                                    <a:pt x="18" y="47"/>
                                  </a:lnTo>
                                  <a:lnTo>
                                    <a:pt x="11" y="47"/>
                                  </a:lnTo>
                                  <a:lnTo>
                                    <a:pt x="7" y="41"/>
                                  </a:lnTo>
                                  <a:lnTo>
                                    <a:pt x="3" y="34"/>
                                  </a:lnTo>
                                  <a:lnTo>
                                    <a:pt x="3" y="26"/>
                                  </a:lnTo>
                                  <a:lnTo>
                                    <a:pt x="0" y="16"/>
                                  </a:lnTo>
                                  <a:lnTo>
                                    <a:pt x="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792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520" bIns="-205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89" name=""/>
                            <p:cNvSpPr/>
                            <p:nvPr/>
                          </p:nvSpPr>
                          <p:spPr>
                            <a:xfrm>
                              <a:off x="8593920" y="3413880"/>
                              <a:ext cx="29160" cy="24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6" h="45">
                                  <a:moveTo>
                                    <a:pt x="10" y="0"/>
                                  </a:moveTo>
                                  <a:lnTo>
                                    <a:pt x="18" y="7"/>
                                  </a:lnTo>
                                  <a:lnTo>
                                    <a:pt x="26" y="5"/>
                                  </a:lnTo>
                                  <a:lnTo>
                                    <a:pt x="38" y="7"/>
                                  </a:lnTo>
                                  <a:lnTo>
                                    <a:pt x="49" y="7"/>
                                  </a:lnTo>
                                  <a:lnTo>
                                    <a:pt x="55" y="11"/>
                                  </a:lnTo>
                                  <a:lnTo>
                                    <a:pt x="62" y="21"/>
                                  </a:lnTo>
                                  <a:lnTo>
                                    <a:pt x="66" y="26"/>
                                  </a:lnTo>
                                  <a:lnTo>
                                    <a:pt x="51" y="29"/>
                                  </a:lnTo>
                                  <a:lnTo>
                                    <a:pt x="47" y="32"/>
                                  </a:lnTo>
                                  <a:lnTo>
                                    <a:pt x="51" y="37"/>
                                  </a:lnTo>
                                  <a:lnTo>
                                    <a:pt x="51" y="43"/>
                                  </a:lnTo>
                                  <a:lnTo>
                                    <a:pt x="36" y="37"/>
                                  </a:lnTo>
                                  <a:lnTo>
                                    <a:pt x="23" y="33"/>
                                  </a:lnTo>
                                  <a:lnTo>
                                    <a:pt x="18" y="34"/>
                                  </a:lnTo>
                                  <a:lnTo>
                                    <a:pt x="18" y="43"/>
                                  </a:lnTo>
                                  <a:lnTo>
                                    <a:pt x="10" y="45"/>
                                  </a:lnTo>
                                  <a:lnTo>
                                    <a:pt x="6" y="37"/>
                                  </a:lnTo>
                                  <a:lnTo>
                                    <a:pt x="4" y="29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" y="18"/>
                                  </a:lnTo>
                                  <a:lnTo>
                                    <a:pt x="11" y="16"/>
                                  </a:lnTo>
                                  <a:lnTo>
                                    <a:pt x="1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792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680" bIns="-226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790" name=""/>
                          <p:cNvSpPr/>
                          <p:nvPr/>
                        </p:nvSpPr>
                        <p:spPr>
                          <a:xfrm>
                            <a:off x="8619480" y="3833280"/>
                            <a:ext cx="210960" cy="200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62" h="364">
                                <a:moveTo>
                                  <a:pt x="332" y="0"/>
                                </a:moveTo>
                                <a:lnTo>
                                  <a:pt x="357" y="0"/>
                                </a:lnTo>
                                <a:lnTo>
                                  <a:pt x="357" y="30"/>
                                </a:lnTo>
                                <a:lnTo>
                                  <a:pt x="366" y="38"/>
                                </a:lnTo>
                                <a:lnTo>
                                  <a:pt x="369" y="43"/>
                                </a:lnTo>
                                <a:lnTo>
                                  <a:pt x="375" y="43"/>
                                </a:lnTo>
                                <a:lnTo>
                                  <a:pt x="377" y="48"/>
                                </a:lnTo>
                                <a:lnTo>
                                  <a:pt x="380" y="77"/>
                                </a:lnTo>
                                <a:lnTo>
                                  <a:pt x="394" y="96"/>
                                </a:lnTo>
                                <a:lnTo>
                                  <a:pt x="414" y="124"/>
                                </a:lnTo>
                                <a:lnTo>
                                  <a:pt x="414" y="128"/>
                                </a:lnTo>
                                <a:lnTo>
                                  <a:pt x="436" y="152"/>
                                </a:lnTo>
                                <a:lnTo>
                                  <a:pt x="436" y="156"/>
                                </a:lnTo>
                                <a:lnTo>
                                  <a:pt x="458" y="175"/>
                                </a:lnTo>
                                <a:lnTo>
                                  <a:pt x="462" y="208"/>
                                </a:lnTo>
                                <a:lnTo>
                                  <a:pt x="458" y="239"/>
                                </a:lnTo>
                                <a:lnTo>
                                  <a:pt x="451" y="253"/>
                                </a:lnTo>
                                <a:lnTo>
                                  <a:pt x="443" y="260"/>
                                </a:lnTo>
                                <a:lnTo>
                                  <a:pt x="440" y="275"/>
                                </a:lnTo>
                                <a:lnTo>
                                  <a:pt x="432" y="288"/>
                                </a:lnTo>
                                <a:lnTo>
                                  <a:pt x="425" y="294"/>
                                </a:lnTo>
                                <a:lnTo>
                                  <a:pt x="427" y="298"/>
                                </a:lnTo>
                                <a:lnTo>
                                  <a:pt x="419" y="307"/>
                                </a:lnTo>
                                <a:lnTo>
                                  <a:pt x="414" y="326"/>
                                </a:lnTo>
                                <a:lnTo>
                                  <a:pt x="413" y="336"/>
                                </a:lnTo>
                                <a:lnTo>
                                  <a:pt x="405" y="340"/>
                                </a:lnTo>
                                <a:lnTo>
                                  <a:pt x="403" y="345"/>
                                </a:lnTo>
                                <a:lnTo>
                                  <a:pt x="398" y="353"/>
                                </a:lnTo>
                                <a:lnTo>
                                  <a:pt x="388" y="355"/>
                                </a:lnTo>
                                <a:lnTo>
                                  <a:pt x="381" y="358"/>
                                </a:lnTo>
                                <a:lnTo>
                                  <a:pt x="372" y="364"/>
                                </a:lnTo>
                                <a:lnTo>
                                  <a:pt x="360" y="352"/>
                                </a:lnTo>
                                <a:lnTo>
                                  <a:pt x="346" y="353"/>
                                </a:lnTo>
                                <a:lnTo>
                                  <a:pt x="342" y="353"/>
                                </a:lnTo>
                                <a:lnTo>
                                  <a:pt x="323" y="356"/>
                                </a:lnTo>
                                <a:lnTo>
                                  <a:pt x="310" y="345"/>
                                </a:lnTo>
                                <a:lnTo>
                                  <a:pt x="302" y="333"/>
                                </a:lnTo>
                                <a:lnTo>
                                  <a:pt x="296" y="334"/>
                                </a:lnTo>
                                <a:lnTo>
                                  <a:pt x="291" y="324"/>
                                </a:lnTo>
                                <a:lnTo>
                                  <a:pt x="288" y="316"/>
                                </a:lnTo>
                                <a:lnTo>
                                  <a:pt x="286" y="313"/>
                                </a:lnTo>
                                <a:lnTo>
                                  <a:pt x="286" y="298"/>
                                </a:lnTo>
                                <a:lnTo>
                                  <a:pt x="287" y="289"/>
                                </a:lnTo>
                                <a:lnTo>
                                  <a:pt x="284" y="284"/>
                                </a:lnTo>
                                <a:lnTo>
                                  <a:pt x="273" y="287"/>
                                </a:lnTo>
                                <a:lnTo>
                                  <a:pt x="268" y="288"/>
                                </a:lnTo>
                                <a:lnTo>
                                  <a:pt x="258" y="288"/>
                                </a:lnTo>
                                <a:lnTo>
                                  <a:pt x="254" y="288"/>
                                </a:lnTo>
                                <a:lnTo>
                                  <a:pt x="250" y="288"/>
                                </a:lnTo>
                                <a:lnTo>
                                  <a:pt x="243" y="279"/>
                                </a:lnTo>
                                <a:lnTo>
                                  <a:pt x="236" y="268"/>
                                </a:lnTo>
                                <a:lnTo>
                                  <a:pt x="235" y="269"/>
                                </a:lnTo>
                                <a:lnTo>
                                  <a:pt x="222" y="269"/>
                                </a:lnTo>
                                <a:lnTo>
                                  <a:pt x="221" y="265"/>
                                </a:lnTo>
                                <a:lnTo>
                                  <a:pt x="214" y="269"/>
                                </a:lnTo>
                                <a:lnTo>
                                  <a:pt x="207" y="268"/>
                                </a:lnTo>
                                <a:lnTo>
                                  <a:pt x="196" y="268"/>
                                </a:lnTo>
                                <a:lnTo>
                                  <a:pt x="190" y="265"/>
                                </a:lnTo>
                                <a:lnTo>
                                  <a:pt x="187" y="269"/>
                                </a:lnTo>
                                <a:lnTo>
                                  <a:pt x="176" y="271"/>
                                </a:lnTo>
                                <a:lnTo>
                                  <a:pt x="173" y="268"/>
                                </a:lnTo>
                                <a:lnTo>
                                  <a:pt x="166" y="275"/>
                                </a:lnTo>
                                <a:lnTo>
                                  <a:pt x="158" y="282"/>
                                </a:lnTo>
                                <a:lnTo>
                                  <a:pt x="152" y="282"/>
                                </a:lnTo>
                                <a:lnTo>
                                  <a:pt x="144" y="291"/>
                                </a:lnTo>
                                <a:lnTo>
                                  <a:pt x="132" y="291"/>
                                </a:lnTo>
                                <a:lnTo>
                                  <a:pt x="122" y="294"/>
                                </a:lnTo>
                                <a:lnTo>
                                  <a:pt x="111" y="298"/>
                                </a:lnTo>
                                <a:lnTo>
                                  <a:pt x="106" y="304"/>
                                </a:lnTo>
                                <a:lnTo>
                                  <a:pt x="102" y="303"/>
                                </a:lnTo>
                                <a:lnTo>
                                  <a:pt x="98" y="308"/>
                                </a:lnTo>
                                <a:lnTo>
                                  <a:pt x="92" y="310"/>
                                </a:lnTo>
                                <a:lnTo>
                                  <a:pt x="85" y="317"/>
                                </a:lnTo>
                                <a:lnTo>
                                  <a:pt x="63" y="317"/>
                                </a:lnTo>
                                <a:lnTo>
                                  <a:pt x="54" y="307"/>
                                </a:lnTo>
                                <a:lnTo>
                                  <a:pt x="52" y="303"/>
                                </a:lnTo>
                                <a:lnTo>
                                  <a:pt x="50" y="307"/>
                                </a:lnTo>
                                <a:lnTo>
                                  <a:pt x="46" y="300"/>
                                </a:lnTo>
                                <a:lnTo>
                                  <a:pt x="47" y="281"/>
                                </a:lnTo>
                                <a:lnTo>
                                  <a:pt x="50" y="269"/>
                                </a:lnTo>
                                <a:lnTo>
                                  <a:pt x="46" y="260"/>
                                </a:lnTo>
                                <a:lnTo>
                                  <a:pt x="41" y="252"/>
                                </a:lnTo>
                                <a:lnTo>
                                  <a:pt x="40" y="242"/>
                                </a:lnTo>
                                <a:lnTo>
                                  <a:pt x="33" y="237"/>
                                </a:lnTo>
                                <a:lnTo>
                                  <a:pt x="32" y="236"/>
                                </a:lnTo>
                                <a:lnTo>
                                  <a:pt x="30" y="231"/>
                                </a:lnTo>
                                <a:lnTo>
                                  <a:pt x="21" y="218"/>
                                </a:lnTo>
                                <a:lnTo>
                                  <a:pt x="9" y="186"/>
                                </a:lnTo>
                                <a:lnTo>
                                  <a:pt x="4" y="165"/>
                                </a:lnTo>
                                <a:lnTo>
                                  <a:pt x="4" y="152"/>
                                </a:lnTo>
                                <a:lnTo>
                                  <a:pt x="0" y="147"/>
                                </a:lnTo>
                                <a:lnTo>
                                  <a:pt x="2" y="136"/>
                                </a:lnTo>
                                <a:lnTo>
                                  <a:pt x="6" y="130"/>
                                </a:lnTo>
                                <a:lnTo>
                                  <a:pt x="21" y="114"/>
                                </a:lnTo>
                                <a:lnTo>
                                  <a:pt x="36" y="115"/>
                                </a:lnTo>
                                <a:lnTo>
                                  <a:pt x="39" y="118"/>
                                </a:lnTo>
                                <a:lnTo>
                                  <a:pt x="58" y="118"/>
                                </a:lnTo>
                                <a:lnTo>
                                  <a:pt x="59" y="114"/>
                                </a:lnTo>
                                <a:lnTo>
                                  <a:pt x="63" y="115"/>
                                </a:lnTo>
                                <a:lnTo>
                                  <a:pt x="69" y="111"/>
                                </a:lnTo>
                                <a:lnTo>
                                  <a:pt x="73" y="112"/>
                                </a:lnTo>
                                <a:lnTo>
                                  <a:pt x="77" y="109"/>
                                </a:lnTo>
                                <a:lnTo>
                                  <a:pt x="76" y="105"/>
                                </a:lnTo>
                                <a:lnTo>
                                  <a:pt x="80" y="95"/>
                                </a:lnTo>
                                <a:lnTo>
                                  <a:pt x="85" y="91"/>
                                </a:lnTo>
                                <a:lnTo>
                                  <a:pt x="83" y="88"/>
                                </a:lnTo>
                                <a:lnTo>
                                  <a:pt x="85" y="85"/>
                                </a:lnTo>
                                <a:lnTo>
                                  <a:pt x="83" y="80"/>
                                </a:lnTo>
                                <a:lnTo>
                                  <a:pt x="91" y="73"/>
                                </a:lnTo>
                                <a:lnTo>
                                  <a:pt x="103" y="72"/>
                                </a:lnTo>
                                <a:lnTo>
                                  <a:pt x="115" y="54"/>
                                </a:lnTo>
                                <a:lnTo>
                                  <a:pt x="131" y="40"/>
                                </a:lnTo>
                                <a:lnTo>
                                  <a:pt x="137" y="38"/>
                                </a:lnTo>
                                <a:lnTo>
                                  <a:pt x="142" y="34"/>
                                </a:lnTo>
                                <a:lnTo>
                                  <a:pt x="148" y="34"/>
                                </a:lnTo>
                                <a:lnTo>
                                  <a:pt x="161" y="47"/>
                                </a:lnTo>
                                <a:lnTo>
                                  <a:pt x="165" y="48"/>
                                </a:lnTo>
                                <a:lnTo>
                                  <a:pt x="169" y="43"/>
                                </a:lnTo>
                                <a:lnTo>
                                  <a:pt x="177" y="34"/>
                                </a:lnTo>
                                <a:lnTo>
                                  <a:pt x="183" y="32"/>
                                </a:lnTo>
                                <a:lnTo>
                                  <a:pt x="188" y="21"/>
                                </a:lnTo>
                                <a:lnTo>
                                  <a:pt x="194" y="19"/>
                                </a:lnTo>
                                <a:lnTo>
                                  <a:pt x="200" y="15"/>
                                </a:lnTo>
                                <a:lnTo>
                                  <a:pt x="207" y="11"/>
                                </a:lnTo>
                                <a:lnTo>
                                  <a:pt x="214" y="11"/>
                                </a:lnTo>
                                <a:lnTo>
                                  <a:pt x="220" y="5"/>
                                </a:lnTo>
                                <a:lnTo>
                                  <a:pt x="228" y="5"/>
                                </a:lnTo>
                                <a:lnTo>
                                  <a:pt x="238" y="5"/>
                                </a:lnTo>
                                <a:lnTo>
                                  <a:pt x="250" y="8"/>
                                </a:lnTo>
                                <a:lnTo>
                                  <a:pt x="258" y="14"/>
                                </a:lnTo>
                                <a:lnTo>
                                  <a:pt x="259" y="18"/>
                                </a:lnTo>
                                <a:lnTo>
                                  <a:pt x="261" y="21"/>
                                </a:lnTo>
                                <a:lnTo>
                                  <a:pt x="262" y="28"/>
                                </a:lnTo>
                                <a:lnTo>
                                  <a:pt x="261" y="31"/>
                                </a:lnTo>
                                <a:lnTo>
                                  <a:pt x="261" y="38"/>
                                </a:lnTo>
                                <a:lnTo>
                                  <a:pt x="259" y="43"/>
                                </a:lnTo>
                                <a:lnTo>
                                  <a:pt x="280" y="59"/>
                                </a:lnTo>
                                <a:lnTo>
                                  <a:pt x="287" y="67"/>
                                </a:lnTo>
                                <a:lnTo>
                                  <a:pt x="295" y="70"/>
                                </a:lnTo>
                                <a:lnTo>
                                  <a:pt x="303" y="75"/>
                                </a:lnTo>
                                <a:lnTo>
                                  <a:pt x="309" y="76"/>
                                </a:lnTo>
                                <a:lnTo>
                                  <a:pt x="317" y="72"/>
                                </a:lnTo>
                                <a:lnTo>
                                  <a:pt x="324" y="59"/>
                                </a:lnTo>
                                <a:lnTo>
                                  <a:pt x="327" y="48"/>
                                </a:lnTo>
                                <a:lnTo>
                                  <a:pt x="329" y="28"/>
                                </a:lnTo>
                                <a:lnTo>
                                  <a:pt x="332" y="19"/>
                                </a:lnTo>
                                <a:lnTo>
                                  <a:pt x="33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1" name=""/>
                          <p:cNvSpPr/>
                          <p:nvPr/>
                        </p:nvSpPr>
                        <p:spPr>
                          <a:xfrm>
                            <a:off x="8569440" y="3791160"/>
                            <a:ext cx="116640" cy="26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5" h="49">
                                <a:moveTo>
                                  <a:pt x="0" y="0"/>
                                </a:moveTo>
                                <a:lnTo>
                                  <a:pt x="19" y="7"/>
                                </a:lnTo>
                                <a:lnTo>
                                  <a:pt x="36" y="7"/>
                                </a:lnTo>
                                <a:lnTo>
                                  <a:pt x="51" y="7"/>
                                </a:lnTo>
                                <a:lnTo>
                                  <a:pt x="62" y="7"/>
                                </a:lnTo>
                                <a:lnTo>
                                  <a:pt x="70" y="8"/>
                                </a:lnTo>
                                <a:lnTo>
                                  <a:pt x="81" y="13"/>
                                </a:lnTo>
                                <a:lnTo>
                                  <a:pt x="86" y="23"/>
                                </a:lnTo>
                                <a:lnTo>
                                  <a:pt x="92" y="27"/>
                                </a:lnTo>
                                <a:lnTo>
                                  <a:pt x="101" y="26"/>
                                </a:lnTo>
                                <a:lnTo>
                                  <a:pt x="112" y="26"/>
                                </a:lnTo>
                                <a:lnTo>
                                  <a:pt x="125" y="31"/>
                                </a:lnTo>
                                <a:lnTo>
                                  <a:pt x="133" y="34"/>
                                </a:lnTo>
                                <a:lnTo>
                                  <a:pt x="138" y="34"/>
                                </a:lnTo>
                                <a:lnTo>
                                  <a:pt x="140" y="27"/>
                                </a:lnTo>
                                <a:lnTo>
                                  <a:pt x="144" y="23"/>
                                </a:lnTo>
                                <a:lnTo>
                                  <a:pt x="160" y="26"/>
                                </a:lnTo>
                                <a:lnTo>
                                  <a:pt x="174" y="26"/>
                                </a:lnTo>
                                <a:lnTo>
                                  <a:pt x="186" y="26"/>
                                </a:lnTo>
                                <a:lnTo>
                                  <a:pt x="196" y="30"/>
                                </a:lnTo>
                                <a:lnTo>
                                  <a:pt x="202" y="33"/>
                                </a:lnTo>
                                <a:lnTo>
                                  <a:pt x="211" y="31"/>
                                </a:lnTo>
                                <a:lnTo>
                                  <a:pt x="218" y="29"/>
                                </a:lnTo>
                                <a:lnTo>
                                  <a:pt x="222" y="26"/>
                                </a:lnTo>
                                <a:lnTo>
                                  <a:pt x="233" y="26"/>
                                </a:lnTo>
                                <a:lnTo>
                                  <a:pt x="240" y="23"/>
                                </a:lnTo>
                                <a:lnTo>
                                  <a:pt x="250" y="20"/>
                                </a:lnTo>
                                <a:lnTo>
                                  <a:pt x="255" y="20"/>
                                </a:lnTo>
                                <a:lnTo>
                                  <a:pt x="254" y="30"/>
                                </a:lnTo>
                                <a:lnTo>
                                  <a:pt x="251" y="34"/>
                                </a:lnTo>
                                <a:lnTo>
                                  <a:pt x="245" y="39"/>
                                </a:lnTo>
                                <a:lnTo>
                                  <a:pt x="240" y="39"/>
                                </a:lnTo>
                                <a:lnTo>
                                  <a:pt x="239" y="39"/>
                                </a:lnTo>
                                <a:lnTo>
                                  <a:pt x="232" y="40"/>
                                </a:lnTo>
                                <a:lnTo>
                                  <a:pt x="226" y="46"/>
                                </a:lnTo>
                                <a:lnTo>
                                  <a:pt x="221" y="45"/>
                                </a:lnTo>
                                <a:lnTo>
                                  <a:pt x="215" y="42"/>
                                </a:lnTo>
                                <a:lnTo>
                                  <a:pt x="210" y="45"/>
                                </a:lnTo>
                                <a:lnTo>
                                  <a:pt x="204" y="46"/>
                                </a:lnTo>
                                <a:lnTo>
                                  <a:pt x="200" y="46"/>
                                </a:lnTo>
                                <a:lnTo>
                                  <a:pt x="196" y="49"/>
                                </a:lnTo>
                                <a:lnTo>
                                  <a:pt x="185" y="49"/>
                                </a:lnTo>
                                <a:lnTo>
                                  <a:pt x="181" y="45"/>
                                </a:lnTo>
                                <a:lnTo>
                                  <a:pt x="175" y="39"/>
                                </a:lnTo>
                                <a:lnTo>
                                  <a:pt x="169" y="45"/>
                                </a:lnTo>
                                <a:lnTo>
                                  <a:pt x="164" y="49"/>
                                </a:lnTo>
                                <a:lnTo>
                                  <a:pt x="159" y="49"/>
                                </a:lnTo>
                                <a:lnTo>
                                  <a:pt x="149" y="39"/>
                                </a:lnTo>
                                <a:lnTo>
                                  <a:pt x="147" y="40"/>
                                </a:lnTo>
                                <a:lnTo>
                                  <a:pt x="141" y="40"/>
                                </a:lnTo>
                                <a:lnTo>
                                  <a:pt x="137" y="46"/>
                                </a:lnTo>
                                <a:lnTo>
                                  <a:pt x="129" y="45"/>
                                </a:lnTo>
                                <a:lnTo>
                                  <a:pt x="121" y="45"/>
                                </a:lnTo>
                                <a:lnTo>
                                  <a:pt x="117" y="42"/>
                                </a:lnTo>
                                <a:lnTo>
                                  <a:pt x="111" y="39"/>
                                </a:lnTo>
                                <a:lnTo>
                                  <a:pt x="103" y="40"/>
                                </a:lnTo>
                                <a:lnTo>
                                  <a:pt x="95" y="46"/>
                                </a:lnTo>
                                <a:lnTo>
                                  <a:pt x="89" y="45"/>
                                </a:lnTo>
                                <a:lnTo>
                                  <a:pt x="81" y="42"/>
                                </a:lnTo>
                                <a:lnTo>
                                  <a:pt x="71" y="37"/>
                                </a:lnTo>
                                <a:lnTo>
                                  <a:pt x="63" y="37"/>
                                </a:lnTo>
                                <a:lnTo>
                                  <a:pt x="47" y="33"/>
                                </a:lnTo>
                                <a:lnTo>
                                  <a:pt x="36" y="30"/>
                                </a:lnTo>
                                <a:lnTo>
                                  <a:pt x="29" y="29"/>
                                </a:lnTo>
                                <a:lnTo>
                                  <a:pt x="18" y="27"/>
                                </a:lnTo>
                                <a:lnTo>
                                  <a:pt x="11" y="21"/>
                                </a:lnTo>
                                <a:lnTo>
                                  <a:pt x="4" y="20"/>
                                </a:lnTo>
                                <a:lnTo>
                                  <a:pt x="1" y="18"/>
                                </a:lnTo>
                                <a:lnTo>
                                  <a:pt x="0" y="15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0520" bIns="-20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2" name=""/>
                          <p:cNvSpPr/>
                          <p:nvPr/>
                        </p:nvSpPr>
                        <p:spPr>
                          <a:xfrm>
                            <a:off x="8633520" y="3737160"/>
                            <a:ext cx="52560" cy="51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5" h="95">
                                <a:moveTo>
                                  <a:pt x="29" y="0"/>
                                </a:moveTo>
                                <a:lnTo>
                                  <a:pt x="56" y="2"/>
                                </a:lnTo>
                                <a:lnTo>
                                  <a:pt x="82" y="2"/>
                                </a:lnTo>
                                <a:lnTo>
                                  <a:pt x="96" y="0"/>
                                </a:lnTo>
                                <a:lnTo>
                                  <a:pt x="115" y="9"/>
                                </a:lnTo>
                                <a:lnTo>
                                  <a:pt x="103" y="12"/>
                                </a:lnTo>
                                <a:lnTo>
                                  <a:pt x="96" y="16"/>
                                </a:lnTo>
                                <a:lnTo>
                                  <a:pt x="92" y="19"/>
                                </a:lnTo>
                                <a:lnTo>
                                  <a:pt x="89" y="22"/>
                                </a:lnTo>
                                <a:lnTo>
                                  <a:pt x="89" y="25"/>
                                </a:lnTo>
                                <a:lnTo>
                                  <a:pt x="89" y="29"/>
                                </a:lnTo>
                                <a:lnTo>
                                  <a:pt x="81" y="32"/>
                                </a:lnTo>
                                <a:lnTo>
                                  <a:pt x="74" y="32"/>
                                </a:lnTo>
                                <a:lnTo>
                                  <a:pt x="71" y="34"/>
                                </a:lnTo>
                                <a:lnTo>
                                  <a:pt x="64" y="34"/>
                                </a:lnTo>
                                <a:lnTo>
                                  <a:pt x="62" y="29"/>
                                </a:lnTo>
                                <a:lnTo>
                                  <a:pt x="56" y="23"/>
                                </a:lnTo>
                                <a:lnTo>
                                  <a:pt x="51" y="19"/>
                                </a:lnTo>
                                <a:lnTo>
                                  <a:pt x="40" y="19"/>
                                </a:lnTo>
                                <a:lnTo>
                                  <a:pt x="37" y="19"/>
                                </a:lnTo>
                                <a:lnTo>
                                  <a:pt x="34" y="26"/>
                                </a:lnTo>
                                <a:lnTo>
                                  <a:pt x="35" y="34"/>
                                </a:lnTo>
                                <a:lnTo>
                                  <a:pt x="35" y="38"/>
                                </a:lnTo>
                                <a:lnTo>
                                  <a:pt x="37" y="42"/>
                                </a:lnTo>
                                <a:lnTo>
                                  <a:pt x="42" y="41"/>
                                </a:lnTo>
                                <a:lnTo>
                                  <a:pt x="51" y="37"/>
                                </a:lnTo>
                                <a:lnTo>
                                  <a:pt x="56" y="37"/>
                                </a:lnTo>
                                <a:lnTo>
                                  <a:pt x="60" y="39"/>
                                </a:lnTo>
                                <a:lnTo>
                                  <a:pt x="60" y="42"/>
                                </a:lnTo>
                                <a:lnTo>
                                  <a:pt x="57" y="48"/>
                                </a:lnTo>
                                <a:lnTo>
                                  <a:pt x="56" y="51"/>
                                </a:lnTo>
                                <a:lnTo>
                                  <a:pt x="56" y="54"/>
                                </a:lnTo>
                                <a:lnTo>
                                  <a:pt x="55" y="58"/>
                                </a:lnTo>
                                <a:lnTo>
                                  <a:pt x="57" y="63"/>
                                </a:lnTo>
                                <a:lnTo>
                                  <a:pt x="63" y="68"/>
                                </a:lnTo>
                                <a:lnTo>
                                  <a:pt x="64" y="67"/>
                                </a:lnTo>
                                <a:lnTo>
                                  <a:pt x="64" y="73"/>
                                </a:lnTo>
                                <a:lnTo>
                                  <a:pt x="62" y="77"/>
                                </a:lnTo>
                                <a:lnTo>
                                  <a:pt x="59" y="82"/>
                                </a:lnTo>
                                <a:lnTo>
                                  <a:pt x="57" y="89"/>
                                </a:lnTo>
                                <a:lnTo>
                                  <a:pt x="52" y="92"/>
                                </a:lnTo>
                                <a:lnTo>
                                  <a:pt x="48" y="92"/>
                                </a:lnTo>
                                <a:lnTo>
                                  <a:pt x="44" y="92"/>
                                </a:lnTo>
                                <a:lnTo>
                                  <a:pt x="44" y="86"/>
                                </a:lnTo>
                                <a:lnTo>
                                  <a:pt x="42" y="76"/>
                                </a:lnTo>
                                <a:lnTo>
                                  <a:pt x="38" y="73"/>
                                </a:lnTo>
                                <a:lnTo>
                                  <a:pt x="37" y="68"/>
                                </a:lnTo>
                                <a:lnTo>
                                  <a:pt x="38" y="60"/>
                                </a:lnTo>
                                <a:lnTo>
                                  <a:pt x="34" y="57"/>
                                </a:lnTo>
                                <a:lnTo>
                                  <a:pt x="24" y="60"/>
                                </a:lnTo>
                                <a:lnTo>
                                  <a:pt x="20" y="57"/>
                                </a:lnTo>
                                <a:lnTo>
                                  <a:pt x="16" y="61"/>
                                </a:lnTo>
                                <a:lnTo>
                                  <a:pt x="20" y="64"/>
                                </a:lnTo>
                                <a:lnTo>
                                  <a:pt x="27" y="67"/>
                                </a:lnTo>
                                <a:lnTo>
                                  <a:pt x="29" y="70"/>
                                </a:lnTo>
                                <a:lnTo>
                                  <a:pt x="33" y="76"/>
                                </a:lnTo>
                                <a:lnTo>
                                  <a:pt x="33" y="80"/>
                                </a:lnTo>
                                <a:lnTo>
                                  <a:pt x="29" y="87"/>
                                </a:lnTo>
                                <a:lnTo>
                                  <a:pt x="23" y="93"/>
                                </a:lnTo>
                                <a:lnTo>
                                  <a:pt x="20" y="95"/>
                                </a:lnTo>
                                <a:lnTo>
                                  <a:pt x="20" y="90"/>
                                </a:lnTo>
                                <a:lnTo>
                                  <a:pt x="20" y="86"/>
                                </a:lnTo>
                                <a:lnTo>
                                  <a:pt x="22" y="80"/>
                                </a:lnTo>
                                <a:lnTo>
                                  <a:pt x="15" y="76"/>
                                </a:lnTo>
                                <a:lnTo>
                                  <a:pt x="8" y="71"/>
                                </a:lnTo>
                                <a:lnTo>
                                  <a:pt x="7" y="67"/>
                                </a:lnTo>
                                <a:lnTo>
                                  <a:pt x="0" y="64"/>
                                </a:lnTo>
                                <a:lnTo>
                                  <a:pt x="1" y="57"/>
                                </a:lnTo>
                                <a:lnTo>
                                  <a:pt x="7" y="53"/>
                                </a:lnTo>
                                <a:lnTo>
                                  <a:pt x="11" y="45"/>
                                </a:lnTo>
                                <a:lnTo>
                                  <a:pt x="15" y="38"/>
                                </a:lnTo>
                                <a:lnTo>
                                  <a:pt x="16" y="31"/>
                                </a:lnTo>
                                <a:lnTo>
                                  <a:pt x="15" y="23"/>
                                </a:lnTo>
                                <a:lnTo>
                                  <a:pt x="18" y="21"/>
                                </a:lnTo>
                                <a:lnTo>
                                  <a:pt x="20" y="18"/>
                                </a:lnTo>
                                <a:lnTo>
                                  <a:pt x="16" y="12"/>
                                </a:lnTo>
                                <a:lnTo>
                                  <a:pt x="2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5040" bIns="5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3" name=""/>
                          <p:cNvSpPr/>
                          <p:nvPr/>
                        </p:nvSpPr>
                        <p:spPr>
                          <a:xfrm>
                            <a:off x="8577720" y="3714120"/>
                            <a:ext cx="58320" cy="71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27" h="131">
                                <a:moveTo>
                                  <a:pt x="0" y="44"/>
                                </a:moveTo>
                                <a:lnTo>
                                  <a:pt x="26" y="23"/>
                                </a:lnTo>
                                <a:lnTo>
                                  <a:pt x="40" y="15"/>
                                </a:lnTo>
                                <a:lnTo>
                                  <a:pt x="46" y="7"/>
                                </a:lnTo>
                                <a:lnTo>
                                  <a:pt x="67" y="0"/>
                                </a:lnTo>
                                <a:lnTo>
                                  <a:pt x="78" y="16"/>
                                </a:lnTo>
                                <a:lnTo>
                                  <a:pt x="89" y="9"/>
                                </a:lnTo>
                                <a:lnTo>
                                  <a:pt x="93" y="4"/>
                                </a:lnTo>
                                <a:lnTo>
                                  <a:pt x="103" y="0"/>
                                </a:lnTo>
                                <a:lnTo>
                                  <a:pt x="108" y="0"/>
                                </a:lnTo>
                                <a:lnTo>
                                  <a:pt x="109" y="6"/>
                                </a:lnTo>
                                <a:lnTo>
                                  <a:pt x="109" y="10"/>
                                </a:lnTo>
                                <a:lnTo>
                                  <a:pt x="104" y="18"/>
                                </a:lnTo>
                                <a:lnTo>
                                  <a:pt x="104" y="22"/>
                                </a:lnTo>
                                <a:lnTo>
                                  <a:pt x="119" y="41"/>
                                </a:lnTo>
                                <a:lnTo>
                                  <a:pt x="122" y="52"/>
                                </a:lnTo>
                                <a:lnTo>
                                  <a:pt x="126" y="52"/>
                                </a:lnTo>
                                <a:lnTo>
                                  <a:pt x="127" y="58"/>
                                </a:lnTo>
                                <a:lnTo>
                                  <a:pt x="122" y="64"/>
                                </a:lnTo>
                                <a:lnTo>
                                  <a:pt x="118" y="61"/>
                                </a:lnTo>
                                <a:lnTo>
                                  <a:pt x="108" y="65"/>
                                </a:lnTo>
                                <a:lnTo>
                                  <a:pt x="109" y="77"/>
                                </a:lnTo>
                                <a:lnTo>
                                  <a:pt x="99" y="84"/>
                                </a:lnTo>
                                <a:lnTo>
                                  <a:pt x="99" y="103"/>
                                </a:lnTo>
                                <a:lnTo>
                                  <a:pt x="99" y="116"/>
                                </a:lnTo>
                                <a:lnTo>
                                  <a:pt x="93" y="122"/>
                                </a:lnTo>
                                <a:lnTo>
                                  <a:pt x="89" y="131"/>
                                </a:lnTo>
                                <a:lnTo>
                                  <a:pt x="83" y="129"/>
                                </a:lnTo>
                                <a:lnTo>
                                  <a:pt x="75" y="125"/>
                                </a:lnTo>
                                <a:lnTo>
                                  <a:pt x="68" y="121"/>
                                </a:lnTo>
                                <a:lnTo>
                                  <a:pt x="63" y="113"/>
                                </a:lnTo>
                                <a:lnTo>
                                  <a:pt x="44" y="115"/>
                                </a:lnTo>
                                <a:lnTo>
                                  <a:pt x="27" y="110"/>
                                </a:lnTo>
                                <a:lnTo>
                                  <a:pt x="16" y="99"/>
                                </a:lnTo>
                                <a:lnTo>
                                  <a:pt x="9" y="90"/>
                                </a:lnTo>
                                <a:lnTo>
                                  <a:pt x="4" y="83"/>
                                </a:lnTo>
                                <a:lnTo>
                                  <a:pt x="4" y="68"/>
                                </a:lnTo>
                                <a:lnTo>
                                  <a:pt x="0" y="4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4480" bIns="24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4" name=""/>
                          <p:cNvSpPr/>
                          <p:nvPr/>
                        </p:nvSpPr>
                        <p:spPr>
                          <a:xfrm>
                            <a:off x="8701920" y="3755160"/>
                            <a:ext cx="111240" cy="67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4" h="122">
                                <a:moveTo>
                                  <a:pt x="0" y="0"/>
                                </a:moveTo>
                                <a:lnTo>
                                  <a:pt x="22" y="2"/>
                                </a:lnTo>
                                <a:lnTo>
                                  <a:pt x="40" y="3"/>
                                </a:lnTo>
                                <a:lnTo>
                                  <a:pt x="48" y="21"/>
                                </a:lnTo>
                                <a:lnTo>
                                  <a:pt x="50" y="26"/>
                                </a:lnTo>
                                <a:lnTo>
                                  <a:pt x="52" y="29"/>
                                </a:lnTo>
                                <a:lnTo>
                                  <a:pt x="58" y="25"/>
                                </a:lnTo>
                                <a:lnTo>
                                  <a:pt x="67" y="25"/>
                                </a:lnTo>
                                <a:lnTo>
                                  <a:pt x="73" y="29"/>
                                </a:lnTo>
                                <a:lnTo>
                                  <a:pt x="76" y="28"/>
                                </a:lnTo>
                                <a:lnTo>
                                  <a:pt x="84" y="21"/>
                                </a:lnTo>
                                <a:lnTo>
                                  <a:pt x="85" y="21"/>
                                </a:lnTo>
                                <a:lnTo>
                                  <a:pt x="92" y="16"/>
                                </a:lnTo>
                                <a:lnTo>
                                  <a:pt x="99" y="16"/>
                                </a:lnTo>
                                <a:lnTo>
                                  <a:pt x="121" y="25"/>
                                </a:lnTo>
                                <a:lnTo>
                                  <a:pt x="131" y="25"/>
                                </a:lnTo>
                                <a:lnTo>
                                  <a:pt x="140" y="32"/>
                                </a:lnTo>
                                <a:lnTo>
                                  <a:pt x="150" y="35"/>
                                </a:lnTo>
                                <a:lnTo>
                                  <a:pt x="158" y="41"/>
                                </a:lnTo>
                                <a:lnTo>
                                  <a:pt x="165" y="42"/>
                                </a:lnTo>
                                <a:lnTo>
                                  <a:pt x="183" y="48"/>
                                </a:lnTo>
                                <a:lnTo>
                                  <a:pt x="191" y="58"/>
                                </a:lnTo>
                                <a:lnTo>
                                  <a:pt x="195" y="64"/>
                                </a:lnTo>
                                <a:lnTo>
                                  <a:pt x="194" y="67"/>
                                </a:lnTo>
                                <a:lnTo>
                                  <a:pt x="200" y="73"/>
                                </a:lnTo>
                                <a:lnTo>
                                  <a:pt x="206" y="74"/>
                                </a:lnTo>
                                <a:lnTo>
                                  <a:pt x="209" y="76"/>
                                </a:lnTo>
                                <a:lnTo>
                                  <a:pt x="216" y="77"/>
                                </a:lnTo>
                                <a:lnTo>
                                  <a:pt x="227" y="86"/>
                                </a:lnTo>
                                <a:lnTo>
                                  <a:pt x="227" y="92"/>
                                </a:lnTo>
                                <a:lnTo>
                                  <a:pt x="233" y="97"/>
                                </a:lnTo>
                                <a:lnTo>
                                  <a:pt x="235" y="100"/>
                                </a:lnTo>
                                <a:lnTo>
                                  <a:pt x="244" y="112"/>
                                </a:lnTo>
                                <a:lnTo>
                                  <a:pt x="236" y="122"/>
                                </a:lnTo>
                                <a:lnTo>
                                  <a:pt x="233" y="122"/>
                                </a:lnTo>
                                <a:lnTo>
                                  <a:pt x="225" y="122"/>
                                </a:lnTo>
                                <a:lnTo>
                                  <a:pt x="222" y="118"/>
                                </a:lnTo>
                                <a:lnTo>
                                  <a:pt x="218" y="118"/>
                                </a:lnTo>
                                <a:lnTo>
                                  <a:pt x="214" y="119"/>
                                </a:lnTo>
                                <a:lnTo>
                                  <a:pt x="194" y="96"/>
                                </a:lnTo>
                                <a:lnTo>
                                  <a:pt x="181" y="97"/>
                                </a:lnTo>
                                <a:lnTo>
                                  <a:pt x="169" y="96"/>
                                </a:lnTo>
                                <a:lnTo>
                                  <a:pt x="165" y="99"/>
                                </a:lnTo>
                                <a:lnTo>
                                  <a:pt x="161" y="103"/>
                                </a:lnTo>
                                <a:lnTo>
                                  <a:pt x="159" y="100"/>
                                </a:lnTo>
                                <a:lnTo>
                                  <a:pt x="154" y="108"/>
                                </a:lnTo>
                                <a:lnTo>
                                  <a:pt x="146" y="118"/>
                                </a:lnTo>
                                <a:lnTo>
                                  <a:pt x="139" y="113"/>
                                </a:lnTo>
                                <a:lnTo>
                                  <a:pt x="131" y="111"/>
                                </a:lnTo>
                                <a:lnTo>
                                  <a:pt x="125" y="111"/>
                                </a:lnTo>
                                <a:lnTo>
                                  <a:pt x="117" y="108"/>
                                </a:lnTo>
                                <a:lnTo>
                                  <a:pt x="113" y="111"/>
                                </a:lnTo>
                                <a:lnTo>
                                  <a:pt x="107" y="96"/>
                                </a:lnTo>
                                <a:lnTo>
                                  <a:pt x="98" y="83"/>
                                </a:lnTo>
                                <a:lnTo>
                                  <a:pt x="88" y="67"/>
                                </a:lnTo>
                                <a:lnTo>
                                  <a:pt x="80" y="58"/>
                                </a:lnTo>
                                <a:lnTo>
                                  <a:pt x="73" y="50"/>
                                </a:lnTo>
                                <a:lnTo>
                                  <a:pt x="58" y="50"/>
                                </a:lnTo>
                                <a:lnTo>
                                  <a:pt x="44" y="54"/>
                                </a:lnTo>
                                <a:lnTo>
                                  <a:pt x="37" y="48"/>
                                </a:lnTo>
                                <a:lnTo>
                                  <a:pt x="24" y="44"/>
                                </a:lnTo>
                                <a:lnTo>
                                  <a:pt x="17" y="39"/>
                                </a:lnTo>
                                <a:lnTo>
                                  <a:pt x="17" y="22"/>
                                </a:lnTo>
                                <a:lnTo>
                                  <a:pt x="18" y="13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520" bIns="20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5" name=""/>
                          <p:cNvSpPr/>
                          <p:nvPr/>
                        </p:nvSpPr>
                        <p:spPr>
                          <a:xfrm>
                            <a:off x="8495640" y="3707280"/>
                            <a:ext cx="67320" cy="88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8" h="161">
                                <a:moveTo>
                                  <a:pt x="0" y="4"/>
                                </a:moveTo>
                                <a:lnTo>
                                  <a:pt x="15" y="0"/>
                                </a:lnTo>
                                <a:lnTo>
                                  <a:pt x="33" y="7"/>
                                </a:lnTo>
                                <a:lnTo>
                                  <a:pt x="35" y="15"/>
                                </a:lnTo>
                                <a:lnTo>
                                  <a:pt x="35" y="17"/>
                                </a:lnTo>
                                <a:lnTo>
                                  <a:pt x="40" y="19"/>
                                </a:lnTo>
                                <a:lnTo>
                                  <a:pt x="40" y="22"/>
                                </a:lnTo>
                                <a:lnTo>
                                  <a:pt x="45" y="23"/>
                                </a:lnTo>
                                <a:lnTo>
                                  <a:pt x="45" y="29"/>
                                </a:lnTo>
                                <a:lnTo>
                                  <a:pt x="63" y="47"/>
                                </a:lnTo>
                                <a:lnTo>
                                  <a:pt x="66" y="47"/>
                                </a:lnTo>
                                <a:lnTo>
                                  <a:pt x="68" y="51"/>
                                </a:lnTo>
                                <a:lnTo>
                                  <a:pt x="71" y="55"/>
                                </a:lnTo>
                                <a:lnTo>
                                  <a:pt x="74" y="55"/>
                                </a:lnTo>
                                <a:lnTo>
                                  <a:pt x="86" y="61"/>
                                </a:lnTo>
                                <a:lnTo>
                                  <a:pt x="109" y="64"/>
                                </a:lnTo>
                                <a:lnTo>
                                  <a:pt x="111" y="84"/>
                                </a:lnTo>
                                <a:lnTo>
                                  <a:pt x="116" y="87"/>
                                </a:lnTo>
                                <a:lnTo>
                                  <a:pt x="115" y="94"/>
                                </a:lnTo>
                                <a:lnTo>
                                  <a:pt x="129" y="105"/>
                                </a:lnTo>
                                <a:lnTo>
                                  <a:pt x="141" y="109"/>
                                </a:lnTo>
                                <a:lnTo>
                                  <a:pt x="141" y="142"/>
                                </a:lnTo>
                                <a:lnTo>
                                  <a:pt x="148" y="155"/>
                                </a:lnTo>
                                <a:lnTo>
                                  <a:pt x="144" y="160"/>
                                </a:lnTo>
                                <a:lnTo>
                                  <a:pt x="136" y="161"/>
                                </a:lnTo>
                                <a:lnTo>
                                  <a:pt x="134" y="150"/>
                                </a:lnTo>
                                <a:lnTo>
                                  <a:pt x="120" y="161"/>
                                </a:lnTo>
                                <a:lnTo>
                                  <a:pt x="111" y="144"/>
                                </a:lnTo>
                                <a:lnTo>
                                  <a:pt x="105" y="132"/>
                                </a:lnTo>
                                <a:lnTo>
                                  <a:pt x="89" y="116"/>
                                </a:lnTo>
                                <a:lnTo>
                                  <a:pt x="85" y="116"/>
                                </a:lnTo>
                                <a:lnTo>
                                  <a:pt x="70" y="108"/>
                                </a:lnTo>
                                <a:lnTo>
                                  <a:pt x="67" y="99"/>
                                </a:lnTo>
                                <a:lnTo>
                                  <a:pt x="67" y="93"/>
                                </a:lnTo>
                                <a:lnTo>
                                  <a:pt x="55" y="70"/>
                                </a:lnTo>
                                <a:lnTo>
                                  <a:pt x="49" y="55"/>
                                </a:lnTo>
                                <a:lnTo>
                                  <a:pt x="34" y="42"/>
                                </a:lnTo>
                                <a:lnTo>
                                  <a:pt x="13" y="22"/>
                                </a:lnTo>
                                <a:lnTo>
                                  <a:pt x="0" y="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1400" bIns="414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6" name=""/>
                          <p:cNvSpPr/>
                          <p:nvPr/>
                        </p:nvSpPr>
                        <p:spPr>
                          <a:xfrm>
                            <a:off x="8616240" y="3610440"/>
                            <a:ext cx="64800" cy="99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3" h="178">
                                <a:moveTo>
                                  <a:pt x="10" y="0"/>
                                </a:moveTo>
                                <a:lnTo>
                                  <a:pt x="22" y="0"/>
                                </a:lnTo>
                                <a:lnTo>
                                  <a:pt x="36" y="19"/>
                                </a:lnTo>
                                <a:lnTo>
                                  <a:pt x="33" y="36"/>
                                </a:lnTo>
                                <a:lnTo>
                                  <a:pt x="41" y="42"/>
                                </a:lnTo>
                                <a:lnTo>
                                  <a:pt x="45" y="54"/>
                                </a:lnTo>
                                <a:lnTo>
                                  <a:pt x="55" y="59"/>
                                </a:lnTo>
                                <a:lnTo>
                                  <a:pt x="66" y="61"/>
                                </a:lnTo>
                                <a:lnTo>
                                  <a:pt x="82" y="69"/>
                                </a:lnTo>
                                <a:lnTo>
                                  <a:pt x="93" y="81"/>
                                </a:lnTo>
                                <a:lnTo>
                                  <a:pt x="96" y="81"/>
                                </a:lnTo>
                                <a:lnTo>
                                  <a:pt x="110" y="90"/>
                                </a:lnTo>
                                <a:lnTo>
                                  <a:pt x="110" y="112"/>
                                </a:lnTo>
                                <a:lnTo>
                                  <a:pt x="114" y="122"/>
                                </a:lnTo>
                                <a:lnTo>
                                  <a:pt x="118" y="128"/>
                                </a:lnTo>
                                <a:lnTo>
                                  <a:pt x="123" y="133"/>
                                </a:lnTo>
                                <a:lnTo>
                                  <a:pt x="129" y="141"/>
                                </a:lnTo>
                                <a:lnTo>
                                  <a:pt x="132" y="149"/>
                                </a:lnTo>
                                <a:lnTo>
                                  <a:pt x="143" y="157"/>
                                </a:lnTo>
                                <a:lnTo>
                                  <a:pt x="141" y="165"/>
                                </a:lnTo>
                                <a:lnTo>
                                  <a:pt x="130" y="167"/>
                                </a:lnTo>
                                <a:lnTo>
                                  <a:pt x="126" y="160"/>
                                </a:lnTo>
                                <a:lnTo>
                                  <a:pt x="118" y="160"/>
                                </a:lnTo>
                                <a:lnTo>
                                  <a:pt x="118" y="178"/>
                                </a:lnTo>
                                <a:lnTo>
                                  <a:pt x="111" y="178"/>
                                </a:lnTo>
                                <a:lnTo>
                                  <a:pt x="103" y="170"/>
                                </a:lnTo>
                                <a:lnTo>
                                  <a:pt x="97" y="165"/>
                                </a:lnTo>
                                <a:lnTo>
                                  <a:pt x="97" y="155"/>
                                </a:lnTo>
                                <a:lnTo>
                                  <a:pt x="85" y="155"/>
                                </a:lnTo>
                                <a:lnTo>
                                  <a:pt x="81" y="165"/>
                                </a:lnTo>
                                <a:lnTo>
                                  <a:pt x="77" y="155"/>
                                </a:lnTo>
                                <a:lnTo>
                                  <a:pt x="75" y="145"/>
                                </a:lnTo>
                                <a:lnTo>
                                  <a:pt x="91" y="141"/>
                                </a:lnTo>
                                <a:lnTo>
                                  <a:pt x="99" y="144"/>
                                </a:lnTo>
                                <a:lnTo>
                                  <a:pt x="100" y="126"/>
                                </a:lnTo>
                                <a:lnTo>
                                  <a:pt x="92" y="120"/>
                                </a:lnTo>
                                <a:lnTo>
                                  <a:pt x="86" y="106"/>
                                </a:lnTo>
                                <a:lnTo>
                                  <a:pt x="82" y="88"/>
                                </a:lnTo>
                                <a:lnTo>
                                  <a:pt x="67" y="83"/>
                                </a:lnTo>
                                <a:lnTo>
                                  <a:pt x="60" y="74"/>
                                </a:lnTo>
                                <a:lnTo>
                                  <a:pt x="48" y="69"/>
                                </a:lnTo>
                                <a:lnTo>
                                  <a:pt x="55" y="87"/>
                                </a:lnTo>
                                <a:lnTo>
                                  <a:pt x="41" y="94"/>
                                </a:lnTo>
                                <a:lnTo>
                                  <a:pt x="33" y="75"/>
                                </a:lnTo>
                                <a:lnTo>
                                  <a:pt x="26" y="71"/>
                                </a:lnTo>
                                <a:lnTo>
                                  <a:pt x="26" y="61"/>
                                </a:lnTo>
                                <a:lnTo>
                                  <a:pt x="17" y="49"/>
                                </a:lnTo>
                                <a:lnTo>
                                  <a:pt x="6" y="42"/>
                                </a:lnTo>
                                <a:lnTo>
                                  <a:pt x="0" y="35"/>
                                </a:lnTo>
                                <a:lnTo>
                                  <a:pt x="3" y="29"/>
                                </a:lnTo>
                                <a:lnTo>
                                  <a:pt x="11" y="32"/>
                                </a:lnTo>
                                <a:lnTo>
                                  <a:pt x="14" y="24"/>
                                </a:lnTo>
                                <a:lnTo>
                                  <a:pt x="11" y="14"/>
                                </a:lnTo>
                                <a:lnTo>
                                  <a:pt x="1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7" name=""/>
                          <p:cNvSpPr/>
                          <p:nvPr/>
                        </p:nvSpPr>
                        <p:spPr>
                          <a:xfrm>
                            <a:off x="8600400" y="3443400"/>
                            <a:ext cx="48240" cy="83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6" h="153">
                                <a:moveTo>
                                  <a:pt x="22" y="0"/>
                                </a:moveTo>
                                <a:lnTo>
                                  <a:pt x="43" y="10"/>
                                </a:lnTo>
                                <a:lnTo>
                                  <a:pt x="55" y="22"/>
                                </a:lnTo>
                                <a:lnTo>
                                  <a:pt x="63" y="35"/>
                                </a:lnTo>
                                <a:lnTo>
                                  <a:pt x="70" y="35"/>
                                </a:lnTo>
                                <a:lnTo>
                                  <a:pt x="69" y="44"/>
                                </a:lnTo>
                                <a:lnTo>
                                  <a:pt x="77" y="50"/>
                                </a:lnTo>
                                <a:lnTo>
                                  <a:pt x="82" y="58"/>
                                </a:lnTo>
                                <a:lnTo>
                                  <a:pt x="96" y="76"/>
                                </a:lnTo>
                                <a:lnTo>
                                  <a:pt x="106" y="96"/>
                                </a:lnTo>
                                <a:lnTo>
                                  <a:pt x="88" y="95"/>
                                </a:lnTo>
                                <a:lnTo>
                                  <a:pt x="74" y="92"/>
                                </a:lnTo>
                                <a:lnTo>
                                  <a:pt x="84" y="106"/>
                                </a:lnTo>
                                <a:lnTo>
                                  <a:pt x="84" y="115"/>
                                </a:lnTo>
                                <a:lnTo>
                                  <a:pt x="84" y="124"/>
                                </a:lnTo>
                                <a:lnTo>
                                  <a:pt x="78" y="119"/>
                                </a:lnTo>
                                <a:lnTo>
                                  <a:pt x="71" y="112"/>
                                </a:lnTo>
                                <a:lnTo>
                                  <a:pt x="59" y="103"/>
                                </a:lnTo>
                                <a:lnTo>
                                  <a:pt x="52" y="99"/>
                                </a:lnTo>
                                <a:lnTo>
                                  <a:pt x="41" y="103"/>
                                </a:lnTo>
                                <a:lnTo>
                                  <a:pt x="34" y="106"/>
                                </a:lnTo>
                                <a:lnTo>
                                  <a:pt x="39" y="114"/>
                                </a:lnTo>
                                <a:lnTo>
                                  <a:pt x="50" y="119"/>
                                </a:lnTo>
                                <a:lnTo>
                                  <a:pt x="60" y="125"/>
                                </a:lnTo>
                                <a:lnTo>
                                  <a:pt x="65" y="135"/>
                                </a:lnTo>
                                <a:lnTo>
                                  <a:pt x="63" y="148"/>
                                </a:lnTo>
                                <a:lnTo>
                                  <a:pt x="63" y="153"/>
                                </a:lnTo>
                                <a:lnTo>
                                  <a:pt x="59" y="153"/>
                                </a:lnTo>
                                <a:lnTo>
                                  <a:pt x="52" y="148"/>
                                </a:lnTo>
                                <a:lnTo>
                                  <a:pt x="50" y="147"/>
                                </a:lnTo>
                                <a:lnTo>
                                  <a:pt x="45" y="144"/>
                                </a:lnTo>
                                <a:lnTo>
                                  <a:pt x="41" y="151"/>
                                </a:lnTo>
                                <a:lnTo>
                                  <a:pt x="34" y="153"/>
                                </a:lnTo>
                                <a:lnTo>
                                  <a:pt x="29" y="147"/>
                                </a:lnTo>
                                <a:lnTo>
                                  <a:pt x="29" y="134"/>
                                </a:lnTo>
                                <a:lnTo>
                                  <a:pt x="28" y="127"/>
                                </a:lnTo>
                                <a:lnTo>
                                  <a:pt x="21" y="122"/>
                                </a:lnTo>
                                <a:lnTo>
                                  <a:pt x="14" y="130"/>
                                </a:lnTo>
                                <a:lnTo>
                                  <a:pt x="3" y="130"/>
                                </a:lnTo>
                                <a:lnTo>
                                  <a:pt x="0" y="124"/>
                                </a:lnTo>
                                <a:lnTo>
                                  <a:pt x="3" y="109"/>
                                </a:lnTo>
                                <a:lnTo>
                                  <a:pt x="11" y="101"/>
                                </a:lnTo>
                                <a:lnTo>
                                  <a:pt x="10" y="77"/>
                                </a:lnTo>
                                <a:lnTo>
                                  <a:pt x="10" y="71"/>
                                </a:lnTo>
                                <a:lnTo>
                                  <a:pt x="18" y="70"/>
                                </a:lnTo>
                                <a:lnTo>
                                  <a:pt x="25" y="76"/>
                                </a:lnTo>
                                <a:lnTo>
                                  <a:pt x="37" y="79"/>
                                </a:lnTo>
                                <a:lnTo>
                                  <a:pt x="37" y="69"/>
                                </a:lnTo>
                                <a:lnTo>
                                  <a:pt x="32" y="63"/>
                                </a:lnTo>
                                <a:lnTo>
                                  <a:pt x="29" y="58"/>
                                </a:lnTo>
                                <a:lnTo>
                                  <a:pt x="33" y="58"/>
                                </a:lnTo>
                                <a:lnTo>
                                  <a:pt x="36" y="58"/>
                                </a:lnTo>
                                <a:lnTo>
                                  <a:pt x="39" y="58"/>
                                </a:lnTo>
                                <a:lnTo>
                                  <a:pt x="41" y="58"/>
                                </a:lnTo>
                                <a:lnTo>
                                  <a:pt x="45" y="54"/>
                                </a:lnTo>
                                <a:lnTo>
                                  <a:pt x="44" y="50"/>
                                </a:lnTo>
                                <a:lnTo>
                                  <a:pt x="40" y="40"/>
                                </a:lnTo>
                                <a:lnTo>
                                  <a:pt x="32" y="29"/>
                                </a:lnTo>
                                <a:lnTo>
                                  <a:pt x="21" y="24"/>
                                </a:lnTo>
                                <a:lnTo>
                                  <a:pt x="17" y="15"/>
                                </a:lnTo>
                                <a:lnTo>
                                  <a:pt x="2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7080" bIns="37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8" name=""/>
                          <p:cNvSpPr/>
                          <p:nvPr/>
                        </p:nvSpPr>
                        <p:spPr>
                          <a:xfrm>
                            <a:off x="8545680" y="3343320"/>
                            <a:ext cx="52200" cy="68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6" h="123">
                                <a:moveTo>
                                  <a:pt x="0" y="0"/>
                                </a:moveTo>
                                <a:lnTo>
                                  <a:pt x="11" y="0"/>
                                </a:lnTo>
                                <a:lnTo>
                                  <a:pt x="16" y="9"/>
                                </a:lnTo>
                                <a:lnTo>
                                  <a:pt x="31" y="22"/>
                                </a:lnTo>
                                <a:lnTo>
                                  <a:pt x="37" y="36"/>
                                </a:lnTo>
                                <a:lnTo>
                                  <a:pt x="48" y="38"/>
                                </a:lnTo>
                                <a:lnTo>
                                  <a:pt x="57" y="40"/>
                                </a:lnTo>
                                <a:lnTo>
                                  <a:pt x="64" y="46"/>
                                </a:lnTo>
                                <a:lnTo>
                                  <a:pt x="72" y="46"/>
                                </a:lnTo>
                                <a:lnTo>
                                  <a:pt x="81" y="55"/>
                                </a:lnTo>
                                <a:lnTo>
                                  <a:pt x="90" y="62"/>
                                </a:lnTo>
                                <a:lnTo>
                                  <a:pt x="99" y="67"/>
                                </a:lnTo>
                                <a:lnTo>
                                  <a:pt x="98" y="71"/>
                                </a:lnTo>
                                <a:lnTo>
                                  <a:pt x="92" y="74"/>
                                </a:lnTo>
                                <a:lnTo>
                                  <a:pt x="87" y="74"/>
                                </a:lnTo>
                                <a:lnTo>
                                  <a:pt x="84" y="78"/>
                                </a:lnTo>
                                <a:lnTo>
                                  <a:pt x="95" y="87"/>
                                </a:lnTo>
                                <a:lnTo>
                                  <a:pt x="103" y="96"/>
                                </a:lnTo>
                                <a:lnTo>
                                  <a:pt x="116" y="104"/>
                                </a:lnTo>
                                <a:lnTo>
                                  <a:pt x="107" y="115"/>
                                </a:lnTo>
                                <a:lnTo>
                                  <a:pt x="101" y="117"/>
                                </a:lnTo>
                                <a:lnTo>
                                  <a:pt x="102" y="123"/>
                                </a:lnTo>
                                <a:lnTo>
                                  <a:pt x="90" y="123"/>
                                </a:lnTo>
                                <a:lnTo>
                                  <a:pt x="85" y="119"/>
                                </a:lnTo>
                                <a:lnTo>
                                  <a:pt x="76" y="107"/>
                                </a:lnTo>
                                <a:lnTo>
                                  <a:pt x="69" y="97"/>
                                </a:lnTo>
                                <a:lnTo>
                                  <a:pt x="58" y="80"/>
                                </a:lnTo>
                                <a:lnTo>
                                  <a:pt x="46" y="67"/>
                                </a:lnTo>
                                <a:lnTo>
                                  <a:pt x="32" y="48"/>
                                </a:lnTo>
                                <a:lnTo>
                                  <a:pt x="24" y="42"/>
                                </a:lnTo>
                                <a:lnTo>
                                  <a:pt x="17" y="38"/>
                                </a:lnTo>
                                <a:lnTo>
                                  <a:pt x="14" y="27"/>
                                </a:lnTo>
                                <a:lnTo>
                                  <a:pt x="2" y="19"/>
                                </a:lnTo>
                                <a:lnTo>
                                  <a:pt x="2" y="13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240" bIns="21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99" name=""/>
                        <p:cNvGrpSpPr/>
                        <p:nvPr/>
                      </p:nvGrpSpPr>
                      <p:grpSpPr>
                        <a:xfrm>
                          <a:off x="7855920" y="3203280"/>
                          <a:ext cx="770040" cy="1130400"/>
                          <a:chOff x="7855920" y="3203280"/>
                          <a:chExt cx="770040" cy="1130400"/>
                        </a:xfrm>
                      </p:grpSpPr>
                      <p:sp>
                        <p:nvSpPr>
                          <p:cNvPr id="1800" name=""/>
                          <p:cNvSpPr/>
                          <p:nvPr/>
                        </p:nvSpPr>
                        <p:spPr>
                          <a:xfrm>
                            <a:off x="7855920" y="3483720"/>
                            <a:ext cx="383040" cy="517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38" h="938">
                                <a:moveTo>
                                  <a:pt x="626" y="112"/>
                                </a:moveTo>
                                <a:lnTo>
                                  <a:pt x="640" y="151"/>
                                </a:lnTo>
                                <a:lnTo>
                                  <a:pt x="666" y="210"/>
                                </a:lnTo>
                                <a:lnTo>
                                  <a:pt x="718" y="306"/>
                                </a:lnTo>
                                <a:lnTo>
                                  <a:pt x="737" y="319"/>
                                </a:lnTo>
                                <a:lnTo>
                                  <a:pt x="750" y="347"/>
                                </a:lnTo>
                                <a:lnTo>
                                  <a:pt x="791" y="346"/>
                                </a:lnTo>
                                <a:lnTo>
                                  <a:pt x="818" y="337"/>
                                </a:lnTo>
                                <a:lnTo>
                                  <a:pt x="838" y="337"/>
                                </a:lnTo>
                                <a:lnTo>
                                  <a:pt x="836" y="375"/>
                                </a:lnTo>
                                <a:lnTo>
                                  <a:pt x="829" y="395"/>
                                </a:lnTo>
                                <a:lnTo>
                                  <a:pt x="754" y="479"/>
                                </a:lnTo>
                                <a:lnTo>
                                  <a:pt x="685" y="566"/>
                                </a:lnTo>
                                <a:lnTo>
                                  <a:pt x="687" y="600"/>
                                </a:lnTo>
                                <a:lnTo>
                                  <a:pt x="706" y="624"/>
                                </a:lnTo>
                                <a:lnTo>
                                  <a:pt x="696" y="643"/>
                                </a:lnTo>
                                <a:lnTo>
                                  <a:pt x="702" y="669"/>
                                </a:lnTo>
                                <a:lnTo>
                                  <a:pt x="696" y="688"/>
                                </a:lnTo>
                                <a:lnTo>
                                  <a:pt x="680" y="704"/>
                                </a:lnTo>
                                <a:lnTo>
                                  <a:pt x="666" y="704"/>
                                </a:lnTo>
                                <a:lnTo>
                                  <a:pt x="643" y="732"/>
                                </a:lnTo>
                                <a:lnTo>
                                  <a:pt x="622" y="764"/>
                                </a:lnTo>
                                <a:lnTo>
                                  <a:pt x="626" y="799"/>
                                </a:lnTo>
                                <a:lnTo>
                                  <a:pt x="606" y="815"/>
                                </a:lnTo>
                                <a:lnTo>
                                  <a:pt x="587" y="851"/>
                                </a:lnTo>
                                <a:lnTo>
                                  <a:pt x="563" y="884"/>
                                </a:lnTo>
                                <a:lnTo>
                                  <a:pt x="551" y="897"/>
                                </a:lnTo>
                                <a:lnTo>
                                  <a:pt x="540" y="900"/>
                                </a:lnTo>
                                <a:lnTo>
                                  <a:pt x="521" y="922"/>
                                </a:lnTo>
                                <a:lnTo>
                                  <a:pt x="489" y="935"/>
                                </a:lnTo>
                                <a:lnTo>
                                  <a:pt x="449" y="938"/>
                                </a:lnTo>
                                <a:lnTo>
                                  <a:pt x="427" y="923"/>
                                </a:lnTo>
                                <a:lnTo>
                                  <a:pt x="425" y="909"/>
                                </a:lnTo>
                                <a:lnTo>
                                  <a:pt x="421" y="890"/>
                                </a:lnTo>
                                <a:lnTo>
                                  <a:pt x="406" y="880"/>
                                </a:lnTo>
                                <a:lnTo>
                                  <a:pt x="393" y="844"/>
                                </a:lnTo>
                                <a:lnTo>
                                  <a:pt x="389" y="826"/>
                                </a:lnTo>
                                <a:lnTo>
                                  <a:pt x="388" y="804"/>
                                </a:lnTo>
                                <a:lnTo>
                                  <a:pt x="381" y="788"/>
                                </a:lnTo>
                                <a:lnTo>
                                  <a:pt x="379" y="778"/>
                                </a:lnTo>
                                <a:lnTo>
                                  <a:pt x="367" y="762"/>
                                </a:lnTo>
                                <a:lnTo>
                                  <a:pt x="353" y="749"/>
                                </a:lnTo>
                                <a:lnTo>
                                  <a:pt x="344" y="727"/>
                                </a:lnTo>
                                <a:lnTo>
                                  <a:pt x="337" y="711"/>
                                </a:lnTo>
                                <a:lnTo>
                                  <a:pt x="340" y="685"/>
                                </a:lnTo>
                                <a:lnTo>
                                  <a:pt x="360" y="646"/>
                                </a:lnTo>
                                <a:lnTo>
                                  <a:pt x="364" y="604"/>
                                </a:lnTo>
                                <a:lnTo>
                                  <a:pt x="349" y="556"/>
                                </a:lnTo>
                                <a:lnTo>
                                  <a:pt x="327" y="537"/>
                                </a:lnTo>
                                <a:lnTo>
                                  <a:pt x="312" y="511"/>
                                </a:lnTo>
                                <a:lnTo>
                                  <a:pt x="318" y="470"/>
                                </a:lnTo>
                                <a:lnTo>
                                  <a:pt x="307" y="440"/>
                                </a:lnTo>
                                <a:lnTo>
                                  <a:pt x="281" y="437"/>
                                </a:lnTo>
                                <a:lnTo>
                                  <a:pt x="253" y="414"/>
                                </a:lnTo>
                                <a:lnTo>
                                  <a:pt x="219" y="401"/>
                                </a:lnTo>
                                <a:lnTo>
                                  <a:pt x="183" y="421"/>
                                </a:lnTo>
                                <a:lnTo>
                                  <a:pt x="90" y="415"/>
                                </a:lnTo>
                                <a:lnTo>
                                  <a:pt x="39" y="364"/>
                                </a:lnTo>
                                <a:lnTo>
                                  <a:pt x="0" y="295"/>
                                </a:lnTo>
                                <a:lnTo>
                                  <a:pt x="7" y="271"/>
                                </a:lnTo>
                                <a:lnTo>
                                  <a:pt x="24" y="254"/>
                                </a:lnTo>
                                <a:lnTo>
                                  <a:pt x="33" y="206"/>
                                </a:lnTo>
                                <a:lnTo>
                                  <a:pt x="45" y="171"/>
                                </a:lnTo>
                                <a:lnTo>
                                  <a:pt x="81" y="135"/>
                                </a:lnTo>
                                <a:lnTo>
                                  <a:pt x="118" y="119"/>
                                </a:lnTo>
                                <a:lnTo>
                                  <a:pt x="152" y="81"/>
                                </a:lnTo>
                                <a:lnTo>
                                  <a:pt x="160" y="65"/>
                                </a:lnTo>
                                <a:lnTo>
                                  <a:pt x="205" y="25"/>
                                </a:lnTo>
                                <a:lnTo>
                                  <a:pt x="234" y="41"/>
                                </a:lnTo>
                                <a:lnTo>
                                  <a:pt x="255" y="39"/>
                                </a:lnTo>
                                <a:lnTo>
                                  <a:pt x="279" y="17"/>
                                </a:lnTo>
                                <a:lnTo>
                                  <a:pt x="308" y="14"/>
                                </a:lnTo>
                                <a:lnTo>
                                  <a:pt x="327" y="20"/>
                                </a:lnTo>
                                <a:lnTo>
                                  <a:pt x="345" y="3"/>
                                </a:lnTo>
                                <a:lnTo>
                                  <a:pt x="369" y="0"/>
                                </a:lnTo>
                                <a:lnTo>
                                  <a:pt x="374" y="32"/>
                                </a:lnTo>
                                <a:lnTo>
                                  <a:pt x="389" y="55"/>
                                </a:lnTo>
                                <a:lnTo>
                                  <a:pt x="432" y="78"/>
                                </a:lnTo>
                                <a:lnTo>
                                  <a:pt x="467" y="83"/>
                                </a:lnTo>
                                <a:lnTo>
                                  <a:pt x="471" y="57"/>
                                </a:lnTo>
                                <a:lnTo>
                                  <a:pt x="499" y="57"/>
                                </a:lnTo>
                                <a:lnTo>
                                  <a:pt x="532" y="73"/>
                                </a:lnTo>
                                <a:lnTo>
                                  <a:pt x="567" y="81"/>
                                </a:lnTo>
                                <a:lnTo>
                                  <a:pt x="599" y="71"/>
                                </a:lnTo>
                                <a:lnTo>
                                  <a:pt x="626" y="11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801" name=""/>
                          <p:cNvGrpSpPr/>
                          <p:nvPr/>
                        </p:nvGrpSpPr>
                        <p:grpSpPr>
                          <a:xfrm>
                            <a:off x="7881120" y="3203280"/>
                            <a:ext cx="168840" cy="177480"/>
                            <a:chOff x="7881120" y="3203280"/>
                            <a:chExt cx="168840" cy="177480"/>
                          </a:xfrm>
                        </p:grpSpPr>
                        <p:grpSp>
                          <p:nvGrpSpPr>
                            <p:cNvPr id="1802" name=""/>
                            <p:cNvGrpSpPr/>
                            <p:nvPr/>
                          </p:nvGrpSpPr>
                          <p:grpSpPr>
                            <a:xfrm>
                              <a:off x="7948800" y="3314520"/>
                              <a:ext cx="51840" cy="66240"/>
                              <a:chOff x="7948800" y="3314520"/>
                              <a:chExt cx="51840" cy="66240"/>
                            </a:xfrm>
                          </p:grpSpPr>
                          <p:sp>
                            <p:nvSpPr>
                              <p:cNvPr id="1803" name=""/>
                              <p:cNvSpPr/>
                              <p:nvPr/>
                            </p:nvSpPr>
                            <p:spPr>
                              <a:xfrm>
                                <a:off x="7948800" y="3338640"/>
                                <a:ext cx="24480" cy="37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3" h="66">
                                    <a:moveTo>
                                      <a:pt x="12" y="20"/>
                                    </a:moveTo>
                                    <a:lnTo>
                                      <a:pt x="16" y="13"/>
                                    </a:lnTo>
                                    <a:lnTo>
                                      <a:pt x="26" y="13"/>
                                    </a:lnTo>
                                    <a:lnTo>
                                      <a:pt x="40" y="0"/>
                                    </a:lnTo>
                                    <a:lnTo>
                                      <a:pt x="44" y="8"/>
                                    </a:lnTo>
                                    <a:lnTo>
                                      <a:pt x="51" y="8"/>
                                    </a:lnTo>
                                    <a:lnTo>
                                      <a:pt x="53" y="13"/>
                                    </a:lnTo>
                                    <a:lnTo>
                                      <a:pt x="49" y="20"/>
                                    </a:lnTo>
                                    <a:lnTo>
                                      <a:pt x="44" y="23"/>
                                    </a:lnTo>
                                    <a:lnTo>
                                      <a:pt x="44" y="29"/>
                                    </a:lnTo>
                                    <a:lnTo>
                                      <a:pt x="42" y="31"/>
                                    </a:lnTo>
                                    <a:lnTo>
                                      <a:pt x="41" y="36"/>
                                    </a:lnTo>
                                    <a:lnTo>
                                      <a:pt x="44" y="42"/>
                                    </a:lnTo>
                                    <a:lnTo>
                                      <a:pt x="40" y="47"/>
                                    </a:lnTo>
                                    <a:lnTo>
                                      <a:pt x="36" y="50"/>
                                    </a:lnTo>
                                    <a:lnTo>
                                      <a:pt x="32" y="50"/>
                                    </a:lnTo>
                                    <a:lnTo>
                                      <a:pt x="30" y="52"/>
                                    </a:lnTo>
                                    <a:lnTo>
                                      <a:pt x="29" y="56"/>
                                    </a:lnTo>
                                    <a:lnTo>
                                      <a:pt x="22" y="58"/>
                                    </a:lnTo>
                                    <a:lnTo>
                                      <a:pt x="21" y="56"/>
                                    </a:lnTo>
                                    <a:lnTo>
                                      <a:pt x="15" y="61"/>
                                    </a:lnTo>
                                    <a:lnTo>
                                      <a:pt x="14" y="62"/>
                                    </a:lnTo>
                                    <a:lnTo>
                                      <a:pt x="7" y="66"/>
                                    </a:lnTo>
                                    <a:lnTo>
                                      <a:pt x="4" y="66"/>
                                    </a:lnTo>
                                    <a:lnTo>
                                      <a:pt x="3" y="63"/>
                                    </a:lnTo>
                                    <a:lnTo>
                                      <a:pt x="1" y="56"/>
                                    </a:lnTo>
                                    <a:lnTo>
                                      <a:pt x="0" y="55"/>
                                    </a:lnTo>
                                    <a:lnTo>
                                      <a:pt x="0" y="49"/>
                                    </a:lnTo>
                                    <a:lnTo>
                                      <a:pt x="4" y="46"/>
                                    </a:lnTo>
                                    <a:lnTo>
                                      <a:pt x="8" y="43"/>
                                    </a:lnTo>
                                    <a:lnTo>
                                      <a:pt x="11" y="37"/>
                                    </a:lnTo>
                                    <a:lnTo>
                                      <a:pt x="15" y="37"/>
                                    </a:lnTo>
                                    <a:lnTo>
                                      <a:pt x="18" y="39"/>
                                    </a:lnTo>
                                    <a:lnTo>
                                      <a:pt x="22" y="37"/>
                                    </a:lnTo>
                                    <a:lnTo>
                                      <a:pt x="18" y="36"/>
                                    </a:lnTo>
                                    <a:lnTo>
                                      <a:pt x="12" y="2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792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360" bIns="-93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4" name=""/>
                              <p:cNvSpPr/>
                              <p:nvPr/>
                            </p:nvSpPr>
                            <p:spPr>
                              <a:xfrm>
                                <a:off x="7971480" y="3314520"/>
                                <a:ext cx="29160" cy="66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5" h="120">
                                    <a:moveTo>
                                      <a:pt x="21" y="17"/>
                                    </a:moveTo>
                                    <a:lnTo>
                                      <a:pt x="25" y="13"/>
                                    </a:lnTo>
                                    <a:lnTo>
                                      <a:pt x="37" y="14"/>
                                    </a:lnTo>
                                    <a:lnTo>
                                      <a:pt x="40" y="11"/>
                                    </a:lnTo>
                                    <a:lnTo>
                                      <a:pt x="43" y="7"/>
                                    </a:lnTo>
                                    <a:lnTo>
                                      <a:pt x="46" y="7"/>
                                    </a:lnTo>
                                    <a:lnTo>
                                      <a:pt x="48" y="5"/>
                                    </a:lnTo>
                                    <a:lnTo>
                                      <a:pt x="52" y="2"/>
                                    </a:lnTo>
                                    <a:lnTo>
                                      <a:pt x="58" y="0"/>
                                    </a:lnTo>
                                    <a:lnTo>
                                      <a:pt x="65" y="1"/>
                                    </a:lnTo>
                                    <a:lnTo>
                                      <a:pt x="63" y="7"/>
                                    </a:lnTo>
                                    <a:lnTo>
                                      <a:pt x="61" y="11"/>
                                    </a:lnTo>
                                    <a:lnTo>
                                      <a:pt x="58" y="13"/>
                                    </a:lnTo>
                                    <a:lnTo>
                                      <a:pt x="55" y="14"/>
                                    </a:lnTo>
                                    <a:lnTo>
                                      <a:pt x="47" y="17"/>
                                    </a:lnTo>
                                    <a:lnTo>
                                      <a:pt x="47" y="23"/>
                                    </a:lnTo>
                                    <a:lnTo>
                                      <a:pt x="48" y="26"/>
                                    </a:lnTo>
                                    <a:lnTo>
                                      <a:pt x="57" y="23"/>
                                    </a:lnTo>
                                    <a:lnTo>
                                      <a:pt x="63" y="20"/>
                                    </a:lnTo>
                                    <a:lnTo>
                                      <a:pt x="65" y="23"/>
                                    </a:lnTo>
                                    <a:lnTo>
                                      <a:pt x="65" y="31"/>
                                    </a:lnTo>
                                    <a:lnTo>
                                      <a:pt x="59" y="33"/>
                                    </a:lnTo>
                                    <a:lnTo>
                                      <a:pt x="54" y="33"/>
                                    </a:lnTo>
                                    <a:lnTo>
                                      <a:pt x="50" y="37"/>
                                    </a:lnTo>
                                    <a:lnTo>
                                      <a:pt x="48" y="40"/>
                                    </a:lnTo>
                                    <a:lnTo>
                                      <a:pt x="48" y="45"/>
                                    </a:lnTo>
                                    <a:lnTo>
                                      <a:pt x="52" y="50"/>
                                    </a:lnTo>
                                    <a:lnTo>
                                      <a:pt x="57" y="55"/>
                                    </a:lnTo>
                                    <a:lnTo>
                                      <a:pt x="59" y="59"/>
                                    </a:lnTo>
                                    <a:lnTo>
                                      <a:pt x="61" y="65"/>
                                    </a:lnTo>
                                    <a:lnTo>
                                      <a:pt x="62" y="71"/>
                                    </a:lnTo>
                                    <a:lnTo>
                                      <a:pt x="65" y="78"/>
                                    </a:lnTo>
                                    <a:lnTo>
                                      <a:pt x="65" y="88"/>
                                    </a:lnTo>
                                    <a:lnTo>
                                      <a:pt x="62" y="94"/>
                                    </a:lnTo>
                                    <a:lnTo>
                                      <a:pt x="57" y="98"/>
                                    </a:lnTo>
                                    <a:lnTo>
                                      <a:pt x="55" y="101"/>
                                    </a:lnTo>
                                    <a:lnTo>
                                      <a:pt x="58" y="107"/>
                                    </a:lnTo>
                                    <a:lnTo>
                                      <a:pt x="61" y="113"/>
                                    </a:lnTo>
                                    <a:lnTo>
                                      <a:pt x="52" y="113"/>
                                    </a:lnTo>
                                    <a:lnTo>
                                      <a:pt x="46" y="113"/>
                                    </a:lnTo>
                                    <a:lnTo>
                                      <a:pt x="43" y="111"/>
                                    </a:lnTo>
                                    <a:lnTo>
                                      <a:pt x="37" y="111"/>
                                    </a:lnTo>
                                    <a:lnTo>
                                      <a:pt x="31" y="113"/>
                                    </a:lnTo>
                                    <a:lnTo>
                                      <a:pt x="25" y="116"/>
                                    </a:lnTo>
                                    <a:lnTo>
                                      <a:pt x="21" y="116"/>
                                    </a:lnTo>
                                    <a:lnTo>
                                      <a:pt x="18" y="117"/>
                                    </a:lnTo>
                                    <a:lnTo>
                                      <a:pt x="11" y="120"/>
                                    </a:lnTo>
                                    <a:lnTo>
                                      <a:pt x="10" y="119"/>
                                    </a:lnTo>
                                    <a:lnTo>
                                      <a:pt x="7" y="116"/>
                                    </a:lnTo>
                                    <a:lnTo>
                                      <a:pt x="3" y="114"/>
                                    </a:lnTo>
                                    <a:lnTo>
                                      <a:pt x="0" y="113"/>
                                    </a:lnTo>
                                    <a:lnTo>
                                      <a:pt x="0" y="107"/>
                                    </a:lnTo>
                                    <a:lnTo>
                                      <a:pt x="3" y="100"/>
                                    </a:lnTo>
                                    <a:lnTo>
                                      <a:pt x="7" y="100"/>
                                    </a:lnTo>
                                    <a:lnTo>
                                      <a:pt x="11" y="98"/>
                                    </a:lnTo>
                                    <a:lnTo>
                                      <a:pt x="17" y="98"/>
                                    </a:lnTo>
                                    <a:lnTo>
                                      <a:pt x="17" y="97"/>
                                    </a:lnTo>
                                    <a:lnTo>
                                      <a:pt x="11" y="94"/>
                                    </a:lnTo>
                                    <a:lnTo>
                                      <a:pt x="11" y="90"/>
                                    </a:lnTo>
                                    <a:lnTo>
                                      <a:pt x="11" y="87"/>
                                    </a:lnTo>
                                    <a:lnTo>
                                      <a:pt x="17" y="84"/>
                                    </a:lnTo>
                                    <a:lnTo>
                                      <a:pt x="20" y="82"/>
                                    </a:lnTo>
                                    <a:lnTo>
                                      <a:pt x="22" y="81"/>
                                    </a:lnTo>
                                    <a:lnTo>
                                      <a:pt x="26" y="81"/>
                                    </a:lnTo>
                                    <a:lnTo>
                                      <a:pt x="29" y="79"/>
                                    </a:lnTo>
                                    <a:lnTo>
                                      <a:pt x="31" y="68"/>
                                    </a:lnTo>
                                    <a:lnTo>
                                      <a:pt x="35" y="59"/>
                                    </a:lnTo>
                                    <a:lnTo>
                                      <a:pt x="35" y="55"/>
                                    </a:lnTo>
                                    <a:lnTo>
                                      <a:pt x="25" y="53"/>
                                    </a:lnTo>
                                    <a:lnTo>
                                      <a:pt x="28" y="46"/>
                                    </a:lnTo>
                                    <a:lnTo>
                                      <a:pt x="21" y="42"/>
                                    </a:lnTo>
                                    <a:lnTo>
                                      <a:pt x="14" y="43"/>
                                    </a:lnTo>
                                    <a:lnTo>
                                      <a:pt x="22" y="33"/>
                                    </a:lnTo>
                                    <a:lnTo>
                                      <a:pt x="21" y="1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792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9440" bIns="19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05" name=""/>
                            <p:cNvSpPr/>
                            <p:nvPr/>
                          </p:nvSpPr>
                          <p:spPr>
                            <a:xfrm>
                              <a:off x="7881120" y="3203280"/>
                              <a:ext cx="168840" cy="111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70" h="203">
                                  <a:moveTo>
                                    <a:pt x="0" y="203"/>
                                  </a:moveTo>
                                  <a:lnTo>
                                    <a:pt x="23" y="199"/>
                                  </a:lnTo>
                                  <a:lnTo>
                                    <a:pt x="31" y="190"/>
                                  </a:lnTo>
                                  <a:lnTo>
                                    <a:pt x="37" y="184"/>
                                  </a:lnTo>
                                  <a:lnTo>
                                    <a:pt x="40" y="180"/>
                                  </a:lnTo>
                                  <a:lnTo>
                                    <a:pt x="45" y="180"/>
                                  </a:lnTo>
                                  <a:lnTo>
                                    <a:pt x="51" y="175"/>
                                  </a:lnTo>
                                  <a:lnTo>
                                    <a:pt x="57" y="175"/>
                                  </a:lnTo>
                                  <a:lnTo>
                                    <a:pt x="62" y="175"/>
                                  </a:lnTo>
                                  <a:lnTo>
                                    <a:pt x="67" y="175"/>
                                  </a:lnTo>
                                  <a:lnTo>
                                    <a:pt x="70" y="175"/>
                                  </a:lnTo>
                                  <a:lnTo>
                                    <a:pt x="75" y="170"/>
                                  </a:lnTo>
                                  <a:lnTo>
                                    <a:pt x="78" y="165"/>
                                  </a:lnTo>
                                  <a:lnTo>
                                    <a:pt x="85" y="161"/>
                                  </a:lnTo>
                                  <a:lnTo>
                                    <a:pt x="90" y="159"/>
                                  </a:lnTo>
                                  <a:lnTo>
                                    <a:pt x="94" y="157"/>
                                  </a:lnTo>
                                  <a:lnTo>
                                    <a:pt x="100" y="155"/>
                                  </a:lnTo>
                                  <a:lnTo>
                                    <a:pt x="104" y="152"/>
                                  </a:lnTo>
                                  <a:lnTo>
                                    <a:pt x="110" y="149"/>
                                  </a:lnTo>
                                  <a:lnTo>
                                    <a:pt x="115" y="146"/>
                                  </a:lnTo>
                                  <a:lnTo>
                                    <a:pt x="122" y="142"/>
                                  </a:lnTo>
                                  <a:lnTo>
                                    <a:pt x="129" y="143"/>
                                  </a:lnTo>
                                  <a:lnTo>
                                    <a:pt x="140" y="146"/>
                                  </a:lnTo>
                                  <a:lnTo>
                                    <a:pt x="151" y="146"/>
                                  </a:lnTo>
                                  <a:lnTo>
                                    <a:pt x="163" y="142"/>
                                  </a:lnTo>
                                  <a:lnTo>
                                    <a:pt x="169" y="141"/>
                                  </a:lnTo>
                                  <a:lnTo>
                                    <a:pt x="173" y="132"/>
                                  </a:lnTo>
                                  <a:lnTo>
                                    <a:pt x="178" y="126"/>
                                  </a:lnTo>
                                  <a:lnTo>
                                    <a:pt x="188" y="119"/>
                                  </a:lnTo>
                                  <a:lnTo>
                                    <a:pt x="190" y="114"/>
                                  </a:lnTo>
                                  <a:lnTo>
                                    <a:pt x="190" y="109"/>
                                  </a:lnTo>
                                  <a:lnTo>
                                    <a:pt x="199" y="104"/>
                                  </a:lnTo>
                                  <a:lnTo>
                                    <a:pt x="203" y="100"/>
                                  </a:lnTo>
                                  <a:lnTo>
                                    <a:pt x="206" y="96"/>
                                  </a:lnTo>
                                  <a:lnTo>
                                    <a:pt x="208" y="94"/>
                                  </a:lnTo>
                                  <a:lnTo>
                                    <a:pt x="222" y="85"/>
                                  </a:lnTo>
                                  <a:lnTo>
                                    <a:pt x="222" y="94"/>
                                  </a:lnTo>
                                  <a:lnTo>
                                    <a:pt x="219" y="98"/>
                                  </a:lnTo>
                                  <a:lnTo>
                                    <a:pt x="222" y="103"/>
                                  </a:lnTo>
                                  <a:lnTo>
                                    <a:pt x="232" y="104"/>
                                  </a:lnTo>
                                  <a:lnTo>
                                    <a:pt x="237" y="104"/>
                                  </a:lnTo>
                                  <a:lnTo>
                                    <a:pt x="243" y="100"/>
                                  </a:lnTo>
                                  <a:lnTo>
                                    <a:pt x="247" y="94"/>
                                  </a:lnTo>
                                  <a:lnTo>
                                    <a:pt x="247" y="90"/>
                                  </a:lnTo>
                                  <a:lnTo>
                                    <a:pt x="251" y="85"/>
                                  </a:lnTo>
                                  <a:lnTo>
                                    <a:pt x="251" y="81"/>
                                  </a:lnTo>
                                  <a:lnTo>
                                    <a:pt x="255" y="75"/>
                                  </a:lnTo>
                                  <a:lnTo>
                                    <a:pt x="258" y="72"/>
                                  </a:lnTo>
                                  <a:lnTo>
                                    <a:pt x="265" y="72"/>
                                  </a:lnTo>
                                  <a:lnTo>
                                    <a:pt x="278" y="72"/>
                                  </a:lnTo>
                                  <a:lnTo>
                                    <a:pt x="289" y="66"/>
                                  </a:lnTo>
                                  <a:lnTo>
                                    <a:pt x="299" y="58"/>
                                  </a:lnTo>
                                  <a:lnTo>
                                    <a:pt x="310" y="55"/>
                                  </a:lnTo>
                                  <a:lnTo>
                                    <a:pt x="319" y="48"/>
                                  </a:lnTo>
                                  <a:lnTo>
                                    <a:pt x="326" y="36"/>
                                  </a:lnTo>
                                  <a:lnTo>
                                    <a:pt x="341" y="23"/>
                                  </a:lnTo>
                                  <a:lnTo>
                                    <a:pt x="351" y="17"/>
                                  </a:lnTo>
                                  <a:lnTo>
                                    <a:pt x="361" y="11"/>
                                  </a:lnTo>
                                  <a:lnTo>
                                    <a:pt x="370" y="4"/>
                                  </a:lnTo>
                                  <a:lnTo>
                                    <a:pt x="354" y="0"/>
                                  </a:lnTo>
                                  <a:lnTo>
                                    <a:pt x="337" y="0"/>
                                  </a:lnTo>
                                  <a:lnTo>
                                    <a:pt x="321" y="7"/>
                                  </a:lnTo>
                                  <a:lnTo>
                                    <a:pt x="313" y="11"/>
                                  </a:lnTo>
                                  <a:lnTo>
                                    <a:pt x="299" y="14"/>
                                  </a:lnTo>
                                  <a:lnTo>
                                    <a:pt x="284" y="16"/>
                                  </a:lnTo>
                                  <a:lnTo>
                                    <a:pt x="276" y="19"/>
                                  </a:lnTo>
                                  <a:lnTo>
                                    <a:pt x="258" y="26"/>
                                  </a:lnTo>
                                  <a:lnTo>
                                    <a:pt x="247" y="30"/>
                                  </a:lnTo>
                                  <a:lnTo>
                                    <a:pt x="236" y="35"/>
                                  </a:lnTo>
                                  <a:lnTo>
                                    <a:pt x="222" y="37"/>
                                  </a:lnTo>
                                  <a:lnTo>
                                    <a:pt x="208" y="42"/>
                                  </a:lnTo>
                                  <a:lnTo>
                                    <a:pt x="196" y="48"/>
                                  </a:lnTo>
                                  <a:lnTo>
                                    <a:pt x="186" y="55"/>
                                  </a:lnTo>
                                  <a:lnTo>
                                    <a:pt x="178" y="62"/>
                                  </a:lnTo>
                                  <a:lnTo>
                                    <a:pt x="170" y="68"/>
                                  </a:lnTo>
                                  <a:lnTo>
                                    <a:pt x="163" y="72"/>
                                  </a:lnTo>
                                  <a:lnTo>
                                    <a:pt x="148" y="81"/>
                                  </a:lnTo>
                                  <a:lnTo>
                                    <a:pt x="133" y="90"/>
                                  </a:lnTo>
                                  <a:lnTo>
                                    <a:pt x="115" y="100"/>
                                  </a:lnTo>
                                  <a:lnTo>
                                    <a:pt x="103" y="113"/>
                                  </a:lnTo>
                                  <a:lnTo>
                                    <a:pt x="89" y="123"/>
                                  </a:lnTo>
                                  <a:lnTo>
                                    <a:pt x="77" y="129"/>
                                  </a:lnTo>
                                  <a:lnTo>
                                    <a:pt x="64" y="142"/>
                                  </a:lnTo>
                                  <a:lnTo>
                                    <a:pt x="56" y="151"/>
                                  </a:lnTo>
                                  <a:lnTo>
                                    <a:pt x="45" y="159"/>
                                  </a:lnTo>
                                  <a:lnTo>
                                    <a:pt x="34" y="165"/>
                                  </a:lnTo>
                                  <a:lnTo>
                                    <a:pt x="23" y="171"/>
                                  </a:lnTo>
                                  <a:lnTo>
                                    <a:pt x="0" y="20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792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06" name=""/>
                          <p:cNvSpPr/>
                          <p:nvPr/>
                        </p:nvSpPr>
                        <p:spPr>
                          <a:xfrm>
                            <a:off x="7959960" y="4228920"/>
                            <a:ext cx="250920" cy="104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52" h="189">
                                <a:moveTo>
                                  <a:pt x="0" y="83"/>
                                </a:moveTo>
                                <a:lnTo>
                                  <a:pt x="54" y="58"/>
                                </a:lnTo>
                                <a:lnTo>
                                  <a:pt x="67" y="57"/>
                                </a:lnTo>
                                <a:lnTo>
                                  <a:pt x="76" y="53"/>
                                </a:lnTo>
                                <a:lnTo>
                                  <a:pt x="136" y="56"/>
                                </a:lnTo>
                                <a:lnTo>
                                  <a:pt x="140" y="50"/>
                                </a:lnTo>
                                <a:lnTo>
                                  <a:pt x="147" y="47"/>
                                </a:lnTo>
                                <a:lnTo>
                                  <a:pt x="159" y="42"/>
                                </a:lnTo>
                                <a:lnTo>
                                  <a:pt x="168" y="37"/>
                                </a:lnTo>
                                <a:lnTo>
                                  <a:pt x="176" y="37"/>
                                </a:lnTo>
                                <a:lnTo>
                                  <a:pt x="179" y="37"/>
                                </a:lnTo>
                                <a:lnTo>
                                  <a:pt x="181" y="37"/>
                                </a:lnTo>
                                <a:lnTo>
                                  <a:pt x="192" y="38"/>
                                </a:lnTo>
                                <a:lnTo>
                                  <a:pt x="203" y="42"/>
                                </a:lnTo>
                                <a:lnTo>
                                  <a:pt x="210" y="51"/>
                                </a:lnTo>
                                <a:lnTo>
                                  <a:pt x="214" y="50"/>
                                </a:lnTo>
                                <a:lnTo>
                                  <a:pt x="217" y="57"/>
                                </a:lnTo>
                                <a:lnTo>
                                  <a:pt x="232" y="56"/>
                                </a:lnTo>
                                <a:lnTo>
                                  <a:pt x="246" y="51"/>
                                </a:lnTo>
                                <a:lnTo>
                                  <a:pt x="254" y="50"/>
                                </a:lnTo>
                                <a:lnTo>
                                  <a:pt x="264" y="45"/>
                                </a:lnTo>
                                <a:lnTo>
                                  <a:pt x="275" y="41"/>
                                </a:lnTo>
                                <a:lnTo>
                                  <a:pt x="284" y="41"/>
                                </a:lnTo>
                                <a:lnTo>
                                  <a:pt x="291" y="38"/>
                                </a:lnTo>
                                <a:lnTo>
                                  <a:pt x="299" y="34"/>
                                </a:lnTo>
                                <a:lnTo>
                                  <a:pt x="305" y="38"/>
                                </a:lnTo>
                                <a:lnTo>
                                  <a:pt x="321" y="42"/>
                                </a:lnTo>
                                <a:lnTo>
                                  <a:pt x="338" y="45"/>
                                </a:lnTo>
                                <a:lnTo>
                                  <a:pt x="354" y="45"/>
                                </a:lnTo>
                                <a:lnTo>
                                  <a:pt x="361" y="38"/>
                                </a:lnTo>
                                <a:lnTo>
                                  <a:pt x="365" y="38"/>
                                </a:lnTo>
                                <a:lnTo>
                                  <a:pt x="369" y="34"/>
                                </a:lnTo>
                                <a:lnTo>
                                  <a:pt x="382" y="27"/>
                                </a:lnTo>
                                <a:lnTo>
                                  <a:pt x="397" y="24"/>
                                </a:lnTo>
                                <a:lnTo>
                                  <a:pt x="405" y="24"/>
                                </a:lnTo>
                                <a:lnTo>
                                  <a:pt x="417" y="19"/>
                                </a:lnTo>
                                <a:lnTo>
                                  <a:pt x="423" y="19"/>
                                </a:lnTo>
                                <a:lnTo>
                                  <a:pt x="436" y="9"/>
                                </a:lnTo>
                                <a:lnTo>
                                  <a:pt x="440" y="11"/>
                                </a:lnTo>
                                <a:lnTo>
                                  <a:pt x="445" y="5"/>
                                </a:lnTo>
                                <a:lnTo>
                                  <a:pt x="449" y="3"/>
                                </a:lnTo>
                                <a:lnTo>
                                  <a:pt x="454" y="0"/>
                                </a:lnTo>
                                <a:lnTo>
                                  <a:pt x="454" y="8"/>
                                </a:lnTo>
                                <a:lnTo>
                                  <a:pt x="460" y="13"/>
                                </a:lnTo>
                                <a:lnTo>
                                  <a:pt x="464" y="21"/>
                                </a:lnTo>
                                <a:lnTo>
                                  <a:pt x="468" y="25"/>
                                </a:lnTo>
                                <a:lnTo>
                                  <a:pt x="472" y="25"/>
                                </a:lnTo>
                                <a:lnTo>
                                  <a:pt x="476" y="28"/>
                                </a:lnTo>
                                <a:lnTo>
                                  <a:pt x="482" y="28"/>
                                </a:lnTo>
                                <a:lnTo>
                                  <a:pt x="482" y="31"/>
                                </a:lnTo>
                                <a:lnTo>
                                  <a:pt x="509" y="31"/>
                                </a:lnTo>
                                <a:lnTo>
                                  <a:pt x="520" y="40"/>
                                </a:lnTo>
                                <a:lnTo>
                                  <a:pt x="523" y="40"/>
                                </a:lnTo>
                                <a:lnTo>
                                  <a:pt x="525" y="45"/>
                                </a:lnTo>
                                <a:lnTo>
                                  <a:pt x="532" y="42"/>
                                </a:lnTo>
                                <a:lnTo>
                                  <a:pt x="550" y="47"/>
                                </a:lnTo>
                                <a:lnTo>
                                  <a:pt x="546" y="56"/>
                                </a:lnTo>
                                <a:lnTo>
                                  <a:pt x="552" y="63"/>
                                </a:lnTo>
                                <a:lnTo>
                                  <a:pt x="531" y="79"/>
                                </a:lnTo>
                                <a:lnTo>
                                  <a:pt x="515" y="92"/>
                                </a:lnTo>
                                <a:lnTo>
                                  <a:pt x="494" y="111"/>
                                </a:lnTo>
                                <a:lnTo>
                                  <a:pt x="458" y="135"/>
                                </a:lnTo>
                                <a:lnTo>
                                  <a:pt x="424" y="151"/>
                                </a:lnTo>
                                <a:lnTo>
                                  <a:pt x="397" y="166"/>
                                </a:lnTo>
                                <a:lnTo>
                                  <a:pt x="379" y="170"/>
                                </a:lnTo>
                                <a:lnTo>
                                  <a:pt x="357" y="176"/>
                                </a:lnTo>
                                <a:lnTo>
                                  <a:pt x="339" y="180"/>
                                </a:lnTo>
                                <a:lnTo>
                                  <a:pt x="328" y="180"/>
                                </a:lnTo>
                                <a:lnTo>
                                  <a:pt x="310" y="185"/>
                                </a:lnTo>
                                <a:lnTo>
                                  <a:pt x="301" y="183"/>
                                </a:lnTo>
                                <a:lnTo>
                                  <a:pt x="284" y="186"/>
                                </a:lnTo>
                                <a:lnTo>
                                  <a:pt x="266" y="185"/>
                                </a:lnTo>
                                <a:lnTo>
                                  <a:pt x="244" y="186"/>
                                </a:lnTo>
                                <a:lnTo>
                                  <a:pt x="232" y="189"/>
                                </a:lnTo>
                                <a:lnTo>
                                  <a:pt x="218" y="185"/>
                                </a:lnTo>
                                <a:lnTo>
                                  <a:pt x="202" y="182"/>
                                </a:lnTo>
                                <a:lnTo>
                                  <a:pt x="185" y="183"/>
                                </a:lnTo>
                                <a:lnTo>
                                  <a:pt x="168" y="182"/>
                                </a:lnTo>
                                <a:lnTo>
                                  <a:pt x="152" y="179"/>
                                </a:lnTo>
                                <a:lnTo>
                                  <a:pt x="139" y="178"/>
                                </a:lnTo>
                                <a:lnTo>
                                  <a:pt x="128" y="178"/>
                                </a:lnTo>
                                <a:lnTo>
                                  <a:pt x="115" y="170"/>
                                </a:lnTo>
                                <a:lnTo>
                                  <a:pt x="98" y="163"/>
                                </a:lnTo>
                                <a:lnTo>
                                  <a:pt x="83" y="153"/>
                                </a:lnTo>
                                <a:lnTo>
                                  <a:pt x="67" y="144"/>
                                </a:lnTo>
                                <a:lnTo>
                                  <a:pt x="50" y="133"/>
                                </a:lnTo>
                                <a:lnTo>
                                  <a:pt x="35" y="121"/>
                                </a:lnTo>
                                <a:lnTo>
                                  <a:pt x="24" y="109"/>
                                </a:lnTo>
                                <a:lnTo>
                                  <a:pt x="13" y="99"/>
                                </a:lnTo>
                                <a:lnTo>
                                  <a:pt x="0" y="8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7" name=""/>
                          <p:cNvSpPr/>
                          <p:nvPr/>
                        </p:nvSpPr>
                        <p:spPr>
                          <a:xfrm>
                            <a:off x="8182080" y="3838320"/>
                            <a:ext cx="50040" cy="109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0" h="197">
                                <a:moveTo>
                                  <a:pt x="21" y="62"/>
                                </a:moveTo>
                                <a:lnTo>
                                  <a:pt x="18" y="101"/>
                                </a:lnTo>
                                <a:lnTo>
                                  <a:pt x="8" y="126"/>
                                </a:lnTo>
                                <a:lnTo>
                                  <a:pt x="0" y="149"/>
                                </a:lnTo>
                                <a:lnTo>
                                  <a:pt x="0" y="167"/>
                                </a:lnTo>
                                <a:lnTo>
                                  <a:pt x="3" y="181"/>
                                </a:lnTo>
                                <a:lnTo>
                                  <a:pt x="12" y="194"/>
                                </a:lnTo>
                                <a:lnTo>
                                  <a:pt x="21" y="196"/>
                                </a:lnTo>
                                <a:lnTo>
                                  <a:pt x="28" y="196"/>
                                </a:lnTo>
                                <a:lnTo>
                                  <a:pt x="36" y="197"/>
                                </a:lnTo>
                                <a:lnTo>
                                  <a:pt x="40" y="187"/>
                                </a:lnTo>
                                <a:lnTo>
                                  <a:pt x="44" y="161"/>
                                </a:lnTo>
                                <a:lnTo>
                                  <a:pt x="56" y="144"/>
                                </a:lnTo>
                                <a:lnTo>
                                  <a:pt x="59" y="117"/>
                                </a:lnTo>
                                <a:lnTo>
                                  <a:pt x="65" y="107"/>
                                </a:lnTo>
                                <a:lnTo>
                                  <a:pt x="70" y="100"/>
                                </a:lnTo>
                                <a:lnTo>
                                  <a:pt x="74" y="81"/>
                                </a:lnTo>
                                <a:lnTo>
                                  <a:pt x="82" y="69"/>
                                </a:lnTo>
                                <a:lnTo>
                                  <a:pt x="88" y="61"/>
                                </a:lnTo>
                                <a:lnTo>
                                  <a:pt x="93" y="53"/>
                                </a:lnTo>
                                <a:lnTo>
                                  <a:pt x="93" y="49"/>
                                </a:lnTo>
                                <a:lnTo>
                                  <a:pt x="106" y="39"/>
                                </a:lnTo>
                                <a:lnTo>
                                  <a:pt x="107" y="22"/>
                                </a:lnTo>
                                <a:lnTo>
                                  <a:pt x="110" y="11"/>
                                </a:lnTo>
                                <a:lnTo>
                                  <a:pt x="99" y="7"/>
                                </a:lnTo>
                                <a:lnTo>
                                  <a:pt x="92" y="0"/>
                                </a:lnTo>
                                <a:lnTo>
                                  <a:pt x="82" y="7"/>
                                </a:lnTo>
                                <a:lnTo>
                                  <a:pt x="74" y="24"/>
                                </a:lnTo>
                                <a:lnTo>
                                  <a:pt x="65" y="38"/>
                                </a:lnTo>
                                <a:lnTo>
                                  <a:pt x="56" y="48"/>
                                </a:lnTo>
                                <a:lnTo>
                                  <a:pt x="52" y="48"/>
                                </a:lnTo>
                                <a:lnTo>
                                  <a:pt x="44" y="53"/>
                                </a:lnTo>
                                <a:lnTo>
                                  <a:pt x="40" y="59"/>
                                </a:lnTo>
                                <a:lnTo>
                                  <a:pt x="21" y="6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8" name=""/>
                          <p:cNvSpPr/>
                          <p:nvPr/>
                        </p:nvSpPr>
                        <p:spPr>
                          <a:xfrm>
                            <a:off x="7939800" y="3213000"/>
                            <a:ext cx="686160" cy="517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03" h="936">
                                <a:moveTo>
                                  <a:pt x="0" y="419"/>
                                </a:moveTo>
                                <a:lnTo>
                                  <a:pt x="14" y="406"/>
                                </a:lnTo>
                                <a:lnTo>
                                  <a:pt x="22" y="396"/>
                                </a:lnTo>
                                <a:lnTo>
                                  <a:pt x="40" y="396"/>
                                </a:lnTo>
                                <a:lnTo>
                                  <a:pt x="59" y="399"/>
                                </a:lnTo>
                                <a:lnTo>
                                  <a:pt x="73" y="393"/>
                                </a:lnTo>
                                <a:lnTo>
                                  <a:pt x="88" y="392"/>
                                </a:lnTo>
                                <a:lnTo>
                                  <a:pt x="90" y="374"/>
                                </a:lnTo>
                                <a:lnTo>
                                  <a:pt x="98" y="363"/>
                                </a:lnTo>
                                <a:lnTo>
                                  <a:pt x="77" y="350"/>
                                </a:lnTo>
                                <a:lnTo>
                                  <a:pt x="74" y="339"/>
                                </a:lnTo>
                                <a:lnTo>
                                  <a:pt x="76" y="325"/>
                                </a:lnTo>
                                <a:lnTo>
                                  <a:pt x="91" y="325"/>
                                </a:lnTo>
                                <a:lnTo>
                                  <a:pt x="101" y="323"/>
                                </a:lnTo>
                                <a:lnTo>
                                  <a:pt x="102" y="325"/>
                                </a:lnTo>
                                <a:lnTo>
                                  <a:pt x="113" y="316"/>
                                </a:lnTo>
                                <a:lnTo>
                                  <a:pt x="124" y="312"/>
                                </a:lnTo>
                                <a:lnTo>
                                  <a:pt x="128" y="312"/>
                                </a:lnTo>
                                <a:lnTo>
                                  <a:pt x="135" y="303"/>
                                </a:lnTo>
                                <a:lnTo>
                                  <a:pt x="143" y="300"/>
                                </a:lnTo>
                                <a:lnTo>
                                  <a:pt x="151" y="284"/>
                                </a:lnTo>
                                <a:lnTo>
                                  <a:pt x="157" y="289"/>
                                </a:lnTo>
                                <a:lnTo>
                                  <a:pt x="168" y="278"/>
                                </a:lnTo>
                                <a:lnTo>
                                  <a:pt x="169" y="278"/>
                                </a:lnTo>
                                <a:lnTo>
                                  <a:pt x="183" y="267"/>
                                </a:lnTo>
                                <a:lnTo>
                                  <a:pt x="191" y="265"/>
                                </a:lnTo>
                                <a:lnTo>
                                  <a:pt x="202" y="265"/>
                                </a:lnTo>
                                <a:lnTo>
                                  <a:pt x="209" y="265"/>
                                </a:lnTo>
                                <a:lnTo>
                                  <a:pt x="203" y="251"/>
                                </a:lnTo>
                                <a:lnTo>
                                  <a:pt x="201" y="239"/>
                                </a:lnTo>
                                <a:lnTo>
                                  <a:pt x="198" y="214"/>
                                </a:lnTo>
                                <a:lnTo>
                                  <a:pt x="214" y="213"/>
                                </a:lnTo>
                                <a:lnTo>
                                  <a:pt x="223" y="209"/>
                                </a:lnTo>
                                <a:lnTo>
                                  <a:pt x="218" y="219"/>
                                </a:lnTo>
                                <a:lnTo>
                                  <a:pt x="225" y="226"/>
                                </a:lnTo>
                                <a:lnTo>
                                  <a:pt x="232" y="235"/>
                                </a:lnTo>
                                <a:lnTo>
                                  <a:pt x="236" y="241"/>
                                </a:lnTo>
                                <a:lnTo>
                                  <a:pt x="255" y="239"/>
                                </a:lnTo>
                                <a:lnTo>
                                  <a:pt x="272" y="217"/>
                                </a:lnTo>
                                <a:lnTo>
                                  <a:pt x="284" y="207"/>
                                </a:lnTo>
                                <a:lnTo>
                                  <a:pt x="291" y="200"/>
                                </a:lnTo>
                                <a:lnTo>
                                  <a:pt x="299" y="191"/>
                                </a:lnTo>
                                <a:lnTo>
                                  <a:pt x="308" y="180"/>
                                </a:lnTo>
                                <a:lnTo>
                                  <a:pt x="314" y="184"/>
                                </a:lnTo>
                                <a:lnTo>
                                  <a:pt x="314" y="177"/>
                                </a:lnTo>
                                <a:lnTo>
                                  <a:pt x="319" y="172"/>
                                </a:lnTo>
                                <a:lnTo>
                                  <a:pt x="331" y="175"/>
                                </a:lnTo>
                                <a:lnTo>
                                  <a:pt x="351" y="194"/>
                                </a:lnTo>
                                <a:lnTo>
                                  <a:pt x="347" y="142"/>
                                </a:lnTo>
                                <a:lnTo>
                                  <a:pt x="330" y="165"/>
                                </a:lnTo>
                                <a:lnTo>
                                  <a:pt x="316" y="164"/>
                                </a:lnTo>
                                <a:lnTo>
                                  <a:pt x="312" y="149"/>
                                </a:lnTo>
                                <a:lnTo>
                                  <a:pt x="312" y="142"/>
                                </a:lnTo>
                                <a:lnTo>
                                  <a:pt x="308" y="138"/>
                                </a:lnTo>
                                <a:lnTo>
                                  <a:pt x="319" y="126"/>
                                </a:lnTo>
                                <a:lnTo>
                                  <a:pt x="325" y="117"/>
                                </a:lnTo>
                                <a:lnTo>
                                  <a:pt x="332" y="114"/>
                                </a:lnTo>
                                <a:lnTo>
                                  <a:pt x="338" y="113"/>
                                </a:lnTo>
                                <a:lnTo>
                                  <a:pt x="342" y="106"/>
                                </a:lnTo>
                                <a:lnTo>
                                  <a:pt x="347" y="104"/>
                                </a:lnTo>
                                <a:lnTo>
                                  <a:pt x="354" y="104"/>
                                </a:lnTo>
                                <a:lnTo>
                                  <a:pt x="342" y="91"/>
                                </a:lnTo>
                                <a:lnTo>
                                  <a:pt x="330" y="94"/>
                                </a:lnTo>
                                <a:lnTo>
                                  <a:pt x="321" y="94"/>
                                </a:lnTo>
                                <a:lnTo>
                                  <a:pt x="314" y="90"/>
                                </a:lnTo>
                                <a:lnTo>
                                  <a:pt x="314" y="98"/>
                                </a:lnTo>
                                <a:lnTo>
                                  <a:pt x="308" y="107"/>
                                </a:lnTo>
                                <a:lnTo>
                                  <a:pt x="298" y="122"/>
                                </a:lnTo>
                                <a:lnTo>
                                  <a:pt x="288" y="127"/>
                                </a:lnTo>
                                <a:lnTo>
                                  <a:pt x="282" y="127"/>
                                </a:lnTo>
                                <a:lnTo>
                                  <a:pt x="279" y="138"/>
                                </a:lnTo>
                                <a:lnTo>
                                  <a:pt x="279" y="142"/>
                                </a:lnTo>
                                <a:lnTo>
                                  <a:pt x="273" y="146"/>
                                </a:lnTo>
                                <a:lnTo>
                                  <a:pt x="280" y="164"/>
                                </a:lnTo>
                                <a:lnTo>
                                  <a:pt x="284" y="172"/>
                                </a:lnTo>
                                <a:lnTo>
                                  <a:pt x="276" y="185"/>
                                </a:lnTo>
                                <a:lnTo>
                                  <a:pt x="266" y="194"/>
                                </a:lnTo>
                                <a:lnTo>
                                  <a:pt x="264" y="207"/>
                                </a:lnTo>
                                <a:lnTo>
                                  <a:pt x="258" y="217"/>
                                </a:lnTo>
                                <a:lnTo>
                                  <a:pt x="253" y="217"/>
                                </a:lnTo>
                                <a:lnTo>
                                  <a:pt x="244" y="219"/>
                                </a:lnTo>
                                <a:lnTo>
                                  <a:pt x="236" y="223"/>
                                </a:lnTo>
                                <a:lnTo>
                                  <a:pt x="234" y="222"/>
                                </a:lnTo>
                                <a:lnTo>
                                  <a:pt x="234" y="214"/>
                                </a:lnTo>
                                <a:lnTo>
                                  <a:pt x="232" y="203"/>
                                </a:lnTo>
                                <a:lnTo>
                                  <a:pt x="225" y="203"/>
                                </a:lnTo>
                                <a:lnTo>
                                  <a:pt x="221" y="196"/>
                                </a:lnTo>
                                <a:lnTo>
                                  <a:pt x="223" y="185"/>
                                </a:lnTo>
                                <a:lnTo>
                                  <a:pt x="224" y="180"/>
                                </a:lnTo>
                                <a:lnTo>
                                  <a:pt x="223" y="177"/>
                                </a:lnTo>
                                <a:lnTo>
                                  <a:pt x="217" y="180"/>
                                </a:lnTo>
                                <a:lnTo>
                                  <a:pt x="214" y="180"/>
                                </a:lnTo>
                                <a:lnTo>
                                  <a:pt x="210" y="178"/>
                                </a:lnTo>
                                <a:lnTo>
                                  <a:pt x="207" y="177"/>
                                </a:lnTo>
                                <a:lnTo>
                                  <a:pt x="201" y="183"/>
                                </a:lnTo>
                                <a:lnTo>
                                  <a:pt x="194" y="190"/>
                                </a:lnTo>
                                <a:lnTo>
                                  <a:pt x="187" y="197"/>
                                </a:lnTo>
                                <a:lnTo>
                                  <a:pt x="172" y="196"/>
                                </a:lnTo>
                                <a:lnTo>
                                  <a:pt x="162" y="194"/>
                                </a:lnTo>
                                <a:lnTo>
                                  <a:pt x="155" y="187"/>
                                </a:lnTo>
                                <a:lnTo>
                                  <a:pt x="155" y="183"/>
                                </a:lnTo>
                                <a:lnTo>
                                  <a:pt x="159" y="177"/>
                                </a:lnTo>
                                <a:lnTo>
                                  <a:pt x="165" y="172"/>
                                </a:lnTo>
                                <a:lnTo>
                                  <a:pt x="169" y="167"/>
                                </a:lnTo>
                                <a:lnTo>
                                  <a:pt x="159" y="169"/>
                                </a:lnTo>
                                <a:lnTo>
                                  <a:pt x="155" y="162"/>
                                </a:lnTo>
                                <a:lnTo>
                                  <a:pt x="155" y="158"/>
                                </a:lnTo>
                                <a:lnTo>
                                  <a:pt x="169" y="156"/>
                                </a:lnTo>
                                <a:lnTo>
                                  <a:pt x="181" y="155"/>
                                </a:lnTo>
                                <a:lnTo>
                                  <a:pt x="173" y="151"/>
                                </a:lnTo>
                                <a:lnTo>
                                  <a:pt x="161" y="152"/>
                                </a:lnTo>
                                <a:lnTo>
                                  <a:pt x="161" y="143"/>
                                </a:lnTo>
                                <a:lnTo>
                                  <a:pt x="166" y="138"/>
                                </a:lnTo>
                                <a:lnTo>
                                  <a:pt x="179" y="132"/>
                                </a:lnTo>
                                <a:lnTo>
                                  <a:pt x="183" y="126"/>
                                </a:lnTo>
                                <a:lnTo>
                                  <a:pt x="187" y="123"/>
                                </a:lnTo>
                                <a:lnTo>
                                  <a:pt x="196" y="122"/>
                                </a:lnTo>
                                <a:lnTo>
                                  <a:pt x="205" y="123"/>
                                </a:lnTo>
                                <a:lnTo>
                                  <a:pt x="209" y="126"/>
                                </a:lnTo>
                                <a:lnTo>
                                  <a:pt x="216" y="122"/>
                                </a:lnTo>
                                <a:lnTo>
                                  <a:pt x="209" y="120"/>
                                </a:lnTo>
                                <a:lnTo>
                                  <a:pt x="209" y="108"/>
                                </a:lnTo>
                                <a:lnTo>
                                  <a:pt x="227" y="95"/>
                                </a:lnTo>
                                <a:lnTo>
                                  <a:pt x="236" y="87"/>
                                </a:lnTo>
                                <a:lnTo>
                                  <a:pt x="242" y="85"/>
                                </a:lnTo>
                                <a:lnTo>
                                  <a:pt x="240" y="81"/>
                                </a:lnTo>
                                <a:lnTo>
                                  <a:pt x="249" y="71"/>
                                </a:lnTo>
                                <a:lnTo>
                                  <a:pt x="258" y="58"/>
                                </a:lnTo>
                                <a:lnTo>
                                  <a:pt x="269" y="52"/>
                                </a:lnTo>
                                <a:lnTo>
                                  <a:pt x="261" y="46"/>
                                </a:lnTo>
                                <a:lnTo>
                                  <a:pt x="283" y="33"/>
                                </a:lnTo>
                                <a:lnTo>
                                  <a:pt x="292" y="34"/>
                                </a:lnTo>
                                <a:lnTo>
                                  <a:pt x="291" y="27"/>
                                </a:lnTo>
                                <a:lnTo>
                                  <a:pt x="310" y="26"/>
                                </a:lnTo>
                                <a:lnTo>
                                  <a:pt x="346" y="2"/>
                                </a:lnTo>
                                <a:lnTo>
                                  <a:pt x="351" y="0"/>
                                </a:lnTo>
                                <a:lnTo>
                                  <a:pt x="345" y="17"/>
                                </a:lnTo>
                                <a:lnTo>
                                  <a:pt x="353" y="8"/>
                                </a:lnTo>
                                <a:lnTo>
                                  <a:pt x="362" y="5"/>
                                </a:lnTo>
                                <a:lnTo>
                                  <a:pt x="361" y="13"/>
                                </a:lnTo>
                                <a:lnTo>
                                  <a:pt x="388" y="4"/>
                                </a:lnTo>
                                <a:lnTo>
                                  <a:pt x="402" y="11"/>
                                </a:lnTo>
                                <a:lnTo>
                                  <a:pt x="383" y="18"/>
                                </a:lnTo>
                                <a:lnTo>
                                  <a:pt x="390" y="27"/>
                                </a:lnTo>
                                <a:lnTo>
                                  <a:pt x="417" y="26"/>
                                </a:lnTo>
                                <a:lnTo>
                                  <a:pt x="457" y="39"/>
                                </a:lnTo>
                                <a:lnTo>
                                  <a:pt x="454" y="53"/>
                                </a:lnTo>
                                <a:lnTo>
                                  <a:pt x="438" y="66"/>
                                </a:lnTo>
                                <a:lnTo>
                                  <a:pt x="413" y="74"/>
                                </a:lnTo>
                                <a:lnTo>
                                  <a:pt x="409" y="90"/>
                                </a:lnTo>
                                <a:lnTo>
                                  <a:pt x="410" y="104"/>
                                </a:lnTo>
                                <a:lnTo>
                                  <a:pt x="417" y="107"/>
                                </a:lnTo>
                                <a:lnTo>
                                  <a:pt x="419" y="114"/>
                                </a:lnTo>
                                <a:lnTo>
                                  <a:pt x="421" y="117"/>
                                </a:lnTo>
                                <a:lnTo>
                                  <a:pt x="427" y="120"/>
                                </a:lnTo>
                                <a:lnTo>
                                  <a:pt x="428" y="129"/>
                                </a:lnTo>
                                <a:lnTo>
                                  <a:pt x="436" y="139"/>
                                </a:lnTo>
                                <a:lnTo>
                                  <a:pt x="436" y="143"/>
                                </a:lnTo>
                                <a:lnTo>
                                  <a:pt x="445" y="143"/>
                                </a:lnTo>
                                <a:lnTo>
                                  <a:pt x="447" y="146"/>
                                </a:lnTo>
                                <a:lnTo>
                                  <a:pt x="454" y="149"/>
                                </a:lnTo>
                                <a:lnTo>
                                  <a:pt x="458" y="145"/>
                                </a:lnTo>
                                <a:lnTo>
                                  <a:pt x="463" y="138"/>
                                </a:lnTo>
                                <a:lnTo>
                                  <a:pt x="465" y="133"/>
                                </a:lnTo>
                                <a:lnTo>
                                  <a:pt x="472" y="136"/>
                                </a:lnTo>
                                <a:lnTo>
                                  <a:pt x="480" y="126"/>
                                </a:lnTo>
                                <a:lnTo>
                                  <a:pt x="480" y="119"/>
                                </a:lnTo>
                                <a:lnTo>
                                  <a:pt x="483" y="113"/>
                                </a:lnTo>
                                <a:lnTo>
                                  <a:pt x="484" y="108"/>
                                </a:lnTo>
                                <a:lnTo>
                                  <a:pt x="501" y="104"/>
                                </a:lnTo>
                                <a:lnTo>
                                  <a:pt x="515" y="100"/>
                                </a:lnTo>
                                <a:lnTo>
                                  <a:pt x="532" y="94"/>
                                </a:lnTo>
                                <a:lnTo>
                                  <a:pt x="553" y="98"/>
                                </a:lnTo>
                                <a:lnTo>
                                  <a:pt x="574" y="98"/>
                                </a:lnTo>
                                <a:lnTo>
                                  <a:pt x="608" y="98"/>
                                </a:lnTo>
                                <a:lnTo>
                                  <a:pt x="613" y="62"/>
                                </a:lnTo>
                                <a:lnTo>
                                  <a:pt x="633" y="63"/>
                                </a:lnTo>
                                <a:lnTo>
                                  <a:pt x="646" y="91"/>
                                </a:lnTo>
                                <a:lnTo>
                                  <a:pt x="649" y="68"/>
                                </a:lnTo>
                                <a:lnTo>
                                  <a:pt x="712" y="4"/>
                                </a:lnTo>
                                <a:lnTo>
                                  <a:pt x="737" y="4"/>
                                </a:lnTo>
                                <a:lnTo>
                                  <a:pt x="759" y="17"/>
                                </a:lnTo>
                                <a:lnTo>
                                  <a:pt x="788" y="16"/>
                                </a:lnTo>
                                <a:lnTo>
                                  <a:pt x="826" y="39"/>
                                </a:lnTo>
                                <a:lnTo>
                                  <a:pt x="870" y="52"/>
                                </a:lnTo>
                                <a:lnTo>
                                  <a:pt x="901" y="49"/>
                                </a:lnTo>
                                <a:lnTo>
                                  <a:pt x="942" y="63"/>
                                </a:lnTo>
                                <a:lnTo>
                                  <a:pt x="977" y="63"/>
                                </a:lnTo>
                                <a:lnTo>
                                  <a:pt x="993" y="53"/>
                                </a:lnTo>
                                <a:lnTo>
                                  <a:pt x="1032" y="53"/>
                                </a:lnTo>
                                <a:lnTo>
                                  <a:pt x="1052" y="65"/>
                                </a:lnTo>
                                <a:lnTo>
                                  <a:pt x="1104" y="65"/>
                                </a:lnTo>
                                <a:lnTo>
                                  <a:pt x="1148" y="85"/>
                                </a:lnTo>
                                <a:lnTo>
                                  <a:pt x="1229" y="82"/>
                                </a:lnTo>
                                <a:lnTo>
                                  <a:pt x="1357" y="91"/>
                                </a:lnTo>
                                <a:lnTo>
                                  <a:pt x="1418" y="119"/>
                                </a:lnTo>
                                <a:lnTo>
                                  <a:pt x="1470" y="136"/>
                                </a:lnTo>
                                <a:lnTo>
                                  <a:pt x="1503" y="151"/>
                                </a:lnTo>
                                <a:lnTo>
                                  <a:pt x="1494" y="155"/>
                                </a:lnTo>
                                <a:lnTo>
                                  <a:pt x="1470" y="143"/>
                                </a:lnTo>
                                <a:lnTo>
                                  <a:pt x="1417" y="139"/>
                                </a:lnTo>
                                <a:lnTo>
                                  <a:pt x="1432" y="151"/>
                                </a:lnTo>
                                <a:lnTo>
                                  <a:pt x="1455" y="156"/>
                                </a:lnTo>
                                <a:lnTo>
                                  <a:pt x="1449" y="175"/>
                                </a:lnTo>
                                <a:lnTo>
                                  <a:pt x="1424" y="187"/>
                                </a:lnTo>
                                <a:lnTo>
                                  <a:pt x="1416" y="206"/>
                                </a:lnTo>
                                <a:lnTo>
                                  <a:pt x="1449" y="223"/>
                                </a:lnTo>
                                <a:lnTo>
                                  <a:pt x="1472" y="246"/>
                                </a:lnTo>
                                <a:lnTo>
                                  <a:pt x="1484" y="280"/>
                                </a:lnTo>
                                <a:lnTo>
                                  <a:pt x="1469" y="283"/>
                                </a:lnTo>
                                <a:lnTo>
                                  <a:pt x="1436" y="273"/>
                                </a:lnTo>
                                <a:lnTo>
                                  <a:pt x="1402" y="248"/>
                                </a:lnTo>
                                <a:lnTo>
                                  <a:pt x="1388" y="235"/>
                                </a:lnTo>
                                <a:lnTo>
                                  <a:pt x="1380" y="217"/>
                                </a:lnTo>
                                <a:lnTo>
                                  <a:pt x="1372" y="191"/>
                                </a:lnTo>
                                <a:lnTo>
                                  <a:pt x="1358" y="183"/>
                                </a:lnTo>
                                <a:lnTo>
                                  <a:pt x="1346" y="181"/>
                                </a:lnTo>
                                <a:lnTo>
                                  <a:pt x="1335" y="184"/>
                                </a:lnTo>
                                <a:lnTo>
                                  <a:pt x="1347" y="204"/>
                                </a:lnTo>
                                <a:lnTo>
                                  <a:pt x="1314" y="207"/>
                                </a:lnTo>
                                <a:lnTo>
                                  <a:pt x="1299" y="197"/>
                                </a:lnTo>
                                <a:lnTo>
                                  <a:pt x="1270" y="203"/>
                                </a:lnTo>
                                <a:lnTo>
                                  <a:pt x="1248" y="219"/>
                                </a:lnTo>
                                <a:lnTo>
                                  <a:pt x="1248" y="228"/>
                                </a:lnTo>
                                <a:lnTo>
                                  <a:pt x="1257" y="242"/>
                                </a:lnTo>
                                <a:lnTo>
                                  <a:pt x="1291" y="246"/>
                                </a:lnTo>
                                <a:lnTo>
                                  <a:pt x="1318" y="264"/>
                                </a:lnTo>
                                <a:lnTo>
                                  <a:pt x="1365" y="312"/>
                                </a:lnTo>
                                <a:lnTo>
                                  <a:pt x="1384" y="344"/>
                                </a:lnTo>
                                <a:lnTo>
                                  <a:pt x="1387" y="377"/>
                                </a:lnTo>
                                <a:lnTo>
                                  <a:pt x="1383" y="405"/>
                                </a:lnTo>
                                <a:lnTo>
                                  <a:pt x="1372" y="405"/>
                                </a:lnTo>
                                <a:lnTo>
                                  <a:pt x="1359" y="395"/>
                                </a:lnTo>
                                <a:lnTo>
                                  <a:pt x="1342" y="408"/>
                                </a:lnTo>
                                <a:lnTo>
                                  <a:pt x="1324" y="419"/>
                                </a:lnTo>
                                <a:lnTo>
                                  <a:pt x="1321" y="441"/>
                                </a:lnTo>
                                <a:lnTo>
                                  <a:pt x="1340" y="464"/>
                                </a:lnTo>
                                <a:lnTo>
                                  <a:pt x="1328" y="483"/>
                                </a:lnTo>
                                <a:lnTo>
                                  <a:pt x="1324" y="515"/>
                                </a:lnTo>
                                <a:lnTo>
                                  <a:pt x="1347" y="535"/>
                                </a:lnTo>
                                <a:lnTo>
                                  <a:pt x="1373" y="541"/>
                                </a:lnTo>
                                <a:lnTo>
                                  <a:pt x="1401" y="563"/>
                                </a:lnTo>
                                <a:lnTo>
                                  <a:pt x="1424" y="592"/>
                                </a:lnTo>
                                <a:lnTo>
                                  <a:pt x="1425" y="636"/>
                                </a:lnTo>
                                <a:lnTo>
                                  <a:pt x="1417" y="656"/>
                                </a:lnTo>
                                <a:lnTo>
                                  <a:pt x="1392" y="673"/>
                                </a:lnTo>
                                <a:lnTo>
                                  <a:pt x="1362" y="682"/>
                                </a:lnTo>
                                <a:lnTo>
                                  <a:pt x="1343" y="695"/>
                                </a:lnTo>
                                <a:lnTo>
                                  <a:pt x="1332" y="688"/>
                                </a:lnTo>
                                <a:lnTo>
                                  <a:pt x="1322" y="695"/>
                                </a:lnTo>
                                <a:lnTo>
                                  <a:pt x="1320" y="727"/>
                                </a:lnTo>
                                <a:lnTo>
                                  <a:pt x="1326" y="746"/>
                                </a:lnTo>
                                <a:lnTo>
                                  <a:pt x="1357" y="768"/>
                                </a:lnTo>
                                <a:lnTo>
                                  <a:pt x="1369" y="789"/>
                                </a:lnTo>
                                <a:lnTo>
                                  <a:pt x="1379" y="803"/>
                                </a:lnTo>
                                <a:lnTo>
                                  <a:pt x="1376" y="826"/>
                                </a:lnTo>
                                <a:lnTo>
                                  <a:pt x="1357" y="845"/>
                                </a:lnTo>
                                <a:lnTo>
                                  <a:pt x="1336" y="845"/>
                                </a:lnTo>
                                <a:lnTo>
                                  <a:pt x="1303" y="817"/>
                                </a:lnTo>
                                <a:lnTo>
                                  <a:pt x="1280" y="807"/>
                                </a:lnTo>
                                <a:lnTo>
                                  <a:pt x="1270" y="801"/>
                                </a:lnTo>
                                <a:lnTo>
                                  <a:pt x="1261" y="816"/>
                                </a:lnTo>
                                <a:lnTo>
                                  <a:pt x="1263" y="836"/>
                                </a:lnTo>
                                <a:lnTo>
                                  <a:pt x="1272" y="852"/>
                                </a:lnTo>
                                <a:lnTo>
                                  <a:pt x="1277" y="877"/>
                                </a:lnTo>
                                <a:lnTo>
                                  <a:pt x="1298" y="885"/>
                                </a:lnTo>
                                <a:lnTo>
                                  <a:pt x="1291" y="898"/>
                                </a:lnTo>
                                <a:lnTo>
                                  <a:pt x="1292" y="917"/>
                                </a:lnTo>
                                <a:lnTo>
                                  <a:pt x="1299" y="936"/>
                                </a:lnTo>
                                <a:lnTo>
                                  <a:pt x="1285" y="935"/>
                                </a:lnTo>
                                <a:lnTo>
                                  <a:pt x="1270" y="913"/>
                                </a:lnTo>
                                <a:lnTo>
                                  <a:pt x="1272" y="890"/>
                                </a:lnTo>
                                <a:lnTo>
                                  <a:pt x="1266" y="882"/>
                                </a:lnTo>
                                <a:lnTo>
                                  <a:pt x="1261" y="856"/>
                                </a:lnTo>
                                <a:lnTo>
                                  <a:pt x="1254" y="849"/>
                                </a:lnTo>
                                <a:lnTo>
                                  <a:pt x="1251" y="813"/>
                                </a:lnTo>
                                <a:lnTo>
                                  <a:pt x="1241" y="789"/>
                                </a:lnTo>
                                <a:lnTo>
                                  <a:pt x="1225" y="769"/>
                                </a:lnTo>
                                <a:lnTo>
                                  <a:pt x="1195" y="758"/>
                                </a:lnTo>
                                <a:lnTo>
                                  <a:pt x="1173" y="739"/>
                                </a:lnTo>
                                <a:lnTo>
                                  <a:pt x="1163" y="724"/>
                                </a:lnTo>
                                <a:lnTo>
                                  <a:pt x="1148" y="708"/>
                                </a:lnTo>
                                <a:lnTo>
                                  <a:pt x="1125" y="672"/>
                                </a:lnTo>
                                <a:lnTo>
                                  <a:pt x="1104" y="675"/>
                                </a:lnTo>
                                <a:lnTo>
                                  <a:pt x="1077" y="692"/>
                                </a:lnTo>
                                <a:lnTo>
                                  <a:pt x="1065" y="707"/>
                                </a:lnTo>
                                <a:lnTo>
                                  <a:pt x="1040" y="734"/>
                                </a:lnTo>
                                <a:lnTo>
                                  <a:pt x="1022" y="763"/>
                                </a:lnTo>
                                <a:lnTo>
                                  <a:pt x="1015" y="774"/>
                                </a:lnTo>
                                <a:lnTo>
                                  <a:pt x="1022" y="808"/>
                                </a:lnTo>
                                <a:lnTo>
                                  <a:pt x="1021" y="842"/>
                                </a:lnTo>
                                <a:lnTo>
                                  <a:pt x="999" y="865"/>
                                </a:lnTo>
                                <a:lnTo>
                                  <a:pt x="986" y="866"/>
                                </a:lnTo>
                                <a:lnTo>
                                  <a:pt x="960" y="819"/>
                                </a:lnTo>
                                <a:lnTo>
                                  <a:pt x="940" y="784"/>
                                </a:lnTo>
                                <a:lnTo>
                                  <a:pt x="899" y="720"/>
                                </a:lnTo>
                                <a:lnTo>
                                  <a:pt x="897" y="695"/>
                                </a:lnTo>
                                <a:lnTo>
                                  <a:pt x="888" y="683"/>
                                </a:lnTo>
                                <a:lnTo>
                                  <a:pt x="881" y="699"/>
                                </a:lnTo>
                                <a:lnTo>
                                  <a:pt x="845" y="663"/>
                                </a:lnTo>
                                <a:lnTo>
                                  <a:pt x="797" y="636"/>
                                </a:lnTo>
                                <a:lnTo>
                                  <a:pt x="767" y="641"/>
                                </a:lnTo>
                                <a:lnTo>
                                  <a:pt x="723" y="638"/>
                                </a:lnTo>
                                <a:lnTo>
                                  <a:pt x="703" y="618"/>
                                </a:lnTo>
                                <a:lnTo>
                                  <a:pt x="679" y="621"/>
                                </a:lnTo>
                                <a:lnTo>
                                  <a:pt x="646" y="612"/>
                                </a:lnTo>
                                <a:lnTo>
                                  <a:pt x="578" y="544"/>
                                </a:lnTo>
                                <a:lnTo>
                                  <a:pt x="582" y="572"/>
                                </a:lnTo>
                                <a:lnTo>
                                  <a:pt x="602" y="611"/>
                                </a:lnTo>
                                <a:lnTo>
                                  <a:pt x="626" y="638"/>
                                </a:lnTo>
                                <a:lnTo>
                                  <a:pt x="650" y="653"/>
                                </a:lnTo>
                                <a:lnTo>
                                  <a:pt x="678" y="641"/>
                                </a:lnTo>
                                <a:lnTo>
                                  <a:pt x="700" y="641"/>
                                </a:lnTo>
                                <a:lnTo>
                                  <a:pt x="729" y="666"/>
                                </a:lnTo>
                                <a:lnTo>
                                  <a:pt x="745" y="685"/>
                                </a:lnTo>
                                <a:lnTo>
                                  <a:pt x="742" y="697"/>
                                </a:lnTo>
                                <a:lnTo>
                                  <a:pt x="693" y="750"/>
                                </a:lnTo>
                                <a:lnTo>
                                  <a:pt x="660" y="771"/>
                                </a:lnTo>
                                <a:lnTo>
                                  <a:pt x="591" y="798"/>
                                </a:lnTo>
                                <a:lnTo>
                                  <a:pt x="571" y="807"/>
                                </a:lnTo>
                                <a:lnTo>
                                  <a:pt x="559" y="798"/>
                                </a:lnTo>
                                <a:lnTo>
                                  <a:pt x="554" y="787"/>
                                </a:lnTo>
                                <a:lnTo>
                                  <a:pt x="553" y="771"/>
                                </a:lnTo>
                                <a:lnTo>
                                  <a:pt x="548" y="755"/>
                                </a:lnTo>
                                <a:lnTo>
                                  <a:pt x="538" y="742"/>
                                </a:lnTo>
                                <a:lnTo>
                                  <a:pt x="530" y="730"/>
                                </a:lnTo>
                                <a:lnTo>
                                  <a:pt x="517" y="714"/>
                                </a:lnTo>
                                <a:lnTo>
                                  <a:pt x="511" y="704"/>
                                </a:lnTo>
                                <a:lnTo>
                                  <a:pt x="505" y="691"/>
                                </a:lnTo>
                                <a:lnTo>
                                  <a:pt x="495" y="679"/>
                                </a:lnTo>
                                <a:lnTo>
                                  <a:pt x="480" y="650"/>
                                </a:lnTo>
                                <a:lnTo>
                                  <a:pt x="472" y="638"/>
                                </a:lnTo>
                                <a:lnTo>
                                  <a:pt x="461" y="623"/>
                                </a:lnTo>
                                <a:lnTo>
                                  <a:pt x="443" y="601"/>
                                </a:lnTo>
                                <a:lnTo>
                                  <a:pt x="434" y="588"/>
                                </a:lnTo>
                                <a:lnTo>
                                  <a:pt x="426" y="579"/>
                                </a:lnTo>
                                <a:lnTo>
                                  <a:pt x="416" y="560"/>
                                </a:lnTo>
                                <a:lnTo>
                                  <a:pt x="445" y="543"/>
                                </a:lnTo>
                                <a:lnTo>
                                  <a:pt x="457" y="505"/>
                                </a:lnTo>
                                <a:lnTo>
                                  <a:pt x="430" y="495"/>
                                </a:lnTo>
                                <a:lnTo>
                                  <a:pt x="391" y="501"/>
                                </a:lnTo>
                                <a:lnTo>
                                  <a:pt x="383" y="496"/>
                                </a:lnTo>
                                <a:lnTo>
                                  <a:pt x="379" y="496"/>
                                </a:lnTo>
                                <a:lnTo>
                                  <a:pt x="373" y="496"/>
                                </a:lnTo>
                                <a:lnTo>
                                  <a:pt x="369" y="496"/>
                                </a:lnTo>
                                <a:lnTo>
                                  <a:pt x="368" y="489"/>
                                </a:lnTo>
                                <a:lnTo>
                                  <a:pt x="365" y="483"/>
                                </a:lnTo>
                                <a:lnTo>
                                  <a:pt x="365" y="471"/>
                                </a:lnTo>
                                <a:lnTo>
                                  <a:pt x="358" y="466"/>
                                </a:lnTo>
                                <a:lnTo>
                                  <a:pt x="357" y="458"/>
                                </a:lnTo>
                                <a:lnTo>
                                  <a:pt x="353" y="457"/>
                                </a:lnTo>
                                <a:lnTo>
                                  <a:pt x="349" y="451"/>
                                </a:lnTo>
                                <a:lnTo>
                                  <a:pt x="347" y="445"/>
                                </a:lnTo>
                                <a:lnTo>
                                  <a:pt x="345" y="440"/>
                                </a:lnTo>
                                <a:lnTo>
                                  <a:pt x="342" y="434"/>
                                </a:lnTo>
                                <a:lnTo>
                                  <a:pt x="334" y="434"/>
                                </a:lnTo>
                                <a:lnTo>
                                  <a:pt x="328" y="434"/>
                                </a:lnTo>
                                <a:lnTo>
                                  <a:pt x="325" y="434"/>
                                </a:lnTo>
                                <a:lnTo>
                                  <a:pt x="324" y="444"/>
                                </a:lnTo>
                                <a:lnTo>
                                  <a:pt x="324" y="451"/>
                                </a:lnTo>
                                <a:lnTo>
                                  <a:pt x="324" y="460"/>
                                </a:lnTo>
                                <a:lnTo>
                                  <a:pt x="324" y="469"/>
                                </a:lnTo>
                                <a:lnTo>
                                  <a:pt x="324" y="474"/>
                                </a:lnTo>
                                <a:lnTo>
                                  <a:pt x="317" y="477"/>
                                </a:lnTo>
                                <a:lnTo>
                                  <a:pt x="312" y="483"/>
                                </a:lnTo>
                                <a:lnTo>
                                  <a:pt x="303" y="474"/>
                                </a:lnTo>
                                <a:lnTo>
                                  <a:pt x="298" y="463"/>
                                </a:lnTo>
                                <a:lnTo>
                                  <a:pt x="299" y="450"/>
                                </a:lnTo>
                                <a:lnTo>
                                  <a:pt x="291" y="429"/>
                                </a:lnTo>
                                <a:lnTo>
                                  <a:pt x="287" y="418"/>
                                </a:lnTo>
                                <a:lnTo>
                                  <a:pt x="277" y="410"/>
                                </a:lnTo>
                                <a:lnTo>
                                  <a:pt x="266" y="403"/>
                                </a:lnTo>
                                <a:lnTo>
                                  <a:pt x="261" y="393"/>
                                </a:lnTo>
                                <a:lnTo>
                                  <a:pt x="257" y="386"/>
                                </a:lnTo>
                                <a:lnTo>
                                  <a:pt x="247" y="384"/>
                                </a:lnTo>
                                <a:lnTo>
                                  <a:pt x="244" y="380"/>
                                </a:lnTo>
                                <a:lnTo>
                                  <a:pt x="238" y="380"/>
                                </a:lnTo>
                                <a:lnTo>
                                  <a:pt x="232" y="387"/>
                                </a:lnTo>
                                <a:lnTo>
                                  <a:pt x="227" y="393"/>
                                </a:lnTo>
                                <a:lnTo>
                                  <a:pt x="239" y="400"/>
                                </a:lnTo>
                                <a:lnTo>
                                  <a:pt x="246" y="410"/>
                                </a:lnTo>
                                <a:lnTo>
                                  <a:pt x="258" y="424"/>
                                </a:lnTo>
                                <a:lnTo>
                                  <a:pt x="264" y="429"/>
                                </a:lnTo>
                                <a:lnTo>
                                  <a:pt x="273" y="434"/>
                                </a:lnTo>
                                <a:lnTo>
                                  <a:pt x="280" y="445"/>
                                </a:lnTo>
                                <a:lnTo>
                                  <a:pt x="272" y="456"/>
                                </a:lnTo>
                                <a:lnTo>
                                  <a:pt x="271" y="451"/>
                                </a:lnTo>
                                <a:lnTo>
                                  <a:pt x="271" y="445"/>
                                </a:lnTo>
                                <a:lnTo>
                                  <a:pt x="266" y="458"/>
                                </a:lnTo>
                                <a:lnTo>
                                  <a:pt x="265" y="470"/>
                                </a:lnTo>
                                <a:lnTo>
                                  <a:pt x="257" y="473"/>
                                </a:lnTo>
                                <a:lnTo>
                                  <a:pt x="260" y="458"/>
                                </a:lnTo>
                                <a:lnTo>
                                  <a:pt x="258" y="451"/>
                                </a:lnTo>
                                <a:lnTo>
                                  <a:pt x="249" y="447"/>
                                </a:lnTo>
                                <a:lnTo>
                                  <a:pt x="244" y="444"/>
                                </a:lnTo>
                                <a:lnTo>
                                  <a:pt x="240" y="438"/>
                                </a:lnTo>
                                <a:lnTo>
                                  <a:pt x="232" y="432"/>
                                </a:lnTo>
                                <a:lnTo>
                                  <a:pt x="227" y="428"/>
                                </a:lnTo>
                                <a:lnTo>
                                  <a:pt x="221" y="419"/>
                                </a:lnTo>
                                <a:lnTo>
                                  <a:pt x="214" y="415"/>
                                </a:lnTo>
                                <a:lnTo>
                                  <a:pt x="210" y="406"/>
                                </a:lnTo>
                                <a:lnTo>
                                  <a:pt x="209" y="399"/>
                                </a:lnTo>
                                <a:lnTo>
                                  <a:pt x="203" y="396"/>
                                </a:lnTo>
                                <a:lnTo>
                                  <a:pt x="198" y="392"/>
                                </a:lnTo>
                                <a:lnTo>
                                  <a:pt x="187" y="392"/>
                                </a:lnTo>
                                <a:lnTo>
                                  <a:pt x="177" y="393"/>
                                </a:lnTo>
                                <a:lnTo>
                                  <a:pt x="166" y="392"/>
                                </a:lnTo>
                                <a:lnTo>
                                  <a:pt x="147" y="393"/>
                                </a:lnTo>
                                <a:lnTo>
                                  <a:pt x="133" y="395"/>
                                </a:lnTo>
                                <a:lnTo>
                                  <a:pt x="129" y="397"/>
                                </a:lnTo>
                                <a:lnTo>
                                  <a:pt x="128" y="406"/>
                                </a:lnTo>
                                <a:lnTo>
                                  <a:pt x="128" y="416"/>
                                </a:lnTo>
                                <a:lnTo>
                                  <a:pt x="120" y="426"/>
                                </a:lnTo>
                                <a:lnTo>
                                  <a:pt x="114" y="431"/>
                                </a:lnTo>
                                <a:lnTo>
                                  <a:pt x="111" y="434"/>
                                </a:lnTo>
                                <a:lnTo>
                                  <a:pt x="107" y="444"/>
                                </a:lnTo>
                                <a:lnTo>
                                  <a:pt x="105" y="450"/>
                                </a:lnTo>
                                <a:lnTo>
                                  <a:pt x="109" y="454"/>
                                </a:lnTo>
                                <a:lnTo>
                                  <a:pt x="109" y="463"/>
                                </a:lnTo>
                                <a:lnTo>
                                  <a:pt x="107" y="467"/>
                                </a:lnTo>
                                <a:lnTo>
                                  <a:pt x="105" y="473"/>
                                </a:lnTo>
                                <a:lnTo>
                                  <a:pt x="98" y="483"/>
                                </a:lnTo>
                                <a:lnTo>
                                  <a:pt x="94" y="479"/>
                                </a:lnTo>
                                <a:lnTo>
                                  <a:pt x="90" y="482"/>
                                </a:lnTo>
                                <a:lnTo>
                                  <a:pt x="84" y="486"/>
                                </a:lnTo>
                                <a:lnTo>
                                  <a:pt x="76" y="487"/>
                                </a:lnTo>
                                <a:lnTo>
                                  <a:pt x="68" y="495"/>
                                </a:lnTo>
                                <a:lnTo>
                                  <a:pt x="59" y="496"/>
                                </a:lnTo>
                                <a:lnTo>
                                  <a:pt x="51" y="496"/>
                                </a:lnTo>
                                <a:lnTo>
                                  <a:pt x="43" y="496"/>
                                </a:lnTo>
                                <a:lnTo>
                                  <a:pt x="25" y="501"/>
                                </a:lnTo>
                                <a:lnTo>
                                  <a:pt x="17" y="501"/>
                                </a:lnTo>
                                <a:lnTo>
                                  <a:pt x="13" y="490"/>
                                </a:lnTo>
                                <a:lnTo>
                                  <a:pt x="9" y="477"/>
                                </a:lnTo>
                                <a:lnTo>
                                  <a:pt x="6" y="466"/>
                                </a:lnTo>
                                <a:lnTo>
                                  <a:pt x="5" y="454"/>
                                </a:lnTo>
                                <a:lnTo>
                                  <a:pt x="5" y="440"/>
                                </a:lnTo>
                                <a:lnTo>
                                  <a:pt x="0" y="41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809" name=""/>
                      <p:cNvGrpSpPr/>
                      <p:nvPr/>
                    </p:nvGrpSpPr>
                    <p:grpSpPr>
                      <a:xfrm>
                        <a:off x="6992280" y="3201120"/>
                        <a:ext cx="746280" cy="1140120"/>
                        <a:chOff x="6992280" y="3201120"/>
                        <a:chExt cx="746280" cy="1140120"/>
                      </a:xfrm>
                    </p:grpSpPr>
                    <p:sp>
                      <p:nvSpPr>
                        <p:cNvPr id="1810" name=""/>
                        <p:cNvSpPr/>
                        <p:nvPr/>
                      </p:nvSpPr>
                      <p:spPr>
                        <a:xfrm>
                          <a:off x="6992280" y="4261320"/>
                          <a:ext cx="187200" cy="74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0" h="137">
                              <a:moveTo>
                                <a:pt x="86" y="65"/>
                              </a:moveTo>
                              <a:lnTo>
                                <a:pt x="85" y="51"/>
                              </a:lnTo>
                              <a:lnTo>
                                <a:pt x="93" y="48"/>
                              </a:lnTo>
                              <a:lnTo>
                                <a:pt x="106" y="52"/>
                              </a:lnTo>
                              <a:lnTo>
                                <a:pt x="121" y="57"/>
                              </a:lnTo>
                              <a:lnTo>
                                <a:pt x="133" y="44"/>
                              </a:lnTo>
                              <a:lnTo>
                                <a:pt x="132" y="35"/>
                              </a:lnTo>
                              <a:lnTo>
                                <a:pt x="151" y="41"/>
                              </a:lnTo>
                              <a:lnTo>
                                <a:pt x="159" y="41"/>
                              </a:lnTo>
                              <a:lnTo>
                                <a:pt x="167" y="42"/>
                              </a:lnTo>
                              <a:lnTo>
                                <a:pt x="182" y="31"/>
                              </a:lnTo>
                              <a:lnTo>
                                <a:pt x="200" y="26"/>
                              </a:lnTo>
                              <a:lnTo>
                                <a:pt x="218" y="26"/>
                              </a:lnTo>
                              <a:lnTo>
                                <a:pt x="229" y="22"/>
                              </a:lnTo>
                              <a:lnTo>
                                <a:pt x="247" y="23"/>
                              </a:lnTo>
                              <a:lnTo>
                                <a:pt x="262" y="23"/>
                              </a:lnTo>
                              <a:lnTo>
                                <a:pt x="276" y="22"/>
                              </a:lnTo>
                              <a:lnTo>
                                <a:pt x="298" y="23"/>
                              </a:lnTo>
                              <a:lnTo>
                                <a:pt x="307" y="22"/>
                              </a:lnTo>
                              <a:lnTo>
                                <a:pt x="328" y="32"/>
                              </a:lnTo>
                              <a:lnTo>
                                <a:pt x="347" y="29"/>
                              </a:lnTo>
                              <a:lnTo>
                                <a:pt x="359" y="16"/>
                              </a:lnTo>
                              <a:lnTo>
                                <a:pt x="370" y="13"/>
                              </a:lnTo>
                              <a:lnTo>
                                <a:pt x="387" y="1"/>
                              </a:lnTo>
                              <a:lnTo>
                                <a:pt x="410" y="0"/>
                              </a:lnTo>
                              <a:lnTo>
                                <a:pt x="402" y="10"/>
                              </a:lnTo>
                              <a:lnTo>
                                <a:pt x="394" y="16"/>
                              </a:lnTo>
                              <a:lnTo>
                                <a:pt x="385" y="25"/>
                              </a:lnTo>
                              <a:lnTo>
                                <a:pt x="373" y="33"/>
                              </a:lnTo>
                              <a:lnTo>
                                <a:pt x="366" y="42"/>
                              </a:lnTo>
                              <a:lnTo>
                                <a:pt x="355" y="48"/>
                              </a:lnTo>
                              <a:lnTo>
                                <a:pt x="347" y="54"/>
                              </a:lnTo>
                              <a:lnTo>
                                <a:pt x="339" y="58"/>
                              </a:lnTo>
                              <a:lnTo>
                                <a:pt x="332" y="64"/>
                              </a:lnTo>
                              <a:lnTo>
                                <a:pt x="321" y="65"/>
                              </a:lnTo>
                              <a:lnTo>
                                <a:pt x="313" y="70"/>
                              </a:lnTo>
                              <a:lnTo>
                                <a:pt x="304" y="76"/>
                              </a:lnTo>
                              <a:lnTo>
                                <a:pt x="288" y="84"/>
                              </a:lnTo>
                              <a:lnTo>
                                <a:pt x="276" y="87"/>
                              </a:lnTo>
                              <a:lnTo>
                                <a:pt x="262" y="94"/>
                              </a:lnTo>
                              <a:lnTo>
                                <a:pt x="248" y="99"/>
                              </a:lnTo>
                              <a:lnTo>
                                <a:pt x="236" y="105"/>
                              </a:lnTo>
                              <a:lnTo>
                                <a:pt x="222" y="109"/>
                              </a:lnTo>
                              <a:lnTo>
                                <a:pt x="208" y="115"/>
                              </a:lnTo>
                              <a:lnTo>
                                <a:pt x="196" y="118"/>
                              </a:lnTo>
                              <a:lnTo>
                                <a:pt x="184" y="121"/>
                              </a:lnTo>
                              <a:lnTo>
                                <a:pt x="171" y="125"/>
                              </a:lnTo>
                              <a:lnTo>
                                <a:pt x="155" y="128"/>
                              </a:lnTo>
                              <a:lnTo>
                                <a:pt x="140" y="129"/>
                              </a:lnTo>
                              <a:lnTo>
                                <a:pt x="126" y="134"/>
                              </a:lnTo>
                              <a:lnTo>
                                <a:pt x="110" y="137"/>
                              </a:lnTo>
                              <a:lnTo>
                                <a:pt x="95" y="137"/>
                              </a:lnTo>
                              <a:lnTo>
                                <a:pt x="80" y="135"/>
                              </a:lnTo>
                              <a:lnTo>
                                <a:pt x="64" y="137"/>
                              </a:lnTo>
                              <a:lnTo>
                                <a:pt x="51" y="129"/>
                              </a:lnTo>
                              <a:lnTo>
                                <a:pt x="38" y="123"/>
                              </a:lnTo>
                              <a:lnTo>
                                <a:pt x="26" y="116"/>
                              </a:lnTo>
                              <a:lnTo>
                                <a:pt x="12" y="105"/>
                              </a:lnTo>
                              <a:lnTo>
                                <a:pt x="0" y="96"/>
                              </a:lnTo>
                              <a:lnTo>
                                <a:pt x="36" y="91"/>
                              </a:lnTo>
                              <a:lnTo>
                                <a:pt x="41" y="91"/>
                              </a:lnTo>
                              <a:lnTo>
                                <a:pt x="44" y="89"/>
                              </a:lnTo>
                              <a:lnTo>
                                <a:pt x="55" y="87"/>
                              </a:lnTo>
                              <a:lnTo>
                                <a:pt x="66" y="91"/>
                              </a:lnTo>
                              <a:lnTo>
                                <a:pt x="74" y="99"/>
                              </a:lnTo>
                              <a:lnTo>
                                <a:pt x="78" y="99"/>
                              </a:lnTo>
                              <a:lnTo>
                                <a:pt x="84" y="103"/>
                              </a:lnTo>
                              <a:lnTo>
                                <a:pt x="92" y="99"/>
                              </a:lnTo>
                              <a:lnTo>
                                <a:pt x="95" y="87"/>
                              </a:lnTo>
                              <a:lnTo>
                                <a:pt x="97" y="77"/>
                              </a:lnTo>
                              <a:lnTo>
                                <a:pt x="86" y="6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1" name=""/>
                        <p:cNvSpPr/>
                        <p:nvPr/>
                      </p:nvSpPr>
                      <p:spPr>
                        <a:xfrm>
                          <a:off x="7509600" y="4208040"/>
                          <a:ext cx="190800" cy="13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9" h="241">
                              <a:moveTo>
                                <a:pt x="229" y="18"/>
                              </a:moveTo>
                              <a:lnTo>
                                <a:pt x="205" y="32"/>
                              </a:lnTo>
                              <a:lnTo>
                                <a:pt x="201" y="40"/>
                              </a:lnTo>
                              <a:lnTo>
                                <a:pt x="191" y="46"/>
                              </a:lnTo>
                              <a:lnTo>
                                <a:pt x="187" y="48"/>
                              </a:lnTo>
                              <a:lnTo>
                                <a:pt x="179" y="52"/>
                              </a:lnTo>
                              <a:lnTo>
                                <a:pt x="188" y="65"/>
                              </a:lnTo>
                              <a:lnTo>
                                <a:pt x="192" y="71"/>
                              </a:lnTo>
                              <a:lnTo>
                                <a:pt x="192" y="81"/>
                              </a:lnTo>
                              <a:lnTo>
                                <a:pt x="211" y="107"/>
                              </a:lnTo>
                              <a:lnTo>
                                <a:pt x="211" y="123"/>
                              </a:lnTo>
                              <a:lnTo>
                                <a:pt x="209" y="138"/>
                              </a:lnTo>
                              <a:lnTo>
                                <a:pt x="184" y="161"/>
                              </a:lnTo>
                              <a:lnTo>
                                <a:pt x="176" y="170"/>
                              </a:lnTo>
                              <a:lnTo>
                                <a:pt x="165" y="174"/>
                              </a:lnTo>
                              <a:lnTo>
                                <a:pt x="147" y="171"/>
                              </a:lnTo>
                              <a:lnTo>
                                <a:pt x="143" y="167"/>
                              </a:lnTo>
                              <a:lnTo>
                                <a:pt x="128" y="170"/>
                              </a:lnTo>
                              <a:lnTo>
                                <a:pt x="133" y="174"/>
                              </a:lnTo>
                              <a:lnTo>
                                <a:pt x="133" y="183"/>
                              </a:lnTo>
                              <a:lnTo>
                                <a:pt x="142" y="191"/>
                              </a:lnTo>
                              <a:lnTo>
                                <a:pt x="147" y="190"/>
                              </a:lnTo>
                              <a:lnTo>
                                <a:pt x="165" y="196"/>
                              </a:lnTo>
                              <a:lnTo>
                                <a:pt x="201" y="196"/>
                              </a:lnTo>
                              <a:lnTo>
                                <a:pt x="206" y="200"/>
                              </a:lnTo>
                              <a:lnTo>
                                <a:pt x="265" y="196"/>
                              </a:lnTo>
                              <a:lnTo>
                                <a:pt x="292" y="185"/>
                              </a:lnTo>
                              <a:lnTo>
                                <a:pt x="307" y="180"/>
                              </a:lnTo>
                              <a:lnTo>
                                <a:pt x="324" y="171"/>
                              </a:lnTo>
                              <a:lnTo>
                                <a:pt x="329" y="165"/>
                              </a:lnTo>
                              <a:lnTo>
                                <a:pt x="335" y="161"/>
                              </a:lnTo>
                              <a:lnTo>
                                <a:pt x="347" y="155"/>
                              </a:lnTo>
                              <a:lnTo>
                                <a:pt x="360" y="146"/>
                              </a:lnTo>
                              <a:lnTo>
                                <a:pt x="377" y="142"/>
                              </a:lnTo>
                              <a:lnTo>
                                <a:pt x="419" y="119"/>
                              </a:lnTo>
                              <a:lnTo>
                                <a:pt x="414" y="138"/>
                              </a:lnTo>
                              <a:lnTo>
                                <a:pt x="406" y="151"/>
                              </a:lnTo>
                              <a:lnTo>
                                <a:pt x="398" y="162"/>
                              </a:lnTo>
                              <a:lnTo>
                                <a:pt x="390" y="172"/>
                              </a:lnTo>
                              <a:lnTo>
                                <a:pt x="376" y="183"/>
                              </a:lnTo>
                              <a:lnTo>
                                <a:pt x="365" y="191"/>
                              </a:lnTo>
                              <a:lnTo>
                                <a:pt x="354" y="200"/>
                              </a:lnTo>
                              <a:lnTo>
                                <a:pt x="339" y="210"/>
                              </a:lnTo>
                              <a:lnTo>
                                <a:pt x="320" y="222"/>
                              </a:lnTo>
                              <a:lnTo>
                                <a:pt x="303" y="229"/>
                              </a:lnTo>
                              <a:lnTo>
                                <a:pt x="287" y="233"/>
                              </a:lnTo>
                              <a:lnTo>
                                <a:pt x="262" y="238"/>
                              </a:lnTo>
                              <a:lnTo>
                                <a:pt x="235" y="241"/>
                              </a:lnTo>
                              <a:lnTo>
                                <a:pt x="210" y="241"/>
                              </a:lnTo>
                              <a:lnTo>
                                <a:pt x="181" y="239"/>
                              </a:lnTo>
                              <a:lnTo>
                                <a:pt x="163" y="236"/>
                              </a:lnTo>
                              <a:lnTo>
                                <a:pt x="139" y="232"/>
                              </a:lnTo>
                              <a:lnTo>
                                <a:pt x="124" y="226"/>
                              </a:lnTo>
                              <a:lnTo>
                                <a:pt x="107" y="216"/>
                              </a:lnTo>
                              <a:lnTo>
                                <a:pt x="91" y="210"/>
                              </a:lnTo>
                              <a:lnTo>
                                <a:pt x="80" y="204"/>
                              </a:lnTo>
                              <a:lnTo>
                                <a:pt x="69" y="199"/>
                              </a:lnTo>
                              <a:lnTo>
                                <a:pt x="61" y="196"/>
                              </a:lnTo>
                              <a:lnTo>
                                <a:pt x="47" y="188"/>
                              </a:lnTo>
                              <a:lnTo>
                                <a:pt x="37" y="181"/>
                              </a:lnTo>
                              <a:lnTo>
                                <a:pt x="29" y="175"/>
                              </a:lnTo>
                              <a:lnTo>
                                <a:pt x="22" y="167"/>
                              </a:lnTo>
                              <a:lnTo>
                                <a:pt x="14" y="159"/>
                              </a:lnTo>
                              <a:lnTo>
                                <a:pt x="7" y="154"/>
                              </a:lnTo>
                              <a:lnTo>
                                <a:pt x="0" y="148"/>
                              </a:lnTo>
                              <a:lnTo>
                                <a:pt x="14" y="135"/>
                              </a:lnTo>
                              <a:lnTo>
                                <a:pt x="22" y="133"/>
                              </a:lnTo>
                              <a:lnTo>
                                <a:pt x="28" y="133"/>
                              </a:lnTo>
                              <a:lnTo>
                                <a:pt x="36" y="132"/>
                              </a:lnTo>
                              <a:lnTo>
                                <a:pt x="47" y="127"/>
                              </a:lnTo>
                              <a:lnTo>
                                <a:pt x="55" y="129"/>
                              </a:lnTo>
                              <a:lnTo>
                                <a:pt x="66" y="126"/>
                              </a:lnTo>
                              <a:lnTo>
                                <a:pt x="80" y="125"/>
                              </a:lnTo>
                              <a:lnTo>
                                <a:pt x="89" y="126"/>
                              </a:lnTo>
                              <a:lnTo>
                                <a:pt x="98" y="127"/>
                              </a:lnTo>
                              <a:lnTo>
                                <a:pt x="105" y="127"/>
                              </a:lnTo>
                              <a:lnTo>
                                <a:pt x="109" y="129"/>
                              </a:lnTo>
                              <a:lnTo>
                                <a:pt x="117" y="129"/>
                              </a:lnTo>
                              <a:lnTo>
                                <a:pt x="121" y="127"/>
                              </a:lnTo>
                              <a:lnTo>
                                <a:pt x="139" y="125"/>
                              </a:lnTo>
                              <a:lnTo>
                                <a:pt x="153" y="123"/>
                              </a:lnTo>
                              <a:lnTo>
                                <a:pt x="161" y="125"/>
                              </a:lnTo>
                              <a:lnTo>
                                <a:pt x="162" y="120"/>
                              </a:lnTo>
                              <a:lnTo>
                                <a:pt x="159" y="114"/>
                              </a:lnTo>
                              <a:lnTo>
                                <a:pt x="157" y="107"/>
                              </a:lnTo>
                              <a:lnTo>
                                <a:pt x="155" y="103"/>
                              </a:lnTo>
                              <a:lnTo>
                                <a:pt x="153" y="97"/>
                              </a:lnTo>
                              <a:lnTo>
                                <a:pt x="159" y="90"/>
                              </a:lnTo>
                              <a:lnTo>
                                <a:pt x="165" y="82"/>
                              </a:lnTo>
                              <a:lnTo>
                                <a:pt x="172" y="71"/>
                              </a:lnTo>
                              <a:lnTo>
                                <a:pt x="165" y="66"/>
                              </a:lnTo>
                              <a:lnTo>
                                <a:pt x="163" y="62"/>
                              </a:lnTo>
                              <a:lnTo>
                                <a:pt x="159" y="58"/>
                              </a:lnTo>
                              <a:lnTo>
                                <a:pt x="165" y="48"/>
                              </a:lnTo>
                              <a:lnTo>
                                <a:pt x="170" y="39"/>
                              </a:lnTo>
                              <a:lnTo>
                                <a:pt x="174" y="29"/>
                              </a:lnTo>
                              <a:lnTo>
                                <a:pt x="180" y="21"/>
                              </a:lnTo>
                              <a:lnTo>
                                <a:pt x="184" y="20"/>
                              </a:lnTo>
                              <a:lnTo>
                                <a:pt x="191" y="10"/>
                              </a:lnTo>
                              <a:lnTo>
                                <a:pt x="196" y="7"/>
                              </a:lnTo>
                              <a:lnTo>
                                <a:pt x="201" y="7"/>
                              </a:lnTo>
                              <a:lnTo>
                                <a:pt x="210" y="1"/>
                              </a:lnTo>
                              <a:lnTo>
                                <a:pt x="216" y="0"/>
                              </a:lnTo>
                              <a:lnTo>
                                <a:pt x="224" y="1"/>
                              </a:lnTo>
                              <a:lnTo>
                                <a:pt x="229" y="1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2" name=""/>
                        <p:cNvSpPr/>
                        <p:nvPr/>
                      </p:nvSpPr>
                      <p:spPr>
                        <a:xfrm>
                          <a:off x="7136280" y="3243960"/>
                          <a:ext cx="408600" cy="448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92" h="813">
                              <a:moveTo>
                                <a:pt x="0" y="209"/>
                              </a:moveTo>
                              <a:lnTo>
                                <a:pt x="42" y="181"/>
                              </a:lnTo>
                              <a:lnTo>
                                <a:pt x="67" y="170"/>
                              </a:lnTo>
                              <a:lnTo>
                                <a:pt x="71" y="152"/>
                              </a:lnTo>
                              <a:lnTo>
                                <a:pt x="52" y="142"/>
                              </a:lnTo>
                              <a:lnTo>
                                <a:pt x="50" y="122"/>
                              </a:lnTo>
                              <a:lnTo>
                                <a:pt x="59" y="116"/>
                              </a:lnTo>
                              <a:lnTo>
                                <a:pt x="57" y="107"/>
                              </a:lnTo>
                              <a:lnTo>
                                <a:pt x="90" y="104"/>
                              </a:lnTo>
                              <a:lnTo>
                                <a:pt x="98" y="88"/>
                              </a:lnTo>
                              <a:lnTo>
                                <a:pt x="100" y="74"/>
                              </a:lnTo>
                              <a:lnTo>
                                <a:pt x="127" y="69"/>
                              </a:lnTo>
                              <a:lnTo>
                                <a:pt x="130" y="55"/>
                              </a:lnTo>
                              <a:lnTo>
                                <a:pt x="104" y="51"/>
                              </a:lnTo>
                              <a:lnTo>
                                <a:pt x="116" y="40"/>
                              </a:lnTo>
                              <a:lnTo>
                                <a:pt x="159" y="40"/>
                              </a:lnTo>
                              <a:lnTo>
                                <a:pt x="171" y="29"/>
                              </a:lnTo>
                              <a:lnTo>
                                <a:pt x="189" y="27"/>
                              </a:lnTo>
                              <a:lnTo>
                                <a:pt x="200" y="17"/>
                              </a:lnTo>
                              <a:lnTo>
                                <a:pt x="214" y="35"/>
                              </a:lnTo>
                              <a:lnTo>
                                <a:pt x="267" y="32"/>
                              </a:lnTo>
                              <a:lnTo>
                                <a:pt x="292" y="49"/>
                              </a:lnTo>
                              <a:lnTo>
                                <a:pt x="371" y="45"/>
                              </a:lnTo>
                              <a:lnTo>
                                <a:pt x="384" y="36"/>
                              </a:lnTo>
                              <a:lnTo>
                                <a:pt x="414" y="51"/>
                              </a:lnTo>
                              <a:lnTo>
                                <a:pt x="445" y="64"/>
                              </a:lnTo>
                              <a:lnTo>
                                <a:pt x="461" y="58"/>
                              </a:lnTo>
                              <a:lnTo>
                                <a:pt x="470" y="51"/>
                              </a:lnTo>
                              <a:lnTo>
                                <a:pt x="496" y="55"/>
                              </a:lnTo>
                              <a:lnTo>
                                <a:pt x="478" y="45"/>
                              </a:lnTo>
                              <a:lnTo>
                                <a:pt x="462" y="46"/>
                              </a:lnTo>
                              <a:lnTo>
                                <a:pt x="437" y="49"/>
                              </a:lnTo>
                              <a:lnTo>
                                <a:pt x="425" y="35"/>
                              </a:lnTo>
                              <a:lnTo>
                                <a:pt x="411" y="27"/>
                              </a:lnTo>
                              <a:lnTo>
                                <a:pt x="411" y="14"/>
                              </a:lnTo>
                              <a:lnTo>
                                <a:pt x="415" y="1"/>
                              </a:lnTo>
                              <a:lnTo>
                                <a:pt x="426" y="0"/>
                              </a:lnTo>
                              <a:lnTo>
                                <a:pt x="441" y="11"/>
                              </a:lnTo>
                              <a:lnTo>
                                <a:pt x="445" y="6"/>
                              </a:lnTo>
                              <a:lnTo>
                                <a:pt x="458" y="0"/>
                              </a:lnTo>
                              <a:lnTo>
                                <a:pt x="473" y="8"/>
                              </a:lnTo>
                              <a:lnTo>
                                <a:pt x="481" y="1"/>
                              </a:lnTo>
                              <a:lnTo>
                                <a:pt x="489" y="13"/>
                              </a:lnTo>
                              <a:lnTo>
                                <a:pt x="491" y="22"/>
                              </a:lnTo>
                              <a:lnTo>
                                <a:pt x="513" y="32"/>
                              </a:lnTo>
                              <a:lnTo>
                                <a:pt x="504" y="40"/>
                              </a:lnTo>
                              <a:lnTo>
                                <a:pt x="504" y="52"/>
                              </a:lnTo>
                              <a:lnTo>
                                <a:pt x="541" y="55"/>
                              </a:lnTo>
                              <a:lnTo>
                                <a:pt x="551" y="40"/>
                              </a:lnTo>
                              <a:lnTo>
                                <a:pt x="544" y="33"/>
                              </a:lnTo>
                              <a:lnTo>
                                <a:pt x="528" y="35"/>
                              </a:lnTo>
                              <a:lnTo>
                                <a:pt x="532" y="17"/>
                              </a:lnTo>
                              <a:lnTo>
                                <a:pt x="565" y="27"/>
                              </a:lnTo>
                              <a:lnTo>
                                <a:pt x="572" y="39"/>
                              </a:lnTo>
                              <a:lnTo>
                                <a:pt x="599" y="39"/>
                              </a:lnTo>
                              <a:lnTo>
                                <a:pt x="626" y="53"/>
                              </a:lnTo>
                              <a:lnTo>
                                <a:pt x="640" y="51"/>
                              </a:lnTo>
                              <a:lnTo>
                                <a:pt x="655" y="64"/>
                              </a:lnTo>
                              <a:lnTo>
                                <a:pt x="640" y="81"/>
                              </a:lnTo>
                              <a:lnTo>
                                <a:pt x="628" y="68"/>
                              </a:lnTo>
                              <a:lnTo>
                                <a:pt x="620" y="72"/>
                              </a:lnTo>
                              <a:lnTo>
                                <a:pt x="607" y="83"/>
                              </a:lnTo>
                              <a:lnTo>
                                <a:pt x="588" y="91"/>
                              </a:lnTo>
                              <a:lnTo>
                                <a:pt x="598" y="104"/>
                              </a:lnTo>
                              <a:lnTo>
                                <a:pt x="581" y="106"/>
                              </a:lnTo>
                              <a:lnTo>
                                <a:pt x="567" y="123"/>
                              </a:lnTo>
                              <a:lnTo>
                                <a:pt x="554" y="145"/>
                              </a:lnTo>
                              <a:lnTo>
                                <a:pt x="574" y="164"/>
                              </a:lnTo>
                              <a:lnTo>
                                <a:pt x="591" y="186"/>
                              </a:lnTo>
                              <a:lnTo>
                                <a:pt x="622" y="189"/>
                              </a:lnTo>
                              <a:lnTo>
                                <a:pt x="650" y="186"/>
                              </a:lnTo>
                              <a:lnTo>
                                <a:pt x="662" y="197"/>
                              </a:lnTo>
                              <a:lnTo>
                                <a:pt x="657" y="203"/>
                              </a:lnTo>
                              <a:lnTo>
                                <a:pt x="648" y="215"/>
                              </a:lnTo>
                              <a:lnTo>
                                <a:pt x="661" y="235"/>
                              </a:lnTo>
                              <a:lnTo>
                                <a:pt x="665" y="249"/>
                              </a:lnTo>
                              <a:lnTo>
                                <a:pt x="680" y="257"/>
                              </a:lnTo>
                              <a:lnTo>
                                <a:pt x="700" y="244"/>
                              </a:lnTo>
                              <a:lnTo>
                                <a:pt x="695" y="225"/>
                              </a:lnTo>
                              <a:lnTo>
                                <a:pt x="677" y="209"/>
                              </a:lnTo>
                              <a:lnTo>
                                <a:pt x="698" y="190"/>
                              </a:lnTo>
                              <a:lnTo>
                                <a:pt x="680" y="158"/>
                              </a:lnTo>
                              <a:lnTo>
                                <a:pt x="663" y="145"/>
                              </a:lnTo>
                              <a:lnTo>
                                <a:pt x="677" y="133"/>
                              </a:lnTo>
                              <a:lnTo>
                                <a:pt x="674" y="116"/>
                              </a:lnTo>
                              <a:lnTo>
                                <a:pt x="684" y="106"/>
                              </a:lnTo>
                              <a:lnTo>
                                <a:pt x="700" y="116"/>
                              </a:lnTo>
                              <a:lnTo>
                                <a:pt x="739" y="154"/>
                              </a:lnTo>
                              <a:lnTo>
                                <a:pt x="762" y="159"/>
                              </a:lnTo>
                              <a:lnTo>
                                <a:pt x="769" y="149"/>
                              </a:lnTo>
                              <a:lnTo>
                                <a:pt x="764" y="129"/>
                              </a:lnTo>
                              <a:lnTo>
                                <a:pt x="777" y="132"/>
                              </a:lnTo>
                              <a:lnTo>
                                <a:pt x="801" y="155"/>
                              </a:lnTo>
                              <a:lnTo>
                                <a:pt x="805" y="168"/>
                              </a:lnTo>
                              <a:lnTo>
                                <a:pt x="818" y="177"/>
                              </a:lnTo>
                              <a:lnTo>
                                <a:pt x="846" y="187"/>
                              </a:lnTo>
                              <a:lnTo>
                                <a:pt x="860" y="206"/>
                              </a:lnTo>
                              <a:lnTo>
                                <a:pt x="880" y="219"/>
                              </a:lnTo>
                              <a:lnTo>
                                <a:pt x="891" y="223"/>
                              </a:lnTo>
                              <a:lnTo>
                                <a:pt x="892" y="235"/>
                              </a:lnTo>
                              <a:lnTo>
                                <a:pt x="876" y="242"/>
                              </a:lnTo>
                              <a:lnTo>
                                <a:pt x="866" y="234"/>
                              </a:lnTo>
                              <a:lnTo>
                                <a:pt x="858" y="235"/>
                              </a:lnTo>
                              <a:lnTo>
                                <a:pt x="855" y="254"/>
                              </a:lnTo>
                              <a:lnTo>
                                <a:pt x="842" y="258"/>
                              </a:lnTo>
                              <a:lnTo>
                                <a:pt x="827" y="248"/>
                              </a:lnTo>
                              <a:lnTo>
                                <a:pt x="795" y="248"/>
                              </a:lnTo>
                              <a:lnTo>
                                <a:pt x="791" y="270"/>
                              </a:lnTo>
                              <a:lnTo>
                                <a:pt x="799" y="283"/>
                              </a:lnTo>
                              <a:lnTo>
                                <a:pt x="812" y="276"/>
                              </a:lnTo>
                              <a:lnTo>
                                <a:pt x="824" y="273"/>
                              </a:lnTo>
                              <a:lnTo>
                                <a:pt x="836" y="280"/>
                              </a:lnTo>
                              <a:lnTo>
                                <a:pt x="820" y="296"/>
                              </a:lnTo>
                              <a:lnTo>
                                <a:pt x="836" y="310"/>
                              </a:lnTo>
                              <a:lnTo>
                                <a:pt x="858" y="315"/>
                              </a:lnTo>
                              <a:lnTo>
                                <a:pt x="855" y="324"/>
                              </a:lnTo>
                              <a:lnTo>
                                <a:pt x="847" y="325"/>
                              </a:lnTo>
                              <a:lnTo>
                                <a:pt x="827" y="374"/>
                              </a:lnTo>
                              <a:lnTo>
                                <a:pt x="828" y="342"/>
                              </a:lnTo>
                              <a:lnTo>
                                <a:pt x="838" y="326"/>
                              </a:lnTo>
                              <a:lnTo>
                                <a:pt x="827" y="319"/>
                              </a:lnTo>
                              <a:lnTo>
                                <a:pt x="814" y="329"/>
                              </a:lnTo>
                              <a:lnTo>
                                <a:pt x="821" y="338"/>
                              </a:lnTo>
                              <a:lnTo>
                                <a:pt x="812" y="344"/>
                              </a:lnTo>
                              <a:lnTo>
                                <a:pt x="802" y="351"/>
                              </a:lnTo>
                              <a:lnTo>
                                <a:pt x="803" y="373"/>
                              </a:lnTo>
                              <a:lnTo>
                                <a:pt x="790" y="382"/>
                              </a:lnTo>
                              <a:lnTo>
                                <a:pt x="770" y="385"/>
                              </a:lnTo>
                              <a:lnTo>
                                <a:pt x="777" y="396"/>
                              </a:lnTo>
                              <a:lnTo>
                                <a:pt x="770" y="409"/>
                              </a:lnTo>
                              <a:lnTo>
                                <a:pt x="777" y="419"/>
                              </a:lnTo>
                              <a:lnTo>
                                <a:pt x="766" y="441"/>
                              </a:lnTo>
                              <a:lnTo>
                                <a:pt x="762" y="462"/>
                              </a:lnTo>
                              <a:lnTo>
                                <a:pt x="746" y="473"/>
                              </a:lnTo>
                              <a:lnTo>
                                <a:pt x="725" y="505"/>
                              </a:lnTo>
                              <a:lnTo>
                                <a:pt x="722" y="527"/>
                              </a:lnTo>
                              <a:lnTo>
                                <a:pt x="729" y="544"/>
                              </a:lnTo>
                              <a:lnTo>
                                <a:pt x="739" y="566"/>
                              </a:lnTo>
                              <a:lnTo>
                                <a:pt x="744" y="589"/>
                              </a:lnTo>
                              <a:lnTo>
                                <a:pt x="735" y="599"/>
                              </a:lnTo>
                              <a:lnTo>
                                <a:pt x="722" y="592"/>
                              </a:lnTo>
                              <a:lnTo>
                                <a:pt x="725" y="581"/>
                              </a:lnTo>
                              <a:lnTo>
                                <a:pt x="718" y="554"/>
                              </a:lnTo>
                              <a:lnTo>
                                <a:pt x="710" y="550"/>
                              </a:lnTo>
                              <a:lnTo>
                                <a:pt x="705" y="534"/>
                              </a:lnTo>
                              <a:lnTo>
                                <a:pt x="694" y="534"/>
                              </a:lnTo>
                              <a:lnTo>
                                <a:pt x="681" y="525"/>
                              </a:lnTo>
                              <a:lnTo>
                                <a:pt x="668" y="528"/>
                              </a:lnTo>
                              <a:lnTo>
                                <a:pt x="655" y="522"/>
                              </a:lnTo>
                              <a:lnTo>
                                <a:pt x="640" y="530"/>
                              </a:lnTo>
                              <a:lnTo>
                                <a:pt x="613" y="524"/>
                              </a:lnTo>
                              <a:lnTo>
                                <a:pt x="631" y="543"/>
                              </a:lnTo>
                              <a:lnTo>
                                <a:pt x="607" y="541"/>
                              </a:lnTo>
                              <a:lnTo>
                                <a:pt x="591" y="527"/>
                              </a:lnTo>
                              <a:lnTo>
                                <a:pt x="563" y="527"/>
                              </a:lnTo>
                              <a:lnTo>
                                <a:pt x="567" y="550"/>
                              </a:lnTo>
                              <a:lnTo>
                                <a:pt x="547" y="543"/>
                              </a:lnTo>
                              <a:lnTo>
                                <a:pt x="536" y="566"/>
                              </a:lnTo>
                              <a:lnTo>
                                <a:pt x="544" y="576"/>
                              </a:lnTo>
                              <a:lnTo>
                                <a:pt x="536" y="604"/>
                              </a:lnTo>
                              <a:lnTo>
                                <a:pt x="546" y="636"/>
                              </a:lnTo>
                              <a:lnTo>
                                <a:pt x="557" y="658"/>
                              </a:lnTo>
                              <a:lnTo>
                                <a:pt x="569" y="678"/>
                              </a:lnTo>
                              <a:lnTo>
                                <a:pt x="607" y="676"/>
                              </a:lnTo>
                              <a:lnTo>
                                <a:pt x="624" y="672"/>
                              </a:lnTo>
                              <a:lnTo>
                                <a:pt x="626" y="658"/>
                              </a:lnTo>
                              <a:lnTo>
                                <a:pt x="618" y="646"/>
                              </a:lnTo>
                              <a:lnTo>
                                <a:pt x="620" y="636"/>
                              </a:lnTo>
                              <a:lnTo>
                                <a:pt x="643" y="639"/>
                              </a:lnTo>
                              <a:lnTo>
                                <a:pt x="666" y="633"/>
                              </a:lnTo>
                              <a:lnTo>
                                <a:pt x="666" y="646"/>
                              </a:lnTo>
                              <a:lnTo>
                                <a:pt x="659" y="665"/>
                              </a:lnTo>
                              <a:lnTo>
                                <a:pt x="648" y="679"/>
                              </a:lnTo>
                              <a:lnTo>
                                <a:pt x="646" y="700"/>
                              </a:lnTo>
                              <a:lnTo>
                                <a:pt x="661" y="708"/>
                              </a:lnTo>
                              <a:lnTo>
                                <a:pt x="681" y="705"/>
                              </a:lnTo>
                              <a:lnTo>
                                <a:pt x="694" y="713"/>
                              </a:lnTo>
                              <a:lnTo>
                                <a:pt x="705" y="710"/>
                              </a:lnTo>
                              <a:lnTo>
                                <a:pt x="709" y="723"/>
                              </a:lnTo>
                              <a:lnTo>
                                <a:pt x="699" y="743"/>
                              </a:lnTo>
                              <a:lnTo>
                                <a:pt x="707" y="755"/>
                              </a:lnTo>
                              <a:lnTo>
                                <a:pt x="709" y="778"/>
                              </a:lnTo>
                              <a:lnTo>
                                <a:pt x="722" y="794"/>
                              </a:lnTo>
                              <a:lnTo>
                                <a:pt x="740" y="798"/>
                              </a:lnTo>
                              <a:lnTo>
                                <a:pt x="753" y="794"/>
                              </a:lnTo>
                              <a:lnTo>
                                <a:pt x="758" y="795"/>
                              </a:lnTo>
                              <a:lnTo>
                                <a:pt x="781" y="795"/>
                              </a:lnTo>
                              <a:lnTo>
                                <a:pt x="802" y="797"/>
                              </a:lnTo>
                              <a:lnTo>
                                <a:pt x="807" y="787"/>
                              </a:lnTo>
                              <a:lnTo>
                                <a:pt x="790" y="804"/>
                              </a:lnTo>
                              <a:lnTo>
                                <a:pt x="777" y="803"/>
                              </a:lnTo>
                              <a:lnTo>
                                <a:pt x="765" y="804"/>
                              </a:lnTo>
                              <a:lnTo>
                                <a:pt x="740" y="813"/>
                              </a:lnTo>
                              <a:lnTo>
                                <a:pt x="720" y="801"/>
                              </a:lnTo>
                              <a:lnTo>
                                <a:pt x="700" y="794"/>
                              </a:lnTo>
                              <a:lnTo>
                                <a:pt x="692" y="795"/>
                              </a:lnTo>
                              <a:lnTo>
                                <a:pt x="694" y="785"/>
                              </a:lnTo>
                              <a:lnTo>
                                <a:pt x="692" y="769"/>
                              </a:lnTo>
                              <a:lnTo>
                                <a:pt x="676" y="755"/>
                              </a:lnTo>
                              <a:lnTo>
                                <a:pt x="642" y="746"/>
                              </a:lnTo>
                              <a:lnTo>
                                <a:pt x="636" y="739"/>
                              </a:lnTo>
                              <a:lnTo>
                                <a:pt x="626" y="740"/>
                              </a:lnTo>
                              <a:lnTo>
                                <a:pt x="617" y="733"/>
                              </a:lnTo>
                              <a:lnTo>
                                <a:pt x="602" y="726"/>
                              </a:lnTo>
                              <a:lnTo>
                                <a:pt x="585" y="705"/>
                              </a:lnTo>
                              <a:lnTo>
                                <a:pt x="566" y="700"/>
                              </a:lnTo>
                              <a:lnTo>
                                <a:pt x="555" y="713"/>
                              </a:lnTo>
                              <a:lnTo>
                                <a:pt x="543" y="703"/>
                              </a:lnTo>
                              <a:lnTo>
                                <a:pt x="528" y="703"/>
                              </a:lnTo>
                              <a:lnTo>
                                <a:pt x="498" y="695"/>
                              </a:lnTo>
                              <a:lnTo>
                                <a:pt x="443" y="660"/>
                              </a:lnTo>
                              <a:lnTo>
                                <a:pt x="439" y="624"/>
                              </a:lnTo>
                              <a:lnTo>
                                <a:pt x="433" y="610"/>
                              </a:lnTo>
                              <a:lnTo>
                                <a:pt x="423" y="599"/>
                              </a:lnTo>
                              <a:lnTo>
                                <a:pt x="411" y="579"/>
                              </a:lnTo>
                              <a:lnTo>
                                <a:pt x="354" y="509"/>
                              </a:lnTo>
                              <a:lnTo>
                                <a:pt x="354" y="536"/>
                              </a:lnTo>
                              <a:lnTo>
                                <a:pt x="389" y="582"/>
                              </a:lnTo>
                              <a:lnTo>
                                <a:pt x="404" y="621"/>
                              </a:lnTo>
                              <a:lnTo>
                                <a:pt x="382" y="613"/>
                              </a:lnTo>
                              <a:lnTo>
                                <a:pt x="378" y="589"/>
                              </a:lnTo>
                              <a:lnTo>
                                <a:pt x="349" y="575"/>
                              </a:lnTo>
                              <a:lnTo>
                                <a:pt x="366" y="566"/>
                              </a:lnTo>
                              <a:lnTo>
                                <a:pt x="327" y="541"/>
                              </a:lnTo>
                              <a:lnTo>
                                <a:pt x="343" y="527"/>
                              </a:lnTo>
                              <a:lnTo>
                                <a:pt x="329" y="498"/>
                              </a:lnTo>
                              <a:lnTo>
                                <a:pt x="282" y="437"/>
                              </a:lnTo>
                              <a:lnTo>
                                <a:pt x="277" y="402"/>
                              </a:lnTo>
                              <a:lnTo>
                                <a:pt x="279" y="373"/>
                              </a:lnTo>
                              <a:lnTo>
                                <a:pt x="292" y="344"/>
                              </a:lnTo>
                              <a:lnTo>
                                <a:pt x="292" y="315"/>
                              </a:lnTo>
                              <a:lnTo>
                                <a:pt x="282" y="297"/>
                              </a:lnTo>
                              <a:lnTo>
                                <a:pt x="308" y="292"/>
                              </a:lnTo>
                              <a:lnTo>
                                <a:pt x="277" y="257"/>
                              </a:lnTo>
                              <a:lnTo>
                                <a:pt x="278" y="241"/>
                              </a:lnTo>
                              <a:lnTo>
                                <a:pt x="264" y="219"/>
                              </a:lnTo>
                              <a:lnTo>
                                <a:pt x="270" y="206"/>
                              </a:lnTo>
                              <a:lnTo>
                                <a:pt x="260" y="199"/>
                              </a:lnTo>
                              <a:lnTo>
                                <a:pt x="259" y="184"/>
                              </a:lnTo>
                              <a:lnTo>
                                <a:pt x="249" y="173"/>
                              </a:lnTo>
                              <a:lnTo>
                                <a:pt x="260" y="162"/>
                              </a:lnTo>
                              <a:lnTo>
                                <a:pt x="245" y="155"/>
                              </a:lnTo>
                              <a:lnTo>
                                <a:pt x="233" y="165"/>
                              </a:lnTo>
                              <a:lnTo>
                                <a:pt x="215" y="145"/>
                              </a:lnTo>
                              <a:lnTo>
                                <a:pt x="196" y="139"/>
                              </a:lnTo>
                              <a:lnTo>
                                <a:pt x="168" y="139"/>
                              </a:lnTo>
                              <a:lnTo>
                                <a:pt x="151" y="158"/>
                              </a:lnTo>
                              <a:lnTo>
                                <a:pt x="142" y="152"/>
                              </a:lnTo>
                              <a:lnTo>
                                <a:pt x="157" y="128"/>
                              </a:lnTo>
                              <a:lnTo>
                                <a:pt x="144" y="132"/>
                              </a:lnTo>
                              <a:lnTo>
                                <a:pt x="116" y="158"/>
                              </a:lnTo>
                              <a:lnTo>
                                <a:pt x="88" y="181"/>
                              </a:lnTo>
                              <a:lnTo>
                                <a:pt x="61" y="187"/>
                              </a:lnTo>
                              <a:lnTo>
                                <a:pt x="18" y="210"/>
                              </a:lnTo>
                              <a:lnTo>
                                <a:pt x="0" y="20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3" name=""/>
                        <p:cNvSpPr/>
                        <p:nvPr/>
                      </p:nvSpPr>
                      <p:spPr>
                        <a:xfrm>
                          <a:off x="7429320" y="3201120"/>
                          <a:ext cx="137520" cy="118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3" h="213">
                              <a:moveTo>
                                <a:pt x="0" y="43"/>
                              </a:moveTo>
                              <a:lnTo>
                                <a:pt x="7" y="27"/>
                              </a:lnTo>
                              <a:lnTo>
                                <a:pt x="7" y="16"/>
                              </a:lnTo>
                              <a:lnTo>
                                <a:pt x="18" y="0"/>
                              </a:lnTo>
                              <a:lnTo>
                                <a:pt x="72" y="10"/>
                              </a:lnTo>
                              <a:lnTo>
                                <a:pt x="167" y="29"/>
                              </a:lnTo>
                              <a:lnTo>
                                <a:pt x="204" y="45"/>
                              </a:lnTo>
                              <a:lnTo>
                                <a:pt x="253" y="59"/>
                              </a:lnTo>
                              <a:lnTo>
                                <a:pt x="278" y="87"/>
                              </a:lnTo>
                              <a:lnTo>
                                <a:pt x="303" y="101"/>
                              </a:lnTo>
                              <a:lnTo>
                                <a:pt x="293" y="112"/>
                              </a:lnTo>
                              <a:lnTo>
                                <a:pt x="293" y="125"/>
                              </a:lnTo>
                              <a:lnTo>
                                <a:pt x="284" y="128"/>
                              </a:lnTo>
                              <a:lnTo>
                                <a:pt x="275" y="139"/>
                              </a:lnTo>
                              <a:lnTo>
                                <a:pt x="284" y="151"/>
                              </a:lnTo>
                              <a:lnTo>
                                <a:pt x="282" y="160"/>
                              </a:lnTo>
                              <a:lnTo>
                                <a:pt x="273" y="171"/>
                              </a:lnTo>
                              <a:lnTo>
                                <a:pt x="274" y="183"/>
                              </a:lnTo>
                              <a:lnTo>
                                <a:pt x="291" y="194"/>
                              </a:lnTo>
                              <a:lnTo>
                                <a:pt x="292" y="206"/>
                              </a:lnTo>
                              <a:lnTo>
                                <a:pt x="288" y="212"/>
                              </a:lnTo>
                              <a:lnTo>
                                <a:pt x="271" y="213"/>
                              </a:lnTo>
                              <a:lnTo>
                                <a:pt x="259" y="207"/>
                              </a:lnTo>
                              <a:lnTo>
                                <a:pt x="245" y="193"/>
                              </a:lnTo>
                              <a:lnTo>
                                <a:pt x="240" y="193"/>
                              </a:lnTo>
                              <a:lnTo>
                                <a:pt x="233" y="187"/>
                              </a:lnTo>
                              <a:lnTo>
                                <a:pt x="226" y="170"/>
                              </a:lnTo>
                              <a:lnTo>
                                <a:pt x="218" y="164"/>
                              </a:lnTo>
                              <a:lnTo>
                                <a:pt x="200" y="155"/>
                              </a:lnTo>
                              <a:lnTo>
                                <a:pt x="185" y="149"/>
                              </a:lnTo>
                              <a:lnTo>
                                <a:pt x="163" y="133"/>
                              </a:lnTo>
                              <a:lnTo>
                                <a:pt x="153" y="122"/>
                              </a:lnTo>
                              <a:lnTo>
                                <a:pt x="155" y="113"/>
                              </a:lnTo>
                              <a:lnTo>
                                <a:pt x="164" y="106"/>
                              </a:lnTo>
                              <a:lnTo>
                                <a:pt x="156" y="96"/>
                              </a:lnTo>
                              <a:lnTo>
                                <a:pt x="148" y="101"/>
                              </a:lnTo>
                              <a:lnTo>
                                <a:pt x="134" y="87"/>
                              </a:lnTo>
                              <a:lnTo>
                                <a:pt x="131" y="94"/>
                              </a:lnTo>
                              <a:lnTo>
                                <a:pt x="119" y="94"/>
                              </a:lnTo>
                              <a:lnTo>
                                <a:pt x="116" y="88"/>
                              </a:lnTo>
                              <a:lnTo>
                                <a:pt x="116" y="78"/>
                              </a:lnTo>
                              <a:lnTo>
                                <a:pt x="111" y="72"/>
                              </a:lnTo>
                              <a:lnTo>
                                <a:pt x="103" y="74"/>
                              </a:lnTo>
                              <a:lnTo>
                                <a:pt x="92" y="58"/>
                              </a:lnTo>
                              <a:lnTo>
                                <a:pt x="83" y="56"/>
                              </a:lnTo>
                              <a:lnTo>
                                <a:pt x="71" y="49"/>
                              </a:lnTo>
                              <a:lnTo>
                                <a:pt x="45" y="51"/>
                              </a:lnTo>
                              <a:lnTo>
                                <a:pt x="19" y="49"/>
                              </a:lnTo>
                              <a:lnTo>
                                <a:pt x="0" y="4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4" name=""/>
                        <p:cNvSpPr/>
                        <p:nvPr/>
                      </p:nvSpPr>
                      <p:spPr>
                        <a:xfrm>
                          <a:off x="7399800" y="3242880"/>
                          <a:ext cx="89640" cy="60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8" h="111">
                              <a:moveTo>
                                <a:pt x="7" y="0"/>
                              </a:moveTo>
                              <a:lnTo>
                                <a:pt x="0" y="9"/>
                              </a:lnTo>
                              <a:lnTo>
                                <a:pt x="0" y="19"/>
                              </a:lnTo>
                              <a:lnTo>
                                <a:pt x="14" y="31"/>
                              </a:lnTo>
                              <a:lnTo>
                                <a:pt x="22" y="28"/>
                              </a:lnTo>
                              <a:lnTo>
                                <a:pt x="25" y="32"/>
                              </a:lnTo>
                              <a:lnTo>
                                <a:pt x="36" y="34"/>
                              </a:lnTo>
                              <a:lnTo>
                                <a:pt x="41" y="26"/>
                              </a:lnTo>
                              <a:lnTo>
                                <a:pt x="61" y="28"/>
                              </a:lnTo>
                              <a:lnTo>
                                <a:pt x="63" y="35"/>
                              </a:lnTo>
                              <a:lnTo>
                                <a:pt x="70" y="38"/>
                              </a:lnTo>
                              <a:lnTo>
                                <a:pt x="87" y="37"/>
                              </a:lnTo>
                              <a:lnTo>
                                <a:pt x="92" y="41"/>
                              </a:lnTo>
                              <a:lnTo>
                                <a:pt x="100" y="45"/>
                              </a:lnTo>
                              <a:lnTo>
                                <a:pt x="107" y="54"/>
                              </a:lnTo>
                              <a:lnTo>
                                <a:pt x="107" y="66"/>
                              </a:lnTo>
                              <a:lnTo>
                                <a:pt x="102" y="69"/>
                              </a:lnTo>
                              <a:lnTo>
                                <a:pt x="105" y="73"/>
                              </a:lnTo>
                              <a:lnTo>
                                <a:pt x="96" y="80"/>
                              </a:lnTo>
                              <a:lnTo>
                                <a:pt x="96" y="90"/>
                              </a:lnTo>
                              <a:lnTo>
                                <a:pt x="109" y="92"/>
                              </a:lnTo>
                              <a:lnTo>
                                <a:pt x="116" y="89"/>
                              </a:lnTo>
                              <a:lnTo>
                                <a:pt x="118" y="85"/>
                              </a:lnTo>
                              <a:lnTo>
                                <a:pt x="122" y="89"/>
                              </a:lnTo>
                              <a:lnTo>
                                <a:pt x="129" y="86"/>
                              </a:lnTo>
                              <a:lnTo>
                                <a:pt x="144" y="92"/>
                              </a:lnTo>
                              <a:lnTo>
                                <a:pt x="154" y="102"/>
                              </a:lnTo>
                              <a:lnTo>
                                <a:pt x="157" y="102"/>
                              </a:lnTo>
                              <a:lnTo>
                                <a:pt x="158" y="108"/>
                              </a:lnTo>
                              <a:lnTo>
                                <a:pt x="168" y="111"/>
                              </a:lnTo>
                              <a:lnTo>
                                <a:pt x="179" y="111"/>
                              </a:lnTo>
                              <a:lnTo>
                                <a:pt x="172" y="105"/>
                              </a:lnTo>
                              <a:lnTo>
                                <a:pt x="174" y="99"/>
                              </a:lnTo>
                              <a:lnTo>
                                <a:pt x="183" y="105"/>
                              </a:lnTo>
                              <a:lnTo>
                                <a:pt x="192" y="106"/>
                              </a:lnTo>
                              <a:lnTo>
                                <a:pt x="194" y="98"/>
                              </a:lnTo>
                              <a:lnTo>
                                <a:pt x="184" y="90"/>
                              </a:lnTo>
                              <a:lnTo>
                                <a:pt x="177" y="90"/>
                              </a:lnTo>
                              <a:lnTo>
                                <a:pt x="168" y="83"/>
                              </a:lnTo>
                              <a:lnTo>
                                <a:pt x="177" y="83"/>
                              </a:lnTo>
                              <a:lnTo>
                                <a:pt x="184" y="87"/>
                              </a:lnTo>
                              <a:lnTo>
                                <a:pt x="198" y="87"/>
                              </a:lnTo>
                              <a:lnTo>
                                <a:pt x="195" y="79"/>
                              </a:lnTo>
                              <a:lnTo>
                                <a:pt x="183" y="70"/>
                              </a:lnTo>
                              <a:lnTo>
                                <a:pt x="174" y="69"/>
                              </a:lnTo>
                              <a:lnTo>
                                <a:pt x="162" y="58"/>
                              </a:lnTo>
                              <a:lnTo>
                                <a:pt x="147" y="55"/>
                              </a:lnTo>
                              <a:lnTo>
                                <a:pt x="135" y="51"/>
                              </a:lnTo>
                              <a:lnTo>
                                <a:pt x="125" y="38"/>
                              </a:lnTo>
                              <a:lnTo>
                                <a:pt x="118" y="21"/>
                              </a:lnTo>
                              <a:lnTo>
                                <a:pt x="109" y="21"/>
                              </a:lnTo>
                              <a:lnTo>
                                <a:pt x="106" y="16"/>
                              </a:lnTo>
                              <a:lnTo>
                                <a:pt x="100" y="18"/>
                              </a:lnTo>
                              <a:lnTo>
                                <a:pt x="91" y="10"/>
                              </a:lnTo>
                              <a:lnTo>
                                <a:pt x="74" y="8"/>
                              </a:lnTo>
                              <a:lnTo>
                                <a:pt x="68" y="12"/>
                              </a:lnTo>
                              <a:lnTo>
                                <a:pt x="52" y="8"/>
                              </a:lnTo>
                              <a:lnTo>
                                <a:pt x="43" y="8"/>
                              </a:lnTo>
                              <a:lnTo>
                                <a:pt x="39" y="2"/>
                              </a:lnTo>
                              <a:lnTo>
                                <a:pt x="33" y="0"/>
                              </a:lnTo>
                              <a:lnTo>
                                <a:pt x="25" y="2"/>
                              </a:lnTo>
                              <a:lnTo>
                                <a:pt x="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5" name=""/>
                        <p:cNvSpPr/>
                        <p:nvPr/>
                      </p:nvSpPr>
                      <p:spPr>
                        <a:xfrm>
                          <a:off x="7450920" y="3582000"/>
                          <a:ext cx="63000" cy="26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8" h="49">
                              <a:moveTo>
                                <a:pt x="0" y="25"/>
                              </a:moveTo>
                              <a:lnTo>
                                <a:pt x="12" y="10"/>
                              </a:lnTo>
                              <a:lnTo>
                                <a:pt x="18" y="10"/>
                              </a:lnTo>
                              <a:lnTo>
                                <a:pt x="27" y="3"/>
                              </a:lnTo>
                              <a:lnTo>
                                <a:pt x="38" y="3"/>
                              </a:lnTo>
                              <a:lnTo>
                                <a:pt x="41" y="2"/>
                              </a:lnTo>
                              <a:lnTo>
                                <a:pt x="45" y="0"/>
                              </a:lnTo>
                              <a:lnTo>
                                <a:pt x="59" y="9"/>
                              </a:lnTo>
                              <a:lnTo>
                                <a:pt x="63" y="15"/>
                              </a:lnTo>
                              <a:lnTo>
                                <a:pt x="66" y="12"/>
                              </a:lnTo>
                              <a:lnTo>
                                <a:pt x="77" y="17"/>
                              </a:lnTo>
                              <a:lnTo>
                                <a:pt x="83" y="17"/>
                              </a:lnTo>
                              <a:lnTo>
                                <a:pt x="89" y="22"/>
                              </a:lnTo>
                              <a:lnTo>
                                <a:pt x="99" y="25"/>
                              </a:lnTo>
                              <a:lnTo>
                                <a:pt x="99" y="32"/>
                              </a:lnTo>
                              <a:lnTo>
                                <a:pt x="116" y="32"/>
                              </a:lnTo>
                              <a:lnTo>
                                <a:pt x="120" y="39"/>
                              </a:lnTo>
                              <a:lnTo>
                                <a:pt x="131" y="39"/>
                              </a:lnTo>
                              <a:lnTo>
                                <a:pt x="138" y="48"/>
                              </a:lnTo>
                              <a:lnTo>
                                <a:pt x="134" y="49"/>
                              </a:lnTo>
                              <a:lnTo>
                                <a:pt x="131" y="47"/>
                              </a:lnTo>
                              <a:lnTo>
                                <a:pt x="130" y="45"/>
                              </a:lnTo>
                              <a:lnTo>
                                <a:pt x="120" y="47"/>
                              </a:lnTo>
                              <a:lnTo>
                                <a:pt x="118" y="48"/>
                              </a:lnTo>
                              <a:lnTo>
                                <a:pt x="109" y="49"/>
                              </a:lnTo>
                              <a:lnTo>
                                <a:pt x="97" y="49"/>
                              </a:lnTo>
                              <a:lnTo>
                                <a:pt x="89" y="49"/>
                              </a:lnTo>
                              <a:lnTo>
                                <a:pt x="89" y="45"/>
                              </a:lnTo>
                              <a:lnTo>
                                <a:pt x="77" y="33"/>
                              </a:lnTo>
                              <a:lnTo>
                                <a:pt x="77" y="26"/>
                              </a:lnTo>
                              <a:lnTo>
                                <a:pt x="63" y="26"/>
                              </a:lnTo>
                              <a:lnTo>
                                <a:pt x="57" y="22"/>
                              </a:lnTo>
                              <a:lnTo>
                                <a:pt x="53" y="26"/>
                              </a:lnTo>
                              <a:lnTo>
                                <a:pt x="49" y="20"/>
                              </a:lnTo>
                              <a:lnTo>
                                <a:pt x="45" y="20"/>
                              </a:lnTo>
                              <a:lnTo>
                                <a:pt x="45" y="13"/>
                              </a:lnTo>
                              <a:lnTo>
                                <a:pt x="41" y="10"/>
                              </a:lnTo>
                              <a:lnTo>
                                <a:pt x="29" y="12"/>
                              </a:lnTo>
                              <a:lnTo>
                                <a:pt x="20" y="20"/>
                              </a:lnTo>
                              <a:lnTo>
                                <a:pt x="11" y="22"/>
                              </a:lnTo>
                              <a:lnTo>
                                <a:pt x="0" y="2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520" bIns="-20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6" name=""/>
                        <p:cNvSpPr/>
                        <p:nvPr/>
                      </p:nvSpPr>
                      <p:spPr>
                        <a:xfrm>
                          <a:off x="7506720" y="3601800"/>
                          <a:ext cx="39960" cy="2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42">
                              <a:moveTo>
                                <a:pt x="0" y="32"/>
                              </a:moveTo>
                              <a:lnTo>
                                <a:pt x="8" y="34"/>
                              </a:lnTo>
                              <a:lnTo>
                                <a:pt x="27" y="32"/>
                              </a:lnTo>
                              <a:lnTo>
                                <a:pt x="35" y="41"/>
                              </a:lnTo>
                              <a:lnTo>
                                <a:pt x="46" y="42"/>
                              </a:lnTo>
                              <a:lnTo>
                                <a:pt x="52" y="32"/>
                              </a:lnTo>
                              <a:lnTo>
                                <a:pt x="49" y="29"/>
                              </a:lnTo>
                              <a:lnTo>
                                <a:pt x="55" y="25"/>
                              </a:lnTo>
                              <a:lnTo>
                                <a:pt x="66" y="32"/>
                              </a:lnTo>
                              <a:lnTo>
                                <a:pt x="74" y="32"/>
                              </a:lnTo>
                              <a:lnTo>
                                <a:pt x="74" y="28"/>
                              </a:lnTo>
                              <a:lnTo>
                                <a:pt x="79" y="28"/>
                              </a:lnTo>
                              <a:lnTo>
                                <a:pt x="88" y="21"/>
                              </a:lnTo>
                              <a:lnTo>
                                <a:pt x="82" y="19"/>
                              </a:lnTo>
                              <a:lnTo>
                                <a:pt x="82" y="12"/>
                              </a:lnTo>
                              <a:lnTo>
                                <a:pt x="82" y="6"/>
                              </a:lnTo>
                              <a:lnTo>
                                <a:pt x="70" y="5"/>
                              </a:lnTo>
                              <a:lnTo>
                                <a:pt x="60" y="6"/>
                              </a:lnTo>
                              <a:lnTo>
                                <a:pt x="52" y="6"/>
                              </a:lnTo>
                              <a:lnTo>
                                <a:pt x="40" y="5"/>
                              </a:lnTo>
                              <a:lnTo>
                                <a:pt x="30" y="0"/>
                              </a:lnTo>
                              <a:lnTo>
                                <a:pt x="27" y="5"/>
                              </a:lnTo>
                              <a:lnTo>
                                <a:pt x="26" y="13"/>
                              </a:lnTo>
                              <a:lnTo>
                                <a:pt x="16" y="13"/>
                              </a:lnTo>
                              <a:lnTo>
                                <a:pt x="14" y="21"/>
                              </a:lnTo>
                              <a:lnTo>
                                <a:pt x="8" y="24"/>
                              </a:lnTo>
                              <a:lnTo>
                                <a:pt x="0" y="3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760" bIns="-23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7" name=""/>
                        <p:cNvSpPr/>
                        <p:nvPr/>
                      </p:nvSpPr>
                      <p:spPr>
                        <a:xfrm>
                          <a:off x="7481160" y="3669120"/>
                          <a:ext cx="257400" cy="489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3" h="887">
                              <a:moveTo>
                                <a:pt x="43" y="39"/>
                              </a:moveTo>
                              <a:lnTo>
                                <a:pt x="50" y="29"/>
                              </a:lnTo>
                              <a:lnTo>
                                <a:pt x="64" y="14"/>
                              </a:lnTo>
                              <a:lnTo>
                                <a:pt x="85" y="6"/>
                              </a:lnTo>
                              <a:lnTo>
                                <a:pt x="96" y="0"/>
                              </a:lnTo>
                              <a:lnTo>
                                <a:pt x="107" y="1"/>
                              </a:lnTo>
                              <a:lnTo>
                                <a:pt x="104" y="9"/>
                              </a:lnTo>
                              <a:lnTo>
                                <a:pt x="91" y="16"/>
                              </a:lnTo>
                              <a:lnTo>
                                <a:pt x="89" y="30"/>
                              </a:lnTo>
                              <a:lnTo>
                                <a:pt x="91" y="42"/>
                              </a:lnTo>
                              <a:lnTo>
                                <a:pt x="102" y="42"/>
                              </a:lnTo>
                              <a:lnTo>
                                <a:pt x="107" y="29"/>
                              </a:lnTo>
                              <a:lnTo>
                                <a:pt x="109" y="16"/>
                              </a:lnTo>
                              <a:lnTo>
                                <a:pt x="116" y="20"/>
                              </a:lnTo>
                              <a:lnTo>
                                <a:pt x="124" y="27"/>
                              </a:lnTo>
                              <a:lnTo>
                                <a:pt x="138" y="24"/>
                              </a:lnTo>
                              <a:lnTo>
                                <a:pt x="146" y="30"/>
                              </a:lnTo>
                              <a:lnTo>
                                <a:pt x="149" y="38"/>
                              </a:lnTo>
                              <a:lnTo>
                                <a:pt x="170" y="35"/>
                              </a:lnTo>
                              <a:lnTo>
                                <a:pt x="211" y="30"/>
                              </a:lnTo>
                              <a:lnTo>
                                <a:pt x="226" y="54"/>
                              </a:lnTo>
                              <a:lnTo>
                                <a:pt x="252" y="65"/>
                              </a:lnTo>
                              <a:lnTo>
                                <a:pt x="251" y="75"/>
                              </a:lnTo>
                              <a:lnTo>
                                <a:pt x="262" y="70"/>
                              </a:lnTo>
                              <a:lnTo>
                                <a:pt x="274" y="70"/>
                              </a:lnTo>
                              <a:lnTo>
                                <a:pt x="289" y="80"/>
                              </a:lnTo>
                              <a:lnTo>
                                <a:pt x="307" y="78"/>
                              </a:lnTo>
                              <a:lnTo>
                                <a:pt x="322" y="80"/>
                              </a:lnTo>
                              <a:lnTo>
                                <a:pt x="347" y="99"/>
                              </a:lnTo>
                              <a:lnTo>
                                <a:pt x="373" y="122"/>
                              </a:lnTo>
                              <a:lnTo>
                                <a:pt x="384" y="148"/>
                              </a:lnTo>
                              <a:lnTo>
                                <a:pt x="377" y="168"/>
                              </a:lnTo>
                              <a:lnTo>
                                <a:pt x="408" y="176"/>
                              </a:lnTo>
                              <a:lnTo>
                                <a:pt x="460" y="186"/>
                              </a:lnTo>
                              <a:lnTo>
                                <a:pt x="514" y="197"/>
                              </a:lnTo>
                              <a:lnTo>
                                <a:pt x="548" y="221"/>
                              </a:lnTo>
                              <a:lnTo>
                                <a:pt x="563" y="242"/>
                              </a:lnTo>
                              <a:lnTo>
                                <a:pt x="563" y="270"/>
                              </a:lnTo>
                              <a:lnTo>
                                <a:pt x="549" y="295"/>
                              </a:lnTo>
                              <a:lnTo>
                                <a:pt x="534" y="308"/>
                              </a:lnTo>
                              <a:lnTo>
                                <a:pt x="525" y="316"/>
                              </a:lnTo>
                              <a:lnTo>
                                <a:pt x="514" y="335"/>
                              </a:lnTo>
                              <a:lnTo>
                                <a:pt x="512" y="351"/>
                              </a:lnTo>
                              <a:lnTo>
                                <a:pt x="514" y="372"/>
                              </a:lnTo>
                              <a:lnTo>
                                <a:pt x="508" y="392"/>
                              </a:lnTo>
                              <a:lnTo>
                                <a:pt x="500" y="396"/>
                              </a:lnTo>
                              <a:lnTo>
                                <a:pt x="497" y="408"/>
                              </a:lnTo>
                              <a:lnTo>
                                <a:pt x="488" y="417"/>
                              </a:lnTo>
                              <a:lnTo>
                                <a:pt x="486" y="427"/>
                              </a:lnTo>
                              <a:lnTo>
                                <a:pt x="474" y="438"/>
                              </a:lnTo>
                              <a:lnTo>
                                <a:pt x="455" y="459"/>
                              </a:lnTo>
                              <a:lnTo>
                                <a:pt x="438" y="464"/>
                              </a:lnTo>
                              <a:lnTo>
                                <a:pt x="427" y="463"/>
                              </a:lnTo>
                              <a:lnTo>
                                <a:pt x="407" y="473"/>
                              </a:lnTo>
                              <a:lnTo>
                                <a:pt x="386" y="496"/>
                              </a:lnTo>
                              <a:lnTo>
                                <a:pt x="382" y="505"/>
                              </a:lnTo>
                              <a:lnTo>
                                <a:pt x="382" y="517"/>
                              </a:lnTo>
                              <a:lnTo>
                                <a:pt x="386" y="530"/>
                              </a:lnTo>
                              <a:lnTo>
                                <a:pt x="377" y="543"/>
                              </a:lnTo>
                              <a:lnTo>
                                <a:pt x="377" y="553"/>
                              </a:lnTo>
                              <a:lnTo>
                                <a:pt x="360" y="565"/>
                              </a:lnTo>
                              <a:lnTo>
                                <a:pt x="348" y="573"/>
                              </a:lnTo>
                              <a:lnTo>
                                <a:pt x="338" y="586"/>
                              </a:lnTo>
                              <a:lnTo>
                                <a:pt x="334" y="600"/>
                              </a:lnTo>
                              <a:lnTo>
                                <a:pt x="320" y="615"/>
                              </a:lnTo>
                              <a:lnTo>
                                <a:pt x="315" y="613"/>
                              </a:lnTo>
                              <a:lnTo>
                                <a:pt x="304" y="613"/>
                              </a:lnTo>
                              <a:lnTo>
                                <a:pt x="290" y="618"/>
                              </a:lnTo>
                              <a:lnTo>
                                <a:pt x="300" y="626"/>
                              </a:lnTo>
                              <a:lnTo>
                                <a:pt x="300" y="640"/>
                              </a:lnTo>
                              <a:lnTo>
                                <a:pt x="299" y="652"/>
                              </a:lnTo>
                              <a:lnTo>
                                <a:pt x="292" y="661"/>
                              </a:lnTo>
                              <a:lnTo>
                                <a:pt x="274" y="662"/>
                              </a:lnTo>
                              <a:lnTo>
                                <a:pt x="260" y="666"/>
                              </a:lnTo>
                              <a:lnTo>
                                <a:pt x="253" y="675"/>
                              </a:lnTo>
                              <a:lnTo>
                                <a:pt x="253" y="690"/>
                              </a:lnTo>
                              <a:lnTo>
                                <a:pt x="237" y="694"/>
                              </a:lnTo>
                              <a:lnTo>
                                <a:pt x="223" y="690"/>
                              </a:lnTo>
                              <a:lnTo>
                                <a:pt x="219" y="698"/>
                              </a:lnTo>
                              <a:lnTo>
                                <a:pt x="226" y="704"/>
                              </a:lnTo>
                              <a:lnTo>
                                <a:pt x="222" y="726"/>
                              </a:lnTo>
                              <a:lnTo>
                                <a:pt x="216" y="745"/>
                              </a:lnTo>
                              <a:lnTo>
                                <a:pt x="198" y="745"/>
                              </a:lnTo>
                              <a:lnTo>
                                <a:pt x="193" y="752"/>
                              </a:lnTo>
                              <a:lnTo>
                                <a:pt x="194" y="767"/>
                              </a:lnTo>
                              <a:lnTo>
                                <a:pt x="204" y="767"/>
                              </a:lnTo>
                              <a:lnTo>
                                <a:pt x="211" y="775"/>
                              </a:lnTo>
                              <a:lnTo>
                                <a:pt x="207" y="790"/>
                              </a:lnTo>
                              <a:lnTo>
                                <a:pt x="197" y="791"/>
                              </a:lnTo>
                              <a:lnTo>
                                <a:pt x="182" y="797"/>
                              </a:lnTo>
                              <a:lnTo>
                                <a:pt x="178" y="809"/>
                              </a:lnTo>
                              <a:lnTo>
                                <a:pt x="177" y="826"/>
                              </a:lnTo>
                              <a:lnTo>
                                <a:pt x="167" y="835"/>
                              </a:lnTo>
                              <a:lnTo>
                                <a:pt x="201" y="864"/>
                              </a:lnTo>
                              <a:lnTo>
                                <a:pt x="211" y="878"/>
                              </a:lnTo>
                              <a:lnTo>
                                <a:pt x="205" y="887"/>
                              </a:lnTo>
                              <a:lnTo>
                                <a:pt x="190" y="881"/>
                              </a:lnTo>
                              <a:lnTo>
                                <a:pt x="178" y="870"/>
                              </a:lnTo>
                              <a:lnTo>
                                <a:pt x="160" y="861"/>
                              </a:lnTo>
                              <a:lnTo>
                                <a:pt x="144" y="846"/>
                              </a:lnTo>
                              <a:lnTo>
                                <a:pt x="133" y="829"/>
                              </a:lnTo>
                              <a:lnTo>
                                <a:pt x="131" y="814"/>
                              </a:lnTo>
                              <a:lnTo>
                                <a:pt x="134" y="803"/>
                              </a:lnTo>
                              <a:lnTo>
                                <a:pt x="133" y="708"/>
                              </a:lnTo>
                              <a:lnTo>
                                <a:pt x="129" y="690"/>
                              </a:lnTo>
                              <a:lnTo>
                                <a:pt x="116" y="672"/>
                              </a:lnTo>
                              <a:lnTo>
                                <a:pt x="116" y="656"/>
                              </a:lnTo>
                              <a:lnTo>
                                <a:pt x="124" y="637"/>
                              </a:lnTo>
                              <a:lnTo>
                                <a:pt x="131" y="614"/>
                              </a:lnTo>
                              <a:lnTo>
                                <a:pt x="129" y="591"/>
                              </a:lnTo>
                              <a:lnTo>
                                <a:pt x="127" y="581"/>
                              </a:lnTo>
                              <a:lnTo>
                                <a:pt x="126" y="568"/>
                              </a:lnTo>
                              <a:lnTo>
                                <a:pt x="130" y="562"/>
                              </a:lnTo>
                              <a:lnTo>
                                <a:pt x="133" y="536"/>
                              </a:lnTo>
                              <a:lnTo>
                                <a:pt x="130" y="523"/>
                              </a:lnTo>
                              <a:lnTo>
                                <a:pt x="135" y="491"/>
                              </a:lnTo>
                              <a:lnTo>
                                <a:pt x="130" y="463"/>
                              </a:lnTo>
                              <a:lnTo>
                                <a:pt x="134" y="449"/>
                              </a:lnTo>
                              <a:lnTo>
                                <a:pt x="141" y="421"/>
                              </a:lnTo>
                              <a:lnTo>
                                <a:pt x="134" y="403"/>
                              </a:lnTo>
                              <a:lnTo>
                                <a:pt x="120" y="390"/>
                              </a:lnTo>
                              <a:lnTo>
                                <a:pt x="116" y="376"/>
                              </a:lnTo>
                              <a:lnTo>
                                <a:pt x="101" y="363"/>
                              </a:lnTo>
                              <a:lnTo>
                                <a:pt x="85" y="354"/>
                              </a:lnTo>
                              <a:lnTo>
                                <a:pt x="61" y="350"/>
                              </a:lnTo>
                              <a:lnTo>
                                <a:pt x="50" y="329"/>
                              </a:lnTo>
                              <a:lnTo>
                                <a:pt x="35" y="311"/>
                              </a:lnTo>
                              <a:lnTo>
                                <a:pt x="34" y="295"/>
                              </a:lnTo>
                              <a:lnTo>
                                <a:pt x="33" y="280"/>
                              </a:lnTo>
                              <a:lnTo>
                                <a:pt x="28" y="270"/>
                              </a:lnTo>
                              <a:lnTo>
                                <a:pt x="20" y="258"/>
                              </a:lnTo>
                              <a:lnTo>
                                <a:pt x="9" y="252"/>
                              </a:lnTo>
                              <a:lnTo>
                                <a:pt x="1" y="241"/>
                              </a:lnTo>
                              <a:lnTo>
                                <a:pt x="11" y="231"/>
                              </a:lnTo>
                              <a:lnTo>
                                <a:pt x="11" y="206"/>
                              </a:lnTo>
                              <a:lnTo>
                                <a:pt x="5" y="193"/>
                              </a:lnTo>
                              <a:lnTo>
                                <a:pt x="0" y="180"/>
                              </a:lnTo>
                              <a:lnTo>
                                <a:pt x="5" y="161"/>
                              </a:lnTo>
                              <a:lnTo>
                                <a:pt x="27" y="115"/>
                              </a:lnTo>
                              <a:lnTo>
                                <a:pt x="28" y="94"/>
                              </a:lnTo>
                              <a:lnTo>
                                <a:pt x="41" y="72"/>
                              </a:lnTo>
                              <a:lnTo>
                                <a:pt x="41" y="61"/>
                              </a:lnTo>
                              <a:lnTo>
                                <a:pt x="43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818" name=""/>
                  <p:cNvSpPr/>
                  <p:nvPr/>
                </p:nvSpPr>
                <p:spPr>
                  <a:xfrm>
                    <a:off x="7341480" y="3351600"/>
                    <a:ext cx="46800" cy="687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114f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>
                    <a:off x="7397280" y="3373200"/>
                    <a:ext cx="45360" cy="687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0" name=""/>
                  <p:cNvSpPr/>
                  <p:nvPr/>
                </p:nvSpPr>
                <p:spPr>
                  <a:xfrm>
                    <a:off x="8149680" y="3256560"/>
                    <a:ext cx="48600" cy="687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114f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>
                    <a:off x="8149680" y="3396960"/>
                    <a:ext cx="4860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114f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8025840" y="3335400"/>
                    <a:ext cx="45000" cy="669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114f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>
                    <a:off x="7538760" y="3837600"/>
                    <a:ext cx="4680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>
                    <a:off x="7620840" y="3740760"/>
                    <a:ext cx="4500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>
                    <a:off x="8708040" y="3837600"/>
                    <a:ext cx="4680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8529840" y="3481920"/>
                    <a:ext cx="43200" cy="687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8088480" y="3236760"/>
                    <a:ext cx="46800" cy="648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>
                    <a:off x="8088480" y="3343680"/>
                    <a:ext cx="4680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>
                    <a:off x="7332480" y="3492000"/>
                    <a:ext cx="46800" cy="669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>
                    <a:off x="7302960" y="3418920"/>
                    <a:ext cx="48960" cy="666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>
                    <a:off x="7646760" y="3760560"/>
                    <a:ext cx="46800" cy="669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>
                    <a:off x="7566480" y="3867480"/>
                    <a:ext cx="46800" cy="669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>
                    <a:off x="8142480" y="3309840"/>
                    <a:ext cx="48960" cy="687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>
                    <a:off x="8088480" y="3492000"/>
                    <a:ext cx="46800" cy="669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>
                    <a:off x="8508960" y="3426480"/>
                    <a:ext cx="46800" cy="691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6" name=""/>
                  <p:cNvSpPr/>
                  <p:nvPr/>
                </p:nvSpPr>
                <p:spPr>
                  <a:xfrm>
                    <a:off x="8674920" y="3867480"/>
                    <a:ext cx="41760" cy="669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8231400" y="3236760"/>
                    <a:ext cx="46800" cy="648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8" name=""/>
                  <p:cNvSpPr/>
                  <p:nvPr/>
                </p:nvSpPr>
                <p:spPr>
                  <a:xfrm>
                    <a:off x="7447680" y="3361680"/>
                    <a:ext cx="46800" cy="648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>
                    <a:off x="7278480" y="3351600"/>
                    <a:ext cx="47160" cy="687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>
                    <a:off x="7442640" y="3426480"/>
                    <a:ext cx="45360" cy="691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1" name=""/>
                  <p:cNvSpPr/>
                  <p:nvPr/>
                </p:nvSpPr>
                <p:spPr>
                  <a:xfrm>
                    <a:off x="7538760" y="3900960"/>
                    <a:ext cx="46800" cy="648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2" name=""/>
                  <p:cNvSpPr/>
                  <p:nvPr/>
                </p:nvSpPr>
                <p:spPr>
                  <a:xfrm>
                    <a:off x="8025840" y="3236760"/>
                    <a:ext cx="45000" cy="648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3" name=""/>
                  <p:cNvSpPr/>
                  <p:nvPr/>
                </p:nvSpPr>
                <p:spPr>
                  <a:xfrm>
                    <a:off x="7971480" y="3343680"/>
                    <a:ext cx="4680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>
                    <a:off x="8193240" y="3309840"/>
                    <a:ext cx="50400" cy="687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>
                    <a:off x="8043120" y="3525480"/>
                    <a:ext cx="46800" cy="648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6" name=""/>
                  <p:cNvSpPr/>
                  <p:nvPr/>
                </p:nvSpPr>
                <p:spPr>
                  <a:xfrm>
                    <a:off x="8598240" y="3450240"/>
                    <a:ext cx="5040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7" name=""/>
                  <p:cNvSpPr/>
                  <p:nvPr/>
                </p:nvSpPr>
                <p:spPr>
                  <a:xfrm>
                    <a:off x="8744760" y="3847320"/>
                    <a:ext cx="4680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8" name=""/>
                  <p:cNvSpPr/>
                  <p:nvPr/>
                </p:nvSpPr>
                <p:spPr>
                  <a:xfrm>
                    <a:off x="8292960" y="3705120"/>
                    <a:ext cx="46800" cy="669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9" name=""/>
                  <p:cNvSpPr/>
                  <p:nvPr/>
                </p:nvSpPr>
                <p:spPr>
                  <a:xfrm>
                    <a:off x="7606800" y="3875040"/>
                    <a:ext cx="4680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333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0" name=""/>
                  <p:cNvSpPr/>
                  <p:nvPr/>
                </p:nvSpPr>
                <p:spPr>
                  <a:xfrm>
                    <a:off x="7967880" y="3604320"/>
                    <a:ext cx="45360" cy="6516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333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1" name=""/>
                  <p:cNvSpPr/>
                  <p:nvPr/>
                </p:nvSpPr>
                <p:spPr>
                  <a:xfrm>
                    <a:off x="7379640" y="3426480"/>
                    <a:ext cx="46800" cy="691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dc0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52" name=""/>
              <p:cNvSpPr/>
              <p:nvPr/>
            </p:nvSpPr>
            <p:spPr>
              <a:xfrm>
                <a:off x="7265160" y="4340880"/>
                <a:ext cx="136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ercad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3" name=""/>
          <p:cNvGrpSpPr/>
          <p:nvPr/>
        </p:nvGrpSpPr>
        <p:grpSpPr>
          <a:xfrm>
            <a:off x="1828800" y="4566240"/>
            <a:ext cx="6146640" cy="1841040"/>
            <a:chOff x="1828800" y="4566240"/>
            <a:chExt cx="6146640" cy="1841040"/>
          </a:xfrm>
        </p:grpSpPr>
        <p:sp>
          <p:nvSpPr>
            <p:cNvPr id="1854" name=""/>
            <p:cNvSpPr/>
            <p:nvPr/>
          </p:nvSpPr>
          <p:spPr>
            <a:xfrm rot="16200000">
              <a:off x="4464360" y="2896200"/>
              <a:ext cx="1182960" cy="5838840"/>
            </a:xfrm>
            <a:prstGeom prst="ellipse">
              <a:avLst/>
            </a:prstGeom>
            <a:noFill/>
            <a:ln w="12600">
              <a:solidFill>
                <a:srgbClr val="7a7a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stratégia Tecnológ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 rot="14563800">
              <a:off x="1796040" y="5191560"/>
              <a:ext cx="653760" cy="325440"/>
            </a:xfrm>
            <a:prstGeom prst="rightArrow">
              <a:avLst>
                <a:gd name="adj1" fmla="val 50000"/>
                <a:gd name="adj2" fmla="val 50221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 rot="15076200">
              <a:off x="2383560" y="4918320"/>
              <a:ext cx="654120" cy="325440"/>
            </a:xfrm>
            <a:prstGeom prst="rightArrow">
              <a:avLst>
                <a:gd name="adj1" fmla="val 50000"/>
                <a:gd name="adj2" fmla="val 5024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 rot="15556800">
              <a:off x="2959560" y="4767480"/>
              <a:ext cx="654120" cy="325440"/>
            </a:xfrm>
            <a:prstGeom prst="rightArrow">
              <a:avLst>
                <a:gd name="adj1" fmla="val 50000"/>
                <a:gd name="adj2" fmla="val 5024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 rot="16174800">
              <a:off x="3625200" y="4734360"/>
              <a:ext cx="653760" cy="325440"/>
            </a:xfrm>
            <a:prstGeom prst="rightArrow">
              <a:avLst>
                <a:gd name="adj1" fmla="val 50000"/>
                <a:gd name="adj2" fmla="val 50221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 rot="16294800">
              <a:off x="4331160" y="4734360"/>
              <a:ext cx="653760" cy="325440"/>
            </a:xfrm>
            <a:prstGeom prst="rightArrow">
              <a:avLst>
                <a:gd name="adj1" fmla="val 50000"/>
                <a:gd name="adj2" fmla="val 50221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 rot="16249800">
              <a:off x="4941360" y="4734360"/>
              <a:ext cx="653760" cy="325440"/>
            </a:xfrm>
            <a:prstGeom prst="rightArrow">
              <a:avLst>
                <a:gd name="adj1" fmla="val 50000"/>
                <a:gd name="adj2" fmla="val 50221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 rot="16249800">
              <a:off x="5627160" y="4734360"/>
              <a:ext cx="653760" cy="325440"/>
            </a:xfrm>
            <a:prstGeom prst="rightArrow">
              <a:avLst>
                <a:gd name="adj1" fmla="val 50000"/>
                <a:gd name="adj2" fmla="val 50221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1752120" y="1090440"/>
            <a:ext cx="6056640" cy="1918440"/>
            <a:chOff x="1752120" y="1090440"/>
            <a:chExt cx="6056640" cy="1918440"/>
          </a:xfrm>
        </p:grpSpPr>
        <p:sp>
          <p:nvSpPr>
            <p:cNvPr id="1863" name=""/>
            <p:cNvSpPr/>
            <p:nvPr/>
          </p:nvSpPr>
          <p:spPr>
            <a:xfrm rot="5400000">
              <a:off x="4289040" y="-1203120"/>
              <a:ext cx="1225800" cy="5813280"/>
            </a:xfrm>
            <a:prstGeom prst="ellipse">
              <a:avLst/>
            </a:prstGeom>
            <a:noFill/>
            <a:ln w="12600">
              <a:solidFill>
                <a:srgbClr val="7a7a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stratégia de Produto / 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 rot="7036200">
              <a:off x="1719360" y="1871280"/>
              <a:ext cx="654120" cy="325440"/>
            </a:xfrm>
            <a:prstGeom prst="rightArrow">
              <a:avLst>
                <a:gd name="adj1" fmla="val 50000"/>
                <a:gd name="adj2" fmla="val 5024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 rot="6523800">
              <a:off x="2155320" y="2098080"/>
              <a:ext cx="654120" cy="325440"/>
            </a:xfrm>
            <a:prstGeom prst="rightArrow">
              <a:avLst>
                <a:gd name="adj1" fmla="val 50000"/>
                <a:gd name="adj2" fmla="val 5024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 rot="6043200">
              <a:off x="2815200" y="2317320"/>
              <a:ext cx="654120" cy="325440"/>
            </a:xfrm>
            <a:prstGeom prst="rightArrow">
              <a:avLst>
                <a:gd name="adj1" fmla="val 50000"/>
                <a:gd name="adj2" fmla="val 5024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 rot="5425200">
              <a:off x="3624840" y="2461680"/>
              <a:ext cx="654120" cy="325440"/>
            </a:xfrm>
            <a:prstGeom prst="rightArrow">
              <a:avLst>
                <a:gd name="adj1" fmla="val 50000"/>
                <a:gd name="adj2" fmla="val 5024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 rot="5305200">
              <a:off x="4331160" y="2514240"/>
              <a:ext cx="654120" cy="325440"/>
            </a:xfrm>
            <a:prstGeom prst="rightArrow">
              <a:avLst>
                <a:gd name="adj1" fmla="val 50000"/>
                <a:gd name="adj2" fmla="val 5024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 rot="5350200">
              <a:off x="4941000" y="2514960"/>
              <a:ext cx="654120" cy="325440"/>
            </a:xfrm>
            <a:prstGeom prst="rightArrow">
              <a:avLst>
                <a:gd name="adj1" fmla="val 50000"/>
                <a:gd name="adj2" fmla="val 5024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 rot="5350200">
              <a:off x="5626800" y="2514960"/>
              <a:ext cx="654120" cy="325440"/>
            </a:xfrm>
            <a:prstGeom prst="rightArrow">
              <a:avLst>
                <a:gd name="adj1" fmla="val 50000"/>
                <a:gd name="adj2" fmla="val 5024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1" name=""/>
          <p:cNvSpPr/>
          <p:nvPr/>
        </p:nvSpPr>
        <p:spPr>
          <a:xfrm>
            <a:off x="380880" y="3260880"/>
            <a:ext cx="6351840" cy="1006200"/>
          </a:xfrm>
          <a:prstGeom prst="rightArrow">
            <a:avLst>
              <a:gd name="adj1" fmla="val 73500"/>
              <a:gd name="adj2" fmla="val 93872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 pip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3375000" y="4002120"/>
            <a:ext cx="5088600" cy="3729960"/>
            <a:chOff x="3375000" y="4002120"/>
            <a:chExt cx="5088600" cy="3729960"/>
          </a:xfrm>
        </p:grpSpPr>
        <p:grpSp>
          <p:nvGrpSpPr>
            <p:cNvPr id="1873" name=""/>
            <p:cNvGrpSpPr/>
            <p:nvPr/>
          </p:nvGrpSpPr>
          <p:grpSpPr>
            <a:xfrm>
              <a:off x="3375000" y="4002120"/>
              <a:ext cx="3677400" cy="3552120"/>
              <a:chOff x="3375000" y="4002120"/>
              <a:chExt cx="3677400" cy="355212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3431160" y="4197960"/>
                <a:ext cx="3621240" cy="3288960"/>
                <a:chOff x="3431160" y="4197960"/>
                <a:chExt cx="3621240" cy="3288960"/>
              </a:xfrm>
            </p:grpSpPr>
            <p:grpSp>
              <p:nvGrpSpPr>
                <p:cNvPr id="1875" name=""/>
                <p:cNvGrpSpPr/>
                <p:nvPr/>
              </p:nvGrpSpPr>
              <p:grpSpPr>
                <a:xfrm>
                  <a:off x="3431160" y="4197960"/>
                  <a:ext cx="3621240" cy="3288960"/>
                  <a:chOff x="3431160" y="4197960"/>
                  <a:chExt cx="3621240" cy="3288960"/>
                </a:xfrm>
              </p:grpSpPr>
              <p:sp>
                <p:nvSpPr>
                  <p:cNvPr id="1876" name=""/>
                  <p:cNvSpPr/>
                  <p:nvPr/>
                </p:nvSpPr>
                <p:spPr>
                  <a:xfrm rot="19338000">
                    <a:off x="3663720" y="4708080"/>
                    <a:ext cx="2182680" cy="15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 rot="19338000">
                    <a:off x="4330440" y="5093640"/>
                    <a:ext cx="2407320" cy="18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8" name=""/>
                <p:cNvGrpSpPr/>
                <p:nvPr/>
              </p:nvGrpSpPr>
              <p:grpSpPr>
                <a:xfrm>
                  <a:off x="3776400" y="4302000"/>
                  <a:ext cx="2867040" cy="3097800"/>
                  <a:chOff x="3776400" y="4302000"/>
                  <a:chExt cx="2867040" cy="3097800"/>
                </a:xfrm>
              </p:grpSpPr>
              <p:sp>
                <p:nvSpPr>
                  <p:cNvPr id="1879" name=""/>
                  <p:cNvSpPr/>
                  <p:nvPr/>
                </p:nvSpPr>
                <p:spPr>
                  <a:xfrm rot="19338000">
                    <a:off x="4823280" y="6661440"/>
                    <a:ext cx="624240" cy="61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"/>
                  <p:cNvSpPr/>
                  <p:nvPr/>
                </p:nvSpPr>
                <p:spPr>
                  <a:xfrm rot="19338000">
                    <a:off x="6075000" y="4486680"/>
                    <a:ext cx="224280" cy="120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 rot="19338000">
                    <a:off x="4397040" y="4535280"/>
                    <a:ext cx="887760" cy="36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 rot="19338000">
                    <a:off x="4007160" y="5779440"/>
                    <a:ext cx="282960" cy="85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83" name=""/>
              <p:cNvSpPr/>
              <p:nvPr/>
            </p:nvSpPr>
            <p:spPr>
              <a:xfrm rot="19338000">
                <a:off x="4059360" y="4609080"/>
                <a:ext cx="2512080" cy="2430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4" name=""/>
              <p:cNvGrpSpPr/>
              <p:nvPr/>
            </p:nvGrpSpPr>
            <p:grpSpPr>
              <a:xfrm>
                <a:off x="3375000" y="4002120"/>
                <a:ext cx="3473280" cy="3458880"/>
                <a:chOff x="3375000" y="4002120"/>
                <a:chExt cx="3473280" cy="3458880"/>
              </a:xfrm>
            </p:grpSpPr>
            <p:sp>
              <p:nvSpPr>
                <p:cNvPr id="1885" name=""/>
                <p:cNvSpPr/>
                <p:nvPr/>
              </p:nvSpPr>
              <p:spPr>
                <a:xfrm rot="19338000">
                  <a:off x="3886200" y="4548960"/>
                  <a:ext cx="2453040" cy="237168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 rot="19338000">
                  <a:off x="3855600" y="4516200"/>
                  <a:ext cx="2511360" cy="24303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 rot="19338000">
                  <a:off x="3925800" y="4581720"/>
                  <a:ext cx="2372040" cy="23011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8" name=""/>
            <p:cNvGrpSpPr/>
            <p:nvPr/>
          </p:nvGrpSpPr>
          <p:grpSpPr>
            <a:xfrm>
              <a:off x="6201000" y="5574960"/>
              <a:ext cx="2262600" cy="2157120"/>
              <a:chOff x="6201000" y="5574960"/>
              <a:chExt cx="2262600" cy="2157120"/>
            </a:xfrm>
          </p:grpSpPr>
          <p:sp>
            <p:nvSpPr>
              <p:cNvPr id="1889" name=""/>
              <p:cNvSpPr/>
              <p:nvPr/>
            </p:nvSpPr>
            <p:spPr>
              <a:xfrm rot="19338000">
                <a:off x="6687720" y="5764680"/>
                <a:ext cx="1227960" cy="177732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rot="19338000">
                <a:off x="6274800" y="6095160"/>
                <a:ext cx="378720" cy="359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rot="19338000">
                <a:off x="6306840" y="6103080"/>
                <a:ext cx="383760" cy="39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rot="19338000">
                <a:off x="6331680" y="6153120"/>
                <a:ext cx="232920" cy="45468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rot="19338000">
                <a:off x="6271560" y="6094080"/>
                <a:ext cx="378360" cy="36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rot="19338000">
                <a:off x="6533640" y="6208560"/>
                <a:ext cx="3798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5" name=""/>
              <p:cNvGrpSpPr/>
              <p:nvPr/>
            </p:nvGrpSpPr>
            <p:grpSpPr>
              <a:xfrm>
                <a:off x="6494760" y="6148440"/>
                <a:ext cx="561600" cy="535320"/>
                <a:chOff x="6494760" y="6148440"/>
                <a:chExt cx="561600" cy="535320"/>
              </a:xfrm>
            </p:grpSpPr>
            <p:grpSp>
              <p:nvGrpSpPr>
                <p:cNvPr id="1896" name=""/>
                <p:cNvGrpSpPr/>
                <p:nvPr/>
              </p:nvGrpSpPr>
              <p:grpSpPr>
                <a:xfrm>
                  <a:off x="6494760" y="6148440"/>
                  <a:ext cx="522000" cy="518040"/>
                  <a:chOff x="6494760" y="6148440"/>
                  <a:chExt cx="522000" cy="518040"/>
                </a:xfrm>
              </p:grpSpPr>
              <p:sp>
                <p:nvSpPr>
                  <p:cNvPr id="1897" name=""/>
                  <p:cNvSpPr/>
                  <p:nvPr/>
                </p:nvSpPr>
                <p:spPr>
                  <a:xfrm rot="19338000">
                    <a:off x="6564600" y="6228360"/>
                    <a:ext cx="379440" cy="358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"/>
                  <p:cNvSpPr/>
                  <p:nvPr/>
                </p:nvSpPr>
                <p:spPr>
                  <a:xfrm rot="19338000">
                    <a:off x="6564600" y="6227640"/>
                    <a:ext cx="38196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"/>
                  <p:cNvSpPr/>
                  <p:nvPr/>
                </p:nvSpPr>
                <p:spPr>
                  <a:xfrm rot="19338000">
                    <a:off x="6566400" y="6227280"/>
                    <a:ext cx="379440" cy="358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00" name=""/>
                <p:cNvSpPr/>
                <p:nvPr/>
              </p:nvSpPr>
              <p:spPr>
                <a:xfrm rot="19338000">
                  <a:off x="6605640" y="6246360"/>
                  <a:ext cx="380520" cy="35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1" name=""/>
              <p:cNvGrpSpPr/>
              <p:nvPr/>
            </p:nvGrpSpPr>
            <p:grpSpPr>
              <a:xfrm>
                <a:off x="6569640" y="6184800"/>
                <a:ext cx="561240" cy="535680"/>
                <a:chOff x="6569640" y="6184800"/>
                <a:chExt cx="561240" cy="535680"/>
              </a:xfrm>
            </p:grpSpPr>
            <p:grpSp>
              <p:nvGrpSpPr>
                <p:cNvPr id="1902" name=""/>
                <p:cNvGrpSpPr/>
                <p:nvPr/>
              </p:nvGrpSpPr>
              <p:grpSpPr>
                <a:xfrm>
                  <a:off x="6569640" y="6184800"/>
                  <a:ext cx="521280" cy="517320"/>
                  <a:chOff x="6569640" y="6184800"/>
                  <a:chExt cx="521280" cy="517320"/>
                </a:xfrm>
              </p:grpSpPr>
              <p:sp>
                <p:nvSpPr>
                  <p:cNvPr id="1903" name=""/>
                  <p:cNvSpPr/>
                  <p:nvPr/>
                </p:nvSpPr>
                <p:spPr>
                  <a:xfrm rot="19338000">
                    <a:off x="6639480" y="6264360"/>
                    <a:ext cx="380880" cy="358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 rot="19338000">
                    <a:off x="6639120" y="6264000"/>
                    <a:ext cx="381960" cy="35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 rot="19338000">
                    <a:off x="6641280" y="6263640"/>
                    <a:ext cx="378720" cy="35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06" name=""/>
                <p:cNvSpPr/>
                <p:nvPr/>
              </p:nvSpPr>
              <p:spPr>
                <a:xfrm rot="19338000">
                  <a:off x="6680880" y="6282720"/>
                  <a:ext cx="379800" cy="358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7" name=""/>
              <p:cNvGrpSpPr/>
              <p:nvPr/>
            </p:nvGrpSpPr>
            <p:grpSpPr>
              <a:xfrm>
                <a:off x="6643440" y="6215760"/>
                <a:ext cx="523440" cy="518760"/>
                <a:chOff x="6643440" y="6215760"/>
                <a:chExt cx="523440" cy="518760"/>
              </a:xfrm>
            </p:grpSpPr>
            <p:sp>
              <p:nvSpPr>
                <p:cNvPr id="1908" name=""/>
                <p:cNvSpPr/>
                <p:nvPr/>
              </p:nvSpPr>
              <p:spPr>
                <a:xfrm rot="19338000">
                  <a:off x="6713640" y="6296760"/>
                  <a:ext cx="380520" cy="35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 rot="19338000">
                  <a:off x="6713280" y="6295320"/>
                  <a:ext cx="383400" cy="359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0" name=""/>
              <p:cNvGrpSpPr/>
              <p:nvPr/>
            </p:nvGrpSpPr>
            <p:grpSpPr>
              <a:xfrm>
                <a:off x="6645960" y="6216120"/>
                <a:ext cx="559440" cy="536040"/>
                <a:chOff x="6645960" y="6216120"/>
                <a:chExt cx="559440" cy="536040"/>
              </a:xfrm>
            </p:grpSpPr>
            <p:sp>
              <p:nvSpPr>
                <p:cNvPr id="1911" name=""/>
                <p:cNvSpPr/>
                <p:nvPr/>
              </p:nvSpPr>
              <p:spPr>
                <a:xfrm rot="19338000">
                  <a:off x="6715440" y="6295320"/>
                  <a:ext cx="381240" cy="35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rot="19338000">
                  <a:off x="6755040" y="6314400"/>
                  <a:ext cx="380520" cy="35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3" name=""/>
              <p:cNvGrpSpPr/>
              <p:nvPr/>
            </p:nvGrpSpPr>
            <p:grpSpPr>
              <a:xfrm>
                <a:off x="6356520" y="6111360"/>
                <a:ext cx="1864440" cy="1093680"/>
                <a:chOff x="6356520" y="6111360"/>
                <a:chExt cx="1864440" cy="1093680"/>
              </a:xfrm>
            </p:grpSpPr>
            <p:sp>
              <p:nvSpPr>
                <p:cNvPr id="1914" name=""/>
                <p:cNvSpPr/>
                <p:nvPr/>
              </p:nvSpPr>
              <p:spPr>
                <a:xfrm>
                  <a:off x="6560640" y="6111360"/>
                  <a:ext cx="1660320" cy="72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6356520" y="6430320"/>
                  <a:ext cx="1704960" cy="77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6" name=""/>
              <p:cNvGrpSpPr/>
              <p:nvPr/>
            </p:nvGrpSpPr>
            <p:grpSpPr>
              <a:xfrm>
                <a:off x="6717960" y="6248160"/>
                <a:ext cx="555480" cy="532080"/>
                <a:chOff x="6717960" y="6248160"/>
                <a:chExt cx="555480" cy="532080"/>
              </a:xfrm>
            </p:grpSpPr>
            <p:grpSp>
              <p:nvGrpSpPr>
                <p:cNvPr id="1917" name=""/>
                <p:cNvGrpSpPr/>
                <p:nvPr/>
              </p:nvGrpSpPr>
              <p:grpSpPr>
                <a:xfrm>
                  <a:off x="6717960" y="6248160"/>
                  <a:ext cx="521640" cy="517680"/>
                  <a:chOff x="6717960" y="6248160"/>
                  <a:chExt cx="521640" cy="517680"/>
                </a:xfrm>
              </p:grpSpPr>
              <p:sp>
                <p:nvSpPr>
                  <p:cNvPr id="1918" name=""/>
                  <p:cNvSpPr/>
                  <p:nvPr/>
                </p:nvSpPr>
                <p:spPr>
                  <a:xfrm rot="19338000">
                    <a:off x="6787800" y="6328800"/>
                    <a:ext cx="379440" cy="357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 rot="19338000">
                    <a:off x="6787800" y="6327360"/>
                    <a:ext cx="381960" cy="358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0" name=""/>
                <p:cNvSpPr/>
                <p:nvPr/>
              </p:nvSpPr>
              <p:spPr>
                <a:xfrm rot="19338000">
                  <a:off x="6789600" y="6327360"/>
                  <a:ext cx="380520" cy="359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 rot="19338000">
                  <a:off x="6823440" y="6342840"/>
                  <a:ext cx="379800" cy="35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2" name=""/>
              <p:cNvSpPr/>
              <p:nvPr/>
            </p:nvSpPr>
            <p:spPr>
              <a:xfrm rot="19338000">
                <a:off x="7074360" y="6139800"/>
                <a:ext cx="757080" cy="131328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19338000">
                <a:off x="7969680" y="6836760"/>
                <a:ext cx="413640" cy="40248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/>
          <p:nvPr/>
        </p:nvSpPr>
        <p:spPr>
          <a:xfrm>
            <a:off x="2583000" y="1343520"/>
            <a:ext cx="2819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ições de Pesqu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2084400" y="3629160"/>
            <a:ext cx="1441440" cy="1052280"/>
          </a:xfrm>
          <a:prstGeom prst="hexagon">
            <a:avLst>
              <a:gd name="adj" fmla="val 34246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2084400" y="4692600"/>
            <a:ext cx="1441440" cy="1052640"/>
          </a:xfrm>
          <a:prstGeom prst="hexagon">
            <a:avLst>
              <a:gd name="adj" fmla="val 3423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3116160" y="5230800"/>
            <a:ext cx="1441440" cy="1052640"/>
          </a:xfrm>
          <a:prstGeom prst="hexagon">
            <a:avLst>
              <a:gd name="adj" fmla="val 3423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3238560" y="4160880"/>
            <a:ext cx="1441440" cy="1052640"/>
          </a:xfrm>
          <a:prstGeom prst="hexagon">
            <a:avLst>
              <a:gd name="adj" fmla="val 3423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3192480" y="3097080"/>
            <a:ext cx="1441440" cy="1052640"/>
          </a:xfrm>
          <a:prstGeom prst="hexagon">
            <a:avLst>
              <a:gd name="adj" fmla="val 3423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0" name="EXEC07" descr=""/>
          <p:cNvPicPr/>
          <p:nvPr/>
        </p:nvPicPr>
        <p:blipFill>
          <a:blip r:embed="rId1"/>
          <a:stretch/>
        </p:blipFill>
        <p:spPr>
          <a:xfrm>
            <a:off x="2811600" y="3994200"/>
            <a:ext cx="2133360" cy="1312920"/>
          </a:xfrm>
          <a:prstGeom prst="rect">
            <a:avLst/>
          </a:prstGeom>
          <a:ln w="0">
            <a:noFill/>
          </a:ln>
        </p:spPr>
      </p:pic>
      <p:sp>
        <p:nvSpPr>
          <p:cNvPr id="1931" name=""/>
          <p:cNvSpPr/>
          <p:nvPr/>
        </p:nvSpPr>
        <p:spPr>
          <a:xfrm>
            <a:off x="677880" y="4315320"/>
            <a:ext cx="2550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e Fornec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982800" y="3097080"/>
            <a:ext cx="1441440" cy="1052640"/>
          </a:xfrm>
          <a:prstGeom prst="hexagon">
            <a:avLst>
              <a:gd name="adj" fmla="val 3423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4433760" y="4683600"/>
            <a:ext cx="19814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ários e clientes f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1211400" y="210672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3192480" y="2030400"/>
            <a:ext cx="1441440" cy="1052640"/>
          </a:xfrm>
          <a:prstGeom prst="hexagon">
            <a:avLst>
              <a:gd name="adj" fmla="val 34234"/>
              <a:gd name="vf" fmla="val 115470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6" name="SCIENC10" descr=""/>
          <p:cNvPicPr/>
          <p:nvPr/>
        </p:nvPicPr>
        <p:blipFill>
          <a:blip r:embed="rId2"/>
          <a:stretch/>
        </p:blipFill>
        <p:spPr>
          <a:xfrm>
            <a:off x="3421080" y="2030400"/>
            <a:ext cx="1523880" cy="1015920"/>
          </a:xfrm>
          <a:prstGeom prst="rect">
            <a:avLst/>
          </a:prstGeom>
          <a:ln w="0">
            <a:noFill/>
          </a:ln>
        </p:spPr>
      </p:pic>
      <p:sp>
        <p:nvSpPr>
          <p:cNvPr id="1937" name=""/>
          <p:cNvSpPr/>
          <p:nvPr/>
        </p:nvSpPr>
        <p:spPr>
          <a:xfrm>
            <a:off x="4259160" y="2577960"/>
            <a:ext cx="1441440" cy="1052640"/>
          </a:xfrm>
          <a:prstGeom prst="hexagon">
            <a:avLst>
              <a:gd name="adj" fmla="val 34234"/>
              <a:gd name="vf" fmla="val 115470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8" name="SCIENC10" descr=""/>
          <p:cNvPicPr/>
          <p:nvPr/>
        </p:nvPicPr>
        <p:blipFill>
          <a:blip r:embed="rId3"/>
          <a:stretch/>
        </p:blipFill>
        <p:spPr>
          <a:xfrm>
            <a:off x="4487760" y="2577960"/>
            <a:ext cx="1524240" cy="1016280"/>
          </a:xfrm>
          <a:prstGeom prst="rect">
            <a:avLst/>
          </a:prstGeom>
          <a:ln w="0">
            <a:noFill/>
          </a:ln>
        </p:spPr>
      </p:pic>
      <p:sp>
        <p:nvSpPr>
          <p:cNvPr id="1939" name=""/>
          <p:cNvSpPr/>
          <p:nvPr/>
        </p:nvSpPr>
        <p:spPr>
          <a:xfrm>
            <a:off x="4259160" y="3630600"/>
            <a:ext cx="1441440" cy="1052640"/>
          </a:xfrm>
          <a:prstGeom prst="hexagon">
            <a:avLst>
              <a:gd name="adj" fmla="val 34234"/>
              <a:gd name="vf" fmla="val 115470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0" name="EXEC02" descr=""/>
          <p:cNvPicPr/>
          <p:nvPr/>
        </p:nvPicPr>
        <p:blipFill>
          <a:blip r:embed="rId4"/>
          <a:stretch/>
        </p:blipFill>
        <p:spPr>
          <a:xfrm>
            <a:off x="4335480" y="3554280"/>
            <a:ext cx="1676520" cy="1117800"/>
          </a:xfrm>
          <a:prstGeom prst="rect">
            <a:avLst/>
          </a:prstGeom>
          <a:ln w="0">
            <a:noFill/>
          </a:ln>
        </p:spPr>
      </p:pic>
      <p:sp>
        <p:nvSpPr>
          <p:cNvPr id="1941" name=""/>
          <p:cNvSpPr/>
          <p:nvPr/>
        </p:nvSpPr>
        <p:spPr>
          <a:xfrm>
            <a:off x="4245120" y="2210400"/>
            <a:ext cx="2819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6723000" y="4892760"/>
            <a:ext cx="2107800" cy="1636560"/>
            <a:chOff x="6723000" y="4892760"/>
            <a:chExt cx="2107800" cy="1636560"/>
          </a:xfrm>
        </p:grpSpPr>
        <p:grpSp>
          <p:nvGrpSpPr>
            <p:cNvPr id="1943" name=""/>
            <p:cNvGrpSpPr/>
            <p:nvPr/>
          </p:nvGrpSpPr>
          <p:grpSpPr>
            <a:xfrm>
              <a:off x="6723000" y="4892760"/>
              <a:ext cx="2107800" cy="1177560"/>
              <a:chOff x="6723000" y="4892760"/>
              <a:chExt cx="2107800" cy="1177560"/>
            </a:xfrm>
          </p:grpSpPr>
          <p:sp>
            <p:nvSpPr>
              <p:cNvPr id="1944" name=""/>
              <p:cNvSpPr/>
              <p:nvPr/>
            </p:nvSpPr>
            <p:spPr>
              <a:xfrm>
                <a:off x="6801480" y="5157720"/>
                <a:ext cx="72720" cy="109440"/>
              </a:xfrm>
              <a:prstGeom prst="triangle">
                <a:avLst>
                  <a:gd name="adj" fmla="val 49995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794280" y="5371920"/>
                <a:ext cx="74160" cy="109800"/>
              </a:xfrm>
              <a:prstGeom prst="triangle">
                <a:avLst>
                  <a:gd name="adj" fmla="val 49995"/>
                </a:avLst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794280" y="5626080"/>
                <a:ext cx="74160" cy="109440"/>
              </a:xfrm>
              <a:prstGeom prst="triangle">
                <a:avLst>
                  <a:gd name="adj" fmla="val 49995"/>
                </a:avLst>
              </a:prstGeom>
              <a:solidFill>
                <a:srgbClr val="ff5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6787440" y="5848200"/>
                <a:ext cx="75600" cy="109800"/>
              </a:xfrm>
              <a:prstGeom prst="triangle">
                <a:avLst>
                  <a:gd name="adj" fmla="val 49995"/>
                </a:avLst>
              </a:prstGeom>
              <a:solidFill>
                <a:srgbClr val="cc00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8" name=""/>
              <p:cNvGrpSpPr/>
              <p:nvPr/>
            </p:nvGrpSpPr>
            <p:grpSpPr>
              <a:xfrm>
                <a:off x="6723000" y="4892760"/>
                <a:ext cx="2107800" cy="1177560"/>
                <a:chOff x="6723000" y="4892760"/>
                <a:chExt cx="2107800" cy="1177560"/>
              </a:xfrm>
            </p:grpSpPr>
            <p:sp>
              <p:nvSpPr>
                <p:cNvPr id="1949" name=""/>
                <p:cNvSpPr/>
                <p:nvPr/>
              </p:nvSpPr>
              <p:spPr>
                <a:xfrm>
                  <a:off x="7293600" y="4910040"/>
                  <a:ext cx="123840" cy="156240"/>
                </a:xfrm>
                <a:custGeom>
                  <a:avLst/>
                  <a:gdLst/>
                  <a:ahLst/>
                  <a:rect l="l" t="t" r="r" b="b"/>
                  <a:pathLst>
                    <a:path w="266" h="284">
                      <a:moveTo>
                        <a:pt x="0" y="0"/>
                      </a:moveTo>
                      <a:lnTo>
                        <a:pt x="80" y="67"/>
                      </a:lnTo>
                      <a:lnTo>
                        <a:pt x="155" y="143"/>
                      </a:lnTo>
                      <a:lnTo>
                        <a:pt x="266" y="284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7326360" y="4922280"/>
                  <a:ext cx="127440" cy="144000"/>
                </a:xfrm>
                <a:custGeom>
                  <a:avLst/>
                  <a:gdLst/>
                  <a:ahLst/>
                  <a:rect l="l" t="t" r="r" b="b"/>
                  <a:pathLst>
                    <a:path w="279" h="265">
                      <a:moveTo>
                        <a:pt x="0" y="0"/>
                      </a:moveTo>
                      <a:lnTo>
                        <a:pt x="79" y="57"/>
                      </a:lnTo>
                      <a:lnTo>
                        <a:pt x="150" y="124"/>
                      </a:lnTo>
                      <a:lnTo>
                        <a:pt x="279" y="265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7389360" y="4950000"/>
                  <a:ext cx="104760" cy="114120"/>
                </a:xfrm>
                <a:custGeom>
                  <a:avLst/>
                  <a:gdLst/>
                  <a:ahLst/>
                  <a:rect l="l" t="t" r="r" b="b"/>
                  <a:pathLst>
                    <a:path w="231" h="207">
                      <a:moveTo>
                        <a:pt x="0" y="0"/>
                      </a:moveTo>
                      <a:lnTo>
                        <a:pt x="79" y="56"/>
                      </a:lnTo>
                      <a:lnTo>
                        <a:pt x="150" y="123"/>
                      </a:lnTo>
                      <a:lnTo>
                        <a:pt x="231" y="207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8384400" y="4965480"/>
                  <a:ext cx="198360" cy="155880"/>
                </a:xfrm>
                <a:custGeom>
                  <a:avLst/>
                  <a:gdLst/>
                  <a:ahLst/>
                  <a:rect l="l" t="t" r="r" b="b"/>
                  <a:pathLst>
                    <a:path w="436" h="289">
                      <a:moveTo>
                        <a:pt x="0" y="0"/>
                      </a:moveTo>
                      <a:lnTo>
                        <a:pt x="143" y="81"/>
                      </a:lnTo>
                      <a:lnTo>
                        <a:pt x="290" y="180"/>
                      </a:lnTo>
                      <a:lnTo>
                        <a:pt x="436" y="289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7684200" y="5054400"/>
                  <a:ext cx="879840" cy="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7684200" y="5109840"/>
                  <a:ext cx="947880" cy="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7640640" y="5181120"/>
                  <a:ext cx="1005120" cy="144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7453800" y="5408280"/>
                  <a:ext cx="99720" cy="661680"/>
                </a:xfrm>
                <a:custGeom>
                  <a:avLst/>
                  <a:gdLst/>
                  <a:ahLst/>
                  <a:rect l="l" t="t" r="r" b="b"/>
                  <a:pathLst>
                    <a:path w="213" h="1198">
                      <a:moveTo>
                        <a:pt x="213" y="0"/>
                      </a:moveTo>
                      <a:lnTo>
                        <a:pt x="213" y="117"/>
                      </a:lnTo>
                      <a:lnTo>
                        <a:pt x="204" y="249"/>
                      </a:lnTo>
                      <a:lnTo>
                        <a:pt x="182" y="379"/>
                      </a:lnTo>
                      <a:lnTo>
                        <a:pt x="160" y="528"/>
                      </a:lnTo>
                      <a:lnTo>
                        <a:pt x="138" y="652"/>
                      </a:lnTo>
                      <a:lnTo>
                        <a:pt x="115" y="794"/>
                      </a:lnTo>
                      <a:lnTo>
                        <a:pt x="93" y="913"/>
                      </a:lnTo>
                      <a:lnTo>
                        <a:pt x="61" y="1020"/>
                      </a:lnTo>
                      <a:lnTo>
                        <a:pt x="35" y="1102"/>
                      </a:lnTo>
                      <a:lnTo>
                        <a:pt x="0" y="1198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7602480" y="5256000"/>
                  <a:ext cx="1116720" cy="396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7576200" y="5331240"/>
                  <a:ext cx="1204200" cy="144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6723000" y="5546520"/>
                  <a:ext cx="2102760" cy="216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6841080" y="4910040"/>
                  <a:ext cx="272160" cy="1148040"/>
                </a:xfrm>
                <a:custGeom>
                  <a:avLst/>
                  <a:gdLst/>
                  <a:ahLst/>
                  <a:rect l="l" t="t" r="r" b="b"/>
                  <a:pathLst>
                    <a:path w="599" h="2082">
                      <a:moveTo>
                        <a:pt x="599" y="0"/>
                      </a:moveTo>
                      <a:lnTo>
                        <a:pt x="541" y="33"/>
                      </a:lnTo>
                      <a:lnTo>
                        <a:pt x="426" y="128"/>
                      </a:lnTo>
                      <a:lnTo>
                        <a:pt x="319" y="245"/>
                      </a:lnTo>
                      <a:lnTo>
                        <a:pt x="244" y="363"/>
                      </a:lnTo>
                      <a:lnTo>
                        <a:pt x="172" y="501"/>
                      </a:lnTo>
                      <a:lnTo>
                        <a:pt x="101" y="639"/>
                      </a:lnTo>
                      <a:lnTo>
                        <a:pt x="53" y="765"/>
                      </a:lnTo>
                      <a:lnTo>
                        <a:pt x="8" y="908"/>
                      </a:lnTo>
                      <a:lnTo>
                        <a:pt x="0" y="1025"/>
                      </a:lnTo>
                      <a:lnTo>
                        <a:pt x="0" y="1157"/>
                      </a:lnTo>
                      <a:lnTo>
                        <a:pt x="0" y="1285"/>
                      </a:lnTo>
                      <a:lnTo>
                        <a:pt x="4" y="1430"/>
                      </a:lnTo>
                      <a:lnTo>
                        <a:pt x="0" y="1567"/>
                      </a:lnTo>
                      <a:lnTo>
                        <a:pt x="0" y="1708"/>
                      </a:lnTo>
                      <a:lnTo>
                        <a:pt x="4" y="2008"/>
                      </a:lnTo>
                      <a:lnTo>
                        <a:pt x="8" y="2082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6848280" y="4906440"/>
                  <a:ext cx="277200" cy="1161360"/>
                </a:xfrm>
                <a:custGeom>
                  <a:avLst/>
                  <a:gdLst/>
                  <a:ahLst/>
                  <a:rect l="l" t="t" r="r" b="b"/>
                  <a:pathLst>
                    <a:path w="609" h="2105">
                      <a:moveTo>
                        <a:pt x="609" y="0"/>
                      </a:moveTo>
                      <a:lnTo>
                        <a:pt x="546" y="48"/>
                      </a:lnTo>
                      <a:lnTo>
                        <a:pt x="476" y="132"/>
                      </a:lnTo>
                      <a:lnTo>
                        <a:pt x="391" y="245"/>
                      </a:lnTo>
                      <a:lnTo>
                        <a:pt x="320" y="367"/>
                      </a:lnTo>
                      <a:lnTo>
                        <a:pt x="262" y="490"/>
                      </a:lnTo>
                      <a:lnTo>
                        <a:pt x="199" y="624"/>
                      </a:lnTo>
                      <a:lnTo>
                        <a:pt x="151" y="769"/>
                      </a:lnTo>
                      <a:lnTo>
                        <a:pt x="120" y="897"/>
                      </a:lnTo>
                      <a:lnTo>
                        <a:pt x="112" y="1029"/>
                      </a:lnTo>
                      <a:lnTo>
                        <a:pt x="102" y="1151"/>
                      </a:lnTo>
                      <a:lnTo>
                        <a:pt x="94" y="1283"/>
                      </a:lnTo>
                      <a:lnTo>
                        <a:pt x="94" y="1415"/>
                      </a:lnTo>
                      <a:lnTo>
                        <a:pt x="84" y="1552"/>
                      </a:lnTo>
                      <a:lnTo>
                        <a:pt x="66" y="1712"/>
                      </a:lnTo>
                      <a:lnTo>
                        <a:pt x="58" y="1819"/>
                      </a:lnTo>
                      <a:lnTo>
                        <a:pt x="44" y="1934"/>
                      </a:lnTo>
                      <a:lnTo>
                        <a:pt x="0" y="2105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6858720" y="4902480"/>
                  <a:ext cx="291600" cy="1159560"/>
                </a:xfrm>
                <a:custGeom>
                  <a:avLst/>
                  <a:gdLst/>
                  <a:ahLst/>
                  <a:rect l="l" t="t" r="r" b="b"/>
                  <a:pathLst>
                    <a:path w="637" h="2101">
                      <a:moveTo>
                        <a:pt x="637" y="0"/>
                      </a:moveTo>
                      <a:lnTo>
                        <a:pt x="583" y="51"/>
                      </a:lnTo>
                      <a:lnTo>
                        <a:pt x="534" y="122"/>
                      </a:lnTo>
                      <a:lnTo>
                        <a:pt x="458" y="240"/>
                      </a:lnTo>
                      <a:lnTo>
                        <a:pt x="378" y="382"/>
                      </a:lnTo>
                      <a:lnTo>
                        <a:pt x="338" y="504"/>
                      </a:lnTo>
                      <a:lnTo>
                        <a:pt x="294" y="642"/>
                      </a:lnTo>
                      <a:lnTo>
                        <a:pt x="258" y="759"/>
                      </a:lnTo>
                      <a:lnTo>
                        <a:pt x="236" y="910"/>
                      </a:lnTo>
                      <a:lnTo>
                        <a:pt x="227" y="1038"/>
                      </a:lnTo>
                      <a:lnTo>
                        <a:pt x="213" y="1170"/>
                      </a:lnTo>
                      <a:lnTo>
                        <a:pt x="195" y="1302"/>
                      </a:lnTo>
                      <a:lnTo>
                        <a:pt x="173" y="1448"/>
                      </a:lnTo>
                      <a:lnTo>
                        <a:pt x="155" y="1575"/>
                      </a:lnTo>
                      <a:lnTo>
                        <a:pt x="133" y="1711"/>
                      </a:lnTo>
                      <a:lnTo>
                        <a:pt x="111" y="1834"/>
                      </a:lnTo>
                      <a:lnTo>
                        <a:pt x="90" y="1934"/>
                      </a:lnTo>
                      <a:lnTo>
                        <a:pt x="48" y="2026"/>
                      </a:lnTo>
                      <a:lnTo>
                        <a:pt x="0" y="2101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6862320" y="4902480"/>
                  <a:ext cx="303840" cy="1163880"/>
                </a:xfrm>
                <a:custGeom>
                  <a:avLst/>
                  <a:gdLst/>
                  <a:ahLst/>
                  <a:rect l="l" t="t" r="r" b="b"/>
                  <a:pathLst>
                    <a:path w="662" h="2110">
                      <a:moveTo>
                        <a:pt x="662" y="0"/>
                      </a:moveTo>
                      <a:lnTo>
                        <a:pt x="614" y="70"/>
                      </a:lnTo>
                      <a:lnTo>
                        <a:pt x="569" y="145"/>
                      </a:lnTo>
                      <a:lnTo>
                        <a:pt x="511" y="250"/>
                      </a:lnTo>
                      <a:lnTo>
                        <a:pt x="458" y="376"/>
                      </a:lnTo>
                      <a:lnTo>
                        <a:pt x="432" y="499"/>
                      </a:lnTo>
                      <a:lnTo>
                        <a:pt x="396" y="642"/>
                      </a:lnTo>
                      <a:lnTo>
                        <a:pt x="360" y="778"/>
                      </a:lnTo>
                      <a:lnTo>
                        <a:pt x="347" y="921"/>
                      </a:lnTo>
                      <a:lnTo>
                        <a:pt x="342" y="1034"/>
                      </a:lnTo>
                      <a:lnTo>
                        <a:pt x="329" y="1166"/>
                      </a:lnTo>
                      <a:lnTo>
                        <a:pt x="316" y="1302"/>
                      </a:lnTo>
                      <a:lnTo>
                        <a:pt x="289" y="1435"/>
                      </a:lnTo>
                      <a:lnTo>
                        <a:pt x="249" y="1575"/>
                      </a:lnTo>
                      <a:lnTo>
                        <a:pt x="222" y="1706"/>
                      </a:lnTo>
                      <a:lnTo>
                        <a:pt x="178" y="1828"/>
                      </a:lnTo>
                      <a:lnTo>
                        <a:pt x="134" y="1934"/>
                      </a:lnTo>
                      <a:lnTo>
                        <a:pt x="71" y="2030"/>
                      </a:lnTo>
                      <a:lnTo>
                        <a:pt x="0" y="2110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6878160" y="4898520"/>
                  <a:ext cx="301680" cy="1163880"/>
                </a:xfrm>
                <a:custGeom>
                  <a:avLst/>
                  <a:gdLst/>
                  <a:ahLst/>
                  <a:rect l="l" t="t" r="r" b="b"/>
                  <a:pathLst>
                    <a:path w="662" h="2111">
                      <a:moveTo>
                        <a:pt x="662" y="0"/>
                      </a:moveTo>
                      <a:lnTo>
                        <a:pt x="622" y="66"/>
                      </a:lnTo>
                      <a:lnTo>
                        <a:pt x="583" y="161"/>
                      </a:lnTo>
                      <a:lnTo>
                        <a:pt x="547" y="268"/>
                      </a:lnTo>
                      <a:lnTo>
                        <a:pt x="525" y="381"/>
                      </a:lnTo>
                      <a:lnTo>
                        <a:pt x="498" y="501"/>
                      </a:lnTo>
                      <a:lnTo>
                        <a:pt x="480" y="647"/>
                      </a:lnTo>
                      <a:lnTo>
                        <a:pt x="454" y="784"/>
                      </a:lnTo>
                      <a:lnTo>
                        <a:pt x="448" y="916"/>
                      </a:lnTo>
                      <a:lnTo>
                        <a:pt x="440" y="1044"/>
                      </a:lnTo>
                      <a:lnTo>
                        <a:pt x="422" y="1166"/>
                      </a:lnTo>
                      <a:lnTo>
                        <a:pt x="391" y="1304"/>
                      </a:lnTo>
                      <a:lnTo>
                        <a:pt x="365" y="1426"/>
                      </a:lnTo>
                      <a:lnTo>
                        <a:pt x="319" y="1581"/>
                      </a:lnTo>
                      <a:lnTo>
                        <a:pt x="275" y="1720"/>
                      </a:lnTo>
                      <a:lnTo>
                        <a:pt x="214" y="1839"/>
                      </a:lnTo>
                      <a:lnTo>
                        <a:pt x="160" y="1935"/>
                      </a:lnTo>
                      <a:lnTo>
                        <a:pt x="75" y="2035"/>
                      </a:lnTo>
                      <a:lnTo>
                        <a:pt x="0" y="2111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6902640" y="4902480"/>
                  <a:ext cx="287640" cy="1159560"/>
                </a:xfrm>
                <a:custGeom>
                  <a:avLst/>
                  <a:gdLst/>
                  <a:ahLst/>
                  <a:rect l="l" t="t" r="r" b="b"/>
                  <a:pathLst>
                    <a:path w="626" h="2101">
                      <a:moveTo>
                        <a:pt x="626" y="0"/>
                      </a:moveTo>
                      <a:lnTo>
                        <a:pt x="614" y="61"/>
                      </a:lnTo>
                      <a:lnTo>
                        <a:pt x="596" y="155"/>
                      </a:lnTo>
                      <a:lnTo>
                        <a:pt x="569" y="273"/>
                      </a:lnTo>
                      <a:lnTo>
                        <a:pt x="551" y="376"/>
                      </a:lnTo>
                      <a:lnTo>
                        <a:pt x="533" y="481"/>
                      </a:lnTo>
                      <a:lnTo>
                        <a:pt x="525" y="646"/>
                      </a:lnTo>
                      <a:lnTo>
                        <a:pt x="515" y="774"/>
                      </a:lnTo>
                      <a:lnTo>
                        <a:pt x="511" y="902"/>
                      </a:lnTo>
                      <a:lnTo>
                        <a:pt x="498" y="1038"/>
                      </a:lnTo>
                      <a:lnTo>
                        <a:pt x="480" y="1160"/>
                      </a:lnTo>
                      <a:lnTo>
                        <a:pt x="462" y="1302"/>
                      </a:lnTo>
                      <a:lnTo>
                        <a:pt x="418" y="1448"/>
                      </a:lnTo>
                      <a:lnTo>
                        <a:pt x="365" y="1586"/>
                      </a:lnTo>
                      <a:lnTo>
                        <a:pt x="297" y="1729"/>
                      </a:lnTo>
                      <a:lnTo>
                        <a:pt x="236" y="1838"/>
                      </a:lnTo>
                      <a:lnTo>
                        <a:pt x="156" y="1934"/>
                      </a:lnTo>
                      <a:lnTo>
                        <a:pt x="93" y="2007"/>
                      </a:lnTo>
                      <a:lnTo>
                        <a:pt x="0" y="2101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 flipV="1">
                  <a:off x="7198920" y="4902480"/>
                  <a:ext cx="1800" cy="64800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6728040" y="5404320"/>
                  <a:ext cx="2089080" cy="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6723000" y="5475600"/>
                  <a:ext cx="2107800" cy="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6733080" y="5621760"/>
                  <a:ext cx="456840" cy="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7211160" y="5621760"/>
                  <a:ext cx="444960" cy="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6870960" y="5109840"/>
                  <a:ext cx="570600" cy="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6827400" y="5181120"/>
                  <a:ext cx="654480" cy="144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6780240" y="5256000"/>
                  <a:ext cx="725760" cy="396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6748920" y="5331240"/>
                  <a:ext cx="786600" cy="144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6738120" y="5694840"/>
                  <a:ext cx="425880" cy="396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6745320" y="5775840"/>
                  <a:ext cx="387360" cy="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6753960" y="5850720"/>
                  <a:ext cx="347040" cy="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7221960" y="5694840"/>
                  <a:ext cx="422280" cy="396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7239240" y="5775840"/>
                  <a:ext cx="376560" cy="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7260480" y="5850720"/>
                  <a:ext cx="334800" cy="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6991560" y="4983480"/>
                  <a:ext cx="451800" cy="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6923520" y="5054400"/>
                  <a:ext cx="581040" cy="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7052400" y="4933800"/>
                  <a:ext cx="317520" cy="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8471520" y="5001120"/>
                  <a:ext cx="164160" cy="126360"/>
                </a:xfrm>
                <a:custGeom>
                  <a:avLst/>
                  <a:gdLst/>
                  <a:ahLst/>
                  <a:rect l="l" t="t" r="r" b="b"/>
                  <a:pathLst>
                    <a:path w="360" h="226">
                      <a:moveTo>
                        <a:pt x="0" y="0"/>
                      </a:moveTo>
                      <a:lnTo>
                        <a:pt x="164" y="98"/>
                      </a:lnTo>
                      <a:lnTo>
                        <a:pt x="360" y="226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7738560" y="4983480"/>
                  <a:ext cx="689400" cy="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7710480" y="4922280"/>
                  <a:ext cx="114840" cy="145800"/>
                </a:xfrm>
                <a:custGeom>
                  <a:avLst/>
                  <a:gdLst/>
                  <a:ahLst/>
                  <a:rect l="l" t="t" r="r" b="b"/>
                  <a:pathLst>
                    <a:path w="253" h="264">
                      <a:moveTo>
                        <a:pt x="253" y="0"/>
                      </a:moveTo>
                      <a:lnTo>
                        <a:pt x="142" y="100"/>
                      </a:lnTo>
                      <a:lnTo>
                        <a:pt x="62" y="189"/>
                      </a:lnTo>
                      <a:lnTo>
                        <a:pt x="0" y="264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8246160" y="4922280"/>
                  <a:ext cx="404640" cy="1134000"/>
                </a:xfrm>
                <a:custGeom>
                  <a:avLst/>
                  <a:gdLst/>
                  <a:ahLst/>
                  <a:rect l="l" t="t" r="r" b="b"/>
                  <a:pathLst>
                    <a:path w="890" h="2059">
                      <a:moveTo>
                        <a:pt x="0" y="0"/>
                      </a:moveTo>
                      <a:lnTo>
                        <a:pt x="142" y="90"/>
                      </a:lnTo>
                      <a:lnTo>
                        <a:pt x="232" y="162"/>
                      </a:lnTo>
                      <a:lnTo>
                        <a:pt x="303" y="227"/>
                      </a:lnTo>
                      <a:lnTo>
                        <a:pt x="410" y="317"/>
                      </a:lnTo>
                      <a:lnTo>
                        <a:pt x="566" y="468"/>
                      </a:lnTo>
                      <a:lnTo>
                        <a:pt x="707" y="610"/>
                      </a:lnTo>
                      <a:lnTo>
                        <a:pt x="814" y="747"/>
                      </a:lnTo>
                      <a:lnTo>
                        <a:pt x="877" y="875"/>
                      </a:lnTo>
                      <a:lnTo>
                        <a:pt x="886" y="988"/>
                      </a:lnTo>
                      <a:lnTo>
                        <a:pt x="890" y="1129"/>
                      </a:lnTo>
                      <a:lnTo>
                        <a:pt x="890" y="1261"/>
                      </a:lnTo>
                      <a:lnTo>
                        <a:pt x="882" y="1407"/>
                      </a:lnTo>
                      <a:lnTo>
                        <a:pt x="868" y="1540"/>
                      </a:lnTo>
                      <a:lnTo>
                        <a:pt x="860" y="1683"/>
                      </a:lnTo>
                      <a:lnTo>
                        <a:pt x="846" y="1789"/>
                      </a:lnTo>
                      <a:lnTo>
                        <a:pt x="832" y="1940"/>
                      </a:lnTo>
                      <a:lnTo>
                        <a:pt x="801" y="2059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8286840" y="4932000"/>
                  <a:ext cx="425880" cy="1120320"/>
                </a:xfrm>
                <a:custGeom>
                  <a:avLst/>
                  <a:gdLst/>
                  <a:ahLst/>
                  <a:rect l="l" t="t" r="r" b="b"/>
                  <a:pathLst>
                    <a:path w="930" h="2036">
                      <a:moveTo>
                        <a:pt x="0" y="0"/>
                      </a:moveTo>
                      <a:lnTo>
                        <a:pt x="135" y="82"/>
                      </a:lnTo>
                      <a:lnTo>
                        <a:pt x="224" y="157"/>
                      </a:lnTo>
                      <a:lnTo>
                        <a:pt x="303" y="222"/>
                      </a:lnTo>
                      <a:lnTo>
                        <a:pt x="414" y="317"/>
                      </a:lnTo>
                      <a:lnTo>
                        <a:pt x="565" y="445"/>
                      </a:lnTo>
                      <a:lnTo>
                        <a:pt x="718" y="583"/>
                      </a:lnTo>
                      <a:lnTo>
                        <a:pt x="846" y="723"/>
                      </a:lnTo>
                      <a:lnTo>
                        <a:pt x="912" y="866"/>
                      </a:lnTo>
                      <a:lnTo>
                        <a:pt x="926" y="996"/>
                      </a:lnTo>
                      <a:lnTo>
                        <a:pt x="930" y="1120"/>
                      </a:lnTo>
                      <a:lnTo>
                        <a:pt x="926" y="1256"/>
                      </a:lnTo>
                      <a:lnTo>
                        <a:pt x="900" y="1388"/>
                      </a:lnTo>
                      <a:lnTo>
                        <a:pt x="882" y="1516"/>
                      </a:lnTo>
                      <a:lnTo>
                        <a:pt x="855" y="1656"/>
                      </a:lnTo>
                      <a:lnTo>
                        <a:pt x="833" y="1785"/>
                      </a:lnTo>
                      <a:lnTo>
                        <a:pt x="801" y="1888"/>
                      </a:lnTo>
                      <a:lnTo>
                        <a:pt x="744" y="2036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8339040" y="4947840"/>
                  <a:ext cx="434520" cy="1094760"/>
                </a:xfrm>
                <a:custGeom>
                  <a:avLst/>
                  <a:gdLst/>
                  <a:ahLst/>
                  <a:rect l="l" t="t" r="r" b="b"/>
                  <a:pathLst>
                    <a:path w="952" h="1986">
                      <a:moveTo>
                        <a:pt x="0" y="0"/>
                      </a:moveTo>
                      <a:lnTo>
                        <a:pt x="120" y="80"/>
                      </a:lnTo>
                      <a:lnTo>
                        <a:pt x="262" y="183"/>
                      </a:lnTo>
                      <a:lnTo>
                        <a:pt x="391" y="283"/>
                      </a:lnTo>
                      <a:lnTo>
                        <a:pt x="556" y="419"/>
                      </a:lnTo>
                      <a:lnTo>
                        <a:pt x="716" y="562"/>
                      </a:lnTo>
                      <a:lnTo>
                        <a:pt x="845" y="690"/>
                      </a:lnTo>
                      <a:lnTo>
                        <a:pt x="929" y="830"/>
                      </a:lnTo>
                      <a:lnTo>
                        <a:pt x="938" y="954"/>
                      </a:lnTo>
                      <a:lnTo>
                        <a:pt x="952" y="1090"/>
                      </a:lnTo>
                      <a:lnTo>
                        <a:pt x="934" y="1218"/>
                      </a:lnTo>
                      <a:lnTo>
                        <a:pt x="899" y="1355"/>
                      </a:lnTo>
                      <a:lnTo>
                        <a:pt x="867" y="1495"/>
                      </a:lnTo>
                      <a:lnTo>
                        <a:pt x="831" y="1633"/>
                      </a:lnTo>
                      <a:lnTo>
                        <a:pt x="796" y="1763"/>
                      </a:lnTo>
                      <a:lnTo>
                        <a:pt x="742" y="1869"/>
                      </a:lnTo>
                      <a:lnTo>
                        <a:pt x="676" y="1986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7909560" y="4902480"/>
                  <a:ext cx="48960" cy="1157760"/>
                </a:xfrm>
                <a:custGeom>
                  <a:avLst/>
                  <a:gdLst/>
                  <a:ahLst/>
                  <a:rect l="l" t="t" r="r" b="b"/>
                  <a:pathLst>
                    <a:path w="107" h="2101">
                      <a:moveTo>
                        <a:pt x="90" y="0"/>
                      </a:moveTo>
                      <a:lnTo>
                        <a:pt x="95" y="62"/>
                      </a:lnTo>
                      <a:lnTo>
                        <a:pt x="99" y="161"/>
                      </a:lnTo>
                      <a:lnTo>
                        <a:pt x="99" y="279"/>
                      </a:lnTo>
                      <a:lnTo>
                        <a:pt x="103" y="392"/>
                      </a:lnTo>
                      <a:lnTo>
                        <a:pt x="107" y="510"/>
                      </a:lnTo>
                      <a:lnTo>
                        <a:pt x="107" y="635"/>
                      </a:lnTo>
                      <a:lnTo>
                        <a:pt x="107" y="784"/>
                      </a:lnTo>
                      <a:lnTo>
                        <a:pt x="107" y="931"/>
                      </a:lnTo>
                      <a:lnTo>
                        <a:pt x="103" y="1035"/>
                      </a:lnTo>
                      <a:lnTo>
                        <a:pt x="99" y="1172"/>
                      </a:lnTo>
                      <a:lnTo>
                        <a:pt x="81" y="1298"/>
                      </a:lnTo>
                      <a:lnTo>
                        <a:pt x="77" y="1441"/>
                      </a:lnTo>
                      <a:lnTo>
                        <a:pt x="64" y="1586"/>
                      </a:lnTo>
                      <a:lnTo>
                        <a:pt x="50" y="1716"/>
                      </a:lnTo>
                      <a:lnTo>
                        <a:pt x="46" y="1841"/>
                      </a:lnTo>
                      <a:lnTo>
                        <a:pt x="28" y="1982"/>
                      </a:lnTo>
                      <a:lnTo>
                        <a:pt x="0" y="2101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7929000" y="4896720"/>
                  <a:ext cx="93960" cy="1161360"/>
                </a:xfrm>
                <a:custGeom>
                  <a:avLst/>
                  <a:gdLst/>
                  <a:ahLst/>
                  <a:rect l="l" t="t" r="r" b="b"/>
                  <a:pathLst>
                    <a:path w="204" h="2106">
                      <a:moveTo>
                        <a:pt x="71" y="0"/>
                      </a:moveTo>
                      <a:lnTo>
                        <a:pt x="89" y="57"/>
                      </a:lnTo>
                      <a:lnTo>
                        <a:pt x="111" y="156"/>
                      </a:lnTo>
                      <a:lnTo>
                        <a:pt x="137" y="273"/>
                      </a:lnTo>
                      <a:lnTo>
                        <a:pt x="150" y="378"/>
                      </a:lnTo>
                      <a:lnTo>
                        <a:pt x="168" y="504"/>
                      </a:lnTo>
                      <a:lnTo>
                        <a:pt x="186" y="638"/>
                      </a:lnTo>
                      <a:lnTo>
                        <a:pt x="200" y="789"/>
                      </a:lnTo>
                      <a:lnTo>
                        <a:pt x="204" y="921"/>
                      </a:lnTo>
                      <a:lnTo>
                        <a:pt x="200" y="1057"/>
                      </a:lnTo>
                      <a:lnTo>
                        <a:pt x="182" y="1190"/>
                      </a:lnTo>
                      <a:lnTo>
                        <a:pt x="168" y="1322"/>
                      </a:lnTo>
                      <a:lnTo>
                        <a:pt x="150" y="1454"/>
                      </a:lnTo>
                      <a:lnTo>
                        <a:pt x="123" y="1595"/>
                      </a:lnTo>
                      <a:lnTo>
                        <a:pt x="97" y="1730"/>
                      </a:lnTo>
                      <a:lnTo>
                        <a:pt x="71" y="1855"/>
                      </a:lnTo>
                      <a:lnTo>
                        <a:pt x="39" y="1987"/>
                      </a:lnTo>
                      <a:lnTo>
                        <a:pt x="0" y="2106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7941240" y="4894200"/>
                  <a:ext cx="128880" cy="1163880"/>
                </a:xfrm>
                <a:custGeom>
                  <a:avLst/>
                  <a:gdLst/>
                  <a:ahLst/>
                  <a:rect l="l" t="t" r="r" b="b"/>
                  <a:pathLst>
                    <a:path w="285" h="2110">
                      <a:moveTo>
                        <a:pt x="71" y="0"/>
                      </a:moveTo>
                      <a:lnTo>
                        <a:pt x="103" y="72"/>
                      </a:lnTo>
                      <a:lnTo>
                        <a:pt x="142" y="156"/>
                      </a:lnTo>
                      <a:lnTo>
                        <a:pt x="186" y="273"/>
                      </a:lnTo>
                      <a:lnTo>
                        <a:pt x="222" y="397"/>
                      </a:lnTo>
                      <a:lnTo>
                        <a:pt x="244" y="519"/>
                      </a:lnTo>
                      <a:lnTo>
                        <a:pt x="262" y="642"/>
                      </a:lnTo>
                      <a:lnTo>
                        <a:pt x="279" y="799"/>
                      </a:lnTo>
                      <a:lnTo>
                        <a:pt x="285" y="930"/>
                      </a:lnTo>
                      <a:lnTo>
                        <a:pt x="285" y="1068"/>
                      </a:lnTo>
                      <a:lnTo>
                        <a:pt x="275" y="1190"/>
                      </a:lnTo>
                      <a:lnTo>
                        <a:pt x="257" y="1317"/>
                      </a:lnTo>
                      <a:lnTo>
                        <a:pt x="231" y="1450"/>
                      </a:lnTo>
                      <a:lnTo>
                        <a:pt x="196" y="1595"/>
                      </a:lnTo>
                      <a:lnTo>
                        <a:pt x="156" y="1736"/>
                      </a:lnTo>
                      <a:lnTo>
                        <a:pt x="120" y="1855"/>
                      </a:lnTo>
                      <a:lnTo>
                        <a:pt x="71" y="1983"/>
                      </a:lnTo>
                      <a:lnTo>
                        <a:pt x="0" y="2110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7968960" y="4892760"/>
                  <a:ext cx="164160" cy="1152000"/>
                </a:xfrm>
                <a:custGeom>
                  <a:avLst/>
                  <a:gdLst/>
                  <a:ahLst/>
                  <a:rect l="l" t="t" r="r" b="b"/>
                  <a:pathLst>
                    <a:path w="355" h="2091">
                      <a:moveTo>
                        <a:pt x="26" y="0"/>
                      </a:moveTo>
                      <a:lnTo>
                        <a:pt x="79" y="69"/>
                      </a:lnTo>
                      <a:lnTo>
                        <a:pt x="141" y="174"/>
                      </a:lnTo>
                      <a:lnTo>
                        <a:pt x="186" y="254"/>
                      </a:lnTo>
                      <a:lnTo>
                        <a:pt x="230" y="357"/>
                      </a:lnTo>
                      <a:lnTo>
                        <a:pt x="279" y="489"/>
                      </a:lnTo>
                      <a:lnTo>
                        <a:pt x="311" y="641"/>
                      </a:lnTo>
                      <a:lnTo>
                        <a:pt x="337" y="807"/>
                      </a:lnTo>
                      <a:lnTo>
                        <a:pt x="351" y="933"/>
                      </a:lnTo>
                      <a:lnTo>
                        <a:pt x="355" y="1061"/>
                      </a:lnTo>
                      <a:lnTo>
                        <a:pt x="333" y="1202"/>
                      </a:lnTo>
                      <a:lnTo>
                        <a:pt x="315" y="1325"/>
                      </a:lnTo>
                      <a:lnTo>
                        <a:pt x="279" y="1462"/>
                      </a:lnTo>
                      <a:lnTo>
                        <a:pt x="230" y="1594"/>
                      </a:lnTo>
                      <a:lnTo>
                        <a:pt x="181" y="1738"/>
                      </a:lnTo>
                      <a:lnTo>
                        <a:pt x="129" y="1858"/>
                      </a:lnTo>
                      <a:lnTo>
                        <a:pt x="66" y="1972"/>
                      </a:lnTo>
                      <a:lnTo>
                        <a:pt x="0" y="2091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7989840" y="4892760"/>
                  <a:ext cx="196920" cy="1142280"/>
                </a:xfrm>
                <a:custGeom>
                  <a:avLst/>
                  <a:gdLst/>
                  <a:ahLst/>
                  <a:rect l="l" t="t" r="r" b="b"/>
                  <a:pathLst>
                    <a:path w="432" h="2072">
                      <a:moveTo>
                        <a:pt x="8" y="0"/>
                      </a:moveTo>
                      <a:lnTo>
                        <a:pt x="71" y="70"/>
                      </a:lnTo>
                      <a:lnTo>
                        <a:pt x="142" y="164"/>
                      </a:lnTo>
                      <a:lnTo>
                        <a:pt x="200" y="269"/>
                      </a:lnTo>
                      <a:lnTo>
                        <a:pt x="253" y="363"/>
                      </a:lnTo>
                      <a:lnTo>
                        <a:pt x="315" y="495"/>
                      </a:lnTo>
                      <a:lnTo>
                        <a:pt x="364" y="638"/>
                      </a:lnTo>
                      <a:lnTo>
                        <a:pt x="414" y="807"/>
                      </a:lnTo>
                      <a:lnTo>
                        <a:pt x="426" y="934"/>
                      </a:lnTo>
                      <a:lnTo>
                        <a:pt x="432" y="1057"/>
                      </a:lnTo>
                      <a:lnTo>
                        <a:pt x="414" y="1189"/>
                      </a:lnTo>
                      <a:lnTo>
                        <a:pt x="382" y="1321"/>
                      </a:lnTo>
                      <a:lnTo>
                        <a:pt x="333" y="1473"/>
                      </a:lnTo>
                      <a:lnTo>
                        <a:pt x="267" y="1615"/>
                      </a:lnTo>
                      <a:lnTo>
                        <a:pt x="208" y="1744"/>
                      </a:lnTo>
                      <a:lnTo>
                        <a:pt x="137" y="1873"/>
                      </a:lnTo>
                      <a:lnTo>
                        <a:pt x="67" y="1987"/>
                      </a:lnTo>
                      <a:lnTo>
                        <a:pt x="0" y="2072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8007120" y="4892760"/>
                  <a:ext cx="235440" cy="693720"/>
                </a:xfrm>
                <a:custGeom>
                  <a:avLst/>
                  <a:gdLst/>
                  <a:ahLst/>
                  <a:rect l="l" t="t" r="r" b="b"/>
                  <a:pathLst>
                    <a:path w="516" h="1261">
                      <a:moveTo>
                        <a:pt x="0" y="0"/>
                      </a:moveTo>
                      <a:lnTo>
                        <a:pt x="98" y="94"/>
                      </a:lnTo>
                      <a:lnTo>
                        <a:pt x="179" y="187"/>
                      </a:lnTo>
                      <a:lnTo>
                        <a:pt x="258" y="277"/>
                      </a:lnTo>
                      <a:lnTo>
                        <a:pt x="339" y="386"/>
                      </a:lnTo>
                      <a:lnTo>
                        <a:pt x="401" y="508"/>
                      </a:lnTo>
                      <a:lnTo>
                        <a:pt x="454" y="638"/>
                      </a:lnTo>
                      <a:lnTo>
                        <a:pt x="498" y="807"/>
                      </a:lnTo>
                      <a:lnTo>
                        <a:pt x="516" y="940"/>
                      </a:lnTo>
                      <a:lnTo>
                        <a:pt x="512" y="1066"/>
                      </a:lnTo>
                      <a:lnTo>
                        <a:pt x="490" y="1261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8028360" y="4892760"/>
                  <a:ext cx="486720" cy="1152000"/>
                </a:xfrm>
                <a:custGeom>
                  <a:avLst/>
                  <a:gdLst/>
                  <a:ahLst/>
                  <a:rect l="l" t="t" r="r" b="b"/>
                  <a:pathLst>
                    <a:path w="1064" h="2091">
                      <a:moveTo>
                        <a:pt x="0" y="0"/>
                      </a:moveTo>
                      <a:lnTo>
                        <a:pt x="97" y="69"/>
                      </a:lnTo>
                      <a:lnTo>
                        <a:pt x="182" y="145"/>
                      </a:lnTo>
                      <a:lnTo>
                        <a:pt x="301" y="277"/>
                      </a:lnTo>
                      <a:lnTo>
                        <a:pt x="386" y="394"/>
                      </a:lnTo>
                      <a:lnTo>
                        <a:pt x="466" y="522"/>
                      </a:lnTo>
                      <a:lnTo>
                        <a:pt x="523" y="660"/>
                      </a:lnTo>
                      <a:lnTo>
                        <a:pt x="569" y="797"/>
                      </a:lnTo>
                      <a:lnTo>
                        <a:pt x="595" y="935"/>
                      </a:lnTo>
                      <a:lnTo>
                        <a:pt x="599" y="1052"/>
                      </a:lnTo>
                      <a:lnTo>
                        <a:pt x="610" y="1184"/>
                      </a:lnTo>
                      <a:lnTo>
                        <a:pt x="636" y="1317"/>
                      </a:lnTo>
                      <a:lnTo>
                        <a:pt x="681" y="1457"/>
                      </a:lnTo>
                      <a:lnTo>
                        <a:pt x="747" y="1598"/>
                      </a:lnTo>
                      <a:lnTo>
                        <a:pt x="806" y="1729"/>
                      </a:lnTo>
                      <a:lnTo>
                        <a:pt x="876" y="1844"/>
                      </a:lnTo>
                      <a:lnTo>
                        <a:pt x="965" y="1976"/>
                      </a:lnTo>
                      <a:lnTo>
                        <a:pt x="1064" y="2091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8059320" y="4894200"/>
                  <a:ext cx="484920" cy="1155960"/>
                </a:xfrm>
                <a:custGeom>
                  <a:avLst/>
                  <a:gdLst/>
                  <a:ahLst/>
                  <a:rect l="l" t="t" r="r" b="b"/>
                  <a:pathLst>
                    <a:path w="1064" h="2097">
                      <a:moveTo>
                        <a:pt x="0" y="0"/>
                      </a:moveTo>
                      <a:lnTo>
                        <a:pt x="139" y="90"/>
                      </a:lnTo>
                      <a:lnTo>
                        <a:pt x="240" y="183"/>
                      </a:lnTo>
                      <a:lnTo>
                        <a:pt x="361" y="311"/>
                      </a:lnTo>
                      <a:lnTo>
                        <a:pt x="444" y="420"/>
                      </a:lnTo>
                      <a:lnTo>
                        <a:pt x="529" y="554"/>
                      </a:lnTo>
                      <a:lnTo>
                        <a:pt x="588" y="686"/>
                      </a:lnTo>
                      <a:lnTo>
                        <a:pt x="634" y="822"/>
                      </a:lnTo>
                      <a:lnTo>
                        <a:pt x="660" y="959"/>
                      </a:lnTo>
                      <a:lnTo>
                        <a:pt x="664" y="1076"/>
                      </a:lnTo>
                      <a:lnTo>
                        <a:pt x="673" y="1209"/>
                      </a:lnTo>
                      <a:lnTo>
                        <a:pt x="699" y="1341"/>
                      </a:lnTo>
                      <a:lnTo>
                        <a:pt x="745" y="1482"/>
                      </a:lnTo>
                      <a:lnTo>
                        <a:pt x="784" y="1601"/>
                      </a:lnTo>
                      <a:lnTo>
                        <a:pt x="838" y="1730"/>
                      </a:lnTo>
                      <a:lnTo>
                        <a:pt x="886" y="1850"/>
                      </a:lnTo>
                      <a:lnTo>
                        <a:pt x="953" y="1958"/>
                      </a:lnTo>
                      <a:lnTo>
                        <a:pt x="1064" y="2097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7466040" y="4912200"/>
                  <a:ext cx="382320" cy="1149840"/>
                </a:xfrm>
                <a:custGeom>
                  <a:avLst/>
                  <a:gdLst/>
                  <a:ahLst/>
                  <a:rect l="l" t="t" r="r" b="b"/>
                  <a:pathLst>
                    <a:path w="836" h="2087">
                      <a:moveTo>
                        <a:pt x="836" y="0"/>
                      </a:moveTo>
                      <a:lnTo>
                        <a:pt x="743" y="103"/>
                      </a:lnTo>
                      <a:lnTo>
                        <a:pt x="640" y="239"/>
                      </a:lnTo>
                      <a:lnTo>
                        <a:pt x="565" y="357"/>
                      </a:lnTo>
                      <a:lnTo>
                        <a:pt x="489" y="495"/>
                      </a:lnTo>
                      <a:lnTo>
                        <a:pt x="432" y="618"/>
                      </a:lnTo>
                      <a:lnTo>
                        <a:pt x="364" y="759"/>
                      </a:lnTo>
                      <a:lnTo>
                        <a:pt x="325" y="896"/>
                      </a:lnTo>
                      <a:lnTo>
                        <a:pt x="311" y="1015"/>
                      </a:lnTo>
                      <a:lnTo>
                        <a:pt x="289" y="1151"/>
                      </a:lnTo>
                      <a:lnTo>
                        <a:pt x="271" y="1288"/>
                      </a:lnTo>
                      <a:lnTo>
                        <a:pt x="235" y="1429"/>
                      </a:lnTo>
                      <a:lnTo>
                        <a:pt x="205" y="1561"/>
                      </a:lnTo>
                      <a:lnTo>
                        <a:pt x="170" y="1699"/>
                      </a:lnTo>
                      <a:lnTo>
                        <a:pt x="138" y="1819"/>
                      </a:lnTo>
                      <a:lnTo>
                        <a:pt x="94" y="1915"/>
                      </a:lnTo>
                      <a:lnTo>
                        <a:pt x="49" y="1995"/>
                      </a:lnTo>
                      <a:lnTo>
                        <a:pt x="0" y="2087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7665120" y="4898520"/>
                  <a:ext cx="219600" cy="669960"/>
                </a:xfrm>
                <a:custGeom>
                  <a:avLst/>
                  <a:gdLst/>
                  <a:ahLst/>
                  <a:rect l="l" t="t" r="r" b="b"/>
                  <a:pathLst>
                    <a:path w="480" h="1214">
                      <a:moveTo>
                        <a:pt x="480" y="0"/>
                      </a:moveTo>
                      <a:lnTo>
                        <a:pt x="356" y="156"/>
                      </a:lnTo>
                      <a:lnTo>
                        <a:pt x="276" y="273"/>
                      </a:lnTo>
                      <a:lnTo>
                        <a:pt x="222" y="382"/>
                      </a:lnTo>
                      <a:lnTo>
                        <a:pt x="156" y="514"/>
                      </a:lnTo>
                      <a:lnTo>
                        <a:pt x="97" y="657"/>
                      </a:lnTo>
                      <a:lnTo>
                        <a:pt x="49" y="789"/>
                      </a:lnTo>
                      <a:lnTo>
                        <a:pt x="14" y="927"/>
                      </a:lnTo>
                      <a:lnTo>
                        <a:pt x="4" y="1030"/>
                      </a:lnTo>
                      <a:lnTo>
                        <a:pt x="0" y="1214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7726320" y="4896720"/>
                  <a:ext cx="177840" cy="1159560"/>
                </a:xfrm>
                <a:custGeom>
                  <a:avLst/>
                  <a:gdLst/>
                  <a:ahLst/>
                  <a:rect l="l" t="t" r="r" b="b"/>
                  <a:pathLst>
                    <a:path w="392" h="2102">
                      <a:moveTo>
                        <a:pt x="392" y="0"/>
                      </a:moveTo>
                      <a:lnTo>
                        <a:pt x="351" y="57"/>
                      </a:lnTo>
                      <a:lnTo>
                        <a:pt x="285" y="156"/>
                      </a:lnTo>
                      <a:lnTo>
                        <a:pt x="218" y="269"/>
                      </a:lnTo>
                      <a:lnTo>
                        <a:pt x="160" y="391"/>
                      </a:lnTo>
                      <a:lnTo>
                        <a:pt x="111" y="525"/>
                      </a:lnTo>
                      <a:lnTo>
                        <a:pt x="67" y="662"/>
                      </a:lnTo>
                      <a:lnTo>
                        <a:pt x="27" y="789"/>
                      </a:lnTo>
                      <a:lnTo>
                        <a:pt x="9" y="912"/>
                      </a:lnTo>
                      <a:lnTo>
                        <a:pt x="0" y="1049"/>
                      </a:lnTo>
                      <a:lnTo>
                        <a:pt x="5" y="1181"/>
                      </a:lnTo>
                      <a:lnTo>
                        <a:pt x="17" y="1307"/>
                      </a:lnTo>
                      <a:lnTo>
                        <a:pt x="49" y="1458"/>
                      </a:lnTo>
                      <a:lnTo>
                        <a:pt x="80" y="1590"/>
                      </a:lnTo>
                      <a:lnTo>
                        <a:pt x="111" y="1740"/>
                      </a:lnTo>
                      <a:lnTo>
                        <a:pt x="160" y="1859"/>
                      </a:lnTo>
                      <a:lnTo>
                        <a:pt x="196" y="1953"/>
                      </a:lnTo>
                      <a:lnTo>
                        <a:pt x="267" y="2102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7782120" y="4896720"/>
                  <a:ext cx="143280" cy="1159560"/>
                </a:xfrm>
                <a:custGeom>
                  <a:avLst/>
                  <a:gdLst/>
                  <a:ahLst/>
                  <a:rect l="l" t="t" r="r" b="b"/>
                  <a:pathLst>
                    <a:path w="311" h="2102">
                      <a:moveTo>
                        <a:pt x="311" y="0"/>
                      </a:moveTo>
                      <a:lnTo>
                        <a:pt x="275" y="57"/>
                      </a:lnTo>
                      <a:lnTo>
                        <a:pt x="222" y="156"/>
                      </a:lnTo>
                      <a:lnTo>
                        <a:pt x="156" y="283"/>
                      </a:lnTo>
                      <a:lnTo>
                        <a:pt x="120" y="397"/>
                      </a:lnTo>
                      <a:lnTo>
                        <a:pt x="85" y="530"/>
                      </a:lnTo>
                      <a:lnTo>
                        <a:pt x="49" y="648"/>
                      </a:lnTo>
                      <a:lnTo>
                        <a:pt x="27" y="776"/>
                      </a:lnTo>
                      <a:lnTo>
                        <a:pt x="9" y="906"/>
                      </a:lnTo>
                      <a:lnTo>
                        <a:pt x="0" y="1049"/>
                      </a:lnTo>
                      <a:lnTo>
                        <a:pt x="0" y="1171"/>
                      </a:lnTo>
                      <a:lnTo>
                        <a:pt x="13" y="1313"/>
                      </a:lnTo>
                      <a:lnTo>
                        <a:pt x="35" y="1458"/>
                      </a:lnTo>
                      <a:lnTo>
                        <a:pt x="57" y="1590"/>
                      </a:lnTo>
                      <a:lnTo>
                        <a:pt x="71" y="1730"/>
                      </a:lnTo>
                      <a:lnTo>
                        <a:pt x="103" y="1846"/>
                      </a:lnTo>
                      <a:lnTo>
                        <a:pt x="133" y="1953"/>
                      </a:lnTo>
                      <a:lnTo>
                        <a:pt x="174" y="2102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7841520" y="4898520"/>
                  <a:ext cx="92520" cy="1157760"/>
                </a:xfrm>
                <a:custGeom>
                  <a:avLst/>
                  <a:gdLst/>
                  <a:ahLst/>
                  <a:rect l="l" t="t" r="r" b="b"/>
                  <a:pathLst>
                    <a:path w="204" h="2097">
                      <a:moveTo>
                        <a:pt x="204" y="0"/>
                      </a:moveTo>
                      <a:lnTo>
                        <a:pt x="174" y="57"/>
                      </a:lnTo>
                      <a:lnTo>
                        <a:pt x="138" y="161"/>
                      </a:lnTo>
                      <a:lnTo>
                        <a:pt x="102" y="275"/>
                      </a:lnTo>
                      <a:lnTo>
                        <a:pt x="81" y="382"/>
                      </a:lnTo>
                      <a:lnTo>
                        <a:pt x="57" y="526"/>
                      </a:lnTo>
                      <a:lnTo>
                        <a:pt x="39" y="667"/>
                      </a:lnTo>
                      <a:lnTo>
                        <a:pt x="27" y="771"/>
                      </a:lnTo>
                      <a:lnTo>
                        <a:pt x="13" y="903"/>
                      </a:lnTo>
                      <a:lnTo>
                        <a:pt x="0" y="1044"/>
                      </a:lnTo>
                      <a:lnTo>
                        <a:pt x="0" y="1181"/>
                      </a:lnTo>
                      <a:lnTo>
                        <a:pt x="0" y="1304"/>
                      </a:lnTo>
                      <a:lnTo>
                        <a:pt x="9" y="1435"/>
                      </a:lnTo>
                      <a:lnTo>
                        <a:pt x="17" y="1581"/>
                      </a:lnTo>
                      <a:lnTo>
                        <a:pt x="31" y="1712"/>
                      </a:lnTo>
                      <a:lnTo>
                        <a:pt x="53" y="1850"/>
                      </a:lnTo>
                      <a:lnTo>
                        <a:pt x="63" y="1949"/>
                      </a:lnTo>
                      <a:lnTo>
                        <a:pt x="75" y="2097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7890480" y="4898520"/>
                  <a:ext cx="55800" cy="1163880"/>
                </a:xfrm>
                <a:custGeom>
                  <a:avLst/>
                  <a:gdLst/>
                  <a:ahLst/>
                  <a:rect l="l" t="t" r="r" b="b"/>
                  <a:pathLst>
                    <a:path w="120" h="2111">
                      <a:moveTo>
                        <a:pt x="120" y="0"/>
                      </a:moveTo>
                      <a:lnTo>
                        <a:pt x="98" y="66"/>
                      </a:lnTo>
                      <a:lnTo>
                        <a:pt x="71" y="165"/>
                      </a:lnTo>
                      <a:lnTo>
                        <a:pt x="53" y="278"/>
                      </a:lnTo>
                      <a:lnTo>
                        <a:pt x="45" y="382"/>
                      </a:lnTo>
                      <a:lnTo>
                        <a:pt x="45" y="509"/>
                      </a:lnTo>
                      <a:lnTo>
                        <a:pt x="35" y="639"/>
                      </a:lnTo>
                      <a:lnTo>
                        <a:pt x="35" y="771"/>
                      </a:lnTo>
                      <a:lnTo>
                        <a:pt x="31" y="893"/>
                      </a:lnTo>
                      <a:lnTo>
                        <a:pt x="27" y="1029"/>
                      </a:lnTo>
                      <a:lnTo>
                        <a:pt x="23" y="1176"/>
                      </a:lnTo>
                      <a:lnTo>
                        <a:pt x="13" y="1308"/>
                      </a:lnTo>
                      <a:lnTo>
                        <a:pt x="13" y="1445"/>
                      </a:lnTo>
                      <a:lnTo>
                        <a:pt x="13" y="1585"/>
                      </a:lnTo>
                      <a:lnTo>
                        <a:pt x="9" y="1720"/>
                      </a:lnTo>
                      <a:lnTo>
                        <a:pt x="13" y="1841"/>
                      </a:lnTo>
                      <a:lnTo>
                        <a:pt x="9" y="1959"/>
                      </a:lnTo>
                      <a:lnTo>
                        <a:pt x="0" y="2111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7206120" y="4898520"/>
                  <a:ext cx="174240" cy="1153800"/>
                </a:xfrm>
                <a:custGeom>
                  <a:avLst/>
                  <a:gdLst/>
                  <a:ahLst/>
                  <a:rect l="l" t="t" r="r" b="b"/>
                  <a:pathLst>
                    <a:path w="383" h="2088">
                      <a:moveTo>
                        <a:pt x="0" y="0"/>
                      </a:moveTo>
                      <a:lnTo>
                        <a:pt x="14" y="52"/>
                      </a:lnTo>
                      <a:lnTo>
                        <a:pt x="32" y="161"/>
                      </a:lnTo>
                      <a:lnTo>
                        <a:pt x="45" y="274"/>
                      </a:lnTo>
                      <a:lnTo>
                        <a:pt x="71" y="425"/>
                      </a:lnTo>
                      <a:lnTo>
                        <a:pt x="85" y="643"/>
                      </a:lnTo>
                      <a:lnTo>
                        <a:pt x="95" y="775"/>
                      </a:lnTo>
                      <a:lnTo>
                        <a:pt x="100" y="903"/>
                      </a:lnTo>
                      <a:lnTo>
                        <a:pt x="104" y="1029"/>
                      </a:lnTo>
                      <a:lnTo>
                        <a:pt x="113" y="1166"/>
                      </a:lnTo>
                      <a:lnTo>
                        <a:pt x="128" y="1299"/>
                      </a:lnTo>
                      <a:lnTo>
                        <a:pt x="150" y="1437"/>
                      </a:lnTo>
                      <a:lnTo>
                        <a:pt x="185" y="1582"/>
                      </a:lnTo>
                      <a:lnTo>
                        <a:pt x="217" y="1726"/>
                      </a:lnTo>
                      <a:lnTo>
                        <a:pt x="252" y="1839"/>
                      </a:lnTo>
                      <a:lnTo>
                        <a:pt x="303" y="1947"/>
                      </a:lnTo>
                      <a:lnTo>
                        <a:pt x="383" y="2088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7213320" y="4902480"/>
                  <a:ext cx="193320" cy="1163880"/>
                </a:xfrm>
                <a:custGeom>
                  <a:avLst/>
                  <a:gdLst/>
                  <a:ahLst/>
                  <a:rect l="l" t="t" r="r" b="b"/>
                  <a:pathLst>
                    <a:path w="423" h="2111">
                      <a:moveTo>
                        <a:pt x="0" y="0"/>
                      </a:moveTo>
                      <a:lnTo>
                        <a:pt x="45" y="76"/>
                      </a:lnTo>
                      <a:lnTo>
                        <a:pt x="82" y="147"/>
                      </a:lnTo>
                      <a:lnTo>
                        <a:pt x="117" y="260"/>
                      </a:lnTo>
                      <a:lnTo>
                        <a:pt x="175" y="510"/>
                      </a:lnTo>
                      <a:lnTo>
                        <a:pt x="187" y="635"/>
                      </a:lnTo>
                      <a:lnTo>
                        <a:pt x="201" y="771"/>
                      </a:lnTo>
                      <a:lnTo>
                        <a:pt x="215" y="912"/>
                      </a:lnTo>
                      <a:lnTo>
                        <a:pt x="223" y="1044"/>
                      </a:lnTo>
                      <a:lnTo>
                        <a:pt x="223" y="1162"/>
                      </a:lnTo>
                      <a:lnTo>
                        <a:pt x="237" y="1301"/>
                      </a:lnTo>
                      <a:lnTo>
                        <a:pt x="251" y="1446"/>
                      </a:lnTo>
                      <a:lnTo>
                        <a:pt x="272" y="1583"/>
                      </a:lnTo>
                      <a:lnTo>
                        <a:pt x="290" y="1708"/>
                      </a:lnTo>
                      <a:lnTo>
                        <a:pt x="316" y="1844"/>
                      </a:lnTo>
                      <a:lnTo>
                        <a:pt x="352" y="1943"/>
                      </a:lnTo>
                      <a:lnTo>
                        <a:pt x="423" y="2111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7230600" y="4904280"/>
                  <a:ext cx="191880" cy="1157760"/>
                </a:xfrm>
                <a:custGeom>
                  <a:avLst/>
                  <a:gdLst/>
                  <a:ahLst/>
                  <a:rect l="l" t="t" r="r" b="b"/>
                  <a:pathLst>
                    <a:path w="419" h="2101">
                      <a:moveTo>
                        <a:pt x="0" y="0"/>
                      </a:moveTo>
                      <a:lnTo>
                        <a:pt x="55" y="84"/>
                      </a:lnTo>
                      <a:lnTo>
                        <a:pt x="108" y="174"/>
                      </a:lnTo>
                      <a:lnTo>
                        <a:pt x="153" y="277"/>
                      </a:lnTo>
                      <a:lnTo>
                        <a:pt x="193" y="372"/>
                      </a:lnTo>
                      <a:lnTo>
                        <a:pt x="225" y="489"/>
                      </a:lnTo>
                      <a:lnTo>
                        <a:pt x="260" y="656"/>
                      </a:lnTo>
                      <a:lnTo>
                        <a:pt x="282" y="788"/>
                      </a:lnTo>
                      <a:lnTo>
                        <a:pt x="300" y="887"/>
                      </a:lnTo>
                      <a:lnTo>
                        <a:pt x="318" y="1038"/>
                      </a:lnTo>
                      <a:lnTo>
                        <a:pt x="318" y="1162"/>
                      </a:lnTo>
                      <a:lnTo>
                        <a:pt x="312" y="1313"/>
                      </a:lnTo>
                      <a:lnTo>
                        <a:pt x="322" y="1440"/>
                      </a:lnTo>
                      <a:lnTo>
                        <a:pt x="322" y="1572"/>
                      </a:lnTo>
                      <a:lnTo>
                        <a:pt x="330" y="1706"/>
                      </a:lnTo>
                      <a:lnTo>
                        <a:pt x="344" y="1828"/>
                      </a:lnTo>
                      <a:lnTo>
                        <a:pt x="366" y="1937"/>
                      </a:lnTo>
                      <a:lnTo>
                        <a:pt x="389" y="2024"/>
                      </a:lnTo>
                      <a:lnTo>
                        <a:pt x="419" y="2101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7246080" y="4906440"/>
                  <a:ext cx="188640" cy="1155600"/>
                </a:xfrm>
                <a:custGeom>
                  <a:avLst/>
                  <a:gdLst/>
                  <a:ahLst/>
                  <a:rect l="l" t="t" r="r" b="b"/>
                  <a:pathLst>
                    <a:path w="410" h="2101">
                      <a:moveTo>
                        <a:pt x="0" y="0"/>
                      </a:moveTo>
                      <a:lnTo>
                        <a:pt x="63" y="65"/>
                      </a:lnTo>
                      <a:lnTo>
                        <a:pt x="116" y="136"/>
                      </a:lnTo>
                      <a:lnTo>
                        <a:pt x="186" y="250"/>
                      </a:lnTo>
                      <a:lnTo>
                        <a:pt x="235" y="367"/>
                      </a:lnTo>
                      <a:lnTo>
                        <a:pt x="289" y="499"/>
                      </a:lnTo>
                      <a:lnTo>
                        <a:pt x="333" y="633"/>
                      </a:lnTo>
                      <a:lnTo>
                        <a:pt x="364" y="774"/>
                      </a:lnTo>
                      <a:lnTo>
                        <a:pt x="386" y="902"/>
                      </a:lnTo>
                      <a:lnTo>
                        <a:pt x="396" y="1029"/>
                      </a:lnTo>
                      <a:lnTo>
                        <a:pt x="396" y="1151"/>
                      </a:lnTo>
                      <a:lnTo>
                        <a:pt x="396" y="1304"/>
                      </a:lnTo>
                      <a:lnTo>
                        <a:pt x="396" y="1432"/>
                      </a:lnTo>
                      <a:lnTo>
                        <a:pt x="392" y="1572"/>
                      </a:lnTo>
                      <a:lnTo>
                        <a:pt x="386" y="1710"/>
                      </a:lnTo>
                      <a:lnTo>
                        <a:pt x="392" y="1819"/>
                      </a:lnTo>
                      <a:lnTo>
                        <a:pt x="392" y="1928"/>
                      </a:lnTo>
                      <a:lnTo>
                        <a:pt x="396" y="2014"/>
                      </a:lnTo>
                      <a:lnTo>
                        <a:pt x="410" y="2101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7270560" y="4910040"/>
                  <a:ext cx="217800" cy="1157760"/>
                </a:xfrm>
                <a:custGeom>
                  <a:avLst/>
                  <a:gdLst/>
                  <a:ahLst/>
                  <a:rect l="l" t="t" r="r" b="b"/>
                  <a:pathLst>
                    <a:path w="475" h="2101">
                      <a:moveTo>
                        <a:pt x="0" y="0"/>
                      </a:moveTo>
                      <a:lnTo>
                        <a:pt x="66" y="61"/>
                      </a:lnTo>
                      <a:lnTo>
                        <a:pt x="114" y="123"/>
                      </a:lnTo>
                      <a:lnTo>
                        <a:pt x="211" y="259"/>
                      </a:lnTo>
                      <a:lnTo>
                        <a:pt x="269" y="354"/>
                      </a:lnTo>
                      <a:lnTo>
                        <a:pt x="333" y="490"/>
                      </a:lnTo>
                      <a:lnTo>
                        <a:pt x="391" y="633"/>
                      </a:lnTo>
                      <a:lnTo>
                        <a:pt x="440" y="775"/>
                      </a:lnTo>
                      <a:lnTo>
                        <a:pt x="468" y="907"/>
                      </a:lnTo>
                      <a:lnTo>
                        <a:pt x="475" y="1020"/>
                      </a:lnTo>
                      <a:lnTo>
                        <a:pt x="475" y="1153"/>
                      </a:lnTo>
                      <a:lnTo>
                        <a:pt x="472" y="1276"/>
                      </a:lnTo>
                      <a:lnTo>
                        <a:pt x="454" y="1427"/>
                      </a:lnTo>
                      <a:lnTo>
                        <a:pt x="440" y="1549"/>
                      </a:lnTo>
                      <a:lnTo>
                        <a:pt x="427" y="1697"/>
                      </a:lnTo>
                      <a:lnTo>
                        <a:pt x="414" y="1825"/>
                      </a:lnTo>
                      <a:lnTo>
                        <a:pt x="405" y="1924"/>
                      </a:lnTo>
                      <a:lnTo>
                        <a:pt x="391" y="2019"/>
                      </a:lnTo>
                      <a:lnTo>
                        <a:pt x="379" y="2101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6723000" y="4892760"/>
                  <a:ext cx="2107800" cy="1177560"/>
                </a:xfrm>
                <a:custGeom>
                  <a:avLst/>
                  <a:gdLst/>
                  <a:ahLst/>
                  <a:rect l="l" t="t" r="r" b="b"/>
                  <a:pathLst>
                    <a:path w="4613" h="2136">
                      <a:moveTo>
                        <a:pt x="1744" y="315"/>
                      </a:moveTo>
                      <a:lnTo>
                        <a:pt x="1659" y="226"/>
                      </a:lnTo>
                      <a:lnTo>
                        <a:pt x="1570" y="155"/>
                      </a:lnTo>
                      <a:lnTo>
                        <a:pt x="1455" y="94"/>
                      </a:lnTo>
                      <a:lnTo>
                        <a:pt x="1330" y="50"/>
                      </a:lnTo>
                      <a:lnTo>
                        <a:pt x="1215" y="27"/>
                      </a:lnTo>
                      <a:lnTo>
                        <a:pt x="1089" y="13"/>
                      </a:lnTo>
                      <a:lnTo>
                        <a:pt x="982" y="13"/>
                      </a:lnTo>
                      <a:lnTo>
                        <a:pt x="866" y="23"/>
                      </a:lnTo>
                      <a:lnTo>
                        <a:pt x="728" y="65"/>
                      </a:lnTo>
                      <a:lnTo>
                        <a:pt x="617" y="136"/>
                      </a:lnTo>
                      <a:lnTo>
                        <a:pt x="520" y="212"/>
                      </a:lnTo>
                      <a:lnTo>
                        <a:pt x="435" y="287"/>
                      </a:lnTo>
                      <a:lnTo>
                        <a:pt x="345" y="376"/>
                      </a:lnTo>
                      <a:lnTo>
                        <a:pt x="262" y="476"/>
                      </a:lnTo>
                      <a:lnTo>
                        <a:pt x="193" y="572"/>
                      </a:lnTo>
                      <a:lnTo>
                        <a:pt x="130" y="662"/>
                      </a:lnTo>
                      <a:lnTo>
                        <a:pt x="78" y="747"/>
                      </a:lnTo>
                      <a:lnTo>
                        <a:pt x="40" y="826"/>
                      </a:lnTo>
                      <a:lnTo>
                        <a:pt x="12" y="910"/>
                      </a:lnTo>
                      <a:lnTo>
                        <a:pt x="0" y="1023"/>
                      </a:lnTo>
                      <a:lnTo>
                        <a:pt x="0" y="1139"/>
                      </a:lnTo>
                      <a:lnTo>
                        <a:pt x="7" y="1251"/>
                      </a:lnTo>
                      <a:lnTo>
                        <a:pt x="20" y="1354"/>
                      </a:lnTo>
                      <a:lnTo>
                        <a:pt x="34" y="1471"/>
                      </a:lnTo>
                      <a:lnTo>
                        <a:pt x="52" y="1610"/>
                      </a:lnTo>
                      <a:lnTo>
                        <a:pt x="77" y="1748"/>
                      </a:lnTo>
                      <a:lnTo>
                        <a:pt x="105" y="1871"/>
                      </a:lnTo>
                      <a:lnTo>
                        <a:pt x="137" y="1958"/>
                      </a:lnTo>
                      <a:lnTo>
                        <a:pt x="175" y="2025"/>
                      </a:lnTo>
                      <a:lnTo>
                        <a:pt x="221" y="2086"/>
                      </a:lnTo>
                      <a:lnTo>
                        <a:pt x="270" y="2125"/>
                      </a:lnTo>
                      <a:lnTo>
                        <a:pt x="314" y="2128"/>
                      </a:lnTo>
                      <a:lnTo>
                        <a:pt x="399" y="2114"/>
                      </a:lnTo>
                      <a:lnTo>
                        <a:pt x="491" y="2080"/>
                      </a:lnTo>
                      <a:lnTo>
                        <a:pt x="576" y="2038"/>
                      </a:lnTo>
                      <a:lnTo>
                        <a:pt x="637" y="1987"/>
                      </a:lnTo>
                      <a:lnTo>
                        <a:pt x="714" y="1910"/>
                      </a:lnTo>
                      <a:lnTo>
                        <a:pt x="783" y="1818"/>
                      </a:lnTo>
                      <a:lnTo>
                        <a:pt x="849" y="1693"/>
                      </a:lnTo>
                      <a:lnTo>
                        <a:pt x="916" y="1561"/>
                      </a:lnTo>
                      <a:lnTo>
                        <a:pt x="971" y="1441"/>
                      </a:lnTo>
                      <a:lnTo>
                        <a:pt x="1009" y="1338"/>
                      </a:lnTo>
                      <a:lnTo>
                        <a:pt x="1034" y="1256"/>
                      </a:lnTo>
                      <a:lnTo>
                        <a:pt x="1045" y="1184"/>
                      </a:lnTo>
                      <a:lnTo>
                        <a:pt x="1067" y="1366"/>
                      </a:lnTo>
                      <a:lnTo>
                        <a:pt x="1124" y="1571"/>
                      </a:lnTo>
                      <a:lnTo>
                        <a:pt x="1197" y="1799"/>
                      </a:lnTo>
                      <a:lnTo>
                        <a:pt x="1250" y="1905"/>
                      </a:lnTo>
                      <a:lnTo>
                        <a:pt x="1308" y="1996"/>
                      </a:lnTo>
                      <a:lnTo>
                        <a:pt x="1397" y="2082"/>
                      </a:lnTo>
                      <a:lnTo>
                        <a:pt x="1499" y="2128"/>
                      </a:lnTo>
                      <a:lnTo>
                        <a:pt x="1584" y="2136"/>
                      </a:lnTo>
                      <a:lnTo>
                        <a:pt x="1669" y="2120"/>
                      </a:lnTo>
                      <a:lnTo>
                        <a:pt x="1735" y="2072"/>
                      </a:lnTo>
                      <a:lnTo>
                        <a:pt x="1810" y="1977"/>
                      </a:lnTo>
                      <a:lnTo>
                        <a:pt x="1873" y="1845"/>
                      </a:lnTo>
                      <a:lnTo>
                        <a:pt x="1953" y="1633"/>
                      </a:lnTo>
                      <a:lnTo>
                        <a:pt x="2024" y="1424"/>
                      </a:lnTo>
                      <a:lnTo>
                        <a:pt x="2064" y="1216"/>
                      </a:lnTo>
                      <a:lnTo>
                        <a:pt x="2086" y="1408"/>
                      </a:lnTo>
                      <a:lnTo>
                        <a:pt x="2139" y="1594"/>
                      </a:lnTo>
                      <a:lnTo>
                        <a:pt x="2188" y="1738"/>
                      </a:lnTo>
                      <a:lnTo>
                        <a:pt x="2242" y="1863"/>
                      </a:lnTo>
                      <a:lnTo>
                        <a:pt x="2309" y="1969"/>
                      </a:lnTo>
                      <a:lnTo>
                        <a:pt x="2367" y="2051"/>
                      </a:lnTo>
                      <a:lnTo>
                        <a:pt x="2450" y="2105"/>
                      </a:lnTo>
                      <a:lnTo>
                        <a:pt x="2561" y="2124"/>
                      </a:lnTo>
                      <a:lnTo>
                        <a:pt x="2674" y="2114"/>
                      </a:lnTo>
                      <a:lnTo>
                        <a:pt x="2771" y="2080"/>
                      </a:lnTo>
                      <a:lnTo>
                        <a:pt x="2855" y="2025"/>
                      </a:lnTo>
                      <a:lnTo>
                        <a:pt x="2940" y="1944"/>
                      </a:lnTo>
                      <a:lnTo>
                        <a:pt x="3025" y="1829"/>
                      </a:lnTo>
                      <a:lnTo>
                        <a:pt x="3104" y="1709"/>
                      </a:lnTo>
                      <a:lnTo>
                        <a:pt x="3172" y="1592"/>
                      </a:lnTo>
                      <a:lnTo>
                        <a:pt x="3229" y="1485"/>
                      </a:lnTo>
                      <a:lnTo>
                        <a:pt x="3269" y="1382"/>
                      </a:lnTo>
                      <a:lnTo>
                        <a:pt x="3305" y="1250"/>
                      </a:lnTo>
                      <a:lnTo>
                        <a:pt x="3362" y="1386"/>
                      </a:lnTo>
                      <a:lnTo>
                        <a:pt x="3420" y="1527"/>
                      </a:lnTo>
                      <a:lnTo>
                        <a:pt x="3493" y="1662"/>
                      </a:lnTo>
                      <a:lnTo>
                        <a:pt x="3546" y="1764"/>
                      </a:lnTo>
                      <a:lnTo>
                        <a:pt x="3627" y="1874"/>
                      </a:lnTo>
                      <a:lnTo>
                        <a:pt x="3724" y="1976"/>
                      </a:lnTo>
                      <a:lnTo>
                        <a:pt x="3831" y="2057"/>
                      </a:lnTo>
                      <a:lnTo>
                        <a:pt x="3956" y="2104"/>
                      </a:lnTo>
                      <a:lnTo>
                        <a:pt x="4093" y="2128"/>
                      </a:lnTo>
                      <a:lnTo>
                        <a:pt x="4196" y="2095"/>
                      </a:lnTo>
                      <a:lnTo>
                        <a:pt x="4280" y="2034"/>
                      </a:lnTo>
                      <a:lnTo>
                        <a:pt x="4362" y="1915"/>
                      </a:lnTo>
                      <a:lnTo>
                        <a:pt x="4436" y="1789"/>
                      </a:lnTo>
                      <a:lnTo>
                        <a:pt x="4489" y="1648"/>
                      </a:lnTo>
                      <a:lnTo>
                        <a:pt x="4543" y="1481"/>
                      </a:lnTo>
                      <a:lnTo>
                        <a:pt x="4584" y="1333"/>
                      </a:lnTo>
                      <a:lnTo>
                        <a:pt x="4605" y="1203"/>
                      </a:lnTo>
                      <a:lnTo>
                        <a:pt x="4613" y="1052"/>
                      </a:lnTo>
                      <a:lnTo>
                        <a:pt x="4595" y="939"/>
                      </a:lnTo>
                      <a:lnTo>
                        <a:pt x="4502" y="792"/>
                      </a:lnTo>
                      <a:lnTo>
                        <a:pt x="4369" y="656"/>
                      </a:lnTo>
                      <a:lnTo>
                        <a:pt x="4196" y="518"/>
                      </a:lnTo>
                      <a:lnTo>
                        <a:pt x="4071" y="428"/>
                      </a:lnTo>
                      <a:lnTo>
                        <a:pt x="4204" y="428"/>
                      </a:lnTo>
                      <a:lnTo>
                        <a:pt x="4121" y="344"/>
                      </a:lnTo>
                      <a:lnTo>
                        <a:pt x="3986" y="262"/>
                      </a:lnTo>
                      <a:lnTo>
                        <a:pt x="3815" y="188"/>
                      </a:lnTo>
                      <a:lnTo>
                        <a:pt x="3639" y="126"/>
                      </a:lnTo>
                      <a:lnTo>
                        <a:pt x="3472" y="79"/>
                      </a:lnTo>
                      <a:lnTo>
                        <a:pt x="3296" y="42"/>
                      </a:lnTo>
                      <a:lnTo>
                        <a:pt x="3124" y="13"/>
                      </a:lnTo>
                      <a:lnTo>
                        <a:pt x="2908" y="0"/>
                      </a:lnTo>
                      <a:lnTo>
                        <a:pt x="2718" y="0"/>
                      </a:lnTo>
                      <a:lnTo>
                        <a:pt x="2544" y="8"/>
                      </a:lnTo>
                      <a:lnTo>
                        <a:pt x="2424" y="42"/>
                      </a:lnTo>
                      <a:lnTo>
                        <a:pt x="2317" y="94"/>
                      </a:lnTo>
                      <a:lnTo>
                        <a:pt x="2224" y="164"/>
                      </a:lnTo>
                      <a:lnTo>
                        <a:pt x="2131" y="249"/>
                      </a:lnTo>
                      <a:lnTo>
                        <a:pt x="2077" y="325"/>
                      </a:lnTo>
                      <a:lnTo>
                        <a:pt x="2157" y="325"/>
                      </a:lnTo>
                      <a:lnTo>
                        <a:pt x="2099" y="386"/>
                      </a:lnTo>
                      <a:lnTo>
                        <a:pt x="2042" y="466"/>
                      </a:lnTo>
                      <a:lnTo>
                        <a:pt x="1980" y="561"/>
                      </a:lnTo>
                      <a:lnTo>
                        <a:pt x="1917" y="665"/>
                      </a:lnTo>
                      <a:lnTo>
                        <a:pt x="1863" y="788"/>
                      </a:lnTo>
                      <a:lnTo>
                        <a:pt x="1820" y="948"/>
                      </a:lnTo>
                      <a:lnTo>
                        <a:pt x="1774" y="784"/>
                      </a:lnTo>
                      <a:lnTo>
                        <a:pt x="1726" y="665"/>
                      </a:lnTo>
                      <a:lnTo>
                        <a:pt x="1663" y="534"/>
                      </a:lnTo>
                      <a:lnTo>
                        <a:pt x="1602" y="424"/>
                      </a:lnTo>
                      <a:lnTo>
                        <a:pt x="1516" y="315"/>
                      </a:lnTo>
                      <a:lnTo>
                        <a:pt x="1744" y="315"/>
                      </a:lnTo>
                    </a:path>
                  </a:pathLst>
                </a:custGeom>
                <a:noFill/>
                <a:ln w="79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6811560" y="6022800"/>
                  <a:ext cx="165600" cy="144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11" name=""/>
                <p:cNvGrpSpPr/>
                <p:nvPr/>
              </p:nvGrpSpPr>
              <p:grpSpPr>
                <a:xfrm>
                  <a:off x="6768000" y="5916240"/>
                  <a:ext cx="809640" cy="56880"/>
                  <a:chOff x="6768000" y="5916240"/>
                  <a:chExt cx="809640" cy="56880"/>
                </a:xfrm>
              </p:grpSpPr>
              <p:sp>
                <p:nvSpPr>
                  <p:cNvPr id="2012" name=""/>
                  <p:cNvSpPr/>
                  <p:nvPr/>
                </p:nvSpPr>
                <p:spPr>
                  <a:xfrm>
                    <a:off x="6768000" y="5916240"/>
                    <a:ext cx="302760" cy="72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6785280" y="5972400"/>
                    <a:ext cx="242280" cy="72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7283160" y="5916240"/>
                    <a:ext cx="294480" cy="72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7313400" y="5972400"/>
                    <a:ext cx="244080" cy="72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16" name=""/>
                <p:cNvSpPr/>
                <p:nvPr/>
              </p:nvSpPr>
              <p:spPr>
                <a:xfrm>
                  <a:off x="7675560" y="5621760"/>
                  <a:ext cx="546120" cy="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7682760" y="5694840"/>
                  <a:ext cx="516240" cy="396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7705080" y="5780160"/>
                  <a:ext cx="466200" cy="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7729920" y="5850720"/>
                  <a:ext cx="406440" cy="2160"/>
                </a:xfrm>
                <a:prstGeom prst="line">
                  <a:avLst/>
                </a:prstGeom>
                <a:ln w="792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0" name=""/>
                <p:cNvGrpSpPr/>
                <p:nvPr/>
              </p:nvGrpSpPr>
              <p:grpSpPr>
                <a:xfrm>
                  <a:off x="6783840" y="4894200"/>
                  <a:ext cx="2036160" cy="1173600"/>
                  <a:chOff x="6783840" y="4894200"/>
                  <a:chExt cx="2036160" cy="1173600"/>
                </a:xfrm>
              </p:grpSpPr>
              <p:sp>
                <p:nvSpPr>
                  <p:cNvPr id="2021" name=""/>
                  <p:cNvSpPr/>
                  <p:nvPr/>
                </p:nvSpPr>
                <p:spPr>
                  <a:xfrm>
                    <a:off x="6783840" y="4906440"/>
                    <a:ext cx="325080" cy="11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12" h="2072">
                        <a:moveTo>
                          <a:pt x="712" y="0"/>
                        </a:moveTo>
                        <a:lnTo>
                          <a:pt x="622" y="52"/>
                        </a:lnTo>
                        <a:lnTo>
                          <a:pt x="494" y="141"/>
                        </a:lnTo>
                        <a:lnTo>
                          <a:pt x="387" y="241"/>
                        </a:lnTo>
                        <a:lnTo>
                          <a:pt x="297" y="355"/>
                        </a:lnTo>
                        <a:lnTo>
                          <a:pt x="212" y="485"/>
                        </a:lnTo>
                        <a:lnTo>
                          <a:pt x="125" y="629"/>
                        </a:lnTo>
                        <a:lnTo>
                          <a:pt x="66" y="757"/>
                        </a:lnTo>
                        <a:lnTo>
                          <a:pt x="14" y="893"/>
                        </a:lnTo>
                        <a:lnTo>
                          <a:pt x="0" y="1015"/>
                        </a:lnTo>
                        <a:lnTo>
                          <a:pt x="0" y="1152"/>
                        </a:lnTo>
                        <a:lnTo>
                          <a:pt x="4" y="1280"/>
                        </a:lnTo>
                        <a:lnTo>
                          <a:pt x="14" y="1426"/>
                        </a:lnTo>
                        <a:lnTo>
                          <a:pt x="26" y="1576"/>
                        </a:lnTo>
                        <a:lnTo>
                          <a:pt x="40" y="1711"/>
                        </a:lnTo>
                        <a:lnTo>
                          <a:pt x="48" y="1827"/>
                        </a:lnTo>
                        <a:lnTo>
                          <a:pt x="66" y="1926"/>
                        </a:lnTo>
                        <a:lnTo>
                          <a:pt x="111" y="2072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8158680" y="4901760"/>
                    <a:ext cx="439920" cy="11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963" h="2101">
                        <a:moveTo>
                          <a:pt x="0" y="0"/>
                        </a:moveTo>
                        <a:lnTo>
                          <a:pt x="156" y="89"/>
                        </a:lnTo>
                        <a:lnTo>
                          <a:pt x="263" y="174"/>
                        </a:lnTo>
                        <a:lnTo>
                          <a:pt x="362" y="258"/>
                        </a:lnTo>
                        <a:lnTo>
                          <a:pt x="447" y="367"/>
                        </a:lnTo>
                        <a:lnTo>
                          <a:pt x="553" y="489"/>
                        </a:lnTo>
                        <a:lnTo>
                          <a:pt x="673" y="642"/>
                        </a:lnTo>
                        <a:lnTo>
                          <a:pt x="766" y="784"/>
                        </a:lnTo>
                        <a:lnTo>
                          <a:pt x="816" y="910"/>
                        </a:lnTo>
                        <a:lnTo>
                          <a:pt x="828" y="1034"/>
                        </a:lnTo>
                        <a:lnTo>
                          <a:pt x="824" y="1166"/>
                        </a:lnTo>
                        <a:lnTo>
                          <a:pt x="834" y="1311"/>
                        </a:lnTo>
                        <a:lnTo>
                          <a:pt x="846" y="1448"/>
                        </a:lnTo>
                        <a:lnTo>
                          <a:pt x="856" y="1571"/>
                        </a:lnTo>
                        <a:lnTo>
                          <a:pt x="873" y="1721"/>
                        </a:lnTo>
                        <a:lnTo>
                          <a:pt x="887" y="1848"/>
                        </a:lnTo>
                        <a:lnTo>
                          <a:pt x="917" y="1985"/>
                        </a:lnTo>
                        <a:lnTo>
                          <a:pt x="963" y="2101"/>
                        </a:lnTo>
                      </a:path>
                    </a:pathLst>
                  </a:custGeom>
                  <a:noFill/>
                  <a:ln w="792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>
                    <a:off x="7797960" y="4932720"/>
                    <a:ext cx="457560" cy="1080"/>
                  </a:xfrm>
                  <a:prstGeom prst="line">
                    <a:avLst/>
                  </a:prstGeom>
                  <a:ln w="7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24" name=""/>
                  <p:cNvGrpSpPr/>
                  <p:nvPr/>
                </p:nvGrpSpPr>
                <p:grpSpPr>
                  <a:xfrm>
                    <a:off x="8091360" y="4894200"/>
                    <a:ext cx="728640" cy="1173600"/>
                    <a:chOff x="8091360" y="4894200"/>
                    <a:chExt cx="728640" cy="1173600"/>
                  </a:xfrm>
                </p:grpSpPr>
                <p:sp>
                  <p:nvSpPr>
                    <p:cNvPr id="2025" name=""/>
                    <p:cNvSpPr/>
                    <p:nvPr/>
                  </p:nvSpPr>
                  <p:spPr>
                    <a:xfrm>
                      <a:off x="8091360" y="4894200"/>
                      <a:ext cx="492120" cy="117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8" h="2124">
                          <a:moveTo>
                            <a:pt x="0" y="0"/>
                          </a:moveTo>
                          <a:lnTo>
                            <a:pt x="133" y="90"/>
                          </a:lnTo>
                          <a:lnTo>
                            <a:pt x="253" y="189"/>
                          </a:lnTo>
                          <a:lnTo>
                            <a:pt x="347" y="273"/>
                          </a:lnTo>
                          <a:lnTo>
                            <a:pt x="444" y="390"/>
                          </a:lnTo>
                          <a:lnTo>
                            <a:pt x="535" y="518"/>
                          </a:lnTo>
                          <a:lnTo>
                            <a:pt x="615" y="648"/>
                          </a:lnTo>
                          <a:lnTo>
                            <a:pt x="673" y="788"/>
                          </a:lnTo>
                          <a:lnTo>
                            <a:pt x="709" y="921"/>
                          </a:lnTo>
                          <a:lnTo>
                            <a:pt x="721" y="1044"/>
                          </a:lnTo>
                          <a:lnTo>
                            <a:pt x="727" y="1180"/>
                          </a:lnTo>
                          <a:lnTo>
                            <a:pt x="749" y="1317"/>
                          </a:lnTo>
                          <a:lnTo>
                            <a:pt x="770" y="1449"/>
                          </a:lnTo>
                          <a:lnTo>
                            <a:pt x="802" y="1581"/>
                          </a:lnTo>
                          <a:lnTo>
                            <a:pt x="842" y="1735"/>
                          </a:lnTo>
                          <a:lnTo>
                            <a:pt x="891" y="1850"/>
                          </a:lnTo>
                          <a:lnTo>
                            <a:pt x="971" y="1982"/>
                          </a:lnTo>
                          <a:lnTo>
                            <a:pt x="1078" y="2124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99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"/>
                    <p:cNvSpPr/>
                    <p:nvPr/>
                  </p:nvSpPr>
                  <p:spPr>
                    <a:xfrm>
                      <a:off x="8125920" y="4901760"/>
                      <a:ext cx="469440" cy="11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9" h="2110">
                          <a:moveTo>
                            <a:pt x="0" y="0"/>
                          </a:moveTo>
                          <a:lnTo>
                            <a:pt x="157" y="99"/>
                          </a:lnTo>
                          <a:lnTo>
                            <a:pt x="276" y="187"/>
                          </a:lnTo>
                          <a:lnTo>
                            <a:pt x="365" y="273"/>
                          </a:lnTo>
                          <a:lnTo>
                            <a:pt x="447" y="372"/>
                          </a:lnTo>
                          <a:lnTo>
                            <a:pt x="535" y="489"/>
                          </a:lnTo>
                          <a:lnTo>
                            <a:pt x="642" y="642"/>
                          </a:lnTo>
                          <a:lnTo>
                            <a:pt x="717" y="778"/>
                          </a:lnTo>
                          <a:lnTo>
                            <a:pt x="767" y="921"/>
                          </a:lnTo>
                          <a:lnTo>
                            <a:pt x="771" y="1047"/>
                          </a:lnTo>
                          <a:lnTo>
                            <a:pt x="776" y="1166"/>
                          </a:lnTo>
                          <a:lnTo>
                            <a:pt x="789" y="1284"/>
                          </a:lnTo>
                          <a:lnTo>
                            <a:pt x="802" y="1420"/>
                          </a:lnTo>
                          <a:lnTo>
                            <a:pt x="828" y="1575"/>
                          </a:lnTo>
                          <a:lnTo>
                            <a:pt x="856" y="1711"/>
                          </a:lnTo>
                          <a:lnTo>
                            <a:pt x="882" y="1825"/>
                          </a:lnTo>
                          <a:lnTo>
                            <a:pt x="927" y="1943"/>
                          </a:lnTo>
                          <a:lnTo>
                            <a:pt x="1029" y="211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99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"/>
                    <p:cNvSpPr/>
                    <p:nvPr/>
                  </p:nvSpPr>
                  <p:spPr>
                    <a:xfrm>
                      <a:off x="8199000" y="4908240"/>
                      <a:ext cx="404640" cy="115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6" h="2092">
                          <a:moveTo>
                            <a:pt x="0" y="0"/>
                          </a:moveTo>
                          <a:lnTo>
                            <a:pt x="125" y="71"/>
                          </a:lnTo>
                          <a:lnTo>
                            <a:pt x="218" y="136"/>
                          </a:lnTo>
                          <a:lnTo>
                            <a:pt x="317" y="226"/>
                          </a:lnTo>
                          <a:lnTo>
                            <a:pt x="432" y="339"/>
                          </a:lnTo>
                          <a:lnTo>
                            <a:pt x="567" y="486"/>
                          </a:lnTo>
                          <a:lnTo>
                            <a:pt x="696" y="624"/>
                          </a:lnTo>
                          <a:lnTo>
                            <a:pt x="793" y="760"/>
                          </a:lnTo>
                          <a:lnTo>
                            <a:pt x="856" y="901"/>
                          </a:lnTo>
                          <a:lnTo>
                            <a:pt x="864" y="1025"/>
                          </a:lnTo>
                          <a:lnTo>
                            <a:pt x="874" y="1157"/>
                          </a:lnTo>
                          <a:lnTo>
                            <a:pt x="874" y="1283"/>
                          </a:lnTo>
                          <a:lnTo>
                            <a:pt x="874" y="1430"/>
                          </a:lnTo>
                          <a:lnTo>
                            <a:pt x="874" y="1566"/>
                          </a:lnTo>
                          <a:lnTo>
                            <a:pt x="868" y="1706"/>
                          </a:lnTo>
                          <a:lnTo>
                            <a:pt x="868" y="1826"/>
                          </a:lnTo>
                          <a:lnTo>
                            <a:pt x="882" y="1972"/>
                          </a:lnTo>
                          <a:lnTo>
                            <a:pt x="886" y="2092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99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"/>
                    <p:cNvSpPr/>
                    <p:nvPr/>
                  </p:nvSpPr>
                  <p:spPr>
                    <a:xfrm>
                      <a:off x="8250840" y="5620680"/>
                      <a:ext cx="569160" cy="720"/>
                    </a:xfrm>
                    <a:prstGeom prst="line">
                      <a:avLst/>
                    </a:prstGeom>
                    <a:ln w="792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"/>
                    <p:cNvSpPr/>
                    <p:nvPr/>
                  </p:nvSpPr>
                  <p:spPr>
                    <a:xfrm>
                      <a:off x="8272080" y="5695560"/>
                      <a:ext cx="528840" cy="720"/>
                    </a:xfrm>
                    <a:prstGeom prst="line">
                      <a:avLst/>
                    </a:prstGeom>
                    <a:ln w="792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"/>
                    <p:cNvSpPr/>
                    <p:nvPr/>
                  </p:nvSpPr>
                  <p:spPr>
                    <a:xfrm>
                      <a:off x="8304840" y="5776200"/>
                      <a:ext cx="471240" cy="1080"/>
                    </a:xfrm>
                    <a:prstGeom prst="line">
                      <a:avLst/>
                    </a:prstGeom>
                    <a:ln w="792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"/>
                    <p:cNvSpPr/>
                    <p:nvPr/>
                  </p:nvSpPr>
                  <p:spPr>
                    <a:xfrm>
                      <a:off x="8336880" y="5849280"/>
                      <a:ext cx="419040" cy="720"/>
                    </a:xfrm>
                    <a:prstGeom prst="line">
                      <a:avLst/>
                    </a:prstGeom>
                    <a:ln w="792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"/>
                    <p:cNvSpPr/>
                    <p:nvPr/>
                  </p:nvSpPr>
                  <p:spPr>
                    <a:xfrm>
                      <a:off x="8377200" y="5918400"/>
                      <a:ext cx="353160" cy="1080"/>
                    </a:xfrm>
                    <a:prstGeom prst="line">
                      <a:avLst/>
                    </a:prstGeom>
                    <a:ln w="792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3" name=""/>
                    <p:cNvSpPr/>
                    <p:nvPr/>
                  </p:nvSpPr>
                  <p:spPr>
                    <a:xfrm>
                      <a:off x="8419320" y="5976000"/>
                      <a:ext cx="281880" cy="720"/>
                    </a:xfrm>
                    <a:prstGeom prst="line">
                      <a:avLst/>
                    </a:prstGeom>
                    <a:ln w="792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4" name=""/>
                    <p:cNvSpPr/>
                    <p:nvPr/>
                  </p:nvSpPr>
                  <p:spPr>
                    <a:xfrm>
                      <a:off x="8471880" y="6025680"/>
                      <a:ext cx="195480" cy="1080"/>
                    </a:xfrm>
                    <a:prstGeom prst="line">
                      <a:avLst/>
                    </a:prstGeom>
                    <a:ln w="792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35" name=""/>
                <p:cNvGrpSpPr/>
                <p:nvPr/>
              </p:nvGrpSpPr>
              <p:grpSpPr>
                <a:xfrm>
                  <a:off x="6823800" y="4929840"/>
                  <a:ext cx="1942920" cy="1140120"/>
                  <a:chOff x="6823800" y="4929840"/>
                  <a:chExt cx="1942920" cy="1140120"/>
                </a:xfrm>
              </p:grpSpPr>
              <p:sp>
                <p:nvSpPr>
                  <p:cNvPr id="2036" name=""/>
                  <p:cNvSpPr/>
                  <p:nvPr/>
                </p:nvSpPr>
                <p:spPr>
                  <a:xfrm>
                    <a:off x="7875000" y="5199120"/>
                    <a:ext cx="90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1">
                        <a:moveTo>
                          <a:pt x="20" y="1"/>
                        </a:moveTo>
                        <a:lnTo>
                          <a:pt x="20" y="20"/>
                        </a:lnTo>
                        <a:lnTo>
                          <a:pt x="13" y="21"/>
                        </a:lnTo>
                        <a:lnTo>
                          <a:pt x="0" y="4"/>
                        </a:lnTo>
                        <a:lnTo>
                          <a:pt x="8" y="0"/>
                        </a:lnTo>
                        <a:lnTo>
                          <a:pt x="20" y="1"/>
                        </a:lnTo>
                        <a:close/>
                      </a:path>
                    </a:pathLst>
                  </a:custGeom>
                  <a:solidFill>
                    <a:srgbClr val="ccffcc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>
                    <a:off x="7857720" y="5178240"/>
                    <a:ext cx="82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2">
                        <a:moveTo>
                          <a:pt x="18" y="0"/>
                        </a:moveTo>
                        <a:lnTo>
                          <a:pt x="0" y="6"/>
                        </a:lnTo>
                        <a:lnTo>
                          <a:pt x="3" y="32"/>
                        </a:lnTo>
                        <a:lnTo>
                          <a:pt x="15" y="29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ccffcc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38" name=""/>
                  <p:cNvGrpSpPr/>
                  <p:nvPr/>
                </p:nvGrpSpPr>
                <p:grpSpPr>
                  <a:xfrm>
                    <a:off x="6823800" y="4929840"/>
                    <a:ext cx="1942920" cy="1140120"/>
                    <a:chOff x="6823800" y="4929840"/>
                    <a:chExt cx="1942920" cy="1140120"/>
                  </a:xfrm>
                </p:grpSpPr>
                <p:grpSp>
                  <p:nvGrpSpPr>
                    <p:cNvPr id="2039" name=""/>
                    <p:cNvGrpSpPr/>
                    <p:nvPr/>
                  </p:nvGrpSpPr>
                  <p:grpSpPr>
                    <a:xfrm>
                      <a:off x="7687440" y="4932000"/>
                      <a:ext cx="1079280" cy="1133280"/>
                      <a:chOff x="7687440" y="4932000"/>
                      <a:chExt cx="1079280" cy="1133280"/>
                    </a:xfrm>
                  </p:grpSpPr>
                  <p:grpSp>
                    <p:nvGrpSpPr>
                      <p:cNvPr id="2040" name=""/>
                      <p:cNvGrpSpPr/>
                      <p:nvPr/>
                    </p:nvGrpSpPr>
                    <p:grpSpPr>
                      <a:xfrm>
                        <a:off x="8430480" y="5497200"/>
                        <a:ext cx="336240" cy="568080"/>
                        <a:chOff x="8430480" y="5497200"/>
                        <a:chExt cx="336240" cy="568080"/>
                      </a:xfrm>
                    </p:grpSpPr>
                    <p:sp>
                      <p:nvSpPr>
                        <p:cNvPr id="2041" name=""/>
                        <p:cNvSpPr/>
                        <p:nvPr/>
                      </p:nvSpPr>
                      <p:spPr>
                        <a:xfrm>
                          <a:off x="8430480" y="5958360"/>
                          <a:ext cx="240120" cy="106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5" h="194">
                              <a:moveTo>
                                <a:pt x="49" y="7"/>
                              </a:moveTo>
                              <a:lnTo>
                                <a:pt x="103" y="7"/>
                              </a:lnTo>
                              <a:lnTo>
                                <a:pt x="121" y="9"/>
                              </a:lnTo>
                              <a:lnTo>
                                <a:pt x="141" y="11"/>
                              </a:lnTo>
                              <a:lnTo>
                                <a:pt x="149" y="16"/>
                              </a:lnTo>
                              <a:lnTo>
                                <a:pt x="158" y="10"/>
                              </a:lnTo>
                              <a:lnTo>
                                <a:pt x="169" y="6"/>
                              </a:lnTo>
                              <a:lnTo>
                                <a:pt x="177" y="3"/>
                              </a:lnTo>
                              <a:lnTo>
                                <a:pt x="189" y="1"/>
                              </a:lnTo>
                              <a:lnTo>
                                <a:pt x="196" y="1"/>
                              </a:lnTo>
                              <a:lnTo>
                                <a:pt x="202" y="1"/>
                              </a:lnTo>
                              <a:lnTo>
                                <a:pt x="208" y="0"/>
                              </a:lnTo>
                              <a:lnTo>
                                <a:pt x="221" y="10"/>
                              </a:lnTo>
                              <a:lnTo>
                                <a:pt x="225" y="10"/>
                              </a:lnTo>
                              <a:lnTo>
                                <a:pt x="229" y="16"/>
                              </a:lnTo>
                              <a:lnTo>
                                <a:pt x="232" y="17"/>
                              </a:lnTo>
                              <a:lnTo>
                                <a:pt x="243" y="16"/>
                              </a:lnTo>
                              <a:lnTo>
                                <a:pt x="251" y="16"/>
                              </a:lnTo>
                              <a:lnTo>
                                <a:pt x="261" y="16"/>
                              </a:lnTo>
                              <a:lnTo>
                                <a:pt x="266" y="16"/>
                              </a:lnTo>
                              <a:lnTo>
                                <a:pt x="274" y="16"/>
                              </a:lnTo>
                              <a:lnTo>
                                <a:pt x="280" y="10"/>
                              </a:lnTo>
                              <a:lnTo>
                                <a:pt x="285" y="7"/>
                              </a:lnTo>
                              <a:lnTo>
                                <a:pt x="293" y="6"/>
                              </a:lnTo>
                              <a:lnTo>
                                <a:pt x="296" y="6"/>
                              </a:lnTo>
                              <a:lnTo>
                                <a:pt x="303" y="4"/>
                              </a:lnTo>
                              <a:lnTo>
                                <a:pt x="314" y="7"/>
                              </a:lnTo>
                              <a:lnTo>
                                <a:pt x="324" y="9"/>
                              </a:lnTo>
                              <a:lnTo>
                                <a:pt x="335" y="10"/>
                              </a:lnTo>
                              <a:lnTo>
                                <a:pt x="354" y="13"/>
                              </a:lnTo>
                              <a:lnTo>
                                <a:pt x="377" y="20"/>
                              </a:lnTo>
                              <a:lnTo>
                                <a:pt x="385" y="22"/>
                              </a:lnTo>
                              <a:lnTo>
                                <a:pt x="396" y="25"/>
                              </a:lnTo>
                              <a:lnTo>
                                <a:pt x="407" y="26"/>
                              </a:lnTo>
                              <a:lnTo>
                                <a:pt x="416" y="30"/>
                              </a:lnTo>
                              <a:lnTo>
                                <a:pt x="421" y="32"/>
                              </a:lnTo>
                              <a:lnTo>
                                <a:pt x="433" y="29"/>
                              </a:lnTo>
                              <a:lnTo>
                                <a:pt x="439" y="25"/>
                              </a:lnTo>
                              <a:lnTo>
                                <a:pt x="448" y="25"/>
                              </a:lnTo>
                              <a:lnTo>
                                <a:pt x="459" y="29"/>
                              </a:lnTo>
                              <a:lnTo>
                                <a:pt x="464" y="30"/>
                              </a:lnTo>
                              <a:lnTo>
                                <a:pt x="474" y="32"/>
                              </a:lnTo>
                              <a:lnTo>
                                <a:pt x="479" y="35"/>
                              </a:lnTo>
                              <a:lnTo>
                                <a:pt x="485" y="38"/>
                              </a:lnTo>
                              <a:lnTo>
                                <a:pt x="495" y="43"/>
                              </a:lnTo>
                              <a:lnTo>
                                <a:pt x="502" y="45"/>
                              </a:lnTo>
                              <a:lnTo>
                                <a:pt x="507" y="49"/>
                              </a:lnTo>
                              <a:lnTo>
                                <a:pt x="514" y="54"/>
                              </a:lnTo>
                              <a:lnTo>
                                <a:pt x="518" y="56"/>
                              </a:lnTo>
                              <a:lnTo>
                                <a:pt x="522" y="62"/>
                              </a:lnTo>
                              <a:lnTo>
                                <a:pt x="522" y="67"/>
                              </a:lnTo>
                              <a:lnTo>
                                <a:pt x="525" y="71"/>
                              </a:lnTo>
                              <a:lnTo>
                                <a:pt x="518" y="77"/>
                              </a:lnTo>
                              <a:lnTo>
                                <a:pt x="509" y="80"/>
                              </a:lnTo>
                              <a:lnTo>
                                <a:pt x="499" y="88"/>
                              </a:lnTo>
                              <a:lnTo>
                                <a:pt x="487" y="90"/>
                              </a:lnTo>
                              <a:lnTo>
                                <a:pt x="479" y="97"/>
                              </a:lnTo>
                              <a:lnTo>
                                <a:pt x="474" y="103"/>
                              </a:lnTo>
                              <a:lnTo>
                                <a:pt x="470" y="107"/>
                              </a:lnTo>
                              <a:lnTo>
                                <a:pt x="479" y="112"/>
                              </a:lnTo>
                              <a:lnTo>
                                <a:pt x="479" y="116"/>
                              </a:lnTo>
                              <a:lnTo>
                                <a:pt x="469" y="122"/>
                              </a:lnTo>
                              <a:lnTo>
                                <a:pt x="462" y="128"/>
                              </a:lnTo>
                              <a:lnTo>
                                <a:pt x="457" y="133"/>
                              </a:lnTo>
                              <a:lnTo>
                                <a:pt x="451" y="135"/>
                              </a:lnTo>
                              <a:lnTo>
                                <a:pt x="447" y="135"/>
                              </a:lnTo>
                              <a:lnTo>
                                <a:pt x="436" y="138"/>
                              </a:lnTo>
                              <a:lnTo>
                                <a:pt x="432" y="146"/>
                              </a:lnTo>
                              <a:lnTo>
                                <a:pt x="425" y="152"/>
                              </a:lnTo>
                              <a:lnTo>
                                <a:pt x="461" y="158"/>
                              </a:lnTo>
                              <a:lnTo>
                                <a:pt x="457" y="164"/>
                              </a:lnTo>
                              <a:lnTo>
                                <a:pt x="440" y="168"/>
                              </a:lnTo>
                              <a:lnTo>
                                <a:pt x="417" y="165"/>
                              </a:lnTo>
                              <a:lnTo>
                                <a:pt x="398" y="168"/>
                              </a:lnTo>
                              <a:lnTo>
                                <a:pt x="380" y="174"/>
                              </a:lnTo>
                              <a:lnTo>
                                <a:pt x="372" y="181"/>
                              </a:lnTo>
                              <a:lnTo>
                                <a:pt x="369" y="193"/>
                              </a:lnTo>
                              <a:lnTo>
                                <a:pt x="351" y="194"/>
                              </a:lnTo>
                              <a:lnTo>
                                <a:pt x="333" y="192"/>
                              </a:lnTo>
                              <a:lnTo>
                                <a:pt x="306" y="189"/>
                              </a:lnTo>
                              <a:lnTo>
                                <a:pt x="293" y="184"/>
                              </a:lnTo>
                              <a:lnTo>
                                <a:pt x="273" y="180"/>
                              </a:lnTo>
                              <a:lnTo>
                                <a:pt x="258" y="177"/>
                              </a:lnTo>
                              <a:lnTo>
                                <a:pt x="241" y="174"/>
                              </a:lnTo>
                              <a:lnTo>
                                <a:pt x="221" y="171"/>
                              </a:lnTo>
                              <a:lnTo>
                                <a:pt x="207" y="164"/>
                              </a:lnTo>
                              <a:lnTo>
                                <a:pt x="195" y="161"/>
                              </a:lnTo>
                              <a:lnTo>
                                <a:pt x="191" y="160"/>
                              </a:lnTo>
                              <a:lnTo>
                                <a:pt x="169" y="154"/>
                              </a:lnTo>
                              <a:lnTo>
                                <a:pt x="147" y="144"/>
                              </a:lnTo>
                              <a:lnTo>
                                <a:pt x="128" y="136"/>
                              </a:lnTo>
                              <a:lnTo>
                                <a:pt x="118" y="131"/>
                              </a:lnTo>
                              <a:lnTo>
                                <a:pt x="104" y="125"/>
                              </a:lnTo>
                              <a:lnTo>
                                <a:pt x="93" y="119"/>
                              </a:lnTo>
                              <a:lnTo>
                                <a:pt x="81" y="113"/>
                              </a:lnTo>
                              <a:lnTo>
                                <a:pt x="70" y="106"/>
                              </a:lnTo>
                              <a:lnTo>
                                <a:pt x="60" y="97"/>
                              </a:lnTo>
                              <a:lnTo>
                                <a:pt x="49" y="88"/>
                              </a:lnTo>
                              <a:lnTo>
                                <a:pt x="38" y="81"/>
                              </a:lnTo>
                              <a:lnTo>
                                <a:pt x="25" y="70"/>
                              </a:lnTo>
                              <a:lnTo>
                                <a:pt x="14" y="62"/>
                              </a:lnTo>
                              <a:lnTo>
                                <a:pt x="4" y="55"/>
                              </a:lnTo>
                              <a:lnTo>
                                <a:pt x="0" y="48"/>
                              </a:lnTo>
                              <a:lnTo>
                                <a:pt x="15" y="43"/>
                              </a:lnTo>
                              <a:lnTo>
                                <a:pt x="7" y="27"/>
                              </a:lnTo>
                              <a:lnTo>
                                <a:pt x="27" y="22"/>
                              </a:lnTo>
                              <a:lnTo>
                                <a:pt x="19" y="16"/>
                              </a:lnTo>
                              <a:lnTo>
                                <a:pt x="41" y="13"/>
                              </a:lnTo>
                              <a:lnTo>
                                <a:pt x="49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042" name=""/>
                        <p:cNvGrpSpPr/>
                        <p:nvPr/>
                      </p:nvGrpSpPr>
                      <p:grpSpPr>
                        <a:xfrm>
                          <a:off x="8608320" y="5725440"/>
                          <a:ext cx="158400" cy="95400"/>
                          <a:chOff x="8608320" y="5725440"/>
                          <a:chExt cx="158400" cy="95400"/>
                        </a:xfrm>
                      </p:grpSpPr>
                      <p:sp>
                        <p:nvSpPr>
                          <p:cNvPr id="2043" name=""/>
                          <p:cNvSpPr/>
                          <p:nvPr/>
                        </p:nvSpPr>
                        <p:spPr>
                          <a:xfrm>
                            <a:off x="8741520" y="5725440"/>
                            <a:ext cx="25200" cy="58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5" h="108">
                                <a:moveTo>
                                  <a:pt x="18" y="2"/>
                                </a:moveTo>
                                <a:lnTo>
                                  <a:pt x="23" y="0"/>
                                </a:lnTo>
                                <a:lnTo>
                                  <a:pt x="33" y="12"/>
                                </a:lnTo>
                                <a:lnTo>
                                  <a:pt x="31" y="45"/>
                                </a:lnTo>
                                <a:lnTo>
                                  <a:pt x="38" y="45"/>
                                </a:lnTo>
                                <a:lnTo>
                                  <a:pt x="40" y="50"/>
                                </a:lnTo>
                                <a:lnTo>
                                  <a:pt x="42" y="57"/>
                                </a:lnTo>
                                <a:lnTo>
                                  <a:pt x="44" y="61"/>
                                </a:lnTo>
                                <a:lnTo>
                                  <a:pt x="49" y="60"/>
                                </a:lnTo>
                                <a:lnTo>
                                  <a:pt x="53" y="53"/>
                                </a:lnTo>
                                <a:lnTo>
                                  <a:pt x="55" y="57"/>
                                </a:lnTo>
                                <a:lnTo>
                                  <a:pt x="52" y="63"/>
                                </a:lnTo>
                                <a:lnTo>
                                  <a:pt x="49" y="67"/>
                                </a:lnTo>
                                <a:lnTo>
                                  <a:pt x="48" y="76"/>
                                </a:lnTo>
                                <a:lnTo>
                                  <a:pt x="41" y="80"/>
                                </a:lnTo>
                                <a:lnTo>
                                  <a:pt x="37" y="82"/>
                                </a:lnTo>
                                <a:lnTo>
                                  <a:pt x="31" y="86"/>
                                </a:lnTo>
                                <a:lnTo>
                                  <a:pt x="30" y="90"/>
                                </a:lnTo>
                                <a:lnTo>
                                  <a:pt x="31" y="95"/>
                                </a:lnTo>
                                <a:lnTo>
                                  <a:pt x="33" y="102"/>
                                </a:lnTo>
                                <a:lnTo>
                                  <a:pt x="26" y="105"/>
                                </a:lnTo>
                                <a:lnTo>
                                  <a:pt x="22" y="106"/>
                                </a:lnTo>
                                <a:lnTo>
                                  <a:pt x="18" y="108"/>
                                </a:lnTo>
                                <a:lnTo>
                                  <a:pt x="15" y="106"/>
                                </a:lnTo>
                                <a:lnTo>
                                  <a:pt x="8" y="105"/>
                                </a:lnTo>
                                <a:lnTo>
                                  <a:pt x="5" y="102"/>
                                </a:lnTo>
                                <a:lnTo>
                                  <a:pt x="8" y="96"/>
                                </a:lnTo>
                                <a:lnTo>
                                  <a:pt x="14" y="95"/>
                                </a:lnTo>
                                <a:lnTo>
                                  <a:pt x="18" y="87"/>
                                </a:lnTo>
                                <a:lnTo>
                                  <a:pt x="18" y="84"/>
                                </a:lnTo>
                                <a:lnTo>
                                  <a:pt x="14" y="82"/>
                                </a:lnTo>
                                <a:lnTo>
                                  <a:pt x="8" y="77"/>
                                </a:lnTo>
                                <a:lnTo>
                                  <a:pt x="4" y="77"/>
                                </a:lnTo>
                                <a:lnTo>
                                  <a:pt x="1" y="76"/>
                                </a:lnTo>
                                <a:lnTo>
                                  <a:pt x="0" y="71"/>
                                </a:lnTo>
                                <a:lnTo>
                                  <a:pt x="1" y="69"/>
                                </a:lnTo>
                                <a:lnTo>
                                  <a:pt x="4" y="69"/>
                                </a:lnTo>
                                <a:lnTo>
                                  <a:pt x="8" y="67"/>
                                </a:lnTo>
                                <a:lnTo>
                                  <a:pt x="14" y="63"/>
                                </a:lnTo>
                                <a:lnTo>
                                  <a:pt x="16" y="61"/>
                                </a:lnTo>
                                <a:lnTo>
                                  <a:pt x="19" y="45"/>
                                </a:lnTo>
                                <a:lnTo>
                                  <a:pt x="16" y="41"/>
                                </a:lnTo>
                                <a:lnTo>
                                  <a:pt x="12" y="38"/>
                                </a:lnTo>
                                <a:lnTo>
                                  <a:pt x="11" y="29"/>
                                </a:lnTo>
                                <a:lnTo>
                                  <a:pt x="12" y="21"/>
                                </a:lnTo>
                                <a:lnTo>
                                  <a:pt x="14" y="15"/>
                                </a:lnTo>
                                <a:lnTo>
                                  <a:pt x="18" y="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520" bIns="11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44" name=""/>
                          <p:cNvSpPr/>
                          <p:nvPr/>
                        </p:nvSpPr>
                        <p:spPr>
                          <a:xfrm>
                            <a:off x="8694000" y="5771520"/>
                            <a:ext cx="45720" cy="49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2" h="92">
                                <a:moveTo>
                                  <a:pt x="72" y="0"/>
                                </a:moveTo>
                                <a:lnTo>
                                  <a:pt x="84" y="0"/>
                                </a:lnTo>
                                <a:lnTo>
                                  <a:pt x="102" y="27"/>
                                </a:lnTo>
                                <a:lnTo>
                                  <a:pt x="83" y="47"/>
                                </a:lnTo>
                                <a:lnTo>
                                  <a:pt x="83" y="56"/>
                                </a:lnTo>
                                <a:lnTo>
                                  <a:pt x="79" y="59"/>
                                </a:lnTo>
                                <a:lnTo>
                                  <a:pt x="68" y="59"/>
                                </a:lnTo>
                                <a:lnTo>
                                  <a:pt x="54" y="70"/>
                                </a:lnTo>
                                <a:lnTo>
                                  <a:pt x="41" y="82"/>
                                </a:lnTo>
                                <a:lnTo>
                                  <a:pt x="33" y="92"/>
                                </a:lnTo>
                                <a:lnTo>
                                  <a:pt x="33" y="83"/>
                                </a:lnTo>
                                <a:lnTo>
                                  <a:pt x="18" y="85"/>
                                </a:lnTo>
                                <a:lnTo>
                                  <a:pt x="11" y="85"/>
                                </a:lnTo>
                                <a:lnTo>
                                  <a:pt x="0" y="85"/>
                                </a:lnTo>
                                <a:lnTo>
                                  <a:pt x="15" y="70"/>
                                </a:lnTo>
                                <a:lnTo>
                                  <a:pt x="21" y="63"/>
                                </a:lnTo>
                                <a:lnTo>
                                  <a:pt x="26" y="63"/>
                                </a:lnTo>
                                <a:lnTo>
                                  <a:pt x="37" y="51"/>
                                </a:lnTo>
                                <a:lnTo>
                                  <a:pt x="41" y="51"/>
                                </a:lnTo>
                                <a:lnTo>
                                  <a:pt x="41" y="50"/>
                                </a:lnTo>
                                <a:lnTo>
                                  <a:pt x="47" y="46"/>
                                </a:lnTo>
                                <a:lnTo>
                                  <a:pt x="54" y="46"/>
                                </a:lnTo>
                                <a:lnTo>
                                  <a:pt x="51" y="32"/>
                                </a:lnTo>
                                <a:lnTo>
                                  <a:pt x="52" y="32"/>
                                </a:lnTo>
                                <a:lnTo>
                                  <a:pt x="59" y="25"/>
                                </a:lnTo>
                                <a:lnTo>
                                  <a:pt x="62" y="31"/>
                                </a:lnTo>
                                <a:lnTo>
                                  <a:pt x="73" y="21"/>
                                </a:lnTo>
                                <a:lnTo>
                                  <a:pt x="7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45" name=""/>
                          <p:cNvSpPr/>
                          <p:nvPr/>
                        </p:nvSpPr>
                        <p:spPr>
                          <a:xfrm>
                            <a:off x="8608320" y="5774760"/>
                            <a:ext cx="18000" cy="26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8" h="50">
                                <a:moveTo>
                                  <a:pt x="0" y="0"/>
                                </a:moveTo>
                                <a:lnTo>
                                  <a:pt x="8" y="0"/>
                                </a:lnTo>
                                <a:lnTo>
                                  <a:pt x="18" y="6"/>
                                </a:lnTo>
                                <a:lnTo>
                                  <a:pt x="38" y="6"/>
                                </a:lnTo>
                                <a:lnTo>
                                  <a:pt x="35" y="16"/>
                                </a:lnTo>
                                <a:lnTo>
                                  <a:pt x="38" y="25"/>
                                </a:lnTo>
                                <a:lnTo>
                                  <a:pt x="31" y="25"/>
                                </a:lnTo>
                                <a:lnTo>
                                  <a:pt x="30" y="26"/>
                                </a:lnTo>
                                <a:lnTo>
                                  <a:pt x="26" y="28"/>
                                </a:lnTo>
                                <a:lnTo>
                                  <a:pt x="30" y="50"/>
                                </a:lnTo>
                                <a:lnTo>
                                  <a:pt x="18" y="48"/>
                                </a:lnTo>
                                <a:lnTo>
                                  <a:pt x="7" y="41"/>
                                </a:lnTo>
                                <a:lnTo>
                                  <a:pt x="7" y="26"/>
                                </a:lnTo>
                                <a:lnTo>
                                  <a:pt x="7" y="21"/>
                                </a:lnTo>
                                <a:lnTo>
                                  <a:pt x="0" y="16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0520" bIns="-20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046" name=""/>
                        <p:cNvSpPr/>
                        <p:nvPr/>
                      </p:nvSpPr>
                      <p:spPr>
                        <a:xfrm>
                          <a:off x="8640360" y="5497200"/>
                          <a:ext cx="29160" cy="28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" h="51">
                              <a:moveTo>
                                <a:pt x="11" y="19"/>
                              </a:moveTo>
                              <a:lnTo>
                                <a:pt x="0" y="41"/>
                              </a:lnTo>
                              <a:lnTo>
                                <a:pt x="4" y="49"/>
                              </a:lnTo>
                              <a:lnTo>
                                <a:pt x="22" y="51"/>
                              </a:lnTo>
                              <a:lnTo>
                                <a:pt x="37" y="51"/>
                              </a:lnTo>
                              <a:lnTo>
                                <a:pt x="42" y="42"/>
                              </a:lnTo>
                              <a:lnTo>
                                <a:pt x="46" y="33"/>
                              </a:lnTo>
                              <a:lnTo>
                                <a:pt x="63" y="33"/>
                              </a:lnTo>
                              <a:lnTo>
                                <a:pt x="60" y="20"/>
                              </a:lnTo>
                              <a:lnTo>
                                <a:pt x="60" y="7"/>
                              </a:lnTo>
                              <a:lnTo>
                                <a:pt x="44" y="0"/>
                              </a:lnTo>
                              <a:lnTo>
                                <a:pt x="41" y="14"/>
                              </a:lnTo>
                              <a:lnTo>
                                <a:pt x="52" y="23"/>
                              </a:lnTo>
                              <a:lnTo>
                                <a:pt x="35" y="23"/>
                              </a:lnTo>
                              <a:lnTo>
                                <a:pt x="30" y="29"/>
                              </a:lnTo>
                              <a:lnTo>
                                <a:pt x="11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047" name=""/>
                      <p:cNvGrpSpPr/>
                      <p:nvPr/>
                    </p:nvGrpSpPr>
                    <p:grpSpPr>
                      <a:xfrm>
                        <a:off x="8327160" y="5072040"/>
                        <a:ext cx="334800" cy="690840"/>
                        <a:chOff x="8327160" y="5072040"/>
                        <a:chExt cx="334800" cy="690840"/>
                      </a:xfrm>
                    </p:grpSpPr>
                    <p:grpSp>
                      <p:nvGrpSpPr>
                        <p:cNvPr id="2048" name=""/>
                        <p:cNvGrpSpPr/>
                        <p:nvPr/>
                      </p:nvGrpSpPr>
                      <p:grpSpPr>
                        <a:xfrm>
                          <a:off x="8380800" y="5142600"/>
                          <a:ext cx="73800" cy="207000"/>
                          <a:chOff x="8380800" y="5142600"/>
                          <a:chExt cx="73800" cy="207000"/>
                        </a:xfrm>
                      </p:grpSpPr>
                      <p:sp>
                        <p:nvSpPr>
                          <p:cNvPr id="2049" name=""/>
                          <p:cNvSpPr/>
                          <p:nvPr/>
                        </p:nvSpPr>
                        <p:spPr>
                          <a:xfrm>
                            <a:off x="8380800" y="5329080"/>
                            <a:ext cx="17280" cy="20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8" h="38">
                                <a:moveTo>
                                  <a:pt x="0" y="29"/>
                                </a:moveTo>
                                <a:lnTo>
                                  <a:pt x="7" y="36"/>
                                </a:lnTo>
                                <a:lnTo>
                                  <a:pt x="15" y="35"/>
                                </a:lnTo>
                                <a:lnTo>
                                  <a:pt x="27" y="38"/>
                                </a:lnTo>
                                <a:lnTo>
                                  <a:pt x="37" y="38"/>
                                </a:lnTo>
                                <a:lnTo>
                                  <a:pt x="38" y="25"/>
                                </a:lnTo>
                                <a:lnTo>
                                  <a:pt x="35" y="16"/>
                                </a:lnTo>
                                <a:lnTo>
                                  <a:pt x="28" y="6"/>
                                </a:lnTo>
                                <a:lnTo>
                                  <a:pt x="22" y="6"/>
                                </a:lnTo>
                                <a:lnTo>
                                  <a:pt x="19" y="0"/>
                                </a:lnTo>
                                <a:lnTo>
                                  <a:pt x="9" y="0"/>
                                </a:lnTo>
                                <a:lnTo>
                                  <a:pt x="9" y="12"/>
                                </a:lnTo>
                                <a:lnTo>
                                  <a:pt x="0" y="2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6280" bIns="-26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50" name=""/>
                          <p:cNvSpPr/>
                          <p:nvPr/>
                        </p:nvSpPr>
                        <p:spPr>
                          <a:xfrm>
                            <a:off x="8427960" y="5292720"/>
                            <a:ext cx="16560" cy="26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" h="48">
                                <a:moveTo>
                                  <a:pt x="8" y="0"/>
                                </a:moveTo>
                                <a:lnTo>
                                  <a:pt x="25" y="2"/>
                                </a:lnTo>
                                <a:lnTo>
                                  <a:pt x="30" y="15"/>
                                </a:lnTo>
                                <a:lnTo>
                                  <a:pt x="37" y="22"/>
                                </a:lnTo>
                                <a:lnTo>
                                  <a:pt x="31" y="28"/>
                                </a:lnTo>
                                <a:lnTo>
                                  <a:pt x="37" y="35"/>
                                </a:lnTo>
                                <a:lnTo>
                                  <a:pt x="34" y="44"/>
                                </a:lnTo>
                                <a:lnTo>
                                  <a:pt x="29" y="48"/>
                                </a:lnTo>
                                <a:lnTo>
                                  <a:pt x="18" y="47"/>
                                </a:lnTo>
                                <a:lnTo>
                                  <a:pt x="11" y="47"/>
                                </a:lnTo>
                                <a:lnTo>
                                  <a:pt x="7" y="41"/>
                                </a:lnTo>
                                <a:lnTo>
                                  <a:pt x="3" y="34"/>
                                </a:lnTo>
                                <a:lnTo>
                                  <a:pt x="3" y="26"/>
                                </a:lnTo>
                                <a:lnTo>
                                  <a:pt x="0" y="16"/>
                                </a:lnTo>
                                <a:lnTo>
                                  <a:pt x="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0520" bIns="-20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51" name=""/>
                          <p:cNvSpPr/>
                          <p:nvPr/>
                        </p:nvSpPr>
                        <p:spPr>
                          <a:xfrm>
                            <a:off x="8425440" y="5142600"/>
                            <a:ext cx="29160" cy="24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6" h="45">
                                <a:moveTo>
                                  <a:pt x="10" y="0"/>
                                </a:moveTo>
                                <a:lnTo>
                                  <a:pt x="18" y="7"/>
                                </a:lnTo>
                                <a:lnTo>
                                  <a:pt x="26" y="5"/>
                                </a:lnTo>
                                <a:lnTo>
                                  <a:pt x="38" y="7"/>
                                </a:lnTo>
                                <a:lnTo>
                                  <a:pt x="49" y="7"/>
                                </a:lnTo>
                                <a:lnTo>
                                  <a:pt x="55" y="11"/>
                                </a:lnTo>
                                <a:lnTo>
                                  <a:pt x="62" y="21"/>
                                </a:lnTo>
                                <a:lnTo>
                                  <a:pt x="66" y="26"/>
                                </a:lnTo>
                                <a:lnTo>
                                  <a:pt x="51" y="29"/>
                                </a:lnTo>
                                <a:lnTo>
                                  <a:pt x="47" y="32"/>
                                </a:lnTo>
                                <a:lnTo>
                                  <a:pt x="51" y="37"/>
                                </a:lnTo>
                                <a:lnTo>
                                  <a:pt x="51" y="43"/>
                                </a:lnTo>
                                <a:lnTo>
                                  <a:pt x="36" y="37"/>
                                </a:lnTo>
                                <a:lnTo>
                                  <a:pt x="23" y="33"/>
                                </a:lnTo>
                                <a:lnTo>
                                  <a:pt x="18" y="34"/>
                                </a:lnTo>
                                <a:lnTo>
                                  <a:pt x="18" y="43"/>
                                </a:lnTo>
                                <a:lnTo>
                                  <a:pt x="10" y="45"/>
                                </a:lnTo>
                                <a:lnTo>
                                  <a:pt x="6" y="37"/>
                                </a:lnTo>
                                <a:lnTo>
                                  <a:pt x="4" y="29"/>
                                </a:lnTo>
                                <a:lnTo>
                                  <a:pt x="0" y="27"/>
                                </a:lnTo>
                                <a:lnTo>
                                  <a:pt x="4" y="18"/>
                                </a:lnTo>
                                <a:lnTo>
                                  <a:pt x="11" y="16"/>
                                </a:lnTo>
                                <a:lnTo>
                                  <a:pt x="1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2680" bIns="-22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052" name=""/>
                        <p:cNvSpPr/>
                        <p:nvPr/>
                      </p:nvSpPr>
                      <p:spPr>
                        <a:xfrm>
                          <a:off x="8451000" y="5562000"/>
                          <a:ext cx="210960" cy="20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62" h="364">
                              <a:moveTo>
                                <a:pt x="332" y="0"/>
                              </a:moveTo>
                              <a:lnTo>
                                <a:pt x="357" y="0"/>
                              </a:lnTo>
                              <a:lnTo>
                                <a:pt x="357" y="30"/>
                              </a:lnTo>
                              <a:lnTo>
                                <a:pt x="366" y="38"/>
                              </a:lnTo>
                              <a:lnTo>
                                <a:pt x="369" y="43"/>
                              </a:lnTo>
                              <a:lnTo>
                                <a:pt x="375" y="43"/>
                              </a:lnTo>
                              <a:lnTo>
                                <a:pt x="377" y="48"/>
                              </a:lnTo>
                              <a:lnTo>
                                <a:pt x="380" y="77"/>
                              </a:lnTo>
                              <a:lnTo>
                                <a:pt x="394" y="96"/>
                              </a:lnTo>
                              <a:lnTo>
                                <a:pt x="414" y="124"/>
                              </a:lnTo>
                              <a:lnTo>
                                <a:pt x="414" y="128"/>
                              </a:lnTo>
                              <a:lnTo>
                                <a:pt x="436" y="152"/>
                              </a:lnTo>
                              <a:lnTo>
                                <a:pt x="436" y="156"/>
                              </a:lnTo>
                              <a:lnTo>
                                <a:pt x="458" y="175"/>
                              </a:lnTo>
                              <a:lnTo>
                                <a:pt x="462" y="208"/>
                              </a:lnTo>
                              <a:lnTo>
                                <a:pt x="458" y="239"/>
                              </a:lnTo>
                              <a:lnTo>
                                <a:pt x="451" y="253"/>
                              </a:lnTo>
                              <a:lnTo>
                                <a:pt x="443" y="260"/>
                              </a:lnTo>
                              <a:lnTo>
                                <a:pt x="440" y="275"/>
                              </a:lnTo>
                              <a:lnTo>
                                <a:pt x="432" y="288"/>
                              </a:lnTo>
                              <a:lnTo>
                                <a:pt x="425" y="294"/>
                              </a:lnTo>
                              <a:lnTo>
                                <a:pt x="427" y="298"/>
                              </a:lnTo>
                              <a:lnTo>
                                <a:pt x="419" y="307"/>
                              </a:lnTo>
                              <a:lnTo>
                                <a:pt x="414" y="326"/>
                              </a:lnTo>
                              <a:lnTo>
                                <a:pt x="413" y="336"/>
                              </a:lnTo>
                              <a:lnTo>
                                <a:pt x="405" y="340"/>
                              </a:lnTo>
                              <a:lnTo>
                                <a:pt x="403" y="345"/>
                              </a:lnTo>
                              <a:lnTo>
                                <a:pt x="398" y="353"/>
                              </a:lnTo>
                              <a:lnTo>
                                <a:pt x="388" y="355"/>
                              </a:lnTo>
                              <a:lnTo>
                                <a:pt x="381" y="358"/>
                              </a:lnTo>
                              <a:lnTo>
                                <a:pt x="372" y="364"/>
                              </a:lnTo>
                              <a:lnTo>
                                <a:pt x="360" y="352"/>
                              </a:lnTo>
                              <a:lnTo>
                                <a:pt x="346" y="353"/>
                              </a:lnTo>
                              <a:lnTo>
                                <a:pt x="342" y="353"/>
                              </a:lnTo>
                              <a:lnTo>
                                <a:pt x="323" y="356"/>
                              </a:lnTo>
                              <a:lnTo>
                                <a:pt x="310" y="345"/>
                              </a:lnTo>
                              <a:lnTo>
                                <a:pt x="302" y="333"/>
                              </a:lnTo>
                              <a:lnTo>
                                <a:pt x="296" y="334"/>
                              </a:lnTo>
                              <a:lnTo>
                                <a:pt x="291" y="324"/>
                              </a:lnTo>
                              <a:lnTo>
                                <a:pt x="288" y="316"/>
                              </a:lnTo>
                              <a:lnTo>
                                <a:pt x="286" y="313"/>
                              </a:lnTo>
                              <a:lnTo>
                                <a:pt x="286" y="298"/>
                              </a:lnTo>
                              <a:lnTo>
                                <a:pt x="287" y="289"/>
                              </a:lnTo>
                              <a:lnTo>
                                <a:pt x="284" y="284"/>
                              </a:lnTo>
                              <a:lnTo>
                                <a:pt x="273" y="287"/>
                              </a:lnTo>
                              <a:lnTo>
                                <a:pt x="268" y="288"/>
                              </a:lnTo>
                              <a:lnTo>
                                <a:pt x="258" y="288"/>
                              </a:lnTo>
                              <a:lnTo>
                                <a:pt x="254" y="288"/>
                              </a:lnTo>
                              <a:lnTo>
                                <a:pt x="250" y="288"/>
                              </a:lnTo>
                              <a:lnTo>
                                <a:pt x="243" y="279"/>
                              </a:lnTo>
                              <a:lnTo>
                                <a:pt x="236" y="268"/>
                              </a:lnTo>
                              <a:lnTo>
                                <a:pt x="235" y="269"/>
                              </a:lnTo>
                              <a:lnTo>
                                <a:pt x="222" y="269"/>
                              </a:lnTo>
                              <a:lnTo>
                                <a:pt x="221" y="265"/>
                              </a:lnTo>
                              <a:lnTo>
                                <a:pt x="214" y="269"/>
                              </a:lnTo>
                              <a:lnTo>
                                <a:pt x="207" y="268"/>
                              </a:lnTo>
                              <a:lnTo>
                                <a:pt x="196" y="268"/>
                              </a:lnTo>
                              <a:lnTo>
                                <a:pt x="190" y="265"/>
                              </a:lnTo>
                              <a:lnTo>
                                <a:pt x="187" y="269"/>
                              </a:lnTo>
                              <a:lnTo>
                                <a:pt x="176" y="271"/>
                              </a:lnTo>
                              <a:lnTo>
                                <a:pt x="173" y="268"/>
                              </a:lnTo>
                              <a:lnTo>
                                <a:pt x="166" y="275"/>
                              </a:lnTo>
                              <a:lnTo>
                                <a:pt x="158" y="282"/>
                              </a:lnTo>
                              <a:lnTo>
                                <a:pt x="152" y="282"/>
                              </a:lnTo>
                              <a:lnTo>
                                <a:pt x="144" y="291"/>
                              </a:lnTo>
                              <a:lnTo>
                                <a:pt x="132" y="291"/>
                              </a:lnTo>
                              <a:lnTo>
                                <a:pt x="122" y="294"/>
                              </a:lnTo>
                              <a:lnTo>
                                <a:pt x="111" y="298"/>
                              </a:lnTo>
                              <a:lnTo>
                                <a:pt x="106" y="304"/>
                              </a:lnTo>
                              <a:lnTo>
                                <a:pt x="102" y="303"/>
                              </a:lnTo>
                              <a:lnTo>
                                <a:pt x="98" y="308"/>
                              </a:lnTo>
                              <a:lnTo>
                                <a:pt x="92" y="310"/>
                              </a:lnTo>
                              <a:lnTo>
                                <a:pt x="85" y="317"/>
                              </a:lnTo>
                              <a:lnTo>
                                <a:pt x="63" y="317"/>
                              </a:lnTo>
                              <a:lnTo>
                                <a:pt x="54" y="307"/>
                              </a:lnTo>
                              <a:lnTo>
                                <a:pt x="52" y="303"/>
                              </a:lnTo>
                              <a:lnTo>
                                <a:pt x="50" y="307"/>
                              </a:lnTo>
                              <a:lnTo>
                                <a:pt x="46" y="300"/>
                              </a:lnTo>
                              <a:lnTo>
                                <a:pt x="47" y="281"/>
                              </a:lnTo>
                              <a:lnTo>
                                <a:pt x="50" y="269"/>
                              </a:lnTo>
                              <a:lnTo>
                                <a:pt x="46" y="260"/>
                              </a:lnTo>
                              <a:lnTo>
                                <a:pt x="41" y="252"/>
                              </a:lnTo>
                              <a:lnTo>
                                <a:pt x="40" y="242"/>
                              </a:lnTo>
                              <a:lnTo>
                                <a:pt x="33" y="237"/>
                              </a:lnTo>
                              <a:lnTo>
                                <a:pt x="32" y="236"/>
                              </a:lnTo>
                              <a:lnTo>
                                <a:pt x="30" y="231"/>
                              </a:lnTo>
                              <a:lnTo>
                                <a:pt x="21" y="218"/>
                              </a:lnTo>
                              <a:lnTo>
                                <a:pt x="9" y="186"/>
                              </a:lnTo>
                              <a:lnTo>
                                <a:pt x="4" y="165"/>
                              </a:lnTo>
                              <a:lnTo>
                                <a:pt x="4" y="152"/>
                              </a:lnTo>
                              <a:lnTo>
                                <a:pt x="0" y="147"/>
                              </a:lnTo>
                              <a:lnTo>
                                <a:pt x="2" y="136"/>
                              </a:lnTo>
                              <a:lnTo>
                                <a:pt x="6" y="130"/>
                              </a:lnTo>
                              <a:lnTo>
                                <a:pt x="21" y="114"/>
                              </a:lnTo>
                              <a:lnTo>
                                <a:pt x="36" y="115"/>
                              </a:lnTo>
                              <a:lnTo>
                                <a:pt x="39" y="118"/>
                              </a:lnTo>
                              <a:lnTo>
                                <a:pt x="58" y="118"/>
                              </a:lnTo>
                              <a:lnTo>
                                <a:pt x="59" y="114"/>
                              </a:lnTo>
                              <a:lnTo>
                                <a:pt x="63" y="115"/>
                              </a:lnTo>
                              <a:lnTo>
                                <a:pt x="69" y="111"/>
                              </a:lnTo>
                              <a:lnTo>
                                <a:pt x="73" y="112"/>
                              </a:lnTo>
                              <a:lnTo>
                                <a:pt x="77" y="109"/>
                              </a:lnTo>
                              <a:lnTo>
                                <a:pt x="76" y="105"/>
                              </a:lnTo>
                              <a:lnTo>
                                <a:pt x="80" y="95"/>
                              </a:lnTo>
                              <a:lnTo>
                                <a:pt x="85" y="91"/>
                              </a:lnTo>
                              <a:lnTo>
                                <a:pt x="83" y="88"/>
                              </a:lnTo>
                              <a:lnTo>
                                <a:pt x="85" y="85"/>
                              </a:lnTo>
                              <a:lnTo>
                                <a:pt x="83" y="80"/>
                              </a:lnTo>
                              <a:lnTo>
                                <a:pt x="91" y="73"/>
                              </a:lnTo>
                              <a:lnTo>
                                <a:pt x="103" y="72"/>
                              </a:lnTo>
                              <a:lnTo>
                                <a:pt x="115" y="54"/>
                              </a:lnTo>
                              <a:lnTo>
                                <a:pt x="131" y="40"/>
                              </a:lnTo>
                              <a:lnTo>
                                <a:pt x="137" y="38"/>
                              </a:lnTo>
                              <a:lnTo>
                                <a:pt x="142" y="34"/>
                              </a:lnTo>
                              <a:lnTo>
                                <a:pt x="148" y="34"/>
                              </a:lnTo>
                              <a:lnTo>
                                <a:pt x="161" y="47"/>
                              </a:lnTo>
                              <a:lnTo>
                                <a:pt x="165" y="48"/>
                              </a:lnTo>
                              <a:lnTo>
                                <a:pt x="169" y="43"/>
                              </a:lnTo>
                              <a:lnTo>
                                <a:pt x="177" y="34"/>
                              </a:lnTo>
                              <a:lnTo>
                                <a:pt x="183" y="32"/>
                              </a:lnTo>
                              <a:lnTo>
                                <a:pt x="188" y="21"/>
                              </a:lnTo>
                              <a:lnTo>
                                <a:pt x="194" y="19"/>
                              </a:lnTo>
                              <a:lnTo>
                                <a:pt x="200" y="15"/>
                              </a:lnTo>
                              <a:lnTo>
                                <a:pt x="207" y="11"/>
                              </a:lnTo>
                              <a:lnTo>
                                <a:pt x="214" y="11"/>
                              </a:lnTo>
                              <a:lnTo>
                                <a:pt x="220" y="5"/>
                              </a:lnTo>
                              <a:lnTo>
                                <a:pt x="228" y="5"/>
                              </a:lnTo>
                              <a:lnTo>
                                <a:pt x="238" y="5"/>
                              </a:lnTo>
                              <a:lnTo>
                                <a:pt x="250" y="8"/>
                              </a:lnTo>
                              <a:lnTo>
                                <a:pt x="258" y="14"/>
                              </a:lnTo>
                              <a:lnTo>
                                <a:pt x="259" y="18"/>
                              </a:lnTo>
                              <a:lnTo>
                                <a:pt x="261" y="21"/>
                              </a:lnTo>
                              <a:lnTo>
                                <a:pt x="262" y="28"/>
                              </a:lnTo>
                              <a:lnTo>
                                <a:pt x="261" y="31"/>
                              </a:lnTo>
                              <a:lnTo>
                                <a:pt x="261" y="38"/>
                              </a:lnTo>
                              <a:lnTo>
                                <a:pt x="259" y="43"/>
                              </a:lnTo>
                              <a:lnTo>
                                <a:pt x="280" y="59"/>
                              </a:lnTo>
                              <a:lnTo>
                                <a:pt x="287" y="67"/>
                              </a:lnTo>
                              <a:lnTo>
                                <a:pt x="295" y="70"/>
                              </a:lnTo>
                              <a:lnTo>
                                <a:pt x="303" y="75"/>
                              </a:lnTo>
                              <a:lnTo>
                                <a:pt x="309" y="76"/>
                              </a:lnTo>
                              <a:lnTo>
                                <a:pt x="317" y="72"/>
                              </a:lnTo>
                              <a:lnTo>
                                <a:pt x="324" y="59"/>
                              </a:lnTo>
                              <a:lnTo>
                                <a:pt x="327" y="48"/>
                              </a:lnTo>
                              <a:lnTo>
                                <a:pt x="329" y="28"/>
                              </a:lnTo>
                              <a:lnTo>
                                <a:pt x="332" y="19"/>
                              </a:lnTo>
                              <a:lnTo>
                                <a:pt x="33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3" name=""/>
                        <p:cNvSpPr/>
                        <p:nvPr/>
                      </p:nvSpPr>
                      <p:spPr>
                        <a:xfrm>
                          <a:off x="8400960" y="5519880"/>
                          <a:ext cx="116640" cy="26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5" h="49">
                              <a:moveTo>
                                <a:pt x="0" y="0"/>
                              </a:moveTo>
                              <a:lnTo>
                                <a:pt x="19" y="7"/>
                              </a:lnTo>
                              <a:lnTo>
                                <a:pt x="36" y="7"/>
                              </a:lnTo>
                              <a:lnTo>
                                <a:pt x="51" y="7"/>
                              </a:lnTo>
                              <a:lnTo>
                                <a:pt x="62" y="7"/>
                              </a:lnTo>
                              <a:lnTo>
                                <a:pt x="70" y="8"/>
                              </a:lnTo>
                              <a:lnTo>
                                <a:pt x="81" y="13"/>
                              </a:lnTo>
                              <a:lnTo>
                                <a:pt x="86" y="23"/>
                              </a:lnTo>
                              <a:lnTo>
                                <a:pt x="92" y="27"/>
                              </a:lnTo>
                              <a:lnTo>
                                <a:pt x="101" y="26"/>
                              </a:lnTo>
                              <a:lnTo>
                                <a:pt x="112" y="26"/>
                              </a:lnTo>
                              <a:lnTo>
                                <a:pt x="125" y="31"/>
                              </a:lnTo>
                              <a:lnTo>
                                <a:pt x="133" y="34"/>
                              </a:lnTo>
                              <a:lnTo>
                                <a:pt x="138" y="34"/>
                              </a:lnTo>
                              <a:lnTo>
                                <a:pt x="140" y="27"/>
                              </a:lnTo>
                              <a:lnTo>
                                <a:pt x="144" y="23"/>
                              </a:lnTo>
                              <a:lnTo>
                                <a:pt x="160" y="26"/>
                              </a:lnTo>
                              <a:lnTo>
                                <a:pt x="174" y="26"/>
                              </a:lnTo>
                              <a:lnTo>
                                <a:pt x="186" y="26"/>
                              </a:lnTo>
                              <a:lnTo>
                                <a:pt x="196" y="30"/>
                              </a:lnTo>
                              <a:lnTo>
                                <a:pt x="202" y="33"/>
                              </a:lnTo>
                              <a:lnTo>
                                <a:pt x="211" y="31"/>
                              </a:lnTo>
                              <a:lnTo>
                                <a:pt x="218" y="29"/>
                              </a:lnTo>
                              <a:lnTo>
                                <a:pt x="222" y="26"/>
                              </a:lnTo>
                              <a:lnTo>
                                <a:pt x="233" y="26"/>
                              </a:lnTo>
                              <a:lnTo>
                                <a:pt x="240" y="23"/>
                              </a:lnTo>
                              <a:lnTo>
                                <a:pt x="250" y="20"/>
                              </a:lnTo>
                              <a:lnTo>
                                <a:pt x="255" y="20"/>
                              </a:lnTo>
                              <a:lnTo>
                                <a:pt x="254" y="30"/>
                              </a:lnTo>
                              <a:lnTo>
                                <a:pt x="251" y="34"/>
                              </a:lnTo>
                              <a:lnTo>
                                <a:pt x="245" y="39"/>
                              </a:lnTo>
                              <a:lnTo>
                                <a:pt x="240" y="39"/>
                              </a:lnTo>
                              <a:lnTo>
                                <a:pt x="239" y="39"/>
                              </a:lnTo>
                              <a:lnTo>
                                <a:pt x="232" y="40"/>
                              </a:lnTo>
                              <a:lnTo>
                                <a:pt x="226" y="46"/>
                              </a:lnTo>
                              <a:lnTo>
                                <a:pt x="221" y="45"/>
                              </a:lnTo>
                              <a:lnTo>
                                <a:pt x="215" y="42"/>
                              </a:lnTo>
                              <a:lnTo>
                                <a:pt x="210" y="45"/>
                              </a:lnTo>
                              <a:lnTo>
                                <a:pt x="204" y="46"/>
                              </a:lnTo>
                              <a:lnTo>
                                <a:pt x="200" y="46"/>
                              </a:lnTo>
                              <a:lnTo>
                                <a:pt x="196" y="49"/>
                              </a:lnTo>
                              <a:lnTo>
                                <a:pt x="185" y="49"/>
                              </a:lnTo>
                              <a:lnTo>
                                <a:pt x="181" y="45"/>
                              </a:lnTo>
                              <a:lnTo>
                                <a:pt x="175" y="39"/>
                              </a:lnTo>
                              <a:lnTo>
                                <a:pt x="169" y="45"/>
                              </a:lnTo>
                              <a:lnTo>
                                <a:pt x="164" y="49"/>
                              </a:lnTo>
                              <a:lnTo>
                                <a:pt x="159" y="49"/>
                              </a:lnTo>
                              <a:lnTo>
                                <a:pt x="149" y="39"/>
                              </a:lnTo>
                              <a:lnTo>
                                <a:pt x="147" y="40"/>
                              </a:lnTo>
                              <a:lnTo>
                                <a:pt x="141" y="40"/>
                              </a:lnTo>
                              <a:lnTo>
                                <a:pt x="137" y="46"/>
                              </a:lnTo>
                              <a:lnTo>
                                <a:pt x="129" y="45"/>
                              </a:lnTo>
                              <a:lnTo>
                                <a:pt x="121" y="45"/>
                              </a:lnTo>
                              <a:lnTo>
                                <a:pt x="117" y="42"/>
                              </a:lnTo>
                              <a:lnTo>
                                <a:pt x="111" y="39"/>
                              </a:lnTo>
                              <a:lnTo>
                                <a:pt x="103" y="40"/>
                              </a:lnTo>
                              <a:lnTo>
                                <a:pt x="95" y="46"/>
                              </a:lnTo>
                              <a:lnTo>
                                <a:pt x="89" y="45"/>
                              </a:lnTo>
                              <a:lnTo>
                                <a:pt x="81" y="42"/>
                              </a:lnTo>
                              <a:lnTo>
                                <a:pt x="71" y="37"/>
                              </a:lnTo>
                              <a:lnTo>
                                <a:pt x="63" y="37"/>
                              </a:lnTo>
                              <a:lnTo>
                                <a:pt x="47" y="33"/>
                              </a:lnTo>
                              <a:lnTo>
                                <a:pt x="36" y="30"/>
                              </a:lnTo>
                              <a:lnTo>
                                <a:pt x="29" y="29"/>
                              </a:lnTo>
                              <a:lnTo>
                                <a:pt x="18" y="27"/>
                              </a:lnTo>
                              <a:lnTo>
                                <a:pt x="11" y="21"/>
                              </a:lnTo>
                              <a:lnTo>
                                <a:pt x="4" y="20"/>
                              </a:lnTo>
                              <a:lnTo>
                                <a:pt x="1" y="18"/>
                              </a:lnTo>
                              <a:lnTo>
                                <a:pt x="0" y="1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520" bIns="-20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4" name=""/>
                        <p:cNvSpPr/>
                        <p:nvPr/>
                      </p:nvSpPr>
                      <p:spPr>
                        <a:xfrm>
                          <a:off x="8465040" y="5465880"/>
                          <a:ext cx="52560" cy="51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5" h="95">
                              <a:moveTo>
                                <a:pt x="29" y="0"/>
                              </a:moveTo>
                              <a:lnTo>
                                <a:pt x="56" y="2"/>
                              </a:lnTo>
                              <a:lnTo>
                                <a:pt x="82" y="2"/>
                              </a:lnTo>
                              <a:lnTo>
                                <a:pt x="96" y="0"/>
                              </a:lnTo>
                              <a:lnTo>
                                <a:pt x="115" y="9"/>
                              </a:lnTo>
                              <a:lnTo>
                                <a:pt x="103" y="12"/>
                              </a:lnTo>
                              <a:lnTo>
                                <a:pt x="96" y="16"/>
                              </a:lnTo>
                              <a:lnTo>
                                <a:pt x="92" y="19"/>
                              </a:lnTo>
                              <a:lnTo>
                                <a:pt x="89" y="22"/>
                              </a:lnTo>
                              <a:lnTo>
                                <a:pt x="89" y="25"/>
                              </a:lnTo>
                              <a:lnTo>
                                <a:pt x="89" y="29"/>
                              </a:lnTo>
                              <a:lnTo>
                                <a:pt x="81" y="32"/>
                              </a:lnTo>
                              <a:lnTo>
                                <a:pt x="74" y="32"/>
                              </a:lnTo>
                              <a:lnTo>
                                <a:pt x="71" y="34"/>
                              </a:lnTo>
                              <a:lnTo>
                                <a:pt x="64" y="34"/>
                              </a:lnTo>
                              <a:lnTo>
                                <a:pt x="62" y="29"/>
                              </a:lnTo>
                              <a:lnTo>
                                <a:pt x="56" y="23"/>
                              </a:lnTo>
                              <a:lnTo>
                                <a:pt x="51" y="19"/>
                              </a:lnTo>
                              <a:lnTo>
                                <a:pt x="40" y="19"/>
                              </a:lnTo>
                              <a:lnTo>
                                <a:pt x="37" y="19"/>
                              </a:lnTo>
                              <a:lnTo>
                                <a:pt x="34" y="26"/>
                              </a:lnTo>
                              <a:lnTo>
                                <a:pt x="35" y="34"/>
                              </a:lnTo>
                              <a:lnTo>
                                <a:pt x="35" y="38"/>
                              </a:lnTo>
                              <a:lnTo>
                                <a:pt x="37" y="42"/>
                              </a:lnTo>
                              <a:lnTo>
                                <a:pt x="42" y="41"/>
                              </a:lnTo>
                              <a:lnTo>
                                <a:pt x="51" y="37"/>
                              </a:lnTo>
                              <a:lnTo>
                                <a:pt x="56" y="37"/>
                              </a:lnTo>
                              <a:lnTo>
                                <a:pt x="60" y="39"/>
                              </a:lnTo>
                              <a:lnTo>
                                <a:pt x="60" y="42"/>
                              </a:lnTo>
                              <a:lnTo>
                                <a:pt x="57" y="48"/>
                              </a:lnTo>
                              <a:lnTo>
                                <a:pt x="56" y="51"/>
                              </a:lnTo>
                              <a:lnTo>
                                <a:pt x="56" y="54"/>
                              </a:lnTo>
                              <a:lnTo>
                                <a:pt x="55" y="58"/>
                              </a:lnTo>
                              <a:lnTo>
                                <a:pt x="57" y="63"/>
                              </a:lnTo>
                              <a:lnTo>
                                <a:pt x="63" y="68"/>
                              </a:lnTo>
                              <a:lnTo>
                                <a:pt x="64" y="67"/>
                              </a:lnTo>
                              <a:lnTo>
                                <a:pt x="64" y="73"/>
                              </a:lnTo>
                              <a:lnTo>
                                <a:pt x="62" y="77"/>
                              </a:lnTo>
                              <a:lnTo>
                                <a:pt x="59" y="82"/>
                              </a:lnTo>
                              <a:lnTo>
                                <a:pt x="57" y="89"/>
                              </a:lnTo>
                              <a:lnTo>
                                <a:pt x="52" y="92"/>
                              </a:lnTo>
                              <a:lnTo>
                                <a:pt x="48" y="92"/>
                              </a:lnTo>
                              <a:lnTo>
                                <a:pt x="44" y="92"/>
                              </a:lnTo>
                              <a:lnTo>
                                <a:pt x="44" y="86"/>
                              </a:lnTo>
                              <a:lnTo>
                                <a:pt x="42" y="76"/>
                              </a:lnTo>
                              <a:lnTo>
                                <a:pt x="38" y="73"/>
                              </a:lnTo>
                              <a:lnTo>
                                <a:pt x="37" y="68"/>
                              </a:lnTo>
                              <a:lnTo>
                                <a:pt x="38" y="60"/>
                              </a:lnTo>
                              <a:lnTo>
                                <a:pt x="34" y="57"/>
                              </a:lnTo>
                              <a:lnTo>
                                <a:pt x="24" y="60"/>
                              </a:lnTo>
                              <a:lnTo>
                                <a:pt x="20" y="57"/>
                              </a:lnTo>
                              <a:lnTo>
                                <a:pt x="16" y="61"/>
                              </a:lnTo>
                              <a:lnTo>
                                <a:pt x="20" y="64"/>
                              </a:lnTo>
                              <a:lnTo>
                                <a:pt x="27" y="67"/>
                              </a:lnTo>
                              <a:lnTo>
                                <a:pt x="29" y="70"/>
                              </a:lnTo>
                              <a:lnTo>
                                <a:pt x="33" y="76"/>
                              </a:lnTo>
                              <a:lnTo>
                                <a:pt x="33" y="80"/>
                              </a:lnTo>
                              <a:lnTo>
                                <a:pt x="29" y="87"/>
                              </a:lnTo>
                              <a:lnTo>
                                <a:pt x="23" y="93"/>
                              </a:lnTo>
                              <a:lnTo>
                                <a:pt x="20" y="95"/>
                              </a:lnTo>
                              <a:lnTo>
                                <a:pt x="20" y="90"/>
                              </a:lnTo>
                              <a:lnTo>
                                <a:pt x="20" y="86"/>
                              </a:lnTo>
                              <a:lnTo>
                                <a:pt x="22" y="80"/>
                              </a:lnTo>
                              <a:lnTo>
                                <a:pt x="15" y="76"/>
                              </a:lnTo>
                              <a:lnTo>
                                <a:pt x="8" y="71"/>
                              </a:lnTo>
                              <a:lnTo>
                                <a:pt x="7" y="67"/>
                              </a:lnTo>
                              <a:lnTo>
                                <a:pt x="0" y="64"/>
                              </a:lnTo>
                              <a:lnTo>
                                <a:pt x="1" y="57"/>
                              </a:lnTo>
                              <a:lnTo>
                                <a:pt x="7" y="53"/>
                              </a:lnTo>
                              <a:lnTo>
                                <a:pt x="11" y="45"/>
                              </a:lnTo>
                              <a:lnTo>
                                <a:pt x="15" y="38"/>
                              </a:lnTo>
                              <a:lnTo>
                                <a:pt x="16" y="31"/>
                              </a:lnTo>
                              <a:lnTo>
                                <a:pt x="15" y="23"/>
                              </a:lnTo>
                              <a:lnTo>
                                <a:pt x="18" y="21"/>
                              </a:lnTo>
                              <a:lnTo>
                                <a:pt x="20" y="18"/>
                              </a:lnTo>
                              <a:lnTo>
                                <a:pt x="16" y="12"/>
                              </a:lnTo>
                              <a:lnTo>
                                <a:pt x="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5" name=""/>
                        <p:cNvSpPr/>
                        <p:nvPr/>
                      </p:nvSpPr>
                      <p:spPr>
                        <a:xfrm>
                          <a:off x="8409240" y="5442840"/>
                          <a:ext cx="58320" cy="71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" h="131">
                              <a:moveTo>
                                <a:pt x="0" y="44"/>
                              </a:moveTo>
                              <a:lnTo>
                                <a:pt x="26" y="23"/>
                              </a:lnTo>
                              <a:lnTo>
                                <a:pt x="40" y="15"/>
                              </a:lnTo>
                              <a:lnTo>
                                <a:pt x="46" y="7"/>
                              </a:lnTo>
                              <a:lnTo>
                                <a:pt x="67" y="0"/>
                              </a:lnTo>
                              <a:lnTo>
                                <a:pt x="78" y="16"/>
                              </a:lnTo>
                              <a:lnTo>
                                <a:pt x="89" y="9"/>
                              </a:lnTo>
                              <a:lnTo>
                                <a:pt x="93" y="4"/>
                              </a:lnTo>
                              <a:lnTo>
                                <a:pt x="103" y="0"/>
                              </a:lnTo>
                              <a:lnTo>
                                <a:pt x="108" y="0"/>
                              </a:lnTo>
                              <a:lnTo>
                                <a:pt x="109" y="6"/>
                              </a:lnTo>
                              <a:lnTo>
                                <a:pt x="109" y="10"/>
                              </a:lnTo>
                              <a:lnTo>
                                <a:pt x="104" y="18"/>
                              </a:lnTo>
                              <a:lnTo>
                                <a:pt x="104" y="22"/>
                              </a:lnTo>
                              <a:lnTo>
                                <a:pt x="119" y="41"/>
                              </a:lnTo>
                              <a:lnTo>
                                <a:pt x="122" y="52"/>
                              </a:lnTo>
                              <a:lnTo>
                                <a:pt x="126" y="52"/>
                              </a:lnTo>
                              <a:lnTo>
                                <a:pt x="127" y="58"/>
                              </a:lnTo>
                              <a:lnTo>
                                <a:pt x="122" y="64"/>
                              </a:lnTo>
                              <a:lnTo>
                                <a:pt x="118" y="61"/>
                              </a:lnTo>
                              <a:lnTo>
                                <a:pt x="108" y="65"/>
                              </a:lnTo>
                              <a:lnTo>
                                <a:pt x="109" y="77"/>
                              </a:lnTo>
                              <a:lnTo>
                                <a:pt x="99" y="84"/>
                              </a:lnTo>
                              <a:lnTo>
                                <a:pt x="99" y="103"/>
                              </a:lnTo>
                              <a:lnTo>
                                <a:pt x="99" y="116"/>
                              </a:lnTo>
                              <a:lnTo>
                                <a:pt x="93" y="122"/>
                              </a:lnTo>
                              <a:lnTo>
                                <a:pt x="89" y="131"/>
                              </a:lnTo>
                              <a:lnTo>
                                <a:pt x="83" y="129"/>
                              </a:lnTo>
                              <a:lnTo>
                                <a:pt x="75" y="125"/>
                              </a:lnTo>
                              <a:lnTo>
                                <a:pt x="68" y="121"/>
                              </a:lnTo>
                              <a:lnTo>
                                <a:pt x="63" y="113"/>
                              </a:lnTo>
                              <a:lnTo>
                                <a:pt x="44" y="115"/>
                              </a:lnTo>
                              <a:lnTo>
                                <a:pt x="27" y="110"/>
                              </a:lnTo>
                              <a:lnTo>
                                <a:pt x="16" y="99"/>
                              </a:lnTo>
                              <a:lnTo>
                                <a:pt x="9" y="90"/>
                              </a:lnTo>
                              <a:lnTo>
                                <a:pt x="4" y="83"/>
                              </a:lnTo>
                              <a:lnTo>
                                <a:pt x="4" y="68"/>
                              </a:lnTo>
                              <a:lnTo>
                                <a:pt x="0" y="4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4480" bIns="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6" name=""/>
                        <p:cNvSpPr/>
                        <p:nvPr/>
                      </p:nvSpPr>
                      <p:spPr>
                        <a:xfrm>
                          <a:off x="8533440" y="5483880"/>
                          <a:ext cx="111240" cy="67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4" h="122">
                              <a:moveTo>
                                <a:pt x="0" y="0"/>
                              </a:moveTo>
                              <a:lnTo>
                                <a:pt x="22" y="2"/>
                              </a:lnTo>
                              <a:lnTo>
                                <a:pt x="40" y="3"/>
                              </a:lnTo>
                              <a:lnTo>
                                <a:pt x="48" y="21"/>
                              </a:lnTo>
                              <a:lnTo>
                                <a:pt x="50" y="26"/>
                              </a:lnTo>
                              <a:lnTo>
                                <a:pt x="52" y="29"/>
                              </a:lnTo>
                              <a:lnTo>
                                <a:pt x="58" y="25"/>
                              </a:lnTo>
                              <a:lnTo>
                                <a:pt x="67" y="25"/>
                              </a:lnTo>
                              <a:lnTo>
                                <a:pt x="73" y="29"/>
                              </a:lnTo>
                              <a:lnTo>
                                <a:pt x="76" y="28"/>
                              </a:lnTo>
                              <a:lnTo>
                                <a:pt x="84" y="21"/>
                              </a:lnTo>
                              <a:lnTo>
                                <a:pt x="85" y="21"/>
                              </a:lnTo>
                              <a:lnTo>
                                <a:pt x="92" y="16"/>
                              </a:lnTo>
                              <a:lnTo>
                                <a:pt x="99" y="16"/>
                              </a:lnTo>
                              <a:lnTo>
                                <a:pt x="121" y="25"/>
                              </a:lnTo>
                              <a:lnTo>
                                <a:pt x="131" y="25"/>
                              </a:lnTo>
                              <a:lnTo>
                                <a:pt x="140" y="32"/>
                              </a:lnTo>
                              <a:lnTo>
                                <a:pt x="150" y="35"/>
                              </a:lnTo>
                              <a:lnTo>
                                <a:pt x="158" y="41"/>
                              </a:lnTo>
                              <a:lnTo>
                                <a:pt x="165" y="42"/>
                              </a:lnTo>
                              <a:lnTo>
                                <a:pt x="183" y="48"/>
                              </a:lnTo>
                              <a:lnTo>
                                <a:pt x="191" y="58"/>
                              </a:lnTo>
                              <a:lnTo>
                                <a:pt x="195" y="64"/>
                              </a:lnTo>
                              <a:lnTo>
                                <a:pt x="194" y="67"/>
                              </a:lnTo>
                              <a:lnTo>
                                <a:pt x="200" y="73"/>
                              </a:lnTo>
                              <a:lnTo>
                                <a:pt x="206" y="74"/>
                              </a:lnTo>
                              <a:lnTo>
                                <a:pt x="209" y="76"/>
                              </a:lnTo>
                              <a:lnTo>
                                <a:pt x="216" y="77"/>
                              </a:lnTo>
                              <a:lnTo>
                                <a:pt x="227" y="86"/>
                              </a:lnTo>
                              <a:lnTo>
                                <a:pt x="227" y="92"/>
                              </a:lnTo>
                              <a:lnTo>
                                <a:pt x="233" y="97"/>
                              </a:lnTo>
                              <a:lnTo>
                                <a:pt x="235" y="100"/>
                              </a:lnTo>
                              <a:lnTo>
                                <a:pt x="244" y="112"/>
                              </a:lnTo>
                              <a:lnTo>
                                <a:pt x="236" y="122"/>
                              </a:lnTo>
                              <a:lnTo>
                                <a:pt x="233" y="122"/>
                              </a:lnTo>
                              <a:lnTo>
                                <a:pt x="225" y="122"/>
                              </a:lnTo>
                              <a:lnTo>
                                <a:pt x="222" y="118"/>
                              </a:lnTo>
                              <a:lnTo>
                                <a:pt x="218" y="118"/>
                              </a:lnTo>
                              <a:lnTo>
                                <a:pt x="214" y="119"/>
                              </a:lnTo>
                              <a:lnTo>
                                <a:pt x="194" y="96"/>
                              </a:lnTo>
                              <a:lnTo>
                                <a:pt x="181" y="97"/>
                              </a:lnTo>
                              <a:lnTo>
                                <a:pt x="169" y="96"/>
                              </a:lnTo>
                              <a:lnTo>
                                <a:pt x="165" y="99"/>
                              </a:lnTo>
                              <a:lnTo>
                                <a:pt x="161" y="103"/>
                              </a:lnTo>
                              <a:lnTo>
                                <a:pt x="159" y="100"/>
                              </a:lnTo>
                              <a:lnTo>
                                <a:pt x="154" y="108"/>
                              </a:lnTo>
                              <a:lnTo>
                                <a:pt x="146" y="118"/>
                              </a:lnTo>
                              <a:lnTo>
                                <a:pt x="139" y="113"/>
                              </a:lnTo>
                              <a:lnTo>
                                <a:pt x="131" y="111"/>
                              </a:lnTo>
                              <a:lnTo>
                                <a:pt x="125" y="111"/>
                              </a:lnTo>
                              <a:lnTo>
                                <a:pt x="117" y="108"/>
                              </a:lnTo>
                              <a:lnTo>
                                <a:pt x="113" y="111"/>
                              </a:lnTo>
                              <a:lnTo>
                                <a:pt x="107" y="96"/>
                              </a:lnTo>
                              <a:lnTo>
                                <a:pt x="98" y="83"/>
                              </a:lnTo>
                              <a:lnTo>
                                <a:pt x="88" y="67"/>
                              </a:lnTo>
                              <a:lnTo>
                                <a:pt x="80" y="58"/>
                              </a:lnTo>
                              <a:lnTo>
                                <a:pt x="73" y="50"/>
                              </a:lnTo>
                              <a:lnTo>
                                <a:pt x="58" y="50"/>
                              </a:lnTo>
                              <a:lnTo>
                                <a:pt x="44" y="54"/>
                              </a:lnTo>
                              <a:lnTo>
                                <a:pt x="37" y="48"/>
                              </a:lnTo>
                              <a:lnTo>
                                <a:pt x="24" y="44"/>
                              </a:lnTo>
                              <a:lnTo>
                                <a:pt x="17" y="39"/>
                              </a:lnTo>
                              <a:lnTo>
                                <a:pt x="17" y="22"/>
                              </a:lnTo>
                              <a:lnTo>
                                <a:pt x="18" y="1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520" bIns="20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7" name=""/>
                        <p:cNvSpPr/>
                        <p:nvPr/>
                      </p:nvSpPr>
                      <p:spPr>
                        <a:xfrm>
                          <a:off x="8327160" y="5436000"/>
                          <a:ext cx="67320" cy="88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8" h="161">
                              <a:moveTo>
                                <a:pt x="0" y="4"/>
                              </a:moveTo>
                              <a:lnTo>
                                <a:pt x="15" y="0"/>
                              </a:lnTo>
                              <a:lnTo>
                                <a:pt x="33" y="7"/>
                              </a:lnTo>
                              <a:lnTo>
                                <a:pt x="35" y="15"/>
                              </a:lnTo>
                              <a:lnTo>
                                <a:pt x="35" y="17"/>
                              </a:lnTo>
                              <a:lnTo>
                                <a:pt x="40" y="19"/>
                              </a:lnTo>
                              <a:lnTo>
                                <a:pt x="40" y="22"/>
                              </a:lnTo>
                              <a:lnTo>
                                <a:pt x="45" y="23"/>
                              </a:lnTo>
                              <a:lnTo>
                                <a:pt x="45" y="29"/>
                              </a:lnTo>
                              <a:lnTo>
                                <a:pt x="63" y="47"/>
                              </a:lnTo>
                              <a:lnTo>
                                <a:pt x="66" y="47"/>
                              </a:lnTo>
                              <a:lnTo>
                                <a:pt x="68" y="51"/>
                              </a:lnTo>
                              <a:lnTo>
                                <a:pt x="71" y="55"/>
                              </a:lnTo>
                              <a:lnTo>
                                <a:pt x="74" y="55"/>
                              </a:lnTo>
                              <a:lnTo>
                                <a:pt x="86" y="61"/>
                              </a:lnTo>
                              <a:lnTo>
                                <a:pt x="109" y="64"/>
                              </a:lnTo>
                              <a:lnTo>
                                <a:pt x="111" y="84"/>
                              </a:lnTo>
                              <a:lnTo>
                                <a:pt x="116" y="87"/>
                              </a:lnTo>
                              <a:lnTo>
                                <a:pt x="115" y="94"/>
                              </a:lnTo>
                              <a:lnTo>
                                <a:pt x="129" y="105"/>
                              </a:lnTo>
                              <a:lnTo>
                                <a:pt x="141" y="109"/>
                              </a:lnTo>
                              <a:lnTo>
                                <a:pt x="141" y="142"/>
                              </a:lnTo>
                              <a:lnTo>
                                <a:pt x="148" y="155"/>
                              </a:lnTo>
                              <a:lnTo>
                                <a:pt x="144" y="160"/>
                              </a:lnTo>
                              <a:lnTo>
                                <a:pt x="136" y="161"/>
                              </a:lnTo>
                              <a:lnTo>
                                <a:pt x="134" y="150"/>
                              </a:lnTo>
                              <a:lnTo>
                                <a:pt x="120" y="161"/>
                              </a:lnTo>
                              <a:lnTo>
                                <a:pt x="111" y="144"/>
                              </a:lnTo>
                              <a:lnTo>
                                <a:pt x="105" y="132"/>
                              </a:lnTo>
                              <a:lnTo>
                                <a:pt x="89" y="116"/>
                              </a:lnTo>
                              <a:lnTo>
                                <a:pt x="85" y="116"/>
                              </a:lnTo>
                              <a:lnTo>
                                <a:pt x="70" y="108"/>
                              </a:lnTo>
                              <a:lnTo>
                                <a:pt x="67" y="99"/>
                              </a:lnTo>
                              <a:lnTo>
                                <a:pt x="67" y="93"/>
                              </a:lnTo>
                              <a:lnTo>
                                <a:pt x="55" y="70"/>
                              </a:lnTo>
                              <a:lnTo>
                                <a:pt x="49" y="55"/>
                              </a:lnTo>
                              <a:lnTo>
                                <a:pt x="34" y="42"/>
                              </a:lnTo>
                              <a:lnTo>
                                <a:pt x="13" y="22"/>
                              </a:lnTo>
                              <a:lnTo>
                                <a:pt x="0" y="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1400" bIns="41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8" name=""/>
                        <p:cNvSpPr/>
                        <p:nvPr/>
                      </p:nvSpPr>
                      <p:spPr>
                        <a:xfrm>
                          <a:off x="8447760" y="5339160"/>
                          <a:ext cx="64800" cy="99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3" h="178">
                              <a:moveTo>
                                <a:pt x="10" y="0"/>
                              </a:moveTo>
                              <a:lnTo>
                                <a:pt x="22" y="0"/>
                              </a:lnTo>
                              <a:lnTo>
                                <a:pt x="36" y="19"/>
                              </a:lnTo>
                              <a:lnTo>
                                <a:pt x="33" y="36"/>
                              </a:lnTo>
                              <a:lnTo>
                                <a:pt x="41" y="42"/>
                              </a:lnTo>
                              <a:lnTo>
                                <a:pt x="45" y="54"/>
                              </a:lnTo>
                              <a:lnTo>
                                <a:pt x="55" y="59"/>
                              </a:lnTo>
                              <a:lnTo>
                                <a:pt x="66" y="61"/>
                              </a:lnTo>
                              <a:lnTo>
                                <a:pt x="82" y="69"/>
                              </a:lnTo>
                              <a:lnTo>
                                <a:pt x="93" y="81"/>
                              </a:lnTo>
                              <a:lnTo>
                                <a:pt x="96" y="81"/>
                              </a:lnTo>
                              <a:lnTo>
                                <a:pt x="110" y="90"/>
                              </a:lnTo>
                              <a:lnTo>
                                <a:pt x="110" y="112"/>
                              </a:lnTo>
                              <a:lnTo>
                                <a:pt x="114" y="122"/>
                              </a:lnTo>
                              <a:lnTo>
                                <a:pt x="118" y="128"/>
                              </a:lnTo>
                              <a:lnTo>
                                <a:pt x="123" y="133"/>
                              </a:lnTo>
                              <a:lnTo>
                                <a:pt x="129" y="141"/>
                              </a:lnTo>
                              <a:lnTo>
                                <a:pt x="132" y="149"/>
                              </a:lnTo>
                              <a:lnTo>
                                <a:pt x="143" y="157"/>
                              </a:lnTo>
                              <a:lnTo>
                                <a:pt x="141" y="165"/>
                              </a:lnTo>
                              <a:lnTo>
                                <a:pt x="130" y="167"/>
                              </a:lnTo>
                              <a:lnTo>
                                <a:pt x="126" y="160"/>
                              </a:lnTo>
                              <a:lnTo>
                                <a:pt x="118" y="160"/>
                              </a:lnTo>
                              <a:lnTo>
                                <a:pt x="118" y="178"/>
                              </a:lnTo>
                              <a:lnTo>
                                <a:pt x="111" y="178"/>
                              </a:lnTo>
                              <a:lnTo>
                                <a:pt x="103" y="170"/>
                              </a:lnTo>
                              <a:lnTo>
                                <a:pt x="97" y="165"/>
                              </a:lnTo>
                              <a:lnTo>
                                <a:pt x="97" y="155"/>
                              </a:lnTo>
                              <a:lnTo>
                                <a:pt x="85" y="155"/>
                              </a:lnTo>
                              <a:lnTo>
                                <a:pt x="81" y="165"/>
                              </a:lnTo>
                              <a:lnTo>
                                <a:pt x="77" y="155"/>
                              </a:lnTo>
                              <a:lnTo>
                                <a:pt x="75" y="145"/>
                              </a:lnTo>
                              <a:lnTo>
                                <a:pt x="91" y="141"/>
                              </a:lnTo>
                              <a:lnTo>
                                <a:pt x="99" y="144"/>
                              </a:lnTo>
                              <a:lnTo>
                                <a:pt x="100" y="126"/>
                              </a:lnTo>
                              <a:lnTo>
                                <a:pt x="92" y="120"/>
                              </a:lnTo>
                              <a:lnTo>
                                <a:pt x="86" y="106"/>
                              </a:lnTo>
                              <a:lnTo>
                                <a:pt x="82" y="88"/>
                              </a:lnTo>
                              <a:lnTo>
                                <a:pt x="67" y="83"/>
                              </a:lnTo>
                              <a:lnTo>
                                <a:pt x="60" y="74"/>
                              </a:lnTo>
                              <a:lnTo>
                                <a:pt x="48" y="69"/>
                              </a:lnTo>
                              <a:lnTo>
                                <a:pt x="55" y="87"/>
                              </a:lnTo>
                              <a:lnTo>
                                <a:pt x="41" y="94"/>
                              </a:lnTo>
                              <a:lnTo>
                                <a:pt x="33" y="75"/>
                              </a:lnTo>
                              <a:lnTo>
                                <a:pt x="26" y="71"/>
                              </a:lnTo>
                              <a:lnTo>
                                <a:pt x="26" y="61"/>
                              </a:lnTo>
                              <a:lnTo>
                                <a:pt x="17" y="49"/>
                              </a:lnTo>
                              <a:lnTo>
                                <a:pt x="6" y="42"/>
                              </a:lnTo>
                              <a:lnTo>
                                <a:pt x="0" y="35"/>
                              </a:lnTo>
                              <a:lnTo>
                                <a:pt x="3" y="29"/>
                              </a:lnTo>
                              <a:lnTo>
                                <a:pt x="11" y="32"/>
                              </a:lnTo>
                              <a:lnTo>
                                <a:pt x="14" y="24"/>
                              </a:lnTo>
                              <a:lnTo>
                                <a:pt x="11" y="14"/>
                              </a:lnTo>
                              <a:lnTo>
                                <a:pt x="1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9" name=""/>
                        <p:cNvSpPr/>
                        <p:nvPr/>
                      </p:nvSpPr>
                      <p:spPr>
                        <a:xfrm>
                          <a:off x="8431920" y="5172120"/>
                          <a:ext cx="48240" cy="83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6" h="153">
                              <a:moveTo>
                                <a:pt x="22" y="0"/>
                              </a:moveTo>
                              <a:lnTo>
                                <a:pt x="43" y="10"/>
                              </a:lnTo>
                              <a:lnTo>
                                <a:pt x="55" y="22"/>
                              </a:lnTo>
                              <a:lnTo>
                                <a:pt x="63" y="35"/>
                              </a:lnTo>
                              <a:lnTo>
                                <a:pt x="70" y="35"/>
                              </a:lnTo>
                              <a:lnTo>
                                <a:pt x="69" y="44"/>
                              </a:lnTo>
                              <a:lnTo>
                                <a:pt x="77" y="50"/>
                              </a:lnTo>
                              <a:lnTo>
                                <a:pt x="82" y="58"/>
                              </a:lnTo>
                              <a:lnTo>
                                <a:pt x="96" y="76"/>
                              </a:lnTo>
                              <a:lnTo>
                                <a:pt x="106" y="96"/>
                              </a:lnTo>
                              <a:lnTo>
                                <a:pt x="88" y="95"/>
                              </a:lnTo>
                              <a:lnTo>
                                <a:pt x="74" y="92"/>
                              </a:lnTo>
                              <a:lnTo>
                                <a:pt x="84" y="106"/>
                              </a:lnTo>
                              <a:lnTo>
                                <a:pt x="84" y="115"/>
                              </a:lnTo>
                              <a:lnTo>
                                <a:pt x="84" y="124"/>
                              </a:lnTo>
                              <a:lnTo>
                                <a:pt x="78" y="119"/>
                              </a:lnTo>
                              <a:lnTo>
                                <a:pt x="71" y="112"/>
                              </a:lnTo>
                              <a:lnTo>
                                <a:pt x="59" y="103"/>
                              </a:lnTo>
                              <a:lnTo>
                                <a:pt x="52" y="99"/>
                              </a:lnTo>
                              <a:lnTo>
                                <a:pt x="41" y="103"/>
                              </a:lnTo>
                              <a:lnTo>
                                <a:pt x="34" y="106"/>
                              </a:lnTo>
                              <a:lnTo>
                                <a:pt x="39" y="114"/>
                              </a:lnTo>
                              <a:lnTo>
                                <a:pt x="50" y="119"/>
                              </a:lnTo>
                              <a:lnTo>
                                <a:pt x="60" y="125"/>
                              </a:lnTo>
                              <a:lnTo>
                                <a:pt x="65" y="135"/>
                              </a:lnTo>
                              <a:lnTo>
                                <a:pt x="63" y="148"/>
                              </a:lnTo>
                              <a:lnTo>
                                <a:pt x="63" y="153"/>
                              </a:lnTo>
                              <a:lnTo>
                                <a:pt x="59" y="153"/>
                              </a:lnTo>
                              <a:lnTo>
                                <a:pt x="52" y="148"/>
                              </a:lnTo>
                              <a:lnTo>
                                <a:pt x="50" y="147"/>
                              </a:lnTo>
                              <a:lnTo>
                                <a:pt x="45" y="144"/>
                              </a:lnTo>
                              <a:lnTo>
                                <a:pt x="41" y="151"/>
                              </a:lnTo>
                              <a:lnTo>
                                <a:pt x="34" y="153"/>
                              </a:lnTo>
                              <a:lnTo>
                                <a:pt x="29" y="147"/>
                              </a:lnTo>
                              <a:lnTo>
                                <a:pt x="29" y="134"/>
                              </a:lnTo>
                              <a:lnTo>
                                <a:pt x="28" y="127"/>
                              </a:lnTo>
                              <a:lnTo>
                                <a:pt x="21" y="122"/>
                              </a:lnTo>
                              <a:lnTo>
                                <a:pt x="14" y="130"/>
                              </a:lnTo>
                              <a:lnTo>
                                <a:pt x="3" y="130"/>
                              </a:lnTo>
                              <a:lnTo>
                                <a:pt x="0" y="124"/>
                              </a:lnTo>
                              <a:lnTo>
                                <a:pt x="3" y="109"/>
                              </a:lnTo>
                              <a:lnTo>
                                <a:pt x="11" y="101"/>
                              </a:lnTo>
                              <a:lnTo>
                                <a:pt x="10" y="77"/>
                              </a:lnTo>
                              <a:lnTo>
                                <a:pt x="10" y="71"/>
                              </a:lnTo>
                              <a:lnTo>
                                <a:pt x="18" y="70"/>
                              </a:lnTo>
                              <a:lnTo>
                                <a:pt x="25" y="76"/>
                              </a:lnTo>
                              <a:lnTo>
                                <a:pt x="37" y="79"/>
                              </a:lnTo>
                              <a:lnTo>
                                <a:pt x="37" y="69"/>
                              </a:lnTo>
                              <a:lnTo>
                                <a:pt x="32" y="63"/>
                              </a:lnTo>
                              <a:lnTo>
                                <a:pt x="29" y="58"/>
                              </a:lnTo>
                              <a:lnTo>
                                <a:pt x="33" y="58"/>
                              </a:lnTo>
                              <a:lnTo>
                                <a:pt x="36" y="58"/>
                              </a:lnTo>
                              <a:lnTo>
                                <a:pt x="39" y="58"/>
                              </a:lnTo>
                              <a:lnTo>
                                <a:pt x="41" y="58"/>
                              </a:lnTo>
                              <a:lnTo>
                                <a:pt x="45" y="54"/>
                              </a:lnTo>
                              <a:lnTo>
                                <a:pt x="44" y="50"/>
                              </a:lnTo>
                              <a:lnTo>
                                <a:pt x="40" y="40"/>
                              </a:lnTo>
                              <a:lnTo>
                                <a:pt x="32" y="29"/>
                              </a:lnTo>
                              <a:lnTo>
                                <a:pt x="21" y="24"/>
                              </a:lnTo>
                              <a:lnTo>
                                <a:pt x="17" y="15"/>
                              </a:lnTo>
                              <a:lnTo>
                                <a:pt x="2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080" bIns="37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0" name=""/>
                        <p:cNvSpPr/>
                        <p:nvPr/>
                      </p:nvSpPr>
                      <p:spPr>
                        <a:xfrm>
                          <a:off x="8377200" y="5072040"/>
                          <a:ext cx="5220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6" h="123">
                              <a:moveTo>
                                <a:pt x="0" y="0"/>
                              </a:moveTo>
                              <a:lnTo>
                                <a:pt x="11" y="0"/>
                              </a:lnTo>
                              <a:lnTo>
                                <a:pt x="16" y="9"/>
                              </a:lnTo>
                              <a:lnTo>
                                <a:pt x="31" y="22"/>
                              </a:lnTo>
                              <a:lnTo>
                                <a:pt x="37" y="36"/>
                              </a:lnTo>
                              <a:lnTo>
                                <a:pt x="48" y="38"/>
                              </a:lnTo>
                              <a:lnTo>
                                <a:pt x="57" y="40"/>
                              </a:lnTo>
                              <a:lnTo>
                                <a:pt x="64" y="46"/>
                              </a:lnTo>
                              <a:lnTo>
                                <a:pt x="72" y="46"/>
                              </a:lnTo>
                              <a:lnTo>
                                <a:pt x="81" y="55"/>
                              </a:lnTo>
                              <a:lnTo>
                                <a:pt x="90" y="62"/>
                              </a:lnTo>
                              <a:lnTo>
                                <a:pt x="99" y="67"/>
                              </a:lnTo>
                              <a:lnTo>
                                <a:pt x="98" y="71"/>
                              </a:lnTo>
                              <a:lnTo>
                                <a:pt x="92" y="74"/>
                              </a:lnTo>
                              <a:lnTo>
                                <a:pt x="87" y="74"/>
                              </a:lnTo>
                              <a:lnTo>
                                <a:pt x="84" y="78"/>
                              </a:lnTo>
                              <a:lnTo>
                                <a:pt x="95" y="87"/>
                              </a:lnTo>
                              <a:lnTo>
                                <a:pt x="103" y="96"/>
                              </a:lnTo>
                              <a:lnTo>
                                <a:pt x="116" y="104"/>
                              </a:lnTo>
                              <a:lnTo>
                                <a:pt x="107" y="115"/>
                              </a:lnTo>
                              <a:lnTo>
                                <a:pt x="101" y="117"/>
                              </a:lnTo>
                              <a:lnTo>
                                <a:pt x="102" y="123"/>
                              </a:lnTo>
                              <a:lnTo>
                                <a:pt x="90" y="123"/>
                              </a:lnTo>
                              <a:lnTo>
                                <a:pt x="85" y="119"/>
                              </a:lnTo>
                              <a:lnTo>
                                <a:pt x="76" y="107"/>
                              </a:lnTo>
                              <a:lnTo>
                                <a:pt x="69" y="97"/>
                              </a:lnTo>
                              <a:lnTo>
                                <a:pt x="58" y="80"/>
                              </a:lnTo>
                              <a:lnTo>
                                <a:pt x="46" y="67"/>
                              </a:lnTo>
                              <a:lnTo>
                                <a:pt x="32" y="48"/>
                              </a:lnTo>
                              <a:lnTo>
                                <a:pt x="24" y="42"/>
                              </a:lnTo>
                              <a:lnTo>
                                <a:pt x="17" y="38"/>
                              </a:lnTo>
                              <a:lnTo>
                                <a:pt x="14" y="27"/>
                              </a:lnTo>
                              <a:lnTo>
                                <a:pt x="2" y="19"/>
                              </a:lnTo>
                              <a:lnTo>
                                <a:pt x="2" y="1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061" name=""/>
                      <p:cNvGrpSpPr/>
                      <p:nvPr/>
                    </p:nvGrpSpPr>
                    <p:grpSpPr>
                      <a:xfrm>
                        <a:off x="7687440" y="4932000"/>
                        <a:ext cx="770040" cy="1130400"/>
                        <a:chOff x="7687440" y="4932000"/>
                        <a:chExt cx="770040" cy="1130400"/>
                      </a:xfrm>
                    </p:grpSpPr>
                    <p:sp>
                      <p:nvSpPr>
                        <p:cNvPr id="2062" name=""/>
                        <p:cNvSpPr/>
                        <p:nvPr/>
                      </p:nvSpPr>
                      <p:spPr>
                        <a:xfrm>
                          <a:off x="7687440" y="5212440"/>
                          <a:ext cx="383040" cy="51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38" h="938">
                              <a:moveTo>
                                <a:pt x="626" y="112"/>
                              </a:moveTo>
                              <a:lnTo>
                                <a:pt x="640" y="151"/>
                              </a:lnTo>
                              <a:lnTo>
                                <a:pt x="666" y="210"/>
                              </a:lnTo>
                              <a:lnTo>
                                <a:pt x="718" y="306"/>
                              </a:lnTo>
                              <a:lnTo>
                                <a:pt x="737" y="319"/>
                              </a:lnTo>
                              <a:lnTo>
                                <a:pt x="750" y="347"/>
                              </a:lnTo>
                              <a:lnTo>
                                <a:pt x="791" y="346"/>
                              </a:lnTo>
                              <a:lnTo>
                                <a:pt x="818" y="337"/>
                              </a:lnTo>
                              <a:lnTo>
                                <a:pt x="838" y="337"/>
                              </a:lnTo>
                              <a:lnTo>
                                <a:pt x="836" y="375"/>
                              </a:lnTo>
                              <a:lnTo>
                                <a:pt x="829" y="395"/>
                              </a:lnTo>
                              <a:lnTo>
                                <a:pt x="754" y="479"/>
                              </a:lnTo>
                              <a:lnTo>
                                <a:pt x="685" y="566"/>
                              </a:lnTo>
                              <a:lnTo>
                                <a:pt x="687" y="600"/>
                              </a:lnTo>
                              <a:lnTo>
                                <a:pt x="706" y="624"/>
                              </a:lnTo>
                              <a:lnTo>
                                <a:pt x="696" y="643"/>
                              </a:lnTo>
                              <a:lnTo>
                                <a:pt x="702" y="669"/>
                              </a:lnTo>
                              <a:lnTo>
                                <a:pt x="696" y="688"/>
                              </a:lnTo>
                              <a:lnTo>
                                <a:pt x="680" y="704"/>
                              </a:lnTo>
                              <a:lnTo>
                                <a:pt x="666" y="704"/>
                              </a:lnTo>
                              <a:lnTo>
                                <a:pt x="643" y="732"/>
                              </a:lnTo>
                              <a:lnTo>
                                <a:pt x="622" y="764"/>
                              </a:lnTo>
                              <a:lnTo>
                                <a:pt x="626" y="799"/>
                              </a:lnTo>
                              <a:lnTo>
                                <a:pt x="606" y="815"/>
                              </a:lnTo>
                              <a:lnTo>
                                <a:pt x="587" y="851"/>
                              </a:lnTo>
                              <a:lnTo>
                                <a:pt x="563" y="884"/>
                              </a:lnTo>
                              <a:lnTo>
                                <a:pt x="551" y="897"/>
                              </a:lnTo>
                              <a:lnTo>
                                <a:pt x="540" y="900"/>
                              </a:lnTo>
                              <a:lnTo>
                                <a:pt x="521" y="922"/>
                              </a:lnTo>
                              <a:lnTo>
                                <a:pt x="489" y="935"/>
                              </a:lnTo>
                              <a:lnTo>
                                <a:pt x="449" y="938"/>
                              </a:lnTo>
                              <a:lnTo>
                                <a:pt x="427" y="923"/>
                              </a:lnTo>
                              <a:lnTo>
                                <a:pt x="425" y="909"/>
                              </a:lnTo>
                              <a:lnTo>
                                <a:pt x="421" y="890"/>
                              </a:lnTo>
                              <a:lnTo>
                                <a:pt x="406" y="880"/>
                              </a:lnTo>
                              <a:lnTo>
                                <a:pt x="393" y="844"/>
                              </a:lnTo>
                              <a:lnTo>
                                <a:pt x="389" y="826"/>
                              </a:lnTo>
                              <a:lnTo>
                                <a:pt x="388" y="804"/>
                              </a:lnTo>
                              <a:lnTo>
                                <a:pt x="381" y="788"/>
                              </a:lnTo>
                              <a:lnTo>
                                <a:pt x="379" y="778"/>
                              </a:lnTo>
                              <a:lnTo>
                                <a:pt x="367" y="762"/>
                              </a:lnTo>
                              <a:lnTo>
                                <a:pt x="353" y="749"/>
                              </a:lnTo>
                              <a:lnTo>
                                <a:pt x="344" y="727"/>
                              </a:lnTo>
                              <a:lnTo>
                                <a:pt x="337" y="711"/>
                              </a:lnTo>
                              <a:lnTo>
                                <a:pt x="340" y="685"/>
                              </a:lnTo>
                              <a:lnTo>
                                <a:pt x="360" y="646"/>
                              </a:lnTo>
                              <a:lnTo>
                                <a:pt x="364" y="604"/>
                              </a:lnTo>
                              <a:lnTo>
                                <a:pt x="349" y="556"/>
                              </a:lnTo>
                              <a:lnTo>
                                <a:pt x="327" y="537"/>
                              </a:lnTo>
                              <a:lnTo>
                                <a:pt x="312" y="511"/>
                              </a:lnTo>
                              <a:lnTo>
                                <a:pt x="318" y="470"/>
                              </a:lnTo>
                              <a:lnTo>
                                <a:pt x="307" y="440"/>
                              </a:lnTo>
                              <a:lnTo>
                                <a:pt x="281" y="437"/>
                              </a:lnTo>
                              <a:lnTo>
                                <a:pt x="253" y="414"/>
                              </a:lnTo>
                              <a:lnTo>
                                <a:pt x="219" y="401"/>
                              </a:lnTo>
                              <a:lnTo>
                                <a:pt x="183" y="421"/>
                              </a:lnTo>
                              <a:lnTo>
                                <a:pt x="90" y="415"/>
                              </a:lnTo>
                              <a:lnTo>
                                <a:pt x="39" y="364"/>
                              </a:lnTo>
                              <a:lnTo>
                                <a:pt x="0" y="295"/>
                              </a:lnTo>
                              <a:lnTo>
                                <a:pt x="7" y="271"/>
                              </a:lnTo>
                              <a:lnTo>
                                <a:pt x="24" y="254"/>
                              </a:lnTo>
                              <a:lnTo>
                                <a:pt x="33" y="206"/>
                              </a:lnTo>
                              <a:lnTo>
                                <a:pt x="45" y="171"/>
                              </a:lnTo>
                              <a:lnTo>
                                <a:pt x="81" y="135"/>
                              </a:lnTo>
                              <a:lnTo>
                                <a:pt x="118" y="119"/>
                              </a:lnTo>
                              <a:lnTo>
                                <a:pt x="152" y="81"/>
                              </a:lnTo>
                              <a:lnTo>
                                <a:pt x="160" y="65"/>
                              </a:lnTo>
                              <a:lnTo>
                                <a:pt x="205" y="25"/>
                              </a:lnTo>
                              <a:lnTo>
                                <a:pt x="234" y="41"/>
                              </a:lnTo>
                              <a:lnTo>
                                <a:pt x="255" y="39"/>
                              </a:lnTo>
                              <a:lnTo>
                                <a:pt x="279" y="17"/>
                              </a:lnTo>
                              <a:lnTo>
                                <a:pt x="308" y="14"/>
                              </a:lnTo>
                              <a:lnTo>
                                <a:pt x="327" y="20"/>
                              </a:lnTo>
                              <a:lnTo>
                                <a:pt x="345" y="3"/>
                              </a:lnTo>
                              <a:lnTo>
                                <a:pt x="369" y="0"/>
                              </a:lnTo>
                              <a:lnTo>
                                <a:pt x="374" y="32"/>
                              </a:lnTo>
                              <a:lnTo>
                                <a:pt x="389" y="55"/>
                              </a:lnTo>
                              <a:lnTo>
                                <a:pt x="432" y="78"/>
                              </a:lnTo>
                              <a:lnTo>
                                <a:pt x="467" y="83"/>
                              </a:lnTo>
                              <a:lnTo>
                                <a:pt x="471" y="57"/>
                              </a:lnTo>
                              <a:lnTo>
                                <a:pt x="499" y="57"/>
                              </a:lnTo>
                              <a:lnTo>
                                <a:pt x="532" y="73"/>
                              </a:lnTo>
                              <a:lnTo>
                                <a:pt x="567" y="81"/>
                              </a:lnTo>
                              <a:lnTo>
                                <a:pt x="599" y="71"/>
                              </a:lnTo>
                              <a:lnTo>
                                <a:pt x="626" y="1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063" name=""/>
                        <p:cNvGrpSpPr/>
                        <p:nvPr/>
                      </p:nvGrpSpPr>
                      <p:grpSpPr>
                        <a:xfrm>
                          <a:off x="7712640" y="4932000"/>
                          <a:ext cx="168840" cy="177480"/>
                          <a:chOff x="7712640" y="4932000"/>
                          <a:chExt cx="168840" cy="177480"/>
                        </a:xfrm>
                      </p:grpSpPr>
                      <p:grpSp>
                        <p:nvGrpSpPr>
                          <p:cNvPr id="2064" name=""/>
                          <p:cNvGrpSpPr/>
                          <p:nvPr/>
                        </p:nvGrpSpPr>
                        <p:grpSpPr>
                          <a:xfrm>
                            <a:off x="7780320" y="5043240"/>
                            <a:ext cx="51840" cy="66240"/>
                            <a:chOff x="7780320" y="5043240"/>
                            <a:chExt cx="51840" cy="66240"/>
                          </a:xfrm>
                        </p:grpSpPr>
                        <p:sp>
                          <p:nvSpPr>
                            <p:cNvPr id="2065" name=""/>
                            <p:cNvSpPr/>
                            <p:nvPr/>
                          </p:nvSpPr>
                          <p:spPr>
                            <a:xfrm>
                              <a:off x="7780320" y="5067360"/>
                              <a:ext cx="24480" cy="37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3" h="66">
                                  <a:moveTo>
                                    <a:pt x="12" y="20"/>
                                  </a:moveTo>
                                  <a:lnTo>
                                    <a:pt x="16" y="13"/>
                                  </a:lnTo>
                                  <a:lnTo>
                                    <a:pt x="26" y="13"/>
                                  </a:lnTo>
                                  <a:lnTo>
                                    <a:pt x="40" y="0"/>
                                  </a:lnTo>
                                  <a:lnTo>
                                    <a:pt x="44" y="8"/>
                                  </a:lnTo>
                                  <a:lnTo>
                                    <a:pt x="51" y="8"/>
                                  </a:lnTo>
                                  <a:lnTo>
                                    <a:pt x="53" y="13"/>
                                  </a:lnTo>
                                  <a:lnTo>
                                    <a:pt x="49" y="20"/>
                                  </a:lnTo>
                                  <a:lnTo>
                                    <a:pt x="44" y="23"/>
                                  </a:lnTo>
                                  <a:lnTo>
                                    <a:pt x="44" y="29"/>
                                  </a:lnTo>
                                  <a:lnTo>
                                    <a:pt x="42" y="31"/>
                                  </a:lnTo>
                                  <a:lnTo>
                                    <a:pt x="41" y="36"/>
                                  </a:lnTo>
                                  <a:lnTo>
                                    <a:pt x="44" y="42"/>
                                  </a:lnTo>
                                  <a:lnTo>
                                    <a:pt x="40" y="47"/>
                                  </a:lnTo>
                                  <a:lnTo>
                                    <a:pt x="36" y="50"/>
                                  </a:lnTo>
                                  <a:lnTo>
                                    <a:pt x="32" y="50"/>
                                  </a:lnTo>
                                  <a:lnTo>
                                    <a:pt x="30" y="52"/>
                                  </a:lnTo>
                                  <a:lnTo>
                                    <a:pt x="29" y="56"/>
                                  </a:lnTo>
                                  <a:lnTo>
                                    <a:pt x="22" y="58"/>
                                  </a:lnTo>
                                  <a:lnTo>
                                    <a:pt x="21" y="56"/>
                                  </a:lnTo>
                                  <a:lnTo>
                                    <a:pt x="15" y="61"/>
                                  </a:lnTo>
                                  <a:lnTo>
                                    <a:pt x="14" y="62"/>
                                  </a:lnTo>
                                  <a:lnTo>
                                    <a:pt x="7" y="66"/>
                                  </a:lnTo>
                                  <a:lnTo>
                                    <a:pt x="4" y="66"/>
                                  </a:lnTo>
                                  <a:lnTo>
                                    <a:pt x="3" y="63"/>
                                  </a:lnTo>
                                  <a:lnTo>
                                    <a:pt x="1" y="56"/>
                                  </a:lnTo>
                                  <a:lnTo>
                                    <a:pt x="0" y="55"/>
                                  </a:lnTo>
                                  <a:lnTo>
                                    <a:pt x="0" y="49"/>
                                  </a:lnTo>
                                  <a:lnTo>
                                    <a:pt x="4" y="46"/>
                                  </a:lnTo>
                                  <a:lnTo>
                                    <a:pt x="8" y="43"/>
                                  </a:lnTo>
                                  <a:lnTo>
                                    <a:pt x="11" y="37"/>
                                  </a:lnTo>
                                  <a:lnTo>
                                    <a:pt x="15" y="37"/>
                                  </a:lnTo>
                                  <a:lnTo>
                                    <a:pt x="18" y="39"/>
                                  </a:lnTo>
                                  <a:lnTo>
                                    <a:pt x="22" y="37"/>
                                  </a:lnTo>
                                  <a:lnTo>
                                    <a:pt x="18" y="36"/>
                                  </a:lnTo>
                                  <a:lnTo>
                                    <a:pt x="12" y="2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792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9360" bIns="-9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66" name=""/>
                            <p:cNvSpPr/>
                            <p:nvPr/>
                          </p:nvSpPr>
                          <p:spPr>
                            <a:xfrm>
                              <a:off x="7803000" y="5043240"/>
                              <a:ext cx="29160" cy="66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5" h="120">
                                  <a:moveTo>
                                    <a:pt x="21" y="17"/>
                                  </a:moveTo>
                                  <a:lnTo>
                                    <a:pt x="25" y="13"/>
                                  </a:lnTo>
                                  <a:lnTo>
                                    <a:pt x="37" y="14"/>
                                  </a:lnTo>
                                  <a:lnTo>
                                    <a:pt x="40" y="11"/>
                                  </a:lnTo>
                                  <a:lnTo>
                                    <a:pt x="43" y="7"/>
                                  </a:lnTo>
                                  <a:lnTo>
                                    <a:pt x="46" y="7"/>
                                  </a:lnTo>
                                  <a:lnTo>
                                    <a:pt x="48" y="5"/>
                                  </a:lnTo>
                                  <a:lnTo>
                                    <a:pt x="52" y="2"/>
                                  </a:lnTo>
                                  <a:lnTo>
                                    <a:pt x="58" y="0"/>
                                  </a:lnTo>
                                  <a:lnTo>
                                    <a:pt x="65" y="1"/>
                                  </a:lnTo>
                                  <a:lnTo>
                                    <a:pt x="63" y="7"/>
                                  </a:lnTo>
                                  <a:lnTo>
                                    <a:pt x="61" y="11"/>
                                  </a:lnTo>
                                  <a:lnTo>
                                    <a:pt x="58" y="13"/>
                                  </a:lnTo>
                                  <a:lnTo>
                                    <a:pt x="55" y="14"/>
                                  </a:lnTo>
                                  <a:lnTo>
                                    <a:pt x="47" y="17"/>
                                  </a:lnTo>
                                  <a:lnTo>
                                    <a:pt x="47" y="23"/>
                                  </a:lnTo>
                                  <a:lnTo>
                                    <a:pt x="48" y="26"/>
                                  </a:lnTo>
                                  <a:lnTo>
                                    <a:pt x="57" y="23"/>
                                  </a:lnTo>
                                  <a:lnTo>
                                    <a:pt x="63" y="20"/>
                                  </a:lnTo>
                                  <a:lnTo>
                                    <a:pt x="65" y="23"/>
                                  </a:lnTo>
                                  <a:lnTo>
                                    <a:pt x="65" y="31"/>
                                  </a:lnTo>
                                  <a:lnTo>
                                    <a:pt x="59" y="33"/>
                                  </a:lnTo>
                                  <a:lnTo>
                                    <a:pt x="54" y="33"/>
                                  </a:lnTo>
                                  <a:lnTo>
                                    <a:pt x="50" y="37"/>
                                  </a:lnTo>
                                  <a:lnTo>
                                    <a:pt x="48" y="40"/>
                                  </a:lnTo>
                                  <a:lnTo>
                                    <a:pt x="48" y="45"/>
                                  </a:lnTo>
                                  <a:lnTo>
                                    <a:pt x="52" y="50"/>
                                  </a:lnTo>
                                  <a:lnTo>
                                    <a:pt x="57" y="55"/>
                                  </a:lnTo>
                                  <a:lnTo>
                                    <a:pt x="59" y="59"/>
                                  </a:lnTo>
                                  <a:lnTo>
                                    <a:pt x="61" y="65"/>
                                  </a:lnTo>
                                  <a:lnTo>
                                    <a:pt x="62" y="71"/>
                                  </a:lnTo>
                                  <a:lnTo>
                                    <a:pt x="65" y="78"/>
                                  </a:lnTo>
                                  <a:lnTo>
                                    <a:pt x="65" y="88"/>
                                  </a:lnTo>
                                  <a:lnTo>
                                    <a:pt x="62" y="94"/>
                                  </a:lnTo>
                                  <a:lnTo>
                                    <a:pt x="57" y="98"/>
                                  </a:lnTo>
                                  <a:lnTo>
                                    <a:pt x="55" y="101"/>
                                  </a:lnTo>
                                  <a:lnTo>
                                    <a:pt x="58" y="107"/>
                                  </a:lnTo>
                                  <a:lnTo>
                                    <a:pt x="61" y="113"/>
                                  </a:lnTo>
                                  <a:lnTo>
                                    <a:pt x="52" y="113"/>
                                  </a:lnTo>
                                  <a:lnTo>
                                    <a:pt x="46" y="113"/>
                                  </a:lnTo>
                                  <a:lnTo>
                                    <a:pt x="43" y="111"/>
                                  </a:lnTo>
                                  <a:lnTo>
                                    <a:pt x="37" y="111"/>
                                  </a:lnTo>
                                  <a:lnTo>
                                    <a:pt x="31" y="113"/>
                                  </a:lnTo>
                                  <a:lnTo>
                                    <a:pt x="25" y="116"/>
                                  </a:lnTo>
                                  <a:lnTo>
                                    <a:pt x="21" y="116"/>
                                  </a:lnTo>
                                  <a:lnTo>
                                    <a:pt x="18" y="117"/>
                                  </a:lnTo>
                                  <a:lnTo>
                                    <a:pt x="11" y="120"/>
                                  </a:lnTo>
                                  <a:lnTo>
                                    <a:pt x="10" y="119"/>
                                  </a:lnTo>
                                  <a:lnTo>
                                    <a:pt x="7" y="116"/>
                                  </a:lnTo>
                                  <a:lnTo>
                                    <a:pt x="3" y="114"/>
                                  </a:lnTo>
                                  <a:lnTo>
                                    <a:pt x="0" y="113"/>
                                  </a:lnTo>
                                  <a:lnTo>
                                    <a:pt x="0" y="107"/>
                                  </a:lnTo>
                                  <a:lnTo>
                                    <a:pt x="3" y="100"/>
                                  </a:lnTo>
                                  <a:lnTo>
                                    <a:pt x="7" y="100"/>
                                  </a:lnTo>
                                  <a:lnTo>
                                    <a:pt x="11" y="98"/>
                                  </a:lnTo>
                                  <a:lnTo>
                                    <a:pt x="17" y="98"/>
                                  </a:lnTo>
                                  <a:lnTo>
                                    <a:pt x="17" y="97"/>
                                  </a:lnTo>
                                  <a:lnTo>
                                    <a:pt x="11" y="94"/>
                                  </a:lnTo>
                                  <a:lnTo>
                                    <a:pt x="11" y="90"/>
                                  </a:lnTo>
                                  <a:lnTo>
                                    <a:pt x="11" y="87"/>
                                  </a:lnTo>
                                  <a:lnTo>
                                    <a:pt x="17" y="84"/>
                                  </a:lnTo>
                                  <a:lnTo>
                                    <a:pt x="20" y="82"/>
                                  </a:lnTo>
                                  <a:lnTo>
                                    <a:pt x="22" y="81"/>
                                  </a:lnTo>
                                  <a:lnTo>
                                    <a:pt x="26" y="81"/>
                                  </a:lnTo>
                                  <a:lnTo>
                                    <a:pt x="29" y="79"/>
                                  </a:lnTo>
                                  <a:lnTo>
                                    <a:pt x="31" y="68"/>
                                  </a:lnTo>
                                  <a:lnTo>
                                    <a:pt x="35" y="59"/>
                                  </a:lnTo>
                                  <a:lnTo>
                                    <a:pt x="35" y="55"/>
                                  </a:lnTo>
                                  <a:lnTo>
                                    <a:pt x="25" y="53"/>
                                  </a:lnTo>
                                  <a:lnTo>
                                    <a:pt x="28" y="46"/>
                                  </a:lnTo>
                                  <a:lnTo>
                                    <a:pt x="21" y="42"/>
                                  </a:lnTo>
                                  <a:lnTo>
                                    <a:pt x="14" y="43"/>
                                  </a:lnTo>
                                  <a:lnTo>
                                    <a:pt x="22" y="33"/>
                                  </a:lnTo>
                                  <a:lnTo>
                                    <a:pt x="21" y="1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792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9440" bIns="19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067" name=""/>
                          <p:cNvSpPr/>
                          <p:nvPr/>
                        </p:nvSpPr>
                        <p:spPr>
                          <a:xfrm>
                            <a:off x="7712640" y="4932000"/>
                            <a:ext cx="168840" cy="111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0" h="203">
                                <a:moveTo>
                                  <a:pt x="0" y="203"/>
                                </a:moveTo>
                                <a:lnTo>
                                  <a:pt x="23" y="199"/>
                                </a:lnTo>
                                <a:lnTo>
                                  <a:pt x="31" y="190"/>
                                </a:lnTo>
                                <a:lnTo>
                                  <a:pt x="37" y="184"/>
                                </a:lnTo>
                                <a:lnTo>
                                  <a:pt x="40" y="180"/>
                                </a:lnTo>
                                <a:lnTo>
                                  <a:pt x="45" y="180"/>
                                </a:lnTo>
                                <a:lnTo>
                                  <a:pt x="51" y="175"/>
                                </a:lnTo>
                                <a:lnTo>
                                  <a:pt x="57" y="175"/>
                                </a:lnTo>
                                <a:lnTo>
                                  <a:pt x="62" y="175"/>
                                </a:lnTo>
                                <a:lnTo>
                                  <a:pt x="67" y="175"/>
                                </a:lnTo>
                                <a:lnTo>
                                  <a:pt x="70" y="175"/>
                                </a:lnTo>
                                <a:lnTo>
                                  <a:pt x="75" y="170"/>
                                </a:lnTo>
                                <a:lnTo>
                                  <a:pt x="78" y="165"/>
                                </a:lnTo>
                                <a:lnTo>
                                  <a:pt x="85" y="161"/>
                                </a:lnTo>
                                <a:lnTo>
                                  <a:pt x="90" y="159"/>
                                </a:lnTo>
                                <a:lnTo>
                                  <a:pt x="94" y="157"/>
                                </a:lnTo>
                                <a:lnTo>
                                  <a:pt x="100" y="155"/>
                                </a:lnTo>
                                <a:lnTo>
                                  <a:pt x="104" y="152"/>
                                </a:lnTo>
                                <a:lnTo>
                                  <a:pt x="110" y="149"/>
                                </a:lnTo>
                                <a:lnTo>
                                  <a:pt x="115" y="146"/>
                                </a:lnTo>
                                <a:lnTo>
                                  <a:pt x="122" y="142"/>
                                </a:lnTo>
                                <a:lnTo>
                                  <a:pt x="129" y="143"/>
                                </a:lnTo>
                                <a:lnTo>
                                  <a:pt x="140" y="146"/>
                                </a:lnTo>
                                <a:lnTo>
                                  <a:pt x="151" y="146"/>
                                </a:lnTo>
                                <a:lnTo>
                                  <a:pt x="163" y="142"/>
                                </a:lnTo>
                                <a:lnTo>
                                  <a:pt x="169" y="141"/>
                                </a:lnTo>
                                <a:lnTo>
                                  <a:pt x="173" y="132"/>
                                </a:lnTo>
                                <a:lnTo>
                                  <a:pt x="178" y="126"/>
                                </a:lnTo>
                                <a:lnTo>
                                  <a:pt x="188" y="119"/>
                                </a:lnTo>
                                <a:lnTo>
                                  <a:pt x="190" y="114"/>
                                </a:lnTo>
                                <a:lnTo>
                                  <a:pt x="190" y="109"/>
                                </a:lnTo>
                                <a:lnTo>
                                  <a:pt x="199" y="104"/>
                                </a:lnTo>
                                <a:lnTo>
                                  <a:pt x="203" y="100"/>
                                </a:lnTo>
                                <a:lnTo>
                                  <a:pt x="206" y="96"/>
                                </a:lnTo>
                                <a:lnTo>
                                  <a:pt x="208" y="94"/>
                                </a:lnTo>
                                <a:lnTo>
                                  <a:pt x="222" y="85"/>
                                </a:lnTo>
                                <a:lnTo>
                                  <a:pt x="222" y="94"/>
                                </a:lnTo>
                                <a:lnTo>
                                  <a:pt x="219" y="98"/>
                                </a:lnTo>
                                <a:lnTo>
                                  <a:pt x="222" y="103"/>
                                </a:lnTo>
                                <a:lnTo>
                                  <a:pt x="232" y="104"/>
                                </a:lnTo>
                                <a:lnTo>
                                  <a:pt x="237" y="104"/>
                                </a:lnTo>
                                <a:lnTo>
                                  <a:pt x="243" y="100"/>
                                </a:lnTo>
                                <a:lnTo>
                                  <a:pt x="247" y="94"/>
                                </a:lnTo>
                                <a:lnTo>
                                  <a:pt x="247" y="90"/>
                                </a:lnTo>
                                <a:lnTo>
                                  <a:pt x="251" y="85"/>
                                </a:lnTo>
                                <a:lnTo>
                                  <a:pt x="251" y="81"/>
                                </a:lnTo>
                                <a:lnTo>
                                  <a:pt x="255" y="75"/>
                                </a:lnTo>
                                <a:lnTo>
                                  <a:pt x="258" y="72"/>
                                </a:lnTo>
                                <a:lnTo>
                                  <a:pt x="265" y="72"/>
                                </a:lnTo>
                                <a:lnTo>
                                  <a:pt x="278" y="72"/>
                                </a:lnTo>
                                <a:lnTo>
                                  <a:pt x="289" y="66"/>
                                </a:lnTo>
                                <a:lnTo>
                                  <a:pt x="299" y="58"/>
                                </a:lnTo>
                                <a:lnTo>
                                  <a:pt x="310" y="55"/>
                                </a:lnTo>
                                <a:lnTo>
                                  <a:pt x="319" y="48"/>
                                </a:lnTo>
                                <a:lnTo>
                                  <a:pt x="326" y="36"/>
                                </a:lnTo>
                                <a:lnTo>
                                  <a:pt x="341" y="23"/>
                                </a:lnTo>
                                <a:lnTo>
                                  <a:pt x="351" y="17"/>
                                </a:lnTo>
                                <a:lnTo>
                                  <a:pt x="361" y="11"/>
                                </a:lnTo>
                                <a:lnTo>
                                  <a:pt x="370" y="4"/>
                                </a:lnTo>
                                <a:lnTo>
                                  <a:pt x="354" y="0"/>
                                </a:lnTo>
                                <a:lnTo>
                                  <a:pt x="337" y="0"/>
                                </a:lnTo>
                                <a:lnTo>
                                  <a:pt x="321" y="7"/>
                                </a:lnTo>
                                <a:lnTo>
                                  <a:pt x="313" y="11"/>
                                </a:lnTo>
                                <a:lnTo>
                                  <a:pt x="299" y="14"/>
                                </a:lnTo>
                                <a:lnTo>
                                  <a:pt x="284" y="16"/>
                                </a:lnTo>
                                <a:lnTo>
                                  <a:pt x="276" y="19"/>
                                </a:lnTo>
                                <a:lnTo>
                                  <a:pt x="258" y="26"/>
                                </a:lnTo>
                                <a:lnTo>
                                  <a:pt x="247" y="30"/>
                                </a:lnTo>
                                <a:lnTo>
                                  <a:pt x="236" y="35"/>
                                </a:lnTo>
                                <a:lnTo>
                                  <a:pt x="222" y="37"/>
                                </a:lnTo>
                                <a:lnTo>
                                  <a:pt x="208" y="42"/>
                                </a:lnTo>
                                <a:lnTo>
                                  <a:pt x="196" y="48"/>
                                </a:lnTo>
                                <a:lnTo>
                                  <a:pt x="186" y="55"/>
                                </a:lnTo>
                                <a:lnTo>
                                  <a:pt x="178" y="62"/>
                                </a:lnTo>
                                <a:lnTo>
                                  <a:pt x="170" y="68"/>
                                </a:lnTo>
                                <a:lnTo>
                                  <a:pt x="163" y="72"/>
                                </a:lnTo>
                                <a:lnTo>
                                  <a:pt x="148" y="81"/>
                                </a:lnTo>
                                <a:lnTo>
                                  <a:pt x="133" y="90"/>
                                </a:lnTo>
                                <a:lnTo>
                                  <a:pt x="115" y="100"/>
                                </a:lnTo>
                                <a:lnTo>
                                  <a:pt x="103" y="113"/>
                                </a:lnTo>
                                <a:lnTo>
                                  <a:pt x="89" y="123"/>
                                </a:lnTo>
                                <a:lnTo>
                                  <a:pt x="77" y="129"/>
                                </a:lnTo>
                                <a:lnTo>
                                  <a:pt x="64" y="142"/>
                                </a:lnTo>
                                <a:lnTo>
                                  <a:pt x="56" y="151"/>
                                </a:lnTo>
                                <a:lnTo>
                                  <a:pt x="45" y="159"/>
                                </a:lnTo>
                                <a:lnTo>
                                  <a:pt x="34" y="165"/>
                                </a:lnTo>
                                <a:lnTo>
                                  <a:pt x="23" y="171"/>
                                </a:lnTo>
                                <a:lnTo>
                                  <a:pt x="0" y="20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068" name=""/>
                        <p:cNvSpPr/>
                        <p:nvPr/>
                      </p:nvSpPr>
                      <p:spPr>
                        <a:xfrm>
                          <a:off x="7791480" y="5957640"/>
                          <a:ext cx="25092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2" h="189">
                              <a:moveTo>
                                <a:pt x="0" y="83"/>
                              </a:moveTo>
                              <a:lnTo>
                                <a:pt x="54" y="58"/>
                              </a:lnTo>
                              <a:lnTo>
                                <a:pt x="67" y="57"/>
                              </a:lnTo>
                              <a:lnTo>
                                <a:pt x="76" y="53"/>
                              </a:lnTo>
                              <a:lnTo>
                                <a:pt x="136" y="56"/>
                              </a:lnTo>
                              <a:lnTo>
                                <a:pt x="140" y="50"/>
                              </a:lnTo>
                              <a:lnTo>
                                <a:pt x="147" y="47"/>
                              </a:lnTo>
                              <a:lnTo>
                                <a:pt x="159" y="42"/>
                              </a:lnTo>
                              <a:lnTo>
                                <a:pt x="168" y="37"/>
                              </a:lnTo>
                              <a:lnTo>
                                <a:pt x="176" y="37"/>
                              </a:lnTo>
                              <a:lnTo>
                                <a:pt x="179" y="37"/>
                              </a:lnTo>
                              <a:lnTo>
                                <a:pt x="181" y="37"/>
                              </a:lnTo>
                              <a:lnTo>
                                <a:pt x="192" y="38"/>
                              </a:lnTo>
                              <a:lnTo>
                                <a:pt x="203" y="42"/>
                              </a:lnTo>
                              <a:lnTo>
                                <a:pt x="210" y="51"/>
                              </a:lnTo>
                              <a:lnTo>
                                <a:pt x="214" y="50"/>
                              </a:lnTo>
                              <a:lnTo>
                                <a:pt x="217" y="57"/>
                              </a:lnTo>
                              <a:lnTo>
                                <a:pt x="232" y="56"/>
                              </a:lnTo>
                              <a:lnTo>
                                <a:pt x="246" y="51"/>
                              </a:lnTo>
                              <a:lnTo>
                                <a:pt x="254" y="50"/>
                              </a:lnTo>
                              <a:lnTo>
                                <a:pt x="264" y="45"/>
                              </a:lnTo>
                              <a:lnTo>
                                <a:pt x="275" y="41"/>
                              </a:lnTo>
                              <a:lnTo>
                                <a:pt x="284" y="41"/>
                              </a:lnTo>
                              <a:lnTo>
                                <a:pt x="291" y="38"/>
                              </a:lnTo>
                              <a:lnTo>
                                <a:pt x="299" y="34"/>
                              </a:lnTo>
                              <a:lnTo>
                                <a:pt x="305" y="38"/>
                              </a:lnTo>
                              <a:lnTo>
                                <a:pt x="321" y="42"/>
                              </a:lnTo>
                              <a:lnTo>
                                <a:pt x="338" y="45"/>
                              </a:lnTo>
                              <a:lnTo>
                                <a:pt x="354" y="45"/>
                              </a:lnTo>
                              <a:lnTo>
                                <a:pt x="361" y="38"/>
                              </a:lnTo>
                              <a:lnTo>
                                <a:pt x="365" y="38"/>
                              </a:lnTo>
                              <a:lnTo>
                                <a:pt x="369" y="34"/>
                              </a:lnTo>
                              <a:lnTo>
                                <a:pt x="382" y="27"/>
                              </a:lnTo>
                              <a:lnTo>
                                <a:pt x="397" y="24"/>
                              </a:lnTo>
                              <a:lnTo>
                                <a:pt x="405" y="24"/>
                              </a:lnTo>
                              <a:lnTo>
                                <a:pt x="417" y="19"/>
                              </a:lnTo>
                              <a:lnTo>
                                <a:pt x="423" y="19"/>
                              </a:lnTo>
                              <a:lnTo>
                                <a:pt x="436" y="9"/>
                              </a:lnTo>
                              <a:lnTo>
                                <a:pt x="440" y="11"/>
                              </a:lnTo>
                              <a:lnTo>
                                <a:pt x="445" y="5"/>
                              </a:lnTo>
                              <a:lnTo>
                                <a:pt x="449" y="3"/>
                              </a:lnTo>
                              <a:lnTo>
                                <a:pt x="454" y="0"/>
                              </a:lnTo>
                              <a:lnTo>
                                <a:pt x="454" y="8"/>
                              </a:lnTo>
                              <a:lnTo>
                                <a:pt x="460" y="13"/>
                              </a:lnTo>
                              <a:lnTo>
                                <a:pt x="464" y="21"/>
                              </a:lnTo>
                              <a:lnTo>
                                <a:pt x="468" y="25"/>
                              </a:lnTo>
                              <a:lnTo>
                                <a:pt x="472" y="25"/>
                              </a:lnTo>
                              <a:lnTo>
                                <a:pt x="476" y="28"/>
                              </a:lnTo>
                              <a:lnTo>
                                <a:pt x="482" y="28"/>
                              </a:lnTo>
                              <a:lnTo>
                                <a:pt x="482" y="31"/>
                              </a:lnTo>
                              <a:lnTo>
                                <a:pt x="509" y="31"/>
                              </a:lnTo>
                              <a:lnTo>
                                <a:pt x="520" y="40"/>
                              </a:lnTo>
                              <a:lnTo>
                                <a:pt x="523" y="40"/>
                              </a:lnTo>
                              <a:lnTo>
                                <a:pt x="525" y="45"/>
                              </a:lnTo>
                              <a:lnTo>
                                <a:pt x="532" y="42"/>
                              </a:lnTo>
                              <a:lnTo>
                                <a:pt x="550" y="47"/>
                              </a:lnTo>
                              <a:lnTo>
                                <a:pt x="546" y="56"/>
                              </a:lnTo>
                              <a:lnTo>
                                <a:pt x="552" y="63"/>
                              </a:lnTo>
                              <a:lnTo>
                                <a:pt x="531" y="79"/>
                              </a:lnTo>
                              <a:lnTo>
                                <a:pt x="515" y="92"/>
                              </a:lnTo>
                              <a:lnTo>
                                <a:pt x="494" y="111"/>
                              </a:lnTo>
                              <a:lnTo>
                                <a:pt x="458" y="135"/>
                              </a:lnTo>
                              <a:lnTo>
                                <a:pt x="424" y="151"/>
                              </a:lnTo>
                              <a:lnTo>
                                <a:pt x="397" y="166"/>
                              </a:lnTo>
                              <a:lnTo>
                                <a:pt x="379" y="170"/>
                              </a:lnTo>
                              <a:lnTo>
                                <a:pt x="357" y="176"/>
                              </a:lnTo>
                              <a:lnTo>
                                <a:pt x="339" y="180"/>
                              </a:lnTo>
                              <a:lnTo>
                                <a:pt x="328" y="180"/>
                              </a:lnTo>
                              <a:lnTo>
                                <a:pt x="310" y="185"/>
                              </a:lnTo>
                              <a:lnTo>
                                <a:pt x="301" y="183"/>
                              </a:lnTo>
                              <a:lnTo>
                                <a:pt x="284" y="186"/>
                              </a:lnTo>
                              <a:lnTo>
                                <a:pt x="266" y="185"/>
                              </a:lnTo>
                              <a:lnTo>
                                <a:pt x="244" y="186"/>
                              </a:lnTo>
                              <a:lnTo>
                                <a:pt x="232" y="189"/>
                              </a:lnTo>
                              <a:lnTo>
                                <a:pt x="218" y="185"/>
                              </a:lnTo>
                              <a:lnTo>
                                <a:pt x="202" y="182"/>
                              </a:lnTo>
                              <a:lnTo>
                                <a:pt x="185" y="183"/>
                              </a:lnTo>
                              <a:lnTo>
                                <a:pt x="168" y="182"/>
                              </a:lnTo>
                              <a:lnTo>
                                <a:pt x="152" y="179"/>
                              </a:lnTo>
                              <a:lnTo>
                                <a:pt x="139" y="178"/>
                              </a:lnTo>
                              <a:lnTo>
                                <a:pt x="128" y="178"/>
                              </a:lnTo>
                              <a:lnTo>
                                <a:pt x="115" y="170"/>
                              </a:lnTo>
                              <a:lnTo>
                                <a:pt x="98" y="163"/>
                              </a:lnTo>
                              <a:lnTo>
                                <a:pt x="83" y="153"/>
                              </a:lnTo>
                              <a:lnTo>
                                <a:pt x="67" y="144"/>
                              </a:lnTo>
                              <a:lnTo>
                                <a:pt x="50" y="133"/>
                              </a:lnTo>
                              <a:lnTo>
                                <a:pt x="35" y="121"/>
                              </a:lnTo>
                              <a:lnTo>
                                <a:pt x="24" y="109"/>
                              </a:lnTo>
                              <a:lnTo>
                                <a:pt x="13" y="99"/>
                              </a:lnTo>
                              <a:lnTo>
                                <a:pt x="0" y="8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9" name=""/>
                        <p:cNvSpPr/>
                        <p:nvPr/>
                      </p:nvSpPr>
                      <p:spPr>
                        <a:xfrm>
                          <a:off x="8013600" y="5567040"/>
                          <a:ext cx="50040" cy="10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0" h="197">
                              <a:moveTo>
                                <a:pt x="21" y="62"/>
                              </a:moveTo>
                              <a:lnTo>
                                <a:pt x="18" y="101"/>
                              </a:lnTo>
                              <a:lnTo>
                                <a:pt x="8" y="126"/>
                              </a:lnTo>
                              <a:lnTo>
                                <a:pt x="0" y="149"/>
                              </a:lnTo>
                              <a:lnTo>
                                <a:pt x="0" y="167"/>
                              </a:lnTo>
                              <a:lnTo>
                                <a:pt x="3" y="181"/>
                              </a:lnTo>
                              <a:lnTo>
                                <a:pt x="12" y="194"/>
                              </a:lnTo>
                              <a:lnTo>
                                <a:pt x="21" y="196"/>
                              </a:lnTo>
                              <a:lnTo>
                                <a:pt x="28" y="196"/>
                              </a:lnTo>
                              <a:lnTo>
                                <a:pt x="36" y="197"/>
                              </a:lnTo>
                              <a:lnTo>
                                <a:pt x="40" y="187"/>
                              </a:lnTo>
                              <a:lnTo>
                                <a:pt x="44" y="161"/>
                              </a:lnTo>
                              <a:lnTo>
                                <a:pt x="56" y="144"/>
                              </a:lnTo>
                              <a:lnTo>
                                <a:pt x="59" y="117"/>
                              </a:lnTo>
                              <a:lnTo>
                                <a:pt x="65" y="107"/>
                              </a:lnTo>
                              <a:lnTo>
                                <a:pt x="70" y="100"/>
                              </a:lnTo>
                              <a:lnTo>
                                <a:pt x="74" y="81"/>
                              </a:lnTo>
                              <a:lnTo>
                                <a:pt x="82" y="69"/>
                              </a:lnTo>
                              <a:lnTo>
                                <a:pt x="88" y="61"/>
                              </a:lnTo>
                              <a:lnTo>
                                <a:pt x="93" y="53"/>
                              </a:lnTo>
                              <a:lnTo>
                                <a:pt x="93" y="49"/>
                              </a:lnTo>
                              <a:lnTo>
                                <a:pt x="106" y="39"/>
                              </a:lnTo>
                              <a:lnTo>
                                <a:pt x="107" y="22"/>
                              </a:lnTo>
                              <a:lnTo>
                                <a:pt x="110" y="11"/>
                              </a:lnTo>
                              <a:lnTo>
                                <a:pt x="99" y="7"/>
                              </a:lnTo>
                              <a:lnTo>
                                <a:pt x="92" y="0"/>
                              </a:lnTo>
                              <a:lnTo>
                                <a:pt x="82" y="7"/>
                              </a:lnTo>
                              <a:lnTo>
                                <a:pt x="74" y="24"/>
                              </a:lnTo>
                              <a:lnTo>
                                <a:pt x="65" y="38"/>
                              </a:lnTo>
                              <a:lnTo>
                                <a:pt x="56" y="48"/>
                              </a:lnTo>
                              <a:lnTo>
                                <a:pt x="52" y="48"/>
                              </a:lnTo>
                              <a:lnTo>
                                <a:pt x="44" y="53"/>
                              </a:lnTo>
                              <a:lnTo>
                                <a:pt x="40" y="59"/>
                              </a:lnTo>
                              <a:lnTo>
                                <a:pt x="21" y="6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0" name=""/>
                        <p:cNvSpPr/>
                        <p:nvPr/>
                      </p:nvSpPr>
                      <p:spPr>
                        <a:xfrm>
                          <a:off x="7771320" y="4941720"/>
                          <a:ext cx="686160" cy="51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03" h="936">
                              <a:moveTo>
                                <a:pt x="0" y="419"/>
                              </a:moveTo>
                              <a:lnTo>
                                <a:pt x="14" y="406"/>
                              </a:lnTo>
                              <a:lnTo>
                                <a:pt x="22" y="396"/>
                              </a:lnTo>
                              <a:lnTo>
                                <a:pt x="40" y="396"/>
                              </a:lnTo>
                              <a:lnTo>
                                <a:pt x="59" y="399"/>
                              </a:lnTo>
                              <a:lnTo>
                                <a:pt x="73" y="393"/>
                              </a:lnTo>
                              <a:lnTo>
                                <a:pt x="88" y="392"/>
                              </a:lnTo>
                              <a:lnTo>
                                <a:pt x="90" y="374"/>
                              </a:lnTo>
                              <a:lnTo>
                                <a:pt x="98" y="363"/>
                              </a:lnTo>
                              <a:lnTo>
                                <a:pt x="77" y="350"/>
                              </a:lnTo>
                              <a:lnTo>
                                <a:pt x="74" y="339"/>
                              </a:lnTo>
                              <a:lnTo>
                                <a:pt x="76" y="325"/>
                              </a:lnTo>
                              <a:lnTo>
                                <a:pt x="91" y="325"/>
                              </a:lnTo>
                              <a:lnTo>
                                <a:pt x="101" y="323"/>
                              </a:lnTo>
                              <a:lnTo>
                                <a:pt x="102" y="325"/>
                              </a:lnTo>
                              <a:lnTo>
                                <a:pt x="113" y="316"/>
                              </a:lnTo>
                              <a:lnTo>
                                <a:pt x="124" y="312"/>
                              </a:lnTo>
                              <a:lnTo>
                                <a:pt x="128" y="312"/>
                              </a:lnTo>
                              <a:lnTo>
                                <a:pt x="135" y="303"/>
                              </a:lnTo>
                              <a:lnTo>
                                <a:pt x="143" y="300"/>
                              </a:lnTo>
                              <a:lnTo>
                                <a:pt x="151" y="284"/>
                              </a:lnTo>
                              <a:lnTo>
                                <a:pt x="157" y="289"/>
                              </a:lnTo>
                              <a:lnTo>
                                <a:pt x="168" y="278"/>
                              </a:lnTo>
                              <a:lnTo>
                                <a:pt x="169" y="278"/>
                              </a:lnTo>
                              <a:lnTo>
                                <a:pt x="183" y="267"/>
                              </a:lnTo>
                              <a:lnTo>
                                <a:pt x="191" y="265"/>
                              </a:lnTo>
                              <a:lnTo>
                                <a:pt x="202" y="265"/>
                              </a:lnTo>
                              <a:lnTo>
                                <a:pt x="209" y="265"/>
                              </a:lnTo>
                              <a:lnTo>
                                <a:pt x="203" y="251"/>
                              </a:lnTo>
                              <a:lnTo>
                                <a:pt x="201" y="239"/>
                              </a:lnTo>
                              <a:lnTo>
                                <a:pt x="198" y="214"/>
                              </a:lnTo>
                              <a:lnTo>
                                <a:pt x="214" y="213"/>
                              </a:lnTo>
                              <a:lnTo>
                                <a:pt x="223" y="209"/>
                              </a:lnTo>
                              <a:lnTo>
                                <a:pt x="218" y="219"/>
                              </a:lnTo>
                              <a:lnTo>
                                <a:pt x="225" y="226"/>
                              </a:lnTo>
                              <a:lnTo>
                                <a:pt x="232" y="235"/>
                              </a:lnTo>
                              <a:lnTo>
                                <a:pt x="236" y="241"/>
                              </a:lnTo>
                              <a:lnTo>
                                <a:pt x="255" y="239"/>
                              </a:lnTo>
                              <a:lnTo>
                                <a:pt x="272" y="217"/>
                              </a:lnTo>
                              <a:lnTo>
                                <a:pt x="284" y="207"/>
                              </a:lnTo>
                              <a:lnTo>
                                <a:pt x="291" y="200"/>
                              </a:lnTo>
                              <a:lnTo>
                                <a:pt x="299" y="191"/>
                              </a:lnTo>
                              <a:lnTo>
                                <a:pt x="308" y="180"/>
                              </a:lnTo>
                              <a:lnTo>
                                <a:pt x="314" y="184"/>
                              </a:lnTo>
                              <a:lnTo>
                                <a:pt x="314" y="177"/>
                              </a:lnTo>
                              <a:lnTo>
                                <a:pt x="319" y="172"/>
                              </a:lnTo>
                              <a:lnTo>
                                <a:pt x="331" y="175"/>
                              </a:lnTo>
                              <a:lnTo>
                                <a:pt x="351" y="194"/>
                              </a:lnTo>
                              <a:lnTo>
                                <a:pt x="347" y="142"/>
                              </a:lnTo>
                              <a:lnTo>
                                <a:pt x="330" y="165"/>
                              </a:lnTo>
                              <a:lnTo>
                                <a:pt x="316" y="164"/>
                              </a:lnTo>
                              <a:lnTo>
                                <a:pt x="312" y="149"/>
                              </a:lnTo>
                              <a:lnTo>
                                <a:pt x="312" y="142"/>
                              </a:lnTo>
                              <a:lnTo>
                                <a:pt x="308" y="138"/>
                              </a:lnTo>
                              <a:lnTo>
                                <a:pt x="319" y="126"/>
                              </a:lnTo>
                              <a:lnTo>
                                <a:pt x="325" y="117"/>
                              </a:lnTo>
                              <a:lnTo>
                                <a:pt x="332" y="114"/>
                              </a:lnTo>
                              <a:lnTo>
                                <a:pt x="338" y="113"/>
                              </a:lnTo>
                              <a:lnTo>
                                <a:pt x="342" y="106"/>
                              </a:lnTo>
                              <a:lnTo>
                                <a:pt x="347" y="104"/>
                              </a:lnTo>
                              <a:lnTo>
                                <a:pt x="354" y="104"/>
                              </a:lnTo>
                              <a:lnTo>
                                <a:pt x="342" y="91"/>
                              </a:lnTo>
                              <a:lnTo>
                                <a:pt x="330" y="94"/>
                              </a:lnTo>
                              <a:lnTo>
                                <a:pt x="321" y="94"/>
                              </a:lnTo>
                              <a:lnTo>
                                <a:pt x="314" y="90"/>
                              </a:lnTo>
                              <a:lnTo>
                                <a:pt x="314" y="98"/>
                              </a:lnTo>
                              <a:lnTo>
                                <a:pt x="308" y="107"/>
                              </a:lnTo>
                              <a:lnTo>
                                <a:pt x="298" y="122"/>
                              </a:lnTo>
                              <a:lnTo>
                                <a:pt x="288" y="127"/>
                              </a:lnTo>
                              <a:lnTo>
                                <a:pt x="282" y="127"/>
                              </a:lnTo>
                              <a:lnTo>
                                <a:pt x="279" y="138"/>
                              </a:lnTo>
                              <a:lnTo>
                                <a:pt x="279" y="142"/>
                              </a:lnTo>
                              <a:lnTo>
                                <a:pt x="273" y="146"/>
                              </a:lnTo>
                              <a:lnTo>
                                <a:pt x="280" y="164"/>
                              </a:lnTo>
                              <a:lnTo>
                                <a:pt x="284" y="172"/>
                              </a:lnTo>
                              <a:lnTo>
                                <a:pt x="276" y="185"/>
                              </a:lnTo>
                              <a:lnTo>
                                <a:pt x="266" y="194"/>
                              </a:lnTo>
                              <a:lnTo>
                                <a:pt x="264" y="207"/>
                              </a:lnTo>
                              <a:lnTo>
                                <a:pt x="258" y="217"/>
                              </a:lnTo>
                              <a:lnTo>
                                <a:pt x="253" y="217"/>
                              </a:lnTo>
                              <a:lnTo>
                                <a:pt x="244" y="219"/>
                              </a:lnTo>
                              <a:lnTo>
                                <a:pt x="236" y="223"/>
                              </a:lnTo>
                              <a:lnTo>
                                <a:pt x="234" y="222"/>
                              </a:lnTo>
                              <a:lnTo>
                                <a:pt x="234" y="214"/>
                              </a:lnTo>
                              <a:lnTo>
                                <a:pt x="232" y="203"/>
                              </a:lnTo>
                              <a:lnTo>
                                <a:pt x="225" y="203"/>
                              </a:lnTo>
                              <a:lnTo>
                                <a:pt x="221" y="196"/>
                              </a:lnTo>
                              <a:lnTo>
                                <a:pt x="223" y="185"/>
                              </a:lnTo>
                              <a:lnTo>
                                <a:pt x="224" y="180"/>
                              </a:lnTo>
                              <a:lnTo>
                                <a:pt x="223" y="177"/>
                              </a:lnTo>
                              <a:lnTo>
                                <a:pt x="217" y="180"/>
                              </a:lnTo>
                              <a:lnTo>
                                <a:pt x="214" y="180"/>
                              </a:lnTo>
                              <a:lnTo>
                                <a:pt x="210" y="178"/>
                              </a:lnTo>
                              <a:lnTo>
                                <a:pt x="207" y="177"/>
                              </a:lnTo>
                              <a:lnTo>
                                <a:pt x="201" y="183"/>
                              </a:lnTo>
                              <a:lnTo>
                                <a:pt x="194" y="190"/>
                              </a:lnTo>
                              <a:lnTo>
                                <a:pt x="187" y="197"/>
                              </a:lnTo>
                              <a:lnTo>
                                <a:pt x="172" y="196"/>
                              </a:lnTo>
                              <a:lnTo>
                                <a:pt x="162" y="194"/>
                              </a:lnTo>
                              <a:lnTo>
                                <a:pt x="155" y="187"/>
                              </a:lnTo>
                              <a:lnTo>
                                <a:pt x="155" y="183"/>
                              </a:lnTo>
                              <a:lnTo>
                                <a:pt x="159" y="177"/>
                              </a:lnTo>
                              <a:lnTo>
                                <a:pt x="165" y="172"/>
                              </a:lnTo>
                              <a:lnTo>
                                <a:pt x="169" y="167"/>
                              </a:lnTo>
                              <a:lnTo>
                                <a:pt x="159" y="169"/>
                              </a:lnTo>
                              <a:lnTo>
                                <a:pt x="155" y="162"/>
                              </a:lnTo>
                              <a:lnTo>
                                <a:pt x="155" y="158"/>
                              </a:lnTo>
                              <a:lnTo>
                                <a:pt x="169" y="156"/>
                              </a:lnTo>
                              <a:lnTo>
                                <a:pt x="181" y="155"/>
                              </a:lnTo>
                              <a:lnTo>
                                <a:pt x="173" y="151"/>
                              </a:lnTo>
                              <a:lnTo>
                                <a:pt x="161" y="152"/>
                              </a:lnTo>
                              <a:lnTo>
                                <a:pt x="161" y="143"/>
                              </a:lnTo>
                              <a:lnTo>
                                <a:pt x="166" y="138"/>
                              </a:lnTo>
                              <a:lnTo>
                                <a:pt x="179" y="132"/>
                              </a:lnTo>
                              <a:lnTo>
                                <a:pt x="183" y="126"/>
                              </a:lnTo>
                              <a:lnTo>
                                <a:pt x="187" y="123"/>
                              </a:lnTo>
                              <a:lnTo>
                                <a:pt x="196" y="122"/>
                              </a:lnTo>
                              <a:lnTo>
                                <a:pt x="205" y="123"/>
                              </a:lnTo>
                              <a:lnTo>
                                <a:pt x="209" y="126"/>
                              </a:lnTo>
                              <a:lnTo>
                                <a:pt x="216" y="122"/>
                              </a:lnTo>
                              <a:lnTo>
                                <a:pt x="209" y="120"/>
                              </a:lnTo>
                              <a:lnTo>
                                <a:pt x="209" y="108"/>
                              </a:lnTo>
                              <a:lnTo>
                                <a:pt x="227" y="95"/>
                              </a:lnTo>
                              <a:lnTo>
                                <a:pt x="236" y="87"/>
                              </a:lnTo>
                              <a:lnTo>
                                <a:pt x="242" y="85"/>
                              </a:lnTo>
                              <a:lnTo>
                                <a:pt x="240" y="81"/>
                              </a:lnTo>
                              <a:lnTo>
                                <a:pt x="249" y="71"/>
                              </a:lnTo>
                              <a:lnTo>
                                <a:pt x="258" y="58"/>
                              </a:lnTo>
                              <a:lnTo>
                                <a:pt x="269" y="52"/>
                              </a:lnTo>
                              <a:lnTo>
                                <a:pt x="261" y="46"/>
                              </a:lnTo>
                              <a:lnTo>
                                <a:pt x="283" y="33"/>
                              </a:lnTo>
                              <a:lnTo>
                                <a:pt x="292" y="34"/>
                              </a:lnTo>
                              <a:lnTo>
                                <a:pt x="291" y="27"/>
                              </a:lnTo>
                              <a:lnTo>
                                <a:pt x="310" y="26"/>
                              </a:lnTo>
                              <a:lnTo>
                                <a:pt x="346" y="2"/>
                              </a:lnTo>
                              <a:lnTo>
                                <a:pt x="351" y="0"/>
                              </a:lnTo>
                              <a:lnTo>
                                <a:pt x="345" y="17"/>
                              </a:lnTo>
                              <a:lnTo>
                                <a:pt x="353" y="8"/>
                              </a:lnTo>
                              <a:lnTo>
                                <a:pt x="362" y="5"/>
                              </a:lnTo>
                              <a:lnTo>
                                <a:pt x="361" y="13"/>
                              </a:lnTo>
                              <a:lnTo>
                                <a:pt x="388" y="4"/>
                              </a:lnTo>
                              <a:lnTo>
                                <a:pt x="402" y="11"/>
                              </a:lnTo>
                              <a:lnTo>
                                <a:pt x="383" y="18"/>
                              </a:lnTo>
                              <a:lnTo>
                                <a:pt x="390" y="27"/>
                              </a:lnTo>
                              <a:lnTo>
                                <a:pt x="417" y="26"/>
                              </a:lnTo>
                              <a:lnTo>
                                <a:pt x="457" y="39"/>
                              </a:lnTo>
                              <a:lnTo>
                                <a:pt x="454" y="53"/>
                              </a:lnTo>
                              <a:lnTo>
                                <a:pt x="438" y="66"/>
                              </a:lnTo>
                              <a:lnTo>
                                <a:pt x="413" y="74"/>
                              </a:lnTo>
                              <a:lnTo>
                                <a:pt x="409" y="90"/>
                              </a:lnTo>
                              <a:lnTo>
                                <a:pt x="410" y="104"/>
                              </a:lnTo>
                              <a:lnTo>
                                <a:pt x="417" y="107"/>
                              </a:lnTo>
                              <a:lnTo>
                                <a:pt x="419" y="114"/>
                              </a:lnTo>
                              <a:lnTo>
                                <a:pt x="421" y="117"/>
                              </a:lnTo>
                              <a:lnTo>
                                <a:pt x="427" y="120"/>
                              </a:lnTo>
                              <a:lnTo>
                                <a:pt x="428" y="129"/>
                              </a:lnTo>
                              <a:lnTo>
                                <a:pt x="436" y="139"/>
                              </a:lnTo>
                              <a:lnTo>
                                <a:pt x="436" y="143"/>
                              </a:lnTo>
                              <a:lnTo>
                                <a:pt x="445" y="143"/>
                              </a:lnTo>
                              <a:lnTo>
                                <a:pt x="447" y="146"/>
                              </a:lnTo>
                              <a:lnTo>
                                <a:pt x="454" y="149"/>
                              </a:lnTo>
                              <a:lnTo>
                                <a:pt x="458" y="145"/>
                              </a:lnTo>
                              <a:lnTo>
                                <a:pt x="463" y="138"/>
                              </a:lnTo>
                              <a:lnTo>
                                <a:pt x="465" y="133"/>
                              </a:lnTo>
                              <a:lnTo>
                                <a:pt x="472" y="136"/>
                              </a:lnTo>
                              <a:lnTo>
                                <a:pt x="480" y="126"/>
                              </a:lnTo>
                              <a:lnTo>
                                <a:pt x="480" y="119"/>
                              </a:lnTo>
                              <a:lnTo>
                                <a:pt x="483" y="113"/>
                              </a:lnTo>
                              <a:lnTo>
                                <a:pt x="484" y="108"/>
                              </a:lnTo>
                              <a:lnTo>
                                <a:pt x="501" y="104"/>
                              </a:lnTo>
                              <a:lnTo>
                                <a:pt x="515" y="100"/>
                              </a:lnTo>
                              <a:lnTo>
                                <a:pt x="532" y="94"/>
                              </a:lnTo>
                              <a:lnTo>
                                <a:pt x="553" y="98"/>
                              </a:lnTo>
                              <a:lnTo>
                                <a:pt x="574" y="98"/>
                              </a:lnTo>
                              <a:lnTo>
                                <a:pt x="608" y="98"/>
                              </a:lnTo>
                              <a:lnTo>
                                <a:pt x="613" y="62"/>
                              </a:lnTo>
                              <a:lnTo>
                                <a:pt x="633" y="63"/>
                              </a:lnTo>
                              <a:lnTo>
                                <a:pt x="646" y="91"/>
                              </a:lnTo>
                              <a:lnTo>
                                <a:pt x="649" y="68"/>
                              </a:lnTo>
                              <a:lnTo>
                                <a:pt x="712" y="4"/>
                              </a:lnTo>
                              <a:lnTo>
                                <a:pt x="737" y="4"/>
                              </a:lnTo>
                              <a:lnTo>
                                <a:pt x="759" y="17"/>
                              </a:lnTo>
                              <a:lnTo>
                                <a:pt x="788" y="16"/>
                              </a:lnTo>
                              <a:lnTo>
                                <a:pt x="826" y="39"/>
                              </a:lnTo>
                              <a:lnTo>
                                <a:pt x="870" y="52"/>
                              </a:lnTo>
                              <a:lnTo>
                                <a:pt x="901" y="49"/>
                              </a:lnTo>
                              <a:lnTo>
                                <a:pt x="942" y="63"/>
                              </a:lnTo>
                              <a:lnTo>
                                <a:pt x="977" y="63"/>
                              </a:lnTo>
                              <a:lnTo>
                                <a:pt x="993" y="53"/>
                              </a:lnTo>
                              <a:lnTo>
                                <a:pt x="1032" y="53"/>
                              </a:lnTo>
                              <a:lnTo>
                                <a:pt x="1052" y="65"/>
                              </a:lnTo>
                              <a:lnTo>
                                <a:pt x="1104" y="65"/>
                              </a:lnTo>
                              <a:lnTo>
                                <a:pt x="1148" y="85"/>
                              </a:lnTo>
                              <a:lnTo>
                                <a:pt x="1229" y="82"/>
                              </a:lnTo>
                              <a:lnTo>
                                <a:pt x="1357" y="91"/>
                              </a:lnTo>
                              <a:lnTo>
                                <a:pt x="1418" y="119"/>
                              </a:lnTo>
                              <a:lnTo>
                                <a:pt x="1470" y="136"/>
                              </a:lnTo>
                              <a:lnTo>
                                <a:pt x="1503" y="151"/>
                              </a:lnTo>
                              <a:lnTo>
                                <a:pt x="1494" y="155"/>
                              </a:lnTo>
                              <a:lnTo>
                                <a:pt x="1470" y="143"/>
                              </a:lnTo>
                              <a:lnTo>
                                <a:pt x="1417" y="139"/>
                              </a:lnTo>
                              <a:lnTo>
                                <a:pt x="1432" y="151"/>
                              </a:lnTo>
                              <a:lnTo>
                                <a:pt x="1455" y="156"/>
                              </a:lnTo>
                              <a:lnTo>
                                <a:pt x="1449" y="175"/>
                              </a:lnTo>
                              <a:lnTo>
                                <a:pt x="1424" y="187"/>
                              </a:lnTo>
                              <a:lnTo>
                                <a:pt x="1416" y="206"/>
                              </a:lnTo>
                              <a:lnTo>
                                <a:pt x="1449" y="223"/>
                              </a:lnTo>
                              <a:lnTo>
                                <a:pt x="1472" y="246"/>
                              </a:lnTo>
                              <a:lnTo>
                                <a:pt x="1484" y="280"/>
                              </a:lnTo>
                              <a:lnTo>
                                <a:pt x="1469" y="283"/>
                              </a:lnTo>
                              <a:lnTo>
                                <a:pt x="1436" y="273"/>
                              </a:lnTo>
                              <a:lnTo>
                                <a:pt x="1402" y="248"/>
                              </a:lnTo>
                              <a:lnTo>
                                <a:pt x="1388" y="235"/>
                              </a:lnTo>
                              <a:lnTo>
                                <a:pt x="1380" y="217"/>
                              </a:lnTo>
                              <a:lnTo>
                                <a:pt x="1372" y="191"/>
                              </a:lnTo>
                              <a:lnTo>
                                <a:pt x="1358" y="183"/>
                              </a:lnTo>
                              <a:lnTo>
                                <a:pt x="1346" y="181"/>
                              </a:lnTo>
                              <a:lnTo>
                                <a:pt x="1335" y="184"/>
                              </a:lnTo>
                              <a:lnTo>
                                <a:pt x="1347" y="204"/>
                              </a:lnTo>
                              <a:lnTo>
                                <a:pt x="1314" y="207"/>
                              </a:lnTo>
                              <a:lnTo>
                                <a:pt x="1299" y="197"/>
                              </a:lnTo>
                              <a:lnTo>
                                <a:pt x="1270" y="203"/>
                              </a:lnTo>
                              <a:lnTo>
                                <a:pt x="1248" y="219"/>
                              </a:lnTo>
                              <a:lnTo>
                                <a:pt x="1248" y="228"/>
                              </a:lnTo>
                              <a:lnTo>
                                <a:pt x="1257" y="242"/>
                              </a:lnTo>
                              <a:lnTo>
                                <a:pt x="1291" y="246"/>
                              </a:lnTo>
                              <a:lnTo>
                                <a:pt x="1318" y="264"/>
                              </a:lnTo>
                              <a:lnTo>
                                <a:pt x="1365" y="312"/>
                              </a:lnTo>
                              <a:lnTo>
                                <a:pt x="1384" y="344"/>
                              </a:lnTo>
                              <a:lnTo>
                                <a:pt x="1387" y="377"/>
                              </a:lnTo>
                              <a:lnTo>
                                <a:pt x="1383" y="405"/>
                              </a:lnTo>
                              <a:lnTo>
                                <a:pt x="1372" y="405"/>
                              </a:lnTo>
                              <a:lnTo>
                                <a:pt x="1359" y="395"/>
                              </a:lnTo>
                              <a:lnTo>
                                <a:pt x="1342" y="408"/>
                              </a:lnTo>
                              <a:lnTo>
                                <a:pt x="1324" y="419"/>
                              </a:lnTo>
                              <a:lnTo>
                                <a:pt x="1321" y="441"/>
                              </a:lnTo>
                              <a:lnTo>
                                <a:pt x="1340" y="464"/>
                              </a:lnTo>
                              <a:lnTo>
                                <a:pt x="1328" y="483"/>
                              </a:lnTo>
                              <a:lnTo>
                                <a:pt x="1324" y="515"/>
                              </a:lnTo>
                              <a:lnTo>
                                <a:pt x="1347" y="535"/>
                              </a:lnTo>
                              <a:lnTo>
                                <a:pt x="1373" y="541"/>
                              </a:lnTo>
                              <a:lnTo>
                                <a:pt x="1401" y="563"/>
                              </a:lnTo>
                              <a:lnTo>
                                <a:pt x="1424" y="592"/>
                              </a:lnTo>
                              <a:lnTo>
                                <a:pt x="1425" y="636"/>
                              </a:lnTo>
                              <a:lnTo>
                                <a:pt x="1417" y="656"/>
                              </a:lnTo>
                              <a:lnTo>
                                <a:pt x="1392" y="673"/>
                              </a:lnTo>
                              <a:lnTo>
                                <a:pt x="1362" y="682"/>
                              </a:lnTo>
                              <a:lnTo>
                                <a:pt x="1343" y="695"/>
                              </a:lnTo>
                              <a:lnTo>
                                <a:pt x="1332" y="688"/>
                              </a:lnTo>
                              <a:lnTo>
                                <a:pt x="1322" y="695"/>
                              </a:lnTo>
                              <a:lnTo>
                                <a:pt x="1320" y="727"/>
                              </a:lnTo>
                              <a:lnTo>
                                <a:pt x="1326" y="746"/>
                              </a:lnTo>
                              <a:lnTo>
                                <a:pt x="1357" y="768"/>
                              </a:lnTo>
                              <a:lnTo>
                                <a:pt x="1369" y="789"/>
                              </a:lnTo>
                              <a:lnTo>
                                <a:pt x="1379" y="803"/>
                              </a:lnTo>
                              <a:lnTo>
                                <a:pt x="1376" y="826"/>
                              </a:lnTo>
                              <a:lnTo>
                                <a:pt x="1357" y="845"/>
                              </a:lnTo>
                              <a:lnTo>
                                <a:pt x="1336" y="845"/>
                              </a:lnTo>
                              <a:lnTo>
                                <a:pt x="1303" y="817"/>
                              </a:lnTo>
                              <a:lnTo>
                                <a:pt x="1280" y="807"/>
                              </a:lnTo>
                              <a:lnTo>
                                <a:pt x="1270" y="801"/>
                              </a:lnTo>
                              <a:lnTo>
                                <a:pt x="1261" y="816"/>
                              </a:lnTo>
                              <a:lnTo>
                                <a:pt x="1263" y="836"/>
                              </a:lnTo>
                              <a:lnTo>
                                <a:pt x="1272" y="852"/>
                              </a:lnTo>
                              <a:lnTo>
                                <a:pt x="1277" y="877"/>
                              </a:lnTo>
                              <a:lnTo>
                                <a:pt x="1298" y="885"/>
                              </a:lnTo>
                              <a:lnTo>
                                <a:pt x="1291" y="898"/>
                              </a:lnTo>
                              <a:lnTo>
                                <a:pt x="1292" y="917"/>
                              </a:lnTo>
                              <a:lnTo>
                                <a:pt x="1299" y="936"/>
                              </a:lnTo>
                              <a:lnTo>
                                <a:pt x="1285" y="935"/>
                              </a:lnTo>
                              <a:lnTo>
                                <a:pt x="1270" y="913"/>
                              </a:lnTo>
                              <a:lnTo>
                                <a:pt x="1272" y="890"/>
                              </a:lnTo>
                              <a:lnTo>
                                <a:pt x="1266" y="882"/>
                              </a:lnTo>
                              <a:lnTo>
                                <a:pt x="1261" y="856"/>
                              </a:lnTo>
                              <a:lnTo>
                                <a:pt x="1254" y="849"/>
                              </a:lnTo>
                              <a:lnTo>
                                <a:pt x="1251" y="813"/>
                              </a:lnTo>
                              <a:lnTo>
                                <a:pt x="1241" y="789"/>
                              </a:lnTo>
                              <a:lnTo>
                                <a:pt x="1225" y="769"/>
                              </a:lnTo>
                              <a:lnTo>
                                <a:pt x="1195" y="758"/>
                              </a:lnTo>
                              <a:lnTo>
                                <a:pt x="1173" y="739"/>
                              </a:lnTo>
                              <a:lnTo>
                                <a:pt x="1163" y="724"/>
                              </a:lnTo>
                              <a:lnTo>
                                <a:pt x="1148" y="708"/>
                              </a:lnTo>
                              <a:lnTo>
                                <a:pt x="1125" y="672"/>
                              </a:lnTo>
                              <a:lnTo>
                                <a:pt x="1104" y="675"/>
                              </a:lnTo>
                              <a:lnTo>
                                <a:pt x="1077" y="692"/>
                              </a:lnTo>
                              <a:lnTo>
                                <a:pt x="1065" y="707"/>
                              </a:lnTo>
                              <a:lnTo>
                                <a:pt x="1040" y="734"/>
                              </a:lnTo>
                              <a:lnTo>
                                <a:pt x="1022" y="763"/>
                              </a:lnTo>
                              <a:lnTo>
                                <a:pt x="1015" y="774"/>
                              </a:lnTo>
                              <a:lnTo>
                                <a:pt x="1022" y="808"/>
                              </a:lnTo>
                              <a:lnTo>
                                <a:pt x="1021" y="842"/>
                              </a:lnTo>
                              <a:lnTo>
                                <a:pt x="999" y="865"/>
                              </a:lnTo>
                              <a:lnTo>
                                <a:pt x="986" y="866"/>
                              </a:lnTo>
                              <a:lnTo>
                                <a:pt x="960" y="819"/>
                              </a:lnTo>
                              <a:lnTo>
                                <a:pt x="940" y="784"/>
                              </a:lnTo>
                              <a:lnTo>
                                <a:pt x="899" y="720"/>
                              </a:lnTo>
                              <a:lnTo>
                                <a:pt x="897" y="695"/>
                              </a:lnTo>
                              <a:lnTo>
                                <a:pt x="888" y="683"/>
                              </a:lnTo>
                              <a:lnTo>
                                <a:pt x="881" y="699"/>
                              </a:lnTo>
                              <a:lnTo>
                                <a:pt x="845" y="663"/>
                              </a:lnTo>
                              <a:lnTo>
                                <a:pt x="797" y="636"/>
                              </a:lnTo>
                              <a:lnTo>
                                <a:pt x="767" y="641"/>
                              </a:lnTo>
                              <a:lnTo>
                                <a:pt x="723" y="638"/>
                              </a:lnTo>
                              <a:lnTo>
                                <a:pt x="703" y="618"/>
                              </a:lnTo>
                              <a:lnTo>
                                <a:pt x="679" y="621"/>
                              </a:lnTo>
                              <a:lnTo>
                                <a:pt x="646" y="612"/>
                              </a:lnTo>
                              <a:lnTo>
                                <a:pt x="578" y="544"/>
                              </a:lnTo>
                              <a:lnTo>
                                <a:pt x="582" y="572"/>
                              </a:lnTo>
                              <a:lnTo>
                                <a:pt x="602" y="611"/>
                              </a:lnTo>
                              <a:lnTo>
                                <a:pt x="626" y="638"/>
                              </a:lnTo>
                              <a:lnTo>
                                <a:pt x="650" y="653"/>
                              </a:lnTo>
                              <a:lnTo>
                                <a:pt x="678" y="641"/>
                              </a:lnTo>
                              <a:lnTo>
                                <a:pt x="700" y="641"/>
                              </a:lnTo>
                              <a:lnTo>
                                <a:pt x="729" y="666"/>
                              </a:lnTo>
                              <a:lnTo>
                                <a:pt x="745" y="685"/>
                              </a:lnTo>
                              <a:lnTo>
                                <a:pt x="742" y="697"/>
                              </a:lnTo>
                              <a:lnTo>
                                <a:pt x="693" y="750"/>
                              </a:lnTo>
                              <a:lnTo>
                                <a:pt x="660" y="771"/>
                              </a:lnTo>
                              <a:lnTo>
                                <a:pt x="591" y="798"/>
                              </a:lnTo>
                              <a:lnTo>
                                <a:pt x="571" y="807"/>
                              </a:lnTo>
                              <a:lnTo>
                                <a:pt x="559" y="798"/>
                              </a:lnTo>
                              <a:lnTo>
                                <a:pt x="554" y="787"/>
                              </a:lnTo>
                              <a:lnTo>
                                <a:pt x="553" y="771"/>
                              </a:lnTo>
                              <a:lnTo>
                                <a:pt x="548" y="755"/>
                              </a:lnTo>
                              <a:lnTo>
                                <a:pt x="538" y="742"/>
                              </a:lnTo>
                              <a:lnTo>
                                <a:pt x="530" y="730"/>
                              </a:lnTo>
                              <a:lnTo>
                                <a:pt x="517" y="714"/>
                              </a:lnTo>
                              <a:lnTo>
                                <a:pt x="511" y="704"/>
                              </a:lnTo>
                              <a:lnTo>
                                <a:pt x="505" y="691"/>
                              </a:lnTo>
                              <a:lnTo>
                                <a:pt x="495" y="679"/>
                              </a:lnTo>
                              <a:lnTo>
                                <a:pt x="480" y="650"/>
                              </a:lnTo>
                              <a:lnTo>
                                <a:pt x="472" y="638"/>
                              </a:lnTo>
                              <a:lnTo>
                                <a:pt x="461" y="623"/>
                              </a:lnTo>
                              <a:lnTo>
                                <a:pt x="443" y="601"/>
                              </a:lnTo>
                              <a:lnTo>
                                <a:pt x="434" y="588"/>
                              </a:lnTo>
                              <a:lnTo>
                                <a:pt x="426" y="579"/>
                              </a:lnTo>
                              <a:lnTo>
                                <a:pt x="416" y="560"/>
                              </a:lnTo>
                              <a:lnTo>
                                <a:pt x="445" y="543"/>
                              </a:lnTo>
                              <a:lnTo>
                                <a:pt x="457" y="505"/>
                              </a:lnTo>
                              <a:lnTo>
                                <a:pt x="430" y="495"/>
                              </a:lnTo>
                              <a:lnTo>
                                <a:pt x="391" y="501"/>
                              </a:lnTo>
                              <a:lnTo>
                                <a:pt x="383" y="496"/>
                              </a:lnTo>
                              <a:lnTo>
                                <a:pt x="379" y="496"/>
                              </a:lnTo>
                              <a:lnTo>
                                <a:pt x="373" y="496"/>
                              </a:lnTo>
                              <a:lnTo>
                                <a:pt x="369" y="496"/>
                              </a:lnTo>
                              <a:lnTo>
                                <a:pt x="368" y="489"/>
                              </a:lnTo>
                              <a:lnTo>
                                <a:pt x="365" y="483"/>
                              </a:lnTo>
                              <a:lnTo>
                                <a:pt x="365" y="471"/>
                              </a:lnTo>
                              <a:lnTo>
                                <a:pt x="358" y="466"/>
                              </a:lnTo>
                              <a:lnTo>
                                <a:pt x="357" y="458"/>
                              </a:lnTo>
                              <a:lnTo>
                                <a:pt x="353" y="457"/>
                              </a:lnTo>
                              <a:lnTo>
                                <a:pt x="349" y="451"/>
                              </a:lnTo>
                              <a:lnTo>
                                <a:pt x="347" y="445"/>
                              </a:lnTo>
                              <a:lnTo>
                                <a:pt x="345" y="440"/>
                              </a:lnTo>
                              <a:lnTo>
                                <a:pt x="342" y="434"/>
                              </a:lnTo>
                              <a:lnTo>
                                <a:pt x="334" y="434"/>
                              </a:lnTo>
                              <a:lnTo>
                                <a:pt x="328" y="434"/>
                              </a:lnTo>
                              <a:lnTo>
                                <a:pt x="325" y="434"/>
                              </a:lnTo>
                              <a:lnTo>
                                <a:pt x="324" y="444"/>
                              </a:lnTo>
                              <a:lnTo>
                                <a:pt x="324" y="451"/>
                              </a:lnTo>
                              <a:lnTo>
                                <a:pt x="324" y="460"/>
                              </a:lnTo>
                              <a:lnTo>
                                <a:pt x="324" y="469"/>
                              </a:lnTo>
                              <a:lnTo>
                                <a:pt x="324" y="474"/>
                              </a:lnTo>
                              <a:lnTo>
                                <a:pt x="317" y="477"/>
                              </a:lnTo>
                              <a:lnTo>
                                <a:pt x="312" y="483"/>
                              </a:lnTo>
                              <a:lnTo>
                                <a:pt x="303" y="474"/>
                              </a:lnTo>
                              <a:lnTo>
                                <a:pt x="298" y="463"/>
                              </a:lnTo>
                              <a:lnTo>
                                <a:pt x="299" y="450"/>
                              </a:lnTo>
                              <a:lnTo>
                                <a:pt x="291" y="429"/>
                              </a:lnTo>
                              <a:lnTo>
                                <a:pt x="287" y="418"/>
                              </a:lnTo>
                              <a:lnTo>
                                <a:pt x="277" y="410"/>
                              </a:lnTo>
                              <a:lnTo>
                                <a:pt x="266" y="403"/>
                              </a:lnTo>
                              <a:lnTo>
                                <a:pt x="261" y="393"/>
                              </a:lnTo>
                              <a:lnTo>
                                <a:pt x="257" y="386"/>
                              </a:lnTo>
                              <a:lnTo>
                                <a:pt x="247" y="384"/>
                              </a:lnTo>
                              <a:lnTo>
                                <a:pt x="244" y="380"/>
                              </a:lnTo>
                              <a:lnTo>
                                <a:pt x="238" y="380"/>
                              </a:lnTo>
                              <a:lnTo>
                                <a:pt x="232" y="387"/>
                              </a:lnTo>
                              <a:lnTo>
                                <a:pt x="227" y="393"/>
                              </a:lnTo>
                              <a:lnTo>
                                <a:pt x="239" y="400"/>
                              </a:lnTo>
                              <a:lnTo>
                                <a:pt x="246" y="410"/>
                              </a:lnTo>
                              <a:lnTo>
                                <a:pt x="258" y="424"/>
                              </a:lnTo>
                              <a:lnTo>
                                <a:pt x="264" y="429"/>
                              </a:lnTo>
                              <a:lnTo>
                                <a:pt x="273" y="434"/>
                              </a:lnTo>
                              <a:lnTo>
                                <a:pt x="280" y="445"/>
                              </a:lnTo>
                              <a:lnTo>
                                <a:pt x="272" y="456"/>
                              </a:lnTo>
                              <a:lnTo>
                                <a:pt x="271" y="451"/>
                              </a:lnTo>
                              <a:lnTo>
                                <a:pt x="271" y="445"/>
                              </a:lnTo>
                              <a:lnTo>
                                <a:pt x="266" y="458"/>
                              </a:lnTo>
                              <a:lnTo>
                                <a:pt x="265" y="470"/>
                              </a:lnTo>
                              <a:lnTo>
                                <a:pt x="257" y="473"/>
                              </a:lnTo>
                              <a:lnTo>
                                <a:pt x="260" y="458"/>
                              </a:lnTo>
                              <a:lnTo>
                                <a:pt x="258" y="451"/>
                              </a:lnTo>
                              <a:lnTo>
                                <a:pt x="249" y="447"/>
                              </a:lnTo>
                              <a:lnTo>
                                <a:pt x="244" y="444"/>
                              </a:lnTo>
                              <a:lnTo>
                                <a:pt x="240" y="438"/>
                              </a:lnTo>
                              <a:lnTo>
                                <a:pt x="232" y="432"/>
                              </a:lnTo>
                              <a:lnTo>
                                <a:pt x="227" y="428"/>
                              </a:lnTo>
                              <a:lnTo>
                                <a:pt x="221" y="419"/>
                              </a:lnTo>
                              <a:lnTo>
                                <a:pt x="214" y="415"/>
                              </a:lnTo>
                              <a:lnTo>
                                <a:pt x="210" y="406"/>
                              </a:lnTo>
                              <a:lnTo>
                                <a:pt x="209" y="399"/>
                              </a:lnTo>
                              <a:lnTo>
                                <a:pt x="203" y="396"/>
                              </a:lnTo>
                              <a:lnTo>
                                <a:pt x="198" y="392"/>
                              </a:lnTo>
                              <a:lnTo>
                                <a:pt x="187" y="392"/>
                              </a:lnTo>
                              <a:lnTo>
                                <a:pt x="177" y="393"/>
                              </a:lnTo>
                              <a:lnTo>
                                <a:pt x="166" y="392"/>
                              </a:lnTo>
                              <a:lnTo>
                                <a:pt x="147" y="393"/>
                              </a:lnTo>
                              <a:lnTo>
                                <a:pt x="133" y="395"/>
                              </a:lnTo>
                              <a:lnTo>
                                <a:pt x="129" y="397"/>
                              </a:lnTo>
                              <a:lnTo>
                                <a:pt x="128" y="406"/>
                              </a:lnTo>
                              <a:lnTo>
                                <a:pt x="128" y="416"/>
                              </a:lnTo>
                              <a:lnTo>
                                <a:pt x="120" y="426"/>
                              </a:lnTo>
                              <a:lnTo>
                                <a:pt x="114" y="431"/>
                              </a:lnTo>
                              <a:lnTo>
                                <a:pt x="111" y="434"/>
                              </a:lnTo>
                              <a:lnTo>
                                <a:pt x="107" y="444"/>
                              </a:lnTo>
                              <a:lnTo>
                                <a:pt x="105" y="450"/>
                              </a:lnTo>
                              <a:lnTo>
                                <a:pt x="109" y="454"/>
                              </a:lnTo>
                              <a:lnTo>
                                <a:pt x="109" y="463"/>
                              </a:lnTo>
                              <a:lnTo>
                                <a:pt x="107" y="467"/>
                              </a:lnTo>
                              <a:lnTo>
                                <a:pt x="105" y="473"/>
                              </a:lnTo>
                              <a:lnTo>
                                <a:pt x="98" y="483"/>
                              </a:lnTo>
                              <a:lnTo>
                                <a:pt x="94" y="479"/>
                              </a:lnTo>
                              <a:lnTo>
                                <a:pt x="90" y="482"/>
                              </a:lnTo>
                              <a:lnTo>
                                <a:pt x="84" y="486"/>
                              </a:lnTo>
                              <a:lnTo>
                                <a:pt x="76" y="487"/>
                              </a:lnTo>
                              <a:lnTo>
                                <a:pt x="68" y="495"/>
                              </a:lnTo>
                              <a:lnTo>
                                <a:pt x="59" y="496"/>
                              </a:lnTo>
                              <a:lnTo>
                                <a:pt x="51" y="496"/>
                              </a:lnTo>
                              <a:lnTo>
                                <a:pt x="43" y="496"/>
                              </a:lnTo>
                              <a:lnTo>
                                <a:pt x="25" y="501"/>
                              </a:lnTo>
                              <a:lnTo>
                                <a:pt x="17" y="501"/>
                              </a:lnTo>
                              <a:lnTo>
                                <a:pt x="13" y="490"/>
                              </a:lnTo>
                              <a:lnTo>
                                <a:pt x="9" y="477"/>
                              </a:lnTo>
                              <a:lnTo>
                                <a:pt x="6" y="466"/>
                              </a:lnTo>
                              <a:lnTo>
                                <a:pt x="5" y="454"/>
                              </a:lnTo>
                              <a:lnTo>
                                <a:pt x="5" y="440"/>
                              </a:lnTo>
                              <a:lnTo>
                                <a:pt x="0" y="4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71" name=""/>
                    <p:cNvGrpSpPr/>
                    <p:nvPr/>
                  </p:nvGrpSpPr>
                  <p:grpSpPr>
                    <a:xfrm>
                      <a:off x="6823800" y="4929840"/>
                      <a:ext cx="746280" cy="1140120"/>
                      <a:chOff x="6823800" y="4929840"/>
                      <a:chExt cx="746280" cy="1140120"/>
                    </a:xfrm>
                  </p:grpSpPr>
                  <p:sp>
                    <p:nvSpPr>
                      <p:cNvPr id="2072" name=""/>
                      <p:cNvSpPr/>
                      <p:nvPr/>
                    </p:nvSpPr>
                    <p:spPr>
                      <a:xfrm>
                        <a:off x="6823800" y="5990040"/>
                        <a:ext cx="18720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" h="137">
                            <a:moveTo>
                              <a:pt x="86" y="65"/>
                            </a:moveTo>
                            <a:lnTo>
                              <a:pt x="85" y="51"/>
                            </a:lnTo>
                            <a:lnTo>
                              <a:pt x="93" y="48"/>
                            </a:lnTo>
                            <a:lnTo>
                              <a:pt x="106" y="52"/>
                            </a:lnTo>
                            <a:lnTo>
                              <a:pt x="121" y="57"/>
                            </a:lnTo>
                            <a:lnTo>
                              <a:pt x="133" y="44"/>
                            </a:lnTo>
                            <a:lnTo>
                              <a:pt x="132" y="35"/>
                            </a:lnTo>
                            <a:lnTo>
                              <a:pt x="151" y="41"/>
                            </a:lnTo>
                            <a:lnTo>
                              <a:pt x="159" y="41"/>
                            </a:lnTo>
                            <a:lnTo>
                              <a:pt x="167" y="42"/>
                            </a:lnTo>
                            <a:lnTo>
                              <a:pt x="182" y="31"/>
                            </a:lnTo>
                            <a:lnTo>
                              <a:pt x="200" y="26"/>
                            </a:lnTo>
                            <a:lnTo>
                              <a:pt x="218" y="26"/>
                            </a:lnTo>
                            <a:lnTo>
                              <a:pt x="229" y="22"/>
                            </a:lnTo>
                            <a:lnTo>
                              <a:pt x="247" y="23"/>
                            </a:lnTo>
                            <a:lnTo>
                              <a:pt x="262" y="23"/>
                            </a:lnTo>
                            <a:lnTo>
                              <a:pt x="276" y="22"/>
                            </a:lnTo>
                            <a:lnTo>
                              <a:pt x="298" y="23"/>
                            </a:lnTo>
                            <a:lnTo>
                              <a:pt x="307" y="22"/>
                            </a:lnTo>
                            <a:lnTo>
                              <a:pt x="328" y="32"/>
                            </a:lnTo>
                            <a:lnTo>
                              <a:pt x="347" y="29"/>
                            </a:lnTo>
                            <a:lnTo>
                              <a:pt x="359" y="16"/>
                            </a:lnTo>
                            <a:lnTo>
                              <a:pt x="370" y="13"/>
                            </a:lnTo>
                            <a:lnTo>
                              <a:pt x="387" y="1"/>
                            </a:lnTo>
                            <a:lnTo>
                              <a:pt x="410" y="0"/>
                            </a:lnTo>
                            <a:lnTo>
                              <a:pt x="402" y="10"/>
                            </a:lnTo>
                            <a:lnTo>
                              <a:pt x="394" y="16"/>
                            </a:lnTo>
                            <a:lnTo>
                              <a:pt x="385" y="25"/>
                            </a:lnTo>
                            <a:lnTo>
                              <a:pt x="373" y="33"/>
                            </a:lnTo>
                            <a:lnTo>
                              <a:pt x="366" y="42"/>
                            </a:lnTo>
                            <a:lnTo>
                              <a:pt x="355" y="48"/>
                            </a:lnTo>
                            <a:lnTo>
                              <a:pt x="347" y="54"/>
                            </a:lnTo>
                            <a:lnTo>
                              <a:pt x="339" y="58"/>
                            </a:lnTo>
                            <a:lnTo>
                              <a:pt x="332" y="64"/>
                            </a:lnTo>
                            <a:lnTo>
                              <a:pt x="321" y="65"/>
                            </a:lnTo>
                            <a:lnTo>
                              <a:pt x="313" y="70"/>
                            </a:lnTo>
                            <a:lnTo>
                              <a:pt x="304" y="76"/>
                            </a:lnTo>
                            <a:lnTo>
                              <a:pt x="288" y="84"/>
                            </a:lnTo>
                            <a:lnTo>
                              <a:pt x="276" y="87"/>
                            </a:lnTo>
                            <a:lnTo>
                              <a:pt x="262" y="94"/>
                            </a:lnTo>
                            <a:lnTo>
                              <a:pt x="248" y="99"/>
                            </a:lnTo>
                            <a:lnTo>
                              <a:pt x="236" y="105"/>
                            </a:lnTo>
                            <a:lnTo>
                              <a:pt x="222" y="109"/>
                            </a:lnTo>
                            <a:lnTo>
                              <a:pt x="208" y="115"/>
                            </a:lnTo>
                            <a:lnTo>
                              <a:pt x="196" y="118"/>
                            </a:lnTo>
                            <a:lnTo>
                              <a:pt x="184" y="121"/>
                            </a:lnTo>
                            <a:lnTo>
                              <a:pt x="171" y="125"/>
                            </a:lnTo>
                            <a:lnTo>
                              <a:pt x="155" y="128"/>
                            </a:lnTo>
                            <a:lnTo>
                              <a:pt x="140" y="129"/>
                            </a:lnTo>
                            <a:lnTo>
                              <a:pt x="126" y="134"/>
                            </a:lnTo>
                            <a:lnTo>
                              <a:pt x="110" y="137"/>
                            </a:lnTo>
                            <a:lnTo>
                              <a:pt x="95" y="137"/>
                            </a:lnTo>
                            <a:lnTo>
                              <a:pt x="80" y="135"/>
                            </a:lnTo>
                            <a:lnTo>
                              <a:pt x="64" y="137"/>
                            </a:lnTo>
                            <a:lnTo>
                              <a:pt x="51" y="129"/>
                            </a:lnTo>
                            <a:lnTo>
                              <a:pt x="38" y="123"/>
                            </a:lnTo>
                            <a:lnTo>
                              <a:pt x="26" y="116"/>
                            </a:lnTo>
                            <a:lnTo>
                              <a:pt x="12" y="105"/>
                            </a:lnTo>
                            <a:lnTo>
                              <a:pt x="0" y="96"/>
                            </a:lnTo>
                            <a:lnTo>
                              <a:pt x="36" y="91"/>
                            </a:lnTo>
                            <a:lnTo>
                              <a:pt x="41" y="91"/>
                            </a:lnTo>
                            <a:lnTo>
                              <a:pt x="44" y="89"/>
                            </a:lnTo>
                            <a:lnTo>
                              <a:pt x="55" y="87"/>
                            </a:lnTo>
                            <a:lnTo>
                              <a:pt x="66" y="91"/>
                            </a:lnTo>
                            <a:lnTo>
                              <a:pt x="74" y="99"/>
                            </a:lnTo>
                            <a:lnTo>
                              <a:pt x="78" y="99"/>
                            </a:lnTo>
                            <a:lnTo>
                              <a:pt x="84" y="103"/>
                            </a:lnTo>
                            <a:lnTo>
                              <a:pt x="92" y="99"/>
                            </a:lnTo>
                            <a:lnTo>
                              <a:pt x="95" y="87"/>
                            </a:lnTo>
                            <a:lnTo>
                              <a:pt x="97" y="77"/>
                            </a:lnTo>
                            <a:lnTo>
                              <a:pt x="86" y="65"/>
                            </a:lnTo>
                            <a:close/>
                          </a:path>
                        </a:pathLst>
                      </a:custGeom>
                      <a:solidFill>
                        <a:srgbClr val="ccffcc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3" name=""/>
                      <p:cNvSpPr/>
                      <p:nvPr/>
                    </p:nvSpPr>
                    <p:spPr>
                      <a:xfrm>
                        <a:off x="7341120" y="5936760"/>
                        <a:ext cx="190800" cy="13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9" h="241">
                            <a:moveTo>
                              <a:pt x="229" y="18"/>
                            </a:moveTo>
                            <a:lnTo>
                              <a:pt x="205" y="32"/>
                            </a:lnTo>
                            <a:lnTo>
                              <a:pt x="201" y="40"/>
                            </a:lnTo>
                            <a:lnTo>
                              <a:pt x="191" y="46"/>
                            </a:lnTo>
                            <a:lnTo>
                              <a:pt x="187" y="48"/>
                            </a:lnTo>
                            <a:lnTo>
                              <a:pt x="179" y="52"/>
                            </a:lnTo>
                            <a:lnTo>
                              <a:pt x="188" y="65"/>
                            </a:lnTo>
                            <a:lnTo>
                              <a:pt x="192" y="71"/>
                            </a:lnTo>
                            <a:lnTo>
                              <a:pt x="192" y="81"/>
                            </a:lnTo>
                            <a:lnTo>
                              <a:pt x="211" y="107"/>
                            </a:lnTo>
                            <a:lnTo>
                              <a:pt x="211" y="123"/>
                            </a:lnTo>
                            <a:lnTo>
                              <a:pt x="209" y="138"/>
                            </a:lnTo>
                            <a:lnTo>
                              <a:pt x="184" y="161"/>
                            </a:lnTo>
                            <a:lnTo>
                              <a:pt x="176" y="170"/>
                            </a:lnTo>
                            <a:lnTo>
                              <a:pt x="165" y="174"/>
                            </a:lnTo>
                            <a:lnTo>
                              <a:pt x="147" y="171"/>
                            </a:lnTo>
                            <a:lnTo>
                              <a:pt x="143" y="167"/>
                            </a:lnTo>
                            <a:lnTo>
                              <a:pt x="128" y="170"/>
                            </a:lnTo>
                            <a:lnTo>
                              <a:pt x="133" y="174"/>
                            </a:lnTo>
                            <a:lnTo>
                              <a:pt x="133" y="183"/>
                            </a:lnTo>
                            <a:lnTo>
                              <a:pt x="142" y="191"/>
                            </a:lnTo>
                            <a:lnTo>
                              <a:pt x="147" y="190"/>
                            </a:lnTo>
                            <a:lnTo>
                              <a:pt x="165" y="196"/>
                            </a:lnTo>
                            <a:lnTo>
                              <a:pt x="201" y="196"/>
                            </a:lnTo>
                            <a:lnTo>
                              <a:pt x="206" y="200"/>
                            </a:lnTo>
                            <a:lnTo>
                              <a:pt x="265" y="196"/>
                            </a:lnTo>
                            <a:lnTo>
                              <a:pt x="292" y="185"/>
                            </a:lnTo>
                            <a:lnTo>
                              <a:pt x="307" y="180"/>
                            </a:lnTo>
                            <a:lnTo>
                              <a:pt x="324" y="171"/>
                            </a:lnTo>
                            <a:lnTo>
                              <a:pt x="329" y="165"/>
                            </a:lnTo>
                            <a:lnTo>
                              <a:pt x="335" y="161"/>
                            </a:lnTo>
                            <a:lnTo>
                              <a:pt x="347" y="155"/>
                            </a:lnTo>
                            <a:lnTo>
                              <a:pt x="360" y="146"/>
                            </a:lnTo>
                            <a:lnTo>
                              <a:pt x="377" y="142"/>
                            </a:lnTo>
                            <a:lnTo>
                              <a:pt x="419" y="119"/>
                            </a:lnTo>
                            <a:lnTo>
                              <a:pt x="414" y="138"/>
                            </a:lnTo>
                            <a:lnTo>
                              <a:pt x="406" y="151"/>
                            </a:lnTo>
                            <a:lnTo>
                              <a:pt x="398" y="162"/>
                            </a:lnTo>
                            <a:lnTo>
                              <a:pt x="390" y="172"/>
                            </a:lnTo>
                            <a:lnTo>
                              <a:pt x="376" y="183"/>
                            </a:lnTo>
                            <a:lnTo>
                              <a:pt x="365" y="191"/>
                            </a:lnTo>
                            <a:lnTo>
                              <a:pt x="354" y="200"/>
                            </a:lnTo>
                            <a:lnTo>
                              <a:pt x="339" y="210"/>
                            </a:lnTo>
                            <a:lnTo>
                              <a:pt x="320" y="222"/>
                            </a:lnTo>
                            <a:lnTo>
                              <a:pt x="303" y="229"/>
                            </a:lnTo>
                            <a:lnTo>
                              <a:pt x="287" y="233"/>
                            </a:lnTo>
                            <a:lnTo>
                              <a:pt x="262" y="238"/>
                            </a:lnTo>
                            <a:lnTo>
                              <a:pt x="235" y="241"/>
                            </a:lnTo>
                            <a:lnTo>
                              <a:pt x="210" y="241"/>
                            </a:lnTo>
                            <a:lnTo>
                              <a:pt x="181" y="239"/>
                            </a:lnTo>
                            <a:lnTo>
                              <a:pt x="163" y="236"/>
                            </a:lnTo>
                            <a:lnTo>
                              <a:pt x="139" y="232"/>
                            </a:lnTo>
                            <a:lnTo>
                              <a:pt x="124" y="226"/>
                            </a:lnTo>
                            <a:lnTo>
                              <a:pt x="107" y="216"/>
                            </a:lnTo>
                            <a:lnTo>
                              <a:pt x="91" y="210"/>
                            </a:lnTo>
                            <a:lnTo>
                              <a:pt x="80" y="204"/>
                            </a:lnTo>
                            <a:lnTo>
                              <a:pt x="69" y="199"/>
                            </a:lnTo>
                            <a:lnTo>
                              <a:pt x="61" y="196"/>
                            </a:lnTo>
                            <a:lnTo>
                              <a:pt x="47" y="188"/>
                            </a:lnTo>
                            <a:lnTo>
                              <a:pt x="37" y="181"/>
                            </a:lnTo>
                            <a:lnTo>
                              <a:pt x="29" y="175"/>
                            </a:lnTo>
                            <a:lnTo>
                              <a:pt x="22" y="167"/>
                            </a:lnTo>
                            <a:lnTo>
                              <a:pt x="14" y="159"/>
                            </a:lnTo>
                            <a:lnTo>
                              <a:pt x="7" y="154"/>
                            </a:lnTo>
                            <a:lnTo>
                              <a:pt x="0" y="148"/>
                            </a:lnTo>
                            <a:lnTo>
                              <a:pt x="14" y="135"/>
                            </a:lnTo>
                            <a:lnTo>
                              <a:pt x="22" y="133"/>
                            </a:lnTo>
                            <a:lnTo>
                              <a:pt x="28" y="133"/>
                            </a:lnTo>
                            <a:lnTo>
                              <a:pt x="36" y="132"/>
                            </a:lnTo>
                            <a:lnTo>
                              <a:pt x="47" y="127"/>
                            </a:lnTo>
                            <a:lnTo>
                              <a:pt x="55" y="129"/>
                            </a:lnTo>
                            <a:lnTo>
                              <a:pt x="66" y="126"/>
                            </a:lnTo>
                            <a:lnTo>
                              <a:pt x="80" y="125"/>
                            </a:lnTo>
                            <a:lnTo>
                              <a:pt x="89" y="126"/>
                            </a:lnTo>
                            <a:lnTo>
                              <a:pt x="98" y="127"/>
                            </a:lnTo>
                            <a:lnTo>
                              <a:pt x="105" y="127"/>
                            </a:lnTo>
                            <a:lnTo>
                              <a:pt x="109" y="129"/>
                            </a:lnTo>
                            <a:lnTo>
                              <a:pt x="117" y="129"/>
                            </a:lnTo>
                            <a:lnTo>
                              <a:pt x="121" y="127"/>
                            </a:lnTo>
                            <a:lnTo>
                              <a:pt x="139" y="125"/>
                            </a:lnTo>
                            <a:lnTo>
                              <a:pt x="153" y="123"/>
                            </a:lnTo>
                            <a:lnTo>
                              <a:pt x="161" y="125"/>
                            </a:lnTo>
                            <a:lnTo>
                              <a:pt x="162" y="120"/>
                            </a:lnTo>
                            <a:lnTo>
                              <a:pt x="159" y="114"/>
                            </a:lnTo>
                            <a:lnTo>
                              <a:pt x="157" y="107"/>
                            </a:lnTo>
                            <a:lnTo>
                              <a:pt x="155" y="103"/>
                            </a:lnTo>
                            <a:lnTo>
                              <a:pt x="153" y="97"/>
                            </a:lnTo>
                            <a:lnTo>
                              <a:pt x="159" y="90"/>
                            </a:lnTo>
                            <a:lnTo>
                              <a:pt x="165" y="82"/>
                            </a:lnTo>
                            <a:lnTo>
                              <a:pt x="172" y="71"/>
                            </a:lnTo>
                            <a:lnTo>
                              <a:pt x="165" y="66"/>
                            </a:lnTo>
                            <a:lnTo>
                              <a:pt x="163" y="62"/>
                            </a:lnTo>
                            <a:lnTo>
                              <a:pt x="159" y="58"/>
                            </a:lnTo>
                            <a:lnTo>
                              <a:pt x="165" y="48"/>
                            </a:lnTo>
                            <a:lnTo>
                              <a:pt x="170" y="39"/>
                            </a:lnTo>
                            <a:lnTo>
                              <a:pt x="174" y="29"/>
                            </a:lnTo>
                            <a:lnTo>
                              <a:pt x="180" y="21"/>
                            </a:lnTo>
                            <a:lnTo>
                              <a:pt x="184" y="20"/>
                            </a:lnTo>
                            <a:lnTo>
                              <a:pt x="191" y="10"/>
                            </a:lnTo>
                            <a:lnTo>
                              <a:pt x="196" y="7"/>
                            </a:lnTo>
                            <a:lnTo>
                              <a:pt x="201" y="7"/>
                            </a:lnTo>
                            <a:lnTo>
                              <a:pt x="210" y="1"/>
                            </a:lnTo>
                            <a:lnTo>
                              <a:pt x="216" y="0"/>
                            </a:lnTo>
                            <a:lnTo>
                              <a:pt x="224" y="1"/>
                            </a:lnTo>
                            <a:lnTo>
                              <a:pt x="229" y="18"/>
                            </a:lnTo>
                            <a:close/>
                          </a:path>
                        </a:pathLst>
                      </a:custGeom>
                      <a:solidFill>
                        <a:srgbClr val="ccffcc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4" name=""/>
                      <p:cNvSpPr/>
                      <p:nvPr/>
                    </p:nvSpPr>
                    <p:spPr>
                      <a:xfrm>
                        <a:off x="6967800" y="4972680"/>
                        <a:ext cx="408600" cy="44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2" h="813">
                            <a:moveTo>
                              <a:pt x="0" y="209"/>
                            </a:moveTo>
                            <a:lnTo>
                              <a:pt x="42" y="181"/>
                            </a:lnTo>
                            <a:lnTo>
                              <a:pt x="67" y="170"/>
                            </a:lnTo>
                            <a:lnTo>
                              <a:pt x="71" y="152"/>
                            </a:lnTo>
                            <a:lnTo>
                              <a:pt x="52" y="142"/>
                            </a:lnTo>
                            <a:lnTo>
                              <a:pt x="50" y="122"/>
                            </a:lnTo>
                            <a:lnTo>
                              <a:pt x="59" y="116"/>
                            </a:lnTo>
                            <a:lnTo>
                              <a:pt x="57" y="107"/>
                            </a:lnTo>
                            <a:lnTo>
                              <a:pt x="90" y="104"/>
                            </a:lnTo>
                            <a:lnTo>
                              <a:pt x="98" y="88"/>
                            </a:lnTo>
                            <a:lnTo>
                              <a:pt x="100" y="74"/>
                            </a:lnTo>
                            <a:lnTo>
                              <a:pt x="127" y="69"/>
                            </a:lnTo>
                            <a:lnTo>
                              <a:pt x="130" y="55"/>
                            </a:lnTo>
                            <a:lnTo>
                              <a:pt x="104" y="51"/>
                            </a:lnTo>
                            <a:lnTo>
                              <a:pt x="116" y="40"/>
                            </a:lnTo>
                            <a:lnTo>
                              <a:pt x="159" y="40"/>
                            </a:lnTo>
                            <a:lnTo>
                              <a:pt x="171" y="29"/>
                            </a:lnTo>
                            <a:lnTo>
                              <a:pt x="189" y="27"/>
                            </a:lnTo>
                            <a:lnTo>
                              <a:pt x="200" y="17"/>
                            </a:lnTo>
                            <a:lnTo>
                              <a:pt x="214" y="35"/>
                            </a:lnTo>
                            <a:lnTo>
                              <a:pt x="267" y="32"/>
                            </a:lnTo>
                            <a:lnTo>
                              <a:pt x="292" y="49"/>
                            </a:lnTo>
                            <a:lnTo>
                              <a:pt x="371" y="45"/>
                            </a:lnTo>
                            <a:lnTo>
                              <a:pt x="384" y="36"/>
                            </a:lnTo>
                            <a:lnTo>
                              <a:pt x="414" y="51"/>
                            </a:lnTo>
                            <a:lnTo>
                              <a:pt x="445" y="64"/>
                            </a:lnTo>
                            <a:lnTo>
                              <a:pt x="461" y="58"/>
                            </a:lnTo>
                            <a:lnTo>
                              <a:pt x="470" y="51"/>
                            </a:lnTo>
                            <a:lnTo>
                              <a:pt x="496" y="55"/>
                            </a:lnTo>
                            <a:lnTo>
                              <a:pt x="478" y="45"/>
                            </a:lnTo>
                            <a:lnTo>
                              <a:pt x="462" y="46"/>
                            </a:lnTo>
                            <a:lnTo>
                              <a:pt x="437" y="49"/>
                            </a:lnTo>
                            <a:lnTo>
                              <a:pt x="425" y="35"/>
                            </a:lnTo>
                            <a:lnTo>
                              <a:pt x="411" y="27"/>
                            </a:lnTo>
                            <a:lnTo>
                              <a:pt x="411" y="14"/>
                            </a:lnTo>
                            <a:lnTo>
                              <a:pt x="415" y="1"/>
                            </a:lnTo>
                            <a:lnTo>
                              <a:pt x="426" y="0"/>
                            </a:lnTo>
                            <a:lnTo>
                              <a:pt x="441" y="11"/>
                            </a:lnTo>
                            <a:lnTo>
                              <a:pt x="445" y="6"/>
                            </a:lnTo>
                            <a:lnTo>
                              <a:pt x="458" y="0"/>
                            </a:lnTo>
                            <a:lnTo>
                              <a:pt x="473" y="8"/>
                            </a:lnTo>
                            <a:lnTo>
                              <a:pt x="481" y="1"/>
                            </a:lnTo>
                            <a:lnTo>
                              <a:pt x="489" y="13"/>
                            </a:lnTo>
                            <a:lnTo>
                              <a:pt x="491" y="22"/>
                            </a:lnTo>
                            <a:lnTo>
                              <a:pt x="513" y="32"/>
                            </a:lnTo>
                            <a:lnTo>
                              <a:pt x="504" y="40"/>
                            </a:lnTo>
                            <a:lnTo>
                              <a:pt x="504" y="52"/>
                            </a:lnTo>
                            <a:lnTo>
                              <a:pt x="541" y="55"/>
                            </a:lnTo>
                            <a:lnTo>
                              <a:pt x="551" y="40"/>
                            </a:lnTo>
                            <a:lnTo>
                              <a:pt x="544" y="33"/>
                            </a:lnTo>
                            <a:lnTo>
                              <a:pt x="528" y="35"/>
                            </a:lnTo>
                            <a:lnTo>
                              <a:pt x="532" y="17"/>
                            </a:lnTo>
                            <a:lnTo>
                              <a:pt x="565" y="27"/>
                            </a:lnTo>
                            <a:lnTo>
                              <a:pt x="572" y="39"/>
                            </a:lnTo>
                            <a:lnTo>
                              <a:pt x="599" y="39"/>
                            </a:lnTo>
                            <a:lnTo>
                              <a:pt x="626" y="53"/>
                            </a:lnTo>
                            <a:lnTo>
                              <a:pt x="640" y="51"/>
                            </a:lnTo>
                            <a:lnTo>
                              <a:pt x="655" y="64"/>
                            </a:lnTo>
                            <a:lnTo>
                              <a:pt x="640" y="81"/>
                            </a:lnTo>
                            <a:lnTo>
                              <a:pt x="628" y="68"/>
                            </a:lnTo>
                            <a:lnTo>
                              <a:pt x="620" y="72"/>
                            </a:lnTo>
                            <a:lnTo>
                              <a:pt x="607" y="83"/>
                            </a:lnTo>
                            <a:lnTo>
                              <a:pt x="588" y="91"/>
                            </a:lnTo>
                            <a:lnTo>
                              <a:pt x="598" y="104"/>
                            </a:lnTo>
                            <a:lnTo>
                              <a:pt x="581" y="106"/>
                            </a:lnTo>
                            <a:lnTo>
                              <a:pt x="567" y="123"/>
                            </a:lnTo>
                            <a:lnTo>
                              <a:pt x="554" y="145"/>
                            </a:lnTo>
                            <a:lnTo>
                              <a:pt x="574" y="164"/>
                            </a:lnTo>
                            <a:lnTo>
                              <a:pt x="591" y="186"/>
                            </a:lnTo>
                            <a:lnTo>
                              <a:pt x="622" y="189"/>
                            </a:lnTo>
                            <a:lnTo>
                              <a:pt x="650" y="186"/>
                            </a:lnTo>
                            <a:lnTo>
                              <a:pt x="662" y="197"/>
                            </a:lnTo>
                            <a:lnTo>
                              <a:pt x="657" y="203"/>
                            </a:lnTo>
                            <a:lnTo>
                              <a:pt x="648" y="215"/>
                            </a:lnTo>
                            <a:lnTo>
                              <a:pt x="661" y="235"/>
                            </a:lnTo>
                            <a:lnTo>
                              <a:pt x="665" y="249"/>
                            </a:lnTo>
                            <a:lnTo>
                              <a:pt x="680" y="257"/>
                            </a:lnTo>
                            <a:lnTo>
                              <a:pt x="700" y="244"/>
                            </a:lnTo>
                            <a:lnTo>
                              <a:pt x="695" y="225"/>
                            </a:lnTo>
                            <a:lnTo>
                              <a:pt x="677" y="209"/>
                            </a:lnTo>
                            <a:lnTo>
                              <a:pt x="698" y="190"/>
                            </a:lnTo>
                            <a:lnTo>
                              <a:pt x="680" y="158"/>
                            </a:lnTo>
                            <a:lnTo>
                              <a:pt x="663" y="145"/>
                            </a:lnTo>
                            <a:lnTo>
                              <a:pt x="677" y="133"/>
                            </a:lnTo>
                            <a:lnTo>
                              <a:pt x="674" y="116"/>
                            </a:lnTo>
                            <a:lnTo>
                              <a:pt x="684" y="106"/>
                            </a:lnTo>
                            <a:lnTo>
                              <a:pt x="700" y="116"/>
                            </a:lnTo>
                            <a:lnTo>
                              <a:pt x="739" y="154"/>
                            </a:lnTo>
                            <a:lnTo>
                              <a:pt x="762" y="159"/>
                            </a:lnTo>
                            <a:lnTo>
                              <a:pt x="769" y="149"/>
                            </a:lnTo>
                            <a:lnTo>
                              <a:pt x="764" y="129"/>
                            </a:lnTo>
                            <a:lnTo>
                              <a:pt x="777" y="132"/>
                            </a:lnTo>
                            <a:lnTo>
                              <a:pt x="801" y="155"/>
                            </a:lnTo>
                            <a:lnTo>
                              <a:pt x="805" y="168"/>
                            </a:lnTo>
                            <a:lnTo>
                              <a:pt x="818" y="177"/>
                            </a:lnTo>
                            <a:lnTo>
                              <a:pt x="846" y="187"/>
                            </a:lnTo>
                            <a:lnTo>
                              <a:pt x="860" y="206"/>
                            </a:lnTo>
                            <a:lnTo>
                              <a:pt x="880" y="219"/>
                            </a:lnTo>
                            <a:lnTo>
                              <a:pt x="891" y="223"/>
                            </a:lnTo>
                            <a:lnTo>
                              <a:pt x="892" y="235"/>
                            </a:lnTo>
                            <a:lnTo>
                              <a:pt x="876" y="242"/>
                            </a:lnTo>
                            <a:lnTo>
                              <a:pt x="866" y="234"/>
                            </a:lnTo>
                            <a:lnTo>
                              <a:pt x="858" y="235"/>
                            </a:lnTo>
                            <a:lnTo>
                              <a:pt x="855" y="254"/>
                            </a:lnTo>
                            <a:lnTo>
                              <a:pt x="842" y="258"/>
                            </a:lnTo>
                            <a:lnTo>
                              <a:pt x="827" y="248"/>
                            </a:lnTo>
                            <a:lnTo>
                              <a:pt x="795" y="248"/>
                            </a:lnTo>
                            <a:lnTo>
                              <a:pt x="791" y="270"/>
                            </a:lnTo>
                            <a:lnTo>
                              <a:pt x="799" y="283"/>
                            </a:lnTo>
                            <a:lnTo>
                              <a:pt x="812" y="276"/>
                            </a:lnTo>
                            <a:lnTo>
                              <a:pt x="824" y="273"/>
                            </a:lnTo>
                            <a:lnTo>
                              <a:pt x="836" y="280"/>
                            </a:lnTo>
                            <a:lnTo>
                              <a:pt x="820" y="296"/>
                            </a:lnTo>
                            <a:lnTo>
                              <a:pt x="836" y="310"/>
                            </a:lnTo>
                            <a:lnTo>
                              <a:pt x="858" y="315"/>
                            </a:lnTo>
                            <a:lnTo>
                              <a:pt x="855" y="324"/>
                            </a:lnTo>
                            <a:lnTo>
                              <a:pt x="847" y="325"/>
                            </a:lnTo>
                            <a:lnTo>
                              <a:pt x="827" y="374"/>
                            </a:lnTo>
                            <a:lnTo>
                              <a:pt x="828" y="342"/>
                            </a:lnTo>
                            <a:lnTo>
                              <a:pt x="838" y="326"/>
                            </a:lnTo>
                            <a:lnTo>
                              <a:pt x="827" y="319"/>
                            </a:lnTo>
                            <a:lnTo>
                              <a:pt x="814" y="329"/>
                            </a:lnTo>
                            <a:lnTo>
                              <a:pt x="821" y="338"/>
                            </a:lnTo>
                            <a:lnTo>
                              <a:pt x="812" y="344"/>
                            </a:lnTo>
                            <a:lnTo>
                              <a:pt x="802" y="351"/>
                            </a:lnTo>
                            <a:lnTo>
                              <a:pt x="803" y="373"/>
                            </a:lnTo>
                            <a:lnTo>
                              <a:pt x="790" y="382"/>
                            </a:lnTo>
                            <a:lnTo>
                              <a:pt x="770" y="385"/>
                            </a:lnTo>
                            <a:lnTo>
                              <a:pt x="777" y="396"/>
                            </a:lnTo>
                            <a:lnTo>
                              <a:pt x="770" y="409"/>
                            </a:lnTo>
                            <a:lnTo>
                              <a:pt x="777" y="419"/>
                            </a:lnTo>
                            <a:lnTo>
                              <a:pt x="766" y="441"/>
                            </a:lnTo>
                            <a:lnTo>
                              <a:pt x="762" y="462"/>
                            </a:lnTo>
                            <a:lnTo>
                              <a:pt x="746" y="473"/>
                            </a:lnTo>
                            <a:lnTo>
                              <a:pt x="725" y="505"/>
                            </a:lnTo>
                            <a:lnTo>
                              <a:pt x="722" y="527"/>
                            </a:lnTo>
                            <a:lnTo>
                              <a:pt x="729" y="544"/>
                            </a:lnTo>
                            <a:lnTo>
                              <a:pt x="739" y="566"/>
                            </a:lnTo>
                            <a:lnTo>
                              <a:pt x="744" y="589"/>
                            </a:lnTo>
                            <a:lnTo>
                              <a:pt x="735" y="599"/>
                            </a:lnTo>
                            <a:lnTo>
                              <a:pt x="722" y="592"/>
                            </a:lnTo>
                            <a:lnTo>
                              <a:pt x="725" y="581"/>
                            </a:lnTo>
                            <a:lnTo>
                              <a:pt x="718" y="554"/>
                            </a:lnTo>
                            <a:lnTo>
                              <a:pt x="710" y="550"/>
                            </a:lnTo>
                            <a:lnTo>
                              <a:pt x="705" y="534"/>
                            </a:lnTo>
                            <a:lnTo>
                              <a:pt x="694" y="534"/>
                            </a:lnTo>
                            <a:lnTo>
                              <a:pt x="681" y="525"/>
                            </a:lnTo>
                            <a:lnTo>
                              <a:pt x="668" y="528"/>
                            </a:lnTo>
                            <a:lnTo>
                              <a:pt x="655" y="522"/>
                            </a:lnTo>
                            <a:lnTo>
                              <a:pt x="640" y="530"/>
                            </a:lnTo>
                            <a:lnTo>
                              <a:pt x="613" y="524"/>
                            </a:lnTo>
                            <a:lnTo>
                              <a:pt x="631" y="543"/>
                            </a:lnTo>
                            <a:lnTo>
                              <a:pt x="607" y="541"/>
                            </a:lnTo>
                            <a:lnTo>
                              <a:pt x="591" y="527"/>
                            </a:lnTo>
                            <a:lnTo>
                              <a:pt x="563" y="527"/>
                            </a:lnTo>
                            <a:lnTo>
                              <a:pt x="567" y="550"/>
                            </a:lnTo>
                            <a:lnTo>
                              <a:pt x="547" y="543"/>
                            </a:lnTo>
                            <a:lnTo>
                              <a:pt x="536" y="566"/>
                            </a:lnTo>
                            <a:lnTo>
                              <a:pt x="544" y="576"/>
                            </a:lnTo>
                            <a:lnTo>
                              <a:pt x="536" y="604"/>
                            </a:lnTo>
                            <a:lnTo>
                              <a:pt x="546" y="636"/>
                            </a:lnTo>
                            <a:lnTo>
                              <a:pt x="557" y="658"/>
                            </a:lnTo>
                            <a:lnTo>
                              <a:pt x="569" y="678"/>
                            </a:lnTo>
                            <a:lnTo>
                              <a:pt x="607" y="676"/>
                            </a:lnTo>
                            <a:lnTo>
                              <a:pt x="624" y="672"/>
                            </a:lnTo>
                            <a:lnTo>
                              <a:pt x="626" y="658"/>
                            </a:lnTo>
                            <a:lnTo>
                              <a:pt x="618" y="646"/>
                            </a:lnTo>
                            <a:lnTo>
                              <a:pt x="620" y="636"/>
                            </a:lnTo>
                            <a:lnTo>
                              <a:pt x="643" y="639"/>
                            </a:lnTo>
                            <a:lnTo>
                              <a:pt x="666" y="633"/>
                            </a:lnTo>
                            <a:lnTo>
                              <a:pt x="666" y="646"/>
                            </a:lnTo>
                            <a:lnTo>
                              <a:pt x="659" y="665"/>
                            </a:lnTo>
                            <a:lnTo>
                              <a:pt x="648" y="679"/>
                            </a:lnTo>
                            <a:lnTo>
                              <a:pt x="646" y="700"/>
                            </a:lnTo>
                            <a:lnTo>
                              <a:pt x="661" y="708"/>
                            </a:lnTo>
                            <a:lnTo>
                              <a:pt x="681" y="705"/>
                            </a:lnTo>
                            <a:lnTo>
                              <a:pt x="694" y="713"/>
                            </a:lnTo>
                            <a:lnTo>
                              <a:pt x="705" y="710"/>
                            </a:lnTo>
                            <a:lnTo>
                              <a:pt x="709" y="723"/>
                            </a:lnTo>
                            <a:lnTo>
                              <a:pt x="699" y="743"/>
                            </a:lnTo>
                            <a:lnTo>
                              <a:pt x="707" y="755"/>
                            </a:lnTo>
                            <a:lnTo>
                              <a:pt x="709" y="778"/>
                            </a:lnTo>
                            <a:lnTo>
                              <a:pt x="722" y="794"/>
                            </a:lnTo>
                            <a:lnTo>
                              <a:pt x="740" y="798"/>
                            </a:lnTo>
                            <a:lnTo>
                              <a:pt x="753" y="794"/>
                            </a:lnTo>
                            <a:lnTo>
                              <a:pt x="758" y="795"/>
                            </a:lnTo>
                            <a:lnTo>
                              <a:pt x="781" y="795"/>
                            </a:lnTo>
                            <a:lnTo>
                              <a:pt x="802" y="797"/>
                            </a:lnTo>
                            <a:lnTo>
                              <a:pt x="807" y="787"/>
                            </a:lnTo>
                            <a:lnTo>
                              <a:pt x="790" y="804"/>
                            </a:lnTo>
                            <a:lnTo>
                              <a:pt x="777" y="803"/>
                            </a:lnTo>
                            <a:lnTo>
                              <a:pt x="765" y="804"/>
                            </a:lnTo>
                            <a:lnTo>
                              <a:pt x="740" y="813"/>
                            </a:lnTo>
                            <a:lnTo>
                              <a:pt x="720" y="801"/>
                            </a:lnTo>
                            <a:lnTo>
                              <a:pt x="700" y="794"/>
                            </a:lnTo>
                            <a:lnTo>
                              <a:pt x="692" y="795"/>
                            </a:lnTo>
                            <a:lnTo>
                              <a:pt x="694" y="785"/>
                            </a:lnTo>
                            <a:lnTo>
                              <a:pt x="692" y="769"/>
                            </a:lnTo>
                            <a:lnTo>
                              <a:pt x="676" y="755"/>
                            </a:lnTo>
                            <a:lnTo>
                              <a:pt x="642" y="746"/>
                            </a:lnTo>
                            <a:lnTo>
                              <a:pt x="636" y="739"/>
                            </a:lnTo>
                            <a:lnTo>
                              <a:pt x="626" y="740"/>
                            </a:lnTo>
                            <a:lnTo>
                              <a:pt x="617" y="733"/>
                            </a:lnTo>
                            <a:lnTo>
                              <a:pt x="602" y="726"/>
                            </a:lnTo>
                            <a:lnTo>
                              <a:pt x="585" y="705"/>
                            </a:lnTo>
                            <a:lnTo>
                              <a:pt x="566" y="700"/>
                            </a:lnTo>
                            <a:lnTo>
                              <a:pt x="555" y="713"/>
                            </a:lnTo>
                            <a:lnTo>
                              <a:pt x="543" y="703"/>
                            </a:lnTo>
                            <a:lnTo>
                              <a:pt x="528" y="703"/>
                            </a:lnTo>
                            <a:lnTo>
                              <a:pt x="498" y="695"/>
                            </a:lnTo>
                            <a:lnTo>
                              <a:pt x="443" y="660"/>
                            </a:lnTo>
                            <a:lnTo>
                              <a:pt x="439" y="624"/>
                            </a:lnTo>
                            <a:lnTo>
                              <a:pt x="433" y="610"/>
                            </a:lnTo>
                            <a:lnTo>
                              <a:pt x="423" y="599"/>
                            </a:lnTo>
                            <a:lnTo>
                              <a:pt x="411" y="579"/>
                            </a:lnTo>
                            <a:lnTo>
                              <a:pt x="354" y="509"/>
                            </a:lnTo>
                            <a:lnTo>
                              <a:pt x="354" y="536"/>
                            </a:lnTo>
                            <a:lnTo>
                              <a:pt x="389" y="582"/>
                            </a:lnTo>
                            <a:lnTo>
                              <a:pt x="404" y="621"/>
                            </a:lnTo>
                            <a:lnTo>
                              <a:pt x="382" y="613"/>
                            </a:lnTo>
                            <a:lnTo>
                              <a:pt x="378" y="589"/>
                            </a:lnTo>
                            <a:lnTo>
                              <a:pt x="349" y="575"/>
                            </a:lnTo>
                            <a:lnTo>
                              <a:pt x="366" y="566"/>
                            </a:lnTo>
                            <a:lnTo>
                              <a:pt x="327" y="541"/>
                            </a:lnTo>
                            <a:lnTo>
                              <a:pt x="343" y="527"/>
                            </a:lnTo>
                            <a:lnTo>
                              <a:pt x="329" y="498"/>
                            </a:lnTo>
                            <a:lnTo>
                              <a:pt x="282" y="437"/>
                            </a:lnTo>
                            <a:lnTo>
                              <a:pt x="277" y="402"/>
                            </a:lnTo>
                            <a:lnTo>
                              <a:pt x="279" y="373"/>
                            </a:lnTo>
                            <a:lnTo>
                              <a:pt x="292" y="344"/>
                            </a:lnTo>
                            <a:lnTo>
                              <a:pt x="292" y="315"/>
                            </a:lnTo>
                            <a:lnTo>
                              <a:pt x="282" y="297"/>
                            </a:lnTo>
                            <a:lnTo>
                              <a:pt x="308" y="292"/>
                            </a:lnTo>
                            <a:lnTo>
                              <a:pt x="277" y="257"/>
                            </a:lnTo>
                            <a:lnTo>
                              <a:pt x="278" y="241"/>
                            </a:lnTo>
                            <a:lnTo>
                              <a:pt x="264" y="219"/>
                            </a:lnTo>
                            <a:lnTo>
                              <a:pt x="270" y="206"/>
                            </a:lnTo>
                            <a:lnTo>
                              <a:pt x="260" y="199"/>
                            </a:lnTo>
                            <a:lnTo>
                              <a:pt x="259" y="184"/>
                            </a:lnTo>
                            <a:lnTo>
                              <a:pt x="249" y="173"/>
                            </a:lnTo>
                            <a:lnTo>
                              <a:pt x="260" y="162"/>
                            </a:lnTo>
                            <a:lnTo>
                              <a:pt x="245" y="155"/>
                            </a:lnTo>
                            <a:lnTo>
                              <a:pt x="233" y="165"/>
                            </a:lnTo>
                            <a:lnTo>
                              <a:pt x="215" y="145"/>
                            </a:lnTo>
                            <a:lnTo>
                              <a:pt x="196" y="139"/>
                            </a:lnTo>
                            <a:lnTo>
                              <a:pt x="168" y="139"/>
                            </a:lnTo>
                            <a:lnTo>
                              <a:pt x="151" y="158"/>
                            </a:lnTo>
                            <a:lnTo>
                              <a:pt x="142" y="152"/>
                            </a:lnTo>
                            <a:lnTo>
                              <a:pt x="157" y="128"/>
                            </a:lnTo>
                            <a:lnTo>
                              <a:pt x="144" y="132"/>
                            </a:lnTo>
                            <a:lnTo>
                              <a:pt x="116" y="158"/>
                            </a:lnTo>
                            <a:lnTo>
                              <a:pt x="88" y="181"/>
                            </a:lnTo>
                            <a:lnTo>
                              <a:pt x="61" y="187"/>
                            </a:lnTo>
                            <a:lnTo>
                              <a:pt x="18" y="210"/>
                            </a:lnTo>
                            <a:lnTo>
                              <a:pt x="0" y="209"/>
                            </a:lnTo>
                            <a:close/>
                          </a:path>
                        </a:pathLst>
                      </a:custGeom>
                      <a:solidFill>
                        <a:srgbClr val="ccffcc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5" name=""/>
                      <p:cNvSpPr/>
                      <p:nvPr/>
                    </p:nvSpPr>
                    <p:spPr>
                      <a:xfrm>
                        <a:off x="7260840" y="4929840"/>
                        <a:ext cx="137520" cy="11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3" h="213">
                            <a:moveTo>
                              <a:pt x="0" y="43"/>
                            </a:moveTo>
                            <a:lnTo>
                              <a:pt x="7" y="27"/>
                            </a:lnTo>
                            <a:lnTo>
                              <a:pt x="7" y="16"/>
                            </a:lnTo>
                            <a:lnTo>
                              <a:pt x="18" y="0"/>
                            </a:lnTo>
                            <a:lnTo>
                              <a:pt x="72" y="10"/>
                            </a:lnTo>
                            <a:lnTo>
                              <a:pt x="167" y="29"/>
                            </a:lnTo>
                            <a:lnTo>
                              <a:pt x="204" y="45"/>
                            </a:lnTo>
                            <a:lnTo>
                              <a:pt x="253" y="59"/>
                            </a:lnTo>
                            <a:lnTo>
                              <a:pt x="278" y="87"/>
                            </a:lnTo>
                            <a:lnTo>
                              <a:pt x="303" y="101"/>
                            </a:lnTo>
                            <a:lnTo>
                              <a:pt x="293" y="112"/>
                            </a:lnTo>
                            <a:lnTo>
                              <a:pt x="293" y="125"/>
                            </a:lnTo>
                            <a:lnTo>
                              <a:pt x="284" y="128"/>
                            </a:lnTo>
                            <a:lnTo>
                              <a:pt x="275" y="139"/>
                            </a:lnTo>
                            <a:lnTo>
                              <a:pt x="284" y="151"/>
                            </a:lnTo>
                            <a:lnTo>
                              <a:pt x="282" y="160"/>
                            </a:lnTo>
                            <a:lnTo>
                              <a:pt x="273" y="171"/>
                            </a:lnTo>
                            <a:lnTo>
                              <a:pt x="274" y="183"/>
                            </a:lnTo>
                            <a:lnTo>
                              <a:pt x="291" y="194"/>
                            </a:lnTo>
                            <a:lnTo>
                              <a:pt x="292" y="206"/>
                            </a:lnTo>
                            <a:lnTo>
                              <a:pt x="288" y="212"/>
                            </a:lnTo>
                            <a:lnTo>
                              <a:pt x="271" y="213"/>
                            </a:lnTo>
                            <a:lnTo>
                              <a:pt x="259" y="207"/>
                            </a:lnTo>
                            <a:lnTo>
                              <a:pt x="245" y="193"/>
                            </a:lnTo>
                            <a:lnTo>
                              <a:pt x="240" y="193"/>
                            </a:lnTo>
                            <a:lnTo>
                              <a:pt x="233" y="187"/>
                            </a:lnTo>
                            <a:lnTo>
                              <a:pt x="226" y="170"/>
                            </a:lnTo>
                            <a:lnTo>
                              <a:pt x="218" y="164"/>
                            </a:lnTo>
                            <a:lnTo>
                              <a:pt x="200" y="155"/>
                            </a:lnTo>
                            <a:lnTo>
                              <a:pt x="185" y="149"/>
                            </a:lnTo>
                            <a:lnTo>
                              <a:pt x="163" y="133"/>
                            </a:lnTo>
                            <a:lnTo>
                              <a:pt x="153" y="122"/>
                            </a:lnTo>
                            <a:lnTo>
                              <a:pt x="155" y="113"/>
                            </a:lnTo>
                            <a:lnTo>
                              <a:pt x="164" y="106"/>
                            </a:lnTo>
                            <a:lnTo>
                              <a:pt x="156" y="96"/>
                            </a:lnTo>
                            <a:lnTo>
                              <a:pt x="148" y="101"/>
                            </a:lnTo>
                            <a:lnTo>
                              <a:pt x="134" y="87"/>
                            </a:lnTo>
                            <a:lnTo>
                              <a:pt x="131" y="94"/>
                            </a:lnTo>
                            <a:lnTo>
                              <a:pt x="119" y="94"/>
                            </a:lnTo>
                            <a:lnTo>
                              <a:pt x="116" y="88"/>
                            </a:lnTo>
                            <a:lnTo>
                              <a:pt x="116" y="78"/>
                            </a:lnTo>
                            <a:lnTo>
                              <a:pt x="111" y="72"/>
                            </a:lnTo>
                            <a:lnTo>
                              <a:pt x="103" y="74"/>
                            </a:lnTo>
                            <a:lnTo>
                              <a:pt x="92" y="58"/>
                            </a:lnTo>
                            <a:lnTo>
                              <a:pt x="83" y="56"/>
                            </a:lnTo>
                            <a:lnTo>
                              <a:pt x="71" y="49"/>
                            </a:lnTo>
                            <a:lnTo>
                              <a:pt x="45" y="51"/>
                            </a:lnTo>
                            <a:lnTo>
                              <a:pt x="19" y="49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ccffcc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6" name=""/>
                      <p:cNvSpPr/>
                      <p:nvPr/>
                    </p:nvSpPr>
                    <p:spPr>
                      <a:xfrm>
                        <a:off x="7231320" y="4971600"/>
                        <a:ext cx="89640" cy="60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8" h="111">
                            <a:moveTo>
                              <a:pt x="7" y="0"/>
                            </a:moveTo>
                            <a:lnTo>
                              <a:pt x="0" y="9"/>
                            </a:lnTo>
                            <a:lnTo>
                              <a:pt x="0" y="19"/>
                            </a:lnTo>
                            <a:lnTo>
                              <a:pt x="14" y="31"/>
                            </a:lnTo>
                            <a:lnTo>
                              <a:pt x="22" y="28"/>
                            </a:lnTo>
                            <a:lnTo>
                              <a:pt x="25" y="32"/>
                            </a:lnTo>
                            <a:lnTo>
                              <a:pt x="36" y="34"/>
                            </a:lnTo>
                            <a:lnTo>
                              <a:pt x="41" y="26"/>
                            </a:lnTo>
                            <a:lnTo>
                              <a:pt x="61" y="28"/>
                            </a:lnTo>
                            <a:lnTo>
                              <a:pt x="63" y="35"/>
                            </a:lnTo>
                            <a:lnTo>
                              <a:pt x="70" y="38"/>
                            </a:lnTo>
                            <a:lnTo>
                              <a:pt x="87" y="37"/>
                            </a:lnTo>
                            <a:lnTo>
                              <a:pt x="92" y="41"/>
                            </a:lnTo>
                            <a:lnTo>
                              <a:pt x="100" y="45"/>
                            </a:lnTo>
                            <a:lnTo>
                              <a:pt x="107" y="54"/>
                            </a:lnTo>
                            <a:lnTo>
                              <a:pt x="107" y="66"/>
                            </a:lnTo>
                            <a:lnTo>
                              <a:pt x="102" y="69"/>
                            </a:lnTo>
                            <a:lnTo>
                              <a:pt x="105" y="73"/>
                            </a:lnTo>
                            <a:lnTo>
                              <a:pt x="96" y="80"/>
                            </a:lnTo>
                            <a:lnTo>
                              <a:pt x="96" y="90"/>
                            </a:lnTo>
                            <a:lnTo>
                              <a:pt x="109" y="92"/>
                            </a:lnTo>
                            <a:lnTo>
                              <a:pt x="116" y="89"/>
                            </a:lnTo>
                            <a:lnTo>
                              <a:pt x="118" y="85"/>
                            </a:lnTo>
                            <a:lnTo>
                              <a:pt x="122" y="89"/>
                            </a:lnTo>
                            <a:lnTo>
                              <a:pt x="129" y="86"/>
                            </a:lnTo>
                            <a:lnTo>
                              <a:pt x="144" y="92"/>
                            </a:lnTo>
                            <a:lnTo>
                              <a:pt x="154" y="102"/>
                            </a:lnTo>
                            <a:lnTo>
                              <a:pt x="157" y="102"/>
                            </a:lnTo>
                            <a:lnTo>
                              <a:pt x="158" y="108"/>
                            </a:lnTo>
                            <a:lnTo>
                              <a:pt x="168" y="111"/>
                            </a:lnTo>
                            <a:lnTo>
                              <a:pt x="179" y="111"/>
                            </a:lnTo>
                            <a:lnTo>
                              <a:pt x="172" y="105"/>
                            </a:lnTo>
                            <a:lnTo>
                              <a:pt x="174" y="99"/>
                            </a:lnTo>
                            <a:lnTo>
                              <a:pt x="183" y="105"/>
                            </a:lnTo>
                            <a:lnTo>
                              <a:pt x="192" y="106"/>
                            </a:lnTo>
                            <a:lnTo>
                              <a:pt x="194" y="98"/>
                            </a:lnTo>
                            <a:lnTo>
                              <a:pt x="184" y="90"/>
                            </a:lnTo>
                            <a:lnTo>
                              <a:pt x="177" y="90"/>
                            </a:lnTo>
                            <a:lnTo>
                              <a:pt x="168" y="83"/>
                            </a:lnTo>
                            <a:lnTo>
                              <a:pt x="177" y="83"/>
                            </a:lnTo>
                            <a:lnTo>
                              <a:pt x="184" y="87"/>
                            </a:lnTo>
                            <a:lnTo>
                              <a:pt x="198" y="87"/>
                            </a:lnTo>
                            <a:lnTo>
                              <a:pt x="195" y="79"/>
                            </a:lnTo>
                            <a:lnTo>
                              <a:pt x="183" y="70"/>
                            </a:lnTo>
                            <a:lnTo>
                              <a:pt x="174" y="69"/>
                            </a:lnTo>
                            <a:lnTo>
                              <a:pt x="162" y="58"/>
                            </a:lnTo>
                            <a:lnTo>
                              <a:pt x="147" y="55"/>
                            </a:lnTo>
                            <a:lnTo>
                              <a:pt x="135" y="51"/>
                            </a:lnTo>
                            <a:lnTo>
                              <a:pt x="125" y="38"/>
                            </a:lnTo>
                            <a:lnTo>
                              <a:pt x="118" y="21"/>
                            </a:lnTo>
                            <a:lnTo>
                              <a:pt x="109" y="21"/>
                            </a:lnTo>
                            <a:lnTo>
                              <a:pt x="106" y="16"/>
                            </a:lnTo>
                            <a:lnTo>
                              <a:pt x="100" y="18"/>
                            </a:lnTo>
                            <a:lnTo>
                              <a:pt x="91" y="10"/>
                            </a:lnTo>
                            <a:lnTo>
                              <a:pt x="74" y="8"/>
                            </a:lnTo>
                            <a:lnTo>
                              <a:pt x="68" y="12"/>
                            </a:lnTo>
                            <a:lnTo>
                              <a:pt x="52" y="8"/>
                            </a:lnTo>
                            <a:lnTo>
                              <a:pt x="43" y="8"/>
                            </a:lnTo>
                            <a:lnTo>
                              <a:pt x="39" y="2"/>
                            </a:lnTo>
                            <a:lnTo>
                              <a:pt x="33" y="0"/>
                            </a:lnTo>
                            <a:lnTo>
                              <a:pt x="25" y="2"/>
                            </a:lnTo>
                            <a:lnTo>
                              <a:pt x="7" y="0"/>
                            </a:lnTo>
                            <a:close/>
                          </a:path>
                        </a:pathLst>
                      </a:custGeom>
                      <a:solidFill>
                        <a:srgbClr val="ccffcc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7" name=""/>
                      <p:cNvSpPr/>
                      <p:nvPr/>
                    </p:nvSpPr>
                    <p:spPr>
                      <a:xfrm>
                        <a:off x="7282440" y="5310720"/>
                        <a:ext cx="63000" cy="26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8" h="49">
                            <a:moveTo>
                              <a:pt x="0" y="25"/>
                            </a:moveTo>
                            <a:lnTo>
                              <a:pt x="12" y="10"/>
                            </a:lnTo>
                            <a:lnTo>
                              <a:pt x="18" y="10"/>
                            </a:lnTo>
                            <a:lnTo>
                              <a:pt x="27" y="3"/>
                            </a:lnTo>
                            <a:lnTo>
                              <a:pt x="38" y="3"/>
                            </a:lnTo>
                            <a:lnTo>
                              <a:pt x="41" y="2"/>
                            </a:lnTo>
                            <a:lnTo>
                              <a:pt x="45" y="0"/>
                            </a:lnTo>
                            <a:lnTo>
                              <a:pt x="59" y="9"/>
                            </a:lnTo>
                            <a:lnTo>
                              <a:pt x="63" y="15"/>
                            </a:lnTo>
                            <a:lnTo>
                              <a:pt x="66" y="12"/>
                            </a:lnTo>
                            <a:lnTo>
                              <a:pt x="77" y="17"/>
                            </a:lnTo>
                            <a:lnTo>
                              <a:pt x="83" y="17"/>
                            </a:lnTo>
                            <a:lnTo>
                              <a:pt x="89" y="22"/>
                            </a:lnTo>
                            <a:lnTo>
                              <a:pt x="99" y="25"/>
                            </a:lnTo>
                            <a:lnTo>
                              <a:pt x="99" y="32"/>
                            </a:lnTo>
                            <a:lnTo>
                              <a:pt x="116" y="32"/>
                            </a:lnTo>
                            <a:lnTo>
                              <a:pt x="120" y="39"/>
                            </a:lnTo>
                            <a:lnTo>
                              <a:pt x="131" y="39"/>
                            </a:lnTo>
                            <a:lnTo>
                              <a:pt x="138" y="48"/>
                            </a:lnTo>
                            <a:lnTo>
                              <a:pt x="134" y="49"/>
                            </a:lnTo>
                            <a:lnTo>
                              <a:pt x="131" y="47"/>
                            </a:lnTo>
                            <a:lnTo>
                              <a:pt x="130" y="45"/>
                            </a:lnTo>
                            <a:lnTo>
                              <a:pt x="120" y="47"/>
                            </a:lnTo>
                            <a:lnTo>
                              <a:pt x="118" y="48"/>
                            </a:lnTo>
                            <a:lnTo>
                              <a:pt x="109" y="49"/>
                            </a:lnTo>
                            <a:lnTo>
                              <a:pt x="97" y="49"/>
                            </a:lnTo>
                            <a:lnTo>
                              <a:pt x="89" y="49"/>
                            </a:lnTo>
                            <a:lnTo>
                              <a:pt x="89" y="45"/>
                            </a:lnTo>
                            <a:lnTo>
                              <a:pt x="77" y="33"/>
                            </a:lnTo>
                            <a:lnTo>
                              <a:pt x="77" y="26"/>
                            </a:lnTo>
                            <a:lnTo>
                              <a:pt x="63" y="26"/>
                            </a:lnTo>
                            <a:lnTo>
                              <a:pt x="57" y="22"/>
                            </a:lnTo>
                            <a:lnTo>
                              <a:pt x="53" y="26"/>
                            </a:lnTo>
                            <a:lnTo>
                              <a:pt x="49" y="20"/>
                            </a:lnTo>
                            <a:lnTo>
                              <a:pt x="45" y="20"/>
                            </a:lnTo>
                            <a:lnTo>
                              <a:pt x="45" y="13"/>
                            </a:lnTo>
                            <a:lnTo>
                              <a:pt x="41" y="10"/>
                            </a:lnTo>
                            <a:lnTo>
                              <a:pt x="29" y="12"/>
                            </a:lnTo>
                            <a:lnTo>
                              <a:pt x="20" y="20"/>
                            </a:lnTo>
                            <a:lnTo>
                              <a:pt x="11" y="22"/>
                            </a:lnTo>
                            <a:lnTo>
                              <a:pt x="0" y="25"/>
                            </a:lnTo>
                            <a:close/>
                          </a:path>
                        </a:pathLst>
                      </a:custGeom>
                      <a:solidFill>
                        <a:srgbClr val="ccffcc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8" name=""/>
                      <p:cNvSpPr/>
                      <p:nvPr/>
                    </p:nvSpPr>
                    <p:spPr>
                      <a:xfrm>
                        <a:off x="7338240" y="5330520"/>
                        <a:ext cx="3996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42">
                            <a:moveTo>
                              <a:pt x="0" y="32"/>
                            </a:moveTo>
                            <a:lnTo>
                              <a:pt x="8" y="34"/>
                            </a:lnTo>
                            <a:lnTo>
                              <a:pt x="27" y="32"/>
                            </a:lnTo>
                            <a:lnTo>
                              <a:pt x="35" y="41"/>
                            </a:lnTo>
                            <a:lnTo>
                              <a:pt x="46" y="42"/>
                            </a:lnTo>
                            <a:lnTo>
                              <a:pt x="52" y="32"/>
                            </a:lnTo>
                            <a:lnTo>
                              <a:pt x="49" y="29"/>
                            </a:lnTo>
                            <a:lnTo>
                              <a:pt x="55" y="25"/>
                            </a:lnTo>
                            <a:lnTo>
                              <a:pt x="66" y="32"/>
                            </a:lnTo>
                            <a:lnTo>
                              <a:pt x="74" y="32"/>
                            </a:lnTo>
                            <a:lnTo>
                              <a:pt x="74" y="28"/>
                            </a:lnTo>
                            <a:lnTo>
                              <a:pt x="79" y="28"/>
                            </a:lnTo>
                            <a:lnTo>
                              <a:pt x="88" y="21"/>
                            </a:lnTo>
                            <a:lnTo>
                              <a:pt x="82" y="19"/>
                            </a:lnTo>
                            <a:lnTo>
                              <a:pt x="82" y="12"/>
                            </a:lnTo>
                            <a:lnTo>
                              <a:pt x="82" y="6"/>
                            </a:lnTo>
                            <a:lnTo>
                              <a:pt x="70" y="5"/>
                            </a:lnTo>
                            <a:lnTo>
                              <a:pt x="60" y="6"/>
                            </a:lnTo>
                            <a:lnTo>
                              <a:pt x="52" y="6"/>
                            </a:lnTo>
                            <a:lnTo>
                              <a:pt x="40" y="5"/>
                            </a:lnTo>
                            <a:lnTo>
                              <a:pt x="30" y="0"/>
                            </a:lnTo>
                            <a:lnTo>
                              <a:pt x="27" y="5"/>
                            </a:lnTo>
                            <a:lnTo>
                              <a:pt x="26" y="13"/>
                            </a:lnTo>
                            <a:lnTo>
                              <a:pt x="16" y="13"/>
                            </a:lnTo>
                            <a:lnTo>
                              <a:pt x="14" y="21"/>
                            </a:lnTo>
                            <a:lnTo>
                              <a:pt x="8" y="24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ccffcc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9" name=""/>
                      <p:cNvSpPr/>
                      <p:nvPr/>
                    </p:nvSpPr>
                    <p:spPr>
                      <a:xfrm>
                        <a:off x="7312680" y="5397840"/>
                        <a:ext cx="257400" cy="48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3" h="887">
                            <a:moveTo>
                              <a:pt x="43" y="39"/>
                            </a:moveTo>
                            <a:lnTo>
                              <a:pt x="50" y="29"/>
                            </a:lnTo>
                            <a:lnTo>
                              <a:pt x="64" y="14"/>
                            </a:lnTo>
                            <a:lnTo>
                              <a:pt x="85" y="6"/>
                            </a:lnTo>
                            <a:lnTo>
                              <a:pt x="96" y="0"/>
                            </a:lnTo>
                            <a:lnTo>
                              <a:pt x="107" y="1"/>
                            </a:lnTo>
                            <a:lnTo>
                              <a:pt x="104" y="9"/>
                            </a:lnTo>
                            <a:lnTo>
                              <a:pt x="91" y="16"/>
                            </a:lnTo>
                            <a:lnTo>
                              <a:pt x="89" y="30"/>
                            </a:lnTo>
                            <a:lnTo>
                              <a:pt x="91" y="42"/>
                            </a:lnTo>
                            <a:lnTo>
                              <a:pt x="102" y="42"/>
                            </a:lnTo>
                            <a:lnTo>
                              <a:pt x="107" y="29"/>
                            </a:lnTo>
                            <a:lnTo>
                              <a:pt x="109" y="16"/>
                            </a:lnTo>
                            <a:lnTo>
                              <a:pt x="116" y="20"/>
                            </a:lnTo>
                            <a:lnTo>
                              <a:pt x="124" y="27"/>
                            </a:lnTo>
                            <a:lnTo>
                              <a:pt x="138" y="24"/>
                            </a:lnTo>
                            <a:lnTo>
                              <a:pt x="146" y="30"/>
                            </a:lnTo>
                            <a:lnTo>
                              <a:pt x="149" y="38"/>
                            </a:lnTo>
                            <a:lnTo>
                              <a:pt x="170" y="35"/>
                            </a:lnTo>
                            <a:lnTo>
                              <a:pt x="211" y="30"/>
                            </a:lnTo>
                            <a:lnTo>
                              <a:pt x="226" y="54"/>
                            </a:lnTo>
                            <a:lnTo>
                              <a:pt x="252" y="65"/>
                            </a:lnTo>
                            <a:lnTo>
                              <a:pt x="251" y="75"/>
                            </a:lnTo>
                            <a:lnTo>
                              <a:pt x="262" y="70"/>
                            </a:lnTo>
                            <a:lnTo>
                              <a:pt x="274" y="70"/>
                            </a:lnTo>
                            <a:lnTo>
                              <a:pt x="289" y="80"/>
                            </a:lnTo>
                            <a:lnTo>
                              <a:pt x="307" y="78"/>
                            </a:lnTo>
                            <a:lnTo>
                              <a:pt x="322" y="80"/>
                            </a:lnTo>
                            <a:lnTo>
                              <a:pt x="347" y="99"/>
                            </a:lnTo>
                            <a:lnTo>
                              <a:pt x="373" y="122"/>
                            </a:lnTo>
                            <a:lnTo>
                              <a:pt x="384" y="148"/>
                            </a:lnTo>
                            <a:lnTo>
                              <a:pt x="377" y="168"/>
                            </a:lnTo>
                            <a:lnTo>
                              <a:pt x="408" y="176"/>
                            </a:lnTo>
                            <a:lnTo>
                              <a:pt x="460" y="186"/>
                            </a:lnTo>
                            <a:lnTo>
                              <a:pt x="514" y="197"/>
                            </a:lnTo>
                            <a:lnTo>
                              <a:pt x="548" y="221"/>
                            </a:lnTo>
                            <a:lnTo>
                              <a:pt x="563" y="242"/>
                            </a:lnTo>
                            <a:lnTo>
                              <a:pt x="563" y="270"/>
                            </a:lnTo>
                            <a:lnTo>
                              <a:pt x="549" y="295"/>
                            </a:lnTo>
                            <a:lnTo>
                              <a:pt x="534" y="308"/>
                            </a:lnTo>
                            <a:lnTo>
                              <a:pt x="525" y="316"/>
                            </a:lnTo>
                            <a:lnTo>
                              <a:pt x="514" y="335"/>
                            </a:lnTo>
                            <a:lnTo>
                              <a:pt x="512" y="351"/>
                            </a:lnTo>
                            <a:lnTo>
                              <a:pt x="514" y="372"/>
                            </a:lnTo>
                            <a:lnTo>
                              <a:pt x="508" y="392"/>
                            </a:lnTo>
                            <a:lnTo>
                              <a:pt x="500" y="396"/>
                            </a:lnTo>
                            <a:lnTo>
                              <a:pt x="497" y="408"/>
                            </a:lnTo>
                            <a:lnTo>
                              <a:pt x="488" y="417"/>
                            </a:lnTo>
                            <a:lnTo>
                              <a:pt x="486" y="427"/>
                            </a:lnTo>
                            <a:lnTo>
                              <a:pt x="474" y="438"/>
                            </a:lnTo>
                            <a:lnTo>
                              <a:pt x="455" y="459"/>
                            </a:lnTo>
                            <a:lnTo>
                              <a:pt x="438" y="464"/>
                            </a:lnTo>
                            <a:lnTo>
                              <a:pt x="427" y="463"/>
                            </a:lnTo>
                            <a:lnTo>
                              <a:pt x="407" y="473"/>
                            </a:lnTo>
                            <a:lnTo>
                              <a:pt x="386" y="496"/>
                            </a:lnTo>
                            <a:lnTo>
                              <a:pt x="382" y="505"/>
                            </a:lnTo>
                            <a:lnTo>
                              <a:pt x="382" y="517"/>
                            </a:lnTo>
                            <a:lnTo>
                              <a:pt x="386" y="530"/>
                            </a:lnTo>
                            <a:lnTo>
                              <a:pt x="377" y="543"/>
                            </a:lnTo>
                            <a:lnTo>
                              <a:pt x="377" y="553"/>
                            </a:lnTo>
                            <a:lnTo>
                              <a:pt x="360" y="565"/>
                            </a:lnTo>
                            <a:lnTo>
                              <a:pt x="348" y="573"/>
                            </a:lnTo>
                            <a:lnTo>
                              <a:pt x="338" y="586"/>
                            </a:lnTo>
                            <a:lnTo>
                              <a:pt x="334" y="600"/>
                            </a:lnTo>
                            <a:lnTo>
                              <a:pt x="320" y="615"/>
                            </a:lnTo>
                            <a:lnTo>
                              <a:pt x="315" y="613"/>
                            </a:lnTo>
                            <a:lnTo>
                              <a:pt x="304" y="613"/>
                            </a:lnTo>
                            <a:lnTo>
                              <a:pt x="290" y="618"/>
                            </a:lnTo>
                            <a:lnTo>
                              <a:pt x="300" y="626"/>
                            </a:lnTo>
                            <a:lnTo>
                              <a:pt x="300" y="640"/>
                            </a:lnTo>
                            <a:lnTo>
                              <a:pt x="299" y="652"/>
                            </a:lnTo>
                            <a:lnTo>
                              <a:pt x="292" y="661"/>
                            </a:lnTo>
                            <a:lnTo>
                              <a:pt x="274" y="662"/>
                            </a:lnTo>
                            <a:lnTo>
                              <a:pt x="260" y="666"/>
                            </a:lnTo>
                            <a:lnTo>
                              <a:pt x="253" y="675"/>
                            </a:lnTo>
                            <a:lnTo>
                              <a:pt x="253" y="690"/>
                            </a:lnTo>
                            <a:lnTo>
                              <a:pt x="237" y="694"/>
                            </a:lnTo>
                            <a:lnTo>
                              <a:pt x="223" y="690"/>
                            </a:lnTo>
                            <a:lnTo>
                              <a:pt x="219" y="698"/>
                            </a:lnTo>
                            <a:lnTo>
                              <a:pt x="226" y="704"/>
                            </a:lnTo>
                            <a:lnTo>
                              <a:pt x="222" y="726"/>
                            </a:lnTo>
                            <a:lnTo>
                              <a:pt x="216" y="745"/>
                            </a:lnTo>
                            <a:lnTo>
                              <a:pt x="198" y="745"/>
                            </a:lnTo>
                            <a:lnTo>
                              <a:pt x="193" y="752"/>
                            </a:lnTo>
                            <a:lnTo>
                              <a:pt x="194" y="767"/>
                            </a:lnTo>
                            <a:lnTo>
                              <a:pt x="204" y="767"/>
                            </a:lnTo>
                            <a:lnTo>
                              <a:pt x="211" y="775"/>
                            </a:lnTo>
                            <a:lnTo>
                              <a:pt x="207" y="790"/>
                            </a:lnTo>
                            <a:lnTo>
                              <a:pt x="197" y="791"/>
                            </a:lnTo>
                            <a:lnTo>
                              <a:pt x="182" y="797"/>
                            </a:lnTo>
                            <a:lnTo>
                              <a:pt x="178" y="809"/>
                            </a:lnTo>
                            <a:lnTo>
                              <a:pt x="177" y="826"/>
                            </a:lnTo>
                            <a:lnTo>
                              <a:pt x="167" y="835"/>
                            </a:lnTo>
                            <a:lnTo>
                              <a:pt x="201" y="864"/>
                            </a:lnTo>
                            <a:lnTo>
                              <a:pt x="211" y="878"/>
                            </a:lnTo>
                            <a:lnTo>
                              <a:pt x="205" y="887"/>
                            </a:lnTo>
                            <a:lnTo>
                              <a:pt x="190" y="881"/>
                            </a:lnTo>
                            <a:lnTo>
                              <a:pt x="178" y="870"/>
                            </a:lnTo>
                            <a:lnTo>
                              <a:pt x="160" y="861"/>
                            </a:lnTo>
                            <a:lnTo>
                              <a:pt x="144" y="846"/>
                            </a:lnTo>
                            <a:lnTo>
                              <a:pt x="133" y="829"/>
                            </a:lnTo>
                            <a:lnTo>
                              <a:pt x="131" y="814"/>
                            </a:lnTo>
                            <a:lnTo>
                              <a:pt x="134" y="803"/>
                            </a:lnTo>
                            <a:lnTo>
                              <a:pt x="133" y="708"/>
                            </a:lnTo>
                            <a:lnTo>
                              <a:pt x="129" y="690"/>
                            </a:lnTo>
                            <a:lnTo>
                              <a:pt x="116" y="672"/>
                            </a:lnTo>
                            <a:lnTo>
                              <a:pt x="116" y="656"/>
                            </a:lnTo>
                            <a:lnTo>
                              <a:pt x="124" y="637"/>
                            </a:lnTo>
                            <a:lnTo>
                              <a:pt x="131" y="614"/>
                            </a:lnTo>
                            <a:lnTo>
                              <a:pt x="129" y="591"/>
                            </a:lnTo>
                            <a:lnTo>
                              <a:pt x="127" y="581"/>
                            </a:lnTo>
                            <a:lnTo>
                              <a:pt x="126" y="568"/>
                            </a:lnTo>
                            <a:lnTo>
                              <a:pt x="130" y="562"/>
                            </a:lnTo>
                            <a:lnTo>
                              <a:pt x="133" y="536"/>
                            </a:lnTo>
                            <a:lnTo>
                              <a:pt x="130" y="523"/>
                            </a:lnTo>
                            <a:lnTo>
                              <a:pt x="135" y="491"/>
                            </a:lnTo>
                            <a:lnTo>
                              <a:pt x="130" y="463"/>
                            </a:lnTo>
                            <a:lnTo>
                              <a:pt x="134" y="449"/>
                            </a:lnTo>
                            <a:lnTo>
                              <a:pt x="141" y="421"/>
                            </a:lnTo>
                            <a:lnTo>
                              <a:pt x="134" y="403"/>
                            </a:lnTo>
                            <a:lnTo>
                              <a:pt x="120" y="390"/>
                            </a:lnTo>
                            <a:lnTo>
                              <a:pt x="116" y="376"/>
                            </a:lnTo>
                            <a:lnTo>
                              <a:pt x="101" y="363"/>
                            </a:lnTo>
                            <a:lnTo>
                              <a:pt x="85" y="354"/>
                            </a:lnTo>
                            <a:lnTo>
                              <a:pt x="61" y="350"/>
                            </a:lnTo>
                            <a:lnTo>
                              <a:pt x="50" y="329"/>
                            </a:lnTo>
                            <a:lnTo>
                              <a:pt x="35" y="311"/>
                            </a:lnTo>
                            <a:lnTo>
                              <a:pt x="34" y="295"/>
                            </a:lnTo>
                            <a:lnTo>
                              <a:pt x="33" y="280"/>
                            </a:lnTo>
                            <a:lnTo>
                              <a:pt x="28" y="270"/>
                            </a:lnTo>
                            <a:lnTo>
                              <a:pt x="20" y="258"/>
                            </a:lnTo>
                            <a:lnTo>
                              <a:pt x="9" y="252"/>
                            </a:lnTo>
                            <a:lnTo>
                              <a:pt x="1" y="241"/>
                            </a:lnTo>
                            <a:lnTo>
                              <a:pt x="11" y="231"/>
                            </a:lnTo>
                            <a:lnTo>
                              <a:pt x="11" y="206"/>
                            </a:lnTo>
                            <a:lnTo>
                              <a:pt x="5" y="193"/>
                            </a:lnTo>
                            <a:lnTo>
                              <a:pt x="0" y="180"/>
                            </a:lnTo>
                            <a:lnTo>
                              <a:pt x="5" y="161"/>
                            </a:lnTo>
                            <a:lnTo>
                              <a:pt x="27" y="115"/>
                            </a:lnTo>
                            <a:lnTo>
                              <a:pt x="28" y="94"/>
                            </a:lnTo>
                            <a:lnTo>
                              <a:pt x="41" y="72"/>
                            </a:lnTo>
                            <a:lnTo>
                              <a:pt x="41" y="61"/>
                            </a:lnTo>
                            <a:lnTo>
                              <a:pt x="43" y="39"/>
                            </a:lnTo>
                            <a:close/>
                          </a:path>
                        </a:pathLst>
                      </a:custGeom>
                      <a:solidFill>
                        <a:srgbClr val="ccffcc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080" name=""/>
                <p:cNvSpPr/>
                <p:nvPr/>
              </p:nvSpPr>
              <p:spPr>
                <a:xfrm>
                  <a:off x="7173000" y="5080320"/>
                  <a:ext cx="46800" cy="687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7228800" y="5101920"/>
                  <a:ext cx="45360" cy="687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7981200" y="4985280"/>
                  <a:ext cx="48600" cy="687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7981200" y="5125680"/>
                  <a:ext cx="48600" cy="651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7857360" y="5064120"/>
                  <a:ext cx="45000" cy="669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7370280" y="5566320"/>
                  <a:ext cx="46800" cy="651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7452360" y="5469480"/>
                  <a:ext cx="45000" cy="651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8539560" y="5566320"/>
                  <a:ext cx="46800" cy="651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8361360" y="5210640"/>
                  <a:ext cx="43200" cy="687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7920000" y="4965480"/>
                  <a:ext cx="46800" cy="64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7920000" y="5072400"/>
                  <a:ext cx="46800" cy="651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7164000" y="5220720"/>
                  <a:ext cx="46800" cy="669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7134480" y="5147640"/>
                  <a:ext cx="48960" cy="666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dc0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7478280" y="5489280"/>
                  <a:ext cx="46800" cy="669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dc0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7398000" y="5596200"/>
                  <a:ext cx="46800" cy="669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dc0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7974000" y="5038560"/>
                  <a:ext cx="48960" cy="687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dc0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7920000" y="5220720"/>
                  <a:ext cx="46800" cy="669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dc0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8340480" y="5155200"/>
                  <a:ext cx="46800" cy="691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dc0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8506440" y="5596200"/>
                  <a:ext cx="41760" cy="669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dc0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8062920" y="4965480"/>
                  <a:ext cx="46800" cy="64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dc0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7279200" y="5090400"/>
                  <a:ext cx="46800" cy="64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dc0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7110000" y="5080320"/>
                  <a:ext cx="47160" cy="687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7274160" y="5155200"/>
                  <a:ext cx="45360" cy="691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7370280" y="5629680"/>
                  <a:ext cx="46800" cy="64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7857360" y="4965480"/>
                  <a:ext cx="45000" cy="64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7803000" y="5072400"/>
                  <a:ext cx="46800" cy="651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8024760" y="5038560"/>
                  <a:ext cx="50400" cy="687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7874640" y="5254200"/>
                  <a:ext cx="46800" cy="64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8429760" y="5178960"/>
                  <a:ext cx="50400" cy="651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8576280" y="5576040"/>
                  <a:ext cx="46800" cy="651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8124480" y="5433840"/>
                  <a:ext cx="46800" cy="669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dc0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7438320" y="5603760"/>
                  <a:ext cx="46800" cy="651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7799400" y="5333040"/>
                  <a:ext cx="45360" cy="651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7211160" y="5155200"/>
                  <a:ext cx="46800" cy="691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dc0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14" name=""/>
            <p:cNvSpPr/>
            <p:nvPr/>
          </p:nvSpPr>
          <p:spPr>
            <a:xfrm>
              <a:off x="6875280" y="6069600"/>
              <a:ext cx="182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cnolog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5" name=""/>
          <p:cNvSpPr/>
          <p:nvPr/>
        </p:nvSpPr>
        <p:spPr>
          <a:xfrm>
            <a:off x="6842160" y="1871280"/>
            <a:ext cx="1878120" cy="1564560"/>
          </a:xfrm>
          <a:prstGeom prst="can">
            <a:avLst>
              <a:gd name="adj" fmla="val 12847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s de Patentes, Marcas e ou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0" y="0"/>
            <a:ext cx="2927520" cy="3228840"/>
          </a:xfrm>
          <a:prstGeom prst="wedgeRectCallout">
            <a:avLst>
              <a:gd name="adj1" fmla="val 65240"/>
              <a:gd name="adj2" fmla="val 8126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elecimento d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eta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ção e Análise dos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eminação de Inform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 rot="10800000">
            <a:off x="5517720" y="5314680"/>
            <a:ext cx="1376280" cy="1128600"/>
          </a:xfrm>
          <a:custGeom>
            <a:avLst/>
            <a:gdLst>
              <a:gd name="textAreaLeft" fmla="*/ 0 w 1376280"/>
              <a:gd name="textAreaRight" fmla="*/ 1376640 w 137628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8299089"/>
                <a:lnTo>
                  <a:pt x="2734" y="3618"/>
                </a:lnTo>
                <a:arcTo wR="10800" hR="10800" stAng="-8299089" swAng="829908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flipH="1" flipV="1" rot="5400000">
            <a:off x="5809320" y="2820240"/>
            <a:ext cx="1376640" cy="1968480"/>
          </a:xfrm>
          <a:custGeom>
            <a:avLst/>
            <a:gdLst>
              <a:gd name="textAreaLeft" fmla="*/ 360 w 1376640"/>
              <a:gd name="textAreaRight" fmla="*/ 1377360 w 1376640"/>
              <a:gd name="textAreaTop" fmla="*/ 360 h 1968480"/>
              <a:gd name="textAreaBottom" fmla="*/ 1969200 h 1968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2989043"/>
                <a:lnTo>
                  <a:pt x="17768" y="2549"/>
                </a:lnTo>
                <a:arcTo wR="10800" hR="10800" stAng="-2989043" swAng="298904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7207200" y="3603600"/>
            <a:ext cx="1193760" cy="1281240"/>
          </a:xfrm>
          <a:prstGeom prst="downArrow">
            <a:avLst>
              <a:gd name="adj1" fmla="val 50000"/>
              <a:gd name="adj2" fmla="val 2683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3205080" y="0"/>
            <a:ext cx="41832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Vigilância Tecnológica na era da Gestão do Conheci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1" name=""/>
          <p:cNvGrpSpPr/>
          <p:nvPr/>
        </p:nvGrpSpPr>
        <p:grpSpPr>
          <a:xfrm>
            <a:off x="529200" y="1068120"/>
            <a:ext cx="8371800" cy="5336280"/>
            <a:chOff x="529200" y="1068120"/>
            <a:chExt cx="8371800" cy="5336280"/>
          </a:xfrm>
        </p:grpSpPr>
        <p:sp>
          <p:nvSpPr>
            <p:cNvPr id="2122" name=""/>
            <p:cNvSpPr/>
            <p:nvPr/>
          </p:nvSpPr>
          <p:spPr>
            <a:xfrm>
              <a:off x="2760120" y="2650680"/>
              <a:ext cx="4141440" cy="2231640"/>
            </a:xfrm>
            <a:prstGeom prst="ellipse">
              <a:avLst/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828880" y="1945800"/>
              <a:ext cx="4003560" cy="4052880"/>
            </a:xfrm>
            <a:custGeom>
              <a:avLst/>
              <a:gdLst/>
              <a:ahLst/>
              <a:rect l="l" t="t" r="r" b="b"/>
              <a:pathLst>
                <a:path w="2784" h="3312">
                  <a:moveTo>
                    <a:pt x="96" y="48"/>
                  </a:moveTo>
                  <a:cubicBezTo>
                    <a:pt x="156" y="82"/>
                    <a:pt x="124" y="62"/>
                    <a:pt x="191" y="107"/>
                  </a:cubicBezTo>
                  <a:cubicBezTo>
                    <a:pt x="202" y="114"/>
                    <a:pt x="207" y="127"/>
                    <a:pt x="218" y="135"/>
                  </a:cubicBezTo>
                  <a:cubicBezTo>
                    <a:pt x="265" y="169"/>
                    <a:pt x="337" y="183"/>
                    <a:pt x="337" y="253"/>
                  </a:cubicBezTo>
                  <a:lnTo>
                    <a:pt x="1200" y="1200"/>
                  </a:lnTo>
                  <a:lnTo>
                    <a:pt x="2256" y="1200"/>
                  </a:lnTo>
                  <a:lnTo>
                    <a:pt x="2256" y="288"/>
                  </a:lnTo>
                  <a:lnTo>
                    <a:pt x="2784" y="288"/>
                  </a:lnTo>
                  <a:lnTo>
                    <a:pt x="2784" y="3072"/>
                  </a:lnTo>
                  <a:lnTo>
                    <a:pt x="2016" y="3072"/>
                  </a:lnTo>
                  <a:lnTo>
                    <a:pt x="2016" y="1728"/>
                  </a:lnTo>
                  <a:lnTo>
                    <a:pt x="1776" y="1584"/>
                  </a:lnTo>
                  <a:lnTo>
                    <a:pt x="1152" y="1584"/>
                  </a:lnTo>
                  <a:lnTo>
                    <a:pt x="432" y="3024"/>
                  </a:lnTo>
                  <a:lnTo>
                    <a:pt x="432" y="3312"/>
                  </a:lnTo>
                  <a:lnTo>
                    <a:pt x="48" y="3312"/>
                  </a:lnTo>
                  <a:lnTo>
                    <a:pt x="48" y="2016"/>
                  </a:lnTo>
                  <a:lnTo>
                    <a:pt x="432" y="1536"/>
                  </a:lnTo>
                  <a:lnTo>
                    <a:pt x="1056" y="1536"/>
                  </a:lnTo>
                  <a:lnTo>
                    <a:pt x="624" y="1008"/>
                  </a:lnTo>
                  <a:lnTo>
                    <a:pt x="0" y="576"/>
                  </a:lnTo>
                  <a:lnTo>
                    <a:pt x="0" y="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28440">
              <a:solidFill>
                <a:srgbClr val="ff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281120" y="225648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Empre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5" name=""/>
            <p:cNvGrpSpPr/>
            <p:nvPr/>
          </p:nvGrpSpPr>
          <p:grpSpPr>
            <a:xfrm>
              <a:off x="529200" y="1068120"/>
              <a:ext cx="3465000" cy="2001240"/>
              <a:chOff x="529200" y="1068120"/>
              <a:chExt cx="3465000" cy="2001240"/>
            </a:xfrm>
          </p:grpSpPr>
          <p:grpSp>
            <p:nvGrpSpPr>
              <p:cNvPr id="2126" name=""/>
              <p:cNvGrpSpPr/>
              <p:nvPr/>
            </p:nvGrpSpPr>
            <p:grpSpPr>
              <a:xfrm>
                <a:off x="685440" y="1532520"/>
                <a:ext cx="3107520" cy="1536840"/>
                <a:chOff x="685440" y="1532520"/>
                <a:chExt cx="3107520" cy="1536840"/>
              </a:xfrm>
            </p:grpSpPr>
            <p:sp>
              <p:nvSpPr>
                <p:cNvPr id="2127" name=""/>
                <p:cNvSpPr/>
                <p:nvPr/>
              </p:nvSpPr>
              <p:spPr>
                <a:xfrm rot="21583200">
                  <a:off x="689040" y="1540440"/>
                  <a:ext cx="3099960" cy="1521000"/>
                </a:xfrm>
                <a:prstGeom prst="flowChartConnector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28" name=""/>
                <p:cNvGrpSpPr/>
                <p:nvPr/>
              </p:nvGrpSpPr>
              <p:grpSpPr>
                <a:xfrm>
                  <a:off x="1167840" y="1716480"/>
                  <a:ext cx="2139120" cy="1066680"/>
                  <a:chOff x="1167840" y="1716480"/>
                  <a:chExt cx="2139120" cy="1066680"/>
                </a:xfrm>
              </p:grpSpPr>
              <p:pic>
                <p:nvPicPr>
                  <p:cNvPr id="2129" name="boy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2133720" y="1716480"/>
                    <a:ext cx="209880" cy="4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30" name="boy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7840" y="2382120"/>
                    <a:ext cx="209520" cy="4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31" name="boy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382120"/>
                    <a:ext cx="209880" cy="4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32" name="boy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7440" y="2382120"/>
                    <a:ext cx="209520" cy="4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cxnSp>
                <p:nvCxnSpPr>
                  <p:cNvPr id="2133" name=""/>
                  <p:cNvCxnSpPr>
                    <a:stCxn id="2129" idx="2"/>
                    <a:endCxn id="2130" idx="0"/>
                  </p:cNvCxnSpPr>
                  <p:nvPr/>
                </p:nvCxnSpPr>
                <p:spPr>
                  <a:xfrm rot="5400000">
                    <a:off x="1622880" y="1766520"/>
                    <a:ext cx="264600" cy="966600"/>
                  </a:xfrm>
                  <a:prstGeom prst="bentConnector3">
                    <a:avLst>
                      <a:gd name="adj1" fmla="val 50000"/>
                    </a:avLst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134" name=""/>
                  <p:cNvCxnSpPr>
                    <a:stCxn id="2129" idx="2"/>
                    <a:endCxn id="2131" idx="0"/>
                  </p:cNvCxnSpPr>
                  <p:nvPr/>
                </p:nvCxnSpPr>
                <p:spPr>
                  <a:xfrm flipV="1" rot="10800000">
                    <a:off x="2238120" y="2117520"/>
                    <a:ext cx="1080" cy="264600"/>
                  </a:xfrm>
                  <a:prstGeom prst="bentConnector2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135" name=""/>
                  <p:cNvCxnSpPr>
                    <a:stCxn id="2129" idx="2"/>
                    <a:endCxn id="2132" idx="0"/>
                  </p:cNvCxnSpPr>
                  <p:nvPr/>
                </p:nvCxnSpPr>
                <p:spPr>
                  <a:xfrm flipH="1" rot="16200000">
                    <a:off x="2587320" y="1767960"/>
                    <a:ext cx="264600" cy="963720"/>
                  </a:xfrm>
                  <a:prstGeom prst="bentConnector3">
                    <a:avLst>
                      <a:gd name="adj1" fmla="val 50000"/>
                    </a:avLst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sp>
            <p:nvSpPr>
              <p:cNvPr id="2136" name=""/>
              <p:cNvSpPr/>
              <p:nvPr/>
            </p:nvSpPr>
            <p:spPr>
              <a:xfrm>
                <a:off x="529200" y="1068120"/>
                <a:ext cx="346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Instituições de Pesquis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7" name=""/>
            <p:cNvGrpSpPr/>
            <p:nvPr/>
          </p:nvGrpSpPr>
          <p:grpSpPr>
            <a:xfrm>
              <a:off x="685440" y="4469760"/>
              <a:ext cx="3107520" cy="1934640"/>
              <a:chOff x="685440" y="4469760"/>
              <a:chExt cx="3107520" cy="1934640"/>
            </a:xfrm>
          </p:grpSpPr>
          <p:sp>
            <p:nvSpPr>
              <p:cNvPr id="2138" name=""/>
              <p:cNvSpPr/>
              <p:nvPr/>
            </p:nvSpPr>
            <p:spPr>
              <a:xfrm>
                <a:off x="1208160" y="5944680"/>
                <a:ext cx="205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ornecedo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9" name=""/>
              <p:cNvGrpSpPr/>
              <p:nvPr/>
            </p:nvGrpSpPr>
            <p:grpSpPr>
              <a:xfrm>
                <a:off x="685440" y="4469760"/>
                <a:ext cx="3107520" cy="1536480"/>
                <a:chOff x="685440" y="4469760"/>
                <a:chExt cx="3107520" cy="1536480"/>
              </a:xfrm>
            </p:grpSpPr>
            <p:sp>
              <p:nvSpPr>
                <p:cNvPr id="2140" name=""/>
                <p:cNvSpPr/>
                <p:nvPr/>
              </p:nvSpPr>
              <p:spPr>
                <a:xfrm rot="21583200">
                  <a:off x="689040" y="4477680"/>
                  <a:ext cx="3099960" cy="1520640"/>
                </a:xfrm>
                <a:prstGeom prst="flowChartConnector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41" name=""/>
                <p:cNvGrpSpPr/>
                <p:nvPr/>
              </p:nvGrpSpPr>
              <p:grpSpPr>
                <a:xfrm>
                  <a:off x="1167840" y="4653720"/>
                  <a:ext cx="2139120" cy="1066320"/>
                  <a:chOff x="1167840" y="4653720"/>
                  <a:chExt cx="2139120" cy="1066320"/>
                </a:xfrm>
              </p:grpSpPr>
              <p:pic>
                <p:nvPicPr>
                  <p:cNvPr id="2142" name="boy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4653720"/>
                    <a:ext cx="209880" cy="4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43" name="boy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7840" y="5319000"/>
                    <a:ext cx="209520" cy="4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44" name="boy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33720" y="5319000"/>
                    <a:ext cx="209880" cy="4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45" name="boy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7440" y="5319000"/>
                    <a:ext cx="209520" cy="4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cxnSp>
                <p:nvCxnSpPr>
                  <p:cNvPr id="2146" name=""/>
                  <p:cNvCxnSpPr>
                    <a:stCxn id="2142" idx="2"/>
                    <a:endCxn id="2143" idx="0"/>
                  </p:cNvCxnSpPr>
                  <p:nvPr/>
                </p:nvCxnSpPr>
                <p:spPr>
                  <a:xfrm rot="5400000">
                    <a:off x="1622880" y="4703760"/>
                    <a:ext cx="264600" cy="966600"/>
                  </a:xfrm>
                  <a:prstGeom prst="bentConnector3">
                    <a:avLst>
                      <a:gd name="adj1" fmla="val 50000"/>
                    </a:avLst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147" name=""/>
                  <p:cNvCxnSpPr>
                    <a:stCxn id="2142" idx="2"/>
                    <a:endCxn id="2144" idx="0"/>
                  </p:cNvCxnSpPr>
                  <p:nvPr/>
                </p:nvCxnSpPr>
                <p:spPr>
                  <a:xfrm flipV="1" rot="10800000">
                    <a:off x="2238120" y="5054760"/>
                    <a:ext cx="1080" cy="264600"/>
                  </a:xfrm>
                  <a:prstGeom prst="bentConnector2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148" name=""/>
                  <p:cNvCxnSpPr>
                    <a:stCxn id="2142" idx="2"/>
                    <a:endCxn id="2145" idx="0"/>
                  </p:cNvCxnSpPr>
                  <p:nvPr/>
                </p:nvCxnSpPr>
                <p:spPr>
                  <a:xfrm flipH="1" rot="16200000">
                    <a:off x="2587320" y="4705200"/>
                    <a:ext cx="264600" cy="963720"/>
                  </a:xfrm>
                  <a:prstGeom prst="bentConnector3">
                    <a:avLst>
                      <a:gd name="adj1" fmla="val 50000"/>
                    </a:avLst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</p:grpSp>
        <p:grpSp>
          <p:nvGrpSpPr>
            <p:cNvPr id="2149" name=""/>
            <p:cNvGrpSpPr/>
            <p:nvPr/>
          </p:nvGrpSpPr>
          <p:grpSpPr>
            <a:xfrm>
              <a:off x="5793480" y="1068120"/>
              <a:ext cx="3107520" cy="2001240"/>
              <a:chOff x="5793480" y="1068120"/>
              <a:chExt cx="3107520" cy="2001240"/>
            </a:xfrm>
          </p:grpSpPr>
          <p:grpSp>
            <p:nvGrpSpPr>
              <p:cNvPr id="2150" name=""/>
              <p:cNvGrpSpPr/>
              <p:nvPr/>
            </p:nvGrpSpPr>
            <p:grpSpPr>
              <a:xfrm>
                <a:off x="5793480" y="1532520"/>
                <a:ext cx="3107520" cy="1536840"/>
                <a:chOff x="5793480" y="1532520"/>
                <a:chExt cx="3107520" cy="1536840"/>
              </a:xfrm>
            </p:grpSpPr>
            <p:sp>
              <p:nvSpPr>
                <p:cNvPr id="2151" name=""/>
                <p:cNvSpPr/>
                <p:nvPr/>
              </p:nvSpPr>
              <p:spPr>
                <a:xfrm rot="21583200">
                  <a:off x="5797080" y="1540440"/>
                  <a:ext cx="3099960" cy="1521000"/>
                </a:xfrm>
                <a:prstGeom prst="flowChartConnector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52" name=""/>
                <p:cNvGrpSpPr/>
                <p:nvPr/>
              </p:nvGrpSpPr>
              <p:grpSpPr>
                <a:xfrm>
                  <a:off x="6275880" y="1716480"/>
                  <a:ext cx="2139120" cy="1066680"/>
                  <a:chOff x="6275880" y="1716480"/>
                  <a:chExt cx="2139120" cy="1066680"/>
                </a:xfrm>
              </p:grpSpPr>
              <p:pic>
                <p:nvPicPr>
                  <p:cNvPr id="2153" name="boy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241760" y="1716480"/>
                    <a:ext cx="209880" cy="4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54" name="boy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75880" y="2382120"/>
                    <a:ext cx="209520" cy="4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55" name="boy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241760" y="2382120"/>
                    <a:ext cx="209880" cy="4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56" name="boy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205480" y="2382120"/>
                    <a:ext cx="209520" cy="4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cxnSp>
                <p:nvCxnSpPr>
                  <p:cNvPr id="2157" name=""/>
                  <p:cNvCxnSpPr>
                    <a:stCxn id="2153" idx="2"/>
                    <a:endCxn id="2154" idx="0"/>
                  </p:cNvCxnSpPr>
                  <p:nvPr/>
                </p:nvCxnSpPr>
                <p:spPr>
                  <a:xfrm rot="5400000">
                    <a:off x="6730920" y="1766520"/>
                    <a:ext cx="264600" cy="966600"/>
                  </a:xfrm>
                  <a:prstGeom prst="bentConnector3">
                    <a:avLst>
                      <a:gd name="adj1" fmla="val 50000"/>
                    </a:avLst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158" name=""/>
                  <p:cNvCxnSpPr>
                    <a:stCxn id="2153" idx="2"/>
                    <a:endCxn id="2155" idx="0"/>
                  </p:cNvCxnSpPr>
                  <p:nvPr/>
                </p:nvCxnSpPr>
                <p:spPr>
                  <a:xfrm flipV="1" rot="10800000">
                    <a:off x="7346160" y="2117520"/>
                    <a:ext cx="1080" cy="264600"/>
                  </a:xfrm>
                  <a:prstGeom prst="bentConnector2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159" name=""/>
                  <p:cNvCxnSpPr>
                    <a:stCxn id="2153" idx="2"/>
                    <a:endCxn id="2156" idx="0"/>
                  </p:cNvCxnSpPr>
                  <p:nvPr/>
                </p:nvCxnSpPr>
                <p:spPr>
                  <a:xfrm flipH="1" rot="16200000">
                    <a:off x="7695360" y="1767960"/>
                    <a:ext cx="264600" cy="963720"/>
                  </a:xfrm>
                  <a:prstGeom prst="bentConnector3">
                    <a:avLst>
                      <a:gd name="adj1" fmla="val 50000"/>
                    </a:avLst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sp>
            <p:nvSpPr>
              <p:cNvPr id="2160" name=""/>
              <p:cNvSpPr/>
              <p:nvPr/>
            </p:nvSpPr>
            <p:spPr>
              <a:xfrm>
                <a:off x="6728040" y="1068120"/>
                <a:ext cx="127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lient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1" name=""/>
            <p:cNvGrpSpPr/>
            <p:nvPr/>
          </p:nvGrpSpPr>
          <p:grpSpPr>
            <a:xfrm>
              <a:off x="5793480" y="4469760"/>
              <a:ext cx="3107520" cy="1934640"/>
              <a:chOff x="5793480" y="4469760"/>
              <a:chExt cx="3107520" cy="1934640"/>
            </a:xfrm>
          </p:grpSpPr>
          <p:sp>
            <p:nvSpPr>
              <p:cNvPr id="2162" name=""/>
              <p:cNvSpPr/>
              <p:nvPr/>
            </p:nvSpPr>
            <p:spPr>
              <a:xfrm>
                <a:off x="6299280" y="5944680"/>
                <a:ext cx="210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Universidad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3" name=""/>
              <p:cNvGrpSpPr/>
              <p:nvPr/>
            </p:nvGrpSpPr>
            <p:grpSpPr>
              <a:xfrm>
                <a:off x="5793480" y="4469760"/>
                <a:ext cx="3107520" cy="1536480"/>
                <a:chOff x="5793480" y="4469760"/>
                <a:chExt cx="3107520" cy="1536480"/>
              </a:xfrm>
            </p:grpSpPr>
            <p:sp>
              <p:nvSpPr>
                <p:cNvPr id="2164" name=""/>
                <p:cNvSpPr/>
                <p:nvPr/>
              </p:nvSpPr>
              <p:spPr>
                <a:xfrm rot="21583200">
                  <a:off x="5797080" y="4477680"/>
                  <a:ext cx="3099960" cy="1520640"/>
                </a:xfrm>
                <a:prstGeom prst="flowChartConnector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65" name=""/>
                <p:cNvGrpSpPr/>
                <p:nvPr/>
              </p:nvGrpSpPr>
              <p:grpSpPr>
                <a:xfrm>
                  <a:off x="6275880" y="4653720"/>
                  <a:ext cx="2139120" cy="1066320"/>
                  <a:chOff x="6275880" y="4653720"/>
                  <a:chExt cx="2139120" cy="1066320"/>
                </a:xfrm>
              </p:grpSpPr>
              <p:pic>
                <p:nvPicPr>
                  <p:cNvPr id="2166" name="boy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241760" y="4653720"/>
                    <a:ext cx="209880" cy="4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67" name="boy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75880" y="5319000"/>
                    <a:ext cx="209520" cy="4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68" name="boy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241760" y="5319000"/>
                    <a:ext cx="209880" cy="4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69" name="boy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205480" y="5319000"/>
                    <a:ext cx="209520" cy="4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cxnSp>
                <p:nvCxnSpPr>
                  <p:cNvPr id="2170" name=""/>
                  <p:cNvCxnSpPr>
                    <a:stCxn id="2166" idx="2"/>
                    <a:endCxn id="2167" idx="0"/>
                  </p:cNvCxnSpPr>
                  <p:nvPr/>
                </p:nvCxnSpPr>
                <p:spPr>
                  <a:xfrm rot="5400000">
                    <a:off x="6730920" y="4703760"/>
                    <a:ext cx="264600" cy="966600"/>
                  </a:xfrm>
                  <a:prstGeom prst="bentConnector3">
                    <a:avLst>
                      <a:gd name="adj1" fmla="val 50000"/>
                    </a:avLst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171" name=""/>
                  <p:cNvCxnSpPr>
                    <a:stCxn id="2166" idx="2"/>
                    <a:endCxn id="2168" idx="0"/>
                  </p:cNvCxnSpPr>
                  <p:nvPr/>
                </p:nvCxnSpPr>
                <p:spPr>
                  <a:xfrm flipV="1" rot="10800000">
                    <a:off x="7346160" y="5054760"/>
                    <a:ext cx="1080" cy="264600"/>
                  </a:xfrm>
                  <a:prstGeom prst="bentConnector2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172" name=""/>
                  <p:cNvCxnSpPr>
                    <a:stCxn id="2166" idx="2"/>
                    <a:endCxn id="2169" idx="0"/>
                  </p:cNvCxnSpPr>
                  <p:nvPr/>
                </p:nvCxnSpPr>
                <p:spPr>
                  <a:xfrm flipH="1" rot="16200000">
                    <a:off x="7695360" y="4705200"/>
                    <a:ext cx="264600" cy="963720"/>
                  </a:xfrm>
                  <a:prstGeom prst="bentConnector3">
                    <a:avLst>
                      <a:gd name="adj1" fmla="val 50000"/>
                    </a:avLst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</p:grpSp>
        <p:grpSp>
          <p:nvGrpSpPr>
            <p:cNvPr id="2173" name=""/>
            <p:cNvGrpSpPr/>
            <p:nvPr/>
          </p:nvGrpSpPr>
          <p:grpSpPr>
            <a:xfrm>
              <a:off x="3519360" y="2768040"/>
              <a:ext cx="2553120" cy="1820880"/>
              <a:chOff x="3519360" y="2768040"/>
              <a:chExt cx="2553120" cy="1820880"/>
            </a:xfrm>
          </p:grpSpPr>
          <p:pic>
            <p:nvPicPr>
              <p:cNvPr id="2174" name="boy" descr=""/>
              <p:cNvPicPr/>
              <p:nvPr/>
            </p:nvPicPr>
            <p:blipFill>
              <a:blip r:embed="rId17"/>
              <a:stretch/>
            </p:blipFill>
            <p:spPr>
              <a:xfrm>
                <a:off x="4692600" y="2768040"/>
                <a:ext cx="209880" cy="401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75" name=""/>
              <p:cNvGrpSpPr/>
              <p:nvPr/>
            </p:nvGrpSpPr>
            <p:grpSpPr>
              <a:xfrm>
                <a:off x="3519360" y="3409200"/>
                <a:ext cx="623160" cy="1105560"/>
                <a:chOff x="3519360" y="3409200"/>
                <a:chExt cx="623160" cy="1105560"/>
              </a:xfrm>
            </p:grpSpPr>
            <p:pic>
              <p:nvPicPr>
                <p:cNvPr id="2176" name="boy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726000" y="3409200"/>
                  <a:ext cx="209520" cy="401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7" name="boy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3519360" y="4113720"/>
                  <a:ext cx="209520" cy="401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8" name="boy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933000" y="4113720"/>
                  <a:ext cx="209520" cy="40104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2179" name=""/>
                <p:cNvCxnSpPr>
                  <a:stCxn id="2176" idx="2"/>
                  <a:endCxn id="2177" idx="0"/>
                </p:cNvCxnSpPr>
                <p:nvPr/>
              </p:nvCxnSpPr>
              <p:spPr>
                <a:xfrm rot="5400000">
                  <a:off x="3575160" y="3858480"/>
                  <a:ext cx="304200" cy="20736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180" name=""/>
                <p:cNvCxnSpPr>
                  <a:stCxn id="2176" idx="2"/>
                  <a:endCxn id="2178" idx="0"/>
                </p:cNvCxnSpPr>
                <p:nvPr/>
              </p:nvCxnSpPr>
              <p:spPr>
                <a:xfrm flipH="1" rot="16200000">
                  <a:off x="3782520" y="3858120"/>
                  <a:ext cx="304200" cy="20736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</p:grpSp>
          <p:pic>
            <p:nvPicPr>
              <p:cNvPr id="2181" name="boy" descr=""/>
              <p:cNvPicPr/>
              <p:nvPr/>
            </p:nvPicPr>
            <p:blipFill>
              <a:blip r:embed="rId21"/>
              <a:stretch/>
            </p:blipFill>
            <p:spPr>
              <a:xfrm>
                <a:off x="4707000" y="3404160"/>
                <a:ext cx="209880" cy="4010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82" name=""/>
              <p:cNvCxnSpPr>
                <a:stCxn id="2181" idx="2"/>
                <a:endCxn id="2183" idx="0"/>
              </p:cNvCxnSpPr>
              <p:nvPr/>
            </p:nvCxnSpPr>
            <p:spPr>
              <a:xfrm flipH="1" rot="16200000">
                <a:off x="4649760" y="3966480"/>
                <a:ext cx="324000" cy="1800"/>
              </a:xfrm>
              <a:prstGeom prst="bentConnector3">
                <a:avLst>
                  <a:gd name="adj1" fmla="val 49944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grpSp>
            <p:nvGrpSpPr>
              <p:cNvPr id="2184" name=""/>
              <p:cNvGrpSpPr/>
              <p:nvPr/>
            </p:nvGrpSpPr>
            <p:grpSpPr>
              <a:xfrm>
                <a:off x="5449320" y="3409200"/>
                <a:ext cx="623160" cy="1105560"/>
                <a:chOff x="5449320" y="3409200"/>
                <a:chExt cx="623160" cy="1105560"/>
              </a:xfrm>
            </p:grpSpPr>
            <p:pic>
              <p:nvPicPr>
                <p:cNvPr id="2185" name="boy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5655960" y="3409200"/>
                  <a:ext cx="209520" cy="401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6" name="boy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449320" y="4113720"/>
                  <a:ext cx="209520" cy="401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7" name="boy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5862960" y="4113720"/>
                  <a:ext cx="209520" cy="40104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2188" name=""/>
                <p:cNvCxnSpPr>
                  <a:stCxn id="2185" idx="2"/>
                  <a:endCxn id="2186" idx="0"/>
                </p:cNvCxnSpPr>
                <p:nvPr/>
              </p:nvCxnSpPr>
              <p:spPr>
                <a:xfrm rot="5400000">
                  <a:off x="5505120" y="3858480"/>
                  <a:ext cx="304200" cy="20736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189" name=""/>
                <p:cNvCxnSpPr>
                  <a:stCxn id="2185" idx="2"/>
                  <a:endCxn id="2187" idx="0"/>
                </p:cNvCxnSpPr>
                <p:nvPr/>
              </p:nvCxnSpPr>
              <p:spPr>
                <a:xfrm flipH="1" rot="16200000">
                  <a:off x="5712480" y="3858120"/>
                  <a:ext cx="304200" cy="20736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2190" name=""/>
              <p:cNvCxnSpPr>
                <a:stCxn id="2174" idx="2"/>
                <a:endCxn id="2176" idx="0"/>
              </p:cNvCxnSpPr>
              <p:nvPr/>
            </p:nvCxnSpPr>
            <p:spPr>
              <a:xfrm rot="5400000">
                <a:off x="4193640" y="2805840"/>
                <a:ext cx="240480" cy="966960"/>
              </a:xfrm>
              <a:prstGeom prst="bentConnector3">
                <a:avLst>
                  <a:gd name="adj1" fmla="val 49925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191" name=""/>
              <p:cNvCxnSpPr>
                <a:stCxn id="2174" idx="2"/>
                <a:endCxn id="2181" idx="0"/>
              </p:cNvCxnSpPr>
              <p:nvPr/>
            </p:nvCxnSpPr>
            <p:spPr>
              <a:xfrm flipH="1" rot="16200000">
                <a:off x="4686480" y="3279240"/>
                <a:ext cx="235440" cy="14760"/>
              </a:xfrm>
              <a:prstGeom prst="bentConnector3">
                <a:avLst>
                  <a:gd name="adj1" fmla="val 49923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192" name=""/>
              <p:cNvCxnSpPr>
                <a:stCxn id="2174" idx="2"/>
                <a:endCxn id="2185" idx="0"/>
              </p:cNvCxnSpPr>
              <p:nvPr/>
            </p:nvCxnSpPr>
            <p:spPr>
              <a:xfrm flipH="1" rot="16200000">
                <a:off x="5159520" y="2806920"/>
                <a:ext cx="240480" cy="964080"/>
              </a:xfrm>
              <a:prstGeom prst="bentConnector3">
                <a:avLst>
                  <a:gd name="adj1" fmla="val 49925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pic>
            <p:nvPicPr>
              <p:cNvPr id="2193" name="boy" descr=""/>
              <p:cNvPicPr/>
              <p:nvPr/>
            </p:nvPicPr>
            <p:blipFill>
              <a:blip r:embed="rId25"/>
              <a:stretch/>
            </p:blipFill>
            <p:spPr>
              <a:xfrm>
                <a:off x="4692600" y="4128840"/>
                <a:ext cx="239760" cy="46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4" name=""/>
            <p:cNvSpPr/>
            <p:nvPr/>
          </p:nvSpPr>
          <p:spPr>
            <a:xfrm>
              <a:off x="620280" y="3201120"/>
              <a:ext cx="1903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Comunidade de Prá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5" name=""/>
            <p:cNvCxnSpPr>
              <a:stCxn id="2123" idx="0"/>
              <a:endCxn id="2194" idx="2"/>
            </p:cNvCxnSpPr>
            <p:nvPr/>
          </p:nvCxnSpPr>
          <p:spPr>
            <a:xfrm flipH="1" flipV="1">
              <a:off x="1571760" y="3930480"/>
              <a:ext cx="1313280" cy="48240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-360" y="117000"/>
            <a:ext cx="82710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omunidades de Prática como estratégia para aumentar o fluxo de informações e a atualização constante dos profissionais.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calização das fases do pré-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escopo da revisão d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atividades para a revisão d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r informações sobre tecnologia 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visar 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o portfólio de produtos d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 mudanças no portfóli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r a viabilidade do portfóli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idir o início do planejamento de um dos produtos do portfó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"/>
          <p:cNvSpPr/>
          <p:nvPr/>
        </p:nvSpPr>
        <p:spPr>
          <a:xfrm>
            <a:off x="76320" y="2016360"/>
            <a:ext cx="1814400" cy="91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jamento Estratégico de 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 rot="10800000">
            <a:off x="2174400" y="3854160"/>
            <a:ext cx="830520" cy="1839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 rot="10800000">
            <a:off x="2174400" y="1981080"/>
            <a:ext cx="830520" cy="1843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152280" y="152280"/>
            <a:ext cx="4876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lnSpc>
                <a:spcPct val="6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Estratégico de Negócios (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Estratéfico da Corpo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Estratégico da Unidade de Negó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3276720" y="380880"/>
            <a:ext cx="5518080" cy="5013360"/>
          </a:xfrm>
          <a:custGeom>
            <a:avLst/>
            <a:gdLst/>
            <a:ahLst/>
            <a:rect l="l" t="t" r="r" b="b"/>
            <a:pathLst>
              <a:path w="2785" h="2424">
                <a:moveTo>
                  <a:pt x="0" y="1010"/>
                </a:moveTo>
                <a:lnTo>
                  <a:pt x="718" y="0"/>
                </a:lnTo>
                <a:lnTo>
                  <a:pt x="2783" y="0"/>
                </a:lnTo>
                <a:lnTo>
                  <a:pt x="2785" y="2416"/>
                </a:lnTo>
                <a:lnTo>
                  <a:pt x="740" y="2424"/>
                </a:lnTo>
                <a:lnTo>
                  <a:pt x="10" y="1339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4819680" y="816120"/>
            <a:ext cx="3279600" cy="27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Mi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4610160" y="1685880"/>
            <a:ext cx="3700440" cy="27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tendências tecn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4819680" y="2992320"/>
            <a:ext cx="3279600" cy="27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compet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1687680" y="2438280"/>
            <a:ext cx="1806480" cy="82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o Plano Estratégico de Negócios (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598320" y="4191120"/>
            <a:ext cx="3984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lnSpc>
                <a:spcPct val="7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Estratégico de Negócios (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Estratéfico da Corpo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Estratégico da Unidade de Negó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Revis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4689360" y="4692600"/>
            <a:ext cx="4222440" cy="2150640"/>
            <a:chOff x="4689360" y="4692600"/>
            <a:chExt cx="4222440" cy="2150640"/>
          </a:xfrm>
        </p:grpSpPr>
        <p:sp>
          <p:nvSpPr>
            <p:cNvPr id="2210" name=""/>
            <p:cNvSpPr/>
            <p:nvPr/>
          </p:nvSpPr>
          <p:spPr>
            <a:xfrm>
              <a:off x="4689360" y="5150880"/>
              <a:ext cx="4222440" cy="169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781880" y="5586480"/>
              <a:ext cx="4037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écnicas de Planejamento Estratég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885560" y="4692600"/>
              <a:ext cx="3723120" cy="54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étodos, ferramentas, documentos 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3" name=""/>
          <p:cNvSpPr/>
          <p:nvPr/>
        </p:nvSpPr>
        <p:spPr>
          <a:xfrm>
            <a:off x="396720" y="5867280"/>
            <a:ext cx="42246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685800" y="5715000"/>
            <a:ext cx="3724200" cy="274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ção com outras 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609480" y="6324480"/>
            <a:ext cx="3603600" cy="21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atividades de revisão do 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990720" y="1012680"/>
            <a:ext cx="32004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de fontes secundárias de tecnologia 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de fontes primárias tencologia 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5105520" y="6019920"/>
            <a:ext cx="3498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hecimentos básicos de preparação de reuni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4362480" y="1251000"/>
            <a:ext cx="4194000" cy="27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segmentação do negó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4362480" y="2120760"/>
            <a:ext cx="4194000" cy="27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posicionamento no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4476600" y="2557440"/>
            <a:ext cx="3965760" cy="27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direcionamento da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4495680" y="3427560"/>
            <a:ext cx="3927600" cy="27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Recursos Necess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4819680" y="380880"/>
            <a:ext cx="3279600" cy="27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Mi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4819680" y="3862440"/>
            <a:ext cx="3279600" cy="27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M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4819680" y="4299120"/>
            <a:ext cx="3279600" cy="27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 doc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calização das fases do pré-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escopo da revisão d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atividades para a revisão d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r informações sobre tecnologia 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nalisar o portfólio de produtos d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 mudanças no portfóli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r a viabilidade do portfóli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idir o início do planejamento de um dos produtos do portfó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"/>
          <p:cNvSpPr/>
          <p:nvPr/>
        </p:nvSpPr>
        <p:spPr>
          <a:xfrm>
            <a:off x="76320" y="1518120"/>
            <a:ext cx="1814400" cy="91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jamento Estratégico de 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 rot="10800000">
            <a:off x="2174400" y="3429000"/>
            <a:ext cx="830520" cy="1843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 rot="10800000">
            <a:off x="2185920" y="1676160"/>
            <a:ext cx="830160" cy="1839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152280" y="152280"/>
            <a:ext cx="4876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lnSpc>
                <a:spcPct val="6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Estratégico de Negócios (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Estratéfico da Corpo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Estratégico da Unidade de Negó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3352680" y="0"/>
            <a:ext cx="5518440" cy="4784760"/>
          </a:xfrm>
          <a:custGeom>
            <a:avLst/>
            <a:gdLst/>
            <a:ahLst/>
            <a:rect l="l" t="t" r="r" b="b"/>
            <a:pathLst>
              <a:path w="2785" h="2424">
                <a:moveTo>
                  <a:pt x="0" y="1010"/>
                </a:moveTo>
                <a:lnTo>
                  <a:pt x="718" y="0"/>
                </a:lnTo>
                <a:lnTo>
                  <a:pt x="2783" y="0"/>
                </a:lnTo>
                <a:lnTo>
                  <a:pt x="2785" y="2416"/>
                </a:lnTo>
                <a:lnTo>
                  <a:pt x="740" y="2424"/>
                </a:lnTo>
                <a:lnTo>
                  <a:pt x="10" y="1339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4991040" y="228600"/>
            <a:ext cx="3279960" cy="54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/ Definir Metodologia de Avaliação de Portfó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4991040" y="2558880"/>
            <a:ext cx="3279960" cy="54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tecnologias e plataformas utiliz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4991040" y="3336840"/>
            <a:ext cx="3279960" cy="54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r lista de idéias de novos 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1698480" y="2031840"/>
            <a:ext cx="1806840" cy="109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Portfólio de Produtos d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609480" y="3962520"/>
            <a:ext cx="398484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tfólio de Produtos (Revis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sta de Idé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7" name=""/>
          <p:cNvGrpSpPr/>
          <p:nvPr/>
        </p:nvGrpSpPr>
        <p:grpSpPr>
          <a:xfrm>
            <a:off x="4689360" y="4692600"/>
            <a:ext cx="4222440" cy="2150640"/>
            <a:chOff x="4689360" y="4692600"/>
            <a:chExt cx="4222440" cy="2150640"/>
          </a:xfrm>
        </p:grpSpPr>
        <p:sp>
          <p:nvSpPr>
            <p:cNvPr id="2238" name=""/>
            <p:cNvSpPr/>
            <p:nvPr/>
          </p:nvSpPr>
          <p:spPr>
            <a:xfrm>
              <a:off x="4689360" y="5150880"/>
              <a:ext cx="4222440" cy="169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117760" y="5586480"/>
              <a:ext cx="33649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étodos de Análise de Portfól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885560" y="4692600"/>
              <a:ext cx="3723120" cy="54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étodos, ferramentas, documentos 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1" name=""/>
          <p:cNvSpPr/>
          <p:nvPr/>
        </p:nvSpPr>
        <p:spPr>
          <a:xfrm>
            <a:off x="396720" y="5867280"/>
            <a:ext cx="42246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685800" y="5715000"/>
            <a:ext cx="3724200" cy="274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ção com outras 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609480" y="6324480"/>
            <a:ext cx="3603600" cy="21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 mudanças no portfólio de prod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990720" y="1190520"/>
            <a:ext cx="32004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tfólio de Produtos (At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5105520" y="6019920"/>
            <a:ext cx="3498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icionamento de Produtos (marke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4991040" y="1004760"/>
            <a:ext cx="3279960" cy="54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o posicionamento dos 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4991040" y="1782720"/>
            <a:ext cx="3279960" cy="54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o desempenho dos 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991040" y="4114800"/>
            <a:ext cx="3279960" cy="27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pro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9" name=""/>
          <p:cNvGrpSpPr/>
          <p:nvPr/>
        </p:nvGrpSpPr>
        <p:grpSpPr>
          <a:xfrm>
            <a:off x="1911240" y="2335320"/>
            <a:ext cx="3574800" cy="2202840"/>
            <a:chOff x="1911240" y="2335320"/>
            <a:chExt cx="3574800" cy="2202840"/>
          </a:xfrm>
        </p:grpSpPr>
        <p:sp>
          <p:nvSpPr>
            <p:cNvPr id="2250" name=""/>
            <p:cNvSpPr/>
            <p:nvPr/>
          </p:nvSpPr>
          <p:spPr>
            <a:xfrm>
              <a:off x="3490920" y="2335320"/>
              <a:ext cx="1995120" cy="14097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1911240" y="3128400"/>
              <a:ext cx="141336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2" name=""/>
          <p:cNvSpPr/>
          <p:nvPr/>
        </p:nvSpPr>
        <p:spPr>
          <a:xfrm>
            <a:off x="82440" y="3816360"/>
            <a:ext cx="1828800" cy="14097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0" y="4160880"/>
            <a:ext cx="207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. $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0" y="1980360"/>
            <a:ext cx="307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esso Técnic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4572000" y="780120"/>
            <a:ext cx="307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esso    Comercia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6" name=""/>
          <p:cNvGrpSpPr/>
          <p:nvPr/>
        </p:nvGrpSpPr>
        <p:grpSpPr>
          <a:xfrm>
            <a:off x="5486400" y="1624320"/>
            <a:ext cx="3656880" cy="1647000"/>
            <a:chOff x="5486400" y="1624320"/>
            <a:chExt cx="3656880" cy="1647000"/>
          </a:xfrm>
        </p:grpSpPr>
        <p:grpSp>
          <p:nvGrpSpPr>
            <p:cNvPr id="2257" name=""/>
            <p:cNvGrpSpPr/>
            <p:nvPr/>
          </p:nvGrpSpPr>
          <p:grpSpPr>
            <a:xfrm>
              <a:off x="5486400" y="1624320"/>
              <a:ext cx="3656880" cy="1485720"/>
              <a:chOff x="5486400" y="1624320"/>
              <a:chExt cx="3656880" cy="1485720"/>
            </a:xfrm>
          </p:grpSpPr>
          <p:sp>
            <p:nvSpPr>
              <p:cNvPr id="2258" name=""/>
              <p:cNvSpPr/>
              <p:nvPr/>
            </p:nvSpPr>
            <p:spPr>
              <a:xfrm flipV="1">
                <a:off x="5486400" y="1964880"/>
                <a:ext cx="1828800" cy="114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065720" y="1624320"/>
                <a:ext cx="2077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$VPL Venda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0" name=""/>
            <p:cNvSpPr/>
            <p:nvPr/>
          </p:nvSpPr>
          <p:spPr>
            <a:xfrm>
              <a:off x="6068160" y="2811600"/>
              <a:ext cx="83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1" name=""/>
          <p:cNvSpPr/>
          <p:nvPr/>
        </p:nvSpPr>
        <p:spPr>
          <a:xfrm>
            <a:off x="3490920" y="2575080"/>
            <a:ext cx="207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çamento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2327400" y="423900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s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3" name=""/>
          <p:cNvGrpSpPr/>
          <p:nvPr/>
        </p:nvGrpSpPr>
        <p:grpSpPr>
          <a:xfrm>
            <a:off x="1911240" y="4521240"/>
            <a:ext cx="2827080" cy="1463040"/>
            <a:chOff x="1911240" y="4521240"/>
            <a:chExt cx="2827080" cy="1463040"/>
          </a:xfrm>
        </p:grpSpPr>
        <p:sp>
          <p:nvSpPr>
            <p:cNvPr id="2264" name=""/>
            <p:cNvSpPr/>
            <p:nvPr/>
          </p:nvSpPr>
          <p:spPr>
            <a:xfrm>
              <a:off x="1911240" y="4521240"/>
              <a:ext cx="1496520" cy="12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241800" y="5524560"/>
              <a:ext cx="14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alh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6" name=""/>
          <p:cNvGrpSpPr/>
          <p:nvPr/>
        </p:nvGrpSpPr>
        <p:grpSpPr>
          <a:xfrm>
            <a:off x="5486400" y="3111480"/>
            <a:ext cx="3408120" cy="1286640"/>
            <a:chOff x="5486400" y="3111480"/>
            <a:chExt cx="3408120" cy="1286640"/>
          </a:xfrm>
        </p:grpSpPr>
        <p:sp>
          <p:nvSpPr>
            <p:cNvPr id="2267" name=""/>
            <p:cNvSpPr/>
            <p:nvPr/>
          </p:nvSpPr>
          <p:spPr>
            <a:xfrm>
              <a:off x="5486400" y="3111480"/>
              <a:ext cx="1828800" cy="10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398360" y="3938400"/>
              <a:ext cx="149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alh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9" name=""/>
          <p:cNvSpPr/>
          <p:nvPr/>
        </p:nvSpPr>
        <p:spPr>
          <a:xfrm>
            <a:off x="7560" y="6213240"/>
            <a:ext cx="59522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 - Prob. de Sucesso Té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s - Probabilidade de Sucesso 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Método de avaliação do valor econômico esperad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1" name=""/>
          <p:cNvGrpSpPr/>
          <p:nvPr/>
        </p:nvGrpSpPr>
        <p:grpSpPr>
          <a:xfrm>
            <a:off x="1029240" y="1095840"/>
            <a:ext cx="7218720" cy="5187600"/>
            <a:chOff x="1029240" y="1095840"/>
            <a:chExt cx="7218720" cy="5187600"/>
          </a:xfrm>
        </p:grpSpPr>
        <p:grpSp>
          <p:nvGrpSpPr>
            <p:cNvPr id="2272" name=""/>
            <p:cNvGrpSpPr/>
            <p:nvPr/>
          </p:nvGrpSpPr>
          <p:grpSpPr>
            <a:xfrm>
              <a:off x="1317600" y="3863160"/>
              <a:ext cx="6744240" cy="437040"/>
              <a:chOff x="1317600" y="3863160"/>
              <a:chExt cx="6744240" cy="437040"/>
            </a:xfrm>
          </p:grpSpPr>
          <p:sp>
            <p:nvSpPr>
              <p:cNvPr id="2273" name=""/>
              <p:cNvSpPr/>
              <p:nvPr/>
            </p:nvSpPr>
            <p:spPr>
              <a:xfrm>
                <a:off x="1317600" y="3863160"/>
                <a:ext cx="602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253560" y="3901320"/>
                <a:ext cx="1808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etorno (VP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5" name=""/>
            <p:cNvSpPr/>
            <p:nvPr/>
          </p:nvSpPr>
          <p:spPr>
            <a:xfrm>
              <a:off x="3867840" y="1387800"/>
              <a:ext cx="5040" cy="465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124360" y="1095840"/>
              <a:ext cx="397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babilidade de sucesso técn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029240" y="1163520"/>
              <a:ext cx="109980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érol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186200" y="5884560"/>
              <a:ext cx="9885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str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818320" y="1228680"/>
              <a:ext cx="242712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ão com manteig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866200" y="5824440"/>
              <a:ext cx="237384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efantes bran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1" name=""/>
            <p:cNvGrpSpPr/>
            <p:nvPr/>
          </p:nvGrpSpPr>
          <p:grpSpPr>
            <a:xfrm>
              <a:off x="1190880" y="2150280"/>
              <a:ext cx="1707840" cy="1372680"/>
              <a:chOff x="1190880" y="2150280"/>
              <a:chExt cx="1707840" cy="1372680"/>
            </a:xfrm>
          </p:grpSpPr>
          <p:sp>
            <p:nvSpPr>
              <p:cNvPr id="2282" name=""/>
              <p:cNvSpPr/>
              <p:nvPr/>
            </p:nvSpPr>
            <p:spPr>
              <a:xfrm>
                <a:off x="1986480" y="2577600"/>
                <a:ext cx="912240" cy="88380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190880" y="2150280"/>
                <a:ext cx="91224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ova Plataforma de Caminhões- Pesad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4" name=""/>
            <p:cNvSpPr/>
            <p:nvPr/>
          </p:nvSpPr>
          <p:spPr>
            <a:xfrm>
              <a:off x="4111200" y="1505880"/>
              <a:ext cx="973080" cy="883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988080" y="2091600"/>
              <a:ext cx="15919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estilização de uma linha de Caminhões Leves de Suces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6361920" y="2684520"/>
              <a:ext cx="364680" cy="353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571360" y="2847240"/>
              <a:ext cx="2676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réscimo de um modelo específico para cana-de-açucar em uma linha de caminhões pes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495080" y="4924080"/>
              <a:ext cx="608400" cy="58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981800" y="4568760"/>
              <a:ext cx="158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minhão Bicombustí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0" name=""/>
            <p:cNvGrpSpPr/>
            <p:nvPr/>
          </p:nvGrpSpPr>
          <p:grpSpPr>
            <a:xfrm>
              <a:off x="5637240" y="4511520"/>
              <a:ext cx="1135440" cy="1166040"/>
              <a:chOff x="5637240" y="4511520"/>
              <a:chExt cx="1135440" cy="1166040"/>
            </a:xfrm>
          </p:grpSpPr>
          <p:sp>
            <p:nvSpPr>
              <p:cNvPr id="2291" name=""/>
              <p:cNvSpPr/>
              <p:nvPr/>
            </p:nvSpPr>
            <p:spPr>
              <a:xfrm>
                <a:off x="5758560" y="4511520"/>
                <a:ext cx="739800" cy="686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5637240" y="5157360"/>
                <a:ext cx="1135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aminhão Ec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3" name=""/>
          <p:cNvGrpSpPr/>
          <p:nvPr/>
        </p:nvGrpSpPr>
        <p:grpSpPr>
          <a:xfrm>
            <a:off x="463680" y="3581280"/>
            <a:ext cx="8219520" cy="504360"/>
            <a:chOff x="463680" y="3581280"/>
            <a:chExt cx="8219520" cy="504360"/>
          </a:xfrm>
        </p:grpSpPr>
        <p:sp>
          <p:nvSpPr>
            <p:cNvPr id="2294" name=""/>
            <p:cNvSpPr/>
            <p:nvPr/>
          </p:nvSpPr>
          <p:spPr>
            <a:xfrm>
              <a:off x="463680" y="358128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874920" y="3686760"/>
              <a:ext cx="180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torno (VPL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6" name=""/>
          <p:cNvSpPr/>
          <p:nvPr/>
        </p:nvSpPr>
        <p:spPr>
          <a:xfrm>
            <a:off x="3657600" y="380880"/>
            <a:ext cx="6480" cy="6019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1977120" y="59400"/>
            <a:ext cx="39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dade de sucesso téc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440640" y="989640"/>
            <a:ext cx="1099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éro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547200" y="5942520"/>
            <a:ext cx="9885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6199200" y="989640"/>
            <a:ext cx="2427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ão com mante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6148800" y="5866200"/>
            <a:ext cx="23738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fantes bran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2" name=""/>
          <p:cNvGrpSpPr/>
          <p:nvPr/>
        </p:nvGrpSpPr>
        <p:grpSpPr>
          <a:xfrm>
            <a:off x="0" y="1828800"/>
            <a:ext cx="2139840" cy="1143000"/>
            <a:chOff x="0" y="1828800"/>
            <a:chExt cx="2139840" cy="1143000"/>
          </a:xfrm>
        </p:grpSpPr>
        <p:sp>
          <p:nvSpPr>
            <p:cNvPr id="2303" name=""/>
            <p:cNvSpPr/>
            <p:nvPr/>
          </p:nvSpPr>
          <p:spPr>
            <a:xfrm>
              <a:off x="996840" y="1828800"/>
              <a:ext cx="1143000" cy="114300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0" y="190368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minhão Le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5" name=""/>
          <p:cNvGrpSpPr/>
          <p:nvPr/>
        </p:nvGrpSpPr>
        <p:grpSpPr>
          <a:xfrm>
            <a:off x="4197240" y="1295280"/>
            <a:ext cx="1885320" cy="1143000"/>
            <a:chOff x="4197240" y="1295280"/>
            <a:chExt cx="1885320" cy="1143000"/>
          </a:xfrm>
        </p:grpSpPr>
        <p:sp>
          <p:nvSpPr>
            <p:cNvPr id="2306" name=""/>
            <p:cNvSpPr/>
            <p:nvPr/>
          </p:nvSpPr>
          <p:spPr>
            <a:xfrm>
              <a:off x="4197240" y="1295280"/>
              <a:ext cx="1219320" cy="1143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417280" y="1675440"/>
              <a:ext cx="6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8" name=""/>
          <p:cNvGrpSpPr/>
          <p:nvPr/>
        </p:nvGrpSpPr>
        <p:grpSpPr>
          <a:xfrm>
            <a:off x="3816360" y="5181480"/>
            <a:ext cx="2005920" cy="838080"/>
            <a:chOff x="3816360" y="5181480"/>
            <a:chExt cx="2005920" cy="838080"/>
          </a:xfrm>
        </p:grpSpPr>
        <p:sp>
          <p:nvSpPr>
            <p:cNvPr id="2309" name=""/>
            <p:cNvSpPr/>
            <p:nvPr/>
          </p:nvSpPr>
          <p:spPr>
            <a:xfrm>
              <a:off x="3816360" y="5181480"/>
              <a:ext cx="838080" cy="83808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730040" y="5485320"/>
              <a:ext cx="109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vo Car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1" name=""/>
          <p:cNvGrpSpPr/>
          <p:nvPr/>
        </p:nvGrpSpPr>
        <p:grpSpPr>
          <a:xfrm>
            <a:off x="1828800" y="912960"/>
            <a:ext cx="1855800" cy="1144440"/>
            <a:chOff x="1828800" y="912960"/>
            <a:chExt cx="1855800" cy="1144440"/>
          </a:xfrm>
        </p:grpSpPr>
        <p:sp>
          <p:nvSpPr>
            <p:cNvPr id="2312" name=""/>
            <p:cNvSpPr/>
            <p:nvPr/>
          </p:nvSpPr>
          <p:spPr>
            <a:xfrm>
              <a:off x="2444760" y="1371600"/>
              <a:ext cx="685800" cy="68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828800" y="912960"/>
              <a:ext cx="18558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vo Motor para um caminhão leve de suces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5264280" y="2514600"/>
            <a:ext cx="1117440" cy="900000"/>
            <a:chOff x="5264280" y="2514600"/>
            <a:chExt cx="1117440" cy="900000"/>
          </a:xfrm>
        </p:grpSpPr>
        <p:sp>
          <p:nvSpPr>
            <p:cNvPr id="2315" name=""/>
            <p:cNvSpPr/>
            <p:nvPr/>
          </p:nvSpPr>
          <p:spPr>
            <a:xfrm>
              <a:off x="5492880" y="251460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264280" y="2894400"/>
              <a:ext cx="111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ama III Pes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7" name=""/>
          <p:cNvGrpSpPr/>
          <p:nvPr/>
        </p:nvGrpSpPr>
        <p:grpSpPr>
          <a:xfrm>
            <a:off x="6711840" y="2437200"/>
            <a:ext cx="1305000" cy="534600"/>
            <a:chOff x="6711840" y="2437200"/>
            <a:chExt cx="1305000" cy="534600"/>
          </a:xfrm>
        </p:grpSpPr>
        <p:sp>
          <p:nvSpPr>
            <p:cNvPr id="2318" name=""/>
            <p:cNvSpPr/>
            <p:nvPr/>
          </p:nvSpPr>
          <p:spPr>
            <a:xfrm>
              <a:off x="6711840" y="2590920"/>
              <a:ext cx="381240" cy="380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016760" y="2437200"/>
              <a:ext cx="100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uro IV Pes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0" name=""/>
          <p:cNvGrpSpPr/>
          <p:nvPr/>
        </p:nvGrpSpPr>
        <p:grpSpPr>
          <a:xfrm>
            <a:off x="1987560" y="4114800"/>
            <a:ext cx="1000080" cy="1204920"/>
            <a:chOff x="1987560" y="4114800"/>
            <a:chExt cx="1000080" cy="1204920"/>
          </a:xfrm>
        </p:grpSpPr>
        <p:sp>
          <p:nvSpPr>
            <p:cNvPr id="2321" name=""/>
            <p:cNvSpPr/>
            <p:nvPr/>
          </p:nvSpPr>
          <p:spPr>
            <a:xfrm>
              <a:off x="2368440" y="4114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987560" y="4799520"/>
              <a:ext cx="100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ixo Pes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6254640" y="1523880"/>
            <a:ext cx="1762200" cy="762120"/>
            <a:chOff x="6254640" y="1523880"/>
            <a:chExt cx="1762200" cy="762120"/>
          </a:xfrm>
        </p:grpSpPr>
        <p:sp>
          <p:nvSpPr>
            <p:cNvPr id="2324" name=""/>
            <p:cNvSpPr/>
            <p:nvPr/>
          </p:nvSpPr>
          <p:spPr>
            <a:xfrm>
              <a:off x="6254640" y="1523880"/>
              <a:ext cx="762120" cy="762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016760" y="1553040"/>
              <a:ext cx="100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ixo Le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6" name=""/>
          <p:cNvGrpSpPr/>
          <p:nvPr/>
        </p:nvGrpSpPr>
        <p:grpSpPr>
          <a:xfrm>
            <a:off x="609480" y="4572000"/>
            <a:ext cx="1066680" cy="1357200"/>
            <a:chOff x="609480" y="4572000"/>
            <a:chExt cx="1066680" cy="1357200"/>
          </a:xfrm>
        </p:grpSpPr>
        <p:sp>
          <p:nvSpPr>
            <p:cNvPr id="2327" name=""/>
            <p:cNvSpPr/>
            <p:nvPr/>
          </p:nvSpPr>
          <p:spPr>
            <a:xfrm>
              <a:off x="914400" y="4572000"/>
              <a:ext cx="761760" cy="762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09480" y="5409000"/>
              <a:ext cx="100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tor a Alco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5873760" y="4419720"/>
            <a:ext cx="1422360" cy="1433160"/>
            <a:chOff x="5873760" y="4419720"/>
            <a:chExt cx="1422360" cy="1433160"/>
          </a:xfrm>
        </p:grpSpPr>
        <p:sp>
          <p:nvSpPr>
            <p:cNvPr id="2330" name=""/>
            <p:cNvSpPr/>
            <p:nvPr/>
          </p:nvSpPr>
          <p:spPr>
            <a:xfrm>
              <a:off x="6026040" y="4419720"/>
              <a:ext cx="927000" cy="887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873760" y="5332680"/>
              <a:ext cx="142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minhão Ecológ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2" name=""/>
          <p:cNvGrpSpPr/>
          <p:nvPr/>
        </p:nvGrpSpPr>
        <p:grpSpPr>
          <a:xfrm>
            <a:off x="3816360" y="2743200"/>
            <a:ext cx="1295280" cy="823680"/>
            <a:chOff x="3816360" y="2743200"/>
            <a:chExt cx="1295280" cy="823680"/>
          </a:xfrm>
        </p:grpSpPr>
        <p:sp>
          <p:nvSpPr>
            <p:cNvPr id="2333" name=""/>
            <p:cNvSpPr/>
            <p:nvPr/>
          </p:nvSpPr>
          <p:spPr>
            <a:xfrm>
              <a:off x="4197240" y="2743200"/>
              <a:ext cx="304920" cy="3049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816360" y="304668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estilização Pes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Objetivos do capítulo 1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7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ender a relação entre o Processo de Planejamento Estratégico da empresa e o Plano Estratégico de Prod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reender o significado e a importância do Planejamento Estratégico de Produtos e o Portfólio de Prod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r a diferença entre produto e tecnolog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hecer as diferentes fontes de dados sobre o mercado e tendências tecnológ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ender os principais cuidados na coleta de informações sobre mercado e tendências tecnológ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rever quais os objetivos e as metas da gestão de portfól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rever quais as atividades e ferramentas disponíveis para realizar o planejamento estratégico de produtos; isto é, a definição dos projetos de desenvolv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5" name=""/>
          <p:cNvGrpSpPr/>
          <p:nvPr/>
        </p:nvGrpSpPr>
        <p:grpSpPr>
          <a:xfrm>
            <a:off x="176040" y="1266840"/>
            <a:ext cx="6890760" cy="5590440"/>
            <a:chOff x="176040" y="1266840"/>
            <a:chExt cx="6890760" cy="5590440"/>
          </a:xfrm>
        </p:grpSpPr>
        <p:sp>
          <p:nvSpPr>
            <p:cNvPr id="2336" name=""/>
            <p:cNvSpPr/>
            <p:nvPr/>
          </p:nvSpPr>
          <p:spPr>
            <a:xfrm>
              <a:off x="176040" y="1266840"/>
              <a:ext cx="6890760" cy="55904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 rot="16200000">
              <a:off x="2167200" y="2203200"/>
              <a:ext cx="125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Nicho 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Merc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rot="16200000">
              <a:off x="3062880" y="2269800"/>
              <a:ext cx="155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Cus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Oper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 rot="16200000">
              <a:off x="4412520" y="2198880"/>
              <a:ext cx="166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Flexibilida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de Expans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 rot="16200000">
              <a:off x="6251040" y="255924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18760" y="3576960"/>
              <a:ext cx="1256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Nicho 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Merc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18040" y="4482000"/>
              <a:ext cx="130104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Custo 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Oper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20200" y="5362200"/>
              <a:ext cx="1668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Flexibilida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de Expans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4" name=""/>
            <p:cNvGrpSpPr/>
            <p:nvPr/>
          </p:nvGrpSpPr>
          <p:grpSpPr>
            <a:xfrm>
              <a:off x="522360" y="1484640"/>
              <a:ext cx="6336000" cy="4983840"/>
              <a:chOff x="522360" y="1484640"/>
              <a:chExt cx="6336000" cy="4983840"/>
            </a:xfrm>
          </p:grpSpPr>
          <p:sp>
            <p:nvSpPr>
              <p:cNvPr id="2345" name=""/>
              <p:cNvSpPr/>
              <p:nvPr/>
            </p:nvSpPr>
            <p:spPr>
              <a:xfrm>
                <a:off x="522360" y="1484640"/>
                <a:ext cx="6336000" cy="498384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522360" y="3700080"/>
                <a:ext cx="63360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2311200" y="1484640"/>
                <a:ext cx="0" cy="49838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522360" y="4619520"/>
                <a:ext cx="63360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522360" y="5543280"/>
                <a:ext cx="63360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549240" y="1484640"/>
                <a:ext cx="0" cy="49838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031800" y="1484640"/>
                <a:ext cx="0" cy="49838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4794480" y="1484640"/>
                <a:ext cx="0" cy="49838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22360" y="1484640"/>
                <a:ext cx="1788840" cy="2215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4" name=""/>
            <p:cNvSpPr/>
            <p:nvPr/>
          </p:nvSpPr>
          <p:spPr>
            <a:xfrm>
              <a:off x="3963240" y="368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208120" y="367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208120" y="4498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724840" y="4498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724840" y="5427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3973680" y="543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238800" y="367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238800" y="4498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238800" y="543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3" name=""/>
          <p:cNvSpPr/>
          <p:nvPr/>
        </p:nvSpPr>
        <p:spPr>
          <a:xfrm>
            <a:off x="7030080" y="917640"/>
            <a:ext cx="21085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-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a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or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gu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ortâ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-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en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or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62000" y="893880"/>
            <a:ext cx="48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o 1 - Priorizando os crité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9358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Modelo de notas para avaliação do portfoli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6" name=""/>
          <p:cNvGrpSpPr/>
          <p:nvPr/>
        </p:nvGrpSpPr>
        <p:grpSpPr>
          <a:xfrm>
            <a:off x="803160" y="1593720"/>
            <a:ext cx="7536960" cy="5283000"/>
            <a:chOff x="803160" y="1593720"/>
            <a:chExt cx="7536960" cy="5283000"/>
          </a:xfrm>
        </p:grpSpPr>
        <p:sp>
          <p:nvSpPr>
            <p:cNvPr id="2367" name=""/>
            <p:cNvSpPr/>
            <p:nvPr/>
          </p:nvSpPr>
          <p:spPr>
            <a:xfrm>
              <a:off x="803160" y="1593720"/>
              <a:ext cx="7536960" cy="5175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956160" y="3753360"/>
              <a:ext cx="125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Nicho 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Merc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955800" y="452268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Cust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oper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956880" y="5291640"/>
              <a:ext cx="166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Flexibilida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de Expans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1" name=""/>
            <p:cNvGrpSpPr/>
            <p:nvPr/>
          </p:nvGrpSpPr>
          <p:grpSpPr>
            <a:xfrm>
              <a:off x="956160" y="1856520"/>
              <a:ext cx="7037280" cy="4295880"/>
              <a:chOff x="956160" y="1856520"/>
              <a:chExt cx="7037280" cy="4295880"/>
            </a:xfrm>
          </p:grpSpPr>
          <p:sp>
            <p:nvSpPr>
              <p:cNvPr id="2372" name=""/>
              <p:cNvSpPr/>
              <p:nvPr/>
            </p:nvSpPr>
            <p:spPr>
              <a:xfrm>
                <a:off x="956160" y="1856520"/>
                <a:ext cx="7037280" cy="42958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956160" y="3764880"/>
                <a:ext cx="70372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2942280" y="1856520"/>
                <a:ext cx="0" cy="4295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956160" y="4559040"/>
                <a:ext cx="70372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956160" y="5357520"/>
                <a:ext cx="70372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3630960" y="1856520"/>
                <a:ext cx="0" cy="4295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074720" y="1856520"/>
                <a:ext cx="0" cy="4295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4779720" y="1856520"/>
                <a:ext cx="0" cy="4295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956160" y="1856520"/>
                <a:ext cx="1986120" cy="19083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929560" y="1856520"/>
                <a:ext cx="0" cy="4295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2" name=""/>
            <p:cNvSpPr/>
            <p:nvPr/>
          </p:nvSpPr>
          <p:spPr>
            <a:xfrm rot="16200000">
              <a:off x="3352680" y="2812680"/>
              <a:ext cx="14349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400" spc="-1" strike="noStrike">
                  <a:solidFill>
                    <a:srgbClr val="009900"/>
                  </a:solidFill>
                  <a:latin typeface="Arial"/>
                </a:rPr>
                <a:t>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400" spc="-1" strike="noStrike">
                  <a:solidFill>
                    <a:srgbClr val="009900"/>
                  </a:solidFill>
                  <a:latin typeface="Arial"/>
                </a:rPr>
                <a:t>Marcat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rot="16200000">
              <a:off x="4545720" y="2785680"/>
              <a:ext cx="1483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400" spc="-1" strike="noStrike">
                  <a:solidFill>
                    <a:srgbClr val="009900"/>
                  </a:solidFill>
                  <a:latin typeface="Arial"/>
                </a:rPr>
                <a:t>Fernan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400" spc="-1" strike="noStrike">
                  <a:solidFill>
                    <a:srgbClr val="009900"/>
                  </a:solidFill>
                  <a:latin typeface="Arial"/>
                </a:rPr>
                <a:t>Mach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 rot="16200000">
              <a:off x="5749920" y="2870280"/>
              <a:ext cx="1312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Rolan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Gra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164360" y="3295440"/>
              <a:ext cx="893880" cy="301176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rot="16200000">
              <a:off x="2624040" y="270324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7" name=""/>
            <p:cNvGrpSpPr/>
            <p:nvPr/>
          </p:nvGrpSpPr>
          <p:grpSpPr>
            <a:xfrm>
              <a:off x="2959920" y="3740760"/>
              <a:ext cx="349920" cy="1818720"/>
              <a:chOff x="2959920" y="3740760"/>
              <a:chExt cx="349920" cy="1818720"/>
            </a:xfrm>
          </p:grpSpPr>
          <p:sp>
            <p:nvSpPr>
              <p:cNvPr id="2388" name=""/>
              <p:cNvSpPr/>
              <p:nvPr/>
            </p:nvSpPr>
            <p:spPr>
              <a:xfrm flipH="1">
                <a:off x="2959920" y="37407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>
                <a:off x="2959920" y="4420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>
                <a:off x="2959920" y="50997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1" name=""/>
            <p:cNvGrpSpPr/>
            <p:nvPr/>
          </p:nvGrpSpPr>
          <p:grpSpPr>
            <a:xfrm>
              <a:off x="5159160" y="3868920"/>
              <a:ext cx="365760" cy="1731960"/>
              <a:chOff x="5159160" y="3868920"/>
              <a:chExt cx="365760" cy="1731960"/>
            </a:xfrm>
          </p:grpSpPr>
          <p:sp>
            <p:nvSpPr>
              <p:cNvPr id="2392" name=""/>
              <p:cNvSpPr/>
              <p:nvPr/>
            </p:nvSpPr>
            <p:spPr>
              <a:xfrm>
                <a:off x="5159160" y="3868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175000" y="4489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162400" y="5141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6234480" y="3846240"/>
              <a:ext cx="349920" cy="1709640"/>
              <a:chOff x="6234480" y="3846240"/>
              <a:chExt cx="349920" cy="1709640"/>
            </a:xfrm>
          </p:grpSpPr>
          <p:sp>
            <p:nvSpPr>
              <p:cNvPr id="2396" name=""/>
              <p:cNvSpPr/>
              <p:nvPr/>
            </p:nvSpPr>
            <p:spPr>
              <a:xfrm>
                <a:off x="6234480" y="38462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234480" y="4439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234480" y="5096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9" name=""/>
            <p:cNvGrpSpPr/>
            <p:nvPr/>
          </p:nvGrpSpPr>
          <p:grpSpPr>
            <a:xfrm>
              <a:off x="4035960" y="3846240"/>
              <a:ext cx="356400" cy="1709640"/>
              <a:chOff x="4035960" y="3846240"/>
              <a:chExt cx="356400" cy="1709640"/>
            </a:xfrm>
          </p:grpSpPr>
          <p:sp>
            <p:nvSpPr>
              <p:cNvPr id="2400" name=""/>
              <p:cNvSpPr/>
              <p:nvPr/>
            </p:nvSpPr>
            <p:spPr>
              <a:xfrm>
                <a:off x="4042440" y="38462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4035960" y="4439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4042440" y="5096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3" name=""/>
            <p:cNvGrpSpPr/>
            <p:nvPr/>
          </p:nvGrpSpPr>
          <p:grpSpPr>
            <a:xfrm>
              <a:off x="7243560" y="2471400"/>
              <a:ext cx="606960" cy="3097080"/>
              <a:chOff x="7243560" y="2471400"/>
              <a:chExt cx="606960" cy="3097080"/>
            </a:xfrm>
          </p:grpSpPr>
          <p:sp>
            <p:nvSpPr>
              <p:cNvPr id="2404" name=""/>
              <p:cNvSpPr/>
              <p:nvPr/>
            </p:nvSpPr>
            <p:spPr>
              <a:xfrm>
                <a:off x="7246080" y="4455000"/>
                <a:ext cx="60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,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246080" y="3864240"/>
                <a:ext cx="60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,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243560" y="5108760"/>
                <a:ext cx="60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,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rot="16200000">
                <a:off x="6968880" y="2746440"/>
                <a:ext cx="100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édi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8" name=""/>
            <p:cNvSpPr/>
            <p:nvPr/>
          </p:nvSpPr>
          <p:spPr>
            <a:xfrm>
              <a:off x="1862640" y="5929560"/>
              <a:ext cx="528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800" spc="-1" strike="noStrike">
                  <a:solidFill>
                    <a:srgbClr val="ff3300"/>
                  </a:solidFill>
                  <a:latin typeface="Arial"/>
                </a:rPr>
                <a:t>Nota Final</a:t>
              </a: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 do Projeto LCGB</a:t>
              </a:r>
              <a:r>
                <a:rPr b="0" lang="pt-BR" sz="2800" spc="-1" strike="noStrike">
                  <a:solidFill>
                    <a:srgbClr val="ff3300"/>
                  </a:solidFill>
                  <a:latin typeface="Arial"/>
                </a:rPr>
                <a:t>: 4,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9" name=""/>
          <p:cNvSpPr/>
          <p:nvPr/>
        </p:nvSpPr>
        <p:spPr>
          <a:xfrm>
            <a:off x="6900840" y="907920"/>
            <a:ext cx="211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as de 1 a 5 pela avaliação do prod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171360" y="895320"/>
            <a:ext cx="89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o 2 - Analisando o projeto Família LC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0" y="0"/>
            <a:ext cx="7935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Modelo de notas para avaliação do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"/>
          <p:cNvSpPr/>
          <p:nvPr/>
        </p:nvSpPr>
        <p:spPr>
          <a:xfrm>
            <a:off x="0" y="0"/>
            <a:ext cx="7935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Modelo de notas para avaliação do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3" name=""/>
          <p:cNvGrpSpPr/>
          <p:nvPr/>
        </p:nvGrpSpPr>
        <p:grpSpPr>
          <a:xfrm>
            <a:off x="1473120" y="1400040"/>
            <a:ext cx="6197400" cy="5241600"/>
            <a:chOff x="1473120" y="1400040"/>
            <a:chExt cx="6197400" cy="5241600"/>
          </a:xfrm>
        </p:grpSpPr>
        <p:sp>
          <p:nvSpPr>
            <p:cNvPr id="2414" name=""/>
            <p:cNvSpPr/>
            <p:nvPr/>
          </p:nvSpPr>
          <p:spPr>
            <a:xfrm>
              <a:off x="1473120" y="1400040"/>
              <a:ext cx="6197400" cy="5241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744200" y="1551600"/>
              <a:ext cx="5655600" cy="4786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744200" y="2614680"/>
              <a:ext cx="56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1744200" y="3147480"/>
              <a:ext cx="56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744200" y="3678120"/>
              <a:ext cx="56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1744200" y="4211280"/>
              <a:ext cx="56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744200" y="4741200"/>
              <a:ext cx="56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744200" y="5274360"/>
              <a:ext cx="56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1744200" y="5805000"/>
              <a:ext cx="56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054120" y="2614680"/>
              <a:ext cx="0" cy="372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987920" y="1508400"/>
              <a:ext cx="52272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Ranking de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Projetos de Novos Produt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07640" y="3070800"/>
              <a:ext cx="21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amília 45/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1927080" y="3637440"/>
              <a:ext cx="290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amília Gama/8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926360" y="4170240"/>
              <a:ext cx="23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amília Alfa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927080" y="4700880"/>
              <a:ext cx="290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amília Gama/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926360" y="5233320"/>
              <a:ext cx="281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Família Gearbo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1926000" y="5763960"/>
              <a:ext cx="255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amília Beta 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236280" y="3106800"/>
              <a:ext cx="8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,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236280" y="3637440"/>
              <a:ext cx="8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,3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236280" y="4170240"/>
              <a:ext cx="8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,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236280" y="4700880"/>
              <a:ext cx="8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,9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236280" y="5233320"/>
              <a:ext cx="8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,6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236280" y="5763960"/>
              <a:ext cx="8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,7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236280" y="2576160"/>
              <a:ext cx="8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4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014560" y="2499120"/>
              <a:ext cx="241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Família LCG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9" name=""/>
          <p:cNvSpPr/>
          <p:nvPr/>
        </p:nvSpPr>
        <p:spPr>
          <a:xfrm>
            <a:off x="128520" y="876240"/>
            <a:ext cx="64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o 3 - Comparando vários proje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"/>
          <p:cNvSpPr/>
          <p:nvPr/>
        </p:nvSpPr>
        <p:spPr>
          <a:xfrm>
            <a:off x="1752480" y="4898880"/>
            <a:ext cx="41148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comercial espe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1752480" y="5432400"/>
            <a:ext cx="41148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 de 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1752480" y="5965920"/>
            <a:ext cx="4114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áficos de bol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 rot="16200000">
            <a:off x="4532400" y="3030480"/>
            <a:ext cx="32004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a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 rot="16200000">
            <a:off x="5067360" y="3031920"/>
            <a:ext cx="32004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ar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 rot="16200000">
            <a:off x="5599080" y="3030480"/>
            <a:ext cx="32004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nhar estraté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6400800" y="4898880"/>
            <a:ext cx="533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6934320" y="4898880"/>
            <a:ext cx="5331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5867280" y="5432400"/>
            <a:ext cx="533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6400800" y="5432400"/>
            <a:ext cx="533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6934320" y="5432400"/>
            <a:ext cx="5331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5867280" y="5965920"/>
            <a:ext cx="5335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6400800" y="5965920"/>
            <a:ext cx="5335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6934320" y="5965920"/>
            <a:ext cx="53316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685800" y="4060080"/>
            <a:ext cx="31240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méto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5410080" y="1011960"/>
            <a:ext cx="238932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5865840" y="4897440"/>
            <a:ext cx="533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457200" y="1062360"/>
            <a:ext cx="4191120" cy="266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84200" indent="-484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métod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contribui pa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sar o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4200" indent="-484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método é 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caz com as devidas ressal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4200" indent="-484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método é o 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is eficaz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analisar 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0" y="0"/>
            <a:ext cx="7935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Análise comparativa dos métodos de avaliação do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calização das fases do pré-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escopo da revisão d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atividades para a revisão d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r informações sobre tecnologia 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o portfólio de produtos d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Propor mudanças no portfóli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r a viabilidade do portfóli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idir o início do planejamento de um dos produtos do portfó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"/>
          <p:cNvSpPr/>
          <p:nvPr/>
        </p:nvSpPr>
        <p:spPr>
          <a:xfrm>
            <a:off x="76320" y="1379880"/>
            <a:ext cx="1814400" cy="91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jamento Estratégico de 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 rot="10800000">
            <a:off x="2174400" y="3504960"/>
            <a:ext cx="830520" cy="1839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 rot="10800000">
            <a:off x="2174400" y="1690560"/>
            <a:ext cx="830520" cy="1843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304920" y="609480"/>
            <a:ext cx="4876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lnSpc>
                <a:spcPct val="6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tfólio de Produtos (At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3236760" y="380880"/>
            <a:ext cx="5518440" cy="4175280"/>
          </a:xfrm>
          <a:custGeom>
            <a:avLst/>
            <a:gdLst/>
            <a:ahLst/>
            <a:rect l="l" t="t" r="r" b="b"/>
            <a:pathLst>
              <a:path w="2785" h="2424">
                <a:moveTo>
                  <a:pt x="0" y="1010"/>
                </a:moveTo>
                <a:lnTo>
                  <a:pt x="718" y="0"/>
                </a:lnTo>
                <a:lnTo>
                  <a:pt x="2783" y="0"/>
                </a:lnTo>
                <a:lnTo>
                  <a:pt x="2785" y="2416"/>
                </a:lnTo>
                <a:lnTo>
                  <a:pt x="740" y="2424"/>
                </a:lnTo>
                <a:lnTo>
                  <a:pt x="10" y="1339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5025960" y="428760"/>
            <a:ext cx="3279960" cy="54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produtos a serem descontinu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5025960" y="2838600"/>
            <a:ext cx="3279960" cy="54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 as minuttas para cada um dos novos pro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5025960" y="3917880"/>
            <a:ext cx="3279960" cy="54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r o novo portfólio de 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1687680" y="2046240"/>
            <a:ext cx="1806480" cy="109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 mudanças no portfólio de 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609480" y="3962520"/>
            <a:ext cx="398484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tfólio de Prod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nuta de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1" name=""/>
          <p:cNvGrpSpPr/>
          <p:nvPr/>
        </p:nvGrpSpPr>
        <p:grpSpPr>
          <a:xfrm>
            <a:off x="4689360" y="4692600"/>
            <a:ext cx="4222440" cy="2150640"/>
            <a:chOff x="4689360" y="4692600"/>
            <a:chExt cx="4222440" cy="2150640"/>
          </a:xfrm>
        </p:grpSpPr>
        <p:sp>
          <p:nvSpPr>
            <p:cNvPr id="2472" name=""/>
            <p:cNvSpPr/>
            <p:nvPr/>
          </p:nvSpPr>
          <p:spPr>
            <a:xfrm>
              <a:off x="4689360" y="5150880"/>
              <a:ext cx="4222440" cy="169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104440" y="5586480"/>
              <a:ext cx="33922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écnicas de Gestão de Portfól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885560" y="4692600"/>
              <a:ext cx="3723120" cy="54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étodos, ferramentas, documentos 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5" name=""/>
          <p:cNvSpPr/>
          <p:nvPr/>
        </p:nvSpPr>
        <p:spPr>
          <a:xfrm>
            <a:off x="396720" y="5867280"/>
            <a:ext cx="42246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685800" y="5715000"/>
            <a:ext cx="3724200" cy="274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ção com outras 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609480" y="6324480"/>
            <a:ext cx="3603600" cy="42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r a viabilidade do portfólio de prod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914400" y="990720"/>
            <a:ext cx="32004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a de idé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5105520" y="6019920"/>
            <a:ext cx="3498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as de Gestão de Pro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025960" y="1231920"/>
            <a:ext cx="3279960" cy="54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projetos a serem abandonados e conge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5025960" y="2035080"/>
            <a:ext cx="3279960" cy="54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os novos projetos que deverão ser inic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calização das fases do pré-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escopo da revisão d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atividades para a revisão d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r informações sobre tecnologia 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o portfólio de produtos d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 mudanças no portfóli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Verificar a viabilidade do portfóli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idir o início do planejamento de um dos produtos do portfó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"/>
          <p:cNvSpPr/>
          <p:nvPr/>
        </p:nvSpPr>
        <p:spPr>
          <a:xfrm>
            <a:off x="76320" y="1670400"/>
            <a:ext cx="1814400" cy="91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jamento Estratégico de 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rot="10800000">
            <a:off x="2174400" y="3625560"/>
            <a:ext cx="830520" cy="1839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rot="10800000">
            <a:off x="2174400" y="1981080"/>
            <a:ext cx="830520" cy="1843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3236760" y="914400"/>
            <a:ext cx="5518440" cy="3641760"/>
          </a:xfrm>
          <a:custGeom>
            <a:avLst/>
            <a:gdLst/>
            <a:ahLst/>
            <a:rect l="l" t="t" r="r" b="b"/>
            <a:pathLst>
              <a:path w="2785" h="2424">
                <a:moveTo>
                  <a:pt x="0" y="1010"/>
                </a:moveTo>
                <a:lnTo>
                  <a:pt x="718" y="0"/>
                </a:lnTo>
                <a:lnTo>
                  <a:pt x="2783" y="0"/>
                </a:lnTo>
                <a:lnTo>
                  <a:pt x="2785" y="2416"/>
                </a:lnTo>
                <a:lnTo>
                  <a:pt x="740" y="2424"/>
                </a:lnTo>
                <a:lnTo>
                  <a:pt x="10" y="1339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4915080" y="793800"/>
            <a:ext cx="3279600" cy="54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viabilidade econômica do Portfólio de 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4915080" y="2976480"/>
            <a:ext cx="3279600" cy="27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compet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4915080" y="3794040"/>
            <a:ext cx="3279600" cy="54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ter consenso sobre a decisão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1687680" y="2336760"/>
            <a:ext cx="1806480" cy="109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r a viabilidade do portfólio de 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609480" y="4114800"/>
            <a:ext cx="398484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tfólio de Produtos (Aprov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nuta de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3" name=""/>
          <p:cNvGrpSpPr/>
          <p:nvPr/>
        </p:nvGrpSpPr>
        <p:grpSpPr>
          <a:xfrm>
            <a:off x="4689360" y="4876920"/>
            <a:ext cx="4222440" cy="1966320"/>
            <a:chOff x="4689360" y="4876920"/>
            <a:chExt cx="4222440" cy="1966320"/>
          </a:xfrm>
        </p:grpSpPr>
        <p:sp>
          <p:nvSpPr>
            <p:cNvPr id="2494" name=""/>
            <p:cNvSpPr/>
            <p:nvPr/>
          </p:nvSpPr>
          <p:spPr>
            <a:xfrm>
              <a:off x="4689360" y="5295960"/>
              <a:ext cx="4222440" cy="1547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729120" y="5694120"/>
              <a:ext cx="14256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885560" y="4876920"/>
              <a:ext cx="3723120" cy="54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étodos, ferramentas, documentos 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7" name=""/>
          <p:cNvSpPr/>
          <p:nvPr/>
        </p:nvSpPr>
        <p:spPr>
          <a:xfrm>
            <a:off x="396720" y="5867280"/>
            <a:ext cx="42246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685800" y="5715000"/>
            <a:ext cx="3724200" cy="274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ção com outras 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609480" y="6324480"/>
            <a:ext cx="3603600" cy="42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cidir o início do planejamento de um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5105520" y="5791320"/>
            <a:ext cx="3498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stão de Portfó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stão de Pro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609480" y="457200"/>
            <a:ext cx="398484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tfólio de Produtos (Aprov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nuta de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4915080" y="1884240"/>
            <a:ext cx="3279600" cy="54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disponibilidade d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calização das fases do pré-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escopo da revisão d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atividades para a revisão d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r informações sobre tecnologia 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o portfólio de produtos d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 mudanças no portfóli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r a viabilidade do portfóli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ecidir o início do planejamento de um dos produtos do portfó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"/>
          <p:cNvSpPr/>
          <p:nvPr/>
        </p:nvSpPr>
        <p:spPr>
          <a:xfrm>
            <a:off x="76320" y="1670400"/>
            <a:ext cx="1814400" cy="91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jamento Estratégico de 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 rot="10800000">
            <a:off x="2174400" y="3625560"/>
            <a:ext cx="830520" cy="1839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 rot="10800000">
            <a:off x="2174400" y="1981080"/>
            <a:ext cx="830520" cy="1843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3236760" y="914400"/>
            <a:ext cx="5518440" cy="3641760"/>
          </a:xfrm>
          <a:custGeom>
            <a:avLst/>
            <a:gdLst/>
            <a:ahLst/>
            <a:rect l="l" t="t" r="r" b="b"/>
            <a:pathLst>
              <a:path w="2785" h="2424">
                <a:moveTo>
                  <a:pt x="0" y="1010"/>
                </a:moveTo>
                <a:lnTo>
                  <a:pt x="718" y="0"/>
                </a:lnTo>
                <a:lnTo>
                  <a:pt x="2783" y="0"/>
                </a:lnTo>
                <a:lnTo>
                  <a:pt x="2785" y="2416"/>
                </a:lnTo>
                <a:lnTo>
                  <a:pt x="740" y="2424"/>
                </a:lnTo>
                <a:lnTo>
                  <a:pt x="10" y="1339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1687680" y="2336760"/>
            <a:ext cx="1806480" cy="109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cidir início do planejamento de um produto do portfó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609480" y="609480"/>
            <a:ext cx="398484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tfólio de Produtos (Aprov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nuta de Proje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1" name=""/>
          <p:cNvGrpSpPr/>
          <p:nvPr/>
        </p:nvGrpSpPr>
        <p:grpSpPr>
          <a:xfrm>
            <a:off x="4689360" y="4876920"/>
            <a:ext cx="4222440" cy="1966320"/>
            <a:chOff x="4689360" y="4876920"/>
            <a:chExt cx="4222440" cy="1966320"/>
          </a:xfrm>
        </p:grpSpPr>
        <p:sp>
          <p:nvSpPr>
            <p:cNvPr id="2512" name=""/>
            <p:cNvSpPr/>
            <p:nvPr/>
          </p:nvSpPr>
          <p:spPr>
            <a:xfrm>
              <a:off x="4689360" y="5295960"/>
              <a:ext cx="4222440" cy="1547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729120" y="5694120"/>
              <a:ext cx="14256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885560" y="4876920"/>
              <a:ext cx="3723120" cy="54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étodos, ferramentas, documentos 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5" name=""/>
          <p:cNvSpPr/>
          <p:nvPr/>
        </p:nvSpPr>
        <p:spPr>
          <a:xfrm>
            <a:off x="396720" y="5867280"/>
            <a:ext cx="42246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685800" y="5715000"/>
            <a:ext cx="3724200" cy="274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ção com outras 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609480" y="6324480"/>
            <a:ext cx="3603600" cy="21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se de Planejamento do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5105520" y="5791320"/>
            <a:ext cx="3498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stão de Portfó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stão de Pro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533520" y="4267080"/>
            <a:ext cx="3984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nuta de Projeto (Aprov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4876920" y="1752480"/>
            <a:ext cx="327960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ar o Portfólio de Produtos (Aprovado) e identificar a data dos novos projetos. Revisar a Minuta de Projeto, definir o Gerente de Projeto, aprovar e realizar a çomunic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Objetivos do capítulo 2/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7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ender a importância da segmentação e posicionamento dos produtos na definição do portfólio de produtos, incluindo as diferentes estratégias possíve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star todo o conteúdo de um Plano Estratégico de Produ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r início ao desenvolvimento de seu primeiro Plano Estratégico de Produ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reender como se dá a passagem entre as fases de Planejamento Estratégico de Produtos e o Planejamento do Projeto por meio da Minuta do Pro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Minuta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5741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ndo a teoria de Gestão de Projetos, a Minuta do projeto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roject Chart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é um anúncio único que autoriza formalmente o início do pro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caso do desenvolvimento de produtos, muitas idéias podem ser sugeridas. Para as mais promissoras produzem-se as minutas que serão analisadas e, uma vez aprovadas na sistemática de avaliação de portfolio, serão desenvol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Minuta traz a primeira definição do produto a ser desenvolvida, a qual será continuamente detalhada e desenvolvida até o fim do processo de desenvolvimen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"/>
          <p:cNvSpPr/>
          <p:nvPr/>
        </p:nvSpPr>
        <p:spPr>
          <a:xfrm>
            <a:off x="1428840" y="5913360"/>
            <a:ext cx="2824200" cy="944640"/>
          </a:xfrm>
          <a:prstGeom prst="rect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o de Planejamento Estraté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4243320" y="5913360"/>
            <a:ext cx="2338560" cy="6238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é-Desenvolv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6553080" y="0"/>
            <a:ext cx="2590920" cy="5911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6553080" y="3935520"/>
            <a:ext cx="2590920" cy="2112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6553080" y="5965920"/>
            <a:ext cx="2590920" cy="477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nvolvimento e Pós-Desenvolv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4259160" y="6378480"/>
            <a:ext cx="2333880" cy="479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6568920" y="6419880"/>
            <a:ext cx="2575080" cy="4381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5562720" y="0"/>
            <a:ext cx="990360" cy="39862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2747880" y="0"/>
            <a:ext cx="1569960" cy="3978360"/>
          </a:xfrm>
          <a:prstGeom prst="rect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1427040" y="0"/>
            <a:ext cx="1392480" cy="3962520"/>
          </a:xfrm>
          <a:prstGeom prst="rect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 rot="10800000">
            <a:off x="-1440" y="-360"/>
            <a:ext cx="1447560" cy="3962520"/>
          </a:xfrm>
          <a:prstGeom prst="rect">
            <a:avLst/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ção Grá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3187800" y="5767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6497640" y="2216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7531200" y="2216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8048520" y="2216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8721720" y="2216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7016760" y="2216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4243320" y="0"/>
            <a:ext cx="1319400" cy="3962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1" name=""/>
          <p:cNvGrpSpPr/>
          <p:nvPr/>
        </p:nvGrpSpPr>
        <p:grpSpPr>
          <a:xfrm>
            <a:off x="5781600" y="0"/>
            <a:ext cx="3362040" cy="913680"/>
            <a:chOff x="5781600" y="0"/>
            <a:chExt cx="3362040" cy="913680"/>
          </a:xfrm>
        </p:grpSpPr>
        <p:grpSp>
          <p:nvGrpSpPr>
            <p:cNvPr id="2542" name=""/>
            <p:cNvGrpSpPr/>
            <p:nvPr/>
          </p:nvGrpSpPr>
          <p:grpSpPr>
            <a:xfrm>
              <a:off x="6391440" y="0"/>
              <a:ext cx="2441160" cy="596160"/>
              <a:chOff x="6391440" y="0"/>
              <a:chExt cx="2441160" cy="596160"/>
            </a:xfrm>
          </p:grpSpPr>
          <p:sp>
            <p:nvSpPr>
              <p:cNvPr id="2543" name=""/>
              <p:cNvSpPr/>
              <p:nvPr/>
            </p:nvSpPr>
            <p:spPr>
              <a:xfrm>
                <a:off x="7005600" y="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448400" y="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8064360" y="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6564240" y="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6391440" y="14256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6466320" y="163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7159680" y="14256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7368840" y="163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7602480" y="14256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7815600" y="163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8220240" y="14256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8373960" y="163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718320" y="14256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908400" y="163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545160" y="28872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313760" y="28872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758000" y="28872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0" name=""/>
              <p:cNvGrpSpPr/>
              <p:nvPr/>
            </p:nvGrpSpPr>
            <p:grpSpPr>
              <a:xfrm>
                <a:off x="8310600" y="180720"/>
                <a:ext cx="522000" cy="415440"/>
                <a:chOff x="8310600" y="180720"/>
                <a:chExt cx="522000" cy="415440"/>
              </a:xfrm>
            </p:grpSpPr>
            <p:sp>
              <p:nvSpPr>
                <p:cNvPr id="2561" name=""/>
                <p:cNvSpPr/>
                <p:nvPr/>
              </p:nvSpPr>
              <p:spPr>
                <a:xfrm>
                  <a:off x="8330040" y="19944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8310600" y="18072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8310600" y="18072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4" name=""/>
              <p:cNvGrpSpPr/>
              <p:nvPr/>
            </p:nvGrpSpPr>
            <p:grpSpPr>
              <a:xfrm>
                <a:off x="6870600" y="180720"/>
                <a:ext cx="501480" cy="415440"/>
                <a:chOff x="6870600" y="180720"/>
                <a:chExt cx="501480" cy="415440"/>
              </a:xfrm>
            </p:grpSpPr>
            <p:sp>
              <p:nvSpPr>
                <p:cNvPr id="2565" name=""/>
                <p:cNvSpPr/>
                <p:nvPr/>
              </p:nvSpPr>
              <p:spPr>
                <a:xfrm>
                  <a:off x="6890400" y="19944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6870600" y="18072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6870600" y="18072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6429240" y="180720"/>
                <a:ext cx="2346480" cy="415440"/>
                <a:chOff x="6429240" y="180720"/>
                <a:chExt cx="2346480" cy="415440"/>
              </a:xfrm>
            </p:grpSpPr>
            <p:grpSp>
              <p:nvGrpSpPr>
                <p:cNvPr id="2569" name=""/>
                <p:cNvGrpSpPr/>
                <p:nvPr/>
              </p:nvGrpSpPr>
              <p:grpSpPr>
                <a:xfrm>
                  <a:off x="6429240" y="180720"/>
                  <a:ext cx="501120" cy="415440"/>
                  <a:chOff x="6429240" y="180720"/>
                  <a:chExt cx="501120" cy="415440"/>
                </a:xfrm>
              </p:grpSpPr>
              <p:sp>
                <p:nvSpPr>
                  <p:cNvPr id="2570" name=""/>
                  <p:cNvSpPr/>
                  <p:nvPr/>
                </p:nvSpPr>
                <p:spPr>
                  <a:xfrm>
                    <a:off x="6446520" y="19944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>
                    <a:off x="6429240" y="18072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>
                    <a:off x="6429240" y="18072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3" name=""/>
                <p:cNvGrpSpPr/>
                <p:nvPr/>
              </p:nvGrpSpPr>
              <p:grpSpPr>
                <a:xfrm>
                  <a:off x="7313760" y="180720"/>
                  <a:ext cx="502560" cy="415440"/>
                  <a:chOff x="7313760" y="180720"/>
                  <a:chExt cx="502560" cy="415440"/>
                </a:xfrm>
              </p:grpSpPr>
              <p:sp>
                <p:nvSpPr>
                  <p:cNvPr id="2574" name=""/>
                  <p:cNvSpPr/>
                  <p:nvPr/>
                </p:nvSpPr>
                <p:spPr>
                  <a:xfrm>
                    <a:off x="7333560" y="19944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>
                    <a:off x="7313760" y="18072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"/>
                  <p:cNvSpPr/>
                  <p:nvPr/>
                </p:nvSpPr>
                <p:spPr>
                  <a:xfrm>
                    <a:off x="7313760" y="18072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7" name=""/>
                <p:cNvGrpSpPr/>
                <p:nvPr/>
              </p:nvGrpSpPr>
              <p:grpSpPr>
                <a:xfrm>
                  <a:off x="7777080" y="180720"/>
                  <a:ext cx="498240" cy="415440"/>
                  <a:chOff x="7777080" y="180720"/>
                  <a:chExt cx="498240" cy="415440"/>
                </a:xfrm>
              </p:grpSpPr>
              <p:sp>
                <p:nvSpPr>
                  <p:cNvPr id="2578" name=""/>
                  <p:cNvSpPr/>
                  <p:nvPr/>
                </p:nvSpPr>
                <p:spPr>
                  <a:xfrm>
                    <a:off x="7777080" y="19944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>
                    <a:off x="7777080" y="18072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>
                    <a:off x="7777080" y="18072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1" name=""/>
                <p:cNvSpPr/>
                <p:nvPr/>
              </p:nvSpPr>
              <p:spPr>
                <a:xfrm>
                  <a:off x="8375760" y="28836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6854760" y="28836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3" name=""/>
            <p:cNvGrpSpPr/>
            <p:nvPr/>
          </p:nvGrpSpPr>
          <p:grpSpPr>
            <a:xfrm>
              <a:off x="6524640" y="158760"/>
              <a:ext cx="2441160" cy="596160"/>
              <a:chOff x="6524640" y="158760"/>
              <a:chExt cx="2441160" cy="596160"/>
            </a:xfrm>
          </p:grpSpPr>
          <p:sp>
            <p:nvSpPr>
              <p:cNvPr id="2584" name=""/>
              <p:cNvSpPr/>
              <p:nvPr/>
            </p:nvSpPr>
            <p:spPr>
              <a:xfrm>
                <a:off x="7138800" y="15876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7581600" y="15876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8197560" y="15876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697440" y="15876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524640" y="30132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6599520" y="322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7292880" y="30132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7502040" y="322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7735680" y="30132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7948800" y="322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8353440" y="30132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8507160" y="322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6851520" y="30132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041600" y="322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6678360" y="44748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7446960" y="44748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7891200" y="44748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1" name=""/>
              <p:cNvGrpSpPr/>
              <p:nvPr/>
            </p:nvGrpSpPr>
            <p:grpSpPr>
              <a:xfrm>
                <a:off x="8443800" y="339480"/>
                <a:ext cx="522000" cy="415440"/>
                <a:chOff x="8443800" y="339480"/>
                <a:chExt cx="522000" cy="415440"/>
              </a:xfrm>
            </p:grpSpPr>
            <p:sp>
              <p:nvSpPr>
                <p:cNvPr id="2602" name=""/>
                <p:cNvSpPr/>
                <p:nvPr/>
              </p:nvSpPr>
              <p:spPr>
                <a:xfrm>
                  <a:off x="8463240" y="35820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8443800" y="33948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8443800" y="33948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5" name=""/>
              <p:cNvGrpSpPr/>
              <p:nvPr/>
            </p:nvGrpSpPr>
            <p:grpSpPr>
              <a:xfrm>
                <a:off x="7003800" y="339480"/>
                <a:ext cx="501480" cy="415440"/>
                <a:chOff x="7003800" y="339480"/>
                <a:chExt cx="501480" cy="415440"/>
              </a:xfrm>
            </p:grpSpPr>
            <p:sp>
              <p:nvSpPr>
                <p:cNvPr id="2606" name=""/>
                <p:cNvSpPr/>
                <p:nvPr/>
              </p:nvSpPr>
              <p:spPr>
                <a:xfrm>
                  <a:off x="7023600" y="35820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7003800" y="33948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7003800" y="33948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9" name=""/>
              <p:cNvGrpSpPr/>
              <p:nvPr/>
            </p:nvGrpSpPr>
            <p:grpSpPr>
              <a:xfrm>
                <a:off x="6562440" y="339480"/>
                <a:ext cx="2346480" cy="415440"/>
                <a:chOff x="6562440" y="339480"/>
                <a:chExt cx="2346480" cy="415440"/>
              </a:xfrm>
            </p:grpSpPr>
            <p:grpSp>
              <p:nvGrpSpPr>
                <p:cNvPr id="2610" name=""/>
                <p:cNvGrpSpPr/>
                <p:nvPr/>
              </p:nvGrpSpPr>
              <p:grpSpPr>
                <a:xfrm>
                  <a:off x="6562440" y="339480"/>
                  <a:ext cx="501120" cy="415440"/>
                  <a:chOff x="6562440" y="339480"/>
                  <a:chExt cx="501120" cy="415440"/>
                </a:xfrm>
              </p:grpSpPr>
              <p:sp>
                <p:nvSpPr>
                  <p:cNvPr id="2611" name=""/>
                  <p:cNvSpPr/>
                  <p:nvPr/>
                </p:nvSpPr>
                <p:spPr>
                  <a:xfrm>
                    <a:off x="6579720" y="35820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>
                    <a:off x="6562440" y="33948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>
                    <a:off x="6562440" y="33948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4" name=""/>
                <p:cNvGrpSpPr/>
                <p:nvPr/>
              </p:nvGrpSpPr>
              <p:grpSpPr>
                <a:xfrm>
                  <a:off x="7446960" y="339480"/>
                  <a:ext cx="502560" cy="415440"/>
                  <a:chOff x="7446960" y="339480"/>
                  <a:chExt cx="502560" cy="415440"/>
                </a:xfrm>
              </p:grpSpPr>
              <p:sp>
                <p:nvSpPr>
                  <p:cNvPr id="2615" name=""/>
                  <p:cNvSpPr/>
                  <p:nvPr/>
                </p:nvSpPr>
                <p:spPr>
                  <a:xfrm>
                    <a:off x="7466760" y="35820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>
                    <a:off x="7446960" y="33948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>
                    <a:off x="7446960" y="33948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8" name=""/>
                <p:cNvGrpSpPr/>
                <p:nvPr/>
              </p:nvGrpSpPr>
              <p:grpSpPr>
                <a:xfrm>
                  <a:off x="7910280" y="339480"/>
                  <a:ext cx="498240" cy="415440"/>
                  <a:chOff x="7910280" y="339480"/>
                  <a:chExt cx="498240" cy="415440"/>
                </a:xfrm>
              </p:grpSpPr>
              <p:sp>
                <p:nvSpPr>
                  <p:cNvPr id="2619" name=""/>
                  <p:cNvSpPr/>
                  <p:nvPr/>
                </p:nvSpPr>
                <p:spPr>
                  <a:xfrm>
                    <a:off x="7910280" y="35820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>
                    <a:off x="7910280" y="33948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>
                    <a:off x="7910280" y="33948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2" name=""/>
                <p:cNvSpPr/>
                <p:nvPr/>
              </p:nvSpPr>
              <p:spPr>
                <a:xfrm>
                  <a:off x="8508960" y="44712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6987960" y="44712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24" name=""/>
            <p:cNvSpPr/>
            <p:nvPr/>
          </p:nvSpPr>
          <p:spPr>
            <a:xfrm>
              <a:off x="6512040" y="272880"/>
              <a:ext cx="4032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5" name=""/>
            <p:cNvGrpSpPr/>
            <p:nvPr/>
          </p:nvGrpSpPr>
          <p:grpSpPr>
            <a:xfrm>
              <a:off x="6702480" y="317520"/>
              <a:ext cx="2441160" cy="596160"/>
              <a:chOff x="6702480" y="317520"/>
              <a:chExt cx="2441160" cy="596160"/>
            </a:xfrm>
          </p:grpSpPr>
          <p:sp>
            <p:nvSpPr>
              <p:cNvPr id="2626" name=""/>
              <p:cNvSpPr/>
              <p:nvPr/>
            </p:nvSpPr>
            <p:spPr>
              <a:xfrm>
                <a:off x="7316640" y="31752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759440" y="31752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8375400" y="31752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6875280" y="31752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6702480" y="46008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777360" y="4809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470720" y="46008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679880" y="4809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913520" y="46008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8126640" y="4809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8531280" y="46008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8685000" y="4809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029360" y="46008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219440" y="4809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856200" y="60624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7624800" y="60624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8069040" y="60624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3" name=""/>
              <p:cNvGrpSpPr/>
              <p:nvPr/>
            </p:nvGrpSpPr>
            <p:grpSpPr>
              <a:xfrm>
                <a:off x="8621640" y="498240"/>
                <a:ext cx="522000" cy="415440"/>
                <a:chOff x="8621640" y="498240"/>
                <a:chExt cx="522000" cy="41544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8641080" y="51696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8621640" y="49824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8621640" y="49824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7" name=""/>
              <p:cNvGrpSpPr/>
              <p:nvPr/>
            </p:nvGrpSpPr>
            <p:grpSpPr>
              <a:xfrm>
                <a:off x="7181640" y="498240"/>
                <a:ext cx="501480" cy="415440"/>
                <a:chOff x="7181640" y="498240"/>
                <a:chExt cx="501480" cy="415440"/>
              </a:xfrm>
            </p:grpSpPr>
            <p:sp>
              <p:nvSpPr>
                <p:cNvPr id="2648" name=""/>
                <p:cNvSpPr/>
                <p:nvPr/>
              </p:nvSpPr>
              <p:spPr>
                <a:xfrm>
                  <a:off x="7201440" y="51696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7181640" y="49824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7181640" y="49824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1" name=""/>
              <p:cNvGrpSpPr/>
              <p:nvPr/>
            </p:nvGrpSpPr>
            <p:grpSpPr>
              <a:xfrm>
                <a:off x="6740280" y="498240"/>
                <a:ext cx="2346480" cy="415440"/>
                <a:chOff x="6740280" y="498240"/>
                <a:chExt cx="2346480" cy="415440"/>
              </a:xfrm>
            </p:grpSpPr>
            <p:grpSp>
              <p:nvGrpSpPr>
                <p:cNvPr id="2652" name=""/>
                <p:cNvGrpSpPr/>
                <p:nvPr/>
              </p:nvGrpSpPr>
              <p:grpSpPr>
                <a:xfrm>
                  <a:off x="6740280" y="498240"/>
                  <a:ext cx="501120" cy="415440"/>
                  <a:chOff x="6740280" y="498240"/>
                  <a:chExt cx="501120" cy="415440"/>
                </a:xfrm>
              </p:grpSpPr>
              <p:sp>
                <p:nvSpPr>
                  <p:cNvPr id="2653" name=""/>
                  <p:cNvSpPr/>
                  <p:nvPr/>
                </p:nvSpPr>
                <p:spPr>
                  <a:xfrm>
                    <a:off x="6757560" y="51696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>
                    <a:off x="6740280" y="49824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>
                    <a:off x="6740280" y="49824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6" name=""/>
                <p:cNvGrpSpPr/>
                <p:nvPr/>
              </p:nvGrpSpPr>
              <p:grpSpPr>
                <a:xfrm>
                  <a:off x="7624800" y="498240"/>
                  <a:ext cx="502560" cy="415440"/>
                  <a:chOff x="7624800" y="498240"/>
                  <a:chExt cx="502560" cy="415440"/>
                </a:xfrm>
              </p:grpSpPr>
              <p:sp>
                <p:nvSpPr>
                  <p:cNvPr id="2657" name=""/>
                  <p:cNvSpPr/>
                  <p:nvPr/>
                </p:nvSpPr>
                <p:spPr>
                  <a:xfrm>
                    <a:off x="7644600" y="51696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>
                    <a:off x="7624800" y="49824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>
                    <a:off x="7624800" y="49824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0" name=""/>
                <p:cNvGrpSpPr/>
                <p:nvPr/>
              </p:nvGrpSpPr>
              <p:grpSpPr>
                <a:xfrm>
                  <a:off x="8088120" y="498240"/>
                  <a:ext cx="498240" cy="415440"/>
                  <a:chOff x="8088120" y="498240"/>
                  <a:chExt cx="498240" cy="415440"/>
                </a:xfrm>
              </p:grpSpPr>
              <p:sp>
                <p:nvSpPr>
                  <p:cNvPr id="2661" name=""/>
                  <p:cNvSpPr/>
                  <p:nvPr/>
                </p:nvSpPr>
                <p:spPr>
                  <a:xfrm>
                    <a:off x="8088120" y="51696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>
                    <a:off x="8088120" y="49824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>
                    <a:off x="8088120" y="49824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64" name=""/>
                <p:cNvSpPr/>
                <p:nvPr/>
              </p:nvSpPr>
              <p:spPr>
                <a:xfrm>
                  <a:off x="8686800" y="60588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7165800" y="60588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6" name=""/>
            <p:cNvGrpSpPr/>
            <p:nvPr/>
          </p:nvGrpSpPr>
          <p:grpSpPr>
            <a:xfrm>
              <a:off x="5781600" y="307800"/>
              <a:ext cx="402120" cy="470160"/>
              <a:chOff x="5781600" y="307800"/>
              <a:chExt cx="402120" cy="470160"/>
            </a:xfrm>
          </p:grpSpPr>
          <p:grpSp>
            <p:nvGrpSpPr>
              <p:cNvPr id="2667" name=""/>
              <p:cNvGrpSpPr/>
              <p:nvPr/>
            </p:nvGrpSpPr>
            <p:grpSpPr>
              <a:xfrm>
                <a:off x="5781600" y="307800"/>
                <a:ext cx="247680" cy="325080"/>
                <a:chOff x="5781600" y="307800"/>
                <a:chExt cx="247680" cy="325080"/>
              </a:xfrm>
            </p:grpSpPr>
            <p:grpSp>
              <p:nvGrpSpPr>
                <p:cNvPr id="2668" name=""/>
                <p:cNvGrpSpPr/>
                <p:nvPr/>
              </p:nvGrpSpPr>
              <p:grpSpPr>
                <a:xfrm>
                  <a:off x="5781600" y="307800"/>
                  <a:ext cx="247680" cy="325080"/>
                  <a:chOff x="5781600" y="307800"/>
                  <a:chExt cx="247680" cy="325080"/>
                </a:xfrm>
              </p:grpSpPr>
              <p:sp>
                <p:nvSpPr>
                  <p:cNvPr id="2669" name=""/>
                  <p:cNvSpPr/>
                  <p:nvPr/>
                </p:nvSpPr>
                <p:spPr>
                  <a:xfrm>
                    <a:off x="5781600" y="30780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8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>
                    <a:off x="5781600" y="30780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8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1" name=""/>
                <p:cNvGrpSpPr/>
                <p:nvPr/>
              </p:nvGrpSpPr>
              <p:grpSpPr>
                <a:xfrm>
                  <a:off x="5992920" y="307800"/>
                  <a:ext cx="36360" cy="36720"/>
                  <a:chOff x="5992920" y="307800"/>
                  <a:chExt cx="36360" cy="36720"/>
                </a:xfrm>
              </p:grpSpPr>
              <p:sp>
                <p:nvSpPr>
                  <p:cNvPr id="2672" name=""/>
                  <p:cNvSpPr/>
                  <p:nvPr/>
                </p:nvSpPr>
                <p:spPr>
                  <a:xfrm>
                    <a:off x="5992920" y="307800"/>
                    <a:ext cx="36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0" y="0"/>
                        </a:moveTo>
                        <a:lnTo>
                          <a:pt x="17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>
                    <a:off x="5992920" y="307800"/>
                    <a:ext cx="36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0" y="0"/>
                        </a:moveTo>
                        <a:lnTo>
                          <a:pt x="17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4" name=""/>
              <p:cNvGrpSpPr/>
              <p:nvPr/>
            </p:nvGrpSpPr>
            <p:grpSpPr>
              <a:xfrm>
                <a:off x="5859000" y="380160"/>
                <a:ext cx="247680" cy="325080"/>
                <a:chOff x="5859000" y="380160"/>
                <a:chExt cx="247680" cy="325080"/>
              </a:xfrm>
            </p:grpSpPr>
            <p:grpSp>
              <p:nvGrpSpPr>
                <p:cNvPr id="2675" name=""/>
                <p:cNvGrpSpPr/>
                <p:nvPr/>
              </p:nvGrpSpPr>
              <p:grpSpPr>
                <a:xfrm>
                  <a:off x="5859000" y="380160"/>
                  <a:ext cx="247680" cy="325080"/>
                  <a:chOff x="5859000" y="380160"/>
                  <a:chExt cx="247680" cy="325080"/>
                </a:xfrm>
              </p:grpSpPr>
              <p:sp>
                <p:nvSpPr>
                  <p:cNvPr id="2676" name=""/>
                  <p:cNvSpPr/>
                  <p:nvPr/>
                </p:nvSpPr>
                <p:spPr>
                  <a:xfrm>
                    <a:off x="5859000" y="38016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7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>
                    <a:off x="5859000" y="38016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7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8" name=""/>
                <p:cNvGrpSpPr/>
                <p:nvPr/>
              </p:nvGrpSpPr>
              <p:grpSpPr>
                <a:xfrm>
                  <a:off x="6069600" y="380160"/>
                  <a:ext cx="36720" cy="34920"/>
                  <a:chOff x="6069600" y="380160"/>
                  <a:chExt cx="36720" cy="34920"/>
                </a:xfrm>
              </p:grpSpPr>
              <p:sp>
                <p:nvSpPr>
                  <p:cNvPr id="2679" name=""/>
                  <p:cNvSpPr/>
                  <p:nvPr/>
                </p:nvSpPr>
                <p:spPr>
                  <a:xfrm>
                    <a:off x="6069600" y="38016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0" name=""/>
                  <p:cNvSpPr/>
                  <p:nvPr/>
                </p:nvSpPr>
                <p:spPr>
                  <a:xfrm>
                    <a:off x="6069600" y="38016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81" name=""/>
              <p:cNvGrpSpPr/>
              <p:nvPr/>
            </p:nvGrpSpPr>
            <p:grpSpPr>
              <a:xfrm>
                <a:off x="5915880" y="452520"/>
                <a:ext cx="267840" cy="325440"/>
                <a:chOff x="5915880" y="452520"/>
                <a:chExt cx="267840" cy="325440"/>
              </a:xfrm>
            </p:grpSpPr>
            <p:grpSp>
              <p:nvGrpSpPr>
                <p:cNvPr id="2682" name=""/>
                <p:cNvGrpSpPr/>
                <p:nvPr/>
              </p:nvGrpSpPr>
              <p:grpSpPr>
                <a:xfrm>
                  <a:off x="5915880" y="452520"/>
                  <a:ext cx="267840" cy="325440"/>
                  <a:chOff x="5915880" y="452520"/>
                  <a:chExt cx="267840" cy="325440"/>
                </a:xfrm>
              </p:grpSpPr>
              <p:sp>
                <p:nvSpPr>
                  <p:cNvPr id="2683" name=""/>
                  <p:cNvSpPr/>
                  <p:nvPr/>
                </p:nvSpPr>
                <p:spPr>
                  <a:xfrm>
                    <a:off x="5915880" y="452520"/>
                    <a:ext cx="26784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57">
                        <a:moveTo>
                          <a:pt x="105" y="0"/>
                        </a:moveTo>
                        <a:lnTo>
                          <a:pt x="122" y="17"/>
                        </a:lnTo>
                        <a:lnTo>
                          <a:pt x="122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>
                    <a:off x="5915880" y="452520"/>
                    <a:ext cx="26784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57">
                        <a:moveTo>
                          <a:pt x="105" y="0"/>
                        </a:moveTo>
                        <a:lnTo>
                          <a:pt x="122" y="17"/>
                        </a:lnTo>
                        <a:lnTo>
                          <a:pt x="122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105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5" name=""/>
                <p:cNvGrpSpPr/>
                <p:nvPr/>
              </p:nvGrpSpPr>
              <p:grpSpPr>
                <a:xfrm>
                  <a:off x="6146640" y="452520"/>
                  <a:ext cx="36720" cy="34920"/>
                  <a:chOff x="6146640" y="452520"/>
                  <a:chExt cx="36720" cy="34920"/>
                </a:xfrm>
              </p:grpSpPr>
              <p:sp>
                <p:nvSpPr>
                  <p:cNvPr id="2686" name=""/>
                  <p:cNvSpPr/>
                  <p:nvPr/>
                </p:nvSpPr>
                <p:spPr>
                  <a:xfrm>
                    <a:off x="6146640" y="45252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>
                    <a:off x="6146640" y="45252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688" name=""/>
          <p:cNvGrpSpPr/>
          <p:nvPr/>
        </p:nvGrpSpPr>
        <p:grpSpPr>
          <a:xfrm>
            <a:off x="4027320" y="58680"/>
            <a:ext cx="1335240" cy="796680"/>
            <a:chOff x="4027320" y="58680"/>
            <a:chExt cx="1335240" cy="796680"/>
          </a:xfrm>
        </p:grpSpPr>
        <p:sp>
          <p:nvSpPr>
            <p:cNvPr id="2689" name=""/>
            <p:cNvSpPr/>
            <p:nvPr/>
          </p:nvSpPr>
          <p:spPr>
            <a:xfrm>
              <a:off x="4587840" y="58680"/>
              <a:ext cx="774720" cy="796680"/>
            </a:xfrm>
            <a:prstGeom prst="foldedCorner">
              <a:avLst>
                <a:gd name="adj" fmla="val 12500"/>
              </a:avLst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0" name=""/>
            <p:cNvGrpSpPr/>
            <p:nvPr/>
          </p:nvGrpSpPr>
          <p:grpSpPr>
            <a:xfrm>
              <a:off x="4775040" y="222120"/>
              <a:ext cx="468360" cy="473040"/>
              <a:chOff x="4775040" y="222120"/>
              <a:chExt cx="468360" cy="473040"/>
            </a:xfrm>
          </p:grpSpPr>
          <p:grpSp>
            <p:nvGrpSpPr>
              <p:cNvPr id="2691" name=""/>
              <p:cNvGrpSpPr/>
              <p:nvPr/>
            </p:nvGrpSpPr>
            <p:grpSpPr>
              <a:xfrm>
                <a:off x="4791240" y="302400"/>
                <a:ext cx="48960" cy="312480"/>
                <a:chOff x="4791240" y="302400"/>
                <a:chExt cx="48960" cy="312480"/>
              </a:xfrm>
            </p:grpSpPr>
            <p:sp>
              <p:nvSpPr>
                <p:cNvPr id="2692" name=""/>
                <p:cNvSpPr/>
                <p:nvPr/>
              </p:nvSpPr>
              <p:spPr>
                <a:xfrm>
                  <a:off x="4807440" y="302400"/>
                  <a:ext cx="16200" cy="26640"/>
                </a:xfrm>
                <a:prstGeom prst="ellipse">
                  <a:avLst/>
                </a:prstGeom>
                <a:solidFill>
                  <a:srgbClr val="99cc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4807440" y="37152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4824000" y="44532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4824000" y="516600"/>
                  <a:ext cx="16200" cy="26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4791240" y="462960"/>
                  <a:ext cx="16200" cy="2664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4807440" y="588240"/>
                  <a:ext cx="16200" cy="2664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8" name=""/>
              <p:cNvGrpSpPr/>
              <p:nvPr/>
            </p:nvGrpSpPr>
            <p:grpSpPr>
              <a:xfrm>
                <a:off x="4857480" y="373680"/>
                <a:ext cx="55080" cy="214200"/>
                <a:chOff x="4857480" y="373680"/>
                <a:chExt cx="55080" cy="214200"/>
              </a:xfrm>
            </p:grpSpPr>
            <p:sp>
              <p:nvSpPr>
                <p:cNvPr id="2699" name=""/>
                <p:cNvSpPr/>
                <p:nvPr/>
              </p:nvSpPr>
              <p:spPr>
                <a:xfrm>
                  <a:off x="4857480" y="373680"/>
                  <a:ext cx="16560" cy="26640"/>
                </a:xfrm>
                <a:prstGeom prst="ellipse">
                  <a:avLst/>
                </a:prstGeom>
                <a:solidFill>
                  <a:srgbClr val="99ff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4896000" y="400320"/>
                  <a:ext cx="16560" cy="266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4857480" y="426960"/>
                  <a:ext cx="16560" cy="26640"/>
                </a:xfrm>
                <a:prstGeom prst="ellipse">
                  <a:avLst/>
                </a:prstGeom>
                <a:solidFill>
                  <a:srgbClr val="e0fa8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4896000" y="471960"/>
                  <a:ext cx="16560" cy="266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4857480" y="489600"/>
                  <a:ext cx="16560" cy="266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4857480" y="56124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4896000" y="534240"/>
                  <a:ext cx="16560" cy="26640"/>
                </a:xfrm>
                <a:prstGeom prst="ellipse">
                  <a:avLst/>
                </a:prstGeom>
                <a:solidFill>
                  <a:srgbClr val="ffb16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4933800" y="418320"/>
                <a:ext cx="78120" cy="115920"/>
                <a:chOff x="4933800" y="418320"/>
                <a:chExt cx="78120" cy="115920"/>
              </a:xfrm>
            </p:grpSpPr>
            <p:sp>
              <p:nvSpPr>
                <p:cNvPr id="2707" name=""/>
                <p:cNvSpPr/>
                <p:nvPr/>
              </p:nvSpPr>
              <p:spPr>
                <a:xfrm>
                  <a:off x="4969800" y="41832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4933800" y="444960"/>
                  <a:ext cx="16560" cy="26640"/>
                </a:xfrm>
                <a:prstGeom prst="ellipse">
                  <a:avLst/>
                </a:prstGeom>
                <a:solidFill>
                  <a:srgbClr val="33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4995360" y="48960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4938840" y="50760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4995360" y="489600"/>
                  <a:ext cx="16560" cy="2664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2" name=""/>
              <p:cNvGrpSpPr/>
              <p:nvPr/>
            </p:nvGrpSpPr>
            <p:grpSpPr>
              <a:xfrm>
                <a:off x="5116680" y="445320"/>
                <a:ext cx="98640" cy="59040"/>
                <a:chOff x="5116680" y="445320"/>
                <a:chExt cx="98640" cy="59040"/>
              </a:xfrm>
            </p:grpSpPr>
            <p:sp>
              <p:nvSpPr>
                <p:cNvPr id="2713" name=""/>
                <p:cNvSpPr/>
                <p:nvPr/>
              </p:nvSpPr>
              <p:spPr>
                <a:xfrm>
                  <a:off x="5116680" y="445320"/>
                  <a:ext cx="16200" cy="2664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5199120" y="445320"/>
                  <a:ext cx="16200" cy="2664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5178600" y="477720"/>
                  <a:ext cx="16200" cy="26640"/>
                </a:xfrm>
                <a:prstGeom prst="ellipse">
                  <a:avLst/>
                </a:prstGeom>
                <a:solidFill>
                  <a:srgbClr val="99ff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5149440" y="445320"/>
                  <a:ext cx="16200" cy="266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7" name=""/>
              <p:cNvGrpSpPr/>
              <p:nvPr/>
            </p:nvGrpSpPr>
            <p:grpSpPr>
              <a:xfrm>
                <a:off x="5028480" y="427320"/>
                <a:ext cx="71640" cy="71280"/>
                <a:chOff x="5028480" y="427320"/>
                <a:chExt cx="71640" cy="71280"/>
              </a:xfrm>
            </p:grpSpPr>
            <p:sp>
              <p:nvSpPr>
                <p:cNvPr id="2718" name=""/>
                <p:cNvSpPr/>
                <p:nvPr/>
              </p:nvSpPr>
              <p:spPr>
                <a:xfrm>
                  <a:off x="5055840" y="444960"/>
                  <a:ext cx="16560" cy="26640"/>
                </a:xfrm>
                <a:prstGeom prst="ellipse">
                  <a:avLst/>
                </a:prstGeom>
                <a:solidFill>
                  <a:srgbClr val="cc66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5083560" y="47196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5028480" y="427320"/>
                  <a:ext cx="16560" cy="2664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1" name=""/>
              <p:cNvSpPr/>
              <p:nvPr/>
            </p:nvSpPr>
            <p:spPr>
              <a:xfrm>
                <a:off x="4818960" y="222120"/>
                <a:ext cx="424440" cy="178560"/>
              </a:xfrm>
              <a:custGeom>
                <a:avLst/>
                <a:gdLst/>
                <a:ahLst/>
                <a:rect l="l" t="t" r="r" b="b"/>
                <a:pathLst>
                  <a:path w="4560" h="1056">
                    <a:moveTo>
                      <a:pt x="0" y="0"/>
                    </a:moveTo>
                    <a:cubicBezTo>
                      <a:pt x="72" y="184"/>
                      <a:pt x="144" y="368"/>
                      <a:pt x="480" y="528"/>
                    </a:cubicBezTo>
                    <a:cubicBezTo>
                      <a:pt x="816" y="688"/>
                      <a:pt x="1336" y="872"/>
                      <a:pt x="2016" y="960"/>
                    </a:cubicBezTo>
                    <a:cubicBezTo>
                      <a:pt x="2696" y="1048"/>
                      <a:pt x="4120" y="1040"/>
                      <a:pt x="4560" y="1056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V="1">
                <a:off x="4818960" y="534600"/>
                <a:ext cx="424440" cy="160560"/>
              </a:xfrm>
              <a:custGeom>
                <a:avLst/>
                <a:gdLst/>
                <a:ahLst/>
                <a:rect l="l" t="t" r="r" b="b"/>
                <a:pathLst>
                  <a:path w="4560" h="1056">
                    <a:moveTo>
                      <a:pt x="0" y="0"/>
                    </a:moveTo>
                    <a:cubicBezTo>
                      <a:pt x="72" y="184"/>
                      <a:pt x="144" y="368"/>
                      <a:pt x="480" y="528"/>
                    </a:cubicBezTo>
                    <a:cubicBezTo>
                      <a:pt x="816" y="688"/>
                      <a:pt x="1336" y="872"/>
                      <a:pt x="2016" y="960"/>
                    </a:cubicBezTo>
                    <a:cubicBezTo>
                      <a:pt x="2696" y="1048"/>
                      <a:pt x="4120" y="1040"/>
                      <a:pt x="4560" y="1056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4775040" y="407880"/>
                <a:ext cx="459360" cy="117720"/>
              </a:xfrm>
              <a:prstGeom prst="rightArrow">
                <a:avLst>
                  <a:gd name="adj1" fmla="val 73500"/>
                  <a:gd name="adj2" fmla="val 58026"/>
                </a:avLst>
              </a:prstGeom>
              <a:solidFill>
                <a:srgbClr val="6767c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4" name=""/>
            <p:cNvSpPr/>
            <p:nvPr/>
          </p:nvSpPr>
          <p:spPr>
            <a:xfrm>
              <a:off x="4027320" y="398160"/>
              <a:ext cx="546120" cy="298440"/>
            </a:xfrm>
            <a:prstGeom prst="rightArrow">
              <a:avLst>
                <a:gd name="adj1" fmla="val 50000"/>
                <a:gd name="adj2" fmla="val 45748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5" name=""/>
          <p:cNvSpPr/>
          <p:nvPr/>
        </p:nvSpPr>
        <p:spPr>
          <a:xfrm>
            <a:off x="2386080" y="311040"/>
            <a:ext cx="817560" cy="3289320"/>
          </a:xfrm>
          <a:custGeom>
            <a:avLst/>
            <a:gdLst/>
            <a:ahLst/>
            <a:rect l="l" t="t" r="r" b="b"/>
            <a:pathLst>
              <a:path w="680" h="2103">
                <a:moveTo>
                  <a:pt x="680" y="0"/>
                </a:moveTo>
                <a:lnTo>
                  <a:pt x="680" y="2103"/>
                </a:lnTo>
                <a:lnTo>
                  <a:pt x="0" y="1065"/>
                </a:lnTo>
                <a:lnTo>
                  <a:pt x="680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5283360" y="272880"/>
            <a:ext cx="4651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3346560" y="347760"/>
            <a:ext cx="5745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3359160" y="1120680"/>
            <a:ext cx="5763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3317760" y="1924200"/>
            <a:ext cx="7160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3330720" y="2120760"/>
            <a:ext cx="576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1" name=""/>
          <p:cNvGrpSpPr/>
          <p:nvPr/>
        </p:nvGrpSpPr>
        <p:grpSpPr>
          <a:xfrm>
            <a:off x="1504800" y="1352520"/>
            <a:ext cx="1301400" cy="1149120"/>
            <a:chOff x="1504800" y="1352520"/>
            <a:chExt cx="1301400" cy="1149120"/>
          </a:xfrm>
        </p:grpSpPr>
        <p:sp>
          <p:nvSpPr>
            <p:cNvPr id="2732" name=""/>
            <p:cNvSpPr/>
            <p:nvPr/>
          </p:nvSpPr>
          <p:spPr>
            <a:xfrm>
              <a:off x="2077200" y="1429560"/>
              <a:ext cx="572400" cy="646200"/>
            </a:xfrm>
            <a:custGeom>
              <a:avLst/>
              <a:gdLst/>
              <a:ahLst/>
              <a:rect l="l" t="t" r="r" b="b"/>
              <a:pathLst>
                <a:path w="253" h="305">
                  <a:moveTo>
                    <a:pt x="0" y="61"/>
                  </a:moveTo>
                  <a:lnTo>
                    <a:pt x="0" y="0"/>
                  </a:lnTo>
                  <a:lnTo>
                    <a:pt x="253" y="0"/>
                  </a:lnTo>
                  <a:lnTo>
                    <a:pt x="253" y="244"/>
                  </a:lnTo>
                  <a:lnTo>
                    <a:pt x="235" y="244"/>
                  </a:lnTo>
                  <a:lnTo>
                    <a:pt x="235" y="253"/>
                  </a:lnTo>
                  <a:lnTo>
                    <a:pt x="235" y="253"/>
                  </a:lnTo>
                  <a:lnTo>
                    <a:pt x="235" y="253"/>
                  </a:lnTo>
                  <a:lnTo>
                    <a:pt x="235" y="262"/>
                  </a:lnTo>
                  <a:lnTo>
                    <a:pt x="235" y="262"/>
                  </a:lnTo>
                  <a:lnTo>
                    <a:pt x="235" y="270"/>
                  </a:lnTo>
                  <a:lnTo>
                    <a:pt x="235" y="270"/>
                  </a:lnTo>
                  <a:lnTo>
                    <a:pt x="235" y="270"/>
                  </a:lnTo>
                  <a:lnTo>
                    <a:pt x="235" y="279"/>
                  </a:lnTo>
                  <a:lnTo>
                    <a:pt x="235" y="279"/>
                  </a:lnTo>
                  <a:lnTo>
                    <a:pt x="235" y="288"/>
                  </a:lnTo>
                  <a:lnTo>
                    <a:pt x="235" y="288"/>
                  </a:lnTo>
                  <a:lnTo>
                    <a:pt x="235" y="296"/>
                  </a:lnTo>
                  <a:lnTo>
                    <a:pt x="235" y="296"/>
                  </a:lnTo>
                  <a:lnTo>
                    <a:pt x="227" y="296"/>
                  </a:lnTo>
                  <a:lnTo>
                    <a:pt x="227" y="305"/>
                  </a:lnTo>
                  <a:lnTo>
                    <a:pt x="227" y="305"/>
                  </a:lnTo>
                  <a:lnTo>
                    <a:pt x="227" y="305"/>
                  </a:lnTo>
                  <a:lnTo>
                    <a:pt x="218" y="305"/>
                  </a:lnTo>
                  <a:lnTo>
                    <a:pt x="218" y="305"/>
                  </a:lnTo>
                  <a:lnTo>
                    <a:pt x="209" y="305"/>
                  </a:lnTo>
                  <a:lnTo>
                    <a:pt x="209" y="305"/>
                  </a:lnTo>
                  <a:lnTo>
                    <a:pt x="209" y="305"/>
                  </a:lnTo>
                  <a:lnTo>
                    <a:pt x="201" y="305"/>
                  </a:lnTo>
                  <a:lnTo>
                    <a:pt x="201" y="305"/>
                  </a:lnTo>
                  <a:lnTo>
                    <a:pt x="201" y="305"/>
                  </a:lnTo>
                  <a:lnTo>
                    <a:pt x="192" y="305"/>
                  </a:lnTo>
                  <a:lnTo>
                    <a:pt x="192" y="305"/>
                  </a:lnTo>
                  <a:lnTo>
                    <a:pt x="192" y="305"/>
                  </a:lnTo>
                  <a:lnTo>
                    <a:pt x="192" y="296"/>
                  </a:lnTo>
                  <a:lnTo>
                    <a:pt x="183" y="296"/>
                  </a:lnTo>
                  <a:lnTo>
                    <a:pt x="183" y="296"/>
                  </a:lnTo>
                  <a:lnTo>
                    <a:pt x="183" y="288"/>
                  </a:lnTo>
                  <a:lnTo>
                    <a:pt x="183" y="288"/>
                  </a:lnTo>
                  <a:lnTo>
                    <a:pt x="183" y="279"/>
                  </a:lnTo>
                  <a:lnTo>
                    <a:pt x="183" y="279"/>
                  </a:lnTo>
                  <a:lnTo>
                    <a:pt x="183" y="270"/>
                  </a:lnTo>
                  <a:lnTo>
                    <a:pt x="183" y="270"/>
                  </a:lnTo>
                  <a:lnTo>
                    <a:pt x="183" y="262"/>
                  </a:lnTo>
                  <a:lnTo>
                    <a:pt x="183" y="262"/>
                  </a:lnTo>
                  <a:lnTo>
                    <a:pt x="183" y="253"/>
                  </a:lnTo>
                  <a:lnTo>
                    <a:pt x="183" y="253"/>
                  </a:lnTo>
                  <a:lnTo>
                    <a:pt x="183" y="253"/>
                  </a:lnTo>
                  <a:lnTo>
                    <a:pt x="183" y="244"/>
                  </a:lnTo>
                  <a:lnTo>
                    <a:pt x="139" y="244"/>
                  </a:lnTo>
                  <a:lnTo>
                    <a:pt x="139" y="235"/>
                  </a:lnTo>
                  <a:lnTo>
                    <a:pt x="139" y="235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18"/>
                  </a:lnTo>
                  <a:lnTo>
                    <a:pt x="139" y="218"/>
                  </a:lnTo>
                  <a:lnTo>
                    <a:pt x="139" y="218"/>
                  </a:lnTo>
                  <a:lnTo>
                    <a:pt x="139" y="209"/>
                  </a:lnTo>
                  <a:lnTo>
                    <a:pt x="131" y="209"/>
                  </a:lnTo>
                  <a:lnTo>
                    <a:pt x="131" y="209"/>
                  </a:lnTo>
                  <a:lnTo>
                    <a:pt x="131" y="209"/>
                  </a:lnTo>
                  <a:lnTo>
                    <a:pt x="122" y="209"/>
                  </a:lnTo>
                  <a:lnTo>
                    <a:pt x="122" y="209"/>
                  </a:lnTo>
                  <a:lnTo>
                    <a:pt x="113" y="209"/>
                  </a:lnTo>
                  <a:lnTo>
                    <a:pt x="113" y="209"/>
                  </a:lnTo>
                  <a:lnTo>
                    <a:pt x="105" y="209"/>
                  </a:lnTo>
                  <a:lnTo>
                    <a:pt x="105" y="209"/>
                  </a:lnTo>
                  <a:lnTo>
                    <a:pt x="96" y="209"/>
                  </a:lnTo>
                  <a:lnTo>
                    <a:pt x="96" y="209"/>
                  </a:lnTo>
                  <a:lnTo>
                    <a:pt x="87" y="209"/>
                  </a:lnTo>
                  <a:lnTo>
                    <a:pt x="87" y="209"/>
                  </a:lnTo>
                  <a:lnTo>
                    <a:pt x="87" y="201"/>
                  </a:lnTo>
                  <a:lnTo>
                    <a:pt x="87" y="201"/>
                  </a:lnTo>
                  <a:lnTo>
                    <a:pt x="78" y="201"/>
                  </a:lnTo>
                  <a:lnTo>
                    <a:pt x="78" y="192"/>
                  </a:lnTo>
                  <a:lnTo>
                    <a:pt x="78" y="192"/>
                  </a:lnTo>
                  <a:lnTo>
                    <a:pt x="78" y="183"/>
                  </a:lnTo>
                  <a:lnTo>
                    <a:pt x="78" y="183"/>
                  </a:lnTo>
                  <a:lnTo>
                    <a:pt x="78" y="174"/>
                  </a:lnTo>
                  <a:lnTo>
                    <a:pt x="78" y="174"/>
                  </a:lnTo>
                  <a:lnTo>
                    <a:pt x="78" y="166"/>
                  </a:lnTo>
                  <a:lnTo>
                    <a:pt x="78" y="166"/>
                  </a:lnTo>
                  <a:lnTo>
                    <a:pt x="78" y="166"/>
                  </a:lnTo>
                  <a:lnTo>
                    <a:pt x="78" y="166"/>
                  </a:lnTo>
                  <a:lnTo>
                    <a:pt x="70" y="157"/>
                  </a:lnTo>
                  <a:lnTo>
                    <a:pt x="70" y="157"/>
                  </a:lnTo>
                  <a:lnTo>
                    <a:pt x="61" y="157"/>
                  </a:lnTo>
                  <a:lnTo>
                    <a:pt x="61" y="157"/>
                  </a:lnTo>
                  <a:lnTo>
                    <a:pt x="52" y="157"/>
                  </a:lnTo>
                  <a:lnTo>
                    <a:pt x="52" y="157"/>
                  </a:lnTo>
                  <a:lnTo>
                    <a:pt x="44" y="148"/>
                  </a:lnTo>
                  <a:lnTo>
                    <a:pt x="44" y="148"/>
                  </a:lnTo>
                  <a:lnTo>
                    <a:pt x="44" y="148"/>
                  </a:lnTo>
                  <a:lnTo>
                    <a:pt x="35" y="148"/>
                  </a:lnTo>
                  <a:lnTo>
                    <a:pt x="35" y="139"/>
                  </a:lnTo>
                  <a:lnTo>
                    <a:pt x="35" y="139"/>
                  </a:lnTo>
                  <a:lnTo>
                    <a:pt x="35" y="139"/>
                  </a:lnTo>
                  <a:lnTo>
                    <a:pt x="26" y="131"/>
                  </a:lnTo>
                  <a:lnTo>
                    <a:pt x="26" y="131"/>
                  </a:lnTo>
                  <a:lnTo>
                    <a:pt x="26" y="122"/>
                  </a:lnTo>
                  <a:lnTo>
                    <a:pt x="35" y="122"/>
                  </a:lnTo>
                  <a:lnTo>
                    <a:pt x="35" y="113"/>
                  </a:lnTo>
                  <a:lnTo>
                    <a:pt x="35" y="113"/>
                  </a:lnTo>
                  <a:lnTo>
                    <a:pt x="35" y="105"/>
                  </a:lnTo>
                  <a:lnTo>
                    <a:pt x="35" y="105"/>
                  </a:lnTo>
                  <a:lnTo>
                    <a:pt x="35" y="96"/>
                  </a:lnTo>
                  <a:lnTo>
                    <a:pt x="35" y="96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17" y="70"/>
                  </a:lnTo>
                  <a:lnTo>
                    <a:pt x="17" y="70"/>
                  </a:lnTo>
                  <a:lnTo>
                    <a:pt x="17" y="70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00ff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1504800" y="1836000"/>
              <a:ext cx="572400" cy="665640"/>
            </a:xfrm>
            <a:custGeom>
              <a:avLst/>
              <a:gdLst/>
              <a:ahLst/>
              <a:rect l="l" t="t" r="r" b="b"/>
              <a:pathLst>
                <a:path w="253" h="314">
                  <a:moveTo>
                    <a:pt x="253" y="261"/>
                  </a:moveTo>
                  <a:lnTo>
                    <a:pt x="253" y="314"/>
                  </a:lnTo>
                  <a:lnTo>
                    <a:pt x="0" y="314"/>
                  </a:lnTo>
                  <a:lnTo>
                    <a:pt x="0" y="70"/>
                  </a:lnTo>
                  <a:lnTo>
                    <a:pt x="26" y="70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26" y="9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70" y="9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0" y="26"/>
                  </a:lnTo>
                  <a:lnTo>
                    <a:pt x="78" y="26"/>
                  </a:lnTo>
                  <a:lnTo>
                    <a:pt x="78" y="35"/>
                  </a:lnTo>
                  <a:lnTo>
                    <a:pt x="78" y="35"/>
                  </a:lnTo>
                  <a:lnTo>
                    <a:pt x="78" y="43"/>
                  </a:lnTo>
                  <a:lnTo>
                    <a:pt x="70" y="43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70" y="61"/>
                  </a:lnTo>
                  <a:lnTo>
                    <a:pt x="70" y="61"/>
                  </a:lnTo>
                  <a:lnTo>
                    <a:pt x="70" y="61"/>
                  </a:lnTo>
                  <a:lnTo>
                    <a:pt x="70" y="61"/>
                  </a:lnTo>
                  <a:lnTo>
                    <a:pt x="113" y="61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87"/>
                  </a:lnTo>
                  <a:lnTo>
                    <a:pt x="113" y="87"/>
                  </a:lnTo>
                  <a:lnTo>
                    <a:pt x="113" y="96"/>
                  </a:lnTo>
                  <a:lnTo>
                    <a:pt x="113" y="104"/>
                  </a:lnTo>
                  <a:lnTo>
                    <a:pt x="113" y="104"/>
                  </a:lnTo>
                  <a:lnTo>
                    <a:pt x="122" y="104"/>
                  </a:lnTo>
                  <a:lnTo>
                    <a:pt x="122" y="113"/>
                  </a:lnTo>
                  <a:lnTo>
                    <a:pt x="122" y="113"/>
                  </a:lnTo>
                  <a:lnTo>
                    <a:pt x="122" y="113"/>
                  </a:lnTo>
                  <a:lnTo>
                    <a:pt x="131" y="113"/>
                  </a:lnTo>
                  <a:lnTo>
                    <a:pt x="131" y="113"/>
                  </a:lnTo>
                  <a:lnTo>
                    <a:pt x="131" y="113"/>
                  </a:lnTo>
                  <a:lnTo>
                    <a:pt x="140" y="113"/>
                  </a:lnTo>
                  <a:lnTo>
                    <a:pt x="140" y="113"/>
                  </a:lnTo>
                  <a:lnTo>
                    <a:pt x="148" y="113"/>
                  </a:lnTo>
                  <a:lnTo>
                    <a:pt x="148" y="113"/>
                  </a:lnTo>
                  <a:lnTo>
                    <a:pt x="157" y="113"/>
                  </a:lnTo>
                  <a:lnTo>
                    <a:pt x="157" y="113"/>
                  </a:lnTo>
                  <a:lnTo>
                    <a:pt x="157" y="113"/>
                  </a:lnTo>
                  <a:lnTo>
                    <a:pt x="166" y="113"/>
                  </a:lnTo>
                  <a:lnTo>
                    <a:pt x="166" y="113"/>
                  </a:lnTo>
                  <a:lnTo>
                    <a:pt x="174" y="122"/>
                  </a:lnTo>
                  <a:lnTo>
                    <a:pt x="174" y="122"/>
                  </a:lnTo>
                  <a:lnTo>
                    <a:pt x="174" y="122"/>
                  </a:lnTo>
                  <a:lnTo>
                    <a:pt x="174" y="131"/>
                  </a:lnTo>
                  <a:lnTo>
                    <a:pt x="174" y="131"/>
                  </a:lnTo>
                  <a:lnTo>
                    <a:pt x="174" y="139"/>
                  </a:lnTo>
                  <a:lnTo>
                    <a:pt x="174" y="139"/>
                  </a:lnTo>
                  <a:lnTo>
                    <a:pt x="174" y="148"/>
                  </a:lnTo>
                  <a:lnTo>
                    <a:pt x="174" y="148"/>
                  </a:lnTo>
                  <a:lnTo>
                    <a:pt x="174" y="157"/>
                  </a:lnTo>
                  <a:lnTo>
                    <a:pt x="183" y="157"/>
                  </a:lnTo>
                  <a:lnTo>
                    <a:pt x="183" y="157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92" y="166"/>
                  </a:lnTo>
                  <a:lnTo>
                    <a:pt x="192" y="166"/>
                  </a:lnTo>
                  <a:lnTo>
                    <a:pt x="201" y="166"/>
                  </a:lnTo>
                  <a:lnTo>
                    <a:pt x="201" y="166"/>
                  </a:lnTo>
                  <a:lnTo>
                    <a:pt x="209" y="166"/>
                  </a:lnTo>
                  <a:lnTo>
                    <a:pt x="209" y="174"/>
                  </a:lnTo>
                  <a:lnTo>
                    <a:pt x="209" y="174"/>
                  </a:lnTo>
                  <a:lnTo>
                    <a:pt x="218" y="174"/>
                  </a:lnTo>
                  <a:lnTo>
                    <a:pt x="218" y="174"/>
                  </a:lnTo>
                  <a:lnTo>
                    <a:pt x="218" y="174"/>
                  </a:lnTo>
                  <a:lnTo>
                    <a:pt x="227" y="183"/>
                  </a:lnTo>
                  <a:lnTo>
                    <a:pt x="227" y="183"/>
                  </a:lnTo>
                  <a:lnTo>
                    <a:pt x="227" y="192"/>
                  </a:lnTo>
                  <a:lnTo>
                    <a:pt x="227" y="192"/>
                  </a:lnTo>
                  <a:lnTo>
                    <a:pt x="227" y="200"/>
                  </a:lnTo>
                  <a:lnTo>
                    <a:pt x="227" y="200"/>
                  </a:lnTo>
                  <a:lnTo>
                    <a:pt x="227" y="209"/>
                  </a:lnTo>
                  <a:lnTo>
                    <a:pt x="227" y="209"/>
                  </a:lnTo>
                  <a:lnTo>
                    <a:pt x="218" y="218"/>
                  </a:lnTo>
                  <a:lnTo>
                    <a:pt x="218" y="227"/>
                  </a:lnTo>
                  <a:lnTo>
                    <a:pt x="218" y="227"/>
                  </a:lnTo>
                  <a:lnTo>
                    <a:pt x="218" y="235"/>
                  </a:lnTo>
                  <a:lnTo>
                    <a:pt x="227" y="235"/>
                  </a:lnTo>
                  <a:lnTo>
                    <a:pt x="227" y="235"/>
                  </a:lnTo>
                  <a:lnTo>
                    <a:pt x="227" y="244"/>
                  </a:lnTo>
                  <a:lnTo>
                    <a:pt x="227" y="244"/>
                  </a:lnTo>
                  <a:lnTo>
                    <a:pt x="227" y="253"/>
                  </a:lnTo>
                  <a:lnTo>
                    <a:pt x="235" y="253"/>
                  </a:lnTo>
                  <a:lnTo>
                    <a:pt x="235" y="253"/>
                  </a:lnTo>
                  <a:lnTo>
                    <a:pt x="235" y="253"/>
                  </a:lnTo>
                  <a:lnTo>
                    <a:pt x="244" y="261"/>
                  </a:lnTo>
                  <a:lnTo>
                    <a:pt x="244" y="261"/>
                  </a:lnTo>
                  <a:lnTo>
                    <a:pt x="253" y="261"/>
                  </a:lnTo>
                  <a:lnTo>
                    <a:pt x="253" y="261"/>
                  </a:lnTo>
                  <a:close/>
                </a:path>
              </a:pathLst>
            </a:custGeom>
            <a:solidFill>
              <a:srgbClr val="ccff99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1504800" y="1429560"/>
              <a:ext cx="572400" cy="554760"/>
            </a:xfrm>
            <a:custGeom>
              <a:avLst/>
              <a:gdLst/>
              <a:ahLst/>
              <a:rect l="l" t="t" r="r" b="b"/>
              <a:pathLst>
                <a:path w="253" h="262">
                  <a:moveTo>
                    <a:pt x="253" y="61"/>
                  </a:moveTo>
                  <a:lnTo>
                    <a:pt x="253" y="0"/>
                  </a:lnTo>
                  <a:lnTo>
                    <a:pt x="0" y="0"/>
                  </a:lnTo>
                  <a:lnTo>
                    <a:pt x="0" y="262"/>
                  </a:lnTo>
                  <a:lnTo>
                    <a:pt x="26" y="262"/>
                  </a:lnTo>
                  <a:lnTo>
                    <a:pt x="26" y="253"/>
                  </a:lnTo>
                  <a:lnTo>
                    <a:pt x="26" y="253"/>
                  </a:lnTo>
                  <a:lnTo>
                    <a:pt x="26" y="244"/>
                  </a:lnTo>
                  <a:lnTo>
                    <a:pt x="26" y="244"/>
                  </a:lnTo>
                  <a:lnTo>
                    <a:pt x="17" y="235"/>
                  </a:lnTo>
                  <a:lnTo>
                    <a:pt x="17" y="227"/>
                  </a:lnTo>
                  <a:lnTo>
                    <a:pt x="17" y="227"/>
                  </a:lnTo>
                  <a:lnTo>
                    <a:pt x="17" y="218"/>
                  </a:lnTo>
                  <a:lnTo>
                    <a:pt x="17" y="218"/>
                  </a:lnTo>
                  <a:lnTo>
                    <a:pt x="26" y="209"/>
                  </a:lnTo>
                  <a:lnTo>
                    <a:pt x="26" y="209"/>
                  </a:lnTo>
                  <a:lnTo>
                    <a:pt x="26" y="201"/>
                  </a:lnTo>
                  <a:lnTo>
                    <a:pt x="35" y="201"/>
                  </a:lnTo>
                  <a:lnTo>
                    <a:pt x="35" y="201"/>
                  </a:lnTo>
                  <a:lnTo>
                    <a:pt x="44" y="201"/>
                  </a:lnTo>
                  <a:lnTo>
                    <a:pt x="44" y="201"/>
                  </a:lnTo>
                  <a:lnTo>
                    <a:pt x="52" y="201"/>
                  </a:lnTo>
                  <a:lnTo>
                    <a:pt x="61" y="201"/>
                  </a:lnTo>
                  <a:lnTo>
                    <a:pt x="61" y="201"/>
                  </a:lnTo>
                  <a:lnTo>
                    <a:pt x="61" y="201"/>
                  </a:lnTo>
                  <a:lnTo>
                    <a:pt x="70" y="209"/>
                  </a:lnTo>
                  <a:lnTo>
                    <a:pt x="70" y="209"/>
                  </a:lnTo>
                  <a:lnTo>
                    <a:pt x="70" y="218"/>
                  </a:lnTo>
                  <a:lnTo>
                    <a:pt x="78" y="218"/>
                  </a:lnTo>
                  <a:lnTo>
                    <a:pt x="78" y="227"/>
                  </a:lnTo>
                  <a:lnTo>
                    <a:pt x="78" y="227"/>
                  </a:lnTo>
                  <a:lnTo>
                    <a:pt x="78" y="235"/>
                  </a:lnTo>
                  <a:lnTo>
                    <a:pt x="70" y="235"/>
                  </a:lnTo>
                  <a:lnTo>
                    <a:pt x="70" y="244"/>
                  </a:lnTo>
                  <a:lnTo>
                    <a:pt x="70" y="244"/>
                  </a:lnTo>
                  <a:lnTo>
                    <a:pt x="70" y="253"/>
                  </a:lnTo>
                  <a:lnTo>
                    <a:pt x="70" y="253"/>
                  </a:lnTo>
                  <a:lnTo>
                    <a:pt x="70" y="262"/>
                  </a:lnTo>
                  <a:lnTo>
                    <a:pt x="113" y="262"/>
                  </a:lnTo>
                  <a:lnTo>
                    <a:pt x="113" y="253"/>
                  </a:lnTo>
                  <a:lnTo>
                    <a:pt x="113" y="244"/>
                  </a:lnTo>
                  <a:lnTo>
                    <a:pt x="113" y="235"/>
                  </a:lnTo>
                  <a:lnTo>
                    <a:pt x="113" y="235"/>
                  </a:lnTo>
                  <a:lnTo>
                    <a:pt x="113" y="227"/>
                  </a:lnTo>
                  <a:lnTo>
                    <a:pt x="113" y="218"/>
                  </a:lnTo>
                  <a:lnTo>
                    <a:pt x="113" y="218"/>
                  </a:lnTo>
                  <a:lnTo>
                    <a:pt x="122" y="218"/>
                  </a:lnTo>
                  <a:lnTo>
                    <a:pt x="122" y="209"/>
                  </a:lnTo>
                  <a:lnTo>
                    <a:pt x="122" y="209"/>
                  </a:lnTo>
                  <a:lnTo>
                    <a:pt x="122" y="209"/>
                  </a:lnTo>
                  <a:lnTo>
                    <a:pt x="131" y="209"/>
                  </a:lnTo>
                  <a:lnTo>
                    <a:pt x="131" y="209"/>
                  </a:lnTo>
                  <a:lnTo>
                    <a:pt x="140" y="209"/>
                  </a:lnTo>
                  <a:lnTo>
                    <a:pt x="140" y="209"/>
                  </a:lnTo>
                  <a:lnTo>
                    <a:pt x="140" y="209"/>
                  </a:lnTo>
                  <a:lnTo>
                    <a:pt x="148" y="209"/>
                  </a:lnTo>
                  <a:lnTo>
                    <a:pt x="148" y="209"/>
                  </a:lnTo>
                  <a:lnTo>
                    <a:pt x="157" y="209"/>
                  </a:lnTo>
                  <a:lnTo>
                    <a:pt x="157" y="209"/>
                  </a:lnTo>
                  <a:lnTo>
                    <a:pt x="166" y="209"/>
                  </a:lnTo>
                  <a:lnTo>
                    <a:pt x="166" y="209"/>
                  </a:lnTo>
                  <a:lnTo>
                    <a:pt x="166" y="209"/>
                  </a:lnTo>
                  <a:lnTo>
                    <a:pt x="174" y="201"/>
                  </a:lnTo>
                  <a:lnTo>
                    <a:pt x="174" y="201"/>
                  </a:lnTo>
                  <a:lnTo>
                    <a:pt x="174" y="201"/>
                  </a:lnTo>
                  <a:lnTo>
                    <a:pt x="174" y="192"/>
                  </a:lnTo>
                  <a:lnTo>
                    <a:pt x="174" y="192"/>
                  </a:lnTo>
                  <a:lnTo>
                    <a:pt x="174" y="183"/>
                  </a:lnTo>
                  <a:lnTo>
                    <a:pt x="174" y="183"/>
                  </a:lnTo>
                  <a:lnTo>
                    <a:pt x="174" y="174"/>
                  </a:lnTo>
                  <a:lnTo>
                    <a:pt x="174" y="174"/>
                  </a:lnTo>
                  <a:lnTo>
                    <a:pt x="174" y="166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83" y="157"/>
                  </a:lnTo>
                  <a:lnTo>
                    <a:pt x="192" y="157"/>
                  </a:lnTo>
                  <a:lnTo>
                    <a:pt x="192" y="157"/>
                  </a:lnTo>
                  <a:lnTo>
                    <a:pt x="192" y="157"/>
                  </a:lnTo>
                  <a:lnTo>
                    <a:pt x="201" y="157"/>
                  </a:lnTo>
                  <a:lnTo>
                    <a:pt x="201" y="157"/>
                  </a:lnTo>
                  <a:lnTo>
                    <a:pt x="209" y="157"/>
                  </a:lnTo>
                  <a:lnTo>
                    <a:pt x="209" y="148"/>
                  </a:lnTo>
                  <a:lnTo>
                    <a:pt x="209" y="148"/>
                  </a:lnTo>
                  <a:lnTo>
                    <a:pt x="218" y="148"/>
                  </a:lnTo>
                  <a:lnTo>
                    <a:pt x="218" y="148"/>
                  </a:lnTo>
                  <a:lnTo>
                    <a:pt x="218" y="148"/>
                  </a:lnTo>
                  <a:lnTo>
                    <a:pt x="227" y="139"/>
                  </a:lnTo>
                  <a:lnTo>
                    <a:pt x="227" y="139"/>
                  </a:lnTo>
                  <a:lnTo>
                    <a:pt x="227" y="131"/>
                  </a:lnTo>
                  <a:lnTo>
                    <a:pt x="227" y="131"/>
                  </a:lnTo>
                  <a:lnTo>
                    <a:pt x="227" y="122"/>
                  </a:lnTo>
                  <a:lnTo>
                    <a:pt x="227" y="122"/>
                  </a:lnTo>
                  <a:lnTo>
                    <a:pt x="227" y="113"/>
                  </a:lnTo>
                  <a:lnTo>
                    <a:pt x="227" y="113"/>
                  </a:lnTo>
                  <a:lnTo>
                    <a:pt x="227" y="105"/>
                  </a:lnTo>
                  <a:lnTo>
                    <a:pt x="227" y="96"/>
                  </a:lnTo>
                  <a:lnTo>
                    <a:pt x="227" y="96"/>
                  </a:lnTo>
                  <a:lnTo>
                    <a:pt x="227" y="87"/>
                  </a:lnTo>
                  <a:lnTo>
                    <a:pt x="227" y="87"/>
                  </a:lnTo>
                  <a:lnTo>
                    <a:pt x="227" y="87"/>
                  </a:lnTo>
                  <a:lnTo>
                    <a:pt x="227" y="78"/>
                  </a:lnTo>
                  <a:lnTo>
                    <a:pt x="227" y="78"/>
                  </a:lnTo>
                  <a:lnTo>
                    <a:pt x="235" y="70"/>
                  </a:lnTo>
                  <a:lnTo>
                    <a:pt x="235" y="70"/>
                  </a:lnTo>
                  <a:lnTo>
                    <a:pt x="235" y="70"/>
                  </a:lnTo>
                  <a:lnTo>
                    <a:pt x="244" y="70"/>
                  </a:lnTo>
                  <a:lnTo>
                    <a:pt x="244" y="61"/>
                  </a:lnTo>
                  <a:lnTo>
                    <a:pt x="244" y="61"/>
                  </a:lnTo>
                  <a:lnTo>
                    <a:pt x="253" y="61"/>
                  </a:lnTo>
                  <a:lnTo>
                    <a:pt x="253" y="61"/>
                  </a:lnTo>
                  <a:close/>
                </a:path>
              </a:pathLst>
            </a:custGeom>
            <a:solidFill>
              <a:srgbClr val="ccffff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760400" y="1558080"/>
              <a:ext cx="631800" cy="830520"/>
            </a:xfrm>
            <a:custGeom>
              <a:avLst/>
              <a:gdLst/>
              <a:ahLst/>
              <a:rect l="l" t="t" r="r" b="b"/>
              <a:pathLst>
                <a:path w="279" h="392">
                  <a:moveTo>
                    <a:pt x="105" y="78"/>
                  </a:moveTo>
                  <a:lnTo>
                    <a:pt x="105" y="78"/>
                  </a:lnTo>
                  <a:lnTo>
                    <a:pt x="114" y="70"/>
                  </a:lnTo>
                  <a:lnTo>
                    <a:pt x="114" y="70"/>
                  </a:lnTo>
                  <a:lnTo>
                    <a:pt x="114" y="61"/>
                  </a:lnTo>
                  <a:lnTo>
                    <a:pt x="114" y="52"/>
                  </a:lnTo>
                  <a:lnTo>
                    <a:pt x="114" y="52"/>
                  </a:lnTo>
                  <a:lnTo>
                    <a:pt x="105" y="44"/>
                  </a:lnTo>
                  <a:lnTo>
                    <a:pt x="105" y="35"/>
                  </a:lnTo>
                  <a:lnTo>
                    <a:pt x="105" y="35"/>
                  </a:lnTo>
                  <a:lnTo>
                    <a:pt x="105" y="26"/>
                  </a:lnTo>
                  <a:lnTo>
                    <a:pt x="114" y="17"/>
                  </a:lnTo>
                  <a:lnTo>
                    <a:pt x="114" y="17"/>
                  </a:lnTo>
                  <a:lnTo>
                    <a:pt x="122" y="9"/>
                  </a:lnTo>
                  <a:lnTo>
                    <a:pt x="122" y="9"/>
                  </a:lnTo>
                  <a:lnTo>
                    <a:pt x="122" y="0"/>
                  </a:lnTo>
                  <a:lnTo>
                    <a:pt x="131" y="0"/>
                  </a:lnTo>
                  <a:lnTo>
                    <a:pt x="140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7" y="9"/>
                  </a:lnTo>
                  <a:lnTo>
                    <a:pt x="166" y="9"/>
                  </a:lnTo>
                  <a:lnTo>
                    <a:pt x="166" y="9"/>
                  </a:lnTo>
                  <a:lnTo>
                    <a:pt x="166" y="17"/>
                  </a:lnTo>
                  <a:lnTo>
                    <a:pt x="175" y="26"/>
                  </a:lnTo>
                  <a:lnTo>
                    <a:pt x="175" y="26"/>
                  </a:lnTo>
                  <a:lnTo>
                    <a:pt x="175" y="35"/>
                  </a:lnTo>
                  <a:lnTo>
                    <a:pt x="175" y="35"/>
                  </a:lnTo>
                  <a:lnTo>
                    <a:pt x="175" y="44"/>
                  </a:lnTo>
                  <a:lnTo>
                    <a:pt x="175" y="52"/>
                  </a:lnTo>
                  <a:lnTo>
                    <a:pt x="175" y="52"/>
                  </a:lnTo>
                  <a:lnTo>
                    <a:pt x="166" y="61"/>
                  </a:lnTo>
                  <a:lnTo>
                    <a:pt x="166" y="70"/>
                  </a:lnTo>
                  <a:lnTo>
                    <a:pt x="166" y="70"/>
                  </a:lnTo>
                  <a:lnTo>
                    <a:pt x="175" y="78"/>
                  </a:lnTo>
                  <a:lnTo>
                    <a:pt x="175" y="78"/>
                  </a:lnTo>
                  <a:lnTo>
                    <a:pt x="175" y="87"/>
                  </a:lnTo>
                  <a:lnTo>
                    <a:pt x="184" y="87"/>
                  </a:lnTo>
                  <a:lnTo>
                    <a:pt x="184" y="87"/>
                  </a:lnTo>
                  <a:lnTo>
                    <a:pt x="192" y="87"/>
                  </a:lnTo>
                  <a:lnTo>
                    <a:pt x="192" y="96"/>
                  </a:lnTo>
                  <a:lnTo>
                    <a:pt x="201" y="96"/>
                  </a:lnTo>
                  <a:lnTo>
                    <a:pt x="201" y="96"/>
                  </a:lnTo>
                  <a:lnTo>
                    <a:pt x="210" y="96"/>
                  </a:lnTo>
                  <a:lnTo>
                    <a:pt x="210" y="96"/>
                  </a:lnTo>
                  <a:lnTo>
                    <a:pt x="210" y="105"/>
                  </a:lnTo>
                  <a:lnTo>
                    <a:pt x="218" y="105"/>
                  </a:lnTo>
                  <a:lnTo>
                    <a:pt x="218" y="105"/>
                  </a:lnTo>
                  <a:lnTo>
                    <a:pt x="218" y="113"/>
                  </a:lnTo>
                  <a:lnTo>
                    <a:pt x="218" y="113"/>
                  </a:lnTo>
                  <a:lnTo>
                    <a:pt x="218" y="113"/>
                  </a:lnTo>
                  <a:lnTo>
                    <a:pt x="218" y="122"/>
                  </a:lnTo>
                  <a:lnTo>
                    <a:pt x="218" y="122"/>
                  </a:lnTo>
                  <a:lnTo>
                    <a:pt x="218" y="131"/>
                  </a:lnTo>
                  <a:lnTo>
                    <a:pt x="218" y="131"/>
                  </a:lnTo>
                  <a:lnTo>
                    <a:pt x="218" y="140"/>
                  </a:lnTo>
                  <a:lnTo>
                    <a:pt x="218" y="140"/>
                  </a:lnTo>
                  <a:lnTo>
                    <a:pt x="227" y="140"/>
                  </a:lnTo>
                  <a:lnTo>
                    <a:pt x="227" y="148"/>
                  </a:lnTo>
                  <a:lnTo>
                    <a:pt x="227" y="148"/>
                  </a:lnTo>
                  <a:lnTo>
                    <a:pt x="236" y="148"/>
                  </a:lnTo>
                  <a:lnTo>
                    <a:pt x="236" y="148"/>
                  </a:lnTo>
                  <a:lnTo>
                    <a:pt x="245" y="148"/>
                  </a:lnTo>
                  <a:lnTo>
                    <a:pt x="245" y="148"/>
                  </a:lnTo>
                  <a:lnTo>
                    <a:pt x="253" y="148"/>
                  </a:lnTo>
                  <a:lnTo>
                    <a:pt x="253" y="148"/>
                  </a:lnTo>
                  <a:lnTo>
                    <a:pt x="262" y="148"/>
                  </a:lnTo>
                  <a:lnTo>
                    <a:pt x="262" y="148"/>
                  </a:lnTo>
                  <a:lnTo>
                    <a:pt x="262" y="148"/>
                  </a:lnTo>
                  <a:lnTo>
                    <a:pt x="271" y="148"/>
                  </a:lnTo>
                  <a:lnTo>
                    <a:pt x="271" y="148"/>
                  </a:lnTo>
                  <a:lnTo>
                    <a:pt x="271" y="148"/>
                  </a:lnTo>
                  <a:lnTo>
                    <a:pt x="279" y="148"/>
                  </a:lnTo>
                  <a:lnTo>
                    <a:pt x="279" y="157"/>
                  </a:lnTo>
                  <a:lnTo>
                    <a:pt x="279" y="157"/>
                  </a:lnTo>
                  <a:lnTo>
                    <a:pt x="279" y="166"/>
                  </a:lnTo>
                  <a:lnTo>
                    <a:pt x="279" y="166"/>
                  </a:lnTo>
                  <a:lnTo>
                    <a:pt x="279" y="174"/>
                  </a:lnTo>
                  <a:lnTo>
                    <a:pt x="279" y="183"/>
                  </a:lnTo>
                  <a:lnTo>
                    <a:pt x="279" y="192"/>
                  </a:lnTo>
                  <a:lnTo>
                    <a:pt x="279" y="209"/>
                  </a:lnTo>
                  <a:lnTo>
                    <a:pt x="279" y="218"/>
                  </a:lnTo>
                  <a:lnTo>
                    <a:pt x="279" y="218"/>
                  </a:lnTo>
                  <a:lnTo>
                    <a:pt x="279" y="227"/>
                  </a:lnTo>
                  <a:lnTo>
                    <a:pt x="279" y="227"/>
                  </a:lnTo>
                  <a:lnTo>
                    <a:pt x="271" y="227"/>
                  </a:lnTo>
                  <a:lnTo>
                    <a:pt x="271" y="235"/>
                  </a:lnTo>
                  <a:lnTo>
                    <a:pt x="271" y="235"/>
                  </a:lnTo>
                  <a:lnTo>
                    <a:pt x="262" y="235"/>
                  </a:lnTo>
                  <a:lnTo>
                    <a:pt x="262" y="235"/>
                  </a:lnTo>
                  <a:lnTo>
                    <a:pt x="253" y="235"/>
                  </a:lnTo>
                  <a:lnTo>
                    <a:pt x="253" y="235"/>
                  </a:lnTo>
                  <a:lnTo>
                    <a:pt x="245" y="235"/>
                  </a:lnTo>
                  <a:lnTo>
                    <a:pt x="245" y="235"/>
                  </a:lnTo>
                  <a:lnTo>
                    <a:pt x="245" y="235"/>
                  </a:lnTo>
                  <a:lnTo>
                    <a:pt x="236" y="235"/>
                  </a:lnTo>
                  <a:lnTo>
                    <a:pt x="236" y="235"/>
                  </a:lnTo>
                  <a:lnTo>
                    <a:pt x="227" y="235"/>
                  </a:lnTo>
                  <a:lnTo>
                    <a:pt x="227" y="235"/>
                  </a:lnTo>
                  <a:lnTo>
                    <a:pt x="227" y="235"/>
                  </a:lnTo>
                  <a:lnTo>
                    <a:pt x="227" y="235"/>
                  </a:lnTo>
                  <a:lnTo>
                    <a:pt x="218" y="244"/>
                  </a:lnTo>
                  <a:lnTo>
                    <a:pt x="218" y="244"/>
                  </a:lnTo>
                  <a:lnTo>
                    <a:pt x="218" y="244"/>
                  </a:lnTo>
                  <a:lnTo>
                    <a:pt x="218" y="253"/>
                  </a:lnTo>
                  <a:lnTo>
                    <a:pt x="218" y="253"/>
                  </a:lnTo>
                  <a:lnTo>
                    <a:pt x="218" y="253"/>
                  </a:lnTo>
                  <a:lnTo>
                    <a:pt x="218" y="262"/>
                  </a:lnTo>
                  <a:lnTo>
                    <a:pt x="218" y="270"/>
                  </a:lnTo>
                  <a:lnTo>
                    <a:pt x="218" y="270"/>
                  </a:lnTo>
                  <a:lnTo>
                    <a:pt x="218" y="279"/>
                  </a:lnTo>
                  <a:lnTo>
                    <a:pt x="210" y="279"/>
                  </a:lnTo>
                  <a:lnTo>
                    <a:pt x="210" y="279"/>
                  </a:lnTo>
                  <a:lnTo>
                    <a:pt x="210" y="288"/>
                  </a:lnTo>
                  <a:lnTo>
                    <a:pt x="201" y="288"/>
                  </a:lnTo>
                  <a:lnTo>
                    <a:pt x="201" y="288"/>
                  </a:lnTo>
                  <a:lnTo>
                    <a:pt x="192" y="288"/>
                  </a:lnTo>
                  <a:lnTo>
                    <a:pt x="192" y="288"/>
                  </a:lnTo>
                  <a:lnTo>
                    <a:pt x="192" y="288"/>
                  </a:lnTo>
                  <a:lnTo>
                    <a:pt x="184" y="288"/>
                  </a:lnTo>
                  <a:lnTo>
                    <a:pt x="184" y="297"/>
                  </a:lnTo>
                  <a:lnTo>
                    <a:pt x="175" y="297"/>
                  </a:lnTo>
                  <a:lnTo>
                    <a:pt x="175" y="297"/>
                  </a:lnTo>
                  <a:lnTo>
                    <a:pt x="175" y="297"/>
                  </a:lnTo>
                  <a:lnTo>
                    <a:pt x="166" y="305"/>
                  </a:lnTo>
                  <a:lnTo>
                    <a:pt x="166" y="305"/>
                  </a:lnTo>
                  <a:lnTo>
                    <a:pt x="166" y="314"/>
                  </a:lnTo>
                  <a:lnTo>
                    <a:pt x="166" y="314"/>
                  </a:lnTo>
                  <a:lnTo>
                    <a:pt x="166" y="323"/>
                  </a:lnTo>
                  <a:lnTo>
                    <a:pt x="166" y="323"/>
                  </a:lnTo>
                  <a:lnTo>
                    <a:pt x="175" y="331"/>
                  </a:lnTo>
                  <a:lnTo>
                    <a:pt x="175" y="340"/>
                  </a:lnTo>
                  <a:lnTo>
                    <a:pt x="175" y="340"/>
                  </a:lnTo>
                  <a:lnTo>
                    <a:pt x="175" y="349"/>
                  </a:lnTo>
                  <a:lnTo>
                    <a:pt x="175" y="358"/>
                  </a:lnTo>
                  <a:lnTo>
                    <a:pt x="166" y="358"/>
                  </a:lnTo>
                  <a:lnTo>
                    <a:pt x="166" y="366"/>
                  </a:lnTo>
                  <a:lnTo>
                    <a:pt x="166" y="366"/>
                  </a:lnTo>
                  <a:lnTo>
                    <a:pt x="166" y="375"/>
                  </a:lnTo>
                  <a:lnTo>
                    <a:pt x="166" y="375"/>
                  </a:lnTo>
                  <a:lnTo>
                    <a:pt x="157" y="384"/>
                  </a:lnTo>
                  <a:lnTo>
                    <a:pt x="157" y="384"/>
                  </a:lnTo>
                  <a:lnTo>
                    <a:pt x="157" y="384"/>
                  </a:lnTo>
                  <a:lnTo>
                    <a:pt x="149" y="384"/>
                  </a:lnTo>
                  <a:lnTo>
                    <a:pt x="149" y="384"/>
                  </a:lnTo>
                  <a:lnTo>
                    <a:pt x="140" y="392"/>
                  </a:lnTo>
                  <a:lnTo>
                    <a:pt x="140" y="392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22" y="384"/>
                  </a:lnTo>
                  <a:lnTo>
                    <a:pt x="122" y="384"/>
                  </a:lnTo>
                  <a:lnTo>
                    <a:pt x="122" y="384"/>
                  </a:lnTo>
                  <a:lnTo>
                    <a:pt x="114" y="384"/>
                  </a:lnTo>
                  <a:lnTo>
                    <a:pt x="114" y="375"/>
                  </a:lnTo>
                  <a:lnTo>
                    <a:pt x="114" y="375"/>
                  </a:lnTo>
                  <a:lnTo>
                    <a:pt x="114" y="375"/>
                  </a:lnTo>
                  <a:lnTo>
                    <a:pt x="105" y="366"/>
                  </a:lnTo>
                  <a:lnTo>
                    <a:pt x="105" y="366"/>
                  </a:lnTo>
                  <a:lnTo>
                    <a:pt x="105" y="358"/>
                  </a:lnTo>
                  <a:lnTo>
                    <a:pt x="105" y="358"/>
                  </a:lnTo>
                  <a:lnTo>
                    <a:pt x="105" y="349"/>
                  </a:lnTo>
                  <a:lnTo>
                    <a:pt x="105" y="349"/>
                  </a:lnTo>
                  <a:lnTo>
                    <a:pt x="105" y="340"/>
                  </a:lnTo>
                  <a:lnTo>
                    <a:pt x="105" y="340"/>
                  </a:lnTo>
                  <a:lnTo>
                    <a:pt x="114" y="331"/>
                  </a:lnTo>
                  <a:lnTo>
                    <a:pt x="114" y="331"/>
                  </a:lnTo>
                  <a:lnTo>
                    <a:pt x="114" y="323"/>
                  </a:lnTo>
                  <a:lnTo>
                    <a:pt x="114" y="323"/>
                  </a:lnTo>
                  <a:lnTo>
                    <a:pt x="114" y="314"/>
                  </a:lnTo>
                  <a:lnTo>
                    <a:pt x="105" y="314"/>
                  </a:lnTo>
                  <a:lnTo>
                    <a:pt x="105" y="314"/>
                  </a:lnTo>
                  <a:lnTo>
                    <a:pt x="105" y="305"/>
                  </a:lnTo>
                  <a:lnTo>
                    <a:pt x="105" y="305"/>
                  </a:lnTo>
                  <a:lnTo>
                    <a:pt x="96" y="305"/>
                  </a:lnTo>
                  <a:lnTo>
                    <a:pt x="96" y="305"/>
                  </a:lnTo>
                  <a:lnTo>
                    <a:pt x="96" y="297"/>
                  </a:lnTo>
                  <a:lnTo>
                    <a:pt x="88" y="297"/>
                  </a:lnTo>
                  <a:lnTo>
                    <a:pt x="88" y="297"/>
                  </a:lnTo>
                  <a:lnTo>
                    <a:pt x="79" y="297"/>
                  </a:lnTo>
                  <a:lnTo>
                    <a:pt x="79" y="297"/>
                  </a:lnTo>
                  <a:lnTo>
                    <a:pt x="79" y="297"/>
                  </a:lnTo>
                  <a:lnTo>
                    <a:pt x="70" y="297"/>
                  </a:lnTo>
                  <a:lnTo>
                    <a:pt x="70" y="288"/>
                  </a:lnTo>
                  <a:lnTo>
                    <a:pt x="61" y="288"/>
                  </a:lnTo>
                  <a:lnTo>
                    <a:pt x="61" y="288"/>
                  </a:lnTo>
                  <a:lnTo>
                    <a:pt x="61" y="279"/>
                  </a:lnTo>
                  <a:lnTo>
                    <a:pt x="61" y="279"/>
                  </a:lnTo>
                  <a:lnTo>
                    <a:pt x="61" y="270"/>
                  </a:lnTo>
                  <a:lnTo>
                    <a:pt x="61" y="270"/>
                  </a:lnTo>
                  <a:lnTo>
                    <a:pt x="61" y="262"/>
                  </a:lnTo>
                  <a:lnTo>
                    <a:pt x="61" y="262"/>
                  </a:lnTo>
                  <a:lnTo>
                    <a:pt x="61" y="253"/>
                  </a:lnTo>
                  <a:lnTo>
                    <a:pt x="61" y="253"/>
                  </a:lnTo>
                  <a:lnTo>
                    <a:pt x="53" y="244"/>
                  </a:lnTo>
                  <a:lnTo>
                    <a:pt x="53" y="244"/>
                  </a:lnTo>
                  <a:lnTo>
                    <a:pt x="53" y="244"/>
                  </a:lnTo>
                  <a:lnTo>
                    <a:pt x="44" y="244"/>
                  </a:lnTo>
                  <a:lnTo>
                    <a:pt x="44" y="244"/>
                  </a:lnTo>
                  <a:lnTo>
                    <a:pt x="35" y="244"/>
                  </a:lnTo>
                  <a:lnTo>
                    <a:pt x="35" y="244"/>
                  </a:lnTo>
                  <a:lnTo>
                    <a:pt x="35" y="244"/>
                  </a:lnTo>
                  <a:lnTo>
                    <a:pt x="27" y="244"/>
                  </a:lnTo>
                  <a:lnTo>
                    <a:pt x="27" y="244"/>
                  </a:lnTo>
                  <a:lnTo>
                    <a:pt x="18" y="244"/>
                  </a:lnTo>
                  <a:lnTo>
                    <a:pt x="18" y="244"/>
                  </a:lnTo>
                  <a:lnTo>
                    <a:pt x="9" y="244"/>
                  </a:lnTo>
                  <a:lnTo>
                    <a:pt x="9" y="244"/>
                  </a:lnTo>
                  <a:lnTo>
                    <a:pt x="9" y="244"/>
                  </a:lnTo>
                  <a:lnTo>
                    <a:pt x="0" y="235"/>
                  </a:lnTo>
                  <a:lnTo>
                    <a:pt x="0" y="235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0" y="209"/>
                  </a:lnTo>
                  <a:lnTo>
                    <a:pt x="0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9" y="148"/>
                  </a:lnTo>
                  <a:lnTo>
                    <a:pt x="9" y="148"/>
                  </a:lnTo>
                  <a:lnTo>
                    <a:pt x="9" y="148"/>
                  </a:lnTo>
                  <a:lnTo>
                    <a:pt x="9" y="148"/>
                  </a:lnTo>
                  <a:lnTo>
                    <a:pt x="18" y="148"/>
                  </a:lnTo>
                  <a:lnTo>
                    <a:pt x="18" y="148"/>
                  </a:lnTo>
                  <a:lnTo>
                    <a:pt x="27" y="148"/>
                  </a:lnTo>
                  <a:lnTo>
                    <a:pt x="27" y="148"/>
                  </a:lnTo>
                  <a:lnTo>
                    <a:pt x="35" y="148"/>
                  </a:lnTo>
                  <a:lnTo>
                    <a:pt x="35" y="148"/>
                  </a:lnTo>
                  <a:lnTo>
                    <a:pt x="44" y="148"/>
                  </a:lnTo>
                  <a:lnTo>
                    <a:pt x="44" y="148"/>
                  </a:lnTo>
                  <a:lnTo>
                    <a:pt x="53" y="148"/>
                  </a:lnTo>
                  <a:lnTo>
                    <a:pt x="53" y="148"/>
                  </a:lnTo>
                  <a:lnTo>
                    <a:pt x="53" y="140"/>
                  </a:lnTo>
                  <a:lnTo>
                    <a:pt x="61" y="140"/>
                  </a:lnTo>
                  <a:lnTo>
                    <a:pt x="61" y="140"/>
                  </a:lnTo>
                  <a:lnTo>
                    <a:pt x="61" y="131"/>
                  </a:lnTo>
                  <a:lnTo>
                    <a:pt x="61" y="131"/>
                  </a:lnTo>
                  <a:lnTo>
                    <a:pt x="61" y="122"/>
                  </a:lnTo>
                  <a:lnTo>
                    <a:pt x="61" y="122"/>
                  </a:lnTo>
                  <a:lnTo>
                    <a:pt x="61" y="113"/>
                  </a:lnTo>
                  <a:lnTo>
                    <a:pt x="61" y="105"/>
                  </a:lnTo>
                  <a:lnTo>
                    <a:pt x="61" y="105"/>
                  </a:lnTo>
                  <a:lnTo>
                    <a:pt x="61" y="105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79" y="96"/>
                  </a:lnTo>
                  <a:lnTo>
                    <a:pt x="79" y="96"/>
                  </a:lnTo>
                  <a:lnTo>
                    <a:pt x="88" y="96"/>
                  </a:lnTo>
                  <a:lnTo>
                    <a:pt x="88" y="87"/>
                  </a:lnTo>
                  <a:lnTo>
                    <a:pt x="96" y="87"/>
                  </a:lnTo>
                  <a:lnTo>
                    <a:pt x="96" y="87"/>
                  </a:lnTo>
                  <a:lnTo>
                    <a:pt x="105" y="87"/>
                  </a:lnTo>
                  <a:lnTo>
                    <a:pt x="105" y="78"/>
                  </a:lnTo>
                  <a:close/>
                </a:path>
              </a:pathLst>
            </a:custGeom>
            <a:solidFill>
              <a:srgbClr val="ffcccc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2077200" y="1946880"/>
              <a:ext cx="572400" cy="554760"/>
            </a:xfrm>
            <a:custGeom>
              <a:avLst/>
              <a:gdLst/>
              <a:ahLst/>
              <a:rect l="l" t="t" r="r" b="b"/>
              <a:pathLst>
                <a:path w="253" h="262">
                  <a:moveTo>
                    <a:pt x="0" y="209"/>
                  </a:moveTo>
                  <a:lnTo>
                    <a:pt x="0" y="262"/>
                  </a:lnTo>
                  <a:lnTo>
                    <a:pt x="253" y="262"/>
                  </a:lnTo>
                  <a:lnTo>
                    <a:pt x="253" y="0"/>
                  </a:lnTo>
                  <a:lnTo>
                    <a:pt x="235" y="0"/>
                  </a:lnTo>
                  <a:lnTo>
                    <a:pt x="227" y="9"/>
                  </a:lnTo>
                  <a:lnTo>
                    <a:pt x="227" y="9"/>
                  </a:lnTo>
                  <a:lnTo>
                    <a:pt x="235" y="18"/>
                  </a:lnTo>
                  <a:lnTo>
                    <a:pt x="235" y="18"/>
                  </a:lnTo>
                  <a:lnTo>
                    <a:pt x="235" y="26"/>
                  </a:lnTo>
                  <a:lnTo>
                    <a:pt x="235" y="35"/>
                  </a:lnTo>
                  <a:lnTo>
                    <a:pt x="235" y="35"/>
                  </a:lnTo>
                  <a:lnTo>
                    <a:pt x="235" y="44"/>
                  </a:lnTo>
                  <a:lnTo>
                    <a:pt x="235" y="44"/>
                  </a:lnTo>
                  <a:lnTo>
                    <a:pt x="227" y="52"/>
                  </a:lnTo>
                  <a:lnTo>
                    <a:pt x="227" y="52"/>
                  </a:lnTo>
                  <a:lnTo>
                    <a:pt x="227" y="61"/>
                  </a:lnTo>
                  <a:lnTo>
                    <a:pt x="218" y="61"/>
                  </a:lnTo>
                  <a:lnTo>
                    <a:pt x="218" y="61"/>
                  </a:lnTo>
                  <a:lnTo>
                    <a:pt x="218" y="61"/>
                  </a:lnTo>
                  <a:lnTo>
                    <a:pt x="209" y="61"/>
                  </a:lnTo>
                  <a:lnTo>
                    <a:pt x="201" y="61"/>
                  </a:lnTo>
                  <a:lnTo>
                    <a:pt x="201" y="61"/>
                  </a:lnTo>
                  <a:lnTo>
                    <a:pt x="192" y="61"/>
                  </a:lnTo>
                  <a:lnTo>
                    <a:pt x="192" y="61"/>
                  </a:lnTo>
                  <a:lnTo>
                    <a:pt x="183" y="52"/>
                  </a:lnTo>
                  <a:lnTo>
                    <a:pt x="183" y="52"/>
                  </a:lnTo>
                  <a:lnTo>
                    <a:pt x="183" y="44"/>
                  </a:lnTo>
                  <a:lnTo>
                    <a:pt x="183" y="44"/>
                  </a:lnTo>
                  <a:lnTo>
                    <a:pt x="183" y="35"/>
                  </a:lnTo>
                  <a:lnTo>
                    <a:pt x="183" y="35"/>
                  </a:lnTo>
                  <a:lnTo>
                    <a:pt x="183" y="26"/>
                  </a:lnTo>
                  <a:lnTo>
                    <a:pt x="183" y="26"/>
                  </a:lnTo>
                  <a:lnTo>
                    <a:pt x="183" y="18"/>
                  </a:lnTo>
                  <a:lnTo>
                    <a:pt x="183" y="18"/>
                  </a:lnTo>
                  <a:lnTo>
                    <a:pt x="183" y="9"/>
                  </a:lnTo>
                  <a:lnTo>
                    <a:pt x="183" y="9"/>
                  </a:lnTo>
                  <a:lnTo>
                    <a:pt x="183" y="0"/>
                  </a:lnTo>
                  <a:lnTo>
                    <a:pt x="139" y="0"/>
                  </a:lnTo>
                  <a:lnTo>
                    <a:pt x="139" y="9"/>
                  </a:lnTo>
                  <a:lnTo>
                    <a:pt x="139" y="18"/>
                  </a:lnTo>
                  <a:lnTo>
                    <a:pt x="139" y="26"/>
                  </a:lnTo>
                  <a:lnTo>
                    <a:pt x="139" y="26"/>
                  </a:lnTo>
                  <a:lnTo>
                    <a:pt x="139" y="35"/>
                  </a:lnTo>
                  <a:lnTo>
                    <a:pt x="139" y="35"/>
                  </a:lnTo>
                  <a:lnTo>
                    <a:pt x="139" y="44"/>
                  </a:lnTo>
                  <a:lnTo>
                    <a:pt x="139" y="44"/>
                  </a:lnTo>
                  <a:lnTo>
                    <a:pt x="131" y="44"/>
                  </a:lnTo>
                  <a:lnTo>
                    <a:pt x="131" y="52"/>
                  </a:lnTo>
                  <a:lnTo>
                    <a:pt x="131" y="52"/>
                  </a:lnTo>
                  <a:lnTo>
                    <a:pt x="122" y="52"/>
                  </a:lnTo>
                  <a:lnTo>
                    <a:pt x="122" y="52"/>
                  </a:lnTo>
                  <a:lnTo>
                    <a:pt x="122" y="52"/>
                  </a:lnTo>
                  <a:lnTo>
                    <a:pt x="113" y="52"/>
                  </a:lnTo>
                  <a:lnTo>
                    <a:pt x="113" y="52"/>
                  </a:lnTo>
                  <a:lnTo>
                    <a:pt x="105" y="52"/>
                  </a:lnTo>
                  <a:lnTo>
                    <a:pt x="105" y="52"/>
                  </a:lnTo>
                  <a:lnTo>
                    <a:pt x="105" y="52"/>
                  </a:lnTo>
                  <a:lnTo>
                    <a:pt x="96" y="52"/>
                  </a:lnTo>
                  <a:lnTo>
                    <a:pt x="96" y="52"/>
                  </a:lnTo>
                  <a:lnTo>
                    <a:pt x="87" y="52"/>
                  </a:lnTo>
                  <a:lnTo>
                    <a:pt x="87" y="52"/>
                  </a:lnTo>
                  <a:lnTo>
                    <a:pt x="87" y="52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8" y="79"/>
                  </a:lnTo>
                  <a:lnTo>
                    <a:pt x="78" y="79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78" y="96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70" y="105"/>
                  </a:lnTo>
                  <a:lnTo>
                    <a:pt x="61" y="105"/>
                  </a:lnTo>
                  <a:lnTo>
                    <a:pt x="61" y="105"/>
                  </a:lnTo>
                  <a:lnTo>
                    <a:pt x="61" y="105"/>
                  </a:lnTo>
                  <a:lnTo>
                    <a:pt x="52" y="105"/>
                  </a:lnTo>
                  <a:lnTo>
                    <a:pt x="52" y="105"/>
                  </a:lnTo>
                  <a:lnTo>
                    <a:pt x="44" y="105"/>
                  </a:lnTo>
                  <a:lnTo>
                    <a:pt x="44" y="114"/>
                  </a:lnTo>
                  <a:lnTo>
                    <a:pt x="35" y="114"/>
                  </a:lnTo>
                  <a:lnTo>
                    <a:pt x="35" y="114"/>
                  </a:lnTo>
                  <a:lnTo>
                    <a:pt x="35" y="114"/>
                  </a:lnTo>
                  <a:lnTo>
                    <a:pt x="35" y="122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26" y="131"/>
                  </a:lnTo>
                  <a:lnTo>
                    <a:pt x="26" y="140"/>
                  </a:lnTo>
                  <a:lnTo>
                    <a:pt x="26" y="140"/>
                  </a:lnTo>
                  <a:lnTo>
                    <a:pt x="26" y="148"/>
                  </a:lnTo>
                  <a:lnTo>
                    <a:pt x="35" y="148"/>
                  </a:lnTo>
                  <a:lnTo>
                    <a:pt x="35" y="157"/>
                  </a:lnTo>
                  <a:lnTo>
                    <a:pt x="35" y="157"/>
                  </a:lnTo>
                  <a:lnTo>
                    <a:pt x="35" y="166"/>
                  </a:lnTo>
                  <a:lnTo>
                    <a:pt x="35" y="166"/>
                  </a:lnTo>
                  <a:lnTo>
                    <a:pt x="35" y="175"/>
                  </a:lnTo>
                  <a:lnTo>
                    <a:pt x="26" y="175"/>
                  </a:lnTo>
                  <a:lnTo>
                    <a:pt x="26" y="183"/>
                  </a:lnTo>
                  <a:lnTo>
                    <a:pt x="26" y="183"/>
                  </a:lnTo>
                  <a:lnTo>
                    <a:pt x="26" y="192"/>
                  </a:lnTo>
                  <a:lnTo>
                    <a:pt x="26" y="192"/>
                  </a:lnTo>
                  <a:lnTo>
                    <a:pt x="17" y="201"/>
                  </a:lnTo>
                  <a:lnTo>
                    <a:pt x="17" y="201"/>
                  </a:lnTo>
                  <a:lnTo>
                    <a:pt x="17" y="201"/>
                  </a:lnTo>
                  <a:lnTo>
                    <a:pt x="9" y="201"/>
                  </a:lnTo>
                  <a:lnTo>
                    <a:pt x="9" y="209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009999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2018160" y="1354320"/>
              <a:ext cx="788040" cy="7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314080" y="13525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dadada"/>
                  </a:solidFill>
                  <a:latin typeface="Arial Narrow"/>
                </a:rPr>
                <a:t>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552320" y="1512000"/>
              <a:ext cx="299880" cy="20376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552320" y="2029320"/>
              <a:ext cx="299880" cy="20556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869120" y="1807200"/>
              <a:ext cx="375840" cy="20412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1710720" y="1660680"/>
              <a:ext cx="297720" cy="20376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1710720" y="2029320"/>
              <a:ext cx="377640" cy="35064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4" name=""/>
            <p:cNvGrpSpPr/>
            <p:nvPr/>
          </p:nvGrpSpPr>
          <p:grpSpPr>
            <a:xfrm>
              <a:off x="2185920" y="1807200"/>
              <a:ext cx="374040" cy="648000"/>
              <a:chOff x="2185920" y="1807200"/>
              <a:chExt cx="374040" cy="648000"/>
            </a:xfrm>
          </p:grpSpPr>
          <p:sp>
            <p:nvSpPr>
              <p:cNvPr id="2745" name=""/>
              <p:cNvSpPr/>
              <p:nvPr/>
            </p:nvSpPr>
            <p:spPr>
              <a:xfrm>
                <a:off x="2185920" y="2103480"/>
                <a:ext cx="295200" cy="20556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2262600" y="2252160"/>
                <a:ext cx="297360" cy="20304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262600" y="1807200"/>
                <a:ext cx="218520" cy="27936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8" name=""/>
          <p:cNvGrpSpPr/>
          <p:nvPr/>
        </p:nvGrpSpPr>
        <p:grpSpPr>
          <a:xfrm>
            <a:off x="3206880" y="0"/>
            <a:ext cx="844200" cy="3844080"/>
            <a:chOff x="3206880" y="0"/>
            <a:chExt cx="844200" cy="3844080"/>
          </a:xfrm>
        </p:grpSpPr>
        <p:sp>
          <p:nvSpPr>
            <p:cNvPr id="2749" name=""/>
            <p:cNvSpPr/>
            <p:nvPr/>
          </p:nvSpPr>
          <p:spPr>
            <a:xfrm>
              <a:off x="3266640" y="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3266640" y="1908720"/>
              <a:ext cx="3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3266640" y="2929680"/>
              <a:ext cx="3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2" name=""/>
            <p:cNvGrpSpPr/>
            <p:nvPr/>
          </p:nvGrpSpPr>
          <p:grpSpPr>
            <a:xfrm>
              <a:off x="3206880" y="187560"/>
              <a:ext cx="844200" cy="736560"/>
              <a:chOff x="3206880" y="187560"/>
              <a:chExt cx="844200" cy="736560"/>
            </a:xfrm>
          </p:grpSpPr>
          <p:sp>
            <p:nvSpPr>
              <p:cNvPr id="2753" name=""/>
              <p:cNvSpPr/>
              <p:nvPr/>
            </p:nvSpPr>
            <p:spPr>
              <a:xfrm>
                <a:off x="3206880" y="200880"/>
                <a:ext cx="844200" cy="723240"/>
              </a:xfrm>
              <a:custGeom>
                <a:avLst/>
                <a:gdLst/>
                <a:ahLst/>
                <a:rect l="l" t="t" r="r" b="b"/>
                <a:pathLst>
                  <a:path w="393" h="358">
                    <a:moveTo>
                      <a:pt x="393" y="87"/>
                    </a:moveTo>
                    <a:lnTo>
                      <a:pt x="393" y="0"/>
                    </a:lnTo>
                    <a:lnTo>
                      <a:pt x="0" y="0"/>
                    </a:lnTo>
                    <a:lnTo>
                      <a:pt x="0" y="358"/>
                    </a:lnTo>
                    <a:lnTo>
                      <a:pt x="35" y="358"/>
                    </a:lnTo>
                    <a:lnTo>
                      <a:pt x="35" y="349"/>
                    </a:lnTo>
                    <a:lnTo>
                      <a:pt x="35" y="340"/>
                    </a:lnTo>
                    <a:lnTo>
                      <a:pt x="35" y="340"/>
                    </a:lnTo>
                    <a:lnTo>
                      <a:pt x="35" y="332"/>
                    </a:lnTo>
                    <a:lnTo>
                      <a:pt x="26" y="323"/>
                    </a:lnTo>
                    <a:lnTo>
                      <a:pt x="26" y="314"/>
                    </a:lnTo>
                    <a:lnTo>
                      <a:pt x="26" y="305"/>
                    </a:lnTo>
                    <a:lnTo>
                      <a:pt x="26" y="305"/>
                    </a:lnTo>
                    <a:lnTo>
                      <a:pt x="35" y="297"/>
                    </a:lnTo>
                    <a:lnTo>
                      <a:pt x="35" y="288"/>
                    </a:lnTo>
                    <a:lnTo>
                      <a:pt x="35" y="288"/>
                    </a:lnTo>
                    <a:lnTo>
                      <a:pt x="44" y="279"/>
                    </a:lnTo>
                    <a:lnTo>
                      <a:pt x="53" y="279"/>
                    </a:lnTo>
                    <a:lnTo>
                      <a:pt x="53" y="271"/>
                    </a:lnTo>
                    <a:lnTo>
                      <a:pt x="61" y="271"/>
                    </a:lnTo>
                    <a:lnTo>
                      <a:pt x="70" y="271"/>
                    </a:lnTo>
                    <a:lnTo>
                      <a:pt x="79" y="271"/>
                    </a:lnTo>
                    <a:lnTo>
                      <a:pt x="87" y="271"/>
                    </a:lnTo>
                    <a:lnTo>
                      <a:pt x="87" y="279"/>
                    </a:lnTo>
                    <a:lnTo>
                      <a:pt x="96" y="279"/>
                    </a:lnTo>
                    <a:lnTo>
                      <a:pt x="105" y="288"/>
                    </a:lnTo>
                    <a:lnTo>
                      <a:pt x="105" y="288"/>
                    </a:lnTo>
                    <a:lnTo>
                      <a:pt x="114" y="297"/>
                    </a:lnTo>
                    <a:lnTo>
                      <a:pt x="114" y="305"/>
                    </a:lnTo>
                    <a:lnTo>
                      <a:pt x="114" y="305"/>
                    </a:lnTo>
                    <a:lnTo>
                      <a:pt x="114" y="314"/>
                    </a:lnTo>
                    <a:lnTo>
                      <a:pt x="114" y="323"/>
                    </a:lnTo>
                    <a:lnTo>
                      <a:pt x="114" y="323"/>
                    </a:lnTo>
                    <a:lnTo>
                      <a:pt x="114" y="332"/>
                    </a:lnTo>
                    <a:lnTo>
                      <a:pt x="105" y="340"/>
                    </a:lnTo>
                    <a:lnTo>
                      <a:pt x="105" y="340"/>
                    </a:lnTo>
                    <a:lnTo>
                      <a:pt x="105" y="349"/>
                    </a:lnTo>
                    <a:lnTo>
                      <a:pt x="105" y="358"/>
                    </a:lnTo>
                    <a:lnTo>
                      <a:pt x="175" y="358"/>
                    </a:lnTo>
                    <a:lnTo>
                      <a:pt x="175" y="340"/>
                    </a:lnTo>
                    <a:lnTo>
                      <a:pt x="175" y="332"/>
                    </a:lnTo>
                    <a:lnTo>
                      <a:pt x="175" y="323"/>
                    </a:lnTo>
                    <a:lnTo>
                      <a:pt x="175" y="323"/>
                    </a:lnTo>
                    <a:lnTo>
                      <a:pt x="175" y="314"/>
                    </a:lnTo>
                    <a:lnTo>
                      <a:pt x="175" y="305"/>
                    </a:lnTo>
                    <a:lnTo>
                      <a:pt x="183" y="305"/>
                    </a:lnTo>
                    <a:lnTo>
                      <a:pt x="183" y="297"/>
                    </a:lnTo>
                    <a:lnTo>
                      <a:pt x="183" y="297"/>
                    </a:lnTo>
                    <a:lnTo>
                      <a:pt x="192" y="288"/>
                    </a:lnTo>
                    <a:lnTo>
                      <a:pt x="192" y="288"/>
                    </a:lnTo>
                    <a:lnTo>
                      <a:pt x="201" y="288"/>
                    </a:lnTo>
                    <a:lnTo>
                      <a:pt x="201" y="288"/>
                    </a:lnTo>
                    <a:lnTo>
                      <a:pt x="210" y="288"/>
                    </a:lnTo>
                    <a:lnTo>
                      <a:pt x="210" y="288"/>
                    </a:lnTo>
                    <a:lnTo>
                      <a:pt x="218" y="288"/>
                    </a:lnTo>
                    <a:lnTo>
                      <a:pt x="227" y="288"/>
                    </a:lnTo>
                    <a:lnTo>
                      <a:pt x="227" y="288"/>
                    </a:lnTo>
                    <a:lnTo>
                      <a:pt x="236" y="288"/>
                    </a:lnTo>
                    <a:lnTo>
                      <a:pt x="244" y="288"/>
                    </a:lnTo>
                    <a:lnTo>
                      <a:pt x="244" y="288"/>
                    </a:lnTo>
                    <a:lnTo>
                      <a:pt x="253" y="288"/>
                    </a:lnTo>
                    <a:lnTo>
                      <a:pt x="262" y="288"/>
                    </a:lnTo>
                    <a:lnTo>
                      <a:pt x="262" y="279"/>
                    </a:lnTo>
                    <a:lnTo>
                      <a:pt x="271" y="279"/>
                    </a:lnTo>
                    <a:lnTo>
                      <a:pt x="271" y="271"/>
                    </a:lnTo>
                    <a:lnTo>
                      <a:pt x="271" y="271"/>
                    </a:lnTo>
                    <a:lnTo>
                      <a:pt x="271" y="262"/>
                    </a:lnTo>
                    <a:lnTo>
                      <a:pt x="271" y="253"/>
                    </a:lnTo>
                    <a:lnTo>
                      <a:pt x="271" y="253"/>
                    </a:lnTo>
                    <a:lnTo>
                      <a:pt x="271" y="244"/>
                    </a:lnTo>
                    <a:lnTo>
                      <a:pt x="271" y="236"/>
                    </a:lnTo>
                    <a:lnTo>
                      <a:pt x="271" y="236"/>
                    </a:lnTo>
                    <a:lnTo>
                      <a:pt x="279" y="227"/>
                    </a:lnTo>
                    <a:lnTo>
                      <a:pt x="279" y="227"/>
                    </a:lnTo>
                    <a:lnTo>
                      <a:pt x="279" y="218"/>
                    </a:lnTo>
                    <a:lnTo>
                      <a:pt x="288" y="218"/>
                    </a:lnTo>
                    <a:lnTo>
                      <a:pt x="297" y="218"/>
                    </a:lnTo>
                    <a:lnTo>
                      <a:pt x="297" y="218"/>
                    </a:lnTo>
                    <a:lnTo>
                      <a:pt x="305" y="218"/>
                    </a:lnTo>
                    <a:lnTo>
                      <a:pt x="314" y="218"/>
                    </a:lnTo>
                    <a:lnTo>
                      <a:pt x="314" y="209"/>
                    </a:lnTo>
                    <a:lnTo>
                      <a:pt x="323" y="209"/>
                    </a:lnTo>
                    <a:lnTo>
                      <a:pt x="332" y="209"/>
                    </a:lnTo>
                    <a:lnTo>
                      <a:pt x="332" y="209"/>
                    </a:lnTo>
                    <a:lnTo>
                      <a:pt x="340" y="201"/>
                    </a:lnTo>
                    <a:lnTo>
                      <a:pt x="340" y="201"/>
                    </a:lnTo>
                    <a:lnTo>
                      <a:pt x="340" y="192"/>
                    </a:lnTo>
                    <a:lnTo>
                      <a:pt x="349" y="192"/>
                    </a:lnTo>
                    <a:lnTo>
                      <a:pt x="349" y="183"/>
                    </a:lnTo>
                    <a:lnTo>
                      <a:pt x="349" y="183"/>
                    </a:lnTo>
                    <a:lnTo>
                      <a:pt x="349" y="175"/>
                    </a:lnTo>
                    <a:lnTo>
                      <a:pt x="349" y="166"/>
                    </a:lnTo>
                    <a:lnTo>
                      <a:pt x="349" y="157"/>
                    </a:lnTo>
                    <a:lnTo>
                      <a:pt x="340" y="148"/>
                    </a:lnTo>
                    <a:lnTo>
                      <a:pt x="340" y="148"/>
                    </a:lnTo>
                    <a:lnTo>
                      <a:pt x="340" y="140"/>
                    </a:lnTo>
                    <a:lnTo>
                      <a:pt x="340" y="131"/>
                    </a:lnTo>
                    <a:lnTo>
                      <a:pt x="340" y="131"/>
                    </a:lnTo>
                    <a:lnTo>
                      <a:pt x="340" y="122"/>
                    </a:lnTo>
                    <a:lnTo>
                      <a:pt x="349" y="113"/>
                    </a:lnTo>
                    <a:lnTo>
                      <a:pt x="349" y="113"/>
                    </a:lnTo>
                    <a:lnTo>
                      <a:pt x="349" y="105"/>
                    </a:lnTo>
                    <a:lnTo>
                      <a:pt x="358" y="105"/>
                    </a:lnTo>
                    <a:lnTo>
                      <a:pt x="358" y="96"/>
                    </a:lnTo>
                    <a:lnTo>
                      <a:pt x="367" y="96"/>
                    </a:lnTo>
                    <a:lnTo>
                      <a:pt x="367" y="96"/>
                    </a:lnTo>
                    <a:lnTo>
                      <a:pt x="375" y="87"/>
                    </a:lnTo>
                    <a:lnTo>
                      <a:pt x="384" y="87"/>
                    </a:lnTo>
                    <a:lnTo>
                      <a:pt x="384" y="87"/>
                    </a:lnTo>
                    <a:lnTo>
                      <a:pt x="393" y="87"/>
                    </a:lnTo>
                    <a:close/>
                  </a:path>
                </a:pathLst>
              </a:custGeom>
              <a:solidFill>
                <a:srgbClr val="ccffff"/>
              </a:solidFill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3278880" y="187560"/>
                <a:ext cx="348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33399"/>
                    </a:solidFill>
                    <a:latin typeface="Arial Narrow"/>
                  </a:rPr>
                  <a:t>  </a:t>
                </a:r>
                <a:r>
                  <a:rPr b="1" lang="en-US" sz="3000" spc="-1" strike="noStrike">
                    <a:solidFill>
                      <a:srgbClr val="333399"/>
                    </a:solidFill>
                    <a:latin typeface="Arial Narrow"/>
                  </a:rPr>
                  <a:t>$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5" name=""/>
              <p:cNvGrpSpPr/>
              <p:nvPr/>
            </p:nvGrpSpPr>
            <p:grpSpPr>
              <a:xfrm>
                <a:off x="3254040" y="261000"/>
                <a:ext cx="656640" cy="479520"/>
                <a:chOff x="3254040" y="261000"/>
                <a:chExt cx="656640" cy="479520"/>
              </a:xfrm>
            </p:grpSpPr>
            <p:sp>
              <p:nvSpPr>
                <p:cNvPr id="2756" name=""/>
                <p:cNvSpPr/>
                <p:nvPr/>
              </p:nvSpPr>
              <p:spPr>
                <a:xfrm>
                  <a:off x="3476880" y="455040"/>
                  <a:ext cx="433800" cy="28548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3254040" y="261000"/>
                  <a:ext cx="431280" cy="28512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8" name=""/>
            <p:cNvGrpSpPr/>
            <p:nvPr/>
          </p:nvGrpSpPr>
          <p:grpSpPr>
            <a:xfrm>
              <a:off x="3220200" y="1084680"/>
              <a:ext cx="815400" cy="817200"/>
              <a:chOff x="3220200" y="1084680"/>
              <a:chExt cx="815400" cy="817200"/>
            </a:xfrm>
          </p:grpSpPr>
          <p:sp>
            <p:nvSpPr>
              <p:cNvPr id="2759" name=""/>
              <p:cNvSpPr/>
              <p:nvPr/>
            </p:nvSpPr>
            <p:spPr>
              <a:xfrm>
                <a:off x="3220200" y="1084680"/>
                <a:ext cx="815400" cy="817200"/>
              </a:xfrm>
              <a:custGeom>
                <a:avLst/>
                <a:gdLst/>
                <a:ahLst/>
                <a:rect l="l" t="t" r="r" b="b"/>
                <a:pathLst>
                  <a:path w="393" h="419">
                    <a:moveTo>
                      <a:pt x="393" y="349"/>
                    </a:moveTo>
                    <a:lnTo>
                      <a:pt x="393" y="419"/>
                    </a:lnTo>
                    <a:lnTo>
                      <a:pt x="0" y="419"/>
                    </a:lnTo>
                    <a:lnTo>
                      <a:pt x="0" y="87"/>
                    </a:lnTo>
                    <a:lnTo>
                      <a:pt x="35" y="87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5" y="61"/>
                    </a:lnTo>
                    <a:lnTo>
                      <a:pt x="35" y="61"/>
                    </a:lnTo>
                    <a:lnTo>
                      <a:pt x="26" y="52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6" y="26"/>
                    </a:lnTo>
                    <a:lnTo>
                      <a:pt x="35" y="26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6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105" y="9"/>
                    </a:lnTo>
                    <a:lnTo>
                      <a:pt x="105" y="17"/>
                    </a:lnTo>
                    <a:lnTo>
                      <a:pt x="114" y="17"/>
                    </a:lnTo>
                    <a:lnTo>
                      <a:pt x="114" y="26"/>
                    </a:lnTo>
                    <a:lnTo>
                      <a:pt x="114" y="35"/>
                    </a:lnTo>
                    <a:lnTo>
                      <a:pt x="114" y="35"/>
                    </a:lnTo>
                    <a:lnTo>
                      <a:pt x="114" y="44"/>
                    </a:lnTo>
                    <a:lnTo>
                      <a:pt x="114" y="52"/>
                    </a:lnTo>
                    <a:lnTo>
                      <a:pt x="114" y="52"/>
                    </a:lnTo>
                    <a:lnTo>
                      <a:pt x="114" y="61"/>
                    </a:lnTo>
                    <a:lnTo>
                      <a:pt x="114" y="70"/>
                    </a:lnTo>
                    <a:lnTo>
                      <a:pt x="105" y="70"/>
                    </a:lnTo>
                    <a:lnTo>
                      <a:pt x="105" y="78"/>
                    </a:lnTo>
                    <a:lnTo>
                      <a:pt x="114" y="78"/>
                    </a:lnTo>
                    <a:lnTo>
                      <a:pt x="114" y="78"/>
                    </a:lnTo>
                    <a:lnTo>
                      <a:pt x="175" y="78"/>
                    </a:lnTo>
                    <a:lnTo>
                      <a:pt x="175" y="96"/>
                    </a:lnTo>
                    <a:lnTo>
                      <a:pt x="175" y="105"/>
                    </a:lnTo>
                    <a:lnTo>
                      <a:pt x="175" y="113"/>
                    </a:lnTo>
                    <a:lnTo>
                      <a:pt x="175" y="113"/>
                    </a:lnTo>
                    <a:lnTo>
                      <a:pt x="175" y="122"/>
                    </a:lnTo>
                    <a:lnTo>
                      <a:pt x="175" y="131"/>
                    </a:lnTo>
                    <a:lnTo>
                      <a:pt x="175" y="139"/>
                    </a:lnTo>
                    <a:lnTo>
                      <a:pt x="183" y="139"/>
                    </a:lnTo>
                    <a:lnTo>
                      <a:pt x="183" y="139"/>
                    </a:lnTo>
                    <a:lnTo>
                      <a:pt x="192" y="148"/>
                    </a:lnTo>
                    <a:lnTo>
                      <a:pt x="192" y="148"/>
                    </a:lnTo>
                    <a:lnTo>
                      <a:pt x="201" y="148"/>
                    </a:lnTo>
                    <a:lnTo>
                      <a:pt x="201" y="148"/>
                    </a:lnTo>
                    <a:lnTo>
                      <a:pt x="210" y="148"/>
                    </a:lnTo>
                    <a:lnTo>
                      <a:pt x="210" y="148"/>
                    </a:lnTo>
                    <a:lnTo>
                      <a:pt x="218" y="148"/>
                    </a:lnTo>
                    <a:lnTo>
                      <a:pt x="227" y="148"/>
                    </a:lnTo>
                    <a:lnTo>
                      <a:pt x="227" y="148"/>
                    </a:lnTo>
                    <a:lnTo>
                      <a:pt x="236" y="148"/>
                    </a:lnTo>
                    <a:lnTo>
                      <a:pt x="244" y="148"/>
                    </a:lnTo>
                    <a:lnTo>
                      <a:pt x="244" y="148"/>
                    </a:lnTo>
                    <a:lnTo>
                      <a:pt x="253" y="148"/>
                    </a:lnTo>
                    <a:lnTo>
                      <a:pt x="262" y="148"/>
                    </a:lnTo>
                    <a:lnTo>
                      <a:pt x="262" y="157"/>
                    </a:lnTo>
                    <a:lnTo>
                      <a:pt x="271" y="157"/>
                    </a:lnTo>
                    <a:lnTo>
                      <a:pt x="271" y="166"/>
                    </a:lnTo>
                    <a:lnTo>
                      <a:pt x="271" y="166"/>
                    </a:lnTo>
                    <a:lnTo>
                      <a:pt x="271" y="174"/>
                    </a:lnTo>
                    <a:lnTo>
                      <a:pt x="271" y="183"/>
                    </a:lnTo>
                    <a:lnTo>
                      <a:pt x="271" y="183"/>
                    </a:lnTo>
                    <a:lnTo>
                      <a:pt x="271" y="192"/>
                    </a:lnTo>
                    <a:lnTo>
                      <a:pt x="271" y="201"/>
                    </a:lnTo>
                    <a:lnTo>
                      <a:pt x="271" y="201"/>
                    </a:lnTo>
                    <a:lnTo>
                      <a:pt x="279" y="209"/>
                    </a:lnTo>
                    <a:lnTo>
                      <a:pt x="279" y="209"/>
                    </a:lnTo>
                    <a:lnTo>
                      <a:pt x="279" y="218"/>
                    </a:lnTo>
                    <a:lnTo>
                      <a:pt x="288" y="218"/>
                    </a:lnTo>
                    <a:lnTo>
                      <a:pt x="297" y="218"/>
                    </a:lnTo>
                    <a:lnTo>
                      <a:pt x="297" y="218"/>
                    </a:lnTo>
                    <a:lnTo>
                      <a:pt x="305" y="218"/>
                    </a:lnTo>
                    <a:lnTo>
                      <a:pt x="314" y="227"/>
                    </a:lnTo>
                    <a:lnTo>
                      <a:pt x="314" y="227"/>
                    </a:lnTo>
                    <a:lnTo>
                      <a:pt x="323" y="227"/>
                    </a:lnTo>
                    <a:lnTo>
                      <a:pt x="332" y="227"/>
                    </a:lnTo>
                    <a:lnTo>
                      <a:pt x="332" y="227"/>
                    </a:lnTo>
                    <a:lnTo>
                      <a:pt x="340" y="235"/>
                    </a:lnTo>
                    <a:lnTo>
                      <a:pt x="340" y="235"/>
                    </a:lnTo>
                    <a:lnTo>
                      <a:pt x="340" y="244"/>
                    </a:lnTo>
                    <a:lnTo>
                      <a:pt x="349" y="244"/>
                    </a:lnTo>
                    <a:lnTo>
                      <a:pt x="349" y="253"/>
                    </a:lnTo>
                    <a:lnTo>
                      <a:pt x="349" y="262"/>
                    </a:lnTo>
                    <a:lnTo>
                      <a:pt x="349" y="262"/>
                    </a:lnTo>
                    <a:lnTo>
                      <a:pt x="349" y="270"/>
                    </a:lnTo>
                    <a:lnTo>
                      <a:pt x="349" y="279"/>
                    </a:lnTo>
                    <a:lnTo>
                      <a:pt x="340" y="288"/>
                    </a:lnTo>
                    <a:lnTo>
                      <a:pt x="340" y="288"/>
                    </a:lnTo>
                    <a:lnTo>
                      <a:pt x="340" y="296"/>
                    </a:lnTo>
                    <a:lnTo>
                      <a:pt x="340" y="305"/>
                    </a:lnTo>
                    <a:lnTo>
                      <a:pt x="340" y="314"/>
                    </a:lnTo>
                    <a:lnTo>
                      <a:pt x="340" y="314"/>
                    </a:lnTo>
                    <a:lnTo>
                      <a:pt x="349" y="323"/>
                    </a:lnTo>
                    <a:lnTo>
                      <a:pt x="349" y="323"/>
                    </a:lnTo>
                    <a:lnTo>
                      <a:pt x="349" y="331"/>
                    </a:lnTo>
                    <a:lnTo>
                      <a:pt x="358" y="331"/>
                    </a:lnTo>
                    <a:lnTo>
                      <a:pt x="358" y="340"/>
                    </a:lnTo>
                    <a:lnTo>
                      <a:pt x="367" y="340"/>
                    </a:lnTo>
                    <a:lnTo>
                      <a:pt x="367" y="340"/>
                    </a:lnTo>
                    <a:lnTo>
                      <a:pt x="375" y="349"/>
                    </a:lnTo>
                    <a:lnTo>
                      <a:pt x="384" y="349"/>
                    </a:lnTo>
                    <a:lnTo>
                      <a:pt x="384" y="349"/>
                    </a:lnTo>
                    <a:lnTo>
                      <a:pt x="393" y="349"/>
                    </a:lnTo>
                    <a:close/>
                  </a:path>
                </a:pathLst>
              </a:custGeom>
              <a:solidFill>
                <a:srgbClr val="ccffcc"/>
              </a:solidFill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366360" y="1401120"/>
                <a:ext cx="261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99"/>
                    </a:solidFill>
                    <a:latin typeface="Arial Narrow"/>
                  </a:rPr>
                  <a:t> </a:t>
                </a:r>
                <a:r>
                  <a:rPr b="1" lang="en-US" sz="3000" spc="-1" strike="noStrike">
                    <a:solidFill>
                      <a:srgbClr val="000099"/>
                    </a:solidFill>
                    <a:latin typeface="Arial Narrow"/>
                  </a:rPr>
                  <a:t>$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1" name=""/>
              <p:cNvGrpSpPr/>
              <p:nvPr/>
            </p:nvGrpSpPr>
            <p:grpSpPr>
              <a:xfrm>
                <a:off x="3265920" y="1341720"/>
                <a:ext cx="707760" cy="460800"/>
                <a:chOff x="3265920" y="1341720"/>
                <a:chExt cx="707760" cy="460800"/>
              </a:xfrm>
            </p:grpSpPr>
            <p:sp>
              <p:nvSpPr>
                <p:cNvPr id="2762" name=""/>
                <p:cNvSpPr/>
                <p:nvPr/>
              </p:nvSpPr>
              <p:spPr>
                <a:xfrm>
                  <a:off x="3465000" y="1341720"/>
                  <a:ext cx="508680" cy="46080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3265920" y="1341720"/>
                  <a:ext cx="398520" cy="27432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4" name=""/>
            <p:cNvGrpSpPr/>
            <p:nvPr/>
          </p:nvGrpSpPr>
          <p:grpSpPr>
            <a:xfrm>
              <a:off x="3237840" y="2090160"/>
              <a:ext cx="779760" cy="853560"/>
              <a:chOff x="3237840" y="2090160"/>
              <a:chExt cx="779760" cy="853560"/>
            </a:xfrm>
          </p:grpSpPr>
          <p:sp>
            <p:nvSpPr>
              <p:cNvPr id="2765" name=""/>
              <p:cNvSpPr/>
              <p:nvPr/>
            </p:nvSpPr>
            <p:spPr>
              <a:xfrm>
                <a:off x="3237840" y="2090160"/>
                <a:ext cx="755280" cy="853560"/>
              </a:xfrm>
              <a:custGeom>
                <a:avLst/>
                <a:gdLst/>
                <a:ahLst/>
                <a:rect l="l" t="t" r="r" b="b"/>
                <a:pathLst>
                  <a:path w="436" h="523">
                    <a:moveTo>
                      <a:pt x="166" y="113"/>
                    </a:moveTo>
                    <a:lnTo>
                      <a:pt x="166" y="105"/>
                    </a:lnTo>
                    <a:lnTo>
                      <a:pt x="175" y="96"/>
                    </a:lnTo>
                    <a:lnTo>
                      <a:pt x="175" y="96"/>
                    </a:lnTo>
                    <a:lnTo>
                      <a:pt x="175" y="87"/>
                    </a:lnTo>
                    <a:lnTo>
                      <a:pt x="175" y="70"/>
                    </a:lnTo>
                    <a:lnTo>
                      <a:pt x="166" y="70"/>
                    </a:lnTo>
                    <a:lnTo>
                      <a:pt x="166" y="52"/>
                    </a:lnTo>
                    <a:lnTo>
                      <a:pt x="166" y="44"/>
                    </a:lnTo>
                    <a:lnTo>
                      <a:pt x="166" y="44"/>
                    </a:lnTo>
                    <a:lnTo>
                      <a:pt x="166" y="35"/>
                    </a:lnTo>
                    <a:lnTo>
                      <a:pt x="175" y="26"/>
                    </a:lnTo>
                    <a:lnTo>
                      <a:pt x="175" y="17"/>
                    </a:lnTo>
                    <a:lnTo>
                      <a:pt x="183" y="9"/>
                    </a:lnTo>
                    <a:lnTo>
                      <a:pt x="192" y="0"/>
                    </a:lnTo>
                    <a:lnTo>
                      <a:pt x="192" y="0"/>
                    </a:lnTo>
                    <a:lnTo>
                      <a:pt x="201" y="0"/>
                    </a:lnTo>
                    <a:lnTo>
                      <a:pt x="218" y="0"/>
                    </a:lnTo>
                    <a:lnTo>
                      <a:pt x="227" y="0"/>
                    </a:lnTo>
                    <a:lnTo>
                      <a:pt x="236" y="0"/>
                    </a:lnTo>
                    <a:lnTo>
                      <a:pt x="244" y="0"/>
                    </a:lnTo>
                    <a:lnTo>
                      <a:pt x="244" y="9"/>
                    </a:lnTo>
                    <a:lnTo>
                      <a:pt x="253" y="9"/>
                    </a:lnTo>
                    <a:lnTo>
                      <a:pt x="253" y="17"/>
                    </a:lnTo>
                    <a:lnTo>
                      <a:pt x="262" y="17"/>
                    </a:lnTo>
                    <a:lnTo>
                      <a:pt x="262" y="26"/>
                    </a:lnTo>
                    <a:lnTo>
                      <a:pt x="271" y="35"/>
                    </a:lnTo>
                    <a:lnTo>
                      <a:pt x="271" y="44"/>
                    </a:lnTo>
                    <a:lnTo>
                      <a:pt x="271" y="52"/>
                    </a:lnTo>
                    <a:lnTo>
                      <a:pt x="271" y="61"/>
                    </a:lnTo>
                    <a:lnTo>
                      <a:pt x="262" y="61"/>
                    </a:lnTo>
                    <a:lnTo>
                      <a:pt x="262" y="70"/>
                    </a:lnTo>
                    <a:lnTo>
                      <a:pt x="262" y="87"/>
                    </a:lnTo>
                    <a:lnTo>
                      <a:pt x="262" y="87"/>
                    </a:lnTo>
                    <a:lnTo>
                      <a:pt x="262" y="96"/>
                    </a:lnTo>
                    <a:lnTo>
                      <a:pt x="262" y="96"/>
                    </a:lnTo>
                    <a:lnTo>
                      <a:pt x="271" y="105"/>
                    </a:lnTo>
                    <a:lnTo>
                      <a:pt x="271" y="113"/>
                    </a:lnTo>
                    <a:lnTo>
                      <a:pt x="279" y="113"/>
                    </a:lnTo>
                    <a:lnTo>
                      <a:pt x="288" y="122"/>
                    </a:lnTo>
                    <a:lnTo>
                      <a:pt x="297" y="122"/>
                    </a:lnTo>
                    <a:lnTo>
                      <a:pt x="297" y="122"/>
                    </a:lnTo>
                    <a:lnTo>
                      <a:pt x="305" y="122"/>
                    </a:lnTo>
                    <a:lnTo>
                      <a:pt x="314" y="122"/>
                    </a:lnTo>
                    <a:lnTo>
                      <a:pt x="323" y="131"/>
                    </a:lnTo>
                    <a:lnTo>
                      <a:pt x="323" y="131"/>
                    </a:lnTo>
                    <a:lnTo>
                      <a:pt x="332" y="131"/>
                    </a:lnTo>
                    <a:lnTo>
                      <a:pt x="332" y="140"/>
                    </a:lnTo>
                    <a:lnTo>
                      <a:pt x="332" y="140"/>
                    </a:lnTo>
                    <a:lnTo>
                      <a:pt x="340" y="148"/>
                    </a:lnTo>
                    <a:lnTo>
                      <a:pt x="340" y="148"/>
                    </a:lnTo>
                    <a:lnTo>
                      <a:pt x="340" y="157"/>
                    </a:lnTo>
                    <a:lnTo>
                      <a:pt x="340" y="157"/>
                    </a:lnTo>
                    <a:lnTo>
                      <a:pt x="340" y="166"/>
                    </a:lnTo>
                    <a:lnTo>
                      <a:pt x="340" y="174"/>
                    </a:lnTo>
                    <a:lnTo>
                      <a:pt x="340" y="174"/>
                    </a:lnTo>
                    <a:lnTo>
                      <a:pt x="340" y="183"/>
                    </a:lnTo>
                    <a:lnTo>
                      <a:pt x="340" y="192"/>
                    </a:lnTo>
                    <a:lnTo>
                      <a:pt x="349" y="192"/>
                    </a:lnTo>
                    <a:lnTo>
                      <a:pt x="349" y="192"/>
                    </a:lnTo>
                    <a:lnTo>
                      <a:pt x="358" y="201"/>
                    </a:lnTo>
                    <a:lnTo>
                      <a:pt x="367" y="201"/>
                    </a:lnTo>
                    <a:lnTo>
                      <a:pt x="367" y="201"/>
                    </a:lnTo>
                    <a:lnTo>
                      <a:pt x="375" y="201"/>
                    </a:lnTo>
                    <a:lnTo>
                      <a:pt x="384" y="201"/>
                    </a:lnTo>
                    <a:lnTo>
                      <a:pt x="384" y="201"/>
                    </a:lnTo>
                    <a:lnTo>
                      <a:pt x="393" y="201"/>
                    </a:lnTo>
                    <a:lnTo>
                      <a:pt x="401" y="201"/>
                    </a:lnTo>
                    <a:lnTo>
                      <a:pt x="401" y="201"/>
                    </a:lnTo>
                    <a:lnTo>
                      <a:pt x="410" y="201"/>
                    </a:lnTo>
                    <a:lnTo>
                      <a:pt x="419" y="201"/>
                    </a:lnTo>
                    <a:lnTo>
                      <a:pt x="419" y="201"/>
                    </a:lnTo>
                    <a:lnTo>
                      <a:pt x="419" y="201"/>
                    </a:lnTo>
                    <a:lnTo>
                      <a:pt x="428" y="209"/>
                    </a:lnTo>
                    <a:lnTo>
                      <a:pt x="428" y="209"/>
                    </a:lnTo>
                    <a:lnTo>
                      <a:pt x="436" y="218"/>
                    </a:lnTo>
                    <a:lnTo>
                      <a:pt x="436" y="218"/>
                    </a:lnTo>
                    <a:lnTo>
                      <a:pt x="436" y="227"/>
                    </a:lnTo>
                    <a:lnTo>
                      <a:pt x="436" y="236"/>
                    </a:lnTo>
                    <a:lnTo>
                      <a:pt x="436" y="253"/>
                    </a:lnTo>
                    <a:lnTo>
                      <a:pt x="436" y="262"/>
                    </a:lnTo>
                    <a:lnTo>
                      <a:pt x="436" y="279"/>
                    </a:lnTo>
                    <a:lnTo>
                      <a:pt x="436" y="288"/>
                    </a:lnTo>
                    <a:lnTo>
                      <a:pt x="428" y="297"/>
                    </a:lnTo>
                    <a:lnTo>
                      <a:pt x="428" y="305"/>
                    </a:lnTo>
                    <a:lnTo>
                      <a:pt x="428" y="305"/>
                    </a:lnTo>
                    <a:lnTo>
                      <a:pt x="428" y="314"/>
                    </a:lnTo>
                    <a:lnTo>
                      <a:pt x="419" y="314"/>
                    </a:lnTo>
                    <a:lnTo>
                      <a:pt x="419" y="314"/>
                    </a:lnTo>
                    <a:lnTo>
                      <a:pt x="410" y="314"/>
                    </a:lnTo>
                    <a:lnTo>
                      <a:pt x="401" y="314"/>
                    </a:lnTo>
                    <a:lnTo>
                      <a:pt x="393" y="314"/>
                    </a:lnTo>
                    <a:lnTo>
                      <a:pt x="393" y="314"/>
                    </a:lnTo>
                    <a:lnTo>
                      <a:pt x="384" y="314"/>
                    </a:lnTo>
                    <a:lnTo>
                      <a:pt x="375" y="314"/>
                    </a:lnTo>
                    <a:lnTo>
                      <a:pt x="375" y="314"/>
                    </a:lnTo>
                    <a:lnTo>
                      <a:pt x="367" y="314"/>
                    </a:lnTo>
                    <a:lnTo>
                      <a:pt x="358" y="314"/>
                    </a:lnTo>
                    <a:lnTo>
                      <a:pt x="358" y="314"/>
                    </a:lnTo>
                    <a:lnTo>
                      <a:pt x="349" y="314"/>
                    </a:lnTo>
                    <a:lnTo>
                      <a:pt x="349" y="323"/>
                    </a:lnTo>
                    <a:lnTo>
                      <a:pt x="349" y="323"/>
                    </a:lnTo>
                    <a:lnTo>
                      <a:pt x="340" y="323"/>
                    </a:lnTo>
                    <a:lnTo>
                      <a:pt x="340" y="331"/>
                    </a:lnTo>
                    <a:lnTo>
                      <a:pt x="340" y="331"/>
                    </a:lnTo>
                    <a:lnTo>
                      <a:pt x="340" y="340"/>
                    </a:lnTo>
                    <a:lnTo>
                      <a:pt x="340" y="340"/>
                    </a:lnTo>
                    <a:lnTo>
                      <a:pt x="340" y="349"/>
                    </a:lnTo>
                    <a:lnTo>
                      <a:pt x="340" y="358"/>
                    </a:lnTo>
                    <a:lnTo>
                      <a:pt x="340" y="366"/>
                    </a:lnTo>
                    <a:lnTo>
                      <a:pt x="332" y="366"/>
                    </a:lnTo>
                    <a:lnTo>
                      <a:pt x="332" y="375"/>
                    </a:lnTo>
                    <a:lnTo>
                      <a:pt x="332" y="384"/>
                    </a:lnTo>
                    <a:lnTo>
                      <a:pt x="323" y="384"/>
                    </a:lnTo>
                    <a:lnTo>
                      <a:pt x="323" y="384"/>
                    </a:lnTo>
                    <a:lnTo>
                      <a:pt x="314" y="384"/>
                    </a:lnTo>
                    <a:lnTo>
                      <a:pt x="305" y="384"/>
                    </a:lnTo>
                    <a:lnTo>
                      <a:pt x="305" y="393"/>
                    </a:lnTo>
                    <a:lnTo>
                      <a:pt x="297" y="393"/>
                    </a:lnTo>
                    <a:lnTo>
                      <a:pt x="288" y="393"/>
                    </a:lnTo>
                    <a:lnTo>
                      <a:pt x="288" y="393"/>
                    </a:lnTo>
                    <a:lnTo>
                      <a:pt x="279" y="393"/>
                    </a:lnTo>
                    <a:lnTo>
                      <a:pt x="279" y="401"/>
                    </a:lnTo>
                    <a:lnTo>
                      <a:pt x="271" y="401"/>
                    </a:lnTo>
                    <a:lnTo>
                      <a:pt x="271" y="410"/>
                    </a:lnTo>
                    <a:lnTo>
                      <a:pt x="262" y="410"/>
                    </a:lnTo>
                    <a:lnTo>
                      <a:pt x="262" y="419"/>
                    </a:lnTo>
                    <a:lnTo>
                      <a:pt x="262" y="427"/>
                    </a:lnTo>
                    <a:lnTo>
                      <a:pt x="262" y="427"/>
                    </a:lnTo>
                    <a:lnTo>
                      <a:pt x="262" y="436"/>
                    </a:lnTo>
                    <a:lnTo>
                      <a:pt x="262" y="445"/>
                    </a:lnTo>
                    <a:lnTo>
                      <a:pt x="262" y="454"/>
                    </a:lnTo>
                    <a:lnTo>
                      <a:pt x="262" y="454"/>
                    </a:lnTo>
                    <a:lnTo>
                      <a:pt x="271" y="462"/>
                    </a:lnTo>
                    <a:lnTo>
                      <a:pt x="271" y="471"/>
                    </a:lnTo>
                    <a:lnTo>
                      <a:pt x="262" y="480"/>
                    </a:lnTo>
                    <a:lnTo>
                      <a:pt x="262" y="489"/>
                    </a:lnTo>
                    <a:lnTo>
                      <a:pt x="262" y="497"/>
                    </a:lnTo>
                    <a:lnTo>
                      <a:pt x="262" y="497"/>
                    </a:lnTo>
                    <a:lnTo>
                      <a:pt x="253" y="506"/>
                    </a:lnTo>
                    <a:lnTo>
                      <a:pt x="253" y="515"/>
                    </a:lnTo>
                    <a:lnTo>
                      <a:pt x="244" y="515"/>
                    </a:lnTo>
                    <a:lnTo>
                      <a:pt x="244" y="523"/>
                    </a:lnTo>
                    <a:lnTo>
                      <a:pt x="236" y="523"/>
                    </a:lnTo>
                    <a:lnTo>
                      <a:pt x="236" y="523"/>
                    </a:lnTo>
                    <a:lnTo>
                      <a:pt x="227" y="523"/>
                    </a:lnTo>
                    <a:lnTo>
                      <a:pt x="227" y="523"/>
                    </a:lnTo>
                    <a:lnTo>
                      <a:pt x="218" y="523"/>
                    </a:lnTo>
                    <a:lnTo>
                      <a:pt x="210" y="523"/>
                    </a:lnTo>
                    <a:lnTo>
                      <a:pt x="201" y="523"/>
                    </a:lnTo>
                    <a:lnTo>
                      <a:pt x="192" y="523"/>
                    </a:lnTo>
                    <a:lnTo>
                      <a:pt x="192" y="523"/>
                    </a:lnTo>
                    <a:lnTo>
                      <a:pt x="183" y="523"/>
                    </a:lnTo>
                    <a:lnTo>
                      <a:pt x="183" y="515"/>
                    </a:lnTo>
                    <a:lnTo>
                      <a:pt x="175" y="515"/>
                    </a:lnTo>
                    <a:lnTo>
                      <a:pt x="175" y="506"/>
                    </a:lnTo>
                    <a:lnTo>
                      <a:pt x="166" y="506"/>
                    </a:lnTo>
                    <a:lnTo>
                      <a:pt x="166" y="497"/>
                    </a:lnTo>
                    <a:lnTo>
                      <a:pt x="166" y="497"/>
                    </a:lnTo>
                    <a:lnTo>
                      <a:pt x="166" y="489"/>
                    </a:lnTo>
                    <a:lnTo>
                      <a:pt x="166" y="480"/>
                    </a:lnTo>
                    <a:lnTo>
                      <a:pt x="166" y="480"/>
                    </a:lnTo>
                    <a:lnTo>
                      <a:pt x="166" y="471"/>
                    </a:lnTo>
                    <a:lnTo>
                      <a:pt x="166" y="462"/>
                    </a:lnTo>
                    <a:lnTo>
                      <a:pt x="166" y="454"/>
                    </a:lnTo>
                    <a:lnTo>
                      <a:pt x="166" y="454"/>
                    </a:lnTo>
                    <a:lnTo>
                      <a:pt x="175" y="445"/>
                    </a:lnTo>
                    <a:lnTo>
                      <a:pt x="175" y="436"/>
                    </a:lnTo>
                    <a:lnTo>
                      <a:pt x="175" y="436"/>
                    </a:lnTo>
                    <a:lnTo>
                      <a:pt x="166" y="427"/>
                    </a:lnTo>
                    <a:lnTo>
                      <a:pt x="166" y="427"/>
                    </a:lnTo>
                    <a:lnTo>
                      <a:pt x="166" y="419"/>
                    </a:lnTo>
                    <a:lnTo>
                      <a:pt x="157" y="419"/>
                    </a:lnTo>
                    <a:lnTo>
                      <a:pt x="157" y="410"/>
                    </a:lnTo>
                    <a:lnTo>
                      <a:pt x="157" y="410"/>
                    </a:lnTo>
                    <a:lnTo>
                      <a:pt x="148" y="410"/>
                    </a:lnTo>
                    <a:lnTo>
                      <a:pt x="140" y="410"/>
                    </a:lnTo>
                    <a:lnTo>
                      <a:pt x="140" y="401"/>
                    </a:lnTo>
                    <a:lnTo>
                      <a:pt x="131" y="401"/>
                    </a:lnTo>
                    <a:lnTo>
                      <a:pt x="122" y="401"/>
                    </a:lnTo>
                    <a:lnTo>
                      <a:pt x="122" y="401"/>
                    </a:lnTo>
                    <a:lnTo>
                      <a:pt x="114" y="401"/>
                    </a:lnTo>
                    <a:lnTo>
                      <a:pt x="105" y="401"/>
                    </a:lnTo>
                    <a:lnTo>
                      <a:pt x="105" y="393"/>
                    </a:lnTo>
                    <a:lnTo>
                      <a:pt x="96" y="393"/>
                    </a:lnTo>
                    <a:lnTo>
                      <a:pt x="96" y="384"/>
                    </a:lnTo>
                    <a:lnTo>
                      <a:pt x="96" y="384"/>
                    </a:lnTo>
                    <a:lnTo>
                      <a:pt x="96" y="375"/>
                    </a:lnTo>
                    <a:lnTo>
                      <a:pt x="96" y="366"/>
                    </a:lnTo>
                    <a:lnTo>
                      <a:pt x="96" y="358"/>
                    </a:lnTo>
                    <a:lnTo>
                      <a:pt x="96" y="358"/>
                    </a:lnTo>
                    <a:lnTo>
                      <a:pt x="96" y="349"/>
                    </a:lnTo>
                    <a:lnTo>
                      <a:pt x="96" y="349"/>
                    </a:lnTo>
                    <a:lnTo>
                      <a:pt x="87" y="340"/>
                    </a:lnTo>
                    <a:lnTo>
                      <a:pt x="87" y="340"/>
                    </a:lnTo>
                    <a:lnTo>
                      <a:pt x="79" y="331"/>
                    </a:lnTo>
                    <a:lnTo>
                      <a:pt x="79" y="331"/>
                    </a:lnTo>
                    <a:lnTo>
                      <a:pt x="70" y="331"/>
                    </a:lnTo>
                    <a:lnTo>
                      <a:pt x="61" y="331"/>
                    </a:lnTo>
                    <a:lnTo>
                      <a:pt x="61" y="323"/>
                    </a:lnTo>
                    <a:lnTo>
                      <a:pt x="53" y="323"/>
                    </a:lnTo>
                    <a:lnTo>
                      <a:pt x="53" y="331"/>
                    </a:lnTo>
                    <a:lnTo>
                      <a:pt x="44" y="331"/>
                    </a:lnTo>
                    <a:lnTo>
                      <a:pt x="35" y="331"/>
                    </a:lnTo>
                    <a:lnTo>
                      <a:pt x="35" y="331"/>
                    </a:lnTo>
                    <a:lnTo>
                      <a:pt x="26" y="331"/>
                    </a:lnTo>
                    <a:lnTo>
                      <a:pt x="18" y="331"/>
                    </a:lnTo>
                    <a:lnTo>
                      <a:pt x="18" y="331"/>
                    </a:lnTo>
                    <a:lnTo>
                      <a:pt x="9" y="323"/>
                    </a:lnTo>
                    <a:lnTo>
                      <a:pt x="9" y="323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05"/>
                    </a:lnTo>
                    <a:lnTo>
                      <a:pt x="0" y="297"/>
                    </a:lnTo>
                    <a:lnTo>
                      <a:pt x="0" y="288"/>
                    </a:lnTo>
                    <a:lnTo>
                      <a:pt x="0" y="279"/>
                    </a:lnTo>
                    <a:lnTo>
                      <a:pt x="0" y="262"/>
                    </a:lnTo>
                    <a:lnTo>
                      <a:pt x="0" y="253"/>
                    </a:lnTo>
                    <a:lnTo>
                      <a:pt x="0" y="244"/>
                    </a:lnTo>
                    <a:lnTo>
                      <a:pt x="0" y="236"/>
                    </a:lnTo>
                    <a:lnTo>
                      <a:pt x="0" y="227"/>
                    </a:lnTo>
                    <a:lnTo>
                      <a:pt x="0" y="218"/>
                    </a:lnTo>
                    <a:lnTo>
                      <a:pt x="0" y="209"/>
                    </a:lnTo>
                    <a:lnTo>
                      <a:pt x="0" y="209"/>
                    </a:lnTo>
                    <a:lnTo>
                      <a:pt x="9" y="209"/>
                    </a:lnTo>
                    <a:lnTo>
                      <a:pt x="9" y="201"/>
                    </a:lnTo>
                    <a:lnTo>
                      <a:pt x="18" y="201"/>
                    </a:lnTo>
                    <a:lnTo>
                      <a:pt x="18" y="201"/>
                    </a:lnTo>
                    <a:lnTo>
                      <a:pt x="26" y="201"/>
                    </a:lnTo>
                    <a:lnTo>
                      <a:pt x="26" y="201"/>
                    </a:lnTo>
                    <a:lnTo>
                      <a:pt x="35" y="201"/>
                    </a:lnTo>
                    <a:lnTo>
                      <a:pt x="44" y="201"/>
                    </a:lnTo>
                    <a:lnTo>
                      <a:pt x="53" y="201"/>
                    </a:lnTo>
                    <a:lnTo>
                      <a:pt x="53" y="201"/>
                    </a:lnTo>
                    <a:lnTo>
                      <a:pt x="61" y="201"/>
                    </a:lnTo>
                    <a:lnTo>
                      <a:pt x="70" y="201"/>
                    </a:lnTo>
                    <a:lnTo>
                      <a:pt x="79" y="201"/>
                    </a:lnTo>
                    <a:lnTo>
                      <a:pt x="79" y="192"/>
                    </a:lnTo>
                    <a:lnTo>
                      <a:pt x="87" y="192"/>
                    </a:lnTo>
                    <a:lnTo>
                      <a:pt x="87" y="192"/>
                    </a:lnTo>
                    <a:lnTo>
                      <a:pt x="96" y="183"/>
                    </a:lnTo>
                    <a:lnTo>
                      <a:pt x="96" y="174"/>
                    </a:lnTo>
                    <a:lnTo>
                      <a:pt x="96" y="174"/>
                    </a:lnTo>
                    <a:lnTo>
                      <a:pt x="96" y="166"/>
                    </a:lnTo>
                    <a:lnTo>
                      <a:pt x="96" y="157"/>
                    </a:lnTo>
                    <a:lnTo>
                      <a:pt x="96" y="148"/>
                    </a:lnTo>
                    <a:lnTo>
                      <a:pt x="96" y="148"/>
                    </a:lnTo>
                    <a:lnTo>
                      <a:pt x="96" y="140"/>
                    </a:lnTo>
                    <a:lnTo>
                      <a:pt x="105" y="140"/>
                    </a:lnTo>
                    <a:lnTo>
                      <a:pt x="105" y="131"/>
                    </a:lnTo>
                    <a:lnTo>
                      <a:pt x="114" y="131"/>
                    </a:lnTo>
                    <a:lnTo>
                      <a:pt x="114" y="131"/>
                    </a:lnTo>
                    <a:lnTo>
                      <a:pt x="122" y="122"/>
                    </a:lnTo>
                    <a:lnTo>
                      <a:pt x="131" y="122"/>
                    </a:lnTo>
                    <a:lnTo>
                      <a:pt x="140" y="122"/>
                    </a:lnTo>
                    <a:lnTo>
                      <a:pt x="140" y="122"/>
                    </a:lnTo>
                    <a:lnTo>
                      <a:pt x="148" y="122"/>
                    </a:lnTo>
                    <a:lnTo>
                      <a:pt x="157" y="113"/>
                    </a:lnTo>
                    <a:lnTo>
                      <a:pt x="166" y="113"/>
                    </a:lnTo>
                    <a:close/>
                  </a:path>
                </a:pathLst>
              </a:custGeom>
              <a:solidFill>
                <a:srgbClr val="ffcccc"/>
              </a:solidFill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3283920" y="2329560"/>
                <a:ext cx="348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99"/>
                    </a:solidFill>
                    <a:latin typeface="Arial Narrow"/>
                  </a:rPr>
                  <a:t>  </a:t>
                </a:r>
                <a:r>
                  <a:rPr b="1" lang="en-US" sz="3000" spc="-1" strike="noStrike">
                    <a:solidFill>
                      <a:srgbClr val="000099"/>
                    </a:solidFill>
                    <a:latin typeface="Arial Narrow"/>
                  </a:rPr>
                  <a:t>$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7" name=""/>
              <p:cNvGrpSpPr/>
              <p:nvPr/>
            </p:nvGrpSpPr>
            <p:grpSpPr>
              <a:xfrm>
                <a:off x="3290400" y="2211120"/>
                <a:ext cx="727200" cy="639360"/>
                <a:chOff x="3290400" y="2211120"/>
                <a:chExt cx="727200" cy="639360"/>
              </a:xfrm>
            </p:grpSpPr>
            <p:sp>
              <p:nvSpPr>
                <p:cNvPr id="2768" name=""/>
                <p:cNvSpPr/>
                <p:nvPr/>
              </p:nvSpPr>
              <p:spPr>
                <a:xfrm>
                  <a:off x="3442680" y="2337840"/>
                  <a:ext cx="348120" cy="18540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3804840" y="2337840"/>
                  <a:ext cx="212760" cy="25704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3290400" y="2211120"/>
                  <a:ext cx="289440" cy="18540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3290400" y="2536560"/>
                  <a:ext cx="349920" cy="31392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2" name=""/>
            <p:cNvGrpSpPr/>
            <p:nvPr/>
          </p:nvGrpSpPr>
          <p:grpSpPr>
            <a:xfrm>
              <a:off x="3222720" y="3132720"/>
              <a:ext cx="781920" cy="711360"/>
              <a:chOff x="3222720" y="3132720"/>
              <a:chExt cx="781920" cy="711360"/>
            </a:xfrm>
          </p:grpSpPr>
          <p:sp>
            <p:nvSpPr>
              <p:cNvPr id="2773" name=""/>
              <p:cNvSpPr/>
              <p:nvPr/>
            </p:nvSpPr>
            <p:spPr>
              <a:xfrm>
                <a:off x="3222720" y="3189600"/>
                <a:ext cx="781920" cy="654480"/>
              </a:xfrm>
              <a:custGeom>
                <a:avLst/>
                <a:gdLst/>
                <a:ahLst/>
                <a:rect l="l" t="t" r="r" b="b"/>
                <a:pathLst>
                  <a:path w="392" h="349">
                    <a:moveTo>
                      <a:pt x="0" y="279"/>
                    </a:moveTo>
                    <a:lnTo>
                      <a:pt x="0" y="349"/>
                    </a:lnTo>
                    <a:lnTo>
                      <a:pt x="392" y="349"/>
                    </a:lnTo>
                    <a:lnTo>
                      <a:pt x="392" y="0"/>
                    </a:lnTo>
                    <a:lnTo>
                      <a:pt x="358" y="0"/>
                    </a:lnTo>
                    <a:lnTo>
                      <a:pt x="358" y="9"/>
                    </a:lnTo>
                    <a:lnTo>
                      <a:pt x="358" y="9"/>
                    </a:lnTo>
                    <a:lnTo>
                      <a:pt x="358" y="17"/>
                    </a:lnTo>
                    <a:lnTo>
                      <a:pt x="358" y="26"/>
                    </a:lnTo>
                    <a:lnTo>
                      <a:pt x="358" y="35"/>
                    </a:lnTo>
                    <a:lnTo>
                      <a:pt x="366" y="35"/>
                    </a:lnTo>
                    <a:lnTo>
                      <a:pt x="366" y="44"/>
                    </a:lnTo>
                    <a:lnTo>
                      <a:pt x="358" y="52"/>
                    </a:lnTo>
                    <a:lnTo>
                      <a:pt x="358" y="61"/>
                    </a:lnTo>
                    <a:lnTo>
                      <a:pt x="358" y="61"/>
                    </a:lnTo>
                    <a:lnTo>
                      <a:pt x="349" y="70"/>
                    </a:lnTo>
                    <a:lnTo>
                      <a:pt x="349" y="78"/>
                    </a:lnTo>
                    <a:lnTo>
                      <a:pt x="340" y="78"/>
                    </a:lnTo>
                    <a:lnTo>
                      <a:pt x="331" y="78"/>
                    </a:lnTo>
                    <a:lnTo>
                      <a:pt x="331" y="78"/>
                    </a:lnTo>
                    <a:lnTo>
                      <a:pt x="323" y="78"/>
                    </a:lnTo>
                    <a:lnTo>
                      <a:pt x="314" y="78"/>
                    </a:lnTo>
                    <a:lnTo>
                      <a:pt x="305" y="78"/>
                    </a:lnTo>
                    <a:lnTo>
                      <a:pt x="296" y="78"/>
                    </a:lnTo>
                    <a:lnTo>
                      <a:pt x="296" y="78"/>
                    </a:lnTo>
                    <a:lnTo>
                      <a:pt x="288" y="70"/>
                    </a:lnTo>
                    <a:lnTo>
                      <a:pt x="288" y="61"/>
                    </a:lnTo>
                    <a:lnTo>
                      <a:pt x="279" y="61"/>
                    </a:lnTo>
                    <a:lnTo>
                      <a:pt x="279" y="52"/>
                    </a:lnTo>
                    <a:lnTo>
                      <a:pt x="279" y="44"/>
                    </a:lnTo>
                    <a:lnTo>
                      <a:pt x="279" y="44"/>
                    </a:lnTo>
                    <a:lnTo>
                      <a:pt x="279" y="35"/>
                    </a:lnTo>
                    <a:lnTo>
                      <a:pt x="279" y="26"/>
                    </a:lnTo>
                    <a:lnTo>
                      <a:pt x="279" y="26"/>
                    </a:lnTo>
                    <a:lnTo>
                      <a:pt x="279" y="17"/>
                    </a:lnTo>
                    <a:lnTo>
                      <a:pt x="279" y="9"/>
                    </a:lnTo>
                    <a:lnTo>
                      <a:pt x="279" y="9"/>
                    </a:lnTo>
                    <a:lnTo>
                      <a:pt x="279" y="0"/>
                    </a:lnTo>
                    <a:lnTo>
                      <a:pt x="218" y="0"/>
                    </a:lnTo>
                    <a:lnTo>
                      <a:pt x="218" y="9"/>
                    </a:lnTo>
                    <a:lnTo>
                      <a:pt x="218" y="17"/>
                    </a:lnTo>
                    <a:lnTo>
                      <a:pt x="218" y="26"/>
                    </a:lnTo>
                    <a:lnTo>
                      <a:pt x="218" y="35"/>
                    </a:lnTo>
                    <a:lnTo>
                      <a:pt x="218" y="44"/>
                    </a:lnTo>
                    <a:lnTo>
                      <a:pt x="209" y="44"/>
                    </a:lnTo>
                    <a:lnTo>
                      <a:pt x="209" y="52"/>
                    </a:lnTo>
                    <a:lnTo>
                      <a:pt x="209" y="52"/>
                    </a:lnTo>
                    <a:lnTo>
                      <a:pt x="209" y="61"/>
                    </a:lnTo>
                    <a:lnTo>
                      <a:pt x="201" y="61"/>
                    </a:lnTo>
                    <a:lnTo>
                      <a:pt x="201" y="61"/>
                    </a:lnTo>
                    <a:lnTo>
                      <a:pt x="192" y="61"/>
                    </a:lnTo>
                    <a:lnTo>
                      <a:pt x="192" y="61"/>
                    </a:lnTo>
                    <a:lnTo>
                      <a:pt x="183" y="61"/>
                    </a:lnTo>
                    <a:lnTo>
                      <a:pt x="174" y="61"/>
                    </a:lnTo>
                    <a:lnTo>
                      <a:pt x="174" y="61"/>
                    </a:lnTo>
                    <a:lnTo>
                      <a:pt x="166" y="61"/>
                    </a:lnTo>
                    <a:lnTo>
                      <a:pt x="157" y="61"/>
                    </a:lnTo>
                    <a:lnTo>
                      <a:pt x="157" y="61"/>
                    </a:lnTo>
                    <a:lnTo>
                      <a:pt x="148" y="61"/>
                    </a:lnTo>
                    <a:lnTo>
                      <a:pt x="139" y="61"/>
                    </a:lnTo>
                    <a:lnTo>
                      <a:pt x="139" y="70"/>
                    </a:lnTo>
                    <a:lnTo>
                      <a:pt x="131" y="70"/>
                    </a:lnTo>
                    <a:lnTo>
                      <a:pt x="131" y="70"/>
                    </a:lnTo>
                    <a:lnTo>
                      <a:pt x="122" y="78"/>
                    </a:lnTo>
                    <a:lnTo>
                      <a:pt x="122" y="78"/>
                    </a:lnTo>
                    <a:lnTo>
                      <a:pt x="122" y="87"/>
                    </a:lnTo>
                    <a:lnTo>
                      <a:pt x="122" y="96"/>
                    </a:lnTo>
                    <a:lnTo>
                      <a:pt x="122" y="96"/>
                    </a:lnTo>
                    <a:lnTo>
                      <a:pt x="122" y="105"/>
                    </a:lnTo>
                    <a:lnTo>
                      <a:pt x="122" y="113"/>
                    </a:lnTo>
                    <a:lnTo>
                      <a:pt x="122" y="113"/>
                    </a:lnTo>
                    <a:lnTo>
                      <a:pt x="113" y="122"/>
                    </a:lnTo>
                    <a:lnTo>
                      <a:pt x="113" y="122"/>
                    </a:lnTo>
                    <a:lnTo>
                      <a:pt x="113" y="131"/>
                    </a:lnTo>
                    <a:lnTo>
                      <a:pt x="105" y="131"/>
                    </a:lnTo>
                    <a:lnTo>
                      <a:pt x="105" y="131"/>
                    </a:lnTo>
                    <a:lnTo>
                      <a:pt x="96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78" y="140"/>
                    </a:lnTo>
                    <a:lnTo>
                      <a:pt x="70" y="140"/>
                    </a:lnTo>
                    <a:lnTo>
                      <a:pt x="70" y="140"/>
                    </a:lnTo>
                    <a:lnTo>
                      <a:pt x="61" y="148"/>
                    </a:lnTo>
                    <a:lnTo>
                      <a:pt x="61" y="148"/>
                    </a:lnTo>
                    <a:lnTo>
                      <a:pt x="52" y="148"/>
                    </a:lnTo>
                    <a:lnTo>
                      <a:pt x="52" y="157"/>
                    </a:lnTo>
                    <a:lnTo>
                      <a:pt x="44" y="157"/>
                    </a:lnTo>
                    <a:lnTo>
                      <a:pt x="44" y="166"/>
                    </a:lnTo>
                    <a:lnTo>
                      <a:pt x="44" y="166"/>
                    </a:lnTo>
                    <a:lnTo>
                      <a:pt x="44" y="174"/>
                    </a:lnTo>
                    <a:lnTo>
                      <a:pt x="44" y="183"/>
                    </a:lnTo>
                    <a:lnTo>
                      <a:pt x="44" y="183"/>
                    </a:lnTo>
                    <a:lnTo>
                      <a:pt x="44" y="192"/>
                    </a:lnTo>
                    <a:lnTo>
                      <a:pt x="44" y="201"/>
                    </a:lnTo>
                    <a:lnTo>
                      <a:pt x="44" y="209"/>
                    </a:lnTo>
                    <a:lnTo>
                      <a:pt x="52" y="218"/>
                    </a:lnTo>
                    <a:lnTo>
                      <a:pt x="52" y="218"/>
                    </a:lnTo>
                    <a:lnTo>
                      <a:pt x="44" y="227"/>
                    </a:lnTo>
                    <a:lnTo>
                      <a:pt x="44" y="235"/>
                    </a:lnTo>
                    <a:lnTo>
                      <a:pt x="44" y="235"/>
                    </a:lnTo>
                    <a:lnTo>
                      <a:pt x="44" y="244"/>
                    </a:lnTo>
                    <a:lnTo>
                      <a:pt x="44" y="253"/>
                    </a:lnTo>
                    <a:lnTo>
                      <a:pt x="35" y="253"/>
                    </a:lnTo>
                    <a:lnTo>
                      <a:pt x="35" y="262"/>
                    </a:lnTo>
                    <a:lnTo>
                      <a:pt x="26" y="262"/>
                    </a:lnTo>
                    <a:lnTo>
                      <a:pt x="26" y="270"/>
                    </a:lnTo>
                    <a:lnTo>
                      <a:pt x="17" y="270"/>
                    </a:lnTo>
                    <a:lnTo>
                      <a:pt x="17" y="270"/>
                    </a:lnTo>
                    <a:lnTo>
                      <a:pt x="9" y="279"/>
                    </a:lnTo>
                    <a:lnTo>
                      <a:pt x="0" y="279"/>
                    </a:lnTo>
                    <a:lnTo>
                      <a:pt x="0" y="279"/>
                    </a:lnTo>
                    <a:close/>
                  </a:path>
                </a:pathLst>
              </a:custGeom>
              <a:solidFill>
                <a:srgbClr val="009999"/>
              </a:solidFill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3324960" y="3355560"/>
                <a:ext cx="348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33399"/>
                    </a:solidFill>
                    <a:latin typeface="Arial Narrow"/>
                  </a:rPr>
                  <a:t>  </a:t>
                </a:r>
                <a:r>
                  <a:rPr b="1" lang="en-US" sz="3000" spc="-1" strike="noStrike">
                    <a:solidFill>
                      <a:srgbClr val="333399"/>
                    </a:solidFill>
                    <a:latin typeface="Arial Narrow"/>
                  </a:rPr>
                  <a:t>$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5" name=""/>
              <p:cNvGrpSpPr/>
              <p:nvPr/>
            </p:nvGrpSpPr>
            <p:grpSpPr>
              <a:xfrm>
                <a:off x="3386160" y="3132720"/>
                <a:ext cx="542520" cy="636480"/>
                <a:chOff x="3386160" y="3132720"/>
                <a:chExt cx="542520" cy="636480"/>
              </a:xfrm>
            </p:grpSpPr>
            <p:sp>
              <p:nvSpPr>
                <p:cNvPr id="2776" name=""/>
                <p:cNvSpPr/>
                <p:nvPr/>
              </p:nvSpPr>
              <p:spPr>
                <a:xfrm>
                  <a:off x="3386160" y="3425760"/>
                  <a:ext cx="436680" cy="19584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3492000" y="3573360"/>
                  <a:ext cx="436680" cy="19584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3492000" y="3132720"/>
                  <a:ext cx="330840" cy="27828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79" name=""/>
            <p:cNvSpPr/>
            <p:nvPr/>
          </p:nvSpPr>
          <p:spPr>
            <a:xfrm>
              <a:off x="3265560" y="926280"/>
              <a:ext cx="13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ac"/>
                  </a:solidFill>
                  <a:latin typeface="Arial Narrow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0" name=""/>
          <p:cNvSpPr/>
          <p:nvPr/>
        </p:nvSpPr>
        <p:spPr>
          <a:xfrm>
            <a:off x="2747880" y="3938760"/>
            <a:ext cx="1569960" cy="1017360"/>
          </a:xfrm>
          <a:prstGeom prst="rect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o Estratégico  da Unidade de Negócio (PEU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4243320" y="3938760"/>
            <a:ext cx="1319400" cy="10141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fólio de Prod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uta de 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1428840" y="3938760"/>
            <a:ext cx="1392120" cy="1020600"/>
          </a:xfrm>
          <a:prstGeom prst="rect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o Estratégico da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ção (P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5562720" y="3938760"/>
            <a:ext cx="990360" cy="10141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o do 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0" y="3938760"/>
            <a:ext cx="1447920" cy="1020600"/>
          </a:xfrm>
          <a:prstGeom prst="rect">
            <a:avLst/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mentos Princip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1428840" y="4952880"/>
            <a:ext cx="1392120" cy="1020960"/>
          </a:xfrm>
          <a:prstGeom prst="rect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jamento Estratégico da Corpo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0" y="4952880"/>
            <a:ext cx="1447920" cy="1020960"/>
          </a:xfrm>
          <a:prstGeom prst="rect">
            <a:avLst/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0" y="5913360"/>
            <a:ext cx="1447920" cy="944640"/>
          </a:xfrm>
          <a:prstGeom prst="rect">
            <a:avLst/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4243320" y="6434280"/>
            <a:ext cx="4900680" cy="442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o de Desenvolvimento de Prod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9" name=""/>
          <p:cNvGrpSpPr/>
          <p:nvPr/>
        </p:nvGrpSpPr>
        <p:grpSpPr>
          <a:xfrm>
            <a:off x="5803920" y="979560"/>
            <a:ext cx="3362040" cy="913680"/>
            <a:chOff x="5803920" y="979560"/>
            <a:chExt cx="3362040" cy="913680"/>
          </a:xfrm>
        </p:grpSpPr>
        <p:grpSp>
          <p:nvGrpSpPr>
            <p:cNvPr id="2790" name=""/>
            <p:cNvGrpSpPr/>
            <p:nvPr/>
          </p:nvGrpSpPr>
          <p:grpSpPr>
            <a:xfrm>
              <a:off x="6413760" y="979560"/>
              <a:ext cx="2441160" cy="596160"/>
              <a:chOff x="6413760" y="979560"/>
              <a:chExt cx="2441160" cy="596160"/>
            </a:xfrm>
          </p:grpSpPr>
          <p:sp>
            <p:nvSpPr>
              <p:cNvPr id="2791" name=""/>
              <p:cNvSpPr/>
              <p:nvPr/>
            </p:nvSpPr>
            <p:spPr>
              <a:xfrm>
                <a:off x="7027920" y="97956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7470720" y="97956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8086680" y="97956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586560" y="97956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13760" y="112212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488640" y="11430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7182000" y="112212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7391160" y="11430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7624800" y="112212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7837920" y="11430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8242560" y="112212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8396280" y="11430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740640" y="112212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930720" y="11430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567480" y="126828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336080" y="126828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780320" y="126828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8" name=""/>
              <p:cNvGrpSpPr/>
              <p:nvPr/>
            </p:nvGrpSpPr>
            <p:grpSpPr>
              <a:xfrm>
                <a:off x="8332920" y="1160280"/>
                <a:ext cx="522000" cy="415440"/>
                <a:chOff x="8332920" y="1160280"/>
                <a:chExt cx="522000" cy="415440"/>
              </a:xfrm>
            </p:grpSpPr>
            <p:sp>
              <p:nvSpPr>
                <p:cNvPr id="2809" name=""/>
                <p:cNvSpPr/>
                <p:nvPr/>
              </p:nvSpPr>
              <p:spPr>
                <a:xfrm>
                  <a:off x="8352360" y="117900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8332920" y="116028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8332920" y="116028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2" name=""/>
              <p:cNvGrpSpPr/>
              <p:nvPr/>
            </p:nvGrpSpPr>
            <p:grpSpPr>
              <a:xfrm>
                <a:off x="6892920" y="1160280"/>
                <a:ext cx="501480" cy="415440"/>
                <a:chOff x="6892920" y="1160280"/>
                <a:chExt cx="501480" cy="415440"/>
              </a:xfrm>
            </p:grpSpPr>
            <p:sp>
              <p:nvSpPr>
                <p:cNvPr id="2813" name=""/>
                <p:cNvSpPr/>
                <p:nvPr/>
              </p:nvSpPr>
              <p:spPr>
                <a:xfrm>
                  <a:off x="6912720" y="117900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6892920" y="116028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6892920" y="116028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6" name=""/>
              <p:cNvGrpSpPr/>
              <p:nvPr/>
            </p:nvGrpSpPr>
            <p:grpSpPr>
              <a:xfrm>
                <a:off x="6451560" y="1160280"/>
                <a:ext cx="2346480" cy="415440"/>
                <a:chOff x="6451560" y="1160280"/>
                <a:chExt cx="2346480" cy="415440"/>
              </a:xfrm>
            </p:grpSpPr>
            <p:grpSp>
              <p:nvGrpSpPr>
                <p:cNvPr id="2817" name=""/>
                <p:cNvGrpSpPr/>
                <p:nvPr/>
              </p:nvGrpSpPr>
              <p:grpSpPr>
                <a:xfrm>
                  <a:off x="6451560" y="1160280"/>
                  <a:ext cx="501120" cy="415440"/>
                  <a:chOff x="6451560" y="1160280"/>
                  <a:chExt cx="501120" cy="415440"/>
                </a:xfrm>
              </p:grpSpPr>
              <p:sp>
                <p:nvSpPr>
                  <p:cNvPr id="2818" name=""/>
                  <p:cNvSpPr/>
                  <p:nvPr/>
                </p:nvSpPr>
                <p:spPr>
                  <a:xfrm>
                    <a:off x="6468840" y="117900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>
                    <a:off x="6451560" y="116028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>
                    <a:off x="6451560" y="116028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1" name=""/>
                <p:cNvGrpSpPr/>
                <p:nvPr/>
              </p:nvGrpSpPr>
              <p:grpSpPr>
                <a:xfrm>
                  <a:off x="7336080" y="1160280"/>
                  <a:ext cx="502560" cy="415440"/>
                  <a:chOff x="7336080" y="1160280"/>
                  <a:chExt cx="502560" cy="415440"/>
                </a:xfrm>
              </p:grpSpPr>
              <p:sp>
                <p:nvSpPr>
                  <p:cNvPr id="2822" name=""/>
                  <p:cNvSpPr/>
                  <p:nvPr/>
                </p:nvSpPr>
                <p:spPr>
                  <a:xfrm>
                    <a:off x="7355880" y="117900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3" name=""/>
                  <p:cNvSpPr/>
                  <p:nvPr/>
                </p:nvSpPr>
                <p:spPr>
                  <a:xfrm>
                    <a:off x="7336080" y="116028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4" name=""/>
                  <p:cNvSpPr/>
                  <p:nvPr/>
                </p:nvSpPr>
                <p:spPr>
                  <a:xfrm>
                    <a:off x="7336080" y="116028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5" name=""/>
                <p:cNvGrpSpPr/>
                <p:nvPr/>
              </p:nvGrpSpPr>
              <p:grpSpPr>
                <a:xfrm>
                  <a:off x="7799400" y="1160280"/>
                  <a:ext cx="498240" cy="415440"/>
                  <a:chOff x="7799400" y="1160280"/>
                  <a:chExt cx="498240" cy="415440"/>
                </a:xfrm>
              </p:grpSpPr>
              <p:sp>
                <p:nvSpPr>
                  <p:cNvPr id="2826" name=""/>
                  <p:cNvSpPr/>
                  <p:nvPr/>
                </p:nvSpPr>
                <p:spPr>
                  <a:xfrm>
                    <a:off x="7799400" y="117900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7" name=""/>
                  <p:cNvSpPr/>
                  <p:nvPr/>
                </p:nvSpPr>
                <p:spPr>
                  <a:xfrm>
                    <a:off x="7799400" y="116028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8" name=""/>
                  <p:cNvSpPr/>
                  <p:nvPr/>
                </p:nvSpPr>
                <p:spPr>
                  <a:xfrm>
                    <a:off x="7799400" y="116028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29" name=""/>
                <p:cNvSpPr/>
                <p:nvPr/>
              </p:nvSpPr>
              <p:spPr>
                <a:xfrm>
                  <a:off x="8398080" y="126792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6877080" y="126792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1" name=""/>
            <p:cNvGrpSpPr/>
            <p:nvPr/>
          </p:nvGrpSpPr>
          <p:grpSpPr>
            <a:xfrm>
              <a:off x="6546960" y="1138320"/>
              <a:ext cx="2441160" cy="596160"/>
              <a:chOff x="6546960" y="1138320"/>
              <a:chExt cx="2441160" cy="596160"/>
            </a:xfrm>
          </p:grpSpPr>
          <p:sp>
            <p:nvSpPr>
              <p:cNvPr id="2832" name=""/>
              <p:cNvSpPr/>
              <p:nvPr/>
            </p:nvSpPr>
            <p:spPr>
              <a:xfrm>
                <a:off x="7161120" y="113832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7603920" y="113832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8219880" y="113832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6719760" y="113832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6546960" y="128088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6621840" y="1301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7315200" y="128088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524360" y="1301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7758000" y="128088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971120" y="1301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8375760" y="128088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8529480" y="1301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6873840" y="128088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063920" y="1301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6700680" y="142704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7469280" y="142704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7913520" y="142704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9" name=""/>
              <p:cNvGrpSpPr/>
              <p:nvPr/>
            </p:nvGrpSpPr>
            <p:grpSpPr>
              <a:xfrm>
                <a:off x="8466120" y="1319040"/>
                <a:ext cx="522000" cy="415440"/>
                <a:chOff x="8466120" y="1319040"/>
                <a:chExt cx="522000" cy="415440"/>
              </a:xfrm>
            </p:grpSpPr>
            <p:sp>
              <p:nvSpPr>
                <p:cNvPr id="2850" name=""/>
                <p:cNvSpPr/>
                <p:nvPr/>
              </p:nvSpPr>
              <p:spPr>
                <a:xfrm>
                  <a:off x="8485560" y="133776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8466120" y="131904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8466120" y="131904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3" name=""/>
              <p:cNvGrpSpPr/>
              <p:nvPr/>
            </p:nvGrpSpPr>
            <p:grpSpPr>
              <a:xfrm>
                <a:off x="7026120" y="1319040"/>
                <a:ext cx="501480" cy="415440"/>
                <a:chOff x="7026120" y="1319040"/>
                <a:chExt cx="501480" cy="415440"/>
              </a:xfrm>
            </p:grpSpPr>
            <p:sp>
              <p:nvSpPr>
                <p:cNvPr id="2854" name=""/>
                <p:cNvSpPr/>
                <p:nvPr/>
              </p:nvSpPr>
              <p:spPr>
                <a:xfrm>
                  <a:off x="7045920" y="133776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7026120" y="131904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7026120" y="131904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7" name=""/>
              <p:cNvGrpSpPr/>
              <p:nvPr/>
            </p:nvGrpSpPr>
            <p:grpSpPr>
              <a:xfrm>
                <a:off x="6584760" y="1319040"/>
                <a:ext cx="2346480" cy="415440"/>
                <a:chOff x="6584760" y="1319040"/>
                <a:chExt cx="2346480" cy="415440"/>
              </a:xfrm>
            </p:grpSpPr>
            <p:grpSp>
              <p:nvGrpSpPr>
                <p:cNvPr id="2858" name=""/>
                <p:cNvGrpSpPr/>
                <p:nvPr/>
              </p:nvGrpSpPr>
              <p:grpSpPr>
                <a:xfrm>
                  <a:off x="6584760" y="1319040"/>
                  <a:ext cx="501120" cy="415440"/>
                  <a:chOff x="6584760" y="1319040"/>
                  <a:chExt cx="501120" cy="415440"/>
                </a:xfrm>
              </p:grpSpPr>
              <p:sp>
                <p:nvSpPr>
                  <p:cNvPr id="2859" name=""/>
                  <p:cNvSpPr/>
                  <p:nvPr/>
                </p:nvSpPr>
                <p:spPr>
                  <a:xfrm>
                    <a:off x="6602040" y="133776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>
                    <a:off x="6584760" y="131904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>
                    <a:off x="6584760" y="131904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2" name=""/>
                <p:cNvGrpSpPr/>
                <p:nvPr/>
              </p:nvGrpSpPr>
              <p:grpSpPr>
                <a:xfrm>
                  <a:off x="7469280" y="1319040"/>
                  <a:ext cx="502560" cy="415440"/>
                  <a:chOff x="7469280" y="1319040"/>
                  <a:chExt cx="502560" cy="415440"/>
                </a:xfrm>
              </p:grpSpPr>
              <p:sp>
                <p:nvSpPr>
                  <p:cNvPr id="2863" name=""/>
                  <p:cNvSpPr/>
                  <p:nvPr/>
                </p:nvSpPr>
                <p:spPr>
                  <a:xfrm>
                    <a:off x="7489080" y="133776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4" name=""/>
                  <p:cNvSpPr/>
                  <p:nvPr/>
                </p:nvSpPr>
                <p:spPr>
                  <a:xfrm>
                    <a:off x="7469280" y="131904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5" name=""/>
                  <p:cNvSpPr/>
                  <p:nvPr/>
                </p:nvSpPr>
                <p:spPr>
                  <a:xfrm>
                    <a:off x="7469280" y="131904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6" name=""/>
                <p:cNvGrpSpPr/>
                <p:nvPr/>
              </p:nvGrpSpPr>
              <p:grpSpPr>
                <a:xfrm>
                  <a:off x="7932600" y="1319040"/>
                  <a:ext cx="498240" cy="415440"/>
                  <a:chOff x="7932600" y="1319040"/>
                  <a:chExt cx="498240" cy="415440"/>
                </a:xfrm>
              </p:grpSpPr>
              <p:sp>
                <p:nvSpPr>
                  <p:cNvPr id="2867" name=""/>
                  <p:cNvSpPr/>
                  <p:nvPr/>
                </p:nvSpPr>
                <p:spPr>
                  <a:xfrm>
                    <a:off x="7932600" y="133776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8" name=""/>
                  <p:cNvSpPr/>
                  <p:nvPr/>
                </p:nvSpPr>
                <p:spPr>
                  <a:xfrm>
                    <a:off x="7932600" y="131904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>
                    <a:off x="7932600" y="131904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70" name=""/>
                <p:cNvSpPr/>
                <p:nvPr/>
              </p:nvSpPr>
              <p:spPr>
                <a:xfrm>
                  <a:off x="8531280" y="142668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7010280" y="142668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72" name=""/>
            <p:cNvSpPr/>
            <p:nvPr/>
          </p:nvSpPr>
          <p:spPr>
            <a:xfrm>
              <a:off x="6534360" y="1252440"/>
              <a:ext cx="4032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3" name=""/>
            <p:cNvGrpSpPr/>
            <p:nvPr/>
          </p:nvGrpSpPr>
          <p:grpSpPr>
            <a:xfrm>
              <a:off x="6724800" y="1297080"/>
              <a:ext cx="2441160" cy="596160"/>
              <a:chOff x="6724800" y="1297080"/>
              <a:chExt cx="2441160" cy="596160"/>
            </a:xfrm>
          </p:grpSpPr>
          <p:sp>
            <p:nvSpPr>
              <p:cNvPr id="2874" name=""/>
              <p:cNvSpPr/>
              <p:nvPr/>
            </p:nvSpPr>
            <p:spPr>
              <a:xfrm>
                <a:off x="7338960" y="129708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781760" y="129708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8397720" y="129708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6897600" y="129708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6724800" y="143964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6799680" y="1460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493040" y="143964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702200" y="1460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935840" y="143964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8148960" y="1460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8553600" y="143964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8707320" y="1460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051680" y="143964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241760" y="1460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878520" y="158580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647120" y="158580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8091360" y="158580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1" name=""/>
              <p:cNvGrpSpPr/>
              <p:nvPr/>
            </p:nvGrpSpPr>
            <p:grpSpPr>
              <a:xfrm>
                <a:off x="8643960" y="1477800"/>
                <a:ext cx="522000" cy="415440"/>
                <a:chOff x="8643960" y="1477800"/>
                <a:chExt cx="522000" cy="415440"/>
              </a:xfrm>
            </p:grpSpPr>
            <p:sp>
              <p:nvSpPr>
                <p:cNvPr id="2892" name=""/>
                <p:cNvSpPr/>
                <p:nvPr/>
              </p:nvSpPr>
              <p:spPr>
                <a:xfrm>
                  <a:off x="8663400" y="149652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8643960" y="147780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8643960" y="147780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5" name=""/>
              <p:cNvGrpSpPr/>
              <p:nvPr/>
            </p:nvGrpSpPr>
            <p:grpSpPr>
              <a:xfrm>
                <a:off x="7203960" y="1477800"/>
                <a:ext cx="501480" cy="415440"/>
                <a:chOff x="7203960" y="1477800"/>
                <a:chExt cx="501480" cy="415440"/>
              </a:xfrm>
            </p:grpSpPr>
            <p:sp>
              <p:nvSpPr>
                <p:cNvPr id="2896" name=""/>
                <p:cNvSpPr/>
                <p:nvPr/>
              </p:nvSpPr>
              <p:spPr>
                <a:xfrm>
                  <a:off x="7223760" y="149652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7203960" y="147780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7203960" y="147780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9" name=""/>
              <p:cNvGrpSpPr/>
              <p:nvPr/>
            </p:nvGrpSpPr>
            <p:grpSpPr>
              <a:xfrm>
                <a:off x="6762600" y="1477800"/>
                <a:ext cx="2346480" cy="415440"/>
                <a:chOff x="6762600" y="1477800"/>
                <a:chExt cx="2346480" cy="415440"/>
              </a:xfrm>
            </p:grpSpPr>
            <p:grpSp>
              <p:nvGrpSpPr>
                <p:cNvPr id="2900" name=""/>
                <p:cNvGrpSpPr/>
                <p:nvPr/>
              </p:nvGrpSpPr>
              <p:grpSpPr>
                <a:xfrm>
                  <a:off x="6762600" y="1477800"/>
                  <a:ext cx="501120" cy="415440"/>
                  <a:chOff x="6762600" y="1477800"/>
                  <a:chExt cx="501120" cy="415440"/>
                </a:xfrm>
              </p:grpSpPr>
              <p:sp>
                <p:nvSpPr>
                  <p:cNvPr id="2901" name=""/>
                  <p:cNvSpPr/>
                  <p:nvPr/>
                </p:nvSpPr>
                <p:spPr>
                  <a:xfrm>
                    <a:off x="6779880" y="149652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>
                    <a:off x="6762600" y="147780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3" name=""/>
                  <p:cNvSpPr/>
                  <p:nvPr/>
                </p:nvSpPr>
                <p:spPr>
                  <a:xfrm>
                    <a:off x="6762600" y="147780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4" name=""/>
                <p:cNvGrpSpPr/>
                <p:nvPr/>
              </p:nvGrpSpPr>
              <p:grpSpPr>
                <a:xfrm>
                  <a:off x="7647120" y="1477800"/>
                  <a:ext cx="502560" cy="415440"/>
                  <a:chOff x="7647120" y="1477800"/>
                  <a:chExt cx="502560" cy="415440"/>
                </a:xfrm>
              </p:grpSpPr>
              <p:sp>
                <p:nvSpPr>
                  <p:cNvPr id="2905" name=""/>
                  <p:cNvSpPr/>
                  <p:nvPr/>
                </p:nvSpPr>
                <p:spPr>
                  <a:xfrm>
                    <a:off x="7666920" y="149652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6" name=""/>
                  <p:cNvSpPr/>
                  <p:nvPr/>
                </p:nvSpPr>
                <p:spPr>
                  <a:xfrm>
                    <a:off x="7647120" y="147780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>
                    <a:off x="7647120" y="147780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8" name=""/>
                <p:cNvGrpSpPr/>
                <p:nvPr/>
              </p:nvGrpSpPr>
              <p:grpSpPr>
                <a:xfrm>
                  <a:off x="8110440" y="1477800"/>
                  <a:ext cx="498240" cy="415440"/>
                  <a:chOff x="8110440" y="1477800"/>
                  <a:chExt cx="498240" cy="415440"/>
                </a:xfrm>
              </p:grpSpPr>
              <p:sp>
                <p:nvSpPr>
                  <p:cNvPr id="2909" name=""/>
                  <p:cNvSpPr/>
                  <p:nvPr/>
                </p:nvSpPr>
                <p:spPr>
                  <a:xfrm>
                    <a:off x="8110440" y="149652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0" name=""/>
                  <p:cNvSpPr/>
                  <p:nvPr/>
                </p:nvSpPr>
                <p:spPr>
                  <a:xfrm>
                    <a:off x="8110440" y="147780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1" name=""/>
                  <p:cNvSpPr/>
                  <p:nvPr/>
                </p:nvSpPr>
                <p:spPr>
                  <a:xfrm>
                    <a:off x="8110440" y="147780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12" name=""/>
                <p:cNvSpPr/>
                <p:nvPr/>
              </p:nvSpPr>
              <p:spPr>
                <a:xfrm>
                  <a:off x="8709120" y="158544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7188120" y="158544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4" name=""/>
            <p:cNvGrpSpPr/>
            <p:nvPr/>
          </p:nvGrpSpPr>
          <p:grpSpPr>
            <a:xfrm>
              <a:off x="5803920" y="1287360"/>
              <a:ext cx="402120" cy="470160"/>
              <a:chOff x="5803920" y="1287360"/>
              <a:chExt cx="402120" cy="470160"/>
            </a:xfrm>
          </p:grpSpPr>
          <p:grpSp>
            <p:nvGrpSpPr>
              <p:cNvPr id="2915" name=""/>
              <p:cNvGrpSpPr/>
              <p:nvPr/>
            </p:nvGrpSpPr>
            <p:grpSpPr>
              <a:xfrm>
                <a:off x="5803920" y="1287360"/>
                <a:ext cx="247680" cy="325080"/>
                <a:chOff x="5803920" y="1287360"/>
                <a:chExt cx="247680" cy="325080"/>
              </a:xfrm>
            </p:grpSpPr>
            <p:grpSp>
              <p:nvGrpSpPr>
                <p:cNvPr id="2916" name=""/>
                <p:cNvGrpSpPr/>
                <p:nvPr/>
              </p:nvGrpSpPr>
              <p:grpSpPr>
                <a:xfrm>
                  <a:off x="5803920" y="1287360"/>
                  <a:ext cx="247680" cy="325080"/>
                  <a:chOff x="5803920" y="1287360"/>
                  <a:chExt cx="247680" cy="325080"/>
                </a:xfrm>
              </p:grpSpPr>
              <p:sp>
                <p:nvSpPr>
                  <p:cNvPr id="2917" name=""/>
                  <p:cNvSpPr/>
                  <p:nvPr/>
                </p:nvSpPr>
                <p:spPr>
                  <a:xfrm>
                    <a:off x="5803920" y="128736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8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8" name=""/>
                  <p:cNvSpPr/>
                  <p:nvPr/>
                </p:nvSpPr>
                <p:spPr>
                  <a:xfrm>
                    <a:off x="5803920" y="128736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8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9" name=""/>
                <p:cNvGrpSpPr/>
                <p:nvPr/>
              </p:nvGrpSpPr>
              <p:grpSpPr>
                <a:xfrm>
                  <a:off x="6015240" y="1287360"/>
                  <a:ext cx="36360" cy="36720"/>
                  <a:chOff x="6015240" y="1287360"/>
                  <a:chExt cx="36360" cy="36720"/>
                </a:xfrm>
              </p:grpSpPr>
              <p:sp>
                <p:nvSpPr>
                  <p:cNvPr id="2920" name=""/>
                  <p:cNvSpPr/>
                  <p:nvPr/>
                </p:nvSpPr>
                <p:spPr>
                  <a:xfrm>
                    <a:off x="6015240" y="1287360"/>
                    <a:ext cx="36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0" y="0"/>
                        </a:moveTo>
                        <a:lnTo>
                          <a:pt x="17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1" name=""/>
                  <p:cNvSpPr/>
                  <p:nvPr/>
                </p:nvSpPr>
                <p:spPr>
                  <a:xfrm>
                    <a:off x="6015240" y="1287360"/>
                    <a:ext cx="36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0" y="0"/>
                        </a:moveTo>
                        <a:lnTo>
                          <a:pt x="17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22" name=""/>
              <p:cNvGrpSpPr/>
              <p:nvPr/>
            </p:nvGrpSpPr>
            <p:grpSpPr>
              <a:xfrm>
                <a:off x="5881320" y="1359720"/>
                <a:ext cx="247680" cy="325080"/>
                <a:chOff x="5881320" y="1359720"/>
                <a:chExt cx="247680" cy="325080"/>
              </a:xfrm>
            </p:grpSpPr>
            <p:grpSp>
              <p:nvGrpSpPr>
                <p:cNvPr id="2923" name=""/>
                <p:cNvGrpSpPr/>
                <p:nvPr/>
              </p:nvGrpSpPr>
              <p:grpSpPr>
                <a:xfrm>
                  <a:off x="5881320" y="1359720"/>
                  <a:ext cx="247680" cy="325080"/>
                  <a:chOff x="5881320" y="1359720"/>
                  <a:chExt cx="247680" cy="325080"/>
                </a:xfrm>
              </p:grpSpPr>
              <p:sp>
                <p:nvSpPr>
                  <p:cNvPr id="2924" name=""/>
                  <p:cNvSpPr/>
                  <p:nvPr/>
                </p:nvSpPr>
                <p:spPr>
                  <a:xfrm>
                    <a:off x="5881320" y="135972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7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5" name=""/>
                  <p:cNvSpPr/>
                  <p:nvPr/>
                </p:nvSpPr>
                <p:spPr>
                  <a:xfrm>
                    <a:off x="5881320" y="135972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7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6" name=""/>
                <p:cNvGrpSpPr/>
                <p:nvPr/>
              </p:nvGrpSpPr>
              <p:grpSpPr>
                <a:xfrm>
                  <a:off x="6091920" y="1359720"/>
                  <a:ext cx="36720" cy="34920"/>
                  <a:chOff x="6091920" y="1359720"/>
                  <a:chExt cx="36720" cy="34920"/>
                </a:xfrm>
              </p:grpSpPr>
              <p:sp>
                <p:nvSpPr>
                  <p:cNvPr id="2927" name=""/>
                  <p:cNvSpPr/>
                  <p:nvPr/>
                </p:nvSpPr>
                <p:spPr>
                  <a:xfrm>
                    <a:off x="6091920" y="135972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8" name=""/>
                  <p:cNvSpPr/>
                  <p:nvPr/>
                </p:nvSpPr>
                <p:spPr>
                  <a:xfrm>
                    <a:off x="6091920" y="135972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29" name=""/>
              <p:cNvGrpSpPr/>
              <p:nvPr/>
            </p:nvGrpSpPr>
            <p:grpSpPr>
              <a:xfrm>
                <a:off x="5938200" y="1432080"/>
                <a:ext cx="267840" cy="325440"/>
                <a:chOff x="5938200" y="1432080"/>
                <a:chExt cx="267840" cy="325440"/>
              </a:xfrm>
            </p:grpSpPr>
            <p:grpSp>
              <p:nvGrpSpPr>
                <p:cNvPr id="2930" name=""/>
                <p:cNvGrpSpPr/>
                <p:nvPr/>
              </p:nvGrpSpPr>
              <p:grpSpPr>
                <a:xfrm>
                  <a:off x="5938200" y="1432080"/>
                  <a:ext cx="267840" cy="325440"/>
                  <a:chOff x="5938200" y="1432080"/>
                  <a:chExt cx="267840" cy="325440"/>
                </a:xfrm>
              </p:grpSpPr>
              <p:sp>
                <p:nvSpPr>
                  <p:cNvPr id="2931" name=""/>
                  <p:cNvSpPr/>
                  <p:nvPr/>
                </p:nvSpPr>
                <p:spPr>
                  <a:xfrm>
                    <a:off x="5938200" y="1432080"/>
                    <a:ext cx="26784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57">
                        <a:moveTo>
                          <a:pt x="105" y="0"/>
                        </a:moveTo>
                        <a:lnTo>
                          <a:pt x="122" y="17"/>
                        </a:lnTo>
                        <a:lnTo>
                          <a:pt x="122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2" name=""/>
                  <p:cNvSpPr/>
                  <p:nvPr/>
                </p:nvSpPr>
                <p:spPr>
                  <a:xfrm>
                    <a:off x="5938200" y="1432080"/>
                    <a:ext cx="26784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57">
                        <a:moveTo>
                          <a:pt x="105" y="0"/>
                        </a:moveTo>
                        <a:lnTo>
                          <a:pt x="122" y="17"/>
                        </a:lnTo>
                        <a:lnTo>
                          <a:pt x="122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105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3" name=""/>
                <p:cNvGrpSpPr/>
                <p:nvPr/>
              </p:nvGrpSpPr>
              <p:grpSpPr>
                <a:xfrm>
                  <a:off x="6168960" y="1432080"/>
                  <a:ext cx="36720" cy="34920"/>
                  <a:chOff x="6168960" y="1432080"/>
                  <a:chExt cx="36720" cy="34920"/>
                </a:xfrm>
              </p:grpSpPr>
              <p:sp>
                <p:nvSpPr>
                  <p:cNvPr id="2934" name=""/>
                  <p:cNvSpPr/>
                  <p:nvPr/>
                </p:nvSpPr>
                <p:spPr>
                  <a:xfrm>
                    <a:off x="6168960" y="143208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5" name=""/>
                  <p:cNvSpPr/>
                  <p:nvPr/>
                </p:nvSpPr>
                <p:spPr>
                  <a:xfrm>
                    <a:off x="6168960" y="143208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936" name=""/>
          <p:cNvGrpSpPr/>
          <p:nvPr/>
        </p:nvGrpSpPr>
        <p:grpSpPr>
          <a:xfrm>
            <a:off x="5803920" y="1938240"/>
            <a:ext cx="3362040" cy="913680"/>
            <a:chOff x="5803920" y="1938240"/>
            <a:chExt cx="3362040" cy="913680"/>
          </a:xfrm>
        </p:grpSpPr>
        <p:grpSp>
          <p:nvGrpSpPr>
            <p:cNvPr id="2937" name=""/>
            <p:cNvGrpSpPr/>
            <p:nvPr/>
          </p:nvGrpSpPr>
          <p:grpSpPr>
            <a:xfrm>
              <a:off x="6413760" y="1938240"/>
              <a:ext cx="2441160" cy="596160"/>
              <a:chOff x="6413760" y="1938240"/>
              <a:chExt cx="2441160" cy="596160"/>
            </a:xfrm>
          </p:grpSpPr>
          <p:sp>
            <p:nvSpPr>
              <p:cNvPr id="2938" name=""/>
              <p:cNvSpPr/>
              <p:nvPr/>
            </p:nvSpPr>
            <p:spPr>
              <a:xfrm>
                <a:off x="7027920" y="193824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470720" y="193824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8086680" y="193824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6586560" y="193824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6413760" y="208080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6488640" y="21016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7182000" y="208080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391160" y="21016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624800" y="208080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837920" y="21016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8242560" y="208080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8396280" y="21016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6740640" y="208080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6930720" y="21016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6567480" y="222696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336080" y="222696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7780320" y="222696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5" name=""/>
              <p:cNvGrpSpPr/>
              <p:nvPr/>
            </p:nvGrpSpPr>
            <p:grpSpPr>
              <a:xfrm>
                <a:off x="8332920" y="2118960"/>
                <a:ext cx="522000" cy="415440"/>
                <a:chOff x="8332920" y="2118960"/>
                <a:chExt cx="522000" cy="415440"/>
              </a:xfrm>
            </p:grpSpPr>
            <p:sp>
              <p:nvSpPr>
                <p:cNvPr id="2956" name=""/>
                <p:cNvSpPr/>
                <p:nvPr/>
              </p:nvSpPr>
              <p:spPr>
                <a:xfrm>
                  <a:off x="8352360" y="213768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8332920" y="211896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8332920" y="211896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9" name=""/>
              <p:cNvGrpSpPr/>
              <p:nvPr/>
            </p:nvGrpSpPr>
            <p:grpSpPr>
              <a:xfrm>
                <a:off x="6892920" y="2118960"/>
                <a:ext cx="501480" cy="415440"/>
                <a:chOff x="6892920" y="2118960"/>
                <a:chExt cx="501480" cy="415440"/>
              </a:xfrm>
            </p:grpSpPr>
            <p:sp>
              <p:nvSpPr>
                <p:cNvPr id="2960" name=""/>
                <p:cNvSpPr/>
                <p:nvPr/>
              </p:nvSpPr>
              <p:spPr>
                <a:xfrm>
                  <a:off x="6912720" y="213768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6892920" y="211896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6892920" y="211896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3" name=""/>
              <p:cNvGrpSpPr/>
              <p:nvPr/>
            </p:nvGrpSpPr>
            <p:grpSpPr>
              <a:xfrm>
                <a:off x="6451560" y="2118960"/>
                <a:ext cx="2346480" cy="415440"/>
                <a:chOff x="6451560" y="2118960"/>
                <a:chExt cx="2346480" cy="415440"/>
              </a:xfrm>
            </p:grpSpPr>
            <p:grpSp>
              <p:nvGrpSpPr>
                <p:cNvPr id="2964" name=""/>
                <p:cNvGrpSpPr/>
                <p:nvPr/>
              </p:nvGrpSpPr>
              <p:grpSpPr>
                <a:xfrm>
                  <a:off x="6451560" y="2118960"/>
                  <a:ext cx="501120" cy="415440"/>
                  <a:chOff x="6451560" y="2118960"/>
                  <a:chExt cx="501120" cy="415440"/>
                </a:xfrm>
              </p:grpSpPr>
              <p:sp>
                <p:nvSpPr>
                  <p:cNvPr id="2965" name=""/>
                  <p:cNvSpPr/>
                  <p:nvPr/>
                </p:nvSpPr>
                <p:spPr>
                  <a:xfrm>
                    <a:off x="6468840" y="213768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6" name=""/>
                  <p:cNvSpPr/>
                  <p:nvPr/>
                </p:nvSpPr>
                <p:spPr>
                  <a:xfrm>
                    <a:off x="6451560" y="211896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7" name=""/>
                  <p:cNvSpPr/>
                  <p:nvPr/>
                </p:nvSpPr>
                <p:spPr>
                  <a:xfrm>
                    <a:off x="6451560" y="211896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8" name=""/>
                <p:cNvGrpSpPr/>
                <p:nvPr/>
              </p:nvGrpSpPr>
              <p:grpSpPr>
                <a:xfrm>
                  <a:off x="7336080" y="2118960"/>
                  <a:ext cx="502560" cy="415440"/>
                  <a:chOff x="7336080" y="2118960"/>
                  <a:chExt cx="502560" cy="415440"/>
                </a:xfrm>
              </p:grpSpPr>
              <p:sp>
                <p:nvSpPr>
                  <p:cNvPr id="2969" name=""/>
                  <p:cNvSpPr/>
                  <p:nvPr/>
                </p:nvSpPr>
                <p:spPr>
                  <a:xfrm>
                    <a:off x="7355880" y="213768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0" name=""/>
                  <p:cNvSpPr/>
                  <p:nvPr/>
                </p:nvSpPr>
                <p:spPr>
                  <a:xfrm>
                    <a:off x="7336080" y="211896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1" name=""/>
                  <p:cNvSpPr/>
                  <p:nvPr/>
                </p:nvSpPr>
                <p:spPr>
                  <a:xfrm>
                    <a:off x="7336080" y="211896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2" name=""/>
                <p:cNvGrpSpPr/>
                <p:nvPr/>
              </p:nvGrpSpPr>
              <p:grpSpPr>
                <a:xfrm>
                  <a:off x="7799400" y="2118960"/>
                  <a:ext cx="498240" cy="415440"/>
                  <a:chOff x="7799400" y="2118960"/>
                  <a:chExt cx="498240" cy="415440"/>
                </a:xfrm>
              </p:grpSpPr>
              <p:sp>
                <p:nvSpPr>
                  <p:cNvPr id="2973" name=""/>
                  <p:cNvSpPr/>
                  <p:nvPr/>
                </p:nvSpPr>
                <p:spPr>
                  <a:xfrm>
                    <a:off x="7799400" y="213768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4" name=""/>
                  <p:cNvSpPr/>
                  <p:nvPr/>
                </p:nvSpPr>
                <p:spPr>
                  <a:xfrm>
                    <a:off x="7799400" y="211896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5" name=""/>
                  <p:cNvSpPr/>
                  <p:nvPr/>
                </p:nvSpPr>
                <p:spPr>
                  <a:xfrm>
                    <a:off x="7799400" y="211896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6" name=""/>
                <p:cNvSpPr/>
                <p:nvPr/>
              </p:nvSpPr>
              <p:spPr>
                <a:xfrm>
                  <a:off x="8398080" y="222660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6877080" y="222660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78" name=""/>
            <p:cNvGrpSpPr/>
            <p:nvPr/>
          </p:nvGrpSpPr>
          <p:grpSpPr>
            <a:xfrm>
              <a:off x="6546960" y="2097000"/>
              <a:ext cx="2441160" cy="596160"/>
              <a:chOff x="6546960" y="2097000"/>
              <a:chExt cx="2441160" cy="596160"/>
            </a:xfrm>
          </p:grpSpPr>
          <p:sp>
            <p:nvSpPr>
              <p:cNvPr id="2979" name=""/>
              <p:cNvSpPr/>
              <p:nvPr/>
            </p:nvSpPr>
            <p:spPr>
              <a:xfrm>
                <a:off x="7161120" y="209700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603920" y="209700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8219880" y="209700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719760" y="209700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546960" y="223956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621840" y="2260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315200" y="223956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524360" y="2260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758000" y="223956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971120" y="2260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8375760" y="223956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8529480" y="2260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6873840" y="223956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7063920" y="2260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6700680" y="238572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469280" y="238572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7913520" y="238572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96" name=""/>
              <p:cNvGrpSpPr/>
              <p:nvPr/>
            </p:nvGrpSpPr>
            <p:grpSpPr>
              <a:xfrm>
                <a:off x="8466120" y="2277720"/>
                <a:ext cx="522000" cy="415440"/>
                <a:chOff x="8466120" y="2277720"/>
                <a:chExt cx="522000" cy="415440"/>
              </a:xfrm>
            </p:grpSpPr>
            <p:sp>
              <p:nvSpPr>
                <p:cNvPr id="2997" name=""/>
                <p:cNvSpPr/>
                <p:nvPr/>
              </p:nvSpPr>
              <p:spPr>
                <a:xfrm>
                  <a:off x="8485560" y="229644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8466120" y="227772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8466120" y="227772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0" name=""/>
              <p:cNvGrpSpPr/>
              <p:nvPr/>
            </p:nvGrpSpPr>
            <p:grpSpPr>
              <a:xfrm>
                <a:off x="7026120" y="2277720"/>
                <a:ext cx="501480" cy="415440"/>
                <a:chOff x="7026120" y="2277720"/>
                <a:chExt cx="501480" cy="415440"/>
              </a:xfrm>
            </p:grpSpPr>
            <p:sp>
              <p:nvSpPr>
                <p:cNvPr id="3001" name=""/>
                <p:cNvSpPr/>
                <p:nvPr/>
              </p:nvSpPr>
              <p:spPr>
                <a:xfrm>
                  <a:off x="7045920" y="229644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7026120" y="227772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7026120" y="227772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4" name=""/>
              <p:cNvGrpSpPr/>
              <p:nvPr/>
            </p:nvGrpSpPr>
            <p:grpSpPr>
              <a:xfrm>
                <a:off x="6584760" y="2277720"/>
                <a:ext cx="2346480" cy="415440"/>
                <a:chOff x="6584760" y="2277720"/>
                <a:chExt cx="2346480" cy="415440"/>
              </a:xfrm>
            </p:grpSpPr>
            <p:grpSp>
              <p:nvGrpSpPr>
                <p:cNvPr id="3005" name=""/>
                <p:cNvGrpSpPr/>
                <p:nvPr/>
              </p:nvGrpSpPr>
              <p:grpSpPr>
                <a:xfrm>
                  <a:off x="6584760" y="2277720"/>
                  <a:ext cx="501120" cy="415440"/>
                  <a:chOff x="6584760" y="2277720"/>
                  <a:chExt cx="501120" cy="415440"/>
                </a:xfrm>
              </p:grpSpPr>
              <p:sp>
                <p:nvSpPr>
                  <p:cNvPr id="3006" name=""/>
                  <p:cNvSpPr/>
                  <p:nvPr/>
                </p:nvSpPr>
                <p:spPr>
                  <a:xfrm>
                    <a:off x="6602040" y="229644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7" name=""/>
                  <p:cNvSpPr/>
                  <p:nvPr/>
                </p:nvSpPr>
                <p:spPr>
                  <a:xfrm>
                    <a:off x="6584760" y="227772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8" name=""/>
                  <p:cNvSpPr/>
                  <p:nvPr/>
                </p:nvSpPr>
                <p:spPr>
                  <a:xfrm>
                    <a:off x="6584760" y="227772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9" name=""/>
                <p:cNvGrpSpPr/>
                <p:nvPr/>
              </p:nvGrpSpPr>
              <p:grpSpPr>
                <a:xfrm>
                  <a:off x="7469280" y="2277720"/>
                  <a:ext cx="502560" cy="415440"/>
                  <a:chOff x="7469280" y="2277720"/>
                  <a:chExt cx="502560" cy="415440"/>
                </a:xfrm>
              </p:grpSpPr>
              <p:sp>
                <p:nvSpPr>
                  <p:cNvPr id="3010" name=""/>
                  <p:cNvSpPr/>
                  <p:nvPr/>
                </p:nvSpPr>
                <p:spPr>
                  <a:xfrm>
                    <a:off x="7489080" y="229644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1" name=""/>
                  <p:cNvSpPr/>
                  <p:nvPr/>
                </p:nvSpPr>
                <p:spPr>
                  <a:xfrm>
                    <a:off x="7469280" y="227772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2" name=""/>
                  <p:cNvSpPr/>
                  <p:nvPr/>
                </p:nvSpPr>
                <p:spPr>
                  <a:xfrm>
                    <a:off x="7469280" y="227772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3" name=""/>
                <p:cNvGrpSpPr/>
                <p:nvPr/>
              </p:nvGrpSpPr>
              <p:grpSpPr>
                <a:xfrm>
                  <a:off x="7932600" y="2277720"/>
                  <a:ext cx="498240" cy="415440"/>
                  <a:chOff x="7932600" y="2277720"/>
                  <a:chExt cx="498240" cy="415440"/>
                </a:xfrm>
              </p:grpSpPr>
              <p:sp>
                <p:nvSpPr>
                  <p:cNvPr id="3014" name=""/>
                  <p:cNvSpPr/>
                  <p:nvPr/>
                </p:nvSpPr>
                <p:spPr>
                  <a:xfrm>
                    <a:off x="7932600" y="229644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5" name=""/>
                  <p:cNvSpPr/>
                  <p:nvPr/>
                </p:nvSpPr>
                <p:spPr>
                  <a:xfrm>
                    <a:off x="7932600" y="227772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6" name=""/>
                  <p:cNvSpPr/>
                  <p:nvPr/>
                </p:nvSpPr>
                <p:spPr>
                  <a:xfrm>
                    <a:off x="7932600" y="227772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17" name=""/>
                <p:cNvSpPr/>
                <p:nvPr/>
              </p:nvSpPr>
              <p:spPr>
                <a:xfrm>
                  <a:off x="8531280" y="238536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7010280" y="238536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9" name=""/>
            <p:cNvSpPr/>
            <p:nvPr/>
          </p:nvSpPr>
          <p:spPr>
            <a:xfrm>
              <a:off x="6534360" y="2211120"/>
              <a:ext cx="4032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0" name=""/>
            <p:cNvGrpSpPr/>
            <p:nvPr/>
          </p:nvGrpSpPr>
          <p:grpSpPr>
            <a:xfrm>
              <a:off x="6724800" y="2255760"/>
              <a:ext cx="2441160" cy="596160"/>
              <a:chOff x="6724800" y="2255760"/>
              <a:chExt cx="2441160" cy="596160"/>
            </a:xfrm>
          </p:grpSpPr>
          <p:sp>
            <p:nvSpPr>
              <p:cNvPr id="3021" name=""/>
              <p:cNvSpPr/>
              <p:nvPr/>
            </p:nvSpPr>
            <p:spPr>
              <a:xfrm>
                <a:off x="7338960" y="225576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781760" y="225576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8397720" y="225576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6897600" y="225576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724800" y="239832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6799680" y="2419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7493040" y="239832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7702200" y="2419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935840" y="239832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8148960" y="2419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8553600" y="239832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8707320" y="2419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7051680" y="239832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241760" y="2419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6878520" y="254448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647120" y="254448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8091360" y="254448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8" name=""/>
              <p:cNvGrpSpPr/>
              <p:nvPr/>
            </p:nvGrpSpPr>
            <p:grpSpPr>
              <a:xfrm>
                <a:off x="8643960" y="2436480"/>
                <a:ext cx="522000" cy="415440"/>
                <a:chOff x="8643960" y="2436480"/>
                <a:chExt cx="522000" cy="415440"/>
              </a:xfrm>
            </p:grpSpPr>
            <p:sp>
              <p:nvSpPr>
                <p:cNvPr id="3039" name=""/>
                <p:cNvSpPr/>
                <p:nvPr/>
              </p:nvSpPr>
              <p:spPr>
                <a:xfrm>
                  <a:off x="8663400" y="245520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8643960" y="243648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8643960" y="243648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2" name=""/>
              <p:cNvGrpSpPr/>
              <p:nvPr/>
            </p:nvGrpSpPr>
            <p:grpSpPr>
              <a:xfrm>
                <a:off x="7203960" y="2436480"/>
                <a:ext cx="501480" cy="415440"/>
                <a:chOff x="7203960" y="2436480"/>
                <a:chExt cx="501480" cy="415440"/>
              </a:xfrm>
            </p:grpSpPr>
            <p:sp>
              <p:nvSpPr>
                <p:cNvPr id="3043" name=""/>
                <p:cNvSpPr/>
                <p:nvPr/>
              </p:nvSpPr>
              <p:spPr>
                <a:xfrm>
                  <a:off x="7223760" y="245520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7203960" y="243648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7203960" y="243648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6" name=""/>
              <p:cNvGrpSpPr/>
              <p:nvPr/>
            </p:nvGrpSpPr>
            <p:grpSpPr>
              <a:xfrm>
                <a:off x="6762600" y="2436480"/>
                <a:ext cx="2346480" cy="415440"/>
                <a:chOff x="6762600" y="2436480"/>
                <a:chExt cx="2346480" cy="415440"/>
              </a:xfrm>
            </p:grpSpPr>
            <p:grpSp>
              <p:nvGrpSpPr>
                <p:cNvPr id="3047" name=""/>
                <p:cNvGrpSpPr/>
                <p:nvPr/>
              </p:nvGrpSpPr>
              <p:grpSpPr>
                <a:xfrm>
                  <a:off x="6762600" y="2436480"/>
                  <a:ext cx="501120" cy="415440"/>
                  <a:chOff x="6762600" y="2436480"/>
                  <a:chExt cx="501120" cy="415440"/>
                </a:xfrm>
              </p:grpSpPr>
              <p:sp>
                <p:nvSpPr>
                  <p:cNvPr id="3048" name=""/>
                  <p:cNvSpPr/>
                  <p:nvPr/>
                </p:nvSpPr>
                <p:spPr>
                  <a:xfrm>
                    <a:off x="6779880" y="245520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9" name=""/>
                  <p:cNvSpPr/>
                  <p:nvPr/>
                </p:nvSpPr>
                <p:spPr>
                  <a:xfrm>
                    <a:off x="6762600" y="243648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0" name=""/>
                  <p:cNvSpPr/>
                  <p:nvPr/>
                </p:nvSpPr>
                <p:spPr>
                  <a:xfrm>
                    <a:off x="6762600" y="243648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1" name=""/>
                <p:cNvGrpSpPr/>
                <p:nvPr/>
              </p:nvGrpSpPr>
              <p:grpSpPr>
                <a:xfrm>
                  <a:off x="7647120" y="2436480"/>
                  <a:ext cx="502560" cy="415440"/>
                  <a:chOff x="7647120" y="2436480"/>
                  <a:chExt cx="502560" cy="415440"/>
                </a:xfrm>
              </p:grpSpPr>
              <p:sp>
                <p:nvSpPr>
                  <p:cNvPr id="3052" name=""/>
                  <p:cNvSpPr/>
                  <p:nvPr/>
                </p:nvSpPr>
                <p:spPr>
                  <a:xfrm>
                    <a:off x="7666920" y="245520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3" name=""/>
                  <p:cNvSpPr/>
                  <p:nvPr/>
                </p:nvSpPr>
                <p:spPr>
                  <a:xfrm>
                    <a:off x="7647120" y="243648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4" name=""/>
                  <p:cNvSpPr/>
                  <p:nvPr/>
                </p:nvSpPr>
                <p:spPr>
                  <a:xfrm>
                    <a:off x="7647120" y="243648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5" name=""/>
                <p:cNvGrpSpPr/>
                <p:nvPr/>
              </p:nvGrpSpPr>
              <p:grpSpPr>
                <a:xfrm>
                  <a:off x="8110440" y="2436480"/>
                  <a:ext cx="498240" cy="415440"/>
                  <a:chOff x="8110440" y="2436480"/>
                  <a:chExt cx="498240" cy="415440"/>
                </a:xfrm>
              </p:grpSpPr>
              <p:sp>
                <p:nvSpPr>
                  <p:cNvPr id="3056" name=""/>
                  <p:cNvSpPr/>
                  <p:nvPr/>
                </p:nvSpPr>
                <p:spPr>
                  <a:xfrm>
                    <a:off x="8110440" y="245520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7" name=""/>
                  <p:cNvSpPr/>
                  <p:nvPr/>
                </p:nvSpPr>
                <p:spPr>
                  <a:xfrm>
                    <a:off x="8110440" y="243648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8" name=""/>
                  <p:cNvSpPr/>
                  <p:nvPr/>
                </p:nvSpPr>
                <p:spPr>
                  <a:xfrm>
                    <a:off x="8110440" y="243648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59" name=""/>
                <p:cNvSpPr/>
                <p:nvPr/>
              </p:nvSpPr>
              <p:spPr>
                <a:xfrm>
                  <a:off x="8709120" y="254412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7188120" y="254412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1" name=""/>
            <p:cNvGrpSpPr/>
            <p:nvPr/>
          </p:nvGrpSpPr>
          <p:grpSpPr>
            <a:xfrm>
              <a:off x="5803920" y="2246040"/>
              <a:ext cx="402120" cy="470160"/>
              <a:chOff x="5803920" y="2246040"/>
              <a:chExt cx="402120" cy="470160"/>
            </a:xfrm>
          </p:grpSpPr>
          <p:grpSp>
            <p:nvGrpSpPr>
              <p:cNvPr id="3062" name=""/>
              <p:cNvGrpSpPr/>
              <p:nvPr/>
            </p:nvGrpSpPr>
            <p:grpSpPr>
              <a:xfrm>
                <a:off x="5803920" y="2246040"/>
                <a:ext cx="247680" cy="325080"/>
                <a:chOff x="5803920" y="2246040"/>
                <a:chExt cx="247680" cy="325080"/>
              </a:xfrm>
            </p:grpSpPr>
            <p:grpSp>
              <p:nvGrpSpPr>
                <p:cNvPr id="3063" name=""/>
                <p:cNvGrpSpPr/>
                <p:nvPr/>
              </p:nvGrpSpPr>
              <p:grpSpPr>
                <a:xfrm>
                  <a:off x="5803920" y="2246040"/>
                  <a:ext cx="247680" cy="325080"/>
                  <a:chOff x="5803920" y="2246040"/>
                  <a:chExt cx="247680" cy="325080"/>
                </a:xfrm>
              </p:grpSpPr>
              <p:sp>
                <p:nvSpPr>
                  <p:cNvPr id="3064" name=""/>
                  <p:cNvSpPr/>
                  <p:nvPr/>
                </p:nvSpPr>
                <p:spPr>
                  <a:xfrm>
                    <a:off x="5803920" y="224604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8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5" name=""/>
                  <p:cNvSpPr/>
                  <p:nvPr/>
                </p:nvSpPr>
                <p:spPr>
                  <a:xfrm>
                    <a:off x="5803920" y="224604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8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6" name=""/>
                <p:cNvGrpSpPr/>
                <p:nvPr/>
              </p:nvGrpSpPr>
              <p:grpSpPr>
                <a:xfrm>
                  <a:off x="6015240" y="2246040"/>
                  <a:ext cx="36360" cy="36720"/>
                  <a:chOff x="6015240" y="2246040"/>
                  <a:chExt cx="36360" cy="36720"/>
                </a:xfrm>
              </p:grpSpPr>
              <p:sp>
                <p:nvSpPr>
                  <p:cNvPr id="3067" name=""/>
                  <p:cNvSpPr/>
                  <p:nvPr/>
                </p:nvSpPr>
                <p:spPr>
                  <a:xfrm>
                    <a:off x="6015240" y="2246040"/>
                    <a:ext cx="36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0" y="0"/>
                        </a:moveTo>
                        <a:lnTo>
                          <a:pt x="17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8" name=""/>
                  <p:cNvSpPr/>
                  <p:nvPr/>
                </p:nvSpPr>
                <p:spPr>
                  <a:xfrm>
                    <a:off x="6015240" y="2246040"/>
                    <a:ext cx="36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0" y="0"/>
                        </a:moveTo>
                        <a:lnTo>
                          <a:pt x="17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9" name=""/>
              <p:cNvGrpSpPr/>
              <p:nvPr/>
            </p:nvGrpSpPr>
            <p:grpSpPr>
              <a:xfrm>
                <a:off x="5881320" y="2318400"/>
                <a:ext cx="247680" cy="325080"/>
                <a:chOff x="5881320" y="2318400"/>
                <a:chExt cx="247680" cy="325080"/>
              </a:xfrm>
            </p:grpSpPr>
            <p:grpSp>
              <p:nvGrpSpPr>
                <p:cNvPr id="3070" name=""/>
                <p:cNvGrpSpPr/>
                <p:nvPr/>
              </p:nvGrpSpPr>
              <p:grpSpPr>
                <a:xfrm>
                  <a:off x="5881320" y="2318400"/>
                  <a:ext cx="247680" cy="325080"/>
                  <a:chOff x="5881320" y="2318400"/>
                  <a:chExt cx="247680" cy="325080"/>
                </a:xfrm>
              </p:grpSpPr>
              <p:sp>
                <p:nvSpPr>
                  <p:cNvPr id="3071" name=""/>
                  <p:cNvSpPr/>
                  <p:nvPr/>
                </p:nvSpPr>
                <p:spPr>
                  <a:xfrm>
                    <a:off x="5881320" y="231840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7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2" name=""/>
                  <p:cNvSpPr/>
                  <p:nvPr/>
                </p:nvSpPr>
                <p:spPr>
                  <a:xfrm>
                    <a:off x="5881320" y="231840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7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3" name=""/>
                <p:cNvGrpSpPr/>
                <p:nvPr/>
              </p:nvGrpSpPr>
              <p:grpSpPr>
                <a:xfrm>
                  <a:off x="6091920" y="2318400"/>
                  <a:ext cx="36720" cy="34920"/>
                  <a:chOff x="6091920" y="2318400"/>
                  <a:chExt cx="36720" cy="34920"/>
                </a:xfrm>
              </p:grpSpPr>
              <p:sp>
                <p:nvSpPr>
                  <p:cNvPr id="3074" name=""/>
                  <p:cNvSpPr/>
                  <p:nvPr/>
                </p:nvSpPr>
                <p:spPr>
                  <a:xfrm>
                    <a:off x="6091920" y="231840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5" name=""/>
                  <p:cNvSpPr/>
                  <p:nvPr/>
                </p:nvSpPr>
                <p:spPr>
                  <a:xfrm>
                    <a:off x="6091920" y="231840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76" name=""/>
              <p:cNvGrpSpPr/>
              <p:nvPr/>
            </p:nvGrpSpPr>
            <p:grpSpPr>
              <a:xfrm>
                <a:off x="5938200" y="2390760"/>
                <a:ext cx="267840" cy="325440"/>
                <a:chOff x="5938200" y="2390760"/>
                <a:chExt cx="267840" cy="325440"/>
              </a:xfrm>
            </p:grpSpPr>
            <p:grpSp>
              <p:nvGrpSpPr>
                <p:cNvPr id="3077" name=""/>
                <p:cNvGrpSpPr/>
                <p:nvPr/>
              </p:nvGrpSpPr>
              <p:grpSpPr>
                <a:xfrm>
                  <a:off x="5938200" y="2390760"/>
                  <a:ext cx="267840" cy="325440"/>
                  <a:chOff x="5938200" y="2390760"/>
                  <a:chExt cx="267840" cy="325440"/>
                </a:xfrm>
              </p:grpSpPr>
              <p:sp>
                <p:nvSpPr>
                  <p:cNvPr id="3078" name=""/>
                  <p:cNvSpPr/>
                  <p:nvPr/>
                </p:nvSpPr>
                <p:spPr>
                  <a:xfrm>
                    <a:off x="5938200" y="2390760"/>
                    <a:ext cx="26784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57">
                        <a:moveTo>
                          <a:pt x="105" y="0"/>
                        </a:moveTo>
                        <a:lnTo>
                          <a:pt x="122" y="17"/>
                        </a:lnTo>
                        <a:lnTo>
                          <a:pt x="122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9" name=""/>
                  <p:cNvSpPr/>
                  <p:nvPr/>
                </p:nvSpPr>
                <p:spPr>
                  <a:xfrm>
                    <a:off x="5938200" y="2390760"/>
                    <a:ext cx="26784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57">
                        <a:moveTo>
                          <a:pt x="105" y="0"/>
                        </a:moveTo>
                        <a:lnTo>
                          <a:pt x="122" y="17"/>
                        </a:lnTo>
                        <a:lnTo>
                          <a:pt x="122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105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0" name=""/>
                <p:cNvGrpSpPr/>
                <p:nvPr/>
              </p:nvGrpSpPr>
              <p:grpSpPr>
                <a:xfrm>
                  <a:off x="6168960" y="2390760"/>
                  <a:ext cx="36720" cy="34920"/>
                  <a:chOff x="6168960" y="2390760"/>
                  <a:chExt cx="36720" cy="34920"/>
                </a:xfrm>
              </p:grpSpPr>
              <p:sp>
                <p:nvSpPr>
                  <p:cNvPr id="3081" name=""/>
                  <p:cNvSpPr/>
                  <p:nvPr/>
                </p:nvSpPr>
                <p:spPr>
                  <a:xfrm>
                    <a:off x="6168960" y="239076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2" name=""/>
                  <p:cNvSpPr/>
                  <p:nvPr/>
                </p:nvSpPr>
                <p:spPr>
                  <a:xfrm>
                    <a:off x="6168960" y="239076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083" name=""/>
          <p:cNvGrpSpPr/>
          <p:nvPr/>
        </p:nvGrpSpPr>
        <p:grpSpPr>
          <a:xfrm>
            <a:off x="5803920" y="2965320"/>
            <a:ext cx="3362040" cy="913680"/>
            <a:chOff x="5803920" y="2965320"/>
            <a:chExt cx="3362040" cy="913680"/>
          </a:xfrm>
        </p:grpSpPr>
        <p:grpSp>
          <p:nvGrpSpPr>
            <p:cNvPr id="3084" name=""/>
            <p:cNvGrpSpPr/>
            <p:nvPr/>
          </p:nvGrpSpPr>
          <p:grpSpPr>
            <a:xfrm>
              <a:off x="6413760" y="2965320"/>
              <a:ext cx="2441160" cy="596160"/>
              <a:chOff x="6413760" y="2965320"/>
              <a:chExt cx="2441160" cy="596160"/>
            </a:xfrm>
          </p:grpSpPr>
          <p:sp>
            <p:nvSpPr>
              <p:cNvPr id="3085" name=""/>
              <p:cNvSpPr/>
              <p:nvPr/>
            </p:nvSpPr>
            <p:spPr>
              <a:xfrm>
                <a:off x="7027920" y="296532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7470720" y="296532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8086680" y="296532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586560" y="296532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413760" y="310788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488640" y="3128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182000" y="310788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391160" y="3128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624800" y="310788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837920" y="3128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8242560" y="310788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8396280" y="3128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6740640" y="310788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6930720" y="3128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6567480" y="325404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336080" y="325404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780320" y="325404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2" name=""/>
              <p:cNvGrpSpPr/>
              <p:nvPr/>
            </p:nvGrpSpPr>
            <p:grpSpPr>
              <a:xfrm>
                <a:off x="8332920" y="3146040"/>
                <a:ext cx="522000" cy="415440"/>
                <a:chOff x="8332920" y="3146040"/>
                <a:chExt cx="522000" cy="415440"/>
              </a:xfrm>
            </p:grpSpPr>
            <p:sp>
              <p:nvSpPr>
                <p:cNvPr id="3103" name=""/>
                <p:cNvSpPr/>
                <p:nvPr/>
              </p:nvSpPr>
              <p:spPr>
                <a:xfrm>
                  <a:off x="8352360" y="316476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8332920" y="314604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8332920" y="314604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6" name=""/>
              <p:cNvGrpSpPr/>
              <p:nvPr/>
            </p:nvGrpSpPr>
            <p:grpSpPr>
              <a:xfrm>
                <a:off x="6892920" y="3146040"/>
                <a:ext cx="501480" cy="415440"/>
                <a:chOff x="6892920" y="3146040"/>
                <a:chExt cx="501480" cy="415440"/>
              </a:xfrm>
            </p:grpSpPr>
            <p:sp>
              <p:nvSpPr>
                <p:cNvPr id="3107" name=""/>
                <p:cNvSpPr/>
                <p:nvPr/>
              </p:nvSpPr>
              <p:spPr>
                <a:xfrm>
                  <a:off x="6912720" y="316476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6892920" y="314604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6892920" y="314604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0" name=""/>
              <p:cNvGrpSpPr/>
              <p:nvPr/>
            </p:nvGrpSpPr>
            <p:grpSpPr>
              <a:xfrm>
                <a:off x="6451560" y="3146040"/>
                <a:ext cx="2346480" cy="415440"/>
                <a:chOff x="6451560" y="3146040"/>
                <a:chExt cx="2346480" cy="415440"/>
              </a:xfrm>
            </p:grpSpPr>
            <p:grpSp>
              <p:nvGrpSpPr>
                <p:cNvPr id="3111" name=""/>
                <p:cNvGrpSpPr/>
                <p:nvPr/>
              </p:nvGrpSpPr>
              <p:grpSpPr>
                <a:xfrm>
                  <a:off x="6451560" y="3146040"/>
                  <a:ext cx="501120" cy="415440"/>
                  <a:chOff x="6451560" y="3146040"/>
                  <a:chExt cx="501120" cy="415440"/>
                </a:xfrm>
              </p:grpSpPr>
              <p:sp>
                <p:nvSpPr>
                  <p:cNvPr id="3112" name=""/>
                  <p:cNvSpPr/>
                  <p:nvPr/>
                </p:nvSpPr>
                <p:spPr>
                  <a:xfrm>
                    <a:off x="6468840" y="316476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3" name=""/>
                  <p:cNvSpPr/>
                  <p:nvPr/>
                </p:nvSpPr>
                <p:spPr>
                  <a:xfrm>
                    <a:off x="6451560" y="314604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4" name=""/>
                  <p:cNvSpPr/>
                  <p:nvPr/>
                </p:nvSpPr>
                <p:spPr>
                  <a:xfrm>
                    <a:off x="6451560" y="314604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5" name=""/>
                <p:cNvGrpSpPr/>
                <p:nvPr/>
              </p:nvGrpSpPr>
              <p:grpSpPr>
                <a:xfrm>
                  <a:off x="7336080" y="3146040"/>
                  <a:ext cx="502560" cy="415440"/>
                  <a:chOff x="7336080" y="3146040"/>
                  <a:chExt cx="502560" cy="415440"/>
                </a:xfrm>
              </p:grpSpPr>
              <p:sp>
                <p:nvSpPr>
                  <p:cNvPr id="3116" name=""/>
                  <p:cNvSpPr/>
                  <p:nvPr/>
                </p:nvSpPr>
                <p:spPr>
                  <a:xfrm>
                    <a:off x="7355880" y="316476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7" name=""/>
                  <p:cNvSpPr/>
                  <p:nvPr/>
                </p:nvSpPr>
                <p:spPr>
                  <a:xfrm>
                    <a:off x="7336080" y="314604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8" name=""/>
                  <p:cNvSpPr/>
                  <p:nvPr/>
                </p:nvSpPr>
                <p:spPr>
                  <a:xfrm>
                    <a:off x="7336080" y="314604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9" name=""/>
                <p:cNvGrpSpPr/>
                <p:nvPr/>
              </p:nvGrpSpPr>
              <p:grpSpPr>
                <a:xfrm>
                  <a:off x="7799400" y="3146040"/>
                  <a:ext cx="498240" cy="415440"/>
                  <a:chOff x="7799400" y="3146040"/>
                  <a:chExt cx="498240" cy="415440"/>
                </a:xfrm>
              </p:grpSpPr>
              <p:sp>
                <p:nvSpPr>
                  <p:cNvPr id="3120" name=""/>
                  <p:cNvSpPr/>
                  <p:nvPr/>
                </p:nvSpPr>
                <p:spPr>
                  <a:xfrm>
                    <a:off x="7799400" y="316476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1" name=""/>
                  <p:cNvSpPr/>
                  <p:nvPr/>
                </p:nvSpPr>
                <p:spPr>
                  <a:xfrm>
                    <a:off x="7799400" y="314604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2" name=""/>
                  <p:cNvSpPr/>
                  <p:nvPr/>
                </p:nvSpPr>
                <p:spPr>
                  <a:xfrm>
                    <a:off x="7799400" y="314604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23" name=""/>
                <p:cNvSpPr/>
                <p:nvPr/>
              </p:nvSpPr>
              <p:spPr>
                <a:xfrm>
                  <a:off x="8398080" y="325368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6877080" y="325368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5" name=""/>
            <p:cNvGrpSpPr/>
            <p:nvPr/>
          </p:nvGrpSpPr>
          <p:grpSpPr>
            <a:xfrm>
              <a:off x="6546960" y="3124080"/>
              <a:ext cx="2441160" cy="596160"/>
              <a:chOff x="6546960" y="3124080"/>
              <a:chExt cx="2441160" cy="596160"/>
            </a:xfrm>
          </p:grpSpPr>
          <p:sp>
            <p:nvSpPr>
              <p:cNvPr id="3126" name=""/>
              <p:cNvSpPr/>
              <p:nvPr/>
            </p:nvSpPr>
            <p:spPr>
              <a:xfrm>
                <a:off x="7161120" y="312408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603920" y="312408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8219880" y="312408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6719760" y="312408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6546960" y="326664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6621840" y="3287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315200" y="326664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524360" y="3287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758000" y="326664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971120" y="3287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8375760" y="326664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8529480" y="3287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6873840" y="326664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063920" y="3287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700680" y="341280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469280" y="341280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7913520" y="341280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3" name=""/>
              <p:cNvGrpSpPr/>
              <p:nvPr/>
            </p:nvGrpSpPr>
            <p:grpSpPr>
              <a:xfrm>
                <a:off x="8466120" y="3304800"/>
                <a:ext cx="522000" cy="415440"/>
                <a:chOff x="8466120" y="3304800"/>
                <a:chExt cx="522000" cy="415440"/>
              </a:xfrm>
            </p:grpSpPr>
            <p:sp>
              <p:nvSpPr>
                <p:cNvPr id="3144" name=""/>
                <p:cNvSpPr/>
                <p:nvPr/>
              </p:nvSpPr>
              <p:spPr>
                <a:xfrm>
                  <a:off x="8485560" y="332352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8466120" y="330480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8466120" y="330480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7" name=""/>
              <p:cNvGrpSpPr/>
              <p:nvPr/>
            </p:nvGrpSpPr>
            <p:grpSpPr>
              <a:xfrm>
                <a:off x="7026120" y="3304800"/>
                <a:ext cx="501480" cy="415440"/>
                <a:chOff x="7026120" y="3304800"/>
                <a:chExt cx="501480" cy="415440"/>
              </a:xfrm>
            </p:grpSpPr>
            <p:sp>
              <p:nvSpPr>
                <p:cNvPr id="3148" name=""/>
                <p:cNvSpPr/>
                <p:nvPr/>
              </p:nvSpPr>
              <p:spPr>
                <a:xfrm>
                  <a:off x="7045920" y="332352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7026120" y="330480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7026120" y="330480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1" name=""/>
              <p:cNvGrpSpPr/>
              <p:nvPr/>
            </p:nvGrpSpPr>
            <p:grpSpPr>
              <a:xfrm>
                <a:off x="6584760" y="3304800"/>
                <a:ext cx="2346480" cy="415440"/>
                <a:chOff x="6584760" y="3304800"/>
                <a:chExt cx="2346480" cy="415440"/>
              </a:xfrm>
            </p:grpSpPr>
            <p:grpSp>
              <p:nvGrpSpPr>
                <p:cNvPr id="3152" name=""/>
                <p:cNvGrpSpPr/>
                <p:nvPr/>
              </p:nvGrpSpPr>
              <p:grpSpPr>
                <a:xfrm>
                  <a:off x="6584760" y="3304800"/>
                  <a:ext cx="501120" cy="415440"/>
                  <a:chOff x="6584760" y="3304800"/>
                  <a:chExt cx="501120" cy="415440"/>
                </a:xfrm>
              </p:grpSpPr>
              <p:sp>
                <p:nvSpPr>
                  <p:cNvPr id="3153" name=""/>
                  <p:cNvSpPr/>
                  <p:nvPr/>
                </p:nvSpPr>
                <p:spPr>
                  <a:xfrm>
                    <a:off x="6602040" y="332352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4" name=""/>
                  <p:cNvSpPr/>
                  <p:nvPr/>
                </p:nvSpPr>
                <p:spPr>
                  <a:xfrm>
                    <a:off x="6584760" y="330480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5" name=""/>
                  <p:cNvSpPr/>
                  <p:nvPr/>
                </p:nvSpPr>
                <p:spPr>
                  <a:xfrm>
                    <a:off x="6584760" y="330480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6" name=""/>
                <p:cNvGrpSpPr/>
                <p:nvPr/>
              </p:nvGrpSpPr>
              <p:grpSpPr>
                <a:xfrm>
                  <a:off x="7469280" y="3304800"/>
                  <a:ext cx="502560" cy="415440"/>
                  <a:chOff x="7469280" y="3304800"/>
                  <a:chExt cx="502560" cy="415440"/>
                </a:xfrm>
              </p:grpSpPr>
              <p:sp>
                <p:nvSpPr>
                  <p:cNvPr id="3157" name=""/>
                  <p:cNvSpPr/>
                  <p:nvPr/>
                </p:nvSpPr>
                <p:spPr>
                  <a:xfrm>
                    <a:off x="7489080" y="332352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8" name=""/>
                  <p:cNvSpPr/>
                  <p:nvPr/>
                </p:nvSpPr>
                <p:spPr>
                  <a:xfrm>
                    <a:off x="7469280" y="330480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9" name=""/>
                  <p:cNvSpPr/>
                  <p:nvPr/>
                </p:nvSpPr>
                <p:spPr>
                  <a:xfrm>
                    <a:off x="7469280" y="330480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0" name=""/>
                <p:cNvGrpSpPr/>
                <p:nvPr/>
              </p:nvGrpSpPr>
              <p:grpSpPr>
                <a:xfrm>
                  <a:off x="7932600" y="3304800"/>
                  <a:ext cx="498240" cy="415440"/>
                  <a:chOff x="7932600" y="3304800"/>
                  <a:chExt cx="498240" cy="415440"/>
                </a:xfrm>
              </p:grpSpPr>
              <p:sp>
                <p:nvSpPr>
                  <p:cNvPr id="3161" name=""/>
                  <p:cNvSpPr/>
                  <p:nvPr/>
                </p:nvSpPr>
                <p:spPr>
                  <a:xfrm>
                    <a:off x="7932600" y="332352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2" name=""/>
                  <p:cNvSpPr/>
                  <p:nvPr/>
                </p:nvSpPr>
                <p:spPr>
                  <a:xfrm>
                    <a:off x="7932600" y="330480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3" name=""/>
                  <p:cNvSpPr/>
                  <p:nvPr/>
                </p:nvSpPr>
                <p:spPr>
                  <a:xfrm>
                    <a:off x="7932600" y="330480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4" name=""/>
                <p:cNvSpPr/>
                <p:nvPr/>
              </p:nvSpPr>
              <p:spPr>
                <a:xfrm>
                  <a:off x="8531280" y="341244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7010280" y="341244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66" name=""/>
            <p:cNvSpPr/>
            <p:nvPr/>
          </p:nvSpPr>
          <p:spPr>
            <a:xfrm>
              <a:off x="6534360" y="3238200"/>
              <a:ext cx="4032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7" name=""/>
            <p:cNvGrpSpPr/>
            <p:nvPr/>
          </p:nvGrpSpPr>
          <p:grpSpPr>
            <a:xfrm>
              <a:off x="6724800" y="3282840"/>
              <a:ext cx="2441160" cy="596160"/>
              <a:chOff x="6724800" y="3282840"/>
              <a:chExt cx="2441160" cy="596160"/>
            </a:xfrm>
          </p:grpSpPr>
          <p:sp>
            <p:nvSpPr>
              <p:cNvPr id="3168" name=""/>
              <p:cNvSpPr/>
              <p:nvPr/>
            </p:nvSpPr>
            <p:spPr>
              <a:xfrm>
                <a:off x="7338960" y="328284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781760" y="328284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8397720" y="328284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897600" y="328284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724800" y="342540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799680" y="34462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493040" y="342540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702200" y="34462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935840" y="342540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8148960" y="34462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8553600" y="342540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8707320" y="34462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7051680" y="342540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7241760" y="34462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878520" y="357156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647120" y="357156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8091360" y="357156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85" name=""/>
              <p:cNvGrpSpPr/>
              <p:nvPr/>
            </p:nvGrpSpPr>
            <p:grpSpPr>
              <a:xfrm>
                <a:off x="8643960" y="3463560"/>
                <a:ext cx="522000" cy="415440"/>
                <a:chOff x="8643960" y="3463560"/>
                <a:chExt cx="522000" cy="415440"/>
              </a:xfrm>
            </p:grpSpPr>
            <p:sp>
              <p:nvSpPr>
                <p:cNvPr id="3186" name=""/>
                <p:cNvSpPr/>
                <p:nvPr/>
              </p:nvSpPr>
              <p:spPr>
                <a:xfrm>
                  <a:off x="8663400" y="348228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>
                  <a:off x="8643960" y="346356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8643960" y="346356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9" name=""/>
              <p:cNvGrpSpPr/>
              <p:nvPr/>
            </p:nvGrpSpPr>
            <p:grpSpPr>
              <a:xfrm>
                <a:off x="7203960" y="3463560"/>
                <a:ext cx="501480" cy="415440"/>
                <a:chOff x="7203960" y="3463560"/>
                <a:chExt cx="501480" cy="415440"/>
              </a:xfrm>
            </p:grpSpPr>
            <p:sp>
              <p:nvSpPr>
                <p:cNvPr id="3190" name=""/>
                <p:cNvSpPr/>
                <p:nvPr/>
              </p:nvSpPr>
              <p:spPr>
                <a:xfrm>
                  <a:off x="7223760" y="348228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7203960" y="346356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7203960" y="346356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3" name=""/>
              <p:cNvGrpSpPr/>
              <p:nvPr/>
            </p:nvGrpSpPr>
            <p:grpSpPr>
              <a:xfrm>
                <a:off x="6762600" y="3463560"/>
                <a:ext cx="2346480" cy="415440"/>
                <a:chOff x="6762600" y="3463560"/>
                <a:chExt cx="2346480" cy="415440"/>
              </a:xfrm>
            </p:grpSpPr>
            <p:grpSp>
              <p:nvGrpSpPr>
                <p:cNvPr id="3194" name=""/>
                <p:cNvGrpSpPr/>
                <p:nvPr/>
              </p:nvGrpSpPr>
              <p:grpSpPr>
                <a:xfrm>
                  <a:off x="6762600" y="3463560"/>
                  <a:ext cx="501120" cy="415440"/>
                  <a:chOff x="6762600" y="3463560"/>
                  <a:chExt cx="501120" cy="415440"/>
                </a:xfrm>
              </p:grpSpPr>
              <p:sp>
                <p:nvSpPr>
                  <p:cNvPr id="3195" name=""/>
                  <p:cNvSpPr/>
                  <p:nvPr/>
                </p:nvSpPr>
                <p:spPr>
                  <a:xfrm>
                    <a:off x="6779880" y="348228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6" name=""/>
                  <p:cNvSpPr/>
                  <p:nvPr/>
                </p:nvSpPr>
                <p:spPr>
                  <a:xfrm>
                    <a:off x="6762600" y="346356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7" name=""/>
                  <p:cNvSpPr/>
                  <p:nvPr/>
                </p:nvSpPr>
                <p:spPr>
                  <a:xfrm>
                    <a:off x="6762600" y="346356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8" name=""/>
                <p:cNvGrpSpPr/>
                <p:nvPr/>
              </p:nvGrpSpPr>
              <p:grpSpPr>
                <a:xfrm>
                  <a:off x="7647120" y="3463560"/>
                  <a:ext cx="502560" cy="415440"/>
                  <a:chOff x="7647120" y="3463560"/>
                  <a:chExt cx="502560" cy="415440"/>
                </a:xfrm>
              </p:grpSpPr>
              <p:sp>
                <p:nvSpPr>
                  <p:cNvPr id="3199" name=""/>
                  <p:cNvSpPr/>
                  <p:nvPr/>
                </p:nvSpPr>
                <p:spPr>
                  <a:xfrm>
                    <a:off x="7666920" y="348228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0" name=""/>
                  <p:cNvSpPr/>
                  <p:nvPr/>
                </p:nvSpPr>
                <p:spPr>
                  <a:xfrm>
                    <a:off x="7647120" y="346356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1" name=""/>
                  <p:cNvSpPr/>
                  <p:nvPr/>
                </p:nvSpPr>
                <p:spPr>
                  <a:xfrm>
                    <a:off x="7647120" y="346356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2" name=""/>
                <p:cNvGrpSpPr/>
                <p:nvPr/>
              </p:nvGrpSpPr>
              <p:grpSpPr>
                <a:xfrm>
                  <a:off x="8110440" y="3463560"/>
                  <a:ext cx="498240" cy="415440"/>
                  <a:chOff x="8110440" y="3463560"/>
                  <a:chExt cx="498240" cy="415440"/>
                </a:xfrm>
              </p:grpSpPr>
              <p:sp>
                <p:nvSpPr>
                  <p:cNvPr id="3203" name=""/>
                  <p:cNvSpPr/>
                  <p:nvPr/>
                </p:nvSpPr>
                <p:spPr>
                  <a:xfrm>
                    <a:off x="8110440" y="348228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4" name=""/>
                  <p:cNvSpPr/>
                  <p:nvPr/>
                </p:nvSpPr>
                <p:spPr>
                  <a:xfrm>
                    <a:off x="8110440" y="346356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5" name=""/>
                  <p:cNvSpPr/>
                  <p:nvPr/>
                </p:nvSpPr>
                <p:spPr>
                  <a:xfrm>
                    <a:off x="8110440" y="346356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06" name=""/>
                <p:cNvSpPr/>
                <p:nvPr/>
              </p:nvSpPr>
              <p:spPr>
                <a:xfrm>
                  <a:off x="8709120" y="357120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7188120" y="357120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08" name=""/>
            <p:cNvGrpSpPr/>
            <p:nvPr/>
          </p:nvGrpSpPr>
          <p:grpSpPr>
            <a:xfrm>
              <a:off x="5803920" y="3273120"/>
              <a:ext cx="402120" cy="470160"/>
              <a:chOff x="5803920" y="3273120"/>
              <a:chExt cx="402120" cy="470160"/>
            </a:xfrm>
          </p:grpSpPr>
          <p:grpSp>
            <p:nvGrpSpPr>
              <p:cNvPr id="3209" name=""/>
              <p:cNvGrpSpPr/>
              <p:nvPr/>
            </p:nvGrpSpPr>
            <p:grpSpPr>
              <a:xfrm>
                <a:off x="5803920" y="3273120"/>
                <a:ext cx="247680" cy="325080"/>
                <a:chOff x="5803920" y="3273120"/>
                <a:chExt cx="247680" cy="325080"/>
              </a:xfrm>
            </p:grpSpPr>
            <p:grpSp>
              <p:nvGrpSpPr>
                <p:cNvPr id="3210" name=""/>
                <p:cNvGrpSpPr/>
                <p:nvPr/>
              </p:nvGrpSpPr>
              <p:grpSpPr>
                <a:xfrm>
                  <a:off x="5803920" y="3273120"/>
                  <a:ext cx="247680" cy="325080"/>
                  <a:chOff x="5803920" y="3273120"/>
                  <a:chExt cx="247680" cy="325080"/>
                </a:xfrm>
              </p:grpSpPr>
              <p:sp>
                <p:nvSpPr>
                  <p:cNvPr id="3211" name=""/>
                  <p:cNvSpPr/>
                  <p:nvPr/>
                </p:nvSpPr>
                <p:spPr>
                  <a:xfrm>
                    <a:off x="5803920" y="327312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8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>
                    <a:off x="5803920" y="327312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8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3" name=""/>
                <p:cNvGrpSpPr/>
                <p:nvPr/>
              </p:nvGrpSpPr>
              <p:grpSpPr>
                <a:xfrm>
                  <a:off x="6015240" y="3273120"/>
                  <a:ext cx="36360" cy="36720"/>
                  <a:chOff x="6015240" y="3273120"/>
                  <a:chExt cx="36360" cy="36720"/>
                </a:xfrm>
              </p:grpSpPr>
              <p:sp>
                <p:nvSpPr>
                  <p:cNvPr id="3214" name=""/>
                  <p:cNvSpPr/>
                  <p:nvPr/>
                </p:nvSpPr>
                <p:spPr>
                  <a:xfrm>
                    <a:off x="6015240" y="3273120"/>
                    <a:ext cx="36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0" y="0"/>
                        </a:moveTo>
                        <a:lnTo>
                          <a:pt x="17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5" name=""/>
                  <p:cNvSpPr/>
                  <p:nvPr/>
                </p:nvSpPr>
                <p:spPr>
                  <a:xfrm>
                    <a:off x="6015240" y="3273120"/>
                    <a:ext cx="36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0" y="0"/>
                        </a:moveTo>
                        <a:lnTo>
                          <a:pt x="17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16" name=""/>
              <p:cNvGrpSpPr/>
              <p:nvPr/>
            </p:nvGrpSpPr>
            <p:grpSpPr>
              <a:xfrm>
                <a:off x="5881320" y="3345480"/>
                <a:ext cx="247680" cy="325080"/>
                <a:chOff x="5881320" y="3345480"/>
                <a:chExt cx="247680" cy="325080"/>
              </a:xfrm>
            </p:grpSpPr>
            <p:grpSp>
              <p:nvGrpSpPr>
                <p:cNvPr id="3217" name=""/>
                <p:cNvGrpSpPr/>
                <p:nvPr/>
              </p:nvGrpSpPr>
              <p:grpSpPr>
                <a:xfrm>
                  <a:off x="5881320" y="3345480"/>
                  <a:ext cx="247680" cy="325080"/>
                  <a:chOff x="5881320" y="3345480"/>
                  <a:chExt cx="247680" cy="325080"/>
                </a:xfrm>
              </p:grpSpPr>
              <p:sp>
                <p:nvSpPr>
                  <p:cNvPr id="3218" name=""/>
                  <p:cNvSpPr/>
                  <p:nvPr/>
                </p:nvSpPr>
                <p:spPr>
                  <a:xfrm>
                    <a:off x="5881320" y="334548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7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9" name=""/>
                  <p:cNvSpPr/>
                  <p:nvPr/>
                </p:nvSpPr>
                <p:spPr>
                  <a:xfrm>
                    <a:off x="5881320" y="334548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7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0" name=""/>
                <p:cNvGrpSpPr/>
                <p:nvPr/>
              </p:nvGrpSpPr>
              <p:grpSpPr>
                <a:xfrm>
                  <a:off x="6091920" y="3345480"/>
                  <a:ext cx="36720" cy="34920"/>
                  <a:chOff x="6091920" y="3345480"/>
                  <a:chExt cx="36720" cy="34920"/>
                </a:xfrm>
              </p:grpSpPr>
              <p:sp>
                <p:nvSpPr>
                  <p:cNvPr id="3221" name=""/>
                  <p:cNvSpPr/>
                  <p:nvPr/>
                </p:nvSpPr>
                <p:spPr>
                  <a:xfrm>
                    <a:off x="6091920" y="334548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2" name=""/>
                  <p:cNvSpPr/>
                  <p:nvPr/>
                </p:nvSpPr>
                <p:spPr>
                  <a:xfrm>
                    <a:off x="6091920" y="334548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23" name=""/>
              <p:cNvGrpSpPr/>
              <p:nvPr/>
            </p:nvGrpSpPr>
            <p:grpSpPr>
              <a:xfrm>
                <a:off x="5938200" y="3417840"/>
                <a:ext cx="267840" cy="325440"/>
                <a:chOff x="5938200" y="3417840"/>
                <a:chExt cx="267840" cy="325440"/>
              </a:xfrm>
            </p:grpSpPr>
            <p:grpSp>
              <p:nvGrpSpPr>
                <p:cNvPr id="3224" name=""/>
                <p:cNvGrpSpPr/>
                <p:nvPr/>
              </p:nvGrpSpPr>
              <p:grpSpPr>
                <a:xfrm>
                  <a:off x="5938200" y="3417840"/>
                  <a:ext cx="267840" cy="325440"/>
                  <a:chOff x="5938200" y="3417840"/>
                  <a:chExt cx="267840" cy="325440"/>
                </a:xfrm>
              </p:grpSpPr>
              <p:sp>
                <p:nvSpPr>
                  <p:cNvPr id="3225" name=""/>
                  <p:cNvSpPr/>
                  <p:nvPr/>
                </p:nvSpPr>
                <p:spPr>
                  <a:xfrm>
                    <a:off x="5938200" y="3417840"/>
                    <a:ext cx="26784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57">
                        <a:moveTo>
                          <a:pt x="105" y="0"/>
                        </a:moveTo>
                        <a:lnTo>
                          <a:pt x="122" y="17"/>
                        </a:lnTo>
                        <a:lnTo>
                          <a:pt x="122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6" name=""/>
                  <p:cNvSpPr/>
                  <p:nvPr/>
                </p:nvSpPr>
                <p:spPr>
                  <a:xfrm>
                    <a:off x="5938200" y="3417840"/>
                    <a:ext cx="26784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57">
                        <a:moveTo>
                          <a:pt x="105" y="0"/>
                        </a:moveTo>
                        <a:lnTo>
                          <a:pt x="122" y="17"/>
                        </a:lnTo>
                        <a:lnTo>
                          <a:pt x="122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105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7" name=""/>
                <p:cNvGrpSpPr/>
                <p:nvPr/>
              </p:nvGrpSpPr>
              <p:grpSpPr>
                <a:xfrm>
                  <a:off x="6168960" y="3417840"/>
                  <a:ext cx="36720" cy="34920"/>
                  <a:chOff x="6168960" y="3417840"/>
                  <a:chExt cx="36720" cy="34920"/>
                </a:xfrm>
              </p:grpSpPr>
              <p:sp>
                <p:nvSpPr>
                  <p:cNvPr id="3228" name=""/>
                  <p:cNvSpPr/>
                  <p:nvPr/>
                </p:nvSpPr>
                <p:spPr>
                  <a:xfrm>
                    <a:off x="6168960" y="341784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>
                    <a:off x="6168960" y="341784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230" name=""/>
          <p:cNvGrpSpPr/>
          <p:nvPr/>
        </p:nvGrpSpPr>
        <p:grpSpPr>
          <a:xfrm>
            <a:off x="4067280" y="1039680"/>
            <a:ext cx="1334520" cy="796680"/>
            <a:chOff x="4067280" y="1039680"/>
            <a:chExt cx="1334520" cy="796680"/>
          </a:xfrm>
        </p:grpSpPr>
        <p:sp>
          <p:nvSpPr>
            <p:cNvPr id="3231" name=""/>
            <p:cNvSpPr/>
            <p:nvPr/>
          </p:nvSpPr>
          <p:spPr>
            <a:xfrm>
              <a:off x="4627440" y="1039680"/>
              <a:ext cx="774360" cy="796680"/>
            </a:xfrm>
            <a:prstGeom prst="foldedCorner">
              <a:avLst>
                <a:gd name="adj" fmla="val 12500"/>
              </a:avLst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2" name=""/>
            <p:cNvGrpSpPr/>
            <p:nvPr/>
          </p:nvGrpSpPr>
          <p:grpSpPr>
            <a:xfrm>
              <a:off x="4814640" y="1203120"/>
              <a:ext cx="468000" cy="473040"/>
              <a:chOff x="4814640" y="1203120"/>
              <a:chExt cx="468000" cy="473040"/>
            </a:xfrm>
          </p:grpSpPr>
          <p:grpSp>
            <p:nvGrpSpPr>
              <p:cNvPr id="3233" name=""/>
              <p:cNvGrpSpPr/>
              <p:nvPr/>
            </p:nvGrpSpPr>
            <p:grpSpPr>
              <a:xfrm>
                <a:off x="4830840" y="1283400"/>
                <a:ext cx="48960" cy="312480"/>
                <a:chOff x="4830840" y="1283400"/>
                <a:chExt cx="48960" cy="312480"/>
              </a:xfrm>
            </p:grpSpPr>
            <p:sp>
              <p:nvSpPr>
                <p:cNvPr id="3234" name=""/>
                <p:cNvSpPr/>
                <p:nvPr/>
              </p:nvSpPr>
              <p:spPr>
                <a:xfrm>
                  <a:off x="4847040" y="1283400"/>
                  <a:ext cx="16200" cy="26640"/>
                </a:xfrm>
                <a:prstGeom prst="ellipse">
                  <a:avLst/>
                </a:prstGeom>
                <a:solidFill>
                  <a:srgbClr val="99cc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>
                  <a:off x="4847040" y="135252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>
                  <a:off x="4863600" y="142632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4863600" y="1497600"/>
                  <a:ext cx="16200" cy="26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>
                  <a:off x="4830840" y="1443960"/>
                  <a:ext cx="16200" cy="2664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4847040" y="1569240"/>
                  <a:ext cx="16200" cy="2664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0" name=""/>
              <p:cNvGrpSpPr/>
              <p:nvPr/>
            </p:nvGrpSpPr>
            <p:grpSpPr>
              <a:xfrm>
                <a:off x="4897080" y="1354680"/>
                <a:ext cx="55080" cy="214200"/>
                <a:chOff x="4897080" y="1354680"/>
                <a:chExt cx="55080" cy="214200"/>
              </a:xfrm>
            </p:grpSpPr>
            <p:sp>
              <p:nvSpPr>
                <p:cNvPr id="3241" name=""/>
                <p:cNvSpPr/>
                <p:nvPr/>
              </p:nvSpPr>
              <p:spPr>
                <a:xfrm>
                  <a:off x="4897080" y="1354680"/>
                  <a:ext cx="16560" cy="26640"/>
                </a:xfrm>
                <a:prstGeom prst="ellipse">
                  <a:avLst/>
                </a:prstGeom>
                <a:solidFill>
                  <a:srgbClr val="99ff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>
                  <a:off x="4935600" y="1381320"/>
                  <a:ext cx="16560" cy="266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>
                  <a:off x="4897080" y="1407960"/>
                  <a:ext cx="16560" cy="26640"/>
                </a:xfrm>
                <a:prstGeom prst="ellipse">
                  <a:avLst/>
                </a:prstGeom>
                <a:solidFill>
                  <a:srgbClr val="e0fa8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>
                  <a:off x="4935600" y="1452960"/>
                  <a:ext cx="16560" cy="266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>
                  <a:off x="4897080" y="1470600"/>
                  <a:ext cx="16560" cy="266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>
                  <a:off x="4897080" y="154224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>
                  <a:off x="4935600" y="1515240"/>
                  <a:ext cx="16560" cy="26640"/>
                </a:xfrm>
                <a:prstGeom prst="ellipse">
                  <a:avLst/>
                </a:prstGeom>
                <a:solidFill>
                  <a:srgbClr val="ffb16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8" name=""/>
              <p:cNvGrpSpPr/>
              <p:nvPr/>
            </p:nvGrpSpPr>
            <p:grpSpPr>
              <a:xfrm>
                <a:off x="4973040" y="1399320"/>
                <a:ext cx="78120" cy="115920"/>
                <a:chOff x="4973040" y="1399320"/>
                <a:chExt cx="78120" cy="115920"/>
              </a:xfrm>
            </p:grpSpPr>
            <p:sp>
              <p:nvSpPr>
                <p:cNvPr id="3249" name=""/>
                <p:cNvSpPr/>
                <p:nvPr/>
              </p:nvSpPr>
              <p:spPr>
                <a:xfrm>
                  <a:off x="5009040" y="139932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>
                  <a:off x="4973040" y="1425960"/>
                  <a:ext cx="16560" cy="26640"/>
                </a:xfrm>
                <a:prstGeom prst="ellipse">
                  <a:avLst/>
                </a:prstGeom>
                <a:solidFill>
                  <a:srgbClr val="33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>
                  <a:off x="5034600" y="147060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>
                  <a:off x="4978080" y="148860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>
                  <a:off x="5034600" y="1470600"/>
                  <a:ext cx="16560" cy="2664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4" name=""/>
              <p:cNvGrpSpPr/>
              <p:nvPr/>
            </p:nvGrpSpPr>
            <p:grpSpPr>
              <a:xfrm>
                <a:off x="5155920" y="1426320"/>
                <a:ext cx="98640" cy="59040"/>
                <a:chOff x="5155920" y="1426320"/>
                <a:chExt cx="98640" cy="59040"/>
              </a:xfrm>
            </p:grpSpPr>
            <p:sp>
              <p:nvSpPr>
                <p:cNvPr id="3255" name=""/>
                <p:cNvSpPr/>
                <p:nvPr/>
              </p:nvSpPr>
              <p:spPr>
                <a:xfrm>
                  <a:off x="5155920" y="1426320"/>
                  <a:ext cx="16200" cy="2664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>
                  <a:off x="5238360" y="1426320"/>
                  <a:ext cx="16200" cy="2664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>
                  <a:off x="5217840" y="1458720"/>
                  <a:ext cx="16200" cy="26640"/>
                </a:xfrm>
                <a:prstGeom prst="ellipse">
                  <a:avLst/>
                </a:prstGeom>
                <a:solidFill>
                  <a:srgbClr val="99ff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5188680" y="1426320"/>
                  <a:ext cx="16200" cy="266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9" name=""/>
              <p:cNvGrpSpPr/>
              <p:nvPr/>
            </p:nvGrpSpPr>
            <p:grpSpPr>
              <a:xfrm>
                <a:off x="5068080" y="1408320"/>
                <a:ext cx="71280" cy="71280"/>
                <a:chOff x="5068080" y="1408320"/>
                <a:chExt cx="71280" cy="71280"/>
              </a:xfrm>
            </p:grpSpPr>
            <p:sp>
              <p:nvSpPr>
                <p:cNvPr id="3260" name=""/>
                <p:cNvSpPr/>
                <p:nvPr/>
              </p:nvSpPr>
              <p:spPr>
                <a:xfrm>
                  <a:off x="5095440" y="1425960"/>
                  <a:ext cx="16200" cy="26640"/>
                </a:xfrm>
                <a:prstGeom prst="ellipse">
                  <a:avLst/>
                </a:prstGeom>
                <a:solidFill>
                  <a:srgbClr val="cc66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5123160" y="145296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5068080" y="1408320"/>
                  <a:ext cx="16200" cy="2664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3" name=""/>
              <p:cNvSpPr/>
              <p:nvPr/>
            </p:nvSpPr>
            <p:spPr>
              <a:xfrm>
                <a:off x="4858560" y="1203120"/>
                <a:ext cx="424080" cy="178560"/>
              </a:xfrm>
              <a:custGeom>
                <a:avLst/>
                <a:gdLst/>
                <a:ahLst/>
                <a:rect l="l" t="t" r="r" b="b"/>
                <a:pathLst>
                  <a:path w="4560" h="1056">
                    <a:moveTo>
                      <a:pt x="0" y="0"/>
                    </a:moveTo>
                    <a:cubicBezTo>
                      <a:pt x="72" y="184"/>
                      <a:pt x="144" y="368"/>
                      <a:pt x="480" y="528"/>
                    </a:cubicBezTo>
                    <a:cubicBezTo>
                      <a:pt x="816" y="688"/>
                      <a:pt x="1336" y="872"/>
                      <a:pt x="2016" y="960"/>
                    </a:cubicBezTo>
                    <a:cubicBezTo>
                      <a:pt x="2696" y="1048"/>
                      <a:pt x="4120" y="1040"/>
                      <a:pt x="4560" y="1056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 flipV="1">
                <a:off x="4858560" y="1515600"/>
                <a:ext cx="424080" cy="160560"/>
              </a:xfrm>
              <a:custGeom>
                <a:avLst/>
                <a:gdLst/>
                <a:ahLst/>
                <a:rect l="l" t="t" r="r" b="b"/>
                <a:pathLst>
                  <a:path w="4560" h="1056">
                    <a:moveTo>
                      <a:pt x="0" y="0"/>
                    </a:moveTo>
                    <a:cubicBezTo>
                      <a:pt x="72" y="184"/>
                      <a:pt x="144" y="368"/>
                      <a:pt x="480" y="528"/>
                    </a:cubicBezTo>
                    <a:cubicBezTo>
                      <a:pt x="816" y="688"/>
                      <a:pt x="1336" y="872"/>
                      <a:pt x="2016" y="960"/>
                    </a:cubicBezTo>
                    <a:cubicBezTo>
                      <a:pt x="2696" y="1048"/>
                      <a:pt x="4120" y="1040"/>
                      <a:pt x="4560" y="1056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4814640" y="1388880"/>
                <a:ext cx="459000" cy="117720"/>
              </a:xfrm>
              <a:prstGeom prst="rightArrow">
                <a:avLst>
                  <a:gd name="adj1" fmla="val 73500"/>
                  <a:gd name="adj2" fmla="val 57981"/>
                </a:avLst>
              </a:prstGeom>
              <a:solidFill>
                <a:srgbClr val="6767c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6" name=""/>
            <p:cNvSpPr/>
            <p:nvPr/>
          </p:nvSpPr>
          <p:spPr>
            <a:xfrm>
              <a:off x="4067280" y="1379160"/>
              <a:ext cx="545760" cy="298440"/>
            </a:xfrm>
            <a:prstGeom prst="rightArrow">
              <a:avLst>
                <a:gd name="adj1" fmla="val 50000"/>
                <a:gd name="adj2" fmla="val 45718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4068720" y="1998720"/>
            <a:ext cx="1335240" cy="796680"/>
            <a:chOff x="4068720" y="1998720"/>
            <a:chExt cx="1335240" cy="796680"/>
          </a:xfrm>
        </p:grpSpPr>
        <p:sp>
          <p:nvSpPr>
            <p:cNvPr id="3268" name=""/>
            <p:cNvSpPr/>
            <p:nvPr/>
          </p:nvSpPr>
          <p:spPr>
            <a:xfrm>
              <a:off x="4629240" y="1998720"/>
              <a:ext cx="774720" cy="796680"/>
            </a:xfrm>
            <a:prstGeom prst="foldedCorner">
              <a:avLst>
                <a:gd name="adj" fmla="val 12500"/>
              </a:avLst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9" name=""/>
            <p:cNvGrpSpPr/>
            <p:nvPr/>
          </p:nvGrpSpPr>
          <p:grpSpPr>
            <a:xfrm>
              <a:off x="4816440" y="2162160"/>
              <a:ext cx="468360" cy="473040"/>
              <a:chOff x="4816440" y="2162160"/>
              <a:chExt cx="468360" cy="473040"/>
            </a:xfrm>
          </p:grpSpPr>
          <p:grpSp>
            <p:nvGrpSpPr>
              <p:cNvPr id="3270" name=""/>
              <p:cNvGrpSpPr/>
              <p:nvPr/>
            </p:nvGrpSpPr>
            <p:grpSpPr>
              <a:xfrm>
                <a:off x="4832640" y="2242440"/>
                <a:ext cx="48960" cy="312480"/>
                <a:chOff x="4832640" y="2242440"/>
                <a:chExt cx="48960" cy="312480"/>
              </a:xfrm>
            </p:grpSpPr>
            <p:sp>
              <p:nvSpPr>
                <p:cNvPr id="3271" name=""/>
                <p:cNvSpPr/>
                <p:nvPr/>
              </p:nvSpPr>
              <p:spPr>
                <a:xfrm>
                  <a:off x="4848840" y="2242440"/>
                  <a:ext cx="16200" cy="26640"/>
                </a:xfrm>
                <a:prstGeom prst="ellipse">
                  <a:avLst/>
                </a:prstGeom>
                <a:solidFill>
                  <a:srgbClr val="99cc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>
                  <a:off x="4848840" y="231156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4865400" y="238536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>
                  <a:off x="4865400" y="2456640"/>
                  <a:ext cx="16200" cy="26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>
                  <a:off x="4832640" y="2403000"/>
                  <a:ext cx="16200" cy="2664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4848840" y="2528280"/>
                  <a:ext cx="16200" cy="2664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7" name=""/>
              <p:cNvGrpSpPr/>
              <p:nvPr/>
            </p:nvGrpSpPr>
            <p:grpSpPr>
              <a:xfrm>
                <a:off x="4898880" y="2313720"/>
                <a:ext cx="55080" cy="214200"/>
                <a:chOff x="4898880" y="2313720"/>
                <a:chExt cx="55080" cy="214200"/>
              </a:xfrm>
            </p:grpSpPr>
            <p:sp>
              <p:nvSpPr>
                <p:cNvPr id="3278" name=""/>
                <p:cNvSpPr/>
                <p:nvPr/>
              </p:nvSpPr>
              <p:spPr>
                <a:xfrm>
                  <a:off x="4898880" y="2313720"/>
                  <a:ext cx="16560" cy="26640"/>
                </a:xfrm>
                <a:prstGeom prst="ellipse">
                  <a:avLst/>
                </a:prstGeom>
                <a:solidFill>
                  <a:srgbClr val="99ff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>
                  <a:off x="4937400" y="2340360"/>
                  <a:ext cx="16560" cy="266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>
                  <a:off x="4898880" y="2367000"/>
                  <a:ext cx="16560" cy="26640"/>
                </a:xfrm>
                <a:prstGeom prst="ellipse">
                  <a:avLst/>
                </a:prstGeom>
                <a:solidFill>
                  <a:srgbClr val="e0fa8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>
                  <a:off x="4937400" y="2412000"/>
                  <a:ext cx="16560" cy="266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4898880" y="2429640"/>
                  <a:ext cx="16560" cy="266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>
                  <a:off x="4898880" y="250128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>
                  <a:off x="4937400" y="2474280"/>
                  <a:ext cx="16560" cy="26640"/>
                </a:xfrm>
                <a:prstGeom prst="ellipse">
                  <a:avLst/>
                </a:prstGeom>
                <a:solidFill>
                  <a:srgbClr val="ffb16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5" name=""/>
              <p:cNvGrpSpPr/>
              <p:nvPr/>
            </p:nvGrpSpPr>
            <p:grpSpPr>
              <a:xfrm>
                <a:off x="4975200" y="2358360"/>
                <a:ext cx="78120" cy="115920"/>
                <a:chOff x="4975200" y="2358360"/>
                <a:chExt cx="78120" cy="115920"/>
              </a:xfrm>
            </p:grpSpPr>
            <p:sp>
              <p:nvSpPr>
                <p:cNvPr id="3286" name=""/>
                <p:cNvSpPr/>
                <p:nvPr/>
              </p:nvSpPr>
              <p:spPr>
                <a:xfrm>
                  <a:off x="5011200" y="235836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>
                  <a:off x="4975200" y="2385000"/>
                  <a:ext cx="16560" cy="26640"/>
                </a:xfrm>
                <a:prstGeom prst="ellipse">
                  <a:avLst/>
                </a:prstGeom>
                <a:solidFill>
                  <a:srgbClr val="33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5036760" y="242964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>
                  <a:off x="4980240" y="244764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5036760" y="2429640"/>
                  <a:ext cx="16560" cy="2664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1" name=""/>
              <p:cNvGrpSpPr/>
              <p:nvPr/>
            </p:nvGrpSpPr>
            <p:grpSpPr>
              <a:xfrm>
                <a:off x="5158080" y="2385360"/>
                <a:ext cx="98640" cy="59040"/>
                <a:chOff x="5158080" y="2385360"/>
                <a:chExt cx="98640" cy="59040"/>
              </a:xfrm>
            </p:grpSpPr>
            <p:sp>
              <p:nvSpPr>
                <p:cNvPr id="3292" name=""/>
                <p:cNvSpPr/>
                <p:nvPr/>
              </p:nvSpPr>
              <p:spPr>
                <a:xfrm>
                  <a:off x="5158080" y="2385360"/>
                  <a:ext cx="16200" cy="2664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>
                  <a:off x="5240520" y="2385360"/>
                  <a:ext cx="16200" cy="2664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5220000" y="2417760"/>
                  <a:ext cx="16200" cy="26640"/>
                </a:xfrm>
                <a:prstGeom prst="ellipse">
                  <a:avLst/>
                </a:prstGeom>
                <a:solidFill>
                  <a:srgbClr val="99ff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5190840" y="2385360"/>
                  <a:ext cx="16200" cy="266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6" name=""/>
              <p:cNvGrpSpPr/>
              <p:nvPr/>
            </p:nvGrpSpPr>
            <p:grpSpPr>
              <a:xfrm>
                <a:off x="5069880" y="2367360"/>
                <a:ext cx="71640" cy="71280"/>
                <a:chOff x="5069880" y="2367360"/>
                <a:chExt cx="71640" cy="71280"/>
              </a:xfrm>
            </p:grpSpPr>
            <p:sp>
              <p:nvSpPr>
                <p:cNvPr id="3297" name=""/>
                <p:cNvSpPr/>
                <p:nvPr/>
              </p:nvSpPr>
              <p:spPr>
                <a:xfrm>
                  <a:off x="5097240" y="2385000"/>
                  <a:ext cx="16560" cy="26640"/>
                </a:xfrm>
                <a:prstGeom prst="ellipse">
                  <a:avLst/>
                </a:prstGeom>
                <a:solidFill>
                  <a:srgbClr val="cc66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5124960" y="241200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5069880" y="2367360"/>
                  <a:ext cx="16560" cy="2664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0" name=""/>
              <p:cNvSpPr/>
              <p:nvPr/>
            </p:nvSpPr>
            <p:spPr>
              <a:xfrm>
                <a:off x="4860360" y="2162160"/>
                <a:ext cx="424440" cy="178560"/>
              </a:xfrm>
              <a:custGeom>
                <a:avLst/>
                <a:gdLst/>
                <a:ahLst/>
                <a:rect l="l" t="t" r="r" b="b"/>
                <a:pathLst>
                  <a:path w="4560" h="1056">
                    <a:moveTo>
                      <a:pt x="0" y="0"/>
                    </a:moveTo>
                    <a:cubicBezTo>
                      <a:pt x="72" y="184"/>
                      <a:pt x="144" y="368"/>
                      <a:pt x="480" y="528"/>
                    </a:cubicBezTo>
                    <a:cubicBezTo>
                      <a:pt x="816" y="688"/>
                      <a:pt x="1336" y="872"/>
                      <a:pt x="2016" y="960"/>
                    </a:cubicBezTo>
                    <a:cubicBezTo>
                      <a:pt x="2696" y="1048"/>
                      <a:pt x="4120" y="1040"/>
                      <a:pt x="4560" y="1056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 flipV="1">
                <a:off x="4860360" y="2474640"/>
                <a:ext cx="424440" cy="160560"/>
              </a:xfrm>
              <a:custGeom>
                <a:avLst/>
                <a:gdLst/>
                <a:ahLst/>
                <a:rect l="l" t="t" r="r" b="b"/>
                <a:pathLst>
                  <a:path w="4560" h="1056">
                    <a:moveTo>
                      <a:pt x="0" y="0"/>
                    </a:moveTo>
                    <a:cubicBezTo>
                      <a:pt x="72" y="184"/>
                      <a:pt x="144" y="368"/>
                      <a:pt x="480" y="528"/>
                    </a:cubicBezTo>
                    <a:cubicBezTo>
                      <a:pt x="816" y="688"/>
                      <a:pt x="1336" y="872"/>
                      <a:pt x="2016" y="960"/>
                    </a:cubicBezTo>
                    <a:cubicBezTo>
                      <a:pt x="2696" y="1048"/>
                      <a:pt x="4120" y="1040"/>
                      <a:pt x="4560" y="1056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4816440" y="2347920"/>
                <a:ext cx="459360" cy="117720"/>
              </a:xfrm>
              <a:prstGeom prst="rightArrow">
                <a:avLst>
                  <a:gd name="adj1" fmla="val 73500"/>
                  <a:gd name="adj2" fmla="val 58026"/>
                </a:avLst>
              </a:prstGeom>
              <a:solidFill>
                <a:srgbClr val="6767c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3" name=""/>
            <p:cNvSpPr/>
            <p:nvPr/>
          </p:nvSpPr>
          <p:spPr>
            <a:xfrm>
              <a:off x="4068720" y="2338200"/>
              <a:ext cx="546120" cy="298440"/>
            </a:xfrm>
            <a:prstGeom prst="rightArrow">
              <a:avLst>
                <a:gd name="adj1" fmla="val 50000"/>
                <a:gd name="adj2" fmla="val 45748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4" name=""/>
          <p:cNvGrpSpPr/>
          <p:nvPr/>
        </p:nvGrpSpPr>
        <p:grpSpPr>
          <a:xfrm>
            <a:off x="4067280" y="3025800"/>
            <a:ext cx="1334520" cy="796680"/>
            <a:chOff x="4067280" y="3025800"/>
            <a:chExt cx="1334520" cy="796680"/>
          </a:xfrm>
        </p:grpSpPr>
        <p:sp>
          <p:nvSpPr>
            <p:cNvPr id="3305" name=""/>
            <p:cNvSpPr/>
            <p:nvPr/>
          </p:nvSpPr>
          <p:spPr>
            <a:xfrm>
              <a:off x="4627440" y="3025800"/>
              <a:ext cx="774360" cy="796680"/>
            </a:xfrm>
            <a:prstGeom prst="foldedCorner">
              <a:avLst>
                <a:gd name="adj" fmla="val 12500"/>
              </a:avLst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6" name=""/>
            <p:cNvGrpSpPr/>
            <p:nvPr/>
          </p:nvGrpSpPr>
          <p:grpSpPr>
            <a:xfrm>
              <a:off x="4814640" y="3189240"/>
              <a:ext cx="468000" cy="473040"/>
              <a:chOff x="4814640" y="3189240"/>
              <a:chExt cx="468000" cy="473040"/>
            </a:xfrm>
          </p:grpSpPr>
          <p:grpSp>
            <p:nvGrpSpPr>
              <p:cNvPr id="3307" name=""/>
              <p:cNvGrpSpPr/>
              <p:nvPr/>
            </p:nvGrpSpPr>
            <p:grpSpPr>
              <a:xfrm>
                <a:off x="4830840" y="3269520"/>
                <a:ext cx="48960" cy="312480"/>
                <a:chOff x="4830840" y="3269520"/>
                <a:chExt cx="48960" cy="312480"/>
              </a:xfrm>
            </p:grpSpPr>
            <p:sp>
              <p:nvSpPr>
                <p:cNvPr id="3308" name=""/>
                <p:cNvSpPr/>
                <p:nvPr/>
              </p:nvSpPr>
              <p:spPr>
                <a:xfrm>
                  <a:off x="4847040" y="3269520"/>
                  <a:ext cx="16200" cy="26640"/>
                </a:xfrm>
                <a:prstGeom prst="ellipse">
                  <a:avLst/>
                </a:prstGeom>
                <a:solidFill>
                  <a:srgbClr val="99cc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>
                  <a:off x="4847040" y="333864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0" name=""/>
                <p:cNvSpPr/>
                <p:nvPr/>
              </p:nvSpPr>
              <p:spPr>
                <a:xfrm>
                  <a:off x="4863600" y="341244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1" name=""/>
                <p:cNvSpPr/>
                <p:nvPr/>
              </p:nvSpPr>
              <p:spPr>
                <a:xfrm>
                  <a:off x="4863600" y="3483720"/>
                  <a:ext cx="16200" cy="26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>
                  <a:off x="4830840" y="3430080"/>
                  <a:ext cx="16200" cy="2664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>
                  <a:off x="4847040" y="3555360"/>
                  <a:ext cx="16200" cy="2664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4" name=""/>
              <p:cNvGrpSpPr/>
              <p:nvPr/>
            </p:nvGrpSpPr>
            <p:grpSpPr>
              <a:xfrm>
                <a:off x="4897080" y="3340800"/>
                <a:ext cx="55080" cy="214200"/>
                <a:chOff x="4897080" y="3340800"/>
                <a:chExt cx="55080" cy="214200"/>
              </a:xfrm>
            </p:grpSpPr>
            <p:sp>
              <p:nvSpPr>
                <p:cNvPr id="3315" name=""/>
                <p:cNvSpPr/>
                <p:nvPr/>
              </p:nvSpPr>
              <p:spPr>
                <a:xfrm>
                  <a:off x="4897080" y="3340800"/>
                  <a:ext cx="16560" cy="26640"/>
                </a:xfrm>
                <a:prstGeom prst="ellipse">
                  <a:avLst/>
                </a:prstGeom>
                <a:solidFill>
                  <a:srgbClr val="99ff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6" name=""/>
                <p:cNvSpPr/>
                <p:nvPr/>
              </p:nvSpPr>
              <p:spPr>
                <a:xfrm>
                  <a:off x="4935600" y="3367440"/>
                  <a:ext cx="16560" cy="266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7" name=""/>
                <p:cNvSpPr/>
                <p:nvPr/>
              </p:nvSpPr>
              <p:spPr>
                <a:xfrm>
                  <a:off x="4897080" y="3394080"/>
                  <a:ext cx="16560" cy="26640"/>
                </a:xfrm>
                <a:prstGeom prst="ellipse">
                  <a:avLst/>
                </a:prstGeom>
                <a:solidFill>
                  <a:srgbClr val="e0fa8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>
                  <a:off x="4935600" y="3439080"/>
                  <a:ext cx="16560" cy="266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>
                  <a:off x="4897080" y="3456720"/>
                  <a:ext cx="16560" cy="266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>
                  <a:off x="4897080" y="352836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>
                  <a:off x="4935600" y="3501360"/>
                  <a:ext cx="16560" cy="26640"/>
                </a:xfrm>
                <a:prstGeom prst="ellipse">
                  <a:avLst/>
                </a:prstGeom>
                <a:solidFill>
                  <a:srgbClr val="ffb16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2" name=""/>
              <p:cNvGrpSpPr/>
              <p:nvPr/>
            </p:nvGrpSpPr>
            <p:grpSpPr>
              <a:xfrm>
                <a:off x="4973040" y="3385440"/>
                <a:ext cx="78120" cy="115920"/>
                <a:chOff x="4973040" y="3385440"/>
                <a:chExt cx="78120" cy="115920"/>
              </a:xfrm>
            </p:grpSpPr>
            <p:sp>
              <p:nvSpPr>
                <p:cNvPr id="3323" name=""/>
                <p:cNvSpPr/>
                <p:nvPr/>
              </p:nvSpPr>
              <p:spPr>
                <a:xfrm>
                  <a:off x="5009040" y="338544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>
                  <a:off x="4973040" y="3412080"/>
                  <a:ext cx="16560" cy="26640"/>
                </a:xfrm>
                <a:prstGeom prst="ellipse">
                  <a:avLst/>
                </a:prstGeom>
                <a:solidFill>
                  <a:srgbClr val="33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>
                  <a:off x="5034600" y="345672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>
                  <a:off x="4978080" y="347472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>
                  <a:off x="5034600" y="3456720"/>
                  <a:ext cx="16560" cy="2664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8" name=""/>
              <p:cNvGrpSpPr/>
              <p:nvPr/>
            </p:nvGrpSpPr>
            <p:grpSpPr>
              <a:xfrm>
                <a:off x="5155920" y="3412440"/>
                <a:ext cx="98640" cy="59040"/>
                <a:chOff x="5155920" y="3412440"/>
                <a:chExt cx="98640" cy="59040"/>
              </a:xfrm>
            </p:grpSpPr>
            <p:sp>
              <p:nvSpPr>
                <p:cNvPr id="3329" name=""/>
                <p:cNvSpPr/>
                <p:nvPr/>
              </p:nvSpPr>
              <p:spPr>
                <a:xfrm>
                  <a:off x="5155920" y="3412440"/>
                  <a:ext cx="16200" cy="2664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0" name=""/>
                <p:cNvSpPr/>
                <p:nvPr/>
              </p:nvSpPr>
              <p:spPr>
                <a:xfrm>
                  <a:off x="5238360" y="3412440"/>
                  <a:ext cx="16200" cy="2664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1" name=""/>
                <p:cNvSpPr/>
                <p:nvPr/>
              </p:nvSpPr>
              <p:spPr>
                <a:xfrm>
                  <a:off x="5217840" y="3444840"/>
                  <a:ext cx="16200" cy="26640"/>
                </a:xfrm>
                <a:prstGeom prst="ellipse">
                  <a:avLst/>
                </a:prstGeom>
                <a:solidFill>
                  <a:srgbClr val="99ff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2" name=""/>
                <p:cNvSpPr/>
                <p:nvPr/>
              </p:nvSpPr>
              <p:spPr>
                <a:xfrm>
                  <a:off x="5188680" y="3412440"/>
                  <a:ext cx="16200" cy="266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3" name=""/>
              <p:cNvGrpSpPr/>
              <p:nvPr/>
            </p:nvGrpSpPr>
            <p:grpSpPr>
              <a:xfrm>
                <a:off x="5068080" y="3394440"/>
                <a:ext cx="71280" cy="71280"/>
                <a:chOff x="5068080" y="3394440"/>
                <a:chExt cx="71280" cy="71280"/>
              </a:xfrm>
            </p:grpSpPr>
            <p:sp>
              <p:nvSpPr>
                <p:cNvPr id="3334" name=""/>
                <p:cNvSpPr/>
                <p:nvPr/>
              </p:nvSpPr>
              <p:spPr>
                <a:xfrm>
                  <a:off x="5095440" y="3412080"/>
                  <a:ext cx="16200" cy="26640"/>
                </a:xfrm>
                <a:prstGeom prst="ellipse">
                  <a:avLst/>
                </a:prstGeom>
                <a:solidFill>
                  <a:srgbClr val="cc66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5" name=""/>
                <p:cNvSpPr/>
                <p:nvPr/>
              </p:nvSpPr>
              <p:spPr>
                <a:xfrm>
                  <a:off x="5123160" y="343908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6" name=""/>
                <p:cNvSpPr/>
                <p:nvPr/>
              </p:nvSpPr>
              <p:spPr>
                <a:xfrm>
                  <a:off x="5068080" y="3394440"/>
                  <a:ext cx="16200" cy="2664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7" name=""/>
              <p:cNvSpPr/>
              <p:nvPr/>
            </p:nvSpPr>
            <p:spPr>
              <a:xfrm>
                <a:off x="4858560" y="3189240"/>
                <a:ext cx="424080" cy="178560"/>
              </a:xfrm>
              <a:custGeom>
                <a:avLst/>
                <a:gdLst/>
                <a:ahLst/>
                <a:rect l="l" t="t" r="r" b="b"/>
                <a:pathLst>
                  <a:path w="4560" h="1056">
                    <a:moveTo>
                      <a:pt x="0" y="0"/>
                    </a:moveTo>
                    <a:cubicBezTo>
                      <a:pt x="72" y="184"/>
                      <a:pt x="144" y="368"/>
                      <a:pt x="480" y="528"/>
                    </a:cubicBezTo>
                    <a:cubicBezTo>
                      <a:pt x="816" y="688"/>
                      <a:pt x="1336" y="872"/>
                      <a:pt x="2016" y="960"/>
                    </a:cubicBezTo>
                    <a:cubicBezTo>
                      <a:pt x="2696" y="1048"/>
                      <a:pt x="4120" y="1040"/>
                      <a:pt x="4560" y="1056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V="1">
                <a:off x="4858560" y="3501720"/>
                <a:ext cx="424080" cy="160560"/>
              </a:xfrm>
              <a:custGeom>
                <a:avLst/>
                <a:gdLst/>
                <a:ahLst/>
                <a:rect l="l" t="t" r="r" b="b"/>
                <a:pathLst>
                  <a:path w="4560" h="1056">
                    <a:moveTo>
                      <a:pt x="0" y="0"/>
                    </a:moveTo>
                    <a:cubicBezTo>
                      <a:pt x="72" y="184"/>
                      <a:pt x="144" y="368"/>
                      <a:pt x="480" y="528"/>
                    </a:cubicBezTo>
                    <a:cubicBezTo>
                      <a:pt x="816" y="688"/>
                      <a:pt x="1336" y="872"/>
                      <a:pt x="2016" y="960"/>
                    </a:cubicBezTo>
                    <a:cubicBezTo>
                      <a:pt x="2696" y="1048"/>
                      <a:pt x="4120" y="1040"/>
                      <a:pt x="4560" y="1056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4814640" y="3375000"/>
                <a:ext cx="459000" cy="117720"/>
              </a:xfrm>
              <a:prstGeom prst="rightArrow">
                <a:avLst>
                  <a:gd name="adj1" fmla="val 73500"/>
                  <a:gd name="adj2" fmla="val 57981"/>
                </a:avLst>
              </a:prstGeom>
              <a:solidFill>
                <a:srgbClr val="6767c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0" name=""/>
            <p:cNvSpPr/>
            <p:nvPr/>
          </p:nvSpPr>
          <p:spPr>
            <a:xfrm>
              <a:off x="4067280" y="3365280"/>
              <a:ext cx="545760" cy="298440"/>
            </a:xfrm>
            <a:prstGeom prst="rightArrow">
              <a:avLst>
                <a:gd name="adj1" fmla="val 50000"/>
                <a:gd name="adj2" fmla="val 45718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1" name=""/>
          <p:cNvSpPr/>
          <p:nvPr/>
        </p:nvSpPr>
        <p:spPr>
          <a:xfrm>
            <a:off x="2747880" y="4952880"/>
            <a:ext cx="1569960" cy="1017720"/>
          </a:xfrm>
          <a:prstGeom prst="rect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jamento Estratégico do Negó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>
            <a:off x="4243320" y="4952880"/>
            <a:ext cx="1319400" cy="10130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jamento Estratégico de Produ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5562720" y="4952880"/>
            <a:ext cx="990360" cy="1014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lanej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ento do 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4" name=""/>
          <p:cNvGrpSpPr/>
          <p:nvPr/>
        </p:nvGrpSpPr>
        <p:grpSpPr>
          <a:xfrm>
            <a:off x="3936240" y="3200760"/>
            <a:ext cx="2807640" cy="2010240"/>
            <a:chOff x="3936240" y="3200760"/>
            <a:chExt cx="2807640" cy="2010240"/>
          </a:xfrm>
        </p:grpSpPr>
        <p:grpSp>
          <p:nvGrpSpPr>
            <p:cNvPr id="3345" name=""/>
            <p:cNvGrpSpPr/>
            <p:nvPr/>
          </p:nvGrpSpPr>
          <p:grpSpPr>
            <a:xfrm>
              <a:off x="3936240" y="3622320"/>
              <a:ext cx="1917360" cy="1588680"/>
              <a:chOff x="3936240" y="3622320"/>
              <a:chExt cx="1917360" cy="1588680"/>
            </a:xfrm>
          </p:grpSpPr>
          <p:grpSp>
            <p:nvGrpSpPr>
              <p:cNvPr id="3346" name=""/>
              <p:cNvGrpSpPr/>
              <p:nvPr/>
            </p:nvGrpSpPr>
            <p:grpSpPr>
              <a:xfrm>
                <a:off x="3979440" y="3622320"/>
                <a:ext cx="1863360" cy="1562040"/>
                <a:chOff x="3979440" y="3622320"/>
                <a:chExt cx="1863360" cy="1562040"/>
              </a:xfrm>
            </p:grpSpPr>
            <p:grpSp>
              <p:nvGrpSpPr>
                <p:cNvPr id="3347" name=""/>
                <p:cNvGrpSpPr/>
                <p:nvPr/>
              </p:nvGrpSpPr>
              <p:grpSpPr>
                <a:xfrm>
                  <a:off x="3979440" y="3622320"/>
                  <a:ext cx="1863360" cy="1562040"/>
                  <a:chOff x="3979440" y="3622320"/>
                  <a:chExt cx="1863360" cy="1562040"/>
                </a:xfrm>
              </p:grpSpPr>
              <p:sp>
                <p:nvSpPr>
                  <p:cNvPr id="3348" name=""/>
                  <p:cNvSpPr/>
                  <p:nvPr/>
                </p:nvSpPr>
                <p:spPr>
                  <a:xfrm rot="15622800">
                    <a:off x="4013640" y="4060800"/>
                    <a:ext cx="109836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9" name=""/>
                  <p:cNvSpPr/>
                  <p:nvPr/>
                </p:nvSpPr>
                <p:spPr>
                  <a:xfrm rot="15622800">
                    <a:off x="4532040" y="3709440"/>
                    <a:ext cx="121140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0" name=""/>
                <p:cNvGrpSpPr/>
                <p:nvPr/>
              </p:nvGrpSpPr>
              <p:grpSpPr>
                <a:xfrm>
                  <a:off x="4013280" y="3698280"/>
                  <a:ext cx="1756080" cy="1418400"/>
                  <a:chOff x="4013280" y="3698280"/>
                  <a:chExt cx="1756080" cy="1418400"/>
                </a:xfrm>
              </p:grpSpPr>
              <p:sp>
                <p:nvSpPr>
                  <p:cNvPr id="3351" name=""/>
                  <p:cNvSpPr/>
                  <p:nvPr/>
                </p:nvSpPr>
                <p:spPr>
                  <a:xfrm rot="15622800">
                    <a:off x="5386680" y="4507920"/>
                    <a:ext cx="3139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2" name=""/>
                  <p:cNvSpPr/>
                  <p:nvPr/>
                </p:nvSpPr>
                <p:spPr>
                  <a:xfrm rot="15622800">
                    <a:off x="4769640" y="3422520"/>
                    <a:ext cx="112680" cy="79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 rot="15622800">
                    <a:off x="3945240" y="4239360"/>
                    <a:ext cx="44676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4" name=""/>
                  <p:cNvSpPr/>
                  <p:nvPr/>
                </p:nvSpPr>
                <p:spPr>
                  <a:xfrm rot="15622800">
                    <a:off x="4711680" y="4717440"/>
                    <a:ext cx="142560" cy="56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55" name=""/>
              <p:cNvSpPr/>
              <p:nvPr/>
            </p:nvSpPr>
            <p:spPr>
              <a:xfrm rot="15622800">
                <a:off x="4322880" y="3575520"/>
                <a:ext cx="1263960" cy="1608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56" name=""/>
              <p:cNvGrpSpPr/>
              <p:nvPr/>
            </p:nvGrpSpPr>
            <p:grpSpPr>
              <a:xfrm>
                <a:off x="3936240" y="3696480"/>
                <a:ext cx="1797120" cy="1514520"/>
                <a:chOff x="3936240" y="3696480"/>
                <a:chExt cx="1797120" cy="1514520"/>
              </a:xfrm>
            </p:grpSpPr>
            <p:sp>
              <p:nvSpPr>
                <p:cNvPr id="3357" name=""/>
                <p:cNvSpPr/>
                <p:nvPr/>
              </p:nvSpPr>
              <p:spPr>
                <a:xfrm rot="15622800">
                  <a:off x="4219560" y="3669120"/>
                  <a:ext cx="1234080" cy="156924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8" name=""/>
                <p:cNvSpPr/>
                <p:nvPr/>
              </p:nvSpPr>
              <p:spPr>
                <a:xfrm rot="15622800">
                  <a:off x="4203000" y="3649320"/>
                  <a:ext cx="1263600" cy="16084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9" name=""/>
                <p:cNvSpPr/>
                <p:nvPr/>
              </p:nvSpPr>
              <p:spPr>
                <a:xfrm rot="15622800">
                  <a:off x="4238640" y="3692160"/>
                  <a:ext cx="1193400" cy="15228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60" name=""/>
            <p:cNvGrpSpPr/>
            <p:nvPr/>
          </p:nvGrpSpPr>
          <p:grpSpPr>
            <a:xfrm>
              <a:off x="5454360" y="3200760"/>
              <a:ext cx="1289520" cy="863280"/>
              <a:chOff x="5454360" y="3200760"/>
              <a:chExt cx="1289520" cy="863280"/>
            </a:xfrm>
          </p:grpSpPr>
          <p:sp>
            <p:nvSpPr>
              <p:cNvPr id="3361" name=""/>
              <p:cNvSpPr/>
              <p:nvPr/>
            </p:nvSpPr>
            <p:spPr>
              <a:xfrm rot="15622800">
                <a:off x="5776920" y="3057120"/>
                <a:ext cx="617760" cy="117612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 rot="15622800">
                <a:off x="5497200" y="3830040"/>
                <a:ext cx="19008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 rot="15622800">
                <a:off x="5522040" y="3808440"/>
                <a:ext cx="192600" cy="26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rot="15622800">
                <a:off x="5588280" y="3828240"/>
                <a:ext cx="117000" cy="30096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 rot="15622800">
                <a:off x="5496120" y="3831480"/>
                <a:ext cx="189720" cy="23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 rot="15622800">
                <a:off x="5647320" y="3735360"/>
                <a:ext cx="19080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7" name=""/>
              <p:cNvGrpSpPr/>
              <p:nvPr/>
            </p:nvGrpSpPr>
            <p:grpSpPr>
              <a:xfrm>
                <a:off x="5631120" y="3715200"/>
                <a:ext cx="289800" cy="242640"/>
                <a:chOff x="5631120" y="3715200"/>
                <a:chExt cx="289800" cy="242640"/>
              </a:xfrm>
            </p:grpSpPr>
            <p:grpSp>
              <p:nvGrpSpPr>
                <p:cNvPr id="3368" name=""/>
                <p:cNvGrpSpPr/>
                <p:nvPr/>
              </p:nvGrpSpPr>
              <p:grpSpPr>
                <a:xfrm>
                  <a:off x="5631120" y="3728880"/>
                  <a:ext cx="266400" cy="228960"/>
                  <a:chOff x="5631120" y="3728880"/>
                  <a:chExt cx="266400" cy="228960"/>
                </a:xfrm>
              </p:grpSpPr>
              <p:sp>
                <p:nvSpPr>
                  <p:cNvPr id="3369" name=""/>
                  <p:cNvSpPr/>
                  <p:nvPr/>
                </p:nvSpPr>
                <p:spPr>
                  <a:xfrm rot="15622800">
                    <a:off x="5668920" y="372528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0" name=""/>
                  <p:cNvSpPr/>
                  <p:nvPr/>
                </p:nvSpPr>
                <p:spPr>
                  <a:xfrm rot="15622800">
                    <a:off x="5668200" y="3724560"/>
                    <a:ext cx="191880" cy="237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1" name=""/>
                  <p:cNvSpPr/>
                  <p:nvPr/>
                </p:nvSpPr>
                <p:spPr>
                  <a:xfrm rot="15622800">
                    <a:off x="5668920" y="372420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72" name=""/>
                <p:cNvSpPr/>
                <p:nvPr/>
              </p:nvSpPr>
              <p:spPr>
                <a:xfrm rot="15622800">
                  <a:off x="5692680" y="371052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3" name=""/>
              <p:cNvGrpSpPr/>
              <p:nvPr/>
            </p:nvGrpSpPr>
            <p:grpSpPr>
              <a:xfrm>
                <a:off x="5677200" y="3688920"/>
                <a:ext cx="290160" cy="242640"/>
                <a:chOff x="5677200" y="3688920"/>
                <a:chExt cx="290160" cy="242640"/>
              </a:xfrm>
            </p:grpSpPr>
            <p:grpSp>
              <p:nvGrpSpPr>
                <p:cNvPr id="3374" name=""/>
                <p:cNvGrpSpPr/>
                <p:nvPr/>
              </p:nvGrpSpPr>
              <p:grpSpPr>
                <a:xfrm>
                  <a:off x="5677200" y="3702600"/>
                  <a:ext cx="266040" cy="228960"/>
                  <a:chOff x="5677200" y="3702600"/>
                  <a:chExt cx="266040" cy="228960"/>
                </a:xfrm>
              </p:grpSpPr>
              <p:sp>
                <p:nvSpPr>
                  <p:cNvPr id="3375" name=""/>
                  <p:cNvSpPr/>
                  <p:nvPr/>
                </p:nvSpPr>
                <p:spPr>
                  <a:xfrm rot="15622800">
                    <a:off x="5714280" y="3698640"/>
                    <a:ext cx="19116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6" name=""/>
                  <p:cNvSpPr/>
                  <p:nvPr/>
                </p:nvSpPr>
                <p:spPr>
                  <a:xfrm rot="15622800">
                    <a:off x="5713920" y="369828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7" name=""/>
                  <p:cNvSpPr/>
                  <p:nvPr/>
                </p:nvSpPr>
                <p:spPr>
                  <a:xfrm rot="15622800">
                    <a:off x="5714640" y="3698280"/>
                    <a:ext cx="1900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78" name=""/>
                <p:cNvSpPr/>
                <p:nvPr/>
              </p:nvSpPr>
              <p:spPr>
                <a:xfrm rot="15622800">
                  <a:off x="5739120" y="3683880"/>
                  <a:ext cx="19044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9" name=""/>
              <p:cNvGrpSpPr/>
              <p:nvPr/>
            </p:nvGrpSpPr>
            <p:grpSpPr>
              <a:xfrm>
                <a:off x="5719680" y="3674520"/>
                <a:ext cx="266760" cy="229680"/>
                <a:chOff x="5719680" y="3674520"/>
                <a:chExt cx="266760" cy="229680"/>
              </a:xfrm>
            </p:grpSpPr>
            <p:sp>
              <p:nvSpPr>
                <p:cNvPr id="3380" name=""/>
                <p:cNvSpPr/>
                <p:nvPr/>
              </p:nvSpPr>
              <p:spPr>
                <a:xfrm rot="15622800">
                  <a:off x="5757480" y="3671280"/>
                  <a:ext cx="191160" cy="23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 rot="15622800">
                  <a:off x="5756400" y="3670200"/>
                  <a:ext cx="192600" cy="23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2" name=""/>
              <p:cNvGrpSpPr/>
              <p:nvPr/>
            </p:nvGrpSpPr>
            <p:grpSpPr>
              <a:xfrm>
                <a:off x="5719680" y="3660840"/>
                <a:ext cx="290160" cy="242280"/>
                <a:chOff x="5719680" y="3660840"/>
                <a:chExt cx="290160" cy="242280"/>
              </a:xfrm>
            </p:grpSpPr>
            <p:sp>
              <p:nvSpPr>
                <p:cNvPr id="3383" name=""/>
                <p:cNvSpPr/>
                <p:nvPr/>
              </p:nvSpPr>
              <p:spPr>
                <a:xfrm rot="15622800">
                  <a:off x="5756760" y="3670200"/>
                  <a:ext cx="19152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 rot="15622800">
                  <a:off x="5780880" y="365616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5" name=""/>
              <p:cNvGrpSpPr/>
              <p:nvPr/>
            </p:nvGrpSpPr>
            <p:grpSpPr>
              <a:xfrm>
                <a:off x="5531760" y="3261600"/>
                <a:ext cx="1119960" cy="770760"/>
                <a:chOff x="5531760" y="3261600"/>
                <a:chExt cx="1119960" cy="770760"/>
              </a:xfrm>
            </p:grpSpPr>
            <p:sp>
              <p:nvSpPr>
                <p:cNvPr id="3386" name=""/>
                <p:cNvSpPr/>
                <p:nvPr/>
              </p:nvSpPr>
              <p:spPr>
                <a:xfrm flipV="1">
                  <a:off x="5531760" y="3261600"/>
                  <a:ext cx="961200" cy="60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 flipV="1">
                  <a:off x="5644800" y="3414960"/>
                  <a:ext cx="1006920" cy="617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8" name=""/>
              <p:cNvGrpSpPr/>
              <p:nvPr/>
            </p:nvGrpSpPr>
            <p:grpSpPr>
              <a:xfrm>
                <a:off x="5762160" y="3636000"/>
                <a:ext cx="285480" cy="240840"/>
                <a:chOff x="5762160" y="3636000"/>
                <a:chExt cx="285480" cy="240840"/>
              </a:xfrm>
            </p:grpSpPr>
            <p:grpSp>
              <p:nvGrpSpPr>
                <p:cNvPr id="3389" name=""/>
                <p:cNvGrpSpPr/>
                <p:nvPr/>
              </p:nvGrpSpPr>
              <p:grpSpPr>
                <a:xfrm>
                  <a:off x="5762160" y="3647880"/>
                  <a:ext cx="266040" cy="228960"/>
                  <a:chOff x="5762160" y="3647880"/>
                  <a:chExt cx="266040" cy="228960"/>
                </a:xfrm>
              </p:grpSpPr>
              <p:sp>
                <p:nvSpPr>
                  <p:cNvPr id="3390" name=""/>
                  <p:cNvSpPr/>
                  <p:nvPr/>
                </p:nvSpPr>
                <p:spPr>
                  <a:xfrm rot="15622800">
                    <a:off x="5799960" y="3644280"/>
                    <a:ext cx="19080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1" name=""/>
                  <p:cNvSpPr/>
                  <p:nvPr/>
                </p:nvSpPr>
                <p:spPr>
                  <a:xfrm rot="15622800">
                    <a:off x="5798880" y="364356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92" name=""/>
                <p:cNvSpPr/>
                <p:nvPr/>
              </p:nvSpPr>
              <p:spPr>
                <a:xfrm rot="15622800">
                  <a:off x="5799240" y="364320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 rot="15622800">
                  <a:off x="5819400" y="363132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4" name=""/>
              <p:cNvSpPr/>
              <p:nvPr/>
            </p:nvSpPr>
            <p:spPr>
              <a:xfrm rot="15622800">
                <a:off x="6026760" y="3171960"/>
                <a:ext cx="380880" cy="86904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 rot="15622800">
                <a:off x="6490800" y="3192480"/>
                <a:ext cx="208080" cy="26640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6" name=""/>
          <p:cNvSpPr/>
          <p:nvPr/>
        </p:nvSpPr>
        <p:spPr>
          <a:xfrm>
            <a:off x="885960" y="6424560"/>
            <a:ext cx="876240" cy="433440"/>
          </a:xfrm>
          <a:prstGeom prst="rightArrow">
            <a:avLst>
              <a:gd name="adj1" fmla="val 50000"/>
              <a:gd name="adj2" fmla="val 5054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 rot="8530800">
            <a:off x="6222600" y="5663880"/>
            <a:ext cx="876240" cy="433440"/>
          </a:xfrm>
          <a:prstGeom prst="rightArrow">
            <a:avLst>
              <a:gd name="adj1" fmla="val 50000"/>
              <a:gd name="adj2" fmla="val 5054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Localização das fases do pré-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escopo da revisão d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atividades para a revisão d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r informações sobre tecnologia 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o portfólio de produtos d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 mudanças no portfóli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r a viabilidade do portfóli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idir o início do planejamento de um dos produtos do portfó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28840" y="5913360"/>
            <a:ext cx="2824200" cy="944640"/>
          </a:xfrm>
          <a:prstGeom prst="rect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o de Planejamento Estraté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43320" y="5913360"/>
            <a:ext cx="2338560" cy="6238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é-Desenvolv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0"/>
            <a:ext cx="2590920" cy="5911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53080" y="3935520"/>
            <a:ext cx="2590920" cy="2112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53080" y="5965920"/>
            <a:ext cx="2590920" cy="477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nvolvimento e Pós-Desenvolv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59160" y="6378480"/>
            <a:ext cx="2333880" cy="479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68920" y="6419880"/>
            <a:ext cx="2575080" cy="4381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0"/>
            <a:ext cx="990360" cy="39862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47880" y="0"/>
            <a:ext cx="1569960" cy="3978360"/>
          </a:xfrm>
          <a:prstGeom prst="rect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27040" y="0"/>
            <a:ext cx="1392480" cy="3962520"/>
          </a:xfrm>
          <a:prstGeom prst="rect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0800000">
            <a:off x="-1440" y="-360"/>
            <a:ext cx="1447560" cy="3962520"/>
          </a:xfrm>
          <a:prstGeom prst="rect">
            <a:avLst/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ção Grá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87800" y="5767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97640" y="2216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31200" y="2216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048520" y="2216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721720" y="2216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16760" y="2216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43320" y="0"/>
            <a:ext cx="1319400" cy="3962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781600" y="0"/>
            <a:ext cx="3362040" cy="913680"/>
            <a:chOff x="5781600" y="0"/>
            <a:chExt cx="3362040" cy="913680"/>
          </a:xfrm>
        </p:grpSpPr>
        <p:grpSp>
          <p:nvGrpSpPr>
            <p:cNvPr id="279" name=""/>
            <p:cNvGrpSpPr/>
            <p:nvPr/>
          </p:nvGrpSpPr>
          <p:grpSpPr>
            <a:xfrm>
              <a:off x="6391440" y="0"/>
              <a:ext cx="2441160" cy="596160"/>
              <a:chOff x="6391440" y="0"/>
              <a:chExt cx="2441160" cy="596160"/>
            </a:xfrm>
          </p:grpSpPr>
          <p:sp>
            <p:nvSpPr>
              <p:cNvPr id="280" name=""/>
              <p:cNvSpPr/>
              <p:nvPr/>
            </p:nvSpPr>
            <p:spPr>
              <a:xfrm>
                <a:off x="7005600" y="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448400" y="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064360" y="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564240" y="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91440" y="14256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66320" y="163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159680" y="14256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368840" y="163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02480" y="14256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815600" y="163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20240" y="14256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373960" y="163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718320" y="14256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08400" y="163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45160" y="28872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13760" y="28872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758000" y="28872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310600" y="180720"/>
                <a:ext cx="522000" cy="415440"/>
                <a:chOff x="8310600" y="180720"/>
                <a:chExt cx="522000" cy="4154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8330040" y="19944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310600" y="18072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310600" y="18072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6870600" y="180720"/>
                <a:ext cx="501480" cy="415440"/>
                <a:chOff x="6870600" y="180720"/>
                <a:chExt cx="501480" cy="4154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890400" y="19944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870600" y="18072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870600" y="18072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6429240" y="180720"/>
                <a:ext cx="2346480" cy="415440"/>
                <a:chOff x="6429240" y="180720"/>
                <a:chExt cx="2346480" cy="41544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6429240" y="180720"/>
                  <a:ext cx="501120" cy="415440"/>
                  <a:chOff x="6429240" y="180720"/>
                  <a:chExt cx="501120" cy="4154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6446520" y="19944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6429240" y="18072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6429240" y="18072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7313760" y="180720"/>
                  <a:ext cx="502560" cy="415440"/>
                  <a:chOff x="7313760" y="180720"/>
                  <a:chExt cx="502560" cy="41544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7333560" y="19944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7313760" y="18072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7313760" y="18072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7777080" y="180720"/>
                  <a:ext cx="498240" cy="415440"/>
                  <a:chOff x="7777080" y="180720"/>
                  <a:chExt cx="498240" cy="415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7777080" y="19944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777080" y="18072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7777080" y="18072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8375760" y="28836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854760" y="28836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6524640" y="158760"/>
              <a:ext cx="2441160" cy="596160"/>
              <a:chOff x="6524640" y="158760"/>
              <a:chExt cx="2441160" cy="596160"/>
            </a:xfrm>
          </p:grpSpPr>
          <p:sp>
            <p:nvSpPr>
              <p:cNvPr id="321" name=""/>
              <p:cNvSpPr/>
              <p:nvPr/>
            </p:nvSpPr>
            <p:spPr>
              <a:xfrm>
                <a:off x="7138800" y="15876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81600" y="15876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197560" y="15876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697440" y="15876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524640" y="30132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599520" y="322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292880" y="30132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502040" y="322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735680" y="30132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948800" y="322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353440" y="30132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507160" y="322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1520" y="30132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041600" y="322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78360" y="44748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446960" y="44748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891200" y="44748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8443800" y="339480"/>
                <a:ext cx="522000" cy="415440"/>
                <a:chOff x="8443800" y="339480"/>
                <a:chExt cx="522000" cy="4154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8463240" y="35820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443800" y="33948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443800" y="33948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003800" y="339480"/>
                <a:ext cx="501480" cy="415440"/>
                <a:chOff x="7003800" y="339480"/>
                <a:chExt cx="501480" cy="4154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7023600" y="35820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003800" y="33948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003800" y="33948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6562440" y="339480"/>
                <a:ext cx="2346480" cy="415440"/>
                <a:chOff x="6562440" y="339480"/>
                <a:chExt cx="2346480" cy="41544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6562440" y="339480"/>
                  <a:ext cx="501120" cy="415440"/>
                  <a:chOff x="6562440" y="339480"/>
                  <a:chExt cx="501120" cy="41544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6579720" y="35820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6562440" y="33948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562440" y="33948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7446960" y="339480"/>
                  <a:ext cx="502560" cy="415440"/>
                  <a:chOff x="7446960" y="339480"/>
                  <a:chExt cx="502560" cy="41544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>
                    <a:off x="7466760" y="35820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7446960" y="33948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7446960" y="33948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7910280" y="339480"/>
                  <a:ext cx="498240" cy="415440"/>
                  <a:chOff x="7910280" y="339480"/>
                  <a:chExt cx="498240" cy="41544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7910280" y="35820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7910280" y="33948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7910280" y="33948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9" name=""/>
                <p:cNvSpPr/>
                <p:nvPr/>
              </p:nvSpPr>
              <p:spPr>
                <a:xfrm>
                  <a:off x="8508960" y="44712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987960" y="44712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1" name=""/>
            <p:cNvSpPr/>
            <p:nvPr/>
          </p:nvSpPr>
          <p:spPr>
            <a:xfrm>
              <a:off x="6512040" y="272880"/>
              <a:ext cx="4032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702480" y="317520"/>
              <a:ext cx="2441160" cy="596160"/>
              <a:chOff x="6702480" y="317520"/>
              <a:chExt cx="2441160" cy="596160"/>
            </a:xfrm>
          </p:grpSpPr>
          <p:sp>
            <p:nvSpPr>
              <p:cNvPr id="363" name=""/>
              <p:cNvSpPr/>
              <p:nvPr/>
            </p:nvSpPr>
            <p:spPr>
              <a:xfrm>
                <a:off x="7316640" y="31752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759440" y="31752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375400" y="31752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75280" y="31752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702480" y="46008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777360" y="4809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470720" y="46008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679880" y="4809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913520" y="46008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126640" y="4809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31280" y="46008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685000" y="4809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029360" y="46008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219440" y="4809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856200" y="60624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24800" y="60624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069040" y="60624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8621640" y="498240"/>
                <a:ext cx="522000" cy="415440"/>
                <a:chOff x="8621640" y="498240"/>
                <a:chExt cx="522000" cy="4154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8641080" y="51696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621640" y="49824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621640" y="49824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7181640" y="498240"/>
                <a:ext cx="501480" cy="415440"/>
                <a:chOff x="7181640" y="498240"/>
                <a:chExt cx="501480" cy="41544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201440" y="51696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181640" y="49824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181640" y="49824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6740280" y="498240"/>
                <a:ext cx="2346480" cy="415440"/>
                <a:chOff x="6740280" y="498240"/>
                <a:chExt cx="2346480" cy="41544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6740280" y="498240"/>
                  <a:ext cx="501120" cy="415440"/>
                  <a:chOff x="6740280" y="498240"/>
                  <a:chExt cx="501120" cy="41544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6757560" y="51696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6740280" y="49824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6740280" y="49824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7624800" y="498240"/>
                  <a:ext cx="502560" cy="415440"/>
                  <a:chOff x="7624800" y="498240"/>
                  <a:chExt cx="502560" cy="41544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7644600" y="51696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7624800" y="49824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7624800" y="49824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8088120" y="498240"/>
                  <a:ext cx="498240" cy="415440"/>
                  <a:chOff x="8088120" y="498240"/>
                  <a:chExt cx="498240" cy="41544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8088120" y="51696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088120" y="49824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088120" y="49824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"/>
                <p:cNvSpPr/>
                <p:nvPr/>
              </p:nvSpPr>
              <p:spPr>
                <a:xfrm>
                  <a:off x="8686800" y="60588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165800" y="60588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3" name=""/>
            <p:cNvGrpSpPr/>
            <p:nvPr/>
          </p:nvGrpSpPr>
          <p:grpSpPr>
            <a:xfrm>
              <a:off x="5781600" y="307800"/>
              <a:ext cx="402120" cy="470160"/>
              <a:chOff x="5781600" y="307800"/>
              <a:chExt cx="402120" cy="47016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5781600" y="307800"/>
                <a:ext cx="247680" cy="325080"/>
                <a:chOff x="5781600" y="307800"/>
                <a:chExt cx="247680" cy="32508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5781600" y="307800"/>
                  <a:ext cx="247680" cy="325080"/>
                  <a:chOff x="5781600" y="307800"/>
                  <a:chExt cx="247680" cy="3250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5781600" y="30780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8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5781600" y="30780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8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5992920" y="307800"/>
                  <a:ext cx="36360" cy="36720"/>
                  <a:chOff x="5992920" y="307800"/>
                  <a:chExt cx="36360" cy="3672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5992920" y="307800"/>
                    <a:ext cx="36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0" y="0"/>
                        </a:moveTo>
                        <a:lnTo>
                          <a:pt x="17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5992920" y="307800"/>
                    <a:ext cx="36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0" y="0"/>
                        </a:moveTo>
                        <a:lnTo>
                          <a:pt x="17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5859000" y="380160"/>
                <a:ext cx="247680" cy="325080"/>
                <a:chOff x="5859000" y="380160"/>
                <a:chExt cx="247680" cy="32508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5859000" y="380160"/>
                  <a:ext cx="247680" cy="325080"/>
                  <a:chOff x="5859000" y="380160"/>
                  <a:chExt cx="247680" cy="32508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5859000" y="38016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7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859000" y="38016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7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6069600" y="380160"/>
                  <a:ext cx="36720" cy="34920"/>
                  <a:chOff x="6069600" y="380160"/>
                  <a:chExt cx="36720" cy="3492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6069600" y="38016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6069600" y="38016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5915880" y="452520"/>
                <a:ext cx="267840" cy="325440"/>
                <a:chOff x="5915880" y="452520"/>
                <a:chExt cx="267840" cy="325440"/>
              </a:xfrm>
            </p:grpSpPr>
            <p:grpSp>
              <p:nvGrpSpPr>
                <p:cNvPr id="419" name=""/>
                <p:cNvGrpSpPr/>
                <p:nvPr/>
              </p:nvGrpSpPr>
              <p:grpSpPr>
                <a:xfrm>
                  <a:off x="5915880" y="452520"/>
                  <a:ext cx="267840" cy="325440"/>
                  <a:chOff x="5915880" y="452520"/>
                  <a:chExt cx="267840" cy="32544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5915880" y="452520"/>
                    <a:ext cx="26784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57">
                        <a:moveTo>
                          <a:pt x="105" y="0"/>
                        </a:moveTo>
                        <a:lnTo>
                          <a:pt x="122" y="17"/>
                        </a:lnTo>
                        <a:lnTo>
                          <a:pt x="122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5915880" y="452520"/>
                    <a:ext cx="26784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57">
                        <a:moveTo>
                          <a:pt x="105" y="0"/>
                        </a:moveTo>
                        <a:lnTo>
                          <a:pt x="122" y="17"/>
                        </a:lnTo>
                        <a:lnTo>
                          <a:pt x="122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105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6146640" y="452520"/>
                  <a:ext cx="36720" cy="34920"/>
                  <a:chOff x="6146640" y="452520"/>
                  <a:chExt cx="36720" cy="3492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6146640" y="45252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146640" y="45252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25" name=""/>
          <p:cNvGrpSpPr/>
          <p:nvPr/>
        </p:nvGrpSpPr>
        <p:grpSpPr>
          <a:xfrm>
            <a:off x="4027320" y="58680"/>
            <a:ext cx="1335240" cy="796680"/>
            <a:chOff x="4027320" y="58680"/>
            <a:chExt cx="1335240" cy="796680"/>
          </a:xfrm>
        </p:grpSpPr>
        <p:sp>
          <p:nvSpPr>
            <p:cNvPr id="426" name=""/>
            <p:cNvSpPr/>
            <p:nvPr/>
          </p:nvSpPr>
          <p:spPr>
            <a:xfrm>
              <a:off x="4587840" y="58680"/>
              <a:ext cx="774720" cy="796680"/>
            </a:xfrm>
            <a:prstGeom prst="foldedCorner">
              <a:avLst>
                <a:gd name="adj" fmla="val 12500"/>
              </a:avLst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4775040" y="222120"/>
              <a:ext cx="468360" cy="473040"/>
              <a:chOff x="4775040" y="222120"/>
              <a:chExt cx="468360" cy="47304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4791240" y="302400"/>
                <a:ext cx="48960" cy="312480"/>
                <a:chOff x="4791240" y="302400"/>
                <a:chExt cx="48960" cy="3124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4807440" y="302400"/>
                  <a:ext cx="16200" cy="26640"/>
                </a:xfrm>
                <a:prstGeom prst="ellipse">
                  <a:avLst/>
                </a:prstGeom>
                <a:solidFill>
                  <a:srgbClr val="99cc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807440" y="37152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824000" y="44532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824000" y="516600"/>
                  <a:ext cx="16200" cy="26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791240" y="462960"/>
                  <a:ext cx="16200" cy="2664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807440" y="588240"/>
                  <a:ext cx="16200" cy="2664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857480" y="373680"/>
                <a:ext cx="55080" cy="214200"/>
                <a:chOff x="4857480" y="373680"/>
                <a:chExt cx="55080" cy="2142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4857480" y="373680"/>
                  <a:ext cx="16560" cy="26640"/>
                </a:xfrm>
                <a:prstGeom prst="ellipse">
                  <a:avLst/>
                </a:prstGeom>
                <a:solidFill>
                  <a:srgbClr val="99ff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896000" y="400320"/>
                  <a:ext cx="16560" cy="266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857480" y="426960"/>
                  <a:ext cx="16560" cy="26640"/>
                </a:xfrm>
                <a:prstGeom prst="ellipse">
                  <a:avLst/>
                </a:prstGeom>
                <a:solidFill>
                  <a:srgbClr val="e0fa8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96000" y="471960"/>
                  <a:ext cx="16560" cy="266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857480" y="489600"/>
                  <a:ext cx="16560" cy="266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857480" y="56124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896000" y="534240"/>
                  <a:ext cx="16560" cy="26640"/>
                </a:xfrm>
                <a:prstGeom prst="ellipse">
                  <a:avLst/>
                </a:prstGeom>
                <a:solidFill>
                  <a:srgbClr val="ffb16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4933800" y="418320"/>
                <a:ext cx="78120" cy="115920"/>
                <a:chOff x="4933800" y="418320"/>
                <a:chExt cx="78120" cy="11592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4969800" y="41832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933800" y="444960"/>
                  <a:ext cx="16560" cy="26640"/>
                </a:xfrm>
                <a:prstGeom prst="ellipse">
                  <a:avLst/>
                </a:prstGeom>
                <a:solidFill>
                  <a:srgbClr val="33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995360" y="48960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938840" y="50760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995360" y="489600"/>
                  <a:ext cx="16560" cy="2664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5116680" y="445320"/>
                <a:ext cx="98640" cy="59040"/>
                <a:chOff x="5116680" y="445320"/>
                <a:chExt cx="98640" cy="5904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5116680" y="445320"/>
                  <a:ext cx="16200" cy="2664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199120" y="445320"/>
                  <a:ext cx="16200" cy="2664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178600" y="477720"/>
                  <a:ext cx="16200" cy="26640"/>
                </a:xfrm>
                <a:prstGeom prst="ellipse">
                  <a:avLst/>
                </a:prstGeom>
                <a:solidFill>
                  <a:srgbClr val="99ff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149440" y="445320"/>
                  <a:ext cx="16200" cy="266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5028480" y="427320"/>
                <a:ext cx="71640" cy="71280"/>
                <a:chOff x="5028480" y="427320"/>
                <a:chExt cx="71640" cy="7128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055840" y="444960"/>
                  <a:ext cx="16560" cy="26640"/>
                </a:xfrm>
                <a:prstGeom prst="ellipse">
                  <a:avLst/>
                </a:prstGeom>
                <a:solidFill>
                  <a:srgbClr val="cc66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083560" y="47196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028480" y="427320"/>
                  <a:ext cx="16560" cy="2664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4818960" y="222120"/>
                <a:ext cx="424440" cy="178560"/>
              </a:xfrm>
              <a:custGeom>
                <a:avLst/>
                <a:gdLst/>
                <a:ahLst/>
                <a:rect l="l" t="t" r="r" b="b"/>
                <a:pathLst>
                  <a:path w="4560" h="1056">
                    <a:moveTo>
                      <a:pt x="0" y="0"/>
                    </a:moveTo>
                    <a:cubicBezTo>
                      <a:pt x="72" y="184"/>
                      <a:pt x="144" y="368"/>
                      <a:pt x="480" y="528"/>
                    </a:cubicBezTo>
                    <a:cubicBezTo>
                      <a:pt x="816" y="688"/>
                      <a:pt x="1336" y="872"/>
                      <a:pt x="2016" y="960"/>
                    </a:cubicBezTo>
                    <a:cubicBezTo>
                      <a:pt x="2696" y="1048"/>
                      <a:pt x="4120" y="1040"/>
                      <a:pt x="4560" y="1056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4818960" y="534600"/>
                <a:ext cx="424440" cy="160560"/>
              </a:xfrm>
              <a:custGeom>
                <a:avLst/>
                <a:gdLst/>
                <a:ahLst/>
                <a:rect l="l" t="t" r="r" b="b"/>
                <a:pathLst>
                  <a:path w="4560" h="1056">
                    <a:moveTo>
                      <a:pt x="0" y="0"/>
                    </a:moveTo>
                    <a:cubicBezTo>
                      <a:pt x="72" y="184"/>
                      <a:pt x="144" y="368"/>
                      <a:pt x="480" y="528"/>
                    </a:cubicBezTo>
                    <a:cubicBezTo>
                      <a:pt x="816" y="688"/>
                      <a:pt x="1336" y="872"/>
                      <a:pt x="2016" y="960"/>
                    </a:cubicBezTo>
                    <a:cubicBezTo>
                      <a:pt x="2696" y="1048"/>
                      <a:pt x="4120" y="1040"/>
                      <a:pt x="4560" y="1056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775040" y="407880"/>
                <a:ext cx="459360" cy="117720"/>
              </a:xfrm>
              <a:prstGeom prst="rightArrow">
                <a:avLst>
                  <a:gd name="adj1" fmla="val 73500"/>
                  <a:gd name="adj2" fmla="val 58026"/>
                </a:avLst>
              </a:prstGeom>
              <a:solidFill>
                <a:srgbClr val="6767c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4027320" y="398160"/>
              <a:ext cx="546120" cy="298440"/>
            </a:xfrm>
            <a:prstGeom prst="rightArrow">
              <a:avLst>
                <a:gd name="adj1" fmla="val 50000"/>
                <a:gd name="adj2" fmla="val 45748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386080" y="311040"/>
            <a:ext cx="817560" cy="3289320"/>
          </a:xfrm>
          <a:custGeom>
            <a:avLst/>
            <a:gdLst/>
            <a:ahLst/>
            <a:rect l="l" t="t" r="r" b="b"/>
            <a:pathLst>
              <a:path w="680" h="2103">
                <a:moveTo>
                  <a:pt x="680" y="0"/>
                </a:moveTo>
                <a:lnTo>
                  <a:pt x="680" y="2103"/>
                </a:lnTo>
                <a:lnTo>
                  <a:pt x="0" y="1065"/>
                </a:lnTo>
                <a:lnTo>
                  <a:pt x="680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283360" y="272880"/>
            <a:ext cx="4651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346560" y="347760"/>
            <a:ext cx="5745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359160" y="1120680"/>
            <a:ext cx="5763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17760" y="1924200"/>
            <a:ext cx="7160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330720" y="2120760"/>
            <a:ext cx="576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504800" y="1352520"/>
            <a:ext cx="1301400" cy="1149120"/>
            <a:chOff x="1504800" y="1352520"/>
            <a:chExt cx="1301400" cy="1149120"/>
          </a:xfrm>
        </p:grpSpPr>
        <p:sp>
          <p:nvSpPr>
            <p:cNvPr id="469" name=""/>
            <p:cNvSpPr/>
            <p:nvPr/>
          </p:nvSpPr>
          <p:spPr>
            <a:xfrm>
              <a:off x="2077200" y="1429560"/>
              <a:ext cx="572400" cy="646200"/>
            </a:xfrm>
            <a:custGeom>
              <a:avLst/>
              <a:gdLst/>
              <a:ahLst/>
              <a:rect l="l" t="t" r="r" b="b"/>
              <a:pathLst>
                <a:path w="253" h="305">
                  <a:moveTo>
                    <a:pt x="0" y="61"/>
                  </a:moveTo>
                  <a:lnTo>
                    <a:pt x="0" y="0"/>
                  </a:lnTo>
                  <a:lnTo>
                    <a:pt x="253" y="0"/>
                  </a:lnTo>
                  <a:lnTo>
                    <a:pt x="253" y="244"/>
                  </a:lnTo>
                  <a:lnTo>
                    <a:pt x="235" y="244"/>
                  </a:lnTo>
                  <a:lnTo>
                    <a:pt x="235" y="253"/>
                  </a:lnTo>
                  <a:lnTo>
                    <a:pt x="235" y="253"/>
                  </a:lnTo>
                  <a:lnTo>
                    <a:pt x="235" y="253"/>
                  </a:lnTo>
                  <a:lnTo>
                    <a:pt x="235" y="262"/>
                  </a:lnTo>
                  <a:lnTo>
                    <a:pt x="235" y="262"/>
                  </a:lnTo>
                  <a:lnTo>
                    <a:pt x="235" y="270"/>
                  </a:lnTo>
                  <a:lnTo>
                    <a:pt x="235" y="270"/>
                  </a:lnTo>
                  <a:lnTo>
                    <a:pt x="235" y="270"/>
                  </a:lnTo>
                  <a:lnTo>
                    <a:pt x="235" y="279"/>
                  </a:lnTo>
                  <a:lnTo>
                    <a:pt x="235" y="279"/>
                  </a:lnTo>
                  <a:lnTo>
                    <a:pt x="235" y="288"/>
                  </a:lnTo>
                  <a:lnTo>
                    <a:pt x="235" y="288"/>
                  </a:lnTo>
                  <a:lnTo>
                    <a:pt x="235" y="296"/>
                  </a:lnTo>
                  <a:lnTo>
                    <a:pt x="235" y="296"/>
                  </a:lnTo>
                  <a:lnTo>
                    <a:pt x="227" y="296"/>
                  </a:lnTo>
                  <a:lnTo>
                    <a:pt x="227" y="305"/>
                  </a:lnTo>
                  <a:lnTo>
                    <a:pt x="227" y="305"/>
                  </a:lnTo>
                  <a:lnTo>
                    <a:pt x="227" y="305"/>
                  </a:lnTo>
                  <a:lnTo>
                    <a:pt x="218" y="305"/>
                  </a:lnTo>
                  <a:lnTo>
                    <a:pt x="218" y="305"/>
                  </a:lnTo>
                  <a:lnTo>
                    <a:pt x="209" y="305"/>
                  </a:lnTo>
                  <a:lnTo>
                    <a:pt x="209" y="305"/>
                  </a:lnTo>
                  <a:lnTo>
                    <a:pt x="209" y="305"/>
                  </a:lnTo>
                  <a:lnTo>
                    <a:pt x="201" y="305"/>
                  </a:lnTo>
                  <a:lnTo>
                    <a:pt x="201" y="305"/>
                  </a:lnTo>
                  <a:lnTo>
                    <a:pt x="201" y="305"/>
                  </a:lnTo>
                  <a:lnTo>
                    <a:pt x="192" y="305"/>
                  </a:lnTo>
                  <a:lnTo>
                    <a:pt x="192" y="305"/>
                  </a:lnTo>
                  <a:lnTo>
                    <a:pt x="192" y="305"/>
                  </a:lnTo>
                  <a:lnTo>
                    <a:pt x="192" y="296"/>
                  </a:lnTo>
                  <a:lnTo>
                    <a:pt x="183" y="296"/>
                  </a:lnTo>
                  <a:lnTo>
                    <a:pt x="183" y="296"/>
                  </a:lnTo>
                  <a:lnTo>
                    <a:pt x="183" y="288"/>
                  </a:lnTo>
                  <a:lnTo>
                    <a:pt x="183" y="288"/>
                  </a:lnTo>
                  <a:lnTo>
                    <a:pt x="183" y="279"/>
                  </a:lnTo>
                  <a:lnTo>
                    <a:pt x="183" y="279"/>
                  </a:lnTo>
                  <a:lnTo>
                    <a:pt x="183" y="270"/>
                  </a:lnTo>
                  <a:lnTo>
                    <a:pt x="183" y="270"/>
                  </a:lnTo>
                  <a:lnTo>
                    <a:pt x="183" y="262"/>
                  </a:lnTo>
                  <a:lnTo>
                    <a:pt x="183" y="262"/>
                  </a:lnTo>
                  <a:lnTo>
                    <a:pt x="183" y="253"/>
                  </a:lnTo>
                  <a:lnTo>
                    <a:pt x="183" y="253"/>
                  </a:lnTo>
                  <a:lnTo>
                    <a:pt x="183" y="253"/>
                  </a:lnTo>
                  <a:lnTo>
                    <a:pt x="183" y="244"/>
                  </a:lnTo>
                  <a:lnTo>
                    <a:pt x="139" y="244"/>
                  </a:lnTo>
                  <a:lnTo>
                    <a:pt x="139" y="235"/>
                  </a:lnTo>
                  <a:lnTo>
                    <a:pt x="139" y="235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18"/>
                  </a:lnTo>
                  <a:lnTo>
                    <a:pt x="139" y="218"/>
                  </a:lnTo>
                  <a:lnTo>
                    <a:pt x="139" y="218"/>
                  </a:lnTo>
                  <a:lnTo>
                    <a:pt x="139" y="209"/>
                  </a:lnTo>
                  <a:lnTo>
                    <a:pt x="131" y="209"/>
                  </a:lnTo>
                  <a:lnTo>
                    <a:pt x="131" y="209"/>
                  </a:lnTo>
                  <a:lnTo>
                    <a:pt x="131" y="209"/>
                  </a:lnTo>
                  <a:lnTo>
                    <a:pt x="122" y="209"/>
                  </a:lnTo>
                  <a:lnTo>
                    <a:pt x="122" y="209"/>
                  </a:lnTo>
                  <a:lnTo>
                    <a:pt x="113" y="209"/>
                  </a:lnTo>
                  <a:lnTo>
                    <a:pt x="113" y="209"/>
                  </a:lnTo>
                  <a:lnTo>
                    <a:pt x="105" y="209"/>
                  </a:lnTo>
                  <a:lnTo>
                    <a:pt x="105" y="209"/>
                  </a:lnTo>
                  <a:lnTo>
                    <a:pt x="96" y="209"/>
                  </a:lnTo>
                  <a:lnTo>
                    <a:pt x="96" y="209"/>
                  </a:lnTo>
                  <a:lnTo>
                    <a:pt x="87" y="209"/>
                  </a:lnTo>
                  <a:lnTo>
                    <a:pt x="87" y="209"/>
                  </a:lnTo>
                  <a:lnTo>
                    <a:pt x="87" y="201"/>
                  </a:lnTo>
                  <a:lnTo>
                    <a:pt x="87" y="201"/>
                  </a:lnTo>
                  <a:lnTo>
                    <a:pt x="78" y="201"/>
                  </a:lnTo>
                  <a:lnTo>
                    <a:pt x="78" y="192"/>
                  </a:lnTo>
                  <a:lnTo>
                    <a:pt x="78" y="192"/>
                  </a:lnTo>
                  <a:lnTo>
                    <a:pt x="78" y="183"/>
                  </a:lnTo>
                  <a:lnTo>
                    <a:pt x="78" y="183"/>
                  </a:lnTo>
                  <a:lnTo>
                    <a:pt x="78" y="174"/>
                  </a:lnTo>
                  <a:lnTo>
                    <a:pt x="78" y="174"/>
                  </a:lnTo>
                  <a:lnTo>
                    <a:pt x="78" y="166"/>
                  </a:lnTo>
                  <a:lnTo>
                    <a:pt x="78" y="166"/>
                  </a:lnTo>
                  <a:lnTo>
                    <a:pt x="78" y="166"/>
                  </a:lnTo>
                  <a:lnTo>
                    <a:pt x="78" y="166"/>
                  </a:lnTo>
                  <a:lnTo>
                    <a:pt x="70" y="157"/>
                  </a:lnTo>
                  <a:lnTo>
                    <a:pt x="70" y="157"/>
                  </a:lnTo>
                  <a:lnTo>
                    <a:pt x="61" y="157"/>
                  </a:lnTo>
                  <a:lnTo>
                    <a:pt x="61" y="157"/>
                  </a:lnTo>
                  <a:lnTo>
                    <a:pt x="52" y="157"/>
                  </a:lnTo>
                  <a:lnTo>
                    <a:pt x="52" y="157"/>
                  </a:lnTo>
                  <a:lnTo>
                    <a:pt x="44" y="148"/>
                  </a:lnTo>
                  <a:lnTo>
                    <a:pt x="44" y="148"/>
                  </a:lnTo>
                  <a:lnTo>
                    <a:pt x="44" y="148"/>
                  </a:lnTo>
                  <a:lnTo>
                    <a:pt x="35" y="148"/>
                  </a:lnTo>
                  <a:lnTo>
                    <a:pt x="35" y="139"/>
                  </a:lnTo>
                  <a:lnTo>
                    <a:pt x="35" y="139"/>
                  </a:lnTo>
                  <a:lnTo>
                    <a:pt x="35" y="139"/>
                  </a:lnTo>
                  <a:lnTo>
                    <a:pt x="26" y="131"/>
                  </a:lnTo>
                  <a:lnTo>
                    <a:pt x="26" y="131"/>
                  </a:lnTo>
                  <a:lnTo>
                    <a:pt x="26" y="122"/>
                  </a:lnTo>
                  <a:lnTo>
                    <a:pt x="35" y="122"/>
                  </a:lnTo>
                  <a:lnTo>
                    <a:pt x="35" y="113"/>
                  </a:lnTo>
                  <a:lnTo>
                    <a:pt x="35" y="113"/>
                  </a:lnTo>
                  <a:lnTo>
                    <a:pt x="35" y="105"/>
                  </a:lnTo>
                  <a:lnTo>
                    <a:pt x="35" y="105"/>
                  </a:lnTo>
                  <a:lnTo>
                    <a:pt x="35" y="96"/>
                  </a:lnTo>
                  <a:lnTo>
                    <a:pt x="35" y="96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17" y="70"/>
                  </a:lnTo>
                  <a:lnTo>
                    <a:pt x="17" y="70"/>
                  </a:lnTo>
                  <a:lnTo>
                    <a:pt x="17" y="70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00ff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04800" y="1836000"/>
              <a:ext cx="572400" cy="665640"/>
            </a:xfrm>
            <a:custGeom>
              <a:avLst/>
              <a:gdLst/>
              <a:ahLst/>
              <a:rect l="l" t="t" r="r" b="b"/>
              <a:pathLst>
                <a:path w="253" h="314">
                  <a:moveTo>
                    <a:pt x="253" y="261"/>
                  </a:moveTo>
                  <a:lnTo>
                    <a:pt x="253" y="314"/>
                  </a:lnTo>
                  <a:lnTo>
                    <a:pt x="0" y="314"/>
                  </a:lnTo>
                  <a:lnTo>
                    <a:pt x="0" y="70"/>
                  </a:lnTo>
                  <a:lnTo>
                    <a:pt x="26" y="70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26" y="9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70" y="9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0" y="26"/>
                  </a:lnTo>
                  <a:lnTo>
                    <a:pt x="78" y="26"/>
                  </a:lnTo>
                  <a:lnTo>
                    <a:pt x="78" y="35"/>
                  </a:lnTo>
                  <a:lnTo>
                    <a:pt x="78" y="35"/>
                  </a:lnTo>
                  <a:lnTo>
                    <a:pt x="78" y="43"/>
                  </a:lnTo>
                  <a:lnTo>
                    <a:pt x="70" y="43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70" y="61"/>
                  </a:lnTo>
                  <a:lnTo>
                    <a:pt x="70" y="61"/>
                  </a:lnTo>
                  <a:lnTo>
                    <a:pt x="70" y="61"/>
                  </a:lnTo>
                  <a:lnTo>
                    <a:pt x="70" y="61"/>
                  </a:lnTo>
                  <a:lnTo>
                    <a:pt x="113" y="61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87"/>
                  </a:lnTo>
                  <a:lnTo>
                    <a:pt x="113" y="87"/>
                  </a:lnTo>
                  <a:lnTo>
                    <a:pt x="113" y="96"/>
                  </a:lnTo>
                  <a:lnTo>
                    <a:pt x="113" y="104"/>
                  </a:lnTo>
                  <a:lnTo>
                    <a:pt x="113" y="104"/>
                  </a:lnTo>
                  <a:lnTo>
                    <a:pt x="122" y="104"/>
                  </a:lnTo>
                  <a:lnTo>
                    <a:pt x="122" y="113"/>
                  </a:lnTo>
                  <a:lnTo>
                    <a:pt x="122" y="113"/>
                  </a:lnTo>
                  <a:lnTo>
                    <a:pt x="122" y="113"/>
                  </a:lnTo>
                  <a:lnTo>
                    <a:pt x="131" y="113"/>
                  </a:lnTo>
                  <a:lnTo>
                    <a:pt x="131" y="113"/>
                  </a:lnTo>
                  <a:lnTo>
                    <a:pt x="131" y="113"/>
                  </a:lnTo>
                  <a:lnTo>
                    <a:pt x="140" y="113"/>
                  </a:lnTo>
                  <a:lnTo>
                    <a:pt x="140" y="113"/>
                  </a:lnTo>
                  <a:lnTo>
                    <a:pt x="148" y="113"/>
                  </a:lnTo>
                  <a:lnTo>
                    <a:pt x="148" y="113"/>
                  </a:lnTo>
                  <a:lnTo>
                    <a:pt x="157" y="113"/>
                  </a:lnTo>
                  <a:lnTo>
                    <a:pt x="157" y="113"/>
                  </a:lnTo>
                  <a:lnTo>
                    <a:pt x="157" y="113"/>
                  </a:lnTo>
                  <a:lnTo>
                    <a:pt x="166" y="113"/>
                  </a:lnTo>
                  <a:lnTo>
                    <a:pt x="166" y="113"/>
                  </a:lnTo>
                  <a:lnTo>
                    <a:pt x="174" y="122"/>
                  </a:lnTo>
                  <a:lnTo>
                    <a:pt x="174" y="122"/>
                  </a:lnTo>
                  <a:lnTo>
                    <a:pt x="174" y="122"/>
                  </a:lnTo>
                  <a:lnTo>
                    <a:pt x="174" y="131"/>
                  </a:lnTo>
                  <a:lnTo>
                    <a:pt x="174" y="131"/>
                  </a:lnTo>
                  <a:lnTo>
                    <a:pt x="174" y="139"/>
                  </a:lnTo>
                  <a:lnTo>
                    <a:pt x="174" y="139"/>
                  </a:lnTo>
                  <a:lnTo>
                    <a:pt x="174" y="148"/>
                  </a:lnTo>
                  <a:lnTo>
                    <a:pt x="174" y="148"/>
                  </a:lnTo>
                  <a:lnTo>
                    <a:pt x="174" y="157"/>
                  </a:lnTo>
                  <a:lnTo>
                    <a:pt x="183" y="157"/>
                  </a:lnTo>
                  <a:lnTo>
                    <a:pt x="183" y="157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92" y="166"/>
                  </a:lnTo>
                  <a:lnTo>
                    <a:pt x="192" y="166"/>
                  </a:lnTo>
                  <a:lnTo>
                    <a:pt x="201" y="166"/>
                  </a:lnTo>
                  <a:lnTo>
                    <a:pt x="201" y="166"/>
                  </a:lnTo>
                  <a:lnTo>
                    <a:pt x="209" y="166"/>
                  </a:lnTo>
                  <a:lnTo>
                    <a:pt x="209" y="174"/>
                  </a:lnTo>
                  <a:lnTo>
                    <a:pt x="209" y="174"/>
                  </a:lnTo>
                  <a:lnTo>
                    <a:pt x="218" y="174"/>
                  </a:lnTo>
                  <a:lnTo>
                    <a:pt x="218" y="174"/>
                  </a:lnTo>
                  <a:lnTo>
                    <a:pt x="218" y="174"/>
                  </a:lnTo>
                  <a:lnTo>
                    <a:pt x="227" y="183"/>
                  </a:lnTo>
                  <a:lnTo>
                    <a:pt x="227" y="183"/>
                  </a:lnTo>
                  <a:lnTo>
                    <a:pt x="227" y="192"/>
                  </a:lnTo>
                  <a:lnTo>
                    <a:pt x="227" y="192"/>
                  </a:lnTo>
                  <a:lnTo>
                    <a:pt x="227" y="200"/>
                  </a:lnTo>
                  <a:lnTo>
                    <a:pt x="227" y="200"/>
                  </a:lnTo>
                  <a:lnTo>
                    <a:pt x="227" y="209"/>
                  </a:lnTo>
                  <a:lnTo>
                    <a:pt x="227" y="209"/>
                  </a:lnTo>
                  <a:lnTo>
                    <a:pt x="218" y="218"/>
                  </a:lnTo>
                  <a:lnTo>
                    <a:pt x="218" y="227"/>
                  </a:lnTo>
                  <a:lnTo>
                    <a:pt x="218" y="227"/>
                  </a:lnTo>
                  <a:lnTo>
                    <a:pt x="218" y="235"/>
                  </a:lnTo>
                  <a:lnTo>
                    <a:pt x="227" y="235"/>
                  </a:lnTo>
                  <a:lnTo>
                    <a:pt x="227" y="235"/>
                  </a:lnTo>
                  <a:lnTo>
                    <a:pt x="227" y="244"/>
                  </a:lnTo>
                  <a:lnTo>
                    <a:pt x="227" y="244"/>
                  </a:lnTo>
                  <a:lnTo>
                    <a:pt x="227" y="253"/>
                  </a:lnTo>
                  <a:lnTo>
                    <a:pt x="235" y="253"/>
                  </a:lnTo>
                  <a:lnTo>
                    <a:pt x="235" y="253"/>
                  </a:lnTo>
                  <a:lnTo>
                    <a:pt x="235" y="253"/>
                  </a:lnTo>
                  <a:lnTo>
                    <a:pt x="244" y="261"/>
                  </a:lnTo>
                  <a:lnTo>
                    <a:pt x="244" y="261"/>
                  </a:lnTo>
                  <a:lnTo>
                    <a:pt x="253" y="261"/>
                  </a:lnTo>
                  <a:lnTo>
                    <a:pt x="253" y="261"/>
                  </a:lnTo>
                  <a:close/>
                </a:path>
              </a:pathLst>
            </a:custGeom>
            <a:solidFill>
              <a:srgbClr val="ccff99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04800" y="1429560"/>
              <a:ext cx="572400" cy="554760"/>
            </a:xfrm>
            <a:custGeom>
              <a:avLst/>
              <a:gdLst/>
              <a:ahLst/>
              <a:rect l="l" t="t" r="r" b="b"/>
              <a:pathLst>
                <a:path w="253" h="262">
                  <a:moveTo>
                    <a:pt x="253" y="61"/>
                  </a:moveTo>
                  <a:lnTo>
                    <a:pt x="253" y="0"/>
                  </a:lnTo>
                  <a:lnTo>
                    <a:pt x="0" y="0"/>
                  </a:lnTo>
                  <a:lnTo>
                    <a:pt x="0" y="262"/>
                  </a:lnTo>
                  <a:lnTo>
                    <a:pt x="26" y="262"/>
                  </a:lnTo>
                  <a:lnTo>
                    <a:pt x="26" y="253"/>
                  </a:lnTo>
                  <a:lnTo>
                    <a:pt x="26" y="253"/>
                  </a:lnTo>
                  <a:lnTo>
                    <a:pt x="26" y="244"/>
                  </a:lnTo>
                  <a:lnTo>
                    <a:pt x="26" y="244"/>
                  </a:lnTo>
                  <a:lnTo>
                    <a:pt x="17" y="235"/>
                  </a:lnTo>
                  <a:lnTo>
                    <a:pt x="17" y="227"/>
                  </a:lnTo>
                  <a:lnTo>
                    <a:pt x="17" y="227"/>
                  </a:lnTo>
                  <a:lnTo>
                    <a:pt x="17" y="218"/>
                  </a:lnTo>
                  <a:lnTo>
                    <a:pt x="17" y="218"/>
                  </a:lnTo>
                  <a:lnTo>
                    <a:pt x="26" y="209"/>
                  </a:lnTo>
                  <a:lnTo>
                    <a:pt x="26" y="209"/>
                  </a:lnTo>
                  <a:lnTo>
                    <a:pt x="26" y="201"/>
                  </a:lnTo>
                  <a:lnTo>
                    <a:pt x="35" y="201"/>
                  </a:lnTo>
                  <a:lnTo>
                    <a:pt x="35" y="201"/>
                  </a:lnTo>
                  <a:lnTo>
                    <a:pt x="44" y="201"/>
                  </a:lnTo>
                  <a:lnTo>
                    <a:pt x="44" y="201"/>
                  </a:lnTo>
                  <a:lnTo>
                    <a:pt x="52" y="201"/>
                  </a:lnTo>
                  <a:lnTo>
                    <a:pt x="61" y="201"/>
                  </a:lnTo>
                  <a:lnTo>
                    <a:pt x="61" y="201"/>
                  </a:lnTo>
                  <a:lnTo>
                    <a:pt x="61" y="201"/>
                  </a:lnTo>
                  <a:lnTo>
                    <a:pt x="70" y="209"/>
                  </a:lnTo>
                  <a:lnTo>
                    <a:pt x="70" y="209"/>
                  </a:lnTo>
                  <a:lnTo>
                    <a:pt x="70" y="218"/>
                  </a:lnTo>
                  <a:lnTo>
                    <a:pt x="78" y="218"/>
                  </a:lnTo>
                  <a:lnTo>
                    <a:pt x="78" y="227"/>
                  </a:lnTo>
                  <a:lnTo>
                    <a:pt x="78" y="227"/>
                  </a:lnTo>
                  <a:lnTo>
                    <a:pt x="78" y="235"/>
                  </a:lnTo>
                  <a:lnTo>
                    <a:pt x="70" y="235"/>
                  </a:lnTo>
                  <a:lnTo>
                    <a:pt x="70" y="244"/>
                  </a:lnTo>
                  <a:lnTo>
                    <a:pt x="70" y="244"/>
                  </a:lnTo>
                  <a:lnTo>
                    <a:pt x="70" y="253"/>
                  </a:lnTo>
                  <a:lnTo>
                    <a:pt x="70" y="253"/>
                  </a:lnTo>
                  <a:lnTo>
                    <a:pt x="70" y="262"/>
                  </a:lnTo>
                  <a:lnTo>
                    <a:pt x="113" y="262"/>
                  </a:lnTo>
                  <a:lnTo>
                    <a:pt x="113" y="253"/>
                  </a:lnTo>
                  <a:lnTo>
                    <a:pt x="113" y="244"/>
                  </a:lnTo>
                  <a:lnTo>
                    <a:pt x="113" y="235"/>
                  </a:lnTo>
                  <a:lnTo>
                    <a:pt x="113" y="235"/>
                  </a:lnTo>
                  <a:lnTo>
                    <a:pt x="113" y="227"/>
                  </a:lnTo>
                  <a:lnTo>
                    <a:pt x="113" y="218"/>
                  </a:lnTo>
                  <a:lnTo>
                    <a:pt x="113" y="218"/>
                  </a:lnTo>
                  <a:lnTo>
                    <a:pt x="122" y="218"/>
                  </a:lnTo>
                  <a:lnTo>
                    <a:pt x="122" y="209"/>
                  </a:lnTo>
                  <a:lnTo>
                    <a:pt x="122" y="209"/>
                  </a:lnTo>
                  <a:lnTo>
                    <a:pt x="122" y="209"/>
                  </a:lnTo>
                  <a:lnTo>
                    <a:pt x="131" y="209"/>
                  </a:lnTo>
                  <a:lnTo>
                    <a:pt x="131" y="209"/>
                  </a:lnTo>
                  <a:lnTo>
                    <a:pt x="140" y="209"/>
                  </a:lnTo>
                  <a:lnTo>
                    <a:pt x="140" y="209"/>
                  </a:lnTo>
                  <a:lnTo>
                    <a:pt x="140" y="209"/>
                  </a:lnTo>
                  <a:lnTo>
                    <a:pt x="148" y="209"/>
                  </a:lnTo>
                  <a:lnTo>
                    <a:pt x="148" y="209"/>
                  </a:lnTo>
                  <a:lnTo>
                    <a:pt x="157" y="209"/>
                  </a:lnTo>
                  <a:lnTo>
                    <a:pt x="157" y="209"/>
                  </a:lnTo>
                  <a:lnTo>
                    <a:pt x="166" y="209"/>
                  </a:lnTo>
                  <a:lnTo>
                    <a:pt x="166" y="209"/>
                  </a:lnTo>
                  <a:lnTo>
                    <a:pt x="166" y="209"/>
                  </a:lnTo>
                  <a:lnTo>
                    <a:pt x="174" y="201"/>
                  </a:lnTo>
                  <a:lnTo>
                    <a:pt x="174" y="201"/>
                  </a:lnTo>
                  <a:lnTo>
                    <a:pt x="174" y="201"/>
                  </a:lnTo>
                  <a:lnTo>
                    <a:pt x="174" y="192"/>
                  </a:lnTo>
                  <a:lnTo>
                    <a:pt x="174" y="192"/>
                  </a:lnTo>
                  <a:lnTo>
                    <a:pt x="174" y="183"/>
                  </a:lnTo>
                  <a:lnTo>
                    <a:pt x="174" y="183"/>
                  </a:lnTo>
                  <a:lnTo>
                    <a:pt x="174" y="174"/>
                  </a:lnTo>
                  <a:lnTo>
                    <a:pt x="174" y="174"/>
                  </a:lnTo>
                  <a:lnTo>
                    <a:pt x="174" y="166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83" y="157"/>
                  </a:lnTo>
                  <a:lnTo>
                    <a:pt x="192" y="157"/>
                  </a:lnTo>
                  <a:lnTo>
                    <a:pt x="192" y="157"/>
                  </a:lnTo>
                  <a:lnTo>
                    <a:pt x="192" y="157"/>
                  </a:lnTo>
                  <a:lnTo>
                    <a:pt x="201" y="157"/>
                  </a:lnTo>
                  <a:lnTo>
                    <a:pt x="201" y="157"/>
                  </a:lnTo>
                  <a:lnTo>
                    <a:pt x="209" y="157"/>
                  </a:lnTo>
                  <a:lnTo>
                    <a:pt x="209" y="148"/>
                  </a:lnTo>
                  <a:lnTo>
                    <a:pt x="209" y="148"/>
                  </a:lnTo>
                  <a:lnTo>
                    <a:pt x="218" y="148"/>
                  </a:lnTo>
                  <a:lnTo>
                    <a:pt x="218" y="148"/>
                  </a:lnTo>
                  <a:lnTo>
                    <a:pt x="218" y="148"/>
                  </a:lnTo>
                  <a:lnTo>
                    <a:pt x="227" y="139"/>
                  </a:lnTo>
                  <a:lnTo>
                    <a:pt x="227" y="139"/>
                  </a:lnTo>
                  <a:lnTo>
                    <a:pt x="227" y="131"/>
                  </a:lnTo>
                  <a:lnTo>
                    <a:pt x="227" y="131"/>
                  </a:lnTo>
                  <a:lnTo>
                    <a:pt x="227" y="122"/>
                  </a:lnTo>
                  <a:lnTo>
                    <a:pt x="227" y="122"/>
                  </a:lnTo>
                  <a:lnTo>
                    <a:pt x="227" y="113"/>
                  </a:lnTo>
                  <a:lnTo>
                    <a:pt x="227" y="113"/>
                  </a:lnTo>
                  <a:lnTo>
                    <a:pt x="227" y="105"/>
                  </a:lnTo>
                  <a:lnTo>
                    <a:pt x="227" y="96"/>
                  </a:lnTo>
                  <a:lnTo>
                    <a:pt x="227" y="96"/>
                  </a:lnTo>
                  <a:lnTo>
                    <a:pt x="227" y="87"/>
                  </a:lnTo>
                  <a:lnTo>
                    <a:pt x="227" y="87"/>
                  </a:lnTo>
                  <a:lnTo>
                    <a:pt x="227" y="87"/>
                  </a:lnTo>
                  <a:lnTo>
                    <a:pt x="227" y="78"/>
                  </a:lnTo>
                  <a:lnTo>
                    <a:pt x="227" y="78"/>
                  </a:lnTo>
                  <a:lnTo>
                    <a:pt x="235" y="70"/>
                  </a:lnTo>
                  <a:lnTo>
                    <a:pt x="235" y="70"/>
                  </a:lnTo>
                  <a:lnTo>
                    <a:pt x="235" y="70"/>
                  </a:lnTo>
                  <a:lnTo>
                    <a:pt x="244" y="70"/>
                  </a:lnTo>
                  <a:lnTo>
                    <a:pt x="244" y="61"/>
                  </a:lnTo>
                  <a:lnTo>
                    <a:pt x="244" y="61"/>
                  </a:lnTo>
                  <a:lnTo>
                    <a:pt x="253" y="61"/>
                  </a:lnTo>
                  <a:lnTo>
                    <a:pt x="253" y="61"/>
                  </a:lnTo>
                  <a:close/>
                </a:path>
              </a:pathLst>
            </a:custGeom>
            <a:solidFill>
              <a:srgbClr val="ccffff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60400" y="1558080"/>
              <a:ext cx="631800" cy="830520"/>
            </a:xfrm>
            <a:custGeom>
              <a:avLst/>
              <a:gdLst/>
              <a:ahLst/>
              <a:rect l="l" t="t" r="r" b="b"/>
              <a:pathLst>
                <a:path w="279" h="392">
                  <a:moveTo>
                    <a:pt x="105" y="78"/>
                  </a:moveTo>
                  <a:lnTo>
                    <a:pt x="105" y="78"/>
                  </a:lnTo>
                  <a:lnTo>
                    <a:pt x="114" y="70"/>
                  </a:lnTo>
                  <a:lnTo>
                    <a:pt x="114" y="70"/>
                  </a:lnTo>
                  <a:lnTo>
                    <a:pt x="114" y="61"/>
                  </a:lnTo>
                  <a:lnTo>
                    <a:pt x="114" y="52"/>
                  </a:lnTo>
                  <a:lnTo>
                    <a:pt x="114" y="52"/>
                  </a:lnTo>
                  <a:lnTo>
                    <a:pt x="105" y="44"/>
                  </a:lnTo>
                  <a:lnTo>
                    <a:pt x="105" y="35"/>
                  </a:lnTo>
                  <a:lnTo>
                    <a:pt x="105" y="35"/>
                  </a:lnTo>
                  <a:lnTo>
                    <a:pt x="105" y="26"/>
                  </a:lnTo>
                  <a:lnTo>
                    <a:pt x="114" y="17"/>
                  </a:lnTo>
                  <a:lnTo>
                    <a:pt x="114" y="17"/>
                  </a:lnTo>
                  <a:lnTo>
                    <a:pt x="122" y="9"/>
                  </a:lnTo>
                  <a:lnTo>
                    <a:pt x="122" y="9"/>
                  </a:lnTo>
                  <a:lnTo>
                    <a:pt x="122" y="0"/>
                  </a:lnTo>
                  <a:lnTo>
                    <a:pt x="131" y="0"/>
                  </a:lnTo>
                  <a:lnTo>
                    <a:pt x="140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7" y="9"/>
                  </a:lnTo>
                  <a:lnTo>
                    <a:pt x="166" y="9"/>
                  </a:lnTo>
                  <a:lnTo>
                    <a:pt x="166" y="9"/>
                  </a:lnTo>
                  <a:lnTo>
                    <a:pt x="166" y="17"/>
                  </a:lnTo>
                  <a:lnTo>
                    <a:pt x="175" y="26"/>
                  </a:lnTo>
                  <a:lnTo>
                    <a:pt x="175" y="26"/>
                  </a:lnTo>
                  <a:lnTo>
                    <a:pt x="175" y="35"/>
                  </a:lnTo>
                  <a:lnTo>
                    <a:pt x="175" y="35"/>
                  </a:lnTo>
                  <a:lnTo>
                    <a:pt x="175" y="44"/>
                  </a:lnTo>
                  <a:lnTo>
                    <a:pt x="175" y="52"/>
                  </a:lnTo>
                  <a:lnTo>
                    <a:pt x="175" y="52"/>
                  </a:lnTo>
                  <a:lnTo>
                    <a:pt x="166" y="61"/>
                  </a:lnTo>
                  <a:lnTo>
                    <a:pt x="166" y="70"/>
                  </a:lnTo>
                  <a:lnTo>
                    <a:pt x="166" y="70"/>
                  </a:lnTo>
                  <a:lnTo>
                    <a:pt x="175" y="78"/>
                  </a:lnTo>
                  <a:lnTo>
                    <a:pt x="175" y="78"/>
                  </a:lnTo>
                  <a:lnTo>
                    <a:pt x="175" y="87"/>
                  </a:lnTo>
                  <a:lnTo>
                    <a:pt x="184" y="87"/>
                  </a:lnTo>
                  <a:lnTo>
                    <a:pt x="184" y="87"/>
                  </a:lnTo>
                  <a:lnTo>
                    <a:pt x="192" y="87"/>
                  </a:lnTo>
                  <a:lnTo>
                    <a:pt x="192" y="96"/>
                  </a:lnTo>
                  <a:lnTo>
                    <a:pt x="201" y="96"/>
                  </a:lnTo>
                  <a:lnTo>
                    <a:pt x="201" y="96"/>
                  </a:lnTo>
                  <a:lnTo>
                    <a:pt x="210" y="96"/>
                  </a:lnTo>
                  <a:lnTo>
                    <a:pt x="210" y="96"/>
                  </a:lnTo>
                  <a:lnTo>
                    <a:pt x="210" y="105"/>
                  </a:lnTo>
                  <a:lnTo>
                    <a:pt x="218" y="105"/>
                  </a:lnTo>
                  <a:lnTo>
                    <a:pt x="218" y="105"/>
                  </a:lnTo>
                  <a:lnTo>
                    <a:pt x="218" y="113"/>
                  </a:lnTo>
                  <a:lnTo>
                    <a:pt x="218" y="113"/>
                  </a:lnTo>
                  <a:lnTo>
                    <a:pt x="218" y="113"/>
                  </a:lnTo>
                  <a:lnTo>
                    <a:pt x="218" y="122"/>
                  </a:lnTo>
                  <a:lnTo>
                    <a:pt x="218" y="122"/>
                  </a:lnTo>
                  <a:lnTo>
                    <a:pt x="218" y="131"/>
                  </a:lnTo>
                  <a:lnTo>
                    <a:pt x="218" y="131"/>
                  </a:lnTo>
                  <a:lnTo>
                    <a:pt x="218" y="140"/>
                  </a:lnTo>
                  <a:lnTo>
                    <a:pt x="218" y="140"/>
                  </a:lnTo>
                  <a:lnTo>
                    <a:pt x="227" y="140"/>
                  </a:lnTo>
                  <a:lnTo>
                    <a:pt x="227" y="148"/>
                  </a:lnTo>
                  <a:lnTo>
                    <a:pt x="227" y="148"/>
                  </a:lnTo>
                  <a:lnTo>
                    <a:pt x="236" y="148"/>
                  </a:lnTo>
                  <a:lnTo>
                    <a:pt x="236" y="148"/>
                  </a:lnTo>
                  <a:lnTo>
                    <a:pt x="245" y="148"/>
                  </a:lnTo>
                  <a:lnTo>
                    <a:pt x="245" y="148"/>
                  </a:lnTo>
                  <a:lnTo>
                    <a:pt x="253" y="148"/>
                  </a:lnTo>
                  <a:lnTo>
                    <a:pt x="253" y="148"/>
                  </a:lnTo>
                  <a:lnTo>
                    <a:pt x="262" y="148"/>
                  </a:lnTo>
                  <a:lnTo>
                    <a:pt x="262" y="148"/>
                  </a:lnTo>
                  <a:lnTo>
                    <a:pt x="262" y="148"/>
                  </a:lnTo>
                  <a:lnTo>
                    <a:pt x="271" y="148"/>
                  </a:lnTo>
                  <a:lnTo>
                    <a:pt x="271" y="148"/>
                  </a:lnTo>
                  <a:lnTo>
                    <a:pt x="271" y="148"/>
                  </a:lnTo>
                  <a:lnTo>
                    <a:pt x="279" y="148"/>
                  </a:lnTo>
                  <a:lnTo>
                    <a:pt x="279" y="157"/>
                  </a:lnTo>
                  <a:lnTo>
                    <a:pt x="279" y="157"/>
                  </a:lnTo>
                  <a:lnTo>
                    <a:pt x="279" y="166"/>
                  </a:lnTo>
                  <a:lnTo>
                    <a:pt x="279" y="166"/>
                  </a:lnTo>
                  <a:lnTo>
                    <a:pt x="279" y="174"/>
                  </a:lnTo>
                  <a:lnTo>
                    <a:pt x="279" y="183"/>
                  </a:lnTo>
                  <a:lnTo>
                    <a:pt x="279" y="192"/>
                  </a:lnTo>
                  <a:lnTo>
                    <a:pt x="279" y="209"/>
                  </a:lnTo>
                  <a:lnTo>
                    <a:pt x="279" y="218"/>
                  </a:lnTo>
                  <a:lnTo>
                    <a:pt x="279" y="218"/>
                  </a:lnTo>
                  <a:lnTo>
                    <a:pt x="279" y="227"/>
                  </a:lnTo>
                  <a:lnTo>
                    <a:pt x="279" y="227"/>
                  </a:lnTo>
                  <a:lnTo>
                    <a:pt x="271" y="227"/>
                  </a:lnTo>
                  <a:lnTo>
                    <a:pt x="271" y="235"/>
                  </a:lnTo>
                  <a:lnTo>
                    <a:pt x="271" y="235"/>
                  </a:lnTo>
                  <a:lnTo>
                    <a:pt x="262" y="235"/>
                  </a:lnTo>
                  <a:lnTo>
                    <a:pt x="262" y="235"/>
                  </a:lnTo>
                  <a:lnTo>
                    <a:pt x="253" y="235"/>
                  </a:lnTo>
                  <a:lnTo>
                    <a:pt x="253" y="235"/>
                  </a:lnTo>
                  <a:lnTo>
                    <a:pt x="245" y="235"/>
                  </a:lnTo>
                  <a:lnTo>
                    <a:pt x="245" y="235"/>
                  </a:lnTo>
                  <a:lnTo>
                    <a:pt x="245" y="235"/>
                  </a:lnTo>
                  <a:lnTo>
                    <a:pt x="236" y="235"/>
                  </a:lnTo>
                  <a:lnTo>
                    <a:pt x="236" y="235"/>
                  </a:lnTo>
                  <a:lnTo>
                    <a:pt x="227" y="235"/>
                  </a:lnTo>
                  <a:lnTo>
                    <a:pt x="227" y="235"/>
                  </a:lnTo>
                  <a:lnTo>
                    <a:pt x="227" y="235"/>
                  </a:lnTo>
                  <a:lnTo>
                    <a:pt x="227" y="235"/>
                  </a:lnTo>
                  <a:lnTo>
                    <a:pt x="218" y="244"/>
                  </a:lnTo>
                  <a:lnTo>
                    <a:pt x="218" y="244"/>
                  </a:lnTo>
                  <a:lnTo>
                    <a:pt x="218" y="244"/>
                  </a:lnTo>
                  <a:lnTo>
                    <a:pt x="218" y="253"/>
                  </a:lnTo>
                  <a:lnTo>
                    <a:pt x="218" y="253"/>
                  </a:lnTo>
                  <a:lnTo>
                    <a:pt x="218" y="253"/>
                  </a:lnTo>
                  <a:lnTo>
                    <a:pt x="218" y="262"/>
                  </a:lnTo>
                  <a:lnTo>
                    <a:pt x="218" y="270"/>
                  </a:lnTo>
                  <a:lnTo>
                    <a:pt x="218" y="270"/>
                  </a:lnTo>
                  <a:lnTo>
                    <a:pt x="218" y="279"/>
                  </a:lnTo>
                  <a:lnTo>
                    <a:pt x="210" y="279"/>
                  </a:lnTo>
                  <a:lnTo>
                    <a:pt x="210" y="279"/>
                  </a:lnTo>
                  <a:lnTo>
                    <a:pt x="210" y="288"/>
                  </a:lnTo>
                  <a:lnTo>
                    <a:pt x="201" y="288"/>
                  </a:lnTo>
                  <a:lnTo>
                    <a:pt x="201" y="288"/>
                  </a:lnTo>
                  <a:lnTo>
                    <a:pt x="192" y="288"/>
                  </a:lnTo>
                  <a:lnTo>
                    <a:pt x="192" y="288"/>
                  </a:lnTo>
                  <a:lnTo>
                    <a:pt x="192" y="288"/>
                  </a:lnTo>
                  <a:lnTo>
                    <a:pt x="184" y="288"/>
                  </a:lnTo>
                  <a:lnTo>
                    <a:pt x="184" y="297"/>
                  </a:lnTo>
                  <a:lnTo>
                    <a:pt x="175" y="297"/>
                  </a:lnTo>
                  <a:lnTo>
                    <a:pt x="175" y="297"/>
                  </a:lnTo>
                  <a:lnTo>
                    <a:pt x="175" y="297"/>
                  </a:lnTo>
                  <a:lnTo>
                    <a:pt x="166" y="305"/>
                  </a:lnTo>
                  <a:lnTo>
                    <a:pt x="166" y="305"/>
                  </a:lnTo>
                  <a:lnTo>
                    <a:pt x="166" y="314"/>
                  </a:lnTo>
                  <a:lnTo>
                    <a:pt x="166" y="314"/>
                  </a:lnTo>
                  <a:lnTo>
                    <a:pt x="166" y="323"/>
                  </a:lnTo>
                  <a:lnTo>
                    <a:pt x="166" y="323"/>
                  </a:lnTo>
                  <a:lnTo>
                    <a:pt x="175" y="331"/>
                  </a:lnTo>
                  <a:lnTo>
                    <a:pt x="175" y="340"/>
                  </a:lnTo>
                  <a:lnTo>
                    <a:pt x="175" y="340"/>
                  </a:lnTo>
                  <a:lnTo>
                    <a:pt x="175" y="349"/>
                  </a:lnTo>
                  <a:lnTo>
                    <a:pt x="175" y="358"/>
                  </a:lnTo>
                  <a:lnTo>
                    <a:pt x="166" y="358"/>
                  </a:lnTo>
                  <a:lnTo>
                    <a:pt x="166" y="366"/>
                  </a:lnTo>
                  <a:lnTo>
                    <a:pt x="166" y="366"/>
                  </a:lnTo>
                  <a:lnTo>
                    <a:pt x="166" y="375"/>
                  </a:lnTo>
                  <a:lnTo>
                    <a:pt x="166" y="375"/>
                  </a:lnTo>
                  <a:lnTo>
                    <a:pt x="157" y="384"/>
                  </a:lnTo>
                  <a:lnTo>
                    <a:pt x="157" y="384"/>
                  </a:lnTo>
                  <a:lnTo>
                    <a:pt x="157" y="384"/>
                  </a:lnTo>
                  <a:lnTo>
                    <a:pt x="149" y="384"/>
                  </a:lnTo>
                  <a:lnTo>
                    <a:pt x="149" y="384"/>
                  </a:lnTo>
                  <a:lnTo>
                    <a:pt x="140" y="392"/>
                  </a:lnTo>
                  <a:lnTo>
                    <a:pt x="140" y="392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22" y="384"/>
                  </a:lnTo>
                  <a:lnTo>
                    <a:pt x="122" y="384"/>
                  </a:lnTo>
                  <a:lnTo>
                    <a:pt x="122" y="384"/>
                  </a:lnTo>
                  <a:lnTo>
                    <a:pt x="114" y="384"/>
                  </a:lnTo>
                  <a:lnTo>
                    <a:pt x="114" y="375"/>
                  </a:lnTo>
                  <a:lnTo>
                    <a:pt x="114" y="375"/>
                  </a:lnTo>
                  <a:lnTo>
                    <a:pt x="114" y="375"/>
                  </a:lnTo>
                  <a:lnTo>
                    <a:pt x="105" y="366"/>
                  </a:lnTo>
                  <a:lnTo>
                    <a:pt x="105" y="366"/>
                  </a:lnTo>
                  <a:lnTo>
                    <a:pt x="105" y="358"/>
                  </a:lnTo>
                  <a:lnTo>
                    <a:pt x="105" y="358"/>
                  </a:lnTo>
                  <a:lnTo>
                    <a:pt x="105" y="349"/>
                  </a:lnTo>
                  <a:lnTo>
                    <a:pt x="105" y="349"/>
                  </a:lnTo>
                  <a:lnTo>
                    <a:pt x="105" y="340"/>
                  </a:lnTo>
                  <a:lnTo>
                    <a:pt x="105" y="340"/>
                  </a:lnTo>
                  <a:lnTo>
                    <a:pt x="114" y="331"/>
                  </a:lnTo>
                  <a:lnTo>
                    <a:pt x="114" y="331"/>
                  </a:lnTo>
                  <a:lnTo>
                    <a:pt x="114" y="323"/>
                  </a:lnTo>
                  <a:lnTo>
                    <a:pt x="114" y="323"/>
                  </a:lnTo>
                  <a:lnTo>
                    <a:pt x="114" y="314"/>
                  </a:lnTo>
                  <a:lnTo>
                    <a:pt x="105" y="314"/>
                  </a:lnTo>
                  <a:lnTo>
                    <a:pt x="105" y="314"/>
                  </a:lnTo>
                  <a:lnTo>
                    <a:pt x="105" y="305"/>
                  </a:lnTo>
                  <a:lnTo>
                    <a:pt x="105" y="305"/>
                  </a:lnTo>
                  <a:lnTo>
                    <a:pt x="96" y="305"/>
                  </a:lnTo>
                  <a:lnTo>
                    <a:pt x="96" y="305"/>
                  </a:lnTo>
                  <a:lnTo>
                    <a:pt x="96" y="297"/>
                  </a:lnTo>
                  <a:lnTo>
                    <a:pt x="88" y="297"/>
                  </a:lnTo>
                  <a:lnTo>
                    <a:pt x="88" y="297"/>
                  </a:lnTo>
                  <a:lnTo>
                    <a:pt x="79" y="297"/>
                  </a:lnTo>
                  <a:lnTo>
                    <a:pt x="79" y="297"/>
                  </a:lnTo>
                  <a:lnTo>
                    <a:pt x="79" y="297"/>
                  </a:lnTo>
                  <a:lnTo>
                    <a:pt x="70" y="297"/>
                  </a:lnTo>
                  <a:lnTo>
                    <a:pt x="70" y="288"/>
                  </a:lnTo>
                  <a:lnTo>
                    <a:pt x="61" y="288"/>
                  </a:lnTo>
                  <a:lnTo>
                    <a:pt x="61" y="288"/>
                  </a:lnTo>
                  <a:lnTo>
                    <a:pt x="61" y="279"/>
                  </a:lnTo>
                  <a:lnTo>
                    <a:pt x="61" y="279"/>
                  </a:lnTo>
                  <a:lnTo>
                    <a:pt x="61" y="270"/>
                  </a:lnTo>
                  <a:lnTo>
                    <a:pt x="61" y="270"/>
                  </a:lnTo>
                  <a:lnTo>
                    <a:pt x="61" y="262"/>
                  </a:lnTo>
                  <a:lnTo>
                    <a:pt x="61" y="262"/>
                  </a:lnTo>
                  <a:lnTo>
                    <a:pt x="61" y="253"/>
                  </a:lnTo>
                  <a:lnTo>
                    <a:pt x="61" y="253"/>
                  </a:lnTo>
                  <a:lnTo>
                    <a:pt x="53" y="244"/>
                  </a:lnTo>
                  <a:lnTo>
                    <a:pt x="53" y="244"/>
                  </a:lnTo>
                  <a:lnTo>
                    <a:pt x="53" y="244"/>
                  </a:lnTo>
                  <a:lnTo>
                    <a:pt x="44" y="244"/>
                  </a:lnTo>
                  <a:lnTo>
                    <a:pt x="44" y="244"/>
                  </a:lnTo>
                  <a:lnTo>
                    <a:pt x="35" y="244"/>
                  </a:lnTo>
                  <a:lnTo>
                    <a:pt x="35" y="244"/>
                  </a:lnTo>
                  <a:lnTo>
                    <a:pt x="35" y="244"/>
                  </a:lnTo>
                  <a:lnTo>
                    <a:pt x="27" y="244"/>
                  </a:lnTo>
                  <a:lnTo>
                    <a:pt x="27" y="244"/>
                  </a:lnTo>
                  <a:lnTo>
                    <a:pt x="18" y="244"/>
                  </a:lnTo>
                  <a:lnTo>
                    <a:pt x="18" y="244"/>
                  </a:lnTo>
                  <a:lnTo>
                    <a:pt x="9" y="244"/>
                  </a:lnTo>
                  <a:lnTo>
                    <a:pt x="9" y="244"/>
                  </a:lnTo>
                  <a:lnTo>
                    <a:pt x="9" y="244"/>
                  </a:lnTo>
                  <a:lnTo>
                    <a:pt x="0" y="235"/>
                  </a:lnTo>
                  <a:lnTo>
                    <a:pt x="0" y="235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0" y="209"/>
                  </a:lnTo>
                  <a:lnTo>
                    <a:pt x="0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9" y="148"/>
                  </a:lnTo>
                  <a:lnTo>
                    <a:pt x="9" y="148"/>
                  </a:lnTo>
                  <a:lnTo>
                    <a:pt x="9" y="148"/>
                  </a:lnTo>
                  <a:lnTo>
                    <a:pt x="9" y="148"/>
                  </a:lnTo>
                  <a:lnTo>
                    <a:pt x="18" y="148"/>
                  </a:lnTo>
                  <a:lnTo>
                    <a:pt x="18" y="148"/>
                  </a:lnTo>
                  <a:lnTo>
                    <a:pt x="27" y="148"/>
                  </a:lnTo>
                  <a:lnTo>
                    <a:pt x="27" y="148"/>
                  </a:lnTo>
                  <a:lnTo>
                    <a:pt x="35" y="148"/>
                  </a:lnTo>
                  <a:lnTo>
                    <a:pt x="35" y="148"/>
                  </a:lnTo>
                  <a:lnTo>
                    <a:pt x="44" y="148"/>
                  </a:lnTo>
                  <a:lnTo>
                    <a:pt x="44" y="148"/>
                  </a:lnTo>
                  <a:lnTo>
                    <a:pt x="53" y="148"/>
                  </a:lnTo>
                  <a:lnTo>
                    <a:pt x="53" y="148"/>
                  </a:lnTo>
                  <a:lnTo>
                    <a:pt x="53" y="140"/>
                  </a:lnTo>
                  <a:lnTo>
                    <a:pt x="61" y="140"/>
                  </a:lnTo>
                  <a:lnTo>
                    <a:pt x="61" y="140"/>
                  </a:lnTo>
                  <a:lnTo>
                    <a:pt x="61" y="131"/>
                  </a:lnTo>
                  <a:lnTo>
                    <a:pt x="61" y="131"/>
                  </a:lnTo>
                  <a:lnTo>
                    <a:pt x="61" y="122"/>
                  </a:lnTo>
                  <a:lnTo>
                    <a:pt x="61" y="122"/>
                  </a:lnTo>
                  <a:lnTo>
                    <a:pt x="61" y="113"/>
                  </a:lnTo>
                  <a:lnTo>
                    <a:pt x="61" y="105"/>
                  </a:lnTo>
                  <a:lnTo>
                    <a:pt x="61" y="105"/>
                  </a:lnTo>
                  <a:lnTo>
                    <a:pt x="61" y="105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79" y="96"/>
                  </a:lnTo>
                  <a:lnTo>
                    <a:pt x="79" y="96"/>
                  </a:lnTo>
                  <a:lnTo>
                    <a:pt x="88" y="96"/>
                  </a:lnTo>
                  <a:lnTo>
                    <a:pt x="88" y="87"/>
                  </a:lnTo>
                  <a:lnTo>
                    <a:pt x="96" y="87"/>
                  </a:lnTo>
                  <a:lnTo>
                    <a:pt x="96" y="87"/>
                  </a:lnTo>
                  <a:lnTo>
                    <a:pt x="105" y="87"/>
                  </a:lnTo>
                  <a:lnTo>
                    <a:pt x="105" y="78"/>
                  </a:lnTo>
                  <a:close/>
                </a:path>
              </a:pathLst>
            </a:custGeom>
            <a:solidFill>
              <a:srgbClr val="ffcccc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77200" y="1946880"/>
              <a:ext cx="572400" cy="554760"/>
            </a:xfrm>
            <a:custGeom>
              <a:avLst/>
              <a:gdLst/>
              <a:ahLst/>
              <a:rect l="l" t="t" r="r" b="b"/>
              <a:pathLst>
                <a:path w="253" h="262">
                  <a:moveTo>
                    <a:pt x="0" y="209"/>
                  </a:moveTo>
                  <a:lnTo>
                    <a:pt x="0" y="262"/>
                  </a:lnTo>
                  <a:lnTo>
                    <a:pt x="253" y="262"/>
                  </a:lnTo>
                  <a:lnTo>
                    <a:pt x="253" y="0"/>
                  </a:lnTo>
                  <a:lnTo>
                    <a:pt x="235" y="0"/>
                  </a:lnTo>
                  <a:lnTo>
                    <a:pt x="227" y="9"/>
                  </a:lnTo>
                  <a:lnTo>
                    <a:pt x="227" y="9"/>
                  </a:lnTo>
                  <a:lnTo>
                    <a:pt x="235" y="18"/>
                  </a:lnTo>
                  <a:lnTo>
                    <a:pt x="235" y="18"/>
                  </a:lnTo>
                  <a:lnTo>
                    <a:pt x="235" y="26"/>
                  </a:lnTo>
                  <a:lnTo>
                    <a:pt x="235" y="35"/>
                  </a:lnTo>
                  <a:lnTo>
                    <a:pt x="235" y="35"/>
                  </a:lnTo>
                  <a:lnTo>
                    <a:pt x="235" y="44"/>
                  </a:lnTo>
                  <a:lnTo>
                    <a:pt x="235" y="44"/>
                  </a:lnTo>
                  <a:lnTo>
                    <a:pt x="227" y="52"/>
                  </a:lnTo>
                  <a:lnTo>
                    <a:pt x="227" y="52"/>
                  </a:lnTo>
                  <a:lnTo>
                    <a:pt x="227" y="61"/>
                  </a:lnTo>
                  <a:lnTo>
                    <a:pt x="218" y="61"/>
                  </a:lnTo>
                  <a:lnTo>
                    <a:pt x="218" y="61"/>
                  </a:lnTo>
                  <a:lnTo>
                    <a:pt x="218" y="61"/>
                  </a:lnTo>
                  <a:lnTo>
                    <a:pt x="209" y="61"/>
                  </a:lnTo>
                  <a:lnTo>
                    <a:pt x="201" y="61"/>
                  </a:lnTo>
                  <a:lnTo>
                    <a:pt x="201" y="61"/>
                  </a:lnTo>
                  <a:lnTo>
                    <a:pt x="192" y="61"/>
                  </a:lnTo>
                  <a:lnTo>
                    <a:pt x="192" y="61"/>
                  </a:lnTo>
                  <a:lnTo>
                    <a:pt x="183" y="52"/>
                  </a:lnTo>
                  <a:lnTo>
                    <a:pt x="183" y="52"/>
                  </a:lnTo>
                  <a:lnTo>
                    <a:pt x="183" y="44"/>
                  </a:lnTo>
                  <a:lnTo>
                    <a:pt x="183" y="44"/>
                  </a:lnTo>
                  <a:lnTo>
                    <a:pt x="183" y="35"/>
                  </a:lnTo>
                  <a:lnTo>
                    <a:pt x="183" y="35"/>
                  </a:lnTo>
                  <a:lnTo>
                    <a:pt x="183" y="26"/>
                  </a:lnTo>
                  <a:lnTo>
                    <a:pt x="183" y="26"/>
                  </a:lnTo>
                  <a:lnTo>
                    <a:pt x="183" y="18"/>
                  </a:lnTo>
                  <a:lnTo>
                    <a:pt x="183" y="18"/>
                  </a:lnTo>
                  <a:lnTo>
                    <a:pt x="183" y="9"/>
                  </a:lnTo>
                  <a:lnTo>
                    <a:pt x="183" y="9"/>
                  </a:lnTo>
                  <a:lnTo>
                    <a:pt x="183" y="0"/>
                  </a:lnTo>
                  <a:lnTo>
                    <a:pt x="139" y="0"/>
                  </a:lnTo>
                  <a:lnTo>
                    <a:pt x="139" y="9"/>
                  </a:lnTo>
                  <a:lnTo>
                    <a:pt x="139" y="18"/>
                  </a:lnTo>
                  <a:lnTo>
                    <a:pt x="139" y="26"/>
                  </a:lnTo>
                  <a:lnTo>
                    <a:pt x="139" y="26"/>
                  </a:lnTo>
                  <a:lnTo>
                    <a:pt x="139" y="35"/>
                  </a:lnTo>
                  <a:lnTo>
                    <a:pt x="139" y="35"/>
                  </a:lnTo>
                  <a:lnTo>
                    <a:pt x="139" y="44"/>
                  </a:lnTo>
                  <a:lnTo>
                    <a:pt x="139" y="44"/>
                  </a:lnTo>
                  <a:lnTo>
                    <a:pt x="131" y="44"/>
                  </a:lnTo>
                  <a:lnTo>
                    <a:pt x="131" y="52"/>
                  </a:lnTo>
                  <a:lnTo>
                    <a:pt x="131" y="52"/>
                  </a:lnTo>
                  <a:lnTo>
                    <a:pt x="122" y="52"/>
                  </a:lnTo>
                  <a:lnTo>
                    <a:pt x="122" y="52"/>
                  </a:lnTo>
                  <a:lnTo>
                    <a:pt x="122" y="52"/>
                  </a:lnTo>
                  <a:lnTo>
                    <a:pt x="113" y="52"/>
                  </a:lnTo>
                  <a:lnTo>
                    <a:pt x="113" y="52"/>
                  </a:lnTo>
                  <a:lnTo>
                    <a:pt x="105" y="52"/>
                  </a:lnTo>
                  <a:lnTo>
                    <a:pt x="105" y="52"/>
                  </a:lnTo>
                  <a:lnTo>
                    <a:pt x="105" y="52"/>
                  </a:lnTo>
                  <a:lnTo>
                    <a:pt x="96" y="52"/>
                  </a:lnTo>
                  <a:lnTo>
                    <a:pt x="96" y="52"/>
                  </a:lnTo>
                  <a:lnTo>
                    <a:pt x="87" y="52"/>
                  </a:lnTo>
                  <a:lnTo>
                    <a:pt x="87" y="52"/>
                  </a:lnTo>
                  <a:lnTo>
                    <a:pt x="87" y="52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8" y="79"/>
                  </a:lnTo>
                  <a:lnTo>
                    <a:pt x="78" y="79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78" y="96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70" y="105"/>
                  </a:lnTo>
                  <a:lnTo>
                    <a:pt x="61" y="105"/>
                  </a:lnTo>
                  <a:lnTo>
                    <a:pt x="61" y="105"/>
                  </a:lnTo>
                  <a:lnTo>
                    <a:pt x="61" y="105"/>
                  </a:lnTo>
                  <a:lnTo>
                    <a:pt x="52" y="105"/>
                  </a:lnTo>
                  <a:lnTo>
                    <a:pt x="52" y="105"/>
                  </a:lnTo>
                  <a:lnTo>
                    <a:pt x="44" y="105"/>
                  </a:lnTo>
                  <a:lnTo>
                    <a:pt x="44" y="114"/>
                  </a:lnTo>
                  <a:lnTo>
                    <a:pt x="35" y="114"/>
                  </a:lnTo>
                  <a:lnTo>
                    <a:pt x="35" y="114"/>
                  </a:lnTo>
                  <a:lnTo>
                    <a:pt x="35" y="114"/>
                  </a:lnTo>
                  <a:lnTo>
                    <a:pt x="35" y="122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26" y="131"/>
                  </a:lnTo>
                  <a:lnTo>
                    <a:pt x="26" y="140"/>
                  </a:lnTo>
                  <a:lnTo>
                    <a:pt x="26" y="140"/>
                  </a:lnTo>
                  <a:lnTo>
                    <a:pt x="26" y="148"/>
                  </a:lnTo>
                  <a:lnTo>
                    <a:pt x="35" y="148"/>
                  </a:lnTo>
                  <a:lnTo>
                    <a:pt x="35" y="157"/>
                  </a:lnTo>
                  <a:lnTo>
                    <a:pt x="35" y="157"/>
                  </a:lnTo>
                  <a:lnTo>
                    <a:pt x="35" y="166"/>
                  </a:lnTo>
                  <a:lnTo>
                    <a:pt x="35" y="166"/>
                  </a:lnTo>
                  <a:lnTo>
                    <a:pt x="35" y="175"/>
                  </a:lnTo>
                  <a:lnTo>
                    <a:pt x="26" y="175"/>
                  </a:lnTo>
                  <a:lnTo>
                    <a:pt x="26" y="183"/>
                  </a:lnTo>
                  <a:lnTo>
                    <a:pt x="26" y="183"/>
                  </a:lnTo>
                  <a:lnTo>
                    <a:pt x="26" y="192"/>
                  </a:lnTo>
                  <a:lnTo>
                    <a:pt x="26" y="192"/>
                  </a:lnTo>
                  <a:lnTo>
                    <a:pt x="17" y="201"/>
                  </a:lnTo>
                  <a:lnTo>
                    <a:pt x="17" y="201"/>
                  </a:lnTo>
                  <a:lnTo>
                    <a:pt x="17" y="201"/>
                  </a:lnTo>
                  <a:lnTo>
                    <a:pt x="9" y="201"/>
                  </a:lnTo>
                  <a:lnTo>
                    <a:pt x="9" y="209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009999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018160" y="1354320"/>
              <a:ext cx="788040" cy="7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14080" y="13525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dadada"/>
                  </a:solidFill>
                  <a:latin typeface="Arial Narrow"/>
                </a:rPr>
                <a:t>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52320" y="1512000"/>
              <a:ext cx="299880" cy="20376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52320" y="2029320"/>
              <a:ext cx="299880" cy="20556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69120" y="1807200"/>
              <a:ext cx="375840" cy="20412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10720" y="1660680"/>
              <a:ext cx="297720" cy="20376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10720" y="2029320"/>
              <a:ext cx="377640" cy="35064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2185920" y="1807200"/>
              <a:ext cx="374040" cy="648000"/>
              <a:chOff x="2185920" y="1807200"/>
              <a:chExt cx="374040" cy="648000"/>
            </a:xfrm>
          </p:grpSpPr>
          <p:sp>
            <p:nvSpPr>
              <p:cNvPr id="482" name=""/>
              <p:cNvSpPr/>
              <p:nvPr/>
            </p:nvSpPr>
            <p:spPr>
              <a:xfrm>
                <a:off x="2185920" y="2103480"/>
                <a:ext cx="295200" cy="20556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262600" y="2252160"/>
                <a:ext cx="297360" cy="20304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262600" y="1807200"/>
                <a:ext cx="218520" cy="27936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"/>
          <p:cNvGrpSpPr/>
          <p:nvPr/>
        </p:nvGrpSpPr>
        <p:grpSpPr>
          <a:xfrm>
            <a:off x="3206880" y="0"/>
            <a:ext cx="844200" cy="3844080"/>
            <a:chOff x="3206880" y="0"/>
            <a:chExt cx="844200" cy="3844080"/>
          </a:xfrm>
        </p:grpSpPr>
        <p:sp>
          <p:nvSpPr>
            <p:cNvPr id="486" name=""/>
            <p:cNvSpPr/>
            <p:nvPr/>
          </p:nvSpPr>
          <p:spPr>
            <a:xfrm>
              <a:off x="3266640" y="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66640" y="1908720"/>
              <a:ext cx="3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266640" y="2929680"/>
              <a:ext cx="3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3206880" y="187560"/>
              <a:ext cx="844200" cy="736560"/>
              <a:chOff x="3206880" y="187560"/>
              <a:chExt cx="844200" cy="736560"/>
            </a:xfrm>
          </p:grpSpPr>
          <p:sp>
            <p:nvSpPr>
              <p:cNvPr id="490" name=""/>
              <p:cNvSpPr/>
              <p:nvPr/>
            </p:nvSpPr>
            <p:spPr>
              <a:xfrm>
                <a:off x="3206880" y="200880"/>
                <a:ext cx="844200" cy="723240"/>
              </a:xfrm>
              <a:custGeom>
                <a:avLst/>
                <a:gdLst/>
                <a:ahLst/>
                <a:rect l="l" t="t" r="r" b="b"/>
                <a:pathLst>
                  <a:path w="393" h="358">
                    <a:moveTo>
                      <a:pt x="393" y="87"/>
                    </a:moveTo>
                    <a:lnTo>
                      <a:pt x="393" y="0"/>
                    </a:lnTo>
                    <a:lnTo>
                      <a:pt x="0" y="0"/>
                    </a:lnTo>
                    <a:lnTo>
                      <a:pt x="0" y="358"/>
                    </a:lnTo>
                    <a:lnTo>
                      <a:pt x="35" y="358"/>
                    </a:lnTo>
                    <a:lnTo>
                      <a:pt x="35" y="349"/>
                    </a:lnTo>
                    <a:lnTo>
                      <a:pt x="35" y="340"/>
                    </a:lnTo>
                    <a:lnTo>
                      <a:pt x="35" y="340"/>
                    </a:lnTo>
                    <a:lnTo>
                      <a:pt x="35" y="332"/>
                    </a:lnTo>
                    <a:lnTo>
                      <a:pt x="26" y="323"/>
                    </a:lnTo>
                    <a:lnTo>
                      <a:pt x="26" y="314"/>
                    </a:lnTo>
                    <a:lnTo>
                      <a:pt x="26" y="305"/>
                    </a:lnTo>
                    <a:lnTo>
                      <a:pt x="26" y="305"/>
                    </a:lnTo>
                    <a:lnTo>
                      <a:pt x="35" y="297"/>
                    </a:lnTo>
                    <a:lnTo>
                      <a:pt x="35" y="288"/>
                    </a:lnTo>
                    <a:lnTo>
                      <a:pt x="35" y="288"/>
                    </a:lnTo>
                    <a:lnTo>
                      <a:pt x="44" y="279"/>
                    </a:lnTo>
                    <a:lnTo>
                      <a:pt x="53" y="279"/>
                    </a:lnTo>
                    <a:lnTo>
                      <a:pt x="53" y="271"/>
                    </a:lnTo>
                    <a:lnTo>
                      <a:pt x="61" y="271"/>
                    </a:lnTo>
                    <a:lnTo>
                      <a:pt x="70" y="271"/>
                    </a:lnTo>
                    <a:lnTo>
                      <a:pt x="79" y="271"/>
                    </a:lnTo>
                    <a:lnTo>
                      <a:pt x="87" y="271"/>
                    </a:lnTo>
                    <a:lnTo>
                      <a:pt x="87" y="279"/>
                    </a:lnTo>
                    <a:lnTo>
                      <a:pt x="96" y="279"/>
                    </a:lnTo>
                    <a:lnTo>
                      <a:pt x="105" y="288"/>
                    </a:lnTo>
                    <a:lnTo>
                      <a:pt x="105" y="288"/>
                    </a:lnTo>
                    <a:lnTo>
                      <a:pt x="114" y="297"/>
                    </a:lnTo>
                    <a:lnTo>
                      <a:pt x="114" y="305"/>
                    </a:lnTo>
                    <a:lnTo>
                      <a:pt x="114" y="305"/>
                    </a:lnTo>
                    <a:lnTo>
                      <a:pt x="114" y="314"/>
                    </a:lnTo>
                    <a:lnTo>
                      <a:pt x="114" y="323"/>
                    </a:lnTo>
                    <a:lnTo>
                      <a:pt x="114" y="323"/>
                    </a:lnTo>
                    <a:lnTo>
                      <a:pt x="114" y="332"/>
                    </a:lnTo>
                    <a:lnTo>
                      <a:pt x="105" y="340"/>
                    </a:lnTo>
                    <a:lnTo>
                      <a:pt x="105" y="340"/>
                    </a:lnTo>
                    <a:lnTo>
                      <a:pt x="105" y="349"/>
                    </a:lnTo>
                    <a:lnTo>
                      <a:pt x="105" y="358"/>
                    </a:lnTo>
                    <a:lnTo>
                      <a:pt x="175" y="358"/>
                    </a:lnTo>
                    <a:lnTo>
                      <a:pt x="175" y="340"/>
                    </a:lnTo>
                    <a:lnTo>
                      <a:pt x="175" y="332"/>
                    </a:lnTo>
                    <a:lnTo>
                      <a:pt x="175" y="323"/>
                    </a:lnTo>
                    <a:lnTo>
                      <a:pt x="175" y="323"/>
                    </a:lnTo>
                    <a:lnTo>
                      <a:pt x="175" y="314"/>
                    </a:lnTo>
                    <a:lnTo>
                      <a:pt x="175" y="305"/>
                    </a:lnTo>
                    <a:lnTo>
                      <a:pt x="183" y="305"/>
                    </a:lnTo>
                    <a:lnTo>
                      <a:pt x="183" y="297"/>
                    </a:lnTo>
                    <a:lnTo>
                      <a:pt x="183" y="297"/>
                    </a:lnTo>
                    <a:lnTo>
                      <a:pt x="192" y="288"/>
                    </a:lnTo>
                    <a:lnTo>
                      <a:pt x="192" y="288"/>
                    </a:lnTo>
                    <a:lnTo>
                      <a:pt x="201" y="288"/>
                    </a:lnTo>
                    <a:lnTo>
                      <a:pt x="201" y="288"/>
                    </a:lnTo>
                    <a:lnTo>
                      <a:pt x="210" y="288"/>
                    </a:lnTo>
                    <a:lnTo>
                      <a:pt x="210" y="288"/>
                    </a:lnTo>
                    <a:lnTo>
                      <a:pt x="218" y="288"/>
                    </a:lnTo>
                    <a:lnTo>
                      <a:pt x="227" y="288"/>
                    </a:lnTo>
                    <a:lnTo>
                      <a:pt x="227" y="288"/>
                    </a:lnTo>
                    <a:lnTo>
                      <a:pt x="236" y="288"/>
                    </a:lnTo>
                    <a:lnTo>
                      <a:pt x="244" y="288"/>
                    </a:lnTo>
                    <a:lnTo>
                      <a:pt x="244" y="288"/>
                    </a:lnTo>
                    <a:lnTo>
                      <a:pt x="253" y="288"/>
                    </a:lnTo>
                    <a:lnTo>
                      <a:pt x="262" y="288"/>
                    </a:lnTo>
                    <a:lnTo>
                      <a:pt x="262" y="279"/>
                    </a:lnTo>
                    <a:lnTo>
                      <a:pt x="271" y="279"/>
                    </a:lnTo>
                    <a:lnTo>
                      <a:pt x="271" y="271"/>
                    </a:lnTo>
                    <a:lnTo>
                      <a:pt x="271" y="271"/>
                    </a:lnTo>
                    <a:lnTo>
                      <a:pt x="271" y="262"/>
                    </a:lnTo>
                    <a:lnTo>
                      <a:pt x="271" y="253"/>
                    </a:lnTo>
                    <a:lnTo>
                      <a:pt x="271" y="253"/>
                    </a:lnTo>
                    <a:lnTo>
                      <a:pt x="271" y="244"/>
                    </a:lnTo>
                    <a:lnTo>
                      <a:pt x="271" y="236"/>
                    </a:lnTo>
                    <a:lnTo>
                      <a:pt x="271" y="236"/>
                    </a:lnTo>
                    <a:lnTo>
                      <a:pt x="279" y="227"/>
                    </a:lnTo>
                    <a:lnTo>
                      <a:pt x="279" y="227"/>
                    </a:lnTo>
                    <a:lnTo>
                      <a:pt x="279" y="218"/>
                    </a:lnTo>
                    <a:lnTo>
                      <a:pt x="288" y="218"/>
                    </a:lnTo>
                    <a:lnTo>
                      <a:pt x="297" y="218"/>
                    </a:lnTo>
                    <a:lnTo>
                      <a:pt x="297" y="218"/>
                    </a:lnTo>
                    <a:lnTo>
                      <a:pt x="305" y="218"/>
                    </a:lnTo>
                    <a:lnTo>
                      <a:pt x="314" y="218"/>
                    </a:lnTo>
                    <a:lnTo>
                      <a:pt x="314" y="209"/>
                    </a:lnTo>
                    <a:lnTo>
                      <a:pt x="323" y="209"/>
                    </a:lnTo>
                    <a:lnTo>
                      <a:pt x="332" y="209"/>
                    </a:lnTo>
                    <a:lnTo>
                      <a:pt x="332" y="209"/>
                    </a:lnTo>
                    <a:lnTo>
                      <a:pt x="340" y="201"/>
                    </a:lnTo>
                    <a:lnTo>
                      <a:pt x="340" y="201"/>
                    </a:lnTo>
                    <a:lnTo>
                      <a:pt x="340" y="192"/>
                    </a:lnTo>
                    <a:lnTo>
                      <a:pt x="349" y="192"/>
                    </a:lnTo>
                    <a:lnTo>
                      <a:pt x="349" y="183"/>
                    </a:lnTo>
                    <a:lnTo>
                      <a:pt x="349" y="183"/>
                    </a:lnTo>
                    <a:lnTo>
                      <a:pt x="349" y="175"/>
                    </a:lnTo>
                    <a:lnTo>
                      <a:pt x="349" y="166"/>
                    </a:lnTo>
                    <a:lnTo>
                      <a:pt x="349" y="157"/>
                    </a:lnTo>
                    <a:lnTo>
                      <a:pt x="340" y="148"/>
                    </a:lnTo>
                    <a:lnTo>
                      <a:pt x="340" y="148"/>
                    </a:lnTo>
                    <a:lnTo>
                      <a:pt x="340" y="140"/>
                    </a:lnTo>
                    <a:lnTo>
                      <a:pt x="340" y="131"/>
                    </a:lnTo>
                    <a:lnTo>
                      <a:pt x="340" y="131"/>
                    </a:lnTo>
                    <a:lnTo>
                      <a:pt x="340" y="122"/>
                    </a:lnTo>
                    <a:lnTo>
                      <a:pt x="349" y="113"/>
                    </a:lnTo>
                    <a:lnTo>
                      <a:pt x="349" y="113"/>
                    </a:lnTo>
                    <a:lnTo>
                      <a:pt x="349" y="105"/>
                    </a:lnTo>
                    <a:lnTo>
                      <a:pt x="358" y="105"/>
                    </a:lnTo>
                    <a:lnTo>
                      <a:pt x="358" y="96"/>
                    </a:lnTo>
                    <a:lnTo>
                      <a:pt x="367" y="96"/>
                    </a:lnTo>
                    <a:lnTo>
                      <a:pt x="367" y="96"/>
                    </a:lnTo>
                    <a:lnTo>
                      <a:pt x="375" y="87"/>
                    </a:lnTo>
                    <a:lnTo>
                      <a:pt x="384" y="87"/>
                    </a:lnTo>
                    <a:lnTo>
                      <a:pt x="384" y="87"/>
                    </a:lnTo>
                    <a:lnTo>
                      <a:pt x="393" y="87"/>
                    </a:lnTo>
                    <a:close/>
                  </a:path>
                </a:pathLst>
              </a:custGeom>
              <a:solidFill>
                <a:srgbClr val="ccffff"/>
              </a:solidFill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278880" y="187560"/>
                <a:ext cx="348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33399"/>
                    </a:solidFill>
                    <a:latin typeface="Arial Narrow"/>
                  </a:rPr>
                  <a:t>  </a:t>
                </a:r>
                <a:r>
                  <a:rPr b="1" lang="en-US" sz="3000" spc="-1" strike="noStrike">
                    <a:solidFill>
                      <a:srgbClr val="333399"/>
                    </a:solidFill>
                    <a:latin typeface="Arial Narrow"/>
                  </a:rPr>
                  <a:t>$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3254040" y="261000"/>
                <a:ext cx="656640" cy="479520"/>
                <a:chOff x="3254040" y="261000"/>
                <a:chExt cx="656640" cy="47952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476880" y="455040"/>
                  <a:ext cx="433800" cy="28548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254040" y="261000"/>
                  <a:ext cx="431280" cy="28512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5" name=""/>
            <p:cNvGrpSpPr/>
            <p:nvPr/>
          </p:nvGrpSpPr>
          <p:grpSpPr>
            <a:xfrm>
              <a:off x="3220200" y="1084680"/>
              <a:ext cx="815400" cy="817200"/>
              <a:chOff x="3220200" y="1084680"/>
              <a:chExt cx="815400" cy="817200"/>
            </a:xfrm>
          </p:grpSpPr>
          <p:sp>
            <p:nvSpPr>
              <p:cNvPr id="496" name=""/>
              <p:cNvSpPr/>
              <p:nvPr/>
            </p:nvSpPr>
            <p:spPr>
              <a:xfrm>
                <a:off x="3220200" y="1084680"/>
                <a:ext cx="815400" cy="817200"/>
              </a:xfrm>
              <a:custGeom>
                <a:avLst/>
                <a:gdLst/>
                <a:ahLst/>
                <a:rect l="l" t="t" r="r" b="b"/>
                <a:pathLst>
                  <a:path w="393" h="419">
                    <a:moveTo>
                      <a:pt x="393" y="349"/>
                    </a:moveTo>
                    <a:lnTo>
                      <a:pt x="393" y="419"/>
                    </a:lnTo>
                    <a:lnTo>
                      <a:pt x="0" y="419"/>
                    </a:lnTo>
                    <a:lnTo>
                      <a:pt x="0" y="87"/>
                    </a:lnTo>
                    <a:lnTo>
                      <a:pt x="35" y="87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5" y="61"/>
                    </a:lnTo>
                    <a:lnTo>
                      <a:pt x="35" y="61"/>
                    </a:lnTo>
                    <a:lnTo>
                      <a:pt x="26" y="52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6" y="26"/>
                    </a:lnTo>
                    <a:lnTo>
                      <a:pt x="35" y="26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6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105" y="9"/>
                    </a:lnTo>
                    <a:lnTo>
                      <a:pt x="105" y="17"/>
                    </a:lnTo>
                    <a:lnTo>
                      <a:pt x="114" y="17"/>
                    </a:lnTo>
                    <a:lnTo>
                      <a:pt x="114" y="26"/>
                    </a:lnTo>
                    <a:lnTo>
                      <a:pt x="114" y="35"/>
                    </a:lnTo>
                    <a:lnTo>
                      <a:pt x="114" y="35"/>
                    </a:lnTo>
                    <a:lnTo>
                      <a:pt x="114" y="44"/>
                    </a:lnTo>
                    <a:lnTo>
                      <a:pt x="114" y="52"/>
                    </a:lnTo>
                    <a:lnTo>
                      <a:pt x="114" y="52"/>
                    </a:lnTo>
                    <a:lnTo>
                      <a:pt x="114" y="61"/>
                    </a:lnTo>
                    <a:lnTo>
                      <a:pt x="114" y="70"/>
                    </a:lnTo>
                    <a:lnTo>
                      <a:pt x="105" y="70"/>
                    </a:lnTo>
                    <a:lnTo>
                      <a:pt x="105" y="78"/>
                    </a:lnTo>
                    <a:lnTo>
                      <a:pt x="114" y="78"/>
                    </a:lnTo>
                    <a:lnTo>
                      <a:pt x="114" y="78"/>
                    </a:lnTo>
                    <a:lnTo>
                      <a:pt x="175" y="78"/>
                    </a:lnTo>
                    <a:lnTo>
                      <a:pt x="175" y="96"/>
                    </a:lnTo>
                    <a:lnTo>
                      <a:pt x="175" y="105"/>
                    </a:lnTo>
                    <a:lnTo>
                      <a:pt x="175" y="113"/>
                    </a:lnTo>
                    <a:lnTo>
                      <a:pt x="175" y="113"/>
                    </a:lnTo>
                    <a:lnTo>
                      <a:pt x="175" y="122"/>
                    </a:lnTo>
                    <a:lnTo>
                      <a:pt x="175" y="131"/>
                    </a:lnTo>
                    <a:lnTo>
                      <a:pt x="175" y="139"/>
                    </a:lnTo>
                    <a:lnTo>
                      <a:pt x="183" y="139"/>
                    </a:lnTo>
                    <a:lnTo>
                      <a:pt x="183" y="139"/>
                    </a:lnTo>
                    <a:lnTo>
                      <a:pt x="192" y="148"/>
                    </a:lnTo>
                    <a:lnTo>
                      <a:pt x="192" y="148"/>
                    </a:lnTo>
                    <a:lnTo>
                      <a:pt x="201" y="148"/>
                    </a:lnTo>
                    <a:lnTo>
                      <a:pt x="201" y="148"/>
                    </a:lnTo>
                    <a:lnTo>
                      <a:pt x="210" y="148"/>
                    </a:lnTo>
                    <a:lnTo>
                      <a:pt x="210" y="148"/>
                    </a:lnTo>
                    <a:lnTo>
                      <a:pt x="218" y="148"/>
                    </a:lnTo>
                    <a:lnTo>
                      <a:pt x="227" y="148"/>
                    </a:lnTo>
                    <a:lnTo>
                      <a:pt x="227" y="148"/>
                    </a:lnTo>
                    <a:lnTo>
                      <a:pt x="236" y="148"/>
                    </a:lnTo>
                    <a:lnTo>
                      <a:pt x="244" y="148"/>
                    </a:lnTo>
                    <a:lnTo>
                      <a:pt x="244" y="148"/>
                    </a:lnTo>
                    <a:lnTo>
                      <a:pt x="253" y="148"/>
                    </a:lnTo>
                    <a:lnTo>
                      <a:pt x="262" y="148"/>
                    </a:lnTo>
                    <a:lnTo>
                      <a:pt x="262" y="157"/>
                    </a:lnTo>
                    <a:lnTo>
                      <a:pt x="271" y="157"/>
                    </a:lnTo>
                    <a:lnTo>
                      <a:pt x="271" y="166"/>
                    </a:lnTo>
                    <a:lnTo>
                      <a:pt x="271" y="166"/>
                    </a:lnTo>
                    <a:lnTo>
                      <a:pt x="271" y="174"/>
                    </a:lnTo>
                    <a:lnTo>
                      <a:pt x="271" y="183"/>
                    </a:lnTo>
                    <a:lnTo>
                      <a:pt x="271" y="183"/>
                    </a:lnTo>
                    <a:lnTo>
                      <a:pt x="271" y="192"/>
                    </a:lnTo>
                    <a:lnTo>
                      <a:pt x="271" y="201"/>
                    </a:lnTo>
                    <a:lnTo>
                      <a:pt x="271" y="201"/>
                    </a:lnTo>
                    <a:lnTo>
                      <a:pt x="279" y="209"/>
                    </a:lnTo>
                    <a:lnTo>
                      <a:pt x="279" y="209"/>
                    </a:lnTo>
                    <a:lnTo>
                      <a:pt x="279" y="218"/>
                    </a:lnTo>
                    <a:lnTo>
                      <a:pt x="288" y="218"/>
                    </a:lnTo>
                    <a:lnTo>
                      <a:pt x="297" y="218"/>
                    </a:lnTo>
                    <a:lnTo>
                      <a:pt x="297" y="218"/>
                    </a:lnTo>
                    <a:lnTo>
                      <a:pt x="305" y="218"/>
                    </a:lnTo>
                    <a:lnTo>
                      <a:pt x="314" y="227"/>
                    </a:lnTo>
                    <a:lnTo>
                      <a:pt x="314" y="227"/>
                    </a:lnTo>
                    <a:lnTo>
                      <a:pt x="323" y="227"/>
                    </a:lnTo>
                    <a:lnTo>
                      <a:pt x="332" y="227"/>
                    </a:lnTo>
                    <a:lnTo>
                      <a:pt x="332" y="227"/>
                    </a:lnTo>
                    <a:lnTo>
                      <a:pt x="340" y="235"/>
                    </a:lnTo>
                    <a:lnTo>
                      <a:pt x="340" y="235"/>
                    </a:lnTo>
                    <a:lnTo>
                      <a:pt x="340" y="244"/>
                    </a:lnTo>
                    <a:lnTo>
                      <a:pt x="349" y="244"/>
                    </a:lnTo>
                    <a:lnTo>
                      <a:pt x="349" y="253"/>
                    </a:lnTo>
                    <a:lnTo>
                      <a:pt x="349" y="262"/>
                    </a:lnTo>
                    <a:lnTo>
                      <a:pt x="349" y="262"/>
                    </a:lnTo>
                    <a:lnTo>
                      <a:pt x="349" y="270"/>
                    </a:lnTo>
                    <a:lnTo>
                      <a:pt x="349" y="279"/>
                    </a:lnTo>
                    <a:lnTo>
                      <a:pt x="340" y="288"/>
                    </a:lnTo>
                    <a:lnTo>
                      <a:pt x="340" y="288"/>
                    </a:lnTo>
                    <a:lnTo>
                      <a:pt x="340" y="296"/>
                    </a:lnTo>
                    <a:lnTo>
                      <a:pt x="340" y="305"/>
                    </a:lnTo>
                    <a:lnTo>
                      <a:pt x="340" y="314"/>
                    </a:lnTo>
                    <a:lnTo>
                      <a:pt x="340" y="314"/>
                    </a:lnTo>
                    <a:lnTo>
                      <a:pt x="349" y="323"/>
                    </a:lnTo>
                    <a:lnTo>
                      <a:pt x="349" y="323"/>
                    </a:lnTo>
                    <a:lnTo>
                      <a:pt x="349" y="331"/>
                    </a:lnTo>
                    <a:lnTo>
                      <a:pt x="358" y="331"/>
                    </a:lnTo>
                    <a:lnTo>
                      <a:pt x="358" y="340"/>
                    </a:lnTo>
                    <a:lnTo>
                      <a:pt x="367" y="340"/>
                    </a:lnTo>
                    <a:lnTo>
                      <a:pt x="367" y="340"/>
                    </a:lnTo>
                    <a:lnTo>
                      <a:pt x="375" y="349"/>
                    </a:lnTo>
                    <a:lnTo>
                      <a:pt x="384" y="349"/>
                    </a:lnTo>
                    <a:lnTo>
                      <a:pt x="384" y="349"/>
                    </a:lnTo>
                    <a:lnTo>
                      <a:pt x="393" y="349"/>
                    </a:lnTo>
                    <a:close/>
                  </a:path>
                </a:pathLst>
              </a:custGeom>
              <a:solidFill>
                <a:srgbClr val="ccffcc"/>
              </a:solidFill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366360" y="1401120"/>
                <a:ext cx="261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99"/>
                    </a:solidFill>
                    <a:latin typeface="Arial Narrow"/>
                  </a:rPr>
                  <a:t> </a:t>
                </a:r>
                <a:r>
                  <a:rPr b="1" lang="en-US" sz="3000" spc="-1" strike="noStrike">
                    <a:solidFill>
                      <a:srgbClr val="000099"/>
                    </a:solidFill>
                    <a:latin typeface="Arial Narrow"/>
                  </a:rPr>
                  <a:t>$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3265920" y="1341720"/>
                <a:ext cx="707760" cy="460800"/>
                <a:chOff x="3265920" y="1341720"/>
                <a:chExt cx="707760" cy="4608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465000" y="1341720"/>
                  <a:ext cx="508680" cy="46080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265920" y="1341720"/>
                  <a:ext cx="398520" cy="27432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1" name=""/>
            <p:cNvGrpSpPr/>
            <p:nvPr/>
          </p:nvGrpSpPr>
          <p:grpSpPr>
            <a:xfrm>
              <a:off x="3237840" y="2090160"/>
              <a:ext cx="779760" cy="853560"/>
              <a:chOff x="3237840" y="2090160"/>
              <a:chExt cx="779760" cy="853560"/>
            </a:xfrm>
          </p:grpSpPr>
          <p:sp>
            <p:nvSpPr>
              <p:cNvPr id="502" name=""/>
              <p:cNvSpPr/>
              <p:nvPr/>
            </p:nvSpPr>
            <p:spPr>
              <a:xfrm>
                <a:off x="3237840" y="2090160"/>
                <a:ext cx="755280" cy="853560"/>
              </a:xfrm>
              <a:custGeom>
                <a:avLst/>
                <a:gdLst/>
                <a:ahLst/>
                <a:rect l="l" t="t" r="r" b="b"/>
                <a:pathLst>
                  <a:path w="436" h="523">
                    <a:moveTo>
                      <a:pt x="166" y="113"/>
                    </a:moveTo>
                    <a:lnTo>
                      <a:pt x="166" y="105"/>
                    </a:lnTo>
                    <a:lnTo>
                      <a:pt x="175" y="96"/>
                    </a:lnTo>
                    <a:lnTo>
                      <a:pt x="175" y="96"/>
                    </a:lnTo>
                    <a:lnTo>
                      <a:pt x="175" y="87"/>
                    </a:lnTo>
                    <a:lnTo>
                      <a:pt x="175" y="70"/>
                    </a:lnTo>
                    <a:lnTo>
                      <a:pt x="166" y="70"/>
                    </a:lnTo>
                    <a:lnTo>
                      <a:pt x="166" y="52"/>
                    </a:lnTo>
                    <a:lnTo>
                      <a:pt x="166" y="44"/>
                    </a:lnTo>
                    <a:lnTo>
                      <a:pt x="166" y="44"/>
                    </a:lnTo>
                    <a:lnTo>
                      <a:pt x="166" y="35"/>
                    </a:lnTo>
                    <a:lnTo>
                      <a:pt x="175" y="26"/>
                    </a:lnTo>
                    <a:lnTo>
                      <a:pt x="175" y="17"/>
                    </a:lnTo>
                    <a:lnTo>
                      <a:pt x="183" y="9"/>
                    </a:lnTo>
                    <a:lnTo>
                      <a:pt x="192" y="0"/>
                    </a:lnTo>
                    <a:lnTo>
                      <a:pt x="192" y="0"/>
                    </a:lnTo>
                    <a:lnTo>
                      <a:pt x="201" y="0"/>
                    </a:lnTo>
                    <a:lnTo>
                      <a:pt x="218" y="0"/>
                    </a:lnTo>
                    <a:lnTo>
                      <a:pt x="227" y="0"/>
                    </a:lnTo>
                    <a:lnTo>
                      <a:pt x="236" y="0"/>
                    </a:lnTo>
                    <a:lnTo>
                      <a:pt x="244" y="0"/>
                    </a:lnTo>
                    <a:lnTo>
                      <a:pt x="244" y="9"/>
                    </a:lnTo>
                    <a:lnTo>
                      <a:pt x="253" y="9"/>
                    </a:lnTo>
                    <a:lnTo>
                      <a:pt x="253" y="17"/>
                    </a:lnTo>
                    <a:lnTo>
                      <a:pt x="262" y="17"/>
                    </a:lnTo>
                    <a:lnTo>
                      <a:pt x="262" y="26"/>
                    </a:lnTo>
                    <a:lnTo>
                      <a:pt x="271" y="35"/>
                    </a:lnTo>
                    <a:lnTo>
                      <a:pt x="271" y="44"/>
                    </a:lnTo>
                    <a:lnTo>
                      <a:pt x="271" y="52"/>
                    </a:lnTo>
                    <a:lnTo>
                      <a:pt x="271" y="61"/>
                    </a:lnTo>
                    <a:lnTo>
                      <a:pt x="262" y="61"/>
                    </a:lnTo>
                    <a:lnTo>
                      <a:pt x="262" y="70"/>
                    </a:lnTo>
                    <a:lnTo>
                      <a:pt x="262" y="87"/>
                    </a:lnTo>
                    <a:lnTo>
                      <a:pt x="262" y="87"/>
                    </a:lnTo>
                    <a:lnTo>
                      <a:pt x="262" y="96"/>
                    </a:lnTo>
                    <a:lnTo>
                      <a:pt x="262" y="96"/>
                    </a:lnTo>
                    <a:lnTo>
                      <a:pt x="271" y="105"/>
                    </a:lnTo>
                    <a:lnTo>
                      <a:pt x="271" y="113"/>
                    </a:lnTo>
                    <a:lnTo>
                      <a:pt x="279" y="113"/>
                    </a:lnTo>
                    <a:lnTo>
                      <a:pt x="288" y="122"/>
                    </a:lnTo>
                    <a:lnTo>
                      <a:pt x="297" y="122"/>
                    </a:lnTo>
                    <a:lnTo>
                      <a:pt x="297" y="122"/>
                    </a:lnTo>
                    <a:lnTo>
                      <a:pt x="305" y="122"/>
                    </a:lnTo>
                    <a:lnTo>
                      <a:pt x="314" y="122"/>
                    </a:lnTo>
                    <a:lnTo>
                      <a:pt x="323" y="131"/>
                    </a:lnTo>
                    <a:lnTo>
                      <a:pt x="323" y="131"/>
                    </a:lnTo>
                    <a:lnTo>
                      <a:pt x="332" y="131"/>
                    </a:lnTo>
                    <a:lnTo>
                      <a:pt x="332" y="140"/>
                    </a:lnTo>
                    <a:lnTo>
                      <a:pt x="332" y="140"/>
                    </a:lnTo>
                    <a:lnTo>
                      <a:pt x="340" y="148"/>
                    </a:lnTo>
                    <a:lnTo>
                      <a:pt x="340" y="148"/>
                    </a:lnTo>
                    <a:lnTo>
                      <a:pt x="340" y="157"/>
                    </a:lnTo>
                    <a:lnTo>
                      <a:pt x="340" y="157"/>
                    </a:lnTo>
                    <a:lnTo>
                      <a:pt x="340" y="166"/>
                    </a:lnTo>
                    <a:lnTo>
                      <a:pt x="340" y="174"/>
                    </a:lnTo>
                    <a:lnTo>
                      <a:pt x="340" y="174"/>
                    </a:lnTo>
                    <a:lnTo>
                      <a:pt x="340" y="183"/>
                    </a:lnTo>
                    <a:lnTo>
                      <a:pt x="340" y="192"/>
                    </a:lnTo>
                    <a:lnTo>
                      <a:pt x="349" y="192"/>
                    </a:lnTo>
                    <a:lnTo>
                      <a:pt x="349" y="192"/>
                    </a:lnTo>
                    <a:lnTo>
                      <a:pt x="358" y="201"/>
                    </a:lnTo>
                    <a:lnTo>
                      <a:pt x="367" y="201"/>
                    </a:lnTo>
                    <a:lnTo>
                      <a:pt x="367" y="201"/>
                    </a:lnTo>
                    <a:lnTo>
                      <a:pt x="375" y="201"/>
                    </a:lnTo>
                    <a:lnTo>
                      <a:pt x="384" y="201"/>
                    </a:lnTo>
                    <a:lnTo>
                      <a:pt x="384" y="201"/>
                    </a:lnTo>
                    <a:lnTo>
                      <a:pt x="393" y="201"/>
                    </a:lnTo>
                    <a:lnTo>
                      <a:pt x="401" y="201"/>
                    </a:lnTo>
                    <a:lnTo>
                      <a:pt x="401" y="201"/>
                    </a:lnTo>
                    <a:lnTo>
                      <a:pt x="410" y="201"/>
                    </a:lnTo>
                    <a:lnTo>
                      <a:pt x="419" y="201"/>
                    </a:lnTo>
                    <a:lnTo>
                      <a:pt x="419" y="201"/>
                    </a:lnTo>
                    <a:lnTo>
                      <a:pt x="419" y="201"/>
                    </a:lnTo>
                    <a:lnTo>
                      <a:pt x="428" y="209"/>
                    </a:lnTo>
                    <a:lnTo>
                      <a:pt x="428" y="209"/>
                    </a:lnTo>
                    <a:lnTo>
                      <a:pt x="436" y="218"/>
                    </a:lnTo>
                    <a:lnTo>
                      <a:pt x="436" y="218"/>
                    </a:lnTo>
                    <a:lnTo>
                      <a:pt x="436" y="227"/>
                    </a:lnTo>
                    <a:lnTo>
                      <a:pt x="436" y="236"/>
                    </a:lnTo>
                    <a:lnTo>
                      <a:pt x="436" y="253"/>
                    </a:lnTo>
                    <a:lnTo>
                      <a:pt x="436" y="262"/>
                    </a:lnTo>
                    <a:lnTo>
                      <a:pt x="436" y="279"/>
                    </a:lnTo>
                    <a:lnTo>
                      <a:pt x="436" y="288"/>
                    </a:lnTo>
                    <a:lnTo>
                      <a:pt x="428" y="297"/>
                    </a:lnTo>
                    <a:lnTo>
                      <a:pt x="428" y="305"/>
                    </a:lnTo>
                    <a:lnTo>
                      <a:pt x="428" y="305"/>
                    </a:lnTo>
                    <a:lnTo>
                      <a:pt x="428" y="314"/>
                    </a:lnTo>
                    <a:lnTo>
                      <a:pt x="419" y="314"/>
                    </a:lnTo>
                    <a:lnTo>
                      <a:pt x="419" y="314"/>
                    </a:lnTo>
                    <a:lnTo>
                      <a:pt x="410" y="314"/>
                    </a:lnTo>
                    <a:lnTo>
                      <a:pt x="401" y="314"/>
                    </a:lnTo>
                    <a:lnTo>
                      <a:pt x="393" y="314"/>
                    </a:lnTo>
                    <a:lnTo>
                      <a:pt x="393" y="314"/>
                    </a:lnTo>
                    <a:lnTo>
                      <a:pt x="384" y="314"/>
                    </a:lnTo>
                    <a:lnTo>
                      <a:pt x="375" y="314"/>
                    </a:lnTo>
                    <a:lnTo>
                      <a:pt x="375" y="314"/>
                    </a:lnTo>
                    <a:lnTo>
                      <a:pt x="367" y="314"/>
                    </a:lnTo>
                    <a:lnTo>
                      <a:pt x="358" y="314"/>
                    </a:lnTo>
                    <a:lnTo>
                      <a:pt x="358" y="314"/>
                    </a:lnTo>
                    <a:lnTo>
                      <a:pt x="349" y="314"/>
                    </a:lnTo>
                    <a:lnTo>
                      <a:pt x="349" y="323"/>
                    </a:lnTo>
                    <a:lnTo>
                      <a:pt x="349" y="323"/>
                    </a:lnTo>
                    <a:lnTo>
                      <a:pt x="340" y="323"/>
                    </a:lnTo>
                    <a:lnTo>
                      <a:pt x="340" y="331"/>
                    </a:lnTo>
                    <a:lnTo>
                      <a:pt x="340" y="331"/>
                    </a:lnTo>
                    <a:lnTo>
                      <a:pt x="340" y="340"/>
                    </a:lnTo>
                    <a:lnTo>
                      <a:pt x="340" y="340"/>
                    </a:lnTo>
                    <a:lnTo>
                      <a:pt x="340" y="349"/>
                    </a:lnTo>
                    <a:lnTo>
                      <a:pt x="340" y="358"/>
                    </a:lnTo>
                    <a:lnTo>
                      <a:pt x="340" y="366"/>
                    </a:lnTo>
                    <a:lnTo>
                      <a:pt x="332" y="366"/>
                    </a:lnTo>
                    <a:lnTo>
                      <a:pt x="332" y="375"/>
                    </a:lnTo>
                    <a:lnTo>
                      <a:pt x="332" y="384"/>
                    </a:lnTo>
                    <a:lnTo>
                      <a:pt x="323" y="384"/>
                    </a:lnTo>
                    <a:lnTo>
                      <a:pt x="323" y="384"/>
                    </a:lnTo>
                    <a:lnTo>
                      <a:pt x="314" y="384"/>
                    </a:lnTo>
                    <a:lnTo>
                      <a:pt x="305" y="384"/>
                    </a:lnTo>
                    <a:lnTo>
                      <a:pt x="305" y="393"/>
                    </a:lnTo>
                    <a:lnTo>
                      <a:pt x="297" y="393"/>
                    </a:lnTo>
                    <a:lnTo>
                      <a:pt x="288" y="393"/>
                    </a:lnTo>
                    <a:lnTo>
                      <a:pt x="288" y="393"/>
                    </a:lnTo>
                    <a:lnTo>
                      <a:pt x="279" y="393"/>
                    </a:lnTo>
                    <a:lnTo>
                      <a:pt x="279" y="401"/>
                    </a:lnTo>
                    <a:lnTo>
                      <a:pt x="271" y="401"/>
                    </a:lnTo>
                    <a:lnTo>
                      <a:pt x="271" y="410"/>
                    </a:lnTo>
                    <a:lnTo>
                      <a:pt x="262" y="410"/>
                    </a:lnTo>
                    <a:lnTo>
                      <a:pt x="262" y="419"/>
                    </a:lnTo>
                    <a:lnTo>
                      <a:pt x="262" y="427"/>
                    </a:lnTo>
                    <a:lnTo>
                      <a:pt x="262" y="427"/>
                    </a:lnTo>
                    <a:lnTo>
                      <a:pt x="262" y="436"/>
                    </a:lnTo>
                    <a:lnTo>
                      <a:pt x="262" y="445"/>
                    </a:lnTo>
                    <a:lnTo>
                      <a:pt x="262" y="454"/>
                    </a:lnTo>
                    <a:lnTo>
                      <a:pt x="262" y="454"/>
                    </a:lnTo>
                    <a:lnTo>
                      <a:pt x="271" y="462"/>
                    </a:lnTo>
                    <a:lnTo>
                      <a:pt x="271" y="471"/>
                    </a:lnTo>
                    <a:lnTo>
                      <a:pt x="262" y="480"/>
                    </a:lnTo>
                    <a:lnTo>
                      <a:pt x="262" y="489"/>
                    </a:lnTo>
                    <a:lnTo>
                      <a:pt x="262" y="497"/>
                    </a:lnTo>
                    <a:lnTo>
                      <a:pt x="262" y="497"/>
                    </a:lnTo>
                    <a:lnTo>
                      <a:pt x="253" y="506"/>
                    </a:lnTo>
                    <a:lnTo>
                      <a:pt x="253" y="515"/>
                    </a:lnTo>
                    <a:lnTo>
                      <a:pt x="244" y="515"/>
                    </a:lnTo>
                    <a:lnTo>
                      <a:pt x="244" y="523"/>
                    </a:lnTo>
                    <a:lnTo>
                      <a:pt x="236" y="523"/>
                    </a:lnTo>
                    <a:lnTo>
                      <a:pt x="236" y="523"/>
                    </a:lnTo>
                    <a:lnTo>
                      <a:pt x="227" y="523"/>
                    </a:lnTo>
                    <a:lnTo>
                      <a:pt x="227" y="523"/>
                    </a:lnTo>
                    <a:lnTo>
                      <a:pt x="218" y="523"/>
                    </a:lnTo>
                    <a:lnTo>
                      <a:pt x="210" y="523"/>
                    </a:lnTo>
                    <a:lnTo>
                      <a:pt x="201" y="523"/>
                    </a:lnTo>
                    <a:lnTo>
                      <a:pt x="192" y="523"/>
                    </a:lnTo>
                    <a:lnTo>
                      <a:pt x="192" y="523"/>
                    </a:lnTo>
                    <a:lnTo>
                      <a:pt x="183" y="523"/>
                    </a:lnTo>
                    <a:lnTo>
                      <a:pt x="183" y="515"/>
                    </a:lnTo>
                    <a:lnTo>
                      <a:pt x="175" y="515"/>
                    </a:lnTo>
                    <a:lnTo>
                      <a:pt x="175" y="506"/>
                    </a:lnTo>
                    <a:lnTo>
                      <a:pt x="166" y="506"/>
                    </a:lnTo>
                    <a:lnTo>
                      <a:pt x="166" y="497"/>
                    </a:lnTo>
                    <a:lnTo>
                      <a:pt x="166" y="497"/>
                    </a:lnTo>
                    <a:lnTo>
                      <a:pt x="166" y="489"/>
                    </a:lnTo>
                    <a:lnTo>
                      <a:pt x="166" y="480"/>
                    </a:lnTo>
                    <a:lnTo>
                      <a:pt x="166" y="480"/>
                    </a:lnTo>
                    <a:lnTo>
                      <a:pt x="166" y="471"/>
                    </a:lnTo>
                    <a:lnTo>
                      <a:pt x="166" y="462"/>
                    </a:lnTo>
                    <a:lnTo>
                      <a:pt x="166" y="454"/>
                    </a:lnTo>
                    <a:lnTo>
                      <a:pt x="166" y="454"/>
                    </a:lnTo>
                    <a:lnTo>
                      <a:pt x="175" y="445"/>
                    </a:lnTo>
                    <a:lnTo>
                      <a:pt x="175" y="436"/>
                    </a:lnTo>
                    <a:lnTo>
                      <a:pt x="175" y="436"/>
                    </a:lnTo>
                    <a:lnTo>
                      <a:pt x="166" y="427"/>
                    </a:lnTo>
                    <a:lnTo>
                      <a:pt x="166" y="427"/>
                    </a:lnTo>
                    <a:lnTo>
                      <a:pt x="166" y="419"/>
                    </a:lnTo>
                    <a:lnTo>
                      <a:pt x="157" y="419"/>
                    </a:lnTo>
                    <a:lnTo>
                      <a:pt x="157" y="410"/>
                    </a:lnTo>
                    <a:lnTo>
                      <a:pt x="157" y="410"/>
                    </a:lnTo>
                    <a:lnTo>
                      <a:pt x="148" y="410"/>
                    </a:lnTo>
                    <a:lnTo>
                      <a:pt x="140" y="410"/>
                    </a:lnTo>
                    <a:lnTo>
                      <a:pt x="140" y="401"/>
                    </a:lnTo>
                    <a:lnTo>
                      <a:pt x="131" y="401"/>
                    </a:lnTo>
                    <a:lnTo>
                      <a:pt x="122" y="401"/>
                    </a:lnTo>
                    <a:lnTo>
                      <a:pt x="122" y="401"/>
                    </a:lnTo>
                    <a:lnTo>
                      <a:pt x="114" y="401"/>
                    </a:lnTo>
                    <a:lnTo>
                      <a:pt x="105" y="401"/>
                    </a:lnTo>
                    <a:lnTo>
                      <a:pt x="105" y="393"/>
                    </a:lnTo>
                    <a:lnTo>
                      <a:pt x="96" y="393"/>
                    </a:lnTo>
                    <a:lnTo>
                      <a:pt x="96" y="384"/>
                    </a:lnTo>
                    <a:lnTo>
                      <a:pt x="96" y="384"/>
                    </a:lnTo>
                    <a:lnTo>
                      <a:pt x="96" y="375"/>
                    </a:lnTo>
                    <a:lnTo>
                      <a:pt x="96" y="366"/>
                    </a:lnTo>
                    <a:lnTo>
                      <a:pt x="96" y="358"/>
                    </a:lnTo>
                    <a:lnTo>
                      <a:pt x="96" y="358"/>
                    </a:lnTo>
                    <a:lnTo>
                      <a:pt x="96" y="349"/>
                    </a:lnTo>
                    <a:lnTo>
                      <a:pt x="96" y="349"/>
                    </a:lnTo>
                    <a:lnTo>
                      <a:pt x="87" y="340"/>
                    </a:lnTo>
                    <a:lnTo>
                      <a:pt x="87" y="340"/>
                    </a:lnTo>
                    <a:lnTo>
                      <a:pt x="79" y="331"/>
                    </a:lnTo>
                    <a:lnTo>
                      <a:pt x="79" y="331"/>
                    </a:lnTo>
                    <a:lnTo>
                      <a:pt x="70" y="331"/>
                    </a:lnTo>
                    <a:lnTo>
                      <a:pt x="61" y="331"/>
                    </a:lnTo>
                    <a:lnTo>
                      <a:pt x="61" y="323"/>
                    </a:lnTo>
                    <a:lnTo>
                      <a:pt x="53" y="323"/>
                    </a:lnTo>
                    <a:lnTo>
                      <a:pt x="53" y="331"/>
                    </a:lnTo>
                    <a:lnTo>
                      <a:pt x="44" y="331"/>
                    </a:lnTo>
                    <a:lnTo>
                      <a:pt x="35" y="331"/>
                    </a:lnTo>
                    <a:lnTo>
                      <a:pt x="35" y="331"/>
                    </a:lnTo>
                    <a:lnTo>
                      <a:pt x="26" y="331"/>
                    </a:lnTo>
                    <a:lnTo>
                      <a:pt x="18" y="331"/>
                    </a:lnTo>
                    <a:lnTo>
                      <a:pt x="18" y="331"/>
                    </a:lnTo>
                    <a:lnTo>
                      <a:pt x="9" y="323"/>
                    </a:lnTo>
                    <a:lnTo>
                      <a:pt x="9" y="323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05"/>
                    </a:lnTo>
                    <a:lnTo>
                      <a:pt x="0" y="297"/>
                    </a:lnTo>
                    <a:lnTo>
                      <a:pt x="0" y="288"/>
                    </a:lnTo>
                    <a:lnTo>
                      <a:pt x="0" y="279"/>
                    </a:lnTo>
                    <a:lnTo>
                      <a:pt x="0" y="262"/>
                    </a:lnTo>
                    <a:lnTo>
                      <a:pt x="0" y="253"/>
                    </a:lnTo>
                    <a:lnTo>
                      <a:pt x="0" y="244"/>
                    </a:lnTo>
                    <a:lnTo>
                      <a:pt x="0" y="236"/>
                    </a:lnTo>
                    <a:lnTo>
                      <a:pt x="0" y="227"/>
                    </a:lnTo>
                    <a:lnTo>
                      <a:pt x="0" y="218"/>
                    </a:lnTo>
                    <a:lnTo>
                      <a:pt x="0" y="209"/>
                    </a:lnTo>
                    <a:lnTo>
                      <a:pt x="0" y="209"/>
                    </a:lnTo>
                    <a:lnTo>
                      <a:pt x="9" y="209"/>
                    </a:lnTo>
                    <a:lnTo>
                      <a:pt x="9" y="201"/>
                    </a:lnTo>
                    <a:lnTo>
                      <a:pt x="18" y="201"/>
                    </a:lnTo>
                    <a:lnTo>
                      <a:pt x="18" y="201"/>
                    </a:lnTo>
                    <a:lnTo>
                      <a:pt x="26" y="201"/>
                    </a:lnTo>
                    <a:lnTo>
                      <a:pt x="26" y="201"/>
                    </a:lnTo>
                    <a:lnTo>
                      <a:pt x="35" y="201"/>
                    </a:lnTo>
                    <a:lnTo>
                      <a:pt x="44" y="201"/>
                    </a:lnTo>
                    <a:lnTo>
                      <a:pt x="53" y="201"/>
                    </a:lnTo>
                    <a:lnTo>
                      <a:pt x="53" y="201"/>
                    </a:lnTo>
                    <a:lnTo>
                      <a:pt x="61" y="201"/>
                    </a:lnTo>
                    <a:lnTo>
                      <a:pt x="70" y="201"/>
                    </a:lnTo>
                    <a:lnTo>
                      <a:pt x="79" y="201"/>
                    </a:lnTo>
                    <a:lnTo>
                      <a:pt x="79" y="192"/>
                    </a:lnTo>
                    <a:lnTo>
                      <a:pt x="87" y="192"/>
                    </a:lnTo>
                    <a:lnTo>
                      <a:pt x="87" y="192"/>
                    </a:lnTo>
                    <a:lnTo>
                      <a:pt x="96" y="183"/>
                    </a:lnTo>
                    <a:lnTo>
                      <a:pt x="96" y="174"/>
                    </a:lnTo>
                    <a:lnTo>
                      <a:pt x="96" y="174"/>
                    </a:lnTo>
                    <a:lnTo>
                      <a:pt x="96" y="166"/>
                    </a:lnTo>
                    <a:lnTo>
                      <a:pt x="96" y="157"/>
                    </a:lnTo>
                    <a:lnTo>
                      <a:pt x="96" y="148"/>
                    </a:lnTo>
                    <a:lnTo>
                      <a:pt x="96" y="148"/>
                    </a:lnTo>
                    <a:lnTo>
                      <a:pt x="96" y="140"/>
                    </a:lnTo>
                    <a:lnTo>
                      <a:pt x="105" y="140"/>
                    </a:lnTo>
                    <a:lnTo>
                      <a:pt x="105" y="131"/>
                    </a:lnTo>
                    <a:lnTo>
                      <a:pt x="114" y="131"/>
                    </a:lnTo>
                    <a:lnTo>
                      <a:pt x="114" y="131"/>
                    </a:lnTo>
                    <a:lnTo>
                      <a:pt x="122" y="122"/>
                    </a:lnTo>
                    <a:lnTo>
                      <a:pt x="131" y="122"/>
                    </a:lnTo>
                    <a:lnTo>
                      <a:pt x="140" y="122"/>
                    </a:lnTo>
                    <a:lnTo>
                      <a:pt x="140" y="122"/>
                    </a:lnTo>
                    <a:lnTo>
                      <a:pt x="148" y="122"/>
                    </a:lnTo>
                    <a:lnTo>
                      <a:pt x="157" y="113"/>
                    </a:lnTo>
                    <a:lnTo>
                      <a:pt x="166" y="113"/>
                    </a:lnTo>
                    <a:close/>
                  </a:path>
                </a:pathLst>
              </a:custGeom>
              <a:solidFill>
                <a:srgbClr val="ffcccc"/>
              </a:solidFill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283920" y="2329560"/>
                <a:ext cx="348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99"/>
                    </a:solidFill>
                    <a:latin typeface="Arial Narrow"/>
                  </a:rPr>
                  <a:t>  </a:t>
                </a:r>
                <a:r>
                  <a:rPr b="1" lang="en-US" sz="3000" spc="-1" strike="noStrike">
                    <a:solidFill>
                      <a:srgbClr val="000099"/>
                    </a:solidFill>
                    <a:latin typeface="Arial Narrow"/>
                  </a:rPr>
                  <a:t>$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3290400" y="2211120"/>
                <a:ext cx="727200" cy="639360"/>
                <a:chOff x="3290400" y="2211120"/>
                <a:chExt cx="727200" cy="63936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442680" y="2337840"/>
                  <a:ext cx="348120" cy="18540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804840" y="2337840"/>
                  <a:ext cx="212760" cy="25704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290400" y="2211120"/>
                  <a:ext cx="289440" cy="18540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290400" y="2536560"/>
                  <a:ext cx="349920" cy="31392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9" name=""/>
            <p:cNvGrpSpPr/>
            <p:nvPr/>
          </p:nvGrpSpPr>
          <p:grpSpPr>
            <a:xfrm>
              <a:off x="3222720" y="3132720"/>
              <a:ext cx="781920" cy="711360"/>
              <a:chOff x="3222720" y="3132720"/>
              <a:chExt cx="781920" cy="711360"/>
            </a:xfrm>
          </p:grpSpPr>
          <p:sp>
            <p:nvSpPr>
              <p:cNvPr id="510" name=""/>
              <p:cNvSpPr/>
              <p:nvPr/>
            </p:nvSpPr>
            <p:spPr>
              <a:xfrm>
                <a:off x="3222720" y="3189600"/>
                <a:ext cx="781920" cy="654480"/>
              </a:xfrm>
              <a:custGeom>
                <a:avLst/>
                <a:gdLst/>
                <a:ahLst/>
                <a:rect l="l" t="t" r="r" b="b"/>
                <a:pathLst>
                  <a:path w="392" h="349">
                    <a:moveTo>
                      <a:pt x="0" y="279"/>
                    </a:moveTo>
                    <a:lnTo>
                      <a:pt x="0" y="349"/>
                    </a:lnTo>
                    <a:lnTo>
                      <a:pt x="392" y="349"/>
                    </a:lnTo>
                    <a:lnTo>
                      <a:pt x="392" y="0"/>
                    </a:lnTo>
                    <a:lnTo>
                      <a:pt x="358" y="0"/>
                    </a:lnTo>
                    <a:lnTo>
                      <a:pt x="358" y="9"/>
                    </a:lnTo>
                    <a:lnTo>
                      <a:pt x="358" y="9"/>
                    </a:lnTo>
                    <a:lnTo>
                      <a:pt x="358" y="17"/>
                    </a:lnTo>
                    <a:lnTo>
                      <a:pt x="358" y="26"/>
                    </a:lnTo>
                    <a:lnTo>
                      <a:pt x="358" y="35"/>
                    </a:lnTo>
                    <a:lnTo>
                      <a:pt x="366" y="35"/>
                    </a:lnTo>
                    <a:lnTo>
                      <a:pt x="366" y="44"/>
                    </a:lnTo>
                    <a:lnTo>
                      <a:pt x="358" y="52"/>
                    </a:lnTo>
                    <a:lnTo>
                      <a:pt x="358" y="61"/>
                    </a:lnTo>
                    <a:lnTo>
                      <a:pt x="358" y="61"/>
                    </a:lnTo>
                    <a:lnTo>
                      <a:pt x="349" y="70"/>
                    </a:lnTo>
                    <a:lnTo>
                      <a:pt x="349" y="78"/>
                    </a:lnTo>
                    <a:lnTo>
                      <a:pt x="340" y="78"/>
                    </a:lnTo>
                    <a:lnTo>
                      <a:pt x="331" y="78"/>
                    </a:lnTo>
                    <a:lnTo>
                      <a:pt x="331" y="78"/>
                    </a:lnTo>
                    <a:lnTo>
                      <a:pt x="323" y="78"/>
                    </a:lnTo>
                    <a:lnTo>
                      <a:pt x="314" y="78"/>
                    </a:lnTo>
                    <a:lnTo>
                      <a:pt x="305" y="78"/>
                    </a:lnTo>
                    <a:lnTo>
                      <a:pt x="296" y="78"/>
                    </a:lnTo>
                    <a:lnTo>
                      <a:pt x="296" y="78"/>
                    </a:lnTo>
                    <a:lnTo>
                      <a:pt x="288" y="70"/>
                    </a:lnTo>
                    <a:lnTo>
                      <a:pt x="288" y="61"/>
                    </a:lnTo>
                    <a:lnTo>
                      <a:pt x="279" y="61"/>
                    </a:lnTo>
                    <a:lnTo>
                      <a:pt x="279" y="52"/>
                    </a:lnTo>
                    <a:lnTo>
                      <a:pt x="279" y="44"/>
                    </a:lnTo>
                    <a:lnTo>
                      <a:pt x="279" y="44"/>
                    </a:lnTo>
                    <a:lnTo>
                      <a:pt x="279" y="35"/>
                    </a:lnTo>
                    <a:lnTo>
                      <a:pt x="279" y="26"/>
                    </a:lnTo>
                    <a:lnTo>
                      <a:pt x="279" y="26"/>
                    </a:lnTo>
                    <a:lnTo>
                      <a:pt x="279" y="17"/>
                    </a:lnTo>
                    <a:lnTo>
                      <a:pt x="279" y="9"/>
                    </a:lnTo>
                    <a:lnTo>
                      <a:pt x="279" y="9"/>
                    </a:lnTo>
                    <a:lnTo>
                      <a:pt x="279" y="0"/>
                    </a:lnTo>
                    <a:lnTo>
                      <a:pt x="218" y="0"/>
                    </a:lnTo>
                    <a:lnTo>
                      <a:pt x="218" y="9"/>
                    </a:lnTo>
                    <a:lnTo>
                      <a:pt x="218" y="17"/>
                    </a:lnTo>
                    <a:lnTo>
                      <a:pt x="218" y="26"/>
                    </a:lnTo>
                    <a:lnTo>
                      <a:pt x="218" y="35"/>
                    </a:lnTo>
                    <a:lnTo>
                      <a:pt x="218" y="44"/>
                    </a:lnTo>
                    <a:lnTo>
                      <a:pt x="209" y="44"/>
                    </a:lnTo>
                    <a:lnTo>
                      <a:pt x="209" y="52"/>
                    </a:lnTo>
                    <a:lnTo>
                      <a:pt x="209" y="52"/>
                    </a:lnTo>
                    <a:lnTo>
                      <a:pt x="209" y="61"/>
                    </a:lnTo>
                    <a:lnTo>
                      <a:pt x="201" y="61"/>
                    </a:lnTo>
                    <a:lnTo>
                      <a:pt x="201" y="61"/>
                    </a:lnTo>
                    <a:lnTo>
                      <a:pt x="192" y="61"/>
                    </a:lnTo>
                    <a:lnTo>
                      <a:pt x="192" y="61"/>
                    </a:lnTo>
                    <a:lnTo>
                      <a:pt x="183" y="61"/>
                    </a:lnTo>
                    <a:lnTo>
                      <a:pt x="174" y="61"/>
                    </a:lnTo>
                    <a:lnTo>
                      <a:pt x="174" y="61"/>
                    </a:lnTo>
                    <a:lnTo>
                      <a:pt x="166" y="61"/>
                    </a:lnTo>
                    <a:lnTo>
                      <a:pt x="157" y="61"/>
                    </a:lnTo>
                    <a:lnTo>
                      <a:pt x="157" y="61"/>
                    </a:lnTo>
                    <a:lnTo>
                      <a:pt x="148" y="61"/>
                    </a:lnTo>
                    <a:lnTo>
                      <a:pt x="139" y="61"/>
                    </a:lnTo>
                    <a:lnTo>
                      <a:pt x="139" y="70"/>
                    </a:lnTo>
                    <a:lnTo>
                      <a:pt x="131" y="70"/>
                    </a:lnTo>
                    <a:lnTo>
                      <a:pt x="131" y="70"/>
                    </a:lnTo>
                    <a:lnTo>
                      <a:pt x="122" y="78"/>
                    </a:lnTo>
                    <a:lnTo>
                      <a:pt x="122" y="78"/>
                    </a:lnTo>
                    <a:lnTo>
                      <a:pt x="122" y="87"/>
                    </a:lnTo>
                    <a:lnTo>
                      <a:pt x="122" y="96"/>
                    </a:lnTo>
                    <a:lnTo>
                      <a:pt x="122" y="96"/>
                    </a:lnTo>
                    <a:lnTo>
                      <a:pt x="122" y="105"/>
                    </a:lnTo>
                    <a:lnTo>
                      <a:pt x="122" y="113"/>
                    </a:lnTo>
                    <a:lnTo>
                      <a:pt x="122" y="113"/>
                    </a:lnTo>
                    <a:lnTo>
                      <a:pt x="113" y="122"/>
                    </a:lnTo>
                    <a:lnTo>
                      <a:pt x="113" y="122"/>
                    </a:lnTo>
                    <a:lnTo>
                      <a:pt x="113" y="131"/>
                    </a:lnTo>
                    <a:lnTo>
                      <a:pt x="105" y="131"/>
                    </a:lnTo>
                    <a:lnTo>
                      <a:pt x="105" y="131"/>
                    </a:lnTo>
                    <a:lnTo>
                      <a:pt x="96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78" y="140"/>
                    </a:lnTo>
                    <a:lnTo>
                      <a:pt x="70" y="140"/>
                    </a:lnTo>
                    <a:lnTo>
                      <a:pt x="70" y="140"/>
                    </a:lnTo>
                    <a:lnTo>
                      <a:pt x="61" y="148"/>
                    </a:lnTo>
                    <a:lnTo>
                      <a:pt x="61" y="148"/>
                    </a:lnTo>
                    <a:lnTo>
                      <a:pt x="52" y="148"/>
                    </a:lnTo>
                    <a:lnTo>
                      <a:pt x="52" y="157"/>
                    </a:lnTo>
                    <a:lnTo>
                      <a:pt x="44" y="157"/>
                    </a:lnTo>
                    <a:lnTo>
                      <a:pt x="44" y="166"/>
                    </a:lnTo>
                    <a:lnTo>
                      <a:pt x="44" y="166"/>
                    </a:lnTo>
                    <a:lnTo>
                      <a:pt x="44" y="174"/>
                    </a:lnTo>
                    <a:lnTo>
                      <a:pt x="44" y="183"/>
                    </a:lnTo>
                    <a:lnTo>
                      <a:pt x="44" y="183"/>
                    </a:lnTo>
                    <a:lnTo>
                      <a:pt x="44" y="192"/>
                    </a:lnTo>
                    <a:lnTo>
                      <a:pt x="44" y="201"/>
                    </a:lnTo>
                    <a:lnTo>
                      <a:pt x="44" y="209"/>
                    </a:lnTo>
                    <a:lnTo>
                      <a:pt x="52" y="218"/>
                    </a:lnTo>
                    <a:lnTo>
                      <a:pt x="52" y="218"/>
                    </a:lnTo>
                    <a:lnTo>
                      <a:pt x="44" y="227"/>
                    </a:lnTo>
                    <a:lnTo>
                      <a:pt x="44" y="235"/>
                    </a:lnTo>
                    <a:lnTo>
                      <a:pt x="44" y="235"/>
                    </a:lnTo>
                    <a:lnTo>
                      <a:pt x="44" y="244"/>
                    </a:lnTo>
                    <a:lnTo>
                      <a:pt x="44" y="253"/>
                    </a:lnTo>
                    <a:lnTo>
                      <a:pt x="35" y="253"/>
                    </a:lnTo>
                    <a:lnTo>
                      <a:pt x="35" y="262"/>
                    </a:lnTo>
                    <a:lnTo>
                      <a:pt x="26" y="262"/>
                    </a:lnTo>
                    <a:lnTo>
                      <a:pt x="26" y="270"/>
                    </a:lnTo>
                    <a:lnTo>
                      <a:pt x="17" y="270"/>
                    </a:lnTo>
                    <a:lnTo>
                      <a:pt x="17" y="270"/>
                    </a:lnTo>
                    <a:lnTo>
                      <a:pt x="9" y="279"/>
                    </a:lnTo>
                    <a:lnTo>
                      <a:pt x="0" y="279"/>
                    </a:lnTo>
                    <a:lnTo>
                      <a:pt x="0" y="279"/>
                    </a:lnTo>
                    <a:close/>
                  </a:path>
                </a:pathLst>
              </a:custGeom>
              <a:solidFill>
                <a:srgbClr val="009999"/>
              </a:solidFill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324960" y="3355560"/>
                <a:ext cx="348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33399"/>
                    </a:solidFill>
                    <a:latin typeface="Arial Narrow"/>
                  </a:rPr>
                  <a:t>  </a:t>
                </a:r>
                <a:r>
                  <a:rPr b="1" lang="en-US" sz="3000" spc="-1" strike="noStrike">
                    <a:solidFill>
                      <a:srgbClr val="333399"/>
                    </a:solidFill>
                    <a:latin typeface="Arial Narrow"/>
                  </a:rPr>
                  <a:t>$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3386160" y="3132720"/>
                <a:ext cx="542520" cy="636480"/>
                <a:chOff x="3386160" y="3132720"/>
                <a:chExt cx="542520" cy="6364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386160" y="3425760"/>
                  <a:ext cx="436680" cy="19584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492000" y="3573360"/>
                  <a:ext cx="436680" cy="19584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492000" y="3132720"/>
                  <a:ext cx="330840" cy="278280"/>
                </a:xfrm>
                <a:prstGeom prst="ellipse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6" name=""/>
            <p:cNvSpPr/>
            <p:nvPr/>
          </p:nvSpPr>
          <p:spPr>
            <a:xfrm>
              <a:off x="3265560" y="926280"/>
              <a:ext cx="13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ac"/>
                  </a:solidFill>
                  <a:latin typeface="Arial Narrow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747880" y="3938760"/>
            <a:ext cx="1569960" cy="1017360"/>
          </a:xfrm>
          <a:prstGeom prst="rect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o Estratégico  da Unidade de Negócio (PEU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243320" y="3938760"/>
            <a:ext cx="1319400" cy="10141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fólio de Prod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uta de 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428840" y="3938760"/>
            <a:ext cx="1392120" cy="1020600"/>
          </a:xfrm>
          <a:prstGeom prst="rect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o Estratégico da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ção (P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2720" y="3938760"/>
            <a:ext cx="990360" cy="10141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o do 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3938760"/>
            <a:ext cx="1447920" cy="1020600"/>
          </a:xfrm>
          <a:prstGeom prst="rect">
            <a:avLst/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mentos Princip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428840" y="4952880"/>
            <a:ext cx="1392120" cy="1020960"/>
          </a:xfrm>
          <a:prstGeom prst="rect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jamento Estratégico da Corpo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4952880"/>
            <a:ext cx="1447920" cy="1020960"/>
          </a:xfrm>
          <a:prstGeom prst="rect">
            <a:avLst/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5913360"/>
            <a:ext cx="1447920" cy="944640"/>
          </a:xfrm>
          <a:prstGeom prst="rect">
            <a:avLst/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243320" y="6434280"/>
            <a:ext cx="4900680" cy="442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o de Desenvolvimento de Prod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803920" y="979560"/>
            <a:ext cx="3362040" cy="913680"/>
            <a:chOff x="5803920" y="979560"/>
            <a:chExt cx="3362040" cy="913680"/>
          </a:xfrm>
        </p:grpSpPr>
        <p:grpSp>
          <p:nvGrpSpPr>
            <p:cNvPr id="527" name=""/>
            <p:cNvGrpSpPr/>
            <p:nvPr/>
          </p:nvGrpSpPr>
          <p:grpSpPr>
            <a:xfrm>
              <a:off x="6413760" y="979560"/>
              <a:ext cx="2441160" cy="596160"/>
              <a:chOff x="6413760" y="979560"/>
              <a:chExt cx="2441160" cy="596160"/>
            </a:xfrm>
          </p:grpSpPr>
          <p:sp>
            <p:nvSpPr>
              <p:cNvPr id="528" name=""/>
              <p:cNvSpPr/>
              <p:nvPr/>
            </p:nvSpPr>
            <p:spPr>
              <a:xfrm>
                <a:off x="7027920" y="97956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470720" y="97956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086680" y="97956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586560" y="97956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413760" y="112212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488640" y="11430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182000" y="112212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391160" y="11430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624800" y="112212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837920" y="11430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242560" y="112212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396280" y="11430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740640" y="112212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930720" y="11430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567480" y="126828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336080" y="126828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80320" y="126828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8332920" y="1160280"/>
                <a:ext cx="522000" cy="415440"/>
                <a:chOff x="8332920" y="1160280"/>
                <a:chExt cx="522000" cy="41544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8352360" y="117900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332920" y="116028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332920" y="116028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6892920" y="1160280"/>
                <a:ext cx="501480" cy="415440"/>
                <a:chOff x="6892920" y="1160280"/>
                <a:chExt cx="501480" cy="41544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6912720" y="117900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892920" y="116028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892920" y="116028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6451560" y="1160280"/>
                <a:ext cx="2346480" cy="415440"/>
                <a:chOff x="6451560" y="1160280"/>
                <a:chExt cx="2346480" cy="415440"/>
              </a:xfrm>
            </p:grpSpPr>
            <p:grpSp>
              <p:nvGrpSpPr>
                <p:cNvPr id="554" name=""/>
                <p:cNvGrpSpPr/>
                <p:nvPr/>
              </p:nvGrpSpPr>
              <p:grpSpPr>
                <a:xfrm>
                  <a:off x="6451560" y="1160280"/>
                  <a:ext cx="501120" cy="415440"/>
                  <a:chOff x="6451560" y="1160280"/>
                  <a:chExt cx="501120" cy="41544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6468840" y="117900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6451560" y="116028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6451560" y="116028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7336080" y="1160280"/>
                  <a:ext cx="502560" cy="415440"/>
                  <a:chOff x="7336080" y="1160280"/>
                  <a:chExt cx="502560" cy="41544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7355880" y="117900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7336080" y="116028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7336080" y="116028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" name=""/>
                <p:cNvGrpSpPr/>
                <p:nvPr/>
              </p:nvGrpSpPr>
              <p:grpSpPr>
                <a:xfrm>
                  <a:off x="7799400" y="1160280"/>
                  <a:ext cx="498240" cy="415440"/>
                  <a:chOff x="7799400" y="1160280"/>
                  <a:chExt cx="498240" cy="41544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>
                    <a:off x="7799400" y="117900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7799400" y="116028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7799400" y="116028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6" name=""/>
                <p:cNvSpPr/>
                <p:nvPr/>
              </p:nvSpPr>
              <p:spPr>
                <a:xfrm>
                  <a:off x="8398080" y="126792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877080" y="126792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8" name=""/>
            <p:cNvGrpSpPr/>
            <p:nvPr/>
          </p:nvGrpSpPr>
          <p:grpSpPr>
            <a:xfrm>
              <a:off x="6546960" y="1138320"/>
              <a:ext cx="2441160" cy="596160"/>
              <a:chOff x="6546960" y="1138320"/>
              <a:chExt cx="2441160" cy="596160"/>
            </a:xfrm>
          </p:grpSpPr>
          <p:sp>
            <p:nvSpPr>
              <p:cNvPr id="569" name=""/>
              <p:cNvSpPr/>
              <p:nvPr/>
            </p:nvSpPr>
            <p:spPr>
              <a:xfrm>
                <a:off x="7161120" y="113832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603920" y="113832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219880" y="113832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719760" y="113832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546960" y="128088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621840" y="1301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315200" y="128088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524360" y="1301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758000" y="128088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971120" y="1301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375760" y="128088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529480" y="1301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873840" y="128088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063920" y="1301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00680" y="142704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469280" y="142704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913520" y="142704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8466120" y="1319040"/>
                <a:ext cx="522000" cy="415440"/>
                <a:chOff x="8466120" y="1319040"/>
                <a:chExt cx="522000" cy="4154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8485560" y="133776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8466120" y="131904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466120" y="131904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7026120" y="1319040"/>
                <a:ext cx="501480" cy="415440"/>
                <a:chOff x="7026120" y="1319040"/>
                <a:chExt cx="501480" cy="41544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7045920" y="133776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26120" y="131904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026120" y="131904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6584760" y="1319040"/>
                <a:ext cx="2346480" cy="415440"/>
                <a:chOff x="6584760" y="1319040"/>
                <a:chExt cx="2346480" cy="415440"/>
              </a:xfrm>
            </p:grpSpPr>
            <p:grpSp>
              <p:nvGrpSpPr>
                <p:cNvPr id="595" name=""/>
                <p:cNvGrpSpPr/>
                <p:nvPr/>
              </p:nvGrpSpPr>
              <p:grpSpPr>
                <a:xfrm>
                  <a:off x="6584760" y="1319040"/>
                  <a:ext cx="501120" cy="415440"/>
                  <a:chOff x="6584760" y="1319040"/>
                  <a:chExt cx="501120" cy="41544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>
                    <a:off x="6602040" y="133776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6584760" y="131904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6584760" y="131904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7469280" y="1319040"/>
                  <a:ext cx="502560" cy="415440"/>
                  <a:chOff x="7469280" y="1319040"/>
                  <a:chExt cx="502560" cy="4154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>
                    <a:off x="7489080" y="133776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7469280" y="131904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7469280" y="131904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7932600" y="1319040"/>
                  <a:ext cx="498240" cy="415440"/>
                  <a:chOff x="7932600" y="1319040"/>
                  <a:chExt cx="498240" cy="41544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>
                    <a:off x="7932600" y="133776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7932600" y="131904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7932600" y="131904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7" name=""/>
                <p:cNvSpPr/>
                <p:nvPr/>
              </p:nvSpPr>
              <p:spPr>
                <a:xfrm>
                  <a:off x="8531280" y="142668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010280" y="142668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9" name=""/>
            <p:cNvSpPr/>
            <p:nvPr/>
          </p:nvSpPr>
          <p:spPr>
            <a:xfrm>
              <a:off x="6534360" y="1252440"/>
              <a:ext cx="4032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724800" y="1297080"/>
              <a:ext cx="2441160" cy="596160"/>
              <a:chOff x="6724800" y="1297080"/>
              <a:chExt cx="2441160" cy="596160"/>
            </a:xfrm>
          </p:grpSpPr>
          <p:sp>
            <p:nvSpPr>
              <p:cNvPr id="611" name=""/>
              <p:cNvSpPr/>
              <p:nvPr/>
            </p:nvSpPr>
            <p:spPr>
              <a:xfrm>
                <a:off x="7338960" y="129708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781760" y="129708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397720" y="129708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97600" y="129708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724800" y="143964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799680" y="1460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493040" y="143964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702200" y="1460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935840" y="143964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148960" y="1460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553600" y="143964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707320" y="1460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051680" y="143964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241760" y="1460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78520" y="158580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647120" y="158580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091360" y="158580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" name=""/>
              <p:cNvGrpSpPr/>
              <p:nvPr/>
            </p:nvGrpSpPr>
            <p:grpSpPr>
              <a:xfrm>
                <a:off x="8643960" y="1477800"/>
                <a:ext cx="522000" cy="415440"/>
                <a:chOff x="8643960" y="1477800"/>
                <a:chExt cx="522000" cy="41544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8663400" y="149652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643960" y="147780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643960" y="147780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7203960" y="1477800"/>
                <a:ext cx="501480" cy="415440"/>
                <a:chOff x="7203960" y="1477800"/>
                <a:chExt cx="501480" cy="41544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7223760" y="149652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7203960" y="147780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203960" y="147780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6762600" y="1477800"/>
                <a:ext cx="2346480" cy="415440"/>
                <a:chOff x="6762600" y="1477800"/>
                <a:chExt cx="2346480" cy="415440"/>
              </a:xfrm>
            </p:grpSpPr>
            <p:grpSp>
              <p:nvGrpSpPr>
                <p:cNvPr id="637" name=""/>
                <p:cNvGrpSpPr/>
                <p:nvPr/>
              </p:nvGrpSpPr>
              <p:grpSpPr>
                <a:xfrm>
                  <a:off x="6762600" y="1477800"/>
                  <a:ext cx="501120" cy="415440"/>
                  <a:chOff x="6762600" y="1477800"/>
                  <a:chExt cx="501120" cy="4154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6779880" y="149652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6762600" y="147780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6762600" y="147780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1" name=""/>
                <p:cNvGrpSpPr/>
                <p:nvPr/>
              </p:nvGrpSpPr>
              <p:grpSpPr>
                <a:xfrm>
                  <a:off x="7647120" y="1477800"/>
                  <a:ext cx="502560" cy="415440"/>
                  <a:chOff x="7647120" y="1477800"/>
                  <a:chExt cx="502560" cy="41544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>
                    <a:off x="7666920" y="149652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7647120" y="147780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7647120" y="147780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8110440" y="1477800"/>
                  <a:ext cx="498240" cy="415440"/>
                  <a:chOff x="8110440" y="1477800"/>
                  <a:chExt cx="498240" cy="4154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>
                    <a:off x="8110440" y="149652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8110440" y="147780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8110440" y="147780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9" name=""/>
                <p:cNvSpPr/>
                <p:nvPr/>
              </p:nvSpPr>
              <p:spPr>
                <a:xfrm>
                  <a:off x="8709120" y="158544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188120" y="158544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1" name=""/>
            <p:cNvGrpSpPr/>
            <p:nvPr/>
          </p:nvGrpSpPr>
          <p:grpSpPr>
            <a:xfrm>
              <a:off x="5803920" y="1287360"/>
              <a:ext cx="402120" cy="470160"/>
              <a:chOff x="5803920" y="1287360"/>
              <a:chExt cx="402120" cy="47016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5803920" y="1287360"/>
                <a:ext cx="247680" cy="325080"/>
                <a:chOff x="5803920" y="1287360"/>
                <a:chExt cx="247680" cy="325080"/>
              </a:xfrm>
            </p:grpSpPr>
            <p:grpSp>
              <p:nvGrpSpPr>
                <p:cNvPr id="653" name=""/>
                <p:cNvGrpSpPr/>
                <p:nvPr/>
              </p:nvGrpSpPr>
              <p:grpSpPr>
                <a:xfrm>
                  <a:off x="5803920" y="1287360"/>
                  <a:ext cx="247680" cy="325080"/>
                  <a:chOff x="5803920" y="1287360"/>
                  <a:chExt cx="247680" cy="32508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>
                    <a:off x="5803920" y="128736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8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5803920" y="128736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8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"/>
                <p:cNvGrpSpPr/>
                <p:nvPr/>
              </p:nvGrpSpPr>
              <p:grpSpPr>
                <a:xfrm>
                  <a:off x="6015240" y="1287360"/>
                  <a:ext cx="36360" cy="36720"/>
                  <a:chOff x="6015240" y="1287360"/>
                  <a:chExt cx="36360" cy="3672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>
                    <a:off x="6015240" y="1287360"/>
                    <a:ext cx="36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0" y="0"/>
                        </a:moveTo>
                        <a:lnTo>
                          <a:pt x="17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6015240" y="1287360"/>
                    <a:ext cx="36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0" y="0"/>
                        </a:moveTo>
                        <a:lnTo>
                          <a:pt x="17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5881320" y="1359720"/>
                <a:ext cx="247680" cy="325080"/>
                <a:chOff x="5881320" y="1359720"/>
                <a:chExt cx="247680" cy="325080"/>
              </a:xfrm>
            </p:grpSpPr>
            <p:grpSp>
              <p:nvGrpSpPr>
                <p:cNvPr id="660" name=""/>
                <p:cNvGrpSpPr/>
                <p:nvPr/>
              </p:nvGrpSpPr>
              <p:grpSpPr>
                <a:xfrm>
                  <a:off x="5881320" y="1359720"/>
                  <a:ext cx="247680" cy="325080"/>
                  <a:chOff x="5881320" y="1359720"/>
                  <a:chExt cx="247680" cy="325080"/>
                </a:xfrm>
              </p:grpSpPr>
              <p:sp>
                <p:nvSpPr>
                  <p:cNvPr id="661" name=""/>
                  <p:cNvSpPr/>
                  <p:nvPr/>
                </p:nvSpPr>
                <p:spPr>
                  <a:xfrm>
                    <a:off x="5881320" y="135972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7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5881320" y="135972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7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3" name=""/>
                <p:cNvGrpSpPr/>
                <p:nvPr/>
              </p:nvGrpSpPr>
              <p:grpSpPr>
                <a:xfrm>
                  <a:off x="6091920" y="1359720"/>
                  <a:ext cx="36720" cy="34920"/>
                  <a:chOff x="6091920" y="1359720"/>
                  <a:chExt cx="36720" cy="3492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>
                    <a:off x="6091920" y="135972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6091920" y="135972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6" name=""/>
              <p:cNvGrpSpPr/>
              <p:nvPr/>
            </p:nvGrpSpPr>
            <p:grpSpPr>
              <a:xfrm>
                <a:off x="5938200" y="1432080"/>
                <a:ext cx="267840" cy="325440"/>
                <a:chOff x="5938200" y="1432080"/>
                <a:chExt cx="267840" cy="325440"/>
              </a:xfrm>
            </p:grpSpPr>
            <p:grpSp>
              <p:nvGrpSpPr>
                <p:cNvPr id="667" name=""/>
                <p:cNvGrpSpPr/>
                <p:nvPr/>
              </p:nvGrpSpPr>
              <p:grpSpPr>
                <a:xfrm>
                  <a:off x="5938200" y="1432080"/>
                  <a:ext cx="267840" cy="325440"/>
                  <a:chOff x="5938200" y="1432080"/>
                  <a:chExt cx="267840" cy="32544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5938200" y="1432080"/>
                    <a:ext cx="26784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57">
                        <a:moveTo>
                          <a:pt x="105" y="0"/>
                        </a:moveTo>
                        <a:lnTo>
                          <a:pt x="122" y="17"/>
                        </a:lnTo>
                        <a:lnTo>
                          <a:pt x="122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5938200" y="1432080"/>
                    <a:ext cx="26784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57">
                        <a:moveTo>
                          <a:pt x="105" y="0"/>
                        </a:moveTo>
                        <a:lnTo>
                          <a:pt x="122" y="17"/>
                        </a:lnTo>
                        <a:lnTo>
                          <a:pt x="122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105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6168960" y="1432080"/>
                  <a:ext cx="36720" cy="34920"/>
                  <a:chOff x="6168960" y="1432080"/>
                  <a:chExt cx="36720" cy="3492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6168960" y="143208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6168960" y="143208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73" name=""/>
          <p:cNvGrpSpPr/>
          <p:nvPr/>
        </p:nvGrpSpPr>
        <p:grpSpPr>
          <a:xfrm>
            <a:off x="5803920" y="1938240"/>
            <a:ext cx="3362040" cy="913680"/>
            <a:chOff x="5803920" y="1938240"/>
            <a:chExt cx="3362040" cy="913680"/>
          </a:xfrm>
        </p:grpSpPr>
        <p:grpSp>
          <p:nvGrpSpPr>
            <p:cNvPr id="674" name=""/>
            <p:cNvGrpSpPr/>
            <p:nvPr/>
          </p:nvGrpSpPr>
          <p:grpSpPr>
            <a:xfrm>
              <a:off x="6413760" y="1938240"/>
              <a:ext cx="2441160" cy="596160"/>
              <a:chOff x="6413760" y="1938240"/>
              <a:chExt cx="2441160" cy="596160"/>
            </a:xfrm>
          </p:grpSpPr>
          <p:sp>
            <p:nvSpPr>
              <p:cNvPr id="675" name=""/>
              <p:cNvSpPr/>
              <p:nvPr/>
            </p:nvSpPr>
            <p:spPr>
              <a:xfrm>
                <a:off x="7027920" y="193824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470720" y="193824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086680" y="193824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586560" y="193824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413760" y="208080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488640" y="21016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182000" y="208080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391160" y="21016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624800" y="208080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837920" y="21016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242560" y="208080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396280" y="21016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740640" y="208080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930720" y="21016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567480" y="222696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36080" y="222696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780320" y="222696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"/>
              <p:cNvGrpSpPr/>
              <p:nvPr/>
            </p:nvGrpSpPr>
            <p:grpSpPr>
              <a:xfrm>
                <a:off x="8332920" y="2118960"/>
                <a:ext cx="522000" cy="415440"/>
                <a:chOff x="8332920" y="2118960"/>
                <a:chExt cx="522000" cy="41544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8352360" y="213768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8332920" y="211896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8332920" y="211896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6892920" y="2118960"/>
                <a:ext cx="501480" cy="415440"/>
                <a:chOff x="6892920" y="2118960"/>
                <a:chExt cx="501480" cy="4154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6912720" y="213768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892920" y="211896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892920" y="211896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6451560" y="2118960"/>
                <a:ext cx="2346480" cy="415440"/>
                <a:chOff x="6451560" y="2118960"/>
                <a:chExt cx="2346480" cy="415440"/>
              </a:xfrm>
            </p:grpSpPr>
            <p:grpSp>
              <p:nvGrpSpPr>
                <p:cNvPr id="701" name=""/>
                <p:cNvGrpSpPr/>
                <p:nvPr/>
              </p:nvGrpSpPr>
              <p:grpSpPr>
                <a:xfrm>
                  <a:off x="6451560" y="2118960"/>
                  <a:ext cx="501120" cy="415440"/>
                  <a:chOff x="6451560" y="2118960"/>
                  <a:chExt cx="501120" cy="41544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>
                    <a:off x="6468840" y="213768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6451560" y="211896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6451560" y="211896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5" name=""/>
                <p:cNvGrpSpPr/>
                <p:nvPr/>
              </p:nvGrpSpPr>
              <p:grpSpPr>
                <a:xfrm>
                  <a:off x="7336080" y="2118960"/>
                  <a:ext cx="502560" cy="415440"/>
                  <a:chOff x="7336080" y="2118960"/>
                  <a:chExt cx="502560" cy="41544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>
                    <a:off x="7355880" y="213768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7336080" y="211896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7336080" y="211896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" name=""/>
                <p:cNvGrpSpPr/>
                <p:nvPr/>
              </p:nvGrpSpPr>
              <p:grpSpPr>
                <a:xfrm>
                  <a:off x="7799400" y="2118960"/>
                  <a:ext cx="498240" cy="415440"/>
                  <a:chOff x="7799400" y="2118960"/>
                  <a:chExt cx="498240" cy="415440"/>
                </a:xfrm>
              </p:grpSpPr>
              <p:sp>
                <p:nvSpPr>
                  <p:cNvPr id="710" name=""/>
                  <p:cNvSpPr/>
                  <p:nvPr/>
                </p:nvSpPr>
                <p:spPr>
                  <a:xfrm>
                    <a:off x="7799400" y="213768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7799400" y="211896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7799400" y="211896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3" name=""/>
                <p:cNvSpPr/>
                <p:nvPr/>
              </p:nvSpPr>
              <p:spPr>
                <a:xfrm>
                  <a:off x="8398080" y="222660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877080" y="222660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"/>
            <p:cNvGrpSpPr/>
            <p:nvPr/>
          </p:nvGrpSpPr>
          <p:grpSpPr>
            <a:xfrm>
              <a:off x="6546960" y="2097000"/>
              <a:ext cx="2441160" cy="596160"/>
              <a:chOff x="6546960" y="2097000"/>
              <a:chExt cx="2441160" cy="596160"/>
            </a:xfrm>
          </p:grpSpPr>
          <p:sp>
            <p:nvSpPr>
              <p:cNvPr id="716" name=""/>
              <p:cNvSpPr/>
              <p:nvPr/>
            </p:nvSpPr>
            <p:spPr>
              <a:xfrm>
                <a:off x="7161120" y="209700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03920" y="209700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219880" y="209700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719760" y="209700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46960" y="223956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621840" y="2260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315200" y="223956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524360" y="2260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758000" y="223956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971120" y="2260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375760" y="223956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529480" y="2260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873840" y="223956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63920" y="226044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700680" y="238572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469280" y="238572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913520" y="238572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3" name=""/>
              <p:cNvGrpSpPr/>
              <p:nvPr/>
            </p:nvGrpSpPr>
            <p:grpSpPr>
              <a:xfrm>
                <a:off x="8466120" y="2277720"/>
                <a:ext cx="522000" cy="415440"/>
                <a:chOff x="8466120" y="2277720"/>
                <a:chExt cx="522000" cy="41544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8485560" y="229644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8466120" y="227772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8466120" y="227772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"/>
              <p:cNvGrpSpPr/>
              <p:nvPr/>
            </p:nvGrpSpPr>
            <p:grpSpPr>
              <a:xfrm>
                <a:off x="7026120" y="2277720"/>
                <a:ext cx="501480" cy="415440"/>
                <a:chOff x="7026120" y="2277720"/>
                <a:chExt cx="501480" cy="41544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7045920" y="229644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026120" y="227772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026120" y="227772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6584760" y="2277720"/>
                <a:ext cx="2346480" cy="415440"/>
                <a:chOff x="6584760" y="2277720"/>
                <a:chExt cx="2346480" cy="415440"/>
              </a:xfrm>
            </p:grpSpPr>
            <p:grpSp>
              <p:nvGrpSpPr>
                <p:cNvPr id="742" name=""/>
                <p:cNvGrpSpPr/>
                <p:nvPr/>
              </p:nvGrpSpPr>
              <p:grpSpPr>
                <a:xfrm>
                  <a:off x="6584760" y="2277720"/>
                  <a:ext cx="501120" cy="415440"/>
                  <a:chOff x="6584760" y="2277720"/>
                  <a:chExt cx="501120" cy="41544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>
                    <a:off x="6602040" y="229644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6584760" y="227772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6584760" y="227772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6" name=""/>
                <p:cNvGrpSpPr/>
                <p:nvPr/>
              </p:nvGrpSpPr>
              <p:grpSpPr>
                <a:xfrm>
                  <a:off x="7469280" y="2277720"/>
                  <a:ext cx="502560" cy="415440"/>
                  <a:chOff x="7469280" y="2277720"/>
                  <a:chExt cx="502560" cy="41544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>
                    <a:off x="7489080" y="229644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7469280" y="227772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7469280" y="227772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" name=""/>
                <p:cNvGrpSpPr/>
                <p:nvPr/>
              </p:nvGrpSpPr>
              <p:grpSpPr>
                <a:xfrm>
                  <a:off x="7932600" y="2277720"/>
                  <a:ext cx="498240" cy="415440"/>
                  <a:chOff x="7932600" y="2277720"/>
                  <a:chExt cx="498240" cy="415440"/>
                </a:xfrm>
              </p:grpSpPr>
              <p:sp>
                <p:nvSpPr>
                  <p:cNvPr id="751" name=""/>
                  <p:cNvSpPr/>
                  <p:nvPr/>
                </p:nvSpPr>
                <p:spPr>
                  <a:xfrm>
                    <a:off x="7932600" y="229644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7932600" y="227772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7932600" y="227772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4" name=""/>
                <p:cNvSpPr/>
                <p:nvPr/>
              </p:nvSpPr>
              <p:spPr>
                <a:xfrm>
                  <a:off x="8531280" y="238536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010280" y="238536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6" name=""/>
            <p:cNvSpPr/>
            <p:nvPr/>
          </p:nvSpPr>
          <p:spPr>
            <a:xfrm>
              <a:off x="6534360" y="2211120"/>
              <a:ext cx="4032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6724800" y="2255760"/>
              <a:ext cx="2441160" cy="596160"/>
              <a:chOff x="6724800" y="2255760"/>
              <a:chExt cx="2441160" cy="596160"/>
            </a:xfrm>
          </p:grpSpPr>
          <p:sp>
            <p:nvSpPr>
              <p:cNvPr id="758" name=""/>
              <p:cNvSpPr/>
              <p:nvPr/>
            </p:nvSpPr>
            <p:spPr>
              <a:xfrm>
                <a:off x="7338960" y="225576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781760" y="225576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397720" y="225576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897600" y="225576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724800" y="239832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799680" y="2419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493040" y="239832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702200" y="2419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935840" y="239832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148960" y="2419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553600" y="239832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707320" y="2419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051680" y="239832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241760" y="241920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878520" y="254448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47120" y="254448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091360" y="254448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5" name=""/>
              <p:cNvGrpSpPr/>
              <p:nvPr/>
            </p:nvGrpSpPr>
            <p:grpSpPr>
              <a:xfrm>
                <a:off x="8643960" y="2436480"/>
                <a:ext cx="522000" cy="415440"/>
                <a:chOff x="8643960" y="2436480"/>
                <a:chExt cx="522000" cy="41544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8663400" y="245520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8643960" y="243648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8643960" y="243648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7203960" y="2436480"/>
                <a:ext cx="501480" cy="415440"/>
                <a:chOff x="7203960" y="2436480"/>
                <a:chExt cx="501480" cy="41544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7223760" y="245520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203960" y="243648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7203960" y="243648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6762600" y="2436480"/>
                <a:ext cx="2346480" cy="415440"/>
                <a:chOff x="6762600" y="2436480"/>
                <a:chExt cx="2346480" cy="415440"/>
              </a:xfrm>
            </p:grpSpPr>
            <p:grpSp>
              <p:nvGrpSpPr>
                <p:cNvPr id="784" name=""/>
                <p:cNvGrpSpPr/>
                <p:nvPr/>
              </p:nvGrpSpPr>
              <p:grpSpPr>
                <a:xfrm>
                  <a:off x="6762600" y="2436480"/>
                  <a:ext cx="501120" cy="415440"/>
                  <a:chOff x="6762600" y="2436480"/>
                  <a:chExt cx="501120" cy="41544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>
                    <a:off x="6779880" y="245520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6762600" y="243648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6762600" y="243648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" name=""/>
                <p:cNvGrpSpPr/>
                <p:nvPr/>
              </p:nvGrpSpPr>
              <p:grpSpPr>
                <a:xfrm>
                  <a:off x="7647120" y="2436480"/>
                  <a:ext cx="502560" cy="415440"/>
                  <a:chOff x="7647120" y="2436480"/>
                  <a:chExt cx="502560" cy="41544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>
                    <a:off x="7666920" y="245520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7647120" y="243648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7647120" y="243648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8110440" y="2436480"/>
                  <a:ext cx="498240" cy="415440"/>
                  <a:chOff x="8110440" y="2436480"/>
                  <a:chExt cx="498240" cy="41544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8110440" y="245520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8110440" y="243648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8110440" y="243648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6" name=""/>
                <p:cNvSpPr/>
                <p:nvPr/>
              </p:nvSpPr>
              <p:spPr>
                <a:xfrm>
                  <a:off x="8709120" y="254412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7188120" y="254412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8" name=""/>
            <p:cNvGrpSpPr/>
            <p:nvPr/>
          </p:nvGrpSpPr>
          <p:grpSpPr>
            <a:xfrm>
              <a:off x="5803920" y="2246040"/>
              <a:ext cx="402120" cy="470160"/>
              <a:chOff x="5803920" y="2246040"/>
              <a:chExt cx="402120" cy="47016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5803920" y="2246040"/>
                <a:ext cx="247680" cy="325080"/>
                <a:chOff x="5803920" y="2246040"/>
                <a:chExt cx="247680" cy="325080"/>
              </a:xfrm>
            </p:grpSpPr>
            <p:grpSp>
              <p:nvGrpSpPr>
                <p:cNvPr id="800" name=""/>
                <p:cNvGrpSpPr/>
                <p:nvPr/>
              </p:nvGrpSpPr>
              <p:grpSpPr>
                <a:xfrm>
                  <a:off x="5803920" y="2246040"/>
                  <a:ext cx="247680" cy="325080"/>
                  <a:chOff x="5803920" y="2246040"/>
                  <a:chExt cx="247680" cy="32508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>
                    <a:off x="5803920" y="224604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8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5803920" y="224604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8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3" name=""/>
                <p:cNvGrpSpPr/>
                <p:nvPr/>
              </p:nvGrpSpPr>
              <p:grpSpPr>
                <a:xfrm>
                  <a:off x="6015240" y="2246040"/>
                  <a:ext cx="36360" cy="36720"/>
                  <a:chOff x="6015240" y="2246040"/>
                  <a:chExt cx="36360" cy="3672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>
                    <a:off x="6015240" y="2246040"/>
                    <a:ext cx="36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0" y="0"/>
                        </a:moveTo>
                        <a:lnTo>
                          <a:pt x="17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6015240" y="2246040"/>
                    <a:ext cx="36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0" y="0"/>
                        </a:moveTo>
                        <a:lnTo>
                          <a:pt x="17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6" name=""/>
              <p:cNvGrpSpPr/>
              <p:nvPr/>
            </p:nvGrpSpPr>
            <p:grpSpPr>
              <a:xfrm>
                <a:off x="5881320" y="2318400"/>
                <a:ext cx="247680" cy="325080"/>
                <a:chOff x="5881320" y="2318400"/>
                <a:chExt cx="247680" cy="325080"/>
              </a:xfrm>
            </p:grpSpPr>
            <p:grpSp>
              <p:nvGrpSpPr>
                <p:cNvPr id="807" name=""/>
                <p:cNvGrpSpPr/>
                <p:nvPr/>
              </p:nvGrpSpPr>
              <p:grpSpPr>
                <a:xfrm>
                  <a:off x="5881320" y="2318400"/>
                  <a:ext cx="247680" cy="325080"/>
                  <a:chOff x="5881320" y="2318400"/>
                  <a:chExt cx="247680" cy="32508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>
                    <a:off x="5881320" y="231840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7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5881320" y="231840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7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6091920" y="2318400"/>
                  <a:ext cx="36720" cy="34920"/>
                  <a:chOff x="6091920" y="2318400"/>
                  <a:chExt cx="36720" cy="3492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6091920" y="231840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6091920" y="231840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3" name=""/>
              <p:cNvGrpSpPr/>
              <p:nvPr/>
            </p:nvGrpSpPr>
            <p:grpSpPr>
              <a:xfrm>
                <a:off x="5938200" y="2390760"/>
                <a:ext cx="267840" cy="325440"/>
                <a:chOff x="5938200" y="2390760"/>
                <a:chExt cx="267840" cy="325440"/>
              </a:xfrm>
            </p:grpSpPr>
            <p:grpSp>
              <p:nvGrpSpPr>
                <p:cNvPr id="814" name=""/>
                <p:cNvGrpSpPr/>
                <p:nvPr/>
              </p:nvGrpSpPr>
              <p:grpSpPr>
                <a:xfrm>
                  <a:off x="5938200" y="2390760"/>
                  <a:ext cx="267840" cy="325440"/>
                  <a:chOff x="5938200" y="2390760"/>
                  <a:chExt cx="267840" cy="325440"/>
                </a:xfrm>
              </p:grpSpPr>
              <p:sp>
                <p:nvSpPr>
                  <p:cNvPr id="815" name=""/>
                  <p:cNvSpPr/>
                  <p:nvPr/>
                </p:nvSpPr>
                <p:spPr>
                  <a:xfrm>
                    <a:off x="5938200" y="2390760"/>
                    <a:ext cx="26784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57">
                        <a:moveTo>
                          <a:pt x="105" y="0"/>
                        </a:moveTo>
                        <a:lnTo>
                          <a:pt x="122" y="17"/>
                        </a:lnTo>
                        <a:lnTo>
                          <a:pt x="122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5938200" y="2390760"/>
                    <a:ext cx="26784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57">
                        <a:moveTo>
                          <a:pt x="105" y="0"/>
                        </a:moveTo>
                        <a:lnTo>
                          <a:pt x="122" y="17"/>
                        </a:lnTo>
                        <a:lnTo>
                          <a:pt x="122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105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7" name=""/>
                <p:cNvGrpSpPr/>
                <p:nvPr/>
              </p:nvGrpSpPr>
              <p:grpSpPr>
                <a:xfrm>
                  <a:off x="6168960" y="2390760"/>
                  <a:ext cx="36720" cy="34920"/>
                  <a:chOff x="6168960" y="2390760"/>
                  <a:chExt cx="36720" cy="3492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>
                    <a:off x="6168960" y="239076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6168960" y="239076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820" name=""/>
          <p:cNvGrpSpPr/>
          <p:nvPr/>
        </p:nvGrpSpPr>
        <p:grpSpPr>
          <a:xfrm>
            <a:off x="5803920" y="2965320"/>
            <a:ext cx="3362040" cy="913680"/>
            <a:chOff x="5803920" y="2965320"/>
            <a:chExt cx="3362040" cy="913680"/>
          </a:xfrm>
        </p:grpSpPr>
        <p:grpSp>
          <p:nvGrpSpPr>
            <p:cNvPr id="821" name=""/>
            <p:cNvGrpSpPr/>
            <p:nvPr/>
          </p:nvGrpSpPr>
          <p:grpSpPr>
            <a:xfrm>
              <a:off x="6413760" y="2965320"/>
              <a:ext cx="2441160" cy="596160"/>
              <a:chOff x="6413760" y="2965320"/>
              <a:chExt cx="2441160" cy="596160"/>
            </a:xfrm>
          </p:grpSpPr>
          <p:sp>
            <p:nvSpPr>
              <p:cNvPr id="822" name=""/>
              <p:cNvSpPr/>
              <p:nvPr/>
            </p:nvSpPr>
            <p:spPr>
              <a:xfrm>
                <a:off x="7027920" y="296532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470720" y="296532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086680" y="296532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86560" y="296532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413760" y="310788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88640" y="3128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182000" y="310788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391160" y="3128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4800" y="310788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837920" y="3128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242560" y="310788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396280" y="3128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740640" y="310788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930720" y="312876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567480" y="325404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336080" y="325404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780320" y="325404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"/>
              <p:cNvGrpSpPr/>
              <p:nvPr/>
            </p:nvGrpSpPr>
            <p:grpSpPr>
              <a:xfrm>
                <a:off x="8332920" y="3146040"/>
                <a:ext cx="522000" cy="415440"/>
                <a:chOff x="8332920" y="3146040"/>
                <a:chExt cx="522000" cy="41544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8352360" y="316476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332920" y="314604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8332920" y="314604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6892920" y="3146040"/>
                <a:ext cx="501480" cy="415440"/>
                <a:chOff x="6892920" y="3146040"/>
                <a:chExt cx="501480" cy="41544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6912720" y="316476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892920" y="314604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6892920" y="314604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6451560" y="3146040"/>
                <a:ext cx="2346480" cy="415440"/>
                <a:chOff x="6451560" y="3146040"/>
                <a:chExt cx="2346480" cy="415440"/>
              </a:xfrm>
            </p:grpSpPr>
            <p:grpSp>
              <p:nvGrpSpPr>
                <p:cNvPr id="848" name=""/>
                <p:cNvGrpSpPr/>
                <p:nvPr/>
              </p:nvGrpSpPr>
              <p:grpSpPr>
                <a:xfrm>
                  <a:off x="6451560" y="3146040"/>
                  <a:ext cx="501120" cy="415440"/>
                  <a:chOff x="6451560" y="3146040"/>
                  <a:chExt cx="501120" cy="415440"/>
                </a:xfrm>
              </p:grpSpPr>
              <p:sp>
                <p:nvSpPr>
                  <p:cNvPr id="849" name=""/>
                  <p:cNvSpPr/>
                  <p:nvPr/>
                </p:nvSpPr>
                <p:spPr>
                  <a:xfrm>
                    <a:off x="6468840" y="316476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6451560" y="314604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6451560" y="314604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2" name=""/>
                <p:cNvGrpSpPr/>
                <p:nvPr/>
              </p:nvGrpSpPr>
              <p:grpSpPr>
                <a:xfrm>
                  <a:off x="7336080" y="3146040"/>
                  <a:ext cx="502560" cy="415440"/>
                  <a:chOff x="7336080" y="3146040"/>
                  <a:chExt cx="502560" cy="415440"/>
                </a:xfrm>
              </p:grpSpPr>
              <p:sp>
                <p:nvSpPr>
                  <p:cNvPr id="853" name=""/>
                  <p:cNvSpPr/>
                  <p:nvPr/>
                </p:nvSpPr>
                <p:spPr>
                  <a:xfrm>
                    <a:off x="7355880" y="316476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7336080" y="314604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7336080" y="314604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6" name=""/>
                <p:cNvGrpSpPr/>
                <p:nvPr/>
              </p:nvGrpSpPr>
              <p:grpSpPr>
                <a:xfrm>
                  <a:off x="7799400" y="3146040"/>
                  <a:ext cx="498240" cy="415440"/>
                  <a:chOff x="7799400" y="3146040"/>
                  <a:chExt cx="498240" cy="41544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>
                    <a:off x="7799400" y="316476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7799400" y="314604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7799400" y="314604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0" name=""/>
                <p:cNvSpPr/>
                <p:nvPr/>
              </p:nvSpPr>
              <p:spPr>
                <a:xfrm>
                  <a:off x="8398080" y="325368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877080" y="325368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2" name=""/>
            <p:cNvGrpSpPr/>
            <p:nvPr/>
          </p:nvGrpSpPr>
          <p:grpSpPr>
            <a:xfrm>
              <a:off x="6546960" y="3124080"/>
              <a:ext cx="2441160" cy="596160"/>
              <a:chOff x="6546960" y="3124080"/>
              <a:chExt cx="2441160" cy="596160"/>
            </a:xfrm>
          </p:grpSpPr>
          <p:sp>
            <p:nvSpPr>
              <p:cNvPr id="863" name=""/>
              <p:cNvSpPr/>
              <p:nvPr/>
            </p:nvSpPr>
            <p:spPr>
              <a:xfrm>
                <a:off x="7161120" y="312408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03920" y="312408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219880" y="312408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719760" y="312408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546960" y="326664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621840" y="3287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315200" y="326664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524360" y="3287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758000" y="326664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971120" y="3287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375760" y="326664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529480" y="3287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873840" y="326664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063920" y="328752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700680" y="341280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469280" y="341280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913520" y="341280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"/>
              <p:cNvGrpSpPr/>
              <p:nvPr/>
            </p:nvGrpSpPr>
            <p:grpSpPr>
              <a:xfrm>
                <a:off x="8466120" y="3304800"/>
                <a:ext cx="522000" cy="415440"/>
                <a:chOff x="8466120" y="3304800"/>
                <a:chExt cx="522000" cy="41544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8485560" y="332352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8466120" y="330480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8466120" y="330480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4" name=""/>
              <p:cNvGrpSpPr/>
              <p:nvPr/>
            </p:nvGrpSpPr>
            <p:grpSpPr>
              <a:xfrm>
                <a:off x="7026120" y="3304800"/>
                <a:ext cx="501480" cy="415440"/>
                <a:chOff x="7026120" y="3304800"/>
                <a:chExt cx="501480" cy="41544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7045920" y="332352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026120" y="330480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026120" y="330480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6584760" y="3304800"/>
                <a:ext cx="2346480" cy="415440"/>
                <a:chOff x="6584760" y="3304800"/>
                <a:chExt cx="2346480" cy="415440"/>
              </a:xfrm>
            </p:grpSpPr>
            <p:grpSp>
              <p:nvGrpSpPr>
                <p:cNvPr id="889" name=""/>
                <p:cNvGrpSpPr/>
                <p:nvPr/>
              </p:nvGrpSpPr>
              <p:grpSpPr>
                <a:xfrm>
                  <a:off x="6584760" y="3304800"/>
                  <a:ext cx="501120" cy="415440"/>
                  <a:chOff x="6584760" y="3304800"/>
                  <a:chExt cx="501120" cy="41544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>
                    <a:off x="6602040" y="332352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6584760" y="330480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6584760" y="330480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3" name=""/>
                <p:cNvGrpSpPr/>
                <p:nvPr/>
              </p:nvGrpSpPr>
              <p:grpSpPr>
                <a:xfrm>
                  <a:off x="7469280" y="3304800"/>
                  <a:ext cx="502560" cy="415440"/>
                  <a:chOff x="7469280" y="3304800"/>
                  <a:chExt cx="502560" cy="415440"/>
                </a:xfrm>
              </p:grpSpPr>
              <p:sp>
                <p:nvSpPr>
                  <p:cNvPr id="894" name=""/>
                  <p:cNvSpPr/>
                  <p:nvPr/>
                </p:nvSpPr>
                <p:spPr>
                  <a:xfrm>
                    <a:off x="7489080" y="332352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7469280" y="330480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7469280" y="330480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7" name=""/>
                <p:cNvGrpSpPr/>
                <p:nvPr/>
              </p:nvGrpSpPr>
              <p:grpSpPr>
                <a:xfrm>
                  <a:off x="7932600" y="3304800"/>
                  <a:ext cx="498240" cy="415440"/>
                  <a:chOff x="7932600" y="3304800"/>
                  <a:chExt cx="498240" cy="415440"/>
                </a:xfrm>
              </p:grpSpPr>
              <p:sp>
                <p:nvSpPr>
                  <p:cNvPr id="898" name=""/>
                  <p:cNvSpPr/>
                  <p:nvPr/>
                </p:nvSpPr>
                <p:spPr>
                  <a:xfrm>
                    <a:off x="7932600" y="332352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7932600" y="330480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7932600" y="330480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1" name=""/>
                <p:cNvSpPr/>
                <p:nvPr/>
              </p:nvSpPr>
              <p:spPr>
                <a:xfrm>
                  <a:off x="8531280" y="341244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7010280" y="341244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3" name=""/>
            <p:cNvSpPr/>
            <p:nvPr/>
          </p:nvSpPr>
          <p:spPr>
            <a:xfrm>
              <a:off x="6534360" y="3238200"/>
              <a:ext cx="4032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6724800" y="3282840"/>
              <a:ext cx="2441160" cy="596160"/>
              <a:chOff x="6724800" y="3282840"/>
              <a:chExt cx="2441160" cy="596160"/>
            </a:xfrm>
          </p:grpSpPr>
          <p:sp>
            <p:nvSpPr>
              <p:cNvPr id="905" name=""/>
              <p:cNvSpPr/>
              <p:nvPr/>
            </p:nvSpPr>
            <p:spPr>
              <a:xfrm>
                <a:off x="7338960" y="328284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781760" y="3282840"/>
                <a:ext cx="5000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397720" y="3282840"/>
                <a:ext cx="40320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897600" y="3282840"/>
                <a:ext cx="48276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724800" y="3425400"/>
                <a:ext cx="421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799680" y="34462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493040" y="3425400"/>
                <a:ext cx="50148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02200" y="34462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935840" y="3425400"/>
                <a:ext cx="5018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148960" y="34462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553600" y="3425400"/>
                <a:ext cx="4032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707320" y="34462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051680" y="3425400"/>
                <a:ext cx="482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241760" y="3446280"/>
                <a:ext cx="11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ac"/>
                    </a:solidFill>
                    <a:latin typeface="Arial Narrow"/>
                  </a:rPr>
                  <a:t>3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878520" y="3571560"/>
                <a:ext cx="4050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47120" y="3571560"/>
                <a:ext cx="50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091360" y="3571560"/>
                <a:ext cx="49860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2" name=""/>
              <p:cNvGrpSpPr/>
              <p:nvPr/>
            </p:nvGrpSpPr>
            <p:grpSpPr>
              <a:xfrm>
                <a:off x="8643960" y="3463560"/>
                <a:ext cx="522000" cy="415440"/>
                <a:chOff x="8643960" y="3463560"/>
                <a:chExt cx="522000" cy="41544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663400" y="348228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8643960" y="346356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8643960" y="3463560"/>
                  <a:ext cx="50256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999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6" name=""/>
              <p:cNvGrpSpPr/>
              <p:nvPr/>
            </p:nvGrpSpPr>
            <p:grpSpPr>
              <a:xfrm>
                <a:off x="7203960" y="3463560"/>
                <a:ext cx="501480" cy="415440"/>
                <a:chOff x="7203960" y="3463560"/>
                <a:chExt cx="501480" cy="4154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7223760" y="3482280"/>
                  <a:ext cx="481320" cy="396720"/>
                </a:xfrm>
                <a:custGeom>
                  <a:avLst/>
                  <a:gdLst/>
                  <a:ahLst/>
                  <a:rect l="l" t="t" r="r" b="b"/>
                  <a:pathLst>
                    <a:path w="218" h="192">
                      <a:moveTo>
                        <a:pt x="0" y="0"/>
                      </a:moveTo>
                      <a:lnTo>
                        <a:pt x="183" y="0"/>
                      </a:lnTo>
                      <a:lnTo>
                        <a:pt x="218" y="96"/>
                      </a:lnTo>
                      <a:lnTo>
                        <a:pt x="183" y="192"/>
                      </a:lnTo>
                      <a:lnTo>
                        <a:pt x="0" y="192"/>
                      </a:lnTo>
                      <a:lnTo>
                        <a:pt x="3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203960" y="346356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203960" y="3463560"/>
                  <a:ext cx="501480" cy="396720"/>
                </a:xfrm>
                <a:custGeom>
                  <a:avLst/>
                  <a:gdLst/>
                  <a:ahLst/>
                  <a:rect l="l" t="t" r="r" b="b"/>
                  <a:pathLst>
                    <a:path w="227" h="192">
                      <a:moveTo>
                        <a:pt x="0" y="0"/>
                      </a:moveTo>
                      <a:lnTo>
                        <a:pt x="184" y="0"/>
                      </a:lnTo>
                      <a:lnTo>
                        <a:pt x="227" y="105"/>
                      </a:lnTo>
                      <a:lnTo>
                        <a:pt x="192" y="192"/>
                      </a:lnTo>
                      <a:lnTo>
                        <a:pt x="9" y="192"/>
                      </a:lnTo>
                      <a:lnTo>
                        <a:pt x="44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6762600" y="3463560"/>
                <a:ext cx="2346480" cy="415440"/>
                <a:chOff x="6762600" y="3463560"/>
                <a:chExt cx="2346480" cy="415440"/>
              </a:xfrm>
            </p:grpSpPr>
            <p:grpSp>
              <p:nvGrpSpPr>
                <p:cNvPr id="931" name=""/>
                <p:cNvGrpSpPr/>
                <p:nvPr/>
              </p:nvGrpSpPr>
              <p:grpSpPr>
                <a:xfrm>
                  <a:off x="6762600" y="3463560"/>
                  <a:ext cx="501120" cy="415440"/>
                  <a:chOff x="6762600" y="3463560"/>
                  <a:chExt cx="501120" cy="415440"/>
                </a:xfrm>
              </p:grpSpPr>
              <p:sp>
                <p:nvSpPr>
                  <p:cNvPr id="932" name=""/>
                  <p:cNvSpPr/>
                  <p:nvPr/>
                </p:nvSpPr>
                <p:spPr>
                  <a:xfrm>
                    <a:off x="6779880" y="3482280"/>
                    <a:ext cx="4838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92">
                        <a:moveTo>
                          <a:pt x="0" y="0"/>
                        </a:moveTo>
                        <a:lnTo>
                          <a:pt x="184" y="0"/>
                        </a:lnTo>
                        <a:lnTo>
                          <a:pt x="219" y="96"/>
                        </a:lnTo>
                        <a:lnTo>
                          <a:pt x="184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6762600" y="346356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62600" y="3463560"/>
                    <a:ext cx="4813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8" y="192"/>
                        </a:lnTo>
                        <a:lnTo>
                          <a:pt x="43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7647120" y="3463560"/>
                  <a:ext cx="502560" cy="415440"/>
                  <a:chOff x="7647120" y="3463560"/>
                  <a:chExt cx="502560" cy="41544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7666920" y="3482280"/>
                    <a:ext cx="48240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96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7647120" y="346356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7647120" y="3463560"/>
                    <a:ext cx="50256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105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9" name=""/>
                <p:cNvGrpSpPr/>
                <p:nvPr/>
              </p:nvGrpSpPr>
              <p:grpSpPr>
                <a:xfrm>
                  <a:off x="8110440" y="3463560"/>
                  <a:ext cx="498240" cy="415440"/>
                  <a:chOff x="8110440" y="3463560"/>
                  <a:chExt cx="498240" cy="41544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>
                    <a:off x="8110440" y="3482280"/>
                    <a:ext cx="4982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27" y="96"/>
                        </a:lnTo>
                        <a:lnTo>
                          <a:pt x="192" y="192"/>
                        </a:lnTo>
                        <a:lnTo>
                          <a:pt x="9" y="192"/>
                        </a:lnTo>
                        <a:lnTo>
                          <a:pt x="4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8110440" y="346356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8110440" y="3463560"/>
                    <a:ext cx="47844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9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218" y="105"/>
                        </a:lnTo>
                        <a:lnTo>
                          <a:pt x="183" y="192"/>
                        </a:lnTo>
                        <a:lnTo>
                          <a:pt x="0" y="192"/>
                        </a:lnTo>
                        <a:lnTo>
                          <a:pt x="35" y="10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3" name=""/>
                <p:cNvSpPr/>
                <p:nvPr/>
              </p:nvSpPr>
              <p:spPr>
                <a:xfrm>
                  <a:off x="8709120" y="3571200"/>
                  <a:ext cx="39996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188120" y="3571200"/>
                  <a:ext cx="4968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5" name=""/>
            <p:cNvGrpSpPr/>
            <p:nvPr/>
          </p:nvGrpSpPr>
          <p:grpSpPr>
            <a:xfrm>
              <a:off x="5803920" y="3273120"/>
              <a:ext cx="402120" cy="470160"/>
              <a:chOff x="5803920" y="3273120"/>
              <a:chExt cx="402120" cy="470160"/>
            </a:xfrm>
          </p:grpSpPr>
          <p:grpSp>
            <p:nvGrpSpPr>
              <p:cNvPr id="946" name=""/>
              <p:cNvGrpSpPr/>
              <p:nvPr/>
            </p:nvGrpSpPr>
            <p:grpSpPr>
              <a:xfrm>
                <a:off x="5803920" y="3273120"/>
                <a:ext cx="247680" cy="325080"/>
                <a:chOff x="5803920" y="3273120"/>
                <a:chExt cx="247680" cy="325080"/>
              </a:xfrm>
            </p:grpSpPr>
            <p:grpSp>
              <p:nvGrpSpPr>
                <p:cNvPr id="947" name=""/>
                <p:cNvGrpSpPr/>
                <p:nvPr/>
              </p:nvGrpSpPr>
              <p:grpSpPr>
                <a:xfrm>
                  <a:off x="5803920" y="3273120"/>
                  <a:ext cx="247680" cy="325080"/>
                  <a:chOff x="5803920" y="3273120"/>
                  <a:chExt cx="247680" cy="325080"/>
                </a:xfrm>
              </p:grpSpPr>
              <p:sp>
                <p:nvSpPr>
                  <p:cNvPr id="948" name=""/>
                  <p:cNvSpPr/>
                  <p:nvPr/>
                </p:nvSpPr>
                <p:spPr>
                  <a:xfrm>
                    <a:off x="5803920" y="327312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8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5803920" y="327312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8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6015240" y="3273120"/>
                  <a:ext cx="36360" cy="36720"/>
                  <a:chOff x="6015240" y="3273120"/>
                  <a:chExt cx="36360" cy="3672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6015240" y="3273120"/>
                    <a:ext cx="36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0" y="0"/>
                        </a:moveTo>
                        <a:lnTo>
                          <a:pt x="17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6015240" y="3273120"/>
                    <a:ext cx="36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0" y="0"/>
                        </a:moveTo>
                        <a:lnTo>
                          <a:pt x="17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3" name=""/>
              <p:cNvGrpSpPr/>
              <p:nvPr/>
            </p:nvGrpSpPr>
            <p:grpSpPr>
              <a:xfrm>
                <a:off x="5881320" y="3345480"/>
                <a:ext cx="247680" cy="325080"/>
                <a:chOff x="5881320" y="3345480"/>
                <a:chExt cx="247680" cy="325080"/>
              </a:xfrm>
            </p:grpSpPr>
            <p:grpSp>
              <p:nvGrpSpPr>
                <p:cNvPr id="954" name=""/>
                <p:cNvGrpSpPr/>
                <p:nvPr/>
              </p:nvGrpSpPr>
              <p:grpSpPr>
                <a:xfrm>
                  <a:off x="5881320" y="3345480"/>
                  <a:ext cx="247680" cy="325080"/>
                  <a:chOff x="5881320" y="3345480"/>
                  <a:chExt cx="247680" cy="32508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>
                    <a:off x="5881320" y="334548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7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5881320" y="3345480"/>
                    <a:ext cx="24768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7">
                        <a:moveTo>
                          <a:pt x="96" y="0"/>
                        </a:moveTo>
                        <a:lnTo>
                          <a:pt x="113" y="17"/>
                        </a:lnTo>
                        <a:lnTo>
                          <a:pt x="113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6091920" y="3345480"/>
                  <a:ext cx="36720" cy="34920"/>
                  <a:chOff x="6091920" y="3345480"/>
                  <a:chExt cx="36720" cy="3492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6091920" y="334548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6091920" y="334548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0" name=""/>
              <p:cNvGrpSpPr/>
              <p:nvPr/>
            </p:nvGrpSpPr>
            <p:grpSpPr>
              <a:xfrm>
                <a:off x="5938200" y="3417840"/>
                <a:ext cx="267840" cy="325440"/>
                <a:chOff x="5938200" y="3417840"/>
                <a:chExt cx="267840" cy="325440"/>
              </a:xfrm>
            </p:grpSpPr>
            <p:grpSp>
              <p:nvGrpSpPr>
                <p:cNvPr id="961" name=""/>
                <p:cNvGrpSpPr/>
                <p:nvPr/>
              </p:nvGrpSpPr>
              <p:grpSpPr>
                <a:xfrm>
                  <a:off x="5938200" y="3417840"/>
                  <a:ext cx="267840" cy="325440"/>
                  <a:chOff x="5938200" y="3417840"/>
                  <a:chExt cx="267840" cy="32544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5938200" y="3417840"/>
                    <a:ext cx="26784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57">
                        <a:moveTo>
                          <a:pt x="105" y="0"/>
                        </a:moveTo>
                        <a:lnTo>
                          <a:pt x="122" y="17"/>
                        </a:lnTo>
                        <a:lnTo>
                          <a:pt x="122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5938200" y="3417840"/>
                    <a:ext cx="26784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57">
                        <a:moveTo>
                          <a:pt x="105" y="0"/>
                        </a:moveTo>
                        <a:lnTo>
                          <a:pt x="122" y="17"/>
                        </a:lnTo>
                        <a:lnTo>
                          <a:pt x="122" y="157"/>
                        </a:lnTo>
                        <a:lnTo>
                          <a:pt x="0" y="157"/>
                        </a:lnTo>
                        <a:lnTo>
                          <a:pt x="0" y="0"/>
                        </a:lnTo>
                        <a:lnTo>
                          <a:pt x="105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4" name=""/>
                <p:cNvGrpSpPr/>
                <p:nvPr/>
              </p:nvGrpSpPr>
              <p:grpSpPr>
                <a:xfrm>
                  <a:off x="6168960" y="3417840"/>
                  <a:ext cx="36720" cy="34920"/>
                  <a:chOff x="6168960" y="3417840"/>
                  <a:chExt cx="36720" cy="3492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6168960" y="341784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6168960" y="3417840"/>
                    <a:ext cx="36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ff"/>
                  </a:solidFill>
                  <a:ln cap="rnd"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67" name=""/>
          <p:cNvGrpSpPr/>
          <p:nvPr/>
        </p:nvGrpSpPr>
        <p:grpSpPr>
          <a:xfrm>
            <a:off x="4067280" y="1039680"/>
            <a:ext cx="1334520" cy="796680"/>
            <a:chOff x="4067280" y="1039680"/>
            <a:chExt cx="1334520" cy="796680"/>
          </a:xfrm>
        </p:grpSpPr>
        <p:sp>
          <p:nvSpPr>
            <p:cNvPr id="968" name=""/>
            <p:cNvSpPr/>
            <p:nvPr/>
          </p:nvSpPr>
          <p:spPr>
            <a:xfrm>
              <a:off x="4627440" y="1039680"/>
              <a:ext cx="774360" cy="796680"/>
            </a:xfrm>
            <a:prstGeom prst="foldedCorner">
              <a:avLst>
                <a:gd name="adj" fmla="val 12500"/>
              </a:avLst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4814640" y="1203120"/>
              <a:ext cx="468000" cy="473040"/>
              <a:chOff x="4814640" y="1203120"/>
              <a:chExt cx="468000" cy="473040"/>
            </a:xfrm>
          </p:grpSpPr>
          <p:grpSp>
            <p:nvGrpSpPr>
              <p:cNvPr id="970" name=""/>
              <p:cNvGrpSpPr/>
              <p:nvPr/>
            </p:nvGrpSpPr>
            <p:grpSpPr>
              <a:xfrm>
                <a:off x="4830840" y="1283400"/>
                <a:ext cx="48960" cy="312480"/>
                <a:chOff x="4830840" y="1283400"/>
                <a:chExt cx="48960" cy="31248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4847040" y="1283400"/>
                  <a:ext cx="16200" cy="26640"/>
                </a:xfrm>
                <a:prstGeom prst="ellipse">
                  <a:avLst/>
                </a:prstGeom>
                <a:solidFill>
                  <a:srgbClr val="99cc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4847040" y="135252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4863600" y="142632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863600" y="1497600"/>
                  <a:ext cx="16200" cy="26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4830840" y="1443960"/>
                  <a:ext cx="16200" cy="2664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4847040" y="1569240"/>
                  <a:ext cx="16200" cy="2664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4897080" y="1354680"/>
                <a:ext cx="55080" cy="214200"/>
                <a:chOff x="4897080" y="1354680"/>
                <a:chExt cx="55080" cy="21420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4897080" y="1354680"/>
                  <a:ext cx="16560" cy="26640"/>
                </a:xfrm>
                <a:prstGeom prst="ellipse">
                  <a:avLst/>
                </a:prstGeom>
                <a:solidFill>
                  <a:srgbClr val="99ff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935600" y="1381320"/>
                  <a:ext cx="16560" cy="266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897080" y="1407960"/>
                  <a:ext cx="16560" cy="26640"/>
                </a:xfrm>
                <a:prstGeom prst="ellipse">
                  <a:avLst/>
                </a:prstGeom>
                <a:solidFill>
                  <a:srgbClr val="e0fa8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935600" y="1452960"/>
                  <a:ext cx="16560" cy="266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4897080" y="1470600"/>
                  <a:ext cx="16560" cy="266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4897080" y="154224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4935600" y="1515240"/>
                  <a:ext cx="16560" cy="26640"/>
                </a:xfrm>
                <a:prstGeom prst="ellipse">
                  <a:avLst/>
                </a:prstGeom>
                <a:solidFill>
                  <a:srgbClr val="ffb16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5" name=""/>
              <p:cNvGrpSpPr/>
              <p:nvPr/>
            </p:nvGrpSpPr>
            <p:grpSpPr>
              <a:xfrm>
                <a:off x="4973040" y="1399320"/>
                <a:ext cx="78120" cy="115920"/>
                <a:chOff x="4973040" y="1399320"/>
                <a:chExt cx="78120" cy="11592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5009040" y="139932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4973040" y="1425960"/>
                  <a:ext cx="16560" cy="26640"/>
                </a:xfrm>
                <a:prstGeom prst="ellipse">
                  <a:avLst/>
                </a:prstGeom>
                <a:solidFill>
                  <a:srgbClr val="33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034600" y="147060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4978080" y="148860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034600" y="1470600"/>
                  <a:ext cx="16560" cy="2664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5155920" y="1426320"/>
                <a:ext cx="98640" cy="59040"/>
                <a:chOff x="5155920" y="1426320"/>
                <a:chExt cx="98640" cy="5904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5155920" y="1426320"/>
                  <a:ext cx="16200" cy="2664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238360" y="1426320"/>
                  <a:ext cx="16200" cy="2664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217840" y="1458720"/>
                  <a:ext cx="16200" cy="26640"/>
                </a:xfrm>
                <a:prstGeom prst="ellipse">
                  <a:avLst/>
                </a:prstGeom>
                <a:solidFill>
                  <a:srgbClr val="99ff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188680" y="1426320"/>
                  <a:ext cx="16200" cy="266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5068080" y="1408320"/>
                <a:ext cx="71280" cy="71280"/>
                <a:chOff x="5068080" y="1408320"/>
                <a:chExt cx="71280" cy="7128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5095440" y="1425960"/>
                  <a:ext cx="16200" cy="26640"/>
                </a:xfrm>
                <a:prstGeom prst="ellipse">
                  <a:avLst/>
                </a:prstGeom>
                <a:solidFill>
                  <a:srgbClr val="cc66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123160" y="145296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068080" y="1408320"/>
                  <a:ext cx="16200" cy="2664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"/>
              <p:cNvSpPr/>
              <p:nvPr/>
            </p:nvSpPr>
            <p:spPr>
              <a:xfrm>
                <a:off x="4858560" y="1203120"/>
                <a:ext cx="424080" cy="178560"/>
              </a:xfrm>
              <a:custGeom>
                <a:avLst/>
                <a:gdLst/>
                <a:ahLst/>
                <a:rect l="l" t="t" r="r" b="b"/>
                <a:pathLst>
                  <a:path w="4560" h="1056">
                    <a:moveTo>
                      <a:pt x="0" y="0"/>
                    </a:moveTo>
                    <a:cubicBezTo>
                      <a:pt x="72" y="184"/>
                      <a:pt x="144" y="368"/>
                      <a:pt x="480" y="528"/>
                    </a:cubicBezTo>
                    <a:cubicBezTo>
                      <a:pt x="816" y="688"/>
                      <a:pt x="1336" y="872"/>
                      <a:pt x="2016" y="960"/>
                    </a:cubicBezTo>
                    <a:cubicBezTo>
                      <a:pt x="2696" y="1048"/>
                      <a:pt x="4120" y="1040"/>
                      <a:pt x="4560" y="1056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4858560" y="1515600"/>
                <a:ext cx="424080" cy="160560"/>
              </a:xfrm>
              <a:custGeom>
                <a:avLst/>
                <a:gdLst/>
                <a:ahLst/>
                <a:rect l="l" t="t" r="r" b="b"/>
                <a:pathLst>
                  <a:path w="4560" h="1056">
                    <a:moveTo>
                      <a:pt x="0" y="0"/>
                    </a:moveTo>
                    <a:cubicBezTo>
                      <a:pt x="72" y="184"/>
                      <a:pt x="144" y="368"/>
                      <a:pt x="480" y="528"/>
                    </a:cubicBezTo>
                    <a:cubicBezTo>
                      <a:pt x="816" y="688"/>
                      <a:pt x="1336" y="872"/>
                      <a:pt x="2016" y="960"/>
                    </a:cubicBezTo>
                    <a:cubicBezTo>
                      <a:pt x="2696" y="1048"/>
                      <a:pt x="4120" y="1040"/>
                      <a:pt x="4560" y="1056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814640" y="1388880"/>
                <a:ext cx="459000" cy="117720"/>
              </a:xfrm>
              <a:prstGeom prst="rightArrow">
                <a:avLst>
                  <a:gd name="adj1" fmla="val 73500"/>
                  <a:gd name="adj2" fmla="val 57981"/>
                </a:avLst>
              </a:prstGeom>
              <a:solidFill>
                <a:srgbClr val="6767c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4067280" y="1379160"/>
              <a:ext cx="545760" cy="298440"/>
            </a:xfrm>
            <a:prstGeom prst="rightArrow">
              <a:avLst>
                <a:gd name="adj1" fmla="val 50000"/>
                <a:gd name="adj2" fmla="val 45718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4068720" y="1998720"/>
            <a:ext cx="1335240" cy="796680"/>
            <a:chOff x="4068720" y="1998720"/>
            <a:chExt cx="1335240" cy="796680"/>
          </a:xfrm>
        </p:grpSpPr>
        <p:sp>
          <p:nvSpPr>
            <p:cNvPr id="1005" name=""/>
            <p:cNvSpPr/>
            <p:nvPr/>
          </p:nvSpPr>
          <p:spPr>
            <a:xfrm>
              <a:off x="4629240" y="1998720"/>
              <a:ext cx="774720" cy="796680"/>
            </a:xfrm>
            <a:prstGeom prst="foldedCorner">
              <a:avLst>
                <a:gd name="adj" fmla="val 12500"/>
              </a:avLst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4816440" y="2162160"/>
              <a:ext cx="468360" cy="473040"/>
              <a:chOff x="4816440" y="2162160"/>
              <a:chExt cx="468360" cy="473040"/>
            </a:xfrm>
          </p:grpSpPr>
          <p:grpSp>
            <p:nvGrpSpPr>
              <p:cNvPr id="1007" name=""/>
              <p:cNvGrpSpPr/>
              <p:nvPr/>
            </p:nvGrpSpPr>
            <p:grpSpPr>
              <a:xfrm>
                <a:off x="4832640" y="2242440"/>
                <a:ext cx="48960" cy="312480"/>
                <a:chOff x="4832640" y="2242440"/>
                <a:chExt cx="48960" cy="31248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4848840" y="2242440"/>
                  <a:ext cx="16200" cy="26640"/>
                </a:xfrm>
                <a:prstGeom prst="ellipse">
                  <a:avLst/>
                </a:prstGeom>
                <a:solidFill>
                  <a:srgbClr val="99cc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848840" y="231156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865400" y="238536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865400" y="2456640"/>
                  <a:ext cx="16200" cy="26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832640" y="2403000"/>
                  <a:ext cx="16200" cy="2664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848840" y="2528280"/>
                  <a:ext cx="16200" cy="2664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4898880" y="2313720"/>
                <a:ext cx="55080" cy="214200"/>
                <a:chOff x="4898880" y="2313720"/>
                <a:chExt cx="55080" cy="2142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4898880" y="2313720"/>
                  <a:ext cx="16560" cy="26640"/>
                </a:xfrm>
                <a:prstGeom prst="ellipse">
                  <a:avLst/>
                </a:prstGeom>
                <a:solidFill>
                  <a:srgbClr val="99ff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937400" y="2340360"/>
                  <a:ext cx="16560" cy="266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898880" y="2367000"/>
                  <a:ext cx="16560" cy="26640"/>
                </a:xfrm>
                <a:prstGeom prst="ellipse">
                  <a:avLst/>
                </a:prstGeom>
                <a:solidFill>
                  <a:srgbClr val="e0fa8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937400" y="2412000"/>
                  <a:ext cx="16560" cy="266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898880" y="2429640"/>
                  <a:ext cx="16560" cy="266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898880" y="250128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937400" y="2474280"/>
                  <a:ext cx="16560" cy="26640"/>
                </a:xfrm>
                <a:prstGeom prst="ellipse">
                  <a:avLst/>
                </a:prstGeom>
                <a:solidFill>
                  <a:srgbClr val="ffb16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2" name=""/>
              <p:cNvGrpSpPr/>
              <p:nvPr/>
            </p:nvGrpSpPr>
            <p:grpSpPr>
              <a:xfrm>
                <a:off x="4975200" y="2358360"/>
                <a:ext cx="78120" cy="115920"/>
                <a:chOff x="4975200" y="2358360"/>
                <a:chExt cx="78120" cy="11592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5011200" y="235836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975200" y="2385000"/>
                  <a:ext cx="16560" cy="26640"/>
                </a:xfrm>
                <a:prstGeom prst="ellipse">
                  <a:avLst/>
                </a:prstGeom>
                <a:solidFill>
                  <a:srgbClr val="33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5036760" y="242964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980240" y="244764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036760" y="2429640"/>
                  <a:ext cx="16560" cy="2664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5158080" y="2385360"/>
                <a:ext cx="98640" cy="59040"/>
                <a:chOff x="5158080" y="2385360"/>
                <a:chExt cx="98640" cy="5904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5158080" y="2385360"/>
                  <a:ext cx="16200" cy="2664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5240520" y="2385360"/>
                  <a:ext cx="16200" cy="2664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220000" y="2417760"/>
                  <a:ext cx="16200" cy="26640"/>
                </a:xfrm>
                <a:prstGeom prst="ellipse">
                  <a:avLst/>
                </a:prstGeom>
                <a:solidFill>
                  <a:srgbClr val="99ff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5190840" y="2385360"/>
                  <a:ext cx="16200" cy="266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5069880" y="2367360"/>
                <a:ext cx="71640" cy="71280"/>
                <a:chOff x="5069880" y="2367360"/>
                <a:chExt cx="71640" cy="7128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5097240" y="2385000"/>
                  <a:ext cx="16560" cy="26640"/>
                </a:xfrm>
                <a:prstGeom prst="ellipse">
                  <a:avLst/>
                </a:prstGeom>
                <a:solidFill>
                  <a:srgbClr val="cc66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5124960" y="241200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5069880" y="2367360"/>
                  <a:ext cx="16560" cy="2664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7" name=""/>
              <p:cNvSpPr/>
              <p:nvPr/>
            </p:nvSpPr>
            <p:spPr>
              <a:xfrm>
                <a:off x="4860360" y="2162160"/>
                <a:ext cx="424440" cy="178560"/>
              </a:xfrm>
              <a:custGeom>
                <a:avLst/>
                <a:gdLst/>
                <a:ahLst/>
                <a:rect l="l" t="t" r="r" b="b"/>
                <a:pathLst>
                  <a:path w="4560" h="1056">
                    <a:moveTo>
                      <a:pt x="0" y="0"/>
                    </a:moveTo>
                    <a:cubicBezTo>
                      <a:pt x="72" y="184"/>
                      <a:pt x="144" y="368"/>
                      <a:pt x="480" y="528"/>
                    </a:cubicBezTo>
                    <a:cubicBezTo>
                      <a:pt x="816" y="688"/>
                      <a:pt x="1336" y="872"/>
                      <a:pt x="2016" y="960"/>
                    </a:cubicBezTo>
                    <a:cubicBezTo>
                      <a:pt x="2696" y="1048"/>
                      <a:pt x="4120" y="1040"/>
                      <a:pt x="4560" y="1056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V="1">
                <a:off x="4860360" y="2474640"/>
                <a:ext cx="424440" cy="160560"/>
              </a:xfrm>
              <a:custGeom>
                <a:avLst/>
                <a:gdLst/>
                <a:ahLst/>
                <a:rect l="l" t="t" r="r" b="b"/>
                <a:pathLst>
                  <a:path w="4560" h="1056">
                    <a:moveTo>
                      <a:pt x="0" y="0"/>
                    </a:moveTo>
                    <a:cubicBezTo>
                      <a:pt x="72" y="184"/>
                      <a:pt x="144" y="368"/>
                      <a:pt x="480" y="528"/>
                    </a:cubicBezTo>
                    <a:cubicBezTo>
                      <a:pt x="816" y="688"/>
                      <a:pt x="1336" y="872"/>
                      <a:pt x="2016" y="960"/>
                    </a:cubicBezTo>
                    <a:cubicBezTo>
                      <a:pt x="2696" y="1048"/>
                      <a:pt x="4120" y="1040"/>
                      <a:pt x="4560" y="1056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816440" y="2347920"/>
                <a:ext cx="459360" cy="117720"/>
              </a:xfrm>
              <a:prstGeom prst="rightArrow">
                <a:avLst>
                  <a:gd name="adj1" fmla="val 73500"/>
                  <a:gd name="adj2" fmla="val 58026"/>
                </a:avLst>
              </a:prstGeom>
              <a:solidFill>
                <a:srgbClr val="6767c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"/>
            <p:cNvSpPr/>
            <p:nvPr/>
          </p:nvSpPr>
          <p:spPr>
            <a:xfrm>
              <a:off x="4068720" y="2338200"/>
              <a:ext cx="546120" cy="298440"/>
            </a:xfrm>
            <a:prstGeom prst="rightArrow">
              <a:avLst>
                <a:gd name="adj1" fmla="val 50000"/>
                <a:gd name="adj2" fmla="val 45748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067280" y="3025800"/>
            <a:ext cx="1334520" cy="796680"/>
            <a:chOff x="4067280" y="3025800"/>
            <a:chExt cx="1334520" cy="796680"/>
          </a:xfrm>
        </p:grpSpPr>
        <p:sp>
          <p:nvSpPr>
            <p:cNvPr id="1042" name=""/>
            <p:cNvSpPr/>
            <p:nvPr/>
          </p:nvSpPr>
          <p:spPr>
            <a:xfrm>
              <a:off x="4627440" y="3025800"/>
              <a:ext cx="774360" cy="796680"/>
            </a:xfrm>
            <a:prstGeom prst="foldedCorner">
              <a:avLst>
                <a:gd name="adj" fmla="val 12500"/>
              </a:avLst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4814640" y="3189240"/>
              <a:ext cx="468000" cy="473040"/>
              <a:chOff x="4814640" y="3189240"/>
              <a:chExt cx="468000" cy="473040"/>
            </a:xfrm>
          </p:grpSpPr>
          <p:grpSp>
            <p:nvGrpSpPr>
              <p:cNvPr id="1044" name=""/>
              <p:cNvGrpSpPr/>
              <p:nvPr/>
            </p:nvGrpSpPr>
            <p:grpSpPr>
              <a:xfrm>
                <a:off x="4830840" y="3269520"/>
                <a:ext cx="48960" cy="312480"/>
                <a:chOff x="4830840" y="3269520"/>
                <a:chExt cx="48960" cy="31248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4847040" y="3269520"/>
                  <a:ext cx="16200" cy="26640"/>
                </a:xfrm>
                <a:prstGeom prst="ellipse">
                  <a:avLst/>
                </a:prstGeom>
                <a:solidFill>
                  <a:srgbClr val="99cc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847040" y="333864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863600" y="341244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863600" y="3483720"/>
                  <a:ext cx="16200" cy="26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830840" y="3430080"/>
                  <a:ext cx="16200" cy="2664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847040" y="3555360"/>
                  <a:ext cx="16200" cy="2664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4897080" y="3340800"/>
                <a:ext cx="55080" cy="214200"/>
                <a:chOff x="4897080" y="3340800"/>
                <a:chExt cx="55080" cy="21420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4897080" y="3340800"/>
                  <a:ext cx="16560" cy="26640"/>
                </a:xfrm>
                <a:prstGeom prst="ellipse">
                  <a:avLst/>
                </a:prstGeom>
                <a:solidFill>
                  <a:srgbClr val="99ff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935600" y="3367440"/>
                  <a:ext cx="16560" cy="266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897080" y="3394080"/>
                  <a:ext cx="16560" cy="26640"/>
                </a:xfrm>
                <a:prstGeom prst="ellipse">
                  <a:avLst/>
                </a:prstGeom>
                <a:solidFill>
                  <a:srgbClr val="e0fa8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935600" y="3439080"/>
                  <a:ext cx="16560" cy="266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897080" y="3456720"/>
                  <a:ext cx="16560" cy="266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897080" y="352836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935600" y="3501360"/>
                  <a:ext cx="16560" cy="26640"/>
                </a:xfrm>
                <a:prstGeom prst="ellipse">
                  <a:avLst/>
                </a:prstGeom>
                <a:solidFill>
                  <a:srgbClr val="ffb16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4973040" y="3385440"/>
                <a:ext cx="78120" cy="115920"/>
                <a:chOff x="4973040" y="3385440"/>
                <a:chExt cx="78120" cy="11592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5009040" y="338544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973040" y="3412080"/>
                  <a:ext cx="16560" cy="26640"/>
                </a:xfrm>
                <a:prstGeom prst="ellipse">
                  <a:avLst/>
                </a:prstGeom>
                <a:solidFill>
                  <a:srgbClr val="33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5034600" y="345672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978080" y="3474720"/>
                  <a:ext cx="1656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5034600" y="3456720"/>
                  <a:ext cx="16560" cy="2664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155920" y="3412440"/>
                <a:ext cx="98640" cy="59040"/>
                <a:chOff x="5155920" y="3412440"/>
                <a:chExt cx="98640" cy="5904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155920" y="3412440"/>
                  <a:ext cx="16200" cy="2664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238360" y="3412440"/>
                  <a:ext cx="16200" cy="2664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217840" y="3444840"/>
                  <a:ext cx="16200" cy="26640"/>
                </a:xfrm>
                <a:prstGeom prst="ellipse">
                  <a:avLst/>
                </a:prstGeom>
                <a:solidFill>
                  <a:srgbClr val="99ff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188680" y="3412440"/>
                  <a:ext cx="16200" cy="266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5068080" y="3394440"/>
                <a:ext cx="71280" cy="71280"/>
                <a:chOff x="5068080" y="3394440"/>
                <a:chExt cx="71280" cy="7128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5095440" y="3412080"/>
                  <a:ext cx="16200" cy="26640"/>
                </a:xfrm>
                <a:prstGeom prst="ellipse">
                  <a:avLst/>
                </a:prstGeom>
                <a:solidFill>
                  <a:srgbClr val="cc66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123160" y="3439080"/>
                  <a:ext cx="16200" cy="2664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5068080" y="3394440"/>
                  <a:ext cx="16200" cy="2664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4" name=""/>
              <p:cNvSpPr/>
              <p:nvPr/>
            </p:nvSpPr>
            <p:spPr>
              <a:xfrm>
                <a:off x="4858560" y="3189240"/>
                <a:ext cx="424080" cy="178560"/>
              </a:xfrm>
              <a:custGeom>
                <a:avLst/>
                <a:gdLst/>
                <a:ahLst/>
                <a:rect l="l" t="t" r="r" b="b"/>
                <a:pathLst>
                  <a:path w="4560" h="1056">
                    <a:moveTo>
                      <a:pt x="0" y="0"/>
                    </a:moveTo>
                    <a:cubicBezTo>
                      <a:pt x="72" y="184"/>
                      <a:pt x="144" y="368"/>
                      <a:pt x="480" y="528"/>
                    </a:cubicBezTo>
                    <a:cubicBezTo>
                      <a:pt x="816" y="688"/>
                      <a:pt x="1336" y="872"/>
                      <a:pt x="2016" y="960"/>
                    </a:cubicBezTo>
                    <a:cubicBezTo>
                      <a:pt x="2696" y="1048"/>
                      <a:pt x="4120" y="1040"/>
                      <a:pt x="4560" y="1056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4858560" y="3501720"/>
                <a:ext cx="424080" cy="160560"/>
              </a:xfrm>
              <a:custGeom>
                <a:avLst/>
                <a:gdLst/>
                <a:ahLst/>
                <a:rect l="l" t="t" r="r" b="b"/>
                <a:pathLst>
                  <a:path w="4560" h="1056">
                    <a:moveTo>
                      <a:pt x="0" y="0"/>
                    </a:moveTo>
                    <a:cubicBezTo>
                      <a:pt x="72" y="184"/>
                      <a:pt x="144" y="368"/>
                      <a:pt x="480" y="528"/>
                    </a:cubicBezTo>
                    <a:cubicBezTo>
                      <a:pt x="816" y="688"/>
                      <a:pt x="1336" y="872"/>
                      <a:pt x="2016" y="960"/>
                    </a:cubicBezTo>
                    <a:cubicBezTo>
                      <a:pt x="2696" y="1048"/>
                      <a:pt x="4120" y="1040"/>
                      <a:pt x="4560" y="1056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814640" y="3375000"/>
                <a:ext cx="459000" cy="117720"/>
              </a:xfrm>
              <a:prstGeom prst="rightArrow">
                <a:avLst>
                  <a:gd name="adj1" fmla="val 73500"/>
                  <a:gd name="adj2" fmla="val 57981"/>
                </a:avLst>
              </a:prstGeom>
              <a:solidFill>
                <a:srgbClr val="6767c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4067280" y="3365280"/>
              <a:ext cx="545760" cy="298440"/>
            </a:xfrm>
            <a:prstGeom prst="rightArrow">
              <a:avLst>
                <a:gd name="adj1" fmla="val 50000"/>
                <a:gd name="adj2" fmla="val 45718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2747880" y="4952880"/>
            <a:ext cx="1569960" cy="1017720"/>
          </a:xfrm>
          <a:prstGeom prst="rect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jamento Estratégico do Negó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243320" y="4952880"/>
            <a:ext cx="1319400" cy="10130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jamento Estratégico de Produ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562720" y="4952880"/>
            <a:ext cx="990360" cy="1014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lanej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ento do 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3936240" y="3200760"/>
            <a:ext cx="2807640" cy="2010240"/>
            <a:chOff x="3936240" y="3200760"/>
            <a:chExt cx="2807640" cy="2010240"/>
          </a:xfrm>
        </p:grpSpPr>
        <p:grpSp>
          <p:nvGrpSpPr>
            <p:cNvPr id="1082" name=""/>
            <p:cNvGrpSpPr/>
            <p:nvPr/>
          </p:nvGrpSpPr>
          <p:grpSpPr>
            <a:xfrm>
              <a:off x="3936240" y="3622320"/>
              <a:ext cx="1917360" cy="1588680"/>
              <a:chOff x="3936240" y="3622320"/>
              <a:chExt cx="1917360" cy="1588680"/>
            </a:xfrm>
          </p:grpSpPr>
          <p:grpSp>
            <p:nvGrpSpPr>
              <p:cNvPr id="1083" name=""/>
              <p:cNvGrpSpPr/>
              <p:nvPr/>
            </p:nvGrpSpPr>
            <p:grpSpPr>
              <a:xfrm>
                <a:off x="3979440" y="3622320"/>
                <a:ext cx="1863360" cy="1562040"/>
                <a:chOff x="3979440" y="3622320"/>
                <a:chExt cx="1863360" cy="1562040"/>
              </a:xfrm>
            </p:grpSpPr>
            <p:grpSp>
              <p:nvGrpSpPr>
                <p:cNvPr id="1084" name=""/>
                <p:cNvGrpSpPr/>
                <p:nvPr/>
              </p:nvGrpSpPr>
              <p:grpSpPr>
                <a:xfrm>
                  <a:off x="3979440" y="3622320"/>
                  <a:ext cx="1863360" cy="1562040"/>
                  <a:chOff x="3979440" y="3622320"/>
                  <a:chExt cx="1863360" cy="156204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 rot="15622800">
                    <a:off x="4013640" y="4060800"/>
                    <a:ext cx="109836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 rot="15622800">
                    <a:off x="4532040" y="3709440"/>
                    <a:ext cx="121140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7" name=""/>
                <p:cNvGrpSpPr/>
                <p:nvPr/>
              </p:nvGrpSpPr>
              <p:grpSpPr>
                <a:xfrm>
                  <a:off x="4013280" y="3698280"/>
                  <a:ext cx="1756080" cy="1418400"/>
                  <a:chOff x="4013280" y="3698280"/>
                  <a:chExt cx="1756080" cy="141840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 rot="15622800">
                    <a:off x="5386680" y="4507920"/>
                    <a:ext cx="3139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 rot="15622800">
                    <a:off x="4769640" y="3422520"/>
                    <a:ext cx="112680" cy="79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 rot="15622800">
                    <a:off x="3945240" y="4239360"/>
                    <a:ext cx="44676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 rot="15622800">
                    <a:off x="4711680" y="4717440"/>
                    <a:ext cx="142560" cy="56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92" name=""/>
              <p:cNvSpPr/>
              <p:nvPr/>
            </p:nvSpPr>
            <p:spPr>
              <a:xfrm rot="15622800">
                <a:off x="4322880" y="3575520"/>
                <a:ext cx="1263960" cy="1608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3" name=""/>
              <p:cNvGrpSpPr/>
              <p:nvPr/>
            </p:nvGrpSpPr>
            <p:grpSpPr>
              <a:xfrm>
                <a:off x="3936240" y="3696480"/>
                <a:ext cx="1797120" cy="1514520"/>
                <a:chOff x="3936240" y="3696480"/>
                <a:chExt cx="1797120" cy="1514520"/>
              </a:xfrm>
            </p:grpSpPr>
            <p:sp>
              <p:nvSpPr>
                <p:cNvPr id="1094" name=""/>
                <p:cNvSpPr/>
                <p:nvPr/>
              </p:nvSpPr>
              <p:spPr>
                <a:xfrm rot="15622800">
                  <a:off x="4219560" y="3669120"/>
                  <a:ext cx="1234080" cy="156924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rot="15622800">
                  <a:off x="4203000" y="3649320"/>
                  <a:ext cx="1263600" cy="16084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rot="15622800">
                  <a:off x="4238640" y="3692160"/>
                  <a:ext cx="1193400" cy="15228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7" name=""/>
            <p:cNvGrpSpPr/>
            <p:nvPr/>
          </p:nvGrpSpPr>
          <p:grpSpPr>
            <a:xfrm>
              <a:off x="5454360" y="3200760"/>
              <a:ext cx="1289520" cy="863280"/>
              <a:chOff x="5454360" y="3200760"/>
              <a:chExt cx="1289520" cy="863280"/>
            </a:xfrm>
          </p:grpSpPr>
          <p:sp>
            <p:nvSpPr>
              <p:cNvPr id="1098" name=""/>
              <p:cNvSpPr/>
              <p:nvPr/>
            </p:nvSpPr>
            <p:spPr>
              <a:xfrm rot="15622800">
                <a:off x="5776920" y="3057120"/>
                <a:ext cx="617760" cy="117612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15622800">
                <a:off x="5497200" y="3830040"/>
                <a:ext cx="19008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15622800">
                <a:off x="5522040" y="3808440"/>
                <a:ext cx="192600" cy="26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15622800">
                <a:off x="5588280" y="3828240"/>
                <a:ext cx="117000" cy="30096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15622800">
                <a:off x="5496120" y="3831480"/>
                <a:ext cx="189720" cy="23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15622800">
                <a:off x="5647320" y="3735360"/>
                <a:ext cx="19080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"/>
              <p:cNvGrpSpPr/>
              <p:nvPr/>
            </p:nvGrpSpPr>
            <p:grpSpPr>
              <a:xfrm>
                <a:off x="5631120" y="3715200"/>
                <a:ext cx="289800" cy="242640"/>
                <a:chOff x="5631120" y="3715200"/>
                <a:chExt cx="289800" cy="242640"/>
              </a:xfrm>
            </p:grpSpPr>
            <p:grpSp>
              <p:nvGrpSpPr>
                <p:cNvPr id="1105" name=""/>
                <p:cNvGrpSpPr/>
                <p:nvPr/>
              </p:nvGrpSpPr>
              <p:grpSpPr>
                <a:xfrm>
                  <a:off x="5631120" y="3728880"/>
                  <a:ext cx="266400" cy="228960"/>
                  <a:chOff x="5631120" y="3728880"/>
                  <a:chExt cx="266400" cy="228960"/>
                </a:xfrm>
              </p:grpSpPr>
              <p:sp>
                <p:nvSpPr>
                  <p:cNvPr id="1106" name=""/>
                  <p:cNvSpPr/>
                  <p:nvPr/>
                </p:nvSpPr>
                <p:spPr>
                  <a:xfrm rot="15622800">
                    <a:off x="5668920" y="372528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rot="15622800">
                    <a:off x="5668200" y="3724560"/>
                    <a:ext cx="191880" cy="237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 rot="15622800">
                    <a:off x="5668920" y="372420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9" name=""/>
                <p:cNvSpPr/>
                <p:nvPr/>
              </p:nvSpPr>
              <p:spPr>
                <a:xfrm rot="15622800">
                  <a:off x="5692680" y="371052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5677200" y="3688920"/>
                <a:ext cx="290160" cy="242640"/>
                <a:chOff x="5677200" y="3688920"/>
                <a:chExt cx="290160" cy="242640"/>
              </a:xfrm>
            </p:grpSpPr>
            <p:grpSp>
              <p:nvGrpSpPr>
                <p:cNvPr id="1111" name=""/>
                <p:cNvGrpSpPr/>
                <p:nvPr/>
              </p:nvGrpSpPr>
              <p:grpSpPr>
                <a:xfrm>
                  <a:off x="5677200" y="3702600"/>
                  <a:ext cx="266040" cy="228960"/>
                  <a:chOff x="5677200" y="3702600"/>
                  <a:chExt cx="266040" cy="2289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 rot="15622800">
                    <a:off x="5714280" y="3698640"/>
                    <a:ext cx="19116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 rot="15622800">
                    <a:off x="5713920" y="369828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 rot="15622800">
                    <a:off x="5714640" y="3698280"/>
                    <a:ext cx="1900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5" name=""/>
                <p:cNvSpPr/>
                <p:nvPr/>
              </p:nvSpPr>
              <p:spPr>
                <a:xfrm rot="15622800">
                  <a:off x="5739120" y="3683880"/>
                  <a:ext cx="19044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5719680" y="3674520"/>
                <a:ext cx="266760" cy="229680"/>
                <a:chOff x="5719680" y="3674520"/>
                <a:chExt cx="266760" cy="229680"/>
              </a:xfrm>
            </p:grpSpPr>
            <p:sp>
              <p:nvSpPr>
                <p:cNvPr id="1117" name=""/>
                <p:cNvSpPr/>
                <p:nvPr/>
              </p:nvSpPr>
              <p:spPr>
                <a:xfrm rot="15622800">
                  <a:off x="5757480" y="3671280"/>
                  <a:ext cx="191160" cy="23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5622800">
                  <a:off x="5756400" y="3670200"/>
                  <a:ext cx="192600" cy="23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719680" y="3660840"/>
                <a:ext cx="290160" cy="242280"/>
                <a:chOff x="5719680" y="3660840"/>
                <a:chExt cx="290160" cy="242280"/>
              </a:xfrm>
            </p:grpSpPr>
            <p:sp>
              <p:nvSpPr>
                <p:cNvPr id="1120" name=""/>
                <p:cNvSpPr/>
                <p:nvPr/>
              </p:nvSpPr>
              <p:spPr>
                <a:xfrm rot="15622800">
                  <a:off x="5756760" y="3670200"/>
                  <a:ext cx="19152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5622800">
                  <a:off x="5780880" y="365616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5531760" y="3261600"/>
                <a:ext cx="1119960" cy="770760"/>
                <a:chOff x="5531760" y="3261600"/>
                <a:chExt cx="1119960" cy="770760"/>
              </a:xfrm>
            </p:grpSpPr>
            <p:sp>
              <p:nvSpPr>
                <p:cNvPr id="1123" name=""/>
                <p:cNvSpPr/>
                <p:nvPr/>
              </p:nvSpPr>
              <p:spPr>
                <a:xfrm flipV="1">
                  <a:off x="5531760" y="3261600"/>
                  <a:ext cx="961200" cy="60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flipV="1">
                  <a:off x="5644800" y="3414960"/>
                  <a:ext cx="1006920" cy="617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5762160" y="3636000"/>
                <a:ext cx="285480" cy="240840"/>
                <a:chOff x="5762160" y="3636000"/>
                <a:chExt cx="285480" cy="240840"/>
              </a:xfrm>
            </p:grpSpPr>
            <p:grpSp>
              <p:nvGrpSpPr>
                <p:cNvPr id="1126" name=""/>
                <p:cNvGrpSpPr/>
                <p:nvPr/>
              </p:nvGrpSpPr>
              <p:grpSpPr>
                <a:xfrm>
                  <a:off x="5762160" y="3647880"/>
                  <a:ext cx="266040" cy="228960"/>
                  <a:chOff x="5762160" y="3647880"/>
                  <a:chExt cx="266040" cy="2289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 rot="15622800">
                    <a:off x="5799960" y="3644280"/>
                    <a:ext cx="19080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 rot="15622800">
                    <a:off x="5798880" y="364356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9" name=""/>
                <p:cNvSpPr/>
                <p:nvPr/>
              </p:nvSpPr>
              <p:spPr>
                <a:xfrm rot="15622800">
                  <a:off x="5799240" y="364320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5622800">
                  <a:off x="5819400" y="363132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1" name=""/>
              <p:cNvSpPr/>
              <p:nvPr/>
            </p:nvSpPr>
            <p:spPr>
              <a:xfrm rot="15622800">
                <a:off x="6026760" y="3171960"/>
                <a:ext cx="380880" cy="86904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15622800">
                <a:off x="6490800" y="3192480"/>
                <a:ext cx="208080" cy="26640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3" name=""/>
          <p:cNvSpPr/>
          <p:nvPr/>
        </p:nvSpPr>
        <p:spPr>
          <a:xfrm>
            <a:off x="885960" y="6424560"/>
            <a:ext cx="876240" cy="433440"/>
          </a:xfrm>
          <a:prstGeom prst="rightArrow">
            <a:avLst>
              <a:gd name="adj1" fmla="val 50000"/>
              <a:gd name="adj2" fmla="val 5054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rot="8530800">
            <a:off x="6222600" y="5663880"/>
            <a:ext cx="876240" cy="433440"/>
          </a:xfrm>
          <a:prstGeom prst="rightArrow">
            <a:avLst>
              <a:gd name="adj1" fmla="val 50000"/>
              <a:gd name="adj2" fmla="val 5054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calização das fases do pré-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efinir escopo da revisão d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atividades para a revisão d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r informações sobre tecnologia 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o Plano Estratégic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o portfólio de produtos d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 mudanças no portfóli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r a viabilidade do portfóli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idir o início do planejamento de um dos produtos do portfó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2382840" y="1052640"/>
            <a:ext cx="6608880" cy="5729040"/>
          </a:xfrm>
          <a:custGeom>
            <a:avLst/>
            <a:gdLst/>
            <a:ahLst/>
            <a:rect l="l" t="t" r="r" b="b"/>
            <a:pathLst>
              <a:path w="4163" h="3609">
                <a:moveTo>
                  <a:pt x="7" y="1565"/>
                </a:moveTo>
                <a:lnTo>
                  <a:pt x="1080" y="0"/>
                </a:lnTo>
                <a:lnTo>
                  <a:pt x="4163" y="0"/>
                </a:lnTo>
                <a:lnTo>
                  <a:pt x="4163" y="3609"/>
                </a:lnTo>
                <a:lnTo>
                  <a:pt x="1222" y="3609"/>
                </a:lnTo>
                <a:lnTo>
                  <a:pt x="0" y="2103"/>
                </a:lnTo>
                <a:lnTo>
                  <a:pt x="7" y="156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357800" y="5689440"/>
            <a:ext cx="1731960" cy="96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dir início do planejamento de um produto do portfó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183280" y="1222200"/>
            <a:ext cx="2514600" cy="89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r escopo da revisão do Plano Estratégico de Negócios (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7236000" y="2441520"/>
            <a:ext cx="15890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jar atividades para a revisão do 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116240" y="2441520"/>
            <a:ext cx="158760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visar o Plano Estratégic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Negócios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116240" y="4498920"/>
            <a:ext cx="1592280" cy="89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alisar o Portfólio de Produto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 em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7164360" y="5661000"/>
            <a:ext cx="168444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r a viabilidade do Portfólio de Prod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4" name=""/>
          <p:cNvCxnSpPr>
            <a:stCxn id="1141" idx="3"/>
            <a:endCxn id="1140" idx="1"/>
          </p:cNvCxnSpPr>
          <p:nvPr/>
        </p:nvCxnSpPr>
        <p:spPr>
          <a:xfrm>
            <a:off x="5703840" y="2850840"/>
            <a:ext cx="153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45" name=""/>
          <p:cNvCxnSpPr>
            <a:stCxn id="1141" idx="1"/>
            <a:endCxn id="1142" idx="1"/>
          </p:cNvCxnSpPr>
          <p:nvPr/>
        </p:nvCxnSpPr>
        <p:spPr>
          <a:xfrm flipH="1" flipV="1" rot="10800000">
            <a:off x="4115160" y="2849760"/>
            <a:ext cx="2520" cy="20973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6" name=""/>
          <p:cNvCxnSpPr>
            <a:stCxn id="1142" idx="3"/>
            <a:endCxn id="1147" idx="1"/>
          </p:cNvCxnSpPr>
          <p:nvPr/>
        </p:nvCxnSpPr>
        <p:spPr>
          <a:xfrm flipV="1">
            <a:off x="5708160" y="4946400"/>
            <a:ext cx="175320" cy="2160"/>
          </a:xfrm>
          <a:prstGeom prst="bentConnector3">
            <a:avLst>
              <a:gd name="adj1" fmla="val 48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8" name=""/>
          <p:cNvCxnSpPr>
            <a:stCxn id="1143" idx="1"/>
            <a:endCxn id="1138" idx="3"/>
          </p:cNvCxnSpPr>
          <p:nvPr/>
        </p:nvCxnSpPr>
        <p:spPr>
          <a:xfrm flipH="1">
            <a:off x="6089040" y="6168600"/>
            <a:ext cx="1075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9" name=""/>
          <p:cNvCxnSpPr>
            <a:stCxn id="1150" idx="1"/>
            <a:endCxn id="1141" idx="2"/>
          </p:cNvCxnSpPr>
          <p:nvPr/>
        </p:nvCxnSpPr>
        <p:spPr>
          <a:xfrm rot="10800000">
            <a:off x="4909320" y="3258360"/>
            <a:ext cx="2331360" cy="338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1" name=""/>
          <p:cNvCxnSpPr>
            <a:stCxn id="1152" idx="1"/>
            <a:endCxn id="1142" idx="0"/>
          </p:cNvCxnSpPr>
          <p:nvPr/>
        </p:nvCxnSpPr>
        <p:spPr>
          <a:xfrm flipV="1" rot="10800000">
            <a:off x="4912560" y="4132080"/>
            <a:ext cx="2328120" cy="36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3" name=""/>
          <p:cNvSpPr/>
          <p:nvPr/>
        </p:nvSpPr>
        <p:spPr>
          <a:xfrm>
            <a:off x="7645320" y="3986280"/>
            <a:ext cx="14472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8367840" y="3986280"/>
            <a:ext cx="144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5" name=""/>
          <p:cNvCxnSpPr>
            <a:stCxn id="1140" idx="2"/>
            <a:endCxn id="1156" idx="0"/>
          </p:cNvCxnSpPr>
          <p:nvPr/>
        </p:nvCxnSpPr>
        <p:spPr>
          <a:xfrm flipH="1">
            <a:off x="8028720" y="3259080"/>
            <a:ext cx="252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7" name=""/>
          <p:cNvSpPr/>
          <p:nvPr/>
        </p:nvSpPr>
        <p:spPr>
          <a:xfrm>
            <a:off x="179280" y="3429000"/>
            <a:ext cx="2362320" cy="1066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mento Estratégic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0" y="1052640"/>
            <a:ext cx="4114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jamento Estratégico de Negócios (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jamento da Corpo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jamento Estratégico da Unidade de Negó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752400" y="2902680"/>
            <a:ext cx="1371600" cy="38124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679320" y="4653000"/>
            <a:ext cx="1371600" cy="38088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0" y="4869000"/>
            <a:ext cx="3505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ofólio de Produtos (Aprov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ta de Projeto (Aprov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2" name=""/>
          <p:cNvCxnSpPr>
            <a:stCxn id="1139" idx="3"/>
            <a:endCxn id="1140" idx="0"/>
          </p:cNvCxnSpPr>
          <p:nvPr/>
        </p:nvCxnSpPr>
        <p:spPr>
          <a:xfrm>
            <a:off x="7697880" y="1669680"/>
            <a:ext cx="334080" cy="772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63" name=""/>
          <p:cNvGrpSpPr/>
          <p:nvPr/>
        </p:nvGrpSpPr>
        <p:grpSpPr>
          <a:xfrm>
            <a:off x="5883120" y="4498920"/>
            <a:ext cx="1590840" cy="895320"/>
            <a:chOff x="5883120" y="4498920"/>
            <a:chExt cx="1590840" cy="895320"/>
          </a:xfrm>
        </p:grpSpPr>
        <p:sp>
          <p:nvSpPr>
            <p:cNvPr id="1147" name=""/>
            <p:cNvSpPr/>
            <p:nvPr/>
          </p:nvSpPr>
          <p:spPr>
            <a:xfrm>
              <a:off x="5883120" y="4498920"/>
              <a:ext cx="1590840" cy="89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por mudanças no portfólio de produ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607080" y="4498920"/>
              <a:ext cx="144360" cy="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607080" y="4498920"/>
              <a:ext cx="144360" cy="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392960" y="4506840"/>
              <a:ext cx="75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392960" y="4876560"/>
              <a:ext cx="75960" cy="1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392960" y="5245920"/>
              <a:ext cx="75960" cy="1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7234200" y="3432240"/>
            <a:ext cx="1592280" cy="838080"/>
            <a:chOff x="7234200" y="3432240"/>
            <a:chExt cx="1592280" cy="838080"/>
          </a:xfrm>
        </p:grpSpPr>
        <p:grpSp>
          <p:nvGrpSpPr>
            <p:cNvPr id="1170" name=""/>
            <p:cNvGrpSpPr/>
            <p:nvPr/>
          </p:nvGrpSpPr>
          <p:grpSpPr>
            <a:xfrm>
              <a:off x="7234200" y="3432240"/>
              <a:ext cx="1592280" cy="837720"/>
              <a:chOff x="7234200" y="3432240"/>
              <a:chExt cx="1592280" cy="837720"/>
            </a:xfrm>
          </p:grpSpPr>
          <p:sp>
            <p:nvSpPr>
              <p:cNvPr id="1156" name=""/>
              <p:cNvSpPr/>
              <p:nvPr/>
            </p:nvSpPr>
            <p:spPr>
              <a:xfrm>
                <a:off x="7234200" y="3437640"/>
                <a:ext cx="1591200" cy="83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onsolidar Informaç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ões sobre tecnologia e 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241040" y="3457080"/>
                <a:ext cx="144360" cy="27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241040" y="3992760"/>
                <a:ext cx="144360" cy="27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672040" y="3432240"/>
                <a:ext cx="144360" cy="27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682120" y="3992760"/>
                <a:ext cx="144360" cy="27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7773840" y="4194000"/>
              <a:ext cx="571680" cy="76320"/>
              <a:chOff x="7773840" y="4194000"/>
              <a:chExt cx="571680" cy="76320"/>
            </a:xfrm>
          </p:grpSpPr>
          <p:sp>
            <p:nvSpPr>
              <p:cNvPr id="1174" name=""/>
              <p:cNvSpPr/>
              <p:nvPr/>
            </p:nvSpPr>
            <p:spPr>
              <a:xfrm rot="5400000">
                <a:off x="8231040" y="4155840"/>
                <a:ext cx="76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5400000">
                <a:off x="7811640" y="4155840"/>
                <a:ext cx="763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176" name=""/>
          <p:cNvCxnSpPr>
            <a:stCxn id="1175" idx="3"/>
            <a:endCxn id="1166" idx="3"/>
          </p:cNvCxnSpPr>
          <p:nvPr/>
        </p:nvCxnSpPr>
        <p:spPr>
          <a:xfrm rot="5400000">
            <a:off x="7506720" y="4232160"/>
            <a:ext cx="3056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7" name=""/>
          <p:cNvCxnSpPr>
            <a:stCxn id="1167" idx="3"/>
            <a:endCxn id="1174" idx="3"/>
          </p:cNvCxnSpPr>
          <p:nvPr/>
        </p:nvCxnSpPr>
        <p:spPr>
          <a:xfrm flipV="1">
            <a:off x="7469280" y="4269960"/>
            <a:ext cx="800640" cy="675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8" name=""/>
          <p:cNvCxnSpPr>
            <a:stCxn id="1168" idx="3"/>
            <a:endCxn id="1143" idx="0"/>
          </p:cNvCxnSpPr>
          <p:nvPr/>
        </p:nvCxnSpPr>
        <p:spPr>
          <a:xfrm>
            <a:off x="7468920" y="5313240"/>
            <a:ext cx="538920" cy="34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9" name=""/>
          <p:cNvSpPr/>
          <p:nvPr/>
        </p:nvSpPr>
        <p:spPr>
          <a:xfrm>
            <a:off x="7240680" y="3432240"/>
            <a:ext cx="1581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2407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Informações e dependências da fase de Planejamento Estratégico de Produt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183280" y="1222200"/>
            <a:ext cx="2514600" cy="89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r escopo da revisão do Plano Estratégico de Negócios (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76320" y="1670400"/>
            <a:ext cx="1814400" cy="91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jamento Estratégico de 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rot="10800000">
            <a:off x="2174400" y="3429000"/>
            <a:ext cx="830520" cy="1843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rot="10800000">
            <a:off x="2174400" y="1981080"/>
            <a:ext cx="830520" cy="1843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52280" y="152280"/>
            <a:ext cx="4876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lnSpc>
                <a:spcPct val="6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Estratégico de Negócios (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Estratéfico da Corpo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Estratégico da Unidade de Negó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236760" y="914400"/>
            <a:ext cx="5518440" cy="3641760"/>
          </a:xfrm>
          <a:custGeom>
            <a:avLst/>
            <a:gdLst/>
            <a:ahLst/>
            <a:rect l="l" t="t" r="r" b="b"/>
            <a:pathLst>
              <a:path w="2785" h="2424">
                <a:moveTo>
                  <a:pt x="0" y="1010"/>
                </a:moveTo>
                <a:lnTo>
                  <a:pt x="718" y="0"/>
                </a:lnTo>
                <a:lnTo>
                  <a:pt x="2783" y="0"/>
                </a:lnTo>
                <a:lnTo>
                  <a:pt x="2785" y="2416"/>
                </a:lnTo>
                <a:lnTo>
                  <a:pt x="740" y="2424"/>
                </a:lnTo>
                <a:lnTo>
                  <a:pt x="10" y="1339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1687680" y="2336760"/>
            <a:ext cx="1806480" cy="82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o escopo de revisão do 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3962520"/>
            <a:ext cx="398484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claração de Escopo de Mudança no 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metodologia de planejamento, recursos, prazos e assun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689360" y="4692600"/>
            <a:ext cx="4222440" cy="2150640"/>
            <a:chOff x="4689360" y="4692600"/>
            <a:chExt cx="4222440" cy="2150640"/>
          </a:xfrm>
        </p:grpSpPr>
        <p:sp>
          <p:nvSpPr>
            <p:cNvPr id="1190" name=""/>
            <p:cNvSpPr/>
            <p:nvPr/>
          </p:nvSpPr>
          <p:spPr>
            <a:xfrm>
              <a:off x="4689360" y="5150880"/>
              <a:ext cx="4222440" cy="169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92960" y="5586480"/>
              <a:ext cx="4215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écnicas de Gerenciamento de Proje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885560" y="4692600"/>
              <a:ext cx="3723120" cy="54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étodos, ferramentas, documentos 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396720" y="5867280"/>
            <a:ext cx="42246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85800" y="5715000"/>
            <a:ext cx="3724200" cy="274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ção com outras 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6324480"/>
            <a:ext cx="3603600" cy="21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atividades de revisão do 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990720" y="1012680"/>
            <a:ext cx="3200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a de Membros do Time de Planejamento Estratégico de 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105520" y="6019920"/>
            <a:ext cx="3498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hecimentos básicos de preparação de reuni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495680" y="1219320"/>
            <a:ext cx="4038840" cy="326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o Plano Estratégico de Negóc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ar assuntos a serem discu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as competências presentes no Time de Planejamento Estratégico de Produ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metodologia para avaliação do 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 prazo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ilar a declaração de escopo de revisão do 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997520" y="0"/>
            <a:ext cx="4146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Resumo: Definir escopo da revisão do PEN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3:18:54Z</dcterms:created>
  <dc:creator>Forcellini</dc:creator>
  <dc:description/>
  <dc:language>en-US</dc:language>
  <cp:lastModifiedBy>damaral</cp:lastModifiedBy>
  <dcterms:modified xsi:type="dcterms:W3CDTF">2005-12-20T03:30:35Z</dcterms:modified>
  <cp:revision>90</cp:revision>
  <dc:subject/>
  <dc:title>Slide 1</dc:title>
</cp:coreProperties>
</file>